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7F1-3718-4737-8F15-9872680C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AC1-5866-4C0E-816D-8A1033E8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170-009F-4D78-A267-451270CC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CEA-E8F2-4F48-BABB-79A29843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477-9BC2-436D-84FC-D0524461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8A3-464C-4F7D-8B0E-A0E1A156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A61-927B-4FED-9C43-638378B8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55E-175D-4BAA-91D2-95C01A5F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18E-0CDA-49D0-82F9-0C0C6A58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DA8-1DE1-4607-8D83-549307BB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35F-4436-43A2-857C-857E66B9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76B-0968-4EE0-87F9-10460E34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85CC-4BCA-4D5A-9941-68E76F961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9920" y="358128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 Characte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2362320" y="2286000"/>
            <a:ext cx="4789440" cy="2162160"/>
            <a:chOff x="2362320" y="2286000"/>
            <a:chExt cx="4789440" cy="2162160"/>
          </a:xfrm>
        </p:grpSpPr>
        <p:sp>
          <p:nvSpPr>
            <p:cNvPr id="398" name=""/>
            <p:cNvSpPr/>
            <p:nvPr/>
          </p:nvSpPr>
          <p:spPr>
            <a:xfrm>
              <a:off x="2579760" y="2825640"/>
              <a:ext cx="29718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64080" y="2685960"/>
              <a:ext cx="9903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08360" y="2749680"/>
              <a:ext cx="380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31719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89320" y="2691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3417840" y="29019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4941720" y="2923920"/>
              <a:ext cx="1981080" cy="1067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0560" y="3130560"/>
              <a:ext cx="1522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65760" y="2673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794120" y="29019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54800" y="3457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4795920" y="3208320"/>
            <a:ext cx="603000" cy="34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95920" y="3208320"/>
                      <a:ext cx="60300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4673520" y="2327400"/>
            <a:ext cx="585720" cy="34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73520" y="2327400"/>
                      <a:ext cx="58572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3135240" y="2286000"/>
            <a:ext cx="533520" cy="34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35240" y="2286000"/>
                      <a:ext cx="53352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2876400" y="3206880"/>
            <a:ext cx="550800" cy="344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76400" y="3206880"/>
                      <a:ext cx="55080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"/>
            <p:cNvGraphicFramePr/>
            <p:nvPr/>
          </p:nvGraphicFramePr>
          <p:xfrm>
            <a:off x="3951360" y="3206880"/>
            <a:ext cx="387360" cy="407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51360" y="3206880"/>
                      <a:ext cx="38736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"/>
            <p:cNvGraphicFramePr/>
            <p:nvPr/>
          </p:nvGraphicFramePr>
          <p:xfrm>
            <a:off x="5703840" y="3206880"/>
            <a:ext cx="450720" cy="372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703840" y="3206880"/>
                      <a:ext cx="45072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1" name=""/>
            <p:cNvGraphicFramePr/>
            <p:nvPr/>
          </p:nvGraphicFramePr>
          <p:xfrm>
            <a:off x="6237360" y="2825640"/>
            <a:ext cx="914400" cy="362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237360" y="2825640"/>
                      <a:ext cx="914400" cy="3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3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45240" y="22860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79440" y="110808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o FFT of the measured voltage and current and relate to the voltage  and current at the transducer by compensating for the ca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514600" y="4572000"/>
          <a:ext cx="3733920" cy="88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4600" y="4572000"/>
                    <a:ext cx="37339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813960" y="590868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en the impedance of the transducer is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162920" y="5791320"/>
          <a:ext cx="1066680" cy="725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62920" y="5791320"/>
                    <a:ext cx="10666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5240" y="22860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79440" y="1031760"/>
            <a:ext cx="70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measure voltage and current generated by the waves reflected from the surface of the blo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84520" y="4932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4494240" y="5149800"/>
            <a:ext cx="3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24480" y="5149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4967280" y="4997520"/>
          <a:ext cx="282600" cy="2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7280" y="4997520"/>
                    <a:ext cx="2826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1" name=""/>
          <p:cNvGrpSpPr/>
          <p:nvPr/>
        </p:nvGrpSpPr>
        <p:grpSpPr>
          <a:xfrm>
            <a:off x="3694680" y="3244320"/>
            <a:ext cx="2196000" cy="345600"/>
            <a:chOff x="3694680" y="3244320"/>
            <a:chExt cx="2196000" cy="345600"/>
          </a:xfrm>
        </p:grpSpPr>
        <p:grpSp>
          <p:nvGrpSpPr>
            <p:cNvPr id="442" name=""/>
            <p:cNvGrpSpPr/>
            <p:nvPr/>
          </p:nvGrpSpPr>
          <p:grpSpPr>
            <a:xfrm>
              <a:off x="3694680" y="3244320"/>
              <a:ext cx="865080" cy="314280"/>
              <a:chOff x="3694680" y="3244320"/>
              <a:chExt cx="865080" cy="3142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3694680" y="3243960"/>
                <a:ext cx="43596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4122720" y="32540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4594320" y="3266640"/>
              <a:ext cx="865080" cy="314280"/>
              <a:chOff x="4594320" y="3266640"/>
              <a:chExt cx="865080" cy="314280"/>
            </a:xfrm>
          </p:grpSpPr>
          <p:sp>
            <p:nvSpPr>
              <p:cNvPr id="446" name=""/>
              <p:cNvSpPr/>
              <p:nvPr/>
            </p:nvSpPr>
            <p:spPr>
              <a:xfrm flipV="1">
                <a:off x="4594320" y="3266280"/>
                <a:ext cx="43596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5022360" y="327636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4151520" y="3257640"/>
              <a:ext cx="865080" cy="313200"/>
              <a:chOff x="4151520" y="3257640"/>
              <a:chExt cx="865080" cy="313200"/>
            </a:xfrm>
          </p:grpSpPr>
          <p:sp>
            <p:nvSpPr>
              <p:cNvPr id="449" name=""/>
              <p:cNvSpPr/>
              <p:nvPr/>
            </p:nvSpPr>
            <p:spPr>
              <a:xfrm flipV="1">
                <a:off x="4151520" y="3257280"/>
                <a:ext cx="4359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4579560" y="3267000"/>
                <a:ext cx="43668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024160" y="3276720"/>
              <a:ext cx="866520" cy="313200"/>
              <a:chOff x="5024160" y="3276720"/>
              <a:chExt cx="866520" cy="313200"/>
            </a:xfrm>
          </p:grpSpPr>
          <p:sp>
            <p:nvSpPr>
              <p:cNvPr id="452" name=""/>
              <p:cNvSpPr/>
              <p:nvPr/>
            </p:nvSpPr>
            <p:spPr>
              <a:xfrm flipV="1">
                <a:off x="5024160" y="327636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5452920" y="328608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 flipH="1">
            <a:off x="4592160" y="4464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8000" y="37018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58000" y="3701880"/>
            <a:ext cx="685800" cy="1676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967280" y="3930480"/>
          <a:ext cx="601560" cy="36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3930480"/>
                    <a:ext cx="60156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959800" y="461628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71800" y="2254320"/>
            <a:ext cx="121896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63880" y="2800440"/>
            <a:ext cx="130320" cy="128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0200" y="29401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041280" y="4464000"/>
            <a:ext cx="206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33560" y="31687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14800" y="3244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0560" y="3154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47680" y="4464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517920" y="2940120"/>
          <a:ext cx="99684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7920" y="2940120"/>
                    <a:ext cx="9968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"/>
          <p:cNvGrpSpPr/>
          <p:nvPr/>
        </p:nvGrpSpPr>
        <p:grpSpPr>
          <a:xfrm>
            <a:off x="3200400" y="4115520"/>
            <a:ext cx="1279440" cy="680760"/>
            <a:chOff x="3200400" y="4115520"/>
            <a:chExt cx="1279440" cy="680760"/>
          </a:xfrm>
        </p:grpSpPr>
        <p:grpSp>
          <p:nvGrpSpPr>
            <p:cNvPr id="471" name=""/>
            <p:cNvGrpSpPr/>
            <p:nvPr/>
          </p:nvGrpSpPr>
          <p:grpSpPr>
            <a:xfrm>
              <a:off x="3200400" y="4115520"/>
              <a:ext cx="1278720" cy="680760"/>
              <a:chOff x="3200400" y="4115520"/>
              <a:chExt cx="1278720" cy="680760"/>
            </a:xfrm>
          </p:grpSpPr>
          <p:sp>
            <p:nvSpPr>
              <p:cNvPr id="472" name=""/>
              <p:cNvSpPr/>
              <p:nvPr/>
            </p:nvSpPr>
            <p:spPr>
              <a:xfrm flipH="1" flipV="1" rot="10800000">
                <a:off x="3494880" y="4115160"/>
                <a:ext cx="983880" cy="6807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rot="10800000">
                <a:off x="3396960" y="4358520"/>
                <a:ext cx="9648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rot="10800000">
                <a:off x="3298320" y="4407120"/>
                <a:ext cx="96120" cy="1458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10800000">
                <a:off x="3200040" y="4358520"/>
                <a:ext cx="9612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 rot="10800000">
              <a:off x="4379760" y="4224240"/>
              <a:ext cx="10008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5240" y="22860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79440" y="110808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do FFT of the measured voltage and current and relate to the voltage  and current at the transducer electrical port by compensating for the ca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209680" y="2743200"/>
            <a:ext cx="5102280" cy="2162160"/>
            <a:chOff x="2209680" y="2743200"/>
            <a:chExt cx="5102280" cy="2162160"/>
          </a:xfrm>
        </p:grpSpPr>
        <p:sp>
          <p:nvSpPr>
            <p:cNvPr id="481" name=""/>
            <p:cNvSpPr/>
            <p:nvPr/>
          </p:nvSpPr>
          <p:spPr>
            <a:xfrm>
              <a:off x="3055680" y="3283200"/>
              <a:ext cx="297180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40000" y="3143520"/>
              <a:ext cx="9907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84280" y="3206880"/>
              <a:ext cx="3812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38240" y="36291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65600" y="3148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894120" y="33591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5400000">
              <a:off x="5417640" y="3381480"/>
              <a:ext cx="1981080" cy="10666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6840" y="3587760"/>
              <a:ext cx="1522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5341320" y="3130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270400" y="33591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31080" y="39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5288040" y="3665520"/>
            <a:ext cx="569880" cy="34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88040" y="3665520"/>
                      <a:ext cx="56988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4" name=""/>
            <p:cNvGraphicFramePr/>
            <p:nvPr/>
          </p:nvGraphicFramePr>
          <p:xfrm>
            <a:off x="5157720" y="2784600"/>
            <a:ext cx="568440" cy="34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57720" y="2784600"/>
                      <a:ext cx="56844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6" name=""/>
            <p:cNvGraphicFramePr/>
            <p:nvPr/>
          </p:nvGraphicFramePr>
          <p:xfrm>
            <a:off x="3659040" y="2743200"/>
            <a:ext cx="568440" cy="34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9040" y="2743200"/>
                      <a:ext cx="56844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8" name=""/>
            <p:cNvGraphicFramePr/>
            <p:nvPr/>
          </p:nvGraphicFramePr>
          <p:xfrm>
            <a:off x="3335400" y="3664080"/>
            <a:ext cx="585720" cy="344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35400" y="3664080"/>
                      <a:ext cx="58572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0" name=""/>
            <p:cNvGraphicFramePr/>
            <p:nvPr/>
          </p:nvGraphicFramePr>
          <p:xfrm>
            <a:off x="4427280" y="3664080"/>
            <a:ext cx="387360" cy="407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27280" y="3664080"/>
                      <a:ext cx="38736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2" name=""/>
            <p:cNvGraphicFramePr/>
            <p:nvPr/>
          </p:nvGraphicFramePr>
          <p:xfrm>
            <a:off x="3143160" y="2743200"/>
            <a:ext cx="450720" cy="373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43160" y="2743200"/>
                      <a:ext cx="45072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4" name=""/>
            <p:cNvGraphicFramePr/>
            <p:nvPr/>
          </p:nvGraphicFramePr>
          <p:xfrm>
            <a:off x="2209680" y="3657600"/>
            <a:ext cx="552600" cy="362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09680" y="3657600"/>
                      <a:ext cx="552600" cy="3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048120" y="5257800"/>
          <a:ext cx="2971800" cy="67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8120" y="5257800"/>
                    <a:ext cx="29718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45240" y="22860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08040" y="110808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From these measurements and a knowledge of the acoustic/elastic transfer function for this setup we can obtain the sensitivity of the transducer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3352680" y="2666880"/>
          <a:ext cx="2210040" cy="8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22100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1295280" y="44197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in all these division processes in the frequency domain, a Wiener filter is used to desensitize the process to nois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754200" y="990720"/>
            <a:ext cx="46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sensitivity calculated fo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MHz planar transduc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45240" y="22860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19200" y="2287440"/>
            <a:ext cx="3727440" cy="29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19200" y="2287440"/>
            <a:ext cx="3727440" cy="29322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19200" y="5219640"/>
            <a:ext cx="372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419200" y="2287080"/>
            <a:ext cx="1800" cy="293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419200" y="5176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346560" y="5176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282920" y="5176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210280" y="5176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146640" y="5176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19200" y="521964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07960" y="5143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19200" y="480060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09240" y="47228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19200" y="43797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87000" y="4302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19200" y="39592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09240" y="38829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9200" y="35402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87000" y="3462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19200" y="31194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09240" y="3041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19200" y="26989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187000" y="2622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19200" y="228744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09240" y="22096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19200" y="2879640"/>
            <a:ext cx="3737160" cy="2332080"/>
          </a:xfrm>
          <a:custGeom>
            <a:avLst/>
            <a:gdLst/>
            <a:ahLst/>
            <a:rect l="l" t="t" r="r" b="b"/>
            <a:pathLst>
              <a:path w="2354" h="1469">
                <a:moveTo>
                  <a:pt x="0" y="1469"/>
                </a:moveTo>
                <a:lnTo>
                  <a:pt x="22" y="1447"/>
                </a:lnTo>
                <a:lnTo>
                  <a:pt x="43" y="1426"/>
                </a:lnTo>
                <a:lnTo>
                  <a:pt x="70" y="1399"/>
                </a:lnTo>
                <a:lnTo>
                  <a:pt x="92" y="1366"/>
                </a:lnTo>
                <a:lnTo>
                  <a:pt x="114" y="1339"/>
                </a:lnTo>
                <a:lnTo>
                  <a:pt x="141" y="1307"/>
                </a:lnTo>
                <a:lnTo>
                  <a:pt x="162" y="1264"/>
                </a:lnTo>
                <a:lnTo>
                  <a:pt x="184" y="1123"/>
                </a:lnTo>
                <a:lnTo>
                  <a:pt x="211" y="977"/>
                </a:lnTo>
                <a:lnTo>
                  <a:pt x="233" y="832"/>
                </a:lnTo>
                <a:lnTo>
                  <a:pt x="254" y="707"/>
                </a:lnTo>
                <a:lnTo>
                  <a:pt x="281" y="615"/>
                </a:lnTo>
                <a:lnTo>
                  <a:pt x="303" y="540"/>
                </a:lnTo>
                <a:lnTo>
                  <a:pt x="325" y="448"/>
                </a:lnTo>
                <a:lnTo>
                  <a:pt x="352" y="389"/>
                </a:lnTo>
                <a:lnTo>
                  <a:pt x="373" y="318"/>
                </a:lnTo>
                <a:lnTo>
                  <a:pt x="395" y="248"/>
                </a:lnTo>
                <a:lnTo>
                  <a:pt x="422" y="189"/>
                </a:lnTo>
                <a:lnTo>
                  <a:pt x="444" y="129"/>
                </a:lnTo>
                <a:lnTo>
                  <a:pt x="465" y="64"/>
                </a:lnTo>
                <a:lnTo>
                  <a:pt x="492" y="21"/>
                </a:lnTo>
                <a:lnTo>
                  <a:pt x="514" y="0"/>
                </a:lnTo>
                <a:lnTo>
                  <a:pt x="536" y="5"/>
                </a:lnTo>
                <a:lnTo>
                  <a:pt x="563" y="27"/>
                </a:lnTo>
                <a:lnTo>
                  <a:pt x="584" y="64"/>
                </a:lnTo>
                <a:lnTo>
                  <a:pt x="606" y="124"/>
                </a:lnTo>
                <a:lnTo>
                  <a:pt x="633" y="189"/>
                </a:lnTo>
                <a:lnTo>
                  <a:pt x="655" y="254"/>
                </a:lnTo>
                <a:lnTo>
                  <a:pt x="676" y="313"/>
                </a:lnTo>
                <a:lnTo>
                  <a:pt x="703" y="367"/>
                </a:lnTo>
                <a:lnTo>
                  <a:pt x="725" y="405"/>
                </a:lnTo>
                <a:lnTo>
                  <a:pt x="747" y="464"/>
                </a:lnTo>
                <a:lnTo>
                  <a:pt x="774" y="507"/>
                </a:lnTo>
                <a:lnTo>
                  <a:pt x="795" y="545"/>
                </a:lnTo>
                <a:lnTo>
                  <a:pt x="817" y="578"/>
                </a:lnTo>
                <a:lnTo>
                  <a:pt x="844" y="615"/>
                </a:lnTo>
                <a:lnTo>
                  <a:pt x="866" y="653"/>
                </a:lnTo>
                <a:lnTo>
                  <a:pt x="887" y="691"/>
                </a:lnTo>
                <a:lnTo>
                  <a:pt x="914" y="740"/>
                </a:lnTo>
                <a:lnTo>
                  <a:pt x="936" y="788"/>
                </a:lnTo>
                <a:lnTo>
                  <a:pt x="958" y="832"/>
                </a:lnTo>
                <a:lnTo>
                  <a:pt x="985" y="880"/>
                </a:lnTo>
                <a:lnTo>
                  <a:pt x="1006" y="929"/>
                </a:lnTo>
                <a:lnTo>
                  <a:pt x="1028" y="972"/>
                </a:lnTo>
                <a:lnTo>
                  <a:pt x="1055" y="1010"/>
                </a:lnTo>
                <a:lnTo>
                  <a:pt x="1077" y="1042"/>
                </a:lnTo>
                <a:lnTo>
                  <a:pt x="1098" y="1075"/>
                </a:lnTo>
                <a:lnTo>
                  <a:pt x="1125" y="1107"/>
                </a:lnTo>
                <a:lnTo>
                  <a:pt x="1147" y="1134"/>
                </a:lnTo>
                <a:lnTo>
                  <a:pt x="1169" y="1156"/>
                </a:lnTo>
                <a:lnTo>
                  <a:pt x="1196" y="1177"/>
                </a:lnTo>
                <a:lnTo>
                  <a:pt x="1217" y="1199"/>
                </a:lnTo>
                <a:lnTo>
                  <a:pt x="1239" y="1215"/>
                </a:lnTo>
                <a:lnTo>
                  <a:pt x="1266" y="1231"/>
                </a:lnTo>
                <a:lnTo>
                  <a:pt x="1288" y="1253"/>
                </a:lnTo>
                <a:lnTo>
                  <a:pt x="1309" y="1269"/>
                </a:lnTo>
                <a:lnTo>
                  <a:pt x="1336" y="1285"/>
                </a:lnTo>
                <a:lnTo>
                  <a:pt x="1358" y="1296"/>
                </a:lnTo>
                <a:lnTo>
                  <a:pt x="1380" y="1318"/>
                </a:lnTo>
                <a:lnTo>
                  <a:pt x="1407" y="1334"/>
                </a:lnTo>
                <a:lnTo>
                  <a:pt x="1428" y="1350"/>
                </a:lnTo>
                <a:lnTo>
                  <a:pt x="1450" y="1372"/>
                </a:lnTo>
                <a:lnTo>
                  <a:pt x="1477" y="1393"/>
                </a:lnTo>
                <a:lnTo>
                  <a:pt x="1499" y="1420"/>
                </a:lnTo>
                <a:lnTo>
                  <a:pt x="1520" y="1415"/>
                </a:lnTo>
                <a:lnTo>
                  <a:pt x="1547" y="1388"/>
                </a:lnTo>
                <a:lnTo>
                  <a:pt x="1569" y="1372"/>
                </a:lnTo>
                <a:lnTo>
                  <a:pt x="1591" y="1361"/>
                </a:lnTo>
                <a:lnTo>
                  <a:pt x="1618" y="1356"/>
                </a:lnTo>
                <a:lnTo>
                  <a:pt x="1639" y="1350"/>
                </a:lnTo>
                <a:lnTo>
                  <a:pt x="1661" y="1350"/>
                </a:lnTo>
                <a:lnTo>
                  <a:pt x="1688" y="1345"/>
                </a:lnTo>
                <a:lnTo>
                  <a:pt x="1710" y="1345"/>
                </a:lnTo>
                <a:lnTo>
                  <a:pt x="1731" y="1334"/>
                </a:lnTo>
                <a:lnTo>
                  <a:pt x="1758" y="1323"/>
                </a:lnTo>
                <a:lnTo>
                  <a:pt x="1780" y="1312"/>
                </a:lnTo>
                <a:lnTo>
                  <a:pt x="1802" y="1296"/>
                </a:lnTo>
                <a:lnTo>
                  <a:pt x="1829" y="1291"/>
                </a:lnTo>
                <a:lnTo>
                  <a:pt x="1850" y="1285"/>
                </a:lnTo>
                <a:lnTo>
                  <a:pt x="1872" y="1285"/>
                </a:lnTo>
                <a:lnTo>
                  <a:pt x="1899" y="1275"/>
                </a:lnTo>
                <a:lnTo>
                  <a:pt x="1921" y="1280"/>
                </a:lnTo>
                <a:lnTo>
                  <a:pt x="1942" y="1280"/>
                </a:lnTo>
                <a:lnTo>
                  <a:pt x="1969" y="1275"/>
                </a:lnTo>
                <a:lnTo>
                  <a:pt x="1991" y="1269"/>
                </a:lnTo>
                <a:lnTo>
                  <a:pt x="2013" y="1269"/>
                </a:lnTo>
                <a:lnTo>
                  <a:pt x="2040" y="1264"/>
                </a:lnTo>
                <a:lnTo>
                  <a:pt x="2061" y="1264"/>
                </a:lnTo>
                <a:lnTo>
                  <a:pt x="2083" y="1258"/>
                </a:lnTo>
                <a:lnTo>
                  <a:pt x="2110" y="1242"/>
                </a:lnTo>
                <a:lnTo>
                  <a:pt x="2132" y="1242"/>
                </a:lnTo>
                <a:lnTo>
                  <a:pt x="2153" y="1231"/>
                </a:lnTo>
                <a:lnTo>
                  <a:pt x="2180" y="1231"/>
                </a:lnTo>
                <a:lnTo>
                  <a:pt x="2202" y="1221"/>
                </a:lnTo>
                <a:lnTo>
                  <a:pt x="2224" y="1226"/>
                </a:lnTo>
                <a:lnTo>
                  <a:pt x="2251" y="1210"/>
                </a:lnTo>
                <a:lnTo>
                  <a:pt x="2272" y="1215"/>
                </a:lnTo>
                <a:lnTo>
                  <a:pt x="2294" y="1204"/>
                </a:lnTo>
                <a:lnTo>
                  <a:pt x="2321" y="1210"/>
                </a:lnTo>
                <a:lnTo>
                  <a:pt x="2343" y="1204"/>
                </a:lnTo>
                <a:lnTo>
                  <a:pt x="2354" y="121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6200000">
            <a:off x="1536120" y="3732840"/>
            <a:ext cx="89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litude (V/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43520" y="540864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19200" y="5219640"/>
            <a:ext cx="372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146640" y="2277720"/>
            <a:ext cx="1800" cy="294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419200" y="5176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404800" y="5278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346560" y="5176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06240" y="5272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282920" y="5176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20640" y="5240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210280" y="5176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48000" y="5253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146640" y="5176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55920" y="5265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6103440" y="52196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71480" y="51436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103440" y="47307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71480" y="46544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103440" y="42433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71480" y="41655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103440" y="37544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71840" y="36766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6103440" y="32655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71840" y="318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103440" y="27766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1840" y="269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103440" y="22874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71480" y="2209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9200" y="2320920"/>
            <a:ext cx="3737160" cy="2436840"/>
          </a:xfrm>
          <a:custGeom>
            <a:avLst/>
            <a:gdLst/>
            <a:ahLst/>
            <a:rect l="l" t="t" r="r" b="b"/>
            <a:pathLst>
              <a:path w="2354" h="1535">
                <a:moveTo>
                  <a:pt x="0" y="870"/>
                </a:moveTo>
                <a:lnTo>
                  <a:pt x="22" y="1092"/>
                </a:lnTo>
                <a:lnTo>
                  <a:pt x="43" y="1227"/>
                </a:lnTo>
                <a:lnTo>
                  <a:pt x="70" y="1232"/>
                </a:lnTo>
                <a:lnTo>
                  <a:pt x="92" y="1248"/>
                </a:lnTo>
                <a:lnTo>
                  <a:pt x="114" y="1259"/>
                </a:lnTo>
                <a:lnTo>
                  <a:pt x="141" y="1351"/>
                </a:lnTo>
                <a:lnTo>
                  <a:pt x="162" y="1443"/>
                </a:lnTo>
                <a:lnTo>
                  <a:pt x="184" y="1524"/>
                </a:lnTo>
                <a:lnTo>
                  <a:pt x="211" y="1535"/>
                </a:lnTo>
                <a:lnTo>
                  <a:pt x="233" y="1535"/>
                </a:lnTo>
                <a:lnTo>
                  <a:pt x="254" y="1518"/>
                </a:lnTo>
                <a:lnTo>
                  <a:pt x="281" y="1513"/>
                </a:lnTo>
                <a:lnTo>
                  <a:pt x="303" y="1518"/>
                </a:lnTo>
                <a:lnTo>
                  <a:pt x="325" y="1513"/>
                </a:lnTo>
                <a:lnTo>
                  <a:pt x="352" y="1508"/>
                </a:lnTo>
                <a:lnTo>
                  <a:pt x="373" y="1497"/>
                </a:lnTo>
                <a:lnTo>
                  <a:pt x="395" y="1481"/>
                </a:lnTo>
                <a:lnTo>
                  <a:pt x="422" y="1464"/>
                </a:lnTo>
                <a:lnTo>
                  <a:pt x="444" y="1448"/>
                </a:lnTo>
                <a:lnTo>
                  <a:pt x="465" y="1416"/>
                </a:lnTo>
                <a:lnTo>
                  <a:pt x="492" y="1389"/>
                </a:lnTo>
                <a:lnTo>
                  <a:pt x="514" y="1356"/>
                </a:lnTo>
                <a:lnTo>
                  <a:pt x="536" y="1319"/>
                </a:lnTo>
                <a:lnTo>
                  <a:pt x="563" y="1281"/>
                </a:lnTo>
                <a:lnTo>
                  <a:pt x="584" y="1248"/>
                </a:lnTo>
                <a:lnTo>
                  <a:pt x="606" y="1216"/>
                </a:lnTo>
                <a:lnTo>
                  <a:pt x="633" y="1184"/>
                </a:lnTo>
                <a:lnTo>
                  <a:pt x="655" y="1162"/>
                </a:lnTo>
                <a:lnTo>
                  <a:pt x="676" y="1146"/>
                </a:lnTo>
                <a:lnTo>
                  <a:pt x="703" y="1124"/>
                </a:lnTo>
                <a:lnTo>
                  <a:pt x="725" y="1108"/>
                </a:lnTo>
                <a:lnTo>
                  <a:pt x="747" y="1086"/>
                </a:lnTo>
                <a:lnTo>
                  <a:pt x="774" y="1070"/>
                </a:lnTo>
                <a:lnTo>
                  <a:pt x="795" y="1054"/>
                </a:lnTo>
                <a:lnTo>
                  <a:pt x="817" y="1038"/>
                </a:lnTo>
                <a:lnTo>
                  <a:pt x="844" y="1016"/>
                </a:lnTo>
                <a:lnTo>
                  <a:pt x="866" y="994"/>
                </a:lnTo>
                <a:lnTo>
                  <a:pt x="887" y="973"/>
                </a:lnTo>
                <a:lnTo>
                  <a:pt x="914" y="951"/>
                </a:lnTo>
                <a:lnTo>
                  <a:pt x="936" y="930"/>
                </a:lnTo>
                <a:lnTo>
                  <a:pt x="958" y="913"/>
                </a:lnTo>
                <a:lnTo>
                  <a:pt x="985" y="897"/>
                </a:lnTo>
                <a:lnTo>
                  <a:pt x="1006" y="881"/>
                </a:lnTo>
                <a:lnTo>
                  <a:pt x="1028" y="870"/>
                </a:lnTo>
                <a:lnTo>
                  <a:pt x="1055" y="859"/>
                </a:lnTo>
                <a:lnTo>
                  <a:pt x="1077" y="854"/>
                </a:lnTo>
                <a:lnTo>
                  <a:pt x="1098" y="849"/>
                </a:lnTo>
                <a:lnTo>
                  <a:pt x="1125" y="849"/>
                </a:lnTo>
                <a:lnTo>
                  <a:pt x="1147" y="843"/>
                </a:lnTo>
                <a:lnTo>
                  <a:pt x="1169" y="843"/>
                </a:lnTo>
                <a:lnTo>
                  <a:pt x="1196" y="838"/>
                </a:lnTo>
                <a:lnTo>
                  <a:pt x="1217" y="838"/>
                </a:lnTo>
                <a:lnTo>
                  <a:pt x="1239" y="832"/>
                </a:lnTo>
                <a:lnTo>
                  <a:pt x="1266" y="832"/>
                </a:lnTo>
                <a:lnTo>
                  <a:pt x="1288" y="827"/>
                </a:lnTo>
                <a:lnTo>
                  <a:pt x="1309" y="822"/>
                </a:lnTo>
                <a:lnTo>
                  <a:pt x="1336" y="822"/>
                </a:lnTo>
                <a:lnTo>
                  <a:pt x="1358" y="816"/>
                </a:lnTo>
                <a:lnTo>
                  <a:pt x="1380" y="816"/>
                </a:lnTo>
                <a:lnTo>
                  <a:pt x="1407" y="800"/>
                </a:lnTo>
                <a:lnTo>
                  <a:pt x="1428" y="800"/>
                </a:lnTo>
                <a:lnTo>
                  <a:pt x="1450" y="778"/>
                </a:lnTo>
                <a:lnTo>
                  <a:pt x="1477" y="768"/>
                </a:lnTo>
                <a:lnTo>
                  <a:pt x="1499" y="584"/>
                </a:lnTo>
                <a:lnTo>
                  <a:pt x="1520" y="276"/>
                </a:lnTo>
                <a:lnTo>
                  <a:pt x="1547" y="254"/>
                </a:lnTo>
                <a:lnTo>
                  <a:pt x="1569" y="222"/>
                </a:lnTo>
                <a:lnTo>
                  <a:pt x="1591" y="200"/>
                </a:lnTo>
                <a:lnTo>
                  <a:pt x="1618" y="184"/>
                </a:lnTo>
                <a:lnTo>
                  <a:pt x="1639" y="190"/>
                </a:lnTo>
                <a:lnTo>
                  <a:pt x="1661" y="206"/>
                </a:lnTo>
                <a:lnTo>
                  <a:pt x="1688" y="184"/>
                </a:lnTo>
                <a:lnTo>
                  <a:pt x="1710" y="222"/>
                </a:lnTo>
                <a:lnTo>
                  <a:pt x="1731" y="227"/>
                </a:lnTo>
                <a:lnTo>
                  <a:pt x="1758" y="254"/>
                </a:lnTo>
                <a:lnTo>
                  <a:pt x="1780" y="233"/>
                </a:lnTo>
                <a:lnTo>
                  <a:pt x="1802" y="238"/>
                </a:lnTo>
                <a:lnTo>
                  <a:pt x="1829" y="222"/>
                </a:lnTo>
                <a:lnTo>
                  <a:pt x="1850" y="217"/>
                </a:lnTo>
                <a:lnTo>
                  <a:pt x="1872" y="200"/>
                </a:lnTo>
                <a:lnTo>
                  <a:pt x="1899" y="195"/>
                </a:lnTo>
                <a:lnTo>
                  <a:pt x="1921" y="190"/>
                </a:lnTo>
                <a:lnTo>
                  <a:pt x="1942" y="190"/>
                </a:lnTo>
                <a:lnTo>
                  <a:pt x="1969" y="200"/>
                </a:lnTo>
                <a:lnTo>
                  <a:pt x="1991" y="179"/>
                </a:lnTo>
                <a:lnTo>
                  <a:pt x="2013" y="190"/>
                </a:lnTo>
                <a:lnTo>
                  <a:pt x="2040" y="179"/>
                </a:lnTo>
                <a:lnTo>
                  <a:pt x="2061" y="184"/>
                </a:lnTo>
                <a:lnTo>
                  <a:pt x="2083" y="168"/>
                </a:lnTo>
                <a:lnTo>
                  <a:pt x="2110" y="168"/>
                </a:lnTo>
                <a:lnTo>
                  <a:pt x="2132" y="152"/>
                </a:lnTo>
                <a:lnTo>
                  <a:pt x="2153" y="157"/>
                </a:lnTo>
                <a:lnTo>
                  <a:pt x="2180" y="141"/>
                </a:lnTo>
                <a:lnTo>
                  <a:pt x="2202" y="130"/>
                </a:lnTo>
                <a:lnTo>
                  <a:pt x="2224" y="114"/>
                </a:lnTo>
                <a:lnTo>
                  <a:pt x="2251" y="98"/>
                </a:lnTo>
                <a:lnTo>
                  <a:pt x="2272" y="82"/>
                </a:lnTo>
                <a:lnTo>
                  <a:pt x="2294" y="60"/>
                </a:lnTo>
                <a:lnTo>
                  <a:pt x="2321" y="49"/>
                </a:lnTo>
                <a:lnTo>
                  <a:pt x="2343" y="11"/>
                </a:lnTo>
                <a:lnTo>
                  <a:pt x="2354" y="0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6144840" y="362016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(de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19200" y="2287440"/>
            <a:ext cx="372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045240" y="22860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1371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ing effects need to be accounted for in determining the sensi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54280" y="3038400"/>
            <a:ext cx="3732120" cy="12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54280" y="3038400"/>
            <a:ext cx="3732120" cy="1236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54280" y="3038400"/>
            <a:ext cx="373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54280" y="4275000"/>
            <a:ext cx="373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386400" y="3038040"/>
            <a:ext cx="1800" cy="123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654280" y="3038040"/>
            <a:ext cx="1440" cy="123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654280" y="3038040"/>
            <a:ext cx="1440" cy="123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2654280" y="4231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654280" y="3038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619000" y="430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583080" y="4231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83080" y="3038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47800" y="430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4519440" y="4231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19440" y="3038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41320" y="430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48240" y="4231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48240" y="3038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71920" y="430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6386400" y="4231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86400" y="3038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08280" y="430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54280" y="427500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343200" y="42750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41240" y="4199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54280" y="38545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43200" y="38545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20280" y="3778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54280" y="34434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343200" y="34434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420280" y="336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54280" y="303840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6343200" y="30384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420280" y="2960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54280" y="3124080"/>
            <a:ext cx="3740040" cy="1143000"/>
          </a:xfrm>
          <a:custGeom>
            <a:avLst/>
            <a:gdLst/>
            <a:ahLst/>
            <a:rect l="l" t="t" r="r" b="b"/>
            <a:pathLst>
              <a:path w="2356" h="720">
                <a:moveTo>
                  <a:pt x="0" y="720"/>
                </a:moveTo>
                <a:lnTo>
                  <a:pt x="21" y="715"/>
                </a:lnTo>
                <a:lnTo>
                  <a:pt x="43" y="704"/>
                </a:lnTo>
                <a:lnTo>
                  <a:pt x="70" y="688"/>
                </a:lnTo>
                <a:lnTo>
                  <a:pt x="92" y="671"/>
                </a:lnTo>
                <a:lnTo>
                  <a:pt x="113" y="661"/>
                </a:lnTo>
                <a:lnTo>
                  <a:pt x="140" y="644"/>
                </a:lnTo>
                <a:lnTo>
                  <a:pt x="162" y="617"/>
                </a:lnTo>
                <a:lnTo>
                  <a:pt x="184" y="552"/>
                </a:lnTo>
                <a:lnTo>
                  <a:pt x="211" y="482"/>
                </a:lnTo>
                <a:lnTo>
                  <a:pt x="232" y="406"/>
                </a:lnTo>
                <a:lnTo>
                  <a:pt x="254" y="347"/>
                </a:lnTo>
                <a:lnTo>
                  <a:pt x="281" y="303"/>
                </a:lnTo>
                <a:lnTo>
                  <a:pt x="303" y="265"/>
                </a:lnTo>
                <a:lnTo>
                  <a:pt x="325" y="222"/>
                </a:lnTo>
                <a:lnTo>
                  <a:pt x="352" y="190"/>
                </a:lnTo>
                <a:lnTo>
                  <a:pt x="373" y="157"/>
                </a:lnTo>
                <a:lnTo>
                  <a:pt x="395" y="119"/>
                </a:lnTo>
                <a:lnTo>
                  <a:pt x="422" y="92"/>
                </a:lnTo>
                <a:lnTo>
                  <a:pt x="444" y="60"/>
                </a:lnTo>
                <a:lnTo>
                  <a:pt x="465" y="33"/>
                </a:lnTo>
                <a:lnTo>
                  <a:pt x="493" y="6"/>
                </a:lnTo>
                <a:lnTo>
                  <a:pt x="514" y="0"/>
                </a:lnTo>
                <a:lnTo>
                  <a:pt x="536" y="0"/>
                </a:lnTo>
                <a:lnTo>
                  <a:pt x="563" y="11"/>
                </a:lnTo>
                <a:lnTo>
                  <a:pt x="585" y="33"/>
                </a:lnTo>
                <a:lnTo>
                  <a:pt x="606" y="60"/>
                </a:lnTo>
                <a:lnTo>
                  <a:pt x="633" y="92"/>
                </a:lnTo>
                <a:lnTo>
                  <a:pt x="655" y="125"/>
                </a:lnTo>
                <a:lnTo>
                  <a:pt x="677" y="152"/>
                </a:lnTo>
                <a:lnTo>
                  <a:pt x="704" y="179"/>
                </a:lnTo>
                <a:lnTo>
                  <a:pt x="725" y="201"/>
                </a:lnTo>
                <a:lnTo>
                  <a:pt x="747" y="228"/>
                </a:lnTo>
                <a:lnTo>
                  <a:pt x="774" y="249"/>
                </a:lnTo>
                <a:lnTo>
                  <a:pt x="796" y="265"/>
                </a:lnTo>
                <a:lnTo>
                  <a:pt x="818" y="282"/>
                </a:lnTo>
                <a:lnTo>
                  <a:pt x="845" y="303"/>
                </a:lnTo>
                <a:lnTo>
                  <a:pt x="866" y="320"/>
                </a:lnTo>
                <a:lnTo>
                  <a:pt x="888" y="341"/>
                </a:lnTo>
                <a:lnTo>
                  <a:pt x="915" y="363"/>
                </a:lnTo>
                <a:lnTo>
                  <a:pt x="937" y="385"/>
                </a:lnTo>
                <a:lnTo>
                  <a:pt x="958" y="412"/>
                </a:lnTo>
                <a:lnTo>
                  <a:pt x="986" y="433"/>
                </a:lnTo>
                <a:lnTo>
                  <a:pt x="1007" y="455"/>
                </a:lnTo>
                <a:lnTo>
                  <a:pt x="1029" y="477"/>
                </a:lnTo>
                <a:lnTo>
                  <a:pt x="1056" y="498"/>
                </a:lnTo>
                <a:lnTo>
                  <a:pt x="1078" y="514"/>
                </a:lnTo>
                <a:lnTo>
                  <a:pt x="1099" y="531"/>
                </a:lnTo>
                <a:lnTo>
                  <a:pt x="1126" y="541"/>
                </a:lnTo>
                <a:lnTo>
                  <a:pt x="1148" y="558"/>
                </a:lnTo>
                <a:lnTo>
                  <a:pt x="1170" y="569"/>
                </a:lnTo>
                <a:lnTo>
                  <a:pt x="1197" y="579"/>
                </a:lnTo>
                <a:lnTo>
                  <a:pt x="1219" y="590"/>
                </a:lnTo>
                <a:lnTo>
                  <a:pt x="1240" y="596"/>
                </a:lnTo>
                <a:lnTo>
                  <a:pt x="1267" y="606"/>
                </a:lnTo>
                <a:lnTo>
                  <a:pt x="1289" y="617"/>
                </a:lnTo>
                <a:lnTo>
                  <a:pt x="1311" y="623"/>
                </a:lnTo>
                <a:lnTo>
                  <a:pt x="1338" y="633"/>
                </a:lnTo>
                <a:lnTo>
                  <a:pt x="1359" y="639"/>
                </a:lnTo>
                <a:lnTo>
                  <a:pt x="1381" y="644"/>
                </a:lnTo>
                <a:lnTo>
                  <a:pt x="1408" y="655"/>
                </a:lnTo>
                <a:lnTo>
                  <a:pt x="1430" y="666"/>
                </a:lnTo>
                <a:lnTo>
                  <a:pt x="1451" y="671"/>
                </a:lnTo>
                <a:lnTo>
                  <a:pt x="1479" y="688"/>
                </a:lnTo>
                <a:lnTo>
                  <a:pt x="1500" y="698"/>
                </a:lnTo>
                <a:lnTo>
                  <a:pt x="1522" y="693"/>
                </a:lnTo>
                <a:lnTo>
                  <a:pt x="1549" y="682"/>
                </a:lnTo>
                <a:lnTo>
                  <a:pt x="1571" y="677"/>
                </a:lnTo>
                <a:lnTo>
                  <a:pt x="1592" y="671"/>
                </a:lnTo>
                <a:lnTo>
                  <a:pt x="1619" y="666"/>
                </a:lnTo>
                <a:lnTo>
                  <a:pt x="1641" y="661"/>
                </a:lnTo>
                <a:lnTo>
                  <a:pt x="1663" y="661"/>
                </a:lnTo>
                <a:lnTo>
                  <a:pt x="1690" y="661"/>
                </a:lnTo>
                <a:lnTo>
                  <a:pt x="1712" y="661"/>
                </a:lnTo>
                <a:lnTo>
                  <a:pt x="1733" y="655"/>
                </a:lnTo>
                <a:lnTo>
                  <a:pt x="1760" y="650"/>
                </a:lnTo>
                <a:lnTo>
                  <a:pt x="1782" y="644"/>
                </a:lnTo>
                <a:lnTo>
                  <a:pt x="1804" y="639"/>
                </a:lnTo>
                <a:lnTo>
                  <a:pt x="1831" y="633"/>
                </a:lnTo>
                <a:lnTo>
                  <a:pt x="1852" y="633"/>
                </a:lnTo>
                <a:lnTo>
                  <a:pt x="1874" y="633"/>
                </a:lnTo>
                <a:lnTo>
                  <a:pt x="1901" y="628"/>
                </a:lnTo>
                <a:lnTo>
                  <a:pt x="1923" y="628"/>
                </a:lnTo>
                <a:lnTo>
                  <a:pt x="1945" y="628"/>
                </a:lnTo>
                <a:lnTo>
                  <a:pt x="1972" y="628"/>
                </a:lnTo>
                <a:lnTo>
                  <a:pt x="1993" y="623"/>
                </a:lnTo>
                <a:lnTo>
                  <a:pt x="2015" y="623"/>
                </a:lnTo>
                <a:lnTo>
                  <a:pt x="2042" y="617"/>
                </a:lnTo>
                <a:lnTo>
                  <a:pt x="2064" y="617"/>
                </a:lnTo>
                <a:lnTo>
                  <a:pt x="2085" y="617"/>
                </a:lnTo>
                <a:lnTo>
                  <a:pt x="2112" y="612"/>
                </a:lnTo>
                <a:lnTo>
                  <a:pt x="2134" y="612"/>
                </a:lnTo>
                <a:lnTo>
                  <a:pt x="2156" y="601"/>
                </a:lnTo>
                <a:lnTo>
                  <a:pt x="2183" y="606"/>
                </a:lnTo>
                <a:lnTo>
                  <a:pt x="2205" y="596"/>
                </a:lnTo>
                <a:lnTo>
                  <a:pt x="2226" y="601"/>
                </a:lnTo>
                <a:lnTo>
                  <a:pt x="2253" y="596"/>
                </a:lnTo>
                <a:lnTo>
                  <a:pt x="2275" y="596"/>
                </a:lnTo>
                <a:lnTo>
                  <a:pt x="2297" y="590"/>
                </a:lnTo>
                <a:lnTo>
                  <a:pt x="2324" y="596"/>
                </a:lnTo>
                <a:lnTo>
                  <a:pt x="2345" y="590"/>
                </a:lnTo>
                <a:lnTo>
                  <a:pt x="2356" y="59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1856520" y="3637440"/>
            <a:ext cx="89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litude (V/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54280" y="3622680"/>
            <a:ext cx="3740040" cy="644400"/>
          </a:xfrm>
          <a:custGeom>
            <a:avLst/>
            <a:gdLst/>
            <a:ahLst/>
            <a:rect l="l" t="t" r="r" b="b"/>
            <a:pathLst>
              <a:path w="2356" h="406">
                <a:moveTo>
                  <a:pt x="0" y="406"/>
                </a:moveTo>
                <a:lnTo>
                  <a:pt x="21" y="401"/>
                </a:lnTo>
                <a:lnTo>
                  <a:pt x="43" y="395"/>
                </a:lnTo>
                <a:lnTo>
                  <a:pt x="70" y="379"/>
                </a:lnTo>
                <a:lnTo>
                  <a:pt x="92" y="368"/>
                </a:lnTo>
                <a:lnTo>
                  <a:pt x="113" y="363"/>
                </a:lnTo>
                <a:lnTo>
                  <a:pt x="140" y="347"/>
                </a:lnTo>
                <a:lnTo>
                  <a:pt x="162" y="330"/>
                </a:lnTo>
                <a:lnTo>
                  <a:pt x="184" y="282"/>
                </a:lnTo>
                <a:lnTo>
                  <a:pt x="211" y="233"/>
                </a:lnTo>
                <a:lnTo>
                  <a:pt x="232" y="190"/>
                </a:lnTo>
                <a:lnTo>
                  <a:pt x="254" y="157"/>
                </a:lnTo>
                <a:lnTo>
                  <a:pt x="281" y="141"/>
                </a:lnTo>
                <a:lnTo>
                  <a:pt x="303" y="125"/>
                </a:lnTo>
                <a:lnTo>
                  <a:pt x="325" y="103"/>
                </a:lnTo>
                <a:lnTo>
                  <a:pt x="352" y="92"/>
                </a:lnTo>
                <a:lnTo>
                  <a:pt x="373" y="76"/>
                </a:lnTo>
                <a:lnTo>
                  <a:pt x="395" y="60"/>
                </a:lnTo>
                <a:lnTo>
                  <a:pt x="422" y="49"/>
                </a:lnTo>
                <a:lnTo>
                  <a:pt x="444" y="33"/>
                </a:lnTo>
                <a:lnTo>
                  <a:pt x="465" y="22"/>
                </a:lnTo>
                <a:lnTo>
                  <a:pt x="493" y="11"/>
                </a:lnTo>
                <a:lnTo>
                  <a:pt x="514" y="0"/>
                </a:lnTo>
                <a:lnTo>
                  <a:pt x="536" y="0"/>
                </a:lnTo>
                <a:lnTo>
                  <a:pt x="563" y="0"/>
                </a:lnTo>
                <a:lnTo>
                  <a:pt x="585" y="11"/>
                </a:lnTo>
                <a:lnTo>
                  <a:pt x="606" y="22"/>
                </a:lnTo>
                <a:lnTo>
                  <a:pt x="633" y="38"/>
                </a:lnTo>
                <a:lnTo>
                  <a:pt x="655" y="49"/>
                </a:lnTo>
                <a:lnTo>
                  <a:pt x="677" y="65"/>
                </a:lnTo>
                <a:lnTo>
                  <a:pt x="704" y="76"/>
                </a:lnTo>
                <a:lnTo>
                  <a:pt x="725" y="92"/>
                </a:lnTo>
                <a:lnTo>
                  <a:pt x="747" y="103"/>
                </a:lnTo>
                <a:lnTo>
                  <a:pt x="774" y="114"/>
                </a:lnTo>
                <a:lnTo>
                  <a:pt x="796" y="125"/>
                </a:lnTo>
                <a:lnTo>
                  <a:pt x="818" y="135"/>
                </a:lnTo>
                <a:lnTo>
                  <a:pt x="845" y="146"/>
                </a:lnTo>
                <a:lnTo>
                  <a:pt x="866" y="157"/>
                </a:lnTo>
                <a:lnTo>
                  <a:pt x="888" y="168"/>
                </a:lnTo>
                <a:lnTo>
                  <a:pt x="915" y="184"/>
                </a:lnTo>
                <a:lnTo>
                  <a:pt x="937" y="195"/>
                </a:lnTo>
                <a:lnTo>
                  <a:pt x="958" y="211"/>
                </a:lnTo>
                <a:lnTo>
                  <a:pt x="986" y="227"/>
                </a:lnTo>
                <a:lnTo>
                  <a:pt x="1007" y="238"/>
                </a:lnTo>
                <a:lnTo>
                  <a:pt x="1029" y="249"/>
                </a:lnTo>
                <a:lnTo>
                  <a:pt x="1056" y="265"/>
                </a:lnTo>
                <a:lnTo>
                  <a:pt x="1078" y="271"/>
                </a:lnTo>
                <a:lnTo>
                  <a:pt x="1099" y="282"/>
                </a:lnTo>
                <a:lnTo>
                  <a:pt x="1126" y="292"/>
                </a:lnTo>
                <a:lnTo>
                  <a:pt x="1148" y="298"/>
                </a:lnTo>
                <a:lnTo>
                  <a:pt x="1170" y="303"/>
                </a:lnTo>
                <a:lnTo>
                  <a:pt x="1197" y="314"/>
                </a:lnTo>
                <a:lnTo>
                  <a:pt x="1219" y="319"/>
                </a:lnTo>
                <a:lnTo>
                  <a:pt x="1240" y="325"/>
                </a:lnTo>
                <a:lnTo>
                  <a:pt x="1267" y="325"/>
                </a:lnTo>
                <a:lnTo>
                  <a:pt x="1289" y="336"/>
                </a:lnTo>
                <a:lnTo>
                  <a:pt x="1311" y="336"/>
                </a:lnTo>
                <a:lnTo>
                  <a:pt x="1338" y="341"/>
                </a:lnTo>
                <a:lnTo>
                  <a:pt x="1359" y="347"/>
                </a:lnTo>
                <a:lnTo>
                  <a:pt x="1381" y="352"/>
                </a:lnTo>
                <a:lnTo>
                  <a:pt x="1408" y="357"/>
                </a:lnTo>
                <a:lnTo>
                  <a:pt x="1430" y="363"/>
                </a:lnTo>
                <a:lnTo>
                  <a:pt x="1451" y="374"/>
                </a:lnTo>
                <a:lnTo>
                  <a:pt x="1479" y="379"/>
                </a:lnTo>
                <a:lnTo>
                  <a:pt x="1500" y="390"/>
                </a:lnTo>
                <a:lnTo>
                  <a:pt x="1522" y="384"/>
                </a:lnTo>
                <a:lnTo>
                  <a:pt x="1549" y="374"/>
                </a:lnTo>
                <a:lnTo>
                  <a:pt x="1571" y="368"/>
                </a:lnTo>
                <a:lnTo>
                  <a:pt x="1592" y="363"/>
                </a:lnTo>
                <a:lnTo>
                  <a:pt x="1619" y="357"/>
                </a:lnTo>
                <a:lnTo>
                  <a:pt x="1641" y="352"/>
                </a:lnTo>
                <a:lnTo>
                  <a:pt x="1663" y="352"/>
                </a:lnTo>
                <a:lnTo>
                  <a:pt x="1690" y="347"/>
                </a:lnTo>
                <a:lnTo>
                  <a:pt x="1712" y="347"/>
                </a:lnTo>
                <a:lnTo>
                  <a:pt x="1733" y="341"/>
                </a:lnTo>
                <a:lnTo>
                  <a:pt x="1760" y="336"/>
                </a:lnTo>
                <a:lnTo>
                  <a:pt x="1782" y="330"/>
                </a:lnTo>
                <a:lnTo>
                  <a:pt x="1804" y="325"/>
                </a:lnTo>
                <a:lnTo>
                  <a:pt x="1831" y="325"/>
                </a:lnTo>
                <a:lnTo>
                  <a:pt x="1852" y="325"/>
                </a:lnTo>
                <a:lnTo>
                  <a:pt x="1874" y="330"/>
                </a:lnTo>
                <a:lnTo>
                  <a:pt x="1901" y="336"/>
                </a:lnTo>
                <a:lnTo>
                  <a:pt x="1923" y="341"/>
                </a:lnTo>
                <a:lnTo>
                  <a:pt x="1945" y="347"/>
                </a:lnTo>
                <a:lnTo>
                  <a:pt x="1972" y="352"/>
                </a:lnTo>
                <a:lnTo>
                  <a:pt x="1993" y="352"/>
                </a:lnTo>
                <a:lnTo>
                  <a:pt x="2015" y="363"/>
                </a:lnTo>
                <a:lnTo>
                  <a:pt x="2042" y="368"/>
                </a:lnTo>
                <a:lnTo>
                  <a:pt x="2064" y="368"/>
                </a:lnTo>
                <a:lnTo>
                  <a:pt x="2085" y="374"/>
                </a:lnTo>
                <a:lnTo>
                  <a:pt x="2112" y="379"/>
                </a:lnTo>
                <a:lnTo>
                  <a:pt x="2134" y="384"/>
                </a:lnTo>
                <a:lnTo>
                  <a:pt x="2156" y="384"/>
                </a:lnTo>
                <a:lnTo>
                  <a:pt x="2183" y="390"/>
                </a:lnTo>
                <a:lnTo>
                  <a:pt x="2205" y="395"/>
                </a:lnTo>
                <a:lnTo>
                  <a:pt x="2226" y="395"/>
                </a:lnTo>
                <a:lnTo>
                  <a:pt x="2253" y="395"/>
                </a:lnTo>
                <a:lnTo>
                  <a:pt x="2275" y="401"/>
                </a:lnTo>
                <a:lnTo>
                  <a:pt x="2297" y="401"/>
                </a:lnTo>
                <a:lnTo>
                  <a:pt x="2324" y="401"/>
                </a:lnTo>
                <a:lnTo>
                  <a:pt x="2345" y="395"/>
                </a:lnTo>
                <a:lnTo>
                  <a:pt x="2356" y="395"/>
                </a:lnTo>
              </a:path>
            </a:pathLst>
          </a:custGeom>
          <a:noFill/>
          <a:ln w="2844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54280" y="4730760"/>
            <a:ext cx="3732120" cy="12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54280" y="4730760"/>
            <a:ext cx="3732120" cy="1246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54280" y="4730760"/>
            <a:ext cx="3732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54280" y="5977080"/>
            <a:ext cx="3732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386400" y="4730760"/>
            <a:ext cx="1800" cy="124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654280" y="4730760"/>
            <a:ext cx="1440" cy="124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4280" y="5977080"/>
            <a:ext cx="3732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654280" y="4730760"/>
            <a:ext cx="1440" cy="124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654280" y="59338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54280" y="47307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19000" y="6002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3583080" y="59338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83080" y="47307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47800" y="6002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4519440" y="59338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19440" y="47307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41320" y="600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5448240" y="59338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48240" y="47307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71920" y="600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386400" y="59338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386400" y="47307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08280" y="600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54280" y="59770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343200" y="59770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34600" y="58993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54280" y="55562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343200" y="55562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41240" y="5478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54280" y="51436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6343200" y="51436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86800" y="506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54280" y="47307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6343200" y="47307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386800" y="4654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654280" y="5357880"/>
            <a:ext cx="3740040" cy="515880"/>
          </a:xfrm>
          <a:custGeom>
            <a:avLst/>
            <a:gdLst/>
            <a:ahLst/>
            <a:rect l="l" t="t" r="r" b="b"/>
            <a:pathLst>
              <a:path w="2356" h="325">
                <a:moveTo>
                  <a:pt x="0" y="184"/>
                </a:moveTo>
                <a:lnTo>
                  <a:pt x="21" y="233"/>
                </a:lnTo>
                <a:lnTo>
                  <a:pt x="43" y="260"/>
                </a:lnTo>
                <a:lnTo>
                  <a:pt x="70" y="260"/>
                </a:lnTo>
                <a:lnTo>
                  <a:pt x="92" y="266"/>
                </a:lnTo>
                <a:lnTo>
                  <a:pt x="113" y="266"/>
                </a:lnTo>
                <a:lnTo>
                  <a:pt x="140" y="287"/>
                </a:lnTo>
                <a:lnTo>
                  <a:pt x="162" y="309"/>
                </a:lnTo>
                <a:lnTo>
                  <a:pt x="184" y="325"/>
                </a:lnTo>
                <a:lnTo>
                  <a:pt x="211" y="325"/>
                </a:lnTo>
                <a:lnTo>
                  <a:pt x="232" y="325"/>
                </a:lnTo>
                <a:lnTo>
                  <a:pt x="254" y="325"/>
                </a:lnTo>
                <a:lnTo>
                  <a:pt x="281" y="320"/>
                </a:lnTo>
                <a:lnTo>
                  <a:pt x="303" y="325"/>
                </a:lnTo>
                <a:lnTo>
                  <a:pt x="325" y="320"/>
                </a:lnTo>
                <a:lnTo>
                  <a:pt x="352" y="320"/>
                </a:lnTo>
                <a:lnTo>
                  <a:pt x="373" y="320"/>
                </a:lnTo>
                <a:lnTo>
                  <a:pt x="395" y="314"/>
                </a:lnTo>
                <a:lnTo>
                  <a:pt x="422" y="309"/>
                </a:lnTo>
                <a:lnTo>
                  <a:pt x="444" y="309"/>
                </a:lnTo>
                <a:lnTo>
                  <a:pt x="465" y="303"/>
                </a:lnTo>
                <a:lnTo>
                  <a:pt x="493" y="293"/>
                </a:lnTo>
                <a:lnTo>
                  <a:pt x="514" y="287"/>
                </a:lnTo>
                <a:lnTo>
                  <a:pt x="536" y="282"/>
                </a:lnTo>
                <a:lnTo>
                  <a:pt x="563" y="271"/>
                </a:lnTo>
                <a:lnTo>
                  <a:pt x="585" y="266"/>
                </a:lnTo>
                <a:lnTo>
                  <a:pt x="606" y="260"/>
                </a:lnTo>
                <a:lnTo>
                  <a:pt x="633" y="249"/>
                </a:lnTo>
                <a:lnTo>
                  <a:pt x="655" y="249"/>
                </a:lnTo>
                <a:lnTo>
                  <a:pt x="677" y="244"/>
                </a:lnTo>
                <a:lnTo>
                  <a:pt x="704" y="238"/>
                </a:lnTo>
                <a:lnTo>
                  <a:pt x="725" y="233"/>
                </a:lnTo>
                <a:lnTo>
                  <a:pt x="747" y="233"/>
                </a:lnTo>
                <a:lnTo>
                  <a:pt x="774" y="228"/>
                </a:lnTo>
                <a:lnTo>
                  <a:pt x="796" y="222"/>
                </a:lnTo>
                <a:lnTo>
                  <a:pt x="818" y="222"/>
                </a:lnTo>
                <a:lnTo>
                  <a:pt x="845" y="217"/>
                </a:lnTo>
                <a:lnTo>
                  <a:pt x="866" y="211"/>
                </a:lnTo>
                <a:lnTo>
                  <a:pt x="888" y="206"/>
                </a:lnTo>
                <a:lnTo>
                  <a:pt x="915" y="201"/>
                </a:lnTo>
                <a:lnTo>
                  <a:pt x="937" y="195"/>
                </a:lnTo>
                <a:lnTo>
                  <a:pt x="958" y="195"/>
                </a:lnTo>
                <a:lnTo>
                  <a:pt x="986" y="190"/>
                </a:lnTo>
                <a:lnTo>
                  <a:pt x="1007" y="190"/>
                </a:lnTo>
                <a:lnTo>
                  <a:pt x="1029" y="184"/>
                </a:lnTo>
                <a:lnTo>
                  <a:pt x="1056" y="184"/>
                </a:lnTo>
                <a:lnTo>
                  <a:pt x="1078" y="179"/>
                </a:lnTo>
                <a:lnTo>
                  <a:pt x="1099" y="179"/>
                </a:lnTo>
                <a:lnTo>
                  <a:pt x="1126" y="179"/>
                </a:lnTo>
                <a:lnTo>
                  <a:pt x="1148" y="179"/>
                </a:lnTo>
                <a:lnTo>
                  <a:pt x="1170" y="179"/>
                </a:lnTo>
                <a:lnTo>
                  <a:pt x="1197" y="179"/>
                </a:lnTo>
                <a:lnTo>
                  <a:pt x="1219" y="179"/>
                </a:lnTo>
                <a:lnTo>
                  <a:pt x="1240" y="179"/>
                </a:lnTo>
                <a:lnTo>
                  <a:pt x="1267" y="179"/>
                </a:lnTo>
                <a:lnTo>
                  <a:pt x="1289" y="174"/>
                </a:lnTo>
                <a:lnTo>
                  <a:pt x="1311" y="174"/>
                </a:lnTo>
                <a:lnTo>
                  <a:pt x="1338" y="174"/>
                </a:lnTo>
                <a:lnTo>
                  <a:pt x="1359" y="174"/>
                </a:lnTo>
                <a:lnTo>
                  <a:pt x="1381" y="174"/>
                </a:lnTo>
                <a:lnTo>
                  <a:pt x="1408" y="168"/>
                </a:lnTo>
                <a:lnTo>
                  <a:pt x="1430" y="168"/>
                </a:lnTo>
                <a:lnTo>
                  <a:pt x="1451" y="163"/>
                </a:lnTo>
                <a:lnTo>
                  <a:pt x="1479" y="163"/>
                </a:lnTo>
                <a:lnTo>
                  <a:pt x="1500" y="125"/>
                </a:lnTo>
                <a:lnTo>
                  <a:pt x="1522" y="60"/>
                </a:lnTo>
                <a:lnTo>
                  <a:pt x="1549" y="54"/>
                </a:lnTo>
                <a:lnTo>
                  <a:pt x="1571" y="49"/>
                </a:lnTo>
                <a:lnTo>
                  <a:pt x="1592" y="44"/>
                </a:lnTo>
                <a:lnTo>
                  <a:pt x="1619" y="38"/>
                </a:lnTo>
                <a:lnTo>
                  <a:pt x="1641" y="38"/>
                </a:lnTo>
                <a:lnTo>
                  <a:pt x="1663" y="44"/>
                </a:lnTo>
                <a:lnTo>
                  <a:pt x="1690" y="38"/>
                </a:lnTo>
                <a:lnTo>
                  <a:pt x="1712" y="49"/>
                </a:lnTo>
                <a:lnTo>
                  <a:pt x="1733" y="49"/>
                </a:lnTo>
                <a:lnTo>
                  <a:pt x="1760" y="54"/>
                </a:lnTo>
                <a:lnTo>
                  <a:pt x="1782" y="49"/>
                </a:lnTo>
                <a:lnTo>
                  <a:pt x="1804" y="49"/>
                </a:lnTo>
                <a:lnTo>
                  <a:pt x="1831" y="49"/>
                </a:lnTo>
                <a:lnTo>
                  <a:pt x="1852" y="44"/>
                </a:lnTo>
                <a:lnTo>
                  <a:pt x="1874" y="44"/>
                </a:lnTo>
                <a:lnTo>
                  <a:pt x="1901" y="44"/>
                </a:lnTo>
                <a:lnTo>
                  <a:pt x="1923" y="38"/>
                </a:lnTo>
                <a:lnTo>
                  <a:pt x="1945" y="38"/>
                </a:lnTo>
                <a:lnTo>
                  <a:pt x="1972" y="44"/>
                </a:lnTo>
                <a:lnTo>
                  <a:pt x="1993" y="38"/>
                </a:lnTo>
                <a:lnTo>
                  <a:pt x="2015" y="38"/>
                </a:lnTo>
                <a:lnTo>
                  <a:pt x="2042" y="38"/>
                </a:lnTo>
                <a:lnTo>
                  <a:pt x="2064" y="38"/>
                </a:lnTo>
                <a:lnTo>
                  <a:pt x="2085" y="33"/>
                </a:lnTo>
                <a:lnTo>
                  <a:pt x="2112" y="38"/>
                </a:lnTo>
                <a:lnTo>
                  <a:pt x="2134" y="33"/>
                </a:lnTo>
                <a:lnTo>
                  <a:pt x="2156" y="33"/>
                </a:lnTo>
                <a:lnTo>
                  <a:pt x="2183" y="27"/>
                </a:lnTo>
                <a:lnTo>
                  <a:pt x="2205" y="27"/>
                </a:lnTo>
                <a:lnTo>
                  <a:pt x="2226" y="22"/>
                </a:lnTo>
                <a:lnTo>
                  <a:pt x="2253" y="22"/>
                </a:lnTo>
                <a:lnTo>
                  <a:pt x="2275" y="17"/>
                </a:lnTo>
                <a:lnTo>
                  <a:pt x="2297" y="11"/>
                </a:lnTo>
                <a:lnTo>
                  <a:pt x="2324" y="11"/>
                </a:lnTo>
                <a:lnTo>
                  <a:pt x="2345" y="0"/>
                </a:lnTo>
                <a:lnTo>
                  <a:pt x="235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95880" y="615780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16200000">
            <a:off x="1944360" y="534996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(de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54280" y="4757760"/>
            <a:ext cx="3740040" cy="892080"/>
          </a:xfrm>
          <a:custGeom>
            <a:avLst/>
            <a:gdLst/>
            <a:ahLst/>
            <a:rect l="l" t="t" r="r" b="b"/>
            <a:pathLst>
              <a:path w="2356" h="562">
                <a:moveTo>
                  <a:pt x="0" y="562"/>
                </a:moveTo>
                <a:lnTo>
                  <a:pt x="21" y="503"/>
                </a:lnTo>
                <a:lnTo>
                  <a:pt x="43" y="460"/>
                </a:lnTo>
                <a:lnTo>
                  <a:pt x="70" y="443"/>
                </a:lnTo>
                <a:lnTo>
                  <a:pt x="92" y="432"/>
                </a:lnTo>
                <a:lnTo>
                  <a:pt x="113" y="432"/>
                </a:lnTo>
                <a:lnTo>
                  <a:pt x="140" y="449"/>
                </a:lnTo>
                <a:lnTo>
                  <a:pt x="162" y="460"/>
                </a:lnTo>
                <a:lnTo>
                  <a:pt x="184" y="476"/>
                </a:lnTo>
                <a:lnTo>
                  <a:pt x="211" y="476"/>
                </a:lnTo>
                <a:lnTo>
                  <a:pt x="232" y="476"/>
                </a:lnTo>
                <a:lnTo>
                  <a:pt x="254" y="470"/>
                </a:lnTo>
                <a:lnTo>
                  <a:pt x="281" y="470"/>
                </a:lnTo>
                <a:lnTo>
                  <a:pt x="303" y="465"/>
                </a:lnTo>
                <a:lnTo>
                  <a:pt x="325" y="465"/>
                </a:lnTo>
                <a:lnTo>
                  <a:pt x="352" y="465"/>
                </a:lnTo>
                <a:lnTo>
                  <a:pt x="373" y="460"/>
                </a:lnTo>
                <a:lnTo>
                  <a:pt x="395" y="460"/>
                </a:lnTo>
                <a:lnTo>
                  <a:pt x="422" y="454"/>
                </a:lnTo>
                <a:lnTo>
                  <a:pt x="444" y="449"/>
                </a:lnTo>
                <a:lnTo>
                  <a:pt x="465" y="443"/>
                </a:lnTo>
                <a:lnTo>
                  <a:pt x="493" y="438"/>
                </a:lnTo>
                <a:lnTo>
                  <a:pt x="514" y="432"/>
                </a:lnTo>
                <a:lnTo>
                  <a:pt x="536" y="422"/>
                </a:lnTo>
                <a:lnTo>
                  <a:pt x="563" y="416"/>
                </a:lnTo>
                <a:lnTo>
                  <a:pt x="585" y="405"/>
                </a:lnTo>
                <a:lnTo>
                  <a:pt x="606" y="400"/>
                </a:lnTo>
                <a:lnTo>
                  <a:pt x="633" y="395"/>
                </a:lnTo>
                <a:lnTo>
                  <a:pt x="655" y="389"/>
                </a:lnTo>
                <a:lnTo>
                  <a:pt x="677" y="384"/>
                </a:lnTo>
                <a:lnTo>
                  <a:pt x="704" y="378"/>
                </a:lnTo>
                <a:lnTo>
                  <a:pt x="725" y="373"/>
                </a:lnTo>
                <a:lnTo>
                  <a:pt x="747" y="368"/>
                </a:lnTo>
                <a:lnTo>
                  <a:pt x="774" y="368"/>
                </a:lnTo>
                <a:lnTo>
                  <a:pt x="796" y="362"/>
                </a:lnTo>
                <a:lnTo>
                  <a:pt x="818" y="357"/>
                </a:lnTo>
                <a:lnTo>
                  <a:pt x="845" y="351"/>
                </a:lnTo>
                <a:lnTo>
                  <a:pt x="866" y="346"/>
                </a:lnTo>
                <a:lnTo>
                  <a:pt x="888" y="340"/>
                </a:lnTo>
                <a:lnTo>
                  <a:pt x="915" y="335"/>
                </a:lnTo>
                <a:lnTo>
                  <a:pt x="937" y="330"/>
                </a:lnTo>
                <a:lnTo>
                  <a:pt x="958" y="330"/>
                </a:lnTo>
                <a:lnTo>
                  <a:pt x="986" y="324"/>
                </a:lnTo>
                <a:lnTo>
                  <a:pt x="1007" y="319"/>
                </a:lnTo>
                <a:lnTo>
                  <a:pt x="1029" y="319"/>
                </a:lnTo>
                <a:lnTo>
                  <a:pt x="1056" y="319"/>
                </a:lnTo>
                <a:lnTo>
                  <a:pt x="1078" y="313"/>
                </a:lnTo>
                <a:lnTo>
                  <a:pt x="1099" y="313"/>
                </a:lnTo>
                <a:lnTo>
                  <a:pt x="1126" y="313"/>
                </a:lnTo>
                <a:lnTo>
                  <a:pt x="1148" y="313"/>
                </a:lnTo>
                <a:lnTo>
                  <a:pt x="1170" y="313"/>
                </a:lnTo>
                <a:lnTo>
                  <a:pt x="1197" y="313"/>
                </a:lnTo>
                <a:lnTo>
                  <a:pt x="1219" y="313"/>
                </a:lnTo>
                <a:lnTo>
                  <a:pt x="1240" y="313"/>
                </a:lnTo>
                <a:lnTo>
                  <a:pt x="1267" y="313"/>
                </a:lnTo>
                <a:lnTo>
                  <a:pt x="1289" y="313"/>
                </a:lnTo>
                <a:lnTo>
                  <a:pt x="1311" y="308"/>
                </a:lnTo>
                <a:lnTo>
                  <a:pt x="1338" y="308"/>
                </a:lnTo>
                <a:lnTo>
                  <a:pt x="1359" y="308"/>
                </a:lnTo>
                <a:lnTo>
                  <a:pt x="1381" y="308"/>
                </a:lnTo>
                <a:lnTo>
                  <a:pt x="1408" y="308"/>
                </a:lnTo>
                <a:lnTo>
                  <a:pt x="1430" y="308"/>
                </a:lnTo>
                <a:lnTo>
                  <a:pt x="1451" y="303"/>
                </a:lnTo>
                <a:lnTo>
                  <a:pt x="1479" y="297"/>
                </a:lnTo>
                <a:lnTo>
                  <a:pt x="1500" y="259"/>
                </a:lnTo>
                <a:lnTo>
                  <a:pt x="1522" y="194"/>
                </a:lnTo>
                <a:lnTo>
                  <a:pt x="1549" y="194"/>
                </a:lnTo>
                <a:lnTo>
                  <a:pt x="1571" y="184"/>
                </a:lnTo>
                <a:lnTo>
                  <a:pt x="1592" y="184"/>
                </a:lnTo>
                <a:lnTo>
                  <a:pt x="1619" y="178"/>
                </a:lnTo>
                <a:lnTo>
                  <a:pt x="1641" y="178"/>
                </a:lnTo>
                <a:lnTo>
                  <a:pt x="1663" y="184"/>
                </a:lnTo>
                <a:lnTo>
                  <a:pt x="1690" y="178"/>
                </a:lnTo>
                <a:lnTo>
                  <a:pt x="1712" y="189"/>
                </a:lnTo>
                <a:lnTo>
                  <a:pt x="1733" y="189"/>
                </a:lnTo>
                <a:lnTo>
                  <a:pt x="1760" y="194"/>
                </a:lnTo>
                <a:lnTo>
                  <a:pt x="1782" y="189"/>
                </a:lnTo>
                <a:lnTo>
                  <a:pt x="1804" y="194"/>
                </a:lnTo>
                <a:lnTo>
                  <a:pt x="1831" y="189"/>
                </a:lnTo>
                <a:lnTo>
                  <a:pt x="1852" y="189"/>
                </a:lnTo>
                <a:lnTo>
                  <a:pt x="1874" y="184"/>
                </a:lnTo>
                <a:lnTo>
                  <a:pt x="1901" y="184"/>
                </a:lnTo>
                <a:lnTo>
                  <a:pt x="1923" y="184"/>
                </a:lnTo>
                <a:lnTo>
                  <a:pt x="1945" y="178"/>
                </a:lnTo>
                <a:lnTo>
                  <a:pt x="1972" y="184"/>
                </a:lnTo>
                <a:lnTo>
                  <a:pt x="1993" y="178"/>
                </a:lnTo>
                <a:lnTo>
                  <a:pt x="2015" y="178"/>
                </a:lnTo>
                <a:lnTo>
                  <a:pt x="2042" y="178"/>
                </a:lnTo>
                <a:lnTo>
                  <a:pt x="2064" y="178"/>
                </a:lnTo>
                <a:lnTo>
                  <a:pt x="2085" y="173"/>
                </a:lnTo>
                <a:lnTo>
                  <a:pt x="2112" y="167"/>
                </a:lnTo>
                <a:lnTo>
                  <a:pt x="2134" y="162"/>
                </a:lnTo>
                <a:lnTo>
                  <a:pt x="2156" y="156"/>
                </a:lnTo>
                <a:lnTo>
                  <a:pt x="2183" y="146"/>
                </a:lnTo>
                <a:lnTo>
                  <a:pt x="2205" y="129"/>
                </a:lnTo>
                <a:lnTo>
                  <a:pt x="2226" y="119"/>
                </a:lnTo>
                <a:lnTo>
                  <a:pt x="2253" y="92"/>
                </a:lnTo>
                <a:lnTo>
                  <a:pt x="2275" y="70"/>
                </a:lnTo>
                <a:lnTo>
                  <a:pt x="2297" y="48"/>
                </a:lnTo>
                <a:lnTo>
                  <a:pt x="2324" y="27"/>
                </a:lnTo>
                <a:lnTo>
                  <a:pt x="2345" y="5"/>
                </a:lnTo>
                <a:lnTo>
                  <a:pt x="2356" y="0"/>
                </a:lnTo>
              </a:path>
            </a:pathLst>
          </a:custGeom>
          <a:noFill/>
          <a:ln w="2844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259240" y="312408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ens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258880" y="3305160"/>
            <a:ext cx="101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compens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86200" y="3193920"/>
            <a:ext cx="39528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03840" y="3365640"/>
            <a:ext cx="377640" cy="1440"/>
          </a:xfrm>
          <a:prstGeom prst="line">
            <a:avLst/>
          </a:prstGeom>
          <a:ln w="2844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600" y="444816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661480" y="22860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Effectiv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6440" y="1371600"/>
            <a:ext cx="726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manufacturer specifications for parameter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 radius and focal length in transduc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always lead to good agreement with experi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 rot="8098200">
            <a:off x="3387240" y="3848760"/>
            <a:ext cx="1066320" cy="106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111040" y="4016520"/>
            <a:ext cx="14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108160" y="4759200"/>
            <a:ext cx="1419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111400" y="4016520"/>
            <a:ext cx="144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06680" y="43704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6320" y="402912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532320" y="3849840"/>
            <a:ext cx="244764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2971800" y="3151080"/>
            <a:ext cx="2177640" cy="322560"/>
            <a:chOff x="2971800" y="3151080"/>
            <a:chExt cx="2177640" cy="322560"/>
          </a:xfrm>
        </p:grpSpPr>
        <p:grpSp>
          <p:nvGrpSpPr>
            <p:cNvPr id="670" name=""/>
            <p:cNvGrpSpPr/>
            <p:nvPr/>
          </p:nvGrpSpPr>
          <p:grpSpPr>
            <a:xfrm>
              <a:off x="2971800" y="3151080"/>
              <a:ext cx="866520" cy="313200"/>
              <a:chOff x="2971800" y="3151080"/>
              <a:chExt cx="866520" cy="313200"/>
            </a:xfrm>
          </p:grpSpPr>
          <p:sp>
            <p:nvSpPr>
              <p:cNvPr id="671" name=""/>
              <p:cNvSpPr/>
              <p:nvPr/>
            </p:nvSpPr>
            <p:spPr>
              <a:xfrm flipV="1">
                <a:off x="2971800" y="31507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3400560" y="31604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3859200" y="3160440"/>
              <a:ext cx="866520" cy="313200"/>
              <a:chOff x="3859200" y="3160440"/>
              <a:chExt cx="866520" cy="313200"/>
            </a:xfrm>
          </p:grpSpPr>
          <p:sp>
            <p:nvSpPr>
              <p:cNvPr id="674" name=""/>
              <p:cNvSpPr/>
              <p:nvPr/>
            </p:nvSpPr>
            <p:spPr>
              <a:xfrm flipV="1">
                <a:off x="3859200" y="316008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4287960" y="316980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3429000" y="3151080"/>
              <a:ext cx="866520" cy="313200"/>
              <a:chOff x="3429000" y="3151080"/>
              <a:chExt cx="866520" cy="313200"/>
            </a:xfrm>
          </p:grpSpPr>
          <p:sp>
            <p:nvSpPr>
              <p:cNvPr id="677" name=""/>
              <p:cNvSpPr/>
              <p:nvPr/>
            </p:nvSpPr>
            <p:spPr>
              <a:xfrm flipV="1">
                <a:off x="3429000" y="31507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>
                <a:off x="3857760" y="31604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282920" y="3157200"/>
              <a:ext cx="866520" cy="313200"/>
              <a:chOff x="4282920" y="3157200"/>
              <a:chExt cx="866520" cy="31320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4282920" y="31568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>
                <a:off x="4711680" y="316656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2" name=""/>
          <p:cNvSpPr/>
          <p:nvPr/>
        </p:nvSpPr>
        <p:spPr>
          <a:xfrm flipH="1">
            <a:off x="2806560" y="4383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3054240" y="4017600"/>
            <a:ext cx="3240" cy="3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52480" y="392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94480" y="37368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5960" y="522288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we need to determine experimentally "effective"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se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737800" y="22860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Effectiv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921240" y="800280"/>
            <a:ext cx="74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radius for an unfocused (piston) immersion 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247840" y="1409400"/>
            <a:ext cx="2177640" cy="322560"/>
            <a:chOff x="2247840" y="1409400"/>
            <a:chExt cx="2177640" cy="322560"/>
          </a:xfrm>
        </p:grpSpPr>
        <p:grpSp>
          <p:nvGrpSpPr>
            <p:cNvPr id="691" name=""/>
            <p:cNvGrpSpPr/>
            <p:nvPr/>
          </p:nvGrpSpPr>
          <p:grpSpPr>
            <a:xfrm>
              <a:off x="2247840" y="1409400"/>
              <a:ext cx="866520" cy="313200"/>
              <a:chOff x="2247840" y="1409400"/>
              <a:chExt cx="866520" cy="313200"/>
            </a:xfrm>
          </p:grpSpPr>
          <p:sp>
            <p:nvSpPr>
              <p:cNvPr id="692" name=""/>
              <p:cNvSpPr/>
              <p:nvPr/>
            </p:nvSpPr>
            <p:spPr>
              <a:xfrm flipV="1">
                <a:off x="2247840" y="14090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>
                <a:off x="2676600" y="141876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3135240" y="1418760"/>
              <a:ext cx="866520" cy="313200"/>
              <a:chOff x="3135240" y="1418760"/>
              <a:chExt cx="866520" cy="313200"/>
            </a:xfrm>
          </p:grpSpPr>
          <p:sp>
            <p:nvSpPr>
              <p:cNvPr id="695" name=""/>
              <p:cNvSpPr/>
              <p:nvPr/>
            </p:nvSpPr>
            <p:spPr>
              <a:xfrm flipV="1">
                <a:off x="3135240" y="141840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flipV="1">
                <a:off x="3564000" y="142812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2705040" y="1409400"/>
              <a:ext cx="866520" cy="313200"/>
              <a:chOff x="2705040" y="1409400"/>
              <a:chExt cx="866520" cy="313200"/>
            </a:xfrm>
          </p:grpSpPr>
          <p:sp>
            <p:nvSpPr>
              <p:cNvPr id="698" name=""/>
              <p:cNvSpPr/>
              <p:nvPr/>
            </p:nvSpPr>
            <p:spPr>
              <a:xfrm flipV="1">
                <a:off x="2705040" y="14090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3133800" y="141876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3558960" y="1415520"/>
              <a:ext cx="866520" cy="313200"/>
              <a:chOff x="3558960" y="1415520"/>
              <a:chExt cx="866520" cy="313200"/>
            </a:xfrm>
          </p:grpSpPr>
          <p:sp>
            <p:nvSpPr>
              <p:cNvPr id="701" name=""/>
              <p:cNvSpPr/>
              <p:nvPr/>
            </p:nvSpPr>
            <p:spPr>
              <a:xfrm flipV="1">
                <a:off x="3558960" y="141516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3987720" y="142488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930240" y="2171880"/>
            <a:ext cx="604800" cy="475920"/>
          </a:xfrm>
          <a:custGeom>
            <a:avLst/>
            <a:gdLst/>
            <a:ahLst/>
            <a:rect l="l" t="t" r="r" b="b"/>
            <a:pathLst>
              <a:path w="449" h="303">
                <a:moveTo>
                  <a:pt x="449" y="297"/>
                </a:moveTo>
                <a:cubicBezTo>
                  <a:pt x="287" y="287"/>
                  <a:pt x="351" y="303"/>
                  <a:pt x="254" y="271"/>
                </a:cubicBezTo>
                <a:cubicBezTo>
                  <a:pt x="225" y="261"/>
                  <a:pt x="203" y="237"/>
                  <a:pt x="178" y="220"/>
                </a:cubicBezTo>
                <a:cubicBezTo>
                  <a:pt x="170" y="214"/>
                  <a:pt x="153" y="203"/>
                  <a:pt x="153" y="203"/>
                </a:cubicBezTo>
                <a:cubicBezTo>
                  <a:pt x="147" y="195"/>
                  <a:pt x="143" y="185"/>
                  <a:pt x="136" y="178"/>
                </a:cubicBezTo>
                <a:cubicBezTo>
                  <a:pt x="129" y="171"/>
                  <a:pt x="117" y="169"/>
                  <a:pt x="110" y="161"/>
                </a:cubicBezTo>
                <a:cubicBezTo>
                  <a:pt x="104" y="154"/>
                  <a:pt x="107" y="143"/>
                  <a:pt x="102" y="136"/>
                </a:cubicBezTo>
                <a:cubicBezTo>
                  <a:pt x="93" y="123"/>
                  <a:pt x="78" y="115"/>
                  <a:pt x="68" y="102"/>
                </a:cubicBezTo>
                <a:cubicBezTo>
                  <a:pt x="25" y="44"/>
                  <a:pt x="79" y="87"/>
                  <a:pt x="26" y="51"/>
                </a:cubicBezTo>
                <a:cubicBezTo>
                  <a:pt x="21" y="36"/>
                  <a:pt x="18" y="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35360" y="2629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52960" y="24908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70240" y="261144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254720" y="262908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30840" y="156204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45240" y="1916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60960" y="1752480"/>
            <a:ext cx="266760" cy="327240"/>
          </a:xfrm>
          <a:custGeom>
            <a:avLst/>
            <a:gdLst/>
            <a:ahLst/>
            <a:rect l="l" t="t" r="r" b="b"/>
            <a:pathLst>
              <a:path w="168" h="206">
                <a:moveTo>
                  <a:pt x="0" y="108"/>
                </a:moveTo>
                <a:cubicBezTo>
                  <a:pt x="55" y="102"/>
                  <a:pt x="21" y="105"/>
                  <a:pt x="52" y="84"/>
                </a:cubicBezTo>
                <a:cubicBezTo>
                  <a:pt x="64" y="121"/>
                  <a:pt x="42" y="187"/>
                  <a:pt x="80" y="200"/>
                </a:cubicBezTo>
                <a:cubicBezTo>
                  <a:pt x="99" y="142"/>
                  <a:pt x="81" y="202"/>
                  <a:pt x="88" y="44"/>
                </a:cubicBezTo>
                <a:cubicBezTo>
                  <a:pt x="89" y="23"/>
                  <a:pt x="88" y="7"/>
                  <a:pt x="108" y="0"/>
                </a:cubicBezTo>
                <a:cubicBezTo>
                  <a:pt x="114" y="17"/>
                  <a:pt x="117" y="34"/>
                  <a:pt x="120" y="52"/>
                </a:cubicBezTo>
                <a:cubicBezTo>
                  <a:pt x="121" y="101"/>
                  <a:pt x="119" y="151"/>
                  <a:pt x="124" y="200"/>
                </a:cubicBezTo>
                <a:cubicBezTo>
                  <a:pt x="125" y="206"/>
                  <a:pt x="138" y="198"/>
                  <a:pt x="140" y="192"/>
                </a:cubicBezTo>
                <a:cubicBezTo>
                  <a:pt x="141" y="164"/>
                  <a:pt x="141" y="136"/>
                  <a:pt x="144" y="108"/>
                </a:cubicBezTo>
                <a:cubicBezTo>
                  <a:pt x="146" y="94"/>
                  <a:pt x="168" y="90"/>
                  <a:pt x="16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54720" y="3009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232760" y="2698920"/>
            <a:ext cx="917640" cy="322200"/>
          </a:xfrm>
          <a:custGeom>
            <a:avLst/>
            <a:gdLst/>
            <a:ahLst/>
            <a:rect l="l" t="t" r="r" b="b"/>
            <a:pathLst>
              <a:path w="578" h="203">
                <a:moveTo>
                  <a:pt x="22" y="196"/>
                </a:moveTo>
                <a:cubicBezTo>
                  <a:pt x="62" y="183"/>
                  <a:pt x="0" y="203"/>
                  <a:pt x="50" y="188"/>
                </a:cubicBezTo>
                <a:cubicBezTo>
                  <a:pt x="58" y="186"/>
                  <a:pt x="74" y="180"/>
                  <a:pt x="74" y="180"/>
                </a:cubicBezTo>
                <a:cubicBezTo>
                  <a:pt x="82" y="168"/>
                  <a:pt x="106" y="152"/>
                  <a:pt x="106" y="152"/>
                </a:cubicBezTo>
                <a:cubicBezTo>
                  <a:pt x="116" y="123"/>
                  <a:pt x="136" y="103"/>
                  <a:pt x="154" y="80"/>
                </a:cubicBezTo>
                <a:cubicBezTo>
                  <a:pt x="176" y="51"/>
                  <a:pt x="159" y="60"/>
                  <a:pt x="182" y="52"/>
                </a:cubicBezTo>
                <a:cubicBezTo>
                  <a:pt x="195" y="32"/>
                  <a:pt x="217" y="18"/>
                  <a:pt x="238" y="8"/>
                </a:cubicBezTo>
                <a:cubicBezTo>
                  <a:pt x="246" y="5"/>
                  <a:pt x="262" y="0"/>
                  <a:pt x="262" y="0"/>
                </a:cubicBezTo>
                <a:cubicBezTo>
                  <a:pt x="296" y="4"/>
                  <a:pt x="295" y="2"/>
                  <a:pt x="318" y="20"/>
                </a:cubicBezTo>
                <a:cubicBezTo>
                  <a:pt x="326" y="26"/>
                  <a:pt x="342" y="36"/>
                  <a:pt x="342" y="36"/>
                </a:cubicBezTo>
                <a:cubicBezTo>
                  <a:pt x="351" y="50"/>
                  <a:pt x="360" y="59"/>
                  <a:pt x="374" y="68"/>
                </a:cubicBezTo>
                <a:cubicBezTo>
                  <a:pt x="382" y="91"/>
                  <a:pt x="372" y="70"/>
                  <a:pt x="390" y="88"/>
                </a:cubicBezTo>
                <a:cubicBezTo>
                  <a:pt x="400" y="98"/>
                  <a:pt x="407" y="115"/>
                  <a:pt x="418" y="124"/>
                </a:cubicBezTo>
                <a:cubicBezTo>
                  <a:pt x="450" y="152"/>
                  <a:pt x="487" y="163"/>
                  <a:pt x="526" y="176"/>
                </a:cubicBezTo>
                <a:cubicBezTo>
                  <a:pt x="542" y="181"/>
                  <a:pt x="561" y="192"/>
                  <a:pt x="57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725360" y="1523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545600" y="1981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711920" y="2704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950160" y="3068280"/>
            <a:ext cx="70308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89480" y="30862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93960" y="6083280"/>
            <a:ext cx="31590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93960" y="3546360"/>
            <a:ext cx="31590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893960" y="3546000"/>
            <a:ext cx="1440" cy="2536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052960" y="3546000"/>
            <a:ext cx="1800" cy="2536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893960" y="6051600"/>
            <a:ext cx="144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93960" y="3546360"/>
            <a:ext cx="1440" cy="33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69480" y="6111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2292480" y="6051600"/>
            <a:ext cx="144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92480" y="3546360"/>
            <a:ext cx="1440" cy="33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30920" y="6111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682720" y="6051600"/>
            <a:ext cx="180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82720" y="3546360"/>
            <a:ext cx="1800" cy="33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8600" y="6111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3083040" y="6051600"/>
            <a:ext cx="144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083040" y="3546360"/>
            <a:ext cx="1440" cy="33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21480" y="6111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3475080" y="6051600"/>
            <a:ext cx="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475080" y="3546360"/>
            <a:ext cx="0" cy="33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49160" y="6111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3873600" y="6051600"/>
            <a:ext cx="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73600" y="3546360"/>
            <a:ext cx="0" cy="33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10600" y="6111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4264200" y="6051600"/>
            <a:ext cx="144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64200" y="3546360"/>
            <a:ext cx="1440" cy="33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239720" y="6111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664160" y="6051600"/>
            <a:ext cx="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664160" y="3546360"/>
            <a:ext cx="0" cy="33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601160" y="6111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052960" y="6051600"/>
            <a:ext cx="180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52960" y="3546360"/>
            <a:ext cx="1800" cy="33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030280" y="6111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893960" y="6083280"/>
            <a:ext cx="31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021280" y="6083280"/>
            <a:ext cx="31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707480" y="60390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893960" y="5832360"/>
            <a:ext cx="31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021280" y="5832360"/>
            <a:ext cx="31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35480" y="57862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93960" y="5573880"/>
            <a:ext cx="31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5021280" y="5573880"/>
            <a:ext cx="31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635480" y="55278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93960" y="5322960"/>
            <a:ext cx="316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5021280" y="5322960"/>
            <a:ext cx="316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635480" y="52768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93960" y="5072040"/>
            <a:ext cx="316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021280" y="5072040"/>
            <a:ext cx="316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35480" y="50259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93960" y="4819680"/>
            <a:ext cx="316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5021280" y="4819680"/>
            <a:ext cx="316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07480" y="47750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93960" y="4559400"/>
            <a:ext cx="31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5021280" y="4559400"/>
            <a:ext cx="31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635480" y="45165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893960" y="4308480"/>
            <a:ext cx="31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5021280" y="4308480"/>
            <a:ext cx="31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35480" y="4264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93960" y="4057560"/>
            <a:ext cx="31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5021280" y="4057560"/>
            <a:ext cx="31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35480" y="40132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93960" y="3798720"/>
            <a:ext cx="316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5021280" y="3798720"/>
            <a:ext cx="316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35480" y="37530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893960" y="3546360"/>
            <a:ext cx="31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021280" y="3546360"/>
            <a:ext cx="31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07480" y="3502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052720" y="3546360"/>
            <a:ext cx="1779480" cy="2505240"/>
          </a:xfrm>
          <a:custGeom>
            <a:avLst/>
            <a:gdLst/>
            <a:ahLst/>
            <a:rect l="l" t="t" r="r" b="b"/>
            <a:pathLst>
              <a:path w="1519" h="2105">
                <a:moveTo>
                  <a:pt x="0" y="13"/>
                </a:moveTo>
                <a:lnTo>
                  <a:pt x="7" y="156"/>
                </a:lnTo>
                <a:lnTo>
                  <a:pt x="7" y="422"/>
                </a:lnTo>
                <a:lnTo>
                  <a:pt x="14" y="776"/>
                </a:lnTo>
                <a:lnTo>
                  <a:pt x="20" y="1178"/>
                </a:lnTo>
                <a:lnTo>
                  <a:pt x="27" y="1601"/>
                </a:lnTo>
                <a:lnTo>
                  <a:pt x="27" y="2023"/>
                </a:lnTo>
                <a:lnTo>
                  <a:pt x="34" y="1846"/>
                </a:lnTo>
                <a:lnTo>
                  <a:pt x="41" y="1478"/>
                </a:lnTo>
                <a:lnTo>
                  <a:pt x="48" y="1151"/>
                </a:lnTo>
                <a:lnTo>
                  <a:pt x="48" y="865"/>
                </a:lnTo>
                <a:lnTo>
                  <a:pt x="54" y="627"/>
                </a:lnTo>
                <a:lnTo>
                  <a:pt x="61" y="429"/>
                </a:lnTo>
                <a:lnTo>
                  <a:pt x="68" y="272"/>
                </a:lnTo>
                <a:lnTo>
                  <a:pt x="68" y="150"/>
                </a:lnTo>
                <a:lnTo>
                  <a:pt x="75" y="68"/>
                </a:lnTo>
                <a:lnTo>
                  <a:pt x="82" y="20"/>
                </a:lnTo>
                <a:lnTo>
                  <a:pt x="88" y="0"/>
                </a:lnTo>
                <a:lnTo>
                  <a:pt x="88" y="7"/>
                </a:lnTo>
                <a:lnTo>
                  <a:pt x="95" y="34"/>
                </a:lnTo>
                <a:lnTo>
                  <a:pt x="102" y="82"/>
                </a:lnTo>
                <a:lnTo>
                  <a:pt x="109" y="143"/>
                </a:lnTo>
                <a:lnTo>
                  <a:pt x="109" y="218"/>
                </a:lnTo>
                <a:lnTo>
                  <a:pt x="116" y="306"/>
                </a:lnTo>
                <a:lnTo>
                  <a:pt x="123" y="402"/>
                </a:lnTo>
                <a:lnTo>
                  <a:pt x="129" y="504"/>
                </a:lnTo>
                <a:lnTo>
                  <a:pt x="129" y="613"/>
                </a:lnTo>
                <a:lnTo>
                  <a:pt x="136" y="729"/>
                </a:lnTo>
                <a:lnTo>
                  <a:pt x="143" y="845"/>
                </a:lnTo>
                <a:lnTo>
                  <a:pt x="150" y="967"/>
                </a:lnTo>
                <a:lnTo>
                  <a:pt x="150" y="1083"/>
                </a:lnTo>
                <a:lnTo>
                  <a:pt x="157" y="1206"/>
                </a:lnTo>
                <a:lnTo>
                  <a:pt x="163" y="1321"/>
                </a:lnTo>
                <a:lnTo>
                  <a:pt x="170" y="1444"/>
                </a:lnTo>
                <a:lnTo>
                  <a:pt x="170" y="1560"/>
                </a:lnTo>
                <a:lnTo>
                  <a:pt x="177" y="1676"/>
                </a:lnTo>
                <a:lnTo>
                  <a:pt x="184" y="1785"/>
                </a:lnTo>
                <a:lnTo>
                  <a:pt x="191" y="1894"/>
                </a:lnTo>
                <a:lnTo>
                  <a:pt x="191" y="2003"/>
                </a:lnTo>
                <a:lnTo>
                  <a:pt x="197" y="2105"/>
                </a:lnTo>
                <a:lnTo>
                  <a:pt x="204" y="2057"/>
                </a:lnTo>
                <a:lnTo>
                  <a:pt x="211" y="1962"/>
                </a:lnTo>
                <a:lnTo>
                  <a:pt x="211" y="1866"/>
                </a:lnTo>
                <a:lnTo>
                  <a:pt x="218" y="1771"/>
                </a:lnTo>
                <a:lnTo>
                  <a:pt x="225" y="1682"/>
                </a:lnTo>
                <a:lnTo>
                  <a:pt x="232" y="1601"/>
                </a:lnTo>
                <a:lnTo>
                  <a:pt x="232" y="1519"/>
                </a:lnTo>
                <a:lnTo>
                  <a:pt x="238" y="1437"/>
                </a:lnTo>
                <a:lnTo>
                  <a:pt x="245" y="1362"/>
                </a:lnTo>
                <a:lnTo>
                  <a:pt x="252" y="1294"/>
                </a:lnTo>
                <a:lnTo>
                  <a:pt x="252" y="1219"/>
                </a:lnTo>
                <a:lnTo>
                  <a:pt x="259" y="1158"/>
                </a:lnTo>
                <a:lnTo>
                  <a:pt x="266" y="1090"/>
                </a:lnTo>
                <a:lnTo>
                  <a:pt x="272" y="1028"/>
                </a:lnTo>
                <a:lnTo>
                  <a:pt x="279" y="974"/>
                </a:lnTo>
                <a:lnTo>
                  <a:pt x="279" y="913"/>
                </a:lnTo>
                <a:lnTo>
                  <a:pt x="286" y="865"/>
                </a:lnTo>
                <a:lnTo>
                  <a:pt x="293" y="810"/>
                </a:lnTo>
                <a:lnTo>
                  <a:pt x="300" y="763"/>
                </a:lnTo>
                <a:lnTo>
                  <a:pt x="300" y="715"/>
                </a:lnTo>
                <a:lnTo>
                  <a:pt x="306" y="674"/>
                </a:lnTo>
                <a:lnTo>
                  <a:pt x="313" y="633"/>
                </a:lnTo>
                <a:lnTo>
                  <a:pt x="320" y="592"/>
                </a:lnTo>
                <a:lnTo>
                  <a:pt x="320" y="552"/>
                </a:lnTo>
                <a:lnTo>
                  <a:pt x="327" y="518"/>
                </a:lnTo>
                <a:lnTo>
                  <a:pt x="334" y="483"/>
                </a:lnTo>
                <a:lnTo>
                  <a:pt x="341" y="449"/>
                </a:lnTo>
                <a:lnTo>
                  <a:pt x="341" y="422"/>
                </a:lnTo>
                <a:lnTo>
                  <a:pt x="347" y="388"/>
                </a:lnTo>
                <a:lnTo>
                  <a:pt x="354" y="361"/>
                </a:lnTo>
                <a:lnTo>
                  <a:pt x="361" y="334"/>
                </a:lnTo>
                <a:lnTo>
                  <a:pt x="361" y="313"/>
                </a:lnTo>
                <a:lnTo>
                  <a:pt x="368" y="286"/>
                </a:lnTo>
                <a:lnTo>
                  <a:pt x="375" y="265"/>
                </a:lnTo>
                <a:lnTo>
                  <a:pt x="381" y="245"/>
                </a:lnTo>
                <a:lnTo>
                  <a:pt x="381" y="225"/>
                </a:lnTo>
                <a:lnTo>
                  <a:pt x="388" y="204"/>
                </a:lnTo>
                <a:lnTo>
                  <a:pt x="395" y="191"/>
                </a:lnTo>
                <a:lnTo>
                  <a:pt x="402" y="170"/>
                </a:lnTo>
                <a:lnTo>
                  <a:pt x="402" y="156"/>
                </a:lnTo>
                <a:lnTo>
                  <a:pt x="409" y="143"/>
                </a:lnTo>
                <a:lnTo>
                  <a:pt x="415" y="129"/>
                </a:lnTo>
                <a:lnTo>
                  <a:pt x="422" y="116"/>
                </a:lnTo>
                <a:lnTo>
                  <a:pt x="422" y="102"/>
                </a:lnTo>
                <a:lnTo>
                  <a:pt x="429" y="95"/>
                </a:lnTo>
                <a:lnTo>
                  <a:pt x="436" y="82"/>
                </a:lnTo>
                <a:lnTo>
                  <a:pt x="443" y="75"/>
                </a:lnTo>
                <a:lnTo>
                  <a:pt x="443" y="68"/>
                </a:lnTo>
                <a:lnTo>
                  <a:pt x="450" y="54"/>
                </a:lnTo>
                <a:lnTo>
                  <a:pt x="456" y="47"/>
                </a:lnTo>
                <a:lnTo>
                  <a:pt x="463" y="41"/>
                </a:lnTo>
                <a:lnTo>
                  <a:pt x="470" y="34"/>
                </a:lnTo>
                <a:lnTo>
                  <a:pt x="477" y="27"/>
                </a:lnTo>
                <a:lnTo>
                  <a:pt x="484" y="20"/>
                </a:lnTo>
                <a:lnTo>
                  <a:pt x="490" y="13"/>
                </a:lnTo>
                <a:lnTo>
                  <a:pt x="497" y="13"/>
                </a:lnTo>
                <a:lnTo>
                  <a:pt x="504" y="7"/>
                </a:lnTo>
                <a:lnTo>
                  <a:pt x="511" y="7"/>
                </a:lnTo>
                <a:lnTo>
                  <a:pt x="518" y="0"/>
                </a:lnTo>
                <a:lnTo>
                  <a:pt x="524" y="0"/>
                </a:lnTo>
                <a:lnTo>
                  <a:pt x="531" y="0"/>
                </a:lnTo>
                <a:lnTo>
                  <a:pt x="538" y="0"/>
                </a:lnTo>
                <a:lnTo>
                  <a:pt x="545" y="0"/>
                </a:lnTo>
                <a:lnTo>
                  <a:pt x="552" y="0"/>
                </a:lnTo>
                <a:lnTo>
                  <a:pt x="559" y="0"/>
                </a:lnTo>
                <a:lnTo>
                  <a:pt x="565" y="7"/>
                </a:lnTo>
                <a:lnTo>
                  <a:pt x="572" y="7"/>
                </a:lnTo>
                <a:lnTo>
                  <a:pt x="579" y="7"/>
                </a:lnTo>
                <a:lnTo>
                  <a:pt x="586" y="13"/>
                </a:lnTo>
                <a:lnTo>
                  <a:pt x="593" y="13"/>
                </a:lnTo>
                <a:lnTo>
                  <a:pt x="599" y="20"/>
                </a:lnTo>
                <a:lnTo>
                  <a:pt x="606" y="20"/>
                </a:lnTo>
                <a:lnTo>
                  <a:pt x="613" y="27"/>
                </a:lnTo>
                <a:lnTo>
                  <a:pt x="620" y="34"/>
                </a:lnTo>
                <a:lnTo>
                  <a:pt x="627" y="34"/>
                </a:lnTo>
                <a:lnTo>
                  <a:pt x="633" y="41"/>
                </a:lnTo>
                <a:lnTo>
                  <a:pt x="640" y="47"/>
                </a:lnTo>
                <a:lnTo>
                  <a:pt x="647" y="47"/>
                </a:lnTo>
                <a:lnTo>
                  <a:pt x="654" y="54"/>
                </a:lnTo>
                <a:lnTo>
                  <a:pt x="661" y="61"/>
                </a:lnTo>
                <a:lnTo>
                  <a:pt x="668" y="68"/>
                </a:lnTo>
                <a:lnTo>
                  <a:pt x="674" y="75"/>
                </a:lnTo>
                <a:lnTo>
                  <a:pt x="681" y="82"/>
                </a:lnTo>
                <a:lnTo>
                  <a:pt x="688" y="88"/>
                </a:lnTo>
                <a:lnTo>
                  <a:pt x="695" y="95"/>
                </a:lnTo>
                <a:lnTo>
                  <a:pt x="702" y="102"/>
                </a:lnTo>
                <a:lnTo>
                  <a:pt x="708" y="102"/>
                </a:lnTo>
                <a:lnTo>
                  <a:pt x="715" y="109"/>
                </a:lnTo>
                <a:lnTo>
                  <a:pt x="715" y="116"/>
                </a:lnTo>
                <a:lnTo>
                  <a:pt x="722" y="122"/>
                </a:lnTo>
                <a:lnTo>
                  <a:pt x="729" y="122"/>
                </a:lnTo>
                <a:lnTo>
                  <a:pt x="736" y="129"/>
                </a:lnTo>
                <a:lnTo>
                  <a:pt x="736" y="136"/>
                </a:lnTo>
                <a:lnTo>
                  <a:pt x="742" y="143"/>
                </a:lnTo>
                <a:lnTo>
                  <a:pt x="749" y="150"/>
                </a:lnTo>
                <a:lnTo>
                  <a:pt x="756" y="156"/>
                </a:lnTo>
                <a:lnTo>
                  <a:pt x="763" y="163"/>
                </a:lnTo>
                <a:lnTo>
                  <a:pt x="770" y="170"/>
                </a:lnTo>
                <a:lnTo>
                  <a:pt x="777" y="177"/>
                </a:lnTo>
                <a:lnTo>
                  <a:pt x="783" y="184"/>
                </a:lnTo>
                <a:lnTo>
                  <a:pt x="790" y="191"/>
                </a:lnTo>
                <a:lnTo>
                  <a:pt x="797" y="197"/>
                </a:lnTo>
                <a:lnTo>
                  <a:pt x="797" y="204"/>
                </a:lnTo>
                <a:lnTo>
                  <a:pt x="804" y="211"/>
                </a:lnTo>
                <a:lnTo>
                  <a:pt x="811" y="211"/>
                </a:lnTo>
                <a:lnTo>
                  <a:pt x="817" y="218"/>
                </a:lnTo>
                <a:lnTo>
                  <a:pt x="817" y="225"/>
                </a:lnTo>
                <a:lnTo>
                  <a:pt x="824" y="231"/>
                </a:lnTo>
                <a:lnTo>
                  <a:pt x="831" y="238"/>
                </a:lnTo>
                <a:lnTo>
                  <a:pt x="838" y="245"/>
                </a:lnTo>
                <a:lnTo>
                  <a:pt x="845" y="252"/>
                </a:lnTo>
                <a:lnTo>
                  <a:pt x="851" y="259"/>
                </a:lnTo>
                <a:lnTo>
                  <a:pt x="858" y="265"/>
                </a:lnTo>
                <a:lnTo>
                  <a:pt x="858" y="272"/>
                </a:lnTo>
                <a:lnTo>
                  <a:pt x="865" y="279"/>
                </a:lnTo>
                <a:lnTo>
                  <a:pt x="872" y="279"/>
                </a:lnTo>
                <a:lnTo>
                  <a:pt x="879" y="286"/>
                </a:lnTo>
                <a:lnTo>
                  <a:pt x="879" y="293"/>
                </a:lnTo>
                <a:lnTo>
                  <a:pt x="886" y="300"/>
                </a:lnTo>
                <a:lnTo>
                  <a:pt x="892" y="306"/>
                </a:lnTo>
                <a:lnTo>
                  <a:pt x="899" y="313"/>
                </a:lnTo>
                <a:lnTo>
                  <a:pt x="906" y="320"/>
                </a:lnTo>
                <a:lnTo>
                  <a:pt x="913" y="327"/>
                </a:lnTo>
                <a:lnTo>
                  <a:pt x="920" y="334"/>
                </a:lnTo>
                <a:lnTo>
                  <a:pt x="926" y="340"/>
                </a:lnTo>
                <a:lnTo>
                  <a:pt x="933" y="347"/>
                </a:lnTo>
                <a:lnTo>
                  <a:pt x="940" y="354"/>
                </a:lnTo>
                <a:lnTo>
                  <a:pt x="947" y="361"/>
                </a:lnTo>
                <a:lnTo>
                  <a:pt x="947" y="368"/>
                </a:lnTo>
                <a:lnTo>
                  <a:pt x="954" y="374"/>
                </a:lnTo>
                <a:lnTo>
                  <a:pt x="960" y="374"/>
                </a:lnTo>
                <a:lnTo>
                  <a:pt x="967" y="381"/>
                </a:lnTo>
                <a:lnTo>
                  <a:pt x="967" y="388"/>
                </a:lnTo>
                <a:lnTo>
                  <a:pt x="974" y="395"/>
                </a:lnTo>
                <a:lnTo>
                  <a:pt x="981" y="402"/>
                </a:lnTo>
                <a:lnTo>
                  <a:pt x="988" y="409"/>
                </a:lnTo>
                <a:lnTo>
                  <a:pt x="995" y="415"/>
                </a:lnTo>
                <a:lnTo>
                  <a:pt x="1001" y="422"/>
                </a:lnTo>
                <a:lnTo>
                  <a:pt x="1008" y="429"/>
                </a:lnTo>
                <a:lnTo>
                  <a:pt x="1015" y="436"/>
                </a:lnTo>
                <a:lnTo>
                  <a:pt x="1022" y="443"/>
                </a:lnTo>
                <a:lnTo>
                  <a:pt x="1029" y="449"/>
                </a:lnTo>
                <a:lnTo>
                  <a:pt x="1035" y="456"/>
                </a:lnTo>
                <a:lnTo>
                  <a:pt x="1042" y="463"/>
                </a:lnTo>
                <a:lnTo>
                  <a:pt x="1049" y="470"/>
                </a:lnTo>
                <a:lnTo>
                  <a:pt x="1056" y="477"/>
                </a:lnTo>
                <a:lnTo>
                  <a:pt x="1063" y="483"/>
                </a:lnTo>
                <a:lnTo>
                  <a:pt x="1069" y="490"/>
                </a:lnTo>
                <a:lnTo>
                  <a:pt x="1076" y="497"/>
                </a:lnTo>
                <a:lnTo>
                  <a:pt x="1083" y="504"/>
                </a:lnTo>
                <a:lnTo>
                  <a:pt x="1090" y="511"/>
                </a:lnTo>
                <a:lnTo>
                  <a:pt x="1097" y="518"/>
                </a:lnTo>
                <a:lnTo>
                  <a:pt x="1104" y="524"/>
                </a:lnTo>
                <a:lnTo>
                  <a:pt x="1110" y="531"/>
                </a:lnTo>
                <a:lnTo>
                  <a:pt x="1117" y="538"/>
                </a:lnTo>
                <a:lnTo>
                  <a:pt x="1124" y="545"/>
                </a:lnTo>
                <a:lnTo>
                  <a:pt x="1131" y="552"/>
                </a:lnTo>
                <a:lnTo>
                  <a:pt x="1138" y="558"/>
                </a:lnTo>
                <a:lnTo>
                  <a:pt x="1144" y="565"/>
                </a:lnTo>
                <a:lnTo>
                  <a:pt x="1151" y="572"/>
                </a:lnTo>
                <a:lnTo>
                  <a:pt x="1158" y="579"/>
                </a:lnTo>
                <a:lnTo>
                  <a:pt x="1165" y="579"/>
                </a:lnTo>
                <a:lnTo>
                  <a:pt x="1172" y="586"/>
                </a:lnTo>
                <a:lnTo>
                  <a:pt x="1178" y="592"/>
                </a:lnTo>
                <a:lnTo>
                  <a:pt x="1185" y="599"/>
                </a:lnTo>
                <a:lnTo>
                  <a:pt x="1192" y="606"/>
                </a:lnTo>
                <a:lnTo>
                  <a:pt x="1199" y="613"/>
                </a:lnTo>
                <a:lnTo>
                  <a:pt x="1206" y="620"/>
                </a:lnTo>
                <a:lnTo>
                  <a:pt x="1213" y="627"/>
                </a:lnTo>
                <a:lnTo>
                  <a:pt x="1219" y="633"/>
                </a:lnTo>
                <a:lnTo>
                  <a:pt x="1226" y="633"/>
                </a:lnTo>
                <a:lnTo>
                  <a:pt x="1233" y="640"/>
                </a:lnTo>
                <a:lnTo>
                  <a:pt x="1240" y="647"/>
                </a:lnTo>
                <a:lnTo>
                  <a:pt x="1247" y="654"/>
                </a:lnTo>
                <a:lnTo>
                  <a:pt x="1253" y="661"/>
                </a:lnTo>
                <a:lnTo>
                  <a:pt x="1260" y="667"/>
                </a:lnTo>
                <a:lnTo>
                  <a:pt x="1267" y="674"/>
                </a:lnTo>
                <a:lnTo>
                  <a:pt x="1274" y="674"/>
                </a:lnTo>
                <a:lnTo>
                  <a:pt x="1281" y="681"/>
                </a:lnTo>
                <a:lnTo>
                  <a:pt x="1287" y="688"/>
                </a:lnTo>
                <a:lnTo>
                  <a:pt x="1294" y="695"/>
                </a:lnTo>
                <a:lnTo>
                  <a:pt x="1301" y="701"/>
                </a:lnTo>
                <a:lnTo>
                  <a:pt x="1308" y="708"/>
                </a:lnTo>
                <a:lnTo>
                  <a:pt x="1315" y="708"/>
                </a:lnTo>
                <a:lnTo>
                  <a:pt x="1322" y="715"/>
                </a:lnTo>
                <a:lnTo>
                  <a:pt x="1328" y="722"/>
                </a:lnTo>
                <a:lnTo>
                  <a:pt x="1335" y="729"/>
                </a:lnTo>
                <a:lnTo>
                  <a:pt x="1342" y="736"/>
                </a:lnTo>
                <a:lnTo>
                  <a:pt x="1349" y="736"/>
                </a:lnTo>
                <a:lnTo>
                  <a:pt x="1356" y="742"/>
                </a:lnTo>
                <a:lnTo>
                  <a:pt x="1362" y="749"/>
                </a:lnTo>
                <a:lnTo>
                  <a:pt x="1369" y="756"/>
                </a:lnTo>
                <a:lnTo>
                  <a:pt x="1376" y="756"/>
                </a:lnTo>
                <a:lnTo>
                  <a:pt x="1383" y="763"/>
                </a:lnTo>
                <a:lnTo>
                  <a:pt x="1390" y="770"/>
                </a:lnTo>
                <a:lnTo>
                  <a:pt x="1396" y="770"/>
                </a:lnTo>
                <a:lnTo>
                  <a:pt x="1403" y="776"/>
                </a:lnTo>
                <a:lnTo>
                  <a:pt x="1410" y="783"/>
                </a:lnTo>
                <a:lnTo>
                  <a:pt x="1417" y="790"/>
                </a:lnTo>
                <a:lnTo>
                  <a:pt x="1424" y="797"/>
                </a:lnTo>
                <a:lnTo>
                  <a:pt x="1431" y="797"/>
                </a:lnTo>
                <a:lnTo>
                  <a:pt x="1437" y="804"/>
                </a:lnTo>
                <a:lnTo>
                  <a:pt x="1444" y="810"/>
                </a:lnTo>
                <a:lnTo>
                  <a:pt x="1451" y="810"/>
                </a:lnTo>
                <a:lnTo>
                  <a:pt x="1458" y="817"/>
                </a:lnTo>
                <a:lnTo>
                  <a:pt x="1465" y="824"/>
                </a:lnTo>
                <a:lnTo>
                  <a:pt x="1471" y="824"/>
                </a:lnTo>
                <a:lnTo>
                  <a:pt x="1478" y="831"/>
                </a:lnTo>
                <a:lnTo>
                  <a:pt x="1485" y="838"/>
                </a:lnTo>
                <a:lnTo>
                  <a:pt x="1492" y="845"/>
                </a:lnTo>
                <a:lnTo>
                  <a:pt x="1499" y="845"/>
                </a:lnTo>
                <a:lnTo>
                  <a:pt x="1505" y="851"/>
                </a:lnTo>
                <a:lnTo>
                  <a:pt x="1512" y="858"/>
                </a:lnTo>
                <a:lnTo>
                  <a:pt x="1519" y="85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32200" y="4568760"/>
            <a:ext cx="1220760" cy="542880"/>
          </a:xfrm>
          <a:custGeom>
            <a:avLst/>
            <a:gdLst/>
            <a:ahLst/>
            <a:rect l="l" t="t" r="r" b="b"/>
            <a:pathLst>
              <a:path w="1042" h="457">
                <a:moveTo>
                  <a:pt x="0" y="0"/>
                </a:moveTo>
                <a:lnTo>
                  <a:pt x="7" y="7"/>
                </a:lnTo>
                <a:lnTo>
                  <a:pt x="14" y="14"/>
                </a:lnTo>
                <a:lnTo>
                  <a:pt x="21" y="14"/>
                </a:lnTo>
                <a:lnTo>
                  <a:pt x="27" y="21"/>
                </a:lnTo>
                <a:lnTo>
                  <a:pt x="34" y="27"/>
                </a:lnTo>
                <a:lnTo>
                  <a:pt x="41" y="27"/>
                </a:lnTo>
                <a:lnTo>
                  <a:pt x="48" y="34"/>
                </a:lnTo>
                <a:lnTo>
                  <a:pt x="55" y="34"/>
                </a:lnTo>
                <a:lnTo>
                  <a:pt x="61" y="41"/>
                </a:lnTo>
                <a:lnTo>
                  <a:pt x="68" y="41"/>
                </a:lnTo>
                <a:lnTo>
                  <a:pt x="75" y="48"/>
                </a:lnTo>
                <a:lnTo>
                  <a:pt x="82" y="55"/>
                </a:lnTo>
                <a:lnTo>
                  <a:pt x="89" y="55"/>
                </a:lnTo>
                <a:lnTo>
                  <a:pt x="95" y="61"/>
                </a:lnTo>
                <a:lnTo>
                  <a:pt x="102" y="68"/>
                </a:lnTo>
                <a:lnTo>
                  <a:pt x="109" y="68"/>
                </a:lnTo>
                <a:lnTo>
                  <a:pt x="116" y="75"/>
                </a:lnTo>
                <a:lnTo>
                  <a:pt x="123" y="75"/>
                </a:lnTo>
                <a:lnTo>
                  <a:pt x="130" y="82"/>
                </a:lnTo>
                <a:lnTo>
                  <a:pt x="136" y="89"/>
                </a:lnTo>
                <a:lnTo>
                  <a:pt x="143" y="89"/>
                </a:lnTo>
                <a:lnTo>
                  <a:pt x="150" y="96"/>
                </a:lnTo>
                <a:lnTo>
                  <a:pt x="157" y="96"/>
                </a:lnTo>
                <a:lnTo>
                  <a:pt x="164" y="102"/>
                </a:lnTo>
                <a:lnTo>
                  <a:pt x="170" y="102"/>
                </a:lnTo>
                <a:lnTo>
                  <a:pt x="177" y="109"/>
                </a:lnTo>
                <a:lnTo>
                  <a:pt x="184" y="116"/>
                </a:lnTo>
                <a:lnTo>
                  <a:pt x="191" y="116"/>
                </a:lnTo>
                <a:lnTo>
                  <a:pt x="198" y="123"/>
                </a:lnTo>
                <a:lnTo>
                  <a:pt x="204" y="123"/>
                </a:lnTo>
                <a:lnTo>
                  <a:pt x="211" y="130"/>
                </a:lnTo>
                <a:lnTo>
                  <a:pt x="218" y="136"/>
                </a:lnTo>
                <a:lnTo>
                  <a:pt x="225" y="136"/>
                </a:lnTo>
                <a:lnTo>
                  <a:pt x="232" y="136"/>
                </a:lnTo>
                <a:lnTo>
                  <a:pt x="239" y="143"/>
                </a:lnTo>
                <a:lnTo>
                  <a:pt x="245" y="150"/>
                </a:lnTo>
                <a:lnTo>
                  <a:pt x="252" y="150"/>
                </a:lnTo>
                <a:lnTo>
                  <a:pt x="259" y="157"/>
                </a:lnTo>
                <a:lnTo>
                  <a:pt x="266" y="157"/>
                </a:lnTo>
                <a:lnTo>
                  <a:pt x="273" y="157"/>
                </a:lnTo>
                <a:lnTo>
                  <a:pt x="279" y="164"/>
                </a:lnTo>
                <a:lnTo>
                  <a:pt x="286" y="170"/>
                </a:lnTo>
                <a:lnTo>
                  <a:pt x="293" y="170"/>
                </a:lnTo>
                <a:lnTo>
                  <a:pt x="300" y="177"/>
                </a:lnTo>
                <a:lnTo>
                  <a:pt x="307" y="177"/>
                </a:lnTo>
                <a:lnTo>
                  <a:pt x="313" y="184"/>
                </a:lnTo>
                <a:lnTo>
                  <a:pt x="320" y="184"/>
                </a:lnTo>
                <a:lnTo>
                  <a:pt x="327" y="191"/>
                </a:lnTo>
                <a:lnTo>
                  <a:pt x="334" y="191"/>
                </a:lnTo>
                <a:lnTo>
                  <a:pt x="341" y="198"/>
                </a:lnTo>
                <a:lnTo>
                  <a:pt x="348" y="198"/>
                </a:lnTo>
                <a:lnTo>
                  <a:pt x="354" y="205"/>
                </a:lnTo>
                <a:lnTo>
                  <a:pt x="361" y="205"/>
                </a:lnTo>
                <a:lnTo>
                  <a:pt x="368" y="211"/>
                </a:lnTo>
                <a:lnTo>
                  <a:pt x="375" y="211"/>
                </a:lnTo>
                <a:lnTo>
                  <a:pt x="382" y="218"/>
                </a:lnTo>
                <a:lnTo>
                  <a:pt x="388" y="218"/>
                </a:lnTo>
                <a:lnTo>
                  <a:pt x="395" y="218"/>
                </a:lnTo>
                <a:lnTo>
                  <a:pt x="402" y="225"/>
                </a:lnTo>
                <a:lnTo>
                  <a:pt x="409" y="225"/>
                </a:lnTo>
                <a:lnTo>
                  <a:pt x="416" y="232"/>
                </a:lnTo>
                <a:lnTo>
                  <a:pt x="422" y="232"/>
                </a:lnTo>
                <a:lnTo>
                  <a:pt x="429" y="239"/>
                </a:lnTo>
                <a:lnTo>
                  <a:pt x="436" y="239"/>
                </a:lnTo>
                <a:lnTo>
                  <a:pt x="443" y="245"/>
                </a:lnTo>
                <a:lnTo>
                  <a:pt x="450" y="245"/>
                </a:lnTo>
                <a:lnTo>
                  <a:pt x="457" y="252"/>
                </a:lnTo>
                <a:lnTo>
                  <a:pt x="463" y="252"/>
                </a:lnTo>
                <a:lnTo>
                  <a:pt x="470" y="259"/>
                </a:lnTo>
                <a:lnTo>
                  <a:pt x="477" y="259"/>
                </a:lnTo>
                <a:lnTo>
                  <a:pt x="484" y="259"/>
                </a:lnTo>
                <a:lnTo>
                  <a:pt x="491" y="266"/>
                </a:lnTo>
                <a:lnTo>
                  <a:pt x="497" y="266"/>
                </a:lnTo>
                <a:lnTo>
                  <a:pt x="504" y="266"/>
                </a:lnTo>
                <a:lnTo>
                  <a:pt x="511" y="273"/>
                </a:lnTo>
                <a:lnTo>
                  <a:pt x="518" y="273"/>
                </a:lnTo>
                <a:lnTo>
                  <a:pt x="525" y="279"/>
                </a:lnTo>
                <a:lnTo>
                  <a:pt x="531" y="279"/>
                </a:lnTo>
                <a:lnTo>
                  <a:pt x="538" y="286"/>
                </a:lnTo>
                <a:lnTo>
                  <a:pt x="545" y="286"/>
                </a:lnTo>
                <a:lnTo>
                  <a:pt x="552" y="293"/>
                </a:lnTo>
                <a:lnTo>
                  <a:pt x="559" y="293"/>
                </a:lnTo>
                <a:lnTo>
                  <a:pt x="566" y="293"/>
                </a:lnTo>
                <a:lnTo>
                  <a:pt x="572" y="300"/>
                </a:lnTo>
                <a:lnTo>
                  <a:pt x="579" y="300"/>
                </a:lnTo>
                <a:lnTo>
                  <a:pt x="586" y="300"/>
                </a:lnTo>
                <a:lnTo>
                  <a:pt x="593" y="307"/>
                </a:lnTo>
                <a:lnTo>
                  <a:pt x="600" y="307"/>
                </a:lnTo>
                <a:lnTo>
                  <a:pt x="606" y="314"/>
                </a:lnTo>
                <a:lnTo>
                  <a:pt x="613" y="314"/>
                </a:lnTo>
                <a:lnTo>
                  <a:pt x="620" y="320"/>
                </a:lnTo>
                <a:lnTo>
                  <a:pt x="627" y="320"/>
                </a:lnTo>
                <a:lnTo>
                  <a:pt x="634" y="320"/>
                </a:lnTo>
                <a:lnTo>
                  <a:pt x="640" y="327"/>
                </a:lnTo>
                <a:lnTo>
                  <a:pt x="647" y="327"/>
                </a:lnTo>
                <a:lnTo>
                  <a:pt x="654" y="334"/>
                </a:lnTo>
                <a:lnTo>
                  <a:pt x="661" y="334"/>
                </a:lnTo>
                <a:lnTo>
                  <a:pt x="668" y="334"/>
                </a:lnTo>
                <a:lnTo>
                  <a:pt x="675" y="341"/>
                </a:lnTo>
                <a:lnTo>
                  <a:pt x="681" y="341"/>
                </a:lnTo>
                <a:lnTo>
                  <a:pt x="688" y="341"/>
                </a:lnTo>
                <a:lnTo>
                  <a:pt x="695" y="348"/>
                </a:lnTo>
                <a:lnTo>
                  <a:pt x="702" y="348"/>
                </a:lnTo>
                <a:lnTo>
                  <a:pt x="709" y="348"/>
                </a:lnTo>
                <a:lnTo>
                  <a:pt x="715" y="354"/>
                </a:lnTo>
                <a:lnTo>
                  <a:pt x="722" y="354"/>
                </a:lnTo>
                <a:lnTo>
                  <a:pt x="729" y="354"/>
                </a:lnTo>
                <a:lnTo>
                  <a:pt x="736" y="361"/>
                </a:lnTo>
                <a:lnTo>
                  <a:pt x="743" y="361"/>
                </a:lnTo>
                <a:lnTo>
                  <a:pt x="749" y="368"/>
                </a:lnTo>
                <a:lnTo>
                  <a:pt x="756" y="368"/>
                </a:lnTo>
                <a:lnTo>
                  <a:pt x="763" y="368"/>
                </a:lnTo>
                <a:lnTo>
                  <a:pt x="770" y="375"/>
                </a:lnTo>
                <a:lnTo>
                  <a:pt x="777" y="375"/>
                </a:lnTo>
                <a:lnTo>
                  <a:pt x="784" y="375"/>
                </a:lnTo>
                <a:lnTo>
                  <a:pt x="790" y="382"/>
                </a:lnTo>
                <a:lnTo>
                  <a:pt x="797" y="382"/>
                </a:lnTo>
                <a:lnTo>
                  <a:pt x="804" y="382"/>
                </a:lnTo>
                <a:lnTo>
                  <a:pt x="811" y="388"/>
                </a:lnTo>
                <a:lnTo>
                  <a:pt x="818" y="388"/>
                </a:lnTo>
                <a:lnTo>
                  <a:pt x="824" y="388"/>
                </a:lnTo>
                <a:lnTo>
                  <a:pt x="831" y="395"/>
                </a:lnTo>
                <a:lnTo>
                  <a:pt x="838" y="395"/>
                </a:lnTo>
                <a:lnTo>
                  <a:pt x="845" y="395"/>
                </a:lnTo>
                <a:lnTo>
                  <a:pt x="852" y="402"/>
                </a:lnTo>
                <a:lnTo>
                  <a:pt x="858" y="402"/>
                </a:lnTo>
                <a:lnTo>
                  <a:pt x="865" y="402"/>
                </a:lnTo>
                <a:lnTo>
                  <a:pt x="872" y="409"/>
                </a:lnTo>
                <a:lnTo>
                  <a:pt x="879" y="409"/>
                </a:lnTo>
                <a:lnTo>
                  <a:pt x="886" y="409"/>
                </a:lnTo>
                <a:lnTo>
                  <a:pt x="893" y="416"/>
                </a:lnTo>
                <a:lnTo>
                  <a:pt x="899" y="416"/>
                </a:lnTo>
                <a:lnTo>
                  <a:pt x="906" y="416"/>
                </a:lnTo>
                <a:lnTo>
                  <a:pt x="913" y="423"/>
                </a:lnTo>
                <a:lnTo>
                  <a:pt x="920" y="423"/>
                </a:lnTo>
                <a:lnTo>
                  <a:pt x="927" y="423"/>
                </a:lnTo>
                <a:lnTo>
                  <a:pt x="933" y="429"/>
                </a:lnTo>
                <a:lnTo>
                  <a:pt x="940" y="429"/>
                </a:lnTo>
                <a:lnTo>
                  <a:pt x="947" y="429"/>
                </a:lnTo>
                <a:lnTo>
                  <a:pt x="954" y="429"/>
                </a:lnTo>
                <a:lnTo>
                  <a:pt x="961" y="436"/>
                </a:lnTo>
                <a:lnTo>
                  <a:pt x="967" y="436"/>
                </a:lnTo>
                <a:lnTo>
                  <a:pt x="974" y="436"/>
                </a:lnTo>
                <a:lnTo>
                  <a:pt x="981" y="443"/>
                </a:lnTo>
                <a:lnTo>
                  <a:pt x="988" y="443"/>
                </a:lnTo>
                <a:lnTo>
                  <a:pt x="995" y="443"/>
                </a:lnTo>
                <a:lnTo>
                  <a:pt x="1002" y="443"/>
                </a:lnTo>
                <a:lnTo>
                  <a:pt x="1008" y="450"/>
                </a:lnTo>
                <a:lnTo>
                  <a:pt x="1015" y="450"/>
                </a:lnTo>
                <a:lnTo>
                  <a:pt x="1022" y="450"/>
                </a:lnTo>
                <a:lnTo>
                  <a:pt x="1029" y="457"/>
                </a:lnTo>
                <a:lnTo>
                  <a:pt x="1036" y="457"/>
                </a:lnTo>
                <a:lnTo>
                  <a:pt x="1042" y="45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074240" y="387972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p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25360" y="434016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980280" y="4264200"/>
            <a:ext cx="72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168360" y="62834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/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268360" y="6245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09520" y="6286680"/>
            <a:ext cx="63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1811160" y="662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019200" y="365760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ot 5 MHz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sus 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819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670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19520" y="32004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3828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6019920" y="5791320"/>
          <a:ext cx="1981080" cy="5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5791320"/>
                    <a:ext cx="1981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"/>
          <p:cNvSpPr/>
          <p:nvPr/>
        </p:nvSpPr>
        <p:spPr>
          <a:xfrm>
            <a:off x="5943600" y="4876920"/>
            <a:ext cx="120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5400000">
            <a:off x="7198200" y="2097720"/>
            <a:ext cx="353880" cy="273240"/>
          </a:xfrm>
          <a:prstGeom prst="rightArrow">
            <a:avLst>
              <a:gd name="adj1" fmla="val 50000"/>
              <a:gd name="adj2" fmla="val 3237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984920" y="1973160"/>
            <a:ext cx="353880" cy="273240"/>
          </a:xfrm>
          <a:prstGeom prst="rightArrow">
            <a:avLst>
              <a:gd name="adj1" fmla="val 50000"/>
              <a:gd name="adj2" fmla="val 3237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rot="10800000">
            <a:off x="5562360" y="3809520"/>
            <a:ext cx="353880" cy="273240"/>
          </a:xfrm>
          <a:prstGeom prst="rightArrow">
            <a:avLst>
              <a:gd name="adj1" fmla="val 50000"/>
              <a:gd name="adj2" fmla="val 3237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86400" y="4952880"/>
            <a:ext cx="353880" cy="273240"/>
          </a:xfrm>
          <a:prstGeom prst="rightArrow">
            <a:avLst>
              <a:gd name="adj1" fmla="val 50000"/>
              <a:gd name="adj2" fmla="val 3237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5400000">
            <a:off x="7045920" y="5222160"/>
            <a:ext cx="354240" cy="272880"/>
          </a:xfrm>
          <a:prstGeom prst="rightArrow">
            <a:avLst>
              <a:gd name="adj1" fmla="val 50000"/>
              <a:gd name="adj2" fmla="val 324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391520" y="4800600"/>
            <a:ext cx="1423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536840" y="2273400"/>
            <a:ext cx="1279440" cy="680400"/>
            <a:chOff x="1536840" y="2273400"/>
            <a:chExt cx="1279440" cy="680400"/>
          </a:xfrm>
        </p:grpSpPr>
        <p:grpSp>
          <p:nvGrpSpPr>
            <p:cNvPr id="807" name=""/>
            <p:cNvGrpSpPr/>
            <p:nvPr/>
          </p:nvGrpSpPr>
          <p:grpSpPr>
            <a:xfrm>
              <a:off x="1536840" y="2273400"/>
              <a:ext cx="1278720" cy="680400"/>
              <a:chOff x="1536840" y="2273400"/>
              <a:chExt cx="1278720" cy="680400"/>
            </a:xfrm>
          </p:grpSpPr>
          <p:sp>
            <p:nvSpPr>
              <p:cNvPr id="808" name=""/>
              <p:cNvSpPr/>
              <p:nvPr/>
            </p:nvSpPr>
            <p:spPr>
              <a:xfrm flipH="1" flipV="1" rot="10800000">
                <a:off x="1831320" y="2273400"/>
                <a:ext cx="983880" cy="680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rot="10800000">
                <a:off x="1733400" y="2516400"/>
                <a:ext cx="9648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rot="10800000">
                <a:off x="1634760" y="2565360"/>
                <a:ext cx="96120" cy="1458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 rot="10800000">
                <a:off x="1536480" y="2516400"/>
                <a:ext cx="9612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 rot="10800000">
              <a:off x="2716200" y="2382840"/>
              <a:ext cx="100080" cy="456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522360" y="1066680"/>
            <a:ext cx="80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radius and focal length for a spherically focused 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162080" y="5357880"/>
            <a:ext cx="363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162080" y="2278080"/>
            <a:ext cx="363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162080" y="2277720"/>
            <a:ext cx="1440" cy="3079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4799160" y="2277720"/>
            <a:ext cx="1440" cy="3079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162080" y="5357880"/>
            <a:ext cx="363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1162080" y="2277720"/>
            <a:ext cx="1440" cy="3079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162080" y="5318280"/>
            <a:ext cx="144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162080" y="2278080"/>
            <a:ext cx="144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34360" y="5378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1620720" y="5318280"/>
            <a:ext cx="180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620720" y="2278080"/>
            <a:ext cx="180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554840" y="53784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070000" y="5318280"/>
            <a:ext cx="180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70000" y="2278080"/>
            <a:ext cx="180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042640" y="5378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529000" y="5318280"/>
            <a:ext cx="144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529000" y="2278080"/>
            <a:ext cx="144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466000" y="53784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2979720" y="5318280"/>
            <a:ext cx="144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79720" y="2278080"/>
            <a:ext cx="144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952000" y="5378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3440160" y="5318280"/>
            <a:ext cx="144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440160" y="2278080"/>
            <a:ext cx="144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73920" y="53784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889440" y="5318280"/>
            <a:ext cx="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9440" y="2278080"/>
            <a:ext cx="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60280" y="5378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4348080" y="5318280"/>
            <a:ext cx="180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8080" y="2278080"/>
            <a:ext cx="180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83640" y="53784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799160" y="5318280"/>
            <a:ext cx="144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99160" y="2278080"/>
            <a:ext cx="1440" cy="3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770000" y="5378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162080" y="535788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4762440" y="5357880"/>
            <a:ext cx="367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77480" y="5289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162080" y="48448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4762440" y="484488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077480" y="47768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62080" y="433404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4762440" y="4334040"/>
            <a:ext cx="367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077480" y="42656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62080" y="382284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4762440" y="3822840"/>
            <a:ext cx="367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077480" y="37530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162080" y="330192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762440" y="330192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077480" y="3232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62080" y="2790720"/>
            <a:ext cx="3492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762440" y="2790720"/>
            <a:ext cx="3672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023120" y="27208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162080" y="227808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762440" y="2278080"/>
            <a:ext cx="367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023120" y="220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44600" y="2346480"/>
            <a:ext cx="1836720" cy="3011400"/>
          </a:xfrm>
          <a:custGeom>
            <a:avLst/>
            <a:gdLst/>
            <a:ahLst/>
            <a:rect l="l" t="t" r="r" b="b"/>
            <a:pathLst>
              <a:path w="1481" h="2267">
                <a:moveTo>
                  <a:pt x="0" y="2163"/>
                </a:moveTo>
                <a:lnTo>
                  <a:pt x="7" y="1822"/>
                </a:lnTo>
                <a:lnTo>
                  <a:pt x="7" y="1830"/>
                </a:lnTo>
                <a:lnTo>
                  <a:pt x="15" y="2133"/>
                </a:lnTo>
                <a:lnTo>
                  <a:pt x="22" y="2022"/>
                </a:lnTo>
                <a:lnTo>
                  <a:pt x="30" y="1785"/>
                </a:lnTo>
                <a:lnTo>
                  <a:pt x="37" y="1993"/>
                </a:lnTo>
                <a:lnTo>
                  <a:pt x="44" y="2237"/>
                </a:lnTo>
                <a:lnTo>
                  <a:pt x="52" y="1948"/>
                </a:lnTo>
                <a:lnTo>
                  <a:pt x="52" y="1770"/>
                </a:lnTo>
                <a:lnTo>
                  <a:pt x="59" y="1733"/>
                </a:lnTo>
                <a:lnTo>
                  <a:pt x="67" y="1830"/>
                </a:lnTo>
                <a:lnTo>
                  <a:pt x="74" y="2030"/>
                </a:lnTo>
                <a:lnTo>
                  <a:pt x="74" y="2267"/>
                </a:lnTo>
                <a:lnTo>
                  <a:pt x="81" y="2030"/>
                </a:lnTo>
                <a:lnTo>
                  <a:pt x="89" y="1844"/>
                </a:lnTo>
                <a:lnTo>
                  <a:pt x="96" y="1726"/>
                </a:lnTo>
                <a:lnTo>
                  <a:pt x="96" y="1681"/>
                </a:lnTo>
                <a:lnTo>
                  <a:pt x="104" y="1726"/>
                </a:lnTo>
                <a:lnTo>
                  <a:pt x="111" y="1830"/>
                </a:lnTo>
                <a:lnTo>
                  <a:pt x="118" y="1978"/>
                </a:lnTo>
                <a:lnTo>
                  <a:pt x="118" y="2155"/>
                </a:lnTo>
                <a:lnTo>
                  <a:pt x="126" y="2192"/>
                </a:lnTo>
                <a:lnTo>
                  <a:pt x="133" y="2015"/>
                </a:lnTo>
                <a:lnTo>
                  <a:pt x="141" y="1859"/>
                </a:lnTo>
                <a:lnTo>
                  <a:pt x="141" y="1741"/>
                </a:lnTo>
                <a:lnTo>
                  <a:pt x="148" y="1652"/>
                </a:lnTo>
                <a:lnTo>
                  <a:pt x="155" y="1607"/>
                </a:lnTo>
                <a:lnTo>
                  <a:pt x="163" y="1607"/>
                </a:lnTo>
                <a:lnTo>
                  <a:pt x="163" y="1644"/>
                </a:lnTo>
                <a:lnTo>
                  <a:pt x="170" y="1704"/>
                </a:lnTo>
                <a:lnTo>
                  <a:pt x="178" y="1800"/>
                </a:lnTo>
                <a:lnTo>
                  <a:pt x="185" y="1911"/>
                </a:lnTo>
                <a:lnTo>
                  <a:pt x="185" y="2044"/>
                </a:lnTo>
                <a:lnTo>
                  <a:pt x="193" y="2178"/>
                </a:lnTo>
                <a:lnTo>
                  <a:pt x="200" y="2215"/>
                </a:lnTo>
                <a:lnTo>
                  <a:pt x="207" y="2081"/>
                </a:lnTo>
                <a:lnTo>
                  <a:pt x="207" y="1948"/>
                </a:lnTo>
                <a:lnTo>
                  <a:pt x="215" y="1830"/>
                </a:lnTo>
                <a:lnTo>
                  <a:pt x="222" y="1718"/>
                </a:lnTo>
                <a:lnTo>
                  <a:pt x="230" y="1622"/>
                </a:lnTo>
                <a:lnTo>
                  <a:pt x="230" y="1548"/>
                </a:lnTo>
                <a:lnTo>
                  <a:pt x="237" y="1489"/>
                </a:lnTo>
                <a:lnTo>
                  <a:pt x="244" y="1444"/>
                </a:lnTo>
                <a:lnTo>
                  <a:pt x="252" y="1422"/>
                </a:lnTo>
                <a:lnTo>
                  <a:pt x="252" y="1415"/>
                </a:lnTo>
                <a:lnTo>
                  <a:pt x="259" y="1422"/>
                </a:lnTo>
                <a:lnTo>
                  <a:pt x="267" y="1444"/>
                </a:lnTo>
                <a:lnTo>
                  <a:pt x="274" y="1489"/>
                </a:lnTo>
                <a:lnTo>
                  <a:pt x="274" y="1541"/>
                </a:lnTo>
                <a:lnTo>
                  <a:pt x="281" y="1600"/>
                </a:lnTo>
                <a:lnTo>
                  <a:pt x="289" y="1674"/>
                </a:lnTo>
                <a:lnTo>
                  <a:pt x="296" y="1763"/>
                </a:lnTo>
                <a:lnTo>
                  <a:pt x="304" y="1852"/>
                </a:lnTo>
                <a:lnTo>
                  <a:pt x="304" y="1948"/>
                </a:lnTo>
                <a:lnTo>
                  <a:pt x="311" y="2052"/>
                </a:lnTo>
                <a:lnTo>
                  <a:pt x="318" y="2163"/>
                </a:lnTo>
                <a:lnTo>
                  <a:pt x="326" y="2259"/>
                </a:lnTo>
                <a:lnTo>
                  <a:pt x="326" y="2148"/>
                </a:lnTo>
                <a:lnTo>
                  <a:pt x="333" y="2037"/>
                </a:lnTo>
                <a:lnTo>
                  <a:pt x="341" y="1918"/>
                </a:lnTo>
                <a:lnTo>
                  <a:pt x="348" y="1807"/>
                </a:lnTo>
                <a:lnTo>
                  <a:pt x="348" y="1696"/>
                </a:lnTo>
                <a:lnTo>
                  <a:pt x="355" y="1585"/>
                </a:lnTo>
                <a:lnTo>
                  <a:pt x="363" y="1474"/>
                </a:lnTo>
                <a:lnTo>
                  <a:pt x="370" y="1370"/>
                </a:lnTo>
                <a:lnTo>
                  <a:pt x="370" y="1267"/>
                </a:lnTo>
                <a:lnTo>
                  <a:pt x="378" y="1170"/>
                </a:lnTo>
                <a:lnTo>
                  <a:pt x="385" y="1074"/>
                </a:lnTo>
                <a:lnTo>
                  <a:pt x="392" y="978"/>
                </a:lnTo>
                <a:lnTo>
                  <a:pt x="392" y="896"/>
                </a:lnTo>
                <a:lnTo>
                  <a:pt x="400" y="808"/>
                </a:lnTo>
                <a:lnTo>
                  <a:pt x="407" y="733"/>
                </a:lnTo>
                <a:lnTo>
                  <a:pt x="415" y="659"/>
                </a:lnTo>
                <a:lnTo>
                  <a:pt x="415" y="585"/>
                </a:lnTo>
                <a:lnTo>
                  <a:pt x="422" y="519"/>
                </a:lnTo>
                <a:lnTo>
                  <a:pt x="430" y="459"/>
                </a:lnTo>
                <a:lnTo>
                  <a:pt x="437" y="400"/>
                </a:lnTo>
                <a:lnTo>
                  <a:pt x="437" y="348"/>
                </a:lnTo>
                <a:lnTo>
                  <a:pt x="444" y="304"/>
                </a:lnTo>
                <a:lnTo>
                  <a:pt x="452" y="259"/>
                </a:lnTo>
                <a:lnTo>
                  <a:pt x="459" y="215"/>
                </a:lnTo>
                <a:lnTo>
                  <a:pt x="459" y="178"/>
                </a:lnTo>
                <a:lnTo>
                  <a:pt x="467" y="148"/>
                </a:lnTo>
                <a:lnTo>
                  <a:pt x="474" y="119"/>
                </a:lnTo>
                <a:lnTo>
                  <a:pt x="481" y="97"/>
                </a:lnTo>
                <a:lnTo>
                  <a:pt x="481" y="74"/>
                </a:lnTo>
                <a:lnTo>
                  <a:pt x="489" y="52"/>
                </a:lnTo>
                <a:lnTo>
                  <a:pt x="496" y="37"/>
                </a:lnTo>
                <a:lnTo>
                  <a:pt x="504" y="22"/>
                </a:lnTo>
                <a:lnTo>
                  <a:pt x="504" y="15"/>
                </a:lnTo>
                <a:lnTo>
                  <a:pt x="511" y="8"/>
                </a:lnTo>
                <a:lnTo>
                  <a:pt x="518" y="0"/>
                </a:lnTo>
                <a:lnTo>
                  <a:pt x="526" y="0"/>
                </a:lnTo>
                <a:lnTo>
                  <a:pt x="533" y="0"/>
                </a:lnTo>
                <a:lnTo>
                  <a:pt x="541" y="0"/>
                </a:lnTo>
                <a:lnTo>
                  <a:pt x="548" y="8"/>
                </a:lnTo>
                <a:lnTo>
                  <a:pt x="548" y="15"/>
                </a:lnTo>
                <a:lnTo>
                  <a:pt x="555" y="22"/>
                </a:lnTo>
                <a:lnTo>
                  <a:pt x="563" y="37"/>
                </a:lnTo>
                <a:lnTo>
                  <a:pt x="570" y="45"/>
                </a:lnTo>
                <a:lnTo>
                  <a:pt x="570" y="59"/>
                </a:lnTo>
                <a:lnTo>
                  <a:pt x="578" y="74"/>
                </a:lnTo>
                <a:lnTo>
                  <a:pt x="585" y="89"/>
                </a:lnTo>
                <a:lnTo>
                  <a:pt x="592" y="111"/>
                </a:lnTo>
                <a:lnTo>
                  <a:pt x="592" y="126"/>
                </a:lnTo>
                <a:lnTo>
                  <a:pt x="600" y="148"/>
                </a:lnTo>
                <a:lnTo>
                  <a:pt x="607" y="163"/>
                </a:lnTo>
                <a:lnTo>
                  <a:pt x="615" y="185"/>
                </a:lnTo>
                <a:lnTo>
                  <a:pt x="615" y="208"/>
                </a:lnTo>
                <a:lnTo>
                  <a:pt x="622" y="230"/>
                </a:lnTo>
                <a:lnTo>
                  <a:pt x="629" y="252"/>
                </a:lnTo>
                <a:lnTo>
                  <a:pt x="637" y="274"/>
                </a:lnTo>
                <a:lnTo>
                  <a:pt x="637" y="296"/>
                </a:lnTo>
                <a:lnTo>
                  <a:pt x="644" y="319"/>
                </a:lnTo>
                <a:lnTo>
                  <a:pt x="652" y="348"/>
                </a:lnTo>
                <a:lnTo>
                  <a:pt x="659" y="371"/>
                </a:lnTo>
                <a:lnTo>
                  <a:pt x="667" y="393"/>
                </a:lnTo>
                <a:lnTo>
                  <a:pt x="667" y="422"/>
                </a:lnTo>
                <a:lnTo>
                  <a:pt x="674" y="445"/>
                </a:lnTo>
                <a:lnTo>
                  <a:pt x="681" y="474"/>
                </a:lnTo>
                <a:lnTo>
                  <a:pt x="689" y="496"/>
                </a:lnTo>
                <a:lnTo>
                  <a:pt x="689" y="519"/>
                </a:lnTo>
                <a:lnTo>
                  <a:pt x="696" y="548"/>
                </a:lnTo>
                <a:lnTo>
                  <a:pt x="704" y="571"/>
                </a:lnTo>
                <a:lnTo>
                  <a:pt x="711" y="600"/>
                </a:lnTo>
                <a:lnTo>
                  <a:pt x="711" y="622"/>
                </a:lnTo>
                <a:lnTo>
                  <a:pt x="718" y="652"/>
                </a:lnTo>
                <a:lnTo>
                  <a:pt x="726" y="674"/>
                </a:lnTo>
                <a:lnTo>
                  <a:pt x="733" y="704"/>
                </a:lnTo>
                <a:lnTo>
                  <a:pt x="733" y="726"/>
                </a:lnTo>
                <a:lnTo>
                  <a:pt x="741" y="748"/>
                </a:lnTo>
                <a:lnTo>
                  <a:pt x="748" y="778"/>
                </a:lnTo>
                <a:lnTo>
                  <a:pt x="755" y="800"/>
                </a:lnTo>
                <a:lnTo>
                  <a:pt x="755" y="822"/>
                </a:lnTo>
                <a:lnTo>
                  <a:pt x="763" y="852"/>
                </a:lnTo>
                <a:lnTo>
                  <a:pt x="770" y="874"/>
                </a:lnTo>
                <a:lnTo>
                  <a:pt x="778" y="896"/>
                </a:lnTo>
                <a:lnTo>
                  <a:pt x="778" y="926"/>
                </a:lnTo>
                <a:lnTo>
                  <a:pt x="785" y="948"/>
                </a:lnTo>
                <a:lnTo>
                  <a:pt x="792" y="970"/>
                </a:lnTo>
                <a:lnTo>
                  <a:pt x="800" y="993"/>
                </a:lnTo>
                <a:lnTo>
                  <a:pt x="800" y="1015"/>
                </a:lnTo>
                <a:lnTo>
                  <a:pt x="807" y="1037"/>
                </a:lnTo>
                <a:lnTo>
                  <a:pt x="815" y="1059"/>
                </a:lnTo>
                <a:lnTo>
                  <a:pt x="822" y="1082"/>
                </a:lnTo>
                <a:lnTo>
                  <a:pt x="822" y="1104"/>
                </a:lnTo>
                <a:lnTo>
                  <a:pt x="829" y="1126"/>
                </a:lnTo>
                <a:lnTo>
                  <a:pt x="837" y="1148"/>
                </a:lnTo>
                <a:lnTo>
                  <a:pt x="844" y="1170"/>
                </a:lnTo>
                <a:lnTo>
                  <a:pt x="844" y="1193"/>
                </a:lnTo>
                <a:lnTo>
                  <a:pt x="852" y="1207"/>
                </a:lnTo>
                <a:lnTo>
                  <a:pt x="859" y="1230"/>
                </a:lnTo>
                <a:lnTo>
                  <a:pt x="866" y="1252"/>
                </a:lnTo>
                <a:lnTo>
                  <a:pt x="866" y="1274"/>
                </a:lnTo>
                <a:lnTo>
                  <a:pt x="874" y="1289"/>
                </a:lnTo>
                <a:lnTo>
                  <a:pt x="881" y="1311"/>
                </a:lnTo>
                <a:lnTo>
                  <a:pt x="889" y="1326"/>
                </a:lnTo>
                <a:lnTo>
                  <a:pt x="889" y="1348"/>
                </a:lnTo>
                <a:lnTo>
                  <a:pt x="896" y="1363"/>
                </a:lnTo>
                <a:lnTo>
                  <a:pt x="904" y="1385"/>
                </a:lnTo>
                <a:lnTo>
                  <a:pt x="911" y="1400"/>
                </a:lnTo>
                <a:lnTo>
                  <a:pt x="911" y="1422"/>
                </a:lnTo>
                <a:lnTo>
                  <a:pt x="918" y="1437"/>
                </a:lnTo>
                <a:lnTo>
                  <a:pt x="926" y="1452"/>
                </a:lnTo>
                <a:lnTo>
                  <a:pt x="933" y="1467"/>
                </a:lnTo>
                <a:lnTo>
                  <a:pt x="933" y="1489"/>
                </a:lnTo>
                <a:lnTo>
                  <a:pt x="941" y="1504"/>
                </a:lnTo>
                <a:lnTo>
                  <a:pt x="948" y="1519"/>
                </a:lnTo>
                <a:lnTo>
                  <a:pt x="955" y="1533"/>
                </a:lnTo>
                <a:lnTo>
                  <a:pt x="955" y="1548"/>
                </a:lnTo>
                <a:lnTo>
                  <a:pt x="963" y="1563"/>
                </a:lnTo>
                <a:lnTo>
                  <a:pt x="970" y="1578"/>
                </a:lnTo>
                <a:lnTo>
                  <a:pt x="978" y="1593"/>
                </a:lnTo>
                <a:lnTo>
                  <a:pt x="978" y="1607"/>
                </a:lnTo>
                <a:lnTo>
                  <a:pt x="985" y="1622"/>
                </a:lnTo>
                <a:lnTo>
                  <a:pt x="992" y="1637"/>
                </a:lnTo>
                <a:lnTo>
                  <a:pt x="1000" y="1652"/>
                </a:lnTo>
                <a:lnTo>
                  <a:pt x="1007" y="1667"/>
                </a:lnTo>
                <a:lnTo>
                  <a:pt x="1007" y="1674"/>
                </a:lnTo>
                <a:lnTo>
                  <a:pt x="1015" y="1689"/>
                </a:lnTo>
                <a:lnTo>
                  <a:pt x="1022" y="1704"/>
                </a:lnTo>
                <a:lnTo>
                  <a:pt x="1029" y="1718"/>
                </a:lnTo>
                <a:lnTo>
                  <a:pt x="1029" y="1726"/>
                </a:lnTo>
                <a:lnTo>
                  <a:pt x="1037" y="1741"/>
                </a:lnTo>
                <a:lnTo>
                  <a:pt x="1044" y="1756"/>
                </a:lnTo>
                <a:lnTo>
                  <a:pt x="1052" y="1763"/>
                </a:lnTo>
                <a:lnTo>
                  <a:pt x="1052" y="1778"/>
                </a:lnTo>
                <a:lnTo>
                  <a:pt x="1059" y="1785"/>
                </a:lnTo>
                <a:lnTo>
                  <a:pt x="1066" y="1800"/>
                </a:lnTo>
                <a:lnTo>
                  <a:pt x="1074" y="1807"/>
                </a:lnTo>
                <a:lnTo>
                  <a:pt x="1074" y="1822"/>
                </a:lnTo>
                <a:lnTo>
                  <a:pt x="1081" y="1830"/>
                </a:lnTo>
                <a:lnTo>
                  <a:pt x="1089" y="1844"/>
                </a:lnTo>
                <a:lnTo>
                  <a:pt x="1096" y="1852"/>
                </a:lnTo>
                <a:lnTo>
                  <a:pt x="1096" y="1859"/>
                </a:lnTo>
                <a:lnTo>
                  <a:pt x="1103" y="1874"/>
                </a:lnTo>
                <a:lnTo>
                  <a:pt x="1111" y="1881"/>
                </a:lnTo>
                <a:lnTo>
                  <a:pt x="1118" y="1889"/>
                </a:lnTo>
                <a:lnTo>
                  <a:pt x="1118" y="1904"/>
                </a:lnTo>
                <a:lnTo>
                  <a:pt x="1126" y="1911"/>
                </a:lnTo>
                <a:lnTo>
                  <a:pt x="1133" y="1918"/>
                </a:lnTo>
                <a:lnTo>
                  <a:pt x="1141" y="1926"/>
                </a:lnTo>
                <a:lnTo>
                  <a:pt x="1141" y="1933"/>
                </a:lnTo>
                <a:lnTo>
                  <a:pt x="1148" y="1948"/>
                </a:lnTo>
                <a:lnTo>
                  <a:pt x="1155" y="1955"/>
                </a:lnTo>
                <a:lnTo>
                  <a:pt x="1163" y="1963"/>
                </a:lnTo>
                <a:lnTo>
                  <a:pt x="1163" y="1970"/>
                </a:lnTo>
                <a:lnTo>
                  <a:pt x="1170" y="1978"/>
                </a:lnTo>
                <a:lnTo>
                  <a:pt x="1178" y="1985"/>
                </a:lnTo>
                <a:lnTo>
                  <a:pt x="1185" y="1993"/>
                </a:lnTo>
                <a:lnTo>
                  <a:pt x="1185" y="2000"/>
                </a:lnTo>
                <a:lnTo>
                  <a:pt x="1192" y="2007"/>
                </a:lnTo>
                <a:lnTo>
                  <a:pt x="1200" y="2015"/>
                </a:lnTo>
                <a:lnTo>
                  <a:pt x="1207" y="2022"/>
                </a:lnTo>
                <a:lnTo>
                  <a:pt x="1207" y="2030"/>
                </a:lnTo>
                <a:lnTo>
                  <a:pt x="1215" y="2037"/>
                </a:lnTo>
                <a:lnTo>
                  <a:pt x="1222" y="2044"/>
                </a:lnTo>
                <a:lnTo>
                  <a:pt x="1229" y="2052"/>
                </a:lnTo>
                <a:lnTo>
                  <a:pt x="1237" y="2059"/>
                </a:lnTo>
                <a:lnTo>
                  <a:pt x="1244" y="2067"/>
                </a:lnTo>
                <a:lnTo>
                  <a:pt x="1252" y="2074"/>
                </a:lnTo>
                <a:lnTo>
                  <a:pt x="1252" y="2081"/>
                </a:lnTo>
                <a:lnTo>
                  <a:pt x="1259" y="2089"/>
                </a:lnTo>
                <a:lnTo>
                  <a:pt x="1266" y="2096"/>
                </a:lnTo>
                <a:lnTo>
                  <a:pt x="1274" y="2104"/>
                </a:lnTo>
                <a:lnTo>
                  <a:pt x="1281" y="2111"/>
                </a:lnTo>
                <a:lnTo>
                  <a:pt x="1289" y="2118"/>
                </a:lnTo>
                <a:lnTo>
                  <a:pt x="1296" y="2126"/>
                </a:lnTo>
                <a:lnTo>
                  <a:pt x="1303" y="2133"/>
                </a:lnTo>
                <a:lnTo>
                  <a:pt x="1311" y="2133"/>
                </a:lnTo>
                <a:lnTo>
                  <a:pt x="1318" y="2141"/>
                </a:lnTo>
                <a:lnTo>
                  <a:pt x="1326" y="2148"/>
                </a:lnTo>
                <a:lnTo>
                  <a:pt x="1333" y="2155"/>
                </a:lnTo>
                <a:lnTo>
                  <a:pt x="1340" y="2163"/>
                </a:lnTo>
                <a:lnTo>
                  <a:pt x="1348" y="2170"/>
                </a:lnTo>
                <a:lnTo>
                  <a:pt x="1355" y="2170"/>
                </a:lnTo>
                <a:lnTo>
                  <a:pt x="1363" y="2178"/>
                </a:lnTo>
                <a:lnTo>
                  <a:pt x="1370" y="2185"/>
                </a:lnTo>
                <a:lnTo>
                  <a:pt x="1378" y="2192"/>
                </a:lnTo>
                <a:lnTo>
                  <a:pt x="1385" y="2192"/>
                </a:lnTo>
                <a:lnTo>
                  <a:pt x="1392" y="2200"/>
                </a:lnTo>
                <a:lnTo>
                  <a:pt x="1400" y="2207"/>
                </a:lnTo>
                <a:lnTo>
                  <a:pt x="1407" y="2207"/>
                </a:lnTo>
                <a:lnTo>
                  <a:pt x="1415" y="2215"/>
                </a:lnTo>
                <a:lnTo>
                  <a:pt x="1422" y="2222"/>
                </a:lnTo>
                <a:lnTo>
                  <a:pt x="1429" y="2222"/>
                </a:lnTo>
                <a:lnTo>
                  <a:pt x="1437" y="2230"/>
                </a:lnTo>
                <a:lnTo>
                  <a:pt x="1444" y="2230"/>
                </a:lnTo>
                <a:lnTo>
                  <a:pt x="1452" y="2237"/>
                </a:lnTo>
                <a:lnTo>
                  <a:pt x="1459" y="2244"/>
                </a:lnTo>
                <a:lnTo>
                  <a:pt x="1466" y="2244"/>
                </a:lnTo>
                <a:lnTo>
                  <a:pt x="1474" y="2244"/>
                </a:lnTo>
                <a:lnTo>
                  <a:pt x="1481" y="225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81320" y="5200560"/>
            <a:ext cx="1617840" cy="157320"/>
          </a:xfrm>
          <a:custGeom>
            <a:avLst/>
            <a:gdLst/>
            <a:ahLst/>
            <a:rect l="l" t="t" r="r" b="b"/>
            <a:pathLst>
              <a:path w="1304" h="119">
                <a:moveTo>
                  <a:pt x="0" y="104"/>
                </a:moveTo>
                <a:lnTo>
                  <a:pt x="8" y="111"/>
                </a:lnTo>
                <a:lnTo>
                  <a:pt x="15" y="111"/>
                </a:lnTo>
                <a:lnTo>
                  <a:pt x="22" y="119"/>
                </a:lnTo>
                <a:lnTo>
                  <a:pt x="30" y="119"/>
                </a:lnTo>
                <a:lnTo>
                  <a:pt x="37" y="119"/>
                </a:lnTo>
                <a:lnTo>
                  <a:pt x="45" y="111"/>
                </a:lnTo>
                <a:lnTo>
                  <a:pt x="52" y="111"/>
                </a:lnTo>
                <a:lnTo>
                  <a:pt x="59" y="104"/>
                </a:lnTo>
                <a:lnTo>
                  <a:pt x="67" y="104"/>
                </a:lnTo>
                <a:lnTo>
                  <a:pt x="74" y="96"/>
                </a:lnTo>
                <a:lnTo>
                  <a:pt x="82" y="96"/>
                </a:lnTo>
                <a:lnTo>
                  <a:pt x="89" y="96"/>
                </a:lnTo>
                <a:lnTo>
                  <a:pt x="96" y="89"/>
                </a:lnTo>
                <a:lnTo>
                  <a:pt x="104" y="89"/>
                </a:lnTo>
                <a:lnTo>
                  <a:pt x="111" y="82"/>
                </a:lnTo>
                <a:lnTo>
                  <a:pt x="119" y="82"/>
                </a:lnTo>
                <a:lnTo>
                  <a:pt x="126" y="82"/>
                </a:lnTo>
                <a:lnTo>
                  <a:pt x="134" y="74"/>
                </a:lnTo>
                <a:lnTo>
                  <a:pt x="141" y="74"/>
                </a:lnTo>
                <a:lnTo>
                  <a:pt x="148" y="74"/>
                </a:lnTo>
                <a:lnTo>
                  <a:pt x="156" y="74"/>
                </a:lnTo>
                <a:lnTo>
                  <a:pt x="163" y="67"/>
                </a:lnTo>
                <a:lnTo>
                  <a:pt x="171" y="67"/>
                </a:lnTo>
                <a:lnTo>
                  <a:pt x="178" y="67"/>
                </a:lnTo>
                <a:lnTo>
                  <a:pt x="185" y="59"/>
                </a:lnTo>
                <a:lnTo>
                  <a:pt x="193" y="59"/>
                </a:lnTo>
                <a:lnTo>
                  <a:pt x="200" y="59"/>
                </a:lnTo>
                <a:lnTo>
                  <a:pt x="208" y="59"/>
                </a:lnTo>
                <a:lnTo>
                  <a:pt x="215" y="59"/>
                </a:lnTo>
                <a:lnTo>
                  <a:pt x="222" y="52"/>
                </a:lnTo>
                <a:lnTo>
                  <a:pt x="230" y="52"/>
                </a:lnTo>
                <a:lnTo>
                  <a:pt x="237" y="52"/>
                </a:lnTo>
                <a:lnTo>
                  <a:pt x="245" y="52"/>
                </a:lnTo>
                <a:lnTo>
                  <a:pt x="252" y="44"/>
                </a:lnTo>
                <a:lnTo>
                  <a:pt x="259" y="44"/>
                </a:lnTo>
                <a:lnTo>
                  <a:pt x="267" y="44"/>
                </a:lnTo>
                <a:lnTo>
                  <a:pt x="274" y="44"/>
                </a:lnTo>
                <a:lnTo>
                  <a:pt x="282" y="44"/>
                </a:lnTo>
                <a:lnTo>
                  <a:pt x="289" y="37"/>
                </a:lnTo>
                <a:lnTo>
                  <a:pt x="296" y="37"/>
                </a:lnTo>
                <a:lnTo>
                  <a:pt x="304" y="37"/>
                </a:lnTo>
                <a:lnTo>
                  <a:pt x="311" y="37"/>
                </a:lnTo>
                <a:lnTo>
                  <a:pt x="319" y="37"/>
                </a:lnTo>
                <a:lnTo>
                  <a:pt x="326" y="30"/>
                </a:lnTo>
                <a:lnTo>
                  <a:pt x="333" y="30"/>
                </a:lnTo>
                <a:lnTo>
                  <a:pt x="341" y="30"/>
                </a:lnTo>
                <a:lnTo>
                  <a:pt x="348" y="30"/>
                </a:lnTo>
                <a:lnTo>
                  <a:pt x="356" y="30"/>
                </a:lnTo>
                <a:lnTo>
                  <a:pt x="363" y="30"/>
                </a:lnTo>
                <a:lnTo>
                  <a:pt x="371" y="30"/>
                </a:lnTo>
                <a:lnTo>
                  <a:pt x="378" y="22"/>
                </a:lnTo>
                <a:lnTo>
                  <a:pt x="385" y="22"/>
                </a:lnTo>
                <a:lnTo>
                  <a:pt x="393" y="22"/>
                </a:lnTo>
                <a:lnTo>
                  <a:pt x="400" y="22"/>
                </a:lnTo>
                <a:lnTo>
                  <a:pt x="408" y="22"/>
                </a:lnTo>
                <a:lnTo>
                  <a:pt x="415" y="22"/>
                </a:lnTo>
                <a:lnTo>
                  <a:pt x="422" y="22"/>
                </a:lnTo>
                <a:lnTo>
                  <a:pt x="430" y="22"/>
                </a:lnTo>
                <a:lnTo>
                  <a:pt x="437" y="15"/>
                </a:lnTo>
                <a:lnTo>
                  <a:pt x="445" y="15"/>
                </a:lnTo>
                <a:lnTo>
                  <a:pt x="452" y="15"/>
                </a:lnTo>
                <a:lnTo>
                  <a:pt x="459" y="15"/>
                </a:lnTo>
                <a:lnTo>
                  <a:pt x="467" y="15"/>
                </a:lnTo>
                <a:lnTo>
                  <a:pt x="474" y="15"/>
                </a:lnTo>
                <a:lnTo>
                  <a:pt x="482" y="15"/>
                </a:lnTo>
                <a:lnTo>
                  <a:pt x="489" y="15"/>
                </a:lnTo>
                <a:lnTo>
                  <a:pt x="496" y="15"/>
                </a:lnTo>
                <a:lnTo>
                  <a:pt x="504" y="15"/>
                </a:lnTo>
                <a:lnTo>
                  <a:pt x="511" y="15"/>
                </a:lnTo>
                <a:lnTo>
                  <a:pt x="519" y="7"/>
                </a:lnTo>
                <a:lnTo>
                  <a:pt x="526" y="7"/>
                </a:lnTo>
                <a:lnTo>
                  <a:pt x="533" y="7"/>
                </a:lnTo>
                <a:lnTo>
                  <a:pt x="541" y="7"/>
                </a:lnTo>
                <a:lnTo>
                  <a:pt x="548" y="7"/>
                </a:lnTo>
                <a:lnTo>
                  <a:pt x="556" y="7"/>
                </a:lnTo>
                <a:lnTo>
                  <a:pt x="563" y="7"/>
                </a:lnTo>
                <a:lnTo>
                  <a:pt x="570" y="7"/>
                </a:lnTo>
                <a:lnTo>
                  <a:pt x="578" y="7"/>
                </a:lnTo>
                <a:lnTo>
                  <a:pt x="585" y="7"/>
                </a:lnTo>
                <a:lnTo>
                  <a:pt x="593" y="7"/>
                </a:lnTo>
                <a:lnTo>
                  <a:pt x="600" y="7"/>
                </a:lnTo>
                <a:lnTo>
                  <a:pt x="608" y="7"/>
                </a:lnTo>
                <a:lnTo>
                  <a:pt x="615" y="7"/>
                </a:lnTo>
                <a:lnTo>
                  <a:pt x="622" y="7"/>
                </a:lnTo>
                <a:lnTo>
                  <a:pt x="630" y="7"/>
                </a:lnTo>
                <a:lnTo>
                  <a:pt x="637" y="7"/>
                </a:lnTo>
                <a:lnTo>
                  <a:pt x="645" y="7"/>
                </a:lnTo>
                <a:lnTo>
                  <a:pt x="652" y="7"/>
                </a:lnTo>
                <a:lnTo>
                  <a:pt x="659" y="0"/>
                </a:lnTo>
                <a:lnTo>
                  <a:pt x="667" y="0"/>
                </a:lnTo>
                <a:lnTo>
                  <a:pt x="674" y="0"/>
                </a:lnTo>
                <a:lnTo>
                  <a:pt x="682" y="0"/>
                </a:lnTo>
                <a:lnTo>
                  <a:pt x="689" y="0"/>
                </a:lnTo>
                <a:lnTo>
                  <a:pt x="696" y="0"/>
                </a:lnTo>
                <a:lnTo>
                  <a:pt x="704" y="0"/>
                </a:lnTo>
                <a:lnTo>
                  <a:pt x="711" y="0"/>
                </a:lnTo>
                <a:lnTo>
                  <a:pt x="719" y="0"/>
                </a:lnTo>
                <a:lnTo>
                  <a:pt x="726" y="0"/>
                </a:lnTo>
                <a:lnTo>
                  <a:pt x="733" y="0"/>
                </a:lnTo>
                <a:lnTo>
                  <a:pt x="741" y="0"/>
                </a:lnTo>
                <a:lnTo>
                  <a:pt x="748" y="0"/>
                </a:lnTo>
                <a:lnTo>
                  <a:pt x="756" y="0"/>
                </a:lnTo>
                <a:lnTo>
                  <a:pt x="763" y="0"/>
                </a:lnTo>
                <a:lnTo>
                  <a:pt x="770" y="0"/>
                </a:lnTo>
                <a:lnTo>
                  <a:pt x="778" y="0"/>
                </a:lnTo>
                <a:lnTo>
                  <a:pt x="785" y="0"/>
                </a:lnTo>
                <a:lnTo>
                  <a:pt x="793" y="0"/>
                </a:lnTo>
                <a:lnTo>
                  <a:pt x="800" y="0"/>
                </a:lnTo>
                <a:lnTo>
                  <a:pt x="807" y="0"/>
                </a:lnTo>
                <a:lnTo>
                  <a:pt x="815" y="0"/>
                </a:lnTo>
                <a:lnTo>
                  <a:pt x="822" y="0"/>
                </a:lnTo>
                <a:lnTo>
                  <a:pt x="830" y="0"/>
                </a:lnTo>
                <a:lnTo>
                  <a:pt x="837" y="0"/>
                </a:lnTo>
                <a:lnTo>
                  <a:pt x="845" y="0"/>
                </a:lnTo>
                <a:lnTo>
                  <a:pt x="852" y="0"/>
                </a:lnTo>
                <a:lnTo>
                  <a:pt x="859" y="0"/>
                </a:lnTo>
                <a:lnTo>
                  <a:pt x="867" y="0"/>
                </a:lnTo>
                <a:lnTo>
                  <a:pt x="874" y="0"/>
                </a:lnTo>
                <a:lnTo>
                  <a:pt x="882" y="0"/>
                </a:lnTo>
                <a:lnTo>
                  <a:pt x="889" y="0"/>
                </a:lnTo>
                <a:lnTo>
                  <a:pt x="896" y="0"/>
                </a:lnTo>
                <a:lnTo>
                  <a:pt x="904" y="0"/>
                </a:lnTo>
                <a:lnTo>
                  <a:pt x="911" y="0"/>
                </a:lnTo>
                <a:lnTo>
                  <a:pt x="919" y="0"/>
                </a:lnTo>
                <a:lnTo>
                  <a:pt x="926" y="0"/>
                </a:lnTo>
                <a:lnTo>
                  <a:pt x="933" y="0"/>
                </a:lnTo>
                <a:lnTo>
                  <a:pt x="941" y="0"/>
                </a:lnTo>
                <a:lnTo>
                  <a:pt x="948" y="0"/>
                </a:lnTo>
                <a:lnTo>
                  <a:pt x="956" y="0"/>
                </a:lnTo>
                <a:lnTo>
                  <a:pt x="963" y="0"/>
                </a:lnTo>
                <a:lnTo>
                  <a:pt x="970" y="0"/>
                </a:lnTo>
                <a:lnTo>
                  <a:pt x="978" y="0"/>
                </a:lnTo>
                <a:lnTo>
                  <a:pt x="985" y="0"/>
                </a:lnTo>
                <a:lnTo>
                  <a:pt x="993" y="0"/>
                </a:lnTo>
                <a:lnTo>
                  <a:pt x="1000" y="0"/>
                </a:lnTo>
                <a:lnTo>
                  <a:pt x="1007" y="0"/>
                </a:lnTo>
                <a:lnTo>
                  <a:pt x="1015" y="0"/>
                </a:lnTo>
                <a:lnTo>
                  <a:pt x="1022" y="0"/>
                </a:lnTo>
                <a:lnTo>
                  <a:pt x="1030" y="0"/>
                </a:lnTo>
                <a:lnTo>
                  <a:pt x="1037" y="0"/>
                </a:lnTo>
                <a:lnTo>
                  <a:pt x="1044" y="0"/>
                </a:lnTo>
                <a:lnTo>
                  <a:pt x="1052" y="0"/>
                </a:lnTo>
                <a:lnTo>
                  <a:pt x="1059" y="0"/>
                </a:lnTo>
                <a:lnTo>
                  <a:pt x="1067" y="0"/>
                </a:lnTo>
                <a:lnTo>
                  <a:pt x="1074" y="0"/>
                </a:lnTo>
                <a:lnTo>
                  <a:pt x="1082" y="0"/>
                </a:lnTo>
                <a:lnTo>
                  <a:pt x="1089" y="0"/>
                </a:lnTo>
                <a:lnTo>
                  <a:pt x="1096" y="0"/>
                </a:lnTo>
                <a:lnTo>
                  <a:pt x="1104" y="0"/>
                </a:lnTo>
                <a:lnTo>
                  <a:pt x="1111" y="0"/>
                </a:lnTo>
                <a:lnTo>
                  <a:pt x="1119" y="0"/>
                </a:lnTo>
                <a:lnTo>
                  <a:pt x="1126" y="0"/>
                </a:lnTo>
                <a:lnTo>
                  <a:pt x="1133" y="0"/>
                </a:lnTo>
                <a:lnTo>
                  <a:pt x="1141" y="0"/>
                </a:lnTo>
                <a:lnTo>
                  <a:pt x="1148" y="0"/>
                </a:lnTo>
                <a:lnTo>
                  <a:pt x="1156" y="0"/>
                </a:lnTo>
                <a:lnTo>
                  <a:pt x="1163" y="0"/>
                </a:lnTo>
                <a:lnTo>
                  <a:pt x="1170" y="0"/>
                </a:lnTo>
                <a:lnTo>
                  <a:pt x="1178" y="0"/>
                </a:lnTo>
                <a:lnTo>
                  <a:pt x="1185" y="0"/>
                </a:lnTo>
                <a:lnTo>
                  <a:pt x="1193" y="0"/>
                </a:lnTo>
                <a:lnTo>
                  <a:pt x="1200" y="0"/>
                </a:lnTo>
                <a:lnTo>
                  <a:pt x="1207" y="0"/>
                </a:lnTo>
                <a:lnTo>
                  <a:pt x="1215" y="0"/>
                </a:lnTo>
                <a:lnTo>
                  <a:pt x="1222" y="0"/>
                </a:lnTo>
                <a:lnTo>
                  <a:pt x="1230" y="0"/>
                </a:lnTo>
                <a:lnTo>
                  <a:pt x="1237" y="0"/>
                </a:lnTo>
                <a:lnTo>
                  <a:pt x="1244" y="7"/>
                </a:lnTo>
                <a:lnTo>
                  <a:pt x="1252" y="7"/>
                </a:lnTo>
                <a:lnTo>
                  <a:pt x="1259" y="7"/>
                </a:lnTo>
                <a:lnTo>
                  <a:pt x="1267" y="7"/>
                </a:lnTo>
                <a:lnTo>
                  <a:pt x="1274" y="7"/>
                </a:lnTo>
                <a:lnTo>
                  <a:pt x="1281" y="7"/>
                </a:lnTo>
                <a:lnTo>
                  <a:pt x="1289" y="7"/>
                </a:lnTo>
                <a:lnTo>
                  <a:pt x="1296" y="7"/>
                </a:lnTo>
                <a:lnTo>
                  <a:pt x="1304" y="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6840" y="327672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p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55760" y="3733920"/>
            <a:ext cx="417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12120" y="3657600"/>
            <a:ext cx="72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17557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9040" y="5562720"/>
            <a:ext cx="63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996920" y="23968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738520" y="279252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98720" y="29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1374840" y="586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699160" y="2128680"/>
          <a:ext cx="2469960" cy="10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2128680"/>
                    <a:ext cx="24699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"/>
          <p:cNvGraphicFramePr/>
          <p:nvPr/>
        </p:nvGraphicFramePr>
        <p:xfrm>
          <a:off x="5105520" y="3429000"/>
          <a:ext cx="403848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429000"/>
                    <a:ext cx="40384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"/>
          <p:cNvSpPr/>
          <p:nvPr/>
        </p:nvSpPr>
        <p:spPr>
          <a:xfrm>
            <a:off x="5255640" y="4800600"/>
            <a:ext cx="28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oo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876920" y="5334120"/>
          <a:ext cx="4038480" cy="78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334120"/>
                    <a:ext cx="4038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/>
          <p:nvPr/>
        </p:nvSpPr>
        <p:spPr>
          <a:xfrm>
            <a:off x="2661480" y="22860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Effectiv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747360" y="114300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transducer parameters determined experiment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914400" y="1828800"/>
          <a:ext cx="7238880" cy="2938320"/>
        </p:xfrm>
        <a:graphic>
          <a:graphicData uri="http://schemas.openxmlformats.org/drawingml/2006/table">
            <a:tbl>
              <a:tblPr/>
              <a:tblGrid>
                <a:gridCol w="1809720"/>
                <a:gridCol w="2076480"/>
                <a:gridCol w="2133720"/>
                <a:gridCol w="121896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ufacturers Spe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cal length   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m)                (c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mated 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cal length     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m)                    (c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2              0.4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47             0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2              0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74             0.5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2              0.4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45               0.4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"/>
          <p:cNvSpPr/>
          <p:nvPr/>
        </p:nvSpPr>
        <p:spPr>
          <a:xfrm>
            <a:off x="889560" y="5146560"/>
            <a:ext cx="78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values should be independent of frequency bu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 they do vary somewhat with the frequency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their deter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661480" y="22860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Effectiv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6360" y="905040"/>
            <a:ext cx="67719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-echo experimental determination of impeda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y of commercial trans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determination of effective radii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al lengths of commercial trans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2743200"/>
          <a:ext cx="609624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743200"/>
                    <a:ext cx="60962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752480" y="1447920"/>
          <a:ext cx="5637240" cy="90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447920"/>
                    <a:ext cx="563724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75680" y="22860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impedance,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18720" y="4267080"/>
            <a:ext cx="56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ully characterize these generation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tion transfer functions, we need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le to obtain the transducers input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dance and their sensi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7000" y="22860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4114800"/>
            <a:ext cx="10666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5160" y="1143000"/>
            <a:ext cx="671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of the transducer input impedance,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2971800"/>
            <a:ext cx="914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3352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3352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3809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4952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3809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560" y="3200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800" y="39625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048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27920" y="24145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pr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27680" y="337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63880" y="28828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886200" y="43434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480" y="4343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61080" y="32529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64796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86200" y="5486400"/>
          <a:ext cx="1143000" cy="8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486400"/>
                    <a:ext cx="11430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"/>
          <p:cNvGrpSpPr/>
          <p:nvPr/>
        </p:nvGrpSpPr>
        <p:grpSpPr>
          <a:xfrm>
            <a:off x="4444920" y="3730680"/>
            <a:ext cx="417600" cy="880560"/>
            <a:chOff x="4444920" y="3730680"/>
            <a:chExt cx="417600" cy="880560"/>
          </a:xfrm>
        </p:grpSpPr>
        <p:grpSp>
          <p:nvGrpSpPr>
            <p:cNvPr id="77" name=""/>
            <p:cNvGrpSpPr/>
            <p:nvPr/>
          </p:nvGrpSpPr>
          <p:grpSpPr>
            <a:xfrm>
              <a:off x="4444920" y="3730680"/>
              <a:ext cx="417600" cy="880560"/>
              <a:chOff x="4444920" y="3730680"/>
              <a:chExt cx="417600" cy="880560"/>
            </a:xfrm>
          </p:grpSpPr>
          <p:sp>
            <p:nvSpPr>
              <p:cNvPr id="78" name=""/>
              <p:cNvSpPr/>
              <p:nvPr/>
            </p:nvSpPr>
            <p:spPr>
              <a:xfrm flipH="1" flipV="1" rot="16200000">
                <a:off x="4314960" y="4063680"/>
                <a:ext cx="677520" cy="4176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16200000">
                <a:off x="4605480" y="3824640"/>
                <a:ext cx="66240" cy="14904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16200000">
                <a:off x="4605480" y="3786840"/>
                <a:ext cx="66240" cy="8928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16200000">
                <a:off x="4605480" y="3689280"/>
                <a:ext cx="66240" cy="14904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rot="16200000">
              <a:off x="4620600" y="4436640"/>
              <a:ext cx="69120" cy="2800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V="1">
            <a:off x="4724280" y="41907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914400"/>
            <a:ext cx="6945480" cy="566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7000" y="22860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744560"/>
            <a:ext cx="6486480" cy="41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057400"/>
            <a:ext cx="5011560" cy="337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2057400"/>
            <a:ext cx="5011560" cy="3379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5437080"/>
            <a:ext cx="5011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14600" y="2057400"/>
            <a:ext cx="1440" cy="3379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514600" y="539604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1760" y="5478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768840" y="539604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24200" y="5478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021280" y="539604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24440" y="54784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73720" y="539604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7240" y="54784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526160" y="539604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31120" y="54784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543708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74920" y="5364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430848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2760" y="42339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318780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00960" y="31129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05740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00960" y="19843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63920" y="2106720"/>
            <a:ext cx="4848120" cy="3273480"/>
          </a:xfrm>
          <a:custGeom>
            <a:avLst/>
            <a:gdLst/>
            <a:ahLst/>
            <a:rect l="l" t="t" r="r" b="b"/>
            <a:pathLst>
              <a:path w="3054" h="2062">
                <a:moveTo>
                  <a:pt x="0" y="0"/>
                </a:moveTo>
                <a:lnTo>
                  <a:pt x="6" y="260"/>
                </a:lnTo>
                <a:lnTo>
                  <a:pt x="18" y="494"/>
                </a:lnTo>
                <a:lnTo>
                  <a:pt x="30" y="681"/>
                </a:lnTo>
                <a:lnTo>
                  <a:pt x="36" y="831"/>
                </a:lnTo>
                <a:lnTo>
                  <a:pt x="48" y="951"/>
                </a:lnTo>
                <a:lnTo>
                  <a:pt x="54" y="1044"/>
                </a:lnTo>
                <a:lnTo>
                  <a:pt x="66" y="1117"/>
                </a:lnTo>
                <a:lnTo>
                  <a:pt x="72" y="1179"/>
                </a:lnTo>
                <a:lnTo>
                  <a:pt x="85" y="1231"/>
                </a:lnTo>
                <a:lnTo>
                  <a:pt x="97" y="1273"/>
                </a:lnTo>
                <a:lnTo>
                  <a:pt x="103" y="1309"/>
                </a:lnTo>
                <a:lnTo>
                  <a:pt x="115" y="1345"/>
                </a:lnTo>
                <a:lnTo>
                  <a:pt x="121" y="1377"/>
                </a:lnTo>
                <a:lnTo>
                  <a:pt x="133" y="1408"/>
                </a:lnTo>
                <a:lnTo>
                  <a:pt x="145" y="1439"/>
                </a:lnTo>
                <a:lnTo>
                  <a:pt x="151" y="1470"/>
                </a:lnTo>
                <a:lnTo>
                  <a:pt x="164" y="1501"/>
                </a:lnTo>
                <a:lnTo>
                  <a:pt x="170" y="1527"/>
                </a:lnTo>
                <a:lnTo>
                  <a:pt x="182" y="1558"/>
                </a:lnTo>
                <a:lnTo>
                  <a:pt x="188" y="1584"/>
                </a:lnTo>
                <a:lnTo>
                  <a:pt x="200" y="1610"/>
                </a:lnTo>
                <a:lnTo>
                  <a:pt x="212" y="1636"/>
                </a:lnTo>
                <a:lnTo>
                  <a:pt x="218" y="1657"/>
                </a:lnTo>
                <a:lnTo>
                  <a:pt x="230" y="1678"/>
                </a:lnTo>
                <a:lnTo>
                  <a:pt x="236" y="1693"/>
                </a:lnTo>
                <a:lnTo>
                  <a:pt x="249" y="1709"/>
                </a:lnTo>
                <a:lnTo>
                  <a:pt x="261" y="1724"/>
                </a:lnTo>
                <a:lnTo>
                  <a:pt x="267" y="1735"/>
                </a:lnTo>
                <a:lnTo>
                  <a:pt x="279" y="1745"/>
                </a:lnTo>
                <a:lnTo>
                  <a:pt x="285" y="1756"/>
                </a:lnTo>
                <a:lnTo>
                  <a:pt x="297" y="1761"/>
                </a:lnTo>
                <a:lnTo>
                  <a:pt x="309" y="1771"/>
                </a:lnTo>
                <a:lnTo>
                  <a:pt x="315" y="1782"/>
                </a:lnTo>
                <a:lnTo>
                  <a:pt x="327" y="1787"/>
                </a:lnTo>
                <a:lnTo>
                  <a:pt x="334" y="1792"/>
                </a:lnTo>
                <a:lnTo>
                  <a:pt x="346" y="1802"/>
                </a:lnTo>
                <a:lnTo>
                  <a:pt x="352" y="1807"/>
                </a:lnTo>
                <a:lnTo>
                  <a:pt x="364" y="1818"/>
                </a:lnTo>
                <a:lnTo>
                  <a:pt x="376" y="1823"/>
                </a:lnTo>
                <a:lnTo>
                  <a:pt x="382" y="1833"/>
                </a:lnTo>
                <a:lnTo>
                  <a:pt x="394" y="1839"/>
                </a:lnTo>
                <a:lnTo>
                  <a:pt x="400" y="1844"/>
                </a:lnTo>
                <a:lnTo>
                  <a:pt x="412" y="1854"/>
                </a:lnTo>
                <a:lnTo>
                  <a:pt x="425" y="1859"/>
                </a:lnTo>
                <a:lnTo>
                  <a:pt x="431" y="1865"/>
                </a:lnTo>
                <a:lnTo>
                  <a:pt x="443" y="1870"/>
                </a:lnTo>
                <a:lnTo>
                  <a:pt x="449" y="1875"/>
                </a:lnTo>
                <a:lnTo>
                  <a:pt x="461" y="1880"/>
                </a:lnTo>
                <a:lnTo>
                  <a:pt x="473" y="1880"/>
                </a:lnTo>
                <a:lnTo>
                  <a:pt x="479" y="1885"/>
                </a:lnTo>
                <a:lnTo>
                  <a:pt x="491" y="1891"/>
                </a:lnTo>
                <a:lnTo>
                  <a:pt x="497" y="1891"/>
                </a:lnTo>
                <a:lnTo>
                  <a:pt x="510" y="1896"/>
                </a:lnTo>
                <a:lnTo>
                  <a:pt x="516" y="1901"/>
                </a:lnTo>
                <a:lnTo>
                  <a:pt x="528" y="1901"/>
                </a:lnTo>
                <a:lnTo>
                  <a:pt x="540" y="1906"/>
                </a:lnTo>
                <a:lnTo>
                  <a:pt x="546" y="1906"/>
                </a:lnTo>
                <a:lnTo>
                  <a:pt x="558" y="1911"/>
                </a:lnTo>
                <a:lnTo>
                  <a:pt x="564" y="1917"/>
                </a:lnTo>
                <a:lnTo>
                  <a:pt x="576" y="1917"/>
                </a:lnTo>
                <a:lnTo>
                  <a:pt x="589" y="1922"/>
                </a:lnTo>
                <a:lnTo>
                  <a:pt x="595" y="1922"/>
                </a:lnTo>
                <a:lnTo>
                  <a:pt x="607" y="1927"/>
                </a:lnTo>
                <a:lnTo>
                  <a:pt x="613" y="1927"/>
                </a:lnTo>
                <a:lnTo>
                  <a:pt x="625" y="1932"/>
                </a:lnTo>
                <a:lnTo>
                  <a:pt x="631" y="1932"/>
                </a:lnTo>
                <a:lnTo>
                  <a:pt x="643" y="1937"/>
                </a:lnTo>
                <a:lnTo>
                  <a:pt x="655" y="1937"/>
                </a:lnTo>
                <a:lnTo>
                  <a:pt x="661" y="1937"/>
                </a:lnTo>
                <a:lnTo>
                  <a:pt x="674" y="1942"/>
                </a:lnTo>
                <a:lnTo>
                  <a:pt x="680" y="1942"/>
                </a:lnTo>
                <a:lnTo>
                  <a:pt x="692" y="1942"/>
                </a:lnTo>
                <a:lnTo>
                  <a:pt x="704" y="1948"/>
                </a:lnTo>
                <a:lnTo>
                  <a:pt x="710" y="1948"/>
                </a:lnTo>
                <a:lnTo>
                  <a:pt x="722" y="1948"/>
                </a:lnTo>
                <a:lnTo>
                  <a:pt x="728" y="1953"/>
                </a:lnTo>
                <a:lnTo>
                  <a:pt x="740" y="1953"/>
                </a:lnTo>
                <a:lnTo>
                  <a:pt x="752" y="1958"/>
                </a:lnTo>
                <a:lnTo>
                  <a:pt x="759" y="1958"/>
                </a:lnTo>
                <a:lnTo>
                  <a:pt x="771" y="1958"/>
                </a:lnTo>
                <a:lnTo>
                  <a:pt x="777" y="1963"/>
                </a:lnTo>
                <a:lnTo>
                  <a:pt x="789" y="1963"/>
                </a:lnTo>
                <a:lnTo>
                  <a:pt x="795" y="1968"/>
                </a:lnTo>
                <a:lnTo>
                  <a:pt x="807" y="1968"/>
                </a:lnTo>
                <a:lnTo>
                  <a:pt x="819" y="1968"/>
                </a:lnTo>
                <a:lnTo>
                  <a:pt x="825" y="1968"/>
                </a:lnTo>
                <a:lnTo>
                  <a:pt x="837" y="1974"/>
                </a:lnTo>
                <a:lnTo>
                  <a:pt x="844" y="1974"/>
                </a:lnTo>
                <a:lnTo>
                  <a:pt x="856" y="1974"/>
                </a:lnTo>
                <a:lnTo>
                  <a:pt x="868" y="1974"/>
                </a:lnTo>
                <a:lnTo>
                  <a:pt x="874" y="1979"/>
                </a:lnTo>
                <a:lnTo>
                  <a:pt x="886" y="1979"/>
                </a:lnTo>
                <a:lnTo>
                  <a:pt x="892" y="1979"/>
                </a:lnTo>
                <a:lnTo>
                  <a:pt x="904" y="1979"/>
                </a:lnTo>
                <a:lnTo>
                  <a:pt x="916" y="1984"/>
                </a:lnTo>
                <a:lnTo>
                  <a:pt x="922" y="1984"/>
                </a:lnTo>
                <a:lnTo>
                  <a:pt x="935" y="1984"/>
                </a:lnTo>
                <a:lnTo>
                  <a:pt x="941" y="1984"/>
                </a:lnTo>
                <a:lnTo>
                  <a:pt x="953" y="1989"/>
                </a:lnTo>
                <a:lnTo>
                  <a:pt x="959" y="1989"/>
                </a:lnTo>
                <a:lnTo>
                  <a:pt x="971" y="1989"/>
                </a:lnTo>
                <a:lnTo>
                  <a:pt x="983" y="1989"/>
                </a:lnTo>
                <a:lnTo>
                  <a:pt x="989" y="1989"/>
                </a:lnTo>
                <a:lnTo>
                  <a:pt x="1001" y="1994"/>
                </a:lnTo>
                <a:lnTo>
                  <a:pt x="1007" y="1994"/>
                </a:lnTo>
                <a:lnTo>
                  <a:pt x="1020" y="1994"/>
                </a:lnTo>
                <a:lnTo>
                  <a:pt x="1032" y="1994"/>
                </a:lnTo>
                <a:lnTo>
                  <a:pt x="1038" y="1994"/>
                </a:lnTo>
                <a:lnTo>
                  <a:pt x="1050" y="1994"/>
                </a:lnTo>
                <a:lnTo>
                  <a:pt x="1056" y="1994"/>
                </a:lnTo>
                <a:lnTo>
                  <a:pt x="1068" y="1994"/>
                </a:lnTo>
                <a:lnTo>
                  <a:pt x="1074" y="1994"/>
                </a:lnTo>
                <a:lnTo>
                  <a:pt x="1086" y="2000"/>
                </a:lnTo>
                <a:lnTo>
                  <a:pt x="1099" y="2000"/>
                </a:lnTo>
                <a:lnTo>
                  <a:pt x="1105" y="2000"/>
                </a:lnTo>
                <a:lnTo>
                  <a:pt x="1117" y="2000"/>
                </a:lnTo>
                <a:lnTo>
                  <a:pt x="1123" y="2000"/>
                </a:lnTo>
                <a:lnTo>
                  <a:pt x="1135" y="2000"/>
                </a:lnTo>
                <a:lnTo>
                  <a:pt x="1147" y="2000"/>
                </a:lnTo>
                <a:lnTo>
                  <a:pt x="1153" y="2000"/>
                </a:lnTo>
                <a:lnTo>
                  <a:pt x="1165" y="2000"/>
                </a:lnTo>
                <a:lnTo>
                  <a:pt x="1171" y="2000"/>
                </a:lnTo>
                <a:lnTo>
                  <a:pt x="1184" y="2000"/>
                </a:lnTo>
                <a:lnTo>
                  <a:pt x="1196" y="2000"/>
                </a:lnTo>
                <a:lnTo>
                  <a:pt x="1202" y="2000"/>
                </a:lnTo>
                <a:lnTo>
                  <a:pt x="1214" y="2000"/>
                </a:lnTo>
                <a:lnTo>
                  <a:pt x="1220" y="2000"/>
                </a:lnTo>
                <a:lnTo>
                  <a:pt x="1232" y="2000"/>
                </a:lnTo>
                <a:lnTo>
                  <a:pt x="1238" y="2005"/>
                </a:lnTo>
                <a:lnTo>
                  <a:pt x="1250" y="2005"/>
                </a:lnTo>
                <a:lnTo>
                  <a:pt x="1262" y="2005"/>
                </a:lnTo>
                <a:lnTo>
                  <a:pt x="1269" y="2005"/>
                </a:lnTo>
                <a:lnTo>
                  <a:pt x="1281" y="2005"/>
                </a:lnTo>
                <a:lnTo>
                  <a:pt x="1287" y="2005"/>
                </a:lnTo>
                <a:lnTo>
                  <a:pt x="1299" y="2005"/>
                </a:lnTo>
                <a:lnTo>
                  <a:pt x="1311" y="2005"/>
                </a:lnTo>
                <a:lnTo>
                  <a:pt x="1317" y="2005"/>
                </a:lnTo>
                <a:lnTo>
                  <a:pt x="1329" y="2005"/>
                </a:lnTo>
                <a:lnTo>
                  <a:pt x="1335" y="2005"/>
                </a:lnTo>
                <a:lnTo>
                  <a:pt x="1347" y="2005"/>
                </a:lnTo>
                <a:lnTo>
                  <a:pt x="1360" y="2005"/>
                </a:lnTo>
                <a:lnTo>
                  <a:pt x="1366" y="2005"/>
                </a:lnTo>
                <a:lnTo>
                  <a:pt x="1378" y="2005"/>
                </a:lnTo>
                <a:lnTo>
                  <a:pt x="1384" y="2010"/>
                </a:lnTo>
                <a:lnTo>
                  <a:pt x="1396" y="2010"/>
                </a:lnTo>
                <a:lnTo>
                  <a:pt x="1402" y="2010"/>
                </a:lnTo>
                <a:lnTo>
                  <a:pt x="1414" y="2010"/>
                </a:lnTo>
                <a:lnTo>
                  <a:pt x="1426" y="2010"/>
                </a:lnTo>
                <a:lnTo>
                  <a:pt x="1432" y="2010"/>
                </a:lnTo>
                <a:lnTo>
                  <a:pt x="1445" y="2010"/>
                </a:lnTo>
                <a:lnTo>
                  <a:pt x="1451" y="2010"/>
                </a:lnTo>
                <a:lnTo>
                  <a:pt x="1463" y="2010"/>
                </a:lnTo>
                <a:lnTo>
                  <a:pt x="1475" y="2010"/>
                </a:lnTo>
                <a:lnTo>
                  <a:pt x="1481" y="2015"/>
                </a:lnTo>
                <a:lnTo>
                  <a:pt x="1493" y="2015"/>
                </a:lnTo>
                <a:lnTo>
                  <a:pt x="1499" y="2015"/>
                </a:lnTo>
                <a:lnTo>
                  <a:pt x="1511" y="2015"/>
                </a:lnTo>
                <a:lnTo>
                  <a:pt x="1517" y="2015"/>
                </a:lnTo>
                <a:lnTo>
                  <a:pt x="1530" y="2015"/>
                </a:lnTo>
                <a:lnTo>
                  <a:pt x="1542" y="2015"/>
                </a:lnTo>
                <a:lnTo>
                  <a:pt x="1548" y="2015"/>
                </a:lnTo>
                <a:lnTo>
                  <a:pt x="1560" y="2015"/>
                </a:lnTo>
                <a:lnTo>
                  <a:pt x="1566" y="2015"/>
                </a:lnTo>
                <a:lnTo>
                  <a:pt x="1578" y="2020"/>
                </a:lnTo>
                <a:lnTo>
                  <a:pt x="1590" y="2020"/>
                </a:lnTo>
                <a:lnTo>
                  <a:pt x="1596" y="2020"/>
                </a:lnTo>
                <a:lnTo>
                  <a:pt x="1609" y="2020"/>
                </a:lnTo>
                <a:lnTo>
                  <a:pt x="1615" y="2020"/>
                </a:lnTo>
                <a:lnTo>
                  <a:pt x="1627" y="2020"/>
                </a:lnTo>
                <a:lnTo>
                  <a:pt x="1639" y="2020"/>
                </a:lnTo>
                <a:lnTo>
                  <a:pt x="1645" y="2020"/>
                </a:lnTo>
                <a:lnTo>
                  <a:pt x="1657" y="2020"/>
                </a:lnTo>
                <a:lnTo>
                  <a:pt x="1663" y="2026"/>
                </a:lnTo>
                <a:lnTo>
                  <a:pt x="1675" y="2026"/>
                </a:lnTo>
                <a:lnTo>
                  <a:pt x="1681" y="2026"/>
                </a:lnTo>
                <a:lnTo>
                  <a:pt x="1694" y="2026"/>
                </a:lnTo>
                <a:lnTo>
                  <a:pt x="1706" y="2026"/>
                </a:lnTo>
                <a:lnTo>
                  <a:pt x="1712" y="2026"/>
                </a:lnTo>
                <a:lnTo>
                  <a:pt x="1724" y="2026"/>
                </a:lnTo>
                <a:lnTo>
                  <a:pt x="1730" y="2026"/>
                </a:lnTo>
                <a:lnTo>
                  <a:pt x="1742" y="2026"/>
                </a:lnTo>
                <a:lnTo>
                  <a:pt x="1754" y="2026"/>
                </a:lnTo>
                <a:lnTo>
                  <a:pt x="1760" y="2031"/>
                </a:lnTo>
                <a:lnTo>
                  <a:pt x="1772" y="2031"/>
                </a:lnTo>
                <a:lnTo>
                  <a:pt x="1779" y="2031"/>
                </a:lnTo>
                <a:lnTo>
                  <a:pt x="1791" y="2031"/>
                </a:lnTo>
                <a:lnTo>
                  <a:pt x="1803" y="2031"/>
                </a:lnTo>
                <a:lnTo>
                  <a:pt x="1809" y="2031"/>
                </a:lnTo>
                <a:lnTo>
                  <a:pt x="1821" y="2031"/>
                </a:lnTo>
                <a:lnTo>
                  <a:pt x="1827" y="2031"/>
                </a:lnTo>
                <a:lnTo>
                  <a:pt x="1839" y="2031"/>
                </a:lnTo>
                <a:lnTo>
                  <a:pt x="1845" y="2031"/>
                </a:lnTo>
                <a:lnTo>
                  <a:pt x="1857" y="2036"/>
                </a:lnTo>
                <a:lnTo>
                  <a:pt x="1870" y="2036"/>
                </a:lnTo>
                <a:lnTo>
                  <a:pt x="1876" y="2036"/>
                </a:lnTo>
                <a:lnTo>
                  <a:pt x="1888" y="2036"/>
                </a:lnTo>
                <a:lnTo>
                  <a:pt x="1894" y="2036"/>
                </a:lnTo>
                <a:lnTo>
                  <a:pt x="1906" y="2036"/>
                </a:lnTo>
                <a:lnTo>
                  <a:pt x="1918" y="2036"/>
                </a:lnTo>
                <a:lnTo>
                  <a:pt x="1924" y="2036"/>
                </a:lnTo>
                <a:lnTo>
                  <a:pt x="1936" y="2036"/>
                </a:lnTo>
                <a:lnTo>
                  <a:pt x="1942" y="2036"/>
                </a:lnTo>
                <a:lnTo>
                  <a:pt x="1955" y="2036"/>
                </a:lnTo>
                <a:lnTo>
                  <a:pt x="1961" y="2036"/>
                </a:lnTo>
                <a:lnTo>
                  <a:pt x="1973" y="2036"/>
                </a:lnTo>
                <a:lnTo>
                  <a:pt x="1985" y="2036"/>
                </a:lnTo>
                <a:lnTo>
                  <a:pt x="1991" y="2041"/>
                </a:lnTo>
                <a:lnTo>
                  <a:pt x="2003" y="2041"/>
                </a:lnTo>
                <a:lnTo>
                  <a:pt x="2009" y="2041"/>
                </a:lnTo>
                <a:lnTo>
                  <a:pt x="2021" y="2041"/>
                </a:lnTo>
                <a:lnTo>
                  <a:pt x="2034" y="2041"/>
                </a:lnTo>
                <a:lnTo>
                  <a:pt x="2040" y="2041"/>
                </a:lnTo>
                <a:lnTo>
                  <a:pt x="2052" y="2041"/>
                </a:lnTo>
                <a:lnTo>
                  <a:pt x="2058" y="2041"/>
                </a:lnTo>
                <a:lnTo>
                  <a:pt x="2070" y="2041"/>
                </a:lnTo>
                <a:lnTo>
                  <a:pt x="2082" y="2041"/>
                </a:lnTo>
                <a:lnTo>
                  <a:pt x="2088" y="2041"/>
                </a:lnTo>
                <a:lnTo>
                  <a:pt x="2100" y="2041"/>
                </a:lnTo>
                <a:lnTo>
                  <a:pt x="2106" y="2041"/>
                </a:lnTo>
                <a:lnTo>
                  <a:pt x="2119" y="2041"/>
                </a:lnTo>
                <a:lnTo>
                  <a:pt x="2125" y="2041"/>
                </a:lnTo>
                <a:lnTo>
                  <a:pt x="2137" y="2041"/>
                </a:lnTo>
                <a:lnTo>
                  <a:pt x="2149" y="2046"/>
                </a:lnTo>
                <a:lnTo>
                  <a:pt x="2155" y="2046"/>
                </a:lnTo>
                <a:lnTo>
                  <a:pt x="2167" y="2046"/>
                </a:lnTo>
                <a:lnTo>
                  <a:pt x="2173" y="2046"/>
                </a:lnTo>
                <a:lnTo>
                  <a:pt x="2185" y="2046"/>
                </a:lnTo>
                <a:lnTo>
                  <a:pt x="2197" y="2046"/>
                </a:lnTo>
                <a:lnTo>
                  <a:pt x="2204" y="2046"/>
                </a:lnTo>
                <a:lnTo>
                  <a:pt x="2216" y="2046"/>
                </a:lnTo>
                <a:lnTo>
                  <a:pt x="2222" y="2046"/>
                </a:lnTo>
                <a:lnTo>
                  <a:pt x="2234" y="2046"/>
                </a:lnTo>
                <a:lnTo>
                  <a:pt x="2246" y="2046"/>
                </a:lnTo>
                <a:lnTo>
                  <a:pt x="2252" y="2046"/>
                </a:lnTo>
                <a:lnTo>
                  <a:pt x="2264" y="2046"/>
                </a:lnTo>
                <a:lnTo>
                  <a:pt x="2270" y="2046"/>
                </a:lnTo>
                <a:lnTo>
                  <a:pt x="2282" y="2046"/>
                </a:lnTo>
                <a:lnTo>
                  <a:pt x="2289" y="2046"/>
                </a:lnTo>
                <a:lnTo>
                  <a:pt x="2301" y="2046"/>
                </a:lnTo>
                <a:lnTo>
                  <a:pt x="2313" y="2046"/>
                </a:lnTo>
                <a:lnTo>
                  <a:pt x="2319" y="2046"/>
                </a:lnTo>
                <a:lnTo>
                  <a:pt x="2331" y="2052"/>
                </a:lnTo>
                <a:lnTo>
                  <a:pt x="2337" y="2052"/>
                </a:lnTo>
                <a:lnTo>
                  <a:pt x="2349" y="2052"/>
                </a:lnTo>
                <a:lnTo>
                  <a:pt x="2361" y="2052"/>
                </a:lnTo>
                <a:lnTo>
                  <a:pt x="2367" y="2052"/>
                </a:lnTo>
                <a:lnTo>
                  <a:pt x="2380" y="2052"/>
                </a:lnTo>
                <a:lnTo>
                  <a:pt x="2386" y="2052"/>
                </a:lnTo>
                <a:lnTo>
                  <a:pt x="2398" y="2052"/>
                </a:lnTo>
                <a:lnTo>
                  <a:pt x="2404" y="2052"/>
                </a:lnTo>
                <a:lnTo>
                  <a:pt x="2416" y="2052"/>
                </a:lnTo>
                <a:lnTo>
                  <a:pt x="2428" y="2052"/>
                </a:lnTo>
                <a:lnTo>
                  <a:pt x="2434" y="2052"/>
                </a:lnTo>
                <a:lnTo>
                  <a:pt x="2446" y="2052"/>
                </a:lnTo>
                <a:lnTo>
                  <a:pt x="2452" y="2052"/>
                </a:lnTo>
                <a:lnTo>
                  <a:pt x="2465" y="2052"/>
                </a:lnTo>
                <a:lnTo>
                  <a:pt x="2477" y="2052"/>
                </a:lnTo>
                <a:lnTo>
                  <a:pt x="2483" y="2052"/>
                </a:lnTo>
                <a:lnTo>
                  <a:pt x="2495" y="2052"/>
                </a:lnTo>
                <a:lnTo>
                  <a:pt x="2501" y="2052"/>
                </a:lnTo>
                <a:lnTo>
                  <a:pt x="2513" y="2052"/>
                </a:lnTo>
                <a:lnTo>
                  <a:pt x="2525" y="2052"/>
                </a:lnTo>
                <a:lnTo>
                  <a:pt x="2531" y="2057"/>
                </a:lnTo>
                <a:lnTo>
                  <a:pt x="2544" y="2057"/>
                </a:lnTo>
                <a:lnTo>
                  <a:pt x="2550" y="2057"/>
                </a:lnTo>
                <a:lnTo>
                  <a:pt x="2562" y="2057"/>
                </a:lnTo>
                <a:lnTo>
                  <a:pt x="2568" y="2057"/>
                </a:lnTo>
                <a:lnTo>
                  <a:pt x="2580" y="2057"/>
                </a:lnTo>
                <a:lnTo>
                  <a:pt x="2592" y="2057"/>
                </a:lnTo>
                <a:lnTo>
                  <a:pt x="2598" y="2057"/>
                </a:lnTo>
                <a:lnTo>
                  <a:pt x="2610" y="2057"/>
                </a:lnTo>
                <a:lnTo>
                  <a:pt x="2616" y="2057"/>
                </a:lnTo>
                <a:lnTo>
                  <a:pt x="2629" y="2057"/>
                </a:lnTo>
                <a:lnTo>
                  <a:pt x="2641" y="2057"/>
                </a:lnTo>
                <a:lnTo>
                  <a:pt x="2647" y="2057"/>
                </a:lnTo>
                <a:lnTo>
                  <a:pt x="2659" y="2057"/>
                </a:lnTo>
                <a:lnTo>
                  <a:pt x="2665" y="2057"/>
                </a:lnTo>
                <a:lnTo>
                  <a:pt x="2677" y="2057"/>
                </a:lnTo>
                <a:lnTo>
                  <a:pt x="2689" y="2057"/>
                </a:lnTo>
                <a:lnTo>
                  <a:pt x="2695" y="2057"/>
                </a:lnTo>
                <a:lnTo>
                  <a:pt x="2707" y="2057"/>
                </a:lnTo>
                <a:lnTo>
                  <a:pt x="2714" y="2057"/>
                </a:lnTo>
                <a:lnTo>
                  <a:pt x="2726" y="2057"/>
                </a:lnTo>
                <a:lnTo>
                  <a:pt x="2732" y="2057"/>
                </a:lnTo>
                <a:lnTo>
                  <a:pt x="2744" y="2057"/>
                </a:lnTo>
                <a:lnTo>
                  <a:pt x="2756" y="2057"/>
                </a:lnTo>
                <a:lnTo>
                  <a:pt x="2762" y="2057"/>
                </a:lnTo>
                <a:lnTo>
                  <a:pt x="2774" y="2062"/>
                </a:lnTo>
                <a:lnTo>
                  <a:pt x="2780" y="2062"/>
                </a:lnTo>
                <a:lnTo>
                  <a:pt x="2792" y="2062"/>
                </a:lnTo>
                <a:lnTo>
                  <a:pt x="2805" y="2062"/>
                </a:lnTo>
                <a:lnTo>
                  <a:pt x="2811" y="2062"/>
                </a:lnTo>
                <a:lnTo>
                  <a:pt x="2823" y="2062"/>
                </a:lnTo>
                <a:lnTo>
                  <a:pt x="2829" y="2062"/>
                </a:lnTo>
                <a:lnTo>
                  <a:pt x="2841" y="2062"/>
                </a:lnTo>
                <a:lnTo>
                  <a:pt x="2847" y="2062"/>
                </a:lnTo>
                <a:lnTo>
                  <a:pt x="2859" y="2062"/>
                </a:lnTo>
                <a:lnTo>
                  <a:pt x="2871" y="2062"/>
                </a:lnTo>
                <a:lnTo>
                  <a:pt x="2877" y="2062"/>
                </a:lnTo>
                <a:lnTo>
                  <a:pt x="2890" y="2062"/>
                </a:lnTo>
                <a:lnTo>
                  <a:pt x="2896" y="2062"/>
                </a:lnTo>
                <a:lnTo>
                  <a:pt x="2908" y="2062"/>
                </a:lnTo>
                <a:lnTo>
                  <a:pt x="2920" y="2062"/>
                </a:lnTo>
                <a:lnTo>
                  <a:pt x="2926" y="2062"/>
                </a:lnTo>
                <a:lnTo>
                  <a:pt x="2938" y="2062"/>
                </a:lnTo>
                <a:lnTo>
                  <a:pt x="2944" y="2062"/>
                </a:lnTo>
                <a:lnTo>
                  <a:pt x="2956" y="2062"/>
                </a:lnTo>
                <a:lnTo>
                  <a:pt x="2969" y="2062"/>
                </a:lnTo>
                <a:lnTo>
                  <a:pt x="2975" y="2062"/>
                </a:lnTo>
                <a:lnTo>
                  <a:pt x="2987" y="2062"/>
                </a:lnTo>
                <a:lnTo>
                  <a:pt x="2993" y="2062"/>
                </a:lnTo>
                <a:lnTo>
                  <a:pt x="3005" y="2062"/>
                </a:lnTo>
                <a:lnTo>
                  <a:pt x="3011" y="2062"/>
                </a:lnTo>
                <a:lnTo>
                  <a:pt x="3023" y="2062"/>
                </a:lnTo>
                <a:lnTo>
                  <a:pt x="3035" y="2062"/>
                </a:lnTo>
                <a:lnTo>
                  <a:pt x="3041" y="2062"/>
                </a:lnTo>
                <a:lnTo>
                  <a:pt x="3054" y="206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437080"/>
            <a:ext cx="5011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526160" y="2057400"/>
            <a:ext cx="1800" cy="3379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14600" y="539604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71760" y="5478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768840" y="539604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24200" y="5478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021280" y="539604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24440" y="54784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273720" y="539604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7240" y="54784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526160" y="539604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31120" y="54784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478640" y="543708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66120" y="5364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478640" y="49514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66120" y="4876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478640" y="44737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61440" y="43988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478640" y="398628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61440" y="39132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478640" y="350820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61440" y="34336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478640" y="302256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61440" y="29480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478640" y="25448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61440" y="24703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478640" y="205740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61440" y="19843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63920" y="2281320"/>
            <a:ext cx="4848120" cy="3114720"/>
          </a:xfrm>
          <a:custGeom>
            <a:avLst/>
            <a:gdLst/>
            <a:ahLst/>
            <a:rect l="l" t="t" r="r" b="b"/>
            <a:pathLst>
              <a:path w="3054" h="1962">
                <a:moveTo>
                  <a:pt x="0" y="0"/>
                </a:moveTo>
                <a:lnTo>
                  <a:pt x="6" y="389"/>
                </a:lnTo>
                <a:lnTo>
                  <a:pt x="18" y="690"/>
                </a:lnTo>
                <a:lnTo>
                  <a:pt x="30" y="924"/>
                </a:lnTo>
                <a:lnTo>
                  <a:pt x="36" y="1111"/>
                </a:lnTo>
                <a:lnTo>
                  <a:pt x="48" y="1256"/>
                </a:lnTo>
                <a:lnTo>
                  <a:pt x="54" y="1376"/>
                </a:lnTo>
                <a:lnTo>
                  <a:pt x="66" y="1469"/>
                </a:lnTo>
                <a:lnTo>
                  <a:pt x="72" y="1542"/>
                </a:lnTo>
                <a:lnTo>
                  <a:pt x="85" y="1594"/>
                </a:lnTo>
                <a:lnTo>
                  <a:pt x="97" y="1635"/>
                </a:lnTo>
                <a:lnTo>
                  <a:pt x="103" y="1661"/>
                </a:lnTo>
                <a:lnTo>
                  <a:pt x="115" y="1672"/>
                </a:lnTo>
                <a:lnTo>
                  <a:pt x="121" y="1677"/>
                </a:lnTo>
                <a:lnTo>
                  <a:pt x="133" y="1672"/>
                </a:lnTo>
                <a:lnTo>
                  <a:pt x="145" y="1661"/>
                </a:lnTo>
                <a:lnTo>
                  <a:pt x="151" y="1646"/>
                </a:lnTo>
                <a:lnTo>
                  <a:pt x="164" y="1630"/>
                </a:lnTo>
                <a:lnTo>
                  <a:pt x="170" y="1614"/>
                </a:lnTo>
                <a:lnTo>
                  <a:pt x="182" y="1604"/>
                </a:lnTo>
                <a:lnTo>
                  <a:pt x="188" y="1594"/>
                </a:lnTo>
                <a:lnTo>
                  <a:pt x="200" y="1594"/>
                </a:lnTo>
                <a:lnTo>
                  <a:pt x="212" y="1594"/>
                </a:lnTo>
                <a:lnTo>
                  <a:pt x="218" y="1604"/>
                </a:lnTo>
                <a:lnTo>
                  <a:pt x="230" y="1614"/>
                </a:lnTo>
                <a:lnTo>
                  <a:pt x="236" y="1625"/>
                </a:lnTo>
                <a:lnTo>
                  <a:pt x="249" y="1640"/>
                </a:lnTo>
                <a:lnTo>
                  <a:pt x="261" y="1656"/>
                </a:lnTo>
                <a:lnTo>
                  <a:pt x="267" y="1672"/>
                </a:lnTo>
                <a:lnTo>
                  <a:pt x="279" y="1687"/>
                </a:lnTo>
                <a:lnTo>
                  <a:pt x="285" y="1697"/>
                </a:lnTo>
                <a:lnTo>
                  <a:pt x="297" y="1703"/>
                </a:lnTo>
                <a:lnTo>
                  <a:pt x="309" y="1708"/>
                </a:lnTo>
                <a:lnTo>
                  <a:pt x="315" y="1713"/>
                </a:lnTo>
                <a:lnTo>
                  <a:pt x="327" y="1713"/>
                </a:lnTo>
                <a:lnTo>
                  <a:pt x="334" y="1708"/>
                </a:lnTo>
                <a:lnTo>
                  <a:pt x="346" y="1708"/>
                </a:lnTo>
                <a:lnTo>
                  <a:pt x="352" y="1703"/>
                </a:lnTo>
                <a:lnTo>
                  <a:pt x="364" y="1697"/>
                </a:lnTo>
                <a:lnTo>
                  <a:pt x="376" y="1697"/>
                </a:lnTo>
                <a:lnTo>
                  <a:pt x="382" y="1697"/>
                </a:lnTo>
                <a:lnTo>
                  <a:pt x="394" y="1697"/>
                </a:lnTo>
                <a:lnTo>
                  <a:pt x="400" y="1703"/>
                </a:lnTo>
                <a:lnTo>
                  <a:pt x="412" y="1708"/>
                </a:lnTo>
                <a:lnTo>
                  <a:pt x="425" y="1718"/>
                </a:lnTo>
                <a:lnTo>
                  <a:pt x="431" y="1723"/>
                </a:lnTo>
                <a:lnTo>
                  <a:pt x="443" y="1734"/>
                </a:lnTo>
                <a:lnTo>
                  <a:pt x="449" y="1744"/>
                </a:lnTo>
                <a:lnTo>
                  <a:pt x="461" y="1755"/>
                </a:lnTo>
                <a:lnTo>
                  <a:pt x="473" y="1760"/>
                </a:lnTo>
                <a:lnTo>
                  <a:pt x="479" y="1770"/>
                </a:lnTo>
                <a:lnTo>
                  <a:pt x="491" y="1770"/>
                </a:lnTo>
                <a:lnTo>
                  <a:pt x="497" y="1775"/>
                </a:lnTo>
                <a:lnTo>
                  <a:pt x="510" y="1775"/>
                </a:lnTo>
                <a:lnTo>
                  <a:pt x="516" y="1775"/>
                </a:lnTo>
                <a:lnTo>
                  <a:pt x="528" y="1775"/>
                </a:lnTo>
                <a:lnTo>
                  <a:pt x="540" y="1775"/>
                </a:lnTo>
                <a:lnTo>
                  <a:pt x="546" y="1775"/>
                </a:lnTo>
                <a:lnTo>
                  <a:pt x="558" y="1775"/>
                </a:lnTo>
                <a:lnTo>
                  <a:pt x="564" y="1775"/>
                </a:lnTo>
                <a:lnTo>
                  <a:pt x="576" y="1775"/>
                </a:lnTo>
                <a:lnTo>
                  <a:pt x="589" y="1781"/>
                </a:lnTo>
                <a:lnTo>
                  <a:pt x="595" y="1786"/>
                </a:lnTo>
                <a:lnTo>
                  <a:pt x="607" y="1791"/>
                </a:lnTo>
                <a:lnTo>
                  <a:pt x="613" y="1796"/>
                </a:lnTo>
                <a:lnTo>
                  <a:pt x="625" y="1807"/>
                </a:lnTo>
                <a:lnTo>
                  <a:pt x="631" y="1812"/>
                </a:lnTo>
                <a:lnTo>
                  <a:pt x="643" y="1817"/>
                </a:lnTo>
                <a:lnTo>
                  <a:pt x="655" y="1817"/>
                </a:lnTo>
                <a:lnTo>
                  <a:pt x="661" y="1822"/>
                </a:lnTo>
                <a:lnTo>
                  <a:pt x="674" y="1822"/>
                </a:lnTo>
                <a:lnTo>
                  <a:pt x="680" y="1817"/>
                </a:lnTo>
                <a:lnTo>
                  <a:pt x="692" y="1817"/>
                </a:lnTo>
                <a:lnTo>
                  <a:pt x="704" y="1812"/>
                </a:lnTo>
                <a:lnTo>
                  <a:pt x="710" y="1807"/>
                </a:lnTo>
                <a:lnTo>
                  <a:pt x="722" y="1807"/>
                </a:lnTo>
                <a:lnTo>
                  <a:pt x="728" y="1801"/>
                </a:lnTo>
                <a:lnTo>
                  <a:pt x="740" y="1796"/>
                </a:lnTo>
                <a:lnTo>
                  <a:pt x="752" y="1796"/>
                </a:lnTo>
                <a:lnTo>
                  <a:pt x="759" y="1796"/>
                </a:lnTo>
                <a:lnTo>
                  <a:pt x="771" y="1801"/>
                </a:lnTo>
                <a:lnTo>
                  <a:pt x="777" y="1801"/>
                </a:lnTo>
                <a:lnTo>
                  <a:pt x="789" y="1807"/>
                </a:lnTo>
                <a:lnTo>
                  <a:pt x="795" y="1812"/>
                </a:lnTo>
                <a:lnTo>
                  <a:pt x="807" y="1817"/>
                </a:lnTo>
                <a:lnTo>
                  <a:pt x="819" y="1822"/>
                </a:lnTo>
                <a:lnTo>
                  <a:pt x="825" y="1822"/>
                </a:lnTo>
                <a:lnTo>
                  <a:pt x="837" y="1827"/>
                </a:lnTo>
                <a:lnTo>
                  <a:pt x="844" y="1832"/>
                </a:lnTo>
                <a:lnTo>
                  <a:pt x="856" y="1832"/>
                </a:lnTo>
                <a:lnTo>
                  <a:pt x="868" y="1832"/>
                </a:lnTo>
                <a:lnTo>
                  <a:pt x="874" y="1832"/>
                </a:lnTo>
                <a:lnTo>
                  <a:pt x="886" y="1832"/>
                </a:lnTo>
                <a:lnTo>
                  <a:pt x="892" y="1838"/>
                </a:lnTo>
                <a:lnTo>
                  <a:pt x="904" y="1838"/>
                </a:lnTo>
                <a:lnTo>
                  <a:pt x="916" y="1838"/>
                </a:lnTo>
                <a:lnTo>
                  <a:pt x="922" y="1843"/>
                </a:lnTo>
                <a:lnTo>
                  <a:pt x="935" y="1848"/>
                </a:lnTo>
                <a:lnTo>
                  <a:pt x="941" y="1853"/>
                </a:lnTo>
                <a:lnTo>
                  <a:pt x="953" y="1858"/>
                </a:lnTo>
                <a:lnTo>
                  <a:pt x="959" y="1864"/>
                </a:lnTo>
                <a:lnTo>
                  <a:pt x="971" y="1874"/>
                </a:lnTo>
                <a:lnTo>
                  <a:pt x="983" y="1879"/>
                </a:lnTo>
                <a:lnTo>
                  <a:pt x="989" y="1884"/>
                </a:lnTo>
                <a:lnTo>
                  <a:pt x="1001" y="1895"/>
                </a:lnTo>
                <a:lnTo>
                  <a:pt x="1007" y="1900"/>
                </a:lnTo>
                <a:lnTo>
                  <a:pt x="1020" y="1905"/>
                </a:lnTo>
                <a:lnTo>
                  <a:pt x="1032" y="1910"/>
                </a:lnTo>
                <a:lnTo>
                  <a:pt x="1038" y="1916"/>
                </a:lnTo>
                <a:lnTo>
                  <a:pt x="1050" y="1916"/>
                </a:lnTo>
                <a:lnTo>
                  <a:pt x="1056" y="1921"/>
                </a:lnTo>
                <a:lnTo>
                  <a:pt x="1068" y="1921"/>
                </a:lnTo>
                <a:lnTo>
                  <a:pt x="1074" y="1926"/>
                </a:lnTo>
                <a:lnTo>
                  <a:pt x="1086" y="1926"/>
                </a:lnTo>
                <a:lnTo>
                  <a:pt x="1099" y="1931"/>
                </a:lnTo>
                <a:lnTo>
                  <a:pt x="1105" y="1931"/>
                </a:lnTo>
                <a:lnTo>
                  <a:pt x="1117" y="1936"/>
                </a:lnTo>
                <a:lnTo>
                  <a:pt x="1123" y="1942"/>
                </a:lnTo>
                <a:lnTo>
                  <a:pt x="1135" y="1947"/>
                </a:lnTo>
                <a:lnTo>
                  <a:pt x="1147" y="1952"/>
                </a:lnTo>
                <a:lnTo>
                  <a:pt x="1153" y="1952"/>
                </a:lnTo>
                <a:lnTo>
                  <a:pt x="1165" y="1957"/>
                </a:lnTo>
                <a:lnTo>
                  <a:pt x="1171" y="1962"/>
                </a:lnTo>
                <a:lnTo>
                  <a:pt x="1184" y="1962"/>
                </a:lnTo>
                <a:lnTo>
                  <a:pt x="1196" y="1962"/>
                </a:lnTo>
                <a:lnTo>
                  <a:pt x="1202" y="1962"/>
                </a:lnTo>
                <a:lnTo>
                  <a:pt x="1214" y="1957"/>
                </a:lnTo>
                <a:lnTo>
                  <a:pt x="1220" y="1957"/>
                </a:lnTo>
                <a:lnTo>
                  <a:pt x="1232" y="1952"/>
                </a:lnTo>
                <a:lnTo>
                  <a:pt x="1238" y="1947"/>
                </a:lnTo>
                <a:lnTo>
                  <a:pt x="1250" y="1936"/>
                </a:lnTo>
                <a:lnTo>
                  <a:pt x="1262" y="1931"/>
                </a:lnTo>
                <a:lnTo>
                  <a:pt x="1269" y="1926"/>
                </a:lnTo>
                <a:lnTo>
                  <a:pt x="1281" y="1916"/>
                </a:lnTo>
                <a:lnTo>
                  <a:pt x="1287" y="1910"/>
                </a:lnTo>
                <a:lnTo>
                  <a:pt x="1299" y="1905"/>
                </a:lnTo>
                <a:lnTo>
                  <a:pt x="1311" y="1900"/>
                </a:lnTo>
                <a:lnTo>
                  <a:pt x="1317" y="1895"/>
                </a:lnTo>
                <a:lnTo>
                  <a:pt x="1329" y="1890"/>
                </a:lnTo>
                <a:lnTo>
                  <a:pt x="1335" y="1884"/>
                </a:lnTo>
                <a:lnTo>
                  <a:pt x="1347" y="1879"/>
                </a:lnTo>
                <a:lnTo>
                  <a:pt x="1360" y="1874"/>
                </a:lnTo>
                <a:lnTo>
                  <a:pt x="1366" y="1869"/>
                </a:lnTo>
                <a:lnTo>
                  <a:pt x="1378" y="1858"/>
                </a:lnTo>
                <a:lnTo>
                  <a:pt x="1384" y="1853"/>
                </a:lnTo>
                <a:lnTo>
                  <a:pt x="1396" y="1843"/>
                </a:lnTo>
                <a:lnTo>
                  <a:pt x="1402" y="1832"/>
                </a:lnTo>
                <a:lnTo>
                  <a:pt x="1414" y="1822"/>
                </a:lnTo>
                <a:lnTo>
                  <a:pt x="1426" y="1812"/>
                </a:lnTo>
                <a:lnTo>
                  <a:pt x="1432" y="1801"/>
                </a:lnTo>
                <a:lnTo>
                  <a:pt x="1445" y="1796"/>
                </a:lnTo>
                <a:lnTo>
                  <a:pt x="1451" y="1786"/>
                </a:lnTo>
                <a:lnTo>
                  <a:pt x="1463" y="1781"/>
                </a:lnTo>
                <a:lnTo>
                  <a:pt x="1475" y="1770"/>
                </a:lnTo>
                <a:lnTo>
                  <a:pt x="1481" y="1765"/>
                </a:lnTo>
                <a:lnTo>
                  <a:pt x="1493" y="1760"/>
                </a:lnTo>
                <a:lnTo>
                  <a:pt x="1499" y="1755"/>
                </a:lnTo>
                <a:lnTo>
                  <a:pt x="1511" y="1749"/>
                </a:lnTo>
                <a:lnTo>
                  <a:pt x="1517" y="1749"/>
                </a:lnTo>
                <a:lnTo>
                  <a:pt x="1530" y="1744"/>
                </a:lnTo>
                <a:lnTo>
                  <a:pt x="1542" y="1739"/>
                </a:lnTo>
                <a:lnTo>
                  <a:pt x="1548" y="1734"/>
                </a:lnTo>
                <a:lnTo>
                  <a:pt x="1560" y="1729"/>
                </a:lnTo>
                <a:lnTo>
                  <a:pt x="1566" y="1723"/>
                </a:lnTo>
                <a:lnTo>
                  <a:pt x="1578" y="1718"/>
                </a:lnTo>
                <a:lnTo>
                  <a:pt x="1590" y="1708"/>
                </a:lnTo>
                <a:lnTo>
                  <a:pt x="1596" y="1703"/>
                </a:lnTo>
                <a:lnTo>
                  <a:pt x="1609" y="1697"/>
                </a:lnTo>
                <a:lnTo>
                  <a:pt x="1615" y="1692"/>
                </a:lnTo>
                <a:lnTo>
                  <a:pt x="1627" y="1687"/>
                </a:lnTo>
                <a:lnTo>
                  <a:pt x="1639" y="1682"/>
                </a:lnTo>
                <a:lnTo>
                  <a:pt x="1645" y="1677"/>
                </a:lnTo>
                <a:lnTo>
                  <a:pt x="1657" y="1672"/>
                </a:lnTo>
                <a:lnTo>
                  <a:pt x="1663" y="1672"/>
                </a:lnTo>
                <a:lnTo>
                  <a:pt x="1675" y="1666"/>
                </a:lnTo>
                <a:lnTo>
                  <a:pt x="1681" y="1666"/>
                </a:lnTo>
                <a:lnTo>
                  <a:pt x="1694" y="1666"/>
                </a:lnTo>
                <a:lnTo>
                  <a:pt x="1706" y="1661"/>
                </a:lnTo>
                <a:lnTo>
                  <a:pt x="1712" y="1661"/>
                </a:lnTo>
                <a:lnTo>
                  <a:pt x="1724" y="1656"/>
                </a:lnTo>
                <a:lnTo>
                  <a:pt x="1730" y="1656"/>
                </a:lnTo>
                <a:lnTo>
                  <a:pt x="1742" y="1651"/>
                </a:lnTo>
                <a:lnTo>
                  <a:pt x="1754" y="1646"/>
                </a:lnTo>
                <a:lnTo>
                  <a:pt x="1760" y="1640"/>
                </a:lnTo>
                <a:lnTo>
                  <a:pt x="1772" y="1640"/>
                </a:lnTo>
                <a:lnTo>
                  <a:pt x="1779" y="1635"/>
                </a:lnTo>
                <a:lnTo>
                  <a:pt x="1791" y="1630"/>
                </a:lnTo>
                <a:lnTo>
                  <a:pt x="1803" y="1630"/>
                </a:lnTo>
                <a:lnTo>
                  <a:pt x="1809" y="1625"/>
                </a:lnTo>
                <a:lnTo>
                  <a:pt x="1821" y="1625"/>
                </a:lnTo>
                <a:lnTo>
                  <a:pt x="1827" y="1625"/>
                </a:lnTo>
                <a:lnTo>
                  <a:pt x="1839" y="1625"/>
                </a:lnTo>
                <a:lnTo>
                  <a:pt x="1845" y="1625"/>
                </a:lnTo>
                <a:lnTo>
                  <a:pt x="1857" y="1625"/>
                </a:lnTo>
                <a:lnTo>
                  <a:pt x="1870" y="1625"/>
                </a:lnTo>
                <a:lnTo>
                  <a:pt x="1876" y="1625"/>
                </a:lnTo>
                <a:lnTo>
                  <a:pt x="1888" y="1625"/>
                </a:lnTo>
                <a:lnTo>
                  <a:pt x="1894" y="1625"/>
                </a:lnTo>
                <a:lnTo>
                  <a:pt x="1906" y="1625"/>
                </a:lnTo>
                <a:lnTo>
                  <a:pt x="1918" y="1620"/>
                </a:lnTo>
                <a:lnTo>
                  <a:pt x="1924" y="1620"/>
                </a:lnTo>
                <a:lnTo>
                  <a:pt x="1936" y="1614"/>
                </a:lnTo>
                <a:lnTo>
                  <a:pt x="1942" y="1614"/>
                </a:lnTo>
                <a:lnTo>
                  <a:pt x="1955" y="1609"/>
                </a:lnTo>
                <a:lnTo>
                  <a:pt x="1961" y="1609"/>
                </a:lnTo>
                <a:lnTo>
                  <a:pt x="1973" y="1609"/>
                </a:lnTo>
                <a:lnTo>
                  <a:pt x="1985" y="1604"/>
                </a:lnTo>
                <a:lnTo>
                  <a:pt x="1991" y="1604"/>
                </a:lnTo>
                <a:lnTo>
                  <a:pt x="2003" y="1604"/>
                </a:lnTo>
                <a:lnTo>
                  <a:pt x="2009" y="1604"/>
                </a:lnTo>
                <a:lnTo>
                  <a:pt x="2021" y="1604"/>
                </a:lnTo>
                <a:lnTo>
                  <a:pt x="2034" y="1609"/>
                </a:lnTo>
                <a:lnTo>
                  <a:pt x="2040" y="1609"/>
                </a:lnTo>
                <a:lnTo>
                  <a:pt x="2052" y="1609"/>
                </a:lnTo>
                <a:lnTo>
                  <a:pt x="2058" y="1614"/>
                </a:lnTo>
                <a:lnTo>
                  <a:pt x="2070" y="1614"/>
                </a:lnTo>
                <a:lnTo>
                  <a:pt x="2082" y="1614"/>
                </a:lnTo>
                <a:lnTo>
                  <a:pt x="2088" y="1614"/>
                </a:lnTo>
                <a:lnTo>
                  <a:pt x="2100" y="1614"/>
                </a:lnTo>
                <a:lnTo>
                  <a:pt x="2106" y="1609"/>
                </a:lnTo>
                <a:lnTo>
                  <a:pt x="2119" y="1609"/>
                </a:lnTo>
                <a:lnTo>
                  <a:pt x="2125" y="1609"/>
                </a:lnTo>
                <a:lnTo>
                  <a:pt x="2137" y="1604"/>
                </a:lnTo>
                <a:lnTo>
                  <a:pt x="2149" y="1604"/>
                </a:lnTo>
                <a:lnTo>
                  <a:pt x="2155" y="1604"/>
                </a:lnTo>
                <a:lnTo>
                  <a:pt x="2167" y="1599"/>
                </a:lnTo>
                <a:lnTo>
                  <a:pt x="2173" y="1599"/>
                </a:lnTo>
                <a:lnTo>
                  <a:pt x="2185" y="1599"/>
                </a:lnTo>
                <a:lnTo>
                  <a:pt x="2197" y="1599"/>
                </a:lnTo>
                <a:lnTo>
                  <a:pt x="2204" y="1599"/>
                </a:lnTo>
                <a:lnTo>
                  <a:pt x="2216" y="1604"/>
                </a:lnTo>
                <a:lnTo>
                  <a:pt x="2222" y="1604"/>
                </a:lnTo>
                <a:lnTo>
                  <a:pt x="2234" y="1604"/>
                </a:lnTo>
                <a:lnTo>
                  <a:pt x="2246" y="1604"/>
                </a:lnTo>
                <a:lnTo>
                  <a:pt x="2252" y="1604"/>
                </a:lnTo>
                <a:lnTo>
                  <a:pt x="2264" y="1599"/>
                </a:lnTo>
                <a:lnTo>
                  <a:pt x="2270" y="1599"/>
                </a:lnTo>
                <a:lnTo>
                  <a:pt x="2282" y="1594"/>
                </a:lnTo>
                <a:lnTo>
                  <a:pt x="2289" y="1594"/>
                </a:lnTo>
                <a:lnTo>
                  <a:pt x="2301" y="1588"/>
                </a:lnTo>
                <a:lnTo>
                  <a:pt x="2313" y="1588"/>
                </a:lnTo>
                <a:lnTo>
                  <a:pt x="2319" y="1583"/>
                </a:lnTo>
                <a:lnTo>
                  <a:pt x="2331" y="1583"/>
                </a:lnTo>
                <a:lnTo>
                  <a:pt x="2337" y="1583"/>
                </a:lnTo>
                <a:lnTo>
                  <a:pt x="2349" y="1578"/>
                </a:lnTo>
                <a:lnTo>
                  <a:pt x="2361" y="1578"/>
                </a:lnTo>
                <a:lnTo>
                  <a:pt x="2367" y="1578"/>
                </a:lnTo>
                <a:lnTo>
                  <a:pt x="2380" y="1578"/>
                </a:lnTo>
                <a:lnTo>
                  <a:pt x="2386" y="1583"/>
                </a:lnTo>
                <a:lnTo>
                  <a:pt x="2398" y="1583"/>
                </a:lnTo>
                <a:lnTo>
                  <a:pt x="2404" y="1583"/>
                </a:lnTo>
                <a:lnTo>
                  <a:pt x="2416" y="1583"/>
                </a:lnTo>
                <a:lnTo>
                  <a:pt x="2428" y="1583"/>
                </a:lnTo>
                <a:lnTo>
                  <a:pt x="2434" y="1578"/>
                </a:lnTo>
                <a:lnTo>
                  <a:pt x="2446" y="1578"/>
                </a:lnTo>
                <a:lnTo>
                  <a:pt x="2452" y="1578"/>
                </a:lnTo>
                <a:lnTo>
                  <a:pt x="2465" y="1573"/>
                </a:lnTo>
                <a:lnTo>
                  <a:pt x="2477" y="1573"/>
                </a:lnTo>
                <a:lnTo>
                  <a:pt x="2483" y="1568"/>
                </a:lnTo>
                <a:lnTo>
                  <a:pt x="2495" y="1568"/>
                </a:lnTo>
                <a:lnTo>
                  <a:pt x="2501" y="1562"/>
                </a:lnTo>
                <a:lnTo>
                  <a:pt x="2513" y="1562"/>
                </a:lnTo>
                <a:lnTo>
                  <a:pt x="2525" y="1557"/>
                </a:lnTo>
                <a:lnTo>
                  <a:pt x="2531" y="1557"/>
                </a:lnTo>
                <a:lnTo>
                  <a:pt x="2544" y="1557"/>
                </a:lnTo>
                <a:lnTo>
                  <a:pt x="2550" y="1557"/>
                </a:lnTo>
                <a:lnTo>
                  <a:pt x="2562" y="1557"/>
                </a:lnTo>
                <a:lnTo>
                  <a:pt x="2568" y="1562"/>
                </a:lnTo>
                <a:lnTo>
                  <a:pt x="2580" y="1562"/>
                </a:lnTo>
                <a:lnTo>
                  <a:pt x="2592" y="1562"/>
                </a:lnTo>
                <a:lnTo>
                  <a:pt x="2598" y="1562"/>
                </a:lnTo>
                <a:lnTo>
                  <a:pt x="2610" y="1562"/>
                </a:lnTo>
                <a:lnTo>
                  <a:pt x="2616" y="1562"/>
                </a:lnTo>
                <a:lnTo>
                  <a:pt x="2629" y="1557"/>
                </a:lnTo>
                <a:lnTo>
                  <a:pt x="2641" y="1557"/>
                </a:lnTo>
                <a:lnTo>
                  <a:pt x="2647" y="1557"/>
                </a:lnTo>
                <a:lnTo>
                  <a:pt x="2659" y="1552"/>
                </a:lnTo>
                <a:lnTo>
                  <a:pt x="2665" y="1552"/>
                </a:lnTo>
                <a:lnTo>
                  <a:pt x="2677" y="1547"/>
                </a:lnTo>
                <a:lnTo>
                  <a:pt x="2689" y="1547"/>
                </a:lnTo>
                <a:lnTo>
                  <a:pt x="2695" y="1547"/>
                </a:lnTo>
                <a:lnTo>
                  <a:pt x="2707" y="1547"/>
                </a:lnTo>
                <a:lnTo>
                  <a:pt x="2714" y="1547"/>
                </a:lnTo>
                <a:lnTo>
                  <a:pt x="2726" y="1547"/>
                </a:lnTo>
                <a:lnTo>
                  <a:pt x="2732" y="1547"/>
                </a:lnTo>
                <a:lnTo>
                  <a:pt x="2744" y="1552"/>
                </a:lnTo>
                <a:lnTo>
                  <a:pt x="2756" y="1552"/>
                </a:lnTo>
                <a:lnTo>
                  <a:pt x="2762" y="1552"/>
                </a:lnTo>
                <a:lnTo>
                  <a:pt x="2774" y="1552"/>
                </a:lnTo>
                <a:lnTo>
                  <a:pt x="2780" y="1552"/>
                </a:lnTo>
                <a:lnTo>
                  <a:pt x="2792" y="1552"/>
                </a:lnTo>
                <a:lnTo>
                  <a:pt x="2805" y="1552"/>
                </a:lnTo>
                <a:lnTo>
                  <a:pt x="2811" y="1552"/>
                </a:lnTo>
                <a:lnTo>
                  <a:pt x="2823" y="1547"/>
                </a:lnTo>
                <a:lnTo>
                  <a:pt x="2829" y="1547"/>
                </a:lnTo>
                <a:lnTo>
                  <a:pt x="2841" y="1542"/>
                </a:lnTo>
                <a:lnTo>
                  <a:pt x="2847" y="1542"/>
                </a:lnTo>
                <a:lnTo>
                  <a:pt x="2859" y="1537"/>
                </a:lnTo>
                <a:lnTo>
                  <a:pt x="2871" y="1537"/>
                </a:lnTo>
                <a:lnTo>
                  <a:pt x="2877" y="1537"/>
                </a:lnTo>
                <a:lnTo>
                  <a:pt x="2890" y="1537"/>
                </a:lnTo>
                <a:lnTo>
                  <a:pt x="2896" y="1537"/>
                </a:lnTo>
                <a:lnTo>
                  <a:pt x="2908" y="1537"/>
                </a:lnTo>
                <a:lnTo>
                  <a:pt x="2920" y="1537"/>
                </a:lnTo>
                <a:lnTo>
                  <a:pt x="2926" y="1542"/>
                </a:lnTo>
                <a:lnTo>
                  <a:pt x="2938" y="1542"/>
                </a:lnTo>
                <a:lnTo>
                  <a:pt x="2944" y="1542"/>
                </a:lnTo>
                <a:lnTo>
                  <a:pt x="2956" y="1542"/>
                </a:lnTo>
                <a:lnTo>
                  <a:pt x="2969" y="1542"/>
                </a:lnTo>
                <a:lnTo>
                  <a:pt x="2975" y="1542"/>
                </a:lnTo>
                <a:lnTo>
                  <a:pt x="2987" y="1542"/>
                </a:lnTo>
                <a:lnTo>
                  <a:pt x="2993" y="1542"/>
                </a:lnTo>
                <a:lnTo>
                  <a:pt x="3005" y="1542"/>
                </a:lnTo>
                <a:lnTo>
                  <a:pt x="3011" y="1537"/>
                </a:lnTo>
                <a:lnTo>
                  <a:pt x="3023" y="1537"/>
                </a:lnTo>
                <a:lnTo>
                  <a:pt x="3035" y="1537"/>
                </a:lnTo>
                <a:lnTo>
                  <a:pt x="3041" y="1537"/>
                </a:lnTo>
                <a:lnTo>
                  <a:pt x="3054" y="1531"/>
                </a:lnTo>
              </a:path>
            </a:pathLst>
          </a:custGeom>
          <a:noFill/>
          <a:ln w="2844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9080" y="578340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(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7455960" y="350964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(D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1087200" y="3477240"/>
            <a:ext cx="15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tud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19520" y="3954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760" y="36496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10080" y="441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63960" y="4110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9920" y="103176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impedance measurements of two 5 MHz transduc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8720" y="202248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7000" y="22860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38360" y="2016000"/>
            <a:ext cx="6410160" cy="399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67080" y="2316240"/>
            <a:ext cx="4952880" cy="32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67080" y="2316240"/>
            <a:ext cx="4952880" cy="32432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5559480"/>
            <a:ext cx="495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67080" y="2315880"/>
            <a:ext cx="1440" cy="324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467080" y="5519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24240" y="5599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705120" y="55198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2280" y="5599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943520" y="5519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48480" y="5599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181560" y="55198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86520" y="5599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419960" y="5519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24920" y="5599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67080" y="555948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28840" y="5487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7080" y="447516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8120" y="44053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67080" y="340056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8120" y="33289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67080" y="23162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8120" y="22464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2514600"/>
            <a:ext cx="4791240" cy="2989440"/>
          </a:xfrm>
          <a:custGeom>
            <a:avLst/>
            <a:gdLst/>
            <a:ahLst/>
            <a:rect l="l" t="t" r="r" b="b"/>
            <a:pathLst>
              <a:path w="3018" h="1883">
                <a:moveTo>
                  <a:pt x="0" y="0"/>
                </a:moveTo>
                <a:lnTo>
                  <a:pt x="6" y="194"/>
                </a:lnTo>
                <a:lnTo>
                  <a:pt x="18" y="379"/>
                </a:lnTo>
                <a:lnTo>
                  <a:pt x="30" y="538"/>
                </a:lnTo>
                <a:lnTo>
                  <a:pt x="36" y="668"/>
                </a:lnTo>
                <a:lnTo>
                  <a:pt x="48" y="772"/>
                </a:lnTo>
                <a:lnTo>
                  <a:pt x="54" y="857"/>
                </a:lnTo>
                <a:lnTo>
                  <a:pt x="66" y="922"/>
                </a:lnTo>
                <a:lnTo>
                  <a:pt x="72" y="981"/>
                </a:lnTo>
                <a:lnTo>
                  <a:pt x="84" y="1026"/>
                </a:lnTo>
                <a:lnTo>
                  <a:pt x="96" y="1066"/>
                </a:lnTo>
                <a:lnTo>
                  <a:pt x="102" y="1101"/>
                </a:lnTo>
                <a:lnTo>
                  <a:pt x="114" y="1131"/>
                </a:lnTo>
                <a:lnTo>
                  <a:pt x="120" y="1166"/>
                </a:lnTo>
                <a:lnTo>
                  <a:pt x="132" y="1196"/>
                </a:lnTo>
                <a:lnTo>
                  <a:pt x="144" y="1226"/>
                </a:lnTo>
                <a:lnTo>
                  <a:pt x="150" y="1255"/>
                </a:lnTo>
                <a:lnTo>
                  <a:pt x="162" y="1285"/>
                </a:lnTo>
                <a:lnTo>
                  <a:pt x="168" y="1315"/>
                </a:lnTo>
                <a:lnTo>
                  <a:pt x="180" y="1350"/>
                </a:lnTo>
                <a:lnTo>
                  <a:pt x="186" y="1375"/>
                </a:lnTo>
                <a:lnTo>
                  <a:pt x="198" y="1405"/>
                </a:lnTo>
                <a:lnTo>
                  <a:pt x="210" y="1430"/>
                </a:lnTo>
                <a:lnTo>
                  <a:pt x="216" y="1455"/>
                </a:lnTo>
                <a:lnTo>
                  <a:pt x="228" y="1475"/>
                </a:lnTo>
                <a:lnTo>
                  <a:pt x="234" y="1495"/>
                </a:lnTo>
                <a:lnTo>
                  <a:pt x="246" y="1509"/>
                </a:lnTo>
                <a:lnTo>
                  <a:pt x="258" y="1524"/>
                </a:lnTo>
                <a:lnTo>
                  <a:pt x="264" y="1534"/>
                </a:lnTo>
                <a:lnTo>
                  <a:pt x="276" y="1549"/>
                </a:lnTo>
                <a:lnTo>
                  <a:pt x="282" y="1559"/>
                </a:lnTo>
                <a:lnTo>
                  <a:pt x="294" y="1564"/>
                </a:lnTo>
                <a:lnTo>
                  <a:pt x="306" y="1574"/>
                </a:lnTo>
                <a:lnTo>
                  <a:pt x="312" y="1584"/>
                </a:lnTo>
                <a:lnTo>
                  <a:pt x="324" y="1589"/>
                </a:lnTo>
                <a:lnTo>
                  <a:pt x="330" y="1599"/>
                </a:lnTo>
                <a:lnTo>
                  <a:pt x="342" y="1604"/>
                </a:lnTo>
                <a:lnTo>
                  <a:pt x="348" y="1614"/>
                </a:lnTo>
                <a:lnTo>
                  <a:pt x="360" y="1619"/>
                </a:lnTo>
                <a:lnTo>
                  <a:pt x="372" y="1629"/>
                </a:lnTo>
                <a:lnTo>
                  <a:pt x="378" y="1634"/>
                </a:lnTo>
                <a:lnTo>
                  <a:pt x="390" y="1644"/>
                </a:lnTo>
                <a:lnTo>
                  <a:pt x="396" y="1649"/>
                </a:lnTo>
                <a:lnTo>
                  <a:pt x="408" y="1659"/>
                </a:lnTo>
                <a:lnTo>
                  <a:pt x="420" y="1664"/>
                </a:lnTo>
                <a:lnTo>
                  <a:pt x="426" y="1669"/>
                </a:lnTo>
                <a:lnTo>
                  <a:pt x="438" y="1674"/>
                </a:lnTo>
                <a:lnTo>
                  <a:pt x="444" y="1679"/>
                </a:lnTo>
                <a:lnTo>
                  <a:pt x="456" y="1684"/>
                </a:lnTo>
                <a:lnTo>
                  <a:pt x="468" y="1689"/>
                </a:lnTo>
                <a:lnTo>
                  <a:pt x="474" y="1689"/>
                </a:lnTo>
                <a:lnTo>
                  <a:pt x="486" y="1694"/>
                </a:lnTo>
                <a:lnTo>
                  <a:pt x="492" y="1699"/>
                </a:lnTo>
                <a:lnTo>
                  <a:pt x="504" y="1699"/>
                </a:lnTo>
                <a:lnTo>
                  <a:pt x="510" y="1704"/>
                </a:lnTo>
                <a:lnTo>
                  <a:pt x="522" y="1704"/>
                </a:lnTo>
                <a:lnTo>
                  <a:pt x="534" y="1709"/>
                </a:lnTo>
                <a:lnTo>
                  <a:pt x="540" y="1714"/>
                </a:lnTo>
                <a:lnTo>
                  <a:pt x="552" y="1719"/>
                </a:lnTo>
                <a:lnTo>
                  <a:pt x="558" y="1719"/>
                </a:lnTo>
                <a:lnTo>
                  <a:pt x="570" y="1724"/>
                </a:lnTo>
                <a:lnTo>
                  <a:pt x="582" y="1729"/>
                </a:lnTo>
                <a:lnTo>
                  <a:pt x="588" y="1729"/>
                </a:lnTo>
                <a:lnTo>
                  <a:pt x="600" y="1734"/>
                </a:lnTo>
                <a:lnTo>
                  <a:pt x="606" y="1734"/>
                </a:lnTo>
                <a:lnTo>
                  <a:pt x="618" y="1739"/>
                </a:lnTo>
                <a:lnTo>
                  <a:pt x="624" y="1739"/>
                </a:lnTo>
                <a:lnTo>
                  <a:pt x="636" y="1744"/>
                </a:lnTo>
                <a:lnTo>
                  <a:pt x="648" y="1744"/>
                </a:lnTo>
                <a:lnTo>
                  <a:pt x="654" y="1749"/>
                </a:lnTo>
                <a:lnTo>
                  <a:pt x="666" y="1749"/>
                </a:lnTo>
                <a:lnTo>
                  <a:pt x="672" y="1749"/>
                </a:lnTo>
                <a:lnTo>
                  <a:pt x="684" y="1754"/>
                </a:lnTo>
                <a:lnTo>
                  <a:pt x="696" y="1754"/>
                </a:lnTo>
                <a:lnTo>
                  <a:pt x="702" y="1759"/>
                </a:lnTo>
                <a:lnTo>
                  <a:pt x="714" y="1759"/>
                </a:lnTo>
                <a:lnTo>
                  <a:pt x="720" y="1759"/>
                </a:lnTo>
                <a:lnTo>
                  <a:pt x="732" y="1764"/>
                </a:lnTo>
                <a:lnTo>
                  <a:pt x="744" y="1764"/>
                </a:lnTo>
                <a:lnTo>
                  <a:pt x="750" y="1769"/>
                </a:lnTo>
                <a:lnTo>
                  <a:pt x="762" y="1769"/>
                </a:lnTo>
                <a:lnTo>
                  <a:pt x="768" y="1774"/>
                </a:lnTo>
                <a:lnTo>
                  <a:pt x="780" y="1774"/>
                </a:lnTo>
                <a:lnTo>
                  <a:pt x="786" y="1774"/>
                </a:lnTo>
                <a:lnTo>
                  <a:pt x="798" y="1779"/>
                </a:lnTo>
                <a:lnTo>
                  <a:pt x="810" y="1779"/>
                </a:lnTo>
                <a:lnTo>
                  <a:pt x="816" y="1779"/>
                </a:lnTo>
                <a:lnTo>
                  <a:pt x="828" y="1784"/>
                </a:lnTo>
                <a:lnTo>
                  <a:pt x="834" y="1784"/>
                </a:lnTo>
                <a:lnTo>
                  <a:pt x="846" y="1784"/>
                </a:lnTo>
                <a:lnTo>
                  <a:pt x="858" y="1784"/>
                </a:lnTo>
                <a:lnTo>
                  <a:pt x="864" y="1788"/>
                </a:lnTo>
                <a:lnTo>
                  <a:pt x="876" y="1788"/>
                </a:lnTo>
                <a:lnTo>
                  <a:pt x="882" y="1788"/>
                </a:lnTo>
                <a:lnTo>
                  <a:pt x="894" y="1793"/>
                </a:lnTo>
                <a:lnTo>
                  <a:pt x="906" y="1793"/>
                </a:lnTo>
                <a:lnTo>
                  <a:pt x="912" y="1793"/>
                </a:lnTo>
                <a:lnTo>
                  <a:pt x="924" y="1793"/>
                </a:lnTo>
                <a:lnTo>
                  <a:pt x="930" y="1798"/>
                </a:lnTo>
                <a:lnTo>
                  <a:pt x="942" y="1798"/>
                </a:lnTo>
                <a:lnTo>
                  <a:pt x="948" y="1798"/>
                </a:lnTo>
                <a:lnTo>
                  <a:pt x="960" y="1798"/>
                </a:lnTo>
                <a:lnTo>
                  <a:pt x="972" y="1803"/>
                </a:lnTo>
                <a:lnTo>
                  <a:pt x="978" y="1803"/>
                </a:lnTo>
                <a:lnTo>
                  <a:pt x="990" y="1803"/>
                </a:lnTo>
                <a:lnTo>
                  <a:pt x="996" y="1803"/>
                </a:lnTo>
                <a:lnTo>
                  <a:pt x="1008" y="1803"/>
                </a:lnTo>
                <a:lnTo>
                  <a:pt x="1020" y="1803"/>
                </a:lnTo>
                <a:lnTo>
                  <a:pt x="1026" y="1803"/>
                </a:lnTo>
                <a:lnTo>
                  <a:pt x="1038" y="1803"/>
                </a:lnTo>
                <a:lnTo>
                  <a:pt x="1044" y="1808"/>
                </a:lnTo>
                <a:lnTo>
                  <a:pt x="1056" y="1808"/>
                </a:lnTo>
                <a:lnTo>
                  <a:pt x="1062" y="1808"/>
                </a:lnTo>
                <a:lnTo>
                  <a:pt x="1074" y="1808"/>
                </a:lnTo>
                <a:lnTo>
                  <a:pt x="1086" y="1808"/>
                </a:lnTo>
                <a:lnTo>
                  <a:pt x="1092" y="1808"/>
                </a:lnTo>
                <a:lnTo>
                  <a:pt x="1104" y="1808"/>
                </a:lnTo>
                <a:lnTo>
                  <a:pt x="1110" y="1808"/>
                </a:lnTo>
                <a:lnTo>
                  <a:pt x="1122" y="1813"/>
                </a:lnTo>
                <a:lnTo>
                  <a:pt x="1134" y="1813"/>
                </a:lnTo>
                <a:lnTo>
                  <a:pt x="1140" y="1813"/>
                </a:lnTo>
                <a:lnTo>
                  <a:pt x="1152" y="1813"/>
                </a:lnTo>
                <a:lnTo>
                  <a:pt x="1158" y="1813"/>
                </a:lnTo>
                <a:lnTo>
                  <a:pt x="1170" y="1813"/>
                </a:lnTo>
                <a:lnTo>
                  <a:pt x="1182" y="1813"/>
                </a:lnTo>
                <a:lnTo>
                  <a:pt x="1188" y="1813"/>
                </a:lnTo>
                <a:lnTo>
                  <a:pt x="1200" y="1813"/>
                </a:lnTo>
                <a:lnTo>
                  <a:pt x="1206" y="1813"/>
                </a:lnTo>
                <a:lnTo>
                  <a:pt x="1218" y="1813"/>
                </a:lnTo>
                <a:lnTo>
                  <a:pt x="1224" y="1813"/>
                </a:lnTo>
                <a:lnTo>
                  <a:pt x="1236" y="1818"/>
                </a:lnTo>
                <a:lnTo>
                  <a:pt x="1248" y="1818"/>
                </a:lnTo>
                <a:lnTo>
                  <a:pt x="1254" y="1818"/>
                </a:lnTo>
                <a:lnTo>
                  <a:pt x="1266" y="1818"/>
                </a:lnTo>
                <a:lnTo>
                  <a:pt x="1272" y="1818"/>
                </a:lnTo>
                <a:lnTo>
                  <a:pt x="1284" y="1818"/>
                </a:lnTo>
                <a:lnTo>
                  <a:pt x="1296" y="1818"/>
                </a:lnTo>
                <a:lnTo>
                  <a:pt x="1302" y="1823"/>
                </a:lnTo>
                <a:lnTo>
                  <a:pt x="1314" y="1823"/>
                </a:lnTo>
                <a:lnTo>
                  <a:pt x="1320" y="1823"/>
                </a:lnTo>
                <a:lnTo>
                  <a:pt x="1332" y="1823"/>
                </a:lnTo>
                <a:lnTo>
                  <a:pt x="1344" y="1823"/>
                </a:lnTo>
                <a:lnTo>
                  <a:pt x="1350" y="1823"/>
                </a:lnTo>
                <a:lnTo>
                  <a:pt x="1362" y="1823"/>
                </a:lnTo>
                <a:lnTo>
                  <a:pt x="1368" y="1823"/>
                </a:lnTo>
                <a:lnTo>
                  <a:pt x="1380" y="1823"/>
                </a:lnTo>
                <a:lnTo>
                  <a:pt x="1386" y="1828"/>
                </a:lnTo>
                <a:lnTo>
                  <a:pt x="1398" y="1828"/>
                </a:lnTo>
                <a:lnTo>
                  <a:pt x="1410" y="1828"/>
                </a:lnTo>
                <a:lnTo>
                  <a:pt x="1416" y="1828"/>
                </a:lnTo>
                <a:lnTo>
                  <a:pt x="1428" y="1828"/>
                </a:lnTo>
                <a:lnTo>
                  <a:pt x="1434" y="1828"/>
                </a:lnTo>
                <a:lnTo>
                  <a:pt x="1446" y="1828"/>
                </a:lnTo>
                <a:lnTo>
                  <a:pt x="1458" y="1833"/>
                </a:lnTo>
                <a:lnTo>
                  <a:pt x="1464" y="1833"/>
                </a:lnTo>
                <a:lnTo>
                  <a:pt x="1476" y="1833"/>
                </a:lnTo>
                <a:lnTo>
                  <a:pt x="1482" y="1833"/>
                </a:lnTo>
                <a:lnTo>
                  <a:pt x="1494" y="1833"/>
                </a:lnTo>
                <a:lnTo>
                  <a:pt x="1500" y="1833"/>
                </a:lnTo>
                <a:lnTo>
                  <a:pt x="1512" y="1833"/>
                </a:lnTo>
                <a:lnTo>
                  <a:pt x="1524" y="1833"/>
                </a:lnTo>
                <a:lnTo>
                  <a:pt x="1530" y="1838"/>
                </a:lnTo>
                <a:lnTo>
                  <a:pt x="1542" y="1838"/>
                </a:lnTo>
                <a:lnTo>
                  <a:pt x="1548" y="1838"/>
                </a:lnTo>
                <a:lnTo>
                  <a:pt x="1560" y="1838"/>
                </a:lnTo>
                <a:lnTo>
                  <a:pt x="1572" y="1838"/>
                </a:lnTo>
                <a:lnTo>
                  <a:pt x="1578" y="1838"/>
                </a:lnTo>
                <a:lnTo>
                  <a:pt x="1590" y="1838"/>
                </a:lnTo>
                <a:lnTo>
                  <a:pt x="1596" y="1838"/>
                </a:lnTo>
                <a:lnTo>
                  <a:pt x="1608" y="1838"/>
                </a:lnTo>
                <a:lnTo>
                  <a:pt x="1620" y="1843"/>
                </a:lnTo>
                <a:lnTo>
                  <a:pt x="1626" y="1843"/>
                </a:lnTo>
                <a:lnTo>
                  <a:pt x="1638" y="1843"/>
                </a:lnTo>
                <a:lnTo>
                  <a:pt x="1644" y="1843"/>
                </a:lnTo>
                <a:lnTo>
                  <a:pt x="1656" y="1843"/>
                </a:lnTo>
                <a:lnTo>
                  <a:pt x="1662" y="1843"/>
                </a:lnTo>
                <a:lnTo>
                  <a:pt x="1674" y="1843"/>
                </a:lnTo>
                <a:lnTo>
                  <a:pt x="1686" y="1843"/>
                </a:lnTo>
                <a:lnTo>
                  <a:pt x="1692" y="1843"/>
                </a:lnTo>
                <a:lnTo>
                  <a:pt x="1704" y="1848"/>
                </a:lnTo>
                <a:lnTo>
                  <a:pt x="1710" y="1848"/>
                </a:lnTo>
                <a:lnTo>
                  <a:pt x="1722" y="1848"/>
                </a:lnTo>
                <a:lnTo>
                  <a:pt x="1734" y="1848"/>
                </a:lnTo>
                <a:lnTo>
                  <a:pt x="1740" y="1848"/>
                </a:lnTo>
                <a:lnTo>
                  <a:pt x="1752" y="1848"/>
                </a:lnTo>
                <a:lnTo>
                  <a:pt x="1758" y="1848"/>
                </a:lnTo>
                <a:lnTo>
                  <a:pt x="1770" y="1848"/>
                </a:lnTo>
                <a:lnTo>
                  <a:pt x="1782" y="1848"/>
                </a:lnTo>
                <a:lnTo>
                  <a:pt x="1788" y="1848"/>
                </a:lnTo>
                <a:lnTo>
                  <a:pt x="1800" y="1853"/>
                </a:lnTo>
                <a:lnTo>
                  <a:pt x="1806" y="1853"/>
                </a:lnTo>
                <a:lnTo>
                  <a:pt x="1818" y="1853"/>
                </a:lnTo>
                <a:lnTo>
                  <a:pt x="1824" y="1853"/>
                </a:lnTo>
                <a:lnTo>
                  <a:pt x="1836" y="1853"/>
                </a:lnTo>
                <a:lnTo>
                  <a:pt x="1848" y="1853"/>
                </a:lnTo>
                <a:lnTo>
                  <a:pt x="1854" y="1853"/>
                </a:lnTo>
                <a:lnTo>
                  <a:pt x="1866" y="1853"/>
                </a:lnTo>
                <a:lnTo>
                  <a:pt x="1872" y="1853"/>
                </a:lnTo>
                <a:lnTo>
                  <a:pt x="1884" y="1853"/>
                </a:lnTo>
                <a:lnTo>
                  <a:pt x="1896" y="1853"/>
                </a:lnTo>
                <a:lnTo>
                  <a:pt x="1902" y="1853"/>
                </a:lnTo>
                <a:lnTo>
                  <a:pt x="1914" y="1858"/>
                </a:lnTo>
                <a:lnTo>
                  <a:pt x="1920" y="1858"/>
                </a:lnTo>
                <a:lnTo>
                  <a:pt x="1932" y="1858"/>
                </a:lnTo>
                <a:lnTo>
                  <a:pt x="1938" y="1858"/>
                </a:lnTo>
                <a:lnTo>
                  <a:pt x="1950" y="1858"/>
                </a:lnTo>
                <a:lnTo>
                  <a:pt x="1962" y="1858"/>
                </a:lnTo>
                <a:lnTo>
                  <a:pt x="1968" y="1858"/>
                </a:lnTo>
                <a:lnTo>
                  <a:pt x="1980" y="1858"/>
                </a:lnTo>
                <a:lnTo>
                  <a:pt x="1986" y="1858"/>
                </a:lnTo>
                <a:lnTo>
                  <a:pt x="1998" y="1858"/>
                </a:lnTo>
                <a:lnTo>
                  <a:pt x="2010" y="1858"/>
                </a:lnTo>
                <a:lnTo>
                  <a:pt x="2016" y="1858"/>
                </a:lnTo>
                <a:lnTo>
                  <a:pt x="2028" y="1863"/>
                </a:lnTo>
                <a:lnTo>
                  <a:pt x="2034" y="1863"/>
                </a:lnTo>
                <a:lnTo>
                  <a:pt x="2046" y="1863"/>
                </a:lnTo>
                <a:lnTo>
                  <a:pt x="2058" y="1863"/>
                </a:lnTo>
                <a:lnTo>
                  <a:pt x="2064" y="1863"/>
                </a:lnTo>
                <a:lnTo>
                  <a:pt x="2076" y="1863"/>
                </a:lnTo>
                <a:lnTo>
                  <a:pt x="2082" y="1863"/>
                </a:lnTo>
                <a:lnTo>
                  <a:pt x="2094" y="1863"/>
                </a:lnTo>
                <a:lnTo>
                  <a:pt x="2100" y="1863"/>
                </a:lnTo>
                <a:lnTo>
                  <a:pt x="2112" y="1863"/>
                </a:lnTo>
                <a:lnTo>
                  <a:pt x="2124" y="1863"/>
                </a:lnTo>
                <a:lnTo>
                  <a:pt x="2130" y="1863"/>
                </a:lnTo>
                <a:lnTo>
                  <a:pt x="2142" y="1863"/>
                </a:lnTo>
                <a:lnTo>
                  <a:pt x="2148" y="1863"/>
                </a:lnTo>
                <a:lnTo>
                  <a:pt x="2160" y="1863"/>
                </a:lnTo>
                <a:lnTo>
                  <a:pt x="2172" y="1868"/>
                </a:lnTo>
                <a:lnTo>
                  <a:pt x="2178" y="1868"/>
                </a:lnTo>
                <a:lnTo>
                  <a:pt x="2190" y="1868"/>
                </a:lnTo>
                <a:lnTo>
                  <a:pt x="2196" y="1868"/>
                </a:lnTo>
                <a:lnTo>
                  <a:pt x="2208" y="1868"/>
                </a:lnTo>
                <a:lnTo>
                  <a:pt x="2220" y="1868"/>
                </a:lnTo>
                <a:lnTo>
                  <a:pt x="2226" y="1868"/>
                </a:lnTo>
                <a:lnTo>
                  <a:pt x="2238" y="1868"/>
                </a:lnTo>
                <a:lnTo>
                  <a:pt x="2244" y="1868"/>
                </a:lnTo>
                <a:lnTo>
                  <a:pt x="2256" y="1868"/>
                </a:lnTo>
                <a:lnTo>
                  <a:pt x="2262" y="1868"/>
                </a:lnTo>
                <a:lnTo>
                  <a:pt x="2274" y="1868"/>
                </a:lnTo>
                <a:lnTo>
                  <a:pt x="2286" y="1868"/>
                </a:lnTo>
                <a:lnTo>
                  <a:pt x="2292" y="1868"/>
                </a:lnTo>
                <a:lnTo>
                  <a:pt x="2304" y="1868"/>
                </a:lnTo>
                <a:lnTo>
                  <a:pt x="2310" y="1868"/>
                </a:lnTo>
                <a:lnTo>
                  <a:pt x="2322" y="1868"/>
                </a:lnTo>
                <a:lnTo>
                  <a:pt x="2334" y="1868"/>
                </a:lnTo>
                <a:lnTo>
                  <a:pt x="2340" y="1873"/>
                </a:lnTo>
                <a:lnTo>
                  <a:pt x="2352" y="1873"/>
                </a:lnTo>
                <a:lnTo>
                  <a:pt x="2358" y="1873"/>
                </a:lnTo>
                <a:lnTo>
                  <a:pt x="2370" y="1873"/>
                </a:lnTo>
                <a:lnTo>
                  <a:pt x="2376" y="1873"/>
                </a:lnTo>
                <a:lnTo>
                  <a:pt x="2388" y="1873"/>
                </a:lnTo>
                <a:lnTo>
                  <a:pt x="2400" y="1873"/>
                </a:lnTo>
                <a:lnTo>
                  <a:pt x="2406" y="1873"/>
                </a:lnTo>
                <a:lnTo>
                  <a:pt x="2418" y="1873"/>
                </a:lnTo>
                <a:lnTo>
                  <a:pt x="2424" y="1873"/>
                </a:lnTo>
                <a:lnTo>
                  <a:pt x="2436" y="1873"/>
                </a:lnTo>
                <a:lnTo>
                  <a:pt x="2448" y="1873"/>
                </a:lnTo>
                <a:lnTo>
                  <a:pt x="2454" y="1873"/>
                </a:lnTo>
                <a:lnTo>
                  <a:pt x="2466" y="1873"/>
                </a:lnTo>
                <a:lnTo>
                  <a:pt x="2472" y="1873"/>
                </a:lnTo>
                <a:lnTo>
                  <a:pt x="2484" y="1873"/>
                </a:lnTo>
                <a:lnTo>
                  <a:pt x="2496" y="1873"/>
                </a:lnTo>
                <a:lnTo>
                  <a:pt x="2502" y="1873"/>
                </a:lnTo>
                <a:lnTo>
                  <a:pt x="2514" y="1873"/>
                </a:lnTo>
                <a:lnTo>
                  <a:pt x="2520" y="1873"/>
                </a:lnTo>
                <a:lnTo>
                  <a:pt x="2532" y="1873"/>
                </a:lnTo>
                <a:lnTo>
                  <a:pt x="2538" y="1878"/>
                </a:lnTo>
                <a:lnTo>
                  <a:pt x="2550" y="1878"/>
                </a:lnTo>
                <a:lnTo>
                  <a:pt x="2562" y="1878"/>
                </a:lnTo>
                <a:lnTo>
                  <a:pt x="2568" y="1878"/>
                </a:lnTo>
                <a:lnTo>
                  <a:pt x="2580" y="1878"/>
                </a:lnTo>
                <a:lnTo>
                  <a:pt x="2586" y="1878"/>
                </a:lnTo>
                <a:lnTo>
                  <a:pt x="2598" y="1878"/>
                </a:lnTo>
                <a:lnTo>
                  <a:pt x="2610" y="1878"/>
                </a:lnTo>
                <a:lnTo>
                  <a:pt x="2616" y="1878"/>
                </a:lnTo>
                <a:lnTo>
                  <a:pt x="2628" y="1878"/>
                </a:lnTo>
                <a:lnTo>
                  <a:pt x="2634" y="1878"/>
                </a:lnTo>
                <a:lnTo>
                  <a:pt x="2646" y="1878"/>
                </a:lnTo>
                <a:lnTo>
                  <a:pt x="2658" y="1878"/>
                </a:lnTo>
                <a:lnTo>
                  <a:pt x="2664" y="1878"/>
                </a:lnTo>
                <a:lnTo>
                  <a:pt x="2676" y="1878"/>
                </a:lnTo>
                <a:lnTo>
                  <a:pt x="2682" y="1878"/>
                </a:lnTo>
                <a:lnTo>
                  <a:pt x="2694" y="1878"/>
                </a:lnTo>
                <a:lnTo>
                  <a:pt x="2700" y="1878"/>
                </a:lnTo>
                <a:lnTo>
                  <a:pt x="2712" y="1878"/>
                </a:lnTo>
                <a:lnTo>
                  <a:pt x="2724" y="1878"/>
                </a:lnTo>
                <a:lnTo>
                  <a:pt x="2730" y="1878"/>
                </a:lnTo>
                <a:lnTo>
                  <a:pt x="2742" y="1878"/>
                </a:lnTo>
                <a:lnTo>
                  <a:pt x="2748" y="1878"/>
                </a:lnTo>
                <a:lnTo>
                  <a:pt x="2760" y="1878"/>
                </a:lnTo>
                <a:lnTo>
                  <a:pt x="2772" y="1883"/>
                </a:lnTo>
                <a:lnTo>
                  <a:pt x="2778" y="1883"/>
                </a:lnTo>
                <a:lnTo>
                  <a:pt x="2790" y="1883"/>
                </a:lnTo>
                <a:lnTo>
                  <a:pt x="2796" y="1883"/>
                </a:lnTo>
                <a:lnTo>
                  <a:pt x="2808" y="1883"/>
                </a:lnTo>
                <a:lnTo>
                  <a:pt x="2814" y="1883"/>
                </a:lnTo>
                <a:lnTo>
                  <a:pt x="2826" y="1883"/>
                </a:lnTo>
                <a:lnTo>
                  <a:pt x="2838" y="1883"/>
                </a:lnTo>
                <a:lnTo>
                  <a:pt x="2844" y="1883"/>
                </a:lnTo>
                <a:lnTo>
                  <a:pt x="2856" y="1883"/>
                </a:lnTo>
                <a:lnTo>
                  <a:pt x="2862" y="1883"/>
                </a:lnTo>
                <a:lnTo>
                  <a:pt x="2874" y="1883"/>
                </a:lnTo>
                <a:lnTo>
                  <a:pt x="2886" y="1883"/>
                </a:lnTo>
                <a:lnTo>
                  <a:pt x="2892" y="1883"/>
                </a:lnTo>
                <a:lnTo>
                  <a:pt x="2904" y="1883"/>
                </a:lnTo>
                <a:lnTo>
                  <a:pt x="2910" y="1883"/>
                </a:lnTo>
                <a:lnTo>
                  <a:pt x="2922" y="1883"/>
                </a:lnTo>
                <a:lnTo>
                  <a:pt x="2934" y="1883"/>
                </a:lnTo>
                <a:lnTo>
                  <a:pt x="2940" y="1883"/>
                </a:lnTo>
                <a:lnTo>
                  <a:pt x="2952" y="1883"/>
                </a:lnTo>
                <a:lnTo>
                  <a:pt x="2958" y="1883"/>
                </a:lnTo>
                <a:lnTo>
                  <a:pt x="2970" y="1883"/>
                </a:lnTo>
                <a:lnTo>
                  <a:pt x="2976" y="1883"/>
                </a:lnTo>
                <a:lnTo>
                  <a:pt x="2988" y="1883"/>
                </a:lnTo>
                <a:lnTo>
                  <a:pt x="3000" y="1883"/>
                </a:lnTo>
                <a:lnTo>
                  <a:pt x="3006" y="1883"/>
                </a:lnTo>
                <a:lnTo>
                  <a:pt x="3018" y="188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67080" y="5559480"/>
            <a:ext cx="495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419960" y="2315880"/>
            <a:ext cx="1440" cy="324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467080" y="5519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24240" y="5599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705120" y="55198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62280" y="5599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943520" y="5519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48480" y="5599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181560" y="55198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86520" y="5599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419960" y="5519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24920" y="5599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372440" y="555948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58120" y="54878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372440" y="509256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58120" y="5021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372440" y="46339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53440" y="45626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372440" y="416736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53440" y="40957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372440" y="370836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53440" y="3637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372440" y="324180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53440" y="3170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372440" y="278280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53440" y="2711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372440" y="23162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53440" y="22464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2395440"/>
            <a:ext cx="4791240" cy="2981520"/>
          </a:xfrm>
          <a:custGeom>
            <a:avLst/>
            <a:gdLst/>
            <a:ahLst/>
            <a:rect l="l" t="t" r="r" b="b"/>
            <a:pathLst>
              <a:path w="3018" h="1878">
                <a:moveTo>
                  <a:pt x="0" y="0"/>
                </a:moveTo>
                <a:lnTo>
                  <a:pt x="6" y="364"/>
                </a:lnTo>
                <a:lnTo>
                  <a:pt x="18" y="658"/>
                </a:lnTo>
                <a:lnTo>
                  <a:pt x="30" y="892"/>
                </a:lnTo>
                <a:lnTo>
                  <a:pt x="36" y="1081"/>
                </a:lnTo>
                <a:lnTo>
                  <a:pt x="48" y="1236"/>
                </a:lnTo>
                <a:lnTo>
                  <a:pt x="54" y="1360"/>
                </a:lnTo>
                <a:lnTo>
                  <a:pt x="66" y="1460"/>
                </a:lnTo>
                <a:lnTo>
                  <a:pt x="72" y="1535"/>
                </a:lnTo>
                <a:lnTo>
                  <a:pt x="84" y="1594"/>
                </a:lnTo>
                <a:lnTo>
                  <a:pt x="96" y="1639"/>
                </a:lnTo>
                <a:lnTo>
                  <a:pt x="102" y="1669"/>
                </a:lnTo>
                <a:lnTo>
                  <a:pt x="114" y="1684"/>
                </a:lnTo>
                <a:lnTo>
                  <a:pt x="120" y="1684"/>
                </a:lnTo>
                <a:lnTo>
                  <a:pt x="132" y="1679"/>
                </a:lnTo>
                <a:lnTo>
                  <a:pt x="144" y="1669"/>
                </a:lnTo>
                <a:lnTo>
                  <a:pt x="150" y="1654"/>
                </a:lnTo>
                <a:lnTo>
                  <a:pt x="162" y="1634"/>
                </a:lnTo>
                <a:lnTo>
                  <a:pt x="168" y="1619"/>
                </a:lnTo>
                <a:lnTo>
                  <a:pt x="180" y="1609"/>
                </a:lnTo>
                <a:lnTo>
                  <a:pt x="186" y="1604"/>
                </a:lnTo>
                <a:lnTo>
                  <a:pt x="198" y="1599"/>
                </a:lnTo>
                <a:lnTo>
                  <a:pt x="210" y="1604"/>
                </a:lnTo>
                <a:lnTo>
                  <a:pt x="216" y="1614"/>
                </a:lnTo>
                <a:lnTo>
                  <a:pt x="228" y="1629"/>
                </a:lnTo>
                <a:lnTo>
                  <a:pt x="234" y="1644"/>
                </a:lnTo>
                <a:lnTo>
                  <a:pt x="246" y="1664"/>
                </a:lnTo>
                <a:lnTo>
                  <a:pt x="258" y="1679"/>
                </a:lnTo>
                <a:lnTo>
                  <a:pt x="264" y="1699"/>
                </a:lnTo>
                <a:lnTo>
                  <a:pt x="276" y="1714"/>
                </a:lnTo>
                <a:lnTo>
                  <a:pt x="282" y="1729"/>
                </a:lnTo>
                <a:lnTo>
                  <a:pt x="294" y="1739"/>
                </a:lnTo>
                <a:lnTo>
                  <a:pt x="306" y="1744"/>
                </a:lnTo>
                <a:lnTo>
                  <a:pt x="312" y="1749"/>
                </a:lnTo>
                <a:lnTo>
                  <a:pt x="324" y="1749"/>
                </a:lnTo>
                <a:lnTo>
                  <a:pt x="330" y="1749"/>
                </a:lnTo>
                <a:lnTo>
                  <a:pt x="342" y="1744"/>
                </a:lnTo>
                <a:lnTo>
                  <a:pt x="348" y="1739"/>
                </a:lnTo>
                <a:lnTo>
                  <a:pt x="360" y="1739"/>
                </a:lnTo>
                <a:lnTo>
                  <a:pt x="372" y="1734"/>
                </a:lnTo>
                <a:lnTo>
                  <a:pt x="378" y="1734"/>
                </a:lnTo>
                <a:lnTo>
                  <a:pt x="390" y="1739"/>
                </a:lnTo>
                <a:lnTo>
                  <a:pt x="396" y="1744"/>
                </a:lnTo>
                <a:lnTo>
                  <a:pt x="408" y="1749"/>
                </a:lnTo>
                <a:lnTo>
                  <a:pt x="420" y="1759"/>
                </a:lnTo>
                <a:lnTo>
                  <a:pt x="426" y="1769"/>
                </a:lnTo>
                <a:lnTo>
                  <a:pt x="438" y="1779"/>
                </a:lnTo>
                <a:lnTo>
                  <a:pt x="444" y="1789"/>
                </a:lnTo>
                <a:lnTo>
                  <a:pt x="456" y="1799"/>
                </a:lnTo>
                <a:lnTo>
                  <a:pt x="468" y="1804"/>
                </a:lnTo>
                <a:lnTo>
                  <a:pt x="474" y="1809"/>
                </a:lnTo>
                <a:lnTo>
                  <a:pt x="486" y="1814"/>
                </a:lnTo>
                <a:lnTo>
                  <a:pt x="492" y="1819"/>
                </a:lnTo>
                <a:lnTo>
                  <a:pt x="504" y="1819"/>
                </a:lnTo>
                <a:lnTo>
                  <a:pt x="510" y="1814"/>
                </a:lnTo>
                <a:lnTo>
                  <a:pt x="522" y="1814"/>
                </a:lnTo>
                <a:lnTo>
                  <a:pt x="534" y="1809"/>
                </a:lnTo>
                <a:lnTo>
                  <a:pt x="540" y="1804"/>
                </a:lnTo>
                <a:lnTo>
                  <a:pt x="552" y="1804"/>
                </a:lnTo>
                <a:lnTo>
                  <a:pt x="558" y="1804"/>
                </a:lnTo>
                <a:lnTo>
                  <a:pt x="570" y="1804"/>
                </a:lnTo>
                <a:lnTo>
                  <a:pt x="582" y="1804"/>
                </a:lnTo>
                <a:lnTo>
                  <a:pt x="588" y="1804"/>
                </a:lnTo>
                <a:lnTo>
                  <a:pt x="600" y="1809"/>
                </a:lnTo>
                <a:lnTo>
                  <a:pt x="606" y="1814"/>
                </a:lnTo>
                <a:lnTo>
                  <a:pt x="618" y="1819"/>
                </a:lnTo>
                <a:lnTo>
                  <a:pt x="624" y="1824"/>
                </a:lnTo>
                <a:lnTo>
                  <a:pt x="636" y="1829"/>
                </a:lnTo>
                <a:lnTo>
                  <a:pt x="648" y="1829"/>
                </a:lnTo>
                <a:lnTo>
                  <a:pt x="654" y="1829"/>
                </a:lnTo>
                <a:lnTo>
                  <a:pt x="666" y="1829"/>
                </a:lnTo>
                <a:lnTo>
                  <a:pt x="672" y="1824"/>
                </a:lnTo>
                <a:lnTo>
                  <a:pt x="684" y="1824"/>
                </a:lnTo>
                <a:lnTo>
                  <a:pt x="696" y="1819"/>
                </a:lnTo>
                <a:lnTo>
                  <a:pt x="702" y="1814"/>
                </a:lnTo>
                <a:lnTo>
                  <a:pt x="714" y="1809"/>
                </a:lnTo>
                <a:lnTo>
                  <a:pt x="720" y="1804"/>
                </a:lnTo>
                <a:lnTo>
                  <a:pt x="732" y="1799"/>
                </a:lnTo>
                <a:lnTo>
                  <a:pt x="744" y="1799"/>
                </a:lnTo>
                <a:lnTo>
                  <a:pt x="750" y="1799"/>
                </a:lnTo>
                <a:lnTo>
                  <a:pt x="762" y="1799"/>
                </a:lnTo>
                <a:lnTo>
                  <a:pt x="768" y="1804"/>
                </a:lnTo>
                <a:lnTo>
                  <a:pt x="780" y="1804"/>
                </a:lnTo>
                <a:lnTo>
                  <a:pt x="786" y="1809"/>
                </a:lnTo>
                <a:lnTo>
                  <a:pt x="798" y="1814"/>
                </a:lnTo>
                <a:lnTo>
                  <a:pt x="810" y="1819"/>
                </a:lnTo>
                <a:lnTo>
                  <a:pt x="816" y="1824"/>
                </a:lnTo>
                <a:lnTo>
                  <a:pt x="828" y="1824"/>
                </a:lnTo>
                <a:lnTo>
                  <a:pt x="834" y="1829"/>
                </a:lnTo>
                <a:lnTo>
                  <a:pt x="846" y="1829"/>
                </a:lnTo>
                <a:lnTo>
                  <a:pt x="858" y="1829"/>
                </a:lnTo>
                <a:lnTo>
                  <a:pt x="864" y="1829"/>
                </a:lnTo>
                <a:lnTo>
                  <a:pt x="876" y="1829"/>
                </a:lnTo>
                <a:lnTo>
                  <a:pt x="882" y="1829"/>
                </a:lnTo>
                <a:lnTo>
                  <a:pt x="894" y="1829"/>
                </a:lnTo>
                <a:lnTo>
                  <a:pt x="906" y="1829"/>
                </a:lnTo>
                <a:lnTo>
                  <a:pt x="912" y="1829"/>
                </a:lnTo>
                <a:lnTo>
                  <a:pt x="924" y="1834"/>
                </a:lnTo>
                <a:lnTo>
                  <a:pt x="930" y="1834"/>
                </a:lnTo>
                <a:lnTo>
                  <a:pt x="942" y="1839"/>
                </a:lnTo>
                <a:lnTo>
                  <a:pt x="948" y="1844"/>
                </a:lnTo>
                <a:lnTo>
                  <a:pt x="960" y="1849"/>
                </a:lnTo>
                <a:lnTo>
                  <a:pt x="972" y="1854"/>
                </a:lnTo>
                <a:lnTo>
                  <a:pt x="978" y="1863"/>
                </a:lnTo>
                <a:lnTo>
                  <a:pt x="990" y="1868"/>
                </a:lnTo>
                <a:lnTo>
                  <a:pt x="996" y="1868"/>
                </a:lnTo>
                <a:lnTo>
                  <a:pt x="1008" y="1873"/>
                </a:lnTo>
                <a:lnTo>
                  <a:pt x="1020" y="1873"/>
                </a:lnTo>
                <a:lnTo>
                  <a:pt x="1026" y="1878"/>
                </a:lnTo>
                <a:lnTo>
                  <a:pt x="1038" y="1878"/>
                </a:lnTo>
                <a:lnTo>
                  <a:pt x="1044" y="1878"/>
                </a:lnTo>
                <a:lnTo>
                  <a:pt x="1056" y="1878"/>
                </a:lnTo>
                <a:lnTo>
                  <a:pt x="1062" y="1873"/>
                </a:lnTo>
                <a:lnTo>
                  <a:pt x="1074" y="1873"/>
                </a:lnTo>
                <a:lnTo>
                  <a:pt x="1086" y="1873"/>
                </a:lnTo>
                <a:lnTo>
                  <a:pt x="1092" y="1873"/>
                </a:lnTo>
                <a:lnTo>
                  <a:pt x="1104" y="1873"/>
                </a:lnTo>
                <a:lnTo>
                  <a:pt x="1110" y="1873"/>
                </a:lnTo>
                <a:lnTo>
                  <a:pt x="1122" y="1873"/>
                </a:lnTo>
                <a:lnTo>
                  <a:pt x="1134" y="1873"/>
                </a:lnTo>
                <a:lnTo>
                  <a:pt x="1140" y="1873"/>
                </a:lnTo>
                <a:lnTo>
                  <a:pt x="1152" y="1873"/>
                </a:lnTo>
                <a:lnTo>
                  <a:pt x="1158" y="1873"/>
                </a:lnTo>
                <a:lnTo>
                  <a:pt x="1170" y="1868"/>
                </a:lnTo>
                <a:lnTo>
                  <a:pt x="1182" y="1863"/>
                </a:lnTo>
                <a:lnTo>
                  <a:pt x="1188" y="1859"/>
                </a:lnTo>
                <a:lnTo>
                  <a:pt x="1200" y="1854"/>
                </a:lnTo>
                <a:lnTo>
                  <a:pt x="1206" y="1844"/>
                </a:lnTo>
                <a:lnTo>
                  <a:pt x="1218" y="1839"/>
                </a:lnTo>
                <a:lnTo>
                  <a:pt x="1224" y="1829"/>
                </a:lnTo>
                <a:lnTo>
                  <a:pt x="1236" y="1819"/>
                </a:lnTo>
                <a:lnTo>
                  <a:pt x="1248" y="1809"/>
                </a:lnTo>
                <a:lnTo>
                  <a:pt x="1254" y="1804"/>
                </a:lnTo>
                <a:lnTo>
                  <a:pt x="1266" y="1794"/>
                </a:lnTo>
                <a:lnTo>
                  <a:pt x="1272" y="1789"/>
                </a:lnTo>
                <a:lnTo>
                  <a:pt x="1284" y="1784"/>
                </a:lnTo>
                <a:lnTo>
                  <a:pt x="1296" y="1779"/>
                </a:lnTo>
                <a:lnTo>
                  <a:pt x="1302" y="1774"/>
                </a:lnTo>
                <a:lnTo>
                  <a:pt x="1314" y="1769"/>
                </a:lnTo>
                <a:lnTo>
                  <a:pt x="1320" y="1769"/>
                </a:lnTo>
                <a:lnTo>
                  <a:pt x="1332" y="1764"/>
                </a:lnTo>
                <a:lnTo>
                  <a:pt x="1344" y="1759"/>
                </a:lnTo>
                <a:lnTo>
                  <a:pt x="1350" y="1754"/>
                </a:lnTo>
                <a:lnTo>
                  <a:pt x="1362" y="1749"/>
                </a:lnTo>
                <a:lnTo>
                  <a:pt x="1368" y="1744"/>
                </a:lnTo>
                <a:lnTo>
                  <a:pt x="1380" y="1734"/>
                </a:lnTo>
                <a:lnTo>
                  <a:pt x="1386" y="1729"/>
                </a:lnTo>
                <a:lnTo>
                  <a:pt x="1398" y="1724"/>
                </a:lnTo>
                <a:lnTo>
                  <a:pt x="1410" y="1714"/>
                </a:lnTo>
                <a:lnTo>
                  <a:pt x="1416" y="1709"/>
                </a:lnTo>
                <a:lnTo>
                  <a:pt x="1428" y="1699"/>
                </a:lnTo>
                <a:lnTo>
                  <a:pt x="1434" y="1694"/>
                </a:lnTo>
                <a:lnTo>
                  <a:pt x="1446" y="1689"/>
                </a:lnTo>
                <a:lnTo>
                  <a:pt x="1458" y="1684"/>
                </a:lnTo>
                <a:lnTo>
                  <a:pt x="1464" y="1684"/>
                </a:lnTo>
                <a:lnTo>
                  <a:pt x="1476" y="1679"/>
                </a:lnTo>
                <a:lnTo>
                  <a:pt x="1482" y="1679"/>
                </a:lnTo>
                <a:lnTo>
                  <a:pt x="1494" y="1679"/>
                </a:lnTo>
                <a:lnTo>
                  <a:pt x="1500" y="1674"/>
                </a:lnTo>
                <a:lnTo>
                  <a:pt x="1512" y="1674"/>
                </a:lnTo>
                <a:lnTo>
                  <a:pt x="1524" y="1674"/>
                </a:lnTo>
                <a:lnTo>
                  <a:pt x="1530" y="1669"/>
                </a:lnTo>
                <a:lnTo>
                  <a:pt x="1542" y="1664"/>
                </a:lnTo>
                <a:lnTo>
                  <a:pt x="1548" y="1664"/>
                </a:lnTo>
                <a:lnTo>
                  <a:pt x="1560" y="1659"/>
                </a:lnTo>
                <a:lnTo>
                  <a:pt x="1572" y="1654"/>
                </a:lnTo>
                <a:lnTo>
                  <a:pt x="1578" y="1649"/>
                </a:lnTo>
                <a:lnTo>
                  <a:pt x="1590" y="1644"/>
                </a:lnTo>
                <a:lnTo>
                  <a:pt x="1596" y="1639"/>
                </a:lnTo>
                <a:lnTo>
                  <a:pt x="1608" y="1634"/>
                </a:lnTo>
                <a:lnTo>
                  <a:pt x="1620" y="1634"/>
                </a:lnTo>
                <a:lnTo>
                  <a:pt x="1626" y="1629"/>
                </a:lnTo>
                <a:lnTo>
                  <a:pt x="1638" y="1629"/>
                </a:lnTo>
                <a:lnTo>
                  <a:pt x="1644" y="1629"/>
                </a:lnTo>
                <a:lnTo>
                  <a:pt x="1656" y="1629"/>
                </a:lnTo>
                <a:lnTo>
                  <a:pt x="1662" y="1629"/>
                </a:lnTo>
                <a:lnTo>
                  <a:pt x="1674" y="1629"/>
                </a:lnTo>
                <a:lnTo>
                  <a:pt x="1686" y="1629"/>
                </a:lnTo>
                <a:lnTo>
                  <a:pt x="1692" y="1629"/>
                </a:lnTo>
                <a:lnTo>
                  <a:pt x="1704" y="1629"/>
                </a:lnTo>
                <a:lnTo>
                  <a:pt x="1710" y="1624"/>
                </a:lnTo>
                <a:lnTo>
                  <a:pt x="1722" y="1624"/>
                </a:lnTo>
                <a:lnTo>
                  <a:pt x="1734" y="1619"/>
                </a:lnTo>
                <a:lnTo>
                  <a:pt x="1740" y="1619"/>
                </a:lnTo>
                <a:lnTo>
                  <a:pt x="1752" y="1614"/>
                </a:lnTo>
                <a:lnTo>
                  <a:pt x="1758" y="1609"/>
                </a:lnTo>
                <a:lnTo>
                  <a:pt x="1770" y="1609"/>
                </a:lnTo>
                <a:lnTo>
                  <a:pt x="1782" y="1604"/>
                </a:lnTo>
                <a:lnTo>
                  <a:pt x="1788" y="1604"/>
                </a:lnTo>
                <a:lnTo>
                  <a:pt x="1800" y="1604"/>
                </a:lnTo>
                <a:lnTo>
                  <a:pt x="1806" y="1599"/>
                </a:lnTo>
                <a:lnTo>
                  <a:pt x="1818" y="1599"/>
                </a:lnTo>
                <a:lnTo>
                  <a:pt x="1824" y="1604"/>
                </a:lnTo>
                <a:lnTo>
                  <a:pt x="1836" y="1604"/>
                </a:lnTo>
                <a:lnTo>
                  <a:pt x="1848" y="1604"/>
                </a:lnTo>
                <a:lnTo>
                  <a:pt x="1854" y="1604"/>
                </a:lnTo>
                <a:lnTo>
                  <a:pt x="1866" y="1604"/>
                </a:lnTo>
                <a:lnTo>
                  <a:pt x="1872" y="1604"/>
                </a:lnTo>
                <a:lnTo>
                  <a:pt x="1884" y="1604"/>
                </a:lnTo>
                <a:lnTo>
                  <a:pt x="1896" y="1604"/>
                </a:lnTo>
                <a:lnTo>
                  <a:pt x="1902" y="1599"/>
                </a:lnTo>
                <a:lnTo>
                  <a:pt x="1914" y="1599"/>
                </a:lnTo>
                <a:lnTo>
                  <a:pt x="1920" y="1594"/>
                </a:lnTo>
                <a:lnTo>
                  <a:pt x="1932" y="1594"/>
                </a:lnTo>
                <a:lnTo>
                  <a:pt x="1938" y="1589"/>
                </a:lnTo>
                <a:lnTo>
                  <a:pt x="1950" y="1589"/>
                </a:lnTo>
                <a:lnTo>
                  <a:pt x="1962" y="1589"/>
                </a:lnTo>
                <a:lnTo>
                  <a:pt x="1968" y="1589"/>
                </a:lnTo>
                <a:lnTo>
                  <a:pt x="1980" y="1589"/>
                </a:lnTo>
                <a:lnTo>
                  <a:pt x="1986" y="1589"/>
                </a:lnTo>
                <a:lnTo>
                  <a:pt x="1998" y="1589"/>
                </a:lnTo>
                <a:lnTo>
                  <a:pt x="2010" y="1589"/>
                </a:lnTo>
                <a:lnTo>
                  <a:pt x="2016" y="1594"/>
                </a:lnTo>
                <a:lnTo>
                  <a:pt x="2028" y="1594"/>
                </a:lnTo>
                <a:lnTo>
                  <a:pt x="2034" y="1594"/>
                </a:lnTo>
                <a:lnTo>
                  <a:pt x="2046" y="1594"/>
                </a:lnTo>
                <a:lnTo>
                  <a:pt x="2058" y="1594"/>
                </a:lnTo>
                <a:lnTo>
                  <a:pt x="2064" y="1594"/>
                </a:lnTo>
                <a:lnTo>
                  <a:pt x="2076" y="1594"/>
                </a:lnTo>
                <a:lnTo>
                  <a:pt x="2082" y="1589"/>
                </a:lnTo>
                <a:lnTo>
                  <a:pt x="2094" y="1589"/>
                </a:lnTo>
                <a:lnTo>
                  <a:pt x="2100" y="1589"/>
                </a:lnTo>
                <a:lnTo>
                  <a:pt x="2112" y="1584"/>
                </a:lnTo>
                <a:lnTo>
                  <a:pt x="2124" y="1584"/>
                </a:lnTo>
                <a:lnTo>
                  <a:pt x="2130" y="1584"/>
                </a:lnTo>
                <a:lnTo>
                  <a:pt x="2142" y="1580"/>
                </a:lnTo>
                <a:lnTo>
                  <a:pt x="2148" y="1580"/>
                </a:lnTo>
                <a:lnTo>
                  <a:pt x="2160" y="1584"/>
                </a:lnTo>
                <a:lnTo>
                  <a:pt x="2172" y="1584"/>
                </a:lnTo>
                <a:lnTo>
                  <a:pt x="2178" y="1584"/>
                </a:lnTo>
                <a:lnTo>
                  <a:pt x="2190" y="1584"/>
                </a:lnTo>
                <a:lnTo>
                  <a:pt x="2196" y="1589"/>
                </a:lnTo>
                <a:lnTo>
                  <a:pt x="2208" y="1589"/>
                </a:lnTo>
                <a:lnTo>
                  <a:pt x="2220" y="1589"/>
                </a:lnTo>
                <a:lnTo>
                  <a:pt x="2226" y="1589"/>
                </a:lnTo>
                <a:lnTo>
                  <a:pt x="2238" y="1589"/>
                </a:lnTo>
                <a:lnTo>
                  <a:pt x="2244" y="1584"/>
                </a:lnTo>
                <a:lnTo>
                  <a:pt x="2256" y="1584"/>
                </a:lnTo>
                <a:lnTo>
                  <a:pt x="2262" y="1584"/>
                </a:lnTo>
                <a:lnTo>
                  <a:pt x="2274" y="1580"/>
                </a:lnTo>
                <a:lnTo>
                  <a:pt x="2286" y="1580"/>
                </a:lnTo>
                <a:lnTo>
                  <a:pt x="2292" y="1580"/>
                </a:lnTo>
                <a:lnTo>
                  <a:pt x="2304" y="1575"/>
                </a:lnTo>
                <a:lnTo>
                  <a:pt x="2310" y="1575"/>
                </a:lnTo>
                <a:lnTo>
                  <a:pt x="2322" y="1575"/>
                </a:lnTo>
                <a:lnTo>
                  <a:pt x="2334" y="1575"/>
                </a:lnTo>
                <a:lnTo>
                  <a:pt x="2340" y="1575"/>
                </a:lnTo>
                <a:lnTo>
                  <a:pt x="2352" y="1580"/>
                </a:lnTo>
                <a:lnTo>
                  <a:pt x="2358" y="1580"/>
                </a:lnTo>
                <a:lnTo>
                  <a:pt x="2370" y="1580"/>
                </a:lnTo>
                <a:lnTo>
                  <a:pt x="2376" y="1580"/>
                </a:lnTo>
                <a:lnTo>
                  <a:pt x="2388" y="1580"/>
                </a:lnTo>
                <a:lnTo>
                  <a:pt x="2400" y="1580"/>
                </a:lnTo>
                <a:lnTo>
                  <a:pt x="2406" y="1580"/>
                </a:lnTo>
                <a:lnTo>
                  <a:pt x="2418" y="1575"/>
                </a:lnTo>
                <a:lnTo>
                  <a:pt x="2424" y="1575"/>
                </a:lnTo>
                <a:lnTo>
                  <a:pt x="2436" y="1570"/>
                </a:lnTo>
                <a:lnTo>
                  <a:pt x="2448" y="1570"/>
                </a:lnTo>
                <a:lnTo>
                  <a:pt x="2454" y="1565"/>
                </a:lnTo>
                <a:lnTo>
                  <a:pt x="2466" y="1565"/>
                </a:lnTo>
                <a:lnTo>
                  <a:pt x="2472" y="1560"/>
                </a:lnTo>
                <a:lnTo>
                  <a:pt x="2484" y="1560"/>
                </a:lnTo>
                <a:lnTo>
                  <a:pt x="2496" y="1560"/>
                </a:lnTo>
                <a:lnTo>
                  <a:pt x="2502" y="1555"/>
                </a:lnTo>
                <a:lnTo>
                  <a:pt x="2514" y="1555"/>
                </a:lnTo>
                <a:lnTo>
                  <a:pt x="2520" y="1560"/>
                </a:lnTo>
                <a:lnTo>
                  <a:pt x="2532" y="1560"/>
                </a:lnTo>
                <a:lnTo>
                  <a:pt x="2538" y="1560"/>
                </a:lnTo>
                <a:lnTo>
                  <a:pt x="2550" y="1565"/>
                </a:lnTo>
                <a:lnTo>
                  <a:pt x="2562" y="1565"/>
                </a:lnTo>
                <a:lnTo>
                  <a:pt x="2568" y="1565"/>
                </a:lnTo>
                <a:lnTo>
                  <a:pt x="2580" y="1565"/>
                </a:lnTo>
                <a:lnTo>
                  <a:pt x="2586" y="1565"/>
                </a:lnTo>
                <a:lnTo>
                  <a:pt x="2598" y="1565"/>
                </a:lnTo>
                <a:lnTo>
                  <a:pt x="2610" y="1560"/>
                </a:lnTo>
                <a:lnTo>
                  <a:pt x="2616" y="1560"/>
                </a:lnTo>
                <a:lnTo>
                  <a:pt x="2628" y="1560"/>
                </a:lnTo>
                <a:lnTo>
                  <a:pt x="2634" y="1555"/>
                </a:lnTo>
                <a:lnTo>
                  <a:pt x="2646" y="1555"/>
                </a:lnTo>
                <a:lnTo>
                  <a:pt x="2658" y="1555"/>
                </a:lnTo>
                <a:lnTo>
                  <a:pt x="2664" y="1555"/>
                </a:lnTo>
                <a:lnTo>
                  <a:pt x="2676" y="1555"/>
                </a:lnTo>
                <a:lnTo>
                  <a:pt x="2682" y="1555"/>
                </a:lnTo>
                <a:lnTo>
                  <a:pt x="2694" y="1555"/>
                </a:lnTo>
                <a:lnTo>
                  <a:pt x="2700" y="1560"/>
                </a:lnTo>
                <a:lnTo>
                  <a:pt x="2712" y="1560"/>
                </a:lnTo>
                <a:lnTo>
                  <a:pt x="2724" y="1560"/>
                </a:lnTo>
                <a:lnTo>
                  <a:pt x="2730" y="1565"/>
                </a:lnTo>
                <a:lnTo>
                  <a:pt x="2742" y="1565"/>
                </a:lnTo>
                <a:lnTo>
                  <a:pt x="2748" y="1570"/>
                </a:lnTo>
                <a:lnTo>
                  <a:pt x="2760" y="1570"/>
                </a:lnTo>
                <a:lnTo>
                  <a:pt x="2772" y="1570"/>
                </a:lnTo>
                <a:lnTo>
                  <a:pt x="2778" y="1570"/>
                </a:lnTo>
                <a:lnTo>
                  <a:pt x="2790" y="1570"/>
                </a:lnTo>
                <a:lnTo>
                  <a:pt x="2796" y="1565"/>
                </a:lnTo>
                <a:lnTo>
                  <a:pt x="2808" y="1565"/>
                </a:lnTo>
                <a:lnTo>
                  <a:pt x="2814" y="1565"/>
                </a:lnTo>
                <a:lnTo>
                  <a:pt x="2826" y="1565"/>
                </a:lnTo>
                <a:lnTo>
                  <a:pt x="2838" y="1565"/>
                </a:lnTo>
                <a:lnTo>
                  <a:pt x="2844" y="1565"/>
                </a:lnTo>
                <a:lnTo>
                  <a:pt x="2856" y="1565"/>
                </a:lnTo>
                <a:lnTo>
                  <a:pt x="2862" y="1570"/>
                </a:lnTo>
                <a:lnTo>
                  <a:pt x="2874" y="1570"/>
                </a:lnTo>
                <a:lnTo>
                  <a:pt x="2886" y="1575"/>
                </a:lnTo>
                <a:lnTo>
                  <a:pt x="2892" y="1580"/>
                </a:lnTo>
                <a:lnTo>
                  <a:pt x="2904" y="1580"/>
                </a:lnTo>
                <a:lnTo>
                  <a:pt x="2910" y="1584"/>
                </a:lnTo>
                <a:lnTo>
                  <a:pt x="2922" y="1589"/>
                </a:lnTo>
                <a:lnTo>
                  <a:pt x="2934" y="1589"/>
                </a:lnTo>
                <a:lnTo>
                  <a:pt x="2940" y="1589"/>
                </a:lnTo>
                <a:lnTo>
                  <a:pt x="2952" y="1594"/>
                </a:lnTo>
                <a:lnTo>
                  <a:pt x="2958" y="1594"/>
                </a:lnTo>
                <a:lnTo>
                  <a:pt x="2970" y="1594"/>
                </a:lnTo>
                <a:lnTo>
                  <a:pt x="2976" y="1594"/>
                </a:lnTo>
                <a:lnTo>
                  <a:pt x="2988" y="1594"/>
                </a:lnTo>
                <a:lnTo>
                  <a:pt x="3000" y="1594"/>
                </a:lnTo>
                <a:lnTo>
                  <a:pt x="3006" y="1594"/>
                </a:lnTo>
                <a:lnTo>
                  <a:pt x="3018" y="1594"/>
                </a:lnTo>
              </a:path>
            </a:pathLst>
          </a:custGeom>
          <a:noFill/>
          <a:ln w="2844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17240" y="589284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(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7341840" y="369540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(D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1049040" y="3815280"/>
            <a:ext cx="15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tud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57680" y="436896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86280" y="414036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295960" y="4605480"/>
            <a:ext cx="226800" cy="29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24200" y="43052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5920" y="126036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3880" y="1752480"/>
            <a:ext cx="593892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95360" y="2098800"/>
            <a:ext cx="4586400" cy="370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2098800"/>
            <a:ext cx="4586400" cy="3703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95360" y="2098800"/>
            <a:ext cx="4586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95360" y="5802480"/>
            <a:ext cx="4586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881760" y="2098800"/>
            <a:ext cx="1800" cy="3703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95360" y="2098800"/>
            <a:ext cx="1800" cy="3703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5360" y="5802480"/>
            <a:ext cx="4586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95360" y="2098800"/>
            <a:ext cx="1800" cy="3703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295360" y="57484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95360" y="2098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900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749680" y="5748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9680" y="2098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1296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03640" y="5748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098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6692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668760" y="5748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68760" y="2098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3204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122720" y="5748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22720" y="2098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8636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89640" y="5748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89640" y="2098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5292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043600" y="5748480"/>
            <a:ext cx="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3600" y="209880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0688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495760" y="57484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95760" y="2098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5940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962680" y="5748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62680" y="2098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2596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416640" y="57484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16640" y="2098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8028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881760" y="57484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81760" y="2098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97880" y="5834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95360" y="5802480"/>
            <a:ext cx="432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827760" y="5802480"/>
            <a:ext cx="540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74760" y="571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95360" y="4871880"/>
            <a:ext cx="432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27760" y="4871880"/>
            <a:ext cx="540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74760" y="4784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95360" y="3949560"/>
            <a:ext cx="432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827760" y="3949560"/>
            <a:ext cx="540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74760" y="3863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95360" y="3019320"/>
            <a:ext cx="432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827760" y="3019320"/>
            <a:ext cx="540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74760" y="293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95360" y="2098800"/>
            <a:ext cx="432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827760" y="2098800"/>
            <a:ext cx="540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74760" y="2013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95360" y="2098800"/>
            <a:ext cx="4586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95360" y="5802480"/>
            <a:ext cx="4586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881760" y="2098800"/>
            <a:ext cx="1800" cy="3703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295360" y="2098800"/>
            <a:ext cx="1800" cy="3703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75000" y="2239920"/>
            <a:ext cx="4406760" cy="3409920"/>
          </a:xfrm>
          <a:custGeom>
            <a:avLst/>
            <a:gdLst/>
            <a:ahLst/>
            <a:rect l="l" t="t" r="r" b="b"/>
            <a:pathLst>
              <a:path w="3048" h="2232">
                <a:moveTo>
                  <a:pt x="0" y="0"/>
                </a:moveTo>
                <a:lnTo>
                  <a:pt x="36" y="453"/>
                </a:lnTo>
                <a:lnTo>
                  <a:pt x="66" y="758"/>
                </a:lnTo>
                <a:lnTo>
                  <a:pt x="102" y="985"/>
                </a:lnTo>
                <a:lnTo>
                  <a:pt x="131" y="1148"/>
                </a:lnTo>
                <a:lnTo>
                  <a:pt x="161" y="1275"/>
                </a:lnTo>
                <a:lnTo>
                  <a:pt x="197" y="1382"/>
                </a:lnTo>
                <a:lnTo>
                  <a:pt x="226" y="1467"/>
                </a:lnTo>
                <a:lnTo>
                  <a:pt x="256" y="1537"/>
                </a:lnTo>
                <a:lnTo>
                  <a:pt x="292" y="1601"/>
                </a:lnTo>
                <a:lnTo>
                  <a:pt x="321" y="1651"/>
                </a:lnTo>
                <a:lnTo>
                  <a:pt x="358" y="1693"/>
                </a:lnTo>
                <a:lnTo>
                  <a:pt x="387" y="1736"/>
                </a:lnTo>
                <a:lnTo>
                  <a:pt x="416" y="1771"/>
                </a:lnTo>
                <a:lnTo>
                  <a:pt x="453" y="1800"/>
                </a:lnTo>
                <a:lnTo>
                  <a:pt x="482" y="1828"/>
                </a:lnTo>
                <a:lnTo>
                  <a:pt x="519" y="1849"/>
                </a:lnTo>
                <a:lnTo>
                  <a:pt x="548" y="1878"/>
                </a:lnTo>
                <a:lnTo>
                  <a:pt x="577" y="1892"/>
                </a:lnTo>
                <a:lnTo>
                  <a:pt x="614" y="1913"/>
                </a:lnTo>
                <a:lnTo>
                  <a:pt x="643" y="1934"/>
                </a:lnTo>
                <a:lnTo>
                  <a:pt x="672" y="1948"/>
                </a:lnTo>
                <a:lnTo>
                  <a:pt x="709" y="1963"/>
                </a:lnTo>
                <a:lnTo>
                  <a:pt x="738" y="1977"/>
                </a:lnTo>
                <a:lnTo>
                  <a:pt x="775" y="1991"/>
                </a:lnTo>
                <a:lnTo>
                  <a:pt x="804" y="1998"/>
                </a:lnTo>
                <a:lnTo>
                  <a:pt x="833" y="2012"/>
                </a:lnTo>
                <a:lnTo>
                  <a:pt x="870" y="2019"/>
                </a:lnTo>
                <a:lnTo>
                  <a:pt x="899" y="2026"/>
                </a:lnTo>
                <a:lnTo>
                  <a:pt x="928" y="2041"/>
                </a:lnTo>
                <a:lnTo>
                  <a:pt x="965" y="2048"/>
                </a:lnTo>
                <a:lnTo>
                  <a:pt x="994" y="2055"/>
                </a:lnTo>
                <a:lnTo>
                  <a:pt x="1030" y="2062"/>
                </a:lnTo>
                <a:lnTo>
                  <a:pt x="1060" y="2069"/>
                </a:lnTo>
                <a:lnTo>
                  <a:pt x="1089" y="2076"/>
                </a:lnTo>
                <a:lnTo>
                  <a:pt x="1125" y="2083"/>
                </a:lnTo>
                <a:lnTo>
                  <a:pt x="1155" y="2090"/>
                </a:lnTo>
                <a:lnTo>
                  <a:pt x="1184" y="2097"/>
                </a:lnTo>
                <a:lnTo>
                  <a:pt x="1220" y="2097"/>
                </a:lnTo>
                <a:lnTo>
                  <a:pt x="1250" y="2104"/>
                </a:lnTo>
                <a:lnTo>
                  <a:pt x="1286" y="2111"/>
                </a:lnTo>
                <a:lnTo>
                  <a:pt x="1315" y="2118"/>
                </a:lnTo>
                <a:lnTo>
                  <a:pt x="1345" y="2118"/>
                </a:lnTo>
                <a:lnTo>
                  <a:pt x="1381" y="2126"/>
                </a:lnTo>
                <a:lnTo>
                  <a:pt x="1410" y="2126"/>
                </a:lnTo>
                <a:lnTo>
                  <a:pt x="1447" y="2133"/>
                </a:lnTo>
                <a:lnTo>
                  <a:pt x="1476" y="2140"/>
                </a:lnTo>
                <a:lnTo>
                  <a:pt x="1505" y="2140"/>
                </a:lnTo>
                <a:lnTo>
                  <a:pt x="1542" y="2147"/>
                </a:lnTo>
                <a:lnTo>
                  <a:pt x="1571" y="2147"/>
                </a:lnTo>
                <a:lnTo>
                  <a:pt x="1600" y="2154"/>
                </a:lnTo>
                <a:lnTo>
                  <a:pt x="1637" y="2154"/>
                </a:lnTo>
                <a:lnTo>
                  <a:pt x="1666" y="2154"/>
                </a:lnTo>
                <a:lnTo>
                  <a:pt x="1703" y="2161"/>
                </a:lnTo>
                <a:lnTo>
                  <a:pt x="1732" y="2161"/>
                </a:lnTo>
                <a:lnTo>
                  <a:pt x="1761" y="2168"/>
                </a:lnTo>
                <a:lnTo>
                  <a:pt x="1798" y="2168"/>
                </a:lnTo>
                <a:lnTo>
                  <a:pt x="1827" y="2168"/>
                </a:lnTo>
                <a:lnTo>
                  <a:pt x="1856" y="2175"/>
                </a:lnTo>
                <a:lnTo>
                  <a:pt x="1893" y="2175"/>
                </a:lnTo>
                <a:lnTo>
                  <a:pt x="1922" y="2175"/>
                </a:lnTo>
                <a:lnTo>
                  <a:pt x="1959" y="2182"/>
                </a:lnTo>
                <a:lnTo>
                  <a:pt x="1988" y="2182"/>
                </a:lnTo>
                <a:lnTo>
                  <a:pt x="2017" y="2182"/>
                </a:lnTo>
                <a:lnTo>
                  <a:pt x="2054" y="2189"/>
                </a:lnTo>
                <a:lnTo>
                  <a:pt x="2083" y="2189"/>
                </a:lnTo>
                <a:lnTo>
                  <a:pt x="2112" y="2189"/>
                </a:lnTo>
                <a:lnTo>
                  <a:pt x="2149" y="2196"/>
                </a:lnTo>
                <a:lnTo>
                  <a:pt x="2178" y="2196"/>
                </a:lnTo>
                <a:lnTo>
                  <a:pt x="2214" y="2196"/>
                </a:lnTo>
                <a:lnTo>
                  <a:pt x="2244" y="2196"/>
                </a:lnTo>
                <a:lnTo>
                  <a:pt x="2273" y="2204"/>
                </a:lnTo>
                <a:lnTo>
                  <a:pt x="2309" y="2204"/>
                </a:lnTo>
                <a:lnTo>
                  <a:pt x="2339" y="2204"/>
                </a:lnTo>
                <a:lnTo>
                  <a:pt x="2375" y="2204"/>
                </a:lnTo>
                <a:lnTo>
                  <a:pt x="2404" y="2204"/>
                </a:lnTo>
                <a:lnTo>
                  <a:pt x="2434" y="2211"/>
                </a:lnTo>
                <a:lnTo>
                  <a:pt x="2470" y="2211"/>
                </a:lnTo>
                <a:lnTo>
                  <a:pt x="2499" y="2211"/>
                </a:lnTo>
                <a:lnTo>
                  <a:pt x="2529" y="2211"/>
                </a:lnTo>
                <a:lnTo>
                  <a:pt x="2565" y="2211"/>
                </a:lnTo>
                <a:lnTo>
                  <a:pt x="2594" y="2218"/>
                </a:lnTo>
                <a:lnTo>
                  <a:pt x="2631" y="2218"/>
                </a:lnTo>
                <a:lnTo>
                  <a:pt x="2660" y="2218"/>
                </a:lnTo>
                <a:lnTo>
                  <a:pt x="2689" y="2218"/>
                </a:lnTo>
                <a:lnTo>
                  <a:pt x="2726" y="2218"/>
                </a:lnTo>
                <a:lnTo>
                  <a:pt x="2755" y="2225"/>
                </a:lnTo>
                <a:lnTo>
                  <a:pt x="2785" y="2225"/>
                </a:lnTo>
                <a:lnTo>
                  <a:pt x="2821" y="2225"/>
                </a:lnTo>
                <a:lnTo>
                  <a:pt x="2850" y="2225"/>
                </a:lnTo>
                <a:lnTo>
                  <a:pt x="2887" y="2225"/>
                </a:lnTo>
                <a:lnTo>
                  <a:pt x="2916" y="2225"/>
                </a:lnTo>
                <a:lnTo>
                  <a:pt x="2945" y="2225"/>
                </a:lnTo>
                <a:lnTo>
                  <a:pt x="2982" y="2232"/>
                </a:lnTo>
                <a:lnTo>
                  <a:pt x="3011" y="2232"/>
                </a:lnTo>
                <a:lnTo>
                  <a:pt x="3048" y="223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44040" y="601812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95360" y="5802480"/>
            <a:ext cx="4586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881760" y="2098800"/>
            <a:ext cx="1800" cy="3703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95360" y="57484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5900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749680" y="5748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1296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03640" y="5748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6692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668760" y="5748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3204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22720" y="5748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8636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589640" y="5748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292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043600" y="5748480"/>
            <a:ext cx="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0688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495760" y="57484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962680" y="5748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2596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16640" y="57484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80280" y="583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881760" y="57484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97880" y="5834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827760" y="5802480"/>
            <a:ext cx="5400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04080" y="5715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827760" y="4871880"/>
            <a:ext cx="5400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97240" y="478476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827760" y="3949560"/>
            <a:ext cx="5400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04080" y="3863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827760" y="3019320"/>
            <a:ext cx="5400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97240" y="29322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27760" y="2098800"/>
            <a:ext cx="5400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4080" y="2013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75000" y="3949560"/>
            <a:ext cx="4406760" cy="1800"/>
          </a:xfrm>
          <a:custGeom>
            <a:avLst/>
            <a:gdLst/>
            <a:ahLst/>
            <a:rect l="l" t="t" r="r" b="b"/>
            <a:pathLst>
              <a:path w="3048" h="0">
                <a:moveTo>
                  <a:pt x="0" y="0"/>
                </a:moveTo>
                <a:lnTo>
                  <a:pt x="36" y="0"/>
                </a:lnTo>
                <a:lnTo>
                  <a:pt x="66" y="0"/>
                </a:lnTo>
                <a:lnTo>
                  <a:pt x="102" y="0"/>
                </a:lnTo>
                <a:lnTo>
                  <a:pt x="131" y="0"/>
                </a:lnTo>
                <a:lnTo>
                  <a:pt x="161" y="0"/>
                </a:lnTo>
                <a:lnTo>
                  <a:pt x="197" y="0"/>
                </a:lnTo>
                <a:lnTo>
                  <a:pt x="226" y="0"/>
                </a:lnTo>
                <a:lnTo>
                  <a:pt x="256" y="0"/>
                </a:lnTo>
                <a:lnTo>
                  <a:pt x="292" y="0"/>
                </a:lnTo>
                <a:lnTo>
                  <a:pt x="321" y="0"/>
                </a:lnTo>
                <a:lnTo>
                  <a:pt x="358" y="0"/>
                </a:lnTo>
                <a:lnTo>
                  <a:pt x="387" y="0"/>
                </a:lnTo>
                <a:lnTo>
                  <a:pt x="416" y="0"/>
                </a:lnTo>
                <a:lnTo>
                  <a:pt x="453" y="0"/>
                </a:lnTo>
                <a:lnTo>
                  <a:pt x="482" y="0"/>
                </a:lnTo>
                <a:lnTo>
                  <a:pt x="519" y="0"/>
                </a:lnTo>
                <a:lnTo>
                  <a:pt x="548" y="0"/>
                </a:lnTo>
                <a:lnTo>
                  <a:pt x="577" y="0"/>
                </a:lnTo>
                <a:lnTo>
                  <a:pt x="614" y="0"/>
                </a:lnTo>
                <a:lnTo>
                  <a:pt x="643" y="0"/>
                </a:lnTo>
                <a:lnTo>
                  <a:pt x="672" y="0"/>
                </a:lnTo>
                <a:lnTo>
                  <a:pt x="709" y="0"/>
                </a:lnTo>
                <a:lnTo>
                  <a:pt x="738" y="0"/>
                </a:lnTo>
                <a:lnTo>
                  <a:pt x="775" y="0"/>
                </a:lnTo>
                <a:lnTo>
                  <a:pt x="804" y="0"/>
                </a:lnTo>
                <a:lnTo>
                  <a:pt x="833" y="0"/>
                </a:lnTo>
                <a:lnTo>
                  <a:pt x="870" y="0"/>
                </a:lnTo>
                <a:lnTo>
                  <a:pt x="899" y="0"/>
                </a:lnTo>
                <a:lnTo>
                  <a:pt x="928" y="0"/>
                </a:lnTo>
                <a:lnTo>
                  <a:pt x="965" y="0"/>
                </a:lnTo>
                <a:lnTo>
                  <a:pt x="994" y="0"/>
                </a:lnTo>
                <a:lnTo>
                  <a:pt x="1030" y="0"/>
                </a:lnTo>
                <a:lnTo>
                  <a:pt x="1060" y="0"/>
                </a:lnTo>
                <a:lnTo>
                  <a:pt x="1089" y="0"/>
                </a:lnTo>
                <a:lnTo>
                  <a:pt x="1125" y="0"/>
                </a:lnTo>
                <a:lnTo>
                  <a:pt x="1155" y="0"/>
                </a:lnTo>
                <a:lnTo>
                  <a:pt x="1184" y="0"/>
                </a:lnTo>
                <a:lnTo>
                  <a:pt x="1220" y="0"/>
                </a:lnTo>
                <a:lnTo>
                  <a:pt x="1250" y="0"/>
                </a:lnTo>
                <a:lnTo>
                  <a:pt x="1286" y="0"/>
                </a:lnTo>
                <a:lnTo>
                  <a:pt x="1315" y="0"/>
                </a:lnTo>
                <a:lnTo>
                  <a:pt x="1345" y="0"/>
                </a:lnTo>
                <a:lnTo>
                  <a:pt x="1381" y="0"/>
                </a:lnTo>
                <a:lnTo>
                  <a:pt x="1410" y="0"/>
                </a:lnTo>
                <a:lnTo>
                  <a:pt x="1447" y="0"/>
                </a:lnTo>
                <a:lnTo>
                  <a:pt x="1476" y="0"/>
                </a:lnTo>
                <a:lnTo>
                  <a:pt x="1505" y="0"/>
                </a:lnTo>
                <a:lnTo>
                  <a:pt x="1542" y="0"/>
                </a:lnTo>
                <a:lnTo>
                  <a:pt x="1571" y="0"/>
                </a:lnTo>
                <a:lnTo>
                  <a:pt x="1600" y="0"/>
                </a:lnTo>
                <a:lnTo>
                  <a:pt x="1637" y="0"/>
                </a:lnTo>
                <a:lnTo>
                  <a:pt x="1666" y="0"/>
                </a:lnTo>
                <a:lnTo>
                  <a:pt x="1703" y="0"/>
                </a:lnTo>
                <a:lnTo>
                  <a:pt x="1732" y="0"/>
                </a:lnTo>
                <a:lnTo>
                  <a:pt x="1761" y="0"/>
                </a:lnTo>
                <a:lnTo>
                  <a:pt x="1798" y="0"/>
                </a:lnTo>
                <a:lnTo>
                  <a:pt x="1827" y="0"/>
                </a:lnTo>
                <a:lnTo>
                  <a:pt x="1856" y="0"/>
                </a:lnTo>
                <a:lnTo>
                  <a:pt x="1893" y="0"/>
                </a:lnTo>
                <a:lnTo>
                  <a:pt x="1922" y="0"/>
                </a:lnTo>
                <a:lnTo>
                  <a:pt x="1959" y="0"/>
                </a:lnTo>
                <a:lnTo>
                  <a:pt x="1988" y="0"/>
                </a:lnTo>
                <a:lnTo>
                  <a:pt x="2017" y="0"/>
                </a:lnTo>
                <a:lnTo>
                  <a:pt x="2054" y="0"/>
                </a:lnTo>
                <a:lnTo>
                  <a:pt x="2083" y="0"/>
                </a:lnTo>
                <a:lnTo>
                  <a:pt x="2112" y="0"/>
                </a:lnTo>
                <a:lnTo>
                  <a:pt x="2149" y="0"/>
                </a:lnTo>
                <a:lnTo>
                  <a:pt x="2178" y="0"/>
                </a:lnTo>
                <a:lnTo>
                  <a:pt x="2214" y="0"/>
                </a:lnTo>
                <a:lnTo>
                  <a:pt x="2244" y="0"/>
                </a:lnTo>
                <a:lnTo>
                  <a:pt x="2273" y="0"/>
                </a:lnTo>
                <a:lnTo>
                  <a:pt x="2309" y="0"/>
                </a:lnTo>
                <a:lnTo>
                  <a:pt x="2339" y="0"/>
                </a:lnTo>
                <a:lnTo>
                  <a:pt x="2375" y="0"/>
                </a:lnTo>
                <a:lnTo>
                  <a:pt x="2404" y="0"/>
                </a:lnTo>
                <a:lnTo>
                  <a:pt x="2434" y="0"/>
                </a:lnTo>
                <a:lnTo>
                  <a:pt x="2470" y="0"/>
                </a:lnTo>
                <a:lnTo>
                  <a:pt x="2499" y="0"/>
                </a:lnTo>
                <a:lnTo>
                  <a:pt x="2529" y="0"/>
                </a:lnTo>
                <a:lnTo>
                  <a:pt x="2565" y="0"/>
                </a:lnTo>
                <a:lnTo>
                  <a:pt x="2594" y="0"/>
                </a:lnTo>
                <a:lnTo>
                  <a:pt x="2631" y="0"/>
                </a:lnTo>
                <a:lnTo>
                  <a:pt x="2660" y="0"/>
                </a:lnTo>
                <a:lnTo>
                  <a:pt x="2689" y="0"/>
                </a:lnTo>
                <a:lnTo>
                  <a:pt x="2726" y="0"/>
                </a:lnTo>
                <a:lnTo>
                  <a:pt x="2755" y="0"/>
                </a:lnTo>
                <a:lnTo>
                  <a:pt x="2785" y="0"/>
                </a:lnTo>
                <a:lnTo>
                  <a:pt x="2821" y="0"/>
                </a:lnTo>
                <a:lnTo>
                  <a:pt x="2850" y="0"/>
                </a:lnTo>
                <a:lnTo>
                  <a:pt x="2887" y="0"/>
                </a:lnTo>
                <a:lnTo>
                  <a:pt x="2916" y="0"/>
                </a:lnTo>
                <a:lnTo>
                  <a:pt x="2945" y="0"/>
                </a:lnTo>
                <a:lnTo>
                  <a:pt x="2982" y="0"/>
                </a:lnTo>
                <a:lnTo>
                  <a:pt x="3011" y="0"/>
                </a:lnTo>
                <a:lnTo>
                  <a:pt x="3048" y="0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000" y="22860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97360" y="1101600"/>
            <a:ext cx="49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dance of a capacitor,  Z =1/(-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1400" y="36576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9960" y="3657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97680" y="2362320"/>
            <a:ext cx="199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/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5240" y="22860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60800" y="914400"/>
            <a:ext cx="72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-echo measurement setup for determining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94160" y="5573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403880" y="5791320"/>
            <a:ext cx="3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876920" y="5638680"/>
          <a:ext cx="282600" cy="2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638680"/>
                    <a:ext cx="2826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"/>
          <p:cNvGrpSpPr/>
          <p:nvPr/>
        </p:nvGrpSpPr>
        <p:grpSpPr>
          <a:xfrm>
            <a:off x="3603600" y="3885480"/>
            <a:ext cx="2196720" cy="345600"/>
            <a:chOff x="3603600" y="3885480"/>
            <a:chExt cx="2196720" cy="345600"/>
          </a:xfrm>
        </p:grpSpPr>
        <p:grpSp>
          <p:nvGrpSpPr>
            <p:cNvPr id="325" name=""/>
            <p:cNvGrpSpPr/>
            <p:nvPr/>
          </p:nvGrpSpPr>
          <p:grpSpPr>
            <a:xfrm>
              <a:off x="3603600" y="3885480"/>
              <a:ext cx="866520" cy="314280"/>
              <a:chOff x="3603600" y="3885480"/>
              <a:chExt cx="866520" cy="314280"/>
            </a:xfrm>
          </p:grpSpPr>
          <p:sp>
            <p:nvSpPr>
              <p:cNvPr id="326" name=""/>
              <p:cNvSpPr/>
              <p:nvPr/>
            </p:nvSpPr>
            <p:spPr>
              <a:xfrm flipV="1">
                <a:off x="3603600" y="38851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032360" y="38952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503600" y="3907800"/>
              <a:ext cx="866520" cy="314280"/>
              <a:chOff x="4503600" y="3907800"/>
              <a:chExt cx="866520" cy="31428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4503600" y="39074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932360" y="39175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4060800" y="3898800"/>
              <a:ext cx="866520" cy="313200"/>
              <a:chOff x="4060800" y="3898800"/>
              <a:chExt cx="866520" cy="31320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4060800" y="38984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4489560" y="390816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4933800" y="3917880"/>
              <a:ext cx="866520" cy="313200"/>
              <a:chOff x="4933800" y="3917880"/>
              <a:chExt cx="866520" cy="313200"/>
            </a:xfrm>
          </p:grpSpPr>
          <p:sp>
            <p:nvSpPr>
              <p:cNvPr id="335" name=""/>
              <p:cNvSpPr/>
              <p:nvPr/>
            </p:nvSpPr>
            <p:spPr>
              <a:xfrm flipV="1">
                <a:off x="4933800" y="39175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362560" y="39272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5867280" y="4343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67280" y="4343400"/>
            <a:ext cx="685800" cy="1676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876920" y="4572000"/>
          <a:ext cx="60156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572000"/>
                    <a:ext cx="6015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5869080" y="525780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2895480"/>
            <a:ext cx="121932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73520" y="3441600"/>
            <a:ext cx="129960" cy="128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49480" y="35812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941200" y="5105520"/>
            <a:ext cx="206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129120" y="4739400"/>
            <a:ext cx="1416960" cy="680760"/>
            <a:chOff x="3129120" y="4739400"/>
            <a:chExt cx="1416960" cy="680760"/>
          </a:xfrm>
        </p:grpSpPr>
        <p:grpSp>
          <p:nvGrpSpPr>
            <p:cNvPr id="347" name=""/>
            <p:cNvGrpSpPr/>
            <p:nvPr/>
          </p:nvGrpSpPr>
          <p:grpSpPr>
            <a:xfrm>
              <a:off x="3129120" y="4739400"/>
              <a:ext cx="1416960" cy="680760"/>
              <a:chOff x="3129120" y="4739400"/>
              <a:chExt cx="1416960" cy="680760"/>
            </a:xfrm>
          </p:grpSpPr>
          <p:sp>
            <p:nvSpPr>
              <p:cNvPr id="348" name=""/>
              <p:cNvSpPr/>
              <p:nvPr/>
            </p:nvSpPr>
            <p:spPr>
              <a:xfrm flipH="1" flipV="1" rot="10800000">
                <a:off x="3456000" y="4739040"/>
                <a:ext cx="1090080" cy="6807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0800000">
                <a:off x="3346560" y="4982400"/>
                <a:ext cx="10692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rot="10800000">
                <a:off x="3238200" y="5031000"/>
                <a:ext cx="106560" cy="1458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rot="10800000">
                <a:off x="3129120" y="4982400"/>
                <a:ext cx="10656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rot="10800000">
              <a:off x="4435200" y="4848120"/>
              <a:ext cx="11088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676520" y="762120"/>
            <a:ext cx="556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5240" y="22860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41880" y="5345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250880" y="5562720"/>
            <a:ext cx="3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724280" y="5410080"/>
          <a:ext cx="282600" cy="2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5410080"/>
                    <a:ext cx="2826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"/>
          <p:cNvGrpSpPr/>
          <p:nvPr/>
        </p:nvGrpSpPr>
        <p:grpSpPr>
          <a:xfrm>
            <a:off x="3451320" y="3656880"/>
            <a:ext cx="2196720" cy="345600"/>
            <a:chOff x="3451320" y="3656880"/>
            <a:chExt cx="2196720" cy="345600"/>
          </a:xfrm>
        </p:grpSpPr>
        <p:grpSp>
          <p:nvGrpSpPr>
            <p:cNvPr id="361" name=""/>
            <p:cNvGrpSpPr/>
            <p:nvPr/>
          </p:nvGrpSpPr>
          <p:grpSpPr>
            <a:xfrm>
              <a:off x="3451320" y="3656880"/>
              <a:ext cx="866520" cy="314280"/>
              <a:chOff x="3451320" y="3656880"/>
              <a:chExt cx="866520" cy="31428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3451320" y="36565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3880080" y="36666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4351320" y="3679200"/>
              <a:ext cx="866520" cy="314280"/>
              <a:chOff x="4351320" y="3679200"/>
              <a:chExt cx="866520" cy="314280"/>
            </a:xfrm>
          </p:grpSpPr>
          <p:sp>
            <p:nvSpPr>
              <p:cNvPr id="365" name=""/>
              <p:cNvSpPr/>
              <p:nvPr/>
            </p:nvSpPr>
            <p:spPr>
              <a:xfrm flipV="1">
                <a:off x="4351320" y="36788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4780080" y="36889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908520" y="3670200"/>
              <a:ext cx="866520" cy="313200"/>
              <a:chOff x="3908520" y="3670200"/>
              <a:chExt cx="866520" cy="313200"/>
            </a:xfrm>
          </p:grpSpPr>
          <p:sp>
            <p:nvSpPr>
              <p:cNvPr id="368" name=""/>
              <p:cNvSpPr/>
              <p:nvPr/>
            </p:nvSpPr>
            <p:spPr>
              <a:xfrm flipV="1">
                <a:off x="3908520" y="36698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4337280" y="367956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4781520" y="3689280"/>
              <a:ext cx="866520" cy="313200"/>
              <a:chOff x="4781520" y="3689280"/>
              <a:chExt cx="866520" cy="313200"/>
            </a:xfrm>
          </p:grpSpPr>
          <p:sp>
            <p:nvSpPr>
              <p:cNvPr id="371" name=""/>
              <p:cNvSpPr/>
              <p:nvPr/>
            </p:nvSpPr>
            <p:spPr>
              <a:xfrm flipV="1">
                <a:off x="4781520" y="36889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5210280" y="36986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434988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15000" y="41148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4114800"/>
            <a:ext cx="685800" cy="1676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724280" y="4343400"/>
          <a:ext cx="6019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343400"/>
                    <a:ext cx="6019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5716800" y="502920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666880"/>
            <a:ext cx="121932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20880" y="3213000"/>
            <a:ext cx="130320" cy="128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97200" y="3352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788920" y="4867200"/>
            <a:ext cx="206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90920" y="358128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7180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47560" y="3567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78040" y="4878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300480" y="3352680"/>
          <a:ext cx="944640" cy="3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00480" y="3352680"/>
                    <a:ext cx="94464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523880" y="838080"/>
            <a:ext cx="706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easure voltage and current when transducer is radiating into the fluid but before any reflected waves have arr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971800" y="4496400"/>
            <a:ext cx="1279440" cy="680760"/>
            <a:chOff x="2971800" y="4496400"/>
            <a:chExt cx="1279440" cy="680760"/>
          </a:xfrm>
        </p:grpSpPr>
        <p:grpSp>
          <p:nvGrpSpPr>
            <p:cNvPr id="391" name=""/>
            <p:cNvGrpSpPr/>
            <p:nvPr/>
          </p:nvGrpSpPr>
          <p:grpSpPr>
            <a:xfrm>
              <a:off x="2971800" y="4496400"/>
              <a:ext cx="1278720" cy="680760"/>
              <a:chOff x="2971800" y="4496400"/>
              <a:chExt cx="1278720" cy="680760"/>
            </a:xfrm>
          </p:grpSpPr>
          <p:sp>
            <p:nvSpPr>
              <p:cNvPr id="392" name=""/>
              <p:cNvSpPr/>
              <p:nvPr/>
            </p:nvSpPr>
            <p:spPr>
              <a:xfrm flipH="1" flipV="1" rot="10800000">
                <a:off x="3266280" y="4496040"/>
                <a:ext cx="983880" cy="6807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10800000">
                <a:off x="3168360" y="4739400"/>
                <a:ext cx="9648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 rot="10800000">
                <a:off x="3069720" y="4788000"/>
                <a:ext cx="96120" cy="1458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rot="10800000">
                <a:off x="2971440" y="4739400"/>
                <a:ext cx="9612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 rot="10800000">
              <a:off x="4151160" y="4605120"/>
              <a:ext cx="10008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20:42:44Z</dcterms:created>
  <dc:creator>Lester Schmerr</dc:creator>
  <dc:description/>
  <dc:language>en-US</dc:language>
  <cp:lastModifiedBy>Lester Schmerr</cp:lastModifiedBy>
  <cp:lastPrinted>2000-09-20T14:45:09Z</cp:lastPrinted>
  <dcterms:modified xsi:type="dcterms:W3CDTF">2007-01-03T20:37:32Z</dcterms:modified>
  <cp:revision>19</cp:revision>
  <dc:subject/>
  <dc:title>No Slide Title</dc:title>
</cp:coreProperties>
</file>