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D77-EFD7-4B90-AE63-524A1B02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D83-4183-4823-9CB5-FB297D28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7FED-E94E-431E-9B1E-94FA2008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9F7-73E1-4A2A-90B8-21F7E06F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5D6-35BF-4747-903A-EACC09D0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E8D-C2A4-402B-9FCD-FA61872C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92D-5211-4C6B-8984-6613F0C1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1C1-810B-4927-A05A-4C79F610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EE9-DCA1-48EA-A946-D8765110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6A2A-F4AE-4E3D-A8E0-F7A9FDB0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743-7CEC-4B62-BB40-B5753173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093-640D-4F18-8F3F-B2FA7094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7905-38FB-4FDC-9BF5-70335BB44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152388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99720" y="3505320"/>
            <a:ext cx="53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sonic System Measurement Model -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90720" y="76212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81120" y="1689120"/>
            <a:ext cx="19051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680080" y="2797200"/>
            <a:ext cx="1447920" cy="761760"/>
            <a:chOff x="5680080" y="2797200"/>
            <a:chExt cx="1447920" cy="761760"/>
          </a:xfrm>
        </p:grpSpPr>
        <p:sp>
          <p:nvSpPr>
            <p:cNvPr id="348" name=""/>
            <p:cNvSpPr/>
            <p:nvPr/>
          </p:nvSpPr>
          <p:spPr>
            <a:xfrm>
              <a:off x="5680080" y="2797200"/>
              <a:ext cx="121932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99400" y="302580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80080" y="2797200"/>
              <a:ext cx="15228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43240" y="2451240"/>
            <a:ext cx="384120" cy="333360"/>
          </a:xfrm>
          <a:custGeom>
            <a:avLst/>
            <a:gdLst/>
            <a:ahLst/>
            <a:rect l="l" t="t" r="r" b="b"/>
            <a:pathLst>
              <a:path w="242" h="210">
                <a:moveTo>
                  <a:pt x="203" y="55"/>
                </a:moveTo>
                <a:cubicBezTo>
                  <a:pt x="193" y="24"/>
                  <a:pt x="187" y="11"/>
                  <a:pt x="156" y="0"/>
                </a:cubicBezTo>
                <a:cubicBezTo>
                  <a:pt x="99" y="15"/>
                  <a:pt x="128" y="21"/>
                  <a:pt x="101" y="55"/>
                </a:cubicBezTo>
                <a:cubicBezTo>
                  <a:pt x="87" y="73"/>
                  <a:pt x="59" y="74"/>
                  <a:pt x="39" y="78"/>
                </a:cubicBezTo>
                <a:cubicBezTo>
                  <a:pt x="31" y="86"/>
                  <a:pt x="21" y="92"/>
                  <a:pt x="16" y="101"/>
                </a:cubicBezTo>
                <a:cubicBezTo>
                  <a:pt x="8" y="115"/>
                  <a:pt x="0" y="148"/>
                  <a:pt x="0" y="148"/>
                </a:cubicBezTo>
                <a:cubicBezTo>
                  <a:pt x="3" y="158"/>
                  <a:pt x="0" y="172"/>
                  <a:pt x="8" y="179"/>
                </a:cubicBezTo>
                <a:cubicBezTo>
                  <a:pt x="24" y="193"/>
                  <a:pt x="76" y="202"/>
                  <a:pt x="101" y="210"/>
                </a:cubicBezTo>
                <a:cubicBezTo>
                  <a:pt x="114" y="208"/>
                  <a:pt x="129" y="210"/>
                  <a:pt x="140" y="203"/>
                </a:cubicBezTo>
                <a:cubicBezTo>
                  <a:pt x="147" y="198"/>
                  <a:pt x="140" y="183"/>
                  <a:pt x="148" y="179"/>
                </a:cubicBezTo>
                <a:cubicBezTo>
                  <a:pt x="165" y="171"/>
                  <a:pt x="185" y="174"/>
                  <a:pt x="203" y="172"/>
                </a:cubicBezTo>
                <a:cubicBezTo>
                  <a:pt x="211" y="167"/>
                  <a:pt x="221" y="164"/>
                  <a:pt x="226" y="156"/>
                </a:cubicBezTo>
                <a:cubicBezTo>
                  <a:pt x="235" y="142"/>
                  <a:pt x="242" y="109"/>
                  <a:pt x="242" y="109"/>
                </a:cubicBezTo>
                <a:cubicBezTo>
                  <a:pt x="231" y="77"/>
                  <a:pt x="216" y="83"/>
                  <a:pt x="203" y="5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029040" y="1689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29040" y="3289320"/>
            <a:ext cx="31428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1276200" y="2603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1733040" y="168876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733040" y="321300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18640" y="1231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31760" y="1425600"/>
            <a:ext cx="473040" cy="41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39760" y="2070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508560" y="1002600"/>
            <a:ext cx="2177640" cy="324000"/>
            <a:chOff x="3508560" y="1002600"/>
            <a:chExt cx="2177640" cy="324000"/>
          </a:xfrm>
        </p:grpSpPr>
        <p:grpSp>
          <p:nvGrpSpPr>
            <p:cNvPr id="361" name=""/>
            <p:cNvGrpSpPr/>
            <p:nvPr/>
          </p:nvGrpSpPr>
          <p:grpSpPr>
            <a:xfrm>
              <a:off x="3508560" y="1002600"/>
              <a:ext cx="866520" cy="314280"/>
              <a:chOff x="3508560" y="1002600"/>
              <a:chExt cx="866520" cy="314280"/>
            </a:xfrm>
          </p:grpSpPr>
          <p:sp>
            <p:nvSpPr>
              <p:cNvPr id="362" name=""/>
              <p:cNvSpPr/>
              <p:nvPr/>
            </p:nvSpPr>
            <p:spPr>
              <a:xfrm flipV="1">
                <a:off x="3508560" y="10022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3937320" y="10123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4395960" y="1012320"/>
              <a:ext cx="866520" cy="314280"/>
              <a:chOff x="4395960" y="1012320"/>
              <a:chExt cx="866520" cy="314280"/>
            </a:xfrm>
          </p:grpSpPr>
          <p:sp>
            <p:nvSpPr>
              <p:cNvPr id="365" name=""/>
              <p:cNvSpPr/>
              <p:nvPr/>
            </p:nvSpPr>
            <p:spPr>
              <a:xfrm flipV="1">
                <a:off x="4395960" y="101196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>
                <a:off x="4824720" y="102204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965760" y="1002600"/>
              <a:ext cx="866520" cy="314280"/>
              <a:chOff x="3965760" y="1002600"/>
              <a:chExt cx="866520" cy="314280"/>
            </a:xfrm>
          </p:grpSpPr>
          <p:sp>
            <p:nvSpPr>
              <p:cNvPr id="368" name=""/>
              <p:cNvSpPr/>
              <p:nvPr/>
            </p:nvSpPr>
            <p:spPr>
              <a:xfrm flipV="1">
                <a:off x="3965760" y="10022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4394520" y="10123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4819680" y="1009080"/>
              <a:ext cx="866520" cy="314280"/>
              <a:chOff x="4819680" y="1009080"/>
              <a:chExt cx="866520" cy="314280"/>
            </a:xfrm>
          </p:grpSpPr>
          <p:sp>
            <p:nvSpPr>
              <p:cNvPr id="371" name=""/>
              <p:cNvSpPr/>
              <p:nvPr/>
            </p:nvSpPr>
            <p:spPr>
              <a:xfrm flipV="1">
                <a:off x="4819680" y="10087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5248440" y="10188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"/>
          <p:cNvSpPr/>
          <p:nvPr/>
        </p:nvSpPr>
        <p:spPr>
          <a:xfrm>
            <a:off x="3887640" y="3191040"/>
            <a:ext cx="57816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90880" y="32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55800" y="165420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2617920" y="3201840"/>
            <a:ext cx="308448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77960" y="2611440"/>
            <a:ext cx="3102120" cy="56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94360" y="267984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0240" y="4114800"/>
            <a:ext cx="387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araxial approxi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n rece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688000" y="1905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676840" y="3672000"/>
            <a:ext cx="0" cy="490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429000" y="4648320"/>
          <a:ext cx="281952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648320"/>
                    <a:ext cx="28195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2666880" y="5410080"/>
          <a:ext cx="4683240" cy="9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5410080"/>
                    <a:ext cx="468324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 flipH="1" flipV="1">
            <a:off x="2590920" y="2133720"/>
            <a:ext cx="1440" cy="1209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90920" y="2209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46680" y="1641600"/>
            <a:ext cx="39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05360" y="2286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Model – Singl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4240" y="55627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7640" y="2057400"/>
            <a:ext cx="14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24760" y="312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990720" y="76212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5467320" y="2286000"/>
            <a:ext cx="1447920" cy="761760"/>
            <a:chOff x="5467320" y="2286000"/>
            <a:chExt cx="1447920" cy="761760"/>
          </a:xfrm>
        </p:grpSpPr>
        <p:sp>
          <p:nvSpPr>
            <p:cNvPr id="395" name=""/>
            <p:cNvSpPr/>
            <p:nvPr/>
          </p:nvSpPr>
          <p:spPr>
            <a:xfrm>
              <a:off x="5467320" y="2286000"/>
              <a:ext cx="121932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86640" y="251460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67320" y="2286000"/>
              <a:ext cx="15228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7086240" y="1295280"/>
            <a:ext cx="14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666880" y="3657600"/>
          <a:ext cx="468468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657600"/>
                    <a:ext cx="468468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2205360" y="2286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Model – Singl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8644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05040" y="259092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6480" y="38862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ed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27240" y="1897200"/>
            <a:ext cx="384120" cy="333360"/>
          </a:xfrm>
          <a:custGeom>
            <a:avLst/>
            <a:gdLst/>
            <a:ahLst/>
            <a:rect l="l" t="t" r="r" b="b"/>
            <a:pathLst>
              <a:path w="242" h="210">
                <a:moveTo>
                  <a:pt x="203" y="55"/>
                </a:moveTo>
                <a:cubicBezTo>
                  <a:pt x="193" y="24"/>
                  <a:pt x="187" y="11"/>
                  <a:pt x="156" y="0"/>
                </a:cubicBezTo>
                <a:cubicBezTo>
                  <a:pt x="99" y="15"/>
                  <a:pt x="128" y="21"/>
                  <a:pt x="101" y="55"/>
                </a:cubicBezTo>
                <a:cubicBezTo>
                  <a:pt x="87" y="73"/>
                  <a:pt x="59" y="74"/>
                  <a:pt x="39" y="78"/>
                </a:cubicBezTo>
                <a:cubicBezTo>
                  <a:pt x="31" y="86"/>
                  <a:pt x="21" y="92"/>
                  <a:pt x="16" y="101"/>
                </a:cubicBezTo>
                <a:cubicBezTo>
                  <a:pt x="8" y="115"/>
                  <a:pt x="0" y="148"/>
                  <a:pt x="0" y="148"/>
                </a:cubicBezTo>
                <a:cubicBezTo>
                  <a:pt x="3" y="158"/>
                  <a:pt x="0" y="172"/>
                  <a:pt x="8" y="179"/>
                </a:cubicBezTo>
                <a:cubicBezTo>
                  <a:pt x="24" y="193"/>
                  <a:pt x="76" y="202"/>
                  <a:pt x="101" y="210"/>
                </a:cubicBezTo>
                <a:cubicBezTo>
                  <a:pt x="114" y="208"/>
                  <a:pt x="129" y="210"/>
                  <a:pt x="140" y="203"/>
                </a:cubicBezTo>
                <a:cubicBezTo>
                  <a:pt x="147" y="198"/>
                  <a:pt x="140" y="183"/>
                  <a:pt x="148" y="179"/>
                </a:cubicBezTo>
                <a:cubicBezTo>
                  <a:pt x="165" y="171"/>
                  <a:pt x="185" y="174"/>
                  <a:pt x="203" y="172"/>
                </a:cubicBezTo>
                <a:cubicBezTo>
                  <a:pt x="211" y="167"/>
                  <a:pt x="221" y="164"/>
                  <a:pt x="226" y="156"/>
                </a:cubicBezTo>
                <a:cubicBezTo>
                  <a:pt x="235" y="142"/>
                  <a:pt x="242" y="109"/>
                  <a:pt x="242" y="109"/>
                </a:cubicBezTo>
                <a:cubicBezTo>
                  <a:pt x="231" y="77"/>
                  <a:pt x="216" y="83"/>
                  <a:pt x="203" y="5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62320" y="2057400"/>
            <a:ext cx="3101760" cy="56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29000" y="182880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9960" y="4613400"/>
            <a:ext cx="786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ceiving transducer were acting as a transmitter it wou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a pressure field given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34920" y="5562720"/>
          <a:ext cx="6710400" cy="92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4920" y="5562720"/>
                    <a:ext cx="671040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 flipH="1" flipV="1">
            <a:off x="2362320" y="2666880"/>
            <a:ext cx="3008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05320" y="266688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36232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308320" y="1142280"/>
            <a:ext cx="2177640" cy="324000"/>
            <a:chOff x="2308320" y="1142280"/>
            <a:chExt cx="2177640" cy="324000"/>
          </a:xfrm>
        </p:grpSpPr>
        <p:grpSp>
          <p:nvGrpSpPr>
            <p:cNvPr id="415" name=""/>
            <p:cNvGrpSpPr/>
            <p:nvPr/>
          </p:nvGrpSpPr>
          <p:grpSpPr>
            <a:xfrm>
              <a:off x="2308320" y="1142280"/>
              <a:ext cx="866520" cy="314280"/>
              <a:chOff x="2308320" y="1142280"/>
              <a:chExt cx="866520" cy="314280"/>
            </a:xfrm>
          </p:grpSpPr>
          <p:sp>
            <p:nvSpPr>
              <p:cNvPr id="416" name=""/>
              <p:cNvSpPr/>
              <p:nvPr/>
            </p:nvSpPr>
            <p:spPr>
              <a:xfrm flipV="1">
                <a:off x="2308320" y="11419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 flipV="1">
                <a:off x="2737080" y="11520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195720" y="1152000"/>
              <a:ext cx="866520" cy="314280"/>
              <a:chOff x="3195720" y="1152000"/>
              <a:chExt cx="866520" cy="314280"/>
            </a:xfrm>
          </p:grpSpPr>
          <p:sp>
            <p:nvSpPr>
              <p:cNvPr id="419" name=""/>
              <p:cNvSpPr/>
              <p:nvPr/>
            </p:nvSpPr>
            <p:spPr>
              <a:xfrm flipV="1">
                <a:off x="3195720" y="11516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3624480" y="11617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2765520" y="1142280"/>
              <a:ext cx="866520" cy="314280"/>
              <a:chOff x="2765520" y="1142280"/>
              <a:chExt cx="866520" cy="314280"/>
            </a:xfrm>
          </p:grpSpPr>
          <p:sp>
            <p:nvSpPr>
              <p:cNvPr id="422" name=""/>
              <p:cNvSpPr/>
              <p:nvPr/>
            </p:nvSpPr>
            <p:spPr>
              <a:xfrm flipV="1">
                <a:off x="2765520" y="11419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3194280" y="11520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3619440" y="1148760"/>
              <a:ext cx="866520" cy="314280"/>
              <a:chOff x="3619440" y="1148760"/>
              <a:chExt cx="866520" cy="314280"/>
            </a:xfrm>
          </p:grpSpPr>
          <p:sp>
            <p:nvSpPr>
              <p:cNvPr id="425" name=""/>
              <p:cNvSpPr/>
              <p:nvPr/>
            </p:nvSpPr>
            <p:spPr>
              <a:xfrm flipV="1">
                <a:off x="3619440" y="114840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flipV="1">
                <a:off x="4048200" y="115848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27" name=""/>
          <p:cNvGraphicFramePr/>
          <p:nvPr/>
        </p:nvGraphicFramePr>
        <p:xfrm>
          <a:off x="2057400" y="1600200"/>
          <a:ext cx="28584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1600200"/>
                    <a:ext cx="2858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2332080" y="2004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23160" y="263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2057400" y="4724280"/>
          <a:ext cx="5535720" cy="18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724280"/>
                    <a:ext cx="553572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990720" y="76212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772240" y="2438280"/>
            <a:ext cx="1447200" cy="761760"/>
            <a:chOff x="5772240" y="2438280"/>
            <a:chExt cx="1447200" cy="761760"/>
          </a:xfrm>
        </p:grpSpPr>
        <p:sp>
          <p:nvSpPr>
            <p:cNvPr id="435" name=""/>
            <p:cNvSpPr/>
            <p:nvPr/>
          </p:nvSpPr>
          <p:spPr>
            <a:xfrm>
              <a:off x="5772240" y="2438280"/>
              <a:ext cx="121896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91200" y="2666880"/>
              <a:ext cx="228240" cy="228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72240" y="2438280"/>
              <a:ext cx="15192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6705360" y="1523880"/>
            <a:ext cx="14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05360" y="2286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Model – Singl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91000" y="2819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09960" y="274320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32160" y="2049480"/>
            <a:ext cx="384120" cy="333360"/>
          </a:xfrm>
          <a:custGeom>
            <a:avLst/>
            <a:gdLst/>
            <a:ahLst/>
            <a:rect l="l" t="t" r="r" b="b"/>
            <a:pathLst>
              <a:path w="242" h="210">
                <a:moveTo>
                  <a:pt x="203" y="55"/>
                </a:moveTo>
                <a:cubicBezTo>
                  <a:pt x="193" y="24"/>
                  <a:pt x="187" y="11"/>
                  <a:pt x="156" y="0"/>
                </a:cubicBezTo>
                <a:cubicBezTo>
                  <a:pt x="99" y="15"/>
                  <a:pt x="128" y="21"/>
                  <a:pt x="101" y="55"/>
                </a:cubicBezTo>
                <a:cubicBezTo>
                  <a:pt x="87" y="73"/>
                  <a:pt x="59" y="74"/>
                  <a:pt x="39" y="78"/>
                </a:cubicBezTo>
                <a:cubicBezTo>
                  <a:pt x="31" y="86"/>
                  <a:pt x="21" y="92"/>
                  <a:pt x="16" y="101"/>
                </a:cubicBezTo>
                <a:cubicBezTo>
                  <a:pt x="8" y="115"/>
                  <a:pt x="0" y="148"/>
                  <a:pt x="0" y="148"/>
                </a:cubicBezTo>
                <a:cubicBezTo>
                  <a:pt x="3" y="158"/>
                  <a:pt x="0" y="172"/>
                  <a:pt x="8" y="179"/>
                </a:cubicBezTo>
                <a:cubicBezTo>
                  <a:pt x="24" y="193"/>
                  <a:pt x="76" y="202"/>
                  <a:pt x="101" y="210"/>
                </a:cubicBezTo>
                <a:cubicBezTo>
                  <a:pt x="114" y="208"/>
                  <a:pt x="129" y="210"/>
                  <a:pt x="140" y="203"/>
                </a:cubicBezTo>
                <a:cubicBezTo>
                  <a:pt x="147" y="198"/>
                  <a:pt x="140" y="183"/>
                  <a:pt x="148" y="179"/>
                </a:cubicBezTo>
                <a:cubicBezTo>
                  <a:pt x="165" y="171"/>
                  <a:pt x="185" y="174"/>
                  <a:pt x="203" y="172"/>
                </a:cubicBezTo>
                <a:cubicBezTo>
                  <a:pt x="211" y="167"/>
                  <a:pt x="221" y="164"/>
                  <a:pt x="226" y="156"/>
                </a:cubicBezTo>
                <a:cubicBezTo>
                  <a:pt x="235" y="142"/>
                  <a:pt x="242" y="109"/>
                  <a:pt x="242" y="109"/>
                </a:cubicBezTo>
                <a:cubicBezTo>
                  <a:pt x="231" y="77"/>
                  <a:pt x="216" y="83"/>
                  <a:pt x="203" y="5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666880" y="2209680"/>
            <a:ext cx="3102120" cy="5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733920" y="198108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flipV="1">
            <a:off x="2666520" y="2819160"/>
            <a:ext cx="300852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09880" y="281952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1400" y="38512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2133720" y="3733920"/>
          <a:ext cx="4114800" cy="85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733920"/>
                    <a:ext cx="41148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595080" y="4842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9960" y="57564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841840" y="1142280"/>
            <a:ext cx="2177640" cy="324000"/>
            <a:chOff x="2841840" y="1142280"/>
            <a:chExt cx="2177640" cy="324000"/>
          </a:xfrm>
        </p:grpSpPr>
        <p:grpSp>
          <p:nvGrpSpPr>
            <p:cNvPr id="454" name=""/>
            <p:cNvGrpSpPr/>
            <p:nvPr/>
          </p:nvGrpSpPr>
          <p:grpSpPr>
            <a:xfrm>
              <a:off x="2841840" y="1142280"/>
              <a:ext cx="866520" cy="314280"/>
              <a:chOff x="2841840" y="1142280"/>
              <a:chExt cx="866520" cy="31428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841840" y="11419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3270600" y="11520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3729240" y="1152000"/>
              <a:ext cx="866520" cy="314280"/>
              <a:chOff x="3729240" y="1152000"/>
              <a:chExt cx="866520" cy="314280"/>
            </a:xfrm>
          </p:grpSpPr>
          <p:sp>
            <p:nvSpPr>
              <p:cNvPr id="458" name=""/>
              <p:cNvSpPr/>
              <p:nvPr/>
            </p:nvSpPr>
            <p:spPr>
              <a:xfrm flipV="1">
                <a:off x="3729240" y="11516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flipV="1">
                <a:off x="4158000" y="11617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299040" y="1142280"/>
              <a:ext cx="866520" cy="314280"/>
              <a:chOff x="3299040" y="1142280"/>
              <a:chExt cx="866520" cy="314280"/>
            </a:xfrm>
          </p:grpSpPr>
          <p:sp>
            <p:nvSpPr>
              <p:cNvPr id="461" name=""/>
              <p:cNvSpPr/>
              <p:nvPr/>
            </p:nvSpPr>
            <p:spPr>
              <a:xfrm flipV="1">
                <a:off x="3299040" y="11419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>
                <a:off x="3727800" y="11520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4152960" y="1148760"/>
              <a:ext cx="866520" cy="314280"/>
              <a:chOff x="4152960" y="1148760"/>
              <a:chExt cx="866520" cy="314280"/>
            </a:xfrm>
          </p:grpSpPr>
          <p:sp>
            <p:nvSpPr>
              <p:cNvPr id="464" name=""/>
              <p:cNvSpPr/>
              <p:nvPr/>
            </p:nvSpPr>
            <p:spPr>
              <a:xfrm flipV="1">
                <a:off x="4152960" y="114840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4581720" y="115848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66" name=""/>
          <p:cNvGraphicFramePr/>
          <p:nvPr/>
        </p:nvGraphicFramePr>
        <p:xfrm>
          <a:off x="2514600" y="1676520"/>
          <a:ext cx="28584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1676520"/>
                    <a:ext cx="2858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2612880" y="21798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2782800"/>
            <a:ext cx="52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90720" y="76212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772240" y="2438280"/>
            <a:ext cx="1447200" cy="761760"/>
            <a:chOff x="5772240" y="2438280"/>
            <a:chExt cx="1447200" cy="761760"/>
          </a:xfrm>
        </p:grpSpPr>
        <p:sp>
          <p:nvSpPr>
            <p:cNvPr id="472" name=""/>
            <p:cNvSpPr/>
            <p:nvPr/>
          </p:nvSpPr>
          <p:spPr>
            <a:xfrm>
              <a:off x="5772240" y="2438280"/>
              <a:ext cx="121896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991200" y="2666880"/>
              <a:ext cx="228240" cy="228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72240" y="2438280"/>
              <a:ext cx="15192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6705360" y="1523880"/>
            <a:ext cx="14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05360" y="2286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Model – Singl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91000" y="2819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09960" y="274320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32160" y="2049480"/>
            <a:ext cx="384120" cy="333360"/>
          </a:xfrm>
          <a:custGeom>
            <a:avLst/>
            <a:gdLst/>
            <a:ahLst/>
            <a:rect l="l" t="t" r="r" b="b"/>
            <a:pathLst>
              <a:path w="242" h="210">
                <a:moveTo>
                  <a:pt x="203" y="55"/>
                </a:moveTo>
                <a:cubicBezTo>
                  <a:pt x="193" y="24"/>
                  <a:pt x="187" y="11"/>
                  <a:pt x="156" y="0"/>
                </a:cubicBezTo>
                <a:cubicBezTo>
                  <a:pt x="99" y="15"/>
                  <a:pt x="128" y="21"/>
                  <a:pt x="101" y="55"/>
                </a:cubicBezTo>
                <a:cubicBezTo>
                  <a:pt x="87" y="73"/>
                  <a:pt x="59" y="74"/>
                  <a:pt x="39" y="78"/>
                </a:cubicBezTo>
                <a:cubicBezTo>
                  <a:pt x="31" y="86"/>
                  <a:pt x="21" y="92"/>
                  <a:pt x="16" y="101"/>
                </a:cubicBezTo>
                <a:cubicBezTo>
                  <a:pt x="8" y="115"/>
                  <a:pt x="0" y="148"/>
                  <a:pt x="0" y="148"/>
                </a:cubicBezTo>
                <a:cubicBezTo>
                  <a:pt x="3" y="158"/>
                  <a:pt x="0" y="172"/>
                  <a:pt x="8" y="179"/>
                </a:cubicBezTo>
                <a:cubicBezTo>
                  <a:pt x="24" y="193"/>
                  <a:pt x="76" y="202"/>
                  <a:pt x="101" y="210"/>
                </a:cubicBezTo>
                <a:cubicBezTo>
                  <a:pt x="114" y="208"/>
                  <a:pt x="129" y="210"/>
                  <a:pt x="140" y="203"/>
                </a:cubicBezTo>
                <a:cubicBezTo>
                  <a:pt x="147" y="198"/>
                  <a:pt x="140" y="183"/>
                  <a:pt x="148" y="179"/>
                </a:cubicBezTo>
                <a:cubicBezTo>
                  <a:pt x="165" y="171"/>
                  <a:pt x="185" y="174"/>
                  <a:pt x="203" y="172"/>
                </a:cubicBezTo>
                <a:cubicBezTo>
                  <a:pt x="211" y="167"/>
                  <a:pt x="221" y="164"/>
                  <a:pt x="226" y="156"/>
                </a:cubicBezTo>
                <a:cubicBezTo>
                  <a:pt x="235" y="142"/>
                  <a:pt x="242" y="109"/>
                  <a:pt x="242" y="109"/>
                </a:cubicBezTo>
                <a:cubicBezTo>
                  <a:pt x="231" y="77"/>
                  <a:pt x="216" y="83"/>
                  <a:pt x="203" y="5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66880" y="2209680"/>
            <a:ext cx="3102120" cy="5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33920" y="198108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2666520" y="2819160"/>
            <a:ext cx="300852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09880" y="281952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668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2209680" y="3505320"/>
          <a:ext cx="4273560" cy="85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505320"/>
                    <a:ext cx="427356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7" name=""/>
          <p:cNvGrpSpPr/>
          <p:nvPr/>
        </p:nvGrpSpPr>
        <p:grpSpPr>
          <a:xfrm>
            <a:off x="2841840" y="1142280"/>
            <a:ext cx="2177640" cy="324000"/>
            <a:chOff x="2841840" y="1142280"/>
            <a:chExt cx="2177640" cy="324000"/>
          </a:xfrm>
        </p:grpSpPr>
        <p:grpSp>
          <p:nvGrpSpPr>
            <p:cNvPr id="488" name=""/>
            <p:cNvGrpSpPr/>
            <p:nvPr/>
          </p:nvGrpSpPr>
          <p:grpSpPr>
            <a:xfrm>
              <a:off x="2841840" y="1142280"/>
              <a:ext cx="866520" cy="314280"/>
              <a:chOff x="2841840" y="1142280"/>
              <a:chExt cx="866520" cy="31428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2841840" y="11419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3270600" y="11520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3729240" y="1152000"/>
              <a:ext cx="866520" cy="314280"/>
              <a:chOff x="3729240" y="1152000"/>
              <a:chExt cx="866520" cy="314280"/>
            </a:xfrm>
          </p:grpSpPr>
          <p:sp>
            <p:nvSpPr>
              <p:cNvPr id="492" name=""/>
              <p:cNvSpPr/>
              <p:nvPr/>
            </p:nvSpPr>
            <p:spPr>
              <a:xfrm flipV="1">
                <a:off x="3729240" y="11516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4158000" y="11617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3299040" y="1142280"/>
              <a:ext cx="866520" cy="314280"/>
              <a:chOff x="3299040" y="1142280"/>
              <a:chExt cx="866520" cy="314280"/>
            </a:xfrm>
          </p:grpSpPr>
          <p:sp>
            <p:nvSpPr>
              <p:cNvPr id="495" name=""/>
              <p:cNvSpPr/>
              <p:nvPr/>
            </p:nvSpPr>
            <p:spPr>
              <a:xfrm flipV="1">
                <a:off x="3299040" y="11419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 flipV="1">
                <a:off x="3727800" y="11520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4152960" y="1148760"/>
              <a:ext cx="866520" cy="314280"/>
              <a:chOff x="4152960" y="1148760"/>
              <a:chExt cx="866520" cy="314280"/>
            </a:xfrm>
          </p:grpSpPr>
          <p:sp>
            <p:nvSpPr>
              <p:cNvPr id="498" name=""/>
              <p:cNvSpPr/>
              <p:nvPr/>
            </p:nvSpPr>
            <p:spPr>
              <a:xfrm flipV="1">
                <a:off x="4152960" y="114840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flipV="1">
                <a:off x="4581720" y="115848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00" name=""/>
          <p:cNvGraphicFramePr/>
          <p:nvPr/>
        </p:nvGraphicFramePr>
        <p:xfrm>
          <a:off x="1976400" y="1654200"/>
          <a:ext cx="1363680" cy="43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6400" y="1654200"/>
                    <a:ext cx="136368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2612880" y="21798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65880" y="4308480"/>
            <a:ext cx="713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, we could compute this diffraction correction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multi-Gaussian bea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609480" y="5257800"/>
          <a:ext cx="5376960" cy="12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257800"/>
                    <a:ext cx="537696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286000" y="2362320"/>
          <a:ext cx="306360" cy="3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2362320"/>
                    <a:ext cx="306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60958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172200" y="2437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4000" y="23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6400800" y="5181480"/>
          <a:ext cx="2119320" cy="76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5181480"/>
                    <a:ext cx="211932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7229520" y="27734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90720" y="76212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562200" y="2590920"/>
            <a:ext cx="1447920" cy="761760"/>
            <a:chOff x="3562200" y="2590920"/>
            <a:chExt cx="1447920" cy="761760"/>
          </a:xfrm>
        </p:grpSpPr>
        <p:sp>
          <p:nvSpPr>
            <p:cNvPr id="516" name=""/>
            <p:cNvSpPr/>
            <p:nvPr/>
          </p:nvSpPr>
          <p:spPr>
            <a:xfrm>
              <a:off x="3562200" y="2590920"/>
              <a:ext cx="121932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81520" y="281952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62200" y="2590920"/>
              <a:ext cx="15228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5010120" y="1447920"/>
            <a:ext cx="9144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010120" y="2895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5543640" y="23619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2452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6140520" y="1295280"/>
          <a:ext cx="3762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0520" y="1295280"/>
                    <a:ext cx="376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4876560" y="31240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98480" y="8794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05360" y="2286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Model – Singl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81320" y="2971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600280" y="289548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784440" y="1599480"/>
            <a:ext cx="2177640" cy="324000"/>
            <a:chOff x="784440" y="1599480"/>
            <a:chExt cx="2177640" cy="324000"/>
          </a:xfrm>
        </p:grpSpPr>
        <p:grpSp>
          <p:nvGrpSpPr>
            <p:cNvPr id="531" name=""/>
            <p:cNvGrpSpPr/>
            <p:nvPr/>
          </p:nvGrpSpPr>
          <p:grpSpPr>
            <a:xfrm>
              <a:off x="784440" y="1599480"/>
              <a:ext cx="866520" cy="314280"/>
              <a:chOff x="784440" y="1599480"/>
              <a:chExt cx="866520" cy="31428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84440" y="15991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>
                <a:off x="1213200" y="16092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1671840" y="1609200"/>
              <a:ext cx="866520" cy="314280"/>
              <a:chOff x="1671840" y="1609200"/>
              <a:chExt cx="866520" cy="314280"/>
            </a:xfrm>
          </p:grpSpPr>
          <p:sp>
            <p:nvSpPr>
              <p:cNvPr id="535" name=""/>
              <p:cNvSpPr/>
              <p:nvPr/>
            </p:nvSpPr>
            <p:spPr>
              <a:xfrm flipV="1">
                <a:off x="1671840" y="16088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flipV="1">
                <a:off x="2100600" y="16189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1241640" y="1599480"/>
              <a:ext cx="866520" cy="314280"/>
              <a:chOff x="1241640" y="1599480"/>
              <a:chExt cx="866520" cy="314280"/>
            </a:xfrm>
          </p:grpSpPr>
          <p:sp>
            <p:nvSpPr>
              <p:cNvPr id="538" name=""/>
              <p:cNvSpPr/>
              <p:nvPr/>
            </p:nvSpPr>
            <p:spPr>
              <a:xfrm flipV="1">
                <a:off x="1241640" y="15991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1670400" y="16092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2095560" y="1605960"/>
              <a:ext cx="866520" cy="314280"/>
              <a:chOff x="2095560" y="1605960"/>
              <a:chExt cx="866520" cy="314280"/>
            </a:xfrm>
          </p:grpSpPr>
          <p:sp>
            <p:nvSpPr>
              <p:cNvPr id="541" name=""/>
              <p:cNvSpPr/>
              <p:nvPr/>
            </p:nvSpPr>
            <p:spPr>
              <a:xfrm flipV="1">
                <a:off x="2095560" y="160560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flipV="1">
                <a:off x="2524320" y="161568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"/>
          <p:cNvSpPr/>
          <p:nvPr/>
        </p:nvSpPr>
        <p:spPr>
          <a:xfrm>
            <a:off x="744480" y="955800"/>
            <a:ext cx="32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 recep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2971800" y="4191120"/>
          <a:ext cx="25146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4191120"/>
                    <a:ext cx="25146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1447920" y="5362560"/>
          <a:ext cx="8125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5362560"/>
                    <a:ext cx="812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2505600" y="533412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unction for transducer, cabling,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305920" y="2514600"/>
            <a:ext cx="533160" cy="6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34120" y="4572000"/>
            <a:ext cx="4572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09880" y="3048120"/>
            <a:ext cx="685800" cy="53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371600" y="914400"/>
            <a:ext cx="9144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04920" y="6019920"/>
          <a:ext cx="251460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19920"/>
                    <a:ext cx="25146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152280" y="5257800"/>
          <a:ext cx="512928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5257800"/>
                    <a:ext cx="51292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228600" y="4572000"/>
          <a:ext cx="403848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0384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3422520" y="609588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ing all these relations, we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839240" y="1845000"/>
            <a:ext cx="1331640" cy="1441080"/>
            <a:chOff x="1839240" y="1845000"/>
            <a:chExt cx="1331640" cy="1441080"/>
          </a:xfrm>
        </p:grpSpPr>
        <p:sp>
          <p:nvSpPr>
            <p:cNvPr id="561" name=""/>
            <p:cNvSpPr/>
            <p:nvPr/>
          </p:nvSpPr>
          <p:spPr>
            <a:xfrm rot="14047200">
              <a:off x="1895400" y="2187720"/>
              <a:ext cx="121932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4047200">
              <a:off x="1935720" y="189036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4047200">
              <a:off x="2741400" y="2620080"/>
              <a:ext cx="15228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3146400" y="1142280"/>
            <a:ext cx="2177640" cy="324000"/>
            <a:chOff x="3146400" y="1142280"/>
            <a:chExt cx="2177640" cy="324000"/>
          </a:xfrm>
        </p:grpSpPr>
        <p:grpSp>
          <p:nvGrpSpPr>
            <p:cNvPr id="565" name=""/>
            <p:cNvGrpSpPr/>
            <p:nvPr/>
          </p:nvGrpSpPr>
          <p:grpSpPr>
            <a:xfrm>
              <a:off x="3146400" y="1142280"/>
              <a:ext cx="866520" cy="314280"/>
              <a:chOff x="3146400" y="1142280"/>
              <a:chExt cx="866520" cy="314280"/>
            </a:xfrm>
          </p:grpSpPr>
          <p:sp>
            <p:nvSpPr>
              <p:cNvPr id="566" name=""/>
              <p:cNvSpPr/>
              <p:nvPr/>
            </p:nvSpPr>
            <p:spPr>
              <a:xfrm flipV="1">
                <a:off x="3146400" y="11419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3575160" y="11520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4033800" y="1152000"/>
              <a:ext cx="866520" cy="314280"/>
              <a:chOff x="4033800" y="1152000"/>
              <a:chExt cx="866520" cy="314280"/>
            </a:xfrm>
          </p:grpSpPr>
          <p:sp>
            <p:nvSpPr>
              <p:cNvPr id="569" name=""/>
              <p:cNvSpPr/>
              <p:nvPr/>
            </p:nvSpPr>
            <p:spPr>
              <a:xfrm flipV="1">
                <a:off x="4033800" y="11516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 flipV="1">
                <a:off x="4462560" y="11617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603600" y="1142280"/>
              <a:ext cx="866520" cy="314280"/>
              <a:chOff x="3603600" y="1142280"/>
              <a:chExt cx="866520" cy="314280"/>
            </a:xfrm>
          </p:grpSpPr>
          <p:sp>
            <p:nvSpPr>
              <p:cNvPr id="572" name=""/>
              <p:cNvSpPr/>
              <p:nvPr/>
            </p:nvSpPr>
            <p:spPr>
              <a:xfrm flipV="1">
                <a:off x="3603600" y="11419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 flipV="1">
                <a:off x="4032360" y="11520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457520" y="1148760"/>
              <a:ext cx="866520" cy="314280"/>
              <a:chOff x="4457520" y="1148760"/>
              <a:chExt cx="866520" cy="314280"/>
            </a:xfrm>
          </p:grpSpPr>
          <p:sp>
            <p:nvSpPr>
              <p:cNvPr id="575" name=""/>
              <p:cNvSpPr/>
              <p:nvPr/>
            </p:nvSpPr>
            <p:spPr>
              <a:xfrm flipV="1">
                <a:off x="4457520" y="114840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 flipV="1">
                <a:off x="4886280" y="115848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7" name=""/>
          <p:cNvSpPr/>
          <p:nvPr/>
        </p:nvSpPr>
        <p:spPr>
          <a:xfrm>
            <a:off x="3733920" y="3886200"/>
            <a:ext cx="384120" cy="333360"/>
          </a:xfrm>
          <a:custGeom>
            <a:avLst/>
            <a:gdLst/>
            <a:ahLst/>
            <a:rect l="l" t="t" r="r" b="b"/>
            <a:pathLst>
              <a:path w="242" h="210">
                <a:moveTo>
                  <a:pt x="203" y="55"/>
                </a:moveTo>
                <a:cubicBezTo>
                  <a:pt x="193" y="24"/>
                  <a:pt x="187" y="11"/>
                  <a:pt x="156" y="0"/>
                </a:cubicBezTo>
                <a:cubicBezTo>
                  <a:pt x="99" y="15"/>
                  <a:pt x="128" y="21"/>
                  <a:pt x="101" y="55"/>
                </a:cubicBezTo>
                <a:cubicBezTo>
                  <a:pt x="87" y="73"/>
                  <a:pt x="59" y="74"/>
                  <a:pt x="39" y="78"/>
                </a:cubicBezTo>
                <a:cubicBezTo>
                  <a:pt x="31" y="86"/>
                  <a:pt x="21" y="92"/>
                  <a:pt x="16" y="101"/>
                </a:cubicBezTo>
                <a:cubicBezTo>
                  <a:pt x="8" y="115"/>
                  <a:pt x="0" y="148"/>
                  <a:pt x="0" y="148"/>
                </a:cubicBezTo>
                <a:cubicBezTo>
                  <a:pt x="3" y="158"/>
                  <a:pt x="0" y="172"/>
                  <a:pt x="8" y="179"/>
                </a:cubicBezTo>
                <a:cubicBezTo>
                  <a:pt x="24" y="193"/>
                  <a:pt x="76" y="202"/>
                  <a:pt x="101" y="210"/>
                </a:cubicBezTo>
                <a:cubicBezTo>
                  <a:pt x="114" y="208"/>
                  <a:pt x="129" y="210"/>
                  <a:pt x="140" y="203"/>
                </a:cubicBezTo>
                <a:cubicBezTo>
                  <a:pt x="147" y="198"/>
                  <a:pt x="140" y="183"/>
                  <a:pt x="148" y="179"/>
                </a:cubicBezTo>
                <a:cubicBezTo>
                  <a:pt x="165" y="171"/>
                  <a:pt x="185" y="174"/>
                  <a:pt x="203" y="172"/>
                </a:cubicBezTo>
                <a:cubicBezTo>
                  <a:pt x="211" y="167"/>
                  <a:pt x="221" y="164"/>
                  <a:pt x="226" y="156"/>
                </a:cubicBezTo>
                <a:cubicBezTo>
                  <a:pt x="235" y="142"/>
                  <a:pt x="242" y="109"/>
                  <a:pt x="242" y="109"/>
                </a:cubicBezTo>
                <a:cubicBezTo>
                  <a:pt x="231" y="77"/>
                  <a:pt x="216" y="83"/>
                  <a:pt x="203" y="5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63960" y="35053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990720"/>
            <a:ext cx="83808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1676520" y="152352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1143000" y="1523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9320" y="19810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37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72400" y="914400"/>
            <a:ext cx="82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29840" y="3124080"/>
            <a:ext cx="44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69600" y="263196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5807160" y="3886200"/>
            <a:ext cx="1447200" cy="761760"/>
            <a:chOff x="5807160" y="3886200"/>
            <a:chExt cx="1447200" cy="761760"/>
          </a:xfrm>
        </p:grpSpPr>
        <p:sp>
          <p:nvSpPr>
            <p:cNvPr id="588" name=""/>
            <p:cNvSpPr/>
            <p:nvPr/>
          </p:nvSpPr>
          <p:spPr>
            <a:xfrm>
              <a:off x="5807160" y="3886200"/>
              <a:ext cx="121896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26120" y="4114800"/>
              <a:ext cx="228240" cy="228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07160" y="3886200"/>
              <a:ext cx="15192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5264280" y="308916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25920" y="35812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4720" y="2743200"/>
            <a:ext cx="9144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254720" y="4191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78824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8369280" y="2590920"/>
          <a:ext cx="3747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69280" y="2590920"/>
                    <a:ext cx="374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5695560" y="33526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025400" y="21337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85320" y="434340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12040" y="38098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86200" y="43434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2895480" y="3123720"/>
            <a:ext cx="804960" cy="108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81520" y="4343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087720" y="3400560"/>
            <a:ext cx="26208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43200" y="3429000"/>
            <a:ext cx="5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048120" y="28954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657600" y="24382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90720" y="83808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3519360" y="4108320"/>
            <a:ext cx="385920" cy="260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671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62440" y="4057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053080" y="15228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Model – Singl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1532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86400" y="4343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43480" y="449568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123720" y="35812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51320" y="3875040"/>
            <a:ext cx="171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962520" y="3124080"/>
          <a:ext cx="419040" cy="419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124080"/>
                    <a:ext cx="41904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2128320" y="1781640"/>
            <a:ext cx="1331640" cy="1441080"/>
            <a:chOff x="2128320" y="1781640"/>
            <a:chExt cx="1331640" cy="1441080"/>
          </a:xfrm>
        </p:grpSpPr>
        <p:sp>
          <p:nvSpPr>
            <p:cNvPr id="622" name=""/>
            <p:cNvSpPr/>
            <p:nvPr/>
          </p:nvSpPr>
          <p:spPr>
            <a:xfrm rot="14047200">
              <a:off x="2184480" y="2124360"/>
              <a:ext cx="121932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4047200">
              <a:off x="2224800" y="182700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4047200">
              <a:off x="3030480" y="2556720"/>
              <a:ext cx="15228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3435480" y="1079280"/>
            <a:ext cx="2177640" cy="322560"/>
            <a:chOff x="3435480" y="1079280"/>
            <a:chExt cx="2177640" cy="322560"/>
          </a:xfrm>
        </p:grpSpPr>
        <p:grpSp>
          <p:nvGrpSpPr>
            <p:cNvPr id="626" name=""/>
            <p:cNvGrpSpPr/>
            <p:nvPr/>
          </p:nvGrpSpPr>
          <p:grpSpPr>
            <a:xfrm>
              <a:off x="3435480" y="1079280"/>
              <a:ext cx="866520" cy="313200"/>
              <a:chOff x="3435480" y="1079280"/>
              <a:chExt cx="866520" cy="313200"/>
            </a:xfrm>
          </p:grpSpPr>
          <p:sp>
            <p:nvSpPr>
              <p:cNvPr id="627" name=""/>
              <p:cNvSpPr/>
              <p:nvPr/>
            </p:nvSpPr>
            <p:spPr>
              <a:xfrm flipV="1">
                <a:off x="3435480" y="107892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3864240" y="108864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4322880" y="1088640"/>
              <a:ext cx="866520" cy="313200"/>
              <a:chOff x="4322880" y="1088640"/>
              <a:chExt cx="866520" cy="313200"/>
            </a:xfrm>
          </p:grpSpPr>
          <p:sp>
            <p:nvSpPr>
              <p:cNvPr id="630" name=""/>
              <p:cNvSpPr/>
              <p:nvPr/>
            </p:nvSpPr>
            <p:spPr>
              <a:xfrm flipV="1">
                <a:off x="4322880" y="108828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flipV="1">
                <a:off x="4751640" y="109800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3892680" y="1079280"/>
              <a:ext cx="866520" cy="313200"/>
              <a:chOff x="3892680" y="1079280"/>
              <a:chExt cx="866520" cy="313200"/>
            </a:xfrm>
          </p:grpSpPr>
          <p:sp>
            <p:nvSpPr>
              <p:cNvPr id="633" name=""/>
              <p:cNvSpPr/>
              <p:nvPr/>
            </p:nvSpPr>
            <p:spPr>
              <a:xfrm flipV="1">
                <a:off x="3892680" y="107892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>
                <a:off x="4321440" y="108864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4746600" y="1085400"/>
              <a:ext cx="866520" cy="313200"/>
              <a:chOff x="4746600" y="1085400"/>
              <a:chExt cx="866520" cy="313200"/>
            </a:xfrm>
          </p:grpSpPr>
          <p:sp>
            <p:nvSpPr>
              <p:cNvPr id="636" name=""/>
              <p:cNvSpPr/>
              <p:nvPr/>
            </p:nvSpPr>
            <p:spPr>
              <a:xfrm flipV="1">
                <a:off x="4746600" y="108504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>
                <a:off x="5175360" y="109476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8" name=""/>
          <p:cNvSpPr/>
          <p:nvPr/>
        </p:nvSpPr>
        <p:spPr>
          <a:xfrm>
            <a:off x="4022640" y="3822840"/>
            <a:ext cx="384120" cy="333360"/>
          </a:xfrm>
          <a:custGeom>
            <a:avLst/>
            <a:gdLst/>
            <a:ahLst/>
            <a:rect l="l" t="t" r="r" b="b"/>
            <a:pathLst>
              <a:path w="242" h="210">
                <a:moveTo>
                  <a:pt x="203" y="55"/>
                </a:moveTo>
                <a:cubicBezTo>
                  <a:pt x="193" y="24"/>
                  <a:pt x="187" y="11"/>
                  <a:pt x="156" y="0"/>
                </a:cubicBezTo>
                <a:cubicBezTo>
                  <a:pt x="99" y="15"/>
                  <a:pt x="128" y="21"/>
                  <a:pt x="101" y="55"/>
                </a:cubicBezTo>
                <a:cubicBezTo>
                  <a:pt x="87" y="73"/>
                  <a:pt x="59" y="74"/>
                  <a:pt x="39" y="78"/>
                </a:cubicBezTo>
                <a:cubicBezTo>
                  <a:pt x="31" y="86"/>
                  <a:pt x="21" y="92"/>
                  <a:pt x="16" y="101"/>
                </a:cubicBezTo>
                <a:cubicBezTo>
                  <a:pt x="8" y="115"/>
                  <a:pt x="0" y="148"/>
                  <a:pt x="0" y="148"/>
                </a:cubicBezTo>
                <a:cubicBezTo>
                  <a:pt x="3" y="158"/>
                  <a:pt x="0" y="172"/>
                  <a:pt x="8" y="179"/>
                </a:cubicBezTo>
                <a:cubicBezTo>
                  <a:pt x="24" y="193"/>
                  <a:pt x="76" y="202"/>
                  <a:pt x="101" y="210"/>
                </a:cubicBezTo>
                <a:cubicBezTo>
                  <a:pt x="114" y="208"/>
                  <a:pt x="129" y="210"/>
                  <a:pt x="140" y="203"/>
                </a:cubicBezTo>
                <a:cubicBezTo>
                  <a:pt x="147" y="198"/>
                  <a:pt x="140" y="183"/>
                  <a:pt x="148" y="179"/>
                </a:cubicBezTo>
                <a:cubicBezTo>
                  <a:pt x="165" y="171"/>
                  <a:pt x="185" y="174"/>
                  <a:pt x="203" y="172"/>
                </a:cubicBezTo>
                <a:cubicBezTo>
                  <a:pt x="211" y="167"/>
                  <a:pt x="221" y="164"/>
                  <a:pt x="226" y="156"/>
                </a:cubicBezTo>
                <a:cubicBezTo>
                  <a:pt x="235" y="142"/>
                  <a:pt x="242" y="109"/>
                  <a:pt x="242" y="109"/>
                </a:cubicBezTo>
                <a:cubicBezTo>
                  <a:pt x="231" y="77"/>
                  <a:pt x="216" y="83"/>
                  <a:pt x="203" y="5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252680" y="34416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 flipV="1">
            <a:off x="1964880" y="146052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1431720" y="1460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040" y="1917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71200" y="3137040"/>
            <a:ext cx="44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958320" y="25686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6095880" y="3822840"/>
            <a:ext cx="1447920" cy="761760"/>
            <a:chOff x="6095880" y="3822840"/>
            <a:chExt cx="1447920" cy="761760"/>
          </a:xfrm>
        </p:grpSpPr>
        <p:sp>
          <p:nvSpPr>
            <p:cNvPr id="646" name=""/>
            <p:cNvSpPr/>
            <p:nvPr/>
          </p:nvSpPr>
          <p:spPr>
            <a:xfrm>
              <a:off x="6095880" y="3822840"/>
              <a:ext cx="121932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315200" y="405144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095880" y="3822840"/>
              <a:ext cx="15228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5553360" y="302580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15000" y="35179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43800" y="2679840"/>
            <a:ext cx="9144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543800" y="4127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8077320" y="3593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8658360" y="2527200"/>
          <a:ext cx="3744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8360" y="2527200"/>
                    <a:ext cx="374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5984640" y="32893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14480" y="20700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007600" y="435600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0760" y="374652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75280" y="428004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3184560" y="3060360"/>
            <a:ext cx="804960" cy="108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70600" y="42800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76440" y="3336840"/>
            <a:ext cx="26208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32280" y="3365640"/>
            <a:ext cx="5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05360" y="2286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Model – Singl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3336840" y="283212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46680" y="237492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152280" y="5105520"/>
          <a:ext cx="876456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5105520"/>
                    <a:ext cx="876456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990720" y="76212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808080" y="4044960"/>
            <a:ext cx="385560" cy="26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156200" y="4051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51160" y="3994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45820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38080" y="914400"/>
            <a:ext cx="83844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60" y="914400"/>
            <a:ext cx="82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37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2280600" y="1933920"/>
            <a:ext cx="1331640" cy="1441080"/>
            <a:chOff x="2280600" y="1933920"/>
            <a:chExt cx="1331640" cy="1441080"/>
          </a:xfrm>
        </p:grpSpPr>
        <p:sp>
          <p:nvSpPr>
            <p:cNvPr id="679" name=""/>
            <p:cNvSpPr/>
            <p:nvPr/>
          </p:nvSpPr>
          <p:spPr>
            <a:xfrm rot="14047200">
              <a:off x="2336760" y="2276640"/>
              <a:ext cx="121932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4047200">
              <a:off x="2377080" y="19792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4047200">
              <a:off x="3182760" y="2709000"/>
              <a:ext cx="15228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3587760" y="1231200"/>
            <a:ext cx="2177640" cy="324000"/>
            <a:chOff x="3587760" y="1231200"/>
            <a:chExt cx="2177640" cy="324000"/>
          </a:xfrm>
        </p:grpSpPr>
        <p:grpSp>
          <p:nvGrpSpPr>
            <p:cNvPr id="683" name=""/>
            <p:cNvGrpSpPr/>
            <p:nvPr/>
          </p:nvGrpSpPr>
          <p:grpSpPr>
            <a:xfrm>
              <a:off x="3587760" y="1231200"/>
              <a:ext cx="866520" cy="314280"/>
              <a:chOff x="3587760" y="1231200"/>
              <a:chExt cx="866520" cy="314280"/>
            </a:xfrm>
          </p:grpSpPr>
          <p:sp>
            <p:nvSpPr>
              <p:cNvPr id="684" name=""/>
              <p:cNvSpPr/>
              <p:nvPr/>
            </p:nvSpPr>
            <p:spPr>
              <a:xfrm flipV="1">
                <a:off x="3587760" y="12308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 flipV="1">
                <a:off x="4016520" y="12409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4475160" y="1240920"/>
              <a:ext cx="866520" cy="314280"/>
              <a:chOff x="4475160" y="1240920"/>
              <a:chExt cx="866520" cy="314280"/>
            </a:xfrm>
          </p:grpSpPr>
          <p:sp>
            <p:nvSpPr>
              <p:cNvPr id="687" name=""/>
              <p:cNvSpPr/>
              <p:nvPr/>
            </p:nvSpPr>
            <p:spPr>
              <a:xfrm flipV="1">
                <a:off x="4475160" y="124056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 flipV="1">
                <a:off x="4903920" y="125064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044960" y="1231200"/>
              <a:ext cx="866520" cy="314280"/>
              <a:chOff x="4044960" y="1231200"/>
              <a:chExt cx="866520" cy="314280"/>
            </a:xfrm>
          </p:grpSpPr>
          <p:sp>
            <p:nvSpPr>
              <p:cNvPr id="690" name=""/>
              <p:cNvSpPr/>
              <p:nvPr/>
            </p:nvSpPr>
            <p:spPr>
              <a:xfrm flipV="1">
                <a:off x="4044960" y="12308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 flipV="1">
                <a:off x="4473720" y="12409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4898880" y="1237680"/>
              <a:ext cx="866520" cy="314280"/>
              <a:chOff x="4898880" y="1237680"/>
              <a:chExt cx="866520" cy="314280"/>
            </a:xfrm>
          </p:grpSpPr>
          <p:sp>
            <p:nvSpPr>
              <p:cNvPr id="693" name=""/>
              <p:cNvSpPr/>
              <p:nvPr/>
            </p:nvSpPr>
            <p:spPr>
              <a:xfrm flipV="1">
                <a:off x="4898880" y="12373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>
                <a:off x="5327640" y="12474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5" name=""/>
          <p:cNvSpPr/>
          <p:nvPr/>
        </p:nvSpPr>
        <p:spPr>
          <a:xfrm>
            <a:off x="4175280" y="3975120"/>
            <a:ext cx="384120" cy="333360"/>
          </a:xfrm>
          <a:custGeom>
            <a:avLst/>
            <a:gdLst/>
            <a:ahLst/>
            <a:rect l="l" t="t" r="r" b="b"/>
            <a:pathLst>
              <a:path w="242" h="210">
                <a:moveTo>
                  <a:pt x="203" y="55"/>
                </a:moveTo>
                <a:cubicBezTo>
                  <a:pt x="193" y="24"/>
                  <a:pt x="187" y="11"/>
                  <a:pt x="156" y="0"/>
                </a:cubicBezTo>
                <a:cubicBezTo>
                  <a:pt x="99" y="15"/>
                  <a:pt x="128" y="21"/>
                  <a:pt x="101" y="55"/>
                </a:cubicBezTo>
                <a:cubicBezTo>
                  <a:pt x="87" y="73"/>
                  <a:pt x="59" y="74"/>
                  <a:pt x="39" y="78"/>
                </a:cubicBezTo>
                <a:cubicBezTo>
                  <a:pt x="31" y="86"/>
                  <a:pt x="21" y="92"/>
                  <a:pt x="16" y="101"/>
                </a:cubicBezTo>
                <a:cubicBezTo>
                  <a:pt x="8" y="115"/>
                  <a:pt x="0" y="148"/>
                  <a:pt x="0" y="148"/>
                </a:cubicBezTo>
                <a:cubicBezTo>
                  <a:pt x="3" y="158"/>
                  <a:pt x="0" y="172"/>
                  <a:pt x="8" y="179"/>
                </a:cubicBezTo>
                <a:cubicBezTo>
                  <a:pt x="24" y="193"/>
                  <a:pt x="76" y="202"/>
                  <a:pt x="101" y="210"/>
                </a:cubicBezTo>
                <a:cubicBezTo>
                  <a:pt x="114" y="208"/>
                  <a:pt x="129" y="210"/>
                  <a:pt x="140" y="203"/>
                </a:cubicBezTo>
                <a:cubicBezTo>
                  <a:pt x="147" y="198"/>
                  <a:pt x="140" y="183"/>
                  <a:pt x="148" y="179"/>
                </a:cubicBezTo>
                <a:cubicBezTo>
                  <a:pt x="165" y="171"/>
                  <a:pt x="185" y="174"/>
                  <a:pt x="203" y="172"/>
                </a:cubicBezTo>
                <a:cubicBezTo>
                  <a:pt x="211" y="167"/>
                  <a:pt x="221" y="164"/>
                  <a:pt x="226" y="156"/>
                </a:cubicBezTo>
                <a:cubicBezTo>
                  <a:pt x="235" y="142"/>
                  <a:pt x="242" y="109"/>
                  <a:pt x="242" y="109"/>
                </a:cubicBezTo>
                <a:cubicBezTo>
                  <a:pt x="231" y="77"/>
                  <a:pt x="216" y="83"/>
                  <a:pt x="203" y="5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05320" y="35942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117880" y="161244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584360" y="1612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70680" y="20700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723480" y="3289320"/>
            <a:ext cx="44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110960" y="2720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6248520" y="3975120"/>
            <a:ext cx="1447200" cy="761760"/>
            <a:chOff x="6248520" y="3975120"/>
            <a:chExt cx="1447200" cy="761760"/>
          </a:xfrm>
        </p:grpSpPr>
        <p:sp>
          <p:nvSpPr>
            <p:cNvPr id="703" name=""/>
            <p:cNvSpPr/>
            <p:nvPr/>
          </p:nvSpPr>
          <p:spPr>
            <a:xfrm>
              <a:off x="6248520" y="3975120"/>
              <a:ext cx="121896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67480" y="4203720"/>
              <a:ext cx="228240" cy="228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8520" y="3975120"/>
              <a:ext cx="15192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705640" y="317808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867280" y="3670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96080" y="2832120"/>
            <a:ext cx="9144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696080" y="42800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8229600" y="374652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8640720" y="2679840"/>
          <a:ext cx="3747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40720" y="2679840"/>
                    <a:ext cx="374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6136920" y="34416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466760" y="222264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59880" y="450864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53400" y="38988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327560" y="443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 flipV="1">
            <a:off x="3336840" y="3212640"/>
            <a:ext cx="804960" cy="108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222880" y="4432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29080" y="3489480"/>
            <a:ext cx="26172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84560" y="3517920"/>
            <a:ext cx="5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58000" y="38088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Model – Singl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489480" y="298440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098960" y="252720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914400" y="5105520"/>
          <a:ext cx="76788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105520"/>
                    <a:ext cx="76788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1143000" y="91440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3960720" y="4197240"/>
            <a:ext cx="385920" cy="260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08480" y="420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303800" y="4146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61048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90720" y="1066680"/>
            <a:ext cx="8380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58040" y="1066680"/>
            <a:ext cx="82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3808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762120" y="6041880"/>
          <a:ext cx="685800" cy="4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6041880"/>
                    <a:ext cx="68580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"/>
          <p:cNvSpPr/>
          <p:nvPr/>
        </p:nvSpPr>
        <p:spPr>
          <a:xfrm>
            <a:off x="1590120" y="60958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function (pulser/receiver, cabling, transduc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8" name=""/>
          <p:cNvGraphicFramePr/>
          <p:nvPr/>
        </p:nvGraphicFramePr>
        <p:xfrm>
          <a:off x="220680" y="1828800"/>
          <a:ext cx="875340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1828800"/>
                    <a:ext cx="87534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0" name=""/>
          <p:cNvSpPr/>
          <p:nvPr/>
        </p:nvSpPr>
        <p:spPr>
          <a:xfrm flipV="1">
            <a:off x="1676520" y="2666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38080" y="312408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lser,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ing,transduc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401160" y="335268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t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33920" y="2666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3124080"/>
            <a:ext cx="26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m propagation and diffraction effects going from the transm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ducer to the f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from the flaw to the receiving trans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9000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57560" y="838080"/>
            <a:ext cx="9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662560" y="15228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Model-Singl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1800" y="4994280"/>
            <a:ext cx="736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ttenuation of the fluid is important, we need to 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2895480" y="5410080"/>
          <a:ext cx="297180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5410080"/>
                    <a:ext cx="29718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"/>
          <p:cNvSpPr/>
          <p:nvPr/>
        </p:nvSpPr>
        <p:spPr>
          <a:xfrm>
            <a:off x="1410480" y="6054840"/>
            <a:ext cx="52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dependent atten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990720" y="76212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590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69343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85345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335268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676520" y="4495680"/>
            <a:ext cx="54864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295280" y="1219320"/>
            <a:ext cx="655344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62560" y="15228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Model-Singl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90720" y="76212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1" name=""/>
          <p:cNvGraphicFramePr/>
          <p:nvPr/>
        </p:nvGraphicFramePr>
        <p:xfrm>
          <a:off x="1371600" y="1523880"/>
          <a:ext cx="601812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01812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"/>
          <p:cNvGraphicFramePr/>
          <p:nvPr/>
        </p:nvGraphicFramePr>
        <p:xfrm>
          <a:off x="1295280" y="2590920"/>
          <a:ext cx="3733920" cy="88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590920"/>
                    <a:ext cx="373392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>
            <a:off x="1755720" y="44704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ulse-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3809880" y="3886200"/>
          <a:ext cx="236232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3886200"/>
                    <a:ext cx="23623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"/>
          <p:cNvGraphicFramePr/>
          <p:nvPr/>
        </p:nvGraphicFramePr>
        <p:xfrm>
          <a:off x="1752480" y="4952880"/>
          <a:ext cx="5105520" cy="88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4952880"/>
                    <a:ext cx="51055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"/>
          <p:cNvSpPr/>
          <p:nvPr/>
        </p:nvSpPr>
        <p:spPr>
          <a:xfrm>
            <a:off x="1293840" y="11430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itch-c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8600" y="457200"/>
            <a:ext cx="7117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a simple fluid model to obtain a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ment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to a fluid-soli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905120" y="1574640"/>
            <a:ext cx="965160" cy="711360"/>
          </a:xfrm>
          <a:custGeom>
            <a:avLst/>
            <a:gdLst/>
            <a:ahLst/>
            <a:rect l="l" t="t" r="r" b="b"/>
            <a:pathLst>
              <a:path w="608" h="448">
                <a:moveTo>
                  <a:pt x="88" y="0"/>
                </a:moveTo>
                <a:lnTo>
                  <a:pt x="608" y="176"/>
                </a:lnTo>
                <a:lnTo>
                  <a:pt x="512" y="448"/>
                </a:lnTo>
                <a:lnTo>
                  <a:pt x="0" y="272"/>
                </a:lnTo>
                <a:lnTo>
                  <a:pt x="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905120" y="200664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44800" y="1574640"/>
            <a:ext cx="1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905120" y="200664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044800" y="1574640"/>
            <a:ext cx="1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1515960" y="4114800"/>
          <a:ext cx="5927760" cy="10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4114800"/>
                    <a:ext cx="592776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"/>
          <p:cNvSpPr/>
          <p:nvPr/>
        </p:nvSpPr>
        <p:spPr>
          <a:xfrm>
            <a:off x="527040" y="152280"/>
            <a:ext cx="81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ompson-Gray Measurement Model – Fluid-Solid (Pulse-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7302600" y="5943600"/>
          <a:ext cx="139680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2600" y="5943600"/>
                    <a:ext cx="139680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 flipV="1">
            <a:off x="1447920" y="579132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1447560" y="56383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3056040" y="5486400"/>
          <a:ext cx="4038480" cy="68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6040" y="5486400"/>
                    <a:ext cx="4038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"/>
          <p:cNvGraphicFramePr/>
          <p:nvPr/>
        </p:nvGraphicFramePr>
        <p:xfrm>
          <a:off x="1855800" y="5334120"/>
          <a:ext cx="500040" cy="633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5800" y="5334120"/>
                    <a:ext cx="5000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"/>
          <p:cNvSpPr/>
          <p:nvPr/>
        </p:nvSpPr>
        <p:spPr>
          <a:xfrm flipV="1">
            <a:off x="1440000" y="5924160"/>
            <a:ext cx="652320" cy="25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1017720" y="5181480"/>
          <a:ext cx="463320" cy="6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17720" y="5181480"/>
                    <a:ext cx="4633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"/>
          <p:cNvGraphicFramePr/>
          <p:nvPr/>
        </p:nvGraphicFramePr>
        <p:xfrm>
          <a:off x="5410080" y="2590920"/>
          <a:ext cx="272916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590920"/>
                    <a:ext cx="2729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3352680" y="1752480"/>
          <a:ext cx="838440" cy="49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2680" y="1752480"/>
                    <a:ext cx="8384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4" name=""/>
          <p:cNvSpPr/>
          <p:nvPr/>
        </p:nvSpPr>
        <p:spPr>
          <a:xfrm>
            <a:off x="1523880" y="2590920"/>
            <a:ext cx="5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990720" y="76212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552000">
            <a:off x="1828800" y="190476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3375000" y="913680"/>
            <a:ext cx="2177640" cy="324000"/>
            <a:chOff x="3375000" y="913680"/>
            <a:chExt cx="2177640" cy="324000"/>
          </a:xfrm>
        </p:grpSpPr>
        <p:grpSp>
          <p:nvGrpSpPr>
            <p:cNvPr id="798" name=""/>
            <p:cNvGrpSpPr/>
            <p:nvPr/>
          </p:nvGrpSpPr>
          <p:grpSpPr>
            <a:xfrm>
              <a:off x="3375000" y="913680"/>
              <a:ext cx="866520" cy="314280"/>
              <a:chOff x="3375000" y="913680"/>
              <a:chExt cx="866520" cy="314280"/>
            </a:xfrm>
          </p:grpSpPr>
          <p:sp>
            <p:nvSpPr>
              <p:cNvPr id="799" name=""/>
              <p:cNvSpPr/>
              <p:nvPr/>
            </p:nvSpPr>
            <p:spPr>
              <a:xfrm flipV="1">
                <a:off x="3375000" y="9133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 flipV="1">
                <a:off x="3803760" y="9234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4262400" y="923400"/>
              <a:ext cx="866520" cy="314280"/>
              <a:chOff x="4262400" y="923400"/>
              <a:chExt cx="866520" cy="314280"/>
            </a:xfrm>
          </p:grpSpPr>
          <p:sp>
            <p:nvSpPr>
              <p:cNvPr id="802" name=""/>
              <p:cNvSpPr/>
              <p:nvPr/>
            </p:nvSpPr>
            <p:spPr>
              <a:xfrm flipV="1">
                <a:off x="4262400" y="9230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 flipV="1">
                <a:off x="4691160" y="9331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3832200" y="913680"/>
              <a:ext cx="866520" cy="314280"/>
              <a:chOff x="3832200" y="913680"/>
              <a:chExt cx="866520" cy="314280"/>
            </a:xfrm>
          </p:grpSpPr>
          <p:sp>
            <p:nvSpPr>
              <p:cNvPr id="805" name=""/>
              <p:cNvSpPr/>
              <p:nvPr/>
            </p:nvSpPr>
            <p:spPr>
              <a:xfrm flipV="1">
                <a:off x="3832200" y="9133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 flipV="1">
                <a:off x="4260960" y="9234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4686120" y="920160"/>
              <a:ext cx="866520" cy="314280"/>
              <a:chOff x="4686120" y="920160"/>
              <a:chExt cx="866520" cy="314280"/>
            </a:xfrm>
          </p:grpSpPr>
          <p:sp>
            <p:nvSpPr>
              <p:cNvPr id="808" name=""/>
              <p:cNvSpPr/>
              <p:nvPr/>
            </p:nvSpPr>
            <p:spPr>
              <a:xfrm flipV="1">
                <a:off x="4686120" y="91980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flipV="1">
                <a:off x="5114880" y="92988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0" name=""/>
          <p:cNvSpPr/>
          <p:nvPr/>
        </p:nvSpPr>
        <p:spPr>
          <a:xfrm flipH="1" flipV="1" rot="5400000">
            <a:off x="3870360" y="1401840"/>
            <a:ext cx="396216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913040" y="23256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952880" y="1981080"/>
            <a:ext cx="366840" cy="463680"/>
          </a:xfrm>
          <a:custGeom>
            <a:avLst/>
            <a:gdLst/>
            <a:ahLst/>
            <a:rect l="l" t="t" r="r" b="b"/>
            <a:pathLst>
              <a:path w="231" h="292">
                <a:moveTo>
                  <a:pt x="214" y="121"/>
                </a:moveTo>
                <a:cubicBezTo>
                  <a:pt x="203" y="117"/>
                  <a:pt x="168" y="107"/>
                  <a:pt x="162" y="95"/>
                </a:cubicBezTo>
                <a:cubicBezTo>
                  <a:pt x="142" y="55"/>
                  <a:pt x="170" y="44"/>
                  <a:pt x="136" y="17"/>
                </a:cubicBezTo>
                <a:cubicBezTo>
                  <a:pt x="120" y="4"/>
                  <a:pt x="96" y="5"/>
                  <a:pt x="76" y="0"/>
                </a:cubicBezTo>
                <a:cubicBezTo>
                  <a:pt x="62" y="3"/>
                  <a:pt x="45" y="1"/>
                  <a:pt x="33" y="9"/>
                </a:cubicBezTo>
                <a:cubicBezTo>
                  <a:pt x="0" y="32"/>
                  <a:pt x="51" y="96"/>
                  <a:pt x="68" y="112"/>
                </a:cubicBezTo>
                <a:cubicBezTo>
                  <a:pt x="58" y="197"/>
                  <a:pt x="45" y="263"/>
                  <a:pt x="136" y="292"/>
                </a:cubicBezTo>
                <a:cubicBezTo>
                  <a:pt x="225" y="278"/>
                  <a:pt x="216" y="273"/>
                  <a:pt x="231" y="189"/>
                </a:cubicBezTo>
                <a:cubicBezTo>
                  <a:pt x="221" y="132"/>
                  <a:pt x="229" y="154"/>
                  <a:pt x="214" y="121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124080" y="2286000"/>
            <a:ext cx="42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419720" y="228600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353040" y="13716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172560" y="21337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743200" y="2209680"/>
            <a:ext cx="136512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4114800" y="2184120"/>
            <a:ext cx="104472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962440" y="2239920"/>
            <a:ext cx="599760" cy="10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4300560" y="2266560"/>
            <a:ext cx="517680" cy="135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590920" y="5334120"/>
            <a:ext cx="366480" cy="463320"/>
          </a:xfrm>
          <a:custGeom>
            <a:avLst/>
            <a:gdLst/>
            <a:ahLst/>
            <a:rect l="l" t="t" r="r" b="b"/>
            <a:pathLst>
              <a:path w="231" h="292">
                <a:moveTo>
                  <a:pt x="214" y="121"/>
                </a:moveTo>
                <a:cubicBezTo>
                  <a:pt x="203" y="117"/>
                  <a:pt x="168" y="107"/>
                  <a:pt x="162" y="95"/>
                </a:cubicBezTo>
                <a:cubicBezTo>
                  <a:pt x="142" y="55"/>
                  <a:pt x="170" y="44"/>
                  <a:pt x="136" y="17"/>
                </a:cubicBezTo>
                <a:cubicBezTo>
                  <a:pt x="120" y="4"/>
                  <a:pt x="96" y="5"/>
                  <a:pt x="76" y="0"/>
                </a:cubicBezTo>
                <a:cubicBezTo>
                  <a:pt x="62" y="3"/>
                  <a:pt x="45" y="1"/>
                  <a:pt x="33" y="9"/>
                </a:cubicBezTo>
                <a:cubicBezTo>
                  <a:pt x="0" y="32"/>
                  <a:pt x="51" y="96"/>
                  <a:pt x="68" y="112"/>
                </a:cubicBezTo>
                <a:cubicBezTo>
                  <a:pt x="58" y="197"/>
                  <a:pt x="45" y="263"/>
                  <a:pt x="136" y="292"/>
                </a:cubicBezTo>
                <a:cubicBezTo>
                  <a:pt x="225" y="278"/>
                  <a:pt x="216" y="273"/>
                  <a:pt x="231" y="189"/>
                </a:cubicBezTo>
                <a:cubicBezTo>
                  <a:pt x="221" y="132"/>
                  <a:pt x="229" y="154"/>
                  <a:pt x="214" y="121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95320" y="1870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267080" y="24379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11320" y="320040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-wave or S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1593720" y="762120"/>
          <a:ext cx="592776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762120"/>
                    <a:ext cx="59277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"/>
          <p:cNvGraphicFramePr/>
          <p:nvPr/>
        </p:nvGraphicFramePr>
        <p:xfrm>
          <a:off x="6540480" y="1905120"/>
          <a:ext cx="1397160" cy="46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0480" y="1905120"/>
                    <a:ext cx="139716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1790640" y="2819520"/>
          <a:ext cx="47228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0640" y="2819520"/>
                    <a:ext cx="47228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"/>
          <p:cNvSpPr/>
          <p:nvPr/>
        </p:nvSpPr>
        <p:spPr>
          <a:xfrm>
            <a:off x="3962160" y="3809880"/>
            <a:ext cx="20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13360" y="43434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125800" y="495288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wav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 (velocity/velo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585720" y="3733920"/>
          <a:ext cx="3326040" cy="54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5720" y="3733920"/>
                    <a:ext cx="332604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"/>
          <p:cNvGraphicFramePr/>
          <p:nvPr/>
        </p:nvGraphicFramePr>
        <p:xfrm>
          <a:off x="633240" y="4343400"/>
          <a:ext cx="3356280" cy="53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3240" y="4343400"/>
                    <a:ext cx="33562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"/>
          <p:cNvGraphicFramePr/>
          <p:nvPr/>
        </p:nvGraphicFramePr>
        <p:xfrm>
          <a:off x="622440" y="4952880"/>
          <a:ext cx="1346040" cy="49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2440" y="4952880"/>
                    <a:ext cx="13460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"/>
          <p:cNvSpPr/>
          <p:nvPr/>
        </p:nvSpPr>
        <p:spPr>
          <a:xfrm>
            <a:off x="607680" y="5867280"/>
            <a:ext cx="412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… diffraction co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90720" y="76212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27040" y="152280"/>
            <a:ext cx="81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ompson-Gray Measurement Model – Fluid-Solid (Pulse-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991520" y="1921320"/>
            <a:ext cx="1331640" cy="1441080"/>
            <a:chOff x="1991520" y="1921320"/>
            <a:chExt cx="1331640" cy="1441080"/>
          </a:xfrm>
        </p:grpSpPr>
        <p:sp>
          <p:nvSpPr>
            <p:cNvPr id="45" name=""/>
            <p:cNvSpPr/>
            <p:nvPr/>
          </p:nvSpPr>
          <p:spPr>
            <a:xfrm rot="14047200">
              <a:off x="2047680" y="2264040"/>
              <a:ext cx="121932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4047200">
              <a:off x="2088000" y="19666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4047200">
              <a:off x="2893680" y="2696400"/>
              <a:ext cx="15228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299040" y="1218960"/>
            <a:ext cx="2177640" cy="322560"/>
            <a:chOff x="3299040" y="1218960"/>
            <a:chExt cx="2177640" cy="322560"/>
          </a:xfrm>
        </p:grpSpPr>
        <p:grpSp>
          <p:nvGrpSpPr>
            <p:cNvPr id="49" name=""/>
            <p:cNvGrpSpPr/>
            <p:nvPr/>
          </p:nvGrpSpPr>
          <p:grpSpPr>
            <a:xfrm>
              <a:off x="3299040" y="1218960"/>
              <a:ext cx="866520" cy="313200"/>
              <a:chOff x="3299040" y="1218960"/>
              <a:chExt cx="866520" cy="31320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3299040" y="121860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flipV="1">
                <a:off x="3727800" y="122832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86440" y="1228320"/>
              <a:ext cx="866520" cy="313200"/>
              <a:chOff x="4186440" y="1228320"/>
              <a:chExt cx="866520" cy="313200"/>
            </a:xfrm>
          </p:grpSpPr>
          <p:sp>
            <p:nvSpPr>
              <p:cNvPr id="53" name=""/>
              <p:cNvSpPr/>
              <p:nvPr/>
            </p:nvSpPr>
            <p:spPr>
              <a:xfrm flipV="1">
                <a:off x="4186440" y="122796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flipV="1">
                <a:off x="4615200" y="123768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3756240" y="1218960"/>
              <a:ext cx="866520" cy="313200"/>
              <a:chOff x="3756240" y="1218960"/>
              <a:chExt cx="866520" cy="31320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3756240" y="121860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flipV="1">
                <a:off x="4185000" y="122832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4610160" y="1225080"/>
              <a:ext cx="866520" cy="313200"/>
              <a:chOff x="4610160" y="1225080"/>
              <a:chExt cx="866520" cy="31320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4610160" y="122472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5038920" y="123444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3886200" y="3962520"/>
            <a:ext cx="384120" cy="333360"/>
          </a:xfrm>
          <a:custGeom>
            <a:avLst/>
            <a:gdLst/>
            <a:ahLst/>
            <a:rect l="l" t="t" r="r" b="b"/>
            <a:pathLst>
              <a:path w="242" h="210">
                <a:moveTo>
                  <a:pt x="203" y="55"/>
                </a:moveTo>
                <a:cubicBezTo>
                  <a:pt x="193" y="24"/>
                  <a:pt x="187" y="11"/>
                  <a:pt x="156" y="0"/>
                </a:cubicBezTo>
                <a:cubicBezTo>
                  <a:pt x="99" y="15"/>
                  <a:pt x="128" y="21"/>
                  <a:pt x="101" y="55"/>
                </a:cubicBezTo>
                <a:cubicBezTo>
                  <a:pt x="87" y="73"/>
                  <a:pt x="59" y="74"/>
                  <a:pt x="39" y="78"/>
                </a:cubicBezTo>
                <a:cubicBezTo>
                  <a:pt x="31" y="86"/>
                  <a:pt x="21" y="92"/>
                  <a:pt x="16" y="101"/>
                </a:cubicBezTo>
                <a:cubicBezTo>
                  <a:pt x="8" y="115"/>
                  <a:pt x="0" y="148"/>
                  <a:pt x="0" y="148"/>
                </a:cubicBezTo>
                <a:cubicBezTo>
                  <a:pt x="3" y="158"/>
                  <a:pt x="0" y="172"/>
                  <a:pt x="8" y="179"/>
                </a:cubicBezTo>
                <a:cubicBezTo>
                  <a:pt x="24" y="193"/>
                  <a:pt x="76" y="202"/>
                  <a:pt x="101" y="210"/>
                </a:cubicBezTo>
                <a:cubicBezTo>
                  <a:pt x="114" y="208"/>
                  <a:pt x="129" y="210"/>
                  <a:pt x="140" y="203"/>
                </a:cubicBezTo>
                <a:cubicBezTo>
                  <a:pt x="147" y="198"/>
                  <a:pt x="140" y="183"/>
                  <a:pt x="148" y="179"/>
                </a:cubicBezTo>
                <a:cubicBezTo>
                  <a:pt x="165" y="171"/>
                  <a:pt x="185" y="174"/>
                  <a:pt x="203" y="172"/>
                </a:cubicBezTo>
                <a:cubicBezTo>
                  <a:pt x="211" y="167"/>
                  <a:pt x="221" y="164"/>
                  <a:pt x="226" y="156"/>
                </a:cubicBezTo>
                <a:cubicBezTo>
                  <a:pt x="235" y="142"/>
                  <a:pt x="242" y="109"/>
                  <a:pt x="242" y="109"/>
                </a:cubicBezTo>
                <a:cubicBezTo>
                  <a:pt x="231" y="77"/>
                  <a:pt x="216" y="83"/>
                  <a:pt x="203" y="5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6240" y="358128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066680"/>
            <a:ext cx="8380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1828440" y="16002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295280" y="16002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600" y="20574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1447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25040" y="990720"/>
            <a:ext cx="82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34760" y="3276720"/>
            <a:ext cx="44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1880" y="27082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959440" y="3962520"/>
            <a:ext cx="1447920" cy="761760"/>
            <a:chOff x="5959440" y="3962520"/>
            <a:chExt cx="1447920" cy="761760"/>
          </a:xfrm>
        </p:grpSpPr>
        <p:sp>
          <p:nvSpPr>
            <p:cNvPr id="72" name=""/>
            <p:cNvSpPr/>
            <p:nvPr/>
          </p:nvSpPr>
          <p:spPr>
            <a:xfrm>
              <a:off x="5959440" y="3962520"/>
              <a:ext cx="121932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78760" y="419112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59440" y="3962520"/>
              <a:ext cx="15228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416560" y="316548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78560" y="36576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07360" y="2819520"/>
            <a:ext cx="9144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07360" y="42670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940520" y="37335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521560" y="2666880"/>
          <a:ext cx="3747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1560" y="2666880"/>
                    <a:ext cx="374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847840" y="34290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78040" y="22096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1160" y="449568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64320" y="38862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4419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3047760" y="3200040"/>
            <a:ext cx="804600" cy="108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33800" y="44197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0" y="3476520"/>
            <a:ext cx="26208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3505320"/>
            <a:ext cx="5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200400" y="297180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1460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91440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671640" y="4184640"/>
            <a:ext cx="385560" cy="26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194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14720" y="413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5360" y="2286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Model – Singl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9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991520" y="2073600"/>
            <a:ext cx="1331640" cy="1441080"/>
            <a:chOff x="1991520" y="2073600"/>
            <a:chExt cx="1331640" cy="1441080"/>
          </a:xfrm>
        </p:grpSpPr>
        <p:sp>
          <p:nvSpPr>
            <p:cNvPr id="100" name=""/>
            <p:cNvSpPr/>
            <p:nvPr/>
          </p:nvSpPr>
          <p:spPr>
            <a:xfrm rot="14047200">
              <a:off x="2047680" y="2416320"/>
              <a:ext cx="121932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4047200">
              <a:off x="2088000" y="211896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4047200">
              <a:off x="2893680" y="2848680"/>
              <a:ext cx="15228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299040" y="1370880"/>
            <a:ext cx="2177640" cy="324000"/>
            <a:chOff x="3299040" y="1370880"/>
            <a:chExt cx="2177640" cy="324000"/>
          </a:xfrm>
        </p:grpSpPr>
        <p:grpSp>
          <p:nvGrpSpPr>
            <p:cNvPr id="104" name=""/>
            <p:cNvGrpSpPr/>
            <p:nvPr/>
          </p:nvGrpSpPr>
          <p:grpSpPr>
            <a:xfrm>
              <a:off x="3299040" y="1370880"/>
              <a:ext cx="866520" cy="314280"/>
              <a:chOff x="3299040" y="1370880"/>
              <a:chExt cx="866520" cy="31428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3299040" y="13705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3727800" y="13806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186440" y="1380600"/>
              <a:ext cx="866520" cy="314280"/>
              <a:chOff x="4186440" y="1380600"/>
              <a:chExt cx="866520" cy="314280"/>
            </a:xfrm>
          </p:grpSpPr>
          <p:sp>
            <p:nvSpPr>
              <p:cNvPr id="108" name=""/>
              <p:cNvSpPr/>
              <p:nvPr/>
            </p:nvSpPr>
            <p:spPr>
              <a:xfrm flipV="1">
                <a:off x="4186440" y="13802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4615200" y="13903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756240" y="1370880"/>
              <a:ext cx="866520" cy="314280"/>
              <a:chOff x="3756240" y="1370880"/>
              <a:chExt cx="866520" cy="314280"/>
            </a:xfrm>
          </p:grpSpPr>
          <p:sp>
            <p:nvSpPr>
              <p:cNvPr id="111" name=""/>
              <p:cNvSpPr/>
              <p:nvPr/>
            </p:nvSpPr>
            <p:spPr>
              <a:xfrm flipV="1">
                <a:off x="3756240" y="13705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>
                <a:off x="4185000" y="13806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610160" y="1377360"/>
              <a:ext cx="866520" cy="314280"/>
              <a:chOff x="4610160" y="1377360"/>
              <a:chExt cx="866520" cy="31428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4610160" y="137700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flipV="1">
                <a:off x="5038920" y="138708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457200" y="1219320"/>
            <a:ext cx="83808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828440" y="1752120"/>
            <a:ext cx="3049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295280" y="1752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600" y="2209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600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4720" y="1143000"/>
            <a:ext cx="82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097080"/>
            <a:ext cx="21744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41480" y="3200400"/>
            <a:ext cx="81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895480" y="4343400"/>
          <a:ext cx="460692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343400"/>
                    <a:ext cx="46069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837720" y="3200400"/>
            <a:ext cx="14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76212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6080" y="91440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sound gener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64040" y="3235320"/>
            <a:ext cx="21744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33640" y="3387600"/>
            <a:ext cx="21744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4640" y="3541680"/>
            <a:ext cx="21780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962440" y="3425400"/>
            <a:ext cx="626760" cy="4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5334120"/>
            <a:ext cx="5102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 area of the transmitting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5360" y="2286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Model – Singl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5943600"/>
          <a:ext cx="76176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943600"/>
                    <a:ext cx="7617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1805400" y="5908680"/>
            <a:ext cx="59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unction for pulser, cabling,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591720" y="1921320"/>
            <a:ext cx="1331640" cy="1441080"/>
            <a:chOff x="3591720" y="1921320"/>
            <a:chExt cx="1331640" cy="1441080"/>
          </a:xfrm>
        </p:grpSpPr>
        <p:sp>
          <p:nvSpPr>
            <p:cNvPr id="139" name=""/>
            <p:cNvSpPr/>
            <p:nvPr/>
          </p:nvSpPr>
          <p:spPr>
            <a:xfrm rot="14047200">
              <a:off x="3647880" y="2264040"/>
              <a:ext cx="121932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4047200">
              <a:off x="3688200" y="19666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4047200">
              <a:off x="4493880" y="2696400"/>
              <a:ext cx="15228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899240" y="1218960"/>
            <a:ext cx="2177640" cy="322560"/>
            <a:chOff x="4899240" y="1218960"/>
            <a:chExt cx="2177640" cy="322560"/>
          </a:xfrm>
        </p:grpSpPr>
        <p:grpSp>
          <p:nvGrpSpPr>
            <p:cNvPr id="143" name=""/>
            <p:cNvGrpSpPr/>
            <p:nvPr/>
          </p:nvGrpSpPr>
          <p:grpSpPr>
            <a:xfrm>
              <a:off x="4899240" y="1218960"/>
              <a:ext cx="866520" cy="313200"/>
              <a:chOff x="4899240" y="1218960"/>
              <a:chExt cx="866520" cy="313200"/>
            </a:xfrm>
          </p:grpSpPr>
          <p:sp>
            <p:nvSpPr>
              <p:cNvPr id="144" name=""/>
              <p:cNvSpPr/>
              <p:nvPr/>
            </p:nvSpPr>
            <p:spPr>
              <a:xfrm flipV="1">
                <a:off x="4899240" y="121860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5328000" y="122832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786640" y="1228320"/>
              <a:ext cx="866520" cy="313200"/>
              <a:chOff x="5786640" y="1228320"/>
              <a:chExt cx="866520" cy="31320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5786640" y="122796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flipV="1">
                <a:off x="6215400" y="123768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356440" y="1218960"/>
              <a:ext cx="866520" cy="313200"/>
              <a:chOff x="5356440" y="1218960"/>
              <a:chExt cx="866520" cy="313200"/>
            </a:xfrm>
          </p:grpSpPr>
          <p:sp>
            <p:nvSpPr>
              <p:cNvPr id="150" name=""/>
              <p:cNvSpPr/>
              <p:nvPr/>
            </p:nvSpPr>
            <p:spPr>
              <a:xfrm flipV="1">
                <a:off x="5356440" y="121860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5785200" y="122832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6210360" y="1225080"/>
              <a:ext cx="866520" cy="313200"/>
              <a:chOff x="6210360" y="1225080"/>
              <a:chExt cx="866520" cy="313200"/>
            </a:xfrm>
          </p:grpSpPr>
          <p:sp>
            <p:nvSpPr>
              <p:cNvPr id="153" name=""/>
              <p:cNvSpPr/>
              <p:nvPr/>
            </p:nvSpPr>
            <p:spPr>
              <a:xfrm flipV="1">
                <a:off x="6210360" y="122472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6639120" y="123444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5867280" y="4419720"/>
            <a:ext cx="384120" cy="333360"/>
          </a:xfrm>
          <a:custGeom>
            <a:avLst/>
            <a:gdLst/>
            <a:ahLst/>
            <a:rect l="l" t="t" r="r" b="b"/>
            <a:pathLst>
              <a:path w="242" h="210">
                <a:moveTo>
                  <a:pt x="203" y="55"/>
                </a:moveTo>
                <a:cubicBezTo>
                  <a:pt x="193" y="24"/>
                  <a:pt x="187" y="11"/>
                  <a:pt x="156" y="0"/>
                </a:cubicBezTo>
                <a:cubicBezTo>
                  <a:pt x="99" y="15"/>
                  <a:pt x="128" y="21"/>
                  <a:pt x="101" y="55"/>
                </a:cubicBezTo>
                <a:cubicBezTo>
                  <a:pt x="87" y="73"/>
                  <a:pt x="59" y="74"/>
                  <a:pt x="39" y="78"/>
                </a:cubicBezTo>
                <a:cubicBezTo>
                  <a:pt x="31" y="86"/>
                  <a:pt x="21" y="92"/>
                  <a:pt x="16" y="101"/>
                </a:cubicBezTo>
                <a:cubicBezTo>
                  <a:pt x="8" y="115"/>
                  <a:pt x="0" y="148"/>
                  <a:pt x="0" y="148"/>
                </a:cubicBezTo>
                <a:cubicBezTo>
                  <a:pt x="3" y="158"/>
                  <a:pt x="0" y="172"/>
                  <a:pt x="8" y="179"/>
                </a:cubicBezTo>
                <a:cubicBezTo>
                  <a:pt x="24" y="193"/>
                  <a:pt x="76" y="202"/>
                  <a:pt x="101" y="210"/>
                </a:cubicBezTo>
                <a:cubicBezTo>
                  <a:pt x="114" y="208"/>
                  <a:pt x="129" y="210"/>
                  <a:pt x="140" y="203"/>
                </a:cubicBezTo>
                <a:cubicBezTo>
                  <a:pt x="147" y="198"/>
                  <a:pt x="140" y="183"/>
                  <a:pt x="148" y="179"/>
                </a:cubicBezTo>
                <a:cubicBezTo>
                  <a:pt x="165" y="171"/>
                  <a:pt x="185" y="174"/>
                  <a:pt x="203" y="172"/>
                </a:cubicBezTo>
                <a:cubicBezTo>
                  <a:pt x="211" y="167"/>
                  <a:pt x="221" y="164"/>
                  <a:pt x="226" y="156"/>
                </a:cubicBezTo>
                <a:cubicBezTo>
                  <a:pt x="235" y="142"/>
                  <a:pt x="242" y="109"/>
                  <a:pt x="242" y="109"/>
                </a:cubicBezTo>
                <a:cubicBezTo>
                  <a:pt x="231" y="77"/>
                  <a:pt x="216" y="83"/>
                  <a:pt x="203" y="5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9240" y="449568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1066680"/>
            <a:ext cx="8380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428640" y="16002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895480" y="16002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800" y="20574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1447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4720" y="1143000"/>
            <a:ext cx="82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403848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410080" y="38862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3526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886200" y="34290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371920" y="46782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3581280"/>
            <a:ext cx="129564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80680" y="4308480"/>
            <a:ext cx="44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2080" y="27082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55480" y="388620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76212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1814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araxial approximation, the beam produces a quasi-plane wave incident on the flaw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131920" y="6019920"/>
          <a:ext cx="431964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1920" y="6019920"/>
                    <a:ext cx="43196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019920" y="4572000"/>
            <a:ext cx="7452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50440" y="4572000"/>
            <a:ext cx="40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2819520"/>
            <a:ext cx="39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5360" y="2286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Model – Singl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90720" y="76212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5360" y="2286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Model – Singl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5360" y="2244600"/>
            <a:ext cx="384120" cy="333360"/>
          </a:xfrm>
          <a:custGeom>
            <a:avLst/>
            <a:gdLst/>
            <a:ahLst/>
            <a:rect l="l" t="t" r="r" b="b"/>
            <a:pathLst>
              <a:path w="242" h="210">
                <a:moveTo>
                  <a:pt x="203" y="55"/>
                </a:moveTo>
                <a:cubicBezTo>
                  <a:pt x="193" y="24"/>
                  <a:pt x="187" y="11"/>
                  <a:pt x="156" y="0"/>
                </a:cubicBezTo>
                <a:cubicBezTo>
                  <a:pt x="99" y="15"/>
                  <a:pt x="128" y="21"/>
                  <a:pt x="101" y="55"/>
                </a:cubicBezTo>
                <a:cubicBezTo>
                  <a:pt x="87" y="73"/>
                  <a:pt x="59" y="74"/>
                  <a:pt x="39" y="78"/>
                </a:cubicBezTo>
                <a:cubicBezTo>
                  <a:pt x="31" y="86"/>
                  <a:pt x="21" y="92"/>
                  <a:pt x="16" y="101"/>
                </a:cubicBezTo>
                <a:cubicBezTo>
                  <a:pt x="8" y="115"/>
                  <a:pt x="0" y="148"/>
                  <a:pt x="0" y="148"/>
                </a:cubicBezTo>
                <a:cubicBezTo>
                  <a:pt x="3" y="158"/>
                  <a:pt x="0" y="172"/>
                  <a:pt x="8" y="179"/>
                </a:cubicBezTo>
                <a:cubicBezTo>
                  <a:pt x="24" y="193"/>
                  <a:pt x="76" y="202"/>
                  <a:pt x="101" y="210"/>
                </a:cubicBezTo>
                <a:cubicBezTo>
                  <a:pt x="114" y="208"/>
                  <a:pt x="129" y="210"/>
                  <a:pt x="140" y="203"/>
                </a:cubicBezTo>
                <a:cubicBezTo>
                  <a:pt x="147" y="198"/>
                  <a:pt x="140" y="183"/>
                  <a:pt x="148" y="179"/>
                </a:cubicBezTo>
                <a:cubicBezTo>
                  <a:pt x="165" y="171"/>
                  <a:pt x="185" y="174"/>
                  <a:pt x="203" y="172"/>
                </a:cubicBezTo>
                <a:cubicBezTo>
                  <a:pt x="211" y="167"/>
                  <a:pt x="221" y="164"/>
                  <a:pt x="226" y="156"/>
                </a:cubicBezTo>
                <a:cubicBezTo>
                  <a:pt x="235" y="142"/>
                  <a:pt x="242" y="109"/>
                  <a:pt x="242" y="109"/>
                </a:cubicBezTo>
                <a:cubicBezTo>
                  <a:pt x="231" y="77"/>
                  <a:pt x="216" y="83"/>
                  <a:pt x="203" y="5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06760" y="186372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377800" y="171144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30440" y="1177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203720" y="2057400"/>
          <a:ext cx="4449600" cy="14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3720" y="2057400"/>
                    <a:ext cx="444960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23560" y="171144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341960" y="1143000"/>
          <a:ext cx="431784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1960" y="1143000"/>
                    <a:ext cx="43178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987640" y="2397240"/>
            <a:ext cx="7452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438280"/>
            <a:ext cx="41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133720" y="5715000"/>
          <a:ext cx="472428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5715000"/>
                    <a:ext cx="47242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 flipH="1">
            <a:off x="1233360" y="100476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789120" y="100476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384200" y="1322280"/>
            <a:ext cx="1663920" cy="11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6840" y="41148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129528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874880" y="4648320"/>
          <a:ext cx="6564240" cy="92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74880" y="4648320"/>
                    <a:ext cx="65642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65040" y="118440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75800" y="11430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1623960" y="818640"/>
            <a:ext cx="168480" cy="157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963360" y="149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268360" y="2514600"/>
            <a:ext cx="703440" cy="58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08080" y="1623960"/>
            <a:ext cx="1166760" cy="13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2133720"/>
            <a:ext cx="37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8168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3733920"/>
            <a:ext cx="446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raction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viation from a plane wa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914400" y="3894120"/>
          <a:ext cx="61308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94120"/>
                    <a:ext cx="61308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095880" y="5181480"/>
          <a:ext cx="211932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5181480"/>
                    <a:ext cx="211932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"/>
          <p:cNvGrpSpPr/>
          <p:nvPr/>
        </p:nvGrpSpPr>
        <p:grpSpPr>
          <a:xfrm>
            <a:off x="772560" y="778320"/>
            <a:ext cx="1331640" cy="1441080"/>
            <a:chOff x="772560" y="778320"/>
            <a:chExt cx="1331640" cy="1441080"/>
          </a:xfrm>
        </p:grpSpPr>
        <p:sp>
          <p:nvSpPr>
            <p:cNvPr id="217" name=""/>
            <p:cNvSpPr/>
            <p:nvPr/>
          </p:nvSpPr>
          <p:spPr>
            <a:xfrm rot="14047200">
              <a:off x="828720" y="1121040"/>
              <a:ext cx="121932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4047200">
              <a:off x="869040" y="8236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4047200">
              <a:off x="1674720" y="1553400"/>
              <a:ext cx="15228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308320" y="304560"/>
            <a:ext cx="2177640" cy="322560"/>
            <a:chOff x="2308320" y="304560"/>
            <a:chExt cx="2177640" cy="322560"/>
          </a:xfrm>
        </p:grpSpPr>
        <p:grpSp>
          <p:nvGrpSpPr>
            <p:cNvPr id="221" name=""/>
            <p:cNvGrpSpPr/>
            <p:nvPr/>
          </p:nvGrpSpPr>
          <p:grpSpPr>
            <a:xfrm>
              <a:off x="2308320" y="304560"/>
              <a:ext cx="866520" cy="313200"/>
              <a:chOff x="2308320" y="304560"/>
              <a:chExt cx="866520" cy="313200"/>
            </a:xfrm>
          </p:grpSpPr>
          <p:sp>
            <p:nvSpPr>
              <p:cNvPr id="222" name=""/>
              <p:cNvSpPr/>
              <p:nvPr/>
            </p:nvSpPr>
            <p:spPr>
              <a:xfrm flipV="1">
                <a:off x="2308320" y="30384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 flipV="1">
                <a:off x="2737080" y="31392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3195720" y="313920"/>
              <a:ext cx="866520" cy="313200"/>
              <a:chOff x="3195720" y="313920"/>
              <a:chExt cx="866520" cy="313200"/>
            </a:xfrm>
          </p:grpSpPr>
          <p:sp>
            <p:nvSpPr>
              <p:cNvPr id="225" name=""/>
              <p:cNvSpPr/>
              <p:nvPr/>
            </p:nvSpPr>
            <p:spPr>
              <a:xfrm flipV="1">
                <a:off x="3195720" y="31320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3624480" y="32328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765520" y="304560"/>
              <a:ext cx="866520" cy="313200"/>
              <a:chOff x="2765520" y="304560"/>
              <a:chExt cx="866520" cy="313200"/>
            </a:xfrm>
          </p:grpSpPr>
          <p:sp>
            <p:nvSpPr>
              <p:cNvPr id="228" name=""/>
              <p:cNvSpPr/>
              <p:nvPr/>
            </p:nvSpPr>
            <p:spPr>
              <a:xfrm flipV="1">
                <a:off x="2765520" y="30384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3194280" y="31392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619440" y="310680"/>
              <a:ext cx="866520" cy="313200"/>
              <a:chOff x="3619440" y="310680"/>
              <a:chExt cx="866520" cy="31320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619440" y="30996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4048200" y="32004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 flipH="1" flipV="1">
            <a:off x="609120" y="4572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1676520"/>
            <a:ext cx="39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581280" y="1143000"/>
          <a:ext cx="47246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1143000"/>
                    <a:ext cx="47246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3375000" y="2863800"/>
            <a:ext cx="384120" cy="333360"/>
          </a:xfrm>
          <a:custGeom>
            <a:avLst/>
            <a:gdLst/>
            <a:ahLst/>
            <a:rect l="l" t="t" r="r" b="b"/>
            <a:pathLst>
              <a:path w="242" h="210">
                <a:moveTo>
                  <a:pt x="203" y="55"/>
                </a:moveTo>
                <a:cubicBezTo>
                  <a:pt x="193" y="24"/>
                  <a:pt x="187" y="11"/>
                  <a:pt x="156" y="0"/>
                </a:cubicBezTo>
                <a:cubicBezTo>
                  <a:pt x="99" y="15"/>
                  <a:pt x="128" y="21"/>
                  <a:pt x="101" y="55"/>
                </a:cubicBezTo>
                <a:cubicBezTo>
                  <a:pt x="87" y="73"/>
                  <a:pt x="59" y="74"/>
                  <a:pt x="39" y="78"/>
                </a:cubicBezTo>
                <a:cubicBezTo>
                  <a:pt x="31" y="86"/>
                  <a:pt x="21" y="92"/>
                  <a:pt x="16" y="101"/>
                </a:cubicBezTo>
                <a:cubicBezTo>
                  <a:pt x="8" y="115"/>
                  <a:pt x="0" y="148"/>
                  <a:pt x="0" y="148"/>
                </a:cubicBezTo>
                <a:cubicBezTo>
                  <a:pt x="3" y="158"/>
                  <a:pt x="0" y="172"/>
                  <a:pt x="8" y="179"/>
                </a:cubicBezTo>
                <a:cubicBezTo>
                  <a:pt x="24" y="193"/>
                  <a:pt x="76" y="202"/>
                  <a:pt x="101" y="210"/>
                </a:cubicBezTo>
                <a:cubicBezTo>
                  <a:pt x="114" y="208"/>
                  <a:pt x="129" y="210"/>
                  <a:pt x="140" y="203"/>
                </a:cubicBezTo>
                <a:cubicBezTo>
                  <a:pt x="147" y="198"/>
                  <a:pt x="140" y="183"/>
                  <a:pt x="148" y="179"/>
                </a:cubicBezTo>
                <a:cubicBezTo>
                  <a:pt x="165" y="171"/>
                  <a:pt x="185" y="174"/>
                  <a:pt x="203" y="172"/>
                </a:cubicBezTo>
                <a:cubicBezTo>
                  <a:pt x="211" y="167"/>
                  <a:pt x="221" y="164"/>
                  <a:pt x="226" y="156"/>
                </a:cubicBezTo>
                <a:cubicBezTo>
                  <a:pt x="235" y="142"/>
                  <a:pt x="242" y="109"/>
                  <a:pt x="242" y="109"/>
                </a:cubicBezTo>
                <a:cubicBezTo>
                  <a:pt x="231" y="77"/>
                  <a:pt x="216" y="83"/>
                  <a:pt x="203" y="5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1904760" y="1905120"/>
            <a:ext cx="1663560" cy="11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213372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48160" y="2990880"/>
            <a:ext cx="7452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1981080"/>
            <a:ext cx="1222200" cy="141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085920" y="3048120"/>
            <a:ext cx="495000" cy="392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2209680"/>
            <a:ext cx="413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the diffraction coefficient, however, we can use a multi-Gaussian beam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33520" y="5591160"/>
          <a:ext cx="5333760" cy="126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5591160"/>
                    <a:ext cx="533376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2057400" y="2514600"/>
          <a:ext cx="334800" cy="54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2514600"/>
                    <a:ext cx="3348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276720" y="3200400"/>
          <a:ext cx="285480" cy="3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3200400"/>
                    <a:ext cx="2854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429000" y="2438280"/>
          <a:ext cx="1295280" cy="43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2438280"/>
                    <a:ext cx="1295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1447920" y="1447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523880" y="1336680"/>
            <a:ext cx="2257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708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895480" y="2286000"/>
            <a:ext cx="19051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3048120"/>
            <a:ext cx="384120" cy="333360"/>
          </a:xfrm>
          <a:custGeom>
            <a:avLst/>
            <a:gdLst/>
            <a:ahLst/>
            <a:rect l="l" t="t" r="r" b="b"/>
            <a:pathLst>
              <a:path w="242" h="210">
                <a:moveTo>
                  <a:pt x="203" y="55"/>
                </a:moveTo>
                <a:cubicBezTo>
                  <a:pt x="193" y="24"/>
                  <a:pt x="187" y="11"/>
                  <a:pt x="156" y="0"/>
                </a:cubicBezTo>
                <a:cubicBezTo>
                  <a:pt x="99" y="15"/>
                  <a:pt x="128" y="21"/>
                  <a:pt x="101" y="55"/>
                </a:cubicBezTo>
                <a:cubicBezTo>
                  <a:pt x="87" y="73"/>
                  <a:pt x="59" y="74"/>
                  <a:pt x="39" y="78"/>
                </a:cubicBezTo>
                <a:cubicBezTo>
                  <a:pt x="31" y="86"/>
                  <a:pt x="21" y="92"/>
                  <a:pt x="16" y="101"/>
                </a:cubicBezTo>
                <a:cubicBezTo>
                  <a:pt x="8" y="115"/>
                  <a:pt x="0" y="148"/>
                  <a:pt x="0" y="148"/>
                </a:cubicBezTo>
                <a:cubicBezTo>
                  <a:pt x="3" y="158"/>
                  <a:pt x="0" y="172"/>
                  <a:pt x="8" y="179"/>
                </a:cubicBezTo>
                <a:cubicBezTo>
                  <a:pt x="24" y="193"/>
                  <a:pt x="76" y="202"/>
                  <a:pt x="101" y="210"/>
                </a:cubicBezTo>
                <a:cubicBezTo>
                  <a:pt x="114" y="208"/>
                  <a:pt x="129" y="210"/>
                  <a:pt x="140" y="203"/>
                </a:cubicBezTo>
                <a:cubicBezTo>
                  <a:pt x="147" y="198"/>
                  <a:pt x="140" y="183"/>
                  <a:pt x="148" y="179"/>
                </a:cubicBezTo>
                <a:cubicBezTo>
                  <a:pt x="165" y="171"/>
                  <a:pt x="185" y="174"/>
                  <a:pt x="203" y="172"/>
                </a:cubicBezTo>
                <a:cubicBezTo>
                  <a:pt x="211" y="167"/>
                  <a:pt x="221" y="164"/>
                  <a:pt x="226" y="156"/>
                </a:cubicBezTo>
                <a:cubicBezTo>
                  <a:pt x="235" y="142"/>
                  <a:pt x="242" y="109"/>
                  <a:pt x="242" y="109"/>
                </a:cubicBezTo>
                <a:cubicBezTo>
                  <a:pt x="231" y="77"/>
                  <a:pt x="216" y="83"/>
                  <a:pt x="203" y="5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43400" y="2286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59092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3047760" y="22856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048120" y="38098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133360" y="18288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4120" y="266688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32767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21640" y="2971800"/>
            <a:ext cx="32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273400" y="4800600"/>
          <a:ext cx="45212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3400" y="4800600"/>
                    <a:ext cx="45212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0" name=""/>
          <p:cNvGrpSpPr/>
          <p:nvPr/>
        </p:nvGrpSpPr>
        <p:grpSpPr>
          <a:xfrm>
            <a:off x="4822920" y="1599480"/>
            <a:ext cx="2177640" cy="324000"/>
            <a:chOff x="4822920" y="1599480"/>
            <a:chExt cx="2177640" cy="324000"/>
          </a:xfrm>
        </p:grpSpPr>
        <p:grpSp>
          <p:nvGrpSpPr>
            <p:cNvPr id="271" name=""/>
            <p:cNvGrpSpPr/>
            <p:nvPr/>
          </p:nvGrpSpPr>
          <p:grpSpPr>
            <a:xfrm>
              <a:off x="4822920" y="1599480"/>
              <a:ext cx="866520" cy="314280"/>
              <a:chOff x="4822920" y="1599480"/>
              <a:chExt cx="866520" cy="31428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4822920" y="15991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5251680" y="16092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710320" y="1609200"/>
              <a:ext cx="866520" cy="314280"/>
              <a:chOff x="5710320" y="1609200"/>
              <a:chExt cx="866520" cy="31428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5710320" y="16088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6139080" y="16189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280120" y="1599480"/>
              <a:ext cx="866520" cy="314280"/>
              <a:chOff x="5280120" y="1599480"/>
              <a:chExt cx="866520" cy="314280"/>
            </a:xfrm>
          </p:grpSpPr>
          <p:sp>
            <p:nvSpPr>
              <p:cNvPr id="278" name=""/>
              <p:cNvSpPr/>
              <p:nvPr/>
            </p:nvSpPr>
            <p:spPr>
              <a:xfrm flipV="1">
                <a:off x="5280120" y="15991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5708880" y="16092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134040" y="1605960"/>
              <a:ext cx="866520" cy="314280"/>
              <a:chOff x="6134040" y="1605960"/>
              <a:chExt cx="866520" cy="31428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6134040" y="160560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flipV="1">
                <a:off x="6562800" y="161568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817920" y="879480"/>
            <a:ext cx="47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waves scattered from the f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76212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98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70280" y="36115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24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2057400"/>
            <a:ext cx="362160" cy="29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36640" y="1793880"/>
            <a:ext cx="85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62320" y="236232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3352680"/>
            <a:ext cx="390600" cy="20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38480" y="335268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00960" y="43848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far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05360" y="2286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Model – Singl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52680" y="3048120"/>
          <a:ext cx="28584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048120"/>
                    <a:ext cx="2858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1219320" y="6019920"/>
          <a:ext cx="1218960" cy="4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6019920"/>
                    <a:ext cx="12189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2642400" y="6060960"/>
            <a:ext cx="52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wave far-field scattering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990720" y="762120"/>
            <a:ext cx="7086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92360" y="224460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791320" y="3352680"/>
            <a:ext cx="1447200" cy="761760"/>
            <a:chOff x="5791320" y="3352680"/>
            <a:chExt cx="1447200" cy="761760"/>
          </a:xfrm>
        </p:grpSpPr>
        <p:sp>
          <p:nvSpPr>
            <p:cNvPr id="303" name=""/>
            <p:cNvSpPr/>
            <p:nvPr/>
          </p:nvSpPr>
          <p:spPr>
            <a:xfrm>
              <a:off x="5791320" y="3352680"/>
              <a:ext cx="121896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10280" y="3581280"/>
              <a:ext cx="228240" cy="228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91320" y="3352680"/>
              <a:ext cx="151920" cy="761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454120" y="3006720"/>
            <a:ext cx="384480" cy="333360"/>
          </a:xfrm>
          <a:custGeom>
            <a:avLst/>
            <a:gdLst/>
            <a:ahLst/>
            <a:rect l="l" t="t" r="r" b="b"/>
            <a:pathLst>
              <a:path w="242" h="210">
                <a:moveTo>
                  <a:pt x="203" y="55"/>
                </a:moveTo>
                <a:cubicBezTo>
                  <a:pt x="193" y="24"/>
                  <a:pt x="187" y="11"/>
                  <a:pt x="156" y="0"/>
                </a:cubicBezTo>
                <a:cubicBezTo>
                  <a:pt x="99" y="15"/>
                  <a:pt x="128" y="21"/>
                  <a:pt x="101" y="55"/>
                </a:cubicBezTo>
                <a:cubicBezTo>
                  <a:pt x="87" y="73"/>
                  <a:pt x="59" y="74"/>
                  <a:pt x="39" y="78"/>
                </a:cubicBezTo>
                <a:cubicBezTo>
                  <a:pt x="31" y="86"/>
                  <a:pt x="21" y="92"/>
                  <a:pt x="16" y="101"/>
                </a:cubicBezTo>
                <a:cubicBezTo>
                  <a:pt x="8" y="115"/>
                  <a:pt x="0" y="148"/>
                  <a:pt x="0" y="148"/>
                </a:cubicBezTo>
                <a:cubicBezTo>
                  <a:pt x="3" y="158"/>
                  <a:pt x="0" y="172"/>
                  <a:pt x="8" y="179"/>
                </a:cubicBezTo>
                <a:cubicBezTo>
                  <a:pt x="24" y="193"/>
                  <a:pt x="76" y="202"/>
                  <a:pt x="101" y="210"/>
                </a:cubicBezTo>
                <a:cubicBezTo>
                  <a:pt x="114" y="208"/>
                  <a:pt x="129" y="210"/>
                  <a:pt x="140" y="203"/>
                </a:cubicBezTo>
                <a:cubicBezTo>
                  <a:pt x="147" y="198"/>
                  <a:pt x="140" y="183"/>
                  <a:pt x="148" y="179"/>
                </a:cubicBezTo>
                <a:cubicBezTo>
                  <a:pt x="165" y="171"/>
                  <a:pt x="185" y="174"/>
                  <a:pt x="203" y="172"/>
                </a:cubicBezTo>
                <a:cubicBezTo>
                  <a:pt x="211" y="167"/>
                  <a:pt x="221" y="164"/>
                  <a:pt x="226" y="156"/>
                </a:cubicBezTo>
                <a:cubicBezTo>
                  <a:pt x="235" y="142"/>
                  <a:pt x="242" y="109"/>
                  <a:pt x="242" y="109"/>
                </a:cubicBezTo>
                <a:cubicBezTo>
                  <a:pt x="231" y="77"/>
                  <a:pt x="216" y="83"/>
                  <a:pt x="203" y="5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44840" y="315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139920" y="224424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39920" y="3844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387440" y="315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1844280" y="22442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844280" y="376884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929880" y="178740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1981080"/>
            <a:ext cx="473040" cy="416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51000" y="26258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82720" y="3159000"/>
            <a:ext cx="3108600" cy="65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07480" y="3276720"/>
            <a:ext cx="32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12000" y="251460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30481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438280" y="5181480"/>
          <a:ext cx="6019920" cy="9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5181480"/>
                    <a:ext cx="60199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162560" y="2514600"/>
            <a:ext cx="14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619440" y="1558800"/>
            <a:ext cx="2177640" cy="322560"/>
            <a:chOff x="3619440" y="1558800"/>
            <a:chExt cx="2177640" cy="322560"/>
          </a:xfrm>
        </p:grpSpPr>
        <p:grpSp>
          <p:nvGrpSpPr>
            <p:cNvPr id="324" name=""/>
            <p:cNvGrpSpPr/>
            <p:nvPr/>
          </p:nvGrpSpPr>
          <p:grpSpPr>
            <a:xfrm>
              <a:off x="3619440" y="1558800"/>
              <a:ext cx="866520" cy="313200"/>
              <a:chOff x="3619440" y="1558800"/>
              <a:chExt cx="866520" cy="313200"/>
            </a:xfrm>
          </p:grpSpPr>
          <p:sp>
            <p:nvSpPr>
              <p:cNvPr id="325" name=""/>
              <p:cNvSpPr/>
              <p:nvPr/>
            </p:nvSpPr>
            <p:spPr>
              <a:xfrm flipV="1">
                <a:off x="3619440" y="155844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4048200" y="156816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4506840" y="1568160"/>
              <a:ext cx="866520" cy="313200"/>
              <a:chOff x="4506840" y="1568160"/>
              <a:chExt cx="866520" cy="313200"/>
            </a:xfrm>
          </p:grpSpPr>
          <p:sp>
            <p:nvSpPr>
              <p:cNvPr id="328" name=""/>
              <p:cNvSpPr/>
              <p:nvPr/>
            </p:nvSpPr>
            <p:spPr>
              <a:xfrm flipV="1">
                <a:off x="4506840" y="156780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flipV="1">
                <a:off x="4935600" y="157752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4076640" y="1558800"/>
              <a:ext cx="866520" cy="313200"/>
              <a:chOff x="4076640" y="1558800"/>
              <a:chExt cx="866520" cy="31320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4076640" y="155844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flipV="1">
                <a:off x="4505400" y="156816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4930560" y="1564920"/>
              <a:ext cx="866520" cy="313200"/>
              <a:chOff x="4930560" y="1564920"/>
              <a:chExt cx="866520" cy="313200"/>
            </a:xfrm>
          </p:grpSpPr>
          <p:sp>
            <p:nvSpPr>
              <p:cNvPr id="334" name=""/>
              <p:cNvSpPr/>
              <p:nvPr/>
            </p:nvSpPr>
            <p:spPr>
              <a:xfrm flipV="1">
                <a:off x="4930560" y="156456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flipV="1">
                <a:off x="5359320" y="157428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15760" y="879480"/>
            <a:ext cx="63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consider the scattered waves at the rece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94080" y="3481560"/>
            <a:ext cx="592200" cy="12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05200" y="318924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80200" y="472428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ed for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93880" y="3151080"/>
            <a:ext cx="3097440" cy="96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43200" y="3124080"/>
            <a:ext cx="3002040" cy="24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22096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05360" y="2286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Model – Singl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367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4T22:16:51Z</dcterms:created>
  <dc:creator>Les Schmerr</dc:creator>
  <dc:description/>
  <dc:language>en-US</dc:language>
  <cp:lastModifiedBy>Lester Schmerr</cp:lastModifiedBy>
  <dcterms:modified xsi:type="dcterms:W3CDTF">2007-01-03T21:03:34Z</dcterms:modified>
  <cp:revision>28</cp:revision>
  <dc:subject/>
  <dc:title>No Slide Title</dc:title>
</cp:coreProperties>
</file>