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259-8198-4936-8D6D-CFE51D14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FD5-F170-46F5-B831-AF626CCC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47A-FBBE-44A8-96B6-215BC90C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014-2BA0-4B0A-B755-3279CD7C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BBE-7861-44C7-A95C-E6822F0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659-2B84-4269-8CB5-1E237FDA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DCC-5333-4F52-A955-B400EB7E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3FA-0AE6-4F54-9B1F-B546CFF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DBC-D1C0-4344-9301-1E00B5C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B86-0057-4CD7-B6AE-3D143F44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CF6-13B0-402F-B04A-2A7FE9F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999-3D9A-4495-9F31-FE5D36C2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3EAF-0AA6-4EFB-9701-645E9582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3716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89548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Electrical and Acoust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Basic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12120" y="34596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ransfer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152388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152388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152388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82844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82844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144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7524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32080" y="8794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17524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9144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3152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1828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17524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7524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17524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14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4120" y="1981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2864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42864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3526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32280" y="27846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365760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281952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1055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780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209680" y="4889520"/>
          <a:ext cx="502920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889520"/>
                    <a:ext cx="50292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351440" y="498600"/>
            <a:ext cx="659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specify termination conditions at bo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of a two port system, we end up with a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s and outputs are rel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67040" y="2390400"/>
            <a:ext cx="1198080" cy="324000"/>
            <a:chOff x="3767040" y="2390400"/>
            <a:chExt cx="1198080" cy="324000"/>
          </a:xfrm>
        </p:grpSpPr>
        <p:grpSp>
          <p:nvGrpSpPr>
            <p:cNvPr id="363" name=""/>
            <p:cNvGrpSpPr/>
            <p:nvPr/>
          </p:nvGrpSpPr>
          <p:grpSpPr>
            <a:xfrm>
              <a:off x="3832200" y="2390400"/>
              <a:ext cx="1055880" cy="324000"/>
              <a:chOff x="3832200" y="2390400"/>
              <a:chExt cx="1055880" cy="324000"/>
            </a:xfrm>
          </p:grpSpPr>
          <p:sp>
            <p:nvSpPr>
              <p:cNvPr id="364" name=""/>
              <p:cNvSpPr/>
              <p:nvPr/>
            </p:nvSpPr>
            <p:spPr>
              <a:xfrm flipH="1">
                <a:off x="4530600" y="23968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335120" y="240336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132080" y="240984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3832200" y="254952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59480" y="2549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4417920" y="240300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4214520" y="241560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4062240" y="254268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4608360" y="239040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5400000">
              <a:off x="3767040" y="2511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4888800" y="2509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H="1">
            <a:off x="4973760" y="255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19560" y="369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02120" y="2817720"/>
            <a:ext cx="53316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51240" y="256536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352680" y="255600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71760" y="3693960"/>
            <a:ext cx="17906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3352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2743200"/>
            <a:ext cx="46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1120" y="1828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28954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61040" y="2512080"/>
            <a:ext cx="380880" cy="1222200"/>
            <a:chOff x="5261040" y="2512080"/>
            <a:chExt cx="380880" cy="1222200"/>
          </a:xfrm>
        </p:grpSpPr>
        <p:sp>
          <p:nvSpPr>
            <p:cNvPr id="386" name=""/>
            <p:cNvSpPr/>
            <p:nvPr/>
          </p:nvSpPr>
          <p:spPr>
            <a:xfrm flipV="1">
              <a:off x="5442120" y="319428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61040" y="3193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61040" y="3031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446800" y="254592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97480" y="251208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16560" y="365328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86728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27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20320" y="179388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0 (open circi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80040" y="270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81280" y="4495680"/>
            <a:ext cx="1981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27360" y="4384800"/>
            <a:ext cx="46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11680" y="505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44197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8006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934320" y="4800600"/>
            <a:ext cx="380880" cy="500040"/>
            <a:chOff x="6934320" y="4800600"/>
            <a:chExt cx="380880" cy="500040"/>
          </a:xfrm>
        </p:grpSpPr>
        <p:sp>
          <p:nvSpPr>
            <p:cNvPr id="403" name=""/>
            <p:cNvSpPr/>
            <p:nvPr/>
          </p:nvSpPr>
          <p:spPr>
            <a:xfrm>
              <a:off x="7073640" y="52261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34320" y="4800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48440" y="51624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118280" y="4990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11520" y="1905120"/>
            <a:ext cx="22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rmin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3672000" y="753840"/>
            <a:ext cx="1198080" cy="324000"/>
            <a:chOff x="3672000" y="753840"/>
            <a:chExt cx="1198080" cy="324000"/>
          </a:xfrm>
        </p:grpSpPr>
        <p:grpSp>
          <p:nvGrpSpPr>
            <p:cNvPr id="409" name=""/>
            <p:cNvGrpSpPr/>
            <p:nvPr/>
          </p:nvGrpSpPr>
          <p:grpSpPr>
            <a:xfrm>
              <a:off x="3737160" y="753840"/>
              <a:ext cx="1055880" cy="324000"/>
              <a:chOff x="3737160" y="753840"/>
              <a:chExt cx="1055880" cy="32400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4435560" y="76032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4240080" y="76680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037040" y="77328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3737160" y="91296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64440" y="912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4322880" y="7664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4119480" y="7790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3967200" y="90612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4513320" y="75384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rot="5400000">
              <a:off x="3672000" y="874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4793760" y="873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H="1">
            <a:off x="4878360" y="919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4520" y="2062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6720" y="1181160"/>
            <a:ext cx="53352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255480" y="928440"/>
            <a:ext cx="180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257280" y="9190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276720" y="2057400"/>
            <a:ext cx="17906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7640" y="1716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19200" y="1106640"/>
            <a:ext cx="46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95720" y="1922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1258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65640" y="875160"/>
            <a:ext cx="380880" cy="1221840"/>
            <a:chOff x="5165640" y="875160"/>
            <a:chExt cx="380880" cy="1221840"/>
          </a:xfrm>
        </p:grpSpPr>
        <p:sp>
          <p:nvSpPr>
            <p:cNvPr id="432" name=""/>
            <p:cNvSpPr/>
            <p:nvPr/>
          </p:nvSpPr>
          <p:spPr>
            <a:xfrm flipV="1">
              <a:off x="5346720" y="1557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65640" y="1556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5640" y="139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351400" y="909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02080" y="8751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1160" y="2016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772240" y="954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85000" y="10717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757600" y="2430360"/>
          <a:ext cx="25146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7600" y="2430360"/>
                    <a:ext cx="25146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1585800" y="4079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819520" y="4038480"/>
          <a:ext cx="2666880" cy="7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038480"/>
                    <a:ext cx="266688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762120" y="4952880"/>
            <a:ext cx="7696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is defined here in term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as the solution of this differential equation, i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590920" y="5943600"/>
          <a:ext cx="220968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943600"/>
                    <a:ext cx="22096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5408280" y="59436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linear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347120" y="574560"/>
            <a:ext cx="695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mportant class of these single input-outpu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linear time-shift invariant (LTI)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1905120"/>
            <a:ext cx="19814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98760" y="17938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83080" y="246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71600" y="3382920"/>
          <a:ext cx="205740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382920"/>
                    <a:ext cx="205740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838080" y="4897440"/>
          <a:ext cx="3200400" cy="110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97440"/>
                    <a:ext cx="320040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5562720" y="3962520"/>
          <a:ext cx="182880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962520"/>
                    <a:ext cx="18288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257800" y="4876920"/>
          <a:ext cx="259092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876920"/>
                    <a:ext cx="25909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518400" y="3317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2080" y="438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90400" y="3546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85480" y="4460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59240" y="61372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36920" y="568008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shift 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01920" y="345960"/>
            <a:ext cx="67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of LTI systems and the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1676520"/>
            <a:ext cx="1981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93840" y="15652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78520" y="223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57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79440" y="148896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03000" y="16416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429000"/>
            <a:ext cx="1981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46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93840" y="33177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78520" y="398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78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514600" y="4724280"/>
          <a:ext cx="29718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724280"/>
                    <a:ext cx="29718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4" name=""/>
          <p:cNvGrpSpPr/>
          <p:nvPr/>
        </p:nvGrpSpPr>
        <p:grpSpPr>
          <a:xfrm>
            <a:off x="5791320" y="4952880"/>
            <a:ext cx="380880" cy="500040"/>
            <a:chOff x="5791320" y="4952880"/>
            <a:chExt cx="380880" cy="500040"/>
          </a:xfrm>
        </p:grpSpPr>
        <p:sp>
          <p:nvSpPr>
            <p:cNvPr id="485" name=""/>
            <p:cNvSpPr/>
            <p:nvPr/>
          </p:nvSpPr>
          <p:spPr>
            <a:xfrm>
              <a:off x="5930640" y="537840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49528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05440" y="531468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975280" y="51429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789520" y="58672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74320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33920" y="609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36840" y="117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66920" y="2403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84720" y="1066680"/>
            <a:ext cx="3288960" cy="462240"/>
          </a:xfrm>
          <a:custGeom>
            <a:avLst/>
            <a:gdLst/>
            <a:ahLst/>
            <a:rect l="l" t="t" r="r" b="b"/>
            <a:pathLst>
              <a:path w="2072" h="292">
                <a:moveTo>
                  <a:pt x="0" y="103"/>
                </a:moveTo>
                <a:cubicBezTo>
                  <a:pt x="46" y="87"/>
                  <a:pt x="80" y="68"/>
                  <a:pt x="129" y="60"/>
                </a:cubicBezTo>
                <a:cubicBezTo>
                  <a:pt x="212" y="27"/>
                  <a:pt x="204" y="34"/>
                  <a:pt x="318" y="43"/>
                </a:cubicBezTo>
                <a:cubicBezTo>
                  <a:pt x="386" y="54"/>
                  <a:pt x="451" y="65"/>
                  <a:pt x="516" y="86"/>
                </a:cubicBezTo>
                <a:cubicBezTo>
                  <a:pt x="542" y="94"/>
                  <a:pt x="593" y="111"/>
                  <a:pt x="593" y="111"/>
                </a:cubicBezTo>
                <a:cubicBezTo>
                  <a:pt x="650" y="108"/>
                  <a:pt x="708" y="108"/>
                  <a:pt x="765" y="103"/>
                </a:cubicBezTo>
                <a:cubicBezTo>
                  <a:pt x="814" y="99"/>
                  <a:pt x="855" y="63"/>
                  <a:pt x="903" y="51"/>
                </a:cubicBezTo>
                <a:cubicBezTo>
                  <a:pt x="928" y="34"/>
                  <a:pt x="951" y="25"/>
                  <a:pt x="980" y="17"/>
                </a:cubicBezTo>
                <a:cubicBezTo>
                  <a:pt x="1003" y="11"/>
                  <a:pt x="1049" y="0"/>
                  <a:pt x="1049" y="0"/>
                </a:cubicBezTo>
                <a:cubicBezTo>
                  <a:pt x="1161" y="3"/>
                  <a:pt x="1272" y="3"/>
                  <a:pt x="1384" y="8"/>
                </a:cubicBezTo>
                <a:cubicBezTo>
                  <a:pt x="1440" y="11"/>
                  <a:pt x="1501" y="45"/>
                  <a:pt x="1556" y="60"/>
                </a:cubicBezTo>
                <a:cubicBezTo>
                  <a:pt x="1597" y="85"/>
                  <a:pt x="1649" y="117"/>
                  <a:pt x="1694" y="129"/>
                </a:cubicBezTo>
                <a:cubicBezTo>
                  <a:pt x="1758" y="173"/>
                  <a:pt x="1838" y="203"/>
                  <a:pt x="1909" y="232"/>
                </a:cubicBezTo>
                <a:cubicBezTo>
                  <a:pt x="1957" y="252"/>
                  <a:pt x="2017" y="292"/>
                  <a:pt x="2072" y="2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1066680"/>
            <a:ext cx="76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3809880" y="1066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609480"/>
            <a:ext cx="6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52320" y="262584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029200" y="838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715000" y="457200"/>
          <a:ext cx="213372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21337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6483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1055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486400" y="1371600"/>
          <a:ext cx="3808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371600"/>
                    <a:ext cx="3808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2590920" y="3352680"/>
          <a:ext cx="289548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352680"/>
                    <a:ext cx="2895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743200" y="4267080"/>
          <a:ext cx="3124080" cy="14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267080"/>
                    <a:ext cx="31240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5711040" y="320040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ty and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06480" y="4308480"/>
            <a:ext cx="15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2666880" y="762120"/>
          <a:ext cx="3581640" cy="30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762120"/>
                    <a:ext cx="35816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1737720" y="498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43000" y="42321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05320" y="4038480"/>
          <a:ext cx="312408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038480"/>
                    <a:ext cx="31240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1965960" y="522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581280" y="5181480"/>
          <a:ext cx="281952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5181480"/>
                    <a:ext cx="28195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743200" y="2514600"/>
          <a:ext cx="281952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819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6019920" y="2590920"/>
            <a:ext cx="380880" cy="500040"/>
            <a:chOff x="6019920" y="2590920"/>
            <a:chExt cx="380880" cy="500040"/>
          </a:xfrm>
        </p:grpSpPr>
        <p:sp>
          <p:nvSpPr>
            <p:cNvPr id="527" name=""/>
            <p:cNvSpPr/>
            <p:nvPr/>
          </p:nvSpPr>
          <p:spPr>
            <a:xfrm>
              <a:off x="6159240" y="301644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19920" y="25909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34040" y="295272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203880" y="27810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669680" y="3809880"/>
            <a:ext cx="54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in the frequency domain is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plex-valued) 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666880" y="380880"/>
          <a:ext cx="297180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0880"/>
                    <a:ext cx="29718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981080" y="6858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33760" y="700200"/>
            <a:ext cx="11430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6858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74720" y="1155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50040" y="117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114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4120" y="1143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86400" y="114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141560"/>
            <a:ext cx="39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5680" y="907920"/>
            <a:ext cx="90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14760" y="97164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1800" y="6094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22280" y="68580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371600" y="2209680"/>
          <a:ext cx="58672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5867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668840" y="1170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00600" y="1197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5680" y="3048120"/>
            <a:ext cx="82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quency components of the impulse respons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n LTI system are also called the transfer func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since this function "transfers" the inputs to the out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4419720"/>
            <a:ext cx="12193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81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10760" y="4495680"/>
            <a:ext cx="6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4520" y="4572000"/>
            <a:ext cx="8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920" y="457200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276720" y="5334120"/>
          <a:ext cx="1671480" cy="90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334120"/>
                    <a:ext cx="167148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429000" y="3200400"/>
            <a:ext cx="1600200" cy="19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1612800"/>
            <a:ext cx="1290600" cy="7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18000">
            <a:off x="2544480" y="3336840"/>
            <a:ext cx="76824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518000">
            <a:off x="3147840" y="3473280"/>
            <a:ext cx="1429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518000">
            <a:off x="2542680" y="3335040"/>
            <a:ext cx="771840" cy="423720"/>
          </a:xfrm>
          <a:custGeom>
            <a:avLst/>
            <a:gdLst/>
            <a:ahLst/>
            <a:rect l="l" t="t" r="r" b="b"/>
            <a:pathLst>
              <a:path w="531" h="311">
                <a:moveTo>
                  <a:pt x="0" y="0"/>
                </a:moveTo>
                <a:lnTo>
                  <a:pt x="531" y="0"/>
                </a:lnTo>
                <a:lnTo>
                  <a:pt x="531" y="0"/>
                </a:lnTo>
                <a:lnTo>
                  <a:pt x="531" y="311"/>
                </a:lnTo>
                <a:lnTo>
                  <a:pt x="531" y="311"/>
                </a:lnTo>
                <a:lnTo>
                  <a:pt x="0" y="311"/>
                </a:lnTo>
                <a:lnTo>
                  <a:pt x="0" y="31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54760" y="1682640"/>
            <a:ext cx="129060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277600" y="3294360"/>
            <a:ext cx="856080" cy="621720"/>
            <a:chOff x="5277600" y="3294360"/>
            <a:chExt cx="856080" cy="621720"/>
          </a:xfrm>
        </p:grpSpPr>
        <p:sp>
          <p:nvSpPr>
            <p:cNvPr id="568" name=""/>
            <p:cNvSpPr/>
            <p:nvPr/>
          </p:nvSpPr>
          <p:spPr>
            <a:xfrm rot="20532600">
              <a:off x="5321160" y="3401640"/>
              <a:ext cx="768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532600">
              <a:off x="5336280" y="3499200"/>
              <a:ext cx="13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532600">
              <a:off x="5321160" y="3401640"/>
              <a:ext cx="768600" cy="406440"/>
            </a:xfrm>
            <a:custGeom>
              <a:avLst/>
              <a:gdLst/>
              <a:ahLst/>
              <a:rect l="l" t="t" r="r" b="b"/>
              <a:pathLst>
                <a:path w="531" h="298">
                  <a:moveTo>
                    <a:pt x="53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531" y="298"/>
                  </a:lnTo>
                  <a:lnTo>
                    <a:pt x="531" y="298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532600">
              <a:off x="5336280" y="3499200"/>
              <a:ext cx="131760" cy="406440"/>
            </a:xfrm>
            <a:custGeom>
              <a:avLst/>
              <a:gdLst/>
              <a:ahLst/>
              <a:rect l="l" t="t" r="r" b="b"/>
              <a:pathLst>
                <a:path w="91" h="298">
                  <a:moveTo>
                    <a:pt x="9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91" y="298"/>
                  </a:lnTo>
                  <a:lnTo>
                    <a:pt x="91" y="29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527720" y="1149480"/>
            <a:ext cx="973080" cy="12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219564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40360" y="3817800"/>
            <a:ext cx="280800" cy="282600"/>
          </a:xfrm>
          <a:custGeom>
            <a:avLst/>
            <a:gdLst/>
            <a:ahLst/>
            <a:rect l="l" t="t" r="r" b="b"/>
            <a:pathLst>
              <a:path w="194" h="207">
                <a:moveTo>
                  <a:pt x="194" y="0"/>
                </a:moveTo>
                <a:lnTo>
                  <a:pt x="91" y="90"/>
                </a:lnTo>
                <a:lnTo>
                  <a:pt x="39" y="155"/>
                </a:lnTo>
                <a:lnTo>
                  <a:pt x="0" y="194"/>
                </a:lnTo>
                <a:lnTo>
                  <a:pt x="0" y="207"/>
                </a:lnTo>
                <a:lnTo>
                  <a:pt x="26" y="207"/>
                </a:lnTo>
                <a:lnTo>
                  <a:pt x="65" y="168"/>
                </a:lnTo>
                <a:lnTo>
                  <a:pt x="129" y="103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0360" y="3817800"/>
            <a:ext cx="280800" cy="282600"/>
          </a:xfrm>
          <a:custGeom>
            <a:avLst/>
            <a:gdLst/>
            <a:ahLst/>
            <a:rect l="l" t="t" r="r" b="b"/>
            <a:pathLst>
              <a:path w="194" h="207">
                <a:moveTo>
                  <a:pt x="194" y="0"/>
                </a:moveTo>
                <a:lnTo>
                  <a:pt x="91" y="90"/>
                </a:lnTo>
                <a:lnTo>
                  <a:pt x="91" y="90"/>
                </a:lnTo>
                <a:lnTo>
                  <a:pt x="39" y="155"/>
                </a:lnTo>
                <a:lnTo>
                  <a:pt x="39" y="155"/>
                </a:lnTo>
                <a:lnTo>
                  <a:pt x="0" y="194"/>
                </a:lnTo>
                <a:lnTo>
                  <a:pt x="0" y="194"/>
                </a:lnTo>
                <a:lnTo>
                  <a:pt x="0" y="207"/>
                </a:lnTo>
                <a:lnTo>
                  <a:pt x="0" y="207"/>
                </a:lnTo>
                <a:lnTo>
                  <a:pt x="26" y="207"/>
                </a:lnTo>
                <a:lnTo>
                  <a:pt x="26" y="207"/>
                </a:lnTo>
                <a:lnTo>
                  <a:pt x="65" y="168"/>
                </a:lnTo>
                <a:lnTo>
                  <a:pt x="65" y="168"/>
                </a:lnTo>
                <a:lnTo>
                  <a:pt x="129" y="103"/>
                </a:lnTo>
                <a:lnTo>
                  <a:pt x="129" y="103"/>
                </a:lnTo>
                <a:lnTo>
                  <a:pt x="194" y="0"/>
                </a:lnTo>
                <a:lnTo>
                  <a:pt x="19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89400" y="4065480"/>
            <a:ext cx="18720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2320" y="441972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5720" y="3352680"/>
            <a:ext cx="114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38320" y="365760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ransm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8800" y="255096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6480" y="28130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1240" y="3581280"/>
            <a:ext cx="114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0520" y="388620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eiv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58520" y="18493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86960" y="1920960"/>
            <a:ext cx="9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59840" y="76212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w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1780920" y="2987280"/>
            <a:ext cx="7635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781280" y="2354040"/>
            <a:ext cx="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699240" y="2419200"/>
            <a:ext cx="1116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084720" y="3271680"/>
            <a:ext cx="625680" cy="1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09840" y="3755880"/>
            <a:ext cx="486000" cy="19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724280" y="3733560"/>
            <a:ext cx="5828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352680" y="2590920"/>
            <a:ext cx="1801800" cy="409320"/>
            <a:chOff x="3352680" y="2590920"/>
            <a:chExt cx="1801800" cy="409320"/>
          </a:xfrm>
        </p:grpSpPr>
        <p:sp>
          <p:nvSpPr>
            <p:cNvPr id="594" name=""/>
            <p:cNvSpPr/>
            <p:nvPr/>
          </p:nvSpPr>
          <p:spPr>
            <a:xfrm>
              <a:off x="35049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335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621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907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193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47960" y="277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2680" y="259092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683240" y="1308240"/>
            <a:ext cx="635040" cy="64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02320" y="1647720"/>
            <a:ext cx="634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1447920"/>
            <a:ext cx="152280" cy="380880"/>
          </a:xfrm>
          <a:custGeom>
            <a:avLst/>
            <a:gdLst/>
            <a:ahLst/>
            <a:rect l="l" t="t" r="r" b="b"/>
            <a:pathLst>
              <a:path w="90" h="155">
                <a:moveTo>
                  <a:pt x="0" y="91"/>
                </a:moveTo>
                <a:lnTo>
                  <a:pt x="13" y="65"/>
                </a:lnTo>
                <a:lnTo>
                  <a:pt x="13" y="65"/>
                </a:lnTo>
                <a:lnTo>
                  <a:pt x="25" y="39"/>
                </a:lnTo>
                <a:lnTo>
                  <a:pt x="25" y="39"/>
                </a:lnTo>
                <a:lnTo>
                  <a:pt x="38" y="26"/>
                </a:lnTo>
                <a:lnTo>
                  <a:pt x="38" y="2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lnTo>
                  <a:pt x="51" y="26"/>
                </a:lnTo>
                <a:lnTo>
                  <a:pt x="51" y="26"/>
                </a:lnTo>
                <a:lnTo>
                  <a:pt x="51" y="52"/>
                </a:lnTo>
                <a:lnTo>
                  <a:pt x="51" y="52"/>
                </a:lnTo>
                <a:lnTo>
                  <a:pt x="51" y="52"/>
                </a:lnTo>
                <a:lnTo>
                  <a:pt x="51" y="52"/>
                </a:lnTo>
                <a:lnTo>
                  <a:pt x="51" y="65"/>
                </a:lnTo>
                <a:lnTo>
                  <a:pt x="51" y="65"/>
                </a:lnTo>
                <a:lnTo>
                  <a:pt x="51" y="91"/>
                </a:lnTo>
                <a:lnTo>
                  <a:pt x="51" y="91"/>
                </a:lnTo>
                <a:lnTo>
                  <a:pt x="51" y="91"/>
                </a:lnTo>
                <a:lnTo>
                  <a:pt x="51" y="91"/>
                </a:lnTo>
                <a:lnTo>
                  <a:pt x="64" y="116"/>
                </a:lnTo>
                <a:lnTo>
                  <a:pt x="64" y="116"/>
                </a:lnTo>
                <a:lnTo>
                  <a:pt x="64" y="155"/>
                </a:lnTo>
                <a:lnTo>
                  <a:pt x="64" y="155"/>
                </a:lnTo>
                <a:lnTo>
                  <a:pt x="64" y="155"/>
                </a:lnTo>
                <a:lnTo>
                  <a:pt x="64" y="155"/>
                </a:lnTo>
                <a:lnTo>
                  <a:pt x="77" y="129"/>
                </a:lnTo>
                <a:lnTo>
                  <a:pt x="77" y="129"/>
                </a:lnTo>
                <a:lnTo>
                  <a:pt x="77" y="91"/>
                </a:lnTo>
                <a:lnTo>
                  <a:pt x="77" y="91"/>
                </a:lnTo>
                <a:lnTo>
                  <a:pt x="77" y="91"/>
                </a:lnTo>
                <a:lnTo>
                  <a:pt x="77" y="91"/>
                </a:lnTo>
                <a:lnTo>
                  <a:pt x="90" y="91"/>
                </a:lnTo>
                <a:lnTo>
                  <a:pt x="90" y="91"/>
                </a:lnTo>
                <a:lnTo>
                  <a:pt x="90" y="7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36640" y="650880"/>
            <a:ext cx="88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1800" y="4038480"/>
            <a:ext cx="83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7880" y="2286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4400" y="44956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utput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76920" y="3962520"/>
            <a:ext cx="91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03360" y="44956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ce on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5627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562720" y="1295280"/>
            <a:ext cx="768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59840" y="1108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utpu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133720" y="5257800"/>
          <a:ext cx="441936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257800"/>
                    <a:ext cx="44193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 flipH="1">
            <a:off x="5105160" y="1143000"/>
            <a:ext cx="74772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7162920" y="6019920"/>
            <a:ext cx="380880" cy="500040"/>
            <a:chOff x="7162920" y="6019920"/>
            <a:chExt cx="380880" cy="500040"/>
          </a:xfrm>
        </p:grpSpPr>
        <p:sp>
          <p:nvSpPr>
            <p:cNvPr id="618" name=""/>
            <p:cNvSpPr/>
            <p:nvPr/>
          </p:nvSpPr>
          <p:spPr>
            <a:xfrm>
              <a:off x="7302240" y="644544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62920" y="60199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7040" y="638172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346880" y="62100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1040" y="457200"/>
            <a:ext cx="6058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 compressional waves in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motion/constituti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transfer matrix of a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nput-Single Outpu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I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, transf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/ de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e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048120" y="2133720"/>
          <a:ext cx="228600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33720"/>
                    <a:ext cx="228600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1517040" y="914400"/>
            <a:ext cx="57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nvolution in the frequency domain is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plex-valued) division … but it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ne wi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791320" y="2438280"/>
            <a:ext cx="380880" cy="500040"/>
            <a:chOff x="5791320" y="2438280"/>
            <a:chExt cx="380880" cy="500040"/>
          </a:xfrm>
        </p:grpSpPr>
        <p:sp>
          <p:nvSpPr>
            <p:cNvPr id="626" name=""/>
            <p:cNvSpPr/>
            <p:nvPr/>
          </p:nvSpPr>
          <p:spPr>
            <a:xfrm>
              <a:off x="5930640" y="286380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91320" y="24382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05440" y="280008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975280" y="26283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955960" y="34596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25840" y="3505320"/>
            <a:ext cx="75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, a Wiener filter is used in ultrasonic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ensitize the division process to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447920" y="4419720"/>
          <a:ext cx="4572000" cy="12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19720"/>
                    <a:ext cx="45720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 flipV="1">
            <a:off x="388620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5200" y="6095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"noise"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634800" y="4419720"/>
            <a:ext cx="18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77120" y="5410080"/>
          <a:ext cx="236196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5410080"/>
                    <a:ext cx="23619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38080" y="609480"/>
            <a:ext cx="78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ier to see the Wiener filter if we rewrite the deconvolution in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101600" y="1409760"/>
          <a:ext cx="541836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409760"/>
                    <a:ext cx="541836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3200400" y="4038480"/>
          <a:ext cx="4419720" cy="12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44197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1204560" y="438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81680" y="5527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e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78360" y="228600"/>
            <a:ext cx="63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example showing effects of choice o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066680" y="1295280"/>
            <a:ext cx="4572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f = linspace(0, 10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I= f.*(f&lt;5) +(10-f).*(f&gt;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e =.0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W = I.^2./(I.^2 + e^2*max(I.^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, 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hol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e= .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W = I.^2./(I.^2 + e^2*max(I.^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, W,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 frequency, f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 W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hold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962520" cy="27860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487840" y="4191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02600" y="3809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5409720" y="34286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6248520" y="3505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962520" cy="27860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4557600" y="1641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52680" y="43084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90960" y="598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7080" y="304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205680" y="942480"/>
            <a:ext cx="1198080" cy="324000"/>
            <a:chOff x="6205680" y="942480"/>
            <a:chExt cx="1198080" cy="324000"/>
          </a:xfrm>
        </p:grpSpPr>
        <p:grpSp>
          <p:nvGrpSpPr>
            <p:cNvPr id="46" name=""/>
            <p:cNvGrpSpPr/>
            <p:nvPr/>
          </p:nvGrpSpPr>
          <p:grpSpPr>
            <a:xfrm>
              <a:off x="6270840" y="942480"/>
              <a:ext cx="1055880" cy="324000"/>
              <a:chOff x="6270840" y="942480"/>
              <a:chExt cx="1055880" cy="32400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6969240" y="94896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6773760" y="95544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6570720" y="961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270840" y="11016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98120" y="1101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6856560" y="9550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6653160" y="9676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6500880" y="109476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047000" y="94248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rot="5400000">
              <a:off x="6205680" y="1063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7327440" y="10616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>
            <a:off x="7412040" y="110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8200" y="225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40400" y="1370160"/>
            <a:ext cx="533520" cy="54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789160" y="111744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790960" y="11080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810400" y="2238480"/>
            <a:ext cx="17906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905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1295280"/>
            <a:ext cx="46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80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447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699320" y="1064160"/>
            <a:ext cx="380880" cy="1221840"/>
            <a:chOff x="7699320" y="1064160"/>
            <a:chExt cx="380880" cy="1221840"/>
          </a:xfrm>
        </p:grpSpPr>
        <p:sp>
          <p:nvSpPr>
            <p:cNvPr id="69" name=""/>
            <p:cNvSpPr/>
            <p:nvPr/>
          </p:nvSpPr>
          <p:spPr>
            <a:xfrm flipV="1">
              <a:off x="7880400" y="1746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99320" y="174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9320" y="1584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885080" y="1098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35760" y="10641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54840" y="2205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6200" y="10666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our simple system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600" y="24382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take off the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we are left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4440" y="3228480"/>
            <a:ext cx="1198080" cy="324000"/>
            <a:chOff x="5824440" y="3228480"/>
            <a:chExt cx="1198080" cy="324000"/>
          </a:xfrm>
        </p:grpSpPr>
        <p:grpSp>
          <p:nvGrpSpPr>
            <p:cNvPr id="78" name=""/>
            <p:cNvGrpSpPr/>
            <p:nvPr/>
          </p:nvGrpSpPr>
          <p:grpSpPr>
            <a:xfrm>
              <a:off x="5889600" y="3228480"/>
              <a:ext cx="1055880" cy="324000"/>
              <a:chOff x="5889600" y="3228480"/>
              <a:chExt cx="1055880" cy="324000"/>
            </a:xfrm>
          </p:grpSpPr>
          <p:sp>
            <p:nvSpPr>
              <p:cNvPr id="79" name=""/>
              <p:cNvSpPr/>
              <p:nvPr/>
            </p:nvSpPr>
            <p:spPr>
              <a:xfrm flipH="1">
                <a:off x="6588000" y="323496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392520" y="324144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189480" y="3247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889600" y="33876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16880" y="3387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6475320" y="32410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6271920" y="32536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6119640" y="338076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665760" y="322848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5400000">
              <a:off x="5824440" y="3349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6946200" y="33476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7031160" y="339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7696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39408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86040" y="4532400"/>
            <a:ext cx="17334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666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7339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318440" y="3350160"/>
            <a:ext cx="380880" cy="1221840"/>
            <a:chOff x="7318440" y="3350160"/>
            <a:chExt cx="380880" cy="1221840"/>
          </a:xfrm>
        </p:grpSpPr>
        <p:sp>
          <p:nvSpPr>
            <p:cNvPr id="97" name=""/>
            <p:cNvSpPr/>
            <p:nvPr/>
          </p:nvSpPr>
          <p:spPr>
            <a:xfrm flipV="1">
              <a:off x="7499520" y="4032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8440" y="4031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8440" y="3870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504200" y="3384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54880" y="33501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73960" y="4491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54680" y="434340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example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rt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257800"/>
            <a:ext cx="1447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04960" y="5410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4960" y="6227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86400" y="6230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89280" y="5400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2900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19920" y="5486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5527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4514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1760" y="46134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22840" y="468936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0280" y="5486400"/>
            <a:ext cx="381240" cy="500040"/>
            <a:chOff x="7010280" y="5486400"/>
            <a:chExt cx="381240" cy="500040"/>
          </a:xfrm>
        </p:grpSpPr>
        <p:sp>
          <p:nvSpPr>
            <p:cNvPr id="118" name=""/>
            <p:cNvSpPr/>
            <p:nvPr/>
          </p:nvSpPr>
          <p:spPr>
            <a:xfrm>
              <a:off x="7149960" y="591192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0280" y="54864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24760" y="584820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194600" y="56764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914400"/>
            <a:ext cx="1447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819160" y="106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19160" y="1884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00600" y="1887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03480" y="1057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838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106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3341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3840" y="11844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6880" y="11080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5960" y="2700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37040" y="34596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3280" y="25909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0400" y="2362320"/>
          <a:ext cx="30481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362320"/>
                    <a:ext cx="30481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133720" y="5486400"/>
            <a:ext cx="1447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0020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00200" y="64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1280" y="6459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84520" y="562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5238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1480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4880" y="57564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7560" y="56800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6640" y="48420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876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33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81480" y="5105520"/>
          <a:ext cx="32767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105520"/>
                    <a:ext cx="32767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16480" y="3774960"/>
            <a:ext cx="60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ely, we can express this two po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erms of an impedance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9880" y="1219320"/>
          <a:ext cx="5796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219320"/>
                    <a:ext cx="579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14600" y="5791320"/>
          <a:ext cx="53352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5791320"/>
                    <a:ext cx="533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38080" y="5638680"/>
          <a:ext cx="65534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638680"/>
                    <a:ext cx="655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447920" y="228600"/>
            <a:ext cx="5257800" cy="2133720"/>
            <a:chOff x="1447920" y="228600"/>
            <a:chExt cx="5257800" cy="2133720"/>
          </a:xfrm>
        </p:grpSpPr>
        <p:sp>
          <p:nvSpPr>
            <p:cNvPr id="161" name=""/>
            <p:cNvSpPr/>
            <p:nvPr/>
          </p:nvSpPr>
          <p:spPr>
            <a:xfrm>
              <a:off x="5334120" y="838080"/>
              <a:ext cx="137160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762120"/>
              <a:ext cx="137160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2680" y="914400"/>
              <a:ext cx="1447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819160" y="1066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819160" y="1884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800600" y="1887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3480" y="1057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5480" y="8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048120" y="1142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181480" y="1142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12193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1219320"/>
              <a:ext cx="50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71800" y="228600"/>
              <a:ext cx="38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920" y="8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04920"/>
              <a:ext cx="38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3809880" y="1219320"/>
            <a:ext cx="5796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1219320"/>
                      <a:ext cx="579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1523880" y="2666880"/>
            <a:ext cx="5257800" cy="2133720"/>
            <a:chOff x="1523880" y="2666880"/>
            <a:chExt cx="5257800" cy="2133720"/>
          </a:xfrm>
        </p:grpSpPr>
        <p:sp>
          <p:nvSpPr>
            <p:cNvPr id="179" name=""/>
            <p:cNvSpPr/>
            <p:nvPr/>
          </p:nvSpPr>
          <p:spPr>
            <a:xfrm>
              <a:off x="5410080" y="3276360"/>
              <a:ext cx="137160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3880" y="3200400"/>
              <a:ext cx="137160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28640" y="3352680"/>
              <a:ext cx="1447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120" y="3504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895120" y="4322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876560" y="4325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879440" y="3495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144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124080" y="3580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257440" y="3580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040" y="3657600"/>
              <a:ext cx="50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7760" y="2666880"/>
              <a:ext cx="38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2880" y="3276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2880" y="2743200"/>
              <a:ext cx="38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3885840" y="3657600"/>
            <a:ext cx="57960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5840" y="3657600"/>
                      <a:ext cx="579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"/>
          <p:cNvSpPr/>
          <p:nvPr/>
        </p:nvSpPr>
        <p:spPr>
          <a:xfrm>
            <a:off x="5634000" y="1089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23960" y="1036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4520" y="220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14720" y="193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200" y="351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57520" y="353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6520" y="2716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8720" y="25686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7120" y="11574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1560" y="35812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54880" y="491796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924680" y="5715000"/>
            <a:ext cx="381240" cy="500040"/>
            <a:chOff x="7924680" y="5715000"/>
            <a:chExt cx="381240" cy="500040"/>
          </a:xfrm>
        </p:grpSpPr>
        <p:sp>
          <p:nvSpPr>
            <p:cNvPr id="208" name=""/>
            <p:cNvSpPr/>
            <p:nvPr/>
          </p:nvSpPr>
          <p:spPr>
            <a:xfrm>
              <a:off x="8064360" y="614052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24680" y="57150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9160" y="607680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109000" y="59050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52604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4480" y="8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8240" y="31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0936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24880" y="304920"/>
            <a:ext cx="57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ipr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stems, the imped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ymmetric, i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3048120"/>
          <a:ext cx="3276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3276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1676520"/>
          <a:ext cx="121932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76520"/>
                    <a:ext cx="12193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600200" y="5334120"/>
            <a:ext cx="1447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6680" y="6303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7760" y="6307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1000" y="5477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5257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99072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5562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360" y="560376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94040" y="5527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4724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981080" y="563868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6386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762120" y="47242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76212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determinant of the transfer matrix is equal to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334120"/>
            <a:ext cx="1447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57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57800" y="6303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238880" y="6307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242120" y="5477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8148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772400" y="5562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32480" y="560376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85160" y="5527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4240" y="468936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5680" y="47656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952880" y="3048120"/>
          <a:ext cx="304812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048120"/>
                    <a:ext cx="30481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248520" y="5638680"/>
          <a:ext cx="5792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5638680"/>
                    <a:ext cx="579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800600" y="1752480"/>
          <a:ext cx="347652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1752480"/>
                    <a:ext cx="34765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58040" y="83808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between transfer matrix compon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 matrix components (reciproca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62320" y="1981080"/>
          <a:ext cx="408924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0892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191120" y="4343400"/>
          <a:ext cx="12189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343400"/>
                    <a:ext cx="1218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896200" y="434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653840" y="5745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 plane compressional wave in an elastic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57400" y="1219320"/>
            <a:ext cx="1066680" cy="1066680"/>
            <a:chOff x="2057400" y="1219320"/>
            <a:chExt cx="1066680" cy="1066680"/>
          </a:xfrm>
        </p:grpSpPr>
        <p:sp>
          <p:nvSpPr>
            <p:cNvPr id="264" name=""/>
            <p:cNvSpPr/>
            <p:nvPr/>
          </p:nvSpPr>
          <p:spPr>
            <a:xfrm>
              <a:off x="2057400" y="1219320"/>
              <a:ext cx="1066680" cy="10666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1960" y="1219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361960" y="2057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057400" y="2057400"/>
              <a:ext cx="30456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7180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7521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44144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433680" y="1295280"/>
          <a:ext cx="151776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3680" y="1295280"/>
                    <a:ext cx="15177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1351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324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588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46000" y="2654280"/>
          <a:ext cx="569916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2654280"/>
                    <a:ext cx="56991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886120" y="3705120"/>
          <a:ext cx="2000160" cy="9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6120" y="3705120"/>
                    <a:ext cx="20001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063800" y="47242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789200" y="5105520"/>
          <a:ext cx="2668680" cy="15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5105520"/>
                    <a:ext cx="26686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257800" y="5334120"/>
          <a:ext cx="2819520" cy="10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5334120"/>
                    <a:ext cx="281952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002640" y="392760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al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095880" y="1219320"/>
          <a:ext cx="44460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219320"/>
                    <a:ext cx="444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6627600" y="129528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124080" y="380880"/>
          <a:ext cx="236232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80880"/>
                    <a:ext cx="236232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752480" y="1447920"/>
          <a:ext cx="677088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447920"/>
                    <a:ext cx="67708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657600" y="3124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3124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80160" y="3089160"/>
            <a:ext cx="154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7086600" y="4267080"/>
          <a:ext cx="14335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267080"/>
                    <a:ext cx="1433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41169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29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3520" y="5029200"/>
          <a:ext cx="6248160" cy="9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5029200"/>
                    <a:ext cx="6248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304200" y="1752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28600" y="2057400"/>
          <a:ext cx="1295280" cy="42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057400"/>
                    <a:ext cx="12952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50480" y="11430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240" y="2438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1280" y="3733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v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010280" y="6172200"/>
          <a:ext cx="1676520" cy="5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6172200"/>
                    <a:ext cx="16765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1629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impedance of th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21:44:57Z</dcterms:created>
  <dc:creator>lschmerr</dc:creator>
  <dc:description/>
  <dc:language>en-US</dc:language>
  <cp:lastModifiedBy>Lester Schmerr</cp:lastModifiedBy>
  <dcterms:modified xsi:type="dcterms:W3CDTF">2006-12-20T21:07:03Z</dcterms:modified>
  <cp:revision>40</cp:revision>
  <dc:subject/>
  <dc:title>PowerPoint Presentation</dc:title>
</cp:coreProperties>
</file>