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0B76-2FFD-405F-ABB2-39293B6E7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51BD-DCC8-4705-86FD-CF7766616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C12A-32AA-4C5C-8232-B70EC97FA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350E-BF34-475C-8C1F-19BAFF212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6122-E66C-4648-8B82-01D1B82F6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4049-1EB4-4A6D-8DEF-BB3DBC5DA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C522-65BF-40B1-B630-029CA6008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AEAB-B6A7-4E8C-A84F-B7670F13A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0E54-2796-465E-B420-F33012CF7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FD63-D9A9-4FEB-B656-A023A12C7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C87B-E0FA-4D08-9B9B-DC92CAADB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2A06-9589-4231-8500-CD2B1E1F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44079-899A-459A-AC64-8B9B88AB9B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8120" y="1523880"/>
            <a:ext cx="2684520" cy="773280"/>
          </a:xfrm>
          <a:custGeom>
            <a:avLst/>
            <a:gdLst/>
            <a:ahLst/>
            <a:rect l="l" t="t" r="r" b="b"/>
            <a:pathLst>
              <a:path w="1691" h="487">
                <a:moveTo>
                  <a:pt x="0" y="257"/>
                </a:moveTo>
                <a:cubicBezTo>
                  <a:pt x="276" y="257"/>
                  <a:pt x="552" y="257"/>
                  <a:pt x="672" y="257"/>
                </a:cubicBezTo>
                <a:cubicBezTo>
                  <a:pt x="792" y="257"/>
                  <a:pt x="704" y="257"/>
                  <a:pt x="720" y="257"/>
                </a:cubicBezTo>
                <a:cubicBezTo>
                  <a:pt x="736" y="257"/>
                  <a:pt x="755" y="293"/>
                  <a:pt x="768" y="257"/>
                </a:cubicBezTo>
                <a:cubicBezTo>
                  <a:pt x="780" y="220"/>
                  <a:pt x="781" y="0"/>
                  <a:pt x="795" y="38"/>
                </a:cubicBezTo>
                <a:cubicBezTo>
                  <a:pt x="808" y="75"/>
                  <a:pt x="830" y="474"/>
                  <a:pt x="848" y="481"/>
                </a:cubicBezTo>
                <a:cubicBezTo>
                  <a:pt x="865" y="487"/>
                  <a:pt x="885" y="101"/>
                  <a:pt x="901" y="76"/>
                </a:cubicBezTo>
                <a:cubicBezTo>
                  <a:pt x="916" y="50"/>
                  <a:pt x="923" y="295"/>
                  <a:pt x="939" y="326"/>
                </a:cubicBezTo>
                <a:cubicBezTo>
                  <a:pt x="954" y="356"/>
                  <a:pt x="972" y="268"/>
                  <a:pt x="992" y="257"/>
                </a:cubicBezTo>
                <a:cubicBezTo>
                  <a:pt x="1011" y="245"/>
                  <a:pt x="939" y="257"/>
                  <a:pt x="1056" y="257"/>
                </a:cubicBezTo>
                <a:cubicBezTo>
                  <a:pt x="1172" y="257"/>
                  <a:pt x="1431" y="257"/>
                  <a:pt x="1691" y="257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739960" y="3505320"/>
            <a:ext cx="36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araxial Approxi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887640" y="2481120"/>
            <a:ext cx="357480" cy="911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41880" y="2322360"/>
            <a:ext cx="441360" cy="75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243320" y="3389400"/>
            <a:ext cx="1335240" cy="98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689360" y="310356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054320" y="2397240"/>
            <a:ext cx="344520" cy="82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421160" y="3249720"/>
            <a:ext cx="1371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808240" y="39974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30840" y="37688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807880" y="361620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,y,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4076640" y="1405800"/>
            <a:ext cx="2177640" cy="324000"/>
            <a:chOff x="4076640" y="1405800"/>
            <a:chExt cx="2177640" cy="324000"/>
          </a:xfrm>
        </p:grpSpPr>
        <p:grpSp>
          <p:nvGrpSpPr>
            <p:cNvPr id="162" name=""/>
            <p:cNvGrpSpPr/>
            <p:nvPr/>
          </p:nvGrpSpPr>
          <p:grpSpPr>
            <a:xfrm>
              <a:off x="4076640" y="1405800"/>
              <a:ext cx="866520" cy="314280"/>
              <a:chOff x="4076640" y="1405800"/>
              <a:chExt cx="866520" cy="314280"/>
            </a:xfrm>
          </p:grpSpPr>
          <p:sp>
            <p:nvSpPr>
              <p:cNvPr id="163" name=""/>
              <p:cNvSpPr/>
              <p:nvPr/>
            </p:nvSpPr>
            <p:spPr>
              <a:xfrm flipV="1">
                <a:off x="4076640" y="1405440"/>
                <a:ext cx="436680" cy="304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H="1" flipV="1">
                <a:off x="4505400" y="1415520"/>
                <a:ext cx="43740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4964040" y="1415520"/>
              <a:ext cx="866520" cy="314280"/>
              <a:chOff x="4964040" y="1415520"/>
              <a:chExt cx="866520" cy="314280"/>
            </a:xfrm>
          </p:grpSpPr>
          <p:sp>
            <p:nvSpPr>
              <p:cNvPr id="166" name=""/>
              <p:cNvSpPr/>
              <p:nvPr/>
            </p:nvSpPr>
            <p:spPr>
              <a:xfrm flipV="1">
                <a:off x="4964040" y="1415160"/>
                <a:ext cx="436680" cy="304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H="1" flipV="1">
                <a:off x="5392800" y="1425240"/>
                <a:ext cx="43740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533840" y="1405800"/>
              <a:ext cx="866520" cy="314280"/>
              <a:chOff x="4533840" y="1405800"/>
              <a:chExt cx="866520" cy="314280"/>
            </a:xfrm>
          </p:grpSpPr>
          <p:sp>
            <p:nvSpPr>
              <p:cNvPr id="169" name=""/>
              <p:cNvSpPr/>
              <p:nvPr/>
            </p:nvSpPr>
            <p:spPr>
              <a:xfrm flipV="1">
                <a:off x="4533840" y="1405440"/>
                <a:ext cx="436680" cy="304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 flipV="1">
                <a:off x="4962600" y="1415520"/>
                <a:ext cx="43740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5387760" y="1412280"/>
              <a:ext cx="866520" cy="314280"/>
              <a:chOff x="5387760" y="1412280"/>
              <a:chExt cx="866520" cy="314280"/>
            </a:xfrm>
          </p:grpSpPr>
          <p:sp>
            <p:nvSpPr>
              <p:cNvPr id="172" name=""/>
              <p:cNvSpPr/>
              <p:nvPr/>
            </p:nvSpPr>
            <p:spPr>
              <a:xfrm flipV="1">
                <a:off x="5387760" y="1411920"/>
                <a:ext cx="436680" cy="304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 flipV="1">
                <a:off x="5816520" y="1422000"/>
                <a:ext cx="43740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4" name=""/>
          <p:cNvGrpSpPr/>
          <p:nvPr/>
        </p:nvGrpSpPr>
        <p:grpSpPr>
          <a:xfrm>
            <a:off x="3653280" y="1667520"/>
            <a:ext cx="584640" cy="773640"/>
            <a:chOff x="3653280" y="1667520"/>
            <a:chExt cx="584640" cy="773640"/>
          </a:xfrm>
        </p:grpSpPr>
        <p:sp>
          <p:nvSpPr>
            <p:cNvPr id="175" name=""/>
            <p:cNvSpPr/>
            <p:nvPr/>
          </p:nvSpPr>
          <p:spPr>
            <a:xfrm rot="4260600">
              <a:off x="3614040" y="1846080"/>
              <a:ext cx="6494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4260600">
              <a:off x="3967920" y="2122560"/>
              <a:ext cx="130680" cy="387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 flipV="1">
            <a:off x="5257800" y="5258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942160" y="5943600"/>
            <a:ext cx="154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ra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341240" y="5791320"/>
            <a:ext cx="16408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a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92560" y="3692520"/>
            <a:ext cx="16639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45040" y="3616200"/>
            <a:ext cx="3430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901040" y="3768840"/>
            <a:ext cx="4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5045040" y="3387240"/>
            <a:ext cx="2286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57160" y="3006720"/>
            <a:ext cx="41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4435560" y="2625480"/>
            <a:ext cx="3808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78720" y="2228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4295880" y="21427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665960" y="1863720"/>
            <a:ext cx="38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054320" y="2397240"/>
            <a:ext cx="1652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699000" y="2606760"/>
            <a:ext cx="37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18040" y="2473200"/>
            <a:ext cx="1276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197680" y="2092320"/>
            <a:ext cx="7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055040" y="376884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3581280" y="5257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589840" y="5670720"/>
            <a:ext cx="172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e 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effic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3886200" y="5257800"/>
            <a:ext cx="1066680" cy="609120"/>
            <a:chOff x="3886200" y="5257800"/>
            <a:chExt cx="1066680" cy="609120"/>
          </a:xfrm>
        </p:grpSpPr>
        <p:sp>
          <p:nvSpPr>
            <p:cNvPr id="197" name=""/>
            <p:cNvSpPr/>
            <p:nvPr/>
          </p:nvSpPr>
          <p:spPr>
            <a:xfrm flipV="1">
              <a:off x="3886200" y="5257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886200" y="563868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952880" y="56386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 flipH="1">
            <a:off x="3978360" y="2971800"/>
            <a:ext cx="2894400" cy="198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87680" y="228600"/>
            <a:ext cx="36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e Paraxial Approxi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22360" y="685800"/>
            <a:ext cx="748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araxial approximation allows one to obtain diff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ion terms for many practical testing set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079640" y="4788000"/>
          <a:ext cx="6831000" cy="5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9640" y="4788000"/>
                    <a:ext cx="683100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 flipV="1">
            <a:off x="5257800" y="5638320"/>
            <a:ext cx="12286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486120" y="5640480"/>
            <a:ext cx="3240" cy="23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219320" y="5181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85080" y="556272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lo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066680" y="2362320"/>
            <a:ext cx="762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828800" y="2362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844640" y="2473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844640" y="2600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836720" y="2724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133720" y="236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752480" y="2743200"/>
            <a:ext cx="420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676520" y="2362320"/>
            <a:ext cx="1522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523080" y="457200"/>
            <a:ext cx="832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imitations of Beam Models based on the Paraxial Approxi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90720" y="259092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00200" y="1676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057400" y="2666880"/>
            <a:ext cx="9144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905120" y="2666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371960" y="2668680"/>
            <a:ext cx="456480" cy="760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663336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6633362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371600" y="2971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943960" y="1675800"/>
            <a:ext cx="9136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5410080" y="25909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477120" y="1752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808640" y="1565280"/>
            <a:ext cx="24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critical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109760" y="3048120"/>
            <a:ext cx="442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 where the surface curv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es rapidly over the beam wid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rot="19560600">
            <a:off x="7246440" y="1474560"/>
            <a:ext cx="68580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0880" y="4495680"/>
            <a:ext cx="6098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89680" y="5222880"/>
            <a:ext cx="393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locations too clos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lane  transducer or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tightly focused transduc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155600" y="477504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66680" y="449568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066680" y="487656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51814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248520" y="5181480"/>
            <a:ext cx="12189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334120" y="411480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390640" y="5680080"/>
            <a:ext cx="30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high refracted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4495680"/>
            <a:ext cx="60948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438280" y="4191120"/>
            <a:ext cx="9144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514600" y="4800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514600" y="449568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2514600" y="487656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117440" y="905040"/>
            <a:ext cx="625536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800" spc="-1" strike="noStrike">
                <a:solidFill>
                  <a:srgbClr val="009900"/>
                </a:solidFill>
                <a:latin typeface="Times New Roman"/>
              </a:rPr>
              <a:t>Learning Objec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oduction to the paraxial approximation and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ance in beam mo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762120" y="1828800"/>
            <a:ext cx="7454880" cy="2906640"/>
            <a:chOff x="762120" y="1828800"/>
            <a:chExt cx="7454880" cy="2906640"/>
          </a:xfrm>
        </p:grpSpPr>
        <p:sp>
          <p:nvSpPr>
            <p:cNvPr id="45" name=""/>
            <p:cNvSpPr/>
            <p:nvPr/>
          </p:nvSpPr>
          <p:spPr>
            <a:xfrm>
              <a:off x="762120" y="1830240"/>
              <a:ext cx="1473120" cy="28987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2190960" y="2695320"/>
              <a:ext cx="602604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2190960" y="2695320"/>
              <a:ext cx="601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142120" y="2695320"/>
              <a:ext cx="601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190960" y="3894120"/>
              <a:ext cx="60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8142120" y="3894120"/>
              <a:ext cx="60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192400" y="3846240"/>
              <a:ext cx="6013440" cy="889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576440" y="3108240"/>
              <a:ext cx="609840" cy="38088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194200" y="1828800"/>
              <a:ext cx="6013440" cy="8888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753480" y="838080"/>
            <a:ext cx="806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ransducer generates a complex beam of sound. Modeling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xity is a challenging ta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51520" y="5100480"/>
            <a:ext cx="825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deling computational burden can be reduced considerab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introducing approximations.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raxial approxi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of the most useful of those approximations.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87680" y="228600"/>
            <a:ext cx="36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e Paraxial Approxi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1490760"/>
            <a:ext cx="1432080" cy="21081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114640" y="1933560"/>
            <a:ext cx="6026040" cy="12142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114640" y="1933560"/>
            <a:ext cx="601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8065800" y="1933560"/>
            <a:ext cx="601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14640" y="3132000"/>
            <a:ext cx="6012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8065800" y="3132000"/>
            <a:ext cx="6012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116080" y="3084480"/>
            <a:ext cx="6013440" cy="5205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00120" y="2346480"/>
            <a:ext cx="609840" cy="380880"/>
          </a:xfrm>
          <a:prstGeom prst="rect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117880" y="1490760"/>
            <a:ext cx="6011640" cy="4651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23880" y="5105520"/>
            <a:ext cx="608040" cy="36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971800" y="4648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048120" y="5021280"/>
            <a:ext cx="914040" cy="456840"/>
            <a:chOff x="3048120" y="5021280"/>
            <a:chExt cx="914040" cy="456840"/>
          </a:xfrm>
        </p:grpSpPr>
        <p:sp>
          <p:nvSpPr>
            <p:cNvPr id="69" name=""/>
            <p:cNvSpPr/>
            <p:nvPr/>
          </p:nvSpPr>
          <p:spPr>
            <a:xfrm>
              <a:off x="3048120" y="5021280"/>
              <a:ext cx="914040" cy="230040"/>
            </a:xfrm>
            <a:custGeom>
              <a:avLst/>
              <a:gdLst/>
              <a:ahLst/>
              <a:rect l="l" t="t" r="r" b="b"/>
              <a:pathLst>
                <a:path w="376" h="360">
                  <a:moveTo>
                    <a:pt x="0" y="0"/>
                  </a:moveTo>
                  <a:cubicBezTo>
                    <a:pt x="25" y="8"/>
                    <a:pt x="41" y="39"/>
                    <a:pt x="68" y="48"/>
                  </a:cubicBezTo>
                  <a:cubicBezTo>
                    <a:pt x="98" y="58"/>
                    <a:pt x="130" y="66"/>
                    <a:pt x="160" y="76"/>
                  </a:cubicBezTo>
                  <a:cubicBezTo>
                    <a:pt x="173" y="96"/>
                    <a:pt x="159" y="104"/>
                    <a:pt x="152" y="124"/>
                  </a:cubicBezTo>
                  <a:cubicBezTo>
                    <a:pt x="161" y="151"/>
                    <a:pt x="209" y="150"/>
                    <a:pt x="232" y="152"/>
                  </a:cubicBezTo>
                  <a:cubicBezTo>
                    <a:pt x="261" y="162"/>
                    <a:pt x="251" y="153"/>
                    <a:pt x="264" y="172"/>
                  </a:cubicBezTo>
                  <a:cubicBezTo>
                    <a:pt x="261" y="200"/>
                    <a:pt x="266" y="213"/>
                    <a:pt x="244" y="228"/>
                  </a:cubicBezTo>
                  <a:cubicBezTo>
                    <a:pt x="241" y="238"/>
                    <a:pt x="230" y="256"/>
                    <a:pt x="240" y="268"/>
                  </a:cubicBezTo>
                  <a:cubicBezTo>
                    <a:pt x="269" y="301"/>
                    <a:pt x="325" y="297"/>
                    <a:pt x="360" y="320"/>
                  </a:cubicBezTo>
                  <a:cubicBezTo>
                    <a:pt x="365" y="334"/>
                    <a:pt x="376" y="345"/>
                    <a:pt x="376" y="36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3048120" y="5248440"/>
              <a:ext cx="914040" cy="229680"/>
            </a:xfrm>
            <a:custGeom>
              <a:avLst/>
              <a:gdLst/>
              <a:ahLst/>
              <a:rect l="l" t="t" r="r" b="b"/>
              <a:pathLst>
                <a:path w="376" h="360">
                  <a:moveTo>
                    <a:pt x="0" y="0"/>
                  </a:moveTo>
                  <a:cubicBezTo>
                    <a:pt x="25" y="8"/>
                    <a:pt x="41" y="39"/>
                    <a:pt x="68" y="48"/>
                  </a:cubicBezTo>
                  <a:cubicBezTo>
                    <a:pt x="98" y="58"/>
                    <a:pt x="130" y="66"/>
                    <a:pt x="160" y="76"/>
                  </a:cubicBezTo>
                  <a:cubicBezTo>
                    <a:pt x="173" y="96"/>
                    <a:pt x="159" y="104"/>
                    <a:pt x="152" y="124"/>
                  </a:cubicBezTo>
                  <a:cubicBezTo>
                    <a:pt x="161" y="151"/>
                    <a:pt x="209" y="150"/>
                    <a:pt x="232" y="152"/>
                  </a:cubicBezTo>
                  <a:cubicBezTo>
                    <a:pt x="261" y="162"/>
                    <a:pt x="251" y="153"/>
                    <a:pt x="264" y="172"/>
                  </a:cubicBezTo>
                  <a:cubicBezTo>
                    <a:pt x="261" y="200"/>
                    <a:pt x="266" y="213"/>
                    <a:pt x="244" y="228"/>
                  </a:cubicBezTo>
                  <a:cubicBezTo>
                    <a:pt x="241" y="238"/>
                    <a:pt x="230" y="256"/>
                    <a:pt x="240" y="268"/>
                  </a:cubicBezTo>
                  <a:cubicBezTo>
                    <a:pt x="269" y="301"/>
                    <a:pt x="325" y="297"/>
                    <a:pt x="360" y="320"/>
                  </a:cubicBezTo>
                  <a:cubicBezTo>
                    <a:pt x="365" y="334"/>
                    <a:pt x="376" y="345"/>
                    <a:pt x="376" y="36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887400" y="650880"/>
            <a:ext cx="761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araxial approximation models the transducer beam as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si-plane wave where most of the sound is propagating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59520" y="3774960"/>
            <a:ext cx="732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iven direction with an amplitude profile described by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ffraction correction ter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(x,y,z,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133720" y="525780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919560" y="4994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95480" y="5638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992160" y="6060960"/>
          <a:ext cx="4797360" cy="552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2160" y="6060960"/>
                    <a:ext cx="479736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3886200" y="54100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497480" y="5486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2133720" y="47239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35520" y="4572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587680" y="228600"/>
            <a:ext cx="36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e Paraxial Approxi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52578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5410080"/>
            <a:ext cx="420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33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124000" y="5452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43828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587680" y="228600"/>
            <a:ext cx="36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e Paraxial Approxi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65760" y="990720"/>
            <a:ext cx="820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llustrate the paraxial approximation in a simple  se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a spherical wave. Suppose that we are only interes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spherical wave field in the vicinity of a particular 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we will take as the z-axis (i.e. x,y &lt;&lt;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3124080" y="2819520"/>
            <a:ext cx="2359080" cy="1920240"/>
            <a:chOff x="3124080" y="2819520"/>
            <a:chExt cx="2359080" cy="1920240"/>
          </a:xfrm>
        </p:grpSpPr>
        <p:sp>
          <p:nvSpPr>
            <p:cNvPr id="92" name=""/>
            <p:cNvSpPr/>
            <p:nvPr/>
          </p:nvSpPr>
          <p:spPr>
            <a:xfrm>
              <a:off x="3124080" y="3139920"/>
              <a:ext cx="1676160" cy="1599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885840" y="3901680"/>
              <a:ext cx="7632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3962160" y="3139560"/>
              <a:ext cx="1143000" cy="76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166720" y="28195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flipV="1">
              <a:off x="3656880" y="3596760"/>
              <a:ext cx="22860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3809520" y="3978000"/>
              <a:ext cx="759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06760" y="3215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11680" y="4206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3962160" y="2986920"/>
              <a:ext cx="990720" cy="9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3962160" y="3292200"/>
              <a:ext cx="121932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02" name=""/>
          <p:cNvGraphicFramePr/>
          <p:nvPr/>
        </p:nvGraphicFramePr>
        <p:xfrm>
          <a:off x="2612880" y="4773600"/>
          <a:ext cx="3241800" cy="194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12880" y="4773600"/>
                    <a:ext cx="3241800" cy="19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587680" y="228600"/>
            <a:ext cx="36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e Paraxial Approxi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50840" y="7462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, si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3505320" y="762120"/>
          <a:ext cx="2077920" cy="22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762120"/>
                    <a:ext cx="207792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1052280" y="3032280"/>
            <a:ext cx="10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286000" y="3048120"/>
          <a:ext cx="1676520" cy="44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3048120"/>
                    <a:ext cx="167652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1067760" y="3809880"/>
            <a:ext cx="110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f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154240" y="3809880"/>
          <a:ext cx="6437160" cy="241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54240" y="3809880"/>
                    <a:ext cx="6437160" cy="24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457200" y="1371600"/>
            <a:ext cx="2359080" cy="1920960"/>
            <a:chOff x="457200" y="1371600"/>
            <a:chExt cx="2359080" cy="1920960"/>
          </a:xfrm>
        </p:grpSpPr>
        <p:sp>
          <p:nvSpPr>
            <p:cNvPr id="115" name=""/>
            <p:cNvSpPr/>
            <p:nvPr/>
          </p:nvSpPr>
          <p:spPr>
            <a:xfrm>
              <a:off x="457200" y="1692360"/>
              <a:ext cx="1676160" cy="1600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218960" y="2454120"/>
              <a:ext cx="7632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1295280" y="1692360"/>
              <a:ext cx="114300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499840" y="13716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 flipV="1">
              <a:off x="990000" y="2149560"/>
              <a:ext cx="2286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1142640" y="2530440"/>
              <a:ext cx="759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39880" y="1768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144800" y="27590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1295280" y="1539720"/>
              <a:ext cx="9907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1295280" y="1844280"/>
              <a:ext cx="12193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2587680" y="228600"/>
            <a:ext cx="36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e Paraxial Approxi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11440" y="1066680"/>
          <a:ext cx="6435720" cy="241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11440" y="1066680"/>
                    <a:ext cx="6435720" cy="24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369000" y="4114800"/>
            <a:ext cx="8518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that in obtaining this diffraction correction term we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d the amplitude part of the spherical wave to 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r ( r ~ z) while we approximated the phase to second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because terms neglected in the phase must not only be sm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respect to the terms retained but also must be small 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ect to 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f they are to be neglig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587680" y="228600"/>
            <a:ext cx="36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e Paraxial Approxi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25360" y="1260360"/>
            <a:ext cx="357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the wave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438280" y="1814400"/>
          <a:ext cx="350532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814400"/>
                    <a:ext cx="350532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1127880" y="293688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905120" y="2895480"/>
          <a:ext cx="3886200" cy="519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2895480"/>
                    <a:ext cx="388620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144080" y="38098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286000" y="3657600"/>
          <a:ext cx="3733920" cy="888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0" y="3657600"/>
                    <a:ext cx="373392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1203840" y="484200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assu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3352680" y="4648320"/>
          <a:ext cx="3632400" cy="965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52680" y="4648320"/>
                    <a:ext cx="363240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2971800" y="5638680"/>
          <a:ext cx="2971800" cy="897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5638680"/>
                    <a:ext cx="2971800" cy="8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1676520" y="594360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2743200" y="609480"/>
          <a:ext cx="2971800" cy="89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609480"/>
                    <a:ext cx="2971800" cy="8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2664000" y="175248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xial wave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2316240" y="3624120"/>
          <a:ext cx="306396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16240" y="3624120"/>
                    <a:ext cx="306396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1500840" y="2479680"/>
            <a:ext cx="611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paraxial approximation for a spherical 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tisfies this paraxial equation exact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99760" y="4917960"/>
            <a:ext cx="636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other solutions, such as Gaussian w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also satisfy this equation and form impor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ing blocks for modeling ultrasonic transdu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iation in complex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4T00:42:45Z</dcterms:created>
  <dc:creator>lschmerr</dc:creator>
  <dc:description/>
  <dc:language>en-US</dc:language>
  <cp:lastModifiedBy>Lester Schmerr</cp:lastModifiedBy>
  <dcterms:modified xsi:type="dcterms:W3CDTF">2007-01-03T20:46:18Z</dcterms:modified>
  <cp:revision>14</cp:revision>
  <dc:subject/>
  <dc:title>PowerPoint Presentation</dc:title>
</cp:coreProperties>
</file>