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695-EAB0-4EFC-8A71-A4748B72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DFC-CD9F-477F-B5D1-FC77D7E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C8E-86C8-4440-B4EB-5D752E78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48C-BF98-4D29-A6E2-A95BA5F9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503-3126-4ED4-8084-0224996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6F-A4DA-4F55-B485-D5FC8DA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A82-C545-4A4A-B681-429A9461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490-9106-4684-8EDE-7D16121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11A-9C25-41A2-BC19-1D0840E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F1A-B268-4086-99FB-3FA393C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01B-6679-4EEF-80FE-BC2070D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AC1-4301-4C26-BA24-2E56DC5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D70-C190-4601-96B4-DBB0E514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29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8.png"/><Relationship Id="rId33" Type="http://schemas.openxmlformats.org/officeDocument/2006/relationships/image" Target="../media/image28.png"/><Relationship Id="rId34" Type="http://schemas.openxmlformats.org/officeDocument/2006/relationships/image" Target="../media/image28.png"/><Relationship Id="rId35" Type="http://schemas.openxmlformats.org/officeDocument/2006/relationships/image" Target="../media/image28.png"/><Relationship Id="rId36" Type="http://schemas.openxmlformats.org/officeDocument/2006/relationships/image" Target="../media/image28.png"/><Relationship Id="rId37" Type="http://schemas.openxmlformats.org/officeDocument/2006/relationships/image" Target="../media/image28.png"/><Relationship Id="rId38" Type="http://schemas.openxmlformats.org/officeDocument/2006/relationships/image" Target="../media/image28.png"/><Relationship Id="rId39" Type="http://schemas.openxmlformats.org/officeDocument/2006/relationships/image" Target="../media/image28.png"/><Relationship Id="rId40" Type="http://schemas.openxmlformats.org/officeDocument/2006/relationships/image" Target="../media/image28.png"/><Relationship Id="rId41" Type="http://schemas.openxmlformats.org/officeDocument/2006/relationships/image" Target="../media/image29.png"/><Relationship Id="rId42" Type="http://schemas.openxmlformats.org/officeDocument/2006/relationships/image" Target="../media/image28.png"/><Relationship Id="rId43" Type="http://schemas.openxmlformats.org/officeDocument/2006/relationships/image" Target="../media/image28.png"/><Relationship Id="rId44" Type="http://schemas.openxmlformats.org/officeDocument/2006/relationships/image" Target="../media/image28.png"/><Relationship Id="rId45" Type="http://schemas.openxmlformats.org/officeDocument/2006/relationships/image" Target="../media/image28.png"/><Relationship Id="rId46" Type="http://schemas.openxmlformats.org/officeDocument/2006/relationships/image" Target="../media/image28.png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28.png"/><Relationship Id="rId50" Type="http://schemas.openxmlformats.org/officeDocument/2006/relationships/image" Target="../media/image28.png"/><Relationship Id="rId51" Type="http://schemas.openxmlformats.org/officeDocument/2006/relationships/image" Target="../media/image28.png"/><Relationship Id="rId52" Type="http://schemas.openxmlformats.org/officeDocument/2006/relationships/image" Target="../media/image28.png"/><Relationship Id="rId53" Type="http://schemas.openxmlformats.org/officeDocument/2006/relationships/image" Target="../media/image28.png"/><Relationship Id="rId54" Type="http://schemas.openxmlformats.org/officeDocument/2006/relationships/image" Target="../media/image28.png"/><Relationship Id="rId55" Type="http://schemas.openxmlformats.org/officeDocument/2006/relationships/image" Target="../media/image28.png"/><Relationship Id="rId56" Type="http://schemas.openxmlformats.org/officeDocument/2006/relationships/image" Target="../media/image28.png"/><Relationship Id="rId57" Type="http://schemas.openxmlformats.org/officeDocument/2006/relationships/image" Target="../media/image29.png"/><Relationship Id="rId58" Type="http://schemas.openxmlformats.org/officeDocument/2006/relationships/image" Target="../media/image29.png"/><Relationship Id="rId59" Type="http://schemas.openxmlformats.org/officeDocument/2006/relationships/image" Target="../media/image29.png"/><Relationship Id="rId60" Type="http://schemas.openxmlformats.org/officeDocument/2006/relationships/image" Target="../media/image28.png"/><Relationship Id="rId61" Type="http://schemas.openxmlformats.org/officeDocument/2006/relationships/image" Target="../media/image28.png"/><Relationship Id="rId62" Type="http://schemas.openxmlformats.org/officeDocument/2006/relationships/image" Target="../media/image28.png"/><Relationship Id="rId63" Type="http://schemas.openxmlformats.org/officeDocument/2006/relationships/image" Target="../media/image28.png"/><Relationship Id="rId64" Type="http://schemas.openxmlformats.org/officeDocument/2006/relationships/image" Target="../media/image28.png"/><Relationship Id="rId65" Type="http://schemas.openxmlformats.org/officeDocument/2006/relationships/image" Target="../media/image28.png"/><Relationship Id="rId66" Type="http://schemas.openxmlformats.org/officeDocument/2006/relationships/image" Target="../media/image28.png"/><Relationship Id="rId67" Type="http://schemas.openxmlformats.org/officeDocument/2006/relationships/image" Target="../media/image28.png"/><Relationship Id="rId68" Type="http://schemas.openxmlformats.org/officeDocument/2006/relationships/image" Target="../media/image28.png"/><Relationship Id="rId69" Type="http://schemas.openxmlformats.org/officeDocument/2006/relationships/image" Target="../media/image28.png"/><Relationship Id="rId70" Type="http://schemas.openxmlformats.org/officeDocument/2006/relationships/image" Target="../media/image28.png"/><Relationship Id="rId71" Type="http://schemas.openxmlformats.org/officeDocument/2006/relationships/image" Target="../media/image28.png"/><Relationship Id="rId72" Type="http://schemas.openxmlformats.org/officeDocument/2006/relationships/image" Target="../media/image28.png"/><Relationship Id="rId73" Type="http://schemas.openxmlformats.org/officeDocument/2006/relationships/image" Target="../media/image28.png"/><Relationship Id="rId74" Type="http://schemas.openxmlformats.org/officeDocument/2006/relationships/image" Target="../media/image28.png"/><Relationship Id="rId75" Type="http://schemas.openxmlformats.org/officeDocument/2006/relationships/image" Target="../media/image28.png"/><Relationship Id="rId76" Type="http://schemas.openxmlformats.org/officeDocument/2006/relationships/image" Target="../media/image28.png"/><Relationship Id="rId77" Type="http://schemas.openxmlformats.org/officeDocument/2006/relationships/image" Target="../media/image28.png"/><Relationship Id="rId78" Type="http://schemas.openxmlformats.org/officeDocument/2006/relationships/image" Target="../media/image28.png"/><Relationship Id="rId79" Type="http://schemas.openxmlformats.org/officeDocument/2006/relationships/image" Target="../media/image28.png"/><Relationship Id="rId80" Type="http://schemas.openxmlformats.org/officeDocument/2006/relationships/image" Target="../media/image28.png"/><Relationship Id="rId81" Type="http://schemas.openxmlformats.org/officeDocument/2006/relationships/image" Target="../media/image28.png"/><Relationship Id="rId82" Type="http://schemas.openxmlformats.org/officeDocument/2006/relationships/image" Target="../media/image28.png"/><Relationship Id="rId83" Type="http://schemas.openxmlformats.org/officeDocument/2006/relationships/image" Target="../media/image28.png"/><Relationship Id="rId84" Type="http://schemas.openxmlformats.org/officeDocument/2006/relationships/image" Target="../media/image28.png"/><Relationship Id="rId85" Type="http://schemas.openxmlformats.org/officeDocument/2006/relationships/image" Target="../media/image28.png"/><Relationship Id="rId86" Type="http://schemas.openxmlformats.org/officeDocument/2006/relationships/image" Target="../media/image28.png"/><Relationship Id="rId87" Type="http://schemas.openxmlformats.org/officeDocument/2006/relationships/image" Target="../media/image28.png"/><Relationship Id="rId88" Type="http://schemas.openxmlformats.org/officeDocument/2006/relationships/image" Target="../media/image28.png"/><Relationship Id="rId89" Type="http://schemas.openxmlformats.org/officeDocument/2006/relationships/image" Target="../media/image28.png"/><Relationship Id="rId90" Type="http://schemas.openxmlformats.org/officeDocument/2006/relationships/image" Target="../media/image28.png"/><Relationship Id="rId91" Type="http://schemas.openxmlformats.org/officeDocument/2006/relationships/image" Target="../media/image28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8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28.png"/><Relationship Id="rId98" Type="http://schemas.openxmlformats.org/officeDocument/2006/relationships/image" Target="../media/image28.png"/><Relationship Id="rId99" Type="http://schemas.openxmlformats.org/officeDocument/2006/relationships/image" Target="../media/image28.png"/><Relationship Id="rId100" Type="http://schemas.openxmlformats.org/officeDocument/2006/relationships/image" Target="../media/image28.png"/><Relationship Id="rId101" Type="http://schemas.openxmlformats.org/officeDocument/2006/relationships/image" Target="../media/image28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8.png"/><Relationship Id="rId105" Type="http://schemas.openxmlformats.org/officeDocument/2006/relationships/image" Target="../media/image28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28.png"/><Relationship Id="rId109" Type="http://schemas.openxmlformats.org/officeDocument/2006/relationships/image" Target="../media/image28.png"/><Relationship Id="rId110" Type="http://schemas.openxmlformats.org/officeDocument/2006/relationships/image" Target="../media/image28.png"/><Relationship Id="rId111" Type="http://schemas.openxmlformats.org/officeDocument/2006/relationships/image" Target="../media/image28.png"/><Relationship Id="rId112" Type="http://schemas.openxmlformats.org/officeDocument/2006/relationships/image" Target="../media/image28.png"/><Relationship Id="rId113" Type="http://schemas.openxmlformats.org/officeDocument/2006/relationships/image" Target="../media/image28.png"/><Relationship Id="rId114" Type="http://schemas.openxmlformats.org/officeDocument/2006/relationships/image" Target="../media/image28.png"/><Relationship Id="rId115" Type="http://schemas.openxmlformats.org/officeDocument/2006/relationships/image" Target="../media/image28.png"/><Relationship Id="rId116" Type="http://schemas.openxmlformats.org/officeDocument/2006/relationships/image" Target="../media/image28.png"/><Relationship Id="rId117" Type="http://schemas.openxmlformats.org/officeDocument/2006/relationships/image" Target="../media/image28.png"/><Relationship Id="rId118" Type="http://schemas.openxmlformats.org/officeDocument/2006/relationships/image" Target="../media/image28.png"/><Relationship Id="rId119" Type="http://schemas.openxmlformats.org/officeDocument/2006/relationships/image" Target="../media/image28.png"/><Relationship Id="rId120" Type="http://schemas.openxmlformats.org/officeDocument/2006/relationships/image" Target="../media/image28.png"/><Relationship Id="rId121" Type="http://schemas.openxmlformats.org/officeDocument/2006/relationships/image" Target="../media/image28.png"/><Relationship Id="rId122" Type="http://schemas.openxmlformats.org/officeDocument/2006/relationships/image" Target="../media/image28.png"/><Relationship Id="rId123" Type="http://schemas.openxmlformats.org/officeDocument/2006/relationships/image" Target="../media/image28.png"/><Relationship Id="rId124" Type="http://schemas.openxmlformats.org/officeDocument/2006/relationships/image" Target="../media/image28.png"/><Relationship Id="rId125" Type="http://schemas.openxmlformats.org/officeDocument/2006/relationships/image" Target="../media/image28.png"/><Relationship Id="rId126" Type="http://schemas.openxmlformats.org/officeDocument/2006/relationships/image" Target="../media/image28.png"/><Relationship Id="rId127" Type="http://schemas.openxmlformats.org/officeDocument/2006/relationships/image" Target="../media/image28.png"/><Relationship Id="rId128" Type="http://schemas.openxmlformats.org/officeDocument/2006/relationships/image" Target="../media/image28.png"/><Relationship Id="rId129" Type="http://schemas.openxmlformats.org/officeDocument/2006/relationships/image" Target="../media/image28.png"/><Relationship Id="rId130" Type="http://schemas.openxmlformats.org/officeDocument/2006/relationships/image" Target="../media/image28.png"/><Relationship Id="rId131" Type="http://schemas.openxmlformats.org/officeDocument/2006/relationships/image" Target="../media/image28.png"/><Relationship Id="rId132" Type="http://schemas.openxmlformats.org/officeDocument/2006/relationships/image" Target="../media/image28.png"/><Relationship Id="rId133" Type="http://schemas.openxmlformats.org/officeDocument/2006/relationships/image" Target="../media/image28.png"/><Relationship Id="rId134" Type="http://schemas.openxmlformats.org/officeDocument/2006/relationships/image" Target="../media/image28.png"/><Relationship Id="rId135" Type="http://schemas.openxmlformats.org/officeDocument/2006/relationships/image" Target="../media/image28.png"/><Relationship Id="rId136" Type="http://schemas.openxmlformats.org/officeDocument/2006/relationships/image" Target="../media/image28.png"/><Relationship Id="rId137" Type="http://schemas.openxmlformats.org/officeDocument/2006/relationships/image" Target="../media/image28.png"/><Relationship Id="rId138" Type="http://schemas.openxmlformats.org/officeDocument/2006/relationships/image" Target="../media/image28.png"/><Relationship Id="rId139" Type="http://schemas.openxmlformats.org/officeDocument/2006/relationships/image" Target="../media/image28.png"/><Relationship Id="rId140" Type="http://schemas.openxmlformats.org/officeDocument/2006/relationships/image" Target="../media/image28.png"/><Relationship Id="rId141" Type="http://schemas.openxmlformats.org/officeDocument/2006/relationships/image" Target="../media/image28.png"/><Relationship Id="rId142" Type="http://schemas.openxmlformats.org/officeDocument/2006/relationships/image" Target="../media/image28.png"/><Relationship Id="rId143" Type="http://schemas.openxmlformats.org/officeDocument/2006/relationships/image" Target="../media/image28.png"/><Relationship Id="rId144" Type="http://schemas.openxmlformats.org/officeDocument/2006/relationships/image" Target="../media/image28.png"/><Relationship Id="rId145" Type="http://schemas.openxmlformats.org/officeDocument/2006/relationships/image" Target="../media/image28.png"/><Relationship Id="rId146" Type="http://schemas.openxmlformats.org/officeDocument/2006/relationships/image" Target="../media/image28.png"/><Relationship Id="rId147" Type="http://schemas.openxmlformats.org/officeDocument/2006/relationships/image" Target="../media/image28.png"/><Relationship Id="rId148" Type="http://schemas.openxmlformats.org/officeDocument/2006/relationships/image" Target="../media/image28.png"/><Relationship Id="rId149" Type="http://schemas.openxmlformats.org/officeDocument/2006/relationships/image" Target="../media/image28.png"/><Relationship Id="rId150" Type="http://schemas.openxmlformats.org/officeDocument/2006/relationships/image" Target="../media/image28.png"/><Relationship Id="rId151" Type="http://schemas.openxmlformats.org/officeDocument/2006/relationships/image" Target="../media/image28.png"/><Relationship Id="rId152" Type="http://schemas.openxmlformats.org/officeDocument/2006/relationships/image" Target="../media/image28.png"/><Relationship Id="rId153" Type="http://schemas.openxmlformats.org/officeDocument/2006/relationships/image" Target="../media/image28.png"/><Relationship Id="rId154" Type="http://schemas.openxmlformats.org/officeDocument/2006/relationships/image" Target="../media/image28.png"/><Relationship Id="rId155" Type="http://schemas.openxmlformats.org/officeDocument/2006/relationships/image" Target="../media/image28.png"/><Relationship Id="rId156" Type="http://schemas.openxmlformats.org/officeDocument/2006/relationships/image" Target="../media/image28.png"/><Relationship Id="rId157" Type="http://schemas.openxmlformats.org/officeDocument/2006/relationships/image" Target="../media/image28.png"/><Relationship Id="rId158" Type="http://schemas.openxmlformats.org/officeDocument/2006/relationships/image" Target="../media/image28.png"/><Relationship Id="rId159" Type="http://schemas.openxmlformats.org/officeDocument/2006/relationships/image" Target="../media/image28.png"/><Relationship Id="rId160" Type="http://schemas.openxmlformats.org/officeDocument/2006/relationships/image" Target="../media/image28.png"/><Relationship Id="rId161" Type="http://schemas.openxmlformats.org/officeDocument/2006/relationships/image" Target="../media/image28.png"/><Relationship Id="rId162" Type="http://schemas.openxmlformats.org/officeDocument/2006/relationships/image" Target="../media/image28.png"/><Relationship Id="rId163" Type="http://schemas.openxmlformats.org/officeDocument/2006/relationships/image" Target="../media/image28.png"/><Relationship Id="rId164" Type="http://schemas.openxmlformats.org/officeDocument/2006/relationships/image" Target="../media/image28.png"/><Relationship Id="rId165" Type="http://schemas.openxmlformats.org/officeDocument/2006/relationships/image" Target="../media/image28.png"/><Relationship Id="rId166" Type="http://schemas.openxmlformats.org/officeDocument/2006/relationships/image" Target="../media/image28.png"/><Relationship Id="rId167" Type="http://schemas.openxmlformats.org/officeDocument/2006/relationships/image" Target="../media/image28.png"/><Relationship Id="rId168" Type="http://schemas.openxmlformats.org/officeDocument/2006/relationships/image" Target="../media/image28.png"/><Relationship Id="rId169" Type="http://schemas.openxmlformats.org/officeDocument/2006/relationships/image" Target="../media/image28.png"/><Relationship Id="rId170" Type="http://schemas.openxmlformats.org/officeDocument/2006/relationships/image" Target="../media/image28.png"/><Relationship Id="rId171" Type="http://schemas.openxmlformats.org/officeDocument/2006/relationships/image" Target="../media/image28.png"/><Relationship Id="rId172" Type="http://schemas.openxmlformats.org/officeDocument/2006/relationships/image" Target="../media/image28.png"/><Relationship Id="rId173" Type="http://schemas.openxmlformats.org/officeDocument/2006/relationships/image" Target="../media/image28.png"/><Relationship Id="rId174" Type="http://schemas.openxmlformats.org/officeDocument/2006/relationships/image" Target="../media/image28.png"/><Relationship Id="rId175" Type="http://schemas.openxmlformats.org/officeDocument/2006/relationships/image" Target="../media/image28.png"/><Relationship Id="rId176" Type="http://schemas.openxmlformats.org/officeDocument/2006/relationships/image" Target="../media/image28.png"/><Relationship Id="rId177" Type="http://schemas.openxmlformats.org/officeDocument/2006/relationships/image" Target="../media/image28.png"/><Relationship Id="rId178" Type="http://schemas.openxmlformats.org/officeDocument/2006/relationships/image" Target="../media/image28.png"/><Relationship Id="rId179" Type="http://schemas.openxmlformats.org/officeDocument/2006/relationships/image" Target="../media/image28.png"/><Relationship Id="rId180" Type="http://schemas.openxmlformats.org/officeDocument/2006/relationships/image" Target="../media/image28.png"/><Relationship Id="rId181" Type="http://schemas.openxmlformats.org/officeDocument/2006/relationships/image" Target="../media/image28.png"/><Relationship Id="rId182" Type="http://schemas.openxmlformats.org/officeDocument/2006/relationships/image" Target="../media/image28.png"/><Relationship Id="rId183" Type="http://schemas.openxmlformats.org/officeDocument/2006/relationships/image" Target="../media/image28.png"/><Relationship Id="rId184" Type="http://schemas.openxmlformats.org/officeDocument/2006/relationships/image" Target="../media/image28.png"/><Relationship Id="rId185" Type="http://schemas.openxmlformats.org/officeDocument/2006/relationships/image" Target="../media/image28.png"/><Relationship Id="rId186" Type="http://schemas.openxmlformats.org/officeDocument/2006/relationships/image" Target="../media/image28.png"/><Relationship Id="rId187" Type="http://schemas.openxmlformats.org/officeDocument/2006/relationships/image" Target="../media/image28.png"/><Relationship Id="rId188" Type="http://schemas.openxmlformats.org/officeDocument/2006/relationships/image" Target="../media/image28.png"/><Relationship Id="rId189" Type="http://schemas.openxmlformats.org/officeDocument/2006/relationships/image" Target="../media/image28.png"/><Relationship Id="rId190" Type="http://schemas.openxmlformats.org/officeDocument/2006/relationships/image" Target="../media/image28.png"/><Relationship Id="rId191" Type="http://schemas.openxmlformats.org/officeDocument/2006/relationships/image" Target="../media/image28.png"/><Relationship Id="rId192" Type="http://schemas.openxmlformats.org/officeDocument/2006/relationships/image" Target="../media/image28.png"/><Relationship Id="rId193" Type="http://schemas.openxmlformats.org/officeDocument/2006/relationships/image" Target="../media/image28.png"/><Relationship Id="rId194" Type="http://schemas.openxmlformats.org/officeDocument/2006/relationships/image" Target="../media/image28.png"/><Relationship Id="rId195" Type="http://schemas.openxmlformats.org/officeDocument/2006/relationships/image" Target="../media/image28.png"/><Relationship Id="rId196" Type="http://schemas.openxmlformats.org/officeDocument/2006/relationships/image" Target="../media/image28.png"/><Relationship Id="rId197" Type="http://schemas.openxmlformats.org/officeDocument/2006/relationships/image" Target="../media/image28.png"/><Relationship Id="rId198" Type="http://schemas.openxmlformats.org/officeDocument/2006/relationships/image" Target="../media/image28.png"/><Relationship Id="rId199" Type="http://schemas.openxmlformats.org/officeDocument/2006/relationships/image" Target="../media/image28.png"/><Relationship Id="rId200" Type="http://schemas.openxmlformats.org/officeDocument/2006/relationships/image" Target="../media/image28.png"/><Relationship Id="rId201" Type="http://schemas.openxmlformats.org/officeDocument/2006/relationships/image" Target="../media/image28.png"/><Relationship Id="rId202" Type="http://schemas.openxmlformats.org/officeDocument/2006/relationships/image" Target="../media/image28.png"/><Relationship Id="rId203" Type="http://schemas.openxmlformats.org/officeDocument/2006/relationships/image" Target="../media/image28.png"/><Relationship Id="rId204" Type="http://schemas.openxmlformats.org/officeDocument/2006/relationships/image" Target="../media/image28.png"/><Relationship Id="rId205" Type="http://schemas.openxmlformats.org/officeDocument/2006/relationships/image" Target="../media/image28.png"/><Relationship Id="rId206" Type="http://schemas.openxmlformats.org/officeDocument/2006/relationships/image" Target="../media/image28.png"/><Relationship Id="rId207" Type="http://schemas.openxmlformats.org/officeDocument/2006/relationships/image" Target="../media/image28.png"/><Relationship Id="rId208" Type="http://schemas.openxmlformats.org/officeDocument/2006/relationships/image" Target="../media/image28.png"/><Relationship Id="rId209" Type="http://schemas.openxmlformats.org/officeDocument/2006/relationships/image" Target="../media/image28.png"/><Relationship Id="rId210" Type="http://schemas.openxmlformats.org/officeDocument/2006/relationships/image" Target="../media/image28.png"/><Relationship Id="rId211" Type="http://schemas.openxmlformats.org/officeDocument/2006/relationships/image" Target="../media/image28.png"/><Relationship Id="rId212" Type="http://schemas.openxmlformats.org/officeDocument/2006/relationships/image" Target="../media/image28.png"/><Relationship Id="rId213" Type="http://schemas.openxmlformats.org/officeDocument/2006/relationships/image" Target="../media/image28.png"/><Relationship Id="rId214" Type="http://schemas.openxmlformats.org/officeDocument/2006/relationships/image" Target="../media/image28.png"/><Relationship Id="rId215" Type="http://schemas.openxmlformats.org/officeDocument/2006/relationships/image" Target="../media/image28.png"/><Relationship Id="rId216" Type="http://schemas.openxmlformats.org/officeDocument/2006/relationships/image" Target="../media/image28.png"/><Relationship Id="rId217" Type="http://schemas.openxmlformats.org/officeDocument/2006/relationships/image" Target="../media/image28.png"/><Relationship Id="rId218" Type="http://schemas.openxmlformats.org/officeDocument/2006/relationships/image" Target="../media/image28.png"/><Relationship Id="rId219" Type="http://schemas.openxmlformats.org/officeDocument/2006/relationships/image" Target="../media/image28.png"/><Relationship Id="rId220" Type="http://schemas.openxmlformats.org/officeDocument/2006/relationships/image" Target="../media/image28.png"/><Relationship Id="rId221" Type="http://schemas.openxmlformats.org/officeDocument/2006/relationships/image" Target="../media/image28.png"/><Relationship Id="rId222" Type="http://schemas.openxmlformats.org/officeDocument/2006/relationships/image" Target="../media/image28.png"/><Relationship Id="rId223" Type="http://schemas.openxmlformats.org/officeDocument/2006/relationships/image" Target="../media/image28.png"/><Relationship Id="rId224" Type="http://schemas.openxmlformats.org/officeDocument/2006/relationships/image" Target="../media/image28.png"/><Relationship Id="rId225" Type="http://schemas.openxmlformats.org/officeDocument/2006/relationships/image" Target="../media/image28.png"/><Relationship Id="rId226" Type="http://schemas.openxmlformats.org/officeDocument/2006/relationships/image" Target="../media/image28.png"/><Relationship Id="rId227" Type="http://schemas.openxmlformats.org/officeDocument/2006/relationships/image" Target="../media/image28.png"/><Relationship Id="rId228" Type="http://schemas.openxmlformats.org/officeDocument/2006/relationships/image" Target="../media/image28.png"/><Relationship Id="rId229" Type="http://schemas.openxmlformats.org/officeDocument/2006/relationships/image" Target="../media/image28.png"/><Relationship Id="rId230" Type="http://schemas.openxmlformats.org/officeDocument/2006/relationships/image" Target="../media/image28.png"/><Relationship Id="rId231" Type="http://schemas.openxmlformats.org/officeDocument/2006/relationships/image" Target="../media/image28.png"/><Relationship Id="rId232" Type="http://schemas.openxmlformats.org/officeDocument/2006/relationships/image" Target="../media/image28.png"/><Relationship Id="rId233" Type="http://schemas.openxmlformats.org/officeDocument/2006/relationships/image" Target="../media/image28.png"/><Relationship Id="rId234" Type="http://schemas.openxmlformats.org/officeDocument/2006/relationships/image" Target="../media/image28.png"/><Relationship Id="rId235" Type="http://schemas.openxmlformats.org/officeDocument/2006/relationships/image" Target="../media/image28.png"/><Relationship Id="rId236" Type="http://schemas.openxmlformats.org/officeDocument/2006/relationships/image" Target="../media/image28.png"/><Relationship Id="rId237" Type="http://schemas.openxmlformats.org/officeDocument/2006/relationships/image" Target="../media/image28.png"/><Relationship Id="rId238" Type="http://schemas.openxmlformats.org/officeDocument/2006/relationships/image" Target="../media/image28.png"/><Relationship Id="rId239" Type="http://schemas.openxmlformats.org/officeDocument/2006/relationships/image" Target="../media/image28.png"/><Relationship Id="rId240" Type="http://schemas.openxmlformats.org/officeDocument/2006/relationships/image" Target="../media/image28.png"/><Relationship Id="rId241" Type="http://schemas.openxmlformats.org/officeDocument/2006/relationships/image" Target="../media/image28.png"/><Relationship Id="rId242" Type="http://schemas.openxmlformats.org/officeDocument/2006/relationships/image" Target="../media/image28.png"/><Relationship Id="rId243" Type="http://schemas.openxmlformats.org/officeDocument/2006/relationships/image" Target="../media/image28.png"/><Relationship Id="rId244" Type="http://schemas.openxmlformats.org/officeDocument/2006/relationships/image" Target="../media/image28.png"/><Relationship Id="rId245" Type="http://schemas.openxmlformats.org/officeDocument/2006/relationships/image" Target="../media/image28.png"/><Relationship Id="rId246" Type="http://schemas.openxmlformats.org/officeDocument/2006/relationships/image" Target="../media/image28.png"/><Relationship Id="rId247" Type="http://schemas.openxmlformats.org/officeDocument/2006/relationships/image" Target="../media/image28.png"/><Relationship Id="rId248" Type="http://schemas.openxmlformats.org/officeDocument/2006/relationships/image" Target="../media/image28.png"/><Relationship Id="rId249" Type="http://schemas.openxmlformats.org/officeDocument/2006/relationships/image" Target="../media/image28.png"/><Relationship Id="rId250" Type="http://schemas.openxmlformats.org/officeDocument/2006/relationships/image" Target="../media/image28.png"/><Relationship Id="rId251" Type="http://schemas.openxmlformats.org/officeDocument/2006/relationships/image" Target="../media/image28.png"/><Relationship Id="rId252" Type="http://schemas.openxmlformats.org/officeDocument/2006/relationships/image" Target="../media/image28.png"/><Relationship Id="rId253" Type="http://schemas.openxmlformats.org/officeDocument/2006/relationships/image" Target="../media/image28.png"/><Relationship Id="rId254" Type="http://schemas.openxmlformats.org/officeDocument/2006/relationships/image" Target="../media/image28.png"/><Relationship Id="rId255" Type="http://schemas.openxmlformats.org/officeDocument/2006/relationships/image" Target="../media/image28.png"/><Relationship Id="rId256" Type="http://schemas.openxmlformats.org/officeDocument/2006/relationships/image" Target="../media/image28.png"/><Relationship Id="rId257" Type="http://schemas.openxmlformats.org/officeDocument/2006/relationships/image" Target="../media/image28.png"/><Relationship Id="rId258" Type="http://schemas.openxmlformats.org/officeDocument/2006/relationships/image" Target="../media/image28.png"/><Relationship Id="rId259" Type="http://schemas.openxmlformats.org/officeDocument/2006/relationships/image" Target="../media/image28.png"/><Relationship Id="rId260" Type="http://schemas.openxmlformats.org/officeDocument/2006/relationships/image" Target="../media/image28.png"/><Relationship Id="rId261" Type="http://schemas.openxmlformats.org/officeDocument/2006/relationships/image" Target="../media/image28.png"/><Relationship Id="rId262" Type="http://schemas.openxmlformats.org/officeDocument/2006/relationships/image" Target="../media/image28.png"/><Relationship Id="rId263" Type="http://schemas.openxmlformats.org/officeDocument/2006/relationships/image" Target="../media/image28.png"/><Relationship Id="rId264" Type="http://schemas.openxmlformats.org/officeDocument/2006/relationships/image" Target="../media/image28.png"/><Relationship Id="rId265" Type="http://schemas.openxmlformats.org/officeDocument/2006/relationships/image" Target="../media/image28.png"/><Relationship Id="rId266" Type="http://schemas.openxmlformats.org/officeDocument/2006/relationships/image" Target="../media/image28.png"/><Relationship Id="rId267" Type="http://schemas.openxmlformats.org/officeDocument/2006/relationships/image" Target="../media/image28.png"/><Relationship Id="rId268" Type="http://schemas.openxmlformats.org/officeDocument/2006/relationships/image" Target="../media/image29.png"/><Relationship Id="rId269" Type="http://schemas.openxmlformats.org/officeDocument/2006/relationships/image" Target="../media/image29.png"/><Relationship Id="rId270" Type="http://schemas.openxmlformats.org/officeDocument/2006/relationships/image" Target="../media/image29.png"/><Relationship Id="rId271" Type="http://schemas.openxmlformats.org/officeDocument/2006/relationships/image" Target="../media/image28.png"/><Relationship Id="rId272" Type="http://schemas.openxmlformats.org/officeDocument/2006/relationships/image" Target="../media/image28.png"/><Relationship Id="rId273" Type="http://schemas.openxmlformats.org/officeDocument/2006/relationships/image" Target="../media/image28.png"/><Relationship Id="rId274" Type="http://schemas.openxmlformats.org/officeDocument/2006/relationships/image" Target="../media/image28.png"/><Relationship Id="rId275" Type="http://schemas.openxmlformats.org/officeDocument/2006/relationships/image" Target="../media/image28.png"/><Relationship Id="rId276" Type="http://schemas.openxmlformats.org/officeDocument/2006/relationships/image" Target="../media/image28.png"/><Relationship Id="rId277" Type="http://schemas.openxmlformats.org/officeDocument/2006/relationships/image" Target="../media/image28.png"/><Relationship Id="rId278" Type="http://schemas.openxmlformats.org/officeDocument/2006/relationships/image" Target="../media/image28.png"/><Relationship Id="rId279" Type="http://schemas.openxmlformats.org/officeDocument/2006/relationships/image" Target="../media/image28.png"/><Relationship Id="rId280" Type="http://schemas.openxmlformats.org/officeDocument/2006/relationships/image" Target="../media/image28.png"/><Relationship Id="rId281" Type="http://schemas.openxmlformats.org/officeDocument/2006/relationships/image" Target="../media/image28.png"/><Relationship Id="rId282" Type="http://schemas.openxmlformats.org/officeDocument/2006/relationships/image" Target="../media/image28.png"/><Relationship Id="rId283" Type="http://schemas.openxmlformats.org/officeDocument/2006/relationships/image" Target="../media/image28.png"/><Relationship Id="rId284" Type="http://schemas.openxmlformats.org/officeDocument/2006/relationships/image" Target="../media/image28.png"/><Relationship Id="rId285" Type="http://schemas.openxmlformats.org/officeDocument/2006/relationships/image" Target="../media/image28.png"/><Relationship Id="rId286" Type="http://schemas.openxmlformats.org/officeDocument/2006/relationships/image" Target="../media/image28.png"/><Relationship Id="rId287" Type="http://schemas.openxmlformats.org/officeDocument/2006/relationships/image" Target="../media/image28.png"/><Relationship Id="rId288" Type="http://schemas.openxmlformats.org/officeDocument/2006/relationships/image" Target="../media/image29.png"/><Relationship Id="rId289" Type="http://schemas.openxmlformats.org/officeDocument/2006/relationships/image" Target="../media/image28.png"/><Relationship Id="rId290" Type="http://schemas.openxmlformats.org/officeDocument/2006/relationships/image" Target="../media/image28.png"/><Relationship Id="rId291" Type="http://schemas.openxmlformats.org/officeDocument/2006/relationships/image" Target="../media/image28.png"/><Relationship Id="rId292" Type="http://schemas.openxmlformats.org/officeDocument/2006/relationships/image" Target="../media/image28.png"/><Relationship Id="rId293" Type="http://schemas.openxmlformats.org/officeDocument/2006/relationships/image" Target="../media/image28.png"/><Relationship Id="rId294" Type="http://schemas.openxmlformats.org/officeDocument/2006/relationships/image" Target="../media/image28.png"/><Relationship Id="rId295" Type="http://schemas.openxmlformats.org/officeDocument/2006/relationships/image" Target="../media/image28.png"/><Relationship Id="rId296" Type="http://schemas.openxmlformats.org/officeDocument/2006/relationships/image" Target="../media/image28.png"/><Relationship Id="rId297" Type="http://schemas.openxmlformats.org/officeDocument/2006/relationships/image" Target="../media/image28.png"/><Relationship Id="rId298" Type="http://schemas.openxmlformats.org/officeDocument/2006/relationships/image" Target="../media/image28.png"/><Relationship Id="rId299" Type="http://schemas.openxmlformats.org/officeDocument/2006/relationships/image" Target="../media/image28.png"/><Relationship Id="rId300" Type="http://schemas.openxmlformats.org/officeDocument/2006/relationships/image" Target="../media/image29.png"/><Relationship Id="rId301" Type="http://schemas.openxmlformats.org/officeDocument/2006/relationships/image" Target="../media/image29.png"/><Relationship Id="rId302" Type="http://schemas.openxmlformats.org/officeDocument/2006/relationships/image" Target="../media/image28.png"/><Relationship Id="rId303" Type="http://schemas.openxmlformats.org/officeDocument/2006/relationships/image" Target="../media/image28.png"/><Relationship Id="rId304" Type="http://schemas.openxmlformats.org/officeDocument/2006/relationships/image" Target="../media/image28.png"/><Relationship Id="rId305" Type="http://schemas.openxmlformats.org/officeDocument/2006/relationships/image" Target="../media/image28.png"/><Relationship Id="rId306" Type="http://schemas.openxmlformats.org/officeDocument/2006/relationships/image" Target="../media/image28.png"/><Relationship Id="rId307" Type="http://schemas.openxmlformats.org/officeDocument/2006/relationships/image" Target="../media/image28.png"/><Relationship Id="rId308" Type="http://schemas.openxmlformats.org/officeDocument/2006/relationships/image" Target="../media/image28.png"/><Relationship Id="rId309" Type="http://schemas.openxmlformats.org/officeDocument/2006/relationships/image" Target="../media/image28.png"/><Relationship Id="rId310" Type="http://schemas.openxmlformats.org/officeDocument/2006/relationships/image" Target="../media/image29.png"/><Relationship Id="rId311" Type="http://schemas.openxmlformats.org/officeDocument/2006/relationships/image" Target="../media/image28.png"/><Relationship Id="rId312" Type="http://schemas.openxmlformats.org/officeDocument/2006/relationships/image" Target="../media/image29.png"/><Relationship Id="rId313" Type="http://schemas.openxmlformats.org/officeDocument/2006/relationships/image" Target="../media/image29.png"/><Relationship Id="rId314" Type="http://schemas.openxmlformats.org/officeDocument/2006/relationships/image" Target="../media/image29.png"/><Relationship Id="rId315" Type="http://schemas.openxmlformats.org/officeDocument/2006/relationships/image" Target="../media/image28.png"/><Relationship Id="rId316" Type="http://schemas.openxmlformats.org/officeDocument/2006/relationships/image" Target="../media/image28.png"/><Relationship Id="rId317" Type="http://schemas.openxmlformats.org/officeDocument/2006/relationships/image" Target="../media/image28.png"/><Relationship Id="rId318" Type="http://schemas.openxmlformats.org/officeDocument/2006/relationships/image" Target="../media/image29.png"/><Relationship Id="rId319" Type="http://schemas.openxmlformats.org/officeDocument/2006/relationships/image" Target="../media/image28.png"/><Relationship Id="rId320" Type="http://schemas.openxmlformats.org/officeDocument/2006/relationships/image" Target="../media/image28.png"/><Relationship Id="rId3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0000" y="35812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Sound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94040" y="3397320"/>
            <a:ext cx="3192480" cy="2523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4040" y="3397320"/>
            <a:ext cx="3192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4040" y="3397320"/>
            <a:ext cx="3192480" cy="2523960"/>
          </a:xfrm>
          <a:custGeom>
            <a:avLst/>
            <a:gdLst/>
            <a:ahLst/>
            <a:rect l="l" t="t" r="r" b="b"/>
            <a:pathLst>
              <a:path w="2011" h="1590">
                <a:moveTo>
                  <a:pt x="0" y="1590"/>
                </a:moveTo>
                <a:lnTo>
                  <a:pt x="2011" y="1590"/>
                </a:lnTo>
                <a:lnTo>
                  <a:pt x="201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94040" y="3396960"/>
            <a:ext cx="1440" cy="252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4040" y="5921280"/>
            <a:ext cx="3192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94040" y="3396960"/>
            <a:ext cx="1440" cy="252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9404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404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2240" y="5948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29724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9724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63400" y="59482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69252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9252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90720" y="5948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09572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9572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0440" y="59482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1000" y="5888160"/>
            <a:ext cx="180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1000" y="3397320"/>
            <a:ext cx="180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87760" y="5948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94200" y="5888160"/>
            <a:ext cx="180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94200" y="3397320"/>
            <a:ext cx="180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58920" y="59482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28804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8804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86240" y="5948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69124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124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57400" y="59482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086520" y="588816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86520" y="3397320"/>
            <a:ext cx="1440" cy="33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5948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4040" y="59212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054840" y="59212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42920" y="5875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4040" y="56707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4840" y="56707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71280" y="56246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4040" y="541332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54840" y="541332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71280" y="53672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4040" y="516240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54840" y="516240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280" y="511812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4040" y="49132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54840" y="49132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71280" y="48672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4040" y="46623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54840" y="46623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2920" y="4618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4040" y="44053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054840" y="44053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71280" y="43592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4040" y="415620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54840" y="415620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71280" y="411012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4040" y="390528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54840" y="390528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71280" y="38592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4040" y="364824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54840" y="364824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71280" y="360216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4040" y="33973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054840" y="33973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42920" y="3351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4040" y="5921280"/>
            <a:ext cx="3192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4040" y="3397320"/>
            <a:ext cx="3192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894040" y="3396960"/>
            <a:ext cx="1440" cy="252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086520" y="3396960"/>
            <a:ext cx="1440" cy="252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56040" y="3397320"/>
            <a:ext cx="1812960" cy="2475000"/>
          </a:xfrm>
          <a:custGeom>
            <a:avLst/>
            <a:gdLst/>
            <a:ahLst/>
            <a:rect l="l" t="t" r="r" b="b"/>
            <a:pathLst>
              <a:path w="1142" h="1559">
                <a:moveTo>
                  <a:pt x="0" y="0"/>
                </a:moveTo>
                <a:lnTo>
                  <a:pt x="5" y="66"/>
                </a:lnTo>
                <a:lnTo>
                  <a:pt x="5" y="239"/>
                </a:lnTo>
                <a:lnTo>
                  <a:pt x="10" y="488"/>
                </a:lnTo>
                <a:lnTo>
                  <a:pt x="15" y="782"/>
                </a:lnTo>
                <a:lnTo>
                  <a:pt x="20" y="1097"/>
                </a:lnTo>
                <a:lnTo>
                  <a:pt x="20" y="1417"/>
                </a:lnTo>
                <a:lnTo>
                  <a:pt x="25" y="1458"/>
                </a:lnTo>
                <a:lnTo>
                  <a:pt x="30" y="1178"/>
                </a:lnTo>
                <a:lnTo>
                  <a:pt x="35" y="919"/>
                </a:lnTo>
                <a:lnTo>
                  <a:pt x="35" y="701"/>
                </a:lnTo>
                <a:lnTo>
                  <a:pt x="40" y="508"/>
                </a:lnTo>
                <a:lnTo>
                  <a:pt x="45" y="351"/>
                </a:lnTo>
                <a:lnTo>
                  <a:pt x="51" y="229"/>
                </a:lnTo>
                <a:lnTo>
                  <a:pt x="51" y="132"/>
                </a:lnTo>
                <a:lnTo>
                  <a:pt x="56" y="66"/>
                </a:lnTo>
                <a:lnTo>
                  <a:pt x="61" y="21"/>
                </a:lnTo>
                <a:lnTo>
                  <a:pt x="66" y="0"/>
                </a:lnTo>
                <a:lnTo>
                  <a:pt x="71" y="21"/>
                </a:lnTo>
                <a:lnTo>
                  <a:pt x="76" y="51"/>
                </a:lnTo>
                <a:lnTo>
                  <a:pt x="81" y="97"/>
                </a:lnTo>
                <a:lnTo>
                  <a:pt x="81" y="153"/>
                </a:lnTo>
                <a:lnTo>
                  <a:pt x="86" y="213"/>
                </a:lnTo>
                <a:lnTo>
                  <a:pt x="91" y="285"/>
                </a:lnTo>
                <a:lnTo>
                  <a:pt x="96" y="361"/>
                </a:lnTo>
                <a:lnTo>
                  <a:pt x="96" y="442"/>
                </a:lnTo>
                <a:lnTo>
                  <a:pt x="101" y="528"/>
                </a:lnTo>
                <a:lnTo>
                  <a:pt x="106" y="615"/>
                </a:lnTo>
                <a:lnTo>
                  <a:pt x="111" y="706"/>
                </a:lnTo>
                <a:lnTo>
                  <a:pt x="111" y="792"/>
                </a:lnTo>
                <a:lnTo>
                  <a:pt x="117" y="884"/>
                </a:lnTo>
                <a:lnTo>
                  <a:pt x="122" y="970"/>
                </a:lnTo>
                <a:lnTo>
                  <a:pt x="127" y="1062"/>
                </a:lnTo>
                <a:lnTo>
                  <a:pt x="127" y="1148"/>
                </a:lnTo>
                <a:lnTo>
                  <a:pt x="132" y="1234"/>
                </a:lnTo>
                <a:lnTo>
                  <a:pt x="137" y="1321"/>
                </a:lnTo>
                <a:lnTo>
                  <a:pt x="142" y="1402"/>
                </a:lnTo>
                <a:lnTo>
                  <a:pt x="142" y="1483"/>
                </a:lnTo>
                <a:lnTo>
                  <a:pt x="147" y="1559"/>
                </a:lnTo>
                <a:lnTo>
                  <a:pt x="152" y="1544"/>
                </a:lnTo>
                <a:lnTo>
                  <a:pt x="157" y="1473"/>
                </a:lnTo>
                <a:lnTo>
                  <a:pt x="157" y="1402"/>
                </a:lnTo>
                <a:lnTo>
                  <a:pt x="162" y="1331"/>
                </a:lnTo>
                <a:lnTo>
                  <a:pt x="167" y="1265"/>
                </a:lnTo>
                <a:lnTo>
                  <a:pt x="172" y="1199"/>
                </a:lnTo>
                <a:lnTo>
                  <a:pt x="172" y="1138"/>
                </a:lnTo>
                <a:lnTo>
                  <a:pt x="177" y="1082"/>
                </a:lnTo>
                <a:lnTo>
                  <a:pt x="183" y="1026"/>
                </a:lnTo>
                <a:lnTo>
                  <a:pt x="188" y="970"/>
                </a:lnTo>
                <a:lnTo>
                  <a:pt x="188" y="919"/>
                </a:lnTo>
                <a:lnTo>
                  <a:pt x="193" y="869"/>
                </a:lnTo>
                <a:lnTo>
                  <a:pt x="198" y="818"/>
                </a:lnTo>
                <a:lnTo>
                  <a:pt x="203" y="772"/>
                </a:lnTo>
                <a:lnTo>
                  <a:pt x="208" y="731"/>
                </a:lnTo>
                <a:lnTo>
                  <a:pt x="208" y="686"/>
                </a:lnTo>
                <a:lnTo>
                  <a:pt x="213" y="650"/>
                </a:lnTo>
                <a:lnTo>
                  <a:pt x="218" y="610"/>
                </a:lnTo>
                <a:lnTo>
                  <a:pt x="223" y="574"/>
                </a:lnTo>
                <a:lnTo>
                  <a:pt x="223" y="538"/>
                </a:lnTo>
                <a:lnTo>
                  <a:pt x="228" y="508"/>
                </a:lnTo>
                <a:lnTo>
                  <a:pt x="233" y="472"/>
                </a:lnTo>
                <a:lnTo>
                  <a:pt x="238" y="442"/>
                </a:lnTo>
                <a:lnTo>
                  <a:pt x="238" y="417"/>
                </a:lnTo>
                <a:lnTo>
                  <a:pt x="243" y="391"/>
                </a:lnTo>
                <a:lnTo>
                  <a:pt x="249" y="361"/>
                </a:lnTo>
                <a:lnTo>
                  <a:pt x="254" y="340"/>
                </a:lnTo>
                <a:lnTo>
                  <a:pt x="254" y="315"/>
                </a:lnTo>
                <a:lnTo>
                  <a:pt x="259" y="295"/>
                </a:lnTo>
                <a:lnTo>
                  <a:pt x="264" y="274"/>
                </a:lnTo>
                <a:lnTo>
                  <a:pt x="269" y="254"/>
                </a:lnTo>
                <a:lnTo>
                  <a:pt x="269" y="234"/>
                </a:lnTo>
                <a:lnTo>
                  <a:pt x="274" y="219"/>
                </a:lnTo>
                <a:lnTo>
                  <a:pt x="279" y="198"/>
                </a:lnTo>
                <a:lnTo>
                  <a:pt x="284" y="183"/>
                </a:lnTo>
                <a:lnTo>
                  <a:pt x="284" y="168"/>
                </a:lnTo>
                <a:lnTo>
                  <a:pt x="289" y="158"/>
                </a:lnTo>
                <a:lnTo>
                  <a:pt x="294" y="142"/>
                </a:lnTo>
                <a:lnTo>
                  <a:pt x="299" y="132"/>
                </a:lnTo>
                <a:lnTo>
                  <a:pt x="299" y="117"/>
                </a:lnTo>
                <a:lnTo>
                  <a:pt x="304" y="107"/>
                </a:lnTo>
                <a:lnTo>
                  <a:pt x="309" y="97"/>
                </a:lnTo>
                <a:lnTo>
                  <a:pt x="315" y="87"/>
                </a:lnTo>
                <a:lnTo>
                  <a:pt x="315" y="81"/>
                </a:lnTo>
                <a:lnTo>
                  <a:pt x="320" y="71"/>
                </a:lnTo>
                <a:lnTo>
                  <a:pt x="325" y="61"/>
                </a:lnTo>
                <a:lnTo>
                  <a:pt x="330" y="56"/>
                </a:lnTo>
                <a:lnTo>
                  <a:pt x="330" y="51"/>
                </a:lnTo>
                <a:lnTo>
                  <a:pt x="335" y="46"/>
                </a:lnTo>
                <a:lnTo>
                  <a:pt x="340" y="36"/>
                </a:lnTo>
                <a:lnTo>
                  <a:pt x="345" y="31"/>
                </a:lnTo>
                <a:lnTo>
                  <a:pt x="350" y="26"/>
                </a:lnTo>
                <a:lnTo>
                  <a:pt x="355" y="21"/>
                </a:lnTo>
                <a:lnTo>
                  <a:pt x="360" y="15"/>
                </a:lnTo>
                <a:lnTo>
                  <a:pt x="365" y="10"/>
                </a:lnTo>
                <a:lnTo>
                  <a:pt x="370" y="10"/>
                </a:lnTo>
                <a:lnTo>
                  <a:pt x="376" y="5"/>
                </a:lnTo>
                <a:lnTo>
                  <a:pt x="381" y="5"/>
                </a:lnTo>
                <a:lnTo>
                  <a:pt x="386" y="0"/>
                </a:lnTo>
                <a:lnTo>
                  <a:pt x="391" y="0"/>
                </a:lnTo>
                <a:lnTo>
                  <a:pt x="396" y="0"/>
                </a:lnTo>
                <a:lnTo>
                  <a:pt x="401" y="0"/>
                </a:lnTo>
                <a:lnTo>
                  <a:pt x="406" y="0"/>
                </a:lnTo>
                <a:lnTo>
                  <a:pt x="411" y="0"/>
                </a:lnTo>
                <a:lnTo>
                  <a:pt x="416" y="0"/>
                </a:lnTo>
                <a:lnTo>
                  <a:pt x="421" y="5"/>
                </a:lnTo>
                <a:lnTo>
                  <a:pt x="426" y="5"/>
                </a:lnTo>
                <a:lnTo>
                  <a:pt x="431" y="5"/>
                </a:lnTo>
                <a:lnTo>
                  <a:pt x="436" y="10"/>
                </a:lnTo>
                <a:lnTo>
                  <a:pt x="442" y="10"/>
                </a:lnTo>
                <a:lnTo>
                  <a:pt x="447" y="15"/>
                </a:lnTo>
                <a:lnTo>
                  <a:pt x="452" y="15"/>
                </a:lnTo>
                <a:lnTo>
                  <a:pt x="457" y="21"/>
                </a:lnTo>
                <a:lnTo>
                  <a:pt x="462" y="26"/>
                </a:lnTo>
                <a:lnTo>
                  <a:pt x="467" y="26"/>
                </a:lnTo>
                <a:lnTo>
                  <a:pt x="472" y="31"/>
                </a:lnTo>
                <a:lnTo>
                  <a:pt x="477" y="36"/>
                </a:lnTo>
                <a:lnTo>
                  <a:pt x="482" y="36"/>
                </a:lnTo>
                <a:lnTo>
                  <a:pt x="487" y="41"/>
                </a:lnTo>
                <a:lnTo>
                  <a:pt x="492" y="46"/>
                </a:lnTo>
                <a:lnTo>
                  <a:pt x="497" y="51"/>
                </a:lnTo>
                <a:lnTo>
                  <a:pt x="502" y="56"/>
                </a:lnTo>
                <a:lnTo>
                  <a:pt x="508" y="61"/>
                </a:lnTo>
                <a:lnTo>
                  <a:pt x="513" y="66"/>
                </a:lnTo>
                <a:lnTo>
                  <a:pt x="518" y="71"/>
                </a:lnTo>
                <a:lnTo>
                  <a:pt x="523" y="76"/>
                </a:lnTo>
                <a:lnTo>
                  <a:pt x="528" y="76"/>
                </a:lnTo>
                <a:lnTo>
                  <a:pt x="533" y="81"/>
                </a:lnTo>
                <a:lnTo>
                  <a:pt x="533" y="87"/>
                </a:lnTo>
                <a:lnTo>
                  <a:pt x="538" y="92"/>
                </a:lnTo>
                <a:lnTo>
                  <a:pt x="543" y="92"/>
                </a:lnTo>
                <a:lnTo>
                  <a:pt x="548" y="97"/>
                </a:lnTo>
                <a:lnTo>
                  <a:pt x="548" y="102"/>
                </a:lnTo>
                <a:lnTo>
                  <a:pt x="553" y="107"/>
                </a:lnTo>
                <a:lnTo>
                  <a:pt x="558" y="112"/>
                </a:lnTo>
                <a:lnTo>
                  <a:pt x="563" y="117"/>
                </a:lnTo>
                <a:lnTo>
                  <a:pt x="568" y="122"/>
                </a:lnTo>
                <a:lnTo>
                  <a:pt x="574" y="127"/>
                </a:lnTo>
                <a:lnTo>
                  <a:pt x="579" y="132"/>
                </a:lnTo>
                <a:lnTo>
                  <a:pt x="584" y="137"/>
                </a:lnTo>
                <a:lnTo>
                  <a:pt x="589" y="142"/>
                </a:lnTo>
                <a:lnTo>
                  <a:pt x="594" y="147"/>
                </a:lnTo>
                <a:lnTo>
                  <a:pt x="594" y="153"/>
                </a:lnTo>
                <a:lnTo>
                  <a:pt x="599" y="158"/>
                </a:lnTo>
                <a:lnTo>
                  <a:pt x="604" y="158"/>
                </a:lnTo>
                <a:lnTo>
                  <a:pt x="609" y="163"/>
                </a:lnTo>
                <a:lnTo>
                  <a:pt x="609" y="168"/>
                </a:lnTo>
                <a:lnTo>
                  <a:pt x="614" y="173"/>
                </a:lnTo>
                <a:lnTo>
                  <a:pt x="619" y="178"/>
                </a:lnTo>
                <a:lnTo>
                  <a:pt x="624" y="183"/>
                </a:lnTo>
                <a:lnTo>
                  <a:pt x="629" y="188"/>
                </a:lnTo>
                <a:lnTo>
                  <a:pt x="634" y="193"/>
                </a:lnTo>
                <a:lnTo>
                  <a:pt x="640" y="198"/>
                </a:lnTo>
                <a:lnTo>
                  <a:pt x="640" y="203"/>
                </a:lnTo>
                <a:lnTo>
                  <a:pt x="645" y="208"/>
                </a:lnTo>
                <a:lnTo>
                  <a:pt x="650" y="208"/>
                </a:lnTo>
                <a:lnTo>
                  <a:pt x="655" y="213"/>
                </a:lnTo>
                <a:lnTo>
                  <a:pt x="655" y="219"/>
                </a:lnTo>
                <a:lnTo>
                  <a:pt x="660" y="224"/>
                </a:lnTo>
                <a:lnTo>
                  <a:pt x="665" y="229"/>
                </a:lnTo>
                <a:lnTo>
                  <a:pt x="670" y="234"/>
                </a:lnTo>
                <a:lnTo>
                  <a:pt x="675" y="239"/>
                </a:lnTo>
                <a:lnTo>
                  <a:pt x="680" y="244"/>
                </a:lnTo>
                <a:lnTo>
                  <a:pt x="685" y="249"/>
                </a:lnTo>
                <a:lnTo>
                  <a:pt x="690" y="254"/>
                </a:lnTo>
                <a:lnTo>
                  <a:pt x="695" y="259"/>
                </a:lnTo>
                <a:lnTo>
                  <a:pt x="701" y="264"/>
                </a:lnTo>
                <a:lnTo>
                  <a:pt x="706" y="269"/>
                </a:lnTo>
                <a:lnTo>
                  <a:pt x="711" y="274"/>
                </a:lnTo>
                <a:lnTo>
                  <a:pt x="716" y="279"/>
                </a:lnTo>
                <a:lnTo>
                  <a:pt x="721" y="285"/>
                </a:lnTo>
                <a:lnTo>
                  <a:pt x="721" y="290"/>
                </a:lnTo>
                <a:lnTo>
                  <a:pt x="726" y="295"/>
                </a:lnTo>
                <a:lnTo>
                  <a:pt x="731" y="300"/>
                </a:lnTo>
                <a:lnTo>
                  <a:pt x="736" y="305"/>
                </a:lnTo>
                <a:lnTo>
                  <a:pt x="741" y="310"/>
                </a:lnTo>
                <a:lnTo>
                  <a:pt x="746" y="315"/>
                </a:lnTo>
                <a:lnTo>
                  <a:pt x="751" y="320"/>
                </a:lnTo>
                <a:lnTo>
                  <a:pt x="756" y="325"/>
                </a:lnTo>
                <a:lnTo>
                  <a:pt x="761" y="330"/>
                </a:lnTo>
                <a:lnTo>
                  <a:pt x="767" y="335"/>
                </a:lnTo>
                <a:lnTo>
                  <a:pt x="772" y="340"/>
                </a:lnTo>
                <a:lnTo>
                  <a:pt x="777" y="346"/>
                </a:lnTo>
                <a:lnTo>
                  <a:pt x="782" y="351"/>
                </a:lnTo>
                <a:lnTo>
                  <a:pt x="787" y="356"/>
                </a:lnTo>
                <a:lnTo>
                  <a:pt x="792" y="361"/>
                </a:lnTo>
                <a:lnTo>
                  <a:pt x="797" y="366"/>
                </a:lnTo>
                <a:lnTo>
                  <a:pt x="802" y="371"/>
                </a:lnTo>
                <a:lnTo>
                  <a:pt x="807" y="376"/>
                </a:lnTo>
                <a:lnTo>
                  <a:pt x="812" y="381"/>
                </a:lnTo>
                <a:lnTo>
                  <a:pt x="817" y="386"/>
                </a:lnTo>
                <a:lnTo>
                  <a:pt x="822" y="391"/>
                </a:lnTo>
                <a:lnTo>
                  <a:pt x="827" y="396"/>
                </a:lnTo>
                <a:lnTo>
                  <a:pt x="833" y="401"/>
                </a:lnTo>
                <a:lnTo>
                  <a:pt x="838" y="406"/>
                </a:lnTo>
                <a:lnTo>
                  <a:pt x="843" y="412"/>
                </a:lnTo>
                <a:lnTo>
                  <a:pt x="848" y="417"/>
                </a:lnTo>
                <a:lnTo>
                  <a:pt x="853" y="422"/>
                </a:lnTo>
                <a:lnTo>
                  <a:pt x="858" y="427"/>
                </a:lnTo>
                <a:lnTo>
                  <a:pt x="863" y="432"/>
                </a:lnTo>
                <a:lnTo>
                  <a:pt x="868" y="432"/>
                </a:lnTo>
                <a:lnTo>
                  <a:pt x="873" y="437"/>
                </a:lnTo>
                <a:lnTo>
                  <a:pt x="878" y="442"/>
                </a:lnTo>
                <a:lnTo>
                  <a:pt x="883" y="447"/>
                </a:lnTo>
                <a:lnTo>
                  <a:pt x="888" y="452"/>
                </a:lnTo>
                <a:lnTo>
                  <a:pt x="893" y="457"/>
                </a:lnTo>
                <a:lnTo>
                  <a:pt x="899" y="462"/>
                </a:lnTo>
                <a:lnTo>
                  <a:pt x="904" y="467"/>
                </a:lnTo>
                <a:lnTo>
                  <a:pt x="909" y="472"/>
                </a:lnTo>
                <a:lnTo>
                  <a:pt x="914" y="472"/>
                </a:lnTo>
                <a:lnTo>
                  <a:pt x="919" y="478"/>
                </a:lnTo>
                <a:lnTo>
                  <a:pt x="924" y="483"/>
                </a:lnTo>
                <a:lnTo>
                  <a:pt x="929" y="488"/>
                </a:lnTo>
                <a:lnTo>
                  <a:pt x="934" y="493"/>
                </a:lnTo>
                <a:lnTo>
                  <a:pt x="939" y="498"/>
                </a:lnTo>
                <a:lnTo>
                  <a:pt x="944" y="503"/>
                </a:lnTo>
                <a:lnTo>
                  <a:pt x="949" y="503"/>
                </a:lnTo>
                <a:lnTo>
                  <a:pt x="954" y="508"/>
                </a:lnTo>
                <a:lnTo>
                  <a:pt x="959" y="513"/>
                </a:lnTo>
                <a:lnTo>
                  <a:pt x="965" y="518"/>
                </a:lnTo>
                <a:lnTo>
                  <a:pt x="970" y="523"/>
                </a:lnTo>
                <a:lnTo>
                  <a:pt x="975" y="523"/>
                </a:lnTo>
                <a:lnTo>
                  <a:pt x="980" y="528"/>
                </a:lnTo>
                <a:lnTo>
                  <a:pt x="985" y="533"/>
                </a:lnTo>
                <a:lnTo>
                  <a:pt x="990" y="538"/>
                </a:lnTo>
                <a:lnTo>
                  <a:pt x="995" y="538"/>
                </a:lnTo>
                <a:lnTo>
                  <a:pt x="1000" y="544"/>
                </a:lnTo>
                <a:lnTo>
                  <a:pt x="1005" y="549"/>
                </a:lnTo>
                <a:lnTo>
                  <a:pt x="1010" y="554"/>
                </a:lnTo>
                <a:lnTo>
                  <a:pt x="1015" y="559"/>
                </a:lnTo>
                <a:lnTo>
                  <a:pt x="1020" y="564"/>
                </a:lnTo>
                <a:lnTo>
                  <a:pt x="1026" y="564"/>
                </a:lnTo>
                <a:lnTo>
                  <a:pt x="1031" y="569"/>
                </a:lnTo>
                <a:lnTo>
                  <a:pt x="1036" y="574"/>
                </a:lnTo>
                <a:lnTo>
                  <a:pt x="1041" y="574"/>
                </a:lnTo>
                <a:lnTo>
                  <a:pt x="1046" y="579"/>
                </a:lnTo>
                <a:lnTo>
                  <a:pt x="1051" y="584"/>
                </a:lnTo>
                <a:lnTo>
                  <a:pt x="1056" y="589"/>
                </a:lnTo>
                <a:lnTo>
                  <a:pt x="1061" y="594"/>
                </a:lnTo>
                <a:lnTo>
                  <a:pt x="1066" y="594"/>
                </a:lnTo>
                <a:lnTo>
                  <a:pt x="1071" y="599"/>
                </a:lnTo>
                <a:lnTo>
                  <a:pt x="1076" y="604"/>
                </a:lnTo>
                <a:lnTo>
                  <a:pt x="1081" y="604"/>
                </a:lnTo>
                <a:lnTo>
                  <a:pt x="1086" y="610"/>
                </a:lnTo>
                <a:lnTo>
                  <a:pt x="1092" y="615"/>
                </a:lnTo>
                <a:lnTo>
                  <a:pt x="1097" y="615"/>
                </a:lnTo>
                <a:lnTo>
                  <a:pt x="1102" y="620"/>
                </a:lnTo>
                <a:lnTo>
                  <a:pt x="1107" y="625"/>
                </a:lnTo>
                <a:lnTo>
                  <a:pt x="1112" y="630"/>
                </a:lnTo>
                <a:lnTo>
                  <a:pt x="1117" y="630"/>
                </a:lnTo>
                <a:lnTo>
                  <a:pt x="1122" y="635"/>
                </a:lnTo>
                <a:lnTo>
                  <a:pt x="1127" y="640"/>
                </a:lnTo>
                <a:lnTo>
                  <a:pt x="1132" y="640"/>
                </a:lnTo>
                <a:lnTo>
                  <a:pt x="1137" y="645"/>
                </a:lnTo>
                <a:lnTo>
                  <a:pt x="1142" y="65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69000" y="4429080"/>
            <a:ext cx="1217520" cy="523800"/>
          </a:xfrm>
          <a:custGeom>
            <a:avLst/>
            <a:gdLst/>
            <a:ahLst/>
            <a:rect l="l" t="t" r="r" b="b"/>
            <a:pathLst>
              <a:path w="767" h="330">
                <a:moveTo>
                  <a:pt x="0" y="0"/>
                </a:moveTo>
                <a:lnTo>
                  <a:pt x="5" y="0"/>
                </a:lnTo>
                <a:lnTo>
                  <a:pt x="10" y="5"/>
                </a:lnTo>
                <a:lnTo>
                  <a:pt x="16" y="5"/>
                </a:lnTo>
                <a:lnTo>
                  <a:pt x="21" y="10"/>
                </a:lnTo>
                <a:lnTo>
                  <a:pt x="26" y="15"/>
                </a:lnTo>
                <a:lnTo>
                  <a:pt x="31" y="15"/>
                </a:lnTo>
                <a:lnTo>
                  <a:pt x="36" y="21"/>
                </a:lnTo>
                <a:lnTo>
                  <a:pt x="41" y="21"/>
                </a:lnTo>
                <a:lnTo>
                  <a:pt x="46" y="26"/>
                </a:lnTo>
                <a:lnTo>
                  <a:pt x="51" y="31"/>
                </a:lnTo>
                <a:lnTo>
                  <a:pt x="56" y="31"/>
                </a:lnTo>
                <a:lnTo>
                  <a:pt x="61" y="36"/>
                </a:lnTo>
                <a:lnTo>
                  <a:pt x="66" y="41"/>
                </a:lnTo>
                <a:lnTo>
                  <a:pt x="71" y="41"/>
                </a:lnTo>
                <a:lnTo>
                  <a:pt x="76" y="46"/>
                </a:lnTo>
                <a:lnTo>
                  <a:pt x="82" y="46"/>
                </a:lnTo>
                <a:lnTo>
                  <a:pt x="87" y="51"/>
                </a:lnTo>
                <a:lnTo>
                  <a:pt x="92" y="56"/>
                </a:lnTo>
                <a:lnTo>
                  <a:pt x="97" y="56"/>
                </a:lnTo>
                <a:lnTo>
                  <a:pt x="102" y="61"/>
                </a:lnTo>
                <a:lnTo>
                  <a:pt x="107" y="61"/>
                </a:lnTo>
                <a:lnTo>
                  <a:pt x="112" y="66"/>
                </a:lnTo>
                <a:lnTo>
                  <a:pt x="117" y="66"/>
                </a:lnTo>
                <a:lnTo>
                  <a:pt x="122" y="71"/>
                </a:lnTo>
                <a:lnTo>
                  <a:pt x="127" y="76"/>
                </a:lnTo>
                <a:lnTo>
                  <a:pt x="132" y="76"/>
                </a:lnTo>
                <a:lnTo>
                  <a:pt x="137" y="81"/>
                </a:lnTo>
                <a:lnTo>
                  <a:pt x="142" y="81"/>
                </a:lnTo>
                <a:lnTo>
                  <a:pt x="148" y="87"/>
                </a:lnTo>
                <a:lnTo>
                  <a:pt x="153" y="87"/>
                </a:lnTo>
                <a:lnTo>
                  <a:pt x="158" y="92"/>
                </a:lnTo>
                <a:lnTo>
                  <a:pt x="163" y="92"/>
                </a:lnTo>
                <a:lnTo>
                  <a:pt x="168" y="97"/>
                </a:lnTo>
                <a:lnTo>
                  <a:pt x="173" y="102"/>
                </a:lnTo>
                <a:lnTo>
                  <a:pt x="178" y="102"/>
                </a:lnTo>
                <a:lnTo>
                  <a:pt x="183" y="107"/>
                </a:lnTo>
                <a:lnTo>
                  <a:pt x="188" y="107"/>
                </a:lnTo>
                <a:lnTo>
                  <a:pt x="193" y="107"/>
                </a:lnTo>
                <a:lnTo>
                  <a:pt x="198" y="112"/>
                </a:lnTo>
                <a:lnTo>
                  <a:pt x="203" y="117"/>
                </a:lnTo>
                <a:lnTo>
                  <a:pt x="209" y="117"/>
                </a:lnTo>
                <a:lnTo>
                  <a:pt x="214" y="122"/>
                </a:lnTo>
                <a:lnTo>
                  <a:pt x="219" y="122"/>
                </a:lnTo>
                <a:lnTo>
                  <a:pt x="224" y="127"/>
                </a:lnTo>
                <a:lnTo>
                  <a:pt x="229" y="127"/>
                </a:lnTo>
                <a:lnTo>
                  <a:pt x="234" y="132"/>
                </a:lnTo>
                <a:lnTo>
                  <a:pt x="239" y="132"/>
                </a:lnTo>
                <a:lnTo>
                  <a:pt x="244" y="137"/>
                </a:lnTo>
                <a:lnTo>
                  <a:pt x="249" y="137"/>
                </a:lnTo>
                <a:lnTo>
                  <a:pt x="254" y="142"/>
                </a:lnTo>
                <a:lnTo>
                  <a:pt x="259" y="142"/>
                </a:lnTo>
                <a:lnTo>
                  <a:pt x="264" y="147"/>
                </a:lnTo>
                <a:lnTo>
                  <a:pt x="269" y="147"/>
                </a:lnTo>
                <a:lnTo>
                  <a:pt x="275" y="153"/>
                </a:lnTo>
                <a:lnTo>
                  <a:pt x="280" y="153"/>
                </a:lnTo>
                <a:lnTo>
                  <a:pt x="285" y="153"/>
                </a:lnTo>
                <a:lnTo>
                  <a:pt x="290" y="158"/>
                </a:lnTo>
                <a:lnTo>
                  <a:pt x="295" y="158"/>
                </a:lnTo>
                <a:lnTo>
                  <a:pt x="300" y="163"/>
                </a:lnTo>
                <a:lnTo>
                  <a:pt x="305" y="163"/>
                </a:lnTo>
                <a:lnTo>
                  <a:pt x="310" y="168"/>
                </a:lnTo>
                <a:lnTo>
                  <a:pt x="315" y="168"/>
                </a:lnTo>
                <a:lnTo>
                  <a:pt x="320" y="173"/>
                </a:lnTo>
                <a:lnTo>
                  <a:pt x="325" y="173"/>
                </a:lnTo>
                <a:lnTo>
                  <a:pt x="330" y="178"/>
                </a:lnTo>
                <a:lnTo>
                  <a:pt x="335" y="178"/>
                </a:lnTo>
                <a:lnTo>
                  <a:pt x="341" y="183"/>
                </a:lnTo>
                <a:lnTo>
                  <a:pt x="346" y="183"/>
                </a:lnTo>
                <a:lnTo>
                  <a:pt x="351" y="183"/>
                </a:lnTo>
                <a:lnTo>
                  <a:pt x="356" y="188"/>
                </a:lnTo>
                <a:lnTo>
                  <a:pt x="361" y="188"/>
                </a:lnTo>
                <a:lnTo>
                  <a:pt x="366" y="188"/>
                </a:lnTo>
                <a:lnTo>
                  <a:pt x="371" y="193"/>
                </a:lnTo>
                <a:lnTo>
                  <a:pt x="376" y="193"/>
                </a:lnTo>
                <a:lnTo>
                  <a:pt x="381" y="198"/>
                </a:lnTo>
                <a:lnTo>
                  <a:pt x="386" y="198"/>
                </a:lnTo>
                <a:lnTo>
                  <a:pt x="391" y="203"/>
                </a:lnTo>
                <a:lnTo>
                  <a:pt x="396" y="203"/>
                </a:lnTo>
                <a:lnTo>
                  <a:pt x="401" y="208"/>
                </a:lnTo>
                <a:lnTo>
                  <a:pt x="407" y="208"/>
                </a:lnTo>
                <a:lnTo>
                  <a:pt x="412" y="208"/>
                </a:lnTo>
                <a:lnTo>
                  <a:pt x="417" y="213"/>
                </a:lnTo>
                <a:lnTo>
                  <a:pt x="422" y="213"/>
                </a:lnTo>
                <a:lnTo>
                  <a:pt x="427" y="213"/>
                </a:lnTo>
                <a:lnTo>
                  <a:pt x="432" y="219"/>
                </a:lnTo>
                <a:lnTo>
                  <a:pt x="437" y="219"/>
                </a:lnTo>
                <a:lnTo>
                  <a:pt x="442" y="224"/>
                </a:lnTo>
                <a:lnTo>
                  <a:pt x="447" y="224"/>
                </a:lnTo>
                <a:lnTo>
                  <a:pt x="452" y="229"/>
                </a:lnTo>
                <a:lnTo>
                  <a:pt x="457" y="229"/>
                </a:lnTo>
                <a:lnTo>
                  <a:pt x="462" y="229"/>
                </a:lnTo>
                <a:lnTo>
                  <a:pt x="467" y="234"/>
                </a:lnTo>
                <a:lnTo>
                  <a:pt x="473" y="234"/>
                </a:lnTo>
                <a:lnTo>
                  <a:pt x="478" y="239"/>
                </a:lnTo>
                <a:lnTo>
                  <a:pt x="483" y="239"/>
                </a:lnTo>
                <a:lnTo>
                  <a:pt x="488" y="239"/>
                </a:lnTo>
                <a:lnTo>
                  <a:pt x="493" y="244"/>
                </a:lnTo>
                <a:lnTo>
                  <a:pt x="498" y="244"/>
                </a:lnTo>
                <a:lnTo>
                  <a:pt x="503" y="244"/>
                </a:lnTo>
                <a:lnTo>
                  <a:pt x="508" y="249"/>
                </a:lnTo>
                <a:lnTo>
                  <a:pt x="513" y="249"/>
                </a:lnTo>
                <a:lnTo>
                  <a:pt x="518" y="249"/>
                </a:lnTo>
                <a:lnTo>
                  <a:pt x="523" y="254"/>
                </a:lnTo>
                <a:lnTo>
                  <a:pt x="528" y="254"/>
                </a:lnTo>
                <a:lnTo>
                  <a:pt x="534" y="254"/>
                </a:lnTo>
                <a:lnTo>
                  <a:pt x="539" y="259"/>
                </a:lnTo>
                <a:lnTo>
                  <a:pt x="544" y="259"/>
                </a:lnTo>
                <a:lnTo>
                  <a:pt x="549" y="264"/>
                </a:lnTo>
                <a:lnTo>
                  <a:pt x="554" y="264"/>
                </a:lnTo>
                <a:lnTo>
                  <a:pt x="559" y="264"/>
                </a:lnTo>
                <a:lnTo>
                  <a:pt x="564" y="269"/>
                </a:lnTo>
                <a:lnTo>
                  <a:pt x="569" y="269"/>
                </a:lnTo>
                <a:lnTo>
                  <a:pt x="574" y="269"/>
                </a:lnTo>
                <a:lnTo>
                  <a:pt x="579" y="274"/>
                </a:lnTo>
                <a:lnTo>
                  <a:pt x="584" y="274"/>
                </a:lnTo>
                <a:lnTo>
                  <a:pt x="589" y="274"/>
                </a:lnTo>
                <a:lnTo>
                  <a:pt x="594" y="279"/>
                </a:lnTo>
                <a:lnTo>
                  <a:pt x="600" y="279"/>
                </a:lnTo>
                <a:lnTo>
                  <a:pt x="605" y="279"/>
                </a:lnTo>
                <a:lnTo>
                  <a:pt x="610" y="285"/>
                </a:lnTo>
                <a:lnTo>
                  <a:pt x="615" y="285"/>
                </a:lnTo>
                <a:lnTo>
                  <a:pt x="620" y="285"/>
                </a:lnTo>
                <a:lnTo>
                  <a:pt x="625" y="290"/>
                </a:lnTo>
                <a:lnTo>
                  <a:pt x="630" y="290"/>
                </a:lnTo>
                <a:lnTo>
                  <a:pt x="635" y="290"/>
                </a:lnTo>
                <a:lnTo>
                  <a:pt x="640" y="295"/>
                </a:lnTo>
                <a:lnTo>
                  <a:pt x="645" y="295"/>
                </a:lnTo>
                <a:lnTo>
                  <a:pt x="650" y="295"/>
                </a:lnTo>
                <a:lnTo>
                  <a:pt x="655" y="300"/>
                </a:lnTo>
                <a:lnTo>
                  <a:pt x="660" y="300"/>
                </a:lnTo>
                <a:lnTo>
                  <a:pt x="666" y="300"/>
                </a:lnTo>
                <a:lnTo>
                  <a:pt x="671" y="305"/>
                </a:lnTo>
                <a:lnTo>
                  <a:pt x="676" y="305"/>
                </a:lnTo>
                <a:lnTo>
                  <a:pt x="681" y="305"/>
                </a:lnTo>
                <a:lnTo>
                  <a:pt x="686" y="310"/>
                </a:lnTo>
                <a:lnTo>
                  <a:pt x="691" y="310"/>
                </a:lnTo>
                <a:lnTo>
                  <a:pt x="696" y="310"/>
                </a:lnTo>
                <a:lnTo>
                  <a:pt x="701" y="310"/>
                </a:lnTo>
                <a:lnTo>
                  <a:pt x="706" y="315"/>
                </a:lnTo>
                <a:lnTo>
                  <a:pt x="711" y="315"/>
                </a:lnTo>
                <a:lnTo>
                  <a:pt x="716" y="315"/>
                </a:lnTo>
                <a:lnTo>
                  <a:pt x="721" y="320"/>
                </a:lnTo>
                <a:lnTo>
                  <a:pt x="726" y="320"/>
                </a:lnTo>
                <a:lnTo>
                  <a:pt x="732" y="320"/>
                </a:lnTo>
                <a:lnTo>
                  <a:pt x="737" y="320"/>
                </a:lnTo>
                <a:lnTo>
                  <a:pt x="742" y="325"/>
                </a:lnTo>
                <a:lnTo>
                  <a:pt x="747" y="325"/>
                </a:lnTo>
                <a:lnTo>
                  <a:pt x="752" y="325"/>
                </a:lnTo>
                <a:lnTo>
                  <a:pt x="757" y="330"/>
                </a:lnTo>
                <a:lnTo>
                  <a:pt x="762" y="330"/>
                </a:lnTo>
                <a:lnTo>
                  <a:pt x="767" y="33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42760" y="603576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/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36800" y="596880"/>
            <a:ext cx="3299040" cy="24163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36800" y="3013200"/>
            <a:ext cx="329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6800" y="596880"/>
            <a:ext cx="329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836800" y="596880"/>
            <a:ext cx="1800" cy="241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135840" y="596880"/>
            <a:ext cx="1440" cy="241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36800" y="3013200"/>
            <a:ext cx="329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836800" y="596880"/>
            <a:ext cx="1800" cy="241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836800" y="2982960"/>
            <a:ext cx="180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36800" y="596880"/>
            <a:ext cx="180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4120" y="3040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25296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5296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96080" y="3040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66084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6084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39600" y="3040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07844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7844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21560" y="3040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48632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8632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65080" y="3040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902120" y="2982960"/>
            <a:ext cx="180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02120" y="596880"/>
            <a:ext cx="180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47040" y="3040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1180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1180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89120" y="3040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729400" y="2982960"/>
            <a:ext cx="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29400" y="596880"/>
            <a:ext cx="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72520" y="3040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35840" y="2982960"/>
            <a:ext cx="1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35840" y="596880"/>
            <a:ext cx="1440" cy="31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4600" y="3040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36800" y="301320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102000" y="301320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63360" y="29703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36800" y="277344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102000" y="277344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88120" y="2730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6800" y="252720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102000" y="252720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88120" y="24843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6800" y="228744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102000" y="228744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88120" y="2244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36800" y="204948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102000" y="204948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88120" y="20048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6800" y="180828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102000" y="180828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63360" y="176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36800" y="156204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102000" y="1562040"/>
            <a:ext cx="33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88120" y="1519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6800" y="13222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102000" y="13222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88120" y="1279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36800" y="108252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02000" y="108252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88120" y="1039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36800" y="83664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102000" y="83664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8120" y="793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36800" y="59688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102000" y="59688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63360" y="554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36800" y="596880"/>
            <a:ext cx="329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36800" y="3013200"/>
            <a:ext cx="329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836800" y="596880"/>
            <a:ext cx="1800" cy="241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135840" y="596880"/>
            <a:ext cx="1440" cy="241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03480" y="596880"/>
            <a:ext cx="1857600" cy="2386080"/>
          </a:xfrm>
          <a:custGeom>
            <a:avLst/>
            <a:gdLst/>
            <a:ahLst/>
            <a:rect l="l" t="t" r="r" b="b"/>
            <a:pathLst>
              <a:path w="1519" h="2105">
                <a:moveTo>
                  <a:pt x="0" y="13"/>
                </a:moveTo>
                <a:lnTo>
                  <a:pt x="7" y="156"/>
                </a:lnTo>
                <a:lnTo>
                  <a:pt x="7" y="422"/>
                </a:lnTo>
                <a:lnTo>
                  <a:pt x="14" y="776"/>
                </a:lnTo>
                <a:lnTo>
                  <a:pt x="20" y="1178"/>
                </a:lnTo>
                <a:lnTo>
                  <a:pt x="27" y="1601"/>
                </a:lnTo>
                <a:lnTo>
                  <a:pt x="27" y="2023"/>
                </a:lnTo>
                <a:lnTo>
                  <a:pt x="34" y="1846"/>
                </a:lnTo>
                <a:lnTo>
                  <a:pt x="41" y="1478"/>
                </a:lnTo>
                <a:lnTo>
                  <a:pt x="48" y="1151"/>
                </a:lnTo>
                <a:lnTo>
                  <a:pt x="48" y="865"/>
                </a:lnTo>
                <a:lnTo>
                  <a:pt x="54" y="627"/>
                </a:lnTo>
                <a:lnTo>
                  <a:pt x="61" y="429"/>
                </a:lnTo>
                <a:lnTo>
                  <a:pt x="68" y="272"/>
                </a:lnTo>
                <a:lnTo>
                  <a:pt x="68" y="150"/>
                </a:lnTo>
                <a:lnTo>
                  <a:pt x="75" y="68"/>
                </a:lnTo>
                <a:lnTo>
                  <a:pt x="82" y="20"/>
                </a:lnTo>
                <a:lnTo>
                  <a:pt x="88" y="0"/>
                </a:lnTo>
                <a:lnTo>
                  <a:pt x="88" y="7"/>
                </a:lnTo>
                <a:lnTo>
                  <a:pt x="95" y="34"/>
                </a:lnTo>
                <a:lnTo>
                  <a:pt x="102" y="82"/>
                </a:lnTo>
                <a:lnTo>
                  <a:pt x="109" y="143"/>
                </a:lnTo>
                <a:lnTo>
                  <a:pt x="109" y="218"/>
                </a:lnTo>
                <a:lnTo>
                  <a:pt x="116" y="306"/>
                </a:lnTo>
                <a:lnTo>
                  <a:pt x="123" y="402"/>
                </a:lnTo>
                <a:lnTo>
                  <a:pt x="129" y="504"/>
                </a:lnTo>
                <a:lnTo>
                  <a:pt x="129" y="613"/>
                </a:lnTo>
                <a:lnTo>
                  <a:pt x="136" y="729"/>
                </a:lnTo>
                <a:lnTo>
                  <a:pt x="143" y="845"/>
                </a:lnTo>
                <a:lnTo>
                  <a:pt x="150" y="967"/>
                </a:lnTo>
                <a:lnTo>
                  <a:pt x="150" y="1083"/>
                </a:lnTo>
                <a:lnTo>
                  <a:pt x="157" y="1206"/>
                </a:lnTo>
                <a:lnTo>
                  <a:pt x="163" y="1321"/>
                </a:lnTo>
                <a:lnTo>
                  <a:pt x="170" y="1444"/>
                </a:lnTo>
                <a:lnTo>
                  <a:pt x="170" y="1560"/>
                </a:lnTo>
                <a:lnTo>
                  <a:pt x="177" y="1676"/>
                </a:lnTo>
                <a:lnTo>
                  <a:pt x="184" y="1785"/>
                </a:lnTo>
                <a:lnTo>
                  <a:pt x="191" y="1894"/>
                </a:lnTo>
                <a:lnTo>
                  <a:pt x="191" y="2003"/>
                </a:lnTo>
                <a:lnTo>
                  <a:pt x="197" y="2105"/>
                </a:lnTo>
                <a:lnTo>
                  <a:pt x="204" y="2057"/>
                </a:lnTo>
                <a:lnTo>
                  <a:pt x="211" y="1962"/>
                </a:lnTo>
                <a:lnTo>
                  <a:pt x="211" y="1866"/>
                </a:lnTo>
                <a:lnTo>
                  <a:pt x="218" y="1771"/>
                </a:lnTo>
                <a:lnTo>
                  <a:pt x="225" y="1682"/>
                </a:lnTo>
                <a:lnTo>
                  <a:pt x="232" y="1601"/>
                </a:lnTo>
                <a:lnTo>
                  <a:pt x="232" y="1519"/>
                </a:lnTo>
                <a:lnTo>
                  <a:pt x="238" y="1437"/>
                </a:lnTo>
                <a:lnTo>
                  <a:pt x="245" y="1362"/>
                </a:lnTo>
                <a:lnTo>
                  <a:pt x="252" y="1294"/>
                </a:lnTo>
                <a:lnTo>
                  <a:pt x="252" y="1219"/>
                </a:lnTo>
                <a:lnTo>
                  <a:pt x="259" y="1158"/>
                </a:lnTo>
                <a:lnTo>
                  <a:pt x="266" y="1090"/>
                </a:lnTo>
                <a:lnTo>
                  <a:pt x="272" y="1028"/>
                </a:lnTo>
                <a:lnTo>
                  <a:pt x="279" y="974"/>
                </a:lnTo>
                <a:lnTo>
                  <a:pt x="279" y="913"/>
                </a:lnTo>
                <a:lnTo>
                  <a:pt x="286" y="865"/>
                </a:lnTo>
                <a:lnTo>
                  <a:pt x="293" y="810"/>
                </a:lnTo>
                <a:lnTo>
                  <a:pt x="300" y="763"/>
                </a:lnTo>
                <a:lnTo>
                  <a:pt x="300" y="715"/>
                </a:lnTo>
                <a:lnTo>
                  <a:pt x="306" y="674"/>
                </a:lnTo>
                <a:lnTo>
                  <a:pt x="313" y="633"/>
                </a:lnTo>
                <a:lnTo>
                  <a:pt x="320" y="592"/>
                </a:lnTo>
                <a:lnTo>
                  <a:pt x="320" y="552"/>
                </a:lnTo>
                <a:lnTo>
                  <a:pt x="327" y="518"/>
                </a:lnTo>
                <a:lnTo>
                  <a:pt x="334" y="483"/>
                </a:lnTo>
                <a:lnTo>
                  <a:pt x="341" y="449"/>
                </a:lnTo>
                <a:lnTo>
                  <a:pt x="341" y="422"/>
                </a:lnTo>
                <a:lnTo>
                  <a:pt x="347" y="388"/>
                </a:lnTo>
                <a:lnTo>
                  <a:pt x="354" y="361"/>
                </a:lnTo>
                <a:lnTo>
                  <a:pt x="361" y="334"/>
                </a:lnTo>
                <a:lnTo>
                  <a:pt x="361" y="313"/>
                </a:lnTo>
                <a:lnTo>
                  <a:pt x="368" y="286"/>
                </a:lnTo>
                <a:lnTo>
                  <a:pt x="375" y="265"/>
                </a:lnTo>
                <a:lnTo>
                  <a:pt x="381" y="245"/>
                </a:lnTo>
                <a:lnTo>
                  <a:pt x="381" y="225"/>
                </a:lnTo>
                <a:lnTo>
                  <a:pt x="388" y="204"/>
                </a:lnTo>
                <a:lnTo>
                  <a:pt x="395" y="191"/>
                </a:lnTo>
                <a:lnTo>
                  <a:pt x="402" y="170"/>
                </a:lnTo>
                <a:lnTo>
                  <a:pt x="402" y="156"/>
                </a:lnTo>
                <a:lnTo>
                  <a:pt x="409" y="143"/>
                </a:lnTo>
                <a:lnTo>
                  <a:pt x="415" y="129"/>
                </a:lnTo>
                <a:lnTo>
                  <a:pt x="422" y="116"/>
                </a:lnTo>
                <a:lnTo>
                  <a:pt x="422" y="102"/>
                </a:lnTo>
                <a:lnTo>
                  <a:pt x="429" y="95"/>
                </a:lnTo>
                <a:lnTo>
                  <a:pt x="436" y="82"/>
                </a:lnTo>
                <a:lnTo>
                  <a:pt x="443" y="75"/>
                </a:lnTo>
                <a:lnTo>
                  <a:pt x="443" y="68"/>
                </a:lnTo>
                <a:lnTo>
                  <a:pt x="450" y="54"/>
                </a:lnTo>
                <a:lnTo>
                  <a:pt x="456" y="47"/>
                </a:lnTo>
                <a:lnTo>
                  <a:pt x="463" y="41"/>
                </a:lnTo>
                <a:lnTo>
                  <a:pt x="470" y="34"/>
                </a:lnTo>
                <a:lnTo>
                  <a:pt x="477" y="27"/>
                </a:lnTo>
                <a:lnTo>
                  <a:pt x="484" y="20"/>
                </a:lnTo>
                <a:lnTo>
                  <a:pt x="490" y="13"/>
                </a:lnTo>
                <a:lnTo>
                  <a:pt x="497" y="13"/>
                </a:lnTo>
                <a:lnTo>
                  <a:pt x="504" y="7"/>
                </a:lnTo>
                <a:lnTo>
                  <a:pt x="511" y="7"/>
                </a:lnTo>
                <a:lnTo>
                  <a:pt x="518" y="0"/>
                </a:lnTo>
                <a:lnTo>
                  <a:pt x="524" y="0"/>
                </a:lnTo>
                <a:lnTo>
                  <a:pt x="531" y="0"/>
                </a:lnTo>
                <a:lnTo>
                  <a:pt x="538" y="0"/>
                </a:lnTo>
                <a:lnTo>
                  <a:pt x="545" y="0"/>
                </a:lnTo>
                <a:lnTo>
                  <a:pt x="552" y="0"/>
                </a:lnTo>
                <a:lnTo>
                  <a:pt x="559" y="0"/>
                </a:lnTo>
                <a:lnTo>
                  <a:pt x="565" y="7"/>
                </a:lnTo>
                <a:lnTo>
                  <a:pt x="572" y="7"/>
                </a:lnTo>
                <a:lnTo>
                  <a:pt x="579" y="7"/>
                </a:lnTo>
                <a:lnTo>
                  <a:pt x="586" y="13"/>
                </a:lnTo>
                <a:lnTo>
                  <a:pt x="593" y="13"/>
                </a:lnTo>
                <a:lnTo>
                  <a:pt x="599" y="20"/>
                </a:lnTo>
                <a:lnTo>
                  <a:pt x="606" y="20"/>
                </a:lnTo>
                <a:lnTo>
                  <a:pt x="613" y="27"/>
                </a:lnTo>
                <a:lnTo>
                  <a:pt x="620" y="34"/>
                </a:lnTo>
                <a:lnTo>
                  <a:pt x="627" y="34"/>
                </a:lnTo>
                <a:lnTo>
                  <a:pt x="633" y="41"/>
                </a:lnTo>
                <a:lnTo>
                  <a:pt x="640" y="47"/>
                </a:lnTo>
                <a:lnTo>
                  <a:pt x="647" y="47"/>
                </a:lnTo>
                <a:lnTo>
                  <a:pt x="654" y="54"/>
                </a:lnTo>
                <a:lnTo>
                  <a:pt x="661" y="61"/>
                </a:lnTo>
                <a:lnTo>
                  <a:pt x="668" y="68"/>
                </a:lnTo>
                <a:lnTo>
                  <a:pt x="674" y="75"/>
                </a:lnTo>
                <a:lnTo>
                  <a:pt x="681" y="82"/>
                </a:lnTo>
                <a:lnTo>
                  <a:pt x="688" y="88"/>
                </a:lnTo>
                <a:lnTo>
                  <a:pt x="695" y="95"/>
                </a:lnTo>
                <a:lnTo>
                  <a:pt x="702" y="102"/>
                </a:lnTo>
                <a:lnTo>
                  <a:pt x="708" y="102"/>
                </a:lnTo>
                <a:lnTo>
                  <a:pt x="715" y="109"/>
                </a:lnTo>
                <a:lnTo>
                  <a:pt x="715" y="116"/>
                </a:lnTo>
                <a:lnTo>
                  <a:pt x="722" y="122"/>
                </a:lnTo>
                <a:lnTo>
                  <a:pt x="729" y="122"/>
                </a:lnTo>
                <a:lnTo>
                  <a:pt x="736" y="129"/>
                </a:lnTo>
                <a:lnTo>
                  <a:pt x="736" y="136"/>
                </a:lnTo>
                <a:lnTo>
                  <a:pt x="742" y="143"/>
                </a:lnTo>
                <a:lnTo>
                  <a:pt x="749" y="150"/>
                </a:lnTo>
                <a:lnTo>
                  <a:pt x="756" y="156"/>
                </a:lnTo>
                <a:lnTo>
                  <a:pt x="763" y="163"/>
                </a:lnTo>
                <a:lnTo>
                  <a:pt x="770" y="170"/>
                </a:lnTo>
                <a:lnTo>
                  <a:pt x="777" y="177"/>
                </a:lnTo>
                <a:lnTo>
                  <a:pt x="783" y="184"/>
                </a:lnTo>
                <a:lnTo>
                  <a:pt x="790" y="191"/>
                </a:lnTo>
                <a:lnTo>
                  <a:pt x="797" y="197"/>
                </a:lnTo>
                <a:lnTo>
                  <a:pt x="797" y="204"/>
                </a:lnTo>
                <a:lnTo>
                  <a:pt x="804" y="211"/>
                </a:lnTo>
                <a:lnTo>
                  <a:pt x="811" y="211"/>
                </a:lnTo>
                <a:lnTo>
                  <a:pt x="817" y="218"/>
                </a:lnTo>
                <a:lnTo>
                  <a:pt x="817" y="225"/>
                </a:lnTo>
                <a:lnTo>
                  <a:pt x="824" y="231"/>
                </a:lnTo>
                <a:lnTo>
                  <a:pt x="831" y="238"/>
                </a:lnTo>
                <a:lnTo>
                  <a:pt x="838" y="245"/>
                </a:lnTo>
                <a:lnTo>
                  <a:pt x="845" y="252"/>
                </a:lnTo>
                <a:lnTo>
                  <a:pt x="851" y="259"/>
                </a:lnTo>
                <a:lnTo>
                  <a:pt x="858" y="265"/>
                </a:lnTo>
                <a:lnTo>
                  <a:pt x="858" y="272"/>
                </a:lnTo>
                <a:lnTo>
                  <a:pt x="865" y="279"/>
                </a:lnTo>
                <a:lnTo>
                  <a:pt x="872" y="279"/>
                </a:lnTo>
                <a:lnTo>
                  <a:pt x="879" y="286"/>
                </a:lnTo>
                <a:lnTo>
                  <a:pt x="879" y="293"/>
                </a:lnTo>
                <a:lnTo>
                  <a:pt x="886" y="300"/>
                </a:lnTo>
                <a:lnTo>
                  <a:pt x="892" y="306"/>
                </a:lnTo>
                <a:lnTo>
                  <a:pt x="899" y="313"/>
                </a:lnTo>
                <a:lnTo>
                  <a:pt x="906" y="320"/>
                </a:lnTo>
                <a:lnTo>
                  <a:pt x="913" y="327"/>
                </a:lnTo>
                <a:lnTo>
                  <a:pt x="920" y="334"/>
                </a:lnTo>
                <a:lnTo>
                  <a:pt x="926" y="340"/>
                </a:lnTo>
                <a:lnTo>
                  <a:pt x="933" y="347"/>
                </a:lnTo>
                <a:lnTo>
                  <a:pt x="940" y="354"/>
                </a:lnTo>
                <a:lnTo>
                  <a:pt x="947" y="361"/>
                </a:lnTo>
                <a:lnTo>
                  <a:pt x="947" y="368"/>
                </a:lnTo>
                <a:lnTo>
                  <a:pt x="954" y="374"/>
                </a:lnTo>
                <a:lnTo>
                  <a:pt x="960" y="374"/>
                </a:lnTo>
                <a:lnTo>
                  <a:pt x="967" y="381"/>
                </a:lnTo>
                <a:lnTo>
                  <a:pt x="967" y="388"/>
                </a:lnTo>
                <a:lnTo>
                  <a:pt x="974" y="395"/>
                </a:lnTo>
                <a:lnTo>
                  <a:pt x="981" y="402"/>
                </a:lnTo>
                <a:lnTo>
                  <a:pt x="988" y="409"/>
                </a:lnTo>
                <a:lnTo>
                  <a:pt x="995" y="415"/>
                </a:lnTo>
                <a:lnTo>
                  <a:pt x="1001" y="422"/>
                </a:lnTo>
                <a:lnTo>
                  <a:pt x="1008" y="429"/>
                </a:lnTo>
                <a:lnTo>
                  <a:pt x="1015" y="436"/>
                </a:lnTo>
                <a:lnTo>
                  <a:pt x="1022" y="443"/>
                </a:lnTo>
                <a:lnTo>
                  <a:pt x="1029" y="449"/>
                </a:lnTo>
                <a:lnTo>
                  <a:pt x="1035" y="456"/>
                </a:lnTo>
                <a:lnTo>
                  <a:pt x="1042" y="463"/>
                </a:lnTo>
                <a:lnTo>
                  <a:pt x="1049" y="470"/>
                </a:lnTo>
                <a:lnTo>
                  <a:pt x="1056" y="477"/>
                </a:lnTo>
                <a:lnTo>
                  <a:pt x="1063" y="483"/>
                </a:lnTo>
                <a:lnTo>
                  <a:pt x="1069" y="490"/>
                </a:lnTo>
                <a:lnTo>
                  <a:pt x="1076" y="497"/>
                </a:lnTo>
                <a:lnTo>
                  <a:pt x="1083" y="504"/>
                </a:lnTo>
                <a:lnTo>
                  <a:pt x="1090" y="511"/>
                </a:lnTo>
                <a:lnTo>
                  <a:pt x="1097" y="518"/>
                </a:lnTo>
                <a:lnTo>
                  <a:pt x="1104" y="524"/>
                </a:lnTo>
                <a:lnTo>
                  <a:pt x="1110" y="531"/>
                </a:lnTo>
                <a:lnTo>
                  <a:pt x="1117" y="538"/>
                </a:lnTo>
                <a:lnTo>
                  <a:pt x="1124" y="545"/>
                </a:lnTo>
                <a:lnTo>
                  <a:pt x="1131" y="552"/>
                </a:lnTo>
                <a:lnTo>
                  <a:pt x="1138" y="558"/>
                </a:lnTo>
                <a:lnTo>
                  <a:pt x="1144" y="565"/>
                </a:lnTo>
                <a:lnTo>
                  <a:pt x="1151" y="572"/>
                </a:lnTo>
                <a:lnTo>
                  <a:pt x="1158" y="579"/>
                </a:lnTo>
                <a:lnTo>
                  <a:pt x="1165" y="579"/>
                </a:lnTo>
                <a:lnTo>
                  <a:pt x="1172" y="586"/>
                </a:lnTo>
                <a:lnTo>
                  <a:pt x="1178" y="592"/>
                </a:lnTo>
                <a:lnTo>
                  <a:pt x="1185" y="599"/>
                </a:lnTo>
                <a:lnTo>
                  <a:pt x="1192" y="606"/>
                </a:lnTo>
                <a:lnTo>
                  <a:pt x="1199" y="613"/>
                </a:lnTo>
                <a:lnTo>
                  <a:pt x="1206" y="620"/>
                </a:lnTo>
                <a:lnTo>
                  <a:pt x="1213" y="627"/>
                </a:lnTo>
                <a:lnTo>
                  <a:pt x="1219" y="633"/>
                </a:lnTo>
                <a:lnTo>
                  <a:pt x="1226" y="633"/>
                </a:lnTo>
                <a:lnTo>
                  <a:pt x="1233" y="640"/>
                </a:lnTo>
                <a:lnTo>
                  <a:pt x="1240" y="647"/>
                </a:lnTo>
                <a:lnTo>
                  <a:pt x="1247" y="654"/>
                </a:lnTo>
                <a:lnTo>
                  <a:pt x="1253" y="661"/>
                </a:lnTo>
                <a:lnTo>
                  <a:pt x="1260" y="667"/>
                </a:lnTo>
                <a:lnTo>
                  <a:pt x="1267" y="674"/>
                </a:lnTo>
                <a:lnTo>
                  <a:pt x="1274" y="674"/>
                </a:lnTo>
                <a:lnTo>
                  <a:pt x="1281" y="681"/>
                </a:lnTo>
                <a:lnTo>
                  <a:pt x="1287" y="688"/>
                </a:lnTo>
                <a:lnTo>
                  <a:pt x="1294" y="695"/>
                </a:lnTo>
                <a:lnTo>
                  <a:pt x="1301" y="701"/>
                </a:lnTo>
                <a:lnTo>
                  <a:pt x="1308" y="708"/>
                </a:lnTo>
                <a:lnTo>
                  <a:pt x="1315" y="708"/>
                </a:lnTo>
                <a:lnTo>
                  <a:pt x="1322" y="715"/>
                </a:lnTo>
                <a:lnTo>
                  <a:pt x="1328" y="722"/>
                </a:lnTo>
                <a:lnTo>
                  <a:pt x="1335" y="729"/>
                </a:lnTo>
                <a:lnTo>
                  <a:pt x="1342" y="736"/>
                </a:lnTo>
                <a:lnTo>
                  <a:pt x="1349" y="736"/>
                </a:lnTo>
                <a:lnTo>
                  <a:pt x="1356" y="742"/>
                </a:lnTo>
                <a:lnTo>
                  <a:pt x="1362" y="749"/>
                </a:lnTo>
                <a:lnTo>
                  <a:pt x="1369" y="756"/>
                </a:lnTo>
                <a:lnTo>
                  <a:pt x="1376" y="756"/>
                </a:lnTo>
                <a:lnTo>
                  <a:pt x="1383" y="763"/>
                </a:lnTo>
                <a:lnTo>
                  <a:pt x="1390" y="770"/>
                </a:lnTo>
                <a:lnTo>
                  <a:pt x="1396" y="770"/>
                </a:lnTo>
                <a:lnTo>
                  <a:pt x="1403" y="776"/>
                </a:lnTo>
                <a:lnTo>
                  <a:pt x="1410" y="783"/>
                </a:lnTo>
                <a:lnTo>
                  <a:pt x="1417" y="790"/>
                </a:lnTo>
                <a:lnTo>
                  <a:pt x="1424" y="797"/>
                </a:lnTo>
                <a:lnTo>
                  <a:pt x="1431" y="797"/>
                </a:lnTo>
                <a:lnTo>
                  <a:pt x="1437" y="804"/>
                </a:lnTo>
                <a:lnTo>
                  <a:pt x="1444" y="810"/>
                </a:lnTo>
                <a:lnTo>
                  <a:pt x="1451" y="810"/>
                </a:lnTo>
                <a:lnTo>
                  <a:pt x="1458" y="817"/>
                </a:lnTo>
                <a:lnTo>
                  <a:pt x="1465" y="824"/>
                </a:lnTo>
                <a:lnTo>
                  <a:pt x="1471" y="824"/>
                </a:lnTo>
                <a:lnTo>
                  <a:pt x="1478" y="831"/>
                </a:lnTo>
                <a:lnTo>
                  <a:pt x="1485" y="838"/>
                </a:lnTo>
                <a:lnTo>
                  <a:pt x="1492" y="845"/>
                </a:lnTo>
                <a:lnTo>
                  <a:pt x="1499" y="845"/>
                </a:lnTo>
                <a:lnTo>
                  <a:pt x="1505" y="851"/>
                </a:lnTo>
                <a:lnTo>
                  <a:pt x="1512" y="858"/>
                </a:lnTo>
                <a:lnTo>
                  <a:pt x="1519" y="8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569960"/>
            <a:ext cx="1274760" cy="517680"/>
          </a:xfrm>
          <a:custGeom>
            <a:avLst/>
            <a:gdLst/>
            <a:ahLst/>
            <a:rect l="l" t="t" r="r" b="b"/>
            <a:pathLst>
              <a:path w="1042" h="457">
                <a:moveTo>
                  <a:pt x="0" y="0"/>
                </a:moveTo>
                <a:lnTo>
                  <a:pt x="7" y="7"/>
                </a:lnTo>
                <a:lnTo>
                  <a:pt x="14" y="14"/>
                </a:lnTo>
                <a:lnTo>
                  <a:pt x="21" y="14"/>
                </a:lnTo>
                <a:lnTo>
                  <a:pt x="27" y="21"/>
                </a:lnTo>
                <a:lnTo>
                  <a:pt x="34" y="27"/>
                </a:lnTo>
                <a:lnTo>
                  <a:pt x="41" y="27"/>
                </a:lnTo>
                <a:lnTo>
                  <a:pt x="48" y="34"/>
                </a:lnTo>
                <a:lnTo>
                  <a:pt x="55" y="34"/>
                </a:lnTo>
                <a:lnTo>
                  <a:pt x="61" y="41"/>
                </a:lnTo>
                <a:lnTo>
                  <a:pt x="68" y="41"/>
                </a:lnTo>
                <a:lnTo>
                  <a:pt x="75" y="48"/>
                </a:lnTo>
                <a:lnTo>
                  <a:pt x="82" y="55"/>
                </a:lnTo>
                <a:lnTo>
                  <a:pt x="89" y="55"/>
                </a:lnTo>
                <a:lnTo>
                  <a:pt x="95" y="61"/>
                </a:lnTo>
                <a:lnTo>
                  <a:pt x="102" y="68"/>
                </a:lnTo>
                <a:lnTo>
                  <a:pt x="109" y="68"/>
                </a:lnTo>
                <a:lnTo>
                  <a:pt x="116" y="75"/>
                </a:lnTo>
                <a:lnTo>
                  <a:pt x="123" y="75"/>
                </a:lnTo>
                <a:lnTo>
                  <a:pt x="130" y="82"/>
                </a:lnTo>
                <a:lnTo>
                  <a:pt x="136" y="89"/>
                </a:lnTo>
                <a:lnTo>
                  <a:pt x="143" y="89"/>
                </a:lnTo>
                <a:lnTo>
                  <a:pt x="150" y="96"/>
                </a:lnTo>
                <a:lnTo>
                  <a:pt x="157" y="96"/>
                </a:lnTo>
                <a:lnTo>
                  <a:pt x="164" y="102"/>
                </a:lnTo>
                <a:lnTo>
                  <a:pt x="170" y="102"/>
                </a:lnTo>
                <a:lnTo>
                  <a:pt x="177" y="109"/>
                </a:lnTo>
                <a:lnTo>
                  <a:pt x="184" y="116"/>
                </a:lnTo>
                <a:lnTo>
                  <a:pt x="191" y="116"/>
                </a:lnTo>
                <a:lnTo>
                  <a:pt x="198" y="123"/>
                </a:lnTo>
                <a:lnTo>
                  <a:pt x="204" y="123"/>
                </a:lnTo>
                <a:lnTo>
                  <a:pt x="211" y="130"/>
                </a:lnTo>
                <a:lnTo>
                  <a:pt x="218" y="136"/>
                </a:lnTo>
                <a:lnTo>
                  <a:pt x="225" y="136"/>
                </a:lnTo>
                <a:lnTo>
                  <a:pt x="232" y="136"/>
                </a:lnTo>
                <a:lnTo>
                  <a:pt x="239" y="143"/>
                </a:lnTo>
                <a:lnTo>
                  <a:pt x="245" y="150"/>
                </a:lnTo>
                <a:lnTo>
                  <a:pt x="252" y="150"/>
                </a:lnTo>
                <a:lnTo>
                  <a:pt x="259" y="157"/>
                </a:lnTo>
                <a:lnTo>
                  <a:pt x="266" y="157"/>
                </a:lnTo>
                <a:lnTo>
                  <a:pt x="273" y="157"/>
                </a:lnTo>
                <a:lnTo>
                  <a:pt x="279" y="164"/>
                </a:lnTo>
                <a:lnTo>
                  <a:pt x="286" y="170"/>
                </a:lnTo>
                <a:lnTo>
                  <a:pt x="293" y="170"/>
                </a:lnTo>
                <a:lnTo>
                  <a:pt x="300" y="177"/>
                </a:lnTo>
                <a:lnTo>
                  <a:pt x="307" y="177"/>
                </a:lnTo>
                <a:lnTo>
                  <a:pt x="313" y="184"/>
                </a:lnTo>
                <a:lnTo>
                  <a:pt x="320" y="184"/>
                </a:lnTo>
                <a:lnTo>
                  <a:pt x="327" y="191"/>
                </a:lnTo>
                <a:lnTo>
                  <a:pt x="334" y="191"/>
                </a:lnTo>
                <a:lnTo>
                  <a:pt x="341" y="198"/>
                </a:lnTo>
                <a:lnTo>
                  <a:pt x="348" y="198"/>
                </a:lnTo>
                <a:lnTo>
                  <a:pt x="354" y="205"/>
                </a:lnTo>
                <a:lnTo>
                  <a:pt x="361" y="205"/>
                </a:lnTo>
                <a:lnTo>
                  <a:pt x="368" y="211"/>
                </a:lnTo>
                <a:lnTo>
                  <a:pt x="375" y="211"/>
                </a:lnTo>
                <a:lnTo>
                  <a:pt x="382" y="218"/>
                </a:lnTo>
                <a:lnTo>
                  <a:pt x="388" y="218"/>
                </a:lnTo>
                <a:lnTo>
                  <a:pt x="395" y="218"/>
                </a:lnTo>
                <a:lnTo>
                  <a:pt x="402" y="225"/>
                </a:lnTo>
                <a:lnTo>
                  <a:pt x="409" y="225"/>
                </a:lnTo>
                <a:lnTo>
                  <a:pt x="416" y="232"/>
                </a:lnTo>
                <a:lnTo>
                  <a:pt x="422" y="232"/>
                </a:lnTo>
                <a:lnTo>
                  <a:pt x="429" y="239"/>
                </a:lnTo>
                <a:lnTo>
                  <a:pt x="436" y="239"/>
                </a:lnTo>
                <a:lnTo>
                  <a:pt x="443" y="245"/>
                </a:lnTo>
                <a:lnTo>
                  <a:pt x="450" y="245"/>
                </a:lnTo>
                <a:lnTo>
                  <a:pt x="457" y="252"/>
                </a:lnTo>
                <a:lnTo>
                  <a:pt x="463" y="252"/>
                </a:lnTo>
                <a:lnTo>
                  <a:pt x="470" y="259"/>
                </a:lnTo>
                <a:lnTo>
                  <a:pt x="477" y="259"/>
                </a:lnTo>
                <a:lnTo>
                  <a:pt x="484" y="259"/>
                </a:lnTo>
                <a:lnTo>
                  <a:pt x="491" y="266"/>
                </a:lnTo>
                <a:lnTo>
                  <a:pt x="497" y="266"/>
                </a:lnTo>
                <a:lnTo>
                  <a:pt x="504" y="266"/>
                </a:lnTo>
                <a:lnTo>
                  <a:pt x="511" y="273"/>
                </a:lnTo>
                <a:lnTo>
                  <a:pt x="518" y="273"/>
                </a:lnTo>
                <a:lnTo>
                  <a:pt x="525" y="279"/>
                </a:lnTo>
                <a:lnTo>
                  <a:pt x="531" y="279"/>
                </a:lnTo>
                <a:lnTo>
                  <a:pt x="538" y="286"/>
                </a:lnTo>
                <a:lnTo>
                  <a:pt x="545" y="286"/>
                </a:lnTo>
                <a:lnTo>
                  <a:pt x="552" y="293"/>
                </a:lnTo>
                <a:lnTo>
                  <a:pt x="559" y="293"/>
                </a:lnTo>
                <a:lnTo>
                  <a:pt x="566" y="293"/>
                </a:lnTo>
                <a:lnTo>
                  <a:pt x="572" y="300"/>
                </a:lnTo>
                <a:lnTo>
                  <a:pt x="579" y="300"/>
                </a:lnTo>
                <a:lnTo>
                  <a:pt x="586" y="300"/>
                </a:lnTo>
                <a:lnTo>
                  <a:pt x="593" y="307"/>
                </a:lnTo>
                <a:lnTo>
                  <a:pt x="600" y="307"/>
                </a:lnTo>
                <a:lnTo>
                  <a:pt x="606" y="314"/>
                </a:lnTo>
                <a:lnTo>
                  <a:pt x="613" y="314"/>
                </a:lnTo>
                <a:lnTo>
                  <a:pt x="620" y="320"/>
                </a:lnTo>
                <a:lnTo>
                  <a:pt x="627" y="320"/>
                </a:lnTo>
                <a:lnTo>
                  <a:pt x="634" y="320"/>
                </a:lnTo>
                <a:lnTo>
                  <a:pt x="640" y="327"/>
                </a:lnTo>
                <a:lnTo>
                  <a:pt x="647" y="327"/>
                </a:lnTo>
                <a:lnTo>
                  <a:pt x="654" y="334"/>
                </a:lnTo>
                <a:lnTo>
                  <a:pt x="661" y="334"/>
                </a:lnTo>
                <a:lnTo>
                  <a:pt x="668" y="334"/>
                </a:lnTo>
                <a:lnTo>
                  <a:pt x="675" y="341"/>
                </a:lnTo>
                <a:lnTo>
                  <a:pt x="681" y="341"/>
                </a:lnTo>
                <a:lnTo>
                  <a:pt x="688" y="341"/>
                </a:lnTo>
                <a:lnTo>
                  <a:pt x="695" y="348"/>
                </a:lnTo>
                <a:lnTo>
                  <a:pt x="702" y="348"/>
                </a:lnTo>
                <a:lnTo>
                  <a:pt x="709" y="348"/>
                </a:lnTo>
                <a:lnTo>
                  <a:pt x="715" y="354"/>
                </a:lnTo>
                <a:lnTo>
                  <a:pt x="722" y="354"/>
                </a:lnTo>
                <a:lnTo>
                  <a:pt x="729" y="354"/>
                </a:lnTo>
                <a:lnTo>
                  <a:pt x="736" y="361"/>
                </a:lnTo>
                <a:lnTo>
                  <a:pt x="743" y="361"/>
                </a:lnTo>
                <a:lnTo>
                  <a:pt x="749" y="368"/>
                </a:lnTo>
                <a:lnTo>
                  <a:pt x="756" y="368"/>
                </a:lnTo>
                <a:lnTo>
                  <a:pt x="763" y="368"/>
                </a:lnTo>
                <a:lnTo>
                  <a:pt x="770" y="375"/>
                </a:lnTo>
                <a:lnTo>
                  <a:pt x="777" y="375"/>
                </a:lnTo>
                <a:lnTo>
                  <a:pt x="784" y="375"/>
                </a:lnTo>
                <a:lnTo>
                  <a:pt x="790" y="382"/>
                </a:lnTo>
                <a:lnTo>
                  <a:pt x="797" y="382"/>
                </a:lnTo>
                <a:lnTo>
                  <a:pt x="804" y="382"/>
                </a:lnTo>
                <a:lnTo>
                  <a:pt x="811" y="388"/>
                </a:lnTo>
                <a:lnTo>
                  <a:pt x="818" y="388"/>
                </a:lnTo>
                <a:lnTo>
                  <a:pt x="824" y="388"/>
                </a:lnTo>
                <a:lnTo>
                  <a:pt x="831" y="395"/>
                </a:lnTo>
                <a:lnTo>
                  <a:pt x="838" y="395"/>
                </a:lnTo>
                <a:lnTo>
                  <a:pt x="845" y="395"/>
                </a:lnTo>
                <a:lnTo>
                  <a:pt x="852" y="402"/>
                </a:lnTo>
                <a:lnTo>
                  <a:pt x="858" y="402"/>
                </a:lnTo>
                <a:lnTo>
                  <a:pt x="865" y="402"/>
                </a:lnTo>
                <a:lnTo>
                  <a:pt x="872" y="409"/>
                </a:lnTo>
                <a:lnTo>
                  <a:pt x="879" y="409"/>
                </a:lnTo>
                <a:lnTo>
                  <a:pt x="886" y="409"/>
                </a:lnTo>
                <a:lnTo>
                  <a:pt x="893" y="416"/>
                </a:lnTo>
                <a:lnTo>
                  <a:pt x="899" y="416"/>
                </a:lnTo>
                <a:lnTo>
                  <a:pt x="906" y="416"/>
                </a:lnTo>
                <a:lnTo>
                  <a:pt x="913" y="423"/>
                </a:lnTo>
                <a:lnTo>
                  <a:pt x="920" y="423"/>
                </a:lnTo>
                <a:lnTo>
                  <a:pt x="927" y="423"/>
                </a:lnTo>
                <a:lnTo>
                  <a:pt x="933" y="429"/>
                </a:lnTo>
                <a:lnTo>
                  <a:pt x="940" y="429"/>
                </a:lnTo>
                <a:lnTo>
                  <a:pt x="947" y="429"/>
                </a:lnTo>
                <a:lnTo>
                  <a:pt x="954" y="429"/>
                </a:lnTo>
                <a:lnTo>
                  <a:pt x="961" y="436"/>
                </a:lnTo>
                <a:lnTo>
                  <a:pt x="967" y="436"/>
                </a:lnTo>
                <a:lnTo>
                  <a:pt x="974" y="436"/>
                </a:lnTo>
                <a:lnTo>
                  <a:pt x="981" y="443"/>
                </a:lnTo>
                <a:lnTo>
                  <a:pt x="988" y="443"/>
                </a:lnTo>
                <a:lnTo>
                  <a:pt x="995" y="443"/>
                </a:lnTo>
                <a:lnTo>
                  <a:pt x="1002" y="443"/>
                </a:lnTo>
                <a:lnTo>
                  <a:pt x="1008" y="450"/>
                </a:lnTo>
                <a:lnTo>
                  <a:pt x="1015" y="450"/>
                </a:lnTo>
                <a:lnTo>
                  <a:pt x="1022" y="450"/>
                </a:lnTo>
                <a:lnTo>
                  <a:pt x="1029" y="457"/>
                </a:lnTo>
                <a:lnTo>
                  <a:pt x="1036" y="457"/>
                </a:lnTo>
                <a:lnTo>
                  <a:pt x="1042" y="45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22240" y="312588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/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65520" y="635040"/>
            <a:ext cx="0" cy="239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6640" y="2438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3640" y="51814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xi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42480" y="3932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04960" y="44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59680" y="4343400"/>
            <a:ext cx="7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90360" y="11271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1600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07560" y="1538280"/>
            <a:ext cx="7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4320" y="11736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31600" y="1066680"/>
            <a:ext cx="747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  = on_axis(zN, A,c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exact on axis pressure from a pisto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radiating into a fluid. A is radius in mm, c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wavespeed of the fluid in m/sec, F the frequency in M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zN is the distance in the fluid divided by the ne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distance a^2/lamba  (lamba is the wave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= 1000*A*F/c;    % a/la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 = 2*pi*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ka for th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z = ka*al*z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 = 2*pi*(al^2).*sqrt(zN.^2 + (1/al)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exp(i*kz) - exp(i*k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07920" y="1143000"/>
            <a:ext cx="747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 = par_on_axis(zN, A,c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paraxial axis pressure from a pisto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radiating into a fluid. A is radius in mm, c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wavespeed of the fluid in m/sec, F the frequency in M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zN is the distance in the fluid divided by the ne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distance a^2/la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= 1000*A*F/c;    % a/la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 = 2*pi*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ka for th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z = ka*al*z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 = ka./(2*al.*z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exp(i*kz).*(1 - exp(i*k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066320" y="99072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z = linspace(.2, 4,5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p = on_axis(z,6.35,1500,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plot(z, abs(p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xlabel('z/N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89280" y="3048120"/>
            <a:ext cx="52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p = par_on_axis(z, 6.35, 1500, 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plot(z, abs(p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&gt; xlabel('z/N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374120" y="109440"/>
            <a:ext cx="71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response at normal incidence to a plan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xial approxi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9720" y="1231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22096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283212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290844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219320" y="3505320"/>
          <a:ext cx="6230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05320"/>
                    <a:ext cx="6230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908680" y="2173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43600" y="237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26798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832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832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934320" y="5181480"/>
          <a:ext cx="198108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181480"/>
                    <a:ext cx="19810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1905480" y="130824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48680" y="13842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470240" y="850680"/>
            <a:ext cx="2177640" cy="322560"/>
            <a:chOff x="1470240" y="850680"/>
            <a:chExt cx="2177640" cy="322560"/>
          </a:xfrm>
        </p:grpSpPr>
        <p:grpSp>
          <p:nvGrpSpPr>
            <p:cNvPr id="447" name=""/>
            <p:cNvGrpSpPr/>
            <p:nvPr/>
          </p:nvGrpSpPr>
          <p:grpSpPr>
            <a:xfrm>
              <a:off x="1470240" y="850680"/>
              <a:ext cx="866520" cy="313200"/>
              <a:chOff x="1470240" y="850680"/>
              <a:chExt cx="866520" cy="31320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1470240" y="8503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899000" y="8600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357640" y="860040"/>
              <a:ext cx="866520" cy="313200"/>
              <a:chOff x="2357640" y="860040"/>
              <a:chExt cx="866520" cy="313200"/>
            </a:xfrm>
          </p:grpSpPr>
          <p:sp>
            <p:nvSpPr>
              <p:cNvPr id="451" name=""/>
              <p:cNvSpPr/>
              <p:nvPr/>
            </p:nvSpPr>
            <p:spPr>
              <a:xfrm flipV="1">
                <a:off x="2357640" y="85968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2786400" y="86940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927440" y="850680"/>
              <a:ext cx="866520" cy="313200"/>
              <a:chOff x="1927440" y="850680"/>
              <a:chExt cx="866520" cy="313200"/>
            </a:xfrm>
          </p:grpSpPr>
          <p:sp>
            <p:nvSpPr>
              <p:cNvPr id="454" name=""/>
              <p:cNvSpPr/>
              <p:nvPr/>
            </p:nvSpPr>
            <p:spPr>
              <a:xfrm flipV="1">
                <a:off x="1927440" y="8503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2356200" y="8600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781360" y="856800"/>
              <a:ext cx="866520" cy="313200"/>
              <a:chOff x="2781360" y="856800"/>
              <a:chExt cx="866520" cy="31320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2781360" y="856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3210120" y="866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548640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4864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7467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15000" y="4952880"/>
          <a:ext cx="137160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952880"/>
                    <a:ext cx="1371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4875120" y="2214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2880" y="2222640"/>
            <a:ext cx="45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9718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19560" y="4572000"/>
            <a:ext cx="31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 normal inci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locity/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55308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9920" y="5791320"/>
            <a:ext cx="39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 as for a singl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743200" y="1295280"/>
          <a:ext cx="7365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295280"/>
                    <a:ext cx="736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562720" y="1371600"/>
          <a:ext cx="132084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1371600"/>
                    <a:ext cx="13208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"/>
          <p:cNvGrpSpPr/>
          <p:nvPr/>
        </p:nvGrpSpPr>
        <p:grpSpPr>
          <a:xfrm>
            <a:off x="7162920" y="5943600"/>
            <a:ext cx="380880" cy="500040"/>
            <a:chOff x="7162920" y="5943600"/>
            <a:chExt cx="380880" cy="500040"/>
          </a:xfrm>
        </p:grpSpPr>
        <p:sp>
          <p:nvSpPr>
            <p:cNvPr id="476" name=""/>
            <p:cNvSpPr/>
            <p:nvPr/>
          </p:nvSpPr>
          <p:spPr>
            <a:xfrm>
              <a:off x="7302240" y="63691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77040" y="63054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46880" y="613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295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5000" y="2743200"/>
            <a:ext cx="25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17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849320" y="1851840"/>
            <a:ext cx="1279440" cy="680760"/>
            <a:chOff x="1849320" y="1851840"/>
            <a:chExt cx="1279440" cy="680760"/>
          </a:xfrm>
        </p:grpSpPr>
        <p:grpSp>
          <p:nvGrpSpPr>
            <p:cNvPr id="484" name=""/>
            <p:cNvGrpSpPr/>
            <p:nvPr/>
          </p:nvGrpSpPr>
          <p:grpSpPr>
            <a:xfrm>
              <a:off x="1849320" y="1851840"/>
              <a:ext cx="1279440" cy="680760"/>
              <a:chOff x="1849320" y="1851840"/>
              <a:chExt cx="1279440" cy="680760"/>
            </a:xfrm>
          </p:grpSpPr>
          <p:sp>
            <p:nvSpPr>
              <p:cNvPr id="485" name=""/>
              <p:cNvSpPr/>
              <p:nvPr/>
            </p:nvSpPr>
            <p:spPr>
              <a:xfrm flipH="1" flipV="1" rot="10800000">
                <a:off x="2144520" y="1851480"/>
                <a:ext cx="984240" cy="6807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10800000">
                <a:off x="2045880" y="2094840"/>
                <a:ext cx="9648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0800000">
                <a:off x="1947240" y="2143440"/>
                <a:ext cx="96120" cy="14580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rot="10800000">
                <a:off x="1848960" y="2094840"/>
                <a:ext cx="96120" cy="24336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 rot="10800000">
              <a:off x="3028680" y="1960560"/>
              <a:ext cx="10008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419720" y="1231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25909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29718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304812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75200" y="254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393920" y="456480"/>
            <a:ext cx="2177640" cy="324000"/>
            <a:chOff x="1393920" y="456480"/>
            <a:chExt cx="2177640" cy="324000"/>
          </a:xfrm>
        </p:grpSpPr>
        <p:grpSp>
          <p:nvGrpSpPr>
            <p:cNvPr id="496" name=""/>
            <p:cNvGrpSpPr/>
            <p:nvPr/>
          </p:nvGrpSpPr>
          <p:grpSpPr>
            <a:xfrm>
              <a:off x="1393920" y="456480"/>
              <a:ext cx="866520" cy="314280"/>
              <a:chOff x="1393920" y="456480"/>
              <a:chExt cx="866520" cy="31428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1393920" y="456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1822680" y="466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281320" y="466200"/>
              <a:ext cx="866520" cy="314280"/>
              <a:chOff x="2281320" y="466200"/>
              <a:chExt cx="866520" cy="314280"/>
            </a:xfrm>
          </p:grpSpPr>
          <p:sp>
            <p:nvSpPr>
              <p:cNvPr id="500" name=""/>
              <p:cNvSpPr/>
              <p:nvPr/>
            </p:nvSpPr>
            <p:spPr>
              <a:xfrm flipV="1">
                <a:off x="2281320" y="465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2710080" y="475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851120" y="456480"/>
              <a:ext cx="866520" cy="314280"/>
              <a:chOff x="1851120" y="456480"/>
              <a:chExt cx="866520" cy="31428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1851120" y="456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2279880" y="466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705040" y="462960"/>
              <a:ext cx="866520" cy="314280"/>
              <a:chOff x="2705040" y="462960"/>
              <a:chExt cx="866520" cy="314280"/>
            </a:xfrm>
          </p:grpSpPr>
          <p:sp>
            <p:nvSpPr>
              <p:cNvPr id="506" name=""/>
              <p:cNvSpPr/>
              <p:nvPr/>
            </p:nvSpPr>
            <p:spPr>
              <a:xfrm flipV="1">
                <a:off x="2705040" y="4626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3133800" y="4726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143000" y="1523880"/>
            <a:ext cx="19810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152388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18288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05320" y="1828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19720" y="1828800"/>
            <a:ext cx="3046320" cy="74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28564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514600" y="1523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2000" y="182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121932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9720" y="205740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3581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10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800600" y="3657600"/>
          <a:ext cx="3524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657600"/>
                    <a:ext cx="352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3733920" y="167652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 rot="1904400">
            <a:off x="4268520" y="1675800"/>
            <a:ext cx="456840" cy="51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9" y="7335"/>
                </a:moveTo>
                <a:arcTo wR="10800" hR="10800" stAng="-1122935" swAng="4114365"/>
                <a:lnTo>
                  <a:pt x="10800" y="10800"/>
                </a:lnTo>
                <a:close/>
              </a:path>
              <a:path fill="none" w="21600" h="21600">
                <a:moveTo>
                  <a:pt x="21029" y="7335"/>
                </a:moveTo>
                <a:arcTo wR="10800" hR="10800" stAng="-1122935" swAng="411436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690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392960" y="2558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19920" y="453960"/>
            <a:ext cx="2958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virtual" point where the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 would arrive  on-axis in the solid i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133720" y="914400"/>
          <a:ext cx="7365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914400"/>
                    <a:ext cx="736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648320" y="990720"/>
          <a:ext cx="132084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990720"/>
                    <a:ext cx="13208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3886200" y="1981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911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392120" y="4240080"/>
          <a:ext cx="308448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92120" y="4240080"/>
                    <a:ext cx="3084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4726080" y="42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275440" y="4030560"/>
          <a:ext cx="2936520" cy="99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75440" y="4030560"/>
                    <a:ext cx="29365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907560" y="495288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gives, in the 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590920" y="5410080"/>
          <a:ext cx="4360680" cy="127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410080"/>
                    <a:ext cx="436068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 flipH="1">
            <a:off x="6400080" y="2285640"/>
            <a:ext cx="152280" cy="61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34" y="1648"/>
                </a:moveTo>
                <a:arcTo wR="10800" hR="10800" stAng="-3476039" swAng="3476039"/>
                <a:lnTo>
                  <a:pt x="10800" y="10800"/>
                </a:lnTo>
                <a:close/>
              </a:path>
              <a:path fill="none" w="21600" h="21600">
                <a:moveTo>
                  <a:pt x="16534" y="1648"/>
                </a:moveTo>
                <a:arcTo wR="10800" hR="10800" stAng="-3476039" swAng="34760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152388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05360" y="220356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57680" y="1924200"/>
            <a:ext cx="62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600200" y="2514600"/>
            <a:ext cx="3808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219320" y="18288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27120" y="185724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230480" y="37386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25880" y="34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828800" y="213336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14640" y="2075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26416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402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367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2060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523880" y="3276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790640" y="2133360"/>
            <a:ext cx="2171880" cy="9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2132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6520" y="15238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x,y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803240" y="27558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31840" y="2819520"/>
            <a:ext cx="330480" cy="13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42640" y="2879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648320" y="2057400"/>
          <a:ext cx="259056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259056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508120" y="838080"/>
            <a:ext cx="595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r-field is usually defined as z &gt; 3N -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the "spherical wave regio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905120" y="4572000"/>
          <a:ext cx="66704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572000"/>
                    <a:ext cx="66704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1669320" y="30492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r-field beam of a planar pist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371600" y="4876920"/>
          <a:ext cx="6172200" cy="9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876920"/>
                    <a:ext cx="617220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7238880" y="2514600"/>
          <a:ext cx="1371600" cy="11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14600"/>
                    <a:ext cx="137160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1523880" y="2252520"/>
          <a:ext cx="5334120" cy="18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252520"/>
                    <a:ext cx="53341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606240" y="83808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2-D spatial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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4267080" y="1066680"/>
          <a:ext cx="27432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066680"/>
                    <a:ext cx="27432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747720" y="1946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9800" y="4308480"/>
            <a:ext cx="55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far field pressure can be writte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124080" y="5803560"/>
            <a:ext cx="2819520" cy="240120"/>
            <a:chOff x="3124080" y="5803560"/>
            <a:chExt cx="2819520" cy="240120"/>
          </a:xfrm>
        </p:grpSpPr>
        <p:sp>
          <p:nvSpPr>
            <p:cNvPr id="587" name=""/>
            <p:cNvSpPr/>
            <p:nvPr/>
          </p:nvSpPr>
          <p:spPr>
            <a:xfrm>
              <a:off x="3124080" y="60436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124080" y="5814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937120" y="5803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199200" y="5805360"/>
            <a:ext cx="1371600" cy="216000"/>
            <a:chOff x="6199200" y="5805360"/>
            <a:chExt cx="1371600" cy="216000"/>
          </a:xfrm>
        </p:grpSpPr>
        <p:sp>
          <p:nvSpPr>
            <p:cNvPr id="591" name=""/>
            <p:cNvSpPr/>
            <p:nvPr/>
          </p:nvSpPr>
          <p:spPr>
            <a:xfrm>
              <a:off x="6199200" y="60213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199200" y="5815080"/>
              <a:ext cx="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567560" y="5805360"/>
              <a:ext cx="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3197160" y="617220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beam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42880" y="617220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 flipH="1">
            <a:off x="106668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54080" y="2603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2540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4760" y="2676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20920" y="284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523880" y="2057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5238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2514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20920" y="17575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54240" y="127008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1536840" y="21337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41760" y="21099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549440" y="1676520"/>
            <a:ext cx="431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80000" y="1525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209680" y="3124080"/>
          <a:ext cx="48006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124080"/>
                    <a:ext cx="48006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952880" y="5029200"/>
          <a:ext cx="198144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029200"/>
                    <a:ext cx="19814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1292040" y="518148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herical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35400" y="38088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tangular Pist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48120" y="1143000"/>
          <a:ext cx="4419360" cy="96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143000"/>
                    <a:ext cx="44193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3414240" y="232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11080" y="345960"/>
            <a:ext cx="66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far-field pattern of a rectangular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057400" y="1599840"/>
            <a:ext cx="5121720" cy="4133520"/>
            <a:chOff x="2057400" y="1599840"/>
            <a:chExt cx="5121720" cy="4133520"/>
          </a:xfrm>
        </p:grpSpPr>
        <p:sp>
          <p:nvSpPr>
            <p:cNvPr id="622" name=""/>
            <p:cNvSpPr/>
            <p:nvPr/>
          </p:nvSpPr>
          <p:spPr>
            <a:xfrm>
              <a:off x="2661480" y="1685160"/>
              <a:ext cx="4485600" cy="36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1480" y="1685160"/>
              <a:ext cx="4485600" cy="3631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1480" y="1685160"/>
              <a:ext cx="448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1480" y="1685160"/>
              <a:ext cx="4485600" cy="3631320"/>
            </a:xfrm>
            <a:custGeom>
              <a:avLst/>
              <a:gdLst/>
              <a:ahLst/>
              <a:rect l="l" t="t" r="r" b="b"/>
              <a:pathLst>
                <a:path w="342" h="342">
                  <a:moveTo>
                    <a:pt x="0" y="342"/>
                  </a:moveTo>
                  <a:lnTo>
                    <a:pt x="342" y="342"/>
                  </a:lnTo>
                  <a:lnTo>
                    <a:pt x="3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661480" y="1599840"/>
              <a:ext cx="2160" cy="371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61480" y="5316480"/>
              <a:ext cx="4485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661480" y="1599840"/>
              <a:ext cx="2160" cy="371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661480" y="5275440"/>
              <a:ext cx="216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1480" y="1685160"/>
              <a:ext cx="2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69680" y="5399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409920" y="5275440"/>
              <a:ext cx="28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09920" y="1685160"/>
              <a:ext cx="28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15960" y="5399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156560" y="5275440"/>
              <a:ext cx="28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6560" y="1685160"/>
              <a:ext cx="28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65120" y="5399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902840" y="5275440"/>
              <a:ext cx="28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02840" y="1685160"/>
              <a:ext cx="28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63600" y="539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654520" y="5275440"/>
              <a:ext cx="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54520" y="1685160"/>
              <a:ext cx="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12400" y="539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00800" y="5275440"/>
              <a:ext cx="216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00800" y="1685160"/>
              <a:ext cx="216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61560" y="539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147080" y="5275440"/>
              <a:ext cx="216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7080" y="1685160"/>
              <a:ext cx="216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08200" y="539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61480" y="5011200"/>
              <a:ext cx="3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095240" y="50112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55480" y="4924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1480" y="4255920"/>
              <a:ext cx="3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095240" y="425592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46200" y="4170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1480" y="3503160"/>
              <a:ext cx="3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095240" y="350316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99840" y="341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1480" y="2736720"/>
              <a:ext cx="385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095240" y="2736720"/>
              <a:ext cx="514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99840" y="265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61480" y="1983960"/>
              <a:ext cx="3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095240" y="1983960"/>
              <a:ext cx="51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06960" y="189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94840" y="1685160"/>
              <a:ext cx="2005560" cy="181080"/>
            </a:xfrm>
            <a:custGeom>
              <a:avLst/>
              <a:gdLst/>
              <a:ahLst/>
              <a:rect l="l" t="t" r="r" b="b"/>
              <a:pathLst>
                <a:path w="153" h="17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3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5"/>
                  </a:lnTo>
                  <a:lnTo>
                    <a:pt x="30" y="15"/>
                  </a:lnTo>
                  <a:lnTo>
                    <a:pt x="33" y="16"/>
                  </a:lnTo>
                  <a:lnTo>
                    <a:pt x="37" y="16"/>
                  </a:lnTo>
                  <a:lnTo>
                    <a:pt x="40" y="16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7"/>
                  </a:lnTo>
                  <a:lnTo>
                    <a:pt x="71" y="17"/>
                  </a:lnTo>
                  <a:lnTo>
                    <a:pt x="75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5" y="17"/>
                  </a:lnTo>
                  <a:lnTo>
                    <a:pt x="89" y="17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6"/>
                  </a:lnTo>
                  <a:lnTo>
                    <a:pt x="113" y="16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7" y="15"/>
                  </a:lnTo>
                  <a:lnTo>
                    <a:pt x="130" y="14"/>
                  </a:lnTo>
                  <a:lnTo>
                    <a:pt x="134" y="14"/>
                  </a:lnTo>
                  <a:lnTo>
                    <a:pt x="135" y="13"/>
                  </a:lnTo>
                  <a:lnTo>
                    <a:pt x="137" y="13"/>
                  </a:lnTo>
                  <a:lnTo>
                    <a:pt x="140" y="12"/>
                  </a:lnTo>
                  <a:lnTo>
                    <a:pt x="144" y="10"/>
                  </a:lnTo>
                  <a:lnTo>
                    <a:pt x="145" y="10"/>
                  </a:lnTo>
                  <a:lnTo>
                    <a:pt x="147" y="8"/>
                  </a:lnTo>
                  <a:lnTo>
                    <a:pt x="150" y="6"/>
                  </a:lnTo>
                  <a:lnTo>
                    <a:pt x="151" y="5"/>
                  </a:lnTo>
                  <a:lnTo>
                    <a:pt x="152" y="3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94840" y="5124600"/>
              <a:ext cx="2005560" cy="191880"/>
            </a:xfrm>
            <a:custGeom>
              <a:avLst/>
              <a:gdLst/>
              <a:ahLst/>
              <a:rect l="l" t="t" r="r" b="b"/>
              <a:pathLst>
                <a:path w="153" h="18">
                  <a:moveTo>
                    <a:pt x="0" y="18"/>
                  </a:move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5" y="4"/>
                  </a:lnTo>
                  <a:lnTo>
                    <a:pt x="137" y="4"/>
                  </a:lnTo>
                  <a:lnTo>
                    <a:pt x="140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50" y="11"/>
                  </a:lnTo>
                  <a:lnTo>
                    <a:pt x="151" y="12"/>
                  </a:lnTo>
                  <a:lnTo>
                    <a:pt x="152" y="14"/>
                  </a:lnTo>
                  <a:lnTo>
                    <a:pt x="153" y="18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1480" y="2558160"/>
              <a:ext cx="774360" cy="34884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0" y="7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3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7" y="11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9" y="18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57" y="25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1" y="29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1" y="32"/>
                  </a:lnTo>
                  <a:lnTo>
                    <a:pt x="38" y="32"/>
                  </a:lnTo>
                  <a:lnTo>
                    <a:pt x="34" y="32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4" y="32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6" y="30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61480" y="3025080"/>
              <a:ext cx="919440" cy="94500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3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5" y="11"/>
                  </a:lnTo>
                  <a:lnTo>
                    <a:pt x="66" y="12"/>
                  </a:lnTo>
                  <a:lnTo>
                    <a:pt x="67" y="15"/>
                  </a:lnTo>
                  <a:lnTo>
                    <a:pt x="68" y="19"/>
                  </a:lnTo>
                  <a:lnTo>
                    <a:pt x="68" y="22"/>
                  </a:lnTo>
                  <a:lnTo>
                    <a:pt x="69" y="24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69" y="39"/>
                  </a:lnTo>
                  <a:lnTo>
                    <a:pt x="70" y="43"/>
                  </a:lnTo>
                  <a:lnTo>
                    <a:pt x="70" y="46"/>
                  </a:lnTo>
                  <a:lnTo>
                    <a:pt x="69" y="50"/>
                  </a:lnTo>
                  <a:lnTo>
                    <a:pt x="69" y="53"/>
                  </a:lnTo>
                  <a:lnTo>
                    <a:pt x="69" y="57"/>
                  </a:lnTo>
                  <a:lnTo>
                    <a:pt x="69" y="60"/>
                  </a:lnTo>
                  <a:lnTo>
                    <a:pt x="69" y="64"/>
                  </a:lnTo>
                  <a:lnTo>
                    <a:pt x="69" y="65"/>
                  </a:lnTo>
                  <a:lnTo>
                    <a:pt x="68" y="67"/>
                  </a:lnTo>
                  <a:lnTo>
                    <a:pt x="68" y="70"/>
                  </a:lnTo>
                  <a:lnTo>
                    <a:pt x="67" y="74"/>
                  </a:lnTo>
                  <a:lnTo>
                    <a:pt x="66" y="77"/>
                  </a:lnTo>
                  <a:lnTo>
                    <a:pt x="65" y="78"/>
                  </a:lnTo>
                  <a:lnTo>
                    <a:pt x="64" y="81"/>
                  </a:lnTo>
                  <a:lnTo>
                    <a:pt x="62" y="83"/>
                  </a:lnTo>
                  <a:lnTo>
                    <a:pt x="60" y="84"/>
                  </a:lnTo>
                  <a:lnTo>
                    <a:pt x="58" y="85"/>
                  </a:lnTo>
                  <a:lnTo>
                    <a:pt x="55" y="86"/>
                  </a:lnTo>
                  <a:lnTo>
                    <a:pt x="5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4" y="88"/>
                  </a:lnTo>
                  <a:lnTo>
                    <a:pt x="41" y="88"/>
                  </a:lnTo>
                  <a:lnTo>
                    <a:pt x="38" y="89"/>
                  </a:lnTo>
                  <a:lnTo>
                    <a:pt x="34" y="89"/>
                  </a:lnTo>
                  <a:lnTo>
                    <a:pt x="31" y="89"/>
                  </a:lnTo>
                  <a:lnTo>
                    <a:pt x="27" y="89"/>
                  </a:lnTo>
                  <a:lnTo>
                    <a:pt x="24" y="89"/>
                  </a:lnTo>
                  <a:lnTo>
                    <a:pt x="20" y="89"/>
                  </a:lnTo>
                  <a:lnTo>
                    <a:pt x="17" y="88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6" y="87"/>
                  </a:lnTo>
                  <a:lnTo>
                    <a:pt x="3" y="87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1480" y="4083480"/>
              <a:ext cx="774360" cy="35316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0" y="6"/>
                  </a:moveTo>
                  <a:lnTo>
                    <a:pt x="1" y="5"/>
                  </a:lnTo>
                  <a:lnTo>
                    <a:pt x="3" y="4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5" y="6"/>
                  </a:lnTo>
                  <a:lnTo>
                    <a:pt x="57" y="8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9" y="15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7" y="22"/>
                  </a:lnTo>
                  <a:lnTo>
                    <a:pt x="55" y="25"/>
                  </a:lnTo>
                  <a:lnTo>
                    <a:pt x="55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4" y="31"/>
                  </a:lnTo>
                  <a:lnTo>
                    <a:pt x="41" y="32"/>
                  </a:lnTo>
                  <a:lnTo>
                    <a:pt x="38" y="3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61920" y="2558160"/>
              <a:ext cx="784800" cy="34884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60" y="7"/>
                  </a:moveTo>
                  <a:lnTo>
                    <a:pt x="56" y="5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9" y="31"/>
                  </a:lnTo>
                  <a:lnTo>
                    <a:pt x="53" y="30"/>
                  </a:lnTo>
                  <a:lnTo>
                    <a:pt x="56" y="29"/>
                  </a:lnTo>
                  <a:lnTo>
                    <a:pt x="58" y="28"/>
                  </a:lnTo>
                  <a:lnTo>
                    <a:pt x="60" y="27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16840" y="3025080"/>
              <a:ext cx="930240" cy="94500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71" y="3"/>
                  </a:move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1" y="60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2" y="70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8" y="83"/>
                  </a:lnTo>
                  <a:lnTo>
                    <a:pt x="10" y="84"/>
                  </a:lnTo>
                  <a:lnTo>
                    <a:pt x="12" y="85"/>
                  </a:lnTo>
                  <a:lnTo>
                    <a:pt x="15" y="86"/>
                  </a:lnTo>
                  <a:lnTo>
                    <a:pt x="19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33" y="89"/>
                  </a:lnTo>
                  <a:lnTo>
                    <a:pt x="36" y="89"/>
                  </a:lnTo>
                  <a:lnTo>
                    <a:pt x="39" y="89"/>
                  </a:lnTo>
                  <a:lnTo>
                    <a:pt x="43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3" y="88"/>
                  </a:lnTo>
                  <a:lnTo>
                    <a:pt x="57" y="88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7"/>
                  </a:lnTo>
                  <a:lnTo>
                    <a:pt x="67" y="87"/>
                  </a:lnTo>
                  <a:lnTo>
                    <a:pt x="71" y="8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361920" y="4083480"/>
              <a:ext cx="784800" cy="3531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60" y="6"/>
                  </a:moveTo>
                  <a:lnTo>
                    <a:pt x="58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6" y="31"/>
                  </a:lnTo>
                  <a:lnTo>
                    <a:pt x="49" y="31"/>
                  </a:lnTo>
                  <a:lnTo>
                    <a:pt x="53" y="29"/>
                  </a:lnTo>
                  <a:lnTo>
                    <a:pt x="54" y="29"/>
                  </a:lnTo>
                  <a:lnTo>
                    <a:pt x="56" y="28"/>
                  </a:lnTo>
                  <a:lnTo>
                    <a:pt x="60" y="2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16640" y="2110680"/>
              <a:ext cx="409320" cy="1699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1" y="6"/>
                  </a:move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8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2" y="16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16640" y="4712040"/>
              <a:ext cx="409320" cy="1699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1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6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71800" y="2110680"/>
              <a:ext cx="404280" cy="1699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0" y="6"/>
                  </a:moveTo>
                  <a:lnTo>
                    <a:pt x="31" y="8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9" y="4"/>
                  </a:lnTo>
                  <a:lnTo>
                    <a:pt x="30" y="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71800" y="4712040"/>
              <a:ext cx="404280" cy="1699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0" y="5"/>
                  </a:moveTo>
                  <a:lnTo>
                    <a:pt x="31" y="8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5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2760" y="2970360"/>
              <a:ext cx="2532240" cy="1051560"/>
            </a:xfrm>
            <a:custGeom>
              <a:avLst/>
              <a:gdLst/>
              <a:ahLst/>
              <a:rect l="l" t="t" r="r" b="b"/>
              <a:pathLst>
                <a:path w="193" h="99">
                  <a:moveTo>
                    <a:pt x="2" y="26"/>
                  </a:moveTo>
                  <a:lnTo>
                    <a:pt x="2" y="24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8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3" y="1"/>
                  </a:lnTo>
                  <a:lnTo>
                    <a:pt x="147" y="1"/>
                  </a:lnTo>
                  <a:lnTo>
                    <a:pt x="150" y="2"/>
                  </a:lnTo>
                  <a:lnTo>
                    <a:pt x="154" y="2"/>
                  </a:lnTo>
                  <a:lnTo>
                    <a:pt x="157" y="2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67" y="3"/>
                  </a:lnTo>
                  <a:lnTo>
                    <a:pt x="171" y="4"/>
                  </a:lnTo>
                  <a:lnTo>
                    <a:pt x="174" y="5"/>
                  </a:lnTo>
                  <a:lnTo>
                    <a:pt x="178" y="6"/>
                  </a:lnTo>
                  <a:lnTo>
                    <a:pt x="180" y="6"/>
                  </a:lnTo>
                  <a:lnTo>
                    <a:pt x="181" y="7"/>
                  </a:lnTo>
                  <a:lnTo>
                    <a:pt x="185" y="9"/>
                  </a:lnTo>
                  <a:lnTo>
                    <a:pt x="185" y="10"/>
                  </a:lnTo>
                  <a:lnTo>
                    <a:pt x="188" y="13"/>
                  </a:lnTo>
                  <a:lnTo>
                    <a:pt x="188" y="13"/>
                  </a:lnTo>
                  <a:lnTo>
                    <a:pt x="190" y="17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92" y="26"/>
                  </a:lnTo>
                  <a:lnTo>
                    <a:pt x="192" y="27"/>
                  </a:lnTo>
                  <a:lnTo>
                    <a:pt x="192" y="31"/>
                  </a:lnTo>
                  <a:lnTo>
                    <a:pt x="192" y="34"/>
                  </a:lnTo>
                  <a:lnTo>
                    <a:pt x="192" y="37"/>
                  </a:lnTo>
                  <a:lnTo>
                    <a:pt x="193" y="41"/>
                  </a:lnTo>
                  <a:lnTo>
                    <a:pt x="193" y="44"/>
                  </a:lnTo>
                  <a:lnTo>
                    <a:pt x="193" y="48"/>
                  </a:lnTo>
                  <a:lnTo>
                    <a:pt x="193" y="51"/>
                  </a:lnTo>
                  <a:lnTo>
                    <a:pt x="193" y="55"/>
                  </a:lnTo>
                  <a:lnTo>
                    <a:pt x="193" y="58"/>
                  </a:lnTo>
                  <a:lnTo>
                    <a:pt x="192" y="62"/>
                  </a:lnTo>
                  <a:lnTo>
                    <a:pt x="192" y="65"/>
                  </a:lnTo>
                  <a:lnTo>
                    <a:pt x="192" y="69"/>
                  </a:lnTo>
                  <a:lnTo>
                    <a:pt x="192" y="72"/>
                  </a:lnTo>
                  <a:lnTo>
                    <a:pt x="192" y="73"/>
                  </a:lnTo>
                  <a:lnTo>
                    <a:pt x="191" y="75"/>
                  </a:lnTo>
                  <a:lnTo>
                    <a:pt x="191" y="79"/>
                  </a:lnTo>
                  <a:lnTo>
                    <a:pt x="190" y="82"/>
                  </a:lnTo>
                  <a:lnTo>
                    <a:pt x="188" y="86"/>
                  </a:lnTo>
                  <a:lnTo>
                    <a:pt x="188" y="86"/>
                  </a:lnTo>
                  <a:lnTo>
                    <a:pt x="185" y="89"/>
                  </a:lnTo>
                  <a:lnTo>
                    <a:pt x="185" y="90"/>
                  </a:lnTo>
                  <a:lnTo>
                    <a:pt x="181" y="92"/>
                  </a:lnTo>
                  <a:lnTo>
                    <a:pt x="180" y="93"/>
                  </a:lnTo>
                  <a:lnTo>
                    <a:pt x="178" y="93"/>
                  </a:lnTo>
                  <a:lnTo>
                    <a:pt x="174" y="94"/>
                  </a:lnTo>
                  <a:lnTo>
                    <a:pt x="171" y="95"/>
                  </a:lnTo>
                  <a:lnTo>
                    <a:pt x="167" y="96"/>
                  </a:lnTo>
                  <a:lnTo>
                    <a:pt x="164" y="96"/>
                  </a:lnTo>
                  <a:lnTo>
                    <a:pt x="161" y="96"/>
                  </a:lnTo>
                  <a:lnTo>
                    <a:pt x="160" y="96"/>
                  </a:lnTo>
                  <a:lnTo>
                    <a:pt x="157" y="97"/>
                  </a:lnTo>
                  <a:lnTo>
                    <a:pt x="154" y="97"/>
                  </a:lnTo>
                  <a:lnTo>
                    <a:pt x="150" y="97"/>
                  </a:lnTo>
                  <a:lnTo>
                    <a:pt x="147" y="98"/>
                  </a:lnTo>
                  <a:lnTo>
                    <a:pt x="143" y="98"/>
                  </a:lnTo>
                  <a:lnTo>
                    <a:pt x="140" y="98"/>
                  </a:lnTo>
                  <a:lnTo>
                    <a:pt x="136" y="98"/>
                  </a:lnTo>
                  <a:lnTo>
                    <a:pt x="133" y="98"/>
                  </a:lnTo>
                  <a:lnTo>
                    <a:pt x="129" y="98"/>
                  </a:lnTo>
                  <a:lnTo>
                    <a:pt x="126" y="99"/>
                  </a:lnTo>
                  <a:lnTo>
                    <a:pt x="122" y="99"/>
                  </a:lnTo>
                  <a:lnTo>
                    <a:pt x="119" y="99"/>
                  </a:lnTo>
                  <a:lnTo>
                    <a:pt x="116" y="99"/>
                  </a:lnTo>
                  <a:lnTo>
                    <a:pt x="112" y="99"/>
                  </a:lnTo>
                  <a:lnTo>
                    <a:pt x="109" y="99"/>
                  </a:lnTo>
                  <a:lnTo>
                    <a:pt x="105" y="99"/>
                  </a:lnTo>
                  <a:lnTo>
                    <a:pt x="102" y="99"/>
                  </a:lnTo>
                  <a:lnTo>
                    <a:pt x="98" y="99"/>
                  </a:lnTo>
                  <a:lnTo>
                    <a:pt x="95" y="99"/>
                  </a:lnTo>
                  <a:lnTo>
                    <a:pt x="91" y="99"/>
                  </a:lnTo>
                  <a:lnTo>
                    <a:pt x="88" y="99"/>
                  </a:lnTo>
                  <a:lnTo>
                    <a:pt x="84" y="99"/>
                  </a:lnTo>
                  <a:lnTo>
                    <a:pt x="81" y="99"/>
                  </a:lnTo>
                  <a:lnTo>
                    <a:pt x="78" y="99"/>
                  </a:lnTo>
                  <a:lnTo>
                    <a:pt x="74" y="99"/>
                  </a:lnTo>
                  <a:lnTo>
                    <a:pt x="71" y="99"/>
                  </a:lnTo>
                  <a:lnTo>
                    <a:pt x="67" y="99"/>
                  </a:lnTo>
                  <a:lnTo>
                    <a:pt x="64" y="98"/>
                  </a:lnTo>
                  <a:lnTo>
                    <a:pt x="60" y="98"/>
                  </a:lnTo>
                  <a:lnTo>
                    <a:pt x="57" y="98"/>
                  </a:lnTo>
                  <a:lnTo>
                    <a:pt x="53" y="98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3" y="97"/>
                  </a:lnTo>
                  <a:lnTo>
                    <a:pt x="40" y="97"/>
                  </a:lnTo>
                  <a:lnTo>
                    <a:pt x="36" y="97"/>
                  </a:lnTo>
                  <a:lnTo>
                    <a:pt x="33" y="96"/>
                  </a:lnTo>
                  <a:lnTo>
                    <a:pt x="32" y="96"/>
                  </a:lnTo>
                  <a:lnTo>
                    <a:pt x="29" y="96"/>
                  </a:lnTo>
                  <a:lnTo>
                    <a:pt x="26" y="96"/>
                  </a:lnTo>
                  <a:lnTo>
                    <a:pt x="22" y="95"/>
                  </a:lnTo>
                  <a:lnTo>
                    <a:pt x="19" y="94"/>
                  </a:lnTo>
                  <a:lnTo>
                    <a:pt x="15" y="93"/>
                  </a:lnTo>
                  <a:lnTo>
                    <a:pt x="13" y="93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8" y="89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3" y="82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5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36800" y="2473200"/>
              <a:ext cx="2321640" cy="486360"/>
            </a:xfrm>
            <a:custGeom>
              <a:avLst/>
              <a:gdLst/>
              <a:ahLst/>
              <a:rect l="l" t="t" r="r" b="b"/>
              <a:pathLst>
                <a:path w="177" h="46">
                  <a:moveTo>
                    <a:pt x="0" y="21"/>
                  </a:moveTo>
                  <a:lnTo>
                    <a:pt x="1" y="19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5" y="1"/>
                  </a:lnTo>
                  <a:lnTo>
                    <a:pt x="139" y="1"/>
                  </a:lnTo>
                  <a:lnTo>
                    <a:pt x="141" y="2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49" y="2"/>
                  </a:lnTo>
                  <a:lnTo>
                    <a:pt x="152" y="3"/>
                  </a:lnTo>
                  <a:lnTo>
                    <a:pt x="156" y="4"/>
                  </a:lnTo>
                  <a:lnTo>
                    <a:pt x="159" y="4"/>
                  </a:lnTo>
                  <a:lnTo>
                    <a:pt x="162" y="5"/>
                  </a:lnTo>
                  <a:lnTo>
                    <a:pt x="163" y="5"/>
                  </a:lnTo>
                  <a:lnTo>
                    <a:pt x="166" y="7"/>
                  </a:lnTo>
                  <a:lnTo>
                    <a:pt x="169" y="8"/>
                  </a:lnTo>
                  <a:lnTo>
                    <a:pt x="170" y="9"/>
                  </a:lnTo>
                  <a:lnTo>
                    <a:pt x="173" y="12"/>
                  </a:lnTo>
                  <a:lnTo>
                    <a:pt x="173" y="12"/>
                  </a:lnTo>
                  <a:lnTo>
                    <a:pt x="175" y="15"/>
                  </a:lnTo>
                  <a:lnTo>
                    <a:pt x="176" y="19"/>
                  </a:lnTo>
                  <a:lnTo>
                    <a:pt x="177" y="21"/>
                  </a:lnTo>
                  <a:lnTo>
                    <a:pt x="177" y="22"/>
                  </a:lnTo>
                  <a:lnTo>
                    <a:pt x="177" y="26"/>
                  </a:lnTo>
                  <a:lnTo>
                    <a:pt x="177" y="29"/>
                  </a:lnTo>
                  <a:lnTo>
                    <a:pt x="177" y="30"/>
                  </a:lnTo>
                  <a:lnTo>
                    <a:pt x="176" y="33"/>
                  </a:lnTo>
                  <a:lnTo>
                    <a:pt x="174" y="36"/>
                  </a:lnTo>
                  <a:lnTo>
                    <a:pt x="173" y="37"/>
                  </a:lnTo>
                  <a:lnTo>
                    <a:pt x="171" y="40"/>
                  </a:lnTo>
                  <a:lnTo>
                    <a:pt x="170" y="40"/>
                  </a:lnTo>
                  <a:lnTo>
                    <a:pt x="166" y="42"/>
                  </a:lnTo>
                  <a:lnTo>
                    <a:pt x="163" y="43"/>
                  </a:lnTo>
                  <a:lnTo>
                    <a:pt x="162" y="43"/>
                  </a:lnTo>
                  <a:lnTo>
                    <a:pt x="159" y="43"/>
                  </a:lnTo>
                  <a:lnTo>
                    <a:pt x="156" y="44"/>
                  </a:lnTo>
                  <a:lnTo>
                    <a:pt x="152" y="44"/>
                  </a:lnTo>
                  <a:lnTo>
                    <a:pt x="149" y="45"/>
                  </a:lnTo>
                  <a:lnTo>
                    <a:pt x="146" y="45"/>
                  </a:lnTo>
                  <a:lnTo>
                    <a:pt x="142" y="45"/>
                  </a:lnTo>
                  <a:lnTo>
                    <a:pt x="139" y="45"/>
                  </a:lnTo>
                  <a:lnTo>
                    <a:pt x="135" y="45"/>
                  </a:lnTo>
                  <a:lnTo>
                    <a:pt x="132" y="45"/>
                  </a:lnTo>
                  <a:lnTo>
                    <a:pt x="128" y="46"/>
                  </a:lnTo>
                  <a:lnTo>
                    <a:pt x="125" y="46"/>
                  </a:lnTo>
                  <a:lnTo>
                    <a:pt x="121" y="46"/>
                  </a:lnTo>
                  <a:lnTo>
                    <a:pt x="118" y="46"/>
                  </a:lnTo>
                  <a:lnTo>
                    <a:pt x="114" y="46"/>
                  </a:lnTo>
                  <a:lnTo>
                    <a:pt x="111" y="46"/>
                  </a:lnTo>
                  <a:lnTo>
                    <a:pt x="108" y="46"/>
                  </a:lnTo>
                  <a:lnTo>
                    <a:pt x="104" y="46"/>
                  </a:lnTo>
                  <a:lnTo>
                    <a:pt x="101" y="46"/>
                  </a:lnTo>
                  <a:lnTo>
                    <a:pt x="97" y="46"/>
                  </a:lnTo>
                  <a:lnTo>
                    <a:pt x="94" y="46"/>
                  </a:lnTo>
                  <a:lnTo>
                    <a:pt x="90" y="46"/>
                  </a:lnTo>
                  <a:lnTo>
                    <a:pt x="87" y="46"/>
                  </a:lnTo>
                  <a:lnTo>
                    <a:pt x="83" y="46"/>
                  </a:lnTo>
                  <a:lnTo>
                    <a:pt x="80" y="46"/>
                  </a:lnTo>
                  <a:lnTo>
                    <a:pt x="76" y="46"/>
                  </a:lnTo>
                  <a:lnTo>
                    <a:pt x="73" y="46"/>
                  </a:lnTo>
                  <a:lnTo>
                    <a:pt x="70" y="46"/>
                  </a:lnTo>
                  <a:lnTo>
                    <a:pt x="66" y="46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6" y="46"/>
                  </a:lnTo>
                  <a:lnTo>
                    <a:pt x="52" y="46"/>
                  </a:lnTo>
                  <a:lnTo>
                    <a:pt x="49" y="46"/>
                  </a:lnTo>
                  <a:lnTo>
                    <a:pt x="45" y="45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5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36800" y="4033800"/>
              <a:ext cx="2321640" cy="488160"/>
            </a:xfrm>
            <a:custGeom>
              <a:avLst/>
              <a:gdLst/>
              <a:ahLst/>
              <a:rect l="l" t="t" r="r" b="b"/>
              <a:pathLst>
                <a:path w="177" h="46">
                  <a:moveTo>
                    <a:pt x="0" y="16"/>
                  </a:moveTo>
                  <a:lnTo>
                    <a:pt x="1" y="13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5" y="1"/>
                  </a:lnTo>
                  <a:lnTo>
                    <a:pt x="139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9" y="1"/>
                  </a:lnTo>
                  <a:lnTo>
                    <a:pt x="152" y="2"/>
                  </a:lnTo>
                  <a:lnTo>
                    <a:pt x="156" y="2"/>
                  </a:lnTo>
                  <a:lnTo>
                    <a:pt x="159" y="3"/>
                  </a:lnTo>
                  <a:lnTo>
                    <a:pt x="162" y="3"/>
                  </a:lnTo>
                  <a:lnTo>
                    <a:pt x="163" y="3"/>
                  </a:lnTo>
                  <a:lnTo>
                    <a:pt x="166" y="4"/>
                  </a:lnTo>
                  <a:lnTo>
                    <a:pt x="170" y="6"/>
                  </a:lnTo>
                  <a:lnTo>
                    <a:pt x="171" y="7"/>
                  </a:lnTo>
                  <a:lnTo>
                    <a:pt x="173" y="9"/>
                  </a:lnTo>
                  <a:lnTo>
                    <a:pt x="174" y="10"/>
                  </a:lnTo>
                  <a:lnTo>
                    <a:pt x="176" y="13"/>
                  </a:lnTo>
                  <a:lnTo>
                    <a:pt x="177" y="16"/>
                  </a:lnTo>
                  <a:lnTo>
                    <a:pt x="177" y="17"/>
                  </a:lnTo>
                  <a:lnTo>
                    <a:pt x="177" y="20"/>
                  </a:lnTo>
                  <a:lnTo>
                    <a:pt x="177" y="24"/>
                  </a:lnTo>
                  <a:lnTo>
                    <a:pt x="177" y="25"/>
                  </a:lnTo>
                  <a:lnTo>
                    <a:pt x="176" y="27"/>
                  </a:lnTo>
                  <a:lnTo>
                    <a:pt x="175" y="31"/>
                  </a:lnTo>
                  <a:lnTo>
                    <a:pt x="173" y="34"/>
                  </a:lnTo>
                  <a:lnTo>
                    <a:pt x="173" y="34"/>
                  </a:lnTo>
                  <a:lnTo>
                    <a:pt x="170" y="37"/>
                  </a:lnTo>
                  <a:lnTo>
                    <a:pt x="169" y="38"/>
                  </a:lnTo>
                  <a:lnTo>
                    <a:pt x="166" y="39"/>
                  </a:lnTo>
                  <a:lnTo>
                    <a:pt x="163" y="41"/>
                  </a:lnTo>
                  <a:lnTo>
                    <a:pt x="162" y="41"/>
                  </a:lnTo>
                  <a:lnTo>
                    <a:pt x="159" y="42"/>
                  </a:lnTo>
                  <a:lnTo>
                    <a:pt x="156" y="42"/>
                  </a:lnTo>
                  <a:lnTo>
                    <a:pt x="152" y="43"/>
                  </a:lnTo>
                  <a:lnTo>
                    <a:pt x="149" y="44"/>
                  </a:lnTo>
                  <a:lnTo>
                    <a:pt x="146" y="44"/>
                  </a:lnTo>
                  <a:lnTo>
                    <a:pt x="142" y="44"/>
                  </a:lnTo>
                  <a:lnTo>
                    <a:pt x="141" y="45"/>
                  </a:lnTo>
                  <a:lnTo>
                    <a:pt x="139" y="45"/>
                  </a:lnTo>
                  <a:lnTo>
                    <a:pt x="135" y="45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5" y="45"/>
                  </a:lnTo>
                  <a:lnTo>
                    <a:pt x="121" y="46"/>
                  </a:lnTo>
                  <a:lnTo>
                    <a:pt x="118" y="46"/>
                  </a:lnTo>
                  <a:lnTo>
                    <a:pt x="114" y="46"/>
                  </a:lnTo>
                  <a:lnTo>
                    <a:pt x="111" y="46"/>
                  </a:lnTo>
                  <a:lnTo>
                    <a:pt x="108" y="46"/>
                  </a:lnTo>
                  <a:lnTo>
                    <a:pt x="104" y="46"/>
                  </a:lnTo>
                  <a:lnTo>
                    <a:pt x="101" y="46"/>
                  </a:lnTo>
                  <a:lnTo>
                    <a:pt x="97" y="46"/>
                  </a:lnTo>
                  <a:lnTo>
                    <a:pt x="94" y="46"/>
                  </a:lnTo>
                  <a:lnTo>
                    <a:pt x="90" y="46"/>
                  </a:lnTo>
                  <a:lnTo>
                    <a:pt x="87" y="46"/>
                  </a:lnTo>
                  <a:lnTo>
                    <a:pt x="83" y="46"/>
                  </a:lnTo>
                  <a:lnTo>
                    <a:pt x="80" y="46"/>
                  </a:lnTo>
                  <a:lnTo>
                    <a:pt x="76" y="46"/>
                  </a:lnTo>
                  <a:lnTo>
                    <a:pt x="73" y="46"/>
                  </a:lnTo>
                  <a:lnTo>
                    <a:pt x="70" y="46"/>
                  </a:lnTo>
                  <a:lnTo>
                    <a:pt x="66" y="46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6" y="46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5" y="43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7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4560" y="1951560"/>
              <a:ext cx="2166480" cy="46656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" y="16"/>
                  </a:moveTo>
                  <a:lnTo>
                    <a:pt x="1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1"/>
                  </a:lnTo>
                  <a:lnTo>
                    <a:pt x="129" y="2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40" y="3"/>
                  </a:lnTo>
                  <a:lnTo>
                    <a:pt x="143" y="4"/>
                  </a:lnTo>
                  <a:lnTo>
                    <a:pt x="146" y="4"/>
                  </a:lnTo>
                  <a:lnTo>
                    <a:pt x="150" y="5"/>
                  </a:lnTo>
                  <a:lnTo>
                    <a:pt x="150" y="6"/>
                  </a:lnTo>
                  <a:lnTo>
                    <a:pt x="153" y="7"/>
                  </a:lnTo>
                  <a:lnTo>
                    <a:pt x="157" y="9"/>
                  </a:lnTo>
                  <a:lnTo>
                    <a:pt x="157" y="9"/>
                  </a:lnTo>
                  <a:lnTo>
                    <a:pt x="160" y="11"/>
                  </a:lnTo>
                  <a:lnTo>
                    <a:pt x="161" y="13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5" y="19"/>
                  </a:lnTo>
                  <a:lnTo>
                    <a:pt x="165" y="23"/>
                  </a:lnTo>
                  <a:lnTo>
                    <a:pt x="165" y="26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2" y="33"/>
                  </a:lnTo>
                  <a:lnTo>
                    <a:pt x="160" y="35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3" y="39"/>
                  </a:lnTo>
                  <a:lnTo>
                    <a:pt x="150" y="40"/>
                  </a:lnTo>
                  <a:lnTo>
                    <a:pt x="148" y="40"/>
                  </a:lnTo>
                  <a:lnTo>
                    <a:pt x="146" y="41"/>
                  </a:lnTo>
                  <a:lnTo>
                    <a:pt x="143" y="41"/>
                  </a:lnTo>
                  <a:lnTo>
                    <a:pt x="140" y="42"/>
                  </a:lnTo>
                  <a:lnTo>
                    <a:pt x="136" y="42"/>
                  </a:lnTo>
                  <a:lnTo>
                    <a:pt x="133" y="42"/>
                  </a:lnTo>
                  <a:lnTo>
                    <a:pt x="129" y="43"/>
                  </a:lnTo>
                  <a:lnTo>
                    <a:pt x="126" y="43"/>
                  </a:lnTo>
                  <a:lnTo>
                    <a:pt x="122" y="43"/>
                  </a:lnTo>
                  <a:lnTo>
                    <a:pt x="119" y="43"/>
                  </a:lnTo>
                  <a:lnTo>
                    <a:pt x="115" y="44"/>
                  </a:lnTo>
                  <a:lnTo>
                    <a:pt x="113" y="44"/>
                  </a:lnTo>
                  <a:lnTo>
                    <a:pt x="112" y="44"/>
                  </a:lnTo>
                  <a:lnTo>
                    <a:pt x="108" y="44"/>
                  </a:lnTo>
                  <a:lnTo>
                    <a:pt x="105" y="44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5" y="44"/>
                  </a:lnTo>
                  <a:lnTo>
                    <a:pt x="91" y="44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1" y="44"/>
                  </a:lnTo>
                  <a:lnTo>
                    <a:pt x="77" y="44"/>
                  </a:lnTo>
                  <a:lnTo>
                    <a:pt x="74" y="44"/>
                  </a:lnTo>
                  <a:lnTo>
                    <a:pt x="70" y="44"/>
                  </a:lnTo>
                  <a:lnTo>
                    <a:pt x="67" y="44"/>
                  </a:lnTo>
                  <a:lnTo>
                    <a:pt x="64" y="44"/>
                  </a:lnTo>
                  <a:lnTo>
                    <a:pt x="60" y="44"/>
                  </a:lnTo>
                  <a:lnTo>
                    <a:pt x="57" y="44"/>
                  </a:lnTo>
                  <a:lnTo>
                    <a:pt x="53" y="44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46" y="43"/>
                  </a:lnTo>
                  <a:lnTo>
                    <a:pt x="43" y="43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6" y="42"/>
                  </a:lnTo>
                  <a:lnTo>
                    <a:pt x="22" y="41"/>
                  </a:lnTo>
                  <a:lnTo>
                    <a:pt x="19" y="41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4560" y="4572720"/>
              <a:ext cx="2166480" cy="469080"/>
            </a:xfrm>
            <a:custGeom>
              <a:avLst/>
              <a:gdLst/>
              <a:ahLst/>
              <a:rect l="l" t="t" r="r" b="b"/>
              <a:pathLst>
                <a:path w="165" h="44">
                  <a:moveTo>
                    <a:pt x="1" y="14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12" y="5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1"/>
                  </a:lnTo>
                  <a:lnTo>
                    <a:pt x="129" y="1"/>
                  </a:lnTo>
                  <a:lnTo>
                    <a:pt x="133" y="2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3" y="3"/>
                  </a:lnTo>
                  <a:lnTo>
                    <a:pt x="146" y="3"/>
                  </a:lnTo>
                  <a:lnTo>
                    <a:pt x="148" y="4"/>
                  </a:lnTo>
                  <a:lnTo>
                    <a:pt x="150" y="4"/>
                  </a:lnTo>
                  <a:lnTo>
                    <a:pt x="153" y="5"/>
                  </a:lnTo>
                  <a:lnTo>
                    <a:pt x="157" y="7"/>
                  </a:lnTo>
                  <a:lnTo>
                    <a:pt x="157" y="7"/>
                  </a:lnTo>
                  <a:lnTo>
                    <a:pt x="160" y="9"/>
                  </a:lnTo>
                  <a:lnTo>
                    <a:pt x="162" y="11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5" y="18"/>
                  </a:lnTo>
                  <a:lnTo>
                    <a:pt x="165" y="21"/>
                  </a:lnTo>
                  <a:lnTo>
                    <a:pt x="165" y="25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61" y="32"/>
                  </a:lnTo>
                  <a:lnTo>
                    <a:pt x="160" y="33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3" y="37"/>
                  </a:lnTo>
                  <a:lnTo>
                    <a:pt x="150" y="38"/>
                  </a:lnTo>
                  <a:lnTo>
                    <a:pt x="150" y="39"/>
                  </a:lnTo>
                  <a:lnTo>
                    <a:pt x="146" y="40"/>
                  </a:lnTo>
                  <a:lnTo>
                    <a:pt x="143" y="40"/>
                  </a:lnTo>
                  <a:lnTo>
                    <a:pt x="140" y="41"/>
                  </a:lnTo>
                  <a:lnTo>
                    <a:pt x="136" y="42"/>
                  </a:lnTo>
                  <a:lnTo>
                    <a:pt x="134" y="42"/>
                  </a:lnTo>
                  <a:lnTo>
                    <a:pt x="133" y="42"/>
                  </a:lnTo>
                  <a:lnTo>
                    <a:pt x="129" y="42"/>
                  </a:lnTo>
                  <a:lnTo>
                    <a:pt x="126" y="43"/>
                  </a:lnTo>
                  <a:lnTo>
                    <a:pt x="122" y="43"/>
                  </a:lnTo>
                  <a:lnTo>
                    <a:pt x="119" y="43"/>
                  </a:lnTo>
                  <a:lnTo>
                    <a:pt x="115" y="43"/>
                  </a:lnTo>
                  <a:lnTo>
                    <a:pt x="112" y="44"/>
                  </a:lnTo>
                  <a:lnTo>
                    <a:pt x="108" y="44"/>
                  </a:lnTo>
                  <a:lnTo>
                    <a:pt x="105" y="44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5" y="44"/>
                  </a:lnTo>
                  <a:lnTo>
                    <a:pt x="91" y="44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1" y="44"/>
                  </a:lnTo>
                  <a:lnTo>
                    <a:pt x="77" y="44"/>
                  </a:lnTo>
                  <a:lnTo>
                    <a:pt x="74" y="44"/>
                  </a:lnTo>
                  <a:lnTo>
                    <a:pt x="70" y="44"/>
                  </a:lnTo>
                  <a:lnTo>
                    <a:pt x="67" y="44"/>
                  </a:lnTo>
                  <a:lnTo>
                    <a:pt x="64" y="44"/>
                  </a:lnTo>
                  <a:lnTo>
                    <a:pt x="60" y="44"/>
                  </a:lnTo>
                  <a:lnTo>
                    <a:pt x="57" y="44"/>
                  </a:lnTo>
                  <a:lnTo>
                    <a:pt x="53" y="44"/>
                  </a:lnTo>
                  <a:lnTo>
                    <a:pt x="50" y="43"/>
                  </a:lnTo>
                  <a:lnTo>
                    <a:pt x="46" y="43"/>
                  </a:lnTo>
                  <a:lnTo>
                    <a:pt x="43" y="43"/>
                  </a:lnTo>
                  <a:lnTo>
                    <a:pt x="39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29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9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2" y="37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00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56560" y="1685160"/>
              <a:ext cx="1485000" cy="136800"/>
            </a:xfrm>
            <a:custGeom>
              <a:avLst/>
              <a:gdLst/>
              <a:ahLst/>
              <a:rect l="l" t="t" r="r" b="b"/>
              <a:pathLst>
                <a:path w="113" h="13">
                  <a:moveTo>
                    <a:pt x="0" y="0"/>
                  </a:moveTo>
                  <a:lnTo>
                    <a:pt x="2" y="3"/>
                  </a:lnTo>
                  <a:lnTo>
                    <a:pt x="3" y="4"/>
                  </a:lnTo>
                  <a:lnTo>
                    <a:pt x="6" y="6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3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9" y="13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0"/>
                  </a:lnTo>
                  <a:lnTo>
                    <a:pt x="95" y="10"/>
                  </a:lnTo>
                  <a:lnTo>
                    <a:pt x="96" y="9"/>
                  </a:lnTo>
                  <a:lnTo>
                    <a:pt x="100" y="8"/>
                  </a:lnTo>
                  <a:lnTo>
                    <a:pt x="103" y="7"/>
                  </a:lnTo>
                  <a:lnTo>
                    <a:pt x="106" y="6"/>
                  </a:lnTo>
                  <a:lnTo>
                    <a:pt x="107" y="6"/>
                  </a:lnTo>
                  <a:lnTo>
                    <a:pt x="110" y="4"/>
                  </a:lnTo>
                  <a:lnTo>
                    <a:pt x="111" y="3"/>
                  </a:lnTo>
                  <a:lnTo>
                    <a:pt x="113" y="0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56560" y="5168520"/>
              <a:ext cx="1485000" cy="147960"/>
            </a:xfrm>
            <a:custGeom>
              <a:avLst/>
              <a:gdLst/>
              <a:ahLst/>
              <a:rect l="l" t="t" r="r" b="b"/>
              <a:pathLst>
                <a:path w="113" h="14">
                  <a:moveTo>
                    <a:pt x="0" y="14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89" y="2"/>
                  </a:lnTo>
                  <a:lnTo>
                    <a:pt x="93" y="3"/>
                  </a:lnTo>
                  <a:lnTo>
                    <a:pt x="95" y="3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06" y="7"/>
                  </a:lnTo>
                  <a:lnTo>
                    <a:pt x="107" y="7"/>
                  </a:lnTo>
                  <a:lnTo>
                    <a:pt x="110" y="9"/>
                  </a:lnTo>
                  <a:lnTo>
                    <a:pt x="111" y="10"/>
                  </a:lnTo>
                  <a:lnTo>
                    <a:pt x="113" y="14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61480" y="3077280"/>
              <a:ext cx="880920" cy="83772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3" y="14"/>
                  </a:lnTo>
                  <a:lnTo>
                    <a:pt x="64" y="17"/>
                  </a:lnTo>
                  <a:lnTo>
                    <a:pt x="65" y="20"/>
                  </a:lnTo>
                  <a:lnTo>
                    <a:pt x="65" y="21"/>
                  </a:lnTo>
                  <a:lnTo>
                    <a:pt x="66" y="24"/>
                  </a:lnTo>
                  <a:lnTo>
                    <a:pt x="66" y="27"/>
                  </a:lnTo>
                  <a:lnTo>
                    <a:pt x="67" y="31"/>
                  </a:lnTo>
                  <a:lnTo>
                    <a:pt x="67" y="34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6" y="52"/>
                  </a:lnTo>
                  <a:lnTo>
                    <a:pt x="66" y="55"/>
                  </a:lnTo>
                  <a:lnTo>
                    <a:pt x="65" y="59"/>
                  </a:lnTo>
                  <a:lnTo>
                    <a:pt x="65" y="59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2" y="68"/>
                  </a:lnTo>
                  <a:lnTo>
                    <a:pt x="61" y="69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5" y="75"/>
                  </a:lnTo>
                  <a:lnTo>
                    <a:pt x="53" y="76"/>
                  </a:lnTo>
                  <a:lnTo>
                    <a:pt x="51" y="76"/>
                  </a:lnTo>
                  <a:lnTo>
                    <a:pt x="48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8" y="79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0" y="79"/>
                  </a:lnTo>
                  <a:lnTo>
                    <a:pt x="17" y="79"/>
                  </a:lnTo>
                  <a:lnTo>
                    <a:pt x="13" y="78"/>
                  </a:lnTo>
                  <a:lnTo>
                    <a:pt x="10" y="78"/>
                  </a:lnTo>
                  <a:lnTo>
                    <a:pt x="6" y="77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5720" y="3077280"/>
              <a:ext cx="891360" cy="83772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68" y="4"/>
                  </a:moveTo>
                  <a:lnTo>
                    <a:pt x="64" y="3"/>
                  </a:lnTo>
                  <a:lnTo>
                    <a:pt x="64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7"/>
                  </a:lnTo>
                  <a:lnTo>
                    <a:pt x="9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5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19" y="77"/>
                  </a:lnTo>
                  <a:lnTo>
                    <a:pt x="23" y="78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6" y="79"/>
                  </a:lnTo>
                  <a:lnTo>
                    <a:pt x="40" y="79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9"/>
                  </a:lnTo>
                  <a:lnTo>
                    <a:pt x="54" y="78"/>
                  </a:lnTo>
                  <a:lnTo>
                    <a:pt x="57" y="78"/>
                  </a:lnTo>
                  <a:lnTo>
                    <a:pt x="61" y="77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8" y="75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72360" y="2992320"/>
              <a:ext cx="2451240" cy="1008000"/>
            </a:xfrm>
            <a:custGeom>
              <a:avLst/>
              <a:gdLst/>
              <a:ahLst/>
              <a:rect l="l" t="t" r="r" b="b"/>
              <a:pathLst>
                <a:path w="187" h="95">
                  <a:moveTo>
                    <a:pt x="2" y="23"/>
                  </a:moveTo>
                  <a:lnTo>
                    <a:pt x="2" y="22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6" y="1"/>
                  </a:lnTo>
                  <a:lnTo>
                    <a:pt x="130" y="1"/>
                  </a:lnTo>
                  <a:lnTo>
                    <a:pt x="133" y="1"/>
                  </a:lnTo>
                  <a:lnTo>
                    <a:pt x="137" y="1"/>
                  </a:lnTo>
                  <a:lnTo>
                    <a:pt x="140" y="2"/>
                  </a:lnTo>
                  <a:lnTo>
                    <a:pt x="144" y="2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4" y="3"/>
                  </a:lnTo>
                  <a:lnTo>
                    <a:pt x="157" y="3"/>
                  </a:lnTo>
                  <a:lnTo>
                    <a:pt x="161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8" y="5"/>
                  </a:lnTo>
                  <a:lnTo>
                    <a:pt x="171" y="7"/>
                  </a:lnTo>
                  <a:lnTo>
                    <a:pt x="174" y="8"/>
                  </a:lnTo>
                  <a:lnTo>
                    <a:pt x="175" y="8"/>
                  </a:lnTo>
                  <a:lnTo>
                    <a:pt x="178" y="11"/>
                  </a:lnTo>
                  <a:lnTo>
                    <a:pt x="179" y="11"/>
                  </a:lnTo>
                  <a:lnTo>
                    <a:pt x="182" y="15"/>
                  </a:lnTo>
                  <a:lnTo>
                    <a:pt x="182" y="15"/>
                  </a:lnTo>
                  <a:lnTo>
                    <a:pt x="183" y="18"/>
                  </a:lnTo>
                  <a:lnTo>
                    <a:pt x="185" y="22"/>
                  </a:lnTo>
                  <a:lnTo>
                    <a:pt x="185" y="23"/>
                  </a:lnTo>
                  <a:lnTo>
                    <a:pt x="186" y="25"/>
                  </a:lnTo>
                  <a:lnTo>
                    <a:pt x="186" y="29"/>
                  </a:lnTo>
                  <a:lnTo>
                    <a:pt x="187" y="32"/>
                  </a:lnTo>
                  <a:lnTo>
                    <a:pt x="187" y="35"/>
                  </a:lnTo>
                  <a:lnTo>
                    <a:pt x="187" y="39"/>
                  </a:lnTo>
                  <a:lnTo>
                    <a:pt x="187" y="42"/>
                  </a:lnTo>
                  <a:lnTo>
                    <a:pt x="187" y="46"/>
                  </a:lnTo>
                  <a:lnTo>
                    <a:pt x="187" y="49"/>
                  </a:lnTo>
                  <a:lnTo>
                    <a:pt x="187" y="53"/>
                  </a:lnTo>
                  <a:lnTo>
                    <a:pt x="187" y="56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6" y="67"/>
                  </a:lnTo>
                  <a:lnTo>
                    <a:pt x="186" y="70"/>
                  </a:lnTo>
                  <a:lnTo>
                    <a:pt x="185" y="72"/>
                  </a:lnTo>
                  <a:lnTo>
                    <a:pt x="185" y="73"/>
                  </a:lnTo>
                  <a:lnTo>
                    <a:pt x="183" y="77"/>
                  </a:lnTo>
                  <a:lnTo>
                    <a:pt x="182" y="80"/>
                  </a:lnTo>
                  <a:lnTo>
                    <a:pt x="182" y="80"/>
                  </a:lnTo>
                  <a:lnTo>
                    <a:pt x="179" y="84"/>
                  </a:lnTo>
                  <a:lnTo>
                    <a:pt x="178" y="84"/>
                  </a:lnTo>
                  <a:lnTo>
                    <a:pt x="175" y="87"/>
                  </a:lnTo>
                  <a:lnTo>
                    <a:pt x="174" y="87"/>
                  </a:lnTo>
                  <a:lnTo>
                    <a:pt x="171" y="88"/>
                  </a:lnTo>
                  <a:lnTo>
                    <a:pt x="168" y="90"/>
                  </a:lnTo>
                  <a:lnTo>
                    <a:pt x="164" y="91"/>
                  </a:lnTo>
                  <a:lnTo>
                    <a:pt x="164" y="91"/>
                  </a:lnTo>
                  <a:lnTo>
                    <a:pt x="161" y="91"/>
                  </a:lnTo>
                  <a:lnTo>
                    <a:pt x="157" y="92"/>
                  </a:lnTo>
                  <a:lnTo>
                    <a:pt x="154" y="92"/>
                  </a:lnTo>
                  <a:lnTo>
                    <a:pt x="151" y="93"/>
                  </a:lnTo>
                  <a:lnTo>
                    <a:pt x="147" y="93"/>
                  </a:lnTo>
                  <a:lnTo>
                    <a:pt x="144" y="93"/>
                  </a:lnTo>
                  <a:lnTo>
                    <a:pt x="140" y="93"/>
                  </a:lnTo>
                  <a:lnTo>
                    <a:pt x="137" y="94"/>
                  </a:lnTo>
                  <a:lnTo>
                    <a:pt x="133" y="94"/>
                  </a:lnTo>
                  <a:lnTo>
                    <a:pt x="130" y="94"/>
                  </a:lnTo>
                  <a:lnTo>
                    <a:pt x="126" y="94"/>
                  </a:lnTo>
                  <a:lnTo>
                    <a:pt x="123" y="94"/>
                  </a:lnTo>
                  <a:lnTo>
                    <a:pt x="122" y="94"/>
                  </a:lnTo>
                  <a:lnTo>
                    <a:pt x="119" y="94"/>
                  </a:lnTo>
                  <a:lnTo>
                    <a:pt x="116" y="94"/>
                  </a:lnTo>
                  <a:lnTo>
                    <a:pt x="113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2" y="95"/>
                  </a:lnTo>
                  <a:lnTo>
                    <a:pt x="99" y="95"/>
                  </a:lnTo>
                  <a:lnTo>
                    <a:pt x="95" y="95"/>
                  </a:lnTo>
                  <a:lnTo>
                    <a:pt x="92" y="95"/>
                  </a:lnTo>
                  <a:lnTo>
                    <a:pt x="88" y="95"/>
                  </a:lnTo>
                  <a:lnTo>
                    <a:pt x="85" y="95"/>
                  </a:lnTo>
                  <a:lnTo>
                    <a:pt x="81" y="95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1" y="94"/>
                  </a:lnTo>
                  <a:lnTo>
                    <a:pt x="68" y="94"/>
                  </a:lnTo>
                  <a:lnTo>
                    <a:pt x="65" y="94"/>
                  </a:lnTo>
                  <a:lnTo>
                    <a:pt x="64" y="94"/>
                  </a:lnTo>
                  <a:lnTo>
                    <a:pt x="61" y="94"/>
                  </a:lnTo>
                  <a:lnTo>
                    <a:pt x="57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7" y="93"/>
                  </a:lnTo>
                  <a:lnTo>
                    <a:pt x="43" y="93"/>
                  </a:lnTo>
                  <a:lnTo>
                    <a:pt x="40" y="93"/>
                  </a:lnTo>
                  <a:lnTo>
                    <a:pt x="37" y="93"/>
                  </a:lnTo>
                  <a:lnTo>
                    <a:pt x="33" y="92"/>
                  </a:lnTo>
                  <a:lnTo>
                    <a:pt x="30" y="92"/>
                  </a:lnTo>
                  <a:lnTo>
                    <a:pt x="26" y="91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7"/>
                  </a:lnTo>
                  <a:lnTo>
                    <a:pt x="12" y="87"/>
                  </a:lnTo>
                  <a:lnTo>
                    <a:pt x="9" y="84"/>
                  </a:lnTo>
                  <a:lnTo>
                    <a:pt x="8" y="84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1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2" y="23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53080" y="2492280"/>
              <a:ext cx="2086200" cy="456120"/>
            </a:xfrm>
            <a:custGeom>
              <a:avLst/>
              <a:gdLst/>
              <a:ahLst/>
              <a:rect l="l" t="t" r="r" b="b"/>
              <a:pathLst>
                <a:path w="159" h="43">
                  <a:moveTo>
                    <a:pt x="2" y="16"/>
                  </a:moveTo>
                  <a:lnTo>
                    <a:pt x="4" y="13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3" y="2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3" y="4"/>
                  </a:lnTo>
                  <a:lnTo>
                    <a:pt x="137" y="4"/>
                  </a:lnTo>
                  <a:lnTo>
                    <a:pt x="140" y="5"/>
                  </a:lnTo>
                  <a:lnTo>
                    <a:pt x="143" y="6"/>
                  </a:lnTo>
                  <a:lnTo>
                    <a:pt x="144" y="6"/>
                  </a:lnTo>
                  <a:lnTo>
                    <a:pt x="147" y="8"/>
                  </a:lnTo>
                  <a:lnTo>
                    <a:pt x="150" y="9"/>
                  </a:lnTo>
                  <a:lnTo>
                    <a:pt x="151" y="10"/>
                  </a:lnTo>
                  <a:lnTo>
                    <a:pt x="154" y="12"/>
                  </a:lnTo>
                  <a:lnTo>
                    <a:pt x="155" y="13"/>
                  </a:lnTo>
                  <a:lnTo>
                    <a:pt x="157" y="16"/>
                  </a:lnTo>
                  <a:lnTo>
                    <a:pt x="157" y="17"/>
                  </a:lnTo>
                  <a:lnTo>
                    <a:pt x="159" y="20"/>
                  </a:lnTo>
                  <a:lnTo>
                    <a:pt x="159" y="24"/>
                  </a:lnTo>
                  <a:lnTo>
                    <a:pt x="159" y="27"/>
                  </a:lnTo>
                  <a:lnTo>
                    <a:pt x="157" y="31"/>
                  </a:lnTo>
                  <a:lnTo>
                    <a:pt x="157" y="31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50" y="36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3" y="39"/>
                  </a:lnTo>
                  <a:lnTo>
                    <a:pt x="140" y="39"/>
                  </a:lnTo>
                  <a:lnTo>
                    <a:pt x="137" y="40"/>
                  </a:lnTo>
                  <a:lnTo>
                    <a:pt x="133" y="41"/>
                  </a:lnTo>
                  <a:lnTo>
                    <a:pt x="130" y="41"/>
                  </a:lnTo>
                  <a:lnTo>
                    <a:pt x="130" y="41"/>
                  </a:lnTo>
                  <a:lnTo>
                    <a:pt x="126" y="41"/>
                  </a:lnTo>
                  <a:lnTo>
                    <a:pt x="123" y="42"/>
                  </a:lnTo>
                  <a:lnTo>
                    <a:pt x="119" y="42"/>
                  </a:lnTo>
                  <a:lnTo>
                    <a:pt x="116" y="42"/>
                  </a:lnTo>
                  <a:lnTo>
                    <a:pt x="112" y="42"/>
                  </a:lnTo>
                  <a:lnTo>
                    <a:pt x="109" y="42"/>
                  </a:lnTo>
                  <a:lnTo>
                    <a:pt x="105" y="42"/>
                  </a:lnTo>
                  <a:lnTo>
                    <a:pt x="102" y="42"/>
                  </a:lnTo>
                  <a:lnTo>
                    <a:pt x="99" y="42"/>
                  </a:lnTo>
                  <a:lnTo>
                    <a:pt x="95" y="42"/>
                  </a:lnTo>
                  <a:lnTo>
                    <a:pt x="92" y="43"/>
                  </a:lnTo>
                  <a:lnTo>
                    <a:pt x="88" y="43"/>
                  </a:lnTo>
                  <a:lnTo>
                    <a:pt x="85" y="43"/>
                  </a:lnTo>
                  <a:lnTo>
                    <a:pt x="81" y="43"/>
                  </a:lnTo>
                  <a:lnTo>
                    <a:pt x="78" y="43"/>
                  </a:lnTo>
                  <a:lnTo>
                    <a:pt x="74" y="43"/>
                  </a:lnTo>
                  <a:lnTo>
                    <a:pt x="71" y="43"/>
                  </a:lnTo>
                  <a:lnTo>
                    <a:pt x="67" y="43"/>
                  </a:lnTo>
                  <a:lnTo>
                    <a:pt x="64" y="42"/>
                  </a:lnTo>
                  <a:lnTo>
                    <a:pt x="61" y="42"/>
                  </a:lnTo>
                  <a:lnTo>
                    <a:pt x="57" y="42"/>
                  </a:lnTo>
                  <a:lnTo>
                    <a:pt x="54" y="42"/>
                  </a:lnTo>
                  <a:lnTo>
                    <a:pt x="50" y="42"/>
                  </a:lnTo>
                  <a:lnTo>
                    <a:pt x="47" y="42"/>
                  </a:lnTo>
                  <a:lnTo>
                    <a:pt x="43" y="42"/>
                  </a:lnTo>
                  <a:lnTo>
                    <a:pt x="40" y="42"/>
                  </a:lnTo>
                  <a:lnTo>
                    <a:pt x="36" y="42"/>
                  </a:lnTo>
                  <a:lnTo>
                    <a:pt x="3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6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16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53080" y="4044600"/>
              <a:ext cx="2086200" cy="455760"/>
            </a:xfrm>
            <a:custGeom>
              <a:avLst/>
              <a:gdLst/>
              <a:ahLst/>
              <a:rect l="l" t="t" r="r" b="b"/>
              <a:pathLst>
                <a:path w="159" h="43">
                  <a:moveTo>
                    <a:pt x="2" y="12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6" y="2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33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3" y="4"/>
                  </a:lnTo>
                  <a:lnTo>
                    <a:pt x="147" y="5"/>
                  </a:lnTo>
                  <a:lnTo>
                    <a:pt x="148" y="6"/>
                  </a:lnTo>
                  <a:lnTo>
                    <a:pt x="150" y="7"/>
                  </a:lnTo>
                  <a:lnTo>
                    <a:pt x="154" y="9"/>
                  </a:lnTo>
                  <a:lnTo>
                    <a:pt x="154" y="9"/>
                  </a:lnTo>
                  <a:lnTo>
                    <a:pt x="157" y="12"/>
                  </a:lnTo>
                  <a:lnTo>
                    <a:pt x="157" y="12"/>
                  </a:lnTo>
                  <a:lnTo>
                    <a:pt x="159" y="16"/>
                  </a:lnTo>
                  <a:lnTo>
                    <a:pt x="159" y="19"/>
                  </a:lnTo>
                  <a:lnTo>
                    <a:pt x="159" y="23"/>
                  </a:lnTo>
                  <a:lnTo>
                    <a:pt x="157" y="26"/>
                  </a:lnTo>
                  <a:lnTo>
                    <a:pt x="157" y="27"/>
                  </a:lnTo>
                  <a:lnTo>
                    <a:pt x="155" y="30"/>
                  </a:lnTo>
                  <a:lnTo>
                    <a:pt x="154" y="31"/>
                  </a:lnTo>
                  <a:lnTo>
                    <a:pt x="151" y="33"/>
                  </a:lnTo>
                  <a:lnTo>
                    <a:pt x="150" y="34"/>
                  </a:lnTo>
                  <a:lnTo>
                    <a:pt x="147" y="35"/>
                  </a:lnTo>
                  <a:lnTo>
                    <a:pt x="144" y="37"/>
                  </a:lnTo>
                  <a:lnTo>
                    <a:pt x="143" y="37"/>
                  </a:lnTo>
                  <a:lnTo>
                    <a:pt x="140" y="38"/>
                  </a:lnTo>
                  <a:lnTo>
                    <a:pt x="137" y="39"/>
                  </a:lnTo>
                  <a:lnTo>
                    <a:pt x="133" y="39"/>
                  </a:lnTo>
                  <a:lnTo>
                    <a:pt x="130" y="40"/>
                  </a:lnTo>
                  <a:lnTo>
                    <a:pt x="129" y="40"/>
                  </a:lnTo>
                  <a:lnTo>
                    <a:pt x="126" y="40"/>
                  </a:lnTo>
                  <a:lnTo>
                    <a:pt x="123" y="41"/>
                  </a:lnTo>
                  <a:lnTo>
                    <a:pt x="119" y="41"/>
                  </a:lnTo>
                  <a:lnTo>
                    <a:pt x="116" y="41"/>
                  </a:lnTo>
                  <a:lnTo>
                    <a:pt x="112" y="42"/>
                  </a:lnTo>
                  <a:lnTo>
                    <a:pt x="109" y="42"/>
                  </a:lnTo>
                  <a:lnTo>
                    <a:pt x="105" y="42"/>
                  </a:lnTo>
                  <a:lnTo>
                    <a:pt x="102" y="42"/>
                  </a:lnTo>
                  <a:lnTo>
                    <a:pt x="99" y="42"/>
                  </a:lnTo>
                  <a:lnTo>
                    <a:pt x="95" y="42"/>
                  </a:lnTo>
                  <a:lnTo>
                    <a:pt x="92" y="43"/>
                  </a:lnTo>
                  <a:lnTo>
                    <a:pt x="88" y="43"/>
                  </a:lnTo>
                  <a:lnTo>
                    <a:pt x="85" y="43"/>
                  </a:lnTo>
                  <a:lnTo>
                    <a:pt x="81" y="43"/>
                  </a:lnTo>
                  <a:lnTo>
                    <a:pt x="78" y="43"/>
                  </a:lnTo>
                  <a:lnTo>
                    <a:pt x="74" y="43"/>
                  </a:lnTo>
                  <a:lnTo>
                    <a:pt x="71" y="43"/>
                  </a:lnTo>
                  <a:lnTo>
                    <a:pt x="67" y="43"/>
                  </a:lnTo>
                  <a:lnTo>
                    <a:pt x="64" y="42"/>
                  </a:lnTo>
                  <a:lnTo>
                    <a:pt x="61" y="42"/>
                  </a:lnTo>
                  <a:lnTo>
                    <a:pt x="57" y="42"/>
                  </a:lnTo>
                  <a:lnTo>
                    <a:pt x="54" y="42"/>
                  </a:lnTo>
                  <a:lnTo>
                    <a:pt x="50" y="42"/>
                  </a:lnTo>
                  <a:lnTo>
                    <a:pt x="47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19" y="38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98520" y="1995120"/>
              <a:ext cx="1798560" cy="390240"/>
            </a:xfrm>
            <a:custGeom>
              <a:avLst/>
              <a:gdLst/>
              <a:ahLst/>
              <a:rect l="l" t="t" r="r" b="b"/>
              <a:pathLst>
                <a:path w="137" h="37">
                  <a:moveTo>
                    <a:pt x="1" y="15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8" y="2"/>
                  </a:lnTo>
                  <a:lnTo>
                    <a:pt x="112" y="3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2" y="5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29" y="9"/>
                  </a:lnTo>
                  <a:lnTo>
                    <a:pt x="132" y="11"/>
                  </a:lnTo>
                  <a:lnTo>
                    <a:pt x="134" y="12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7" y="19"/>
                  </a:lnTo>
                  <a:lnTo>
                    <a:pt x="136" y="22"/>
                  </a:lnTo>
                  <a:lnTo>
                    <a:pt x="136" y="23"/>
                  </a:lnTo>
                  <a:lnTo>
                    <a:pt x="135" y="26"/>
                  </a:lnTo>
                  <a:lnTo>
                    <a:pt x="132" y="28"/>
                  </a:lnTo>
                  <a:lnTo>
                    <a:pt x="130" y="29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19" y="34"/>
                  </a:lnTo>
                  <a:lnTo>
                    <a:pt x="115" y="34"/>
                  </a:lnTo>
                  <a:lnTo>
                    <a:pt x="112" y="35"/>
                  </a:lnTo>
                  <a:lnTo>
                    <a:pt x="108" y="35"/>
                  </a:lnTo>
                  <a:lnTo>
                    <a:pt x="105" y="36"/>
                  </a:lnTo>
                  <a:lnTo>
                    <a:pt x="101" y="36"/>
                  </a:lnTo>
                  <a:lnTo>
                    <a:pt x="101" y="36"/>
                  </a:lnTo>
                  <a:lnTo>
                    <a:pt x="98" y="36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88" y="37"/>
                  </a:lnTo>
                  <a:lnTo>
                    <a:pt x="84" y="37"/>
                  </a:lnTo>
                  <a:lnTo>
                    <a:pt x="81" y="37"/>
                  </a:lnTo>
                  <a:lnTo>
                    <a:pt x="77" y="37"/>
                  </a:lnTo>
                  <a:lnTo>
                    <a:pt x="74" y="37"/>
                  </a:lnTo>
                  <a:lnTo>
                    <a:pt x="70" y="37"/>
                  </a:lnTo>
                  <a:lnTo>
                    <a:pt x="67" y="37"/>
                  </a:lnTo>
                  <a:lnTo>
                    <a:pt x="63" y="37"/>
                  </a:lnTo>
                  <a:lnTo>
                    <a:pt x="60" y="37"/>
                  </a:lnTo>
                  <a:lnTo>
                    <a:pt x="56" y="37"/>
                  </a:lnTo>
                  <a:lnTo>
                    <a:pt x="53" y="37"/>
                  </a:lnTo>
                  <a:lnTo>
                    <a:pt x="50" y="37"/>
                  </a:lnTo>
                  <a:lnTo>
                    <a:pt x="46" y="37"/>
                  </a:lnTo>
                  <a:lnTo>
                    <a:pt x="43" y="37"/>
                  </a:lnTo>
                  <a:lnTo>
                    <a:pt x="39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6"/>
                  </a:lnTo>
                  <a:lnTo>
                    <a:pt x="29" y="35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18" y="34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5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98520" y="4605480"/>
              <a:ext cx="1798560" cy="394920"/>
            </a:xfrm>
            <a:custGeom>
              <a:avLst/>
              <a:gdLst/>
              <a:ahLst/>
              <a:rect l="l" t="t" r="r" b="b"/>
              <a:pathLst>
                <a:path w="137" h="37">
                  <a:moveTo>
                    <a:pt x="1" y="14"/>
                  </a:moveTo>
                  <a:lnTo>
                    <a:pt x="2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2" y="9"/>
                  </a:lnTo>
                  <a:lnTo>
                    <a:pt x="135" y="11"/>
                  </a:lnTo>
                  <a:lnTo>
                    <a:pt x="136" y="14"/>
                  </a:lnTo>
                  <a:lnTo>
                    <a:pt x="136" y="15"/>
                  </a:lnTo>
                  <a:lnTo>
                    <a:pt x="137" y="18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34" y="25"/>
                  </a:lnTo>
                  <a:lnTo>
                    <a:pt x="132" y="26"/>
                  </a:lnTo>
                  <a:lnTo>
                    <a:pt x="129" y="29"/>
                  </a:lnTo>
                  <a:lnTo>
                    <a:pt x="129" y="29"/>
                  </a:lnTo>
                  <a:lnTo>
                    <a:pt x="126" y="30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9" y="33"/>
                  </a:lnTo>
                  <a:lnTo>
                    <a:pt x="115" y="34"/>
                  </a:lnTo>
                  <a:lnTo>
                    <a:pt x="112" y="34"/>
                  </a:lnTo>
                  <a:lnTo>
                    <a:pt x="108" y="35"/>
                  </a:lnTo>
                  <a:lnTo>
                    <a:pt x="105" y="35"/>
                  </a:lnTo>
                  <a:lnTo>
                    <a:pt x="105" y="35"/>
                  </a:lnTo>
                  <a:lnTo>
                    <a:pt x="101" y="36"/>
                  </a:lnTo>
                  <a:lnTo>
                    <a:pt x="98" y="36"/>
                  </a:lnTo>
                  <a:lnTo>
                    <a:pt x="94" y="36"/>
                  </a:lnTo>
                  <a:lnTo>
                    <a:pt x="91" y="37"/>
                  </a:lnTo>
                  <a:lnTo>
                    <a:pt x="88" y="37"/>
                  </a:lnTo>
                  <a:lnTo>
                    <a:pt x="84" y="37"/>
                  </a:lnTo>
                  <a:lnTo>
                    <a:pt x="81" y="37"/>
                  </a:lnTo>
                  <a:lnTo>
                    <a:pt x="77" y="37"/>
                  </a:lnTo>
                  <a:lnTo>
                    <a:pt x="74" y="37"/>
                  </a:lnTo>
                  <a:lnTo>
                    <a:pt x="70" y="37"/>
                  </a:lnTo>
                  <a:lnTo>
                    <a:pt x="67" y="37"/>
                  </a:lnTo>
                  <a:lnTo>
                    <a:pt x="63" y="37"/>
                  </a:lnTo>
                  <a:lnTo>
                    <a:pt x="60" y="37"/>
                  </a:lnTo>
                  <a:lnTo>
                    <a:pt x="56" y="37"/>
                  </a:lnTo>
                  <a:lnTo>
                    <a:pt x="53" y="37"/>
                  </a:lnTo>
                  <a:lnTo>
                    <a:pt x="50" y="37"/>
                  </a:lnTo>
                  <a:lnTo>
                    <a:pt x="46" y="37"/>
                  </a:lnTo>
                  <a:lnTo>
                    <a:pt x="43" y="36"/>
                  </a:lnTo>
                  <a:lnTo>
                    <a:pt x="39" y="36"/>
                  </a:lnTo>
                  <a:lnTo>
                    <a:pt x="36" y="36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2" y="34"/>
                  </a:lnTo>
                  <a:lnTo>
                    <a:pt x="18" y="33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00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59680" y="1685160"/>
              <a:ext cx="878400" cy="74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9" y="7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59680" y="5231520"/>
              <a:ext cx="878400" cy="8496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8"/>
                  </a:moveTo>
                  <a:lnTo>
                    <a:pt x="1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6" y="7"/>
                  </a:lnTo>
                  <a:lnTo>
                    <a:pt x="67" y="8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61480" y="3119040"/>
              <a:ext cx="839520" cy="75492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7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13"/>
                  </a:lnTo>
                  <a:lnTo>
                    <a:pt x="61" y="17"/>
                  </a:lnTo>
                  <a:lnTo>
                    <a:pt x="62" y="17"/>
                  </a:lnTo>
                  <a:lnTo>
                    <a:pt x="62" y="20"/>
                  </a:lnTo>
                  <a:lnTo>
                    <a:pt x="63" y="23"/>
                  </a:lnTo>
                  <a:lnTo>
                    <a:pt x="64" y="27"/>
                  </a:lnTo>
                  <a:lnTo>
                    <a:pt x="64" y="30"/>
                  </a:lnTo>
                  <a:lnTo>
                    <a:pt x="64" y="34"/>
                  </a:lnTo>
                  <a:lnTo>
                    <a:pt x="64" y="37"/>
                  </a:lnTo>
                  <a:lnTo>
                    <a:pt x="64" y="41"/>
                  </a:lnTo>
                  <a:lnTo>
                    <a:pt x="64" y="44"/>
                  </a:lnTo>
                  <a:lnTo>
                    <a:pt x="63" y="48"/>
                  </a:lnTo>
                  <a:lnTo>
                    <a:pt x="62" y="51"/>
                  </a:lnTo>
                  <a:lnTo>
                    <a:pt x="62" y="54"/>
                  </a:lnTo>
                  <a:lnTo>
                    <a:pt x="61" y="55"/>
                  </a:lnTo>
                  <a:lnTo>
                    <a:pt x="60" y="58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5" y="64"/>
                  </a:lnTo>
                  <a:lnTo>
                    <a:pt x="54" y="65"/>
                  </a:lnTo>
                  <a:lnTo>
                    <a:pt x="51" y="67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4" y="69"/>
                  </a:lnTo>
                  <a:lnTo>
                    <a:pt x="41" y="70"/>
                  </a:lnTo>
                  <a:lnTo>
                    <a:pt x="38" y="71"/>
                  </a:lnTo>
                  <a:lnTo>
                    <a:pt x="34" y="71"/>
                  </a:lnTo>
                  <a:lnTo>
                    <a:pt x="31" y="71"/>
                  </a:lnTo>
                  <a:lnTo>
                    <a:pt x="27" y="71"/>
                  </a:lnTo>
                  <a:lnTo>
                    <a:pt x="24" y="71"/>
                  </a:lnTo>
                  <a:lnTo>
                    <a:pt x="20" y="71"/>
                  </a:lnTo>
                  <a:lnTo>
                    <a:pt x="17" y="70"/>
                  </a:lnTo>
                  <a:lnTo>
                    <a:pt x="13" y="70"/>
                  </a:lnTo>
                  <a:lnTo>
                    <a:pt x="10" y="69"/>
                  </a:lnTo>
                  <a:lnTo>
                    <a:pt x="9" y="68"/>
                  </a:lnTo>
                  <a:lnTo>
                    <a:pt x="6" y="68"/>
                  </a:lnTo>
                  <a:lnTo>
                    <a:pt x="3" y="66"/>
                  </a:lnTo>
                  <a:lnTo>
                    <a:pt x="1" y="65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94600" y="3119040"/>
              <a:ext cx="852480" cy="75492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65" y="7"/>
                  </a:moveTo>
                  <a:lnTo>
                    <a:pt x="63" y="6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2" y="54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3" y="67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0" y="69"/>
                  </a:lnTo>
                  <a:lnTo>
                    <a:pt x="23" y="70"/>
                  </a:lnTo>
                  <a:lnTo>
                    <a:pt x="27" y="71"/>
                  </a:lnTo>
                  <a:lnTo>
                    <a:pt x="30" y="71"/>
                  </a:lnTo>
                  <a:lnTo>
                    <a:pt x="33" y="71"/>
                  </a:lnTo>
                  <a:lnTo>
                    <a:pt x="37" y="71"/>
                  </a:lnTo>
                  <a:lnTo>
                    <a:pt x="40" y="71"/>
                  </a:lnTo>
                  <a:lnTo>
                    <a:pt x="44" y="71"/>
                  </a:lnTo>
                  <a:lnTo>
                    <a:pt x="47" y="70"/>
                  </a:lnTo>
                  <a:lnTo>
                    <a:pt x="51" y="70"/>
                  </a:lnTo>
                  <a:lnTo>
                    <a:pt x="54" y="69"/>
                  </a:lnTo>
                  <a:lnTo>
                    <a:pt x="55" y="68"/>
                  </a:lnTo>
                  <a:lnTo>
                    <a:pt x="58" y="68"/>
                  </a:lnTo>
                  <a:lnTo>
                    <a:pt x="61" y="66"/>
                  </a:lnTo>
                  <a:lnTo>
                    <a:pt x="63" y="65"/>
                  </a:lnTo>
                  <a:lnTo>
                    <a:pt x="65" y="64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97920" y="3013920"/>
              <a:ext cx="2399400" cy="964440"/>
            </a:xfrm>
            <a:custGeom>
              <a:avLst/>
              <a:gdLst/>
              <a:ahLst/>
              <a:rect l="l" t="t" r="r" b="b"/>
              <a:pathLst>
                <a:path w="183" h="91">
                  <a:moveTo>
                    <a:pt x="0" y="39"/>
                  </a:move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5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5"/>
                  </a:lnTo>
                  <a:lnTo>
                    <a:pt x="164" y="6"/>
                  </a:lnTo>
                  <a:lnTo>
                    <a:pt x="166" y="7"/>
                  </a:lnTo>
                  <a:lnTo>
                    <a:pt x="169" y="8"/>
                  </a:lnTo>
                  <a:lnTo>
                    <a:pt x="171" y="9"/>
                  </a:lnTo>
                  <a:lnTo>
                    <a:pt x="173" y="11"/>
                  </a:lnTo>
                  <a:lnTo>
                    <a:pt x="175" y="13"/>
                  </a:lnTo>
                  <a:lnTo>
                    <a:pt x="176" y="14"/>
                  </a:lnTo>
                  <a:lnTo>
                    <a:pt x="177" y="16"/>
                  </a:lnTo>
                  <a:lnTo>
                    <a:pt x="179" y="20"/>
                  </a:lnTo>
                  <a:lnTo>
                    <a:pt x="180" y="21"/>
                  </a:lnTo>
                  <a:lnTo>
                    <a:pt x="181" y="23"/>
                  </a:lnTo>
                  <a:lnTo>
                    <a:pt x="181" y="27"/>
                  </a:lnTo>
                  <a:lnTo>
                    <a:pt x="182" y="30"/>
                  </a:lnTo>
                  <a:lnTo>
                    <a:pt x="183" y="33"/>
                  </a:lnTo>
                  <a:lnTo>
                    <a:pt x="183" y="37"/>
                  </a:lnTo>
                  <a:lnTo>
                    <a:pt x="183" y="39"/>
                  </a:lnTo>
                  <a:lnTo>
                    <a:pt x="183" y="40"/>
                  </a:lnTo>
                  <a:lnTo>
                    <a:pt x="183" y="44"/>
                  </a:lnTo>
                  <a:lnTo>
                    <a:pt x="183" y="47"/>
                  </a:lnTo>
                  <a:lnTo>
                    <a:pt x="183" y="51"/>
                  </a:lnTo>
                  <a:lnTo>
                    <a:pt x="183" y="52"/>
                  </a:lnTo>
                  <a:lnTo>
                    <a:pt x="183" y="54"/>
                  </a:lnTo>
                  <a:lnTo>
                    <a:pt x="183" y="58"/>
                  </a:lnTo>
                  <a:lnTo>
                    <a:pt x="182" y="61"/>
                  </a:lnTo>
                  <a:lnTo>
                    <a:pt x="181" y="65"/>
                  </a:lnTo>
                  <a:lnTo>
                    <a:pt x="181" y="68"/>
                  </a:lnTo>
                  <a:lnTo>
                    <a:pt x="180" y="70"/>
                  </a:lnTo>
                  <a:lnTo>
                    <a:pt x="179" y="71"/>
                  </a:lnTo>
                  <a:lnTo>
                    <a:pt x="177" y="75"/>
                  </a:lnTo>
                  <a:lnTo>
                    <a:pt x="176" y="77"/>
                  </a:lnTo>
                  <a:lnTo>
                    <a:pt x="175" y="78"/>
                  </a:lnTo>
                  <a:lnTo>
                    <a:pt x="173" y="80"/>
                  </a:lnTo>
                  <a:lnTo>
                    <a:pt x="171" y="82"/>
                  </a:lnTo>
                  <a:lnTo>
                    <a:pt x="169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2" y="86"/>
                  </a:lnTo>
                  <a:lnTo>
                    <a:pt x="159" y="87"/>
                  </a:lnTo>
                  <a:lnTo>
                    <a:pt x="155" y="88"/>
                  </a:lnTo>
                  <a:lnTo>
                    <a:pt x="152" y="88"/>
                  </a:lnTo>
                  <a:lnTo>
                    <a:pt x="149" y="89"/>
                  </a:lnTo>
                  <a:lnTo>
                    <a:pt x="149" y="89"/>
                  </a:lnTo>
                  <a:lnTo>
                    <a:pt x="145" y="89"/>
                  </a:lnTo>
                  <a:lnTo>
                    <a:pt x="142" y="90"/>
                  </a:lnTo>
                  <a:lnTo>
                    <a:pt x="138" y="90"/>
                  </a:lnTo>
                  <a:lnTo>
                    <a:pt x="135" y="90"/>
                  </a:lnTo>
                  <a:lnTo>
                    <a:pt x="131" y="90"/>
                  </a:lnTo>
                  <a:lnTo>
                    <a:pt x="128" y="91"/>
                  </a:lnTo>
                  <a:lnTo>
                    <a:pt x="124" y="91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1" y="91"/>
                  </a:lnTo>
                  <a:lnTo>
                    <a:pt x="107" y="91"/>
                  </a:lnTo>
                  <a:lnTo>
                    <a:pt x="104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3" y="91"/>
                  </a:lnTo>
                  <a:lnTo>
                    <a:pt x="90" y="91"/>
                  </a:lnTo>
                  <a:lnTo>
                    <a:pt x="86" y="91"/>
                  </a:lnTo>
                  <a:lnTo>
                    <a:pt x="83" y="91"/>
                  </a:lnTo>
                  <a:lnTo>
                    <a:pt x="79" y="91"/>
                  </a:lnTo>
                  <a:lnTo>
                    <a:pt x="76" y="91"/>
                  </a:lnTo>
                  <a:lnTo>
                    <a:pt x="73" y="91"/>
                  </a:lnTo>
                  <a:lnTo>
                    <a:pt x="69" y="91"/>
                  </a:lnTo>
                  <a:lnTo>
                    <a:pt x="66" y="91"/>
                  </a:lnTo>
                  <a:lnTo>
                    <a:pt x="62" y="91"/>
                  </a:lnTo>
                  <a:lnTo>
                    <a:pt x="59" y="91"/>
                  </a:lnTo>
                  <a:lnTo>
                    <a:pt x="55" y="91"/>
                  </a:lnTo>
                  <a:lnTo>
                    <a:pt x="52" y="90"/>
                  </a:lnTo>
                  <a:lnTo>
                    <a:pt x="48" y="90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8" y="89"/>
                  </a:lnTo>
                  <a:lnTo>
                    <a:pt x="35" y="89"/>
                  </a:lnTo>
                  <a:lnTo>
                    <a:pt x="34" y="89"/>
                  </a:lnTo>
                  <a:lnTo>
                    <a:pt x="31" y="88"/>
                  </a:lnTo>
                  <a:lnTo>
                    <a:pt x="28" y="88"/>
                  </a:lnTo>
                  <a:lnTo>
                    <a:pt x="24" y="87"/>
                  </a:lnTo>
                  <a:lnTo>
                    <a:pt x="21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8" y="78"/>
                  </a:lnTo>
                  <a:lnTo>
                    <a:pt x="7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59640" y="2525040"/>
              <a:ext cx="1876320" cy="40356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" y="18"/>
                  </a:moveTo>
                  <a:lnTo>
                    <a:pt x="1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9" y="6"/>
                  </a:lnTo>
                  <a:lnTo>
                    <a:pt x="131" y="7"/>
                  </a:lnTo>
                  <a:lnTo>
                    <a:pt x="132" y="7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39" y="12"/>
                  </a:lnTo>
                  <a:lnTo>
                    <a:pt x="140" y="14"/>
                  </a:lnTo>
                  <a:lnTo>
                    <a:pt x="142" y="17"/>
                  </a:lnTo>
                  <a:lnTo>
                    <a:pt x="142" y="18"/>
                  </a:lnTo>
                  <a:lnTo>
                    <a:pt x="143" y="21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40" y="28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5" y="31"/>
                  </a:lnTo>
                  <a:lnTo>
                    <a:pt x="132" y="33"/>
                  </a:lnTo>
                  <a:lnTo>
                    <a:pt x="129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2" y="35"/>
                  </a:lnTo>
                  <a:lnTo>
                    <a:pt x="118" y="36"/>
                  </a:lnTo>
                  <a:lnTo>
                    <a:pt x="115" y="36"/>
                  </a:lnTo>
                  <a:lnTo>
                    <a:pt x="111" y="37"/>
                  </a:lnTo>
                  <a:lnTo>
                    <a:pt x="108" y="37"/>
                  </a:lnTo>
                  <a:lnTo>
                    <a:pt x="104" y="37"/>
                  </a:lnTo>
                  <a:lnTo>
                    <a:pt x="101" y="38"/>
                  </a:lnTo>
                  <a:lnTo>
                    <a:pt x="97" y="38"/>
                  </a:lnTo>
                  <a:lnTo>
                    <a:pt x="94" y="38"/>
                  </a:lnTo>
                  <a:lnTo>
                    <a:pt x="92" y="38"/>
                  </a:lnTo>
                  <a:lnTo>
                    <a:pt x="91" y="38"/>
                  </a:lnTo>
                  <a:lnTo>
                    <a:pt x="87" y="38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7" y="38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6" y="38"/>
                  </a:lnTo>
                  <a:lnTo>
                    <a:pt x="63" y="38"/>
                  </a:lnTo>
                  <a:lnTo>
                    <a:pt x="59" y="38"/>
                  </a:lnTo>
                  <a:lnTo>
                    <a:pt x="56" y="38"/>
                  </a:lnTo>
                  <a:lnTo>
                    <a:pt x="53" y="38"/>
                  </a:lnTo>
                  <a:lnTo>
                    <a:pt x="51" y="38"/>
                  </a:lnTo>
                  <a:lnTo>
                    <a:pt x="49" y="38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39" y="37"/>
                  </a:lnTo>
                  <a:lnTo>
                    <a:pt x="35" y="37"/>
                  </a:lnTo>
                  <a:lnTo>
                    <a:pt x="32" y="37"/>
                  </a:lnTo>
                  <a:lnTo>
                    <a:pt x="28" y="36"/>
                  </a:lnTo>
                  <a:lnTo>
                    <a:pt x="25" y="36"/>
                  </a:lnTo>
                  <a:lnTo>
                    <a:pt x="21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4"/>
                  </a:lnTo>
                  <a:lnTo>
                    <a:pt x="11" y="33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59640" y="4066200"/>
              <a:ext cx="1876320" cy="40104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" y="14"/>
                  </a:moveTo>
                  <a:lnTo>
                    <a:pt x="1" y="14"/>
                  </a:lnTo>
                  <a:lnTo>
                    <a:pt x="3" y="10"/>
                  </a:lnTo>
                  <a:lnTo>
                    <a:pt x="4" y="9"/>
                  </a:lnTo>
                  <a:lnTo>
                    <a:pt x="7" y="7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18" y="2"/>
                  </a:lnTo>
                  <a:lnTo>
                    <a:pt x="122" y="3"/>
                  </a:lnTo>
                  <a:lnTo>
                    <a:pt x="125" y="3"/>
                  </a:lnTo>
                  <a:lnTo>
                    <a:pt x="126" y="4"/>
                  </a:lnTo>
                  <a:lnTo>
                    <a:pt x="129" y="4"/>
                  </a:lnTo>
                  <a:lnTo>
                    <a:pt x="132" y="5"/>
                  </a:lnTo>
                  <a:lnTo>
                    <a:pt x="135" y="7"/>
                  </a:lnTo>
                  <a:lnTo>
                    <a:pt x="136" y="7"/>
                  </a:lnTo>
                  <a:lnTo>
                    <a:pt x="139" y="9"/>
                  </a:lnTo>
                  <a:lnTo>
                    <a:pt x="140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3" y="17"/>
                  </a:lnTo>
                  <a:lnTo>
                    <a:pt x="142" y="20"/>
                  </a:lnTo>
                  <a:lnTo>
                    <a:pt x="142" y="21"/>
                  </a:lnTo>
                  <a:lnTo>
                    <a:pt x="140" y="24"/>
                  </a:lnTo>
                  <a:lnTo>
                    <a:pt x="139" y="26"/>
                  </a:lnTo>
                  <a:lnTo>
                    <a:pt x="137" y="28"/>
                  </a:lnTo>
                  <a:lnTo>
                    <a:pt x="135" y="29"/>
                  </a:lnTo>
                  <a:lnTo>
                    <a:pt x="132" y="31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5" y="33"/>
                  </a:lnTo>
                  <a:lnTo>
                    <a:pt x="122" y="34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5" y="36"/>
                  </a:lnTo>
                  <a:lnTo>
                    <a:pt x="111" y="36"/>
                  </a:lnTo>
                  <a:lnTo>
                    <a:pt x="108" y="37"/>
                  </a:lnTo>
                  <a:lnTo>
                    <a:pt x="104" y="37"/>
                  </a:lnTo>
                  <a:lnTo>
                    <a:pt x="101" y="37"/>
                  </a:lnTo>
                  <a:lnTo>
                    <a:pt x="97" y="38"/>
                  </a:lnTo>
                  <a:lnTo>
                    <a:pt x="94" y="38"/>
                  </a:lnTo>
                  <a:lnTo>
                    <a:pt x="91" y="38"/>
                  </a:lnTo>
                  <a:lnTo>
                    <a:pt x="88" y="38"/>
                  </a:lnTo>
                  <a:lnTo>
                    <a:pt x="87" y="38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7" y="38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6" y="38"/>
                  </a:lnTo>
                  <a:lnTo>
                    <a:pt x="63" y="38"/>
                  </a:lnTo>
                  <a:lnTo>
                    <a:pt x="59" y="38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3" y="38"/>
                  </a:lnTo>
                  <a:lnTo>
                    <a:pt x="49" y="38"/>
                  </a:lnTo>
                  <a:lnTo>
                    <a:pt x="46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5" y="37"/>
                  </a:lnTo>
                  <a:lnTo>
                    <a:pt x="32" y="36"/>
                  </a:lnTo>
                  <a:lnTo>
                    <a:pt x="28" y="36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1" y="34"/>
                  </a:lnTo>
                  <a:lnTo>
                    <a:pt x="18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82480" y="2036520"/>
              <a:ext cx="1430280" cy="31824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1" y="13"/>
                  </a:moveTo>
                  <a:lnTo>
                    <a:pt x="2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4" y="2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8" y="5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7" y="11"/>
                  </a:lnTo>
                  <a:lnTo>
                    <a:pt x="108" y="13"/>
                  </a:lnTo>
                  <a:lnTo>
                    <a:pt x="109" y="15"/>
                  </a:lnTo>
                  <a:lnTo>
                    <a:pt x="108" y="18"/>
                  </a:lnTo>
                  <a:lnTo>
                    <a:pt x="108" y="19"/>
                  </a:lnTo>
                  <a:lnTo>
                    <a:pt x="105" y="22"/>
                  </a:lnTo>
                  <a:lnTo>
                    <a:pt x="105" y="22"/>
                  </a:lnTo>
                  <a:lnTo>
                    <a:pt x="101" y="24"/>
                  </a:lnTo>
                  <a:lnTo>
                    <a:pt x="99" y="25"/>
                  </a:lnTo>
                  <a:lnTo>
                    <a:pt x="98" y="26"/>
                  </a:lnTo>
                  <a:lnTo>
                    <a:pt x="94" y="26"/>
                  </a:lnTo>
                  <a:lnTo>
                    <a:pt x="91" y="27"/>
                  </a:lnTo>
                  <a:lnTo>
                    <a:pt x="87" y="28"/>
                  </a:lnTo>
                  <a:lnTo>
                    <a:pt x="84" y="29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77" y="29"/>
                  </a:lnTo>
                  <a:lnTo>
                    <a:pt x="74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3" y="30"/>
                  </a:lnTo>
                  <a:lnTo>
                    <a:pt x="49" y="30"/>
                  </a:lnTo>
                  <a:lnTo>
                    <a:pt x="46" y="30"/>
                  </a:lnTo>
                  <a:lnTo>
                    <a:pt x="42" y="30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82480" y="4637880"/>
              <a:ext cx="1430280" cy="31860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1" y="11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1" y="6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9" y="15"/>
                  </a:lnTo>
                  <a:lnTo>
                    <a:pt x="108" y="17"/>
                  </a:lnTo>
                  <a:lnTo>
                    <a:pt x="107" y="19"/>
                  </a:lnTo>
                  <a:lnTo>
                    <a:pt x="105" y="21"/>
                  </a:lnTo>
                  <a:lnTo>
                    <a:pt x="104" y="22"/>
                  </a:lnTo>
                  <a:lnTo>
                    <a:pt x="101" y="23"/>
                  </a:lnTo>
                  <a:lnTo>
                    <a:pt x="98" y="25"/>
                  </a:lnTo>
                  <a:lnTo>
                    <a:pt x="96" y="26"/>
                  </a:lnTo>
                  <a:lnTo>
                    <a:pt x="94" y="26"/>
                  </a:lnTo>
                  <a:lnTo>
                    <a:pt x="91" y="27"/>
                  </a:lnTo>
                  <a:lnTo>
                    <a:pt x="87" y="28"/>
                  </a:lnTo>
                  <a:lnTo>
                    <a:pt x="84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7" y="29"/>
                  </a:lnTo>
                  <a:lnTo>
                    <a:pt x="74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3" y="30"/>
                  </a:lnTo>
                  <a:lnTo>
                    <a:pt x="49" y="30"/>
                  </a:lnTo>
                  <a:lnTo>
                    <a:pt x="46" y="30"/>
                  </a:lnTo>
                  <a:lnTo>
                    <a:pt x="42" y="30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5"/>
                  </a:lnTo>
                  <a:lnTo>
                    <a:pt x="8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61480" y="3160440"/>
              <a:ext cx="800280" cy="669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10"/>
                  </a:moveTo>
                  <a:lnTo>
                    <a:pt x="0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60" y="19"/>
                  </a:lnTo>
                  <a:lnTo>
                    <a:pt x="60" y="23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1" y="33"/>
                  </a:lnTo>
                  <a:lnTo>
                    <a:pt x="61" y="37"/>
                  </a:lnTo>
                  <a:lnTo>
                    <a:pt x="60" y="40"/>
                  </a:lnTo>
                  <a:lnTo>
                    <a:pt x="60" y="44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57" y="51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8" y="59"/>
                  </a:lnTo>
                  <a:lnTo>
                    <a:pt x="44" y="61"/>
                  </a:lnTo>
                  <a:lnTo>
                    <a:pt x="44" y="61"/>
                  </a:lnTo>
                  <a:lnTo>
                    <a:pt x="41" y="62"/>
                  </a:lnTo>
                  <a:lnTo>
                    <a:pt x="38" y="63"/>
                  </a:lnTo>
                  <a:lnTo>
                    <a:pt x="34" y="63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4" y="63"/>
                  </a:lnTo>
                  <a:lnTo>
                    <a:pt x="20" y="62"/>
                  </a:lnTo>
                  <a:lnTo>
                    <a:pt x="17" y="62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0" y="60"/>
                  </a:lnTo>
                  <a:lnTo>
                    <a:pt x="6" y="58"/>
                  </a:lnTo>
                  <a:lnTo>
                    <a:pt x="5" y="57"/>
                  </a:lnTo>
                  <a:lnTo>
                    <a:pt x="3" y="56"/>
                  </a:lnTo>
                  <a:lnTo>
                    <a:pt x="0" y="54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336360" y="3160440"/>
              <a:ext cx="810720" cy="66960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10"/>
                  </a:moveTo>
                  <a:lnTo>
                    <a:pt x="61" y="9"/>
                  </a:lnTo>
                  <a:lnTo>
                    <a:pt x="58" y="7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20" y="62"/>
                  </a:lnTo>
                  <a:lnTo>
                    <a:pt x="24" y="63"/>
                  </a:lnTo>
                  <a:lnTo>
                    <a:pt x="27" y="63"/>
                  </a:lnTo>
                  <a:lnTo>
                    <a:pt x="30" y="63"/>
                  </a:lnTo>
                  <a:lnTo>
                    <a:pt x="34" y="63"/>
                  </a:lnTo>
                  <a:lnTo>
                    <a:pt x="37" y="63"/>
                  </a:lnTo>
                  <a:lnTo>
                    <a:pt x="41" y="62"/>
                  </a:lnTo>
                  <a:lnTo>
                    <a:pt x="44" y="62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51" y="60"/>
                  </a:lnTo>
                  <a:lnTo>
                    <a:pt x="55" y="58"/>
                  </a:lnTo>
                  <a:lnTo>
                    <a:pt x="56" y="57"/>
                  </a:lnTo>
                  <a:lnTo>
                    <a:pt x="58" y="56"/>
                  </a:lnTo>
                  <a:lnTo>
                    <a:pt x="61" y="54"/>
                  </a:lnTo>
                  <a:lnTo>
                    <a:pt x="62" y="53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6360" y="3025080"/>
              <a:ext cx="2345400" cy="94500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1" y="29"/>
                  </a:move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9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9" y="4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3" y="3"/>
                  </a:lnTo>
                  <a:lnTo>
                    <a:pt x="147" y="3"/>
                  </a:lnTo>
                  <a:lnTo>
                    <a:pt x="150" y="4"/>
                  </a:lnTo>
                  <a:lnTo>
                    <a:pt x="153" y="5"/>
                  </a:lnTo>
                  <a:lnTo>
                    <a:pt x="154" y="5"/>
                  </a:lnTo>
                  <a:lnTo>
                    <a:pt x="157" y="6"/>
                  </a:lnTo>
                  <a:lnTo>
                    <a:pt x="160" y="7"/>
                  </a:lnTo>
                  <a:lnTo>
                    <a:pt x="163" y="8"/>
                  </a:lnTo>
                  <a:lnTo>
                    <a:pt x="164" y="9"/>
                  </a:lnTo>
                  <a:lnTo>
                    <a:pt x="167" y="11"/>
                  </a:lnTo>
                  <a:lnTo>
                    <a:pt x="168" y="12"/>
                  </a:lnTo>
                  <a:lnTo>
                    <a:pt x="171" y="14"/>
                  </a:lnTo>
                  <a:lnTo>
                    <a:pt x="172" y="15"/>
                  </a:lnTo>
                  <a:lnTo>
                    <a:pt x="174" y="19"/>
                  </a:lnTo>
                  <a:lnTo>
                    <a:pt x="174" y="19"/>
                  </a:lnTo>
                  <a:lnTo>
                    <a:pt x="176" y="22"/>
                  </a:lnTo>
                  <a:lnTo>
                    <a:pt x="177" y="26"/>
                  </a:lnTo>
                  <a:lnTo>
                    <a:pt x="178" y="29"/>
                  </a:lnTo>
                  <a:lnTo>
                    <a:pt x="178" y="29"/>
                  </a:lnTo>
                  <a:lnTo>
                    <a:pt x="178" y="32"/>
                  </a:lnTo>
                  <a:lnTo>
                    <a:pt x="179" y="36"/>
                  </a:lnTo>
                  <a:lnTo>
                    <a:pt x="179" y="39"/>
                  </a:lnTo>
                  <a:lnTo>
                    <a:pt x="179" y="43"/>
                  </a:lnTo>
                  <a:lnTo>
                    <a:pt x="179" y="46"/>
                  </a:lnTo>
                  <a:lnTo>
                    <a:pt x="179" y="50"/>
                  </a:lnTo>
                  <a:lnTo>
                    <a:pt x="179" y="53"/>
                  </a:lnTo>
                  <a:lnTo>
                    <a:pt x="178" y="57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7" y="64"/>
                  </a:lnTo>
                  <a:lnTo>
                    <a:pt x="176" y="67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72" y="74"/>
                  </a:lnTo>
                  <a:lnTo>
                    <a:pt x="171" y="75"/>
                  </a:lnTo>
                  <a:lnTo>
                    <a:pt x="168" y="77"/>
                  </a:lnTo>
                  <a:lnTo>
                    <a:pt x="167" y="78"/>
                  </a:lnTo>
                  <a:lnTo>
                    <a:pt x="164" y="80"/>
                  </a:lnTo>
                  <a:lnTo>
                    <a:pt x="163" y="81"/>
                  </a:lnTo>
                  <a:lnTo>
                    <a:pt x="160" y="82"/>
                  </a:lnTo>
                  <a:lnTo>
                    <a:pt x="157" y="83"/>
                  </a:lnTo>
                  <a:lnTo>
                    <a:pt x="154" y="84"/>
                  </a:lnTo>
                  <a:lnTo>
                    <a:pt x="153" y="84"/>
                  </a:lnTo>
                  <a:lnTo>
                    <a:pt x="150" y="85"/>
                  </a:lnTo>
                  <a:lnTo>
                    <a:pt x="147" y="86"/>
                  </a:lnTo>
                  <a:lnTo>
                    <a:pt x="143" y="86"/>
                  </a:lnTo>
                  <a:lnTo>
                    <a:pt x="140" y="87"/>
                  </a:lnTo>
                  <a:lnTo>
                    <a:pt x="136" y="87"/>
                  </a:lnTo>
                  <a:lnTo>
                    <a:pt x="133" y="88"/>
                  </a:lnTo>
                  <a:lnTo>
                    <a:pt x="133" y="88"/>
                  </a:lnTo>
                  <a:lnTo>
                    <a:pt x="129" y="88"/>
                  </a:lnTo>
                  <a:lnTo>
                    <a:pt x="126" y="88"/>
                  </a:lnTo>
                  <a:lnTo>
                    <a:pt x="122" y="89"/>
                  </a:lnTo>
                  <a:lnTo>
                    <a:pt x="119" y="89"/>
                  </a:lnTo>
                  <a:lnTo>
                    <a:pt x="115" y="89"/>
                  </a:lnTo>
                  <a:lnTo>
                    <a:pt x="112" y="89"/>
                  </a:lnTo>
                  <a:lnTo>
                    <a:pt x="109" y="89"/>
                  </a:lnTo>
                  <a:lnTo>
                    <a:pt x="105" y="89"/>
                  </a:lnTo>
                  <a:lnTo>
                    <a:pt x="102" y="89"/>
                  </a:lnTo>
                  <a:lnTo>
                    <a:pt x="98" y="89"/>
                  </a:lnTo>
                  <a:lnTo>
                    <a:pt x="95" y="89"/>
                  </a:lnTo>
                  <a:lnTo>
                    <a:pt x="91" y="89"/>
                  </a:lnTo>
                  <a:lnTo>
                    <a:pt x="88" y="89"/>
                  </a:lnTo>
                  <a:lnTo>
                    <a:pt x="84" y="89"/>
                  </a:lnTo>
                  <a:lnTo>
                    <a:pt x="81" y="89"/>
                  </a:lnTo>
                  <a:lnTo>
                    <a:pt x="77" y="89"/>
                  </a:lnTo>
                  <a:lnTo>
                    <a:pt x="74" y="89"/>
                  </a:lnTo>
                  <a:lnTo>
                    <a:pt x="71" y="89"/>
                  </a:lnTo>
                  <a:lnTo>
                    <a:pt x="67" y="89"/>
                  </a:lnTo>
                  <a:lnTo>
                    <a:pt x="64" y="89"/>
                  </a:lnTo>
                  <a:lnTo>
                    <a:pt x="60" y="89"/>
                  </a:lnTo>
                  <a:lnTo>
                    <a:pt x="57" y="89"/>
                  </a:lnTo>
                  <a:lnTo>
                    <a:pt x="53" y="88"/>
                  </a:lnTo>
                  <a:lnTo>
                    <a:pt x="50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3" y="87"/>
                  </a:lnTo>
                  <a:lnTo>
                    <a:pt x="39" y="87"/>
                  </a:lnTo>
                  <a:lnTo>
                    <a:pt x="36" y="86"/>
                  </a:lnTo>
                  <a:lnTo>
                    <a:pt x="33" y="86"/>
                  </a:lnTo>
                  <a:lnTo>
                    <a:pt x="29" y="85"/>
                  </a:lnTo>
                  <a:lnTo>
                    <a:pt x="26" y="84"/>
                  </a:lnTo>
                  <a:lnTo>
                    <a:pt x="25" y="84"/>
                  </a:lnTo>
                  <a:lnTo>
                    <a:pt x="22" y="83"/>
                  </a:lnTo>
                  <a:lnTo>
                    <a:pt x="19" y="82"/>
                  </a:lnTo>
                  <a:lnTo>
                    <a:pt x="16" y="81"/>
                  </a:lnTo>
                  <a:lnTo>
                    <a:pt x="15" y="80"/>
                  </a:lnTo>
                  <a:lnTo>
                    <a:pt x="12" y="78"/>
                  </a:lnTo>
                  <a:lnTo>
                    <a:pt x="11" y="77"/>
                  </a:lnTo>
                  <a:lnTo>
                    <a:pt x="8" y="75"/>
                  </a:lnTo>
                  <a:lnTo>
                    <a:pt x="7" y="74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9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65840" y="2547000"/>
              <a:ext cx="1666080" cy="371160"/>
            </a:xfrm>
            <a:custGeom>
              <a:avLst/>
              <a:gdLst/>
              <a:ahLst/>
              <a:rect l="l" t="t" r="r" b="b"/>
              <a:pathLst>
                <a:path w="127" h="35">
                  <a:moveTo>
                    <a:pt x="3" y="13"/>
                  </a:moveTo>
                  <a:lnTo>
                    <a:pt x="4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6" y="2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4"/>
                  </a:lnTo>
                  <a:lnTo>
                    <a:pt x="110" y="5"/>
                  </a:lnTo>
                  <a:lnTo>
                    <a:pt x="110" y="5"/>
                  </a:lnTo>
                  <a:lnTo>
                    <a:pt x="114" y="6"/>
                  </a:lnTo>
                  <a:lnTo>
                    <a:pt x="117" y="8"/>
                  </a:lnTo>
                  <a:lnTo>
                    <a:pt x="119" y="8"/>
                  </a:lnTo>
                  <a:lnTo>
                    <a:pt x="121" y="10"/>
                  </a:lnTo>
                  <a:lnTo>
                    <a:pt x="123" y="12"/>
                  </a:lnTo>
                  <a:lnTo>
                    <a:pt x="124" y="13"/>
                  </a:lnTo>
                  <a:lnTo>
                    <a:pt x="126" y="15"/>
                  </a:lnTo>
                  <a:lnTo>
                    <a:pt x="127" y="19"/>
                  </a:lnTo>
                  <a:lnTo>
                    <a:pt x="126" y="22"/>
                  </a:lnTo>
                  <a:lnTo>
                    <a:pt x="124" y="25"/>
                  </a:lnTo>
                  <a:lnTo>
                    <a:pt x="123" y="26"/>
                  </a:lnTo>
                  <a:lnTo>
                    <a:pt x="121" y="27"/>
                  </a:lnTo>
                  <a:lnTo>
                    <a:pt x="117" y="29"/>
                  </a:lnTo>
                  <a:lnTo>
                    <a:pt x="117" y="29"/>
                  </a:lnTo>
                  <a:lnTo>
                    <a:pt x="114" y="30"/>
                  </a:lnTo>
                  <a:lnTo>
                    <a:pt x="110" y="31"/>
                  </a:lnTo>
                  <a:lnTo>
                    <a:pt x="107" y="32"/>
                  </a:lnTo>
                  <a:lnTo>
                    <a:pt x="103" y="33"/>
                  </a:lnTo>
                  <a:lnTo>
                    <a:pt x="103" y="33"/>
                  </a:lnTo>
                  <a:lnTo>
                    <a:pt x="100" y="33"/>
                  </a:lnTo>
                  <a:lnTo>
                    <a:pt x="96" y="33"/>
                  </a:lnTo>
                  <a:lnTo>
                    <a:pt x="93" y="34"/>
                  </a:lnTo>
                  <a:lnTo>
                    <a:pt x="89" y="34"/>
                  </a:lnTo>
                  <a:lnTo>
                    <a:pt x="86" y="34"/>
                  </a:lnTo>
                  <a:lnTo>
                    <a:pt x="83" y="34"/>
                  </a:lnTo>
                  <a:lnTo>
                    <a:pt x="79" y="34"/>
                  </a:lnTo>
                  <a:lnTo>
                    <a:pt x="76" y="35"/>
                  </a:lnTo>
                  <a:lnTo>
                    <a:pt x="72" y="35"/>
                  </a:lnTo>
                  <a:lnTo>
                    <a:pt x="69" y="35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1" y="35"/>
                  </a:lnTo>
                  <a:lnTo>
                    <a:pt x="48" y="34"/>
                  </a:lnTo>
                  <a:lnTo>
                    <a:pt x="45" y="34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0" y="32"/>
                  </a:lnTo>
                  <a:lnTo>
                    <a:pt x="17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7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3" y="13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65840" y="4074840"/>
              <a:ext cx="1666080" cy="372960"/>
            </a:xfrm>
            <a:custGeom>
              <a:avLst/>
              <a:gdLst/>
              <a:ahLst/>
              <a:rect l="l" t="t" r="r" b="b"/>
              <a:pathLst>
                <a:path w="127" h="35">
                  <a:moveTo>
                    <a:pt x="3" y="10"/>
                  </a:moveTo>
                  <a:lnTo>
                    <a:pt x="4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3" y="1"/>
                  </a:lnTo>
                  <a:lnTo>
                    <a:pt x="96" y="2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4" y="5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8"/>
                  </a:lnTo>
                  <a:lnTo>
                    <a:pt x="123" y="9"/>
                  </a:lnTo>
                  <a:lnTo>
                    <a:pt x="124" y="10"/>
                  </a:lnTo>
                  <a:lnTo>
                    <a:pt x="126" y="13"/>
                  </a:lnTo>
                  <a:lnTo>
                    <a:pt x="127" y="16"/>
                  </a:lnTo>
                  <a:lnTo>
                    <a:pt x="126" y="20"/>
                  </a:lnTo>
                  <a:lnTo>
                    <a:pt x="124" y="22"/>
                  </a:lnTo>
                  <a:lnTo>
                    <a:pt x="123" y="23"/>
                  </a:lnTo>
                  <a:lnTo>
                    <a:pt x="121" y="25"/>
                  </a:lnTo>
                  <a:lnTo>
                    <a:pt x="119" y="27"/>
                  </a:lnTo>
                  <a:lnTo>
                    <a:pt x="117" y="27"/>
                  </a:lnTo>
                  <a:lnTo>
                    <a:pt x="114" y="29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07" y="31"/>
                  </a:lnTo>
                  <a:lnTo>
                    <a:pt x="103" y="32"/>
                  </a:lnTo>
                  <a:lnTo>
                    <a:pt x="100" y="32"/>
                  </a:lnTo>
                  <a:lnTo>
                    <a:pt x="96" y="33"/>
                  </a:lnTo>
                  <a:lnTo>
                    <a:pt x="93" y="33"/>
                  </a:lnTo>
                  <a:lnTo>
                    <a:pt x="92" y="34"/>
                  </a:lnTo>
                  <a:lnTo>
                    <a:pt x="89" y="34"/>
                  </a:lnTo>
                  <a:lnTo>
                    <a:pt x="86" y="34"/>
                  </a:lnTo>
                  <a:lnTo>
                    <a:pt x="83" y="34"/>
                  </a:lnTo>
                  <a:lnTo>
                    <a:pt x="79" y="35"/>
                  </a:lnTo>
                  <a:lnTo>
                    <a:pt x="76" y="35"/>
                  </a:lnTo>
                  <a:lnTo>
                    <a:pt x="72" y="35"/>
                  </a:lnTo>
                  <a:lnTo>
                    <a:pt x="69" y="35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1" y="35"/>
                  </a:lnTo>
                  <a:lnTo>
                    <a:pt x="48" y="35"/>
                  </a:lnTo>
                  <a:lnTo>
                    <a:pt x="45" y="34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4" y="33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0" y="31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3" y="29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10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92720" y="2080080"/>
              <a:ext cx="1010160" cy="23112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2" y="7"/>
                  </a:move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7" y="11"/>
                  </a:lnTo>
                  <a:lnTo>
                    <a:pt x="76" y="14"/>
                  </a:lnTo>
                  <a:lnTo>
                    <a:pt x="75" y="16"/>
                  </a:lnTo>
                  <a:lnTo>
                    <a:pt x="72" y="18"/>
                  </a:lnTo>
                  <a:lnTo>
                    <a:pt x="71" y="18"/>
                  </a:lnTo>
                  <a:lnTo>
                    <a:pt x="68" y="19"/>
                  </a:lnTo>
                  <a:lnTo>
                    <a:pt x="64" y="20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4" y="22"/>
                  </a:lnTo>
                  <a:lnTo>
                    <a:pt x="51" y="22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3" y="20"/>
                  </a:lnTo>
                  <a:lnTo>
                    <a:pt x="9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7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92720" y="4679640"/>
              <a:ext cx="1010160" cy="23544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2" y="6"/>
                  </a:moveTo>
                  <a:lnTo>
                    <a:pt x="5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2" y="4"/>
                  </a:lnTo>
                  <a:lnTo>
                    <a:pt x="75" y="6"/>
                  </a:lnTo>
                  <a:lnTo>
                    <a:pt x="76" y="8"/>
                  </a:lnTo>
                  <a:lnTo>
                    <a:pt x="77" y="11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1" y="17"/>
                  </a:lnTo>
                  <a:lnTo>
                    <a:pt x="69" y="18"/>
                  </a:lnTo>
                  <a:lnTo>
                    <a:pt x="68" y="18"/>
                  </a:lnTo>
                  <a:lnTo>
                    <a:pt x="64" y="19"/>
                  </a:lnTo>
                  <a:lnTo>
                    <a:pt x="61" y="20"/>
                  </a:lnTo>
                  <a:lnTo>
                    <a:pt x="58" y="21"/>
                  </a:lnTo>
                  <a:lnTo>
                    <a:pt x="54" y="21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0"/>
                  </a:lnTo>
                  <a:lnTo>
                    <a:pt x="13" y="19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00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1480" y="3204000"/>
              <a:ext cx="761400" cy="5850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0" y="14"/>
                  </a:move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7" y="19"/>
                  </a:lnTo>
                  <a:lnTo>
                    <a:pt x="57" y="22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7" y="33"/>
                  </a:lnTo>
                  <a:lnTo>
                    <a:pt x="57" y="36"/>
                  </a:lnTo>
                  <a:lnTo>
                    <a:pt x="56" y="40"/>
                  </a:lnTo>
                  <a:lnTo>
                    <a:pt x="55" y="42"/>
                  </a:lnTo>
                  <a:lnTo>
                    <a:pt x="54" y="43"/>
                  </a:lnTo>
                  <a:lnTo>
                    <a:pt x="52" y="47"/>
                  </a:lnTo>
                  <a:lnTo>
                    <a:pt x="51" y="47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38" y="54"/>
                  </a:lnTo>
                  <a:lnTo>
                    <a:pt x="34" y="55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4" y="55"/>
                  </a:lnTo>
                  <a:lnTo>
                    <a:pt x="20" y="54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10" y="51"/>
                  </a:lnTo>
                  <a:lnTo>
                    <a:pt x="9" y="50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5"/>
                  </a:lnTo>
                  <a:lnTo>
                    <a:pt x="1" y="43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74880" y="3204000"/>
              <a:ext cx="772200" cy="5850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9" y="14"/>
                  </a:moveTo>
                  <a:lnTo>
                    <a:pt x="57" y="12"/>
                  </a:lnTo>
                  <a:lnTo>
                    <a:pt x="55" y="10"/>
                  </a:lnTo>
                  <a:lnTo>
                    <a:pt x="54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2"/>
                  </a:lnTo>
                  <a:lnTo>
                    <a:pt x="4" y="43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7" y="55"/>
                  </a:lnTo>
                  <a:lnTo>
                    <a:pt x="31" y="55"/>
                  </a:lnTo>
                  <a:lnTo>
                    <a:pt x="34" y="55"/>
                  </a:lnTo>
                  <a:lnTo>
                    <a:pt x="38" y="54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5" y="52"/>
                  </a:lnTo>
                  <a:lnTo>
                    <a:pt x="48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5" y="45"/>
                  </a:lnTo>
                  <a:lnTo>
                    <a:pt x="57" y="43"/>
                  </a:lnTo>
                  <a:lnTo>
                    <a:pt x="59" y="41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49760" y="3035880"/>
              <a:ext cx="2296080" cy="92340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3" y="24"/>
                  </a:moveTo>
                  <a:lnTo>
                    <a:pt x="4" y="21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1" y="3"/>
                  </a:lnTo>
                  <a:lnTo>
                    <a:pt x="144" y="4"/>
                  </a:lnTo>
                  <a:lnTo>
                    <a:pt x="145" y="4"/>
                  </a:lnTo>
                  <a:lnTo>
                    <a:pt x="148" y="5"/>
                  </a:lnTo>
                  <a:lnTo>
                    <a:pt x="151" y="6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58" y="9"/>
                  </a:lnTo>
                  <a:lnTo>
                    <a:pt x="162" y="11"/>
                  </a:lnTo>
                  <a:lnTo>
                    <a:pt x="162" y="11"/>
                  </a:lnTo>
                  <a:lnTo>
                    <a:pt x="165" y="13"/>
                  </a:lnTo>
                  <a:lnTo>
                    <a:pt x="166" y="14"/>
                  </a:lnTo>
                  <a:lnTo>
                    <a:pt x="169" y="17"/>
                  </a:lnTo>
                  <a:lnTo>
                    <a:pt x="169" y="18"/>
                  </a:lnTo>
                  <a:lnTo>
                    <a:pt x="171" y="21"/>
                  </a:lnTo>
                  <a:lnTo>
                    <a:pt x="172" y="24"/>
                  </a:lnTo>
                  <a:lnTo>
                    <a:pt x="172" y="25"/>
                  </a:lnTo>
                  <a:lnTo>
                    <a:pt x="173" y="28"/>
                  </a:lnTo>
                  <a:lnTo>
                    <a:pt x="174" y="31"/>
                  </a:lnTo>
                  <a:lnTo>
                    <a:pt x="175" y="35"/>
                  </a:lnTo>
                  <a:lnTo>
                    <a:pt x="175" y="38"/>
                  </a:lnTo>
                  <a:lnTo>
                    <a:pt x="175" y="42"/>
                  </a:lnTo>
                  <a:lnTo>
                    <a:pt x="175" y="45"/>
                  </a:lnTo>
                  <a:lnTo>
                    <a:pt x="175" y="49"/>
                  </a:lnTo>
                  <a:lnTo>
                    <a:pt x="175" y="52"/>
                  </a:lnTo>
                  <a:lnTo>
                    <a:pt x="174" y="56"/>
                  </a:lnTo>
                  <a:lnTo>
                    <a:pt x="173" y="59"/>
                  </a:lnTo>
                  <a:lnTo>
                    <a:pt x="172" y="63"/>
                  </a:lnTo>
                  <a:lnTo>
                    <a:pt x="172" y="63"/>
                  </a:lnTo>
                  <a:lnTo>
                    <a:pt x="171" y="66"/>
                  </a:lnTo>
                  <a:lnTo>
                    <a:pt x="169" y="69"/>
                  </a:lnTo>
                  <a:lnTo>
                    <a:pt x="169" y="70"/>
                  </a:lnTo>
                  <a:lnTo>
                    <a:pt x="166" y="73"/>
                  </a:lnTo>
                  <a:lnTo>
                    <a:pt x="165" y="74"/>
                  </a:lnTo>
                  <a:lnTo>
                    <a:pt x="162" y="76"/>
                  </a:lnTo>
                  <a:lnTo>
                    <a:pt x="162" y="76"/>
                  </a:lnTo>
                  <a:lnTo>
                    <a:pt x="158" y="78"/>
                  </a:lnTo>
                  <a:lnTo>
                    <a:pt x="155" y="80"/>
                  </a:lnTo>
                  <a:lnTo>
                    <a:pt x="155" y="80"/>
                  </a:lnTo>
                  <a:lnTo>
                    <a:pt x="151" y="81"/>
                  </a:lnTo>
                  <a:lnTo>
                    <a:pt x="148" y="82"/>
                  </a:lnTo>
                  <a:lnTo>
                    <a:pt x="145" y="83"/>
                  </a:lnTo>
                  <a:lnTo>
                    <a:pt x="144" y="83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4" y="85"/>
                  </a:lnTo>
                  <a:lnTo>
                    <a:pt x="131" y="85"/>
                  </a:lnTo>
                  <a:lnTo>
                    <a:pt x="127" y="86"/>
                  </a:lnTo>
                  <a:lnTo>
                    <a:pt x="124" y="86"/>
                  </a:lnTo>
                  <a:lnTo>
                    <a:pt x="120" y="86"/>
                  </a:lnTo>
                  <a:lnTo>
                    <a:pt x="117" y="87"/>
                  </a:lnTo>
                  <a:lnTo>
                    <a:pt x="114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7" y="87"/>
                  </a:lnTo>
                  <a:lnTo>
                    <a:pt x="103" y="87"/>
                  </a:lnTo>
                  <a:lnTo>
                    <a:pt x="100" y="87"/>
                  </a:lnTo>
                  <a:lnTo>
                    <a:pt x="96" y="87"/>
                  </a:lnTo>
                  <a:lnTo>
                    <a:pt x="93" y="87"/>
                  </a:lnTo>
                  <a:lnTo>
                    <a:pt x="89" y="87"/>
                  </a:lnTo>
                  <a:lnTo>
                    <a:pt x="86" y="87"/>
                  </a:lnTo>
                  <a:lnTo>
                    <a:pt x="82" y="87"/>
                  </a:lnTo>
                  <a:lnTo>
                    <a:pt x="79" y="87"/>
                  </a:lnTo>
                  <a:lnTo>
                    <a:pt x="75" y="87"/>
                  </a:lnTo>
                  <a:lnTo>
                    <a:pt x="72" y="87"/>
                  </a:lnTo>
                  <a:lnTo>
                    <a:pt x="69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58" y="87"/>
                  </a:lnTo>
                  <a:lnTo>
                    <a:pt x="55" y="86"/>
                  </a:lnTo>
                  <a:lnTo>
                    <a:pt x="51" y="86"/>
                  </a:lnTo>
                  <a:lnTo>
                    <a:pt x="48" y="86"/>
                  </a:lnTo>
                  <a:lnTo>
                    <a:pt x="44" y="85"/>
                  </a:lnTo>
                  <a:lnTo>
                    <a:pt x="41" y="85"/>
                  </a:lnTo>
                  <a:lnTo>
                    <a:pt x="37" y="84"/>
                  </a:lnTo>
                  <a:lnTo>
                    <a:pt x="34" y="84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27" y="82"/>
                  </a:lnTo>
                  <a:lnTo>
                    <a:pt x="24" y="81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17" y="78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0" y="74"/>
                  </a:lnTo>
                  <a:lnTo>
                    <a:pt x="9" y="73"/>
                  </a:lnTo>
                  <a:lnTo>
                    <a:pt x="6" y="70"/>
                  </a:lnTo>
                  <a:lnTo>
                    <a:pt x="6" y="69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3" y="24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69520" y="2566800"/>
              <a:ext cx="1456560" cy="329400"/>
            </a:xfrm>
            <a:custGeom>
              <a:avLst/>
              <a:gdLst/>
              <a:ahLst/>
              <a:rect l="l" t="t" r="r" b="b"/>
              <a:pathLst>
                <a:path w="111" h="31">
                  <a:moveTo>
                    <a:pt x="2" y="13"/>
                  </a:moveTo>
                  <a:lnTo>
                    <a:pt x="5" y="10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2"/>
                  </a:lnTo>
                  <a:lnTo>
                    <a:pt x="81" y="2"/>
                  </a:lnTo>
                  <a:lnTo>
                    <a:pt x="85" y="2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92" y="4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2" y="7"/>
                  </a:lnTo>
                  <a:lnTo>
                    <a:pt x="106" y="9"/>
                  </a:lnTo>
                  <a:lnTo>
                    <a:pt x="106" y="10"/>
                  </a:lnTo>
                  <a:lnTo>
                    <a:pt x="109" y="13"/>
                  </a:lnTo>
                  <a:lnTo>
                    <a:pt x="109" y="13"/>
                  </a:lnTo>
                  <a:lnTo>
                    <a:pt x="111" y="17"/>
                  </a:lnTo>
                  <a:lnTo>
                    <a:pt x="110" y="20"/>
                  </a:lnTo>
                  <a:lnTo>
                    <a:pt x="109" y="21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2" y="25"/>
                  </a:lnTo>
                  <a:lnTo>
                    <a:pt x="99" y="27"/>
                  </a:lnTo>
                  <a:lnTo>
                    <a:pt x="98" y="27"/>
                  </a:lnTo>
                  <a:lnTo>
                    <a:pt x="95" y="28"/>
                  </a:lnTo>
                  <a:lnTo>
                    <a:pt x="92" y="28"/>
                  </a:lnTo>
                  <a:lnTo>
                    <a:pt x="88" y="29"/>
                  </a:lnTo>
                  <a:lnTo>
                    <a:pt x="85" y="29"/>
                  </a:lnTo>
                  <a:lnTo>
                    <a:pt x="81" y="30"/>
                  </a:lnTo>
                  <a:lnTo>
                    <a:pt x="78" y="30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8" y="31"/>
                  </a:lnTo>
                  <a:lnTo>
                    <a:pt x="64" y="31"/>
                  </a:lnTo>
                  <a:lnTo>
                    <a:pt x="61" y="31"/>
                  </a:lnTo>
                  <a:lnTo>
                    <a:pt x="57" y="31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3" y="31"/>
                  </a:lnTo>
                  <a:lnTo>
                    <a:pt x="40" y="31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19" y="28"/>
                  </a:lnTo>
                  <a:lnTo>
                    <a:pt x="16" y="28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2" y="13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69520" y="4094640"/>
              <a:ext cx="1456560" cy="331560"/>
            </a:xfrm>
            <a:custGeom>
              <a:avLst/>
              <a:gdLst/>
              <a:ahLst/>
              <a:rect l="l" t="t" r="r" b="b"/>
              <a:pathLst>
                <a:path w="111" h="31">
                  <a:moveTo>
                    <a:pt x="2" y="10"/>
                  </a:moveTo>
                  <a:lnTo>
                    <a:pt x="5" y="7"/>
                  </a:lnTo>
                  <a:lnTo>
                    <a:pt x="5" y="7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8" y="4"/>
                  </a:lnTo>
                  <a:lnTo>
                    <a:pt x="99" y="4"/>
                  </a:lnTo>
                  <a:lnTo>
                    <a:pt x="102" y="6"/>
                  </a:lnTo>
                  <a:lnTo>
                    <a:pt x="106" y="7"/>
                  </a:lnTo>
                  <a:lnTo>
                    <a:pt x="106" y="7"/>
                  </a:lnTo>
                  <a:lnTo>
                    <a:pt x="109" y="10"/>
                  </a:lnTo>
                  <a:lnTo>
                    <a:pt x="110" y="11"/>
                  </a:lnTo>
                  <a:lnTo>
                    <a:pt x="111" y="14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6" y="21"/>
                  </a:lnTo>
                  <a:lnTo>
                    <a:pt x="106" y="22"/>
                  </a:lnTo>
                  <a:lnTo>
                    <a:pt x="102" y="24"/>
                  </a:lnTo>
                  <a:lnTo>
                    <a:pt x="100" y="25"/>
                  </a:lnTo>
                  <a:lnTo>
                    <a:pt x="99" y="25"/>
                  </a:lnTo>
                  <a:lnTo>
                    <a:pt x="95" y="26"/>
                  </a:lnTo>
                  <a:lnTo>
                    <a:pt x="92" y="27"/>
                  </a:lnTo>
                  <a:lnTo>
                    <a:pt x="88" y="28"/>
                  </a:lnTo>
                  <a:lnTo>
                    <a:pt x="87" y="28"/>
                  </a:lnTo>
                  <a:lnTo>
                    <a:pt x="85" y="29"/>
                  </a:lnTo>
                  <a:lnTo>
                    <a:pt x="81" y="29"/>
                  </a:lnTo>
                  <a:lnTo>
                    <a:pt x="78" y="29"/>
                  </a:lnTo>
                  <a:lnTo>
                    <a:pt x="75" y="30"/>
                  </a:lnTo>
                  <a:lnTo>
                    <a:pt x="71" y="30"/>
                  </a:lnTo>
                  <a:lnTo>
                    <a:pt x="68" y="30"/>
                  </a:lnTo>
                  <a:lnTo>
                    <a:pt x="64" y="30"/>
                  </a:lnTo>
                  <a:lnTo>
                    <a:pt x="61" y="31"/>
                  </a:lnTo>
                  <a:lnTo>
                    <a:pt x="57" y="31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7" y="30"/>
                  </a:lnTo>
                  <a:lnTo>
                    <a:pt x="43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19" y="27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10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82520" y="2151720"/>
              <a:ext cx="433080" cy="95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1" y="3"/>
                  </a:move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8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82520" y="4743000"/>
              <a:ext cx="433080" cy="95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1" y="4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87400" y="3245760"/>
              <a:ext cx="684000" cy="4993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" y="16"/>
                  </a:moveTo>
                  <a:lnTo>
                    <a:pt x="1" y="15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1" y="18"/>
                  </a:lnTo>
                  <a:lnTo>
                    <a:pt x="52" y="22"/>
                  </a:lnTo>
                  <a:lnTo>
                    <a:pt x="52" y="25"/>
                  </a:lnTo>
                  <a:lnTo>
                    <a:pt x="51" y="29"/>
                  </a:lnTo>
                  <a:lnTo>
                    <a:pt x="50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7" y="39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42" y="43"/>
                  </a:lnTo>
                  <a:lnTo>
                    <a:pt x="39" y="45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5" y="47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0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26720" y="3245760"/>
              <a:ext cx="681480" cy="4993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51" y="16"/>
                  </a:moveTo>
                  <a:lnTo>
                    <a:pt x="52" y="18"/>
                  </a:lnTo>
                  <a:lnTo>
                    <a:pt x="52" y="22"/>
                  </a:lnTo>
                  <a:lnTo>
                    <a:pt x="52" y="25"/>
                  </a:lnTo>
                  <a:lnTo>
                    <a:pt x="52" y="29"/>
                  </a:lnTo>
                  <a:lnTo>
                    <a:pt x="51" y="31"/>
                  </a:lnTo>
                  <a:lnTo>
                    <a:pt x="51" y="32"/>
                  </a:lnTo>
                  <a:lnTo>
                    <a:pt x="49" y="36"/>
                  </a:lnTo>
                  <a:lnTo>
                    <a:pt x="48" y="37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37" y="44"/>
                  </a:lnTo>
                  <a:lnTo>
                    <a:pt x="34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7" y="47"/>
                  </a:lnTo>
                  <a:lnTo>
                    <a:pt x="23" y="47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1" y="15"/>
                  </a:lnTo>
                  <a:lnTo>
                    <a:pt x="51" y="16"/>
                  </a:lnTo>
                </a:path>
              </a:pathLst>
            </a:custGeom>
            <a:noFill/>
            <a:ln w="0">
              <a:solidFill>
                <a:srgbClr val="000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75680" y="3044880"/>
              <a:ext cx="2244240" cy="903600"/>
            </a:xfrm>
            <a:custGeom>
              <a:avLst/>
              <a:gdLst/>
              <a:ahLst/>
              <a:rect l="l" t="t" r="r" b="b"/>
              <a:pathLst>
                <a:path w="171" h="85">
                  <a:moveTo>
                    <a:pt x="1" y="32"/>
                  </a:moveTo>
                  <a:lnTo>
                    <a:pt x="1" y="30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2" y="1"/>
                  </a:lnTo>
                  <a:lnTo>
                    <a:pt x="125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43" y="5"/>
                  </a:lnTo>
                  <a:lnTo>
                    <a:pt x="146" y="6"/>
                  </a:lnTo>
                  <a:lnTo>
                    <a:pt x="148" y="6"/>
                  </a:lnTo>
                  <a:lnTo>
                    <a:pt x="149" y="7"/>
                  </a:lnTo>
                  <a:lnTo>
                    <a:pt x="153" y="8"/>
                  </a:lnTo>
                  <a:lnTo>
                    <a:pt x="156" y="10"/>
                  </a:lnTo>
                  <a:lnTo>
                    <a:pt x="156" y="10"/>
                  </a:lnTo>
                  <a:lnTo>
                    <a:pt x="160" y="13"/>
                  </a:lnTo>
                  <a:lnTo>
                    <a:pt x="160" y="13"/>
                  </a:lnTo>
                  <a:lnTo>
                    <a:pt x="163" y="16"/>
                  </a:lnTo>
                  <a:lnTo>
                    <a:pt x="164" y="17"/>
                  </a:lnTo>
                  <a:lnTo>
                    <a:pt x="166" y="20"/>
                  </a:lnTo>
                  <a:lnTo>
                    <a:pt x="167" y="21"/>
                  </a:lnTo>
                  <a:lnTo>
                    <a:pt x="168" y="24"/>
                  </a:lnTo>
                  <a:lnTo>
                    <a:pt x="169" y="27"/>
                  </a:lnTo>
                  <a:lnTo>
                    <a:pt x="170" y="30"/>
                  </a:lnTo>
                  <a:lnTo>
                    <a:pt x="170" y="32"/>
                  </a:lnTo>
                  <a:lnTo>
                    <a:pt x="171" y="34"/>
                  </a:lnTo>
                  <a:lnTo>
                    <a:pt x="171" y="37"/>
                  </a:lnTo>
                  <a:lnTo>
                    <a:pt x="171" y="41"/>
                  </a:lnTo>
                  <a:lnTo>
                    <a:pt x="171" y="44"/>
                  </a:lnTo>
                  <a:lnTo>
                    <a:pt x="171" y="48"/>
                  </a:lnTo>
                  <a:lnTo>
                    <a:pt x="171" y="51"/>
                  </a:lnTo>
                  <a:lnTo>
                    <a:pt x="170" y="53"/>
                  </a:lnTo>
                  <a:lnTo>
                    <a:pt x="170" y="55"/>
                  </a:lnTo>
                  <a:lnTo>
                    <a:pt x="169" y="58"/>
                  </a:lnTo>
                  <a:lnTo>
                    <a:pt x="168" y="62"/>
                  </a:lnTo>
                  <a:lnTo>
                    <a:pt x="167" y="64"/>
                  </a:lnTo>
                  <a:lnTo>
                    <a:pt x="166" y="65"/>
                  </a:lnTo>
                  <a:lnTo>
                    <a:pt x="164" y="68"/>
                  </a:lnTo>
                  <a:lnTo>
                    <a:pt x="163" y="69"/>
                  </a:lnTo>
                  <a:lnTo>
                    <a:pt x="160" y="72"/>
                  </a:lnTo>
                  <a:lnTo>
                    <a:pt x="160" y="72"/>
                  </a:lnTo>
                  <a:lnTo>
                    <a:pt x="156" y="75"/>
                  </a:lnTo>
                  <a:lnTo>
                    <a:pt x="156" y="75"/>
                  </a:lnTo>
                  <a:lnTo>
                    <a:pt x="153" y="77"/>
                  </a:lnTo>
                  <a:lnTo>
                    <a:pt x="149" y="78"/>
                  </a:lnTo>
                  <a:lnTo>
                    <a:pt x="148" y="79"/>
                  </a:lnTo>
                  <a:lnTo>
                    <a:pt x="146" y="79"/>
                  </a:lnTo>
                  <a:lnTo>
                    <a:pt x="143" y="80"/>
                  </a:lnTo>
                  <a:lnTo>
                    <a:pt x="139" y="81"/>
                  </a:lnTo>
                  <a:lnTo>
                    <a:pt x="136" y="82"/>
                  </a:lnTo>
                  <a:lnTo>
                    <a:pt x="134" y="82"/>
                  </a:lnTo>
                  <a:lnTo>
                    <a:pt x="132" y="83"/>
                  </a:lnTo>
                  <a:lnTo>
                    <a:pt x="129" y="83"/>
                  </a:lnTo>
                  <a:lnTo>
                    <a:pt x="125" y="83"/>
                  </a:lnTo>
                  <a:lnTo>
                    <a:pt x="122" y="84"/>
                  </a:lnTo>
                  <a:lnTo>
                    <a:pt x="118" y="84"/>
                  </a:lnTo>
                  <a:lnTo>
                    <a:pt x="115" y="84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5"/>
                  </a:lnTo>
                  <a:lnTo>
                    <a:pt x="101" y="85"/>
                  </a:lnTo>
                  <a:lnTo>
                    <a:pt x="98" y="85"/>
                  </a:lnTo>
                  <a:lnTo>
                    <a:pt x="94" y="85"/>
                  </a:lnTo>
                  <a:lnTo>
                    <a:pt x="91" y="85"/>
                  </a:lnTo>
                  <a:lnTo>
                    <a:pt x="87" y="85"/>
                  </a:lnTo>
                  <a:lnTo>
                    <a:pt x="84" y="85"/>
                  </a:lnTo>
                  <a:lnTo>
                    <a:pt x="80" y="85"/>
                  </a:lnTo>
                  <a:lnTo>
                    <a:pt x="77" y="85"/>
                  </a:lnTo>
                  <a:lnTo>
                    <a:pt x="73" y="85"/>
                  </a:lnTo>
                  <a:lnTo>
                    <a:pt x="70" y="85"/>
                  </a:lnTo>
                  <a:lnTo>
                    <a:pt x="67" y="85"/>
                  </a:lnTo>
                  <a:lnTo>
                    <a:pt x="63" y="85"/>
                  </a:lnTo>
                  <a:lnTo>
                    <a:pt x="60" y="85"/>
                  </a:lnTo>
                  <a:lnTo>
                    <a:pt x="56" y="84"/>
                  </a:lnTo>
                  <a:lnTo>
                    <a:pt x="53" y="84"/>
                  </a:lnTo>
                  <a:lnTo>
                    <a:pt x="49" y="84"/>
                  </a:lnTo>
                  <a:lnTo>
                    <a:pt x="46" y="83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7" y="82"/>
                  </a:lnTo>
                  <a:lnTo>
                    <a:pt x="35" y="82"/>
                  </a:lnTo>
                  <a:lnTo>
                    <a:pt x="32" y="81"/>
                  </a:lnTo>
                  <a:lnTo>
                    <a:pt x="29" y="80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2" y="78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8" y="69"/>
                  </a:lnTo>
                  <a:lnTo>
                    <a:pt x="7" y="68"/>
                  </a:lnTo>
                  <a:lnTo>
                    <a:pt x="5" y="65"/>
                  </a:lnTo>
                  <a:lnTo>
                    <a:pt x="4" y="64"/>
                  </a:lnTo>
                  <a:lnTo>
                    <a:pt x="3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</a:path>
              </a:pathLst>
            </a:custGeom>
            <a:noFill/>
            <a:ln w="0">
              <a:solidFill>
                <a:srgbClr val="000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88680" y="2597400"/>
              <a:ext cx="1220400" cy="276840"/>
            </a:xfrm>
            <a:custGeom>
              <a:avLst/>
              <a:gdLst/>
              <a:ahLst/>
              <a:rect l="l" t="t" r="r" b="b"/>
              <a:pathLst>
                <a:path w="93" h="26">
                  <a:moveTo>
                    <a:pt x="3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6" y="1"/>
                  </a:lnTo>
                  <a:lnTo>
                    <a:pt x="69" y="2"/>
                  </a:lnTo>
                  <a:lnTo>
                    <a:pt x="72" y="2"/>
                  </a:lnTo>
                  <a:lnTo>
                    <a:pt x="76" y="3"/>
                  </a:lnTo>
                  <a:lnTo>
                    <a:pt x="78" y="3"/>
                  </a:lnTo>
                  <a:lnTo>
                    <a:pt x="79" y="4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87" y="7"/>
                  </a:lnTo>
                  <a:lnTo>
                    <a:pt x="90" y="9"/>
                  </a:lnTo>
                  <a:lnTo>
                    <a:pt x="91" y="10"/>
                  </a:lnTo>
                  <a:lnTo>
                    <a:pt x="93" y="14"/>
                  </a:lnTo>
                  <a:lnTo>
                    <a:pt x="92" y="17"/>
                  </a:lnTo>
                  <a:lnTo>
                    <a:pt x="90" y="19"/>
                  </a:lnTo>
                  <a:lnTo>
                    <a:pt x="87" y="21"/>
                  </a:lnTo>
                  <a:lnTo>
                    <a:pt x="86" y="21"/>
                  </a:lnTo>
                  <a:lnTo>
                    <a:pt x="83" y="22"/>
                  </a:lnTo>
                  <a:lnTo>
                    <a:pt x="79" y="23"/>
                  </a:lnTo>
                  <a:lnTo>
                    <a:pt x="76" y="24"/>
                  </a:lnTo>
                  <a:lnTo>
                    <a:pt x="75" y="24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6" y="25"/>
                  </a:lnTo>
                  <a:lnTo>
                    <a:pt x="62" y="26"/>
                  </a:lnTo>
                  <a:lnTo>
                    <a:pt x="59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8" y="25"/>
                  </a:lnTo>
                  <a:lnTo>
                    <a:pt x="24" y="25"/>
                  </a:lnTo>
                  <a:lnTo>
                    <a:pt x="21" y="24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3" y="9"/>
                  </a:lnTo>
                </a:path>
              </a:pathLst>
            </a:custGeom>
            <a:noFill/>
            <a:ln w="0">
              <a:solidFill>
                <a:srgbClr val="000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88680" y="4116240"/>
              <a:ext cx="1220400" cy="276840"/>
            </a:xfrm>
            <a:custGeom>
              <a:avLst/>
              <a:gdLst/>
              <a:ahLst/>
              <a:rect l="l" t="t" r="r" b="b"/>
              <a:pathLst>
                <a:path w="93" h="26">
                  <a:moveTo>
                    <a:pt x="3" y="7"/>
                  </a:moveTo>
                  <a:lnTo>
                    <a:pt x="6" y="5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2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6" y="5"/>
                  </a:lnTo>
                  <a:lnTo>
                    <a:pt x="87" y="5"/>
                  </a:lnTo>
                  <a:lnTo>
                    <a:pt x="90" y="7"/>
                  </a:lnTo>
                  <a:lnTo>
                    <a:pt x="92" y="9"/>
                  </a:lnTo>
                  <a:lnTo>
                    <a:pt x="93" y="12"/>
                  </a:lnTo>
                  <a:lnTo>
                    <a:pt x="91" y="16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6" y="20"/>
                  </a:lnTo>
                  <a:lnTo>
                    <a:pt x="83" y="21"/>
                  </a:lnTo>
                  <a:lnTo>
                    <a:pt x="79" y="22"/>
                  </a:lnTo>
                  <a:lnTo>
                    <a:pt x="78" y="23"/>
                  </a:lnTo>
                  <a:lnTo>
                    <a:pt x="76" y="23"/>
                  </a:lnTo>
                  <a:lnTo>
                    <a:pt x="72" y="24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2" y="25"/>
                  </a:lnTo>
                  <a:lnTo>
                    <a:pt x="59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</a:path>
              </a:pathLst>
            </a:custGeom>
            <a:noFill/>
            <a:ln w="0">
              <a:solidFill>
                <a:srgbClr val="000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51840" y="3300120"/>
              <a:ext cx="551520" cy="39276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" y="10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38" y="31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1" y="36"/>
                  </a:lnTo>
                  <a:lnTo>
                    <a:pt x="27" y="36"/>
                  </a:lnTo>
                  <a:lnTo>
                    <a:pt x="24" y="37"/>
                  </a:lnTo>
                  <a:lnTo>
                    <a:pt x="20" y="37"/>
                  </a:lnTo>
                  <a:lnTo>
                    <a:pt x="17" y="36"/>
                  </a:lnTo>
                  <a:lnTo>
                    <a:pt x="13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3" y="10"/>
                  </a:lnTo>
                </a:path>
              </a:pathLst>
            </a:custGeom>
            <a:noFill/>
            <a:ln w="0">
              <a:solidFill>
                <a:srgbClr val="001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91520" y="3300120"/>
              <a:ext cx="552240" cy="39276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9" y="10"/>
                  </a:moveTo>
                  <a:lnTo>
                    <a:pt x="39" y="10"/>
                  </a:lnTo>
                  <a:lnTo>
                    <a:pt x="41" y="13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1" y="24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9" y="35"/>
                  </a:lnTo>
                  <a:lnTo>
                    <a:pt x="25" y="36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3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001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1600" y="3055680"/>
              <a:ext cx="2192400" cy="881280"/>
            </a:xfrm>
            <a:custGeom>
              <a:avLst/>
              <a:gdLst/>
              <a:ahLst/>
              <a:rect l="l" t="t" r="r" b="b"/>
              <a:pathLst>
                <a:path w="167" h="83">
                  <a:moveTo>
                    <a:pt x="2" y="26"/>
                  </a:moveTo>
                  <a:lnTo>
                    <a:pt x="4" y="2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4" y="4"/>
                  </a:lnTo>
                  <a:lnTo>
                    <a:pt x="137" y="4"/>
                  </a:lnTo>
                  <a:lnTo>
                    <a:pt x="140" y="5"/>
                  </a:lnTo>
                  <a:lnTo>
                    <a:pt x="141" y="5"/>
                  </a:lnTo>
                  <a:lnTo>
                    <a:pt x="144" y="6"/>
                  </a:lnTo>
                  <a:lnTo>
                    <a:pt x="147" y="8"/>
                  </a:lnTo>
                  <a:lnTo>
                    <a:pt x="149" y="9"/>
                  </a:lnTo>
                  <a:lnTo>
                    <a:pt x="151" y="10"/>
                  </a:lnTo>
                  <a:lnTo>
                    <a:pt x="154" y="12"/>
                  </a:lnTo>
                  <a:lnTo>
                    <a:pt x="155" y="12"/>
                  </a:lnTo>
                  <a:lnTo>
                    <a:pt x="158" y="15"/>
                  </a:lnTo>
                  <a:lnTo>
                    <a:pt x="159" y="16"/>
                  </a:lnTo>
                  <a:lnTo>
                    <a:pt x="161" y="19"/>
                  </a:lnTo>
                  <a:lnTo>
                    <a:pt x="161" y="19"/>
                  </a:lnTo>
                  <a:lnTo>
                    <a:pt x="163" y="23"/>
                  </a:lnTo>
                  <a:lnTo>
                    <a:pt x="165" y="26"/>
                  </a:lnTo>
                  <a:lnTo>
                    <a:pt x="165" y="26"/>
                  </a:lnTo>
                  <a:lnTo>
                    <a:pt x="166" y="29"/>
                  </a:lnTo>
                  <a:lnTo>
                    <a:pt x="167" y="33"/>
                  </a:lnTo>
                  <a:lnTo>
                    <a:pt x="167" y="36"/>
                  </a:lnTo>
                  <a:lnTo>
                    <a:pt x="167" y="40"/>
                  </a:lnTo>
                  <a:lnTo>
                    <a:pt x="167" y="43"/>
                  </a:lnTo>
                  <a:lnTo>
                    <a:pt x="167" y="47"/>
                  </a:lnTo>
                  <a:lnTo>
                    <a:pt x="167" y="50"/>
                  </a:lnTo>
                  <a:lnTo>
                    <a:pt x="166" y="54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3" y="61"/>
                  </a:lnTo>
                  <a:lnTo>
                    <a:pt x="161" y="64"/>
                  </a:lnTo>
                  <a:lnTo>
                    <a:pt x="161" y="64"/>
                  </a:lnTo>
                  <a:lnTo>
                    <a:pt x="159" y="67"/>
                  </a:lnTo>
                  <a:lnTo>
                    <a:pt x="158" y="68"/>
                  </a:lnTo>
                  <a:lnTo>
                    <a:pt x="155" y="71"/>
                  </a:lnTo>
                  <a:lnTo>
                    <a:pt x="154" y="71"/>
                  </a:lnTo>
                  <a:lnTo>
                    <a:pt x="151" y="73"/>
                  </a:lnTo>
                  <a:lnTo>
                    <a:pt x="149" y="74"/>
                  </a:lnTo>
                  <a:lnTo>
                    <a:pt x="147" y="75"/>
                  </a:lnTo>
                  <a:lnTo>
                    <a:pt x="144" y="77"/>
                  </a:lnTo>
                  <a:lnTo>
                    <a:pt x="141" y="78"/>
                  </a:lnTo>
                  <a:lnTo>
                    <a:pt x="140" y="78"/>
                  </a:lnTo>
                  <a:lnTo>
                    <a:pt x="137" y="79"/>
                  </a:lnTo>
                  <a:lnTo>
                    <a:pt x="134" y="79"/>
                  </a:lnTo>
                  <a:lnTo>
                    <a:pt x="130" y="80"/>
                  </a:lnTo>
                  <a:lnTo>
                    <a:pt x="127" y="81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0" y="82"/>
                  </a:lnTo>
                  <a:lnTo>
                    <a:pt x="116" y="82"/>
                  </a:lnTo>
                  <a:lnTo>
                    <a:pt x="113" y="82"/>
                  </a:lnTo>
                  <a:lnTo>
                    <a:pt x="109" y="83"/>
                  </a:lnTo>
                  <a:lnTo>
                    <a:pt x="106" y="83"/>
                  </a:lnTo>
                  <a:lnTo>
                    <a:pt x="103" y="83"/>
                  </a:lnTo>
                  <a:lnTo>
                    <a:pt x="99" y="83"/>
                  </a:lnTo>
                  <a:lnTo>
                    <a:pt x="96" y="83"/>
                  </a:lnTo>
                  <a:lnTo>
                    <a:pt x="92" y="83"/>
                  </a:lnTo>
                  <a:lnTo>
                    <a:pt x="89" y="83"/>
                  </a:lnTo>
                  <a:lnTo>
                    <a:pt x="85" y="83"/>
                  </a:lnTo>
                  <a:lnTo>
                    <a:pt x="82" y="83"/>
                  </a:lnTo>
                  <a:lnTo>
                    <a:pt x="78" y="83"/>
                  </a:lnTo>
                  <a:lnTo>
                    <a:pt x="75" y="83"/>
                  </a:lnTo>
                  <a:lnTo>
                    <a:pt x="71" y="83"/>
                  </a:lnTo>
                  <a:lnTo>
                    <a:pt x="68" y="83"/>
                  </a:lnTo>
                  <a:lnTo>
                    <a:pt x="65" y="83"/>
                  </a:lnTo>
                  <a:lnTo>
                    <a:pt x="61" y="83"/>
                  </a:lnTo>
                  <a:lnTo>
                    <a:pt x="58" y="83"/>
                  </a:lnTo>
                  <a:lnTo>
                    <a:pt x="54" y="82"/>
                  </a:lnTo>
                  <a:lnTo>
                    <a:pt x="51" y="82"/>
                  </a:lnTo>
                  <a:lnTo>
                    <a:pt x="47" y="82"/>
                  </a:lnTo>
                  <a:lnTo>
                    <a:pt x="44" y="81"/>
                  </a:lnTo>
                  <a:lnTo>
                    <a:pt x="44" y="81"/>
                  </a:lnTo>
                  <a:lnTo>
                    <a:pt x="40" y="81"/>
                  </a:lnTo>
                  <a:lnTo>
                    <a:pt x="37" y="80"/>
                  </a:lnTo>
                  <a:lnTo>
                    <a:pt x="33" y="79"/>
                  </a:lnTo>
                  <a:lnTo>
                    <a:pt x="30" y="79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3" y="77"/>
                  </a:lnTo>
                  <a:lnTo>
                    <a:pt x="20" y="75"/>
                  </a:lnTo>
                  <a:lnTo>
                    <a:pt x="18" y="74"/>
                  </a:lnTo>
                  <a:lnTo>
                    <a:pt x="16" y="73"/>
                  </a:lnTo>
                  <a:lnTo>
                    <a:pt x="13" y="71"/>
                  </a:lnTo>
                  <a:lnTo>
                    <a:pt x="12" y="71"/>
                  </a:lnTo>
                  <a:lnTo>
                    <a:pt x="9" y="68"/>
                  </a:lnTo>
                  <a:lnTo>
                    <a:pt x="8" y="67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4" y="61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1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20800" y="2630160"/>
              <a:ext cx="956160" cy="22464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0" y="10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9" y="6"/>
                  </a:lnTo>
                  <a:lnTo>
                    <a:pt x="71" y="7"/>
                  </a:lnTo>
                  <a:lnTo>
                    <a:pt x="73" y="10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2" y="14"/>
                  </a:lnTo>
                  <a:lnTo>
                    <a:pt x="69" y="16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2" y="18"/>
                  </a:lnTo>
                  <a:lnTo>
                    <a:pt x="59" y="19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49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1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20800" y="4138200"/>
              <a:ext cx="956160" cy="22248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0" y="9"/>
                  </a:moveTo>
                  <a:lnTo>
                    <a:pt x="1" y="7"/>
                  </a:lnTo>
                  <a:lnTo>
                    <a:pt x="4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3" y="9"/>
                  </a:lnTo>
                  <a:lnTo>
                    <a:pt x="73" y="10"/>
                  </a:lnTo>
                  <a:lnTo>
                    <a:pt x="73" y="11"/>
                  </a:lnTo>
                  <a:lnTo>
                    <a:pt x="71" y="14"/>
                  </a:lnTo>
                  <a:lnTo>
                    <a:pt x="69" y="15"/>
                  </a:lnTo>
                  <a:lnTo>
                    <a:pt x="66" y="17"/>
                  </a:lnTo>
                  <a:lnTo>
                    <a:pt x="65" y="17"/>
                  </a:lnTo>
                  <a:lnTo>
                    <a:pt x="62" y="18"/>
                  </a:lnTo>
                  <a:lnTo>
                    <a:pt x="59" y="19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1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8400" y="3363480"/>
              <a:ext cx="367560" cy="26352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6"/>
                  </a:moveTo>
                  <a:lnTo>
                    <a:pt x="4" y="4"/>
                  </a:lnTo>
                  <a:lnTo>
                    <a:pt x="5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11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003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1800" y="3363480"/>
              <a:ext cx="365400" cy="26352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6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3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7520" y="3066480"/>
              <a:ext cx="2140920" cy="85968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0" y="33"/>
                  </a:moveTo>
                  <a:lnTo>
                    <a:pt x="0" y="32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5" y="6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2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4" y="1"/>
                  </a:lnTo>
                  <a:lnTo>
                    <a:pt x="118" y="2"/>
                  </a:lnTo>
                  <a:lnTo>
                    <a:pt x="121" y="2"/>
                  </a:lnTo>
                  <a:lnTo>
                    <a:pt x="125" y="3"/>
                  </a:lnTo>
                  <a:lnTo>
                    <a:pt x="128" y="3"/>
                  </a:lnTo>
                  <a:lnTo>
                    <a:pt x="132" y="4"/>
                  </a:lnTo>
                  <a:lnTo>
                    <a:pt x="133" y="4"/>
                  </a:lnTo>
                  <a:lnTo>
                    <a:pt x="135" y="5"/>
                  </a:lnTo>
                  <a:lnTo>
                    <a:pt x="139" y="6"/>
                  </a:lnTo>
                  <a:lnTo>
                    <a:pt x="142" y="7"/>
                  </a:lnTo>
                  <a:lnTo>
                    <a:pt x="143" y="8"/>
                  </a:lnTo>
                  <a:lnTo>
                    <a:pt x="145" y="9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8"/>
                  </a:lnTo>
                  <a:lnTo>
                    <a:pt x="159" y="22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5"/>
                  </a:lnTo>
                  <a:lnTo>
                    <a:pt x="163" y="39"/>
                  </a:lnTo>
                  <a:lnTo>
                    <a:pt x="163" y="42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3" y="49"/>
                  </a:lnTo>
                  <a:lnTo>
                    <a:pt x="162" y="53"/>
                  </a:lnTo>
                  <a:lnTo>
                    <a:pt x="161" y="56"/>
                  </a:lnTo>
                  <a:lnTo>
                    <a:pt x="159" y="59"/>
                  </a:lnTo>
                  <a:lnTo>
                    <a:pt x="159" y="60"/>
                  </a:lnTo>
                  <a:lnTo>
                    <a:pt x="157" y="63"/>
                  </a:lnTo>
                  <a:lnTo>
                    <a:pt x="156" y="64"/>
                  </a:lnTo>
                  <a:lnTo>
                    <a:pt x="154" y="66"/>
                  </a:lnTo>
                  <a:lnTo>
                    <a:pt x="152" y="68"/>
                  </a:lnTo>
                  <a:lnTo>
                    <a:pt x="149" y="70"/>
                  </a:lnTo>
                  <a:lnTo>
                    <a:pt x="149" y="70"/>
                  </a:lnTo>
                  <a:lnTo>
                    <a:pt x="145" y="72"/>
                  </a:lnTo>
                  <a:lnTo>
                    <a:pt x="143" y="73"/>
                  </a:lnTo>
                  <a:lnTo>
                    <a:pt x="142" y="74"/>
                  </a:lnTo>
                  <a:lnTo>
                    <a:pt x="139" y="75"/>
                  </a:lnTo>
                  <a:lnTo>
                    <a:pt x="135" y="76"/>
                  </a:lnTo>
                  <a:lnTo>
                    <a:pt x="133" y="77"/>
                  </a:lnTo>
                  <a:lnTo>
                    <a:pt x="132" y="77"/>
                  </a:lnTo>
                  <a:lnTo>
                    <a:pt x="128" y="78"/>
                  </a:lnTo>
                  <a:lnTo>
                    <a:pt x="125" y="78"/>
                  </a:lnTo>
                  <a:lnTo>
                    <a:pt x="121" y="79"/>
                  </a:lnTo>
                  <a:lnTo>
                    <a:pt x="118" y="79"/>
                  </a:lnTo>
                  <a:lnTo>
                    <a:pt x="114" y="80"/>
                  </a:lnTo>
                  <a:lnTo>
                    <a:pt x="111" y="80"/>
                  </a:lnTo>
                  <a:lnTo>
                    <a:pt x="110" y="80"/>
                  </a:lnTo>
                  <a:lnTo>
                    <a:pt x="107" y="80"/>
                  </a:lnTo>
                  <a:lnTo>
                    <a:pt x="104" y="81"/>
                  </a:lnTo>
                  <a:lnTo>
                    <a:pt x="101" y="81"/>
                  </a:lnTo>
                  <a:lnTo>
                    <a:pt x="97" y="81"/>
                  </a:lnTo>
                  <a:lnTo>
                    <a:pt x="94" y="81"/>
                  </a:lnTo>
                  <a:lnTo>
                    <a:pt x="90" y="81"/>
                  </a:lnTo>
                  <a:lnTo>
                    <a:pt x="87" y="81"/>
                  </a:lnTo>
                  <a:lnTo>
                    <a:pt x="83" y="81"/>
                  </a:lnTo>
                  <a:lnTo>
                    <a:pt x="80" y="81"/>
                  </a:lnTo>
                  <a:lnTo>
                    <a:pt x="76" y="81"/>
                  </a:lnTo>
                  <a:lnTo>
                    <a:pt x="73" y="81"/>
                  </a:lnTo>
                  <a:lnTo>
                    <a:pt x="69" y="81"/>
                  </a:lnTo>
                  <a:lnTo>
                    <a:pt x="66" y="81"/>
                  </a:lnTo>
                  <a:lnTo>
                    <a:pt x="63" y="81"/>
                  </a:lnTo>
                  <a:lnTo>
                    <a:pt x="59" y="81"/>
                  </a:lnTo>
                  <a:lnTo>
                    <a:pt x="56" y="80"/>
                  </a:lnTo>
                  <a:lnTo>
                    <a:pt x="53" y="80"/>
                  </a:lnTo>
                  <a:lnTo>
                    <a:pt x="52" y="80"/>
                  </a:lnTo>
                  <a:lnTo>
                    <a:pt x="49" y="80"/>
                  </a:lnTo>
                  <a:lnTo>
                    <a:pt x="45" y="79"/>
                  </a:lnTo>
                  <a:lnTo>
                    <a:pt x="42" y="79"/>
                  </a:lnTo>
                  <a:lnTo>
                    <a:pt x="38" y="78"/>
                  </a:lnTo>
                  <a:lnTo>
                    <a:pt x="35" y="78"/>
                  </a:lnTo>
                  <a:lnTo>
                    <a:pt x="31" y="77"/>
                  </a:lnTo>
                  <a:lnTo>
                    <a:pt x="30" y="77"/>
                  </a:lnTo>
                  <a:lnTo>
                    <a:pt x="28" y="76"/>
                  </a:lnTo>
                  <a:lnTo>
                    <a:pt x="25" y="75"/>
                  </a:lnTo>
                  <a:lnTo>
                    <a:pt x="21" y="74"/>
                  </a:lnTo>
                  <a:lnTo>
                    <a:pt x="20" y="73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1" y="68"/>
                  </a:lnTo>
                  <a:lnTo>
                    <a:pt x="9" y="66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4" y="60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3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6680" y="2671560"/>
              <a:ext cx="642240" cy="1501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2" y="4"/>
                  </a:move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4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2"/>
                  </a:lnTo>
                  <a:lnTo>
                    <a:pt x="6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7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3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76680" y="4170600"/>
              <a:ext cx="642240" cy="1483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2" y="4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7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3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53080" y="3077280"/>
              <a:ext cx="2086200" cy="837720"/>
            </a:xfrm>
            <a:custGeom>
              <a:avLst/>
              <a:gdLst/>
              <a:ahLst/>
              <a:rect l="l" t="t" r="r" b="b"/>
              <a:pathLst>
                <a:path w="159" h="79">
                  <a:moveTo>
                    <a:pt x="2" y="26"/>
                  </a:moveTo>
                  <a:lnTo>
                    <a:pt x="3" y="24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6" y="5"/>
                  </a:lnTo>
                  <a:lnTo>
                    <a:pt x="29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6" y="4"/>
                  </a:lnTo>
                  <a:lnTo>
                    <a:pt x="130" y="4"/>
                  </a:lnTo>
                  <a:lnTo>
                    <a:pt x="133" y="5"/>
                  </a:lnTo>
                  <a:lnTo>
                    <a:pt x="137" y="7"/>
                  </a:lnTo>
                  <a:lnTo>
                    <a:pt x="137" y="7"/>
                  </a:lnTo>
                  <a:lnTo>
                    <a:pt x="140" y="8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7" y="12"/>
                  </a:lnTo>
                  <a:lnTo>
                    <a:pt x="149" y="14"/>
                  </a:lnTo>
                  <a:lnTo>
                    <a:pt x="150" y="15"/>
                  </a:lnTo>
                  <a:lnTo>
                    <a:pt x="152" y="17"/>
                  </a:lnTo>
                  <a:lnTo>
                    <a:pt x="154" y="19"/>
                  </a:lnTo>
                  <a:lnTo>
                    <a:pt x="155" y="21"/>
                  </a:lnTo>
                  <a:lnTo>
                    <a:pt x="156" y="24"/>
                  </a:lnTo>
                  <a:lnTo>
                    <a:pt x="157" y="26"/>
                  </a:lnTo>
                  <a:lnTo>
                    <a:pt x="158" y="27"/>
                  </a:lnTo>
                  <a:lnTo>
                    <a:pt x="159" y="31"/>
                  </a:lnTo>
                  <a:lnTo>
                    <a:pt x="159" y="34"/>
                  </a:lnTo>
                  <a:lnTo>
                    <a:pt x="159" y="38"/>
                  </a:lnTo>
                  <a:lnTo>
                    <a:pt x="159" y="41"/>
                  </a:lnTo>
                  <a:lnTo>
                    <a:pt x="159" y="45"/>
                  </a:lnTo>
                  <a:lnTo>
                    <a:pt x="159" y="48"/>
                  </a:lnTo>
                  <a:lnTo>
                    <a:pt x="158" y="52"/>
                  </a:lnTo>
                  <a:lnTo>
                    <a:pt x="157" y="53"/>
                  </a:lnTo>
                  <a:lnTo>
                    <a:pt x="156" y="55"/>
                  </a:lnTo>
                  <a:lnTo>
                    <a:pt x="155" y="59"/>
                  </a:lnTo>
                  <a:lnTo>
                    <a:pt x="154" y="60"/>
                  </a:lnTo>
                  <a:lnTo>
                    <a:pt x="152" y="62"/>
                  </a:lnTo>
                  <a:lnTo>
                    <a:pt x="150" y="64"/>
                  </a:lnTo>
                  <a:lnTo>
                    <a:pt x="149" y="65"/>
                  </a:lnTo>
                  <a:lnTo>
                    <a:pt x="147" y="67"/>
                  </a:lnTo>
                  <a:lnTo>
                    <a:pt x="144" y="69"/>
                  </a:lnTo>
                  <a:lnTo>
                    <a:pt x="143" y="69"/>
                  </a:lnTo>
                  <a:lnTo>
                    <a:pt x="140" y="71"/>
                  </a:lnTo>
                  <a:lnTo>
                    <a:pt x="137" y="72"/>
                  </a:lnTo>
                  <a:lnTo>
                    <a:pt x="137" y="72"/>
                  </a:lnTo>
                  <a:lnTo>
                    <a:pt x="133" y="74"/>
                  </a:lnTo>
                  <a:lnTo>
                    <a:pt x="130" y="75"/>
                  </a:lnTo>
                  <a:lnTo>
                    <a:pt x="126" y="75"/>
                  </a:lnTo>
                  <a:lnTo>
                    <a:pt x="125" y="76"/>
                  </a:lnTo>
                  <a:lnTo>
                    <a:pt x="123" y="76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9" y="78"/>
                  </a:lnTo>
                  <a:lnTo>
                    <a:pt x="105" y="78"/>
                  </a:lnTo>
                  <a:lnTo>
                    <a:pt x="102" y="79"/>
                  </a:lnTo>
                  <a:lnTo>
                    <a:pt x="99" y="79"/>
                  </a:lnTo>
                  <a:lnTo>
                    <a:pt x="95" y="79"/>
                  </a:lnTo>
                  <a:lnTo>
                    <a:pt x="92" y="79"/>
                  </a:lnTo>
                  <a:lnTo>
                    <a:pt x="92" y="79"/>
                  </a:lnTo>
                  <a:lnTo>
                    <a:pt x="88" y="79"/>
                  </a:lnTo>
                  <a:lnTo>
                    <a:pt x="85" y="79"/>
                  </a:lnTo>
                  <a:lnTo>
                    <a:pt x="81" y="79"/>
                  </a:lnTo>
                  <a:lnTo>
                    <a:pt x="78" y="79"/>
                  </a:lnTo>
                  <a:lnTo>
                    <a:pt x="74" y="79"/>
                  </a:lnTo>
                  <a:lnTo>
                    <a:pt x="71" y="79"/>
                  </a:lnTo>
                  <a:lnTo>
                    <a:pt x="67" y="79"/>
                  </a:lnTo>
                  <a:lnTo>
                    <a:pt x="67" y="79"/>
                  </a:lnTo>
                  <a:lnTo>
                    <a:pt x="64" y="79"/>
                  </a:lnTo>
                  <a:lnTo>
                    <a:pt x="61" y="79"/>
                  </a:lnTo>
                  <a:lnTo>
                    <a:pt x="57" y="79"/>
                  </a:lnTo>
                  <a:lnTo>
                    <a:pt x="54" y="78"/>
                  </a:lnTo>
                  <a:lnTo>
                    <a:pt x="50" y="78"/>
                  </a:lnTo>
                  <a:lnTo>
                    <a:pt x="47" y="78"/>
                  </a:lnTo>
                  <a:lnTo>
                    <a:pt x="43" y="77"/>
                  </a:lnTo>
                  <a:lnTo>
                    <a:pt x="40" y="77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29" y="75"/>
                  </a:lnTo>
                  <a:lnTo>
                    <a:pt x="26" y="74"/>
                  </a:lnTo>
                  <a:lnTo>
                    <a:pt x="23" y="72"/>
                  </a:lnTo>
                  <a:lnTo>
                    <a:pt x="22" y="72"/>
                  </a:lnTo>
                  <a:lnTo>
                    <a:pt x="19" y="71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2" y="67"/>
                  </a:lnTo>
                  <a:lnTo>
                    <a:pt x="10" y="65"/>
                  </a:lnTo>
                  <a:lnTo>
                    <a:pt x="9" y="64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4" y="59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5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66040" y="3077280"/>
              <a:ext cx="2060280" cy="83772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" y="34"/>
                  </a:moveTo>
                  <a:lnTo>
                    <a:pt x="1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2" y="5"/>
                  </a:lnTo>
                  <a:lnTo>
                    <a:pt x="35" y="4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9" y="6"/>
                  </a:lnTo>
                  <a:lnTo>
                    <a:pt x="131" y="7"/>
                  </a:lnTo>
                  <a:lnTo>
                    <a:pt x="132" y="7"/>
                  </a:lnTo>
                  <a:lnTo>
                    <a:pt x="136" y="8"/>
                  </a:lnTo>
                  <a:lnTo>
                    <a:pt x="139" y="10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5" y="14"/>
                  </a:lnTo>
                  <a:lnTo>
                    <a:pt x="146" y="14"/>
                  </a:lnTo>
                  <a:lnTo>
                    <a:pt x="149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3"/>
                  </a:lnTo>
                  <a:lnTo>
                    <a:pt x="153" y="24"/>
                  </a:lnTo>
                  <a:lnTo>
                    <a:pt x="155" y="27"/>
                  </a:lnTo>
                  <a:lnTo>
                    <a:pt x="156" y="31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7" y="38"/>
                  </a:lnTo>
                  <a:lnTo>
                    <a:pt x="157" y="41"/>
                  </a:lnTo>
                  <a:lnTo>
                    <a:pt x="156" y="45"/>
                  </a:lnTo>
                  <a:lnTo>
                    <a:pt x="156" y="45"/>
                  </a:lnTo>
                  <a:lnTo>
                    <a:pt x="156" y="48"/>
                  </a:lnTo>
                  <a:lnTo>
                    <a:pt x="155" y="52"/>
                  </a:lnTo>
                  <a:lnTo>
                    <a:pt x="153" y="55"/>
                  </a:lnTo>
                  <a:lnTo>
                    <a:pt x="153" y="56"/>
                  </a:lnTo>
                  <a:lnTo>
                    <a:pt x="151" y="59"/>
                  </a:lnTo>
                  <a:lnTo>
                    <a:pt x="149" y="61"/>
                  </a:lnTo>
                  <a:lnTo>
                    <a:pt x="149" y="62"/>
                  </a:lnTo>
                  <a:lnTo>
                    <a:pt x="146" y="65"/>
                  </a:lnTo>
                  <a:lnTo>
                    <a:pt x="145" y="65"/>
                  </a:lnTo>
                  <a:lnTo>
                    <a:pt x="142" y="67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6" y="71"/>
                  </a:lnTo>
                  <a:lnTo>
                    <a:pt x="132" y="72"/>
                  </a:lnTo>
                  <a:lnTo>
                    <a:pt x="131" y="72"/>
                  </a:lnTo>
                  <a:lnTo>
                    <a:pt x="129" y="73"/>
                  </a:lnTo>
                  <a:lnTo>
                    <a:pt x="125" y="74"/>
                  </a:lnTo>
                  <a:lnTo>
                    <a:pt x="122" y="75"/>
                  </a:lnTo>
                  <a:lnTo>
                    <a:pt x="118" y="76"/>
                  </a:lnTo>
                  <a:lnTo>
                    <a:pt x="117" y="76"/>
                  </a:lnTo>
                  <a:lnTo>
                    <a:pt x="115" y="76"/>
                  </a:lnTo>
                  <a:lnTo>
                    <a:pt x="111" y="77"/>
                  </a:lnTo>
                  <a:lnTo>
                    <a:pt x="108" y="77"/>
                  </a:lnTo>
                  <a:lnTo>
                    <a:pt x="104" y="77"/>
                  </a:lnTo>
                  <a:lnTo>
                    <a:pt x="101" y="78"/>
                  </a:lnTo>
                  <a:lnTo>
                    <a:pt x="98" y="78"/>
                  </a:lnTo>
                  <a:lnTo>
                    <a:pt x="94" y="78"/>
                  </a:lnTo>
                  <a:lnTo>
                    <a:pt x="91" y="78"/>
                  </a:lnTo>
                  <a:lnTo>
                    <a:pt x="87" y="78"/>
                  </a:lnTo>
                  <a:lnTo>
                    <a:pt x="84" y="79"/>
                  </a:lnTo>
                  <a:lnTo>
                    <a:pt x="80" y="79"/>
                  </a:lnTo>
                  <a:lnTo>
                    <a:pt x="77" y="79"/>
                  </a:lnTo>
                  <a:lnTo>
                    <a:pt x="73" y="79"/>
                  </a:lnTo>
                  <a:lnTo>
                    <a:pt x="70" y="78"/>
                  </a:lnTo>
                  <a:lnTo>
                    <a:pt x="66" y="78"/>
                  </a:lnTo>
                  <a:lnTo>
                    <a:pt x="63" y="78"/>
                  </a:lnTo>
                  <a:lnTo>
                    <a:pt x="60" y="78"/>
                  </a:lnTo>
                  <a:lnTo>
                    <a:pt x="56" y="78"/>
                  </a:lnTo>
                  <a:lnTo>
                    <a:pt x="53" y="77"/>
                  </a:lnTo>
                  <a:lnTo>
                    <a:pt x="49" y="77"/>
                  </a:lnTo>
                  <a:lnTo>
                    <a:pt x="46" y="77"/>
                  </a:lnTo>
                  <a:lnTo>
                    <a:pt x="42" y="76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5" y="75"/>
                  </a:lnTo>
                  <a:lnTo>
                    <a:pt x="32" y="74"/>
                  </a:lnTo>
                  <a:lnTo>
                    <a:pt x="28" y="73"/>
                  </a:lnTo>
                  <a:lnTo>
                    <a:pt x="26" y="72"/>
                  </a:lnTo>
                  <a:lnTo>
                    <a:pt x="25" y="72"/>
                  </a:lnTo>
                  <a:lnTo>
                    <a:pt x="22" y="71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5" y="67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34"/>
                  </a:lnTo>
                </a:path>
              </a:pathLst>
            </a:custGeom>
            <a:noFill/>
            <a:ln w="0">
              <a:solidFill>
                <a:srgbClr val="006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94840" y="3086280"/>
              <a:ext cx="2005560" cy="817920"/>
            </a:xfrm>
            <a:custGeom>
              <a:avLst/>
              <a:gdLst/>
              <a:ahLst/>
              <a:rect l="l" t="t" r="r" b="b"/>
              <a:pathLst>
                <a:path w="153" h="77">
                  <a:moveTo>
                    <a:pt x="2" y="27"/>
                  </a:moveTo>
                  <a:lnTo>
                    <a:pt x="2" y="26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6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3" y="5"/>
                  </a:lnTo>
                  <a:lnTo>
                    <a:pt x="125" y="6"/>
                  </a:lnTo>
                  <a:lnTo>
                    <a:pt x="127" y="6"/>
                  </a:lnTo>
                  <a:lnTo>
                    <a:pt x="130" y="7"/>
                  </a:lnTo>
                  <a:lnTo>
                    <a:pt x="134" y="9"/>
                  </a:lnTo>
                  <a:lnTo>
                    <a:pt x="134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7" y="20"/>
                  </a:lnTo>
                  <a:lnTo>
                    <a:pt x="147" y="20"/>
                  </a:lnTo>
                  <a:lnTo>
                    <a:pt x="149" y="23"/>
                  </a:lnTo>
                  <a:lnTo>
                    <a:pt x="151" y="26"/>
                  </a:lnTo>
                  <a:lnTo>
                    <a:pt x="151" y="27"/>
                  </a:lnTo>
                  <a:lnTo>
                    <a:pt x="152" y="30"/>
                  </a:lnTo>
                  <a:lnTo>
                    <a:pt x="152" y="33"/>
                  </a:lnTo>
                  <a:lnTo>
                    <a:pt x="153" y="37"/>
                  </a:lnTo>
                  <a:lnTo>
                    <a:pt x="153" y="40"/>
                  </a:lnTo>
                  <a:lnTo>
                    <a:pt x="152" y="44"/>
                  </a:lnTo>
                  <a:lnTo>
                    <a:pt x="152" y="47"/>
                  </a:lnTo>
                  <a:lnTo>
                    <a:pt x="151" y="50"/>
                  </a:lnTo>
                  <a:lnTo>
                    <a:pt x="151" y="51"/>
                  </a:lnTo>
                  <a:lnTo>
                    <a:pt x="149" y="54"/>
                  </a:lnTo>
                  <a:lnTo>
                    <a:pt x="147" y="57"/>
                  </a:lnTo>
                  <a:lnTo>
                    <a:pt x="147" y="58"/>
                  </a:lnTo>
                  <a:lnTo>
                    <a:pt x="144" y="61"/>
                  </a:lnTo>
                  <a:lnTo>
                    <a:pt x="144" y="61"/>
                  </a:lnTo>
                  <a:lnTo>
                    <a:pt x="140" y="64"/>
                  </a:lnTo>
                  <a:lnTo>
                    <a:pt x="140" y="64"/>
                  </a:lnTo>
                  <a:lnTo>
                    <a:pt x="137" y="66"/>
                  </a:lnTo>
                  <a:lnTo>
                    <a:pt x="134" y="68"/>
                  </a:lnTo>
                  <a:lnTo>
                    <a:pt x="134" y="68"/>
                  </a:lnTo>
                  <a:lnTo>
                    <a:pt x="130" y="70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2"/>
                  </a:lnTo>
                  <a:lnTo>
                    <a:pt x="120" y="73"/>
                  </a:lnTo>
                  <a:lnTo>
                    <a:pt x="116" y="73"/>
                  </a:lnTo>
                  <a:lnTo>
                    <a:pt x="113" y="74"/>
                  </a:lnTo>
                  <a:lnTo>
                    <a:pt x="109" y="75"/>
                  </a:lnTo>
                  <a:lnTo>
                    <a:pt x="108" y="75"/>
                  </a:lnTo>
                  <a:lnTo>
                    <a:pt x="106" y="75"/>
                  </a:lnTo>
                  <a:lnTo>
                    <a:pt x="102" y="75"/>
                  </a:lnTo>
                  <a:lnTo>
                    <a:pt x="99" y="76"/>
                  </a:lnTo>
                  <a:lnTo>
                    <a:pt x="96" y="76"/>
                  </a:lnTo>
                  <a:lnTo>
                    <a:pt x="92" y="76"/>
                  </a:lnTo>
                  <a:lnTo>
                    <a:pt x="89" y="76"/>
                  </a:lnTo>
                  <a:lnTo>
                    <a:pt x="85" y="77"/>
                  </a:lnTo>
                  <a:lnTo>
                    <a:pt x="82" y="77"/>
                  </a:lnTo>
                  <a:lnTo>
                    <a:pt x="78" y="77"/>
                  </a:lnTo>
                  <a:lnTo>
                    <a:pt x="75" y="77"/>
                  </a:lnTo>
                  <a:lnTo>
                    <a:pt x="71" y="77"/>
                  </a:lnTo>
                  <a:lnTo>
                    <a:pt x="68" y="77"/>
                  </a:lnTo>
                  <a:lnTo>
                    <a:pt x="64" y="76"/>
                  </a:lnTo>
                  <a:lnTo>
                    <a:pt x="61" y="76"/>
                  </a:lnTo>
                  <a:lnTo>
                    <a:pt x="58" y="76"/>
                  </a:lnTo>
                  <a:lnTo>
                    <a:pt x="54" y="76"/>
                  </a:lnTo>
                  <a:lnTo>
                    <a:pt x="51" y="75"/>
                  </a:lnTo>
                  <a:lnTo>
                    <a:pt x="47" y="75"/>
                  </a:lnTo>
                  <a:lnTo>
                    <a:pt x="45" y="75"/>
                  </a:lnTo>
                  <a:lnTo>
                    <a:pt x="44" y="75"/>
                  </a:lnTo>
                  <a:lnTo>
                    <a:pt x="40" y="74"/>
                  </a:lnTo>
                  <a:lnTo>
                    <a:pt x="37" y="73"/>
                  </a:lnTo>
                  <a:lnTo>
                    <a:pt x="33" y="73"/>
                  </a:lnTo>
                  <a:lnTo>
                    <a:pt x="30" y="72"/>
                  </a:lnTo>
                  <a:lnTo>
                    <a:pt x="28" y="71"/>
                  </a:lnTo>
                  <a:lnTo>
                    <a:pt x="26" y="71"/>
                  </a:lnTo>
                  <a:lnTo>
                    <a:pt x="23" y="70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6" y="66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6" y="58"/>
                  </a:lnTo>
                  <a:lnTo>
                    <a:pt x="6" y="57"/>
                  </a:lnTo>
                  <a:lnTo>
                    <a:pt x="4" y="54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1" y="47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7"/>
                  </a:lnTo>
                </a:path>
              </a:pathLst>
            </a:custGeom>
            <a:noFill/>
            <a:ln w="0">
              <a:solidFill>
                <a:srgbClr val="008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0760" y="3097080"/>
              <a:ext cx="1953720" cy="796320"/>
            </a:xfrm>
            <a:custGeom>
              <a:avLst/>
              <a:gdLst/>
              <a:ahLst/>
              <a:rect l="l" t="t" r="r" b="b"/>
              <a:pathLst>
                <a:path w="149" h="75">
                  <a:moveTo>
                    <a:pt x="0" y="34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4" y="7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5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7" y="1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11" y="3"/>
                  </a:lnTo>
                  <a:lnTo>
                    <a:pt x="114" y="4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8" y="8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5" y="12"/>
                  </a:lnTo>
                  <a:lnTo>
                    <a:pt x="135" y="12"/>
                  </a:lnTo>
                  <a:lnTo>
                    <a:pt x="138" y="14"/>
                  </a:lnTo>
                  <a:lnTo>
                    <a:pt x="140" y="15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5" y="22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8" y="29"/>
                  </a:lnTo>
                  <a:lnTo>
                    <a:pt x="149" y="32"/>
                  </a:lnTo>
                  <a:lnTo>
                    <a:pt x="149" y="34"/>
                  </a:lnTo>
                  <a:lnTo>
                    <a:pt x="149" y="36"/>
                  </a:lnTo>
                  <a:lnTo>
                    <a:pt x="149" y="39"/>
                  </a:lnTo>
                  <a:lnTo>
                    <a:pt x="149" y="41"/>
                  </a:lnTo>
                  <a:lnTo>
                    <a:pt x="149" y="43"/>
                  </a:lnTo>
                  <a:lnTo>
                    <a:pt x="148" y="46"/>
                  </a:lnTo>
                  <a:lnTo>
                    <a:pt x="147" y="50"/>
                  </a:lnTo>
                  <a:lnTo>
                    <a:pt x="145" y="52"/>
                  </a:lnTo>
                  <a:lnTo>
                    <a:pt x="145" y="53"/>
                  </a:lnTo>
                  <a:lnTo>
                    <a:pt x="143" y="57"/>
                  </a:lnTo>
                  <a:lnTo>
                    <a:pt x="142" y="57"/>
                  </a:lnTo>
                  <a:lnTo>
                    <a:pt x="140" y="60"/>
                  </a:lnTo>
                  <a:lnTo>
                    <a:pt x="138" y="6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32" y="65"/>
                  </a:lnTo>
                  <a:lnTo>
                    <a:pt x="129" y="67"/>
                  </a:lnTo>
                  <a:lnTo>
                    <a:pt x="128" y="67"/>
                  </a:lnTo>
                  <a:lnTo>
                    <a:pt x="125" y="68"/>
                  </a:lnTo>
                  <a:lnTo>
                    <a:pt x="121" y="70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4" y="71"/>
                  </a:lnTo>
                  <a:lnTo>
                    <a:pt x="111" y="72"/>
                  </a:lnTo>
                  <a:lnTo>
                    <a:pt x="107" y="73"/>
                  </a:lnTo>
                  <a:lnTo>
                    <a:pt x="104" y="73"/>
                  </a:lnTo>
                  <a:lnTo>
                    <a:pt x="100" y="73"/>
                  </a:lnTo>
                  <a:lnTo>
                    <a:pt x="97" y="74"/>
                  </a:lnTo>
                  <a:lnTo>
                    <a:pt x="97" y="74"/>
                  </a:lnTo>
                  <a:lnTo>
                    <a:pt x="94" y="74"/>
                  </a:lnTo>
                  <a:lnTo>
                    <a:pt x="90" y="74"/>
                  </a:lnTo>
                  <a:lnTo>
                    <a:pt x="87" y="74"/>
                  </a:lnTo>
                  <a:lnTo>
                    <a:pt x="83" y="75"/>
                  </a:lnTo>
                  <a:lnTo>
                    <a:pt x="80" y="75"/>
                  </a:lnTo>
                  <a:lnTo>
                    <a:pt x="76" y="75"/>
                  </a:lnTo>
                  <a:lnTo>
                    <a:pt x="73" y="75"/>
                  </a:lnTo>
                  <a:lnTo>
                    <a:pt x="69" y="75"/>
                  </a:lnTo>
                  <a:lnTo>
                    <a:pt x="66" y="75"/>
                  </a:lnTo>
                  <a:lnTo>
                    <a:pt x="62" y="74"/>
                  </a:lnTo>
                  <a:lnTo>
                    <a:pt x="59" y="74"/>
                  </a:lnTo>
                  <a:lnTo>
                    <a:pt x="56" y="74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49" y="73"/>
                  </a:lnTo>
                  <a:lnTo>
                    <a:pt x="45" y="73"/>
                  </a:lnTo>
                  <a:lnTo>
                    <a:pt x="42" y="73"/>
                  </a:lnTo>
                  <a:lnTo>
                    <a:pt x="38" y="72"/>
                  </a:lnTo>
                  <a:lnTo>
                    <a:pt x="35" y="71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28" y="70"/>
                  </a:lnTo>
                  <a:lnTo>
                    <a:pt x="24" y="68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18" y="6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11" y="61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a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46680" y="3108240"/>
              <a:ext cx="1902240" cy="77688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2" y="26"/>
                  </a:moveTo>
                  <a:lnTo>
                    <a:pt x="2" y="24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6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1" y="4"/>
                  </a:lnTo>
                  <a:lnTo>
                    <a:pt x="112" y="4"/>
                  </a:lnTo>
                  <a:lnTo>
                    <a:pt x="116" y="5"/>
                  </a:lnTo>
                  <a:lnTo>
                    <a:pt x="119" y="6"/>
                  </a:lnTo>
                  <a:lnTo>
                    <a:pt x="123" y="7"/>
                  </a:lnTo>
                  <a:lnTo>
                    <a:pt x="123" y="7"/>
                  </a:lnTo>
                  <a:lnTo>
                    <a:pt x="126" y="8"/>
                  </a:lnTo>
                  <a:lnTo>
                    <a:pt x="130" y="10"/>
                  </a:lnTo>
                  <a:lnTo>
                    <a:pt x="130" y="11"/>
                  </a:lnTo>
                  <a:lnTo>
                    <a:pt x="133" y="12"/>
                  </a:lnTo>
                  <a:lnTo>
                    <a:pt x="135" y="14"/>
                  </a:lnTo>
                  <a:lnTo>
                    <a:pt x="136" y="15"/>
                  </a:lnTo>
                  <a:lnTo>
                    <a:pt x="138" y="18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3" y="24"/>
                  </a:lnTo>
                  <a:lnTo>
                    <a:pt x="143" y="26"/>
                  </a:lnTo>
                  <a:lnTo>
                    <a:pt x="144" y="28"/>
                  </a:lnTo>
                  <a:lnTo>
                    <a:pt x="145" y="31"/>
                  </a:lnTo>
                  <a:lnTo>
                    <a:pt x="145" y="35"/>
                  </a:lnTo>
                  <a:lnTo>
                    <a:pt x="145" y="38"/>
                  </a:lnTo>
                  <a:lnTo>
                    <a:pt x="145" y="42"/>
                  </a:lnTo>
                  <a:lnTo>
                    <a:pt x="144" y="45"/>
                  </a:lnTo>
                  <a:lnTo>
                    <a:pt x="143" y="47"/>
                  </a:lnTo>
                  <a:lnTo>
                    <a:pt x="143" y="49"/>
                  </a:lnTo>
                  <a:lnTo>
                    <a:pt x="141" y="52"/>
                  </a:lnTo>
                  <a:lnTo>
                    <a:pt x="140" y="54"/>
                  </a:lnTo>
                  <a:lnTo>
                    <a:pt x="138" y="56"/>
                  </a:lnTo>
                  <a:lnTo>
                    <a:pt x="136" y="58"/>
                  </a:lnTo>
                  <a:lnTo>
                    <a:pt x="135" y="59"/>
                  </a:lnTo>
                  <a:lnTo>
                    <a:pt x="133" y="61"/>
                  </a:lnTo>
                  <a:lnTo>
                    <a:pt x="130" y="62"/>
                  </a:lnTo>
                  <a:lnTo>
                    <a:pt x="130" y="63"/>
                  </a:lnTo>
                  <a:lnTo>
                    <a:pt x="126" y="65"/>
                  </a:lnTo>
                  <a:lnTo>
                    <a:pt x="123" y="66"/>
                  </a:lnTo>
                  <a:lnTo>
                    <a:pt x="123" y="66"/>
                  </a:lnTo>
                  <a:lnTo>
                    <a:pt x="119" y="67"/>
                  </a:lnTo>
                  <a:lnTo>
                    <a:pt x="116" y="68"/>
                  </a:lnTo>
                  <a:lnTo>
                    <a:pt x="112" y="69"/>
                  </a:lnTo>
                  <a:lnTo>
                    <a:pt x="111" y="69"/>
                  </a:lnTo>
                  <a:lnTo>
                    <a:pt x="109" y="70"/>
                  </a:lnTo>
                  <a:lnTo>
                    <a:pt x="105" y="70"/>
                  </a:lnTo>
                  <a:lnTo>
                    <a:pt x="102" y="71"/>
                  </a:lnTo>
                  <a:lnTo>
                    <a:pt x="98" y="71"/>
                  </a:lnTo>
                  <a:lnTo>
                    <a:pt x="95" y="72"/>
                  </a:lnTo>
                  <a:lnTo>
                    <a:pt x="92" y="72"/>
                  </a:lnTo>
                  <a:lnTo>
                    <a:pt x="88" y="72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74" y="73"/>
                  </a:lnTo>
                  <a:lnTo>
                    <a:pt x="71" y="73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4" y="73"/>
                  </a:lnTo>
                  <a:lnTo>
                    <a:pt x="60" y="73"/>
                  </a:lnTo>
                  <a:lnTo>
                    <a:pt x="57" y="72"/>
                  </a:lnTo>
                  <a:lnTo>
                    <a:pt x="54" y="72"/>
                  </a:lnTo>
                  <a:lnTo>
                    <a:pt x="50" y="72"/>
                  </a:lnTo>
                  <a:lnTo>
                    <a:pt x="47" y="71"/>
                  </a:lnTo>
                  <a:lnTo>
                    <a:pt x="43" y="71"/>
                  </a:lnTo>
                  <a:lnTo>
                    <a:pt x="40" y="70"/>
                  </a:lnTo>
                  <a:lnTo>
                    <a:pt x="36" y="70"/>
                  </a:lnTo>
                  <a:lnTo>
                    <a:pt x="34" y="69"/>
                  </a:lnTo>
                  <a:lnTo>
                    <a:pt x="33" y="69"/>
                  </a:lnTo>
                  <a:lnTo>
                    <a:pt x="29" y="68"/>
                  </a:lnTo>
                  <a:lnTo>
                    <a:pt x="26" y="67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9" y="65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2" y="61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8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b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72600" y="3119040"/>
              <a:ext cx="1852920" cy="754920"/>
            </a:xfrm>
            <a:custGeom>
              <a:avLst/>
              <a:gdLst/>
              <a:ahLst/>
              <a:rect l="l" t="t" r="r" b="b"/>
              <a:pathLst>
                <a:path w="141" h="71">
                  <a:moveTo>
                    <a:pt x="0" y="34"/>
                  </a:moveTo>
                  <a:lnTo>
                    <a:pt x="0" y="30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2"/>
                  </a:lnTo>
                  <a:lnTo>
                    <a:pt x="100" y="2"/>
                  </a:lnTo>
                  <a:lnTo>
                    <a:pt x="103" y="3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4" y="5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7"/>
                  </a:lnTo>
                  <a:lnTo>
                    <a:pt x="124" y="9"/>
                  </a:lnTo>
                  <a:lnTo>
                    <a:pt x="125" y="10"/>
                  </a:lnTo>
                  <a:lnTo>
                    <a:pt x="128" y="11"/>
                  </a:lnTo>
                  <a:lnTo>
                    <a:pt x="130" y="13"/>
                  </a:lnTo>
                  <a:lnTo>
                    <a:pt x="131" y="13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7" y="20"/>
                  </a:lnTo>
                  <a:lnTo>
                    <a:pt x="138" y="22"/>
                  </a:lnTo>
                  <a:lnTo>
                    <a:pt x="139" y="23"/>
                  </a:lnTo>
                  <a:lnTo>
                    <a:pt x="140" y="27"/>
                  </a:lnTo>
                  <a:lnTo>
                    <a:pt x="141" y="30"/>
                  </a:lnTo>
                  <a:lnTo>
                    <a:pt x="141" y="34"/>
                  </a:lnTo>
                  <a:lnTo>
                    <a:pt x="141" y="34"/>
                  </a:lnTo>
                  <a:lnTo>
                    <a:pt x="141" y="37"/>
                  </a:lnTo>
                  <a:lnTo>
                    <a:pt x="141" y="37"/>
                  </a:lnTo>
                  <a:lnTo>
                    <a:pt x="141" y="41"/>
                  </a:lnTo>
                  <a:lnTo>
                    <a:pt x="140" y="44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7" y="51"/>
                  </a:lnTo>
                  <a:lnTo>
                    <a:pt x="134" y="54"/>
                  </a:lnTo>
                  <a:lnTo>
                    <a:pt x="134" y="55"/>
                  </a:lnTo>
                  <a:lnTo>
                    <a:pt x="131" y="58"/>
                  </a:lnTo>
                  <a:lnTo>
                    <a:pt x="130" y="58"/>
                  </a:lnTo>
                  <a:lnTo>
                    <a:pt x="128" y="60"/>
                  </a:lnTo>
                  <a:lnTo>
                    <a:pt x="125" y="61"/>
                  </a:lnTo>
                  <a:lnTo>
                    <a:pt x="124" y="62"/>
                  </a:lnTo>
                  <a:lnTo>
                    <a:pt x="121" y="64"/>
                  </a:lnTo>
                  <a:lnTo>
                    <a:pt x="117" y="65"/>
                  </a:lnTo>
                  <a:lnTo>
                    <a:pt x="117" y="65"/>
                  </a:lnTo>
                  <a:lnTo>
                    <a:pt x="114" y="66"/>
                  </a:lnTo>
                  <a:lnTo>
                    <a:pt x="110" y="67"/>
                  </a:lnTo>
                  <a:lnTo>
                    <a:pt x="107" y="68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6" y="69"/>
                  </a:lnTo>
                  <a:lnTo>
                    <a:pt x="93" y="70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3" y="71"/>
                  </a:lnTo>
                  <a:lnTo>
                    <a:pt x="79" y="71"/>
                  </a:lnTo>
                  <a:lnTo>
                    <a:pt x="76" y="71"/>
                  </a:lnTo>
                  <a:lnTo>
                    <a:pt x="72" y="71"/>
                  </a:lnTo>
                  <a:lnTo>
                    <a:pt x="69" y="71"/>
                  </a:lnTo>
                  <a:lnTo>
                    <a:pt x="65" y="71"/>
                  </a:lnTo>
                  <a:lnTo>
                    <a:pt x="62" y="71"/>
                  </a:lnTo>
                  <a:lnTo>
                    <a:pt x="58" y="71"/>
                  </a:lnTo>
                  <a:lnTo>
                    <a:pt x="55" y="70"/>
                  </a:lnTo>
                  <a:lnTo>
                    <a:pt x="52" y="70"/>
                  </a:lnTo>
                  <a:lnTo>
                    <a:pt x="48" y="70"/>
                  </a:lnTo>
                  <a:lnTo>
                    <a:pt x="45" y="69"/>
                  </a:lnTo>
                  <a:lnTo>
                    <a:pt x="41" y="69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1" y="67"/>
                  </a:lnTo>
                  <a:lnTo>
                    <a:pt x="27" y="66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0" y="64"/>
                  </a:lnTo>
                  <a:lnTo>
                    <a:pt x="17" y="62"/>
                  </a:lnTo>
                  <a:lnTo>
                    <a:pt x="16" y="61"/>
                  </a:lnTo>
                  <a:lnTo>
                    <a:pt x="14" y="60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d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85560" y="3129840"/>
              <a:ext cx="1824480" cy="73332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2" y="25"/>
                  </a:moveTo>
                  <a:lnTo>
                    <a:pt x="3" y="22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2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3" y="5"/>
                  </a:lnTo>
                  <a:lnTo>
                    <a:pt x="116" y="6"/>
                  </a:lnTo>
                  <a:lnTo>
                    <a:pt x="120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7" y="12"/>
                  </a:lnTo>
                  <a:lnTo>
                    <a:pt x="127" y="12"/>
                  </a:lnTo>
                  <a:lnTo>
                    <a:pt x="130" y="15"/>
                  </a:lnTo>
                  <a:lnTo>
                    <a:pt x="131" y="16"/>
                  </a:lnTo>
                  <a:lnTo>
                    <a:pt x="133" y="18"/>
                  </a:lnTo>
                  <a:lnTo>
                    <a:pt x="134" y="19"/>
                  </a:lnTo>
                  <a:lnTo>
                    <a:pt x="136" y="22"/>
                  </a:lnTo>
                  <a:lnTo>
                    <a:pt x="137" y="25"/>
                  </a:lnTo>
                  <a:lnTo>
                    <a:pt x="137" y="26"/>
                  </a:lnTo>
                  <a:lnTo>
                    <a:pt x="138" y="29"/>
                  </a:lnTo>
                  <a:lnTo>
                    <a:pt x="139" y="33"/>
                  </a:lnTo>
                  <a:lnTo>
                    <a:pt x="139" y="36"/>
                  </a:lnTo>
                  <a:lnTo>
                    <a:pt x="138" y="40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6" y="47"/>
                  </a:lnTo>
                  <a:lnTo>
                    <a:pt x="134" y="50"/>
                  </a:lnTo>
                  <a:lnTo>
                    <a:pt x="133" y="51"/>
                  </a:lnTo>
                  <a:lnTo>
                    <a:pt x="131" y="54"/>
                  </a:lnTo>
                  <a:lnTo>
                    <a:pt x="130" y="54"/>
                  </a:lnTo>
                  <a:lnTo>
                    <a:pt x="127" y="57"/>
                  </a:lnTo>
                  <a:lnTo>
                    <a:pt x="127" y="57"/>
                  </a:lnTo>
                  <a:lnTo>
                    <a:pt x="123" y="59"/>
                  </a:lnTo>
                  <a:lnTo>
                    <a:pt x="121" y="60"/>
                  </a:lnTo>
                  <a:lnTo>
                    <a:pt x="120" y="61"/>
                  </a:lnTo>
                  <a:lnTo>
                    <a:pt x="116" y="63"/>
                  </a:lnTo>
                  <a:lnTo>
                    <a:pt x="113" y="64"/>
                  </a:lnTo>
                  <a:lnTo>
                    <a:pt x="112" y="64"/>
                  </a:lnTo>
                  <a:lnTo>
                    <a:pt x="109" y="65"/>
                  </a:lnTo>
                  <a:lnTo>
                    <a:pt x="106" y="66"/>
                  </a:lnTo>
                  <a:lnTo>
                    <a:pt x="102" y="66"/>
                  </a:lnTo>
                  <a:lnTo>
                    <a:pt x="99" y="67"/>
                  </a:lnTo>
                  <a:lnTo>
                    <a:pt x="96" y="67"/>
                  </a:lnTo>
                  <a:lnTo>
                    <a:pt x="95" y="67"/>
                  </a:lnTo>
                  <a:lnTo>
                    <a:pt x="92" y="68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8" y="69"/>
                  </a:lnTo>
                  <a:lnTo>
                    <a:pt x="75" y="69"/>
                  </a:lnTo>
                  <a:lnTo>
                    <a:pt x="71" y="69"/>
                  </a:lnTo>
                  <a:lnTo>
                    <a:pt x="68" y="69"/>
                  </a:lnTo>
                  <a:lnTo>
                    <a:pt x="64" y="69"/>
                  </a:lnTo>
                  <a:lnTo>
                    <a:pt x="61" y="69"/>
                  </a:lnTo>
                  <a:lnTo>
                    <a:pt x="57" y="69"/>
                  </a:lnTo>
                  <a:lnTo>
                    <a:pt x="54" y="69"/>
                  </a:lnTo>
                  <a:lnTo>
                    <a:pt x="51" y="68"/>
                  </a:lnTo>
                  <a:lnTo>
                    <a:pt x="47" y="68"/>
                  </a:lnTo>
                  <a:lnTo>
                    <a:pt x="44" y="67"/>
                  </a:lnTo>
                  <a:lnTo>
                    <a:pt x="43" y="67"/>
                  </a:lnTo>
                  <a:lnTo>
                    <a:pt x="40" y="67"/>
                  </a:lnTo>
                  <a:lnTo>
                    <a:pt x="37" y="66"/>
                  </a:lnTo>
                  <a:lnTo>
                    <a:pt x="33" y="66"/>
                  </a:lnTo>
                  <a:lnTo>
                    <a:pt x="30" y="65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3" y="63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50"/>
                  </a:lnTo>
                  <a:lnTo>
                    <a:pt x="3" y="47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2" y="25"/>
                  </a:lnTo>
                </a:path>
              </a:pathLst>
            </a:custGeom>
            <a:noFill/>
            <a:ln w="0">
              <a:solidFill>
                <a:srgbClr val="00e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11120" y="3140640"/>
              <a:ext cx="1773000" cy="711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4" y="21"/>
                  </a:moveTo>
                  <a:lnTo>
                    <a:pt x="5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2"/>
                  </a:lnTo>
                  <a:lnTo>
                    <a:pt x="97" y="2"/>
                  </a:lnTo>
                  <a:lnTo>
                    <a:pt x="100" y="3"/>
                  </a:lnTo>
                  <a:lnTo>
                    <a:pt x="104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7"/>
                  </a:lnTo>
                  <a:lnTo>
                    <a:pt x="116" y="8"/>
                  </a:lnTo>
                  <a:lnTo>
                    <a:pt x="118" y="8"/>
                  </a:lnTo>
                  <a:lnTo>
                    <a:pt x="121" y="10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27" y="15"/>
                  </a:lnTo>
                  <a:lnTo>
                    <a:pt x="128" y="16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2" y="21"/>
                  </a:lnTo>
                  <a:lnTo>
                    <a:pt x="133" y="25"/>
                  </a:lnTo>
                  <a:lnTo>
                    <a:pt x="134" y="28"/>
                  </a:lnTo>
                  <a:lnTo>
                    <a:pt x="135" y="32"/>
                  </a:lnTo>
                  <a:lnTo>
                    <a:pt x="135" y="35"/>
                  </a:lnTo>
                  <a:lnTo>
                    <a:pt x="134" y="39"/>
                  </a:lnTo>
                  <a:lnTo>
                    <a:pt x="133" y="42"/>
                  </a:lnTo>
                  <a:lnTo>
                    <a:pt x="132" y="46"/>
                  </a:lnTo>
                  <a:lnTo>
                    <a:pt x="131" y="46"/>
                  </a:lnTo>
                  <a:lnTo>
                    <a:pt x="130" y="49"/>
                  </a:lnTo>
                  <a:lnTo>
                    <a:pt x="128" y="51"/>
                  </a:lnTo>
                  <a:lnTo>
                    <a:pt x="127" y="53"/>
                  </a:lnTo>
                  <a:lnTo>
                    <a:pt x="125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18" y="59"/>
                  </a:lnTo>
                  <a:lnTo>
                    <a:pt x="116" y="59"/>
                  </a:lnTo>
                  <a:lnTo>
                    <a:pt x="114" y="60"/>
                  </a:lnTo>
                  <a:lnTo>
                    <a:pt x="111" y="61"/>
                  </a:lnTo>
                  <a:lnTo>
                    <a:pt x="107" y="63"/>
                  </a:lnTo>
                  <a:lnTo>
                    <a:pt x="106" y="63"/>
                  </a:lnTo>
                  <a:lnTo>
                    <a:pt x="104" y="63"/>
                  </a:lnTo>
                  <a:lnTo>
                    <a:pt x="100" y="64"/>
                  </a:lnTo>
                  <a:lnTo>
                    <a:pt x="97" y="65"/>
                  </a:lnTo>
                  <a:lnTo>
                    <a:pt x="93" y="65"/>
                  </a:lnTo>
                  <a:lnTo>
                    <a:pt x="90" y="66"/>
                  </a:lnTo>
                  <a:lnTo>
                    <a:pt x="87" y="66"/>
                  </a:lnTo>
                  <a:lnTo>
                    <a:pt x="86" y="66"/>
                  </a:lnTo>
                  <a:lnTo>
                    <a:pt x="83" y="67"/>
                  </a:lnTo>
                  <a:lnTo>
                    <a:pt x="80" y="67"/>
                  </a:lnTo>
                  <a:lnTo>
                    <a:pt x="76" y="67"/>
                  </a:lnTo>
                  <a:lnTo>
                    <a:pt x="73" y="67"/>
                  </a:lnTo>
                  <a:lnTo>
                    <a:pt x="69" y="67"/>
                  </a:lnTo>
                  <a:lnTo>
                    <a:pt x="66" y="67"/>
                  </a:lnTo>
                  <a:lnTo>
                    <a:pt x="62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2" y="67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5" y="66"/>
                  </a:lnTo>
                  <a:lnTo>
                    <a:pt x="42" y="65"/>
                  </a:lnTo>
                  <a:lnTo>
                    <a:pt x="38" y="65"/>
                  </a:lnTo>
                  <a:lnTo>
                    <a:pt x="35" y="64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4" y="61"/>
                  </a:lnTo>
                  <a:lnTo>
                    <a:pt x="21" y="6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57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8" y="53"/>
                  </a:lnTo>
                  <a:lnTo>
                    <a:pt x="7" y="51"/>
                  </a:lnTo>
                  <a:lnTo>
                    <a:pt x="5" y="49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4" y="21"/>
                  </a:lnTo>
                </a:path>
              </a:pathLst>
            </a:custGeom>
            <a:noFill/>
            <a:ln w="0">
              <a:solidFill>
                <a:srgbClr val="0fff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037040" y="3149640"/>
              <a:ext cx="1720440" cy="691200"/>
            </a:xfrm>
            <a:custGeom>
              <a:avLst/>
              <a:gdLst/>
              <a:ahLst/>
              <a:rect l="l" t="t" r="r" b="b"/>
              <a:pathLst>
                <a:path w="131" h="65">
                  <a:moveTo>
                    <a:pt x="2" y="24"/>
                  </a:moveTo>
                  <a:lnTo>
                    <a:pt x="3" y="20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6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1" y="2"/>
                  </a:lnTo>
                  <a:lnTo>
                    <a:pt x="95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5" y="5"/>
                  </a:lnTo>
                  <a:lnTo>
                    <a:pt x="109" y="6"/>
                  </a:lnTo>
                  <a:lnTo>
                    <a:pt x="111" y="7"/>
                  </a:lnTo>
                  <a:lnTo>
                    <a:pt x="112" y="7"/>
                  </a:lnTo>
                  <a:lnTo>
                    <a:pt x="116" y="9"/>
                  </a:lnTo>
                  <a:lnTo>
                    <a:pt x="118" y="10"/>
                  </a:lnTo>
                  <a:lnTo>
                    <a:pt x="119" y="11"/>
                  </a:lnTo>
                  <a:lnTo>
                    <a:pt x="122" y="14"/>
                  </a:lnTo>
                  <a:lnTo>
                    <a:pt x="123" y="14"/>
                  </a:lnTo>
                  <a:lnTo>
                    <a:pt x="126" y="17"/>
                  </a:lnTo>
                  <a:lnTo>
                    <a:pt x="126" y="17"/>
                  </a:lnTo>
                  <a:lnTo>
                    <a:pt x="128" y="20"/>
                  </a:lnTo>
                  <a:lnTo>
                    <a:pt x="129" y="24"/>
                  </a:lnTo>
                  <a:lnTo>
                    <a:pt x="130" y="24"/>
                  </a:lnTo>
                  <a:lnTo>
                    <a:pt x="131" y="27"/>
                  </a:lnTo>
                  <a:lnTo>
                    <a:pt x="131" y="31"/>
                  </a:lnTo>
                  <a:lnTo>
                    <a:pt x="131" y="34"/>
                  </a:lnTo>
                  <a:lnTo>
                    <a:pt x="131" y="38"/>
                  </a:lnTo>
                  <a:lnTo>
                    <a:pt x="130" y="41"/>
                  </a:lnTo>
                  <a:lnTo>
                    <a:pt x="129" y="41"/>
                  </a:lnTo>
                  <a:lnTo>
                    <a:pt x="128" y="45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3" y="51"/>
                  </a:lnTo>
                  <a:lnTo>
                    <a:pt x="122" y="52"/>
                  </a:lnTo>
                  <a:lnTo>
                    <a:pt x="119" y="54"/>
                  </a:lnTo>
                  <a:lnTo>
                    <a:pt x="118" y="55"/>
                  </a:lnTo>
                  <a:lnTo>
                    <a:pt x="116" y="56"/>
                  </a:lnTo>
                  <a:lnTo>
                    <a:pt x="112" y="58"/>
                  </a:lnTo>
                  <a:lnTo>
                    <a:pt x="111" y="58"/>
                  </a:lnTo>
                  <a:lnTo>
                    <a:pt x="109" y="59"/>
                  </a:lnTo>
                  <a:lnTo>
                    <a:pt x="105" y="60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8" y="62"/>
                  </a:lnTo>
                  <a:lnTo>
                    <a:pt x="95" y="63"/>
                  </a:lnTo>
                  <a:lnTo>
                    <a:pt x="91" y="63"/>
                  </a:lnTo>
                  <a:lnTo>
                    <a:pt x="88" y="64"/>
                  </a:lnTo>
                  <a:lnTo>
                    <a:pt x="85" y="64"/>
                  </a:lnTo>
                  <a:lnTo>
                    <a:pt x="81" y="65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71" y="65"/>
                  </a:lnTo>
                  <a:lnTo>
                    <a:pt x="67" y="65"/>
                  </a:lnTo>
                  <a:lnTo>
                    <a:pt x="64" y="65"/>
                  </a:lnTo>
                  <a:lnTo>
                    <a:pt x="60" y="65"/>
                  </a:lnTo>
                  <a:lnTo>
                    <a:pt x="57" y="65"/>
                  </a:lnTo>
                  <a:lnTo>
                    <a:pt x="53" y="65"/>
                  </a:lnTo>
                  <a:lnTo>
                    <a:pt x="50" y="65"/>
                  </a:lnTo>
                  <a:lnTo>
                    <a:pt x="47" y="64"/>
                  </a:lnTo>
                  <a:lnTo>
                    <a:pt x="43" y="64"/>
                  </a:lnTo>
                  <a:lnTo>
                    <a:pt x="40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2" y="59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5" y="56"/>
                  </a:lnTo>
                  <a:lnTo>
                    <a:pt x="13" y="55"/>
                  </a:lnTo>
                  <a:lnTo>
                    <a:pt x="12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2fff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65840" y="3160440"/>
              <a:ext cx="1666080" cy="669600"/>
            </a:xfrm>
            <a:custGeom>
              <a:avLst/>
              <a:gdLst/>
              <a:ahLst/>
              <a:rect l="l" t="t" r="r" b="b"/>
              <a:pathLst>
                <a:path w="127" h="63">
                  <a:moveTo>
                    <a:pt x="3" y="19"/>
                  </a:moveTo>
                  <a:lnTo>
                    <a:pt x="5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6" y="3"/>
                  </a:lnTo>
                  <a:lnTo>
                    <a:pt x="100" y="4"/>
                  </a:lnTo>
                  <a:lnTo>
                    <a:pt x="103" y="5"/>
                  </a:lnTo>
                  <a:lnTo>
                    <a:pt x="105" y="6"/>
                  </a:lnTo>
                  <a:lnTo>
                    <a:pt x="107" y="6"/>
                  </a:lnTo>
                  <a:lnTo>
                    <a:pt x="110" y="8"/>
                  </a:lnTo>
                  <a:lnTo>
                    <a:pt x="113" y="9"/>
                  </a:lnTo>
                  <a:lnTo>
                    <a:pt x="114" y="9"/>
                  </a:lnTo>
                  <a:lnTo>
                    <a:pt x="117" y="12"/>
                  </a:lnTo>
                  <a:lnTo>
                    <a:pt x="118" y="13"/>
                  </a:lnTo>
                  <a:lnTo>
                    <a:pt x="121" y="15"/>
                  </a:lnTo>
                  <a:lnTo>
                    <a:pt x="122" y="16"/>
                  </a:lnTo>
                  <a:lnTo>
                    <a:pt x="124" y="19"/>
                  </a:lnTo>
                  <a:lnTo>
                    <a:pt x="124" y="19"/>
                  </a:lnTo>
                  <a:lnTo>
                    <a:pt x="126" y="23"/>
                  </a:lnTo>
                  <a:lnTo>
                    <a:pt x="127" y="26"/>
                  </a:lnTo>
                  <a:lnTo>
                    <a:pt x="127" y="30"/>
                  </a:lnTo>
                  <a:lnTo>
                    <a:pt x="127" y="33"/>
                  </a:lnTo>
                  <a:lnTo>
                    <a:pt x="127" y="37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2" y="47"/>
                  </a:lnTo>
                  <a:lnTo>
                    <a:pt x="121" y="48"/>
                  </a:lnTo>
                  <a:lnTo>
                    <a:pt x="118" y="51"/>
                  </a:lnTo>
                  <a:lnTo>
                    <a:pt x="117" y="51"/>
                  </a:lnTo>
                  <a:lnTo>
                    <a:pt x="114" y="54"/>
                  </a:lnTo>
                  <a:lnTo>
                    <a:pt x="113" y="54"/>
                  </a:lnTo>
                  <a:lnTo>
                    <a:pt x="110" y="55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3" y="58"/>
                  </a:lnTo>
                  <a:lnTo>
                    <a:pt x="100" y="59"/>
                  </a:lnTo>
                  <a:lnTo>
                    <a:pt x="96" y="60"/>
                  </a:lnTo>
                  <a:lnTo>
                    <a:pt x="93" y="61"/>
                  </a:lnTo>
                  <a:lnTo>
                    <a:pt x="93" y="61"/>
                  </a:lnTo>
                  <a:lnTo>
                    <a:pt x="89" y="61"/>
                  </a:lnTo>
                  <a:lnTo>
                    <a:pt x="86" y="62"/>
                  </a:lnTo>
                  <a:lnTo>
                    <a:pt x="83" y="62"/>
                  </a:lnTo>
                  <a:lnTo>
                    <a:pt x="79" y="63"/>
                  </a:lnTo>
                  <a:lnTo>
                    <a:pt x="76" y="63"/>
                  </a:lnTo>
                  <a:lnTo>
                    <a:pt x="72" y="63"/>
                  </a:lnTo>
                  <a:lnTo>
                    <a:pt x="69" y="63"/>
                  </a:lnTo>
                  <a:lnTo>
                    <a:pt x="65" y="63"/>
                  </a:lnTo>
                  <a:lnTo>
                    <a:pt x="62" y="63"/>
                  </a:lnTo>
                  <a:lnTo>
                    <a:pt x="58" y="63"/>
                  </a:lnTo>
                  <a:lnTo>
                    <a:pt x="55" y="63"/>
                  </a:lnTo>
                  <a:lnTo>
                    <a:pt x="51" y="63"/>
                  </a:lnTo>
                  <a:lnTo>
                    <a:pt x="48" y="63"/>
                  </a:lnTo>
                  <a:lnTo>
                    <a:pt x="45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4" y="61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20" y="57"/>
                  </a:lnTo>
                  <a:lnTo>
                    <a:pt x="17" y="55"/>
                  </a:lnTo>
                  <a:lnTo>
                    <a:pt x="14" y="54"/>
                  </a:lnTo>
                  <a:lnTo>
                    <a:pt x="13" y="54"/>
                  </a:lnTo>
                  <a:lnTo>
                    <a:pt x="10" y="51"/>
                  </a:lnTo>
                  <a:lnTo>
                    <a:pt x="9" y="51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3" y="19"/>
                  </a:lnTo>
                </a:path>
              </a:pathLst>
            </a:custGeom>
            <a:noFill/>
            <a:ln w="0">
              <a:solidFill>
                <a:srgbClr val="3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78800" y="3160440"/>
              <a:ext cx="1640160" cy="669600"/>
            </a:xfrm>
            <a:custGeom>
              <a:avLst/>
              <a:gdLst/>
              <a:ahLst/>
              <a:rect l="l" t="t" r="r" b="b"/>
              <a:pathLst>
                <a:path w="125" h="63">
                  <a:moveTo>
                    <a:pt x="2" y="23"/>
                  </a:move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9" y="7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8" y="3"/>
                  </a:lnTo>
                  <a:lnTo>
                    <a:pt x="92" y="3"/>
                  </a:lnTo>
                  <a:lnTo>
                    <a:pt x="95" y="4"/>
                  </a:lnTo>
                  <a:lnTo>
                    <a:pt x="99" y="5"/>
                  </a:lnTo>
                  <a:lnTo>
                    <a:pt x="101" y="6"/>
                  </a:lnTo>
                  <a:lnTo>
                    <a:pt x="102" y="6"/>
                  </a:lnTo>
                  <a:lnTo>
                    <a:pt x="106" y="7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13" y="11"/>
                  </a:lnTo>
                  <a:lnTo>
                    <a:pt x="115" y="13"/>
                  </a:lnTo>
                  <a:lnTo>
                    <a:pt x="116" y="14"/>
                  </a:lnTo>
                  <a:lnTo>
                    <a:pt x="118" y="16"/>
                  </a:lnTo>
                  <a:lnTo>
                    <a:pt x="120" y="17"/>
                  </a:lnTo>
                  <a:lnTo>
                    <a:pt x="121" y="19"/>
                  </a:lnTo>
                  <a:lnTo>
                    <a:pt x="123" y="23"/>
                  </a:lnTo>
                  <a:lnTo>
                    <a:pt x="123" y="23"/>
                  </a:lnTo>
                  <a:lnTo>
                    <a:pt x="124" y="26"/>
                  </a:lnTo>
                  <a:lnTo>
                    <a:pt x="125" y="30"/>
                  </a:lnTo>
                  <a:lnTo>
                    <a:pt x="125" y="33"/>
                  </a:lnTo>
                  <a:lnTo>
                    <a:pt x="124" y="37"/>
                  </a:lnTo>
                  <a:lnTo>
                    <a:pt x="123" y="40"/>
                  </a:lnTo>
                  <a:lnTo>
                    <a:pt x="123" y="40"/>
                  </a:lnTo>
                  <a:lnTo>
                    <a:pt x="121" y="44"/>
                  </a:lnTo>
                  <a:lnTo>
                    <a:pt x="120" y="46"/>
                  </a:lnTo>
                  <a:lnTo>
                    <a:pt x="118" y="47"/>
                  </a:lnTo>
                  <a:lnTo>
                    <a:pt x="116" y="49"/>
                  </a:lnTo>
                  <a:lnTo>
                    <a:pt x="115" y="51"/>
                  </a:lnTo>
                  <a:lnTo>
                    <a:pt x="113" y="52"/>
                  </a:lnTo>
                  <a:lnTo>
                    <a:pt x="109" y="54"/>
                  </a:lnTo>
                  <a:lnTo>
                    <a:pt x="109" y="54"/>
                  </a:lnTo>
                  <a:lnTo>
                    <a:pt x="106" y="56"/>
                  </a:lnTo>
                  <a:lnTo>
                    <a:pt x="102" y="57"/>
                  </a:lnTo>
                  <a:lnTo>
                    <a:pt x="101" y="57"/>
                  </a:lnTo>
                  <a:lnTo>
                    <a:pt x="99" y="58"/>
                  </a:lnTo>
                  <a:lnTo>
                    <a:pt x="95" y="59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6" y="61"/>
                  </a:lnTo>
                  <a:lnTo>
                    <a:pt x="85" y="61"/>
                  </a:lnTo>
                  <a:lnTo>
                    <a:pt x="82" y="61"/>
                  </a:lnTo>
                  <a:lnTo>
                    <a:pt x="78" y="62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8" y="62"/>
                  </a:lnTo>
                  <a:lnTo>
                    <a:pt x="64" y="63"/>
                  </a:lnTo>
                  <a:lnTo>
                    <a:pt x="61" y="63"/>
                  </a:lnTo>
                  <a:lnTo>
                    <a:pt x="57" y="62"/>
                  </a:lnTo>
                  <a:lnTo>
                    <a:pt x="54" y="62"/>
                  </a:lnTo>
                  <a:lnTo>
                    <a:pt x="50" y="62"/>
                  </a:lnTo>
                  <a:lnTo>
                    <a:pt x="47" y="62"/>
                  </a:lnTo>
                  <a:lnTo>
                    <a:pt x="44" y="61"/>
                  </a:lnTo>
                  <a:lnTo>
                    <a:pt x="40" y="61"/>
                  </a:lnTo>
                  <a:lnTo>
                    <a:pt x="39" y="61"/>
                  </a:lnTo>
                  <a:lnTo>
                    <a:pt x="37" y="60"/>
                  </a:lnTo>
                  <a:lnTo>
                    <a:pt x="33" y="60"/>
                  </a:lnTo>
                  <a:lnTo>
                    <a:pt x="30" y="59"/>
                  </a:lnTo>
                  <a:lnTo>
                    <a:pt x="26" y="58"/>
                  </a:lnTo>
                  <a:lnTo>
                    <a:pt x="24" y="57"/>
                  </a:lnTo>
                  <a:lnTo>
                    <a:pt x="23" y="57"/>
                  </a:lnTo>
                  <a:lnTo>
                    <a:pt x="19" y="5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</a:path>
              </a:pathLst>
            </a:custGeom>
            <a:noFill/>
            <a:ln w="0">
              <a:solidFill>
                <a:srgbClr val="5ff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04720" y="3171600"/>
              <a:ext cx="1588320" cy="6476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4" y="19"/>
                  </a:moveTo>
                  <a:lnTo>
                    <a:pt x="4" y="18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2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4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7" y="10"/>
                  </a:lnTo>
                  <a:lnTo>
                    <a:pt x="110" y="12"/>
                  </a:lnTo>
                  <a:lnTo>
                    <a:pt x="111" y="12"/>
                  </a:lnTo>
                  <a:lnTo>
                    <a:pt x="114" y="15"/>
                  </a:lnTo>
                  <a:lnTo>
                    <a:pt x="114" y="15"/>
                  </a:lnTo>
                  <a:lnTo>
                    <a:pt x="117" y="18"/>
                  </a:lnTo>
                  <a:lnTo>
                    <a:pt x="118" y="19"/>
                  </a:lnTo>
                  <a:lnTo>
                    <a:pt x="119" y="22"/>
                  </a:lnTo>
                  <a:lnTo>
                    <a:pt x="120" y="25"/>
                  </a:lnTo>
                  <a:lnTo>
                    <a:pt x="121" y="29"/>
                  </a:lnTo>
                  <a:lnTo>
                    <a:pt x="121" y="32"/>
                  </a:lnTo>
                  <a:lnTo>
                    <a:pt x="120" y="36"/>
                  </a:lnTo>
                  <a:lnTo>
                    <a:pt x="119" y="39"/>
                  </a:lnTo>
                  <a:lnTo>
                    <a:pt x="118" y="42"/>
                  </a:lnTo>
                  <a:lnTo>
                    <a:pt x="117" y="43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1" y="49"/>
                  </a:lnTo>
                  <a:lnTo>
                    <a:pt x="110" y="50"/>
                  </a:lnTo>
                  <a:lnTo>
                    <a:pt x="107" y="51"/>
                  </a:lnTo>
                  <a:lnTo>
                    <a:pt x="104" y="53"/>
                  </a:lnTo>
                  <a:lnTo>
                    <a:pt x="104" y="53"/>
                  </a:lnTo>
                  <a:lnTo>
                    <a:pt x="100" y="55"/>
                  </a:lnTo>
                  <a:lnTo>
                    <a:pt x="97" y="56"/>
                  </a:lnTo>
                  <a:lnTo>
                    <a:pt x="95" y="56"/>
                  </a:lnTo>
                  <a:lnTo>
                    <a:pt x="93" y="57"/>
                  </a:lnTo>
                  <a:lnTo>
                    <a:pt x="90" y="58"/>
                  </a:lnTo>
                  <a:lnTo>
                    <a:pt x="86" y="58"/>
                  </a:lnTo>
                  <a:lnTo>
                    <a:pt x="83" y="59"/>
                  </a:lnTo>
                  <a:lnTo>
                    <a:pt x="80" y="60"/>
                  </a:lnTo>
                  <a:lnTo>
                    <a:pt x="77" y="60"/>
                  </a:lnTo>
                  <a:lnTo>
                    <a:pt x="76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1"/>
                  </a:lnTo>
                  <a:lnTo>
                    <a:pt x="52" y="60"/>
                  </a:lnTo>
                  <a:lnTo>
                    <a:pt x="48" y="60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38" y="59"/>
                  </a:lnTo>
                  <a:lnTo>
                    <a:pt x="35" y="58"/>
                  </a:lnTo>
                  <a:lnTo>
                    <a:pt x="31" y="58"/>
                  </a:lnTo>
                  <a:lnTo>
                    <a:pt x="28" y="57"/>
                  </a:lnTo>
                  <a:lnTo>
                    <a:pt x="26" y="56"/>
                  </a:lnTo>
                  <a:lnTo>
                    <a:pt x="24" y="56"/>
                  </a:lnTo>
                  <a:lnTo>
                    <a:pt x="21" y="55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1" y="50"/>
                  </a:lnTo>
                  <a:lnTo>
                    <a:pt x="10" y="49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2" y="22"/>
                  </a:lnTo>
                  <a:lnTo>
                    <a:pt x="4" y="19"/>
                  </a:lnTo>
                </a:path>
              </a:pathLst>
            </a:custGeom>
            <a:noFill/>
            <a:ln w="0">
              <a:solidFill>
                <a:srgbClr val="7ff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30640" y="3182400"/>
              <a:ext cx="1536480" cy="626040"/>
            </a:xfrm>
            <a:custGeom>
              <a:avLst/>
              <a:gdLst/>
              <a:ahLst/>
              <a:rect l="l" t="t" r="r" b="b"/>
              <a:pathLst>
                <a:path w="117" h="59">
                  <a:moveTo>
                    <a:pt x="2" y="22"/>
                  </a:moveTo>
                  <a:lnTo>
                    <a:pt x="2" y="21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5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4" y="3"/>
                  </a:lnTo>
                  <a:lnTo>
                    <a:pt x="88" y="3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5" y="5"/>
                  </a:lnTo>
                  <a:lnTo>
                    <a:pt x="98" y="7"/>
                  </a:lnTo>
                  <a:lnTo>
                    <a:pt x="99" y="7"/>
                  </a:lnTo>
                  <a:lnTo>
                    <a:pt x="102" y="8"/>
                  </a:lnTo>
                  <a:lnTo>
                    <a:pt x="105" y="10"/>
                  </a:lnTo>
                  <a:lnTo>
                    <a:pt x="106" y="11"/>
                  </a:lnTo>
                  <a:lnTo>
                    <a:pt x="109" y="13"/>
                  </a:lnTo>
                  <a:lnTo>
                    <a:pt x="110" y="14"/>
                  </a:lnTo>
                  <a:lnTo>
                    <a:pt x="112" y="16"/>
                  </a:lnTo>
                  <a:lnTo>
                    <a:pt x="113" y="17"/>
                  </a:lnTo>
                  <a:lnTo>
                    <a:pt x="115" y="21"/>
                  </a:lnTo>
                  <a:lnTo>
                    <a:pt x="116" y="22"/>
                  </a:lnTo>
                  <a:lnTo>
                    <a:pt x="116" y="24"/>
                  </a:lnTo>
                  <a:lnTo>
                    <a:pt x="117" y="28"/>
                  </a:lnTo>
                  <a:lnTo>
                    <a:pt x="117" y="31"/>
                  </a:lnTo>
                  <a:lnTo>
                    <a:pt x="116" y="35"/>
                  </a:lnTo>
                  <a:lnTo>
                    <a:pt x="116" y="37"/>
                  </a:lnTo>
                  <a:lnTo>
                    <a:pt x="115" y="38"/>
                  </a:lnTo>
                  <a:lnTo>
                    <a:pt x="113" y="42"/>
                  </a:lnTo>
                  <a:lnTo>
                    <a:pt x="112" y="43"/>
                  </a:lnTo>
                  <a:lnTo>
                    <a:pt x="110" y="45"/>
                  </a:lnTo>
                  <a:lnTo>
                    <a:pt x="109" y="46"/>
                  </a:lnTo>
                  <a:lnTo>
                    <a:pt x="106" y="49"/>
                  </a:lnTo>
                  <a:lnTo>
                    <a:pt x="105" y="49"/>
                  </a:lnTo>
                  <a:lnTo>
                    <a:pt x="102" y="51"/>
                  </a:lnTo>
                  <a:lnTo>
                    <a:pt x="99" y="52"/>
                  </a:lnTo>
                  <a:lnTo>
                    <a:pt x="98" y="52"/>
                  </a:lnTo>
                  <a:lnTo>
                    <a:pt x="95" y="54"/>
                  </a:lnTo>
                  <a:lnTo>
                    <a:pt x="91" y="55"/>
                  </a:lnTo>
                  <a:lnTo>
                    <a:pt x="89" y="55"/>
                  </a:lnTo>
                  <a:lnTo>
                    <a:pt x="88" y="56"/>
                  </a:lnTo>
                  <a:lnTo>
                    <a:pt x="84" y="56"/>
                  </a:lnTo>
                  <a:lnTo>
                    <a:pt x="81" y="57"/>
                  </a:lnTo>
                  <a:lnTo>
                    <a:pt x="78" y="58"/>
                  </a:lnTo>
                  <a:lnTo>
                    <a:pt x="74" y="58"/>
                  </a:lnTo>
                  <a:lnTo>
                    <a:pt x="71" y="58"/>
                  </a:lnTo>
                  <a:lnTo>
                    <a:pt x="67" y="59"/>
                  </a:lnTo>
                  <a:lnTo>
                    <a:pt x="64" y="59"/>
                  </a:lnTo>
                  <a:lnTo>
                    <a:pt x="60" y="59"/>
                  </a:lnTo>
                  <a:lnTo>
                    <a:pt x="57" y="59"/>
                  </a:lnTo>
                  <a:lnTo>
                    <a:pt x="53" y="59"/>
                  </a:lnTo>
                  <a:lnTo>
                    <a:pt x="50" y="59"/>
                  </a:lnTo>
                  <a:lnTo>
                    <a:pt x="46" y="58"/>
                  </a:lnTo>
                  <a:lnTo>
                    <a:pt x="43" y="58"/>
                  </a:lnTo>
                  <a:lnTo>
                    <a:pt x="40" y="58"/>
                  </a:lnTo>
                  <a:lnTo>
                    <a:pt x="36" y="57"/>
                  </a:lnTo>
                  <a:lnTo>
                    <a:pt x="33" y="56"/>
                  </a:lnTo>
                  <a:lnTo>
                    <a:pt x="29" y="56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2" y="54"/>
                  </a:lnTo>
                  <a:lnTo>
                    <a:pt x="19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11" y="49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2"/>
                  </a:lnTo>
                </a:path>
              </a:pathLst>
            </a:custGeom>
            <a:noFill/>
            <a:ln w="0">
              <a:solidFill>
                <a:srgbClr val="8ff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56560" y="3193200"/>
              <a:ext cx="1485000" cy="60408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3" y="18"/>
                  </a:moveTo>
                  <a:lnTo>
                    <a:pt x="4" y="16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79" y="2"/>
                  </a:lnTo>
                  <a:lnTo>
                    <a:pt x="82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9" y="4"/>
                  </a:lnTo>
                  <a:lnTo>
                    <a:pt x="93" y="5"/>
                  </a:lnTo>
                  <a:lnTo>
                    <a:pt x="94" y="6"/>
                  </a:lnTo>
                  <a:lnTo>
                    <a:pt x="96" y="7"/>
                  </a:lnTo>
                  <a:lnTo>
                    <a:pt x="100" y="9"/>
                  </a:lnTo>
                  <a:lnTo>
                    <a:pt x="101" y="10"/>
                  </a:lnTo>
                  <a:lnTo>
                    <a:pt x="103" y="11"/>
                  </a:lnTo>
                  <a:lnTo>
                    <a:pt x="106" y="13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10" y="18"/>
                  </a:lnTo>
                  <a:lnTo>
                    <a:pt x="111" y="20"/>
                  </a:lnTo>
                  <a:lnTo>
                    <a:pt x="113" y="23"/>
                  </a:lnTo>
                  <a:lnTo>
                    <a:pt x="113" y="27"/>
                  </a:lnTo>
                  <a:lnTo>
                    <a:pt x="113" y="30"/>
                  </a:lnTo>
                  <a:lnTo>
                    <a:pt x="113" y="34"/>
                  </a:lnTo>
                  <a:lnTo>
                    <a:pt x="111" y="37"/>
                  </a:lnTo>
                  <a:lnTo>
                    <a:pt x="110" y="39"/>
                  </a:lnTo>
                  <a:lnTo>
                    <a:pt x="109" y="41"/>
                  </a:lnTo>
                  <a:lnTo>
                    <a:pt x="107" y="43"/>
                  </a:lnTo>
                  <a:lnTo>
                    <a:pt x="106" y="44"/>
                  </a:lnTo>
                  <a:lnTo>
                    <a:pt x="103" y="46"/>
                  </a:lnTo>
                  <a:lnTo>
                    <a:pt x="101" y="48"/>
                  </a:lnTo>
                  <a:lnTo>
                    <a:pt x="100" y="48"/>
                  </a:lnTo>
                  <a:lnTo>
                    <a:pt x="96" y="50"/>
                  </a:lnTo>
                  <a:lnTo>
                    <a:pt x="94" y="51"/>
                  </a:lnTo>
                  <a:lnTo>
                    <a:pt x="93" y="52"/>
                  </a:lnTo>
                  <a:lnTo>
                    <a:pt x="89" y="53"/>
                  </a:lnTo>
                  <a:lnTo>
                    <a:pt x="86" y="54"/>
                  </a:lnTo>
                  <a:lnTo>
                    <a:pt x="83" y="54"/>
                  </a:lnTo>
                  <a:lnTo>
                    <a:pt x="82" y="54"/>
                  </a:lnTo>
                  <a:lnTo>
                    <a:pt x="79" y="55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69" y="56"/>
                  </a:lnTo>
                  <a:lnTo>
                    <a:pt x="65" y="57"/>
                  </a:lnTo>
                  <a:lnTo>
                    <a:pt x="62" y="57"/>
                  </a:lnTo>
                  <a:lnTo>
                    <a:pt x="58" y="57"/>
                  </a:lnTo>
                  <a:lnTo>
                    <a:pt x="55" y="57"/>
                  </a:lnTo>
                  <a:lnTo>
                    <a:pt x="51" y="57"/>
                  </a:lnTo>
                  <a:lnTo>
                    <a:pt x="48" y="57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38" y="56"/>
                  </a:lnTo>
                  <a:lnTo>
                    <a:pt x="34" y="55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0" y="52"/>
                  </a:lnTo>
                  <a:lnTo>
                    <a:pt x="19" y="51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3" y="18"/>
                  </a:lnTo>
                </a:path>
              </a:pathLst>
            </a:custGeom>
            <a:noFill/>
            <a:ln w="0">
              <a:solidFill>
                <a:srgbClr val="aff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82480" y="3204000"/>
              <a:ext cx="1430280" cy="58500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1" y="21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3"/>
                  </a:lnTo>
                  <a:lnTo>
                    <a:pt x="84" y="3"/>
                  </a:lnTo>
                  <a:lnTo>
                    <a:pt x="87" y="4"/>
                  </a:lnTo>
                  <a:lnTo>
                    <a:pt x="89" y="5"/>
                  </a:lnTo>
                  <a:lnTo>
                    <a:pt x="91" y="6"/>
                  </a:lnTo>
                  <a:lnTo>
                    <a:pt x="94" y="7"/>
                  </a:lnTo>
                  <a:lnTo>
                    <a:pt x="97" y="9"/>
                  </a:lnTo>
                  <a:lnTo>
                    <a:pt x="98" y="9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08" y="21"/>
                  </a:lnTo>
                  <a:lnTo>
                    <a:pt x="109" y="22"/>
                  </a:lnTo>
                  <a:lnTo>
                    <a:pt x="109" y="26"/>
                  </a:lnTo>
                  <a:lnTo>
                    <a:pt x="109" y="29"/>
                  </a:lnTo>
                  <a:lnTo>
                    <a:pt x="109" y="33"/>
                  </a:lnTo>
                  <a:lnTo>
                    <a:pt x="108" y="34"/>
                  </a:lnTo>
                  <a:lnTo>
                    <a:pt x="107" y="36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2" y="43"/>
                  </a:lnTo>
                  <a:lnTo>
                    <a:pt x="101" y="43"/>
                  </a:lnTo>
                  <a:lnTo>
                    <a:pt x="98" y="46"/>
                  </a:lnTo>
                  <a:lnTo>
                    <a:pt x="97" y="47"/>
                  </a:lnTo>
                  <a:lnTo>
                    <a:pt x="94" y="48"/>
                  </a:lnTo>
                  <a:lnTo>
                    <a:pt x="91" y="49"/>
                  </a:lnTo>
                  <a:lnTo>
                    <a:pt x="89" y="50"/>
                  </a:lnTo>
                  <a:lnTo>
                    <a:pt x="87" y="51"/>
                  </a:lnTo>
                  <a:lnTo>
                    <a:pt x="84" y="52"/>
                  </a:lnTo>
                  <a:lnTo>
                    <a:pt x="80" y="52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0" y="54"/>
                  </a:lnTo>
                  <a:lnTo>
                    <a:pt x="67" y="54"/>
                  </a:lnTo>
                  <a:lnTo>
                    <a:pt x="63" y="55"/>
                  </a:lnTo>
                  <a:lnTo>
                    <a:pt x="60" y="55"/>
                  </a:lnTo>
                  <a:lnTo>
                    <a:pt x="56" y="55"/>
                  </a:lnTo>
                  <a:lnTo>
                    <a:pt x="53" y="55"/>
                  </a:lnTo>
                  <a:lnTo>
                    <a:pt x="49" y="55"/>
                  </a:lnTo>
                  <a:lnTo>
                    <a:pt x="46" y="55"/>
                  </a:lnTo>
                  <a:lnTo>
                    <a:pt x="42" y="54"/>
                  </a:lnTo>
                  <a:lnTo>
                    <a:pt x="39" y="54"/>
                  </a:lnTo>
                  <a:lnTo>
                    <a:pt x="36" y="54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2" y="51"/>
                  </a:lnTo>
                  <a:lnTo>
                    <a:pt x="20" y="50"/>
                  </a:lnTo>
                  <a:lnTo>
                    <a:pt x="18" y="49"/>
                  </a:lnTo>
                  <a:lnTo>
                    <a:pt x="15" y="48"/>
                  </a:lnTo>
                  <a:lnTo>
                    <a:pt x="12" y="47"/>
                  </a:lnTo>
                  <a:lnTo>
                    <a:pt x="11" y="46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cfff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95080" y="3215160"/>
              <a:ext cx="1404360" cy="56304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3" y="17"/>
                  </a:moveTo>
                  <a:lnTo>
                    <a:pt x="5" y="14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4" y="4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7" y="10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2" y="14"/>
                  </a:lnTo>
                  <a:lnTo>
                    <a:pt x="104" y="17"/>
                  </a:lnTo>
                  <a:lnTo>
                    <a:pt x="104" y="18"/>
                  </a:lnTo>
                  <a:lnTo>
                    <a:pt x="106" y="21"/>
                  </a:lnTo>
                  <a:lnTo>
                    <a:pt x="107" y="25"/>
                  </a:lnTo>
                  <a:lnTo>
                    <a:pt x="107" y="28"/>
                  </a:lnTo>
                  <a:lnTo>
                    <a:pt x="106" y="32"/>
                  </a:lnTo>
                  <a:lnTo>
                    <a:pt x="104" y="35"/>
                  </a:lnTo>
                  <a:lnTo>
                    <a:pt x="104" y="36"/>
                  </a:lnTo>
                  <a:lnTo>
                    <a:pt x="102" y="39"/>
                  </a:lnTo>
                  <a:lnTo>
                    <a:pt x="100" y="40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0" y="47"/>
                  </a:lnTo>
                  <a:lnTo>
                    <a:pt x="86" y="48"/>
                  </a:lnTo>
                  <a:lnTo>
                    <a:pt x="84" y="49"/>
                  </a:lnTo>
                  <a:lnTo>
                    <a:pt x="83" y="49"/>
                  </a:lnTo>
                  <a:lnTo>
                    <a:pt x="79" y="50"/>
                  </a:lnTo>
                  <a:lnTo>
                    <a:pt x="76" y="51"/>
                  </a:lnTo>
                  <a:lnTo>
                    <a:pt x="73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3"/>
                  </a:lnTo>
                  <a:lnTo>
                    <a:pt x="62" y="53"/>
                  </a:lnTo>
                  <a:lnTo>
                    <a:pt x="59" y="53"/>
                  </a:lnTo>
                  <a:lnTo>
                    <a:pt x="55" y="53"/>
                  </a:lnTo>
                  <a:lnTo>
                    <a:pt x="52" y="53"/>
                  </a:lnTo>
                  <a:lnTo>
                    <a:pt x="48" y="53"/>
                  </a:lnTo>
                  <a:lnTo>
                    <a:pt x="45" y="53"/>
                  </a:lnTo>
                  <a:lnTo>
                    <a:pt x="41" y="53"/>
                  </a:lnTo>
                  <a:lnTo>
                    <a:pt x="40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31" y="51"/>
                  </a:lnTo>
                  <a:lnTo>
                    <a:pt x="28" y="50"/>
                  </a:lnTo>
                  <a:lnTo>
                    <a:pt x="24" y="49"/>
                  </a:lnTo>
                  <a:lnTo>
                    <a:pt x="23" y="49"/>
                  </a:lnTo>
                  <a:lnTo>
                    <a:pt x="21" y="48"/>
                  </a:lnTo>
                  <a:lnTo>
                    <a:pt x="17" y="47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3" y="17"/>
                  </a:lnTo>
                </a:path>
              </a:pathLst>
            </a:custGeom>
            <a:noFill/>
            <a:ln w="0">
              <a:solidFill>
                <a:srgbClr val="dfff1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21000" y="3225960"/>
              <a:ext cx="1352520" cy="541440"/>
            </a:xfrm>
            <a:custGeom>
              <a:avLst/>
              <a:gdLst/>
              <a:ahLst/>
              <a:rect l="l" t="t" r="r" b="b"/>
              <a:pathLst>
                <a:path w="103" h="51">
                  <a:moveTo>
                    <a:pt x="1" y="19"/>
                  </a:moveTo>
                  <a:lnTo>
                    <a:pt x="3" y="17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4" y="2"/>
                  </a:lnTo>
                  <a:lnTo>
                    <a:pt x="77" y="3"/>
                  </a:lnTo>
                  <a:lnTo>
                    <a:pt x="79" y="3"/>
                  </a:lnTo>
                  <a:lnTo>
                    <a:pt x="81" y="4"/>
                  </a:lnTo>
                  <a:lnTo>
                    <a:pt x="84" y="5"/>
                  </a:lnTo>
                  <a:lnTo>
                    <a:pt x="88" y="6"/>
                  </a:lnTo>
                  <a:lnTo>
                    <a:pt x="88" y="7"/>
                  </a:lnTo>
                  <a:lnTo>
                    <a:pt x="91" y="8"/>
                  </a:lnTo>
                  <a:lnTo>
                    <a:pt x="94" y="10"/>
                  </a:lnTo>
                  <a:lnTo>
                    <a:pt x="95" y="11"/>
                  </a:lnTo>
                  <a:lnTo>
                    <a:pt x="98" y="13"/>
                  </a:lnTo>
                  <a:lnTo>
                    <a:pt x="98" y="14"/>
                  </a:lnTo>
                  <a:lnTo>
                    <a:pt x="100" y="17"/>
                  </a:lnTo>
                  <a:lnTo>
                    <a:pt x="102" y="19"/>
                  </a:lnTo>
                  <a:lnTo>
                    <a:pt x="102" y="20"/>
                  </a:lnTo>
                  <a:lnTo>
                    <a:pt x="103" y="24"/>
                  </a:lnTo>
                  <a:lnTo>
                    <a:pt x="103" y="27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0" y="34"/>
                  </a:lnTo>
                  <a:lnTo>
                    <a:pt x="98" y="37"/>
                  </a:lnTo>
                  <a:lnTo>
                    <a:pt x="98" y="38"/>
                  </a:lnTo>
                  <a:lnTo>
                    <a:pt x="95" y="40"/>
                  </a:lnTo>
                  <a:lnTo>
                    <a:pt x="94" y="41"/>
                  </a:lnTo>
                  <a:lnTo>
                    <a:pt x="91" y="43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4" y="46"/>
                  </a:lnTo>
                  <a:lnTo>
                    <a:pt x="81" y="47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1" y="50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0" y="51"/>
                  </a:lnTo>
                  <a:lnTo>
                    <a:pt x="57" y="51"/>
                  </a:lnTo>
                  <a:lnTo>
                    <a:pt x="53" y="51"/>
                  </a:lnTo>
                  <a:lnTo>
                    <a:pt x="50" y="51"/>
                  </a:lnTo>
                  <a:lnTo>
                    <a:pt x="46" y="51"/>
                  </a:lnTo>
                  <a:lnTo>
                    <a:pt x="43" y="51"/>
                  </a:lnTo>
                  <a:lnTo>
                    <a:pt x="39" y="51"/>
                  </a:lnTo>
                  <a:lnTo>
                    <a:pt x="36" y="50"/>
                  </a:lnTo>
                  <a:lnTo>
                    <a:pt x="33" y="50"/>
                  </a:lnTo>
                  <a:lnTo>
                    <a:pt x="29" y="49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2" y="47"/>
                  </a:lnTo>
                  <a:lnTo>
                    <a:pt x="19" y="46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49800" y="3234960"/>
              <a:ext cx="1298160" cy="520920"/>
            </a:xfrm>
            <a:custGeom>
              <a:avLst/>
              <a:gdLst/>
              <a:ahLst/>
              <a:rect l="l" t="t" r="r" b="b"/>
              <a:pathLst>
                <a:path w="99" h="49">
                  <a:moveTo>
                    <a:pt x="3" y="15"/>
                  </a:moveTo>
                  <a:lnTo>
                    <a:pt x="5" y="12"/>
                  </a:lnTo>
                  <a:lnTo>
                    <a:pt x="6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5" y="3"/>
                  </a:lnTo>
                  <a:lnTo>
                    <a:pt x="79" y="4"/>
                  </a:lnTo>
                  <a:lnTo>
                    <a:pt x="82" y="5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3" y="12"/>
                  </a:lnTo>
                  <a:lnTo>
                    <a:pt x="94" y="12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6" y="33"/>
                  </a:lnTo>
                  <a:lnTo>
                    <a:pt x="96" y="34"/>
                  </a:lnTo>
                  <a:lnTo>
                    <a:pt x="94" y="37"/>
                  </a:lnTo>
                  <a:lnTo>
                    <a:pt x="93" y="37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6" y="42"/>
                  </a:lnTo>
                  <a:lnTo>
                    <a:pt x="83" y="44"/>
                  </a:lnTo>
                  <a:lnTo>
                    <a:pt x="82" y="44"/>
                  </a:lnTo>
                  <a:lnTo>
                    <a:pt x="79" y="45"/>
                  </a:lnTo>
                  <a:lnTo>
                    <a:pt x="75" y="46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69" y="48"/>
                  </a:lnTo>
                  <a:lnTo>
                    <a:pt x="65" y="48"/>
                  </a:lnTo>
                  <a:lnTo>
                    <a:pt x="62" y="49"/>
                  </a:lnTo>
                  <a:lnTo>
                    <a:pt x="58" y="49"/>
                  </a:lnTo>
                  <a:lnTo>
                    <a:pt x="55" y="49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4" y="49"/>
                  </a:lnTo>
                  <a:lnTo>
                    <a:pt x="41" y="49"/>
                  </a:lnTo>
                  <a:lnTo>
                    <a:pt x="37" y="49"/>
                  </a:lnTo>
                  <a:lnTo>
                    <a:pt x="34" y="48"/>
                  </a:lnTo>
                  <a:lnTo>
                    <a:pt x="31" y="48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4" y="46"/>
                  </a:lnTo>
                  <a:lnTo>
                    <a:pt x="20" y="45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3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3" y="15"/>
                  </a:lnTo>
                </a:path>
              </a:pathLst>
            </a:custGeom>
            <a:noFill/>
            <a:ln w="0">
              <a:solidFill>
                <a:srgbClr val="ffd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75720" y="3245760"/>
              <a:ext cx="1246320" cy="4993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1" y="18"/>
                  </a:move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3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5" y="8"/>
                  </a:lnTo>
                  <a:lnTo>
                    <a:pt x="87" y="10"/>
                  </a:lnTo>
                  <a:lnTo>
                    <a:pt x="89" y="11"/>
                  </a:lnTo>
                  <a:lnTo>
                    <a:pt x="91" y="13"/>
                  </a:lnTo>
                  <a:lnTo>
                    <a:pt x="92" y="15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5" y="22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4" y="29"/>
                  </a:lnTo>
                  <a:lnTo>
                    <a:pt x="92" y="32"/>
                  </a:lnTo>
                  <a:lnTo>
                    <a:pt x="91" y="34"/>
                  </a:lnTo>
                  <a:lnTo>
                    <a:pt x="89" y="36"/>
                  </a:lnTo>
                  <a:lnTo>
                    <a:pt x="87" y="37"/>
                  </a:lnTo>
                  <a:lnTo>
                    <a:pt x="85" y="39"/>
                  </a:lnTo>
                  <a:lnTo>
                    <a:pt x="84" y="40"/>
                  </a:lnTo>
                  <a:lnTo>
                    <a:pt x="80" y="41"/>
                  </a:lnTo>
                  <a:lnTo>
                    <a:pt x="78" y="43"/>
                  </a:lnTo>
                  <a:lnTo>
                    <a:pt x="77" y="43"/>
                  </a:lnTo>
                  <a:lnTo>
                    <a:pt x="73" y="44"/>
                  </a:lnTo>
                  <a:lnTo>
                    <a:pt x="70" y="45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3" y="46"/>
                  </a:lnTo>
                  <a:lnTo>
                    <a:pt x="60" y="47"/>
                  </a:lnTo>
                  <a:lnTo>
                    <a:pt x="56" y="47"/>
                  </a:lnTo>
                  <a:lnTo>
                    <a:pt x="53" y="47"/>
                  </a:lnTo>
                  <a:lnTo>
                    <a:pt x="49" y="47"/>
                  </a:lnTo>
                  <a:lnTo>
                    <a:pt x="46" y="47"/>
                  </a:lnTo>
                  <a:lnTo>
                    <a:pt x="42" y="47"/>
                  </a:lnTo>
                  <a:lnTo>
                    <a:pt x="39" y="47"/>
                  </a:lnTo>
                  <a:lnTo>
                    <a:pt x="35" y="47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5" y="45"/>
                  </a:lnTo>
                  <a:lnTo>
                    <a:pt x="22" y="44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ffc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01640" y="3256560"/>
              <a:ext cx="1194480" cy="47736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2" y="15"/>
                  </a:moveTo>
                  <a:lnTo>
                    <a:pt x="3" y="14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0" y="7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85" y="11"/>
                  </a:lnTo>
                  <a:lnTo>
                    <a:pt x="88" y="14"/>
                  </a:lnTo>
                  <a:lnTo>
                    <a:pt x="89" y="15"/>
                  </a:lnTo>
                  <a:lnTo>
                    <a:pt x="90" y="17"/>
                  </a:lnTo>
                  <a:lnTo>
                    <a:pt x="91" y="21"/>
                  </a:lnTo>
                  <a:lnTo>
                    <a:pt x="91" y="24"/>
                  </a:lnTo>
                  <a:lnTo>
                    <a:pt x="90" y="28"/>
                  </a:lnTo>
                  <a:lnTo>
                    <a:pt x="89" y="30"/>
                  </a:lnTo>
                  <a:lnTo>
                    <a:pt x="88" y="31"/>
                  </a:lnTo>
                  <a:lnTo>
                    <a:pt x="85" y="34"/>
                  </a:lnTo>
                  <a:lnTo>
                    <a:pt x="85" y="35"/>
                  </a:lnTo>
                  <a:lnTo>
                    <a:pt x="82" y="37"/>
                  </a:lnTo>
                  <a:lnTo>
                    <a:pt x="80" y="38"/>
                  </a:lnTo>
                  <a:lnTo>
                    <a:pt x="78" y="39"/>
                  </a:lnTo>
                  <a:lnTo>
                    <a:pt x="75" y="41"/>
                  </a:lnTo>
                  <a:lnTo>
                    <a:pt x="72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5" y="44"/>
                  </a:lnTo>
                  <a:lnTo>
                    <a:pt x="61" y="44"/>
                  </a:lnTo>
                  <a:lnTo>
                    <a:pt x="58" y="45"/>
                  </a:lnTo>
                  <a:lnTo>
                    <a:pt x="55" y="45"/>
                  </a:lnTo>
                  <a:lnTo>
                    <a:pt x="54" y="45"/>
                  </a:lnTo>
                  <a:lnTo>
                    <a:pt x="51" y="45"/>
                  </a:lnTo>
                  <a:lnTo>
                    <a:pt x="47" y="45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3" y="45"/>
                  </a:lnTo>
                  <a:lnTo>
                    <a:pt x="30" y="44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19" y="42"/>
                  </a:lnTo>
                  <a:lnTo>
                    <a:pt x="16" y="41"/>
                  </a:lnTo>
                  <a:lnTo>
                    <a:pt x="13" y="39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noFill/>
            <a:ln w="0">
              <a:solidFill>
                <a:srgbClr val="ffa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27560" y="3267360"/>
              <a:ext cx="1143000" cy="45576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0" y="18"/>
                  </a:moveTo>
                  <a:lnTo>
                    <a:pt x="1" y="16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9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5" y="6"/>
                  </a:lnTo>
                  <a:lnTo>
                    <a:pt x="76" y="7"/>
                  </a:lnTo>
                  <a:lnTo>
                    <a:pt x="80" y="9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4" y="13"/>
                  </a:lnTo>
                  <a:lnTo>
                    <a:pt x="86" y="16"/>
                  </a:lnTo>
                  <a:lnTo>
                    <a:pt x="87" y="18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7" y="25"/>
                  </a:lnTo>
                  <a:lnTo>
                    <a:pt x="86" y="27"/>
                  </a:lnTo>
                  <a:lnTo>
                    <a:pt x="84" y="30"/>
                  </a:lnTo>
                  <a:lnTo>
                    <a:pt x="83" y="31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76" y="36"/>
                  </a:lnTo>
                  <a:lnTo>
                    <a:pt x="75" y="37"/>
                  </a:lnTo>
                  <a:lnTo>
                    <a:pt x="73" y="38"/>
                  </a:lnTo>
                  <a:lnTo>
                    <a:pt x="69" y="39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3" y="41"/>
                  </a:lnTo>
                  <a:lnTo>
                    <a:pt x="59" y="42"/>
                  </a:lnTo>
                  <a:lnTo>
                    <a:pt x="56" y="43"/>
                  </a:lnTo>
                  <a:lnTo>
                    <a:pt x="52" y="43"/>
                  </a:lnTo>
                  <a:lnTo>
                    <a:pt x="49" y="43"/>
                  </a:lnTo>
                  <a:lnTo>
                    <a:pt x="45" y="43"/>
                  </a:lnTo>
                  <a:lnTo>
                    <a:pt x="42" y="43"/>
                  </a:lnTo>
                  <a:lnTo>
                    <a:pt x="38" y="43"/>
                  </a:lnTo>
                  <a:lnTo>
                    <a:pt x="35" y="43"/>
                  </a:lnTo>
                  <a:lnTo>
                    <a:pt x="31" y="43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18" y="39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1" y="36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9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53480" y="3278520"/>
              <a:ext cx="1088280" cy="43380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2" y="14"/>
                  </a:moveTo>
                  <a:lnTo>
                    <a:pt x="3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0" y="12"/>
                  </a:lnTo>
                  <a:lnTo>
                    <a:pt x="81" y="14"/>
                  </a:lnTo>
                  <a:lnTo>
                    <a:pt x="82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78" y="31"/>
                  </a:lnTo>
                  <a:lnTo>
                    <a:pt x="76" y="33"/>
                  </a:lnTo>
                  <a:lnTo>
                    <a:pt x="74" y="34"/>
                  </a:lnTo>
                  <a:lnTo>
                    <a:pt x="71" y="36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4" y="38"/>
                  </a:lnTo>
                  <a:lnTo>
                    <a:pt x="61" y="39"/>
                  </a:lnTo>
                  <a:lnTo>
                    <a:pt x="60" y="40"/>
                  </a:lnTo>
                  <a:lnTo>
                    <a:pt x="57" y="40"/>
                  </a:lnTo>
                  <a:lnTo>
                    <a:pt x="54" y="41"/>
                  </a:lnTo>
                  <a:lnTo>
                    <a:pt x="50" y="41"/>
                  </a:lnTo>
                  <a:lnTo>
                    <a:pt x="47" y="41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6" y="41"/>
                  </a:lnTo>
                  <a:lnTo>
                    <a:pt x="33" y="41"/>
                  </a:lnTo>
                  <a:lnTo>
                    <a:pt x="29" y="41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19" y="38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4"/>
                  </a:lnTo>
                </a:path>
              </a:pathLst>
            </a:custGeom>
            <a:noFill/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79040" y="3289320"/>
              <a:ext cx="1036440" cy="41472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3" y="11"/>
                  </a:moveTo>
                  <a:lnTo>
                    <a:pt x="3" y="11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71" y="7"/>
                  </a:lnTo>
                  <a:lnTo>
                    <a:pt x="72" y="8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8" y="14"/>
                  </a:lnTo>
                  <a:lnTo>
                    <a:pt x="79" y="18"/>
                  </a:lnTo>
                  <a:lnTo>
                    <a:pt x="79" y="21"/>
                  </a:lnTo>
                  <a:lnTo>
                    <a:pt x="78" y="25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71" y="32"/>
                  </a:lnTo>
                  <a:lnTo>
                    <a:pt x="69" y="33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2" y="36"/>
                  </a:lnTo>
                  <a:lnTo>
                    <a:pt x="59" y="37"/>
                  </a:lnTo>
                  <a:lnTo>
                    <a:pt x="55" y="38"/>
                  </a:lnTo>
                  <a:lnTo>
                    <a:pt x="52" y="38"/>
                  </a:lnTo>
                  <a:lnTo>
                    <a:pt x="51" y="39"/>
                  </a:lnTo>
                  <a:lnTo>
                    <a:pt x="48" y="39"/>
                  </a:lnTo>
                  <a:lnTo>
                    <a:pt x="45" y="39"/>
                  </a:lnTo>
                  <a:lnTo>
                    <a:pt x="41" y="39"/>
                  </a:lnTo>
                  <a:lnTo>
                    <a:pt x="38" y="3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9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37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1"/>
                  </a:lnTo>
                </a:path>
              </a:pathLst>
            </a:custGeom>
            <a:noFill/>
            <a:ln w="0">
              <a:solidFill>
                <a:srgbClr val="ff5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05680" y="3300120"/>
              <a:ext cx="984240" cy="39276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1" y="14"/>
                  </a:moveTo>
                  <a:lnTo>
                    <a:pt x="1" y="13"/>
                  </a:lnTo>
                  <a:lnTo>
                    <a:pt x="4" y="10"/>
                  </a:lnTo>
                  <a:lnTo>
                    <a:pt x="5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3" y="5"/>
                  </a:lnTo>
                  <a:lnTo>
                    <a:pt x="67" y="6"/>
                  </a:lnTo>
                  <a:lnTo>
                    <a:pt x="67" y="7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7"/>
                  </a:lnTo>
                  <a:lnTo>
                    <a:pt x="75" y="20"/>
                  </a:lnTo>
                  <a:lnTo>
                    <a:pt x="74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0" y="28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3" y="32"/>
                  </a:lnTo>
                  <a:lnTo>
                    <a:pt x="60" y="34"/>
                  </a:lnTo>
                  <a:lnTo>
                    <a:pt x="59" y="34"/>
                  </a:lnTo>
                  <a:lnTo>
                    <a:pt x="57" y="35"/>
                  </a:lnTo>
                  <a:lnTo>
                    <a:pt x="53" y="36"/>
                  </a:lnTo>
                  <a:lnTo>
                    <a:pt x="50" y="36"/>
                  </a:lnTo>
                  <a:lnTo>
                    <a:pt x="46" y="37"/>
                  </a:lnTo>
                  <a:lnTo>
                    <a:pt x="43" y="37"/>
                  </a:lnTo>
                  <a:lnTo>
                    <a:pt x="39" y="37"/>
                  </a:lnTo>
                  <a:lnTo>
                    <a:pt x="36" y="37"/>
                  </a:lnTo>
                  <a:lnTo>
                    <a:pt x="32" y="37"/>
                  </a:lnTo>
                  <a:lnTo>
                    <a:pt x="29" y="37"/>
                  </a:lnTo>
                  <a:lnTo>
                    <a:pt x="25" y="36"/>
                  </a:lnTo>
                  <a:lnTo>
                    <a:pt x="22" y="36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5" y="34"/>
                  </a:lnTo>
                  <a:lnTo>
                    <a:pt x="12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ff4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46720" y="3310920"/>
              <a:ext cx="904320" cy="371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" y="11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8" y="5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5" y="9"/>
                  </a:lnTo>
                  <a:lnTo>
                    <a:pt x="67" y="11"/>
                  </a:lnTo>
                  <a:lnTo>
                    <a:pt x="68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8" y="23"/>
                  </a:lnTo>
                  <a:lnTo>
                    <a:pt x="67" y="24"/>
                  </a:lnTo>
                  <a:lnTo>
                    <a:pt x="65" y="26"/>
                  </a:lnTo>
                  <a:lnTo>
                    <a:pt x="64" y="27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3" y="35"/>
                  </a:lnTo>
                  <a:lnTo>
                    <a:pt x="40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2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11"/>
                  </a:lnTo>
                </a:path>
              </a:pathLst>
            </a:custGeom>
            <a:noFill/>
            <a:ln w="0">
              <a:solidFill>
                <a:srgbClr val="ff2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72640" y="3322080"/>
              <a:ext cx="852480" cy="34884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3" y="9"/>
                  </a:moveTo>
                  <a:lnTo>
                    <a:pt x="4" y="8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2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5" y="15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2" y="30"/>
                  </a:lnTo>
                  <a:lnTo>
                    <a:pt x="48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8" y="33"/>
                  </a:lnTo>
                  <a:lnTo>
                    <a:pt x="34" y="33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9"/>
                  </a:lnTo>
                </a:path>
              </a:pathLst>
            </a:custGeom>
            <a:noFill/>
            <a:ln w="0">
              <a:solidFill>
                <a:srgbClr val="ff0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98560" y="3330720"/>
              <a:ext cx="801000" cy="32904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1" y="12"/>
                  </a:moveTo>
                  <a:lnTo>
                    <a:pt x="2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0" y="4"/>
                  </a:lnTo>
                  <a:lnTo>
                    <a:pt x="53" y="5"/>
                  </a:lnTo>
                  <a:lnTo>
                    <a:pt x="56" y="7"/>
                  </a:lnTo>
                  <a:lnTo>
                    <a:pt x="56" y="8"/>
                  </a:lnTo>
                  <a:lnTo>
                    <a:pt x="59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6" y="23"/>
                  </a:lnTo>
                  <a:lnTo>
                    <a:pt x="56" y="24"/>
                  </a:lnTo>
                  <a:lnTo>
                    <a:pt x="53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5" y="30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37440" y="3352680"/>
              <a:ext cx="720360" cy="2854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2" y="9"/>
                  </a:moveTo>
                  <a:lnTo>
                    <a:pt x="2" y="8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2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5" y="12"/>
                  </a:lnTo>
                  <a:lnTo>
                    <a:pt x="55" y="15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6" y="27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9" y="23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9"/>
                  </a:lnTo>
                </a:path>
              </a:pathLst>
            </a:custGeom>
            <a:noFill/>
            <a:ln w="0">
              <a:solidFill>
                <a:srgbClr val="d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6680" y="3363480"/>
              <a:ext cx="642240" cy="26352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2" y="7"/>
                  </a:moveTo>
                  <a:lnTo>
                    <a:pt x="2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9" y="11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4" y="20"/>
                  </a:lnTo>
                  <a:lnTo>
                    <a:pt x="42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7"/>
                  </a:lnTo>
                </a:path>
              </a:pathLst>
            </a:custGeom>
            <a:noFill/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30680" y="3385440"/>
              <a:ext cx="536400" cy="22248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2" y="6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6" y="1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20"/>
                  </a:lnTo>
                  <a:lnTo>
                    <a:pt x="26" y="21"/>
                  </a:lnTo>
                  <a:lnTo>
                    <a:pt x="22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12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a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69560" y="3407040"/>
              <a:ext cx="458640" cy="1789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" y="5"/>
                  </a:moveTo>
                  <a:lnTo>
                    <a:pt x="3" y="3"/>
                  </a:lnTo>
                  <a:lnTo>
                    <a:pt x="5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4"/>
                  </a:lnTo>
                  <a:lnTo>
                    <a:pt x="30" y="15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5"/>
                  </a:lnTo>
                </a:path>
              </a:pathLst>
            </a:custGeom>
            <a:noFill/>
            <a:ln w="0">
              <a:solidFill>
                <a:srgbClr val="8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34720" y="3426840"/>
              <a:ext cx="326160" cy="139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5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97760" y="558072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-axis dist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6200000">
              <a:off x="1714320" y="320724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-axis dist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4560" y="905040"/>
            <a:ext cx="75783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ar Immersi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near field - f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on into solid-normal incidence, plan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ly focused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xis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 spo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on into solid-normal incidence, plan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664360" y="2286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rcular Pist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6120" y="1468440"/>
            <a:ext cx="6858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20680" y="1925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91720" y="1925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6120" y="1633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108080" y="1315800"/>
            <a:ext cx="1917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720880" y="1366920"/>
            <a:ext cx="2923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1219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08440" y="1521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304920" y="2438280"/>
          <a:ext cx="281916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28191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4038480" y="1752480"/>
          <a:ext cx="3657600" cy="112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365760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421160" y="41911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3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8880" y="52578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7960" y="41148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06760" y="4587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37280" y="451152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581280" y="685800"/>
          <a:ext cx="4419720" cy="96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685800"/>
                    <a:ext cx="44197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3630600" y="6410160"/>
            <a:ext cx="3948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30600" y="3289320"/>
            <a:ext cx="394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7578720" y="3288960"/>
            <a:ext cx="1440" cy="31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630600" y="3288960"/>
            <a:ext cx="1440" cy="31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30600" y="6410160"/>
            <a:ext cx="3948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630600" y="3288960"/>
            <a:ext cx="1440" cy="31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630600" y="637056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630600" y="32893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20080" y="6429240"/>
            <a:ext cx="20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287960" y="6370560"/>
            <a:ext cx="144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87960" y="32893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78880" y="6429240"/>
            <a:ext cx="20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946760" y="6370560"/>
            <a:ext cx="144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946760" y="32893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66120" y="6429240"/>
            <a:ext cx="14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603760" y="6370560"/>
            <a:ext cx="180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03760" y="3289320"/>
            <a:ext cx="180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73880" y="6429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262560" y="6370560"/>
            <a:ext cx="180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62560" y="3289320"/>
            <a:ext cx="180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202800" y="64292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919920" y="6370560"/>
            <a:ext cx="144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919920" y="32893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31720" y="64292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7578720" y="637056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78720" y="32893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489080" y="64292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30600" y="641016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7539120" y="641016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40240" y="6340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30600" y="596124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39120" y="596124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51320" y="58910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630600" y="552276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539120" y="552276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51320" y="54529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30600" y="507348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539120" y="507348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51320" y="50036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30600" y="4626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7539120" y="4626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45543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30600" y="417672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539120" y="417672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40240" y="4106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30600" y="37386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539120" y="37386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51320" y="36669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30600" y="328932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539120" y="328932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51320" y="32194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30600" y="3289320"/>
            <a:ext cx="394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30600" y="6410160"/>
            <a:ext cx="3948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578720" y="3288960"/>
            <a:ext cx="1440" cy="31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630600" y="3288960"/>
            <a:ext cx="1440" cy="31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86480" y="64008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69728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0700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6" y="0"/>
                </a:lnTo>
                <a:lnTo>
                  <a:pt x="13" y="0"/>
                </a:lnTo>
                <a:lnTo>
                  <a:pt x="13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638028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7520" y="6380280"/>
            <a:ext cx="19080" cy="9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3724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46600" y="6370560"/>
            <a:ext cx="20520" cy="9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6320" y="6370560"/>
            <a:ext cx="20520" cy="9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6712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776840" y="6380280"/>
            <a:ext cx="1908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86200" y="638028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9592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0708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16440" y="64008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2616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3696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4668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56040" y="6370560"/>
            <a:ext cx="20880" cy="97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6576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6361200"/>
            <a:ext cx="19080" cy="93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86280" y="6361200"/>
            <a:ext cx="20520" cy="93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9600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90680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1652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925880" y="638964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7"/>
                </a:lnTo>
                <a:lnTo>
                  <a:pt x="13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35600" y="64008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4676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612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6" y="0"/>
                </a:lnTo>
                <a:lnTo>
                  <a:pt x="13" y="0"/>
                </a:lnTo>
                <a:lnTo>
                  <a:pt x="13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65840" y="6380280"/>
            <a:ext cx="1080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65840" y="63705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76640" y="63612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986360" y="63500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7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95720" y="634032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05440" y="63403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3"/>
                </a:lnTo>
                <a:lnTo>
                  <a:pt x="7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16600" y="6350040"/>
            <a:ext cx="19080" cy="111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5960" y="635004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7"/>
                </a:lnTo>
                <a:lnTo>
                  <a:pt x="13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3568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46840" y="6370560"/>
            <a:ext cx="1872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5620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65560" y="6389640"/>
            <a:ext cx="9720" cy="205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65560" y="640080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75280" y="6400800"/>
            <a:ext cx="11160" cy="190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07528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86440" y="6380280"/>
            <a:ext cx="9360" cy="2052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8644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95800" y="6361200"/>
            <a:ext cx="9720" cy="190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95800" y="63500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7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105520" y="63403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114880" y="6330960"/>
            <a:ext cx="11160" cy="1908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14880" y="63198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26040" y="6319800"/>
            <a:ext cx="19080" cy="111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35400" y="6319800"/>
            <a:ext cx="20880" cy="111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45120" y="6319800"/>
            <a:ext cx="20520" cy="111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56280" y="631980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65640" y="6330960"/>
            <a:ext cx="972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65640" y="634032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75360" y="6350040"/>
            <a:ext cx="936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184720" y="6370560"/>
            <a:ext cx="11160" cy="1908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84720" y="63802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3"/>
                </a:lnTo>
                <a:lnTo>
                  <a:pt x="7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195880" y="6389640"/>
            <a:ext cx="9360" cy="205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95880" y="6400800"/>
            <a:ext cx="9360" cy="1908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9588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05240" y="6389640"/>
            <a:ext cx="9720" cy="2052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205240" y="6380280"/>
            <a:ext cx="972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05240" y="637056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14960" y="6361200"/>
            <a:ext cx="11160" cy="1908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214960" y="6340320"/>
            <a:ext cx="11160" cy="3024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14960" y="63309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226120" y="6319800"/>
            <a:ext cx="9360" cy="2052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26120" y="63104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235480" y="6300720"/>
            <a:ext cx="9720" cy="1908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5480" y="62913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45200" y="6280200"/>
            <a:ext cx="9360" cy="20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245200" y="627048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254560" y="626112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65720" y="62611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75440" y="627048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84800" y="62802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95960" y="6291360"/>
            <a:ext cx="9360" cy="1908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95960" y="63007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05320" y="6310440"/>
            <a:ext cx="9720" cy="2988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05320" y="6330960"/>
            <a:ext cx="9720" cy="1908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05320" y="634032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3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15040" y="6361200"/>
            <a:ext cx="9360" cy="190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5040" y="63705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0"/>
                </a:moveTo>
                <a:lnTo>
                  <a:pt x="6" y="0"/>
                </a:lnTo>
                <a:lnTo>
                  <a:pt x="13" y="12"/>
                </a:lnTo>
                <a:lnTo>
                  <a:pt x="13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24400" y="6389640"/>
            <a:ext cx="11160" cy="302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24400" y="6389640"/>
            <a:ext cx="11160" cy="302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324400" y="6370560"/>
            <a:ext cx="2088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2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9"/>
                </a:lnTo>
                <a:lnTo>
                  <a:pt x="0" y="19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560" y="6350040"/>
            <a:ext cx="9720" cy="3024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5560" y="6330960"/>
            <a:ext cx="9720" cy="302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5560" y="6310440"/>
            <a:ext cx="19080" cy="2988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13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9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45280" y="6291360"/>
            <a:ext cx="9360" cy="28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345280" y="627048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3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0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4640" y="6249960"/>
            <a:ext cx="11160" cy="3024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54640" y="6230880"/>
            <a:ext cx="11160" cy="3024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54640" y="62103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3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0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65800" y="6191280"/>
            <a:ext cx="9360" cy="302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65800" y="6180120"/>
            <a:ext cx="9360" cy="2052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65800" y="616104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12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9"/>
                </a:lnTo>
                <a:lnTo>
                  <a:pt x="0" y="19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10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75160" y="6151680"/>
            <a:ext cx="9720" cy="1908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75160" y="6130800"/>
            <a:ext cx="9720" cy="3024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375160" y="6121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84880" y="61102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6" y="0"/>
                </a:lnTo>
                <a:lnTo>
                  <a:pt x="13" y="0"/>
                </a:lnTo>
                <a:lnTo>
                  <a:pt x="13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94240" y="610092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405400" y="6100920"/>
            <a:ext cx="9720" cy="2052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405400" y="611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15120" y="6121440"/>
            <a:ext cx="936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15120" y="6130800"/>
            <a:ext cx="1872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3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24480" y="6151680"/>
            <a:ext cx="9360" cy="284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24480" y="6170760"/>
            <a:ext cx="9360" cy="2988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24480" y="619128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6" y="0"/>
                </a:lnTo>
                <a:lnTo>
                  <a:pt x="13" y="19"/>
                </a:lnTo>
                <a:lnTo>
                  <a:pt x="13" y="25"/>
                </a:lnTo>
                <a:lnTo>
                  <a:pt x="6" y="25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33840" y="6221520"/>
            <a:ext cx="11160" cy="2844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33840" y="6240600"/>
            <a:ext cx="11160" cy="507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6280200"/>
            <a:ext cx="2088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7" y="0"/>
                </a:lnTo>
                <a:lnTo>
                  <a:pt x="13" y="19"/>
                </a:lnTo>
                <a:lnTo>
                  <a:pt x="13" y="25"/>
                </a:lnTo>
                <a:lnTo>
                  <a:pt x="7" y="25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45000" y="6310440"/>
            <a:ext cx="9720" cy="5076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45000" y="6350040"/>
            <a:ext cx="19080" cy="60120"/>
          </a:xfrm>
          <a:custGeom>
            <a:avLst/>
            <a:gdLst/>
            <a:ahLst/>
            <a:rect l="l" t="t" r="r" b="b"/>
            <a:pathLst>
              <a:path w="12" h="38">
                <a:moveTo>
                  <a:pt x="0" y="0"/>
                </a:moveTo>
                <a:lnTo>
                  <a:pt x="6" y="0"/>
                </a:lnTo>
                <a:lnTo>
                  <a:pt x="12" y="32"/>
                </a:lnTo>
                <a:lnTo>
                  <a:pt x="12" y="38"/>
                </a:lnTo>
                <a:lnTo>
                  <a:pt x="6" y="38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454720" y="6380280"/>
            <a:ext cx="9360" cy="298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54720" y="6330960"/>
            <a:ext cx="9360" cy="586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54720" y="6270480"/>
            <a:ext cx="20520" cy="69840"/>
          </a:xfrm>
          <a:custGeom>
            <a:avLst/>
            <a:gdLst/>
            <a:ahLst/>
            <a:rect l="l" t="t" r="r" b="b"/>
            <a:pathLst>
              <a:path w="13" h="44">
                <a:moveTo>
                  <a:pt x="0" y="38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44"/>
                </a:lnTo>
                <a:lnTo>
                  <a:pt x="0" y="44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2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64080" y="6221520"/>
            <a:ext cx="11160" cy="5868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64080" y="6161040"/>
            <a:ext cx="11160" cy="6984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464080" y="6100920"/>
            <a:ext cx="20880" cy="69840"/>
          </a:xfrm>
          <a:custGeom>
            <a:avLst/>
            <a:gdLst/>
            <a:ahLst/>
            <a:rect l="l" t="t" r="r" b="b"/>
            <a:pathLst>
              <a:path w="13" h="44">
                <a:moveTo>
                  <a:pt x="0" y="38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44"/>
                </a:lnTo>
                <a:lnTo>
                  <a:pt x="0" y="44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75240" y="6031080"/>
            <a:ext cx="9720" cy="7920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75240" y="5972040"/>
            <a:ext cx="19080" cy="69840"/>
          </a:xfrm>
          <a:custGeom>
            <a:avLst/>
            <a:gdLst/>
            <a:ahLst/>
            <a:rect l="l" t="t" r="r" b="b"/>
            <a:pathLst>
              <a:path w="12" h="44">
                <a:moveTo>
                  <a:pt x="0" y="37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44"/>
                </a:lnTo>
                <a:lnTo>
                  <a:pt x="0" y="44"/>
                </a:lnTo>
                <a:lnTo>
                  <a:pt x="0" y="37"/>
                </a:lnTo>
                <a:close/>
              </a:path>
            </a:pathLst>
          </a:custGeom>
          <a:blipFill rotWithShape="0">
            <a:blip r:embed="rId13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4960" y="5902200"/>
            <a:ext cx="9360" cy="795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84960" y="5832360"/>
            <a:ext cx="9360" cy="795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484960" y="5751360"/>
            <a:ext cx="19080" cy="90720"/>
          </a:xfrm>
          <a:custGeom>
            <a:avLst/>
            <a:gdLst/>
            <a:ahLst/>
            <a:rect l="l" t="t" r="r" b="b"/>
            <a:pathLst>
              <a:path w="12" h="57">
                <a:moveTo>
                  <a:pt x="0" y="51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57"/>
                </a:lnTo>
                <a:lnTo>
                  <a:pt x="0" y="57"/>
                </a:lnTo>
                <a:lnTo>
                  <a:pt x="0" y="51"/>
                </a:lnTo>
                <a:close/>
              </a:path>
            </a:pathLst>
          </a:custGeom>
          <a:blipFill rotWithShape="0">
            <a:blip r:embed="rId13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494320" y="5681520"/>
            <a:ext cx="9720" cy="810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94320" y="5602320"/>
            <a:ext cx="9720" cy="903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494320" y="5532480"/>
            <a:ext cx="2052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44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04040" y="5452920"/>
            <a:ext cx="10800" cy="8892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04040" y="5373720"/>
            <a:ext cx="20520" cy="88920"/>
          </a:xfrm>
          <a:custGeom>
            <a:avLst/>
            <a:gdLst/>
            <a:ahLst/>
            <a:rect l="l" t="t" r="r" b="b"/>
            <a:pathLst>
              <a:path w="13" h="56">
                <a:moveTo>
                  <a:pt x="0" y="50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56"/>
                </a:lnTo>
                <a:lnTo>
                  <a:pt x="0" y="56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14840" y="5292720"/>
            <a:ext cx="9720" cy="903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514840" y="5222880"/>
            <a:ext cx="9720" cy="8100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4840" y="5143680"/>
            <a:ext cx="19080" cy="90360"/>
          </a:xfrm>
          <a:custGeom>
            <a:avLst/>
            <a:gdLst/>
            <a:ahLst/>
            <a:rect l="l" t="t" r="r" b="b"/>
            <a:pathLst>
              <a:path w="12" h="57">
                <a:moveTo>
                  <a:pt x="0" y="50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57"/>
                </a:lnTo>
                <a:lnTo>
                  <a:pt x="0" y="57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14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524560" y="5064120"/>
            <a:ext cx="9360" cy="8892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24560" y="4984920"/>
            <a:ext cx="9360" cy="8856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524560" y="4915080"/>
            <a:ext cx="2052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44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533920" y="4844880"/>
            <a:ext cx="11160" cy="7956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533920" y="4765680"/>
            <a:ext cx="11160" cy="8892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33920" y="4695840"/>
            <a:ext cx="2088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44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45080" y="4635360"/>
            <a:ext cx="9720" cy="6984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45080" y="4565520"/>
            <a:ext cx="19080" cy="79560"/>
          </a:xfrm>
          <a:custGeom>
            <a:avLst/>
            <a:gdLst/>
            <a:ahLst/>
            <a:rect l="l" t="t" r="r" b="b"/>
            <a:pathLst>
              <a:path w="12" h="50">
                <a:moveTo>
                  <a:pt x="0" y="44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54800" y="4505400"/>
            <a:ext cx="9360" cy="6984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554800" y="4446720"/>
            <a:ext cx="9360" cy="6804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554800" y="4395960"/>
            <a:ext cx="19080" cy="60120"/>
          </a:xfrm>
          <a:custGeom>
            <a:avLst/>
            <a:gdLst/>
            <a:ahLst/>
            <a:rect l="l" t="t" r="r" b="b"/>
            <a:pathLst>
              <a:path w="12" h="38">
                <a:moveTo>
                  <a:pt x="0" y="32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38"/>
                </a:lnTo>
                <a:lnTo>
                  <a:pt x="0" y="38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64160" y="4346640"/>
            <a:ext cx="9720" cy="5868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64160" y="4295880"/>
            <a:ext cx="9720" cy="6012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64160" y="4255920"/>
            <a:ext cx="20520" cy="51120"/>
          </a:xfrm>
          <a:custGeom>
            <a:avLst/>
            <a:gdLst/>
            <a:ahLst/>
            <a:rect l="l" t="t" r="r" b="b"/>
            <a:pathLst>
              <a:path w="13" h="32">
                <a:moveTo>
                  <a:pt x="0" y="25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32"/>
                </a:lnTo>
                <a:lnTo>
                  <a:pt x="0" y="32"/>
                </a:lnTo>
                <a:lnTo>
                  <a:pt x="0" y="25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573880" y="4216320"/>
            <a:ext cx="10800" cy="4932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73880" y="4176720"/>
            <a:ext cx="20520" cy="49320"/>
          </a:xfrm>
          <a:custGeom>
            <a:avLst/>
            <a:gdLst/>
            <a:ahLst/>
            <a:rect l="l" t="t" r="r" b="b"/>
            <a:pathLst>
              <a:path w="13" h="31">
                <a:moveTo>
                  <a:pt x="0" y="25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31"/>
                </a:lnTo>
                <a:lnTo>
                  <a:pt x="0" y="31"/>
                </a:lnTo>
                <a:lnTo>
                  <a:pt x="0" y="25"/>
                </a:lnTo>
                <a:close/>
              </a:path>
            </a:pathLst>
          </a:custGeom>
          <a:blipFill rotWithShape="0">
            <a:blip r:embed="rId15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84680" y="4146480"/>
            <a:ext cx="9720" cy="396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584680" y="4127400"/>
            <a:ext cx="9720" cy="2880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584680" y="410688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13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594400" y="4086360"/>
            <a:ext cx="9360" cy="2988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94400" y="4076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03760" y="407664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3"/>
                </a:lnTo>
                <a:lnTo>
                  <a:pt x="7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614920" y="4086360"/>
            <a:ext cx="9720" cy="2988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614920" y="410688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3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24640" y="4127400"/>
            <a:ext cx="9360" cy="288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4640" y="4146480"/>
            <a:ext cx="9360" cy="39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624640" y="4176720"/>
            <a:ext cx="19080" cy="49320"/>
          </a:xfrm>
          <a:custGeom>
            <a:avLst/>
            <a:gdLst/>
            <a:ahLst/>
            <a:rect l="l" t="t" r="r" b="b"/>
            <a:pathLst>
              <a:path w="12" h="31">
                <a:moveTo>
                  <a:pt x="0" y="0"/>
                </a:moveTo>
                <a:lnTo>
                  <a:pt x="6" y="0"/>
                </a:lnTo>
                <a:lnTo>
                  <a:pt x="12" y="25"/>
                </a:lnTo>
                <a:lnTo>
                  <a:pt x="12" y="31"/>
                </a:lnTo>
                <a:lnTo>
                  <a:pt x="6" y="31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634000" y="4216320"/>
            <a:ext cx="9720" cy="4932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34000" y="4255920"/>
            <a:ext cx="20520" cy="51120"/>
          </a:xfrm>
          <a:custGeom>
            <a:avLst/>
            <a:gdLst/>
            <a:ahLst/>
            <a:rect l="l" t="t" r="r" b="b"/>
            <a:pathLst>
              <a:path w="13" h="32">
                <a:moveTo>
                  <a:pt x="0" y="0"/>
                </a:moveTo>
                <a:lnTo>
                  <a:pt x="6" y="0"/>
                </a:lnTo>
                <a:lnTo>
                  <a:pt x="13" y="25"/>
                </a:lnTo>
                <a:lnTo>
                  <a:pt x="13" y="32"/>
                </a:lnTo>
                <a:lnTo>
                  <a:pt x="6" y="3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43720" y="4295880"/>
            <a:ext cx="10800" cy="6012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43720" y="4346640"/>
            <a:ext cx="10800" cy="5868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43720" y="4395960"/>
            <a:ext cx="20520" cy="60120"/>
          </a:xfrm>
          <a:custGeom>
            <a:avLst/>
            <a:gdLst/>
            <a:ahLst/>
            <a:rect l="l" t="t" r="r" b="b"/>
            <a:pathLst>
              <a:path w="13" h="38">
                <a:moveTo>
                  <a:pt x="0" y="0"/>
                </a:moveTo>
                <a:lnTo>
                  <a:pt x="7" y="0"/>
                </a:lnTo>
                <a:lnTo>
                  <a:pt x="13" y="32"/>
                </a:lnTo>
                <a:lnTo>
                  <a:pt x="13" y="38"/>
                </a:lnTo>
                <a:lnTo>
                  <a:pt x="7" y="38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54520" y="4446720"/>
            <a:ext cx="9720" cy="6804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54520" y="4505400"/>
            <a:ext cx="9720" cy="6984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654520" y="4565520"/>
            <a:ext cx="19080" cy="79560"/>
          </a:xfrm>
          <a:custGeom>
            <a:avLst/>
            <a:gdLst/>
            <a:ahLst/>
            <a:rect l="l" t="t" r="r" b="b"/>
            <a:pathLst>
              <a:path w="12" h="50">
                <a:moveTo>
                  <a:pt x="0" y="0"/>
                </a:moveTo>
                <a:lnTo>
                  <a:pt x="6" y="0"/>
                </a:lnTo>
                <a:lnTo>
                  <a:pt x="12" y="44"/>
                </a:lnTo>
                <a:lnTo>
                  <a:pt x="12" y="50"/>
                </a:lnTo>
                <a:lnTo>
                  <a:pt x="6" y="5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664240" y="4635360"/>
            <a:ext cx="9360" cy="6984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64240" y="4695840"/>
            <a:ext cx="2052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0"/>
                </a:moveTo>
                <a:lnTo>
                  <a:pt x="6" y="0"/>
                </a:lnTo>
                <a:lnTo>
                  <a:pt x="13" y="44"/>
                </a:lnTo>
                <a:lnTo>
                  <a:pt x="13" y="50"/>
                </a:lnTo>
                <a:lnTo>
                  <a:pt x="6" y="5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7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673600" y="4765680"/>
            <a:ext cx="11160" cy="8892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673600" y="4844880"/>
            <a:ext cx="11160" cy="795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673600" y="4915080"/>
            <a:ext cx="2088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0"/>
                </a:moveTo>
                <a:lnTo>
                  <a:pt x="7" y="0"/>
                </a:lnTo>
                <a:lnTo>
                  <a:pt x="13" y="44"/>
                </a:lnTo>
                <a:lnTo>
                  <a:pt x="13" y="50"/>
                </a:lnTo>
                <a:lnTo>
                  <a:pt x="7" y="5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84760" y="4984920"/>
            <a:ext cx="9720" cy="885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684760" y="5064120"/>
            <a:ext cx="9720" cy="8892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84760" y="5143680"/>
            <a:ext cx="19080" cy="90360"/>
          </a:xfrm>
          <a:custGeom>
            <a:avLst/>
            <a:gdLst/>
            <a:ahLst/>
            <a:rect l="l" t="t" r="r" b="b"/>
            <a:pathLst>
              <a:path w="12" h="57">
                <a:moveTo>
                  <a:pt x="0" y="0"/>
                </a:moveTo>
                <a:lnTo>
                  <a:pt x="6" y="0"/>
                </a:lnTo>
                <a:lnTo>
                  <a:pt x="12" y="50"/>
                </a:lnTo>
                <a:lnTo>
                  <a:pt x="12" y="57"/>
                </a:lnTo>
                <a:lnTo>
                  <a:pt x="6" y="57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694480" y="5222880"/>
            <a:ext cx="9360" cy="810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694480" y="5292720"/>
            <a:ext cx="9360" cy="903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94480" y="5373720"/>
            <a:ext cx="19080" cy="88920"/>
          </a:xfrm>
          <a:custGeom>
            <a:avLst/>
            <a:gdLst/>
            <a:ahLst/>
            <a:rect l="l" t="t" r="r" b="b"/>
            <a:pathLst>
              <a:path w="12" h="56">
                <a:moveTo>
                  <a:pt x="0" y="0"/>
                </a:moveTo>
                <a:lnTo>
                  <a:pt x="6" y="0"/>
                </a:lnTo>
                <a:lnTo>
                  <a:pt x="12" y="50"/>
                </a:lnTo>
                <a:lnTo>
                  <a:pt x="12" y="56"/>
                </a:lnTo>
                <a:lnTo>
                  <a:pt x="6" y="56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03840" y="5452920"/>
            <a:ext cx="9720" cy="88920"/>
          </a:xfrm>
          <a:prstGeom prst="rect">
            <a:avLst/>
          </a:prstGeom>
          <a:blipFill rotWithShape="0">
            <a:blip r:embed="rId18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03840" y="5532480"/>
            <a:ext cx="20520" cy="79200"/>
          </a:xfrm>
          <a:custGeom>
            <a:avLst/>
            <a:gdLst/>
            <a:ahLst/>
            <a:rect l="l" t="t" r="r" b="b"/>
            <a:pathLst>
              <a:path w="13" h="50">
                <a:moveTo>
                  <a:pt x="0" y="0"/>
                </a:moveTo>
                <a:lnTo>
                  <a:pt x="6" y="0"/>
                </a:lnTo>
                <a:lnTo>
                  <a:pt x="13" y="44"/>
                </a:lnTo>
                <a:lnTo>
                  <a:pt x="13" y="50"/>
                </a:lnTo>
                <a:lnTo>
                  <a:pt x="6" y="5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3560" y="5602320"/>
            <a:ext cx="10800" cy="9036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13560" y="5681520"/>
            <a:ext cx="10800" cy="8100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13560" y="5751360"/>
            <a:ext cx="20520" cy="90720"/>
          </a:xfrm>
          <a:custGeom>
            <a:avLst/>
            <a:gdLst/>
            <a:ahLst/>
            <a:rect l="l" t="t" r="r" b="b"/>
            <a:pathLst>
              <a:path w="13" h="57">
                <a:moveTo>
                  <a:pt x="0" y="0"/>
                </a:moveTo>
                <a:lnTo>
                  <a:pt x="7" y="0"/>
                </a:lnTo>
                <a:lnTo>
                  <a:pt x="13" y="51"/>
                </a:lnTo>
                <a:lnTo>
                  <a:pt x="13" y="57"/>
                </a:lnTo>
                <a:lnTo>
                  <a:pt x="7" y="5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24360" y="5832360"/>
            <a:ext cx="9720" cy="7956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24360" y="5902200"/>
            <a:ext cx="9720" cy="7956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24360" y="5972040"/>
            <a:ext cx="19080" cy="69840"/>
          </a:xfrm>
          <a:custGeom>
            <a:avLst/>
            <a:gdLst/>
            <a:ahLst/>
            <a:rect l="l" t="t" r="r" b="b"/>
            <a:pathLst>
              <a:path w="12" h="44">
                <a:moveTo>
                  <a:pt x="0" y="0"/>
                </a:moveTo>
                <a:lnTo>
                  <a:pt x="6" y="0"/>
                </a:lnTo>
                <a:lnTo>
                  <a:pt x="12" y="37"/>
                </a:lnTo>
                <a:lnTo>
                  <a:pt x="12" y="44"/>
                </a:lnTo>
                <a:lnTo>
                  <a:pt x="6" y="44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734080" y="6031080"/>
            <a:ext cx="9360" cy="7920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34080" y="6100920"/>
            <a:ext cx="19080" cy="69840"/>
          </a:xfrm>
          <a:custGeom>
            <a:avLst/>
            <a:gdLst/>
            <a:ahLst/>
            <a:rect l="l" t="t" r="r" b="b"/>
            <a:pathLst>
              <a:path w="12" h="44">
                <a:moveTo>
                  <a:pt x="0" y="0"/>
                </a:moveTo>
                <a:lnTo>
                  <a:pt x="6" y="0"/>
                </a:lnTo>
                <a:lnTo>
                  <a:pt x="12" y="38"/>
                </a:lnTo>
                <a:lnTo>
                  <a:pt x="12" y="44"/>
                </a:lnTo>
                <a:lnTo>
                  <a:pt x="6" y="44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43440" y="6161040"/>
            <a:ext cx="9720" cy="6984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43440" y="6221520"/>
            <a:ext cx="9720" cy="5868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43440" y="6270480"/>
            <a:ext cx="20880" cy="69840"/>
          </a:xfrm>
          <a:custGeom>
            <a:avLst/>
            <a:gdLst/>
            <a:ahLst/>
            <a:rect l="l" t="t" r="r" b="b"/>
            <a:pathLst>
              <a:path w="13" h="44">
                <a:moveTo>
                  <a:pt x="0" y="0"/>
                </a:moveTo>
                <a:lnTo>
                  <a:pt x="6" y="0"/>
                </a:lnTo>
                <a:lnTo>
                  <a:pt x="13" y="38"/>
                </a:lnTo>
                <a:lnTo>
                  <a:pt x="13" y="44"/>
                </a:lnTo>
                <a:lnTo>
                  <a:pt x="6" y="44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53160" y="6330960"/>
            <a:ext cx="11160" cy="5868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53160" y="6380280"/>
            <a:ext cx="11160" cy="2988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53160" y="6350040"/>
            <a:ext cx="20520" cy="60120"/>
          </a:xfrm>
          <a:custGeom>
            <a:avLst/>
            <a:gdLst/>
            <a:ahLst/>
            <a:rect l="l" t="t" r="r" b="b"/>
            <a:pathLst>
              <a:path w="13" h="38">
                <a:moveTo>
                  <a:pt x="0" y="32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38"/>
                </a:lnTo>
                <a:lnTo>
                  <a:pt x="0" y="38"/>
                </a:lnTo>
                <a:lnTo>
                  <a:pt x="0" y="32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64320" y="6310440"/>
            <a:ext cx="9360" cy="5076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64320" y="6280200"/>
            <a:ext cx="19080" cy="39600"/>
          </a:xfrm>
          <a:custGeom>
            <a:avLst/>
            <a:gdLst/>
            <a:ahLst/>
            <a:rect l="l" t="t" r="r" b="b"/>
            <a:pathLst>
              <a:path w="12" h="25">
                <a:moveTo>
                  <a:pt x="0" y="19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25"/>
                </a:lnTo>
                <a:lnTo>
                  <a:pt x="0" y="25"/>
                </a:lnTo>
                <a:lnTo>
                  <a:pt x="0" y="19"/>
                </a:lnTo>
                <a:close/>
              </a:path>
            </a:pathLst>
          </a:custGeom>
          <a:blipFill rotWithShape="0">
            <a:blip r:embed="rId20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773680" y="6240600"/>
            <a:ext cx="9720" cy="5076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73680" y="6221520"/>
            <a:ext cx="9720" cy="2844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73680" y="619128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19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25"/>
                </a:lnTo>
                <a:lnTo>
                  <a:pt x="0" y="25"/>
                </a:lnTo>
                <a:lnTo>
                  <a:pt x="0" y="19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83400" y="6170760"/>
            <a:ext cx="10800" cy="2988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83400" y="6151680"/>
            <a:ext cx="10800" cy="2844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83400" y="613080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3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21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94200" y="6121440"/>
            <a:ext cx="9720" cy="1908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94200" y="611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7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03920" y="610092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1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13280" y="610092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23000" y="6110280"/>
            <a:ext cx="11160" cy="2052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23000" y="612144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34160" y="6130800"/>
            <a:ext cx="9360" cy="3024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834160" y="6151680"/>
            <a:ext cx="9360" cy="19080"/>
          </a:xfrm>
          <a:prstGeom prst="rect">
            <a:avLst/>
          </a:prstGeom>
          <a:blipFill rotWithShape="0">
            <a:blip r:embed="rId22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834160" y="616104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2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43520" y="6180120"/>
            <a:ext cx="9720" cy="20520"/>
          </a:xfrm>
          <a:prstGeom prst="rect">
            <a:avLst/>
          </a:prstGeom>
          <a:blipFill rotWithShape="0">
            <a:blip r:embed="rId22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43520" y="6191280"/>
            <a:ext cx="9720" cy="3024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843520" y="6210360"/>
            <a:ext cx="2088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0"/>
                </a:moveTo>
                <a:lnTo>
                  <a:pt x="6" y="0"/>
                </a:lnTo>
                <a:lnTo>
                  <a:pt x="13" y="13"/>
                </a:lnTo>
                <a:lnTo>
                  <a:pt x="13" y="19"/>
                </a:lnTo>
                <a:lnTo>
                  <a:pt x="6" y="19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53240" y="6230880"/>
            <a:ext cx="11160" cy="30240"/>
          </a:xfrm>
          <a:prstGeom prst="rect">
            <a:avLst/>
          </a:prstGeom>
          <a:blipFill rotWithShape="0">
            <a:blip r:embed="rId22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853240" y="6249960"/>
            <a:ext cx="11160" cy="3024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853240" y="627048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0"/>
                </a:moveTo>
                <a:lnTo>
                  <a:pt x="7" y="0"/>
                </a:lnTo>
                <a:lnTo>
                  <a:pt x="13" y="13"/>
                </a:lnTo>
                <a:lnTo>
                  <a:pt x="13" y="19"/>
                </a:lnTo>
                <a:lnTo>
                  <a:pt x="7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864400" y="6291360"/>
            <a:ext cx="9360" cy="28440"/>
          </a:xfrm>
          <a:prstGeom prst="rect">
            <a:avLst/>
          </a:prstGeom>
          <a:blipFill rotWithShape="0">
            <a:blip r:embed="rId22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64400" y="6310440"/>
            <a:ext cx="18720" cy="2988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3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873760" y="6330960"/>
            <a:ext cx="9360" cy="30240"/>
          </a:xfrm>
          <a:prstGeom prst="rect">
            <a:avLst/>
          </a:prstGeom>
          <a:blipFill rotWithShape="0">
            <a:blip r:embed="rId23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873760" y="6350040"/>
            <a:ext cx="9360" cy="30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873760" y="637056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0"/>
                </a:moveTo>
                <a:lnTo>
                  <a:pt x="6" y="0"/>
                </a:lnTo>
                <a:lnTo>
                  <a:pt x="12" y="12"/>
                </a:lnTo>
                <a:lnTo>
                  <a:pt x="12" y="19"/>
                </a:lnTo>
                <a:lnTo>
                  <a:pt x="6" y="19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883120" y="6389640"/>
            <a:ext cx="9720" cy="3024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883120" y="6389640"/>
            <a:ext cx="9720" cy="3024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3120" y="6370560"/>
            <a:ext cx="2088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2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9"/>
                </a:lnTo>
                <a:lnTo>
                  <a:pt x="0" y="19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892840" y="6361200"/>
            <a:ext cx="11160" cy="19080"/>
          </a:xfrm>
          <a:prstGeom prst="rect">
            <a:avLst/>
          </a:prstGeom>
          <a:blipFill rotWithShape="0">
            <a:blip r:embed="rId23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92840" y="634032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3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9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04000" y="6330960"/>
            <a:ext cx="9360" cy="19080"/>
          </a:xfrm>
          <a:prstGeom prst="rect">
            <a:avLst/>
          </a:prstGeom>
          <a:blipFill rotWithShape="0">
            <a:blip r:embed="rId23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04000" y="6310440"/>
            <a:ext cx="9360" cy="29880"/>
          </a:xfrm>
          <a:prstGeom prst="rect">
            <a:avLst/>
          </a:prstGeom>
          <a:blipFill rotWithShape="0">
            <a:blip r:embed="rId23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04000" y="63007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913360" y="6291360"/>
            <a:ext cx="9720" cy="19080"/>
          </a:xfrm>
          <a:prstGeom prst="rect">
            <a:avLst/>
          </a:prstGeom>
          <a:blipFill rotWithShape="0">
            <a:blip r:embed="rId24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13360" y="628020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6" y="0"/>
                </a:lnTo>
                <a:lnTo>
                  <a:pt x="13" y="0"/>
                </a:lnTo>
                <a:lnTo>
                  <a:pt x="13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23080" y="627048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34240" y="6261120"/>
            <a:ext cx="1872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62611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52960" y="627048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62680" y="6280200"/>
            <a:ext cx="11160" cy="20520"/>
          </a:xfrm>
          <a:prstGeom prst="rect">
            <a:avLst/>
          </a:prstGeom>
          <a:blipFill rotWithShape="0">
            <a:blip r:embed="rId24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962680" y="62913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973840" y="6300720"/>
            <a:ext cx="9360" cy="19080"/>
          </a:xfrm>
          <a:prstGeom prst="rect">
            <a:avLst/>
          </a:prstGeom>
          <a:blipFill rotWithShape="0">
            <a:blip r:embed="rId24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840" y="63104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983200" y="6319800"/>
            <a:ext cx="9720" cy="20520"/>
          </a:xfrm>
          <a:prstGeom prst="rect">
            <a:avLst/>
          </a:prstGeom>
          <a:blipFill rotWithShape="0">
            <a:blip r:embed="rId25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83200" y="633096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92920" y="6340320"/>
            <a:ext cx="11160" cy="3024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992920" y="6361200"/>
            <a:ext cx="11160" cy="19080"/>
          </a:xfrm>
          <a:prstGeom prst="rect">
            <a:avLst/>
          </a:prstGeom>
          <a:blipFill rotWithShape="0">
            <a:blip r:embed="rId25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92920" y="63705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6380280"/>
            <a:ext cx="9360" cy="20520"/>
          </a:xfrm>
          <a:prstGeom prst="rect">
            <a:avLst/>
          </a:prstGeom>
          <a:blipFill rotWithShape="0">
            <a:blip r:embed="rId25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004080" y="6389640"/>
            <a:ext cx="9360" cy="20520"/>
          </a:xfrm>
          <a:prstGeom prst="rect">
            <a:avLst/>
          </a:prstGeom>
          <a:blipFill rotWithShape="0">
            <a:blip r:embed="rId25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004080" y="6400800"/>
            <a:ext cx="1872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013440" y="6400800"/>
            <a:ext cx="9360" cy="19080"/>
          </a:xfrm>
          <a:prstGeom prst="rect">
            <a:avLst/>
          </a:prstGeom>
          <a:blipFill rotWithShape="0">
            <a:blip r:embed="rId25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3440" y="6389640"/>
            <a:ext cx="9360" cy="20520"/>
          </a:xfrm>
          <a:prstGeom prst="rect">
            <a:avLst/>
          </a:prstGeom>
          <a:blipFill rotWithShape="0">
            <a:blip r:embed="rId26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1344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22800" y="6370560"/>
            <a:ext cx="9720" cy="19080"/>
          </a:xfrm>
          <a:prstGeom prst="rect">
            <a:avLst/>
          </a:prstGeom>
          <a:blipFill rotWithShape="0">
            <a:blip r:embed="rId26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022800" y="636120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6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32520" y="6350040"/>
            <a:ext cx="11160" cy="20520"/>
          </a:xfrm>
          <a:prstGeom prst="rect">
            <a:avLst/>
          </a:prstGeom>
          <a:blipFill rotWithShape="0">
            <a:blip r:embed="rId26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32520" y="63403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43680" y="6330960"/>
            <a:ext cx="9360" cy="1908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43680" y="631980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7"/>
                </a:moveTo>
                <a:lnTo>
                  <a:pt x="6" y="0"/>
                </a:lnTo>
                <a:lnTo>
                  <a:pt x="12" y="0"/>
                </a:lnTo>
                <a:lnTo>
                  <a:pt x="12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53040" y="6319800"/>
            <a:ext cx="19080" cy="11160"/>
          </a:xfrm>
          <a:prstGeom prst="rect">
            <a:avLst/>
          </a:prstGeom>
          <a:blipFill rotWithShape="0">
            <a:blip r:embed="rId26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62760" y="6319800"/>
            <a:ext cx="20520" cy="11160"/>
          </a:xfrm>
          <a:prstGeom prst="rect">
            <a:avLst/>
          </a:prstGeom>
          <a:blipFill rotWithShape="0">
            <a:blip r:embed="rId26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72120" y="6319800"/>
            <a:ext cx="20880" cy="11160"/>
          </a:xfrm>
          <a:prstGeom prst="rect">
            <a:avLst/>
          </a:prstGeom>
          <a:blipFill rotWithShape="0">
            <a:blip r:embed="rId27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083280" y="631980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93000" y="63309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02360" y="6340320"/>
            <a:ext cx="11160" cy="20880"/>
          </a:xfrm>
          <a:prstGeom prst="rect">
            <a:avLst/>
          </a:prstGeom>
          <a:blipFill rotWithShape="0">
            <a:blip r:embed="rId27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02360" y="63500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113520" y="6361200"/>
            <a:ext cx="9360" cy="19080"/>
          </a:xfrm>
          <a:prstGeom prst="rect">
            <a:avLst/>
          </a:prstGeom>
          <a:blipFill rotWithShape="0">
            <a:blip r:embed="rId27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1352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22880" y="6380280"/>
            <a:ext cx="9720" cy="20520"/>
          </a:xfrm>
          <a:prstGeom prst="rect">
            <a:avLst/>
          </a:prstGeom>
          <a:blipFill rotWithShape="0">
            <a:blip r:embed="rId27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22880" y="63896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32600" y="6400800"/>
            <a:ext cx="9360" cy="19080"/>
          </a:xfrm>
          <a:prstGeom prst="rect">
            <a:avLst/>
          </a:prstGeom>
          <a:blipFill rotWithShape="0">
            <a:blip r:embed="rId27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32600" y="64008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8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1960" y="6389640"/>
            <a:ext cx="11160" cy="20520"/>
          </a:xfrm>
          <a:prstGeom prst="rect">
            <a:avLst/>
          </a:prstGeom>
          <a:blipFill rotWithShape="0">
            <a:blip r:embed="rId28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41960" y="638028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8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5312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8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6284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8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2200" y="63500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8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83360" y="634032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8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192720" y="634032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8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202440" y="6350040"/>
            <a:ext cx="20520" cy="11160"/>
          </a:xfrm>
          <a:prstGeom prst="rect">
            <a:avLst/>
          </a:prstGeom>
          <a:blipFill rotWithShape="0">
            <a:blip r:embed="rId28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211800" y="635004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8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22960" y="63612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32680" y="63705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242040" y="63802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3"/>
                </a:lnTo>
                <a:lnTo>
                  <a:pt x="7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53200" y="63896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62560" y="6400800"/>
            <a:ext cx="9720" cy="19080"/>
          </a:xfrm>
          <a:prstGeom prst="rect">
            <a:avLst/>
          </a:prstGeom>
          <a:blipFill rotWithShape="0">
            <a:blip r:embed="rId29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6256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9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27228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6" y="0"/>
                </a:lnTo>
                <a:lnTo>
                  <a:pt x="13" y="0"/>
                </a:lnTo>
                <a:lnTo>
                  <a:pt x="13" y="7"/>
                </a:lnTo>
                <a:lnTo>
                  <a:pt x="6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9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281640" y="638028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9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92800" y="637056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9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02520" y="63612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29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11880" y="6361200"/>
            <a:ext cx="20520" cy="9360"/>
          </a:xfrm>
          <a:prstGeom prst="rect">
            <a:avLst/>
          </a:prstGeom>
          <a:blipFill rotWithShape="0">
            <a:blip r:embed="rId30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23040" y="6361200"/>
            <a:ext cx="19080" cy="9360"/>
          </a:xfrm>
          <a:prstGeom prst="rect">
            <a:avLst/>
          </a:prstGeom>
          <a:blipFill rotWithShape="0">
            <a:blip r:embed="rId30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32400" y="63612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342120" y="63705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6" y="0"/>
                </a:lnTo>
                <a:lnTo>
                  <a:pt x="13" y="6"/>
                </a:lnTo>
                <a:lnTo>
                  <a:pt x="13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51480" y="638028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3"/>
                </a:lnTo>
                <a:lnTo>
                  <a:pt x="7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4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62640" y="638964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7"/>
                </a:lnTo>
                <a:lnTo>
                  <a:pt x="12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7236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381720" y="64008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6" y="0"/>
                </a:lnTo>
                <a:lnTo>
                  <a:pt x="13" y="0"/>
                </a:lnTo>
                <a:lnTo>
                  <a:pt x="13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0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39144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7" y="0"/>
                </a:lnTo>
                <a:lnTo>
                  <a:pt x="13" y="0"/>
                </a:lnTo>
                <a:lnTo>
                  <a:pt x="13" y="7"/>
                </a:lnTo>
                <a:lnTo>
                  <a:pt x="7" y="13"/>
                </a:lnTo>
                <a:lnTo>
                  <a:pt x="0" y="13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308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0224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0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411960" y="6380280"/>
            <a:ext cx="20520" cy="9360"/>
          </a:xfrm>
          <a:prstGeom prst="rect">
            <a:avLst/>
          </a:prstGeom>
          <a:blipFill rotWithShape="0">
            <a:blip r:embed="rId3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421320" y="637056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7" y="0"/>
                </a:lnTo>
                <a:lnTo>
                  <a:pt x="13" y="0"/>
                </a:lnTo>
                <a:lnTo>
                  <a:pt x="13" y="6"/>
                </a:lnTo>
                <a:lnTo>
                  <a:pt x="7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1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432480" y="6370560"/>
            <a:ext cx="19080" cy="9720"/>
          </a:xfrm>
          <a:prstGeom prst="rect">
            <a:avLst/>
          </a:prstGeom>
          <a:blipFill rotWithShape="0">
            <a:blip r:embed="rId31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442200" y="6370560"/>
            <a:ext cx="19080" cy="9720"/>
          </a:xfrm>
          <a:prstGeom prst="rect">
            <a:avLst/>
          </a:prstGeom>
          <a:blipFill rotWithShape="0">
            <a:blip r:embed="rId3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451560" y="6370560"/>
            <a:ext cx="20520" cy="9720"/>
          </a:xfrm>
          <a:prstGeom prst="rect">
            <a:avLst/>
          </a:prstGeom>
          <a:blipFill rotWithShape="0">
            <a:blip r:embed="rId31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61280" y="637056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lnTo>
                  <a:pt x="7" y="0"/>
                </a:lnTo>
                <a:lnTo>
                  <a:pt x="13" y="6"/>
                </a:lnTo>
                <a:lnTo>
                  <a:pt x="13" y="12"/>
                </a:lnTo>
                <a:lnTo>
                  <a:pt x="7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5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472080" y="638028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3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6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81800" y="638964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6" y="0"/>
                </a:lnTo>
                <a:lnTo>
                  <a:pt x="13" y="7"/>
                </a:lnTo>
                <a:lnTo>
                  <a:pt x="13" y="13"/>
                </a:lnTo>
                <a:lnTo>
                  <a:pt x="6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7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91160" y="6400800"/>
            <a:ext cx="20880" cy="9360"/>
          </a:xfrm>
          <a:prstGeom prst="rect">
            <a:avLst/>
          </a:prstGeom>
          <a:blipFill rotWithShape="0">
            <a:blip r:embed="rId31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50232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6" y="0"/>
                </a:lnTo>
                <a:lnTo>
                  <a:pt x="12" y="6"/>
                </a:lnTo>
                <a:lnTo>
                  <a:pt x="12" y="12"/>
                </a:lnTo>
                <a:lnTo>
                  <a:pt x="6" y="12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9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12040" y="6400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320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59120" y="5243400"/>
            <a:ext cx="2273400" cy="1166760"/>
          </a:xfrm>
          <a:custGeom>
            <a:avLst/>
            <a:gdLst/>
            <a:ahLst/>
            <a:rect l="l" t="t" r="r" b="b"/>
            <a:pathLst>
              <a:path w="1432" h="735">
                <a:moveTo>
                  <a:pt x="0" y="729"/>
                </a:moveTo>
                <a:lnTo>
                  <a:pt x="7" y="735"/>
                </a:lnTo>
                <a:lnTo>
                  <a:pt x="13" y="735"/>
                </a:lnTo>
                <a:lnTo>
                  <a:pt x="19" y="735"/>
                </a:lnTo>
                <a:lnTo>
                  <a:pt x="25" y="735"/>
                </a:lnTo>
                <a:lnTo>
                  <a:pt x="32" y="729"/>
                </a:lnTo>
                <a:lnTo>
                  <a:pt x="38" y="729"/>
                </a:lnTo>
                <a:lnTo>
                  <a:pt x="44" y="729"/>
                </a:lnTo>
                <a:lnTo>
                  <a:pt x="50" y="729"/>
                </a:lnTo>
                <a:lnTo>
                  <a:pt x="57" y="729"/>
                </a:lnTo>
                <a:lnTo>
                  <a:pt x="63" y="729"/>
                </a:lnTo>
                <a:lnTo>
                  <a:pt x="69" y="722"/>
                </a:lnTo>
                <a:lnTo>
                  <a:pt x="76" y="722"/>
                </a:lnTo>
                <a:lnTo>
                  <a:pt x="82" y="722"/>
                </a:lnTo>
                <a:lnTo>
                  <a:pt x="88" y="722"/>
                </a:lnTo>
                <a:lnTo>
                  <a:pt x="94" y="722"/>
                </a:lnTo>
                <a:lnTo>
                  <a:pt x="101" y="722"/>
                </a:lnTo>
                <a:lnTo>
                  <a:pt x="107" y="722"/>
                </a:lnTo>
                <a:lnTo>
                  <a:pt x="113" y="722"/>
                </a:lnTo>
                <a:lnTo>
                  <a:pt x="120" y="722"/>
                </a:lnTo>
                <a:lnTo>
                  <a:pt x="126" y="722"/>
                </a:lnTo>
                <a:lnTo>
                  <a:pt x="132" y="729"/>
                </a:lnTo>
                <a:lnTo>
                  <a:pt x="138" y="729"/>
                </a:lnTo>
                <a:lnTo>
                  <a:pt x="145" y="729"/>
                </a:lnTo>
                <a:lnTo>
                  <a:pt x="151" y="729"/>
                </a:lnTo>
                <a:lnTo>
                  <a:pt x="157" y="729"/>
                </a:lnTo>
                <a:lnTo>
                  <a:pt x="164" y="729"/>
                </a:lnTo>
                <a:lnTo>
                  <a:pt x="170" y="735"/>
                </a:lnTo>
                <a:lnTo>
                  <a:pt x="176" y="735"/>
                </a:lnTo>
                <a:lnTo>
                  <a:pt x="182" y="735"/>
                </a:lnTo>
                <a:lnTo>
                  <a:pt x="189" y="729"/>
                </a:lnTo>
                <a:lnTo>
                  <a:pt x="195" y="729"/>
                </a:lnTo>
                <a:lnTo>
                  <a:pt x="201" y="729"/>
                </a:lnTo>
                <a:lnTo>
                  <a:pt x="208" y="729"/>
                </a:lnTo>
                <a:lnTo>
                  <a:pt x="214" y="722"/>
                </a:lnTo>
                <a:lnTo>
                  <a:pt x="220" y="722"/>
                </a:lnTo>
                <a:lnTo>
                  <a:pt x="226" y="722"/>
                </a:lnTo>
                <a:lnTo>
                  <a:pt x="233" y="722"/>
                </a:lnTo>
                <a:lnTo>
                  <a:pt x="239" y="722"/>
                </a:lnTo>
                <a:lnTo>
                  <a:pt x="245" y="722"/>
                </a:lnTo>
                <a:lnTo>
                  <a:pt x="251" y="722"/>
                </a:lnTo>
                <a:lnTo>
                  <a:pt x="258" y="722"/>
                </a:lnTo>
                <a:lnTo>
                  <a:pt x="264" y="722"/>
                </a:lnTo>
                <a:lnTo>
                  <a:pt x="270" y="722"/>
                </a:lnTo>
                <a:lnTo>
                  <a:pt x="277" y="722"/>
                </a:lnTo>
                <a:lnTo>
                  <a:pt x="283" y="722"/>
                </a:lnTo>
                <a:lnTo>
                  <a:pt x="289" y="722"/>
                </a:lnTo>
                <a:lnTo>
                  <a:pt x="295" y="722"/>
                </a:lnTo>
                <a:lnTo>
                  <a:pt x="302" y="722"/>
                </a:lnTo>
                <a:lnTo>
                  <a:pt x="308" y="729"/>
                </a:lnTo>
                <a:lnTo>
                  <a:pt x="314" y="729"/>
                </a:lnTo>
                <a:lnTo>
                  <a:pt x="321" y="729"/>
                </a:lnTo>
                <a:lnTo>
                  <a:pt x="327" y="735"/>
                </a:lnTo>
                <a:lnTo>
                  <a:pt x="333" y="735"/>
                </a:lnTo>
                <a:lnTo>
                  <a:pt x="339" y="735"/>
                </a:lnTo>
                <a:lnTo>
                  <a:pt x="346" y="729"/>
                </a:lnTo>
                <a:lnTo>
                  <a:pt x="352" y="729"/>
                </a:lnTo>
                <a:lnTo>
                  <a:pt x="358" y="729"/>
                </a:lnTo>
                <a:lnTo>
                  <a:pt x="365" y="722"/>
                </a:lnTo>
                <a:lnTo>
                  <a:pt x="371" y="722"/>
                </a:lnTo>
                <a:lnTo>
                  <a:pt x="377" y="722"/>
                </a:lnTo>
                <a:lnTo>
                  <a:pt x="383" y="716"/>
                </a:lnTo>
                <a:lnTo>
                  <a:pt x="390" y="716"/>
                </a:lnTo>
                <a:lnTo>
                  <a:pt x="396" y="716"/>
                </a:lnTo>
                <a:lnTo>
                  <a:pt x="402" y="716"/>
                </a:lnTo>
                <a:lnTo>
                  <a:pt x="409" y="716"/>
                </a:lnTo>
                <a:lnTo>
                  <a:pt x="415" y="716"/>
                </a:lnTo>
                <a:lnTo>
                  <a:pt x="421" y="716"/>
                </a:lnTo>
                <a:lnTo>
                  <a:pt x="427" y="716"/>
                </a:lnTo>
                <a:lnTo>
                  <a:pt x="434" y="716"/>
                </a:lnTo>
                <a:lnTo>
                  <a:pt x="440" y="716"/>
                </a:lnTo>
                <a:lnTo>
                  <a:pt x="446" y="716"/>
                </a:lnTo>
                <a:lnTo>
                  <a:pt x="452" y="722"/>
                </a:lnTo>
                <a:lnTo>
                  <a:pt x="459" y="722"/>
                </a:lnTo>
                <a:lnTo>
                  <a:pt x="465" y="722"/>
                </a:lnTo>
                <a:lnTo>
                  <a:pt x="471" y="729"/>
                </a:lnTo>
                <a:lnTo>
                  <a:pt x="478" y="729"/>
                </a:lnTo>
                <a:lnTo>
                  <a:pt x="484" y="729"/>
                </a:lnTo>
                <a:lnTo>
                  <a:pt x="490" y="735"/>
                </a:lnTo>
                <a:lnTo>
                  <a:pt x="496" y="735"/>
                </a:lnTo>
                <a:lnTo>
                  <a:pt x="503" y="729"/>
                </a:lnTo>
                <a:lnTo>
                  <a:pt x="509" y="729"/>
                </a:lnTo>
                <a:lnTo>
                  <a:pt x="515" y="722"/>
                </a:lnTo>
                <a:lnTo>
                  <a:pt x="522" y="722"/>
                </a:lnTo>
                <a:lnTo>
                  <a:pt x="528" y="716"/>
                </a:lnTo>
                <a:lnTo>
                  <a:pt x="534" y="716"/>
                </a:lnTo>
                <a:lnTo>
                  <a:pt x="540" y="710"/>
                </a:lnTo>
                <a:lnTo>
                  <a:pt x="547" y="710"/>
                </a:lnTo>
                <a:lnTo>
                  <a:pt x="553" y="710"/>
                </a:lnTo>
                <a:lnTo>
                  <a:pt x="559" y="710"/>
                </a:lnTo>
                <a:lnTo>
                  <a:pt x="566" y="704"/>
                </a:lnTo>
                <a:lnTo>
                  <a:pt x="572" y="704"/>
                </a:lnTo>
                <a:lnTo>
                  <a:pt x="578" y="704"/>
                </a:lnTo>
                <a:lnTo>
                  <a:pt x="584" y="704"/>
                </a:lnTo>
                <a:lnTo>
                  <a:pt x="591" y="704"/>
                </a:lnTo>
                <a:lnTo>
                  <a:pt x="597" y="710"/>
                </a:lnTo>
                <a:lnTo>
                  <a:pt x="603" y="710"/>
                </a:lnTo>
                <a:lnTo>
                  <a:pt x="610" y="710"/>
                </a:lnTo>
                <a:lnTo>
                  <a:pt x="616" y="716"/>
                </a:lnTo>
                <a:lnTo>
                  <a:pt x="622" y="716"/>
                </a:lnTo>
                <a:lnTo>
                  <a:pt x="628" y="722"/>
                </a:lnTo>
                <a:lnTo>
                  <a:pt x="635" y="722"/>
                </a:lnTo>
                <a:lnTo>
                  <a:pt x="641" y="729"/>
                </a:lnTo>
                <a:lnTo>
                  <a:pt x="647" y="729"/>
                </a:lnTo>
                <a:lnTo>
                  <a:pt x="653" y="735"/>
                </a:lnTo>
                <a:lnTo>
                  <a:pt x="660" y="729"/>
                </a:lnTo>
                <a:lnTo>
                  <a:pt x="666" y="722"/>
                </a:lnTo>
                <a:lnTo>
                  <a:pt x="672" y="716"/>
                </a:lnTo>
                <a:lnTo>
                  <a:pt x="679" y="716"/>
                </a:lnTo>
                <a:lnTo>
                  <a:pt x="685" y="710"/>
                </a:lnTo>
                <a:lnTo>
                  <a:pt x="691" y="704"/>
                </a:lnTo>
                <a:lnTo>
                  <a:pt x="697" y="704"/>
                </a:lnTo>
                <a:lnTo>
                  <a:pt x="704" y="697"/>
                </a:lnTo>
                <a:lnTo>
                  <a:pt x="710" y="697"/>
                </a:lnTo>
                <a:lnTo>
                  <a:pt x="716" y="691"/>
                </a:lnTo>
                <a:lnTo>
                  <a:pt x="723" y="691"/>
                </a:lnTo>
                <a:lnTo>
                  <a:pt x="729" y="691"/>
                </a:lnTo>
                <a:lnTo>
                  <a:pt x="735" y="685"/>
                </a:lnTo>
                <a:lnTo>
                  <a:pt x="741" y="685"/>
                </a:lnTo>
                <a:lnTo>
                  <a:pt x="748" y="691"/>
                </a:lnTo>
                <a:lnTo>
                  <a:pt x="754" y="691"/>
                </a:lnTo>
                <a:lnTo>
                  <a:pt x="760" y="691"/>
                </a:lnTo>
                <a:lnTo>
                  <a:pt x="767" y="697"/>
                </a:lnTo>
                <a:lnTo>
                  <a:pt x="773" y="697"/>
                </a:lnTo>
                <a:lnTo>
                  <a:pt x="779" y="704"/>
                </a:lnTo>
                <a:lnTo>
                  <a:pt x="785" y="710"/>
                </a:lnTo>
                <a:lnTo>
                  <a:pt x="792" y="716"/>
                </a:lnTo>
                <a:lnTo>
                  <a:pt x="798" y="722"/>
                </a:lnTo>
                <a:lnTo>
                  <a:pt x="804" y="729"/>
                </a:lnTo>
                <a:lnTo>
                  <a:pt x="811" y="735"/>
                </a:lnTo>
                <a:lnTo>
                  <a:pt x="817" y="729"/>
                </a:lnTo>
                <a:lnTo>
                  <a:pt x="817" y="722"/>
                </a:lnTo>
                <a:lnTo>
                  <a:pt x="823" y="716"/>
                </a:lnTo>
                <a:lnTo>
                  <a:pt x="829" y="710"/>
                </a:lnTo>
                <a:lnTo>
                  <a:pt x="836" y="704"/>
                </a:lnTo>
                <a:lnTo>
                  <a:pt x="836" y="697"/>
                </a:lnTo>
                <a:lnTo>
                  <a:pt x="842" y="691"/>
                </a:lnTo>
                <a:lnTo>
                  <a:pt x="848" y="685"/>
                </a:lnTo>
                <a:lnTo>
                  <a:pt x="848" y="678"/>
                </a:lnTo>
                <a:lnTo>
                  <a:pt x="854" y="672"/>
                </a:lnTo>
                <a:lnTo>
                  <a:pt x="861" y="666"/>
                </a:lnTo>
                <a:lnTo>
                  <a:pt x="867" y="660"/>
                </a:lnTo>
                <a:lnTo>
                  <a:pt x="873" y="653"/>
                </a:lnTo>
                <a:lnTo>
                  <a:pt x="880" y="647"/>
                </a:lnTo>
                <a:lnTo>
                  <a:pt x="886" y="641"/>
                </a:lnTo>
                <a:lnTo>
                  <a:pt x="892" y="641"/>
                </a:lnTo>
                <a:lnTo>
                  <a:pt x="898" y="641"/>
                </a:lnTo>
                <a:lnTo>
                  <a:pt x="905" y="641"/>
                </a:lnTo>
                <a:lnTo>
                  <a:pt x="911" y="641"/>
                </a:lnTo>
                <a:lnTo>
                  <a:pt x="917" y="641"/>
                </a:lnTo>
                <a:lnTo>
                  <a:pt x="924" y="647"/>
                </a:lnTo>
                <a:lnTo>
                  <a:pt x="930" y="653"/>
                </a:lnTo>
                <a:lnTo>
                  <a:pt x="936" y="660"/>
                </a:lnTo>
                <a:lnTo>
                  <a:pt x="942" y="666"/>
                </a:lnTo>
                <a:lnTo>
                  <a:pt x="942" y="672"/>
                </a:lnTo>
                <a:lnTo>
                  <a:pt x="949" y="685"/>
                </a:lnTo>
                <a:lnTo>
                  <a:pt x="955" y="691"/>
                </a:lnTo>
                <a:lnTo>
                  <a:pt x="961" y="704"/>
                </a:lnTo>
                <a:lnTo>
                  <a:pt x="961" y="716"/>
                </a:lnTo>
                <a:lnTo>
                  <a:pt x="968" y="729"/>
                </a:lnTo>
                <a:lnTo>
                  <a:pt x="974" y="722"/>
                </a:lnTo>
                <a:lnTo>
                  <a:pt x="980" y="710"/>
                </a:lnTo>
                <a:lnTo>
                  <a:pt x="980" y="691"/>
                </a:lnTo>
                <a:lnTo>
                  <a:pt x="986" y="672"/>
                </a:lnTo>
                <a:lnTo>
                  <a:pt x="993" y="660"/>
                </a:lnTo>
                <a:lnTo>
                  <a:pt x="999" y="634"/>
                </a:lnTo>
                <a:lnTo>
                  <a:pt x="999" y="616"/>
                </a:lnTo>
                <a:lnTo>
                  <a:pt x="1005" y="597"/>
                </a:lnTo>
                <a:lnTo>
                  <a:pt x="1012" y="572"/>
                </a:lnTo>
                <a:lnTo>
                  <a:pt x="1018" y="553"/>
                </a:lnTo>
                <a:lnTo>
                  <a:pt x="1018" y="528"/>
                </a:lnTo>
                <a:lnTo>
                  <a:pt x="1024" y="509"/>
                </a:lnTo>
                <a:lnTo>
                  <a:pt x="1030" y="484"/>
                </a:lnTo>
                <a:lnTo>
                  <a:pt x="1037" y="459"/>
                </a:lnTo>
                <a:lnTo>
                  <a:pt x="1037" y="433"/>
                </a:lnTo>
                <a:lnTo>
                  <a:pt x="1043" y="408"/>
                </a:lnTo>
                <a:lnTo>
                  <a:pt x="1049" y="383"/>
                </a:lnTo>
                <a:lnTo>
                  <a:pt x="1055" y="358"/>
                </a:lnTo>
                <a:lnTo>
                  <a:pt x="1055" y="333"/>
                </a:lnTo>
                <a:lnTo>
                  <a:pt x="1062" y="308"/>
                </a:lnTo>
                <a:lnTo>
                  <a:pt x="1068" y="289"/>
                </a:lnTo>
                <a:lnTo>
                  <a:pt x="1068" y="264"/>
                </a:lnTo>
                <a:lnTo>
                  <a:pt x="1074" y="239"/>
                </a:lnTo>
                <a:lnTo>
                  <a:pt x="1081" y="220"/>
                </a:lnTo>
                <a:lnTo>
                  <a:pt x="1087" y="195"/>
                </a:lnTo>
                <a:lnTo>
                  <a:pt x="1087" y="176"/>
                </a:lnTo>
                <a:lnTo>
                  <a:pt x="1093" y="157"/>
                </a:lnTo>
                <a:lnTo>
                  <a:pt x="1099" y="138"/>
                </a:lnTo>
                <a:lnTo>
                  <a:pt x="1106" y="119"/>
                </a:lnTo>
                <a:lnTo>
                  <a:pt x="1106" y="101"/>
                </a:lnTo>
                <a:lnTo>
                  <a:pt x="1112" y="82"/>
                </a:lnTo>
                <a:lnTo>
                  <a:pt x="1118" y="69"/>
                </a:lnTo>
                <a:lnTo>
                  <a:pt x="1125" y="57"/>
                </a:lnTo>
                <a:lnTo>
                  <a:pt x="1125" y="44"/>
                </a:lnTo>
                <a:lnTo>
                  <a:pt x="1131" y="31"/>
                </a:lnTo>
                <a:lnTo>
                  <a:pt x="1137" y="25"/>
                </a:lnTo>
                <a:lnTo>
                  <a:pt x="1143" y="13"/>
                </a:lnTo>
                <a:lnTo>
                  <a:pt x="1150" y="6"/>
                </a:lnTo>
                <a:lnTo>
                  <a:pt x="1156" y="0"/>
                </a:lnTo>
                <a:lnTo>
                  <a:pt x="1162" y="0"/>
                </a:lnTo>
                <a:lnTo>
                  <a:pt x="1169" y="0"/>
                </a:lnTo>
                <a:lnTo>
                  <a:pt x="1175" y="6"/>
                </a:lnTo>
                <a:lnTo>
                  <a:pt x="1181" y="13"/>
                </a:lnTo>
                <a:lnTo>
                  <a:pt x="1187" y="25"/>
                </a:lnTo>
                <a:lnTo>
                  <a:pt x="1194" y="31"/>
                </a:lnTo>
                <a:lnTo>
                  <a:pt x="1200" y="44"/>
                </a:lnTo>
                <a:lnTo>
                  <a:pt x="1200" y="57"/>
                </a:lnTo>
                <a:lnTo>
                  <a:pt x="1206" y="69"/>
                </a:lnTo>
                <a:lnTo>
                  <a:pt x="1213" y="82"/>
                </a:lnTo>
                <a:lnTo>
                  <a:pt x="1219" y="101"/>
                </a:lnTo>
                <a:lnTo>
                  <a:pt x="1219" y="119"/>
                </a:lnTo>
                <a:lnTo>
                  <a:pt x="1225" y="138"/>
                </a:lnTo>
                <a:lnTo>
                  <a:pt x="1231" y="157"/>
                </a:lnTo>
                <a:lnTo>
                  <a:pt x="1238" y="176"/>
                </a:lnTo>
                <a:lnTo>
                  <a:pt x="1238" y="195"/>
                </a:lnTo>
                <a:lnTo>
                  <a:pt x="1244" y="220"/>
                </a:lnTo>
                <a:lnTo>
                  <a:pt x="1250" y="239"/>
                </a:lnTo>
                <a:lnTo>
                  <a:pt x="1256" y="264"/>
                </a:lnTo>
                <a:lnTo>
                  <a:pt x="1256" y="289"/>
                </a:lnTo>
                <a:lnTo>
                  <a:pt x="1263" y="308"/>
                </a:lnTo>
                <a:lnTo>
                  <a:pt x="1269" y="333"/>
                </a:lnTo>
                <a:lnTo>
                  <a:pt x="1269" y="358"/>
                </a:lnTo>
                <a:lnTo>
                  <a:pt x="1275" y="383"/>
                </a:lnTo>
                <a:lnTo>
                  <a:pt x="1282" y="408"/>
                </a:lnTo>
                <a:lnTo>
                  <a:pt x="1288" y="433"/>
                </a:lnTo>
                <a:lnTo>
                  <a:pt x="1288" y="459"/>
                </a:lnTo>
                <a:lnTo>
                  <a:pt x="1294" y="484"/>
                </a:lnTo>
                <a:lnTo>
                  <a:pt x="1300" y="509"/>
                </a:lnTo>
                <a:lnTo>
                  <a:pt x="1307" y="528"/>
                </a:lnTo>
                <a:lnTo>
                  <a:pt x="1307" y="553"/>
                </a:lnTo>
                <a:lnTo>
                  <a:pt x="1313" y="572"/>
                </a:lnTo>
                <a:lnTo>
                  <a:pt x="1319" y="597"/>
                </a:lnTo>
                <a:lnTo>
                  <a:pt x="1326" y="616"/>
                </a:lnTo>
                <a:lnTo>
                  <a:pt x="1326" y="634"/>
                </a:lnTo>
                <a:lnTo>
                  <a:pt x="1332" y="660"/>
                </a:lnTo>
                <a:lnTo>
                  <a:pt x="1338" y="672"/>
                </a:lnTo>
                <a:lnTo>
                  <a:pt x="1344" y="691"/>
                </a:lnTo>
                <a:lnTo>
                  <a:pt x="1344" y="710"/>
                </a:lnTo>
                <a:lnTo>
                  <a:pt x="1351" y="722"/>
                </a:lnTo>
                <a:lnTo>
                  <a:pt x="1357" y="729"/>
                </a:lnTo>
                <a:lnTo>
                  <a:pt x="1363" y="716"/>
                </a:lnTo>
                <a:lnTo>
                  <a:pt x="1363" y="704"/>
                </a:lnTo>
                <a:lnTo>
                  <a:pt x="1370" y="691"/>
                </a:lnTo>
                <a:lnTo>
                  <a:pt x="1376" y="685"/>
                </a:lnTo>
                <a:lnTo>
                  <a:pt x="1382" y="672"/>
                </a:lnTo>
                <a:lnTo>
                  <a:pt x="1382" y="666"/>
                </a:lnTo>
                <a:lnTo>
                  <a:pt x="1388" y="660"/>
                </a:lnTo>
                <a:lnTo>
                  <a:pt x="1395" y="653"/>
                </a:lnTo>
                <a:lnTo>
                  <a:pt x="1401" y="647"/>
                </a:lnTo>
                <a:lnTo>
                  <a:pt x="1407" y="641"/>
                </a:lnTo>
                <a:lnTo>
                  <a:pt x="1414" y="641"/>
                </a:lnTo>
                <a:lnTo>
                  <a:pt x="1420" y="641"/>
                </a:lnTo>
                <a:lnTo>
                  <a:pt x="1426" y="641"/>
                </a:lnTo>
                <a:lnTo>
                  <a:pt x="1432" y="64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32520" y="6261120"/>
            <a:ext cx="1415880" cy="149040"/>
          </a:xfrm>
          <a:custGeom>
            <a:avLst/>
            <a:gdLst/>
            <a:ahLst/>
            <a:rect l="l" t="t" r="r" b="b"/>
            <a:pathLst>
              <a:path w="892" h="94">
                <a:moveTo>
                  <a:pt x="0" y="0"/>
                </a:moveTo>
                <a:lnTo>
                  <a:pt x="7" y="6"/>
                </a:lnTo>
                <a:lnTo>
                  <a:pt x="13" y="6"/>
                </a:lnTo>
                <a:lnTo>
                  <a:pt x="19" y="12"/>
                </a:lnTo>
                <a:lnTo>
                  <a:pt x="25" y="19"/>
                </a:lnTo>
                <a:lnTo>
                  <a:pt x="32" y="25"/>
                </a:lnTo>
                <a:lnTo>
                  <a:pt x="38" y="31"/>
                </a:lnTo>
                <a:lnTo>
                  <a:pt x="44" y="37"/>
                </a:lnTo>
                <a:lnTo>
                  <a:pt x="44" y="44"/>
                </a:lnTo>
                <a:lnTo>
                  <a:pt x="51" y="50"/>
                </a:lnTo>
                <a:lnTo>
                  <a:pt x="57" y="56"/>
                </a:lnTo>
                <a:lnTo>
                  <a:pt x="57" y="63"/>
                </a:lnTo>
                <a:lnTo>
                  <a:pt x="63" y="69"/>
                </a:lnTo>
                <a:lnTo>
                  <a:pt x="69" y="75"/>
                </a:lnTo>
                <a:lnTo>
                  <a:pt x="76" y="81"/>
                </a:lnTo>
                <a:lnTo>
                  <a:pt x="76" y="88"/>
                </a:lnTo>
                <a:lnTo>
                  <a:pt x="82" y="94"/>
                </a:lnTo>
                <a:lnTo>
                  <a:pt x="88" y="88"/>
                </a:lnTo>
                <a:lnTo>
                  <a:pt x="95" y="81"/>
                </a:lnTo>
                <a:lnTo>
                  <a:pt x="101" y="75"/>
                </a:lnTo>
                <a:lnTo>
                  <a:pt x="107" y="69"/>
                </a:lnTo>
                <a:lnTo>
                  <a:pt x="113" y="63"/>
                </a:lnTo>
                <a:lnTo>
                  <a:pt x="120" y="56"/>
                </a:lnTo>
                <a:lnTo>
                  <a:pt x="126" y="56"/>
                </a:lnTo>
                <a:lnTo>
                  <a:pt x="132" y="50"/>
                </a:lnTo>
                <a:lnTo>
                  <a:pt x="139" y="50"/>
                </a:lnTo>
                <a:lnTo>
                  <a:pt x="145" y="50"/>
                </a:lnTo>
                <a:lnTo>
                  <a:pt x="151" y="44"/>
                </a:lnTo>
                <a:lnTo>
                  <a:pt x="157" y="44"/>
                </a:lnTo>
                <a:lnTo>
                  <a:pt x="164" y="50"/>
                </a:lnTo>
                <a:lnTo>
                  <a:pt x="170" y="50"/>
                </a:lnTo>
                <a:lnTo>
                  <a:pt x="176" y="50"/>
                </a:lnTo>
                <a:lnTo>
                  <a:pt x="183" y="56"/>
                </a:lnTo>
                <a:lnTo>
                  <a:pt x="189" y="56"/>
                </a:lnTo>
                <a:lnTo>
                  <a:pt x="195" y="63"/>
                </a:lnTo>
                <a:lnTo>
                  <a:pt x="201" y="63"/>
                </a:lnTo>
                <a:lnTo>
                  <a:pt x="208" y="69"/>
                </a:lnTo>
                <a:lnTo>
                  <a:pt x="214" y="75"/>
                </a:lnTo>
                <a:lnTo>
                  <a:pt x="220" y="81"/>
                </a:lnTo>
                <a:lnTo>
                  <a:pt x="226" y="81"/>
                </a:lnTo>
                <a:lnTo>
                  <a:pt x="233" y="88"/>
                </a:lnTo>
                <a:lnTo>
                  <a:pt x="239" y="94"/>
                </a:lnTo>
                <a:lnTo>
                  <a:pt x="245" y="88"/>
                </a:lnTo>
                <a:lnTo>
                  <a:pt x="252" y="88"/>
                </a:lnTo>
                <a:lnTo>
                  <a:pt x="258" y="81"/>
                </a:lnTo>
                <a:lnTo>
                  <a:pt x="264" y="81"/>
                </a:lnTo>
                <a:lnTo>
                  <a:pt x="270" y="75"/>
                </a:lnTo>
                <a:lnTo>
                  <a:pt x="277" y="69"/>
                </a:lnTo>
                <a:lnTo>
                  <a:pt x="283" y="69"/>
                </a:lnTo>
                <a:lnTo>
                  <a:pt x="289" y="69"/>
                </a:lnTo>
                <a:lnTo>
                  <a:pt x="296" y="69"/>
                </a:lnTo>
                <a:lnTo>
                  <a:pt x="302" y="63"/>
                </a:lnTo>
                <a:lnTo>
                  <a:pt x="308" y="63"/>
                </a:lnTo>
                <a:lnTo>
                  <a:pt x="314" y="63"/>
                </a:lnTo>
                <a:lnTo>
                  <a:pt x="321" y="63"/>
                </a:lnTo>
                <a:lnTo>
                  <a:pt x="327" y="63"/>
                </a:lnTo>
                <a:lnTo>
                  <a:pt x="333" y="69"/>
                </a:lnTo>
                <a:lnTo>
                  <a:pt x="340" y="69"/>
                </a:lnTo>
                <a:lnTo>
                  <a:pt x="346" y="69"/>
                </a:lnTo>
                <a:lnTo>
                  <a:pt x="352" y="75"/>
                </a:lnTo>
                <a:lnTo>
                  <a:pt x="358" y="75"/>
                </a:lnTo>
                <a:lnTo>
                  <a:pt x="365" y="81"/>
                </a:lnTo>
                <a:lnTo>
                  <a:pt x="371" y="81"/>
                </a:lnTo>
                <a:lnTo>
                  <a:pt x="377" y="81"/>
                </a:lnTo>
                <a:lnTo>
                  <a:pt x="384" y="88"/>
                </a:lnTo>
                <a:lnTo>
                  <a:pt x="390" y="88"/>
                </a:lnTo>
                <a:lnTo>
                  <a:pt x="396" y="94"/>
                </a:lnTo>
                <a:lnTo>
                  <a:pt x="402" y="94"/>
                </a:lnTo>
                <a:lnTo>
                  <a:pt x="409" y="88"/>
                </a:lnTo>
                <a:lnTo>
                  <a:pt x="415" y="88"/>
                </a:lnTo>
                <a:lnTo>
                  <a:pt x="421" y="81"/>
                </a:lnTo>
                <a:lnTo>
                  <a:pt x="427" y="81"/>
                </a:lnTo>
                <a:lnTo>
                  <a:pt x="434" y="81"/>
                </a:lnTo>
                <a:lnTo>
                  <a:pt x="440" y="75"/>
                </a:lnTo>
                <a:lnTo>
                  <a:pt x="446" y="75"/>
                </a:lnTo>
                <a:lnTo>
                  <a:pt x="453" y="75"/>
                </a:lnTo>
                <a:lnTo>
                  <a:pt x="459" y="75"/>
                </a:lnTo>
                <a:lnTo>
                  <a:pt x="465" y="75"/>
                </a:lnTo>
                <a:lnTo>
                  <a:pt x="471" y="75"/>
                </a:lnTo>
                <a:lnTo>
                  <a:pt x="478" y="75"/>
                </a:lnTo>
                <a:lnTo>
                  <a:pt x="484" y="75"/>
                </a:lnTo>
                <a:lnTo>
                  <a:pt x="490" y="75"/>
                </a:lnTo>
                <a:lnTo>
                  <a:pt x="497" y="75"/>
                </a:lnTo>
                <a:lnTo>
                  <a:pt x="503" y="75"/>
                </a:lnTo>
                <a:lnTo>
                  <a:pt x="509" y="81"/>
                </a:lnTo>
                <a:lnTo>
                  <a:pt x="515" y="81"/>
                </a:lnTo>
                <a:lnTo>
                  <a:pt x="522" y="81"/>
                </a:lnTo>
                <a:lnTo>
                  <a:pt x="528" y="81"/>
                </a:lnTo>
                <a:lnTo>
                  <a:pt x="534" y="88"/>
                </a:lnTo>
                <a:lnTo>
                  <a:pt x="541" y="88"/>
                </a:lnTo>
                <a:lnTo>
                  <a:pt x="547" y="88"/>
                </a:lnTo>
                <a:lnTo>
                  <a:pt x="553" y="94"/>
                </a:lnTo>
                <a:lnTo>
                  <a:pt x="559" y="94"/>
                </a:lnTo>
                <a:lnTo>
                  <a:pt x="566" y="88"/>
                </a:lnTo>
                <a:lnTo>
                  <a:pt x="572" y="88"/>
                </a:lnTo>
                <a:lnTo>
                  <a:pt x="578" y="88"/>
                </a:lnTo>
                <a:lnTo>
                  <a:pt x="585" y="88"/>
                </a:lnTo>
                <a:lnTo>
                  <a:pt x="591" y="81"/>
                </a:lnTo>
                <a:lnTo>
                  <a:pt x="597" y="81"/>
                </a:lnTo>
                <a:lnTo>
                  <a:pt x="603" y="81"/>
                </a:lnTo>
                <a:lnTo>
                  <a:pt x="610" y="81"/>
                </a:lnTo>
                <a:lnTo>
                  <a:pt x="616" y="81"/>
                </a:lnTo>
                <a:lnTo>
                  <a:pt x="622" y="81"/>
                </a:lnTo>
                <a:lnTo>
                  <a:pt x="628" y="81"/>
                </a:lnTo>
                <a:lnTo>
                  <a:pt x="635" y="81"/>
                </a:lnTo>
                <a:lnTo>
                  <a:pt x="641" y="81"/>
                </a:lnTo>
                <a:lnTo>
                  <a:pt x="647" y="81"/>
                </a:lnTo>
                <a:lnTo>
                  <a:pt x="654" y="81"/>
                </a:lnTo>
                <a:lnTo>
                  <a:pt x="660" y="81"/>
                </a:lnTo>
                <a:lnTo>
                  <a:pt x="666" y="81"/>
                </a:lnTo>
                <a:lnTo>
                  <a:pt x="672" y="81"/>
                </a:lnTo>
                <a:lnTo>
                  <a:pt x="679" y="81"/>
                </a:lnTo>
                <a:lnTo>
                  <a:pt x="685" y="88"/>
                </a:lnTo>
                <a:lnTo>
                  <a:pt x="691" y="88"/>
                </a:lnTo>
                <a:lnTo>
                  <a:pt x="698" y="88"/>
                </a:lnTo>
                <a:lnTo>
                  <a:pt x="704" y="94"/>
                </a:lnTo>
                <a:lnTo>
                  <a:pt x="710" y="94"/>
                </a:lnTo>
                <a:lnTo>
                  <a:pt x="716" y="94"/>
                </a:lnTo>
                <a:lnTo>
                  <a:pt x="723" y="94"/>
                </a:lnTo>
                <a:lnTo>
                  <a:pt x="729" y="88"/>
                </a:lnTo>
                <a:lnTo>
                  <a:pt x="735" y="88"/>
                </a:lnTo>
                <a:lnTo>
                  <a:pt x="742" y="88"/>
                </a:lnTo>
                <a:lnTo>
                  <a:pt x="748" y="88"/>
                </a:lnTo>
                <a:lnTo>
                  <a:pt x="754" y="88"/>
                </a:lnTo>
                <a:lnTo>
                  <a:pt x="760" y="81"/>
                </a:lnTo>
                <a:lnTo>
                  <a:pt x="767" y="81"/>
                </a:lnTo>
                <a:lnTo>
                  <a:pt x="773" y="81"/>
                </a:lnTo>
                <a:lnTo>
                  <a:pt x="779" y="81"/>
                </a:lnTo>
                <a:lnTo>
                  <a:pt x="786" y="81"/>
                </a:lnTo>
                <a:lnTo>
                  <a:pt x="792" y="81"/>
                </a:lnTo>
                <a:lnTo>
                  <a:pt x="798" y="81"/>
                </a:lnTo>
                <a:lnTo>
                  <a:pt x="804" y="81"/>
                </a:lnTo>
                <a:lnTo>
                  <a:pt x="811" y="81"/>
                </a:lnTo>
                <a:lnTo>
                  <a:pt x="817" y="81"/>
                </a:lnTo>
                <a:lnTo>
                  <a:pt x="823" y="81"/>
                </a:lnTo>
                <a:lnTo>
                  <a:pt x="829" y="88"/>
                </a:lnTo>
                <a:lnTo>
                  <a:pt x="836" y="88"/>
                </a:lnTo>
                <a:lnTo>
                  <a:pt x="842" y="88"/>
                </a:lnTo>
                <a:lnTo>
                  <a:pt x="848" y="88"/>
                </a:lnTo>
                <a:lnTo>
                  <a:pt x="855" y="88"/>
                </a:lnTo>
                <a:lnTo>
                  <a:pt x="861" y="94"/>
                </a:lnTo>
                <a:lnTo>
                  <a:pt x="867" y="94"/>
                </a:lnTo>
                <a:lnTo>
                  <a:pt x="873" y="94"/>
                </a:lnTo>
                <a:lnTo>
                  <a:pt x="880" y="94"/>
                </a:lnTo>
                <a:lnTo>
                  <a:pt x="886" y="94"/>
                </a:lnTo>
                <a:lnTo>
                  <a:pt x="892" y="8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86160" y="6539040"/>
            <a:ext cx="88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al distance, 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834840" y="4716360"/>
            <a:ext cx="411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ang = linspace(-10, 10,5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[p,r] =far_field(ang,6.35,1500,5,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r,abs(p), '--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ho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[p,r] =far_field(ang,6.35,1500,5,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r,abs(p), 're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xlabel('radial distance, mm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06840" y="152280"/>
            <a:ext cx="74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 [p, rho] = far_field(ang,A, c, F, 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far_field computes the normalized far field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for a circular piston (omitting the exp(ikR) phase te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A is the radius of the transducer in mm, c the wave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in m/sec, F the frequency in MHz, and R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the normalized radial distance in near field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rho is the transverse distance (normal to z)  in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 = 2*pi*(1000*A*F/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= 1000*A*F/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ka*sin(ang*pi/18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 =RN*(A*al)*sin(ang*pi/18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-i*(ka/(al*RN))*besselj(1,x)./(x+eps*(x ==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1981080" y="2362320"/>
            <a:ext cx="99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518120" y="380880"/>
            <a:ext cx="62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herically Focused Piston Transducer Radi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29360" y="167652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Nei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09680" y="2362320"/>
            <a:ext cx="7621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16200" y="2984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19240" y="2476440"/>
            <a:ext cx="24120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81080" y="33908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62600" y="1981080"/>
            <a:ext cx="154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152388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24760" y="38703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spheric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38280" y="29718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259092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92000" y="251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90920" y="236232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13600" y="22096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2438280" y="4952880"/>
          <a:ext cx="480060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952880"/>
                    <a:ext cx="48006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1276920" y="4413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centr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53680" y="1170000"/>
            <a:ext cx="197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 = r dr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737600" y="121932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- z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rot="19318800">
            <a:off x="1852200" y="1916280"/>
            <a:ext cx="167652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43" y="26"/>
                </a:moveTo>
                <a:arcTo wR="10800" hR="10800" stAng="-5163449" swAng="4935383"/>
                <a:lnTo>
                  <a:pt x="10800" y="10800"/>
                </a:lnTo>
                <a:close/>
              </a:path>
              <a:path fill="none" w="21600" h="21600">
                <a:moveTo>
                  <a:pt x="11543" y="26"/>
                </a:moveTo>
                <a:arcTo wR="10800" hR="10800" stAng="-5163449" swAng="49353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68320" y="28195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68320" y="3124080"/>
            <a:ext cx="0" cy="92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996920" y="2286000"/>
            <a:ext cx="0" cy="1536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996920" y="2209680"/>
            <a:ext cx="17528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43556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7683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83644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29256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8744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199692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0856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46376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146340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5397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144080" y="2117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056400" y="29718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97400" y="2793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2847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2438280" y="4495680"/>
          <a:ext cx="419112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495680"/>
                    <a:ext cx="41911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8" name=""/>
          <p:cNvGraphicFramePr/>
          <p:nvPr/>
        </p:nvGraphicFramePr>
        <p:xfrm>
          <a:off x="1600200" y="5562720"/>
          <a:ext cx="228600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562720"/>
                    <a:ext cx="22860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0" name=""/>
          <p:cNvGraphicFramePr/>
          <p:nvPr/>
        </p:nvGraphicFramePr>
        <p:xfrm>
          <a:off x="4800600" y="5562720"/>
          <a:ext cx="22860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5562720"/>
                    <a:ext cx="2286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"/>
          <p:cNvSpPr/>
          <p:nvPr/>
        </p:nvSpPr>
        <p:spPr>
          <a:xfrm>
            <a:off x="1981080" y="2209680"/>
            <a:ext cx="2438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03720" y="2100240"/>
            <a:ext cx="39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1980720" y="281952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1828440" y="243792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81600" y="2370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 flipV="1">
            <a:off x="3670200" y="15364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35440" y="457200"/>
            <a:ext cx="1881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6.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76.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 1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1480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74200" y="18892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657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08240" y="345960"/>
            <a:ext cx="371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 versus z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812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58128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251600" y="879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727280" y="1206360"/>
            <a:ext cx="601956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08120" y="1539720"/>
            <a:ext cx="4646880" cy="36720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03440" y="5216400"/>
            <a:ext cx="4656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03440" y="1535040"/>
            <a:ext cx="4656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503440" y="1535040"/>
            <a:ext cx="1800" cy="368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159680" y="1535040"/>
            <a:ext cx="1440" cy="368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03440" y="5216400"/>
            <a:ext cx="4656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503440" y="1535040"/>
            <a:ext cx="1800" cy="368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2503440" y="516888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03440" y="153504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68160" y="523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090960" y="516888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090960" y="153504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07080" y="5238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3666960" y="516888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66960" y="153504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631680" y="523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254480" y="516888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54480" y="153504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72400" y="5238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4830840" y="516888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830840" y="153504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795200" y="523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419800" y="516888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419800" y="153504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5920" y="5238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994360" y="516888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994360" y="153504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958720" y="523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6583320" y="516888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583320" y="1535040"/>
            <a:ext cx="180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99800" y="5238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7159680" y="516888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159680" y="1535040"/>
            <a:ext cx="144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122600" y="523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03440" y="521640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7112160" y="521640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396520" y="5133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503440" y="460368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7112160" y="460368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96520" y="4522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3440" y="399240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7112160" y="399240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96520" y="3911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03440" y="338148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7112160" y="3381480"/>
            <a:ext cx="47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96520" y="3298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503440" y="275904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7112160" y="275904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96520" y="2676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03440" y="214776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7112160" y="214776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26320" y="2065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503440" y="153504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112160" y="1535040"/>
            <a:ext cx="47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326320" y="1454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03440" y="1535040"/>
            <a:ext cx="4656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03440" y="5216400"/>
            <a:ext cx="4656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2503440" y="1535040"/>
            <a:ext cx="1800" cy="368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7159680" y="1535040"/>
            <a:ext cx="1440" cy="368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38520" y="1617840"/>
            <a:ext cx="2351160" cy="3598560"/>
          </a:xfrm>
          <a:custGeom>
            <a:avLst/>
            <a:gdLst/>
            <a:ahLst/>
            <a:rect l="l" t="t" r="r" b="b"/>
            <a:pathLst>
              <a:path w="1481" h="2267">
                <a:moveTo>
                  <a:pt x="0" y="2163"/>
                </a:moveTo>
                <a:lnTo>
                  <a:pt x="7" y="1822"/>
                </a:lnTo>
                <a:lnTo>
                  <a:pt x="7" y="1830"/>
                </a:lnTo>
                <a:lnTo>
                  <a:pt x="15" y="2133"/>
                </a:lnTo>
                <a:lnTo>
                  <a:pt x="22" y="2022"/>
                </a:lnTo>
                <a:lnTo>
                  <a:pt x="30" y="1785"/>
                </a:lnTo>
                <a:lnTo>
                  <a:pt x="37" y="1993"/>
                </a:lnTo>
                <a:lnTo>
                  <a:pt x="44" y="2237"/>
                </a:lnTo>
                <a:lnTo>
                  <a:pt x="52" y="1948"/>
                </a:lnTo>
                <a:lnTo>
                  <a:pt x="52" y="1770"/>
                </a:lnTo>
                <a:lnTo>
                  <a:pt x="59" y="1733"/>
                </a:lnTo>
                <a:lnTo>
                  <a:pt x="67" y="1830"/>
                </a:lnTo>
                <a:lnTo>
                  <a:pt x="74" y="2030"/>
                </a:lnTo>
                <a:lnTo>
                  <a:pt x="74" y="2267"/>
                </a:lnTo>
                <a:lnTo>
                  <a:pt x="81" y="2030"/>
                </a:lnTo>
                <a:lnTo>
                  <a:pt x="89" y="1844"/>
                </a:lnTo>
                <a:lnTo>
                  <a:pt x="96" y="1726"/>
                </a:lnTo>
                <a:lnTo>
                  <a:pt x="96" y="1681"/>
                </a:lnTo>
                <a:lnTo>
                  <a:pt x="104" y="1726"/>
                </a:lnTo>
                <a:lnTo>
                  <a:pt x="111" y="1830"/>
                </a:lnTo>
                <a:lnTo>
                  <a:pt x="118" y="1978"/>
                </a:lnTo>
                <a:lnTo>
                  <a:pt x="118" y="2155"/>
                </a:lnTo>
                <a:lnTo>
                  <a:pt x="126" y="2192"/>
                </a:lnTo>
                <a:lnTo>
                  <a:pt x="133" y="2015"/>
                </a:lnTo>
                <a:lnTo>
                  <a:pt x="141" y="1859"/>
                </a:lnTo>
                <a:lnTo>
                  <a:pt x="141" y="1741"/>
                </a:lnTo>
                <a:lnTo>
                  <a:pt x="148" y="1652"/>
                </a:lnTo>
                <a:lnTo>
                  <a:pt x="155" y="1607"/>
                </a:lnTo>
                <a:lnTo>
                  <a:pt x="163" y="1607"/>
                </a:lnTo>
                <a:lnTo>
                  <a:pt x="163" y="1644"/>
                </a:lnTo>
                <a:lnTo>
                  <a:pt x="170" y="1704"/>
                </a:lnTo>
                <a:lnTo>
                  <a:pt x="178" y="1800"/>
                </a:lnTo>
                <a:lnTo>
                  <a:pt x="185" y="1911"/>
                </a:lnTo>
                <a:lnTo>
                  <a:pt x="185" y="2044"/>
                </a:lnTo>
                <a:lnTo>
                  <a:pt x="193" y="2178"/>
                </a:lnTo>
                <a:lnTo>
                  <a:pt x="200" y="2215"/>
                </a:lnTo>
                <a:lnTo>
                  <a:pt x="207" y="2081"/>
                </a:lnTo>
                <a:lnTo>
                  <a:pt x="207" y="1948"/>
                </a:lnTo>
                <a:lnTo>
                  <a:pt x="215" y="1830"/>
                </a:lnTo>
                <a:lnTo>
                  <a:pt x="222" y="1718"/>
                </a:lnTo>
                <a:lnTo>
                  <a:pt x="230" y="1622"/>
                </a:lnTo>
                <a:lnTo>
                  <a:pt x="230" y="1548"/>
                </a:lnTo>
                <a:lnTo>
                  <a:pt x="237" y="1489"/>
                </a:lnTo>
                <a:lnTo>
                  <a:pt x="244" y="1444"/>
                </a:lnTo>
                <a:lnTo>
                  <a:pt x="252" y="1422"/>
                </a:lnTo>
                <a:lnTo>
                  <a:pt x="252" y="1415"/>
                </a:lnTo>
                <a:lnTo>
                  <a:pt x="259" y="1422"/>
                </a:lnTo>
                <a:lnTo>
                  <a:pt x="267" y="1444"/>
                </a:lnTo>
                <a:lnTo>
                  <a:pt x="274" y="1489"/>
                </a:lnTo>
                <a:lnTo>
                  <a:pt x="274" y="1541"/>
                </a:lnTo>
                <a:lnTo>
                  <a:pt x="281" y="1600"/>
                </a:lnTo>
                <a:lnTo>
                  <a:pt x="289" y="1674"/>
                </a:lnTo>
                <a:lnTo>
                  <a:pt x="296" y="1763"/>
                </a:lnTo>
                <a:lnTo>
                  <a:pt x="304" y="1852"/>
                </a:lnTo>
                <a:lnTo>
                  <a:pt x="304" y="1948"/>
                </a:lnTo>
                <a:lnTo>
                  <a:pt x="311" y="2052"/>
                </a:lnTo>
                <a:lnTo>
                  <a:pt x="318" y="2163"/>
                </a:lnTo>
                <a:lnTo>
                  <a:pt x="326" y="2259"/>
                </a:lnTo>
                <a:lnTo>
                  <a:pt x="326" y="2148"/>
                </a:lnTo>
                <a:lnTo>
                  <a:pt x="333" y="2037"/>
                </a:lnTo>
                <a:lnTo>
                  <a:pt x="341" y="1918"/>
                </a:lnTo>
                <a:lnTo>
                  <a:pt x="348" y="1807"/>
                </a:lnTo>
                <a:lnTo>
                  <a:pt x="348" y="1696"/>
                </a:lnTo>
                <a:lnTo>
                  <a:pt x="355" y="1585"/>
                </a:lnTo>
                <a:lnTo>
                  <a:pt x="363" y="1474"/>
                </a:lnTo>
                <a:lnTo>
                  <a:pt x="370" y="1370"/>
                </a:lnTo>
                <a:lnTo>
                  <a:pt x="370" y="1267"/>
                </a:lnTo>
                <a:lnTo>
                  <a:pt x="378" y="1170"/>
                </a:lnTo>
                <a:lnTo>
                  <a:pt x="385" y="1074"/>
                </a:lnTo>
                <a:lnTo>
                  <a:pt x="392" y="978"/>
                </a:lnTo>
                <a:lnTo>
                  <a:pt x="392" y="896"/>
                </a:lnTo>
                <a:lnTo>
                  <a:pt x="400" y="808"/>
                </a:lnTo>
                <a:lnTo>
                  <a:pt x="407" y="733"/>
                </a:lnTo>
                <a:lnTo>
                  <a:pt x="415" y="659"/>
                </a:lnTo>
                <a:lnTo>
                  <a:pt x="415" y="585"/>
                </a:lnTo>
                <a:lnTo>
                  <a:pt x="422" y="519"/>
                </a:lnTo>
                <a:lnTo>
                  <a:pt x="430" y="459"/>
                </a:lnTo>
                <a:lnTo>
                  <a:pt x="437" y="400"/>
                </a:lnTo>
                <a:lnTo>
                  <a:pt x="437" y="348"/>
                </a:lnTo>
                <a:lnTo>
                  <a:pt x="444" y="304"/>
                </a:lnTo>
                <a:lnTo>
                  <a:pt x="452" y="259"/>
                </a:lnTo>
                <a:lnTo>
                  <a:pt x="459" y="215"/>
                </a:lnTo>
                <a:lnTo>
                  <a:pt x="459" y="178"/>
                </a:lnTo>
                <a:lnTo>
                  <a:pt x="467" y="148"/>
                </a:lnTo>
                <a:lnTo>
                  <a:pt x="474" y="119"/>
                </a:lnTo>
                <a:lnTo>
                  <a:pt x="481" y="97"/>
                </a:lnTo>
                <a:lnTo>
                  <a:pt x="481" y="74"/>
                </a:lnTo>
                <a:lnTo>
                  <a:pt x="489" y="52"/>
                </a:lnTo>
                <a:lnTo>
                  <a:pt x="496" y="37"/>
                </a:lnTo>
                <a:lnTo>
                  <a:pt x="504" y="22"/>
                </a:lnTo>
                <a:lnTo>
                  <a:pt x="504" y="15"/>
                </a:lnTo>
                <a:lnTo>
                  <a:pt x="511" y="8"/>
                </a:lnTo>
                <a:lnTo>
                  <a:pt x="518" y="0"/>
                </a:lnTo>
                <a:lnTo>
                  <a:pt x="526" y="0"/>
                </a:lnTo>
                <a:lnTo>
                  <a:pt x="533" y="0"/>
                </a:lnTo>
                <a:lnTo>
                  <a:pt x="541" y="0"/>
                </a:lnTo>
                <a:lnTo>
                  <a:pt x="548" y="8"/>
                </a:lnTo>
                <a:lnTo>
                  <a:pt x="548" y="15"/>
                </a:lnTo>
                <a:lnTo>
                  <a:pt x="555" y="22"/>
                </a:lnTo>
                <a:lnTo>
                  <a:pt x="563" y="37"/>
                </a:lnTo>
                <a:lnTo>
                  <a:pt x="570" y="45"/>
                </a:lnTo>
                <a:lnTo>
                  <a:pt x="570" y="59"/>
                </a:lnTo>
                <a:lnTo>
                  <a:pt x="578" y="74"/>
                </a:lnTo>
                <a:lnTo>
                  <a:pt x="585" y="89"/>
                </a:lnTo>
                <a:lnTo>
                  <a:pt x="592" y="111"/>
                </a:lnTo>
                <a:lnTo>
                  <a:pt x="592" y="126"/>
                </a:lnTo>
                <a:lnTo>
                  <a:pt x="600" y="148"/>
                </a:lnTo>
                <a:lnTo>
                  <a:pt x="607" y="163"/>
                </a:lnTo>
                <a:lnTo>
                  <a:pt x="615" y="185"/>
                </a:lnTo>
                <a:lnTo>
                  <a:pt x="615" y="208"/>
                </a:lnTo>
                <a:lnTo>
                  <a:pt x="622" y="230"/>
                </a:lnTo>
                <a:lnTo>
                  <a:pt x="629" y="252"/>
                </a:lnTo>
                <a:lnTo>
                  <a:pt x="637" y="274"/>
                </a:lnTo>
                <a:lnTo>
                  <a:pt x="637" y="296"/>
                </a:lnTo>
                <a:lnTo>
                  <a:pt x="644" y="319"/>
                </a:lnTo>
                <a:lnTo>
                  <a:pt x="652" y="348"/>
                </a:lnTo>
                <a:lnTo>
                  <a:pt x="659" y="371"/>
                </a:lnTo>
                <a:lnTo>
                  <a:pt x="667" y="393"/>
                </a:lnTo>
                <a:lnTo>
                  <a:pt x="667" y="422"/>
                </a:lnTo>
                <a:lnTo>
                  <a:pt x="674" y="445"/>
                </a:lnTo>
                <a:lnTo>
                  <a:pt x="681" y="474"/>
                </a:lnTo>
                <a:lnTo>
                  <a:pt x="689" y="496"/>
                </a:lnTo>
                <a:lnTo>
                  <a:pt x="689" y="519"/>
                </a:lnTo>
                <a:lnTo>
                  <a:pt x="696" y="548"/>
                </a:lnTo>
                <a:lnTo>
                  <a:pt x="704" y="571"/>
                </a:lnTo>
                <a:lnTo>
                  <a:pt x="711" y="600"/>
                </a:lnTo>
                <a:lnTo>
                  <a:pt x="711" y="622"/>
                </a:lnTo>
                <a:lnTo>
                  <a:pt x="718" y="652"/>
                </a:lnTo>
                <a:lnTo>
                  <a:pt x="726" y="674"/>
                </a:lnTo>
                <a:lnTo>
                  <a:pt x="733" y="704"/>
                </a:lnTo>
                <a:lnTo>
                  <a:pt x="733" y="726"/>
                </a:lnTo>
                <a:lnTo>
                  <a:pt x="741" y="748"/>
                </a:lnTo>
                <a:lnTo>
                  <a:pt x="748" y="778"/>
                </a:lnTo>
                <a:lnTo>
                  <a:pt x="755" y="800"/>
                </a:lnTo>
                <a:lnTo>
                  <a:pt x="755" y="822"/>
                </a:lnTo>
                <a:lnTo>
                  <a:pt x="763" y="852"/>
                </a:lnTo>
                <a:lnTo>
                  <a:pt x="770" y="874"/>
                </a:lnTo>
                <a:lnTo>
                  <a:pt x="778" y="896"/>
                </a:lnTo>
                <a:lnTo>
                  <a:pt x="778" y="926"/>
                </a:lnTo>
                <a:lnTo>
                  <a:pt x="785" y="948"/>
                </a:lnTo>
                <a:lnTo>
                  <a:pt x="792" y="970"/>
                </a:lnTo>
                <a:lnTo>
                  <a:pt x="800" y="993"/>
                </a:lnTo>
                <a:lnTo>
                  <a:pt x="800" y="1015"/>
                </a:lnTo>
                <a:lnTo>
                  <a:pt x="807" y="1037"/>
                </a:lnTo>
                <a:lnTo>
                  <a:pt x="815" y="1059"/>
                </a:lnTo>
                <a:lnTo>
                  <a:pt x="822" y="1082"/>
                </a:lnTo>
                <a:lnTo>
                  <a:pt x="822" y="1104"/>
                </a:lnTo>
                <a:lnTo>
                  <a:pt x="829" y="1126"/>
                </a:lnTo>
                <a:lnTo>
                  <a:pt x="837" y="1148"/>
                </a:lnTo>
                <a:lnTo>
                  <a:pt x="844" y="1170"/>
                </a:lnTo>
                <a:lnTo>
                  <a:pt x="844" y="1193"/>
                </a:lnTo>
                <a:lnTo>
                  <a:pt x="852" y="1207"/>
                </a:lnTo>
                <a:lnTo>
                  <a:pt x="859" y="1230"/>
                </a:lnTo>
                <a:lnTo>
                  <a:pt x="866" y="1252"/>
                </a:lnTo>
                <a:lnTo>
                  <a:pt x="866" y="1274"/>
                </a:lnTo>
                <a:lnTo>
                  <a:pt x="874" y="1289"/>
                </a:lnTo>
                <a:lnTo>
                  <a:pt x="881" y="1311"/>
                </a:lnTo>
                <a:lnTo>
                  <a:pt x="889" y="1326"/>
                </a:lnTo>
                <a:lnTo>
                  <a:pt x="889" y="1348"/>
                </a:lnTo>
                <a:lnTo>
                  <a:pt x="896" y="1363"/>
                </a:lnTo>
                <a:lnTo>
                  <a:pt x="904" y="1385"/>
                </a:lnTo>
                <a:lnTo>
                  <a:pt x="911" y="1400"/>
                </a:lnTo>
                <a:lnTo>
                  <a:pt x="911" y="1422"/>
                </a:lnTo>
                <a:lnTo>
                  <a:pt x="918" y="1437"/>
                </a:lnTo>
                <a:lnTo>
                  <a:pt x="926" y="1452"/>
                </a:lnTo>
                <a:lnTo>
                  <a:pt x="933" y="1467"/>
                </a:lnTo>
                <a:lnTo>
                  <a:pt x="933" y="1489"/>
                </a:lnTo>
                <a:lnTo>
                  <a:pt x="941" y="1504"/>
                </a:lnTo>
                <a:lnTo>
                  <a:pt x="948" y="1519"/>
                </a:lnTo>
                <a:lnTo>
                  <a:pt x="955" y="1533"/>
                </a:lnTo>
                <a:lnTo>
                  <a:pt x="955" y="1548"/>
                </a:lnTo>
                <a:lnTo>
                  <a:pt x="963" y="1563"/>
                </a:lnTo>
                <a:lnTo>
                  <a:pt x="970" y="1578"/>
                </a:lnTo>
                <a:lnTo>
                  <a:pt x="978" y="1593"/>
                </a:lnTo>
                <a:lnTo>
                  <a:pt x="978" y="1607"/>
                </a:lnTo>
                <a:lnTo>
                  <a:pt x="985" y="1622"/>
                </a:lnTo>
                <a:lnTo>
                  <a:pt x="992" y="1637"/>
                </a:lnTo>
                <a:lnTo>
                  <a:pt x="1000" y="1652"/>
                </a:lnTo>
                <a:lnTo>
                  <a:pt x="1007" y="1667"/>
                </a:lnTo>
                <a:lnTo>
                  <a:pt x="1007" y="1674"/>
                </a:lnTo>
                <a:lnTo>
                  <a:pt x="1015" y="1689"/>
                </a:lnTo>
                <a:lnTo>
                  <a:pt x="1022" y="1704"/>
                </a:lnTo>
                <a:lnTo>
                  <a:pt x="1029" y="1718"/>
                </a:lnTo>
                <a:lnTo>
                  <a:pt x="1029" y="1726"/>
                </a:lnTo>
                <a:lnTo>
                  <a:pt x="1037" y="1741"/>
                </a:lnTo>
                <a:lnTo>
                  <a:pt x="1044" y="1756"/>
                </a:lnTo>
                <a:lnTo>
                  <a:pt x="1052" y="1763"/>
                </a:lnTo>
                <a:lnTo>
                  <a:pt x="1052" y="1778"/>
                </a:lnTo>
                <a:lnTo>
                  <a:pt x="1059" y="1785"/>
                </a:lnTo>
                <a:lnTo>
                  <a:pt x="1066" y="1800"/>
                </a:lnTo>
                <a:lnTo>
                  <a:pt x="1074" y="1807"/>
                </a:lnTo>
                <a:lnTo>
                  <a:pt x="1074" y="1822"/>
                </a:lnTo>
                <a:lnTo>
                  <a:pt x="1081" y="1830"/>
                </a:lnTo>
                <a:lnTo>
                  <a:pt x="1089" y="1844"/>
                </a:lnTo>
                <a:lnTo>
                  <a:pt x="1096" y="1852"/>
                </a:lnTo>
                <a:lnTo>
                  <a:pt x="1096" y="1859"/>
                </a:lnTo>
                <a:lnTo>
                  <a:pt x="1103" y="1874"/>
                </a:lnTo>
                <a:lnTo>
                  <a:pt x="1111" y="1881"/>
                </a:lnTo>
                <a:lnTo>
                  <a:pt x="1118" y="1889"/>
                </a:lnTo>
                <a:lnTo>
                  <a:pt x="1118" y="1904"/>
                </a:lnTo>
                <a:lnTo>
                  <a:pt x="1126" y="1911"/>
                </a:lnTo>
                <a:lnTo>
                  <a:pt x="1133" y="1918"/>
                </a:lnTo>
                <a:lnTo>
                  <a:pt x="1141" y="1926"/>
                </a:lnTo>
                <a:lnTo>
                  <a:pt x="1141" y="1933"/>
                </a:lnTo>
                <a:lnTo>
                  <a:pt x="1148" y="1948"/>
                </a:lnTo>
                <a:lnTo>
                  <a:pt x="1155" y="1955"/>
                </a:lnTo>
                <a:lnTo>
                  <a:pt x="1163" y="1963"/>
                </a:lnTo>
                <a:lnTo>
                  <a:pt x="1163" y="1970"/>
                </a:lnTo>
                <a:lnTo>
                  <a:pt x="1170" y="1978"/>
                </a:lnTo>
                <a:lnTo>
                  <a:pt x="1178" y="1985"/>
                </a:lnTo>
                <a:lnTo>
                  <a:pt x="1185" y="1993"/>
                </a:lnTo>
                <a:lnTo>
                  <a:pt x="1185" y="2000"/>
                </a:lnTo>
                <a:lnTo>
                  <a:pt x="1192" y="2007"/>
                </a:lnTo>
                <a:lnTo>
                  <a:pt x="1200" y="2015"/>
                </a:lnTo>
                <a:lnTo>
                  <a:pt x="1207" y="2022"/>
                </a:lnTo>
                <a:lnTo>
                  <a:pt x="1207" y="2030"/>
                </a:lnTo>
                <a:lnTo>
                  <a:pt x="1215" y="2037"/>
                </a:lnTo>
                <a:lnTo>
                  <a:pt x="1222" y="2044"/>
                </a:lnTo>
                <a:lnTo>
                  <a:pt x="1229" y="2052"/>
                </a:lnTo>
                <a:lnTo>
                  <a:pt x="1237" y="2059"/>
                </a:lnTo>
                <a:lnTo>
                  <a:pt x="1244" y="2067"/>
                </a:lnTo>
                <a:lnTo>
                  <a:pt x="1252" y="2074"/>
                </a:lnTo>
                <a:lnTo>
                  <a:pt x="1252" y="2081"/>
                </a:lnTo>
                <a:lnTo>
                  <a:pt x="1259" y="2089"/>
                </a:lnTo>
                <a:lnTo>
                  <a:pt x="1266" y="2096"/>
                </a:lnTo>
                <a:lnTo>
                  <a:pt x="1274" y="2104"/>
                </a:lnTo>
                <a:lnTo>
                  <a:pt x="1281" y="2111"/>
                </a:lnTo>
                <a:lnTo>
                  <a:pt x="1289" y="2118"/>
                </a:lnTo>
                <a:lnTo>
                  <a:pt x="1296" y="2126"/>
                </a:lnTo>
                <a:lnTo>
                  <a:pt x="1303" y="2133"/>
                </a:lnTo>
                <a:lnTo>
                  <a:pt x="1311" y="2133"/>
                </a:lnTo>
                <a:lnTo>
                  <a:pt x="1318" y="2141"/>
                </a:lnTo>
                <a:lnTo>
                  <a:pt x="1326" y="2148"/>
                </a:lnTo>
                <a:lnTo>
                  <a:pt x="1333" y="2155"/>
                </a:lnTo>
                <a:lnTo>
                  <a:pt x="1340" y="2163"/>
                </a:lnTo>
                <a:lnTo>
                  <a:pt x="1348" y="2170"/>
                </a:lnTo>
                <a:lnTo>
                  <a:pt x="1355" y="2170"/>
                </a:lnTo>
                <a:lnTo>
                  <a:pt x="1363" y="2178"/>
                </a:lnTo>
                <a:lnTo>
                  <a:pt x="1370" y="2185"/>
                </a:lnTo>
                <a:lnTo>
                  <a:pt x="1378" y="2192"/>
                </a:lnTo>
                <a:lnTo>
                  <a:pt x="1385" y="2192"/>
                </a:lnTo>
                <a:lnTo>
                  <a:pt x="1392" y="2200"/>
                </a:lnTo>
                <a:lnTo>
                  <a:pt x="1400" y="2207"/>
                </a:lnTo>
                <a:lnTo>
                  <a:pt x="1407" y="2207"/>
                </a:lnTo>
                <a:lnTo>
                  <a:pt x="1415" y="2215"/>
                </a:lnTo>
                <a:lnTo>
                  <a:pt x="1422" y="2222"/>
                </a:lnTo>
                <a:lnTo>
                  <a:pt x="1429" y="2222"/>
                </a:lnTo>
                <a:lnTo>
                  <a:pt x="1437" y="2230"/>
                </a:lnTo>
                <a:lnTo>
                  <a:pt x="1444" y="2230"/>
                </a:lnTo>
                <a:lnTo>
                  <a:pt x="1452" y="2237"/>
                </a:lnTo>
                <a:lnTo>
                  <a:pt x="1459" y="2244"/>
                </a:lnTo>
                <a:lnTo>
                  <a:pt x="1466" y="2244"/>
                </a:lnTo>
                <a:lnTo>
                  <a:pt x="1474" y="2244"/>
                </a:lnTo>
                <a:lnTo>
                  <a:pt x="1481" y="22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89680" y="5027760"/>
            <a:ext cx="2070000" cy="188640"/>
          </a:xfrm>
          <a:custGeom>
            <a:avLst/>
            <a:gdLst/>
            <a:ahLst/>
            <a:rect l="l" t="t" r="r" b="b"/>
            <a:pathLst>
              <a:path w="1304" h="119">
                <a:moveTo>
                  <a:pt x="0" y="104"/>
                </a:moveTo>
                <a:lnTo>
                  <a:pt x="8" y="111"/>
                </a:lnTo>
                <a:lnTo>
                  <a:pt x="15" y="111"/>
                </a:lnTo>
                <a:lnTo>
                  <a:pt x="22" y="119"/>
                </a:lnTo>
                <a:lnTo>
                  <a:pt x="30" y="119"/>
                </a:lnTo>
                <a:lnTo>
                  <a:pt x="37" y="119"/>
                </a:lnTo>
                <a:lnTo>
                  <a:pt x="45" y="111"/>
                </a:lnTo>
                <a:lnTo>
                  <a:pt x="52" y="111"/>
                </a:lnTo>
                <a:lnTo>
                  <a:pt x="59" y="104"/>
                </a:lnTo>
                <a:lnTo>
                  <a:pt x="67" y="104"/>
                </a:lnTo>
                <a:lnTo>
                  <a:pt x="74" y="96"/>
                </a:lnTo>
                <a:lnTo>
                  <a:pt x="82" y="96"/>
                </a:lnTo>
                <a:lnTo>
                  <a:pt x="89" y="96"/>
                </a:lnTo>
                <a:lnTo>
                  <a:pt x="96" y="89"/>
                </a:lnTo>
                <a:lnTo>
                  <a:pt x="104" y="89"/>
                </a:lnTo>
                <a:lnTo>
                  <a:pt x="111" y="82"/>
                </a:lnTo>
                <a:lnTo>
                  <a:pt x="119" y="82"/>
                </a:lnTo>
                <a:lnTo>
                  <a:pt x="126" y="82"/>
                </a:lnTo>
                <a:lnTo>
                  <a:pt x="134" y="74"/>
                </a:lnTo>
                <a:lnTo>
                  <a:pt x="141" y="74"/>
                </a:lnTo>
                <a:lnTo>
                  <a:pt x="148" y="74"/>
                </a:lnTo>
                <a:lnTo>
                  <a:pt x="156" y="74"/>
                </a:lnTo>
                <a:lnTo>
                  <a:pt x="163" y="67"/>
                </a:lnTo>
                <a:lnTo>
                  <a:pt x="171" y="67"/>
                </a:lnTo>
                <a:lnTo>
                  <a:pt x="178" y="67"/>
                </a:lnTo>
                <a:lnTo>
                  <a:pt x="185" y="59"/>
                </a:lnTo>
                <a:lnTo>
                  <a:pt x="193" y="59"/>
                </a:lnTo>
                <a:lnTo>
                  <a:pt x="200" y="59"/>
                </a:lnTo>
                <a:lnTo>
                  <a:pt x="208" y="59"/>
                </a:lnTo>
                <a:lnTo>
                  <a:pt x="215" y="59"/>
                </a:lnTo>
                <a:lnTo>
                  <a:pt x="222" y="52"/>
                </a:lnTo>
                <a:lnTo>
                  <a:pt x="230" y="52"/>
                </a:lnTo>
                <a:lnTo>
                  <a:pt x="237" y="52"/>
                </a:lnTo>
                <a:lnTo>
                  <a:pt x="245" y="52"/>
                </a:lnTo>
                <a:lnTo>
                  <a:pt x="252" y="44"/>
                </a:lnTo>
                <a:lnTo>
                  <a:pt x="259" y="44"/>
                </a:lnTo>
                <a:lnTo>
                  <a:pt x="267" y="44"/>
                </a:lnTo>
                <a:lnTo>
                  <a:pt x="274" y="44"/>
                </a:lnTo>
                <a:lnTo>
                  <a:pt x="282" y="44"/>
                </a:lnTo>
                <a:lnTo>
                  <a:pt x="289" y="37"/>
                </a:lnTo>
                <a:lnTo>
                  <a:pt x="296" y="37"/>
                </a:lnTo>
                <a:lnTo>
                  <a:pt x="304" y="37"/>
                </a:lnTo>
                <a:lnTo>
                  <a:pt x="311" y="37"/>
                </a:lnTo>
                <a:lnTo>
                  <a:pt x="319" y="37"/>
                </a:lnTo>
                <a:lnTo>
                  <a:pt x="326" y="30"/>
                </a:lnTo>
                <a:lnTo>
                  <a:pt x="333" y="30"/>
                </a:lnTo>
                <a:lnTo>
                  <a:pt x="341" y="30"/>
                </a:lnTo>
                <a:lnTo>
                  <a:pt x="348" y="30"/>
                </a:lnTo>
                <a:lnTo>
                  <a:pt x="356" y="30"/>
                </a:lnTo>
                <a:lnTo>
                  <a:pt x="363" y="30"/>
                </a:lnTo>
                <a:lnTo>
                  <a:pt x="371" y="30"/>
                </a:lnTo>
                <a:lnTo>
                  <a:pt x="378" y="22"/>
                </a:lnTo>
                <a:lnTo>
                  <a:pt x="385" y="22"/>
                </a:lnTo>
                <a:lnTo>
                  <a:pt x="393" y="22"/>
                </a:lnTo>
                <a:lnTo>
                  <a:pt x="400" y="22"/>
                </a:lnTo>
                <a:lnTo>
                  <a:pt x="408" y="22"/>
                </a:lnTo>
                <a:lnTo>
                  <a:pt x="415" y="22"/>
                </a:lnTo>
                <a:lnTo>
                  <a:pt x="422" y="22"/>
                </a:lnTo>
                <a:lnTo>
                  <a:pt x="430" y="22"/>
                </a:lnTo>
                <a:lnTo>
                  <a:pt x="437" y="15"/>
                </a:lnTo>
                <a:lnTo>
                  <a:pt x="445" y="15"/>
                </a:lnTo>
                <a:lnTo>
                  <a:pt x="452" y="15"/>
                </a:lnTo>
                <a:lnTo>
                  <a:pt x="459" y="15"/>
                </a:lnTo>
                <a:lnTo>
                  <a:pt x="467" y="15"/>
                </a:lnTo>
                <a:lnTo>
                  <a:pt x="474" y="15"/>
                </a:lnTo>
                <a:lnTo>
                  <a:pt x="482" y="15"/>
                </a:lnTo>
                <a:lnTo>
                  <a:pt x="489" y="15"/>
                </a:lnTo>
                <a:lnTo>
                  <a:pt x="496" y="15"/>
                </a:lnTo>
                <a:lnTo>
                  <a:pt x="504" y="15"/>
                </a:lnTo>
                <a:lnTo>
                  <a:pt x="511" y="15"/>
                </a:lnTo>
                <a:lnTo>
                  <a:pt x="519" y="7"/>
                </a:lnTo>
                <a:lnTo>
                  <a:pt x="526" y="7"/>
                </a:lnTo>
                <a:lnTo>
                  <a:pt x="533" y="7"/>
                </a:lnTo>
                <a:lnTo>
                  <a:pt x="541" y="7"/>
                </a:lnTo>
                <a:lnTo>
                  <a:pt x="548" y="7"/>
                </a:lnTo>
                <a:lnTo>
                  <a:pt x="556" y="7"/>
                </a:lnTo>
                <a:lnTo>
                  <a:pt x="563" y="7"/>
                </a:lnTo>
                <a:lnTo>
                  <a:pt x="570" y="7"/>
                </a:lnTo>
                <a:lnTo>
                  <a:pt x="578" y="7"/>
                </a:lnTo>
                <a:lnTo>
                  <a:pt x="585" y="7"/>
                </a:lnTo>
                <a:lnTo>
                  <a:pt x="593" y="7"/>
                </a:lnTo>
                <a:lnTo>
                  <a:pt x="600" y="7"/>
                </a:lnTo>
                <a:lnTo>
                  <a:pt x="608" y="7"/>
                </a:lnTo>
                <a:lnTo>
                  <a:pt x="615" y="7"/>
                </a:lnTo>
                <a:lnTo>
                  <a:pt x="622" y="7"/>
                </a:lnTo>
                <a:lnTo>
                  <a:pt x="630" y="7"/>
                </a:lnTo>
                <a:lnTo>
                  <a:pt x="637" y="7"/>
                </a:lnTo>
                <a:lnTo>
                  <a:pt x="645" y="7"/>
                </a:lnTo>
                <a:lnTo>
                  <a:pt x="652" y="7"/>
                </a:lnTo>
                <a:lnTo>
                  <a:pt x="659" y="0"/>
                </a:lnTo>
                <a:lnTo>
                  <a:pt x="667" y="0"/>
                </a:lnTo>
                <a:lnTo>
                  <a:pt x="674" y="0"/>
                </a:lnTo>
                <a:lnTo>
                  <a:pt x="682" y="0"/>
                </a:lnTo>
                <a:lnTo>
                  <a:pt x="689" y="0"/>
                </a:lnTo>
                <a:lnTo>
                  <a:pt x="696" y="0"/>
                </a:lnTo>
                <a:lnTo>
                  <a:pt x="704" y="0"/>
                </a:lnTo>
                <a:lnTo>
                  <a:pt x="711" y="0"/>
                </a:lnTo>
                <a:lnTo>
                  <a:pt x="719" y="0"/>
                </a:lnTo>
                <a:lnTo>
                  <a:pt x="726" y="0"/>
                </a:lnTo>
                <a:lnTo>
                  <a:pt x="733" y="0"/>
                </a:lnTo>
                <a:lnTo>
                  <a:pt x="741" y="0"/>
                </a:lnTo>
                <a:lnTo>
                  <a:pt x="748" y="0"/>
                </a:lnTo>
                <a:lnTo>
                  <a:pt x="756" y="0"/>
                </a:lnTo>
                <a:lnTo>
                  <a:pt x="763" y="0"/>
                </a:lnTo>
                <a:lnTo>
                  <a:pt x="770" y="0"/>
                </a:lnTo>
                <a:lnTo>
                  <a:pt x="778" y="0"/>
                </a:lnTo>
                <a:lnTo>
                  <a:pt x="785" y="0"/>
                </a:lnTo>
                <a:lnTo>
                  <a:pt x="793" y="0"/>
                </a:lnTo>
                <a:lnTo>
                  <a:pt x="800" y="0"/>
                </a:lnTo>
                <a:lnTo>
                  <a:pt x="807" y="0"/>
                </a:lnTo>
                <a:lnTo>
                  <a:pt x="815" y="0"/>
                </a:lnTo>
                <a:lnTo>
                  <a:pt x="822" y="0"/>
                </a:lnTo>
                <a:lnTo>
                  <a:pt x="830" y="0"/>
                </a:lnTo>
                <a:lnTo>
                  <a:pt x="837" y="0"/>
                </a:lnTo>
                <a:lnTo>
                  <a:pt x="845" y="0"/>
                </a:lnTo>
                <a:lnTo>
                  <a:pt x="852" y="0"/>
                </a:lnTo>
                <a:lnTo>
                  <a:pt x="859" y="0"/>
                </a:lnTo>
                <a:lnTo>
                  <a:pt x="867" y="0"/>
                </a:lnTo>
                <a:lnTo>
                  <a:pt x="874" y="0"/>
                </a:lnTo>
                <a:lnTo>
                  <a:pt x="882" y="0"/>
                </a:lnTo>
                <a:lnTo>
                  <a:pt x="889" y="0"/>
                </a:lnTo>
                <a:lnTo>
                  <a:pt x="896" y="0"/>
                </a:lnTo>
                <a:lnTo>
                  <a:pt x="904" y="0"/>
                </a:lnTo>
                <a:lnTo>
                  <a:pt x="911" y="0"/>
                </a:lnTo>
                <a:lnTo>
                  <a:pt x="919" y="0"/>
                </a:lnTo>
                <a:lnTo>
                  <a:pt x="926" y="0"/>
                </a:lnTo>
                <a:lnTo>
                  <a:pt x="933" y="0"/>
                </a:lnTo>
                <a:lnTo>
                  <a:pt x="941" y="0"/>
                </a:lnTo>
                <a:lnTo>
                  <a:pt x="948" y="0"/>
                </a:lnTo>
                <a:lnTo>
                  <a:pt x="956" y="0"/>
                </a:lnTo>
                <a:lnTo>
                  <a:pt x="963" y="0"/>
                </a:lnTo>
                <a:lnTo>
                  <a:pt x="970" y="0"/>
                </a:lnTo>
                <a:lnTo>
                  <a:pt x="978" y="0"/>
                </a:lnTo>
                <a:lnTo>
                  <a:pt x="985" y="0"/>
                </a:lnTo>
                <a:lnTo>
                  <a:pt x="993" y="0"/>
                </a:lnTo>
                <a:lnTo>
                  <a:pt x="1000" y="0"/>
                </a:lnTo>
                <a:lnTo>
                  <a:pt x="1007" y="0"/>
                </a:lnTo>
                <a:lnTo>
                  <a:pt x="1015" y="0"/>
                </a:lnTo>
                <a:lnTo>
                  <a:pt x="1022" y="0"/>
                </a:lnTo>
                <a:lnTo>
                  <a:pt x="1030" y="0"/>
                </a:lnTo>
                <a:lnTo>
                  <a:pt x="1037" y="0"/>
                </a:lnTo>
                <a:lnTo>
                  <a:pt x="1044" y="0"/>
                </a:lnTo>
                <a:lnTo>
                  <a:pt x="1052" y="0"/>
                </a:lnTo>
                <a:lnTo>
                  <a:pt x="1059" y="0"/>
                </a:lnTo>
                <a:lnTo>
                  <a:pt x="1067" y="0"/>
                </a:lnTo>
                <a:lnTo>
                  <a:pt x="1074" y="0"/>
                </a:lnTo>
                <a:lnTo>
                  <a:pt x="1082" y="0"/>
                </a:lnTo>
                <a:lnTo>
                  <a:pt x="1089" y="0"/>
                </a:lnTo>
                <a:lnTo>
                  <a:pt x="1096" y="0"/>
                </a:lnTo>
                <a:lnTo>
                  <a:pt x="1104" y="0"/>
                </a:lnTo>
                <a:lnTo>
                  <a:pt x="1111" y="0"/>
                </a:lnTo>
                <a:lnTo>
                  <a:pt x="1119" y="0"/>
                </a:lnTo>
                <a:lnTo>
                  <a:pt x="1126" y="0"/>
                </a:lnTo>
                <a:lnTo>
                  <a:pt x="1133" y="0"/>
                </a:lnTo>
                <a:lnTo>
                  <a:pt x="1141" y="0"/>
                </a:lnTo>
                <a:lnTo>
                  <a:pt x="1148" y="0"/>
                </a:lnTo>
                <a:lnTo>
                  <a:pt x="1156" y="0"/>
                </a:lnTo>
                <a:lnTo>
                  <a:pt x="1163" y="0"/>
                </a:lnTo>
                <a:lnTo>
                  <a:pt x="1170" y="0"/>
                </a:lnTo>
                <a:lnTo>
                  <a:pt x="1178" y="0"/>
                </a:lnTo>
                <a:lnTo>
                  <a:pt x="1185" y="0"/>
                </a:lnTo>
                <a:lnTo>
                  <a:pt x="1193" y="0"/>
                </a:lnTo>
                <a:lnTo>
                  <a:pt x="1200" y="0"/>
                </a:lnTo>
                <a:lnTo>
                  <a:pt x="1207" y="0"/>
                </a:lnTo>
                <a:lnTo>
                  <a:pt x="1215" y="0"/>
                </a:lnTo>
                <a:lnTo>
                  <a:pt x="1222" y="0"/>
                </a:lnTo>
                <a:lnTo>
                  <a:pt x="1230" y="0"/>
                </a:lnTo>
                <a:lnTo>
                  <a:pt x="1237" y="0"/>
                </a:lnTo>
                <a:lnTo>
                  <a:pt x="1244" y="7"/>
                </a:lnTo>
                <a:lnTo>
                  <a:pt x="1252" y="7"/>
                </a:lnTo>
                <a:lnTo>
                  <a:pt x="1259" y="7"/>
                </a:lnTo>
                <a:lnTo>
                  <a:pt x="1267" y="7"/>
                </a:lnTo>
                <a:lnTo>
                  <a:pt x="1274" y="7"/>
                </a:lnTo>
                <a:lnTo>
                  <a:pt x="1281" y="7"/>
                </a:lnTo>
                <a:lnTo>
                  <a:pt x="1289" y="7"/>
                </a:lnTo>
                <a:lnTo>
                  <a:pt x="1296" y="7"/>
                </a:lnTo>
                <a:lnTo>
                  <a:pt x="1304" y="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95680" y="5410080"/>
            <a:ext cx="4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515240" y="2819520"/>
            <a:ext cx="725040" cy="956160"/>
            <a:chOff x="1515240" y="2819520"/>
            <a:chExt cx="725040" cy="956160"/>
          </a:xfrm>
        </p:grpSpPr>
        <p:sp>
          <p:nvSpPr>
            <p:cNvPr id="1279" name=""/>
            <p:cNvSpPr/>
            <p:nvPr/>
          </p:nvSpPr>
          <p:spPr>
            <a:xfrm>
              <a:off x="1601280" y="28195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p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00200" y="3276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15240" y="3265560"/>
              <a:ext cx="72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753480" y="152280"/>
            <a:ext cx="75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 = focused_on_axis(zR, A,c,F,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n axis pressure of a spherically focused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as a function of the normalized distance, zR = z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A, radius of the transducer in mm. R , focal length in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c, the wave speed in m/sec, and F the frequency in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=1000*A*F/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=2*pi*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=(R/A)*(1/al)*(z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z=ka*al*z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=2000*pi*F*R/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=kR-sqrt(kR^2-ka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=sqrt((kz-kh).^2+ka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(exp(i*kz) -exp(i*kre))./(1-kz./k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2560" y="5410080"/>
            <a:ext cx="48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z=linspace(.2,4,5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 = focused_on_axis(z,6.35,1480,10,76.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zr,abs(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xlabel('z/R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2816640" y="45720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xia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3505320" y="1219320"/>
          <a:ext cx="15238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219320"/>
                    <a:ext cx="15238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"/>
          <p:cNvGraphicFramePr/>
          <p:nvPr/>
        </p:nvGraphicFramePr>
        <p:xfrm>
          <a:off x="1371600" y="2286000"/>
          <a:ext cx="586728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286000"/>
                    <a:ext cx="5867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9" name=""/>
          <p:cNvGrpSpPr/>
          <p:nvPr/>
        </p:nvGrpSpPr>
        <p:grpSpPr>
          <a:xfrm>
            <a:off x="2666880" y="3263760"/>
            <a:ext cx="1447920" cy="152640"/>
            <a:chOff x="2666880" y="3263760"/>
            <a:chExt cx="1447920" cy="152640"/>
          </a:xfrm>
        </p:grpSpPr>
        <p:sp>
          <p:nvSpPr>
            <p:cNvPr id="1290" name=""/>
            <p:cNvSpPr/>
            <p:nvPr/>
          </p:nvSpPr>
          <p:spPr>
            <a:xfrm>
              <a:off x="2666880" y="3416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2666880" y="3263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4114800" y="3263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2270520" y="35654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419720" y="34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44197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7162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628160" y="3565440"/>
            <a:ext cx="278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z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400800" y="13716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92920" y="194616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1988280" y="3962520"/>
            <a:ext cx="725040" cy="956160"/>
            <a:chOff x="1988280" y="3962520"/>
            <a:chExt cx="725040" cy="956160"/>
          </a:xfrm>
        </p:grpSpPr>
        <p:sp>
          <p:nvSpPr>
            <p:cNvPr id="1301" name=""/>
            <p:cNvSpPr/>
            <p:nvPr/>
          </p:nvSpPr>
          <p:spPr>
            <a:xfrm>
              <a:off x="2074320" y="39625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p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73240" y="4419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8280" y="4408560"/>
              <a:ext cx="72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2064600" y="990720"/>
            <a:ext cx="725040" cy="956160"/>
            <a:chOff x="2064600" y="990720"/>
            <a:chExt cx="725040" cy="956160"/>
          </a:xfrm>
        </p:grpSpPr>
        <p:sp>
          <p:nvSpPr>
            <p:cNvPr id="1305" name=""/>
            <p:cNvSpPr/>
            <p:nvPr/>
          </p:nvSpPr>
          <p:spPr>
            <a:xfrm>
              <a:off x="2150640" y="9907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p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49560" y="14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64600" y="1436760"/>
              <a:ext cx="72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746280" y="10508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2920" y="4175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16600" y="11736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590920" y="152280"/>
            <a:ext cx="4038480" cy="303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114720" y="376200"/>
            <a:ext cx="3117960" cy="24624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111480" y="2841480"/>
            <a:ext cx="3124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111480" y="372960"/>
            <a:ext cx="3124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111480" y="372600"/>
            <a:ext cx="1440" cy="246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235560" y="372600"/>
            <a:ext cx="1800" cy="246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11480" y="2841480"/>
            <a:ext cx="3124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111480" y="372600"/>
            <a:ext cx="1440" cy="246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3111480" y="280980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111480" y="37296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87360" y="2857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3505320" y="280980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05320" y="37296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450960" y="28576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3892680" y="280980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92680" y="37296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68560" y="2857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286160" y="280980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286160" y="37296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31800" y="28576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4673520" y="280980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673520" y="37296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649400" y="2857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067360" y="280980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67360" y="37296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011200" y="28576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454720" y="280980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454720" y="37296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430600" y="2857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848200" y="280980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848200" y="37296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92400" y="28576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235560" y="280980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235560" y="37296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211440" y="2857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11480" y="28414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6203880" y="28414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39840" y="27860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11480" y="243216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6203880" y="243216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039840" y="2376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111480" y="202248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6203880" y="202248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39840" y="19670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11480" y="161136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6203880" y="161136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039840" y="1555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111480" y="11937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6203880" y="11937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039840" y="11383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111480" y="7840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6203880" y="78408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992320" y="7272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111480" y="3729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6203880" y="3729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992320" y="317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111480" y="372960"/>
            <a:ext cx="3124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11480" y="2841480"/>
            <a:ext cx="3124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111480" y="372600"/>
            <a:ext cx="1440" cy="246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6235560" y="372600"/>
            <a:ext cx="1800" cy="246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268800" y="428760"/>
            <a:ext cx="1577880" cy="2412720"/>
          </a:xfrm>
          <a:custGeom>
            <a:avLst/>
            <a:gdLst/>
            <a:ahLst/>
            <a:rect l="l" t="t" r="r" b="b"/>
            <a:pathLst>
              <a:path w="994" h="1520">
                <a:moveTo>
                  <a:pt x="0" y="1451"/>
                </a:moveTo>
                <a:lnTo>
                  <a:pt x="5" y="1222"/>
                </a:lnTo>
                <a:lnTo>
                  <a:pt x="5" y="1227"/>
                </a:lnTo>
                <a:lnTo>
                  <a:pt x="10" y="1431"/>
                </a:lnTo>
                <a:lnTo>
                  <a:pt x="15" y="1356"/>
                </a:lnTo>
                <a:lnTo>
                  <a:pt x="20" y="1197"/>
                </a:lnTo>
                <a:lnTo>
                  <a:pt x="25" y="1337"/>
                </a:lnTo>
                <a:lnTo>
                  <a:pt x="30" y="1500"/>
                </a:lnTo>
                <a:lnTo>
                  <a:pt x="35" y="1307"/>
                </a:lnTo>
                <a:lnTo>
                  <a:pt x="35" y="1187"/>
                </a:lnTo>
                <a:lnTo>
                  <a:pt x="40" y="1163"/>
                </a:lnTo>
                <a:lnTo>
                  <a:pt x="45" y="1227"/>
                </a:lnTo>
                <a:lnTo>
                  <a:pt x="50" y="1361"/>
                </a:lnTo>
                <a:lnTo>
                  <a:pt x="50" y="1520"/>
                </a:lnTo>
                <a:lnTo>
                  <a:pt x="55" y="1361"/>
                </a:lnTo>
                <a:lnTo>
                  <a:pt x="60" y="1237"/>
                </a:lnTo>
                <a:lnTo>
                  <a:pt x="65" y="1158"/>
                </a:lnTo>
                <a:lnTo>
                  <a:pt x="65" y="1128"/>
                </a:lnTo>
                <a:lnTo>
                  <a:pt x="70" y="1158"/>
                </a:lnTo>
                <a:lnTo>
                  <a:pt x="75" y="1227"/>
                </a:lnTo>
                <a:lnTo>
                  <a:pt x="80" y="1327"/>
                </a:lnTo>
                <a:lnTo>
                  <a:pt x="80" y="1446"/>
                </a:lnTo>
                <a:lnTo>
                  <a:pt x="85" y="1471"/>
                </a:lnTo>
                <a:lnTo>
                  <a:pt x="90" y="1351"/>
                </a:lnTo>
                <a:lnTo>
                  <a:pt x="95" y="1247"/>
                </a:lnTo>
                <a:lnTo>
                  <a:pt x="95" y="1168"/>
                </a:lnTo>
                <a:lnTo>
                  <a:pt x="100" y="1108"/>
                </a:lnTo>
                <a:lnTo>
                  <a:pt x="105" y="1078"/>
                </a:lnTo>
                <a:lnTo>
                  <a:pt x="110" y="1078"/>
                </a:lnTo>
                <a:lnTo>
                  <a:pt x="110" y="1103"/>
                </a:lnTo>
                <a:lnTo>
                  <a:pt x="115" y="1143"/>
                </a:lnTo>
                <a:lnTo>
                  <a:pt x="120" y="1207"/>
                </a:lnTo>
                <a:lnTo>
                  <a:pt x="125" y="1282"/>
                </a:lnTo>
                <a:lnTo>
                  <a:pt x="125" y="1371"/>
                </a:lnTo>
                <a:lnTo>
                  <a:pt x="130" y="1461"/>
                </a:lnTo>
                <a:lnTo>
                  <a:pt x="134" y="1486"/>
                </a:lnTo>
                <a:lnTo>
                  <a:pt x="139" y="1396"/>
                </a:lnTo>
                <a:lnTo>
                  <a:pt x="139" y="1307"/>
                </a:lnTo>
                <a:lnTo>
                  <a:pt x="144" y="1227"/>
                </a:lnTo>
                <a:lnTo>
                  <a:pt x="149" y="1153"/>
                </a:lnTo>
                <a:lnTo>
                  <a:pt x="154" y="1088"/>
                </a:lnTo>
                <a:lnTo>
                  <a:pt x="154" y="1038"/>
                </a:lnTo>
                <a:lnTo>
                  <a:pt x="159" y="999"/>
                </a:lnTo>
                <a:lnTo>
                  <a:pt x="164" y="969"/>
                </a:lnTo>
                <a:lnTo>
                  <a:pt x="169" y="954"/>
                </a:lnTo>
                <a:lnTo>
                  <a:pt x="169" y="949"/>
                </a:lnTo>
                <a:lnTo>
                  <a:pt x="174" y="954"/>
                </a:lnTo>
                <a:lnTo>
                  <a:pt x="179" y="969"/>
                </a:lnTo>
                <a:lnTo>
                  <a:pt x="184" y="999"/>
                </a:lnTo>
                <a:lnTo>
                  <a:pt x="184" y="1033"/>
                </a:lnTo>
                <a:lnTo>
                  <a:pt x="189" y="1073"/>
                </a:lnTo>
                <a:lnTo>
                  <a:pt x="194" y="1123"/>
                </a:lnTo>
                <a:lnTo>
                  <a:pt x="199" y="1182"/>
                </a:lnTo>
                <a:lnTo>
                  <a:pt x="204" y="1242"/>
                </a:lnTo>
                <a:lnTo>
                  <a:pt x="204" y="1307"/>
                </a:lnTo>
                <a:lnTo>
                  <a:pt x="209" y="1376"/>
                </a:lnTo>
                <a:lnTo>
                  <a:pt x="214" y="1451"/>
                </a:lnTo>
                <a:lnTo>
                  <a:pt x="219" y="1515"/>
                </a:lnTo>
                <a:lnTo>
                  <a:pt x="219" y="1441"/>
                </a:lnTo>
                <a:lnTo>
                  <a:pt x="224" y="1366"/>
                </a:lnTo>
                <a:lnTo>
                  <a:pt x="229" y="1287"/>
                </a:lnTo>
                <a:lnTo>
                  <a:pt x="234" y="1212"/>
                </a:lnTo>
                <a:lnTo>
                  <a:pt x="234" y="1138"/>
                </a:lnTo>
                <a:lnTo>
                  <a:pt x="239" y="1063"/>
                </a:lnTo>
                <a:lnTo>
                  <a:pt x="244" y="989"/>
                </a:lnTo>
                <a:lnTo>
                  <a:pt x="249" y="919"/>
                </a:lnTo>
                <a:lnTo>
                  <a:pt x="249" y="850"/>
                </a:lnTo>
                <a:lnTo>
                  <a:pt x="254" y="785"/>
                </a:lnTo>
                <a:lnTo>
                  <a:pt x="259" y="720"/>
                </a:lnTo>
                <a:lnTo>
                  <a:pt x="264" y="656"/>
                </a:lnTo>
                <a:lnTo>
                  <a:pt x="264" y="601"/>
                </a:lnTo>
                <a:lnTo>
                  <a:pt x="269" y="542"/>
                </a:lnTo>
                <a:lnTo>
                  <a:pt x="274" y="492"/>
                </a:lnTo>
                <a:lnTo>
                  <a:pt x="279" y="442"/>
                </a:lnTo>
                <a:lnTo>
                  <a:pt x="279" y="392"/>
                </a:lnTo>
                <a:lnTo>
                  <a:pt x="284" y="348"/>
                </a:lnTo>
                <a:lnTo>
                  <a:pt x="289" y="308"/>
                </a:lnTo>
                <a:lnTo>
                  <a:pt x="293" y="268"/>
                </a:lnTo>
                <a:lnTo>
                  <a:pt x="293" y="233"/>
                </a:lnTo>
                <a:lnTo>
                  <a:pt x="298" y="204"/>
                </a:lnTo>
                <a:lnTo>
                  <a:pt x="303" y="174"/>
                </a:lnTo>
                <a:lnTo>
                  <a:pt x="308" y="144"/>
                </a:lnTo>
                <a:lnTo>
                  <a:pt x="308" y="119"/>
                </a:lnTo>
                <a:lnTo>
                  <a:pt x="313" y="99"/>
                </a:lnTo>
                <a:lnTo>
                  <a:pt x="318" y="79"/>
                </a:lnTo>
                <a:lnTo>
                  <a:pt x="323" y="65"/>
                </a:lnTo>
                <a:lnTo>
                  <a:pt x="323" y="50"/>
                </a:lnTo>
                <a:lnTo>
                  <a:pt x="328" y="35"/>
                </a:lnTo>
                <a:lnTo>
                  <a:pt x="333" y="25"/>
                </a:lnTo>
                <a:lnTo>
                  <a:pt x="338" y="15"/>
                </a:lnTo>
                <a:lnTo>
                  <a:pt x="338" y="10"/>
                </a:lnTo>
                <a:lnTo>
                  <a:pt x="343" y="5"/>
                </a:lnTo>
                <a:lnTo>
                  <a:pt x="348" y="0"/>
                </a:lnTo>
                <a:lnTo>
                  <a:pt x="353" y="0"/>
                </a:lnTo>
                <a:lnTo>
                  <a:pt x="358" y="0"/>
                </a:lnTo>
                <a:lnTo>
                  <a:pt x="363" y="0"/>
                </a:lnTo>
                <a:lnTo>
                  <a:pt x="368" y="5"/>
                </a:lnTo>
                <a:lnTo>
                  <a:pt x="368" y="10"/>
                </a:lnTo>
                <a:lnTo>
                  <a:pt x="373" y="15"/>
                </a:lnTo>
                <a:lnTo>
                  <a:pt x="378" y="25"/>
                </a:lnTo>
                <a:lnTo>
                  <a:pt x="383" y="30"/>
                </a:lnTo>
                <a:lnTo>
                  <a:pt x="383" y="40"/>
                </a:lnTo>
                <a:lnTo>
                  <a:pt x="388" y="50"/>
                </a:lnTo>
                <a:lnTo>
                  <a:pt x="393" y="60"/>
                </a:lnTo>
                <a:lnTo>
                  <a:pt x="398" y="74"/>
                </a:lnTo>
                <a:lnTo>
                  <a:pt x="398" y="84"/>
                </a:lnTo>
                <a:lnTo>
                  <a:pt x="403" y="99"/>
                </a:lnTo>
                <a:lnTo>
                  <a:pt x="408" y="109"/>
                </a:lnTo>
                <a:lnTo>
                  <a:pt x="413" y="124"/>
                </a:lnTo>
                <a:lnTo>
                  <a:pt x="413" y="139"/>
                </a:lnTo>
                <a:lnTo>
                  <a:pt x="418" y="154"/>
                </a:lnTo>
                <a:lnTo>
                  <a:pt x="423" y="169"/>
                </a:lnTo>
                <a:lnTo>
                  <a:pt x="428" y="184"/>
                </a:lnTo>
                <a:lnTo>
                  <a:pt x="428" y="199"/>
                </a:lnTo>
                <a:lnTo>
                  <a:pt x="433" y="214"/>
                </a:lnTo>
                <a:lnTo>
                  <a:pt x="438" y="233"/>
                </a:lnTo>
                <a:lnTo>
                  <a:pt x="443" y="248"/>
                </a:lnTo>
                <a:lnTo>
                  <a:pt x="448" y="263"/>
                </a:lnTo>
                <a:lnTo>
                  <a:pt x="448" y="283"/>
                </a:lnTo>
                <a:lnTo>
                  <a:pt x="452" y="298"/>
                </a:lnTo>
                <a:lnTo>
                  <a:pt x="457" y="318"/>
                </a:lnTo>
                <a:lnTo>
                  <a:pt x="462" y="333"/>
                </a:lnTo>
                <a:lnTo>
                  <a:pt x="462" y="348"/>
                </a:lnTo>
                <a:lnTo>
                  <a:pt x="467" y="368"/>
                </a:lnTo>
                <a:lnTo>
                  <a:pt x="472" y="383"/>
                </a:lnTo>
                <a:lnTo>
                  <a:pt x="477" y="402"/>
                </a:lnTo>
                <a:lnTo>
                  <a:pt x="477" y="417"/>
                </a:lnTo>
                <a:lnTo>
                  <a:pt x="482" y="437"/>
                </a:lnTo>
                <a:lnTo>
                  <a:pt x="487" y="452"/>
                </a:lnTo>
                <a:lnTo>
                  <a:pt x="492" y="472"/>
                </a:lnTo>
                <a:lnTo>
                  <a:pt x="492" y="487"/>
                </a:lnTo>
                <a:lnTo>
                  <a:pt x="497" y="502"/>
                </a:lnTo>
                <a:lnTo>
                  <a:pt x="502" y="522"/>
                </a:lnTo>
                <a:lnTo>
                  <a:pt x="507" y="537"/>
                </a:lnTo>
                <a:lnTo>
                  <a:pt x="507" y="551"/>
                </a:lnTo>
                <a:lnTo>
                  <a:pt x="512" y="571"/>
                </a:lnTo>
                <a:lnTo>
                  <a:pt x="517" y="586"/>
                </a:lnTo>
                <a:lnTo>
                  <a:pt x="522" y="601"/>
                </a:lnTo>
                <a:lnTo>
                  <a:pt x="522" y="621"/>
                </a:lnTo>
                <a:lnTo>
                  <a:pt x="527" y="636"/>
                </a:lnTo>
                <a:lnTo>
                  <a:pt x="532" y="651"/>
                </a:lnTo>
                <a:lnTo>
                  <a:pt x="537" y="666"/>
                </a:lnTo>
                <a:lnTo>
                  <a:pt x="537" y="681"/>
                </a:lnTo>
                <a:lnTo>
                  <a:pt x="542" y="696"/>
                </a:lnTo>
                <a:lnTo>
                  <a:pt x="547" y="710"/>
                </a:lnTo>
                <a:lnTo>
                  <a:pt x="552" y="725"/>
                </a:lnTo>
                <a:lnTo>
                  <a:pt x="552" y="740"/>
                </a:lnTo>
                <a:lnTo>
                  <a:pt x="557" y="755"/>
                </a:lnTo>
                <a:lnTo>
                  <a:pt x="562" y="770"/>
                </a:lnTo>
                <a:lnTo>
                  <a:pt x="567" y="785"/>
                </a:lnTo>
                <a:lnTo>
                  <a:pt x="567" y="800"/>
                </a:lnTo>
                <a:lnTo>
                  <a:pt x="572" y="810"/>
                </a:lnTo>
                <a:lnTo>
                  <a:pt x="577" y="825"/>
                </a:lnTo>
                <a:lnTo>
                  <a:pt x="582" y="840"/>
                </a:lnTo>
                <a:lnTo>
                  <a:pt x="582" y="855"/>
                </a:lnTo>
                <a:lnTo>
                  <a:pt x="587" y="864"/>
                </a:lnTo>
                <a:lnTo>
                  <a:pt x="592" y="879"/>
                </a:lnTo>
                <a:lnTo>
                  <a:pt x="597" y="889"/>
                </a:lnTo>
                <a:lnTo>
                  <a:pt x="597" y="904"/>
                </a:lnTo>
                <a:lnTo>
                  <a:pt x="602" y="914"/>
                </a:lnTo>
                <a:lnTo>
                  <a:pt x="607" y="929"/>
                </a:lnTo>
                <a:lnTo>
                  <a:pt x="611" y="939"/>
                </a:lnTo>
                <a:lnTo>
                  <a:pt x="611" y="954"/>
                </a:lnTo>
                <a:lnTo>
                  <a:pt x="616" y="964"/>
                </a:lnTo>
                <a:lnTo>
                  <a:pt x="621" y="974"/>
                </a:lnTo>
                <a:lnTo>
                  <a:pt x="626" y="984"/>
                </a:lnTo>
                <a:lnTo>
                  <a:pt x="626" y="999"/>
                </a:lnTo>
                <a:lnTo>
                  <a:pt x="631" y="1009"/>
                </a:lnTo>
                <a:lnTo>
                  <a:pt x="636" y="1019"/>
                </a:lnTo>
                <a:lnTo>
                  <a:pt x="641" y="1028"/>
                </a:lnTo>
                <a:lnTo>
                  <a:pt x="641" y="1038"/>
                </a:lnTo>
                <a:lnTo>
                  <a:pt x="646" y="1048"/>
                </a:lnTo>
                <a:lnTo>
                  <a:pt x="651" y="1058"/>
                </a:lnTo>
                <a:lnTo>
                  <a:pt x="656" y="1068"/>
                </a:lnTo>
                <a:lnTo>
                  <a:pt x="656" y="1078"/>
                </a:lnTo>
                <a:lnTo>
                  <a:pt x="661" y="1088"/>
                </a:lnTo>
                <a:lnTo>
                  <a:pt x="666" y="1098"/>
                </a:lnTo>
                <a:lnTo>
                  <a:pt x="671" y="1108"/>
                </a:lnTo>
                <a:lnTo>
                  <a:pt x="676" y="1118"/>
                </a:lnTo>
                <a:lnTo>
                  <a:pt x="676" y="1123"/>
                </a:lnTo>
                <a:lnTo>
                  <a:pt x="681" y="1133"/>
                </a:lnTo>
                <a:lnTo>
                  <a:pt x="686" y="1143"/>
                </a:lnTo>
                <a:lnTo>
                  <a:pt x="691" y="1153"/>
                </a:lnTo>
                <a:lnTo>
                  <a:pt x="691" y="1158"/>
                </a:lnTo>
                <a:lnTo>
                  <a:pt x="696" y="1168"/>
                </a:lnTo>
                <a:lnTo>
                  <a:pt x="701" y="1178"/>
                </a:lnTo>
                <a:lnTo>
                  <a:pt x="706" y="1182"/>
                </a:lnTo>
                <a:lnTo>
                  <a:pt x="706" y="1192"/>
                </a:lnTo>
                <a:lnTo>
                  <a:pt x="711" y="1197"/>
                </a:lnTo>
                <a:lnTo>
                  <a:pt x="716" y="1207"/>
                </a:lnTo>
                <a:lnTo>
                  <a:pt x="721" y="1212"/>
                </a:lnTo>
                <a:lnTo>
                  <a:pt x="721" y="1222"/>
                </a:lnTo>
                <a:lnTo>
                  <a:pt x="726" y="1227"/>
                </a:lnTo>
                <a:lnTo>
                  <a:pt x="731" y="1237"/>
                </a:lnTo>
                <a:lnTo>
                  <a:pt x="736" y="1242"/>
                </a:lnTo>
                <a:lnTo>
                  <a:pt x="736" y="1247"/>
                </a:lnTo>
                <a:lnTo>
                  <a:pt x="741" y="1257"/>
                </a:lnTo>
                <a:lnTo>
                  <a:pt x="746" y="1262"/>
                </a:lnTo>
                <a:lnTo>
                  <a:pt x="751" y="1267"/>
                </a:lnTo>
                <a:lnTo>
                  <a:pt x="751" y="1277"/>
                </a:lnTo>
                <a:lnTo>
                  <a:pt x="756" y="1282"/>
                </a:lnTo>
                <a:lnTo>
                  <a:pt x="761" y="1287"/>
                </a:lnTo>
                <a:lnTo>
                  <a:pt x="766" y="1292"/>
                </a:lnTo>
                <a:lnTo>
                  <a:pt x="766" y="1297"/>
                </a:lnTo>
                <a:lnTo>
                  <a:pt x="770" y="1307"/>
                </a:lnTo>
                <a:lnTo>
                  <a:pt x="775" y="1312"/>
                </a:lnTo>
                <a:lnTo>
                  <a:pt x="780" y="1317"/>
                </a:lnTo>
                <a:lnTo>
                  <a:pt x="780" y="1322"/>
                </a:lnTo>
                <a:lnTo>
                  <a:pt x="785" y="1327"/>
                </a:lnTo>
                <a:lnTo>
                  <a:pt x="790" y="1332"/>
                </a:lnTo>
                <a:lnTo>
                  <a:pt x="795" y="1337"/>
                </a:lnTo>
                <a:lnTo>
                  <a:pt x="795" y="1341"/>
                </a:lnTo>
                <a:lnTo>
                  <a:pt x="800" y="1346"/>
                </a:lnTo>
                <a:lnTo>
                  <a:pt x="805" y="1351"/>
                </a:lnTo>
                <a:lnTo>
                  <a:pt x="810" y="1356"/>
                </a:lnTo>
                <a:lnTo>
                  <a:pt x="810" y="1361"/>
                </a:lnTo>
                <a:lnTo>
                  <a:pt x="815" y="1366"/>
                </a:lnTo>
                <a:lnTo>
                  <a:pt x="820" y="1371"/>
                </a:lnTo>
                <a:lnTo>
                  <a:pt x="825" y="1376"/>
                </a:lnTo>
                <a:lnTo>
                  <a:pt x="830" y="1381"/>
                </a:lnTo>
                <a:lnTo>
                  <a:pt x="835" y="1386"/>
                </a:lnTo>
                <a:lnTo>
                  <a:pt x="840" y="1391"/>
                </a:lnTo>
                <a:lnTo>
                  <a:pt x="840" y="1396"/>
                </a:lnTo>
                <a:lnTo>
                  <a:pt x="845" y="1401"/>
                </a:lnTo>
                <a:lnTo>
                  <a:pt x="850" y="1406"/>
                </a:lnTo>
                <a:lnTo>
                  <a:pt x="855" y="1411"/>
                </a:lnTo>
                <a:lnTo>
                  <a:pt x="860" y="1416"/>
                </a:lnTo>
                <a:lnTo>
                  <a:pt x="865" y="1421"/>
                </a:lnTo>
                <a:lnTo>
                  <a:pt x="870" y="1426"/>
                </a:lnTo>
                <a:lnTo>
                  <a:pt x="875" y="1431"/>
                </a:lnTo>
                <a:lnTo>
                  <a:pt x="880" y="1431"/>
                </a:lnTo>
                <a:lnTo>
                  <a:pt x="885" y="1436"/>
                </a:lnTo>
                <a:lnTo>
                  <a:pt x="890" y="1441"/>
                </a:lnTo>
                <a:lnTo>
                  <a:pt x="895" y="1446"/>
                </a:lnTo>
                <a:lnTo>
                  <a:pt x="900" y="1451"/>
                </a:lnTo>
                <a:lnTo>
                  <a:pt x="905" y="1456"/>
                </a:lnTo>
                <a:lnTo>
                  <a:pt x="910" y="1456"/>
                </a:lnTo>
                <a:lnTo>
                  <a:pt x="915" y="1461"/>
                </a:lnTo>
                <a:lnTo>
                  <a:pt x="920" y="1466"/>
                </a:lnTo>
                <a:lnTo>
                  <a:pt x="925" y="1471"/>
                </a:lnTo>
                <a:lnTo>
                  <a:pt x="929" y="1471"/>
                </a:lnTo>
                <a:lnTo>
                  <a:pt x="934" y="1476"/>
                </a:lnTo>
                <a:lnTo>
                  <a:pt x="939" y="1481"/>
                </a:lnTo>
                <a:lnTo>
                  <a:pt x="944" y="1481"/>
                </a:lnTo>
                <a:lnTo>
                  <a:pt x="949" y="1486"/>
                </a:lnTo>
                <a:lnTo>
                  <a:pt x="954" y="1491"/>
                </a:lnTo>
                <a:lnTo>
                  <a:pt x="959" y="1491"/>
                </a:lnTo>
                <a:lnTo>
                  <a:pt x="964" y="1496"/>
                </a:lnTo>
                <a:lnTo>
                  <a:pt x="969" y="1496"/>
                </a:lnTo>
                <a:lnTo>
                  <a:pt x="974" y="1500"/>
                </a:lnTo>
                <a:lnTo>
                  <a:pt x="979" y="1505"/>
                </a:lnTo>
                <a:lnTo>
                  <a:pt x="984" y="1505"/>
                </a:lnTo>
                <a:lnTo>
                  <a:pt x="989" y="1505"/>
                </a:lnTo>
                <a:lnTo>
                  <a:pt x="994" y="151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46680" y="2716200"/>
            <a:ext cx="1388880" cy="125280"/>
          </a:xfrm>
          <a:custGeom>
            <a:avLst/>
            <a:gdLst/>
            <a:ahLst/>
            <a:rect l="l" t="t" r="r" b="b"/>
            <a:pathLst>
              <a:path w="875" h="79">
                <a:moveTo>
                  <a:pt x="0" y="69"/>
                </a:moveTo>
                <a:lnTo>
                  <a:pt x="5" y="74"/>
                </a:lnTo>
                <a:lnTo>
                  <a:pt x="10" y="74"/>
                </a:lnTo>
                <a:lnTo>
                  <a:pt x="15" y="79"/>
                </a:lnTo>
                <a:lnTo>
                  <a:pt x="20" y="79"/>
                </a:lnTo>
                <a:lnTo>
                  <a:pt x="25" y="79"/>
                </a:lnTo>
                <a:lnTo>
                  <a:pt x="30" y="74"/>
                </a:lnTo>
                <a:lnTo>
                  <a:pt x="35" y="74"/>
                </a:lnTo>
                <a:lnTo>
                  <a:pt x="40" y="69"/>
                </a:lnTo>
                <a:lnTo>
                  <a:pt x="45" y="69"/>
                </a:lnTo>
                <a:lnTo>
                  <a:pt x="50" y="64"/>
                </a:lnTo>
                <a:lnTo>
                  <a:pt x="55" y="64"/>
                </a:lnTo>
                <a:lnTo>
                  <a:pt x="60" y="64"/>
                </a:lnTo>
                <a:lnTo>
                  <a:pt x="65" y="59"/>
                </a:lnTo>
                <a:lnTo>
                  <a:pt x="70" y="59"/>
                </a:lnTo>
                <a:lnTo>
                  <a:pt x="75" y="55"/>
                </a:lnTo>
                <a:lnTo>
                  <a:pt x="80" y="55"/>
                </a:lnTo>
                <a:lnTo>
                  <a:pt x="85" y="55"/>
                </a:lnTo>
                <a:lnTo>
                  <a:pt x="90" y="50"/>
                </a:lnTo>
                <a:lnTo>
                  <a:pt x="94" y="50"/>
                </a:lnTo>
                <a:lnTo>
                  <a:pt x="99" y="50"/>
                </a:lnTo>
                <a:lnTo>
                  <a:pt x="104" y="50"/>
                </a:lnTo>
                <a:lnTo>
                  <a:pt x="109" y="45"/>
                </a:lnTo>
                <a:lnTo>
                  <a:pt x="114" y="45"/>
                </a:lnTo>
                <a:lnTo>
                  <a:pt x="119" y="45"/>
                </a:lnTo>
                <a:lnTo>
                  <a:pt x="124" y="40"/>
                </a:lnTo>
                <a:lnTo>
                  <a:pt x="129" y="40"/>
                </a:lnTo>
                <a:lnTo>
                  <a:pt x="134" y="40"/>
                </a:lnTo>
                <a:lnTo>
                  <a:pt x="139" y="40"/>
                </a:lnTo>
                <a:lnTo>
                  <a:pt x="144" y="40"/>
                </a:lnTo>
                <a:lnTo>
                  <a:pt x="149" y="35"/>
                </a:lnTo>
                <a:lnTo>
                  <a:pt x="154" y="35"/>
                </a:lnTo>
                <a:lnTo>
                  <a:pt x="159" y="35"/>
                </a:lnTo>
                <a:lnTo>
                  <a:pt x="164" y="35"/>
                </a:lnTo>
                <a:lnTo>
                  <a:pt x="169" y="30"/>
                </a:lnTo>
                <a:lnTo>
                  <a:pt x="174" y="30"/>
                </a:lnTo>
                <a:lnTo>
                  <a:pt x="179" y="30"/>
                </a:lnTo>
                <a:lnTo>
                  <a:pt x="184" y="30"/>
                </a:lnTo>
                <a:lnTo>
                  <a:pt x="189" y="30"/>
                </a:lnTo>
                <a:lnTo>
                  <a:pt x="194" y="25"/>
                </a:lnTo>
                <a:lnTo>
                  <a:pt x="199" y="25"/>
                </a:lnTo>
                <a:lnTo>
                  <a:pt x="204" y="25"/>
                </a:lnTo>
                <a:lnTo>
                  <a:pt x="209" y="25"/>
                </a:lnTo>
                <a:lnTo>
                  <a:pt x="214" y="25"/>
                </a:lnTo>
                <a:lnTo>
                  <a:pt x="219" y="20"/>
                </a:lnTo>
                <a:lnTo>
                  <a:pt x="224" y="20"/>
                </a:lnTo>
                <a:lnTo>
                  <a:pt x="229" y="20"/>
                </a:lnTo>
                <a:lnTo>
                  <a:pt x="234" y="20"/>
                </a:lnTo>
                <a:lnTo>
                  <a:pt x="239" y="20"/>
                </a:lnTo>
                <a:lnTo>
                  <a:pt x="244" y="20"/>
                </a:lnTo>
                <a:lnTo>
                  <a:pt x="249" y="20"/>
                </a:lnTo>
                <a:lnTo>
                  <a:pt x="253" y="15"/>
                </a:lnTo>
                <a:lnTo>
                  <a:pt x="258" y="15"/>
                </a:lnTo>
                <a:lnTo>
                  <a:pt x="263" y="15"/>
                </a:lnTo>
                <a:lnTo>
                  <a:pt x="268" y="15"/>
                </a:lnTo>
                <a:lnTo>
                  <a:pt x="273" y="15"/>
                </a:lnTo>
                <a:lnTo>
                  <a:pt x="278" y="15"/>
                </a:lnTo>
                <a:lnTo>
                  <a:pt x="283" y="15"/>
                </a:lnTo>
                <a:lnTo>
                  <a:pt x="288" y="15"/>
                </a:lnTo>
                <a:lnTo>
                  <a:pt x="293" y="10"/>
                </a:lnTo>
                <a:lnTo>
                  <a:pt x="298" y="10"/>
                </a:lnTo>
                <a:lnTo>
                  <a:pt x="303" y="10"/>
                </a:lnTo>
                <a:lnTo>
                  <a:pt x="308" y="10"/>
                </a:lnTo>
                <a:lnTo>
                  <a:pt x="313" y="10"/>
                </a:lnTo>
                <a:lnTo>
                  <a:pt x="318" y="10"/>
                </a:lnTo>
                <a:lnTo>
                  <a:pt x="323" y="10"/>
                </a:lnTo>
                <a:lnTo>
                  <a:pt x="328" y="10"/>
                </a:lnTo>
                <a:lnTo>
                  <a:pt x="333" y="10"/>
                </a:lnTo>
                <a:lnTo>
                  <a:pt x="338" y="10"/>
                </a:lnTo>
                <a:lnTo>
                  <a:pt x="343" y="10"/>
                </a:lnTo>
                <a:lnTo>
                  <a:pt x="348" y="5"/>
                </a:lnTo>
                <a:lnTo>
                  <a:pt x="353" y="5"/>
                </a:lnTo>
                <a:lnTo>
                  <a:pt x="358" y="5"/>
                </a:lnTo>
                <a:lnTo>
                  <a:pt x="363" y="5"/>
                </a:lnTo>
                <a:lnTo>
                  <a:pt x="368" y="5"/>
                </a:lnTo>
                <a:lnTo>
                  <a:pt x="373" y="5"/>
                </a:lnTo>
                <a:lnTo>
                  <a:pt x="378" y="5"/>
                </a:lnTo>
                <a:lnTo>
                  <a:pt x="383" y="5"/>
                </a:lnTo>
                <a:lnTo>
                  <a:pt x="388" y="5"/>
                </a:lnTo>
                <a:lnTo>
                  <a:pt x="393" y="5"/>
                </a:lnTo>
                <a:lnTo>
                  <a:pt x="398" y="5"/>
                </a:lnTo>
                <a:lnTo>
                  <a:pt x="403" y="5"/>
                </a:lnTo>
                <a:lnTo>
                  <a:pt x="408" y="5"/>
                </a:lnTo>
                <a:lnTo>
                  <a:pt x="412" y="5"/>
                </a:lnTo>
                <a:lnTo>
                  <a:pt x="417" y="5"/>
                </a:lnTo>
                <a:lnTo>
                  <a:pt x="422" y="5"/>
                </a:lnTo>
                <a:lnTo>
                  <a:pt x="427" y="5"/>
                </a:lnTo>
                <a:lnTo>
                  <a:pt x="432" y="5"/>
                </a:lnTo>
                <a:lnTo>
                  <a:pt x="437" y="5"/>
                </a:lnTo>
                <a:lnTo>
                  <a:pt x="442" y="0"/>
                </a:lnTo>
                <a:lnTo>
                  <a:pt x="447" y="0"/>
                </a:lnTo>
                <a:lnTo>
                  <a:pt x="452" y="0"/>
                </a:lnTo>
                <a:lnTo>
                  <a:pt x="457" y="0"/>
                </a:lnTo>
                <a:lnTo>
                  <a:pt x="462" y="0"/>
                </a:lnTo>
                <a:lnTo>
                  <a:pt x="467" y="0"/>
                </a:lnTo>
                <a:lnTo>
                  <a:pt x="472" y="0"/>
                </a:lnTo>
                <a:lnTo>
                  <a:pt x="477" y="0"/>
                </a:lnTo>
                <a:lnTo>
                  <a:pt x="482" y="0"/>
                </a:lnTo>
                <a:lnTo>
                  <a:pt x="487" y="0"/>
                </a:lnTo>
                <a:lnTo>
                  <a:pt x="492" y="0"/>
                </a:lnTo>
                <a:lnTo>
                  <a:pt x="497" y="0"/>
                </a:lnTo>
                <a:lnTo>
                  <a:pt x="502" y="0"/>
                </a:lnTo>
                <a:lnTo>
                  <a:pt x="507" y="0"/>
                </a:lnTo>
                <a:lnTo>
                  <a:pt x="512" y="0"/>
                </a:lnTo>
                <a:lnTo>
                  <a:pt x="517" y="0"/>
                </a:lnTo>
                <a:lnTo>
                  <a:pt x="522" y="0"/>
                </a:lnTo>
                <a:lnTo>
                  <a:pt x="527" y="0"/>
                </a:lnTo>
                <a:lnTo>
                  <a:pt x="532" y="0"/>
                </a:lnTo>
                <a:lnTo>
                  <a:pt x="537" y="0"/>
                </a:lnTo>
                <a:lnTo>
                  <a:pt x="542" y="0"/>
                </a:lnTo>
                <a:lnTo>
                  <a:pt x="547" y="0"/>
                </a:lnTo>
                <a:lnTo>
                  <a:pt x="552" y="0"/>
                </a:lnTo>
                <a:lnTo>
                  <a:pt x="557" y="0"/>
                </a:lnTo>
                <a:lnTo>
                  <a:pt x="562" y="0"/>
                </a:lnTo>
                <a:lnTo>
                  <a:pt x="567" y="0"/>
                </a:lnTo>
                <a:lnTo>
                  <a:pt x="571" y="0"/>
                </a:lnTo>
                <a:lnTo>
                  <a:pt x="576" y="0"/>
                </a:lnTo>
                <a:lnTo>
                  <a:pt x="581" y="0"/>
                </a:lnTo>
                <a:lnTo>
                  <a:pt x="586" y="0"/>
                </a:lnTo>
                <a:lnTo>
                  <a:pt x="591" y="0"/>
                </a:lnTo>
                <a:lnTo>
                  <a:pt x="596" y="0"/>
                </a:lnTo>
                <a:lnTo>
                  <a:pt x="601" y="0"/>
                </a:lnTo>
                <a:lnTo>
                  <a:pt x="606" y="0"/>
                </a:lnTo>
                <a:lnTo>
                  <a:pt x="611" y="0"/>
                </a:lnTo>
                <a:lnTo>
                  <a:pt x="616" y="0"/>
                </a:lnTo>
                <a:lnTo>
                  <a:pt x="621" y="0"/>
                </a:lnTo>
                <a:lnTo>
                  <a:pt x="626" y="0"/>
                </a:lnTo>
                <a:lnTo>
                  <a:pt x="631" y="0"/>
                </a:lnTo>
                <a:lnTo>
                  <a:pt x="636" y="0"/>
                </a:lnTo>
                <a:lnTo>
                  <a:pt x="641" y="0"/>
                </a:lnTo>
                <a:lnTo>
                  <a:pt x="646" y="0"/>
                </a:lnTo>
                <a:lnTo>
                  <a:pt x="651" y="0"/>
                </a:lnTo>
                <a:lnTo>
                  <a:pt x="656" y="0"/>
                </a:lnTo>
                <a:lnTo>
                  <a:pt x="661" y="0"/>
                </a:lnTo>
                <a:lnTo>
                  <a:pt x="666" y="0"/>
                </a:lnTo>
                <a:lnTo>
                  <a:pt x="671" y="0"/>
                </a:lnTo>
                <a:lnTo>
                  <a:pt x="676" y="0"/>
                </a:lnTo>
                <a:lnTo>
                  <a:pt x="681" y="0"/>
                </a:lnTo>
                <a:lnTo>
                  <a:pt x="686" y="0"/>
                </a:lnTo>
                <a:lnTo>
                  <a:pt x="691" y="0"/>
                </a:lnTo>
                <a:lnTo>
                  <a:pt x="696" y="0"/>
                </a:lnTo>
                <a:lnTo>
                  <a:pt x="701" y="0"/>
                </a:lnTo>
                <a:lnTo>
                  <a:pt x="706" y="0"/>
                </a:lnTo>
                <a:lnTo>
                  <a:pt x="711" y="0"/>
                </a:lnTo>
                <a:lnTo>
                  <a:pt x="716" y="0"/>
                </a:lnTo>
                <a:lnTo>
                  <a:pt x="721" y="0"/>
                </a:lnTo>
                <a:lnTo>
                  <a:pt x="726" y="0"/>
                </a:lnTo>
                <a:lnTo>
                  <a:pt x="730" y="0"/>
                </a:lnTo>
                <a:lnTo>
                  <a:pt x="735" y="0"/>
                </a:lnTo>
                <a:lnTo>
                  <a:pt x="740" y="0"/>
                </a:lnTo>
                <a:lnTo>
                  <a:pt x="745" y="0"/>
                </a:lnTo>
                <a:lnTo>
                  <a:pt x="750" y="0"/>
                </a:lnTo>
                <a:lnTo>
                  <a:pt x="755" y="0"/>
                </a:lnTo>
                <a:lnTo>
                  <a:pt x="760" y="0"/>
                </a:lnTo>
                <a:lnTo>
                  <a:pt x="765" y="0"/>
                </a:lnTo>
                <a:lnTo>
                  <a:pt x="770" y="0"/>
                </a:lnTo>
                <a:lnTo>
                  <a:pt x="775" y="0"/>
                </a:lnTo>
                <a:lnTo>
                  <a:pt x="780" y="0"/>
                </a:lnTo>
                <a:lnTo>
                  <a:pt x="785" y="0"/>
                </a:lnTo>
                <a:lnTo>
                  <a:pt x="790" y="0"/>
                </a:lnTo>
                <a:lnTo>
                  <a:pt x="795" y="0"/>
                </a:lnTo>
                <a:lnTo>
                  <a:pt x="800" y="0"/>
                </a:lnTo>
                <a:lnTo>
                  <a:pt x="805" y="0"/>
                </a:lnTo>
                <a:lnTo>
                  <a:pt x="810" y="0"/>
                </a:lnTo>
                <a:lnTo>
                  <a:pt x="815" y="0"/>
                </a:lnTo>
                <a:lnTo>
                  <a:pt x="820" y="0"/>
                </a:lnTo>
                <a:lnTo>
                  <a:pt x="825" y="0"/>
                </a:lnTo>
                <a:lnTo>
                  <a:pt x="830" y="0"/>
                </a:lnTo>
                <a:lnTo>
                  <a:pt x="835" y="5"/>
                </a:lnTo>
                <a:lnTo>
                  <a:pt x="840" y="5"/>
                </a:lnTo>
                <a:lnTo>
                  <a:pt x="845" y="5"/>
                </a:lnTo>
                <a:lnTo>
                  <a:pt x="850" y="5"/>
                </a:lnTo>
                <a:lnTo>
                  <a:pt x="855" y="5"/>
                </a:lnTo>
                <a:lnTo>
                  <a:pt x="860" y="5"/>
                </a:lnTo>
                <a:lnTo>
                  <a:pt x="865" y="5"/>
                </a:lnTo>
                <a:lnTo>
                  <a:pt x="870" y="5"/>
                </a:lnTo>
                <a:lnTo>
                  <a:pt x="875" y="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09800" y="2936880"/>
            <a:ext cx="115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/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590920" y="3124080"/>
            <a:ext cx="4106880" cy="30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22640" y="3351240"/>
            <a:ext cx="3170160" cy="25048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19400" y="3348000"/>
            <a:ext cx="3176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119400" y="5859360"/>
            <a:ext cx="3176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3119400" y="3348000"/>
            <a:ext cx="1800" cy="251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296040" y="3348000"/>
            <a:ext cx="1440" cy="251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19400" y="5859360"/>
            <a:ext cx="3176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119400" y="3348000"/>
            <a:ext cx="1800" cy="251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3119400" y="582768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119400" y="3348000"/>
            <a:ext cx="180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95280" y="5873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3521160" y="582768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21160" y="3348000"/>
            <a:ext cx="144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65000" y="5873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3914640" y="582768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914640" y="3348000"/>
            <a:ext cx="180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90520" y="5873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314960" y="582768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314960" y="3348000"/>
            <a:ext cx="144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258800" y="5873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708440" y="582768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708440" y="3348000"/>
            <a:ext cx="180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684320" y="5873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5110200" y="582768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110200" y="3348000"/>
            <a:ext cx="144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52600" y="5873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502240" y="5827680"/>
            <a:ext cx="180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02240" y="3348000"/>
            <a:ext cx="180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478120" y="5873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5904000" y="582768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04000" y="3348000"/>
            <a:ext cx="144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46400" y="5873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6296040" y="5827680"/>
            <a:ext cx="1440" cy="3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296040" y="3348000"/>
            <a:ext cx="1440" cy="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71920" y="5873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19400" y="5859360"/>
            <a:ext cx="33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6264360" y="58593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47760" y="5802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119400" y="5442120"/>
            <a:ext cx="3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6264360" y="54421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047760" y="5384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119400" y="5024520"/>
            <a:ext cx="3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264360" y="502452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047760" y="49687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119400" y="4608360"/>
            <a:ext cx="33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6264360" y="460836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047760" y="4551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119400" y="4183200"/>
            <a:ext cx="3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6264360" y="418320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047760" y="41259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19400" y="3765600"/>
            <a:ext cx="3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6264360" y="3765600"/>
            <a:ext cx="31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000240" y="37083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119400" y="3348000"/>
            <a:ext cx="33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6264360" y="3348000"/>
            <a:ext cx="31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000240" y="32925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19400" y="3348000"/>
            <a:ext cx="3176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119400" y="5859360"/>
            <a:ext cx="3176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6296040" y="3348000"/>
            <a:ext cx="1440" cy="251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119400" y="3348000"/>
            <a:ext cx="1800" cy="251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281400" y="3405240"/>
            <a:ext cx="1595520" cy="2446200"/>
          </a:xfrm>
          <a:custGeom>
            <a:avLst/>
            <a:gdLst/>
            <a:ahLst/>
            <a:rect l="l" t="t" r="r" b="b"/>
            <a:pathLst>
              <a:path w="1005" h="1541">
                <a:moveTo>
                  <a:pt x="0" y="1394"/>
                </a:moveTo>
                <a:lnTo>
                  <a:pt x="5" y="1369"/>
                </a:lnTo>
                <a:lnTo>
                  <a:pt x="5" y="1212"/>
                </a:lnTo>
                <a:lnTo>
                  <a:pt x="10" y="1318"/>
                </a:lnTo>
                <a:lnTo>
                  <a:pt x="15" y="1515"/>
                </a:lnTo>
                <a:lnTo>
                  <a:pt x="20" y="1278"/>
                </a:lnTo>
                <a:lnTo>
                  <a:pt x="20" y="1197"/>
                </a:lnTo>
                <a:lnTo>
                  <a:pt x="25" y="1283"/>
                </a:lnTo>
                <a:lnTo>
                  <a:pt x="30" y="1475"/>
                </a:lnTo>
                <a:lnTo>
                  <a:pt x="35" y="1404"/>
                </a:lnTo>
                <a:lnTo>
                  <a:pt x="35" y="1243"/>
                </a:lnTo>
                <a:lnTo>
                  <a:pt x="40" y="1177"/>
                </a:lnTo>
                <a:lnTo>
                  <a:pt x="45" y="1217"/>
                </a:lnTo>
                <a:lnTo>
                  <a:pt x="50" y="1334"/>
                </a:lnTo>
                <a:lnTo>
                  <a:pt x="50" y="1495"/>
                </a:lnTo>
                <a:lnTo>
                  <a:pt x="55" y="1430"/>
                </a:lnTo>
                <a:lnTo>
                  <a:pt x="60" y="1288"/>
                </a:lnTo>
                <a:lnTo>
                  <a:pt x="65" y="1187"/>
                </a:lnTo>
                <a:lnTo>
                  <a:pt x="65" y="1147"/>
                </a:lnTo>
                <a:lnTo>
                  <a:pt x="70" y="1162"/>
                </a:lnTo>
                <a:lnTo>
                  <a:pt x="75" y="1227"/>
                </a:lnTo>
                <a:lnTo>
                  <a:pt x="80" y="1323"/>
                </a:lnTo>
                <a:lnTo>
                  <a:pt x="80" y="1445"/>
                </a:lnTo>
                <a:lnTo>
                  <a:pt x="85" y="1515"/>
                </a:lnTo>
                <a:lnTo>
                  <a:pt x="90" y="1394"/>
                </a:lnTo>
                <a:lnTo>
                  <a:pt x="96" y="1283"/>
                </a:lnTo>
                <a:lnTo>
                  <a:pt x="96" y="1197"/>
                </a:lnTo>
                <a:lnTo>
                  <a:pt x="101" y="1131"/>
                </a:lnTo>
                <a:lnTo>
                  <a:pt x="106" y="1101"/>
                </a:lnTo>
                <a:lnTo>
                  <a:pt x="111" y="1096"/>
                </a:lnTo>
                <a:lnTo>
                  <a:pt x="111" y="1116"/>
                </a:lnTo>
                <a:lnTo>
                  <a:pt x="116" y="1157"/>
                </a:lnTo>
                <a:lnTo>
                  <a:pt x="121" y="1217"/>
                </a:lnTo>
                <a:lnTo>
                  <a:pt x="126" y="1298"/>
                </a:lnTo>
                <a:lnTo>
                  <a:pt x="126" y="1384"/>
                </a:lnTo>
                <a:lnTo>
                  <a:pt x="131" y="1475"/>
                </a:lnTo>
                <a:lnTo>
                  <a:pt x="136" y="1521"/>
                </a:lnTo>
                <a:lnTo>
                  <a:pt x="141" y="1425"/>
                </a:lnTo>
                <a:lnTo>
                  <a:pt x="141" y="1334"/>
                </a:lnTo>
                <a:lnTo>
                  <a:pt x="146" y="1253"/>
                </a:lnTo>
                <a:lnTo>
                  <a:pt x="151" y="1177"/>
                </a:lnTo>
                <a:lnTo>
                  <a:pt x="156" y="1111"/>
                </a:lnTo>
                <a:lnTo>
                  <a:pt x="156" y="1056"/>
                </a:lnTo>
                <a:lnTo>
                  <a:pt x="161" y="1015"/>
                </a:lnTo>
                <a:lnTo>
                  <a:pt x="166" y="985"/>
                </a:lnTo>
                <a:lnTo>
                  <a:pt x="171" y="970"/>
                </a:lnTo>
                <a:lnTo>
                  <a:pt x="171" y="965"/>
                </a:lnTo>
                <a:lnTo>
                  <a:pt x="176" y="970"/>
                </a:lnTo>
                <a:lnTo>
                  <a:pt x="181" y="985"/>
                </a:lnTo>
                <a:lnTo>
                  <a:pt x="186" y="1015"/>
                </a:lnTo>
                <a:lnTo>
                  <a:pt x="186" y="1051"/>
                </a:lnTo>
                <a:lnTo>
                  <a:pt x="192" y="1091"/>
                </a:lnTo>
                <a:lnTo>
                  <a:pt x="197" y="1142"/>
                </a:lnTo>
                <a:lnTo>
                  <a:pt x="202" y="1202"/>
                </a:lnTo>
                <a:lnTo>
                  <a:pt x="207" y="1263"/>
                </a:lnTo>
                <a:lnTo>
                  <a:pt x="207" y="1329"/>
                </a:lnTo>
                <a:lnTo>
                  <a:pt x="212" y="1399"/>
                </a:lnTo>
                <a:lnTo>
                  <a:pt x="217" y="1475"/>
                </a:lnTo>
                <a:lnTo>
                  <a:pt x="222" y="1541"/>
                </a:lnTo>
                <a:lnTo>
                  <a:pt x="222" y="1465"/>
                </a:lnTo>
                <a:lnTo>
                  <a:pt x="227" y="1389"/>
                </a:lnTo>
                <a:lnTo>
                  <a:pt x="232" y="1308"/>
                </a:lnTo>
                <a:lnTo>
                  <a:pt x="237" y="1233"/>
                </a:lnTo>
                <a:lnTo>
                  <a:pt x="237" y="1157"/>
                </a:lnTo>
                <a:lnTo>
                  <a:pt x="242" y="1081"/>
                </a:lnTo>
                <a:lnTo>
                  <a:pt x="247" y="1005"/>
                </a:lnTo>
                <a:lnTo>
                  <a:pt x="252" y="934"/>
                </a:lnTo>
                <a:lnTo>
                  <a:pt x="252" y="864"/>
                </a:lnTo>
                <a:lnTo>
                  <a:pt x="257" y="793"/>
                </a:lnTo>
                <a:lnTo>
                  <a:pt x="262" y="727"/>
                </a:lnTo>
                <a:lnTo>
                  <a:pt x="267" y="667"/>
                </a:lnTo>
                <a:lnTo>
                  <a:pt x="267" y="606"/>
                </a:lnTo>
                <a:lnTo>
                  <a:pt x="272" y="551"/>
                </a:lnTo>
                <a:lnTo>
                  <a:pt x="277" y="500"/>
                </a:lnTo>
                <a:lnTo>
                  <a:pt x="282" y="449"/>
                </a:lnTo>
                <a:lnTo>
                  <a:pt x="282" y="399"/>
                </a:lnTo>
                <a:lnTo>
                  <a:pt x="288" y="353"/>
                </a:lnTo>
                <a:lnTo>
                  <a:pt x="293" y="313"/>
                </a:lnTo>
                <a:lnTo>
                  <a:pt x="298" y="273"/>
                </a:lnTo>
                <a:lnTo>
                  <a:pt x="298" y="237"/>
                </a:lnTo>
                <a:lnTo>
                  <a:pt x="303" y="207"/>
                </a:lnTo>
                <a:lnTo>
                  <a:pt x="308" y="177"/>
                </a:lnTo>
                <a:lnTo>
                  <a:pt x="313" y="146"/>
                </a:lnTo>
                <a:lnTo>
                  <a:pt x="313" y="126"/>
                </a:lnTo>
                <a:lnTo>
                  <a:pt x="318" y="101"/>
                </a:lnTo>
                <a:lnTo>
                  <a:pt x="323" y="81"/>
                </a:lnTo>
                <a:lnTo>
                  <a:pt x="328" y="66"/>
                </a:lnTo>
                <a:lnTo>
                  <a:pt x="328" y="50"/>
                </a:lnTo>
                <a:lnTo>
                  <a:pt x="333" y="35"/>
                </a:lnTo>
                <a:lnTo>
                  <a:pt x="338" y="25"/>
                </a:lnTo>
                <a:lnTo>
                  <a:pt x="343" y="15"/>
                </a:lnTo>
                <a:lnTo>
                  <a:pt x="343" y="10"/>
                </a:lnTo>
                <a:lnTo>
                  <a:pt x="348" y="5"/>
                </a:lnTo>
                <a:lnTo>
                  <a:pt x="353" y="0"/>
                </a:lnTo>
                <a:lnTo>
                  <a:pt x="358" y="0"/>
                </a:lnTo>
                <a:lnTo>
                  <a:pt x="363" y="0"/>
                </a:lnTo>
                <a:lnTo>
                  <a:pt x="368" y="5"/>
                </a:lnTo>
                <a:lnTo>
                  <a:pt x="373" y="10"/>
                </a:lnTo>
                <a:lnTo>
                  <a:pt x="373" y="15"/>
                </a:lnTo>
                <a:lnTo>
                  <a:pt x="378" y="20"/>
                </a:lnTo>
                <a:lnTo>
                  <a:pt x="384" y="25"/>
                </a:lnTo>
                <a:lnTo>
                  <a:pt x="389" y="35"/>
                </a:lnTo>
                <a:lnTo>
                  <a:pt x="389" y="45"/>
                </a:lnTo>
                <a:lnTo>
                  <a:pt x="394" y="55"/>
                </a:lnTo>
                <a:lnTo>
                  <a:pt x="399" y="66"/>
                </a:lnTo>
                <a:lnTo>
                  <a:pt x="404" y="76"/>
                </a:lnTo>
                <a:lnTo>
                  <a:pt x="404" y="91"/>
                </a:lnTo>
                <a:lnTo>
                  <a:pt x="409" y="101"/>
                </a:lnTo>
                <a:lnTo>
                  <a:pt x="414" y="116"/>
                </a:lnTo>
                <a:lnTo>
                  <a:pt x="419" y="131"/>
                </a:lnTo>
                <a:lnTo>
                  <a:pt x="419" y="141"/>
                </a:lnTo>
                <a:lnTo>
                  <a:pt x="424" y="156"/>
                </a:lnTo>
                <a:lnTo>
                  <a:pt x="429" y="172"/>
                </a:lnTo>
                <a:lnTo>
                  <a:pt x="434" y="192"/>
                </a:lnTo>
                <a:lnTo>
                  <a:pt x="434" y="207"/>
                </a:lnTo>
                <a:lnTo>
                  <a:pt x="439" y="222"/>
                </a:lnTo>
                <a:lnTo>
                  <a:pt x="444" y="237"/>
                </a:lnTo>
                <a:lnTo>
                  <a:pt x="449" y="252"/>
                </a:lnTo>
                <a:lnTo>
                  <a:pt x="454" y="273"/>
                </a:lnTo>
                <a:lnTo>
                  <a:pt x="454" y="288"/>
                </a:lnTo>
                <a:lnTo>
                  <a:pt x="459" y="308"/>
                </a:lnTo>
                <a:lnTo>
                  <a:pt x="464" y="323"/>
                </a:lnTo>
                <a:lnTo>
                  <a:pt x="469" y="338"/>
                </a:lnTo>
                <a:lnTo>
                  <a:pt x="469" y="359"/>
                </a:lnTo>
                <a:lnTo>
                  <a:pt x="474" y="374"/>
                </a:lnTo>
                <a:lnTo>
                  <a:pt x="480" y="394"/>
                </a:lnTo>
                <a:lnTo>
                  <a:pt x="485" y="409"/>
                </a:lnTo>
                <a:lnTo>
                  <a:pt x="485" y="429"/>
                </a:lnTo>
                <a:lnTo>
                  <a:pt x="490" y="444"/>
                </a:lnTo>
                <a:lnTo>
                  <a:pt x="495" y="460"/>
                </a:lnTo>
                <a:lnTo>
                  <a:pt x="500" y="480"/>
                </a:lnTo>
                <a:lnTo>
                  <a:pt x="500" y="495"/>
                </a:lnTo>
                <a:lnTo>
                  <a:pt x="505" y="515"/>
                </a:lnTo>
                <a:lnTo>
                  <a:pt x="510" y="530"/>
                </a:lnTo>
                <a:lnTo>
                  <a:pt x="515" y="545"/>
                </a:lnTo>
                <a:lnTo>
                  <a:pt x="515" y="566"/>
                </a:lnTo>
                <a:lnTo>
                  <a:pt x="520" y="581"/>
                </a:lnTo>
                <a:lnTo>
                  <a:pt x="525" y="596"/>
                </a:lnTo>
                <a:lnTo>
                  <a:pt x="530" y="616"/>
                </a:lnTo>
                <a:lnTo>
                  <a:pt x="530" y="631"/>
                </a:lnTo>
                <a:lnTo>
                  <a:pt x="535" y="646"/>
                </a:lnTo>
                <a:lnTo>
                  <a:pt x="540" y="662"/>
                </a:lnTo>
                <a:lnTo>
                  <a:pt x="545" y="677"/>
                </a:lnTo>
                <a:lnTo>
                  <a:pt x="545" y="692"/>
                </a:lnTo>
                <a:lnTo>
                  <a:pt x="550" y="707"/>
                </a:lnTo>
                <a:lnTo>
                  <a:pt x="555" y="722"/>
                </a:lnTo>
                <a:lnTo>
                  <a:pt x="560" y="737"/>
                </a:lnTo>
                <a:lnTo>
                  <a:pt x="560" y="753"/>
                </a:lnTo>
                <a:lnTo>
                  <a:pt x="565" y="768"/>
                </a:lnTo>
                <a:lnTo>
                  <a:pt x="570" y="783"/>
                </a:lnTo>
                <a:lnTo>
                  <a:pt x="576" y="798"/>
                </a:lnTo>
                <a:lnTo>
                  <a:pt x="576" y="813"/>
                </a:lnTo>
                <a:lnTo>
                  <a:pt x="581" y="823"/>
                </a:lnTo>
                <a:lnTo>
                  <a:pt x="586" y="838"/>
                </a:lnTo>
                <a:lnTo>
                  <a:pt x="591" y="854"/>
                </a:lnTo>
                <a:lnTo>
                  <a:pt x="591" y="869"/>
                </a:lnTo>
                <a:lnTo>
                  <a:pt x="596" y="879"/>
                </a:lnTo>
                <a:lnTo>
                  <a:pt x="601" y="894"/>
                </a:lnTo>
                <a:lnTo>
                  <a:pt x="606" y="904"/>
                </a:lnTo>
                <a:lnTo>
                  <a:pt x="606" y="919"/>
                </a:lnTo>
                <a:lnTo>
                  <a:pt x="611" y="929"/>
                </a:lnTo>
                <a:lnTo>
                  <a:pt x="616" y="945"/>
                </a:lnTo>
                <a:lnTo>
                  <a:pt x="621" y="955"/>
                </a:lnTo>
                <a:lnTo>
                  <a:pt x="621" y="965"/>
                </a:lnTo>
                <a:lnTo>
                  <a:pt x="626" y="980"/>
                </a:lnTo>
                <a:lnTo>
                  <a:pt x="631" y="990"/>
                </a:lnTo>
                <a:lnTo>
                  <a:pt x="636" y="1000"/>
                </a:lnTo>
                <a:lnTo>
                  <a:pt x="636" y="1015"/>
                </a:lnTo>
                <a:lnTo>
                  <a:pt x="641" y="1025"/>
                </a:lnTo>
                <a:lnTo>
                  <a:pt x="646" y="1036"/>
                </a:lnTo>
                <a:lnTo>
                  <a:pt x="651" y="1046"/>
                </a:lnTo>
                <a:lnTo>
                  <a:pt x="651" y="1056"/>
                </a:lnTo>
                <a:lnTo>
                  <a:pt x="656" y="1066"/>
                </a:lnTo>
                <a:lnTo>
                  <a:pt x="661" y="1076"/>
                </a:lnTo>
                <a:lnTo>
                  <a:pt x="666" y="1086"/>
                </a:lnTo>
                <a:lnTo>
                  <a:pt x="666" y="1096"/>
                </a:lnTo>
                <a:lnTo>
                  <a:pt x="672" y="1106"/>
                </a:lnTo>
                <a:lnTo>
                  <a:pt x="677" y="1116"/>
                </a:lnTo>
                <a:lnTo>
                  <a:pt x="682" y="1126"/>
                </a:lnTo>
                <a:lnTo>
                  <a:pt x="687" y="1137"/>
                </a:lnTo>
                <a:lnTo>
                  <a:pt x="687" y="1142"/>
                </a:lnTo>
                <a:lnTo>
                  <a:pt x="692" y="1152"/>
                </a:lnTo>
                <a:lnTo>
                  <a:pt x="697" y="1162"/>
                </a:lnTo>
                <a:lnTo>
                  <a:pt x="702" y="1167"/>
                </a:lnTo>
                <a:lnTo>
                  <a:pt x="702" y="1177"/>
                </a:lnTo>
                <a:lnTo>
                  <a:pt x="707" y="1187"/>
                </a:lnTo>
                <a:lnTo>
                  <a:pt x="712" y="1192"/>
                </a:lnTo>
                <a:lnTo>
                  <a:pt x="717" y="1202"/>
                </a:lnTo>
                <a:lnTo>
                  <a:pt x="717" y="1212"/>
                </a:lnTo>
                <a:lnTo>
                  <a:pt x="722" y="1217"/>
                </a:lnTo>
                <a:lnTo>
                  <a:pt x="727" y="1227"/>
                </a:lnTo>
                <a:lnTo>
                  <a:pt x="732" y="1233"/>
                </a:lnTo>
                <a:lnTo>
                  <a:pt x="732" y="1243"/>
                </a:lnTo>
                <a:lnTo>
                  <a:pt x="737" y="1248"/>
                </a:lnTo>
                <a:lnTo>
                  <a:pt x="742" y="1253"/>
                </a:lnTo>
                <a:lnTo>
                  <a:pt x="747" y="1263"/>
                </a:lnTo>
                <a:lnTo>
                  <a:pt x="747" y="1268"/>
                </a:lnTo>
                <a:lnTo>
                  <a:pt x="752" y="1273"/>
                </a:lnTo>
                <a:lnTo>
                  <a:pt x="757" y="1283"/>
                </a:lnTo>
                <a:lnTo>
                  <a:pt x="762" y="1288"/>
                </a:lnTo>
                <a:lnTo>
                  <a:pt x="762" y="1293"/>
                </a:lnTo>
                <a:lnTo>
                  <a:pt x="768" y="1303"/>
                </a:lnTo>
                <a:lnTo>
                  <a:pt x="773" y="1308"/>
                </a:lnTo>
                <a:lnTo>
                  <a:pt x="778" y="1313"/>
                </a:lnTo>
                <a:lnTo>
                  <a:pt x="778" y="1318"/>
                </a:lnTo>
                <a:lnTo>
                  <a:pt x="783" y="1323"/>
                </a:lnTo>
                <a:lnTo>
                  <a:pt x="788" y="1329"/>
                </a:lnTo>
                <a:lnTo>
                  <a:pt x="793" y="1334"/>
                </a:lnTo>
                <a:lnTo>
                  <a:pt x="793" y="1344"/>
                </a:lnTo>
                <a:lnTo>
                  <a:pt x="798" y="1349"/>
                </a:lnTo>
                <a:lnTo>
                  <a:pt x="803" y="1354"/>
                </a:lnTo>
                <a:lnTo>
                  <a:pt x="808" y="1359"/>
                </a:lnTo>
                <a:lnTo>
                  <a:pt x="808" y="1364"/>
                </a:lnTo>
                <a:lnTo>
                  <a:pt x="813" y="1369"/>
                </a:lnTo>
                <a:lnTo>
                  <a:pt x="818" y="1374"/>
                </a:lnTo>
                <a:lnTo>
                  <a:pt x="823" y="1379"/>
                </a:lnTo>
                <a:lnTo>
                  <a:pt x="823" y="1384"/>
                </a:lnTo>
                <a:lnTo>
                  <a:pt x="828" y="1389"/>
                </a:lnTo>
                <a:lnTo>
                  <a:pt x="833" y="1389"/>
                </a:lnTo>
                <a:lnTo>
                  <a:pt x="838" y="1394"/>
                </a:lnTo>
                <a:lnTo>
                  <a:pt x="838" y="1399"/>
                </a:lnTo>
                <a:lnTo>
                  <a:pt x="843" y="1404"/>
                </a:lnTo>
                <a:lnTo>
                  <a:pt x="848" y="1409"/>
                </a:lnTo>
                <a:lnTo>
                  <a:pt x="853" y="1414"/>
                </a:lnTo>
                <a:lnTo>
                  <a:pt x="859" y="1419"/>
                </a:lnTo>
                <a:lnTo>
                  <a:pt x="864" y="1425"/>
                </a:lnTo>
                <a:lnTo>
                  <a:pt x="869" y="1430"/>
                </a:lnTo>
                <a:lnTo>
                  <a:pt x="874" y="1435"/>
                </a:lnTo>
                <a:lnTo>
                  <a:pt x="879" y="1440"/>
                </a:lnTo>
                <a:lnTo>
                  <a:pt x="884" y="1445"/>
                </a:lnTo>
                <a:lnTo>
                  <a:pt x="889" y="1450"/>
                </a:lnTo>
                <a:lnTo>
                  <a:pt x="894" y="1455"/>
                </a:lnTo>
                <a:lnTo>
                  <a:pt x="899" y="1460"/>
                </a:lnTo>
                <a:lnTo>
                  <a:pt x="904" y="1465"/>
                </a:lnTo>
                <a:lnTo>
                  <a:pt x="909" y="1470"/>
                </a:lnTo>
                <a:lnTo>
                  <a:pt x="914" y="1475"/>
                </a:lnTo>
                <a:lnTo>
                  <a:pt x="919" y="1475"/>
                </a:lnTo>
                <a:lnTo>
                  <a:pt x="924" y="1480"/>
                </a:lnTo>
                <a:lnTo>
                  <a:pt x="929" y="1485"/>
                </a:lnTo>
                <a:lnTo>
                  <a:pt x="934" y="1490"/>
                </a:lnTo>
                <a:lnTo>
                  <a:pt x="939" y="1490"/>
                </a:lnTo>
                <a:lnTo>
                  <a:pt x="944" y="1495"/>
                </a:lnTo>
                <a:lnTo>
                  <a:pt x="949" y="1500"/>
                </a:lnTo>
                <a:lnTo>
                  <a:pt x="955" y="1500"/>
                </a:lnTo>
                <a:lnTo>
                  <a:pt x="960" y="1505"/>
                </a:lnTo>
                <a:lnTo>
                  <a:pt x="965" y="1510"/>
                </a:lnTo>
                <a:lnTo>
                  <a:pt x="970" y="1510"/>
                </a:lnTo>
                <a:lnTo>
                  <a:pt x="975" y="1515"/>
                </a:lnTo>
                <a:lnTo>
                  <a:pt x="980" y="1521"/>
                </a:lnTo>
                <a:lnTo>
                  <a:pt x="985" y="1521"/>
                </a:lnTo>
                <a:lnTo>
                  <a:pt x="990" y="1526"/>
                </a:lnTo>
                <a:lnTo>
                  <a:pt x="995" y="1526"/>
                </a:lnTo>
                <a:lnTo>
                  <a:pt x="1000" y="1531"/>
                </a:lnTo>
                <a:lnTo>
                  <a:pt x="1005" y="153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76920" y="5730840"/>
            <a:ext cx="1419120" cy="128520"/>
          </a:xfrm>
          <a:custGeom>
            <a:avLst/>
            <a:gdLst/>
            <a:ahLst/>
            <a:rect l="l" t="t" r="r" b="b"/>
            <a:pathLst>
              <a:path w="894" h="81">
                <a:moveTo>
                  <a:pt x="0" y="66"/>
                </a:moveTo>
                <a:lnTo>
                  <a:pt x="5" y="71"/>
                </a:lnTo>
                <a:lnTo>
                  <a:pt x="10" y="71"/>
                </a:lnTo>
                <a:lnTo>
                  <a:pt x="15" y="76"/>
                </a:lnTo>
                <a:lnTo>
                  <a:pt x="20" y="76"/>
                </a:lnTo>
                <a:lnTo>
                  <a:pt x="25" y="81"/>
                </a:lnTo>
                <a:lnTo>
                  <a:pt x="30" y="81"/>
                </a:lnTo>
                <a:lnTo>
                  <a:pt x="35" y="76"/>
                </a:lnTo>
                <a:lnTo>
                  <a:pt x="40" y="76"/>
                </a:lnTo>
                <a:lnTo>
                  <a:pt x="46" y="76"/>
                </a:lnTo>
                <a:lnTo>
                  <a:pt x="51" y="71"/>
                </a:lnTo>
                <a:lnTo>
                  <a:pt x="56" y="71"/>
                </a:lnTo>
                <a:lnTo>
                  <a:pt x="61" y="66"/>
                </a:lnTo>
                <a:lnTo>
                  <a:pt x="66" y="66"/>
                </a:lnTo>
                <a:lnTo>
                  <a:pt x="71" y="66"/>
                </a:lnTo>
                <a:lnTo>
                  <a:pt x="76" y="61"/>
                </a:lnTo>
                <a:lnTo>
                  <a:pt x="81" y="61"/>
                </a:lnTo>
                <a:lnTo>
                  <a:pt x="86" y="56"/>
                </a:lnTo>
                <a:lnTo>
                  <a:pt x="91" y="56"/>
                </a:lnTo>
                <a:lnTo>
                  <a:pt x="96" y="56"/>
                </a:lnTo>
                <a:lnTo>
                  <a:pt x="101" y="50"/>
                </a:lnTo>
                <a:lnTo>
                  <a:pt x="106" y="50"/>
                </a:lnTo>
                <a:lnTo>
                  <a:pt x="111" y="50"/>
                </a:lnTo>
                <a:lnTo>
                  <a:pt x="116" y="50"/>
                </a:lnTo>
                <a:lnTo>
                  <a:pt x="121" y="45"/>
                </a:lnTo>
                <a:lnTo>
                  <a:pt x="126" y="45"/>
                </a:lnTo>
                <a:lnTo>
                  <a:pt x="131" y="45"/>
                </a:lnTo>
                <a:lnTo>
                  <a:pt x="136" y="45"/>
                </a:lnTo>
                <a:lnTo>
                  <a:pt x="142" y="40"/>
                </a:lnTo>
                <a:lnTo>
                  <a:pt x="147" y="40"/>
                </a:lnTo>
                <a:lnTo>
                  <a:pt x="152" y="40"/>
                </a:lnTo>
                <a:lnTo>
                  <a:pt x="157" y="35"/>
                </a:lnTo>
                <a:lnTo>
                  <a:pt x="162" y="35"/>
                </a:lnTo>
                <a:lnTo>
                  <a:pt x="167" y="35"/>
                </a:lnTo>
                <a:lnTo>
                  <a:pt x="172" y="35"/>
                </a:lnTo>
                <a:lnTo>
                  <a:pt x="177" y="35"/>
                </a:lnTo>
                <a:lnTo>
                  <a:pt x="182" y="30"/>
                </a:lnTo>
                <a:lnTo>
                  <a:pt x="187" y="30"/>
                </a:lnTo>
                <a:lnTo>
                  <a:pt x="192" y="30"/>
                </a:lnTo>
                <a:lnTo>
                  <a:pt x="197" y="30"/>
                </a:lnTo>
                <a:lnTo>
                  <a:pt x="202" y="30"/>
                </a:lnTo>
                <a:lnTo>
                  <a:pt x="207" y="25"/>
                </a:lnTo>
                <a:lnTo>
                  <a:pt x="212" y="25"/>
                </a:lnTo>
                <a:lnTo>
                  <a:pt x="217" y="25"/>
                </a:lnTo>
                <a:lnTo>
                  <a:pt x="222" y="25"/>
                </a:lnTo>
                <a:lnTo>
                  <a:pt x="227" y="25"/>
                </a:lnTo>
                <a:lnTo>
                  <a:pt x="232" y="25"/>
                </a:lnTo>
                <a:lnTo>
                  <a:pt x="238" y="20"/>
                </a:lnTo>
                <a:lnTo>
                  <a:pt x="243" y="20"/>
                </a:lnTo>
                <a:lnTo>
                  <a:pt x="248" y="20"/>
                </a:lnTo>
                <a:lnTo>
                  <a:pt x="253" y="20"/>
                </a:lnTo>
                <a:lnTo>
                  <a:pt x="258" y="20"/>
                </a:lnTo>
                <a:lnTo>
                  <a:pt x="263" y="20"/>
                </a:lnTo>
                <a:lnTo>
                  <a:pt x="268" y="15"/>
                </a:lnTo>
                <a:lnTo>
                  <a:pt x="273" y="15"/>
                </a:lnTo>
                <a:lnTo>
                  <a:pt x="278" y="15"/>
                </a:lnTo>
                <a:lnTo>
                  <a:pt x="283" y="15"/>
                </a:lnTo>
                <a:lnTo>
                  <a:pt x="288" y="15"/>
                </a:lnTo>
                <a:lnTo>
                  <a:pt x="293" y="15"/>
                </a:lnTo>
                <a:lnTo>
                  <a:pt x="298" y="15"/>
                </a:lnTo>
                <a:lnTo>
                  <a:pt x="303" y="15"/>
                </a:lnTo>
                <a:lnTo>
                  <a:pt x="308" y="15"/>
                </a:lnTo>
                <a:lnTo>
                  <a:pt x="313" y="10"/>
                </a:lnTo>
                <a:lnTo>
                  <a:pt x="318" y="10"/>
                </a:lnTo>
                <a:lnTo>
                  <a:pt x="323" y="10"/>
                </a:lnTo>
                <a:lnTo>
                  <a:pt x="328" y="10"/>
                </a:lnTo>
                <a:lnTo>
                  <a:pt x="334" y="10"/>
                </a:lnTo>
                <a:lnTo>
                  <a:pt x="339" y="10"/>
                </a:lnTo>
                <a:lnTo>
                  <a:pt x="344" y="10"/>
                </a:lnTo>
                <a:lnTo>
                  <a:pt x="349" y="10"/>
                </a:lnTo>
                <a:lnTo>
                  <a:pt x="354" y="10"/>
                </a:lnTo>
                <a:lnTo>
                  <a:pt x="359" y="10"/>
                </a:lnTo>
                <a:lnTo>
                  <a:pt x="364" y="10"/>
                </a:lnTo>
                <a:lnTo>
                  <a:pt x="369" y="10"/>
                </a:lnTo>
                <a:lnTo>
                  <a:pt x="374" y="5"/>
                </a:lnTo>
                <a:lnTo>
                  <a:pt x="379" y="5"/>
                </a:lnTo>
                <a:lnTo>
                  <a:pt x="384" y="5"/>
                </a:lnTo>
                <a:lnTo>
                  <a:pt x="389" y="5"/>
                </a:lnTo>
                <a:lnTo>
                  <a:pt x="394" y="5"/>
                </a:lnTo>
                <a:lnTo>
                  <a:pt x="399" y="5"/>
                </a:lnTo>
                <a:lnTo>
                  <a:pt x="404" y="5"/>
                </a:lnTo>
                <a:lnTo>
                  <a:pt x="409" y="5"/>
                </a:lnTo>
                <a:lnTo>
                  <a:pt x="414" y="5"/>
                </a:lnTo>
                <a:lnTo>
                  <a:pt x="419" y="5"/>
                </a:lnTo>
                <a:lnTo>
                  <a:pt x="424" y="5"/>
                </a:lnTo>
                <a:lnTo>
                  <a:pt x="430" y="5"/>
                </a:lnTo>
                <a:lnTo>
                  <a:pt x="435" y="5"/>
                </a:lnTo>
                <a:lnTo>
                  <a:pt x="440" y="5"/>
                </a:lnTo>
                <a:lnTo>
                  <a:pt x="445" y="5"/>
                </a:lnTo>
                <a:lnTo>
                  <a:pt x="450" y="5"/>
                </a:lnTo>
                <a:lnTo>
                  <a:pt x="455" y="5"/>
                </a:lnTo>
                <a:lnTo>
                  <a:pt x="460" y="5"/>
                </a:lnTo>
                <a:lnTo>
                  <a:pt x="465" y="5"/>
                </a:lnTo>
                <a:lnTo>
                  <a:pt x="470" y="5"/>
                </a:lnTo>
                <a:lnTo>
                  <a:pt x="475" y="0"/>
                </a:lnTo>
                <a:lnTo>
                  <a:pt x="480" y="0"/>
                </a:lnTo>
                <a:lnTo>
                  <a:pt x="485" y="0"/>
                </a:lnTo>
                <a:lnTo>
                  <a:pt x="490" y="0"/>
                </a:lnTo>
                <a:lnTo>
                  <a:pt x="495" y="0"/>
                </a:lnTo>
                <a:lnTo>
                  <a:pt x="500" y="0"/>
                </a:lnTo>
                <a:lnTo>
                  <a:pt x="505" y="0"/>
                </a:lnTo>
                <a:lnTo>
                  <a:pt x="510" y="0"/>
                </a:lnTo>
                <a:lnTo>
                  <a:pt x="515" y="0"/>
                </a:lnTo>
                <a:lnTo>
                  <a:pt x="520" y="0"/>
                </a:lnTo>
                <a:lnTo>
                  <a:pt x="526" y="0"/>
                </a:lnTo>
                <a:lnTo>
                  <a:pt x="531" y="0"/>
                </a:lnTo>
                <a:lnTo>
                  <a:pt x="536" y="0"/>
                </a:lnTo>
                <a:lnTo>
                  <a:pt x="541" y="0"/>
                </a:lnTo>
                <a:lnTo>
                  <a:pt x="546" y="0"/>
                </a:lnTo>
                <a:lnTo>
                  <a:pt x="551" y="0"/>
                </a:lnTo>
                <a:lnTo>
                  <a:pt x="556" y="0"/>
                </a:lnTo>
                <a:lnTo>
                  <a:pt x="561" y="0"/>
                </a:lnTo>
                <a:lnTo>
                  <a:pt x="566" y="0"/>
                </a:lnTo>
                <a:lnTo>
                  <a:pt x="571" y="0"/>
                </a:lnTo>
                <a:lnTo>
                  <a:pt x="576" y="0"/>
                </a:lnTo>
                <a:lnTo>
                  <a:pt x="581" y="0"/>
                </a:lnTo>
                <a:lnTo>
                  <a:pt x="586" y="0"/>
                </a:lnTo>
                <a:lnTo>
                  <a:pt x="591" y="0"/>
                </a:lnTo>
                <a:lnTo>
                  <a:pt x="596" y="0"/>
                </a:lnTo>
                <a:lnTo>
                  <a:pt x="601" y="0"/>
                </a:lnTo>
                <a:lnTo>
                  <a:pt x="606" y="0"/>
                </a:lnTo>
                <a:lnTo>
                  <a:pt x="611" y="0"/>
                </a:lnTo>
                <a:lnTo>
                  <a:pt x="616" y="0"/>
                </a:lnTo>
                <a:lnTo>
                  <a:pt x="622" y="0"/>
                </a:lnTo>
                <a:lnTo>
                  <a:pt x="627" y="0"/>
                </a:lnTo>
                <a:lnTo>
                  <a:pt x="632" y="0"/>
                </a:lnTo>
                <a:lnTo>
                  <a:pt x="637" y="0"/>
                </a:lnTo>
                <a:lnTo>
                  <a:pt x="642" y="0"/>
                </a:lnTo>
                <a:lnTo>
                  <a:pt x="647" y="0"/>
                </a:lnTo>
                <a:lnTo>
                  <a:pt x="652" y="0"/>
                </a:lnTo>
                <a:lnTo>
                  <a:pt x="657" y="0"/>
                </a:lnTo>
                <a:lnTo>
                  <a:pt x="662" y="0"/>
                </a:lnTo>
                <a:lnTo>
                  <a:pt x="667" y="0"/>
                </a:lnTo>
                <a:lnTo>
                  <a:pt x="672" y="0"/>
                </a:lnTo>
                <a:lnTo>
                  <a:pt x="677" y="0"/>
                </a:lnTo>
                <a:lnTo>
                  <a:pt x="682" y="0"/>
                </a:lnTo>
                <a:lnTo>
                  <a:pt x="687" y="0"/>
                </a:lnTo>
                <a:lnTo>
                  <a:pt x="692" y="0"/>
                </a:lnTo>
                <a:lnTo>
                  <a:pt x="697" y="0"/>
                </a:lnTo>
                <a:lnTo>
                  <a:pt x="702" y="0"/>
                </a:lnTo>
                <a:lnTo>
                  <a:pt x="707" y="0"/>
                </a:lnTo>
                <a:lnTo>
                  <a:pt x="712" y="0"/>
                </a:lnTo>
                <a:lnTo>
                  <a:pt x="718" y="0"/>
                </a:lnTo>
                <a:lnTo>
                  <a:pt x="723" y="0"/>
                </a:lnTo>
                <a:lnTo>
                  <a:pt x="728" y="0"/>
                </a:lnTo>
                <a:lnTo>
                  <a:pt x="733" y="0"/>
                </a:lnTo>
                <a:lnTo>
                  <a:pt x="738" y="0"/>
                </a:lnTo>
                <a:lnTo>
                  <a:pt x="743" y="0"/>
                </a:lnTo>
                <a:lnTo>
                  <a:pt x="748" y="0"/>
                </a:lnTo>
                <a:lnTo>
                  <a:pt x="753" y="0"/>
                </a:lnTo>
                <a:lnTo>
                  <a:pt x="758" y="0"/>
                </a:lnTo>
                <a:lnTo>
                  <a:pt x="763" y="0"/>
                </a:lnTo>
                <a:lnTo>
                  <a:pt x="768" y="0"/>
                </a:lnTo>
                <a:lnTo>
                  <a:pt x="773" y="0"/>
                </a:lnTo>
                <a:lnTo>
                  <a:pt x="778" y="0"/>
                </a:lnTo>
                <a:lnTo>
                  <a:pt x="783" y="0"/>
                </a:lnTo>
                <a:lnTo>
                  <a:pt x="788" y="0"/>
                </a:lnTo>
                <a:lnTo>
                  <a:pt x="793" y="0"/>
                </a:lnTo>
                <a:lnTo>
                  <a:pt x="798" y="0"/>
                </a:lnTo>
                <a:lnTo>
                  <a:pt x="803" y="0"/>
                </a:lnTo>
                <a:lnTo>
                  <a:pt x="808" y="0"/>
                </a:lnTo>
                <a:lnTo>
                  <a:pt x="814" y="0"/>
                </a:lnTo>
                <a:lnTo>
                  <a:pt x="819" y="0"/>
                </a:lnTo>
                <a:lnTo>
                  <a:pt x="824" y="0"/>
                </a:lnTo>
                <a:lnTo>
                  <a:pt x="829" y="0"/>
                </a:lnTo>
                <a:lnTo>
                  <a:pt x="834" y="0"/>
                </a:lnTo>
                <a:lnTo>
                  <a:pt x="839" y="5"/>
                </a:lnTo>
                <a:lnTo>
                  <a:pt x="844" y="5"/>
                </a:lnTo>
                <a:lnTo>
                  <a:pt x="849" y="5"/>
                </a:lnTo>
                <a:lnTo>
                  <a:pt x="854" y="5"/>
                </a:lnTo>
                <a:lnTo>
                  <a:pt x="859" y="5"/>
                </a:lnTo>
                <a:lnTo>
                  <a:pt x="864" y="5"/>
                </a:lnTo>
                <a:lnTo>
                  <a:pt x="869" y="5"/>
                </a:lnTo>
                <a:lnTo>
                  <a:pt x="874" y="5"/>
                </a:lnTo>
                <a:lnTo>
                  <a:pt x="879" y="5"/>
                </a:lnTo>
                <a:lnTo>
                  <a:pt x="884" y="5"/>
                </a:lnTo>
                <a:lnTo>
                  <a:pt x="889" y="5"/>
                </a:lnTo>
                <a:lnTo>
                  <a:pt x="894" y="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644720" y="5954760"/>
            <a:ext cx="115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/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715320" y="216000"/>
            <a:ext cx="829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 = par_focused_on_axis(zR, A,c,F,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n axis pressure of a spherically focused probe,paraxial appr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as a function of the normalized distance, zR = z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A, radius of the transducer in mm. R , focal length in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c, the wave speed in m/sec, and F the frequency in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=1000*A*F/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=2*pi*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=(R/A)*(1/al)*(z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z=ka*al*z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=2000*pi*F*R/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=1-kz./k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(1-exp(i*ka*(A/R)*qo./(2*zR)))./q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56640" y="5021280"/>
            <a:ext cx="52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z=linspace(.2,4,5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 = par_focused_on_axis(z,6.35,1480,10,76.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zr, abs(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xlabel('z/R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1660680" y="270000"/>
            <a:ext cx="67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way to model focusing (in the paraxial approxim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33720" y="2133720"/>
            <a:ext cx="3333600" cy="2590560"/>
            <a:chOff x="2133720" y="2133720"/>
            <a:chExt cx="3333600" cy="2590560"/>
          </a:xfrm>
        </p:grpSpPr>
        <p:sp>
          <p:nvSpPr>
            <p:cNvPr id="1441" name=""/>
            <p:cNvSpPr/>
            <p:nvPr/>
          </p:nvSpPr>
          <p:spPr>
            <a:xfrm>
              <a:off x="2691000" y="25142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691000" y="2438280"/>
              <a:ext cx="1981080" cy="198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76800" y="2133720"/>
              <a:ext cx="144756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691000" y="34286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flipV="1">
              <a:off x="2690640" y="2666520"/>
              <a:ext cx="152388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6" name=""/>
            <p:cNvGraphicFramePr/>
            <p:nvPr/>
          </p:nvGraphicFramePr>
          <p:xfrm>
            <a:off x="3219480" y="3428640"/>
            <a:ext cx="263520" cy="31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19480" y="3428640"/>
                      <a:ext cx="263520" cy="31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8" name=""/>
            <p:cNvSpPr/>
            <p:nvPr/>
          </p:nvSpPr>
          <p:spPr>
            <a:xfrm flipH="1">
              <a:off x="230940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2309400" y="3428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2462400" y="266652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1" name=""/>
            <p:cNvGraphicFramePr/>
            <p:nvPr/>
          </p:nvGraphicFramePr>
          <p:xfrm>
            <a:off x="2133720" y="2839680"/>
            <a:ext cx="231840" cy="27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839680"/>
                      <a:ext cx="23184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3" name=""/>
            <p:cNvGraphicFramePr/>
            <p:nvPr/>
          </p:nvGraphicFramePr>
          <p:xfrm>
            <a:off x="5281560" y="3319200"/>
            <a:ext cx="185760" cy="18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81560" y="3319200"/>
                      <a:ext cx="185760" cy="18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5" name=""/>
            <p:cNvSpPr/>
            <p:nvPr/>
          </p:nvSpPr>
          <p:spPr>
            <a:xfrm>
              <a:off x="4214880" y="35049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605400" y="3581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69100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84680" y="2473200"/>
              <a:ext cx="380880" cy="24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2843280" y="4019400"/>
              <a:ext cx="479520" cy="3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3071520" y="2590200"/>
              <a:ext cx="1143000" cy="83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071520" y="342864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2" name=""/>
            <p:cNvGraphicFramePr/>
            <p:nvPr/>
          </p:nvGraphicFramePr>
          <p:xfrm>
            <a:off x="3032280" y="2844720"/>
            <a:ext cx="198360" cy="325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32280" y="2844720"/>
                      <a:ext cx="19836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4" name=""/>
            <p:cNvSpPr/>
            <p:nvPr/>
          </p:nvSpPr>
          <p:spPr>
            <a:xfrm>
              <a:off x="4140360" y="313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1508040" y="13366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on a planar aperture we have a spherical wave propagating (generated by a lens, for 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5800" y="44607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on the aperture we have a phase given approxim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raxial approximation                   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8" name=""/>
          <p:cNvGraphicFramePr/>
          <p:nvPr/>
        </p:nvGraphicFramePr>
        <p:xfrm>
          <a:off x="2362320" y="5334120"/>
          <a:ext cx="4674960" cy="107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5334120"/>
                    <a:ext cx="46749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0" name=""/>
          <p:cNvGraphicFramePr/>
          <p:nvPr/>
        </p:nvGraphicFramePr>
        <p:xfrm>
          <a:off x="4572000" y="4876920"/>
          <a:ext cx="125748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876920"/>
                    <a:ext cx="1257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27520" y="905040"/>
            <a:ext cx="624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P-wave transducer on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types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it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beam shear wav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beam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990720" y="5335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suppose we use a Rayleigh-Sommerfeld model for a planar transducer and place this phase (in the paraxial approximation) in the integ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1600200" y="2438280"/>
          <a:ext cx="548640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>
            <a:off x="1295280" y="3505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paraxial approximation and evaluating this integral exactly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ransducer axis gives for a circular transducer of radiu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2209680" y="4876920"/>
          <a:ext cx="462276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876920"/>
                    <a:ext cx="462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0" name=""/>
          <p:cNvSpPr/>
          <p:nvPr/>
        </p:nvSpPr>
        <p:spPr>
          <a:xfrm>
            <a:off x="1219320" y="5943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off-axis values will also represent those from a focused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 flipH="1" rot="19318800">
            <a:off x="1319040" y="1382400"/>
            <a:ext cx="1676520" cy="213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43" y="26"/>
                </a:moveTo>
                <a:arcTo wR="10800" hR="10800" stAng="-5163449" swAng="4935383"/>
                <a:lnTo>
                  <a:pt x="10800" y="10800"/>
                </a:lnTo>
                <a:close/>
              </a:path>
              <a:path fill="none" w="21600" h="21600">
                <a:moveTo>
                  <a:pt x="11543" y="26"/>
                </a:moveTo>
                <a:arcTo wR="10800" hR="10800" stAng="-5163449" swAng="49353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3760" y="1676520"/>
            <a:ext cx="280836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93024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92988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0656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0920" y="1584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981080" y="2209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71880" y="16606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8213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219320" y="2286000"/>
            <a:ext cx="1904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447920" y="1865160"/>
            <a:ext cx="2792160" cy="1030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24080" y="1143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219320" y="16761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27672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342900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7" name=""/>
          <p:cNvGraphicFramePr/>
          <p:nvPr/>
        </p:nvGraphicFramePr>
        <p:xfrm>
          <a:off x="2133720" y="1371600"/>
          <a:ext cx="422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422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1575720" y="104760"/>
            <a:ext cx="51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field in the plane at the geometr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f a spherically focused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28600" y="41148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143000" y="3429000"/>
            <a:ext cx="4129200" cy="30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679400" y="3657600"/>
            <a:ext cx="3189600" cy="24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679400" y="3657600"/>
            <a:ext cx="3189600" cy="24368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679400" y="3657600"/>
            <a:ext cx="318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79400" y="3657600"/>
            <a:ext cx="3189600" cy="24368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679400" y="3657240"/>
            <a:ext cx="1800" cy="243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679400" y="6094440"/>
            <a:ext cx="318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1679400" y="3657240"/>
            <a:ext cx="1800" cy="243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79400" y="60577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679400" y="36576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99480" y="611496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9548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9548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945080" y="6114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231156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1156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260800" y="6114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2635200" y="60577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635200" y="36576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583360" y="6114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295128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95128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99080" y="6114960"/>
            <a:ext cx="7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27348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7348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51160" y="6114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3589200" y="60577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589200" y="365760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567240" y="6114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90528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90528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882960" y="6114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22928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22928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206960" y="6114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454500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54500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22680" y="6114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4869000" y="60577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69000" y="365760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816440" y="61149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679400" y="60944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4832280" y="60944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490040" y="6037200"/>
            <a:ext cx="15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679400" y="5745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4832280" y="57452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98760" y="5688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679400" y="5396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832280" y="53960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18120" y="53388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679400" y="5046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832280" y="50468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518120" y="4989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679400" y="4697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4832280" y="46972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518120" y="46404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679400" y="4348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832280" y="43480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518120" y="42908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79400" y="39988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4832280" y="39988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98760" y="39416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679400" y="3657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4832280" y="36576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518120" y="360036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679400" y="3657600"/>
            <a:ext cx="318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9400" y="3657600"/>
            <a:ext cx="3189600" cy="243684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679400" y="3657240"/>
            <a:ext cx="1800" cy="243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679400" y="3998880"/>
            <a:ext cx="2027520" cy="1973160"/>
          </a:xfrm>
          <a:custGeom>
            <a:avLst/>
            <a:gdLst/>
            <a:ahLst/>
            <a:rect l="l" t="t" r="r" b="b"/>
            <a:pathLst>
              <a:path w="1277" h="1243">
                <a:moveTo>
                  <a:pt x="0" y="1091"/>
                </a:moveTo>
                <a:lnTo>
                  <a:pt x="9" y="1082"/>
                </a:lnTo>
                <a:lnTo>
                  <a:pt x="18" y="1077"/>
                </a:lnTo>
                <a:lnTo>
                  <a:pt x="28" y="1073"/>
                </a:lnTo>
                <a:lnTo>
                  <a:pt x="37" y="1068"/>
                </a:lnTo>
                <a:lnTo>
                  <a:pt x="46" y="1059"/>
                </a:lnTo>
                <a:lnTo>
                  <a:pt x="60" y="1055"/>
                </a:lnTo>
                <a:lnTo>
                  <a:pt x="69" y="1050"/>
                </a:lnTo>
                <a:lnTo>
                  <a:pt x="79" y="1046"/>
                </a:lnTo>
                <a:lnTo>
                  <a:pt x="88" y="1041"/>
                </a:lnTo>
                <a:lnTo>
                  <a:pt x="97" y="1037"/>
                </a:lnTo>
                <a:lnTo>
                  <a:pt x="106" y="1037"/>
                </a:lnTo>
                <a:lnTo>
                  <a:pt x="120" y="1032"/>
                </a:lnTo>
                <a:lnTo>
                  <a:pt x="129" y="1028"/>
                </a:lnTo>
                <a:lnTo>
                  <a:pt x="139" y="1028"/>
                </a:lnTo>
                <a:lnTo>
                  <a:pt x="148" y="1028"/>
                </a:lnTo>
                <a:lnTo>
                  <a:pt x="157" y="1028"/>
                </a:lnTo>
                <a:lnTo>
                  <a:pt x="171" y="1028"/>
                </a:lnTo>
                <a:lnTo>
                  <a:pt x="180" y="1028"/>
                </a:lnTo>
                <a:lnTo>
                  <a:pt x="190" y="1032"/>
                </a:lnTo>
                <a:lnTo>
                  <a:pt x="199" y="1032"/>
                </a:lnTo>
                <a:lnTo>
                  <a:pt x="208" y="1037"/>
                </a:lnTo>
                <a:lnTo>
                  <a:pt x="217" y="1041"/>
                </a:lnTo>
                <a:lnTo>
                  <a:pt x="231" y="1046"/>
                </a:lnTo>
                <a:lnTo>
                  <a:pt x="241" y="1055"/>
                </a:lnTo>
                <a:lnTo>
                  <a:pt x="250" y="1059"/>
                </a:lnTo>
                <a:lnTo>
                  <a:pt x="259" y="1068"/>
                </a:lnTo>
                <a:lnTo>
                  <a:pt x="268" y="1073"/>
                </a:lnTo>
                <a:lnTo>
                  <a:pt x="282" y="1082"/>
                </a:lnTo>
                <a:lnTo>
                  <a:pt x="291" y="1091"/>
                </a:lnTo>
                <a:lnTo>
                  <a:pt x="301" y="1100"/>
                </a:lnTo>
                <a:lnTo>
                  <a:pt x="310" y="1109"/>
                </a:lnTo>
                <a:lnTo>
                  <a:pt x="319" y="1122"/>
                </a:lnTo>
                <a:lnTo>
                  <a:pt x="329" y="1131"/>
                </a:lnTo>
                <a:lnTo>
                  <a:pt x="342" y="1140"/>
                </a:lnTo>
                <a:lnTo>
                  <a:pt x="352" y="1153"/>
                </a:lnTo>
                <a:lnTo>
                  <a:pt x="361" y="1162"/>
                </a:lnTo>
                <a:lnTo>
                  <a:pt x="370" y="1171"/>
                </a:lnTo>
                <a:lnTo>
                  <a:pt x="379" y="1180"/>
                </a:lnTo>
                <a:lnTo>
                  <a:pt x="393" y="1194"/>
                </a:lnTo>
                <a:lnTo>
                  <a:pt x="403" y="1203"/>
                </a:lnTo>
                <a:lnTo>
                  <a:pt x="412" y="1207"/>
                </a:lnTo>
                <a:lnTo>
                  <a:pt x="421" y="1216"/>
                </a:lnTo>
                <a:lnTo>
                  <a:pt x="430" y="1225"/>
                </a:lnTo>
                <a:lnTo>
                  <a:pt x="440" y="1230"/>
                </a:lnTo>
                <a:lnTo>
                  <a:pt x="453" y="1234"/>
                </a:lnTo>
                <a:lnTo>
                  <a:pt x="463" y="1239"/>
                </a:lnTo>
                <a:lnTo>
                  <a:pt x="472" y="1243"/>
                </a:lnTo>
                <a:lnTo>
                  <a:pt x="481" y="1243"/>
                </a:lnTo>
                <a:lnTo>
                  <a:pt x="491" y="1243"/>
                </a:lnTo>
                <a:lnTo>
                  <a:pt x="504" y="1243"/>
                </a:lnTo>
                <a:lnTo>
                  <a:pt x="514" y="1239"/>
                </a:lnTo>
                <a:lnTo>
                  <a:pt x="523" y="1234"/>
                </a:lnTo>
                <a:lnTo>
                  <a:pt x="532" y="1225"/>
                </a:lnTo>
                <a:lnTo>
                  <a:pt x="541" y="1216"/>
                </a:lnTo>
                <a:lnTo>
                  <a:pt x="551" y="1207"/>
                </a:lnTo>
                <a:lnTo>
                  <a:pt x="565" y="1194"/>
                </a:lnTo>
                <a:lnTo>
                  <a:pt x="574" y="1180"/>
                </a:lnTo>
                <a:lnTo>
                  <a:pt x="583" y="1167"/>
                </a:lnTo>
                <a:lnTo>
                  <a:pt x="592" y="1149"/>
                </a:lnTo>
                <a:lnTo>
                  <a:pt x="602" y="1127"/>
                </a:lnTo>
                <a:lnTo>
                  <a:pt x="615" y="1109"/>
                </a:lnTo>
                <a:lnTo>
                  <a:pt x="625" y="1082"/>
                </a:lnTo>
                <a:lnTo>
                  <a:pt x="634" y="1059"/>
                </a:lnTo>
                <a:lnTo>
                  <a:pt x="643" y="1032"/>
                </a:lnTo>
                <a:lnTo>
                  <a:pt x="653" y="1001"/>
                </a:lnTo>
                <a:lnTo>
                  <a:pt x="662" y="974"/>
                </a:lnTo>
                <a:lnTo>
                  <a:pt x="676" y="943"/>
                </a:lnTo>
                <a:lnTo>
                  <a:pt x="685" y="907"/>
                </a:lnTo>
                <a:lnTo>
                  <a:pt x="694" y="875"/>
                </a:lnTo>
                <a:lnTo>
                  <a:pt x="703" y="839"/>
                </a:lnTo>
                <a:lnTo>
                  <a:pt x="713" y="799"/>
                </a:lnTo>
                <a:lnTo>
                  <a:pt x="727" y="763"/>
                </a:lnTo>
                <a:lnTo>
                  <a:pt x="736" y="727"/>
                </a:lnTo>
                <a:lnTo>
                  <a:pt x="745" y="687"/>
                </a:lnTo>
                <a:lnTo>
                  <a:pt x="754" y="646"/>
                </a:lnTo>
                <a:lnTo>
                  <a:pt x="764" y="606"/>
                </a:lnTo>
                <a:lnTo>
                  <a:pt x="773" y="570"/>
                </a:lnTo>
                <a:lnTo>
                  <a:pt x="787" y="530"/>
                </a:lnTo>
                <a:lnTo>
                  <a:pt x="796" y="489"/>
                </a:lnTo>
                <a:lnTo>
                  <a:pt x="805" y="449"/>
                </a:lnTo>
                <a:lnTo>
                  <a:pt x="815" y="413"/>
                </a:lnTo>
                <a:lnTo>
                  <a:pt x="824" y="373"/>
                </a:lnTo>
                <a:lnTo>
                  <a:pt x="838" y="337"/>
                </a:lnTo>
                <a:lnTo>
                  <a:pt x="847" y="301"/>
                </a:lnTo>
                <a:lnTo>
                  <a:pt x="856" y="269"/>
                </a:lnTo>
                <a:lnTo>
                  <a:pt x="865" y="233"/>
                </a:lnTo>
                <a:lnTo>
                  <a:pt x="875" y="202"/>
                </a:lnTo>
                <a:lnTo>
                  <a:pt x="884" y="175"/>
                </a:lnTo>
                <a:lnTo>
                  <a:pt x="898" y="148"/>
                </a:lnTo>
                <a:lnTo>
                  <a:pt x="907" y="121"/>
                </a:lnTo>
                <a:lnTo>
                  <a:pt x="916" y="99"/>
                </a:lnTo>
                <a:lnTo>
                  <a:pt x="926" y="76"/>
                </a:lnTo>
                <a:lnTo>
                  <a:pt x="935" y="58"/>
                </a:lnTo>
                <a:lnTo>
                  <a:pt x="949" y="45"/>
                </a:lnTo>
                <a:lnTo>
                  <a:pt x="958" y="31"/>
                </a:lnTo>
                <a:lnTo>
                  <a:pt x="967" y="18"/>
                </a:lnTo>
                <a:lnTo>
                  <a:pt x="977" y="9"/>
                </a:lnTo>
                <a:lnTo>
                  <a:pt x="986" y="5"/>
                </a:lnTo>
                <a:lnTo>
                  <a:pt x="995" y="0"/>
                </a:lnTo>
                <a:lnTo>
                  <a:pt x="1009" y="0"/>
                </a:lnTo>
                <a:lnTo>
                  <a:pt x="1018" y="5"/>
                </a:lnTo>
                <a:lnTo>
                  <a:pt x="1027" y="9"/>
                </a:lnTo>
                <a:lnTo>
                  <a:pt x="1037" y="18"/>
                </a:lnTo>
                <a:lnTo>
                  <a:pt x="1046" y="31"/>
                </a:lnTo>
                <a:lnTo>
                  <a:pt x="1055" y="45"/>
                </a:lnTo>
                <a:lnTo>
                  <a:pt x="1069" y="58"/>
                </a:lnTo>
                <a:lnTo>
                  <a:pt x="1078" y="76"/>
                </a:lnTo>
                <a:lnTo>
                  <a:pt x="1088" y="99"/>
                </a:lnTo>
                <a:lnTo>
                  <a:pt x="1097" y="121"/>
                </a:lnTo>
                <a:lnTo>
                  <a:pt x="1106" y="148"/>
                </a:lnTo>
                <a:lnTo>
                  <a:pt x="1120" y="175"/>
                </a:lnTo>
                <a:lnTo>
                  <a:pt x="1129" y="202"/>
                </a:lnTo>
                <a:lnTo>
                  <a:pt x="1139" y="233"/>
                </a:lnTo>
                <a:lnTo>
                  <a:pt x="1148" y="269"/>
                </a:lnTo>
                <a:lnTo>
                  <a:pt x="1157" y="301"/>
                </a:lnTo>
                <a:lnTo>
                  <a:pt x="1166" y="337"/>
                </a:lnTo>
                <a:lnTo>
                  <a:pt x="1180" y="373"/>
                </a:lnTo>
                <a:lnTo>
                  <a:pt x="1189" y="413"/>
                </a:lnTo>
                <a:lnTo>
                  <a:pt x="1199" y="449"/>
                </a:lnTo>
                <a:lnTo>
                  <a:pt x="1208" y="489"/>
                </a:lnTo>
                <a:lnTo>
                  <a:pt x="1217" y="530"/>
                </a:lnTo>
                <a:lnTo>
                  <a:pt x="1231" y="570"/>
                </a:lnTo>
                <a:lnTo>
                  <a:pt x="1240" y="606"/>
                </a:lnTo>
                <a:lnTo>
                  <a:pt x="1250" y="646"/>
                </a:lnTo>
                <a:lnTo>
                  <a:pt x="1259" y="687"/>
                </a:lnTo>
                <a:lnTo>
                  <a:pt x="1268" y="727"/>
                </a:lnTo>
                <a:lnTo>
                  <a:pt x="1277" y="76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706920" y="5210280"/>
            <a:ext cx="1162080" cy="761760"/>
          </a:xfrm>
          <a:custGeom>
            <a:avLst/>
            <a:gdLst/>
            <a:ahLst/>
            <a:rect l="l" t="t" r="r" b="b"/>
            <a:pathLst>
              <a:path w="732" h="480">
                <a:moveTo>
                  <a:pt x="0" y="0"/>
                </a:moveTo>
                <a:lnTo>
                  <a:pt x="14" y="36"/>
                </a:lnTo>
                <a:lnTo>
                  <a:pt x="24" y="76"/>
                </a:lnTo>
                <a:lnTo>
                  <a:pt x="33" y="112"/>
                </a:lnTo>
                <a:lnTo>
                  <a:pt x="42" y="144"/>
                </a:lnTo>
                <a:lnTo>
                  <a:pt x="51" y="180"/>
                </a:lnTo>
                <a:lnTo>
                  <a:pt x="65" y="211"/>
                </a:lnTo>
                <a:lnTo>
                  <a:pt x="74" y="238"/>
                </a:lnTo>
                <a:lnTo>
                  <a:pt x="84" y="269"/>
                </a:lnTo>
                <a:lnTo>
                  <a:pt x="93" y="296"/>
                </a:lnTo>
                <a:lnTo>
                  <a:pt x="102" y="319"/>
                </a:lnTo>
                <a:lnTo>
                  <a:pt x="111" y="346"/>
                </a:lnTo>
                <a:lnTo>
                  <a:pt x="125" y="364"/>
                </a:lnTo>
                <a:lnTo>
                  <a:pt x="135" y="386"/>
                </a:lnTo>
                <a:lnTo>
                  <a:pt x="144" y="404"/>
                </a:lnTo>
                <a:lnTo>
                  <a:pt x="153" y="417"/>
                </a:lnTo>
                <a:lnTo>
                  <a:pt x="162" y="431"/>
                </a:lnTo>
                <a:lnTo>
                  <a:pt x="176" y="444"/>
                </a:lnTo>
                <a:lnTo>
                  <a:pt x="186" y="453"/>
                </a:lnTo>
                <a:lnTo>
                  <a:pt x="195" y="462"/>
                </a:lnTo>
                <a:lnTo>
                  <a:pt x="204" y="471"/>
                </a:lnTo>
                <a:lnTo>
                  <a:pt x="213" y="476"/>
                </a:lnTo>
                <a:lnTo>
                  <a:pt x="223" y="480"/>
                </a:lnTo>
                <a:lnTo>
                  <a:pt x="236" y="480"/>
                </a:lnTo>
                <a:lnTo>
                  <a:pt x="246" y="480"/>
                </a:lnTo>
                <a:lnTo>
                  <a:pt x="255" y="480"/>
                </a:lnTo>
                <a:lnTo>
                  <a:pt x="264" y="476"/>
                </a:lnTo>
                <a:lnTo>
                  <a:pt x="273" y="471"/>
                </a:lnTo>
                <a:lnTo>
                  <a:pt x="287" y="467"/>
                </a:lnTo>
                <a:lnTo>
                  <a:pt x="297" y="462"/>
                </a:lnTo>
                <a:lnTo>
                  <a:pt x="306" y="453"/>
                </a:lnTo>
                <a:lnTo>
                  <a:pt x="315" y="444"/>
                </a:lnTo>
                <a:lnTo>
                  <a:pt x="324" y="440"/>
                </a:lnTo>
                <a:lnTo>
                  <a:pt x="334" y="431"/>
                </a:lnTo>
                <a:lnTo>
                  <a:pt x="348" y="417"/>
                </a:lnTo>
                <a:lnTo>
                  <a:pt x="357" y="408"/>
                </a:lnTo>
                <a:lnTo>
                  <a:pt x="366" y="399"/>
                </a:lnTo>
                <a:lnTo>
                  <a:pt x="375" y="390"/>
                </a:lnTo>
                <a:lnTo>
                  <a:pt x="385" y="377"/>
                </a:lnTo>
                <a:lnTo>
                  <a:pt x="398" y="368"/>
                </a:lnTo>
                <a:lnTo>
                  <a:pt x="408" y="359"/>
                </a:lnTo>
                <a:lnTo>
                  <a:pt x="417" y="346"/>
                </a:lnTo>
                <a:lnTo>
                  <a:pt x="426" y="337"/>
                </a:lnTo>
                <a:lnTo>
                  <a:pt x="435" y="328"/>
                </a:lnTo>
                <a:lnTo>
                  <a:pt x="445" y="319"/>
                </a:lnTo>
                <a:lnTo>
                  <a:pt x="459" y="310"/>
                </a:lnTo>
                <a:lnTo>
                  <a:pt x="468" y="305"/>
                </a:lnTo>
                <a:lnTo>
                  <a:pt x="477" y="296"/>
                </a:lnTo>
                <a:lnTo>
                  <a:pt x="486" y="292"/>
                </a:lnTo>
                <a:lnTo>
                  <a:pt x="496" y="283"/>
                </a:lnTo>
                <a:lnTo>
                  <a:pt x="510" y="278"/>
                </a:lnTo>
                <a:lnTo>
                  <a:pt x="519" y="274"/>
                </a:lnTo>
                <a:lnTo>
                  <a:pt x="528" y="269"/>
                </a:lnTo>
                <a:lnTo>
                  <a:pt x="537" y="269"/>
                </a:lnTo>
                <a:lnTo>
                  <a:pt x="547" y="265"/>
                </a:lnTo>
                <a:lnTo>
                  <a:pt x="556" y="265"/>
                </a:lnTo>
                <a:lnTo>
                  <a:pt x="570" y="265"/>
                </a:lnTo>
                <a:lnTo>
                  <a:pt x="579" y="265"/>
                </a:lnTo>
                <a:lnTo>
                  <a:pt x="588" y="265"/>
                </a:lnTo>
                <a:lnTo>
                  <a:pt x="597" y="265"/>
                </a:lnTo>
                <a:lnTo>
                  <a:pt x="607" y="269"/>
                </a:lnTo>
                <a:lnTo>
                  <a:pt x="621" y="274"/>
                </a:lnTo>
                <a:lnTo>
                  <a:pt x="630" y="274"/>
                </a:lnTo>
                <a:lnTo>
                  <a:pt x="639" y="278"/>
                </a:lnTo>
                <a:lnTo>
                  <a:pt x="648" y="283"/>
                </a:lnTo>
                <a:lnTo>
                  <a:pt x="658" y="287"/>
                </a:lnTo>
                <a:lnTo>
                  <a:pt x="667" y="292"/>
                </a:lnTo>
                <a:lnTo>
                  <a:pt x="681" y="296"/>
                </a:lnTo>
                <a:lnTo>
                  <a:pt x="690" y="305"/>
                </a:lnTo>
                <a:lnTo>
                  <a:pt x="699" y="310"/>
                </a:lnTo>
                <a:lnTo>
                  <a:pt x="709" y="314"/>
                </a:lnTo>
                <a:lnTo>
                  <a:pt x="718" y="319"/>
                </a:lnTo>
                <a:lnTo>
                  <a:pt x="732" y="3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698480" y="57387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957400" y="49021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971800" y="4419720"/>
            <a:ext cx="5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5257800" y="3809880"/>
          <a:ext cx="363060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30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6" name=""/>
          <p:cNvSpPr/>
          <p:nvPr/>
        </p:nvSpPr>
        <p:spPr>
          <a:xfrm>
            <a:off x="5486400" y="5105520"/>
            <a:ext cx="3505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transdu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7" name=""/>
          <p:cNvGraphicFramePr/>
          <p:nvPr/>
        </p:nvGraphicFramePr>
        <p:xfrm>
          <a:off x="3581280" y="2514600"/>
          <a:ext cx="502920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514600"/>
                    <a:ext cx="50292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"/>
          <p:cNvSpPr/>
          <p:nvPr/>
        </p:nvSpPr>
        <p:spPr>
          <a:xfrm>
            <a:off x="2590920" y="624852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y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094120" y="19000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1" name=""/>
          <p:cNvGraphicFramePr/>
          <p:nvPr/>
        </p:nvGraphicFramePr>
        <p:xfrm>
          <a:off x="3505320" y="1600200"/>
          <a:ext cx="1593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600200"/>
                    <a:ext cx="1593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3" name=""/>
          <p:cNvSpPr/>
          <p:nvPr/>
        </p:nvSpPr>
        <p:spPr>
          <a:xfrm rot="2330400">
            <a:off x="1749600" y="2001960"/>
            <a:ext cx="3578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8077320" y="4495680"/>
            <a:ext cx="380880" cy="500040"/>
            <a:chOff x="8077320" y="4495680"/>
            <a:chExt cx="380880" cy="500040"/>
          </a:xfrm>
        </p:grpSpPr>
        <p:sp>
          <p:nvSpPr>
            <p:cNvPr id="1585" name=""/>
            <p:cNvSpPr/>
            <p:nvPr/>
          </p:nvSpPr>
          <p:spPr>
            <a:xfrm>
              <a:off x="8216640" y="492120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77320" y="4495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91440" y="485748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8261280" y="4685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1375200" y="109440"/>
            <a:ext cx="66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response at normal incidence to a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xial approxi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1231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24080" y="22366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05320" y="2832120"/>
            <a:ext cx="4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105520" y="290844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4" name=""/>
          <p:cNvGraphicFramePr/>
          <p:nvPr/>
        </p:nvGraphicFramePr>
        <p:xfrm>
          <a:off x="533520" y="3352680"/>
          <a:ext cx="77724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77724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"/>
          <p:cNvSpPr/>
          <p:nvPr/>
        </p:nvSpPr>
        <p:spPr>
          <a:xfrm>
            <a:off x="5908680" y="2212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943600" y="237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3002040" y="2832120"/>
            <a:ext cx="1417680" cy="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2832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1" name=""/>
          <p:cNvGraphicFramePr/>
          <p:nvPr/>
        </p:nvGraphicFramePr>
        <p:xfrm>
          <a:off x="6934320" y="4680000"/>
          <a:ext cx="1981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680000"/>
                    <a:ext cx="1981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3" name=""/>
          <p:cNvSpPr/>
          <p:nvPr/>
        </p:nvSpPr>
        <p:spPr>
          <a:xfrm>
            <a:off x="1600560" y="1295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48680" y="13842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1470240" y="850680"/>
            <a:ext cx="2177640" cy="322560"/>
            <a:chOff x="1470240" y="850680"/>
            <a:chExt cx="2177640" cy="322560"/>
          </a:xfrm>
        </p:grpSpPr>
        <p:grpSp>
          <p:nvGrpSpPr>
            <p:cNvPr id="1606" name=""/>
            <p:cNvGrpSpPr/>
            <p:nvPr/>
          </p:nvGrpSpPr>
          <p:grpSpPr>
            <a:xfrm>
              <a:off x="1470240" y="850680"/>
              <a:ext cx="866520" cy="313200"/>
              <a:chOff x="1470240" y="850680"/>
              <a:chExt cx="866520" cy="313200"/>
            </a:xfrm>
          </p:grpSpPr>
          <p:sp>
            <p:nvSpPr>
              <p:cNvPr id="1607" name=""/>
              <p:cNvSpPr/>
              <p:nvPr/>
            </p:nvSpPr>
            <p:spPr>
              <a:xfrm flipV="1">
                <a:off x="1470240" y="8503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flipV="1">
                <a:off x="1899000" y="8600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2357640" y="860040"/>
              <a:ext cx="866520" cy="313200"/>
              <a:chOff x="2357640" y="860040"/>
              <a:chExt cx="866520" cy="313200"/>
            </a:xfrm>
          </p:grpSpPr>
          <p:sp>
            <p:nvSpPr>
              <p:cNvPr id="1610" name=""/>
              <p:cNvSpPr/>
              <p:nvPr/>
            </p:nvSpPr>
            <p:spPr>
              <a:xfrm flipV="1">
                <a:off x="2357640" y="85968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 flipV="1">
                <a:off x="2786400" y="86940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1927440" y="850680"/>
              <a:ext cx="866520" cy="313200"/>
              <a:chOff x="1927440" y="850680"/>
              <a:chExt cx="866520" cy="313200"/>
            </a:xfrm>
          </p:grpSpPr>
          <p:sp>
            <p:nvSpPr>
              <p:cNvPr id="1613" name=""/>
              <p:cNvSpPr/>
              <p:nvPr/>
            </p:nvSpPr>
            <p:spPr>
              <a:xfrm flipV="1">
                <a:off x="1927440" y="8503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 flipV="1">
                <a:off x="2356200" y="8600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2781360" y="856800"/>
              <a:ext cx="866520" cy="313200"/>
              <a:chOff x="2781360" y="856800"/>
              <a:chExt cx="866520" cy="313200"/>
            </a:xfrm>
          </p:grpSpPr>
          <p:sp>
            <p:nvSpPr>
              <p:cNvPr id="1616" name=""/>
              <p:cNvSpPr/>
              <p:nvPr/>
            </p:nvSpPr>
            <p:spPr>
              <a:xfrm flipV="1">
                <a:off x="2781360" y="8564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 flipV="1">
                <a:off x="3210120" y="8661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8" name=""/>
          <p:cNvSpPr/>
          <p:nvPr/>
        </p:nvSpPr>
        <p:spPr>
          <a:xfrm>
            <a:off x="5334120" y="47242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533412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81532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1" name=""/>
          <p:cNvGraphicFramePr/>
          <p:nvPr/>
        </p:nvGraphicFramePr>
        <p:xfrm>
          <a:off x="5181480" y="4800600"/>
          <a:ext cx="137160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800600"/>
                    <a:ext cx="1371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3" name=""/>
          <p:cNvSpPr/>
          <p:nvPr/>
        </p:nvSpPr>
        <p:spPr>
          <a:xfrm>
            <a:off x="5106960" y="22287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029200" y="2286000"/>
            <a:ext cx="45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25146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519560" y="4648320"/>
            <a:ext cx="31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locity/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26708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586728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28120" y="5791320"/>
            <a:ext cx="34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 as for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0" name=""/>
          <p:cNvGraphicFramePr/>
          <p:nvPr/>
        </p:nvGraphicFramePr>
        <p:xfrm>
          <a:off x="2743200" y="1295280"/>
          <a:ext cx="7365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295280"/>
                    <a:ext cx="736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2" name=""/>
          <p:cNvGraphicFramePr/>
          <p:nvPr/>
        </p:nvGraphicFramePr>
        <p:xfrm>
          <a:off x="6705720" y="1447920"/>
          <a:ext cx="132084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1447920"/>
                    <a:ext cx="13208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4" name=""/>
          <p:cNvGrpSpPr/>
          <p:nvPr/>
        </p:nvGrpSpPr>
        <p:grpSpPr>
          <a:xfrm>
            <a:off x="6324480" y="5562720"/>
            <a:ext cx="381240" cy="500040"/>
            <a:chOff x="6324480" y="5562720"/>
            <a:chExt cx="381240" cy="500040"/>
          </a:xfrm>
        </p:grpSpPr>
        <p:sp>
          <p:nvSpPr>
            <p:cNvPr id="1635" name=""/>
            <p:cNvSpPr/>
            <p:nvPr/>
          </p:nvSpPr>
          <p:spPr>
            <a:xfrm>
              <a:off x="6464160" y="598824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324480" y="55627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8960" y="592452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508800" y="5752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rot="12474600">
            <a:off x="2914200" y="187128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3713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3713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892160" y="1925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922400" y="2595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905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200400" y="1905120"/>
            <a:ext cx="1208160" cy="15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19720" y="2057400"/>
            <a:ext cx="21333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3124080" y="2415960"/>
            <a:ext cx="129708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4419720" y="152388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858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86920" y="286056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0217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 flipV="1">
            <a:off x="2090880" y="1501560"/>
            <a:ext cx="9903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093760" y="2505240"/>
            <a:ext cx="499284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7077240" y="1517400"/>
            <a:ext cx="9903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3073320" y="1518840"/>
            <a:ext cx="502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702320" y="184932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675320" y="107172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675320" y="1224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589720" y="1224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979880" y="1300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84800" y="1300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816440" y="10954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132520" y="1071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437080" y="1108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657040" y="82692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904000" y="19098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5437080" y="2062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4065480" y="190980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132520" y="1986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210640" y="2138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132520" y="2747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686760" y="3814920"/>
            <a:ext cx="3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010040" y="382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220280" y="2595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217760" y="3052800"/>
            <a:ext cx="277560" cy="5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3913200" y="30524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244040" y="35020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88320" y="29005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578400" y="278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421160" y="335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659120" y="26002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78720" y="2023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74360" y="372276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ulk wa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2" name=""/>
          <p:cNvGraphicFramePr/>
          <p:nvPr/>
        </p:nvGraphicFramePr>
        <p:xfrm>
          <a:off x="2160720" y="4500720"/>
          <a:ext cx="56386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720" y="4500720"/>
                    <a:ext cx="56386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4" name=""/>
          <p:cNvSpPr/>
          <p:nvPr/>
        </p:nvSpPr>
        <p:spPr>
          <a:xfrm>
            <a:off x="5025960" y="187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4370400" y="1947960"/>
            <a:ext cx="5587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955840" y="2960640"/>
            <a:ext cx="15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12440" y="228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act P-wave Transducer 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28800" y="685800"/>
            <a:ext cx="5791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439000" y="27432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981080" y="1600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5080" y="114300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606240" y="30492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it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3" name=""/>
          <p:cNvGraphicFramePr/>
          <p:nvPr/>
        </p:nvGraphicFramePr>
        <p:xfrm>
          <a:off x="3505320" y="304920"/>
          <a:ext cx="419076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920"/>
                    <a:ext cx="419076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5" name=""/>
          <p:cNvGraphicFramePr/>
          <p:nvPr/>
        </p:nvGraphicFramePr>
        <p:xfrm>
          <a:off x="609480" y="2286000"/>
          <a:ext cx="51818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86000"/>
                    <a:ext cx="5181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7" name=""/>
          <p:cNvGraphicFramePr/>
          <p:nvPr/>
        </p:nvGraphicFramePr>
        <p:xfrm>
          <a:off x="6705720" y="2057400"/>
          <a:ext cx="106668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057400"/>
                    <a:ext cx="10666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9" name=""/>
          <p:cNvSpPr/>
          <p:nvPr/>
        </p:nvSpPr>
        <p:spPr>
          <a:xfrm>
            <a:off x="1965240" y="4175280"/>
            <a:ext cx="103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41960" y="36417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98680" y="487692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43200" y="2971800"/>
            <a:ext cx="4876920" cy="36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376440" y="3243240"/>
            <a:ext cx="3762720" cy="29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371760" y="6221520"/>
            <a:ext cx="377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71760" y="3238560"/>
            <a:ext cx="377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7143840" y="3238560"/>
            <a:ext cx="1440" cy="29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3371760" y="3238560"/>
            <a:ext cx="1800" cy="29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371760" y="6221520"/>
            <a:ext cx="377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3371760" y="3238560"/>
            <a:ext cx="1800" cy="29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3371760" y="61833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371760" y="32385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43320" y="6240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3790800" y="61833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790800" y="32385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73428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421020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21020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5332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462924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62924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57236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504828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4828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99140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46732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6732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44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86360" y="61833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886360" y="32385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82984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305400" y="61833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305400" y="32385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4888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672480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72480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66792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7143840" y="61833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143840" y="3238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086960" y="6240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371760" y="622152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7105680" y="622152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286080" y="6154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371760" y="592596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7105680" y="592596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200400" y="58593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371760" y="56214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7105680" y="56214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200400" y="55548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371760" y="53262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7105680" y="53262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200400" y="52592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71760" y="503064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7105680" y="503064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200400" y="49640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71760" y="47340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7105680" y="47340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200400" y="46674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371760" y="442908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7105680" y="442908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200400" y="43624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371760" y="41338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7105680" y="41338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200400" y="40672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71760" y="38386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7105680" y="38386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00400" y="37720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371760" y="35337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7105680" y="35337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200400" y="34671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371760" y="32385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7105680" y="32385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286080" y="3171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371760" y="3238560"/>
            <a:ext cx="377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3371760" y="3238560"/>
            <a:ext cx="1800" cy="29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7143840" y="3238560"/>
            <a:ext cx="1440" cy="29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371760" y="3238560"/>
            <a:ext cx="3772080" cy="2982960"/>
          </a:xfrm>
          <a:custGeom>
            <a:avLst/>
            <a:gdLst/>
            <a:ahLst/>
            <a:rect l="l" t="t" r="r" b="b"/>
            <a:pathLst>
              <a:path w="2376" h="1879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6" y="0"/>
                </a:lnTo>
                <a:lnTo>
                  <a:pt x="48" y="0"/>
                </a:lnTo>
                <a:lnTo>
                  <a:pt x="60" y="0"/>
                </a:lnTo>
                <a:lnTo>
                  <a:pt x="72" y="0"/>
                </a:lnTo>
                <a:lnTo>
                  <a:pt x="84" y="6"/>
                </a:lnTo>
                <a:lnTo>
                  <a:pt x="96" y="6"/>
                </a:lnTo>
                <a:lnTo>
                  <a:pt x="108" y="6"/>
                </a:lnTo>
                <a:lnTo>
                  <a:pt x="120" y="6"/>
                </a:lnTo>
                <a:lnTo>
                  <a:pt x="132" y="6"/>
                </a:lnTo>
                <a:lnTo>
                  <a:pt x="144" y="12"/>
                </a:lnTo>
                <a:lnTo>
                  <a:pt x="156" y="12"/>
                </a:lnTo>
                <a:lnTo>
                  <a:pt x="168" y="12"/>
                </a:lnTo>
                <a:lnTo>
                  <a:pt x="180" y="12"/>
                </a:lnTo>
                <a:lnTo>
                  <a:pt x="192" y="18"/>
                </a:lnTo>
                <a:lnTo>
                  <a:pt x="204" y="18"/>
                </a:lnTo>
                <a:lnTo>
                  <a:pt x="216" y="18"/>
                </a:lnTo>
                <a:lnTo>
                  <a:pt x="228" y="24"/>
                </a:lnTo>
                <a:lnTo>
                  <a:pt x="240" y="24"/>
                </a:lnTo>
                <a:lnTo>
                  <a:pt x="252" y="30"/>
                </a:lnTo>
                <a:lnTo>
                  <a:pt x="264" y="30"/>
                </a:lnTo>
                <a:lnTo>
                  <a:pt x="276" y="36"/>
                </a:lnTo>
                <a:lnTo>
                  <a:pt x="288" y="36"/>
                </a:lnTo>
                <a:lnTo>
                  <a:pt x="300" y="42"/>
                </a:lnTo>
                <a:lnTo>
                  <a:pt x="312" y="42"/>
                </a:lnTo>
                <a:lnTo>
                  <a:pt x="324" y="48"/>
                </a:lnTo>
                <a:lnTo>
                  <a:pt x="336" y="48"/>
                </a:lnTo>
                <a:lnTo>
                  <a:pt x="348" y="54"/>
                </a:lnTo>
                <a:lnTo>
                  <a:pt x="360" y="60"/>
                </a:lnTo>
                <a:lnTo>
                  <a:pt x="372" y="60"/>
                </a:lnTo>
                <a:lnTo>
                  <a:pt x="384" y="66"/>
                </a:lnTo>
                <a:lnTo>
                  <a:pt x="396" y="72"/>
                </a:lnTo>
                <a:lnTo>
                  <a:pt x="408" y="72"/>
                </a:lnTo>
                <a:lnTo>
                  <a:pt x="420" y="78"/>
                </a:lnTo>
                <a:lnTo>
                  <a:pt x="432" y="84"/>
                </a:lnTo>
                <a:lnTo>
                  <a:pt x="444" y="84"/>
                </a:lnTo>
                <a:lnTo>
                  <a:pt x="456" y="90"/>
                </a:lnTo>
                <a:lnTo>
                  <a:pt x="468" y="96"/>
                </a:lnTo>
                <a:lnTo>
                  <a:pt x="480" y="102"/>
                </a:lnTo>
                <a:lnTo>
                  <a:pt x="492" y="108"/>
                </a:lnTo>
                <a:lnTo>
                  <a:pt x="504" y="108"/>
                </a:lnTo>
                <a:lnTo>
                  <a:pt x="516" y="114"/>
                </a:lnTo>
                <a:lnTo>
                  <a:pt x="528" y="120"/>
                </a:lnTo>
                <a:lnTo>
                  <a:pt x="540" y="126"/>
                </a:lnTo>
                <a:lnTo>
                  <a:pt x="552" y="132"/>
                </a:lnTo>
                <a:lnTo>
                  <a:pt x="564" y="138"/>
                </a:lnTo>
                <a:lnTo>
                  <a:pt x="576" y="144"/>
                </a:lnTo>
                <a:lnTo>
                  <a:pt x="588" y="150"/>
                </a:lnTo>
                <a:lnTo>
                  <a:pt x="594" y="156"/>
                </a:lnTo>
                <a:lnTo>
                  <a:pt x="606" y="162"/>
                </a:lnTo>
                <a:lnTo>
                  <a:pt x="618" y="168"/>
                </a:lnTo>
                <a:lnTo>
                  <a:pt x="630" y="174"/>
                </a:lnTo>
                <a:lnTo>
                  <a:pt x="642" y="180"/>
                </a:lnTo>
                <a:lnTo>
                  <a:pt x="654" y="186"/>
                </a:lnTo>
                <a:lnTo>
                  <a:pt x="666" y="192"/>
                </a:lnTo>
                <a:lnTo>
                  <a:pt x="678" y="198"/>
                </a:lnTo>
                <a:lnTo>
                  <a:pt x="690" y="204"/>
                </a:lnTo>
                <a:lnTo>
                  <a:pt x="702" y="216"/>
                </a:lnTo>
                <a:lnTo>
                  <a:pt x="714" y="222"/>
                </a:lnTo>
                <a:lnTo>
                  <a:pt x="726" y="228"/>
                </a:lnTo>
                <a:lnTo>
                  <a:pt x="738" y="234"/>
                </a:lnTo>
                <a:lnTo>
                  <a:pt x="750" y="240"/>
                </a:lnTo>
                <a:lnTo>
                  <a:pt x="762" y="246"/>
                </a:lnTo>
                <a:lnTo>
                  <a:pt x="774" y="258"/>
                </a:lnTo>
                <a:lnTo>
                  <a:pt x="786" y="264"/>
                </a:lnTo>
                <a:lnTo>
                  <a:pt x="798" y="270"/>
                </a:lnTo>
                <a:lnTo>
                  <a:pt x="810" y="276"/>
                </a:lnTo>
                <a:lnTo>
                  <a:pt x="822" y="288"/>
                </a:lnTo>
                <a:lnTo>
                  <a:pt x="834" y="294"/>
                </a:lnTo>
                <a:lnTo>
                  <a:pt x="846" y="300"/>
                </a:lnTo>
                <a:lnTo>
                  <a:pt x="858" y="312"/>
                </a:lnTo>
                <a:lnTo>
                  <a:pt x="870" y="318"/>
                </a:lnTo>
                <a:lnTo>
                  <a:pt x="882" y="324"/>
                </a:lnTo>
                <a:lnTo>
                  <a:pt x="894" y="336"/>
                </a:lnTo>
                <a:lnTo>
                  <a:pt x="906" y="342"/>
                </a:lnTo>
                <a:lnTo>
                  <a:pt x="918" y="348"/>
                </a:lnTo>
                <a:lnTo>
                  <a:pt x="930" y="360"/>
                </a:lnTo>
                <a:lnTo>
                  <a:pt x="942" y="366"/>
                </a:lnTo>
                <a:lnTo>
                  <a:pt x="954" y="378"/>
                </a:lnTo>
                <a:lnTo>
                  <a:pt x="966" y="384"/>
                </a:lnTo>
                <a:lnTo>
                  <a:pt x="978" y="390"/>
                </a:lnTo>
                <a:lnTo>
                  <a:pt x="990" y="402"/>
                </a:lnTo>
                <a:lnTo>
                  <a:pt x="1002" y="408"/>
                </a:lnTo>
                <a:lnTo>
                  <a:pt x="1014" y="420"/>
                </a:lnTo>
                <a:lnTo>
                  <a:pt x="1026" y="426"/>
                </a:lnTo>
                <a:lnTo>
                  <a:pt x="1038" y="438"/>
                </a:lnTo>
                <a:lnTo>
                  <a:pt x="1050" y="444"/>
                </a:lnTo>
                <a:lnTo>
                  <a:pt x="1062" y="456"/>
                </a:lnTo>
                <a:lnTo>
                  <a:pt x="1074" y="462"/>
                </a:lnTo>
                <a:lnTo>
                  <a:pt x="1086" y="474"/>
                </a:lnTo>
                <a:lnTo>
                  <a:pt x="1098" y="480"/>
                </a:lnTo>
                <a:lnTo>
                  <a:pt x="1110" y="492"/>
                </a:lnTo>
                <a:lnTo>
                  <a:pt x="1122" y="498"/>
                </a:lnTo>
                <a:lnTo>
                  <a:pt x="1134" y="510"/>
                </a:lnTo>
                <a:lnTo>
                  <a:pt x="1146" y="516"/>
                </a:lnTo>
                <a:lnTo>
                  <a:pt x="1158" y="528"/>
                </a:lnTo>
                <a:lnTo>
                  <a:pt x="1170" y="540"/>
                </a:lnTo>
                <a:lnTo>
                  <a:pt x="1182" y="546"/>
                </a:lnTo>
                <a:lnTo>
                  <a:pt x="1194" y="558"/>
                </a:lnTo>
                <a:lnTo>
                  <a:pt x="1206" y="564"/>
                </a:lnTo>
                <a:lnTo>
                  <a:pt x="1218" y="576"/>
                </a:lnTo>
                <a:lnTo>
                  <a:pt x="1230" y="582"/>
                </a:lnTo>
                <a:lnTo>
                  <a:pt x="1242" y="594"/>
                </a:lnTo>
                <a:lnTo>
                  <a:pt x="1254" y="606"/>
                </a:lnTo>
                <a:lnTo>
                  <a:pt x="1266" y="612"/>
                </a:lnTo>
                <a:lnTo>
                  <a:pt x="1278" y="624"/>
                </a:lnTo>
                <a:lnTo>
                  <a:pt x="1290" y="630"/>
                </a:lnTo>
                <a:lnTo>
                  <a:pt x="1302" y="642"/>
                </a:lnTo>
                <a:lnTo>
                  <a:pt x="1314" y="654"/>
                </a:lnTo>
                <a:lnTo>
                  <a:pt x="1326" y="660"/>
                </a:lnTo>
                <a:lnTo>
                  <a:pt x="1338" y="672"/>
                </a:lnTo>
                <a:lnTo>
                  <a:pt x="1350" y="684"/>
                </a:lnTo>
                <a:lnTo>
                  <a:pt x="1362" y="690"/>
                </a:lnTo>
                <a:lnTo>
                  <a:pt x="1374" y="702"/>
                </a:lnTo>
                <a:lnTo>
                  <a:pt x="1386" y="708"/>
                </a:lnTo>
                <a:lnTo>
                  <a:pt x="1398" y="720"/>
                </a:lnTo>
                <a:lnTo>
                  <a:pt x="1410" y="732"/>
                </a:lnTo>
                <a:lnTo>
                  <a:pt x="1422" y="738"/>
                </a:lnTo>
                <a:lnTo>
                  <a:pt x="1434" y="750"/>
                </a:lnTo>
                <a:lnTo>
                  <a:pt x="1446" y="762"/>
                </a:lnTo>
                <a:lnTo>
                  <a:pt x="1458" y="768"/>
                </a:lnTo>
                <a:lnTo>
                  <a:pt x="1470" y="780"/>
                </a:lnTo>
                <a:lnTo>
                  <a:pt x="1482" y="792"/>
                </a:lnTo>
                <a:lnTo>
                  <a:pt x="1494" y="798"/>
                </a:lnTo>
                <a:lnTo>
                  <a:pt x="1506" y="810"/>
                </a:lnTo>
                <a:lnTo>
                  <a:pt x="1518" y="822"/>
                </a:lnTo>
                <a:lnTo>
                  <a:pt x="1530" y="828"/>
                </a:lnTo>
                <a:lnTo>
                  <a:pt x="1542" y="840"/>
                </a:lnTo>
                <a:lnTo>
                  <a:pt x="1554" y="852"/>
                </a:lnTo>
                <a:lnTo>
                  <a:pt x="1566" y="858"/>
                </a:lnTo>
                <a:lnTo>
                  <a:pt x="1578" y="870"/>
                </a:lnTo>
                <a:lnTo>
                  <a:pt x="1590" y="882"/>
                </a:lnTo>
                <a:lnTo>
                  <a:pt x="1602" y="888"/>
                </a:lnTo>
                <a:lnTo>
                  <a:pt x="1614" y="900"/>
                </a:lnTo>
                <a:lnTo>
                  <a:pt x="1626" y="906"/>
                </a:lnTo>
                <a:lnTo>
                  <a:pt x="1638" y="918"/>
                </a:lnTo>
                <a:lnTo>
                  <a:pt x="1650" y="930"/>
                </a:lnTo>
                <a:lnTo>
                  <a:pt x="1662" y="936"/>
                </a:lnTo>
                <a:lnTo>
                  <a:pt x="1674" y="948"/>
                </a:lnTo>
                <a:lnTo>
                  <a:pt x="1686" y="960"/>
                </a:lnTo>
                <a:lnTo>
                  <a:pt x="1698" y="966"/>
                </a:lnTo>
                <a:lnTo>
                  <a:pt x="1710" y="978"/>
                </a:lnTo>
                <a:lnTo>
                  <a:pt x="1722" y="991"/>
                </a:lnTo>
                <a:lnTo>
                  <a:pt x="1734" y="1003"/>
                </a:lnTo>
                <a:lnTo>
                  <a:pt x="1746" y="1009"/>
                </a:lnTo>
                <a:lnTo>
                  <a:pt x="1758" y="1021"/>
                </a:lnTo>
                <a:lnTo>
                  <a:pt x="1770" y="1033"/>
                </a:lnTo>
                <a:lnTo>
                  <a:pt x="1782" y="1039"/>
                </a:lnTo>
                <a:lnTo>
                  <a:pt x="1788" y="1051"/>
                </a:lnTo>
                <a:lnTo>
                  <a:pt x="1800" y="1063"/>
                </a:lnTo>
                <a:lnTo>
                  <a:pt x="1812" y="1069"/>
                </a:lnTo>
                <a:lnTo>
                  <a:pt x="1824" y="1081"/>
                </a:lnTo>
                <a:lnTo>
                  <a:pt x="1836" y="1093"/>
                </a:lnTo>
                <a:lnTo>
                  <a:pt x="1848" y="1105"/>
                </a:lnTo>
                <a:lnTo>
                  <a:pt x="1860" y="1111"/>
                </a:lnTo>
                <a:lnTo>
                  <a:pt x="1872" y="1123"/>
                </a:lnTo>
                <a:lnTo>
                  <a:pt x="1884" y="1135"/>
                </a:lnTo>
                <a:lnTo>
                  <a:pt x="1896" y="1147"/>
                </a:lnTo>
                <a:lnTo>
                  <a:pt x="1908" y="1159"/>
                </a:lnTo>
                <a:lnTo>
                  <a:pt x="1920" y="1171"/>
                </a:lnTo>
                <a:lnTo>
                  <a:pt x="1932" y="1177"/>
                </a:lnTo>
                <a:lnTo>
                  <a:pt x="1944" y="1189"/>
                </a:lnTo>
                <a:lnTo>
                  <a:pt x="1956" y="1201"/>
                </a:lnTo>
                <a:lnTo>
                  <a:pt x="1968" y="1213"/>
                </a:lnTo>
                <a:lnTo>
                  <a:pt x="1980" y="1225"/>
                </a:lnTo>
                <a:lnTo>
                  <a:pt x="1992" y="1237"/>
                </a:lnTo>
                <a:lnTo>
                  <a:pt x="2004" y="1249"/>
                </a:lnTo>
                <a:lnTo>
                  <a:pt x="2016" y="1261"/>
                </a:lnTo>
                <a:lnTo>
                  <a:pt x="2028" y="1273"/>
                </a:lnTo>
                <a:lnTo>
                  <a:pt x="2040" y="1291"/>
                </a:lnTo>
                <a:lnTo>
                  <a:pt x="2052" y="1303"/>
                </a:lnTo>
                <a:lnTo>
                  <a:pt x="2064" y="1315"/>
                </a:lnTo>
                <a:lnTo>
                  <a:pt x="2076" y="1327"/>
                </a:lnTo>
                <a:lnTo>
                  <a:pt x="2088" y="1345"/>
                </a:lnTo>
                <a:lnTo>
                  <a:pt x="2100" y="1357"/>
                </a:lnTo>
                <a:lnTo>
                  <a:pt x="2112" y="1369"/>
                </a:lnTo>
                <a:lnTo>
                  <a:pt x="2124" y="1387"/>
                </a:lnTo>
                <a:lnTo>
                  <a:pt x="2136" y="1405"/>
                </a:lnTo>
                <a:lnTo>
                  <a:pt x="2148" y="1417"/>
                </a:lnTo>
                <a:lnTo>
                  <a:pt x="2160" y="1435"/>
                </a:lnTo>
                <a:lnTo>
                  <a:pt x="2172" y="1453"/>
                </a:lnTo>
                <a:lnTo>
                  <a:pt x="2184" y="1471"/>
                </a:lnTo>
                <a:lnTo>
                  <a:pt x="2196" y="1489"/>
                </a:lnTo>
                <a:lnTo>
                  <a:pt x="2208" y="1507"/>
                </a:lnTo>
                <a:lnTo>
                  <a:pt x="2220" y="1531"/>
                </a:lnTo>
                <a:lnTo>
                  <a:pt x="2232" y="1549"/>
                </a:lnTo>
                <a:lnTo>
                  <a:pt x="2244" y="1573"/>
                </a:lnTo>
                <a:lnTo>
                  <a:pt x="2256" y="1591"/>
                </a:lnTo>
                <a:lnTo>
                  <a:pt x="2268" y="1615"/>
                </a:lnTo>
                <a:lnTo>
                  <a:pt x="2280" y="1639"/>
                </a:lnTo>
                <a:lnTo>
                  <a:pt x="2292" y="1663"/>
                </a:lnTo>
                <a:lnTo>
                  <a:pt x="2304" y="1693"/>
                </a:lnTo>
                <a:lnTo>
                  <a:pt x="2316" y="1717"/>
                </a:lnTo>
                <a:lnTo>
                  <a:pt x="2328" y="1747"/>
                </a:lnTo>
                <a:lnTo>
                  <a:pt x="2340" y="1777"/>
                </a:lnTo>
                <a:lnTo>
                  <a:pt x="2352" y="1813"/>
                </a:lnTo>
                <a:lnTo>
                  <a:pt x="2364" y="1843"/>
                </a:lnTo>
                <a:lnTo>
                  <a:pt x="2376" y="187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371760" y="5335560"/>
            <a:ext cx="3772080" cy="885960"/>
          </a:xfrm>
          <a:custGeom>
            <a:avLst/>
            <a:gdLst/>
            <a:ahLst/>
            <a:rect l="l" t="t" r="r" b="b"/>
            <a:pathLst>
              <a:path w="2376" h="558">
                <a:moveTo>
                  <a:pt x="0" y="558"/>
                </a:moveTo>
                <a:lnTo>
                  <a:pt x="12" y="540"/>
                </a:lnTo>
                <a:lnTo>
                  <a:pt x="24" y="528"/>
                </a:lnTo>
                <a:lnTo>
                  <a:pt x="36" y="510"/>
                </a:lnTo>
                <a:lnTo>
                  <a:pt x="48" y="492"/>
                </a:lnTo>
                <a:lnTo>
                  <a:pt x="60" y="480"/>
                </a:lnTo>
                <a:lnTo>
                  <a:pt x="72" y="462"/>
                </a:lnTo>
                <a:lnTo>
                  <a:pt x="84" y="444"/>
                </a:lnTo>
                <a:lnTo>
                  <a:pt x="96" y="432"/>
                </a:lnTo>
                <a:lnTo>
                  <a:pt x="108" y="414"/>
                </a:lnTo>
                <a:lnTo>
                  <a:pt x="120" y="402"/>
                </a:lnTo>
                <a:lnTo>
                  <a:pt x="132" y="384"/>
                </a:lnTo>
                <a:lnTo>
                  <a:pt x="144" y="366"/>
                </a:lnTo>
                <a:lnTo>
                  <a:pt x="156" y="354"/>
                </a:lnTo>
                <a:lnTo>
                  <a:pt x="168" y="336"/>
                </a:lnTo>
                <a:lnTo>
                  <a:pt x="180" y="324"/>
                </a:lnTo>
                <a:lnTo>
                  <a:pt x="192" y="306"/>
                </a:lnTo>
                <a:lnTo>
                  <a:pt x="204" y="294"/>
                </a:lnTo>
                <a:lnTo>
                  <a:pt x="216" y="282"/>
                </a:lnTo>
                <a:lnTo>
                  <a:pt x="228" y="264"/>
                </a:lnTo>
                <a:lnTo>
                  <a:pt x="240" y="252"/>
                </a:lnTo>
                <a:lnTo>
                  <a:pt x="252" y="240"/>
                </a:lnTo>
                <a:lnTo>
                  <a:pt x="264" y="222"/>
                </a:lnTo>
                <a:lnTo>
                  <a:pt x="276" y="210"/>
                </a:lnTo>
                <a:lnTo>
                  <a:pt x="288" y="198"/>
                </a:lnTo>
                <a:lnTo>
                  <a:pt x="300" y="186"/>
                </a:lnTo>
                <a:lnTo>
                  <a:pt x="312" y="174"/>
                </a:lnTo>
                <a:lnTo>
                  <a:pt x="324" y="162"/>
                </a:lnTo>
                <a:lnTo>
                  <a:pt x="336" y="150"/>
                </a:lnTo>
                <a:lnTo>
                  <a:pt x="348" y="138"/>
                </a:lnTo>
                <a:lnTo>
                  <a:pt x="360" y="126"/>
                </a:lnTo>
                <a:lnTo>
                  <a:pt x="372" y="114"/>
                </a:lnTo>
                <a:lnTo>
                  <a:pt x="384" y="108"/>
                </a:lnTo>
                <a:lnTo>
                  <a:pt x="396" y="96"/>
                </a:lnTo>
                <a:lnTo>
                  <a:pt x="408" y="84"/>
                </a:lnTo>
                <a:lnTo>
                  <a:pt x="420" y="78"/>
                </a:lnTo>
                <a:lnTo>
                  <a:pt x="432" y="66"/>
                </a:lnTo>
                <a:lnTo>
                  <a:pt x="444" y="60"/>
                </a:lnTo>
                <a:lnTo>
                  <a:pt x="456" y="54"/>
                </a:lnTo>
                <a:lnTo>
                  <a:pt x="468" y="42"/>
                </a:lnTo>
                <a:lnTo>
                  <a:pt x="480" y="36"/>
                </a:lnTo>
                <a:lnTo>
                  <a:pt x="492" y="30"/>
                </a:lnTo>
                <a:lnTo>
                  <a:pt x="504" y="24"/>
                </a:lnTo>
                <a:lnTo>
                  <a:pt x="516" y="18"/>
                </a:lnTo>
                <a:lnTo>
                  <a:pt x="528" y="18"/>
                </a:lnTo>
                <a:lnTo>
                  <a:pt x="540" y="12"/>
                </a:lnTo>
                <a:lnTo>
                  <a:pt x="552" y="6"/>
                </a:lnTo>
                <a:lnTo>
                  <a:pt x="564" y="6"/>
                </a:lnTo>
                <a:lnTo>
                  <a:pt x="576" y="6"/>
                </a:lnTo>
                <a:lnTo>
                  <a:pt x="588" y="6"/>
                </a:lnTo>
                <a:lnTo>
                  <a:pt x="594" y="0"/>
                </a:lnTo>
                <a:lnTo>
                  <a:pt x="606" y="6"/>
                </a:lnTo>
                <a:lnTo>
                  <a:pt x="618" y="6"/>
                </a:lnTo>
                <a:lnTo>
                  <a:pt x="630" y="6"/>
                </a:lnTo>
                <a:lnTo>
                  <a:pt x="642" y="12"/>
                </a:lnTo>
                <a:lnTo>
                  <a:pt x="654" y="12"/>
                </a:lnTo>
                <a:lnTo>
                  <a:pt x="666" y="18"/>
                </a:lnTo>
                <a:lnTo>
                  <a:pt x="678" y="24"/>
                </a:lnTo>
                <a:lnTo>
                  <a:pt x="690" y="36"/>
                </a:lnTo>
                <a:lnTo>
                  <a:pt x="702" y="42"/>
                </a:lnTo>
                <a:lnTo>
                  <a:pt x="714" y="54"/>
                </a:lnTo>
                <a:lnTo>
                  <a:pt x="726" y="66"/>
                </a:lnTo>
                <a:lnTo>
                  <a:pt x="738" y="78"/>
                </a:lnTo>
                <a:lnTo>
                  <a:pt x="750" y="90"/>
                </a:lnTo>
                <a:lnTo>
                  <a:pt x="762" y="108"/>
                </a:lnTo>
                <a:lnTo>
                  <a:pt x="774" y="132"/>
                </a:lnTo>
                <a:lnTo>
                  <a:pt x="786" y="150"/>
                </a:lnTo>
                <a:lnTo>
                  <a:pt x="798" y="180"/>
                </a:lnTo>
                <a:lnTo>
                  <a:pt x="810" y="210"/>
                </a:lnTo>
                <a:lnTo>
                  <a:pt x="822" y="246"/>
                </a:lnTo>
                <a:lnTo>
                  <a:pt x="834" y="288"/>
                </a:lnTo>
                <a:lnTo>
                  <a:pt x="846" y="342"/>
                </a:lnTo>
                <a:lnTo>
                  <a:pt x="858" y="420"/>
                </a:lnTo>
                <a:lnTo>
                  <a:pt x="870" y="558"/>
                </a:lnTo>
                <a:lnTo>
                  <a:pt x="882" y="558"/>
                </a:lnTo>
                <a:lnTo>
                  <a:pt x="894" y="558"/>
                </a:lnTo>
                <a:lnTo>
                  <a:pt x="906" y="558"/>
                </a:lnTo>
                <a:lnTo>
                  <a:pt x="918" y="558"/>
                </a:lnTo>
                <a:lnTo>
                  <a:pt x="930" y="558"/>
                </a:lnTo>
                <a:lnTo>
                  <a:pt x="942" y="558"/>
                </a:lnTo>
                <a:lnTo>
                  <a:pt x="954" y="558"/>
                </a:lnTo>
                <a:lnTo>
                  <a:pt x="966" y="558"/>
                </a:lnTo>
                <a:lnTo>
                  <a:pt x="978" y="558"/>
                </a:lnTo>
                <a:lnTo>
                  <a:pt x="990" y="558"/>
                </a:lnTo>
                <a:lnTo>
                  <a:pt x="1002" y="558"/>
                </a:lnTo>
                <a:lnTo>
                  <a:pt x="1014" y="558"/>
                </a:lnTo>
                <a:lnTo>
                  <a:pt x="1026" y="558"/>
                </a:lnTo>
                <a:lnTo>
                  <a:pt x="1038" y="558"/>
                </a:lnTo>
                <a:lnTo>
                  <a:pt x="1050" y="558"/>
                </a:lnTo>
                <a:lnTo>
                  <a:pt x="1062" y="558"/>
                </a:lnTo>
                <a:lnTo>
                  <a:pt x="1074" y="558"/>
                </a:lnTo>
                <a:lnTo>
                  <a:pt x="1086" y="558"/>
                </a:lnTo>
                <a:lnTo>
                  <a:pt x="1098" y="558"/>
                </a:lnTo>
                <a:lnTo>
                  <a:pt x="1110" y="558"/>
                </a:lnTo>
                <a:lnTo>
                  <a:pt x="1122" y="558"/>
                </a:lnTo>
                <a:lnTo>
                  <a:pt x="1134" y="558"/>
                </a:lnTo>
                <a:lnTo>
                  <a:pt x="1146" y="558"/>
                </a:lnTo>
                <a:lnTo>
                  <a:pt x="1158" y="558"/>
                </a:lnTo>
                <a:lnTo>
                  <a:pt x="1170" y="558"/>
                </a:lnTo>
                <a:lnTo>
                  <a:pt x="1182" y="558"/>
                </a:lnTo>
                <a:lnTo>
                  <a:pt x="1194" y="558"/>
                </a:lnTo>
                <a:lnTo>
                  <a:pt x="1206" y="558"/>
                </a:lnTo>
                <a:lnTo>
                  <a:pt x="1218" y="558"/>
                </a:lnTo>
                <a:lnTo>
                  <a:pt x="1230" y="558"/>
                </a:lnTo>
                <a:lnTo>
                  <a:pt x="1242" y="558"/>
                </a:lnTo>
                <a:lnTo>
                  <a:pt x="1254" y="558"/>
                </a:lnTo>
                <a:lnTo>
                  <a:pt x="1266" y="558"/>
                </a:lnTo>
                <a:lnTo>
                  <a:pt x="1278" y="558"/>
                </a:lnTo>
                <a:lnTo>
                  <a:pt x="1290" y="558"/>
                </a:lnTo>
                <a:lnTo>
                  <a:pt x="1302" y="558"/>
                </a:lnTo>
                <a:lnTo>
                  <a:pt x="1314" y="558"/>
                </a:lnTo>
                <a:lnTo>
                  <a:pt x="1326" y="558"/>
                </a:lnTo>
                <a:lnTo>
                  <a:pt x="1338" y="558"/>
                </a:lnTo>
                <a:lnTo>
                  <a:pt x="1350" y="558"/>
                </a:lnTo>
                <a:lnTo>
                  <a:pt x="1362" y="558"/>
                </a:lnTo>
                <a:lnTo>
                  <a:pt x="1374" y="558"/>
                </a:lnTo>
                <a:lnTo>
                  <a:pt x="1386" y="558"/>
                </a:lnTo>
                <a:lnTo>
                  <a:pt x="1398" y="558"/>
                </a:lnTo>
                <a:lnTo>
                  <a:pt x="1410" y="558"/>
                </a:lnTo>
                <a:lnTo>
                  <a:pt x="1422" y="558"/>
                </a:lnTo>
                <a:lnTo>
                  <a:pt x="1434" y="558"/>
                </a:lnTo>
                <a:lnTo>
                  <a:pt x="1446" y="558"/>
                </a:lnTo>
                <a:lnTo>
                  <a:pt x="1458" y="558"/>
                </a:lnTo>
                <a:lnTo>
                  <a:pt x="1470" y="558"/>
                </a:lnTo>
                <a:lnTo>
                  <a:pt x="1482" y="558"/>
                </a:lnTo>
                <a:lnTo>
                  <a:pt x="1494" y="558"/>
                </a:lnTo>
                <a:lnTo>
                  <a:pt x="1506" y="558"/>
                </a:lnTo>
                <a:lnTo>
                  <a:pt x="1518" y="558"/>
                </a:lnTo>
                <a:lnTo>
                  <a:pt x="1530" y="558"/>
                </a:lnTo>
                <a:lnTo>
                  <a:pt x="1542" y="558"/>
                </a:lnTo>
                <a:lnTo>
                  <a:pt x="1554" y="558"/>
                </a:lnTo>
                <a:lnTo>
                  <a:pt x="1566" y="558"/>
                </a:lnTo>
                <a:lnTo>
                  <a:pt x="1578" y="558"/>
                </a:lnTo>
                <a:lnTo>
                  <a:pt x="1590" y="558"/>
                </a:lnTo>
                <a:lnTo>
                  <a:pt x="1602" y="558"/>
                </a:lnTo>
                <a:lnTo>
                  <a:pt x="1614" y="558"/>
                </a:lnTo>
                <a:lnTo>
                  <a:pt x="1626" y="558"/>
                </a:lnTo>
                <a:lnTo>
                  <a:pt x="1638" y="558"/>
                </a:lnTo>
                <a:lnTo>
                  <a:pt x="1650" y="558"/>
                </a:lnTo>
                <a:lnTo>
                  <a:pt x="1662" y="558"/>
                </a:lnTo>
                <a:lnTo>
                  <a:pt x="1674" y="558"/>
                </a:lnTo>
                <a:lnTo>
                  <a:pt x="1686" y="558"/>
                </a:lnTo>
                <a:lnTo>
                  <a:pt x="1698" y="558"/>
                </a:lnTo>
                <a:lnTo>
                  <a:pt x="1710" y="558"/>
                </a:lnTo>
                <a:lnTo>
                  <a:pt x="1722" y="558"/>
                </a:lnTo>
                <a:lnTo>
                  <a:pt x="1734" y="558"/>
                </a:lnTo>
                <a:lnTo>
                  <a:pt x="1746" y="558"/>
                </a:lnTo>
                <a:lnTo>
                  <a:pt x="1758" y="558"/>
                </a:lnTo>
                <a:lnTo>
                  <a:pt x="1770" y="558"/>
                </a:lnTo>
                <a:lnTo>
                  <a:pt x="1782" y="558"/>
                </a:lnTo>
                <a:lnTo>
                  <a:pt x="1788" y="558"/>
                </a:lnTo>
                <a:lnTo>
                  <a:pt x="1800" y="558"/>
                </a:lnTo>
                <a:lnTo>
                  <a:pt x="1812" y="558"/>
                </a:lnTo>
                <a:lnTo>
                  <a:pt x="1824" y="558"/>
                </a:lnTo>
                <a:lnTo>
                  <a:pt x="1836" y="558"/>
                </a:lnTo>
                <a:lnTo>
                  <a:pt x="1848" y="558"/>
                </a:lnTo>
                <a:lnTo>
                  <a:pt x="1860" y="558"/>
                </a:lnTo>
                <a:lnTo>
                  <a:pt x="1872" y="558"/>
                </a:lnTo>
                <a:lnTo>
                  <a:pt x="1884" y="558"/>
                </a:lnTo>
                <a:lnTo>
                  <a:pt x="1896" y="558"/>
                </a:lnTo>
                <a:lnTo>
                  <a:pt x="1908" y="558"/>
                </a:lnTo>
                <a:lnTo>
                  <a:pt x="1920" y="558"/>
                </a:lnTo>
                <a:lnTo>
                  <a:pt x="1932" y="558"/>
                </a:lnTo>
                <a:lnTo>
                  <a:pt x="1944" y="558"/>
                </a:lnTo>
                <a:lnTo>
                  <a:pt x="1956" y="558"/>
                </a:lnTo>
                <a:lnTo>
                  <a:pt x="1968" y="558"/>
                </a:lnTo>
                <a:lnTo>
                  <a:pt x="1980" y="558"/>
                </a:lnTo>
                <a:lnTo>
                  <a:pt x="1992" y="558"/>
                </a:lnTo>
                <a:lnTo>
                  <a:pt x="2004" y="558"/>
                </a:lnTo>
                <a:lnTo>
                  <a:pt x="2016" y="558"/>
                </a:lnTo>
                <a:lnTo>
                  <a:pt x="2028" y="558"/>
                </a:lnTo>
                <a:lnTo>
                  <a:pt x="2040" y="558"/>
                </a:lnTo>
                <a:lnTo>
                  <a:pt x="2052" y="558"/>
                </a:lnTo>
                <a:lnTo>
                  <a:pt x="2064" y="558"/>
                </a:lnTo>
                <a:lnTo>
                  <a:pt x="2076" y="558"/>
                </a:lnTo>
                <a:lnTo>
                  <a:pt x="2088" y="558"/>
                </a:lnTo>
                <a:lnTo>
                  <a:pt x="2100" y="558"/>
                </a:lnTo>
                <a:lnTo>
                  <a:pt x="2112" y="558"/>
                </a:lnTo>
                <a:lnTo>
                  <a:pt x="2124" y="558"/>
                </a:lnTo>
                <a:lnTo>
                  <a:pt x="2136" y="558"/>
                </a:lnTo>
                <a:lnTo>
                  <a:pt x="2148" y="558"/>
                </a:lnTo>
                <a:lnTo>
                  <a:pt x="2160" y="558"/>
                </a:lnTo>
                <a:lnTo>
                  <a:pt x="2172" y="558"/>
                </a:lnTo>
                <a:lnTo>
                  <a:pt x="2184" y="558"/>
                </a:lnTo>
                <a:lnTo>
                  <a:pt x="2196" y="558"/>
                </a:lnTo>
                <a:lnTo>
                  <a:pt x="2208" y="558"/>
                </a:lnTo>
                <a:lnTo>
                  <a:pt x="2220" y="558"/>
                </a:lnTo>
                <a:lnTo>
                  <a:pt x="2232" y="558"/>
                </a:lnTo>
                <a:lnTo>
                  <a:pt x="2244" y="558"/>
                </a:lnTo>
                <a:lnTo>
                  <a:pt x="2256" y="558"/>
                </a:lnTo>
                <a:lnTo>
                  <a:pt x="2268" y="558"/>
                </a:lnTo>
                <a:lnTo>
                  <a:pt x="2280" y="558"/>
                </a:lnTo>
                <a:lnTo>
                  <a:pt x="2292" y="558"/>
                </a:lnTo>
                <a:lnTo>
                  <a:pt x="2304" y="558"/>
                </a:lnTo>
                <a:lnTo>
                  <a:pt x="2316" y="558"/>
                </a:lnTo>
                <a:lnTo>
                  <a:pt x="2328" y="558"/>
                </a:lnTo>
                <a:lnTo>
                  <a:pt x="2340" y="558"/>
                </a:lnTo>
                <a:lnTo>
                  <a:pt x="2352" y="558"/>
                </a:lnTo>
                <a:lnTo>
                  <a:pt x="2364" y="558"/>
                </a:lnTo>
                <a:lnTo>
                  <a:pt x="2376" y="5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935600" y="6345360"/>
            <a:ext cx="67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le, degr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371760" y="6221520"/>
            <a:ext cx="3772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/>
          <p:nvPr/>
        </p:nvSpPr>
        <p:spPr>
          <a:xfrm>
            <a:off x="466560" y="380880"/>
            <a:ext cx="837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[kp,ks] = directivity(ang, cp, 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computes the directivity functions for a p-wav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transducer. ang is angle in degrees, cp, cs are p- and s-wave %sp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cp/c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r = ang*pi/18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sin(ang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cos(ang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=(x.^2 -k^2/2).^2 + x.^2.*sqrt(1 - x.^2).*sqrt(k^2 - x.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 = c.*(k^2).*(k.^2/2 -x.^2)./(2.*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s = (k*x &lt;1).*c.*(k^3).*x.*sqrt(1 - k^2.*x.^2)./(2.*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3600" y="4724280"/>
            <a:ext cx="418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x = linspace(0,90,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[kp,ks] = directivity(x, 5900, 3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x, k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ho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plot(x, 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&gt; xlabel('angle, degrees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2434680" y="712800"/>
            <a:ext cx="348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 small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2590920" y="1371600"/>
          <a:ext cx="44956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956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5" name=""/>
          <p:cNvGrpSpPr/>
          <p:nvPr/>
        </p:nvGrpSpPr>
        <p:grpSpPr>
          <a:xfrm>
            <a:off x="4998960" y="3576600"/>
            <a:ext cx="1523880" cy="1523880"/>
            <a:chOff x="4998960" y="3576600"/>
            <a:chExt cx="1523880" cy="1523880"/>
          </a:xfrm>
        </p:grpSpPr>
        <p:sp>
          <p:nvSpPr>
            <p:cNvPr id="1786" name=""/>
            <p:cNvSpPr/>
            <p:nvPr/>
          </p:nvSpPr>
          <p:spPr>
            <a:xfrm>
              <a:off x="5402160" y="3970440"/>
              <a:ext cx="6858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98960" y="3576600"/>
              <a:ext cx="1523880" cy="152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241800" y="3578400"/>
            <a:ext cx="1523880" cy="1523880"/>
            <a:chOff x="3241800" y="3578400"/>
            <a:chExt cx="1523880" cy="1523880"/>
          </a:xfrm>
        </p:grpSpPr>
        <p:sp>
          <p:nvSpPr>
            <p:cNvPr id="1789" name=""/>
            <p:cNvSpPr/>
            <p:nvPr/>
          </p:nvSpPr>
          <p:spPr>
            <a:xfrm>
              <a:off x="3645000" y="3972240"/>
              <a:ext cx="6858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241800" y="3578400"/>
              <a:ext cx="1523880" cy="152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 flipH="1">
            <a:off x="396252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5874840" y="4356000"/>
            <a:ext cx="67788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259080" y="4338720"/>
            <a:ext cx="59364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4117680" y="4343400"/>
            <a:ext cx="6699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029200" y="4356000"/>
            <a:ext cx="53820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580920" y="4343400"/>
            <a:ext cx="159120" cy="152280"/>
            <a:chOff x="3580920" y="4343400"/>
            <a:chExt cx="159120" cy="152280"/>
          </a:xfrm>
        </p:grpSpPr>
        <p:sp>
          <p:nvSpPr>
            <p:cNvPr id="1797" name=""/>
            <p:cNvSpPr/>
            <p:nvPr/>
          </p:nvSpPr>
          <p:spPr>
            <a:xfrm>
              <a:off x="3740040" y="4343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3580920" y="441972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378040" y="4336920"/>
            <a:ext cx="159120" cy="152280"/>
            <a:chOff x="5378040" y="4336920"/>
            <a:chExt cx="159120" cy="152280"/>
          </a:xfrm>
        </p:grpSpPr>
        <p:sp>
          <p:nvSpPr>
            <p:cNvPr id="1800" name=""/>
            <p:cNvSpPr/>
            <p:nvPr/>
          </p:nvSpPr>
          <p:spPr>
            <a:xfrm>
              <a:off x="5537160" y="433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378040" y="441324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4241520" y="4349880"/>
            <a:ext cx="159120" cy="152280"/>
            <a:chOff x="4241520" y="4349880"/>
            <a:chExt cx="159120" cy="152280"/>
          </a:xfrm>
        </p:grpSpPr>
        <p:sp>
          <p:nvSpPr>
            <p:cNvPr id="1803" name=""/>
            <p:cNvSpPr/>
            <p:nvPr/>
          </p:nvSpPr>
          <p:spPr>
            <a:xfrm>
              <a:off x="4241520" y="4349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241880" y="44262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5994000" y="4336920"/>
            <a:ext cx="159120" cy="152280"/>
            <a:chOff x="5994000" y="4336920"/>
            <a:chExt cx="159120" cy="152280"/>
          </a:xfrm>
        </p:grpSpPr>
        <p:sp>
          <p:nvSpPr>
            <p:cNvPr id="1806" name=""/>
            <p:cNvSpPr/>
            <p:nvPr/>
          </p:nvSpPr>
          <p:spPr>
            <a:xfrm>
              <a:off x="5994000" y="433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441324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48769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248520" y="4800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222960" y="4413240"/>
            <a:ext cx="954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7224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883400" y="52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700960" y="429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441840" y="4903920"/>
            <a:ext cx="3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618520" y="4729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259680" y="4408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19520" y="2971800"/>
            <a:ext cx="41907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064040" y="2806560"/>
            <a:ext cx="17524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064040" y="3898800"/>
            <a:ext cx="1752480" cy="419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1760" y="4572000"/>
            <a:ext cx="27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Direct P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Edge P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Edge S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… Hea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… Rayleigh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69240" y="2727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set of wav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H="1" flipV="1">
            <a:off x="5334120" y="21337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325200" y="2362320"/>
            <a:ext cx="23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dge P-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438280" y="4343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"/>
          <p:cNvSpPr/>
          <p:nvPr/>
        </p:nvSpPr>
        <p:spPr>
          <a:xfrm>
            <a:off x="2130120" y="45720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gle Beam Shear Wave Transduc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2286000" y="1111320"/>
            <a:ext cx="4648320" cy="2609640"/>
            <a:chOff x="2286000" y="1111320"/>
            <a:chExt cx="4648320" cy="2609640"/>
          </a:xfrm>
        </p:grpSpPr>
        <p:sp>
          <p:nvSpPr>
            <p:cNvPr id="1827" name=""/>
            <p:cNvSpPr/>
            <p:nvPr/>
          </p:nvSpPr>
          <p:spPr>
            <a:xfrm>
              <a:off x="2286000" y="266688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58128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81280" y="1523880"/>
              <a:ext cx="838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19720" y="1523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3466200">
              <a:off x="3555360" y="12445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038480" y="1828800"/>
              <a:ext cx="2286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38480" y="182880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888000" y="22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21160" y="1981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V , 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267080" y="26668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267080" y="2666880"/>
              <a:ext cx="3812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800600" y="32767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116960" y="3352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940280" y="27050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876920" y="2743200"/>
              <a:ext cx="761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880240" y="28702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488560" y="3276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46520" y="152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820960" y="2819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2438280" y="51181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733920" y="450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3733920" y="397512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572000" y="397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2720" y="397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rot="3466200">
            <a:off x="3708720" y="3695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78160" y="422928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218480" y="46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876920" y="5156280"/>
            <a:ext cx="92700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838760" y="5118120"/>
            <a:ext cx="72396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765760" y="54864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336280" y="5867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680" y="41148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i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973240" y="5270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76920" y="3352680"/>
            <a:ext cx="27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place e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ge by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fluid" (neglect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076800" y="5318280"/>
            <a:ext cx="25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all  for 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wave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2741040" y="3808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ea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62120" y="914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0920" y="1432080"/>
            <a:ext cx="508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ly Intens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T  - Lange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s - L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Elements - Ri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Elements - Schmerr, Le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061280" y="3505320"/>
            <a:ext cx="71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Integr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 Point Source -S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- Sommerfeld + High Freq. Asympt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chmerr, Lhemery,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985680" y="5334120"/>
            <a:ext cx="66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Integr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Diffraction Wave - Schmerr, Le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2741040" y="3808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ea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62120" y="914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92800" y="1432080"/>
            <a:ext cx="775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Basis Func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Hermite Models - Thompson, Gray, Newber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achi, Marge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 Gaussia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achi, Spies, Schmerr and Rudolph, Cerveny (Seism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 rot="16200000">
            <a:off x="-153360" y="4343400"/>
            <a:ext cx="2819160" cy="1600200"/>
          </a:xfrm>
          <a:prstGeom prst="parallelogram">
            <a:avLst>
              <a:gd name="adj" fmla="val 4404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1040" y="3808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ea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914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3160" y="106668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piston transducer radiating into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438280"/>
            <a:ext cx="53316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7524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67616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94120" y="1599480"/>
            <a:ext cx="2177640" cy="324000"/>
            <a:chOff x="2994120" y="1599480"/>
            <a:chExt cx="2177640" cy="324000"/>
          </a:xfrm>
        </p:grpSpPr>
        <p:grpSp>
          <p:nvGrpSpPr>
            <p:cNvPr id="53" name=""/>
            <p:cNvGrpSpPr/>
            <p:nvPr/>
          </p:nvGrpSpPr>
          <p:grpSpPr>
            <a:xfrm>
              <a:off x="2994120" y="1599480"/>
              <a:ext cx="866520" cy="314280"/>
              <a:chOff x="2994120" y="1599480"/>
              <a:chExt cx="866520" cy="314280"/>
            </a:xfrm>
          </p:grpSpPr>
          <p:sp>
            <p:nvSpPr>
              <p:cNvPr id="54" name=""/>
              <p:cNvSpPr/>
              <p:nvPr/>
            </p:nvSpPr>
            <p:spPr>
              <a:xfrm flipV="1">
                <a:off x="299412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342288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881520" y="1609200"/>
              <a:ext cx="866520" cy="314280"/>
              <a:chOff x="3881520" y="1609200"/>
              <a:chExt cx="866520" cy="31428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3881520" y="16088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4310280" y="16189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451320" y="1599480"/>
              <a:ext cx="866520" cy="314280"/>
              <a:chOff x="3451320" y="1599480"/>
              <a:chExt cx="866520" cy="31428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3451320" y="15991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880080" y="16092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305240" y="1605960"/>
              <a:ext cx="866520" cy="314280"/>
              <a:chOff x="4305240" y="1605960"/>
              <a:chExt cx="866520" cy="3142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4305240" y="16056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4734000" y="16156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2895480" y="2971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438280"/>
            <a:ext cx="5335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0240" y="28036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,z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x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,y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7680" y="3174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95480" y="2552760"/>
            <a:ext cx="23367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36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4600" y="211788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5160" y="32004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x',y',z'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267080"/>
            <a:ext cx="9144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53341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448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19520" y="5486400"/>
          <a:ext cx="594360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486400"/>
                    <a:ext cx="59436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895760" y="5013360"/>
            <a:ext cx="38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5212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90960" y="37749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 baff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8760" y="4308480"/>
            <a:ext cx="56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ow that each area element that i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acts like a source of spherical wa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741040" y="3808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ea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914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94440" y="129528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references – mostly paraxi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28600" y="190512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rch, T.P., Schmerr, L.W. and A. Sedov,” Ultrasonic beam models: an edge e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,” J. Acoust. Soc. Am., 104, 1256-1265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pson, R. B. and E.F. Lopez,” The effects of focusing and refraction on Gaussian ultrasonic beams,” J. Nondestr. Eval., 4, 107-123, 198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berry, B.P. and R.B. Thompson,” A paraxial theory for the propagation of ultrasonic beams in anisotropic solids,” J. Acoust. Soc. Am., 85, 2290-2300, 198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merr, L.W., Rudolph, M., and A. Sedov,” Modeling ultrasonic transducer wav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l complex geometries and anisotropic materials,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Progres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 Nondestructive Eval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. O. Thompson and D.E. Chimenti, Eds., Plenum Press, New York, 19A, 953-960,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762120" y="1143000"/>
            <a:ext cx="754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merr, L. W.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Ultrasonic Nondestructive Eval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num Press, New York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s, M., and M. Kroning,” Ultrasonic inspection of inhomogeneous welds simulated by Gaussian beam superposition,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Progress in Quantitative Nondestructive Eval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. O. Thompson and D.E. Chimenti, Eds., Plenum Press, New York, 18A, 1107-1114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achi, A., Margetan, F.J., and R.B. Thompson,” Reconstruction of a piston transducer beam using multi-Gaussian beams (MGB) and its applications,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Progress in Quantitative Nondestructive Eval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. O. Thompson and D.E. Chimenti, Eds., Plenum Press, New York, 17A, 907-914, 198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gembre,N. and A Lhemery," Calculation of wide band ultrasonic fields radiated by water-coupled transducers into heterogeneous media,"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Progress in Quantitative Nondestructive Eval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. O. Thompson and D.E. Chimenti, Eds., Plenum Press, New York, 18A, 1107-1131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741040" y="3808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rasonic Beam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62120" y="914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7400" y="3809880"/>
            <a:ext cx="554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',y'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piston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57400" y="5486400"/>
          <a:ext cx="60418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486400"/>
                    <a:ext cx="60418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838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up all such sources over the face of the transducer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yleigh-Sommerfeld Inte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920" y="5791320"/>
            <a:ext cx="389880" cy="280800"/>
            <a:chOff x="1447920" y="5791320"/>
            <a:chExt cx="389880" cy="280800"/>
          </a:xfrm>
        </p:grpSpPr>
        <p:sp>
          <p:nvSpPr>
            <p:cNvPr id="92" name=""/>
            <p:cNvSpPr/>
            <p:nvPr/>
          </p:nvSpPr>
          <p:spPr>
            <a:xfrm>
              <a:off x="1447920" y="58770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47920" y="5988240"/>
              <a:ext cx="204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1200" y="5791320"/>
              <a:ext cx="1566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75800" y="5953320"/>
              <a:ext cx="14724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5400000">
            <a:off x="2095200" y="4457520"/>
            <a:ext cx="761760" cy="1143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4672080"/>
            <a:ext cx="352440" cy="75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6640" y="46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1360" y="4915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81360" y="521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401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1000" y="4851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3080" y="5102280"/>
            <a:ext cx="509760" cy="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1981080"/>
          <a:ext cx="6681960" cy="10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6819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057400" y="304920"/>
          <a:ext cx="495288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04920"/>
                    <a:ext cx="495288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83520" y="17524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n-axis response of a circular transducer of radius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590920"/>
            <a:ext cx="53352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814400" y="3098880"/>
            <a:ext cx="6048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048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743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1880" y="3002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6720" y="27036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1640" y="3124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8680" y="2514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738600" y="313056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2000" y="3124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132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28520" y="238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3480" y="2362320"/>
            <a:ext cx="31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show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element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as dS = r dr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81080" y="3657600"/>
          <a:ext cx="586764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657600"/>
                    <a:ext cx="5867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968480" y="491508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81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17640" y="4927680"/>
            <a:ext cx="78768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5295600"/>
            <a:ext cx="7747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016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24080" y="519408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71800" y="43434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040" y="4343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0440" y="52578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52880" y="4343400"/>
            <a:ext cx="1524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5334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143000" y="1371240"/>
            <a:ext cx="7620120" cy="5334120"/>
            <a:chOff x="1143000" y="1371240"/>
            <a:chExt cx="7620120" cy="5334120"/>
          </a:xfrm>
        </p:grpSpPr>
        <p:sp>
          <p:nvSpPr>
            <p:cNvPr id="140" name=""/>
            <p:cNvSpPr/>
            <p:nvPr/>
          </p:nvSpPr>
          <p:spPr>
            <a:xfrm>
              <a:off x="1143000" y="2971800"/>
              <a:ext cx="2895840" cy="2133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15880" y="1965240"/>
              <a:ext cx="197964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90" y="80"/>
                  </a:moveTo>
                  <a:arcTo wR="10800" hR="10800" stAng="-5817921" swAng="11750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490" y="80"/>
                  </a:moveTo>
                  <a:arcTo wR="10800" hR="10800" stAng="-5817921" swAng="1175078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1840" y="4092480"/>
              <a:ext cx="197964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90" y="80"/>
                  </a:moveTo>
                  <a:arcTo wR="10800" hR="10800" stAng="-5817921" swAng="11750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490" y="80"/>
                  </a:moveTo>
                  <a:arcTo wR="10800" hR="10800" stAng="-5817921" swAng="1175078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840" y="297180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38840" y="13712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38840" y="51051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840" y="29718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51055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324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48320" y="19807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6040" y="35812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648320" y="4191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5562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4640" y="37339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w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5320" y="179388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dge w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1160" y="579132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dge w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65600" y="15652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ff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440" y="182880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2560" y="1988640"/>
              <a:ext cx="1977120" cy="19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85" y="4381"/>
                  </a:moveTo>
                  <a:arcTo wR="10800" hR="10800" stAng="-2188133" swAng="44147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85" y="4381"/>
                  </a:moveTo>
                  <a:arcTo wR="10800" hR="10800" stAng="-2188133" swAng="441479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2560" y="4093560"/>
              <a:ext cx="1977120" cy="19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85" y="4381"/>
                  </a:moveTo>
                  <a:arcTo wR="10800" hR="10800" stAng="-2188133" swAng="44147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85" y="4381"/>
                  </a:moveTo>
                  <a:arcTo wR="10800" hR="10800" stAng="-2188133" swAng="441479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289880" y="53352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edge waves as seen for a pulsed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00240" y="684360"/>
            <a:ext cx="4281480" cy="3384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68720"/>
            <a:ext cx="4281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00240" y="684360"/>
            <a:ext cx="4281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00240" y="684000"/>
            <a:ext cx="1800" cy="33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281720" y="684000"/>
            <a:ext cx="1800" cy="33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0240" y="4068720"/>
            <a:ext cx="4281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00240" y="684000"/>
            <a:ext cx="1800" cy="33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0024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024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8800" y="410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40240" y="40255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0240" y="68436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5960" y="4106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70520" y="40255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70520" y="68436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70520" y="410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1160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1160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680" y="4106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4188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188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0440" y="410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68152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152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7600" y="4106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1180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1180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10360" y="410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753240" y="40255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53240" y="68436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9320" y="4106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81720" y="402552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81720" y="684360"/>
            <a:ext cx="18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81720" y="4106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0240" y="406872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238520" y="406872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33640" y="4008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0240" y="373392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238520" y="373392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37160" y="3673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0240" y="33876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238520" y="33876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37160" y="3327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0240" y="30528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238520" y="30528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37160" y="2992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0240" y="271764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38520" y="271764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7160" y="26575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0240" y="23814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238520" y="23814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23223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0240" y="20350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238520" y="20350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160" y="1976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0240" y="17002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238520" y="17002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37160" y="1639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00240" y="136512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238520" y="136512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7160" y="13050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00240" y="10191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238520" y="10191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37160" y="958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00240" y="6843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38520" y="6843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33640" y="623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00240" y="684360"/>
            <a:ext cx="4281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00240" y="4068720"/>
            <a:ext cx="4281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00240" y="684000"/>
            <a:ext cx="1800" cy="33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281720" y="684000"/>
            <a:ext cx="1800" cy="33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16240" y="684360"/>
            <a:ext cx="2411280" cy="3341520"/>
          </a:xfrm>
          <a:custGeom>
            <a:avLst/>
            <a:gdLst/>
            <a:ahLst/>
            <a:rect l="l" t="t" r="r" b="b"/>
            <a:pathLst>
              <a:path w="1519" h="2105">
                <a:moveTo>
                  <a:pt x="0" y="13"/>
                </a:moveTo>
                <a:lnTo>
                  <a:pt x="7" y="156"/>
                </a:lnTo>
                <a:lnTo>
                  <a:pt x="7" y="422"/>
                </a:lnTo>
                <a:lnTo>
                  <a:pt x="14" y="776"/>
                </a:lnTo>
                <a:lnTo>
                  <a:pt x="20" y="1178"/>
                </a:lnTo>
                <a:lnTo>
                  <a:pt x="27" y="1601"/>
                </a:lnTo>
                <a:lnTo>
                  <a:pt x="27" y="2023"/>
                </a:lnTo>
                <a:lnTo>
                  <a:pt x="34" y="1846"/>
                </a:lnTo>
                <a:lnTo>
                  <a:pt x="41" y="1478"/>
                </a:lnTo>
                <a:lnTo>
                  <a:pt x="48" y="1151"/>
                </a:lnTo>
                <a:lnTo>
                  <a:pt x="48" y="865"/>
                </a:lnTo>
                <a:lnTo>
                  <a:pt x="54" y="627"/>
                </a:lnTo>
                <a:lnTo>
                  <a:pt x="61" y="429"/>
                </a:lnTo>
                <a:lnTo>
                  <a:pt x="68" y="272"/>
                </a:lnTo>
                <a:lnTo>
                  <a:pt x="68" y="150"/>
                </a:lnTo>
                <a:lnTo>
                  <a:pt x="75" y="68"/>
                </a:lnTo>
                <a:lnTo>
                  <a:pt x="82" y="20"/>
                </a:lnTo>
                <a:lnTo>
                  <a:pt x="88" y="0"/>
                </a:lnTo>
                <a:lnTo>
                  <a:pt x="88" y="7"/>
                </a:lnTo>
                <a:lnTo>
                  <a:pt x="95" y="34"/>
                </a:lnTo>
                <a:lnTo>
                  <a:pt x="102" y="82"/>
                </a:lnTo>
                <a:lnTo>
                  <a:pt x="109" y="143"/>
                </a:lnTo>
                <a:lnTo>
                  <a:pt x="109" y="218"/>
                </a:lnTo>
                <a:lnTo>
                  <a:pt x="116" y="306"/>
                </a:lnTo>
                <a:lnTo>
                  <a:pt x="123" y="402"/>
                </a:lnTo>
                <a:lnTo>
                  <a:pt x="129" y="504"/>
                </a:lnTo>
                <a:lnTo>
                  <a:pt x="129" y="613"/>
                </a:lnTo>
                <a:lnTo>
                  <a:pt x="136" y="729"/>
                </a:lnTo>
                <a:lnTo>
                  <a:pt x="143" y="845"/>
                </a:lnTo>
                <a:lnTo>
                  <a:pt x="150" y="967"/>
                </a:lnTo>
                <a:lnTo>
                  <a:pt x="150" y="1083"/>
                </a:lnTo>
                <a:lnTo>
                  <a:pt x="157" y="1206"/>
                </a:lnTo>
                <a:lnTo>
                  <a:pt x="163" y="1321"/>
                </a:lnTo>
                <a:lnTo>
                  <a:pt x="170" y="1444"/>
                </a:lnTo>
                <a:lnTo>
                  <a:pt x="170" y="1560"/>
                </a:lnTo>
                <a:lnTo>
                  <a:pt x="177" y="1676"/>
                </a:lnTo>
                <a:lnTo>
                  <a:pt x="184" y="1785"/>
                </a:lnTo>
                <a:lnTo>
                  <a:pt x="191" y="1894"/>
                </a:lnTo>
                <a:lnTo>
                  <a:pt x="191" y="2003"/>
                </a:lnTo>
                <a:lnTo>
                  <a:pt x="197" y="2105"/>
                </a:lnTo>
                <a:lnTo>
                  <a:pt x="204" y="2057"/>
                </a:lnTo>
                <a:lnTo>
                  <a:pt x="211" y="1962"/>
                </a:lnTo>
                <a:lnTo>
                  <a:pt x="211" y="1866"/>
                </a:lnTo>
                <a:lnTo>
                  <a:pt x="218" y="1771"/>
                </a:lnTo>
                <a:lnTo>
                  <a:pt x="225" y="1682"/>
                </a:lnTo>
                <a:lnTo>
                  <a:pt x="232" y="1601"/>
                </a:lnTo>
                <a:lnTo>
                  <a:pt x="232" y="1519"/>
                </a:lnTo>
                <a:lnTo>
                  <a:pt x="238" y="1437"/>
                </a:lnTo>
                <a:lnTo>
                  <a:pt x="245" y="1362"/>
                </a:lnTo>
                <a:lnTo>
                  <a:pt x="252" y="1294"/>
                </a:lnTo>
                <a:lnTo>
                  <a:pt x="252" y="1219"/>
                </a:lnTo>
                <a:lnTo>
                  <a:pt x="259" y="1158"/>
                </a:lnTo>
                <a:lnTo>
                  <a:pt x="266" y="1090"/>
                </a:lnTo>
                <a:lnTo>
                  <a:pt x="272" y="1028"/>
                </a:lnTo>
                <a:lnTo>
                  <a:pt x="279" y="974"/>
                </a:lnTo>
                <a:lnTo>
                  <a:pt x="279" y="913"/>
                </a:lnTo>
                <a:lnTo>
                  <a:pt x="286" y="865"/>
                </a:lnTo>
                <a:lnTo>
                  <a:pt x="293" y="810"/>
                </a:lnTo>
                <a:lnTo>
                  <a:pt x="300" y="763"/>
                </a:lnTo>
                <a:lnTo>
                  <a:pt x="300" y="715"/>
                </a:lnTo>
                <a:lnTo>
                  <a:pt x="306" y="674"/>
                </a:lnTo>
                <a:lnTo>
                  <a:pt x="313" y="633"/>
                </a:lnTo>
                <a:lnTo>
                  <a:pt x="320" y="592"/>
                </a:lnTo>
                <a:lnTo>
                  <a:pt x="320" y="552"/>
                </a:lnTo>
                <a:lnTo>
                  <a:pt x="327" y="518"/>
                </a:lnTo>
                <a:lnTo>
                  <a:pt x="334" y="483"/>
                </a:lnTo>
                <a:lnTo>
                  <a:pt x="341" y="449"/>
                </a:lnTo>
                <a:lnTo>
                  <a:pt x="341" y="422"/>
                </a:lnTo>
                <a:lnTo>
                  <a:pt x="347" y="388"/>
                </a:lnTo>
                <a:lnTo>
                  <a:pt x="354" y="361"/>
                </a:lnTo>
                <a:lnTo>
                  <a:pt x="361" y="334"/>
                </a:lnTo>
                <a:lnTo>
                  <a:pt x="361" y="313"/>
                </a:lnTo>
                <a:lnTo>
                  <a:pt x="368" y="286"/>
                </a:lnTo>
                <a:lnTo>
                  <a:pt x="375" y="265"/>
                </a:lnTo>
                <a:lnTo>
                  <a:pt x="381" y="245"/>
                </a:lnTo>
                <a:lnTo>
                  <a:pt x="381" y="225"/>
                </a:lnTo>
                <a:lnTo>
                  <a:pt x="388" y="204"/>
                </a:lnTo>
                <a:lnTo>
                  <a:pt x="395" y="191"/>
                </a:lnTo>
                <a:lnTo>
                  <a:pt x="402" y="170"/>
                </a:lnTo>
                <a:lnTo>
                  <a:pt x="402" y="156"/>
                </a:lnTo>
                <a:lnTo>
                  <a:pt x="409" y="143"/>
                </a:lnTo>
                <a:lnTo>
                  <a:pt x="415" y="129"/>
                </a:lnTo>
                <a:lnTo>
                  <a:pt x="422" y="116"/>
                </a:lnTo>
                <a:lnTo>
                  <a:pt x="422" y="102"/>
                </a:lnTo>
                <a:lnTo>
                  <a:pt x="429" y="95"/>
                </a:lnTo>
                <a:lnTo>
                  <a:pt x="436" y="82"/>
                </a:lnTo>
                <a:lnTo>
                  <a:pt x="443" y="75"/>
                </a:lnTo>
                <a:lnTo>
                  <a:pt x="443" y="68"/>
                </a:lnTo>
                <a:lnTo>
                  <a:pt x="450" y="54"/>
                </a:lnTo>
                <a:lnTo>
                  <a:pt x="456" y="47"/>
                </a:lnTo>
                <a:lnTo>
                  <a:pt x="463" y="41"/>
                </a:lnTo>
                <a:lnTo>
                  <a:pt x="470" y="34"/>
                </a:lnTo>
                <a:lnTo>
                  <a:pt x="477" y="27"/>
                </a:lnTo>
                <a:lnTo>
                  <a:pt x="484" y="20"/>
                </a:lnTo>
                <a:lnTo>
                  <a:pt x="490" y="13"/>
                </a:lnTo>
                <a:lnTo>
                  <a:pt x="497" y="13"/>
                </a:lnTo>
                <a:lnTo>
                  <a:pt x="504" y="7"/>
                </a:lnTo>
                <a:lnTo>
                  <a:pt x="511" y="7"/>
                </a:lnTo>
                <a:lnTo>
                  <a:pt x="518" y="0"/>
                </a:lnTo>
                <a:lnTo>
                  <a:pt x="524" y="0"/>
                </a:lnTo>
                <a:lnTo>
                  <a:pt x="531" y="0"/>
                </a:lnTo>
                <a:lnTo>
                  <a:pt x="538" y="0"/>
                </a:lnTo>
                <a:lnTo>
                  <a:pt x="545" y="0"/>
                </a:lnTo>
                <a:lnTo>
                  <a:pt x="552" y="0"/>
                </a:lnTo>
                <a:lnTo>
                  <a:pt x="559" y="0"/>
                </a:lnTo>
                <a:lnTo>
                  <a:pt x="565" y="7"/>
                </a:lnTo>
                <a:lnTo>
                  <a:pt x="572" y="7"/>
                </a:lnTo>
                <a:lnTo>
                  <a:pt x="579" y="7"/>
                </a:lnTo>
                <a:lnTo>
                  <a:pt x="586" y="13"/>
                </a:lnTo>
                <a:lnTo>
                  <a:pt x="593" y="13"/>
                </a:lnTo>
                <a:lnTo>
                  <a:pt x="599" y="20"/>
                </a:lnTo>
                <a:lnTo>
                  <a:pt x="606" y="20"/>
                </a:lnTo>
                <a:lnTo>
                  <a:pt x="613" y="27"/>
                </a:lnTo>
                <a:lnTo>
                  <a:pt x="620" y="34"/>
                </a:lnTo>
                <a:lnTo>
                  <a:pt x="627" y="34"/>
                </a:lnTo>
                <a:lnTo>
                  <a:pt x="633" y="41"/>
                </a:lnTo>
                <a:lnTo>
                  <a:pt x="640" y="47"/>
                </a:lnTo>
                <a:lnTo>
                  <a:pt x="647" y="47"/>
                </a:lnTo>
                <a:lnTo>
                  <a:pt x="654" y="54"/>
                </a:lnTo>
                <a:lnTo>
                  <a:pt x="661" y="61"/>
                </a:lnTo>
                <a:lnTo>
                  <a:pt x="668" y="68"/>
                </a:lnTo>
                <a:lnTo>
                  <a:pt x="674" y="75"/>
                </a:lnTo>
                <a:lnTo>
                  <a:pt x="681" y="82"/>
                </a:lnTo>
                <a:lnTo>
                  <a:pt x="688" y="88"/>
                </a:lnTo>
                <a:lnTo>
                  <a:pt x="695" y="95"/>
                </a:lnTo>
                <a:lnTo>
                  <a:pt x="702" y="102"/>
                </a:lnTo>
                <a:lnTo>
                  <a:pt x="708" y="102"/>
                </a:lnTo>
                <a:lnTo>
                  <a:pt x="715" y="109"/>
                </a:lnTo>
                <a:lnTo>
                  <a:pt x="715" y="116"/>
                </a:lnTo>
                <a:lnTo>
                  <a:pt x="722" y="122"/>
                </a:lnTo>
                <a:lnTo>
                  <a:pt x="729" y="122"/>
                </a:lnTo>
                <a:lnTo>
                  <a:pt x="736" y="129"/>
                </a:lnTo>
                <a:lnTo>
                  <a:pt x="736" y="136"/>
                </a:lnTo>
                <a:lnTo>
                  <a:pt x="742" y="143"/>
                </a:lnTo>
                <a:lnTo>
                  <a:pt x="749" y="150"/>
                </a:lnTo>
                <a:lnTo>
                  <a:pt x="756" y="156"/>
                </a:lnTo>
                <a:lnTo>
                  <a:pt x="763" y="163"/>
                </a:lnTo>
                <a:lnTo>
                  <a:pt x="770" y="170"/>
                </a:lnTo>
                <a:lnTo>
                  <a:pt x="777" y="177"/>
                </a:lnTo>
                <a:lnTo>
                  <a:pt x="783" y="184"/>
                </a:lnTo>
                <a:lnTo>
                  <a:pt x="790" y="191"/>
                </a:lnTo>
                <a:lnTo>
                  <a:pt x="797" y="197"/>
                </a:lnTo>
                <a:lnTo>
                  <a:pt x="797" y="204"/>
                </a:lnTo>
                <a:lnTo>
                  <a:pt x="804" y="211"/>
                </a:lnTo>
                <a:lnTo>
                  <a:pt x="811" y="211"/>
                </a:lnTo>
                <a:lnTo>
                  <a:pt x="817" y="218"/>
                </a:lnTo>
                <a:lnTo>
                  <a:pt x="817" y="225"/>
                </a:lnTo>
                <a:lnTo>
                  <a:pt x="824" y="231"/>
                </a:lnTo>
                <a:lnTo>
                  <a:pt x="831" y="238"/>
                </a:lnTo>
                <a:lnTo>
                  <a:pt x="838" y="245"/>
                </a:lnTo>
                <a:lnTo>
                  <a:pt x="845" y="252"/>
                </a:lnTo>
                <a:lnTo>
                  <a:pt x="851" y="259"/>
                </a:lnTo>
                <a:lnTo>
                  <a:pt x="858" y="265"/>
                </a:lnTo>
                <a:lnTo>
                  <a:pt x="858" y="272"/>
                </a:lnTo>
                <a:lnTo>
                  <a:pt x="865" y="279"/>
                </a:lnTo>
                <a:lnTo>
                  <a:pt x="872" y="279"/>
                </a:lnTo>
                <a:lnTo>
                  <a:pt x="879" y="286"/>
                </a:lnTo>
                <a:lnTo>
                  <a:pt x="879" y="293"/>
                </a:lnTo>
                <a:lnTo>
                  <a:pt x="886" y="300"/>
                </a:lnTo>
                <a:lnTo>
                  <a:pt x="892" y="306"/>
                </a:lnTo>
                <a:lnTo>
                  <a:pt x="899" y="313"/>
                </a:lnTo>
                <a:lnTo>
                  <a:pt x="906" y="320"/>
                </a:lnTo>
                <a:lnTo>
                  <a:pt x="913" y="327"/>
                </a:lnTo>
                <a:lnTo>
                  <a:pt x="920" y="334"/>
                </a:lnTo>
                <a:lnTo>
                  <a:pt x="926" y="340"/>
                </a:lnTo>
                <a:lnTo>
                  <a:pt x="933" y="347"/>
                </a:lnTo>
                <a:lnTo>
                  <a:pt x="940" y="354"/>
                </a:lnTo>
                <a:lnTo>
                  <a:pt x="947" y="361"/>
                </a:lnTo>
                <a:lnTo>
                  <a:pt x="947" y="368"/>
                </a:lnTo>
                <a:lnTo>
                  <a:pt x="954" y="374"/>
                </a:lnTo>
                <a:lnTo>
                  <a:pt x="960" y="374"/>
                </a:lnTo>
                <a:lnTo>
                  <a:pt x="967" y="381"/>
                </a:lnTo>
                <a:lnTo>
                  <a:pt x="967" y="388"/>
                </a:lnTo>
                <a:lnTo>
                  <a:pt x="974" y="395"/>
                </a:lnTo>
                <a:lnTo>
                  <a:pt x="981" y="402"/>
                </a:lnTo>
                <a:lnTo>
                  <a:pt x="988" y="409"/>
                </a:lnTo>
                <a:lnTo>
                  <a:pt x="995" y="415"/>
                </a:lnTo>
                <a:lnTo>
                  <a:pt x="1001" y="422"/>
                </a:lnTo>
                <a:lnTo>
                  <a:pt x="1008" y="429"/>
                </a:lnTo>
                <a:lnTo>
                  <a:pt x="1015" y="436"/>
                </a:lnTo>
                <a:lnTo>
                  <a:pt x="1022" y="443"/>
                </a:lnTo>
                <a:lnTo>
                  <a:pt x="1029" y="449"/>
                </a:lnTo>
                <a:lnTo>
                  <a:pt x="1035" y="456"/>
                </a:lnTo>
                <a:lnTo>
                  <a:pt x="1042" y="463"/>
                </a:lnTo>
                <a:lnTo>
                  <a:pt x="1049" y="470"/>
                </a:lnTo>
                <a:lnTo>
                  <a:pt x="1056" y="477"/>
                </a:lnTo>
                <a:lnTo>
                  <a:pt x="1063" y="483"/>
                </a:lnTo>
                <a:lnTo>
                  <a:pt x="1069" y="490"/>
                </a:lnTo>
                <a:lnTo>
                  <a:pt x="1076" y="497"/>
                </a:lnTo>
                <a:lnTo>
                  <a:pt x="1083" y="504"/>
                </a:lnTo>
                <a:lnTo>
                  <a:pt x="1090" y="511"/>
                </a:lnTo>
                <a:lnTo>
                  <a:pt x="1097" y="518"/>
                </a:lnTo>
                <a:lnTo>
                  <a:pt x="1104" y="524"/>
                </a:lnTo>
                <a:lnTo>
                  <a:pt x="1110" y="531"/>
                </a:lnTo>
                <a:lnTo>
                  <a:pt x="1117" y="538"/>
                </a:lnTo>
                <a:lnTo>
                  <a:pt x="1124" y="545"/>
                </a:lnTo>
                <a:lnTo>
                  <a:pt x="1131" y="552"/>
                </a:lnTo>
                <a:lnTo>
                  <a:pt x="1138" y="558"/>
                </a:lnTo>
                <a:lnTo>
                  <a:pt x="1144" y="565"/>
                </a:lnTo>
                <a:lnTo>
                  <a:pt x="1151" y="572"/>
                </a:lnTo>
                <a:lnTo>
                  <a:pt x="1158" y="579"/>
                </a:lnTo>
                <a:lnTo>
                  <a:pt x="1165" y="579"/>
                </a:lnTo>
                <a:lnTo>
                  <a:pt x="1172" y="586"/>
                </a:lnTo>
                <a:lnTo>
                  <a:pt x="1178" y="592"/>
                </a:lnTo>
                <a:lnTo>
                  <a:pt x="1185" y="599"/>
                </a:lnTo>
                <a:lnTo>
                  <a:pt x="1192" y="606"/>
                </a:lnTo>
                <a:lnTo>
                  <a:pt x="1199" y="613"/>
                </a:lnTo>
                <a:lnTo>
                  <a:pt x="1206" y="620"/>
                </a:lnTo>
                <a:lnTo>
                  <a:pt x="1213" y="627"/>
                </a:lnTo>
                <a:lnTo>
                  <a:pt x="1219" y="633"/>
                </a:lnTo>
                <a:lnTo>
                  <a:pt x="1226" y="633"/>
                </a:lnTo>
                <a:lnTo>
                  <a:pt x="1233" y="640"/>
                </a:lnTo>
                <a:lnTo>
                  <a:pt x="1240" y="647"/>
                </a:lnTo>
                <a:lnTo>
                  <a:pt x="1247" y="654"/>
                </a:lnTo>
                <a:lnTo>
                  <a:pt x="1253" y="661"/>
                </a:lnTo>
                <a:lnTo>
                  <a:pt x="1260" y="667"/>
                </a:lnTo>
                <a:lnTo>
                  <a:pt x="1267" y="674"/>
                </a:lnTo>
                <a:lnTo>
                  <a:pt x="1274" y="674"/>
                </a:lnTo>
                <a:lnTo>
                  <a:pt x="1281" y="681"/>
                </a:lnTo>
                <a:lnTo>
                  <a:pt x="1287" y="688"/>
                </a:lnTo>
                <a:lnTo>
                  <a:pt x="1294" y="695"/>
                </a:lnTo>
                <a:lnTo>
                  <a:pt x="1301" y="701"/>
                </a:lnTo>
                <a:lnTo>
                  <a:pt x="1308" y="708"/>
                </a:lnTo>
                <a:lnTo>
                  <a:pt x="1315" y="708"/>
                </a:lnTo>
                <a:lnTo>
                  <a:pt x="1322" y="715"/>
                </a:lnTo>
                <a:lnTo>
                  <a:pt x="1328" y="722"/>
                </a:lnTo>
                <a:lnTo>
                  <a:pt x="1335" y="729"/>
                </a:lnTo>
                <a:lnTo>
                  <a:pt x="1342" y="736"/>
                </a:lnTo>
                <a:lnTo>
                  <a:pt x="1349" y="736"/>
                </a:lnTo>
                <a:lnTo>
                  <a:pt x="1356" y="742"/>
                </a:lnTo>
                <a:lnTo>
                  <a:pt x="1362" y="749"/>
                </a:lnTo>
                <a:lnTo>
                  <a:pt x="1369" y="756"/>
                </a:lnTo>
                <a:lnTo>
                  <a:pt x="1376" y="756"/>
                </a:lnTo>
                <a:lnTo>
                  <a:pt x="1383" y="763"/>
                </a:lnTo>
                <a:lnTo>
                  <a:pt x="1390" y="770"/>
                </a:lnTo>
                <a:lnTo>
                  <a:pt x="1396" y="770"/>
                </a:lnTo>
                <a:lnTo>
                  <a:pt x="1403" y="776"/>
                </a:lnTo>
                <a:lnTo>
                  <a:pt x="1410" y="783"/>
                </a:lnTo>
                <a:lnTo>
                  <a:pt x="1417" y="790"/>
                </a:lnTo>
                <a:lnTo>
                  <a:pt x="1424" y="797"/>
                </a:lnTo>
                <a:lnTo>
                  <a:pt x="1431" y="797"/>
                </a:lnTo>
                <a:lnTo>
                  <a:pt x="1437" y="804"/>
                </a:lnTo>
                <a:lnTo>
                  <a:pt x="1444" y="810"/>
                </a:lnTo>
                <a:lnTo>
                  <a:pt x="1451" y="810"/>
                </a:lnTo>
                <a:lnTo>
                  <a:pt x="1458" y="817"/>
                </a:lnTo>
                <a:lnTo>
                  <a:pt x="1465" y="824"/>
                </a:lnTo>
                <a:lnTo>
                  <a:pt x="1471" y="824"/>
                </a:lnTo>
                <a:lnTo>
                  <a:pt x="1478" y="831"/>
                </a:lnTo>
                <a:lnTo>
                  <a:pt x="1485" y="838"/>
                </a:lnTo>
                <a:lnTo>
                  <a:pt x="1492" y="845"/>
                </a:lnTo>
                <a:lnTo>
                  <a:pt x="1499" y="845"/>
                </a:lnTo>
                <a:lnTo>
                  <a:pt x="1505" y="851"/>
                </a:lnTo>
                <a:lnTo>
                  <a:pt x="1512" y="858"/>
                </a:lnTo>
                <a:lnTo>
                  <a:pt x="1519" y="85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27520" y="2046240"/>
            <a:ext cx="1654200" cy="725400"/>
          </a:xfrm>
          <a:custGeom>
            <a:avLst/>
            <a:gdLst/>
            <a:ahLst/>
            <a:rect l="l" t="t" r="r" b="b"/>
            <a:pathLst>
              <a:path w="1042" h="457">
                <a:moveTo>
                  <a:pt x="0" y="0"/>
                </a:moveTo>
                <a:lnTo>
                  <a:pt x="7" y="7"/>
                </a:lnTo>
                <a:lnTo>
                  <a:pt x="14" y="14"/>
                </a:lnTo>
                <a:lnTo>
                  <a:pt x="21" y="14"/>
                </a:lnTo>
                <a:lnTo>
                  <a:pt x="27" y="21"/>
                </a:lnTo>
                <a:lnTo>
                  <a:pt x="34" y="27"/>
                </a:lnTo>
                <a:lnTo>
                  <a:pt x="41" y="27"/>
                </a:lnTo>
                <a:lnTo>
                  <a:pt x="48" y="34"/>
                </a:lnTo>
                <a:lnTo>
                  <a:pt x="55" y="34"/>
                </a:lnTo>
                <a:lnTo>
                  <a:pt x="61" y="41"/>
                </a:lnTo>
                <a:lnTo>
                  <a:pt x="68" y="41"/>
                </a:lnTo>
                <a:lnTo>
                  <a:pt x="75" y="48"/>
                </a:lnTo>
                <a:lnTo>
                  <a:pt x="82" y="55"/>
                </a:lnTo>
                <a:lnTo>
                  <a:pt x="89" y="55"/>
                </a:lnTo>
                <a:lnTo>
                  <a:pt x="95" y="61"/>
                </a:lnTo>
                <a:lnTo>
                  <a:pt x="102" y="68"/>
                </a:lnTo>
                <a:lnTo>
                  <a:pt x="109" y="68"/>
                </a:lnTo>
                <a:lnTo>
                  <a:pt x="116" y="75"/>
                </a:lnTo>
                <a:lnTo>
                  <a:pt x="123" y="75"/>
                </a:lnTo>
                <a:lnTo>
                  <a:pt x="130" y="82"/>
                </a:lnTo>
                <a:lnTo>
                  <a:pt x="136" y="89"/>
                </a:lnTo>
                <a:lnTo>
                  <a:pt x="143" y="89"/>
                </a:lnTo>
                <a:lnTo>
                  <a:pt x="150" y="96"/>
                </a:lnTo>
                <a:lnTo>
                  <a:pt x="157" y="96"/>
                </a:lnTo>
                <a:lnTo>
                  <a:pt x="164" y="102"/>
                </a:lnTo>
                <a:lnTo>
                  <a:pt x="170" y="102"/>
                </a:lnTo>
                <a:lnTo>
                  <a:pt x="177" y="109"/>
                </a:lnTo>
                <a:lnTo>
                  <a:pt x="184" y="116"/>
                </a:lnTo>
                <a:lnTo>
                  <a:pt x="191" y="116"/>
                </a:lnTo>
                <a:lnTo>
                  <a:pt x="198" y="123"/>
                </a:lnTo>
                <a:lnTo>
                  <a:pt x="204" y="123"/>
                </a:lnTo>
                <a:lnTo>
                  <a:pt x="211" y="130"/>
                </a:lnTo>
                <a:lnTo>
                  <a:pt x="218" y="136"/>
                </a:lnTo>
                <a:lnTo>
                  <a:pt x="225" y="136"/>
                </a:lnTo>
                <a:lnTo>
                  <a:pt x="232" y="136"/>
                </a:lnTo>
                <a:lnTo>
                  <a:pt x="239" y="143"/>
                </a:lnTo>
                <a:lnTo>
                  <a:pt x="245" y="150"/>
                </a:lnTo>
                <a:lnTo>
                  <a:pt x="252" y="150"/>
                </a:lnTo>
                <a:lnTo>
                  <a:pt x="259" y="157"/>
                </a:lnTo>
                <a:lnTo>
                  <a:pt x="266" y="157"/>
                </a:lnTo>
                <a:lnTo>
                  <a:pt x="273" y="157"/>
                </a:lnTo>
                <a:lnTo>
                  <a:pt x="279" y="164"/>
                </a:lnTo>
                <a:lnTo>
                  <a:pt x="286" y="170"/>
                </a:lnTo>
                <a:lnTo>
                  <a:pt x="293" y="170"/>
                </a:lnTo>
                <a:lnTo>
                  <a:pt x="300" y="177"/>
                </a:lnTo>
                <a:lnTo>
                  <a:pt x="307" y="177"/>
                </a:lnTo>
                <a:lnTo>
                  <a:pt x="313" y="184"/>
                </a:lnTo>
                <a:lnTo>
                  <a:pt x="320" y="184"/>
                </a:lnTo>
                <a:lnTo>
                  <a:pt x="327" y="191"/>
                </a:lnTo>
                <a:lnTo>
                  <a:pt x="334" y="191"/>
                </a:lnTo>
                <a:lnTo>
                  <a:pt x="341" y="198"/>
                </a:lnTo>
                <a:lnTo>
                  <a:pt x="348" y="198"/>
                </a:lnTo>
                <a:lnTo>
                  <a:pt x="354" y="205"/>
                </a:lnTo>
                <a:lnTo>
                  <a:pt x="361" y="205"/>
                </a:lnTo>
                <a:lnTo>
                  <a:pt x="368" y="211"/>
                </a:lnTo>
                <a:lnTo>
                  <a:pt x="375" y="211"/>
                </a:lnTo>
                <a:lnTo>
                  <a:pt x="382" y="218"/>
                </a:lnTo>
                <a:lnTo>
                  <a:pt x="388" y="218"/>
                </a:lnTo>
                <a:lnTo>
                  <a:pt x="395" y="218"/>
                </a:lnTo>
                <a:lnTo>
                  <a:pt x="402" y="225"/>
                </a:lnTo>
                <a:lnTo>
                  <a:pt x="409" y="225"/>
                </a:lnTo>
                <a:lnTo>
                  <a:pt x="416" y="232"/>
                </a:lnTo>
                <a:lnTo>
                  <a:pt x="422" y="232"/>
                </a:lnTo>
                <a:lnTo>
                  <a:pt x="429" y="239"/>
                </a:lnTo>
                <a:lnTo>
                  <a:pt x="436" y="239"/>
                </a:lnTo>
                <a:lnTo>
                  <a:pt x="443" y="245"/>
                </a:lnTo>
                <a:lnTo>
                  <a:pt x="450" y="245"/>
                </a:lnTo>
                <a:lnTo>
                  <a:pt x="457" y="252"/>
                </a:lnTo>
                <a:lnTo>
                  <a:pt x="463" y="252"/>
                </a:lnTo>
                <a:lnTo>
                  <a:pt x="470" y="259"/>
                </a:lnTo>
                <a:lnTo>
                  <a:pt x="477" y="259"/>
                </a:lnTo>
                <a:lnTo>
                  <a:pt x="484" y="259"/>
                </a:lnTo>
                <a:lnTo>
                  <a:pt x="491" y="266"/>
                </a:lnTo>
                <a:lnTo>
                  <a:pt x="497" y="266"/>
                </a:lnTo>
                <a:lnTo>
                  <a:pt x="504" y="266"/>
                </a:lnTo>
                <a:lnTo>
                  <a:pt x="511" y="273"/>
                </a:lnTo>
                <a:lnTo>
                  <a:pt x="518" y="273"/>
                </a:lnTo>
                <a:lnTo>
                  <a:pt x="525" y="279"/>
                </a:lnTo>
                <a:lnTo>
                  <a:pt x="531" y="279"/>
                </a:lnTo>
                <a:lnTo>
                  <a:pt x="538" y="286"/>
                </a:lnTo>
                <a:lnTo>
                  <a:pt x="545" y="286"/>
                </a:lnTo>
                <a:lnTo>
                  <a:pt x="552" y="293"/>
                </a:lnTo>
                <a:lnTo>
                  <a:pt x="559" y="293"/>
                </a:lnTo>
                <a:lnTo>
                  <a:pt x="566" y="293"/>
                </a:lnTo>
                <a:lnTo>
                  <a:pt x="572" y="300"/>
                </a:lnTo>
                <a:lnTo>
                  <a:pt x="579" y="300"/>
                </a:lnTo>
                <a:lnTo>
                  <a:pt x="586" y="300"/>
                </a:lnTo>
                <a:lnTo>
                  <a:pt x="593" y="307"/>
                </a:lnTo>
                <a:lnTo>
                  <a:pt x="600" y="307"/>
                </a:lnTo>
                <a:lnTo>
                  <a:pt x="606" y="314"/>
                </a:lnTo>
                <a:lnTo>
                  <a:pt x="613" y="314"/>
                </a:lnTo>
                <a:lnTo>
                  <a:pt x="620" y="320"/>
                </a:lnTo>
                <a:lnTo>
                  <a:pt x="627" y="320"/>
                </a:lnTo>
                <a:lnTo>
                  <a:pt x="634" y="320"/>
                </a:lnTo>
                <a:lnTo>
                  <a:pt x="640" y="327"/>
                </a:lnTo>
                <a:lnTo>
                  <a:pt x="647" y="327"/>
                </a:lnTo>
                <a:lnTo>
                  <a:pt x="654" y="334"/>
                </a:lnTo>
                <a:lnTo>
                  <a:pt x="661" y="334"/>
                </a:lnTo>
                <a:lnTo>
                  <a:pt x="668" y="334"/>
                </a:lnTo>
                <a:lnTo>
                  <a:pt x="675" y="341"/>
                </a:lnTo>
                <a:lnTo>
                  <a:pt x="681" y="341"/>
                </a:lnTo>
                <a:lnTo>
                  <a:pt x="688" y="341"/>
                </a:lnTo>
                <a:lnTo>
                  <a:pt x="695" y="348"/>
                </a:lnTo>
                <a:lnTo>
                  <a:pt x="702" y="348"/>
                </a:lnTo>
                <a:lnTo>
                  <a:pt x="709" y="348"/>
                </a:lnTo>
                <a:lnTo>
                  <a:pt x="715" y="354"/>
                </a:lnTo>
                <a:lnTo>
                  <a:pt x="722" y="354"/>
                </a:lnTo>
                <a:lnTo>
                  <a:pt x="729" y="354"/>
                </a:lnTo>
                <a:lnTo>
                  <a:pt x="736" y="361"/>
                </a:lnTo>
                <a:lnTo>
                  <a:pt x="743" y="361"/>
                </a:lnTo>
                <a:lnTo>
                  <a:pt x="749" y="368"/>
                </a:lnTo>
                <a:lnTo>
                  <a:pt x="756" y="368"/>
                </a:lnTo>
                <a:lnTo>
                  <a:pt x="763" y="368"/>
                </a:lnTo>
                <a:lnTo>
                  <a:pt x="770" y="375"/>
                </a:lnTo>
                <a:lnTo>
                  <a:pt x="777" y="375"/>
                </a:lnTo>
                <a:lnTo>
                  <a:pt x="784" y="375"/>
                </a:lnTo>
                <a:lnTo>
                  <a:pt x="790" y="382"/>
                </a:lnTo>
                <a:lnTo>
                  <a:pt x="797" y="382"/>
                </a:lnTo>
                <a:lnTo>
                  <a:pt x="804" y="382"/>
                </a:lnTo>
                <a:lnTo>
                  <a:pt x="811" y="388"/>
                </a:lnTo>
                <a:lnTo>
                  <a:pt x="818" y="388"/>
                </a:lnTo>
                <a:lnTo>
                  <a:pt x="824" y="388"/>
                </a:lnTo>
                <a:lnTo>
                  <a:pt x="831" y="395"/>
                </a:lnTo>
                <a:lnTo>
                  <a:pt x="838" y="395"/>
                </a:lnTo>
                <a:lnTo>
                  <a:pt x="845" y="395"/>
                </a:lnTo>
                <a:lnTo>
                  <a:pt x="852" y="402"/>
                </a:lnTo>
                <a:lnTo>
                  <a:pt x="858" y="402"/>
                </a:lnTo>
                <a:lnTo>
                  <a:pt x="865" y="402"/>
                </a:lnTo>
                <a:lnTo>
                  <a:pt x="872" y="409"/>
                </a:lnTo>
                <a:lnTo>
                  <a:pt x="879" y="409"/>
                </a:lnTo>
                <a:lnTo>
                  <a:pt x="886" y="409"/>
                </a:lnTo>
                <a:lnTo>
                  <a:pt x="893" y="416"/>
                </a:lnTo>
                <a:lnTo>
                  <a:pt x="899" y="416"/>
                </a:lnTo>
                <a:lnTo>
                  <a:pt x="906" y="416"/>
                </a:lnTo>
                <a:lnTo>
                  <a:pt x="913" y="423"/>
                </a:lnTo>
                <a:lnTo>
                  <a:pt x="920" y="423"/>
                </a:lnTo>
                <a:lnTo>
                  <a:pt x="927" y="423"/>
                </a:lnTo>
                <a:lnTo>
                  <a:pt x="933" y="429"/>
                </a:lnTo>
                <a:lnTo>
                  <a:pt x="940" y="429"/>
                </a:lnTo>
                <a:lnTo>
                  <a:pt x="947" y="429"/>
                </a:lnTo>
                <a:lnTo>
                  <a:pt x="954" y="429"/>
                </a:lnTo>
                <a:lnTo>
                  <a:pt x="961" y="436"/>
                </a:lnTo>
                <a:lnTo>
                  <a:pt x="967" y="436"/>
                </a:lnTo>
                <a:lnTo>
                  <a:pt x="974" y="436"/>
                </a:lnTo>
                <a:lnTo>
                  <a:pt x="981" y="443"/>
                </a:lnTo>
                <a:lnTo>
                  <a:pt x="988" y="443"/>
                </a:lnTo>
                <a:lnTo>
                  <a:pt x="995" y="443"/>
                </a:lnTo>
                <a:lnTo>
                  <a:pt x="1002" y="443"/>
                </a:lnTo>
                <a:lnTo>
                  <a:pt x="1008" y="450"/>
                </a:lnTo>
                <a:lnTo>
                  <a:pt x="1015" y="450"/>
                </a:lnTo>
                <a:lnTo>
                  <a:pt x="1022" y="450"/>
                </a:lnTo>
                <a:lnTo>
                  <a:pt x="1029" y="457"/>
                </a:lnTo>
                <a:lnTo>
                  <a:pt x="1036" y="457"/>
                </a:lnTo>
                <a:lnTo>
                  <a:pt x="1042" y="45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81040" y="422604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/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29680" y="467532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ield distance N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99520" y="51656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: z = N/(2m+1)  m = 0,1,2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:  z = N/2n   n = 1,2,3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76640" y="7365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438280"/>
            <a:ext cx="17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6.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= 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1500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0360" y="11271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p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600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07560" y="1538280"/>
            <a:ext cx="7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8769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for a 5 MHz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2 in. diameter transducer radiating into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5 in. (approx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480" y="2286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29200" y="4648320"/>
            <a:ext cx="380880" cy="500040"/>
            <a:chOff x="5029200" y="4648320"/>
            <a:chExt cx="380880" cy="500040"/>
          </a:xfrm>
        </p:grpSpPr>
        <p:sp>
          <p:nvSpPr>
            <p:cNvPr id="245" name=""/>
            <p:cNvSpPr/>
            <p:nvPr/>
          </p:nvSpPr>
          <p:spPr>
            <a:xfrm>
              <a:off x="5168520" y="507384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3320" y="501012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213160" y="48384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71600" y="1523880"/>
            <a:ext cx="990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49280" y="51768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axial approximation :  a/z &lt;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905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15238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057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133720" y="1523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189216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392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876920" y="1523880"/>
          <a:ext cx="31240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523880"/>
                    <a:ext cx="31240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981080" y="2852640"/>
          <a:ext cx="495324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852640"/>
                    <a:ext cx="495324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 flipV="1">
            <a:off x="38862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760" y="41148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41680" y="4191120"/>
            <a:ext cx="130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85360" y="478476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rac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640" y="25560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axis pres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0:07:36Z</dcterms:created>
  <dc:creator>Lester Schmerr</dc:creator>
  <dc:description/>
  <dc:language>en-US</dc:language>
  <cp:lastModifiedBy>Lester Schmerr</cp:lastModifiedBy>
  <cp:lastPrinted>2000-10-18T09:33:12Z</cp:lastPrinted>
  <dcterms:modified xsi:type="dcterms:W3CDTF">2007-01-03T20:43:53Z</dcterms:modified>
  <cp:revision>43</cp:revision>
  <dc:subject/>
  <dc:title>No Slide Title</dc:title>
</cp:coreProperties>
</file>