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8F28-B631-4D23-8B14-F585C5EA0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C882-F22D-4244-ADB3-BA47A2011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BA9C-1A35-4F97-9D17-FDE94EF6B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FB1D-D3CB-4ED1-BCA4-A43D11250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F2F6-B047-4EDD-9104-3366EFD0B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9B18-3483-47FB-9FC7-8B8D9E17C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593C-BD9A-4B50-B8B2-9498D000E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97C7-25BF-48C5-AEA1-E06BCF6BD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39CF-4F3A-40EC-BC78-BF319A1ED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D85E-AE03-44E3-B938-1E935BA3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704F-22AE-49C4-B610-A710EB57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1550-C64C-49C8-BD4E-64138E44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2B2BD-1267-4E23-8C0B-D0213DE568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1600200"/>
            <a:ext cx="2684520" cy="773280"/>
          </a:xfrm>
          <a:custGeom>
            <a:avLst/>
            <a:gdLst/>
            <a:ahLst/>
            <a:rect l="l" t="t" r="r" b="b"/>
            <a:pathLst>
              <a:path w="1691" h="487">
                <a:moveTo>
                  <a:pt x="0" y="257"/>
                </a:moveTo>
                <a:cubicBezTo>
                  <a:pt x="276" y="257"/>
                  <a:pt x="552" y="257"/>
                  <a:pt x="672" y="257"/>
                </a:cubicBezTo>
                <a:cubicBezTo>
                  <a:pt x="792" y="257"/>
                  <a:pt x="704" y="257"/>
                  <a:pt x="720" y="257"/>
                </a:cubicBezTo>
                <a:cubicBezTo>
                  <a:pt x="736" y="257"/>
                  <a:pt x="755" y="293"/>
                  <a:pt x="768" y="257"/>
                </a:cubicBezTo>
                <a:cubicBezTo>
                  <a:pt x="780" y="220"/>
                  <a:pt x="781" y="0"/>
                  <a:pt x="795" y="38"/>
                </a:cubicBezTo>
                <a:cubicBezTo>
                  <a:pt x="808" y="75"/>
                  <a:pt x="830" y="474"/>
                  <a:pt x="848" y="481"/>
                </a:cubicBezTo>
                <a:cubicBezTo>
                  <a:pt x="865" y="487"/>
                  <a:pt x="885" y="101"/>
                  <a:pt x="901" y="76"/>
                </a:cubicBezTo>
                <a:cubicBezTo>
                  <a:pt x="916" y="50"/>
                  <a:pt x="923" y="295"/>
                  <a:pt x="939" y="326"/>
                </a:cubicBezTo>
                <a:cubicBezTo>
                  <a:pt x="954" y="356"/>
                  <a:pt x="972" y="268"/>
                  <a:pt x="992" y="257"/>
                </a:cubicBezTo>
                <a:cubicBezTo>
                  <a:pt x="1011" y="245"/>
                  <a:pt x="939" y="257"/>
                  <a:pt x="1056" y="257"/>
                </a:cubicBezTo>
                <a:cubicBezTo>
                  <a:pt x="1172" y="257"/>
                  <a:pt x="1431" y="257"/>
                  <a:pt x="1691" y="257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356920" y="3657600"/>
            <a:ext cx="44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/Elastic Transfer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3200040" y="129528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067040" y="2362320"/>
            <a:ext cx="95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= b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2438280" y="1905120"/>
          <a:ext cx="4724640" cy="181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05120"/>
                    <a:ext cx="4724640" cy="18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"/>
          <p:cNvSpPr/>
          <p:nvPr/>
        </p:nvSpPr>
        <p:spPr>
          <a:xfrm>
            <a:off x="2512440" y="304920"/>
            <a:ext cx="35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coustic Transfer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66680" y="914400"/>
            <a:ext cx="69343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901800" y="3733920"/>
            <a:ext cx="740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e high frequencies found for most NDE transduc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bove integral can be evaluated approximately to yiel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2139840" y="4800600"/>
          <a:ext cx="4794480" cy="136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9840" y="4800600"/>
                    <a:ext cx="4794480" cy="13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669960" y="242244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&gt;&gt; b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93640" y="348948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&lt;&lt; b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3880" y="4572000"/>
            <a:ext cx="149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&gt;&gt; a, b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2514600" y="4267080"/>
          <a:ext cx="3294000" cy="88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4267080"/>
                    <a:ext cx="3294000" cy="8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512440" y="304920"/>
            <a:ext cx="35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coustic Transfer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066680" y="914400"/>
            <a:ext cx="69343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912240" y="1447920"/>
            <a:ext cx="260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special ca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2590920" y="2133720"/>
          <a:ext cx="5438520" cy="83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2133720"/>
                    <a:ext cx="543852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4" name=""/>
          <p:cNvGraphicFramePr/>
          <p:nvPr/>
        </p:nvGraphicFramePr>
        <p:xfrm>
          <a:off x="2514600" y="3276720"/>
          <a:ext cx="5060880" cy="76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3276720"/>
                    <a:ext cx="5060880" cy="76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512440" y="304920"/>
            <a:ext cx="35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coustic Transfer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066680" y="914400"/>
            <a:ext cx="69343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54560" y="1447920"/>
            <a:ext cx="64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nuation of ultrasound in the fluid can be ad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this mode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1905120" y="2362320"/>
          <a:ext cx="4343400" cy="6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362320"/>
                    <a:ext cx="434340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1" name=""/>
          <p:cNvSpPr/>
          <p:nvPr/>
        </p:nvSpPr>
        <p:spPr>
          <a:xfrm>
            <a:off x="587520" y="3200400"/>
            <a:ext cx="40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…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nuation coeffic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80320" y="384660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2057400" y="3809880"/>
          <a:ext cx="2514600" cy="525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3809880"/>
                    <a:ext cx="251460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5" name=""/>
          <p:cNvSpPr/>
          <p:nvPr/>
        </p:nvSpPr>
        <p:spPr>
          <a:xfrm>
            <a:off x="4923000" y="384660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47000" y="4491000"/>
            <a:ext cx="28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frequency in M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179320" y="3124080"/>
            <a:ext cx="29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… distance travel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132920" y="1143000"/>
            <a:ext cx="643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acoustic transfer function (including fl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nuation eff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2666880" cy="210816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2512440" y="304920"/>
            <a:ext cx="35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coustic Transfer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066680" y="914400"/>
            <a:ext cx="69343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33160" y="4800600"/>
            <a:ext cx="187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= 444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= 3.175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3357720" y="2101680"/>
            <a:ext cx="5257080" cy="4012560"/>
            <a:chOff x="3357720" y="2101680"/>
            <a:chExt cx="5257080" cy="4012560"/>
          </a:xfrm>
        </p:grpSpPr>
        <p:sp>
          <p:nvSpPr>
            <p:cNvPr id="394" name=""/>
            <p:cNvSpPr/>
            <p:nvPr/>
          </p:nvSpPr>
          <p:spPr>
            <a:xfrm>
              <a:off x="3357720" y="2101680"/>
              <a:ext cx="5011920" cy="3804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005720" y="2387880"/>
              <a:ext cx="3872880" cy="308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005720" y="2387880"/>
              <a:ext cx="3872880" cy="308952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005720" y="5477400"/>
              <a:ext cx="3872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4005720" y="2387880"/>
              <a:ext cx="1080" cy="308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4005720" y="5439960"/>
              <a:ext cx="1080" cy="3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974040" y="5515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4974120" y="5439960"/>
              <a:ext cx="1080" cy="3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943520" y="5515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5941440" y="5439960"/>
              <a:ext cx="1080" cy="3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871240" y="55152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6910200" y="5439960"/>
              <a:ext cx="1080" cy="3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844320" y="55152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7878600" y="5439960"/>
              <a:ext cx="1080" cy="3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809480" y="55152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005720" y="547740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900600" y="5407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005720" y="5093640"/>
              <a:ext cx="363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733560" y="502488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.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005720" y="4709160"/>
              <a:ext cx="363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804480" y="463788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005720" y="431784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733560" y="424944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.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005720" y="3932280"/>
              <a:ext cx="363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804840" y="3864960"/>
              <a:ext cx="219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005720" y="354780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733560" y="348084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.2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005720" y="3156840"/>
              <a:ext cx="363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804480" y="308844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005720" y="2772360"/>
              <a:ext cx="363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733560" y="270396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.3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005720" y="238788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804840" y="2319480"/>
              <a:ext cx="2131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020840" y="2561400"/>
              <a:ext cx="3768480" cy="2871360"/>
            </a:xfrm>
            <a:custGeom>
              <a:avLst/>
              <a:gdLst/>
              <a:ahLst/>
              <a:rect l="l" t="t" r="r" b="b"/>
              <a:pathLst>
                <a:path w="3000" h="2055">
                  <a:moveTo>
                    <a:pt x="0" y="2055"/>
                  </a:moveTo>
                  <a:lnTo>
                    <a:pt x="6" y="2022"/>
                  </a:lnTo>
                  <a:lnTo>
                    <a:pt x="17" y="1990"/>
                  </a:lnTo>
                  <a:lnTo>
                    <a:pt x="23" y="1958"/>
                  </a:lnTo>
                  <a:lnTo>
                    <a:pt x="35" y="1925"/>
                  </a:lnTo>
                  <a:lnTo>
                    <a:pt x="47" y="1893"/>
                  </a:lnTo>
                  <a:lnTo>
                    <a:pt x="53" y="1861"/>
                  </a:lnTo>
                  <a:lnTo>
                    <a:pt x="65" y="1828"/>
                  </a:lnTo>
                  <a:lnTo>
                    <a:pt x="71" y="1796"/>
                  </a:lnTo>
                  <a:lnTo>
                    <a:pt x="83" y="1763"/>
                  </a:lnTo>
                  <a:lnTo>
                    <a:pt x="89" y="1731"/>
                  </a:lnTo>
                  <a:lnTo>
                    <a:pt x="100" y="1699"/>
                  </a:lnTo>
                  <a:lnTo>
                    <a:pt x="112" y="1666"/>
                  </a:lnTo>
                  <a:lnTo>
                    <a:pt x="118" y="1634"/>
                  </a:lnTo>
                  <a:lnTo>
                    <a:pt x="130" y="1602"/>
                  </a:lnTo>
                  <a:lnTo>
                    <a:pt x="136" y="1575"/>
                  </a:lnTo>
                  <a:lnTo>
                    <a:pt x="148" y="1542"/>
                  </a:lnTo>
                  <a:lnTo>
                    <a:pt x="160" y="1510"/>
                  </a:lnTo>
                  <a:lnTo>
                    <a:pt x="166" y="1478"/>
                  </a:lnTo>
                  <a:lnTo>
                    <a:pt x="178" y="1451"/>
                  </a:lnTo>
                  <a:lnTo>
                    <a:pt x="183" y="1418"/>
                  </a:lnTo>
                  <a:lnTo>
                    <a:pt x="195" y="1386"/>
                  </a:lnTo>
                  <a:lnTo>
                    <a:pt x="201" y="1359"/>
                  </a:lnTo>
                  <a:lnTo>
                    <a:pt x="213" y="1327"/>
                  </a:lnTo>
                  <a:lnTo>
                    <a:pt x="225" y="1294"/>
                  </a:lnTo>
                  <a:lnTo>
                    <a:pt x="231" y="1267"/>
                  </a:lnTo>
                  <a:lnTo>
                    <a:pt x="243" y="1235"/>
                  </a:lnTo>
                  <a:lnTo>
                    <a:pt x="249" y="1208"/>
                  </a:lnTo>
                  <a:lnTo>
                    <a:pt x="261" y="1181"/>
                  </a:lnTo>
                  <a:lnTo>
                    <a:pt x="272" y="1149"/>
                  </a:lnTo>
                  <a:lnTo>
                    <a:pt x="278" y="1122"/>
                  </a:lnTo>
                  <a:lnTo>
                    <a:pt x="290" y="1095"/>
                  </a:lnTo>
                  <a:lnTo>
                    <a:pt x="296" y="1062"/>
                  </a:lnTo>
                  <a:lnTo>
                    <a:pt x="308" y="1035"/>
                  </a:lnTo>
                  <a:lnTo>
                    <a:pt x="320" y="1008"/>
                  </a:lnTo>
                  <a:lnTo>
                    <a:pt x="326" y="981"/>
                  </a:lnTo>
                  <a:lnTo>
                    <a:pt x="338" y="955"/>
                  </a:lnTo>
                  <a:lnTo>
                    <a:pt x="344" y="928"/>
                  </a:lnTo>
                  <a:lnTo>
                    <a:pt x="355" y="901"/>
                  </a:lnTo>
                  <a:lnTo>
                    <a:pt x="361" y="874"/>
                  </a:lnTo>
                  <a:lnTo>
                    <a:pt x="373" y="852"/>
                  </a:lnTo>
                  <a:lnTo>
                    <a:pt x="385" y="825"/>
                  </a:lnTo>
                  <a:lnTo>
                    <a:pt x="391" y="798"/>
                  </a:lnTo>
                  <a:lnTo>
                    <a:pt x="403" y="777"/>
                  </a:lnTo>
                  <a:lnTo>
                    <a:pt x="409" y="750"/>
                  </a:lnTo>
                  <a:lnTo>
                    <a:pt x="421" y="728"/>
                  </a:lnTo>
                  <a:lnTo>
                    <a:pt x="432" y="701"/>
                  </a:lnTo>
                  <a:lnTo>
                    <a:pt x="438" y="679"/>
                  </a:lnTo>
                  <a:lnTo>
                    <a:pt x="450" y="658"/>
                  </a:lnTo>
                  <a:lnTo>
                    <a:pt x="456" y="631"/>
                  </a:lnTo>
                  <a:lnTo>
                    <a:pt x="468" y="609"/>
                  </a:lnTo>
                  <a:lnTo>
                    <a:pt x="480" y="588"/>
                  </a:lnTo>
                  <a:lnTo>
                    <a:pt x="486" y="566"/>
                  </a:lnTo>
                  <a:lnTo>
                    <a:pt x="498" y="545"/>
                  </a:lnTo>
                  <a:lnTo>
                    <a:pt x="504" y="523"/>
                  </a:lnTo>
                  <a:lnTo>
                    <a:pt x="515" y="507"/>
                  </a:lnTo>
                  <a:lnTo>
                    <a:pt x="521" y="485"/>
                  </a:lnTo>
                  <a:lnTo>
                    <a:pt x="533" y="464"/>
                  </a:lnTo>
                  <a:lnTo>
                    <a:pt x="545" y="448"/>
                  </a:lnTo>
                  <a:lnTo>
                    <a:pt x="551" y="426"/>
                  </a:lnTo>
                  <a:lnTo>
                    <a:pt x="563" y="410"/>
                  </a:lnTo>
                  <a:lnTo>
                    <a:pt x="569" y="388"/>
                  </a:lnTo>
                  <a:lnTo>
                    <a:pt x="581" y="372"/>
                  </a:lnTo>
                  <a:lnTo>
                    <a:pt x="593" y="356"/>
                  </a:lnTo>
                  <a:lnTo>
                    <a:pt x="598" y="340"/>
                  </a:lnTo>
                  <a:lnTo>
                    <a:pt x="610" y="318"/>
                  </a:lnTo>
                  <a:lnTo>
                    <a:pt x="616" y="302"/>
                  </a:lnTo>
                  <a:lnTo>
                    <a:pt x="628" y="291"/>
                  </a:lnTo>
                  <a:lnTo>
                    <a:pt x="634" y="275"/>
                  </a:lnTo>
                  <a:lnTo>
                    <a:pt x="646" y="259"/>
                  </a:lnTo>
                  <a:lnTo>
                    <a:pt x="658" y="243"/>
                  </a:lnTo>
                  <a:lnTo>
                    <a:pt x="664" y="232"/>
                  </a:lnTo>
                  <a:lnTo>
                    <a:pt x="676" y="216"/>
                  </a:lnTo>
                  <a:lnTo>
                    <a:pt x="681" y="205"/>
                  </a:lnTo>
                  <a:lnTo>
                    <a:pt x="693" y="189"/>
                  </a:lnTo>
                  <a:lnTo>
                    <a:pt x="705" y="178"/>
                  </a:lnTo>
                  <a:lnTo>
                    <a:pt x="711" y="167"/>
                  </a:lnTo>
                  <a:lnTo>
                    <a:pt x="723" y="156"/>
                  </a:lnTo>
                  <a:lnTo>
                    <a:pt x="729" y="146"/>
                  </a:lnTo>
                  <a:lnTo>
                    <a:pt x="741" y="135"/>
                  </a:lnTo>
                  <a:lnTo>
                    <a:pt x="753" y="124"/>
                  </a:lnTo>
                  <a:lnTo>
                    <a:pt x="759" y="113"/>
                  </a:lnTo>
                  <a:lnTo>
                    <a:pt x="770" y="102"/>
                  </a:lnTo>
                  <a:lnTo>
                    <a:pt x="776" y="97"/>
                  </a:lnTo>
                  <a:lnTo>
                    <a:pt x="788" y="86"/>
                  </a:lnTo>
                  <a:lnTo>
                    <a:pt x="794" y="75"/>
                  </a:lnTo>
                  <a:lnTo>
                    <a:pt x="806" y="70"/>
                  </a:lnTo>
                  <a:lnTo>
                    <a:pt x="818" y="65"/>
                  </a:lnTo>
                  <a:lnTo>
                    <a:pt x="824" y="54"/>
                  </a:lnTo>
                  <a:lnTo>
                    <a:pt x="836" y="49"/>
                  </a:lnTo>
                  <a:lnTo>
                    <a:pt x="842" y="43"/>
                  </a:lnTo>
                  <a:lnTo>
                    <a:pt x="853" y="38"/>
                  </a:lnTo>
                  <a:lnTo>
                    <a:pt x="865" y="32"/>
                  </a:lnTo>
                  <a:lnTo>
                    <a:pt x="871" y="27"/>
                  </a:lnTo>
                  <a:lnTo>
                    <a:pt x="883" y="22"/>
                  </a:lnTo>
                  <a:lnTo>
                    <a:pt x="889" y="22"/>
                  </a:lnTo>
                  <a:lnTo>
                    <a:pt x="901" y="16"/>
                  </a:lnTo>
                  <a:lnTo>
                    <a:pt x="913" y="11"/>
                  </a:lnTo>
                  <a:lnTo>
                    <a:pt x="919" y="11"/>
                  </a:lnTo>
                  <a:lnTo>
                    <a:pt x="930" y="5"/>
                  </a:lnTo>
                  <a:lnTo>
                    <a:pt x="936" y="5"/>
                  </a:lnTo>
                  <a:lnTo>
                    <a:pt x="948" y="5"/>
                  </a:lnTo>
                  <a:lnTo>
                    <a:pt x="954" y="5"/>
                  </a:lnTo>
                  <a:lnTo>
                    <a:pt x="966" y="0"/>
                  </a:lnTo>
                  <a:lnTo>
                    <a:pt x="978" y="0"/>
                  </a:lnTo>
                  <a:lnTo>
                    <a:pt x="984" y="0"/>
                  </a:lnTo>
                  <a:lnTo>
                    <a:pt x="996" y="0"/>
                  </a:lnTo>
                  <a:lnTo>
                    <a:pt x="1002" y="0"/>
                  </a:lnTo>
                  <a:lnTo>
                    <a:pt x="1013" y="5"/>
                  </a:lnTo>
                  <a:lnTo>
                    <a:pt x="1025" y="5"/>
                  </a:lnTo>
                  <a:lnTo>
                    <a:pt x="1031" y="5"/>
                  </a:lnTo>
                  <a:lnTo>
                    <a:pt x="1043" y="11"/>
                  </a:lnTo>
                  <a:lnTo>
                    <a:pt x="1049" y="11"/>
                  </a:lnTo>
                  <a:lnTo>
                    <a:pt x="1061" y="16"/>
                  </a:lnTo>
                  <a:lnTo>
                    <a:pt x="1067" y="16"/>
                  </a:lnTo>
                  <a:lnTo>
                    <a:pt x="1079" y="22"/>
                  </a:lnTo>
                  <a:lnTo>
                    <a:pt x="1091" y="27"/>
                  </a:lnTo>
                  <a:lnTo>
                    <a:pt x="1096" y="27"/>
                  </a:lnTo>
                  <a:lnTo>
                    <a:pt x="1108" y="32"/>
                  </a:lnTo>
                  <a:lnTo>
                    <a:pt x="1114" y="38"/>
                  </a:lnTo>
                  <a:lnTo>
                    <a:pt x="1126" y="43"/>
                  </a:lnTo>
                  <a:lnTo>
                    <a:pt x="1138" y="49"/>
                  </a:lnTo>
                  <a:lnTo>
                    <a:pt x="1144" y="54"/>
                  </a:lnTo>
                  <a:lnTo>
                    <a:pt x="1156" y="59"/>
                  </a:lnTo>
                  <a:lnTo>
                    <a:pt x="1162" y="65"/>
                  </a:lnTo>
                  <a:lnTo>
                    <a:pt x="1174" y="70"/>
                  </a:lnTo>
                  <a:lnTo>
                    <a:pt x="1185" y="81"/>
                  </a:lnTo>
                  <a:lnTo>
                    <a:pt x="1191" y="86"/>
                  </a:lnTo>
                  <a:lnTo>
                    <a:pt x="1203" y="92"/>
                  </a:lnTo>
                  <a:lnTo>
                    <a:pt x="1209" y="102"/>
                  </a:lnTo>
                  <a:lnTo>
                    <a:pt x="1221" y="108"/>
                  </a:lnTo>
                  <a:lnTo>
                    <a:pt x="1227" y="119"/>
                  </a:lnTo>
                  <a:lnTo>
                    <a:pt x="1239" y="124"/>
                  </a:lnTo>
                  <a:lnTo>
                    <a:pt x="1251" y="135"/>
                  </a:lnTo>
                  <a:lnTo>
                    <a:pt x="1257" y="146"/>
                  </a:lnTo>
                  <a:lnTo>
                    <a:pt x="1268" y="151"/>
                  </a:lnTo>
                  <a:lnTo>
                    <a:pt x="1274" y="162"/>
                  </a:lnTo>
                  <a:lnTo>
                    <a:pt x="1286" y="173"/>
                  </a:lnTo>
                  <a:lnTo>
                    <a:pt x="1298" y="183"/>
                  </a:lnTo>
                  <a:lnTo>
                    <a:pt x="1304" y="194"/>
                  </a:lnTo>
                  <a:lnTo>
                    <a:pt x="1316" y="205"/>
                  </a:lnTo>
                  <a:lnTo>
                    <a:pt x="1322" y="216"/>
                  </a:lnTo>
                  <a:lnTo>
                    <a:pt x="1334" y="221"/>
                  </a:lnTo>
                  <a:lnTo>
                    <a:pt x="1345" y="237"/>
                  </a:lnTo>
                  <a:lnTo>
                    <a:pt x="1351" y="248"/>
                  </a:lnTo>
                  <a:lnTo>
                    <a:pt x="1363" y="259"/>
                  </a:lnTo>
                  <a:lnTo>
                    <a:pt x="1369" y="270"/>
                  </a:lnTo>
                  <a:lnTo>
                    <a:pt x="1381" y="280"/>
                  </a:lnTo>
                  <a:lnTo>
                    <a:pt x="1387" y="291"/>
                  </a:lnTo>
                  <a:lnTo>
                    <a:pt x="1399" y="302"/>
                  </a:lnTo>
                  <a:lnTo>
                    <a:pt x="1411" y="318"/>
                  </a:lnTo>
                  <a:lnTo>
                    <a:pt x="1417" y="329"/>
                  </a:lnTo>
                  <a:lnTo>
                    <a:pt x="1428" y="340"/>
                  </a:lnTo>
                  <a:lnTo>
                    <a:pt x="1434" y="351"/>
                  </a:lnTo>
                  <a:lnTo>
                    <a:pt x="1446" y="367"/>
                  </a:lnTo>
                  <a:lnTo>
                    <a:pt x="1458" y="377"/>
                  </a:lnTo>
                  <a:lnTo>
                    <a:pt x="1464" y="394"/>
                  </a:lnTo>
                  <a:lnTo>
                    <a:pt x="1476" y="404"/>
                  </a:lnTo>
                  <a:lnTo>
                    <a:pt x="1482" y="415"/>
                  </a:lnTo>
                  <a:lnTo>
                    <a:pt x="1494" y="431"/>
                  </a:lnTo>
                  <a:lnTo>
                    <a:pt x="1500" y="442"/>
                  </a:lnTo>
                  <a:lnTo>
                    <a:pt x="1511" y="458"/>
                  </a:lnTo>
                  <a:lnTo>
                    <a:pt x="1523" y="469"/>
                  </a:lnTo>
                  <a:lnTo>
                    <a:pt x="1529" y="485"/>
                  </a:lnTo>
                  <a:lnTo>
                    <a:pt x="1541" y="502"/>
                  </a:lnTo>
                  <a:lnTo>
                    <a:pt x="1547" y="512"/>
                  </a:lnTo>
                  <a:lnTo>
                    <a:pt x="1559" y="528"/>
                  </a:lnTo>
                  <a:lnTo>
                    <a:pt x="1571" y="539"/>
                  </a:lnTo>
                  <a:lnTo>
                    <a:pt x="1577" y="555"/>
                  </a:lnTo>
                  <a:lnTo>
                    <a:pt x="1589" y="572"/>
                  </a:lnTo>
                  <a:lnTo>
                    <a:pt x="1594" y="582"/>
                  </a:lnTo>
                  <a:lnTo>
                    <a:pt x="1606" y="599"/>
                  </a:lnTo>
                  <a:lnTo>
                    <a:pt x="1618" y="609"/>
                  </a:lnTo>
                  <a:lnTo>
                    <a:pt x="1624" y="626"/>
                  </a:lnTo>
                  <a:lnTo>
                    <a:pt x="1636" y="642"/>
                  </a:lnTo>
                  <a:lnTo>
                    <a:pt x="1642" y="653"/>
                  </a:lnTo>
                  <a:lnTo>
                    <a:pt x="1654" y="669"/>
                  </a:lnTo>
                  <a:lnTo>
                    <a:pt x="1660" y="685"/>
                  </a:lnTo>
                  <a:lnTo>
                    <a:pt x="1672" y="696"/>
                  </a:lnTo>
                  <a:lnTo>
                    <a:pt x="1683" y="712"/>
                  </a:lnTo>
                  <a:lnTo>
                    <a:pt x="1689" y="728"/>
                  </a:lnTo>
                  <a:lnTo>
                    <a:pt x="1701" y="744"/>
                  </a:lnTo>
                  <a:lnTo>
                    <a:pt x="1707" y="755"/>
                  </a:lnTo>
                  <a:lnTo>
                    <a:pt x="1719" y="771"/>
                  </a:lnTo>
                  <a:lnTo>
                    <a:pt x="1731" y="787"/>
                  </a:lnTo>
                  <a:lnTo>
                    <a:pt x="1737" y="798"/>
                  </a:lnTo>
                  <a:lnTo>
                    <a:pt x="1749" y="814"/>
                  </a:lnTo>
                  <a:lnTo>
                    <a:pt x="1755" y="830"/>
                  </a:lnTo>
                  <a:lnTo>
                    <a:pt x="1766" y="841"/>
                  </a:lnTo>
                  <a:lnTo>
                    <a:pt x="1778" y="857"/>
                  </a:lnTo>
                  <a:lnTo>
                    <a:pt x="1784" y="874"/>
                  </a:lnTo>
                  <a:lnTo>
                    <a:pt x="1796" y="884"/>
                  </a:lnTo>
                  <a:lnTo>
                    <a:pt x="1802" y="901"/>
                  </a:lnTo>
                  <a:lnTo>
                    <a:pt x="1814" y="917"/>
                  </a:lnTo>
                  <a:lnTo>
                    <a:pt x="1820" y="928"/>
                  </a:lnTo>
                  <a:lnTo>
                    <a:pt x="1832" y="944"/>
                  </a:lnTo>
                  <a:lnTo>
                    <a:pt x="1843" y="960"/>
                  </a:lnTo>
                  <a:lnTo>
                    <a:pt x="1849" y="971"/>
                  </a:lnTo>
                  <a:lnTo>
                    <a:pt x="1861" y="987"/>
                  </a:lnTo>
                  <a:lnTo>
                    <a:pt x="1867" y="998"/>
                  </a:lnTo>
                  <a:lnTo>
                    <a:pt x="1879" y="1014"/>
                  </a:lnTo>
                  <a:lnTo>
                    <a:pt x="1891" y="1030"/>
                  </a:lnTo>
                  <a:lnTo>
                    <a:pt x="1897" y="1041"/>
                  </a:lnTo>
                  <a:lnTo>
                    <a:pt x="1909" y="1057"/>
                  </a:lnTo>
                  <a:lnTo>
                    <a:pt x="1915" y="1068"/>
                  </a:lnTo>
                  <a:lnTo>
                    <a:pt x="1926" y="1084"/>
                  </a:lnTo>
                  <a:lnTo>
                    <a:pt x="1932" y="1095"/>
                  </a:lnTo>
                  <a:lnTo>
                    <a:pt x="1944" y="1111"/>
                  </a:lnTo>
                  <a:lnTo>
                    <a:pt x="1956" y="1122"/>
                  </a:lnTo>
                  <a:lnTo>
                    <a:pt x="1962" y="1138"/>
                  </a:lnTo>
                  <a:lnTo>
                    <a:pt x="1974" y="1149"/>
                  </a:lnTo>
                  <a:lnTo>
                    <a:pt x="1980" y="1165"/>
                  </a:lnTo>
                  <a:lnTo>
                    <a:pt x="1992" y="1176"/>
                  </a:lnTo>
                  <a:lnTo>
                    <a:pt x="2004" y="1192"/>
                  </a:lnTo>
                  <a:lnTo>
                    <a:pt x="2009" y="1203"/>
                  </a:lnTo>
                  <a:lnTo>
                    <a:pt x="2021" y="1213"/>
                  </a:lnTo>
                  <a:lnTo>
                    <a:pt x="2027" y="1230"/>
                  </a:lnTo>
                  <a:lnTo>
                    <a:pt x="2039" y="1240"/>
                  </a:lnTo>
                  <a:lnTo>
                    <a:pt x="2051" y="1251"/>
                  </a:lnTo>
                  <a:lnTo>
                    <a:pt x="2057" y="1267"/>
                  </a:lnTo>
                  <a:lnTo>
                    <a:pt x="2069" y="1278"/>
                  </a:lnTo>
                  <a:lnTo>
                    <a:pt x="2075" y="1289"/>
                  </a:lnTo>
                  <a:lnTo>
                    <a:pt x="2087" y="1300"/>
                  </a:lnTo>
                  <a:lnTo>
                    <a:pt x="2092" y="1316"/>
                  </a:lnTo>
                  <a:lnTo>
                    <a:pt x="2104" y="1327"/>
                  </a:lnTo>
                  <a:lnTo>
                    <a:pt x="2116" y="1337"/>
                  </a:lnTo>
                  <a:lnTo>
                    <a:pt x="2122" y="1348"/>
                  </a:lnTo>
                  <a:lnTo>
                    <a:pt x="2134" y="1359"/>
                  </a:lnTo>
                  <a:lnTo>
                    <a:pt x="2140" y="1375"/>
                  </a:lnTo>
                  <a:lnTo>
                    <a:pt x="2152" y="1386"/>
                  </a:lnTo>
                  <a:lnTo>
                    <a:pt x="2164" y="1397"/>
                  </a:lnTo>
                  <a:lnTo>
                    <a:pt x="2170" y="1408"/>
                  </a:lnTo>
                  <a:lnTo>
                    <a:pt x="2181" y="1418"/>
                  </a:lnTo>
                  <a:lnTo>
                    <a:pt x="2187" y="1429"/>
                  </a:lnTo>
                  <a:lnTo>
                    <a:pt x="2199" y="1440"/>
                  </a:lnTo>
                  <a:lnTo>
                    <a:pt x="2211" y="1451"/>
                  </a:lnTo>
                  <a:lnTo>
                    <a:pt x="2217" y="1461"/>
                  </a:lnTo>
                  <a:lnTo>
                    <a:pt x="2229" y="1472"/>
                  </a:lnTo>
                  <a:lnTo>
                    <a:pt x="2235" y="1483"/>
                  </a:lnTo>
                  <a:lnTo>
                    <a:pt x="2247" y="1494"/>
                  </a:lnTo>
                  <a:lnTo>
                    <a:pt x="2253" y="1505"/>
                  </a:lnTo>
                  <a:lnTo>
                    <a:pt x="2264" y="1515"/>
                  </a:lnTo>
                  <a:lnTo>
                    <a:pt x="2276" y="1521"/>
                  </a:lnTo>
                  <a:lnTo>
                    <a:pt x="2282" y="1532"/>
                  </a:lnTo>
                  <a:lnTo>
                    <a:pt x="2294" y="1542"/>
                  </a:lnTo>
                  <a:lnTo>
                    <a:pt x="2300" y="1553"/>
                  </a:lnTo>
                  <a:lnTo>
                    <a:pt x="2312" y="1564"/>
                  </a:lnTo>
                  <a:lnTo>
                    <a:pt x="2324" y="1569"/>
                  </a:lnTo>
                  <a:lnTo>
                    <a:pt x="2330" y="1580"/>
                  </a:lnTo>
                  <a:lnTo>
                    <a:pt x="2341" y="1591"/>
                  </a:lnTo>
                  <a:lnTo>
                    <a:pt x="2347" y="1596"/>
                  </a:lnTo>
                  <a:lnTo>
                    <a:pt x="2359" y="1607"/>
                  </a:lnTo>
                  <a:lnTo>
                    <a:pt x="2365" y="1618"/>
                  </a:lnTo>
                  <a:lnTo>
                    <a:pt x="2377" y="1623"/>
                  </a:lnTo>
                  <a:lnTo>
                    <a:pt x="2389" y="1634"/>
                  </a:lnTo>
                  <a:lnTo>
                    <a:pt x="2395" y="1645"/>
                  </a:lnTo>
                  <a:lnTo>
                    <a:pt x="2407" y="1650"/>
                  </a:lnTo>
                  <a:lnTo>
                    <a:pt x="2413" y="1661"/>
                  </a:lnTo>
                  <a:lnTo>
                    <a:pt x="2424" y="1666"/>
                  </a:lnTo>
                  <a:lnTo>
                    <a:pt x="2436" y="1677"/>
                  </a:lnTo>
                  <a:lnTo>
                    <a:pt x="2442" y="1683"/>
                  </a:lnTo>
                  <a:lnTo>
                    <a:pt x="2454" y="1693"/>
                  </a:lnTo>
                  <a:lnTo>
                    <a:pt x="2460" y="1699"/>
                  </a:lnTo>
                  <a:lnTo>
                    <a:pt x="2472" y="1704"/>
                  </a:lnTo>
                  <a:lnTo>
                    <a:pt x="2484" y="1715"/>
                  </a:lnTo>
                  <a:lnTo>
                    <a:pt x="2490" y="1720"/>
                  </a:lnTo>
                  <a:lnTo>
                    <a:pt x="2502" y="1731"/>
                  </a:lnTo>
                  <a:lnTo>
                    <a:pt x="2507" y="1736"/>
                  </a:lnTo>
                  <a:lnTo>
                    <a:pt x="2519" y="1742"/>
                  </a:lnTo>
                  <a:lnTo>
                    <a:pt x="2525" y="1747"/>
                  </a:lnTo>
                  <a:lnTo>
                    <a:pt x="2537" y="1758"/>
                  </a:lnTo>
                  <a:lnTo>
                    <a:pt x="2549" y="1763"/>
                  </a:lnTo>
                  <a:lnTo>
                    <a:pt x="2555" y="1769"/>
                  </a:lnTo>
                  <a:lnTo>
                    <a:pt x="2567" y="1774"/>
                  </a:lnTo>
                  <a:lnTo>
                    <a:pt x="2573" y="1785"/>
                  </a:lnTo>
                  <a:lnTo>
                    <a:pt x="2585" y="1790"/>
                  </a:lnTo>
                  <a:lnTo>
                    <a:pt x="2596" y="1796"/>
                  </a:lnTo>
                  <a:lnTo>
                    <a:pt x="2602" y="1801"/>
                  </a:lnTo>
                  <a:lnTo>
                    <a:pt x="2614" y="1807"/>
                  </a:lnTo>
                  <a:lnTo>
                    <a:pt x="2620" y="1812"/>
                  </a:lnTo>
                  <a:lnTo>
                    <a:pt x="2632" y="1817"/>
                  </a:lnTo>
                  <a:lnTo>
                    <a:pt x="2644" y="1823"/>
                  </a:lnTo>
                  <a:lnTo>
                    <a:pt x="2650" y="1828"/>
                  </a:lnTo>
                  <a:lnTo>
                    <a:pt x="2662" y="1834"/>
                  </a:lnTo>
                  <a:lnTo>
                    <a:pt x="2668" y="1839"/>
                  </a:lnTo>
                  <a:lnTo>
                    <a:pt x="2679" y="1844"/>
                  </a:lnTo>
                  <a:lnTo>
                    <a:pt x="2685" y="1850"/>
                  </a:lnTo>
                  <a:lnTo>
                    <a:pt x="2697" y="1855"/>
                  </a:lnTo>
                  <a:lnTo>
                    <a:pt x="2709" y="1861"/>
                  </a:lnTo>
                  <a:lnTo>
                    <a:pt x="2715" y="1866"/>
                  </a:lnTo>
                  <a:lnTo>
                    <a:pt x="2727" y="1871"/>
                  </a:lnTo>
                  <a:lnTo>
                    <a:pt x="2733" y="1877"/>
                  </a:lnTo>
                  <a:lnTo>
                    <a:pt x="2745" y="1882"/>
                  </a:lnTo>
                  <a:lnTo>
                    <a:pt x="2756" y="1887"/>
                  </a:lnTo>
                  <a:lnTo>
                    <a:pt x="2762" y="1893"/>
                  </a:lnTo>
                  <a:lnTo>
                    <a:pt x="2774" y="1893"/>
                  </a:lnTo>
                  <a:lnTo>
                    <a:pt x="2780" y="1898"/>
                  </a:lnTo>
                  <a:lnTo>
                    <a:pt x="2792" y="1904"/>
                  </a:lnTo>
                  <a:lnTo>
                    <a:pt x="2798" y="1909"/>
                  </a:lnTo>
                  <a:lnTo>
                    <a:pt x="2810" y="1914"/>
                  </a:lnTo>
                  <a:lnTo>
                    <a:pt x="2822" y="1914"/>
                  </a:lnTo>
                  <a:lnTo>
                    <a:pt x="2828" y="1920"/>
                  </a:lnTo>
                  <a:lnTo>
                    <a:pt x="2839" y="1925"/>
                  </a:lnTo>
                  <a:lnTo>
                    <a:pt x="2845" y="1931"/>
                  </a:lnTo>
                  <a:lnTo>
                    <a:pt x="2857" y="1931"/>
                  </a:lnTo>
                  <a:lnTo>
                    <a:pt x="2869" y="1936"/>
                  </a:lnTo>
                  <a:lnTo>
                    <a:pt x="2875" y="1941"/>
                  </a:lnTo>
                  <a:lnTo>
                    <a:pt x="2887" y="1941"/>
                  </a:lnTo>
                  <a:lnTo>
                    <a:pt x="2893" y="1947"/>
                  </a:lnTo>
                  <a:lnTo>
                    <a:pt x="2905" y="1947"/>
                  </a:lnTo>
                  <a:lnTo>
                    <a:pt x="2917" y="1952"/>
                  </a:lnTo>
                  <a:lnTo>
                    <a:pt x="2922" y="1958"/>
                  </a:lnTo>
                  <a:lnTo>
                    <a:pt x="2934" y="1958"/>
                  </a:lnTo>
                  <a:lnTo>
                    <a:pt x="2940" y="1963"/>
                  </a:lnTo>
                  <a:lnTo>
                    <a:pt x="2952" y="1963"/>
                  </a:lnTo>
                  <a:lnTo>
                    <a:pt x="2958" y="1968"/>
                  </a:lnTo>
                  <a:lnTo>
                    <a:pt x="2970" y="1974"/>
                  </a:lnTo>
                  <a:lnTo>
                    <a:pt x="2982" y="1974"/>
                  </a:lnTo>
                  <a:lnTo>
                    <a:pt x="2988" y="1979"/>
                  </a:lnTo>
                  <a:lnTo>
                    <a:pt x="3000" y="197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005720" y="5477400"/>
              <a:ext cx="3872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7878600" y="2387880"/>
              <a:ext cx="1080" cy="308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4005720" y="5439960"/>
              <a:ext cx="1080" cy="3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974040" y="5515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4974120" y="5439960"/>
              <a:ext cx="1080" cy="3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943520" y="5515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5941440" y="5439960"/>
              <a:ext cx="1080" cy="3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871240" y="55152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6910200" y="5439960"/>
              <a:ext cx="1080" cy="3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844320" y="55152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7878600" y="5439960"/>
              <a:ext cx="1080" cy="3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809480" y="55152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7841160" y="5477400"/>
              <a:ext cx="37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912080" y="540792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9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7841160" y="5168880"/>
              <a:ext cx="374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912080" y="510048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8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7841160" y="4860000"/>
              <a:ext cx="37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912080" y="479268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7841160" y="4551480"/>
              <a:ext cx="374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12080" y="448272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7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7841160" y="4242240"/>
              <a:ext cx="374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912080" y="417528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7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7841160" y="3932280"/>
              <a:ext cx="374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912080" y="386496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6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7841160" y="3623400"/>
              <a:ext cx="374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912080" y="355644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7841160" y="3314520"/>
              <a:ext cx="374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912080" y="324612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5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7841160" y="3005640"/>
              <a:ext cx="37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912080" y="293868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7841160" y="2696760"/>
              <a:ext cx="374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912080" y="262980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4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7841160" y="2387880"/>
              <a:ext cx="37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912080" y="231948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020840" y="2410560"/>
              <a:ext cx="3768480" cy="3060000"/>
            </a:xfrm>
            <a:custGeom>
              <a:avLst/>
              <a:gdLst/>
              <a:ahLst/>
              <a:rect l="l" t="t" r="r" b="b"/>
              <a:pathLst>
                <a:path w="3000" h="2190">
                  <a:moveTo>
                    <a:pt x="0" y="2190"/>
                  </a:moveTo>
                  <a:lnTo>
                    <a:pt x="6" y="2179"/>
                  </a:lnTo>
                  <a:lnTo>
                    <a:pt x="17" y="2173"/>
                  </a:lnTo>
                  <a:lnTo>
                    <a:pt x="23" y="2163"/>
                  </a:lnTo>
                  <a:lnTo>
                    <a:pt x="35" y="2157"/>
                  </a:lnTo>
                  <a:lnTo>
                    <a:pt x="47" y="2152"/>
                  </a:lnTo>
                  <a:lnTo>
                    <a:pt x="53" y="2141"/>
                  </a:lnTo>
                  <a:lnTo>
                    <a:pt x="65" y="2136"/>
                  </a:lnTo>
                  <a:lnTo>
                    <a:pt x="71" y="2130"/>
                  </a:lnTo>
                  <a:lnTo>
                    <a:pt x="83" y="2120"/>
                  </a:lnTo>
                  <a:lnTo>
                    <a:pt x="89" y="2114"/>
                  </a:lnTo>
                  <a:lnTo>
                    <a:pt x="100" y="2103"/>
                  </a:lnTo>
                  <a:lnTo>
                    <a:pt x="112" y="2098"/>
                  </a:lnTo>
                  <a:lnTo>
                    <a:pt x="118" y="2093"/>
                  </a:lnTo>
                  <a:lnTo>
                    <a:pt x="130" y="2082"/>
                  </a:lnTo>
                  <a:lnTo>
                    <a:pt x="136" y="2076"/>
                  </a:lnTo>
                  <a:lnTo>
                    <a:pt x="148" y="2071"/>
                  </a:lnTo>
                  <a:lnTo>
                    <a:pt x="160" y="2060"/>
                  </a:lnTo>
                  <a:lnTo>
                    <a:pt x="166" y="2055"/>
                  </a:lnTo>
                  <a:lnTo>
                    <a:pt x="178" y="2044"/>
                  </a:lnTo>
                  <a:lnTo>
                    <a:pt x="183" y="2039"/>
                  </a:lnTo>
                  <a:lnTo>
                    <a:pt x="195" y="2033"/>
                  </a:lnTo>
                  <a:lnTo>
                    <a:pt x="201" y="2022"/>
                  </a:lnTo>
                  <a:lnTo>
                    <a:pt x="213" y="2017"/>
                  </a:lnTo>
                  <a:lnTo>
                    <a:pt x="225" y="2006"/>
                  </a:lnTo>
                  <a:lnTo>
                    <a:pt x="231" y="2001"/>
                  </a:lnTo>
                  <a:lnTo>
                    <a:pt x="243" y="1995"/>
                  </a:lnTo>
                  <a:lnTo>
                    <a:pt x="249" y="1985"/>
                  </a:lnTo>
                  <a:lnTo>
                    <a:pt x="261" y="1979"/>
                  </a:lnTo>
                  <a:lnTo>
                    <a:pt x="272" y="1974"/>
                  </a:lnTo>
                  <a:lnTo>
                    <a:pt x="278" y="1963"/>
                  </a:lnTo>
                  <a:lnTo>
                    <a:pt x="290" y="1958"/>
                  </a:lnTo>
                  <a:lnTo>
                    <a:pt x="296" y="1947"/>
                  </a:lnTo>
                  <a:lnTo>
                    <a:pt x="308" y="1942"/>
                  </a:lnTo>
                  <a:lnTo>
                    <a:pt x="320" y="1936"/>
                  </a:lnTo>
                  <a:lnTo>
                    <a:pt x="326" y="1925"/>
                  </a:lnTo>
                  <a:lnTo>
                    <a:pt x="338" y="1920"/>
                  </a:lnTo>
                  <a:lnTo>
                    <a:pt x="344" y="1915"/>
                  </a:lnTo>
                  <a:lnTo>
                    <a:pt x="355" y="1904"/>
                  </a:lnTo>
                  <a:lnTo>
                    <a:pt x="361" y="1898"/>
                  </a:lnTo>
                  <a:lnTo>
                    <a:pt x="373" y="1888"/>
                  </a:lnTo>
                  <a:lnTo>
                    <a:pt x="385" y="1882"/>
                  </a:lnTo>
                  <a:lnTo>
                    <a:pt x="391" y="1877"/>
                  </a:lnTo>
                  <a:lnTo>
                    <a:pt x="403" y="1866"/>
                  </a:lnTo>
                  <a:lnTo>
                    <a:pt x="409" y="1861"/>
                  </a:lnTo>
                  <a:lnTo>
                    <a:pt x="421" y="1855"/>
                  </a:lnTo>
                  <a:lnTo>
                    <a:pt x="432" y="1844"/>
                  </a:lnTo>
                  <a:lnTo>
                    <a:pt x="438" y="1839"/>
                  </a:lnTo>
                  <a:lnTo>
                    <a:pt x="450" y="1828"/>
                  </a:lnTo>
                  <a:lnTo>
                    <a:pt x="456" y="1823"/>
                  </a:lnTo>
                  <a:lnTo>
                    <a:pt x="468" y="1818"/>
                  </a:lnTo>
                  <a:lnTo>
                    <a:pt x="480" y="1807"/>
                  </a:lnTo>
                  <a:lnTo>
                    <a:pt x="486" y="1801"/>
                  </a:lnTo>
                  <a:lnTo>
                    <a:pt x="498" y="1796"/>
                  </a:lnTo>
                  <a:lnTo>
                    <a:pt x="504" y="1785"/>
                  </a:lnTo>
                  <a:lnTo>
                    <a:pt x="515" y="1780"/>
                  </a:lnTo>
                  <a:lnTo>
                    <a:pt x="521" y="1769"/>
                  </a:lnTo>
                  <a:lnTo>
                    <a:pt x="533" y="1764"/>
                  </a:lnTo>
                  <a:lnTo>
                    <a:pt x="545" y="1758"/>
                  </a:lnTo>
                  <a:lnTo>
                    <a:pt x="551" y="1747"/>
                  </a:lnTo>
                  <a:lnTo>
                    <a:pt x="563" y="1742"/>
                  </a:lnTo>
                  <a:lnTo>
                    <a:pt x="569" y="1737"/>
                  </a:lnTo>
                  <a:lnTo>
                    <a:pt x="581" y="1726"/>
                  </a:lnTo>
                  <a:lnTo>
                    <a:pt x="593" y="1720"/>
                  </a:lnTo>
                  <a:lnTo>
                    <a:pt x="598" y="1710"/>
                  </a:lnTo>
                  <a:lnTo>
                    <a:pt x="610" y="1704"/>
                  </a:lnTo>
                  <a:lnTo>
                    <a:pt x="616" y="1699"/>
                  </a:lnTo>
                  <a:lnTo>
                    <a:pt x="628" y="1688"/>
                  </a:lnTo>
                  <a:lnTo>
                    <a:pt x="634" y="1683"/>
                  </a:lnTo>
                  <a:lnTo>
                    <a:pt x="646" y="1677"/>
                  </a:lnTo>
                  <a:lnTo>
                    <a:pt x="658" y="1667"/>
                  </a:lnTo>
                  <a:lnTo>
                    <a:pt x="664" y="1661"/>
                  </a:lnTo>
                  <a:lnTo>
                    <a:pt x="676" y="1656"/>
                  </a:lnTo>
                  <a:lnTo>
                    <a:pt x="681" y="1645"/>
                  </a:lnTo>
                  <a:lnTo>
                    <a:pt x="693" y="1640"/>
                  </a:lnTo>
                  <a:lnTo>
                    <a:pt x="705" y="1629"/>
                  </a:lnTo>
                  <a:lnTo>
                    <a:pt x="711" y="1623"/>
                  </a:lnTo>
                  <a:lnTo>
                    <a:pt x="723" y="1618"/>
                  </a:lnTo>
                  <a:lnTo>
                    <a:pt x="729" y="1607"/>
                  </a:lnTo>
                  <a:lnTo>
                    <a:pt x="741" y="1602"/>
                  </a:lnTo>
                  <a:lnTo>
                    <a:pt x="753" y="1596"/>
                  </a:lnTo>
                  <a:lnTo>
                    <a:pt x="759" y="1586"/>
                  </a:lnTo>
                  <a:lnTo>
                    <a:pt x="770" y="1580"/>
                  </a:lnTo>
                  <a:lnTo>
                    <a:pt x="776" y="1575"/>
                  </a:lnTo>
                  <a:lnTo>
                    <a:pt x="788" y="1564"/>
                  </a:lnTo>
                  <a:lnTo>
                    <a:pt x="794" y="1559"/>
                  </a:lnTo>
                  <a:lnTo>
                    <a:pt x="806" y="1548"/>
                  </a:lnTo>
                  <a:lnTo>
                    <a:pt x="818" y="1542"/>
                  </a:lnTo>
                  <a:lnTo>
                    <a:pt x="824" y="1537"/>
                  </a:lnTo>
                  <a:lnTo>
                    <a:pt x="836" y="1526"/>
                  </a:lnTo>
                  <a:lnTo>
                    <a:pt x="842" y="1521"/>
                  </a:lnTo>
                  <a:lnTo>
                    <a:pt x="853" y="1516"/>
                  </a:lnTo>
                  <a:lnTo>
                    <a:pt x="865" y="1505"/>
                  </a:lnTo>
                  <a:lnTo>
                    <a:pt x="871" y="1499"/>
                  </a:lnTo>
                  <a:lnTo>
                    <a:pt x="883" y="1494"/>
                  </a:lnTo>
                  <a:lnTo>
                    <a:pt x="889" y="1483"/>
                  </a:lnTo>
                  <a:lnTo>
                    <a:pt x="901" y="1478"/>
                  </a:lnTo>
                  <a:lnTo>
                    <a:pt x="913" y="1472"/>
                  </a:lnTo>
                  <a:lnTo>
                    <a:pt x="919" y="1462"/>
                  </a:lnTo>
                  <a:lnTo>
                    <a:pt x="930" y="1456"/>
                  </a:lnTo>
                  <a:lnTo>
                    <a:pt x="936" y="1445"/>
                  </a:lnTo>
                  <a:lnTo>
                    <a:pt x="948" y="1440"/>
                  </a:lnTo>
                  <a:lnTo>
                    <a:pt x="954" y="1435"/>
                  </a:lnTo>
                  <a:lnTo>
                    <a:pt x="966" y="1424"/>
                  </a:lnTo>
                  <a:lnTo>
                    <a:pt x="978" y="1418"/>
                  </a:lnTo>
                  <a:lnTo>
                    <a:pt x="984" y="1413"/>
                  </a:lnTo>
                  <a:lnTo>
                    <a:pt x="996" y="1402"/>
                  </a:lnTo>
                  <a:lnTo>
                    <a:pt x="1002" y="1397"/>
                  </a:lnTo>
                  <a:lnTo>
                    <a:pt x="1013" y="1391"/>
                  </a:lnTo>
                  <a:lnTo>
                    <a:pt x="1025" y="1381"/>
                  </a:lnTo>
                  <a:lnTo>
                    <a:pt x="1031" y="1375"/>
                  </a:lnTo>
                  <a:lnTo>
                    <a:pt x="1043" y="1370"/>
                  </a:lnTo>
                  <a:lnTo>
                    <a:pt x="1049" y="1359"/>
                  </a:lnTo>
                  <a:lnTo>
                    <a:pt x="1061" y="1354"/>
                  </a:lnTo>
                  <a:lnTo>
                    <a:pt x="1067" y="1348"/>
                  </a:lnTo>
                  <a:lnTo>
                    <a:pt x="1079" y="1338"/>
                  </a:lnTo>
                  <a:lnTo>
                    <a:pt x="1091" y="1332"/>
                  </a:lnTo>
                  <a:lnTo>
                    <a:pt x="1096" y="1327"/>
                  </a:lnTo>
                  <a:lnTo>
                    <a:pt x="1108" y="1316"/>
                  </a:lnTo>
                  <a:lnTo>
                    <a:pt x="1114" y="1311"/>
                  </a:lnTo>
                  <a:lnTo>
                    <a:pt x="1126" y="1305"/>
                  </a:lnTo>
                  <a:lnTo>
                    <a:pt x="1138" y="1294"/>
                  </a:lnTo>
                  <a:lnTo>
                    <a:pt x="1144" y="1289"/>
                  </a:lnTo>
                  <a:lnTo>
                    <a:pt x="1156" y="1284"/>
                  </a:lnTo>
                  <a:lnTo>
                    <a:pt x="1162" y="1273"/>
                  </a:lnTo>
                  <a:lnTo>
                    <a:pt x="1174" y="1267"/>
                  </a:lnTo>
                  <a:lnTo>
                    <a:pt x="1185" y="1262"/>
                  </a:lnTo>
                  <a:lnTo>
                    <a:pt x="1191" y="1251"/>
                  </a:lnTo>
                  <a:lnTo>
                    <a:pt x="1203" y="1246"/>
                  </a:lnTo>
                  <a:lnTo>
                    <a:pt x="1209" y="1240"/>
                  </a:lnTo>
                  <a:lnTo>
                    <a:pt x="1221" y="1230"/>
                  </a:lnTo>
                  <a:lnTo>
                    <a:pt x="1227" y="1224"/>
                  </a:lnTo>
                  <a:lnTo>
                    <a:pt x="1239" y="1219"/>
                  </a:lnTo>
                  <a:lnTo>
                    <a:pt x="1251" y="1208"/>
                  </a:lnTo>
                  <a:lnTo>
                    <a:pt x="1257" y="1203"/>
                  </a:lnTo>
                  <a:lnTo>
                    <a:pt x="1268" y="1197"/>
                  </a:lnTo>
                  <a:lnTo>
                    <a:pt x="1274" y="1187"/>
                  </a:lnTo>
                  <a:lnTo>
                    <a:pt x="1286" y="1181"/>
                  </a:lnTo>
                  <a:lnTo>
                    <a:pt x="1298" y="1176"/>
                  </a:lnTo>
                  <a:lnTo>
                    <a:pt x="1304" y="1165"/>
                  </a:lnTo>
                  <a:lnTo>
                    <a:pt x="1316" y="1160"/>
                  </a:lnTo>
                  <a:lnTo>
                    <a:pt x="1322" y="1154"/>
                  </a:lnTo>
                  <a:lnTo>
                    <a:pt x="1334" y="1143"/>
                  </a:lnTo>
                  <a:lnTo>
                    <a:pt x="1345" y="1138"/>
                  </a:lnTo>
                  <a:lnTo>
                    <a:pt x="1351" y="1133"/>
                  </a:lnTo>
                  <a:lnTo>
                    <a:pt x="1363" y="1122"/>
                  </a:lnTo>
                  <a:lnTo>
                    <a:pt x="1369" y="1116"/>
                  </a:lnTo>
                  <a:lnTo>
                    <a:pt x="1381" y="1111"/>
                  </a:lnTo>
                  <a:lnTo>
                    <a:pt x="1387" y="1100"/>
                  </a:lnTo>
                  <a:lnTo>
                    <a:pt x="1399" y="1095"/>
                  </a:lnTo>
                  <a:lnTo>
                    <a:pt x="1411" y="1089"/>
                  </a:lnTo>
                  <a:lnTo>
                    <a:pt x="1417" y="1084"/>
                  </a:lnTo>
                  <a:lnTo>
                    <a:pt x="1428" y="1073"/>
                  </a:lnTo>
                  <a:lnTo>
                    <a:pt x="1434" y="1068"/>
                  </a:lnTo>
                  <a:lnTo>
                    <a:pt x="1446" y="1063"/>
                  </a:lnTo>
                  <a:lnTo>
                    <a:pt x="1458" y="1052"/>
                  </a:lnTo>
                  <a:lnTo>
                    <a:pt x="1464" y="1046"/>
                  </a:lnTo>
                  <a:lnTo>
                    <a:pt x="1476" y="1041"/>
                  </a:lnTo>
                  <a:lnTo>
                    <a:pt x="1482" y="1030"/>
                  </a:lnTo>
                  <a:lnTo>
                    <a:pt x="1494" y="1025"/>
                  </a:lnTo>
                  <a:lnTo>
                    <a:pt x="1500" y="1019"/>
                  </a:lnTo>
                  <a:lnTo>
                    <a:pt x="1511" y="1009"/>
                  </a:lnTo>
                  <a:lnTo>
                    <a:pt x="1523" y="1003"/>
                  </a:lnTo>
                  <a:lnTo>
                    <a:pt x="1529" y="998"/>
                  </a:lnTo>
                  <a:lnTo>
                    <a:pt x="1541" y="992"/>
                  </a:lnTo>
                  <a:lnTo>
                    <a:pt x="1547" y="982"/>
                  </a:lnTo>
                  <a:lnTo>
                    <a:pt x="1559" y="976"/>
                  </a:lnTo>
                  <a:lnTo>
                    <a:pt x="1571" y="971"/>
                  </a:lnTo>
                  <a:lnTo>
                    <a:pt x="1577" y="960"/>
                  </a:lnTo>
                  <a:lnTo>
                    <a:pt x="1589" y="955"/>
                  </a:lnTo>
                  <a:lnTo>
                    <a:pt x="1594" y="949"/>
                  </a:lnTo>
                  <a:lnTo>
                    <a:pt x="1606" y="938"/>
                  </a:lnTo>
                  <a:lnTo>
                    <a:pt x="1618" y="933"/>
                  </a:lnTo>
                  <a:lnTo>
                    <a:pt x="1624" y="928"/>
                  </a:lnTo>
                  <a:lnTo>
                    <a:pt x="1636" y="922"/>
                  </a:lnTo>
                  <a:lnTo>
                    <a:pt x="1642" y="912"/>
                  </a:lnTo>
                  <a:lnTo>
                    <a:pt x="1654" y="906"/>
                  </a:lnTo>
                  <a:lnTo>
                    <a:pt x="1660" y="901"/>
                  </a:lnTo>
                  <a:lnTo>
                    <a:pt x="1672" y="890"/>
                  </a:lnTo>
                  <a:lnTo>
                    <a:pt x="1683" y="885"/>
                  </a:lnTo>
                  <a:lnTo>
                    <a:pt x="1689" y="879"/>
                  </a:lnTo>
                  <a:lnTo>
                    <a:pt x="1701" y="874"/>
                  </a:lnTo>
                  <a:lnTo>
                    <a:pt x="1707" y="863"/>
                  </a:lnTo>
                  <a:lnTo>
                    <a:pt x="1719" y="858"/>
                  </a:lnTo>
                  <a:lnTo>
                    <a:pt x="1731" y="852"/>
                  </a:lnTo>
                  <a:lnTo>
                    <a:pt x="1737" y="847"/>
                  </a:lnTo>
                  <a:lnTo>
                    <a:pt x="1749" y="836"/>
                  </a:lnTo>
                  <a:lnTo>
                    <a:pt x="1755" y="831"/>
                  </a:lnTo>
                  <a:lnTo>
                    <a:pt x="1766" y="825"/>
                  </a:lnTo>
                  <a:lnTo>
                    <a:pt x="1778" y="814"/>
                  </a:lnTo>
                  <a:lnTo>
                    <a:pt x="1784" y="809"/>
                  </a:lnTo>
                  <a:lnTo>
                    <a:pt x="1796" y="804"/>
                  </a:lnTo>
                  <a:lnTo>
                    <a:pt x="1802" y="798"/>
                  </a:lnTo>
                  <a:lnTo>
                    <a:pt x="1814" y="787"/>
                  </a:lnTo>
                  <a:lnTo>
                    <a:pt x="1820" y="782"/>
                  </a:lnTo>
                  <a:lnTo>
                    <a:pt x="1832" y="777"/>
                  </a:lnTo>
                  <a:lnTo>
                    <a:pt x="1843" y="771"/>
                  </a:lnTo>
                  <a:lnTo>
                    <a:pt x="1849" y="761"/>
                  </a:lnTo>
                  <a:lnTo>
                    <a:pt x="1861" y="755"/>
                  </a:lnTo>
                  <a:lnTo>
                    <a:pt x="1867" y="750"/>
                  </a:lnTo>
                  <a:lnTo>
                    <a:pt x="1879" y="744"/>
                  </a:lnTo>
                  <a:lnTo>
                    <a:pt x="1891" y="734"/>
                  </a:lnTo>
                  <a:lnTo>
                    <a:pt x="1897" y="728"/>
                  </a:lnTo>
                  <a:lnTo>
                    <a:pt x="1909" y="723"/>
                  </a:lnTo>
                  <a:lnTo>
                    <a:pt x="1915" y="717"/>
                  </a:lnTo>
                  <a:lnTo>
                    <a:pt x="1926" y="707"/>
                  </a:lnTo>
                  <a:lnTo>
                    <a:pt x="1932" y="701"/>
                  </a:lnTo>
                  <a:lnTo>
                    <a:pt x="1944" y="696"/>
                  </a:lnTo>
                  <a:lnTo>
                    <a:pt x="1956" y="690"/>
                  </a:lnTo>
                  <a:lnTo>
                    <a:pt x="1962" y="680"/>
                  </a:lnTo>
                  <a:lnTo>
                    <a:pt x="1974" y="674"/>
                  </a:lnTo>
                  <a:lnTo>
                    <a:pt x="1980" y="669"/>
                  </a:lnTo>
                  <a:lnTo>
                    <a:pt x="1992" y="663"/>
                  </a:lnTo>
                  <a:lnTo>
                    <a:pt x="2004" y="653"/>
                  </a:lnTo>
                  <a:lnTo>
                    <a:pt x="2009" y="647"/>
                  </a:lnTo>
                  <a:lnTo>
                    <a:pt x="2021" y="642"/>
                  </a:lnTo>
                  <a:lnTo>
                    <a:pt x="2027" y="636"/>
                  </a:lnTo>
                  <a:lnTo>
                    <a:pt x="2039" y="626"/>
                  </a:lnTo>
                  <a:lnTo>
                    <a:pt x="2051" y="620"/>
                  </a:lnTo>
                  <a:lnTo>
                    <a:pt x="2057" y="615"/>
                  </a:lnTo>
                  <a:lnTo>
                    <a:pt x="2069" y="610"/>
                  </a:lnTo>
                  <a:lnTo>
                    <a:pt x="2075" y="604"/>
                  </a:lnTo>
                  <a:lnTo>
                    <a:pt x="2087" y="593"/>
                  </a:lnTo>
                  <a:lnTo>
                    <a:pt x="2092" y="588"/>
                  </a:lnTo>
                  <a:lnTo>
                    <a:pt x="2104" y="583"/>
                  </a:lnTo>
                  <a:lnTo>
                    <a:pt x="2116" y="577"/>
                  </a:lnTo>
                  <a:lnTo>
                    <a:pt x="2122" y="566"/>
                  </a:lnTo>
                  <a:lnTo>
                    <a:pt x="2134" y="561"/>
                  </a:lnTo>
                  <a:lnTo>
                    <a:pt x="2140" y="556"/>
                  </a:lnTo>
                  <a:lnTo>
                    <a:pt x="2152" y="550"/>
                  </a:lnTo>
                  <a:lnTo>
                    <a:pt x="2164" y="545"/>
                  </a:lnTo>
                  <a:lnTo>
                    <a:pt x="2170" y="534"/>
                  </a:lnTo>
                  <a:lnTo>
                    <a:pt x="2181" y="529"/>
                  </a:lnTo>
                  <a:lnTo>
                    <a:pt x="2187" y="523"/>
                  </a:lnTo>
                  <a:lnTo>
                    <a:pt x="2199" y="518"/>
                  </a:lnTo>
                  <a:lnTo>
                    <a:pt x="2211" y="512"/>
                  </a:lnTo>
                  <a:lnTo>
                    <a:pt x="2217" y="502"/>
                  </a:lnTo>
                  <a:lnTo>
                    <a:pt x="2229" y="496"/>
                  </a:lnTo>
                  <a:lnTo>
                    <a:pt x="2235" y="491"/>
                  </a:lnTo>
                  <a:lnTo>
                    <a:pt x="2247" y="485"/>
                  </a:lnTo>
                  <a:lnTo>
                    <a:pt x="2253" y="480"/>
                  </a:lnTo>
                  <a:lnTo>
                    <a:pt x="2264" y="469"/>
                  </a:lnTo>
                  <a:lnTo>
                    <a:pt x="2276" y="464"/>
                  </a:lnTo>
                  <a:lnTo>
                    <a:pt x="2282" y="459"/>
                  </a:lnTo>
                  <a:lnTo>
                    <a:pt x="2294" y="453"/>
                  </a:lnTo>
                  <a:lnTo>
                    <a:pt x="2300" y="448"/>
                  </a:lnTo>
                  <a:lnTo>
                    <a:pt x="2312" y="437"/>
                  </a:lnTo>
                  <a:lnTo>
                    <a:pt x="2324" y="432"/>
                  </a:lnTo>
                  <a:lnTo>
                    <a:pt x="2330" y="426"/>
                  </a:lnTo>
                  <a:lnTo>
                    <a:pt x="2341" y="421"/>
                  </a:lnTo>
                  <a:lnTo>
                    <a:pt x="2347" y="415"/>
                  </a:lnTo>
                  <a:lnTo>
                    <a:pt x="2359" y="410"/>
                  </a:lnTo>
                  <a:lnTo>
                    <a:pt x="2365" y="399"/>
                  </a:lnTo>
                  <a:lnTo>
                    <a:pt x="2377" y="394"/>
                  </a:lnTo>
                  <a:lnTo>
                    <a:pt x="2389" y="388"/>
                  </a:lnTo>
                  <a:lnTo>
                    <a:pt x="2395" y="383"/>
                  </a:lnTo>
                  <a:lnTo>
                    <a:pt x="2407" y="378"/>
                  </a:lnTo>
                  <a:lnTo>
                    <a:pt x="2413" y="372"/>
                  </a:lnTo>
                  <a:lnTo>
                    <a:pt x="2424" y="361"/>
                  </a:lnTo>
                  <a:lnTo>
                    <a:pt x="2436" y="356"/>
                  </a:lnTo>
                  <a:lnTo>
                    <a:pt x="2442" y="351"/>
                  </a:lnTo>
                  <a:lnTo>
                    <a:pt x="2454" y="345"/>
                  </a:lnTo>
                  <a:lnTo>
                    <a:pt x="2460" y="340"/>
                  </a:lnTo>
                  <a:lnTo>
                    <a:pt x="2472" y="334"/>
                  </a:lnTo>
                  <a:lnTo>
                    <a:pt x="2484" y="324"/>
                  </a:lnTo>
                  <a:lnTo>
                    <a:pt x="2490" y="318"/>
                  </a:lnTo>
                  <a:lnTo>
                    <a:pt x="2502" y="313"/>
                  </a:lnTo>
                  <a:lnTo>
                    <a:pt x="2507" y="308"/>
                  </a:lnTo>
                  <a:lnTo>
                    <a:pt x="2519" y="302"/>
                  </a:lnTo>
                  <a:lnTo>
                    <a:pt x="2525" y="297"/>
                  </a:lnTo>
                  <a:lnTo>
                    <a:pt x="2537" y="291"/>
                  </a:lnTo>
                  <a:lnTo>
                    <a:pt x="2549" y="281"/>
                  </a:lnTo>
                  <a:lnTo>
                    <a:pt x="2555" y="275"/>
                  </a:lnTo>
                  <a:lnTo>
                    <a:pt x="2567" y="270"/>
                  </a:lnTo>
                  <a:lnTo>
                    <a:pt x="2573" y="264"/>
                  </a:lnTo>
                  <a:lnTo>
                    <a:pt x="2585" y="259"/>
                  </a:lnTo>
                  <a:lnTo>
                    <a:pt x="2596" y="254"/>
                  </a:lnTo>
                  <a:lnTo>
                    <a:pt x="2602" y="248"/>
                  </a:lnTo>
                  <a:lnTo>
                    <a:pt x="2614" y="243"/>
                  </a:lnTo>
                  <a:lnTo>
                    <a:pt x="2620" y="232"/>
                  </a:lnTo>
                  <a:lnTo>
                    <a:pt x="2632" y="227"/>
                  </a:lnTo>
                  <a:lnTo>
                    <a:pt x="2644" y="221"/>
                  </a:lnTo>
                  <a:lnTo>
                    <a:pt x="2650" y="216"/>
                  </a:lnTo>
                  <a:lnTo>
                    <a:pt x="2662" y="210"/>
                  </a:lnTo>
                  <a:lnTo>
                    <a:pt x="2668" y="205"/>
                  </a:lnTo>
                  <a:lnTo>
                    <a:pt x="2679" y="200"/>
                  </a:lnTo>
                  <a:lnTo>
                    <a:pt x="2685" y="194"/>
                  </a:lnTo>
                  <a:lnTo>
                    <a:pt x="2697" y="183"/>
                  </a:lnTo>
                  <a:lnTo>
                    <a:pt x="2709" y="178"/>
                  </a:lnTo>
                  <a:lnTo>
                    <a:pt x="2715" y="173"/>
                  </a:lnTo>
                  <a:lnTo>
                    <a:pt x="2727" y="167"/>
                  </a:lnTo>
                  <a:lnTo>
                    <a:pt x="2733" y="162"/>
                  </a:lnTo>
                  <a:lnTo>
                    <a:pt x="2745" y="157"/>
                  </a:lnTo>
                  <a:lnTo>
                    <a:pt x="2756" y="151"/>
                  </a:lnTo>
                  <a:lnTo>
                    <a:pt x="2762" y="146"/>
                  </a:lnTo>
                  <a:lnTo>
                    <a:pt x="2774" y="140"/>
                  </a:lnTo>
                  <a:lnTo>
                    <a:pt x="2780" y="135"/>
                  </a:lnTo>
                  <a:lnTo>
                    <a:pt x="2792" y="130"/>
                  </a:lnTo>
                  <a:lnTo>
                    <a:pt x="2798" y="119"/>
                  </a:lnTo>
                  <a:lnTo>
                    <a:pt x="2810" y="113"/>
                  </a:lnTo>
                  <a:lnTo>
                    <a:pt x="2822" y="108"/>
                  </a:lnTo>
                  <a:lnTo>
                    <a:pt x="2828" y="103"/>
                  </a:lnTo>
                  <a:lnTo>
                    <a:pt x="2839" y="97"/>
                  </a:lnTo>
                  <a:lnTo>
                    <a:pt x="2845" y="92"/>
                  </a:lnTo>
                  <a:lnTo>
                    <a:pt x="2857" y="86"/>
                  </a:lnTo>
                  <a:lnTo>
                    <a:pt x="2869" y="81"/>
                  </a:lnTo>
                  <a:lnTo>
                    <a:pt x="2875" y="76"/>
                  </a:lnTo>
                  <a:lnTo>
                    <a:pt x="2887" y="70"/>
                  </a:lnTo>
                  <a:lnTo>
                    <a:pt x="2893" y="65"/>
                  </a:lnTo>
                  <a:lnTo>
                    <a:pt x="2905" y="59"/>
                  </a:lnTo>
                  <a:lnTo>
                    <a:pt x="2917" y="54"/>
                  </a:lnTo>
                  <a:lnTo>
                    <a:pt x="2922" y="49"/>
                  </a:lnTo>
                  <a:lnTo>
                    <a:pt x="2934" y="43"/>
                  </a:lnTo>
                  <a:lnTo>
                    <a:pt x="2940" y="38"/>
                  </a:lnTo>
                  <a:lnTo>
                    <a:pt x="2952" y="27"/>
                  </a:lnTo>
                  <a:lnTo>
                    <a:pt x="2958" y="22"/>
                  </a:lnTo>
                  <a:lnTo>
                    <a:pt x="2970" y="16"/>
                  </a:lnTo>
                  <a:lnTo>
                    <a:pt x="2982" y="11"/>
                  </a:lnTo>
                  <a:lnTo>
                    <a:pt x="2988" y="6"/>
                  </a:lnTo>
                  <a:lnTo>
                    <a:pt x="300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lg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288400" y="5839560"/>
              <a:ext cx="1764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equency (MHz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16200000">
              <a:off x="7777800" y="3663720"/>
              <a:ext cx="130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hase (Deg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rot="16200000">
              <a:off x="2964960" y="3609360"/>
              <a:ext cx="116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mplitu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5538240" y="2943000"/>
              <a:ext cx="120240" cy="33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86000" y="3244320"/>
              <a:ext cx="109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mplitu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5424840" y="4162680"/>
              <a:ext cx="160920" cy="39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191200" y="4519080"/>
              <a:ext cx="70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h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2512440" y="304920"/>
            <a:ext cx="35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coustic Transfer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066680" y="914400"/>
            <a:ext cx="69343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48920" y="1600200"/>
            <a:ext cx="800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ldstein, A., Gandhi, D.R., and W.D. O’Brien,” Diff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s in hydrophone measurements,” IEEE Trans. Ultrasonic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rroelectrics, and Freq. Control, 45, 972-979, 199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127160" y="905040"/>
            <a:ext cx="755964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9900"/>
                </a:solidFill>
                <a:latin typeface="Times New Roman"/>
              </a:rPr>
              <a:t>Learning 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ing the acoustic/elastic  wave processes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ransfer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ed force con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ases where the transfer function can be obtained analyt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s of material atten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133720" y="914400"/>
            <a:ext cx="4647960" cy="2286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17880" y="1600200"/>
            <a:ext cx="1828800" cy="1600200"/>
          </a:xfrm>
          <a:custGeom>
            <a:avLst/>
            <a:gdLst/>
            <a:ahLst/>
            <a:rect l="l" t="t" r="r" b="b"/>
            <a:pathLst>
              <a:path w="1152" h="1008">
                <a:moveTo>
                  <a:pt x="0" y="0"/>
                </a:moveTo>
                <a:lnTo>
                  <a:pt x="0" y="1008"/>
                </a:lnTo>
                <a:lnTo>
                  <a:pt x="1152" y="1008"/>
                </a:lnTo>
                <a:lnTo>
                  <a:pt x="1152" y="720"/>
                </a:ln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0" y="2057400"/>
            <a:ext cx="131760" cy="404640"/>
          </a:xfrm>
          <a:custGeom>
            <a:avLst/>
            <a:gdLst/>
            <a:ahLst/>
            <a:rect l="l" t="t" r="r" b="b"/>
            <a:pathLst>
              <a:path w="83" h="255">
                <a:moveTo>
                  <a:pt x="0" y="0"/>
                </a:moveTo>
                <a:cubicBezTo>
                  <a:pt x="3" y="48"/>
                  <a:pt x="12" y="205"/>
                  <a:pt x="21" y="248"/>
                </a:cubicBezTo>
                <a:cubicBezTo>
                  <a:pt x="22" y="255"/>
                  <a:pt x="34" y="252"/>
                  <a:pt x="41" y="254"/>
                </a:cubicBezTo>
                <a:cubicBezTo>
                  <a:pt x="83" y="241"/>
                  <a:pt x="58" y="220"/>
                  <a:pt x="41" y="194"/>
                </a:cubicBezTo>
                <a:cubicBezTo>
                  <a:pt x="38" y="157"/>
                  <a:pt x="33" y="74"/>
                  <a:pt x="21" y="33"/>
                </a:cubicBezTo>
                <a:cubicBezTo>
                  <a:pt x="17" y="21"/>
                  <a:pt x="4" y="12"/>
                  <a:pt x="0" y="0"/>
                </a:cubicBez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2700000">
            <a:off x="3403800" y="1911240"/>
            <a:ext cx="761760" cy="76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03800">
            <a:off x="4296600" y="1994040"/>
            <a:ext cx="76176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286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4800600" y="2082960"/>
            <a:ext cx="355680" cy="20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2494080" y="2013120"/>
            <a:ext cx="990000" cy="533160"/>
            <a:chOff x="2494080" y="2013120"/>
            <a:chExt cx="990000" cy="533160"/>
          </a:xfrm>
        </p:grpSpPr>
        <p:sp>
          <p:nvSpPr>
            <p:cNvPr id="52" name=""/>
            <p:cNvSpPr/>
            <p:nvPr/>
          </p:nvSpPr>
          <p:spPr>
            <a:xfrm>
              <a:off x="2722320" y="2013120"/>
              <a:ext cx="761760" cy="53316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646000" y="2165040"/>
              <a:ext cx="74520" cy="19044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570040" y="2203200"/>
              <a:ext cx="74160" cy="11412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94080" y="2165040"/>
              <a:ext cx="74160" cy="19044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5499720" y="1113480"/>
            <a:ext cx="1027440" cy="876600"/>
            <a:chOff x="5499720" y="1113480"/>
            <a:chExt cx="1027440" cy="876600"/>
          </a:xfrm>
        </p:grpSpPr>
        <p:sp>
          <p:nvSpPr>
            <p:cNvPr id="57" name=""/>
            <p:cNvSpPr/>
            <p:nvPr/>
          </p:nvSpPr>
          <p:spPr>
            <a:xfrm rot="8670000">
              <a:off x="5583600" y="1285200"/>
              <a:ext cx="761760" cy="53316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8670000">
              <a:off x="6280560" y="1228320"/>
              <a:ext cx="74520" cy="19044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rot="8670000">
              <a:off x="6342840" y="1222560"/>
              <a:ext cx="74160" cy="11412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rot="8670000">
              <a:off x="6404400" y="1139760"/>
              <a:ext cx="74160" cy="19044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2133720" y="838080"/>
            <a:ext cx="4647960" cy="2362320"/>
          </a:xfrm>
          <a:custGeom>
            <a:avLst/>
            <a:gdLst/>
            <a:ahLst/>
            <a:rect l="l" t="t" r="r" b="b"/>
            <a:pathLst>
              <a:path w="2496" h="1056">
                <a:moveTo>
                  <a:pt x="0" y="0"/>
                </a:moveTo>
                <a:lnTo>
                  <a:pt x="0" y="1056"/>
                </a:lnTo>
                <a:lnTo>
                  <a:pt x="2496" y="1056"/>
                </a:lnTo>
                <a:lnTo>
                  <a:pt x="2496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505320" y="22860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538440" y="1771560"/>
          <a:ext cx="285840" cy="3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38440" y="1771560"/>
                    <a:ext cx="28584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5105520" y="1447920"/>
          <a:ext cx="328320" cy="3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1447920"/>
                    <a:ext cx="32832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 flipV="1">
            <a:off x="5334120" y="1752120"/>
            <a:ext cx="257040" cy="1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4952880"/>
            <a:ext cx="1600200" cy="1219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76720" y="55627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10080" y="548640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276720" y="4876920"/>
          <a:ext cx="285480" cy="3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4876920"/>
                    <a:ext cx="28548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486400" y="4876920"/>
          <a:ext cx="328680" cy="395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86400" y="4876920"/>
                    <a:ext cx="32868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4168800" y="5257800"/>
          <a:ext cx="660240" cy="412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68800" y="5257800"/>
                    <a:ext cx="66024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2569680" y="117360"/>
            <a:ext cx="44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coustic/Elastic Transfer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60680" y="3619440"/>
            <a:ext cx="664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the complex wave propagation and scattering processes occurring in an ultrasonic measurement system can be characterized in terms of an acoustic/elastic transfer func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98040" y="4800600"/>
            <a:ext cx="163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t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938560" y="4800600"/>
            <a:ext cx="210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blocked" f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762120"/>
            <a:ext cx="51055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390840" y="2076480"/>
            <a:ext cx="81000" cy="377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9457400">
            <a:off x="5641920" y="1554120"/>
            <a:ext cx="74520" cy="36216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581280" y="327672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3581280" y="3269880"/>
            <a:ext cx="26064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95320" y="3276720"/>
            <a:ext cx="654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c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41040" y="152280"/>
            <a:ext cx="42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Blocked Force on Re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3880" y="1371600"/>
            <a:ext cx="695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reception the receiving transducer face moves and scattered waves are also gene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125520" y="4233960"/>
            <a:ext cx="1110600" cy="1308600"/>
            <a:chOff x="3125520" y="4233960"/>
            <a:chExt cx="1110600" cy="1308600"/>
          </a:xfrm>
        </p:grpSpPr>
        <p:sp>
          <p:nvSpPr>
            <p:cNvPr id="90" name=""/>
            <p:cNvSpPr/>
            <p:nvPr/>
          </p:nvSpPr>
          <p:spPr>
            <a:xfrm rot="2818800">
              <a:off x="3265560" y="4495320"/>
              <a:ext cx="9144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7313600">
              <a:off x="3458880" y="4493160"/>
              <a:ext cx="68580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19545000">
              <a:off x="3428640" y="4299840"/>
              <a:ext cx="457200" cy="121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3873960" y="4501080"/>
              <a:ext cx="343440" cy="23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19120" y="4648320"/>
            <a:ext cx="5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2811600">
            <a:off x="3853440" y="3348720"/>
            <a:ext cx="484200" cy="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762120"/>
            <a:ext cx="51055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648680" y="3657240"/>
            <a:ext cx="1580760" cy="791640"/>
            <a:chOff x="4648680" y="3657240"/>
            <a:chExt cx="1580760" cy="791640"/>
          </a:xfrm>
        </p:grpSpPr>
        <p:sp>
          <p:nvSpPr>
            <p:cNvPr id="98" name=""/>
            <p:cNvSpPr/>
            <p:nvPr/>
          </p:nvSpPr>
          <p:spPr>
            <a:xfrm flipH="1" flipV="1">
              <a:off x="4648680" y="3656880"/>
              <a:ext cx="1216080" cy="79164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5867280" y="3883320"/>
              <a:ext cx="119160" cy="28296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5988960" y="3940200"/>
              <a:ext cx="118800" cy="16956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110640" y="3883320"/>
              <a:ext cx="118800" cy="28296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4648320" y="3733920"/>
            <a:ext cx="106200" cy="60624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68680" y="4067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3375000" y="3200400"/>
            <a:ext cx="4113720" cy="3109320"/>
            <a:chOff x="3375000" y="3200400"/>
            <a:chExt cx="4113720" cy="3109320"/>
          </a:xfrm>
        </p:grpSpPr>
        <p:sp>
          <p:nvSpPr>
            <p:cNvPr id="105" name=""/>
            <p:cNvSpPr/>
            <p:nvPr/>
          </p:nvSpPr>
          <p:spPr>
            <a:xfrm>
              <a:off x="5638680" y="374796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5638680" y="3290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325920" y="42814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76560" y="3200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4662360" y="5042880"/>
              <a:ext cx="519120" cy="444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5181480" y="466236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 flipV="1">
              <a:off x="5181480" y="428148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 flipV="1">
              <a:off x="4647960" y="3824280"/>
              <a:ext cx="53316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3" name=""/>
            <p:cNvGraphicFramePr/>
            <p:nvPr/>
          </p:nvGraphicFramePr>
          <p:xfrm>
            <a:off x="5024520" y="4670280"/>
            <a:ext cx="234720" cy="328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024520" y="4670280"/>
                      <a:ext cx="234720" cy="32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5" name=""/>
            <p:cNvGraphicFramePr/>
            <p:nvPr/>
          </p:nvGraphicFramePr>
          <p:xfrm>
            <a:off x="5054760" y="4333680"/>
            <a:ext cx="234720" cy="328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54760" y="4333680"/>
                      <a:ext cx="234720" cy="32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7" name=""/>
            <p:cNvSpPr/>
            <p:nvPr/>
          </p:nvSpPr>
          <p:spPr>
            <a:xfrm>
              <a:off x="4614840" y="5076720"/>
              <a:ext cx="453960" cy="488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4811760" y="3889080"/>
              <a:ext cx="419040" cy="447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38680" y="3747960"/>
              <a:ext cx="609840" cy="19051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93640" y="5729040"/>
              <a:ext cx="835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cid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a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14560" y="3900240"/>
              <a:ext cx="939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flected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a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 flipV="1">
              <a:off x="5638320" y="5195880"/>
              <a:ext cx="7621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538320" y="5333760"/>
              <a:ext cx="950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igi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und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638680" y="466236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3375000" y="3214080"/>
              <a:ext cx="2196720" cy="345600"/>
              <a:chOff x="3375000" y="3214080"/>
              <a:chExt cx="2196720" cy="34560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3375000" y="3214080"/>
                <a:ext cx="866520" cy="314280"/>
                <a:chOff x="3375000" y="3214080"/>
                <a:chExt cx="866520" cy="314280"/>
              </a:xfrm>
            </p:grpSpPr>
            <p:sp>
              <p:nvSpPr>
                <p:cNvPr id="127" name=""/>
                <p:cNvSpPr/>
                <p:nvPr/>
              </p:nvSpPr>
              <p:spPr>
                <a:xfrm flipV="1">
                  <a:off x="3375000" y="3213720"/>
                  <a:ext cx="436680" cy="30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201" y="17"/>
                      </a:moveTo>
                      <a:arcTo wR="10800" hR="10800" stAng="-5590789" swAng="53168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201" y="17"/>
                      </a:moveTo>
                      <a:arcTo wR="10800" hR="10800" stAng="-5590789" swAng="5316876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flipH="1" flipV="1">
                  <a:off x="3803760" y="3223800"/>
                  <a:ext cx="437400" cy="30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201" y="17"/>
                      </a:moveTo>
                      <a:arcTo wR="10800" hR="10800" stAng="-5590789" swAng="53168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201" y="17"/>
                      </a:moveTo>
                      <a:arcTo wR="10800" hR="10800" stAng="-5590789" swAng="5316876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275000" y="3236400"/>
                <a:ext cx="866520" cy="314280"/>
                <a:chOff x="4275000" y="3236400"/>
                <a:chExt cx="866520" cy="314280"/>
              </a:xfrm>
            </p:grpSpPr>
            <p:sp>
              <p:nvSpPr>
                <p:cNvPr id="130" name=""/>
                <p:cNvSpPr/>
                <p:nvPr/>
              </p:nvSpPr>
              <p:spPr>
                <a:xfrm flipV="1">
                  <a:off x="4275000" y="3236040"/>
                  <a:ext cx="436680" cy="30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201" y="17"/>
                      </a:moveTo>
                      <a:arcTo wR="10800" hR="10800" stAng="-5590789" swAng="53168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201" y="17"/>
                      </a:moveTo>
                      <a:arcTo wR="10800" hR="10800" stAng="-5590789" swAng="5316876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 flipH="1" flipV="1">
                  <a:off x="4703760" y="3246120"/>
                  <a:ext cx="437400" cy="30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201" y="17"/>
                      </a:moveTo>
                      <a:arcTo wR="10800" hR="10800" stAng="-5590789" swAng="53168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201" y="17"/>
                      </a:moveTo>
                      <a:arcTo wR="10800" hR="10800" stAng="-5590789" swAng="5316876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3832200" y="3227400"/>
                <a:ext cx="866520" cy="313200"/>
                <a:chOff x="3832200" y="3227400"/>
                <a:chExt cx="866520" cy="313200"/>
              </a:xfrm>
            </p:grpSpPr>
            <p:sp>
              <p:nvSpPr>
                <p:cNvPr id="133" name=""/>
                <p:cNvSpPr/>
                <p:nvPr/>
              </p:nvSpPr>
              <p:spPr>
                <a:xfrm flipV="1">
                  <a:off x="3832200" y="3227040"/>
                  <a:ext cx="436680" cy="30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201" y="17"/>
                      </a:moveTo>
                      <a:arcTo wR="10800" hR="10800" stAng="-5590789" swAng="53168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201" y="17"/>
                      </a:moveTo>
                      <a:arcTo wR="10800" hR="10800" stAng="-5590789" swAng="5316876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flipH="1" flipV="1">
                  <a:off x="4260960" y="3236760"/>
                  <a:ext cx="437400" cy="303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201" y="17"/>
                      </a:moveTo>
                      <a:arcTo wR="10800" hR="10800" stAng="-5590789" swAng="53168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201" y="17"/>
                      </a:moveTo>
                      <a:arcTo wR="10800" hR="10800" stAng="-5590789" swAng="5316876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705200" y="3246480"/>
                <a:ext cx="866520" cy="313200"/>
                <a:chOff x="4705200" y="3246480"/>
                <a:chExt cx="866520" cy="313200"/>
              </a:xfrm>
            </p:grpSpPr>
            <p:sp>
              <p:nvSpPr>
                <p:cNvPr id="136" name=""/>
                <p:cNvSpPr/>
                <p:nvPr/>
              </p:nvSpPr>
              <p:spPr>
                <a:xfrm flipV="1">
                  <a:off x="4705200" y="3246120"/>
                  <a:ext cx="436680" cy="30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201" y="17"/>
                      </a:moveTo>
                      <a:arcTo wR="10800" hR="10800" stAng="-5590789" swAng="53168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201" y="17"/>
                      </a:moveTo>
                      <a:arcTo wR="10800" hR="10800" stAng="-5590789" swAng="5316876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 flipH="1" flipV="1">
                  <a:off x="5133960" y="3255840"/>
                  <a:ext cx="437400" cy="303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201" y="17"/>
                      </a:moveTo>
                      <a:arcTo wR="10800" hR="10800" stAng="-5590789" swAng="53168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201" y="17"/>
                      </a:moveTo>
                      <a:arcTo wR="10800" hR="10800" stAng="-5590789" swAng="5316876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8" name=""/>
            <p:cNvSpPr/>
            <p:nvPr/>
          </p:nvSpPr>
          <p:spPr>
            <a:xfrm flipH="1">
              <a:off x="4495320" y="466236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13694400">
              <a:off x="5397840" y="4368960"/>
              <a:ext cx="60840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513" y="346"/>
                  </a:moveTo>
                  <a:arcTo wR="10800" hR="10800" stAng="-4527065" swAng="384477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513" y="346"/>
                  </a:moveTo>
                  <a:arcTo wR="10800" hR="10800" stAng="-4527065" swAng="384477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664720" y="-2666880"/>
            <a:ext cx="42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Blocked Force on Re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90720" y="990720"/>
            <a:ext cx="7331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incident waves are treated locally like plane waves and diffraction effects are ignored, we can consider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actions of the incident waves with the transducer face as those of plane wave with an infinite planar interface. Now, consider the case where the interface is held rigidly fix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1040" y="152280"/>
            <a:ext cx="42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Blocked Force on Re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81080" y="762120"/>
            <a:ext cx="51055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741040" y="152280"/>
            <a:ext cx="42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Blocked Force on Re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950920" y="762120"/>
            <a:ext cx="3608640" cy="2508840"/>
            <a:chOff x="2950920" y="762120"/>
            <a:chExt cx="3608640" cy="2508840"/>
          </a:xfrm>
        </p:grpSpPr>
        <p:sp>
          <p:nvSpPr>
            <p:cNvPr id="146" name=""/>
            <p:cNvSpPr/>
            <p:nvPr/>
          </p:nvSpPr>
          <p:spPr>
            <a:xfrm>
              <a:off x="4852800" y="1179360"/>
              <a:ext cx="0" cy="145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4852800" y="830520"/>
              <a:ext cx="0" cy="23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30240" y="1586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970160" y="7621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4032360" y="2166840"/>
              <a:ext cx="435960" cy="33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4468320" y="1877040"/>
              <a:ext cx="384120" cy="290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4468320" y="1586520"/>
              <a:ext cx="384120" cy="290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 flipV="1">
              <a:off x="4020840" y="1237680"/>
              <a:ext cx="447840" cy="348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4" name=""/>
            <p:cNvGraphicFramePr/>
            <p:nvPr/>
          </p:nvGraphicFramePr>
          <p:xfrm>
            <a:off x="4336920" y="1882800"/>
            <a:ext cx="196920" cy="250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36920" y="1882800"/>
                      <a:ext cx="196920" cy="25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6" name=""/>
            <p:cNvGraphicFramePr/>
            <p:nvPr/>
          </p:nvGraphicFramePr>
          <p:xfrm>
            <a:off x="4362120" y="1626120"/>
            <a:ext cx="196920" cy="250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362120" y="1626120"/>
                      <a:ext cx="196920" cy="25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8" name=""/>
            <p:cNvSpPr/>
            <p:nvPr/>
          </p:nvSpPr>
          <p:spPr>
            <a:xfrm>
              <a:off x="3992400" y="2192760"/>
              <a:ext cx="381240" cy="37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4158000" y="1287000"/>
              <a:ext cx="352080" cy="341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852800" y="1179360"/>
              <a:ext cx="512280" cy="1452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39240" y="2690280"/>
              <a:ext cx="835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cid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a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320280" y="1295640"/>
              <a:ext cx="939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flected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a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 flipV="1">
              <a:off x="4852440" y="2283480"/>
              <a:ext cx="640440" cy="23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09160" y="2388960"/>
              <a:ext cx="950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igi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und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852800" y="1877040"/>
              <a:ext cx="83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950920" y="772560"/>
              <a:ext cx="1845360" cy="262800"/>
              <a:chOff x="2950920" y="772560"/>
              <a:chExt cx="1845360" cy="26280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2950920" y="772560"/>
                <a:ext cx="726840" cy="239040"/>
                <a:chOff x="2950920" y="772560"/>
                <a:chExt cx="726840" cy="239040"/>
              </a:xfrm>
            </p:grpSpPr>
            <p:sp>
              <p:nvSpPr>
                <p:cNvPr id="168" name=""/>
                <p:cNvSpPr/>
                <p:nvPr/>
              </p:nvSpPr>
              <p:spPr>
                <a:xfrm flipV="1">
                  <a:off x="2950920" y="772200"/>
                  <a:ext cx="366120" cy="232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201" y="17"/>
                      </a:moveTo>
                      <a:arcTo wR="10800" hR="10800" stAng="-5590789" swAng="53168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201" y="17"/>
                      </a:moveTo>
                      <a:arcTo wR="10800" hR="10800" stAng="-5590789" swAng="5316876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flipH="1" flipV="1">
                  <a:off x="3310560" y="779760"/>
                  <a:ext cx="366840" cy="231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201" y="17"/>
                      </a:moveTo>
                      <a:arcTo wR="10800" hR="10800" stAng="-5590789" swAng="53168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201" y="17"/>
                      </a:moveTo>
                      <a:arcTo wR="10800" hR="10800" stAng="-5590789" swAng="5316876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3706920" y="789480"/>
                <a:ext cx="726840" cy="239040"/>
                <a:chOff x="3706920" y="789480"/>
                <a:chExt cx="726840" cy="239040"/>
              </a:xfrm>
            </p:grpSpPr>
            <p:sp>
              <p:nvSpPr>
                <p:cNvPr id="171" name=""/>
                <p:cNvSpPr/>
                <p:nvPr/>
              </p:nvSpPr>
              <p:spPr>
                <a:xfrm flipV="1">
                  <a:off x="3706920" y="789120"/>
                  <a:ext cx="366120" cy="232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201" y="17"/>
                      </a:moveTo>
                      <a:arcTo wR="10800" hR="10800" stAng="-5590789" swAng="53168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201" y="17"/>
                      </a:moveTo>
                      <a:arcTo wR="10800" hR="10800" stAng="-5590789" swAng="5316876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 flipH="1" flipV="1">
                  <a:off x="4066560" y="796680"/>
                  <a:ext cx="366840" cy="231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201" y="17"/>
                      </a:moveTo>
                      <a:arcTo wR="10800" hR="10800" stAng="-5590789" swAng="53168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201" y="17"/>
                      </a:moveTo>
                      <a:arcTo wR="10800" hR="10800" stAng="-5590789" swAng="5316876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3335040" y="782640"/>
                <a:ext cx="726840" cy="238320"/>
                <a:chOff x="3335040" y="782640"/>
                <a:chExt cx="726840" cy="238320"/>
              </a:xfrm>
            </p:grpSpPr>
            <p:sp>
              <p:nvSpPr>
                <p:cNvPr id="174" name=""/>
                <p:cNvSpPr/>
                <p:nvPr/>
              </p:nvSpPr>
              <p:spPr>
                <a:xfrm flipV="1">
                  <a:off x="3335040" y="782280"/>
                  <a:ext cx="366120" cy="231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201" y="17"/>
                      </a:moveTo>
                      <a:arcTo wR="10800" hR="10800" stAng="-5590789" swAng="53168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201" y="17"/>
                      </a:moveTo>
                      <a:arcTo wR="10800" hR="10800" stAng="-5590789" swAng="5316876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flipH="1" flipV="1">
                  <a:off x="3694680" y="789840"/>
                  <a:ext cx="366840" cy="230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201" y="17"/>
                      </a:moveTo>
                      <a:arcTo wR="10800" hR="10800" stAng="-5590789" swAng="53168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201" y="17"/>
                      </a:moveTo>
                      <a:arcTo wR="10800" hR="10800" stAng="-5590789" swAng="5316876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4068000" y="797040"/>
                <a:ext cx="728280" cy="238320"/>
                <a:chOff x="4068000" y="797040"/>
                <a:chExt cx="728280" cy="238320"/>
              </a:xfrm>
            </p:grpSpPr>
            <p:sp>
              <p:nvSpPr>
                <p:cNvPr id="177" name=""/>
                <p:cNvSpPr/>
                <p:nvPr/>
              </p:nvSpPr>
              <p:spPr>
                <a:xfrm flipV="1">
                  <a:off x="4068000" y="796680"/>
                  <a:ext cx="366840" cy="231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201" y="17"/>
                      </a:moveTo>
                      <a:arcTo wR="10800" hR="10800" stAng="-5590789" swAng="53168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201" y="17"/>
                      </a:moveTo>
                      <a:arcTo wR="10800" hR="10800" stAng="-5590789" swAng="5316876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flipH="1" flipV="1">
                  <a:off x="4428360" y="804240"/>
                  <a:ext cx="367560" cy="230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201" y="17"/>
                      </a:moveTo>
                      <a:arcTo wR="10800" hR="10800" stAng="-5590789" swAng="53168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201" y="17"/>
                      </a:moveTo>
                      <a:arcTo wR="10800" hR="10800" stAng="-5590789" swAng="5316876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9" name=""/>
            <p:cNvSpPr/>
            <p:nvPr/>
          </p:nvSpPr>
          <p:spPr>
            <a:xfrm flipH="1">
              <a:off x="3892320" y="1877040"/>
              <a:ext cx="960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13694400">
              <a:off x="4667040" y="1621800"/>
              <a:ext cx="463680" cy="511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513" y="346"/>
                  </a:moveTo>
                  <a:arcTo wR="10800" hR="10800" stAng="-4527065" swAng="384477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513" y="346"/>
                  </a:moveTo>
                  <a:arcTo wR="10800" hR="10800" stAng="-4527065" swAng="384477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1371600" y="327672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is case it can be shown that at the interface the blocked force is just double the force due to the incident wave onl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 if the transducer were absent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2590920" y="4648320"/>
          <a:ext cx="1981080" cy="45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90920" y="4648320"/>
                    <a:ext cx="198108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5867280" y="4572000"/>
          <a:ext cx="1381320" cy="569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67280" y="4572000"/>
                    <a:ext cx="138132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4495680" y="5334120"/>
            <a:ext cx="106704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125520" y="5572440"/>
            <a:ext cx="1110600" cy="1308600"/>
            <a:chOff x="3125520" y="5572440"/>
            <a:chExt cx="1110600" cy="1308600"/>
          </a:xfrm>
        </p:grpSpPr>
        <p:sp>
          <p:nvSpPr>
            <p:cNvPr id="190" name=""/>
            <p:cNvSpPr/>
            <p:nvPr/>
          </p:nvSpPr>
          <p:spPr>
            <a:xfrm rot="2818800">
              <a:off x="3265560" y="5833800"/>
              <a:ext cx="9144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17313600">
              <a:off x="3458880" y="5831640"/>
              <a:ext cx="68580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9545000">
              <a:off x="3428640" y="5638320"/>
              <a:ext cx="457200" cy="121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3873960" y="5839560"/>
              <a:ext cx="343440" cy="23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219120" y="5986440"/>
            <a:ext cx="5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4495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259600" y="6172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862160" y="453708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81080" y="762120"/>
            <a:ext cx="51055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588760" y="228600"/>
            <a:ext cx="42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Blocked Force on Re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828800" y="762120"/>
            <a:ext cx="51055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86400" y="1676520"/>
            <a:ext cx="0" cy="1676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981080" y="1828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76520" y="2438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343400" y="19051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809520" y="24382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304920" y="3200400"/>
          <a:ext cx="3249360" cy="58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200400"/>
                    <a:ext cx="324936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3657600" y="3352680"/>
          <a:ext cx="3429000" cy="5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3352680"/>
                    <a:ext cx="342900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5510160" y="1689120"/>
            <a:ext cx="457200" cy="16765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5486400" y="1981080"/>
            <a:ext cx="9144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6477120" y="1676520"/>
          <a:ext cx="914400" cy="530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77120" y="1676520"/>
                    <a:ext cx="91440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3352680" y="3962520"/>
          <a:ext cx="1905120" cy="819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52680" y="3962520"/>
                    <a:ext cx="190512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538200" y="4724280"/>
            <a:ext cx="2620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 at x 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486400" y="243828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01160" y="2479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3200400" y="4800600"/>
          <a:ext cx="1644480" cy="884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00400" y="4800600"/>
                    <a:ext cx="1644480" cy="8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4262040" y="5181480"/>
            <a:ext cx="441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flected pressure = inc. press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1000" y="4114800"/>
            <a:ext cx="26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ation of mo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439720" y="53341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61760" y="6019920"/>
            <a:ext cx="251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s, also at x 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3581280" y="6019920"/>
          <a:ext cx="4191120" cy="482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81280" y="6019920"/>
                    <a:ext cx="419112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5943600" y="4114800"/>
          <a:ext cx="1905120" cy="509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943600" y="4114800"/>
                    <a:ext cx="190512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1504080" y="803160"/>
            <a:ext cx="435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of for normally incident w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2417040" y="212760"/>
            <a:ext cx="42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coustic/elastic processe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76520" y="762120"/>
            <a:ext cx="58672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116360" y="1184400"/>
            <a:ext cx="677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number of calibration setups the acoustic/ela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er function can be obtained explicit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838080" y="2133720"/>
            <a:ext cx="1801800" cy="409320"/>
            <a:chOff x="838080" y="2133720"/>
            <a:chExt cx="1801800" cy="409320"/>
          </a:xfrm>
        </p:grpSpPr>
        <p:sp>
          <p:nvSpPr>
            <p:cNvPr id="234" name=""/>
            <p:cNvSpPr/>
            <p:nvPr/>
          </p:nvSpPr>
          <p:spPr>
            <a:xfrm>
              <a:off x="990720" y="231444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219320" y="231444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447920" y="231444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676520" y="231444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905120" y="231444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133720" y="231444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8080" y="2133720"/>
              <a:ext cx="1801800" cy="29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2209680" y="2743200"/>
            <a:ext cx="129564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75248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1752120" y="3352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867280" y="2743200"/>
            <a:ext cx="1295640" cy="12193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4495680" y="2133720"/>
            <a:ext cx="1801800" cy="409320"/>
            <a:chOff x="4495680" y="2133720"/>
            <a:chExt cx="1801800" cy="409320"/>
          </a:xfrm>
        </p:grpSpPr>
        <p:sp>
          <p:nvSpPr>
            <p:cNvPr id="246" name=""/>
            <p:cNvSpPr/>
            <p:nvPr/>
          </p:nvSpPr>
          <p:spPr>
            <a:xfrm>
              <a:off x="4648320" y="231444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876920" y="231444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105520" y="231444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334120" y="231444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562720" y="231444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791320" y="231444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495680" y="2133720"/>
              <a:ext cx="1801800" cy="29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838080" y="4343400"/>
            <a:ext cx="1801800" cy="409320"/>
            <a:chOff x="838080" y="4343400"/>
            <a:chExt cx="1801800" cy="409320"/>
          </a:xfrm>
        </p:grpSpPr>
        <p:sp>
          <p:nvSpPr>
            <p:cNvPr id="254" name=""/>
            <p:cNvSpPr/>
            <p:nvPr/>
          </p:nvSpPr>
          <p:spPr>
            <a:xfrm>
              <a:off x="990720" y="45241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219320" y="45241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447920" y="45241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676520" y="45241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905120" y="45241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133720" y="45241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38080" y="4343400"/>
              <a:ext cx="1801800" cy="29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2209680" y="4952880"/>
            <a:ext cx="129564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665440" y="5410080"/>
            <a:ext cx="8380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4711680" y="4276800"/>
            <a:ext cx="1801800" cy="409320"/>
            <a:chOff x="4711680" y="4276800"/>
            <a:chExt cx="1801800" cy="409320"/>
          </a:xfrm>
        </p:grpSpPr>
        <p:sp>
          <p:nvSpPr>
            <p:cNvPr id="264" name=""/>
            <p:cNvSpPr/>
            <p:nvPr/>
          </p:nvSpPr>
          <p:spPr>
            <a:xfrm>
              <a:off x="4864320" y="44575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92920" y="44575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321520" y="44575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550120" y="44575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778720" y="44575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007320" y="44575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711680" y="4276800"/>
              <a:ext cx="1801800" cy="29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5640480" y="5372280"/>
            <a:ext cx="380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5640480" y="5467320"/>
            <a:ext cx="3045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235560" y="5343480"/>
            <a:ext cx="471600" cy="1047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062720" y="3886200"/>
            <a:ext cx="29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nt surface ref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238360" y="4003560"/>
            <a:ext cx="296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surface ref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38720" y="6213600"/>
            <a:ext cx="40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lection from flat-bottom h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022720" y="6095880"/>
            <a:ext cx="35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lection from flat cyl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34120" y="31240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5334120" y="32767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676520" y="54561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1670040" y="55227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841320" y="3053880"/>
            <a:ext cx="819000" cy="414360"/>
            <a:chOff x="841320" y="3053880"/>
            <a:chExt cx="819000" cy="414360"/>
          </a:xfrm>
        </p:grpSpPr>
        <p:sp>
          <p:nvSpPr>
            <p:cNvPr id="283" name=""/>
            <p:cNvSpPr/>
            <p:nvPr/>
          </p:nvSpPr>
          <p:spPr>
            <a:xfrm flipV="1">
              <a:off x="1030320" y="3053520"/>
              <a:ext cx="630000" cy="41436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966960" y="3172320"/>
              <a:ext cx="61920" cy="14796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904320" y="3201840"/>
              <a:ext cx="61560" cy="8892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41320" y="3172320"/>
              <a:ext cx="61560" cy="14796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4343400" y="3047760"/>
            <a:ext cx="818640" cy="414360"/>
            <a:chOff x="4343400" y="3047760"/>
            <a:chExt cx="818640" cy="414360"/>
          </a:xfrm>
        </p:grpSpPr>
        <p:sp>
          <p:nvSpPr>
            <p:cNvPr id="288" name=""/>
            <p:cNvSpPr/>
            <p:nvPr/>
          </p:nvSpPr>
          <p:spPr>
            <a:xfrm flipV="1">
              <a:off x="4532040" y="3047400"/>
              <a:ext cx="630000" cy="41436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469040" y="3166200"/>
              <a:ext cx="61560" cy="14796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406400" y="3195720"/>
              <a:ext cx="61560" cy="8892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343400" y="3166200"/>
              <a:ext cx="61560" cy="14796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762120" y="5257440"/>
            <a:ext cx="818640" cy="414360"/>
            <a:chOff x="762120" y="5257440"/>
            <a:chExt cx="818640" cy="414360"/>
          </a:xfrm>
        </p:grpSpPr>
        <p:sp>
          <p:nvSpPr>
            <p:cNvPr id="293" name=""/>
            <p:cNvSpPr/>
            <p:nvPr/>
          </p:nvSpPr>
          <p:spPr>
            <a:xfrm flipV="1">
              <a:off x="950760" y="5257080"/>
              <a:ext cx="630000" cy="41436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87760" y="5375880"/>
              <a:ext cx="61560" cy="14796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25120" y="5405400"/>
              <a:ext cx="61560" cy="8892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62120" y="5375880"/>
              <a:ext cx="61560" cy="14796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4648320" y="5181120"/>
            <a:ext cx="818640" cy="414360"/>
            <a:chOff x="4648320" y="5181120"/>
            <a:chExt cx="818640" cy="414360"/>
          </a:xfrm>
        </p:grpSpPr>
        <p:sp>
          <p:nvSpPr>
            <p:cNvPr id="298" name=""/>
            <p:cNvSpPr/>
            <p:nvPr/>
          </p:nvSpPr>
          <p:spPr>
            <a:xfrm flipV="1">
              <a:off x="4836960" y="5180760"/>
              <a:ext cx="630000" cy="41436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773960" y="5299560"/>
              <a:ext cx="61560" cy="14796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711320" y="5329080"/>
              <a:ext cx="61560" cy="8892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48320" y="5299560"/>
              <a:ext cx="61560" cy="14796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1587600" y="3124080"/>
            <a:ext cx="74520" cy="2890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79960" y="3119400"/>
            <a:ext cx="81000" cy="2890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504800" y="5321160"/>
            <a:ext cx="74880" cy="2890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391000" y="5238720"/>
            <a:ext cx="74880" cy="2890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2512440" y="304920"/>
            <a:ext cx="35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coustic Transfer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304920" y="4500720"/>
          <a:ext cx="6858000" cy="163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500720"/>
                    <a:ext cx="6858000" cy="16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6629400" y="4267080"/>
          <a:ext cx="190512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9400" y="4267080"/>
                    <a:ext cx="190512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"/>
          <p:cNvSpPr/>
          <p:nvPr/>
        </p:nvSpPr>
        <p:spPr>
          <a:xfrm>
            <a:off x="1066680" y="914400"/>
            <a:ext cx="69343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67560" y="1066680"/>
            <a:ext cx="784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 the acoustic/elastic transfer function of two align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cular piston transducers of different radii can be foun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2209680" y="2666880"/>
            <a:ext cx="1215720" cy="726840"/>
            <a:chOff x="2209680" y="2666880"/>
            <a:chExt cx="1215720" cy="726840"/>
          </a:xfrm>
        </p:grpSpPr>
        <p:sp>
          <p:nvSpPr>
            <p:cNvPr id="314" name=""/>
            <p:cNvSpPr/>
            <p:nvPr/>
          </p:nvSpPr>
          <p:spPr>
            <a:xfrm>
              <a:off x="2490120" y="2666880"/>
              <a:ext cx="935280" cy="72684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96520" y="2874240"/>
              <a:ext cx="91800" cy="25992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303280" y="2926080"/>
              <a:ext cx="91440" cy="15588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209680" y="2874240"/>
              <a:ext cx="91440" cy="25992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5289480" y="2754360"/>
            <a:ext cx="990720" cy="533520"/>
            <a:chOff x="5289480" y="2754360"/>
            <a:chExt cx="990720" cy="533520"/>
          </a:xfrm>
        </p:grpSpPr>
        <p:sp>
          <p:nvSpPr>
            <p:cNvPr id="319" name=""/>
            <p:cNvSpPr/>
            <p:nvPr/>
          </p:nvSpPr>
          <p:spPr>
            <a:xfrm flipH="1" flipV="1">
              <a:off x="5289120" y="2754360"/>
              <a:ext cx="762120" cy="53352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6053040" y="2906640"/>
              <a:ext cx="74880" cy="19080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6129000" y="2944800"/>
              <a:ext cx="74520" cy="11448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6205320" y="2906640"/>
              <a:ext cx="74520" cy="19080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3449520" y="30160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417840" y="34844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78320" y="3397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3427200" y="3701880"/>
            <a:ext cx="69372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516560" y="37018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4164120" y="3549600"/>
          <a:ext cx="282600" cy="282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64120" y="3549600"/>
                    <a:ext cx="282600" cy="2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3494160" y="26780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3594240" y="2697120"/>
            <a:ext cx="7920" cy="3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4973400" y="276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5126040" y="2787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3678120" y="2743200"/>
          <a:ext cx="174600" cy="192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78120" y="2743200"/>
                    <a:ext cx="174600" cy="1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4745160" y="2685960"/>
          <a:ext cx="174600" cy="244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45160" y="2685960"/>
                    <a:ext cx="174600" cy="24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8" name=""/>
          <p:cNvGrpSpPr/>
          <p:nvPr/>
        </p:nvGrpSpPr>
        <p:grpSpPr>
          <a:xfrm>
            <a:off x="3319560" y="1796400"/>
            <a:ext cx="2196720" cy="345600"/>
            <a:chOff x="3319560" y="1796400"/>
            <a:chExt cx="2196720" cy="345600"/>
          </a:xfrm>
        </p:grpSpPr>
        <p:grpSp>
          <p:nvGrpSpPr>
            <p:cNvPr id="339" name=""/>
            <p:cNvGrpSpPr/>
            <p:nvPr/>
          </p:nvGrpSpPr>
          <p:grpSpPr>
            <a:xfrm>
              <a:off x="3319560" y="1796400"/>
              <a:ext cx="866520" cy="314280"/>
              <a:chOff x="3319560" y="1796400"/>
              <a:chExt cx="866520" cy="314280"/>
            </a:xfrm>
          </p:grpSpPr>
          <p:sp>
            <p:nvSpPr>
              <p:cNvPr id="340" name=""/>
              <p:cNvSpPr/>
              <p:nvPr/>
            </p:nvSpPr>
            <p:spPr>
              <a:xfrm flipV="1">
                <a:off x="3319560" y="1796040"/>
                <a:ext cx="43668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 flipV="1">
                <a:off x="3748320" y="1806120"/>
                <a:ext cx="4374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4219560" y="1818720"/>
              <a:ext cx="866520" cy="314280"/>
              <a:chOff x="4219560" y="1818720"/>
              <a:chExt cx="866520" cy="314280"/>
            </a:xfrm>
          </p:grpSpPr>
          <p:sp>
            <p:nvSpPr>
              <p:cNvPr id="343" name=""/>
              <p:cNvSpPr/>
              <p:nvPr/>
            </p:nvSpPr>
            <p:spPr>
              <a:xfrm flipV="1">
                <a:off x="4219560" y="1818360"/>
                <a:ext cx="43668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 flipV="1">
                <a:off x="4648320" y="1828440"/>
                <a:ext cx="4374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3776760" y="1809720"/>
              <a:ext cx="866520" cy="313200"/>
              <a:chOff x="3776760" y="1809720"/>
              <a:chExt cx="866520" cy="313200"/>
            </a:xfrm>
          </p:grpSpPr>
          <p:sp>
            <p:nvSpPr>
              <p:cNvPr id="346" name=""/>
              <p:cNvSpPr/>
              <p:nvPr/>
            </p:nvSpPr>
            <p:spPr>
              <a:xfrm flipV="1">
                <a:off x="3776760" y="1809360"/>
                <a:ext cx="43668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H="1" flipV="1">
                <a:off x="4205520" y="1819080"/>
                <a:ext cx="437400" cy="303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4649760" y="1828800"/>
              <a:ext cx="866520" cy="313200"/>
              <a:chOff x="4649760" y="1828800"/>
              <a:chExt cx="866520" cy="313200"/>
            </a:xfrm>
          </p:grpSpPr>
          <p:sp>
            <p:nvSpPr>
              <p:cNvPr id="349" name=""/>
              <p:cNvSpPr/>
              <p:nvPr/>
            </p:nvSpPr>
            <p:spPr>
              <a:xfrm flipV="1">
                <a:off x="4649760" y="1828440"/>
                <a:ext cx="43668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 flipV="1">
                <a:off x="5078520" y="1838160"/>
                <a:ext cx="437400" cy="303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1" name=""/>
          <p:cNvSpPr/>
          <p:nvPr/>
        </p:nvSpPr>
        <p:spPr>
          <a:xfrm>
            <a:off x="3525840" y="30160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821120" y="30160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343320" y="2808360"/>
            <a:ext cx="74520" cy="4572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283360" y="2843280"/>
            <a:ext cx="77760" cy="35856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ster Schmerr</cp:lastModifiedBy>
  <dcterms:modified xsi:type="dcterms:W3CDTF">2007-01-03T20:19:38Z</dcterms:modified>
  <cp:revision>6</cp:revision>
  <dc:subject/>
  <dc:title>PowerPoint Presentation</dc:title>
</cp:coreProperties>
</file>