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media/image23.wmf" ContentType="image/x-wmf"/>
  <Override PartName="/ppt/media/image22.wmf" ContentType="image/x-wmf"/>
  <Override PartName="/ppt/media/image21.wmf" ContentType="image/x-wmf"/>
  <Override PartName="/ppt/media/image58.wmf" ContentType="image/x-wmf"/>
  <Override PartName="/ppt/media/image19.wmf" ContentType="image/x-wmf"/>
  <Override PartName="/ppt/media/image20.wmf" ContentType="image/x-wmf"/>
  <Override PartName="/ppt/media/image57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4.wmf" ContentType="image/x-wmf"/>
  <Override PartName="/ppt/media/image1.wmf" ContentType="image/x-wmf"/>
  <Override PartName="/ppt/media/image31.wmf" ContentType="image/x-wmf"/>
  <Override PartName="/ppt/media/image25.wmf" ContentType="image/x-wmf"/>
  <Override PartName="/ppt/media/image2.wmf" ContentType="image/x-wmf"/>
  <Override PartName="/ppt/media/image32.wmf" ContentType="image/x-wmf"/>
  <Override PartName="/ppt/media/image26.wmf" ContentType="image/x-wmf"/>
  <Override PartName="/ppt/media/image3.wmf" ContentType="image/x-wmf"/>
  <Override PartName="/ppt/media/image33.wmf" ContentType="image/x-wmf"/>
  <Override PartName="/ppt/media/image27.wmf" ContentType="image/x-wmf"/>
  <Override PartName="/ppt/media/image4.wmf" ContentType="image/x-wmf"/>
  <Override PartName="/ppt/media/image34.wmf" ContentType="image/x-wmf"/>
  <Override PartName="/ppt/media/image28.wmf" ContentType="image/x-wmf"/>
  <Override PartName="/ppt/media/image5.wmf" ContentType="image/x-wmf"/>
  <Override PartName="/ppt/media/image35.wmf" ContentType="image/x-wmf"/>
  <Override PartName="/ppt/media/image10.wmf" ContentType="image/x-wmf"/>
  <Override PartName="/ppt/media/image47.wmf" ContentType="image/x-wmf"/>
  <Override PartName="/ppt/media/image45.wmf" ContentType="image/x-wmf"/>
  <Override PartName="/ppt/media/image46.wmf" ContentType="image/x-wmf"/>
  <Override PartName="/ppt/media/image50.wmf" ContentType="image/x-wmf"/>
  <Override PartName="/ppt/media/image13.wmf" ContentType="image/x-wmf"/>
  <Override PartName="/ppt/media/image11.wmf" ContentType="image/x-wmf"/>
  <Override PartName="/ppt/media/image48.wmf" ContentType="image/x-wmf"/>
  <Override PartName="/ppt/media/image51.wmf" ContentType="image/x-wmf"/>
  <Override PartName="/ppt/media/image52.wmf" ContentType="image/x-wmf"/>
  <Override PartName="/ppt/media/image41.wmf" ContentType="image/x-wmf"/>
  <Override PartName="/ppt/media/image53.wmf" ContentType="image/x-wmf"/>
  <Override PartName="/ppt/media/image42.wmf" ContentType="image/x-wmf"/>
  <Override PartName="/ppt/media/image54.wmf" ContentType="image/x-wmf"/>
  <Override PartName="/ppt/media/image43.wmf" ContentType="image/x-wmf"/>
  <Override PartName="/ppt/media/image55.wmf" ContentType="image/x-wmf"/>
  <Override PartName="/ppt/media/image44.wmf" ContentType="image/x-wmf"/>
  <Override PartName="/ppt/media/image56.wmf" ContentType="image/x-wmf"/>
  <Override PartName="/ppt/media/image40.wmf" ContentType="image/x-wmf"/>
  <Override PartName="/ppt/media/image30.wmf" ContentType="image/x-wmf"/>
  <Override PartName="/ppt/media/image39.wmf" ContentType="image/x-wmf"/>
  <Override PartName="/ppt/media/image9.wmf" ContentType="image/x-wmf"/>
  <Override PartName="/ppt/media/image38.wmf" ContentType="image/x-wmf"/>
  <Override PartName="/ppt/media/image8.wmf" ContentType="image/x-wmf"/>
  <Override PartName="/ppt/media/image49.wmf" ContentType="image/x-wmf"/>
  <Override PartName="/ppt/media/image12.wmf" ContentType="image/x-wmf"/>
  <Override PartName="/ppt/media/image37.wmf" ContentType="image/x-wmf"/>
  <Override PartName="/ppt/media/image7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D138E-E187-4DB6-AE46-0552F987C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56FF9-7D49-49A3-9EB7-AE7ECB6AE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A47F4-2862-4BE4-B3BD-5ED1C309D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D6046-83AA-4042-A060-4FD0E9E4A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19F0C-449C-4DA5-83FF-D7A882FE8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A5A46-97A1-4D00-A961-424DA5C61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986A1-929D-4769-B6C7-40AF047CF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7DB1C-12C6-42DE-8D77-07B180DDC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385C6-E586-4931-8DE2-F5A3B1DB9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F3A10-9A23-4F2E-A496-E55FB640C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9EDA6-E26C-4F04-8AB8-61326598D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BE413-37CB-49D3-BFDD-787488C01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B63F3-E7A8-4EC8-92EC-A0BF24FFE0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4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4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5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5.wmf"/><Relationship Id="rId1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1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52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53.wmf"/><Relationship Id="rId1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57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58.wmf"/><Relationship Id="rId1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7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8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9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0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1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13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14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15.wmf"/><Relationship Id="rId3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5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6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7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8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8.wmf"/><Relationship Id="rId2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3.wmf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8.wmf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9.wmf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4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5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6.wmf"/><Relationship Id="rId1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9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1600200"/>
            <a:ext cx="2684520" cy="773280"/>
          </a:xfrm>
          <a:custGeom>
            <a:avLst/>
            <a:gdLst/>
            <a:ahLst/>
            <a:rect l="l" t="t" r="r" b="b"/>
            <a:pathLst>
              <a:path w="1691" h="487">
                <a:moveTo>
                  <a:pt x="0" y="257"/>
                </a:moveTo>
                <a:cubicBezTo>
                  <a:pt x="276" y="257"/>
                  <a:pt x="552" y="257"/>
                  <a:pt x="672" y="257"/>
                </a:cubicBezTo>
                <a:cubicBezTo>
                  <a:pt x="792" y="257"/>
                  <a:pt x="704" y="257"/>
                  <a:pt x="720" y="257"/>
                </a:cubicBezTo>
                <a:cubicBezTo>
                  <a:pt x="736" y="257"/>
                  <a:pt x="755" y="293"/>
                  <a:pt x="768" y="257"/>
                </a:cubicBezTo>
                <a:cubicBezTo>
                  <a:pt x="780" y="220"/>
                  <a:pt x="781" y="0"/>
                  <a:pt x="795" y="38"/>
                </a:cubicBezTo>
                <a:cubicBezTo>
                  <a:pt x="808" y="75"/>
                  <a:pt x="830" y="474"/>
                  <a:pt x="848" y="481"/>
                </a:cubicBezTo>
                <a:cubicBezTo>
                  <a:pt x="865" y="487"/>
                  <a:pt x="885" y="101"/>
                  <a:pt x="901" y="76"/>
                </a:cubicBezTo>
                <a:cubicBezTo>
                  <a:pt x="916" y="50"/>
                  <a:pt x="923" y="295"/>
                  <a:pt x="939" y="326"/>
                </a:cubicBezTo>
                <a:cubicBezTo>
                  <a:pt x="954" y="356"/>
                  <a:pt x="972" y="268"/>
                  <a:pt x="992" y="257"/>
                </a:cubicBezTo>
                <a:cubicBezTo>
                  <a:pt x="1011" y="245"/>
                  <a:pt x="939" y="257"/>
                  <a:pt x="1056" y="257"/>
                </a:cubicBezTo>
                <a:cubicBezTo>
                  <a:pt x="1172" y="257"/>
                  <a:pt x="1431" y="257"/>
                  <a:pt x="1691" y="257"/>
                </a:cubicBezTo>
              </a:path>
            </a:pathLst>
          </a:custGeom>
          <a:noFill/>
          <a:ln w="93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34680" y="3657600"/>
            <a:ext cx="4640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ve Propagation Fundamentals -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flection and Transmi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2917440" y="169920"/>
            <a:ext cx="227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kes' Re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3" name=""/>
          <p:cNvGrpSpPr/>
          <p:nvPr/>
        </p:nvGrpSpPr>
        <p:grpSpPr>
          <a:xfrm>
            <a:off x="990720" y="1066680"/>
            <a:ext cx="3528720" cy="1999440"/>
            <a:chOff x="990720" y="1066680"/>
            <a:chExt cx="3528720" cy="1999440"/>
          </a:xfrm>
        </p:grpSpPr>
        <p:sp>
          <p:nvSpPr>
            <p:cNvPr id="244" name=""/>
            <p:cNvSpPr/>
            <p:nvPr/>
          </p:nvSpPr>
          <p:spPr>
            <a:xfrm>
              <a:off x="1371600" y="2209680"/>
              <a:ext cx="3124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362320" y="220968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981080" y="1066680"/>
              <a:ext cx="38124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946680" y="2556000"/>
              <a:ext cx="572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48" name=""/>
            <p:cNvGraphicFramePr/>
            <p:nvPr/>
          </p:nvGraphicFramePr>
          <p:xfrm>
            <a:off x="990720" y="1143000"/>
            <a:ext cx="838080" cy="5270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4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990720" y="1143000"/>
                      <a:ext cx="838080" cy="527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50" name=""/>
            <p:cNvGraphicFramePr/>
            <p:nvPr/>
          </p:nvGraphicFramePr>
          <p:xfrm>
            <a:off x="990720" y="2352600"/>
            <a:ext cx="838080" cy="4748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5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90720" y="2352600"/>
                      <a:ext cx="838080" cy="474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52" name=""/>
          <p:cNvSpPr/>
          <p:nvPr/>
        </p:nvSpPr>
        <p:spPr>
          <a:xfrm>
            <a:off x="5334120" y="220968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324480" y="2209680"/>
            <a:ext cx="14479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257800" y="685800"/>
            <a:ext cx="573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952880" y="1143000"/>
          <a:ext cx="838440" cy="527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5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952880" y="1143000"/>
                    <a:ext cx="838440" cy="52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7" name=""/>
          <p:cNvGraphicFramePr/>
          <p:nvPr/>
        </p:nvGraphicFramePr>
        <p:xfrm>
          <a:off x="4952880" y="2352600"/>
          <a:ext cx="838440" cy="474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5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952880" y="2352600"/>
                    <a:ext cx="838440" cy="47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9" name=""/>
          <p:cNvSpPr/>
          <p:nvPr/>
        </p:nvSpPr>
        <p:spPr>
          <a:xfrm flipH="1" flipV="1">
            <a:off x="5967360" y="1066320"/>
            <a:ext cx="380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850720" y="2936880"/>
            <a:ext cx="181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ersed pa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1" name=""/>
          <p:cNvGraphicFramePr/>
          <p:nvPr/>
        </p:nvGraphicFramePr>
        <p:xfrm>
          <a:off x="2590920" y="3733920"/>
          <a:ext cx="2895480" cy="10573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6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590920" y="3733920"/>
                    <a:ext cx="2895480" cy="105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3" name=""/>
          <p:cNvSpPr/>
          <p:nvPr/>
        </p:nvSpPr>
        <p:spPr>
          <a:xfrm>
            <a:off x="2362320" y="121932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377040" y="105732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 flipH="1" rot="2391600">
            <a:off x="2101320" y="1499400"/>
            <a:ext cx="303840" cy="303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flipH="1" rot="2391600">
            <a:off x="6102000" y="1502280"/>
            <a:ext cx="304560" cy="30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7" name=""/>
          <p:cNvGraphicFramePr/>
          <p:nvPr/>
        </p:nvGraphicFramePr>
        <p:xfrm>
          <a:off x="2070000" y="982800"/>
          <a:ext cx="304920" cy="4572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68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070000" y="982800"/>
                    <a:ext cx="30492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9" name=""/>
          <p:cNvGraphicFramePr/>
          <p:nvPr/>
        </p:nvGraphicFramePr>
        <p:xfrm>
          <a:off x="6062760" y="1003320"/>
          <a:ext cx="304560" cy="4572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70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062760" y="1003320"/>
                    <a:ext cx="30456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1" name=""/>
          <p:cNvSpPr/>
          <p:nvPr/>
        </p:nvSpPr>
        <p:spPr>
          <a:xfrm flipV="1">
            <a:off x="2057760" y="2210040"/>
            <a:ext cx="608760" cy="304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358" y="14"/>
                </a:moveTo>
                <a:arcTo wR="10800" hR="10800" stAng="-5222432" swAng="5222432"/>
                <a:lnTo>
                  <a:pt x="10800" y="10800"/>
                </a:lnTo>
                <a:close/>
              </a:path>
              <a:path fill="none" w="21600" h="21600">
                <a:moveTo>
                  <a:pt x="11358" y="14"/>
                </a:moveTo>
                <a:arcTo wR="10800" hR="10800" stAng="-5222432" swAng="5222432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6057720" y="2225880"/>
            <a:ext cx="609480" cy="304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358" y="14"/>
                </a:moveTo>
                <a:arcTo wR="10800" hR="10800" stAng="-5222432" swAng="5222432"/>
                <a:lnTo>
                  <a:pt x="10800" y="10800"/>
                </a:lnTo>
                <a:close/>
              </a:path>
              <a:path fill="none" w="21600" h="21600">
                <a:moveTo>
                  <a:pt x="11358" y="14"/>
                </a:moveTo>
                <a:arcTo wR="10800" hR="10800" stAng="-5222432" swAng="5222432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2514600" y="2438280"/>
          <a:ext cx="314280" cy="4716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74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514600" y="2438280"/>
                    <a:ext cx="314280" cy="4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6553080" y="2446200"/>
          <a:ext cx="314280" cy="4716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76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553080" y="2446200"/>
                    <a:ext cx="314280" cy="4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7" name=""/>
          <p:cNvSpPr/>
          <p:nvPr/>
        </p:nvSpPr>
        <p:spPr>
          <a:xfrm>
            <a:off x="532800" y="3962520"/>
            <a:ext cx="15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uid-flu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5715000" y="4343400"/>
            <a:ext cx="380880" cy="500040"/>
            <a:chOff x="5715000" y="4343400"/>
            <a:chExt cx="380880" cy="500040"/>
          </a:xfrm>
        </p:grpSpPr>
        <p:sp>
          <p:nvSpPr>
            <p:cNvPr id="279" name=""/>
            <p:cNvSpPr/>
            <p:nvPr/>
          </p:nvSpPr>
          <p:spPr>
            <a:xfrm>
              <a:off x="5854320" y="4768920"/>
              <a:ext cx="107640" cy="7452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715000" y="4343400"/>
              <a:ext cx="380880" cy="3808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829120" y="4705200"/>
              <a:ext cx="158400" cy="1018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flipV="1">
              <a:off x="5898960" y="4533480"/>
              <a:ext cx="0" cy="16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2917440" y="169920"/>
            <a:ext cx="227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kes' Re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371600" y="220968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362320" y="2209680"/>
            <a:ext cx="14475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981080" y="1066680"/>
            <a:ext cx="38124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7" name=""/>
          <p:cNvGraphicFramePr/>
          <p:nvPr/>
        </p:nvGraphicFramePr>
        <p:xfrm>
          <a:off x="914400" y="1447920"/>
          <a:ext cx="992160" cy="58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447920"/>
                    <a:ext cx="992160" cy="58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9" name=""/>
          <p:cNvGraphicFramePr/>
          <p:nvPr/>
        </p:nvGraphicFramePr>
        <p:xfrm>
          <a:off x="669960" y="2324160"/>
          <a:ext cx="1481040" cy="531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69960" y="2324160"/>
                    <a:ext cx="1481040" cy="53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1" name=""/>
          <p:cNvSpPr/>
          <p:nvPr/>
        </p:nvSpPr>
        <p:spPr>
          <a:xfrm>
            <a:off x="5334120" y="220968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324480" y="2209680"/>
            <a:ext cx="14479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4876920" y="1447920"/>
          <a:ext cx="993600" cy="588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9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876920" y="1447920"/>
                    <a:ext cx="993600" cy="58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5" name=""/>
          <p:cNvGraphicFramePr/>
          <p:nvPr/>
        </p:nvGraphicFramePr>
        <p:xfrm>
          <a:off x="4632480" y="2324160"/>
          <a:ext cx="1481040" cy="531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9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632480" y="2324160"/>
                    <a:ext cx="1481040" cy="53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7" name=""/>
          <p:cNvSpPr/>
          <p:nvPr/>
        </p:nvSpPr>
        <p:spPr>
          <a:xfrm flipH="1" flipV="1">
            <a:off x="5967360" y="1066320"/>
            <a:ext cx="380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790600" y="3429000"/>
            <a:ext cx="193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ersed pat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9" name=""/>
          <p:cNvGraphicFramePr/>
          <p:nvPr/>
        </p:nvGraphicFramePr>
        <p:xfrm>
          <a:off x="2178000" y="3962520"/>
          <a:ext cx="3922920" cy="23637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0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178000" y="3962520"/>
                    <a:ext cx="3922920" cy="236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1" name=""/>
          <p:cNvSpPr/>
          <p:nvPr/>
        </p:nvSpPr>
        <p:spPr>
          <a:xfrm>
            <a:off x="2362320" y="121932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377040" y="105732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80520" y="4343400"/>
            <a:ext cx="152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uid-sol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362320" y="2209680"/>
            <a:ext cx="99036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5" name=""/>
          <p:cNvGraphicFramePr/>
          <p:nvPr/>
        </p:nvGraphicFramePr>
        <p:xfrm>
          <a:off x="3886200" y="2514600"/>
          <a:ext cx="685800" cy="5364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06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886200" y="2514600"/>
                    <a:ext cx="685800" cy="53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7" name=""/>
          <p:cNvGraphicFramePr/>
          <p:nvPr/>
        </p:nvGraphicFramePr>
        <p:xfrm>
          <a:off x="3346560" y="3048120"/>
          <a:ext cx="927000" cy="5968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308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346560" y="3048120"/>
                    <a:ext cx="92700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9" name=""/>
          <p:cNvSpPr/>
          <p:nvPr/>
        </p:nvSpPr>
        <p:spPr>
          <a:xfrm>
            <a:off x="3414960" y="22510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05480" y="27846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119680" y="6508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005880" y="5745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 flipH="1" flipV="1">
            <a:off x="6324480" y="2209320"/>
            <a:ext cx="91440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7529760" y="23274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843960" y="28605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6" name=""/>
          <p:cNvGraphicFramePr/>
          <p:nvPr/>
        </p:nvGraphicFramePr>
        <p:xfrm>
          <a:off x="4498920" y="644400"/>
          <a:ext cx="1517760" cy="5256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31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4498920" y="644400"/>
                    <a:ext cx="1517760" cy="52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8" name=""/>
          <p:cNvSpPr/>
          <p:nvPr/>
        </p:nvSpPr>
        <p:spPr>
          <a:xfrm flipV="1">
            <a:off x="2819520" y="2590560"/>
            <a:ext cx="228600" cy="22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130560" y="2576520"/>
            <a:ext cx="304920" cy="152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057400" y="1295280"/>
            <a:ext cx="123840" cy="371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 flipV="1">
            <a:off x="6808680" y="2580840"/>
            <a:ext cx="228600" cy="22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811600" y="2604960"/>
            <a:ext cx="276120" cy="27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 flipH="1" flipV="1">
            <a:off x="6730920" y="2566800"/>
            <a:ext cx="279360" cy="252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flipH="1" flipV="1">
            <a:off x="7020000" y="2532240"/>
            <a:ext cx="295200" cy="134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H="1" flipV="1">
            <a:off x="6095880" y="1447920"/>
            <a:ext cx="115920" cy="387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1294200" y="128520"/>
            <a:ext cx="621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mission Coefficients (Fluid-Solid interfac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ed on velocity rat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7" name=""/>
          <p:cNvGraphicFramePr/>
          <p:nvPr/>
        </p:nvGraphicFramePr>
        <p:xfrm>
          <a:off x="360360" y="3809880"/>
          <a:ext cx="8783640" cy="270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0360" y="3809880"/>
                    <a:ext cx="8783640" cy="270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9" name=""/>
          <p:cNvSpPr/>
          <p:nvPr/>
        </p:nvSpPr>
        <p:spPr>
          <a:xfrm>
            <a:off x="2514600" y="21337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343400" y="2133720"/>
            <a:ext cx="14479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838680" y="1044720"/>
            <a:ext cx="504720" cy="10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2" name=""/>
          <p:cNvGraphicFramePr/>
          <p:nvPr/>
        </p:nvGraphicFramePr>
        <p:xfrm>
          <a:off x="2743200" y="1415880"/>
          <a:ext cx="838080" cy="498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43200" y="1415880"/>
                    <a:ext cx="838080" cy="49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4" name=""/>
          <p:cNvGraphicFramePr/>
          <p:nvPr/>
        </p:nvGraphicFramePr>
        <p:xfrm>
          <a:off x="2362320" y="2286000"/>
          <a:ext cx="1481040" cy="531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3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362320" y="2286000"/>
                    <a:ext cx="1481040" cy="53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6" name=""/>
          <p:cNvSpPr/>
          <p:nvPr/>
        </p:nvSpPr>
        <p:spPr>
          <a:xfrm>
            <a:off x="4343400" y="114300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343400" y="2133720"/>
            <a:ext cx="99072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8" name=""/>
          <p:cNvGraphicFramePr/>
          <p:nvPr/>
        </p:nvGraphicFramePr>
        <p:xfrm>
          <a:off x="5943600" y="2514600"/>
          <a:ext cx="685800" cy="536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3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943600" y="2514600"/>
                    <a:ext cx="685800" cy="53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0" name=""/>
          <p:cNvGraphicFramePr/>
          <p:nvPr/>
        </p:nvGraphicFramePr>
        <p:xfrm>
          <a:off x="5334120" y="3048120"/>
          <a:ext cx="844560" cy="5443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4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334120" y="3048120"/>
                    <a:ext cx="844560" cy="54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2" name=""/>
          <p:cNvSpPr/>
          <p:nvPr/>
        </p:nvSpPr>
        <p:spPr>
          <a:xfrm>
            <a:off x="5396400" y="21747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955040" y="31240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515040" y="9446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flipV="1">
            <a:off x="3749760" y="1917000"/>
            <a:ext cx="122796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110" swAng="5061688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110" swAng="5061688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6" name=""/>
          <p:cNvGraphicFramePr/>
          <p:nvPr/>
        </p:nvGraphicFramePr>
        <p:xfrm>
          <a:off x="3935520" y="1039680"/>
          <a:ext cx="426960" cy="4780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47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935520" y="1039680"/>
                    <a:ext cx="4269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8" name=""/>
          <p:cNvSpPr/>
          <p:nvPr/>
        </p:nvSpPr>
        <p:spPr>
          <a:xfrm flipH="1">
            <a:off x="4114800" y="1600200"/>
            <a:ext cx="456480" cy="152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4660920" y="2695680"/>
          <a:ext cx="433440" cy="4572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660920" y="2695680"/>
                    <a:ext cx="43344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 flipV="1">
            <a:off x="4115160" y="2209320"/>
            <a:ext cx="456480" cy="30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2" name=""/>
          <p:cNvGraphicFramePr/>
          <p:nvPr/>
        </p:nvGraphicFramePr>
        <p:xfrm>
          <a:off x="4343400" y="2438280"/>
          <a:ext cx="372960" cy="3952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353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4343400" y="2438280"/>
                    <a:ext cx="372960" cy="3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4" name=""/>
          <p:cNvSpPr/>
          <p:nvPr/>
        </p:nvSpPr>
        <p:spPr>
          <a:xfrm>
            <a:off x="1752840" y="1447920"/>
            <a:ext cx="7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u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1448280" y="2362320"/>
            <a:ext cx="77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 flipV="1">
            <a:off x="4876920" y="2590920"/>
            <a:ext cx="304560" cy="304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105520" y="2506680"/>
            <a:ext cx="360360" cy="1731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4010040" y="1419120"/>
            <a:ext cx="131760" cy="311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/>
          <p:nvPr/>
        </p:nvSpPr>
        <p:spPr>
          <a:xfrm>
            <a:off x="5360400" y="353880"/>
            <a:ext cx="3692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uid-Fluid R, T coeffici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magnitude) water-ste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sure-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3888000" y="35053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478560" y="228600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52280" y="152280"/>
            <a:ext cx="51818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&gt; ang = linspace(0, 89.9, 200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&gt; [R,T] = pressure_coeffs(1.0, 7.9, 1480, 5900, ang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&gt; plotyy(ang, abs(R), ang, abs(T), @myplot1, @myplot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&gt; xlabel('angle, degrees'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&gt; ylabel('|R|'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057480" y="2101680"/>
            <a:ext cx="5035680" cy="384660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057480" y="2101680"/>
            <a:ext cx="5035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057480" y="5948280"/>
            <a:ext cx="5035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 flipV="1">
            <a:off x="8143920" y="2101320"/>
            <a:ext cx="1440" cy="384660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V="1">
            <a:off x="3057480" y="2101320"/>
            <a:ext cx="1800" cy="384660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 flipV="1">
            <a:off x="3057480" y="2101320"/>
            <a:ext cx="1800" cy="384660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 flipV="1">
            <a:off x="3057480" y="5903640"/>
            <a:ext cx="1800" cy="4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057480" y="2101680"/>
            <a:ext cx="1800" cy="55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022560" y="59929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flipV="1">
            <a:off x="3613320" y="5903640"/>
            <a:ext cx="1440" cy="4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613320" y="2101680"/>
            <a:ext cx="1440" cy="55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532320" y="599292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 flipV="1">
            <a:off x="4170240" y="5903640"/>
            <a:ext cx="1800" cy="4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170240" y="2101680"/>
            <a:ext cx="1800" cy="55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089240" y="599292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4727520" y="5903640"/>
            <a:ext cx="1800" cy="4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727520" y="2101680"/>
            <a:ext cx="1800" cy="55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646520" y="599292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V="1">
            <a:off x="5284800" y="5903640"/>
            <a:ext cx="1440" cy="4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284800" y="2101680"/>
            <a:ext cx="1440" cy="55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203800" y="599292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V="1">
            <a:off x="5853240" y="5903640"/>
            <a:ext cx="1440" cy="4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853240" y="2101680"/>
            <a:ext cx="1440" cy="55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772240" y="599292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 flipV="1">
            <a:off x="6410160" y="5903640"/>
            <a:ext cx="1800" cy="4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410160" y="2101680"/>
            <a:ext cx="1800" cy="55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6329520" y="599292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 flipV="1">
            <a:off x="6967440" y="5903640"/>
            <a:ext cx="1800" cy="4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967440" y="2101680"/>
            <a:ext cx="1800" cy="55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6885000" y="599292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 flipV="1">
            <a:off x="7523280" y="5903640"/>
            <a:ext cx="1440" cy="4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7523280" y="2101680"/>
            <a:ext cx="1440" cy="55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442280" y="599292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 flipV="1">
            <a:off x="8143920" y="5903640"/>
            <a:ext cx="1440" cy="4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143920" y="2101680"/>
            <a:ext cx="1440" cy="55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8010360" y="599292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057480" y="5948280"/>
            <a:ext cx="46080" cy="180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8034120" y="5948280"/>
            <a:ext cx="58680" cy="180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622600" y="5807160"/>
            <a:ext cx="317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057480" y="4024440"/>
            <a:ext cx="46080" cy="144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 flipH="1">
            <a:off x="8034120" y="4024440"/>
            <a:ext cx="58680" cy="144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749680" y="388476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057480" y="2101680"/>
            <a:ext cx="46080" cy="180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 flipH="1">
            <a:off x="8034120" y="2101680"/>
            <a:ext cx="58680" cy="180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2622600" y="1960560"/>
            <a:ext cx="317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3057480" y="2101680"/>
            <a:ext cx="5035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 flipV="1">
            <a:off x="8143920" y="2101320"/>
            <a:ext cx="1440" cy="384660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 flipV="1">
            <a:off x="3057480" y="2101320"/>
            <a:ext cx="1800" cy="3846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3057480" y="4024440"/>
            <a:ext cx="3202200" cy="1191960"/>
          </a:xfrm>
          <a:custGeom>
            <a:avLst/>
            <a:gdLst/>
            <a:ahLst/>
            <a:rect l="l" t="t" r="r" b="b"/>
            <a:pathLst>
              <a:path w="2017" h="751">
                <a:moveTo>
                  <a:pt x="0" y="751"/>
                </a:moveTo>
                <a:lnTo>
                  <a:pt x="14" y="751"/>
                </a:lnTo>
                <a:lnTo>
                  <a:pt x="29" y="751"/>
                </a:lnTo>
                <a:lnTo>
                  <a:pt x="43" y="744"/>
                </a:lnTo>
                <a:lnTo>
                  <a:pt x="58" y="744"/>
                </a:lnTo>
                <a:lnTo>
                  <a:pt x="73" y="744"/>
                </a:lnTo>
                <a:lnTo>
                  <a:pt x="95" y="737"/>
                </a:lnTo>
                <a:lnTo>
                  <a:pt x="109" y="730"/>
                </a:lnTo>
                <a:lnTo>
                  <a:pt x="124" y="730"/>
                </a:lnTo>
                <a:lnTo>
                  <a:pt x="138" y="723"/>
                </a:lnTo>
                <a:lnTo>
                  <a:pt x="153" y="716"/>
                </a:lnTo>
                <a:lnTo>
                  <a:pt x="168" y="709"/>
                </a:lnTo>
                <a:lnTo>
                  <a:pt x="190" y="702"/>
                </a:lnTo>
                <a:lnTo>
                  <a:pt x="204" y="688"/>
                </a:lnTo>
                <a:lnTo>
                  <a:pt x="219" y="681"/>
                </a:lnTo>
                <a:lnTo>
                  <a:pt x="233" y="666"/>
                </a:lnTo>
                <a:lnTo>
                  <a:pt x="248" y="659"/>
                </a:lnTo>
                <a:lnTo>
                  <a:pt x="270" y="645"/>
                </a:lnTo>
                <a:lnTo>
                  <a:pt x="285" y="631"/>
                </a:lnTo>
                <a:lnTo>
                  <a:pt x="299" y="617"/>
                </a:lnTo>
                <a:lnTo>
                  <a:pt x="314" y="596"/>
                </a:lnTo>
                <a:lnTo>
                  <a:pt x="328" y="581"/>
                </a:lnTo>
                <a:lnTo>
                  <a:pt x="343" y="560"/>
                </a:lnTo>
                <a:lnTo>
                  <a:pt x="365" y="539"/>
                </a:lnTo>
                <a:lnTo>
                  <a:pt x="380" y="510"/>
                </a:lnTo>
                <a:lnTo>
                  <a:pt x="394" y="482"/>
                </a:lnTo>
                <a:lnTo>
                  <a:pt x="409" y="454"/>
                </a:lnTo>
                <a:lnTo>
                  <a:pt x="423" y="418"/>
                </a:lnTo>
                <a:lnTo>
                  <a:pt x="438" y="383"/>
                </a:lnTo>
                <a:lnTo>
                  <a:pt x="460" y="340"/>
                </a:lnTo>
                <a:lnTo>
                  <a:pt x="475" y="284"/>
                </a:lnTo>
                <a:lnTo>
                  <a:pt x="489" y="213"/>
                </a:lnTo>
                <a:lnTo>
                  <a:pt x="504" y="78"/>
                </a:lnTo>
                <a:lnTo>
                  <a:pt x="518" y="0"/>
                </a:lnTo>
                <a:lnTo>
                  <a:pt x="540" y="7"/>
                </a:lnTo>
                <a:lnTo>
                  <a:pt x="555" y="7"/>
                </a:lnTo>
                <a:lnTo>
                  <a:pt x="570" y="7"/>
                </a:lnTo>
                <a:lnTo>
                  <a:pt x="584" y="7"/>
                </a:lnTo>
                <a:lnTo>
                  <a:pt x="599" y="0"/>
                </a:lnTo>
                <a:lnTo>
                  <a:pt x="614" y="7"/>
                </a:lnTo>
                <a:lnTo>
                  <a:pt x="635" y="7"/>
                </a:lnTo>
                <a:lnTo>
                  <a:pt x="650" y="7"/>
                </a:lnTo>
                <a:lnTo>
                  <a:pt x="665" y="7"/>
                </a:lnTo>
                <a:lnTo>
                  <a:pt x="679" y="7"/>
                </a:lnTo>
                <a:lnTo>
                  <a:pt x="694" y="7"/>
                </a:lnTo>
                <a:lnTo>
                  <a:pt x="716" y="7"/>
                </a:lnTo>
                <a:lnTo>
                  <a:pt x="730" y="7"/>
                </a:lnTo>
                <a:lnTo>
                  <a:pt x="745" y="7"/>
                </a:lnTo>
                <a:lnTo>
                  <a:pt x="760" y="7"/>
                </a:lnTo>
                <a:lnTo>
                  <a:pt x="774" y="7"/>
                </a:lnTo>
                <a:lnTo>
                  <a:pt x="789" y="7"/>
                </a:lnTo>
                <a:lnTo>
                  <a:pt x="811" y="7"/>
                </a:lnTo>
                <a:lnTo>
                  <a:pt x="825" y="7"/>
                </a:lnTo>
                <a:lnTo>
                  <a:pt x="840" y="7"/>
                </a:lnTo>
                <a:lnTo>
                  <a:pt x="855" y="7"/>
                </a:lnTo>
                <a:lnTo>
                  <a:pt x="869" y="7"/>
                </a:lnTo>
                <a:lnTo>
                  <a:pt x="884" y="7"/>
                </a:lnTo>
                <a:lnTo>
                  <a:pt x="906" y="7"/>
                </a:lnTo>
                <a:lnTo>
                  <a:pt x="920" y="7"/>
                </a:lnTo>
                <a:lnTo>
                  <a:pt x="935" y="7"/>
                </a:lnTo>
                <a:lnTo>
                  <a:pt x="950" y="7"/>
                </a:lnTo>
                <a:lnTo>
                  <a:pt x="964" y="7"/>
                </a:lnTo>
                <a:lnTo>
                  <a:pt x="986" y="7"/>
                </a:lnTo>
                <a:lnTo>
                  <a:pt x="1001" y="7"/>
                </a:lnTo>
                <a:lnTo>
                  <a:pt x="1015" y="7"/>
                </a:lnTo>
                <a:lnTo>
                  <a:pt x="1030" y="7"/>
                </a:lnTo>
                <a:lnTo>
                  <a:pt x="1045" y="7"/>
                </a:lnTo>
                <a:lnTo>
                  <a:pt x="1059" y="7"/>
                </a:lnTo>
                <a:lnTo>
                  <a:pt x="1081" y="7"/>
                </a:lnTo>
                <a:lnTo>
                  <a:pt x="1096" y="7"/>
                </a:lnTo>
                <a:lnTo>
                  <a:pt x="1111" y="7"/>
                </a:lnTo>
                <a:lnTo>
                  <a:pt x="1125" y="7"/>
                </a:lnTo>
                <a:lnTo>
                  <a:pt x="1140" y="7"/>
                </a:lnTo>
                <a:lnTo>
                  <a:pt x="1162" y="0"/>
                </a:lnTo>
                <a:lnTo>
                  <a:pt x="1176" y="0"/>
                </a:lnTo>
                <a:lnTo>
                  <a:pt x="1191" y="7"/>
                </a:lnTo>
                <a:lnTo>
                  <a:pt x="1206" y="7"/>
                </a:lnTo>
                <a:lnTo>
                  <a:pt x="1220" y="7"/>
                </a:lnTo>
                <a:lnTo>
                  <a:pt x="1235" y="7"/>
                </a:lnTo>
                <a:lnTo>
                  <a:pt x="1257" y="7"/>
                </a:lnTo>
                <a:lnTo>
                  <a:pt x="1271" y="7"/>
                </a:lnTo>
                <a:lnTo>
                  <a:pt x="1286" y="7"/>
                </a:lnTo>
                <a:lnTo>
                  <a:pt x="1301" y="7"/>
                </a:lnTo>
                <a:lnTo>
                  <a:pt x="1315" y="7"/>
                </a:lnTo>
                <a:lnTo>
                  <a:pt x="1330" y="7"/>
                </a:lnTo>
                <a:lnTo>
                  <a:pt x="1352" y="7"/>
                </a:lnTo>
                <a:lnTo>
                  <a:pt x="1366" y="7"/>
                </a:lnTo>
                <a:lnTo>
                  <a:pt x="1381" y="7"/>
                </a:lnTo>
                <a:lnTo>
                  <a:pt x="1396" y="7"/>
                </a:lnTo>
                <a:lnTo>
                  <a:pt x="1410" y="7"/>
                </a:lnTo>
                <a:lnTo>
                  <a:pt x="1432" y="7"/>
                </a:lnTo>
                <a:lnTo>
                  <a:pt x="1447" y="7"/>
                </a:lnTo>
                <a:lnTo>
                  <a:pt x="1461" y="7"/>
                </a:lnTo>
                <a:lnTo>
                  <a:pt x="1476" y="0"/>
                </a:lnTo>
                <a:lnTo>
                  <a:pt x="1491" y="7"/>
                </a:lnTo>
                <a:lnTo>
                  <a:pt x="1505" y="7"/>
                </a:lnTo>
                <a:lnTo>
                  <a:pt x="1527" y="7"/>
                </a:lnTo>
                <a:lnTo>
                  <a:pt x="1542" y="7"/>
                </a:lnTo>
                <a:lnTo>
                  <a:pt x="1556" y="7"/>
                </a:lnTo>
                <a:lnTo>
                  <a:pt x="1571" y="7"/>
                </a:lnTo>
                <a:lnTo>
                  <a:pt x="1586" y="7"/>
                </a:lnTo>
                <a:lnTo>
                  <a:pt x="1608" y="7"/>
                </a:lnTo>
                <a:lnTo>
                  <a:pt x="1622" y="7"/>
                </a:lnTo>
                <a:lnTo>
                  <a:pt x="1637" y="7"/>
                </a:lnTo>
                <a:lnTo>
                  <a:pt x="1651" y="7"/>
                </a:lnTo>
                <a:lnTo>
                  <a:pt x="1666" y="7"/>
                </a:lnTo>
                <a:lnTo>
                  <a:pt x="1681" y="7"/>
                </a:lnTo>
                <a:lnTo>
                  <a:pt x="1703" y="7"/>
                </a:lnTo>
                <a:lnTo>
                  <a:pt x="1717" y="7"/>
                </a:lnTo>
                <a:lnTo>
                  <a:pt x="1732" y="7"/>
                </a:lnTo>
                <a:lnTo>
                  <a:pt x="1746" y="7"/>
                </a:lnTo>
                <a:lnTo>
                  <a:pt x="1761" y="7"/>
                </a:lnTo>
                <a:lnTo>
                  <a:pt x="1776" y="7"/>
                </a:lnTo>
                <a:lnTo>
                  <a:pt x="1798" y="7"/>
                </a:lnTo>
                <a:lnTo>
                  <a:pt x="1812" y="7"/>
                </a:lnTo>
                <a:lnTo>
                  <a:pt x="1827" y="7"/>
                </a:lnTo>
                <a:lnTo>
                  <a:pt x="1841" y="7"/>
                </a:lnTo>
                <a:lnTo>
                  <a:pt x="1856" y="7"/>
                </a:lnTo>
                <a:lnTo>
                  <a:pt x="1878" y="7"/>
                </a:lnTo>
                <a:lnTo>
                  <a:pt x="1893" y="7"/>
                </a:lnTo>
                <a:lnTo>
                  <a:pt x="1907" y="7"/>
                </a:lnTo>
                <a:lnTo>
                  <a:pt x="1922" y="7"/>
                </a:lnTo>
                <a:lnTo>
                  <a:pt x="1936" y="7"/>
                </a:lnTo>
                <a:lnTo>
                  <a:pt x="1951" y="7"/>
                </a:lnTo>
                <a:lnTo>
                  <a:pt x="1973" y="7"/>
                </a:lnTo>
                <a:lnTo>
                  <a:pt x="1988" y="7"/>
                </a:lnTo>
                <a:lnTo>
                  <a:pt x="2002" y="7"/>
                </a:lnTo>
                <a:lnTo>
                  <a:pt x="2017" y="7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259680" y="4035600"/>
            <a:ext cx="1820520" cy="1440"/>
          </a:xfrm>
          <a:custGeom>
            <a:avLst/>
            <a:gdLst/>
            <a:ahLst/>
            <a:rect l="l" t="t" r="r" b="b"/>
            <a:pathLst>
              <a:path w="1147" h="0">
                <a:moveTo>
                  <a:pt x="0" y="0"/>
                </a:moveTo>
                <a:lnTo>
                  <a:pt x="14" y="0"/>
                </a:lnTo>
                <a:lnTo>
                  <a:pt x="36" y="0"/>
                </a:lnTo>
                <a:lnTo>
                  <a:pt x="51" y="0"/>
                </a:lnTo>
                <a:lnTo>
                  <a:pt x="66" y="0"/>
                </a:lnTo>
                <a:lnTo>
                  <a:pt x="80" y="0"/>
                </a:lnTo>
                <a:lnTo>
                  <a:pt x="95" y="0"/>
                </a:lnTo>
                <a:lnTo>
                  <a:pt x="109" y="0"/>
                </a:lnTo>
                <a:lnTo>
                  <a:pt x="131" y="0"/>
                </a:lnTo>
                <a:lnTo>
                  <a:pt x="146" y="0"/>
                </a:lnTo>
                <a:lnTo>
                  <a:pt x="161" y="0"/>
                </a:lnTo>
                <a:lnTo>
                  <a:pt x="175" y="0"/>
                </a:lnTo>
                <a:lnTo>
                  <a:pt x="190" y="0"/>
                </a:lnTo>
                <a:lnTo>
                  <a:pt x="204" y="0"/>
                </a:lnTo>
                <a:lnTo>
                  <a:pt x="226" y="0"/>
                </a:lnTo>
                <a:lnTo>
                  <a:pt x="241" y="0"/>
                </a:lnTo>
                <a:lnTo>
                  <a:pt x="256" y="0"/>
                </a:lnTo>
                <a:lnTo>
                  <a:pt x="270" y="0"/>
                </a:lnTo>
                <a:lnTo>
                  <a:pt x="285" y="0"/>
                </a:lnTo>
                <a:lnTo>
                  <a:pt x="307" y="0"/>
                </a:lnTo>
                <a:lnTo>
                  <a:pt x="321" y="0"/>
                </a:lnTo>
                <a:lnTo>
                  <a:pt x="336" y="0"/>
                </a:lnTo>
                <a:lnTo>
                  <a:pt x="351" y="0"/>
                </a:lnTo>
                <a:lnTo>
                  <a:pt x="365" y="0"/>
                </a:lnTo>
                <a:lnTo>
                  <a:pt x="380" y="0"/>
                </a:lnTo>
                <a:lnTo>
                  <a:pt x="402" y="0"/>
                </a:lnTo>
                <a:lnTo>
                  <a:pt x="416" y="0"/>
                </a:lnTo>
                <a:lnTo>
                  <a:pt x="431" y="0"/>
                </a:lnTo>
                <a:lnTo>
                  <a:pt x="446" y="0"/>
                </a:lnTo>
                <a:lnTo>
                  <a:pt x="460" y="0"/>
                </a:lnTo>
                <a:lnTo>
                  <a:pt x="482" y="0"/>
                </a:lnTo>
                <a:lnTo>
                  <a:pt x="497" y="0"/>
                </a:lnTo>
                <a:lnTo>
                  <a:pt x="511" y="0"/>
                </a:lnTo>
                <a:lnTo>
                  <a:pt x="526" y="0"/>
                </a:lnTo>
                <a:lnTo>
                  <a:pt x="541" y="0"/>
                </a:lnTo>
                <a:lnTo>
                  <a:pt x="555" y="0"/>
                </a:lnTo>
                <a:lnTo>
                  <a:pt x="577" y="0"/>
                </a:lnTo>
                <a:lnTo>
                  <a:pt x="592" y="0"/>
                </a:lnTo>
                <a:lnTo>
                  <a:pt x="606" y="0"/>
                </a:lnTo>
                <a:lnTo>
                  <a:pt x="621" y="0"/>
                </a:lnTo>
                <a:lnTo>
                  <a:pt x="636" y="0"/>
                </a:lnTo>
                <a:lnTo>
                  <a:pt x="650" y="0"/>
                </a:lnTo>
                <a:lnTo>
                  <a:pt x="672" y="0"/>
                </a:lnTo>
                <a:lnTo>
                  <a:pt x="687" y="0"/>
                </a:lnTo>
                <a:lnTo>
                  <a:pt x="701" y="0"/>
                </a:lnTo>
                <a:lnTo>
                  <a:pt x="716" y="0"/>
                </a:lnTo>
                <a:lnTo>
                  <a:pt x="731" y="0"/>
                </a:lnTo>
                <a:lnTo>
                  <a:pt x="753" y="0"/>
                </a:lnTo>
                <a:lnTo>
                  <a:pt x="767" y="0"/>
                </a:lnTo>
                <a:lnTo>
                  <a:pt x="782" y="0"/>
                </a:lnTo>
                <a:lnTo>
                  <a:pt x="796" y="0"/>
                </a:lnTo>
                <a:lnTo>
                  <a:pt x="811" y="0"/>
                </a:lnTo>
                <a:lnTo>
                  <a:pt x="826" y="0"/>
                </a:lnTo>
                <a:lnTo>
                  <a:pt x="848" y="0"/>
                </a:lnTo>
                <a:lnTo>
                  <a:pt x="862" y="0"/>
                </a:lnTo>
                <a:lnTo>
                  <a:pt x="877" y="0"/>
                </a:lnTo>
                <a:lnTo>
                  <a:pt x="892" y="0"/>
                </a:lnTo>
                <a:lnTo>
                  <a:pt x="906" y="0"/>
                </a:lnTo>
                <a:lnTo>
                  <a:pt x="928" y="0"/>
                </a:lnTo>
                <a:lnTo>
                  <a:pt x="943" y="0"/>
                </a:lnTo>
                <a:lnTo>
                  <a:pt x="957" y="0"/>
                </a:lnTo>
                <a:lnTo>
                  <a:pt x="972" y="0"/>
                </a:lnTo>
                <a:lnTo>
                  <a:pt x="987" y="0"/>
                </a:lnTo>
                <a:lnTo>
                  <a:pt x="1001" y="0"/>
                </a:lnTo>
                <a:lnTo>
                  <a:pt x="1023" y="0"/>
                </a:lnTo>
                <a:lnTo>
                  <a:pt x="1038" y="0"/>
                </a:lnTo>
                <a:lnTo>
                  <a:pt x="1052" y="0"/>
                </a:lnTo>
                <a:lnTo>
                  <a:pt x="1067" y="0"/>
                </a:lnTo>
                <a:lnTo>
                  <a:pt x="1082" y="0"/>
                </a:lnTo>
                <a:lnTo>
                  <a:pt x="1096" y="0"/>
                </a:lnTo>
                <a:lnTo>
                  <a:pt x="1118" y="0"/>
                </a:lnTo>
                <a:lnTo>
                  <a:pt x="1133" y="0"/>
                </a:lnTo>
                <a:lnTo>
                  <a:pt x="1147" y="0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4649760" y="6400800"/>
            <a:ext cx="1508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gle, degre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 rot="16200000">
            <a:off x="2389320" y="3789720"/>
            <a:ext cx="284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R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 flipV="1">
            <a:off x="8143920" y="2112480"/>
            <a:ext cx="1440" cy="3846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V="1">
            <a:off x="3057480" y="5904000"/>
            <a:ext cx="1800" cy="55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3022560" y="59929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3613320" y="5904000"/>
            <a:ext cx="1440" cy="55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532320" y="599292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V="1">
            <a:off x="4170240" y="5904000"/>
            <a:ext cx="1800" cy="55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9240" y="599292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4727520" y="5904000"/>
            <a:ext cx="1800" cy="55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4646520" y="599292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 flipV="1">
            <a:off x="5284800" y="5904000"/>
            <a:ext cx="1440" cy="55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203800" y="599292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flipV="1">
            <a:off x="5853240" y="5904000"/>
            <a:ext cx="1440" cy="55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5772240" y="599292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flipV="1">
            <a:off x="6410160" y="5904000"/>
            <a:ext cx="1800" cy="55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6329520" y="599292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flipV="1">
            <a:off x="6967440" y="5904000"/>
            <a:ext cx="1800" cy="55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6885000" y="599292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 flipV="1">
            <a:off x="7523280" y="5904000"/>
            <a:ext cx="1440" cy="55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7442280" y="599292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flipV="1">
            <a:off x="8143920" y="5904000"/>
            <a:ext cx="1440" cy="55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8010360" y="599292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flipH="1">
            <a:off x="8034120" y="5959440"/>
            <a:ext cx="58680" cy="1800"/>
          </a:xfrm>
          <a:prstGeom prst="line">
            <a:avLst/>
          </a:prstGeom>
          <a:ln w="0">
            <a:solidFill>
              <a:srgbClr val="007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8178840" y="586908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 flipH="1">
            <a:off x="8034120" y="4035600"/>
            <a:ext cx="58680" cy="1440"/>
          </a:xfrm>
          <a:prstGeom prst="line">
            <a:avLst/>
          </a:prstGeom>
          <a:ln w="0">
            <a:solidFill>
              <a:srgbClr val="007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8178840" y="394668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flipH="1">
            <a:off x="8034120" y="2112840"/>
            <a:ext cx="58680" cy="1800"/>
          </a:xfrm>
          <a:prstGeom prst="line">
            <a:avLst/>
          </a:prstGeom>
          <a:ln w="0">
            <a:solidFill>
              <a:srgbClr val="007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178840" y="202248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057480" y="2112840"/>
            <a:ext cx="3202200" cy="112680"/>
          </a:xfrm>
          <a:custGeom>
            <a:avLst/>
            <a:gdLst/>
            <a:ahLst/>
            <a:rect l="l" t="t" r="r" b="b"/>
            <a:pathLst>
              <a:path w="2017" h="71">
                <a:moveTo>
                  <a:pt x="0" y="71"/>
                </a:moveTo>
                <a:lnTo>
                  <a:pt x="14" y="71"/>
                </a:lnTo>
                <a:lnTo>
                  <a:pt x="29" y="71"/>
                </a:lnTo>
                <a:lnTo>
                  <a:pt x="43" y="71"/>
                </a:lnTo>
                <a:lnTo>
                  <a:pt x="58" y="71"/>
                </a:lnTo>
                <a:lnTo>
                  <a:pt x="73" y="71"/>
                </a:lnTo>
                <a:lnTo>
                  <a:pt x="95" y="71"/>
                </a:lnTo>
                <a:lnTo>
                  <a:pt x="109" y="71"/>
                </a:lnTo>
                <a:lnTo>
                  <a:pt x="124" y="71"/>
                </a:lnTo>
                <a:lnTo>
                  <a:pt x="138" y="71"/>
                </a:lnTo>
                <a:lnTo>
                  <a:pt x="153" y="71"/>
                </a:lnTo>
                <a:lnTo>
                  <a:pt x="168" y="64"/>
                </a:lnTo>
                <a:lnTo>
                  <a:pt x="190" y="64"/>
                </a:lnTo>
                <a:lnTo>
                  <a:pt x="204" y="64"/>
                </a:lnTo>
                <a:lnTo>
                  <a:pt x="219" y="64"/>
                </a:lnTo>
                <a:lnTo>
                  <a:pt x="233" y="64"/>
                </a:lnTo>
                <a:lnTo>
                  <a:pt x="248" y="64"/>
                </a:lnTo>
                <a:lnTo>
                  <a:pt x="270" y="64"/>
                </a:lnTo>
                <a:lnTo>
                  <a:pt x="285" y="56"/>
                </a:lnTo>
                <a:lnTo>
                  <a:pt x="299" y="56"/>
                </a:lnTo>
                <a:lnTo>
                  <a:pt x="314" y="56"/>
                </a:lnTo>
                <a:lnTo>
                  <a:pt x="328" y="56"/>
                </a:lnTo>
                <a:lnTo>
                  <a:pt x="343" y="49"/>
                </a:lnTo>
                <a:lnTo>
                  <a:pt x="365" y="49"/>
                </a:lnTo>
                <a:lnTo>
                  <a:pt x="380" y="49"/>
                </a:lnTo>
                <a:lnTo>
                  <a:pt x="394" y="42"/>
                </a:lnTo>
                <a:lnTo>
                  <a:pt x="409" y="42"/>
                </a:lnTo>
                <a:lnTo>
                  <a:pt x="423" y="35"/>
                </a:lnTo>
                <a:lnTo>
                  <a:pt x="438" y="35"/>
                </a:lnTo>
                <a:lnTo>
                  <a:pt x="460" y="28"/>
                </a:lnTo>
                <a:lnTo>
                  <a:pt x="475" y="21"/>
                </a:lnTo>
                <a:lnTo>
                  <a:pt x="489" y="14"/>
                </a:lnTo>
                <a:lnTo>
                  <a:pt x="504" y="7"/>
                </a:lnTo>
                <a:lnTo>
                  <a:pt x="518" y="0"/>
                </a:lnTo>
                <a:lnTo>
                  <a:pt x="540" y="0"/>
                </a:lnTo>
                <a:lnTo>
                  <a:pt x="555" y="0"/>
                </a:lnTo>
                <a:lnTo>
                  <a:pt x="570" y="0"/>
                </a:lnTo>
                <a:lnTo>
                  <a:pt x="584" y="0"/>
                </a:lnTo>
                <a:lnTo>
                  <a:pt x="599" y="0"/>
                </a:lnTo>
                <a:lnTo>
                  <a:pt x="614" y="0"/>
                </a:lnTo>
                <a:lnTo>
                  <a:pt x="635" y="0"/>
                </a:lnTo>
                <a:lnTo>
                  <a:pt x="650" y="0"/>
                </a:lnTo>
                <a:lnTo>
                  <a:pt x="665" y="0"/>
                </a:lnTo>
                <a:lnTo>
                  <a:pt x="679" y="0"/>
                </a:lnTo>
                <a:lnTo>
                  <a:pt x="694" y="0"/>
                </a:lnTo>
                <a:lnTo>
                  <a:pt x="716" y="0"/>
                </a:lnTo>
                <a:lnTo>
                  <a:pt x="730" y="0"/>
                </a:lnTo>
                <a:lnTo>
                  <a:pt x="745" y="0"/>
                </a:lnTo>
                <a:lnTo>
                  <a:pt x="760" y="0"/>
                </a:lnTo>
                <a:lnTo>
                  <a:pt x="774" y="0"/>
                </a:lnTo>
                <a:lnTo>
                  <a:pt x="789" y="0"/>
                </a:lnTo>
                <a:lnTo>
                  <a:pt x="811" y="0"/>
                </a:lnTo>
                <a:lnTo>
                  <a:pt x="825" y="0"/>
                </a:lnTo>
                <a:lnTo>
                  <a:pt x="840" y="0"/>
                </a:lnTo>
                <a:lnTo>
                  <a:pt x="855" y="0"/>
                </a:lnTo>
                <a:lnTo>
                  <a:pt x="869" y="0"/>
                </a:lnTo>
                <a:lnTo>
                  <a:pt x="884" y="0"/>
                </a:lnTo>
                <a:lnTo>
                  <a:pt x="906" y="0"/>
                </a:lnTo>
                <a:lnTo>
                  <a:pt x="920" y="0"/>
                </a:lnTo>
                <a:lnTo>
                  <a:pt x="935" y="0"/>
                </a:lnTo>
                <a:lnTo>
                  <a:pt x="950" y="0"/>
                </a:lnTo>
                <a:lnTo>
                  <a:pt x="964" y="0"/>
                </a:lnTo>
                <a:lnTo>
                  <a:pt x="986" y="0"/>
                </a:lnTo>
                <a:lnTo>
                  <a:pt x="1001" y="0"/>
                </a:lnTo>
                <a:lnTo>
                  <a:pt x="1015" y="0"/>
                </a:lnTo>
                <a:lnTo>
                  <a:pt x="1030" y="0"/>
                </a:lnTo>
                <a:lnTo>
                  <a:pt x="1045" y="0"/>
                </a:lnTo>
                <a:lnTo>
                  <a:pt x="1059" y="0"/>
                </a:lnTo>
                <a:lnTo>
                  <a:pt x="1081" y="0"/>
                </a:lnTo>
                <a:lnTo>
                  <a:pt x="1096" y="0"/>
                </a:lnTo>
                <a:lnTo>
                  <a:pt x="1111" y="0"/>
                </a:lnTo>
                <a:lnTo>
                  <a:pt x="1125" y="0"/>
                </a:lnTo>
                <a:lnTo>
                  <a:pt x="1140" y="0"/>
                </a:lnTo>
                <a:lnTo>
                  <a:pt x="1162" y="0"/>
                </a:lnTo>
                <a:lnTo>
                  <a:pt x="1176" y="0"/>
                </a:lnTo>
                <a:lnTo>
                  <a:pt x="1191" y="0"/>
                </a:lnTo>
                <a:lnTo>
                  <a:pt x="1206" y="7"/>
                </a:lnTo>
                <a:lnTo>
                  <a:pt x="1220" y="7"/>
                </a:lnTo>
                <a:lnTo>
                  <a:pt x="1235" y="7"/>
                </a:lnTo>
                <a:lnTo>
                  <a:pt x="1257" y="7"/>
                </a:lnTo>
                <a:lnTo>
                  <a:pt x="1271" y="7"/>
                </a:lnTo>
                <a:lnTo>
                  <a:pt x="1286" y="7"/>
                </a:lnTo>
                <a:lnTo>
                  <a:pt x="1301" y="7"/>
                </a:lnTo>
                <a:lnTo>
                  <a:pt x="1315" y="7"/>
                </a:lnTo>
                <a:lnTo>
                  <a:pt x="1330" y="7"/>
                </a:lnTo>
                <a:lnTo>
                  <a:pt x="1352" y="7"/>
                </a:lnTo>
                <a:lnTo>
                  <a:pt x="1366" y="7"/>
                </a:lnTo>
                <a:lnTo>
                  <a:pt x="1381" y="7"/>
                </a:lnTo>
                <a:lnTo>
                  <a:pt x="1396" y="7"/>
                </a:lnTo>
                <a:lnTo>
                  <a:pt x="1410" y="7"/>
                </a:lnTo>
                <a:lnTo>
                  <a:pt x="1432" y="7"/>
                </a:lnTo>
                <a:lnTo>
                  <a:pt x="1447" y="7"/>
                </a:lnTo>
                <a:lnTo>
                  <a:pt x="1461" y="7"/>
                </a:lnTo>
                <a:lnTo>
                  <a:pt x="1476" y="7"/>
                </a:lnTo>
                <a:lnTo>
                  <a:pt x="1491" y="7"/>
                </a:lnTo>
                <a:lnTo>
                  <a:pt x="1505" y="14"/>
                </a:lnTo>
                <a:lnTo>
                  <a:pt x="1527" y="14"/>
                </a:lnTo>
                <a:lnTo>
                  <a:pt x="1542" y="14"/>
                </a:lnTo>
                <a:lnTo>
                  <a:pt x="1556" y="14"/>
                </a:lnTo>
                <a:lnTo>
                  <a:pt x="1571" y="14"/>
                </a:lnTo>
                <a:lnTo>
                  <a:pt x="1586" y="14"/>
                </a:lnTo>
                <a:lnTo>
                  <a:pt x="1608" y="14"/>
                </a:lnTo>
                <a:lnTo>
                  <a:pt x="1622" y="14"/>
                </a:lnTo>
                <a:lnTo>
                  <a:pt x="1637" y="14"/>
                </a:lnTo>
                <a:lnTo>
                  <a:pt x="1651" y="14"/>
                </a:lnTo>
                <a:lnTo>
                  <a:pt x="1666" y="14"/>
                </a:lnTo>
                <a:lnTo>
                  <a:pt x="1681" y="14"/>
                </a:lnTo>
                <a:lnTo>
                  <a:pt x="1703" y="21"/>
                </a:lnTo>
                <a:lnTo>
                  <a:pt x="1717" y="21"/>
                </a:lnTo>
                <a:lnTo>
                  <a:pt x="1732" y="21"/>
                </a:lnTo>
                <a:lnTo>
                  <a:pt x="1746" y="21"/>
                </a:lnTo>
                <a:lnTo>
                  <a:pt x="1761" y="21"/>
                </a:lnTo>
                <a:lnTo>
                  <a:pt x="1776" y="21"/>
                </a:lnTo>
                <a:lnTo>
                  <a:pt x="1798" y="21"/>
                </a:lnTo>
                <a:lnTo>
                  <a:pt x="1812" y="21"/>
                </a:lnTo>
                <a:lnTo>
                  <a:pt x="1827" y="21"/>
                </a:lnTo>
                <a:lnTo>
                  <a:pt x="1841" y="28"/>
                </a:lnTo>
                <a:lnTo>
                  <a:pt x="1856" y="28"/>
                </a:lnTo>
                <a:lnTo>
                  <a:pt x="1878" y="28"/>
                </a:lnTo>
                <a:lnTo>
                  <a:pt x="1893" y="28"/>
                </a:lnTo>
                <a:lnTo>
                  <a:pt x="1907" y="28"/>
                </a:lnTo>
                <a:lnTo>
                  <a:pt x="1922" y="28"/>
                </a:lnTo>
                <a:lnTo>
                  <a:pt x="1936" y="28"/>
                </a:lnTo>
                <a:lnTo>
                  <a:pt x="1951" y="35"/>
                </a:lnTo>
                <a:lnTo>
                  <a:pt x="1973" y="35"/>
                </a:lnTo>
                <a:lnTo>
                  <a:pt x="1988" y="35"/>
                </a:lnTo>
                <a:lnTo>
                  <a:pt x="2002" y="35"/>
                </a:lnTo>
                <a:lnTo>
                  <a:pt x="2017" y="35"/>
                </a:lnTo>
              </a:path>
            </a:pathLst>
          </a:custGeom>
          <a:noFill/>
          <a:ln w="28440">
            <a:solidFill>
              <a:srgbClr val="007f00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259680" y="2168640"/>
            <a:ext cx="1820520" cy="3735360"/>
          </a:xfrm>
          <a:custGeom>
            <a:avLst/>
            <a:gdLst/>
            <a:ahLst/>
            <a:rect l="l" t="t" r="r" b="b"/>
            <a:pathLst>
              <a:path w="1147" h="2353">
                <a:moveTo>
                  <a:pt x="0" y="0"/>
                </a:moveTo>
                <a:lnTo>
                  <a:pt x="14" y="7"/>
                </a:lnTo>
                <a:lnTo>
                  <a:pt x="36" y="7"/>
                </a:lnTo>
                <a:lnTo>
                  <a:pt x="51" y="7"/>
                </a:lnTo>
                <a:lnTo>
                  <a:pt x="66" y="7"/>
                </a:lnTo>
                <a:lnTo>
                  <a:pt x="80" y="14"/>
                </a:lnTo>
                <a:lnTo>
                  <a:pt x="95" y="14"/>
                </a:lnTo>
                <a:lnTo>
                  <a:pt x="109" y="14"/>
                </a:lnTo>
                <a:lnTo>
                  <a:pt x="131" y="14"/>
                </a:lnTo>
                <a:lnTo>
                  <a:pt x="146" y="21"/>
                </a:lnTo>
                <a:lnTo>
                  <a:pt x="161" y="21"/>
                </a:lnTo>
                <a:lnTo>
                  <a:pt x="175" y="21"/>
                </a:lnTo>
                <a:lnTo>
                  <a:pt x="190" y="29"/>
                </a:lnTo>
                <a:lnTo>
                  <a:pt x="204" y="29"/>
                </a:lnTo>
                <a:lnTo>
                  <a:pt x="226" y="29"/>
                </a:lnTo>
                <a:lnTo>
                  <a:pt x="241" y="36"/>
                </a:lnTo>
                <a:lnTo>
                  <a:pt x="256" y="36"/>
                </a:lnTo>
                <a:lnTo>
                  <a:pt x="270" y="43"/>
                </a:lnTo>
                <a:lnTo>
                  <a:pt x="285" y="43"/>
                </a:lnTo>
                <a:lnTo>
                  <a:pt x="307" y="50"/>
                </a:lnTo>
                <a:lnTo>
                  <a:pt x="321" y="50"/>
                </a:lnTo>
                <a:lnTo>
                  <a:pt x="336" y="57"/>
                </a:lnTo>
                <a:lnTo>
                  <a:pt x="351" y="57"/>
                </a:lnTo>
                <a:lnTo>
                  <a:pt x="365" y="64"/>
                </a:lnTo>
                <a:lnTo>
                  <a:pt x="380" y="64"/>
                </a:lnTo>
                <a:lnTo>
                  <a:pt x="402" y="71"/>
                </a:lnTo>
                <a:lnTo>
                  <a:pt x="416" y="78"/>
                </a:lnTo>
                <a:lnTo>
                  <a:pt x="431" y="78"/>
                </a:lnTo>
                <a:lnTo>
                  <a:pt x="446" y="85"/>
                </a:lnTo>
                <a:lnTo>
                  <a:pt x="460" y="92"/>
                </a:lnTo>
                <a:lnTo>
                  <a:pt x="482" y="99"/>
                </a:lnTo>
                <a:lnTo>
                  <a:pt x="497" y="106"/>
                </a:lnTo>
                <a:lnTo>
                  <a:pt x="511" y="114"/>
                </a:lnTo>
                <a:lnTo>
                  <a:pt x="526" y="121"/>
                </a:lnTo>
                <a:lnTo>
                  <a:pt x="541" y="128"/>
                </a:lnTo>
                <a:lnTo>
                  <a:pt x="555" y="135"/>
                </a:lnTo>
                <a:lnTo>
                  <a:pt x="577" y="149"/>
                </a:lnTo>
                <a:lnTo>
                  <a:pt x="592" y="156"/>
                </a:lnTo>
                <a:lnTo>
                  <a:pt x="606" y="170"/>
                </a:lnTo>
                <a:lnTo>
                  <a:pt x="621" y="177"/>
                </a:lnTo>
                <a:lnTo>
                  <a:pt x="636" y="191"/>
                </a:lnTo>
                <a:lnTo>
                  <a:pt x="650" y="206"/>
                </a:lnTo>
                <a:lnTo>
                  <a:pt x="672" y="220"/>
                </a:lnTo>
                <a:lnTo>
                  <a:pt x="687" y="234"/>
                </a:lnTo>
                <a:lnTo>
                  <a:pt x="701" y="255"/>
                </a:lnTo>
                <a:lnTo>
                  <a:pt x="716" y="269"/>
                </a:lnTo>
                <a:lnTo>
                  <a:pt x="731" y="291"/>
                </a:lnTo>
                <a:lnTo>
                  <a:pt x="753" y="312"/>
                </a:lnTo>
                <a:lnTo>
                  <a:pt x="767" y="340"/>
                </a:lnTo>
                <a:lnTo>
                  <a:pt x="782" y="362"/>
                </a:lnTo>
                <a:lnTo>
                  <a:pt x="796" y="390"/>
                </a:lnTo>
                <a:lnTo>
                  <a:pt x="811" y="425"/>
                </a:lnTo>
                <a:lnTo>
                  <a:pt x="826" y="454"/>
                </a:lnTo>
                <a:lnTo>
                  <a:pt x="848" y="496"/>
                </a:lnTo>
                <a:lnTo>
                  <a:pt x="862" y="532"/>
                </a:lnTo>
                <a:lnTo>
                  <a:pt x="877" y="581"/>
                </a:lnTo>
                <a:lnTo>
                  <a:pt x="892" y="631"/>
                </a:lnTo>
                <a:lnTo>
                  <a:pt x="906" y="687"/>
                </a:lnTo>
                <a:lnTo>
                  <a:pt x="928" y="744"/>
                </a:lnTo>
                <a:lnTo>
                  <a:pt x="943" y="808"/>
                </a:lnTo>
                <a:lnTo>
                  <a:pt x="957" y="886"/>
                </a:lnTo>
                <a:lnTo>
                  <a:pt x="972" y="964"/>
                </a:lnTo>
                <a:lnTo>
                  <a:pt x="987" y="1049"/>
                </a:lnTo>
                <a:lnTo>
                  <a:pt x="1001" y="1148"/>
                </a:lnTo>
                <a:lnTo>
                  <a:pt x="1023" y="1247"/>
                </a:lnTo>
                <a:lnTo>
                  <a:pt x="1038" y="1361"/>
                </a:lnTo>
                <a:lnTo>
                  <a:pt x="1052" y="1481"/>
                </a:lnTo>
                <a:lnTo>
                  <a:pt x="1067" y="1616"/>
                </a:lnTo>
                <a:lnTo>
                  <a:pt x="1082" y="1750"/>
                </a:lnTo>
                <a:lnTo>
                  <a:pt x="1096" y="1892"/>
                </a:lnTo>
                <a:lnTo>
                  <a:pt x="1118" y="2041"/>
                </a:lnTo>
                <a:lnTo>
                  <a:pt x="1133" y="2197"/>
                </a:lnTo>
                <a:lnTo>
                  <a:pt x="1147" y="2353"/>
                </a:lnTo>
              </a:path>
            </a:pathLst>
          </a:custGeom>
          <a:noFill/>
          <a:ln w="28440">
            <a:solidFill>
              <a:srgbClr val="007f00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 rot="16200000">
            <a:off x="8290800" y="3858120"/>
            <a:ext cx="259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T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"/>
          <p:cNvSpPr/>
          <p:nvPr/>
        </p:nvSpPr>
        <p:spPr>
          <a:xfrm>
            <a:off x="5254200" y="304920"/>
            <a:ext cx="3692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uid-Fluid R, T coeffici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phase) water-ste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sure-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141120" y="514440"/>
            <a:ext cx="5181840" cy="193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&gt; plot(ang, unwrap(angle(R)), ang, unwrap(angle(T)), '--'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&gt; xlabel('angle, degrees'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&gt; ylabel('phase of R, T'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93120" y="27432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6402240" y="220968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2143080" y="2036880"/>
            <a:ext cx="5035680" cy="384624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143080" y="2036880"/>
            <a:ext cx="5035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2143080" y="2036880"/>
            <a:ext cx="5035680" cy="3846240"/>
          </a:xfrm>
          <a:custGeom>
            <a:avLst/>
            <a:gdLst/>
            <a:ahLst/>
            <a:rect l="l" t="t" r="r" b="b"/>
            <a:pathLst>
              <a:path w="434" h="342">
                <a:moveTo>
                  <a:pt x="0" y="342"/>
                </a:moveTo>
                <a:lnTo>
                  <a:pt x="434" y="342"/>
                </a:lnTo>
                <a:lnTo>
                  <a:pt x="434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V="1">
            <a:off x="2143080" y="2036880"/>
            <a:ext cx="1800" cy="3846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2143080" y="5883120"/>
            <a:ext cx="5035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 flipV="1">
            <a:off x="2143080" y="2036880"/>
            <a:ext cx="1800" cy="3846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 flipV="1">
            <a:off x="2143080" y="5827680"/>
            <a:ext cx="1800" cy="55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2143080" y="2036880"/>
            <a:ext cx="1800" cy="4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2095560" y="592920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V="1">
            <a:off x="2698920" y="5827680"/>
            <a:ext cx="1440" cy="55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698920" y="2036880"/>
            <a:ext cx="1440" cy="4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2604960" y="592920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V="1">
            <a:off x="3255840" y="5827680"/>
            <a:ext cx="1800" cy="55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3255840" y="2036880"/>
            <a:ext cx="1800" cy="4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3162240" y="592920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 flipV="1">
            <a:off x="3813120" y="5827680"/>
            <a:ext cx="1800" cy="55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3813120" y="2036880"/>
            <a:ext cx="1800" cy="4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3719520" y="592920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 flipV="1">
            <a:off x="4370400" y="5827680"/>
            <a:ext cx="1440" cy="55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370400" y="2036880"/>
            <a:ext cx="1440" cy="4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4276800" y="592920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 flipV="1">
            <a:off x="4938840" y="5827680"/>
            <a:ext cx="1440" cy="55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4938840" y="2036880"/>
            <a:ext cx="1440" cy="4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4844880" y="592920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 flipV="1">
            <a:off x="5495760" y="5827680"/>
            <a:ext cx="1800" cy="55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5495760" y="2036880"/>
            <a:ext cx="1800" cy="4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5402160" y="592920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 flipV="1">
            <a:off x="6053040" y="5827680"/>
            <a:ext cx="1800" cy="55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6053040" y="2036880"/>
            <a:ext cx="1800" cy="4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5958000" y="592920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 flipV="1">
            <a:off x="6608880" y="5827680"/>
            <a:ext cx="1440" cy="55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6608880" y="2036880"/>
            <a:ext cx="1440" cy="4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6515280" y="592920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 flipV="1">
            <a:off x="7178760" y="5827680"/>
            <a:ext cx="1440" cy="55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7178760" y="2036880"/>
            <a:ext cx="1440" cy="4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7083360" y="592920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2143080" y="5883120"/>
            <a:ext cx="46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 flipH="1">
            <a:off x="7119720" y="5883120"/>
            <a:ext cx="58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1647720" y="5765760"/>
            <a:ext cx="393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3.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2143080" y="5332320"/>
            <a:ext cx="46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7119720" y="5332320"/>
            <a:ext cx="58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774800" y="5214960"/>
            <a:ext cx="203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2143080" y="4781520"/>
            <a:ext cx="46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>
            <a:off x="7119720" y="4781520"/>
            <a:ext cx="58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1647720" y="4664160"/>
            <a:ext cx="393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2.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2143080" y="4229280"/>
            <a:ext cx="46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>
            <a:off x="7119720" y="4229280"/>
            <a:ext cx="58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1774800" y="4113360"/>
            <a:ext cx="203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2143080" y="3678120"/>
            <a:ext cx="46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>
            <a:off x="7119720" y="3678120"/>
            <a:ext cx="58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1647720" y="3562200"/>
            <a:ext cx="393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1.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2143080" y="3127320"/>
            <a:ext cx="46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7119720" y="3127320"/>
            <a:ext cx="58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1774800" y="3009960"/>
            <a:ext cx="203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2143080" y="2576520"/>
            <a:ext cx="46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7119720" y="2576520"/>
            <a:ext cx="58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1647720" y="2459160"/>
            <a:ext cx="393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0.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2143080" y="2036880"/>
            <a:ext cx="46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 flipH="1">
            <a:off x="7119720" y="2036880"/>
            <a:ext cx="58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1820880" y="191916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2143080" y="2036880"/>
            <a:ext cx="5035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 flipV="1">
            <a:off x="2143080" y="2036880"/>
            <a:ext cx="1800" cy="3846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2143080" y="2036880"/>
            <a:ext cx="3202200" cy="404640"/>
          </a:xfrm>
          <a:custGeom>
            <a:avLst/>
            <a:gdLst/>
            <a:ahLst/>
            <a:rect l="l" t="t" r="r" b="b"/>
            <a:pathLst>
              <a:path w="2017" h="255">
                <a:moveTo>
                  <a:pt x="0" y="0"/>
                </a:moveTo>
                <a:lnTo>
                  <a:pt x="14" y="0"/>
                </a:lnTo>
                <a:lnTo>
                  <a:pt x="29" y="0"/>
                </a:lnTo>
                <a:lnTo>
                  <a:pt x="43" y="0"/>
                </a:lnTo>
                <a:lnTo>
                  <a:pt x="58" y="0"/>
                </a:lnTo>
                <a:lnTo>
                  <a:pt x="73" y="0"/>
                </a:lnTo>
                <a:lnTo>
                  <a:pt x="95" y="0"/>
                </a:lnTo>
                <a:lnTo>
                  <a:pt x="109" y="0"/>
                </a:lnTo>
                <a:lnTo>
                  <a:pt x="124" y="0"/>
                </a:lnTo>
                <a:lnTo>
                  <a:pt x="138" y="0"/>
                </a:lnTo>
                <a:lnTo>
                  <a:pt x="153" y="0"/>
                </a:lnTo>
                <a:lnTo>
                  <a:pt x="168" y="0"/>
                </a:lnTo>
                <a:lnTo>
                  <a:pt x="190" y="0"/>
                </a:lnTo>
                <a:lnTo>
                  <a:pt x="204" y="0"/>
                </a:lnTo>
                <a:lnTo>
                  <a:pt x="219" y="0"/>
                </a:lnTo>
                <a:lnTo>
                  <a:pt x="233" y="0"/>
                </a:lnTo>
                <a:lnTo>
                  <a:pt x="248" y="0"/>
                </a:lnTo>
                <a:lnTo>
                  <a:pt x="270" y="0"/>
                </a:lnTo>
                <a:lnTo>
                  <a:pt x="285" y="0"/>
                </a:lnTo>
                <a:lnTo>
                  <a:pt x="299" y="0"/>
                </a:lnTo>
                <a:lnTo>
                  <a:pt x="314" y="0"/>
                </a:lnTo>
                <a:lnTo>
                  <a:pt x="328" y="0"/>
                </a:lnTo>
                <a:lnTo>
                  <a:pt x="343" y="0"/>
                </a:lnTo>
                <a:lnTo>
                  <a:pt x="365" y="0"/>
                </a:lnTo>
                <a:lnTo>
                  <a:pt x="380" y="0"/>
                </a:lnTo>
                <a:lnTo>
                  <a:pt x="394" y="0"/>
                </a:lnTo>
                <a:lnTo>
                  <a:pt x="409" y="0"/>
                </a:lnTo>
                <a:lnTo>
                  <a:pt x="423" y="0"/>
                </a:lnTo>
                <a:lnTo>
                  <a:pt x="438" y="0"/>
                </a:lnTo>
                <a:lnTo>
                  <a:pt x="460" y="0"/>
                </a:lnTo>
                <a:lnTo>
                  <a:pt x="475" y="0"/>
                </a:lnTo>
                <a:lnTo>
                  <a:pt x="489" y="0"/>
                </a:lnTo>
                <a:lnTo>
                  <a:pt x="504" y="0"/>
                </a:lnTo>
                <a:lnTo>
                  <a:pt x="518" y="7"/>
                </a:lnTo>
                <a:lnTo>
                  <a:pt x="540" y="14"/>
                </a:lnTo>
                <a:lnTo>
                  <a:pt x="555" y="14"/>
                </a:lnTo>
                <a:lnTo>
                  <a:pt x="570" y="21"/>
                </a:lnTo>
                <a:lnTo>
                  <a:pt x="584" y="21"/>
                </a:lnTo>
                <a:lnTo>
                  <a:pt x="599" y="28"/>
                </a:lnTo>
                <a:lnTo>
                  <a:pt x="614" y="28"/>
                </a:lnTo>
                <a:lnTo>
                  <a:pt x="635" y="28"/>
                </a:lnTo>
                <a:lnTo>
                  <a:pt x="650" y="35"/>
                </a:lnTo>
                <a:lnTo>
                  <a:pt x="665" y="35"/>
                </a:lnTo>
                <a:lnTo>
                  <a:pt x="679" y="35"/>
                </a:lnTo>
                <a:lnTo>
                  <a:pt x="694" y="42"/>
                </a:lnTo>
                <a:lnTo>
                  <a:pt x="716" y="42"/>
                </a:lnTo>
                <a:lnTo>
                  <a:pt x="730" y="42"/>
                </a:lnTo>
                <a:lnTo>
                  <a:pt x="745" y="42"/>
                </a:lnTo>
                <a:lnTo>
                  <a:pt x="760" y="49"/>
                </a:lnTo>
                <a:lnTo>
                  <a:pt x="774" y="49"/>
                </a:lnTo>
                <a:lnTo>
                  <a:pt x="789" y="49"/>
                </a:lnTo>
                <a:lnTo>
                  <a:pt x="811" y="56"/>
                </a:lnTo>
                <a:lnTo>
                  <a:pt x="825" y="56"/>
                </a:lnTo>
                <a:lnTo>
                  <a:pt x="840" y="56"/>
                </a:lnTo>
                <a:lnTo>
                  <a:pt x="855" y="56"/>
                </a:lnTo>
                <a:lnTo>
                  <a:pt x="869" y="64"/>
                </a:lnTo>
                <a:lnTo>
                  <a:pt x="884" y="64"/>
                </a:lnTo>
                <a:lnTo>
                  <a:pt x="906" y="64"/>
                </a:lnTo>
                <a:lnTo>
                  <a:pt x="920" y="71"/>
                </a:lnTo>
                <a:lnTo>
                  <a:pt x="935" y="71"/>
                </a:lnTo>
                <a:lnTo>
                  <a:pt x="950" y="71"/>
                </a:lnTo>
                <a:lnTo>
                  <a:pt x="964" y="71"/>
                </a:lnTo>
                <a:lnTo>
                  <a:pt x="986" y="78"/>
                </a:lnTo>
                <a:lnTo>
                  <a:pt x="1001" y="78"/>
                </a:lnTo>
                <a:lnTo>
                  <a:pt x="1015" y="78"/>
                </a:lnTo>
                <a:lnTo>
                  <a:pt x="1030" y="78"/>
                </a:lnTo>
                <a:lnTo>
                  <a:pt x="1045" y="85"/>
                </a:lnTo>
                <a:lnTo>
                  <a:pt x="1059" y="85"/>
                </a:lnTo>
                <a:lnTo>
                  <a:pt x="1081" y="85"/>
                </a:lnTo>
                <a:lnTo>
                  <a:pt x="1096" y="92"/>
                </a:lnTo>
                <a:lnTo>
                  <a:pt x="1111" y="92"/>
                </a:lnTo>
                <a:lnTo>
                  <a:pt x="1125" y="92"/>
                </a:lnTo>
                <a:lnTo>
                  <a:pt x="1140" y="92"/>
                </a:lnTo>
                <a:lnTo>
                  <a:pt x="1162" y="99"/>
                </a:lnTo>
                <a:lnTo>
                  <a:pt x="1176" y="99"/>
                </a:lnTo>
                <a:lnTo>
                  <a:pt x="1191" y="99"/>
                </a:lnTo>
                <a:lnTo>
                  <a:pt x="1206" y="106"/>
                </a:lnTo>
                <a:lnTo>
                  <a:pt x="1220" y="106"/>
                </a:lnTo>
                <a:lnTo>
                  <a:pt x="1235" y="106"/>
                </a:lnTo>
                <a:lnTo>
                  <a:pt x="1257" y="113"/>
                </a:lnTo>
                <a:lnTo>
                  <a:pt x="1271" y="113"/>
                </a:lnTo>
                <a:lnTo>
                  <a:pt x="1286" y="113"/>
                </a:lnTo>
                <a:lnTo>
                  <a:pt x="1301" y="113"/>
                </a:lnTo>
                <a:lnTo>
                  <a:pt x="1315" y="120"/>
                </a:lnTo>
                <a:lnTo>
                  <a:pt x="1330" y="120"/>
                </a:lnTo>
                <a:lnTo>
                  <a:pt x="1352" y="120"/>
                </a:lnTo>
                <a:lnTo>
                  <a:pt x="1366" y="127"/>
                </a:lnTo>
                <a:lnTo>
                  <a:pt x="1381" y="127"/>
                </a:lnTo>
                <a:lnTo>
                  <a:pt x="1396" y="127"/>
                </a:lnTo>
                <a:lnTo>
                  <a:pt x="1410" y="134"/>
                </a:lnTo>
                <a:lnTo>
                  <a:pt x="1432" y="134"/>
                </a:lnTo>
                <a:lnTo>
                  <a:pt x="1447" y="134"/>
                </a:lnTo>
                <a:lnTo>
                  <a:pt x="1461" y="141"/>
                </a:lnTo>
                <a:lnTo>
                  <a:pt x="1476" y="141"/>
                </a:lnTo>
                <a:lnTo>
                  <a:pt x="1491" y="141"/>
                </a:lnTo>
                <a:lnTo>
                  <a:pt x="1505" y="149"/>
                </a:lnTo>
                <a:lnTo>
                  <a:pt x="1527" y="149"/>
                </a:lnTo>
                <a:lnTo>
                  <a:pt x="1542" y="156"/>
                </a:lnTo>
                <a:lnTo>
                  <a:pt x="1556" y="156"/>
                </a:lnTo>
                <a:lnTo>
                  <a:pt x="1571" y="156"/>
                </a:lnTo>
                <a:lnTo>
                  <a:pt x="1586" y="163"/>
                </a:lnTo>
                <a:lnTo>
                  <a:pt x="1608" y="163"/>
                </a:lnTo>
                <a:lnTo>
                  <a:pt x="1622" y="163"/>
                </a:lnTo>
                <a:lnTo>
                  <a:pt x="1637" y="170"/>
                </a:lnTo>
                <a:lnTo>
                  <a:pt x="1651" y="170"/>
                </a:lnTo>
                <a:lnTo>
                  <a:pt x="1666" y="177"/>
                </a:lnTo>
                <a:lnTo>
                  <a:pt x="1681" y="177"/>
                </a:lnTo>
                <a:lnTo>
                  <a:pt x="1703" y="184"/>
                </a:lnTo>
                <a:lnTo>
                  <a:pt x="1717" y="184"/>
                </a:lnTo>
                <a:lnTo>
                  <a:pt x="1732" y="184"/>
                </a:lnTo>
                <a:lnTo>
                  <a:pt x="1746" y="191"/>
                </a:lnTo>
                <a:lnTo>
                  <a:pt x="1761" y="191"/>
                </a:lnTo>
                <a:lnTo>
                  <a:pt x="1776" y="198"/>
                </a:lnTo>
                <a:lnTo>
                  <a:pt x="1798" y="198"/>
                </a:lnTo>
                <a:lnTo>
                  <a:pt x="1812" y="205"/>
                </a:lnTo>
                <a:lnTo>
                  <a:pt x="1827" y="205"/>
                </a:lnTo>
                <a:lnTo>
                  <a:pt x="1841" y="212"/>
                </a:lnTo>
                <a:lnTo>
                  <a:pt x="1856" y="212"/>
                </a:lnTo>
                <a:lnTo>
                  <a:pt x="1878" y="219"/>
                </a:lnTo>
                <a:lnTo>
                  <a:pt x="1893" y="219"/>
                </a:lnTo>
                <a:lnTo>
                  <a:pt x="1907" y="226"/>
                </a:lnTo>
                <a:lnTo>
                  <a:pt x="1922" y="226"/>
                </a:lnTo>
                <a:lnTo>
                  <a:pt x="1936" y="234"/>
                </a:lnTo>
                <a:lnTo>
                  <a:pt x="1951" y="241"/>
                </a:lnTo>
                <a:lnTo>
                  <a:pt x="1973" y="241"/>
                </a:lnTo>
                <a:lnTo>
                  <a:pt x="1988" y="248"/>
                </a:lnTo>
                <a:lnTo>
                  <a:pt x="2002" y="248"/>
                </a:lnTo>
                <a:lnTo>
                  <a:pt x="2017" y="25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5345280" y="2441520"/>
            <a:ext cx="1820520" cy="3014640"/>
          </a:xfrm>
          <a:custGeom>
            <a:avLst/>
            <a:gdLst/>
            <a:ahLst/>
            <a:rect l="l" t="t" r="r" b="b"/>
            <a:pathLst>
              <a:path w="1147" h="1899">
                <a:moveTo>
                  <a:pt x="0" y="0"/>
                </a:moveTo>
                <a:lnTo>
                  <a:pt x="14" y="7"/>
                </a:lnTo>
                <a:lnTo>
                  <a:pt x="36" y="7"/>
                </a:lnTo>
                <a:lnTo>
                  <a:pt x="51" y="14"/>
                </a:lnTo>
                <a:lnTo>
                  <a:pt x="66" y="21"/>
                </a:lnTo>
                <a:lnTo>
                  <a:pt x="80" y="21"/>
                </a:lnTo>
                <a:lnTo>
                  <a:pt x="95" y="28"/>
                </a:lnTo>
                <a:lnTo>
                  <a:pt x="109" y="35"/>
                </a:lnTo>
                <a:lnTo>
                  <a:pt x="131" y="42"/>
                </a:lnTo>
                <a:lnTo>
                  <a:pt x="146" y="42"/>
                </a:lnTo>
                <a:lnTo>
                  <a:pt x="161" y="49"/>
                </a:lnTo>
                <a:lnTo>
                  <a:pt x="175" y="57"/>
                </a:lnTo>
                <a:lnTo>
                  <a:pt x="190" y="64"/>
                </a:lnTo>
                <a:lnTo>
                  <a:pt x="204" y="71"/>
                </a:lnTo>
                <a:lnTo>
                  <a:pt x="226" y="78"/>
                </a:lnTo>
                <a:lnTo>
                  <a:pt x="241" y="85"/>
                </a:lnTo>
                <a:lnTo>
                  <a:pt x="256" y="85"/>
                </a:lnTo>
                <a:lnTo>
                  <a:pt x="270" y="92"/>
                </a:lnTo>
                <a:lnTo>
                  <a:pt x="285" y="106"/>
                </a:lnTo>
                <a:lnTo>
                  <a:pt x="307" y="113"/>
                </a:lnTo>
                <a:lnTo>
                  <a:pt x="321" y="120"/>
                </a:lnTo>
                <a:lnTo>
                  <a:pt x="336" y="127"/>
                </a:lnTo>
                <a:lnTo>
                  <a:pt x="351" y="134"/>
                </a:lnTo>
                <a:lnTo>
                  <a:pt x="365" y="142"/>
                </a:lnTo>
                <a:lnTo>
                  <a:pt x="380" y="149"/>
                </a:lnTo>
                <a:lnTo>
                  <a:pt x="402" y="163"/>
                </a:lnTo>
                <a:lnTo>
                  <a:pt x="416" y="170"/>
                </a:lnTo>
                <a:lnTo>
                  <a:pt x="431" y="177"/>
                </a:lnTo>
                <a:lnTo>
                  <a:pt x="446" y="191"/>
                </a:lnTo>
                <a:lnTo>
                  <a:pt x="460" y="198"/>
                </a:lnTo>
                <a:lnTo>
                  <a:pt x="482" y="212"/>
                </a:lnTo>
                <a:lnTo>
                  <a:pt x="497" y="219"/>
                </a:lnTo>
                <a:lnTo>
                  <a:pt x="511" y="234"/>
                </a:lnTo>
                <a:lnTo>
                  <a:pt x="526" y="248"/>
                </a:lnTo>
                <a:lnTo>
                  <a:pt x="541" y="262"/>
                </a:lnTo>
                <a:lnTo>
                  <a:pt x="555" y="276"/>
                </a:lnTo>
                <a:lnTo>
                  <a:pt x="577" y="290"/>
                </a:lnTo>
                <a:lnTo>
                  <a:pt x="592" y="305"/>
                </a:lnTo>
                <a:lnTo>
                  <a:pt x="606" y="319"/>
                </a:lnTo>
                <a:lnTo>
                  <a:pt x="621" y="333"/>
                </a:lnTo>
                <a:lnTo>
                  <a:pt x="636" y="347"/>
                </a:lnTo>
                <a:lnTo>
                  <a:pt x="650" y="368"/>
                </a:lnTo>
                <a:lnTo>
                  <a:pt x="672" y="390"/>
                </a:lnTo>
                <a:lnTo>
                  <a:pt x="687" y="404"/>
                </a:lnTo>
                <a:lnTo>
                  <a:pt x="701" y="425"/>
                </a:lnTo>
                <a:lnTo>
                  <a:pt x="716" y="446"/>
                </a:lnTo>
                <a:lnTo>
                  <a:pt x="731" y="475"/>
                </a:lnTo>
                <a:lnTo>
                  <a:pt x="753" y="496"/>
                </a:lnTo>
                <a:lnTo>
                  <a:pt x="767" y="524"/>
                </a:lnTo>
                <a:lnTo>
                  <a:pt x="782" y="553"/>
                </a:lnTo>
                <a:lnTo>
                  <a:pt x="796" y="581"/>
                </a:lnTo>
                <a:lnTo>
                  <a:pt x="811" y="609"/>
                </a:lnTo>
                <a:lnTo>
                  <a:pt x="826" y="645"/>
                </a:lnTo>
                <a:lnTo>
                  <a:pt x="848" y="680"/>
                </a:lnTo>
                <a:lnTo>
                  <a:pt x="862" y="715"/>
                </a:lnTo>
                <a:lnTo>
                  <a:pt x="877" y="751"/>
                </a:lnTo>
                <a:lnTo>
                  <a:pt x="892" y="793"/>
                </a:lnTo>
                <a:lnTo>
                  <a:pt x="906" y="843"/>
                </a:lnTo>
                <a:lnTo>
                  <a:pt x="928" y="886"/>
                </a:lnTo>
                <a:lnTo>
                  <a:pt x="943" y="935"/>
                </a:lnTo>
                <a:lnTo>
                  <a:pt x="957" y="992"/>
                </a:lnTo>
                <a:lnTo>
                  <a:pt x="972" y="1049"/>
                </a:lnTo>
                <a:lnTo>
                  <a:pt x="987" y="1112"/>
                </a:lnTo>
                <a:lnTo>
                  <a:pt x="1001" y="1176"/>
                </a:lnTo>
                <a:lnTo>
                  <a:pt x="1023" y="1240"/>
                </a:lnTo>
                <a:lnTo>
                  <a:pt x="1038" y="1311"/>
                </a:lnTo>
                <a:lnTo>
                  <a:pt x="1052" y="1389"/>
                </a:lnTo>
                <a:lnTo>
                  <a:pt x="1067" y="1467"/>
                </a:lnTo>
                <a:lnTo>
                  <a:pt x="1082" y="1552"/>
                </a:lnTo>
                <a:lnTo>
                  <a:pt x="1096" y="1637"/>
                </a:lnTo>
                <a:lnTo>
                  <a:pt x="1118" y="1722"/>
                </a:lnTo>
                <a:lnTo>
                  <a:pt x="1133" y="1807"/>
                </a:lnTo>
                <a:lnTo>
                  <a:pt x="1147" y="1899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2143080" y="2036880"/>
            <a:ext cx="3202200" cy="201600"/>
          </a:xfrm>
          <a:custGeom>
            <a:avLst/>
            <a:gdLst/>
            <a:ahLst/>
            <a:rect l="l" t="t" r="r" b="b"/>
            <a:pathLst>
              <a:path w="2017" h="127">
                <a:moveTo>
                  <a:pt x="0" y="0"/>
                </a:moveTo>
                <a:lnTo>
                  <a:pt x="14" y="0"/>
                </a:lnTo>
                <a:lnTo>
                  <a:pt x="29" y="0"/>
                </a:lnTo>
                <a:lnTo>
                  <a:pt x="43" y="0"/>
                </a:lnTo>
                <a:lnTo>
                  <a:pt x="58" y="0"/>
                </a:lnTo>
                <a:lnTo>
                  <a:pt x="73" y="0"/>
                </a:lnTo>
                <a:lnTo>
                  <a:pt x="95" y="0"/>
                </a:lnTo>
                <a:lnTo>
                  <a:pt x="109" y="0"/>
                </a:lnTo>
                <a:lnTo>
                  <a:pt x="124" y="0"/>
                </a:lnTo>
                <a:lnTo>
                  <a:pt x="138" y="0"/>
                </a:lnTo>
                <a:lnTo>
                  <a:pt x="153" y="0"/>
                </a:lnTo>
                <a:lnTo>
                  <a:pt x="168" y="0"/>
                </a:lnTo>
                <a:lnTo>
                  <a:pt x="190" y="0"/>
                </a:lnTo>
                <a:lnTo>
                  <a:pt x="204" y="0"/>
                </a:lnTo>
                <a:lnTo>
                  <a:pt x="219" y="0"/>
                </a:lnTo>
                <a:lnTo>
                  <a:pt x="233" y="0"/>
                </a:lnTo>
                <a:lnTo>
                  <a:pt x="248" y="0"/>
                </a:lnTo>
                <a:lnTo>
                  <a:pt x="270" y="0"/>
                </a:lnTo>
                <a:lnTo>
                  <a:pt x="285" y="0"/>
                </a:lnTo>
                <a:lnTo>
                  <a:pt x="299" y="0"/>
                </a:lnTo>
                <a:lnTo>
                  <a:pt x="314" y="0"/>
                </a:lnTo>
                <a:lnTo>
                  <a:pt x="328" y="0"/>
                </a:lnTo>
                <a:lnTo>
                  <a:pt x="343" y="0"/>
                </a:lnTo>
                <a:lnTo>
                  <a:pt x="365" y="0"/>
                </a:lnTo>
                <a:lnTo>
                  <a:pt x="380" y="0"/>
                </a:lnTo>
                <a:lnTo>
                  <a:pt x="394" y="0"/>
                </a:lnTo>
                <a:lnTo>
                  <a:pt x="409" y="0"/>
                </a:lnTo>
                <a:lnTo>
                  <a:pt x="423" y="0"/>
                </a:lnTo>
                <a:lnTo>
                  <a:pt x="438" y="0"/>
                </a:lnTo>
                <a:lnTo>
                  <a:pt x="460" y="0"/>
                </a:lnTo>
                <a:lnTo>
                  <a:pt x="475" y="0"/>
                </a:lnTo>
                <a:lnTo>
                  <a:pt x="489" y="0"/>
                </a:lnTo>
                <a:lnTo>
                  <a:pt x="504" y="0"/>
                </a:lnTo>
                <a:lnTo>
                  <a:pt x="518" y="0"/>
                </a:lnTo>
                <a:lnTo>
                  <a:pt x="540" y="7"/>
                </a:lnTo>
                <a:lnTo>
                  <a:pt x="555" y="7"/>
                </a:lnTo>
                <a:lnTo>
                  <a:pt x="570" y="7"/>
                </a:lnTo>
                <a:lnTo>
                  <a:pt x="584" y="7"/>
                </a:lnTo>
                <a:lnTo>
                  <a:pt x="599" y="14"/>
                </a:lnTo>
                <a:lnTo>
                  <a:pt x="614" y="14"/>
                </a:lnTo>
                <a:lnTo>
                  <a:pt x="635" y="14"/>
                </a:lnTo>
                <a:lnTo>
                  <a:pt x="650" y="14"/>
                </a:lnTo>
                <a:lnTo>
                  <a:pt x="665" y="14"/>
                </a:lnTo>
                <a:lnTo>
                  <a:pt x="679" y="14"/>
                </a:lnTo>
                <a:lnTo>
                  <a:pt x="694" y="21"/>
                </a:lnTo>
                <a:lnTo>
                  <a:pt x="716" y="21"/>
                </a:lnTo>
                <a:lnTo>
                  <a:pt x="730" y="21"/>
                </a:lnTo>
                <a:lnTo>
                  <a:pt x="745" y="21"/>
                </a:lnTo>
                <a:lnTo>
                  <a:pt x="760" y="21"/>
                </a:lnTo>
                <a:lnTo>
                  <a:pt x="774" y="21"/>
                </a:lnTo>
                <a:lnTo>
                  <a:pt x="789" y="21"/>
                </a:lnTo>
                <a:lnTo>
                  <a:pt x="811" y="28"/>
                </a:lnTo>
                <a:lnTo>
                  <a:pt x="825" y="28"/>
                </a:lnTo>
                <a:lnTo>
                  <a:pt x="840" y="28"/>
                </a:lnTo>
                <a:lnTo>
                  <a:pt x="855" y="28"/>
                </a:lnTo>
                <a:lnTo>
                  <a:pt x="869" y="28"/>
                </a:lnTo>
                <a:lnTo>
                  <a:pt x="884" y="28"/>
                </a:lnTo>
                <a:lnTo>
                  <a:pt x="906" y="28"/>
                </a:lnTo>
                <a:lnTo>
                  <a:pt x="920" y="35"/>
                </a:lnTo>
                <a:lnTo>
                  <a:pt x="935" y="35"/>
                </a:lnTo>
                <a:lnTo>
                  <a:pt x="950" y="35"/>
                </a:lnTo>
                <a:lnTo>
                  <a:pt x="964" y="35"/>
                </a:lnTo>
                <a:lnTo>
                  <a:pt x="986" y="35"/>
                </a:lnTo>
                <a:lnTo>
                  <a:pt x="1001" y="35"/>
                </a:lnTo>
                <a:lnTo>
                  <a:pt x="1015" y="35"/>
                </a:lnTo>
                <a:lnTo>
                  <a:pt x="1030" y="35"/>
                </a:lnTo>
                <a:lnTo>
                  <a:pt x="1045" y="42"/>
                </a:lnTo>
                <a:lnTo>
                  <a:pt x="1059" y="42"/>
                </a:lnTo>
                <a:lnTo>
                  <a:pt x="1081" y="42"/>
                </a:lnTo>
                <a:lnTo>
                  <a:pt x="1096" y="42"/>
                </a:lnTo>
                <a:lnTo>
                  <a:pt x="1111" y="42"/>
                </a:lnTo>
                <a:lnTo>
                  <a:pt x="1125" y="42"/>
                </a:lnTo>
                <a:lnTo>
                  <a:pt x="1140" y="42"/>
                </a:lnTo>
                <a:lnTo>
                  <a:pt x="1162" y="49"/>
                </a:lnTo>
                <a:lnTo>
                  <a:pt x="1176" y="49"/>
                </a:lnTo>
                <a:lnTo>
                  <a:pt x="1191" y="49"/>
                </a:lnTo>
                <a:lnTo>
                  <a:pt x="1206" y="49"/>
                </a:lnTo>
                <a:lnTo>
                  <a:pt x="1220" y="49"/>
                </a:lnTo>
                <a:lnTo>
                  <a:pt x="1235" y="49"/>
                </a:lnTo>
                <a:lnTo>
                  <a:pt x="1257" y="56"/>
                </a:lnTo>
                <a:lnTo>
                  <a:pt x="1271" y="56"/>
                </a:lnTo>
                <a:lnTo>
                  <a:pt x="1286" y="56"/>
                </a:lnTo>
                <a:lnTo>
                  <a:pt x="1301" y="56"/>
                </a:lnTo>
                <a:lnTo>
                  <a:pt x="1315" y="56"/>
                </a:lnTo>
                <a:lnTo>
                  <a:pt x="1330" y="56"/>
                </a:lnTo>
                <a:lnTo>
                  <a:pt x="1352" y="56"/>
                </a:lnTo>
                <a:lnTo>
                  <a:pt x="1366" y="64"/>
                </a:lnTo>
                <a:lnTo>
                  <a:pt x="1381" y="64"/>
                </a:lnTo>
                <a:lnTo>
                  <a:pt x="1396" y="64"/>
                </a:lnTo>
                <a:lnTo>
                  <a:pt x="1410" y="64"/>
                </a:lnTo>
                <a:lnTo>
                  <a:pt x="1432" y="64"/>
                </a:lnTo>
                <a:lnTo>
                  <a:pt x="1447" y="64"/>
                </a:lnTo>
                <a:lnTo>
                  <a:pt x="1461" y="71"/>
                </a:lnTo>
                <a:lnTo>
                  <a:pt x="1476" y="71"/>
                </a:lnTo>
                <a:lnTo>
                  <a:pt x="1491" y="71"/>
                </a:lnTo>
                <a:lnTo>
                  <a:pt x="1505" y="71"/>
                </a:lnTo>
                <a:lnTo>
                  <a:pt x="1527" y="71"/>
                </a:lnTo>
                <a:lnTo>
                  <a:pt x="1542" y="78"/>
                </a:lnTo>
                <a:lnTo>
                  <a:pt x="1556" y="78"/>
                </a:lnTo>
                <a:lnTo>
                  <a:pt x="1571" y="78"/>
                </a:lnTo>
                <a:lnTo>
                  <a:pt x="1586" y="78"/>
                </a:lnTo>
                <a:lnTo>
                  <a:pt x="1608" y="78"/>
                </a:lnTo>
                <a:lnTo>
                  <a:pt x="1622" y="78"/>
                </a:lnTo>
                <a:lnTo>
                  <a:pt x="1637" y="85"/>
                </a:lnTo>
                <a:lnTo>
                  <a:pt x="1651" y="85"/>
                </a:lnTo>
                <a:lnTo>
                  <a:pt x="1666" y="85"/>
                </a:lnTo>
                <a:lnTo>
                  <a:pt x="1681" y="85"/>
                </a:lnTo>
                <a:lnTo>
                  <a:pt x="1703" y="92"/>
                </a:lnTo>
                <a:lnTo>
                  <a:pt x="1717" y="92"/>
                </a:lnTo>
                <a:lnTo>
                  <a:pt x="1732" y="92"/>
                </a:lnTo>
                <a:lnTo>
                  <a:pt x="1746" y="92"/>
                </a:lnTo>
                <a:lnTo>
                  <a:pt x="1761" y="92"/>
                </a:lnTo>
                <a:lnTo>
                  <a:pt x="1776" y="99"/>
                </a:lnTo>
                <a:lnTo>
                  <a:pt x="1798" y="99"/>
                </a:lnTo>
                <a:lnTo>
                  <a:pt x="1812" y="99"/>
                </a:lnTo>
                <a:lnTo>
                  <a:pt x="1827" y="99"/>
                </a:lnTo>
                <a:lnTo>
                  <a:pt x="1841" y="106"/>
                </a:lnTo>
                <a:lnTo>
                  <a:pt x="1856" y="106"/>
                </a:lnTo>
                <a:lnTo>
                  <a:pt x="1878" y="106"/>
                </a:lnTo>
                <a:lnTo>
                  <a:pt x="1893" y="106"/>
                </a:lnTo>
                <a:lnTo>
                  <a:pt x="1907" y="113"/>
                </a:lnTo>
                <a:lnTo>
                  <a:pt x="1922" y="113"/>
                </a:lnTo>
                <a:lnTo>
                  <a:pt x="1936" y="113"/>
                </a:lnTo>
                <a:lnTo>
                  <a:pt x="1951" y="120"/>
                </a:lnTo>
                <a:lnTo>
                  <a:pt x="1973" y="120"/>
                </a:lnTo>
                <a:lnTo>
                  <a:pt x="1988" y="120"/>
                </a:lnTo>
                <a:lnTo>
                  <a:pt x="2002" y="120"/>
                </a:lnTo>
                <a:lnTo>
                  <a:pt x="2017" y="127"/>
                </a:lnTo>
              </a:path>
            </a:pathLst>
          </a:custGeom>
          <a:noFill/>
          <a:ln w="28440">
            <a:solidFill>
              <a:srgbClr val="007f00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5345280" y="2238480"/>
            <a:ext cx="1820520" cy="1508040"/>
          </a:xfrm>
          <a:custGeom>
            <a:avLst/>
            <a:gdLst/>
            <a:ahLst/>
            <a:rect l="l" t="t" r="r" b="b"/>
            <a:pathLst>
              <a:path w="1147" h="950">
                <a:moveTo>
                  <a:pt x="0" y="0"/>
                </a:moveTo>
                <a:lnTo>
                  <a:pt x="14" y="0"/>
                </a:lnTo>
                <a:lnTo>
                  <a:pt x="36" y="0"/>
                </a:lnTo>
                <a:lnTo>
                  <a:pt x="51" y="7"/>
                </a:lnTo>
                <a:lnTo>
                  <a:pt x="66" y="7"/>
                </a:lnTo>
                <a:lnTo>
                  <a:pt x="80" y="7"/>
                </a:lnTo>
                <a:lnTo>
                  <a:pt x="95" y="14"/>
                </a:lnTo>
                <a:lnTo>
                  <a:pt x="109" y="14"/>
                </a:lnTo>
                <a:lnTo>
                  <a:pt x="131" y="22"/>
                </a:lnTo>
                <a:lnTo>
                  <a:pt x="146" y="22"/>
                </a:lnTo>
                <a:lnTo>
                  <a:pt x="161" y="22"/>
                </a:lnTo>
                <a:lnTo>
                  <a:pt x="175" y="29"/>
                </a:lnTo>
                <a:lnTo>
                  <a:pt x="190" y="29"/>
                </a:lnTo>
                <a:lnTo>
                  <a:pt x="204" y="36"/>
                </a:lnTo>
                <a:lnTo>
                  <a:pt x="226" y="36"/>
                </a:lnTo>
                <a:lnTo>
                  <a:pt x="241" y="43"/>
                </a:lnTo>
                <a:lnTo>
                  <a:pt x="256" y="43"/>
                </a:lnTo>
                <a:lnTo>
                  <a:pt x="270" y="43"/>
                </a:lnTo>
                <a:lnTo>
                  <a:pt x="285" y="50"/>
                </a:lnTo>
                <a:lnTo>
                  <a:pt x="307" y="57"/>
                </a:lnTo>
                <a:lnTo>
                  <a:pt x="321" y="57"/>
                </a:lnTo>
                <a:lnTo>
                  <a:pt x="336" y="64"/>
                </a:lnTo>
                <a:lnTo>
                  <a:pt x="351" y="64"/>
                </a:lnTo>
                <a:lnTo>
                  <a:pt x="365" y="71"/>
                </a:lnTo>
                <a:lnTo>
                  <a:pt x="380" y="71"/>
                </a:lnTo>
                <a:lnTo>
                  <a:pt x="402" y="78"/>
                </a:lnTo>
                <a:lnTo>
                  <a:pt x="416" y="85"/>
                </a:lnTo>
                <a:lnTo>
                  <a:pt x="431" y="85"/>
                </a:lnTo>
                <a:lnTo>
                  <a:pt x="446" y="92"/>
                </a:lnTo>
                <a:lnTo>
                  <a:pt x="460" y="99"/>
                </a:lnTo>
                <a:lnTo>
                  <a:pt x="482" y="107"/>
                </a:lnTo>
                <a:lnTo>
                  <a:pt x="497" y="107"/>
                </a:lnTo>
                <a:lnTo>
                  <a:pt x="511" y="114"/>
                </a:lnTo>
                <a:lnTo>
                  <a:pt x="526" y="121"/>
                </a:lnTo>
                <a:lnTo>
                  <a:pt x="541" y="128"/>
                </a:lnTo>
                <a:lnTo>
                  <a:pt x="555" y="135"/>
                </a:lnTo>
                <a:lnTo>
                  <a:pt x="577" y="142"/>
                </a:lnTo>
                <a:lnTo>
                  <a:pt x="592" y="149"/>
                </a:lnTo>
                <a:lnTo>
                  <a:pt x="606" y="156"/>
                </a:lnTo>
                <a:lnTo>
                  <a:pt x="621" y="163"/>
                </a:lnTo>
                <a:lnTo>
                  <a:pt x="636" y="170"/>
                </a:lnTo>
                <a:lnTo>
                  <a:pt x="650" y="185"/>
                </a:lnTo>
                <a:lnTo>
                  <a:pt x="672" y="192"/>
                </a:lnTo>
                <a:lnTo>
                  <a:pt x="687" y="199"/>
                </a:lnTo>
                <a:lnTo>
                  <a:pt x="701" y="213"/>
                </a:lnTo>
                <a:lnTo>
                  <a:pt x="716" y="220"/>
                </a:lnTo>
                <a:lnTo>
                  <a:pt x="731" y="234"/>
                </a:lnTo>
                <a:lnTo>
                  <a:pt x="753" y="248"/>
                </a:lnTo>
                <a:lnTo>
                  <a:pt x="767" y="262"/>
                </a:lnTo>
                <a:lnTo>
                  <a:pt x="782" y="277"/>
                </a:lnTo>
                <a:lnTo>
                  <a:pt x="796" y="291"/>
                </a:lnTo>
                <a:lnTo>
                  <a:pt x="811" y="305"/>
                </a:lnTo>
                <a:lnTo>
                  <a:pt x="826" y="319"/>
                </a:lnTo>
                <a:lnTo>
                  <a:pt x="848" y="340"/>
                </a:lnTo>
                <a:lnTo>
                  <a:pt x="862" y="355"/>
                </a:lnTo>
                <a:lnTo>
                  <a:pt x="877" y="376"/>
                </a:lnTo>
                <a:lnTo>
                  <a:pt x="892" y="397"/>
                </a:lnTo>
                <a:lnTo>
                  <a:pt x="906" y="418"/>
                </a:lnTo>
                <a:lnTo>
                  <a:pt x="928" y="440"/>
                </a:lnTo>
                <a:lnTo>
                  <a:pt x="943" y="468"/>
                </a:lnTo>
                <a:lnTo>
                  <a:pt x="957" y="496"/>
                </a:lnTo>
                <a:lnTo>
                  <a:pt x="972" y="525"/>
                </a:lnTo>
                <a:lnTo>
                  <a:pt x="987" y="553"/>
                </a:lnTo>
                <a:lnTo>
                  <a:pt x="1001" y="588"/>
                </a:lnTo>
                <a:lnTo>
                  <a:pt x="1023" y="617"/>
                </a:lnTo>
                <a:lnTo>
                  <a:pt x="1038" y="652"/>
                </a:lnTo>
                <a:lnTo>
                  <a:pt x="1052" y="695"/>
                </a:lnTo>
                <a:lnTo>
                  <a:pt x="1067" y="730"/>
                </a:lnTo>
                <a:lnTo>
                  <a:pt x="1082" y="773"/>
                </a:lnTo>
                <a:lnTo>
                  <a:pt x="1096" y="815"/>
                </a:lnTo>
                <a:lnTo>
                  <a:pt x="1118" y="858"/>
                </a:lnTo>
                <a:lnTo>
                  <a:pt x="1133" y="900"/>
                </a:lnTo>
                <a:lnTo>
                  <a:pt x="1147" y="950"/>
                </a:lnTo>
              </a:path>
            </a:pathLst>
          </a:custGeom>
          <a:noFill/>
          <a:ln w="28440">
            <a:solidFill>
              <a:srgbClr val="007f00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3906720" y="6378480"/>
            <a:ext cx="1508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gle, degre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 rot="16200000">
            <a:off x="831960" y="3550320"/>
            <a:ext cx="1436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ase of R, 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"/>
          <p:cNvSpPr/>
          <p:nvPr/>
        </p:nvSpPr>
        <p:spPr>
          <a:xfrm>
            <a:off x="2523960" y="2178000"/>
            <a:ext cx="5035680" cy="384660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2523960" y="2178000"/>
            <a:ext cx="5035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 flipV="1">
            <a:off x="2550960" y="6026040"/>
            <a:ext cx="5008680" cy="12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 flipV="1">
            <a:off x="7559640" y="2177640"/>
            <a:ext cx="1800" cy="384660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523960" y="2177640"/>
            <a:ext cx="1800" cy="384660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 flipV="1">
            <a:off x="2523960" y="2177640"/>
            <a:ext cx="1800" cy="384660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 flipV="1">
            <a:off x="2523960" y="5979960"/>
            <a:ext cx="1800" cy="44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2523960" y="2178000"/>
            <a:ext cx="1800" cy="55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2489040" y="606888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 flipV="1">
            <a:off x="3079800" y="5979960"/>
            <a:ext cx="1440" cy="44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3079800" y="2178000"/>
            <a:ext cx="1440" cy="55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2998800" y="606888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 flipV="1">
            <a:off x="3637080" y="5979960"/>
            <a:ext cx="1440" cy="44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3637080" y="2178000"/>
            <a:ext cx="1440" cy="55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3556080" y="606888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 flipV="1">
            <a:off x="4194000" y="5979960"/>
            <a:ext cx="1800" cy="44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4194000" y="2178000"/>
            <a:ext cx="1800" cy="55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4113360" y="606888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 flipV="1">
            <a:off x="4751280" y="5979960"/>
            <a:ext cx="1800" cy="44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4751280" y="2178000"/>
            <a:ext cx="1800" cy="55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4670280" y="606888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319720" y="5979960"/>
            <a:ext cx="1440" cy="44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5319720" y="2178000"/>
            <a:ext cx="1440" cy="55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5238720" y="606888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 flipV="1">
            <a:off x="5877000" y="5979960"/>
            <a:ext cx="1440" cy="44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877000" y="2178000"/>
            <a:ext cx="1440" cy="55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5796000" y="606888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 flipV="1">
            <a:off x="6434280" y="5979960"/>
            <a:ext cx="1440" cy="44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6434280" y="2178000"/>
            <a:ext cx="1440" cy="55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6351480" y="606888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 flipV="1">
            <a:off x="6989760" y="5979960"/>
            <a:ext cx="1440" cy="44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6989760" y="2178000"/>
            <a:ext cx="1440" cy="55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6908760" y="606888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 flipV="1">
            <a:off x="7559640" y="5979960"/>
            <a:ext cx="1800" cy="44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7559640" y="2178000"/>
            <a:ext cx="1800" cy="55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7477200" y="606888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2523960" y="6024600"/>
            <a:ext cx="46080" cy="144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 flipH="1">
            <a:off x="7500600" y="6024600"/>
            <a:ext cx="58680" cy="144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1994040" y="5881680"/>
            <a:ext cx="444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2523960" y="5551560"/>
            <a:ext cx="46080" cy="144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 flipH="1">
            <a:off x="7500600" y="5551560"/>
            <a:ext cx="58680" cy="144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1994040" y="5410080"/>
            <a:ext cx="444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9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2523960" y="5068800"/>
            <a:ext cx="46080" cy="180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 flipH="1">
            <a:off x="7500600" y="5068800"/>
            <a:ext cx="58680" cy="180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1994040" y="4925880"/>
            <a:ext cx="444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523960" y="4584600"/>
            <a:ext cx="46080" cy="180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H="1">
            <a:off x="7500600" y="4584600"/>
            <a:ext cx="58680" cy="180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1994040" y="4441680"/>
            <a:ext cx="444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523960" y="4111560"/>
            <a:ext cx="46080" cy="180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7500600" y="4111560"/>
            <a:ext cx="58680" cy="180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1994040" y="3970440"/>
            <a:ext cx="444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9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2523960" y="3629160"/>
            <a:ext cx="46080" cy="144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 flipH="1">
            <a:off x="7500600" y="3629160"/>
            <a:ext cx="58680" cy="144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1994040" y="3486240"/>
            <a:ext cx="444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9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2523960" y="3144960"/>
            <a:ext cx="46080" cy="144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 flipH="1">
            <a:off x="7500600" y="3144960"/>
            <a:ext cx="58680" cy="144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1994040" y="3002040"/>
            <a:ext cx="444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2523960" y="2660760"/>
            <a:ext cx="46080" cy="144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 flipH="1">
            <a:off x="7500600" y="2660760"/>
            <a:ext cx="58680" cy="144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2201760" y="251928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2523960" y="2178000"/>
            <a:ext cx="46080" cy="180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 flipH="1">
            <a:off x="7500600" y="2178000"/>
            <a:ext cx="58680" cy="180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1994040" y="2035080"/>
            <a:ext cx="444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2523960" y="2178000"/>
            <a:ext cx="5035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 flipV="1">
            <a:off x="7559640" y="2177640"/>
            <a:ext cx="1800" cy="384660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 flipV="1">
            <a:off x="2523960" y="2177640"/>
            <a:ext cx="1800" cy="3846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2523960" y="2660760"/>
            <a:ext cx="3202200" cy="2958840"/>
          </a:xfrm>
          <a:custGeom>
            <a:avLst/>
            <a:gdLst/>
            <a:ahLst/>
            <a:rect l="l" t="t" r="r" b="b"/>
            <a:pathLst>
              <a:path w="2017" h="1864">
                <a:moveTo>
                  <a:pt x="0" y="1864"/>
                </a:moveTo>
                <a:lnTo>
                  <a:pt x="14" y="1864"/>
                </a:lnTo>
                <a:lnTo>
                  <a:pt x="29" y="1864"/>
                </a:lnTo>
                <a:lnTo>
                  <a:pt x="43" y="1857"/>
                </a:lnTo>
                <a:lnTo>
                  <a:pt x="58" y="1850"/>
                </a:lnTo>
                <a:lnTo>
                  <a:pt x="73" y="1843"/>
                </a:lnTo>
                <a:lnTo>
                  <a:pt x="95" y="1836"/>
                </a:lnTo>
                <a:lnTo>
                  <a:pt x="109" y="1828"/>
                </a:lnTo>
                <a:lnTo>
                  <a:pt x="124" y="1814"/>
                </a:lnTo>
                <a:lnTo>
                  <a:pt x="138" y="1800"/>
                </a:lnTo>
                <a:lnTo>
                  <a:pt x="153" y="1779"/>
                </a:lnTo>
                <a:lnTo>
                  <a:pt x="168" y="1765"/>
                </a:lnTo>
                <a:lnTo>
                  <a:pt x="190" y="1743"/>
                </a:lnTo>
                <a:lnTo>
                  <a:pt x="204" y="1715"/>
                </a:lnTo>
                <a:lnTo>
                  <a:pt x="219" y="1694"/>
                </a:lnTo>
                <a:lnTo>
                  <a:pt x="233" y="1665"/>
                </a:lnTo>
                <a:lnTo>
                  <a:pt x="248" y="1637"/>
                </a:lnTo>
                <a:lnTo>
                  <a:pt x="270" y="1602"/>
                </a:lnTo>
                <a:lnTo>
                  <a:pt x="285" y="1566"/>
                </a:lnTo>
                <a:lnTo>
                  <a:pt x="299" y="1524"/>
                </a:lnTo>
                <a:lnTo>
                  <a:pt x="314" y="1481"/>
                </a:lnTo>
                <a:lnTo>
                  <a:pt x="328" y="1439"/>
                </a:lnTo>
                <a:lnTo>
                  <a:pt x="343" y="1389"/>
                </a:lnTo>
                <a:lnTo>
                  <a:pt x="365" y="1332"/>
                </a:lnTo>
                <a:lnTo>
                  <a:pt x="380" y="1269"/>
                </a:lnTo>
                <a:lnTo>
                  <a:pt x="394" y="1205"/>
                </a:lnTo>
                <a:lnTo>
                  <a:pt x="409" y="1127"/>
                </a:lnTo>
                <a:lnTo>
                  <a:pt x="423" y="1042"/>
                </a:lnTo>
                <a:lnTo>
                  <a:pt x="438" y="950"/>
                </a:lnTo>
                <a:lnTo>
                  <a:pt x="460" y="836"/>
                </a:lnTo>
                <a:lnTo>
                  <a:pt x="475" y="702"/>
                </a:lnTo>
                <a:lnTo>
                  <a:pt x="489" y="518"/>
                </a:lnTo>
                <a:lnTo>
                  <a:pt x="504" y="199"/>
                </a:lnTo>
                <a:lnTo>
                  <a:pt x="518" y="0"/>
                </a:lnTo>
                <a:lnTo>
                  <a:pt x="540" y="0"/>
                </a:lnTo>
                <a:lnTo>
                  <a:pt x="555" y="0"/>
                </a:lnTo>
                <a:lnTo>
                  <a:pt x="570" y="0"/>
                </a:lnTo>
                <a:lnTo>
                  <a:pt x="584" y="0"/>
                </a:lnTo>
                <a:lnTo>
                  <a:pt x="599" y="0"/>
                </a:lnTo>
                <a:lnTo>
                  <a:pt x="614" y="0"/>
                </a:lnTo>
                <a:lnTo>
                  <a:pt x="635" y="0"/>
                </a:lnTo>
                <a:lnTo>
                  <a:pt x="650" y="0"/>
                </a:lnTo>
                <a:lnTo>
                  <a:pt x="665" y="0"/>
                </a:lnTo>
                <a:lnTo>
                  <a:pt x="679" y="0"/>
                </a:lnTo>
                <a:lnTo>
                  <a:pt x="694" y="0"/>
                </a:lnTo>
                <a:lnTo>
                  <a:pt x="716" y="0"/>
                </a:lnTo>
                <a:lnTo>
                  <a:pt x="730" y="0"/>
                </a:lnTo>
                <a:lnTo>
                  <a:pt x="745" y="0"/>
                </a:lnTo>
                <a:lnTo>
                  <a:pt x="760" y="0"/>
                </a:lnTo>
                <a:lnTo>
                  <a:pt x="774" y="0"/>
                </a:lnTo>
                <a:lnTo>
                  <a:pt x="789" y="0"/>
                </a:lnTo>
                <a:lnTo>
                  <a:pt x="811" y="0"/>
                </a:lnTo>
                <a:lnTo>
                  <a:pt x="825" y="0"/>
                </a:lnTo>
                <a:lnTo>
                  <a:pt x="840" y="0"/>
                </a:lnTo>
                <a:lnTo>
                  <a:pt x="855" y="0"/>
                </a:lnTo>
                <a:lnTo>
                  <a:pt x="869" y="0"/>
                </a:lnTo>
                <a:lnTo>
                  <a:pt x="884" y="0"/>
                </a:lnTo>
                <a:lnTo>
                  <a:pt x="906" y="0"/>
                </a:lnTo>
                <a:lnTo>
                  <a:pt x="920" y="0"/>
                </a:lnTo>
                <a:lnTo>
                  <a:pt x="935" y="0"/>
                </a:lnTo>
                <a:lnTo>
                  <a:pt x="950" y="0"/>
                </a:lnTo>
                <a:lnTo>
                  <a:pt x="964" y="0"/>
                </a:lnTo>
                <a:lnTo>
                  <a:pt x="986" y="0"/>
                </a:lnTo>
                <a:lnTo>
                  <a:pt x="1001" y="0"/>
                </a:lnTo>
                <a:lnTo>
                  <a:pt x="1015" y="0"/>
                </a:lnTo>
                <a:lnTo>
                  <a:pt x="1030" y="0"/>
                </a:lnTo>
                <a:lnTo>
                  <a:pt x="1045" y="0"/>
                </a:lnTo>
                <a:lnTo>
                  <a:pt x="1059" y="0"/>
                </a:lnTo>
                <a:lnTo>
                  <a:pt x="1081" y="0"/>
                </a:lnTo>
                <a:lnTo>
                  <a:pt x="1096" y="0"/>
                </a:lnTo>
                <a:lnTo>
                  <a:pt x="1111" y="0"/>
                </a:lnTo>
                <a:lnTo>
                  <a:pt x="1125" y="0"/>
                </a:lnTo>
                <a:lnTo>
                  <a:pt x="1140" y="0"/>
                </a:lnTo>
                <a:lnTo>
                  <a:pt x="1162" y="0"/>
                </a:lnTo>
                <a:lnTo>
                  <a:pt x="1176" y="0"/>
                </a:lnTo>
                <a:lnTo>
                  <a:pt x="1191" y="0"/>
                </a:lnTo>
                <a:lnTo>
                  <a:pt x="1206" y="0"/>
                </a:lnTo>
                <a:lnTo>
                  <a:pt x="1220" y="0"/>
                </a:lnTo>
                <a:lnTo>
                  <a:pt x="1235" y="0"/>
                </a:lnTo>
                <a:lnTo>
                  <a:pt x="1257" y="0"/>
                </a:lnTo>
                <a:lnTo>
                  <a:pt x="1271" y="0"/>
                </a:lnTo>
                <a:lnTo>
                  <a:pt x="1286" y="0"/>
                </a:lnTo>
                <a:lnTo>
                  <a:pt x="1301" y="0"/>
                </a:lnTo>
                <a:lnTo>
                  <a:pt x="1315" y="0"/>
                </a:lnTo>
                <a:lnTo>
                  <a:pt x="1330" y="0"/>
                </a:lnTo>
                <a:lnTo>
                  <a:pt x="1352" y="0"/>
                </a:lnTo>
                <a:lnTo>
                  <a:pt x="1366" y="0"/>
                </a:lnTo>
                <a:lnTo>
                  <a:pt x="1381" y="0"/>
                </a:lnTo>
                <a:lnTo>
                  <a:pt x="1396" y="0"/>
                </a:lnTo>
                <a:lnTo>
                  <a:pt x="1410" y="0"/>
                </a:lnTo>
                <a:lnTo>
                  <a:pt x="1432" y="0"/>
                </a:lnTo>
                <a:lnTo>
                  <a:pt x="1447" y="0"/>
                </a:lnTo>
                <a:lnTo>
                  <a:pt x="1461" y="0"/>
                </a:lnTo>
                <a:lnTo>
                  <a:pt x="1476" y="0"/>
                </a:lnTo>
                <a:lnTo>
                  <a:pt x="1491" y="0"/>
                </a:lnTo>
                <a:lnTo>
                  <a:pt x="1505" y="0"/>
                </a:lnTo>
                <a:lnTo>
                  <a:pt x="1527" y="0"/>
                </a:lnTo>
                <a:lnTo>
                  <a:pt x="1542" y="0"/>
                </a:lnTo>
                <a:lnTo>
                  <a:pt x="1556" y="0"/>
                </a:lnTo>
                <a:lnTo>
                  <a:pt x="1571" y="0"/>
                </a:lnTo>
                <a:lnTo>
                  <a:pt x="1586" y="0"/>
                </a:lnTo>
                <a:lnTo>
                  <a:pt x="1608" y="0"/>
                </a:lnTo>
                <a:lnTo>
                  <a:pt x="1622" y="0"/>
                </a:lnTo>
                <a:lnTo>
                  <a:pt x="1637" y="0"/>
                </a:lnTo>
                <a:lnTo>
                  <a:pt x="1651" y="0"/>
                </a:lnTo>
                <a:lnTo>
                  <a:pt x="1666" y="0"/>
                </a:lnTo>
                <a:lnTo>
                  <a:pt x="1681" y="0"/>
                </a:lnTo>
                <a:lnTo>
                  <a:pt x="1703" y="0"/>
                </a:lnTo>
                <a:lnTo>
                  <a:pt x="1717" y="0"/>
                </a:lnTo>
                <a:lnTo>
                  <a:pt x="1732" y="0"/>
                </a:lnTo>
                <a:lnTo>
                  <a:pt x="1746" y="0"/>
                </a:lnTo>
                <a:lnTo>
                  <a:pt x="1761" y="0"/>
                </a:lnTo>
                <a:lnTo>
                  <a:pt x="1776" y="0"/>
                </a:lnTo>
                <a:lnTo>
                  <a:pt x="1798" y="0"/>
                </a:lnTo>
                <a:lnTo>
                  <a:pt x="1812" y="0"/>
                </a:lnTo>
                <a:lnTo>
                  <a:pt x="1827" y="0"/>
                </a:lnTo>
                <a:lnTo>
                  <a:pt x="1841" y="0"/>
                </a:lnTo>
                <a:lnTo>
                  <a:pt x="1856" y="0"/>
                </a:lnTo>
                <a:lnTo>
                  <a:pt x="1878" y="0"/>
                </a:lnTo>
                <a:lnTo>
                  <a:pt x="1893" y="0"/>
                </a:lnTo>
                <a:lnTo>
                  <a:pt x="1907" y="0"/>
                </a:lnTo>
                <a:lnTo>
                  <a:pt x="1922" y="0"/>
                </a:lnTo>
                <a:lnTo>
                  <a:pt x="1936" y="0"/>
                </a:lnTo>
                <a:lnTo>
                  <a:pt x="1951" y="0"/>
                </a:lnTo>
                <a:lnTo>
                  <a:pt x="1973" y="0"/>
                </a:lnTo>
                <a:lnTo>
                  <a:pt x="1988" y="0"/>
                </a:lnTo>
                <a:lnTo>
                  <a:pt x="2002" y="0"/>
                </a:lnTo>
                <a:lnTo>
                  <a:pt x="2017" y="0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5726160" y="2660760"/>
            <a:ext cx="1820880" cy="1440"/>
          </a:xfrm>
          <a:custGeom>
            <a:avLst/>
            <a:gdLst/>
            <a:ahLst/>
            <a:rect l="l" t="t" r="r" b="b"/>
            <a:pathLst>
              <a:path w="1147" h="0">
                <a:moveTo>
                  <a:pt x="0" y="0"/>
                </a:moveTo>
                <a:lnTo>
                  <a:pt x="14" y="0"/>
                </a:lnTo>
                <a:lnTo>
                  <a:pt x="36" y="0"/>
                </a:lnTo>
                <a:lnTo>
                  <a:pt x="51" y="0"/>
                </a:lnTo>
                <a:lnTo>
                  <a:pt x="66" y="0"/>
                </a:lnTo>
                <a:lnTo>
                  <a:pt x="80" y="0"/>
                </a:lnTo>
                <a:lnTo>
                  <a:pt x="95" y="0"/>
                </a:lnTo>
                <a:lnTo>
                  <a:pt x="109" y="0"/>
                </a:lnTo>
                <a:lnTo>
                  <a:pt x="131" y="0"/>
                </a:lnTo>
                <a:lnTo>
                  <a:pt x="146" y="0"/>
                </a:lnTo>
                <a:lnTo>
                  <a:pt x="161" y="0"/>
                </a:lnTo>
                <a:lnTo>
                  <a:pt x="175" y="0"/>
                </a:lnTo>
                <a:lnTo>
                  <a:pt x="190" y="0"/>
                </a:lnTo>
                <a:lnTo>
                  <a:pt x="204" y="0"/>
                </a:lnTo>
                <a:lnTo>
                  <a:pt x="226" y="0"/>
                </a:lnTo>
                <a:lnTo>
                  <a:pt x="241" y="0"/>
                </a:lnTo>
                <a:lnTo>
                  <a:pt x="256" y="0"/>
                </a:lnTo>
                <a:lnTo>
                  <a:pt x="270" y="0"/>
                </a:lnTo>
                <a:lnTo>
                  <a:pt x="285" y="0"/>
                </a:lnTo>
                <a:lnTo>
                  <a:pt x="307" y="0"/>
                </a:lnTo>
                <a:lnTo>
                  <a:pt x="321" y="0"/>
                </a:lnTo>
                <a:lnTo>
                  <a:pt x="336" y="0"/>
                </a:lnTo>
                <a:lnTo>
                  <a:pt x="351" y="0"/>
                </a:lnTo>
                <a:lnTo>
                  <a:pt x="365" y="0"/>
                </a:lnTo>
                <a:lnTo>
                  <a:pt x="380" y="0"/>
                </a:lnTo>
                <a:lnTo>
                  <a:pt x="402" y="0"/>
                </a:lnTo>
                <a:lnTo>
                  <a:pt x="416" y="0"/>
                </a:lnTo>
                <a:lnTo>
                  <a:pt x="431" y="0"/>
                </a:lnTo>
                <a:lnTo>
                  <a:pt x="446" y="0"/>
                </a:lnTo>
                <a:lnTo>
                  <a:pt x="460" y="0"/>
                </a:lnTo>
                <a:lnTo>
                  <a:pt x="482" y="0"/>
                </a:lnTo>
                <a:lnTo>
                  <a:pt x="497" y="0"/>
                </a:lnTo>
                <a:lnTo>
                  <a:pt x="511" y="0"/>
                </a:lnTo>
                <a:lnTo>
                  <a:pt x="526" y="0"/>
                </a:lnTo>
                <a:lnTo>
                  <a:pt x="541" y="0"/>
                </a:lnTo>
                <a:lnTo>
                  <a:pt x="555" y="0"/>
                </a:lnTo>
                <a:lnTo>
                  <a:pt x="577" y="0"/>
                </a:lnTo>
                <a:lnTo>
                  <a:pt x="592" y="0"/>
                </a:lnTo>
                <a:lnTo>
                  <a:pt x="606" y="0"/>
                </a:lnTo>
                <a:lnTo>
                  <a:pt x="621" y="0"/>
                </a:lnTo>
                <a:lnTo>
                  <a:pt x="636" y="0"/>
                </a:lnTo>
                <a:lnTo>
                  <a:pt x="650" y="0"/>
                </a:lnTo>
                <a:lnTo>
                  <a:pt x="672" y="0"/>
                </a:lnTo>
                <a:lnTo>
                  <a:pt x="687" y="0"/>
                </a:lnTo>
                <a:lnTo>
                  <a:pt x="701" y="0"/>
                </a:lnTo>
                <a:lnTo>
                  <a:pt x="716" y="0"/>
                </a:lnTo>
                <a:lnTo>
                  <a:pt x="731" y="0"/>
                </a:lnTo>
                <a:lnTo>
                  <a:pt x="753" y="0"/>
                </a:lnTo>
                <a:lnTo>
                  <a:pt x="767" y="0"/>
                </a:lnTo>
                <a:lnTo>
                  <a:pt x="782" y="0"/>
                </a:lnTo>
                <a:lnTo>
                  <a:pt x="796" y="0"/>
                </a:lnTo>
                <a:lnTo>
                  <a:pt x="811" y="0"/>
                </a:lnTo>
                <a:lnTo>
                  <a:pt x="826" y="0"/>
                </a:lnTo>
                <a:lnTo>
                  <a:pt x="848" y="0"/>
                </a:lnTo>
                <a:lnTo>
                  <a:pt x="862" y="0"/>
                </a:lnTo>
                <a:lnTo>
                  <a:pt x="877" y="0"/>
                </a:lnTo>
                <a:lnTo>
                  <a:pt x="892" y="0"/>
                </a:lnTo>
                <a:lnTo>
                  <a:pt x="906" y="0"/>
                </a:lnTo>
                <a:lnTo>
                  <a:pt x="928" y="0"/>
                </a:lnTo>
                <a:lnTo>
                  <a:pt x="943" y="0"/>
                </a:lnTo>
                <a:lnTo>
                  <a:pt x="957" y="0"/>
                </a:lnTo>
                <a:lnTo>
                  <a:pt x="972" y="0"/>
                </a:lnTo>
                <a:lnTo>
                  <a:pt x="987" y="0"/>
                </a:lnTo>
                <a:lnTo>
                  <a:pt x="1001" y="0"/>
                </a:lnTo>
                <a:lnTo>
                  <a:pt x="1023" y="0"/>
                </a:lnTo>
                <a:lnTo>
                  <a:pt x="1038" y="0"/>
                </a:lnTo>
                <a:lnTo>
                  <a:pt x="1052" y="0"/>
                </a:lnTo>
                <a:lnTo>
                  <a:pt x="1067" y="0"/>
                </a:lnTo>
                <a:lnTo>
                  <a:pt x="1082" y="0"/>
                </a:lnTo>
                <a:lnTo>
                  <a:pt x="1096" y="0"/>
                </a:lnTo>
                <a:lnTo>
                  <a:pt x="1118" y="0"/>
                </a:lnTo>
                <a:lnTo>
                  <a:pt x="1133" y="0"/>
                </a:lnTo>
                <a:lnTo>
                  <a:pt x="1147" y="0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 flipV="1">
            <a:off x="7559640" y="2188800"/>
            <a:ext cx="1800" cy="3846600"/>
          </a:xfrm>
          <a:prstGeom prst="line">
            <a:avLst/>
          </a:prstGeom>
          <a:ln w="0">
            <a:solidFill>
              <a:srgbClr val="007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 flipV="1">
            <a:off x="2523960" y="5979600"/>
            <a:ext cx="1800" cy="55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2489040" y="606888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 flipV="1">
            <a:off x="3079800" y="5979600"/>
            <a:ext cx="1440" cy="55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2998800" y="606888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3637080" y="5979600"/>
            <a:ext cx="1440" cy="55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3556080" y="606888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 flipV="1">
            <a:off x="4194000" y="5979600"/>
            <a:ext cx="1800" cy="55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4113360" y="606888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 flipV="1">
            <a:off x="4751280" y="5979600"/>
            <a:ext cx="1800" cy="55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4670280" y="606888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 flipV="1">
            <a:off x="5319720" y="5979600"/>
            <a:ext cx="1440" cy="55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5238720" y="606888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 flipV="1">
            <a:off x="5877000" y="5979600"/>
            <a:ext cx="1440" cy="55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5796000" y="606888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434280" y="5979600"/>
            <a:ext cx="1440" cy="55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6351480" y="606888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 flipV="1">
            <a:off x="6989760" y="5979600"/>
            <a:ext cx="1440" cy="55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6908760" y="606888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 flipV="1">
            <a:off x="7559640" y="5979600"/>
            <a:ext cx="1800" cy="55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7477200" y="606888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 flipH="1">
            <a:off x="7500600" y="6035760"/>
            <a:ext cx="58680" cy="1440"/>
          </a:xfrm>
          <a:prstGeom prst="line">
            <a:avLst/>
          </a:prstGeom>
          <a:ln w="0">
            <a:solidFill>
              <a:srgbClr val="007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684920" y="595800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 flipH="1">
            <a:off x="7500600" y="5551560"/>
            <a:ext cx="58680" cy="1440"/>
          </a:xfrm>
          <a:prstGeom prst="line">
            <a:avLst/>
          </a:prstGeom>
          <a:ln w="0">
            <a:solidFill>
              <a:srgbClr val="007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7684920" y="5475240"/>
            <a:ext cx="444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 flipH="1">
            <a:off x="7500600" y="5068800"/>
            <a:ext cx="58680" cy="1800"/>
          </a:xfrm>
          <a:prstGeom prst="line">
            <a:avLst/>
          </a:prstGeom>
          <a:ln w="0">
            <a:solidFill>
              <a:srgbClr val="007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7684920" y="4991040"/>
            <a:ext cx="444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 flipH="1">
            <a:off x="7500600" y="4584600"/>
            <a:ext cx="58680" cy="1800"/>
          </a:xfrm>
          <a:prstGeom prst="line">
            <a:avLst/>
          </a:prstGeom>
          <a:ln w="0">
            <a:solidFill>
              <a:srgbClr val="007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7684920" y="4506840"/>
            <a:ext cx="444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0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 flipH="1">
            <a:off x="7500600" y="4111560"/>
            <a:ext cx="58680" cy="1800"/>
          </a:xfrm>
          <a:prstGeom prst="line">
            <a:avLst/>
          </a:prstGeom>
          <a:ln w="0">
            <a:solidFill>
              <a:srgbClr val="007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7684920" y="4035600"/>
            <a:ext cx="444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0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 flipH="1">
            <a:off x="7500600" y="3629160"/>
            <a:ext cx="58680" cy="1440"/>
          </a:xfrm>
          <a:prstGeom prst="line">
            <a:avLst/>
          </a:prstGeom>
          <a:ln w="0">
            <a:solidFill>
              <a:srgbClr val="007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7684920" y="3551400"/>
            <a:ext cx="444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0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 flipH="1">
            <a:off x="7500600" y="3144960"/>
            <a:ext cx="58680" cy="1440"/>
          </a:xfrm>
          <a:prstGeom prst="line">
            <a:avLst/>
          </a:prstGeom>
          <a:ln w="0">
            <a:solidFill>
              <a:srgbClr val="007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7684920" y="3067200"/>
            <a:ext cx="444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0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 flipH="1">
            <a:off x="7500600" y="2660760"/>
            <a:ext cx="58680" cy="1440"/>
          </a:xfrm>
          <a:prstGeom prst="line">
            <a:avLst/>
          </a:prstGeom>
          <a:ln w="0">
            <a:solidFill>
              <a:srgbClr val="007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7684920" y="2584440"/>
            <a:ext cx="444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0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 flipH="1">
            <a:off x="7500600" y="2189160"/>
            <a:ext cx="58680" cy="1440"/>
          </a:xfrm>
          <a:prstGeom prst="line">
            <a:avLst/>
          </a:prstGeom>
          <a:ln w="0">
            <a:solidFill>
              <a:srgbClr val="007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7684920" y="2111400"/>
            <a:ext cx="444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0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523960" y="2976480"/>
            <a:ext cx="3202200" cy="88920"/>
          </a:xfrm>
          <a:custGeom>
            <a:avLst/>
            <a:gdLst/>
            <a:ahLst/>
            <a:rect l="l" t="t" r="r" b="b"/>
            <a:pathLst>
              <a:path w="2017" h="56">
                <a:moveTo>
                  <a:pt x="0" y="56"/>
                </a:moveTo>
                <a:lnTo>
                  <a:pt x="14" y="56"/>
                </a:lnTo>
                <a:lnTo>
                  <a:pt x="29" y="56"/>
                </a:lnTo>
                <a:lnTo>
                  <a:pt x="43" y="56"/>
                </a:lnTo>
                <a:lnTo>
                  <a:pt x="58" y="56"/>
                </a:lnTo>
                <a:lnTo>
                  <a:pt x="73" y="56"/>
                </a:lnTo>
                <a:lnTo>
                  <a:pt x="95" y="56"/>
                </a:lnTo>
                <a:lnTo>
                  <a:pt x="109" y="56"/>
                </a:lnTo>
                <a:lnTo>
                  <a:pt x="124" y="56"/>
                </a:lnTo>
                <a:lnTo>
                  <a:pt x="138" y="56"/>
                </a:lnTo>
                <a:lnTo>
                  <a:pt x="153" y="56"/>
                </a:lnTo>
                <a:lnTo>
                  <a:pt x="168" y="56"/>
                </a:lnTo>
                <a:lnTo>
                  <a:pt x="190" y="56"/>
                </a:lnTo>
                <a:lnTo>
                  <a:pt x="204" y="56"/>
                </a:lnTo>
                <a:lnTo>
                  <a:pt x="219" y="56"/>
                </a:lnTo>
                <a:lnTo>
                  <a:pt x="233" y="49"/>
                </a:lnTo>
                <a:lnTo>
                  <a:pt x="248" y="49"/>
                </a:lnTo>
                <a:lnTo>
                  <a:pt x="270" y="49"/>
                </a:lnTo>
                <a:lnTo>
                  <a:pt x="285" y="49"/>
                </a:lnTo>
                <a:lnTo>
                  <a:pt x="299" y="49"/>
                </a:lnTo>
                <a:lnTo>
                  <a:pt x="314" y="49"/>
                </a:lnTo>
                <a:lnTo>
                  <a:pt x="328" y="42"/>
                </a:lnTo>
                <a:lnTo>
                  <a:pt x="343" y="42"/>
                </a:lnTo>
                <a:lnTo>
                  <a:pt x="365" y="42"/>
                </a:lnTo>
                <a:lnTo>
                  <a:pt x="380" y="42"/>
                </a:lnTo>
                <a:lnTo>
                  <a:pt x="394" y="35"/>
                </a:lnTo>
                <a:lnTo>
                  <a:pt x="409" y="35"/>
                </a:lnTo>
                <a:lnTo>
                  <a:pt x="423" y="35"/>
                </a:lnTo>
                <a:lnTo>
                  <a:pt x="438" y="28"/>
                </a:lnTo>
                <a:lnTo>
                  <a:pt x="460" y="28"/>
                </a:lnTo>
                <a:lnTo>
                  <a:pt x="475" y="21"/>
                </a:lnTo>
                <a:lnTo>
                  <a:pt x="489" y="14"/>
                </a:lnTo>
                <a:lnTo>
                  <a:pt x="504" y="7"/>
                </a:lnTo>
                <a:lnTo>
                  <a:pt x="518" y="0"/>
                </a:lnTo>
                <a:lnTo>
                  <a:pt x="540" y="0"/>
                </a:lnTo>
                <a:lnTo>
                  <a:pt x="555" y="0"/>
                </a:lnTo>
                <a:lnTo>
                  <a:pt x="570" y="0"/>
                </a:lnTo>
                <a:lnTo>
                  <a:pt x="584" y="0"/>
                </a:lnTo>
                <a:lnTo>
                  <a:pt x="599" y="0"/>
                </a:lnTo>
                <a:lnTo>
                  <a:pt x="614" y="0"/>
                </a:lnTo>
                <a:lnTo>
                  <a:pt x="635" y="0"/>
                </a:lnTo>
                <a:lnTo>
                  <a:pt x="650" y="0"/>
                </a:lnTo>
                <a:lnTo>
                  <a:pt x="665" y="0"/>
                </a:lnTo>
                <a:lnTo>
                  <a:pt x="679" y="0"/>
                </a:lnTo>
                <a:lnTo>
                  <a:pt x="694" y="0"/>
                </a:lnTo>
                <a:lnTo>
                  <a:pt x="716" y="0"/>
                </a:lnTo>
                <a:lnTo>
                  <a:pt x="730" y="0"/>
                </a:lnTo>
                <a:lnTo>
                  <a:pt x="745" y="0"/>
                </a:lnTo>
                <a:lnTo>
                  <a:pt x="760" y="0"/>
                </a:lnTo>
                <a:lnTo>
                  <a:pt x="774" y="0"/>
                </a:lnTo>
                <a:lnTo>
                  <a:pt x="789" y="0"/>
                </a:lnTo>
                <a:lnTo>
                  <a:pt x="811" y="0"/>
                </a:lnTo>
                <a:lnTo>
                  <a:pt x="825" y="0"/>
                </a:lnTo>
                <a:lnTo>
                  <a:pt x="840" y="0"/>
                </a:lnTo>
                <a:lnTo>
                  <a:pt x="855" y="0"/>
                </a:lnTo>
                <a:lnTo>
                  <a:pt x="869" y="0"/>
                </a:lnTo>
                <a:lnTo>
                  <a:pt x="884" y="0"/>
                </a:lnTo>
                <a:lnTo>
                  <a:pt x="906" y="0"/>
                </a:lnTo>
                <a:lnTo>
                  <a:pt x="920" y="0"/>
                </a:lnTo>
                <a:lnTo>
                  <a:pt x="935" y="0"/>
                </a:lnTo>
                <a:lnTo>
                  <a:pt x="950" y="0"/>
                </a:lnTo>
                <a:lnTo>
                  <a:pt x="964" y="0"/>
                </a:lnTo>
                <a:lnTo>
                  <a:pt x="986" y="0"/>
                </a:lnTo>
                <a:lnTo>
                  <a:pt x="1001" y="0"/>
                </a:lnTo>
                <a:lnTo>
                  <a:pt x="1015" y="0"/>
                </a:lnTo>
                <a:lnTo>
                  <a:pt x="1030" y="7"/>
                </a:lnTo>
                <a:lnTo>
                  <a:pt x="1045" y="7"/>
                </a:lnTo>
                <a:lnTo>
                  <a:pt x="1059" y="7"/>
                </a:lnTo>
                <a:lnTo>
                  <a:pt x="1081" y="7"/>
                </a:lnTo>
                <a:lnTo>
                  <a:pt x="1096" y="7"/>
                </a:lnTo>
                <a:lnTo>
                  <a:pt x="1111" y="7"/>
                </a:lnTo>
                <a:lnTo>
                  <a:pt x="1125" y="7"/>
                </a:lnTo>
                <a:lnTo>
                  <a:pt x="1140" y="7"/>
                </a:lnTo>
                <a:lnTo>
                  <a:pt x="1162" y="7"/>
                </a:lnTo>
                <a:lnTo>
                  <a:pt x="1176" y="7"/>
                </a:lnTo>
                <a:lnTo>
                  <a:pt x="1191" y="7"/>
                </a:lnTo>
                <a:lnTo>
                  <a:pt x="1206" y="7"/>
                </a:lnTo>
                <a:lnTo>
                  <a:pt x="1220" y="7"/>
                </a:lnTo>
                <a:lnTo>
                  <a:pt x="1235" y="7"/>
                </a:lnTo>
                <a:lnTo>
                  <a:pt x="1257" y="7"/>
                </a:lnTo>
                <a:lnTo>
                  <a:pt x="1271" y="7"/>
                </a:lnTo>
                <a:lnTo>
                  <a:pt x="1286" y="7"/>
                </a:lnTo>
                <a:lnTo>
                  <a:pt x="1301" y="7"/>
                </a:lnTo>
                <a:lnTo>
                  <a:pt x="1315" y="7"/>
                </a:lnTo>
                <a:lnTo>
                  <a:pt x="1330" y="7"/>
                </a:lnTo>
                <a:lnTo>
                  <a:pt x="1352" y="7"/>
                </a:lnTo>
                <a:lnTo>
                  <a:pt x="1366" y="7"/>
                </a:lnTo>
                <a:lnTo>
                  <a:pt x="1381" y="7"/>
                </a:lnTo>
                <a:lnTo>
                  <a:pt x="1396" y="7"/>
                </a:lnTo>
                <a:lnTo>
                  <a:pt x="1410" y="7"/>
                </a:lnTo>
                <a:lnTo>
                  <a:pt x="1432" y="7"/>
                </a:lnTo>
                <a:lnTo>
                  <a:pt x="1447" y="7"/>
                </a:lnTo>
                <a:lnTo>
                  <a:pt x="1461" y="7"/>
                </a:lnTo>
                <a:lnTo>
                  <a:pt x="1476" y="14"/>
                </a:lnTo>
                <a:lnTo>
                  <a:pt x="1491" y="14"/>
                </a:lnTo>
                <a:lnTo>
                  <a:pt x="1505" y="14"/>
                </a:lnTo>
                <a:lnTo>
                  <a:pt x="1527" y="14"/>
                </a:lnTo>
                <a:lnTo>
                  <a:pt x="1542" y="14"/>
                </a:lnTo>
                <a:lnTo>
                  <a:pt x="1556" y="14"/>
                </a:lnTo>
                <a:lnTo>
                  <a:pt x="1571" y="14"/>
                </a:lnTo>
                <a:lnTo>
                  <a:pt x="1586" y="14"/>
                </a:lnTo>
                <a:lnTo>
                  <a:pt x="1608" y="14"/>
                </a:lnTo>
                <a:lnTo>
                  <a:pt x="1622" y="14"/>
                </a:lnTo>
                <a:lnTo>
                  <a:pt x="1637" y="14"/>
                </a:lnTo>
                <a:lnTo>
                  <a:pt x="1651" y="14"/>
                </a:lnTo>
                <a:lnTo>
                  <a:pt x="1666" y="14"/>
                </a:lnTo>
                <a:lnTo>
                  <a:pt x="1681" y="14"/>
                </a:lnTo>
                <a:lnTo>
                  <a:pt x="1703" y="14"/>
                </a:lnTo>
                <a:lnTo>
                  <a:pt x="1717" y="14"/>
                </a:lnTo>
                <a:lnTo>
                  <a:pt x="1732" y="21"/>
                </a:lnTo>
                <a:lnTo>
                  <a:pt x="1746" y="21"/>
                </a:lnTo>
                <a:lnTo>
                  <a:pt x="1761" y="21"/>
                </a:lnTo>
                <a:lnTo>
                  <a:pt x="1776" y="21"/>
                </a:lnTo>
                <a:lnTo>
                  <a:pt x="1798" y="21"/>
                </a:lnTo>
                <a:lnTo>
                  <a:pt x="1812" y="21"/>
                </a:lnTo>
                <a:lnTo>
                  <a:pt x="1827" y="21"/>
                </a:lnTo>
                <a:lnTo>
                  <a:pt x="1841" y="21"/>
                </a:lnTo>
                <a:lnTo>
                  <a:pt x="1856" y="21"/>
                </a:lnTo>
                <a:lnTo>
                  <a:pt x="1878" y="21"/>
                </a:lnTo>
                <a:lnTo>
                  <a:pt x="1893" y="28"/>
                </a:lnTo>
                <a:lnTo>
                  <a:pt x="1907" y="28"/>
                </a:lnTo>
                <a:lnTo>
                  <a:pt x="1922" y="28"/>
                </a:lnTo>
                <a:lnTo>
                  <a:pt x="1936" y="28"/>
                </a:lnTo>
                <a:lnTo>
                  <a:pt x="1951" y="28"/>
                </a:lnTo>
                <a:lnTo>
                  <a:pt x="1973" y="28"/>
                </a:lnTo>
                <a:lnTo>
                  <a:pt x="1988" y="28"/>
                </a:lnTo>
                <a:lnTo>
                  <a:pt x="2002" y="35"/>
                </a:lnTo>
                <a:lnTo>
                  <a:pt x="2017" y="35"/>
                </a:lnTo>
              </a:path>
            </a:pathLst>
          </a:custGeom>
          <a:noFill/>
          <a:ln w="28440">
            <a:solidFill>
              <a:srgbClr val="007f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5726160" y="3032280"/>
            <a:ext cx="1820880" cy="2958840"/>
          </a:xfrm>
          <a:custGeom>
            <a:avLst/>
            <a:gdLst/>
            <a:ahLst/>
            <a:rect l="l" t="t" r="r" b="b"/>
            <a:pathLst>
              <a:path w="1147" h="1864">
                <a:moveTo>
                  <a:pt x="0" y="0"/>
                </a:moveTo>
                <a:lnTo>
                  <a:pt x="14" y="0"/>
                </a:lnTo>
                <a:lnTo>
                  <a:pt x="36" y="0"/>
                </a:lnTo>
                <a:lnTo>
                  <a:pt x="51" y="0"/>
                </a:lnTo>
                <a:lnTo>
                  <a:pt x="66" y="0"/>
                </a:lnTo>
                <a:lnTo>
                  <a:pt x="80" y="7"/>
                </a:lnTo>
                <a:lnTo>
                  <a:pt x="95" y="7"/>
                </a:lnTo>
                <a:lnTo>
                  <a:pt x="109" y="7"/>
                </a:lnTo>
                <a:lnTo>
                  <a:pt x="131" y="7"/>
                </a:lnTo>
                <a:lnTo>
                  <a:pt x="146" y="14"/>
                </a:lnTo>
                <a:lnTo>
                  <a:pt x="161" y="14"/>
                </a:lnTo>
                <a:lnTo>
                  <a:pt x="175" y="14"/>
                </a:lnTo>
                <a:lnTo>
                  <a:pt x="190" y="14"/>
                </a:lnTo>
                <a:lnTo>
                  <a:pt x="204" y="21"/>
                </a:lnTo>
                <a:lnTo>
                  <a:pt x="226" y="21"/>
                </a:lnTo>
                <a:lnTo>
                  <a:pt x="241" y="21"/>
                </a:lnTo>
                <a:lnTo>
                  <a:pt x="256" y="29"/>
                </a:lnTo>
                <a:lnTo>
                  <a:pt x="270" y="29"/>
                </a:lnTo>
                <a:lnTo>
                  <a:pt x="285" y="29"/>
                </a:lnTo>
                <a:lnTo>
                  <a:pt x="307" y="36"/>
                </a:lnTo>
                <a:lnTo>
                  <a:pt x="321" y="36"/>
                </a:lnTo>
                <a:lnTo>
                  <a:pt x="336" y="36"/>
                </a:lnTo>
                <a:lnTo>
                  <a:pt x="351" y="43"/>
                </a:lnTo>
                <a:lnTo>
                  <a:pt x="365" y="43"/>
                </a:lnTo>
                <a:lnTo>
                  <a:pt x="380" y="50"/>
                </a:lnTo>
                <a:lnTo>
                  <a:pt x="402" y="50"/>
                </a:lnTo>
                <a:lnTo>
                  <a:pt x="416" y="57"/>
                </a:lnTo>
                <a:lnTo>
                  <a:pt x="431" y="57"/>
                </a:lnTo>
                <a:lnTo>
                  <a:pt x="446" y="64"/>
                </a:lnTo>
                <a:lnTo>
                  <a:pt x="460" y="71"/>
                </a:lnTo>
                <a:lnTo>
                  <a:pt x="482" y="71"/>
                </a:lnTo>
                <a:lnTo>
                  <a:pt x="497" y="78"/>
                </a:lnTo>
                <a:lnTo>
                  <a:pt x="511" y="85"/>
                </a:lnTo>
                <a:lnTo>
                  <a:pt x="526" y="92"/>
                </a:lnTo>
                <a:lnTo>
                  <a:pt x="541" y="99"/>
                </a:lnTo>
                <a:lnTo>
                  <a:pt x="555" y="106"/>
                </a:lnTo>
                <a:lnTo>
                  <a:pt x="577" y="114"/>
                </a:lnTo>
                <a:lnTo>
                  <a:pt x="592" y="121"/>
                </a:lnTo>
                <a:lnTo>
                  <a:pt x="606" y="128"/>
                </a:lnTo>
                <a:lnTo>
                  <a:pt x="621" y="135"/>
                </a:lnTo>
                <a:lnTo>
                  <a:pt x="636" y="149"/>
                </a:lnTo>
                <a:lnTo>
                  <a:pt x="650" y="156"/>
                </a:lnTo>
                <a:lnTo>
                  <a:pt x="672" y="170"/>
                </a:lnTo>
                <a:lnTo>
                  <a:pt x="687" y="184"/>
                </a:lnTo>
                <a:lnTo>
                  <a:pt x="701" y="199"/>
                </a:lnTo>
                <a:lnTo>
                  <a:pt x="716" y="213"/>
                </a:lnTo>
                <a:lnTo>
                  <a:pt x="731" y="227"/>
                </a:lnTo>
                <a:lnTo>
                  <a:pt x="753" y="241"/>
                </a:lnTo>
                <a:lnTo>
                  <a:pt x="767" y="262"/>
                </a:lnTo>
                <a:lnTo>
                  <a:pt x="782" y="284"/>
                </a:lnTo>
                <a:lnTo>
                  <a:pt x="796" y="305"/>
                </a:lnTo>
                <a:lnTo>
                  <a:pt x="811" y="333"/>
                </a:lnTo>
                <a:lnTo>
                  <a:pt x="826" y="354"/>
                </a:lnTo>
                <a:lnTo>
                  <a:pt x="848" y="390"/>
                </a:lnTo>
                <a:lnTo>
                  <a:pt x="862" y="418"/>
                </a:lnTo>
                <a:lnTo>
                  <a:pt x="877" y="454"/>
                </a:lnTo>
                <a:lnTo>
                  <a:pt x="892" y="496"/>
                </a:lnTo>
                <a:lnTo>
                  <a:pt x="906" y="539"/>
                </a:lnTo>
                <a:lnTo>
                  <a:pt x="928" y="588"/>
                </a:lnTo>
                <a:lnTo>
                  <a:pt x="943" y="638"/>
                </a:lnTo>
                <a:lnTo>
                  <a:pt x="957" y="695"/>
                </a:lnTo>
                <a:lnTo>
                  <a:pt x="972" y="758"/>
                </a:lnTo>
                <a:lnTo>
                  <a:pt x="987" y="829"/>
                </a:lnTo>
                <a:lnTo>
                  <a:pt x="1001" y="907"/>
                </a:lnTo>
                <a:lnTo>
                  <a:pt x="1023" y="985"/>
                </a:lnTo>
                <a:lnTo>
                  <a:pt x="1038" y="1077"/>
                </a:lnTo>
                <a:lnTo>
                  <a:pt x="1052" y="1176"/>
                </a:lnTo>
                <a:lnTo>
                  <a:pt x="1067" y="1276"/>
                </a:lnTo>
                <a:lnTo>
                  <a:pt x="1082" y="1382"/>
                </a:lnTo>
                <a:lnTo>
                  <a:pt x="1096" y="1495"/>
                </a:lnTo>
                <a:lnTo>
                  <a:pt x="1118" y="1616"/>
                </a:lnTo>
                <a:lnTo>
                  <a:pt x="1133" y="1736"/>
                </a:lnTo>
                <a:lnTo>
                  <a:pt x="1147" y="1864"/>
                </a:lnTo>
              </a:path>
            </a:pathLst>
          </a:custGeom>
          <a:noFill/>
          <a:ln w="28440">
            <a:solidFill>
              <a:srgbClr val="007f00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4171680" y="6429240"/>
            <a:ext cx="1508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gle, degre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3353760" y="4038480"/>
            <a:ext cx="50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R|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5254200" y="304920"/>
            <a:ext cx="3692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uid-Fluid R, T coeffici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magnitude) water-ste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locity-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314640" y="609480"/>
            <a:ext cx="5004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&gt; [R,T] = velocity_coeffs(1.0, 7.9, 1480, 5900, ang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&gt; plotyy(ang, abs(R), ang, abs(T), @myplot1, @myplot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&gt; xlabel('angle, degrees'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6325560" y="3352680"/>
            <a:ext cx="48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T|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12760" y="2556000"/>
            <a:ext cx="1707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 is same 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pressur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 is mu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 rot="16200000">
            <a:off x="1443240" y="3813480"/>
            <a:ext cx="284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R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 rot="16200000">
            <a:off x="8290800" y="3858120"/>
            <a:ext cx="259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T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"/>
          <p:cNvSpPr/>
          <p:nvPr/>
        </p:nvSpPr>
        <p:spPr>
          <a:xfrm>
            <a:off x="5254200" y="304920"/>
            <a:ext cx="3692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uid-Fluid R, T coeffici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phase) water-ste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locity-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0" y="380880"/>
            <a:ext cx="5105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&gt; [R,T] = velocity_coeffs(1, 7.9, 1480, 5900, ang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&gt; plot(ang, unwrap(angle(R)), ang, unwrap(angle(T)), '--'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&gt; xlabel('angle, degrees'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6326280" y="2286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7469280" y="19051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364320" y="2174760"/>
            <a:ext cx="2224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ses are sam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for press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3057480" y="1731960"/>
            <a:ext cx="5035680" cy="384660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3057480" y="1731960"/>
            <a:ext cx="5035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3057480" y="1731960"/>
            <a:ext cx="5035680" cy="3846600"/>
          </a:xfrm>
          <a:custGeom>
            <a:avLst/>
            <a:gdLst/>
            <a:ahLst/>
            <a:rect l="l" t="t" r="r" b="b"/>
            <a:pathLst>
              <a:path w="434" h="342">
                <a:moveTo>
                  <a:pt x="0" y="342"/>
                </a:moveTo>
                <a:lnTo>
                  <a:pt x="434" y="342"/>
                </a:lnTo>
                <a:lnTo>
                  <a:pt x="434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 flipV="1">
            <a:off x="3057480" y="1731600"/>
            <a:ext cx="1800" cy="3846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3057480" y="5578560"/>
            <a:ext cx="5035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 flipV="1">
            <a:off x="3057480" y="1731600"/>
            <a:ext cx="1800" cy="3846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 flipV="1">
            <a:off x="3057480" y="5522400"/>
            <a:ext cx="1800" cy="55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3057480" y="1731960"/>
            <a:ext cx="1800" cy="4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3022560" y="561168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 flipV="1">
            <a:off x="3613320" y="5522400"/>
            <a:ext cx="1440" cy="55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3613320" y="1731960"/>
            <a:ext cx="1440" cy="4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3532320" y="561168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 flipV="1">
            <a:off x="4170240" y="5522400"/>
            <a:ext cx="1800" cy="55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4170240" y="1731960"/>
            <a:ext cx="1800" cy="4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4089240" y="561168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 flipV="1">
            <a:off x="4727520" y="5522400"/>
            <a:ext cx="1800" cy="55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4727520" y="1731960"/>
            <a:ext cx="1800" cy="4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4646520" y="561168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 flipV="1">
            <a:off x="5284800" y="5522400"/>
            <a:ext cx="1440" cy="55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284800" y="1731960"/>
            <a:ext cx="1440" cy="4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03800" y="561168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 flipV="1">
            <a:off x="5853240" y="5522400"/>
            <a:ext cx="1440" cy="55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853240" y="1731960"/>
            <a:ext cx="1440" cy="4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5772240" y="561168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V="1">
            <a:off x="6410160" y="5522400"/>
            <a:ext cx="1800" cy="55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6410160" y="1731960"/>
            <a:ext cx="1800" cy="4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6329520" y="561168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 flipV="1">
            <a:off x="6967440" y="5522400"/>
            <a:ext cx="1800" cy="55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6967440" y="1731960"/>
            <a:ext cx="1800" cy="4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6885000" y="561168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 flipV="1">
            <a:off x="7523280" y="5522400"/>
            <a:ext cx="1440" cy="55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523280" y="1731960"/>
            <a:ext cx="1440" cy="4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442280" y="561168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 flipV="1">
            <a:off x="8093160" y="5522400"/>
            <a:ext cx="1440" cy="55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8093160" y="1731960"/>
            <a:ext cx="1440" cy="4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8010360" y="561168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3057480" y="5578560"/>
            <a:ext cx="46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 flipH="1">
            <a:off x="8034120" y="5578560"/>
            <a:ext cx="58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2614680" y="5450040"/>
            <a:ext cx="393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3.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3057480" y="5027760"/>
            <a:ext cx="46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 flipH="1">
            <a:off x="8034120" y="5027760"/>
            <a:ext cx="58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2741760" y="4898880"/>
            <a:ext cx="203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3057480" y="4476600"/>
            <a:ext cx="46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flipH="1">
            <a:off x="8034120" y="4476600"/>
            <a:ext cx="58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2614680" y="4348080"/>
            <a:ext cx="393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2.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3057480" y="3924360"/>
            <a:ext cx="46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 flipH="1">
            <a:off x="8034120" y="3924360"/>
            <a:ext cx="58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741760" y="3797280"/>
            <a:ext cx="203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3057480" y="3373560"/>
            <a:ext cx="46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>
            <a:off x="8034120" y="3373560"/>
            <a:ext cx="58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2614680" y="3246480"/>
            <a:ext cx="393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1.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3057480" y="2822400"/>
            <a:ext cx="46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H="1">
            <a:off x="8034120" y="2822400"/>
            <a:ext cx="58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2741760" y="2693880"/>
            <a:ext cx="203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3057480" y="2271600"/>
            <a:ext cx="46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 flipH="1">
            <a:off x="8034120" y="2271600"/>
            <a:ext cx="58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2614680" y="2143080"/>
            <a:ext cx="393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0.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3057480" y="1731960"/>
            <a:ext cx="46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 flipH="1">
            <a:off x="8034120" y="1731960"/>
            <a:ext cx="58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2787480" y="160344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3057480" y="1731960"/>
            <a:ext cx="5035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3057480" y="1731960"/>
            <a:ext cx="5035680" cy="3846600"/>
          </a:xfrm>
          <a:custGeom>
            <a:avLst/>
            <a:gdLst/>
            <a:ahLst/>
            <a:rect l="l" t="t" r="r" b="b"/>
            <a:pathLst>
              <a:path w="434" h="342">
                <a:moveTo>
                  <a:pt x="0" y="342"/>
                </a:moveTo>
                <a:lnTo>
                  <a:pt x="434" y="342"/>
                </a:lnTo>
                <a:lnTo>
                  <a:pt x="434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 flipV="1">
            <a:off x="3057480" y="1731600"/>
            <a:ext cx="1800" cy="3846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3057480" y="1731960"/>
            <a:ext cx="3202200" cy="404640"/>
          </a:xfrm>
          <a:custGeom>
            <a:avLst/>
            <a:gdLst/>
            <a:ahLst/>
            <a:rect l="l" t="t" r="r" b="b"/>
            <a:pathLst>
              <a:path w="2017" h="255">
                <a:moveTo>
                  <a:pt x="0" y="0"/>
                </a:moveTo>
                <a:lnTo>
                  <a:pt x="14" y="0"/>
                </a:lnTo>
                <a:lnTo>
                  <a:pt x="29" y="0"/>
                </a:lnTo>
                <a:lnTo>
                  <a:pt x="43" y="0"/>
                </a:lnTo>
                <a:lnTo>
                  <a:pt x="58" y="0"/>
                </a:lnTo>
                <a:lnTo>
                  <a:pt x="73" y="0"/>
                </a:lnTo>
                <a:lnTo>
                  <a:pt x="95" y="0"/>
                </a:lnTo>
                <a:lnTo>
                  <a:pt x="109" y="0"/>
                </a:lnTo>
                <a:lnTo>
                  <a:pt x="124" y="0"/>
                </a:lnTo>
                <a:lnTo>
                  <a:pt x="138" y="0"/>
                </a:lnTo>
                <a:lnTo>
                  <a:pt x="153" y="0"/>
                </a:lnTo>
                <a:lnTo>
                  <a:pt x="168" y="0"/>
                </a:lnTo>
                <a:lnTo>
                  <a:pt x="190" y="0"/>
                </a:lnTo>
                <a:lnTo>
                  <a:pt x="204" y="0"/>
                </a:lnTo>
                <a:lnTo>
                  <a:pt x="219" y="0"/>
                </a:lnTo>
                <a:lnTo>
                  <a:pt x="233" y="0"/>
                </a:lnTo>
                <a:lnTo>
                  <a:pt x="248" y="0"/>
                </a:lnTo>
                <a:lnTo>
                  <a:pt x="270" y="0"/>
                </a:lnTo>
                <a:lnTo>
                  <a:pt x="285" y="0"/>
                </a:lnTo>
                <a:lnTo>
                  <a:pt x="299" y="0"/>
                </a:lnTo>
                <a:lnTo>
                  <a:pt x="314" y="0"/>
                </a:lnTo>
                <a:lnTo>
                  <a:pt x="328" y="0"/>
                </a:lnTo>
                <a:lnTo>
                  <a:pt x="343" y="0"/>
                </a:lnTo>
                <a:lnTo>
                  <a:pt x="365" y="0"/>
                </a:lnTo>
                <a:lnTo>
                  <a:pt x="380" y="0"/>
                </a:lnTo>
                <a:lnTo>
                  <a:pt x="394" y="0"/>
                </a:lnTo>
                <a:lnTo>
                  <a:pt x="409" y="0"/>
                </a:lnTo>
                <a:lnTo>
                  <a:pt x="423" y="0"/>
                </a:lnTo>
                <a:lnTo>
                  <a:pt x="438" y="0"/>
                </a:lnTo>
                <a:lnTo>
                  <a:pt x="460" y="0"/>
                </a:lnTo>
                <a:lnTo>
                  <a:pt x="475" y="0"/>
                </a:lnTo>
                <a:lnTo>
                  <a:pt x="489" y="0"/>
                </a:lnTo>
                <a:lnTo>
                  <a:pt x="504" y="0"/>
                </a:lnTo>
                <a:lnTo>
                  <a:pt x="518" y="7"/>
                </a:lnTo>
                <a:lnTo>
                  <a:pt x="540" y="14"/>
                </a:lnTo>
                <a:lnTo>
                  <a:pt x="555" y="14"/>
                </a:lnTo>
                <a:lnTo>
                  <a:pt x="570" y="21"/>
                </a:lnTo>
                <a:lnTo>
                  <a:pt x="584" y="21"/>
                </a:lnTo>
                <a:lnTo>
                  <a:pt x="599" y="28"/>
                </a:lnTo>
                <a:lnTo>
                  <a:pt x="614" y="28"/>
                </a:lnTo>
                <a:lnTo>
                  <a:pt x="635" y="28"/>
                </a:lnTo>
                <a:lnTo>
                  <a:pt x="650" y="35"/>
                </a:lnTo>
                <a:lnTo>
                  <a:pt x="665" y="35"/>
                </a:lnTo>
                <a:lnTo>
                  <a:pt x="679" y="35"/>
                </a:lnTo>
                <a:lnTo>
                  <a:pt x="694" y="42"/>
                </a:lnTo>
                <a:lnTo>
                  <a:pt x="716" y="42"/>
                </a:lnTo>
                <a:lnTo>
                  <a:pt x="730" y="42"/>
                </a:lnTo>
                <a:lnTo>
                  <a:pt x="745" y="42"/>
                </a:lnTo>
                <a:lnTo>
                  <a:pt x="760" y="49"/>
                </a:lnTo>
                <a:lnTo>
                  <a:pt x="774" y="49"/>
                </a:lnTo>
                <a:lnTo>
                  <a:pt x="789" y="49"/>
                </a:lnTo>
                <a:lnTo>
                  <a:pt x="811" y="56"/>
                </a:lnTo>
                <a:lnTo>
                  <a:pt x="825" y="56"/>
                </a:lnTo>
                <a:lnTo>
                  <a:pt x="840" y="56"/>
                </a:lnTo>
                <a:lnTo>
                  <a:pt x="855" y="56"/>
                </a:lnTo>
                <a:lnTo>
                  <a:pt x="869" y="64"/>
                </a:lnTo>
                <a:lnTo>
                  <a:pt x="884" y="64"/>
                </a:lnTo>
                <a:lnTo>
                  <a:pt x="906" y="64"/>
                </a:lnTo>
                <a:lnTo>
                  <a:pt x="920" y="71"/>
                </a:lnTo>
                <a:lnTo>
                  <a:pt x="935" y="71"/>
                </a:lnTo>
                <a:lnTo>
                  <a:pt x="950" y="71"/>
                </a:lnTo>
                <a:lnTo>
                  <a:pt x="964" y="71"/>
                </a:lnTo>
                <a:lnTo>
                  <a:pt x="986" y="78"/>
                </a:lnTo>
                <a:lnTo>
                  <a:pt x="1001" y="78"/>
                </a:lnTo>
                <a:lnTo>
                  <a:pt x="1015" y="78"/>
                </a:lnTo>
                <a:lnTo>
                  <a:pt x="1030" y="78"/>
                </a:lnTo>
                <a:lnTo>
                  <a:pt x="1045" y="85"/>
                </a:lnTo>
                <a:lnTo>
                  <a:pt x="1059" y="85"/>
                </a:lnTo>
                <a:lnTo>
                  <a:pt x="1081" y="85"/>
                </a:lnTo>
                <a:lnTo>
                  <a:pt x="1096" y="92"/>
                </a:lnTo>
                <a:lnTo>
                  <a:pt x="1111" y="92"/>
                </a:lnTo>
                <a:lnTo>
                  <a:pt x="1125" y="92"/>
                </a:lnTo>
                <a:lnTo>
                  <a:pt x="1140" y="92"/>
                </a:lnTo>
                <a:lnTo>
                  <a:pt x="1162" y="99"/>
                </a:lnTo>
                <a:lnTo>
                  <a:pt x="1176" y="99"/>
                </a:lnTo>
                <a:lnTo>
                  <a:pt x="1191" y="99"/>
                </a:lnTo>
                <a:lnTo>
                  <a:pt x="1206" y="106"/>
                </a:lnTo>
                <a:lnTo>
                  <a:pt x="1220" y="106"/>
                </a:lnTo>
                <a:lnTo>
                  <a:pt x="1235" y="106"/>
                </a:lnTo>
                <a:lnTo>
                  <a:pt x="1257" y="113"/>
                </a:lnTo>
                <a:lnTo>
                  <a:pt x="1271" y="113"/>
                </a:lnTo>
                <a:lnTo>
                  <a:pt x="1286" y="113"/>
                </a:lnTo>
                <a:lnTo>
                  <a:pt x="1301" y="113"/>
                </a:lnTo>
                <a:lnTo>
                  <a:pt x="1315" y="120"/>
                </a:lnTo>
                <a:lnTo>
                  <a:pt x="1330" y="120"/>
                </a:lnTo>
                <a:lnTo>
                  <a:pt x="1352" y="120"/>
                </a:lnTo>
                <a:lnTo>
                  <a:pt x="1366" y="127"/>
                </a:lnTo>
                <a:lnTo>
                  <a:pt x="1381" y="127"/>
                </a:lnTo>
                <a:lnTo>
                  <a:pt x="1396" y="127"/>
                </a:lnTo>
                <a:lnTo>
                  <a:pt x="1410" y="134"/>
                </a:lnTo>
                <a:lnTo>
                  <a:pt x="1432" y="134"/>
                </a:lnTo>
                <a:lnTo>
                  <a:pt x="1447" y="134"/>
                </a:lnTo>
                <a:lnTo>
                  <a:pt x="1461" y="141"/>
                </a:lnTo>
                <a:lnTo>
                  <a:pt x="1476" y="141"/>
                </a:lnTo>
                <a:lnTo>
                  <a:pt x="1491" y="141"/>
                </a:lnTo>
                <a:lnTo>
                  <a:pt x="1505" y="149"/>
                </a:lnTo>
                <a:lnTo>
                  <a:pt x="1527" y="149"/>
                </a:lnTo>
                <a:lnTo>
                  <a:pt x="1542" y="156"/>
                </a:lnTo>
                <a:lnTo>
                  <a:pt x="1556" y="156"/>
                </a:lnTo>
                <a:lnTo>
                  <a:pt x="1571" y="156"/>
                </a:lnTo>
                <a:lnTo>
                  <a:pt x="1586" y="163"/>
                </a:lnTo>
                <a:lnTo>
                  <a:pt x="1608" y="163"/>
                </a:lnTo>
                <a:lnTo>
                  <a:pt x="1622" y="163"/>
                </a:lnTo>
                <a:lnTo>
                  <a:pt x="1637" y="170"/>
                </a:lnTo>
                <a:lnTo>
                  <a:pt x="1651" y="170"/>
                </a:lnTo>
                <a:lnTo>
                  <a:pt x="1666" y="177"/>
                </a:lnTo>
                <a:lnTo>
                  <a:pt x="1681" y="177"/>
                </a:lnTo>
                <a:lnTo>
                  <a:pt x="1703" y="184"/>
                </a:lnTo>
                <a:lnTo>
                  <a:pt x="1717" y="184"/>
                </a:lnTo>
                <a:lnTo>
                  <a:pt x="1732" y="184"/>
                </a:lnTo>
                <a:lnTo>
                  <a:pt x="1746" y="191"/>
                </a:lnTo>
                <a:lnTo>
                  <a:pt x="1761" y="191"/>
                </a:lnTo>
                <a:lnTo>
                  <a:pt x="1776" y="198"/>
                </a:lnTo>
                <a:lnTo>
                  <a:pt x="1798" y="198"/>
                </a:lnTo>
                <a:lnTo>
                  <a:pt x="1812" y="205"/>
                </a:lnTo>
                <a:lnTo>
                  <a:pt x="1827" y="205"/>
                </a:lnTo>
                <a:lnTo>
                  <a:pt x="1841" y="212"/>
                </a:lnTo>
                <a:lnTo>
                  <a:pt x="1856" y="212"/>
                </a:lnTo>
                <a:lnTo>
                  <a:pt x="1878" y="219"/>
                </a:lnTo>
                <a:lnTo>
                  <a:pt x="1893" y="219"/>
                </a:lnTo>
                <a:lnTo>
                  <a:pt x="1907" y="226"/>
                </a:lnTo>
                <a:lnTo>
                  <a:pt x="1922" y="226"/>
                </a:lnTo>
                <a:lnTo>
                  <a:pt x="1936" y="234"/>
                </a:lnTo>
                <a:lnTo>
                  <a:pt x="1951" y="241"/>
                </a:lnTo>
                <a:lnTo>
                  <a:pt x="1973" y="241"/>
                </a:lnTo>
                <a:lnTo>
                  <a:pt x="1988" y="248"/>
                </a:lnTo>
                <a:lnTo>
                  <a:pt x="2002" y="248"/>
                </a:lnTo>
                <a:lnTo>
                  <a:pt x="2017" y="25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6259680" y="2136600"/>
            <a:ext cx="1820520" cy="3015000"/>
          </a:xfrm>
          <a:custGeom>
            <a:avLst/>
            <a:gdLst/>
            <a:ahLst/>
            <a:rect l="l" t="t" r="r" b="b"/>
            <a:pathLst>
              <a:path w="1147" h="1899">
                <a:moveTo>
                  <a:pt x="0" y="0"/>
                </a:moveTo>
                <a:lnTo>
                  <a:pt x="14" y="7"/>
                </a:lnTo>
                <a:lnTo>
                  <a:pt x="36" y="7"/>
                </a:lnTo>
                <a:lnTo>
                  <a:pt x="51" y="14"/>
                </a:lnTo>
                <a:lnTo>
                  <a:pt x="66" y="21"/>
                </a:lnTo>
                <a:lnTo>
                  <a:pt x="80" y="21"/>
                </a:lnTo>
                <a:lnTo>
                  <a:pt x="95" y="28"/>
                </a:lnTo>
                <a:lnTo>
                  <a:pt x="109" y="35"/>
                </a:lnTo>
                <a:lnTo>
                  <a:pt x="131" y="42"/>
                </a:lnTo>
                <a:lnTo>
                  <a:pt x="146" y="42"/>
                </a:lnTo>
                <a:lnTo>
                  <a:pt x="161" y="49"/>
                </a:lnTo>
                <a:lnTo>
                  <a:pt x="175" y="57"/>
                </a:lnTo>
                <a:lnTo>
                  <a:pt x="190" y="64"/>
                </a:lnTo>
                <a:lnTo>
                  <a:pt x="204" y="71"/>
                </a:lnTo>
                <a:lnTo>
                  <a:pt x="226" y="78"/>
                </a:lnTo>
                <a:lnTo>
                  <a:pt x="241" y="85"/>
                </a:lnTo>
                <a:lnTo>
                  <a:pt x="256" y="85"/>
                </a:lnTo>
                <a:lnTo>
                  <a:pt x="270" y="92"/>
                </a:lnTo>
                <a:lnTo>
                  <a:pt x="285" y="106"/>
                </a:lnTo>
                <a:lnTo>
                  <a:pt x="307" y="113"/>
                </a:lnTo>
                <a:lnTo>
                  <a:pt x="321" y="120"/>
                </a:lnTo>
                <a:lnTo>
                  <a:pt x="336" y="127"/>
                </a:lnTo>
                <a:lnTo>
                  <a:pt x="351" y="134"/>
                </a:lnTo>
                <a:lnTo>
                  <a:pt x="365" y="142"/>
                </a:lnTo>
                <a:lnTo>
                  <a:pt x="380" y="149"/>
                </a:lnTo>
                <a:lnTo>
                  <a:pt x="402" y="163"/>
                </a:lnTo>
                <a:lnTo>
                  <a:pt x="416" y="170"/>
                </a:lnTo>
                <a:lnTo>
                  <a:pt x="431" y="177"/>
                </a:lnTo>
                <a:lnTo>
                  <a:pt x="446" y="191"/>
                </a:lnTo>
                <a:lnTo>
                  <a:pt x="460" y="198"/>
                </a:lnTo>
                <a:lnTo>
                  <a:pt x="482" y="212"/>
                </a:lnTo>
                <a:lnTo>
                  <a:pt x="497" y="219"/>
                </a:lnTo>
                <a:lnTo>
                  <a:pt x="511" y="234"/>
                </a:lnTo>
                <a:lnTo>
                  <a:pt x="526" y="248"/>
                </a:lnTo>
                <a:lnTo>
                  <a:pt x="541" y="262"/>
                </a:lnTo>
                <a:lnTo>
                  <a:pt x="555" y="276"/>
                </a:lnTo>
                <a:lnTo>
                  <a:pt x="577" y="290"/>
                </a:lnTo>
                <a:lnTo>
                  <a:pt x="592" y="305"/>
                </a:lnTo>
                <a:lnTo>
                  <a:pt x="606" y="319"/>
                </a:lnTo>
                <a:lnTo>
                  <a:pt x="621" y="333"/>
                </a:lnTo>
                <a:lnTo>
                  <a:pt x="636" y="347"/>
                </a:lnTo>
                <a:lnTo>
                  <a:pt x="650" y="368"/>
                </a:lnTo>
                <a:lnTo>
                  <a:pt x="672" y="390"/>
                </a:lnTo>
                <a:lnTo>
                  <a:pt x="687" y="404"/>
                </a:lnTo>
                <a:lnTo>
                  <a:pt x="701" y="425"/>
                </a:lnTo>
                <a:lnTo>
                  <a:pt x="716" y="446"/>
                </a:lnTo>
                <a:lnTo>
                  <a:pt x="731" y="475"/>
                </a:lnTo>
                <a:lnTo>
                  <a:pt x="753" y="496"/>
                </a:lnTo>
                <a:lnTo>
                  <a:pt x="767" y="524"/>
                </a:lnTo>
                <a:lnTo>
                  <a:pt x="782" y="553"/>
                </a:lnTo>
                <a:lnTo>
                  <a:pt x="796" y="581"/>
                </a:lnTo>
                <a:lnTo>
                  <a:pt x="811" y="609"/>
                </a:lnTo>
                <a:lnTo>
                  <a:pt x="826" y="645"/>
                </a:lnTo>
                <a:lnTo>
                  <a:pt x="848" y="680"/>
                </a:lnTo>
                <a:lnTo>
                  <a:pt x="862" y="715"/>
                </a:lnTo>
                <a:lnTo>
                  <a:pt x="877" y="751"/>
                </a:lnTo>
                <a:lnTo>
                  <a:pt x="892" y="793"/>
                </a:lnTo>
                <a:lnTo>
                  <a:pt x="906" y="843"/>
                </a:lnTo>
                <a:lnTo>
                  <a:pt x="928" y="886"/>
                </a:lnTo>
                <a:lnTo>
                  <a:pt x="943" y="935"/>
                </a:lnTo>
                <a:lnTo>
                  <a:pt x="957" y="992"/>
                </a:lnTo>
                <a:lnTo>
                  <a:pt x="972" y="1049"/>
                </a:lnTo>
                <a:lnTo>
                  <a:pt x="987" y="1112"/>
                </a:lnTo>
                <a:lnTo>
                  <a:pt x="1001" y="1176"/>
                </a:lnTo>
                <a:lnTo>
                  <a:pt x="1023" y="1240"/>
                </a:lnTo>
                <a:lnTo>
                  <a:pt x="1038" y="1311"/>
                </a:lnTo>
                <a:lnTo>
                  <a:pt x="1052" y="1389"/>
                </a:lnTo>
                <a:lnTo>
                  <a:pt x="1067" y="1467"/>
                </a:lnTo>
                <a:lnTo>
                  <a:pt x="1082" y="1552"/>
                </a:lnTo>
                <a:lnTo>
                  <a:pt x="1096" y="1637"/>
                </a:lnTo>
                <a:lnTo>
                  <a:pt x="1118" y="1722"/>
                </a:lnTo>
                <a:lnTo>
                  <a:pt x="1133" y="1807"/>
                </a:lnTo>
                <a:lnTo>
                  <a:pt x="1147" y="1899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3057480" y="1731960"/>
            <a:ext cx="3202200" cy="201600"/>
          </a:xfrm>
          <a:custGeom>
            <a:avLst/>
            <a:gdLst/>
            <a:ahLst/>
            <a:rect l="l" t="t" r="r" b="b"/>
            <a:pathLst>
              <a:path w="2017" h="127">
                <a:moveTo>
                  <a:pt x="0" y="0"/>
                </a:moveTo>
                <a:lnTo>
                  <a:pt x="14" y="0"/>
                </a:lnTo>
                <a:lnTo>
                  <a:pt x="29" y="0"/>
                </a:lnTo>
                <a:lnTo>
                  <a:pt x="43" y="0"/>
                </a:lnTo>
                <a:lnTo>
                  <a:pt x="58" y="0"/>
                </a:lnTo>
                <a:lnTo>
                  <a:pt x="73" y="0"/>
                </a:lnTo>
                <a:lnTo>
                  <a:pt x="95" y="0"/>
                </a:lnTo>
                <a:lnTo>
                  <a:pt x="109" y="0"/>
                </a:lnTo>
                <a:lnTo>
                  <a:pt x="124" y="0"/>
                </a:lnTo>
                <a:lnTo>
                  <a:pt x="138" y="0"/>
                </a:lnTo>
                <a:lnTo>
                  <a:pt x="153" y="0"/>
                </a:lnTo>
                <a:lnTo>
                  <a:pt x="168" y="0"/>
                </a:lnTo>
                <a:lnTo>
                  <a:pt x="190" y="0"/>
                </a:lnTo>
                <a:lnTo>
                  <a:pt x="204" y="0"/>
                </a:lnTo>
                <a:lnTo>
                  <a:pt x="219" y="0"/>
                </a:lnTo>
                <a:lnTo>
                  <a:pt x="233" y="0"/>
                </a:lnTo>
                <a:lnTo>
                  <a:pt x="248" y="0"/>
                </a:lnTo>
                <a:lnTo>
                  <a:pt x="270" y="0"/>
                </a:lnTo>
                <a:lnTo>
                  <a:pt x="285" y="0"/>
                </a:lnTo>
                <a:lnTo>
                  <a:pt x="299" y="0"/>
                </a:lnTo>
                <a:lnTo>
                  <a:pt x="314" y="0"/>
                </a:lnTo>
                <a:lnTo>
                  <a:pt x="328" y="0"/>
                </a:lnTo>
                <a:lnTo>
                  <a:pt x="343" y="0"/>
                </a:lnTo>
                <a:lnTo>
                  <a:pt x="365" y="0"/>
                </a:lnTo>
                <a:lnTo>
                  <a:pt x="380" y="0"/>
                </a:lnTo>
                <a:lnTo>
                  <a:pt x="394" y="0"/>
                </a:lnTo>
                <a:lnTo>
                  <a:pt x="409" y="0"/>
                </a:lnTo>
                <a:lnTo>
                  <a:pt x="423" y="0"/>
                </a:lnTo>
                <a:lnTo>
                  <a:pt x="438" y="0"/>
                </a:lnTo>
                <a:lnTo>
                  <a:pt x="460" y="0"/>
                </a:lnTo>
                <a:lnTo>
                  <a:pt x="475" y="0"/>
                </a:lnTo>
                <a:lnTo>
                  <a:pt x="489" y="0"/>
                </a:lnTo>
                <a:lnTo>
                  <a:pt x="504" y="0"/>
                </a:lnTo>
                <a:lnTo>
                  <a:pt x="518" y="0"/>
                </a:lnTo>
                <a:lnTo>
                  <a:pt x="540" y="7"/>
                </a:lnTo>
                <a:lnTo>
                  <a:pt x="555" y="7"/>
                </a:lnTo>
                <a:lnTo>
                  <a:pt x="570" y="7"/>
                </a:lnTo>
                <a:lnTo>
                  <a:pt x="584" y="7"/>
                </a:lnTo>
                <a:lnTo>
                  <a:pt x="599" y="14"/>
                </a:lnTo>
                <a:lnTo>
                  <a:pt x="614" y="14"/>
                </a:lnTo>
                <a:lnTo>
                  <a:pt x="635" y="14"/>
                </a:lnTo>
                <a:lnTo>
                  <a:pt x="650" y="14"/>
                </a:lnTo>
                <a:lnTo>
                  <a:pt x="665" y="14"/>
                </a:lnTo>
                <a:lnTo>
                  <a:pt x="679" y="14"/>
                </a:lnTo>
                <a:lnTo>
                  <a:pt x="694" y="21"/>
                </a:lnTo>
                <a:lnTo>
                  <a:pt x="716" y="21"/>
                </a:lnTo>
                <a:lnTo>
                  <a:pt x="730" y="21"/>
                </a:lnTo>
                <a:lnTo>
                  <a:pt x="745" y="21"/>
                </a:lnTo>
                <a:lnTo>
                  <a:pt x="760" y="21"/>
                </a:lnTo>
                <a:lnTo>
                  <a:pt x="774" y="21"/>
                </a:lnTo>
                <a:lnTo>
                  <a:pt x="789" y="21"/>
                </a:lnTo>
                <a:lnTo>
                  <a:pt x="811" y="28"/>
                </a:lnTo>
                <a:lnTo>
                  <a:pt x="825" y="28"/>
                </a:lnTo>
                <a:lnTo>
                  <a:pt x="840" y="28"/>
                </a:lnTo>
                <a:lnTo>
                  <a:pt x="855" y="28"/>
                </a:lnTo>
                <a:lnTo>
                  <a:pt x="869" y="28"/>
                </a:lnTo>
                <a:lnTo>
                  <a:pt x="884" y="28"/>
                </a:lnTo>
                <a:lnTo>
                  <a:pt x="906" y="28"/>
                </a:lnTo>
                <a:lnTo>
                  <a:pt x="920" y="35"/>
                </a:lnTo>
                <a:lnTo>
                  <a:pt x="935" y="35"/>
                </a:lnTo>
                <a:lnTo>
                  <a:pt x="950" y="35"/>
                </a:lnTo>
                <a:lnTo>
                  <a:pt x="964" y="35"/>
                </a:lnTo>
                <a:lnTo>
                  <a:pt x="986" y="35"/>
                </a:lnTo>
                <a:lnTo>
                  <a:pt x="1001" y="35"/>
                </a:lnTo>
                <a:lnTo>
                  <a:pt x="1015" y="35"/>
                </a:lnTo>
                <a:lnTo>
                  <a:pt x="1030" y="35"/>
                </a:lnTo>
                <a:lnTo>
                  <a:pt x="1045" y="42"/>
                </a:lnTo>
                <a:lnTo>
                  <a:pt x="1059" y="42"/>
                </a:lnTo>
                <a:lnTo>
                  <a:pt x="1081" y="42"/>
                </a:lnTo>
                <a:lnTo>
                  <a:pt x="1096" y="42"/>
                </a:lnTo>
                <a:lnTo>
                  <a:pt x="1111" y="42"/>
                </a:lnTo>
                <a:lnTo>
                  <a:pt x="1125" y="42"/>
                </a:lnTo>
                <a:lnTo>
                  <a:pt x="1140" y="42"/>
                </a:lnTo>
                <a:lnTo>
                  <a:pt x="1162" y="49"/>
                </a:lnTo>
                <a:lnTo>
                  <a:pt x="1176" y="49"/>
                </a:lnTo>
                <a:lnTo>
                  <a:pt x="1191" y="49"/>
                </a:lnTo>
                <a:lnTo>
                  <a:pt x="1206" y="49"/>
                </a:lnTo>
                <a:lnTo>
                  <a:pt x="1220" y="49"/>
                </a:lnTo>
                <a:lnTo>
                  <a:pt x="1235" y="49"/>
                </a:lnTo>
                <a:lnTo>
                  <a:pt x="1257" y="56"/>
                </a:lnTo>
                <a:lnTo>
                  <a:pt x="1271" y="56"/>
                </a:lnTo>
                <a:lnTo>
                  <a:pt x="1286" y="56"/>
                </a:lnTo>
                <a:lnTo>
                  <a:pt x="1301" y="56"/>
                </a:lnTo>
                <a:lnTo>
                  <a:pt x="1315" y="56"/>
                </a:lnTo>
                <a:lnTo>
                  <a:pt x="1330" y="56"/>
                </a:lnTo>
                <a:lnTo>
                  <a:pt x="1352" y="56"/>
                </a:lnTo>
                <a:lnTo>
                  <a:pt x="1366" y="64"/>
                </a:lnTo>
                <a:lnTo>
                  <a:pt x="1381" y="64"/>
                </a:lnTo>
                <a:lnTo>
                  <a:pt x="1396" y="64"/>
                </a:lnTo>
                <a:lnTo>
                  <a:pt x="1410" y="64"/>
                </a:lnTo>
                <a:lnTo>
                  <a:pt x="1432" y="64"/>
                </a:lnTo>
                <a:lnTo>
                  <a:pt x="1447" y="64"/>
                </a:lnTo>
                <a:lnTo>
                  <a:pt x="1461" y="71"/>
                </a:lnTo>
                <a:lnTo>
                  <a:pt x="1476" y="71"/>
                </a:lnTo>
                <a:lnTo>
                  <a:pt x="1491" y="71"/>
                </a:lnTo>
                <a:lnTo>
                  <a:pt x="1505" y="71"/>
                </a:lnTo>
                <a:lnTo>
                  <a:pt x="1527" y="71"/>
                </a:lnTo>
                <a:lnTo>
                  <a:pt x="1542" y="78"/>
                </a:lnTo>
                <a:lnTo>
                  <a:pt x="1556" y="78"/>
                </a:lnTo>
                <a:lnTo>
                  <a:pt x="1571" y="78"/>
                </a:lnTo>
                <a:lnTo>
                  <a:pt x="1586" y="78"/>
                </a:lnTo>
                <a:lnTo>
                  <a:pt x="1608" y="78"/>
                </a:lnTo>
                <a:lnTo>
                  <a:pt x="1622" y="78"/>
                </a:lnTo>
                <a:lnTo>
                  <a:pt x="1637" y="85"/>
                </a:lnTo>
                <a:lnTo>
                  <a:pt x="1651" y="85"/>
                </a:lnTo>
                <a:lnTo>
                  <a:pt x="1666" y="85"/>
                </a:lnTo>
                <a:lnTo>
                  <a:pt x="1681" y="85"/>
                </a:lnTo>
                <a:lnTo>
                  <a:pt x="1703" y="92"/>
                </a:lnTo>
                <a:lnTo>
                  <a:pt x="1717" y="92"/>
                </a:lnTo>
                <a:lnTo>
                  <a:pt x="1732" y="92"/>
                </a:lnTo>
                <a:lnTo>
                  <a:pt x="1746" y="92"/>
                </a:lnTo>
                <a:lnTo>
                  <a:pt x="1761" y="92"/>
                </a:lnTo>
                <a:lnTo>
                  <a:pt x="1776" y="99"/>
                </a:lnTo>
                <a:lnTo>
                  <a:pt x="1798" y="99"/>
                </a:lnTo>
                <a:lnTo>
                  <a:pt x="1812" y="99"/>
                </a:lnTo>
                <a:lnTo>
                  <a:pt x="1827" y="99"/>
                </a:lnTo>
                <a:lnTo>
                  <a:pt x="1841" y="106"/>
                </a:lnTo>
                <a:lnTo>
                  <a:pt x="1856" y="106"/>
                </a:lnTo>
                <a:lnTo>
                  <a:pt x="1878" y="106"/>
                </a:lnTo>
                <a:lnTo>
                  <a:pt x="1893" y="106"/>
                </a:lnTo>
                <a:lnTo>
                  <a:pt x="1907" y="113"/>
                </a:lnTo>
                <a:lnTo>
                  <a:pt x="1922" y="113"/>
                </a:lnTo>
                <a:lnTo>
                  <a:pt x="1936" y="113"/>
                </a:lnTo>
                <a:lnTo>
                  <a:pt x="1951" y="120"/>
                </a:lnTo>
                <a:lnTo>
                  <a:pt x="1973" y="120"/>
                </a:lnTo>
                <a:lnTo>
                  <a:pt x="1988" y="120"/>
                </a:lnTo>
                <a:lnTo>
                  <a:pt x="2002" y="120"/>
                </a:lnTo>
                <a:lnTo>
                  <a:pt x="2017" y="127"/>
                </a:lnTo>
              </a:path>
            </a:pathLst>
          </a:custGeom>
          <a:noFill/>
          <a:ln w="28440">
            <a:solidFill>
              <a:srgbClr val="007f00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6259680" y="1933560"/>
            <a:ext cx="1820520" cy="1508040"/>
          </a:xfrm>
          <a:custGeom>
            <a:avLst/>
            <a:gdLst/>
            <a:ahLst/>
            <a:rect l="l" t="t" r="r" b="b"/>
            <a:pathLst>
              <a:path w="1147" h="950">
                <a:moveTo>
                  <a:pt x="0" y="0"/>
                </a:moveTo>
                <a:lnTo>
                  <a:pt x="14" y="0"/>
                </a:lnTo>
                <a:lnTo>
                  <a:pt x="36" y="0"/>
                </a:lnTo>
                <a:lnTo>
                  <a:pt x="51" y="7"/>
                </a:lnTo>
                <a:lnTo>
                  <a:pt x="66" y="7"/>
                </a:lnTo>
                <a:lnTo>
                  <a:pt x="80" y="7"/>
                </a:lnTo>
                <a:lnTo>
                  <a:pt x="95" y="14"/>
                </a:lnTo>
                <a:lnTo>
                  <a:pt x="109" y="14"/>
                </a:lnTo>
                <a:lnTo>
                  <a:pt x="131" y="22"/>
                </a:lnTo>
                <a:lnTo>
                  <a:pt x="146" y="22"/>
                </a:lnTo>
                <a:lnTo>
                  <a:pt x="161" y="22"/>
                </a:lnTo>
                <a:lnTo>
                  <a:pt x="175" y="29"/>
                </a:lnTo>
                <a:lnTo>
                  <a:pt x="190" y="29"/>
                </a:lnTo>
                <a:lnTo>
                  <a:pt x="204" y="36"/>
                </a:lnTo>
                <a:lnTo>
                  <a:pt x="226" y="36"/>
                </a:lnTo>
                <a:lnTo>
                  <a:pt x="241" y="43"/>
                </a:lnTo>
                <a:lnTo>
                  <a:pt x="256" y="43"/>
                </a:lnTo>
                <a:lnTo>
                  <a:pt x="270" y="43"/>
                </a:lnTo>
                <a:lnTo>
                  <a:pt x="285" y="50"/>
                </a:lnTo>
                <a:lnTo>
                  <a:pt x="307" y="57"/>
                </a:lnTo>
                <a:lnTo>
                  <a:pt x="321" y="57"/>
                </a:lnTo>
                <a:lnTo>
                  <a:pt x="336" y="64"/>
                </a:lnTo>
                <a:lnTo>
                  <a:pt x="351" y="64"/>
                </a:lnTo>
                <a:lnTo>
                  <a:pt x="365" y="71"/>
                </a:lnTo>
                <a:lnTo>
                  <a:pt x="380" y="71"/>
                </a:lnTo>
                <a:lnTo>
                  <a:pt x="402" y="78"/>
                </a:lnTo>
                <a:lnTo>
                  <a:pt x="416" y="85"/>
                </a:lnTo>
                <a:lnTo>
                  <a:pt x="431" y="85"/>
                </a:lnTo>
                <a:lnTo>
                  <a:pt x="446" y="92"/>
                </a:lnTo>
                <a:lnTo>
                  <a:pt x="460" y="99"/>
                </a:lnTo>
                <a:lnTo>
                  <a:pt x="482" y="107"/>
                </a:lnTo>
                <a:lnTo>
                  <a:pt x="497" y="107"/>
                </a:lnTo>
                <a:lnTo>
                  <a:pt x="511" y="114"/>
                </a:lnTo>
                <a:lnTo>
                  <a:pt x="526" y="121"/>
                </a:lnTo>
                <a:lnTo>
                  <a:pt x="541" y="128"/>
                </a:lnTo>
                <a:lnTo>
                  <a:pt x="555" y="135"/>
                </a:lnTo>
                <a:lnTo>
                  <a:pt x="577" y="142"/>
                </a:lnTo>
                <a:lnTo>
                  <a:pt x="592" y="149"/>
                </a:lnTo>
                <a:lnTo>
                  <a:pt x="606" y="156"/>
                </a:lnTo>
                <a:lnTo>
                  <a:pt x="621" y="163"/>
                </a:lnTo>
                <a:lnTo>
                  <a:pt x="636" y="170"/>
                </a:lnTo>
                <a:lnTo>
                  <a:pt x="650" y="185"/>
                </a:lnTo>
                <a:lnTo>
                  <a:pt x="672" y="192"/>
                </a:lnTo>
                <a:lnTo>
                  <a:pt x="687" y="199"/>
                </a:lnTo>
                <a:lnTo>
                  <a:pt x="701" y="213"/>
                </a:lnTo>
                <a:lnTo>
                  <a:pt x="716" y="220"/>
                </a:lnTo>
                <a:lnTo>
                  <a:pt x="731" y="234"/>
                </a:lnTo>
                <a:lnTo>
                  <a:pt x="753" y="248"/>
                </a:lnTo>
                <a:lnTo>
                  <a:pt x="767" y="262"/>
                </a:lnTo>
                <a:lnTo>
                  <a:pt x="782" y="277"/>
                </a:lnTo>
                <a:lnTo>
                  <a:pt x="796" y="291"/>
                </a:lnTo>
                <a:lnTo>
                  <a:pt x="811" y="305"/>
                </a:lnTo>
                <a:lnTo>
                  <a:pt x="826" y="319"/>
                </a:lnTo>
                <a:lnTo>
                  <a:pt x="848" y="340"/>
                </a:lnTo>
                <a:lnTo>
                  <a:pt x="862" y="355"/>
                </a:lnTo>
                <a:lnTo>
                  <a:pt x="877" y="376"/>
                </a:lnTo>
                <a:lnTo>
                  <a:pt x="892" y="397"/>
                </a:lnTo>
                <a:lnTo>
                  <a:pt x="906" y="418"/>
                </a:lnTo>
                <a:lnTo>
                  <a:pt x="928" y="440"/>
                </a:lnTo>
                <a:lnTo>
                  <a:pt x="943" y="468"/>
                </a:lnTo>
                <a:lnTo>
                  <a:pt x="957" y="496"/>
                </a:lnTo>
                <a:lnTo>
                  <a:pt x="972" y="525"/>
                </a:lnTo>
                <a:lnTo>
                  <a:pt x="987" y="553"/>
                </a:lnTo>
                <a:lnTo>
                  <a:pt x="1001" y="588"/>
                </a:lnTo>
                <a:lnTo>
                  <a:pt x="1023" y="617"/>
                </a:lnTo>
                <a:lnTo>
                  <a:pt x="1038" y="652"/>
                </a:lnTo>
                <a:lnTo>
                  <a:pt x="1052" y="695"/>
                </a:lnTo>
                <a:lnTo>
                  <a:pt x="1067" y="730"/>
                </a:lnTo>
                <a:lnTo>
                  <a:pt x="1082" y="773"/>
                </a:lnTo>
                <a:lnTo>
                  <a:pt x="1096" y="815"/>
                </a:lnTo>
                <a:lnTo>
                  <a:pt x="1118" y="858"/>
                </a:lnTo>
                <a:lnTo>
                  <a:pt x="1133" y="900"/>
                </a:lnTo>
                <a:lnTo>
                  <a:pt x="1147" y="950"/>
                </a:lnTo>
              </a:path>
            </a:pathLst>
          </a:custGeom>
          <a:noFill/>
          <a:ln w="28440">
            <a:solidFill>
              <a:srgbClr val="007f00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4801680" y="6172200"/>
            <a:ext cx="1572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gle, degre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"/>
          <p:cNvSpPr/>
          <p:nvPr/>
        </p:nvSpPr>
        <p:spPr>
          <a:xfrm>
            <a:off x="1066680" y="35053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 flipV="1">
            <a:off x="609480" y="388584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460080" y="4175280"/>
            <a:ext cx="547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n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 flipH="1" flipV="1">
            <a:off x="533520" y="3428640"/>
            <a:ext cx="3045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390240" y="2803680"/>
            <a:ext cx="627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ref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 flipV="1">
            <a:off x="1143000" y="342864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1171440" y="3657600"/>
            <a:ext cx="676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r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5101560" y="380880"/>
            <a:ext cx="352296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uid-Solid Tpp coeffic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magnitude) water-ste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locity-based with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304920" y="609480"/>
            <a:ext cx="4800600" cy="18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&gt; [tpp,tss] = trans2(ang,1.0, 7.9,1480,5900,0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&gt; plot(ang, abs(tpp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&gt; xlabel('angle, degrees'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&gt; ylabel(' |tpp|'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12760" y="4917960"/>
            <a:ext cx="1572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me as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uid-flu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523960" y="2189160"/>
            <a:ext cx="5035680" cy="384660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523960" y="2189160"/>
            <a:ext cx="5035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523960" y="2189160"/>
            <a:ext cx="5035680" cy="3846600"/>
          </a:xfrm>
          <a:custGeom>
            <a:avLst/>
            <a:gdLst/>
            <a:ahLst/>
            <a:rect l="l" t="t" r="r" b="b"/>
            <a:pathLst>
              <a:path w="434" h="342">
                <a:moveTo>
                  <a:pt x="0" y="342"/>
                </a:moveTo>
                <a:lnTo>
                  <a:pt x="434" y="342"/>
                </a:lnTo>
                <a:lnTo>
                  <a:pt x="434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 flipV="1">
            <a:off x="2523960" y="2188800"/>
            <a:ext cx="1800" cy="3846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523960" y="6035760"/>
            <a:ext cx="5035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 flipV="1">
            <a:off x="2523960" y="2188800"/>
            <a:ext cx="1800" cy="3846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 flipV="1">
            <a:off x="2523960" y="5979600"/>
            <a:ext cx="1800" cy="55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2523960" y="2189160"/>
            <a:ext cx="1800" cy="4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2489040" y="606888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 flipV="1">
            <a:off x="3079800" y="5979600"/>
            <a:ext cx="1440" cy="55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3079800" y="2189160"/>
            <a:ext cx="1440" cy="4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2998800" y="606888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 flipV="1">
            <a:off x="3637080" y="5979600"/>
            <a:ext cx="1440" cy="55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3637080" y="2189160"/>
            <a:ext cx="1440" cy="4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3556080" y="606888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 flipV="1">
            <a:off x="4194000" y="5979600"/>
            <a:ext cx="1800" cy="55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4194000" y="2189160"/>
            <a:ext cx="1800" cy="4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4113360" y="606888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 flipV="1">
            <a:off x="4751280" y="5979600"/>
            <a:ext cx="1800" cy="55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4751280" y="2189160"/>
            <a:ext cx="1800" cy="4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4670280" y="606888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 flipV="1">
            <a:off x="5319720" y="5979600"/>
            <a:ext cx="1440" cy="55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5319720" y="2189160"/>
            <a:ext cx="1440" cy="4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5238720" y="606888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 flipV="1">
            <a:off x="5877000" y="5979600"/>
            <a:ext cx="1440" cy="55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5877000" y="2189160"/>
            <a:ext cx="1440" cy="4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5796000" y="606888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 flipV="1">
            <a:off x="6434280" y="5979600"/>
            <a:ext cx="1440" cy="55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6434280" y="2189160"/>
            <a:ext cx="1440" cy="4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6351480" y="606888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 flipV="1">
            <a:off x="6989760" y="5979600"/>
            <a:ext cx="1440" cy="55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6989760" y="2189160"/>
            <a:ext cx="1440" cy="4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6908760" y="606888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 flipV="1">
            <a:off x="7559640" y="5979600"/>
            <a:ext cx="1800" cy="55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7559640" y="2189160"/>
            <a:ext cx="1800" cy="4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7477200" y="606888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2523960" y="6035760"/>
            <a:ext cx="46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 flipH="1">
            <a:off x="7500600" y="6035760"/>
            <a:ext cx="58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2214720" y="594504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2523960" y="5484960"/>
            <a:ext cx="46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 flipH="1">
            <a:off x="7500600" y="5484960"/>
            <a:ext cx="58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2006640" y="5394240"/>
            <a:ext cx="444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2523960" y="4933800"/>
            <a:ext cx="46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 flipH="1">
            <a:off x="7500600" y="4933800"/>
            <a:ext cx="58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2006640" y="4843440"/>
            <a:ext cx="444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2523960" y="4381560"/>
            <a:ext cx="46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 flipH="1">
            <a:off x="7500600" y="4381560"/>
            <a:ext cx="58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2006640" y="4292640"/>
            <a:ext cx="444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0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2523960" y="3830760"/>
            <a:ext cx="46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 flipH="1">
            <a:off x="7500600" y="3830760"/>
            <a:ext cx="58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2006640" y="3741840"/>
            <a:ext cx="444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0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2523960" y="3279600"/>
            <a:ext cx="46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 flipH="1">
            <a:off x="7500600" y="3279600"/>
            <a:ext cx="58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2006640" y="3189240"/>
            <a:ext cx="444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0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2523960" y="2728800"/>
            <a:ext cx="46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 flipH="1">
            <a:off x="7500600" y="2728800"/>
            <a:ext cx="58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2006640" y="2638440"/>
            <a:ext cx="444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0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2523960" y="2189160"/>
            <a:ext cx="46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 flipH="1">
            <a:off x="7500600" y="2189160"/>
            <a:ext cx="58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2006640" y="2098800"/>
            <a:ext cx="444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0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2523960" y="2189160"/>
            <a:ext cx="5035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2523960" y="2189160"/>
            <a:ext cx="5035680" cy="3846600"/>
          </a:xfrm>
          <a:custGeom>
            <a:avLst/>
            <a:gdLst/>
            <a:ahLst/>
            <a:rect l="l" t="t" r="r" b="b"/>
            <a:pathLst>
              <a:path w="434" h="342">
                <a:moveTo>
                  <a:pt x="0" y="342"/>
                </a:moveTo>
                <a:lnTo>
                  <a:pt x="434" y="342"/>
                </a:lnTo>
                <a:lnTo>
                  <a:pt x="434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 flipV="1">
            <a:off x="2523960" y="2188800"/>
            <a:ext cx="1800" cy="3846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2523960" y="2536920"/>
            <a:ext cx="3202200" cy="112680"/>
          </a:xfrm>
          <a:custGeom>
            <a:avLst/>
            <a:gdLst/>
            <a:ahLst/>
            <a:rect l="l" t="t" r="r" b="b"/>
            <a:pathLst>
              <a:path w="2017" h="71">
                <a:moveTo>
                  <a:pt x="0" y="71"/>
                </a:moveTo>
                <a:lnTo>
                  <a:pt x="14" y="71"/>
                </a:lnTo>
                <a:lnTo>
                  <a:pt x="29" y="71"/>
                </a:lnTo>
                <a:lnTo>
                  <a:pt x="43" y="71"/>
                </a:lnTo>
                <a:lnTo>
                  <a:pt x="58" y="71"/>
                </a:lnTo>
                <a:lnTo>
                  <a:pt x="73" y="71"/>
                </a:lnTo>
                <a:lnTo>
                  <a:pt x="95" y="71"/>
                </a:lnTo>
                <a:lnTo>
                  <a:pt x="109" y="71"/>
                </a:lnTo>
                <a:lnTo>
                  <a:pt x="124" y="64"/>
                </a:lnTo>
                <a:lnTo>
                  <a:pt x="138" y="64"/>
                </a:lnTo>
                <a:lnTo>
                  <a:pt x="153" y="64"/>
                </a:lnTo>
                <a:lnTo>
                  <a:pt x="168" y="64"/>
                </a:lnTo>
                <a:lnTo>
                  <a:pt x="190" y="64"/>
                </a:lnTo>
                <a:lnTo>
                  <a:pt x="204" y="64"/>
                </a:lnTo>
                <a:lnTo>
                  <a:pt x="219" y="64"/>
                </a:lnTo>
                <a:lnTo>
                  <a:pt x="233" y="64"/>
                </a:lnTo>
                <a:lnTo>
                  <a:pt x="248" y="64"/>
                </a:lnTo>
                <a:lnTo>
                  <a:pt x="270" y="57"/>
                </a:lnTo>
                <a:lnTo>
                  <a:pt x="285" y="57"/>
                </a:lnTo>
                <a:lnTo>
                  <a:pt x="299" y="57"/>
                </a:lnTo>
                <a:lnTo>
                  <a:pt x="314" y="57"/>
                </a:lnTo>
                <a:lnTo>
                  <a:pt x="328" y="57"/>
                </a:lnTo>
                <a:lnTo>
                  <a:pt x="343" y="50"/>
                </a:lnTo>
                <a:lnTo>
                  <a:pt x="365" y="50"/>
                </a:lnTo>
                <a:lnTo>
                  <a:pt x="380" y="50"/>
                </a:lnTo>
                <a:lnTo>
                  <a:pt x="394" y="43"/>
                </a:lnTo>
                <a:lnTo>
                  <a:pt x="409" y="43"/>
                </a:lnTo>
                <a:lnTo>
                  <a:pt x="423" y="43"/>
                </a:lnTo>
                <a:lnTo>
                  <a:pt x="438" y="36"/>
                </a:lnTo>
                <a:lnTo>
                  <a:pt x="460" y="36"/>
                </a:lnTo>
                <a:lnTo>
                  <a:pt x="475" y="29"/>
                </a:lnTo>
                <a:lnTo>
                  <a:pt x="489" y="22"/>
                </a:lnTo>
                <a:lnTo>
                  <a:pt x="504" y="7"/>
                </a:lnTo>
                <a:lnTo>
                  <a:pt x="518" y="0"/>
                </a:lnTo>
                <a:lnTo>
                  <a:pt x="540" y="0"/>
                </a:lnTo>
                <a:lnTo>
                  <a:pt x="555" y="0"/>
                </a:lnTo>
                <a:lnTo>
                  <a:pt x="570" y="0"/>
                </a:lnTo>
                <a:lnTo>
                  <a:pt x="584" y="0"/>
                </a:lnTo>
                <a:lnTo>
                  <a:pt x="599" y="0"/>
                </a:lnTo>
                <a:lnTo>
                  <a:pt x="614" y="0"/>
                </a:lnTo>
                <a:lnTo>
                  <a:pt x="635" y="0"/>
                </a:lnTo>
                <a:lnTo>
                  <a:pt x="650" y="0"/>
                </a:lnTo>
                <a:lnTo>
                  <a:pt x="665" y="0"/>
                </a:lnTo>
                <a:lnTo>
                  <a:pt x="679" y="0"/>
                </a:lnTo>
                <a:lnTo>
                  <a:pt x="694" y="0"/>
                </a:lnTo>
                <a:lnTo>
                  <a:pt x="716" y="0"/>
                </a:lnTo>
                <a:lnTo>
                  <a:pt x="730" y="0"/>
                </a:lnTo>
                <a:lnTo>
                  <a:pt x="745" y="0"/>
                </a:lnTo>
                <a:lnTo>
                  <a:pt x="760" y="0"/>
                </a:lnTo>
                <a:lnTo>
                  <a:pt x="774" y="0"/>
                </a:lnTo>
                <a:lnTo>
                  <a:pt x="789" y="0"/>
                </a:lnTo>
                <a:lnTo>
                  <a:pt x="811" y="0"/>
                </a:lnTo>
                <a:lnTo>
                  <a:pt x="825" y="7"/>
                </a:lnTo>
                <a:lnTo>
                  <a:pt x="840" y="7"/>
                </a:lnTo>
                <a:lnTo>
                  <a:pt x="855" y="7"/>
                </a:lnTo>
                <a:lnTo>
                  <a:pt x="869" y="7"/>
                </a:lnTo>
                <a:lnTo>
                  <a:pt x="884" y="7"/>
                </a:lnTo>
                <a:lnTo>
                  <a:pt x="906" y="7"/>
                </a:lnTo>
                <a:lnTo>
                  <a:pt x="920" y="7"/>
                </a:lnTo>
                <a:lnTo>
                  <a:pt x="935" y="7"/>
                </a:lnTo>
                <a:lnTo>
                  <a:pt x="950" y="7"/>
                </a:lnTo>
                <a:lnTo>
                  <a:pt x="964" y="7"/>
                </a:lnTo>
                <a:lnTo>
                  <a:pt x="986" y="7"/>
                </a:lnTo>
                <a:lnTo>
                  <a:pt x="1001" y="7"/>
                </a:lnTo>
                <a:lnTo>
                  <a:pt x="1015" y="7"/>
                </a:lnTo>
                <a:lnTo>
                  <a:pt x="1030" y="7"/>
                </a:lnTo>
                <a:lnTo>
                  <a:pt x="1045" y="7"/>
                </a:lnTo>
                <a:lnTo>
                  <a:pt x="1059" y="7"/>
                </a:lnTo>
                <a:lnTo>
                  <a:pt x="1081" y="7"/>
                </a:lnTo>
                <a:lnTo>
                  <a:pt x="1096" y="7"/>
                </a:lnTo>
                <a:lnTo>
                  <a:pt x="1111" y="7"/>
                </a:lnTo>
                <a:lnTo>
                  <a:pt x="1125" y="7"/>
                </a:lnTo>
                <a:lnTo>
                  <a:pt x="1140" y="7"/>
                </a:lnTo>
                <a:lnTo>
                  <a:pt x="1162" y="7"/>
                </a:lnTo>
                <a:lnTo>
                  <a:pt x="1176" y="7"/>
                </a:lnTo>
                <a:lnTo>
                  <a:pt x="1191" y="7"/>
                </a:lnTo>
                <a:lnTo>
                  <a:pt x="1206" y="7"/>
                </a:lnTo>
                <a:lnTo>
                  <a:pt x="1220" y="7"/>
                </a:lnTo>
                <a:lnTo>
                  <a:pt x="1235" y="7"/>
                </a:lnTo>
                <a:lnTo>
                  <a:pt x="1257" y="7"/>
                </a:lnTo>
                <a:lnTo>
                  <a:pt x="1271" y="7"/>
                </a:lnTo>
                <a:lnTo>
                  <a:pt x="1286" y="7"/>
                </a:lnTo>
                <a:lnTo>
                  <a:pt x="1301" y="7"/>
                </a:lnTo>
                <a:lnTo>
                  <a:pt x="1315" y="7"/>
                </a:lnTo>
                <a:lnTo>
                  <a:pt x="1330" y="7"/>
                </a:lnTo>
                <a:lnTo>
                  <a:pt x="1352" y="15"/>
                </a:lnTo>
                <a:lnTo>
                  <a:pt x="1366" y="15"/>
                </a:lnTo>
                <a:lnTo>
                  <a:pt x="1381" y="15"/>
                </a:lnTo>
                <a:lnTo>
                  <a:pt x="1396" y="15"/>
                </a:lnTo>
                <a:lnTo>
                  <a:pt x="1410" y="15"/>
                </a:lnTo>
                <a:lnTo>
                  <a:pt x="1432" y="15"/>
                </a:lnTo>
                <a:lnTo>
                  <a:pt x="1447" y="15"/>
                </a:lnTo>
                <a:lnTo>
                  <a:pt x="1461" y="15"/>
                </a:lnTo>
                <a:lnTo>
                  <a:pt x="1476" y="15"/>
                </a:lnTo>
                <a:lnTo>
                  <a:pt x="1491" y="15"/>
                </a:lnTo>
                <a:lnTo>
                  <a:pt x="1505" y="15"/>
                </a:lnTo>
                <a:lnTo>
                  <a:pt x="1527" y="15"/>
                </a:lnTo>
                <a:lnTo>
                  <a:pt x="1542" y="15"/>
                </a:lnTo>
                <a:lnTo>
                  <a:pt x="1556" y="15"/>
                </a:lnTo>
                <a:lnTo>
                  <a:pt x="1571" y="15"/>
                </a:lnTo>
                <a:lnTo>
                  <a:pt x="1586" y="15"/>
                </a:lnTo>
                <a:lnTo>
                  <a:pt x="1608" y="15"/>
                </a:lnTo>
                <a:lnTo>
                  <a:pt x="1622" y="22"/>
                </a:lnTo>
                <a:lnTo>
                  <a:pt x="1637" y="22"/>
                </a:lnTo>
                <a:lnTo>
                  <a:pt x="1651" y="22"/>
                </a:lnTo>
                <a:lnTo>
                  <a:pt x="1666" y="22"/>
                </a:lnTo>
                <a:lnTo>
                  <a:pt x="1681" y="22"/>
                </a:lnTo>
                <a:lnTo>
                  <a:pt x="1703" y="22"/>
                </a:lnTo>
                <a:lnTo>
                  <a:pt x="1717" y="22"/>
                </a:lnTo>
                <a:lnTo>
                  <a:pt x="1732" y="22"/>
                </a:lnTo>
                <a:lnTo>
                  <a:pt x="1746" y="22"/>
                </a:lnTo>
                <a:lnTo>
                  <a:pt x="1761" y="22"/>
                </a:lnTo>
                <a:lnTo>
                  <a:pt x="1776" y="22"/>
                </a:lnTo>
                <a:lnTo>
                  <a:pt x="1798" y="29"/>
                </a:lnTo>
                <a:lnTo>
                  <a:pt x="1812" y="29"/>
                </a:lnTo>
                <a:lnTo>
                  <a:pt x="1827" y="29"/>
                </a:lnTo>
                <a:lnTo>
                  <a:pt x="1841" y="29"/>
                </a:lnTo>
                <a:lnTo>
                  <a:pt x="1856" y="29"/>
                </a:lnTo>
                <a:lnTo>
                  <a:pt x="1878" y="29"/>
                </a:lnTo>
                <a:lnTo>
                  <a:pt x="1893" y="29"/>
                </a:lnTo>
                <a:lnTo>
                  <a:pt x="1907" y="29"/>
                </a:lnTo>
                <a:lnTo>
                  <a:pt x="1922" y="36"/>
                </a:lnTo>
                <a:lnTo>
                  <a:pt x="1936" y="36"/>
                </a:lnTo>
                <a:lnTo>
                  <a:pt x="1951" y="36"/>
                </a:lnTo>
                <a:lnTo>
                  <a:pt x="1973" y="36"/>
                </a:lnTo>
                <a:lnTo>
                  <a:pt x="1988" y="36"/>
                </a:lnTo>
                <a:lnTo>
                  <a:pt x="2002" y="36"/>
                </a:lnTo>
                <a:lnTo>
                  <a:pt x="2017" y="43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5726160" y="2604960"/>
            <a:ext cx="1820880" cy="3375000"/>
          </a:xfrm>
          <a:custGeom>
            <a:avLst/>
            <a:gdLst/>
            <a:ahLst/>
            <a:rect l="l" t="t" r="r" b="b"/>
            <a:pathLst>
              <a:path w="1147" h="2126">
                <a:moveTo>
                  <a:pt x="0" y="0"/>
                </a:moveTo>
                <a:lnTo>
                  <a:pt x="14" y="0"/>
                </a:lnTo>
                <a:lnTo>
                  <a:pt x="36" y="0"/>
                </a:lnTo>
                <a:lnTo>
                  <a:pt x="51" y="0"/>
                </a:lnTo>
                <a:lnTo>
                  <a:pt x="66" y="0"/>
                </a:lnTo>
                <a:lnTo>
                  <a:pt x="80" y="7"/>
                </a:lnTo>
                <a:lnTo>
                  <a:pt x="95" y="7"/>
                </a:lnTo>
                <a:lnTo>
                  <a:pt x="109" y="7"/>
                </a:lnTo>
                <a:lnTo>
                  <a:pt x="131" y="7"/>
                </a:lnTo>
                <a:lnTo>
                  <a:pt x="146" y="14"/>
                </a:lnTo>
                <a:lnTo>
                  <a:pt x="161" y="14"/>
                </a:lnTo>
                <a:lnTo>
                  <a:pt x="175" y="14"/>
                </a:lnTo>
                <a:lnTo>
                  <a:pt x="190" y="21"/>
                </a:lnTo>
                <a:lnTo>
                  <a:pt x="204" y="21"/>
                </a:lnTo>
                <a:lnTo>
                  <a:pt x="226" y="21"/>
                </a:lnTo>
                <a:lnTo>
                  <a:pt x="241" y="28"/>
                </a:lnTo>
                <a:lnTo>
                  <a:pt x="256" y="28"/>
                </a:lnTo>
                <a:lnTo>
                  <a:pt x="270" y="28"/>
                </a:lnTo>
                <a:lnTo>
                  <a:pt x="285" y="35"/>
                </a:lnTo>
                <a:lnTo>
                  <a:pt x="307" y="35"/>
                </a:lnTo>
                <a:lnTo>
                  <a:pt x="321" y="42"/>
                </a:lnTo>
                <a:lnTo>
                  <a:pt x="336" y="42"/>
                </a:lnTo>
                <a:lnTo>
                  <a:pt x="351" y="50"/>
                </a:lnTo>
                <a:lnTo>
                  <a:pt x="365" y="50"/>
                </a:lnTo>
                <a:lnTo>
                  <a:pt x="380" y="57"/>
                </a:lnTo>
                <a:lnTo>
                  <a:pt x="402" y="57"/>
                </a:lnTo>
                <a:lnTo>
                  <a:pt x="416" y="64"/>
                </a:lnTo>
                <a:lnTo>
                  <a:pt x="431" y="71"/>
                </a:lnTo>
                <a:lnTo>
                  <a:pt x="446" y="71"/>
                </a:lnTo>
                <a:lnTo>
                  <a:pt x="460" y="78"/>
                </a:lnTo>
                <a:lnTo>
                  <a:pt x="482" y="85"/>
                </a:lnTo>
                <a:lnTo>
                  <a:pt x="497" y="92"/>
                </a:lnTo>
                <a:lnTo>
                  <a:pt x="511" y="99"/>
                </a:lnTo>
                <a:lnTo>
                  <a:pt x="526" y="106"/>
                </a:lnTo>
                <a:lnTo>
                  <a:pt x="541" y="113"/>
                </a:lnTo>
                <a:lnTo>
                  <a:pt x="555" y="120"/>
                </a:lnTo>
                <a:lnTo>
                  <a:pt x="577" y="127"/>
                </a:lnTo>
                <a:lnTo>
                  <a:pt x="592" y="135"/>
                </a:lnTo>
                <a:lnTo>
                  <a:pt x="606" y="149"/>
                </a:lnTo>
                <a:lnTo>
                  <a:pt x="621" y="156"/>
                </a:lnTo>
                <a:lnTo>
                  <a:pt x="636" y="170"/>
                </a:lnTo>
                <a:lnTo>
                  <a:pt x="650" y="184"/>
                </a:lnTo>
                <a:lnTo>
                  <a:pt x="672" y="191"/>
                </a:lnTo>
                <a:lnTo>
                  <a:pt x="687" y="205"/>
                </a:lnTo>
                <a:lnTo>
                  <a:pt x="701" y="227"/>
                </a:lnTo>
                <a:lnTo>
                  <a:pt x="716" y="241"/>
                </a:lnTo>
                <a:lnTo>
                  <a:pt x="731" y="255"/>
                </a:lnTo>
                <a:lnTo>
                  <a:pt x="753" y="276"/>
                </a:lnTo>
                <a:lnTo>
                  <a:pt x="767" y="298"/>
                </a:lnTo>
                <a:lnTo>
                  <a:pt x="782" y="326"/>
                </a:lnTo>
                <a:lnTo>
                  <a:pt x="796" y="347"/>
                </a:lnTo>
                <a:lnTo>
                  <a:pt x="811" y="375"/>
                </a:lnTo>
                <a:lnTo>
                  <a:pt x="826" y="411"/>
                </a:lnTo>
                <a:lnTo>
                  <a:pt x="848" y="439"/>
                </a:lnTo>
                <a:lnTo>
                  <a:pt x="862" y="482"/>
                </a:lnTo>
                <a:lnTo>
                  <a:pt x="877" y="517"/>
                </a:lnTo>
                <a:lnTo>
                  <a:pt x="892" y="567"/>
                </a:lnTo>
                <a:lnTo>
                  <a:pt x="906" y="616"/>
                </a:lnTo>
                <a:lnTo>
                  <a:pt x="928" y="673"/>
                </a:lnTo>
                <a:lnTo>
                  <a:pt x="943" y="730"/>
                </a:lnTo>
                <a:lnTo>
                  <a:pt x="957" y="794"/>
                </a:lnTo>
                <a:lnTo>
                  <a:pt x="972" y="871"/>
                </a:lnTo>
                <a:lnTo>
                  <a:pt x="987" y="949"/>
                </a:lnTo>
                <a:lnTo>
                  <a:pt x="1001" y="1034"/>
                </a:lnTo>
                <a:lnTo>
                  <a:pt x="1023" y="1127"/>
                </a:lnTo>
                <a:lnTo>
                  <a:pt x="1038" y="1233"/>
                </a:lnTo>
                <a:lnTo>
                  <a:pt x="1052" y="1339"/>
                </a:lnTo>
                <a:lnTo>
                  <a:pt x="1067" y="1460"/>
                </a:lnTo>
                <a:lnTo>
                  <a:pt x="1082" y="1580"/>
                </a:lnTo>
                <a:lnTo>
                  <a:pt x="1096" y="1715"/>
                </a:lnTo>
                <a:lnTo>
                  <a:pt x="1118" y="1849"/>
                </a:lnTo>
                <a:lnTo>
                  <a:pt x="1133" y="1984"/>
                </a:lnTo>
                <a:lnTo>
                  <a:pt x="1147" y="2126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4268520" y="6400800"/>
            <a:ext cx="1508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gle, degre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 rot="16200000">
            <a:off x="1595520" y="4271040"/>
            <a:ext cx="436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tpp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"/>
          <p:cNvSpPr/>
          <p:nvPr/>
        </p:nvSpPr>
        <p:spPr>
          <a:xfrm>
            <a:off x="5101560" y="380880"/>
            <a:ext cx="352296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uid-Solid Tpp coeffic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phase) water-ste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locity-based with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228600" y="304920"/>
            <a:ext cx="457200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&gt; plot(ang, unwrap(angle(tpp)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&gt; xlabel('angle, degrees'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&gt; ylabel('phase of tpp, radians'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96840" y="2644920"/>
            <a:ext cx="1572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me as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uid-flu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2523960" y="1960560"/>
            <a:ext cx="5035680" cy="384660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2523960" y="1960560"/>
            <a:ext cx="5035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2523960" y="1960560"/>
            <a:ext cx="5035680" cy="3846600"/>
          </a:xfrm>
          <a:custGeom>
            <a:avLst/>
            <a:gdLst/>
            <a:ahLst/>
            <a:rect l="l" t="t" r="r" b="b"/>
            <a:pathLst>
              <a:path w="434" h="342">
                <a:moveTo>
                  <a:pt x="0" y="342"/>
                </a:moveTo>
                <a:lnTo>
                  <a:pt x="434" y="342"/>
                </a:lnTo>
                <a:lnTo>
                  <a:pt x="434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 flipV="1">
            <a:off x="2523960" y="1960200"/>
            <a:ext cx="1800" cy="3846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2523960" y="5807160"/>
            <a:ext cx="5035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 flipV="1">
            <a:off x="2523960" y="5751000"/>
            <a:ext cx="1800" cy="55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2523960" y="1960560"/>
            <a:ext cx="1800" cy="4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2489040" y="584028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 flipV="1">
            <a:off x="3079800" y="5751000"/>
            <a:ext cx="1440" cy="55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3079800" y="1960560"/>
            <a:ext cx="1440" cy="4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2998800" y="584028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 flipV="1">
            <a:off x="3637080" y="5751000"/>
            <a:ext cx="1440" cy="55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3637080" y="1960560"/>
            <a:ext cx="1440" cy="4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3556080" y="584028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 flipV="1">
            <a:off x="4194000" y="5751000"/>
            <a:ext cx="1800" cy="55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4194000" y="1960560"/>
            <a:ext cx="1800" cy="4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4113360" y="584028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 flipV="1">
            <a:off x="4751280" y="5751000"/>
            <a:ext cx="1800" cy="55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4751280" y="1960560"/>
            <a:ext cx="1800" cy="4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4670280" y="584028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 flipV="1">
            <a:off x="5319720" y="5751000"/>
            <a:ext cx="1440" cy="55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5319720" y="1960560"/>
            <a:ext cx="1440" cy="4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5238720" y="584028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 flipV="1">
            <a:off x="5877000" y="5751000"/>
            <a:ext cx="1440" cy="55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5877000" y="1960560"/>
            <a:ext cx="1440" cy="4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5796000" y="584028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 flipV="1">
            <a:off x="6434280" y="5751000"/>
            <a:ext cx="1440" cy="55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6434280" y="1960560"/>
            <a:ext cx="1440" cy="4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6351480" y="584028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 flipV="1">
            <a:off x="6989760" y="5751000"/>
            <a:ext cx="1440" cy="55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6989760" y="1960560"/>
            <a:ext cx="1440" cy="4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6908760" y="584028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 flipV="1">
            <a:off x="7559640" y="5751000"/>
            <a:ext cx="1800" cy="55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7559640" y="1960560"/>
            <a:ext cx="1800" cy="4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7477200" y="584028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2523960" y="5807160"/>
            <a:ext cx="46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 flipH="1">
            <a:off x="7500600" y="5807160"/>
            <a:ext cx="58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2041560" y="5703840"/>
            <a:ext cx="393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1.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2523960" y="5322960"/>
            <a:ext cx="46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 flipH="1">
            <a:off x="7500600" y="5322960"/>
            <a:ext cx="58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2041560" y="5221440"/>
            <a:ext cx="393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1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2523960" y="4840200"/>
            <a:ext cx="46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 flipH="1">
            <a:off x="7500600" y="4840200"/>
            <a:ext cx="58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2041560" y="4737240"/>
            <a:ext cx="393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1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2523960" y="4356000"/>
            <a:ext cx="46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 flipH="1">
            <a:off x="7500600" y="4356000"/>
            <a:ext cx="58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2168640" y="4253040"/>
            <a:ext cx="203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2523960" y="3882960"/>
            <a:ext cx="46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 flipH="1">
            <a:off x="7500600" y="3882960"/>
            <a:ext cx="58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2041560" y="3781440"/>
            <a:ext cx="393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0.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2523960" y="3400560"/>
            <a:ext cx="46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 flipH="1">
            <a:off x="7500600" y="3400560"/>
            <a:ext cx="58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2041560" y="3297240"/>
            <a:ext cx="393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0.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2523960" y="2916360"/>
            <a:ext cx="46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 flipH="1">
            <a:off x="7500600" y="2916360"/>
            <a:ext cx="58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2041560" y="2813040"/>
            <a:ext cx="393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0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2523960" y="2432160"/>
            <a:ext cx="46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 flipH="1">
            <a:off x="7500600" y="2432160"/>
            <a:ext cx="58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2041560" y="2330280"/>
            <a:ext cx="393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0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2523960" y="1960560"/>
            <a:ext cx="46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 flipH="1">
            <a:off x="7500600" y="1960560"/>
            <a:ext cx="58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2214720" y="185724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2523960" y="1960560"/>
            <a:ext cx="5035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2523960" y="1960560"/>
            <a:ext cx="3202200" cy="438120"/>
          </a:xfrm>
          <a:custGeom>
            <a:avLst/>
            <a:gdLst/>
            <a:ahLst/>
            <a:rect l="l" t="t" r="r" b="b"/>
            <a:pathLst>
              <a:path w="2017" h="276">
                <a:moveTo>
                  <a:pt x="0" y="0"/>
                </a:moveTo>
                <a:lnTo>
                  <a:pt x="14" y="0"/>
                </a:lnTo>
                <a:lnTo>
                  <a:pt x="29" y="0"/>
                </a:lnTo>
                <a:lnTo>
                  <a:pt x="43" y="0"/>
                </a:lnTo>
                <a:lnTo>
                  <a:pt x="58" y="0"/>
                </a:lnTo>
                <a:lnTo>
                  <a:pt x="73" y="0"/>
                </a:lnTo>
                <a:lnTo>
                  <a:pt x="95" y="0"/>
                </a:lnTo>
                <a:lnTo>
                  <a:pt x="109" y="0"/>
                </a:lnTo>
                <a:lnTo>
                  <a:pt x="124" y="0"/>
                </a:lnTo>
                <a:lnTo>
                  <a:pt x="138" y="0"/>
                </a:lnTo>
                <a:lnTo>
                  <a:pt x="153" y="0"/>
                </a:lnTo>
                <a:lnTo>
                  <a:pt x="168" y="0"/>
                </a:lnTo>
                <a:lnTo>
                  <a:pt x="190" y="0"/>
                </a:lnTo>
                <a:lnTo>
                  <a:pt x="204" y="0"/>
                </a:lnTo>
                <a:lnTo>
                  <a:pt x="219" y="0"/>
                </a:lnTo>
                <a:lnTo>
                  <a:pt x="233" y="0"/>
                </a:lnTo>
                <a:lnTo>
                  <a:pt x="248" y="0"/>
                </a:lnTo>
                <a:lnTo>
                  <a:pt x="270" y="0"/>
                </a:lnTo>
                <a:lnTo>
                  <a:pt x="285" y="0"/>
                </a:lnTo>
                <a:lnTo>
                  <a:pt x="299" y="0"/>
                </a:lnTo>
                <a:lnTo>
                  <a:pt x="314" y="0"/>
                </a:lnTo>
                <a:lnTo>
                  <a:pt x="328" y="0"/>
                </a:lnTo>
                <a:lnTo>
                  <a:pt x="343" y="0"/>
                </a:lnTo>
                <a:lnTo>
                  <a:pt x="365" y="0"/>
                </a:lnTo>
                <a:lnTo>
                  <a:pt x="380" y="0"/>
                </a:lnTo>
                <a:lnTo>
                  <a:pt x="394" y="0"/>
                </a:lnTo>
                <a:lnTo>
                  <a:pt x="409" y="0"/>
                </a:lnTo>
                <a:lnTo>
                  <a:pt x="423" y="0"/>
                </a:lnTo>
                <a:lnTo>
                  <a:pt x="438" y="0"/>
                </a:lnTo>
                <a:lnTo>
                  <a:pt x="460" y="0"/>
                </a:lnTo>
                <a:lnTo>
                  <a:pt x="475" y="0"/>
                </a:lnTo>
                <a:lnTo>
                  <a:pt x="489" y="0"/>
                </a:lnTo>
                <a:lnTo>
                  <a:pt x="504" y="0"/>
                </a:lnTo>
                <a:lnTo>
                  <a:pt x="518" y="7"/>
                </a:lnTo>
                <a:lnTo>
                  <a:pt x="540" y="14"/>
                </a:lnTo>
                <a:lnTo>
                  <a:pt x="555" y="14"/>
                </a:lnTo>
                <a:lnTo>
                  <a:pt x="570" y="21"/>
                </a:lnTo>
                <a:lnTo>
                  <a:pt x="584" y="21"/>
                </a:lnTo>
                <a:lnTo>
                  <a:pt x="599" y="28"/>
                </a:lnTo>
                <a:lnTo>
                  <a:pt x="614" y="28"/>
                </a:lnTo>
                <a:lnTo>
                  <a:pt x="635" y="35"/>
                </a:lnTo>
                <a:lnTo>
                  <a:pt x="650" y="35"/>
                </a:lnTo>
                <a:lnTo>
                  <a:pt x="665" y="35"/>
                </a:lnTo>
                <a:lnTo>
                  <a:pt x="679" y="42"/>
                </a:lnTo>
                <a:lnTo>
                  <a:pt x="694" y="42"/>
                </a:lnTo>
                <a:lnTo>
                  <a:pt x="716" y="42"/>
                </a:lnTo>
                <a:lnTo>
                  <a:pt x="730" y="49"/>
                </a:lnTo>
                <a:lnTo>
                  <a:pt x="745" y="49"/>
                </a:lnTo>
                <a:lnTo>
                  <a:pt x="760" y="49"/>
                </a:lnTo>
                <a:lnTo>
                  <a:pt x="774" y="56"/>
                </a:lnTo>
                <a:lnTo>
                  <a:pt x="789" y="56"/>
                </a:lnTo>
                <a:lnTo>
                  <a:pt x="811" y="56"/>
                </a:lnTo>
                <a:lnTo>
                  <a:pt x="825" y="64"/>
                </a:lnTo>
                <a:lnTo>
                  <a:pt x="840" y="64"/>
                </a:lnTo>
                <a:lnTo>
                  <a:pt x="855" y="64"/>
                </a:lnTo>
                <a:lnTo>
                  <a:pt x="869" y="71"/>
                </a:lnTo>
                <a:lnTo>
                  <a:pt x="884" y="71"/>
                </a:lnTo>
                <a:lnTo>
                  <a:pt x="906" y="71"/>
                </a:lnTo>
                <a:lnTo>
                  <a:pt x="920" y="71"/>
                </a:lnTo>
                <a:lnTo>
                  <a:pt x="935" y="78"/>
                </a:lnTo>
                <a:lnTo>
                  <a:pt x="950" y="78"/>
                </a:lnTo>
                <a:lnTo>
                  <a:pt x="964" y="78"/>
                </a:lnTo>
                <a:lnTo>
                  <a:pt x="986" y="85"/>
                </a:lnTo>
                <a:lnTo>
                  <a:pt x="1001" y="85"/>
                </a:lnTo>
                <a:lnTo>
                  <a:pt x="1015" y="85"/>
                </a:lnTo>
                <a:lnTo>
                  <a:pt x="1030" y="92"/>
                </a:lnTo>
                <a:lnTo>
                  <a:pt x="1045" y="92"/>
                </a:lnTo>
                <a:lnTo>
                  <a:pt x="1059" y="92"/>
                </a:lnTo>
                <a:lnTo>
                  <a:pt x="1081" y="92"/>
                </a:lnTo>
                <a:lnTo>
                  <a:pt x="1096" y="99"/>
                </a:lnTo>
                <a:lnTo>
                  <a:pt x="1111" y="99"/>
                </a:lnTo>
                <a:lnTo>
                  <a:pt x="1125" y="99"/>
                </a:lnTo>
                <a:lnTo>
                  <a:pt x="1140" y="106"/>
                </a:lnTo>
                <a:lnTo>
                  <a:pt x="1162" y="106"/>
                </a:lnTo>
                <a:lnTo>
                  <a:pt x="1176" y="106"/>
                </a:lnTo>
                <a:lnTo>
                  <a:pt x="1191" y="113"/>
                </a:lnTo>
                <a:lnTo>
                  <a:pt x="1206" y="113"/>
                </a:lnTo>
                <a:lnTo>
                  <a:pt x="1220" y="113"/>
                </a:lnTo>
                <a:lnTo>
                  <a:pt x="1235" y="120"/>
                </a:lnTo>
                <a:lnTo>
                  <a:pt x="1257" y="120"/>
                </a:lnTo>
                <a:lnTo>
                  <a:pt x="1271" y="120"/>
                </a:lnTo>
                <a:lnTo>
                  <a:pt x="1286" y="127"/>
                </a:lnTo>
                <a:lnTo>
                  <a:pt x="1301" y="127"/>
                </a:lnTo>
                <a:lnTo>
                  <a:pt x="1315" y="127"/>
                </a:lnTo>
                <a:lnTo>
                  <a:pt x="1330" y="134"/>
                </a:lnTo>
                <a:lnTo>
                  <a:pt x="1352" y="134"/>
                </a:lnTo>
                <a:lnTo>
                  <a:pt x="1366" y="134"/>
                </a:lnTo>
                <a:lnTo>
                  <a:pt x="1381" y="141"/>
                </a:lnTo>
                <a:lnTo>
                  <a:pt x="1396" y="141"/>
                </a:lnTo>
                <a:lnTo>
                  <a:pt x="1410" y="149"/>
                </a:lnTo>
                <a:lnTo>
                  <a:pt x="1432" y="149"/>
                </a:lnTo>
                <a:lnTo>
                  <a:pt x="1447" y="149"/>
                </a:lnTo>
                <a:lnTo>
                  <a:pt x="1461" y="156"/>
                </a:lnTo>
                <a:lnTo>
                  <a:pt x="1476" y="156"/>
                </a:lnTo>
                <a:lnTo>
                  <a:pt x="1491" y="156"/>
                </a:lnTo>
                <a:lnTo>
                  <a:pt x="1505" y="163"/>
                </a:lnTo>
                <a:lnTo>
                  <a:pt x="1527" y="163"/>
                </a:lnTo>
                <a:lnTo>
                  <a:pt x="1542" y="170"/>
                </a:lnTo>
                <a:lnTo>
                  <a:pt x="1556" y="170"/>
                </a:lnTo>
                <a:lnTo>
                  <a:pt x="1571" y="170"/>
                </a:lnTo>
                <a:lnTo>
                  <a:pt x="1586" y="177"/>
                </a:lnTo>
                <a:lnTo>
                  <a:pt x="1608" y="177"/>
                </a:lnTo>
                <a:lnTo>
                  <a:pt x="1622" y="184"/>
                </a:lnTo>
                <a:lnTo>
                  <a:pt x="1637" y="184"/>
                </a:lnTo>
                <a:lnTo>
                  <a:pt x="1651" y="191"/>
                </a:lnTo>
                <a:lnTo>
                  <a:pt x="1666" y="191"/>
                </a:lnTo>
                <a:lnTo>
                  <a:pt x="1681" y="198"/>
                </a:lnTo>
                <a:lnTo>
                  <a:pt x="1703" y="198"/>
                </a:lnTo>
                <a:lnTo>
                  <a:pt x="1717" y="198"/>
                </a:lnTo>
                <a:lnTo>
                  <a:pt x="1732" y="205"/>
                </a:lnTo>
                <a:lnTo>
                  <a:pt x="1746" y="205"/>
                </a:lnTo>
                <a:lnTo>
                  <a:pt x="1761" y="212"/>
                </a:lnTo>
                <a:lnTo>
                  <a:pt x="1776" y="212"/>
                </a:lnTo>
                <a:lnTo>
                  <a:pt x="1798" y="219"/>
                </a:lnTo>
                <a:lnTo>
                  <a:pt x="1812" y="219"/>
                </a:lnTo>
                <a:lnTo>
                  <a:pt x="1827" y="226"/>
                </a:lnTo>
                <a:lnTo>
                  <a:pt x="1841" y="234"/>
                </a:lnTo>
                <a:lnTo>
                  <a:pt x="1856" y="234"/>
                </a:lnTo>
                <a:lnTo>
                  <a:pt x="1878" y="241"/>
                </a:lnTo>
                <a:lnTo>
                  <a:pt x="1893" y="241"/>
                </a:lnTo>
                <a:lnTo>
                  <a:pt x="1907" y="248"/>
                </a:lnTo>
                <a:lnTo>
                  <a:pt x="1922" y="248"/>
                </a:lnTo>
                <a:lnTo>
                  <a:pt x="1936" y="255"/>
                </a:lnTo>
                <a:lnTo>
                  <a:pt x="1951" y="262"/>
                </a:lnTo>
                <a:lnTo>
                  <a:pt x="1973" y="262"/>
                </a:lnTo>
                <a:lnTo>
                  <a:pt x="1988" y="269"/>
                </a:lnTo>
                <a:lnTo>
                  <a:pt x="2002" y="276"/>
                </a:lnTo>
                <a:lnTo>
                  <a:pt x="2017" y="276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5726160" y="2398680"/>
            <a:ext cx="1820880" cy="3295800"/>
          </a:xfrm>
          <a:custGeom>
            <a:avLst/>
            <a:gdLst/>
            <a:ahLst/>
            <a:rect l="l" t="t" r="r" b="b"/>
            <a:pathLst>
              <a:path w="1147" h="2076">
                <a:moveTo>
                  <a:pt x="0" y="0"/>
                </a:moveTo>
                <a:lnTo>
                  <a:pt x="14" y="7"/>
                </a:lnTo>
                <a:lnTo>
                  <a:pt x="36" y="14"/>
                </a:lnTo>
                <a:lnTo>
                  <a:pt x="51" y="21"/>
                </a:lnTo>
                <a:lnTo>
                  <a:pt x="66" y="21"/>
                </a:lnTo>
                <a:lnTo>
                  <a:pt x="80" y="28"/>
                </a:lnTo>
                <a:lnTo>
                  <a:pt x="95" y="36"/>
                </a:lnTo>
                <a:lnTo>
                  <a:pt x="109" y="43"/>
                </a:lnTo>
                <a:lnTo>
                  <a:pt x="131" y="50"/>
                </a:lnTo>
                <a:lnTo>
                  <a:pt x="146" y="50"/>
                </a:lnTo>
                <a:lnTo>
                  <a:pt x="161" y="57"/>
                </a:lnTo>
                <a:lnTo>
                  <a:pt x="175" y="64"/>
                </a:lnTo>
                <a:lnTo>
                  <a:pt x="190" y="71"/>
                </a:lnTo>
                <a:lnTo>
                  <a:pt x="204" y="78"/>
                </a:lnTo>
                <a:lnTo>
                  <a:pt x="226" y="85"/>
                </a:lnTo>
                <a:lnTo>
                  <a:pt x="241" y="92"/>
                </a:lnTo>
                <a:lnTo>
                  <a:pt x="256" y="99"/>
                </a:lnTo>
                <a:lnTo>
                  <a:pt x="270" y="106"/>
                </a:lnTo>
                <a:lnTo>
                  <a:pt x="285" y="113"/>
                </a:lnTo>
                <a:lnTo>
                  <a:pt x="307" y="121"/>
                </a:lnTo>
                <a:lnTo>
                  <a:pt x="321" y="135"/>
                </a:lnTo>
                <a:lnTo>
                  <a:pt x="336" y="142"/>
                </a:lnTo>
                <a:lnTo>
                  <a:pt x="351" y="149"/>
                </a:lnTo>
                <a:lnTo>
                  <a:pt x="365" y="156"/>
                </a:lnTo>
                <a:lnTo>
                  <a:pt x="380" y="170"/>
                </a:lnTo>
                <a:lnTo>
                  <a:pt x="402" y="177"/>
                </a:lnTo>
                <a:lnTo>
                  <a:pt x="416" y="191"/>
                </a:lnTo>
                <a:lnTo>
                  <a:pt x="431" y="198"/>
                </a:lnTo>
                <a:lnTo>
                  <a:pt x="446" y="213"/>
                </a:lnTo>
                <a:lnTo>
                  <a:pt x="460" y="220"/>
                </a:lnTo>
                <a:lnTo>
                  <a:pt x="482" y="234"/>
                </a:lnTo>
                <a:lnTo>
                  <a:pt x="497" y="248"/>
                </a:lnTo>
                <a:lnTo>
                  <a:pt x="511" y="262"/>
                </a:lnTo>
                <a:lnTo>
                  <a:pt x="526" y="276"/>
                </a:lnTo>
                <a:lnTo>
                  <a:pt x="541" y="291"/>
                </a:lnTo>
                <a:lnTo>
                  <a:pt x="555" y="305"/>
                </a:lnTo>
                <a:lnTo>
                  <a:pt x="577" y="319"/>
                </a:lnTo>
                <a:lnTo>
                  <a:pt x="592" y="333"/>
                </a:lnTo>
                <a:lnTo>
                  <a:pt x="606" y="347"/>
                </a:lnTo>
                <a:lnTo>
                  <a:pt x="621" y="369"/>
                </a:lnTo>
                <a:lnTo>
                  <a:pt x="636" y="390"/>
                </a:lnTo>
                <a:lnTo>
                  <a:pt x="650" y="404"/>
                </a:lnTo>
                <a:lnTo>
                  <a:pt x="672" y="425"/>
                </a:lnTo>
                <a:lnTo>
                  <a:pt x="687" y="446"/>
                </a:lnTo>
                <a:lnTo>
                  <a:pt x="701" y="468"/>
                </a:lnTo>
                <a:lnTo>
                  <a:pt x="716" y="496"/>
                </a:lnTo>
                <a:lnTo>
                  <a:pt x="731" y="517"/>
                </a:lnTo>
                <a:lnTo>
                  <a:pt x="753" y="546"/>
                </a:lnTo>
                <a:lnTo>
                  <a:pt x="767" y="574"/>
                </a:lnTo>
                <a:lnTo>
                  <a:pt x="782" y="602"/>
                </a:lnTo>
                <a:lnTo>
                  <a:pt x="796" y="638"/>
                </a:lnTo>
                <a:lnTo>
                  <a:pt x="811" y="673"/>
                </a:lnTo>
                <a:lnTo>
                  <a:pt x="826" y="709"/>
                </a:lnTo>
                <a:lnTo>
                  <a:pt x="848" y="744"/>
                </a:lnTo>
                <a:lnTo>
                  <a:pt x="862" y="787"/>
                </a:lnTo>
                <a:lnTo>
                  <a:pt x="877" y="829"/>
                </a:lnTo>
                <a:lnTo>
                  <a:pt x="892" y="872"/>
                </a:lnTo>
                <a:lnTo>
                  <a:pt x="906" y="921"/>
                </a:lnTo>
                <a:lnTo>
                  <a:pt x="928" y="971"/>
                </a:lnTo>
                <a:lnTo>
                  <a:pt x="943" y="1028"/>
                </a:lnTo>
                <a:lnTo>
                  <a:pt x="957" y="1084"/>
                </a:lnTo>
                <a:lnTo>
                  <a:pt x="972" y="1148"/>
                </a:lnTo>
                <a:lnTo>
                  <a:pt x="987" y="1219"/>
                </a:lnTo>
                <a:lnTo>
                  <a:pt x="1001" y="1290"/>
                </a:lnTo>
                <a:lnTo>
                  <a:pt x="1023" y="1361"/>
                </a:lnTo>
                <a:lnTo>
                  <a:pt x="1038" y="1438"/>
                </a:lnTo>
                <a:lnTo>
                  <a:pt x="1052" y="1524"/>
                </a:lnTo>
                <a:lnTo>
                  <a:pt x="1067" y="1609"/>
                </a:lnTo>
                <a:lnTo>
                  <a:pt x="1082" y="1701"/>
                </a:lnTo>
                <a:lnTo>
                  <a:pt x="1096" y="1793"/>
                </a:lnTo>
                <a:lnTo>
                  <a:pt x="1118" y="1885"/>
                </a:lnTo>
                <a:lnTo>
                  <a:pt x="1133" y="1977"/>
                </a:lnTo>
                <a:lnTo>
                  <a:pt x="1147" y="2076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4119480" y="6367320"/>
            <a:ext cx="1508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gle, degre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 rot="16200000">
            <a:off x="790920" y="3361320"/>
            <a:ext cx="2131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ase of tpp, radia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"/>
          <p:cNvSpPr/>
          <p:nvPr/>
        </p:nvSpPr>
        <p:spPr>
          <a:xfrm>
            <a:off x="5101560" y="380880"/>
            <a:ext cx="315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uid-Solid tpp ,t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effs (mag) water-ste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locity-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2600280" y="2036880"/>
            <a:ext cx="5035680" cy="384624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2600280" y="2036880"/>
            <a:ext cx="5035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2600280" y="2036880"/>
            <a:ext cx="5035680" cy="3846240"/>
          </a:xfrm>
          <a:custGeom>
            <a:avLst/>
            <a:gdLst/>
            <a:ahLst/>
            <a:rect l="l" t="t" r="r" b="b"/>
            <a:pathLst>
              <a:path w="434" h="342">
                <a:moveTo>
                  <a:pt x="0" y="342"/>
                </a:moveTo>
                <a:lnTo>
                  <a:pt x="434" y="342"/>
                </a:lnTo>
                <a:lnTo>
                  <a:pt x="434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 flipV="1">
            <a:off x="2600280" y="2036880"/>
            <a:ext cx="1800" cy="3846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2600280" y="5883120"/>
            <a:ext cx="5035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 flipV="1">
            <a:off x="2600280" y="2036880"/>
            <a:ext cx="1800" cy="3846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 flipV="1">
            <a:off x="2600280" y="5827680"/>
            <a:ext cx="1800" cy="55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2600280" y="2036880"/>
            <a:ext cx="1800" cy="4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2565360" y="591660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 flipV="1">
            <a:off x="3156120" y="5827680"/>
            <a:ext cx="1440" cy="55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3156120" y="2036880"/>
            <a:ext cx="1440" cy="4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3075120" y="591660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 flipV="1">
            <a:off x="3713040" y="5827680"/>
            <a:ext cx="1800" cy="55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3713040" y="2036880"/>
            <a:ext cx="1800" cy="4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3632040" y="591660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 flipV="1">
            <a:off x="4270320" y="5827680"/>
            <a:ext cx="1800" cy="55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4270320" y="2036880"/>
            <a:ext cx="1800" cy="4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4189320" y="591660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 flipV="1">
            <a:off x="4827600" y="5827680"/>
            <a:ext cx="1440" cy="55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4827600" y="2036880"/>
            <a:ext cx="1440" cy="4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4746600" y="591660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 flipV="1">
            <a:off x="5396040" y="5827680"/>
            <a:ext cx="1440" cy="55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5396040" y="2036880"/>
            <a:ext cx="1440" cy="4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5315040" y="591660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 flipV="1">
            <a:off x="5952960" y="5827680"/>
            <a:ext cx="1800" cy="55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5952960" y="2036880"/>
            <a:ext cx="1800" cy="4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5872320" y="591660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 flipV="1">
            <a:off x="6510240" y="5827680"/>
            <a:ext cx="1800" cy="55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6510240" y="2036880"/>
            <a:ext cx="1800" cy="4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6427800" y="591660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 flipV="1">
            <a:off x="7066080" y="5827680"/>
            <a:ext cx="1440" cy="55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7066080" y="2036880"/>
            <a:ext cx="1440" cy="4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6985080" y="591660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 flipV="1">
            <a:off x="7635960" y="5827680"/>
            <a:ext cx="1440" cy="55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7635960" y="2036880"/>
            <a:ext cx="1440" cy="4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7553160" y="591660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2600280" y="5883120"/>
            <a:ext cx="46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 flipH="1">
            <a:off x="7576920" y="5883120"/>
            <a:ext cx="58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2330280" y="579276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2600280" y="5332320"/>
            <a:ext cx="46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 flipH="1">
            <a:off x="7576920" y="5332320"/>
            <a:ext cx="58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203560" y="5241960"/>
            <a:ext cx="317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2600280" y="4781520"/>
            <a:ext cx="46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 flipH="1">
            <a:off x="7576920" y="4781520"/>
            <a:ext cx="58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2330280" y="469116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2600280" y="4229280"/>
            <a:ext cx="46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 flipH="1">
            <a:off x="7576920" y="4229280"/>
            <a:ext cx="58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2203560" y="4140360"/>
            <a:ext cx="317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2600280" y="3678120"/>
            <a:ext cx="46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 flipH="1">
            <a:off x="7576920" y="3678120"/>
            <a:ext cx="58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2330280" y="358920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2600280" y="3127320"/>
            <a:ext cx="46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 flipH="1">
            <a:off x="7576920" y="3127320"/>
            <a:ext cx="58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2203560" y="3036960"/>
            <a:ext cx="317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2600280" y="2576520"/>
            <a:ext cx="46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 flipH="1">
            <a:off x="7576920" y="2576520"/>
            <a:ext cx="58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2330280" y="248616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2600280" y="2036880"/>
            <a:ext cx="46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 flipH="1">
            <a:off x="7576920" y="2036880"/>
            <a:ext cx="58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2203560" y="1946160"/>
            <a:ext cx="317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2600280" y="2036880"/>
            <a:ext cx="5035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2600280" y="2036880"/>
            <a:ext cx="5035680" cy="3846240"/>
          </a:xfrm>
          <a:custGeom>
            <a:avLst/>
            <a:gdLst/>
            <a:ahLst/>
            <a:rect l="l" t="t" r="r" b="b"/>
            <a:pathLst>
              <a:path w="434" h="342">
                <a:moveTo>
                  <a:pt x="0" y="342"/>
                </a:moveTo>
                <a:lnTo>
                  <a:pt x="434" y="342"/>
                </a:lnTo>
                <a:lnTo>
                  <a:pt x="434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 flipV="1">
            <a:off x="2600280" y="2036880"/>
            <a:ext cx="1800" cy="3846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2600280" y="4533840"/>
            <a:ext cx="3202200" cy="1338480"/>
          </a:xfrm>
          <a:custGeom>
            <a:avLst/>
            <a:gdLst/>
            <a:ahLst/>
            <a:rect l="l" t="t" r="r" b="b"/>
            <a:pathLst>
              <a:path w="2017" h="843">
                <a:moveTo>
                  <a:pt x="0" y="800"/>
                </a:moveTo>
                <a:lnTo>
                  <a:pt x="14" y="800"/>
                </a:lnTo>
                <a:lnTo>
                  <a:pt x="29" y="800"/>
                </a:lnTo>
                <a:lnTo>
                  <a:pt x="43" y="800"/>
                </a:lnTo>
                <a:lnTo>
                  <a:pt x="58" y="800"/>
                </a:lnTo>
                <a:lnTo>
                  <a:pt x="73" y="800"/>
                </a:lnTo>
                <a:lnTo>
                  <a:pt x="95" y="800"/>
                </a:lnTo>
                <a:lnTo>
                  <a:pt x="109" y="808"/>
                </a:lnTo>
                <a:lnTo>
                  <a:pt x="124" y="808"/>
                </a:lnTo>
                <a:lnTo>
                  <a:pt x="138" y="808"/>
                </a:lnTo>
                <a:lnTo>
                  <a:pt x="153" y="808"/>
                </a:lnTo>
                <a:lnTo>
                  <a:pt x="168" y="808"/>
                </a:lnTo>
                <a:lnTo>
                  <a:pt x="190" y="808"/>
                </a:lnTo>
                <a:lnTo>
                  <a:pt x="204" y="808"/>
                </a:lnTo>
                <a:lnTo>
                  <a:pt x="219" y="808"/>
                </a:lnTo>
                <a:lnTo>
                  <a:pt x="233" y="808"/>
                </a:lnTo>
                <a:lnTo>
                  <a:pt x="248" y="808"/>
                </a:lnTo>
                <a:lnTo>
                  <a:pt x="270" y="808"/>
                </a:lnTo>
                <a:lnTo>
                  <a:pt x="285" y="808"/>
                </a:lnTo>
                <a:lnTo>
                  <a:pt x="299" y="808"/>
                </a:lnTo>
                <a:lnTo>
                  <a:pt x="314" y="808"/>
                </a:lnTo>
                <a:lnTo>
                  <a:pt x="328" y="808"/>
                </a:lnTo>
                <a:lnTo>
                  <a:pt x="343" y="808"/>
                </a:lnTo>
                <a:lnTo>
                  <a:pt x="365" y="800"/>
                </a:lnTo>
                <a:lnTo>
                  <a:pt x="380" y="800"/>
                </a:lnTo>
                <a:lnTo>
                  <a:pt x="394" y="800"/>
                </a:lnTo>
                <a:lnTo>
                  <a:pt x="409" y="800"/>
                </a:lnTo>
                <a:lnTo>
                  <a:pt x="423" y="800"/>
                </a:lnTo>
                <a:lnTo>
                  <a:pt x="438" y="800"/>
                </a:lnTo>
                <a:lnTo>
                  <a:pt x="460" y="800"/>
                </a:lnTo>
                <a:lnTo>
                  <a:pt x="475" y="793"/>
                </a:lnTo>
                <a:lnTo>
                  <a:pt x="489" y="786"/>
                </a:lnTo>
                <a:lnTo>
                  <a:pt x="504" y="765"/>
                </a:lnTo>
                <a:lnTo>
                  <a:pt x="518" y="765"/>
                </a:lnTo>
                <a:lnTo>
                  <a:pt x="540" y="786"/>
                </a:lnTo>
                <a:lnTo>
                  <a:pt x="555" y="800"/>
                </a:lnTo>
                <a:lnTo>
                  <a:pt x="570" y="815"/>
                </a:lnTo>
                <a:lnTo>
                  <a:pt x="584" y="822"/>
                </a:lnTo>
                <a:lnTo>
                  <a:pt x="599" y="829"/>
                </a:lnTo>
                <a:lnTo>
                  <a:pt x="614" y="836"/>
                </a:lnTo>
                <a:lnTo>
                  <a:pt x="635" y="836"/>
                </a:lnTo>
                <a:lnTo>
                  <a:pt x="650" y="843"/>
                </a:lnTo>
                <a:lnTo>
                  <a:pt x="665" y="843"/>
                </a:lnTo>
                <a:lnTo>
                  <a:pt x="679" y="843"/>
                </a:lnTo>
                <a:lnTo>
                  <a:pt x="694" y="843"/>
                </a:lnTo>
                <a:lnTo>
                  <a:pt x="716" y="843"/>
                </a:lnTo>
                <a:lnTo>
                  <a:pt x="730" y="836"/>
                </a:lnTo>
                <a:lnTo>
                  <a:pt x="745" y="836"/>
                </a:lnTo>
                <a:lnTo>
                  <a:pt x="760" y="836"/>
                </a:lnTo>
                <a:lnTo>
                  <a:pt x="774" y="829"/>
                </a:lnTo>
                <a:lnTo>
                  <a:pt x="789" y="829"/>
                </a:lnTo>
                <a:lnTo>
                  <a:pt x="811" y="829"/>
                </a:lnTo>
                <a:lnTo>
                  <a:pt x="825" y="829"/>
                </a:lnTo>
                <a:lnTo>
                  <a:pt x="840" y="822"/>
                </a:lnTo>
                <a:lnTo>
                  <a:pt x="855" y="822"/>
                </a:lnTo>
                <a:lnTo>
                  <a:pt x="869" y="822"/>
                </a:lnTo>
                <a:lnTo>
                  <a:pt x="884" y="822"/>
                </a:lnTo>
                <a:lnTo>
                  <a:pt x="906" y="815"/>
                </a:lnTo>
                <a:lnTo>
                  <a:pt x="920" y="815"/>
                </a:lnTo>
                <a:lnTo>
                  <a:pt x="935" y="815"/>
                </a:lnTo>
                <a:lnTo>
                  <a:pt x="950" y="808"/>
                </a:lnTo>
                <a:lnTo>
                  <a:pt x="964" y="800"/>
                </a:lnTo>
                <a:lnTo>
                  <a:pt x="986" y="758"/>
                </a:lnTo>
                <a:lnTo>
                  <a:pt x="1001" y="701"/>
                </a:lnTo>
                <a:lnTo>
                  <a:pt x="1015" y="616"/>
                </a:lnTo>
                <a:lnTo>
                  <a:pt x="1030" y="425"/>
                </a:lnTo>
                <a:lnTo>
                  <a:pt x="1045" y="0"/>
                </a:lnTo>
                <a:lnTo>
                  <a:pt x="1059" y="127"/>
                </a:lnTo>
                <a:lnTo>
                  <a:pt x="1081" y="411"/>
                </a:lnTo>
                <a:lnTo>
                  <a:pt x="1096" y="531"/>
                </a:lnTo>
                <a:lnTo>
                  <a:pt x="1111" y="595"/>
                </a:lnTo>
                <a:lnTo>
                  <a:pt x="1125" y="637"/>
                </a:lnTo>
                <a:lnTo>
                  <a:pt x="1140" y="659"/>
                </a:lnTo>
                <a:lnTo>
                  <a:pt x="1162" y="680"/>
                </a:lnTo>
                <a:lnTo>
                  <a:pt x="1176" y="694"/>
                </a:lnTo>
                <a:lnTo>
                  <a:pt x="1191" y="701"/>
                </a:lnTo>
                <a:lnTo>
                  <a:pt x="1206" y="708"/>
                </a:lnTo>
                <a:lnTo>
                  <a:pt x="1220" y="715"/>
                </a:lnTo>
                <a:lnTo>
                  <a:pt x="1235" y="723"/>
                </a:lnTo>
                <a:lnTo>
                  <a:pt x="1257" y="730"/>
                </a:lnTo>
                <a:lnTo>
                  <a:pt x="1271" y="730"/>
                </a:lnTo>
                <a:lnTo>
                  <a:pt x="1286" y="737"/>
                </a:lnTo>
                <a:lnTo>
                  <a:pt x="1301" y="737"/>
                </a:lnTo>
                <a:lnTo>
                  <a:pt x="1315" y="744"/>
                </a:lnTo>
                <a:lnTo>
                  <a:pt x="1330" y="744"/>
                </a:lnTo>
                <a:lnTo>
                  <a:pt x="1352" y="744"/>
                </a:lnTo>
                <a:lnTo>
                  <a:pt x="1366" y="751"/>
                </a:lnTo>
                <a:lnTo>
                  <a:pt x="1381" y="751"/>
                </a:lnTo>
                <a:lnTo>
                  <a:pt x="1396" y="751"/>
                </a:lnTo>
                <a:lnTo>
                  <a:pt x="1410" y="751"/>
                </a:lnTo>
                <a:lnTo>
                  <a:pt x="1432" y="758"/>
                </a:lnTo>
                <a:lnTo>
                  <a:pt x="1447" y="758"/>
                </a:lnTo>
                <a:lnTo>
                  <a:pt x="1461" y="758"/>
                </a:lnTo>
                <a:lnTo>
                  <a:pt x="1476" y="758"/>
                </a:lnTo>
                <a:lnTo>
                  <a:pt x="1491" y="758"/>
                </a:lnTo>
                <a:lnTo>
                  <a:pt x="1505" y="758"/>
                </a:lnTo>
                <a:lnTo>
                  <a:pt x="1527" y="758"/>
                </a:lnTo>
                <a:lnTo>
                  <a:pt x="1542" y="765"/>
                </a:lnTo>
                <a:lnTo>
                  <a:pt x="1556" y="765"/>
                </a:lnTo>
                <a:lnTo>
                  <a:pt x="1571" y="765"/>
                </a:lnTo>
                <a:lnTo>
                  <a:pt x="1586" y="765"/>
                </a:lnTo>
                <a:lnTo>
                  <a:pt x="1608" y="765"/>
                </a:lnTo>
                <a:lnTo>
                  <a:pt x="1622" y="765"/>
                </a:lnTo>
                <a:lnTo>
                  <a:pt x="1637" y="765"/>
                </a:lnTo>
                <a:lnTo>
                  <a:pt x="1651" y="765"/>
                </a:lnTo>
                <a:lnTo>
                  <a:pt x="1666" y="765"/>
                </a:lnTo>
                <a:lnTo>
                  <a:pt x="1681" y="765"/>
                </a:lnTo>
                <a:lnTo>
                  <a:pt x="1703" y="765"/>
                </a:lnTo>
                <a:lnTo>
                  <a:pt x="1717" y="765"/>
                </a:lnTo>
                <a:lnTo>
                  <a:pt x="1732" y="765"/>
                </a:lnTo>
                <a:lnTo>
                  <a:pt x="1746" y="772"/>
                </a:lnTo>
                <a:lnTo>
                  <a:pt x="1761" y="772"/>
                </a:lnTo>
                <a:lnTo>
                  <a:pt x="1776" y="772"/>
                </a:lnTo>
                <a:lnTo>
                  <a:pt x="1798" y="772"/>
                </a:lnTo>
                <a:lnTo>
                  <a:pt x="1812" y="772"/>
                </a:lnTo>
                <a:lnTo>
                  <a:pt x="1827" y="772"/>
                </a:lnTo>
                <a:lnTo>
                  <a:pt x="1841" y="772"/>
                </a:lnTo>
                <a:lnTo>
                  <a:pt x="1856" y="772"/>
                </a:lnTo>
                <a:lnTo>
                  <a:pt x="1878" y="772"/>
                </a:lnTo>
                <a:lnTo>
                  <a:pt x="1893" y="772"/>
                </a:lnTo>
                <a:lnTo>
                  <a:pt x="1907" y="772"/>
                </a:lnTo>
                <a:lnTo>
                  <a:pt x="1922" y="772"/>
                </a:lnTo>
                <a:lnTo>
                  <a:pt x="1936" y="772"/>
                </a:lnTo>
                <a:lnTo>
                  <a:pt x="1951" y="772"/>
                </a:lnTo>
                <a:lnTo>
                  <a:pt x="1973" y="772"/>
                </a:lnTo>
                <a:lnTo>
                  <a:pt x="1988" y="772"/>
                </a:lnTo>
                <a:lnTo>
                  <a:pt x="2002" y="772"/>
                </a:lnTo>
                <a:lnTo>
                  <a:pt x="2017" y="772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5802480" y="5759280"/>
            <a:ext cx="1820520" cy="113040"/>
          </a:xfrm>
          <a:custGeom>
            <a:avLst/>
            <a:gdLst/>
            <a:ahLst/>
            <a:rect l="l" t="t" r="r" b="b"/>
            <a:pathLst>
              <a:path w="1147" h="71">
                <a:moveTo>
                  <a:pt x="0" y="0"/>
                </a:moveTo>
                <a:lnTo>
                  <a:pt x="14" y="0"/>
                </a:lnTo>
                <a:lnTo>
                  <a:pt x="36" y="0"/>
                </a:lnTo>
                <a:lnTo>
                  <a:pt x="51" y="0"/>
                </a:lnTo>
                <a:lnTo>
                  <a:pt x="66" y="0"/>
                </a:lnTo>
                <a:lnTo>
                  <a:pt x="80" y="0"/>
                </a:lnTo>
                <a:lnTo>
                  <a:pt x="95" y="0"/>
                </a:lnTo>
                <a:lnTo>
                  <a:pt x="109" y="0"/>
                </a:lnTo>
                <a:lnTo>
                  <a:pt x="131" y="0"/>
                </a:lnTo>
                <a:lnTo>
                  <a:pt x="146" y="0"/>
                </a:lnTo>
                <a:lnTo>
                  <a:pt x="161" y="0"/>
                </a:lnTo>
                <a:lnTo>
                  <a:pt x="175" y="0"/>
                </a:lnTo>
                <a:lnTo>
                  <a:pt x="190" y="0"/>
                </a:lnTo>
                <a:lnTo>
                  <a:pt x="204" y="0"/>
                </a:lnTo>
                <a:lnTo>
                  <a:pt x="226" y="0"/>
                </a:lnTo>
                <a:lnTo>
                  <a:pt x="241" y="0"/>
                </a:lnTo>
                <a:lnTo>
                  <a:pt x="256" y="0"/>
                </a:lnTo>
                <a:lnTo>
                  <a:pt x="270" y="0"/>
                </a:lnTo>
                <a:lnTo>
                  <a:pt x="285" y="0"/>
                </a:lnTo>
                <a:lnTo>
                  <a:pt x="307" y="0"/>
                </a:lnTo>
                <a:lnTo>
                  <a:pt x="321" y="7"/>
                </a:lnTo>
                <a:lnTo>
                  <a:pt x="336" y="7"/>
                </a:lnTo>
                <a:lnTo>
                  <a:pt x="351" y="7"/>
                </a:lnTo>
                <a:lnTo>
                  <a:pt x="365" y="7"/>
                </a:lnTo>
                <a:lnTo>
                  <a:pt x="380" y="7"/>
                </a:lnTo>
                <a:lnTo>
                  <a:pt x="402" y="7"/>
                </a:lnTo>
                <a:lnTo>
                  <a:pt x="416" y="7"/>
                </a:lnTo>
                <a:lnTo>
                  <a:pt x="431" y="7"/>
                </a:lnTo>
                <a:lnTo>
                  <a:pt x="446" y="7"/>
                </a:lnTo>
                <a:lnTo>
                  <a:pt x="460" y="7"/>
                </a:lnTo>
                <a:lnTo>
                  <a:pt x="482" y="7"/>
                </a:lnTo>
                <a:lnTo>
                  <a:pt x="497" y="7"/>
                </a:lnTo>
                <a:lnTo>
                  <a:pt x="511" y="7"/>
                </a:lnTo>
                <a:lnTo>
                  <a:pt x="526" y="7"/>
                </a:lnTo>
                <a:lnTo>
                  <a:pt x="541" y="7"/>
                </a:lnTo>
                <a:lnTo>
                  <a:pt x="555" y="7"/>
                </a:lnTo>
                <a:lnTo>
                  <a:pt x="577" y="7"/>
                </a:lnTo>
                <a:lnTo>
                  <a:pt x="592" y="7"/>
                </a:lnTo>
                <a:lnTo>
                  <a:pt x="606" y="7"/>
                </a:lnTo>
                <a:lnTo>
                  <a:pt x="621" y="7"/>
                </a:lnTo>
                <a:lnTo>
                  <a:pt x="636" y="7"/>
                </a:lnTo>
                <a:lnTo>
                  <a:pt x="650" y="7"/>
                </a:lnTo>
                <a:lnTo>
                  <a:pt x="672" y="7"/>
                </a:lnTo>
                <a:lnTo>
                  <a:pt x="687" y="7"/>
                </a:lnTo>
                <a:lnTo>
                  <a:pt x="701" y="7"/>
                </a:lnTo>
                <a:lnTo>
                  <a:pt x="716" y="7"/>
                </a:lnTo>
                <a:lnTo>
                  <a:pt x="731" y="7"/>
                </a:lnTo>
                <a:lnTo>
                  <a:pt x="753" y="7"/>
                </a:lnTo>
                <a:lnTo>
                  <a:pt x="767" y="7"/>
                </a:lnTo>
                <a:lnTo>
                  <a:pt x="782" y="7"/>
                </a:lnTo>
                <a:lnTo>
                  <a:pt x="796" y="7"/>
                </a:lnTo>
                <a:lnTo>
                  <a:pt x="811" y="7"/>
                </a:lnTo>
                <a:lnTo>
                  <a:pt x="826" y="7"/>
                </a:lnTo>
                <a:lnTo>
                  <a:pt x="848" y="7"/>
                </a:lnTo>
                <a:lnTo>
                  <a:pt x="862" y="7"/>
                </a:lnTo>
                <a:lnTo>
                  <a:pt x="877" y="7"/>
                </a:lnTo>
                <a:lnTo>
                  <a:pt x="892" y="7"/>
                </a:lnTo>
                <a:lnTo>
                  <a:pt x="906" y="7"/>
                </a:lnTo>
                <a:lnTo>
                  <a:pt x="928" y="7"/>
                </a:lnTo>
                <a:lnTo>
                  <a:pt x="943" y="7"/>
                </a:lnTo>
                <a:lnTo>
                  <a:pt x="957" y="7"/>
                </a:lnTo>
                <a:lnTo>
                  <a:pt x="972" y="7"/>
                </a:lnTo>
                <a:lnTo>
                  <a:pt x="987" y="7"/>
                </a:lnTo>
                <a:lnTo>
                  <a:pt x="1001" y="7"/>
                </a:lnTo>
                <a:lnTo>
                  <a:pt x="1023" y="7"/>
                </a:lnTo>
                <a:lnTo>
                  <a:pt x="1038" y="7"/>
                </a:lnTo>
                <a:lnTo>
                  <a:pt x="1052" y="14"/>
                </a:lnTo>
                <a:lnTo>
                  <a:pt x="1067" y="14"/>
                </a:lnTo>
                <a:lnTo>
                  <a:pt x="1082" y="14"/>
                </a:lnTo>
                <a:lnTo>
                  <a:pt x="1096" y="21"/>
                </a:lnTo>
                <a:lnTo>
                  <a:pt x="1118" y="36"/>
                </a:lnTo>
                <a:lnTo>
                  <a:pt x="1133" y="50"/>
                </a:lnTo>
                <a:lnTo>
                  <a:pt x="1147" y="71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2600280" y="2103480"/>
            <a:ext cx="3202200" cy="3779640"/>
          </a:xfrm>
          <a:custGeom>
            <a:avLst/>
            <a:gdLst/>
            <a:ahLst/>
            <a:rect l="l" t="t" r="r" b="b"/>
            <a:pathLst>
              <a:path w="2017" h="2381">
                <a:moveTo>
                  <a:pt x="0" y="2381"/>
                </a:moveTo>
                <a:lnTo>
                  <a:pt x="14" y="2374"/>
                </a:lnTo>
                <a:lnTo>
                  <a:pt x="29" y="2374"/>
                </a:lnTo>
                <a:lnTo>
                  <a:pt x="43" y="2374"/>
                </a:lnTo>
                <a:lnTo>
                  <a:pt x="58" y="2374"/>
                </a:lnTo>
                <a:lnTo>
                  <a:pt x="73" y="2367"/>
                </a:lnTo>
                <a:lnTo>
                  <a:pt x="95" y="2367"/>
                </a:lnTo>
                <a:lnTo>
                  <a:pt x="109" y="2367"/>
                </a:lnTo>
                <a:lnTo>
                  <a:pt x="124" y="2367"/>
                </a:lnTo>
                <a:lnTo>
                  <a:pt x="138" y="2367"/>
                </a:lnTo>
                <a:lnTo>
                  <a:pt x="153" y="2360"/>
                </a:lnTo>
                <a:lnTo>
                  <a:pt x="168" y="2360"/>
                </a:lnTo>
                <a:lnTo>
                  <a:pt x="190" y="2360"/>
                </a:lnTo>
                <a:lnTo>
                  <a:pt x="204" y="2360"/>
                </a:lnTo>
                <a:lnTo>
                  <a:pt x="219" y="2360"/>
                </a:lnTo>
                <a:lnTo>
                  <a:pt x="233" y="2353"/>
                </a:lnTo>
                <a:lnTo>
                  <a:pt x="248" y="2353"/>
                </a:lnTo>
                <a:lnTo>
                  <a:pt x="270" y="2353"/>
                </a:lnTo>
                <a:lnTo>
                  <a:pt x="285" y="2353"/>
                </a:lnTo>
                <a:lnTo>
                  <a:pt x="299" y="2353"/>
                </a:lnTo>
                <a:lnTo>
                  <a:pt x="314" y="2346"/>
                </a:lnTo>
                <a:lnTo>
                  <a:pt x="328" y="2346"/>
                </a:lnTo>
                <a:lnTo>
                  <a:pt x="343" y="2346"/>
                </a:lnTo>
                <a:lnTo>
                  <a:pt x="365" y="2346"/>
                </a:lnTo>
                <a:lnTo>
                  <a:pt x="380" y="2346"/>
                </a:lnTo>
                <a:lnTo>
                  <a:pt x="394" y="2339"/>
                </a:lnTo>
                <a:lnTo>
                  <a:pt x="409" y="2339"/>
                </a:lnTo>
                <a:lnTo>
                  <a:pt x="423" y="2339"/>
                </a:lnTo>
                <a:lnTo>
                  <a:pt x="438" y="2339"/>
                </a:lnTo>
                <a:lnTo>
                  <a:pt x="460" y="2339"/>
                </a:lnTo>
                <a:lnTo>
                  <a:pt x="475" y="2339"/>
                </a:lnTo>
                <a:lnTo>
                  <a:pt x="489" y="2346"/>
                </a:lnTo>
                <a:lnTo>
                  <a:pt x="504" y="2360"/>
                </a:lnTo>
                <a:lnTo>
                  <a:pt x="518" y="2324"/>
                </a:lnTo>
                <a:lnTo>
                  <a:pt x="540" y="2303"/>
                </a:lnTo>
                <a:lnTo>
                  <a:pt x="555" y="2303"/>
                </a:lnTo>
                <a:lnTo>
                  <a:pt x="570" y="2296"/>
                </a:lnTo>
                <a:lnTo>
                  <a:pt x="584" y="2296"/>
                </a:lnTo>
                <a:lnTo>
                  <a:pt x="599" y="2296"/>
                </a:lnTo>
                <a:lnTo>
                  <a:pt x="614" y="2296"/>
                </a:lnTo>
                <a:lnTo>
                  <a:pt x="635" y="2303"/>
                </a:lnTo>
                <a:lnTo>
                  <a:pt x="650" y="2303"/>
                </a:lnTo>
                <a:lnTo>
                  <a:pt x="665" y="2303"/>
                </a:lnTo>
                <a:lnTo>
                  <a:pt x="679" y="2303"/>
                </a:lnTo>
                <a:lnTo>
                  <a:pt x="694" y="2296"/>
                </a:lnTo>
                <a:lnTo>
                  <a:pt x="716" y="2296"/>
                </a:lnTo>
                <a:lnTo>
                  <a:pt x="730" y="2296"/>
                </a:lnTo>
                <a:lnTo>
                  <a:pt x="745" y="2296"/>
                </a:lnTo>
                <a:lnTo>
                  <a:pt x="760" y="2296"/>
                </a:lnTo>
                <a:lnTo>
                  <a:pt x="774" y="2296"/>
                </a:lnTo>
                <a:lnTo>
                  <a:pt x="789" y="2296"/>
                </a:lnTo>
                <a:lnTo>
                  <a:pt x="811" y="2296"/>
                </a:lnTo>
                <a:lnTo>
                  <a:pt x="825" y="2289"/>
                </a:lnTo>
                <a:lnTo>
                  <a:pt x="840" y="2289"/>
                </a:lnTo>
                <a:lnTo>
                  <a:pt x="855" y="2289"/>
                </a:lnTo>
                <a:lnTo>
                  <a:pt x="869" y="2282"/>
                </a:lnTo>
                <a:lnTo>
                  <a:pt x="884" y="2282"/>
                </a:lnTo>
                <a:lnTo>
                  <a:pt x="906" y="2275"/>
                </a:lnTo>
                <a:lnTo>
                  <a:pt x="920" y="2268"/>
                </a:lnTo>
                <a:lnTo>
                  <a:pt x="935" y="2261"/>
                </a:lnTo>
                <a:lnTo>
                  <a:pt x="950" y="2254"/>
                </a:lnTo>
                <a:lnTo>
                  <a:pt x="964" y="2232"/>
                </a:lnTo>
                <a:lnTo>
                  <a:pt x="986" y="2098"/>
                </a:lnTo>
                <a:lnTo>
                  <a:pt x="1001" y="1949"/>
                </a:lnTo>
                <a:lnTo>
                  <a:pt x="1015" y="1701"/>
                </a:lnTo>
                <a:lnTo>
                  <a:pt x="1030" y="1176"/>
                </a:lnTo>
                <a:lnTo>
                  <a:pt x="1045" y="0"/>
                </a:lnTo>
                <a:lnTo>
                  <a:pt x="1059" y="383"/>
                </a:lnTo>
                <a:lnTo>
                  <a:pt x="1081" y="1184"/>
                </a:lnTo>
                <a:lnTo>
                  <a:pt x="1096" y="1531"/>
                </a:lnTo>
                <a:lnTo>
                  <a:pt x="1111" y="1715"/>
                </a:lnTo>
                <a:lnTo>
                  <a:pt x="1125" y="1821"/>
                </a:lnTo>
                <a:lnTo>
                  <a:pt x="1140" y="1892"/>
                </a:lnTo>
                <a:lnTo>
                  <a:pt x="1162" y="1949"/>
                </a:lnTo>
                <a:lnTo>
                  <a:pt x="1176" y="1984"/>
                </a:lnTo>
                <a:lnTo>
                  <a:pt x="1191" y="2020"/>
                </a:lnTo>
                <a:lnTo>
                  <a:pt x="1206" y="2041"/>
                </a:lnTo>
                <a:lnTo>
                  <a:pt x="1220" y="2062"/>
                </a:lnTo>
                <a:lnTo>
                  <a:pt x="1235" y="2076"/>
                </a:lnTo>
                <a:lnTo>
                  <a:pt x="1257" y="2091"/>
                </a:lnTo>
                <a:lnTo>
                  <a:pt x="1271" y="2105"/>
                </a:lnTo>
                <a:lnTo>
                  <a:pt x="1286" y="2112"/>
                </a:lnTo>
                <a:lnTo>
                  <a:pt x="1301" y="2126"/>
                </a:lnTo>
                <a:lnTo>
                  <a:pt x="1315" y="2133"/>
                </a:lnTo>
                <a:lnTo>
                  <a:pt x="1330" y="2140"/>
                </a:lnTo>
                <a:lnTo>
                  <a:pt x="1352" y="2147"/>
                </a:lnTo>
                <a:lnTo>
                  <a:pt x="1366" y="2154"/>
                </a:lnTo>
                <a:lnTo>
                  <a:pt x="1381" y="2154"/>
                </a:lnTo>
                <a:lnTo>
                  <a:pt x="1396" y="2161"/>
                </a:lnTo>
                <a:lnTo>
                  <a:pt x="1410" y="2168"/>
                </a:lnTo>
                <a:lnTo>
                  <a:pt x="1432" y="2168"/>
                </a:lnTo>
                <a:lnTo>
                  <a:pt x="1447" y="2176"/>
                </a:lnTo>
                <a:lnTo>
                  <a:pt x="1461" y="2176"/>
                </a:lnTo>
                <a:lnTo>
                  <a:pt x="1476" y="2183"/>
                </a:lnTo>
                <a:lnTo>
                  <a:pt x="1491" y="2183"/>
                </a:lnTo>
                <a:lnTo>
                  <a:pt x="1505" y="2183"/>
                </a:lnTo>
                <a:lnTo>
                  <a:pt x="1527" y="2190"/>
                </a:lnTo>
                <a:lnTo>
                  <a:pt x="1542" y="2190"/>
                </a:lnTo>
                <a:lnTo>
                  <a:pt x="1556" y="2190"/>
                </a:lnTo>
                <a:lnTo>
                  <a:pt x="1571" y="2197"/>
                </a:lnTo>
                <a:lnTo>
                  <a:pt x="1586" y="2197"/>
                </a:lnTo>
                <a:lnTo>
                  <a:pt x="1608" y="2197"/>
                </a:lnTo>
                <a:lnTo>
                  <a:pt x="1622" y="2204"/>
                </a:lnTo>
                <a:lnTo>
                  <a:pt x="1637" y="2204"/>
                </a:lnTo>
                <a:lnTo>
                  <a:pt x="1651" y="2204"/>
                </a:lnTo>
                <a:lnTo>
                  <a:pt x="1666" y="2204"/>
                </a:lnTo>
                <a:lnTo>
                  <a:pt x="1681" y="2204"/>
                </a:lnTo>
                <a:lnTo>
                  <a:pt x="1703" y="2211"/>
                </a:lnTo>
                <a:lnTo>
                  <a:pt x="1717" y="2211"/>
                </a:lnTo>
                <a:lnTo>
                  <a:pt x="1732" y="2211"/>
                </a:lnTo>
                <a:lnTo>
                  <a:pt x="1746" y="2211"/>
                </a:lnTo>
                <a:lnTo>
                  <a:pt x="1761" y="2211"/>
                </a:lnTo>
                <a:lnTo>
                  <a:pt x="1776" y="2211"/>
                </a:lnTo>
                <a:lnTo>
                  <a:pt x="1798" y="2218"/>
                </a:lnTo>
                <a:lnTo>
                  <a:pt x="1812" y="2218"/>
                </a:lnTo>
                <a:lnTo>
                  <a:pt x="1827" y="2218"/>
                </a:lnTo>
                <a:lnTo>
                  <a:pt x="1841" y="2218"/>
                </a:lnTo>
                <a:lnTo>
                  <a:pt x="1856" y="2218"/>
                </a:lnTo>
                <a:lnTo>
                  <a:pt x="1878" y="2218"/>
                </a:lnTo>
                <a:lnTo>
                  <a:pt x="1893" y="2218"/>
                </a:lnTo>
                <a:lnTo>
                  <a:pt x="1907" y="2218"/>
                </a:lnTo>
                <a:lnTo>
                  <a:pt x="1922" y="2225"/>
                </a:lnTo>
                <a:lnTo>
                  <a:pt x="1936" y="2225"/>
                </a:lnTo>
                <a:lnTo>
                  <a:pt x="1951" y="2225"/>
                </a:lnTo>
                <a:lnTo>
                  <a:pt x="1973" y="2225"/>
                </a:lnTo>
                <a:lnTo>
                  <a:pt x="1988" y="2225"/>
                </a:lnTo>
                <a:lnTo>
                  <a:pt x="2002" y="2225"/>
                </a:lnTo>
                <a:lnTo>
                  <a:pt x="2017" y="2225"/>
                </a:lnTo>
              </a:path>
            </a:pathLst>
          </a:custGeom>
          <a:noFill/>
          <a:ln w="28440">
            <a:solidFill>
              <a:srgbClr val="007f00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5802480" y="5635800"/>
            <a:ext cx="1820520" cy="225360"/>
          </a:xfrm>
          <a:custGeom>
            <a:avLst/>
            <a:gdLst/>
            <a:ahLst/>
            <a:rect l="l" t="t" r="r" b="b"/>
            <a:pathLst>
              <a:path w="1147" h="142">
                <a:moveTo>
                  <a:pt x="0" y="0"/>
                </a:moveTo>
                <a:lnTo>
                  <a:pt x="14" y="0"/>
                </a:lnTo>
                <a:lnTo>
                  <a:pt x="36" y="0"/>
                </a:lnTo>
                <a:lnTo>
                  <a:pt x="51" y="0"/>
                </a:lnTo>
                <a:lnTo>
                  <a:pt x="66" y="0"/>
                </a:lnTo>
                <a:lnTo>
                  <a:pt x="80" y="0"/>
                </a:lnTo>
                <a:lnTo>
                  <a:pt x="95" y="0"/>
                </a:lnTo>
                <a:lnTo>
                  <a:pt x="109" y="7"/>
                </a:lnTo>
                <a:lnTo>
                  <a:pt x="131" y="7"/>
                </a:lnTo>
                <a:lnTo>
                  <a:pt x="146" y="7"/>
                </a:lnTo>
                <a:lnTo>
                  <a:pt x="161" y="7"/>
                </a:lnTo>
                <a:lnTo>
                  <a:pt x="175" y="7"/>
                </a:lnTo>
                <a:lnTo>
                  <a:pt x="190" y="7"/>
                </a:lnTo>
                <a:lnTo>
                  <a:pt x="204" y="7"/>
                </a:lnTo>
                <a:lnTo>
                  <a:pt x="226" y="7"/>
                </a:lnTo>
                <a:lnTo>
                  <a:pt x="241" y="7"/>
                </a:lnTo>
                <a:lnTo>
                  <a:pt x="256" y="7"/>
                </a:lnTo>
                <a:lnTo>
                  <a:pt x="270" y="7"/>
                </a:lnTo>
                <a:lnTo>
                  <a:pt x="285" y="7"/>
                </a:lnTo>
                <a:lnTo>
                  <a:pt x="307" y="7"/>
                </a:lnTo>
                <a:lnTo>
                  <a:pt x="321" y="7"/>
                </a:lnTo>
                <a:lnTo>
                  <a:pt x="336" y="7"/>
                </a:lnTo>
                <a:lnTo>
                  <a:pt x="351" y="7"/>
                </a:lnTo>
                <a:lnTo>
                  <a:pt x="365" y="7"/>
                </a:lnTo>
                <a:lnTo>
                  <a:pt x="380" y="7"/>
                </a:lnTo>
                <a:lnTo>
                  <a:pt x="402" y="7"/>
                </a:lnTo>
                <a:lnTo>
                  <a:pt x="416" y="7"/>
                </a:lnTo>
                <a:lnTo>
                  <a:pt x="431" y="7"/>
                </a:lnTo>
                <a:lnTo>
                  <a:pt x="446" y="7"/>
                </a:lnTo>
                <a:lnTo>
                  <a:pt x="460" y="7"/>
                </a:lnTo>
                <a:lnTo>
                  <a:pt x="482" y="14"/>
                </a:lnTo>
                <a:lnTo>
                  <a:pt x="497" y="14"/>
                </a:lnTo>
                <a:lnTo>
                  <a:pt x="511" y="14"/>
                </a:lnTo>
                <a:lnTo>
                  <a:pt x="526" y="14"/>
                </a:lnTo>
                <a:lnTo>
                  <a:pt x="541" y="14"/>
                </a:lnTo>
                <a:lnTo>
                  <a:pt x="555" y="14"/>
                </a:lnTo>
                <a:lnTo>
                  <a:pt x="577" y="14"/>
                </a:lnTo>
                <a:lnTo>
                  <a:pt x="592" y="14"/>
                </a:lnTo>
                <a:lnTo>
                  <a:pt x="606" y="14"/>
                </a:lnTo>
                <a:lnTo>
                  <a:pt x="621" y="14"/>
                </a:lnTo>
                <a:lnTo>
                  <a:pt x="636" y="14"/>
                </a:lnTo>
                <a:lnTo>
                  <a:pt x="650" y="14"/>
                </a:lnTo>
                <a:lnTo>
                  <a:pt x="672" y="14"/>
                </a:lnTo>
                <a:lnTo>
                  <a:pt x="687" y="14"/>
                </a:lnTo>
                <a:lnTo>
                  <a:pt x="701" y="14"/>
                </a:lnTo>
                <a:lnTo>
                  <a:pt x="716" y="14"/>
                </a:lnTo>
                <a:lnTo>
                  <a:pt x="731" y="14"/>
                </a:lnTo>
                <a:lnTo>
                  <a:pt x="753" y="14"/>
                </a:lnTo>
                <a:lnTo>
                  <a:pt x="767" y="14"/>
                </a:lnTo>
                <a:lnTo>
                  <a:pt x="782" y="14"/>
                </a:lnTo>
                <a:lnTo>
                  <a:pt x="796" y="14"/>
                </a:lnTo>
                <a:lnTo>
                  <a:pt x="811" y="14"/>
                </a:lnTo>
                <a:lnTo>
                  <a:pt x="826" y="14"/>
                </a:lnTo>
                <a:lnTo>
                  <a:pt x="848" y="14"/>
                </a:lnTo>
                <a:lnTo>
                  <a:pt x="862" y="14"/>
                </a:lnTo>
                <a:lnTo>
                  <a:pt x="877" y="14"/>
                </a:lnTo>
                <a:lnTo>
                  <a:pt x="892" y="14"/>
                </a:lnTo>
                <a:lnTo>
                  <a:pt x="906" y="14"/>
                </a:lnTo>
                <a:lnTo>
                  <a:pt x="928" y="14"/>
                </a:lnTo>
                <a:lnTo>
                  <a:pt x="943" y="14"/>
                </a:lnTo>
                <a:lnTo>
                  <a:pt x="957" y="21"/>
                </a:lnTo>
                <a:lnTo>
                  <a:pt x="972" y="21"/>
                </a:lnTo>
                <a:lnTo>
                  <a:pt x="987" y="21"/>
                </a:lnTo>
                <a:lnTo>
                  <a:pt x="1001" y="21"/>
                </a:lnTo>
                <a:lnTo>
                  <a:pt x="1023" y="21"/>
                </a:lnTo>
                <a:lnTo>
                  <a:pt x="1038" y="21"/>
                </a:lnTo>
                <a:lnTo>
                  <a:pt x="1052" y="29"/>
                </a:lnTo>
                <a:lnTo>
                  <a:pt x="1067" y="29"/>
                </a:lnTo>
                <a:lnTo>
                  <a:pt x="1082" y="36"/>
                </a:lnTo>
                <a:lnTo>
                  <a:pt x="1096" y="50"/>
                </a:lnTo>
                <a:lnTo>
                  <a:pt x="1118" y="71"/>
                </a:lnTo>
                <a:lnTo>
                  <a:pt x="1133" y="99"/>
                </a:lnTo>
                <a:lnTo>
                  <a:pt x="1147" y="142"/>
                </a:lnTo>
              </a:path>
            </a:pathLst>
          </a:custGeom>
          <a:noFill/>
          <a:ln w="28440">
            <a:solidFill>
              <a:srgbClr val="007f00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4192560" y="6400800"/>
            <a:ext cx="1508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gle, degre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2749320" y="4114800"/>
            <a:ext cx="1165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rst critic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g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585960" y="1143000"/>
            <a:ext cx="1392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cond critic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g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352680" y="48006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4267080" y="1600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 flipV="1">
            <a:off x="4648320" y="502884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4952880" y="4495680"/>
            <a:ext cx="914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pp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 flipV="1">
            <a:off x="4343400" y="3124080"/>
            <a:ext cx="38088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4724280" y="2666880"/>
            <a:ext cx="722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p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80880" y="228600"/>
            <a:ext cx="487692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&gt; [tpp, tps] = trans2(ang, 1.0, 7.9, 1480, 5900, 3200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&gt; plot(ang, abs(tpp), ang, abs(tps), '--'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&gt; xlabel('angle, degrees'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119600" y="905040"/>
            <a:ext cx="5094000" cy="42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2800" spc="-1" strike="noStrike">
                <a:solidFill>
                  <a:srgbClr val="009900"/>
                </a:solidFill>
                <a:latin typeface="Times New Roman"/>
              </a:rPr>
              <a:t>Learning Objecti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flection and transmission coeffici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nell's la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itical ang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oustic imped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mplitudes/intens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homogeneous wa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kes' re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uid-fluid and fluid-solid exampl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"/>
          <p:cNvSpPr/>
          <p:nvPr/>
        </p:nvSpPr>
        <p:spPr>
          <a:xfrm>
            <a:off x="5486400" y="304920"/>
            <a:ext cx="3200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uid-Solid tpp ,t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effs (mag) water-ste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locity-based (be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critical ang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2905200" y="2265480"/>
            <a:ext cx="5035320" cy="384624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2905200" y="2265480"/>
            <a:ext cx="5035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2905200" y="2265480"/>
            <a:ext cx="5035320" cy="3846240"/>
          </a:xfrm>
          <a:custGeom>
            <a:avLst/>
            <a:gdLst/>
            <a:ahLst/>
            <a:rect l="l" t="t" r="r" b="b"/>
            <a:pathLst>
              <a:path w="434" h="342">
                <a:moveTo>
                  <a:pt x="0" y="342"/>
                </a:moveTo>
                <a:lnTo>
                  <a:pt x="434" y="342"/>
                </a:lnTo>
                <a:lnTo>
                  <a:pt x="434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 flipV="1">
            <a:off x="2905200" y="2265480"/>
            <a:ext cx="1440" cy="3846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2905200" y="6111720"/>
            <a:ext cx="50353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 flipV="1">
            <a:off x="2905200" y="2265480"/>
            <a:ext cx="1440" cy="3846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 flipV="1">
            <a:off x="2905200" y="6056280"/>
            <a:ext cx="1440" cy="55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2905200" y="2265480"/>
            <a:ext cx="1440" cy="4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2870280" y="614520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 flipV="1">
            <a:off x="3740040" y="6056280"/>
            <a:ext cx="1800" cy="55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3740040" y="2265480"/>
            <a:ext cx="1800" cy="4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3705120" y="614520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 flipV="1">
            <a:off x="4575240" y="6056280"/>
            <a:ext cx="1440" cy="55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4575240" y="2265480"/>
            <a:ext cx="1440" cy="4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4494240" y="614520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flipV="1">
            <a:off x="5423040" y="6056280"/>
            <a:ext cx="1440" cy="55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5423040" y="2265480"/>
            <a:ext cx="1440" cy="4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5340240" y="614520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flipV="1">
            <a:off x="6257880" y="6056280"/>
            <a:ext cx="1800" cy="55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6257880" y="2265480"/>
            <a:ext cx="1800" cy="4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6176880" y="614520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 flipV="1">
            <a:off x="7093080" y="6056280"/>
            <a:ext cx="1440" cy="55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7093080" y="2265480"/>
            <a:ext cx="1440" cy="4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7012080" y="614520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 flipV="1">
            <a:off x="7940520" y="6056280"/>
            <a:ext cx="1800" cy="55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7940520" y="2265480"/>
            <a:ext cx="1800" cy="4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7858080" y="614520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2905200" y="6111720"/>
            <a:ext cx="46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 flipH="1">
            <a:off x="7881480" y="6111720"/>
            <a:ext cx="58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2635200" y="599616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2905200" y="5684760"/>
            <a:ext cx="46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 flipH="1">
            <a:off x="7881480" y="5684760"/>
            <a:ext cx="58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2427120" y="5568840"/>
            <a:ext cx="444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2905200" y="5257800"/>
            <a:ext cx="46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 flipH="1">
            <a:off x="7881480" y="5257800"/>
            <a:ext cx="58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2427120" y="5141880"/>
            <a:ext cx="444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0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2905200" y="4829040"/>
            <a:ext cx="46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 flipH="1">
            <a:off x="7881480" y="4829040"/>
            <a:ext cx="58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2427120" y="4714920"/>
            <a:ext cx="444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0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2905200" y="4402080"/>
            <a:ext cx="46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 flipH="1">
            <a:off x="7881480" y="4402080"/>
            <a:ext cx="58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2427120" y="4286160"/>
            <a:ext cx="444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0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2905200" y="3975120"/>
            <a:ext cx="46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 flipH="1">
            <a:off x="7881480" y="3975120"/>
            <a:ext cx="58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2508120" y="3859200"/>
            <a:ext cx="317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2905200" y="3548160"/>
            <a:ext cx="46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 flipH="1">
            <a:off x="7881480" y="3548160"/>
            <a:ext cx="58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2427120" y="3432240"/>
            <a:ext cx="444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2905200" y="3108240"/>
            <a:ext cx="46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 flipH="1">
            <a:off x="7881480" y="3108240"/>
            <a:ext cx="58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2427120" y="2992320"/>
            <a:ext cx="444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1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2905200" y="2692440"/>
            <a:ext cx="46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 flipH="1">
            <a:off x="7881480" y="2692440"/>
            <a:ext cx="58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2427120" y="2576520"/>
            <a:ext cx="444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2905200" y="2265480"/>
            <a:ext cx="46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 flipH="1">
            <a:off x="7881480" y="2265480"/>
            <a:ext cx="58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2427120" y="2149560"/>
            <a:ext cx="444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2905200" y="2265480"/>
            <a:ext cx="5035320" cy="3846240"/>
          </a:xfrm>
          <a:custGeom>
            <a:avLst/>
            <a:gdLst/>
            <a:ahLst/>
            <a:rect l="l" t="t" r="r" b="b"/>
            <a:pathLst>
              <a:path w="434" h="342">
                <a:moveTo>
                  <a:pt x="0" y="342"/>
                </a:moveTo>
                <a:lnTo>
                  <a:pt x="434" y="342"/>
                </a:lnTo>
                <a:lnTo>
                  <a:pt x="434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2905200" y="3041640"/>
            <a:ext cx="2887560" cy="2530440"/>
          </a:xfrm>
          <a:custGeom>
            <a:avLst/>
            <a:gdLst/>
            <a:ahLst/>
            <a:rect l="l" t="t" r="r" b="b"/>
            <a:pathLst>
              <a:path w="1819" h="1594">
                <a:moveTo>
                  <a:pt x="0" y="1105"/>
                </a:moveTo>
                <a:lnTo>
                  <a:pt x="7" y="1105"/>
                </a:lnTo>
                <a:lnTo>
                  <a:pt x="21" y="1105"/>
                </a:lnTo>
                <a:lnTo>
                  <a:pt x="36" y="1105"/>
                </a:lnTo>
                <a:lnTo>
                  <a:pt x="51" y="1105"/>
                </a:lnTo>
                <a:lnTo>
                  <a:pt x="65" y="1105"/>
                </a:lnTo>
                <a:lnTo>
                  <a:pt x="80" y="1105"/>
                </a:lnTo>
                <a:lnTo>
                  <a:pt x="95" y="1105"/>
                </a:lnTo>
                <a:lnTo>
                  <a:pt x="109" y="1105"/>
                </a:lnTo>
                <a:lnTo>
                  <a:pt x="124" y="1105"/>
                </a:lnTo>
                <a:lnTo>
                  <a:pt x="138" y="1105"/>
                </a:lnTo>
                <a:lnTo>
                  <a:pt x="153" y="1105"/>
                </a:lnTo>
                <a:lnTo>
                  <a:pt x="168" y="1105"/>
                </a:lnTo>
                <a:lnTo>
                  <a:pt x="182" y="1105"/>
                </a:lnTo>
                <a:lnTo>
                  <a:pt x="197" y="1105"/>
                </a:lnTo>
                <a:lnTo>
                  <a:pt x="212" y="1105"/>
                </a:lnTo>
                <a:lnTo>
                  <a:pt x="226" y="1105"/>
                </a:lnTo>
                <a:lnTo>
                  <a:pt x="241" y="1105"/>
                </a:lnTo>
                <a:lnTo>
                  <a:pt x="255" y="1105"/>
                </a:lnTo>
                <a:lnTo>
                  <a:pt x="270" y="1105"/>
                </a:lnTo>
                <a:lnTo>
                  <a:pt x="285" y="1105"/>
                </a:lnTo>
                <a:lnTo>
                  <a:pt x="299" y="1105"/>
                </a:lnTo>
                <a:lnTo>
                  <a:pt x="314" y="1105"/>
                </a:lnTo>
                <a:lnTo>
                  <a:pt x="328" y="1105"/>
                </a:lnTo>
                <a:lnTo>
                  <a:pt x="343" y="1105"/>
                </a:lnTo>
                <a:lnTo>
                  <a:pt x="358" y="1105"/>
                </a:lnTo>
                <a:lnTo>
                  <a:pt x="372" y="1105"/>
                </a:lnTo>
                <a:lnTo>
                  <a:pt x="380" y="1105"/>
                </a:lnTo>
                <a:lnTo>
                  <a:pt x="394" y="1105"/>
                </a:lnTo>
                <a:lnTo>
                  <a:pt x="409" y="1105"/>
                </a:lnTo>
                <a:lnTo>
                  <a:pt x="423" y="1105"/>
                </a:lnTo>
                <a:lnTo>
                  <a:pt x="438" y="1105"/>
                </a:lnTo>
                <a:lnTo>
                  <a:pt x="453" y="1105"/>
                </a:lnTo>
                <a:lnTo>
                  <a:pt x="467" y="1105"/>
                </a:lnTo>
                <a:lnTo>
                  <a:pt x="482" y="1105"/>
                </a:lnTo>
                <a:lnTo>
                  <a:pt x="497" y="1105"/>
                </a:lnTo>
                <a:lnTo>
                  <a:pt x="511" y="1105"/>
                </a:lnTo>
                <a:lnTo>
                  <a:pt x="526" y="1105"/>
                </a:lnTo>
                <a:lnTo>
                  <a:pt x="540" y="1105"/>
                </a:lnTo>
                <a:lnTo>
                  <a:pt x="555" y="1105"/>
                </a:lnTo>
                <a:lnTo>
                  <a:pt x="570" y="1105"/>
                </a:lnTo>
                <a:lnTo>
                  <a:pt x="584" y="1105"/>
                </a:lnTo>
                <a:lnTo>
                  <a:pt x="599" y="1105"/>
                </a:lnTo>
                <a:lnTo>
                  <a:pt x="614" y="1105"/>
                </a:lnTo>
                <a:lnTo>
                  <a:pt x="628" y="1105"/>
                </a:lnTo>
                <a:lnTo>
                  <a:pt x="643" y="1105"/>
                </a:lnTo>
                <a:lnTo>
                  <a:pt x="657" y="1105"/>
                </a:lnTo>
                <a:lnTo>
                  <a:pt x="672" y="1105"/>
                </a:lnTo>
                <a:lnTo>
                  <a:pt x="687" y="1112"/>
                </a:lnTo>
                <a:lnTo>
                  <a:pt x="701" y="1112"/>
                </a:lnTo>
                <a:lnTo>
                  <a:pt x="716" y="1112"/>
                </a:lnTo>
                <a:lnTo>
                  <a:pt x="730" y="1112"/>
                </a:lnTo>
                <a:lnTo>
                  <a:pt x="745" y="1112"/>
                </a:lnTo>
                <a:lnTo>
                  <a:pt x="760" y="1112"/>
                </a:lnTo>
                <a:lnTo>
                  <a:pt x="767" y="1112"/>
                </a:lnTo>
                <a:lnTo>
                  <a:pt x="782" y="1112"/>
                </a:lnTo>
                <a:lnTo>
                  <a:pt x="796" y="1112"/>
                </a:lnTo>
                <a:lnTo>
                  <a:pt x="811" y="1112"/>
                </a:lnTo>
                <a:lnTo>
                  <a:pt x="825" y="1112"/>
                </a:lnTo>
                <a:lnTo>
                  <a:pt x="840" y="1112"/>
                </a:lnTo>
                <a:lnTo>
                  <a:pt x="855" y="1112"/>
                </a:lnTo>
                <a:lnTo>
                  <a:pt x="869" y="1112"/>
                </a:lnTo>
                <a:lnTo>
                  <a:pt x="884" y="1112"/>
                </a:lnTo>
                <a:lnTo>
                  <a:pt x="899" y="1112"/>
                </a:lnTo>
                <a:lnTo>
                  <a:pt x="913" y="1112"/>
                </a:lnTo>
                <a:lnTo>
                  <a:pt x="928" y="1112"/>
                </a:lnTo>
                <a:lnTo>
                  <a:pt x="942" y="1112"/>
                </a:lnTo>
                <a:lnTo>
                  <a:pt x="957" y="1112"/>
                </a:lnTo>
                <a:lnTo>
                  <a:pt x="972" y="1105"/>
                </a:lnTo>
                <a:lnTo>
                  <a:pt x="986" y="1105"/>
                </a:lnTo>
                <a:lnTo>
                  <a:pt x="1001" y="1105"/>
                </a:lnTo>
                <a:lnTo>
                  <a:pt x="1015" y="1105"/>
                </a:lnTo>
                <a:lnTo>
                  <a:pt x="1030" y="1105"/>
                </a:lnTo>
                <a:lnTo>
                  <a:pt x="1045" y="1105"/>
                </a:lnTo>
                <a:lnTo>
                  <a:pt x="1059" y="1105"/>
                </a:lnTo>
                <a:lnTo>
                  <a:pt x="1074" y="1105"/>
                </a:lnTo>
                <a:lnTo>
                  <a:pt x="1089" y="1105"/>
                </a:lnTo>
                <a:lnTo>
                  <a:pt x="1103" y="1098"/>
                </a:lnTo>
                <a:lnTo>
                  <a:pt x="1118" y="1098"/>
                </a:lnTo>
                <a:lnTo>
                  <a:pt x="1132" y="1098"/>
                </a:lnTo>
                <a:lnTo>
                  <a:pt x="1147" y="1098"/>
                </a:lnTo>
                <a:lnTo>
                  <a:pt x="1154" y="1098"/>
                </a:lnTo>
                <a:lnTo>
                  <a:pt x="1169" y="1091"/>
                </a:lnTo>
                <a:lnTo>
                  <a:pt x="1184" y="1091"/>
                </a:lnTo>
                <a:lnTo>
                  <a:pt x="1198" y="1084"/>
                </a:lnTo>
                <a:lnTo>
                  <a:pt x="1213" y="1084"/>
                </a:lnTo>
                <a:lnTo>
                  <a:pt x="1227" y="1084"/>
                </a:lnTo>
                <a:lnTo>
                  <a:pt x="1242" y="1077"/>
                </a:lnTo>
                <a:lnTo>
                  <a:pt x="1257" y="1070"/>
                </a:lnTo>
                <a:lnTo>
                  <a:pt x="1271" y="1070"/>
                </a:lnTo>
                <a:lnTo>
                  <a:pt x="1286" y="1063"/>
                </a:lnTo>
                <a:lnTo>
                  <a:pt x="1301" y="1055"/>
                </a:lnTo>
                <a:lnTo>
                  <a:pt x="1315" y="1048"/>
                </a:lnTo>
                <a:lnTo>
                  <a:pt x="1330" y="1041"/>
                </a:lnTo>
                <a:lnTo>
                  <a:pt x="1344" y="1034"/>
                </a:lnTo>
                <a:lnTo>
                  <a:pt x="1359" y="1020"/>
                </a:lnTo>
                <a:lnTo>
                  <a:pt x="1374" y="1013"/>
                </a:lnTo>
                <a:lnTo>
                  <a:pt x="1388" y="999"/>
                </a:lnTo>
                <a:lnTo>
                  <a:pt x="1403" y="977"/>
                </a:lnTo>
                <a:lnTo>
                  <a:pt x="1417" y="963"/>
                </a:lnTo>
                <a:lnTo>
                  <a:pt x="1432" y="935"/>
                </a:lnTo>
                <a:lnTo>
                  <a:pt x="1447" y="907"/>
                </a:lnTo>
                <a:lnTo>
                  <a:pt x="1461" y="871"/>
                </a:lnTo>
                <a:lnTo>
                  <a:pt x="1476" y="829"/>
                </a:lnTo>
                <a:lnTo>
                  <a:pt x="1491" y="765"/>
                </a:lnTo>
                <a:lnTo>
                  <a:pt x="1505" y="673"/>
                </a:lnTo>
                <a:lnTo>
                  <a:pt x="1520" y="524"/>
                </a:lnTo>
                <a:lnTo>
                  <a:pt x="1534" y="85"/>
                </a:lnTo>
                <a:lnTo>
                  <a:pt x="1542" y="0"/>
                </a:lnTo>
                <a:lnTo>
                  <a:pt x="1556" y="156"/>
                </a:lnTo>
                <a:lnTo>
                  <a:pt x="1571" y="304"/>
                </a:lnTo>
                <a:lnTo>
                  <a:pt x="1586" y="439"/>
                </a:lnTo>
                <a:lnTo>
                  <a:pt x="1600" y="567"/>
                </a:lnTo>
                <a:lnTo>
                  <a:pt x="1615" y="680"/>
                </a:lnTo>
                <a:lnTo>
                  <a:pt x="1629" y="793"/>
                </a:lnTo>
                <a:lnTo>
                  <a:pt x="1644" y="885"/>
                </a:lnTo>
                <a:lnTo>
                  <a:pt x="1659" y="977"/>
                </a:lnTo>
                <a:lnTo>
                  <a:pt x="1673" y="1055"/>
                </a:lnTo>
                <a:lnTo>
                  <a:pt x="1688" y="1133"/>
                </a:lnTo>
                <a:lnTo>
                  <a:pt x="1703" y="1204"/>
                </a:lnTo>
                <a:lnTo>
                  <a:pt x="1717" y="1261"/>
                </a:lnTo>
                <a:lnTo>
                  <a:pt x="1732" y="1325"/>
                </a:lnTo>
                <a:lnTo>
                  <a:pt x="1746" y="1374"/>
                </a:lnTo>
                <a:lnTo>
                  <a:pt x="1761" y="1424"/>
                </a:lnTo>
                <a:lnTo>
                  <a:pt x="1776" y="1473"/>
                </a:lnTo>
                <a:lnTo>
                  <a:pt x="1790" y="1516"/>
                </a:lnTo>
                <a:lnTo>
                  <a:pt x="1805" y="1551"/>
                </a:lnTo>
                <a:lnTo>
                  <a:pt x="1819" y="1594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5792760" y="4941720"/>
            <a:ext cx="1636920" cy="1159200"/>
          </a:xfrm>
          <a:custGeom>
            <a:avLst/>
            <a:gdLst/>
            <a:ahLst/>
            <a:rect l="l" t="t" r="r" b="b"/>
            <a:pathLst>
              <a:path w="1031" h="730">
                <a:moveTo>
                  <a:pt x="0" y="397"/>
                </a:moveTo>
                <a:lnTo>
                  <a:pt x="15" y="425"/>
                </a:lnTo>
                <a:lnTo>
                  <a:pt x="30" y="461"/>
                </a:lnTo>
                <a:lnTo>
                  <a:pt x="44" y="489"/>
                </a:lnTo>
                <a:lnTo>
                  <a:pt x="59" y="517"/>
                </a:lnTo>
                <a:lnTo>
                  <a:pt x="74" y="546"/>
                </a:lnTo>
                <a:lnTo>
                  <a:pt x="88" y="574"/>
                </a:lnTo>
                <a:lnTo>
                  <a:pt x="103" y="595"/>
                </a:lnTo>
                <a:lnTo>
                  <a:pt x="110" y="624"/>
                </a:lnTo>
                <a:lnTo>
                  <a:pt x="125" y="645"/>
                </a:lnTo>
                <a:lnTo>
                  <a:pt x="139" y="666"/>
                </a:lnTo>
                <a:lnTo>
                  <a:pt x="154" y="680"/>
                </a:lnTo>
                <a:lnTo>
                  <a:pt x="169" y="702"/>
                </a:lnTo>
                <a:lnTo>
                  <a:pt x="183" y="723"/>
                </a:lnTo>
                <a:lnTo>
                  <a:pt x="198" y="730"/>
                </a:lnTo>
                <a:lnTo>
                  <a:pt x="212" y="709"/>
                </a:lnTo>
                <a:lnTo>
                  <a:pt x="227" y="695"/>
                </a:lnTo>
                <a:lnTo>
                  <a:pt x="242" y="680"/>
                </a:lnTo>
                <a:lnTo>
                  <a:pt x="256" y="666"/>
                </a:lnTo>
                <a:lnTo>
                  <a:pt x="271" y="652"/>
                </a:lnTo>
                <a:lnTo>
                  <a:pt x="286" y="638"/>
                </a:lnTo>
                <a:lnTo>
                  <a:pt x="300" y="624"/>
                </a:lnTo>
                <a:lnTo>
                  <a:pt x="315" y="610"/>
                </a:lnTo>
                <a:lnTo>
                  <a:pt x="329" y="595"/>
                </a:lnTo>
                <a:lnTo>
                  <a:pt x="344" y="581"/>
                </a:lnTo>
                <a:lnTo>
                  <a:pt x="359" y="567"/>
                </a:lnTo>
                <a:lnTo>
                  <a:pt x="373" y="560"/>
                </a:lnTo>
                <a:lnTo>
                  <a:pt x="388" y="546"/>
                </a:lnTo>
                <a:lnTo>
                  <a:pt x="402" y="532"/>
                </a:lnTo>
                <a:lnTo>
                  <a:pt x="417" y="524"/>
                </a:lnTo>
                <a:lnTo>
                  <a:pt x="432" y="510"/>
                </a:lnTo>
                <a:lnTo>
                  <a:pt x="446" y="503"/>
                </a:lnTo>
                <a:lnTo>
                  <a:pt x="461" y="489"/>
                </a:lnTo>
                <a:lnTo>
                  <a:pt x="476" y="482"/>
                </a:lnTo>
                <a:lnTo>
                  <a:pt x="490" y="468"/>
                </a:lnTo>
                <a:lnTo>
                  <a:pt x="497" y="461"/>
                </a:lnTo>
                <a:lnTo>
                  <a:pt x="512" y="447"/>
                </a:lnTo>
                <a:lnTo>
                  <a:pt x="527" y="439"/>
                </a:lnTo>
                <a:lnTo>
                  <a:pt x="541" y="432"/>
                </a:lnTo>
                <a:lnTo>
                  <a:pt x="556" y="418"/>
                </a:lnTo>
                <a:lnTo>
                  <a:pt x="571" y="411"/>
                </a:lnTo>
                <a:lnTo>
                  <a:pt x="585" y="397"/>
                </a:lnTo>
                <a:lnTo>
                  <a:pt x="600" y="390"/>
                </a:lnTo>
                <a:lnTo>
                  <a:pt x="614" y="383"/>
                </a:lnTo>
                <a:lnTo>
                  <a:pt x="629" y="369"/>
                </a:lnTo>
                <a:lnTo>
                  <a:pt x="644" y="362"/>
                </a:lnTo>
                <a:lnTo>
                  <a:pt x="658" y="347"/>
                </a:lnTo>
                <a:lnTo>
                  <a:pt x="673" y="340"/>
                </a:lnTo>
                <a:lnTo>
                  <a:pt x="688" y="333"/>
                </a:lnTo>
                <a:lnTo>
                  <a:pt x="702" y="319"/>
                </a:lnTo>
                <a:lnTo>
                  <a:pt x="717" y="312"/>
                </a:lnTo>
                <a:lnTo>
                  <a:pt x="731" y="298"/>
                </a:lnTo>
                <a:lnTo>
                  <a:pt x="746" y="291"/>
                </a:lnTo>
                <a:lnTo>
                  <a:pt x="761" y="276"/>
                </a:lnTo>
                <a:lnTo>
                  <a:pt x="775" y="269"/>
                </a:lnTo>
                <a:lnTo>
                  <a:pt x="790" y="255"/>
                </a:lnTo>
                <a:lnTo>
                  <a:pt x="804" y="241"/>
                </a:lnTo>
                <a:lnTo>
                  <a:pt x="819" y="234"/>
                </a:lnTo>
                <a:lnTo>
                  <a:pt x="834" y="220"/>
                </a:lnTo>
                <a:lnTo>
                  <a:pt x="848" y="206"/>
                </a:lnTo>
                <a:lnTo>
                  <a:pt x="863" y="199"/>
                </a:lnTo>
                <a:lnTo>
                  <a:pt x="878" y="184"/>
                </a:lnTo>
                <a:lnTo>
                  <a:pt x="885" y="170"/>
                </a:lnTo>
                <a:lnTo>
                  <a:pt x="899" y="156"/>
                </a:lnTo>
                <a:lnTo>
                  <a:pt x="914" y="142"/>
                </a:lnTo>
                <a:lnTo>
                  <a:pt x="929" y="128"/>
                </a:lnTo>
                <a:lnTo>
                  <a:pt x="943" y="114"/>
                </a:lnTo>
                <a:lnTo>
                  <a:pt x="958" y="99"/>
                </a:lnTo>
                <a:lnTo>
                  <a:pt x="973" y="78"/>
                </a:lnTo>
                <a:lnTo>
                  <a:pt x="987" y="64"/>
                </a:lnTo>
                <a:lnTo>
                  <a:pt x="1002" y="43"/>
                </a:lnTo>
                <a:lnTo>
                  <a:pt x="1016" y="21"/>
                </a:lnTo>
                <a:lnTo>
                  <a:pt x="1031" y="0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2905200" y="3683160"/>
            <a:ext cx="2887560" cy="2428560"/>
          </a:xfrm>
          <a:custGeom>
            <a:avLst/>
            <a:gdLst/>
            <a:ahLst/>
            <a:rect l="l" t="t" r="r" b="b"/>
            <a:pathLst>
              <a:path w="1819" h="1530">
                <a:moveTo>
                  <a:pt x="0" y="1530"/>
                </a:moveTo>
                <a:lnTo>
                  <a:pt x="7" y="1516"/>
                </a:lnTo>
                <a:lnTo>
                  <a:pt x="21" y="1509"/>
                </a:lnTo>
                <a:lnTo>
                  <a:pt x="36" y="1502"/>
                </a:lnTo>
                <a:lnTo>
                  <a:pt x="51" y="1495"/>
                </a:lnTo>
                <a:lnTo>
                  <a:pt x="65" y="1488"/>
                </a:lnTo>
                <a:lnTo>
                  <a:pt x="80" y="1473"/>
                </a:lnTo>
                <a:lnTo>
                  <a:pt x="95" y="1466"/>
                </a:lnTo>
                <a:lnTo>
                  <a:pt x="109" y="1459"/>
                </a:lnTo>
                <a:lnTo>
                  <a:pt x="124" y="1452"/>
                </a:lnTo>
                <a:lnTo>
                  <a:pt x="138" y="1445"/>
                </a:lnTo>
                <a:lnTo>
                  <a:pt x="153" y="1431"/>
                </a:lnTo>
                <a:lnTo>
                  <a:pt x="168" y="1424"/>
                </a:lnTo>
                <a:lnTo>
                  <a:pt x="182" y="1417"/>
                </a:lnTo>
                <a:lnTo>
                  <a:pt x="197" y="1410"/>
                </a:lnTo>
                <a:lnTo>
                  <a:pt x="212" y="1403"/>
                </a:lnTo>
                <a:lnTo>
                  <a:pt x="226" y="1388"/>
                </a:lnTo>
                <a:lnTo>
                  <a:pt x="241" y="1381"/>
                </a:lnTo>
                <a:lnTo>
                  <a:pt x="255" y="1374"/>
                </a:lnTo>
                <a:lnTo>
                  <a:pt x="270" y="1367"/>
                </a:lnTo>
                <a:lnTo>
                  <a:pt x="285" y="1360"/>
                </a:lnTo>
                <a:lnTo>
                  <a:pt x="299" y="1346"/>
                </a:lnTo>
                <a:lnTo>
                  <a:pt x="314" y="1339"/>
                </a:lnTo>
                <a:lnTo>
                  <a:pt x="328" y="1332"/>
                </a:lnTo>
                <a:lnTo>
                  <a:pt x="343" y="1325"/>
                </a:lnTo>
                <a:lnTo>
                  <a:pt x="358" y="1317"/>
                </a:lnTo>
                <a:lnTo>
                  <a:pt x="372" y="1303"/>
                </a:lnTo>
                <a:lnTo>
                  <a:pt x="380" y="1296"/>
                </a:lnTo>
                <a:lnTo>
                  <a:pt x="394" y="1289"/>
                </a:lnTo>
                <a:lnTo>
                  <a:pt x="409" y="1282"/>
                </a:lnTo>
                <a:lnTo>
                  <a:pt x="423" y="1275"/>
                </a:lnTo>
                <a:lnTo>
                  <a:pt x="438" y="1261"/>
                </a:lnTo>
                <a:lnTo>
                  <a:pt x="453" y="1254"/>
                </a:lnTo>
                <a:lnTo>
                  <a:pt x="467" y="1247"/>
                </a:lnTo>
                <a:lnTo>
                  <a:pt x="482" y="1240"/>
                </a:lnTo>
                <a:lnTo>
                  <a:pt x="497" y="1225"/>
                </a:lnTo>
                <a:lnTo>
                  <a:pt x="511" y="1218"/>
                </a:lnTo>
                <a:lnTo>
                  <a:pt x="526" y="1211"/>
                </a:lnTo>
                <a:lnTo>
                  <a:pt x="540" y="1204"/>
                </a:lnTo>
                <a:lnTo>
                  <a:pt x="555" y="1197"/>
                </a:lnTo>
                <a:lnTo>
                  <a:pt x="570" y="1183"/>
                </a:lnTo>
                <a:lnTo>
                  <a:pt x="584" y="1176"/>
                </a:lnTo>
                <a:lnTo>
                  <a:pt x="599" y="1169"/>
                </a:lnTo>
                <a:lnTo>
                  <a:pt x="614" y="1162"/>
                </a:lnTo>
                <a:lnTo>
                  <a:pt x="628" y="1155"/>
                </a:lnTo>
                <a:lnTo>
                  <a:pt x="643" y="1140"/>
                </a:lnTo>
                <a:lnTo>
                  <a:pt x="657" y="1133"/>
                </a:lnTo>
                <a:lnTo>
                  <a:pt x="672" y="1126"/>
                </a:lnTo>
                <a:lnTo>
                  <a:pt x="687" y="1119"/>
                </a:lnTo>
                <a:lnTo>
                  <a:pt x="701" y="1112"/>
                </a:lnTo>
                <a:lnTo>
                  <a:pt x="716" y="1098"/>
                </a:lnTo>
                <a:lnTo>
                  <a:pt x="730" y="1091"/>
                </a:lnTo>
                <a:lnTo>
                  <a:pt x="745" y="1084"/>
                </a:lnTo>
                <a:lnTo>
                  <a:pt x="760" y="1077"/>
                </a:lnTo>
                <a:lnTo>
                  <a:pt x="767" y="1069"/>
                </a:lnTo>
                <a:lnTo>
                  <a:pt x="782" y="1055"/>
                </a:lnTo>
                <a:lnTo>
                  <a:pt x="796" y="1048"/>
                </a:lnTo>
                <a:lnTo>
                  <a:pt x="811" y="1041"/>
                </a:lnTo>
                <a:lnTo>
                  <a:pt x="825" y="1034"/>
                </a:lnTo>
                <a:lnTo>
                  <a:pt x="840" y="1027"/>
                </a:lnTo>
                <a:lnTo>
                  <a:pt x="855" y="1013"/>
                </a:lnTo>
                <a:lnTo>
                  <a:pt x="869" y="1006"/>
                </a:lnTo>
                <a:lnTo>
                  <a:pt x="884" y="999"/>
                </a:lnTo>
                <a:lnTo>
                  <a:pt x="899" y="992"/>
                </a:lnTo>
                <a:lnTo>
                  <a:pt x="913" y="984"/>
                </a:lnTo>
                <a:lnTo>
                  <a:pt x="928" y="977"/>
                </a:lnTo>
                <a:lnTo>
                  <a:pt x="942" y="963"/>
                </a:lnTo>
                <a:lnTo>
                  <a:pt x="957" y="956"/>
                </a:lnTo>
                <a:lnTo>
                  <a:pt x="972" y="949"/>
                </a:lnTo>
                <a:lnTo>
                  <a:pt x="986" y="942"/>
                </a:lnTo>
                <a:lnTo>
                  <a:pt x="1001" y="935"/>
                </a:lnTo>
                <a:lnTo>
                  <a:pt x="1015" y="928"/>
                </a:lnTo>
                <a:lnTo>
                  <a:pt x="1030" y="914"/>
                </a:lnTo>
                <a:lnTo>
                  <a:pt x="1045" y="907"/>
                </a:lnTo>
                <a:lnTo>
                  <a:pt x="1059" y="899"/>
                </a:lnTo>
                <a:lnTo>
                  <a:pt x="1074" y="892"/>
                </a:lnTo>
                <a:lnTo>
                  <a:pt x="1089" y="885"/>
                </a:lnTo>
                <a:lnTo>
                  <a:pt x="1103" y="878"/>
                </a:lnTo>
                <a:lnTo>
                  <a:pt x="1118" y="871"/>
                </a:lnTo>
                <a:lnTo>
                  <a:pt x="1132" y="864"/>
                </a:lnTo>
                <a:lnTo>
                  <a:pt x="1147" y="857"/>
                </a:lnTo>
                <a:lnTo>
                  <a:pt x="1154" y="850"/>
                </a:lnTo>
                <a:lnTo>
                  <a:pt x="1169" y="843"/>
                </a:lnTo>
                <a:lnTo>
                  <a:pt x="1184" y="836"/>
                </a:lnTo>
                <a:lnTo>
                  <a:pt x="1198" y="829"/>
                </a:lnTo>
                <a:lnTo>
                  <a:pt x="1213" y="821"/>
                </a:lnTo>
                <a:lnTo>
                  <a:pt x="1227" y="814"/>
                </a:lnTo>
                <a:lnTo>
                  <a:pt x="1242" y="807"/>
                </a:lnTo>
                <a:lnTo>
                  <a:pt x="1257" y="800"/>
                </a:lnTo>
                <a:lnTo>
                  <a:pt x="1271" y="800"/>
                </a:lnTo>
                <a:lnTo>
                  <a:pt x="1286" y="793"/>
                </a:lnTo>
                <a:lnTo>
                  <a:pt x="1301" y="786"/>
                </a:lnTo>
                <a:lnTo>
                  <a:pt x="1315" y="786"/>
                </a:lnTo>
                <a:lnTo>
                  <a:pt x="1330" y="779"/>
                </a:lnTo>
                <a:lnTo>
                  <a:pt x="1344" y="779"/>
                </a:lnTo>
                <a:lnTo>
                  <a:pt x="1359" y="779"/>
                </a:lnTo>
                <a:lnTo>
                  <a:pt x="1374" y="779"/>
                </a:lnTo>
                <a:lnTo>
                  <a:pt x="1388" y="779"/>
                </a:lnTo>
                <a:lnTo>
                  <a:pt x="1403" y="779"/>
                </a:lnTo>
                <a:lnTo>
                  <a:pt x="1417" y="786"/>
                </a:lnTo>
                <a:lnTo>
                  <a:pt x="1432" y="793"/>
                </a:lnTo>
                <a:lnTo>
                  <a:pt x="1447" y="800"/>
                </a:lnTo>
                <a:lnTo>
                  <a:pt x="1461" y="814"/>
                </a:lnTo>
                <a:lnTo>
                  <a:pt x="1476" y="843"/>
                </a:lnTo>
                <a:lnTo>
                  <a:pt x="1491" y="878"/>
                </a:lnTo>
                <a:lnTo>
                  <a:pt x="1505" y="928"/>
                </a:lnTo>
                <a:lnTo>
                  <a:pt x="1520" y="1027"/>
                </a:lnTo>
                <a:lnTo>
                  <a:pt x="1534" y="1346"/>
                </a:lnTo>
                <a:lnTo>
                  <a:pt x="1542" y="843"/>
                </a:lnTo>
                <a:lnTo>
                  <a:pt x="1556" y="581"/>
                </a:lnTo>
                <a:lnTo>
                  <a:pt x="1571" y="418"/>
                </a:lnTo>
                <a:lnTo>
                  <a:pt x="1586" y="297"/>
                </a:lnTo>
                <a:lnTo>
                  <a:pt x="1600" y="212"/>
                </a:lnTo>
                <a:lnTo>
                  <a:pt x="1615" y="155"/>
                </a:lnTo>
                <a:lnTo>
                  <a:pt x="1629" y="106"/>
                </a:lnTo>
                <a:lnTo>
                  <a:pt x="1644" y="77"/>
                </a:lnTo>
                <a:lnTo>
                  <a:pt x="1659" y="49"/>
                </a:lnTo>
                <a:lnTo>
                  <a:pt x="1673" y="35"/>
                </a:lnTo>
                <a:lnTo>
                  <a:pt x="1688" y="21"/>
                </a:lnTo>
                <a:lnTo>
                  <a:pt x="1703" y="14"/>
                </a:lnTo>
                <a:lnTo>
                  <a:pt x="1717" y="7"/>
                </a:lnTo>
                <a:lnTo>
                  <a:pt x="1732" y="0"/>
                </a:lnTo>
                <a:lnTo>
                  <a:pt x="1746" y="0"/>
                </a:lnTo>
                <a:lnTo>
                  <a:pt x="1761" y="0"/>
                </a:lnTo>
                <a:lnTo>
                  <a:pt x="1776" y="0"/>
                </a:lnTo>
                <a:lnTo>
                  <a:pt x="1790" y="0"/>
                </a:lnTo>
                <a:lnTo>
                  <a:pt x="1805" y="0"/>
                </a:lnTo>
                <a:lnTo>
                  <a:pt x="1819" y="0"/>
                </a:lnTo>
              </a:path>
            </a:pathLst>
          </a:custGeom>
          <a:noFill/>
          <a:ln w="28440">
            <a:solidFill>
              <a:srgbClr val="007f00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5792760" y="2389320"/>
            <a:ext cx="1636920" cy="1315800"/>
          </a:xfrm>
          <a:custGeom>
            <a:avLst/>
            <a:gdLst/>
            <a:ahLst/>
            <a:rect l="l" t="t" r="r" b="b"/>
            <a:pathLst>
              <a:path w="1031" h="829">
                <a:moveTo>
                  <a:pt x="0" y="815"/>
                </a:moveTo>
                <a:lnTo>
                  <a:pt x="15" y="822"/>
                </a:lnTo>
                <a:lnTo>
                  <a:pt x="30" y="822"/>
                </a:lnTo>
                <a:lnTo>
                  <a:pt x="44" y="822"/>
                </a:lnTo>
                <a:lnTo>
                  <a:pt x="59" y="822"/>
                </a:lnTo>
                <a:lnTo>
                  <a:pt x="74" y="829"/>
                </a:lnTo>
                <a:lnTo>
                  <a:pt x="88" y="829"/>
                </a:lnTo>
                <a:lnTo>
                  <a:pt x="103" y="829"/>
                </a:lnTo>
                <a:lnTo>
                  <a:pt x="110" y="829"/>
                </a:lnTo>
                <a:lnTo>
                  <a:pt x="125" y="829"/>
                </a:lnTo>
                <a:lnTo>
                  <a:pt x="139" y="829"/>
                </a:lnTo>
                <a:lnTo>
                  <a:pt x="154" y="829"/>
                </a:lnTo>
                <a:lnTo>
                  <a:pt x="169" y="829"/>
                </a:lnTo>
                <a:lnTo>
                  <a:pt x="183" y="829"/>
                </a:lnTo>
                <a:lnTo>
                  <a:pt x="198" y="829"/>
                </a:lnTo>
                <a:lnTo>
                  <a:pt x="212" y="829"/>
                </a:lnTo>
                <a:lnTo>
                  <a:pt x="227" y="829"/>
                </a:lnTo>
                <a:lnTo>
                  <a:pt x="242" y="829"/>
                </a:lnTo>
                <a:lnTo>
                  <a:pt x="256" y="829"/>
                </a:lnTo>
                <a:lnTo>
                  <a:pt x="271" y="829"/>
                </a:lnTo>
                <a:lnTo>
                  <a:pt x="286" y="822"/>
                </a:lnTo>
                <a:lnTo>
                  <a:pt x="300" y="822"/>
                </a:lnTo>
                <a:lnTo>
                  <a:pt x="315" y="822"/>
                </a:lnTo>
                <a:lnTo>
                  <a:pt x="329" y="815"/>
                </a:lnTo>
                <a:lnTo>
                  <a:pt x="344" y="815"/>
                </a:lnTo>
                <a:lnTo>
                  <a:pt x="359" y="807"/>
                </a:lnTo>
                <a:lnTo>
                  <a:pt x="373" y="807"/>
                </a:lnTo>
                <a:lnTo>
                  <a:pt x="388" y="800"/>
                </a:lnTo>
                <a:lnTo>
                  <a:pt x="402" y="800"/>
                </a:lnTo>
                <a:lnTo>
                  <a:pt x="417" y="793"/>
                </a:lnTo>
                <a:lnTo>
                  <a:pt x="432" y="786"/>
                </a:lnTo>
                <a:lnTo>
                  <a:pt x="446" y="779"/>
                </a:lnTo>
                <a:lnTo>
                  <a:pt x="461" y="779"/>
                </a:lnTo>
                <a:lnTo>
                  <a:pt x="476" y="772"/>
                </a:lnTo>
                <a:lnTo>
                  <a:pt x="490" y="765"/>
                </a:lnTo>
                <a:lnTo>
                  <a:pt x="497" y="758"/>
                </a:lnTo>
                <a:lnTo>
                  <a:pt x="512" y="751"/>
                </a:lnTo>
                <a:lnTo>
                  <a:pt x="527" y="744"/>
                </a:lnTo>
                <a:lnTo>
                  <a:pt x="541" y="737"/>
                </a:lnTo>
                <a:lnTo>
                  <a:pt x="556" y="722"/>
                </a:lnTo>
                <a:lnTo>
                  <a:pt x="571" y="715"/>
                </a:lnTo>
                <a:lnTo>
                  <a:pt x="585" y="708"/>
                </a:lnTo>
                <a:lnTo>
                  <a:pt x="600" y="701"/>
                </a:lnTo>
                <a:lnTo>
                  <a:pt x="614" y="687"/>
                </a:lnTo>
                <a:lnTo>
                  <a:pt x="629" y="680"/>
                </a:lnTo>
                <a:lnTo>
                  <a:pt x="644" y="666"/>
                </a:lnTo>
                <a:lnTo>
                  <a:pt x="658" y="659"/>
                </a:lnTo>
                <a:lnTo>
                  <a:pt x="673" y="644"/>
                </a:lnTo>
                <a:lnTo>
                  <a:pt x="688" y="630"/>
                </a:lnTo>
                <a:lnTo>
                  <a:pt x="702" y="616"/>
                </a:lnTo>
                <a:lnTo>
                  <a:pt x="717" y="602"/>
                </a:lnTo>
                <a:lnTo>
                  <a:pt x="731" y="588"/>
                </a:lnTo>
                <a:lnTo>
                  <a:pt x="746" y="574"/>
                </a:lnTo>
                <a:lnTo>
                  <a:pt x="761" y="559"/>
                </a:lnTo>
                <a:lnTo>
                  <a:pt x="775" y="538"/>
                </a:lnTo>
                <a:lnTo>
                  <a:pt x="790" y="524"/>
                </a:lnTo>
                <a:lnTo>
                  <a:pt x="804" y="503"/>
                </a:lnTo>
                <a:lnTo>
                  <a:pt x="819" y="482"/>
                </a:lnTo>
                <a:lnTo>
                  <a:pt x="834" y="467"/>
                </a:lnTo>
                <a:lnTo>
                  <a:pt x="848" y="439"/>
                </a:lnTo>
                <a:lnTo>
                  <a:pt x="863" y="418"/>
                </a:lnTo>
                <a:lnTo>
                  <a:pt x="878" y="396"/>
                </a:lnTo>
                <a:lnTo>
                  <a:pt x="885" y="368"/>
                </a:lnTo>
                <a:lnTo>
                  <a:pt x="899" y="340"/>
                </a:lnTo>
                <a:lnTo>
                  <a:pt x="914" y="311"/>
                </a:lnTo>
                <a:lnTo>
                  <a:pt x="929" y="283"/>
                </a:lnTo>
                <a:lnTo>
                  <a:pt x="943" y="255"/>
                </a:lnTo>
                <a:lnTo>
                  <a:pt x="958" y="219"/>
                </a:lnTo>
                <a:lnTo>
                  <a:pt x="973" y="177"/>
                </a:lnTo>
                <a:lnTo>
                  <a:pt x="987" y="141"/>
                </a:lnTo>
                <a:lnTo>
                  <a:pt x="1002" y="99"/>
                </a:lnTo>
                <a:lnTo>
                  <a:pt x="1016" y="49"/>
                </a:lnTo>
                <a:lnTo>
                  <a:pt x="1031" y="0"/>
                </a:lnTo>
              </a:path>
            </a:pathLst>
          </a:custGeom>
          <a:noFill/>
          <a:ln w="28440">
            <a:solidFill>
              <a:srgbClr val="007f00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4603680" y="6478560"/>
            <a:ext cx="1508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gle, degre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152280" y="228600"/>
            <a:ext cx="5029200" cy="14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&gt; ang =linspace(0, 27, 200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&gt; [tpp, tps] = trans2(ang, 1.0, 7.9, 1480, 5900, 3200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&gt; plot(ang, abs(tpp), ang, abs(tps),'--'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&gt; xlabel('angle, degrees'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3429000" y="4038480"/>
            <a:ext cx="744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p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4114800" y="4343400"/>
            <a:ext cx="3049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3124080" y="4952880"/>
            <a:ext cx="722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p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3429000" y="5410080"/>
            <a:ext cx="146160" cy="18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"/>
          <p:cNvSpPr/>
          <p:nvPr/>
        </p:nvSpPr>
        <p:spPr>
          <a:xfrm>
            <a:off x="3286080" y="2112840"/>
            <a:ext cx="5035680" cy="384660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3286080" y="2112840"/>
            <a:ext cx="5035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3286080" y="2112840"/>
            <a:ext cx="5035680" cy="3846600"/>
          </a:xfrm>
          <a:custGeom>
            <a:avLst/>
            <a:gdLst/>
            <a:ahLst/>
            <a:rect l="l" t="t" r="r" b="b"/>
            <a:pathLst>
              <a:path w="434" h="342">
                <a:moveTo>
                  <a:pt x="0" y="342"/>
                </a:moveTo>
                <a:lnTo>
                  <a:pt x="434" y="342"/>
                </a:lnTo>
                <a:lnTo>
                  <a:pt x="434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 flipV="1">
            <a:off x="3286080" y="2112480"/>
            <a:ext cx="1800" cy="3846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3286080" y="5959440"/>
            <a:ext cx="5035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 flipV="1">
            <a:off x="3286080" y="2112480"/>
            <a:ext cx="1800" cy="3846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 flipV="1">
            <a:off x="3286080" y="5904000"/>
            <a:ext cx="1800" cy="55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3286080" y="2112840"/>
            <a:ext cx="1800" cy="44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3251160" y="59929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 flipV="1">
            <a:off x="4121280" y="5904000"/>
            <a:ext cx="1440" cy="55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4121280" y="2112840"/>
            <a:ext cx="1440" cy="44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4086360" y="59929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 flipV="1">
            <a:off x="4956120" y="5904000"/>
            <a:ext cx="1800" cy="55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4956120" y="2112840"/>
            <a:ext cx="1800" cy="44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4875120" y="599292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 flipV="1">
            <a:off x="5803920" y="5904000"/>
            <a:ext cx="1440" cy="55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5803920" y="2112840"/>
            <a:ext cx="1440" cy="44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5721480" y="599292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 flipV="1">
            <a:off x="6638760" y="5904000"/>
            <a:ext cx="1800" cy="55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6638760" y="2112840"/>
            <a:ext cx="1800" cy="44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6558120" y="599292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 flipV="1">
            <a:off x="7473960" y="5904000"/>
            <a:ext cx="1440" cy="55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7473960" y="2112840"/>
            <a:ext cx="1440" cy="44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7392960" y="599292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 flipV="1">
            <a:off x="8321760" y="5904000"/>
            <a:ext cx="1440" cy="55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8321760" y="2112840"/>
            <a:ext cx="1440" cy="44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8238960" y="599292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3286080" y="5959440"/>
            <a:ext cx="46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 flipH="1">
            <a:off x="8262720" y="5959440"/>
            <a:ext cx="58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3022560" y="5869080"/>
            <a:ext cx="203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3286080" y="5408640"/>
            <a:ext cx="46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 flipH="1">
            <a:off x="8262720" y="5408640"/>
            <a:ext cx="58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3022560" y="5318280"/>
            <a:ext cx="203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3286080" y="4857840"/>
            <a:ext cx="46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 flipH="1">
            <a:off x="8262720" y="4857840"/>
            <a:ext cx="58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3068640" y="47671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3286080" y="4305240"/>
            <a:ext cx="46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 flipH="1">
            <a:off x="8262720" y="4305240"/>
            <a:ext cx="58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3068640" y="42163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3286080" y="3754440"/>
            <a:ext cx="46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 flipH="1">
            <a:off x="8262720" y="3754440"/>
            <a:ext cx="58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3068640" y="36655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3286080" y="3203640"/>
            <a:ext cx="46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 flipH="1">
            <a:off x="8262720" y="3203640"/>
            <a:ext cx="58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3068640" y="31129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3286080" y="2652840"/>
            <a:ext cx="46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 flipH="1">
            <a:off x="8262720" y="2652840"/>
            <a:ext cx="58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3068640" y="25621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3286080" y="2112840"/>
            <a:ext cx="46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 flipH="1">
            <a:off x="8262720" y="2112840"/>
            <a:ext cx="58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3068640" y="202248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3286080" y="2112840"/>
            <a:ext cx="5035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3286080" y="2112840"/>
            <a:ext cx="5035680" cy="3846600"/>
          </a:xfrm>
          <a:custGeom>
            <a:avLst/>
            <a:gdLst/>
            <a:ahLst/>
            <a:rect l="l" t="t" r="r" b="b"/>
            <a:pathLst>
              <a:path w="434" h="342">
                <a:moveTo>
                  <a:pt x="0" y="342"/>
                </a:moveTo>
                <a:lnTo>
                  <a:pt x="434" y="342"/>
                </a:lnTo>
                <a:lnTo>
                  <a:pt x="434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 flipV="1">
            <a:off x="3286080" y="2112480"/>
            <a:ext cx="1800" cy="3846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3286080" y="4857840"/>
            <a:ext cx="2887560" cy="820800"/>
          </a:xfrm>
          <a:custGeom>
            <a:avLst/>
            <a:gdLst/>
            <a:ahLst/>
            <a:rect l="l" t="t" r="r" b="b"/>
            <a:pathLst>
              <a:path w="1819" h="517">
                <a:moveTo>
                  <a:pt x="0" y="0"/>
                </a:moveTo>
                <a:lnTo>
                  <a:pt x="7" y="0"/>
                </a:lnTo>
                <a:lnTo>
                  <a:pt x="21" y="0"/>
                </a:lnTo>
                <a:lnTo>
                  <a:pt x="36" y="0"/>
                </a:lnTo>
                <a:lnTo>
                  <a:pt x="51" y="0"/>
                </a:lnTo>
                <a:lnTo>
                  <a:pt x="65" y="0"/>
                </a:lnTo>
                <a:lnTo>
                  <a:pt x="80" y="0"/>
                </a:lnTo>
                <a:lnTo>
                  <a:pt x="95" y="0"/>
                </a:lnTo>
                <a:lnTo>
                  <a:pt x="109" y="0"/>
                </a:lnTo>
                <a:lnTo>
                  <a:pt x="124" y="0"/>
                </a:lnTo>
                <a:lnTo>
                  <a:pt x="138" y="0"/>
                </a:lnTo>
                <a:lnTo>
                  <a:pt x="153" y="0"/>
                </a:lnTo>
                <a:lnTo>
                  <a:pt x="168" y="0"/>
                </a:lnTo>
                <a:lnTo>
                  <a:pt x="182" y="0"/>
                </a:lnTo>
                <a:lnTo>
                  <a:pt x="197" y="0"/>
                </a:lnTo>
                <a:lnTo>
                  <a:pt x="212" y="0"/>
                </a:lnTo>
                <a:lnTo>
                  <a:pt x="226" y="0"/>
                </a:lnTo>
                <a:lnTo>
                  <a:pt x="241" y="0"/>
                </a:lnTo>
                <a:lnTo>
                  <a:pt x="255" y="0"/>
                </a:lnTo>
                <a:lnTo>
                  <a:pt x="270" y="0"/>
                </a:lnTo>
                <a:lnTo>
                  <a:pt x="285" y="0"/>
                </a:lnTo>
                <a:lnTo>
                  <a:pt x="299" y="0"/>
                </a:lnTo>
                <a:lnTo>
                  <a:pt x="314" y="0"/>
                </a:lnTo>
                <a:lnTo>
                  <a:pt x="328" y="0"/>
                </a:lnTo>
                <a:lnTo>
                  <a:pt x="343" y="0"/>
                </a:lnTo>
                <a:lnTo>
                  <a:pt x="358" y="0"/>
                </a:lnTo>
                <a:lnTo>
                  <a:pt x="372" y="0"/>
                </a:lnTo>
                <a:lnTo>
                  <a:pt x="380" y="0"/>
                </a:lnTo>
                <a:lnTo>
                  <a:pt x="394" y="0"/>
                </a:lnTo>
                <a:lnTo>
                  <a:pt x="409" y="0"/>
                </a:lnTo>
                <a:lnTo>
                  <a:pt x="423" y="0"/>
                </a:lnTo>
                <a:lnTo>
                  <a:pt x="438" y="0"/>
                </a:lnTo>
                <a:lnTo>
                  <a:pt x="453" y="0"/>
                </a:lnTo>
                <a:lnTo>
                  <a:pt x="467" y="0"/>
                </a:lnTo>
                <a:lnTo>
                  <a:pt x="482" y="0"/>
                </a:lnTo>
                <a:lnTo>
                  <a:pt x="497" y="0"/>
                </a:lnTo>
                <a:lnTo>
                  <a:pt x="511" y="0"/>
                </a:lnTo>
                <a:lnTo>
                  <a:pt x="526" y="0"/>
                </a:lnTo>
                <a:lnTo>
                  <a:pt x="540" y="0"/>
                </a:lnTo>
                <a:lnTo>
                  <a:pt x="555" y="0"/>
                </a:lnTo>
                <a:lnTo>
                  <a:pt x="570" y="0"/>
                </a:lnTo>
                <a:lnTo>
                  <a:pt x="584" y="0"/>
                </a:lnTo>
                <a:lnTo>
                  <a:pt x="599" y="0"/>
                </a:lnTo>
                <a:lnTo>
                  <a:pt x="614" y="0"/>
                </a:lnTo>
                <a:lnTo>
                  <a:pt x="628" y="0"/>
                </a:lnTo>
                <a:lnTo>
                  <a:pt x="643" y="0"/>
                </a:lnTo>
                <a:lnTo>
                  <a:pt x="657" y="0"/>
                </a:lnTo>
                <a:lnTo>
                  <a:pt x="672" y="0"/>
                </a:lnTo>
                <a:lnTo>
                  <a:pt x="687" y="0"/>
                </a:lnTo>
                <a:lnTo>
                  <a:pt x="701" y="0"/>
                </a:lnTo>
                <a:lnTo>
                  <a:pt x="716" y="0"/>
                </a:lnTo>
                <a:lnTo>
                  <a:pt x="730" y="0"/>
                </a:lnTo>
                <a:lnTo>
                  <a:pt x="745" y="0"/>
                </a:lnTo>
                <a:lnTo>
                  <a:pt x="760" y="0"/>
                </a:lnTo>
                <a:lnTo>
                  <a:pt x="767" y="0"/>
                </a:lnTo>
                <a:lnTo>
                  <a:pt x="782" y="0"/>
                </a:lnTo>
                <a:lnTo>
                  <a:pt x="796" y="0"/>
                </a:lnTo>
                <a:lnTo>
                  <a:pt x="811" y="0"/>
                </a:lnTo>
                <a:lnTo>
                  <a:pt x="825" y="0"/>
                </a:lnTo>
                <a:lnTo>
                  <a:pt x="840" y="0"/>
                </a:lnTo>
                <a:lnTo>
                  <a:pt x="855" y="0"/>
                </a:lnTo>
                <a:lnTo>
                  <a:pt x="869" y="0"/>
                </a:lnTo>
                <a:lnTo>
                  <a:pt x="884" y="0"/>
                </a:lnTo>
                <a:lnTo>
                  <a:pt x="899" y="0"/>
                </a:lnTo>
                <a:lnTo>
                  <a:pt x="913" y="0"/>
                </a:lnTo>
                <a:lnTo>
                  <a:pt x="928" y="0"/>
                </a:lnTo>
                <a:lnTo>
                  <a:pt x="942" y="0"/>
                </a:lnTo>
                <a:lnTo>
                  <a:pt x="957" y="0"/>
                </a:lnTo>
                <a:lnTo>
                  <a:pt x="972" y="0"/>
                </a:lnTo>
                <a:lnTo>
                  <a:pt x="986" y="0"/>
                </a:lnTo>
                <a:lnTo>
                  <a:pt x="1001" y="0"/>
                </a:lnTo>
                <a:lnTo>
                  <a:pt x="1015" y="0"/>
                </a:lnTo>
                <a:lnTo>
                  <a:pt x="1030" y="0"/>
                </a:lnTo>
                <a:lnTo>
                  <a:pt x="1045" y="0"/>
                </a:lnTo>
                <a:lnTo>
                  <a:pt x="1059" y="0"/>
                </a:lnTo>
                <a:lnTo>
                  <a:pt x="1074" y="0"/>
                </a:lnTo>
                <a:lnTo>
                  <a:pt x="1089" y="0"/>
                </a:lnTo>
                <a:lnTo>
                  <a:pt x="1103" y="0"/>
                </a:lnTo>
                <a:lnTo>
                  <a:pt x="1118" y="0"/>
                </a:lnTo>
                <a:lnTo>
                  <a:pt x="1132" y="0"/>
                </a:lnTo>
                <a:lnTo>
                  <a:pt x="1147" y="0"/>
                </a:lnTo>
                <a:lnTo>
                  <a:pt x="1154" y="0"/>
                </a:lnTo>
                <a:lnTo>
                  <a:pt x="1169" y="0"/>
                </a:lnTo>
                <a:lnTo>
                  <a:pt x="1184" y="0"/>
                </a:lnTo>
                <a:lnTo>
                  <a:pt x="1198" y="0"/>
                </a:lnTo>
                <a:lnTo>
                  <a:pt x="1213" y="0"/>
                </a:lnTo>
                <a:lnTo>
                  <a:pt x="1227" y="0"/>
                </a:lnTo>
                <a:lnTo>
                  <a:pt x="1242" y="0"/>
                </a:lnTo>
                <a:lnTo>
                  <a:pt x="1257" y="0"/>
                </a:lnTo>
                <a:lnTo>
                  <a:pt x="1271" y="0"/>
                </a:lnTo>
                <a:lnTo>
                  <a:pt x="1286" y="0"/>
                </a:lnTo>
                <a:lnTo>
                  <a:pt x="1301" y="0"/>
                </a:lnTo>
                <a:lnTo>
                  <a:pt x="1315" y="0"/>
                </a:lnTo>
                <a:lnTo>
                  <a:pt x="1330" y="0"/>
                </a:lnTo>
                <a:lnTo>
                  <a:pt x="1344" y="0"/>
                </a:lnTo>
                <a:lnTo>
                  <a:pt x="1359" y="0"/>
                </a:lnTo>
                <a:lnTo>
                  <a:pt x="1374" y="0"/>
                </a:lnTo>
                <a:lnTo>
                  <a:pt x="1388" y="0"/>
                </a:lnTo>
                <a:lnTo>
                  <a:pt x="1403" y="0"/>
                </a:lnTo>
                <a:lnTo>
                  <a:pt x="1417" y="0"/>
                </a:lnTo>
                <a:lnTo>
                  <a:pt x="1432" y="0"/>
                </a:lnTo>
                <a:lnTo>
                  <a:pt x="1447" y="0"/>
                </a:lnTo>
                <a:lnTo>
                  <a:pt x="1461" y="0"/>
                </a:lnTo>
                <a:lnTo>
                  <a:pt x="1476" y="0"/>
                </a:lnTo>
                <a:lnTo>
                  <a:pt x="1491" y="0"/>
                </a:lnTo>
                <a:lnTo>
                  <a:pt x="1505" y="0"/>
                </a:lnTo>
                <a:lnTo>
                  <a:pt x="1520" y="0"/>
                </a:lnTo>
                <a:lnTo>
                  <a:pt x="1534" y="0"/>
                </a:lnTo>
                <a:lnTo>
                  <a:pt x="1542" y="148"/>
                </a:lnTo>
                <a:lnTo>
                  <a:pt x="1556" y="212"/>
                </a:lnTo>
                <a:lnTo>
                  <a:pt x="1571" y="262"/>
                </a:lnTo>
                <a:lnTo>
                  <a:pt x="1586" y="297"/>
                </a:lnTo>
                <a:lnTo>
                  <a:pt x="1600" y="333"/>
                </a:lnTo>
                <a:lnTo>
                  <a:pt x="1615" y="361"/>
                </a:lnTo>
                <a:lnTo>
                  <a:pt x="1629" y="382"/>
                </a:lnTo>
                <a:lnTo>
                  <a:pt x="1644" y="404"/>
                </a:lnTo>
                <a:lnTo>
                  <a:pt x="1659" y="418"/>
                </a:lnTo>
                <a:lnTo>
                  <a:pt x="1673" y="432"/>
                </a:lnTo>
                <a:lnTo>
                  <a:pt x="1688" y="446"/>
                </a:lnTo>
                <a:lnTo>
                  <a:pt x="1703" y="460"/>
                </a:lnTo>
                <a:lnTo>
                  <a:pt x="1717" y="467"/>
                </a:lnTo>
                <a:lnTo>
                  <a:pt x="1732" y="481"/>
                </a:lnTo>
                <a:lnTo>
                  <a:pt x="1746" y="489"/>
                </a:lnTo>
                <a:lnTo>
                  <a:pt x="1761" y="496"/>
                </a:lnTo>
                <a:lnTo>
                  <a:pt x="1776" y="503"/>
                </a:lnTo>
                <a:lnTo>
                  <a:pt x="1790" y="510"/>
                </a:lnTo>
                <a:lnTo>
                  <a:pt x="1805" y="510"/>
                </a:lnTo>
                <a:lnTo>
                  <a:pt x="1819" y="517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6173640" y="3484440"/>
            <a:ext cx="1636920" cy="2238480"/>
          </a:xfrm>
          <a:custGeom>
            <a:avLst/>
            <a:gdLst/>
            <a:ahLst/>
            <a:rect l="l" t="t" r="r" b="b"/>
            <a:pathLst>
              <a:path w="1031" h="1410">
                <a:moveTo>
                  <a:pt x="0" y="1382"/>
                </a:moveTo>
                <a:lnTo>
                  <a:pt x="15" y="1389"/>
                </a:lnTo>
                <a:lnTo>
                  <a:pt x="30" y="1389"/>
                </a:lnTo>
                <a:lnTo>
                  <a:pt x="44" y="1396"/>
                </a:lnTo>
                <a:lnTo>
                  <a:pt x="59" y="1396"/>
                </a:lnTo>
                <a:lnTo>
                  <a:pt x="74" y="1396"/>
                </a:lnTo>
                <a:lnTo>
                  <a:pt x="88" y="1403"/>
                </a:lnTo>
                <a:lnTo>
                  <a:pt x="103" y="1403"/>
                </a:lnTo>
                <a:lnTo>
                  <a:pt x="110" y="1403"/>
                </a:lnTo>
                <a:lnTo>
                  <a:pt x="125" y="1403"/>
                </a:lnTo>
                <a:lnTo>
                  <a:pt x="139" y="1403"/>
                </a:lnTo>
                <a:lnTo>
                  <a:pt x="154" y="1403"/>
                </a:lnTo>
                <a:lnTo>
                  <a:pt x="169" y="1403"/>
                </a:lnTo>
                <a:lnTo>
                  <a:pt x="183" y="1410"/>
                </a:lnTo>
                <a:lnTo>
                  <a:pt x="198" y="319"/>
                </a:lnTo>
                <a:lnTo>
                  <a:pt x="212" y="319"/>
                </a:lnTo>
                <a:lnTo>
                  <a:pt x="227" y="319"/>
                </a:lnTo>
                <a:lnTo>
                  <a:pt x="242" y="319"/>
                </a:lnTo>
                <a:lnTo>
                  <a:pt x="256" y="319"/>
                </a:lnTo>
                <a:lnTo>
                  <a:pt x="271" y="319"/>
                </a:lnTo>
                <a:lnTo>
                  <a:pt x="286" y="319"/>
                </a:lnTo>
                <a:lnTo>
                  <a:pt x="300" y="312"/>
                </a:lnTo>
                <a:lnTo>
                  <a:pt x="315" y="312"/>
                </a:lnTo>
                <a:lnTo>
                  <a:pt x="329" y="312"/>
                </a:lnTo>
                <a:lnTo>
                  <a:pt x="344" y="312"/>
                </a:lnTo>
                <a:lnTo>
                  <a:pt x="359" y="312"/>
                </a:lnTo>
                <a:lnTo>
                  <a:pt x="373" y="305"/>
                </a:lnTo>
                <a:lnTo>
                  <a:pt x="388" y="305"/>
                </a:lnTo>
                <a:lnTo>
                  <a:pt x="402" y="305"/>
                </a:lnTo>
                <a:lnTo>
                  <a:pt x="417" y="298"/>
                </a:lnTo>
                <a:lnTo>
                  <a:pt x="432" y="298"/>
                </a:lnTo>
                <a:lnTo>
                  <a:pt x="446" y="298"/>
                </a:lnTo>
                <a:lnTo>
                  <a:pt x="461" y="291"/>
                </a:lnTo>
                <a:lnTo>
                  <a:pt x="476" y="291"/>
                </a:lnTo>
                <a:lnTo>
                  <a:pt x="490" y="291"/>
                </a:lnTo>
                <a:lnTo>
                  <a:pt x="497" y="284"/>
                </a:lnTo>
                <a:lnTo>
                  <a:pt x="512" y="284"/>
                </a:lnTo>
                <a:lnTo>
                  <a:pt x="527" y="277"/>
                </a:lnTo>
                <a:lnTo>
                  <a:pt x="541" y="277"/>
                </a:lnTo>
                <a:lnTo>
                  <a:pt x="556" y="269"/>
                </a:lnTo>
                <a:lnTo>
                  <a:pt x="571" y="269"/>
                </a:lnTo>
                <a:lnTo>
                  <a:pt x="585" y="262"/>
                </a:lnTo>
                <a:lnTo>
                  <a:pt x="600" y="262"/>
                </a:lnTo>
                <a:lnTo>
                  <a:pt x="614" y="255"/>
                </a:lnTo>
                <a:lnTo>
                  <a:pt x="629" y="255"/>
                </a:lnTo>
                <a:lnTo>
                  <a:pt x="644" y="248"/>
                </a:lnTo>
                <a:lnTo>
                  <a:pt x="658" y="241"/>
                </a:lnTo>
                <a:lnTo>
                  <a:pt x="673" y="241"/>
                </a:lnTo>
                <a:lnTo>
                  <a:pt x="688" y="234"/>
                </a:lnTo>
                <a:lnTo>
                  <a:pt x="702" y="227"/>
                </a:lnTo>
                <a:lnTo>
                  <a:pt x="717" y="227"/>
                </a:lnTo>
                <a:lnTo>
                  <a:pt x="731" y="220"/>
                </a:lnTo>
                <a:lnTo>
                  <a:pt x="746" y="213"/>
                </a:lnTo>
                <a:lnTo>
                  <a:pt x="761" y="206"/>
                </a:lnTo>
                <a:lnTo>
                  <a:pt x="775" y="199"/>
                </a:lnTo>
                <a:lnTo>
                  <a:pt x="790" y="192"/>
                </a:lnTo>
                <a:lnTo>
                  <a:pt x="804" y="184"/>
                </a:lnTo>
                <a:lnTo>
                  <a:pt x="819" y="177"/>
                </a:lnTo>
                <a:lnTo>
                  <a:pt x="834" y="170"/>
                </a:lnTo>
                <a:lnTo>
                  <a:pt x="848" y="163"/>
                </a:lnTo>
                <a:lnTo>
                  <a:pt x="863" y="156"/>
                </a:lnTo>
                <a:lnTo>
                  <a:pt x="878" y="149"/>
                </a:lnTo>
                <a:lnTo>
                  <a:pt x="885" y="142"/>
                </a:lnTo>
                <a:lnTo>
                  <a:pt x="899" y="128"/>
                </a:lnTo>
                <a:lnTo>
                  <a:pt x="914" y="121"/>
                </a:lnTo>
                <a:lnTo>
                  <a:pt x="929" y="106"/>
                </a:lnTo>
                <a:lnTo>
                  <a:pt x="943" y="99"/>
                </a:lnTo>
                <a:lnTo>
                  <a:pt x="958" y="85"/>
                </a:lnTo>
                <a:lnTo>
                  <a:pt x="973" y="71"/>
                </a:lnTo>
                <a:lnTo>
                  <a:pt x="987" y="57"/>
                </a:lnTo>
                <a:lnTo>
                  <a:pt x="1002" y="43"/>
                </a:lnTo>
                <a:lnTo>
                  <a:pt x="1016" y="21"/>
                </a:lnTo>
                <a:lnTo>
                  <a:pt x="1031" y="0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3286080" y="2506680"/>
            <a:ext cx="2887560" cy="2351160"/>
          </a:xfrm>
          <a:custGeom>
            <a:avLst/>
            <a:gdLst/>
            <a:ahLst/>
            <a:rect l="l" t="t" r="r" b="b"/>
            <a:pathLst>
              <a:path w="1819" h="1481">
                <a:moveTo>
                  <a:pt x="0" y="1481"/>
                </a:moveTo>
                <a:lnTo>
                  <a:pt x="7" y="389"/>
                </a:lnTo>
                <a:lnTo>
                  <a:pt x="21" y="389"/>
                </a:lnTo>
                <a:lnTo>
                  <a:pt x="36" y="389"/>
                </a:lnTo>
                <a:lnTo>
                  <a:pt x="51" y="389"/>
                </a:lnTo>
                <a:lnTo>
                  <a:pt x="65" y="389"/>
                </a:lnTo>
                <a:lnTo>
                  <a:pt x="80" y="389"/>
                </a:lnTo>
                <a:lnTo>
                  <a:pt x="95" y="389"/>
                </a:lnTo>
                <a:lnTo>
                  <a:pt x="109" y="389"/>
                </a:lnTo>
                <a:lnTo>
                  <a:pt x="124" y="389"/>
                </a:lnTo>
                <a:lnTo>
                  <a:pt x="138" y="389"/>
                </a:lnTo>
                <a:lnTo>
                  <a:pt x="153" y="389"/>
                </a:lnTo>
                <a:lnTo>
                  <a:pt x="168" y="389"/>
                </a:lnTo>
                <a:lnTo>
                  <a:pt x="182" y="389"/>
                </a:lnTo>
                <a:lnTo>
                  <a:pt x="197" y="389"/>
                </a:lnTo>
                <a:lnTo>
                  <a:pt x="212" y="389"/>
                </a:lnTo>
                <a:lnTo>
                  <a:pt x="226" y="389"/>
                </a:lnTo>
                <a:lnTo>
                  <a:pt x="241" y="389"/>
                </a:lnTo>
                <a:lnTo>
                  <a:pt x="255" y="389"/>
                </a:lnTo>
                <a:lnTo>
                  <a:pt x="270" y="389"/>
                </a:lnTo>
                <a:lnTo>
                  <a:pt x="285" y="389"/>
                </a:lnTo>
                <a:lnTo>
                  <a:pt x="299" y="389"/>
                </a:lnTo>
                <a:lnTo>
                  <a:pt x="314" y="389"/>
                </a:lnTo>
                <a:lnTo>
                  <a:pt x="328" y="389"/>
                </a:lnTo>
                <a:lnTo>
                  <a:pt x="343" y="389"/>
                </a:lnTo>
                <a:lnTo>
                  <a:pt x="358" y="389"/>
                </a:lnTo>
                <a:lnTo>
                  <a:pt x="372" y="389"/>
                </a:lnTo>
                <a:lnTo>
                  <a:pt x="380" y="389"/>
                </a:lnTo>
                <a:lnTo>
                  <a:pt x="394" y="389"/>
                </a:lnTo>
                <a:lnTo>
                  <a:pt x="409" y="389"/>
                </a:lnTo>
                <a:lnTo>
                  <a:pt x="423" y="389"/>
                </a:lnTo>
                <a:lnTo>
                  <a:pt x="438" y="389"/>
                </a:lnTo>
                <a:lnTo>
                  <a:pt x="453" y="389"/>
                </a:lnTo>
                <a:lnTo>
                  <a:pt x="467" y="389"/>
                </a:lnTo>
                <a:lnTo>
                  <a:pt x="482" y="389"/>
                </a:lnTo>
                <a:lnTo>
                  <a:pt x="497" y="389"/>
                </a:lnTo>
                <a:lnTo>
                  <a:pt x="511" y="389"/>
                </a:lnTo>
                <a:lnTo>
                  <a:pt x="526" y="389"/>
                </a:lnTo>
                <a:lnTo>
                  <a:pt x="540" y="389"/>
                </a:lnTo>
                <a:lnTo>
                  <a:pt x="555" y="389"/>
                </a:lnTo>
                <a:lnTo>
                  <a:pt x="570" y="389"/>
                </a:lnTo>
                <a:lnTo>
                  <a:pt x="584" y="389"/>
                </a:lnTo>
                <a:lnTo>
                  <a:pt x="599" y="389"/>
                </a:lnTo>
                <a:lnTo>
                  <a:pt x="614" y="389"/>
                </a:lnTo>
                <a:lnTo>
                  <a:pt x="628" y="389"/>
                </a:lnTo>
                <a:lnTo>
                  <a:pt x="643" y="389"/>
                </a:lnTo>
                <a:lnTo>
                  <a:pt x="657" y="389"/>
                </a:lnTo>
                <a:lnTo>
                  <a:pt x="672" y="389"/>
                </a:lnTo>
                <a:lnTo>
                  <a:pt x="687" y="389"/>
                </a:lnTo>
                <a:lnTo>
                  <a:pt x="701" y="389"/>
                </a:lnTo>
                <a:lnTo>
                  <a:pt x="716" y="389"/>
                </a:lnTo>
                <a:lnTo>
                  <a:pt x="730" y="389"/>
                </a:lnTo>
                <a:lnTo>
                  <a:pt x="745" y="389"/>
                </a:lnTo>
                <a:lnTo>
                  <a:pt x="760" y="389"/>
                </a:lnTo>
                <a:lnTo>
                  <a:pt x="767" y="389"/>
                </a:lnTo>
                <a:lnTo>
                  <a:pt x="782" y="389"/>
                </a:lnTo>
                <a:lnTo>
                  <a:pt x="796" y="389"/>
                </a:lnTo>
                <a:lnTo>
                  <a:pt x="811" y="389"/>
                </a:lnTo>
                <a:lnTo>
                  <a:pt x="825" y="389"/>
                </a:lnTo>
                <a:lnTo>
                  <a:pt x="840" y="389"/>
                </a:lnTo>
                <a:lnTo>
                  <a:pt x="855" y="389"/>
                </a:lnTo>
                <a:lnTo>
                  <a:pt x="869" y="389"/>
                </a:lnTo>
                <a:lnTo>
                  <a:pt x="884" y="389"/>
                </a:lnTo>
                <a:lnTo>
                  <a:pt x="899" y="389"/>
                </a:lnTo>
                <a:lnTo>
                  <a:pt x="913" y="389"/>
                </a:lnTo>
                <a:lnTo>
                  <a:pt x="928" y="389"/>
                </a:lnTo>
                <a:lnTo>
                  <a:pt x="942" y="389"/>
                </a:lnTo>
                <a:lnTo>
                  <a:pt x="957" y="389"/>
                </a:lnTo>
                <a:lnTo>
                  <a:pt x="972" y="389"/>
                </a:lnTo>
                <a:lnTo>
                  <a:pt x="986" y="389"/>
                </a:lnTo>
                <a:lnTo>
                  <a:pt x="1001" y="389"/>
                </a:lnTo>
                <a:lnTo>
                  <a:pt x="1015" y="389"/>
                </a:lnTo>
                <a:lnTo>
                  <a:pt x="1030" y="389"/>
                </a:lnTo>
                <a:lnTo>
                  <a:pt x="1045" y="389"/>
                </a:lnTo>
                <a:lnTo>
                  <a:pt x="1059" y="389"/>
                </a:lnTo>
                <a:lnTo>
                  <a:pt x="1074" y="389"/>
                </a:lnTo>
                <a:lnTo>
                  <a:pt x="1089" y="389"/>
                </a:lnTo>
                <a:lnTo>
                  <a:pt x="1103" y="389"/>
                </a:lnTo>
                <a:lnTo>
                  <a:pt x="1118" y="389"/>
                </a:lnTo>
                <a:lnTo>
                  <a:pt x="1132" y="389"/>
                </a:lnTo>
                <a:lnTo>
                  <a:pt x="1147" y="389"/>
                </a:lnTo>
                <a:lnTo>
                  <a:pt x="1154" y="389"/>
                </a:lnTo>
                <a:lnTo>
                  <a:pt x="1169" y="389"/>
                </a:lnTo>
                <a:lnTo>
                  <a:pt x="1184" y="389"/>
                </a:lnTo>
                <a:lnTo>
                  <a:pt x="1198" y="389"/>
                </a:lnTo>
                <a:lnTo>
                  <a:pt x="1213" y="389"/>
                </a:lnTo>
                <a:lnTo>
                  <a:pt x="1227" y="389"/>
                </a:lnTo>
                <a:lnTo>
                  <a:pt x="1242" y="389"/>
                </a:lnTo>
                <a:lnTo>
                  <a:pt x="1257" y="389"/>
                </a:lnTo>
                <a:lnTo>
                  <a:pt x="1271" y="389"/>
                </a:lnTo>
                <a:lnTo>
                  <a:pt x="1286" y="389"/>
                </a:lnTo>
                <a:lnTo>
                  <a:pt x="1301" y="389"/>
                </a:lnTo>
                <a:lnTo>
                  <a:pt x="1315" y="389"/>
                </a:lnTo>
                <a:lnTo>
                  <a:pt x="1330" y="389"/>
                </a:lnTo>
                <a:lnTo>
                  <a:pt x="1344" y="389"/>
                </a:lnTo>
                <a:lnTo>
                  <a:pt x="1359" y="389"/>
                </a:lnTo>
                <a:lnTo>
                  <a:pt x="1374" y="389"/>
                </a:lnTo>
                <a:lnTo>
                  <a:pt x="1388" y="389"/>
                </a:lnTo>
                <a:lnTo>
                  <a:pt x="1403" y="389"/>
                </a:lnTo>
                <a:lnTo>
                  <a:pt x="1417" y="389"/>
                </a:lnTo>
                <a:lnTo>
                  <a:pt x="1432" y="389"/>
                </a:lnTo>
                <a:lnTo>
                  <a:pt x="1447" y="389"/>
                </a:lnTo>
                <a:lnTo>
                  <a:pt x="1461" y="389"/>
                </a:lnTo>
                <a:lnTo>
                  <a:pt x="1476" y="389"/>
                </a:lnTo>
                <a:lnTo>
                  <a:pt x="1491" y="389"/>
                </a:lnTo>
                <a:lnTo>
                  <a:pt x="1505" y="389"/>
                </a:lnTo>
                <a:lnTo>
                  <a:pt x="1520" y="389"/>
                </a:lnTo>
                <a:lnTo>
                  <a:pt x="1534" y="389"/>
                </a:lnTo>
                <a:lnTo>
                  <a:pt x="1542" y="0"/>
                </a:lnTo>
                <a:lnTo>
                  <a:pt x="1556" y="64"/>
                </a:lnTo>
                <a:lnTo>
                  <a:pt x="1571" y="113"/>
                </a:lnTo>
                <a:lnTo>
                  <a:pt x="1586" y="149"/>
                </a:lnTo>
                <a:lnTo>
                  <a:pt x="1600" y="184"/>
                </a:lnTo>
                <a:lnTo>
                  <a:pt x="1615" y="205"/>
                </a:lnTo>
                <a:lnTo>
                  <a:pt x="1629" y="234"/>
                </a:lnTo>
                <a:lnTo>
                  <a:pt x="1644" y="248"/>
                </a:lnTo>
                <a:lnTo>
                  <a:pt x="1659" y="269"/>
                </a:lnTo>
                <a:lnTo>
                  <a:pt x="1673" y="283"/>
                </a:lnTo>
                <a:lnTo>
                  <a:pt x="1688" y="297"/>
                </a:lnTo>
                <a:lnTo>
                  <a:pt x="1703" y="312"/>
                </a:lnTo>
                <a:lnTo>
                  <a:pt x="1717" y="319"/>
                </a:lnTo>
                <a:lnTo>
                  <a:pt x="1732" y="326"/>
                </a:lnTo>
                <a:lnTo>
                  <a:pt x="1746" y="340"/>
                </a:lnTo>
                <a:lnTo>
                  <a:pt x="1761" y="347"/>
                </a:lnTo>
                <a:lnTo>
                  <a:pt x="1776" y="354"/>
                </a:lnTo>
                <a:lnTo>
                  <a:pt x="1790" y="354"/>
                </a:lnTo>
                <a:lnTo>
                  <a:pt x="1805" y="361"/>
                </a:lnTo>
                <a:lnTo>
                  <a:pt x="1819" y="368"/>
                </a:lnTo>
              </a:path>
            </a:pathLst>
          </a:custGeom>
          <a:noFill/>
          <a:ln w="28440">
            <a:solidFill>
              <a:srgbClr val="007f00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6173640" y="2619360"/>
            <a:ext cx="1636920" cy="504720"/>
          </a:xfrm>
          <a:custGeom>
            <a:avLst/>
            <a:gdLst/>
            <a:ahLst/>
            <a:rect l="l" t="t" r="r" b="b"/>
            <a:pathLst>
              <a:path w="1031" h="318">
                <a:moveTo>
                  <a:pt x="0" y="297"/>
                </a:moveTo>
                <a:lnTo>
                  <a:pt x="15" y="297"/>
                </a:lnTo>
                <a:lnTo>
                  <a:pt x="30" y="304"/>
                </a:lnTo>
                <a:lnTo>
                  <a:pt x="44" y="304"/>
                </a:lnTo>
                <a:lnTo>
                  <a:pt x="59" y="311"/>
                </a:lnTo>
                <a:lnTo>
                  <a:pt x="74" y="311"/>
                </a:lnTo>
                <a:lnTo>
                  <a:pt x="88" y="311"/>
                </a:lnTo>
                <a:lnTo>
                  <a:pt x="103" y="318"/>
                </a:lnTo>
                <a:lnTo>
                  <a:pt x="110" y="318"/>
                </a:lnTo>
                <a:lnTo>
                  <a:pt x="125" y="318"/>
                </a:lnTo>
                <a:lnTo>
                  <a:pt x="139" y="318"/>
                </a:lnTo>
                <a:lnTo>
                  <a:pt x="154" y="318"/>
                </a:lnTo>
                <a:lnTo>
                  <a:pt x="169" y="318"/>
                </a:lnTo>
                <a:lnTo>
                  <a:pt x="183" y="318"/>
                </a:lnTo>
                <a:lnTo>
                  <a:pt x="198" y="318"/>
                </a:lnTo>
                <a:lnTo>
                  <a:pt x="212" y="318"/>
                </a:lnTo>
                <a:lnTo>
                  <a:pt x="227" y="318"/>
                </a:lnTo>
                <a:lnTo>
                  <a:pt x="242" y="318"/>
                </a:lnTo>
                <a:lnTo>
                  <a:pt x="256" y="318"/>
                </a:lnTo>
                <a:lnTo>
                  <a:pt x="271" y="318"/>
                </a:lnTo>
                <a:lnTo>
                  <a:pt x="286" y="318"/>
                </a:lnTo>
                <a:lnTo>
                  <a:pt x="300" y="318"/>
                </a:lnTo>
                <a:lnTo>
                  <a:pt x="315" y="311"/>
                </a:lnTo>
                <a:lnTo>
                  <a:pt x="329" y="311"/>
                </a:lnTo>
                <a:lnTo>
                  <a:pt x="344" y="311"/>
                </a:lnTo>
                <a:lnTo>
                  <a:pt x="359" y="311"/>
                </a:lnTo>
                <a:lnTo>
                  <a:pt x="373" y="311"/>
                </a:lnTo>
                <a:lnTo>
                  <a:pt x="388" y="304"/>
                </a:lnTo>
                <a:lnTo>
                  <a:pt x="402" y="304"/>
                </a:lnTo>
                <a:lnTo>
                  <a:pt x="417" y="304"/>
                </a:lnTo>
                <a:lnTo>
                  <a:pt x="432" y="297"/>
                </a:lnTo>
                <a:lnTo>
                  <a:pt x="446" y="297"/>
                </a:lnTo>
                <a:lnTo>
                  <a:pt x="461" y="297"/>
                </a:lnTo>
                <a:lnTo>
                  <a:pt x="476" y="290"/>
                </a:lnTo>
                <a:lnTo>
                  <a:pt x="490" y="290"/>
                </a:lnTo>
                <a:lnTo>
                  <a:pt x="497" y="283"/>
                </a:lnTo>
                <a:lnTo>
                  <a:pt x="512" y="283"/>
                </a:lnTo>
                <a:lnTo>
                  <a:pt x="527" y="283"/>
                </a:lnTo>
                <a:lnTo>
                  <a:pt x="541" y="276"/>
                </a:lnTo>
                <a:lnTo>
                  <a:pt x="556" y="276"/>
                </a:lnTo>
                <a:lnTo>
                  <a:pt x="571" y="269"/>
                </a:lnTo>
                <a:lnTo>
                  <a:pt x="585" y="269"/>
                </a:lnTo>
                <a:lnTo>
                  <a:pt x="600" y="262"/>
                </a:lnTo>
                <a:lnTo>
                  <a:pt x="614" y="255"/>
                </a:lnTo>
                <a:lnTo>
                  <a:pt x="629" y="255"/>
                </a:lnTo>
                <a:lnTo>
                  <a:pt x="644" y="248"/>
                </a:lnTo>
                <a:lnTo>
                  <a:pt x="658" y="248"/>
                </a:lnTo>
                <a:lnTo>
                  <a:pt x="673" y="241"/>
                </a:lnTo>
                <a:lnTo>
                  <a:pt x="688" y="233"/>
                </a:lnTo>
                <a:lnTo>
                  <a:pt x="702" y="233"/>
                </a:lnTo>
                <a:lnTo>
                  <a:pt x="717" y="226"/>
                </a:lnTo>
                <a:lnTo>
                  <a:pt x="731" y="219"/>
                </a:lnTo>
                <a:lnTo>
                  <a:pt x="746" y="212"/>
                </a:lnTo>
                <a:lnTo>
                  <a:pt x="761" y="205"/>
                </a:lnTo>
                <a:lnTo>
                  <a:pt x="775" y="205"/>
                </a:lnTo>
                <a:lnTo>
                  <a:pt x="790" y="198"/>
                </a:lnTo>
                <a:lnTo>
                  <a:pt x="804" y="191"/>
                </a:lnTo>
                <a:lnTo>
                  <a:pt x="819" y="184"/>
                </a:lnTo>
                <a:lnTo>
                  <a:pt x="834" y="177"/>
                </a:lnTo>
                <a:lnTo>
                  <a:pt x="848" y="170"/>
                </a:lnTo>
                <a:lnTo>
                  <a:pt x="863" y="155"/>
                </a:lnTo>
                <a:lnTo>
                  <a:pt x="878" y="148"/>
                </a:lnTo>
                <a:lnTo>
                  <a:pt x="885" y="141"/>
                </a:lnTo>
                <a:lnTo>
                  <a:pt x="899" y="134"/>
                </a:lnTo>
                <a:lnTo>
                  <a:pt x="914" y="120"/>
                </a:lnTo>
                <a:lnTo>
                  <a:pt x="929" y="113"/>
                </a:lnTo>
                <a:lnTo>
                  <a:pt x="943" y="99"/>
                </a:lnTo>
                <a:lnTo>
                  <a:pt x="958" y="85"/>
                </a:lnTo>
                <a:lnTo>
                  <a:pt x="973" y="70"/>
                </a:lnTo>
                <a:lnTo>
                  <a:pt x="987" y="56"/>
                </a:lnTo>
                <a:lnTo>
                  <a:pt x="1002" y="42"/>
                </a:lnTo>
                <a:lnTo>
                  <a:pt x="1016" y="21"/>
                </a:lnTo>
                <a:lnTo>
                  <a:pt x="1031" y="0"/>
                </a:lnTo>
              </a:path>
            </a:pathLst>
          </a:custGeom>
          <a:noFill/>
          <a:ln w="28440">
            <a:solidFill>
              <a:srgbClr val="007f00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5030640" y="6400800"/>
            <a:ext cx="1508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gle, degre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5559120" y="533520"/>
            <a:ext cx="3320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uid-Solid tpp ,t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effs (phase) water-ste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locity-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228600" y="533520"/>
            <a:ext cx="53341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&gt; plot(ang, unwrap(angle(tpp)), ang, unwrap(angle(tps)),'--'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&gt; xlabel('angle, degrees'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 flipH="1" flipV="1">
            <a:off x="3733560" y="4267080"/>
            <a:ext cx="2286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3352680" y="3809880"/>
            <a:ext cx="47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p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 flipH="1" flipV="1">
            <a:off x="4419720" y="2590920"/>
            <a:ext cx="30456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4027320" y="2157480"/>
            <a:ext cx="449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1082520" y="237816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 flipV="1">
            <a:off x="380880" y="2759040"/>
            <a:ext cx="549360" cy="517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 flipH="1" flipV="1">
            <a:off x="380880" y="2133720"/>
            <a:ext cx="473040" cy="473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 flipV="1">
            <a:off x="1219320" y="2057400"/>
            <a:ext cx="380880" cy="473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 flipV="1">
            <a:off x="1219320" y="2437920"/>
            <a:ext cx="609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 flipH="1" flipV="1">
            <a:off x="1447560" y="2362320"/>
            <a:ext cx="1522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225720" y="3505320"/>
            <a:ext cx="2700000" cy="233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se on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ly i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nce velocity com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transmit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 normal to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face 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609480" y="60199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286560" y="6137280"/>
            <a:ext cx="22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polarization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2819520" y="6172200"/>
            <a:ext cx="1522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285480" y="1413000"/>
            <a:ext cx="297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umed polariza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"/>
          <p:cNvSpPr/>
          <p:nvPr/>
        </p:nvSpPr>
        <p:spPr>
          <a:xfrm>
            <a:off x="1077480" y="1270080"/>
            <a:ext cx="55634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ction [R,T] =pressure_coeffs(d1, d2, c1, c2, an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ang = (ang.*pi)./18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int =(c2/c1)*sin(iang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st = sqrt(1-sint.^2).*(sint &lt;= 1) + i.*sqrt(sint.^2 -1).*(sint &gt; 1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 = ((c2*d2).*cos(iang) - (c1*d1).*cost)./ 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(c2*d2).*cos(iang) + (c1*d1).*co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 = ((2*d2*c2).*cos(iang))./((c2*d2).*cos(iang) + (c1*d1).*co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1044720" y="574560"/>
            <a:ext cx="551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uid-fluid R,T coefficients, pressure-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891000" y="3241800"/>
            <a:ext cx="555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uid-fluid R, T coefficients, velocity-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914400" y="3809880"/>
            <a:ext cx="4572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ction [R,T] =velocity_coeffs(d1, d2, c1, c2, an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ang = (ang.*pi)./18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int =(c2/c1)*sin(iang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st = sqrt(1-sint.^2).*(sint &lt;= 1) + i.*sqrt(sint.^2 -1).*(sint &gt; 1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 = ((c2*d2).*cos(iang) - (c1*d1).*cost)./ 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(c2*d2).*cos(iang) + (c1*d1).*co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 = ((2*d1*c1).*cos(iang))./((c2*d2).*cos(iang) + (c1*d1).*co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"/>
          <p:cNvSpPr/>
          <p:nvPr/>
        </p:nvSpPr>
        <p:spPr>
          <a:xfrm>
            <a:off x="228600" y="914400"/>
            <a:ext cx="868680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ction [tpp,tps] = trans2(inc, d1, d2, cp1, cp2, cs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ang = (inc.*pi)./18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inp = (cp2/cp1)*sin(iang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ins =(cs2/cp1)*sin(iang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sp= (i*sqrt(sinp.^2 - 1)).*(sinp &gt;= 1) + (sqrt(1 - sinp.^2)).*(sinp &lt; 1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ss = (i*sqrt(sins.^2 - 1)).*(sins &gt;= 1) + (sqrt(1 - sins.^2)).*(sins &lt; 1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om = cosp + (d2/d1)*(cp2/cp1)*sqrt(1-sin(iang).^2).*(4.*((cs2/cp2)^2).*(sins.*coss.*sinp.*cosp) 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+ 1 - 4.*(sins.^2).*(coss.^2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pp = (2*sqrt(1 - sin(iang).^2).*(1 - 2*(sins.^2)))./denom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ps = -(4*cosp.*sins.*sqrt(1 - sin(iang).^2))./denom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1365840" y="228600"/>
            <a:ext cx="580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uid-Solid P-P, P-S transmission coeffici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819520" y="1981080"/>
            <a:ext cx="3047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038480" y="914400"/>
            <a:ext cx="0" cy="2209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945400" y="1752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253040" y="2860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3200400" y="1066680"/>
            <a:ext cx="83808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flipV="1">
            <a:off x="4038480" y="1143000"/>
            <a:ext cx="91440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046400" y="1995480"/>
            <a:ext cx="1433520" cy="53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1295280"/>
            <a:ext cx="201600" cy="246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4422600" y="1390320"/>
            <a:ext cx="244800" cy="245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72000" y="2209680"/>
            <a:ext cx="314280" cy="109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H="1" flipV="1" rot="5295000">
            <a:off x="3884040" y="1689480"/>
            <a:ext cx="319680" cy="331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5068" y="879"/>
                </a:moveTo>
                <a:arcTo wR="10800" hR="10800" stAng="-4003449" swAng="8903769"/>
                <a:lnTo>
                  <a:pt x="10800" y="10800"/>
                </a:lnTo>
                <a:close/>
              </a:path>
              <a:path fill="none" w="21600" h="21600">
                <a:moveTo>
                  <a:pt x="15068" y="879"/>
                </a:moveTo>
                <a:arcTo wR="10800" hR="10800" stAng="-4003449" swAng="8903769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3807000" y="1814040"/>
            <a:ext cx="491760" cy="491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3657600" y="1143000"/>
          <a:ext cx="311040" cy="46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57600" y="1143000"/>
                    <a:ext cx="311040" cy="46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4114800" y="1143000"/>
          <a:ext cx="355680" cy="465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14800" y="1143000"/>
                    <a:ext cx="355680" cy="46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" name=""/>
          <p:cNvGraphicFramePr/>
          <p:nvPr/>
        </p:nvGraphicFramePr>
        <p:xfrm>
          <a:off x="4191120" y="2133720"/>
          <a:ext cx="344520" cy="517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191120" y="2133720"/>
                    <a:ext cx="344520" cy="51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" name=""/>
          <p:cNvGraphicFramePr/>
          <p:nvPr/>
        </p:nvGraphicFramePr>
        <p:xfrm>
          <a:off x="3276720" y="1295280"/>
          <a:ext cx="334800" cy="5479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276720" y="1295280"/>
                    <a:ext cx="334800" cy="5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" name=""/>
          <p:cNvGraphicFramePr/>
          <p:nvPr/>
        </p:nvGraphicFramePr>
        <p:xfrm>
          <a:off x="4724280" y="1295280"/>
          <a:ext cx="328680" cy="4651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724280" y="1295280"/>
                    <a:ext cx="328680" cy="46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" name=""/>
          <p:cNvGraphicFramePr/>
          <p:nvPr/>
        </p:nvGraphicFramePr>
        <p:xfrm>
          <a:off x="4724280" y="2286000"/>
          <a:ext cx="289080" cy="4716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724280" y="2286000"/>
                    <a:ext cx="289080" cy="4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" name=""/>
          <p:cNvGraphicFramePr/>
          <p:nvPr/>
        </p:nvGraphicFramePr>
        <p:xfrm>
          <a:off x="2209680" y="1219320"/>
          <a:ext cx="704880" cy="4442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209680" y="1219320"/>
                    <a:ext cx="704880" cy="44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" name=""/>
          <p:cNvGraphicFramePr/>
          <p:nvPr/>
        </p:nvGraphicFramePr>
        <p:xfrm>
          <a:off x="2286000" y="2209680"/>
          <a:ext cx="717480" cy="4208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286000" y="2209680"/>
                    <a:ext cx="717480" cy="42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" name=""/>
          <p:cNvSpPr/>
          <p:nvPr/>
        </p:nvSpPr>
        <p:spPr>
          <a:xfrm>
            <a:off x="2970360" y="228600"/>
            <a:ext cx="268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luid-Fluid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32800" y="4114800"/>
            <a:ext cx="188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ident w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57280" y="4951440"/>
            <a:ext cx="196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flected w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55040" y="5791320"/>
            <a:ext cx="227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mitted w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16240" y="3241800"/>
            <a:ext cx="204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sure in th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2743200" y="4191120"/>
          <a:ext cx="1676520" cy="4586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2743200" y="4191120"/>
                    <a:ext cx="1676520" cy="45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" name=""/>
          <p:cNvGraphicFramePr/>
          <p:nvPr/>
        </p:nvGraphicFramePr>
        <p:xfrm>
          <a:off x="6629400" y="2590920"/>
          <a:ext cx="1219320" cy="37440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6629400" y="2590920"/>
                    <a:ext cx="1219320" cy="37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" name=""/>
          <p:cNvGraphicFramePr/>
          <p:nvPr/>
        </p:nvGraphicFramePr>
        <p:xfrm>
          <a:off x="4984920" y="4199040"/>
          <a:ext cx="1971360" cy="38556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4984920" y="4199040"/>
                    <a:ext cx="1971360" cy="38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" name=""/>
          <p:cNvGraphicFramePr/>
          <p:nvPr/>
        </p:nvGraphicFramePr>
        <p:xfrm>
          <a:off x="2797200" y="5029200"/>
          <a:ext cx="1722240" cy="45864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2797200" y="5029200"/>
                    <a:ext cx="1722240" cy="45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" name=""/>
          <p:cNvGraphicFramePr/>
          <p:nvPr/>
        </p:nvGraphicFramePr>
        <p:xfrm>
          <a:off x="5062680" y="5029200"/>
          <a:ext cx="2057400" cy="38592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5062680" y="5029200"/>
                    <a:ext cx="2057400" cy="38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" name=""/>
          <p:cNvGraphicFramePr/>
          <p:nvPr/>
        </p:nvGraphicFramePr>
        <p:xfrm>
          <a:off x="2960640" y="5791320"/>
          <a:ext cx="1698840" cy="45864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2960640" y="5791320"/>
                    <a:ext cx="1698840" cy="45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" name=""/>
          <p:cNvGraphicFramePr/>
          <p:nvPr/>
        </p:nvGraphicFramePr>
        <p:xfrm>
          <a:off x="5246640" y="5867280"/>
          <a:ext cx="1994040" cy="38592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5246640" y="5867280"/>
                    <a:ext cx="1994040" cy="38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" name=""/>
          <p:cNvGraphicFramePr/>
          <p:nvPr/>
        </p:nvGraphicFramePr>
        <p:xfrm>
          <a:off x="762120" y="3124080"/>
          <a:ext cx="7202520" cy="98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3124080"/>
                    <a:ext cx="7202520" cy="98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3" name=""/>
          <p:cNvGraphicFramePr/>
          <p:nvPr/>
        </p:nvGraphicFramePr>
        <p:xfrm>
          <a:off x="4495680" y="4267080"/>
          <a:ext cx="1671840" cy="735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95680" y="4267080"/>
                    <a:ext cx="1671840" cy="73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" name=""/>
          <p:cNvSpPr/>
          <p:nvPr/>
        </p:nvSpPr>
        <p:spPr>
          <a:xfrm>
            <a:off x="2895480" y="1371600"/>
            <a:ext cx="3048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114800" y="304920"/>
            <a:ext cx="0" cy="2209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021720" y="1143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329360" y="2251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3276720" y="457200"/>
            <a:ext cx="83808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4114800" y="533520"/>
            <a:ext cx="91440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122720" y="1386000"/>
            <a:ext cx="1433520" cy="53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685800"/>
            <a:ext cx="201600" cy="246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4498920" y="780840"/>
            <a:ext cx="244440" cy="245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648320" y="1600200"/>
            <a:ext cx="314280" cy="109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 flipV="1" rot="5295000">
            <a:off x="3959640" y="1079640"/>
            <a:ext cx="320760" cy="331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5068" y="879"/>
                </a:moveTo>
                <a:arcTo wR="10800" hR="10800" stAng="-4003449" swAng="8903769"/>
                <a:lnTo>
                  <a:pt x="10800" y="10800"/>
                </a:lnTo>
                <a:close/>
              </a:path>
              <a:path fill="none" w="21600" h="21600">
                <a:moveTo>
                  <a:pt x="15068" y="879"/>
                </a:moveTo>
                <a:arcTo wR="10800" hR="10800" stAng="-4003449" swAng="8903769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83680" y="1203840"/>
            <a:ext cx="491400" cy="49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3733920" y="533520"/>
          <a:ext cx="311040" cy="466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733920" y="533520"/>
                    <a:ext cx="311040" cy="46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9" name=""/>
          <p:cNvGraphicFramePr/>
          <p:nvPr/>
        </p:nvGraphicFramePr>
        <p:xfrm>
          <a:off x="4191120" y="533520"/>
          <a:ext cx="355320" cy="465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191120" y="533520"/>
                    <a:ext cx="355320" cy="46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" name=""/>
          <p:cNvGraphicFramePr/>
          <p:nvPr/>
        </p:nvGraphicFramePr>
        <p:xfrm>
          <a:off x="4267080" y="1523880"/>
          <a:ext cx="344520" cy="5176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267080" y="1523880"/>
                    <a:ext cx="344520" cy="51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" name=""/>
          <p:cNvGraphicFramePr/>
          <p:nvPr/>
        </p:nvGraphicFramePr>
        <p:xfrm>
          <a:off x="3352680" y="685800"/>
          <a:ext cx="335160" cy="5475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352680" y="685800"/>
                    <a:ext cx="33516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" name=""/>
          <p:cNvGraphicFramePr/>
          <p:nvPr/>
        </p:nvGraphicFramePr>
        <p:xfrm>
          <a:off x="4800600" y="685800"/>
          <a:ext cx="328680" cy="4651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800600" y="685800"/>
                    <a:ext cx="328680" cy="46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7" name=""/>
          <p:cNvGraphicFramePr/>
          <p:nvPr/>
        </p:nvGraphicFramePr>
        <p:xfrm>
          <a:off x="4800600" y="1676520"/>
          <a:ext cx="289080" cy="4712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4800600" y="1676520"/>
                    <a:ext cx="289080" cy="47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9" name=""/>
          <p:cNvGraphicFramePr/>
          <p:nvPr/>
        </p:nvGraphicFramePr>
        <p:xfrm>
          <a:off x="2286000" y="609480"/>
          <a:ext cx="704880" cy="4446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2286000" y="609480"/>
                    <a:ext cx="70488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1" name=""/>
          <p:cNvGraphicFramePr/>
          <p:nvPr/>
        </p:nvGraphicFramePr>
        <p:xfrm>
          <a:off x="2362320" y="1600200"/>
          <a:ext cx="717480" cy="4208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2362320" y="1600200"/>
                    <a:ext cx="717480" cy="42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741960" y="4384800"/>
            <a:ext cx="633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the equation of motion                              , 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303120" y="5281560"/>
          <a:ext cx="8840880" cy="157644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303120" y="5281560"/>
                    <a:ext cx="8840880" cy="157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973080" y="574560"/>
            <a:ext cx="390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undary conditions: on y 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5257800" y="533520"/>
          <a:ext cx="1600200" cy="101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57800" y="533520"/>
                    <a:ext cx="1600200" cy="101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9" name=""/>
          <p:cNvGraphicFramePr/>
          <p:nvPr/>
        </p:nvGraphicFramePr>
        <p:xfrm>
          <a:off x="914400" y="1981080"/>
          <a:ext cx="7924680" cy="1163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14400" y="1981080"/>
                    <a:ext cx="7924680" cy="116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"/>
          <p:cNvSpPr/>
          <p:nvPr/>
        </p:nvSpPr>
        <p:spPr>
          <a:xfrm>
            <a:off x="1065240" y="3352680"/>
            <a:ext cx="21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se match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3429000" y="3429000"/>
          <a:ext cx="3124080" cy="415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429000" y="3429000"/>
                    <a:ext cx="3124080" cy="41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4" name=""/>
          <p:cNvSpPr/>
          <p:nvPr/>
        </p:nvSpPr>
        <p:spPr>
          <a:xfrm>
            <a:off x="1219320" y="4191120"/>
            <a:ext cx="457200" cy="304560"/>
          </a:xfrm>
          <a:prstGeom prst="rightArrow">
            <a:avLst>
              <a:gd name="adj1" fmla="val 50000"/>
              <a:gd name="adj2" fmla="val 3753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2209680" y="4191120"/>
          <a:ext cx="838440" cy="4442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209680" y="4191120"/>
                    <a:ext cx="838440" cy="44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4343400" y="4038480"/>
          <a:ext cx="1523880" cy="7509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343400" y="4038480"/>
                    <a:ext cx="1523880" cy="75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9" name=""/>
          <p:cNvSpPr/>
          <p:nvPr/>
        </p:nvSpPr>
        <p:spPr>
          <a:xfrm>
            <a:off x="1063080" y="4648320"/>
            <a:ext cx="266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gle of inc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angle of ref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360" y="4876920"/>
            <a:ext cx="149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nell's la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6248520" y="4724280"/>
            <a:ext cx="380880" cy="500040"/>
            <a:chOff x="6248520" y="4724280"/>
            <a:chExt cx="380880" cy="500040"/>
          </a:xfrm>
        </p:grpSpPr>
        <p:sp>
          <p:nvSpPr>
            <p:cNvPr id="142" name=""/>
            <p:cNvSpPr/>
            <p:nvPr/>
          </p:nvSpPr>
          <p:spPr>
            <a:xfrm>
              <a:off x="6387840" y="5149800"/>
              <a:ext cx="107640" cy="7452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248520" y="4724280"/>
              <a:ext cx="380880" cy="3808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362640" y="5086080"/>
              <a:ext cx="158400" cy="1018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flipV="1">
              <a:off x="6432480" y="4914360"/>
              <a:ext cx="0" cy="16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6" name=""/>
          <p:cNvGraphicFramePr/>
          <p:nvPr/>
        </p:nvGraphicFramePr>
        <p:xfrm>
          <a:off x="990720" y="380880"/>
          <a:ext cx="3757320" cy="135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380880"/>
                    <a:ext cx="3757320" cy="135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8" name=""/>
          <p:cNvSpPr/>
          <p:nvPr/>
        </p:nvSpPr>
        <p:spPr>
          <a:xfrm>
            <a:off x="754920" y="1905120"/>
            <a:ext cx="604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ving, we find the transmission and ref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efficients (pressure ratios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838080" y="2819520"/>
          <a:ext cx="3657600" cy="1579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8080" y="2819520"/>
                    <a:ext cx="3657600" cy="157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1" name=""/>
          <p:cNvGraphicFramePr/>
          <p:nvPr/>
        </p:nvGraphicFramePr>
        <p:xfrm>
          <a:off x="5257800" y="685800"/>
          <a:ext cx="2666880" cy="954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257800" y="685800"/>
                    <a:ext cx="2666880" cy="95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"/>
          <p:cNvSpPr/>
          <p:nvPr/>
        </p:nvSpPr>
        <p:spPr>
          <a:xfrm>
            <a:off x="833040" y="4572000"/>
            <a:ext cx="372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, in terms of velocity rat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838080" y="5105520"/>
          <a:ext cx="3581640" cy="1555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838080" y="5105520"/>
                    <a:ext cx="3581640" cy="155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6" name=""/>
          <p:cNvGraphicFramePr/>
          <p:nvPr/>
        </p:nvGraphicFramePr>
        <p:xfrm>
          <a:off x="4876920" y="4572000"/>
          <a:ext cx="1422360" cy="4208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876920" y="4572000"/>
                    <a:ext cx="1422360" cy="42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960200" y="422280"/>
            <a:ext cx="411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ial Case - normal inc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971800" y="1828800"/>
            <a:ext cx="2133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809880" y="9907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3962520" y="1066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88620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2590920" y="1143000"/>
          <a:ext cx="704880" cy="44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143000"/>
                    <a:ext cx="70488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5" name=""/>
          <p:cNvGraphicFramePr/>
          <p:nvPr/>
        </p:nvGraphicFramePr>
        <p:xfrm>
          <a:off x="2666880" y="2133720"/>
          <a:ext cx="717840" cy="420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2133720"/>
                    <a:ext cx="717840" cy="42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7" name=""/>
          <p:cNvGraphicFramePr/>
          <p:nvPr/>
        </p:nvGraphicFramePr>
        <p:xfrm>
          <a:off x="647640" y="2763720"/>
          <a:ext cx="3278160" cy="1860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47640" y="2763720"/>
                    <a:ext cx="3278160" cy="186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9" name=""/>
          <p:cNvSpPr/>
          <p:nvPr/>
        </p:nvSpPr>
        <p:spPr>
          <a:xfrm>
            <a:off x="669960" y="4987800"/>
            <a:ext cx="53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  … plane wave specific imped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334120" y="358128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716080" y="36576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o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238880" y="358128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376960" y="3616200"/>
            <a:ext cx="1528560" cy="587520"/>
          </a:xfrm>
          <a:custGeom>
            <a:avLst/>
            <a:gdLst/>
            <a:ahLst/>
            <a:rect l="l" t="t" r="r" b="b"/>
            <a:pathLst>
              <a:path w="963" h="370">
                <a:moveTo>
                  <a:pt x="0" y="0"/>
                </a:moveTo>
                <a:cubicBezTo>
                  <a:pt x="53" y="39"/>
                  <a:pt x="29" y="16"/>
                  <a:pt x="78" y="86"/>
                </a:cubicBezTo>
                <a:cubicBezTo>
                  <a:pt x="84" y="94"/>
                  <a:pt x="95" y="112"/>
                  <a:pt x="95" y="112"/>
                </a:cubicBezTo>
                <a:cubicBezTo>
                  <a:pt x="105" y="174"/>
                  <a:pt x="130" y="215"/>
                  <a:pt x="181" y="250"/>
                </a:cubicBezTo>
                <a:cubicBezTo>
                  <a:pt x="187" y="261"/>
                  <a:pt x="189" y="275"/>
                  <a:pt x="198" y="284"/>
                </a:cubicBezTo>
                <a:cubicBezTo>
                  <a:pt x="217" y="303"/>
                  <a:pt x="284" y="307"/>
                  <a:pt x="318" y="318"/>
                </a:cubicBezTo>
                <a:cubicBezTo>
                  <a:pt x="398" y="370"/>
                  <a:pt x="493" y="339"/>
                  <a:pt x="585" y="335"/>
                </a:cubicBezTo>
                <a:cubicBezTo>
                  <a:pt x="659" y="312"/>
                  <a:pt x="663" y="285"/>
                  <a:pt x="714" y="232"/>
                </a:cubicBezTo>
                <a:cubicBezTo>
                  <a:pt x="728" y="190"/>
                  <a:pt x="742" y="160"/>
                  <a:pt x="783" y="146"/>
                </a:cubicBezTo>
                <a:cubicBezTo>
                  <a:pt x="804" y="115"/>
                  <a:pt x="841" y="99"/>
                  <a:pt x="877" y="86"/>
                </a:cubicBezTo>
                <a:cubicBezTo>
                  <a:pt x="900" y="51"/>
                  <a:pt x="912" y="58"/>
                  <a:pt x="946" y="35"/>
                </a:cubicBezTo>
                <a:cubicBezTo>
                  <a:pt x="955" y="5"/>
                  <a:pt x="948" y="15"/>
                  <a:pt x="963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238880" y="3657600"/>
            <a:ext cx="1528920" cy="587520"/>
          </a:xfrm>
          <a:custGeom>
            <a:avLst/>
            <a:gdLst/>
            <a:ahLst/>
            <a:rect l="l" t="t" r="r" b="b"/>
            <a:pathLst>
              <a:path w="963" h="370">
                <a:moveTo>
                  <a:pt x="0" y="0"/>
                </a:moveTo>
                <a:cubicBezTo>
                  <a:pt x="53" y="39"/>
                  <a:pt x="29" y="16"/>
                  <a:pt x="78" y="86"/>
                </a:cubicBezTo>
                <a:cubicBezTo>
                  <a:pt x="84" y="94"/>
                  <a:pt x="95" y="112"/>
                  <a:pt x="95" y="112"/>
                </a:cubicBezTo>
                <a:cubicBezTo>
                  <a:pt x="105" y="174"/>
                  <a:pt x="130" y="215"/>
                  <a:pt x="181" y="250"/>
                </a:cubicBezTo>
                <a:cubicBezTo>
                  <a:pt x="187" y="261"/>
                  <a:pt x="189" y="275"/>
                  <a:pt x="198" y="284"/>
                </a:cubicBezTo>
                <a:cubicBezTo>
                  <a:pt x="217" y="303"/>
                  <a:pt x="284" y="307"/>
                  <a:pt x="318" y="318"/>
                </a:cubicBezTo>
                <a:cubicBezTo>
                  <a:pt x="398" y="370"/>
                  <a:pt x="493" y="339"/>
                  <a:pt x="585" y="335"/>
                </a:cubicBezTo>
                <a:cubicBezTo>
                  <a:pt x="659" y="312"/>
                  <a:pt x="663" y="285"/>
                  <a:pt x="714" y="232"/>
                </a:cubicBezTo>
                <a:cubicBezTo>
                  <a:pt x="728" y="190"/>
                  <a:pt x="742" y="160"/>
                  <a:pt x="783" y="146"/>
                </a:cubicBezTo>
                <a:cubicBezTo>
                  <a:pt x="804" y="115"/>
                  <a:pt x="841" y="99"/>
                  <a:pt x="877" y="86"/>
                </a:cubicBezTo>
                <a:cubicBezTo>
                  <a:pt x="900" y="51"/>
                  <a:pt x="912" y="58"/>
                  <a:pt x="946" y="35"/>
                </a:cubicBezTo>
                <a:cubicBezTo>
                  <a:pt x="955" y="5"/>
                  <a:pt x="948" y="15"/>
                  <a:pt x="963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604280" y="3622680"/>
            <a:ext cx="7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g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943600" y="25909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6172200" y="25909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696080" y="25146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7924680" y="25146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867280" y="1905120"/>
            <a:ext cx="121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620120" y="198108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2" name=""/>
          <p:cNvGraphicFramePr/>
          <p:nvPr/>
        </p:nvGraphicFramePr>
        <p:xfrm>
          <a:off x="5181480" y="838080"/>
          <a:ext cx="2667240" cy="95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81480" y="838080"/>
                    <a:ext cx="2667240" cy="95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"/>
          <p:cNvGraphicFramePr/>
          <p:nvPr/>
        </p:nvGraphicFramePr>
        <p:xfrm>
          <a:off x="3733920" y="1981080"/>
          <a:ext cx="4267080" cy="547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1981080"/>
                    <a:ext cx="4267080" cy="5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" name=""/>
          <p:cNvSpPr/>
          <p:nvPr/>
        </p:nvSpPr>
        <p:spPr>
          <a:xfrm>
            <a:off x="457200" y="990720"/>
            <a:ext cx="2987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gt;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. Then f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486960" y="193680"/>
            <a:ext cx="183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itical ang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3124080" y="838080"/>
          <a:ext cx="1600200" cy="844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124080" y="838080"/>
                    <a:ext cx="1600200" cy="84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"/>
          <p:cNvSpPr/>
          <p:nvPr/>
        </p:nvSpPr>
        <p:spPr>
          <a:xfrm>
            <a:off x="380520" y="3505320"/>
            <a:ext cx="175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as f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1981080" y="3276720"/>
          <a:ext cx="1828800" cy="965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981080" y="3276720"/>
                    <a:ext cx="1828800" cy="96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3" name=""/>
          <p:cNvGraphicFramePr/>
          <p:nvPr/>
        </p:nvGraphicFramePr>
        <p:xfrm>
          <a:off x="3733920" y="5181480"/>
          <a:ext cx="5410080" cy="9399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733920" y="5181480"/>
                    <a:ext cx="5410080" cy="93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5" name=""/>
          <p:cNvSpPr/>
          <p:nvPr/>
        </p:nvSpPr>
        <p:spPr>
          <a:xfrm>
            <a:off x="838080" y="198108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905120" y="198108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905120" y="1981080"/>
            <a:ext cx="1295280" cy="762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438280" y="2286000"/>
            <a:ext cx="381240" cy="22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2362320" y="2057400"/>
            <a:ext cx="304560" cy="533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990720" y="579132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828800" y="57913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92440" y="5854680"/>
            <a:ext cx="913680" cy="121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447920" y="6095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416120" y="2590920"/>
            <a:ext cx="30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mitted plane w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72000" y="6248520"/>
            <a:ext cx="283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homogeneous w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8077320" y="6172200"/>
            <a:ext cx="380880" cy="500040"/>
            <a:chOff x="8077320" y="6172200"/>
            <a:chExt cx="380880" cy="500040"/>
          </a:xfrm>
        </p:grpSpPr>
        <p:sp>
          <p:nvSpPr>
            <p:cNvPr id="207" name=""/>
            <p:cNvSpPr/>
            <p:nvPr/>
          </p:nvSpPr>
          <p:spPr>
            <a:xfrm>
              <a:off x="8216640" y="6597720"/>
              <a:ext cx="107640" cy="7452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077320" y="6172200"/>
              <a:ext cx="380880" cy="3808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191440" y="6534000"/>
              <a:ext cx="158400" cy="1018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 flipV="1">
              <a:off x="8261280" y="6362280"/>
              <a:ext cx="0" cy="16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211" name=""/>
          <p:cNvGraphicFramePr/>
          <p:nvPr/>
        </p:nvGraphicFramePr>
        <p:xfrm>
          <a:off x="4191120" y="3429000"/>
          <a:ext cx="3429000" cy="9478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191120" y="3429000"/>
                    <a:ext cx="3429000" cy="94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3" name=""/>
          <p:cNvGraphicFramePr/>
          <p:nvPr/>
        </p:nvGraphicFramePr>
        <p:xfrm>
          <a:off x="990720" y="4267080"/>
          <a:ext cx="2438280" cy="8971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990720" y="4267080"/>
                    <a:ext cx="2438280" cy="89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5" name=""/>
          <p:cNvSpPr/>
          <p:nvPr/>
        </p:nvSpPr>
        <p:spPr>
          <a:xfrm>
            <a:off x="1449720" y="2514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430800" y="1676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360800" y="6254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973600" y="5791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1981080" y="2286000"/>
          <a:ext cx="254160" cy="3808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981080" y="2286000"/>
                    <a:ext cx="25416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1" name=""/>
          <p:cNvSpPr/>
          <p:nvPr/>
        </p:nvSpPr>
        <p:spPr>
          <a:xfrm flipV="1" rot="1147200">
            <a:off x="1741320" y="1828080"/>
            <a:ext cx="491400" cy="491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1362600" y="380880"/>
            <a:ext cx="606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ationship between amplitudes and intens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202480" y="1143000"/>
            <a:ext cx="651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nsity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= time average power flux in the w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1257480" y="2371680"/>
          <a:ext cx="2084040" cy="86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7480" y="2371680"/>
                    <a:ext cx="2084040" cy="86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6" name=""/>
          <p:cNvSpPr/>
          <p:nvPr/>
        </p:nvSpPr>
        <p:spPr>
          <a:xfrm>
            <a:off x="3731400" y="2362320"/>
            <a:ext cx="3140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… pressure ampl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… velocity ampl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52640" y="3657600"/>
            <a:ext cx="91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920" y="2057400"/>
            <a:ext cx="91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u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1635120" y="4224240"/>
          <a:ext cx="2286000" cy="924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35120" y="4224240"/>
                    <a:ext cx="2286000" cy="92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1" name=""/>
          <p:cNvSpPr/>
          <p:nvPr/>
        </p:nvSpPr>
        <p:spPr>
          <a:xfrm>
            <a:off x="230400" y="4419720"/>
            <a:ext cx="12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-wave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65320" y="540864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-w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1514520" y="5243400"/>
          <a:ext cx="2209680" cy="874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3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14520" y="5243400"/>
                    <a:ext cx="2209680" cy="87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5" name=""/>
          <p:cNvSpPr/>
          <p:nvPr/>
        </p:nvSpPr>
        <p:spPr>
          <a:xfrm>
            <a:off x="4545000" y="4375080"/>
            <a:ext cx="392256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… normal stress ampl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… shear stress ampl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419720" y="5486400"/>
            <a:ext cx="4452840" cy="12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.. normal velocity ampl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… tangential velocity ampl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3276720" y="3124080"/>
            <a:ext cx="380880" cy="500040"/>
            <a:chOff x="3276720" y="3124080"/>
            <a:chExt cx="380880" cy="500040"/>
          </a:xfrm>
        </p:grpSpPr>
        <p:sp>
          <p:nvSpPr>
            <p:cNvPr id="238" name=""/>
            <p:cNvSpPr/>
            <p:nvPr/>
          </p:nvSpPr>
          <p:spPr>
            <a:xfrm>
              <a:off x="3416040" y="3549600"/>
              <a:ext cx="107640" cy="7452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276720" y="3124080"/>
              <a:ext cx="380880" cy="3808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390840" y="3485880"/>
              <a:ext cx="158400" cy="1018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 flipV="1">
              <a:off x="3460680" y="3314160"/>
              <a:ext cx="0" cy="16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4T21:28:52Z</dcterms:created>
  <dc:creator>lschmerr</dc:creator>
  <dc:description/>
  <dc:language>en-US</dc:language>
  <cp:lastModifiedBy>Lester Schmerr</cp:lastModifiedBy>
  <dcterms:modified xsi:type="dcterms:W3CDTF">2006-12-20T23:01:15Z</dcterms:modified>
  <cp:revision>23</cp:revision>
  <dc:subject/>
  <dc:title>PowerPoint Presentation</dc:title>
</cp:coreProperties>
</file>