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B52-4753-4E06-81C3-853440A9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898-D2FA-4B3B-887F-863DD4BA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694-15E4-4303-9F67-8B754C1B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CA7-62F0-4FD6-92B0-6EAB1411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E26-C611-42FF-8679-F568C61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E9D-95EF-4E3A-8AE0-73887A9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66F-77A0-4DFF-B17B-323FDDC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03F-5C6E-4E18-A595-F288D99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024-7A1B-4AD0-8AF3-3D87D99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8E0-3512-4B6B-958F-C653B090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B24-4C85-4EDA-A26B-D6E7027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62E-E5D4-4A3E-95CB-500CE41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7CB-E26D-453E-A593-D6C06298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0520" y="3352680"/>
            <a:ext cx="43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st Fourier Transform (F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TLAB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44800" y="2247840"/>
          <a:ext cx="167616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2247840"/>
                    <a:ext cx="16761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026600" y="2400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9040" y="278136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8480" y="4305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6880" y="54482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8480" y="4762440"/>
            <a:ext cx="380880" cy="1206720"/>
          </a:xfrm>
          <a:custGeom>
            <a:avLst/>
            <a:gdLst/>
            <a:ahLst/>
            <a:rect l="l" t="t" r="r" b="b"/>
            <a:pathLst>
              <a:path w="240" h="760">
                <a:moveTo>
                  <a:pt x="0" y="432"/>
                </a:moveTo>
                <a:cubicBezTo>
                  <a:pt x="20" y="315"/>
                  <a:pt x="40" y="199"/>
                  <a:pt x="48" y="144"/>
                </a:cubicBezTo>
                <a:cubicBezTo>
                  <a:pt x="55" y="88"/>
                  <a:pt x="40" y="104"/>
                  <a:pt x="48" y="96"/>
                </a:cubicBezTo>
                <a:cubicBezTo>
                  <a:pt x="56" y="88"/>
                  <a:pt x="80" y="0"/>
                  <a:pt x="96" y="96"/>
                </a:cubicBezTo>
                <a:cubicBezTo>
                  <a:pt x="112" y="192"/>
                  <a:pt x="128" y="584"/>
                  <a:pt x="144" y="672"/>
                </a:cubicBezTo>
                <a:cubicBezTo>
                  <a:pt x="160" y="760"/>
                  <a:pt x="176" y="664"/>
                  <a:pt x="192" y="624"/>
                </a:cubicBezTo>
                <a:cubicBezTo>
                  <a:pt x="208" y="584"/>
                  <a:pt x="224" y="508"/>
                  <a:pt x="24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1480" y="4788000"/>
            <a:ext cx="380880" cy="1206360"/>
          </a:xfrm>
          <a:custGeom>
            <a:avLst/>
            <a:gdLst/>
            <a:ahLst/>
            <a:rect l="l" t="t" r="r" b="b"/>
            <a:pathLst>
              <a:path w="240" h="760">
                <a:moveTo>
                  <a:pt x="0" y="432"/>
                </a:moveTo>
                <a:cubicBezTo>
                  <a:pt x="20" y="315"/>
                  <a:pt x="40" y="199"/>
                  <a:pt x="48" y="144"/>
                </a:cubicBezTo>
                <a:cubicBezTo>
                  <a:pt x="55" y="88"/>
                  <a:pt x="40" y="104"/>
                  <a:pt x="48" y="96"/>
                </a:cubicBezTo>
                <a:cubicBezTo>
                  <a:pt x="56" y="88"/>
                  <a:pt x="80" y="0"/>
                  <a:pt x="96" y="96"/>
                </a:cubicBezTo>
                <a:cubicBezTo>
                  <a:pt x="112" y="192"/>
                  <a:pt x="128" y="584"/>
                  <a:pt x="144" y="672"/>
                </a:cubicBezTo>
                <a:cubicBezTo>
                  <a:pt x="160" y="760"/>
                  <a:pt x="176" y="664"/>
                  <a:pt x="192" y="624"/>
                </a:cubicBezTo>
                <a:cubicBezTo>
                  <a:pt x="208" y="584"/>
                  <a:pt x="224" y="508"/>
                  <a:pt x="24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4762440"/>
            <a:ext cx="380880" cy="1206720"/>
          </a:xfrm>
          <a:custGeom>
            <a:avLst/>
            <a:gdLst/>
            <a:ahLst/>
            <a:rect l="l" t="t" r="r" b="b"/>
            <a:pathLst>
              <a:path w="240" h="760">
                <a:moveTo>
                  <a:pt x="0" y="432"/>
                </a:moveTo>
                <a:cubicBezTo>
                  <a:pt x="20" y="315"/>
                  <a:pt x="40" y="199"/>
                  <a:pt x="48" y="144"/>
                </a:cubicBezTo>
                <a:cubicBezTo>
                  <a:pt x="55" y="88"/>
                  <a:pt x="40" y="104"/>
                  <a:pt x="48" y="96"/>
                </a:cubicBezTo>
                <a:cubicBezTo>
                  <a:pt x="56" y="88"/>
                  <a:pt x="80" y="0"/>
                  <a:pt x="96" y="96"/>
                </a:cubicBezTo>
                <a:cubicBezTo>
                  <a:pt x="112" y="192"/>
                  <a:pt x="128" y="584"/>
                  <a:pt x="144" y="672"/>
                </a:cubicBezTo>
                <a:cubicBezTo>
                  <a:pt x="160" y="760"/>
                  <a:pt x="176" y="664"/>
                  <a:pt x="192" y="624"/>
                </a:cubicBezTo>
                <a:cubicBezTo>
                  <a:pt x="208" y="584"/>
                  <a:pt x="224" y="508"/>
                  <a:pt x="24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11480" y="560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0640" y="5829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200" y="582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01800" y="560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25680" y="560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2400" y="581328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02200" y="544824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11880" y="4304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302240" y="4533840"/>
            <a:ext cx="1193760" cy="865080"/>
            <a:chOff x="7302240" y="4533840"/>
            <a:chExt cx="1193760" cy="865080"/>
          </a:xfrm>
        </p:grpSpPr>
        <p:sp>
          <p:nvSpPr>
            <p:cNvPr id="134" name=""/>
            <p:cNvSpPr/>
            <p:nvPr/>
          </p:nvSpPr>
          <p:spPr>
            <a:xfrm>
              <a:off x="7895160" y="45338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301880" y="45338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835760" y="552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40280" y="552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89960" y="5905440"/>
            <a:ext cx="3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8160" y="58294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343040" y="4572000"/>
            <a:ext cx="1193760" cy="865080"/>
            <a:chOff x="4343040" y="4572000"/>
            <a:chExt cx="1193760" cy="865080"/>
          </a:xfrm>
        </p:grpSpPr>
        <p:sp>
          <p:nvSpPr>
            <p:cNvPr id="141" name=""/>
            <p:cNvSpPr/>
            <p:nvPr/>
          </p:nvSpPr>
          <p:spPr>
            <a:xfrm>
              <a:off x="4935960" y="457200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342680" y="457200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727240" y="4584600"/>
            <a:ext cx="1193760" cy="865080"/>
            <a:chOff x="5727240" y="4584600"/>
            <a:chExt cx="1193760" cy="865080"/>
          </a:xfrm>
        </p:grpSpPr>
        <p:sp>
          <p:nvSpPr>
            <p:cNvPr id="144" name=""/>
            <p:cNvSpPr/>
            <p:nvPr/>
          </p:nvSpPr>
          <p:spPr>
            <a:xfrm>
              <a:off x="6320160" y="458460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26880" y="458460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921360" y="552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6160" y="581328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07560" y="360360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8200" y="3772080"/>
            <a:ext cx="106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59400" y="2171880"/>
          <a:ext cx="198108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9400" y="2171880"/>
                    <a:ext cx="19810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927080" y="54230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9000" y="50594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95560" y="4846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0760" y="5295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1880" y="5737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9240" y="5583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57280" y="5413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7200" y="5413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03600" y="5421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81440" y="5413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7400" y="4970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78400" y="45594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1040" y="4668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5280" y="49737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99160" y="52023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4160" y="5338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59520" y="5418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49960" y="54230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32840" y="53211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13560" y="5203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09040" y="46767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7680" y="39243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3400" y="422928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68480" y="4648320"/>
            <a:ext cx="1028880" cy="152280"/>
            <a:chOff x="1968480" y="4648320"/>
            <a:chExt cx="1028880" cy="152280"/>
          </a:xfrm>
        </p:grpSpPr>
        <p:sp>
          <p:nvSpPr>
            <p:cNvPr id="176" name=""/>
            <p:cNvSpPr/>
            <p:nvPr/>
          </p:nvSpPr>
          <p:spPr>
            <a:xfrm>
              <a:off x="1968480" y="4648320"/>
              <a:ext cx="10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7360" y="4648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8480" y="4648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11880" y="4381560"/>
            <a:ext cx="1371240" cy="152280"/>
            <a:chOff x="6311880" y="4381560"/>
            <a:chExt cx="1371240" cy="152280"/>
          </a:xfrm>
        </p:grpSpPr>
        <p:sp>
          <p:nvSpPr>
            <p:cNvPr id="180" name=""/>
            <p:cNvSpPr/>
            <p:nvPr/>
          </p:nvSpPr>
          <p:spPr>
            <a:xfrm>
              <a:off x="6311880" y="4381560"/>
              <a:ext cx="137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3120" y="4381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1880" y="4381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1108080"/>
            <a:ext cx="8294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iscrete Fourier transforms are periodic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guarantee these represent non-periodic pul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4680" y="2819520"/>
            <a:ext cx="381240" cy="500040"/>
            <a:chOff x="7924680" y="2819520"/>
            <a:chExt cx="381240" cy="500040"/>
          </a:xfrm>
        </p:grpSpPr>
        <p:sp>
          <p:nvSpPr>
            <p:cNvPr id="187" name=""/>
            <p:cNvSpPr/>
            <p:nvPr/>
          </p:nvSpPr>
          <p:spPr>
            <a:xfrm>
              <a:off x="8064360" y="324504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28195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39160" y="318132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109000" y="30096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H="1">
            <a:off x="2352240" y="1755720"/>
            <a:ext cx="25740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7280" y="304920"/>
            <a:ext cx="71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linspace and s_space functions for F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verse F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4382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5600" y="238752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10000" y="1755720"/>
            <a:ext cx="74268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2578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83240" y="1841400"/>
            <a:ext cx="66528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2819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0040" y="172404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221472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8680" y="240336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10040" y="238932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7240" y="239076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03920" y="238932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62080" y="2374920"/>
            <a:ext cx="9684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46880" y="1800360"/>
            <a:ext cx="9684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41400" y="290988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124080" y="3505320"/>
          <a:ext cx="131940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505320"/>
                    <a:ext cx="13194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216400" y="2386080"/>
            <a:ext cx="9684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30680" y="1957320"/>
            <a:ext cx="96840" cy="96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360" y="4114800"/>
            <a:ext cx="50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ample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 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562720" y="4191120"/>
          <a:ext cx="1831680" cy="31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191120"/>
                    <a:ext cx="18316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676520" y="487692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linspace(0,1, 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   0.14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362320"/>
            <a:ext cx="9684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94160" y="1805040"/>
            <a:ext cx="31752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30492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proper sampled values and the cor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we can use the alternate function s_space (it’s on the ftp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20960" y="16444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s_space(0,1, 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-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1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3733920"/>
            <a:ext cx="45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linspace(0,1, 5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 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0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s_space(0,1, 5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 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0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304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using many points the difference is  not large if we use either linspace or s_space but the difference is still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1523880"/>
            <a:ext cx="4572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format   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linspace(0, 1, 5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002004008016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 s_space(0, 1, 5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002000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533520" y="1523880"/>
            <a:ext cx="3200400" cy="2593800"/>
            <a:chOff x="533520" y="1523880"/>
            <a:chExt cx="3200400" cy="2593800"/>
          </a:xfrm>
        </p:grpSpPr>
        <p:sp>
          <p:nvSpPr>
            <p:cNvPr id="227" name=""/>
            <p:cNvSpPr/>
            <p:nvPr/>
          </p:nvSpPr>
          <p:spPr>
            <a:xfrm>
              <a:off x="1905120" y="2225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3368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5120" y="2682720"/>
              <a:ext cx="381240" cy="1206360"/>
            </a:xfrm>
            <a:custGeom>
              <a:avLst/>
              <a:gdLst/>
              <a:ahLst/>
              <a:rect l="l" t="t" r="r" b="b"/>
              <a:pathLst>
                <a:path w="240" h="760">
                  <a:moveTo>
                    <a:pt x="0" y="432"/>
                  </a:moveTo>
                  <a:cubicBezTo>
                    <a:pt x="20" y="315"/>
                    <a:pt x="40" y="199"/>
                    <a:pt x="48" y="144"/>
                  </a:cubicBezTo>
                  <a:cubicBezTo>
                    <a:pt x="55" y="88"/>
                    <a:pt x="40" y="104"/>
                    <a:pt x="48" y="96"/>
                  </a:cubicBezTo>
                  <a:cubicBezTo>
                    <a:pt x="56" y="88"/>
                    <a:pt x="80" y="0"/>
                    <a:pt x="96" y="96"/>
                  </a:cubicBezTo>
                  <a:cubicBezTo>
                    <a:pt x="112" y="192"/>
                    <a:pt x="128" y="584"/>
                    <a:pt x="144" y="672"/>
                  </a:cubicBezTo>
                  <a:cubicBezTo>
                    <a:pt x="160" y="760"/>
                    <a:pt x="176" y="664"/>
                    <a:pt x="192" y="624"/>
                  </a:cubicBezTo>
                  <a:cubicBezTo>
                    <a:pt x="208" y="584"/>
                    <a:pt x="224" y="508"/>
                    <a:pt x="240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048120" y="3520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7280" y="3749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0960" y="1523880"/>
              <a:ext cx="66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64080" y="33433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26000" y="29797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32200" y="27669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7760" y="32162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8520" y="365760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25880" y="35035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4280" y="33336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64200" y="33336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0240" y="33415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8080" y="3333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0040" y="21492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905120" y="2568600"/>
              <a:ext cx="1028880" cy="152280"/>
              <a:chOff x="1905120" y="2568600"/>
              <a:chExt cx="1028880" cy="152280"/>
            </a:xfrm>
          </p:grpSpPr>
          <p:sp>
            <p:nvSpPr>
              <p:cNvPr id="245" name=""/>
              <p:cNvSpPr/>
              <p:nvPr/>
            </p:nvSpPr>
            <p:spPr>
              <a:xfrm>
                <a:off x="1905120" y="2568600"/>
                <a:ext cx="102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34000" y="2568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568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981080" y="4740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09480" y="5880240"/>
            <a:ext cx="4280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197320"/>
            <a:ext cx="381240" cy="1206720"/>
          </a:xfrm>
          <a:custGeom>
            <a:avLst/>
            <a:gdLst/>
            <a:ahLst/>
            <a:rect l="l" t="t" r="r" b="b"/>
            <a:pathLst>
              <a:path w="240" h="760">
                <a:moveTo>
                  <a:pt x="0" y="432"/>
                </a:moveTo>
                <a:cubicBezTo>
                  <a:pt x="20" y="315"/>
                  <a:pt x="40" y="199"/>
                  <a:pt x="48" y="144"/>
                </a:cubicBezTo>
                <a:cubicBezTo>
                  <a:pt x="55" y="88"/>
                  <a:pt x="40" y="104"/>
                  <a:pt x="48" y="96"/>
                </a:cubicBezTo>
                <a:cubicBezTo>
                  <a:pt x="56" y="88"/>
                  <a:pt x="80" y="0"/>
                  <a:pt x="96" y="96"/>
                </a:cubicBezTo>
                <a:cubicBezTo>
                  <a:pt x="112" y="192"/>
                  <a:pt x="128" y="584"/>
                  <a:pt x="144" y="672"/>
                </a:cubicBezTo>
                <a:cubicBezTo>
                  <a:pt x="160" y="760"/>
                  <a:pt x="176" y="664"/>
                  <a:pt x="192" y="624"/>
                </a:cubicBezTo>
                <a:cubicBezTo>
                  <a:pt x="208" y="584"/>
                  <a:pt x="224" y="508"/>
                  <a:pt x="24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6708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6240" y="6324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16920" y="403848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5857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01960" y="5494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8160" y="5281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5730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84480" y="617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1840" y="60181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70240" y="5848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0160" y="5848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16200" y="58561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4040" y="5848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4664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5105520"/>
            <a:ext cx="2209680" cy="129960"/>
            <a:chOff x="1981080" y="5105520"/>
            <a:chExt cx="2209680" cy="129960"/>
          </a:xfrm>
        </p:grpSpPr>
        <p:sp>
          <p:nvSpPr>
            <p:cNvPr id="266" name=""/>
            <p:cNvSpPr/>
            <p:nvPr/>
          </p:nvSpPr>
          <p:spPr>
            <a:xfrm>
              <a:off x="1981080" y="51055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0760" y="5105520"/>
              <a:ext cx="0" cy="12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1080" y="5105520"/>
              <a:ext cx="0" cy="12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71880" y="5848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4920" y="5838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78320" y="5840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81360" y="5843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05280" y="5848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3360" y="5840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3352680"/>
            <a:ext cx="38102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248520" y="2225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38520" y="2454120"/>
            <a:ext cx="1193760" cy="865080"/>
            <a:chOff x="7238520" y="2454120"/>
            <a:chExt cx="1193760" cy="865080"/>
          </a:xfrm>
        </p:grpSpPr>
        <p:sp>
          <p:nvSpPr>
            <p:cNvPr id="278" name=""/>
            <p:cNvSpPr/>
            <p:nvPr/>
          </p:nvSpPr>
          <p:spPr>
            <a:xfrm>
              <a:off x="7831440" y="245412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238160" y="245412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772400" y="344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5160" y="3792600"/>
            <a:ext cx="118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63880" y="2505240"/>
            <a:ext cx="1193760" cy="865080"/>
            <a:chOff x="5663880" y="2505240"/>
            <a:chExt cx="1193760" cy="865080"/>
          </a:xfrm>
        </p:grpSpPr>
        <p:sp>
          <p:nvSpPr>
            <p:cNvPr id="283" name=""/>
            <p:cNvSpPr/>
            <p:nvPr/>
          </p:nvSpPr>
          <p:spPr>
            <a:xfrm>
              <a:off x="6256800" y="25052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663520" y="25052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871240" y="169236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74040" y="2890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15040" y="247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67320" y="25891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51560" y="2894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35800" y="3122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70800" y="3259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6160" y="33386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6600" y="3343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69120" y="32418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5020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45320" y="25970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184464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248520" y="2301840"/>
            <a:ext cx="1371240" cy="152280"/>
            <a:chOff x="6248520" y="2301840"/>
            <a:chExt cx="1371240" cy="152280"/>
          </a:xfrm>
        </p:grpSpPr>
        <p:sp>
          <p:nvSpPr>
            <p:cNvPr id="299" name=""/>
            <p:cNvSpPr/>
            <p:nvPr/>
          </p:nvSpPr>
          <p:spPr>
            <a:xfrm>
              <a:off x="6248520" y="2301840"/>
              <a:ext cx="137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9760" y="2301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520" y="2301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V="1">
            <a:off x="6477120" y="260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629400" y="260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75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629040" y="2759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5400" y="2530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61080" y="37609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0" y="5181480"/>
            <a:ext cx="1275120" cy="582480"/>
            <a:chOff x="2286000" y="5181480"/>
            <a:chExt cx="1275120" cy="582480"/>
          </a:xfrm>
        </p:grpSpPr>
        <p:sp>
          <p:nvSpPr>
            <p:cNvPr id="309" name=""/>
            <p:cNvSpPr/>
            <p:nvPr/>
          </p:nvSpPr>
          <p:spPr>
            <a:xfrm flipV="1">
              <a:off x="2590920" y="553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743200" y="553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0" y="5611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742840" y="5611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09320" y="518148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121360" y="5851440"/>
            <a:ext cx="38098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416640" y="4723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407000" y="4952880"/>
            <a:ext cx="1193760" cy="865080"/>
            <a:chOff x="7407000" y="4952880"/>
            <a:chExt cx="1193760" cy="865080"/>
          </a:xfrm>
        </p:grpSpPr>
        <p:sp>
          <p:nvSpPr>
            <p:cNvPr id="317" name=""/>
            <p:cNvSpPr/>
            <p:nvPr/>
          </p:nvSpPr>
          <p:spPr>
            <a:xfrm>
              <a:off x="7999920" y="495288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06640" y="495288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7940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93280" y="6291360"/>
            <a:ext cx="118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32000" y="5003640"/>
            <a:ext cx="1193760" cy="865080"/>
            <a:chOff x="5832000" y="5003640"/>
            <a:chExt cx="1193760" cy="865080"/>
          </a:xfrm>
        </p:grpSpPr>
        <p:sp>
          <p:nvSpPr>
            <p:cNvPr id="322" name=""/>
            <p:cNvSpPr/>
            <p:nvPr/>
          </p:nvSpPr>
          <p:spPr>
            <a:xfrm>
              <a:off x="6424920" y="50036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831640" y="50036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039720" y="419112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42160" y="5389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83160" y="4978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97640" y="5030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0040" y="5443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9480" y="567864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38920" y="5757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02440" y="58374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6000" y="5835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37600" y="5740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8320" y="5622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81760" y="5114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02440" y="43434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416640" y="4800600"/>
            <a:ext cx="1431720" cy="152280"/>
            <a:chOff x="6416640" y="4800600"/>
            <a:chExt cx="1431720" cy="152280"/>
          </a:xfrm>
        </p:grpSpPr>
        <p:sp>
          <p:nvSpPr>
            <p:cNvPr id="338" name=""/>
            <p:cNvSpPr/>
            <p:nvPr/>
          </p:nvSpPr>
          <p:spPr>
            <a:xfrm>
              <a:off x="6416640" y="4800600"/>
              <a:ext cx="143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8360" y="48006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16640" y="48006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67480" y="51642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99160" y="53103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62880" y="5557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67440" y="5811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773840" y="52401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42200" y="5805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56640" y="49737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84920" y="5513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26160" y="569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197080" y="2668680"/>
            <a:ext cx="1275120" cy="582120"/>
            <a:chOff x="2197080" y="2668680"/>
            <a:chExt cx="1275120" cy="582120"/>
          </a:xfrm>
        </p:grpSpPr>
        <p:sp>
          <p:nvSpPr>
            <p:cNvPr id="351" name=""/>
            <p:cNvSpPr/>
            <p:nvPr/>
          </p:nvSpPr>
          <p:spPr>
            <a:xfrm flipV="1">
              <a:off x="2502000" y="30225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54280" y="30225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7080" y="3098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653920" y="309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20400" y="266868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715360" y="624852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1/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78168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96160" y="540972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9343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88040" y="5029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4600" y="12193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 “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4040" y="45720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106668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838080"/>
            <a:ext cx="50292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t =s_space(0, 4, 1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 = t.*(t &lt; 0.5) + (1-t).*(t &gt;= 0.5 &amp; t&lt;=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t, v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xis([  0  4  0   0.6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dt = t(2) - 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= 0.2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38640" y="247968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38640" y="247968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38640" y="24796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238640" y="24793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38640" y="536580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38640" y="5322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38640" y="24796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11640" y="542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724280" y="53226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24280" y="24796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3280" y="542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210280" y="5322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0280" y="24796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542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695920" y="5322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95920" y="24796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14920" y="542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191280" y="5322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91280" y="24796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64280" y="542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676920" y="53226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76920" y="24796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95920" y="542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164360" y="53226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64360" y="24796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37360" y="542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50000" y="53226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50000" y="24796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69360" y="542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8145360" y="53226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45360" y="24796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18360" y="542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38640" y="53658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8099280" y="5365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81600" y="5237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38640" y="48848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099280" y="4884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1520" y="4756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38640" y="44038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099280" y="4403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1520" y="4275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38640" y="3913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099280" y="3913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1520" y="37861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8640" y="3433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099280" y="3433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1520" y="3305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38640" y="295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099280" y="2952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1520" y="282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38640" y="24796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02280" y="533088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44920" y="412416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7920" y="292752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0920" y="412416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7536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61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04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5636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99360" y="533088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42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85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2800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7064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1364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56640" y="5330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02280" y="533088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4920" y="412416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7920" y="292752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30920" y="412416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7536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8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61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04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5636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99360" y="533088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42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85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2800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7064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1364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56640" y="5330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56440" y="11592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padd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228600"/>
            <a:ext cx="4572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f =s_space(0, 1/dt, 1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f = FourierT(v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f, abs(vf)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axis([ 0 4 0 0.3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df = f(2) - f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 =  0.2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62320" y="1501920"/>
            <a:ext cx="3907080" cy="2885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62320" y="1501920"/>
            <a:ext cx="390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1501920"/>
            <a:ext cx="3907080" cy="288576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62320" y="1501920"/>
            <a:ext cx="1800" cy="28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62320" y="4387680"/>
            <a:ext cx="390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162320" y="1501920"/>
            <a:ext cx="1800" cy="28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162320" y="4344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62320" y="1501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35320" y="4411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648320" y="4344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501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67320" y="4411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133960" y="4344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33960" y="1501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06960" y="4411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619600" y="4344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9600" y="1501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38600" y="4411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114960" y="4344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14960" y="1501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411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600960" y="4344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00960" y="1501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19960" y="4411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88040" y="4344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88040" y="1501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61040" y="4411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74040" y="4344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4040" y="1501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93040" y="4411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069400" y="43444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69400" y="1501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42400" y="4411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62320" y="43876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023320" y="4387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2200" y="4259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62320" y="390672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023320" y="3906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68760" y="37782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62320" y="34257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023320" y="3425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32120" y="3297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62320" y="29354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023320" y="293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68760" y="2808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62320" y="24559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8023320" y="2455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2120" y="2327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62320" y="19749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8023320" y="1974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68760" y="1846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62320" y="1501920"/>
            <a:ext cx="3907080" cy="288576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25960" y="19494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68960" y="203364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11600" y="2295360"/>
            <a:ext cx="8100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54600" y="26827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9040" y="31464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42040" y="36115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84680" y="3998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27680" y="426096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0040" y="435276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23040" y="426096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66040" y="39988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08680" y="36115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51680" y="31464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294680" y="26827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37320" y="2295360"/>
            <a:ext cx="8100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80320" y="203364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25960" y="19494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68960" y="203364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11600" y="2295360"/>
            <a:ext cx="81000" cy="74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54600" y="26827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99040" y="31464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42040" y="36115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84680" y="3998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27680" y="426096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0040" y="435276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3040" y="426096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66040" y="39988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08680" y="36115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51680" y="31464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94680" y="26827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37320" y="2295360"/>
            <a:ext cx="81000" cy="74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0320" y="203364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1981080"/>
            <a:ext cx="38862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80880" y="609480"/>
            <a:ext cx="4572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t2 =[v, zeros(1,16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f2 = FourierT(vt2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f, abs(vf2)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 Error using ==&gt; 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s must be the same length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f =s_space(0, 1/dt, 3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f, abs(vf2)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axis([ 0 4 0 0.3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048120" y="762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87280" y="4572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2 = padarray(v,[0, 16], 0, ‘pos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0880" y="48769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df=f(2) - f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 = 0.1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31960" y="536112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153280" y="53341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7440" y="57150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the former 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47560" y="5943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ampling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13800" y="18900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pad the original signal with z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43560" y="217476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43560" y="217476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43560" y="21747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543560" y="217440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43560" y="506088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54356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4356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16560" y="511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02920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02920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48200" y="5110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514840" y="50176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14840" y="21747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87840" y="511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0084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0084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19840" y="5110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49620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9620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69200" y="511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98184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8184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00840" y="5110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46928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6928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42280" y="511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954920" y="50176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954920" y="21747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73920" y="5110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450280" y="50176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50280" y="21747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423280" y="511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43560" y="50608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404200" y="5060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14880" y="4943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43560" y="45799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8404200" y="4579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51440" y="44625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43560" y="40989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8404200" y="4098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981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43560" y="3608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8404200" y="3608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51440" y="3492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43560" y="31291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8404200" y="3129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3011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43560" y="26478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404200" y="2647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51440" y="2530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43560" y="21747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06840" y="26226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24560" y="263844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49840" y="270684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67200" y="28242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2840" y="2968560"/>
            <a:ext cx="8064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0200" y="31543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35480" y="33559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53200" y="3584520"/>
            <a:ext cx="8064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79920" y="3819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605560" y="40561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22920" y="42847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48200" y="44863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65920" y="467208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1200" y="48150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08560" y="49338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34200" y="500076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61280" y="502596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76840" y="500076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3920" y="49338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19840" y="48150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46920" y="467208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62840" y="44863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89920" y="42847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05840" y="405612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32560" y="3819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58200" y="35845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75560" y="33559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00840" y="31543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18560" y="296856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43840" y="28242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161200" y="270684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86840" y="263844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06840" y="26226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24560" y="263844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749840" y="270684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67200" y="28242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2840" y="2968560"/>
            <a:ext cx="8064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10200" y="31543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35480" y="33559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53200" y="3584520"/>
            <a:ext cx="8064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79920" y="3819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05560" y="40561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42847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48200" y="44863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65920" y="467208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1200" y="48150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08560" y="49338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34200" y="500076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61280" y="502596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76840" y="500076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3920" y="49338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19840" y="48150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46920" y="467208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62840" y="44863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189920" y="42847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05840" y="405612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32560" y="3819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58200" y="35845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75560" y="33559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00840" y="31543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918560" y="296856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43840" y="28242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161200" y="270684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286840" y="263844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495680" y="2649600"/>
            <a:ext cx="3992760" cy="1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04920" y="1066680"/>
            <a:ext cx="5029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t =s_space(0, 4, 5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t.*(t &lt; 0.5) + (1-t).*(t &gt;= 0.5 &amp; t&lt;=1.0)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dt = t(2) -t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 = 0.00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fs =1/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s = 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f =s_space(0, fs, 5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vf =FourierT(v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 plot(f, abs(vf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47320" y="3412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use a much higher sampling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10040" y="225108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010040" y="225108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010040" y="22510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010040" y="2250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10040" y="513720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010040" y="2250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01004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1004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8304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56732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6732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05400" y="5160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2604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2604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62680" y="5160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68332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8332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21400" y="5160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24204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4204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78680" y="5160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79932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9932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710400" y="516096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35804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5804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267680" y="516096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916760" y="50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16760" y="2251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26400" y="516096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10040" y="5137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870680" y="5137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79920" y="5068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10040" y="45543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870680" y="4554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16480" y="44863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10040" y="39798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870680" y="3979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79840" y="3913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10040" y="3398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870680" y="3398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16480" y="33307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10040" y="2824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870680" y="2824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79840" y="2757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10040" y="22510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7870680" y="2251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16480" y="21844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10040" y="22510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10040" y="2251080"/>
            <a:ext cx="1017720" cy="2886120"/>
          </a:xfrm>
          <a:custGeom>
            <a:avLst/>
            <a:gdLst/>
            <a:ahLst/>
            <a:rect l="l" t="t" r="r" b="b"/>
            <a:pathLst>
              <a:path w="641" h="1818">
                <a:moveTo>
                  <a:pt x="0" y="0"/>
                </a:moveTo>
                <a:lnTo>
                  <a:pt x="0" y="90"/>
                </a:lnTo>
                <a:lnTo>
                  <a:pt x="6" y="340"/>
                </a:lnTo>
                <a:lnTo>
                  <a:pt x="11" y="696"/>
                </a:lnTo>
                <a:lnTo>
                  <a:pt x="17" y="1079"/>
                </a:lnTo>
                <a:lnTo>
                  <a:pt x="17" y="1414"/>
                </a:lnTo>
                <a:lnTo>
                  <a:pt x="23" y="1653"/>
                </a:lnTo>
                <a:lnTo>
                  <a:pt x="28" y="1780"/>
                </a:lnTo>
                <a:lnTo>
                  <a:pt x="34" y="1818"/>
                </a:lnTo>
                <a:lnTo>
                  <a:pt x="34" y="1791"/>
                </a:lnTo>
                <a:lnTo>
                  <a:pt x="40" y="1754"/>
                </a:lnTo>
                <a:lnTo>
                  <a:pt x="45" y="1733"/>
                </a:lnTo>
                <a:lnTo>
                  <a:pt x="51" y="1733"/>
                </a:lnTo>
                <a:lnTo>
                  <a:pt x="57" y="1754"/>
                </a:lnTo>
                <a:lnTo>
                  <a:pt x="57" y="1786"/>
                </a:lnTo>
                <a:lnTo>
                  <a:pt x="62" y="1807"/>
                </a:lnTo>
                <a:lnTo>
                  <a:pt x="68" y="1818"/>
                </a:lnTo>
                <a:lnTo>
                  <a:pt x="74" y="1807"/>
                </a:lnTo>
                <a:lnTo>
                  <a:pt x="74" y="1796"/>
                </a:lnTo>
                <a:lnTo>
                  <a:pt x="79" y="1786"/>
                </a:lnTo>
                <a:lnTo>
                  <a:pt x="85" y="1786"/>
                </a:lnTo>
                <a:lnTo>
                  <a:pt x="91" y="1791"/>
                </a:lnTo>
                <a:lnTo>
                  <a:pt x="96" y="1802"/>
                </a:lnTo>
                <a:lnTo>
                  <a:pt x="96" y="1812"/>
                </a:lnTo>
                <a:lnTo>
                  <a:pt x="102" y="1818"/>
                </a:lnTo>
                <a:lnTo>
                  <a:pt x="108" y="1812"/>
                </a:lnTo>
                <a:lnTo>
                  <a:pt x="119" y="1802"/>
                </a:lnTo>
                <a:lnTo>
                  <a:pt x="113" y="1802"/>
                </a:lnTo>
                <a:lnTo>
                  <a:pt x="119" y="1802"/>
                </a:lnTo>
                <a:lnTo>
                  <a:pt x="125" y="1802"/>
                </a:lnTo>
                <a:lnTo>
                  <a:pt x="130" y="1807"/>
                </a:lnTo>
                <a:lnTo>
                  <a:pt x="136" y="1812"/>
                </a:lnTo>
                <a:lnTo>
                  <a:pt x="136" y="1818"/>
                </a:lnTo>
                <a:lnTo>
                  <a:pt x="142" y="1812"/>
                </a:lnTo>
                <a:lnTo>
                  <a:pt x="147" y="1812"/>
                </a:lnTo>
                <a:lnTo>
                  <a:pt x="153" y="1807"/>
                </a:lnTo>
                <a:lnTo>
                  <a:pt x="159" y="1807"/>
                </a:lnTo>
                <a:lnTo>
                  <a:pt x="164" y="1812"/>
                </a:lnTo>
                <a:lnTo>
                  <a:pt x="170" y="1812"/>
                </a:lnTo>
                <a:lnTo>
                  <a:pt x="181" y="1812"/>
                </a:lnTo>
                <a:lnTo>
                  <a:pt x="176" y="1812"/>
                </a:lnTo>
                <a:lnTo>
                  <a:pt x="181" y="1812"/>
                </a:lnTo>
                <a:lnTo>
                  <a:pt x="187" y="1807"/>
                </a:lnTo>
                <a:lnTo>
                  <a:pt x="193" y="1812"/>
                </a:lnTo>
                <a:lnTo>
                  <a:pt x="198" y="1812"/>
                </a:lnTo>
                <a:lnTo>
                  <a:pt x="204" y="1812"/>
                </a:lnTo>
                <a:lnTo>
                  <a:pt x="215" y="1812"/>
                </a:lnTo>
                <a:lnTo>
                  <a:pt x="210" y="1812"/>
                </a:lnTo>
                <a:lnTo>
                  <a:pt x="215" y="1812"/>
                </a:lnTo>
                <a:lnTo>
                  <a:pt x="221" y="1812"/>
                </a:lnTo>
                <a:lnTo>
                  <a:pt x="227" y="1812"/>
                </a:lnTo>
                <a:lnTo>
                  <a:pt x="232" y="1812"/>
                </a:lnTo>
                <a:lnTo>
                  <a:pt x="238" y="1812"/>
                </a:lnTo>
                <a:lnTo>
                  <a:pt x="244" y="1818"/>
                </a:lnTo>
                <a:lnTo>
                  <a:pt x="249" y="1812"/>
                </a:lnTo>
                <a:lnTo>
                  <a:pt x="255" y="1812"/>
                </a:lnTo>
                <a:lnTo>
                  <a:pt x="261" y="1812"/>
                </a:lnTo>
                <a:lnTo>
                  <a:pt x="266" y="1812"/>
                </a:lnTo>
                <a:lnTo>
                  <a:pt x="272" y="1812"/>
                </a:lnTo>
                <a:lnTo>
                  <a:pt x="278" y="1818"/>
                </a:lnTo>
                <a:lnTo>
                  <a:pt x="283" y="1812"/>
                </a:lnTo>
                <a:lnTo>
                  <a:pt x="289" y="1812"/>
                </a:lnTo>
                <a:lnTo>
                  <a:pt x="295" y="1812"/>
                </a:lnTo>
                <a:lnTo>
                  <a:pt x="300" y="1812"/>
                </a:lnTo>
                <a:lnTo>
                  <a:pt x="306" y="1812"/>
                </a:lnTo>
                <a:lnTo>
                  <a:pt x="312" y="1818"/>
                </a:lnTo>
                <a:lnTo>
                  <a:pt x="317" y="1812"/>
                </a:lnTo>
                <a:lnTo>
                  <a:pt x="323" y="1812"/>
                </a:lnTo>
                <a:lnTo>
                  <a:pt x="329" y="1812"/>
                </a:lnTo>
                <a:lnTo>
                  <a:pt x="334" y="1812"/>
                </a:lnTo>
                <a:lnTo>
                  <a:pt x="340" y="1812"/>
                </a:lnTo>
                <a:lnTo>
                  <a:pt x="346" y="1812"/>
                </a:lnTo>
                <a:lnTo>
                  <a:pt x="357" y="1812"/>
                </a:lnTo>
                <a:lnTo>
                  <a:pt x="351" y="1812"/>
                </a:lnTo>
                <a:lnTo>
                  <a:pt x="357" y="1812"/>
                </a:lnTo>
                <a:lnTo>
                  <a:pt x="363" y="1812"/>
                </a:lnTo>
                <a:lnTo>
                  <a:pt x="368" y="1812"/>
                </a:lnTo>
                <a:lnTo>
                  <a:pt x="374" y="1812"/>
                </a:lnTo>
                <a:lnTo>
                  <a:pt x="380" y="1812"/>
                </a:lnTo>
                <a:lnTo>
                  <a:pt x="391" y="1812"/>
                </a:lnTo>
                <a:lnTo>
                  <a:pt x="385" y="1812"/>
                </a:lnTo>
                <a:lnTo>
                  <a:pt x="391" y="1812"/>
                </a:lnTo>
                <a:lnTo>
                  <a:pt x="397" y="1812"/>
                </a:lnTo>
                <a:lnTo>
                  <a:pt x="402" y="1812"/>
                </a:lnTo>
                <a:lnTo>
                  <a:pt x="408" y="1812"/>
                </a:lnTo>
                <a:lnTo>
                  <a:pt x="414" y="1812"/>
                </a:lnTo>
                <a:lnTo>
                  <a:pt x="419" y="1818"/>
                </a:lnTo>
                <a:lnTo>
                  <a:pt x="425" y="1812"/>
                </a:lnTo>
                <a:lnTo>
                  <a:pt x="431" y="1812"/>
                </a:lnTo>
                <a:lnTo>
                  <a:pt x="436" y="1812"/>
                </a:lnTo>
                <a:lnTo>
                  <a:pt x="442" y="1812"/>
                </a:lnTo>
                <a:lnTo>
                  <a:pt x="448" y="1812"/>
                </a:lnTo>
                <a:lnTo>
                  <a:pt x="453" y="1818"/>
                </a:lnTo>
                <a:lnTo>
                  <a:pt x="459" y="1812"/>
                </a:lnTo>
                <a:lnTo>
                  <a:pt x="465" y="1812"/>
                </a:lnTo>
                <a:lnTo>
                  <a:pt x="470" y="1812"/>
                </a:lnTo>
                <a:lnTo>
                  <a:pt x="476" y="1812"/>
                </a:lnTo>
                <a:lnTo>
                  <a:pt x="482" y="1812"/>
                </a:lnTo>
                <a:lnTo>
                  <a:pt x="487" y="1818"/>
                </a:lnTo>
                <a:lnTo>
                  <a:pt x="493" y="1812"/>
                </a:lnTo>
                <a:lnTo>
                  <a:pt x="499" y="1812"/>
                </a:lnTo>
                <a:lnTo>
                  <a:pt x="504" y="1812"/>
                </a:lnTo>
                <a:lnTo>
                  <a:pt x="510" y="1812"/>
                </a:lnTo>
                <a:lnTo>
                  <a:pt x="516" y="1812"/>
                </a:lnTo>
                <a:lnTo>
                  <a:pt x="521" y="1812"/>
                </a:lnTo>
                <a:lnTo>
                  <a:pt x="533" y="1812"/>
                </a:lnTo>
                <a:lnTo>
                  <a:pt x="527" y="1812"/>
                </a:lnTo>
                <a:lnTo>
                  <a:pt x="533" y="1812"/>
                </a:lnTo>
                <a:lnTo>
                  <a:pt x="539" y="1812"/>
                </a:lnTo>
                <a:lnTo>
                  <a:pt x="544" y="1812"/>
                </a:lnTo>
                <a:lnTo>
                  <a:pt x="550" y="1812"/>
                </a:lnTo>
                <a:lnTo>
                  <a:pt x="556" y="1812"/>
                </a:lnTo>
                <a:lnTo>
                  <a:pt x="567" y="1812"/>
                </a:lnTo>
                <a:lnTo>
                  <a:pt x="561" y="1812"/>
                </a:lnTo>
                <a:lnTo>
                  <a:pt x="567" y="1812"/>
                </a:lnTo>
                <a:lnTo>
                  <a:pt x="573" y="1812"/>
                </a:lnTo>
                <a:lnTo>
                  <a:pt x="578" y="1812"/>
                </a:lnTo>
                <a:lnTo>
                  <a:pt x="584" y="1812"/>
                </a:lnTo>
                <a:lnTo>
                  <a:pt x="590" y="1812"/>
                </a:lnTo>
                <a:lnTo>
                  <a:pt x="595" y="1818"/>
                </a:lnTo>
                <a:lnTo>
                  <a:pt x="601" y="1812"/>
                </a:lnTo>
                <a:lnTo>
                  <a:pt x="607" y="1812"/>
                </a:lnTo>
                <a:lnTo>
                  <a:pt x="612" y="1812"/>
                </a:lnTo>
                <a:lnTo>
                  <a:pt x="618" y="1812"/>
                </a:lnTo>
                <a:lnTo>
                  <a:pt x="624" y="1812"/>
                </a:lnTo>
                <a:lnTo>
                  <a:pt x="629" y="1818"/>
                </a:lnTo>
                <a:lnTo>
                  <a:pt x="635" y="1812"/>
                </a:lnTo>
                <a:lnTo>
                  <a:pt x="641" y="18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7760" y="5127480"/>
            <a:ext cx="1069920" cy="9720"/>
          </a:xfrm>
          <a:custGeom>
            <a:avLst/>
            <a:gdLst/>
            <a:ahLst/>
            <a:rect l="l" t="t" r="r" b="b"/>
            <a:pathLst>
              <a:path w="674" h="6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6"/>
                </a:lnTo>
                <a:lnTo>
                  <a:pt x="28" y="0"/>
                </a:lnTo>
                <a:lnTo>
                  <a:pt x="34" y="0"/>
                </a:lnTo>
                <a:lnTo>
                  <a:pt x="39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8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90" y="0"/>
                </a:lnTo>
                <a:lnTo>
                  <a:pt x="102" y="0"/>
                </a:lnTo>
                <a:lnTo>
                  <a:pt x="96" y="0"/>
                </a:lnTo>
                <a:lnTo>
                  <a:pt x="102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4" y="0"/>
                </a:lnTo>
                <a:lnTo>
                  <a:pt x="130" y="6"/>
                </a:lnTo>
                <a:lnTo>
                  <a:pt x="136" y="0"/>
                </a:lnTo>
                <a:lnTo>
                  <a:pt x="141" y="0"/>
                </a:lnTo>
                <a:lnTo>
                  <a:pt x="147" y="0"/>
                </a:lnTo>
                <a:lnTo>
                  <a:pt x="153" y="0"/>
                </a:lnTo>
                <a:lnTo>
                  <a:pt x="158" y="0"/>
                </a:lnTo>
                <a:lnTo>
                  <a:pt x="164" y="6"/>
                </a:lnTo>
                <a:lnTo>
                  <a:pt x="170" y="0"/>
                </a:lnTo>
                <a:lnTo>
                  <a:pt x="175" y="0"/>
                </a:lnTo>
                <a:lnTo>
                  <a:pt x="181" y="0"/>
                </a:lnTo>
                <a:lnTo>
                  <a:pt x="187" y="0"/>
                </a:lnTo>
                <a:lnTo>
                  <a:pt x="192" y="0"/>
                </a:lnTo>
                <a:lnTo>
                  <a:pt x="198" y="6"/>
                </a:lnTo>
                <a:lnTo>
                  <a:pt x="204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6" y="0"/>
                </a:lnTo>
                <a:lnTo>
                  <a:pt x="232" y="0"/>
                </a:lnTo>
                <a:lnTo>
                  <a:pt x="243" y="0"/>
                </a:lnTo>
                <a:lnTo>
                  <a:pt x="238" y="0"/>
                </a:lnTo>
                <a:lnTo>
                  <a:pt x="243" y="0"/>
                </a:lnTo>
                <a:lnTo>
                  <a:pt x="249" y="0"/>
                </a:lnTo>
                <a:lnTo>
                  <a:pt x="255" y="0"/>
                </a:lnTo>
                <a:lnTo>
                  <a:pt x="260" y="0"/>
                </a:lnTo>
                <a:lnTo>
                  <a:pt x="266" y="0"/>
                </a:lnTo>
                <a:lnTo>
                  <a:pt x="277" y="0"/>
                </a:lnTo>
                <a:lnTo>
                  <a:pt x="272" y="0"/>
                </a:lnTo>
                <a:lnTo>
                  <a:pt x="277" y="0"/>
                </a:lnTo>
                <a:lnTo>
                  <a:pt x="283" y="0"/>
                </a:lnTo>
                <a:lnTo>
                  <a:pt x="289" y="0"/>
                </a:lnTo>
                <a:lnTo>
                  <a:pt x="294" y="0"/>
                </a:lnTo>
                <a:lnTo>
                  <a:pt x="300" y="0"/>
                </a:lnTo>
                <a:lnTo>
                  <a:pt x="306" y="6"/>
                </a:lnTo>
                <a:lnTo>
                  <a:pt x="311" y="0"/>
                </a:lnTo>
                <a:lnTo>
                  <a:pt x="317" y="0"/>
                </a:lnTo>
                <a:lnTo>
                  <a:pt x="323" y="0"/>
                </a:lnTo>
                <a:lnTo>
                  <a:pt x="328" y="0"/>
                </a:lnTo>
                <a:lnTo>
                  <a:pt x="334" y="0"/>
                </a:lnTo>
                <a:lnTo>
                  <a:pt x="340" y="6"/>
                </a:lnTo>
                <a:lnTo>
                  <a:pt x="345" y="0"/>
                </a:lnTo>
                <a:lnTo>
                  <a:pt x="351" y="0"/>
                </a:lnTo>
                <a:lnTo>
                  <a:pt x="357" y="0"/>
                </a:lnTo>
                <a:lnTo>
                  <a:pt x="362" y="0"/>
                </a:lnTo>
                <a:lnTo>
                  <a:pt x="368" y="0"/>
                </a:lnTo>
                <a:lnTo>
                  <a:pt x="374" y="6"/>
                </a:lnTo>
                <a:lnTo>
                  <a:pt x="379" y="0"/>
                </a:lnTo>
                <a:lnTo>
                  <a:pt x="385" y="0"/>
                </a:lnTo>
                <a:lnTo>
                  <a:pt x="391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9" y="0"/>
                </a:lnTo>
                <a:lnTo>
                  <a:pt x="413" y="0"/>
                </a:lnTo>
                <a:lnTo>
                  <a:pt x="419" y="0"/>
                </a:lnTo>
                <a:lnTo>
                  <a:pt x="425" y="0"/>
                </a:lnTo>
                <a:lnTo>
                  <a:pt x="430" y="0"/>
                </a:lnTo>
                <a:lnTo>
                  <a:pt x="436" y="0"/>
                </a:lnTo>
                <a:lnTo>
                  <a:pt x="442" y="0"/>
                </a:lnTo>
                <a:lnTo>
                  <a:pt x="453" y="0"/>
                </a:lnTo>
                <a:lnTo>
                  <a:pt x="447" y="0"/>
                </a:lnTo>
                <a:lnTo>
                  <a:pt x="453" y="0"/>
                </a:lnTo>
                <a:lnTo>
                  <a:pt x="459" y="0"/>
                </a:lnTo>
                <a:lnTo>
                  <a:pt x="464" y="0"/>
                </a:lnTo>
                <a:lnTo>
                  <a:pt x="470" y="0"/>
                </a:lnTo>
                <a:lnTo>
                  <a:pt x="476" y="0"/>
                </a:lnTo>
                <a:lnTo>
                  <a:pt x="481" y="6"/>
                </a:lnTo>
                <a:lnTo>
                  <a:pt x="487" y="0"/>
                </a:lnTo>
                <a:lnTo>
                  <a:pt x="493" y="0"/>
                </a:lnTo>
                <a:lnTo>
                  <a:pt x="498" y="0"/>
                </a:lnTo>
                <a:lnTo>
                  <a:pt x="504" y="0"/>
                </a:lnTo>
                <a:lnTo>
                  <a:pt x="510" y="0"/>
                </a:lnTo>
                <a:lnTo>
                  <a:pt x="515" y="6"/>
                </a:lnTo>
                <a:lnTo>
                  <a:pt x="521" y="0"/>
                </a:lnTo>
                <a:lnTo>
                  <a:pt x="527" y="0"/>
                </a:lnTo>
                <a:lnTo>
                  <a:pt x="533" y="0"/>
                </a:lnTo>
                <a:lnTo>
                  <a:pt x="538" y="0"/>
                </a:lnTo>
                <a:lnTo>
                  <a:pt x="544" y="0"/>
                </a:lnTo>
                <a:lnTo>
                  <a:pt x="550" y="6"/>
                </a:lnTo>
                <a:lnTo>
                  <a:pt x="555" y="0"/>
                </a:lnTo>
                <a:lnTo>
                  <a:pt x="561" y="0"/>
                </a:lnTo>
                <a:lnTo>
                  <a:pt x="567" y="0"/>
                </a:lnTo>
                <a:lnTo>
                  <a:pt x="572" y="0"/>
                </a:lnTo>
                <a:lnTo>
                  <a:pt x="578" y="0"/>
                </a:lnTo>
                <a:lnTo>
                  <a:pt x="584" y="0"/>
                </a:lnTo>
                <a:lnTo>
                  <a:pt x="595" y="0"/>
                </a:lnTo>
                <a:lnTo>
                  <a:pt x="589" y="0"/>
                </a:lnTo>
                <a:lnTo>
                  <a:pt x="595" y="0"/>
                </a:lnTo>
                <a:lnTo>
                  <a:pt x="601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9" y="0"/>
                </a:lnTo>
                <a:lnTo>
                  <a:pt x="623" y="0"/>
                </a:lnTo>
                <a:lnTo>
                  <a:pt x="629" y="0"/>
                </a:lnTo>
                <a:lnTo>
                  <a:pt x="635" y="0"/>
                </a:lnTo>
                <a:lnTo>
                  <a:pt x="640" y="0"/>
                </a:lnTo>
                <a:lnTo>
                  <a:pt x="646" y="0"/>
                </a:lnTo>
                <a:lnTo>
                  <a:pt x="652" y="0"/>
                </a:lnTo>
                <a:lnTo>
                  <a:pt x="657" y="6"/>
                </a:lnTo>
                <a:lnTo>
                  <a:pt x="663" y="0"/>
                </a:lnTo>
                <a:lnTo>
                  <a:pt x="669" y="0"/>
                </a:lnTo>
                <a:lnTo>
                  <a:pt x="67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7680" y="5127480"/>
            <a:ext cx="1071360" cy="9720"/>
          </a:xfrm>
          <a:custGeom>
            <a:avLst/>
            <a:gdLst/>
            <a:ahLst/>
            <a:rect l="l" t="t" r="r" b="b"/>
            <a:pathLst>
              <a:path w="675" h="6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7" y="6"/>
                </a:lnTo>
                <a:lnTo>
                  <a:pt x="23" y="0"/>
                </a:lnTo>
                <a:lnTo>
                  <a:pt x="29" y="0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51" y="6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7" y="0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19" y="0"/>
                </a:lnTo>
                <a:lnTo>
                  <a:pt x="131" y="0"/>
                </a:lnTo>
                <a:lnTo>
                  <a:pt x="125" y="0"/>
                </a:lnTo>
                <a:lnTo>
                  <a:pt x="131" y="0"/>
                </a:lnTo>
                <a:lnTo>
                  <a:pt x="136" y="0"/>
                </a:lnTo>
                <a:lnTo>
                  <a:pt x="142" y="0"/>
                </a:lnTo>
                <a:lnTo>
                  <a:pt x="148" y="0"/>
                </a:lnTo>
                <a:lnTo>
                  <a:pt x="153" y="0"/>
                </a:lnTo>
                <a:lnTo>
                  <a:pt x="159" y="6"/>
                </a:lnTo>
                <a:lnTo>
                  <a:pt x="165" y="0"/>
                </a:lnTo>
                <a:lnTo>
                  <a:pt x="170" y="0"/>
                </a:lnTo>
                <a:lnTo>
                  <a:pt x="176" y="0"/>
                </a:lnTo>
                <a:lnTo>
                  <a:pt x="182" y="0"/>
                </a:lnTo>
                <a:lnTo>
                  <a:pt x="187" y="0"/>
                </a:lnTo>
                <a:lnTo>
                  <a:pt x="193" y="6"/>
                </a:lnTo>
                <a:lnTo>
                  <a:pt x="199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1" y="0"/>
                </a:lnTo>
                <a:lnTo>
                  <a:pt x="227" y="6"/>
                </a:lnTo>
                <a:lnTo>
                  <a:pt x="233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5" y="0"/>
                </a:lnTo>
                <a:lnTo>
                  <a:pt x="261" y="0"/>
                </a:lnTo>
                <a:lnTo>
                  <a:pt x="272" y="0"/>
                </a:lnTo>
                <a:lnTo>
                  <a:pt x="267" y="0"/>
                </a:lnTo>
                <a:lnTo>
                  <a:pt x="272" y="0"/>
                </a:lnTo>
                <a:lnTo>
                  <a:pt x="278" y="0"/>
                </a:lnTo>
                <a:lnTo>
                  <a:pt x="284" y="0"/>
                </a:lnTo>
                <a:lnTo>
                  <a:pt x="289" y="0"/>
                </a:lnTo>
                <a:lnTo>
                  <a:pt x="295" y="0"/>
                </a:lnTo>
                <a:lnTo>
                  <a:pt x="306" y="0"/>
                </a:lnTo>
                <a:lnTo>
                  <a:pt x="301" y="0"/>
                </a:lnTo>
                <a:lnTo>
                  <a:pt x="306" y="0"/>
                </a:lnTo>
                <a:lnTo>
                  <a:pt x="312" y="0"/>
                </a:lnTo>
                <a:lnTo>
                  <a:pt x="318" y="0"/>
                </a:lnTo>
                <a:lnTo>
                  <a:pt x="323" y="0"/>
                </a:lnTo>
                <a:lnTo>
                  <a:pt x="329" y="0"/>
                </a:lnTo>
                <a:lnTo>
                  <a:pt x="335" y="6"/>
                </a:lnTo>
                <a:lnTo>
                  <a:pt x="340" y="0"/>
                </a:lnTo>
                <a:lnTo>
                  <a:pt x="346" y="0"/>
                </a:lnTo>
                <a:lnTo>
                  <a:pt x="352" y="0"/>
                </a:lnTo>
                <a:lnTo>
                  <a:pt x="357" y="0"/>
                </a:lnTo>
                <a:lnTo>
                  <a:pt x="363" y="0"/>
                </a:lnTo>
                <a:lnTo>
                  <a:pt x="369" y="6"/>
                </a:lnTo>
                <a:lnTo>
                  <a:pt x="374" y="0"/>
                </a:lnTo>
                <a:lnTo>
                  <a:pt x="380" y="0"/>
                </a:lnTo>
                <a:lnTo>
                  <a:pt x="386" y="0"/>
                </a:lnTo>
                <a:lnTo>
                  <a:pt x="391" y="0"/>
                </a:lnTo>
                <a:lnTo>
                  <a:pt x="397" y="0"/>
                </a:lnTo>
                <a:lnTo>
                  <a:pt x="403" y="6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5" y="0"/>
                </a:lnTo>
                <a:lnTo>
                  <a:pt x="431" y="0"/>
                </a:lnTo>
                <a:lnTo>
                  <a:pt x="437" y="0"/>
                </a:lnTo>
                <a:lnTo>
                  <a:pt x="448" y="0"/>
                </a:lnTo>
                <a:lnTo>
                  <a:pt x="442" y="0"/>
                </a:lnTo>
                <a:lnTo>
                  <a:pt x="448" y="0"/>
                </a:lnTo>
                <a:lnTo>
                  <a:pt x="454" y="0"/>
                </a:lnTo>
                <a:lnTo>
                  <a:pt x="459" y="0"/>
                </a:lnTo>
                <a:lnTo>
                  <a:pt x="465" y="0"/>
                </a:lnTo>
                <a:lnTo>
                  <a:pt x="471" y="0"/>
                </a:lnTo>
                <a:lnTo>
                  <a:pt x="482" y="0"/>
                </a:lnTo>
                <a:lnTo>
                  <a:pt x="476" y="0"/>
                </a:lnTo>
                <a:lnTo>
                  <a:pt x="482" y="0"/>
                </a:lnTo>
                <a:lnTo>
                  <a:pt x="488" y="0"/>
                </a:lnTo>
                <a:lnTo>
                  <a:pt x="494" y="0"/>
                </a:lnTo>
                <a:lnTo>
                  <a:pt x="499" y="0"/>
                </a:lnTo>
                <a:lnTo>
                  <a:pt x="505" y="0"/>
                </a:lnTo>
                <a:lnTo>
                  <a:pt x="511" y="6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3" y="0"/>
                </a:lnTo>
                <a:lnTo>
                  <a:pt x="539" y="0"/>
                </a:lnTo>
                <a:lnTo>
                  <a:pt x="545" y="6"/>
                </a:lnTo>
                <a:lnTo>
                  <a:pt x="550" y="0"/>
                </a:lnTo>
                <a:lnTo>
                  <a:pt x="556" y="0"/>
                </a:lnTo>
                <a:lnTo>
                  <a:pt x="562" y="0"/>
                </a:lnTo>
                <a:lnTo>
                  <a:pt x="567" y="0"/>
                </a:lnTo>
                <a:lnTo>
                  <a:pt x="573" y="0"/>
                </a:lnTo>
                <a:lnTo>
                  <a:pt x="579" y="6"/>
                </a:lnTo>
                <a:lnTo>
                  <a:pt x="584" y="0"/>
                </a:lnTo>
                <a:lnTo>
                  <a:pt x="590" y="0"/>
                </a:lnTo>
                <a:lnTo>
                  <a:pt x="596" y="0"/>
                </a:lnTo>
                <a:lnTo>
                  <a:pt x="601" y="0"/>
                </a:lnTo>
                <a:lnTo>
                  <a:pt x="607" y="0"/>
                </a:lnTo>
                <a:lnTo>
                  <a:pt x="613" y="0"/>
                </a:lnTo>
                <a:lnTo>
                  <a:pt x="624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35" y="0"/>
                </a:lnTo>
                <a:lnTo>
                  <a:pt x="641" y="0"/>
                </a:lnTo>
                <a:lnTo>
                  <a:pt x="647" y="0"/>
                </a:lnTo>
                <a:lnTo>
                  <a:pt x="658" y="0"/>
                </a:lnTo>
                <a:lnTo>
                  <a:pt x="652" y="0"/>
                </a:lnTo>
                <a:lnTo>
                  <a:pt x="658" y="0"/>
                </a:lnTo>
                <a:lnTo>
                  <a:pt x="664" y="0"/>
                </a:lnTo>
                <a:lnTo>
                  <a:pt x="669" y="0"/>
                </a:lnTo>
                <a:lnTo>
                  <a:pt x="67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69040" y="2394000"/>
            <a:ext cx="405000" cy="2743200"/>
          </a:xfrm>
          <a:custGeom>
            <a:avLst/>
            <a:gdLst/>
            <a:ahLst/>
            <a:rect l="l" t="t" r="r" b="b"/>
            <a:pathLst>
              <a:path w="255" h="1728">
                <a:moveTo>
                  <a:pt x="0" y="1722"/>
                </a:moveTo>
                <a:lnTo>
                  <a:pt x="6" y="1722"/>
                </a:lnTo>
                <a:lnTo>
                  <a:pt x="11" y="1728"/>
                </a:lnTo>
                <a:lnTo>
                  <a:pt x="17" y="1722"/>
                </a:lnTo>
                <a:lnTo>
                  <a:pt x="23" y="1722"/>
                </a:lnTo>
                <a:lnTo>
                  <a:pt x="28" y="1722"/>
                </a:lnTo>
                <a:lnTo>
                  <a:pt x="34" y="1722"/>
                </a:lnTo>
                <a:lnTo>
                  <a:pt x="40" y="1722"/>
                </a:lnTo>
                <a:lnTo>
                  <a:pt x="45" y="1728"/>
                </a:lnTo>
                <a:lnTo>
                  <a:pt x="51" y="1722"/>
                </a:lnTo>
                <a:lnTo>
                  <a:pt x="57" y="1722"/>
                </a:lnTo>
                <a:lnTo>
                  <a:pt x="62" y="1717"/>
                </a:lnTo>
                <a:lnTo>
                  <a:pt x="68" y="1717"/>
                </a:lnTo>
                <a:lnTo>
                  <a:pt x="74" y="1722"/>
                </a:lnTo>
                <a:lnTo>
                  <a:pt x="79" y="1728"/>
                </a:lnTo>
                <a:lnTo>
                  <a:pt x="85" y="1722"/>
                </a:lnTo>
                <a:lnTo>
                  <a:pt x="91" y="1722"/>
                </a:lnTo>
                <a:lnTo>
                  <a:pt x="96" y="1717"/>
                </a:lnTo>
                <a:lnTo>
                  <a:pt x="102" y="1717"/>
                </a:lnTo>
                <a:lnTo>
                  <a:pt x="108" y="1722"/>
                </a:lnTo>
                <a:lnTo>
                  <a:pt x="113" y="1722"/>
                </a:lnTo>
                <a:lnTo>
                  <a:pt x="119" y="1728"/>
                </a:lnTo>
                <a:lnTo>
                  <a:pt x="119" y="1722"/>
                </a:lnTo>
                <a:lnTo>
                  <a:pt x="125" y="1717"/>
                </a:lnTo>
                <a:lnTo>
                  <a:pt x="130" y="1712"/>
                </a:lnTo>
                <a:lnTo>
                  <a:pt x="136" y="1712"/>
                </a:lnTo>
                <a:lnTo>
                  <a:pt x="142" y="1717"/>
                </a:lnTo>
                <a:lnTo>
                  <a:pt x="147" y="1722"/>
                </a:lnTo>
                <a:lnTo>
                  <a:pt x="153" y="1728"/>
                </a:lnTo>
                <a:lnTo>
                  <a:pt x="153" y="1722"/>
                </a:lnTo>
                <a:lnTo>
                  <a:pt x="159" y="1712"/>
                </a:lnTo>
                <a:lnTo>
                  <a:pt x="164" y="1701"/>
                </a:lnTo>
                <a:lnTo>
                  <a:pt x="170" y="1696"/>
                </a:lnTo>
                <a:lnTo>
                  <a:pt x="176" y="1696"/>
                </a:lnTo>
                <a:lnTo>
                  <a:pt x="176" y="1706"/>
                </a:lnTo>
                <a:lnTo>
                  <a:pt x="181" y="1717"/>
                </a:lnTo>
                <a:lnTo>
                  <a:pt x="187" y="1728"/>
                </a:lnTo>
                <a:lnTo>
                  <a:pt x="193" y="1717"/>
                </a:lnTo>
                <a:lnTo>
                  <a:pt x="193" y="1696"/>
                </a:lnTo>
                <a:lnTo>
                  <a:pt x="198" y="1664"/>
                </a:lnTo>
                <a:lnTo>
                  <a:pt x="204" y="1643"/>
                </a:lnTo>
                <a:lnTo>
                  <a:pt x="210" y="1643"/>
                </a:lnTo>
                <a:lnTo>
                  <a:pt x="215" y="1664"/>
                </a:lnTo>
                <a:lnTo>
                  <a:pt x="215" y="1701"/>
                </a:lnTo>
                <a:lnTo>
                  <a:pt x="221" y="1728"/>
                </a:lnTo>
                <a:lnTo>
                  <a:pt x="227" y="1690"/>
                </a:lnTo>
                <a:lnTo>
                  <a:pt x="232" y="1563"/>
                </a:lnTo>
                <a:lnTo>
                  <a:pt x="232" y="1324"/>
                </a:lnTo>
                <a:lnTo>
                  <a:pt x="238" y="989"/>
                </a:lnTo>
                <a:lnTo>
                  <a:pt x="244" y="606"/>
                </a:lnTo>
                <a:lnTo>
                  <a:pt x="249" y="250"/>
                </a:lnTo>
                <a:lnTo>
                  <a:pt x="25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28600" y="9144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f(1:20), abs(vf(1:20))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49880" y="18900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the frequency spectrum  on a finer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33720" y="2708280"/>
            <a:ext cx="390708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3720" y="2708280"/>
            <a:ext cx="390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33720" y="2708280"/>
            <a:ext cx="390708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933720" y="2707920"/>
            <a:ext cx="180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5594400"/>
            <a:ext cx="390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93372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3372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0672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32108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2108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707000" y="5551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07000" y="27082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8000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10372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0372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49108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9108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6408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88636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8636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7372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27372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4672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66108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6108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05636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5636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2936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7443720" y="55512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43720" y="2708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0800" y="55512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840800" y="27082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13800" y="561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33720" y="55944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794720" y="5594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91000" y="5487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33720" y="50115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794720" y="5011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7560" y="4905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933720" y="44370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794720" y="443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90920" y="4332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33720" y="38559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794720" y="3855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27560" y="37497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33720" y="32814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794720" y="3281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90920" y="3176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33720" y="27082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794720" y="2708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7560" y="26035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33720" y="2708280"/>
            <a:ext cx="390708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97360" y="26748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86360" y="281772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284720" y="32148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83080" y="37800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72080" y="4387680"/>
            <a:ext cx="8100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70440" y="491796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67360" y="529920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56360" y="5500800"/>
            <a:ext cx="8064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54720" y="55594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53080" y="55180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51440" y="545940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40440" y="54244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37360" y="54244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35720" y="545940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24720" y="550872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23080" y="554364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21440" y="55594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10440" y="554364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407360" y="55260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05720" y="550872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97360" y="26748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86360" y="281772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84720" y="32148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83080" y="37800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72080" y="4387680"/>
            <a:ext cx="81000" cy="74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70440" y="491796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67360" y="529920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56360" y="5500800"/>
            <a:ext cx="8064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54720" y="55594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53080" y="55180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51440" y="545940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40440" y="54244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37360" y="54244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35720" y="545940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24720" y="550872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23080" y="554364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021440" y="55594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10440" y="554364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07360" y="55260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05720" y="550872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7200" y="609588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we had some aliasing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9600" y="905040"/>
            <a:ext cx="72352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Fourier transforms (DFTs) and their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Fourier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ssues with the DFT via th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issues (Nyquist criter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in the frequency domain (zero pad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ect of negative frequenc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57200" y="7621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t =IFourierT(vf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plot(t, real(v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3920" y="1890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 the inverse FFT we do again recover the tim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71960" y="194616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71960" y="194616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71960" y="19461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171960" y="194580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71960" y="483228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171960" y="194580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17196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7196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44960" y="4856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65760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5760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76600" y="48560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143240" y="47890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43240" y="19461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16240" y="4856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62924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2924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48240" y="48560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12460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2460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97600" y="4856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561024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1024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29240" y="48560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09768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768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70680" y="4856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583320" y="47890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583320" y="19461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502320" y="48560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078680" y="47890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078680" y="19461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51680" y="4856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71960" y="4832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7032600" y="4832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33840" y="4714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71960" y="441792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7032600" y="4417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70280" y="4302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71960" y="40053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7032600" y="4005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70200" y="3887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71960" y="3591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7032600" y="3591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70200" y="34750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71960" y="31780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7032600" y="317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70200" y="3060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171960" y="2765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7032600" y="2765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70200" y="2647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71960" y="23511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032600" y="2351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70200" y="2235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71960" y="19461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032600" y="19461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70200" y="1830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71960" y="19461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71960" y="2351160"/>
            <a:ext cx="963360" cy="2066760"/>
          </a:xfrm>
          <a:custGeom>
            <a:avLst/>
            <a:gdLst/>
            <a:ahLst/>
            <a:rect l="l" t="t" r="r" b="b"/>
            <a:pathLst>
              <a:path w="607" h="1302">
                <a:moveTo>
                  <a:pt x="0" y="1302"/>
                </a:moveTo>
                <a:lnTo>
                  <a:pt x="0" y="1281"/>
                </a:lnTo>
                <a:lnTo>
                  <a:pt x="6" y="1260"/>
                </a:lnTo>
                <a:lnTo>
                  <a:pt x="11" y="1238"/>
                </a:lnTo>
                <a:lnTo>
                  <a:pt x="17" y="1217"/>
                </a:lnTo>
                <a:lnTo>
                  <a:pt x="23" y="1201"/>
                </a:lnTo>
                <a:lnTo>
                  <a:pt x="28" y="1180"/>
                </a:lnTo>
                <a:lnTo>
                  <a:pt x="28" y="1159"/>
                </a:lnTo>
                <a:lnTo>
                  <a:pt x="34" y="1137"/>
                </a:lnTo>
                <a:lnTo>
                  <a:pt x="40" y="1116"/>
                </a:lnTo>
                <a:lnTo>
                  <a:pt x="45" y="1095"/>
                </a:lnTo>
                <a:lnTo>
                  <a:pt x="51" y="1079"/>
                </a:lnTo>
                <a:lnTo>
                  <a:pt x="57" y="1058"/>
                </a:lnTo>
                <a:lnTo>
                  <a:pt x="62" y="1036"/>
                </a:lnTo>
                <a:lnTo>
                  <a:pt x="62" y="1015"/>
                </a:lnTo>
                <a:lnTo>
                  <a:pt x="68" y="994"/>
                </a:lnTo>
                <a:lnTo>
                  <a:pt x="74" y="978"/>
                </a:lnTo>
                <a:lnTo>
                  <a:pt x="79" y="957"/>
                </a:lnTo>
                <a:lnTo>
                  <a:pt x="85" y="935"/>
                </a:lnTo>
                <a:lnTo>
                  <a:pt x="91" y="914"/>
                </a:lnTo>
                <a:lnTo>
                  <a:pt x="91" y="893"/>
                </a:lnTo>
                <a:lnTo>
                  <a:pt x="96" y="872"/>
                </a:lnTo>
                <a:lnTo>
                  <a:pt x="102" y="856"/>
                </a:lnTo>
                <a:lnTo>
                  <a:pt x="108" y="834"/>
                </a:lnTo>
                <a:lnTo>
                  <a:pt x="113" y="813"/>
                </a:lnTo>
                <a:lnTo>
                  <a:pt x="119" y="792"/>
                </a:lnTo>
                <a:lnTo>
                  <a:pt x="125" y="771"/>
                </a:lnTo>
                <a:lnTo>
                  <a:pt x="125" y="755"/>
                </a:lnTo>
                <a:lnTo>
                  <a:pt x="130" y="734"/>
                </a:lnTo>
                <a:lnTo>
                  <a:pt x="136" y="712"/>
                </a:lnTo>
                <a:lnTo>
                  <a:pt x="142" y="691"/>
                </a:lnTo>
                <a:lnTo>
                  <a:pt x="147" y="670"/>
                </a:lnTo>
                <a:lnTo>
                  <a:pt x="153" y="654"/>
                </a:lnTo>
                <a:lnTo>
                  <a:pt x="153" y="633"/>
                </a:lnTo>
                <a:lnTo>
                  <a:pt x="159" y="611"/>
                </a:lnTo>
                <a:lnTo>
                  <a:pt x="164" y="590"/>
                </a:lnTo>
                <a:lnTo>
                  <a:pt x="170" y="569"/>
                </a:lnTo>
                <a:lnTo>
                  <a:pt x="176" y="548"/>
                </a:lnTo>
                <a:lnTo>
                  <a:pt x="181" y="532"/>
                </a:lnTo>
                <a:lnTo>
                  <a:pt x="187" y="510"/>
                </a:lnTo>
                <a:lnTo>
                  <a:pt x="187" y="489"/>
                </a:lnTo>
                <a:lnTo>
                  <a:pt x="193" y="468"/>
                </a:lnTo>
                <a:lnTo>
                  <a:pt x="198" y="447"/>
                </a:lnTo>
                <a:lnTo>
                  <a:pt x="204" y="431"/>
                </a:lnTo>
                <a:lnTo>
                  <a:pt x="210" y="409"/>
                </a:lnTo>
                <a:lnTo>
                  <a:pt x="215" y="388"/>
                </a:lnTo>
                <a:lnTo>
                  <a:pt x="215" y="367"/>
                </a:lnTo>
                <a:lnTo>
                  <a:pt x="221" y="346"/>
                </a:lnTo>
                <a:lnTo>
                  <a:pt x="227" y="324"/>
                </a:lnTo>
                <a:lnTo>
                  <a:pt x="232" y="308"/>
                </a:lnTo>
                <a:lnTo>
                  <a:pt x="238" y="287"/>
                </a:lnTo>
                <a:lnTo>
                  <a:pt x="244" y="266"/>
                </a:lnTo>
                <a:lnTo>
                  <a:pt x="249" y="245"/>
                </a:lnTo>
                <a:lnTo>
                  <a:pt x="249" y="223"/>
                </a:lnTo>
                <a:lnTo>
                  <a:pt x="255" y="207"/>
                </a:lnTo>
                <a:lnTo>
                  <a:pt x="261" y="186"/>
                </a:lnTo>
                <a:lnTo>
                  <a:pt x="266" y="165"/>
                </a:lnTo>
                <a:lnTo>
                  <a:pt x="272" y="144"/>
                </a:lnTo>
                <a:lnTo>
                  <a:pt x="278" y="122"/>
                </a:lnTo>
                <a:lnTo>
                  <a:pt x="283" y="101"/>
                </a:lnTo>
                <a:lnTo>
                  <a:pt x="283" y="85"/>
                </a:lnTo>
                <a:lnTo>
                  <a:pt x="289" y="64"/>
                </a:lnTo>
                <a:lnTo>
                  <a:pt x="295" y="43"/>
                </a:lnTo>
                <a:lnTo>
                  <a:pt x="300" y="21"/>
                </a:lnTo>
                <a:lnTo>
                  <a:pt x="306" y="0"/>
                </a:lnTo>
                <a:lnTo>
                  <a:pt x="312" y="21"/>
                </a:lnTo>
                <a:lnTo>
                  <a:pt x="312" y="43"/>
                </a:lnTo>
                <a:lnTo>
                  <a:pt x="317" y="64"/>
                </a:lnTo>
                <a:lnTo>
                  <a:pt x="323" y="85"/>
                </a:lnTo>
                <a:lnTo>
                  <a:pt x="329" y="101"/>
                </a:lnTo>
                <a:lnTo>
                  <a:pt x="334" y="122"/>
                </a:lnTo>
                <a:lnTo>
                  <a:pt x="340" y="144"/>
                </a:lnTo>
                <a:lnTo>
                  <a:pt x="346" y="165"/>
                </a:lnTo>
                <a:lnTo>
                  <a:pt x="346" y="186"/>
                </a:lnTo>
                <a:lnTo>
                  <a:pt x="351" y="207"/>
                </a:lnTo>
                <a:lnTo>
                  <a:pt x="357" y="223"/>
                </a:lnTo>
                <a:lnTo>
                  <a:pt x="363" y="245"/>
                </a:lnTo>
                <a:lnTo>
                  <a:pt x="368" y="266"/>
                </a:lnTo>
                <a:lnTo>
                  <a:pt x="374" y="287"/>
                </a:lnTo>
                <a:lnTo>
                  <a:pt x="374" y="308"/>
                </a:lnTo>
                <a:lnTo>
                  <a:pt x="380" y="324"/>
                </a:lnTo>
                <a:lnTo>
                  <a:pt x="385" y="346"/>
                </a:lnTo>
                <a:lnTo>
                  <a:pt x="391" y="367"/>
                </a:lnTo>
                <a:lnTo>
                  <a:pt x="397" y="388"/>
                </a:lnTo>
                <a:lnTo>
                  <a:pt x="402" y="409"/>
                </a:lnTo>
                <a:lnTo>
                  <a:pt x="408" y="431"/>
                </a:lnTo>
                <a:lnTo>
                  <a:pt x="408" y="447"/>
                </a:lnTo>
                <a:lnTo>
                  <a:pt x="414" y="468"/>
                </a:lnTo>
                <a:lnTo>
                  <a:pt x="419" y="489"/>
                </a:lnTo>
                <a:lnTo>
                  <a:pt x="425" y="510"/>
                </a:lnTo>
                <a:lnTo>
                  <a:pt x="431" y="532"/>
                </a:lnTo>
                <a:lnTo>
                  <a:pt x="436" y="548"/>
                </a:lnTo>
                <a:lnTo>
                  <a:pt x="436" y="569"/>
                </a:lnTo>
                <a:lnTo>
                  <a:pt x="442" y="590"/>
                </a:lnTo>
                <a:lnTo>
                  <a:pt x="448" y="611"/>
                </a:lnTo>
                <a:lnTo>
                  <a:pt x="453" y="633"/>
                </a:lnTo>
                <a:lnTo>
                  <a:pt x="459" y="654"/>
                </a:lnTo>
                <a:lnTo>
                  <a:pt x="465" y="670"/>
                </a:lnTo>
                <a:lnTo>
                  <a:pt x="470" y="691"/>
                </a:lnTo>
                <a:lnTo>
                  <a:pt x="470" y="712"/>
                </a:lnTo>
                <a:lnTo>
                  <a:pt x="476" y="734"/>
                </a:lnTo>
                <a:lnTo>
                  <a:pt x="482" y="755"/>
                </a:lnTo>
                <a:lnTo>
                  <a:pt x="487" y="771"/>
                </a:lnTo>
                <a:lnTo>
                  <a:pt x="493" y="792"/>
                </a:lnTo>
                <a:lnTo>
                  <a:pt x="499" y="813"/>
                </a:lnTo>
                <a:lnTo>
                  <a:pt x="504" y="834"/>
                </a:lnTo>
                <a:lnTo>
                  <a:pt x="504" y="856"/>
                </a:lnTo>
                <a:lnTo>
                  <a:pt x="510" y="872"/>
                </a:lnTo>
                <a:lnTo>
                  <a:pt x="516" y="893"/>
                </a:lnTo>
                <a:lnTo>
                  <a:pt x="521" y="914"/>
                </a:lnTo>
                <a:lnTo>
                  <a:pt x="527" y="935"/>
                </a:lnTo>
                <a:lnTo>
                  <a:pt x="533" y="957"/>
                </a:lnTo>
                <a:lnTo>
                  <a:pt x="533" y="978"/>
                </a:lnTo>
                <a:lnTo>
                  <a:pt x="539" y="994"/>
                </a:lnTo>
                <a:lnTo>
                  <a:pt x="544" y="1015"/>
                </a:lnTo>
                <a:lnTo>
                  <a:pt x="550" y="1036"/>
                </a:lnTo>
                <a:lnTo>
                  <a:pt x="556" y="1058"/>
                </a:lnTo>
                <a:lnTo>
                  <a:pt x="561" y="1079"/>
                </a:lnTo>
                <a:lnTo>
                  <a:pt x="567" y="1095"/>
                </a:lnTo>
                <a:lnTo>
                  <a:pt x="567" y="1116"/>
                </a:lnTo>
                <a:lnTo>
                  <a:pt x="573" y="1137"/>
                </a:lnTo>
                <a:lnTo>
                  <a:pt x="578" y="1159"/>
                </a:lnTo>
                <a:lnTo>
                  <a:pt x="584" y="1180"/>
                </a:lnTo>
                <a:lnTo>
                  <a:pt x="590" y="1201"/>
                </a:lnTo>
                <a:lnTo>
                  <a:pt x="595" y="1217"/>
                </a:lnTo>
                <a:lnTo>
                  <a:pt x="595" y="1238"/>
                </a:lnTo>
                <a:lnTo>
                  <a:pt x="601" y="1260"/>
                </a:lnTo>
                <a:lnTo>
                  <a:pt x="607" y="128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35320" y="4384800"/>
            <a:ext cx="1143000" cy="33120"/>
          </a:xfrm>
          <a:custGeom>
            <a:avLst/>
            <a:gdLst/>
            <a:ahLst/>
            <a:rect l="l" t="t" r="r" b="b"/>
            <a:pathLst>
              <a:path w="720" h="21">
                <a:moveTo>
                  <a:pt x="0" y="0"/>
                </a:moveTo>
                <a:lnTo>
                  <a:pt x="5" y="21"/>
                </a:lnTo>
                <a:lnTo>
                  <a:pt x="11" y="21"/>
                </a:lnTo>
                <a:lnTo>
                  <a:pt x="17" y="21"/>
                </a:lnTo>
                <a:lnTo>
                  <a:pt x="22" y="21"/>
                </a:lnTo>
                <a:lnTo>
                  <a:pt x="28" y="21"/>
                </a:lnTo>
                <a:lnTo>
                  <a:pt x="34" y="21"/>
                </a:lnTo>
                <a:lnTo>
                  <a:pt x="39" y="21"/>
                </a:lnTo>
                <a:lnTo>
                  <a:pt x="45" y="21"/>
                </a:lnTo>
                <a:lnTo>
                  <a:pt x="51" y="21"/>
                </a:lnTo>
                <a:lnTo>
                  <a:pt x="56" y="21"/>
                </a:lnTo>
                <a:lnTo>
                  <a:pt x="62" y="21"/>
                </a:lnTo>
                <a:lnTo>
                  <a:pt x="68" y="21"/>
                </a:lnTo>
                <a:lnTo>
                  <a:pt x="73" y="21"/>
                </a:lnTo>
                <a:lnTo>
                  <a:pt x="79" y="21"/>
                </a:lnTo>
                <a:lnTo>
                  <a:pt x="85" y="21"/>
                </a:lnTo>
                <a:lnTo>
                  <a:pt x="90" y="21"/>
                </a:lnTo>
                <a:lnTo>
                  <a:pt x="96" y="21"/>
                </a:lnTo>
                <a:lnTo>
                  <a:pt x="102" y="21"/>
                </a:lnTo>
                <a:lnTo>
                  <a:pt x="107" y="21"/>
                </a:lnTo>
                <a:lnTo>
                  <a:pt x="113" y="21"/>
                </a:lnTo>
                <a:lnTo>
                  <a:pt x="119" y="21"/>
                </a:lnTo>
                <a:lnTo>
                  <a:pt x="124" y="21"/>
                </a:lnTo>
                <a:lnTo>
                  <a:pt x="130" y="21"/>
                </a:lnTo>
                <a:lnTo>
                  <a:pt x="136" y="21"/>
                </a:lnTo>
                <a:lnTo>
                  <a:pt x="141" y="21"/>
                </a:lnTo>
                <a:lnTo>
                  <a:pt x="147" y="21"/>
                </a:lnTo>
                <a:lnTo>
                  <a:pt x="153" y="21"/>
                </a:lnTo>
                <a:lnTo>
                  <a:pt x="158" y="21"/>
                </a:lnTo>
                <a:lnTo>
                  <a:pt x="164" y="21"/>
                </a:lnTo>
                <a:lnTo>
                  <a:pt x="170" y="21"/>
                </a:lnTo>
                <a:lnTo>
                  <a:pt x="175" y="21"/>
                </a:lnTo>
                <a:lnTo>
                  <a:pt x="181" y="21"/>
                </a:lnTo>
                <a:lnTo>
                  <a:pt x="187" y="21"/>
                </a:lnTo>
                <a:lnTo>
                  <a:pt x="192" y="21"/>
                </a:lnTo>
                <a:lnTo>
                  <a:pt x="198" y="21"/>
                </a:lnTo>
                <a:lnTo>
                  <a:pt x="204" y="21"/>
                </a:lnTo>
                <a:lnTo>
                  <a:pt x="209" y="21"/>
                </a:lnTo>
                <a:lnTo>
                  <a:pt x="215" y="21"/>
                </a:lnTo>
                <a:lnTo>
                  <a:pt x="221" y="21"/>
                </a:lnTo>
                <a:lnTo>
                  <a:pt x="226" y="21"/>
                </a:lnTo>
                <a:lnTo>
                  <a:pt x="232" y="21"/>
                </a:lnTo>
                <a:lnTo>
                  <a:pt x="238" y="21"/>
                </a:lnTo>
                <a:lnTo>
                  <a:pt x="243" y="21"/>
                </a:lnTo>
                <a:lnTo>
                  <a:pt x="249" y="21"/>
                </a:lnTo>
                <a:lnTo>
                  <a:pt x="255" y="21"/>
                </a:lnTo>
                <a:lnTo>
                  <a:pt x="260" y="21"/>
                </a:lnTo>
                <a:lnTo>
                  <a:pt x="266" y="21"/>
                </a:lnTo>
                <a:lnTo>
                  <a:pt x="272" y="21"/>
                </a:lnTo>
                <a:lnTo>
                  <a:pt x="277" y="21"/>
                </a:lnTo>
                <a:lnTo>
                  <a:pt x="283" y="21"/>
                </a:lnTo>
                <a:lnTo>
                  <a:pt x="289" y="21"/>
                </a:lnTo>
                <a:lnTo>
                  <a:pt x="294" y="21"/>
                </a:lnTo>
                <a:lnTo>
                  <a:pt x="300" y="21"/>
                </a:lnTo>
                <a:lnTo>
                  <a:pt x="306" y="21"/>
                </a:lnTo>
                <a:lnTo>
                  <a:pt x="311" y="21"/>
                </a:lnTo>
                <a:lnTo>
                  <a:pt x="317" y="21"/>
                </a:lnTo>
                <a:lnTo>
                  <a:pt x="323" y="21"/>
                </a:lnTo>
                <a:lnTo>
                  <a:pt x="328" y="21"/>
                </a:lnTo>
                <a:lnTo>
                  <a:pt x="334" y="21"/>
                </a:lnTo>
                <a:lnTo>
                  <a:pt x="340" y="21"/>
                </a:lnTo>
                <a:lnTo>
                  <a:pt x="345" y="21"/>
                </a:lnTo>
                <a:lnTo>
                  <a:pt x="351" y="21"/>
                </a:lnTo>
                <a:lnTo>
                  <a:pt x="357" y="21"/>
                </a:lnTo>
                <a:lnTo>
                  <a:pt x="362" y="21"/>
                </a:lnTo>
                <a:lnTo>
                  <a:pt x="368" y="21"/>
                </a:lnTo>
                <a:lnTo>
                  <a:pt x="374" y="21"/>
                </a:lnTo>
                <a:lnTo>
                  <a:pt x="379" y="21"/>
                </a:lnTo>
                <a:lnTo>
                  <a:pt x="385" y="21"/>
                </a:lnTo>
                <a:lnTo>
                  <a:pt x="391" y="21"/>
                </a:lnTo>
                <a:lnTo>
                  <a:pt x="396" y="21"/>
                </a:lnTo>
                <a:lnTo>
                  <a:pt x="402" y="21"/>
                </a:lnTo>
                <a:lnTo>
                  <a:pt x="408" y="21"/>
                </a:lnTo>
                <a:lnTo>
                  <a:pt x="413" y="21"/>
                </a:lnTo>
                <a:lnTo>
                  <a:pt x="419" y="21"/>
                </a:lnTo>
                <a:lnTo>
                  <a:pt x="425" y="21"/>
                </a:lnTo>
                <a:lnTo>
                  <a:pt x="430" y="21"/>
                </a:lnTo>
                <a:lnTo>
                  <a:pt x="436" y="21"/>
                </a:lnTo>
                <a:lnTo>
                  <a:pt x="442" y="21"/>
                </a:lnTo>
                <a:lnTo>
                  <a:pt x="447" y="21"/>
                </a:lnTo>
                <a:lnTo>
                  <a:pt x="453" y="21"/>
                </a:lnTo>
                <a:lnTo>
                  <a:pt x="459" y="21"/>
                </a:lnTo>
                <a:lnTo>
                  <a:pt x="464" y="21"/>
                </a:lnTo>
                <a:lnTo>
                  <a:pt x="470" y="21"/>
                </a:lnTo>
                <a:lnTo>
                  <a:pt x="476" y="21"/>
                </a:lnTo>
                <a:lnTo>
                  <a:pt x="481" y="21"/>
                </a:lnTo>
                <a:lnTo>
                  <a:pt x="487" y="21"/>
                </a:lnTo>
                <a:lnTo>
                  <a:pt x="493" y="21"/>
                </a:lnTo>
                <a:lnTo>
                  <a:pt x="498" y="21"/>
                </a:lnTo>
                <a:lnTo>
                  <a:pt x="504" y="21"/>
                </a:lnTo>
                <a:lnTo>
                  <a:pt x="510" y="21"/>
                </a:lnTo>
                <a:lnTo>
                  <a:pt x="515" y="21"/>
                </a:lnTo>
                <a:lnTo>
                  <a:pt x="521" y="21"/>
                </a:lnTo>
                <a:lnTo>
                  <a:pt x="527" y="21"/>
                </a:lnTo>
                <a:lnTo>
                  <a:pt x="532" y="21"/>
                </a:lnTo>
                <a:lnTo>
                  <a:pt x="538" y="21"/>
                </a:lnTo>
                <a:lnTo>
                  <a:pt x="544" y="21"/>
                </a:lnTo>
                <a:lnTo>
                  <a:pt x="549" y="21"/>
                </a:lnTo>
                <a:lnTo>
                  <a:pt x="555" y="21"/>
                </a:lnTo>
                <a:lnTo>
                  <a:pt x="561" y="21"/>
                </a:lnTo>
                <a:lnTo>
                  <a:pt x="567" y="21"/>
                </a:lnTo>
                <a:lnTo>
                  <a:pt x="572" y="21"/>
                </a:lnTo>
                <a:lnTo>
                  <a:pt x="578" y="21"/>
                </a:lnTo>
                <a:lnTo>
                  <a:pt x="584" y="21"/>
                </a:lnTo>
                <a:lnTo>
                  <a:pt x="589" y="21"/>
                </a:lnTo>
                <a:lnTo>
                  <a:pt x="595" y="21"/>
                </a:lnTo>
                <a:lnTo>
                  <a:pt x="601" y="21"/>
                </a:lnTo>
                <a:lnTo>
                  <a:pt x="606" y="21"/>
                </a:lnTo>
                <a:lnTo>
                  <a:pt x="612" y="21"/>
                </a:lnTo>
                <a:lnTo>
                  <a:pt x="618" y="21"/>
                </a:lnTo>
                <a:lnTo>
                  <a:pt x="623" y="21"/>
                </a:lnTo>
                <a:lnTo>
                  <a:pt x="629" y="21"/>
                </a:lnTo>
                <a:lnTo>
                  <a:pt x="635" y="21"/>
                </a:lnTo>
                <a:lnTo>
                  <a:pt x="640" y="21"/>
                </a:lnTo>
                <a:lnTo>
                  <a:pt x="646" y="21"/>
                </a:lnTo>
                <a:lnTo>
                  <a:pt x="652" y="21"/>
                </a:lnTo>
                <a:lnTo>
                  <a:pt x="657" y="21"/>
                </a:lnTo>
                <a:lnTo>
                  <a:pt x="663" y="21"/>
                </a:lnTo>
                <a:lnTo>
                  <a:pt x="669" y="21"/>
                </a:lnTo>
                <a:lnTo>
                  <a:pt x="674" y="21"/>
                </a:lnTo>
                <a:lnTo>
                  <a:pt x="680" y="21"/>
                </a:lnTo>
                <a:lnTo>
                  <a:pt x="686" y="21"/>
                </a:lnTo>
                <a:lnTo>
                  <a:pt x="691" y="21"/>
                </a:lnTo>
                <a:lnTo>
                  <a:pt x="697" y="21"/>
                </a:lnTo>
                <a:lnTo>
                  <a:pt x="703" y="21"/>
                </a:lnTo>
                <a:lnTo>
                  <a:pt x="708" y="21"/>
                </a:lnTo>
                <a:lnTo>
                  <a:pt x="714" y="21"/>
                </a:lnTo>
                <a:lnTo>
                  <a:pt x="720" y="2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78320" y="4417920"/>
            <a:ext cx="1143000" cy="1800"/>
          </a:xfrm>
          <a:custGeom>
            <a:avLst/>
            <a:gdLst/>
            <a:ahLst/>
            <a:rect l="l" t="t" r="r" b="b"/>
            <a:pathLst>
              <a:path w="720" h="0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lnTo>
                  <a:pt x="28" y="0"/>
                </a:lnTo>
                <a:lnTo>
                  <a:pt x="34" y="0"/>
                </a:lnTo>
                <a:lnTo>
                  <a:pt x="39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4" y="0"/>
                </a:lnTo>
                <a:lnTo>
                  <a:pt x="130" y="0"/>
                </a:lnTo>
                <a:lnTo>
                  <a:pt x="136" y="0"/>
                </a:lnTo>
                <a:lnTo>
                  <a:pt x="141" y="0"/>
                </a:lnTo>
                <a:lnTo>
                  <a:pt x="147" y="0"/>
                </a:lnTo>
                <a:lnTo>
                  <a:pt x="153" y="0"/>
                </a:lnTo>
                <a:lnTo>
                  <a:pt x="158" y="0"/>
                </a:lnTo>
                <a:lnTo>
                  <a:pt x="164" y="0"/>
                </a:lnTo>
                <a:lnTo>
                  <a:pt x="170" y="0"/>
                </a:lnTo>
                <a:lnTo>
                  <a:pt x="175" y="0"/>
                </a:lnTo>
                <a:lnTo>
                  <a:pt x="181" y="0"/>
                </a:lnTo>
                <a:lnTo>
                  <a:pt x="187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6" y="0"/>
                </a:lnTo>
                <a:lnTo>
                  <a:pt x="232" y="0"/>
                </a:lnTo>
                <a:lnTo>
                  <a:pt x="238" y="0"/>
                </a:lnTo>
                <a:lnTo>
                  <a:pt x="243" y="0"/>
                </a:lnTo>
                <a:lnTo>
                  <a:pt x="249" y="0"/>
                </a:lnTo>
                <a:lnTo>
                  <a:pt x="255" y="0"/>
                </a:lnTo>
                <a:lnTo>
                  <a:pt x="260" y="0"/>
                </a:lnTo>
                <a:lnTo>
                  <a:pt x="266" y="0"/>
                </a:lnTo>
                <a:lnTo>
                  <a:pt x="272" y="0"/>
                </a:lnTo>
                <a:lnTo>
                  <a:pt x="277" y="0"/>
                </a:lnTo>
                <a:lnTo>
                  <a:pt x="283" y="0"/>
                </a:lnTo>
                <a:lnTo>
                  <a:pt x="289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1" y="0"/>
                </a:lnTo>
                <a:lnTo>
                  <a:pt x="317" y="0"/>
                </a:lnTo>
                <a:lnTo>
                  <a:pt x="323" y="0"/>
                </a:lnTo>
                <a:lnTo>
                  <a:pt x="328" y="0"/>
                </a:lnTo>
                <a:lnTo>
                  <a:pt x="334" y="0"/>
                </a:lnTo>
                <a:lnTo>
                  <a:pt x="340" y="0"/>
                </a:lnTo>
                <a:lnTo>
                  <a:pt x="345" y="0"/>
                </a:lnTo>
                <a:lnTo>
                  <a:pt x="351" y="0"/>
                </a:lnTo>
                <a:lnTo>
                  <a:pt x="357" y="0"/>
                </a:lnTo>
                <a:lnTo>
                  <a:pt x="362" y="0"/>
                </a:lnTo>
                <a:lnTo>
                  <a:pt x="368" y="0"/>
                </a:lnTo>
                <a:lnTo>
                  <a:pt x="374" y="0"/>
                </a:lnTo>
                <a:lnTo>
                  <a:pt x="379" y="0"/>
                </a:lnTo>
                <a:lnTo>
                  <a:pt x="385" y="0"/>
                </a:lnTo>
                <a:lnTo>
                  <a:pt x="391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3" y="0"/>
                </a:lnTo>
                <a:lnTo>
                  <a:pt x="419" y="0"/>
                </a:lnTo>
                <a:lnTo>
                  <a:pt x="425" y="0"/>
                </a:lnTo>
                <a:lnTo>
                  <a:pt x="430" y="0"/>
                </a:lnTo>
                <a:lnTo>
                  <a:pt x="436" y="0"/>
                </a:lnTo>
                <a:lnTo>
                  <a:pt x="442" y="0"/>
                </a:lnTo>
                <a:lnTo>
                  <a:pt x="447" y="0"/>
                </a:lnTo>
                <a:lnTo>
                  <a:pt x="453" y="0"/>
                </a:lnTo>
                <a:lnTo>
                  <a:pt x="459" y="0"/>
                </a:lnTo>
                <a:lnTo>
                  <a:pt x="464" y="0"/>
                </a:lnTo>
                <a:lnTo>
                  <a:pt x="470" y="0"/>
                </a:lnTo>
                <a:lnTo>
                  <a:pt x="476" y="0"/>
                </a:lnTo>
                <a:lnTo>
                  <a:pt x="482" y="0"/>
                </a:lnTo>
                <a:lnTo>
                  <a:pt x="487" y="0"/>
                </a:lnTo>
                <a:lnTo>
                  <a:pt x="493" y="0"/>
                </a:lnTo>
                <a:lnTo>
                  <a:pt x="499" y="0"/>
                </a:lnTo>
                <a:lnTo>
                  <a:pt x="504" y="0"/>
                </a:lnTo>
                <a:lnTo>
                  <a:pt x="510" y="0"/>
                </a:lnTo>
                <a:lnTo>
                  <a:pt x="516" y="0"/>
                </a:lnTo>
                <a:lnTo>
                  <a:pt x="521" y="0"/>
                </a:lnTo>
                <a:lnTo>
                  <a:pt x="527" y="0"/>
                </a:lnTo>
                <a:lnTo>
                  <a:pt x="533" y="0"/>
                </a:lnTo>
                <a:lnTo>
                  <a:pt x="538" y="0"/>
                </a:lnTo>
                <a:lnTo>
                  <a:pt x="544" y="0"/>
                </a:lnTo>
                <a:lnTo>
                  <a:pt x="550" y="0"/>
                </a:lnTo>
                <a:lnTo>
                  <a:pt x="555" y="0"/>
                </a:lnTo>
                <a:lnTo>
                  <a:pt x="561" y="0"/>
                </a:lnTo>
                <a:lnTo>
                  <a:pt x="567" y="0"/>
                </a:lnTo>
                <a:lnTo>
                  <a:pt x="572" y="0"/>
                </a:lnTo>
                <a:lnTo>
                  <a:pt x="578" y="0"/>
                </a:lnTo>
                <a:lnTo>
                  <a:pt x="584" y="0"/>
                </a:lnTo>
                <a:lnTo>
                  <a:pt x="589" y="0"/>
                </a:lnTo>
                <a:lnTo>
                  <a:pt x="595" y="0"/>
                </a:lnTo>
                <a:lnTo>
                  <a:pt x="601" y="0"/>
                </a:lnTo>
                <a:lnTo>
                  <a:pt x="606" y="0"/>
                </a:lnTo>
                <a:lnTo>
                  <a:pt x="612" y="0"/>
                </a:lnTo>
                <a:lnTo>
                  <a:pt x="618" y="0"/>
                </a:lnTo>
                <a:lnTo>
                  <a:pt x="623" y="0"/>
                </a:lnTo>
                <a:lnTo>
                  <a:pt x="629" y="0"/>
                </a:lnTo>
                <a:lnTo>
                  <a:pt x="635" y="0"/>
                </a:lnTo>
                <a:lnTo>
                  <a:pt x="640" y="0"/>
                </a:lnTo>
                <a:lnTo>
                  <a:pt x="646" y="0"/>
                </a:lnTo>
                <a:lnTo>
                  <a:pt x="652" y="0"/>
                </a:lnTo>
                <a:lnTo>
                  <a:pt x="657" y="0"/>
                </a:lnTo>
                <a:lnTo>
                  <a:pt x="663" y="0"/>
                </a:lnTo>
                <a:lnTo>
                  <a:pt x="669" y="0"/>
                </a:lnTo>
                <a:lnTo>
                  <a:pt x="674" y="0"/>
                </a:lnTo>
                <a:lnTo>
                  <a:pt x="680" y="0"/>
                </a:lnTo>
                <a:lnTo>
                  <a:pt x="686" y="0"/>
                </a:lnTo>
                <a:lnTo>
                  <a:pt x="691" y="0"/>
                </a:lnTo>
                <a:lnTo>
                  <a:pt x="697" y="0"/>
                </a:lnTo>
                <a:lnTo>
                  <a:pt x="703" y="0"/>
                </a:lnTo>
                <a:lnTo>
                  <a:pt x="708" y="0"/>
                </a:lnTo>
                <a:lnTo>
                  <a:pt x="714" y="0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21320" y="4417920"/>
            <a:ext cx="647640" cy="1800"/>
          </a:xfrm>
          <a:custGeom>
            <a:avLst/>
            <a:gdLst/>
            <a:ahLst/>
            <a:rect l="l" t="t" r="r" b="b"/>
            <a:pathLst>
              <a:path w="408" h="0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lnTo>
                  <a:pt x="28" y="0"/>
                </a:lnTo>
                <a:lnTo>
                  <a:pt x="34" y="0"/>
                </a:lnTo>
                <a:lnTo>
                  <a:pt x="39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4" y="0"/>
                </a:lnTo>
                <a:lnTo>
                  <a:pt x="130" y="0"/>
                </a:lnTo>
                <a:lnTo>
                  <a:pt x="136" y="0"/>
                </a:lnTo>
                <a:lnTo>
                  <a:pt x="141" y="0"/>
                </a:lnTo>
                <a:lnTo>
                  <a:pt x="147" y="0"/>
                </a:lnTo>
                <a:lnTo>
                  <a:pt x="153" y="0"/>
                </a:lnTo>
                <a:lnTo>
                  <a:pt x="158" y="0"/>
                </a:lnTo>
                <a:lnTo>
                  <a:pt x="164" y="0"/>
                </a:lnTo>
                <a:lnTo>
                  <a:pt x="170" y="0"/>
                </a:lnTo>
                <a:lnTo>
                  <a:pt x="175" y="0"/>
                </a:lnTo>
                <a:lnTo>
                  <a:pt x="181" y="0"/>
                </a:lnTo>
                <a:lnTo>
                  <a:pt x="187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6" y="0"/>
                </a:lnTo>
                <a:lnTo>
                  <a:pt x="232" y="0"/>
                </a:lnTo>
                <a:lnTo>
                  <a:pt x="238" y="0"/>
                </a:lnTo>
                <a:lnTo>
                  <a:pt x="243" y="0"/>
                </a:lnTo>
                <a:lnTo>
                  <a:pt x="249" y="0"/>
                </a:lnTo>
                <a:lnTo>
                  <a:pt x="255" y="0"/>
                </a:lnTo>
                <a:lnTo>
                  <a:pt x="260" y="0"/>
                </a:lnTo>
                <a:lnTo>
                  <a:pt x="266" y="0"/>
                </a:lnTo>
                <a:lnTo>
                  <a:pt x="272" y="0"/>
                </a:lnTo>
                <a:lnTo>
                  <a:pt x="277" y="0"/>
                </a:lnTo>
                <a:lnTo>
                  <a:pt x="283" y="0"/>
                </a:lnTo>
                <a:lnTo>
                  <a:pt x="289" y="0"/>
                </a:lnTo>
                <a:lnTo>
                  <a:pt x="294" y="0"/>
                </a:lnTo>
                <a:lnTo>
                  <a:pt x="300" y="0"/>
                </a:lnTo>
                <a:lnTo>
                  <a:pt x="306" y="0"/>
                </a:lnTo>
                <a:lnTo>
                  <a:pt x="311" y="0"/>
                </a:lnTo>
                <a:lnTo>
                  <a:pt x="317" y="0"/>
                </a:lnTo>
                <a:lnTo>
                  <a:pt x="323" y="0"/>
                </a:lnTo>
                <a:lnTo>
                  <a:pt x="328" y="0"/>
                </a:lnTo>
                <a:lnTo>
                  <a:pt x="334" y="0"/>
                </a:lnTo>
                <a:lnTo>
                  <a:pt x="340" y="0"/>
                </a:lnTo>
                <a:lnTo>
                  <a:pt x="345" y="0"/>
                </a:lnTo>
                <a:lnTo>
                  <a:pt x="351" y="0"/>
                </a:lnTo>
                <a:lnTo>
                  <a:pt x="357" y="0"/>
                </a:lnTo>
                <a:lnTo>
                  <a:pt x="362" y="0"/>
                </a:lnTo>
                <a:lnTo>
                  <a:pt x="368" y="0"/>
                </a:lnTo>
                <a:lnTo>
                  <a:pt x="374" y="0"/>
                </a:lnTo>
                <a:lnTo>
                  <a:pt x="379" y="0"/>
                </a:lnTo>
                <a:lnTo>
                  <a:pt x="385" y="0"/>
                </a:lnTo>
                <a:lnTo>
                  <a:pt x="391" y="0"/>
                </a:lnTo>
                <a:lnTo>
                  <a:pt x="397" y="0"/>
                </a:lnTo>
                <a:lnTo>
                  <a:pt x="402" y="0"/>
                </a:lnTo>
                <a:lnTo>
                  <a:pt x="40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604880" y="30492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o multiple FFTs or IFF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t once if we place the data in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1143000"/>
            <a:ext cx="51814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t =s_space(0, 4, 1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 = t.*(t &lt; 0.5) + (1-t).*(t &gt;= 0.5 &amp; t&lt;=1.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dt = t(2) - 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mv= [ v'  v'  v'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mvf = FourierT(mv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f1 = mvf(: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f = s_space(0, 1/dt, 1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 = plot(f, abs(vf1)', 'k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38640" y="225108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38640" y="225108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38640" y="22510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238640" y="2250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38640" y="5137200"/>
            <a:ext cx="390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238640" y="2250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423864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23864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1164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4724280" y="50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24280" y="2251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643280" y="5160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521028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1028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8328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69592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9592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14920" y="5160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19128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9128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16428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676920" y="50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676920" y="2251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95920" y="5160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164360" y="50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164360" y="2251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3736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650000" y="50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50000" y="2251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69360" y="5160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8145360" y="50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45360" y="2251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118360" y="516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8640" y="5137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8099280" y="5137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39640" y="50688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38640" y="45543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8099280" y="4554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975480" y="4486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238640" y="39798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8099280" y="3979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39200" y="3913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38640" y="3398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8099280" y="3398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75480" y="3330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38640" y="2824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8099280" y="2824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39200" y="2757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38640" y="22510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099280" y="2251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975480" y="2184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238640" y="225108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02280" y="221760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44920" y="23274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687920" y="2639880"/>
            <a:ext cx="8100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30920" y="310356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75360" y="366084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18000" y="42084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61000" y="467208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04000" y="498492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56360" y="510228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99360" y="4984920"/>
            <a:ext cx="8064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42000" y="467208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85000" y="420840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28000" y="366084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70640" y="3103560"/>
            <a:ext cx="8100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13640" y="2639880"/>
            <a:ext cx="8100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856640" y="23274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02280" y="221760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44920" y="23274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87920" y="2639880"/>
            <a:ext cx="81000" cy="74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30920" y="310356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75360" y="366084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8000" y="42084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661000" y="467208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904000" y="498492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56360" y="510228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99360" y="4984920"/>
            <a:ext cx="8064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642000" y="467208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85000" y="420840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128000" y="366084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70640" y="3103560"/>
            <a:ext cx="8100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13640" y="2639880"/>
            <a:ext cx="81000" cy="74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856640" y="23274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50840" y="493560"/>
            <a:ext cx="72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ven though there is aliasing here if we do the inverse FFT of these samples we do recover the original time s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3520" y="16002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v1 =IFourierT(vf1,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h=plot(t, real(v1), 'ko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set(h, 'MarkerFaceColor', 'k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14960" y="2631960"/>
            <a:ext cx="390672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314960" y="263196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314960" y="26319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314960" y="263160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314960" y="5518080"/>
            <a:ext cx="390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31496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31496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87960" y="5541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480060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0060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719600" y="55418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286240" y="5474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86240" y="26319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59240" y="5541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77224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7224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91240" y="55418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626760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26760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40600" y="5541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75324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5324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672240" y="55418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724068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4068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213680" y="5541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726320" y="5474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726320" y="26319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45320" y="55418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8221680" y="5474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221680" y="2631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194680" y="5541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314960" y="55180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8175600" y="551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4760" y="5413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314960" y="510372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175600" y="5103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21200" y="5000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14960" y="46911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8175600" y="4691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21120" y="4586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14960" y="42768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175600" y="4276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21120" y="4173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14960" y="38638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8175600" y="3863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921120" y="37591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314960" y="34513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8175600" y="3451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21120" y="3346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14960" y="30369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8175600" y="3036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21120" y="2933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314960" y="26319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8175600" y="2631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21120" y="2529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14960" y="2631960"/>
            <a:ext cx="390672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27824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21240" y="40417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764240" y="3003480"/>
            <a:ext cx="8064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06880" y="4041720"/>
            <a:ext cx="8100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1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94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37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7996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32680" y="5070600"/>
            <a:ext cx="8064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75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18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6132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0396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4696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68996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932600" y="5070600"/>
            <a:ext cx="8100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7824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21240" y="40417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64240" y="3003480"/>
            <a:ext cx="80640" cy="763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006880" y="4041720"/>
            <a:ext cx="81000" cy="745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251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94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37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7996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32680" y="5070600"/>
            <a:ext cx="8064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475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18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96132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0396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4696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8996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32600" y="5070600"/>
            <a:ext cx="81000" cy="75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47600" y="133668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 Examples using the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38080" y="5638680"/>
            <a:ext cx="6324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y = pulse_ref(A,F,N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A*(1 -cos(2*pi*F*t./N)).*cos(2*pi*F*t).*(t &gt;= 0 &amp; t &lt;= N/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914400" y="2057400"/>
          <a:ext cx="731520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152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"/>
          <p:cNvSpPr/>
          <p:nvPr/>
        </p:nvSpPr>
        <p:spPr>
          <a:xfrm>
            <a:off x="1058400" y="3352680"/>
            <a:ext cx="720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… controls th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…  controls the dominant frequency in the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… controls the number of cycles (amount of "ring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ulse and hence th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920" y="5105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380880" y="457200"/>
            <a:ext cx="45720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t = s_space(0,5,5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dt = t(2)- 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t =  0.00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y=pulse_ref(1,5,3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plot(t,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yf1=FourierT(y,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f=s_space(0, 1/dt, 5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f(e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ns = 102.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&gt; plot(f, abs(yf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958400" y="117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spectrum for relatively wideband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3960" y="498780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 i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is in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8288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81080" y="38098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86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9360" y="4572000"/>
            <a:ext cx="24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 samp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99000" y="741240"/>
            <a:ext cx="2421000" cy="1849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99000" y="741240"/>
            <a:ext cx="2421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99000" y="741240"/>
            <a:ext cx="2421000" cy="18496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599000" y="741240"/>
            <a:ext cx="1440" cy="184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99000" y="2590920"/>
            <a:ext cx="242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599000" y="741240"/>
            <a:ext cx="1440" cy="184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59900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900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064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83876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3876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07852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7852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06016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2296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32296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56416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54580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808600" y="2563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808600" y="74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4836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04836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3180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628812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28812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534000" y="2563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34000" y="74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1600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773760" y="2563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73760" y="74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020000" y="256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20000" y="74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01640" y="26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99000" y="259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6991200" y="2590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2680" y="25239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99000" y="2359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991200" y="23590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99000" y="21258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991200" y="2125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42680" y="20588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99000" y="18939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991200" y="1893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99000" y="1666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6991200" y="1666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364640" y="159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99000" y="14335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6991200" y="143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99000" y="120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6991200" y="12016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64640" y="1133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599000" y="9684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6991200" y="968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599000" y="7412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991200" y="741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364640" y="674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99000" y="741240"/>
            <a:ext cx="2421000" cy="18496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99000" y="957240"/>
            <a:ext cx="657360" cy="1628640"/>
          </a:xfrm>
          <a:custGeom>
            <a:avLst/>
            <a:gdLst/>
            <a:ahLst/>
            <a:rect l="l" t="t" r="r" b="b"/>
            <a:pathLst>
              <a:path w="414" h="1026">
                <a:moveTo>
                  <a:pt x="0" y="447"/>
                </a:moveTo>
                <a:lnTo>
                  <a:pt x="0" y="443"/>
                </a:lnTo>
                <a:lnTo>
                  <a:pt x="3" y="440"/>
                </a:lnTo>
                <a:lnTo>
                  <a:pt x="10" y="436"/>
                </a:lnTo>
                <a:lnTo>
                  <a:pt x="14" y="443"/>
                </a:lnTo>
                <a:lnTo>
                  <a:pt x="17" y="460"/>
                </a:lnTo>
                <a:lnTo>
                  <a:pt x="17" y="484"/>
                </a:lnTo>
                <a:lnTo>
                  <a:pt x="21" y="518"/>
                </a:lnTo>
                <a:lnTo>
                  <a:pt x="24" y="552"/>
                </a:lnTo>
                <a:lnTo>
                  <a:pt x="28" y="583"/>
                </a:lnTo>
                <a:lnTo>
                  <a:pt x="31" y="607"/>
                </a:lnTo>
                <a:lnTo>
                  <a:pt x="35" y="610"/>
                </a:lnTo>
                <a:lnTo>
                  <a:pt x="38" y="590"/>
                </a:lnTo>
                <a:lnTo>
                  <a:pt x="38" y="545"/>
                </a:lnTo>
                <a:lnTo>
                  <a:pt x="42" y="474"/>
                </a:lnTo>
                <a:lnTo>
                  <a:pt x="45" y="382"/>
                </a:lnTo>
                <a:lnTo>
                  <a:pt x="49" y="276"/>
                </a:lnTo>
                <a:lnTo>
                  <a:pt x="52" y="174"/>
                </a:lnTo>
                <a:lnTo>
                  <a:pt x="56" y="85"/>
                </a:lnTo>
                <a:lnTo>
                  <a:pt x="56" y="24"/>
                </a:lnTo>
                <a:lnTo>
                  <a:pt x="59" y="0"/>
                </a:lnTo>
                <a:lnTo>
                  <a:pt x="63" y="24"/>
                </a:lnTo>
                <a:lnTo>
                  <a:pt x="66" y="92"/>
                </a:lnTo>
                <a:lnTo>
                  <a:pt x="70" y="208"/>
                </a:lnTo>
                <a:lnTo>
                  <a:pt x="73" y="355"/>
                </a:lnTo>
                <a:lnTo>
                  <a:pt x="77" y="522"/>
                </a:lnTo>
                <a:lnTo>
                  <a:pt x="77" y="689"/>
                </a:lnTo>
                <a:lnTo>
                  <a:pt x="80" y="835"/>
                </a:lnTo>
                <a:lnTo>
                  <a:pt x="84" y="951"/>
                </a:lnTo>
                <a:lnTo>
                  <a:pt x="87" y="1016"/>
                </a:lnTo>
                <a:lnTo>
                  <a:pt x="91" y="1026"/>
                </a:lnTo>
                <a:lnTo>
                  <a:pt x="94" y="975"/>
                </a:lnTo>
                <a:lnTo>
                  <a:pt x="98" y="876"/>
                </a:lnTo>
                <a:lnTo>
                  <a:pt x="98" y="736"/>
                </a:lnTo>
                <a:lnTo>
                  <a:pt x="101" y="576"/>
                </a:lnTo>
                <a:lnTo>
                  <a:pt x="105" y="406"/>
                </a:lnTo>
                <a:lnTo>
                  <a:pt x="108" y="252"/>
                </a:lnTo>
                <a:lnTo>
                  <a:pt x="112" y="126"/>
                </a:lnTo>
                <a:lnTo>
                  <a:pt x="116" y="41"/>
                </a:lnTo>
                <a:lnTo>
                  <a:pt x="116" y="4"/>
                </a:lnTo>
                <a:lnTo>
                  <a:pt x="119" y="11"/>
                </a:lnTo>
                <a:lnTo>
                  <a:pt x="123" y="62"/>
                </a:lnTo>
                <a:lnTo>
                  <a:pt x="126" y="143"/>
                </a:lnTo>
                <a:lnTo>
                  <a:pt x="130" y="242"/>
                </a:lnTo>
                <a:lnTo>
                  <a:pt x="133" y="348"/>
                </a:lnTo>
                <a:lnTo>
                  <a:pt x="137" y="447"/>
                </a:lnTo>
                <a:lnTo>
                  <a:pt x="137" y="525"/>
                </a:lnTo>
                <a:lnTo>
                  <a:pt x="140" y="580"/>
                </a:lnTo>
                <a:lnTo>
                  <a:pt x="144" y="607"/>
                </a:lnTo>
                <a:lnTo>
                  <a:pt x="147" y="610"/>
                </a:lnTo>
                <a:lnTo>
                  <a:pt x="151" y="593"/>
                </a:lnTo>
                <a:lnTo>
                  <a:pt x="154" y="562"/>
                </a:lnTo>
                <a:lnTo>
                  <a:pt x="158" y="528"/>
                </a:lnTo>
                <a:lnTo>
                  <a:pt x="158" y="494"/>
                </a:lnTo>
                <a:lnTo>
                  <a:pt x="161" y="467"/>
                </a:lnTo>
                <a:lnTo>
                  <a:pt x="165" y="447"/>
                </a:lnTo>
                <a:lnTo>
                  <a:pt x="168" y="440"/>
                </a:lnTo>
                <a:lnTo>
                  <a:pt x="172" y="436"/>
                </a:lnTo>
                <a:lnTo>
                  <a:pt x="179" y="443"/>
                </a:lnTo>
                <a:lnTo>
                  <a:pt x="175" y="443"/>
                </a:lnTo>
                <a:lnTo>
                  <a:pt x="179" y="443"/>
                </a:lnTo>
                <a:lnTo>
                  <a:pt x="182" y="447"/>
                </a:lnTo>
                <a:lnTo>
                  <a:pt x="186" y="447"/>
                </a:lnTo>
                <a:lnTo>
                  <a:pt x="189" y="447"/>
                </a:lnTo>
                <a:lnTo>
                  <a:pt x="193" y="447"/>
                </a:lnTo>
                <a:lnTo>
                  <a:pt x="196" y="447"/>
                </a:lnTo>
                <a:lnTo>
                  <a:pt x="200" y="447"/>
                </a:lnTo>
                <a:lnTo>
                  <a:pt x="203" y="447"/>
                </a:lnTo>
                <a:lnTo>
                  <a:pt x="207" y="447"/>
                </a:lnTo>
                <a:lnTo>
                  <a:pt x="210" y="447"/>
                </a:lnTo>
                <a:lnTo>
                  <a:pt x="214" y="447"/>
                </a:lnTo>
                <a:lnTo>
                  <a:pt x="217" y="447"/>
                </a:lnTo>
                <a:lnTo>
                  <a:pt x="221" y="447"/>
                </a:lnTo>
                <a:lnTo>
                  <a:pt x="224" y="447"/>
                </a:lnTo>
                <a:lnTo>
                  <a:pt x="228" y="447"/>
                </a:lnTo>
                <a:lnTo>
                  <a:pt x="231" y="447"/>
                </a:lnTo>
                <a:lnTo>
                  <a:pt x="235" y="447"/>
                </a:lnTo>
                <a:lnTo>
                  <a:pt x="239" y="447"/>
                </a:lnTo>
                <a:lnTo>
                  <a:pt x="242" y="447"/>
                </a:lnTo>
                <a:lnTo>
                  <a:pt x="246" y="447"/>
                </a:lnTo>
                <a:lnTo>
                  <a:pt x="249" y="447"/>
                </a:lnTo>
                <a:lnTo>
                  <a:pt x="253" y="447"/>
                </a:lnTo>
                <a:lnTo>
                  <a:pt x="256" y="447"/>
                </a:lnTo>
                <a:lnTo>
                  <a:pt x="260" y="447"/>
                </a:lnTo>
                <a:lnTo>
                  <a:pt x="263" y="447"/>
                </a:lnTo>
                <a:lnTo>
                  <a:pt x="267" y="447"/>
                </a:lnTo>
                <a:lnTo>
                  <a:pt x="270" y="447"/>
                </a:lnTo>
                <a:lnTo>
                  <a:pt x="274" y="447"/>
                </a:lnTo>
                <a:lnTo>
                  <a:pt x="277" y="447"/>
                </a:lnTo>
                <a:lnTo>
                  <a:pt x="281" y="447"/>
                </a:lnTo>
                <a:lnTo>
                  <a:pt x="284" y="447"/>
                </a:lnTo>
                <a:lnTo>
                  <a:pt x="288" y="447"/>
                </a:lnTo>
                <a:lnTo>
                  <a:pt x="291" y="447"/>
                </a:lnTo>
                <a:lnTo>
                  <a:pt x="295" y="447"/>
                </a:lnTo>
                <a:lnTo>
                  <a:pt x="298" y="447"/>
                </a:lnTo>
                <a:lnTo>
                  <a:pt x="302" y="447"/>
                </a:lnTo>
                <a:lnTo>
                  <a:pt x="305" y="447"/>
                </a:lnTo>
                <a:lnTo>
                  <a:pt x="309" y="447"/>
                </a:lnTo>
                <a:lnTo>
                  <a:pt x="312" y="447"/>
                </a:lnTo>
                <a:lnTo>
                  <a:pt x="316" y="447"/>
                </a:lnTo>
                <a:lnTo>
                  <a:pt x="319" y="447"/>
                </a:lnTo>
                <a:lnTo>
                  <a:pt x="323" y="447"/>
                </a:lnTo>
                <a:lnTo>
                  <a:pt x="326" y="447"/>
                </a:lnTo>
                <a:lnTo>
                  <a:pt x="330" y="447"/>
                </a:lnTo>
                <a:lnTo>
                  <a:pt x="333" y="447"/>
                </a:lnTo>
                <a:lnTo>
                  <a:pt x="337" y="447"/>
                </a:lnTo>
                <a:lnTo>
                  <a:pt x="340" y="447"/>
                </a:lnTo>
                <a:lnTo>
                  <a:pt x="344" y="447"/>
                </a:lnTo>
                <a:lnTo>
                  <a:pt x="347" y="447"/>
                </a:lnTo>
                <a:lnTo>
                  <a:pt x="351" y="447"/>
                </a:lnTo>
                <a:lnTo>
                  <a:pt x="354" y="447"/>
                </a:lnTo>
                <a:lnTo>
                  <a:pt x="358" y="447"/>
                </a:lnTo>
                <a:lnTo>
                  <a:pt x="362" y="447"/>
                </a:lnTo>
                <a:lnTo>
                  <a:pt x="365" y="447"/>
                </a:lnTo>
                <a:lnTo>
                  <a:pt x="369" y="447"/>
                </a:lnTo>
                <a:lnTo>
                  <a:pt x="372" y="447"/>
                </a:lnTo>
                <a:lnTo>
                  <a:pt x="376" y="447"/>
                </a:lnTo>
                <a:lnTo>
                  <a:pt x="379" y="447"/>
                </a:lnTo>
                <a:lnTo>
                  <a:pt x="383" y="447"/>
                </a:lnTo>
                <a:lnTo>
                  <a:pt x="386" y="447"/>
                </a:lnTo>
                <a:lnTo>
                  <a:pt x="390" y="447"/>
                </a:lnTo>
                <a:lnTo>
                  <a:pt x="393" y="447"/>
                </a:lnTo>
                <a:lnTo>
                  <a:pt x="397" y="447"/>
                </a:lnTo>
                <a:lnTo>
                  <a:pt x="400" y="447"/>
                </a:lnTo>
                <a:lnTo>
                  <a:pt x="404" y="447"/>
                </a:lnTo>
                <a:lnTo>
                  <a:pt x="407" y="447"/>
                </a:lnTo>
                <a:lnTo>
                  <a:pt x="411" y="447"/>
                </a:lnTo>
                <a:lnTo>
                  <a:pt x="414" y="44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256360" y="1666800"/>
            <a:ext cx="709560" cy="1800"/>
          </a:xfrm>
          <a:custGeom>
            <a:avLst/>
            <a:gdLst/>
            <a:ahLst/>
            <a:rect l="l" t="t" r="r" b="b"/>
            <a:pathLst>
              <a:path w="447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7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9" y="0"/>
                </a:lnTo>
                <a:lnTo>
                  <a:pt x="102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6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48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5" y="0"/>
                </a:lnTo>
                <a:lnTo>
                  <a:pt x="169" y="0"/>
                </a:lnTo>
                <a:lnTo>
                  <a:pt x="172" y="0"/>
                </a:lnTo>
                <a:lnTo>
                  <a:pt x="176" y="0"/>
                </a:lnTo>
                <a:lnTo>
                  <a:pt x="179" y="0"/>
                </a:lnTo>
                <a:lnTo>
                  <a:pt x="183" y="0"/>
                </a:lnTo>
                <a:lnTo>
                  <a:pt x="186" y="0"/>
                </a:lnTo>
                <a:lnTo>
                  <a:pt x="190" y="0"/>
                </a:lnTo>
                <a:lnTo>
                  <a:pt x="194" y="0"/>
                </a:lnTo>
                <a:lnTo>
                  <a:pt x="197" y="0"/>
                </a:lnTo>
                <a:lnTo>
                  <a:pt x="201" y="0"/>
                </a:lnTo>
                <a:lnTo>
                  <a:pt x="204" y="0"/>
                </a:lnTo>
                <a:lnTo>
                  <a:pt x="208" y="0"/>
                </a:lnTo>
                <a:lnTo>
                  <a:pt x="211" y="0"/>
                </a:lnTo>
                <a:lnTo>
                  <a:pt x="215" y="0"/>
                </a:lnTo>
                <a:lnTo>
                  <a:pt x="218" y="0"/>
                </a:lnTo>
                <a:lnTo>
                  <a:pt x="222" y="0"/>
                </a:lnTo>
                <a:lnTo>
                  <a:pt x="225" y="0"/>
                </a:lnTo>
                <a:lnTo>
                  <a:pt x="229" y="0"/>
                </a:lnTo>
                <a:lnTo>
                  <a:pt x="232" y="0"/>
                </a:lnTo>
                <a:lnTo>
                  <a:pt x="236" y="0"/>
                </a:lnTo>
                <a:lnTo>
                  <a:pt x="239" y="0"/>
                </a:lnTo>
                <a:lnTo>
                  <a:pt x="243" y="0"/>
                </a:lnTo>
                <a:lnTo>
                  <a:pt x="246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0" y="0"/>
                </a:lnTo>
                <a:lnTo>
                  <a:pt x="264" y="0"/>
                </a:lnTo>
                <a:lnTo>
                  <a:pt x="267" y="0"/>
                </a:lnTo>
                <a:lnTo>
                  <a:pt x="271" y="0"/>
                </a:lnTo>
                <a:lnTo>
                  <a:pt x="274" y="0"/>
                </a:lnTo>
                <a:lnTo>
                  <a:pt x="278" y="0"/>
                </a:lnTo>
                <a:lnTo>
                  <a:pt x="281" y="0"/>
                </a:lnTo>
                <a:lnTo>
                  <a:pt x="285" y="0"/>
                </a:lnTo>
                <a:lnTo>
                  <a:pt x="288" y="0"/>
                </a:lnTo>
                <a:lnTo>
                  <a:pt x="292" y="0"/>
                </a:lnTo>
                <a:lnTo>
                  <a:pt x="295" y="0"/>
                </a:lnTo>
                <a:lnTo>
                  <a:pt x="299" y="0"/>
                </a:lnTo>
                <a:lnTo>
                  <a:pt x="302" y="0"/>
                </a:lnTo>
                <a:lnTo>
                  <a:pt x="306" y="0"/>
                </a:lnTo>
                <a:lnTo>
                  <a:pt x="309" y="0"/>
                </a:lnTo>
                <a:lnTo>
                  <a:pt x="313" y="0"/>
                </a:lnTo>
                <a:lnTo>
                  <a:pt x="317" y="0"/>
                </a:lnTo>
                <a:lnTo>
                  <a:pt x="320" y="0"/>
                </a:lnTo>
                <a:lnTo>
                  <a:pt x="324" y="0"/>
                </a:lnTo>
                <a:lnTo>
                  <a:pt x="327" y="0"/>
                </a:lnTo>
                <a:lnTo>
                  <a:pt x="331" y="0"/>
                </a:lnTo>
                <a:lnTo>
                  <a:pt x="334" y="0"/>
                </a:lnTo>
                <a:lnTo>
                  <a:pt x="338" y="0"/>
                </a:lnTo>
                <a:lnTo>
                  <a:pt x="341" y="0"/>
                </a:lnTo>
                <a:lnTo>
                  <a:pt x="345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9" y="0"/>
                </a:lnTo>
                <a:lnTo>
                  <a:pt x="362" y="0"/>
                </a:lnTo>
                <a:lnTo>
                  <a:pt x="366" y="0"/>
                </a:lnTo>
                <a:lnTo>
                  <a:pt x="369" y="0"/>
                </a:lnTo>
                <a:lnTo>
                  <a:pt x="373" y="0"/>
                </a:lnTo>
                <a:lnTo>
                  <a:pt x="376" y="0"/>
                </a:lnTo>
                <a:lnTo>
                  <a:pt x="380" y="0"/>
                </a:lnTo>
                <a:lnTo>
                  <a:pt x="383" y="0"/>
                </a:lnTo>
                <a:lnTo>
                  <a:pt x="387" y="0"/>
                </a:lnTo>
                <a:lnTo>
                  <a:pt x="390" y="0"/>
                </a:lnTo>
                <a:lnTo>
                  <a:pt x="394" y="0"/>
                </a:lnTo>
                <a:lnTo>
                  <a:pt x="397" y="0"/>
                </a:lnTo>
                <a:lnTo>
                  <a:pt x="401" y="0"/>
                </a:lnTo>
                <a:lnTo>
                  <a:pt x="404" y="0"/>
                </a:lnTo>
                <a:lnTo>
                  <a:pt x="408" y="0"/>
                </a:lnTo>
                <a:lnTo>
                  <a:pt x="411" y="0"/>
                </a:lnTo>
                <a:lnTo>
                  <a:pt x="415" y="0"/>
                </a:lnTo>
                <a:lnTo>
                  <a:pt x="418" y="0"/>
                </a:lnTo>
                <a:lnTo>
                  <a:pt x="422" y="0"/>
                </a:lnTo>
                <a:lnTo>
                  <a:pt x="425" y="0"/>
                </a:lnTo>
                <a:lnTo>
                  <a:pt x="429" y="0"/>
                </a:lnTo>
                <a:lnTo>
                  <a:pt x="432" y="0"/>
                </a:lnTo>
                <a:lnTo>
                  <a:pt x="436" y="0"/>
                </a:lnTo>
                <a:lnTo>
                  <a:pt x="440" y="0"/>
                </a:lnTo>
                <a:lnTo>
                  <a:pt x="443" y="0"/>
                </a:lnTo>
                <a:lnTo>
                  <a:pt x="44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965920" y="1666800"/>
            <a:ext cx="707760" cy="1800"/>
          </a:xfrm>
          <a:custGeom>
            <a:avLst/>
            <a:gdLst/>
            <a:ahLst/>
            <a:rect l="l" t="t" r="r" b="b"/>
            <a:pathLst>
              <a:path w="446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0"/>
                </a:lnTo>
                <a:lnTo>
                  <a:pt x="87" y="0"/>
                </a:lnTo>
                <a:lnTo>
                  <a:pt x="91" y="0"/>
                </a:lnTo>
                <a:lnTo>
                  <a:pt x="94" y="0"/>
                </a:lnTo>
                <a:lnTo>
                  <a:pt x="98" y="0"/>
                </a:lnTo>
                <a:lnTo>
                  <a:pt x="101" y="0"/>
                </a:lnTo>
                <a:lnTo>
                  <a:pt x="105" y="0"/>
                </a:lnTo>
                <a:lnTo>
                  <a:pt x="108" y="0"/>
                </a:lnTo>
                <a:lnTo>
                  <a:pt x="112" y="0"/>
                </a:lnTo>
                <a:lnTo>
                  <a:pt x="116" y="0"/>
                </a:lnTo>
                <a:lnTo>
                  <a:pt x="119" y="0"/>
                </a:lnTo>
                <a:lnTo>
                  <a:pt x="123" y="0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lnTo>
                  <a:pt x="137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4" y="0"/>
                </a:lnTo>
                <a:lnTo>
                  <a:pt x="158" y="0"/>
                </a:lnTo>
                <a:lnTo>
                  <a:pt x="161" y="0"/>
                </a:lnTo>
                <a:lnTo>
                  <a:pt x="165" y="0"/>
                </a:lnTo>
                <a:lnTo>
                  <a:pt x="168" y="0"/>
                </a:lnTo>
                <a:lnTo>
                  <a:pt x="172" y="0"/>
                </a:lnTo>
                <a:lnTo>
                  <a:pt x="175" y="0"/>
                </a:lnTo>
                <a:lnTo>
                  <a:pt x="179" y="0"/>
                </a:lnTo>
                <a:lnTo>
                  <a:pt x="182" y="0"/>
                </a:lnTo>
                <a:lnTo>
                  <a:pt x="186" y="0"/>
                </a:lnTo>
                <a:lnTo>
                  <a:pt x="189" y="0"/>
                </a:lnTo>
                <a:lnTo>
                  <a:pt x="193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7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4" y="0"/>
                </a:lnTo>
                <a:lnTo>
                  <a:pt x="228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2" y="0"/>
                </a:lnTo>
                <a:lnTo>
                  <a:pt x="246" y="0"/>
                </a:lnTo>
                <a:lnTo>
                  <a:pt x="249" y="0"/>
                </a:lnTo>
                <a:lnTo>
                  <a:pt x="253" y="0"/>
                </a:lnTo>
                <a:lnTo>
                  <a:pt x="256" y="0"/>
                </a:lnTo>
                <a:lnTo>
                  <a:pt x="260" y="0"/>
                </a:lnTo>
                <a:lnTo>
                  <a:pt x="263" y="0"/>
                </a:lnTo>
                <a:lnTo>
                  <a:pt x="267" y="0"/>
                </a:lnTo>
                <a:lnTo>
                  <a:pt x="270" y="0"/>
                </a:lnTo>
                <a:lnTo>
                  <a:pt x="274" y="0"/>
                </a:lnTo>
                <a:lnTo>
                  <a:pt x="277" y="0"/>
                </a:lnTo>
                <a:lnTo>
                  <a:pt x="281" y="0"/>
                </a:lnTo>
                <a:lnTo>
                  <a:pt x="284" y="0"/>
                </a:lnTo>
                <a:lnTo>
                  <a:pt x="288" y="0"/>
                </a:lnTo>
                <a:lnTo>
                  <a:pt x="291" y="0"/>
                </a:lnTo>
                <a:lnTo>
                  <a:pt x="295" y="0"/>
                </a:lnTo>
                <a:lnTo>
                  <a:pt x="298" y="0"/>
                </a:lnTo>
                <a:lnTo>
                  <a:pt x="302" y="0"/>
                </a:lnTo>
                <a:lnTo>
                  <a:pt x="305" y="0"/>
                </a:lnTo>
                <a:lnTo>
                  <a:pt x="309" y="0"/>
                </a:lnTo>
                <a:lnTo>
                  <a:pt x="312" y="0"/>
                </a:lnTo>
                <a:lnTo>
                  <a:pt x="316" y="0"/>
                </a:lnTo>
                <a:lnTo>
                  <a:pt x="319" y="0"/>
                </a:lnTo>
                <a:lnTo>
                  <a:pt x="323" y="0"/>
                </a:lnTo>
                <a:lnTo>
                  <a:pt x="326" y="0"/>
                </a:lnTo>
                <a:lnTo>
                  <a:pt x="330" y="0"/>
                </a:lnTo>
                <a:lnTo>
                  <a:pt x="333" y="0"/>
                </a:lnTo>
                <a:lnTo>
                  <a:pt x="337" y="0"/>
                </a:lnTo>
                <a:lnTo>
                  <a:pt x="340" y="0"/>
                </a:lnTo>
                <a:lnTo>
                  <a:pt x="344" y="0"/>
                </a:lnTo>
                <a:lnTo>
                  <a:pt x="347" y="0"/>
                </a:lnTo>
                <a:lnTo>
                  <a:pt x="351" y="0"/>
                </a:lnTo>
                <a:lnTo>
                  <a:pt x="354" y="0"/>
                </a:lnTo>
                <a:lnTo>
                  <a:pt x="358" y="0"/>
                </a:lnTo>
                <a:lnTo>
                  <a:pt x="362" y="0"/>
                </a:lnTo>
                <a:lnTo>
                  <a:pt x="365" y="0"/>
                </a:lnTo>
                <a:lnTo>
                  <a:pt x="369" y="0"/>
                </a:lnTo>
                <a:lnTo>
                  <a:pt x="372" y="0"/>
                </a:lnTo>
                <a:lnTo>
                  <a:pt x="376" y="0"/>
                </a:lnTo>
                <a:lnTo>
                  <a:pt x="379" y="0"/>
                </a:lnTo>
                <a:lnTo>
                  <a:pt x="383" y="0"/>
                </a:lnTo>
                <a:lnTo>
                  <a:pt x="386" y="0"/>
                </a:lnTo>
                <a:lnTo>
                  <a:pt x="390" y="0"/>
                </a:lnTo>
                <a:lnTo>
                  <a:pt x="393" y="0"/>
                </a:lnTo>
                <a:lnTo>
                  <a:pt x="397" y="0"/>
                </a:lnTo>
                <a:lnTo>
                  <a:pt x="400" y="0"/>
                </a:lnTo>
                <a:lnTo>
                  <a:pt x="404" y="0"/>
                </a:lnTo>
                <a:lnTo>
                  <a:pt x="407" y="0"/>
                </a:lnTo>
                <a:lnTo>
                  <a:pt x="411" y="0"/>
                </a:lnTo>
                <a:lnTo>
                  <a:pt x="414" y="0"/>
                </a:lnTo>
                <a:lnTo>
                  <a:pt x="418" y="0"/>
                </a:lnTo>
                <a:lnTo>
                  <a:pt x="421" y="0"/>
                </a:lnTo>
                <a:lnTo>
                  <a:pt x="425" y="0"/>
                </a:lnTo>
                <a:lnTo>
                  <a:pt x="428" y="0"/>
                </a:lnTo>
                <a:lnTo>
                  <a:pt x="432" y="0"/>
                </a:lnTo>
                <a:lnTo>
                  <a:pt x="435" y="0"/>
                </a:lnTo>
                <a:lnTo>
                  <a:pt x="439" y="0"/>
                </a:lnTo>
                <a:lnTo>
                  <a:pt x="442" y="0"/>
                </a:lnTo>
                <a:lnTo>
                  <a:pt x="44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673680" y="1666800"/>
            <a:ext cx="346320" cy="1800"/>
          </a:xfrm>
          <a:custGeom>
            <a:avLst/>
            <a:gdLst/>
            <a:ahLst/>
            <a:rect l="l" t="t" r="r" b="b"/>
            <a:pathLst>
              <a:path w="218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7" y="0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91" y="0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5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19" y="0"/>
                </a:lnTo>
                <a:lnTo>
                  <a:pt x="123" y="0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lnTo>
                  <a:pt x="137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5" y="0"/>
                </a:lnTo>
                <a:lnTo>
                  <a:pt x="169" y="0"/>
                </a:lnTo>
                <a:lnTo>
                  <a:pt x="172" y="0"/>
                </a:lnTo>
                <a:lnTo>
                  <a:pt x="176" y="0"/>
                </a:lnTo>
                <a:lnTo>
                  <a:pt x="179" y="0"/>
                </a:lnTo>
                <a:lnTo>
                  <a:pt x="183" y="0"/>
                </a:lnTo>
                <a:lnTo>
                  <a:pt x="186" y="0"/>
                </a:lnTo>
                <a:lnTo>
                  <a:pt x="190" y="0"/>
                </a:lnTo>
                <a:lnTo>
                  <a:pt x="193" y="0"/>
                </a:lnTo>
                <a:lnTo>
                  <a:pt x="197" y="0"/>
                </a:lnTo>
                <a:lnTo>
                  <a:pt x="200" y="0"/>
                </a:lnTo>
                <a:lnTo>
                  <a:pt x="204" y="0"/>
                </a:lnTo>
                <a:lnTo>
                  <a:pt x="207" y="0"/>
                </a:lnTo>
                <a:lnTo>
                  <a:pt x="211" y="0"/>
                </a:lnTo>
                <a:lnTo>
                  <a:pt x="214" y="0"/>
                </a:lnTo>
                <a:lnTo>
                  <a:pt x="21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59120" y="3191040"/>
            <a:ext cx="4230720" cy="32320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59120" y="3191040"/>
            <a:ext cx="4230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759120" y="3191040"/>
            <a:ext cx="4230720" cy="32320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759120" y="3191040"/>
            <a:ext cx="180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759120" y="6423120"/>
            <a:ext cx="4230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759120" y="3191040"/>
            <a:ext cx="180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3759120" y="637488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759120" y="31910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729960" y="6451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460760" y="637488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60760" y="31910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91280" y="645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162400" y="637488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62400" y="31910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92920" y="645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873760" y="637488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873760" y="31910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03920" y="645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6575400" y="637488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575400" y="31910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505560" y="645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7277040" y="637488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77040" y="31910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178040" y="6451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7989840" y="637488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989840" y="31910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89400" y="6451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9120" y="6423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940160" y="64231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52560" y="6348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759120" y="59612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7940160" y="59612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88680" y="58723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54975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7940160" y="54975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457800" y="54086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759120" y="50338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940160" y="50338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88680" y="49467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759120" y="45720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940160" y="45720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57800" y="44830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59120" y="41083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940160" y="41083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388680" y="40194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759120" y="36450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940160" y="36450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457800" y="3557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59120" y="3191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7940160" y="31910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88680" y="31035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759120" y="3191040"/>
            <a:ext cx="180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59120" y="3645000"/>
            <a:ext cx="1111320" cy="2768400"/>
          </a:xfrm>
          <a:custGeom>
            <a:avLst/>
            <a:gdLst/>
            <a:ahLst/>
            <a:rect l="l" t="t" r="r" b="b"/>
            <a:pathLst>
              <a:path w="700" h="1744">
                <a:moveTo>
                  <a:pt x="0" y="1744"/>
                </a:moveTo>
                <a:lnTo>
                  <a:pt x="6" y="1738"/>
                </a:lnTo>
                <a:lnTo>
                  <a:pt x="12" y="1732"/>
                </a:lnTo>
                <a:lnTo>
                  <a:pt x="12" y="1720"/>
                </a:lnTo>
                <a:lnTo>
                  <a:pt x="19" y="1714"/>
                </a:lnTo>
                <a:lnTo>
                  <a:pt x="25" y="1709"/>
                </a:lnTo>
                <a:lnTo>
                  <a:pt x="31" y="1720"/>
                </a:lnTo>
                <a:lnTo>
                  <a:pt x="31" y="1738"/>
                </a:lnTo>
                <a:lnTo>
                  <a:pt x="37" y="1720"/>
                </a:lnTo>
                <a:lnTo>
                  <a:pt x="43" y="1673"/>
                </a:lnTo>
                <a:lnTo>
                  <a:pt x="43" y="1601"/>
                </a:lnTo>
                <a:lnTo>
                  <a:pt x="49" y="1512"/>
                </a:lnTo>
                <a:lnTo>
                  <a:pt x="55" y="1405"/>
                </a:lnTo>
                <a:lnTo>
                  <a:pt x="62" y="1280"/>
                </a:lnTo>
                <a:lnTo>
                  <a:pt x="62" y="1137"/>
                </a:lnTo>
                <a:lnTo>
                  <a:pt x="68" y="982"/>
                </a:lnTo>
                <a:lnTo>
                  <a:pt x="74" y="828"/>
                </a:lnTo>
                <a:lnTo>
                  <a:pt x="80" y="667"/>
                </a:lnTo>
                <a:lnTo>
                  <a:pt x="80" y="518"/>
                </a:lnTo>
                <a:lnTo>
                  <a:pt x="86" y="375"/>
                </a:lnTo>
                <a:lnTo>
                  <a:pt x="92" y="250"/>
                </a:lnTo>
                <a:lnTo>
                  <a:pt x="92" y="143"/>
                </a:lnTo>
                <a:lnTo>
                  <a:pt x="98" y="66"/>
                </a:lnTo>
                <a:lnTo>
                  <a:pt x="105" y="18"/>
                </a:lnTo>
                <a:lnTo>
                  <a:pt x="111" y="0"/>
                </a:lnTo>
                <a:lnTo>
                  <a:pt x="111" y="18"/>
                </a:lnTo>
                <a:lnTo>
                  <a:pt x="117" y="66"/>
                </a:lnTo>
                <a:lnTo>
                  <a:pt x="123" y="143"/>
                </a:lnTo>
                <a:lnTo>
                  <a:pt x="123" y="244"/>
                </a:lnTo>
                <a:lnTo>
                  <a:pt x="129" y="363"/>
                </a:lnTo>
                <a:lnTo>
                  <a:pt x="135" y="506"/>
                </a:lnTo>
                <a:lnTo>
                  <a:pt x="141" y="655"/>
                </a:lnTo>
                <a:lnTo>
                  <a:pt x="141" y="810"/>
                </a:lnTo>
                <a:lnTo>
                  <a:pt x="148" y="970"/>
                </a:lnTo>
                <a:lnTo>
                  <a:pt x="154" y="1119"/>
                </a:lnTo>
                <a:lnTo>
                  <a:pt x="160" y="1256"/>
                </a:lnTo>
                <a:lnTo>
                  <a:pt x="160" y="1387"/>
                </a:lnTo>
                <a:lnTo>
                  <a:pt x="166" y="1494"/>
                </a:lnTo>
                <a:lnTo>
                  <a:pt x="172" y="1589"/>
                </a:lnTo>
                <a:lnTo>
                  <a:pt x="172" y="1661"/>
                </a:lnTo>
                <a:lnTo>
                  <a:pt x="178" y="1714"/>
                </a:lnTo>
                <a:lnTo>
                  <a:pt x="184" y="1738"/>
                </a:lnTo>
                <a:lnTo>
                  <a:pt x="190" y="1714"/>
                </a:lnTo>
                <a:lnTo>
                  <a:pt x="190" y="1703"/>
                </a:lnTo>
                <a:lnTo>
                  <a:pt x="197" y="1703"/>
                </a:lnTo>
                <a:lnTo>
                  <a:pt x="203" y="1703"/>
                </a:lnTo>
                <a:lnTo>
                  <a:pt x="203" y="1714"/>
                </a:lnTo>
                <a:lnTo>
                  <a:pt x="209" y="1726"/>
                </a:lnTo>
                <a:lnTo>
                  <a:pt x="215" y="1738"/>
                </a:lnTo>
                <a:lnTo>
                  <a:pt x="221" y="1738"/>
                </a:lnTo>
                <a:lnTo>
                  <a:pt x="227" y="1732"/>
                </a:lnTo>
                <a:lnTo>
                  <a:pt x="233" y="1732"/>
                </a:lnTo>
                <a:lnTo>
                  <a:pt x="240" y="1732"/>
                </a:lnTo>
                <a:lnTo>
                  <a:pt x="246" y="1738"/>
                </a:lnTo>
                <a:lnTo>
                  <a:pt x="252" y="1744"/>
                </a:lnTo>
                <a:lnTo>
                  <a:pt x="258" y="1744"/>
                </a:lnTo>
                <a:lnTo>
                  <a:pt x="264" y="1744"/>
                </a:lnTo>
                <a:lnTo>
                  <a:pt x="270" y="1738"/>
                </a:lnTo>
                <a:lnTo>
                  <a:pt x="276" y="1738"/>
                </a:lnTo>
                <a:lnTo>
                  <a:pt x="283" y="1744"/>
                </a:lnTo>
                <a:lnTo>
                  <a:pt x="289" y="1744"/>
                </a:lnTo>
                <a:lnTo>
                  <a:pt x="295" y="1744"/>
                </a:lnTo>
                <a:lnTo>
                  <a:pt x="301" y="1744"/>
                </a:lnTo>
                <a:lnTo>
                  <a:pt x="307" y="1744"/>
                </a:lnTo>
                <a:lnTo>
                  <a:pt x="313" y="1744"/>
                </a:lnTo>
                <a:lnTo>
                  <a:pt x="319" y="1744"/>
                </a:lnTo>
                <a:lnTo>
                  <a:pt x="326" y="1744"/>
                </a:lnTo>
                <a:lnTo>
                  <a:pt x="332" y="1744"/>
                </a:lnTo>
                <a:lnTo>
                  <a:pt x="338" y="1744"/>
                </a:lnTo>
                <a:lnTo>
                  <a:pt x="344" y="1744"/>
                </a:lnTo>
                <a:lnTo>
                  <a:pt x="350" y="1744"/>
                </a:lnTo>
                <a:lnTo>
                  <a:pt x="356" y="1744"/>
                </a:lnTo>
                <a:lnTo>
                  <a:pt x="362" y="1744"/>
                </a:lnTo>
                <a:lnTo>
                  <a:pt x="369" y="1744"/>
                </a:lnTo>
                <a:lnTo>
                  <a:pt x="375" y="1744"/>
                </a:lnTo>
                <a:lnTo>
                  <a:pt x="381" y="1744"/>
                </a:lnTo>
                <a:lnTo>
                  <a:pt x="387" y="1744"/>
                </a:lnTo>
                <a:lnTo>
                  <a:pt x="393" y="1744"/>
                </a:lnTo>
                <a:lnTo>
                  <a:pt x="399" y="1744"/>
                </a:lnTo>
                <a:lnTo>
                  <a:pt x="405" y="1744"/>
                </a:lnTo>
                <a:lnTo>
                  <a:pt x="412" y="1744"/>
                </a:lnTo>
                <a:lnTo>
                  <a:pt x="418" y="1744"/>
                </a:lnTo>
                <a:lnTo>
                  <a:pt x="424" y="1744"/>
                </a:lnTo>
                <a:lnTo>
                  <a:pt x="430" y="1744"/>
                </a:lnTo>
                <a:lnTo>
                  <a:pt x="436" y="1744"/>
                </a:lnTo>
                <a:lnTo>
                  <a:pt x="442" y="1744"/>
                </a:lnTo>
                <a:lnTo>
                  <a:pt x="448" y="1744"/>
                </a:lnTo>
                <a:lnTo>
                  <a:pt x="454" y="1744"/>
                </a:lnTo>
                <a:lnTo>
                  <a:pt x="461" y="1744"/>
                </a:lnTo>
                <a:lnTo>
                  <a:pt x="467" y="1744"/>
                </a:lnTo>
                <a:lnTo>
                  <a:pt x="473" y="1744"/>
                </a:lnTo>
                <a:lnTo>
                  <a:pt x="479" y="1744"/>
                </a:lnTo>
                <a:lnTo>
                  <a:pt x="485" y="1744"/>
                </a:lnTo>
                <a:lnTo>
                  <a:pt x="491" y="1744"/>
                </a:lnTo>
                <a:lnTo>
                  <a:pt x="497" y="1744"/>
                </a:lnTo>
                <a:lnTo>
                  <a:pt x="504" y="1744"/>
                </a:lnTo>
                <a:lnTo>
                  <a:pt x="510" y="1744"/>
                </a:lnTo>
                <a:lnTo>
                  <a:pt x="516" y="1744"/>
                </a:lnTo>
                <a:lnTo>
                  <a:pt x="522" y="1744"/>
                </a:lnTo>
                <a:lnTo>
                  <a:pt x="528" y="1744"/>
                </a:lnTo>
                <a:lnTo>
                  <a:pt x="534" y="1744"/>
                </a:lnTo>
                <a:lnTo>
                  <a:pt x="540" y="1744"/>
                </a:lnTo>
                <a:lnTo>
                  <a:pt x="547" y="1744"/>
                </a:lnTo>
                <a:lnTo>
                  <a:pt x="553" y="1744"/>
                </a:lnTo>
                <a:lnTo>
                  <a:pt x="559" y="1744"/>
                </a:lnTo>
                <a:lnTo>
                  <a:pt x="565" y="1744"/>
                </a:lnTo>
                <a:lnTo>
                  <a:pt x="571" y="1744"/>
                </a:lnTo>
                <a:lnTo>
                  <a:pt x="577" y="1744"/>
                </a:lnTo>
                <a:lnTo>
                  <a:pt x="583" y="1744"/>
                </a:lnTo>
                <a:lnTo>
                  <a:pt x="590" y="1744"/>
                </a:lnTo>
                <a:lnTo>
                  <a:pt x="596" y="1744"/>
                </a:lnTo>
                <a:lnTo>
                  <a:pt x="602" y="1744"/>
                </a:lnTo>
                <a:lnTo>
                  <a:pt x="608" y="1744"/>
                </a:lnTo>
                <a:lnTo>
                  <a:pt x="614" y="1744"/>
                </a:lnTo>
                <a:lnTo>
                  <a:pt x="620" y="1744"/>
                </a:lnTo>
                <a:lnTo>
                  <a:pt x="626" y="1744"/>
                </a:lnTo>
                <a:lnTo>
                  <a:pt x="633" y="1744"/>
                </a:lnTo>
                <a:lnTo>
                  <a:pt x="639" y="1744"/>
                </a:lnTo>
                <a:lnTo>
                  <a:pt x="645" y="1744"/>
                </a:lnTo>
                <a:lnTo>
                  <a:pt x="651" y="1744"/>
                </a:lnTo>
                <a:lnTo>
                  <a:pt x="657" y="1744"/>
                </a:lnTo>
                <a:lnTo>
                  <a:pt x="663" y="1744"/>
                </a:lnTo>
                <a:lnTo>
                  <a:pt x="669" y="1744"/>
                </a:lnTo>
                <a:lnTo>
                  <a:pt x="675" y="1744"/>
                </a:lnTo>
                <a:lnTo>
                  <a:pt x="682" y="1744"/>
                </a:lnTo>
                <a:lnTo>
                  <a:pt x="688" y="1744"/>
                </a:lnTo>
                <a:lnTo>
                  <a:pt x="694" y="1744"/>
                </a:lnTo>
                <a:lnTo>
                  <a:pt x="700" y="174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0440" y="6413400"/>
            <a:ext cx="1238400" cy="1800"/>
          </a:xfrm>
          <a:custGeom>
            <a:avLst/>
            <a:gdLst/>
            <a:ahLst/>
            <a:rect l="l" t="t" r="r" b="b"/>
            <a:pathLst>
              <a:path w="780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8" y="0"/>
                </a:lnTo>
                <a:lnTo>
                  <a:pt x="74" y="0"/>
                </a:lnTo>
                <a:lnTo>
                  <a:pt x="80" y="0"/>
                </a:lnTo>
                <a:lnTo>
                  <a:pt x="86" y="0"/>
                </a:lnTo>
                <a:lnTo>
                  <a:pt x="92" y="0"/>
                </a:lnTo>
                <a:lnTo>
                  <a:pt x="98" y="0"/>
                </a:lnTo>
                <a:lnTo>
                  <a:pt x="104" y="0"/>
                </a:lnTo>
                <a:lnTo>
                  <a:pt x="111" y="0"/>
                </a:lnTo>
                <a:lnTo>
                  <a:pt x="117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41" y="0"/>
                </a:lnTo>
                <a:lnTo>
                  <a:pt x="147" y="0"/>
                </a:lnTo>
                <a:lnTo>
                  <a:pt x="154" y="0"/>
                </a:lnTo>
                <a:lnTo>
                  <a:pt x="160" y="0"/>
                </a:lnTo>
                <a:lnTo>
                  <a:pt x="166" y="0"/>
                </a:lnTo>
                <a:lnTo>
                  <a:pt x="172" y="0"/>
                </a:lnTo>
                <a:lnTo>
                  <a:pt x="178" y="0"/>
                </a:lnTo>
                <a:lnTo>
                  <a:pt x="184" y="0"/>
                </a:lnTo>
                <a:lnTo>
                  <a:pt x="190" y="0"/>
                </a:lnTo>
                <a:lnTo>
                  <a:pt x="197" y="0"/>
                </a:lnTo>
                <a:lnTo>
                  <a:pt x="203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7" y="0"/>
                </a:lnTo>
                <a:lnTo>
                  <a:pt x="233" y="0"/>
                </a:lnTo>
                <a:lnTo>
                  <a:pt x="239" y="0"/>
                </a:lnTo>
                <a:lnTo>
                  <a:pt x="246" y="0"/>
                </a:lnTo>
                <a:lnTo>
                  <a:pt x="252" y="0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9" y="0"/>
                </a:lnTo>
                <a:lnTo>
                  <a:pt x="295" y="0"/>
                </a:lnTo>
                <a:lnTo>
                  <a:pt x="301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0"/>
                </a:lnTo>
                <a:lnTo>
                  <a:pt x="338" y="0"/>
                </a:lnTo>
                <a:lnTo>
                  <a:pt x="344" y="0"/>
                </a:lnTo>
                <a:lnTo>
                  <a:pt x="350" y="0"/>
                </a:lnTo>
                <a:lnTo>
                  <a:pt x="356" y="0"/>
                </a:lnTo>
                <a:lnTo>
                  <a:pt x="362" y="0"/>
                </a:lnTo>
                <a:lnTo>
                  <a:pt x="368" y="0"/>
                </a:lnTo>
                <a:lnTo>
                  <a:pt x="375" y="0"/>
                </a:lnTo>
                <a:lnTo>
                  <a:pt x="381" y="0"/>
                </a:lnTo>
                <a:lnTo>
                  <a:pt x="387" y="0"/>
                </a:lnTo>
                <a:lnTo>
                  <a:pt x="393" y="0"/>
                </a:lnTo>
                <a:lnTo>
                  <a:pt x="399" y="0"/>
                </a:lnTo>
                <a:lnTo>
                  <a:pt x="405" y="0"/>
                </a:lnTo>
                <a:lnTo>
                  <a:pt x="411" y="0"/>
                </a:lnTo>
                <a:lnTo>
                  <a:pt x="418" y="0"/>
                </a:lnTo>
                <a:lnTo>
                  <a:pt x="424" y="0"/>
                </a:lnTo>
                <a:lnTo>
                  <a:pt x="430" y="0"/>
                </a:lnTo>
                <a:lnTo>
                  <a:pt x="436" y="0"/>
                </a:lnTo>
                <a:lnTo>
                  <a:pt x="442" y="0"/>
                </a:lnTo>
                <a:lnTo>
                  <a:pt x="448" y="0"/>
                </a:lnTo>
                <a:lnTo>
                  <a:pt x="454" y="0"/>
                </a:lnTo>
                <a:lnTo>
                  <a:pt x="460" y="0"/>
                </a:lnTo>
                <a:lnTo>
                  <a:pt x="467" y="0"/>
                </a:lnTo>
                <a:lnTo>
                  <a:pt x="473" y="0"/>
                </a:lnTo>
                <a:lnTo>
                  <a:pt x="479" y="0"/>
                </a:lnTo>
                <a:lnTo>
                  <a:pt x="485" y="0"/>
                </a:lnTo>
                <a:lnTo>
                  <a:pt x="491" y="0"/>
                </a:lnTo>
                <a:lnTo>
                  <a:pt x="497" y="0"/>
                </a:lnTo>
                <a:lnTo>
                  <a:pt x="503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0"/>
                </a:lnTo>
                <a:lnTo>
                  <a:pt x="540" y="0"/>
                </a:lnTo>
                <a:lnTo>
                  <a:pt x="546" y="0"/>
                </a:lnTo>
                <a:lnTo>
                  <a:pt x="553" y="0"/>
                </a:lnTo>
                <a:lnTo>
                  <a:pt x="559" y="0"/>
                </a:lnTo>
                <a:lnTo>
                  <a:pt x="565" y="0"/>
                </a:lnTo>
                <a:lnTo>
                  <a:pt x="571" y="0"/>
                </a:lnTo>
                <a:lnTo>
                  <a:pt x="577" y="0"/>
                </a:lnTo>
                <a:lnTo>
                  <a:pt x="583" y="0"/>
                </a:lnTo>
                <a:lnTo>
                  <a:pt x="589" y="0"/>
                </a:lnTo>
                <a:lnTo>
                  <a:pt x="596" y="0"/>
                </a:lnTo>
                <a:lnTo>
                  <a:pt x="602" y="0"/>
                </a:lnTo>
                <a:lnTo>
                  <a:pt x="608" y="0"/>
                </a:lnTo>
                <a:lnTo>
                  <a:pt x="614" y="0"/>
                </a:lnTo>
                <a:lnTo>
                  <a:pt x="620" y="0"/>
                </a:lnTo>
                <a:lnTo>
                  <a:pt x="626" y="0"/>
                </a:lnTo>
                <a:lnTo>
                  <a:pt x="632" y="0"/>
                </a:lnTo>
                <a:lnTo>
                  <a:pt x="639" y="0"/>
                </a:lnTo>
                <a:lnTo>
                  <a:pt x="645" y="0"/>
                </a:lnTo>
                <a:lnTo>
                  <a:pt x="651" y="0"/>
                </a:lnTo>
                <a:lnTo>
                  <a:pt x="657" y="0"/>
                </a:lnTo>
                <a:lnTo>
                  <a:pt x="663" y="0"/>
                </a:lnTo>
                <a:lnTo>
                  <a:pt x="669" y="0"/>
                </a:lnTo>
                <a:lnTo>
                  <a:pt x="675" y="0"/>
                </a:lnTo>
                <a:lnTo>
                  <a:pt x="682" y="0"/>
                </a:lnTo>
                <a:lnTo>
                  <a:pt x="688" y="0"/>
                </a:lnTo>
                <a:lnTo>
                  <a:pt x="694" y="0"/>
                </a:lnTo>
                <a:lnTo>
                  <a:pt x="700" y="0"/>
                </a:lnTo>
                <a:lnTo>
                  <a:pt x="706" y="0"/>
                </a:lnTo>
                <a:lnTo>
                  <a:pt x="712" y="0"/>
                </a:lnTo>
                <a:lnTo>
                  <a:pt x="718" y="0"/>
                </a:lnTo>
                <a:lnTo>
                  <a:pt x="724" y="0"/>
                </a:lnTo>
                <a:lnTo>
                  <a:pt x="731" y="0"/>
                </a:lnTo>
                <a:lnTo>
                  <a:pt x="737" y="0"/>
                </a:lnTo>
                <a:lnTo>
                  <a:pt x="743" y="0"/>
                </a:lnTo>
                <a:lnTo>
                  <a:pt x="749" y="0"/>
                </a:lnTo>
                <a:lnTo>
                  <a:pt x="755" y="0"/>
                </a:lnTo>
                <a:lnTo>
                  <a:pt x="761" y="0"/>
                </a:lnTo>
                <a:lnTo>
                  <a:pt x="767" y="0"/>
                </a:lnTo>
                <a:lnTo>
                  <a:pt x="774" y="0"/>
                </a:lnTo>
                <a:lnTo>
                  <a:pt x="78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108840" y="3645000"/>
            <a:ext cx="1158840" cy="2768400"/>
          </a:xfrm>
          <a:custGeom>
            <a:avLst/>
            <a:gdLst/>
            <a:ahLst/>
            <a:rect l="l" t="t" r="r" b="b"/>
            <a:pathLst>
              <a:path w="730" h="1744">
                <a:moveTo>
                  <a:pt x="0" y="1744"/>
                </a:moveTo>
                <a:lnTo>
                  <a:pt x="6" y="1744"/>
                </a:lnTo>
                <a:lnTo>
                  <a:pt x="12" y="1744"/>
                </a:lnTo>
                <a:lnTo>
                  <a:pt x="18" y="1744"/>
                </a:lnTo>
                <a:lnTo>
                  <a:pt x="24" y="1744"/>
                </a:lnTo>
                <a:lnTo>
                  <a:pt x="30" y="1744"/>
                </a:lnTo>
                <a:lnTo>
                  <a:pt x="37" y="1744"/>
                </a:lnTo>
                <a:lnTo>
                  <a:pt x="43" y="1744"/>
                </a:lnTo>
                <a:lnTo>
                  <a:pt x="49" y="1744"/>
                </a:lnTo>
                <a:lnTo>
                  <a:pt x="55" y="1744"/>
                </a:lnTo>
                <a:lnTo>
                  <a:pt x="61" y="1744"/>
                </a:lnTo>
                <a:lnTo>
                  <a:pt x="67" y="1744"/>
                </a:lnTo>
                <a:lnTo>
                  <a:pt x="73" y="1744"/>
                </a:lnTo>
                <a:lnTo>
                  <a:pt x="80" y="1744"/>
                </a:lnTo>
                <a:lnTo>
                  <a:pt x="86" y="1744"/>
                </a:lnTo>
                <a:lnTo>
                  <a:pt x="92" y="1744"/>
                </a:lnTo>
                <a:lnTo>
                  <a:pt x="98" y="1744"/>
                </a:lnTo>
                <a:lnTo>
                  <a:pt x="104" y="1744"/>
                </a:lnTo>
                <a:lnTo>
                  <a:pt x="110" y="1744"/>
                </a:lnTo>
                <a:lnTo>
                  <a:pt x="116" y="1744"/>
                </a:lnTo>
                <a:lnTo>
                  <a:pt x="123" y="1744"/>
                </a:lnTo>
                <a:lnTo>
                  <a:pt x="129" y="1744"/>
                </a:lnTo>
                <a:lnTo>
                  <a:pt x="135" y="1744"/>
                </a:lnTo>
                <a:lnTo>
                  <a:pt x="141" y="1744"/>
                </a:lnTo>
                <a:lnTo>
                  <a:pt x="147" y="1744"/>
                </a:lnTo>
                <a:lnTo>
                  <a:pt x="153" y="1744"/>
                </a:lnTo>
                <a:lnTo>
                  <a:pt x="159" y="1744"/>
                </a:lnTo>
                <a:lnTo>
                  <a:pt x="165" y="1744"/>
                </a:lnTo>
                <a:lnTo>
                  <a:pt x="172" y="1744"/>
                </a:lnTo>
                <a:lnTo>
                  <a:pt x="178" y="1744"/>
                </a:lnTo>
                <a:lnTo>
                  <a:pt x="184" y="1744"/>
                </a:lnTo>
                <a:lnTo>
                  <a:pt x="190" y="1744"/>
                </a:lnTo>
                <a:lnTo>
                  <a:pt x="196" y="1744"/>
                </a:lnTo>
                <a:lnTo>
                  <a:pt x="202" y="1744"/>
                </a:lnTo>
                <a:lnTo>
                  <a:pt x="208" y="1744"/>
                </a:lnTo>
                <a:lnTo>
                  <a:pt x="215" y="1744"/>
                </a:lnTo>
                <a:lnTo>
                  <a:pt x="221" y="1744"/>
                </a:lnTo>
                <a:lnTo>
                  <a:pt x="227" y="1744"/>
                </a:lnTo>
                <a:lnTo>
                  <a:pt x="233" y="1744"/>
                </a:lnTo>
                <a:lnTo>
                  <a:pt x="239" y="1744"/>
                </a:lnTo>
                <a:lnTo>
                  <a:pt x="245" y="1744"/>
                </a:lnTo>
                <a:lnTo>
                  <a:pt x="251" y="1744"/>
                </a:lnTo>
                <a:lnTo>
                  <a:pt x="258" y="1744"/>
                </a:lnTo>
                <a:lnTo>
                  <a:pt x="264" y="1744"/>
                </a:lnTo>
                <a:lnTo>
                  <a:pt x="270" y="1744"/>
                </a:lnTo>
                <a:lnTo>
                  <a:pt x="276" y="1744"/>
                </a:lnTo>
                <a:lnTo>
                  <a:pt x="282" y="1744"/>
                </a:lnTo>
                <a:lnTo>
                  <a:pt x="288" y="1744"/>
                </a:lnTo>
                <a:lnTo>
                  <a:pt x="294" y="1744"/>
                </a:lnTo>
                <a:lnTo>
                  <a:pt x="301" y="1744"/>
                </a:lnTo>
                <a:lnTo>
                  <a:pt x="307" y="1744"/>
                </a:lnTo>
                <a:lnTo>
                  <a:pt x="313" y="1744"/>
                </a:lnTo>
                <a:lnTo>
                  <a:pt x="319" y="1744"/>
                </a:lnTo>
                <a:lnTo>
                  <a:pt x="325" y="1744"/>
                </a:lnTo>
                <a:lnTo>
                  <a:pt x="331" y="1744"/>
                </a:lnTo>
                <a:lnTo>
                  <a:pt x="337" y="1744"/>
                </a:lnTo>
                <a:lnTo>
                  <a:pt x="344" y="1744"/>
                </a:lnTo>
                <a:lnTo>
                  <a:pt x="350" y="1744"/>
                </a:lnTo>
                <a:lnTo>
                  <a:pt x="356" y="1744"/>
                </a:lnTo>
                <a:lnTo>
                  <a:pt x="362" y="1744"/>
                </a:lnTo>
                <a:lnTo>
                  <a:pt x="368" y="1744"/>
                </a:lnTo>
                <a:lnTo>
                  <a:pt x="374" y="1744"/>
                </a:lnTo>
                <a:lnTo>
                  <a:pt x="380" y="1744"/>
                </a:lnTo>
                <a:lnTo>
                  <a:pt x="387" y="1744"/>
                </a:lnTo>
                <a:lnTo>
                  <a:pt x="393" y="1744"/>
                </a:lnTo>
                <a:lnTo>
                  <a:pt x="399" y="1744"/>
                </a:lnTo>
                <a:lnTo>
                  <a:pt x="405" y="1744"/>
                </a:lnTo>
                <a:lnTo>
                  <a:pt x="411" y="1744"/>
                </a:lnTo>
                <a:lnTo>
                  <a:pt x="417" y="1744"/>
                </a:lnTo>
                <a:lnTo>
                  <a:pt x="423" y="1744"/>
                </a:lnTo>
                <a:lnTo>
                  <a:pt x="429" y="1744"/>
                </a:lnTo>
                <a:lnTo>
                  <a:pt x="436" y="1744"/>
                </a:lnTo>
                <a:lnTo>
                  <a:pt x="442" y="1744"/>
                </a:lnTo>
                <a:lnTo>
                  <a:pt x="448" y="1744"/>
                </a:lnTo>
                <a:lnTo>
                  <a:pt x="454" y="1744"/>
                </a:lnTo>
                <a:lnTo>
                  <a:pt x="460" y="1744"/>
                </a:lnTo>
                <a:lnTo>
                  <a:pt x="466" y="1744"/>
                </a:lnTo>
                <a:lnTo>
                  <a:pt x="472" y="1744"/>
                </a:lnTo>
                <a:lnTo>
                  <a:pt x="479" y="1744"/>
                </a:lnTo>
                <a:lnTo>
                  <a:pt x="485" y="1744"/>
                </a:lnTo>
                <a:lnTo>
                  <a:pt x="491" y="1744"/>
                </a:lnTo>
                <a:lnTo>
                  <a:pt x="497" y="1744"/>
                </a:lnTo>
                <a:lnTo>
                  <a:pt x="503" y="1744"/>
                </a:lnTo>
                <a:lnTo>
                  <a:pt x="509" y="1738"/>
                </a:lnTo>
                <a:lnTo>
                  <a:pt x="515" y="1738"/>
                </a:lnTo>
                <a:lnTo>
                  <a:pt x="522" y="1744"/>
                </a:lnTo>
                <a:lnTo>
                  <a:pt x="528" y="1744"/>
                </a:lnTo>
                <a:lnTo>
                  <a:pt x="534" y="1744"/>
                </a:lnTo>
                <a:lnTo>
                  <a:pt x="540" y="1738"/>
                </a:lnTo>
                <a:lnTo>
                  <a:pt x="546" y="1732"/>
                </a:lnTo>
                <a:lnTo>
                  <a:pt x="552" y="1732"/>
                </a:lnTo>
                <a:lnTo>
                  <a:pt x="558" y="1732"/>
                </a:lnTo>
                <a:lnTo>
                  <a:pt x="565" y="1738"/>
                </a:lnTo>
                <a:lnTo>
                  <a:pt x="571" y="1738"/>
                </a:lnTo>
                <a:lnTo>
                  <a:pt x="577" y="1726"/>
                </a:lnTo>
                <a:lnTo>
                  <a:pt x="583" y="1714"/>
                </a:lnTo>
                <a:lnTo>
                  <a:pt x="589" y="1703"/>
                </a:lnTo>
                <a:lnTo>
                  <a:pt x="595" y="1703"/>
                </a:lnTo>
                <a:lnTo>
                  <a:pt x="601" y="1714"/>
                </a:lnTo>
                <a:lnTo>
                  <a:pt x="601" y="1738"/>
                </a:lnTo>
                <a:lnTo>
                  <a:pt x="608" y="1714"/>
                </a:lnTo>
                <a:lnTo>
                  <a:pt x="614" y="1661"/>
                </a:lnTo>
                <a:lnTo>
                  <a:pt x="620" y="1589"/>
                </a:lnTo>
                <a:lnTo>
                  <a:pt x="620" y="1494"/>
                </a:lnTo>
                <a:lnTo>
                  <a:pt x="626" y="1387"/>
                </a:lnTo>
                <a:lnTo>
                  <a:pt x="632" y="1256"/>
                </a:lnTo>
                <a:lnTo>
                  <a:pt x="638" y="1119"/>
                </a:lnTo>
                <a:lnTo>
                  <a:pt x="638" y="970"/>
                </a:lnTo>
                <a:lnTo>
                  <a:pt x="644" y="810"/>
                </a:lnTo>
                <a:lnTo>
                  <a:pt x="651" y="655"/>
                </a:lnTo>
                <a:lnTo>
                  <a:pt x="651" y="506"/>
                </a:lnTo>
                <a:lnTo>
                  <a:pt x="657" y="363"/>
                </a:lnTo>
                <a:lnTo>
                  <a:pt x="663" y="244"/>
                </a:lnTo>
                <a:lnTo>
                  <a:pt x="669" y="143"/>
                </a:lnTo>
                <a:lnTo>
                  <a:pt x="669" y="66"/>
                </a:lnTo>
                <a:lnTo>
                  <a:pt x="675" y="18"/>
                </a:lnTo>
                <a:lnTo>
                  <a:pt x="681" y="0"/>
                </a:lnTo>
                <a:lnTo>
                  <a:pt x="681" y="18"/>
                </a:lnTo>
                <a:lnTo>
                  <a:pt x="687" y="66"/>
                </a:lnTo>
                <a:lnTo>
                  <a:pt x="693" y="143"/>
                </a:lnTo>
                <a:lnTo>
                  <a:pt x="700" y="250"/>
                </a:lnTo>
                <a:lnTo>
                  <a:pt x="700" y="375"/>
                </a:lnTo>
                <a:lnTo>
                  <a:pt x="706" y="518"/>
                </a:lnTo>
                <a:lnTo>
                  <a:pt x="712" y="667"/>
                </a:lnTo>
                <a:lnTo>
                  <a:pt x="718" y="828"/>
                </a:lnTo>
                <a:lnTo>
                  <a:pt x="718" y="982"/>
                </a:lnTo>
                <a:lnTo>
                  <a:pt x="724" y="1137"/>
                </a:lnTo>
                <a:lnTo>
                  <a:pt x="730" y="128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267680" y="5676840"/>
            <a:ext cx="88920" cy="736560"/>
          </a:xfrm>
          <a:custGeom>
            <a:avLst/>
            <a:gdLst/>
            <a:ahLst/>
            <a:rect l="l" t="t" r="r" b="b"/>
            <a:pathLst>
              <a:path w="56" h="464">
                <a:moveTo>
                  <a:pt x="0" y="0"/>
                </a:moveTo>
                <a:lnTo>
                  <a:pt x="0" y="125"/>
                </a:lnTo>
                <a:lnTo>
                  <a:pt x="6" y="232"/>
                </a:lnTo>
                <a:lnTo>
                  <a:pt x="13" y="321"/>
                </a:lnTo>
                <a:lnTo>
                  <a:pt x="19" y="393"/>
                </a:lnTo>
                <a:lnTo>
                  <a:pt x="19" y="440"/>
                </a:lnTo>
                <a:lnTo>
                  <a:pt x="25" y="458"/>
                </a:lnTo>
                <a:lnTo>
                  <a:pt x="31" y="440"/>
                </a:lnTo>
                <a:lnTo>
                  <a:pt x="37" y="434"/>
                </a:lnTo>
                <a:lnTo>
                  <a:pt x="43" y="440"/>
                </a:lnTo>
                <a:lnTo>
                  <a:pt x="49" y="452"/>
                </a:lnTo>
                <a:lnTo>
                  <a:pt x="49" y="458"/>
                </a:lnTo>
                <a:lnTo>
                  <a:pt x="56" y="46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11760" y="21337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100), abs(yf1(1:10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1720" y="95580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– 2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40000" y="2828880"/>
            <a:ext cx="4310280" cy="32940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40000" y="2828880"/>
            <a:ext cx="4310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240000" y="2828880"/>
            <a:ext cx="4310280" cy="32940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240000" y="2828880"/>
            <a:ext cx="1800" cy="329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0" y="6122880"/>
            <a:ext cx="4310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240000" y="60753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240000" y="2828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209760" y="615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666960" y="60753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666960" y="2828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37080" y="615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409428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09428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64040" y="615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530600" y="60753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530600" y="2828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500720" y="615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495792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95792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927680" y="615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539604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9604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2620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582300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82300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5316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24996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24996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8012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668664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8664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1680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11360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11360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4376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550280" y="60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50280" y="2828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81880" y="615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240000" y="61228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500600" y="61228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5440" y="6019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40000" y="5651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7500600" y="56516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55800" y="55483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40000" y="51786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500600" y="51786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25640" y="5076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240000" y="47070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7500600" y="47070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755800" y="46054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240000" y="42354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500600" y="42354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825640" y="4132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40000" y="3763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7500600" y="37638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55800" y="3660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40000" y="32907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500600" y="329076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25640" y="3189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40000" y="28288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7500600" y="28288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755800" y="2727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40000" y="2828880"/>
            <a:ext cx="4310280" cy="32940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40000" y="3290760"/>
            <a:ext cx="4260960" cy="2822760"/>
          </a:xfrm>
          <a:custGeom>
            <a:avLst/>
            <a:gdLst/>
            <a:ahLst/>
            <a:rect l="l" t="t" r="r" b="b"/>
            <a:pathLst>
              <a:path w="2684" h="1778">
                <a:moveTo>
                  <a:pt x="0" y="1778"/>
                </a:moveTo>
                <a:lnTo>
                  <a:pt x="25" y="1778"/>
                </a:lnTo>
                <a:lnTo>
                  <a:pt x="50" y="1772"/>
                </a:lnTo>
                <a:lnTo>
                  <a:pt x="81" y="1766"/>
                </a:lnTo>
                <a:lnTo>
                  <a:pt x="106" y="1754"/>
                </a:lnTo>
                <a:lnTo>
                  <a:pt x="131" y="1748"/>
                </a:lnTo>
                <a:lnTo>
                  <a:pt x="162" y="1741"/>
                </a:lnTo>
                <a:lnTo>
                  <a:pt x="187" y="1754"/>
                </a:lnTo>
                <a:lnTo>
                  <a:pt x="213" y="1772"/>
                </a:lnTo>
                <a:lnTo>
                  <a:pt x="244" y="1754"/>
                </a:lnTo>
                <a:lnTo>
                  <a:pt x="269" y="1705"/>
                </a:lnTo>
                <a:lnTo>
                  <a:pt x="294" y="1632"/>
                </a:lnTo>
                <a:lnTo>
                  <a:pt x="325" y="1541"/>
                </a:lnTo>
                <a:lnTo>
                  <a:pt x="350" y="1432"/>
                </a:lnTo>
                <a:lnTo>
                  <a:pt x="375" y="1305"/>
                </a:lnTo>
                <a:lnTo>
                  <a:pt x="406" y="1159"/>
                </a:lnTo>
                <a:lnTo>
                  <a:pt x="432" y="1001"/>
                </a:lnTo>
                <a:lnTo>
                  <a:pt x="457" y="844"/>
                </a:lnTo>
                <a:lnTo>
                  <a:pt x="488" y="680"/>
                </a:lnTo>
                <a:lnTo>
                  <a:pt x="513" y="528"/>
                </a:lnTo>
                <a:lnTo>
                  <a:pt x="538" y="383"/>
                </a:lnTo>
                <a:lnTo>
                  <a:pt x="569" y="255"/>
                </a:lnTo>
                <a:lnTo>
                  <a:pt x="594" y="146"/>
                </a:lnTo>
                <a:lnTo>
                  <a:pt x="619" y="67"/>
                </a:lnTo>
                <a:lnTo>
                  <a:pt x="651" y="19"/>
                </a:lnTo>
                <a:lnTo>
                  <a:pt x="676" y="0"/>
                </a:lnTo>
                <a:lnTo>
                  <a:pt x="701" y="19"/>
                </a:lnTo>
                <a:lnTo>
                  <a:pt x="732" y="67"/>
                </a:lnTo>
                <a:lnTo>
                  <a:pt x="757" y="146"/>
                </a:lnTo>
                <a:lnTo>
                  <a:pt x="782" y="249"/>
                </a:lnTo>
                <a:lnTo>
                  <a:pt x="813" y="370"/>
                </a:lnTo>
                <a:lnTo>
                  <a:pt x="838" y="516"/>
                </a:lnTo>
                <a:lnTo>
                  <a:pt x="863" y="668"/>
                </a:lnTo>
                <a:lnTo>
                  <a:pt x="895" y="825"/>
                </a:lnTo>
                <a:lnTo>
                  <a:pt x="920" y="989"/>
                </a:lnTo>
                <a:lnTo>
                  <a:pt x="945" y="1141"/>
                </a:lnTo>
                <a:lnTo>
                  <a:pt x="976" y="1280"/>
                </a:lnTo>
                <a:lnTo>
                  <a:pt x="1001" y="1414"/>
                </a:lnTo>
                <a:lnTo>
                  <a:pt x="1026" y="1523"/>
                </a:lnTo>
                <a:lnTo>
                  <a:pt x="1057" y="1620"/>
                </a:lnTo>
                <a:lnTo>
                  <a:pt x="1082" y="1693"/>
                </a:lnTo>
                <a:lnTo>
                  <a:pt x="1107" y="1748"/>
                </a:lnTo>
                <a:lnTo>
                  <a:pt x="1139" y="1772"/>
                </a:lnTo>
                <a:lnTo>
                  <a:pt x="1164" y="1748"/>
                </a:lnTo>
                <a:lnTo>
                  <a:pt x="1189" y="1735"/>
                </a:lnTo>
                <a:lnTo>
                  <a:pt x="1220" y="1735"/>
                </a:lnTo>
                <a:lnTo>
                  <a:pt x="1245" y="1735"/>
                </a:lnTo>
                <a:lnTo>
                  <a:pt x="1270" y="1748"/>
                </a:lnTo>
                <a:lnTo>
                  <a:pt x="1301" y="1760"/>
                </a:lnTo>
                <a:lnTo>
                  <a:pt x="1326" y="1772"/>
                </a:lnTo>
                <a:lnTo>
                  <a:pt x="1358" y="1778"/>
                </a:lnTo>
                <a:lnTo>
                  <a:pt x="1383" y="1772"/>
                </a:lnTo>
                <a:lnTo>
                  <a:pt x="1408" y="1766"/>
                </a:lnTo>
                <a:lnTo>
                  <a:pt x="1439" y="1766"/>
                </a:lnTo>
                <a:lnTo>
                  <a:pt x="1464" y="1766"/>
                </a:lnTo>
                <a:lnTo>
                  <a:pt x="1489" y="1766"/>
                </a:lnTo>
                <a:lnTo>
                  <a:pt x="1520" y="1772"/>
                </a:lnTo>
                <a:lnTo>
                  <a:pt x="1545" y="1778"/>
                </a:lnTo>
                <a:lnTo>
                  <a:pt x="1570" y="1778"/>
                </a:lnTo>
                <a:lnTo>
                  <a:pt x="1602" y="1778"/>
                </a:lnTo>
                <a:lnTo>
                  <a:pt x="1627" y="1778"/>
                </a:lnTo>
                <a:lnTo>
                  <a:pt x="1652" y="1772"/>
                </a:lnTo>
                <a:lnTo>
                  <a:pt x="1683" y="1772"/>
                </a:lnTo>
                <a:lnTo>
                  <a:pt x="1708" y="1772"/>
                </a:lnTo>
                <a:lnTo>
                  <a:pt x="1733" y="1778"/>
                </a:lnTo>
                <a:lnTo>
                  <a:pt x="1764" y="1778"/>
                </a:lnTo>
                <a:lnTo>
                  <a:pt x="1789" y="1778"/>
                </a:lnTo>
                <a:lnTo>
                  <a:pt x="1814" y="1778"/>
                </a:lnTo>
                <a:lnTo>
                  <a:pt x="1846" y="1778"/>
                </a:lnTo>
                <a:lnTo>
                  <a:pt x="1871" y="1778"/>
                </a:lnTo>
                <a:lnTo>
                  <a:pt x="1896" y="1778"/>
                </a:lnTo>
                <a:lnTo>
                  <a:pt x="1927" y="1778"/>
                </a:lnTo>
                <a:lnTo>
                  <a:pt x="1952" y="1778"/>
                </a:lnTo>
                <a:lnTo>
                  <a:pt x="1977" y="1778"/>
                </a:lnTo>
                <a:lnTo>
                  <a:pt x="2008" y="1778"/>
                </a:lnTo>
                <a:lnTo>
                  <a:pt x="2033" y="1778"/>
                </a:lnTo>
                <a:lnTo>
                  <a:pt x="2058" y="1778"/>
                </a:lnTo>
                <a:lnTo>
                  <a:pt x="2090" y="1778"/>
                </a:lnTo>
                <a:lnTo>
                  <a:pt x="2115" y="1778"/>
                </a:lnTo>
                <a:lnTo>
                  <a:pt x="2140" y="1778"/>
                </a:lnTo>
                <a:lnTo>
                  <a:pt x="2171" y="1778"/>
                </a:lnTo>
                <a:lnTo>
                  <a:pt x="2196" y="1778"/>
                </a:lnTo>
                <a:lnTo>
                  <a:pt x="2221" y="1778"/>
                </a:lnTo>
                <a:lnTo>
                  <a:pt x="2252" y="1778"/>
                </a:lnTo>
                <a:lnTo>
                  <a:pt x="2277" y="1778"/>
                </a:lnTo>
                <a:lnTo>
                  <a:pt x="2302" y="1778"/>
                </a:lnTo>
                <a:lnTo>
                  <a:pt x="2334" y="1778"/>
                </a:lnTo>
                <a:lnTo>
                  <a:pt x="2359" y="1778"/>
                </a:lnTo>
                <a:lnTo>
                  <a:pt x="2384" y="1778"/>
                </a:lnTo>
                <a:lnTo>
                  <a:pt x="2415" y="1778"/>
                </a:lnTo>
                <a:lnTo>
                  <a:pt x="2440" y="1778"/>
                </a:lnTo>
                <a:lnTo>
                  <a:pt x="2465" y="1778"/>
                </a:lnTo>
                <a:lnTo>
                  <a:pt x="2496" y="1778"/>
                </a:lnTo>
                <a:lnTo>
                  <a:pt x="2521" y="1778"/>
                </a:lnTo>
                <a:lnTo>
                  <a:pt x="2546" y="1778"/>
                </a:lnTo>
                <a:lnTo>
                  <a:pt x="2578" y="1778"/>
                </a:lnTo>
                <a:lnTo>
                  <a:pt x="2603" y="1778"/>
                </a:lnTo>
                <a:lnTo>
                  <a:pt x="2628" y="1778"/>
                </a:lnTo>
                <a:lnTo>
                  <a:pt x="2659" y="1778"/>
                </a:lnTo>
                <a:lnTo>
                  <a:pt x="2684" y="177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21160" y="536400"/>
            <a:ext cx="2184480" cy="1670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21160" y="536400"/>
            <a:ext cx="218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21160" y="536400"/>
            <a:ext cx="2184480" cy="16704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21160" y="536400"/>
            <a:ext cx="1800" cy="167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21160" y="2206800"/>
            <a:ext cx="218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321160" y="536400"/>
            <a:ext cx="1800" cy="167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321160" y="2180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321160" y="536400"/>
            <a:ext cx="180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0496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537160" y="2180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537160" y="536400"/>
            <a:ext cx="180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490360" y="22208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75316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75316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73840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75280" y="2180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75280" y="536400"/>
            <a:ext cx="180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28480" y="22208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19128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9128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17652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6413400" y="2180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413400" y="536400"/>
            <a:ext cx="180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366600" y="22208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62940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62940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1464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684540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4540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800040" y="22208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06752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6752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5132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7283520" y="2180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83520" y="536400"/>
            <a:ext cx="144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160" y="22208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7505640" y="2180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05640" y="536400"/>
            <a:ext cx="180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489440" y="22208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21160" y="22068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480440" y="22068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244480" y="2166840"/>
            <a:ext cx="57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21160" y="19954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7480440" y="19954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88320" y="1957320"/>
            <a:ext cx="110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21160" y="17859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7480440" y="17859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44480" y="1747800"/>
            <a:ext cx="57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21160" y="1576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7480440" y="15764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188320" y="1536840"/>
            <a:ext cx="110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321160" y="1371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7480440" y="1371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265360" y="133200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321160" y="116208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7480440" y="11620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209200" y="112248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1160" y="9525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7480440" y="9525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265360" y="9129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21160" y="741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7480440" y="74124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209200" y="70344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21160" y="536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7480440" y="5364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265360" y="49860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321160" y="731880"/>
            <a:ext cx="594000" cy="1469880"/>
          </a:xfrm>
          <a:custGeom>
            <a:avLst/>
            <a:gdLst/>
            <a:ahLst/>
            <a:rect l="l" t="t" r="r" b="b"/>
            <a:pathLst>
              <a:path w="374" h="926">
                <a:moveTo>
                  <a:pt x="0" y="403"/>
                </a:moveTo>
                <a:lnTo>
                  <a:pt x="0" y="400"/>
                </a:lnTo>
                <a:lnTo>
                  <a:pt x="3" y="397"/>
                </a:lnTo>
                <a:lnTo>
                  <a:pt x="9" y="394"/>
                </a:lnTo>
                <a:lnTo>
                  <a:pt x="12" y="400"/>
                </a:lnTo>
                <a:lnTo>
                  <a:pt x="15" y="415"/>
                </a:lnTo>
                <a:lnTo>
                  <a:pt x="15" y="437"/>
                </a:lnTo>
                <a:lnTo>
                  <a:pt x="19" y="468"/>
                </a:lnTo>
                <a:lnTo>
                  <a:pt x="22" y="498"/>
                </a:lnTo>
                <a:lnTo>
                  <a:pt x="25" y="526"/>
                </a:lnTo>
                <a:lnTo>
                  <a:pt x="28" y="547"/>
                </a:lnTo>
                <a:lnTo>
                  <a:pt x="31" y="551"/>
                </a:lnTo>
                <a:lnTo>
                  <a:pt x="34" y="532"/>
                </a:lnTo>
                <a:lnTo>
                  <a:pt x="34" y="492"/>
                </a:lnTo>
                <a:lnTo>
                  <a:pt x="38" y="428"/>
                </a:lnTo>
                <a:lnTo>
                  <a:pt x="41" y="345"/>
                </a:lnTo>
                <a:lnTo>
                  <a:pt x="44" y="249"/>
                </a:lnTo>
                <a:lnTo>
                  <a:pt x="47" y="157"/>
                </a:lnTo>
                <a:lnTo>
                  <a:pt x="50" y="77"/>
                </a:lnTo>
                <a:lnTo>
                  <a:pt x="50" y="22"/>
                </a:lnTo>
                <a:lnTo>
                  <a:pt x="53" y="0"/>
                </a:lnTo>
                <a:lnTo>
                  <a:pt x="57" y="22"/>
                </a:lnTo>
                <a:lnTo>
                  <a:pt x="60" y="83"/>
                </a:lnTo>
                <a:lnTo>
                  <a:pt x="63" y="188"/>
                </a:lnTo>
                <a:lnTo>
                  <a:pt x="66" y="320"/>
                </a:lnTo>
                <a:lnTo>
                  <a:pt x="69" y="471"/>
                </a:lnTo>
                <a:lnTo>
                  <a:pt x="69" y="621"/>
                </a:lnTo>
                <a:lnTo>
                  <a:pt x="72" y="753"/>
                </a:lnTo>
                <a:lnTo>
                  <a:pt x="76" y="858"/>
                </a:lnTo>
                <a:lnTo>
                  <a:pt x="79" y="916"/>
                </a:lnTo>
                <a:lnTo>
                  <a:pt x="82" y="926"/>
                </a:lnTo>
                <a:lnTo>
                  <a:pt x="85" y="879"/>
                </a:lnTo>
                <a:lnTo>
                  <a:pt x="88" y="790"/>
                </a:lnTo>
                <a:lnTo>
                  <a:pt x="88" y="664"/>
                </a:lnTo>
                <a:lnTo>
                  <a:pt x="91" y="520"/>
                </a:lnTo>
                <a:lnTo>
                  <a:pt x="95" y="366"/>
                </a:lnTo>
                <a:lnTo>
                  <a:pt x="98" y="228"/>
                </a:lnTo>
                <a:lnTo>
                  <a:pt x="101" y="114"/>
                </a:lnTo>
                <a:lnTo>
                  <a:pt x="104" y="37"/>
                </a:lnTo>
                <a:lnTo>
                  <a:pt x="104" y="3"/>
                </a:lnTo>
                <a:lnTo>
                  <a:pt x="107" y="10"/>
                </a:lnTo>
                <a:lnTo>
                  <a:pt x="111" y="56"/>
                </a:lnTo>
                <a:lnTo>
                  <a:pt x="114" y="129"/>
                </a:lnTo>
                <a:lnTo>
                  <a:pt x="117" y="219"/>
                </a:lnTo>
                <a:lnTo>
                  <a:pt x="120" y="314"/>
                </a:lnTo>
                <a:lnTo>
                  <a:pt x="123" y="403"/>
                </a:lnTo>
                <a:lnTo>
                  <a:pt x="123" y="474"/>
                </a:lnTo>
                <a:lnTo>
                  <a:pt x="126" y="523"/>
                </a:lnTo>
                <a:lnTo>
                  <a:pt x="130" y="547"/>
                </a:lnTo>
                <a:lnTo>
                  <a:pt x="133" y="551"/>
                </a:lnTo>
                <a:lnTo>
                  <a:pt x="136" y="535"/>
                </a:lnTo>
                <a:lnTo>
                  <a:pt x="139" y="507"/>
                </a:lnTo>
                <a:lnTo>
                  <a:pt x="142" y="477"/>
                </a:lnTo>
                <a:lnTo>
                  <a:pt x="142" y="446"/>
                </a:lnTo>
                <a:lnTo>
                  <a:pt x="145" y="421"/>
                </a:lnTo>
                <a:lnTo>
                  <a:pt x="149" y="403"/>
                </a:lnTo>
                <a:lnTo>
                  <a:pt x="152" y="397"/>
                </a:lnTo>
                <a:lnTo>
                  <a:pt x="155" y="394"/>
                </a:lnTo>
                <a:lnTo>
                  <a:pt x="161" y="400"/>
                </a:lnTo>
                <a:lnTo>
                  <a:pt x="158" y="400"/>
                </a:lnTo>
                <a:lnTo>
                  <a:pt x="161" y="400"/>
                </a:lnTo>
                <a:lnTo>
                  <a:pt x="164" y="403"/>
                </a:lnTo>
                <a:lnTo>
                  <a:pt x="168" y="403"/>
                </a:lnTo>
                <a:lnTo>
                  <a:pt x="171" y="403"/>
                </a:lnTo>
                <a:lnTo>
                  <a:pt x="174" y="403"/>
                </a:lnTo>
                <a:lnTo>
                  <a:pt x="177" y="403"/>
                </a:lnTo>
                <a:lnTo>
                  <a:pt x="180" y="403"/>
                </a:lnTo>
                <a:lnTo>
                  <a:pt x="183" y="403"/>
                </a:lnTo>
                <a:lnTo>
                  <a:pt x="187" y="403"/>
                </a:lnTo>
                <a:lnTo>
                  <a:pt x="190" y="403"/>
                </a:lnTo>
                <a:lnTo>
                  <a:pt x="193" y="403"/>
                </a:lnTo>
                <a:lnTo>
                  <a:pt x="196" y="403"/>
                </a:lnTo>
                <a:lnTo>
                  <a:pt x="199" y="403"/>
                </a:lnTo>
                <a:lnTo>
                  <a:pt x="202" y="403"/>
                </a:lnTo>
                <a:lnTo>
                  <a:pt x="206" y="403"/>
                </a:lnTo>
                <a:lnTo>
                  <a:pt x="209" y="403"/>
                </a:lnTo>
                <a:lnTo>
                  <a:pt x="212" y="403"/>
                </a:lnTo>
                <a:lnTo>
                  <a:pt x="215" y="403"/>
                </a:lnTo>
                <a:lnTo>
                  <a:pt x="218" y="403"/>
                </a:lnTo>
                <a:lnTo>
                  <a:pt x="222" y="403"/>
                </a:lnTo>
                <a:lnTo>
                  <a:pt x="225" y="403"/>
                </a:lnTo>
                <a:lnTo>
                  <a:pt x="228" y="403"/>
                </a:lnTo>
                <a:lnTo>
                  <a:pt x="231" y="403"/>
                </a:lnTo>
                <a:lnTo>
                  <a:pt x="234" y="403"/>
                </a:lnTo>
                <a:lnTo>
                  <a:pt x="237" y="403"/>
                </a:lnTo>
                <a:lnTo>
                  <a:pt x="241" y="403"/>
                </a:lnTo>
                <a:lnTo>
                  <a:pt x="244" y="403"/>
                </a:lnTo>
                <a:lnTo>
                  <a:pt x="247" y="403"/>
                </a:lnTo>
                <a:lnTo>
                  <a:pt x="250" y="403"/>
                </a:lnTo>
                <a:lnTo>
                  <a:pt x="253" y="403"/>
                </a:lnTo>
                <a:lnTo>
                  <a:pt x="256" y="403"/>
                </a:lnTo>
                <a:lnTo>
                  <a:pt x="260" y="403"/>
                </a:lnTo>
                <a:lnTo>
                  <a:pt x="263" y="403"/>
                </a:lnTo>
                <a:lnTo>
                  <a:pt x="266" y="403"/>
                </a:lnTo>
                <a:lnTo>
                  <a:pt x="269" y="403"/>
                </a:lnTo>
                <a:lnTo>
                  <a:pt x="272" y="403"/>
                </a:lnTo>
                <a:lnTo>
                  <a:pt x="275" y="403"/>
                </a:lnTo>
                <a:lnTo>
                  <a:pt x="279" y="403"/>
                </a:lnTo>
                <a:lnTo>
                  <a:pt x="282" y="403"/>
                </a:lnTo>
                <a:lnTo>
                  <a:pt x="285" y="403"/>
                </a:lnTo>
                <a:lnTo>
                  <a:pt x="288" y="403"/>
                </a:lnTo>
                <a:lnTo>
                  <a:pt x="291" y="403"/>
                </a:lnTo>
                <a:lnTo>
                  <a:pt x="294" y="403"/>
                </a:lnTo>
                <a:lnTo>
                  <a:pt x="298" y="403"/>
                </a:lnTo>
                <a:lnTo>
                  <a:pt x="301" y="403"/>
                </a:lnTo>
                <a:lnTo>
                  <a:pt x="304" y="403"/>
                </a:lnTo>
                <a:lnTo>
                  <a:pt x="307" y="403"/>
                </a:lnTo>
                <a:lnTo>
                  <a:pt x="310" y="403"/>
                </a:lnTo>
                <a:lnTo>
                  <a:pt x="313" y="403"/>
                </a:lnTo>
                <a:lnTo>
                  <a:pt x="317" y="403"/>
                </a:lnTo>
                <a:lnTo>
                  <a:pt x="320" y="403"/>
                </a:lnTo>
                <a:lnTo>
                  <a:pt x="323" y="403"/>
                </a:lnTo>
                <a:lnTo>
                  <a:pt x="326" y="403"/>
                </a:lnTo>
                <a:lnTo>
                  <a:pt x="329" y="403"/>
                </a:lnTo>
                <a:lnTo>
                  <a:pt x="333" y="403"/>
                </a:lnTo>
                <a:lnTo>
                  <a:pt x="336" y="403"/>
                </a:lnTo>
                <a:lnTo>
                  <a:pt x="339" y="403"/>
                </a:lnTo>
                <a:lnTo>
                  <a:pt x="342" y="403"/>
                </a:lnTo>
                <a:lnTo>
                  <a:pt x="345" y="403"/>
                </a:lnTo>
                <a:lnTo>
                  <a:pt x="348" y="403"/>
                </a:lnTo>
                <a:lnTo>
                  <a:pt x="352" y="403"/>
                </a:lnTo>
                <a:lnTo>
                  <a:pt x="355" y="403"/>
                </a:lnTo>
                <a:lnTo>
                  <a:pt x="358" y="403"/>
                </a:lnTo>
                <a:lnTo>
                  <a:pt x="361" y="403"/>
                </a:lnTo>
                <a:lnTo>
                  <a:pt x="364" y="403"/>
                </a:lnTo>
                <a:lnTo>
                  <a:pt x="367" y="403"/>
                </a:lnTo>
                <a:lnTo>
                  <a:pt x="371" y="403"/>
                </a:lnTo>
                <a:lnTo>
                  <a:pt x="374" y="40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15160" y="1371600"/>
            <a:ext cx="639720" cy="1440"/>
          </a:xfrm>
          <a:custGeom>
            <a:avLst/>
            <a:gdLst/>
            <a:ahLst/>
            <a:rect l="l" t="t" r="r" b="b"/>
            <a:pathLst>
              <a:path w="403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3" y="0"/>
                </a:lnTo>
                <a:lnTo>
                  <a:pt x="76" y="0"/>
                </a:lnTo>
                <a:lnTo>
                  <a:pt x="79" y="0"/>
                </a:lnTo>
                <a:lnTo>
                  <a:pt x="82" y="0"/>
                </a:lnTo>
                <a:lnTo>
                  <a:pt x="85" y="0"/>
                </a:lnTo>
                <a:lnTo>
                  <a:pt x="89" y="0"/>
                </a:ln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1" y="0"/>
                </a:lnTo>
                <a:lnTo>
                  <a:pt x="104" y="0"/>
                </a:lnTo>
                <a:lnTo>
                  <a:pt x="108" y="0"/>
                </a:lnTo>
                <a:lnTo>
                  <a:pt x="111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3" y="0"/>
                </a:lnTo>
                <a:lnTo>
                  <a:pt x="136" y="0"/>
                </a:lnTo>
                <a:lnTo>
                  <a:pt x="139" y="0"/>
                </a:lnTo>
                <a:lnTo>
                  <a:pt x="142" y="0"/>
                </a:lnTo>
                <a:lnTo>
                  <a:pt x="146" y="0"/>
                </a:lnTo>
                <a:lnTo>
                  <a:pt x="149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5" y="0"/>
                </a:lnTo>
                <a:lnTo>
                  <a:pt x="168" y="0"/>
                </a:lnTo>
                <a:lnTo>
                  <a:pt x="171" y="0"/>
                </a:lnTo>
                <a:lnTo>
                  <a:pt x="174" y="0"/>
                </a:lnTo>
                <a:lnTo>
                  <a:pt x="177" y="0"/>
                </a:lnTo>
                <a:lnTo>
                  <a:pt x="181" y="0"/>
                </a:lnTo>
                <a:lnTo>
                  <a:pt x="184" y="0"/>
                </a:lnTo>
                <a:lnTo>
                  <a:pt x="187" y="0"/>
                </a:lnTo>
                <a:lnTo>
                  <a:pt x="190" y="0"/>
                </a:lnTo>
                <a:lnTo>
                  <a:pt x="193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6" y="0"/>
                </a:lnTo>
                <a:lnTo>
                  <a:pt x="209" y="0"/>
                </a:lnTo>
                <a:lnTo>
                  <a:pt x="212" y="0"/>
                </a:lnTo>
                <a:lnTo>
                  <a:pt x="215" y="0"/>
                </a:lnTo>
                <a:lnTo>
                  <a:pt x="219" y="0"/>
                </a:lnTo>
                <a:lnTo>
                  <a:pt x="222" y="0"/>
                </a:lnTo>
                <a:lnTo>
                  <a:pt x="225" y="0"/>
                </a:lnTo>
                <a:lnTo>
                  <a:pt x="228" y="0"/>
                </a:lnTo>
                <a:lnTo>
                  <a:pt x="231" y="0"/>
                </a:lnTo>
                <a:lnTo>
                  <a:pt x="234" y="0"/>
                </a:lnTo>
                <a:lnTo>
                  <a:pt x="238" y="0"/>
                </a:lnTo>
                <a:lnTo>
                  <a:pt x="241" y="0"/>
                </a:lnTo>
                <a:lnTo>
                  <a:pt x="244" y="0"/>
                </a:lnTo>
                <a:lnTo>
                  <a:pt x="247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0" y="0"/>
                </a:lnTo>
                <a:lnTo>
                  <a:pt x="263" y="0"/>
                </a:lnTo>
                <a:lnTo>
                  <a:pt x="266" y="0"/>
                </a:lnTo>
                <a:lnTo>
                  <a:pt x="269" y="0"/>
                </a:lnTo>
                <a:lnTo>
                  <a:pt x="272" y="0"/>
                </a:lnTo>
                <a:lnTo>
                  <a:pt x="276" y="0"/>
                </a:lnTo>
                <a:lnTo>
                  <a:pt x="279" y="0"/>
                </a:lnTo>
                <a:lnTo>
                  <a:pt x="282" y="0"/>
                </a:lnTo>
                <a:lnTo>
                  <a:pt x="285" y="0"/>
                </a:lnTo>
                <a:lnTo>
                  <a:pt x="288" y="0"/>
                </a:lnTo>
                <a:lnTo>
                  <a:pt x="292" y="0"/>
                </a:lnTo>
                <a:lnTo>
                  <a:pt x="295" y="0"/>
                </a:lnTo>
                <a:lnTo>
                  <a:pt x="298" y="0"/>
                </a:lnTo>
                <a:lnTo>
                  <a:pt x="301" y="0"/>
                </a:lnTo>
                <a:lnTo>
                  <a:pt x="304" y="0"/>
                </a:lnTo>
                <a:lnTo>
                  <a:pt x="307" y="0"/>
                </a:lnTo>
                <a:lnTo>
                  <a:pt x="311" y="0"/>
                </a:lnTo>
                <a:lnTo>
                  <a:pt x="314" y="0"/>
                </a:lnTo>
                <a:lnTo>
                  <a:pt x="317" y="0"/>
                </a:lnTo>
                <a:lnTo>
                  <a:pt x="320" y="0"/>
                </a:lnTo>
                <a:lnTo>
                  <a:pt x="323" y="0"/>
                </a:lnTo>
                <a:lnTo>
                  <a:pt x="326" y="0"/>
                </a:lnTo>
                <a:lnTo>
                  <a:pt x="330" y="0"/>
                </a:lnTo>
                <a:lnTo>
                  <a:pt x="333" y="0"/>
                </a:lnTo>
                <a:lnTo>
                  <a:pt x="336" y="0"/>
                </a:lnTo>
                <a:lnTo>
                  <a:pt x="339" y="0"/>
                </a:lnTo>
                <a:lnTo>
                  <a:pt x="342" y="0"/>
                </a:lnTo>
                <a:lnTo>
                  <a:pt x="345" y="0"/>
                </a:lnTo>
                <a:lnTo>
                  <a:pt x="349" y="0"/>
                </a:lnTo>
                <a:lnTo>
                  <a:pt x="352" y="0"/>
                </a:lnTo>
                <a:lnTo>
                  <a:pt x="355" y="0"/>
                </a:lnTo>
                <a:lnTo>
                  <a:pt x="358" y="0"/>
                </a:lnTo>
                <a:lnTo>
                  <a:pt x="361" y="0"/>
                </a:lnTo>
                <a:lnTo>
                  <a:pt x="364" y="0"/>
                </a:lnTo>
                <a:lnTo>
                  <a:pt x="368" y="0"/>
                </a:lnTo>
                <a:lnTo>
                  <a:pt x="371" y="0"/>
                </a:lnTo>
                <a:lnTo>
                  <a:pt x="374" y="0"/>
                </a:lnTo>
                <a:lnTo>
                  <a:pt x="377" y="0"/>
                </a:lnTo>
                <a:lnTo>
                  <a:pt x="380" y="0"/>
                </a:lnTo>
                <a:lnTo>
                  <a:pt x="383" y="0"/>
                </a:lnTo>
                <a:lnTo>
                  <a:pt x="387" y="0"/>
                </a:lnTo>
                <a:lnTo>
                  <a:pt x="390" y="0"/>
                </a:lnTo>
                <a:lnTo>
                  <a:pt x="393" y="0"/>
                </a:lnTo>
                <a:lnTo>
                  <a:pt x="396" y="0"/>
                </a:lnTo>
                <a:lnTo>
                  <a:pt x="399" y="0"/>
                </a:lnTo>
                <a:lnTo>
                  <a:pt x="403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554880" y="1371600"/>
            <a:ext cx="637920" cy="1440"/>
          </a:xfrm>
          <a:custGeom>
            <a:avLst/>
            <a:gdLst/>
            <a:ahLst/>
            <a:rect l="l" t="t" r="r" b="b"/>
            <a:pathLst>
              <a:path w="402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79" y="0"/>
                </a:lnTo>
                <a:lnTo>
                  <a:pt x="82" y="0"/>
                </a:lnTo>
                <a:lnTo>
                  <a:pt x="85" y="0"/>
                </a:lnTo>
                <a:lnTo>
                  <a:pt x="88" y="0"/>
                </a:lnTo>
                <a:lnTo>
                  <a:pt x="91" y="0"/>
                </a:lnTo>
                <a:lnTo>
                  <a:pt x="95" y="0"/>
                </a:lnTo>
                <a:lnTo>
                  <a:pt x="98" y="0"/>
                </a:lnTo>
                <a:lnTo>
                  <a:pt x="101" y="0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lnTo>
                  <a:pt x="136" y="0"/>
                </a:lnTo>
                <a:lnTo>
                  <a:pt x="139" y="0"/>
                </a:lnTo>
                <a:lnTo>
                  <a:pt x="142" y="0"/>
                </a:lnTo>
                <a:lnTo>
                  <a:pt x="145" y="0"/>
                </a:lnTo>
                <a:lnTo>
                  <a:pt x="149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4" y="0"/>
                </a:lnTo>
                <a:lnTo>
                  <a:pt x="168" y="0"/>
                </a:lnTo>
                <a:lnTo>
                  <a:pt x="171" y="0"/>
                </a:lnTo>
                <a:lnTo>
                  <a:pt x="174" y="0"/>
                </a:lnTo>
                <a:lnTo>
                  <a:pt x="177" y="0"/>
                </a:lnTo>
                <a:lnTo>
                  <a:pt x="180" y="0"/>
                </a:lnTo>
                <a:lnTo>
                  <a:pt x="183" y="0"/>
                </a:lnTo>
                <a:lnTo>
                  <a:pt x="187" y="0"/>
                </a:lnTo>
                <a:lnTo>
                  <a:pt x="190" y="0"/>
                </a:lnTo>
                <a:lnTo>
                  <a:pt x="193" y="0"/>
                </a:lnTo>
                <a:lnTo>
                  <a:pt x="196" y="0"/>
                </a:lnTo>
                <a:lnTo>
                  <a:pt x="199" y="0"/>
                </a:lnTo>
                <a:lnTo>
                  <a:pt x="202" y="0"/>
                </a:lnTo>
                <a:lnTo>
                  <a:pt x="206" y="0"/>
                </a:lnTo>
                <a:lnTo>
                  <a:pt x="209" y="0"/>
                </a:lnTo>
                <a:lnTo>
                  <a:pt x="212" y="0"/>
                </a:lnTo>
                <a:lnTo>
                  <a:pt x="215" y="0"/>
                </a:lnTo>
                <a:lnTo>
                  <a:pt x="218" y="0"/>
                </a:lnTo>
                <a:lnTo>
                  <a:pt x="222" y="0"/>
                </a:lnTo>
                <a:lnTo>
                  <a:pt x="225" y="0"/>
                </a:lnTo>
                <a:lnTo>
                  <a:pt x="228" y="0"/>
                </a:lnTo>
                <a:lnTo>
                  <a:pt x="231" y="0"/>
                </a:lnTo>
                <a:lnTo>
                  <a:pt x="234" y="0"/>
                </a:lnTo>
                <a:lnTo>
                  <a:pt x="237" y="0"/>
                </a:lnTo>
                <a:lnTo>
                  <a:pt x="241" y="0"/>
                </a:lnTo>
                <a:lnTo>
                  <a:pt x="244" y="0"/>
                </a:lnTo>
                <a:lnTo>
                  <a:pt x="247" y="0"/>
                </a:lnTo>
                <a:lnTo>
                  <a:pt x="250" y="0"/>
                </a:lnTo>
                <a:lnTo>
                  <a:pt x="253" y="0"/>
                </a:lnTo>
                <a:lnTo>
                  <a:pt x="256" y="0"/>
                </a:lnTo>
                <a:lnTo>
                  <a:pt x="260" y="0"/>
                </a:lnTo>
                <a:lnTo>
                  <a:pt x="263" y="0"/>
                </a:lnTo>
                <a:lnTo>
                  <a:pt x="266" y="0"/>
                </a:lnTo>
                <a:lnTo>
                  <a:pt x="269" y="0"/>
                </a:lnTo>
                <a:lnTo>
                  <a:pt x="272" y="0"/>
                </a:lnTo>
                <a:lnTo>
                  <a:pt x="275" y="0"/>
                </a:lnTo>
                <a:lnTo>
                  <a:pt x="279" y="0"/>
                </a:lnTo>
                <a:lnTo>
                  <a:pt x="282" y="0"/>
                </a:lnTo>
                <a:lnTo>
                  <a:pt x="285" y="0"/>
                </a:lnTo>
                <a:lnTo>
                  <a:pt x="288" y="0"/>
                </a:lnTo>
                <a:lnTo>
                  <a:pt x="291" y="0"/>
                </a:lnTo>
                <a:lnTo>
                  <a:pt x="294" y="0"/>
                </a:lnTo>
                <a:lnTo>
                  <a:pt x="298" y="0"/>
                </a:lnTo>
                <a:lnTo>
                  <a:pt x="301" y="0"/>
                </a:lnTo>
                <a:lnTo>
                  <a:pt x="304" y="0"/>
                </a:lnTo>
                <a:lnTo>
                  <a:pt x="307" y="0"/>
                </a:lnTo>
                <a:lnTo>
                  <a:pt x="310" y="0"/>
                </a:lnTo>
                <a:lnTo>
                  <a:pt x="313" y="0"/>
                </a:lnTo>
                <a:lnTo>
                  <a:pt x="317" y="0"/>
                </a:lnTo>
                <a:lnTo>
                  <a:pt x="320" y="0"/>
                </a:lnTo>
                <a:lnTo>
                  <a:pt x="323" y="0"/>
                </a:lnTo>
                <a:lnTo>
                  <a:pt x="326" y="0"/>
                </a:lnTo>
                <a:lnTo>
                  <a:pt x="329" y="0"/>
                </a:lnTo>
                <a:lnTo>
                  <a:pt x="333" y="0"/>
                </a:lnTo>
                <a:lnTo>
                  <a:pt x="336" y="0"/>
                </a:lnTo>
                <a:lnTo>
                  <a:pt x="339" y="0"/>
                </a:lnTo>
                <a:lnTo>
                  <a:pt x="342" y="0"/>
                </a:lnTo>
                <a:lnTo>
                  <a:pt x="345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8" y="0"/>
                </a:lnTo>
                <a:lnTo>
                  <a:pt x="361" y="0"/>
                </a:lnTo>
                <a:lnTo>
                  <a:pt x="364" y="0"/>
                </a:lnTo>
                <a:lnTo>
                  <a:pt x="367" y="0"/>
                </a:lnTo>
                <a:lnTo>
                  <a:pt x="371" y="0"/>
                </a:lnTo>
                <a:lnTo>
                  <a:pt x="374" y="0"/>
                </a:lnTo>
                <a:lnTo>
                  <a:pt x="377" y="0"/>
                </a:lnTo>
                <a:lnTo>
                  <a:pt x="380" y="0"/>
                </a:lnTo>
                <a:lnTo>
                  <a:pt x="383" y="0"/>
                </a:lnTo>
                <a:lnTo>
                  <a:pt x="386" y="0"/>
                </a:lnTo>
                <a:lnTo>
                  <a:pt x="390" y="0"/>
                </a:lnTo>
                <a:lnTo>
                  <a:pt x="393" y="0"/>
                </a:lnTo>
                <a:lnTo>
                  <a:pt x="396" y="0"/>
                </a:lnTo>
                <a:lnTo>
                  <a:pt x="399" y="0"/>
                </a:lnTo>
                <a:lnTo>
                  <a:pt x="40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92800" y="1371600"/>
            <a:ext cx="312840" cy="1440"/>
          </a:xfrm>
          <a:custGeom>
            <a:avLst/>
            <a:gdLst/>
            <a:ahLst/>
            <a:rect l="l" t="t" r="r" b="b"/>
            <a:pathLst>
              <a:path w="197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  <a:lnTo>
                  <a:pt x="67" y="0"/>
                </a:lnTo>
                <a:lnTo>
                  <a:pt x="70" y="0"/>
                </a:lnTo>
                <a:lnTo>
                  <a:pt x="73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lnTo>
                  <a:pt x="89" y="0"/>
                </a:lnTo>
                <a:lnTo>
                  <a:pt x="92" y="0"/>
                </a:lnTo>
                <a:lnTo>
                  <a:pt x="95" y="0"/>
                </a:lnTo>
                <a:lnTo>
                  <a:pt x="99" y="0"/>
                </a:lnTo>
                <a:lnTo>
                  <a:pt x="102" y="0"/>
                </a:lnTo>
                <a:lnTo>
                  <a:pt x="105" y="0"/>
                </a:lnTo>
                <a:lnTo>
                  <a:pt x="108" y="0"/>
                </a:lnTo>
                <a:lnTo>
                  <a:pt x="111" y="0"/>
                </a:lnTo>
                <a:lnTo>
                  <a:pt x="114" y="0"/>
                </a:lnTo>
                <a:lnTo>
                  <a:pt x="118" y="0"/>
                </a:lnTo>
                <a:lnTo>
                  <a:pt x="121" y="0"/>
                </a:lnTo>
                <a:lnTo>
                  <a:pt x="124" y="0"/>
                </a:lnTo>
                <a:lnTo>
                  <a:pt x="127" y="0"/>
                </a:lnTo>
                <a:lnTo>
                  <a:pt x="130" y="0"/>
                </a:lnTo>
                <a:lnTo>
                  <a:pt x="133" y="0"/>
                </a:lnTo>
                <a:lnTo>
                  <a:pt x="137" y="0"/>
                </a:lnTo>
                <a:lnTo>
                  <a:pt x="140" y="0"/>
                </a:lnTo>
                <a:lnTo>
                  <a:pt x="143" y="0"/>
                </a:lnTo>
                <a:lnTo>
                  <a:pt x="146" y="0"/>
                </a:lnTo>
                <a:lnTo>
                  <a:pt x="149" y="0"/>
                </a:lnTo>
                <a:lnTo>
                  <a:pt x="153" y="0"/>
                </a:lnTo>
                <a:lnTo>
                  <a:pt x="156" y="0"/>
                </a:lnTo>
                <a:lnTo>
                  <a:pt x="159" y="0"/>
                </a:lnTo>
                <a:lnTo>
                  <a:pt x="162" y="0"/>
                </a:lnTo>
                <a:lnTo>
                  <a:pt x="165" y="0"/>
                </a:lnTo>
                <a:lnTo>
                  <a:pt x="168" y="0"/>
                </a:lnTo>
                <a:lnTo>
                  <a:pt x="172" y="0"/>
                </a:lnTo>
                <a:lnTo>
                  <a:pt x="175" y="0"/>
                </a:lnTo>
                <a:lnTo>
                  <a:pt x="178" y="0"/>
                </a:lnTo>
                <a:lnTo>
                  <a:pt x="181" y="0"/>
                </a:lnTo>
                <a:lnTo>
                  <a:pt x="184" y="0"/>
                </a:lnTo>
                <a:lnTo>
                  <a:pt x="187" y="0"/>
                </a:lnTo>
                <a:lnTo>
                  <a:pt x="191" y="0"/>
                </a:lnTo>
                <a:lnTo>
                  <a:pt x="194" y="0"/>
                </a:lnTo>
                <a:lnTo>
                  <a:pt x="19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380880" y="5335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 = pulse_ref(1,5,5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2 = FourierT(y, 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100), abs(yf2(1:10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666880" y="685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5400" y="3394080"/>
            <a:ext cx="243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at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band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ly 0 - 2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65800" y="638280"/>
            <a:ext cx="2539800" cy="1939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65800" y="638280"/>
            <a:ext cx="25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65800" y="638280"/>
            <a:ext cx="2539800" cy="19396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465800" y="638280"/>
            <a:ext cx="1440" cy="193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65800" y="2577960"/>
            <a:ext cx="253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465800" y="638280"/>
            <a:ext cx="1440" cy="193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446580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6580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4780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471816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71816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63800" y="25938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4968720" y="25491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968720" y="6382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95108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22612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22612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73200" y="25938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7848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7848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6084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735520" y="25491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735520" y="6382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682960" y="25938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98644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98644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880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6238800" y="25491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238800" y="6382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186240" y="25938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6496200" y="25491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496200" y="6382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47820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746760" y="25491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746760" y="6382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694200" y="25938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7005600" y="254916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005600" y="6382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987960" y="2593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65800" y="25779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6975360" y="257796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77960" y="253224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65800" y="23335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6975360" y="23335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12440" y="228924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65800" y="2090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6975360" y="20908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7960" y="204480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465800" y="18464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6975360" y="18464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312440" y="180036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465800" y="16081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6975360" y="16081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401720" y="15620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65800" y="13636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6975360" y="13636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36560" y="131904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465800" y="11206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6975360" y="11206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01720" y="10746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465800" y="8762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6975360" y="8762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36560" y="8319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65800" y="638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6975360" y="6382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401720" y="593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465800" y="638280"/>
            <a:ext cx="25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465800" y="638280"/>
            <a:ext cx="2539800" cy="19396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465800" y="638280"/>
            <a:ext cx="1440" cy="1939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465800" y="728640"/>
            <a:ext cx="655560" cy="1843200"/>
          </a:xfrm>
          <a:custGeom>
            <a:avLst/>
            <a:gdLst/>
            <a:ahLst/>
            <a:rect l="l" t="t" r="r" b="b"/>
            <a:pathLst>
              <a:path w="413" h="1161">
                <a:moveTo>
                  <a:pt x="4" y="550"/>
                </a:moveTo>
                <a:lnTo>
                  <a:pt x="0" y="550"/>
                </a:lnTo>
                <a:lnTo>
                  <a:pt x="4" y="550"/>
                </a:lnTo>
                <a:lnTo>
                  <a:pt x="7" y="550"/>
                </a:lnTo>
                <a:lnTo>
                  <a:pt x="11" y="550"/>
                </a:lnTo>
                <a:lnTo>
                  <a:pt x="15" y="550"/>
                </a:lnTo>
                <a:lnTo>
                  <a:pt x="18" y="558"/>
                </a:lnTo>
                <a:lnTo>
                  <a:pt x="18" y="568"/>
                </a:lnTo>
                <a:lnTo>
                  <a:pt x="22" y="579"/>
                </a:lnTo>
                <a:lnTo>
                  <a:pt x="26" y="593"/>
                </a:lnTo>
                <a:lnTo>
                  <a:pt x="30" y="608"/>
                </a:lnTo>
                <a:lnTo>
                  <a:pt x="33" y="618"/>
                </a:lnTo>
                <a:lnTo>
                  <a:pt x="37" y="618"/>
                </a:lnTo>
                <a:lnTo>
                  <a:pt x="41" y="611"/>
                </a:lnTo>
                <a:lnTo>
                  <a:pt x="41" y="593"/>
                </a:lnTo>
                <a:lnTo>
                  <a:pt x="44" y="565"/>
                </a:lnTo>
                <a:lnTo>
                  <a:pt x="48" y="525"/>
                </a:lnTo>
                <a:lnTo>
                  <a:pt x="52" y="479"/>
                </a:lnTo>
                <a:lnTo>
                  <a:pt x="55" y="429"/>
                </a:lnTo>
                <a:lnTo>
                  <a:pt x="59" y="386"/>
                </a:lnTo>
                <a:lnTo>
                  <a:pt x="59" y="350"/>
                </a:lnTo>
                <a:lnTo>
                  <a:pt x="63" y="336"/>
                </a:lnTo>
                <a:lnTo>
                  <a:pt x="66" y="340"/>
                </a:lnTo>
                <a:lnTo>
                  <a:pt x="70" y="372"/>
                </a:lnTo>
                <a:lnTo>
                  <a:pt x="74" y="425"/>
                </a:lnTo>
                <a:lnTo>
                  <a:pt x="77" y="504"/>
                </a:lnTo>
                <a:lnTo>
                  <a:pt x="81" y="597"/>
                </a:lnTo>
                <a:lnTo>
                  <a:pt x="81" y="697"/>
                </a:lnTo>
                <a:lnTo>
                  <a:pt x="85" y="793"/>
                </a:lnTo>
                <a:lnTo>
                  <a:pt x="89" y="875"/>
                </a:lnTo>
                <a:lnTo>
                  <a:pt x="92" y="933"/>
                </a:lnTo>
                <a:lnTo>
                  <a:pt x="96" y="954"/>
                </a:lnTo>
                <a:lnTo>
                  <a:pt x="100" y="940"/>
                </a:lnTo>
                <a:lnTo>
                  <a:pt x="103" y="883"/>
                </a:lnTo>
                <a:lnTo>
                  <a:pt x="103" y="790"/>
                </a:lnTo>
                <a:lnTo>
                  <a:pt x="107" y="665"/>
                </a:lnTo>
                <a:lnTo>
                  <a:pt x="111" y="518"/>
                </a:lnTo>
                <a:lnTo>
                  <a:pt x="114" y="368"/>
                </a:lnTo>
                <a:lnTo>
                  <a:pt x="118" y="225"/>
                </a:lnTo>
                <a:lnTo>
                  <a:pt x="122" y="108"/>
                </a:lnTo>
                <a:lnTo>
                  <a:pt x="122" y="29"/>
                </a:lnTo>
                <a:lnTo>
                  <a:pt x="125" y="0"/>
                </a:lnTo>
                <a:lnTo>
                  <a:pt x="129" y="22"/>
                </a:lnTo>
                <a:lnTo>
                  <a:pt x="133" y="97"/>
                </a:lnTo>
                <a:lnTo>
                  <a:pt x="136" y="218"/>
                </a:lnTo>
                <a:lnTo>
                  <a:pt x="140" y="375"/>
                </a:lnTo>
                <a:lnTo>
                  <a:pt x="144" y="554"/>
                </a:lnTo>
                <a:lnTo>
                  <a:pt x="144" y="736"/>
                </a:lnTo>
                <a:lnTo>
                  <a:pt x="147" y="904"/>
                </a:lnTo>
                <a:lnTo>
                  <a:pt x="151" y="1040"/>
                </a:lnTo>
                <a:lnTo>
                  <a:pt x="155" y="1129"/>
                </a:lnTo>
                <a:lnTo>
                  <a:pt x="159" y="1161"/>
                </a:lnTo>
                <a:lnTo>
                  <a:pt x="162" y="1140"/>
                </a:lnTo>
                <a:lnTo>
                  <a:pt x="166" y="1061"/>
                </a:lnTo>
                <a:lnTo>
                  <a:pt x="166" y="933"/>
                </a:lnTo>
                <a:lnTo>
                  <a:pt x="170" y="772"/>
                </a:lnTo>
                <a:lnTo>
                  <a:pt x="173" y="590"/>
                </a:lnTo>
                <a:lnTo>
                  <a:pt x="177" y="411"/>
                </a:lnTo>
                <a:lnTo>
                  <a:pt x="181" y="247"/>
                </a:lnTo>
                <a:lnTo>
                  <a:pt x="184" y="118"/>
                </a:lnTo>
                <a:lnTo>
                  <a:pt x="184" y="33"/>
                </a:lnTo>
                <a:lnTo>
                  <a:pt x="188" y="0"/>
                </a:lnTo>
                <a:lnTo>
                  <a:pt x="192" y="18"/>
                </a:lnTo>
                <a:lnTo>
                  <a:pt x="195" y="90"/>
                </a:lnTo>
                <a:lnTo>
                  <a:pt x="199" y="200"/>
                </a:lnTo>
                <a:lnTo>
                  <a:pt x="203" y="336"/>
                </a:lnTo>
                <a:lnTo>
                  <a:pt x="206" y="486"/>
                </a:lnTo>
                <a:lnTo>
                  <a:pt x="206" y="636"/>
                </a:lnTo>
                <a:lnTo>
                  <a:pt x="210" y="765"/>
                </a:lnTo>
                <a:lnTo>
                  <a:pt x="214" y="868"/>
                </a:lnTo>
                <a:lnTo>
                  <a:pt x="218" y="933"/>
                </a:lnTo>
                <a:lnTo>
                  <a:pt x="221" y="958"/>
                </a:lnTo>
                <a:lnTo>
                  <a:pt x="225" y="940"/>
                </a:lnTo>
                <a:lnTo>
                  <a:pt x="229" y="890"/>
                </a:lnTo>
                <a:lnTo>
                  <a:pt x="229" y="811"/>
                </a:lnTo>
                <a:lnTo>
                  <a:pt x="232" y="715"/>
                </a:lnTo>
                <a:lnTo>
                  <a:pt x="236" y="615"/>
                </a:lnTo>
                <a:lnTo>
                  <a:pt x="240" y="522"/>
                </a:lnTo>
                <a:lnTo>
                  <a:pt x="243" y="440"/>
                </a:lnTo>
                <a:lnTo>
                  <a:pt x="247" y="379"/>
                </a:lnTo>
                <a:lnTo>
                  <a:pt x="247" y="343"/>
                </a:lnTo>
                <a:lnTo>
                  <a:pt x="251" y="333"/>
                </a:lnTo>
                <a:lnTo>
                  <a:pt x="254" y="347"/>
                </a:lnTo>
                <a:lnTo>
                  <a:pt x="258" y="375"/>
                </a:lnTo>
                <a:lnTo>
                  <a:pt x="262" y="418"/>
                </a:lnTo>
                <a:lnTo>
                  <a:pt x="265" y="468"/>
                </a:lnTo>
                <a:lnTo>
                  <a:pt x="269" y="515"/>
                </a:lnTo>
                <a:lnTo>
                  <a:pt x="269" y="558"/>
                </a:lnTo>
                <a:lnTo>
                  <a:pt x="273" y="590"/>
                </a:lnTo>
                <a:lnTo>
                  <a:pt x="276" y="611"/>
                </a:lnTo>
                <a:lnTo>
                  <a:pt x="280" y="618"/>
                </a:lnTo>
                <a:lnTo>
                  <a:pt x="284" y="618"/>
                </a:lnTo>
                <a:lnTo>
                  <a:pt x="288" y="611"/>
                </a:lnTo>
                <a:lnTo>
                  <a:pt x="288" y="597"/>
                </a:lnTo>
                <a:lnTo>
                  <a:pt x="291" y="583"/>
                </a:lnTo>
                <a:lnTo>
                  <a:pt x="295" y="568"/>
                </a:lnTo>
                <a:lnTo>
                  <a:pt x="299" y="561"/>
                </a:lnTo>
                <a:lnTo>
                  <a:pt x="302" y="554"/>
                </a:lnTo>
                <a:lnTo>
                  <a:pt x="306" y="550"/>
                </a:lnTo>
                <a:lnTo>
                  <a:pt x="310" y="550"/>
                </a:lnTo>
                <a:lnTo>
                  <a:pt x="313" y="550"/>
                </a:lnTo>
                <a:lnTo>
                  <a:pt x="317" y="550"/>
                </a:lnTo>
                <a:lnTo>
                  <a:pt x="321" y="554"/>
                </a:lnTo>
                <a:lnTo>
                  <a:pt x="324" y="554"/>
                </a:lnTo>
                <a:lnTo>
                  <a:pt x="328" y="554"/>
                </a:lnTo>
                <a:lnTo>
                  <a:pt x="332" y="554"/>
                </a:lnTo>
                <a:lnTo>
                  <a:pt x="335" y="554"/>
                </a:lnTo>
                <a:lnTo>
                  <a:pt x="339" y="554"/>
                </a:lnTo>
                <a:lnTo>
                  <a:pt x="343" y="554"/>
                </a:lnTo>
                <a:lnTo>
                  <a:pt x="347" y="554"/>
                </a:lnTo>
                <a:lnTo>
                  <a:pt x="350" y="554"/>
                </a:lnTo>
                <a:lnTo>
                  <a:pt x="354" y="554"/>
                </a:lnTo>
                <a:lnTo>
                  <a:pt x="358" y="554"/>
                </a:lnTo>
                <a:lnTo>
                  <a:pt x="361" y="554"/>
                </a:lnTo>
                <a:lnTo>
                  <a:pt x="365" y="554"/>
                </a:lnTo>
                <a:lnTo>
                  <a:pt x="369" y="554"/>
                </a:lnTo>
                <a:lnTo>
                  <a:pt x="372" y="554"/>
                </a:lnTo>
                <a:lnTo>
                  <a:pt x="376" y="554"/>
                </a:lnTo>
                <a:lnTo>
                  <a:pt x="380" y="554"/>
                </a:lnTo>
                <a:lnTo>
                  <a:pt x="383" y="554"/>
                </a:lnTo>
                <a:lnTo>
                  <a:pt x="387" y="554"/>
                </a:lnTo>
                <a:lnTo>
                  <a:pt x="391" y="554"/>
                </a:lnTo>
                <a:lnTo>
                  <a:pt x="394" y="554"/>
                </a:lnTo>
                <a:lnTo>
                  <a:pt x="398" y="554"/>
                </a:lnTo>
                <a:lnTo>
                  <a:pt x="402" y="554"/>
                </a:lnTo>
                <a:lnTo>
                  <a:pt x="405" y="554"/>
                </a:lnTo>
                <a:lnTo>
                  <a:pt x="409" y="554"/>
                </a:lnTo>
                <a:lnTo>
                  <a:pt x="413" y="55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121360" y="1608120"/>
            <a:ext cx="743040" cy="1440"/>
          </a:xfrm>
          <a:custGeom>
            <a:avLst/>
            <a:gdLst/>
            <a:ahLst/>
            <a:rect l="l" t="t" r="r" b="b"/>
            <a:pathLst>
              <a:path w="468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8" y="0"/>
                </a:lnTo>
                <a:lnTo>
                  <a:pt x="51" y="0"/>
                </a:lnTo>
                <a:lnTo>
                  <a:pt x="55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99" y="0"/>
                </a:lnTo>
                <a:lnTo>
                  <a:pt x="103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8" y="0"/>
                </a:lnTo>
                <a:lnTo>
                  <a:pt x="121" y="0"/>
                </a:lnTo>
                <a:lnTo>
                  <a:pt x="125" y="0"/>
                </a:lnTo>
                <a:lnTo>
                  <a:pt x="129" y="0"/>
                </a:lnTo>
                <a:lnTo>
                  <a:pt x="133" y="0"/>
                </a:lnTo>
                <a:lnTo>
                  <a:pt x="136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69" y="0"/>
                </a:lnTo>
                <a:lnTo>
                  <a:pt x="173" y="0"/>
                </a:lnTo>
                <a:lnTo>
                  <a:pt x="177" y="0"/>
                </a:lnTo>
                <a:lnTo>
                  <a:pt x="180" y="0"/>
                </a:lnTo>
                <a:lnTo>
                  <a:pt x="184" y="0"/>
                </a:lnTo>
                <a:lnTo>
                  <a:pt x="188" y="0"/>
                </a:lnTo>
                <a:lnTo>
                  <a:pt x="192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6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5" y="0"/>
                </a:lnTo>
                <a:lnTo>
                  <a:pt x="228" y="0"/>
                </a:lnTo>
                <a:lnTo>
                  <a:pt x="232" y="0"/>
                </a:lnTo>
                <a:lnTo>
                  <a:pt x="236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0" y="0"/>
                </a:lnTo>
                <a:lnTo>
                  <a:pt x="254" y="0"/>
                </a:lnTo>
                <a:lnTo>
                  <a:pt x="258" y="0"/>
                </a:lnTo>
                <a:lnTo>
                  <a:pt x="262" y="0"/>
                </a:lnTo>
                <a:lnTo>
                  <a:pt x="265" y="0"/>
                </a:lnTo>
                <a:lnTo>
                  <a:pt x="269" y="0"/>
                </a:lnTo>
                <a:lnTo>
                  <a:pt x="273" y="0"/>
                </a:lnTo>
                <a:lnTo>
                  <a:pt x="276" y="0"/>
                </a:lnTo>
                <a:lnTo>
                  <a:pt x="280" y="0"/>
                </a:lnTo>
                <a:lnTo>
                  <a:pt x="284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298" y="0"/>
                </a:lnTo>
                <a:lnTo>
                  <a:pt x="302" y="0"/>
                </a:lnTo>
                <a:lnTo>
                  <a:pt x="306" y="0"/>
                </a:lnTo>
                <a:lnTo>
                  <a:pt x="309" y="0"/>
                </a:lnTo>
                <a:lnTo>
                  <a:pt x="313" y="0"/>
                </a:lnTo>
                <a:lnTo>
                  <a:pt x="317" y="0"/>
                </a:lnTo>
                <a:lnTo>
                  <a:pt x="321" y="0"/>
                </a:lnTo>
                <a:lnTo>
                  <a:pt x="324" y="0"/>
                </a:lnTo>
                <a:lnTo>
                  <a:pt x="328" y="0"/>
                </a:lnTo>
                <a:lnTo>
                  <a:pt x="332" y="0"/>
                </a:lnTo>
                <a:lnTo>
                  <a:pt x="335" y="0"/>
                </a:lnTo>
                <a:lnTo>
                  <a:pt x="339" y="0"/>
                </a:lnTo>
                <a:lnTo>
                  <a:pt x="343" y="0"/>
                </a:lnTo>
                <a:lnTo>
                  <a:pt x="346" y="0"/>
                </a:lnTo>
                <a:lnTo>
                  <a:pt x="350" y="0"/>
                </a:lnTo>
                <a:lnTo>
                  <a:pt x="354" y="0"/>
                </a:lnTo>
                <a:lnTo>
                  <a:pt x="357" y="0"/>
                </a:lnTo>
                <a:lnTo>
                  <a:pt x="361" y="0"/>
                </a:lnTo>
                <a:lnTo>
                  <a:pt x="365" y="0"/>
                </a:lnTo>
                <a:lnTo>
                  <a:pt x="368" y="0"/>
                </a:lnTo>
                <a:lnTo>
                  <a:pt x="372" y="0"/>
                </a:lnTo>
                <a:lnTo>
                  <a:pt x="376" y="0"/>
                </a:lnTo>
                <a:lnTo>
                  <a:pt x="379" y="0"/>
                </a:lnTo>
                <a:lnTo>
                  <a:pt x="383" y="0"/>
                </a:lnTo>
                <a:lnTo>
                  <a:pt x="387" y="0"/>
                </a:lnTo>
                <a:lnTo>
                  <a:pt x="391" y="0"/>
                </a:lnTo>
                <a:lnTo>
                  <a:pt x="394" y="0"/>
                </a:lnTo>
                <a:lnTo>
                  <a:pt x="398" y="0"/>
                </a:lnTo>
                <a:lnTo>
                  <a:pt x="402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6" y="0"/>
                </a:lnTo>
                <a:lnTo>
                  <a:pt x="420" y="0"/>
                </a:lnTo>
                <a:lnTo>
                  <a:pt x="424" y="0"/>
                </a:lnTo>
                <a:lnTo>
                  <a:pt x="427" y="0"/>
                </a:lnTo>
                <a:lnTo>
                  <a:pt x="431" y="0"/>
                </a:lnTo>
                <a:lnTo>
                  <a:pt x="435" y="0"/>
                </a:lnTo>
                <a:lnTo>
                  <a:pt x="438" y="0"/>
                </a:lnTo>
                <a:lnTo>
                  <a:pt x="442" y="0"/>
                </a:lnTo>
                <a:lnTo>
                  <a:pt x="446" y="0"/>
                </a:lnTo>
                <a:lnTo>
                  <a:pt x="450" y="0"/>
                </a:lnTo>
                <a:lnTo>
                  <a:pt x="453" y="0"/>
                </a:lnTo>
                <a:lnTo>
                  <a:pt x="457" y="0"/>
                </a:lnTo>
                <a:lnTo>
                  <a:pt x="461" y="0"/>
                </a:lnTo>
                <a:lnTo>
                  <a:pt x="464" y="0"/>
                </a:lnTo>
                <a:lnTo>
                  <a:pt x="4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864400" y="1608120"/>
            <a:ext cx="742680" cy="1440"/>
          </a:xfrm>
          <a:custGeom>
            <a:avLst/>
            <a:gdLst/>
            <a:ahLst/>
            <a:rect l="l" t="t" r="r" b="b"/>
            <a:pathLst>
              <a:path w="468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99" y="0"/>
                </a:lnTo>
                <a:lnTo>
                  <a:pt x="103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5" y="0"/>
                </a:lnTo>
                <a:lnTo>
                  <a:pt x="129" y="0"/>
                </a:lnTo>
                <a:lnTo>
                  <a:pt x="133" y="0"/>
                </a:lnTo>
                <a:lnTo>
                  <a:pt x="136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69" y="0"/>
                </a:lnTo>
                <a:lnTo>
                  <a:pt x="173" y="0"/>
                </a:lnTo>
                <a:lnTo>
                  <a:pt x="177" y="0"/>
                </a:lnTo>
                <a:lnTo>
                  <a:pt x="181" y="0"/>
                </a:lnTo>
                <a:lnTo>
                  <a:pt x="184" y="0"/>
                </a:lnTo>
                <a:lnTo>
                  <a:pt x="188" y="0"/>
                </a:lnTo>
                <a:lnTo>
                  <a:pt x="192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6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5" y="0"/>
                </a:lnTo>
                <a:lnTo>
                  <a:pt x="228" y="0"/>
                </a:lnTo>
                <a:lnTo>
                  <a:pt x="232" y="0"/>
                </a:lnTo>
                <a:lnTo>
                  <a:pt x="236" y="0"/>
                </a:lnTo>
                <a:lnTo>
                  <a:pt x="240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4" y="0"/>
                </a:lnTo>
                <a:lnTo>
                  <a:pt x="258" y="0"/>
                </a:lnTo>
                <a:lnTo>
                  <a:pt x="262" y="0"/>
                </a:lnTo>
                <a:lnTo>
                  <a:pt x="265" y="0"/>
                </a:lnTo>
                <a:lnTo>
                  <a:pt x="269" y="0"/>
                </a:lnTo>
                <a:lnTo>
                  <a:pt x="273" y="0"/>
                </a:lnTo>
                <a:lnTo>
                  <a:pt x="276" y="0"/>
                </a:lnTo>
                <a:lnTo>
                  <a:pt x="280" y="0"/>
                </a:lnTo>
                <a:lnTo>
                  <a:pt x="284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298" y="0"/>
                </a:lnTo>
                <a:lnTo>
                  <a:pt x="302" y="0"/>
                </a:lnTo>
                <a:lnTo>
                  <a:pt x="306" y="0"/>
                </a:lnTo>
                <a:lnTo>
                  <a:pt x="310" y="0"/>
                </a:lnTo>
                <a:lnTo>
                  <a:pt x="313" y="0"/>
                </a:lnTo>
                <a:lnTo>
                  <a:pt x="317" y="0"/>
                </a:lnTo>
                <a:lnTo>
                  <a:pt x="321" y="0"/>
                </a:lnTo>
                <a:lnTo>
                  <a:pt x="324" y="0"/>
                </a:lnTo>
                <a:lnTo>
                  <a:pt x="328" y="0"/>
                </a:lnTo>
                <a:lnTo>
                  <a:pt x="332" y="0"/>
                </a:lnTo>
                <a:lnTo>
                  <a:pt x="335" y="0"/>
                </a:lnTo>
                <a:lnTo>
                  <a:pt x="339" y="0"/>
                </a:lnTo>
                <a:lnTo>
                  <a:pt x="343" y="0"/>
                </a:lnTo>
                <a:lnTo>
                  <a:pt x="346" y="0"/>
                </a:lnTo>
                <a:lnTo>
                  <a:pt x="350" y="0"/>
                </a:lnTo>
                <a:lnTo>
                  <a:pt x="354" y="0"/>
                </a:lnTo>
                <a:lnTo>
                  <a:pt x="357" y="0"/>
                </a:lnTo>
                <a:lnTo>
                  <a:pt x="361" y="0"/>
                </a:lnTo>
                <a:lnTo>
                  <a:pt x="365" y="0"/>
                </a:lnTo>
                <a:lnTo>
                  <a:pt x="369" y="0"/>
                </a:lnTo>
                <a:lnTo>
                  <a:pt x="372" y="0"/>
                </a:lnTo>
                <a:lnTo>
                  <a:pt x="376" y="0"/>
                </a:lnTo>
                <a:lnTo>
                  <a:pt x="380" y="0"/>
                </a:lnTo>
                <a:lnTo>
                  <a:pt x="383" y="0"/>
                </a:lnTo>
                <a:lnTo>
                  <a:pt x="387" y="0"/>
                </a:lnTo>
                <a:lnTo>
                  <a:pt x="391" y="0"/>
                </a:lnTo>
                <a:lnTo>
                  <a:pt x="394" y="0"/>
                </a:lnTo>
                <a:lnTo>
                  <a:pt x="398" y="0"/>
                </a:lnTo>
                <a:lnTo>
                  <a:pt x="402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6" y="0"/>
                </a:lnTo>
                <a:lnTo>
                  <a:pt x="420" y="0"/>
                </a:lnTo>
                <a:lnTo>
                  <a:pt x="424" y="0"/>
                </a:lnTo>
                <a:lnTo>
                  <a:pt x="427" y="0"/>
                </a:lnTo>
                <a:lnTo>
                  <a:pt x="431" y="0"/>
                </a:lnTo>
                <a:lnTo>
                  <a:pt x="435" y="0"/>
                </a:lnTo>
                <a:lnTo>
                  <a:pt x="439" y="0"/>
                </a:lnTo>
                <a:lnTo>
                  <a:pt x="442" y="0"/>
                </a:lnTo>
                <a:lnTo>
                  <a:pt x="446" y="0"/>
                </a:lnTo>
                <a:lnTo>
                  <a:pt x="450" y="0"/>
                </a:lnTo>
                <a:lnTo>
                  <a:pt x="453" y="0"/>
                </a:lnTo>
                <a:lnTo>
                  <a:pt x="457" y="0"/>
                </a:lnTo>
                <a:lnTo>
                  <a:pt x="461" y="0"/>
                </a:lnTo>
                <a:lnTo>
                  <a:pt x="464" y="0"/>
                </a:lnTo>
                <a:lnTo>
                  <a:pt x="46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607080" y="1608120"/>
            <a:ext cx="398520" cy="1440"/>
          </a:xfrm>
          <a:custGeom>
            <a:avLst/>
            <a:gdLst/>
            <a:ahLst/>
            <a:rect l="l" t="t" r="r" b="b"/>
            <a:pathLst>
              <a:path w="251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6" y="0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3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5" y="0"/>
                </a:lnTo>
                <a:lnTo>
                  <a:pt x="129" y="0"/>
                </a:lnTo>
                <a:lnTo>
                  <a:pt x="133" y="0"/>
                </a:lnTo>
                <a:lnTo>
                  <a:pt x="136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9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3" y="0"/>
                </a:lnTo>
                <a:lnTo>
                  <a:pt x="177" y="0"/>
                </a:lnTo>
                <a:lnTo>
                  <a:pt x="181" y="0"/>
                </a:lnTo>
                <a:lnTo>
                  <a:pt x="184" y="0"/>
                </a:lnTo>
                <a:lnTo>
                  <a:pt x="188" y="0"/>
                </a:lnTo>
                <a:lnTo>
                  <a:pt x="192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6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5" y="0"/>
                </a:lnTo>
                <a:lnTo>
                  <a:pt x="229" y="0"/>
                </a:lnTo>
                <a:lnTo>
                  <a:pt x="232" y="0"/>
                </a:lnTo>
                <a:lnTo>
                  <a:pt x="236" y="0"/>
                </a:lnTo>
                <a:lnTo>
                  <a:pt x="240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4560" y="3044880"/>
            <a:ext cx="4230360" cy="32320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4560" y="3044880"/>
            <a:ext cx="423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4560" y="3044880"/>
            <a:ext cx="4230360" cy="32320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3454560" y="3044880"/>
            <a:ext cx="144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54560" y="6276960"/>
            <a:ext cx="423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3454560" y="3044880"/>
            <a:ext cx="144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345456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5456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5760" y="6305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387360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7360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844800" y="6305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9264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29264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64200" y="6305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72140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72140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692600" y="6305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14044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044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11640" y="6305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568840" y="62294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568840" y="304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50080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987880" y="62294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987880" y="304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984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40728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40728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3888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837480" y="62294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37480" y="304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76908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7254720" y="62294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254720" y="304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18812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684920" y="62294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84920" y="304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616880" y="630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54560" y="62769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635960" y="62769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152880" y="6189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454560" y="5946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7635960" y="59468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54560" y="5624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635960" y="56246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044880" y="5537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454560" y="53038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7635960" y="53038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54560" y="49831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7635960" y="498312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044880" y="489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4560" y="4660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7635960" y="4660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54560" y="4330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7635960" y="43308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044880" y="4241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454560" y="4010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7635960" y="40100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454560" y="3687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7635960" y="36878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44880" y="3600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454560" y="33670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35960" y="3367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454560" y="30448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7635960" y="30448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044880" y="2957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54560" y="3044880"/>
            <a:ext cx="4230360" cy="32320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454560" y="3044880"/>
            <a:ext cx="1440" cy="32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54560" y="3044880"/>
            <a:ext cx="4181400" cy="3222720"/>
          </a:xfrm>
          <a:custGeom>
            <a:avLst/>
            <a:gdLst/>
            <a:ahLst/>
            <a:rect l="l" t="t" r="r" b="b"/>
            <a:pathLst>
              <a:path w="2634" h="2030">
                <a:moveTo>
                  <a:pt x="0" y="2030"/>
                </a:moveTo>
                <a:lnTo>
                  <a:pt x="25" y="2030"/>
                </a:lnTo>
                <a:lnTo>
                  <a:pt x="49" y="2030"/>
                </a:lnTo>
                <a:lnTo>
                  <a:pt x="80" y="2030"/>
                </a:lnTo>
                <a:lnTo>
                  <a:pt x="105" y="2030"/>
                </a:lnTo>
                <a:lnTo>
                  <a:pt x="129" y="2030"/>
                </a:lnTo>
                <a:lnTo>
                  <a:pt x="160" y="2030"/>
                </a:lnTo>
                <a:lnTo>
                  <a:pt x="184" y="2024"/>
                </a:lnTo>
                <a:lnTo>
                  <a:pt x="209" y="2018"/>
                </a:lnTo>
                <a:lnTo>
                  <a:pt x="240" y="2024"/>
                </a:lnTo>
                <a:lnTo>
                  <a:pt x="264" y="2030"/>
                </a:lnTo>
                <a:lnTo>
                  <a:pt x="289" y="2012"/>
                </a:lnTo>
                <a:lnTo>
                  <a:pt x="319" y="1995"/>
                </a:lnTo>
                <a:lnTo>
                  <a:pt x="344" y="1983"/>
                </a:lnTo>
                <a:lnTo>
                  <a:pt x="369" y="1989"/>
                </a:lnTo>
                <a:lnTo>
                  <a:pt x="399" y="2030"/>
                </a:lnTo>
                <a:lnTo>
                  <a:pt x="424" y="1941"/>
                </a:lnTo>
                <a:lnTo>
                  <a:pt x="448" y="1792"/>
                </a:lnTo>
                <a:lnTo>
                  <a:pt x="479" y="1584"/>
                </a:lnTo>
                <a:lnTo>
                  <a:pt x="504" y="1322"/>
                </a:lnTo>
                <a:lnTo>
                  <a:pt x="528" y="1030"/>
                </a:lnTo>
                <a:lnTo>
                  <a:pt x="559" y="721"/>
                </a:lnTo>
                <a:lnTo>
                  <a:pt x="583" y="441"/>
                </a:lnTo>
                <a:lnTo>
                  <a:pt x="608" y="209"/>
                </a:lnTo>
                <a:lnTo>
                  <a:pt x="639" y="54"/>
                </a:lnTo>
                <a:lnTo>
                  <a:pt x="663" y="0"/>
                </a:lnTo>
                <a:lnTo>
                  <a:pt x="688" y="42"/>
                </a:lnTo>
                <a:lnTo>
                  <a:pt x="718" y="191"/>
                </a:lnTo>
                <a:lnTo>
                  <a:pt x="743" y="417"/>
                </a:lnTo>
                <a:lnTo>
                  <a:pt x="768" y="697"/>
                </a:lnTo>
                <a:lnTo>
                  <a:pt x="798" y="995"/>
                </a:lnTo>
                <a:lnTo>
                  <a:pt x="823" y="1292"/>
                </a:lnTo>
                <a:lnTo>
                  <a:pt x="847" y="1560"/>
                </a:lnTo>
                <a:lnTo>
                  <a:pt x="878" y="1774"/>
                </a:lnTo>
                <a:lnTo>
                  <a:pt x="903" y="1929"/>
                </a:lnTo>
                <a:lnTo>
                  <a:pt x="927" y="2030"/>
                </a:lnTo>
                <a:lnTo>
                  <a:pt x="958" y="1989"/>
                </a:lnTo>
                <a:lnTo>
                  <a:pt x="982" y="1977"/>
                </a:lnTo>
                <a:lnTo>
                  <a:pt x="1007" y="1989"/>
                </a:lnTo>
                <a:lnTo>
                  <a:pt x="1038" y="2012"/>
                </a:lnTo>
                <a:lnTo>
                  <a:pt x="1062" y="2030"/>
                </a:lnTo>
                <a:lnTo>
                  <a:pt x="1087" y="2018"/>
                </a:lnTo>
                <a:lnTo>
                  <a:pt x="1118" y="2018"/>
                </a:lnTo>
                <a:lnTo>
                  <a:pt x="1142" y="2018"/>
                </a:lnTo>
                <a:lnTo>
                  <a:pt x="1167" y="2024"/>
                </a:lnTo>
                <a:lnTo>
                  <a:pt x="1197" y="2030"/>
                </a:lnTo>
                <a:lnTo>
                  <a:pt x="1222" y="2030"/>
                </a:lnTo>
                <a:lnTo>
                  <a:pt x="1246" y="2024"/>
                </a:lnTo>
                <a:lnTo>
                  <a:pt x="1277" y="2024"/>
                </a:lnTo>
                <a:lnTo>
                  <a:pt x="1302" y="2030"/>
                </a:lnTo>
                <a:lnTo>
                  <a:pt x="1332" y="2030"/>
                </a:lnTo>
                <a:lnTo>
                  <a:pt x="1357" y="2030"/>
                </a:lnTo>
                <a:lnTo>
                  <a:pt x="1382" y="2030"/>
                </a:lnTo>
                <a:lnTo>
                  <a:pt x="1412" y="2030"/>
                </a:lnTo>
                <a:lnTo>
                  <a:pt x="1437" y="2030"/>
                </a:lnTo>
                <a:lnTo>
                  <a:pt x="1461" y="2030"/>
                </a:lnTo>
                <a:lnTo>
                  <a:pt x="1492" y="2030"/>
                </a:lnTo>
                <a:lnTo>
                  <a:pt x="1517" y="2030"/>
                </a:lnTo>
                <a:lnTo>
                  <a:pt x="1541" y="2030"/>
                </a:lnTo>
                <a:lnTo>
                  <a:pt x="1572" y="2030"/>
                </a:lnTo>
                <a:lnTo>
                  <a:pt x="1596" y="2030"/>
                </a:lnTo>
                <a:lnTo>
                  <a:pt x="1621" y="2030"/>
                </a:lnTo>
                <a:lnTo>
                  <a:pt x="1652" y="2030"/>
                </a:lnTo>
                <a:lnTo>
                  <a:pt x="1676" y="2030"/>
                </a:lnTo>
                <a:lnTo>
                  <a:pt x="1701" y="2030"/>
                </a:lnTo>
                <a:lnTo>
                  <a:pt x="1731" y="2030"/>
                </a:lnTo>
                <a:lnTo>
                  <a:pt x="1756" y="2030"/>
                </a:lnTo>
                <a:lnTo>
                  <a:pt x="1781" y="2030"/>
                </a:lnTo>
                <a:lnTo>
                  <a:pt x="1811" y="2030"/>
                </a:lnTo>
                <a:lnTo>
                  <a:pt x="1836" y="2030"/>
                </a:lnTo>
                <a:lnTo>
                  <a:pt x="1860" y="2030"/>
                </a:lnTo>
                <a:lnTo>
                  <a:pt x="1891" y="2030"/>
                </a:lnTo>
                <a:lnTo>
                  <a:pt x="1916" y="2030"/>
                </a:lnTo>
                <a:lnTo>
                  <a:pt x="1940" y="2030"/>
                </a:lnTo>
                <a:lnTo>
                  <a:pt x="1971" y="2030"/>
                </a:lnTo>
                <a:lnTo>
                  <a:pt x="1995" y="2030"/>
                </a:lnTo>
                <a:lnTo>
                  <a:pt x="2020" y="2030"/>
                </a:lnTo>
                <a:lnTo>
                  <a:pt x="2051" y="2030"/>
                </a:lnTo>
                <a:lnTo>
                  <a:pt x="2075" y="2030"/>
                </a:lnTo>
                <a:lnTo>
                  <a:pt x="2100" y="2030"/>
                </a:lnTo>
                <a:lnTo>
                  <a:pt x="2131" y="2030"/>
                </a:lnTo>
                <a:lnTo>
                  <a:pt x="2155" y="2030"/>
                </a:lnTo>
                <a:lnTo>
                  <a:pt x="2180" y="2030"/>
                </a:lnTo>
                <a:lnTo>
                  <a:pt x="2210" y="2030"/>
                </a:lnTo>
                <a:lnTo>
                  <a:pt x="2235" y="2030"/>
                </a:lnTo>
                <a:lnTo>
                  <a:pt x="2259" y="2030"/>
                </a:lnTo>
                <a:lnTo>
                  <a:pt x="2290" y="2030"/>
                </a:lnTo>
                <a:lnTo>
                  <a:pt x="2315" y="2030"/>
                </a:lnTo>
                <a:lnTo>
                  <a:pt x="2339" y="2030"/>
                </a:lnTo>
                <a:lnTo>
                  <a:pt x="2370" y="2030"/>
                </a:lnTo>
                <a:lnTo>
                  <a:pt x="2394" y="2030"/>
                </a:lnTo>
                <a:lnTo>
                  <a:pt x="2419" y="2030"/>
                </a:lnTo>
                <a:lnTo>
                  <a:pt x="2450" y="2030"/>
                </a:lnTo>
                <a:lnTo>
                  <a:pt x="2474" y="2030"/>
                </a:lnTo>
                <a:lnTo>
                  <a:pt x="2499" y="2030"/>
                </a:lnTo>
                <a:lnTo>
                  <a:pt x="2530" y="2030"/>
                </a:lnTo>
                <a:lnTo>
                  <a:pt x="2554" y="2030"/>
                </a:lnTo>
                <a:lnTo>
                  <a:pt x="2579" y="2030"/>
                </a:lnTo>
                <a:lnTo>
                  <a:pt x="2609" y="2030"/>
                </a:lnTo>
                <a:lnTo>
                  <a:pt x="2634" y="203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990720" y="53352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y = pulse_ref(1,5,10,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yf3 = FourierT(y, d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plot(f(1:100), abs(yf3(1:100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733920" y="685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000" y="3394080"/>
            <a:ext cx="26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4240" y="4419720"/>
            <a:ext cx="231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ly 0 - 2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903920" y="554040"/>
            <a:ext cx="2420640" cy="18478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903920" y="554040"/>
            <a:ext cx="242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903920" y="554040"/>
            <a:ext cx="2420640" cy="18478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4903920" y="553680"/>
            <a:ext cx="1440" cy="18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903920" y="2401920"/>
            <a:ext cx="242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4903920" y="553680"/>
            <a:ext cx="1440" cy="18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490392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90392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88556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514368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14368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5383080" y="2374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383080" y="5540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6508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5627520" y="2374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627520" y="5540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86908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86908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85072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11352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11352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35328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35328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33636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659304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59304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683892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3892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2056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7078680" y="2374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078680" y="5540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7324560" y="2374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324560" y="5540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306560" y="241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903920" y="240192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7295760" y="2401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709520" y="23335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03920" y="217008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7295760" y="21700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903920" y="193824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7295760" y="1938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709520" y="1868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903920" y="170496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7295760" y="1704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03920" y="147780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7295760" y="1477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731480" y="140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903920" y="124632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7295760" y="1246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903920" y="101268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7295760" y="10126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731480" y="944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903920" y="78120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7295760" y="781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903920" y="55404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7295760" y="554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731480" y="485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903920" y="554040"/>
            <a:ext cx="608040" cy="1820880"/>
          </a:xfrm>
          <a:custGeom>
            <a:avLst/>
            <a:gdLst/>
            <a:ahLst/>
            <a:rect l="l" t="t" r="r" b="b"/>
            <a:pathLst>
              <a:path w="383" h="1147">
                <a:moveTo>
                  <a:pt x="3" y="579"/>
                </a:moveTo>
                <a:lnTo>
                  <a:pt x="0" y="579"/>
                </a:lnTo>
                <a:lnTo>
                  <a:pt x="3" y="579"/>
                </a:lnTo>
                <a:lnTo>
                  <a:pt x="7" y="579"/>
                </a:lnTo>
                <a:lnTo>
                  <a:pt x="10" y="579"/>
                </a:lnTo>
                <a:lnTo>
                  <a:pt x="14" y="579"/>
                </a:lnTo>
                <a:lnTo>
                  <a:pt x="17" y="586"/>
                </a:lnTo>
                <a:lnTo>
                  <a:pt x="21" y="586"/>
                </a:lnTo>
                <a:lnTo>
                  <a:pt x="24" y="592"/>
                </a:lnTo>
                <a:lnTo>
                  <a:pt x="28" y="592"/>
                </a:lnTo>
                <a:lnTo>
                  <a:pt x="31" y="596"/>
                </a:lnTo>
                <a:lnTo>
                  <a:pt x="35" y="596"/>
                </a:lnTo>
                <a:lnTo>
                  <a:pt x="38" y="592"/>
                </a:lnTo>
                <a:lnTo>
                  <a:pt x="42" y="582"/>
                </a:lnTo>
                <a:lnTo>
                  <a:pt x="45" y="572"/>
                </a:lnTo>
                <a:lnTo>
                  <a:pt x="49" y="562"/>
                </a:lnTo>
                <a:lnTo>
                  <a:pt x="52" y="548"/>
                </a:lnTo>
                <a:lnTo>
                  <a:pt x="56" y="538"/>
                </a:lnTo>
                <a:lnTo>
                  <a:pt x="56" y="528"/>
                </a:lnTo>
                <a:lnTo>
                  <a:pt x="59" y="524"/>
                </a:lnTo>
                <a:lnTo>
                  <a:pt x="63" y="524"/>
                </a:lnTo>
                <a:lnTo>
                  <a:pt x="66" y="531"/>
                </a:lnTo>
                <a:lnTo>
                  <a:pt x="70" y="545"/>
                </a:lnTo>
                <a:lnTo>
                  <a:pt x="73" y="565"/>
                </a:lnTo>
                <a:lnTo>
                  <a:pt x="77" y="592"/>
                </a:lnTo>
                <a:lnTo>
                  <a:pt x="77" y="620"/>
                </a:lnTo>
                <a:lnTo>
                  <a:pt x="80" y="650"/>
                </a:lnTo>
                <a:lnTo>
                  <a:pt x="84" y="674"/>
                </a:lnTo>
                <a:lnTo>
                  <a:pt x="87" y="695"/>
                </a:lnTo>
                <a:lnTo>
                  <a:pt x="91" y="701"/>
                </a:lnTo>
                <a:lnTo>
                  <a:pt x="94" y="698"/>
                </a:lnTo>
                <a:lnTo>
                  <a:pt x="98" y="684"/>
                </a:lnTo>
                <a:lnTo>
                  <a:pt x="98" y="657"/>
                </a:lnTo>
                <a:lnTo>
                  <a:pt x="101" y="616"/>
                </a:lnTo>
                <a:lnTo>
                  <a:pt x="105" y="569"/>
                </a:lnTo>
                <a:lnTo>
                  <a:pt x="108" y="517"/>
                </a:lnTo>
                <a:lnTo>
                  <a:pt x="112" y="470"/>
                </a:lnTo>
                <a:lnTo>
                  <a:pt x="116" y="426"/>
                </a:lnTo>
                <a:lnTo>
                  <a:pt x="116" y="395"/>
                </a:lnTo>
                <a:lnTo>
                  <a:pt x="119" y="378"/>
                </a:lnTo>
                <a:lnTo>
                  <a:pt x="123" y="381"/>
                </a:lnTo>
                <a:lnTo>
                  <a:pt x="126" y="405"/>
                </a:lnTo>
                <a:lnTo>
                  <a:pt x="130" y="449"/>
                </a:lnTo>
                <a:lnTo>
                  <a:pt x="133" y="511"/>
                </a:lnTo>
                <a:lnTo>
                  <a:pt x="137" y="582"/>
                </a:lnTo>
                <a:lnTo>
                  <a:pt x="137" y="657"/>
                </a:lnTo>
                <a:lnTo>
                  <a:pt x="140" y="732"/>
                </a:lnTo>
                <a:lnTo>
                  <a:pt x="144" y="797"/>
                </a:lnTo>
                <a:lnTo>
                  <a:pt x="147" y="844"/>
                </a:lnTo>
                <a:lnTo>
                  <a:pt x="151" y="872"/>
                </a:lnTo>
                <a:lnTo>
                  <a:pt x="154" y="868"/>
                </a:lnTo>
                <a:lnTo>
                  <a:pt x="158" y="838"/>
                </a:lnTo>
                <a:lnTo>
                  <a:pt x="158" y="780"/>
                </a:lnTo>
                <a:lnTo>
                  <a:pt x="161" y="698"/>
                </a:lnTo>
                <a:lnTo>
                  <a:pt x="165" y="603"/>
                </a:lnTo>
                <a:lnTo>
                  <a:pt x="168" y="497"/>
                </a:lnTo>
                <a:lnTo>
                  <a:pt x="172" y="395"/>
                </a:lnTo>
                <a:lnTo>
                  <a:pt x="175" y="306"/>
                </a:lnTo>
                <a:lnTo>
                  <a:pt x="175" y="242"/>
                </a:lnTo>
                <a:lnTo>
                  <a:pt x="179" y="204"/>
                </a:lnTo>
                <a:lnTo>
                  <a:pt x="182" y="201"/>
                </a:lnTo>
                <a:lnTo>
                  <a:pt x="186" y="238"/>
                </a:lnTo>
                <a:lnTo>
                  <a:pt x="189" y="306"/>
                </a:lnTo>
                <a:lnTo>
                  <a:pt x="193" y="405"/>
                </a:lnTo>
                <a:lnTo>
                  <a:pt x="196" y="524"/>
                </a:lnTo>
                <a:lnTo>
                  <a:pt x="196" y="654"/>
                </a:lnTo>
                <a:lnTo>
                  <a:pt x="200" y="783"/>
                </a:lnTo>
                <a:lnTo>
                  <a:pt x="203" y="895"/>
                </a:lnTo>
                <a:lnTo>
                  <a:pt x="207" y="981"/>
                </a:lnTo>
                <a:lnTo>
                  <a:pt x="210" y="1032"/>
                </a:lnTo>
                <a:lnTo>
                  <a:pt x="214" y="1042"/>
                </a:lnTo>
                <a:lnTo>
                  <a:pt x="217" y="1008"/>
                </a:lnTo>
                <a:lnTo>
                  <a:pt x="217" y="929"/>
                </a:lnTo>
                <a:lnTo>
                  <a:pt x="221" y="817"/>
                </a:lnTo>
                <a:lnTo>
                  <a:pt x="224" y="678"/>
                </a:lnTo>
                <a:lnTo>
                  <a:pt x="228" y="528"/>
                </a:lnTo>
                <a:lnTo>
                  <a:pt x="231" y="378"/>
                </a:lnTo>
                <a:lnTo>
                  <a:pt x="235" y="242"/>
                </a:lnTo>
                <a:lnTo>
                  <a:pt x="235" y="136"/>
                </a:lnTo>
                <a:lnTo>
                  <a:pt x="239" y="71"/>
                </a:lnTo>
                <a:lnTo>
                  <a:pt x="242" y="54"/>
                </a:lnTo>
                <a:lnTo>
                  <a:pt x="246" y="85"/>
                </a:lnTo>
                <a:lnTo>
                  <a:pt x="249" y="167"/>
                </a:lnTo>
                <a:lnTo>
                  <a:pt x="253" y="286"/>
                </a:lnTo>
                <a:lnTo>
                  <a:pt x="256" y="436"/>
                </a:lnTo>
                <a:lnTo>
                  <a:pt x="256" y="603"/>
                </a:lnTo>
                <a:lnTo>
                  <a:pt x="260" y="769"/>
                </a:lnTo>
                <a:lnTo>
                  <a:pt x="263" y="919"/>
                </a:lnTo>
                <a:lnTo>
                  <a:pt x="267" y="1042"/>
                </a:lnTo>
                <a:lnTo>
                  <a:pt x="270" y="1120"/>
                </a:lnTo>
                <a:lnTo>
                  <a:pt x="274" y="1147"/>
                </a:lnTo>
                <a:lnTo>
                  <a:pt x="274" y="1124"/>
                </a:lnTo>
                <a:lnTo>
                  <a:pt x="277" y="1045"/>
                </a:lnTo>
                <a:lnTo>
                  <a:pt x="281" y="926"/>
                </a:lnTo>
                <a:lnTo>
                  <a:pt x="284" y="769"/>
                </a:lnTo>
                <a:lnTo>
                  <a:pt x="288" y="596"/>
                </a:lnTo>
                <a:lnTo>
                  <a:pt x="291" y="419"/>
                </a:lnTo>
                <a:lnTo>
                  <a:pt x="295" y="259"/>
                </a:lnTo>
                <a:lnTo>
                  <a:pt x="295" y="126"/>
                </a:lnTo>
                <a:lnTo>
                  <a:pt x="298" y="37"/>
                </a:lnTo>
                <a:lnTo>
                  <a:pt x="302" y="0"/>
                </a:lnTo>
                <a:lnTo>
                  <a:pt x="305" y="17"/>
                </a:lnTo>
                <a:lnTo>
                  <a:pt x="309" y="85"/>
                </a:lnTo>
                <a:lnTo>
                  <a:pt x="312" y="201"/>
                </a:lnTo>
                <a:lnTo>
                  <a:pt x="316" y="354"/>
                </a:lnTo>
                <a:lnTo>
                  <a:pt x="316" y="524"/>
                </a:lnTo>
                <a:lnTo>
                  <a:pt x="319" y="701"/>
                </a:lnTo>
                <a:lnTo>
                  <a:pt x="323" y="865"/>
                </a:lnTo>
                <a:lnTo>
                  <a:pt x="326" y="1004"/>
                </a:lnTo>
                <a:lnTo>
                  <a:pt x="330" y="1100"/>
                </a:lnTo>
                <a:lnTo>
                  <a:pt x="333" y="1144"/>
                </a:lnTo>
                <a:lnTo>
                  <a:pt x="333" y="1137"/>
                </a:lnTo>
                <a:lnTo>
                  <a:pt x="337" y="1079"/>
                </a:lnTo>
                <a:lnTo>
                  <a:pt x="340" y="974"/>
                </a:lnTo>
                <a:lnTo>
                  <a:pt x="344" y="834"/>
                </a:lnTo>
                <a:lnTo>
                  <a:pt x="347" y="671"/>
                </a:lnTo>
                <a:lnTo>
                  <a:pt x="351" y="500"/>
                </a:lnTo>
                <a:lnTo>
                  <a:pt x="354" y="344"/>
                </a:lnTo>
                <a:lnTo>
                  <a:pt x="354" y="208"/>
                </a:lnTo>
                <a:lnTo>
                  <a:pt x="358" y="112"/>
                </a:lnTo>
                <a:lnTo>
                  <a:pt x="362" y="61"/>
                </a:lnTo>
                <a:lnTo>
                  <a:pt x="365" y="58"/>
                </a:lnTo>
                <a:lnTo>
                  <a:pt x="369" y="106"/>
                </a:lnTo>
                <a:lnTo>
                  <a:pt x="372" y="197"/>
                </a:lnTo>
                <a:lnTo>
                  <a:pt x="376" y="320"/>
                </a:lnTo>
                <a:lnTo>
                  <a:pt x="376" y="466"/>
                </a:lnTo>
                <a:lnTo>
                  <a:pt x="379" y="620"/>
                </a:lnTo>
                <a:lnTo>
                  <a:pt x="383" y="76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511960" y="866880"/>
            <a:ext cx="657000" cy="1341360"/>
          </a:xfrm>
          <a:custGeom>
            <a:avLst/>
            <a:gdLst/>
            <a:ahLst/>
            <a:rect l="l" t="t" r="r" b="b"/>
            <a:pathLst>
              <a:path w="414" h="845">
                <a:moveTo>
                  <a:pt x="0" y="566"/>
                </a:moveTo>
                <a:lnTo>
                  <a:pt x="3" y="692"/>
                </a:lnTo>
                <a:lnTo>
                  <a:pt x="7" y="784"/>
                </a:lnTo>
                <a:lnTo>
                  <a:pt x="10" y="835"/>
                </a:lnTo>
                <a:lnTo>
                  <a:pt x="10" y="845"/>
                </a:lnTo>
                <a:lnTo>
                  <a:pt x="14" y="811"/>
                </a:lnTo>
                <a:lnTo>
                  <a:pt x="17" y="736"/>
                </a:lnTo>
                <a:lnTo>
                  <a:pt x="21" y="634"/>
                </a:lnTo>
                <a:lnTo>
                  <a:pt x="24" y="511"/>
                </a:lnTo>
                <a:lnTo>
                  <a:pt x="28" y="378"/>
                </a:lnTo>
                <a:lnTo>
                  <a:pt x="31" y="256"/>
                </a:lnTo>
                <a:lnTo>
                  <a:pt x="31" y="147"/>
                </a:lnTo>
                <a:lnTo>
                  <a:pt x="35" y="65"/>
                </a:lnTo>
                <a:lnTo>
                  <a:pt x="38" y="14"/>
                </a:lnTo>
                <a:lnTo>
                  <a:pt x="42" y="0"/>
                </a:lnTo>
                <a:lnTo>
                  <a:pt x="45" y="24"/>
                </a:lnTo>
                <a:lnTo>
                  <a:pt x="49" y="82"/>
                </a:lnTo>
                <a:lnTo>
                  <a:pt x="52" y="160"/>
                </a:lnTo>
                <a:lnTo>
                  <a:pt x="52" y="259"/>
                </a:lnTo>
                <a:lnTo>
                  <a:pt x="56" y="365"/>
                </a:lnTo>
                <a:lnTo>
                  <a:pt x="59" y="463"/>
                </a:lnTo>
                <a:lnTo>
                  <a:pt x="63" y="552"/>
                </a:lnTo>
                <a:lnTo>
                  <a:pt x="66" y="620"/>
                </a:lnTo>
                <a:lnTo>
                  <a:pt x="70" y="661"/>
                </a:lnTo>
                <a:lnTo>
                  <a:pt x="70" y="675"/>
                </a:lnTo>
                <a:lnTo>
                  <a:pt x="73" y="661"/>
                </a:lnTo>
                <a:lnTo>
                  <a:pt x="77" y="624"/>
                </a:lnTo>
                <a:lnTo>
                  <a:pt x="80" y="562"/>
                </a:lnTo>
                <a:lnTo>
                  <a:pt x="84" y="491"/>
                </a:lnTo>
                <a:lnTo>
                  <a:pt x="87" y="416"/>
                </a:lnTo>
                <a:lnTo>
                  <a:pt x="91" y="341"/>
                </a:lnTo>
                <a:lnTo>
                  <a:pt x="91" y="276"/>
                </a:lnTo>
                <a:lnTo>
                  <a:pt x="94" y="225"/>
                </a:lnTo>
                <a:lnTo>
                  <a:pt x="98" y="191"/>
                </a:lnTo>
                <a:lnTo>
                  <a:pt x="102" y="181"/>
                </a:lnTo>
                <a:lnTo>
                  <a:pt x="105" y="188"/>
                </a:lnTo>
                <a:lnTo>
                  <a:pt x="109" y="215"/>
                </a:lnTo>
                <a:lnTo>
                  <a:pt x="109" y="252"/>
                </a:lnTo>
                <a:lnTo>
                  <a:pt x="112" y="300"/>
                </a:lnTo>
                <a:lnTo>
                  <a:pt x="116" y="351"/>
                </a:lnTo>
                <a:lnTo>
                  <a:pt x="119" y="402"/>
                </a:lnTo>
                <a:lnTo>
                  <a:pt x="123" y="443"/>
                </a:lnTo>
                <a:lnTo>
                  <a:pt x="126" y="477"/>
                </a:lnTo>
                <a:lnTo>
                  <a:pt x="130" y="498"/>
                </a:lnTo>
                <a:lnTo>
                  <a:pt x="130" y="504"/>
                </a:lnTo>
                <a:lnTo>
                  <a:pt x="133" y="501"/>
                </a:lnTo>
                <a:lnTo>
                  <a:pt x="137" y="487"/>
                </a:lnTo>
                <a:lnTo>
                  <a:pt x="140" y="463"/>
                </a:lnTo>
                <a:lnTo>
                  <a:pt x="144" y="436"/>
                </a:lnTo>
                <a:lnTo>
                  <a:pt x="147" y="406"/>
                </a:lnTo>
                <a:lnTo>
                  <a:pt x="151" y="378"/>
                </a:lnTo>
                <a:lnTo>
                  <a:pt x="151" y="358"/>
                </a:lnTo>
                <a:lnTo>
                  <a:pt x="154" y="338"/>
                </a:lnTo>
                <a:lnTo>
                  <a:pt x="158" y="327"/>
                </a:lnTo>
                <a:lnTo>
                  <a:pt x="161" y="324"/>
                </a:lnTo>
                <a:lnTo>
                  <a:pt x="165" y="327"/>
                </a:lnTo>
                <a:lnTo>
                  <a:pt x="168" y="334"/>
                </a:lnTo>
                <a:lnTo>
                  <a:pt x="168" y="348"/>
                </a:lnTo>
                <a:lnTo>
                  <a:pt x="172" y="358"/>
                </a:lnTo>
                <a:lnTo>
                  <a:pt x="175" y="372"/>
                </a:lnTo>
                <a:lnTo>
                  <a:pt x="179" y="382"/>
                </a:lnTo>
                <a:lnTo>
                  <a:pt x="182" y="392"/>
                </a:lnTo>
                <a:lnTo>
                  <a:pt x="186" y="395"/>
                </a:lnTo>
                <a:lnTo>
                  <a:pt x="189" y="399"/>
                </a:lnTo>
                <a:lnTo>
                  <a:pt x="193" y="399"/>
                </a:lnTo>
                <a:lnTo>
                  <a:pt x="196" y="395"/>
                </a:lnTo>
                <a:lnTo>
                  <a:pt x="200" y="392"/>
                </a:lnTo>
                <a:lnTo>
                  <a:pt x="203" y="389"/>
                </a:lnTo>
                <a:lnTo>
                  <a:pt x="207" y="385"/>
                </a:lnTo>
                <a:lnTo>
                  <a:pt x="210" y="382"/>
                </a:lnTo>
                <a:lnTo>
                  <a:pt x="214" y="382"/>
                </a:lnTo>
                <a:lnTo>
                  <a:pt x="217" y="382"/>
                </a:lnTo>
                <a:lnTo>
                  <a:pt x="221" y="382"/>
                </a:lnTo>
                <a:lnTo>
                  <a:pt x="225" y="382"/>
                </a:lnTo>
                <a:lnTo>
                  <a:pt x="228" y="385"/>
                </a:lnTo>
                <a:lnTo>
                  <a:pt x="232" y="385"/>
                </a:lnTo>
                <a:lnTo>
                  <a:pt x="235" y="385"/>
                </a:lnTo>
                <a:lnTo>
                  <a:pt x="239" y="385"/>
                </a:lnTo>
                <a:lnTo>
                  <a:pt x="242" y="385"/>
                </a:lnTo>
                <a:lnTo>
                  <a:pt x="246" y="385"/>
                </a:lnTo>
                <a:lnTo>
                  <a:pt x="249" y="385"/>
                </a:lnTo>
                <a:lnTo>
                  <a:pt x="253" y="385"/>
                </a:lnTo>
                <a:lnTo>
                  <a:pt x="256" y="385"/>
                </a:lnTo>
                <a:lnTo>
                  <a:pt x="260" y="385"/>
                </a:lnTo>
                <a:lnTo>
                  <a:pt x="263" y="385"/>
                </a:lnTo>
                <a:lnTo>
                  <a:pt x="267" y="385"/>
                </a:lnTo>
                <a:lnTo>
                  <a:pt x="270" y="385"/>
                </a:lnTo>
                <a:lnTo>
                  <a:pt x="274" y="385"/>
                </a:lnTo>
                <a:lnTo>
                  <a:pt x="277" y="385"/>
                </a:lnTo>
                <a:lnTo>
                  <a:pt x="281" y="385"/>
                </a:lnTo>
                <a:lnTo>
                  <a:pt x="284" y="385"/>
                </a:lnTo>
                <a:lnTo>
                  <a:pt x="288" y="385"/>
                </a:lnTo>
                <a:lnTo>
                  <a:pt x="291" y="385"/>
                </a:lnTo>
                <a:lnTo>
                  <a:pt x="295" y="385"/>
                </a:lnTo>
                <a:lnTo>
                  <a:pt x="298" y="385"/>
                </a:lnTo>
                <a:lnTo>
                  <a:pt x="302" y="385"/>
                </a:lnTo>
                <a:lnTo>
                  <a:pt x="305" y="385"/>
                </a:lnTo>
                <a:lnTo>
                  <a:pt x="309" y="385"/>
                </a:lnTo>
                <a:lnTo>
                  <a:pt x="312" y="385"/>
                </a:lnTo>
                <a:lnTo>
                  <a:pt x="316" y="385"/>
                </a:lnTo>
                <a:lnTo>
                  <a:pt x="319" y="385"/>
                </a:lnTo>
                <a:lnTo>
                  <a:pt x="323" y="385"/>
                </a:lnTo>
                <a:lnTo>
                  <a:pt x="326" y="385"/>
                </a:lnTo>
                <a:lnTo>
                  <a:pt x="330" y="385"/>
                </a:lnTo>
                <a:lnTo>
                  <a:pt x="333" y="385"/>
                </a:lnTo>
                <a:lnTo>
                  <a:pt x="337" y="385"/>
                </a:lnTo>
                <a:lnTo>
                  <a:pt x="340" y="385"/>
                </a:lnTo>
                <a:lnTo>
                  <a:pt x="344" y="385"/>
                </a:lnTo>
                <a:lnTo>
                  <a:pt x="348" y="385"/>
                </a:lnTo>
                <a:lnTo>
                  <a:pt x="351" y="385"/>
                </a:lnTo>
                <a:lnTo>
                  <a:pt x="355" y="385"/>
                </a:lnTo>
                <a:lnTo>
                  <a:pt x="358" y="385"/>
                </a:lnTo>
                <a:lnTo>
                  <a:pt x="362" y="385"/>
                </a:lnTo>
                <a:lnTo>
                  <a:pt x="365" y="385"/>
                </a:lnTo>
                <a:lnTo>
                  <a:pt x="369" y="385"/>
                </a:lnTo>
                <a:lnTo>
                  <a:pt x="372" y="385"/>
                </a:lnTo>
                <a:lnTo>
                  <a:pt x="376" y="385"/>
                </a:lnTo>
                <a:lnTo>
                  <a:pt x="379" y="385"/>
                </a:lnTo>
                <a:lnTo>
                  <a:pt x="383" y="385"/>
                </a:lnTo>
                <a:lnTo>
                  <a:pt x="386" y="385"/>
                </a:lnTo>
                <a:lnTo>
                  <a:pt x="390" y="385"/>
                </a:lnTo>
                <a:lnTo>
                  <a:pt x="393" y="385"/>
                </a:lnTo>
                <a:lnTo>
                  <a:pt x="397" y="385"/>
                </a:lnTo>
                <a:lnTo>
                  <a:pt x="400" y="385"/>
                </a:lnTo>
                <a:lnTo>
                  <a:pt x="404" y="385"/>
                </a:lnTo>
                <a:lnTo>
                  <a:pt x="407" y="385"/>
                </a:lnTo>
                <a:lnTo>
                  <a:pt x="411" y="385"/>
                </a:lnTo>
                <a:lnTo>
                  <a:pt x="414" y="38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68960" y="1477800"/>
            <a:ext cx="709560" cy="1800"/>
          </a:xfrm>
          <a:custGeom>
            <a:avLst/>
            <a:gdLst/>
            <a:ahLst/>
            <a:rect l="l" t="t" r="r" b="b"/>
            <a:pathLst>
              <a:path w="447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4" y="0"/>
                </a:lnTo>
                <a:lnTo>
                  <a:pt x="67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9" y="0"/>
                </a:lnTo>
                <a:lnTo>
                  <a:pt x="102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6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48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5" y="0"/>
                </a:lnTo>
                <a:lnTo>
                  <a:pt x="169" y="0"/>
                </a:lnTo>
                <a:lnTo>
                  <a:pt x="172" y="0"/>
                </a:lnTo>
                <a:lnTo>
                  <a:pt x="176" y="0"/>
                </a:lnTo>
                <a:lnTo>
                  <a:pt x="180" y="0"/>
                </a:lnTo>
                <a:lnTo>
                  <a:pt x="183" y="0"/>
                </a:lnTo>
                <a:lnTo>
                  <a:pt x="187" y="0"/>
                </a:lnTo>
                <a:lnTo>
                  <a:pt x="190" y="0"/>
                </a:lnTo>
                <a:lnTo>
                  <a:pt x="194" y="0"/>
                </a:lnTo>
                <a:lnTo>
                  <a:pt x="197" y="0"/>
                </a:lnTo>
                <a:lnTo>
                  <a:pt x="201" y="0"/>
                </a:lnTo>
                <a:lnTo>
                  <a:pt x="204" y="0"/>
                </a:lnTo>
                <a:lnTo>
                  <a:pt x="208" y="0"/>
                </a:lnTo>
                <a:lnTo>
                  <a:pt x="211" y="0"/>
                </a:lnTo>
                <a:lnTo>
                  <a:pt x="215" y="0"/>
                </a:lnTo>
                <a:lnTo>
                  <a:pt x="218" y="0"/>
                </a:lnTo>
                <a:lnTo>
                  <a:pt x="222" y="0"/>
                </a:lnTo>
                <a:lnTo>
                  <a:pt x="225" y="0"/>
                </a:lnTo>
                <a:lnTo>
                  <a:pt x="229" y="0"/>
                </a:lnTo>
                <a:lnTo>
                  <a:pt x="232" y="0"/>
                </a:lnTo>
                <a:lnTo>
                  <a:pt x="236" y="0"/>
                </a:lnTo>
                <a:lnTo>
                  <a:pt x="239" y="0"/>
                </a:lnTo>
                <a:lnTo>
                  <a:pt x="243" y="0"/>
                </a:lnTo>
                <a:lnTo>
                  <a:pt x="246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0" y="0"/>
                </a:lnTo>
                <a:lnTo>
                  <a:pt x="264" y="0"/>
                </a:lnTo>
                <a:lnTo>
                  <a:pt x="267" y="0"/>
                </a:lnTo>
                <a:lnTo>
                  <a:pt x="271" y="0"/>
                </a:lnTo>
                <a:lnTo>
                  <a:pt x="274" y="0"/>
                </a:lnTo>
                <a:lnTo>
                  <a:pt x="278" y="0"/>
                </a:lnTo>
                <a:lnTo>
                  <a:pt x="281" y="0"/>
                </a:lnTo>
                <a:lnTo>
                  <a:pt x="285" y="0"/>
                </a:lnTo>
                <a:lnTo>
                  <a:pt x="288" y="0"/>
                </a:lnTo>
                <a:lnTo>
                  <a:pt x="292" y="0"/>
                </a:lnTo>
                <a:lnTo>
                  <a:pt x="295" y="0"/>
                </a:lnTo>
                <a:lnTo>
                  <a:pt x="299" y="0"/>
                </a:lnTo>
                <a:lnTo>
                  <a:pt x="303" y="0"/>
                </a:lnTo>
                <a:lnTo>
                  <a:pt x="306" y="0"/>
                </a:lnTo>
                <a:lnTo>
                  <a:pt x="310" y="0"/>
                </a:lnTo>
                <a:lnTo>
                  <a:pt x="313" y="0"/>
                </a:lnTo>
                <a:lnTo>
                  <a:pt x="317" y="0"/>
                </a:lnTo>
                <a:lnTo>
                  <a:pt x="320" y="0"/>
                </a:lnTo>
                <a:lnTo>
                  <a:pt x="324" y="0"/>
                </a:lnTo>
                <a:lnTo>
                  <a:pt x="327" y="0"/>
                </a:lnTo>
                <a:lnTo>
                  <a:pt x="331" y="0"/>
                </a:lnTo>
                <a:lnTo>
                  <a:pt x="334" y="0"/>
                </a:lnTo>
                <a:lnTo>
                  <a:pt x="338" y="0"/>
                </a:lnTo>
                <a:lnTo>
                  <a:pt x="341" y="0"/>
                </a:lnTo>
                <a:lnTo>
                  <a:pt x="345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9" y="0"/>
                </a:lnTo>
                <a:lnTo>
                  <a:pt x="362" y="0"/>
                </a:lnTo>
                <a:lnTo>
                  <a:pt x="366" y="0"/>
                </a:lnTo>
                <a:lnTo>
                  <a:pt x="369" y="0"/>
                </a:lnTo>
                <a:lnTo>
                  <a:pt x="373" y="0"/>
                </a:lnTo>
                <a:lnTo>
                  <a:pt x="376" y="0"/>
                </a:lnTo>
                <a:lnTo>
                  <a:pt x="380" y="0"/>
                </a:lnTo>
                <a:lnTo>
                  <a:pt x="383" y="0"/>
                </a:lnTo>
                <a:lnTo>
                  <a:pt x="387" y="0"/>
                </a:lnTo>
                <a:lnTo>
                  <a:pt x="390" y="0"/>
                </a:lnTo>
                <a:lnTo>
                  <a:pt x="394" y="0"/>
                </a:lnTo>
                <a:lnTo>
                  <a:pt x="397" y="0"/>
                </a:lnTo>
                <a:lnTo>
                  <a:pt x="401" y="0"/>
                </a:lnTo>
                <a:lnTo>
                  <a:pt x="404" y="0"/>
                </a:lnTo>
                <a:lnTo>
                  <a:pt x="408" y="0"/>
                </a:lnTo>
                <a:lnTo>
                  <a:pt x="411" y="0"/>
                </a:lnTo>
                <a:lnTo>
                  <a:pt x="415" y="0"/>
                </a:lnTo>
                <a:lnTo>
                  <a:pt x="418" y="0"/>
                </a:lnTo>
                <a:lnTo>
                  <a:pt x="422" y="0"/>
                </a:lnTo>
                <a:lnTo>
                  <a:pt x="426" y="0"/>
                </a:lnTo>
                <a:lnTo>
                  <a:pt x="429" y="0"/>
                </a:lnTo>
                <a:lnTo>
                  <a:pt x="433" y="0"/>
                </a:lnTo>
                <a:lnTo>
                  <a:pt x="436" y="0"/>
                </a:lnTo>
                <a:lnTo>
                  <a:pt x="440" y="0"/>
                </a:lnTo>
                <a:lnTo>
                  <a:pt x="443" y="0"/>
                </a:lnTo>
                <a:lnTo>
                  <a:pt x="44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78520" y="1477800"/>
            <a:ext cx="446040" cy="1800"/>
          </a:xfrm>
          <a:custGeom>
            <a:avLst/>
            <a:gdLst/>
            <a:ahLst/>
            <a:rect l="l" t="t" r="r" b="b"/>
            <a:pathLst>
              <a:path w="28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0"/>
                </a:lnTo>
                <a:lnTo>
                  <a:pt x="87" y="0"/>
                </a:lnTo>
                <a:lnTo>
                  <a:pt x="91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5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19" y="0"/>
                </a:lnTo>
                <a:lnTo>
                  <a:pt x="123" y="0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lnTo>
                  <a:pt x="137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4" y="0"/>
                </a:lnTo>
                <a:lnTo>
                  <a:pt x="158" y="0"/>
                </a:lnTo>
                <a:lnTo>
                  <a:pt x="161" y="0"/>
                </a:lnTo>
                <a:lnTo>
                  <a:pt x="165" y="0"/>
                </a:lnTo>
                <a:lnTo>
                  <a:pt x="168" y="0"/>
                </a:lnTo>
                <a:lnTo>
                  <a:pt x="172" y="0"/>
                </a:lnTo>
                <a:lnTo>
                  <a:pt x="175" y="0"/>
                </a:lnTo>
                <a:lnTo>
                  <a:pt x="179" y="0"/>
                </a:lnTo>
                <a:lnTo>
                  <a:pt x="182" y="0"/>
                </a:lnTo>
                <a:lnTo>
                  <a:pt x="186" y="0"/>
                </a:lnTo>
                <a:lnTo>
                  <a:pt x="189" y="0"/>
                </a:lnTo>
                <a:lnTo>
                  <a:pt x="193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7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5" y="0"/>
                </a:lnTo>
                <a:lnTo>
                  <a:pt x="228" y="0"/>
                </a:lnTo>
                <a:lnTo>
                  <a:pt x="232" y="0"/>
                </a:lnTo>
                <a:lnTo>
                  <a:pt x="235" y="0"/>
                </a:lnTo>
                <a:lnTo>
                  <a:pt x="239" y="0"/>
                </a:lnTo>
                <a:lnTo>
                  <a:pt x="242" y="0"/>
                </a:lnTo>
                <a:lnTo>
                  <a:pt x="246" y="0"/>
                </a:lnTo>
                <a:lnTo>
                  <a:pt x="249" y="0"/>
                </a:lnTo>
                <a:lnTo>
                  <a:pt x="253" y="0"/>
                </a:lnTo>
                <a:lnTo>
                  <a:pt x="256" y="0"/>
                </a:lnTo>
                <a:lnTo>
                  <a:pt x="260" y="0"/>
                </a:lnTo>
                <a:lnTo>
                  <a:pt x="263" y="0"/>
                </a:lnTo>
                <a:lnTo>
                  <a:pt x="267" y="0"/>
                </a:lnTo>
                <a:lnTo>
                  <a:pt x="270" y="0"/>
                </a:lnTo>
                <a:lnTo>
                  <a:pt x="274" y="0"/>
                </a:lnTo>
                <a:lnTo>
                  <a:pt x="277" y="0"/>
                </a:lnTo>
                <a:lnTo>
                  <a:pt x="281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730680" y="3033720"/>
            <a:ext cx="4052880" cy="30970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30680" y="3033720"/>
            <a:ext cx="405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730680" y="3033720"/>
            <a:ext cx="4052880" cy="30970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3730680" y="3033360"/>
            <a:ext cx="1440" cy="30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730680" y="6130800"/>
            <a:ext cx="405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3730680" y="3033360"/>
            <a:ext cx="1440" cy="30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73068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73068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701880" y="6157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413244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13244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03640" y="6157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4533840" y="608472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533840" y="3033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505400" y="6157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494352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94352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916520" y="6157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34528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4528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318280" y="6157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75640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5640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9124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6157800" y="608472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157800" y="3033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09300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655956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55956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49440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970680" y="608472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970680" y="3033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90552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737244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37244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30728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7783560" y="608472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783560" y="3033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718400" y="6157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730680" y="61308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7737480" y="6130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444840" y="603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730680" y="5813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7737480" y="5813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730680" y="55054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7737480" y="5505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41520" y="5407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730680" y="519732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737480" y="5197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730680" y="4889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7737480" y="4889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341520" y="4791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730680" y="45813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7737480" y="458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730680" y="4264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737480" y="4264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341520" y="4167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30680" y="39560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737480" y="3956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730680" y="3648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737480" y="3648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41520" y="3551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730680" y="334152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7737480" y="33415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30680" y="3033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7737480" y="3033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444840" y="29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730680" y="3033720"/>
            <a:ext cx="4052880" cy="30970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30680" y="3033720"/>
            <a:ext cx="4006800" cy="3087720"/>
          </a:xfrm>
          <a:custGeom>
            <a:avLst/>
            <a:gdLst/>
            <a:ahLst/>
            <a:rect l="l" t="t" r="r" b="b"/>
            <a:pathLst>
              <a:path w="2524" h="1945">
                <a:moveTo>
                  <a:pt x="0" y="1945"/>
                </a:moveTo>
                <a:lnTo>
                  <a:pt x="23" y="1945"/>
                </a:lnTo>
                <a:lnTo>
                  <a:pt x="47" y="1945"/>
                </a:lnTo>
                <a:lnTo>
                  <a:pt x="76" y="1945"/>
                </a:lnTo>
                <a:lnTo>
                  <a:pt x="100" y="1945"/>
                </a:lnTo>
                <a:lnTo>
                  <a:pt x="123" y="1945"/>
                </a:lnTo>
                <a:lnTo>
                  <a:pt x="153" y="1945"/>
                </a:lnTo>
                <a:lnTo>
                  <a:pt x="176" y="1945"/>
                </a:lnTo>
                <a:lnTo>
                  <a:pt x="200" y="1945"/>
                </a:lnTo>
                <a:lnTo>
                  <a:pt x="229" y="1945"/>
                </a:lnTo>
                <a:lnTo>
                  <a:pt x="253" y="1945"/>
                </a:lnTo>
                <a:lnTo>
                  <a:pt x="276" y="1945"/>
                </a:lnTo>
                <a:lnTo>
                  <a:pt x="305" y="1945"/>
                </a:lnTo>
                <a:lnTo>
                  <a:pt x="329" y="1945"/>
                </a:lnTo>
                <a:lnTo>
                  <a:pt x="353" y="1939"/>
                </a:lnTo>
                <a:lnTo>
                  <a:pt x="382" y="1945"/>
                </a:lnTo>
                <a:lnTo>
                  <a:pt x="406" y="1933"/>
                </a:lnTo>
                <a:lnTo>
                  <a:pt x="429" y="1933"/>
                </a:lnTo>
                <a:lnTo>
                  <a:pt x="458" y="1928"/>
                </a:lnTo>
                <a:lnTo>
                  <a:pt x="482" y="1899"/>
                </a:lnTo>
                <a:lnTo>
                  <a:pt x="506" y="1945"/>
                </a:lnTo>
                <a:lnTo>
                  <a:pt x="535" y="1728"/>
                </a:lnTo>
                <a:lnTo>
                  <a:pt x="559" y="1277"/>
                </a:lnTo>
                <a:lnTo>
                  <a:pt x="582" y="707"/>
                </a:lnTo>
                <a:lnTo>
                  <a:pt x="611" y="205"/>
                </a:lnTo>
                <a:lnTo>
                  <a:pt x="635" y="0"/>
                </a:lnTo>
                <a:lnTo>
                  <a:pt x="659" y="171"/>
                </a:lnTo>
                <a:lnTo>
                  <a:pt x="688" y="650"/>
                </a:lnTo>
                <a:lnTo>
                  <a:pt x="711" y="1226"/>
                </a:lnTo>
                <a:lnTo>
                  <a:pt x="735" y="1688"/>
                </a:lnTo>
                <a:lnTo>
                  <a:pt x="764" y="1939"/>
                </a:lnTo>
                <a:lnTo>
                  <a:pt x="788" y="1894"/>
                </a:lnTo>
                <a:lnTo>
                  <a:pt x="812" y="1928"/>
                </a:lnTo>
                <a:lnTo>
                  <a:pt x="841" y="1939"/>
                </a:lnTo>
                <a:lnTo>
                  <a:pt x="864" y="1933"/>
                </a:lnTo>
                <a:lnTo>
                  <a:pt x="888" y="1945"/>
                </a:lnTo>
                <a:lnTo>
                  <a:pt x="917" y="1939"/>
                </a:lnTo>
                <a:lnTo>
                  <a:pt x="941" y="1945"/>
                </a:lnTo>
                <a:lnTo>
                  <a:pt x="964" y="1945"/>
                </a:lnTo>
                <a:lnTo>
                  <a:pt x="994" y="1945"/>
                </a:lnTo>
                <a:lnTo>
                  <a:pt x="1017" y="1945"/>
                </a:lnTo>
                <a:lnTo>
                  <a:pt x="1041" y="1945"/>
                </a:lnTo>
                <a:lnTo>
                  <a:pt x="1070" y="1945"/>
                </a:lnTo>
                <a:lnTo>
                  <a:pt x="1094" y="1945"/>
                </a:lnTo>
                <a:lnTo>
                  <a:pt x="1117" y="1945"/>
                </a:lnTo>
                <a:lnTo>
                  <a:pt x="1147" y="1945"/>
                </a:lnTo>
                <a:lnTo>
                  <a:pt x="1170" y="1945"/>
                </a:lnTo>
                <a:lnTo>
                  <a:pt x="1194" y="1945"/>
                </a:lnTo>
                <a:lnTo>
                  <a:pt x="1223" y="1945"/>
                </a:lnTo>
                <a:lnTo>
                  <a:pt x="1247" y="1945"/>
                </a:lnTo>
                <a:lnTo>
                  <a:pt x="1276" y="1945"/>
                </a:lnTo>
                <a:lnTo>
                  <a:pt x="1300" y="1945"/>
                </a:lnTo>
                <a:lnTo>
                  <a:pt x="1323" y="1945"/>
                </a:lnTo>
                <a:lnTo>
                  <a:pt x="1353" y="1945"/>
                </a:lnTo>
                <a:lnTo>
                  <a:pt x="1376" y="1945"/>
                </a:lnTo>
                <a:lnTo>
                  <a:pt x="1400" y="1945"/>
                </a:lnTo>
                <a:lnTo>
                  <a:pt x="1429" y="1945"/>
                </a:lnTo>
                <a:lnTo>
                  <a:pt x="1453" y="1945"/>
                </a:lnTo>
                <a:lnTo>
                  <a:pt x="1476" y="1945"/>
                </a:lnTo>
                <a:lnTo>
                  <a:pt x="1506" y="1945"/>
                </a:lnTo>
                <a:lnTo>
                  <a:pt x="1529" y="1945"/>
                </a:lnTo>
                <a:lnTo>
                  <a:pt x="1553" y="1945"/>
                </a:lnTo>
                <a:lnTo>
                  <a:pt x="1582" y="1945"/>
                </a:lnTo>
                <a:lnTo>
                  <a:pt x="1606" y="1945"/>
                </a:lnTo>
                <a:lnTo>
                  <a:pt x="1629" y="1945"/>
                </a:lnTo>
                <a:lnTo>
                  <a:pt x="1659" y="1945"/>
                </a:lnTo>
                <a:lnTo>
                  <a:pt x="1682" y="1945"/>
                </a:lnTo>
                <a:lnTo>
                  <a:pt x="1706" y="1945"/>
                </a:lnTo>
                <a:lnTo>
                  <a:pt x="1735" y="1945"/>
                </a:lnTo>
                <a:lnTo>
                  <a:pt x="1759" y="1945"/>
                </a:lnTo>
                <a:lnTo>
                  <a:pt x="1782" y="1945"/>
                </a:lnTo>
                <a:lnTo>
                  <a:pt x="1812" y="1945"/>
                </a:lnTo>
                <a:lnTo>
                  <a:pt x="1835" y="1945"/>
                </a:lnTo>
                <a:lnTo>
                  <a:pt x="1859" y="1945"/>
                </a:lnTo>
                <a:lnTo>
                  <a:pt x="1888" y="1945"/>
                </a:lnTo>
                <a:lnTo>
                  <a:pt x="1912" y="1945"/>
                </a:lnTo>
                <a:lnTo>
                  <a:pt x="1935" y="1945"/>
                </a:lnTo>
                <a:lnTo>
                  <a:pt x="1965" y="1945"/>
                </a:lnTo>
                <a:lnTo>
                  <a:pt x="1988" y="1945"/>
                </a:lnTo>
                <a:lnTo>
                  <a:pt x="2012" y="1945"/>
                </a:lnTo>
                <a:lnTo>
                  <a:pt x="2041" y="1945"/>
                </a:lnTo>
                <a:lnTo>
                  <a:pt x="2065" y="1945"/>
                </a:lnTo>
                <a:lnTo>
                  <a:pt x="2088" y="1945"/>
                </a:lnTo>
                <a:lnTo>
                  <a:pt x="2118" y="1945"/>
                </a:lnTo>
                <a:lnTo>
                  <a:pt x="2141" y="1945"/>
                </a:lnTo>
                <a:lnTo>
                  <a:pt x="2165" y="1945"/>
                </a:lnTo>
                <a:lnTo>
                  <a:pt x="2194" y="1945"/>
                </a:lnTo>
                <a:lnTo>
                  <a:pt x="2218" y="1945"/>
                </a:lnTo>
                <a:lnTo>
                  <a:pt x="2241" y="1945"/>
                </a:lnTo>
                <a:lnTo>
                  <a:pt x="2271" y="1945"/>
                </a:lnTo>
                <a:lnTo>
                  <a:pt x="2294" y="1945"/>
                </a:lnTo>
                <a:lnTo>
                  <a:pt x="2318" y="1945"/>
                </a:lnTo>
                <a:lnTo>
                  <a:pt x="2347" y="1945"/>
                </a:lnTo>
                <a:lnTo>
                  <a:pt x="2371" y="1945"/>
                </a:lnTo>
                <a:lnTo>
                  <a:pt x="2394" y="1945"/>
                </a:lnTo>
                <a:lnTo>
                  <a:pt x="2424" y="1945"/>
                </a:lnTo>
                <a:lnTo>
                  <a:pt x="2447" y="1945"/>
                </a:lnTo>
                <a:lnTo>
                  <a:pt x="2471" y="1945"/>
                </a:lnTo>
                <a:lnTo>
                  <a:pt x="2500" y="1945"/>
                </a:lnTo>
                <a:lnTo>
                  <a:pt x="2524" y="194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5101560" y="304920"/>
            <a:ext cx="36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is not quite adequat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1/T = 1/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64760" y="76212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50), abs(yf3(1:5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14800" y="2700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plot in more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4800600" y="1066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143080" y="142704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143080" y="142704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43080" y="142704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2143080" y="142668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43080" y="527364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2143080" y="142668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143080" y="52182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143080" y="14270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10816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264168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4168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60676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3139920" y="52182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39920" y="14270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0500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3651120" y="52182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651120" y="14270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61620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414972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14972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11480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66092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66092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62600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515952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15952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12460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5657760" y="52182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657760" y="14270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62284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6168960" y="52182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168960" y="14270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13404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666756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66756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632640" y="530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7178760" y="52182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178760" y="14270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095960" y="5307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143080" y="5273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7119720" y="52736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79560" y="515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143080" y="4879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7119720" y="4879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143080" y="4497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7119720" y="44974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4383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143080" y="4114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7119720" y="4114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14308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7119720" y="373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752480" y="3619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143080" y="3349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7119720" y="3349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43080" y="2955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7119720" y="29559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752480" y="2843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143080" y="2573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119720" y="257328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143080" y="2192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119720" y="21924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52480" y="2077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143080" y="1809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7119720" y="18097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143080" y="14270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7119720" y="14270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9560" y="131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143080" y="142704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143080" y="1427040"/>
            <a:ext cx="4930920" cy="3835440"/>
          </a:xfrm>
          <a:custGeom>
            <a:avLst/>
            <a:gdLst/>
            <a:ahLst/>
            <a:rect l="l" t="t" r="r" b="b"/>
            <a:pathLst>
              <a:path w="3106" h="2416">
                <a:moveTo>
                  <a:pt x="0" y="2416"/>
                </a:moveTo>
                <a:lnTo>
                  <a:pt x="58" y="2416"/>
                </a:lnTo>
                <a:lnTo>
                  <a:pt x="124" y="2416"/>
                </a:lnTo>
                <a:lnTo>
                  <a:pt x="190" y="2416"/>
                </a:lnTo>
                <a:lnTo>
                  <a:pt x="248" y="2416"/>
                </a:lnTo>
                <a:lnTo>
                  <a:pt x="314" y="2416"/>
                </a:lnTo>
                <a:lnTo>
                  <a:pt x="380" y="2416"/>
                </a:lnTo>
                <a:lnTo>
                  <a:pt x="438" y="2416"/>
                </a:lnTo>
                <a:lnTo>
                  <a:pt x="504" y="2416"/>
                </a:lnTo>
                <a:lnTo>
                  <a:pt x="570" y="2416"/>
                </a:lnTo>
                <a:lnTo>
                  <a:pt x="628" y="2416"/>
                </a:lnTo>
                <a:lnTo>
                  <a:pt x="694" y="2416"/>
                </a:lnTo>
                <a:lnTo>
                  <a:pt x="760" y="2416"/>
                </a:lnTo>
                <a:lnTo>
                  <a:pt x="818" y="2416"/>
                </a:lnTo>
                <a:lnTo>
                  <a:pt x="884" y="2409"/>
                </a:lnTo>
                <a:lnTo>
                  <a:pt x="950" y="2416"/>
                </a:lnTo>
                <a:lnTo>
                  <a:pt x="1008" y="2402"/>
                </a:lnTo>
                <a:lnTo>
                  <a:pt x="1074" y="2402"/>
                </a:lnTo>
                <a:lnTo>
                  <a:pt x="1140" y="2395"/>
                </a:lnTo>
                <a:lnTo>
                  <a:pt x="1198" y="2359"/>
                </a:lnTo>
                <a:lnTo>
                  <a:pt x="1264" y="2416"/>
                </a:lnTo>
                <a:lnTo>
                  <a:pt x="1330" y="2147"/>
                </a:lnTo>
                <a:lnTo>
                  <a:pt x="1388" y="1587"/>
                </a:lnTo>
                <a:lnTo>
                  <a:pt x="1454" y="878"/>
                </a:lnTo>
                <a:lnTo>
                  <a:pt x="1520" y="255"/>
                </a:lnTo>
                <a:lnTo>
                  <a:pt x="1586" y="0"/>
                </a:lnTo>
                <a:lnTo>
                  <a:pt x="1644" y="212"/>
                </a:lnTo>
                <a:lnTo>
                  <a:pt x="1710" y="808"/>
                </a:lnTo>
                <a:lnTo>
                  <a:pt x="1776" y="1523"/>
                </a:lnTo>
                <a:lnTo>
                  <a:pt x="1834" y="2097"/>
                </a:lnTo>
                <a:lnTo>
                  <a:pt x="1900" y="2409"/>
                </a:lnTo>
                <a:lnTo>
                  <a:pt x="1966" y="2352"/>
                </a:lnTo>
                <a:lnTo>
                  <a:pt x="2024" y="2395"/>
                </a:lnTo>
                <a:lnTo>
                  <a:pt x="2090" y="2409"/>
                </a:lnTo>
                <a:lnTo>
                  <a:pt x="2156" y="2402"/>
                </a:lnTo>
                <a:lnTo>
                  <a:pt x="2214" y="2416"/>
                </a:lnTo>
                <a:lnTo>
                  <a:pt x="2280" y="2409"/>
                </a:lnTo>
                <a:lnTo>
                  <a:pt x="2346" y="2416"/>
                </a:lnTo>
                <a:lnTo>
                  <a:pt x="2404" y="2416"/>
                </a:lnTo>
                <a:lnTo>
                  <a:pt x="2470" y="2416"/>
                </a:lnTo>
                <a:lnTo>
                  <a:pt x="2536" y="2416"/>
                </a:lnTo>
                <a:lnTo>
                  <a:pt x="2594" y="2416"/>
                </a:lnTo>
                <a:lnTo>
                  <a:pt x="2660" y="2416"/>
                </a:lnTo>
                <a:lnTo>
                  <a:pt x="2726" y="2416"/>
                </a:lnTo>
                <a:lnTo>
                  <a:pt x="2784" y="2416"/>
                </a:lnTo>
                <a:lnTo>
                  <a:pt x="2850" y="2416"/>
                </a:lnTo>
                <a:lnTo>
                  <a:pt x="2916" y="2416"/>
                </a:lnTo>
                <a:lnTo>
                  <a:pt x="2974" y="2416"/>
                </a:lnTo>
                <a:lnTo>
                  <a:pt x="3040" y="2416"/>
                </a:lnTo>
                <a:lnTo>
                  <a:pt x="3106" y="241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119600" y="583236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improve these results with zero padding of our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457200" y="4572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187880" y="4191120"/>
            <a:ext cx="40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have 1024 points ov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econds, so dt is same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Ndt is twice a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133880" y="604800"/>
            <a:ext cx="4192560" cy="32036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133880" y="604800"/>
            <a:ext cx="419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133880" y="604800"/>
            <a:ext cx="4192560" cy="3203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4133880" y="604440"/>
            <a:ext cx="1440" cy="320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133880" y="3808440"/>
            <a:ext cx="419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133880" y="604440"/>
            <a:ext cx="1440" cy="320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413388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3388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0544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4549680" y="3760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549680" y="60480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52124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496584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96584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93560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538956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38956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6112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5805360" y="3760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805360" y="60480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7692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6230880" y="3760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230880" y="60480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20244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664704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64704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61680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7061040" y="3760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061040" y="60480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03260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7486560" y="3760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86560" y="604800"/>
            <a:ext cx="18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5812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90272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90272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872480" y="38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8326440" y="3760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326440" y="60480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259840" y="3835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33880" y="38084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8278920" y="38084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794040" y="3719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33880" y="34052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8278920" y="34052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33880" y="3002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8278920" y="30020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794040" y="291456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33880" y="26002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8278920" y="260028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33880" y="2206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8278920" y="22068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32200" y="211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33880" y="18032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8278920" y="180324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33880" y="14000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8278920" y="140004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32200" y="131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33880" y="998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8278920" y="9986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33880" y="604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8278920" y="6048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32200" y="517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33880" y="604800"/>
            <a:ext cx="4192560" cy="3203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33880" y="604800"/>
            <a:ext cx="628560" cy="3156120"/>
          </a:xfrm>
          <a:custGeom>
            <a:avLst/>
            <a:gdLst/>
            <a:ahLst/>
            <a:rect l="l" t="t" r="r" b="b"/>
            <a:pathLst>
              <a:path w="396" h="1988">
                <a:moveTo>
                  <a:pt x="6" y="1003"/>
                </a:moveTo>
                <a:lnTo>
                  <a:pt x="0" y="1003"/>
                </a:lnTo>
                <a:lnTo>
                  <a:pt x="6" y="1003"/>
                </a:lnTo>
                <a:lnTo>
                  <a:pt x="19" y="1015"/>
                </a:lnTo>
                <a:lnTo>
                  <a:pt x="19" y="1026"/>
                </a:lnTo>
                <a:lnTo>
                  <a:pt x="25" y="1032"/>
                </a:lnTo>
                <a:lnTo>
                  <a:pt x="31" y="1026"/>
                </a:lnTo>
                <a:lnTo>
                  <a:pt x="37" y="1009"/>
                </a:lnTo>
                <a:lnTo>
                  <a:pt x="37" y="991"/>
                </a:lnTo>
                <a:lnTo>
                  <a:pt x="43" y="973"/>
                </a:lnTo>
                <a:lnTo>
                  <a:pt x="43" y="950"/>
                </a:lnTo>
                <a:lnTo>
                  <a:pt x="49" y="932"/>
                </a:lnTo>
                <a:lnTo>
                  <a:pt x="49" y="908"/>
                </a:lnTo>
                <a:lnTo>
                  <a:pt x="55" y="908"/>
                </a:lnTo>
                <a:lnTo>
                  <a:pt x="55" y="920"/>
                </a:lnTo>
                <a:lnTo>
                  <a:pt x="61" y="944"/>
                </a:lnTo>
                <a:lnTo>
                  <a:pt x="61" y="979"/>
                </a:lnTo>
                <a:lnTo>
                  <a:pt x="67" y="1026"/>
                </a:lnTo>
                <a:lnTo>
                  <a:pt x="67" y="1127"/>
                </a:lnTo>
                <a:lnTo>
                  <a:pt x="73" y="1168"/>
                </a:lnTo>
                <a:lnTo>
                  <a:pt x="73" y="1203"/>
                </a:lnTo>
                <a:lnTo>
                  <a:pt x="79" y="1215"/>
                </a:lnTo>
                <a:lnTo>
                  <a:pt x="85" y="1186"/>
                </a:lnTo>
                <a:lnTo>
                  <a:pt x="85" y="1068"/>
                </a:lnTo>
                <a:lnTo>
                  <a:pt x="92" y="991"/>
                </a:lnTo>
                <a:lnTo>
                  <a:pt x="92" y="903"/>
                </a:lnTo>
                <a:lnTo>
                  <a:pt x="98" y="814"/>
                </a:lnTo>
                <a:lnTo>
                  <a:pt x="98" y="684"/>
                </a:lnTo>
                <a:lnTo>
                  <a:pt x="104" y="655"/>
                </a:lnTo>
                <a:lnTo>
                  <a:pt x="104" y="661"/>
                </a:lnTo>
                <a:lnTo>
                  <a:pt x="110" y="702"/>
                </a:lnTo>
                <a:lnTo>
                  <a:pt x="110" y="773"/>
                </a:lnTo>
                <a:lnTo>
                  <a:pt x="116" y="879"/>
                </a:lnTo>
                <a:lnTo>
                  <a:pt x="116" y="1133"/>
                </a:lnTo>
                <a:lnTo>
                  <a:pt x="122" y="1262"/>
                </a:lnTo>
                <a:lnTo>
                  <a:pt x="122" y="1380"/>
                </a:lnTo>
                <a:lnTo>
                  <a:pt x="128" y="1463"/>
                </a:lnTo>
                <a:lnTo>
                  <a:pt x="128" y="1510"/>
                </a:lnTo>
                <a:lnTo>
                  <a:pt x="134" y="1504"/>
                </a:lnTo>
                <a:lnTo>
                  <a:pt x="134" y="1357"/>
                </a:lnTo>
                <a:lnTo>
                  <a:pt x="140" y="1221"/>
                </a:lnTo>
                <a:lnTo>
                  <a:pt x="140" y="1050"/>
                </a:lnTo>
                <a:lnTo>
                  <a:pt x="146" y="873"/>
                </a:lnTo>
                <a:lnTo>
                  <a:pt x="146" y="696"/>
                </a:lnTo>
                <a:lnTo>
                  <a:pt x="152" y="543"/>
                </a:lnTo>
                <a:lnTo>
                  <a:pt x="152" y="354"/>
                </a:lnTo>
                <a:lnTo>
                  <a:pt x="158" y="348"/>
                </a:lnTo>
                <a:lnTo>
                  <a:pt x="158" y="407"/>
                </a:lnTo>
                <a:lnTo>
                  <a:pt x="165" y="519"/>
                </a:lnTo>
                <a:lnTo>
                  <a:pt x="165" y="690"/>
                </a:lnTo>
                <a:lnTo>
                  <a:pt x="171" y="897"/>
                </a:lnTo>
                <a:lnTo>
                  <a:pt x="171" y="1339"/>
                </a:lnTo>
                <a:lnTo>
                  <a:pt x="177" y="1540"/>
                </a:lnTo>
                <a:lnTo>
                  <a:pt x="177" y="1693"/>
                </a:lnTo>
                <a:lnTo>
                  <a:pt x="183" y="1788"/>
                </a:lnTo>
                <a:lnTo>
                  <a:pt x="183" y="1805"/>
                </a:lnTo>
                <a:lnTo>
                  <a:pt x="183" y="1752"/>
                </a:lnTo>
                <a:lnTo>
                  <a:pt x="189" y="1622"/>
                </a:lnTo>
                <a:lnTo>
                  <a:pt x="189" y="1434"/>
                </a:lnTo>
                <a:lnTo>
                  <a:pt x="195" y="1192"/>
                </a:lnTo>
                <a:lnTo>
                  <a:pt x="195" y="932"/>
                </a:lnTo>
                <a:lnTo>
                  <a:pt x="201" y="672"/>
                </a:lnTo>
                <a:lnTo>
                  <a:pt x="201" y="248"/>
                </a:lnTo>
                <a:lnTo>
                  <a:pt x="207" y="130"/>
                </a:lnTo>
                <a:lnTo>
                  <a:pt x="207" y="94"/>
                </a:lnTo>
                <a:lnTo>
                  <a:pt x="213" y="141"/>
                </a:lnTo>
                <a:lnTo>
                  <a:pt x="213" y="271"/>
                </a:lnTo>
                <a:lnTo>
                  <a:pt x="219" y="478"/>
                </a:lnTo>
                <a:lnTo>
                  <a:pt x="219" y="1021"/>
                </a:lnTo>
                <a:lnTo>
                  <a:pt x="225" y="1310"/>
                </a:lnTo>
                <a:lnTo>
                  <a:pt x="225" y="1575"/>
                </a:lnTo>
                <a:lnTo>
                  <a:pt x="232" y="1788"/>
                </a:lnTo>
                <a:lnTo>
                  <a:pt x="232" y="1935"/>
                </a:lnTo>
                <a:lnTo>
                  <a:pt x="238" y="1988"/>
                </a:lnTo>
                <a:lnTo>
                  <a:pt x="238" y="1829"/>
                </a:lnTo>
                <a:lnTo>
                  <a:pt x="244" y="1622"/>
                </a:lnTo>
                <a:lnTo>
                  <a:pt x="244" y="1363"/>
                </a:lnTo>
                <a:lnTo>
                  <a:pt x="250" y="1062"/>
                </a:lnTo>
                <a:lnTo>
                  <a:pt x="250" y="755"/>
                </a:lnTo>
                <a:lnTo>
                  <a:pt x="256" y="472"/>
                </a:lnTo>
                <a:lnTo>
                  <a:pt x="256" y="77"/>
                </a:lnTo>
                <a:lnTo>
                  <a:pt x="262" y="0"/>
                </a:lnTo>
                <a:lnTo>
                  <a:pt x="262" y="18"/>
                </a:lnTo>
                <a:lnTo>
                  <a:pt x="268" y="130"/>
                </a:lnTo>
                <a:lnTo>
                  <a:pt x="268" y="584"/>
                </a:lnTo>
                <a:lnTo>
                  <a:pt x="274" y="879"/>
                </a:lnTo>
                <a:lnTo>
                  <a:pt x="274" y="1186"/>
                </a:lnTo>
                <a:lnTo>
                  <a:pt x="280" y="1475"/>
                </a:lnTo>
                <a:lnTo>
                  <a:pt x="280" y="1717"/>
                </a:lnTo>
                <a:lnTo>
                  <a:pt x="286" y="1888"/>
                </a:lnTo>
                <a:lnTo>
                  <a:pt x="286" y="1982"/>
                </a:lnTo>
                <a:lnTo>
                  <a:pt x="286" y="1976"/>
                </a:lnTo>
                <a:lnTo>
                  <a:pt x="292" y="1882"/>
                </a:lnTo>
                <a:lnTo>
                  <a:pt x="292" y="1711"/>
                </a:lnTo>
                <a:lnTo>
                  <a:pt x="298" y="1475"/>
                </a:lnTo>
                <a:lnTo>
                  <a:pt x="298" y="1192"/>
                </a:lnTo>
                <a:lnTo>
                  <a:pt x="305" y="903"/>
                </a:lnTo>
                <a:lnTo>
                  <a:pt x="305" y="383"/>
                </a:lnTo>
                <a:lnTo>
                  <a:pt x="311" y="212"/>
                </a:lnTo>
                <a:lnTo>
                  <a:pt x="311" y="112"/>
                </a:lnTo>
                <a:lnTo>
                  <a:pt x="317" y="100"/>
                </a:lnTo>
                <a:lnTo>
                  <a:pt x="317" y="171"/>
                </a:lnTo>
                <a:lnTo>
                  <a:pt x="323" y="318"/>
                </a:lnTo>
                <a:lnTo>
                  <a:pt x="323" y="773"/>
                </a:lnTo>
                <a:lnTo>
                  <a:pt x="329" y="1038"/>
                </a:lnTo>
                <a:lnTo>
                  <a:pt x="329" y="1292"/>
                </a:lnTo>
                <a:lnTo>
                  <a:pt x="335" y="1516"/>
                </a:lnTo>
                <a:lnTo>
                  <a:pt x="335" y="1681"/>
                </a:lnTo>
                <a:lnTo>
                  <a:pt x="341" y="1782"/>
                </a:lnTo>
                <a:lnTo>
                  <a:pt x="341" y="1805"/>
                </a:lnTo>
                <a:lnTo>
                  <a:pt x="341" y="1758"/>
                </a:lnTo>
                <a:lnTo>
                  <a:pt x="347" y="1640"/>
                </a:lnTo>
                <a:lnTo>
                  <a:pt x="347" y="1463"/>
                </a:lnTo>
                <a:lnTo>
                  <a:pt x="353" y="1257"/>
                </a:lnTo>
                <a:lnTo>
                  <a:pt x="353" y="808"/>
                </a:lnTo>
                <a:lnTo>
                  <a:pt x="359" y="619"/>
                </a:lnTo>
                <a:lnTo>
                  <a:pt x="359" y="466"/>
                </a:lnTo>
                <a:lnTo>
                  <a:pt x="365" y="377"/>
                </a:lnTo>
                <a:lnTo>
                  <a:pt x="365" y="342"/>
                </a:lnTo>
                <a:lnTo>
                  <a:pt x="371" y="377"/>
                </a:lnTo>
                <a:lnTo>
                  <a:pt x="371" y="602"/>
                </a:lnTo>
                <a:lnTo>
                  <a:pt x="378" y="767"/>
                </a:lnTo>
                <a:lnTo>
                  <a:pt x="378" y="944"/>
                </a:lnTo>
                <a:lnTo>
                  <a:pt x="384" y="1121"/>
                </a:lnTo>
                <a:lnTo>
                  <a:pt x="384" y="1280"/>
                </a:lnTo>
                <a:lnTo>
                  <a:pt x="390" y="1404"/>
                </a:lnTo>
                <a:lnTo>
                  <a:pt x="390" y="1510"/>
                </a:lnTo>
                <a:lnTo>
                  <a:pt x="396" y="149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762440" y="1644480"/>
            <a:ext cx="1052640" cy="1330560"/>
          </a:xfrm>
          <a:custGeom>
            <a:avLst/>
            <a:gdLst/>
            <a:ahLst/>
            <a:rect l="l" t="t" r="r" b="b"/>
            <a:pathLst>
              <a:path w="663" h="838">
                <a:moveTo>
                  <a:pt x="0" y="838"/>
                </a:moveTo>
                <a:lnTo>
                  <a:pt x="0" y="779"/>
                </a:lnTo>
                <a:lnTo>
                  <a:pt x="6" y="678"/>
                </a:lnTo>
                <a:lnTo>
                  <a:pt x="6" y="560"/>
                </a:lnTo>
                <a:lnTo>
                  <a:pt x="12" y="425"/>
                </a:lnTo>
                <a:lnTo>
                  <a:pt x="12" y="177"/>
                </a:lnTo>
                <a:lnTo>
                  <a:pt x="18" y="88"/>
                </a:lnTo>
                <a:lnTo>
                  <a:pt x="18" y="23"/>
                </a:lnTo>
                <a:lnTo>
                  <a:pt x="24" y="0"/>
                </a:lnTo>
                <a:lnTo>
                  <a:pt x="24" y="6"/>
                </a:lnTo>
                <a:lnTo>
                  <a:pt x="30" y="47"/>
                </a:lnTo>
                <a:lnTo>
                  <a:pt x="30" y="194"/>
                </a:lnTo>
                <a:lnTo>
                  <a:pt x="36" y="283"/>
                </a:lnTo>
                <a:lnTo>
                  <a:pt x="36" y="366"/>
                </a:lnTo>
                <a:lnTo>
                  <a:pt x="42" y="442"/>
                </a:lnTo>
                <a:lnTo>
                  <a:pt x="42" y="543"/>
                </a:lnTo>
                <a:lnTo>
                  <a:pt x="49" y="560"/>
                </a:lnTo>
                <a:lnTo>
                  <a:pt x="55" y="537"/>
                </a:lnTo>
                <a:lnTo>
                  <a:pt x="55" y="495"/>
                </a:lnTo>
                <a:lnTo>
                  <a:pt x="61" y="448"/>
                </a:lnTo>
                <a:lnTo>
                  <a:pt x="61" y="354"/>
                </a:lnTo>
                <a:lnTo>
                  <a:pt x="67" y="312"/>
                </a:lnTo>
                <a:lnTo>
                  <a:pt x="67" y="277"/>
                </a:lnTo>
                <a:lnTo>
                  <a:pt x="73" y="259"/>
                </a:lnTo>
                <a:lnTo>
                  <a:pt x="73" y="248"/>
                </a:lnTo>
                <a:lnTo>
                  <a:pt x="79" y="253"/>
                </a:lnTo>
                <a:lnTo>
                  <a:pt x="79" y="283"/>
                </a:lnTo>
                <a:lnTo>
                  <a:pt x="85" y="307"/>
                </a:lnTo>
                <a:lnTo>
                  <a:pt x="85" y="324"/>
                </a:lnTo>
                <a:lnTo>
                  <a:pt x="91" y="348"/>
                </a:lnTo>
                <a:lnTo>
                  <a:pt x="91" y="360"/>
                </a:lnTo>
                <a:lnTo>
                  <a:pt x="103" y="377"/>
                </a:lnTo>
                <a:lnTo>
                  <a:pt x="97" y="377"/>
                </a:lnTo>
                <a:lnTo>
                  <a:pt x="103" y="371"/>
                </a:lnTo>
                <a:lnTo>
                  <a:pt x="109" y="366"/>
                </a:lnTo>
                <a:lnTo>
                  <a:pt x="109" y="360"/>
                </a:lnTo>
                <a:lnTo>
                  <a:pt x="122" y="348"/>
                </a:lnTo>
                <a:lnTo>
                  <a:pt x="115" y="348"/>
                </a:lnTo>
                <a:lnTo>
                  <a:pt x="122" y="348"/>
                </a:lnTo>
                <a:lnTo>
                  <a:pt x="128" y="354"/>
                </a:lnTo>
                <a:lnTo>
                  <a:pt x="134" y="354"/>
                </a:lnTo>
                <a:lnTo>
                  <a:pt x="140" y="354"/>
                </a:lnTo>
                <a:lnTo>
                  <a:pt x="146" y="354"/>
                </a:lnTo>
                <a:lnTo>
                  <a:pt x="152" y="354"/>
                </a:lnTo>
                <a:lnTo>
                  <a:pt x="158" y="354"/>
                </a:lnTo>
                <a:lnTo>
                  <a:pt x="164" y="354"/>
                </a:lnTo>
                <a:lnTo>
                  <a:pt x="170" y="354"/>
                </a:lnTo>
                <a:lnTo>
                  <a:pt x="176" y="354"/>
                </a:lnTo>
                <a:lnTo>
                  <a:pt x="182" y="354"/>
                </a:lnTo>
                <a:lnTo>
                  <a:pt x="188" y="354"/>
                </a:lnTo>
                <a:lnTo>
                  <a:pt x="195" y="354"/>
                </a:lnTo>
                <a:lnTo>
                  <a:pt x="201" y="354"/>
                </a:lnTo>
                <a:lnTo>
                  <a:pt x="207" y="354"/>
                </a:lnTo>
                <a:lnTo>
                  <a:pt x="213" y="354"/>
                </a:lnTo>
                <a:lnTo>
                  <a:pt x="219" y="354"/>
                </a:lnTo>
                <a:lnTo>
                  <a:pt x="225" y="354"/>
                </a:lnTo>
                <a:lnTo>
                  <a:pt x="231" y="354"/>
                </a:lnTo>
                <a:lnTo>
                  <a:pt x="237" y="354"/>
                </a:lnTo>
                <a:lnTo>
                  <a:pt x="243" y="354"/>
                </a:lnTo>
                <a:lnTo>
                  <a:pt x="249" y="354"/>
                </a:lnTo>
                <a:lnTo>
                  <a:pt x="255" y="354"/>
                </a:lnTo>
                <a:lnTo>
                  <a:pt x="262" y="354"/>
                </a:lnTo>
                <a:lnTo>
                  <a:pt x="268" y="354"/>
                </a:lnTo>
                <a:lnTo>
                  <a:pt x="274" y="354"/>
                </a:lnTo>
                <a:lnTo>
                  <a:pt x="280" y="354"/>
                </a:lnTo>
                <a:lnTo>
                  <a:pt x="286" y="354"/>
                </a:lnTo>
                <a:lnTo>
                  <a:pt x="292" y="354"/>
                </a:lnTo>
                <a:lnTo>
                  <a:pt x="298" y="354"/>
                </a:lnTo>
                <a:lnTo>
                  <a:pt x="304" y="354"/>
                </a:lnTo>
                <a:lnTo>
                  <a:pt x="310" y="354"/>
                </a:lnTo>
                <a:lnTo>
                  <a:pt x="316" y="354"/>
                </a:lnTo>
                <a:lnTo>
                  <a:pt x="322" y="354"/>
                </a:lnTo>
                <a:lnTo>
                  <a:pt x="328" y="354"/>
                </a:lnTo>
                <a:lnTo>
                  <a:pt x="335" y="354"/>
                </a:lnTo>
                <a:lnTo>
                  <a:pt x="341" y="354"/>
                </a:lnTo>
                <a:lnTo>
                  <a:pt x="347" y="354"/>
                </a:lnTo>
                <a:lnTo>
                  <a:pt x="353" y="354"/>
                </a:lnTo>
                <a:lnTo>
                  <a:pt x="359" y="354"/>
                </a:lnTo>
                <a:lnTo>
                  <a:pt x="365" y="354"/>
                </a:lnTo>
                <a:lnTo>
                  <a:pt x="371" y="354"/>
                </a:lnTo>
                <a:lnTo>
                  <a:pt x="377" y="354"/>
                </a:lnTo>
                <a:lnTo>
                  <a:pt x="383" y="354"/>
                </a:lnTo>
                <a:lnTo>
                  <a:pt x="389" y="354"/>
                </a:lnTo>
                <a:lnTo>
                  <a:pt x="395" y="354"/>
                </a:lnTo>
                <a:lnTo>
                  <a:pt x="401" y="354"/>
                </a:lnTo>
                <a:lnTo>
                  <a:pt x="408" y="354"/>
                </a:lnTo>
                <a:lnTo>
                  <a:pt x="414" y="354"/>
                </a:lnTo>
                <a:lnTo>
                  <a:pt x="420" y="354"/>
                </a:lnTo>
                <a:lnTo>
                  <a:pt x="426" y="354"/>
                </a:lnTo>
                <a:lnTo>
                  <a:pt x="432" y="354"/>
                </a:lnTo>
                <a:lnTo>
                  <a:pt x="438" y="354"/>
                </a:lnTo>
                <a:lnTo>
                  <a:pt x="444" y="354"/>
                </a:lnTo>
                <a:lnTo>
                  <a:pt x="450" y="354"/>
                </a:lnTo>
                <a:lnTo>
                  <a:pt x="456" y="354"/>
                </a:lnTo>
                <a:lnTo>
                  <a:pt x="462" y="354"/>
                </a:lnTo>
                <a:lnTo>
                  <a:pt x="468" y="354"/>
                </a:lnTo>
                <a:lnTo>
                  <a:pt x="475" y="354"/>
                </a:lnTo>
                <a:lnTo>
                  <a:pt x="481" y="354"/>
                </a:lnTo>
                <a:lnTo>
                  <a:pt x="487" y="354"/>
                </a:lnTo>
                <a:lnTo>
                  <a:pt x="493" y="354"/>
                </a:lnTo>
                <a:lnTo>
                  <a:pt x="499" y="354"/>
                </a:lnTo>
                <a:lnTo>
                  <a:pt x="505" y="354"/>
                </a:lnTo>
                <a:lnTo>
                  <a:pt x="511" y="354"/>
                </a:lnTo>
                <a:lnTo>
                  <a:pt x="517" y="354"/>
                </a:lnTo>
                <a:lnTo>
                  <a:pt x="523" y="354"/>
                </a:lnTo>
                <a:lnTo>
                  <a:pt x="529" y="354"/>
                </a:lnTo>
                <a:lnTo>
                  <a:pt x="535" y="354"/>
                </a:lnTo>
                <a:lnTo>
                  <a:pt x="541" y="354"/>
                </a:lnTo>
                <a:lnTo>
                  <a:pt x="548" y="354"/>
                </a:lnTo>
                <a:lnTo>
                  <a:pt x="554" y="354"/>
                </a:lnTo>
                <a:lnTo>
                  <a:pt x="560" y="354"/>
                </a:lnTo>
                <a:lnTo>
                  <a:pt x="566" y="354"/>
                </a:lnTo>
                <a:lnTo>
                  <a:pt x="572" y="354"/>
                </a:lnTo>
                <a:lnTo>
                  <a:pt x="578" y="354"/>
                </a:lnTo>
                <a:lnTo>
                  <a:pt x="584" y="354"/>
                </a:lnTo>
                <a:lnTo>
                  <a:pt x="590" y="354"/>
                </a:lnTo>
                <a:lnTo>
                  <a:pt x="596" y="354"/>
                </a:lnTo>
                <a:lnTo>
                  <a:pt x="602" y="354"/>
                </a:lnTo>
                <a:lnTo>
                  <a:pt x="608" y="354"/>
                </a:lnTo>
                <a:lnTo>
                  <a:pt x="614" y="354"/>
                </a:lnTo>
                <a:lnTo>
                  <a:pt x="621" y="354"/>
                </a:lnTo>
                <a:lnTo>
                  <a:pt x="627" y="354"/>
                </a:lnTo>
                <a:lnTo>
                  <a:pt x="633" y="354"/>
                </a:lnTo>
                <a:lnTo>
                  <a:pt x="639" y="354"/>
                </a:lnTo>
                <a:lnTo>
                  <a:pt x="645" y="354"/>
                </a:lnTo>
                <a:lnTo>
                  <a:pt x="651" y="354"/>
                </a:lnTo>
                <a:lnTo>
                  <a:pt x="657" y="354"/>
                </a:lnTo>
                <a:lnTo>
                  <a:pt x="663" y="35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15080" y="2206800"/>
            <a:ext cx="1227240" cy="1440"/>
          </a:xfrm>
          <a:custGeom>
            <a:avLst/>
            <a:gdLst/>
            <a:ahLst/>
            <a:rect l="l" t="t" r="r" b="b"/>
            <a:pathLst>
              <a:path w="773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91" y="0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22" y="0"/>
                </a:lnTo>
                <a:lnTo>
                  <a:pt x="128" y="0"/>
                </a:lnTo>
                <a:lnTo>
                  <a:pt x="134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8" y="0"/>
                </a:lnTo>
                <a:lnTo>
                  <a:pt x="164" y="0"/>
                </a:lnTo>
                <a:lnTo>
                  <a:pt x="171" y="0"/>
                </a:lnTo>
                <a:lnTo>
                  <a:pt x="177" y="0"/>
                </a:lnTo>
                <a:lnTo>
                  <a:pt x="183" y="0"/>
                </a:lnTo>
                <a:lnTo>
                  <a:pt x="189" y="0"/>
                </a:lnTo>
                <a:lnTo>
                  <a:pt x="195" y="0"/>
                </a:lnTo>
                <a:lnTo>
                  <a:pt x="201" y="0"/>
                </a:lnTo>
                <a:lnTo>
                  <a:pt x="207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2" y="0"/>
                </a:lnTo>
                <a:lnTo>
                  <a:pt x="268" y="0"/>
                </a:lnTo>
                <a:lnTo>
                  <a:pt x="274" y="0"/>
                </a:lnTo>
                <a:lnTo>
                  <a:pt x="280" y="0"/>
                </a:lnTo>
                <a:lnTo>
                  <a:pt x="286" y="0"/>
                </a:lnTo>
                <a:lnTo>
                  <a:pt x="292" y="0"/>
                </a:lnTo>
                <a:lnTo>
                  <a:pt x="298" y="0"/>
                </a:lnTo>
                <a:lnTo>
                  <a:pt x="304" y="0"/>
                </a:lnTo>
                <a:lnTo>
                  <a:pt x="311" y="0"/>
                </a:lnTo>
                <a:lnTo>
                  <a:pt x="317" y="0"/>
                </a:lnTo>
                <a:lnTo>
                  <a:pt x="323" y="0"/>
                </a:lnTo>
                <a:lnTo>
                  <a:pt x="329" y="0"/>
                </a:lnTo>
                <a:lnTo>
                  <a:pt x="335" y="0"/>
                </a:lnTo>
                <a:lnTo>
                  <a:pt x="341" y="0"/>
                </a:lnTo>
                <a:lnTo>
                  <a:pt x="347" y="0"/>
                </a:lnTo>
                <a:lnTo>
                  <a:pt x="353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7" y="0"/>
                </a:lnTo>
                <a:lnTo>
                  <a:pt x="384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1" y="0"/>
                </a:lnTo>
                <a:lnTo>
                  <a:pt x="457" y="0"/>
                </a:lnTo>
                <a:lnTo>
                  <a:pt x="463" y="0"/>
                </a:lnTo>
                <a:lnTo>
                  <a:pt x="469" y="0"/>
                </a:lnTo>
                <a:lnTo>
                  <a:pt x="475" y="0"/>
                </a:lnTo>
                <a:lnTo>
                  <a:pt x="481" y="0"/>
                </a:lnTo>
                <a:lnTo>
                  <a:pt x="487" y="0"/>
                </a:lnTo>
                <a:lnTo>
                  <a:pt x="493" y="0"/>
                </a:lnTo>
                <a:lnTo>
                  <a:pt x="499" y="0"/>
                </a:lnTo>
                <a:lnTo>
                  <a:pt x="505" y="0"/>
                </a:lnTo>
                <a:lnTo>
                  <a:pt x="511" y="0"/>
                </a:lnTo>
                <a:lnTo>
                  <a:pt x="517" y="0"/>
                </a:lnTo>
                <a:lnTo>
                  <a:pt x="524" y="0"/>
                </a:lnTo>
                <a:lnTo>
                  <a:pt x="530" y="0"/>
                </a:lnTo>
                <a:lnTo>
                  <a:pt x="536" y="0"/>
                </a:lnTo>
                <a:lnTo>
                  <a:pt x="542" y="0"/>
                </a:lnTo>
                <a:lnTo>
                  <a:pt x="548" y="0"/>
                </a:lnTo>
                <a:lnTo>
                  <a:pt x="554" y="0"/>
                </a:lnTo>
                <a:lnTo>
                  <a:pt x="560" y="0"/>
                </a:lnTo>
                <a:lnTo>
                  <a:pt x="566" y="0"/>
                </a:lnTo>
                <a:lnTo>
                  <a:pt x="572" y="0"/>
                </a:lnTo>
                <a:lnTo>
                  <a:pt x="578" y="0"/>
                </a:lnTo>
                <a:lnTo>
                  <a:pt x="584" y="0"/>
                </a:lnTo>
                <a:lnTo>
                  <a:pt x="590" y="0"/>
                </a:lnTo>
                <a:lnTo>
                  <a:pt x="597" y="0"/>
                </a:lnTo>
                <a:lnTo>
                  <a:pt x="603" y="0"/>
                </a:lnTo>
                <a:lnTo>
                  <a:pt x="609" y="0"/>
                </a:lnTo>
                <a:lnTo>
                  <a:pt x="615" y="0"/>
                </a:lnTo>
                <a:lnTo>
                  <a:pt x="621" y="0"/>
                </a:lnTo>
                <a:lnTo>
                  <a:pt x="627" y="0"/>
                </a:lnTo>
                <a:lnTo>
                  <a:pt x="633" y="0"/>
                </a:lnTo>
                <a:lnTo>
                  <a:pt x="639" y="0"/>
                </a:lnTo>
                <a:lnTo>
                  <a:pt x="645" y="0"/>
                </a:lnTo>
                <a:lnTo>
                  <a:pt x="651" y="0"/>
                </a:lnTo>
                <a:lnTo>
                  <a:pt x="657" y="0"/>
                </a:lnTo>
                <a:lnTo>
                  <a:pt x="664" y="0"/>
                </a:lnTo>
                <a:lnTo>
                  <a:pt x="670" y="0"/>
                </a:lnTo>
                <a:lnTo>
                  <a:pt x="676" y="0"/>
                </a:lnTo>
                <a:lnTo>
                  <a:pt x="682" y="0"/>
                </a:lnTo>
                <a:lnTo>
                  <a:pt x="688" y="0"/>
                </a:lnTo>
                <a:lnTo>
                  <a:pt x="694" y="0"/>
                </a:lnTo>
                <a:lnTo>
                  <a:pt x="700" y="0"/>
                </a:lnTo>
                <a:lnTo>
                  <a:pt x="706" y="0"/>
                </a:lnTo>
                <a:lnTo>
                  <a:pt x="712" y="0"/>
                </a:lnTo>
                <a:lnTo>
                  <a:pt x="718" y="0"/>
                </a:lnTo>
                <a:lnTo>
                  <a:pt x="724" y="0"/>
                </a:lnTo>
                <a:lnTo>
                  <a:pt x="730" y="0"/>
                </a:lnTo>
                <a:lnTo>
                  <a:pt x="737" y="0"/>
                </a:lnTo>
                <a:lnTo>
                  <a:pt x="743" y="0"/>
                </a:lnTo>
                <a:lnTo>
                  <a:pt x="749" y="0"/>
                </a:lnTo>
                <a:lnTo>
                  <a:pt x="755" y="0"/>
                </a:lnTo>
                <a:lnTo>
                  <a:pt x="761" y="0"/>
                </a:lnTo>
                <a:lnTo>
                  <a:pt x="767" y="0"/>
                </a:lnTo>
                <a:lnTo>
                  <a:pt x="77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042320" y="2206800"/>
            <a:ext cx="1226880" cy="1440"/>
          </a:xfrm>
          <a:custGeom>
            <a:avLst/>
            <a:gdLst/>
            <a:ahLst/>
            <a:rect l="l" t="t" r="r" b="b"/>
            <a:pathLst>
              <a:path w="773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7" y="0"/>
                </a:lnTo>
                <a:lnTo>
                  <a:pt x="43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91" y="0"/>
                </a:lnTo>
                <a:lnTo>
                  <a:pt x="97" y="0"/>
                </a:ln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22" y="0"/>
                </a:lnTo>
                <a:lnTo>
                  <a:pt x="128" y="0"/>
                </a:lnTo>
                <a:lnTo>
                  <a:pt x="134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8" y="0"/>
                </a:lnTo>
                <a:lnTo>
                  <a:pt x="164" y="0"/>
                </a:lnTo>
                <a:lnTo>
                  <a:pt x="170" y="0"/>
                </a:lnTo>
                <a:lnTo>
                  <a:pt x="177" y="0"/>
                </a:lnTo>
                <a:lnTo>
                  <a:pt x="183" y="0"/>
                </a:lnTo>
                <a:lnTo>
                  <a:pt x="189" y="0"/>
                </a:lnTo>
                <a:lnTo>
                  <a:pt x="195" y="0"/>
                </a:lnTo>
                <a:lnTo>
                  <a:pt x="201" y="0"/>
                </a:lnTo>
                <a:lnTo>
                  <a:pt x="207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7" y="0"/>
                </a:lnTo>
                <a:lnTo>
                  <a:pt x="243" y="0"/>
                </a:lnTo>
                <a:lnTo>
                  <a:pt x="250" y="0"/>
                </a:lnTo>
                <a:lnTo>
                  <a:pt x="256" y="0"/>
                </a:lnTo>
                <a:lnTo>
                  <a:pt x="262" y="0"/>
                </a:lnTo>
                <a:lnTo>
                  <a:pt x="268" y="0"/>
                </a:lnTo>
                <a:lnTo>
                  <a:pt x="274" y="0"/>
                </a:lnTo>
                <a:lnTo>
                  <a:pt x="280" y="0"/>
                </a:lnTo>
                <a:lnTo>
                  <a:pt x="286" y="0"/>
                </a:lnTo>
                <a:lnTo>
                  <a:pt x="292" y="0"/>
                </a:lnTo>
                <a:lnTo>
                  <a:pt x="298" y="0"/>
                </a:lnTo>
                <a:lnTo>
                  <a:pt x="304" y="0"/>
                </a:lnTo>
                <a:lnTo>
                  <a:pt x="310" y="0"/>
                </a:lnTo>
                <a:lnTo>
                  <a:pt x="317" y="0"/>
                </a:lnTo>
                <a:lnTo>
                  <a:pt x="323" y="0"/>
                </a:lnTo>
                <a:lnTo>
                  <a:pt x="329" y="0"/>
                </a:lnTo>
                <a:lnTo>
                  <a:pt x="335" y="0"/>
                </a:lnTo>
                <a:lnTo>
                  <a:pt x="341" y="0"/>
                </a:lnTo>
                <a:lnTo>
                  <a:pt x="347" y="0"/>
                </a:lnTo>
                <a:lnTo>
                  <a:pt x="353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0" y="0"/>
                </a:lnTo>
                <a:lnTo>
                  <a:pt x="396" y="0"/>
                </a:lnTo>
                <a:lnTo>
                  <a:pt x="402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0" y="0"/>
                </a:lnTo>
                <a:lnTo>
                  <a:pt x="456" y="0"/>
                </a:lnTo>
                <a:lnTo>
                  <a:pt x="463" y="0"/>
                </a:lnTo>
                <a:lnTo>
                  <a:pt x="469" y="0"/>
                </a:lnTo>
                <a:lnTo>
                  <a:pt x="475" y="0"/>
                </a:lnTo>
                <a:lnTo>
                  <a:pt x="481" y="0"/>
                </a:lnTo>
                <a:lnTo>
                  <a:pt x="487" y="0"/>
                </a:lnTo>
                <a:lnTo>
                  <a:pt x="493" y="0"/>
                </a:lnTo>
                <a:lnTo>
                  <a:pt x="499" y="0"/>
                </a:lnTo>
                <a:lnTo>
                  <a:pt x="505" y="0"/>
                </a:lnTo>
                <a:lnTo>
                  <a:pt x="511" y="0"/>
                </a:lnTo>
                <a:lnTo>
                  <a:pt x="517" y="0"/>
                </a:lnTo>
                <a:lnTo>
                  <a:pt x="523" y="0"/>
                </a:lnTo>
                <a:lnTo>
                  <a:pt x="530" y="0"/>
                </a:lnTo>
                <a:lnTo>
                  <a:pt x="536" y="0"/>
                </a:lnTo>
                <a:lnTo>
                  <a:pt x="542" y="0"/>
                </a:lnTo>
                <a:lnTo>
                  <a:pt x="548" y="0"/>
                </a:lnTo>
                <a:lnTo>
                  <a:pt x="554" y="0"/>
                </a:lnTo>
                <a:lnTo>
                  <a:pt x="560" y="0"/>
                </a:lnTo>
                <a:lnTo>
                  <a:pt x="566" y="0"/>
                </a:lnTo>
                <a:lnTo>
                  <a:pt x="572" y="0"/>
                </a:lnTo>
                <a:lnTo>
                  <a:pt x="578" y="0"/>
                </a:lnTo>
                <a:lnTo>
                  <a:pt x="584" y="0"/>
                </a:lnTo>
                <a:lnTo>
                  <a:pt x="590" y="0"/>
                </a:lnTo>
                <a:lnTo>
                  <a:pt x="596" y="0"/>
                </a:lnTo>
                <a:lnTo>
                  <a:pt x="603" y="0"/>
                </a:lnTo>
                <a:lnTo>
                  <a:pt x="609" y="0"/>
                </a:lnTo>
                <a:lnTo>
                  <a:pt x="615" y="0"/>
                </a:lnTo>
                <a:lnTo>
                  <a:pt x="621" y="0"/>
                </a:lnTo>
                <a:lnTo>
                  <a:pt x="627" y="0"/>
                </a:lnTo>
                <a:lnTo>
                  <a:pt x="633" y="0"/>
                </a:lnTo>
                <a:lnTo>
                  <a:pt x="639" y="0"/>
                </a:lnTo>
                <a:lnTo>
                  <a:pt x="645" y="0"/>
                </a:lnTo>
                <a:lnTo>
                  <a:pt x="651" y="0"/>
                </a:lnTo>
                <a:lnTo>
                  <a:pt x="657" y="0"/>
                </a:lnTo>
                <a:lnTo>
                  <a:pt x="663" y="0"/>
                </a:lnTo>
                <a:lnTo>
                  <a:pt x="669" y="0"/>
                </a:lnTo>
                <a:lnTo>
                  <a:pt x="676" y="0"/>
                </a:lnTo>
                <a:lnTo>
                  <a:pt x="682" y="0"/>
                </a:lnTo>
                <a:lnTo>
                  <a:pt x="688" y="0"/>
                </a:lnTo>
                <a:lnTo>
                  <a:pt x="694" y="0"/>
                </a:lnTo>
                <a:lnTo>
                  <a:pt x="700" y="0"/>
                </a:lnTo>
                <a:lnTo>
                  <a:pt x="706" y="0"/>
                </a:lnTo>
                <a:lnTo>
                  <a:pt x="712" y="0"/>
                </a:lnTo>
                <a:lnTo>
                  <a:pt x="718" y="0"/>
                </a:lnTo>
                <a:lnTo>
                  <a:pt x="724" y="0"/>
                </a:lnTo>
                <a:lnTo>
                  <a:pt x="730" y="0"/>
                </a:lnTo>
                <a:lnTo>
                  <a:pt x="736" y="0"/>
                </a:lnTo>
                <a:lnTo>
                  <a:pt x="743" y="0"/>
                </a:lnTo>
                <a:lnTo>
                  <a:pt x="749" y="0"/>
                </a:lnTo>
                <a:lnTo>
                  <a:pt x="755" y="0"/>
                </a:lnTo>
                <a:lnTo>
                  <a:pt x="761" y="0"/>
                </a:lnTo>
                <a:lnTo>
                  <a:pt x="767" y="0"/>
                </a:lnTo>
                <a:lnTo>
                  <a:pt x="77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269200" y="220680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80880" y="1219320"/>
            <a:ext cx="457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&gt; t=s_space(0, 10, 102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&gt; y=pulse_ref(1, 5,10, 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&gt; plot(t,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&gt; dt = t(2) -t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t = 0.0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2760" y="3352680"/>
            <a:ext cx="342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, originally, w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s_space(0,5, 51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also zero pad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[t, zeros(1, 512)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438280" y="990720"/>
          <a:ext cx="3802320" cy="18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380232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576080" y="3317760"/>
            <a:ext cx="716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ourier integral pairs normally are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ly by sampling the time an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functions at discrete values of 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nd then using the discrete Fourier trans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late the sampl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457200" y="38088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4 = FourierT(y, 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f = s_space(0, 1/dt, 102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(1:100), abs(yf4(1:100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249080" y="345960"/>
            <a:ext cx="39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represent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1/T = 1/1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981160" y="1579680"/>
            <a:ext cx="5035680" cy="3846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981160" y="15796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981160" y="15796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981160" y="15796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81160" y="542592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981160" y="15796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98116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98116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4624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47976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47976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44484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3978360" y="53704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978360" y="1579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94344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4489560" y="53704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489560" y="1579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45464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98780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98780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95288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549900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9900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6408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5997600" y="53704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997600" y="1579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96268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6496200" y="53704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496200" y="1579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46128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7007400" y="53704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07400" y="1579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97248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750564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0564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47072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8016840" y="53704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016840" y="15796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934400" y="545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81160" y="5425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7957800" y="542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730600" y="5335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981160" y="4875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7957800" y="4875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03520" y="47847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981160" y="4324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7957800" y="4324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603520" y="4233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81160" y="3772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7957800" y="37720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603520" y="3683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981160" y="3220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7957800" y="3220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603520" y="3132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981160" y="2670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5780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730600" y="25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981160" y="2119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7957800" y="21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603520" y="2028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981160" y="1579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H="1">
            <a:off x="7957800" y="15796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603520" y="1488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981160" y="15796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981160" y="2670120"/>
            <a:ext cx="4977000" cy="2745000"/>
          </a:xfrm>
          <a:custGeom>
            <a:avLst/>
            <a:gdLst/>
            <a:ahLst/>
            <a:rect l="l" t="t" r="r" b="b"/>
            <a:pathLst>
              <a:path w="3135" h="1729">
                <a:moveTo>
                  <a:pt x="0" y="1729"/>
                </a:moveTo>
                <a:lnTo>
                  <a:pt x="29" y="1729"/>
                </a:lnTo>
                <a:lnTo>
                  <a:pt x="58" y="1729"/>
                </a:lnTo>
                <a:lnTo>
                  <a:pt x="95" y="1729"/>
                </a:lnTo>
                <a:lnTo>
                  <a:pt x="124" y="1729"/>
                </a:lnTo>
                <a:lnTo>
                  <a:pt x="153" y="1729"/>
                </a:lnTo>
                <a:lnTo>
                  <a:pt x="190" y="1729"/>
                </a:lnTo>
                <a:lnTo>
                  <a:pt x="219" y="1729"/>
                </a:lnTo>
                <a:lnTo>
                  <a:pt x="248" y="1729"/>
                </a:lnTo>
                <a:lnTo>
                  <a:pt x="285" y="1729"/>
                </a:lnTo>
                <a:lnTo>
                  <a:pt x="314" y="1729"/>
                </a:lnTo>
                <a:lnTo>
                  <a:pt x="343" y="1729"/>
                </a:lnTo>
                <a:lnTo>
                  <a:pt x="380" y="1729"/>
                </a:lnTo>
                <a:lnTo>
                  <a:pt x="409" y="1729"/>
                </a:lnTo>
                <a:lnTo>
                  <a:pt x="438" y="1729"/>
                </a:lnTo>
                <a:lnTo>
                  <a:pt x="475" y="1729"/>
                </a:lnTo>
                <a:lnTo>
                  <a:pt x="504" y="1729"/>
                </a:lnTo>
                <a:lnTo>
                  <a:pt x="533" y="1729"/>
                </a:lnTo>
                <a:lnTo>
                  <a:pt x="570" y="1729"/>
                </a:lnTo>
                <a:lnTo>
                  <a:pt x="599" y="1729"/>
                </a:lnTo>
                <a:lnTo>
                  <a:pt x="628" y="1729"/>
                </a:lnTo>
                <a:lnTo>
                  <a:pt x="665" y="1729"/>
                </a:lnTo>
                <a:lnTo>
                  <a:pt x="694" y="1729"/>
                </a:lnTo>
                <a:lnTo>
                  <a:pt x="723" y="1729"/>
                </a:lnTo>
                <a:lnTo>
                  <a:pt x="760" y="1729"/>
                </a:lnTo>
                <a:lnTo>
                  <a:pt x="789" y="1729"/>
                </a:lnTo>
                <a:lnTo>
                  <a:pt x="818" y="1729"/>
                </a:lnTo>
                <a:lnTo>
                  <a:pt x="855" y="1729"/>
                </a:lnTo>
                <a:lnTo>
                  <a:pt x="884" y="1729"/>
                </a:lnTo>
                <a:lnTo>
                  <a:pt x="913" y="1729"/>
                </a:lnTo>
                <a:lnTo>
                  <a:pt x="950" y="1729"/>
                </a:lnTo>
                <a:lnTo>
                  <a:pt x="979" y="1729"/>
                </a:lnTo>
                <a:lnTo>
                  <a:pt x="1008" y="1722"/>
                </a:lnTo>
                <a:lnTo>
                  <a:pt x="1045" y="1715"/>
                </a:lnTo>
                <a:lnTo>
                  <a:pt x="1074" y="1722"/>
                </a:lnTo>
                <a:lnTo>
                  <a:pt x="1103" y="1729"/>
                </a:lnTo>
                <a:lnTo>
                  <a:pt x="1140" y="1715"/>
                </a:lnTo>
                <a:lnTo>
                  <a:pt x="1169" y="1701"/>
                </a:lnTo>
                <a:lnTo>
                  <a:pt x="1198" y="1686"/>
                </a:lnTo>
                <a:lnTo>
                  <a:pt x="1235" y="1694"/>
                </a:lnTo>
                <a:lnTo>
                  <a:pt x="1264" y="1729"/>
                </a:lnTo>
                <a:lnTo>
                  <a:pt x="1293" y="1658"/>
                </a:lnTo>
                <a:lnTo>
                  <a:pt x="1330" y="1531"/>
                </a:lnTo>
                <a:lnTo>
                  <a:pt x="1359" y="1353"/>
                </a:lnTo>
                <a:lnTo>
                  <a:pt x="1388" y="1127"/>
                </a:lnTo>
                <a:lnTo>
                  <a:pt x="1425" y="879"/>
                </a:lnTo>
                <a:lnTo>
                  <a:pt x="1454" y="617"/>
                </a:lnTo>
                <a:lnTo>
                  <a:pt x="1483" y="376"/>
                </a:lnTo>
                <a:lnTo>
                  <a:pt x="1520" y="177"/>
                </a:lnTo>
                <a:lnTo>
                  <a:pt x="1549" y="50"/>
                </a:lnTo>
                <a:lnTo>
                  <a:pt x="1586" y="0"/>
                </a:lnTo>
                <a:lnTo>
                  <a:pt x="1615" y="43"/>
                </a:lnTo>
                <a:lnTo>
                  <a:pt x="1644" y="163"/>
                </a:lnTo>
                <a:lnTo>
                  <a:pt x="1681" y="354"/>
                </a:lnTo>
                <a:lnTo>
                  <a:pt x="1710" y="595"/>
                </a:lnTo>
                <a:lnTo>
                  <a:pt x="1739" y="850"/>
                </a:lnTo>
                <a:lnTo>
                  <a:pt x="1776" y="1105"/>
                </a:lnTo>
                <a:lnTo>
                  <a:pt x="1805" y="1332"/>
                </a:lnTo>
                <a:lnTo>
                  <a:pt x="1834" y="1516"/>
                </a:lnTo>
                <a:lnTo>
                  <a:pt x="1871" y="1644"/>
                </a:lnTo>
                <a:lnTo>
                  <a:pt x="1900" y="1729"/>
                </a:lnTo>
                <a:lnTo>
                  <a:pt x="1929" y="1694"/>
                </a:lnTo>
                <a:lnTo>
                  <a:pt x="1966" y="1686"/>
                </a:lnTo>
                <a:lnTo>
                  <a:pt x="1995" y="1694"/>
                </a:lnTo>
                <a:lnTo>
                  <a:pt x="2024" y="1715"/>
                </a:lnTo>
                <a:lnTo>
                  <a:pt x="2061" y="1729"/>
                </a:lnTo>
                <a:lnTo>
                  <a:pt x="2090" y="1722"/>
                </a:lnTo>
                <a:lnTo>
                  <a:pt x="2119" y="1715"/>
                </a:lnTo>
                <a:lnTo>
                  <a:pt x="2156" y="1722"/>
                </a:lnTo>
                <a:lnTo>
                  <a:pt x="2185" y="1729"/>
                </a:lnTo>
                <a:lnTo>
                  <a:pt x="2214" y="1729"/>
                </a:lnTo>
                <a:lnTo>
                  <a:pt x="2251" y="1729"/>
                </a:lnTo>
                <a:lnTo>
                  <a:pt x="2280" y="1729"/>
                </a:lnTo>
                <a:lnTo>
                  <a:pt x="2309" y="1729"/>
                </a:lnTo>
                <a:lnTo>
                  <a:pt x="2346" y="1729"/>
                </a:lnTo>
                <a:lnTo>
                  <a:pt x="2375" y="1729"/>
                </a:lnTo>
                <a:lnTo>
                  <a:pt x="2404" y="1729"/>
                </a:lnTo>
                <a:lnTo>
                  <a:pt x="2441" y="1729"/>
                </a:lnTo>
                <a:lnTo>
                  <a:pt x="2470" y="1729"/>
                </a:lnTo>
                <a:lnTo>
                  <a:pt x="2499" y="1729"/>
                </a:lnTo>
                <a:lnTo>
                  <a:pt x="2536" y="1729"/>
                </a:lnTo>
                <a:lnTo>
                  <a:pt x="2565" y="1729"/>
                </a:lnTo>
                <a:lnTo>
                  <a:pt x="2594" y="1729"/>
                </a:lnTo>
                <a:lnTo>
                  <a:pt x="2631" y="1729"/>
                </a:lnTo>
                <a:lnTo>
                  <a:pt x="2660" y="1729"/>
                </a:lnTo>
                <a:lnTo>
                  <a:pt x="2689" y="1729"/>
                </a:lnTo>
                <a:lnTo>
                  <a:pt x="2726" y="1729"/>
                </a:lnTo>
                <a:lnTo>
                  <a:pt x="2755" y="1729"/>
                </a:lnTo>
                <a:lnTo>
                  <a:pt x="2784" y="1729"/>
                </a:lnTo>
                <a:lnTo>
                  <a:pt x="2821" y="1729"/>
                </a:lnTo>
                <a:lnTo>
                  <a:pt x="2850" y="1729"/>
                </a:lnTo>
                <a:lnTo>
                  <a:pt x="2879" y="1729"/>
                </a:lnTo>
                <a:lnTo>
                  <a:pt x="2916" y="1729"/>
                </a:lnTo>
                <a:lnTo>
                  <a:pt x="2945" y="1729"/>
                </a:lnTo>
                <a:lnTo>
                  <a:pt x="2974" y="1729"/>
                </a:lnTo>
                <a:lnTo>
                  <a:pt x="3011" y="1729"/>
                </a:lnTo>
                <a:lnTo>
                  <a:pt x="3040" y="1729"/>
                </a:lnTo>
                <a:lnTo>
                  <a:pt x="3069" y="1729"/>
                </a:lnTo>
                <a:lnTo>
                  <a:pt x="3106" y="1729"/>
                </a:lnTo>
                <a:lnTo>
                  <a:pt x="3135" y="172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685800" y="60948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 = IFourierT(yf3, 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 , real(y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39600" y="4222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nverse FFT (of yf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1828800" y="1371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126160" y="1447920"/>
            <a:ext cx="63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 is taken here to eliminate an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components due to numerical roun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70120" y="2871720"/>
            <a:ext cx="4016520" cy="30672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70120" y="2871720"/>
            <a:ext cx="4016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70120" y="2871720"/>
            <a:ext cx="4016520" cy="30672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3570120" y="2871720"/>
            <a:ext cx="1800" cy="306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70120" y="5938920"/>
            <a:ext cx="401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357012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7012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4348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396864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6864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86200" y="596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436716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36716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3872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4773600" y="5894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73600" y="2871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691160" y="596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5172120" y="5894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72120" y="2871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14368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5578560" y="5894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578560" y="2871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495760" y="596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5977080" y="5894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77080" y="2871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94828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37524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7524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291360" y="596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678168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78168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75468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7180200" y="58942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180200" y="28717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095960" y="5965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7586640" y="58942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586640" y="28717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559640" y="5965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0120" y="5938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7540560" y="5938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49720" y="58546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570120" y="55530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7540560" y="5553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570120" y="51674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540560" y="5167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249720" y="50832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70120" y="4781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754056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570120" y="4405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7540560" y="4405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286080" y="4321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570120" y="40194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7540560" y="4019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570120" y="36338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7540560" y="3633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286080" y="3549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570120" y="32479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7540560" y="3247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570120" y="28717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7540560" y="2871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286080" y="2787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570120" y="2871720"/>
            <a:ext cx="4016520" cy="30672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570120" y="2871720"/>
            <a:ext cx="1009800" cy="3022560"/>
          </a:xfrm>
          <a:custGeom>
            <a:avLst/>
            <a:gdLst/>
            <a:ahLst/>
            <a:rect l="l" t="t" r="r" b="b"/>
            <a:pathLst>
              <a:path w="636" h="1904">
                <a:moveTo>
                  <a:pt x="6" y="960"/>
                </a:moveTo>
                <a:lnTo>
                  <a:pt x="0" y="960"/>
                </a:lnTo>
                <a:lnTo>
                  <a:pt x="6" y="960"/>
                </a:lnTo>
                <a:lnTo>
                  <a:pt x="12" y="960"/>
                </a:lnTo>
                <a:lnTo>
                  <a:pt x="18" y="960"/>
                </a:lnTo>
                <a:lnTo>
                  <a:pt x="24" y="960"/>
                </a:lnTo>
                <a:lnTo>
                  <a:pt x="30" y="972"/>
                </a:lnTo>
                <a:lnTo>
                  <a:pt x="35" y="972"/>
                </a:lnTo>
                <a:lnTo>
                  <a:pt x="41" y="983"/>
                </a:lnTo>
                <a:lnTo>
                  <a:pt x="47" y="983"/>
                </a:lnTo>
                <a:lnTo>
                  <a:pt x="53" y="989"/>
                </a:lnTo>
                <a:lnTo>
                  <a:pt x="59" y="989"/>
                </a:lnTo>
                <a:lnTo>
                  <a:pt x="65" y="983"/>
                </a:lnTo>
                <a:lnTo>
                  <a:pt x="70" y="966"/>
                </a:lnTo>
                <a:lnTo>
                  <a:pt x="76" y="949"/>
                </a:lnTo>
                <a:lnTo>
                  <a:pt x="82" y="932"/>
                </a:lnTo>
                <a:lnTo>
                  <a:pt x="88" y="909"/>
                </a:lnTo>
                <a:lnTo>
                  <a:pt x="94" y="893"/>
                </a:lnTo>
                <a:lnTo>
                  <a:pt x="94" y="876"/>
                </a:lnTo>
                <a:lnTo>
                  <a:pt x="100" y="870"/>
                </a:lnTo>
                <a:lnTo>
                  <a:pt x="105" y="870"/>
                </a:lnTo>
                <a:lnTo>
                  <a:pt x="111" y="881"/>
                </a:lnTo>
                <a:lnTo>
                  <a:pt x="117" y="904"/>
                </a:lnTo>
                <a:lnTo>
                  <a:pt x="123" y="938"/>
                </a:lnTo>
                <a:lnTo>
                  <a:pt x="129" y="983"/>
                </a:lnTo>
                <a:lnTo>
                  <a:pt x="129" y="1028"/>
                </a:lnTo>
                <a:lnTo>
                  <a:pt x="135" y="1079"/>
                </a:lnTo>
                <a:lnTo>
                  <a:pt x="140" y="1119"/>
                </a:lnTo>
                <a:lnTo>
                  <a:pt x="146" y="1152"/>
                </a:lnTo>
                <a:lnTo>
                  <a:pt x="152" y="1164"/>
                </a:lnTo>
                <a:lnTo>
                  <a:pt x="158" y="1158"/>
                </a:lnTo>
                <a:lnTo>
                  <a:pt x="164" y="1135"/>
                </a:lnTo>
                <a:lnTo>
                  <a:pt x="164" y="1090"/>
                </a:lnTo>
                <a:lnTo>
                  <a:pt x="170" y="1022"/>
                </a:lnTo>
                <a:lnTo>
                  <a:pt x="175" y="943"/>
                </a:lnTo>
                <a:lnTo>
                  <a:pt x="181" y="859"/>
                </a:lnTo>
                <a:lnTo>
                  <a:pt x="187" y="780"/>
                </a:lnTo>
                <a:lnTo>
                  <a:pt x="193" y="706"/>
                </a:lnTo>
                <a:lnTo>
                  <a:pt x="193" y="655"/>
                </a:lnTo>
                <a:lnTo>
                  <a:pt x="199" y="627"/>
                </a:lnTo>
                <a:lnTo>
                  <a:pt x="204" y="633"/>
                </a:lnTo>
                <a:lnTo>
                  <a:pt x="210" y="672"/>
                </a:lnTo>
                <a:lnTo>
                  <a:pt x="216" y="746"/>
                </a:lnTo>
                <a:lnTo>
                  <a:pt x="222" y="847"/>
                </a:lnTo>
                <a:lnTo>
                  <a:pt x="228" y="966"/>
                </a:lnTo>
                <a:lnTo>
                  <a:pt x="228" y="1090"/>
                </a:lnTo>
                <a:lnTo>
                  <a:pt x="234" y="1215"/>
                </a:lnTo>
                <a:lnTo>
                  <a:pt x="239" y="1322"/>
                </a:lnTo>
                <a:lnTo>
                  <a:pt x="245" y="1401"/>
                </a:lnTo>
                <a:lnTo>
                  <a:pt x="251" y="1446"/>
                </a:lnTo>
                <a:lnTo>
                  <a:pt x="257" y="1441"/>
                </a:lnTo>
                <a:lnTo>
                  <a:pt x="263" y="1390"/>
                </a:lnTo>
                <a:lnTo>
                  <a:pt x="263" y="1294"/>
                </a:lnTo>
                <a:lnTo>
                  <a:pt x="269" y="1158"/>
                </a:lnTo>
                <a:lnTo>
                  <a:pt x="274" y="1000"/>
                </a:lnTo>
                <a:lnTo>
                  <a:pt x="280" y="825"/>
                </a:lnTo>
                <a:lnTo>
                  <a:pt x="286" y="655"/>
                </a:lnTo>
                <a:lnTo>
                  <a:pt x="292" y="508"/>
                </a:lnTo>
                <a:lnTo>
                  <a:pt x="292" y="401"/>
                </a:lnTo>
                <a:lnTo>
                  <a:pt x="298" y="339"/>
                </a:lnTo>
                <a:lnTo>
                  <a:pt x="304" y="333"/>
                </a:lnTo>
                <a:lnTo>
                  <a:pt x="309" y="395"/>
                </a:lnTo>
                <a:lnTo>
                  <a:pt x="315" y="508"/>
                </a:lnTo>
                <a:lnTo>
                  <a:pt x="321" y="672"/>
                </a:lnTo>
                <a:lnTo>
                  <a:pt x="327" y="870"/>
                </a:lnTo>
                <a:lnTo>
                  <a:pt x="327" y="1085"/>
                </a:lnTo>
                <a:lnTo>
                  <a:pt x="333" y="1299"/>
                </a:lnTo>
                <a:lnTo>
                  <a:pt x="339" y="1486"/>
                </a:lnTo>
                <a:lnTo>
                  <a:pt x="344" y="1627"/>
                </a:lnTo>
                <a:lnTo>
                  <a:pt x="350" y="1712"/>
                </a:lnTo>
                <a:lnTo>
                  <a:pt x="356" y="1729"/>
                </a:lnTo>
                <a:lnTo>
                  <a:pt x="362" y="1672"/>
                </a:lnTo>
                <a:lnTo>
                  <a:pt x="362" y="1542"/>
                </a:lnTo>
                <a:lnTo>
                  <a:pt x="368" y="1356"/>
                </a:lnTo>
                <a:lnTo>
                  <a:pt x="374" y="1124"/>
                </a:lnTo>
                <a:lnTo>
                  <a:pt x="379" y="876"/>
                </a:lnTo>
                <a:lnTo>
                  <a:pt x="385" y="627"/>
                </a:lnTo>
                <a:lnTo>
                  <a:pt x="391" y="401"/>
                </a:lnTo>
                <a:lnTo>
                  <a:pt x="391" y="226"/>
                </a:lnTo>
                <a:lnTo>
                  <a:pt x="397" y="118"/>
                </a:lnTo>
                <a:lnTo>
                  <a:pt x="403" y="90"/>
                </a:lnTo>
                <a:lnTo>
                  <a:pt x="408" y="141"/>
                </a:lnTo>
                <a:lnTo>
                  <a:pt x="414" y="277"/>
                </a:lnTo>
                <a:lnTo>
                  <a:pt x="420" y="474"/>
                </a:lnTo>
                <a:lnTo>
                  <a:pt x="426" y="723"/>
                </a:lnTo>
                <a:lnTo>
                  <a:pt x="426" y="1000"/>
                </a:lnTo>
                <a:lnTo>
                  <a:pt x="432" y="1277"/>
                </a:lnTo>
                <a:lnTo>
                  <a:pt x="438" y="1525"/>
                </a:lnTo>
                <a:lnTo>
                  <a:pt x="443" y="1729"/>
                </a:lnTo>
                <a:lnTo>
                  <a:pt x="449" y="1859"/>
                </a:lnTo>
                <a:lnTo>
                  <a:pt x="455" y="1904"/>
                </a:lnTo>
                <a:lnTo>
                  <a:pt x="455" y="1864"/>
                </a:lnTo>
                <a:lnTo>
                  <a:pt x="461" y="1734"/>
                </a:lnTo>
                <a:lnTo>
                  <a:pt x="467" y="1537"/>
                </a:lnTo>
                <a:lnTo>
                  <a:pt x="473" y="1277"/>
                </a:lnTo>
                <a:lnTo>
                  <a:pt x="478" y="989"/>
                </a:lnTo>
                <a:lnTo>
                  <a:pt x="484" y="695"/>
                </a:lnTo>
                <a:lnTo>
                  <a:pt x="490" y="429"/>
                </a:lnTo>
                <a:lnTo>
                  <a:pt x="490" y="209"/>
                </a:lnTo>
                <a:lnTo>
                  <a:pt x="496" y="62"/>
                </a:lnTo>
                <a:lnTo>
                  <a:pt x="502" y="0"/>
                </a:lnTo>
                <a:lnTo>
                  <a:pt x="508" y="28"/>
                </a:lnTo>
                <a:lnTo>
                  <a:pt x="513" y="141"/>
                </a:lnTo>
                <a:lnTo>
                  <a:pt x="519" y="333"/>
                </a:lnTo>
                <a:lnTo>
                  <a:pt x="525" y="587"/>
                </a:lnTo>
                <a:lnTo>
                  <a:pt x="525" y="870"/>
                </a:lnTo>
                <a:lnTo>
                  <a:pt x="531" y="1164"/>
                </a:lnTo>
                <a:lnTo>
                  <a:pt x="537" y="1435"/>
                </a:lnTo>
                <a:lnTo>
                  <a:pt x="543" y="1667"/>
                </a:lnTo>
                <a:lnTo>
                  <a:pt x="548" y="1825"/>
                </a:lnTo>
                <a:lnTo>
                  <a:pt x="554" y="1898"/>
                </a:lnTo>
                <a:lnTo>
                  <a:pt x="554" y="1887"/>
                </a:lnTo>
                <a:lnTo>
                  <a:pt x="560" y="1791"/>
                </a:lnTo>
                <a:lnTo>
                  <a:pt x="566" y="1616"/>
                </a:lnTo>
                <a:lnTo>
                  <a:pt x="572" y="1384"/>
                </a:lnTo>
                <a:lnTo>
                  <a:pt x="578" y="1113"/>
                </a:lnTo>
                <a:lnTo>
                  <a:pt x="583" y="830"/>
                </a:lnTo>
                <a:lnTo>
                  <a:pt x="589" y="570"/>
                </a:lnTo>
                <a:lnTo>
                  <a:pt x="589" y="344"/>
                </a:lnTo>
                <a:lnTo>
                  <a:pt x="595" y="186"/>
                </a:lnTo>
                <a:lnTo>
                  <a:pt x="601" y="102"/>
                </a:lnTo>
                <a:lnTo>
                  <a:pt x="607" y="96"/>
                </a:lnTo>
                <a:lnTo>
                  <a:pt x="612" y="175"/>
                </a:lnTo>
                <a:lnTo>
                  <a:pt x="618" y="328"/>
                </a:lnTo>
                <a:lnTo>
                  <a:pt x="624" y="531"/>
                </a:lnTo>
                <a:lnTo>
                  <a:pt x="624" y="774"/>
                </a:lnTo>
                <a:lnTo>
                  <a:pt x="630" y="1028"/>
                </a:lnTo>
                <a:lnTo>
                  <a:pt x="636" y="126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579920" y="3392640"/>
            <a:ext cx="1092240" cy="2224080"/>
          </a:xfrm>
          <a:custGeom>
            <a:avLst/>
            <a:gdLst/>
            <a:ahLst/>
            <a:rect l="l" t="t" r="r" b="b"/>
            <a:pathLst>
              <a:path w="688" h="1401">
                <a:moveTo>
                  <a:pt x="0" y="937"/>
                </a:moveTo>
                <a:lnTo>
                  <a:pt x="6" y="1146"/>
                </a:lnTo>
                <a:lnTo>
                  <a:pt x="11" y="1299"/>
                </a:lnTo>
                <a:lnTo>
                  <a:pt x="17" y="1384"/>
                </a:lnTo>
                <a:lnTo>
                  <a:pt x="17" y="1401"/>
                </a:lnTo>
                <a:lnTo>
                  <a:pt x="23" y="1344"/>
                </a:lnTo>
                <a:lnTo>
                  <a:pt x="29" y="1220"/>
                </a:lnTo>
                <a:lnTo>
                  <a:pt x="35" y="1050"/>
                </a:lnTo>
                <a:lnTo>
                  <a:pt x="41" y="847"/>
                </a:lnTo>
                <a:lnTo>
                  <a:pt x="46" y="627"/>
                </a:lnTo>
                <a:lnTo>
                  <a:pt x="52" y="423"/>
                </a:lnTo>
                <a:lnTo>
                  <a:pt x="52" y="242"/>
                </a:lnTo>
                <a:lnTo>
                  <a:pt x="58" y="107"/>
                </a:lnTo>
                <a:lnTo>
                  <a:pt x="64" y="22"/>
                </a:lnTo>
                <a:lnTo>
                  <a:pt x="70" y="0"/>
                </a:lnTo>
                <a:lnTo>
                  <a:pt x="76" y="39"/>
                </a:lnTo>
                <a:lnTo>
                  <a:pt x="81" y="135"/>
                </a:lnTo>
                <a:lnTo>
                  <a:pt x="87" y="265"/>
                </a:lnTo>
                <a:lnTo>
                  <a:pt x="87" y="429"/>
                </a:lnTo>
                <a:lnTo>
                  <a:pt x="93" y="604"/>
                </a:lnTo>
                <a:lnTo>
                  <a:pt x="99" y="768"/>
                </a:lnTo>
                <a:lnTo>
                  <a:pt x="105" y="915"/>
                </a:lnTo>
                <a:lnTo>
                  <a:pt x="111" y="1028"/>
                </a:lnTo>
                <a:lnTo>
                  <a:pt x="116" y="1096"/>
                </a:lnTo>
                <a:lnTo>
                  <a:pt x="116" y="1118"/>
                </a:lnTo>
                <a:lnTo>
                  <a:pt x="122" y="1096"/>
                </a:lnTo>
                <a:lnTo>
                  <a:pt x="128" y="1033"/>
                </a:lnTo>
                <a:lnTo>
                  <a:pt x="134" y="932"/>
                </a:lnTo>
                <a:lnTo>
                  <a:pt x="140" y="813"/>
                </a:lnTo>
                <a:lnTo>
                  <a:pt x="146" y="689"/>
                </a:lnTo>
                <a:lnTo>
                  <a:pt x="151" y="565"/>
                </a:lnTo>
                <a:lnTo>
                  <a:pt x="151" y="457"/>
                </a:lnTo>
                <a:lnTo>
                  <a:pt x="157" y="372"/>
                </a:lnTo>
                <a:lnTo>
                  <a:pt x="163" y="316"/>
                </a:lnTo>
                <a:lnTo>
                  <a:pt x="169" y="299"/>
                </a:lnTo>
                <a:lnTo>
                  <a:pt x="175" y="310"/>
                </a:lnTo>
                <a:lnTo>
                  <a:pt x="180" y="355"/>
                </a:lnTo>
                <a:lnTo>
                  <a:pt x="180" y="418"/>
                </a:lnTo>
                <a:lnTo>
                  <a:pt x="186" y="497"/>
                </a:lnTo>
                <a:lnTo>
                  <a:pt x="192" y="581"/>
                </a:lnTo>
                <a:lnTo>
                  <a:pt x="198" y="666"/>
                </a:lnTo>
                <a:lnTo>
                  <a:pt x="204" y="734"/>
                </a:lnTo>
                <a:lnTo>
                  <a:pt x="210" y="791"/>
                </a:lnTo>
                <a:lnTo>
                  <a:pt x="215" y="824"/>
                </a:lnTo>
                <a:lnTo>
                  <a:pt x="215" y="836"/>
                </a:lnTo>
                <a:lnTo>
                  <a:pt x="221" y="830"/>
                </a:lnTo>
                <a:lnTo>
                  <a:pt x="227" y="807"/>
                </a:lnTo>
                <a:lnTo>
                  <a:pt x="233" y="768"/>
                </a:lnTo>
                <a:lnTo>
                  <a:pt x="239" y="723"/>
                </a:lnTo>
                <a:lnTo>
                  <a:pt x="245" y="672"/>
                </a:lnTo>
                <a:lnTo>
                  <a:pt x="250" y="627"/>
                </a:lnTo>
                <a:lnTo>
                  <a:pt x="250" y="593"/>
                </a:lnTo>
                <a:lnTo>
                  <a:pt x="256" y="559"/>
                </a:lnTo>
                <a:lnTo>
                  <a:pt x="262" y="542"/>
                </a:lnTo>
                <a:lnTo>
                  <a:pt x="268" y="536"/>
                </a:lnTo>
                <a:lnTo>
                  <a:pt x="274" y="542"/>
                </a:lnTo>
                <a:lnTo>
                  <a:pt x="280" y="553"/>
                </a:lnTo>
                <a:lnTo>
                  <a:pt x="280" y="576"/>
                </a:lnTo>
                <a:lnTo>
                  <a:pt x="285" y="593"/>
                </a:lnTo>
                <a:lnTo>
                  <a:pt x="291" y="615"/>
                </a:lnTo>
                <a:lnTo>
                  <a:pt x="297" y="632"/>
                </a:lnTo>
                <a:lnTo>
                  <a:pt x="303" y="649"/>
                </a:lnTo>
                <a:lnTo>
                  <a:pt x="309" y="655"/>
                </a:lnTo>
                <a:lnTo>
                  <a:pt x="315" y="661"/>
                </a:lnTo>
                <a:lnTo>
                  <a:pt x="320" y="661"/>
                </a:lnTo>
                <a:lnTo>
                  <a:pt x="326" y="655"/>
                </a:lnTo>
                <a:lnTo>
                  <a:pt x="332" y="649"/>
                </a:lnTo>
                <a:lnTo>
                  <a:pt x="338" y="644"/>
                </a:lnTo>
                <a:lnTo>
                  <a:pt x="344" y="638"/>
                </a:lnTo>
                <a:lnTo>
                  <a:pt x="350" y="632"/>
                </a:lnTo>
                <a:lnTo>
                  <a:pt x="355" y="632"/>
                </a:lnTo>
                <a:lnTo>
                  <a:pt x="361" y="632"/>
                </a:lnTo>
                <a:lnTo>
                  <a:pt x="367" y="632"/>
                </a:lnTo>
                <a:lnTo>
                  <a:pt x="373" y="632"/>
                </a:lnTo>
                <a:lnTo>
                  <a:pt x="379" y="638"/>
                </a:lnTo>
                <a:lnTo>
                  <a:pt x="384" y="638"/>
                </a:lnTo>
                <a:lnTo>
                  <a:pt x="390" y="638"/>
                </a:lnTo>
                <a:lnTo>
                  <a:pt x="396" y="638"/>
                </a:lnTo>
                <a:lnTo>
                  <a:pt x="402" y="638"/>
                </a:lnTo>
                <a:lnTo>
                  <a:pt x="408" y="638"/>
                </a:lnTo>
                <a:lnTo>
                  <a:pt x="414" y="638"/>
                </a:lnTo>
                <a:lnTo>
                  <a:pt x="419" y="638"/>
                </a:lnTo>
                <a:lnTo>
                  <a:pt x="425" y="638"/>
                </a:lnTo>
                <a:lnTo>
                  <a:pt x="431" y="638"/>
                </a:lnTo>
                <a:lnTo>
                  <a:pt x="437" y="638"/>
                </a:lnTo>
                <a:lnTo>
                  <a:pt x="443" y="638"/>
                </a:lnTo>
                <a:lnTo>
                  <a:pt x="449" y="638"/>
                </a:lnTo>
                <a:lnTo>
                  <a:pt x="454" y="638"/>
                </a:lnTo>
                <a:lnTo>
                  <a:pt x="460" y="638"/>
                </a:lnTo>
                <a:lnTo>
                  <a:pt x="466" y="638"/>
                </a:lnTo>
                <a:lnTo>
                  <a:pt x="472" y="638"/>
                </a:lnTo>
                <a:lnTo>
                  <a:pt x="478" y="638"/>
                </a:lnTo>
                <a:lnTo>
                  <a:pt x="484" y="638"/>
                </a:lnTo>
                <a:lnTo>
                  <a:pt x="489" y="638"/>
                </a:lnTo>
                <a:lnTo>
                  <a:pt x="495" y="638"/>
                </a:lnTo>
                <a:lnTo>
                  <a:pt x="501" y="638"/>
                </a:lnTo>
                <a:lnTo>
                  <a:pt x="507" y="638"/>
                </a:lnTo>
                <a:lnTo>
                  <a:pt x="513" y="638"/>
                </a:lnTo>
                <a:lnTo>
                  <a:pt x="519" y="638"/>
                </a:lnTo>
                <a:lnTo>
                  <a:pt x="524" y="638"/>
                </a:lnTo>
                <a:lnTo>
                  <a:pt x="530" y="638"/>
                </a:lnTo>
                <a:lnTo>
                  <a:pt x="536" y="638"/>
                </a:lnTo>
                <a:lnTo>
                  <a:pt x="542" y="638"/>
                </a:lnTo>
                <a:lnTo>
                  <a:pt x="548" y="638"/>
                </a:lnTo>
                <a:lnTo>
                  <a:pt x="554" y="638"/>
                </a:lnTo>
                <a:lnTo>
                  <a:pt x="559" y="638"/>
                </a:lnTo>
                <a:lnTo>
                  <a:pt x="565" y="638"/>
                </a:lnTo>
                <a:lnTo>
                  <a:pt x="571" y="638"/>
                </a:lnTo>
                <a:lnTo>
                  <a:pt x="577" y="638"/>
                </a:lnTo>
                <a:lnTo>
                  <a:pt x="583" y="638"/>
                </a:lnTo>
                <a:lnTo>
                  <a:pt x="588" y="638"/>
                </a:lnTo>
                <a:lnTo>
                  <a:pt x="594" y="638"/>
                </a:lnTo>
                <a:lnTo>
                  <a:pt x="600" y="638"/>
                </a:lnTo>
                <a:lnTo>
                  <a:pt x="606" y="638"/>
                </a:lnTo>
                <a:lnTo>
                  <a:pt x="612" y="638"/>
                </a:lnTo>
                <a:lnTo>
                  <a:pt x="618" y="638"/>
                </a:lnTo>
                <a:lnTo>
                  <a:pt x="623" y="638"/>
                </a:lnTo>
                <a:lnTo>
                  <a:pt x="629" y="638"/>
                </a:lnTo>
                <a:lnTo>
                  <a:pt x="635" y="638"/>
                </a:lnTo>
                <a:lnTo>
                  <a:pt x="641" y="638"/>
                </a:lnTo>
                <a:lnTo>
                  <a:pt x="647" y="638"/>
                </a:lnTo>
                <a:lnTo>
                  <a:pt x="653" y="638"/>
                </a:lnTo>
                <a:lnTo>
                  <a:pt x="658" y="638"/>
                </a:lnTo>
                <a:lnTo>
                  <a:pt x="664" y="638"/>
                </a:lnTo>
                <a:lnTo>
                  <a:pt x="670" y="638"/>
                </a:lnTo>
                <a:lnTo>
                  <a:pt x="676" y="638"/>
                </a:lnTo>
                <a:lnTo>
                  <a:pt x="682" y="638"/>
                </a:lnTo>
                <a:lnTo>
                  <a:pt x="688" y="63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672160" y="4395960"/>
            <a:ext cx="1174680" cy="9360"/>
          </a:xfrm>
          <a:custGeom>
            <a:avLst/>
            <a:gdLst/>
            <a:ahLst/>
            <a:rect l="l" t="t" r="r" b="b"/>
            <a:pathLst>
              <a:path w="740" h="6">
                <a:moveTo>
                  <a:pt x="0" y="6"/>
                </a:moveTo>
                <a:lnTo>
                  <a:pt x="5" y="6"/>
                </a:lnTo>
                <a:lnTo>
                  <a:pt x="11" y="6"/>
                </a:lnTo>
                <a:lnTo>
                  <a:pt x="17" y="6"/>
                </a:lnTo>
                <a:lnTo>
                  <a:pt x="23" y="6"/>
                </a:lnTo>
                <a:lnTo>
                  <a:pt x="29" y="6"/>
                </a:lnTo>
                <a:lnTo>
                  <a:pt x="35" y="6"/>
                </a:lnTo>
                <a:lnTo>
                  <a:pt x="40" y="6"/>
                </a:lnTo>
                <a:lnTo>
                  <a:pt x="46" y="6"/>
                </a:lnTo>
                <a:lnTo>
                  <a:pt x="52" y="6"/>
                </a:lnTo>
                <a:lnTo>
                  <a:pt x="58" y="6"/>
                </a:lnTo>
                <a:lnTo>
                  <a:pt x="64" y="6"/>
                </a:lnTo>
                <a:lnTo>
                  <a:pt x="70" y="6"/>
                </a:lnTo>
                <a:lnTo>
                  <a:pt x="75" y="6"/>
                </a:lnTo>
                <a:lnTo>
                  <a:pt x="81" y="6"/>
                </a:lnTo>
                <a:lnTo>
                  <a:pt x="87" y="6"/>
                </a:lnTo>
                <a:lnTo>
                  <a:pt x="93" y="6"/>
                </a:lnTo>
                <a:lnTo>
                  <a:pt x="99" y="6"/>
                </a:lnTo>
                <a:lnTo>
                  <a:pt x="104" y="6"/>
                </a:lnTo>
                <a:lnTo>
                  <a:pt x="110" y="6"/>
                </a:lnTo>
                <a:lnTo>
                  <a:pt x="116" y="6"/>
                </a:lnTo>
                <a:lnTo>
                  <a:pt x="122" y="6"/>
                </a:lnTo>
                <a:lnTo>
                  <a:pt x="128" y="6"/>
                </a:lnTo>
                <a:lnTo>
                  <a:pt x="134" y="6"/>
                </a:lnTo>
                <a:lnTo>
                  <a:pt x="139" y="6"/>
                </a:lnTo>
                <a:lnTo>
                  <a:pt x="145" y="6"/>
                </a:lnTo>
                <a:lnTo>
                  <a:pt x="151" y="6"/>
                </a:lnTo>
                <a:lnTo>
                  <a:pt x="157" y="6"/>
                </a:lnTo>
                <a:lnTo>
                  <a:pt x="163" y="0"/>
                </a:lnTo>
                <a:lnTo>
                  <a:pt x="169" y="0"/>
                </a:lnTo>
                <a:lnTo>
                  <a:pt x="174" y="6"/>
                </a:lnTo>
                <a:lnTo>
                  <a:pt x="180" y="6"/>
                </a:lnTo>
                <a:lnTo>
                  <a:pt x="186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09" y="6"/>
                </a:lnTo>
                <a:lnTo>
                  <a:pt x="215" y="6"/>
                </a:lnTo>
                <a:lnTo>
                  <a:pt x="221" y="6"/>
                </a:lnTo>
                <a:lnTo>
                  <a:pt x="227" y="6"/>
                </a:lnTo>
                <a:lnTo>
                  <a:pt x="233" y="6"/>
                </a:lnTo>
                <a:lnTo>
                  <a:pt x="239" y="6"/>
                </a:lnTo>
                <a:lnTo>
                  <a:pt x="244" y="6"/>
                </a:lnTo>
                <a:lnTo>
                  <a:pt x="250" y="6"/>
                </a:lnTo>
                <a:lnTo>
                  <a:pt x="256" y="6"/>
                </a:lnTo>
                <a:lnTo>
                  <a:pt x="262" y="6"/>
                </a:lnTo>
                <a:lnTo>
                  <a:pt x="268" y="6"/>
                </a:lnTo>
                <a:lnTo>
                  <a:pt x="274" y="6"/>
                </a:lnTo>
                <a:lnTo>
                  <a:pt x="279" y="6"/>
                </a:lnTo>
                <a:lnTo>
                  <a:pt x="285" y="0"/>
                </a:lnTo>
                <a:lnTo>
                  <a:pt x="291" y="6"/>
                </a:lnTo>
                <a:lnTo>
                  <a:pt x="297" y="6"/>
                </a:lnTo>
                <a:lnTo>
                  <a:pt x="303" y="6"/>
                </a:lnTo>
                <a:lnTo>
                  <a:pt x="308" y="0"/>
                </a:lnTo>
                <a:lnTo>
                  <a:pt x="314" y="6"/>
                </a:lnTo>
                <a:lnTo>
                  <a:pt x="320" y="6"/>
                </a:lnTo>
                <a:lnTo>
                  <a:pt x="326" y="6"/>
                </a:lnTo>
                <a:lnTo>
                  <a:pt x="332" y="6"/>
                </a:lnTo>
                <a:lnTo>
                  <a:pt x="338" y="6"/>
                </a:lnTo>
                <a:lnTo>
                  <a:pt x="343" y="6"/>
                </a:lnTo>
                <a:lnTo>
                  <a:pt x="349" y="6"/>
                </a:lnTo>
                <a:lnTo>
                  <a:pt x="355" y="6"/>
                </a:lnTo>
                <a:lnTo>
                  <a:pt x="361" y="6"/>
                </a:lnTo>
                <a:lnTo>
                  <a:pt x="367" y="6"/>
                </a:lnTo>
                <a:lnTo>
                  <a:pt x="373" y="6"/>
                </a:lnTo>
                <a:lnTo>
                  <a:pt x="378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402" y="6"/>
                </a:lnTo>
                <a:lnTo>
                  <a:pt x="408" y="6"/>
                </a:lnTo>
                <a:lnTo>
                  <a:pt x="413" y="6"/>
                </a:lnTo>
                <a:lnTo>
                  <a:pt x="419" y="6"/>
                </a:lnTo>
                <a:lnTo>
                  <a:pt x="425" y="6"/>
                </a:lnTo>
                <a:lnTo>
                  <a:pt x="431" y="6"/>
                </a:lnTo>
                <a:lnTo>
                  <a:pt x="437" y="6"/>
                </a:lnTo>
                <a:lnTo>
                  <a:pt x="443" y="6"/>
                </a:lnTo>
                <a:lnTo>
                  <a:pt x="448" y="0"/>
                </a:lnTo>
                <a:lnTo>
                  <a:pt x="454" y="6"/>
                </a:lnTo>
                <a:lnTo>
                  <a:pt x="460" y="6"/>
                </a:lnTo>
                <a:lnTo>
                  <a:pt x="466" y="6"/>
                </a:lnTo>
                <a:lnTo>
                  <a:pt x="472" y="6"/>
                </a:lnTo>
                <a:lnTo>
                  <a:pt x="478" y="6"/>
                </a:lnTo>
                <a:lnTo>
                  <a:pt x="483" y="6"/>
                </a:lnTo>
                <a:lnTo>
                  <a:pt x="489" y="6"/>
                </a:lnTo>
                <a:lnTo>
                  <a:pt x="495" y="6"/>
                </a:lnTo>
                <a:lnTo>
                  <a:pt x="501" y="6"/>
                </a:lnTo>
                <a:lnTo>
                  <a:pt x="507" y="6"/>
                </a:lnTo>
                <a:lnTo>
                  <a:pt x="512" y="6"/>
                </a:lnTo>
                <a:lnTo>
                  <a:pt x="518" y="6"/>
                </a:lnTo>
                <a:lnTo>
                  <a:pt x="524" y="6"/>
                </a:lnTo>
                <a:lnTo>
                  <a:pt x="530" y="6"/>
                </a:lnTo>
                <a:lnTo>
                  <a:pt x="536" y="6"/>
                </a:lnTo>
                <a:lnTo>
                  <a:pt x="542" y="6"/>
                </a:lnTo>
                <a:lnTo>
                  <a:pt x="547" y="6"/>
                </a:lnTo>
                <a:lnTo>
                  <a:pt x="553" y="0"/>
                </a:lnTo>
                <a:lnTo>
                  <a:pt x="559" y="6"/>
                </a:lnTo>
                <a:lnTo>
                  <a:pt x="565" y="6"/>
                </a:lnTo>
                <a:lnTo>
                  <a:pt x="571" y="6"/>
                </a:lnTo>
                <a:lnTo>
                  <a:pt x="577" y="6"/>
                </a:lnTo>
                <a:lnTo>
                  <a:pt x="582" y="6"/>
                </a:lnTo>
                <a:lnTo>
                  <a:pt x="588" y="6"/>
                </a:lnTo>
                <a:lnTo>
                  <a:pt x="594" y="6"/>
                </a:lnTo>
                <a:lnTo>
                  <a:pt x="600" y="6"/>
                </a:lnTo>
                <a:lnTo>
                  <a:pt x="606" y="6"/>
                </a:lnTo>
                <a:lnTo>
                  <a:pt x="612" y="6"/>
                </a:lnTo>
                <a:lnTo>
                  <a:pt x="617" y="6"/>
                </a:lnTo>
                <a:lnTo>
                  <a:pt x="623" y="6"/>
                </a:lnTo>
                <a:lnTo>
                  <a:pt x="629" y="6"/>
                </a:lnTo>
                <a:lnTo>
                  <a:pt x="635" y="6"/>
                </a:lnTo>
                <a:lnTo>
                  <a:pt x="641" y="6"/>
                </a:lnTo>
                <a:lnTo>
                  <a:pt x="647" y="6"/>
                </a:lnTo>
                <a:lnTo>
                  <a:pt x="652" y="6"/>
                </a:lnTo>
                <a:lnTo>
                  <a:pt x="658" y="0"/>
                </a:lnTo>
                <a:lnTo>
                  <a:pt x="664" y="6"/>
                </a:lnTo>
                <a:lnTo>
                  <a:pt x="670" y="6"/>
                </a:lnTo>
                <a:lnTo>
                  <a:pt x="676" y="6"/>
                </a:lnTo>
                <a:lnTo>
                  <a:pt x="682" y="6"/>
                </a:lnTo>
                <a:lnTo>
                  <a:pt x="687" y="6"/>
                </a:lnTo>
                <a:lnTo>
                  <a:pt x="693" y="6"/>
                </a:lnTo>
                <a:lnTo>
                  <a:pt x="699" y="6"/>
                </a:lnTo>
                <a:lnTo>
                  <a:pt x="705" y="6"/>
                </a:lnTo>
                <a:lnTo>
                  <a:pt x="711" y="6"/>
                </a:lnTo>
                <a:lnTo>
                  <a:pt x="716" y="6"/>
                </a:lnTo>
                <a:lnTo>
                  <a:pt x="722" y="6"/>
                </a:lnTo>
                <a:lnTo>
                  <a:pt x="728" y="6"/>
                </a:lnTo>
                <a:lnTo>
                  <a:pt x="734" y="6"/>
                </a:lnTo>
                <a:lnTo>
                  <a:pt x="740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46840" y="4395960"/>
            <a:ext cx="739800" cy="9360"/>
          </a:xfrm>
          <a:custGeom>
            <a:avLst/>
            <a:gdLst/>
            <a:ahLst/>
            <a:rect l="l" t="t" r="r" b="b"/>
            <a:pathLst>
              <a:path w="466" h="6">
                <a:moveTo>
                  <a:pt x="0" y="6"/>
                </a:moveTo>
                <a:lnTo>
                  <a:pt x="6" y="6"/>
                </a:lnTo>
                <a:lnTo>
                  <a:pt x="11" y="6"/>
                </a:lnTo>
                <a:lnTo>
                  <a:pt x="17" y="6"/>
                </a:lnTo>
                <a:lnTo>
                  <a:pt x="23" y="6"/>
                </a:lnTo>
                <a:lnTo>
                  <a:pt x="29" y="6"/>
                </a:lnTo>
                <a:lnTo>
                  <a:pt x="35" y="6"/>
                </a:lnTo>
                <a:lnTo>
                  <a:pt x="41" y="6"/>
                </a:lnTo>
                <a:lnTo>
                  <a:pt x="46" y="6"/>
                </a:lnTo>
                <a:lnTo>
                  <a:pt x="52" y="6"/>
                </a:lnTo>
                <a:lnTo>
                  <a:pt x="58" y="6"/>
                </a:lnTo>
                <a:lnTo>
                  <a:pt x="64" y="6"/>
                </a:lnTo>
                <a:lnTo>
                  <a:pt x="70" y="6"/>
                </a:lnTo>
                <a:lnTo>
                  <a:pt x="76" y="6"/>
                </a:lnTo>
                <a:lnTo>
                  <a:pt x="81" y="6"/>
                </a:lnTo>
                <a:lnTo>
                  <a:pt x="87" y="6"/>
                </a:lnTo>
                <a:lnTo>
                  <a:pt x="93" y="6"/>
                </a:lnTo>
                <a:lnTo>
                  <a:pt x="99" y="6"/>
                </a:lnTo>
                <a:lnTo>
                  <a:pt x="105" y="6"/>
                </a:lnTo>
                <a:lnTo>
                  <a:pt x="111" y="6"/>
                </a:lnTo>
                <a:lnTo>
                  <a:pt x="116" y="6"/>
                </a:lnTo>
                <a:lnTo>
                  <a:pt x="122" y="6"/>
                </a:lnTo>
                <a:lnTo>
                  <a:pt x="128" y="6"/>
                </a:lnTo>
                <a:lnTo>
                  <a:pt x="134" y="6"/>
                </a:lnTo>
                <a:lnTo>
                  <a:pt x="140" y="6"/>
                </a:lnTo>
                <a:lnTo>
                  <a:pt x="146" y="6"/>
                </a:lnTo>
                <a:lnTo>
                  <a:pt x="151" y="6"/>
                </a:lnTo>
                <a:lnTo>
                  <a:pt x="157" y="6"/>
                </a:lnTo>
                <a:lnTo>
                  <a:pt x="163" y="6"/>
                </a:lnTo>
                <a:lnTo>
                  <a:pt x="169" y="6"/>
                </a:lnTo>
                <a:lnTo>
                  <a:pt x="175" y="6"/>
                </a:lnTo>
                <a:lnTo>
                  <a:pt x="180" y="0"/>
                </a:lnTo>
                <a:lnTo>
                  <a:pt x="186" y="6"/>
                </a:lnTo>
                <a:lnTo>
                  <a:pt x="192" y="0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5" y="6"/>
                </a:lnTo>
                <a:lnTo>
                  <a:pt x="221" y="6"/>
                </a:lnTo>
                <a:lnTo>
                  <a:pt x="227" y="6"/>
                </a:lnTo>
                <a:lnTo>
                  <a:pt x="233" y="6"/>
                </a:lnTo>
                <a:lnTo>
                  <a:pt x="239" y="6"/>
                </a:lnTo>
                <a:lnTo>
                  <a:pt x="245" y="6"/>
                </a:lnTo>
                <a:lnTo>
                  <a:pt x="250" y="6"/>
                </a:lnTo>
                <a:lnTo>
                  <a:pt x="256" y="6"/>
                </a:lnTo>
                <a:lnTo>
                  <a:pt x="262" y="6"/>
                </a:lnTo>
                <a:lnTo>
                  <a:pt x="268" y="6"/>
                </a:lnTo>
                <a:lnTo>
                  <a:pt x="274" y="6"/>
                </a:lnTo>
                <a:lnTo>
                  <a:pt x="280" y="6"/>
                </a:lnTo>
                <a:lnTo>
                  <a:pt x="285" y="6"/>
                </a:lnTo>
                <a:lnTo>
                  <a:pt x="291" y="6"/>
                </a:lnTo>
                <a:lnTo>
                  <a:pt x="297" y="6"/>
                </a:lnTo>
                <a:lnTo>
                  <a:pt x="303" y="6"/>
                </a:lnTo>
                <a:lnTo>
                  <a:pt x="309" y="6"/>
                </a:lnTo>
                <a:lnTo>
                  <a:pt x="315" y="6"/>
                </a:lnTo>
                <a:lnTo>
                  <a:pt x="320" y="6"/>
                </a:lnTo>
                <a:lnTo>
                  <a:pt x="326" y="6"/>
                </a:lnTo>
                <a:lnTo>
                  <a:pt x="332" y="6"/>
                </a:lnTo>
                <a:lnTo>
                  <a:pt x="338" y="6"/>
                </a:lnTo>
                <a:lnTo>
                  <a:pt x="344" y="6"/>
                </a:lnTo>
                <a:lnTo>
                  <a:pt x="350" y="6"/>
                </a:lnTo>
                <a:lnTo>
                  <a:pt x="355" y="6"/>
                </a:lnTo>
                <a:lnTo>
                  <a:pt x="361" y="6"/>
                </a:lnTo>
                <a:lnTo>
                  <a:pt x="367" y="6"/>
                </a:lnTo>
                <a:lnTo>
                  <a:pt x="373" y="6"/>
                </a:lnTo>
                <a:lnTo>
                  <a:pt x="379" y="6"/>
                </a:lnTo>
                <a:lnTo>
                  <a:pt x="384" y="6"/>
                </a:lnTo>
                <a:lnTo>
                  <a:pt x="390" y="6"/>
                </a:lnTo>
                <a:lnTo>
                  <a:pt x="396" y="0"/>
                </a:lnTo>
                <a:lnTo>
                  <a:pt x="402" y="6"/>
                </a:lnTo>
                <a:lnTo>
                  <a:pt x="408" y="6"/>
                </a:lnTo>
                <a:lnTo>
                  <a:pt x="414" y="6"/>
                </a:lnTo>
                <a:lnTo>
                  <a:pt x="419" y="6"/>
                </a:lnTo>
                <a:lnTo>
                  <a:pt x="425" y="6"/>
                </a:lnTo>
                <a:lnTo>
                  <a:pt x="431" y="6"/>
                </a:lnTo>
                <a:lnTo>
                  <a:pt x="437" y="6"/>
                </a:lnTo>
                <a:lnTo>
                  <a:pt x="443" y="6"/>
                </a:lnTo>
                <a:lnTo>
                  <a:pt x="449" y="6"/>
                </a:lnTo>
                <a:lnTo>
                  <a:pt x="454" y="6"/>
                </a:lnTo>
                <a:lnTo>
                  <a:pt x="460" y="6"/>
                </a:lnTo>
                <a:lnTo>
                  <a:pt x="466" y="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2743200" y="2819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886200" y="167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4876560" y="1905120"/>
            <a:ext cx="1193760" cy="865080"/>
            <a:chOff x="4876560" y="1905120"/>
            <a:chExt cx="1193760" cy="865080"/>
          </a:xfrm>
        </p:grpSpPr>
        <p:sp>
          <p:nvSpPr>
            <p:cNvPr id="1888" name=""/>
            <p:cNvSpPr/>
            <p:nvPr/>
          </p:nvSpPr>
          <p:spPr>
            <a:xfrm>
              <a:off x="5469480" y="190512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4876200" y="190512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5410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264280" y="3276720"/>
            <a:ext cx="3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3301560" y="1955880"/>
            <a:ext cx="1193760" cy="865080"/>
            <a:chOff x="3301560" y="1955880"/>
            <a:chExt cx="1193760" cy="865080"/>
          </a:xfrm>
        </p:grpSpPr>
        <p:sp>
          <p:nvSpPr>
            <p:cNvPr id="1893" name=""/>
            <p:cNvSpPr/>
            <p:nvPr/>
          </p:nvSpPr>
          <p:spPr>
            <a:xfrm>
              <a:off x="3894480" y="195588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301200" y="195588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44956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200480" y="318456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12520" y="1143000"/>
            <a:ext cx="106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211720" y="2341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52720" y="1930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005360" y="20397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089240" y="2344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173480" y="2573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308480" y="27097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33840" y="2789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724280" y="2793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906800" y="26924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087880" y="25750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283360" y="204804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572000" y="12952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3581280" y="2590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584360" y="302436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27040" y="31003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257800" y="2590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311120" y="5410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454120" y="426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7836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32560" y="5867280"/>
            <a:ext cx="3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1869840" y="4546440"/>
            <a:ext cx="1193760" cy="865080"/>
            <a:chOff x="1869840" y="4546440"/>
            <a:chExt cx="1193760" cy="865080"/>
          </a:xfrm>
        </p:grpSpPr>
        <p:sp>
          <p:nvSpPr>
            <p:cNvPr id="1919" name=""/>
            <p:cNvSpPr/>
            <p:nvPr/>
          </p:nvSpPr>
          <p:spPr>
            <a:xfrm>
              <a:off x="2462760" y="45464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1869480" y="4546440"/>
              <a:ext cx="600840" cy="865080"/>
            </a:xfrm>
            <a:custGeom>
              <a:avLst/>
              <a:gdLst/>
              <a:ahLst/>
              <a:rect l="l" t="t" r="r" b="b"/>
              <a:pathLst>
                <a:path w="576" h="545">
                  <a:moveTo>
                    <a:pt x="0" y="17"/>
                  </a:moveTo>
                  <a:cubicBezTo>
                    <a:pt x="47" y="8"/>
                    <a:pt x="95" y="0"/>
                    <a:pt x="144" y="65"/>
                  </a:cubicBezTo>
                  <a:cubicBezTo>
                    <a:pt x="192" y="129"/>
                    <a:pt x="215" y="320"/>
                    <a:pt x="288" y="401"/>
                  </a:cubicBezTo>
                  <a:cubicBezTo>
                    <a:pt x="360" y="481"/>
                    <a:pt x="528" y="521"/>
                    <a:pt x="576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306396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768400" y="577548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080440" y="3733920"/>
            <a:ext cx="106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830760" y="5389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421000" y="45212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573280" y="4630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57520" y="49356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741760" y="51642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76400" y="5300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102120" y="53802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292560" y="53848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449520" y="53848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656160" y="5381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139920" y="38862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2149200" y="518148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2280" y="561492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1055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410080" y="46483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5410080" y="4800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712480" y="449568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2" name=""/>
          <p:cNvGraphicFramePr/>
          <p:nvPr/>
        </p:nvGraphicFramePr>
        <p:xfrm>
          <a:off x="5715000" y="3733920"/>
          <a:ext cx="13971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733920"/>
                    <a:ext cx="13971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4" name=""/>
          <p:cNvSpPr/>
          <p:nvPr/>
        </p:nvSpPr>
        <p:spPr>
          <a:xfrm>
            <a:off x="716292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s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2451240" y="4330800"/>
            <a:ext cx="1523520" cy="152280"/>
            <a:chOff x="2451240" y="4330800"/>
            <a:chExt cx="1523520" cy="152280"/>
          </a:xfrm>
        </p:grpSpPr>
        <p:sp>
          <p:nvSpPr>
            <p:cNvPr id="1946" name=""/>
            <p:cNvSpPr/>
            <p:nvPr/>
          </p:nvSpPr>
          <p:spPr>
            <a:xfrm>
              <a:off x="2451240" y="4330800"/>
              <a:ext cx="152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74760" y="43308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51240" y="43308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3886200" y="1714680"/>
            <a:ext cx="1396800" cy="164520"/>
            <a:chOff x="3886200" y="1714680"/>
            <a:chExt cx="1396800" cy="164520"/>
          </a:xfrm>
        </p:grpSpPr>
        <p:sp>
          <p:nvSpPr>
            <p:cNvPr id="1950" name=""/>
            <p:cNvSpPr/>
            <p:nvPr/>
          </p:nvSpPr>
          <p:spPr>
            <a:xfrm>
              <a:off x="3886200" y="1714680"/>
              <a:ext cx="13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283000" y="1714680"/>
              <a:ext cx="0" cy="16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86200" y="1714680"/>
              <a:ext cx="0" cy="16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5" name=""/>
          <p:cNvGraphicFramePr/>
          <p:nvPr/>
        </p:nvGraphicFramePr>
        <p:xfrm>
          <a:off x="2514600" y="1600200"/>
          <a:ext cx="457200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45720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7" name=""/>
          <p:cNvSpPr/>
          <p:nvPr/>
        </p:nvSpPr>
        <p:spPr>
          <a:xfrm flipV="1"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65440" y="34131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bert transform of v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00200" y="3718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0" name=""/>
          <p:cNvGraphicFramePr/>
          <p:nvPr/>
        </p:nvGraphicFramePr>
        <p:xfrm>
          <a:off x="2590920" y="4267080"/>
          <a:ext cx="464796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267080"/>
                    <a:ext cx="46479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2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>
            <a:off x="380880" y="838080"/>
            <a:ext cx="4572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t = s_space(0,5, 5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 = pulse_ref(1,5,10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,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= FourierT(y, d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5 = yf .*(f &lt;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f, abs(yf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048120" y="1371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25146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990360" y="335268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895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900080" y="22860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ing out negative frequenc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52640" y="4419720"/>
            <a:ext cx="31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do the invers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just thes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056200" y="1011240"/>
            <a:ext cx="2421000" cy="18478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056200" y="1011240"/>
            <a:ext cx="242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056200" y="1011240"/>
            <a:ext cx="2421000" cy="184788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5056200" y="1010880"/>
            <a:ext cx="1440" cy="18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056200" y="2859120"/>
            <a:ext cx="242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5056200" y="1010880"/>
            <a:ext cx="1440" cy="18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505620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05620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03784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529596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29596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53572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53572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51736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78016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78016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602136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02136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00300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265800" y="2831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265800" y="101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650556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50556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48900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674532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74532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6991200" y="2831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991200" y="101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97320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7230960" y="2831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230960" y="1011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7477200" y="28317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477200" y="1011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458840" y="28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056200" y="2859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7448400" y="28591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812480" y="2816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056200" y="26272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7448400" y="2627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056200" y="23954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7448400" y="23954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12480" y="2351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056200" y="216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7448400" y="2162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056200" y="1935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7448400" y="19350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834800" y="189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056200" y="17035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448400" y="1703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056200" y="14698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7448400" y="1469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834800" y="1427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056200" y="12384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7448400" y="1238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056200" y="1011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7448400" y="1011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834800" y="968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056200" y="1011240"/>
            <a:ext cx="608040" cy="1820880"/>
          </a:xfrm>
          <a:custGeom>
            <a:avLst/>
            <a:gdLst/>
            <a:ahLst/>
            <a:rect l="l" t="t" r="r" b="b"/>
            <a:pathLst>
              <a:path w="383" h="1147">
                <a:moveTo>
                  <a:pt x="3" y="579"/>
                </a:moveTo>
                <a:lnTo>
                  <a:pt x="0" y="579"/>
                </a:lnTo>
                <a:lnTo>
                  <a:pt x="3" y="579"/>
                </a:lnTo>
                <a:lnTo>
                  <a:pt x="7" y="579"/>
                </a:lnTo>
                <a:lnTo>
                  <a:pt x="10" y="579"/>
                </a:lnTo>
                <a:lnTo>
                  <a:pt x="14" y="579"/>
                </a:lnTo>
                <a:lnTo>
                  <a:pt x="17" y="586"/>
                </a:lnTo>
                <a:lnTo>
                  <a:pt x="21" y="586"/>
                </a:lnTo>
                <a:lnTo>
                  <a:pt x="24" y="592"/>
                </a:lnTo>
                <a:lnTo>
                  <a:pt x="28" y="592"/>
                </a:lnTo>
                <a:lnTo>
                  <a:pt x="31" y="596"/>
                </a:lnTo>
                <a:lnTo>
                  <a:pt x="35" y="596"/>
                </a:lnTo>
                <a:lnTo>
                  <a:pt x="38" y="592"/>
                </a:lnTo>
                <a:lnTo>
                  <a:pt x="42" y="582"/>
                </a:lnTo>
                <a:lnTo>
                  <a:pt x="45" y="572"/>
                </a:lnTo>
                <a:lnTo>
                  <a:pt x="49" y="562"/>
                </a:lnTo>
                <a:lnTo>
                  <a:pt x="52" y="548"/>
                </a:lnTo>
                <a:lnTo>
                  <a:pt x="56" y="538"/>
                </a:lnTo>
                <a:lnTo>
                  <a:pt x="56" y="528"/>
                </a:lnTo>
                <a:lnTo>
                  <a:pt x="59" y="524"/>
                </a:lnTo>
                <a:lnTo>
                  <a:pt x="63" y="524"/>
                </a:lnTo>
                <a:lnTo>
                  <a:pt x="66" y="531"/>
                </a:lnTo>
                <a:lnTo>
                  <a:pt x="70" y="545"/>
                </a:lnTo>
                <a:lnTo>
                  <a:pt x="73" y="565"/>
                </a:lnTo>
                <a:lnTo>
                  <a:pt x="77" y="592"/>
                </a:lnTo>
                <a:lnTo>
                  <a:pt x="77" y="620"/>
                </a:lnTo>
                <a:lnTo>
                  <a:pt x="80" y="650"/>
                </a:lnTo>
                <a:lnTo>
                  <a:pt x="84" y="674"/>
                </a:lnTo>
                <a:lnTo>
                  <a:pt x="87" y="695"/>
                </a:lnTo>
                <a:lnTo>
                  <a:pt x="91" y="701"/>
                </a:lnTo>
                <a:lnTo>
                  <a:pt x="94" y="698"/>
                </a:lnTo>
                <a:lnTo>
                  <a:pt x="98" y="684"/>
                </a:lnTo>
                <a:lnTo>
                  <a:pt x="98" y="657"/>
                </a:lnTo>
                <a:lnTo>
                  <a:pt x="101" y="616"/>
                </a:lnTo>
                <a:lnTo>
                  <a:pt x="105" y="569"/>
                </a:lnTo>
                <a:lnTo>
                  <a:pt x="108" y="517"/>
                </a:lnTo>
                <a:lnTo>
                  <a:pt x="112" y="470"/>
                </a:lnTo>
                <a:lnTo>
                  <a:pt x="116" y="426"/>
                </a:lnTo>
                <a:lnTo>
                  <a:pt x="116" y="395"/>
                </a:lnTo>
                <a:lnTo>
                  <a:pt x="119" y="378"/>
                </a:lnTo>
                <a:lnTo>
                  <a:pt x="123" y="381"/>
                </a:lnTo>
                <a:lnTo>
                  <a:pt x="126" y="405"/>
                </a:lnTo>
                <a:lnTo>
                  <a:pt x="130" y="449"/>
                </a:lnTo>
                <a:lnTo>
                  <a:pt x="133" y="511"/>
                </a:lnTo>
                <a:lnTo>
                  <a:pt x="137" y="582"/>
                </a:lnTo>
                <a:lnTo>
                  <a:pt x="137" y="657"/>
                </a:lnTo>
                <a:lnTo>
                  <a:pt x="140" y="732"/>
                </a:lnTo>
                <a:lnTo>
                  <a:pt x="144" y="797"/>
                </a:lnTo>
                <a:lnTo>
                  <a:pt x="147" y="844"/>
                </a:lnTo>
                <a:lnTo>
                  <a:pt x="151" y="872"/>
                </a:lnTo>
                <a:lnTo>
                  <a:pt x="154" y="868"/>
                </a:lnTo>
                <a:lnTo>
                  <a:pt x="158" y="838"/>
                </a:lnTo>
                <a:lnTo>
                  <a:pt x="158" y="780"/>
                </a:lnTo>
                <a:lnTo>
                  <a:pt x="161" y="698"/>
                </a:lnTo>
                <a:lnTo>
                  <a:pt x="165" y="603"/>
                </a:lnTo>
                <a:lnTo>
                  <a:pt x="168" y="497"/>
                </a:lnTo>
                <a:lnTo>
                  <a:pt x="172" y="395"/>
                </a:lnTo>
                <a:lnTo>
                  <a:pt x="175" y="306"/>
                </a:lnTo>
                <a:lnTo>
                  <a:pt x="175" y="242"/>
                </a:lnTo>
                <a:lnTo>
                  <a:pt x="179" y="204"/>
                </a:lnTo>
                <a:lnTo>
                  <a:pt x="182" y="201"/>
                </a:lnTo>
                <a:lnTo>
                  <a:pt x="186" y="238"/>
                </a:lnTo>
                <a:lnTo>
                  <a:pt x="189" y="306"/>
                </a:lnTo>
                <a:lnTo>
                  <a:pt x="193" y="405"/>
                </a:lnTo>
                <a:lnTo>
                  <a:pt x="196" y="524"/>
                </a:lnTo>
                <a:lnTo>
                  <a:pt x="196" y="654"/>
                </a:lnTo>
                <a:lnTo>
                  <a:pt x="200" y="783"/>
                </a:lnTo>
                <a:lnTo>
                  <a:pt x="203" y="895"/>
                </a:lnTo>
                <a:lnTo>
                  <a:pt x="207" y="981"/>
                </a:lnTo>
                <a:lnTo>
                  <a:pt x="210" y="1032"/>
                </a:lnTo>
                <a:lnTo>
                  <a:pt x="214" y="1042"/>
                </a:lnTo>
                <a:lnTo>
                  <a:pt x="217" y="1008"/>
                </a:lnTo>
                <a:lnTo>
                  <a:pt x="217" y="929"/>
                </a:lnTo>
                <a:lnTo>
                  <a:pt x="221" y="817"/>
                </a:lnTo>
                <a:lnTo>
                  <a:pt x="224" y="678"/>
                </a:lnTo>
                <a:lnTo>
                  <a:pt x="228" y="528"/>
                </a:lnTo>
                <a:lnTo>
                  <a:pt x="231" y="378"/>
                </a:lnTo>
                <a:lnTo>
                  <a:pt x="235" y="242"/>
                </a:lnTo>
                <a:lnTo>
                  <a:pt x="235" y="136"/>
                </a:lnTo>
                <a:lnTo>
                  <a:pt x="239" y="71"/>
                </a:lnTo>
                <a:lnTo>
                  <a:pt x="242" y="54"/>
                </a:lnTo>
                <a:lnTo>
                  <a:pt x="246" y="85"/>
                </a:lnTo>
                <a:lnTo>
                  <a:pt x="249" y="167"/>
                </a:lnTo>
                <a:lnTo>
                  <a:pt x="253" y="286"/>
                </a:lnTo>
                <a:lnTo>
                  <a:pt x="256" y="436"/>
                </a:lnTo>
                <a:lnTo>
                  <a:pt x="256" y="603"/>
                </a:lnTo>
                <a:lnTo>
                  <a:pt x="260" y="769"/>
                </a:lnTo>
                <a:lnTo>
                  <a:pt x="263" y="919"/>
                </a:lnTo>
                <a:lnTo>
                  <a:pt x="267" y="1042"/>
                </a:lnTo>
                <a:lnTo>
                  <a:pt x="270" y="1120"/>
                </a:lnTo>
                <a:lnTo>
                  <a:pt x="274" y="1147"/>
                </a:lnTo>
                <a:lnTo>
                  <a:pt x="274" y="1124"/>
                </a:lnTo>
                <a:lnTo>
                  <a:pt x="277" y="1045"/>
                </a:lnTo>
                <a:lnTo>
                  <a:pt x="281" y="926"/>
                </a:lnTo>
                <a:lnTo>
                  <a:pt x="284" y="769"/>
                </a:lnTo>
                <a:lnTo>
                  <a:pt x="288" y="596"/>
                </a:lnTo>
                <a:lnTo>
                  <a:pt x="291" y="419"/>
                </a:lnTo>
                <a:lnTo>
                  <a:pt x="295" y="259"/>
                </a:lnTo>
                <a:lnTo>
                  <a:pt x="295" y="126"/>
                </a:lnTo>
                <a:lnTo>
                  <a:pt x="298" y="37"/>
                </a:lnTo>
                <a:lnTo>
                  <a:pt x="302" y="0"/>
                </a:lnTo>
                <a:lnTo>
                  <a:pt x="305" y="17"/>
                </a:lnTo>
                <a:lnTo>
                  <a:pt x="309" y="85"/>
                </a:lnTo>
                <a:lnTo>
                  <a:pt x="312" y="201"/>
                </a:lnTo>
                <a:lnTo>
                  <a:pt x="316" y="354"/>
                </a:lnTo>
                <a:lnTo>
                  <a:pt x="316" y="524"/>
                </a:lnTo>
                <a:lnTo>
                  <a:pt x="319" y="701"/>
                </a:lnTo>
                <a:lnTo>
                  <a:pt x="323" y="865"/>
                </a:lnTo>
                <a:lnTo>
                  <a:pt x="326" y="1004"/>
                </a:lnTo>
                <a:lnTo>
                  <a:pt x="330" y="1100"/>
                </a:lnTo>
                <a:lnTo>
                  <a:pt x="333" y="1144"/>
                </a:lnTo>
                <a:lnTo>
                  <a:pt x="333" y="1137"/>
                </a:lnTo>
                <a:lnTo>
                  <a:pt x="337" y="1079"/>
                </a:lnTo>
                <a:lnTo>
                  <a:pt x="340" y="974"/>
                </a:lnTo>
                <a:lnTo>
                  <a:pt x="344" y="834"/>
                </a:lnTo>
                <a:lnTo>
                  <a:pt x="347" y="671"/>
                </a:lnTo>
                <a:lnTo>
                  <a:pt x="351" y="500"/>
                </a:lnTo>
                <a:lnTo>
                  <a:pt x="354" y="344"/>
                </a:lnTo>
                <a:lnTo>
                  <a:pt x="354" y="208"/>
                </a:lnTo>
                <a:lnTo>
                  <a:pt x="358" y="112"/>
                </a:lnTo>
                <a:lnTo>
                  <a:pt x="362" y="61"/>
                </a:lnTo>
                <a:lnTo>
                  <a:pt x="365" y="58"/>
                </a:lnTo>
                <a:lnTo>
                  <a:pt x="369" y="106"/>
                </a:lnTo>
                <a:lnTo>
                  <a:pt x="372" y="197"/>
                </a:lnTo>
                <a:lnTo>
                  <a:pt x="376" y="320"/>
                </a:lnTo>
                <a:lnTo>
                  <a:pt x="376" y="466"/>
                </a:lnTo>
                <a:lnTo>
                  <a:pt x="379" y="620"/>
                </a:lnTo>
                <a:lnTo>
                  <a:pt x="383" y="76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664240" y="1324080"/>
            <a:ext cx="657360" cy="1341360"/>
          </a:xfrm>
          <a:custGeom>
            <a:avLst/>
            <a:gdLst/>
            <a:ahLst/>
            <a:rect l="l" t="t" r="r" b="b"/>
            <a:pathLst>
              <a:path w="414" h="845">
                <a:moveTo>
                  <a:pt x="0" y="566"/>
                </a:moveTo>
                <a:lnTo>
                  <a:pt x="3" y="692"/>
                </a:lnTo>
                <a:lnTo>
                  <a:pt x="7" y="784"/>
                </a:lnTo>
                <a:lnTo>
                  <a:pt x="10" y="835"/>
                </a:lnTo>
                <a:lnTo>
                  <a:pt x="10" y="845"/>
                </a:lnTo>
                <a:lnTo>
                  <a:pt x="14" y="811"/>
                </a:lnTo>
                <a:lnTo>
                  <a:pt x="17" y="736"/>
                </a:lnTo>
                <a:lnTo>
                  <a:pt x="21" y="634"/>
                </a:lnTo>
                <a:lnTo>
                  <a:pt x="24" y="511"/>
                </a:lnTo>
                <a:lnTo>
                  <a:pt x="28" y="378"/>
                </a:lnTo>
                <a:lnTo>
                  <a:pt x="31" y="256"/>
                </a:lnTo>
                <a:lnTo>
                  <a:pt x="31" y="147"/>
                </a:lnTo>
                <a:lnTo>
                  <a:pt x="35" y="65"/>
                </a:lnTo>
                <a:lnTo>
                  <a:pt x="38" y="14"/>
                </a:lnTo>
                <a:lnTo>
                  <a:pt x="42" y="0"/>
                </a:lnTo>
                <a:lnTo>
                  <a:pt x="45" y="24"/>
                </a:lnTo>
                <a:lnTo>
                  <a:pt x="49" y="82"/>
                </a:lnTo>
                <a:lnTo>
                  <a:pt x="52" y="160"/>
                </a:lnTo>
                <a:lnTo>
                  <a:pt x="52" y="259"/>
                </a:lnTo>
                <a:lnTo>
                  <a:pt x="56" y="365"/>
                </a:lnTo>
                <a:lnTo>
                  <a:pt x="59" y="463"/>
                </a:lnTo>
                <a:lnTo>
                  <a:pt x="63" y="552"/>
                </a:lnTo>
                <a:lnTo>
                  <a:pt x="66" y="620"/>
                </a:lnTo>
                <a:lnTo>
                  <a:pt x="70" y="661"/>
                </a:lnTo>
                <a:lnTo>
                  <a:pt x="70" y="675"/>
                </a:lnTo>
                <a:lnTo>
                  <a:pt x="73" y="661"/>
                </a:lnTo>
                <a:lnTo>
                  <a:pt x="77" y="624"/>
                </a:lnTo>
                <a:lnTo>
                  <a:pt x="80" y="562"/>
                </a:lnTo>
                <a:lnTo>
                  <a:pt x="84" y="491"/>
                </a:lnTo>
                <a:lnTo>
                  <a:pt x="87" y="416"/>
                </a:lnTo>
                <a:lnTo>
                  <a:pt x="91" y="341"/>
                </a:lnTo>
                <a:lnTo>
                  <a:pt x="91" y="276"/>
                </a:lnTo>
                <a:lnTo>
                  <a:pt x="94" y="225"/>
                </a:lnTo>
                <a:lnTo>
                  <a:pt x="98" y="191"/>
                </a:lnTo>
                <a:lnTo>
                  <a:pt x="102" y="181"/>
                </a:lnTo>
                <a:lnTo>
                  <a:pt x="105" y="188"/>
                </a:lnTo>
                <a:lnTo>
                  <a:pt x="109" y="215"/>
                </a:lnTo>
                <a:lnTo>
                  <a:pt x="109" y="252"/>
                </a:lnTo>
                <a:lnTo>
                  <a:pt x="112" y="300"/>
                </a:lnTo>
                <a:lnTo>
                  <a:pt x="116" y="351"/>
                </a:lnTo>
                <a:lnTo>
                  <a:pt x="119" y="402"/>
                </a:lnTo>
                <a:lnTo>
                  <a:pt x="123" y="443"/>
                </a:lnTo>
                <a:lnTo>
                  <a:pt x="126" y="477"/>
                </a:lnTo>
                <a:lnTo>
                  <a:pt x="130" y="498"/>
                </a:lnTo>
                <a:lnTo>
                  <a:pt x="130" y="504"/>
                </a:lnTo>
                <a:lnTo>
                  <a:pt x="133" y="501"/>
                </a:lnTo>
                <a:lnTo>
                  <a:pt x="137" y="487"/>
                </a:lnTo>
                <a:lnTo>
                  <a:pt x="140" y="463"/>
                </a:lnTo>
                <a:lnTo>
                  <a:pt x="144" y="436"/>
                </a:lnTo>
                <a:lnTo>
                  <a:pt x="147" y="406"/>
                </a:lnTo>
                <a:lnTo>
                  <a:pt x="151" y="378"/>
                </a:lnTo>
                <a:lnTo>
                  <a:pt x="151" y="358"/>
                </a:lnTo>
                <a:lnTo>
                  <a:pt x="154" y="338"/>
                </a:lnTo>
                <a:lnTo>
                  <a:pt x="158" y="327"/>
                </a:lnTo>
                <a:lnTo>
                  <a:pt x="161" y="324"/>
                </a:lnTo>
                <a:lnTo>
                  <a:pt x="165" y="327"/>
                </a:lnTo>
                <a:lnTo>
                  <a:pt x="168" y="334"/>
                </a:lnTo>
                <a:lnTo>
                  <a:pt x="168" y="348"/>
                </a:lnTo>
                <a:lnTo>
                  <a:pt x="172" y="358"/>
                </a:lnTo>
                <a:lnTo>
                  <a:pt x="175" y="372"/>
                </a:lnTo>
                <a:lnTo>
                  <a:pt x="179" y="382"/>
                </a:lnTo>
                <a:lnTo>
                  <a:pt x="182" y="392"/>
                </a:lnTo>
                <a:lnTo>
                  <a:pt x="186" y="395"/>
                </a:lnTo>
                <a:lnTo>
                  <a:pt x="189" y="399"/>
                </a:lnTo>
                <a:lnTo>
                  <a:pt x="193" y="399"/>
                </a:lnTo>
                <a:lnTo>
                  <a:pt x="196" y="395"/>
                </a:lnTo>
                <a:lnTo>
                  <a:pt x="200" y="392"/>
                </a:lnTo>
                <a:lnTo>
                  <a:pt x="203" y="389"/>
                </a:lnTo>
                <a:lnTo>
                  <a:pt x="207" y="385"/>
                </a:lnTo>
                <a:lnTo>
                  <a:pt x="210" y="382"/>
                </a:lnTo>
                <a:lnTo>
                  <a:pt x="214" y="382"/>
                </a:lnTo>
                <a:lnTo>
                  <a:pt x="217" y="382"/>
                </a:lnTo>
                <a:lnTo>
                  <a:pt x="221" y="382"/>
                </a:lnTo>
                <a:lnTo>
                  <a:pt x="225" y="382"/>
                </a:lnTo>
                <a:lnTo>
                  <a:pt x="228" y="385"/>
                </a:lnTo>
                <a:lnTo>
                  <a:pt x="232" y="385"/>
                </a:lnTo>
                <a:lnTo>
                  <a:pt x="235" y="385"/>
                </a:lnTo>
                <a:lnTo>
                  <a:pt x="239" y="385"/>
                </a:lnTo>
                <a:lnTo>
                  <a:pt x="242" y="385"/>
                </a:lnTo>
                <a:lnTo>
                  <a:pt x="246" y="385"/>
                </a:lnTo>
                <a:lnTo>
                  <a:pt x="249" y="385"/>
                </a:lnTo>
                <a:lnTo>
                  <a:pt x="253" y="385"/>
                </a:lnTo>
                <a:lnTo>
                  <a:pt x="256" y="385"/>
                </a:lnTo>
                <a:lnTo>
                  <a:pt x="260" y="385"/>
                </a:lnTo>
                <a:lnTo>
                  <a:pt x="263" y="385"/>
                </a:lnTo>
                <a:lnTo>
                  <a:pt x="267" y="385"/>
                </a:lnTo>
                <a:lnTo>
                  <a:pt x="270" y="385"/>
                </a:lnTo>
                <a:lnTo>
                  <a:pt x="274" y="385"/>
                </a:lnTo>
                <a:lnTo>
                  <a:pt x="277" y="385"/>
                </a:lnTo>
                <a:lnTo>
                  <a:pt x="281" y="385"/>
                </a:lnTo>
                <a:lnTo>
                  <a:pt x="284" y="385"/>
                </a:lnTo>
                <a:lnTo>
                  <a:pt x="288" y="385"/>
                </a:lnTo>
                <a:lnTo>
                  <a:pt x="291" y="385"/>
                </a:lnTo>
                <a:lnTo>
                  <a:pt x="295" y="385"/>
                </a:lnTo>
                <a:lnTo>
                  <a:pt x="298" y="385"/>
                </a:lnTo>
                <a:lnTo>
                  <a:pt x="302" y="385"/>
                </a:lnTo>
                <a:lnTo>
                  <a:pt x="305" y="385"/>
                </a:lnTo>
                <a:lnTo>
                  <a:pt x="309" y="385"/>
                </a:lnTo>
                <a:lnTo>
                  <a:pt x="312" y="385"/>
                </a:lnTo>
                <a:lnTo>
                  <a:pt x="316" y="385"/>
                </a:lnTo>
                <a:lnTo>
                  <a:pt x="319" y="385"/>
                </a:lnTo>
                <a:lnTo>
                  <a:pt x="323" y="385"/>
                </a:lnTo>
                <a:lnTo>
                  <a:pt x="326" y="385"/>
                </a:lnTo>
                <a:lnTo>
                  <a:pt x="330" y="385"/>
                </a:lnTo>
                <a:lnTo>
                  <a:pt x="333" y="385"/>
                </a:lnTo>
                <a:lnTo>
                  <a:pt x="337" y="385"/>
                </a:lnTo>
                <a:lnTo>
                  <a:pt x="340" y="385"/>
                </a:lnTo>
                <a:lnTo>
                  <a:pt x="344" y="385"/>
                </a:lnTo>
                <a:lnTo>
                  <a:pt x="348" y="385"/>
                </a:lnTo>
                <a:lnTo>
                  <a:pt x="351" y="385"/>
                </a:lnTo>
                <a:lnTo>
                  <a:pt x="355" y="385"/>
                </a:lnTo>
                <a:lnTo>
                  <a:pt x="358" y="385"/>
                </a:lnTo>
                <a:lnTo>
                  <a:pt x="362" y="385"/>
                </a:lnTo>
                <a:lnTo>
                  <a:pt x="365" y="385"/>
                </a:lnTo>
                <a:lnTo>
                  <a:pt x="369" y="385"/>
                </a:lnTo>
                <a:lnTo>
                  <a:pt x="372" y="385"/>
                </a:lnTo>
                <a:lnTo>
                  <a:pt x="376" y="385"/>
                </a:lnTo>
                <a:lnTo>
                  <a:pt x="379" y="385"/>
                </a:lnTo>
                <a:lnTo>
                  <a:pt x="383" y="385"/>
                </a:lnTo>
                <a:lnTo>
                  <a:pt x="386" y="385"/>
                </a:lnTo>
                <a:lnTo>
                  <a:pt x="390" y="385"/>
                </a:lnTo>
                <a:lnTo>
                  <a:pt x="393" y="385"/>
                </a:lnTo>
                <a:lnTo>
                  <a:pt x="397" y="385"/>
                </a:lnTo>
                <a:lnTo>
                  <a:pt x="400" y="385"/>
                </a:lnTo>
                <a:lnTo>
                  <a:pt x="404" y="385"/>
                </a:lnTo>
                <a:lnTo>
                  <a:pt x="407" y="385"/>
                </a:lnTo>
                <a:lnTo>
                  <a:pt x="411" y="385"/>
                </a:lnTo>
                <a:lnTo>
                  <a:pt x="414" y="38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321600" y="1935000"/>
            <a:ext cx="709560" cy="1800"/>
          </a:xfrm>
          <a:custGeom>
            <a:avLst/>
            <a:gdLst/>
            <a:ahLst/>
            <a:rect l="l" t="t" r="r" b="b"/>
            <a:pathLst>
              <a:path w="447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4" y="0"/>
                </a:lnTo>
                <a:lnTo>
                  <a:pt x="67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9" y="0"/>
                </a:lnTo>
                <a:lnTo>
                  <a:pt x="102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6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48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5" y="0"/>
                </a:lnTo>
                <a:lnTo>
                  <a:pt x="169" y="0"/>
                </a:lnTo>
                <a:lnTo>
                  <a:pt x="172" y="0"/>
                </a:lnTo>
                <a:lnTo>
                  <a:pt x="176" y="0"/>
                </a:lnTo>
                <a:lnTo>
                  <a:pt x="180" y="0"/>
                </a:lnTo>
                <a:lnTo>
                  <a:pt x="183" y="0"/>
                </a:lnTo>
                <a:lnTo>
                  <a:pt x="187" y="0"/>
                </a:lnTo>
                <a:lnTo>
                  <a:pt x="190" y="0"/>
                </a:lnTo>
                <a:lnTo>
                  <a:pt x="194" y="0"/>
                </a:lnTo>
                <a:lnTo>
                  <a:pt x="197" y="0"/>
                </a:lnTo>
                <a:lnTo>
                  <a:pt x="201" y="0"/>
                </a:lnTo>
                <a:lnTo>
                  <a:pt x="204" y="0"/>
                </a:lnTo>
                <a:lnTo>
                  <a:pt x="208" y="0"/>
                </a:lnTo>
                <a:lnTo>
                  <a:pt x="211" y="0"/>
                </a:lnTo>
                <a:lnTo>
                  <a:pt x="215" y="0"/>
                </a:lnTo>
                <a:lnTo>
                  <a:pt x="218" y="0"/>
                </a:lnTo>
                <a:lnTo>
                  <a:pt x="222" y="0"/>
                </a:lnTo>
                <a:lnTo>
                  <a:pt x="225" y="0"/>
                </a:lnTo>
                <a:lnTo>
                  <a:pt x="229" y="0"/>
                </a:lnTo>
                <a:lnTo>
                  <a:pt x="232" y="0"/>
                </a:lnTo>
                <a:lnTo>
                  <a:pt x="236" y="0"/>
                </a:lnTo>
                <a:lnTo>
                  <a:pt x="239" y="0"/>
                </a:lnTo>
                <a:lnTo>
                  <a:pt x="243" y="0"/>
                </a:lnTo>
                <a:lnTo>
                  <a:pt x="246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0" y="0"/>
                </a:lnTo>
                <a:lnTo>
                  <a:pt x="264" y="0"/>
                </a:lnTo>
                <a:lnTo>
                  <a:pt x="267" y="0"/>
                </a:lnTo>
                <a:lnTo>
                  <a:pt x="271" y="0"/>
                </a:lnTo>
                <a:lnTo>
                  <a:pt x="274" y="0"/>
                </a:lnTo>
                <a:lnTo>
                  <a:pt x="278" y="0"/>
                </a:lnTo>
                <a:lnTo>
                  <a:pt x="281" y="0"/>
                </a:lnTo>
                <a:lnTo>
                  <a:pt x="285" y="0"/>
                </a:lnTo>
                <a:lnTo>
                  <a:pt x="288" y="0"/>
                </a:lnTo>
                <a:lnTo>
                  <a:pt x="292" y="0"/>
                </a:lnTo>
                <a:lnTo>
                  <a:pt x="295" y="0"/>
                </a:lnTo>
                <a:lnTo>
                  <a:pt x="299" y="0"/>
                </a:lnTo>
                <a:lnTo>
                  <a:pt x="303" y="0"/>
                </a:lnTo>
                <a:lnTo>
                  <a:pt x="306" y="0"/>
                </a:lnTo>
                <a:lnTo>
                  <a:pt x="310" y="0"/>
                </a:lnTo>
                <a:lnTo>
                  <a:pt x="313" y="0"/>
                </a:lnTo>
                <a:lnTo>
                  <a:pt x="317" y="0"/>
                </a:lnTo>
                <a:lnTo>
                  <a:pt x="320" y="0"/>
                </a:lnTo>
                <a:lnTo>
                  <a:pt x="324" y="0"/>
                </a:lnTo>
                <a:lnTo>
                  <a:pt x="327" y="0"/>
                </a:lnTo>
                <a:lnTo>
                  <a:pt x="331" y="0"/>
                </a:lnTo>
                <a:lnTo>
                  <a:pt x="334" y="0"/>
                </a:lnTo>
                <a:lnTo>
                  <a:pt x="338" y="0"/>
                </a:lnTo>
                <a:lnTo>
                  <a:pt x="341" y="0"/>
                </a:lnTo>
                <a:lnTo>
                  <a:pt x="345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9" y="0"/>
                </a:lnTo>
                <a:lnTo>
                  <a:pt x="362" y="0"/>
                </a:lnTo>
                <a:lnTo>
                  <a:pt x="366" y="0"/>
                </a:lnTo>
                <a:lnTo>
                  <a:pt x="369" y="0"/>
                </a:lnTo>
                <a:lnTo>
                  <a:pt x="373" y="0"/>
                </a:lnTo>
                <a:lnTo>
                  <a:pt x="376" y="0"/>
                </a:lnTo>
                <a:lnTo>
                  <a:pt x="380" y="0"/>
                </a:lnTo>
                <a:lnTo>
                  <a:pt x="383" y="0"/>
                </a:lnTo>
                <a:lnTo>
                  <a:pt x="387" y="0"/>
                </a:lnTo>
                <a:lnTo>
                  <a:pt x="390" y="0"/>
                </a:lnTo>
                <a:lnTo>
                  <a:pt x="394" y="0"/>
                </a:lnTo>
                <a:lnTo>
                  <a:pt x="397" y="0"/>
                </a:lnTo>
                <a:lnTo>
                  <a:pt x="401" y="0"/>
                </a:lnTo>
                <a:lnTo>
                  <a:pt x="404" y="0"/>
                </a:lnTo>
                <a:lnTo>
                  <a:pt x="408" y="0"/>
                </a:lnTo>
                <a:lnTo>
                  <a:pt x="411" y="0"/>
                </a:lnTo>
                <a:lnTo>
                  <a:pt x="415" y="0"/>
                </a:lnTo>
                <a:lnTo>
                  <a:pt x="418" y="0"/>
                </a:lnTo>
                <a:lnTo>
                  <a:pt x="422" y="0"/>
                </a:lnTo>
                <a:lnTo>
                  <a:pt x="426" y="0"/>
                </a:lnTo>
                <a:lnTo>
                  <a:pt x="429" y="0"/>
                </a:lnTo>
                <a:lnTo>
                  <a:pt x="433" y="0"/>
                </a:lnTo>
                <a:lnTo>
                  <a:pt x="436" y="0"/>
                </a:lnTo>
                <a:lnTo>
                  <a:pt x="440" y="0"/>
                </a:lnTo>
                <a:lnTo>
                  <a:pt x="443" y="0"/>
                </a:lnTo>
                <a:lnTo>
                  <a:pt x="44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031160" y="1935000"/>
            <a:ext cx="446040" cy="1800"/>
          </a:xfrm>
          <a:custGeom>
            <a:avLst/>
            <a:gdLst/>
            <a:ahLst/>
            <a:rect l="l" t="t" r="r" b="b"/>
            <a:pathLst>
              <a:path w="28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70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0"/>
                </a:lnTo>
                <a:lnTo>
                  <a:pt x="87" y="0"/>
                </a:lnTo>
                <a:lnTo>
                  <a:pt x="91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5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19" y="0"/>
                </a:lnTo>
                <a:lnTo>
                  <a:pt x="123" y="0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lnTo>
                  <a:pt x="137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4" y="0"/>
                </a:lnTo>
                <a:lnTo>
                  <a:pt x="158" y="0"/>
                </a:lnTo>
                <a:lnTo>
                  <a:pt x="161" y="0"/>
                </a:lnTo>
                <a:lnTo>
                  <a:pt x="165" y="0"/>
                </a:lnTo>
                <a:lnTo>
                  <a:pt x="168" y="0"/>
                </a:lnTo>
                <a:lnTo>
                  <a:pt x="172" y="0"/>
                </a:lnTo>
                <a:lnTo>
                  <a:pt x="175" y="0"/>
                </a:lnTo>
                <a:lnTo>
                  <a:pt x="179" y="0"/>
                </a:lnTo>
                <a:lnTo>
                  <a:pt x="182" y="0"/>
                </a:lnTo>
                <a:lnTo>
                  <a:pt x="186" y="0"/>
                </a:lnTo>
                <a:lnTo>
                  <a:pt x="189" y="0"/>
                </a:lnTo>
                <a:lnTo>
                  <a:pt x="193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7" y="0"/>
                </a:lnTo>
                <a:lnTo>
                  <a:pt x="210" y="0"/>
                </a:lnTo>
                <a:lnTo>
                  <a:pt x="214" y="0"/>
                </a:lnTo>
                <a:lnTo>
                  <a:pt x="217" y="0"/>
                </a:lnTo>
                <a:lnTo>
                  <a:pt x="221" y="0"/>
                </a:lnTo>
                <a:lnTo>
                  <a:pt x="225" y="0"/>
                </a:lnTo>
                <a:lnTo>
                  <a:pt x="228" y="0"/>
                </a:lnTo>
                <a:lnTo>
                  <a:pt x="232" y="0"/>
                </a:lnTo>
                <a:lnTo>
                  <a:pt x="235" y="0"/>
                </a:lnTo>
                <a:lnTo>
                  <a:pt x="239" y="0"/>
                </a:lnTo>
                <a:lnTo>
                  <a:pt x="242" y="0"/>
                </a:lnTo>
                <a:lnTo>
                  <a:pt x="246" y="0"/>
                </a:lnTo>
                <a:lnTo>
                  <a:pt x="249" y="0"/>
                </a:lnTo>
                <a:lnTo>
                  <a:pt x="253" y="0"/>
                </a:lnTo>
                <a:lnTo>
                  <a:pt x="256" y="0"/>
                </a:lnTo>
                <a:lnTo>
                  <a:pt x="260" y="0"/>
                </a:lnTo>
                <a:lnTo>
                  <a:pt x="263" y="0"/>
                </a:lnTo>
                <a:lnTo>
                  <a:pt x="267" y="0"/>
                </a:lnTo>
                <a:lnTo>
                  <a:pt x="270" y="0"/>
                </a:lnTo>
                <a:lnTo>
                  <a:pt x="274" y="0"/>
                </a:lnTo>
                <a:lnTo>
                  <a:pt x="277" y="0"/>
                </a:lnTo>
                <a:lnTo>
                  <a:pt x="281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862440" y="3252960"/>
            <a:ext cx="3933720" cy="300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62440" y="3252960"/>
            <a:ext cx="393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62440" y="3252960"/>
            <a:ext cx="3933720" cy="30067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3862440" y="3252960"/>
            <a:ext cx="1440" cy="30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862440" y="6259680"/>
            <a:ext cx="393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3862440" y="621648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62440" y="3252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34720" y="6286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4514760" y="6216480"/>
            <a:ext cx="180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514760" y="3252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450680" y="6286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5167440" y="621648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67440" y="3252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3000" y="6286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5829480" y="621648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829480" y="3252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765040" y="6286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6481800" y="6216480"/>
            <a:ext cx="144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481800" y="32529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417360" y="6286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7134120" y="6216480"/>
            <a:ext cx="180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134120" y="3252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042680" y="6286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7796160" y="6216480"/>
            <a:ext cx="1800" cy="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796160" y="32529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704720" y="6286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862440" y="62596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7751520" y="62596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761640" y="6189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62440" y="5951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7751520" y="59515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661200" y="5881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62440" y="56530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7751520" y="5653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61200" y="55832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62440" y="53546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7751520" y="53546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661200" y="5284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62440" y="50562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7751520" y="50562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661200" y="49849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862440" y="47563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7751520" y="47563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661200" y="4686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62440" y="44481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7751520" y="44481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661200" y="4378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862440" y="4149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7751520" y="41497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661200" y="4079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862440" y="385128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7751520" y="38512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661200" y="3781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862440" y="35528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7751520" y="35528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61200" y="3481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62440" y="32529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7751520" y="32529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761640" y="3182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62440" y="3252960"/>
            <a:ext cx="3933720" cy="30067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62440" y="3252960"/>
            <a:ext cx="1106280" cy="2998440"/>
          </a:xfrm>
          <a:custGeom>
            <a:avLst/>
            <a:gdLst/>
            <a:ahLst/>
            <a:rect l="l" t="t" r="r" b="b"/>
            <a:pathLst>
              <a:path w="697" h="1889">
                <a:moveTo>
                  <a:pt x="0" y="1889"/>
                </a:moveTo>
                <a:lnTo>
                  <a:pt x="6" y="1889"/>
                </a:lnTo>
                <a:lnTo>
                  <a:pt x="11" y="1889"/>
                </a:lnTo>
                <a:lnTo>
                  <a:pt x="17" y="1889"/>
                </a:lnTo>
                <a:lnTo>
                  <a:pt x="23" y="1889"/>
                </a:lnTo>
                <a:lnTo>
                  <a:pt x="28" y="1889"/>
                </a:lnTo>
                <a:lnTo>
                  <a:pt x="34" y="1889"/>
                </a:lnTo>
                <a:lnTo>
                  <a:pt x="40" y="1889"/>
                </a:lnTo>
                <a:lnTo>
                  <a:pt x="46" y="1889"/>
                </a:lnTo>
                <a:lnTo>
                  <a:pt x="51" y="1889"/>
                </a:lnTo>
                <a:lnTo>
                  <a:pt x="57" y="1889"/>
                </a:lnTo>
                <a:lnTo>
                  <a:pt x="63" y="1878"/>
                </a:lnTo>
                <a:lnTo>
                  <a:pt x="68" y="1878"/>
                </a:lnTo>
                <a:lnTo>
                  <a:pt x="74" y="1872"/>
                </a:lnTo>
                <a:lnTo>
                  <a:pt x="74" y="1844"/>
                </a:lnTo>
                <a:lnTo>
                  <a:pt x="80" y="1889"/>
                </a:lnTo>
                <a:lnTo>
                  <a:pt x="86" y="1678"/>
                </a:lnTo>
                <a:lnTo>
                  <a:pt x="86" y="1241"/>
                </a:lnTo>
                <a:lnTo>
                  <a:pt x="91" y="687"/>
                </a:lnTo>
                <a:lnTo>
                  <a:pt x="97" y="200"/>
                </a:lnTo>
                <a:lnTo>
                  <a:pt x="103" y="0"/>
                </a:lnTo>
                <a:lnTo>
                  <a:pt x="103" y="166"/>
                </a:lnTo>
                <a:lnTo>
                  <a:pt x="108" y="632"/>
                </a:lnTo>
                <a:lnTo>
                  <a:pt x="114" y="1191"/>
                </a:lnTo>
                <a:lnTo>
                  <a:pt x="114" y="1639"/>
                </a:lnTo>
                <a:lnTo>
                  <a:pt x="120" y="1883"/>
                </a:lnTo>
                <a:lnTo>
                  <a:pt x="126" y="1839"/>
                </a:lnTo>
                <a:lnTo>
                  <a:pt x="131" y="1872"/>
                </a:lnTo>
                <a:lnTo>
                  <a:pt x="131" y="1883"/>
                </a:lnTo>
                <a:lnTo>
                  <a:pt x="137" y="1878"/>
                </a:lnTo>
                <a:lnTo>
                  <a:pt x="143" y="1889"/>
                </a:lnTo>
                <a:lnTo>
                  <a:pt x="148" y="1889"/>
                </a:lnTo>
                <a:lnTo>
                  <a:pt x="154" y="1889"/>
                </a:lnTo>
                <a:lnTo>
                  <a:pt x="160" y="1889"/>
                </a:lnTo>
                <a:lnTo>
                  <a:pt x="165" y="1889"/>
                </a:lnTo>
                <a:lnTo>
                  <a:pt x="171" y="1889"/>
                </a:lnTo>
                <a:lnTo>
                  <a:pt x="177" y="1889"/>
                </a:lnTo>
                <a:lnTo>
                  <a:pt x="183" y="1889"/>
                </a:lnTo>
                <a:lnTo>
                  <a:pt x="188" y="1889"/>
                </a:lnTo>
                <a:lnTo>
                  <a:pt x="194" y="1889"/>
                </a:lnTo>
                <a:lnTo>
                  <a:pt x="200" y="1889"/>
                </a:lnTo>
                <a:lnTo>
                  <a:pt x="205" y="1889"/>
                </a:lnTo>
                <a:lnTo>
                  <a:pt x="211" y="1889"/>
                </a:lnTo>
                <a:lnTo>
                  <a:pt x="217" y="1889"/>
                </a:lnTo>
                <a:lnTo>
                  <a:pt x="223" y="1889"/>
                </a:lnTo>
                <a:lnTo>
                  <a:pt x="228" y="1889"/>
                </a:lnTo>
                <a:lnTo>
                  <a:pt x="234" y="1889"/>
                </a:lnTo>
                <a:lnTo>
                  <a:pt x="240" y="1889"/>
                </a:lnTo>
                <a:lnTo>
                  <a:pt x="245" y="1889"/>
                </a:lnTo>
                <a:lnTo>
                  <a:pt x="251" y="1889"/>
                </a:lnTo>
                <a:lnTo>
                  <a:pt x="257" y="1889"/>
                </a:lnTo>
                <a:lnTo>
                  <a:pt x="263" y="1889"/>
                </a:lnTo>
                <a:lnTo>
                  <a:pt x="268" y="1889"/>
                </a:lnTo>
                <a:lnTo>
                  <a:pt x="274" y="1889"/>
                </a:lnTo>
                <a:lnTo>
                  <a:pt x="280" y="1889"/>
                </a:lnTo>
                <a:lnTo>
                  <a:pt x="285" y="1889"/>
                </a:lnTo>
                <a:lnTo>
                  <a:pt x="291" y="1889"/>
                </a:lnTo>
                <a:lnTo>
                  <a:pt x="297" y="1889"/>
                </a:lnTo>
                <a:lnTo>
                  <a:pt x="303" y="1889"/>
                </a:lnTo>
                <a:lnTo>
                  <a:pt x="308" y="1889"/>
                </a:lnTo>
                <a:lnTo>
                  <a:pt x="314" y="1889"/>
                </a:lnTo>
                <a:lnTo>
                  <a:pt x="320" y="1889"/>
                </a:lnTo>
                <a:lnTo>
                  <a:pt x="325" y="1889"/>
                </a:lnTo>
                <a:lnTo>
                  <a:pt x="331" y="1889"/>
                </a:lnTo>
                <a:lnTo>
                  <a:pt x="337" y="1889"/>
                </a:lnTo>
                <a:lnTo>
                  <a:pt x="343" y="1889"/>
                </a:lnTo>
                <a:lnTo>
                  <a:pt x="348" y="1889"/>
                </a:lnTo>
                <a:lnTo>
                  <a:pt x="354" y="1889"/>
                </a:lnTo>
                <a:lnTo>
                  <a:pt x="360" y="1889"/>
                </a:lnTo>
                <a:lnTo>
                  <a:pt x="365" y="1889"/>
                </a:lnTo>
                <a:lnTo>
                  <a:pt x="371" y="1889"/>
                </a:lnTo>
                <a:lnTo>
                  <a:pt x="377" y="1889"/>
                </a:lnTo>
                <a:lnTo>
                  <a:pt x="383" y="1889"/>
                </a:lnTo>
                <a:lnTo>
                  <a:pt x="388" y="1889"/>
                </a:lnTo>
                <a:lnTo>
                  <a:pt x="394" y="1889"/>
                </a:lnTo>
                <a:lnTo>
                  <a:pt x="400" y="1889"/>
                </a:lnTo>
                <a:lnTo>
                  <a:pt x="405" y="1889"/>
                </a:lnTo>
                <a:lnTo>
                  <a:pt x="411" y="1889"/>
                </a:lnTo>
                <a:lnTo>
                  <a:pt x="417" y="1889"/>
                </a:lnTo>
                <a:lnTo>
                  <a:pt x="422" y="1889"/>
                </a:lnTo>
                <a:lnTo>
                  <a:pt x="428" y="1889"/>
                </a:lnTo>
                <a:lnTo>
                  <a:pt x="434" y="1889"/>
                </a:lnTo>
                <a:lnTo>
                  <a:pt x="440" y="1889"/>
                </a:lnTo>
                <a:lnTo>
                  <a:pt x="445" y="1889"/>
                </a:lnTo>
                <a:lnTo>
                  <a:pt x="451" y="1889"/>
                </a:lnTo>
                <a:lnTo>
                  <a:pt x="457" y="1889"/>
                </a:lnTo>
                <a:lnTo>
                  <a:pt x="462" y="1889"/>
                </a:lnTo>
                <a:lnTo>
                  <a:pt x="468" y="1889"/>
                </a:lnTo>
                <a:lnTo>
                  <a:pt x="474" y="1889"/>
                </a:lnTo>
                <a:lnTo>
                  <a:pt x="480" y="1889"/>
                </a:lnTo>
                <a:lnTo>
                  <a:pt x="485" y="1889"/>
                </a:lnTo>
                <a:lnTo>
                  <a:pt x="491" y="1889"/>
                </a:lnTo>
                <a:lnTo>
                  <a:pt x="497" y="1889"/>
                </a:lnTo>
                <a:lnTo>
                  <a:pt x="502" y="1889"/>
                </a:lnTo>
                <a:lnTo>
                  <a:pt x="508" y="1889"/>
                </a:lnTo>
                <a:lnTo>
                  <a:pt x="514" y="1889"/>
                </a:lnTo>
                <a:lnTo>
                  <a:pt x="520" y="1889"/>
                </a:lnTo>
                <a:lnTo>
                  <a:pt x="525" y="1889"/>
                </a:lnTo>
                <a:lnTo>
                  <a:pt x="531" y="1889"/>
                </a:lnTo>
                <a:lnTo>
                  <a:pt x="537" y="1889"/>
                </a:lnTo>
                <a:lnTo>
                  <a:pt x="542" y="1889"/>
                </a:lnTo>
                <a:lnTo>
                  <a:pt x="548" y="1889"/>
                </a:lnTo>
                <a:lnTo>
                  <a:pt x="554" y="1889"/>
                </a:lnTo>
                <a:lnTo>
                  <a:pt x="560" y="1889"/>
                </a:lnTo>
                <a:lnTo>
                  <a:pt x="565" y="1889"/>
                </a:lnTo>
                <a:lnTo>
                  <a:pt x="571" y="1889"/>
                </a:lnTo>
                <a:lnTo>
                  <a:pt x="577" y="1889"/>
                </a:lnTo>
                <a:lnTo>
                  <a:pt x="582" y="1889"/>
                </a:lnTo>
                <a:lnTo>
                  <a:pt x="588" y="1889"/>
                </a:lnTo>
                <a:lnTo>
                  <a:pt x="594" y="1889"/>
                </a:lnTo>
                <a:lnTo>
                  <a:pt x="600" y="1889"/>
                </a:lnTo>
                <a:lnTo>
                  <a:pt x="605" y="1889"/>
                </a:lnTo>
                <a:lnTo>
                  <a:pt x="611" y="1889"/>
                </a:lnTo>
                <a:lnTo>
                  <a:pt x="617" y="1889"/>
                </a:lnTo>
                <a:lnTo>
                  <a:pt x="622" y="1889"/>
                </a:lnTo>
                <a:lnTo>
                  <a:pt x="628" y="1889"/>
                </a:lnTo>
                <a:lnTo>
                  <a:pt x="634" y="1889"/>
                </a:lnTo>
                <a:lnTo>
                  <a:pt x="639" y="1889"/>
                </a:lnTo>
                <a:lnTo>
                  <a:pt x="645" y="1889"/>
                </a:lnTo>
                <a:lnTo>
                  <a:pt x="651" y="1889"/>
                </a:lnTo>
                <a:lnTo>
                  <a:pt x="657" y="1889"/>
                </a:lnTo>
                <a:lnTo>
                  <a:pt x="662" y="1889"/>
                </a:lnTo>
                <a:lnTo>
                  <a:pt x="668" y="1889"/>
                </a:lnTo>
                <a:lnTo>
                  <a:pt x="674" y="1889"/>
                </a:lnTo>
                <a:lnTo>
                  <a:pt x="679" y="1889"/>
                </a:lnTo>
                <a:lnTo>
                  <a:pt x="685" y="1889"/>
                </a:lnTo>
                <a:lnTo>
                  <a:pt x="691" y="1889"/>
                </a:lnTo>
                <a:lnTo>
                  <a:pt x="697" y="188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968720" y="6251400"/>
            <a:ext cx="1150920" cy="8280"/>
          </a:xfrm>
          <a:custGeom>
            <a:avLst/>
            <a:gdLst/>
            <a:ahLst/>
            <a:rect l="l" t="t" r="r" b="b"/>
            <a:pathLst>
              <a:path w="725" h="5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lnTo>
                  <a:pt x="28" y="0"/>
                </a:lnTo>
                <a:lnTo>
                  <a:pt x="34" y="0"/>
                </a:lnTo>
                <a:lnTo>
                  <a:pt x="40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2" y="0"/>
                </a:lnTo>
                <a:lnTo>
                  <a:pt x="68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2" y="0"/>
                </a:lnTo>
                <a:lnTo>
                  <a:pt x="148" y="0"/>
                </a:lnTo>
                <a:lnTo>
                  <a:pt x="154" y="0"/>
                </a:lnTo>
                <a:lnTo>
                  <a:pt x="159" y="0"/>
                </a:lnTo>
                <a:lnTo>
                  <a:pt x="165" y="0"/>
                </a:lnTo>
                <a:lnTo>
                  <a:pt x="171" y="0"/>
                </a:lnTo>
                <a:lnTo>
                  <a:pt x="177" y="0"/>
                </a:lnTo>
                <a:lnTo>
                  <a:pt x="182" y="0"/>
                </a:lnTo>
                <a:lnTo>
                  <a:pt x="188" y="0"/>
                </a:lnTo>
                <a:lnTo>
                  <a:pt x="194" y="0"/>
                </a:lnTo>
                <a:lnTo>
                  <a:pt x="199" y="0"/>
                </a:lnTo>
                <a:lnTo>
                  <a:pt x="205" y="0"/>
                </a:lnTo>
                <a:lnTo>
                  <a:pt x="211" y="0"/>
                </a:lnTo>
                <a:lnTo>
                  <a:pt x="217" y="0"/>
                </a:lnTo>
                <a:lnTo>
                  <a:pt x="222" y="0"/>
                </a:lnTo>
                <a:lnTo>
                  <a:pt x="228" y="0"/>
                </a:lnTo>
                <a:lnTo>
                  <a:pt x="234" y="0"/>
                </a:lnTo>
                <a:lnTo>
                  <a:pt x="239" y="0"/>
                </a:lnTo>
                <a:lnTo>
                  <a:pt x="245" y="0"/>
                </a:lnTo>
                <a:lnTo>
                  <a:pt x="251" y="0"/>
                </a:lnTo>
                <a:lnTo>
                  <a:pt x="257" y="0"/>
                </a:lnTo>
                <a:lnTo>
                  <a:pt x="262" y="0"/>
                </a:lnTo>
                <a:lnTo>
                  <a:pt x="268" y="0"/>
                </a:lnTo>
                <a:lnTo>
                  <a:pt x="274" y="0"/>
                </a:lnTo>
                <a:lnTo>
                  <a:pt x="279" y="0"/>
                </a:lnTo>
                <a:lnTo>
                  <a:pt x="285" y="0"/>
                </a:lnTo>
                <a:lnTo>
                  <a:pt x="291" y="0"/>
                </a:lnTo>
                <a:lnTo>
                  <a:pt x="297" y="0"/>
                </a:lnTo>
                <a:lnTo>
                  <a:pt x="302" y="0"/>
                </a:lnTo>
                <a:lnTo>
                  <a:pt x="308" y="0"/>
                </a:lnTo>
                <a:lnTo>
                  <a:pt x="314" y="0"/>
                </a:lnTo>
                <a:lnTo>
                  <a:pt x="319" y="0"/>
                </a:lnTo>
                <a:lnTo>
                  <a:pt x="325" y="0"/>
                </a:lnTo>
                <a:lnTo>
                  <a:pt x="331" y="5"/>
                </a:lnTo>
                <a:lnTo>
                  <a:pt x="337" y="5"/>
                </a:lnTo>
                <a:lnTo>
                  <a:pt x="342" y="5"/>
                </a:lnTo>
                <a:lnTo>
                  <a:pt x="348" y="5"/>
                </a:lnTo>
                <a:lnTo>
                  <a:pt x="354" y="5"/>
                </a:lnTo>
                <a:lnTo>
                  <a:pt x="359" y="5"/>
                </a:lnTo>
                <a:lnTo>
                  <a:pt x="365" y="5"/>
                </a:lnTo>
                <a:lnTo>
                  <a:pt x="371" y="5"/>
                </a:lnTo>
                <a:lnTo>
                  <a:pt x="376" y="5"/>
                </a:lnTo>
                <a:lnTo>
                  <a:pt x="382" y="5"/>
                </a:lnTo>
                <a:lnTo>
                  <a:pt x="388" y="5"/>
                </a:lnTo>
                <a:lnTo>
                  <a:pt x="394" y="5"/>
                </a:lnTo>
                <a:lnTo>
                  <a:pt x="399" y="5"/>
                </a:lnTo>
                <a:lnTo>
                  <a:pt x="405" y="5"/>
                </a:lnTo>
                <a:lnTo>
                  <a:pt x="411" y="5"/>
                </a:lnTo>
                <a:lnTo>
                  <a:pt x="416" y="5"/>
                </a:lnTo>
                <a:lnTo>
                  <a:pt x="422" y="5"/>
                </a:lnTo>
                <a:lnTo>
                  <a:pt x="428" y="5"/>
                </a:lnTo>
                <a:lnTo>
                  <a:pt x="434" y="5"/>
                </a:lnTo>
                <a:lnTo>
                  <a:pt x="439" y="5"/>
                </a:lnTo>
                <a:lnTo>
                  <a:pt x="445" y="5"/>
                </a:lnTo>
                <a:lnTo>
                  <a:pt x="451" y="5"/>
                </a:lnTo>
                <a:lnTo>
                  <a:pt x="456" y="5"/>
                </a:lnTo>
                <a:lnTo>
                  <a:pt x="462" y="5"/>
                </a:lnTo>
                <a:lnTo>
                  <a:pt x="468" y="5"/>
                </a:lnTo>
                <a:lnTo>
                  <a:pt x="474" y="5"/>
                </a:lnTo>
                <a:lnTo>
                  <a:pt x="479" y="5"/>
                </a:lnTo>
                <a:lnTo>
                  <a:pt x="485" y="5"/>
                </a:lnTo>
                <a:lnTo>
                  <a:pt x="491" y="5"/>
                </a:lnTo>
                <a:lnTo>
                  <a:pt x="496" y="5"/>
                </a:lnTo>
                <a:lnTo>
                  <a:pt x="502" y="5"/>
                </a:lnTo>
                <a:lnTo>
                  <a:pt x="508" y="5"/>
                </a:lnTo>
                <a:lnTo>
                  <a:pt x="514" y="5"/>
                </a:lnTo>
                <a:lnTo>
                  <a:pt x="519" y="5"/>
                </a:lnTo>
                <a:lnTo>
                  <a:pt x="525" y="5"/>
                </a:lnTo>
                <a:lnTo>
                  <a:pt x="531" y="5"/>
                </a:lnTo>
                <a:lnTo>
                  <a:pt x="536" y="5"/>
                </a:lnTo>
                <a:lnTo>
                  <a:pt x="542" y="5"/>
                </a:lnTo>
                <a:lnTo>
                  <a:pt x="548" y="5"/>
                </a:lnTo>
                <a:lnTo>
                  <a:pt x="554" y="5"/>
                </a:lnTo>
                <a:lnTo>
                  <a:pt x="559" y="5"/>
                </a:lnTo>
                <a:lnTo>
                  <a:pt x="565" y="5"/>
                </a:lnTo>
                <a:lnTo>
                  <a:pt x="571" y="5"/>
                </a:lnTo>
                <a:lnTo>
                  <a:pt x="576" y="5"/>
                </a:lnTo>
                <a:lnTo>
                  <a:pt x="582" y="5"/>
                </a:lnTo>
                <a:lnTo>
                  <a:pt x="588" y="5"/>
                </a:lnTo>
                <a:lnTo>
                  <a:pt x="594" y="5"/>
                </a:lnTo>
                <a:lnTo>
                  <a:pt x="599" y="5"/>
                </a:lnTo>
                <a:lnTo>
                  <a:pt x="605" y="5"/>
                </a:lnTo>
                <a:lnTo>
                  <a:pt x="611" y="5"/>
                </a:lnTo>
                <a:lnTo>
                  <a:pt x="616" y="5"/>
                </a:lnTo>
                <a:lnTo>
                  <a:pt x="622" y="5"/>
                </a:lnTo>
                <a:lnTo>
                  <a:pt x="628" y="5"/>
                </a:lnTo>
                <a:lnTo>
                  <a:pt x="633" y="5"/>
                </a:lnTo>
                <a:lnTo>
                  <a:pt x="639" y="5"/>
                </a:lnTo>
                <a:lnTo>
                  <a:pt x="645" y="5"/>
                </a:lnTo>
                <a:lnTo>
                  <a:pt x="651" y="5"/>
                </a:lnTo>
                <a:lnTo>
                  <a:pt x="656" y="5"/>
                </a:lnTo>
                <a:lnTo>
                  <a:pt x="662" y="5"/>
                </a:lnTo>
                <a:lnTo>
                  <a:pt x="668" y="5"/>
                </a:lnTo>
                <a:lnTo>
                  <a:pt x="673" y="5"/>
                </a:lnTo>
                <a:lnTo>
                  <a:pt x="679" y="5"/>
                </a:lnTo>
                <a:lnTo>
                  <a:pt x="685" y="5"/>
                </a:lnTo>
                <a:lnTo>
                  <a:pt x="691" y="5"/>
                </a:lnTo>
                <a:lnTo>
                  <a:pt x="696" y="5"/>
                </a:lnTo>
                <a:lnTo>
                  <a:pt x="702" y="5"/>
                </a:lnTo>
                <a:lnTo>
                  <a:pt x="708" y="5"/>
                </a:lnTo>
                <a:lnTo>
                  <a:pt x="713" y="5"/>
                </a:lnTo>
                <a:lnTo>
                  <a:pt x="719" y="5"/>
                </a:lnTo>
                <a:lnTo>
                  <a:pt x="725" y="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19640" y="6259680"/>
            <a:ext cx="1087560" cy="1440"/>
          </a:xfrm>
          <a:custGeom>
            <a:avLst/>
            <a:gdLst/>
            <a:ahLst/>
            <a:rect l="l" t="t" r="r" b="b"/>
            <a:pathLst>
              <a:path w="685" h="0">
                <a:moveTo>
                  <a:pt x="0" y="0"/>
                </a:move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28" y="0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4" y="0"/>
                </a:lnTo>
                <a:lnTo>
                  <a:pt x="80" y="0"/>
                </a:lnTo>
                <a:lnTo>
                  <a:pt x="86" y="0"/>
                </a:lnTo>
                <a:lnTo>
                  <a:pt x="91" y="0"/>
                </a:lnTo>
                <a:lnTo>
                  <a:pt x="97" y="0"/>
                </a:lnTo>
                <a:lnTo>
                  <a:pt x="103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8" y="0"/>
                </a:lnTo>
                <a:lnTo>
                  <a:pt x="154" y="0"/>
                </a:lnTo>
                <a:lnTo>
                  <a:pt x="160" y="0"/>
                </a:lnTo>
                <a:lnTo>
                  <a:pt x="165" y="0"/>
                </a:lnTo>
                <a:lnTo>
                  <a:pt x="171" y="0"/>
                </a:lnTo>
                <a:lnTo>
                  <a:pt x="177" y="0"/>
                </a:lnTo>
                <a:lnTo>
                  <a:pt x="183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5" y="0"/>
                </a:lnTo>
                <a:lnTo>
                  <a:pt x="211" y="0"/>
                </a:lnTo>
                <a:lnTo>
                  <a:pt x="217" y="0"/>
                </a:lnTo>
                <a:lnTo>
                  <a:pt x="223" y="0"/>
                </a:lnTo>
                <a:lnTo>
                  <a:pt x="228" y="0"/>
                </a:lnTo>
                <a:lnTo>
                  <a:pt x="234" y="0"/>
                </a:lnTo>
                <a:lnTo>
                  <a:pt x="240" y="0"/>
                </a:lnTo>
                <a:lnTo>
                  <a:pt x="245" y="0"/>
                </a:lnTo>
                <a:lnTo>
                  <a:pt x="251" y="0"/>
                </a:lnTo>
                <a:lnTo>
                  <a:pt x="257" y="0"/>
                </a:lnTo>
                <a:lnTo>
                  <a:pt x="263" y="0"/>
                </a:lnTo>
                <a:lnTo>
                  <a:pt x="268" y="0"/>
                </a:lnTo>
                <a:lnTo>
                  <a:pt x="274" y="0"/>
                </a:lnTo>
                <a:lnTo>
                  <a:pt x="280" y="0"/>
                </a:lnTo>
                <a:lnTo>
                  <a:pt x="285" y="0"/>
                </a:lnTo>
                <a:lnTo>
                  <a:pt x="291" y="0"/>
                </a:lnTo>
                <a:lnTo>
                  <a:pt x="297" y="0"/>
                </a:lnTo>
                <a:lnTo>
                  <a:pt x="303" y="0"/>
                </a:lnTo>
                <a:lnTo>
                  <a:pt x="308" y="0"/>
                </a:lnTo>
                <a:lnTo>
                  <a:pt x="314" y="0"/>
                </a:lnTo>
                <a:lnTo>
                  <a:pt x="320" y="0"/>
                </a:lnTo>
                <a:lnTo>
                  <a:pt x="325" y="0"/>
                </a:lnTo>
                <a:lnTo>
                  <a:pt x="331" y="0"/>
                </a:lnTo>
                <a:lnTo>
                  <a:pt x="337" y="0"/>
                </a:lnTo>
                <a:lnTo>
                  <a:pt x="342" y="0"/>
                </a:lnTo>
                <a:lnTo>
                  <a:pt x="348" y="0"/>
                </a:lnTo>
                <a:lnTo>
                  <a:pt x="354" y="0"/>
                </a:lnTo>
                <a:lnTo>
                  <a:pt x="360" y="0"/>
                </a:lnTo>
                <a:lnTo>
                  <a:pt x="365" y="0"/>
                </a:lnTo>
                <a:lnTo>
                  <a:pt x="371" y="0"/>
                </a:lnTo>
                <a:lnTo>
                  <a:pt x="377" y="0"/>
                </a:lnTo>
                <a:lnTo>
                  <a:pt x="382" y="0"/>
                </a:lnTo>
                <a:lnTo>
                  <a:pt x="388" y="0"/>
                </a:lnTo>
                <a:lnTo>
                  <a:pt x="394" y="0"/>
                </a:lnTo>
                <a:lnTo>
                  <a:pt x="400" y="0"/>
                </a:lnTo>
                <a:lnTo>
                  <a:pt x="405" y="0"/>
                </a:lnTo>
                <a:lnTo>
                  <a:pt x="411" y="0"/>
                </a:lnTo>
                <a:lnTo>
                  <a:pt x="417" y="0"/>
                </a:lnTo>
                <a:lnTo>
                  <a:pt x="422" y="0"/>
                </a:lnTo>
                <a:lnTo>
                  <a:pt x="428" y="0"/>
                </a:lnTo>
                <a:lnTo>
                  <a:pt x="434" y="0"/>
                </a:lnTo>
                <a:lnTo>
                  <a:pt x="440" y="0"/>
                </a:lnTo>
                <a:lnTo>
                  <a:pt x="445" y="0"/>
                </a:lnTo>
                <a:lnTo>
                  <a:pt x="451" y="0"/>
                </a:lnTo>
                <a:lnTo>
                  <a:pt x="457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0" y="0"/>
                </a:lnTo>
                <a:lnTo>
                  <a:pt x="485" y="0"/>
                </a:lnTo>
                <a:lnTo>
                  <a:pt x="491" y="0"/>
                </a:lnTo>
                <a:lnTo>
                  <a:pt x="497" y="0"/>
                </a:lnTo>
                <a:lnTo>
                  <a:pt x="502" y="0"/>
                </a:lnTo>
                <a:lnTo>
                  <a:pt x="508" y="0"/>
                </a:lnTo>
                <a:lnTo>
                  <a:pt x="514" y="0"/>
                </a:lnTo>
                <a:lnTo>
                  <a:pt x="520" y="0"/>
                </a:lnTo>
                <a:lnTo>
                  <a:pt x="525" y="0"/>
                </a:lnTo>
                <a:lnTo>
                  <a:pt x="531" y="0"/>
                </a:lnTo>
                <a:lnTo>
                  <a:pt x="537" y="0"/>
                </a:lnTo>
                <a:lnTo>
                  <a:pt x="542" y="0"/>
                </a:lnTo>
                <a:lnTo>
                  <a:pt x="548" y="0"/>
                </a:lnTo>
                <a:lnTo>
                  <a:pt x="554" y="0"/>
                </a:lnTo>
                <a:lnTo>
                  <a:pt x="560" y="0"/>
                </a:lnTo>
                <a:lnTo>
                  <a:pt x="565" y="0"/>
                </a:lnTo>
                <a:lnTo>
                  <a:pt x="571" y="0"/>
                </a:lnTo>
                <a:lnTo>
                  <a:pt x="577" y="0"/>
                </a:lnTo>
                <a:lnTo>
                  <a:pt x="582" y="0"/>
                </a:lnTo>
                <a:lnTo>
                  <a:pt x="588" y="0"/>
                </a:lnTo>
                <a:lnTo>
                  <a:pt x="594" y="0"/>
                </a:lnTo>
                <a:lnTo>
                  <a:pt x="599" y="0"/>
                </a:lnTo>
                <a:lnTo>
                  <a:pt x="605" y="0"/>
                </a:lnTo>
                <a:lnTo>
                  <a:pt x="611" y="0"/>
                </a:lnTo>
                <a:lnTo>
                  <a:pt x="617" y="0"/>
                </a:lnTo>
                <a:lnTo>
                  <a:pt x="622" y="0"/>
                </a:lnTo>
                <a:lnTo>
                  <a:pt x="628" y="0"/>
                </a:lnTo>
                <a:lnTo>
                  <a:pt x="634" y="0"/>
                </a:lnTo>
                <a:lnTo>
                  <a:pt x="639" y="0"/>
                </a:lnTo>
                <a:lnTo>
                  <a:pt x="645" y="0"/>
                </a:lnTo>
                <a:lnTo>
                  <a:pt x="651" y="0"/>
                </a:lnTo>
                <a:lnTo>
                  <a:pt x="657" y="0"/>
                </a:lnTo>
                <a:lnTo>
                  <a:pt x="662" y="0"/>
                </a:lnTo>
                <a:lnTo>
                  <a:pt x="668" y="0"/>
                </a:lnTo>
                <a:lnTo>
                  <a:pt x="674" y="0"/>
                </a:lnTo>
                <a:lnTo>
                  <a:pt x="679" y="0"/>
                </a:lnTo>
                <a:lnTo>
                  <a:pt x="68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304920" y="5335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f5(1) = yf5(1)/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 = 2*real(IFourierT(yf5, d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t,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2590920" y="762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499560" y="53352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rowing out negativ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s, need to divide dc va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half also (not needed if dc value is zero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ready very s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630600" y="2446200"/>
            <a:ext cx="4370400" cy="33386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630600" y="2446200"/>
            <a:ext cx="4370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30600" y="2446200"/>
            <a:ext cx="4370400" cy="3338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3630600" y="2446200"/>
            <a:ext cx="1440" cy="333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630600" y="5784840"/>
            <a:ext cx="437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363060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060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406404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06404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449748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49748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6580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494028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94028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537228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37228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34204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581508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1508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624852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24852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21828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668196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68196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712476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12476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09452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755820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55820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8001000" y="5735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001000" y="24462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970760" y="581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630600" y="5784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7949880" y="57848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344760" y="5694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630600" y="5365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7949880" y="5365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630600" y="49449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7949880" y="49449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344760" y="48546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630600" y="45259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7949880" y="45259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630600" y="4114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H="1">
            <a:off x="7949880" y="4114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384720" y="4024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30600" y="36957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>
            <a:off x="7949880" y="36957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630600" y="32767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7949880" y="3276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384720" y="3184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630600" y="28558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949880" y="28558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30600" y="2446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7949880" y="24462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384720" y="2355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630600" y="2446200"/>
            <a:ext cx="4370400" cy="33386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630600" y="2446200"/>
            <a:ext cx="1096920" cy="3289320"/>
          </a:xfrm>
          <a:custGeom>
            <a:avLst/>
            <a:gdLst/>
            <a:ahLst/>
            <a:rect l="l" t="t" r="r" b="b"/>
            <a:pathLst>
              <a:path w="691" h="2072">
                <a:moveTo>
                  <a:pt x="6" y="1045"/>
                </a:moveTo>
                <a:lnTo>
                  <a:pt x="0" y="1045"/>
                </a:lnTo>
                <a:lnTo>
                  <a:pt x="6" y="1045"/>
                </a:lnTo>
                <a:lnTo>
                  <a:pt x="13" y="1045"/>
                </a:lnTo>
                <a:lnTo>
                  <a:pt x="19" y="1045"/>
                </a:lnTo>
                <a:lnTo>
                  <a:pt x="25" y="1045"/>
                </a:lnTo>
                <a:lnTo>
                  <a:pt x="32" y="1058"/>
                </a:lnTo>
                <a:lnTo>
                  <a:pt x="38" y="1058"/>
                </a:lnTo>
                <a:lnTo>
                  <a:pt x="44" y="1070"/>
                </a:lnTo>
                <a:lnTo>
                  <a:pt x="51" y="1070"/>
                </a:lnTo>
                <a:lnTo>
                  <a:pt x="57" y="1076"/>
                </a:lnTo>
                <a:lnTo>
                  <a:pt x="63" y="1076"/>
                </a:lnTo>
                <a:lnTo>
                  <a:pt x="70" y="1070"/>
                </a:lnTo>
                <a:lnTo>
                  <a:pt x="76" y="1051"/>
                </a:lnTo>
                <a:lnTo>
                  <a:pt x="82" y="1033"/>
                </a:lnTo>
                <a:lnTo>
                  <a:pt x="89" y="1015"/>
                </a:lnTo>
                <a:lnTo>
                  <a:pt x="95" y="990"/>
                </a:lnTo>
                <a:lnTo>
                  <a:pt x="102" y="972"/>
                </a:lnTo>
                <a:lnTo>
                  <a:pt x="102" y="953"/>
                </a:lnTo>
                <a:lnTo>
                  <a:pt x="108" y="947"/>
                </a:lnTo>
                <a:lnTo>
                  <a:pt x="114" y="947"/>
                </a:lnTo>
                <a:lnTo>
                  <a:pt x="121" y="959"/>
                </a:lnTo>
                <a:lnTo>
                  <a:pt x="127" y="984"/>
                </a:lnTo>
                <a:lnTo>
                  <a:pt x="133" y="1021"/>
                </a:lnTo>
                <a:lnTo>
                  <a:pt x="140" y="1070"/>
                </a:lnTo>
                <a:lnTo>
                  <a:pt x="140" y="1119"/>
                </a:lnTo>
                <a:lnTo>
                  <a:pt x="146" y="1174"/>
                </a:lnTo>
                <a:lnTo>
                  <a:pt x="152" y="1218"/>
                </a:lnTo>
                <a:lnTo>
                  <a:pt x="159" y="1254"/>
                </a:lnTo>
                <a:lnTo>
                  <a:pt x="165" y="1267"/>
                </a:lnTo>
                <a:lnTo>
                  <a:pt x="171" y="1261"/>
                </a:lnTo>
                <a:lnTo>
                  <a:pt x="178" y="1236"/>
                </a:lnTo>
                <a:lnTo>
                  <a:pt x="178" y="1187"/>
                </a:lnTo>
                <a:lnTo>
                  <a:pt x="184" y="1113"/>
                </a:lnTo>
                <a:lnTo>
                  <a:pt x="190" y="1027"/>
                </a:lnTo>
                <a:lnTo>
                  <a:pt x="197" y="935"/>
                </a:lnTo>
                <a:lnTo>
                  <a:pt x="203" y="849"/>
                </a:lnTo>
                <a:lnTo>
                  <a:pt x="209" y="769"/>
                </a:lnTo>
                <a:lnTo>
                  <a:pt x="209" y="713"/>
                </a:lnTo>
                <a:lnTo>
                  <a:pt x="216" y="682"/>
                </a:lnTo>
                <a:lnTo>
                  <a:pt x="222" y="689"/>
                </a:lnTo>
                <a:lnTo>
                  <a:pt x="228" y="732"/>
                </a:lnTo>
                <a:lnTo>
                  <a:pt x="235" y="812"/>
                </a:lnTo>
                <a:lnTo>
                  <a:pt x="241" y="922"/>
                </a:lnTo>
                <a:lnTo>
                  <a:pt x="247" y="1051"/>
                </a:lnTo>
                <a:lnTo>
                  <a:pt x="247" y="1187"/>
                </a:lnTo>
                <a:lnTo>
                  <a:pt x="254" y="1322"/>
                </a:lnTo>
                <a:lnTo>
                  <a:pt x="260" y="1439"/>
                </a:lnTo>
                <a:lnTo>
                  <a:pt x="266" y="1525"/>
                </a:lnTo>
                <a:lnTo>
                  <a:pt x="273" y="1574"/>
                </a:lnTo>
                <a:lnTo>
                  <a:pt x="279" y="1568"/>
                </a:lnTo>
                <a:lnTo>
                  <a:pt x="285" y="1513"/>
                </a:lnTo>
                <a:lnTo>
                  <a:pt x="285" y="1408"/>
                </a:lnTo>
                <a:lnTo>
                  <a:pt x="292" y="1261"/>
                </a:lnTo>
                <a:lnTo>
                  <a:pt x="298" y="1088"/>
                </a:lnTo>
                <a:lnTo>
                  <a:pt x="304" y="898"/>
                </a:lnTo>
                <a:lnTo>
                  <a:pt x="311" y="713"/>
                </a:lnTo>
                <a:lnTo>
                  <a:pt x="317" y="553"/>
                </a:lnTo>
                <a:lnTo>
                  <a:pt x="317" y="436"/>
                </a:lnTo>
                <a:lnTo>
                  <a:pt x="324" y="369"/>
                </a:lnTo>
                <a:lnTo>
                  <a:pt x="330" y="363"/>
                </a:lnTo>
                <a:lnTo>
                  <a:pt x="336" y="430"/>
                </a:lnTo>
                <a:lnTo>
                  <a:pt x="343" y="553"/>
                </a:lnTo>
                <a:lnTo>
                  <a:pt x="349" y="732"/>
                </a:lnTo>
                <a:lnTo>
                  <a:pt x="355" y="947"/>
                </a:lnTo>
                <a:lnTo>
                  <a:pt x="355" y="1181"/>
                </a:lnTo>
                <a:lnTo>
                  <a:pt x="362" y="1414"/>
                </a:lnTo>
                <a:lnTo>
                  <a:pt x="368" y="1617"/>
                </a:lnTo>
                <a:lnTo>
                  <a:pt x="374" y="1771"/>
                </a:lnTo>
                <a:lnTo>
                  <a:pt x="381" y="1863"/>
                </a:lnTo>
                <a:lnTo>
                  <a:pt x="387" y="1882"/>
                </a:lnTo>
                <a:lnTo>
                  <a:pt x="393" y="1820"/>
                </a:lnTo>
                <a:lnTo>
                  <a:pt x="393" y="1679"/>
                </a:lnTo>
                <a:lnTo>
                  <a:pt x="400" y="1476"/>
                </a:lnTo>
                <a:lnTo>
                  <a:pt x="406" y="1224"/>
                </a:lnTo>
                <a:lnTo>
                  <a:pt x="412" y="953"/>
                </a:lnTo>
                <a:lnTo>
                  <a:pt x="419" y="682"/>
                </a:lnTo>
                <a:lnTo>
                  <a:pt x="425" y="436"/>
                </a:lnTo>
                <a:lnTo>
                  <a:pt x="425" y="246"/>
                </a:lnTo>
                <a:lnTo>
                  <a:pt x="431" y="129"/>
                </a:lnTo>
                <a:lnTo>
                  <a:pt x="438" y="98"/>
                </a:lnTo>
                <a:lnTo>
                  <a:pt x="444" y="154"/>
                </a:lnTo>
                <a:lnTo>
                  <a:pt x="450" y="301"/>
                </a:lnTo>
                <a:lnTo>
                  <a:pt x="457" y="516"/>
                </a:lnTo>
                <a:lnTo>
                  <a:pt x="463" y="787"/>
                </a:lnTo>
                <a:lnTo>
                  <a:pt x="463" y="1088"/>
                </a:lnTo>
                <a:lnTo>
                  <a:pt x="469" y="1390"/>
                </a:lnTo>
                <a:lnTo>
                  <a:pt x="476" y="1660"/>
                </a:lnTo>
                <a:lnTo>
                  <a:pt x="482" y="1882"/>
                </a:lnTo>
                <a:lnTo>
                  <a:pt x="488" y="2023"/>
                </a:lnTo>
                <a:lnTo>
                  <a:pt x="495" y="2072"/>
                </a:lnTo>
                <a:lnTo>
                  <a:pt x="495" y="2029"/>
                </a:lnTo>
                <a:lnTo>
                  <a:pt x="501" y="1888"/>
                </a:lnTo>
                <a:lnTo>
                  <a:pt x="507" y="1673"/>
                </a:lnTo>
                <a:lnTo>
                  <a:pt x="514" y="1390"/>
                </a:lnTo>
                <a:lnTo>
                  <a:pt x="520" y="1076"/>
                </a:lnTo>
                <a:lnTo>
                  <a:pt x="526" y="756"/>
                </a:lnTo>
                <a:lnTo>
                  <a:pt x="533" y="467"/>
                </a:lnTo>
                <a:lnTo>
                  <a:pt x="533" y="227"/>
                </a:lnTo>
                <a:lnTo>
                  <a:pt x="539" y="67"/>
                </a:lnTo>
                <a:lnTo>
                  <a:pt x="546" y="0"/>
                </a:lnTo>
                <a:lnTo>
                  <a:pt x="552" y="31"/>
                </a:lnTo>
                <a:lnTo>
                  <a:pt x="558" y="154"/>
                </a:lnTo>
                <a:lnTo>
                  <a:pt x="565" y="363"/>
                </a:lnTo>
                <a:lnTo>
                  <a:pt x="571" y="639"/>
                </a:lnTo>
                <a:lnTo>
                  <a:pt x="571" y="947"/>
                </a:lnTo>
                <a:lnTo>
                  <a:pt x="577" y="1267"/>
                </a:lnTo>
                <a:lnTo>
                  <a:pt x="584" y="1562"/>
                </a:lnTo>
                <a:lnTo>
                  <a:pt x="590" y="1814"/>
                </a:lnTo>
                <a:lnTo>
                  <a:pt x="596" y="1986"/>
                </a:lnTo>
                <a:lnTo>
                  <a:pt x="603" y="2066"/>
                </a:lnTo>
                <a:lnTo>
                  <a:pt x="603" y="2054"/>
                </a:lnTo>
                <a:lnTo>
                  <a:pt x="609" y="1949"/>
                </a:lnTo>
                <a:lnTo>
                  <a:pt x="615" y="1759"/>
                </a:lnTo>
                <a:lnTo>
                  <a:pt x="622" y="1507"/>
                </a:lnTo>
                <a:lnTo>
                  <a:pt x="628" y="1211"/>
                </a:lnTo>
                <a:lnTo>
                  <a:pt x="634" y="904"/>
                </a:lnTo>
                <a:lnTo>
                  <a:pt x="641" y="621"/>
                </a:lnTo>
                <a:lnTo>
                  <a:pt x="641" y="375"/>
                </a:lnTo>
                <a:lnTo>
                  <a:pt x="647" y="203"/>
                </a:lnTo>
                <a:lnTo>
                  <a:pt x="653" y="111"/>
                </a:lnTo>
                <a:lnTo>
                  <a:pt x="660" y="104"/>
                </a:lnTo>
                <a:lnTo>
                  <a:pt x="666" y="190"/>
                </a:lnTo>
                <a:lnTo>
                  <a:pt x="672" y="357"/>
                </a:lnTo>
                <a:lnTo>
                  <a:pt x="679" y="578"/>
                </a:lnTo>
                <a:lnTo>
                  <a:pt x="679" y="842"/>
                </a:lnTo>
                <a:lnTo>
                  <a:pt x="685" y="1119"/>
                </a:lnTo>
                <a:lnTo>
                  <a:pt x="691" y="137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727520" y="3013200"/>
            <a:ext cx="1117800" cy="2420640"/>
          </a:xfrm>
          <a:custGeom>
            <a:avLst/>
            <a:gdLst/>
            <a:ahLst/>
            <a:rect l="l" t="t" r="r" b="b"/>
            <a:pathLst>
              <a:path w="704" h="1525">
                <a:moveTo>
                  <a:pt x="0" y="1020"/>
                </a:moveTo>
                <a:lnTo>
                  <a:pt x="7" y="1248"/>
                </a:lnTo>
                <a:lnTo>
                  <a:pt x="13" y="1414"/>
                </a:lnTo>
                <a:lnTo>
                  <a:pt x="19" y="1506"/>
                </a:lnTo>
                <a:lnTo>
                  <a:pt x="19" y="1525"/>
                </a:lnTo>
                <a:lnTo>
                  <a:pt x="26" y="1463"/>
                </a:lnTo>
                <a:lnTo>
                  <a:pt x="32" y="1328"/>
                </a:lnTo>
                <a:lnTo>
                  <a:pt x="38" y="1143"/>
                </a:lnTo>
                <a:lnTo>
                  <a:pt x="45" y="922"/>
                </a:lnTo>
                <a:lnTo>
                  <a:pt x="51" y="682"/>
                </a:lnTo>
                <a:lnTo>
                  <a:pt x="57" y="461"/>
                </a:lnTo>
                <a:lnTo>
                  <a:pt x="57" y="264"/>
                </a:lnTo>
                <a:lnTo>
                  <a:pt x="64" y="116"/>
                </a:lnTo>
                <a:lnTo>
                  <a:pt x="70" y="24"/>
                </a:lnTo>
                <a:lnTo>
                  <a:pt x="77" y="0"/>
                </a:lnTo>
                <a:lnTo>
                  <a:pt x="83" y="43"/>
                </a:lnTo>
                <a:lnTo>
                  <a:pt x="89" y="147"/>
                </a:lnTo>
                <a:lnTo>
                  <a:pt x="96" y="289"/>
                </a:lnTo>
                <a:lnTo>
                  <a:pt x="96" y="467"/>
                </a:lnTo>
                <a:lnTo>
                  <a:pt x="102" y="658"/>
                </a:lnTo>
                <a:lnTo>
                  <a:pt x="108" y="836"/>
                </a:lnTo>
                <a:lnTo>
                  <a:pt x="115" y="996"/>
                </a:lnTo>
                <a:lnTo>
                  <a:pt x="121" y="1119"/>
                </a:lnTo>
                <a:lnTo>
                  <a:pt x="127" y="1193"/>
                </a:lnTo>
                <a:lnTo>
                  <a:pt x="127" y="1217"/>
                </a:lnTo>
                <a:lnTo>
                  <a:pt x="134" y="1193"/>
                </a:lnTo>
                <a:lnTo>
                  <a:pt x="140" y="1125"/>
                </a:lnTo>
                <a:lnTo>
                  <a:pt x="146" y="1014"/>
                </a:lnTo>
                <a:lnTo>
                  <a:pt x="153" y="885"/>
                </a:lnTo>
                <a:lnTo>
                  <a:pt x="159" y="750"/>
                </a:lnTo>
                <a:lnTo>
                  <a:pt x="165" y="615"/>
                </a:lnTo>
                <a:lnTo>
                  <a:pt x="165" y="498"/>
                </a:lnTo>
                <a:lnTo>
                  <a:pt x="172" y="405"/>
                </a:lnTo>
                <a:lnTo>
                  <a:pt x="178" y="344"/>
                </a:lnTo>
                <a:lnTo>
                  <a:pt x="184" y="325"/>
                </a:lnTo>
                <a:lnTo>
                  <a:pt x="191" y="338"/>
                </a:lnTo>
                <a:lnTo>
                  <a:pt x="197" y="387"/>
                </a:lnTo>
                <a:lnTo>
                  <a:pt x="197" y="455"/>
                </a:lnTo>
                <a:lnTo>
                  <a:pt x="203" y="541"/>
                </a:lnTo>
                <a:lnTo>
                  <a:pt x="210" y="633"/>
                </a:lnTo>
                <a:lnTo>
                  <a:pt x="216" y="725"/>
                </a:lnTo>
                <a:lnTo>
                  <a:pt x="222" y="799"/>
                </a:lnTo>
                <a:lnTo>
                  <a:pt x="229" y="861"/>
                </a:lnTo>
                <a:lnTo>
                  <a:pt x="235" y="897"/>
                </a:lnTo>
                <a:lnTo>
                  <a:pt x="235" y="910"/>
                </a:lnTo>
                <a:lnTo>
                  <a:pt x="241" y="904"/>
                </a:lnTo>
                <a:lnTo>
                  <a:pt x="248" y="879"/>
                </a:lnTo>
                <a:lnTo>
                  <a:pt x="254" y="836"/>
                </a:lnTo>
                <a:lnTo>
                  <a:pt x="260" y="787"/>
                </a:lnTo>
                <a:lnTo>
                  <a:pt x="267" y="731"/>
                </a:lnTo>
                <a:lnTo>
                  <a:pt x="273" y="682"/>
                </a:lnTo>
                <a:lnTo>
                  <a:pt x="273" y="645"/>
                </a:lnTo>
                <a:lnTo>
                  <a:pt x="279" y="608"/>
                </a:lnTo>
                <a:lnTo>
                  <a:pt x="286" y="590"/>
                </a:lnTo>
                <a:lnTo>
                  <a:pt x="292" y="584"/>
                </a:lnTo>
                <a:lnTo>
                  <a:pt x="299" y="590"/>
                </a:lnTo>
                <a:lnTo>
                  <a:pt x="305" y="602"/>
                </a:lnTo>
                <a:lnTo>
                  <a:pt x="305" y="627"/>
                </a:lnTo>
                <a:lnTo>
                  <a:pt x="311" y="645"/>
                </a:lnTo>
                <a:lnTo>
                  <a:pt x="318" y="670"/>
                </a:lnTo>
                <a:lnTo>
                  <a:pt x="324" y="688"/>
                </a:lnTo>
                <a:lnTo>
                  <a:pt x="330" y="707"/>
                </a:lnTo>
                <a:lnTo>
                  <a:pt x="337" y="713"/>
                </a:lnTo>
                <a:lnTo>
                  <a:pt x="343" y="719"/>
                </a:lnTo>
                <a:lnTo>
                  <a:pt x="349" y="719"/>
                </a:lnTo>
                <a:lnTo>
                  <a:pt x="356" y="713"/>
                </a:lnTo>
                <a:lnTo>
                  <a:pt x="362" y="707"/>
                </a:lnTo>
                <a:lnTo>
                  <a:pt x="368" y="701"/>
                </a:lnTo>
                <a:lnTo>
                  <a:pt x="375" y="694"/>
                </a:lnTo>
                <a:lnTo>
                  <a:pt x="381" y="688"/>
                </a:lnTo>
                <a:lnTo>
                  <a:pt x="387" y="688"/>
                </a:lnTo>
                <a:lnTo>
                  <a:pt x="394" y="688"/>
                </a:lnTo>
                <a:lnTo>
                  <a:pt x="400" y="688"/>
                </a:lnTo>
                <a:lnTo>
                  <a:pt x="406" y="688"/>
                </a:lnTo>
                <a:lnTo>
                  <a:pt x="413" y="688"/>
                </a:lnTo>
                <a:lnTo>
                  <a:pt x="419" y="694"/>
                </a:lnTo>
                <a:lnTo>
                  <a:pt x="425" y="688"/>
                </a:lnTo>
                <a:lnTo>
                  <a:pt x="432" y="694"/>
                </a:lnTo>
                <a:lnTo>
                  <a:pt x="438" y="688"/>
                </a:lnTo>
                <a:lnTo>
                  <a:pt x="444" y="694"/>
                </a:lnTo>
                <a:lnTo>
                  <a:pt x="451" y="688"/>
                </a:lnTo>
                <a:lnTo>
                  <a:pt x="451" y="694"/>
                </a:lnTo>
                <a:lnTo>
                  <a:pt x="457" y="688"/>
                </a:lnTo>
                <a:lnTo>
                  <a:pt x="463" y="694"/>
                </a:lnTo>
                <a:lnTo>
                  <a:pt x="470" y="688"/>
                </a:lnTo>
                <a:lnTo>
                  <a:pt x="476" y="694"/>
                </a:lnTo>
                <a:lnTo>
                  <a:pt x="482" y="688"/>
                </a:lnTo>
                <a:lnTo>
                  <a:pt x="489" y="694"/>
                </a:lnTo>
                <a:lnTo>
                  <a:pt x="489" y="688"/>
                </a:lnTo>
                <a:lnTo>
                  <a:pt x="495" y="694"/>
                </a:lnTo>
                <a:lnTo>
                  <a:pt x="501" y="688"/>
                </a:lnTo>
                <a:lnTo>
                  <a:pt x="508" y="694"/>
                </a:lnTo>
                <a:lnTo>
                  <a:pt x="514" y="688"/>
                </a:lnTo>
                <a:lnTo>
                  <a:pt x="521" y="694"/>
                </a:lnTo>
                <a:lnTo>
                  <a:pt x="521" y="688"/>
                </a:lnTo>
                <a:lnTo>
                  <a:pt x="527" y="694"/>
                </a:lnTo>
                <a:lnTo>
                  <a:pt x="533" y="688"/>
                </a:lnTo>
                <a:lnTo>
                  <a:pt x="540" y="694"/>
                </a:lnTo>
                <a:lnTo>
                  <a:pt x="546" y="688"/>
                </a:lnTo>
                <a:lnTo>
                  <a:pt x="552" y="694"/>
                </a:lnTo>
                <a:lnTo>
                  <a:pt x="559" y="688"/>
                </a:lnTo>
                <a:lnTo>
                  <a:pt x="559" y="694"/>
                </a:lnTo>
                <a:lnTo>
                  <a:pt x="565" y="688"/>
                </a:lnTo>
                <a:lnTo>
                  <a:pt x="571" y="694"/>
                </a:lnTo>
                <a:lnTo>
                  <a:pt x="578" y="688"/>
                </a:lnTo>
                <a:lnTo>
                  <a:pt x="584" y="694"/>
                </a:lnTo>
                <a:lnTo>
                  <a:pt x="590" y="688"/>
                </a:lnTo>
                <a:lnTo>
                  <a:pt x="590" y="694"/>
                </a:lnTo>
                <a:lnTo>
                  <a:pt x="597" y="688"/>
                </a:lnTo>
                <a:lnTo>
                  <a:pt x="603" y="694"/>
                </a:lnTo>
                <a:lnTo>
                  <a:pt x="609" y="688"/>
                </a:lnTo>
                <a:lnTo>
                  <a:pt x="616" y="694"/>
                </a:lnTo>
                <a:lnTo>
                  <a:pt x="628" y="688"/>
                </a:lnTo>
                <a:lnTo>
                  <a:pt x="628" y="694"/>
                </a:lnTo>
                <a:lnTo>
                  <a:pt x="635" y="688"/>
                </a:lnTo>
                <a:lnTo>
                  <a:pt x="641" y="694"/>
                </a:lnTo>
                <a:lnTo>
                  <a:pt x="647" y="688"/>
                </a:lnTo>
                <a:lnTo>
                  <a:pt x="654" y="694"/>
                </a:lnTo>
                <a:lnTo>
                  <a:pt x="660" y="688"/>
                </a:lnTo>
                <a:lnTo>
                  <a:pt x="666" y="694"/>
                </a:lnTo>
                <a:lnTo>
                  <a:pt x="666" y="688"/>
                </a:lnTo>
                <a:lnTo>
                  <a:pt x="673" y="694"/>
                </a:lnTo>
                <a:lnTo>
                  <a:pt x="679" y="688"/>
                </a:lnTo>
                <a:lnTo>
                  <a:pt x="685" y="694"/>
                </a:lnTo>
                <a:lnTo>
                  <a:pt x="692" y="688"/>
                </a:lnTo>
                <a:lnTo>
                  <a:pt x="698" y="694"/>
                </a:lnTo>
                <a:lnTo>
                  <a:pt x="698" y="688"/>
                </a:lnTo>
                <a:lnTo>
                  <a:pt x="704" y="69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45320" y="4105440"/>
            <a:ext cx="1118880" cy="9360"/>
          </a:xfrm>
          <a:custGeom>
            <a:avLst/>
            <a:gdLst/>
            <a:ahLst/>
            <a:rect l="l" t="t" r="r" b="b"/>
            <a:pathLst>
              <a:path w="705" h="6">
                <a:moveTo>
                  <a:pt x="0" y="6"/>
                </a:moveTo>
                <a:lnTo>
                  <a:pt x="7" y="0"/>
                </a:lnTo>
                <a:lnTo>
                  <a:pt x="13" y="6"/>
                </a:lnTo>
                <a:lnTo>
                  <a:pt x="19" y="0"/>
                </a:lnTo>
                <a:lnTo>
                  <a:pt x="26" y="6"/>
                </a:lnTo>
                <a:lnTo>
                  <a:pt x="32" y="0"/>
                </a:lnTo>
                <a:lnTo>
                  <a:pt x="32" y="6"/>
                </a:lnTo>
                <a:lnTo>
                  <a:pt x="39" y="0"/>
                </a:lnTo>
                <a:lnTo>
                  <a:pt x="45" y="6"/>
                </a:lnTo>
                <a:lnTo>
                  <a:pt x="51" y="0"/>
                </a:lnTo>
                <a:lnTo>
                  <a:pt x="58" y="6"/>
                </a:lnTo>
                <a:lnTo>
                  <a:pt x="64" y="0"/>
                </a:lnTo>
                <a:lnTo>
                  <a:pt x="70" y="6"/>
                </a:lnTo>
                <a:lnTo>
                  <a:pt x="70" y="0"/>
                </a:lnTo>
                <a:lnTo>
                  <a:pt x="77" y="6"/>
                </a:lnTo>
                <a:lnTo>
                  <a:pt x="83" y="0"/>
                </a:lnTo>
                <a:lnTo>
                  <a:pt x="89" y="6"/>
                </a:lnTo>
                <a:lnTo>
                  <a:pt x="96" y="0"/>
                </a:lnTo>
                <a:lnTo>
                  <a:pt x="102" y="6"/>
                </a:lnTo>
                <a:lnTo>
                  <a:pt x="102" y="0"/>
                </a:lnTo>
                <a:lnTo>
                  <a:pt x="108" y="6"/>
                </a:lnTo>
                <a:lnTo>
                  <a:pt x="115" y="0"/>
                </a:lnTo>
                <a:lnTo>
                  <a:pt x="121" y="6"/>
                </a:lnTo>
                <a:lnTo>
                  <a:pt x="134" y="0"/>
                </a:lnTo>
                <a:lnTo>
                  <a:pt x="140" y="6"/>
                </a:lnTo>
                <a:lnTo>
                  <a:pt x="140" y="0"/>
                </a:lnTo>
                <a:lnTo>
                  <a:pt x="146" y="6"/>
                </a:lnTo>
                <a:lnTo>
                  <a:pt x="153" y="0"/>
                </a:lnTo>
                <a:lnTo>
                  <a:pt x="159" y="6"/>
                </a:lnTo>
                <a:lnTo>
                  <a:pt x="165" y="0"/>
                </a:lnTo>
                <a:lnTo>
                  <a:pt x="172" y="6"/>
                </a:lnTo>
                <a:lnTo>
                  <a:pt x="178" y="0"/>
                </a:lnTo>
                <a:lnTo>
                  <a:pt x="178" y="6"/>
                </a:lnTo>
                <a:lnTo>
                  <a:pt x="184" y="0"/>
                </a:lnTo>
                <a:lnTo>
                  <a:pt x="191" y="6"/>
                </a:lnTo>
                <a:lnTo>
                  <a:pt x="197" y="0"/>
                </a:lnTo>
                <a:lnTo>
                  <a:pt x="203" y="6"/>
                </a:lnTo>
                <a:lnTo>
                  <a:pt x="210" y="0"/>
                </a:lnTo>
                <a:lnTo>
                  <a:pt x="210" y="6"/>
                </a:lnTo>
                <a:lnTo>
                  <a:pt x="216" y="0"/>
                </a:lnTo>
                <a:lnTo>
                  <a:pt x="222" y="6"/>
                </a:lnTo>
                <a:lnTo>
                  <a:pt x="229" y="0"/>
                </a:lnTo>
                <a:lnTo>
                  <a:pt x="235" y="6"/>
                </a:lnTo>
                <a:lnTo>
                  <a:pt x="241" y="0"/>
                </a:lnTo>
                <a:lnTo>
                  <a:pt x="248" y="6"/>
                </a:lnTo>
                <a:lnTo>
                  <a:pt x="248" y="0"/>
                </a:lnTo>
                <a:lnTo>
                  <a:pt x="254" y="6"/>
                </a:lnTo>
                <a:lnTo>
                  <a:pt x="261" y="0"/>
                </a:lnTo>
                <a:lnTo>
                  <a:pt x="267" y="6"/>
                </a:lnTo>
                <a:lnTo>
                  <a:pt x="273" y="0"/>
                </a:lnTo>
                <a:lnTo>
                  <a:pt x="280" y="6"/>
                </a:lnTo>
                <a:lnTo>
                  <a:pt x="280" y="0"/>
                </a:lnTo>
                <a:lnTo>
                  <a:pt x="286" y="6"/>
                </a:lnTo>
                <a:lnTo>
                  <a:pt x="292" y="0"/>
                </a:lnTo>
                <a:lnTo>
                  <a:pt x="299" y="6"/>
                </a:lnTo>
                <a:lnTo>
                  <a:pt x="305" y="0"/>
                </a:lnTo>
                <a:lnTo>
                  <a:pt x="311" y="6"/>
                </a:lnTo>
                <a:lnTo>
                  <a:pt x="318" y="0"/>
                </a:lnTo>
                <a:lnTo>
                  <a:pt x="318" y="6"/>
                </a:lnTo>
                <a:lnTo>
                  <a:pt x="324" y="0"/>
                </a:lnTo>
                <a:lnTo>
                  <a:pt x="330" y="6"/>
                </a:lnTo>
                <a:lnTo>
                  <a:pt x="337" y="0"/>
                </a:lnTo>
                <a:lnTo>
                  <a:pt x="349" y="6"/>
                </a:lnTo>
                <a:lnTo>
                  <a:pt x="356" y="0"/>
                </a:lnTo>
                <a:lnTo>
                  <a:pt x="356" y="6"/>
                </a:lnTo>
                <a:lnTo>
                  <a:pt x="362" y="0"/>
                </a:lnTo>
                <a:lnTo>
                  <a:pt x="368" y="6"/>
                </a:lnTo>
                <a:lnTo>
                  <a:pt x="375" y="0"/>
                </a:lnTo>
                <a:lnTo>
                  <a:pt x="381" y="6"/>
                </a:lnTo>
                <a:lnTo>
                  <a:pt x="387" y="0"/>
                </a:lnTo>
                <a:lnTo>
                  <a:pt x="387" y="6"/>
                </a:lnTo>
                <a:lnTo>
                  <a:pt x="394" y="0"/>
                </a:lnTo>
                <a:lnTo>
                  <a:pt x="400" y="6"/>
                </a:lnTo>
                <a:lnTo>
                  <a:pt x="406" y="0"/>
                </a:lnTo>
                <a:lnTo>
                  <a:pt x="413" y="6"/>
                </a:lnTo>
                <a:lnTo>
                  <a:pt x="419" y="0"/>
                </a:lnTo>
                <a:lnTo>
                  <a:pt x="425" y="6"/>
                </a:lnTo>
                <a:lnTo>
                  <a:pt x="425" y="0"/>
                </a:lnTo>
                <a:lnTo>
                  <a:pt x="432" y="6"/>
                </a:lnTo>
                <a:lnTo>
                  <a:pt x="438" y="0"/>
                </a:lnTo>
                <a:lnTo>
                  <a:pt x="444" y="6"/>
                </a:lnTo>
                <a:lnTo>
                  <a:pt x="451" y="0"/>
                </a:lnTo>
                <a:lnTo>
                  <a:pt x="457" y="6"/>
                </a:lnTo>
                <a:lnTo>
                  <a:pt x="463" y="0"/>
                </a:lnTo>
                <a:lnTo>
                  <a:pt x="463" y="6"/>
                </a:lnTo>
                <a:lnTo>
                  <a:pt x="470" y="0"/>
                </a:lnTo>
                <a:lnTo>
                  <a:pt x="476" y="6"/>
                </a:lnTo>
                <a:lnTo>
                  <a:pt x="483" y="0"/>
                </a:lnTo>
                <a:lnTo>
                  <a:pt x="489" y="6"/>
                </a:lnTo>
                <a:lnTo>
                  <a:pt x="495" y="0"/>
                </a:lnTo>
                <a:lnTo>
                  <a:pt x="495" y="6"/>
                </a:lnTo>
                <a:lnTo>
                  <a:pt x="502" y="0"/>
                </a:lnTo>
                <a:lnTo>
                  <a:pt x="508" y="6"/>
                </a:lnTo>
                <a:lnTo>
                  <a:pt x="514" y="0"/>
                </a:lnTo>
                <a:lnTo>
                  <a:pt x="521" y="6"/>
                </a:lnTo>
                <a:lnTo>
                  <a:pt x="527" y="0"/>
                </a:lnTo>
                <a:lnTo>
                  <a:pt x="533" y="6"/>
                </a:lnTo>
                <a:lnTo>
                  <a:pt x="533" y="0"/>
                </a:lnTo>
                <a:lnTo>
                  <a:pt x="540" y="6"/>
                </a:lnTo>
                <a:lnTo>
                  <a:pt x="546" y="0"/>
                </a:lnTo>
                <a:lnTo>
                  <a:pt x="552" y="6"/>
                </a:lnTo>
                <a:lnTo>
                  <a:pt x="565" y="0"/>
                </a:lnTo>
                <a:lnTo>
                  <a:pt x="571" y="6"/>
                </a:lnTo>
                <a:lnTo>
                  <a:pt x="571" y="0"/>
                </a:lnTo>
                <a:lnTo>
                  <a:pt x="578" y="6"/>
                </a:lnTo>
                <a:lnTo>
                  <a:pt x="584" y="0"/>
                </a:lnTo>
                <a:lnTo>
                  <a:pt x="590" y="6"/>
                </a:lnTo>
                <a:lnTo>
                  <a:pt x="597" y="0"/>
                </a:lnTo>
                <a:lnTo>
                  <a:pt x="603" y="6"/>
                </a:lnTo>
                <a:lnTo>
                  <a:pt x="603" y="0"/>
                </a:lnTo>
                <a:lnTo>
                  <a:pt x="609" y="6"/>
                </a:lnTo>
                <a:lnTo>
                  <a:pt x="616" y="0"/>
                </a:lnTo>
                <a:lnTo>
                  <a:pt x="622" y="6"/>
                </a:lnTo>
                <a:lnTo>
                  <a:pt x="628" y="0"/>
                </a:lnTo>
                <a:lnTo>
                  <a:pt x="635" y="6"/>
                </a:lnTo>
                <a:lnTo>
                  <a:pt x="641" y="0"/>
                </a:lnTo>
                <a:lnTo>
                  <a:pt x="641" y="6"/>
                </a:lnTo>
                <a:lnTo>
                  <a:pt x="647" y="0"/>
                </a:lnTo>
                <a:lnTo>
                  <a:pt x="654" y="6"/>
                </a:lnTo>
                <a:lnTo>
                  <a:pt x="660" y="0"/>
                </a:lnTo>
                <a:lnTo>
                  <a:pt x="666" y="6"/>
                </a:lnTo>
                <a:lnTo>
                  <a:pt x="673" y="0"/>
                </a:lnTo>
                <a:lnTo>
                  <a:pt x="673" y="6"/>
                </a:lnTo>
                <a:lnTo>
                  <a:pt x="679" y="0"/>
                </a:lnTo>
                <a:lnTo>
                  <a:pt x="685" y="6"/>
                </a:lnTo>
                <a:lnTo>
                  <a:pt x="692" y="0"/>
                </a:lnTo>
                <a:lnTo>
                  <a:pt x="698" y="6"/>
                </a:lnTo>
                <a:lnTo>
                  <a:pt x="70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964200" y="4105440"/>
            <a:ext cx="1036800" cy="9360"/>
          </a:xfrm>
          <a:custGeom>
            <a:avLst/>
            <a:gdLst/>
            <a:ahLst/>
            <a:rect l="l" t="t" r="r" b="b"/>
            <a:pathLst>
              <a:path w="653" h="6">
                <a:moveTo>
                  <a:pt x="0" y="0"/>
                </a:moveTo>
                <a:lnTo>
                  <a:pt x="6" y="6"/>
                </a:lnTo>
                <a:lnTo>
                  <a:pt x="6" y="0"/>
                </a:lnTo>
                <a:lnTo>
                  <a:pt x="12" y="6"/>
                </a:lnTo>
                <a:lnTo>
                  <a:pt x="19" y="0"/>
                </a:lnTo>
                <a:lnTo>
                  <a:pt x="25" y="6"/>
                </a:lnTo>
                <a:lnTo>
                  <a:pt x="31" y="0"/>
                </a:lnTo>
                <a:lnTo>
                  <a:pt x="38" y="6"/>
                </a:lnTo>
                <a:lnTo>
                  <a:pt x="44" y="0"/>
                </a:lnTo>
                <a:lnTo>
                  <a:pt x="44" y="6"/>
                </a:lnTo>
                <a:lnTo>
                  <a:pt x="50" y="0"/>
                </a:lnTo>
                <a:lnTo>
                  <a:pt x="57" y="6"/>
                </a:lnTo>
                <a:lnTo>
                  <a:pt x="69" y="0"/>
                </a:lnTo>
                <a:lnTo>
                  <a:pt x="76" y="6"/>
                </a:lnTo>
                <a:lnTo>
                  <a:pt x="76" y="0"/>
                </a:lnTo>
                <a:lnTo>
                  <a:pt x="82" y="6"/>
                </a:lnTo>
                <a:lnTo>
                  <a:pt x="88" y="0"/>
                </a:lnTo>
                <a:lnTo>
                  <a:pt x="95" y="6"/>
                </a:lnTo>
                <a:lnTo>
                  <a:pt x="101" y="0"/>
                </a:lnTo>
                <a:lnTo>
                  <a:pt x="107" y="6"/>
                </a:lnTo>
                <a:lnTo>
                  <a:pt x="114" y="0"/>
                </a:lnTo>
                <a:lnTo>
                  <a:pt x="114" y="6"/>
                </a:lnTo>
                <a:lnTo>
                  <a:pt x="120" y="0"/>
                </a:lnTo>
                <a:lnTo>
                  <a:pt x="126" y="6"/>
                </a:lnTo>
                <a:lnTo>
                  <a:pt x="133" y="0"/>
                </a:lnTo>
                <a:lnTo>
                  <a:pt x="139" y="6"/>
                </a:lnTo>
                <a:lnTo>
                  <a:pt x="145" y="0"/>
                </a:lnTo>
                <a:lnTo>
                  <a:pt x="152" y="6"/>
                </a:lnTo>
                <a:lnTo>
                  <a:pt x="152" y="0"/>
                </a:lnTo>
                <a:lnTo>
                  <a:pt x="158" y="6"/>
                </a:lnTo>
                <a:lnTo>
                  <a:pt x="164" y="0"/>
                </a:lnTo>
                <a:lnTo>
                  <a:pt x="171" y="6"/>
                </a:lnTo>
                <a:lnTo>
                  <a:pt x="177" y="0"/>
                </a:lnTo>
                <a:lnTo>
                  <a:pt x="183" y="6"/>
                </a:lnTo>
                <a:lnTo>
                  <a:pt x="183" y="0"/>
                </a:lnTo>
                <a:lnTo>
                  <a:pt x="190" y="6"/>
                </a:lnTo>
                <a:lnTo>
                  <a:pt x="196" y="0"/>
                </a:lnTo>
                <a:lnTo>
                  <a:pt x="202" y="6"/>
                </a:lnTo>
                <a:lnTo>
                  <a:pt x="209" y="0"/>
                </a:lnTo>
                <a:lnTo>
                  <a:pt x="215" y="6"/>
                </a:lnTo>
                <a:lnTo>
                  <a:pt x="222" y="0"/>
                </a:lnTo>
                <a:lnTo>
                  <a:pt x="222" y="6"/>
                </a:lnTo>
                <a:lnTo>
                  <a:pt x="228" y="0"/>
                </a:lnTo>
                <a:lnTo>
                  <a:pt x="234" y="6"/>
                </a:lnTo>
                <a:lnTo>
                  <a:pt x="241" y="0"/>
                </a:lnTo>
                <a:lnTo>
                  <a:pt x="247" y="6"/>
                </a:lnTo>
                <a:lnTo>
                  <a:pt x="253" y="0"/>
                </a:lnTo>
                <a:lnTo>
                  <a:pt x="260" y="6"/>
                </a:lnTo>
                <a:lnTo>
                  <a:pt x="260" y="0"/>
                </a:lnTo>
                <a:lnTo>
                  <a:pt x="266" y="6"/>
                </a:lnTo>
                <a:lnTo>
                  <a:pt x="272" y="0"/>
                </a:lnTo>
                <a:lnTo>
                  <a:pt x="279" y="6"/>
                </a:lnTo>
                <a:lnTo>
                  <a:pt x="291" y="0"/>
                </a:lnTo>
                <a:lnTo>
                  <a:pt x="291" y="6"/>
                </a:lnTo>
                <a:lnTo>
                  <a:pt x="298" y="0"/>
                </a:lnTo>
                <a:lnTo>
                  <a:pt x="304" y="6"/>
                </a:lnTo>
                <a:lnTo>
                  <a:pt x="310" y="0"/>
                </a:lnTo>
                <a:lnTo>
                  <a:pt x="317" y="6"/>
                </a:lnTo>
                <a:lnTo>
                  <a:pt x="323" y="0"/>
                </a:lnTo>
                <a:lnTo>
                  <a:pt x="329" y="6"/>
                </a:lnTo>
                <a:lnTo>
                  <a:pt x="329" y="0"/>
                </a:lnTo>
                <a:lnTo>
                  <a:pt x="336" y="6"/>
                </a:lnTo>
                <a:lnTo>
                  <a:pt x="342" y="0"/>
                </a:lnTo>
                <a:lnTo>
                  <a:pt x="348" y="6"/>
                </a:lnTo>
                <a:lnTo>
                  <a:pt x="355" y="0"/>
                </a:lnTo>
                <a:lnTo>
                  <a:pt x="361" y="6"/>
                </a:lnTo>
                <a:lnTo>
                  <a:pt x="361" y="0"/>
                </a:lnTo>
                <a:lnTo>
                  <a:pt x="367" y="6"/>
                </a:lnTo>
                <a:lnTo>
                  <a:pt x="374" y="0"/>
                </a:lnTo>
                <a:lnTo>
                  <a:pt x="380" y="6"/>
                </a:lnTo>
                <a:lnTo>
                  <a:pt x="386" y="0"/>
                </a:lnTo>
                <a:lnTo>
                  <a:pt x="393" y="6"/>
                </a:lnTo>
                <a:lnTo>
                  <a:pt x="399" y="0"/>
                </a:lnTo>
                <a:lnTo>
                  <a:pt x="399" y="6"/>
                </a:lnTo>
                <a:lnTo>
                  <a:pt x="405" y="0"/>
                </a:lnTo>
                <a:lnTo>
                  <a:pt x="412" y="6"/>
                </a:lnTo>
                <a:lnTo>
                  <a:pt x="418" y="0"/>
                </a:lnTo>
                <a:lnTo>
                  <a:pt x="424" y="6"/>
                </a:lnTo>
                <a:lnTo>
                  <a:pt x="431" y="0"/>
                </a:lnTo>
                <a:lnTo>
                  <a:pt x="437" y="6"/>
                </a:lnTo>
                <a:lnTo>
                  <a:pt x="437" y="0"/>
                </a:lnTo>
                <a:lnTo>
                  <a:pt x="444" y="6"/>
                </a:lnTo>
                <a:lnTo>
                  <a:pt x="450" y="0"/>
                </a:lnTo>
                <a:lnTo>
                  <a:pt x="456" y="6"/>
                </a:lnTo>
                <a:lnTo>
                  <a:pt x="463" y="0"/>
                </a:lnTo>
                <a:lnTo>
                  <a:pt x="469" y="6"/>
                </a:lnTo>
                <a:lnTo>
                  <a:pt x="469" y="0"/>
                </a:lnTo>
                <a:lnTo>
                  <a:pt x="475" y="6"/>
                </a:lnTo>
                <a:lnTo>
                  <a:pt x="482" y="0"/>
                </a:lnTo>
                <a:lnTo>
                  <a:pt x="488" y="6"/>
                </a:lnTo>
                <a:lnTo>
                  <a:pt x="494" y="0"/>
                </a:lnTo>
                <a:lnTo>
                  <a:pt x="501" y="6"/>
                </a:lnTo>
                <a:lnTo>
                  <a:pt x="507" y="0"/>
                </a:lnTo>
                <a:lnTo>
                  <a:pt x="507" y="6"/>
                </a:lnTo>
                <a:lnTo>
                  <a:pt x="520" y="0"/>
                </a:lnTo>
                <a:lnTo>
                  <a:pt x="526" y="6"/>
                </a:lnTo>
                <a:lnTo>
                  <a:pt x="532" y="0"/>
                </a:lnTo>
                <a:lnTo>
                  <a:pt x="539" y="6"/>
                </a:lnTo>
                <a:lnTo>
                  <a:pt x="545" y="0"/>
                </a:lnTo>
                <a:lnTo>
                  <a:pt x="545" y="6"/>
                </a:lnTo>
                <a:lnTo>
                  <a:pt x="551" y="0"/>
                </a:lnTo>
                <a:lnTo>
                  <a:pt x="558" y="6"/>
                </a:lnTo>
                <a:lnTo>
                  <a:pt x="564" y="0"/>
                </a:lnTo>
                <a:lnTo>
                  <a:pt x="570" y="6"/>
                </a:lnTo>
                <a:lnTo>
                  <a:pt x="577" y="0"/>
                </a:lnTo>
                <a:lnTo>
                  <a:pt x="577" y="6"/>
                </a:lnTo>
                <a:lnTo>
                  <a:pt x="583" y="0"/>
                </a:lnTo>
                <a:lnTo>
                  <a:pt x="589" y="6"/>
                </a:lnTo>
                <a:lnTo>
                  <a:pt x="596" y="0"/>
                </a:lnTo>
                <a:lnTo>
                  <a:pt x="602" y="6"/>
                </a:lnTo>
                <a:lnTo>
                  <a:pt x="608" y="0"/>
                </a:lnTo>
                <a:lnTo>
                  <a:pt x="615" y="6"/>
                </a:lnTo>
                <a:lnTo>
                  <a:pt x="615" y="0"/>
                </a:lnTo>
                <a:lnTo>
                  <a:pt x="621" y="6"/>
                </a:lnTo>
                <a:lnTo>
                  <a:pt x="627" y="0"/>
                </a:lnTo>
                <a:lnTo>
                  <a:pt x="634" y="6"/>
                </a:lnTo>
                <a:lnTo>
                  <a:pt x="640" y="0"/>
                </a:lnTo>
                <a:lnTo>
                  <a:pt x="646" y="6"/>
                </a:lnTo>
                <a:lnTo>
                  <a:pt x="653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"/>
          <p:cNvSpPr/>
          <p:nvPr/>
        </p:nvSpPr>
        <p:spPr>
          <a:xfrm>
            <a:off x="3733560" y="1371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840240" y="2209680"/>
            <a:ext cx="74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er, J.S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Fourier Trans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C Press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rus, C.S. and T.W. Park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T/FFT and Con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ohn Wiley and Sons, New York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5160" y="11271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1905120"/>
          <a:ext cx="457200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5720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692360" y="4054320"/>
          <a:ext cx="129528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054320"/>
                    <a:ext cx="129528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197520" y="3962520"/>
            <a:ext cx="49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ndow sampl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487600" y="4691160"/>
          <a:ext cx="4366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691160"/>
                    <a:ext cx="4366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23960" y="464832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tim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58840" y="5425920"/>
          <a:ext cx="114300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58840" y="5425920"/>
                    <a:ext cx="1143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835360" y="5440320"/>
          <a:ext cx="274320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5360" y="5440320"/>
                    <a:ext cx="27432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9080" y="1295280"/>
            <a:ext cx="76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the Fourier transforms, there are different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for the Discrete Fourier transform pairs. In general,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590920"/>
          <a:ext cx="5257800" cy="19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25780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98920" y="499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67000" y="4792680"/>
          <a:ext cx="135108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792680"/>
                    <a:ext cx="13510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172040" y="499428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ing could also go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0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09680" y="1219320"/>
          <a:ext cx="457200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45720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25600" y="2971800"/>
            <a:ext cx="72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discrete Fourier Transforms can be 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ly  with the Fast Fourier Transform (FFT)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600" y="5715000"/>
            <a:ext cx="79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s are most efficient if the number of samples, N,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wer of 2. Some FFT software implement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qu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4038480"/>
          <a:ext cx="5638680" cy="1371600"/>
        </p:xfrm>
        <a:graphic>
          <a:graphicData uri="http://schemas.openxmlformats.org/drawingml/2006/table">
            <a:tbl>
              <a:tblPr/>
              <a:tblGrid>
                <a:gridCol w="1879560"/>
                <a:gridCol w="1879560"/>
                <a:gridCol w="187956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-1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/2)lo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46,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769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440" y="10666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6680" y="1600200"/>
            <a:ext cx="282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[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67080" y="1371600"/>
          <a:ext cx="419112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371600"/>
                    <a:ext cx="41911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5440" y="2438280"/>
            <a:ext cx="377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Fourier[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91120" y="2209680"/>
          <a:ext cx="434340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209680"/>
                    <a:ext cx="434340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590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06560" y="200664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652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560" y="3429000"/>
            <a:ext cx="206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(N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9440" y="38098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67080" y="3352680"/>
          <a:ext cx="274320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352680"/>
                    <a:ext cx="2743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114800" y="4114800"/>
          <a:ext cx="297180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114800"/>
                    <a:ext cx="2971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14600" y="4191120"/>
            <a:ext cx="212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FT(N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47242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288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120" y="3809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343400" y="5029200"/>
          <a:ext cx="3809880" cy="70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5029200"/>
                    <a:ext cx="38098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71600" y="52578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9436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f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67080" y="5791320"/>
          <a:ext cx="3962520" cy="706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5791320"/>
                    <a:ext cx="39625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V="1">
            <a:off x="1955880" y="56516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0400" y="5638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77080" y="12952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905120"/>
            <a:ext cx="5790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y = FourierT(x, d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FourierT(x,dt) computes forward FFT of x with sampling time interval 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FourierT approximates the Fourier transform  where the integrand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transform is x*exp(2*pi*i*f*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For NDE applications the frequency components are normally in MHz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dt in microseco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nr, nc] = size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nr =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= n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= n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= N*dt*ifft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70720" y="13716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FF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1760" y="3049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133720"/>
            <a:ext cx="6400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y = IFourierT(x, d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IFourierT(x,dt) computes the inverse FFT of x, for a sampling time interval 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IFourierT assumes the integrand of the inverse transform is given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x*exp(-2*pi*i*f*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The first half of the sampled values of x are the spectral componen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positive frequencies ranging from 0 to the Nyquist frequency 1/(2*d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The second half of the sampled values are the spectral componen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the corresponding negative frequencies. If these negative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values are set equal to zero then to recover the inverse FFT of x we m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replace x(1) by x(1)/2 and then compute 2*real(IFourierT(x,d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nr,nc] = size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nr =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= n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= n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=(1/(N*dt))*fft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20:17:15Z</dcterms:created>
  <dc:creator>lschmerr</dc:creator>
  <dc:description/>
  <dc:language>en-US</dc:language>
  <cp:lastModifiedBy>Lester Schmerr</cp:lastModifiedBy>
  <dcterms:modified xsi:type="dcterms:W3CDTF">2006-12-19T18:17:03Z</dcterms:modified>
  <cp:revision>20</cp:revision>
  <dc:subject/>
  <dc:title>PowerPoint Presentation</dc:title>
</cp:coreProperties>
</file>