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A16-40F7-4E18-AC20-103EC0E9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831-7050-4235-8F23-CE05CA0B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801-E0CA-46F4-8B6B-45ACEF51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479-DBA1-4E35-8454-9DF33BBE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8CA-321C-44A0-850E-425E3C76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378-18E3-4037-8027-2C546622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FF6-909C-40B0-929F-7005F0ED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77F-6B5A-4AB5-8BFF-52A0035A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4A3-7358-4A6A-9F62-12156E2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A80-5E59-4A8B-9CAC-8FEEC08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95F-CCBB-4B9C-A9D3-4BBEE14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BB4-711E-4ED3-8EF2-87D39956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5D77-34A1-4E58-947C-53A82AF1E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3716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5040" y="2895480"/>
            <a:ext cx="38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 Concep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n Equival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68640" y="304920"/>
            <a:ext cx="86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forms of a harmonic plane wave traveling in the +x-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143000"/>
          <a:ext cx="34196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34196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581280" y="1905120"/>
          <a:ext cx="2011320" cy="12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905120"/>
                    <a:ext cx="201132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789520" y="1600200"/>
            <a:ext cx="321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rad/se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… wav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/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ength/cy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429000" y="4495680"/>
          <a:ext cx="1295280" cy="6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495680"/>
                    <a:ext cx="129528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203480" y="537516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 relationship that shows how the frequency of a plane harmonic traveling wave is related to its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05520" y="4572000"/>
            <a:ext cx="380880" cy="500040"/>
            <a:chOff x="5105520" y="4572000"/>
            <a:chExt cx="380880" cy="500040"/>
          </a:xfrm>
        </p:grpSpPr>
        <p:sp>
          <p:nvSpPr>
            <p:cNvPr id="248" name=""/>
            <p:cNvSpPr/>
            <p:nvPr/>
          </p:nvSpPr>
          <p:spPr>
            <a:xfrm>
              <a:off x="5244840" y="49975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4572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19640" y="49338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289480" y="47620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650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5MHz plane wave traveling in water ( c=1500m/se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05160" y="2362320"/>
          <a:ext cx="273348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5160" y="2362320"/>
                    <a:ext cx="27334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34720" y="83808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plane pressure wave traveling in the x-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1600200"/>
          <a:ext cx="2438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2438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733920" y="2438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752480"/>
            <a:ext cx="941400" cy="1228680"/>
          </a:xfrm>
          <a:custGeom>
            <a:avLst/>
            <a:gdLst/>
            <a:ahLst/>
            <a:rect l="l" t="t" r="r" b="b"/>
            <a:pathLst>
              <a:path w="593" h="774">
                <a:moveTo>
                  <a:pt x="0" y="421"/>
                </a:moveTo>
                <a:cubicBezTo>
                  <a:pt x="30" y="411"/>
                  <a:pt x="55" y="400"/>
                  <a:pt x="78" y="378"/>
                </a:cubicBezTo>
                <a:cubicBezTo>
                  <a:pt x="116" y="301"/>
                  <a:pt x="146" y="222"/>
                  <a:pt x="164" y="137"/>
                </a:cubicBezTo>
                <a:cubicBezTo>
                  <a:pt x="174" y="91"/>
                  <a:pt x="172" y="33"/>
                  <a:pt x="207" y="0"/>
                </a:cubicBezTo>
                <a:cubicBezTo>
                  <a:pt x="247" y="13"/>
                  <a:pt x="243" y="47"/>
                  <a:pt x="250" y="86"/>
                </a:cubicBezTo>
                <a:cubicBezTo>
                  <a:pt x="267" y="183"/>
                  <a:pt x="272" y="284"/>
                  <a:pt x="301" y="378"/>
                </a:cubicBezTo>
                <a:cubicBezTo>
                  <a:pt x="309" y="482"/>
                  <a:pt x="319" y="587"/>
                  <a:pt x="344" y="688"/>
                </a:cubicBezTo>
                <a:cubicBezTo>
                  <a:pt x="353" y="725"/>
                  <a:pt x="359" y="761"/>
                  <a:pt x="396" y="774"/>
                </a:cubicBezTo>
                <a:cubicBezTo>
                  <a:pt x="443" y="758"/>
                  <a:pt x="442" y="722"/>
                  <a:pt x="456" y="679"/>
                </a:cubicBezTo>
                <a:cubicBezTo>
                  <a:pt x="469" y="639"/>
                  <a:pt x="480" y="599"/>
                  <a:pt x="490" y="559"/>
                </a:cubicBezTo>
                <a:cubicBezTo>
                  <a:pt x="496" y="535"/>
                  <a:pt x="501" y="477"/>
                  <a:pt x="516" y="455"/>
                </a:cubicBezTo>
                <a:cubicBezTo>
                  <a:pt x="526" y="440"/>
                  <a:pt x="553" y="435"/>
                  <a:pt x="568" y="430"/>
                </a:cubicBezTo>
                <a:cubicBezTo>
                  <a:pt x="576" y="433"/>
                  <a:pt x="593" y="438"/>
                  <a:pt x="593" y="4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1752480"/>
            <a:ext cx="941400" cy="1228680"/>
          </a:xfrm>
          <a:custGeom>
            <a:avLst/>
            <a:gdLst/>
            <a:ahLst/>
            <a:rect l="l" t="t" r="r" b="b"/>
            <a:pathLst>
              <a:path w="593" h="774">
                <a:moveTo>
                  <a:pt x="0" y="421"/>
                </a:moveTo>
                <a:cubicBezTo>
                  <a:pt x="30" y="411"/>
                  <a:pt x="55" y="400"/>
                  <a:pt x="78" y="378"/>
                </a:cubicBezTo>
                <a:cubicBezTo>
                  <a:pt x="116" y="301"/>
                  <a:pt x="146" y="222"/>
                  <a:pt x="164" y="137"/>
                </a:cubicBezTo>
                <a:cubicBezTo>
                  <a:pt x="174" y="91"/>
                  <a:pt x="172" y="33"/>
                  <a:pt x="207" y="0"/>
                </a:cubicBezTo>
                <a:cubicBezTo>
                  <a:pt x="247" y="13"/>
                  <a:pt x="243" y="47"/>
                  <a:pt x="250" y="86"/>
                </a:cubicBezTo>
                <a:cubicBezTo>
                  <a:pt x="267" y="183"/>
                  <a:pt x="272" y="284"/>
                  <a:pt x="301" y="378"/>
                </a:cubicBezTo>
                <a:cubicBezTo>
                  <a:pt x="309" y="482"/>
                  <a:pt x="319" y="587"/>
                  <a:pt x="344" y="688"/>
                </a:cubicBezTo>
                <a:cubicBezTo>
                  <a:pt x="353" y="725"/>
                  <a:pt x="359" y="761"/>
                  <a:pt x="396" y="774"/>
                </a:cubicBezTo>
                <a:cubicBezTo>
                  <a:pt x="443" y="758"/>
                  <a:pt x="442" y="722"/>
                  <a:pt x="456" y="679"/>
                </a:cubicBezTo>
                <a:cubicBezTo>
                  <a:pt x="469" y="639"/>
                  <a:pt x="480" y="599"/>
                  <a:pt x="490" y="559"/>
                </a:cubicBezTo>
                <a:cubicBezTo>
                  <a:pt x="496" y="535"/>
                  <a:pt x="501" y="477"/>
                  <a:pt x="516" y="455"/>
                </a:cubicBezTo>
                <a:cubicBezTo>
                  <a:pt x="526" y="440"/>
                  <a:pt x="553" y="435"/>
                  <a:pt x="568" y="430"/>
                </a:cubicBezTo>
                <a:cubicBezTo>
                  <a:pt x="576" y="433"/>
                  <a:pt x="593" y="438"/>
                  <a:pt x="593" y="4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971800" y="3200400"/>
          <a:ext cx="5249880" cy="27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200400"/>
                    <a:ext cx="524988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04920" y="4114800"/>
          <a:ext cx="1828800" cy="87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14800"/>
                    <a:ext cx="18288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362320" y="44197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371600" y="2286000"/>
          <a:ext cx="160020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286000"/>
                    <a:ext cx="16002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594360" y="2251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61040" y="3317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828800" y="838080"/>
          <a:ext cx="1600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1600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728880" y="2209680"/>
            <a:ext cx="44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acoustic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plane wave (pressure/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828800" y="3249720"/>
          <a:ext cx="23335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2497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516040" y="4633920"/>
          <a:ext cx="164304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6040" y="4633920"/>
                    <a:ext cx="16430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4419720" y="4648320"/>
            <a:ext cx="380880" cy="500040"/>
            <a:chOff x="4419720" y="4648320"/>
            <a:chExt cx="380880" cy="500040"/>
          </a:xfrm>
        </p:grpSpPr>
        <p:sp>
          <p:nvSpPr>
            <p:cNvPr id="280" name=""/>
            <p:cNvSpPr/>
            <p:nvPr/>
          </p:nvSpPr>
          <p:spPr>
            <a:xfrm>
              <a:off x="4559040" y="507384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3840" y="501012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603680" y="48384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733920" y="1066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07200" y="4267080"/>
            <a:ext cx="258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ce/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057400" y="2271600"/>
          <a:ext cx="13716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71600"/>
                    <a:ext cx="1371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3962520" y="2286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09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1600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1066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788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609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5000" y="9144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…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840" y="57150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general (harmonic) wa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84880" y="5715000"/>
          <a:ext cx="1674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4880" y="5715000"/>
                    <a:ext cx="1674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762120"/>
            <a:ext cx="48006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6200" y="1447920"/>
            <a:ext cx="1149480" cy="380880"/>
            <a:chOff x="3886200" y="1447920"/>
            <a:chExt cx="1149480" cy="380880"/>
          </a:xfrm>
        </p:grpSpPr>
        <p:sp>
          <p:nvSpPr>
            <p:cNvPr id="300" name=""/>
            <p:cNvSpPr/>
            <p:nvPr/>
          </p:nvSpPr>
          <p:spPr>
            <a:xfrm>
              <a:off x="3936960" y="16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94160" y="1447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46440" y="1447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46440" y="16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4959360" y="15843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3886200" y="16034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862280" y="1476000"/>
            <a:ext cx="1198080" cy="324000"/>
            <a:chOff x="1862280" y="1476000"/>
            <a:chExt cx="1198080" cy="324000"/>
          </a:xfrm>
        </p:grpSpPr>
        <p:grpSp>
          <p:nvGrpSpPr>
            <p:cNvPr id="307" name=""/>
            <p:cNvGrpSpPr/>
            <p:nvPr/>
          </p:nvGrpSpPr>
          <p:grpSpPr>
            <a:xfrm>
              <a:off x="1927440" y="1476000"/>
              <a:ext cx="1055880" cy="324000"/>
              <a:chOff x="1927440" y="1476000"/>
              <a:chExt cx="1055880" cy="32400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2625840" y="14824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430360" y="148896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227320" y="149544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927440" y="163512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54720" y="1635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2513160" y="148860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2309760" y="150120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2157480" y="162828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2703600" y="147600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1862280" y="1596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2984040" y="15951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036880" y="2634840"/>
            <a:ext cx="1198080" cy="324000"/>
            <a:chOff x="2036880" y="2634840"/>
            <a:chExt cx="1198080" cy="324000"/>
          </a:xfrm>
        </p:grpSpPr>
        <p:grpSp>
          <p:nvGrpSpPr>
            <p:cNvPr id="320" name=""/>
            <p:cNvGrpSpPr/>
            <p:nvPr/>
          </p:nvGrpSpPr>
          <p:grpSpPr>
            <a:xfrm>
              <a:off x="2102040" y="2634840"/>
              <a:ext cx="1055880" cy="324000"/>
              <a:chOff x="2102040" y="2634840"/>
              <a:chExt cx="1055880" cy="32400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2800440" y="264132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604960" y="264780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401920" y="265428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102040" y="279396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929320" y="2793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2687760" y="264744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2484360" y="266004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2332080" y="278712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2878200" y="263484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rot="5400000">
              <a:off x="2036880" y="2755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3158640" y="2754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3048120" y="1641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430800" y="1604880"/>
            <a:ext cx="324000" cy="1198080"/>
            <a:chOff x="3430800" y="1604880"/>
            <a:chExt cx="324000" cy="1198080"/>
          </a:xfrm>
        </p:grpSpPr>
        <p:grpSp>
          <p:nvGrpSpPr>
            <p:cNvPr id="334" name=""/>
            <p:cNvGrpSpPr/>
            <p:nvPr/>
          </p:nvGrpSpPr>
          <p:grpSpPr>
            <a:xfrm>
              <a:off x="3430800" y="1670040"/>
              <a:ext cx="324000" cy="1055880"/>
              <a:chOff x="3430800" y="1670040"/>
              <a:chExt cx="324000" cy="1055880"/>
            </a:xfrm>
          </p:grpSpPr>
          <p:sp>
            <p:nvSpPr>
              <p:cNvPr id="335" name=""/>
              <p:cNvSpPr/>
              <p:nvPr/>
            </p:nvSpPr>
            <p:spPr>
              <a:xfrm flipH="1" flipV="1">
                <a:off x="3443400" y="236844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3436920" y="2172960"/>
                <a:ext cx="304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3430800" y="1969920"/>
                <a:ext cx="3045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3595680" y="167004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95680" y="2497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443760" y="2255760"/>
                <a:ext cx="29844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431160" y="2052360"/>
                <a:ext cx="29844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437280" y="1900080"/>
                <a:ext cx="16524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3602520" y="2446200"/>
                <a:ext cx="15228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rot="10800000">
              <a:off x="3557880" y="16048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0800000">
              <a:off x="3559320" y="2727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214800" y="277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97000" y="1903320"/>
            <a:ext cx="53352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858120" y="2550600"/>
            <a:ext cx="1185120" cy="419040"/>
            <a:chOff x="3858120" y="2550600"/>
            <a:chExt cx="1185120" cy="419040"/>
          </a:xfrm>
        </p:grpSpPr>
        <p:grpSp>
          <p:nvGrpSpPr>
            <p:cNvPr id="349" name=""/>
            <p:cNvGrpSpPr/>
            <p:nvPr/>
          </p:nvGrpSpPr>
          <p:grpSpPr>
            <a:xfrm>
              <a:off x="3911400" y="2550600"/>
              <a:ext cx="1131840" cy="419040"/>
              <a:chOff x="3911400" y="2550600"/>
              <a:chExt cx="1131840" cy="419040"/>
            </a:xfrm>
          </p:grpSpPr>
          <p:sp>
            <p:nvSpPr>
              <p:cNvPr id="350" name=""/>
              <p:cNvSpPr/>
              <p:nvPr/>
            </p:nvSpPr>
            <p:spPr>
              <a:xfrm rot="5395200">
                <a:off x="4505040" y="2705760"/>
                <a:ext cx="347760" cy="16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395200">
                <a:off x="4340520" y="2708280"/>
                <a:ext cx="347400" cy="16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5395200">
                <a:off x="4183200" y="2713680"/>
                <a:ext cx="347760" cy="16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395200">
                <a:off x="4025880" y="2711160"/>
                <a:ext cx="347760" cy="16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5395200">
                <a:off x="4359600" y="2103120"/>
                <a:ext cx="235080" cy="113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5400000">
              <a:off x="4966200" y="2746080"/>
              <a:ext cx="75960" cy="7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3855240" y="2744280"/>
              <a:ext cx="76320" cy="7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2080" y="277956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921480" y="277956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 flipV="1">
            <a:off x="1445760" y="165096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447560" y="16416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452240" y="2792520"/>
            <a:ext cx="5698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2438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51520" y="1641600"/>
            <a:ext cx="48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9200" y="2763720"/>
            <a:ext cx="476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828800"/>
            <a:ext cx="46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990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99072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190512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048120"/>
            <a:ext cx="47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30481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1676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190512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07440" y="22860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n equivalent circuit (harmonic voltages and curr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4724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035080" y="43286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036880" y="5423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0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438280" y="4191120"/>
            <a:ext cx="1341720" cy="304560"/>
            <a:chOff x="2438280" y="4191120"/>
            <a:chExt cx="1341720" cy="304560"/>
          </a:xfrm>
        </p:grpSpPr>
        <p:sp>
          <p:nvSpPr>
            <p:cNvPr id="379" name=""/>
            <p:cNvSpPr/>
            <p:nvPr/>
          </p:nvSpPr>
          <p:spPr>
            <a:xfrm>
              <a:off x="2813040" y="4191120"/>
              <a:ext cx="609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22520" y="4343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8120" y="4343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3704040" y="43016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2438280" y="4303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044800" y="57913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760920" y="4336920"/>
            <a:ext cx="633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4724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4724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521320" y="1635120"/>
            <a:ext cx="1204920" cy="1133280"/>
            <a:chOff x="5521320" y="1635120"/>
            <a:chExt cx="1204920" cy="1133280"/>
          </a:xfrm>
        </p:grpSpPr>
        <p:sp>
          <p:nvSpPr>
            <p:cNvPr id="391" name=""/>
            <p:cNvSpPr/>
            <p:nvPr/>
          </p:nvSpPr>
          <p:spPr>
            <a:xfrm>
              <a:off x="5584680" y="1641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521320" y="2765160"/>
              <a:ext cx="107460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02400" y="1635120"/>
              <a:ext cx="0" cy="112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21320" y="1890720"/>
              <a:ext cx="3049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362480" y="4334040"/>
            <a:ext cx="1204920" cy="1453320"/>
            <a:chOff x="4362480" y="4334040"/>
            <a:chExt cx="1204920" cy="1453320"/>
          </a:xfrm>
        </p:grpSpPr>
        <p:sp>
          <p:nvSpPr>
            <p:cNvPr id="396" name=""/>
            <p:cNvSpPr/>
            <p:nvPr/>
          </p:nvSpPr>
          <p:spPr>
            <a:xfrm>
              <a:off x="4425840" y="4342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362480" y="5783400"/>
              <a:ext cx="1074600" cy="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43560" y="4334040"/>
              <a:ext cx="0" cy="143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62480" y="4661640"/>
              <a:ext cx="304920" cy="68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486400" y="1447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7840" y="914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1972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20800" y="3733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553080" y="4724280"/>
            <a:ext cx="381240" cy="500040"/>
            <a:chOff x="6553080" y="4724280"/>
            <a:chExt cx="381240" cy="500040"/>
          </a:xfrm>
        </p:grpSpPr>
        <p:sp>
          <p:nvSpPr>
            <p:cNvPr id="405" name=""/>
            <p:cNvSpPr/>
            <p:nvPr/>
          </p:nvSpPr>
          <p:spPr>
            <a:xfrm>
              <a:off x="6692760" y="514980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080" y="472428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67560" y="508608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737400" y="49143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67680" y="727200"/>
            <a:ext cx="56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n equival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286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035080" y="18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036880" y="2984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304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438280" y="1752480"/>
            <a:ext cx="1341720" cy="304920"/>
            <a:chOff x="2438280" y="1752480"/>
            <a:chExt cx="1341720" cy="304920"/>
          </a:xfrm>
        </p:grpSpPr>
        <p:sp>
          <p:nvSpPr>
            <p:cNvPr id="415" name=""/>
            <p:cNvSpPr/>
            <p:nvPr/>
          </p:nvSpPr>
          <p:spPr>
            <a:xfrm>
              <a:off x="2813040" y="17524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22520" y="190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08120" y="190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5400000">
              <a:off x="3703680" y="18633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2438280" y="1865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044800" y="3352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60920" y="190512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2133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1981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32480" y="217476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78240" y="22096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circui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715000" y="2895480"/>
          <a:ext cx="99072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95480"/>
                    <a:ext cx="9907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829080" y="3733920"/>
            <a:ext cx="61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n equivalent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5105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959120" y="4710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60560" y="580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540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361960" y="4572000"/>
            <a:ext cx="1341000" cy="304920"/>
            <a:chOff x="2361960" y="4572000"/>
            <a:chExt cx="1341000" cy="304920"/>
          </a:xfrm>
        </p:grpSpPr>
        <p:sp>
          <p:nvSpPr>
            <p:cNvPr id="435" name=""/>
            <p:cNvSpPr/>
            <p:nvPr/>
          </p:nvSpPr>
          <p:spPr>
            <a:xfrm>
              <a:off x="2736720" y="4572000"/>
              <a:ext cx="609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620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180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3627000" y="4683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2361600" y="46846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968480" y="6172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684600" y="4717800"/>
            <a:ext cx="6332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3200" y="49528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3400" y="4724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5029200"/>
            <a:ext cx="304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56160" y="507060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6172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8280" y="507060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553080" y="5410080"/>
          <a:ext cx="243864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5410080"/>
                    <a:ext cx="24386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7238880" y="3886200"/>
          <a:ext cx="1676520" cy="9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3886200"/>
                    <a:ext cx="16765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7696080" y="4952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26560" y="727200"/>
            <a:ext cx="62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find the 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n equivalent circu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462480" y="2542680"/>
            <a:ext cx="1198080" cy="324000"/>
            <a:chOff x="3462480" y="2542680"/>
            <a:chExt cx="1198080" cy="324000"/>
          </a:xfrm>
        </p:grpSpPr>
        <p:grpSp>
          <p:nvGrpSpPr>
            <p:cNvPr id="458" name=""/>
            <p:cNvGrpSpPr/>
            <p:nvPr/>
          </p:nvGrpSpPr>
          <p:grpSpPr>
            <a:xfrm>
              <a:off x="3527640" y="2542680"/>
              <a:ext cx="1055880" cy="324000"/>
              <a:chOff x="3527640" y="2542680"/>
              <a:chExt cx="1055880" cy="324000"/>
            </a:xfrm>
          </p:grpSpPr>
          <p:sp>
            <p:nvSpPr>
              <p:cNvPr id="459" name=""/>
              <p:cNvSpPr/>
              <p:nvPr/>
            </p:nvSpPr>
            <p:spPr>
              <a:xfrm flipH="1">
                <a:off x="4226040" y="254916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030560" y="255564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3827520" y="25621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527640" y="270180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54920" y="2701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4113360" y="25552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3909960" y="25678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3757680" y="269496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4303800" y="254268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rot="5400000">
              <a:off x="3462480" y="2663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4584240" y="26618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H="1">
            <a:off x="4668840" y="270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15000" y="385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97200" y="2970360"/>
            <a:ext cx="533520" cy="54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3045960" y="271764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047760" y="27082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067200" y="3838680"/>
            <a:ext cx="17906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3505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2895480"/>
            <a:ext cx="46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4956120" y="2664360"/>
            <a:ext cx="380880" cy="1221840"/>
            <a:chOff x="4956120" y="2664360"/>
            <a:chExt cx="380880" cy="1221840"/>
          </a:xfrm>
        </p:grpSpPr>
        <p:sp>
          <p:nvSpPr>
            <p:cNvPr id="481" name=""/>
            <p:cNvSpPr/>
            <p:nvPr/>
          </p:nvSpPr>
          <p:spPr>
            <a:xfrm flipV="1">
              <a:off x="5137200" y="33462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56120" y="3345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56120" y="318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141880" y="26982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92560" y="266436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11640" y="38052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243160" y="1171080"/>
            <a:ext cx="1198080" cy="324000"/>
            <a:chOff x="2243160" y="1171080"/>
            <a:chExt cx="1198080" cy="324000"/>
          </a:xfrm>
        </p:grpSpPr>
        <p:grpSp>
          <p:nvGrpSpPr>
            <p:cNvPr id="488" name=""/>
            <p:cNvGrpSpPr/>
            <p:nvPr/>
          </p:nvGrpSpPr>
          <p:grpSpPr>
            <a:xfrm>
              <a:off x="2308320" y="1171080"/>
              <a:ext cx="1055880" cy="324000"/>
              <a:chOff x="2308320" y="1171080"/>
              <a:chExt cx="1055880" cy="32400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3006720" y="117756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811240" y="118404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2608200" y="11905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2308320" y="133020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35600" y="133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2894040" y="11836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flipV="1">
                <a:off x="2690640" y="11962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2538360" y="132336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3084480" y="117108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5400000">
              <a:off x="2243160" y="12916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3364920" y="12902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H="1">
            <a:off x="3449160" y="1336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95680" y="246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77880" y="1598760"/>
            <a:ext cx="533520" cy="54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1827360" y="134604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828440" y="13366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1847520" y="2466720"/>
            <a:ext cx="17636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2133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1523880"/>
            <a:ext cx="46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6094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1676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736800" y="1292760"/>
            <a:ext cx="380880" cy="1221840"/>
            <a:chOff x="3736800" y="1292760"/>
            <a:chExt cx="380880" cy="1221840"/>
          </a:xfrm>
        </p:grpSpPr>
        <p:sp>
          <p:nvSpPr>
            <p:cNvPr id="511" name=""/>
            <p:cNvSpPr/>
            <p:nvPr/>
          </p:nvSpPr>
          <p:spPr>
            <a:xfrm flipV="1">
              <a:off x="3917880" y="19746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36800" y="1974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36800" y="181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922560" y="13266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73240" y="129276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92320" y="24336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 flipV="1">
            <a:off x="434340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572000" y="1600200"/>
          <a:ext cx="330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2493720" y="1600200"/>
            <a:ext cx="695160" cy="60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" y="7096"/>
                </a:moveTo>
                <a:arcTo wR="10800" hR="10800" stAng="-9596558" swAng="15574379"/>
                <a:lnTo>
                  <a:pt x="10800" y="10800"/>
                </a:lnTo>
                <a:close/>
              </a:path>
              <a:path fill="none" w="21600" h="21600">
                <a:moveTo>
                  <a:pt x="655" y="7096"/>
                </a:moveTo>
                <a:arcTo wR="10800" hR="10800" stAng="-9596558" swAng="155743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68320" y="1676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86080" y="15652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circui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666880" y="2992320"/>
          <a:ext cx="1524240" cy="13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992320"/>
                    <a:ext cx="152424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419200" y="453708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ing I, we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666880" y="5181480"/>
          <a:ext cx="18288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181480"/>
                    <a:ext cx="18288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5025960" y="54100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n equival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2166840" y="866520"/>
            <a:ext cx="1198080" cy="324000"/>
            <a:chOff x="2166840" y="866520"/>
            <a:chExt cx="1198080" cy="324000"/>
          </a:xfrm>
        </p:grpSpPr>
        <p:grpSp>
          <p:nvGrpSpPr>
            <p:cNvPr id="530" name=""/>
            <p:cNvGrpSpPr/>
            <p:nvPr/>
          </p:nvGrpSpPr>
          <p:grpSpPr>
            <a:xfrm>
              <a:off x="2232000" y="866520"/>
              <a:ext cx="1055880" cy="324000"/>
              <a:chOff x="2232000" y="866520"/>
              <a:chExt cx="1055880" cy="324000"/>
            </a:xfrm>
          </p:grpSpPr>
          <p:sp>
            <p:nvSpPr>
              <p:cNvPr id="531" name=""/>
              <p:cNvSpPr/>
              <p:nvPr/>
            </p:nvSpPr>
            <p:spPr>
              <a:xfrm flipH="1">
                <a:off x="2930400" y="87300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734920" y="87948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2531880" y="88596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232000" y="102564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059280" y="1025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2817720" y="87912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2614320" y="89172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2462040" y="101880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3008160" y="86652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5400000">
              <a:off x="2166840" y="9871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3288600" y="9856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H="1" flipV="1">
            <a:off x="3387600" y="1030320"/>
            <a:ext cx="17208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02040" y="2176560"/>
            <a:ext cx="1239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01920" y="1293840"/>
            <a:ext cx="53316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751040" y="1041120"/>
            <a:ext cx="144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752480" y="1031760"/>
            <a:ext cx="4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1771560" y="2161800"/>
            <a:ext cx="20368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18288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219320"/>
            <a:ext cx="46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304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13716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660840" y="987840"/>
            <a:ext cx="380880" cy="1221840"/>
            <a:chOff x="3660840" y="987840"/>
            <a:chExt cx="380880" cy="1221840"/>
          </a:xfrm>
        </p:grpSpPr>
        <p:sp>
          <p:nvSpPr>
            <p:cNvPr id="553" name=""/>
            <p:cNvSpPr/>
            <p:nvPr/>
          </p:nvSpPr>
          <p:spPr>
            <a:xfrm flipV="1">
              <a:off x="3841920" y="166968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60840" y="166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60840" y="1507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846600" y="102168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97280" y="9878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6360" y="212868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095880" y="1219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17400" y="1295280"/>
            <a:ext cx="695160" cy="60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" y="7096"/>
                </a:moveTo>
                <a:arcTo wR="10800" hR="10800" stAng="-9596558" swAng="15574379"/>
                <a:lnTo>
                  <a:pt x="10800" y="10800"/>
                </a:lnTo>
                <a:close/>
              </a:path>
              <a:path fill="none" w="21600" h="21600">
                <a:moveTo>
                  <a:pt x="655" y="7096"/>
                </a:moveTo>
                <a:arcTo wR="10800" hR="10800" stAng="-9596558" swAng="155743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3716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002560" y="1017720"/>
            <a:ext cx="324000" cy="1198080"/>
            <a:chOff x="5002560" y="1017720"/>
            <a:chExt cx="324000" cy="1198080"/>
          </a:xfrm>
        </p:grpSpPr>
        <p:grpSp>
          <p:nvGrpSpPr>
            <p:cNvPr id="563" name=""/>
            <p:cNvGrpSpPr/>
            <p:nvPr/>
          </p:nvGrpSpPr>
          <p:grpSpPr>
            <a:xfrm>
              <a:off x="5002560" y="1082880"/>
              <a:ext cx="324000" cy="1055880"/>
              <a:chOff x="5002560" y="1082880"/>
              <a:chExt cx="324000" cy="1055880"/>
            </a:xfrm>
          </p:grpSpPr>
          <p:sp>
            <p:nvSpPr>
              <p:cNvPr id="564" name=""/>
              <p:cNvSpPr/>
              <p:nvPr/>
            </p:nvSpPr>
            <p:spPr>
              <a:xfrm flipH="1" flipV="1">
                <a:off x="5015160" y="178128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5008680" y="1585800"/>
                <a:ext cx="304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5002560" y="1382760"/>
                <a:ext cx="3045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167440" y="108288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67440" y="1910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5015520" y="1668600"/>
                <a:ext cx="29844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5002920" y="1465200"/>
                <a:ext cx="29844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009040" y="1312920"/>
                <a:ext cx="16524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174280" y="1859040"/>
                <a:ext cx="15228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 rot="10800000">
              <a:off x="5129640" y="10177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0800000">
              <a:off x="5131080" y="21398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410080" y="129528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93920" y="1295280"/>
            <a:ext cx="695160" cy="60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" y="7096"/>
                </a:moveTo>
                <a:arcTo wR="10800" hR="10800" stAng="-9596558" swAng="15574379"/>
                <a:lnTo>
                  <a:pt x="10800" y="10800"/>
                </a:lnTo>
                <a:close/>
              </a:path>
              <a:path fill="none" w="21600" h="21600">
                <a:moveTo>
                  <a:pt x="655" y="7096"/>
                </a:moveTo>
                <a:arcTo wR="10800" hR="10800" stAng="-9596558" swAng="155743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137160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210280" y="1046160"/>
            <a:ext cx="938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199120" y="2173320"/>
            <a:ext cx="9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32680" y="1336680"/>
            <a:ext cx="54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371600" y="2666880"/>
          <a:ext cx="545940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54594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1371600" y="3886200"/>
            <a:ext cx="31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i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4633920" y="3657600"/>
          <a:ext cx="307656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3920" y="3657600"/>
                    <a:ext cx="30765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"/>
          <p:cNvSpPr/>
          <p:nvPr/>
        </p:nvSpPr>
        <p:spPr>
          <a:xfrm>
            <a:off x="916200" y="4876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905120" y="4668840"/>
          <a:ext cx="5715000" cy="19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68840"/>
                    <a:ext cx="571500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200400" y="38098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559320" y="3414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560760" y="450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542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962160" y="3276720"/>
            <a:ext cx="1341000" cy="304560"/>
            <a:chOff x="3962160" y="3276720"/>
            <a:chExt cx="1341000" cy="304560"/>
          </a:xfrm>
        </p:grpSpPr>
        <p:sp>
          <p:nvSpPr>
            <p:cNvPr id="594" name=""/>
            <p:cNvSpPr/>
            <p:nvPr/>
          </p:nvSpPr>
          <p:spPr>
            <a:xfrm>
              <a:off x="4336920" y="3276720"/>
              <a:ext cx="609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46400" y="3428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32000" y="3428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5400000">
              <a:off x="5227200" y="3387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5400000">
              <a:off x="3962160" y="33890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568680" y="4876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284800" y="34290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914400" y="3851280"/>
          <a:ext cx="22096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51280"/>
                    <a:ext cx="22096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4038480" y="3581280"/>
          <a:ext cx="25146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581280"/>
                    <a:ext cx="25146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5" name=""/>
          <p:cNvGrpSpPr/>
          <p:nvPr/>
        </p:nvGrpSpPr>
        <p:grpSpPr>
          <a:xfrm>
            <a:off x="4114800" y="1142640"/>
            <a:ext cx="1198080" cy="324000"/>
            <a:chOff x="4114800" y="1142640"/>
            <a:chExt cx="1198080" cy="324000"/>
          </a:xfrm>
        </p:grpSpPr>
        <p:grpSp>
          <p:nvGrpSpPr>
            <p:cNvPr id="606" name=""/>
            <p:cNvGrpSpPr/>
            <p:nvPr/>
          </p:nvGrpSpPr>
          <p:grpSpPr>
            <a:xfrm>
              <a:off x="4179960" y="1142640"/>
              <a:ext cx="1055880" cy="324000"/>
              <a:chOff x="4179960" y="1142640"/>
              <a:chExt cx="1055880" cy="324000"/>
            </a:xfrm>
          </p:grpSpPr>
          <p:sp>
            <p:nvSpPr>
              <p:cNvPr id="607" name=""/>
              <p:cNvSpPr/>
              <p:nvPr/>
            </p:nvSpPr>
            <p:spPr>
              <a:xfrm flipH="1">
                <a:off x="4878360" y="114912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4682880" y="115560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4479840" y="116208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4179960" y="130176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007240" y="1301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4765680" y="115524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4562280" y="116784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410000" y="129492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4956120" y="114264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rot="5400000">
              <a:off x="4114800" y="12632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5236560" y="12618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H="1">
            <a:off x="5320800" y="13082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67320" y="2451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49520" y="1569960"/>
            <a:ext cx="53352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3699000" y="131760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700080" y="130824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719520" y="2438280"/>
            <a:ext cx="17906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00440" y="21049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90920" y="1600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38520" y="58104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072040" y="164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608800" y="1264320"/>
            <a:ext cx="380880" cy="1222200"/>
            <a:chOff x="5608800" y="1264320"/>
            <a:chExt cx="380880" cy="1222200"/>
          </a:xfrm>
        </p:grpSpPr>
        <p:sp>
          <p:nvSpPr>
            <p:cNvPr id="629" name=""/>
            <p:cNvSpPr/>
            <p:nvPr/>
          </p:nvSpPr>
          <p:spPr>
            <a:xfrm flipV="1">
              <a:off x="5789880" y="194652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608800" y="1946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08800" y="1784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794560" y="12981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45240" y="126432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64320" y="240552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6440" y="457200"/>
            <a:ext cx="6197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imped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1-D waves in a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of motion/constituti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s - pulses and harmon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évenin equivalent electric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2193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ny EE books the equivalent impedance is obtained by simply shorting out (removing) the source and examining the ratio V/I at the output po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309840" y="2085480"/>
            <a:ext cx="1198080" cy="324000"/>
            <a:chOff x="3309840" y="2085480"/>
            <a:chExt cx="1198080" cy="324000"/>
          </a:xfrm>
        </p:grpSpPr>
        <p:grpSp>
          <p:nvGrpSpPr>
            <p:cNvPr id="637" name=""/>
            <p:cNvGrpSpPr/>
            <p:nvPr/>
          </p:nvGrpSpPr>
          <p:grpSpPr>
            <a:xfrm>
              <a:off x="3375000" y="2085480"/>
              <a:ext cx="1055880" cy="324000"/>
              <a:chOff x="3375000" y="2085480"/>
              <a:chExt cx="1055880" cy="324000"/>
            </a:xfrm>
          </p:grpSpPr>
          <p:sp>
            <p:nvSpPr>
              <p:cNvPr id="638" name=""/>
              <p:cNvSpPr/>
              <p:nvPr/>
            </p:nvSpPr>
            <p:spPr>
              <a:xfrm flipH="1">
                <a:off x="4073400" y="209196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877920" y="209844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3674880" y="2104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3375000" y="224460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02280" y="224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3960720" y="20980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>
                <a:off x="3757320" y="211068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>
                <a:off x="3605040" y="223776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4151160" y="208548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rot="5400000">
              <a:off x="3309840" y="2206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4431600" y="22046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 flipH="1">
            <a:off x="4516560" y="225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62360" y="337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2895480" y="2251080"/>
            <a:ext cx="4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2914200" y="3381120"/>
            <a:ext cx="17636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33920" y="1523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25909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803840" y="2207160"/>
            <a:ext cx="380880" cy="1221840"/>
            <a:chOff x="4803840" y="2207160"/>
            <a:chExt cx="380880" cy="1221840"/>
          </a:xfrm>
        </p:grpSpPr>
        <p:sp>
          <p:nvSpPr>
            <p:cNvPr id="656" name=""/>
            <p:cNvSpPr/>
            <p:nvPr/>
          </p:nvSpPr>
          <p:spPr>
            <a:xfrm flipV="1">
              <a:off x="4984920" y="2889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03840" y="2888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03840" y="2727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989600" y="224100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40280" y="220716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59360" y="3348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54100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5651640" y="2565360"/>
          <a:ext cx="30456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565360"/>
                    <a:ext cx="304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3560400" y="2514600"/>
            <a:ext cx="695160" cy="60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" y="7096"/>
                </a:moveTo>
                <a:arcTo wR="10800" hR="10800" stAng="-9596558" swAng="15574379"/>
                <a:lnTo>
                  <a:pt x="10800" y="10800"/>
                </a:lnTo>
                <a:close/>
              </a:path>
              <a:path fill="none" w="21600" h="21600">
                <a:moveTo>
                  <a:pt x="655" y="7096"/>
                </a:moveTo>
                <a:arcTo wR="10800" hR="10800" stAng="-9596558" swAng="155743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41840" y="2590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082840" y="213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21080" y="1563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06640" y="225900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95280" y="4114800"/>
          <a:ext cx="152424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152424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3200400" y="4572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4267080" y="4495680"/>
          <a:ext cx="2210040" cy="164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4495680"/>
                    <a:ext cx="22100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743560" y="4875480"/>
            <a:ext cx="1280880" cy="419400"/>
            <a:chOff x="2743560" y="4875480"/>
            <a:chExt cx="1280880" cy="419400"/>
          </a:xfrm>
        </p:grpSpPr>
        <p:grpSp>
          <p:nvGrpSpPr>
            <p:cNvPr id="45" name=""/>
            <p:cNvGrpSpPr/>
            <p:nvPr/>
          </p:nvGrpSpPr>
          <p:grpSpPr>
            <a:xfrm>
              <a:off x="2743560" y="4875480"/>
              <a:ext cx="1222560" cy="419400"/>
              <a:chOff x="2743560" y="4875480"/>
              <a:chExt cx="1222560" cy="419400"/>
            </a:xfrm>
          </p:grpSpPr>
          <p:sp>
            <p:nvSpPr>
              <p:cNvPr id="46" name=""/>
              <p:cNvSpPr/>
              <p:nvPr/>
            </p:nvSpPr>
            <p:spPr>
              <a:xfrm rot="16195200">
                <a:off x="2963520" y="4969080"/>
                <a:ext cx="347400" cy="17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6195200">
                <a:off x="3141360" y="4967280"/>
                <a:ext cx="347040" cy="17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195200">
                <a:off x="3310920" y="4961160"/>
                <a:ext cx="34740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6195200">
                <a:off x="3480840" y="4963320"/>
                <a:ext cx="34740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195200">
                <a:off x="3237480" y="4565520"/>
                <a:ext cx="234720" cy="122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 rot="16200000">
              <a:off x="2748240" y="50259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3948120" y="502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819160" y="5065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46520" y="50655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19520" y="2817360"/>
            <a:ext cx="1198080" cy="324000"/>
            <a:chOff x="2819520" y="2817360"/>
            <a:chExt cx="1198080" cy="324000"/>
          </a:xfrm>
        </p:grpSpPr>
        <p:grpSp>
          <p:nvGrpSpPr>
            <p:cNvPr id="56" name=""/>
            <p:cNvGrpSpPr/>
            <p:nvPr/>
          </p:nvGrpSpPr>
          <p:grpSpPr>
            <a:xfrm>
              <a:off x="2884680" y="2817360"/>
              <a:ext cx="1055880" cy="324000"/>
              <a:chOff x="2884680" y="2817360"/>
              <a:chExt cx="1055880" cy="32400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3583080" y="282384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3387600" y="283032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184560" y="283680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2884680" y="297648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11960" y="2976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3470400" y="282996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flipV="1">
                <a:off x="3267000" y="284256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3114720" y="296964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3660840" y="281736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rot="5400000">
              <a:off x="2819520" y="29379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3941280" y="2936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4360" y="3733920"/>
            <a:ext cx="1149120" cy="380880"/>
            <a:chOff x="2844360" y="3733920"/>
            <a:chExt cx="1149120" cy="380880"/>
          </a:xfrm>
        </p:grpSpPr>
        <p:sp>
          <p:nvSpPr>
            <p:cNvPr id="69" name=""/>
            <p:cNvSpPr/>
            <p:nvPr/>
          </p:nvSpPr>
          <p:spPr>
            <a:xfrm>
              <a:off x="2895480" y="3915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2680" y="3733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4960" y="3733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4960" y="391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3917160" y="38703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2844000" y="38894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143000" y="27432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3800" y="3699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4880" y="47656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438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195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0" y="19051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4080" y="220968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2880" y="2743200"/>
          <a:ext cx="19051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1905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00600" y="3429000"/>
          <a:ext cx="22096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429000"/>
                    <a:ext cx="2209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00600" y="4495680"/>
          <a:ext cx="205740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495680"/>
                    <a:ext cx="20574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817720" y="228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of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1840" y="121932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circuit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591280" y="4648680"/>
            <a:ext cx="1280160" cy="419400"/>
            <a:chOff x="2591280" y="4648680"/>
            <a:chExt cx="1280160" cy="419400"/>
          </a:xfrm>
        </p:grpSpPr>
        <p:grpSp>
          <p:nvGrpSpPr>
            <p:cNvPr id="94" name=""/>
            <p:cNvGrpSpPr/>
            <p:nvPr/>
          </p:nvGrpSpPr>
          <p:grpSpPr>
            <a:xfrm>
              <a:off x="2591280" y="4648680"/>
              <a:ext cx="1222560" cy="419400"/>
              <a:chOff x="2591280" y="4648680"/>
              <a:chExt cx="1222560" cy="419400"/>
            </a:xfrm>
          </p:grpSpPr>
          <p:sp>
            <p:nvSpPr>
              <p:cNvPr id="95" name=""/>
              <p:cNvSpPr/>
              <p:nvPr/>
            </p:nvSpPr>
            <p:spPr>
              <a:xfrm rot="16195200">
                <a:off x="2810880" y="4743000"/>
                <a:ext cx="347760" cy="17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195200">
                <a:off x="2989080" y="4740120"/>
                <a:ext cx="347400" cy="17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195200">
                <a:off x="3158640" y="4734360"/>
                <a:ext cx="34776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195200">
                <a:off x="3328560" y="4736880"/>
                <a:ext cx="34776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195200">
                <a:off x="3084840" y="4338360"/>
                <a:ext cx="235080" cy="122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rot="16200000">
              <a:off x="2595240" y="479916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3795120" y="48006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666880" y="48387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3880" y="4838760"/>
              <a:ext cx="20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66880" y="2590560"/>
            <a:ext cx="1198080" cy="324000"/>
            <a:chOff x="2666880" y="2590560"/>
            <a:chExt cx="1198080" cy="324000"/>
          </a:xfrm>
        </p:grpSpPr>
        <p:grpSp>
          <p:nvGrpSpPr>
            <p:cNvPr id="105" name=""/>
            <p:cNvGrpSpPr/>
            <p:nvPr/>
          </p:nvGrpSpPr>
          <p:grpSpPr>
            <a:xfrm>
              <a:off x="2732040" y="2590560"/>
              <a:ext cx="1055880" cy="324000"/>
              <a:chOff x="2732040" y="2590560"/>
              <a:chExt cx="1055880" cy="32400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3430440" y="259704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3234960" y="260352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031920" y="261000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732040" y="274968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59320" y="2749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3317760" y="260316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3114360" y="2615760"/>
                <a:ext cx="1080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2962080" y="2742840"/>
                <a:ext cx="633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3508200" y="2590560"/>
                <a:ext cx="50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rot="5400000">
              <a:off x="2666880" y="2711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3788640" y="27097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692440" y="3506760"/>
            <a:ext cx="1149480" cy="380880"/>
            <a:chOff x="2692440" y="3506760"/>
            <a:chExt cx="1149480" cy="380880"/>
          </a:xfrm>
        </p:grpSpPr>
        <p:sp>
          <p:nvSpPr>
            <p:cNvPr id="118" name=""/>
            <p:cNvSpPr/>
            <p:nvPr/>
          </p:nvSpPr>
          <p:spPr>
            <a:xfrm>
              <a:off x="2743200" y="3687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3506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3506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36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3765600" y="36432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2692440" y="3662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90720" y="251604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1160" y="347184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240" y="4538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98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9828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21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66880" y="221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592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71800" y="1371600"/>
          <a:ext cx="274320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371600"/>
                    <a:ext cx="27432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1600200"/>
          <a:ext cx="191772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00200"/>
                    <a:ext cx="19177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2438280"/>
          <a:ext cx="132552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38280"/>
                    <a:ext cx="1325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95680" y="3200400"/>
          <a:ext cx="14479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200400"/>
                    <a:ext cx="1447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495680" y="4343400"/>
          <a:ext cx="152424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4343400"/>
                    <a:ext cx="15242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597040" y="5486400"/>
            <a:ext cx="1341720" cy="304920"/>
            <a:chOff x="2597040" y="5486400"/>
            <a:chExt cx="1341720" cy="304920"/>
          </a:xfrm>
        </p:grpSpPr>
        <p:sp>
          <p:nvSpPr>
            <p:cNvPr id="143" name=""/>
            <p:cNvSpPr/>
            <p:nvPr/>
          </p:nvSpPr>
          <p:spPr>
            <a:xfrm>
              <a:off x="2971800" y="548640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5638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5638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3862440" y="5597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597040" y="5599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84720" y="5257800"/>
            <a:ext cx="15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95680" y="5257800"/>
          <a:ext cx="1676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5257800"/>
                    <a:ext cx="1676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347480" y="42228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ternating (harmonic) voltages and cur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58000" y="5257800"/>
            <a:ext cx="380880" cy="500040"/>
            <a:chOff x="6858000" y="5257800"/>
            <a:chExt cx="380880" cy="500040"/>
          </a:xfrm>
        </p:grpSpPr>
        <p:sp>
          <p:nvSpPr>
            <p:cNvPr id="153" name=""/>
            <p:cNvSpPr/>
            <p:nvPr/>
          </p:nvSpPr>
          <p:spPr>
            <a:xfrm>
              <a:off x="6997320" y="56833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2120" y="56196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041960" y="5447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22280" y="6137280"/>
            <a:ext cx="44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impedance Z =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h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4480" y="45720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D plane wave traveling wave in a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09320" y="2209680"/>
            <a:ext cx="1067400" cy="1067040"/>
            <a:chOff x="2209320" y="2209680"/>
            <a:chExt cx="1067400" cy="1067040"/>
          </a:xfrm>
        </p:grpSpPr>
        <p:sp>
          <p:nvSpPr>
            <p:cNvPr id="160" name=""/>
            <p:cNvSpPr/>
            <p:nvPr/>
          </p:nvSpPr>
          <p:spPr>
            <a:xfrm>
              <a:off x="2209680" y="2209680"/>
              <a:ext cx="1067040" cy="10670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600" y="22096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51424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09320" y="3048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3124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97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733920" y="2286000"/>
          <a:ext cx="121896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0"/>
                    <a:ext cx="1218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287440" y="320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5520" y="2971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816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66880" y="3962520"/>
          <a:ext cx="5562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962520"/>
                    <a:ext cx="5562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581280" y="5181480"/>
          <a:ext cx="18288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5181480"/>
                    <a:ext cx="18288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07680" y="53341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14300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 … pressure in th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05740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95480" y="19810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67080" y="3276720"/>
          <a:ext cx="1778040" cy="68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276720"/>
                    <a:ext cx="17780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0120" y="91440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00200" y="1447920"/>
          <a:ext cx="15238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152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67080" y="1828800"/>
          <a:ext cx="4399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28800"/>
                    <a:ext cx="439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262400" y="1295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  … compressibility of th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82960" y="18702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05120" y="2895480"/>
          <a:ext cx="2895480" cy="17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95480"/>
                    <a:ext cx="2895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981080" y="5105520"/>
          <a:ext cx="243864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5520"/>
                    <a:ext cx="243864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06720" y="51055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D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876920" y="4776840"/>
          <a:ext cx="1295280" cy="9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776840"/>
                    <a:ext cx="12952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440" y="495288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spee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50120" y="4222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D plane wav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990720"/>
          <a:ext cx="38862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886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733920" y="24382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1752480"/>
            <a:ext cx="941400" cy="1228680"/>
          </a:xfrm>
          <a:custGeom>
            <a:avLst/>
            <a:gdLst/>
            <a:ahLst/>
            <a:rect l="l" t="t" r="r" b="b"/>
            <a:pathLst>
              <a:path w="593" h="774">
                <a:moveTo>
                  <a:pt x="0" y="421"/>
                </a:moveTo>
                <a:cubicBezTo>
                  <a:pt x="30" y="411"/>
                  <a:pt x="55" y="400"/>
                  <a:pt x="78" y="378"/>
                </a:cubicBezTo>
                <a:cubicBezTo>
                  <a:pt x="116" y="301"/>
                  <a:pt x="146" y="222"/>
                  <a:pt x="164" y="137"/>
                </a:cubicBezTo>
                <a:cubicBezTo>
                  <a:pt x="174" y="91"/>
                  <a:pt x="172" y="33"/>
                  <a:pt x="207" y="0"/>
                </a:cubicBezTo>
                <a:cubicBezTo>
                  <a:pt x="247" y="13"/>
                  <a:pt x="243" y="47"/>
                  <a:pt x="250" y="86"/>
                </a:cubicBezTo>
                <a:cubicBezTo>
                  <a:pt x="267" y="183"/>
                  <a:pt x="272" y="284"/>
                  <a:pt x="301" y="378"/>
                </a:cubicBezTo>
                <a:cubicBezTo>
                  <a:pt x="309" y="482"/>
                  <a:pt x="319" y="587"/>
                  <a:pt x="344" y="688"/>
                </a:cubicBezTo>
                <a:cubicBezTo>
                  <a:pt x="353" y="725"/>
                  <a:pt x="359" y="761"/>
                  <a:pt x="396" y="774"/>
                </a:cubicBezTo>
                <a:cubicBezTo>
                  <a:pt x="443" y="758"/>
                  <a:pt x="442" y="722"/>
                  <a:pt x="456" y="679"/>
                </a:cubicBezTo>
                <a:cubicBezTo>
                  <a:pt x="469" y="639"/>
                  <a:pt x="480" y="599"/>
                  <a:pt x="490" y="559"/>
                </a:cubicBezTo>
                <a:cubicBezTo>
                  <a:pt x="496" y="535"/>
                  <a:pt x="501" y="477"/>
                  <a:pt x="516" y="455"/>
                </a:cubicBezTo>
                <a:cubicBezTo>
                  <a:pt x="526" y="440"/>
                  <a:pt x="553" y="435"/>
                  <a:pt x="568" y="430"/>
                </a:cubicBezTo>
                <a:cubicBezTo>
                  <a:pt x="576" y="433"/>
                  <a:pt x="593" y="438"/>
                  <a:pt x="593" y="4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95160" y="1752480"/>
            <a:ext cx="941400" cy="1228680"/>
          </a:xfrm>
          <a:custGeom>
            <a:avLst/>
            <a:gdLst/>
            <a:ahLst/>
            <a:rect l="l" t="t" r="r" b="b"/>
            <a:pathLst>
              <a:path w="593" h="774">
                <a:moveTo>
                  <a:pt x="0" y="421"/>
                </a:moveTo>
                <a:cubicBezTo>
                  <a:pt x="30" y="411"/>
                  <a:pt x="55" y="400"/>
                  <a:pt x="78" y="378"/>
                </a:cubicBezTo>
                <a:cubicBezTo>
                  <a:pt x="116" y="301"/>
                  <a:pt x="146" y="222"/>
                  <a:pt x="164" y="137"/>
                </a:cubicBezTo>
                <a:cubicBezTo>
                  <a:pt x="174" y="91"/>
                  <a:pt x="172" y="33"/>
                  <a:pt x="207" y="0"/>
                </a:cubicBezTo>
                <a:cubicBezTo>
                  <a:pt x="247" y="13"/>
                  <a:pt x="243" y="47"/>
                  <a:pt x="250" y="86"/>
                </a:cubicBezTo>
                <a:cubicBezTo>
                  <a:pt x="267" y="183"/>
                  <a:pt x="272" y="284"/>
                  <a:pt x="301" y="378"/>
                </a:cubicBezTo>
                <a:cubicBezTo>
                  <a:pt x="309" y="482"/>
                  <a:pt x="319" y="587"/>
                  <a:pt x="344" y="688"/>
                </a:cubicBezTo>
                <a:cubicBezTo>
                  <a:pt x="353" y="725"/>
                  <a:pt x="359" y="761"/>
                  <a:pt x="396" y="774"/>
                </a:cubicBezTo>
                <a:cubicBezTo>
                  <a:pt x="443" y="758"/>
                  <a:pt x="442" y="722"/>
                  <a:pt x="456" y="679"/>
                </a:cubicBezTo>
                <a:cubicBezTo>
                  <a:pt x="469" y="639"/>
                  <a:pt x="480" y="599"/>
                  <a:pt x="490" y="559"/>
                </a:cubicBezTo>
                <a:cubicBezTo>
                  <a:pt x="496" y="535"/>
                  <a:pt x="501" y="477"/>
                  <a:pt x="516" y="455"/>
                </a:cubicBezTo>
                <a:cubicBezTo>
                  <a:pt x="526" y="440"/>
                  <a:pt x="553" y="435"/>
                  <a:pt x="568" y="430"/>
                </a:cubicBezTo>
                <a:cubicBezTo>
                  <a:pt x="576" y="433"/>
                  <a:pt x="593" y="438"/>
                  <a:pt x="593" y="4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9436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08440" y="148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15238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2080" y="339408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c waves (or Fourier transforms of transient wa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0760" y="4343400"/>
          <a:ext cx="812304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4343400"/>
                    <a:ext cx="81230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3818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36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068560" y="2743200"/>
          <a:ext cx="38844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8560" y="2743200"/>
                    <a:ext cx="388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666880" y="609480"/>
          <a:ext cx="3802320" cy="18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609480"/>
                    <a:ext cx="38023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510720" y="411480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D plane wave traveling in the +x-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81080" y="3505320"/>
          <a:ext cx="417060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05320"/>
                    <a:ext cx="41706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30640" y="1522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" y="2708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99280" y="3622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9160" y="468936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perposition of plan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895480" y="457200"/>
          <a:ext cx="175284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"/>
                    <a:ext cx="17528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03320" y="1143000"/>
          <a:ext cx="465156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1143000"/>
                    <a:ext cx="46515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603080" y="1981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938320" y="2036880"/>
          <a:ext cx="15130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8320" y="2036880"/>
                    <a:ext cx="1513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128240" y="49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1040" y="1260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2631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93840" y="3429000"/>
          <a:ext cx="4935600" cy="7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3840" y="3429000"/>
                    <a:ext cx="49356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822240" y="438480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we can always synthesize a traveling plane wave pulse with a superposition of harmonic plane wa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21:44:57Z</dcterms:created>
  <dc:creator>lschmerr</dc:creator>
  <dc:description/>
  <dc:language>en-US</dc:language>
  <cp:lastModifiedBy>Lester Schmerr</cp:lastModifiedBy>
  <dcterms:modified xsi:type="dcterms:W3CDTF">2006-12-19T21:18:05Z</dcterms:modified>
  <cp:revision>41</cp:revision>
  <dc:subject/>
  <dc:title>PowerPoint Presentation</dc:title>
</cp:coreProperties>
</file>