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101.wmf" ContentType="image/x-wmf"/>
  <Override PartName="/ppt/media/image79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EE4-6AFA-46F0-922C-95FEED0C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10F-62A3-4A1A-8A03-11A68743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CE1-EC51-43EE-A8EA-669C93C2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E6A-0247-4DAA-AFF4-12636C8E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176-7D43-4813-B914-C34081C2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53A-8F25-458F-886E-524F26CF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757-1B8C-476C-A451-E98CFD13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187-EF98-4C16-83B3-7EF68DFC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E32-6E17-4410-BD8C-47409FA6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1DA-B2A7-47A5-B7A9-76150ADA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578-438A-405E-8C8D-FA0F972A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C46-49E8-4403-99BA-8C7A8755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7D68-CBC3-4414-A068-282E3F422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4.wmf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9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0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8.wmf"/><Relationship Id="rId1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49600" y="342900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 Beams and Transducer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1295280" y="990720"/>
          <a:ext cx="308628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30862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527840" y="38088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xial Wav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10920" y="2322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9480" y="25909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789360" y="2540160"/>
          <a:ext cx="80496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2540160"/>
                    <a:ext cx="8049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099480" y="365760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ical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739960" y="3346560"/>
          <a:ext cx="2346480" cy="90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9960" y="3346560"/>
                    <a:ext cx="234648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6099120" y="51814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ussian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27040" y="4761000"/>
          <a:ext cx="4592880" cy="105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27040" y="4761000"/>
                    <a:ext cx="45928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724280" y="1143000"/>
          <a:ext cx="344988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1143000"/>
                    <a:ext cx="3449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286000" y="1752480"/>
          <a:ext cx="370512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52480"/>
                    <a:ext cx="37051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876920" y="2971800"/>
          <a:ext cx="214920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971800"/>
                    <a:ext cx="21492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681560" y="60948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form of the Gaussian beam common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981080" y="3200400"/>
          <a:ext cx="167652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200400"/>
                    <a:ext cx="16765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79880" y="533520"/>
            <a:ext cx="63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ussian beam amplitudes obey the plane wav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378240" y="1069920"/>
          <a:ext cx="16254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8240" y="1069920"/>
                    <a:ext cx="1625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138400" y="3886200"/>
          <a:ext cx="408456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8400" y="3886200"/>
                    <a:ext cx="40845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254320" y="2362320"/>
          <a:ext cx="3768480" cy="8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54320" y="2362320"/>
                    <a:ext cx="37684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 flipV="1">
            <a:off x="411480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49440" y="161136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ity, not ra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58000" y="2590920"/>
          <a:ext cx="137160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2590920"/>
                    <a:ext cx="1371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2590920" y="1219320"/>
          <a:ext cx="792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792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6172200" y="1295280"/>
          <a:ext cx="892080" cy="4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1295280"/>
                    <a:ext cx="8920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7621560" y="2514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2497320" y="2172240"/>
            <a:ext cx="1123920" cy="63324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4631040" y="2178720"/>
            <a:ext cx="1123920" cy="63324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rot="16200000">
            <a:off x="3564720" y="2161440"/>
            <a:ext cx="1123920" cy="6336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60560" y="24861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24908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4440" y="24908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048120" y="2643120"/>
          <a:ext cx="37296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643120"/>
                    <a:ext cx="3729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817800" y="2643120"/>
          <a:ext cx="397080" cy="47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7800" y="2643120"/>
                    <a:ext cx="3970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5021280" y="2719440"/>
          <a:ext cx="355680" cy="4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1280" y="2719440"/>
                    <a:ext cx="3556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666880" y="2490840"/>
            <a:ext cx="472464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543560" y="135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30880" y="971640"/>
          <a:ext cx="30636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30880" y="971640"/>
                    <a:ext cx="306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543560" y="1739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3471800">
            <a:off x="4487040" y="1215720"/>
            <a:ext cx="3012120" cy="276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380880"/>
            <a:ext cx="673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on and Transmission at a Spherical Interface of radius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124000" y="4038480"/>
          <a:ext cx="4516560" cy="2576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24000" y="4038480"/>
                    <a:ext cx="451656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238880" y="5181480"/>
          <a:ext cx="99072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8880" y="5181480"/>
                    <a:ext cx="990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 flipH="1" flipV="1">
            <a:off x="4876920" y="1676520"/>
            <a:ext cx="1676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638680" y="1752480"/>
          <a:ext cx="330480" cy="395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38680" y="1752480"/>
                    <a:ext cx="3304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660680" y="468360"/>
            <a:ext cx="64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tudes are related through plane wave reflec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ransmission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438280" y="1295280"/>
          <a:ext cx="373392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95280"/>
                    <a:ext cx="37339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2662560" y="3200400"/>
            <a:ext cx="32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terms are rela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276720" y="3809880"/>
          <a:ext cx="327636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09880"/>
                    <a:ext cx="327636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531720" y="396252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ted 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8400" y="50292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ed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352680" y="4800600"/>
          <a:ext cx="2286000" cy="8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4800600"/>
                    <a:ext cx="22860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 flipV="1">
            <a:off x="449568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87320" y="60310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 o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2080" y="468360"/>
            <a:ext cx="702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/reflection laws in terms of beam widths and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ront curv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2819520" y="1600200"/>
          <a:ext cx="289548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600200"/>
                    <a:ext cx="28954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14600" y="2590920"/>
          <a:ext cx="3733920" cy="17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590920"/>
                    <a:ext cx="3733920" cy="17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 rot="13471800">
            <a:off x="2554920" y="942480"/>
            <a:ext cx="3012480" cy="27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79680" y="19051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8900000">
            <a:off x="1737360" y="2565000"/>
            <a:ext cx="2285280" cy="228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85" y="2397"/>
                </a:moveTo>
                <a:arcTo wR="10800" hR="10800" stAng="-3064770" swAng="3064770"/>
                <a:lnTo>
                  <a:pt x="10800" y="10800"/>
                </a:lnTo>
                <a:close/>
              </a:path>
              <a:path fill="none" w="21600" h="21600">
                <a:moveTo>
                  <a:pt x="17585" y="2397"/>
                </a:moveTo>
                <a:arcTo wR="10800" hR="10800" stAng="-3064770" swAng="3064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 rot="2700000">
            <a:off x="1701360" y="-425520"/>
            <a:ext cx="2285280" cy="228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85" y="2397"/>
                </a:moveTo>
                <a:arcTo wR="10800" hR="10800" stAng="-3064770" swAng="3064770"/>
                <a:lnTo>
                  <a:pt x="10800" y="10800"/>
                </a:lnTo>
                <a:close/>
              </a:path>
              <a:path fill="none" w="21600" h="21600">
                <a:moveTo>
                  <a:pt x="17585" y="2397"/>
                </a:moveTo>
                <a:arcTo wR="10800" hR="10800" stAng="-3064770" swAng="3064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2875200">
            <a:off x="1506960" y="1382400"/>
            <a:ext cx="16740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1"/>
                </a:moveTo>
                <a:arcTo wR="10800" hR="10800" stAng="-4338780" swAng="2807444"/>
                <a:lnTo>
                  <a:pt x="10800" y="10800"/>
                </a:lnTo>
                <a:close/>
              </a:path>
              <a:path fill="none" w="21600" h="21600">
                <a:moveTo>
                  <a:pt x="14081" y="511"/>
                </a:moveTo>
                <a:arcTo wR="10800" hR="10800" stAng="-4338780" swAng="2807444"/>
              </a:path>
            </a:pathLst>
          </a:cu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2875200">
            <a:off x="1913040" y="1360440"/>
            <a:ext cx="16740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17" y="122"/>
                </a:moveTo>
                <a:arcTo wR="10800" hR="10800" stAng="-4883193" swAng="4075702"/>
                <a:lnTo>
                  <a:pt x="10800" y="10800"/>
                </a:lnTo>
                <a:close/>
              </a:path>
              <a:path fill="none" w="21600" h="21600">
                <a:moveTo>
                  <a:pt x="12417" y="122"/>
                </a:moveTo>
                <a:arcTo wR="10800" hR="10800" stAng="-4883193" swAng="4075702"/>
              </a:path>
            </a:pathLst>
          </a:cu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rot="8128200">
            <a:off x="-132840" y="3256920"/>
            <a:ext cx="3012120" cy="276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2480040" y="4683600"/>
            <a:ext cx="228528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47" y="62"/>
                </a:moveTo>
                <a:arcTo wR="10800" hR="10800" stAng="-5767675" swAng="5268542"/>
                <a:lnTo>
                  <a:pt x="10800" y="10800"/>
                </a:lnTo>
                <a:close/>
              </a:path>
              <a:path fill="none" w="21600" h="21600">
                <a:moveTo>
                  <a:pt x="9647" y="62"/>
                </a:moveTo>
                <a:arcTo wR="10800" hR="10800" stAng="-5767675" swAng="526854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 rot="2575800">
            <a:off x="2525760" y="2191320"/>
            <a:ext cx="22842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04" y="7"/>
                </a:moveTo>
                <a:arcTo wR="10800" hR="10800" stAng="-5526059" swAng="4848822"/>
                <a:lnTo>
                  <a:pt x="10800" y="10800"/>
                </a:lnTo>
                <a:close/>
              </a:path>
              <a:path fill="none" w="21600" h="21600">
                <a:moveTo>
                  <a:pt x="10404" y="7"/>
                </a:moveTo>
                <a:arcTo wR="10800" hR="10800" stAng="-5526059" swAng="484882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rot="18724800">
            <a:off x="3025440" y="3931560"/>
            <a:ext cx="1263600" cy="128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07" y="620"/>
                </a:moveTo>
                <a:arcTo wR="10800" hR="10800" stAng="-4229529" swAng="2592232"/>
                <a:lnTo>
                  <a:pt x="10800" y="10800"/>
                </a:lnTo>
                <a:close/>
              </a:path>
              <a:path fill="none" w="21600" h="21600">
                <a:moveTo>
                  <a:pt x="14407" y="620"/>
                </a:moveTo>
                <a:arcTo wR="10800" hR="10800" stAng="-4229529" swAng="2592232"/>
              </a:path>
            </a:pathLst>
          </a:cu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52680" y="4572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rot="18724800">
            <a:off x="3193200" y="3749040"/>
            <a:ext cx="1675800" cy="167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5" y="1288"/>
                </a:moveTo>
                <a:arcTo wR="10800" hR="10800" stAng="-3704016" swAng="1488329"/>
                <a:lnTo>
                  <a:pt x="10800" y="10800"/>
                </a:lnTo>
                <a:close/>
              </a:path>
              <a:path fill="none" w="21600" h="21600">
                <a:moveTo>
                  <a:pt x="15915" y="1288"/>
                </a:moveTo>
                <a:arcTo wR="10800" hR="10800" stAng="-3704016" swAng="1488329"/>
              </a:path>
            </a:pathLst>
          </a:cu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841400" y="1057320"/>
          <a:ext cx="717480" cy="4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1057320"/>
                    <a:ext cx="7174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3200400" y="1042920"/>
          <a:ext cx="81108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042920"/>
                    <a:ext cx="81108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1727280" y="3720960"/>
          <a:ext cx="64440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7280" y="3720960"/>
                    <a:ext cx="6444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089160" y="3652920"/>
          <a:ext cx="828720" cy="46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89160" y="3652920"/>
                    <a:ext cx="82872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2896560" y="3352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9600" y="54799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296800" y="1852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298240" y="2579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62120" y="417348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51160" y="455436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379240" y="412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346480" y="50943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21337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54000" y="168768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ocusing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82960" y="412596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ing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315200" y="1676520"/>
          <a:ext cx="99072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1676520"/>
                    <a:ext cx="9907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315200" y="4114800"/>
          <a:ext cx="990720" cy="4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5200" y="4114800"/>
                    <a:ext cx="9907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048120" y="3200400"/>
          <a:ext cx="5333760" cy="85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200400"/>
                    <a:ext cx="53337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762120" y="4267080"/>
          <a:ext cx="7543800" cy="8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67080"/>
                    <a:ext cx="75438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505320" y="533520"/>
          <a:ext cx="7920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33520"/>
                    <a:ext cx="792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715000" y="609480"/>
          <a:ext cx="89208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609480"/>
                    <a:ext cx="8920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rot="5400000">
            <a:off x="3844080" y="1365840"/>
            <a:ext cx="1123920" cy="6336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5400000">
            <a:off x="5558040" y="1383480"/>
            <a:ext cx="1123920" cy="63324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8480" y="1679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24520" y="1662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657600" y="2362320"/>
          <a:ext cx="104616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362320"/>
                    <a:ext cx="10461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019920" y="2286000"/>
          <a:ext cx="1143000" cy="50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2286000"/>
                    <a:ext cx="11430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 flipV="1">
            <a:off x="1828800" y="1676520"/>
            <a:ext cx="531180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821120" y="547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708440" y="165240"/>
          <a:ext cx="30636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08440" y="165240"/>
                    <a:ext cx="306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 flipH="1">
            <a:off x="4800240" y="933480"/>
            <a:ext cx="20520" cy="15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3471800">
            <a:off x="4764600" y="408960"/>
            <a:ext cx="3012480" cy="276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971800" y="990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066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164360" y="17524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971800" y="2280960"/>
            <a:ext cx="1060560" cy="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038480" y="1066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2769480" y="1388160"/>
            <a:ext cx="1123920" cy="6336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3200400" y="2362320"/>
          <a:ext cx="263520" cy="39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00400" y="2362320"/>
                    <a:ext cx="263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246640" y="2286000"/>
          <a:ext cx="285840" cy="395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46640" y="2286000"/>
                    <a:ext cx="285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4876920" y="1295280"/>
          <a:ext cx="307800" cy="39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1295280"/>
                    <a:ext cx="3078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419720" y="5334120"/>
          <a:ext cx="3047760" cy="110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19720" y="5334120"/>
                    <a:ext cx="304776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1523880" y="5486400"/>
          <a:ext cx="228600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23880" y="5486400"/>
                    <a:ext cx="228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2592360" y="1295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582480" y="3429000"/>
          <a:ext cx="2035440" cy="457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2480" y="3429000"/>
                    <a:ext cx="2035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 rot="5400000">
            <a:off x="3030840" y="1643760"/>
            <a:ext cx="1123920" cy="63324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48320" y="11700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76720" y="2617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48320" y="277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2922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3809880" y="2998800"/>
          <a:ext cx="2541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998800"/>
                    <a:ext cx="254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 rot="5400000">
            <a:off x="5007960" y="1697760"/>
            <a:ext cx="1226880" cy="53352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196704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269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292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4867200" y="2998800"/>
          <a:ext cx="2746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2998800"/>
                    <a:ext cx="274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3676680" y="958680"/>
          <a:ext cx="647640" cy="3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6680" y="958680"/>
                    <a:ext cx="6476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5011560" y="993600"/>
          <a:ext cx="673200" cy="3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11560" y="993600"/>
                    <a:ext cx="6732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2879640" y="163440"/>
            <a:ext cx="41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ian beam transmitted through a plana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190520" y="3581280"/>
          <a:ext cx="676296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0520" y="3581280"/>
                    <a:ext cx="676296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3505320" y="4876920"/>
          <a:ext cx="1600200" cy="85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4876920"/>
                    <a:ext cx="16002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 rot="5400000">
            <a:off x="2021400" y="1480320"/>
            <a:ext cx="1397160" cy="7920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57600" y="10825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10825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86440" y="10825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5400000">
            <a:off x="5450400" y="1480320"/>
            <a:ext cx="1397160" cy="7920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188424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09760" y="14619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324160" y="297648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57600" y="297648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97648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86440" y="297648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324160" y="316692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166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16692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53160" y="1557360"/>
            <a:ext cx="0" cy="85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753160" y="297648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86440" y="316692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2895480" y="3166920"/>
          <a:ext cx="33048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166920"/>
                    <a:ext cx="3304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3929040" y="3166920"/>
          <a:ext cx="35712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9040" y="3166920"/>
                    <a:ext cx="3571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4514760" y="3166920"/>
          <a:ext cx="33012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166920"/>
                    <a:ext cx="3301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262480" y="3166920"/>
          <a:ext cx="357120" cy="4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2480" y="3166920"/>
                    <a:ext cx="3571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2800440" y="609480"/>
          <a:ext cx="627120" cy="38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00440" y="609480"/>
                    <a:ext cx="627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3624120" y="609480"/>
          <a:ext cx="685800" cy="38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24120" y="609480"/>
                    <a:ext cx="6858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427640" y="609480"/>
          <a:ext cx="668160" cy="382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27640" y="609480"/>
                    <a:ext cx="668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5246640" y="609480"/>
          <a:ext cx="68760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46640" y="609480"/>
                    <a:ext cx="6876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 rot="13520400">
            <a:off x="3665520" y="941760"/>
            <a:ext cx="1891440" cy="190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rot="8079600">
            <a:off x="1560240" y="429840"/>
            <a:ext cx="2873160" cy="285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60" y="308"/>
                </a:moveTo>
                <a:arcTo wR="10800" hR="10800" stAng="-4577163" swAng="3485938"/>
                <a:lnTo>
                  <a:pt x="10800" y="10800"/>
                </a:lnTo>
                <a:close/>
              </a:path>
              <a:path fill="none" w="21600" h="21600">
                <a:moveTo>
                  <a:pt x="13360" y="308"/>
                </a:moveTo>
                <a:arcTo wR="10800" hR="10800" stAng="-4577163" swAng="3485938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13520400">
            <a:off x="5096160" y="890640"/>
            <a:ext cx="1894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336760" y="1887480"/>
            <a:ext cx="32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19680" y="188604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10160" y="188604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65760" y="1887480"/>
            <a:ext cx="32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523880" y="4227480"/>
          <a:ext cx="5867640" cy="1774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3880" y="4227480"/>
                    <a:ext cx="58676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2419560" y="163440"/>
            <a:ext cx="40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ian beams in multipl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0680" y="905040"/>
            <a:ext cx="7210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Gaussian B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ion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/Reflection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Gaussian Beam Models for Ultrasonic Trans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276720" y="1066680"/>
          <a:ext cx="220968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066680"/>
                    <a:ext cx="2209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657600" y="2286000"/>
          <a:ext cx="4038480" cy="12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286000"/>
                    <a:ext cx="40384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3657600" y="4267080"/>
          <a:ext cx="3124080" cy="11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4267080"/>
                    <a:ext cx="31240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608760" y="106668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8760" y="247176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1760" y="449568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282400" y="304920"/>
            <a:ext cx="38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 Matrix Forms of the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276720" y="912960"/>
          <a:ext cx="175248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912960"/>
                    <a:ext cx="17524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495680" y="2362320"/>
          <a:ext cx="236232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362320"/>
                    <a:ext cx="236232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4419720" y="3505320"/>
          <a:ext cx="4190760" cy="13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505320"/>
                    <a:ext cx="419076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4572000" y="5334120"/>
          <a:ext cx="2590920" cy="118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334120"/>
                    <a:ext cx="259092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1141920" y="243828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52280" y="384336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94920" y="586728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295280" y="1143000"/>
          <a:ext cx="6782040" cy="14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678204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2419560" y="163440"/>
            <a:ext cx="40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ian beams in multipl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2514600" y="2666880"/>
          <a:ext cx="175248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666880"/>
                    <a:ext cx="17524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152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4952880" y="2743200"/>
          <a:ext cx="152424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743200"/>
                    <a:ext cx="15242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219320" y="4724280"/>
          <a:ext cx="6781680" cy="84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4724280"/>
                    <a:ext cx="678168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"/>
          <p:cNvSpPr/>
          <p:nvPr/>
        </p:nvSpPr>
        <p:spPr>
          <a:xfrm flipV="1">
            <a:off x="3809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63280" y="3733920"/>
            <a:ext cx="301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or ref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2664000" y="236232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ian beam in single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371600" y="2666880"/>
          <a:ext cx="6305400" cy="22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666880"/>
                    <a:ext cx="6305400" cy="22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1371600" y="838080"/>
          <a:ext cx="6781680" cy="14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838080"/>
                    <a:ext cx="678168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3429000" y="5257800"/>
          <a:ext cx="2295360" cy="8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5257800"/>
                    <a:ext cx="229536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1514520" y="304920"/>
            <a:ext cx="623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ian beam after propagating through M+1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588400" y="38088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Gaussian Beam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149560" y="1969920"/>
            <a:ext cx="1143000" cy="762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96920" y="2274840"/>
            <a:ext cx="152640" cy="1522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92560" y="1969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92560" y="2122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92560" y="22748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92560" y="2427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92560" y="25797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92560" y="2732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597120" y="1969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898640" y="1295280"/>
            <a:ext cx="530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lar piston transducer radiating into a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3354840" y="3960000"/>
            <a:ext cx="1397160" cy="7920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733920" y="1905120"/>
          <a:ext cx="296064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05120"/>
                    <a:ext cx="29606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2362320" y="3962520"/>
            <a:ext cx="1143000" cy="7617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267080"/>
            <a:ext cx="152640" cy="15264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792160" y="4195800"/>
            <a:ext cx="2311200" cy="4284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114800" y="3733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29960" y="34401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en Gauss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27320" y="1914480"/>
            <a:ext cx="658800" cy="432000"/>
          </a:xfrm>
          <a:custGeom>
            <a:avLst/>
            <a:gdLst/>
            <a:ahLst/>
            <a:rect l="l" t="t" r="r" b="b"/>
            <a:pathLst>
              <a:path w="415" h="272">
                <a:moveTo>
                  <a:pt x="415" y="260"/>
                </a:moveTo>
                <a:cubicBezTo>
                  <a:pt x="366" y="272"/>
                  <a:pt x="315" y="269"/>
                  <a:pt x="267" y="253"/>
                </a:cubicBezTo>
                <a:cubicBezTo>
                  <a:pt x="262" y="246"/>
                  <a:pt x="259" y="237"/>
                  <a:pt x="253" y="231"/>
                </a:cubicBezTo>
                <a:cubicBezTo>
                  <a:pt x="247" y="225"/>
                  <a:pt x="236" y="225"/>
                  <a:pt x="232" y="217"/>
                </a:cubicBezTo>
                <a:cubicBezTo>
                  <a:pt x="212" y="176"/>
                  <a:pt x="220" y="103"/>
                  <a:pt x="183" y="70"/>
                </a:cubicBezTo>
                <a:cubicBezTo>
                  <a:pt x="133" y="26"/>
                  <a:pt x="65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31800" y="3897360"/>
            <a:ext cx="658800" cy="431640"/>
          </a:xfrm>
          <a:custGeom>
            <a:avLst/>
            <a:gdLst/>
            <a:ahLst/>
            <a:rect l="l" t="t" r="r" b="b"/>
            <a:pathLst>
              <a:path w="415" h="272">
                <a:moveTo>
                  <a:pt x="415" y="260"/>
                </a:moveTo>
                <a:cubicBezTo>
                  <a:pt x="366" y="272"/>
                  <a:pt x="315" y="269"/>
                  <a:pt x="267" y="253"/>
                </a:cubicBezTo>
                <a:cubicBezTo>
                  <a:pt x="262" y="246"/>
                  <a:pt x="259" y="237"/>
                  <a:pt x="253" y="231"/>
                </a:cubicBezTo>
                <a:cubicBezTo>
                  <a:pt x="247" y="225"/>
                  <a:pt x="236" y="225"/>
                  <a:pt x="232" y="217"/>
                </a:cubicBezTo>
                <a:cubicBezTo>
                  <a:pt x="212" y="176"/>
                  <a:pt x="220" y="103"/>
                  <a:pt x="183" y="70"/>
                </a:cubicBezTo>
                <a:cubicBezTo>
                  <a:pt x="133" y="26"/>
                  <a:pt x="65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432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895480" y="1980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39720" y="205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114800" y="5029200"/>
          <a:ext cx="32004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5029200"/>
                    <a:ext cx="3200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 rot="5400000">
            <a:off x="3659760" y="1216800"/>
            <a:ext cx="1397160" cy="7920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66880" y="1219320"/>
            <a:ext cx="1143000" cy="7617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14600" y="1523880"/>
            <a:ext cx="152280" cy="15264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3096720" y="1452240"/>
            <a:ext cx="2311200" cy="42876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419720" y="990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934880" y="6969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en Gauss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905120" y="2895480"/>
          <a:ext cx="556416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55641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352680" y="4114800"/>
          <a:ext cx="2248200" cy="12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114800"/>
                    <a:ext cx="224820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1839960" y="1174680"/>
            <a:ext cx="658800" cy="432000"/>
          </a:xfrm>
          <a:custGeom>
            <a:avLst/>
            <a:gdLst/>
            <a:ahLst/>
            <a:rect l="l" t="t" r="r" b="b"/>
            <a:pathLst>
              <a:path w="415" h="272">
                <a:moveTo>
                  <a:pt x="415" y="260"/>
                </a:moveTo>
                <a:cubicBezTo>
                  <a:pt x="366" y="272"/>
                  <a:pt x="315" y="269"/>
                  <a:pt x="267" y="253"/>
                </a:cubicBezTo>
                <a:cubicBezTo>
                  <a:pt x="262" y="246"/>
                  <a:pt x="259" y="237"/>
                  <a:pt x="253" y="231"/>
                </a:cubicBezTo>
                <a:cubicBezTo>
                  <a:pt x="247" y="225"/>
                  <a:pt x="236" y="225"/>
                  <a:pt x="232" y="217"/>
                </a:cubicBezTo>
                <a:cubicBezTo>
                  <a:pt x="212" y="176"/>
                  <a:pt x="220" y="103"/>
                  <a:pt x="183" y="70"/>
                </a:cubicBezTo>
                <a:cubicBezTo>
                  <a:pt x="133" y="26"/>
                  <a:pt x="65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232640" y="339840"/>
            <a:ext cx="66805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[a, b] = gauss_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  gauss_c returns the coefficients developed by Wen and Breazeale to model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  piston transdu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= zeros(10,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zeros(10,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(1) = 11.428 + 0.95175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(2) = 0.06002 - 0.08013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(3) = -4.2743 - 8.5562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(4) = 1.6576 +2.7015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(5) = -5.0418 + 3.2488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(6) = 1.1227 - 0.68854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(7) = -1.0106 - 0.26955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(8) = -2.5974 + 3.2202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(9) = -0.14840 -0.31193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(10) = -0.20850 - 0.23851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1) = 4.0697 + 0.22726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2) = 1.1531 - 20.933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3) = 4.4608 + 5.1268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4) = 4.3521 +14.997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5) = 4.5443 + 10.003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6) = 3.8478 + 20.078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7) = 2.5280 -10.310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8) = 3.3197 - 4.8008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9) = 1.9002 - 15.820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10) = 2.6340 + 25.009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33520" y="4267080"/>
          <a:ext cx="807696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267080"/>
                    <a:ext cx="807696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2357640" y="457200"/>
            <a:ext cx="46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Gaussian beam model of a pis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ducer in multipl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86200" y="17524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48320" y="17683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15040" y="17683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362320" y="257004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52760" y="366228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366228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48320" y="366228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315040" y="366228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52760" y="385272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86200" y="385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48320" y="385272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81760" y="2243160"/>
            <a:ext cx="0" cy="85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81760" y="366228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315040" y="385272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3124080" y="3852720"/>
          <a:ext cx="33048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852720"/>
                    <a:ext cx="3304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157640" y="3852720"/>
          <a:ext cx="35712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7640" y="3852720"/>
                    <a:ext cx="3571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4743360" y="3852720"/>
          <a:ext cx="330120" cy="4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43360" y="3852720"/>
                    <a:ext cx="3301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5491080" y="3852720"/>
          <a:ext cx="357120" cy="49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1080" y="3852720"/>
                    <a:ext cx="3571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3029040" y="1295280"/>
          <a:ext cx="627120" cy="38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1295280"/>
                    <a:ext cx="627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3852720" y="1295280"/>
          <a:ext cx="685800" cy="382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52720" y="1295280"/>
                    <a:ext cx="6858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4656240" y="1295280"/>
          <a:ext cx="66816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56240" y="1295280"/>
                    <a:ext cx="668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5475240" y="1295280"/>
          <a:ext cx="687600" cy="38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75240" y="1295280"/>
                    <a:ext cx="6876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 rot="13520400">
            <a:off x="3894120" y="1627560"/>
            <a:ext cx="1891440" cy="190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rot="8079600">
            <a:off x="1788840" y="1115640"/>
            <a:ext cx="2873160" cy="285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60" y="308"/>
                </a:moveTo>
                <a:arcTo wR="10800" hR="10800" stAng="-4577163" swAng="3485938"/>
                <a:lnTo>
                  <a:pt x="10800" y="10800"/>
                </a:lnTo>
                <a:close/>
              </a:path>
              <a:path fill="none" w="21600" h="21600">
                <a:moveTo>
                  <a:pt x="13360" y="308"/>
                </a:moveTo>
                <a:arcTo wR="10800" hR="10800" stAng="-4577163" swAng="3485938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13520400">
            <a:off x="5324760" y="1576440"/>
            <a:ext cx="1894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148280" y="257184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838760" y="257184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94360" y="2573280"/>
            <a:ext cx="32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06520" y="2178000"/>
            <a:ext cx="1143000" cy="762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254240" y="2482920"/>
            <a:ext cx="152280" cy="1522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9600" y="2141640"/>
            <a:ext cx="658800" cy="431640"/>
          </a:xfrm>
          <a:custGeom>
            <a:avLst/>
            <a:gdLst/>
            <a:ahLst/>
            <a:rect l="l" t="t" r="r" b="b"/>
            <a:pathLst>
              <a:path w="415" h="272">
                <a:moveTo>
                  <a:pt x="415" y="260"/>
                </a:moveTo>
                <a:cubicBezTo>
                  <a:pt x="366" y="272"/>
                  <a:pt x="315" y="269"/>
                  <a:pt x="267" y="253"/>
                </a:cubicBezTo>
                <a:cubicBezTo>
                  <a:pt x="262" y="246"/>
                  <a:pt x="259" y="237"/>
                  <a:pt x="253" y="231"/>
                </a:cubicBezTo>
                <a:cubicBezTo>
                  <a:pt x="247" y="225"/>
                  <a:pt x="236" y="225"/>
                  <a:pt x="232" y="217"/>
                </a:cubicBezTo>
                <a:cubicBezTo>
                  <a:pt x="212" y="176"/>
                  <a:pt x="220" y="103"/>
                  <a:pt x="183" y="70"/>
                </a:cubicBezTo>
                <a:cubicBezTo>
                  <a:pt x="133" y="26"/>
                  <a:pt x="65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43040" y="18381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719440" y="392040"/>
            <a:ext cx="451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Gaussian beam model f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herically focused circular trans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3126240" y="2054880"/>
            <a:ext cx="1397160" cy="7920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33720" y="2057400"/>
            <a:ext cx="1143000" cy="762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981080" y="2362320"/>
            <a:ext cx="152640" cy="1522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657240" y="18288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401360" y="15350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en Gauss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303200" y="1992240"/>
            <a:ext cx="658800" cy="432000"/>
          </a:xfrm>
          <a:custGeom>
            <a:avLst/>
            <a:gdLst/>
            <a:ahLst/>
            <a:rect l="l" t="t" r="r" b="b"/>
            <a:pathLst>
              <a:path w="415" h="272">
                <a:moveTo>
                  <a:pt x="415" y="260"/>
                </a:moveTo>
                <a:cubicBezTo>
                  <a:pt x="366" y="272"/>
                  <a:pt x="315" y="269"/>
                  <a:pt x="267" y="253"/>
                </a:cubicBezTo>
                <a:cubicBezTo>
                  <a:pt x="262" y="246"/>
                  <a:pt x="259" y="237"/>
                  <a:pt x="253" y="231"/>
                </a:cubicBezTo>
                <a:cubicBezTo>
                  <a:pt x="247" y="225"/>
                  <a:pt x="236" y="225"/>
                  <a:pt x="232" y="217"/>
                </a:cubicBezTo>
                <a:cubicBezTo>
                  <a:pt x="212" y="176"/>
                  <a:pt x="220" y="103"/>
                  <a:pt x="183" y="70"/>
                </a:cubicBezTo>
                <a:cubicBezTo>
                  <a:pt x="133" y="26"/>
                  <a:pt x="65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2719440" y="3657600"/>
          <a:ext cx="5003640" cy="15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3657600"/>
                    <a:ext cx="50036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 rot="13519200">
            <a:off x="3177360" y="1650600"/>
            <a:ext cx="1523880" cy="152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40" y="235"/>
                </a:moveTo>
                <a:arcTo wR="10800" hR="10800" stAng="-4681642" swAng="3685412"/>
                <a:lnTo>
                  <a:pt x="10800" y="10800"/>
                </a:lnTo>
                <a:close/>
              </a:path>
              <a:path fill="none" w="21600" h="21600">
                <a:moveTo>
                  <a:pt x="13040" y="235"/>
                </a:moveTo>
                <a:arcTo wR="10800" hR="10800" stAng="-4681642" swAng="3685412"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00400" y="2438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276720" y="2057400"/>
            <a:ext cx="1904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3276720" y="2437920"/>
            <a:ext cx="1904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405320" y="2604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5909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51460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210760" y="213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743200" y="5562720"/>
          <a:ext cx="190512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5562720"/>
                    <a:ext cx="1905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 rot="5400000">
            <a:off x="2563560" y="2290680"/>
            <a:ext cx="2311560" cy="4284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2360160" y="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LAB multi- Gaussian Beam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057400" y="2362320"/>
          <a:ext cx="792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362320"/>
                    <a:ext cx="792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6019920" y="2209680"/>
          <a:ext cx="892080" cy="4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209680"/>
                    <a:ext cx="8920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"/>
          <p:cNvSpPr/>
          <p:nvPr/>
        </p:nvSpPr>
        <p:spPr>
          <a:xfrm flipV="1">
            <a:off x="1828800" y="1676520"/>
            <a:ext cx="531180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821120" y="547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800240" y="933480"/>
            <a:ext cx="20520" cy="15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3471800">
            <a:off x="4764600" y="408960"/>
            <a:ext cx="3012480" cy="276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066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164360" y="17524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9548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8006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809880" y="2286000"/>
          <a:ext cx="2635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2286000"/>
                    <a:ext cx="263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5246640" y="2286000"/>
          <a:ext cx="28584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46640" y="2286000"/>
                    <a:ext cx="285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"/>
          <p:cNvSpPr/>
          <p:nvPr/>
        </p:nvSpPr>
        <p:spPr>
          <a:xfrm>
            <a:off x="1905120" y="1295280"/>
            <a:ext cx="1143000" cy="762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752480" y="1600200"/>
            <a:ext cx="152640" cy="1522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074600" y="1230480"/>
            <a:ext cx="658800" cy="431640"/>
          </a:xfrm>
          <a:custGeom>
            <a:avLst/>
            <a:gdLst/>
            <a:ahLst/>
            <a:rect l="l" t="t" r="r" b="b"/>
            <a:pathLst>
              <a:path w="415" h="272">
                <a:moveTo>
                  <a:pt x="415" y="260"/>
                </a:moveTo>
                <a:cubicBezTo>
                  <a:pt x="366" y="272"/>
                  <a:pt x="315" y="269"/>
                  <a:pt x="267" y="253"/>
                </a:cubicBezTo>
                <a:cubicBezTo>
                  <a:pt x="262" y="246"/>
                  <a:pt x="259" y="237"/>
                  <a:pt x="253" y="231"/>
                </a:cubicBezTo>
                <a:cubicBezTo>
                  <a:pt x="247" y="225"/>
                  <a:pt x="236" y="225"/>
                  <a:pt x="232" y="217"/>
                </a:cubicBezTo>
                <a:cubicBezTo>
                  <a:pt x="212" y="176"/>
                  <a:pt x="220" y="103"/>
                  <a:pt x="183" y="70"/>
                </a:cubicBezTo>
                <a:cubicBezTo>
                  <a:pt x="133" y="26"/>
                  <a:pt x="65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362320" y="129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82160" y="1371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3519200">
            <a:off x="2923560" y="889920"/>
            <a:ext cx="1523880" cy="152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40" y="235"/>
                </a:moveTo>
                <a:arcTo wR="10800" hR="10800" stAng="-4681642" swAng="3685412"/>
                <a:lnTo>
                  <a:pt x="10800" y="10800"/>
                </a:lnTo>
                <a:close/>
              </a:path>
              <a:path fill="none" w="21600" h="21600">
                <a:moveTo>
                  <a:pt x="13040" y="235"/>
                </a:moveTo>
                <a:arcTo wR="10800" hR="10800" stAng="-4681642" swAng="3685412"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2971800" y="13712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278160" y="1143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5105160" y="91404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5181480" y="1143000"/>
          <a:ext cx="33048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1143000"/>
                    <a:ext cx="3304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2916360" y="10238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400800" y="1066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5867280" y="685800"/>
          <a:ext cx="297036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685800"/>
                    <a:ext cx="29703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6095880" y="91440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14400" y="411480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MGB_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This script calculates the norm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pressure, p/p0, due to a planar piston transducer radiating at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incidence through a spherically curved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This is a multi-Gaussian beam model that uses the 10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 of Wen and Breazeale to calculate the wave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2760" y="3124080"/>
            <a:ext cx="799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me delay factor                                 is not included in thi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3292560" y="3112920"/>
          <a:ext cx="2057400" cy="471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92560" y="3112920"/>
                    <a:ext cx="20574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52480" y="762120"/>
            <a:ext cx="0" cy="1371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447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7180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27880" y="12193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22800" y="1652760"/>
          <a:ext cx="2682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0" y="1652760"/>
                    <a:ext cx="2682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590920"/>
            <a:ext cx="2666880" cy="2666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51920" y="449568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ical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49680" y="3581280"/>
          <a:ext cx="240516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3581280"/>
                    <a:ext cx="24051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 flipV="1">
            <a:off x="3200400" y="25909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4495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599840" y="2590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920" y="47242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8720" y="152280"/>
            <a:ext cx="465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Waves as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2283840" y="22860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LAB multi- Gaussian Beam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480" y="83808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get inpu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%frequency  (MH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6.3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% transducer radiu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 = in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% transducer focal length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1 = 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% path length in medium 1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2 = linspace(6, 125, 200);         % path length in medium 2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0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% distance from ray axis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0 = in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% interface radius of curvature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1 = 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% density, medium 1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 =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% density, medium 2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1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% wave speed, medium 1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% wave speed, medium 2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810360" y="5268960"/>
            <a:ext cx="739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parameters are for a ½ inch diameter, 5 MHz pla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ton transducer radiating into water (no interface). The on-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values from 6 to 125 mm are being sou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2283840" y="22860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LAB multi- Gaussian Beam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04920" y="1447920"/>
            <a:ext cx="883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get Wen and Breazeale coefficients 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, B] = gauss_c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transmission coefficient (base on pressure rat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(2*c2*d2)/(c1*d1+c2*d2);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1/R0;                                                      % interface curv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r = eps*(f == 0) + 1000*pi*(a^2)*f./c1;      % "Rayleigh" distance, ka^2/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1 = 2*pi*1000*f./c1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% wave number in medium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283840" y="22860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LAB multi- Gaussian Beam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60280" y="790560"/>
            <a:ext cx="8763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initialize  pressure to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multi-Gaussian beam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 j = 1:10      % form up multi-Gaussian beam model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10 Wen and Breazeale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B(j) + i*zr./Fl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modify coefficients for focused p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= z1 - i*zr./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q.*(1 -(c1/c2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(1 +K.*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R = q./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1./(ZR +(c2/c1).*z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 = A(j)./(1 + (i.*b./zr).*z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2 = t1.*T.*ZR.*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p + t2.*exp(i.*(k1./2).*m.*(r.^2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4191120" y="2590920"/>
            <a:ext cx="412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91120" y="2590920"/>
            <a:ext cx="4125960" cy="32464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191120" y="2590920"/>
            <a:ext cx="1440" cy="324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91120" y="5837400"/>
            <a:ext cx="412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4191120" y="2590920"/>
            <a:ext cx="1440" cy="324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4191120" y="578916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191120" y="25909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61960" y="5865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780080" y="578916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780080" y="25909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12760" y="5865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5370480" y="578916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70480" y="25909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03520" y="5865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5959440" y="578916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959440" y="25909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892480" y="5865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6548400" y="578916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548400" y="25909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81440" y="5865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7137360" y="578916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137360" y="25909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041600" y="58658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7726320" y="578916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726320" y="25909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632000" y="58658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8317080" y="578916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317080" y="25909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220960" y="58658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191120" y="5837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8268840" y="583740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086000" y="5761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191120" y="51814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8268840" y="5181480"/>
            <a:ext cx="47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980880" y="51069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191120" y="45370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8268840" y="453708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086000" y="4460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191120" y="38815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8268840" y="388152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980880" y="3807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91120" y="32367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8268840" y="3236760"/>
            <a:ext cx="47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86000" y="3160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191120" y="25909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8268840" y="259092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980880" y="2514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191120" y="2590920"/>
            <a:ext cx="1440" cy="324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362480" y="3218040"/>
            <a:ext cx="2243160" cy="2562120"/>
          </a:xfrm>
          <a:custGeom>
            <a:avLst/>
            <a:gdLst/>
            <a:ahLst/>
            <a:rect l="l" t="t" r="r" b="b"/>
            <a:pathLst>
              <a:path w="1413" h="1614">
                <a:moveTo>
                  <a:pt x="0" y="873"/>
                </a:moveTo>
                <a:lnTo>
                  <a:pt x="12" y="867"/>
                </a:lnTo>
                <a:lnTo>
                  <a:pt x="24" y="861"/>
                </a:lnTo>
                <a:lnTo>
                  <a:pt x="36" y="849"/>
                </a:lnTo>
                <a:lnTo>
                  <a:pt x="48" y="837"/>
                </a:lnTo>
                <a:lnTo>
                  <a:pt x="54" y="819"/>
                </a:lnTo>
                <a:lnTo>
                  <a:pt x="66" y="801"/>
                </a:lnTo>
                <a:lnTo>
                  <a:pt x="78" y="783"/>
                </a:lnTo>
                <a:lnTo>
                  <a:pt x="90" y="771"/>
                </a:lnTo>
                <a:lnTo>
                  <a:pt x="102" y="753"/>
                </a:lnTo>
                <a:lnTo>
                  <a:pt x="114" y="741"/>
                </a:lnTo>
                <a:lnTo>
                  <a:pt x="120" y="741"/>
                </a:lnTo>
                <a:lnTo>
                  <a:pt x="132" y="753"/>
                </a:lnTo>
                <a:lnTo>
                  <a:pt x="144" y="795"/>
                </a:lnTo>
                <a:lnTo>
                  <a:pt x="156" y="885"/>
                </a:lnTo>
                <a:lnTo>
                  <a:pt x="168" y="1040"/>
                </a:lnTo>
                <a:lnTo>
                  <a:pt x="179" y="1297"/>
                </a:lnTo>
                <a:lnTo>
                  <a:pt x="191" y="1453"/>
                </a:lnTo>
                <a:lnTo>
                  <a:pt x="197" y="962"/>
                </a:lnTo>
                <a:lnTo>
                  <a:pt x="209" y="454"/>
                </a:lnTo>
                <a:lnTo>
                  <a:pt x="221" y="131"/>
                </a:lnTo>
                <a:lnTo>
                  <a:pt x="233" y="30"/>
                </a:lnTo>
                <a:lnTo>
                  <a:pt x="245" y="102"/>
                </a:lnTo>
                <a:lnTo>
                  <a:pt x="257" y="293"/>
                </a:lnTo>
                <a:lnTo>
                  <a:pt x="269" y="592"/>
                </a:lnTo>
                <a:lnTo>
                  <a:pt x="275" y="956"/>
                </a:lnTo>
                <a:lnTo>
                  <a:pt x="287" y="1351"/>
                </a:lnTo>
                <a:lnTo>
                  <a:pt x="299" y="1542"/>
                </a:lnTo>
                <a:lnTo>
                  <a:pt x="311" y="1166"/>
                </a:lnTo>
                <a:lnTo>
                  <a:pt x="323" y="837"/>
                </a:lnTo>
                <a:lnTo>
                  <a:pt x="335" y="562"/>
                </a:lnTo>
                <a:lnTo>
                  <a:pt x="347" y="341"/>
                </a:lnTo>
                <a:lnTo>
                  <a:pt x="353" y="179"/>
                </a:lnTo>
                <a:lnTo>
                  <a:pt x="365" y="78"/>
                </a:lnTo>
                <a:lnTo>
                  <a:pt x="377" y="24"/>
                </a:lnTo>
                <a:lnTo>
                  <a:pt x="389" y="24"/>
                </a:lnTo>
                <a:lnTo>
                  <a:pt x="401" y="60"/>
                </a:lnTo>
                <a:lnTo>
                  <a:pt x="413" y="143"/>
                </a:lnTo>
                <a:lnTo>
                  <a:pt x="425" y="251"/>
                </a:lnTo>
                <a:lnTo>
                  <a:pt x="431" y="394"/>
                </a:lnTo>
                <a:lnTo>
                  <a:pt x="443" y="550"/>
                </a:lnTo>
                <a:lnTo>
                  <a:pt x="455" y="723"/>
                </a:lnTo>
                <a:lnTo>
                  <a:pt x="467" y="903"/>
                </a:lnTo>
                <a:lnTo>
                  <a:pt x="479" y="1088"/>
                </a:lnTo>
                <a:lnTo>
                  <a:pt x="491" y="1273"/>
                </a:lnTo>
                <a:lnTo>
                  <a:pt x="503" y="1459"/>
                </a:lnTo>
                <a:lnTo>
                  <a:pt x="509" y="1608"/>
                </a:lnTo>
                <a:lnTo>
                  <a:pt x="521" y="1477"/>
                </a:lnTo>
                <a:lnTo>
                  <a:pt x="533" y="1309"/>
                </a:lnTo>
                <a:lnTo>
                  <a:pt x="545" y="1154"/>
                </a:lnTo>
                <a:lnTo>
                  <a:pt x="557" y="1004"/>
                </a:lnTo>
                <a:lnTo>
                  <a:pt x="569" y="867"/>
                </a:lnTo>
                <a:lnTo>
                  <a:pt x="575" y="735"/>
                </a:lnTo>
                <a:lnTo>
                  <a:pt x="587" y="622"/>
                </a:lnTo>
                <a:lnTo>
                  <a:pt x="599" y="514"/>
                </a:lnTo>
                <a:lnTo>
                  <a:pt x="611" y="418"/>
                </a:lnTo>
                <a:lnTo>
                  <a:pt x="623" y="335"/>
                </a:lnTo>
                <a:lnTo>
                  <a:pt x="635" y="263"/>
                </a:lnTo>
                <a:lnTo>
                  <a:pt x="647" y="197"/>
                </a:lnTo>
                <a:lnTo>
                  <a:pt x="653" y="143"/>
                </a:lnTo>
                <a:lnTo>
                  <a:pt x="664" y="96"/>
                </a:lnTo>
                <a:lnTo>
                  <a:pt x="676" y="60"/>
                </a:lnTo>
                <a:lnTo>
                  <a:pt x="688" y="36"/>
                </a:lnTo>
                <a:lnTo>
                  <a:pt x="700" y="18"/>
                </a:lnTo>
                <a:lnTo>
                  <a:pt x="712" y="6"/>
                </a:lnTo>
                <a:lnTo>
                  <a:pt x="724" y="0"/>
                </a:lnTo>
                <a:lnTo>
                  <a:pt x="730" y="0"/>
                </a:lnTo>
                <a:lnTo>
                  <a:pt x="742" y="12"/>
                </a:lnTo>
                <a:lnTo>
                  <a:pt x="754" y="24"/>
                </a:lnTo>
                <a:lnTo>
                  <a:pt x="766" y="42"/>
                </a:lnTo>
                <a:lnTo>
                  <a:pt x="778" y="66"/>
                </a:lnTo>
                <a:lnTo>
                  <a:pt x="790" y="90"/>
                </a:lnTo>
                <a:lnTo>
                  <a:pt x="802" y="119"/>
                </a:lnTo>
                <a:lnTo>
                  <a:pt x="808" y="155"/>
                </a:lnTo>
                <a:lnTo>
                  <a:pt x="820" y="191"/>
                </a:lnTo>
                <a:lnTo>
                  <a:pt x="832" y="233"/>
                </a:lnTo>
                <a:lnTo>
                  <a:pt x="844" y="275"/>
                </a:lnTo>
                <a:lnTo>
                  <a:pt x="856" y="317"/>
                </a:lnTo>
                <a:lnTo>
                  <a:pt x="868" y="365"/>
                </a:lnTo>
                <a:lnTo>
                  <a:pt x="880" y="412"/>
                </a:lnTo>
                <a:lnTo>
                  <a:pt x="886" y="460"/>
                </a:lnTo>
                <a:lnTo>
                  <a:pt x="898" y="508"/>
                </a:lnTo>
                <a:lnTo>
                  <a:pt x="910" y="562"/>
                </a:lnTo>
                <a:lnTo>
                  <a:pt x="922" y="610"/>
                </a:lnTo>
                <a:lnTo>
                  <a:pt x="934" y="664"/>
                </a:lnTo>
                <a:lnTo>
                  <a:pt x="946" y="717"/>
                </a:lnTo>
                <a:lnTo>
                  <a:pt x="958" y="771"/>
                </a:lnTo>
                <a:lnTo>
                  <a:pt x="964" y="819"/>
                </a:lnTo>
                <a:lnTo>
                  <a:pt x="976" y="873"/>
                </a:lnTo>
                <a:lnTo>
                  <a:pt x="988" y="927"/>
                </a:lnTo>
                <a:lnTo>
                  <a:pt x="1000" y="980"/>
                </a:lnTo>
                <a:lnTo>
                  <a:pt x="1012" y="1034"/>
                </a:lnTo>
                <a:lnTo>
                  <a:pt x="1024" y="1082"/>
                </a:lnTo>
                <a:lnTo>
                  <a:pt x="1036" y="1136"/>
                </a:lnTo>
                <a:lnTo>
                  <a:pt x="1042" y="1190"/>
                </a:lnTo>
                <a:lnTo>
                  <a:pt x="1054" y="1237"/>
                </a:lnTo>
                <a:lnTo>
                  <a:pt x="1066" y="1291"/>
                </a:lnTo>
                <a:lnTo>
                  <a:pt x="1078" y="1339"/>
                </a:lnTo>
                <a:lnTo>
                  <a:pt x="1090" y="1387"/>
                </a:lnTo>
                <a:lnTo>
                  <a:pt x="1102" y="1435"/>
                </a:lnTo>
                <a:lnTo>
                  <a:pt x="1108" y="1483"/>
                </a:lnTo>
                <a:lnTo>
                  <a:pt x="1120" y="1530"/>
                </a:lnTo>
                <a:lnTo>
                  <a:pt x="1132" y="1578"/>
                </a:lnTo>
                <a:lnTo>
                  <a:pt x="1143" y="1614"/>
                </a:lnTo>
                <a:lnTo>
                  <a:pt x="1155" y="1614"/>
                </a:lnTo>
                <a:lnTo>
                  <a:pt x="1167" y="1578"/>
                </a:lnTo>
                <a:lnTo>
                  <a:pt x="1179" y="1536"/>
                </a:lnTo>
                <a:lnTo>
                  <a:pt x="1185" y="1495"/>
                </a:lnTo>
                <a:lnTo>
                  <a:pt x="1197" y="1453"/>
                </a:lnTo>
                <a:lnTo>
                  <a:pt x="1209" y="1411"/>
                </a:lnTo>
                <a:lnTo>
                  <a:pt x="1221" y="1369"/>
                </a:lnTo>
                <a:lnTo>
                  <a:pt x="1233" y="1333"/>
                </a:lnTo>
                <a:lnTo>
                  <a:pt x="1245" y="1291"/>
                </a:lnTo>
                <a:lnTo>
                  <a:pt x="1257" y="1255"/>
                </a:lnTo>
                <a:lnTo>
                  <a:pt x="1263" y="1220"/>
                </a:lnTo>
                <a:lnTo>
                  <a:pt x="1275" y="1184"/>
                </a:lnTo>
                <a:lnTo>
                  <a:pt x="1287" y="1148"/>
                </a:lnTo>
                <a:lnTo>
                  <a:pt x="1299" y="1112"/>
                </a:lnTo>
                <a:lnTo>
                  <a:pt x="1311" y="1076"/>
                </a:lnTo>
                <a:lnTo>
                  <a:pt x="1323" y="1046"/>
                </a:lnTo>
                <a:lnTo>
                  <a:pt x="1335" y="1010"/>
                </a:lnTo>
                <a:lnTo>
                  <a:pt x="1341" y="980"/>
                </a:lnTo>
                <a:lnTo>
                  <a:pt x="1353" y="950"/>
                </a:lnTo>
                <a:lnTo>
                  <a:pt x="1365" y="921"/>
                </a:lnTo>
                <a:lnTo>
                  <a:pt x="1377" y="891"/>
                </a:lnTo>
                <a:lnTo>
                  <a:pt x="1389" y="861"/>
                </a:lnTo>
                <a:lnTo>
                  <a:pt x="1401" y="837"/>
                </a:lnTo>
                <a:lnTo>
                  <a:pt x="1413" y="80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605640" y="3255840"/>
            <a:ext cx="1263600" cy="1243080"/>
          </a:xfrm>
          <a:custGeom>
            <a:avLst/>
            <a:gdLst/>
            <a:ahLst/>
            <a:rect l="l" t="t" r="r" b="b"/>
            <a:pathLst>
              <a:path w="796" h="783">
                <a:moveTo>
                  <a:pt x="0" y="783"/>
                </a:moveTo>
                <a:lnTo>
                  <a:pt x="6" y="759"/>
                </a:lnTo>
                <a:lnTo>
                  <a:pt x="18" y="729"/>
                </a:lnTo>
                <a:lnTo>
                  <a:pt x="30" y="705"/>
                </a:lnTo>
                <a:lnTo>
                  <a:pt x="42" y="681"/>
                </a:lnTo>
                <a:lnTo>
                  <a:pt x="54" y="657"/>
                </a:lnTo>
                <a:lnTo>
                  <a:pt x="66" y="634"/>
                </a:lnTo>
                <a:lnTo>
                  <a:pt x="78" y="610"/>
                </a:lnTo>
                <a:lnTo>
                  <a:pt x="84" y="592"/>
                </a:lnTo>
                <a:lnTo>
                  <a:pt x="96" y="568"/>
                </a:lnTo>
                <a:lnTo>
                  <a:pt x="108" y="550"/>
                </a:lnTo>
                <a:lnTo>
                  <a:pt x="120" y="526"/>
                </a:lnTo>
                <a:lnTo>
                  <a:pt x="132" y="508"/>
                </a:lnTo>
                <a:lnTo>
                  <a:pt x="144" y="490"/>
                </a:lnTo>
                <a:lnTo>
                  <a:pt x="150" y="472"/>
                </a:lnTo>
                <a:lnTo>
                  <a:pt x="162" y="454"/>
                </a:lnTo>
                <a:lnTo>
                  <a:pt x="174" y="436"/>
                </a:lnTo>
                <a:lnTo>
                  <a:pt x="186" y="418"/>
                </a:lnTo>
                <a:lnTo>
                  <a:pt x="198" y="400"/>
                </a:lnTo>
                <a:lnTo>
                  <a:pt x="209" y="388"/>
                </a:lnTo>
                <a:lnTo>
                  <a:pt x="221" y="370"/>
                </a:lnTo>
                <a:lnTo>
                  <a:pt x="227" y="359"/>
                </a:lnTo>
                <a:lnTo>
                  <a:pt x="239" y="341"/>
                </a:lnTo>
                <a:lnTo>
                  <a:pt x="251" y="329"/>
                </a:lnTo>
                <a:lnTo>
                  <a:pt x="263" y="317"/>
                </a:lnTo>
                <a:lnTo>
                  <a:pt x="275" y="299"/>
                </a:lnTo>
                <a:lnTo>
                  <a:pt x="287" y="287"/>
                </a:lnTo>
                <a:lnTo>
                  <a:pt x="299" y="275"/>
                </a:lnTo>
                <a:lnTo>
                  <a:pt x="305" y="263"/>
                </a:lnTo>
                <a:lnTo>
                  <a:pt x="317" y="251"/>
                </a:lnTo>
                <a:lnTo>
                  <a:pt x="329" y="239"/>
                </a:lnTo>
                <a:lnTo>
                  <a:pt x="341" y="227"/>
                </a:lnTo>
                <a:lnTo>
                  <a:pt x="353" y="221"/>
                </a:lnTo>
                <a:lnTo>
                  <a:pt x="365" y="209"/>
                </a:lnTo>
                <a:lnTo>
                  <a:pt x="377" y="197"/>
                </a:lnTo>
                <a:lnTo>
                  <a:pt x="383" y="191"/>
                </a:lnTo>
                <a:lnTo>
                  <a:pt x="395" y="179"/>
                </a:lnTo>
                <a:lnTo>
                  <a:pt x="407" y="173"/>
                </a:lnTo>
                <a:lnTo>
                  <a:pt x="419" y="161"/>
                </a:lnTo>
                <a:lnTo>
                  <a:pt x="431" y="155"/>
                </a:lnTo>
                <a:lnTo>
                  <a:pt x="443" y="143"/>
                </a:lnTo>
                <a:lnTo>
                  <a:pt x="455" y="137"/>
                </a:lnTo>
                <a:lnTo>
                  <a:pt x="461" y="131"/>
                </a:lnTo>
                <a:lnTo>
                  <a:pt x="473" y="125"/>
                </a:lnTo>
                <a:lnTo>
                  <a:pt x="485" y="113"/>
                </a:lnTo>
                <a:lnTo>
                  <a:pt x="497" y="107"/>
                </a:lnTo>
                <a:lnTo>
                  <a:pt x="509" y="101"/>
                </a:lnTo>
                <a:lnTo>
                  <a:pt x="521" y="95"/>
                </a:lnTo>
                <a:lnTo>
                  <a:pt x="533" y="89"/>
                </a:lnTo>
                <a:lnTo>
                  <a:pt x="539" y="84"/>
                </a:lnTo>
                <a:lnTo>
                  <a:pt x="551" y="78"/>
                </a:lnTo>
                <a:lnTo>
                  <a:pt x="563" y="72"/>
                </a:lnTo>
                <a:lnTo>
                  <a:pt x="575" y="66"/>
                </a:lnTo>
                <a:lnTo>
                  <a:pt x="587" y="66"/>
                </a:lnTo>
                <a:lnTo>
                  <a:pt x="599" y="60"/>
                </a:lnTo>
                <a:lnTo>
                  <a:pt x="605" y="54"/>
                </a:lnTo>
                <a:lnTo>
                  <a:pt x="617" y="48"/>
                </a:lnTo>
                <a:lnTo>
                  <a:pt x="629" y="48"/>
                </a:lnTo>
                <a:lnTo>
                  <a:pt x="641" y="42"/>
                </a:lnTo>
                <a:lnTo>
                  <a:pt x="653" y="36"/>
                </a:lnTo>
                <a:lnTo>
                  <a:pt x="665" y="36"/>
                </a:lnTo>
                <a:lnTo>
                  <a:pt x="677" y="30"/>
                </a:lnTo>
                <a:lnTo>
                  <a:pt x="682" y="30"/>
                </a:lnTo>
                <a:lnTo>
                  <a:pt x="694" y="24"/>
                </a:lnTo>
                <a:lnTo>
                  <a:pt x="706" y="24"/>
                </a:lnTo>
                <a:lnTo>
                  <a:pt x="718" y="18"/>
                </a:lnTo>
                <a:lnTo>
                  <a:pt x="730" y="18"/>
                </a:lnTo>
                <a:lnTo>
                  <a:pt x="742" y="12"/>
                </a:lnTo>
                <a:lnTo>
                  <a:pt x="754" y="12"/>
                </a:lnTo>
                <a:lnTo>
                  <a:pt x="760" y="6"/>
                </a:lnTo>
                <a:lnTo>
                  <a:pt x="772" y="6"/>
                </a:lnTo>
                <a:lnTo>
                  <a:pt x="784" y="6"/>
                </a:lnTo>
                <a:lnTo>
                  <a:pt x="79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73200" y="6027840"/>
            <a:ext cx="33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rot="16200000">
            <a:off x="3650040" y="414000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p|/|po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304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plot magnitude of on-axis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(z2, abs(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label('z-axi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label('|p|/|po|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3280" y="251460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 MGB_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1344960" y="316080"/>
            <a:ext cx="59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axis plot at z = 130 mm (near last max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1676520"/>
            <a:ext cx="8458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get inpu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frequency  (MH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6.3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transducer radiu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 = in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% transducer focal length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1 = 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% path length in medium 1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2 = 13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%  path length in medium 2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 =linspace(-10, 10, 200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% distance from ray axis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0 = in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interface radius of curvature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1 = 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% density, medium 1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 =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density, medium 2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1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wave speed, medium 1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wave speed, medium 2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380880" y="2286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plot magnitude of on-axis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lot(r, abs(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label('r-axi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label('|p|/|po|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31000" y="228600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 MGB_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665520" y="2589120"/>
            <a:ext cx="4125960" cy="32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65520" y="2589120"/>
            <a:ext cx="4125960" cy="3246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665520" y="2589120"/>
            <a:ext cx="412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65520" y="2589120"/>
            <a:ext cx="4125960" cy="32464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665520" y="2589120"/>
            <a:ext cx="1440" cy="324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65520" y="5835600"/>
            <a:ext cx="412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366552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6552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56040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07520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07520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008240" y="58644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8308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48308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16120" y="58644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90068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90068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35160" y="58644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31036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31036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243040" y="58644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727600" y="5788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727600" y="2589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988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13728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13728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0848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545160" y="5788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545160" y="2589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1636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964200" y="5788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964200" y="2589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354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737244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37244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4328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779148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79148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72452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665520" y="58356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7743960" y="583560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560400" y="575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665520" y="55040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743960" y="55040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455280" y="54277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665520" y="51800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7743960" y="51800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455280" y="51055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665520" y="48578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7743960" y="48578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455280" y="47815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665520" y="45356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7743960" y="45356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455280" y="4459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665520" y="42130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7743960" y="421308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560400" y="4137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665520" y="387972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7743960" y="387972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455280" y="3805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665520" y="355752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7743960" y="355752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455280" y="348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665520" y="3235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7743960" y="32353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455280" y="31590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65520" y="2913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743960" y="29131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455280" y="28368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65520" y="258912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7743960" y="258912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60400" y="2513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665520" y="2589120"/>
            <a:ext cx="2624040" cy="3019680"/>
          </a:xfrm>
          <a:custGeom>
            <a:avLst/>
            <a:gdLst/>
            <a:ahLst/>
            <a:rect l="l" t="t" r="r" b="b"/>
            <a:pathLst>
              <a:path w="1653" h="1902">
                <a:moveTo>
                  <a:pt x="0" y="1902"/>
                </a:moveTo>
                <a:lnTo>
                  <a:pt x="12" y="1902"/>
                </a:lnTo>
                <a:lnTo>
                  <a:pt x="24" y="1902"/>
                </a:lnTo>
                <a:lnTo>
                  <a:pt x="36" y="1902"/>
                </a:lnTo>
                <a:lnTo>
                  <a:pt x="48" y="1896"/>
                </a:lnTo>
                <a:lnTo>
                  <a:pt x="60" y="1884"/>
                </a:lnTo>
                <a:lnTo>
                  <a:pt x="78" y="1878"/>
                </a:lnTo>
                <a:lnTo>
                  <a:pt x="90" y="1860"/>
                </a:lnTo>
                <a:lnTo>
                  <a:pt x="102" y="1848"/>
                </a:lnTo>
                <a:lnTo>
                  <a:pt x="114" y="1830"/>
                </a:lnTo>
                <a:lnTo>
                  <a:pt x="126" y="1818"/>
                </a:lnTo>
                <a:lnTo>
                  <a:pt x="138" y="1800"/>
                </a:lnTo>
                <a:lnTo>
                  <a:pt x="156" y="1782"/>
                </a:lnTo>
                <a:lnTo>
                  <a:pt x="168" y="1764"/>
                </a:lnTo>
                <a:lnTo>
                  <a:pt x="180" y="1752"/>
                </a:lnTo>
                <a:lnTo>
                  <a:pt x="192" y="1734"/>
                </a:lnTo>
                <a:lnTo>
                  <a:pt x="204" y="1722"/>
                </a:lnTo>
                <a:lnTo>
                  <a:pt x="222" y="1710"/>
                </a:lnTo>
                <a:lnTo>
                  <a:pt x="234" y="1698"/>
                </a:lnTo>
                <a:lnTo>
                  <a:pt x="246" y="1686"/>
                </a:lnTo>
                <a:lnTo>
                  <a:pt x="258" y="1680"/>
                </a:lnTo>
                <a:lnTo>
                  <a:pt x="270" y="1674"/>
                </a:lnTo>
                <a:lnTo>
                  <a:pt x="282" y="1668"/>
                </a:lnTo>
                <a:lnTo>
                  <a:pt x="299" y="1662"/>
                </a:lnTo>
                <a:lnTo>
                  <a:pt x="311" y="1662"/>
                </a:lnTo>
                <a:lnTo>
                  <a:pt x="323" y="1662"/>
                </a:lnTo>
                <a:lnTo>
                  <a:pt x="335" y="1662"/>
                </a:lnTo>
                <a:lnTo>
                  <a:pt x="347" y="1668"/>
                </a:lnTo>
                <a:lnTo>
                  <a:pt x="365" y="1668"/>
                </a:lnTo>
                <a:lnTo>
                  <a:pt x="377" y="1674"/>
                </a:lnTo>
                <a:lnTo>
                  <a:pt x="389" y="1674"/>
                </a:lnTo>
                <a:lnTo>
                  <a:pt x="401" y="1680"/>
                </a:lnTo>
                <a:lnTo>
                  <a:pt x="413" y="1680"/>
                </a:lnTo>
                <a:lnTo>
                  <a:pt x="425" y="1680"/>
                </a:lnTo>
                <a:lnTo>
                  <a:pt x="443" y="1680"/>
                </a:lnTo>
                <a:lnTo>
                  <a:pt x="455" y="1674"/>
                </a:lnTo>
                <a:lnTo>
                  <a:pt x="467" y="1662"/>
                </a:lnTo>
                <a:lnTo>
                  <a:pt x="479" y="1650"/>
                </a:lnTo>
                <a:lnTo>
                  <a:pt x="491" y="1632"/>
                </a:lnTo>
                <a:lnTo>
                  <a:pt x="509" y="1615"/>
                </a:lnTo>
                <a:lnTo>
                  <a:pt x="521" y="1591"/>
                </a:lnTo>
                <a:lnTo>
                  <a:pt x="533" y="1567"/>
                </a:lnTo>
                <a:lnTo>
                  <a:pt x="545" y="1537"/>
                </a:lnTo>
                <a:lnTo>
                  <a:pt x="557" y="1507"/>
                </a:lnTo>
                <a:lnTo>
                  <a:pt x="569" y="1477"/>
                </a:lnTo>
                <a:lnTo>
                  <a:pt x="587" y="1441"/>
                </a:lnTo>
                <a:lnTo>
                  <a:pt x="599" y="1411"/>
                </a:lnTo>
                <a:lnTo>
                  <a:pt x="611" y="1381"/>
                </a:lnTo>
                <a:lnTo>
                  <a:pt x="623" y="1351"/>
                </a:lnTo>
                <a:lnTo>
                  <a:pt x="635" y="1322"/>
                </a:lnTo>
                <a:lnTo>
                  <a:pt x="653" y="1292"/>
                </a:lnTo>
                <a:lnTo>
                  <a:pt x="665" y="1262"/>
                </a:lnTo>
                <a:lnTo>
                  <a:pt x="677" y="1238"/>
                </a:lnTo>
                <a:lnTo>
                  <a:pt x="689" y="1214"/>
                </a:lnTo>
                <a:lnTo>
                  <a:pt x="701" y="1196"/>
                </a:lnTo>
                <a:lnTo>
                  <a:pt x="713" y="1178"/>
                </a:lnTo>
                <a:lnTo>
                  <a:pt x="731" y="1160"/>
                </a:lnTo>
                <a:lnTo>
                  <a:pt x="743" y="1148"/>
                </a:lnTo>
                <a:lnTo>
                  <a:pt x="755" y="1136"/>
                </a:lnTo>
                <a:lnTo>
                  <a:pt x="766" y="1130"/>
                </a:lnTo>
                <a:lnTo>
                  <a:pt x="778" y="1124"/>
                </a:lnTo>
                <a:lnTo>
                  <a:pt x="796" y="1118"/>
                </a:lnTo>
                <a:lnTo>
                  <a:pt x="808" y="1118"/>
                </a:lnTo>
                <a:lnTo>
                  <a:pt x="820" y="1118"/>
                </a:lnTo>
                <a:lnTo>
                  <a:pt x="832" y="1118"/>
                </a:lnTo>
                <a:lnTo>
                  <a:pt x="844" y="1118"/>
                </a:lnTo>
                <a:lnTo>
                  <a:pt x="856" y="1118"/>
                </a:lnTo>
                <a:lnTo>
                  <a:pt x="874" y="1118"/>
                </a:lnTo>
                <a:lnTo>
                  <a:pt x="886" y="1118"/>
                </a:lnTo>
                <a:lnTo>
                  <a:pt x="898" y="1112"/>
                </a:lnTo>
                <a:lnTo>
                  <a:pt x="910" y="1100"/>
                </a:lnTo>
                <a:lnTo>
                  <a:pt x="922" y="1088"/>
                </a:lnTo>
                <a:lnTo>
                  <a:pt x="940" y="1070"/>
                </a:lnTo>
                <a:lnTo>
                  <a:pt x="952" y="1053"/>
                </a:lnTo>
                <a:lnTo>
                  <a:pt x="964" y="1023"/>
                </a:lnTo>
                <a:lnTo>
                  <a:pt x="976" y="993"/>
                </a:lnTo>
                <a:lnTo>
                  <a:pt x="988" y="957"/>
                </a:lnTo>
                <a:lnTo>
                  <a:pt x="1000" y="915"/>
                </a:lnTo>
                <a:lnTo>
                  <a:pt x="1018" y="873"/>
                </a:lnTo>
                <a:lnTo>
                  <a:pt x="1030" y="825"/>
                </a:lnTo>
                <a:lnTo>
                  <a:pt x="1042" y="772"/>
                </a:lnTo>
                <a:lnTo>
                  <a:pt x="1054" y="718"/>
                </a:lnTo>
                <a:lnTo>
                  <a:pt x="1066" y="664"/>
                </a:lnTo>
                <a:lnTo>
                  <a:pt x="1084" y="604"/>
                </a:lnTo>
                <a:lnTo>
                  <a:pt x="1096" y="550"/>
                </a:lnTo>
                <a:lnTo>
                  <a:pt x="1108" y="491"/>
                </a:lnTo>
                <a:lnTo>
                  <a:pt x="1120" y="437"/>
                </a:lnTo>
                <a:lnTo>
                  <a:pt x="1132" y="383"/>
                </a:lnTo>
                <a:lnTo>
                  <a:pt x="1144" y="329"/>
                </a:lnTo>
                <a:lnTo>
                  <a:pt x="1162" y="281"/>
                </a:lnTo>
                <a:lnTo>
                  <a:pt x="1174" y="233"/>
                </a:lnTo>
                <a:lnTo>
                  <a:pt x="1186" y="192"/>
                </a:lnTo>
                <a:lnTo>
                  <a:pt x="1198" y="150"/>
                </a:lnTo>
                <a:lnTo>
                  <a:pt x="1210" y="114"/>
                </a:lnTo>
                <a:lnTo>
                  <a:pt x="1228" y="84"/>
                </a:lnTo>
                <a:lnTo>
                  <a:pt x="1240" y="54"/>
                </a:lnTo>
                <a:lnTo>
                  <a:pt x="1251" y="36"/>
                </a:lnTo>
                <a:lnTo>
                  <a:pt x="1263" y="18"/>
                </a:lnTo>
                <a:lnTo>
                  <a:pt x="1275" y="6"/>
                </a:lnTo>
                <a:lnTo>
                  <a:pt x="1287" y="0"/>
                </a:lnTo>
                <a:lnTo>
                  <a:pt x="1305" y="0"/>
                </a:lnTo>
                <a:lnTo>
                  <a:pt x="1317" y="6"/>
                </a:lnTo>
                <a:lnTo>
                  <a:pt x="1329" y="18"/>
                </a:lnTo>
                <a:lnTo>
                  <a:pt x="1341" y="36"/>
                </a:lnTo>
                <a:lnTo>
                  <a:pt x="1353" y="54"/>
                </a:lnTo>
                <a:lnTo>
                  <a:pt x="1365" y="84"/>
                </a:lnTo>
                <a:lnTo>
                  <a:pt x="1383" y="114"/>
                </a:lnTo>
                <a:lnTo>
                  <a:pt x="1395" y="150"/>
                </a:lnTo>
                <a:lnTo>
                  <a:pt x="1407" y="192"/>
                </a:lnTo>
                <a:lnTo>
                  <a:pt x="1419" y="233"/>
                </a:lnTo>
                <a:lnTo>
                  <a:pt x="1431" y="281"/>
                </a:lnTo>
                <a:lnTo>
                  <a:pt x="1449" y="329"/>
                </a:lnTo>
                <a:lnTo>
                  <a:pt x="1461" y="383"/>
                </a:lnTo>
                <a:lnTo>
                  <a:pt x="1473" y="437"/>
                </a:lnTo>
                <a:lnTo>
                  <a:pt x="1485" y="491"/>
                </a:lnTo>
                <a:lnTo>
                  <a:pt x="1497" y="550"/>
                </a:lnTo>
                <a:lnTo>
                  <a:pt x="1509" y="604"/>
                </a:lnTo>
                <a:lnTo>
                  <a:pt x="1527" y="664"/>
                </a:lnTo>
                <a:lnTo>
                  <a:pt x="1539" y="718"/>
                </a:lnTo>
                <a:lnTo>
                  <a:pt x="1551" y="772"/>
                </a:lnTo>
                <a:lnTo>
                  <a:pt x="1563" y="825"/>
                </a:lnTo>
                <a:lnTo>
                  <a:pt x="1575" y="873"/>
                </a:lnTo>
                <a:lnTo>
                  <a:pt x="1593" y="915"/>
                </a:lnTo>
                <a:lnTo>
                  <a:pt x="1605" y="957"/>
                </a:lnTo>
                <a:lnTo>
                  <a:pt x="1617" y="993"/>
                </a:lnTo>
                <a:lnTo>
                  <a:pt x="1629" y="1023"/>
                </a:lnTo>
                <a:lnTo>
                  <a:pt x="1641" y="1053"/>
                </a:lnTo>
                <a:lnTo>
                  <a:pt x="1653" y="107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289560" y="4287960"/>
            <a:ext cx="1501920" cy="1320840"/>
          </a:xfrm>
          <a:custGeom>
            <a:avLst/>
            <a:gdLst/>
            <a:ahLst/>
            <a:rect l="l" t="t" r="r" b="b"/>
            <a:pathLst>
              <a:path w="946" h="832">
                <a:moveTo>
                  <a:pt x="0" y="0"/>
                </a:moveTo>
                <a:lnTo>
                  <a:pt x="18" y="18"/>
                </a:lnTo>
                <a:lnTo>
                  <a:pt x="30" y="30"/>
                </a:lnTo>
                <a:lnTo>
                  <a:pt x="42" y="42"/>
                </a:lnTo>
                <a:lnTo>
                  <a:pt x="54" y="48"/>
                </a:lnTo>
                <a:lnTo>
                  <a:pt x="66" y="48"/>
                </a:lnTo>
                <a:lnTo>
                  <a:pt x="83" y="48"/>
                </a:lnTo>
                <a:lnTo>
                  <a:pt x="95" y="48"/>
                </a:lnTo>
                <a:lnTo>
                  <a:pt x="107" y="48"/>
                </a:lnTo>
                <a:lnTo>
                  <a:pt x="119" y="48"/>
                </a:lnTo>
                <a:lnTo>
                  <a:pt x="131" y="48"/>
                </a:lnTo>
                <a:lnTo>
                  <a:pt x="143" y="48"/>
                </a:lnTo>
                <a:lnTo>
                  <a:pt x="161" y="54"/>
                </a:lnTo>
                <a:lnTo>
                  <a:pt x="173" y="60"/>
                </a:lnTo>
                <a:lnTo>
                  <a:pt x="185" y="66"/>
                </a:lnTo>
                <a:lnTo>
                  <a:pt x="197" y="78"/>
                </a:lnTo>
                <a:lnTo>
                  <a:pt x="209" y="90"/>
                </a:lnTo>
                <a:lnTo>
                  <a:pt x="227" y="108"/>
                </a:lnTo>
                <a:lnTo>
                  <a:pt x="239" y="126"/>
                </a:lnTo>
                <a:lnTo>
                  <a:pt x="251" y="144"/>
                </a:lnTo>
                <a:lnTo>
                  <a:pt x="263" y="168"/>
                </a:lnTo>
                <a:lnTo>
                  <a:pt x="275" y="192"/>
                </a:lnTo>
                <a:lnTo>
                  <a:pt x="287" y="222"/>
                </a:lnTo>
                <a:lnTo>
                  <a:pt x="305" y="252"/>
                </a:lnTo>
                <a:lnTo>
                  <a:pt x="317" y="281"/>
                </a:lnTo>
                <a:lnTo>
                  <a:pt x="329" y="311"/>
                </a:lnTo>
                <a:lnTo>
                  <a:pt x="341" y="341"/>
                </a:lnTo>
                <a:lnTo>
                  <a:pt x="353" y="371"/>
                </a:lnTo>
                <a:lnTo>
                  <a:pt x="371" y="407"/>
                </a:lnTo>
                <a:lnTo>
                  <a:pt x="383" y="437"/>
                </a:lnTo>
                <a:lnTo>
                  <a:pt x="395" y="467"/>
                </a:lnTo>
                <a:lnTo>
                  <a:pt x="407" y="497"/>
                </a:lnTo>
                <a:lnTo>
                  <a:pt x="419" y="521"/>
                </a:lnTo>
                <a:lnTo>
                  <a:pt x="431" y="545"/>
                </a:lnTo>
                <a:lnTo>
                  <a:pt x="449" y="562"/>
                </a:lnTo>
                <a:lnTo>
                  <a:pt x="461" y="580"/>
                </a:lnTo>
                <a:lnTo>
                  <a:pt x="473" y="592"/>
                </a:lnTo>
                <a:lnTo>
                  <a:pt x="485" y="604"/>
                </a:lnTo>
                <a:lnTo>
                  <a:pt x="497" y="610"/>
                </a:lnTo>
                <a:lnTo>
                  <a:pt x="515" y="610"/>
                </a:lnTo>
                <a:lnTo>
                  <a:pt x="527" y="610"/>
                </a:lnTo>
                <a:lnTo>
                  <a:pt x="539" y="610"/>
                </a:lnTo>
                <a:lnTo>
                  <a:pt x="550" y="604"/>
                </a:lnTo>
                <a:lnTo>
                  <a:pt x="562" y="604"/>
                </a:lnTo>
                <a:lnTo>
                  <a:pt x="574" y="598"/>
                </a:lnTo>
                <a:lnTo>
                  <a:pt x="592" y="598"/>
                </a:lnTo>
                <a:lnTo>
                  <a:pt x="604" y="592"/>
                </a:lnTo>
                <a:lnTo>
                  <a:pt x="616" y="592"/>
                </a:lnTo>
                <a:lnTo>
                  <a:pt x="628" y="592"/>
                </a:lnTo>
                <a:lnTo>
                  <a:pt x="640" y="592"/>
                </a:lnTo>
                <a:lnTo>
                  <a:pt x="658" y="598"/>
                </a:lnTo>
                <a:lnTo>
                  <a:pt x="670" y="604"/>
                </a:lnTo>
                <a:lnTo>
                  <a:pt x="682" y="610"/>
                </a:lnTo>
                <a:lnTo>
                  <a:pt x="694" y="616"/>
                </a:lnTo>
                <a:lnTo>
                  <a:pt x="706" y="628"/>
                </a:lnTo>
                <a:lnTo>
                  <a:pt x="718" y="640"/>
                </a:lnTo>
                <a:lnTo>
                  <a:pt x="736" y="652"/>
                </a:lnTo>
                <a:lnTo>
                  <a:pt x="748" y="664"/>
                </a:lnTo>
                <a:lnTo>
                  <a:pt x="760" y="682"/>
                </a:lnTo>
                <a:lnTo>
                  <a:pt x="772" y="694"/>
                </a:lnTo>
                <a:lnTo>
                  <a:pt x="784" y="712"/>
                </a:lnTo>
                <a:lnTo>
                  <a:pt x="802" y="730"/>
                </a:lnTo>
                <a:lnTo>
                  <a:pt x="814" y="748"/>
                </a:lnTo>
                <a:lnTo>
                  <a:pt x="826" y="760"/>
                </a:lnTo>
                <a:lnTo>
                  <a:pt x="838" y="778"/>
                </a:lnTo>
                <a:lnTo>
                  <a:pt x="850" y="790"/>
                </a:lnTo>
                <a:lnTo>
                  <a:pt x="862" y="808"/>
                </a:lnTo>
                <a:lnTo>
                  <a:pt x="880" y="814"/>
                </a:lnTo>
                <a:lnTo>
                  <a:pt x="892" y="826"/>
                </a:lnTo>
                <a:lnTo>
                  <a:pt x="904" y="832"/>
                </a:lnTo>
                <a:lnTo>
                  <a:pt x="916" y="832"/>
                </a:lnTo>
                <a:lnTo>
                  <a:pt x="928" y="832"/>
                </a:lnTo>
                <a:lnTo>
                  <a:pt x="946" y="83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567760" y="602604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rot="16200000">
            <a:off x="3124800" y="413532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p|/|po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726200" y="468360"/>
            <a:ext cx="59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axis plot at z = 65 mm (near last on-axis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57200" y="1676520"/>
            <a:ext cx="8458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get inpu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frequency  (MH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6.3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transducer radiu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 = in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% transducer focal length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1 = 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% path length in medium 1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2 = 6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% path length in medium 2 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linspace(-10, 10, 200);   % distance from ray axis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0 = in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interface radius of curvature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1 = 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% density, medium 1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 =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density, medium 2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1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wave speed, medium 1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wave speed, medium 2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531000" y="228600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 MGB_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665520" y="2436840"/>
            <a:ext cx="4125960" cy="32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665520" y="2436840"/>
            <a:ext cx="4125960" cy="3246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665520" y="2436840"/>
            <a:ext cx="412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65520" y="2436840"/>
            <a:ext cx="4125960" cy="32464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3665520" y="2436840"/>
            <a:ext cx="1440" cy="324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665520" y="5683320"/>
            <a:ext cx="412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3665520" y="56358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665520" y="2436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560400" y="5711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075200" y="56358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075200" y="2436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008240" y="5711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483080" y="56358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483080" y="2436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16120" y="5711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4900680" y="56358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900680" y="2436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835160" y="5711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310360" y="56358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310360" y="2436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243040" y="5711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727600" y="56358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27600" y="24368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698800" y="5711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137280" y="56358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137280" y="2436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08480" y="5711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6545160" y="56358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45160" y="24368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516360" y="5711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964200" y="56358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964200" y="24368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935400" y="5711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372440" y="56358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372440" y="2436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343280" y="5711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791480" y="56358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791480" y="2436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724520" y="5711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5520" y="5683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7743960" y="56833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560400" y="5607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665520" y="52182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7743960" y="521820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455280" y="5141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65520" y="47530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7743960" y="475308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55280" y="4676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65520" y="42879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743960" y="428796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455280" y="4211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65520" y="38228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7743960" y="38228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455280" y="37465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665520" y="33577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743960" y="33577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560400" y="3281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665520" y="28926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7743960" y="289260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455280" y="2816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665520" y="24368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7743960" y="24368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455280" y="23605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665520" y="2570040"/>
            <a:ext cx="2624040" cy="2810160"/>
          </a:xfrm>
          <a:custGeom>
            <a:avLst/>
            <a:gdLst/>
            <a:ahLst/>
            <a:rect l="l" t="t" r="r" b="b"/>
            <a:pathLst>
              <a:path w="1653" h="1770">
                <a:moveTo>
                  <a:pt x="0" y="1728"/>
                </a:moveTo>
                <a:lnTo>
                  <a:pt x="12" y="1740"/>
                </a:lnTo>
                <a:lnTo>
                  <a:pt x="24" y="1752"/>
                </a:lnTo>
                <a:lnTo>
                  <a:pt x="36" y="1764"/>
                </a:lnTo>
                <a:lnTo>
                  <a:pt x="48" y="1770"/>
                </a:lnTo>
                <a:lnTo>
                  <a:pt x="60" y="1770"/>
                </a:lnTo>
                <a:lnTo>
                  <a:pt x="78" y="1764"/>
                </a:lnTo>
                <a:lnTo>
                  <a:pt x="90" y="1746"/>
                </a:lnTo>
                <a:lnTo>
                  <a:pt x="102" y="1716"/>
                </a:lnTo>
                <a:lnTo>
                  <a:pt x="114" y="1692"/>
                </a:lnTo>
                <a:lnTo>
                  <a:pt x="126" y="1662"/>
                </a:lnTo>
                <a:lnTo>
                  <a:pt x="138" y="1638"/>
                </a:lnTo>
                <a:lnTo>
                  <a:pt x="156" y="1620"/>
                </a:lnTo>
                <a:lnTo>
                  <a:pt x="168" y="1608"/>
                </a:lnTo>
                <a:lnTo>
                  <a:pt x="180" y="1602"/>
                </a:lnTo>
                <a:lnTo>
                  <a:pt x="192" y="1602"/>
                </a:lnTo>
                <a:lnTo>
                  <a:pt x="204" y="1608"/>
                </a:lnTo>
                <a:lnTo>
                  <a:pt x="222" y="1620"/>
                </a:lnTo>
                <a:lnTo>
                  <a:pt x="234" y="1632"/>
                </a:lnTo>
                <a:lnTo>
                  <a:pt x="246" y="1638"/>
                </a:lnTo>
                <a:lnTo>
                  <a:pt x="258" y="1644"/>
                </a:lnTo>
                <a:lnTo>
                  <a:pt x="270" y="1632"/>
                </a:lnTo>
                <a:lnTo>
                  <a:pt x="282" y="1614"/>
                </a:lnTo>
                <a:lnTo>
                  <a:pt x="299" y="1578"/>
                </a:lnTo>
                <a:lnTo>
                  <a:pt x="311" y="1542"/>
                </a:lnTo>
                <a:lnTo>
                  <a:pt x="323" y="1501"/>
                </a:lnTo>
                <a:lnTo>
                  <a:pt x="335" y="1459"/>
                </a:lnTo>
                <a:lnTo>
                  <a:pt x="347" y="1417"/>
                </a:lnTo>
                <a:lnTo>
                  <a:pt x="365" y="1387"/>
                </a:lnTo>
                <a:lnTo>
                  <a:pt x="377" y="1363"/>
                </a:lnTo>
                <a:lnTo>
                  <a:pt x="389" y="1345"/>
                </a:lnTo>
                <a:lnTo>
                  <a:pt x="401" y="1339"/>
                </a:lnTo>
                <a:lnTo>
                  <a:pt x="413" y="1339"/>
                </a:lnTo>
                <a:lnTo>
                  <a:pt x="425" y="1345"/>
                </a:lnTo>
                <a:lnTo>
                  <a:pt x="443" y="1351"/>
                </a:lnTo>
                <a:lnTo>
                  <a:pt x="455" y="1357"/>
                </a:lnTo>
                <a:lnTo>
                  <a:pt x="467" y="1357"/>
                </a:lnTo>
                <a:lnTo>
                  <a:pt x="479" y="1339"/>
                </a:lnTo>
                <a:lnTo>
                  <a:pt x="491" y="1309"/>
                </a:lnTo>
                <a:lnTo>
                  <a:pt x="509" y="1267"/>
                </a:lnTo>
                <a:lnTo>
                  <a:pt x="521" y="1220"/>
                </a:lnTo>
                <a:lnTo>
                  <a:pt x="533" y="1160"/>
                </a:lnTo>
                <a:lnTo>
                  <a:pt x="545" y="1094"/>
                </a:lnTo>
                <a:lnTo>
                  <a:pt x="557" y="1034"/>
                </a:lnTo>
                <a:lnTo>
                  <a:pt x="569" y="981"/>
                </a:lnTo>
                <a:lnTo>
                  <a:pt x="587" y="933"/>
                </a:lnTo>
                <a:lnTo>
                  <a:pt x="599" y="897"/>
                </a:lnTo>
                <a:lnTo>
                  <a:pt x="611" y="867"/>
                </a:lnTo>
                <a:lnTo>
                  <a:pt x="623" y="849"/>
                </a:lnTo>
                <a:lnTo>
                  <a:pt x="635" y="843"/>
                </a:lnTo>
                <a:lnTo>
                  <a:pt x="653" y="837"/>
                </a:lnTo>
                <a:lnTo>
                  <a:pt x="665" y="837"/>
                </a:lnTo>
                <a:lnTo>
                  <a:pt x="677" y="831"/>
                </a:lnTo>
                <a:lnTo>
                  <a:pt x="689" y="819"/>
                </a:lnTo>
                <a:lnTo>
                  <a:pt x="701" y="795"/>
                </a:lnTo>
                <a:lnTo>
                  <a:pt x="713" y="753"/>
                </a:lnTo>
                <a:lnTo>
                  <a:pt x="731" y="700"/>
                </a:lnTo>
                <a:lnTo>
                  <a:pt x="743" y="628"/>
                </a:lnTo>
                <a:lnTo>
                  <a:pt x="755" y="556"/>
                </a:lnTo>
                <a:lnTo>
                  <a:pt x="766" y="472"/>
                </a:lnTo>
                <a:lnTo>
                  <a:pt x="778" y="395"/>
                </a:lnTo>
                <a:lnTo>
                  <a:pt x="796" y="329"/>
                </a:lnTo>
                <a:lnTo>
                  <a:pt x="808" y="263"/>
                </a:lnTo>
                <a:lnTo>
                  <a:pt x="820" y="221"/>
                </a:lnTo>
                <a:lnTo>
                  <a:pt x="832" y="185"/>
                </a:lnTo>
                <a:lnTo>
                  <a:pt x="844" y="173"/>
                </a:lnTo>
                <a:lnTo>
                  <a:pt x="856" y="167"/>
                </a:lnTo>
                <a:lnTo>
                  <a:pt x="874" y="179"/>
                </a:lnTo>
                <a:lnTo>
                  <a:pt x="886" y="203"/>
                </a:lnTo>
                <a:lnTo>
                  <a:pt x="898" y="227"/>
                </a:lnTo>
                <a:lnTo>
                  <a:pt x="910" y="257"/>
                </a:lnTo>
                <a:lnTo>
                  <a:pt x="922" y="275"/>
                </a:lnTo>
                <a:lnTo>
                  <a:pt x="940" y="287"/>
                </a:lnTo>
                <a:lnTo>
                  <a:pt x="952" y="281"/>
                </a:lnTo>
                <a:lnTo>
                  <a:pt x="964" y="257"/>
                </a:lnTo>
                <a:lnTo>
                  <a:pt x="976" y="227"/>
                </a:lnTo>
                <a:lnTo>
                  <a:pt x="988" y="179"/>
                </a:lnTo>
                <a:lnTo>
                  <a:pt x="1000" y="132"/>
                </a:lnTo>
                <a:lnTo>
                  <a:pt x="1018" y="84"/>
                </a:lnTo>
                <a:lnTo>
                  <a:pt x="1030" y="42"/>
                </a:lnTo>
                <a:lnTo>
                  <a:pt x="1042" y="12"/>
                </a:lnTo>
                <a:lnTo>
                  <a:pt x="1054" y="0"/>
                </a:lnTo>
                <a:lnTo>
                  <a:pt x="1066" y="6"/>
                </a:lnTo>
                <a:lnTo>
                  <a:pt x="1084" y="42"/>
                </a:lnTo>
                <a:lnTo>
                  <a:pt x="1096" y="96"/>
                </a:lnTo>
                <a:lnTo>
                  <a:pt x="1108" y="173"/>
                </a:lnTo>
                <a:lnTo>
                  <a:pt x="1120" y="275"/>
                </a:lnTo>
                <a:lnTo>
                  <a:pt x="1132" y="395"/>
                </a:lnTo>
                <a:lnTo>
                  <a:pt x="1144" y="532"/>
                </a:lnTo>
                <a:lnTo>
                  <a:pt x="1162" y="682"/>
                </a:lnTo>
                <a:lnTo>
                  <a:pt x="1174" y="837"/>
                </a:lnTo>
                <a:lnTo>
                  <a:pt x="1186" y="992"/>
                </a:lnTo>
                <a:lnTo>
                  <a:pt x="1198" y="1142"/>
                </a:lnTo>
                <a:lnTo>
                  <a:pt x="1210" y="1273"/>
                </a:lnTo>
                <a:lnTo>
                  <a:pt x="1228" y="1387"/>
                </a:lnTo>
                <a:lnTo>
                  <a:pt x="1240" y="1471"/>
                </a:lnTo>
                <a:lnTo>
                  <a:pt x="1251" y="1525"/>
                </a:lnTo>
                <a:lnTo>
                  <a:pt x="1263" y="1548"/>
                </a:lnTo>
                <a:lnTo>
                  <a:pt x="1275" y="1554"/>
                </a:lnTo>
                <a:lnTo>
                  <a:pt x="1287" y="1554"/>
                </a:lnTo>
                <a:lnTo>
                  <a:pt x="1305" y="1554"/>
                </a:lnTo>
                <a:lnTo>
                  <a:pt x="1317" y="1554"/>
                </a:lnTo>
                <a:lnTo>
                  <a:pt x="1329" y="1548"/>
                </a:lnTo>
                <a:lnTo>
                  <a:pt x="1341" y="1525"/>
                </a:lnTo>
                <a:lnTo>
                  <a:pt x="1353" y="1471"/>
                </a:lnTo>
                <a:lnTo>
                  <a:pt x="1365" y="1387"/>
                </a:lnTo>
                <a:lnTo>
                  <a:pt x="1383" y="1273"/>
                </a:lnTo>
                <a:lnTo>
                  <a:pt x="1395" y="1142"/>
                </a:lnTo>
                <a:lnTo>
                  <a:pt x="1407" y="992"/>
                </a:lnTo>
                <a:lnTo>
                  <a:pt x="1419" y="837"/>
                </a:lnTo>
                <a:lnTo>
                  <a:pt x="1431" y="682"/>
                </a:lnTo>
                <a:lnTo>
                  <a:pt x="1449" y="532"/>
                </a:lnTo>
                <a:lnTo>
                  <a:pt x="1461" y="395"/>
                </a:lnTo>
                <a:lnTo>
                  <a:pt x="1473" y="275"/>
                </a:lnTo>
                <a:lnTo>
                  <a:pt x="1485" y="173"/>
                </a:lnTo>
                <a:lnTo>
                  <a:pt x="1497" y="96"/>
                </a:lnTo>
                <a:lnTo>
                  <a:pt x="1509" y="42"/>
                </a:lnTo>
                <a:lnTo>
                  <a:pt x="1527" y="6"/>
                </a:lnTo>
                <a:lnTo>
                  <a:pt x="1539" y="0"/>
                </a:lnTo>
                <a:lnTo>
                  <a:pt x="1551" y="12"/>
                </a:lnTo>
                <a:lnTo>
                  <a:pt x="1563" y="42"/>
                </a:lnTo>
                <a:lnTo>
                  <a:pt x="1575" y="84"/>
                </a:lnTo>
                <a:lnTo>
                  <a:pt x="1593" y="132"/>
                </a:lnTo>
                <a:lnTo>
                  <a:pt x="1605" y="179"/>
                </a:lnTo>
                <a:lnTo>
                  <a:pt x="1617" y="227"/>
                </a:lnTo>
                <a:lnTo>
                  <a:pt x="1629" y="257"/>
                </a:lnTo>
                <a:lnTo>
                  <a:pt x="1641" y="281"/>
                </a:lnTo>
                <a:lnTo>
                  <a:pt x="1653" y="28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289560" y="2835360"/>
            <a:ext cx="1501920" cy="2544840"/>
          </a:xfrm>
          <a:custGeom>
            <a:avLst/>
            <a:gdLst/>
            <a:ahLst/>
            <a:rect l="l" t="t" r="r" b="b"/>
            <a:pathLst>
              <a:path w="946" h="1603">
                <a:moveTo>
                  <a:pt x="0" y="120"/>
                </a:moveTo>
                <a:lnTo>
                  <a:pt x="18" y="108"/>
                </a:lnTo>
                <a:lnTo>
                  <a:pt x="30" y="90"/>
                </a:lnTo>
                <a:lnTo>
                  <a:pt x="42" y="60"/>
                </a:lnTo>
                <a:lnTo>
                  <a:pt x="54" y="36"/>
                </a:lnTo>
                <a:lnTo>
                  <a:pt x="66" y="12"/>
                </a:lnTo>
                <a:lnTo>
                  <a:pt x="83" y="0"/>
                </a:lnTo>
                <a:lnTo>
                  <a:pt x="95" y="6"/>
                </a:lnTo>
                <a:lnTo>
                  <a:pt x="107" y="18"/>
                </a:lnTo>
                <a:lnTo>
                  <a:pt x="119" y="54"/>
                </a:lnTo>
                <a:lnTo>
                  <a:pt x="131" y="96"/>
                </a:lnTo>
                <a:lnTo>
                  <a:pt x="143" y="162"/>
                </a:lnTo>
                <a:lnTo>
                  <a:pt x="161" y="228"/>
                </a:lnTo>
                <a:lnTo>
                  <a:pt x="173" y="305"/>
                </a:lnTo>
                <a:lnTo>
                  <a:pt x="185" y="389"/>
                </a:lnTo>
                <a:lnTo>
                  <a:pt x="197" y="461"/>
                </a:lnTo>
                <a:lnTo>
                  <a:pt x="209" y="533"/>
                </a:lnTo>
                <a:lnTo>
                  <a:pt x="227" y="586"/>
                </a:lnTo>
                <a:lnTo>
                  <a:pt x="239" y="628"/>
                </a:lnTo>
                <a:lnTo>
                  <a:pt x="251" y="652"/>
                </a:lnTo>
                <a:lnTo>
                  <a:pt x="263" y="664"/>
                </a:lnTo>
                <a:lnTo>
                  <a:pt x="275" y="670"/>
                </a:lnTo>
                <a:lnTo>
                  <a:pt x="287" y="670"/>
                </a:lnTo>
                <a:lnTo>
                  <a:pt x="305" y="676"/>
                </a:lnTo>
                <a:lnTo>
                  <a:pt x="317" y="682"/>
                </a:lnTo>
                <a:lnTo>
                  <a:pt x="329" y="700"/>
                </a:lnTo>
                <a:lnTo>
                  <a:pt x="341" y="730"/>
                </a:lnTo>
                <a:lnTo>
                  <a:pt x="353" y="766"/>
                </a:lnTo>
                <a:lnTo>
                  <a:pt x="371" y="814"/>
                </a:lnTo>
                <a:lnTo>
                  <a:pt x="383" y="867"/>
                </a:lnTo>
                <a:lnTo>
                  <a:pt x="395" y="927"/>
                </a:lnTo>
                <a:lnTo>
                  <a:pt x="407" y="993"/>
                </a:lnTo>
                <a:lnTo>
                  <a:pt x="419" y="1053"/>
                </a:lnTo>
                <a:lnTo>
                  <a:pt x="431" y="1100"/>
                </a:lnTo>
                <a:lnTo>
                  <a:pt x="449" y="1142"/>
                </a:lnTo>
                <a:lnTo>
                  <a:pt x="461" y="1172"/>
                </a:lnTo>
                <a:lnTo>
                  <a:pt x="473" y="1190"/>
                </a:lnTo>
                <a:lnTo>
                  <a:pt x="485" y="1190"/>
                </a:lnTo>
                <a:lnTo>
                  <a:pt x="497" y="1184"/>
                </a:lnTo>
                <a:lnTo>
                  <a:pt x="515" y="1178"/>
                </a:lnTo>
                <a:lnTo>
                  <a:pt x="527" y="1172"/>
                </a:lnTo>
                <a:lnTo>
                  <a:pt x="539" y="1172"/>
                </a:lnTo>
                <a:lnTo>
                  <a:pt x="550" y="1178"/>
                </a:lnTo>
                <a:lnTo>
                  <a:pt x="562" y="1196"/>
                </a:lnTo>
                <a:lnTo>
                  <a:pt x="574" y="1220"/>
                </a:lnTo>
                <a:lnTo>
                  <a:pt x="592" y="1250"/>
                </a:lnTo>
                <a:lnTo>
                  <a:pt x="604" y="1292"/>
                </a:lnTo>
                <a:lnTo>
                  <a:pt x="616" y="1334"/>
                </a:lnTo>
                <a:lnTo>
                  <a:pt x="628" y="1375"/>
                </a:lnTo>
                <a:lnTo>
                  <a:pt x="640" y="1411"/>
                </a:lnTo>
                <a:lnTo>
                  <a:pt x="658" y="1447"/>
                </a:lnTo>
                <a:lnTo>
                  <a:pt x="670" y="1465"/>
                </a:lnTo>
                <a:lnTo>
                  <a:pt x="682" y="1477"/>
                </a:lnTo>
                <a:lnTo>
                  <a:pt x="694" y="1471"/>
                </a:lnTo>
                <a:lnTo>
                  <a:pt x="706" y="1465"/>
                </a:lnTo>
                <a:lnTo>
                  <a:pt x="718" y="1453"/>
                </a:lnTo>
                <a:lnTo>
                  <a:pt x="736" y="1441"/>
                </a:lnTo>
                <a:lnTo>
                  <a:pt x="748" y="1435"/>
                </a:lnTo>
                <a:lnTo>
                  <a:pt x="760" y="1435"/>
                </a:lnTo>
                <a:lnTo>
                  <a:pt x="772" y="1441"/>
                </a:lnTo>
                <a:lnTo>
                  <a:pt x="784" y="1453"/>
                </a:lnTo>
                <a:lnTo>
                  <a:pt x="802" y="1471"/>
                </a:lnTo>
                <a:lnTo>
                  <a:pt x="814" y="1495"/>
                </a:lnTo>
                <a:lnTo>
                  <a:pt x="826" y="1525"/>
                </a:lnTo>
                <a:lnTo>
                  <a:pt x="838" y="1549"/>
                </a:lnTo>
                <a:lnTo>
                  <a:pt x="850" y="1579"/>
                </a:lnTo>
                <a:lnTo>
                  <a:pt x="862" y="1597"/>
                </a:lnTo>
                <a:lnTo>
                  <a:pt x="880" y="1603"/>
                </a:lnTo>
                <a:lnTo>
                  <a:pt x="892" y="1603"/>
                </a:lnTo>
                <a:lnTo>
                  <a:pt x="904" y="1597"/>
                </a:lnTo>
                <a:lnTo>
                  <a:pt x="916" y="1585"/>
                </a:lnTo>
                <a:lnTo>
                  <a:pt x="928" y="1573"/>
                </a:lnTo>
                <a:lnTo>
                  <a:pt x="946" y="156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567760" y="587376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6200000">
            <a:off x="3124800" y="398304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p|/|po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502280" y="316080"/>
            <a:ext cx="51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generate an image of the entire b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28600" y="1371600"/>
            <a:ext cx="8763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get inpu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frequency  (MH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6.3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transducer radiu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 = in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transducer focal length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1 = 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% path length in medium 1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2t = linspace(0,200,500);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t =linspace(-20, 20, 200);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[z2, r]=meshgrid(z2t, r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0 = in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interface radius of curvature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1 = 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% density, medium 1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 =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density, medium 2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1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wave speed, medium 1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wave speed, medium 2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80880" y="5335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plot magnitude of on-axis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mage(z2t, rt, abs(p)*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label('z-axi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ylabel('r-axi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1000" y="281952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 MGB_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5322600" cy="39862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4554360" y="2144880"/>
            <a:ext cx="25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unequal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400000">
            <a:off x="876240" y="1099080"/>
            <a:ext cx="1630440" cy="11430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676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066680" y="61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6640" y="8380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ussian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76720" y="1219320"/>
          <a:ext cx="519732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219320"/>
                    <a:ext cx="51973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flipV="1" rot="2883600">
            <a:off x="1227600" y="-1575720"/>
            <a:ext cx="5887800" cy="615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8990" swAng="4389124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8990" swAng="438912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844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m wa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52680" y="5410080"/>
          <a:ext cx="27648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5410080"/>
                    <a:ext cx="276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 flipV="1">
            <a:off x="3124080" y="3708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19920" y="4876920"/>
          <a:ext cx="288720" cy="28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876920"/>
                    <a:ext cx="2887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048120" y="3332160"/>
          <a:ext cx="276120" cy="29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3332160"/>
                    <a:ext cx="27612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 rot="18716400">
            <a:off x="1277640" y="5067360"/>
            <a:ext cx="5887800" cy="615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8990" swAng="4389124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8990" swAng="438912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048200" y="4502160"/>
            <a:ext cx="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66680" y="304920"/>
          <a:ext cx="276480" cy="29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304920"/>
                    <a:ext cx="27648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819520" y="1828800"/>
          <a:ext cx="288720" cy="28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1828800"/>
                    <a:ext cx="288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rot="5400000">
            <a:off x="3854160" y="4257720"/>
            <a:ext cx="2361960" cy="11430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84872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724280" y="4419360"/>
            <a:ext cx="0" cy="42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19920" y="3886200"/>
          <a:ext cx="2676240" cy="84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3886200"/>
                    <a:ext cx="26762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073640" y="25509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86200" y="3971880"/>
          <a:ext cx="366840" cy="439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6200" y="3971880"/>
                    <a:ext cx="3668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648320" y="3849840"/>
          <a:ext cx="563400" cy="401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48320" y="3849840"/>
                    <a:ext cx="5634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0" y="5410080"/>
          <a:ext cx="1523880" cy="484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0" y="5410080"/>
                    <a:ext cx="15238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937560" y="601992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o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676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1432080" y="316080"/>
            <a:ext cx="72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also examine a 10 MHz, 76.2 mm foca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trans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28600" y="1981080"/>
            <a:ext cx="86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get inpu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 = 1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frequency  (MH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6.3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transducer radiu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l = 76.2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transducer focal length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1 = 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% path length in medium 1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2 = linspace(0,200,500);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path length in medium 2 (mm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=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distance from ray axi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0 = in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% interface radius of curvature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1 = 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% density, medium 1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 =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density, medium 2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1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wave speed, medium 1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wave speed, medium 2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04920" y="3808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plot magnitude of on-axis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lot(z2, abs(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label('z-axi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ylabel('|p/po|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31000" y="281952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 MGB_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741840" y="2589120"/>
            <a:ext cx="4125960" cy="32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741840" y="2589120"/>
            <a:ext cx="4125960" cy="3246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741840" y="2589120"/>
            <a:ext cx="412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741840" y="2589120"/>
            <a:ext cx="4125960" cy="32464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741840" y="2589120"/>
            <a:ext cx="1440" cy="324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741840" y="5835600"/>
            <a:ext cx="412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74184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74184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71268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4151160" y="5788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151160" y="2589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08420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55940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55940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49244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4976640" y="5788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976640" y="2589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9114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386320" y="5788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86320" y="2589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3193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580392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0392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709600" y="5864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21360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21360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117480" y="5864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662148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2148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525360" y="5864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7040520" y="5788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040520" y="2589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944760" y="5864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7448400" y="5788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448400" y="2589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352640" y="5864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7867800" y="5788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867800" y="2589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771680" y="5864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741840" y="58356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7819560" y="5835600"/>
            <a:ext cx="47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636720" y="575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741840" y="5294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7819560" y="5294160"/>
            <a:ext cx="47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636720" y="521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741840" y="47530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7819560" y="475308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636720" y="46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741840" y="42130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7819560" y="4213080"/>
            <a:ext cx="47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636720" y="4137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741840" y="36720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819560" y="367200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636720" y="3595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741840" y="31305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7819560" y="313056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569760" y="3054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741840" y="258912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7819560" y="2589120"/>
            <a:ext cx="47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569760" y="2513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741840" y="4516560"/>
            <a:ext cx="1103040" cy="1290600"/>
          </a:xfrm>
          <a:custGeom>
            <a:avLst/>
            <a:gdLst/>
            <a:ahLst/>
            <a:rect l="l" t="t" r="r" b="b"/>
            <a:pathLst>
              <a:path w="695" h="813">
                <a:moveTo>
                  <a:pt x="0" y="658"/>
                </a:moveTo>
                <a:lnTo>
                  <a:pt x="6" y="658"/>
                </a:lnTo>
                <a:lnTo>
                  <a:pt x="12" y="658"/>
                </a:lnTo>
                <a:lnTo>
                  <a:pt x="18" y="658"/>
                </a:lnTo>
                <a:lnTo>
                  <a:pt x="24" y="658"/>
                </a:lnTo>
                <a:lnTo>
                  <a:pt x="30" y="658"/>
                </a:lnTo>
                <a:lnTo>
                  <a:pt x="36" y="658"/>
                </a:lnTo>
                <a:lnTo>
                  <a:pt x="42" y="658"/>
                </a:lnTo>
                <a:lnTo>
                  <a:pt x="48" y="658"/>
                </a:lnTo>
                <a:lnTo>
                  <a:pt x="54" y="652"/>
                </a:lnTo>
                <a:lnTo>
                  <a:pt x="60" y="652"/>
                </a:lnTo>
                <a:lnTo>
                  <a:pt x="66" y="652"/>
                </a:lnTo>
                <a:lnTo>
                  <a:pt x="72" y="652"/>
                </a:lnTo>
                <a:lnTo>
                  <a:pt x="78" y="652"/>
                </a:lnTo>
                <a:lnTo>
                  <a:pt x="84" y="652"/>
                </a:lnTo>
                <a:lnTo>
                  <a:pt x="90" y="652"/>
                </a:lnTo>
                <a:lnTo>
                  <a:pt x="96" y="652"/>
                </a:lnTo>
                <a:lnTo>
                  <a:pt x="102" y="646"/>
                </a:lnTo>
                <a:lnTo>
                  <a:pt x="108" y="646"/>
                </a:lnTo>
                <a:lnTo>
                  <a:pt x="114" y="646"/>
                </a:lnTo>
                <a:lnTo>
                  <a:pt x="120" y="646"/>
                </a:lnTo>
                <a:lnTo>
                  <a:pt x="126" y="640"/>
                </a:lnTo>
                <a:lnTo>
                  <a:pt x="132" y="640"/>
                </a:lnTo>
                <a:lnTo>
                  <a:pt x="138" y="640"/>
                </a:lnTo>
                <a:lnTo>
                  <a:pt x="144" y="640"/>
                </a:lnTo>
                <a:lnTo>
                  <a:pt x="150" y="634"/>
                </a:lnTo>
                <a:lnTo>
                  <a:pt x="156" y="634"/>
                </a:lnTo>
                <a:lnTo>
                  <a:pt x="162" y="628"/>
                </a:lnTo>
                <a:lnTo>
                  <a:pt x="168" y="628"/>
                </a:lnTo>
                <a:lnTo>
                  <a:pt x="174" y="622"/>
                </a:lnTo>
                <a:lnTo>
                  <a:pt x="180" y="622"/>
                </a:lnTo>
                <a:lnTo>
                  <a:pt x="186" y="616"/>
                </a:lnTo>
                <a:lnTo>
                  <a:pt x="192" y="610"/>
                </a:lnTo>
                <a:lnTo>
                  <a:pt x="198" y="604"/>
                </a:lnTo>
                <a:lnTo>
                  <a:pt x="204" y="604"/>
                </a:lnTo>
                <a:lnTo>
                  <a:pt x="210" y="598"/>
                </a:lnTo>
                <a:lnTo>
                  <a:pt x="216" y="592"/>
                </a:lnTo>
                <a:lnTo>
                  <a:pt x="222" y="592"/>
                </a:lnTo>
                <a:lnTo>
                  <a:pt x="228" y="586"/>
                </a:lnTo>
                <a:lnTo>
                  <a:pt x="234" y="580"/>
                </a:lnTo>
                <a:lnTo>
                  <a:pt x="240" y="580"/>
                </a:lnTo>
                <a:lnTo>
                  <a:pt x="246" y="574"/>
                </a:lnTo>
                <a:lnTo>
                  <a:pt x="252" y="580"/>
                </a:lnTo>
                <a:lnTo>
                  <a:pt x="258" y="586"/>
                </a:lnTo>
                <a:lnTo>
                  <a:pt x="264" y="592"/>
                </a:lnTo>
                <a:lnTo>
                  <a:pt x="270" y="610"/>
                </a:lnTo>
                <a:lnTo>
                  <a:pt x="276" y="634"/>
                </a:lnTo>
                <a:lnTo>
                  <a:pt x="276" y="664"/>
                </a:lnTo>
                <a:lnTo>
                  <a:pt x="282" y="717"/>
                </a:lnTo>
                <a:lnTo>
                  <a:pt x="287" y="777"/>
                </a:lnTo>
                <a:lnTo>
                  <a:pt x="293" y="741"/>
                </a:lnTo>
                <a:lnTo>
                  <a:pt x="299" y="634"/>
                </a:lnTo>
                <a:lnTo>
                  <a:pt x="305" y="520"/>
                </a:lnTo>
                <a:lnTo>
                  <a:pt x="311" y="424"/>
                </a:lnTo>
                <a:lnTo>
                  <a:pt x="317" y="359"/>
                </a:lnTo>
                <a:lnTo>
                  <a:pt x="317" y="329"/>
                </a:lnTo>
                <a:lnTo>
                  <a:pt x="323" y="329"/>
                </a:lnTo>
                <a:lnTo>
                  <a:pt x="329" y="359"/>
                </a:lnTo>
                <a:lnTo>
                  <a:pt x="335" y="407"/>
                </a:lnTo>
                <a:lnTo>
                  <a:pt x="341" y="472"/>
                </a:lnTo>
                <a:lnTo>
                  <a:pt x="347" y="562"/>
                </a:lnTo>
                <a:lnTo>
                  <a:pt x="353" y="658"/>
                </a:lnTo>
                <a:lnTo>
                  <a:pt x="359" y="765"/>
                </a:lnTo>
                <a:lnTo>
                  <a:pt x="359" y="783"/>
                </a:lnTo>
                <a:lnTo>
                  <a:pt x="365" y="676"/>
                </a:lnTo>
                <a:lnTo>
                  <a:pt x="371" y="574"/>
                </a:lnTo>
                <a:lnTo>
                  <a:pt x="377" y="490"/>
                </a:lnTo>
                <a:lnTo>
                  <a:pt x="383" y="412"/>
                </a:lnTo>
                <a:lnTo>
                  <a:pt x="389" y="353"/>
                </a:lnTo>
                <a:lnTo>
                  <a:pt x="395" y="305"/>
                </a:lnTo>
                <a:lnTo>
                  <a:pt x="395" y="269"/>
                </a:lnTo>
                <a:lnTo>
                  <a:pt x="401" y="251"/>
                </a:lnTo>
                <a:lnTo>
                  <a:pt x="407" y="251"/>
                </a:lnTo>
                <a:lnTo>
                  <a:pt x="413" y="263"/>
                </a:lnTo>
                <a:lnTo>
                  <a:pt x="419" y="293"/>
                </a:lnTo>
                <a:lnTo>
                  <a:pt x="425" y="329"/>
                </a:lnTo>
                <a:lnTo>
                  <a:pt x="431" y="383"/>
                </a:lnTo>
                <a:lnTo>
                  <a:pt x="437" y="442"/>
                </a:lnTo>
                <a:lnTo>
                  <a:pt x="437" y="514"/>
                </a:lnTo>
                <a:lnTo>
                  <a:pt x="443" y="586"/>
                </a:lnTo>
                <a:lnTo>
                  <a:pt x="449" y="664"/>
                </a:lnTo>
                <a:lnTo>
                  <a:pt x="455" y="747"/>
                </a:lnTo>
                <a:lnTo>
                  <a:pt x="461" y="813"/>
                </a:lnTo>
                <a:lnTo>
                  <a:pt x="467" y="741"/>
                </a:lnTo>
                <a:lnTo>
                  <a:pt x="473" y="664"/>
                </a:lnTo>
                <a:lnTo>
                  <a:pt x="479" y="586"/>
                </a:lnTo>
                <a:lnTo>
                  <a:pt x="479" y="508"/>
                </a:lnTo>
                <a:lnTo>
                  <a:pt x="485" y="436"/>
                </a:lnTo>
                <a:lnTo>
                  <a:pt x="491" y="371"/>
                </a:lnTo>
                <a:lnTo>
                  <a:pt x="497" y="311"/>
                </a:lnTo>
                <a:lnTo>
                  <a:pt x="503" y="257"/>
                </a:lnTo>
                <a:lnTo>
                  <a:pt x="509" y="209"/>
                </a:lnTo>
                <a:lnTo>
                  <a:pt x="515" y="167"/>
                </a:lnTo>
                <a:lnTo>
                  <a:pt x="515" y="137"/>
                </a:lnTo>
                <a:lnTo>
                  <a:pt x="521" y="108"/>
                </a:lnTo>
                <a:lnTo>
                  <a:pt x="527" y="90"/>
                </a:lnTo>
                <a:lnTo>
                  <a:pt x="533" y="78"/>
                </a:lnTo>
                <a:lnTo>
                  <a:pt x="539" y="78"/>
                </a:lnTo>
                <a:lnTo>
                  <a:pt x="545" y="78"/>
                </a:lnTo>
                <a:lnTo>
                  <a:pt x="551" y="84"/>
                </a:lnTo>
                <a:lnTo>
                  <a:pt x="557" y="102"/>
                </a:lnTo>
                <a:lnTo>
                  <a:pt x="557" y="120"/>
                </a:lnTo>
                <a:lnTo>
                  <a:pt x="563" y="149"/>
                </a:lnTo>
                <a:lnTo>
                  <a:pt x="569" y="179"/>
                </a:lnTo>
                <a:lnTo>
                  <a:pt x="575" y="215"/>
                </a:lnTo>
                <a:lnTo>
                  <a:pt x="581" y="257"/>
                </a:lnTo>
                <a:lnTo>
                  <a:pt x="587" y="305"/>
                </a:lnTo>
                <a:lnTo>
                  <a:pt x="593" y="353"/>
                </a:lnTo>
                <a:lnTo>
                  <a:pt x="599" y="407"/>
                </a:lnTo>
                <a:lnTo>
                  <a:pt x="599" y="460"/>
                </a:lnTo>
                <a:lnTo>
                  <a:pt x="605" y="520"/>
                </a:lnTo>
                <a:lnTo>
                  <a:pt x="611" y="580"/>
                </a:lnTo>
                <a:lnTo>
                  <a:pt x="617" y="646"/>
                </a:lnTo>
                <a:lnTo>
                  <a:pt x="623" y="711"/>
                </a:lnTo>
                <a:lnTo>
                  <a:pt x="629" y="777"/>
                </a:lnTo>
                <a:lnTo>
                  <a:pt x="635" y="807"/>
                </a:lnTo>
                <a:lnTo>
                  <a:pt x="635" y="741"/>
                </a:lnTo>
                <a:lnTo>
                  <a:pt x="641" y="676"/>
                </a:lnTo>
                <a:lnTo>
                  <a:pt x="647" y="604"/>
                </a:lnTo>
                <a:lnTo>
                  <a:pt x="653" y="538"/>
                </a:lnTo>
                <a:lnTo>
                  <a:pt x="659" y="466"/>
                </a:lnTo>
                <a:lnTo>
                  <a:pt x="665" y="401"/>
                </a:lnTo>
                <a:lnTo>
                  <a:pt x="671" y="329"/>
                </a:lnTo>
                <a:lnTo>
                  <a:pt x="677" y="263"/>
                </a:lnTo>
                <a:lnTo>
                  <a:pt x="677" y="197"/>
                </a:lnTo>
                <a:lnTo>
                  <a:pt x="683" y="131"/>
                </a:lnTo>
                <a:lnTo>
                  <a:pt x="689" y="66"/>
                </a:lnTo>
                <a:lnTo>
                  <a:pt x="69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844880" y="2627280"/>
            <a:ext cx="1073160" cy="1889280"/>
          </a:xfrm>
          <a:custGeom>
            <a:avLst/>
            <a:gdLst/>
            <a:ahLst/>
            <a:rect l="l" t="t" r="r" b="b"/>
            <a:pathLst>
              <a:path w="676" h="1190">
                <a:moveTo>
                  <a:pt x="0" y="1190"/>
                </a:moveTo>
                <a:lnTo>
                  <a:pt x="6" y="1130"/>
                </a:lnTo>
                <a:lnTo>
                  <a:pt x="12" y="1070"/>
                </a:lnTo>
                <a:lnTo>
                  <a:pt x="18" y="1011"/>
                </a:lnTo>
                <a:lnTo>
                  <a:pt x="24" y="951"/>
                </a:lnTo>
                <a:lnTo>
                  <a:pt x="24" y="897"/>
                </a:lnTo>
                <a:lnTo>
                  <a:pt x="30" y="843"/>
                </a:lnTo>
                <a:lnTo>
                  <a:pt x="36" y="789"/>
                </a:lnTo>
                <a:lnTo>
                  <a:pt x="42" y="742"/>
                </a:lnTo>
                <a:lnTo>
                  <a:pt x="48" y="694"/>
                </a:lnTo>
                <a:lnTo>
                  <a:pt x="54" y="646"/>
                </a:lnTo>
                <a:lnTo>
                  <a:pt x="60" y="604"/>
                </a:lnTo>
                <a:lnTo>
                  <a:pt x="60" y="562"/>
                </a:lnTo>
                <a:lnTo>
                  <a:pt x="66" y="520"/>
                </a:lnTo>
                <a:lnTo>
                  <a:pt x="71" y="479"/>
                </a:lnTo>
                <a:lnTo>
                  <a:pt x="77" y="443"/>
                </a:lnTo>
                <a:lnTo>
                  <a:pt x="83" y="407"/>
                </a:lnTo>
                <a:lnTo>
                  <a:pt x="89" y="371"/>
                </a:lnTo>
                <a:lnTo>
                  <a:pt x="95" y="341"/>
                </a:lnTo>
                <a:lnTo>
                  <a:pt x="101" y="311"/>
                </a:lnTo>
                <a:lnTo>
                  <a:pt x="101" y="281"/>
                </a:lnTo>
                <a:lnTo>
                  <a:pt x="107" y="251"/>
                </a:lnTo>
                <a:lnTo>
                  <a:pt x="113" y="227"/>
                </a:lnTo>
                <a:lnTo>
                  <a:pt x="119" y="204"/>
                </a:lnTo>
                <a:lnTo>
                  <a:pt x="125" y="180"/>
                </a:lnTo>
                <a:lnTo>
                  <a:pt x="131" y="156"/>
                </a:lnTo>
                <a:lnTo>
                  <a:pt x="137" y="138"/>
                </a:lnTo>
                <a:lnTo>
                  <a:pt x="143" y="120"/>
                </a:lnTo>
                <a:lnTo>
                  <a:pt x="143" y="102"/>
                </a:lnTo>
                <a:lnTo>
                  <a:pt x="149" y="90"/>
                </a:lnTo>
                <a:lnTo>
                  <a:pt x="155" y="72"/>
                </a:lnTo>
                <a:lnTo>
                  <a:pt x="161" y="60"/>
                </a:lnTo>
                <a:lnTo>
                  <a:pt x="167" y="48"/>
                </a:lnTo>
                <a:lnTo>
                  <a:pt x="173" y="36"/>
                </a:lnTo>
                <a:lnTo>
                  <a:pt x="179" y="24"/>
                </a:lnTo>
                <a:lnTo>
                  <a:pt x="185" y="18"/>
                </a:lnTo>
                <a:lnTo>
                  <a:pt x="191" y="12"/>
                </a:lnTo>
                <a:lnTo>
                  <a:pt x="197" y="6"/>
                </a:lnTo>
                <a:lnTo>
                  <a:pt x="203" y="0"/>
                </a:lnTo>
                <a:lnTo>
                  <a:pt x="209" y="0"/>
                </a:lnTo>
                <a:lnTo>
                  <a:pt x="215" y="0"/>
                </a:lnTo>
                <a:lnTo>
                  <a:pt x="221" y="0"/>
                </a:lnTo>
                <a:lnTo>
                  <a:pt x="227" y="0"/>
                </a:lnTo>
                <a:lnTo>
                  <a:pt x="233" y="6"/>
                </a:lnTo>
                <a:lnTo>
                  <a:pt x="239" y="6"/>
                </a:lnTo>
                <a:lnTo>
                  <a:pt x="245" y="12"/>
                </a:lnTo>
                <a:lnTo>
                  <a:pt x="251" y="18"/>
                </a:lnTo>
                <a:lnTo>
                  <a:pt x="257" y="24"/>
                </a:lnTo>
                <a:lnTo>
                  <a:pt x="263" y="36"/>
                </a:lnTo>
                <a:lnTo>
                  <a:pt x="269" y="48"/>
                </a:lnTo>
                <a:lnTo>
                  <a:pt x="275" y="54"/>
                </a:lnTo>
                <a:lnTo>
                  <a:pt x="281" y="66"/>
                </a:lnTo>
                <a:lnTo>
                  <a:pt x="287" y="72"/>
                </a:lnTo>
                <a:lnTo>
                  <a:pt x="293" y="84"/>
                </a:lnTo>
                <a:lnTo>
                  <a:pt x="299" y="96"/>
                </a:lnTo>
                <a:lnTo>
                  <a:pt x="299" y="108"/>
                </a:lnTo>
                <a:lnTo>
                  <a:pt x="305" y="120"/>
                </a:lnTo>
                <a:lnTo>
                  <a:pt x="311" y="132"/>
                </a:lnTo>
                <a:lnTo>
                  <a:pt x="317" y="144"/>
                </a:lnTo>
                <a:lnTo>
                  <a:pt x="323" y="156"/>
                </a:lnTo>
                <a:lnTo>
                  <a:pt x="329" y="174"/>
                </a:lnTo>
                <a:lnTo>
                  <a:pt x="335" y="186"/>
                </a:lnTo>
                <a:lnTo>
                  <a:pt x="341" y="198"/>
                </a:lnTo>
                <a:lnTo>
                  <a:pt x="341" y="215"/>
                </a:lnTo>
                <a:lnTo>
                  <a:pt x="347" y="227"/>
                </a:lnTo>
                <a:lnTo>
                  <a:pt x="353" y="239"/>
                </a:lnTo>
                <a:lnTo>
                  <a:pt x="359" y="257"/>
                </a:lnTo>
                <a:lnTo>
                  <a:pt x="365" y="269"/>
                </a:lnTo>
                <a:lnTo>
                  <a:pt x="371" y="287"/>
                </a:lnTo>
                <a:lnTo>
                  <a:pt x="377" y="305"/>
                </a:lnTo>
                <a:lnTo>
                  <a:pt x="383" y="317"/>
                </a:lnTo>
                <a:lnTo>
                  <a:pt x="383" y="335"/>
                </a:lnTo>
                <a:lnTo>
                  <a:pt x="389" y="347"/>
                </a:lnTo>
                <a:lnTo>
                  <a:pt x="395" y="365"/>
                </a:lnTo>
                <a:lnTo>
                  <a:pt x="401" y="383"/>
                </a:lnTo>
                <a:lnTo>
                  <a:pt x="407" y="395"/>
                </a:lnTo>
                <a:lnTo>
                  <a:pt x="413" y="413"/>
                </a:lnTo>
                <a:lnTo>
                  <a:pt x="419" y="431"/>
                </a:lnTo>
                <a:lnTo>
                  <a:pt x="419" y="443"/>
                </a:lnTo>
                <a:lnTo>
                  <a:pt x="425" y="461"/>
                </a:lnTo>
                <a:lnTo>
                  <a:pt x="431" y="479"/>
                </a:lnTo>
                <a:lnTo>
                  <a:pt x="437" y="490"/>
                </a:lnTo>
                <a:lnTo>
                  <a:pt x="443" y="508"/>
                </a:lnTo>
                <a:lnTo>
                  <a:pt x="449" y="526"/>
                </a:lnTo>
                <a:lnTo>
                  <a:pt x="455" y="538"/>
                </a:lnTo>
                <a:lnTo>
                  <a:pt x="461" y="556"/>
                </a:lnTo>
                <a:lnTo>
                  <a:pt x="461" y="574"/>
                </a:lnTo>
                <a:lnTo>
                  <a:pt x="467" y="586"/>
                </a:lnTo>
                <a:lnTo>
                  <a:pt x="473" y="604"/>
                </a:lnTo>
                <a:lnTo>
                  <a:pt x="479" y="616"/>
                </a:lnTo>
                <a:lnTo>
                  <a:pt x="485" y="634"/>
                </a:lnTo>
                <a:lnTo>
                  <a:pt x="491" y="652"/>
                </a:lnTo>
                <a:lnTo>
                  <a:pt x="497" y="664"/>
                </a:lnTo>
                <a:lnTo>
                  <a:pt x="503" y="682"/>
                </a:lnTo>
                <a:lnTo>
                  <a:pt x="503" y="694"/>
                </a:lnTo>
                <a:lnTo>
                  <a:pt x="509" y="712"/>
                </a:lnTo>
                <a:lnTo>
                  <a:pt x="515" y="724"/>
                </a:lnTo>
                <a:lnTo>
                  <a:pt x="521" y="742"/>
                </a:lnTo>
                <a:lnTo>
                  <a:pt x="527" y="754"/>
                </a:lnTo>
                <a:lnTo>
                  <a:pt x="533" y="771"/>
                </a:lnTo>
                <a:lnTo>
                  <a:pt x="539" y="783"/>
                </a:lnTo>
                <a:lnTo>
                  <a:pt x="539" y="801"/>
                </a:lnTo>
                <a:lnTo>
                  <a:pt x="545" y="813"/>
                </a:lnTo>
                <a:lnTo>
                  <a:pt x="550" y="825"/>
                </a:lnTo>
                <a:lnTo>
                  <a:pt x="556" y="843"/>
                </a:lnTo>
                <a:lnTo>
                  <a:pt x="562" y="855"/>
                </a:lnTo>
                <a:lnTo>
                  <a:pt x="568" y="873"/>
                </a:lnTo>
                <a:lnTo>
                  <a:pt x="574" y="885"/>
                </a:lnTo>
                <a:lnTo>
                  <a:pt x="580" y="897"/>
                </a:lnTo>
                <a:lnTo>
                  <a:pt x="580" y="909"/>
                </a:lnTo>
                <a:lnTo>
                  <a:pt x="586" y="927"/>
                </a:lnTo>
                <a:lnTo>
                  <a:pt x="592" y="939"/>
                </a:lnTo>
                <a:lnTo>
                  <a:pt x="598" y="951"/>
                </a:lnTo>
                <a:lnTo>
                  <a:pt x="604" y="963"/>
                </a:lnTo>
                <a:lnTo>
                  <a:pt x="610" y="981"/>
                </a:lnTo>
                <a:lnTo>
                  <a:pt x="616" y="993"/>
                </a:lnTo>
                <a:lnTo>
                  <a:pt x="622" y="1005"/>
                </a:lnTo>
                <a:lnTo>
                  <a:pt x="622" y="1017"/>
                </a:lnTo>
                <a:lnTo>
                  <a:pt x="628" y="1029"/>
                </a:lnTo>
                <a:lnTo>
                  <a:pt x="634" y="1041"/>
                </a:lnTo>
                <a:lnTo>
                  <a:pt x="640" y="1052"/>
                </a:lnTo>
                <a:lnTo>
                  <a:pt x="646" y="1070"/>
                </a:lnTo>
                <a:lnTo>
                  <a:pt x="652" y="1082"/>
                </a:lnTo>
                <a:lnTo>
                  <a:pt x="658" y="1094"/>
                </a:lnTo>
                <a:lnTo>
                  <a:pt x="664" y="1106"/>
                </a:lnTo>
                <a:lnTo>
                  <a:pt x="664" y="1118"/>
                </a:lnTo>
                <a:lnTo>
                  <a:pt x="670" y="1130"/>
                </a:lnTo>
                <a:lnTo>
                  <a:pt x="676" y="114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18040" y="4440240"/>
            <a:ext cx="1132200" cy="1319040"/>
          </a:xfrm>
          <a:custGeom>
            <a:avLst/>
            <a:gdLst/>
            <a:ahLst/>
            <a:rect l="l" t="t" r="r" b="b"/>
            <a:pathLst>
              <a:path w="713" h="831">
                <a:moveTo>
                  <a:pt x="0" y="0"/>
                </a:moveTo>
                <a:lnTo>
                  <a:pt x="6" y="12"/>
                </a:lnTo>
                <a:lnTo>
                  <a:pt x="12" y="24"/>
                </a:lnTo>
                <a:lnTo>
                  <a:pt x="18" y="30"/>
                </a:lnTo>
                <a:lnTo>
                  <a:pt x="24" y="42"/>
                </a:lnTo>
                <a:lnTo>
                  <a:pt x="24" y="54"/>
                </a:lnTo>
                <a:lnTo>
                  <a:pt x="30" y="66"/>
                </a:lnTo>
                <a:lnTo>
                  <a:pt x="36" y="78"/>
                </a:lnTo>
                <a:lnTo>
                  <a:pt x="42" y="90"/>
                </a:lnTo>
                <a:lnTo>
                  <a:pt x="48" y="102"/>
                </a:lnTo>
                <a:lnTo>
                  <a:pt x="54" y="108"/>
                </a:lnTo>
                <a:lnTo>
                  <a:pt x="60" y="120"/>
                </a:lnTo>
                <a:lnTo>
                  <a:pt x="66" y="132"/>
                </a:lnTo>
                <a:lnTo>
                  <a:pt x="66" y="144"/>
                </a:lnTo>
                <a:lnTo>
                  <a:pt x="72" y="150"/>
                </a:lnTo>
                <a:lnTo>
                  <a:pt x="78" y="162"/>
                </a:lnTo>
                <a:lnTo>
                  <a:pt x="84" y="174"/>
                </a:lnTo>
                <a:lnTo>
                  <a:pt x="90" y="179"/>
                </a:lnTo>
                <a:lnTo>
                  <a:pt x="96" y="191"/>
                </a:lnTo>
                <a:lnTo>
                  <a:pt x="102" y="203"/>
                </a:lnTo>
                <a:lnTo>
                  <a:pt x="108" y="209"/>
                </a:lnTo>
                <a:lnTo>
                  <a:pt x="108" y="221"/>
                </a:lnTo>
                <a:lnTo>
                  <a:pt x="114" y="233"/>
                </a:lnTo>
                <a:lnTo>
                  <a:pt x="120" y="239"/>
                </a:lnTo>
                <a:lnTo>
                  <a:pt x="126" y="251"/>
                </a:lnTo>
                <a:lnTo>
                  <a:pt x="132" y="257"/>
                </a:lnTo>
                <a:lnTo>
                  <a:pt x="138" y="269"/>
                </a:lnTo>
                <a:lnTo>
                  <a:pt x="144" y="275"/>
                </a:lnTo>
                <a:lnTo>
                  <a:pt x="144" y="287"/>
                </a:lnTo>
                <a:lnTo>
                  <a:pt x="150" y="293"/>
                </a:lnTo>
                <a:lnTo>
                  <a:pt x="156" y="305"/>
                </a:lnTo>
                <a:lnTo>
                  <a:pt x="162" y="311"/>
                </a:lnTo>
                <a:lnTo>
                  <a:pt x="168" y="323"/>
                </a:lnTo>
                <a:lnTo>
                  <a:pt x="174" y="329"/>
                </a:lnTo>
                <a:lnTo>
                  <a:pt x="180" y="335"/>
                </a:lnTo>
                <a:lnTo>
                  <a:pt x="186" y="347"/>
                </a:lnTo>
                <a:lnTo>
                  <a:pt x="186" y="353"/>
                </a:lnTo>
                <a:lnTo>
                  <a:pt x="192" y="365"/>
                </a:lnTo>
                <a:lnTo>
                  <a:pt x="198" y="371"/>
                </a:lnTo>
                <a:lnTo>
                  <a:pt x="204" y="377"/>
                </a:lnTo>
                <a:lnTo>
                  <a:pt x="210" y="389"/>
                </a:lnTo>
                <a:lnTo>
                  <a:pt x="216" y="395"/>
                </a:lnTo>
                <a:lnTo>
                  <a:pt x="222" y="401"/>
                </a:lnTo>
                <a:lnTo>
                  <a:pt x="228" y="407"/>
                </a:lnTo>
                <a:lnTo>
                  <a:pt x="228" y="419"/>
                </a:lnTo>
                <a:lnTo>
                  <a:pt x="234" y="425"/>
                </a:lnTo>
                <a:lnTo>
                  <a:pt x="240" y="431"/>
                </a:lnTo>
                <a:lnTo>
                  <a:pt x="246" y="437"/>
                </a:lnTo>
                <a:lnTo>
                  <a:pt x="252" y="449"/>
                </a:lnTo>
                <a:lnTo>
                  <a:pt x="258" y="455"/>
                </a:lnTo>
                <a:lnTo>
                  <a:pt x="264" y="460"/>
                </a:lnTo>
                <a:lnTo>
                  <a:pt x="264" y="466"/>
                </a:lnTo>
                <a:lnTo>
                  <a:pt x="270" y="472"/>
                </a:lnTo>
                <a:lnTo>
                  <a:pt x="276" y="478"/>
                </a:lnTo>
                <a:lnTo>
                  <a:pt x="282" y="490"/>
                </a:lnTo>
                <a:lnTo>
                  <a:pt x="288" y="496"/>
                </a:lnTo>
                <a:lnTo>
                  <a:pt x="294" y="502"/>
                </a:lnTo>
                <a:lnTo>
                  <a:pt x="300" y="508"/>
                </a:lnTo>
                <a:lnTo>
                  <a:pt x="306" y="514"/>
                </a:lnTo>
                <a:lnTo>
                  <a:pt x="306" y="520"/>
                </a:lnTo>
                <a:lnTo>
                  <a:pt x="312" y="526"/>
                </a:lnTo>
                <a:lnTo>
                  <a:pt x="318" y="532"/>
                </a:lnTo>
                <a:lnTo>
                  <a:pt x="324" y="538"/>
                </a:lnTo>
                <a:lnTo>
                  <a:pt x="330" y="544"/>
                </a:lnTo>
                <a:lnTo>
                  <a:pt x="336" y="550"/>
                </a:lnTo>
                <a:lnTo>
                  <a:pt x="342" y="556"/>
                </a:lnTo>
                <a:lnTo>
                  <a:pt x="348" y="562"/>
                </a:lnTo>
                <a:lnTo>
                  <a:pt x="348" y="568"/>
                </a:lnTo>
                <a:lnTo>
                  <a:pt x="353" y="574"/>
                </a:lnTo>
                <a:lnTo>
                  <a:pt x="359" y="580"/>
                </a:lnTo>
                <a:lnTo>
                  <a:pt x="365" y="586"/>
                </a:lnTo>
                <a:lnTo>
                  <a:pt x="371" y="592"/>
                </a:lnTo>
                <a:lnTo>
                  <a:pt x="383" y="598"/>
                </a:lnTo>
                <a:lnTo>
                  <a:pt x="383" y="604"/>
                </a:lnTo>
                <a:lnTo>
                  <a:pt x="389" y="610"/>
                </a:lnTo>
                <a:lnTo>
                  <a:pt x="395" y="616"/>
                </a:lnTo>
                <a:lnTo>
                  <a:pt x="401" y="622"/>
                </a:lnTo>
                <a:lnTo>
                  <a:pt x="407" y="628"/>
                </a:lnTo>
                <a:lnTo>
                  <a:pt x="419" y="634"/>
                </a:lnTo>
                <a:lnTo>
                  <a:pt x="425" y="640"/>
                </a:lnTo>
                <a:lnTo>
                  <a:pt x="425" y="646"/>
                </a:lnTo>
                <a:lnTo>
                  <a:pt x="431" y="652"/>
                </a:lnTo>
                <a:lnTo>
                  <a:pt x="443" y="658"/>
                </a:lnTo>
                <a:lnTo>
                  <a:pt x="449" y="664"/>
                </a:lnTo>
                <a:lnTo>
                  <a:pt x="455" y="670"/>
                </a:lnTo>
                <a:lnTo>
                  <a:pt x="461" y="676"/>
                </a:lnTo>
                <a:lnTo>
                  <a:pt x="467" y="682"/>
                </a:lnTo>
                <a:lnTo>
                  <a:pt x="473" y="688"/>
                </a:lnTo>
                <a:lnTo>
                  <a:pt x="479" y="688"/>
                </a:lnTo>
                <a:lnTo>
                  <a:pt x="485" y="694"/>
                </a:lnTo>
                <a:lnTo>
                  <a:pt x="491" y="700"/>
                </a:lnTo>
                <a:lnTo>
                  <a:pt x="497" y="700"/>
                </a:lnTo>
                <a:lnTo>
                  <a:pt x="503" y="712"/>
                </a:lnTo>
                <a:lnTo>
                  <a:pt x="509" y="712"/>
                </a:lnTo>
                <a:lnTo>
                  <a:pt x="515" y="718"/>
                </a:lnTo>
                <a:lnTo>
                  <a:pt x="521" y="724"/>
                </a:lnTo>
                <a:lnTo>
                  <a:pt x="527" y="724"/>
                </a:lnTo>
                <a:lnTo>
                  <a:pt x="533" y="730"/>
                </a:lnTo>
                <a:lnTo>
                  <a:pt x="539" y="730"/>
                </a:lnTo>
                <a:lnTo>
                  <a:pt x="545" y="741"/>
                </a:lnTo>
                <a:lnTo>
                  <a:pt x="551" y="741"/>
                </a:lnTo>
                <a:lnTo>
                  <a:pt x="557" y="747"/>
                </a:lnTo>
                <a:lnTo>
                  <a:pt x="563" y="747"/>
                </a:lnTo>
                <a:lnTo>
                  <a:pt x="569" y="753"/>
                </a:lnTo>
                <a:lnTo>
                  <a:pt x="575" y="753"/>
                </a:lnTo>
                <a:lnTo>
                  <a:pt x="581" y="759"/>
                </a:lnTo>
                <a:lnTo>
                  <a:pt x="587" y="765"/>
                </a:lnTo>
                <a:lnTo>
                  <a:pt x="593" y="765"/>
                </a:lnTo>
                <a:lnTo>
                  <a:pt x="599" y="771"/>
                </a:lnTo>
                <a:lnTo>
                  <a:pt x="605" y="771"/>
                </a:lnTo>
                <a:lnTo>
                  <a:pt x="611" y="777"/>
                </a:lnTo>
                <a:lnTo>
                  <a:pt x="617" y="777"/>
                </a:lnTo>
                <a:lnTo>
                  <a:pt x="623" y="783"/>
                </a:lnTo>
                <a:lnTo>
                  <a:pt x="629" y="789"/>
                </a:lnTo>
                <a:lnTo>
                  <a:pt x="635" y="789"/>
                </a:lnTo>
                <a:lnTo>
                  <a:pt x="641" y="795"/>
                </a:lnTo>
                <a:lnTo>
                  <a:pt x="647" y="795"/>
                </a:lnTo>
                <a:lnTo>
                  <a:pt x="653" y="801"/>
                </a:lnTo>
                <a:lnTo>
                  <a:pt x="659" y="801"/>
                </a:lnTo>
                <a:lnTo>
                  <a:pt x="665" y="807"/>
                </a:lnTo>
                <a:lnTo>
                  <a:pt x="671" y="807"/>
                </a:lnTo>
                <a:lnTo>
                  <a:pt x="677" y="813"/>
                </a:lnTo>
                <a:lnTo>
                  <a:pt x="683" y="813"/>
                </a:lnTo>
                <a:lnTo>
                  <a:pt x="689" y="819"/>
                </a:lnTo>
                <a:lnTo>
                  <a:pt x="695" y="819"/>
                </a:lnTo>
                <a:lnTo>
                  <a:pt x="701" y="819"/>
                </a:lnTo>
                <a:lnTo>
                  <a:pt x="707" y="825"/>
                </a:lnTo>
                <a:lnTo>
                  <a:pt x="713" y="83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050240" y="5721480"/>
            <a:ext cx="817560" cy="104760"/>
          </a:xfrm>
          <a:custGeom>
            <a:avLst/>
            <a:gdLst/>
            <a:ahLst/>
            <a:rect l="l" t="t" r="r" b="b"/>
            <a:pathLst>
              <a:path w="515" h="66">
                <a:moveTo>
                  <a:pt x="0" y="24"/>
                </a:moveTo>
                <a:lnTo>
                  <a:pt x="6" y="24"/>
                </a:lnTo>
                <a:lnTo>
                  <a:pt x="12" y="24"/>
                </a:lnTo>
                <a:lnTo>
                  <a:pt x="18" y="30"/>
                </a:lnTo>
                <a:lnTo>
                  <a:pt x="24" y="30"/>
                </a:lnTo>
                <a:lnTo>
                  <a:pt x="30" y="36"/>
                </a:lnTo>
                <a:lnTo>
                  <a:pt x="36" y="36"/>
                </a:lnTo>
                <a:lnTo>
                  <a:pt x="42" y="36"/>
                </a:lnTo>
                <a:lnTo>
                  <a:pt x="48" y="42"/>
                </a:lnTo>
                <a:lnTo>
                  <a:pt x="54" y="42"/>
                </a:lnTo>
                <a:lnTo>
                  <a:pt x="60" y="42"/>
                </a:lnTo>
                <a:lnTo>
                  <a:pt x="66" y="48"/>
                </a:lnTo>
                <a:lnTo>
                  <a:pt x="72" y="48"/>
                </a:lnTo>
                <a:lnTo>
                  <a:pt x="78" y="54"/>
                </a:lnTo>
                <a:lnTo>
                  <a:pt x="84" y="54"/>
                </a:lnTo>
                <a:lnTo>
                  <a:pt x="90" y="54"/>
                </a:lnTo>
                <a:lnTo>
                  <a:pt x="96" y="54"/>
                </a:lnTo>
                <a:lnTo>
                  <a:pt x="102" y="60"/>
                </a:lnTo>
                <a:lnTo>
                  <a:pt x="108" y="60"/>
                </a:lnTo>
                <a:lnTo>
                  <a:pt x="114" y="60"/>
                </a:lnTo>
                <a:lnTo>
                  <a:pt x="119" y="66"/>
                </a:lnTo>
                <a:lnTo>
                  <a:pt x="125" y="66"/>
                </a:lnTo>
                <a:lnTo>
                  <a:pt x="131" y="66"/>
                </a:lnTo>
                <a:lnTo>
                  <a:pt x="137" y="66"/>
                </a:lnTo>
                <a:lnTo>
                  <a:pt x="143" y="66"/>
                </a:lnTo>
                <a:lnTo>
                  <a:pt x="149" y="60"/>
                </a:lnTo>
                <a:lnTo>
                  <a:pt x="155" y="60"/>
                </a:lnTo>
                <a:lnTo>
                  <a:pt x="161" y="60"/>
                </a:lnTo>
                <a:lnTo>
                  <a:pt x="167" y="60"/>
                </a:lnTo>
                <a:lnTo>
                  <a:pt x="173" y="60"/>
                </a:lnTo>
                <a:lnTo>
                  <a:pt x="179" y="54"/>
                </a:lnTo>
                <a:lnTo>
                  <a:pt x="185" y="54"/>
                </a:lnTo>
                <a:lnTo>
                  <a:pt x="191" y="54"/>
                </a:lnTo>
                <a:lnTo>
                  <a:pt x="197" y="48"/>
                </a:lnTo>
                <a:lnTo>
                  <a:pt x="203" y="48"/>
                </a:lnTo>
                <a:lnTo>
                  <a:pt x="209" y="48"/>
                </a:lnTo>
                <a:lnTo>
                  <a:pt x="215" y="48"/>
                </a:lnTo>
                <a:lnTo>
                  <a:pt x="221" y="48"/>
                </a:lnTo>
                <a:lnTo>
                  <a:pt x="227" y="42"/>
                </a:lnTo>
                <a:lnTo>
                  <a:pt x="233" y="42"/>
                </a:lnTo>
                <a:lnTo>
                  <a:pt x="239" y="42"/>
                </a:lnTo>
                <a:lnTo>
                  <a:pt x="245" y="42"/>
                </a:lnTo>
                <a:lnTo>
                  <a:pt x="251" y="36"/>
                </a:lnTo>
                <a:lnTo>
                  <a:pt x="257" y="36"/>
                </a:lnTo>
                <a:lnTo>
                  <a:pt x="263" y="36"/>
                </a:lnTo>
                <a:lnTo>
                  <a:pt x="269" y="36"/>
                </a:lnTo>
                <a:lnTo>
                  <a:pt x="275" y="30"/>
                </a:lnTo>
                <a:lnTo>
                  <a:pt x="281" y="30"/>
                </a:lnTo>
                <a:lnTo>
                  <a:pt x="287" y="30"/>
                </a:lnTo>
                <a:lnTo>
                  <a:pt x="293" y="30"/>
                </a:lnTo>
                <a:lnTo>
                  <a:pt x="299" y="30"/>
                </a:lnTo>
                <a:lnTo>
                  <a:pt x="305" y="30"/>
                </a:lnTo>
                <a:lnTo>
                  <a:pt x="311" y="24"/>
                </a:lnTo>
                <a:lnTo>
                  <a:pt x="317" y="24"/>
                </a:lnTo>
                <a:lnTo>
                  <a:pt x="323" y="24"/>
                </a:lnTo>
                <a:lnTo>
                  <a:pt x="329" y="24"/>
                </a:lnTo>
                <a:lnTo>
                  <a:pt x="335" y="24"/>
                </a:lnTo>
                <a:lnTo>
                  <a:pt x="341" y="24"/>
                </a:lnTo>
                <a:lnTo>
                  <a:pt x="347" y="18"/>
                </a:lnTo>
                <a:lnTo>
                  <a:pt x="353" y="18"/>
                </a:lnTo>
                <a:lnTo>
                  <a:pt x="359" y="18"/>
                </a:lnTo>
                <a:lnTo>
                  <a:pt x="365" y="18"/>
                </a:lnTo>
                <a:lnTo>
                  <a:pt x="371" y="18"/>
                </a:lnTo>
                <a:lnTo>
                  <a:pt x="377" y="18"/>
                </a:lnTo>
                <a:lnTo>
                  <a:pt x="383" y="12"/>
                </a:lnTo>
                <a:lnTo>
                  <a:pt x="389" y="12"/>
                </a:lnTo>
                <a:lnTo>
                  <a:pt x="395" y="12"/>
                </a:lnTo>
                <a:lnTo>
                  <a:pt x="401" y="12"/>
                </a:lnTo>
                <a:lnTo>
                  <a:pt x="407" y="12"/>
                </a:lnTo>
                <a:lnTo>
                  <a:pt x="413" y="12"/>
                </a:lnTo>
                <a:lnTo>
                  <a:pt x="419" y="12"/>
                </a:lnTo>
                <a:lnTo>
                  <a:pt x="425" y="6"/>
                </a:lnTo>
                <a:lnTo>
                  <a:pt x="431" y="6"/>
                </a:lnTo>
                <a:lnTo>
                  <a:pt x="437" y="6"/>
                </a:lnTo>
                <a:lnTo>
                  <a:pt x="443" y="6"/>
                </a:lnTo>
                <a:lnTo>
                  <a:pt x="449" y="6"/>
                </a:lnTo>
                <a:lnTo>
                  <a:pt x="455" y="6"/>
                </a:lnTo>
                <a:lnTo>
                  <a:pt x="461" y="6"/>
                </a:lnTo>
                <a:lnTo>
                  <a:pt x="467" y="0"/>
                </a:lnTo>
                <a:lnTo>
                  <a:pt x="473" y="0"/>
                </a:lnTo>
                <a:lnTo>
                  <a:pt x="479" y="0"/>
                </a:lnTo>
                <a:lnTo>
                  <a:pt x="485" y="0"/>
                </a:lnTo>
                <a:lnTo>
                  <a:pt x="491" y="0"/>
                </a:lnTo>
                <a:lnTo>
                  <a:pt x="497" y="0"/>
                </a:lnTo>
                <a:lnTo>
                  <a:pt x="503" y="0"/>
                </a:lnTo>
                <a:lnTo>
                  <a:pt x="509" y="0"/>
                </a:lnTo>
                <a:lnTo>
                  <a:pt x="51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623920" y="6026040"/>
            <a:ext cx="33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rot="16200000">
            <a:off x="3272400" y="4140000"/>
            <a:ext cx="31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p/po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576080" y="316080"/>
            <a:ext cx="65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plot an image of this focused transducer wav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80880" y="1371600"/>
            <a:ext cx="8458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get inpu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1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frequency  (MH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6.3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transducer radiu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 = 76.2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transducer focal length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1 = 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% path length in medium 1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2t = linspace(0,300,500);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t=linspace(-20,20,200);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[z2, r]=meshgrid(z2t, r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0 = in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interface radius of curvature (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1 = 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density, medium 1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 =1.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density, medium 2 (gm/cm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1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wave speed, medium 1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 = 1480.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% wave speed, medium 2 (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04920" y="3808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plot magnitude of on-axis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mage(z2t, rt, abs(p)*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label('z-axi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ylabel('r-axi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31000" y="281952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 MGB_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5322960" cy="398628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4493880" y="2133720"/>
            <a:ext cx="25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unequal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95480" y="297180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 of curv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 rot="2883600">
            <a:off x="313200" y="-2032920"/>
            <a:ext cx="5887800" cy="615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8990" swAng="4389124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8990" swAng="438912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8480" y="3684600"/>
            <a:ext cx="0" cy="1270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659800">
            <a:off x="2374920" y="3404160"/>
            <a:ext cx="2043360" cy="21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rot="18940200">
            <a:off x="1800000" y="3403800"/>
            <a:ext cx="2044080" cy="21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387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657600" y="4124160"/>
            <a:ext cx="730080" cy="193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33412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m wa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13160" y="3386160"/>
          <a:ext cx="590400" cy="4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3160" y="3386160"/>
                    <a:ext cx="59040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536920" y="4878360"/>
          <a:ext cx="25704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6920" y="4878360"/>
                    <a:ext cx="257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 flipV="1">
            <a:off x="2209680" y="3250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278320" y="4459320"/>
          <a:ext cx="284400" cy="28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78320" y="4459320"/>
                    <a:ext cx="28440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133720" y="2892600"/>
          <a:ext cx="260280" cy="28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2892600"/>
                    <a:ext cx="2602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9880" y="3784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716400">
            <a:off x="363240" y="4610160"/>
            <a:ext cx="5887800" cy="615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8990" swAng="4389124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8990" swAng="438912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5880" y="3505320"/>
          <a:ext cx="2286000" cy="77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3505320"/>
                    <a:ext cx="22860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172200" y="4572000"/>
          <a:ext cx="2438280" cy="92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4572000"/>
                    <a:ext cx="24382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5400000">
            <a:off x="876240" y="1099080"/>
            <a:ext cx="1630440" cy="11430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676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066680" y="61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76720" y="685800"/>
          <a:ext cx="5197320" cy="86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685800"/>
                    <a:ext cx="51973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66680" y="304920"/>
          <a:ext cx="276480" cy="29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66680" y="304920"/>
                    <a:ext cx="27648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819520" y="1676520"/>
          <a:ext cx="288720" cy="285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19520" y="1676520"/>
                    <a:ext cx="2887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 flipV="1">
            <a:off x="7086600" y="1523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5600" y="2057400"/>
            <a:ext cx="24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ront curv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rot="5400000">
            <a:off x="876240" y="1099080"/>
            <a:ext cx="1630440" cy="1143000"/>
          </a:xfrm>
          <a:custGeom>
            <a:avLst/>
            <a:gdLst/>
            <a:ahLst/>
            <a:rect l="l" t="t" r="r" b="b"/>
            <a:pathLst>
              <a:path w="2599" h="2039">
                <a:moveTo>
                  <a:pt x="0" y="2039"/>
                </a:moveTo>
                <a:lnTo>
                  <a:pt x="24" y="2039"/>
                </a:lnTo>
                <a:lnTo>
                  <a:pt x="48" y="2039"/>
                </a:lnTo>
                <a:lnTo>
                  <a:pt x="78" y="2039"/>
                </a:lnTo>
                <a:lnTo>
                  <a:pt x="102" y="2039"/>
                </a:lnTo>
                <a:lnTo>
                  <a:pt x="126" y="2039"/>
                </a:lnTo>
                <a:lnTo>
                  <a:pt x="156" y="2039"/>
                </a:lnTo>
                <a:lnTo>
                  <a:pt x="180" y="2039"/>
                </a:lnTo>
                <a:lnTo>
                  <a:pt x="210" y="2039"/>
                </a:lnTo>
                <a:lnTo>
                  <a:pt x="234" y="2039"/>
                </a:lnTo>
                <a:lnTo>
                  <a:pt x="258" y="2039"/>
                </a:lnTo>
                <a:lnTo>
                  <a:pt x="287" y="2039"/>
                </a:lnTo>
                <a:lnTo>
                  <a:pt x="311" y="2039"/>
                </a:lnTo>
                <a:lnTo>
                  <a:pt x="335" y="2039"/>
                </a:lnTo>
                <a:lnTo>
                  <a:pt x="365" y="2039"/>
                </a:lnTo>
                <a:lnTo>
                  <a:pt x="389" y="2039"/>
                </a:lnTo>
                <a:lnTo>
                  <a:pt x="419" y="2033"/>
                </a:lnTo>
                <a:lnTo>
                  <a:pt x="443" y="2033"/>
                </a:lnTo>
                <a:lnTo>
                  <a:pt x="467" y="2027"/>
                </a:lnTo>
                <a:lnTo>
                  <a:pt x="497" y="2027"/>
                </a:lnTo>
                <a:lnTo>
                  <a:pt x="521" y="2015"/>
                </a:lnTo>
                <a:lnTo>
                  <a:pt x="551" y="2009"/>
                </a:lnTo>
                <a:lnTo>
                  <a:pt x="575" y="1997"/>
                </a:lnTo>
                <a:lnTo>
                  <a:pt x="599" y="1985"/>
                </a:lnTo>
                <a:lnTo>
                  <a:pt x="629" y="1967"/>
                </a:lnTo>
                <a:lnTo>
                  <a:pt x="653" y="1943"/>
                </a:lnTo>
                <a:lnTo>
                  <a:pt x="677" y="1919"/>
                </a:lnTo>
                <a:lnTo>
                  <a:pt x="707" y="1890"/>
                </a:lnTo>
                <a:lnTo>
                  <a:pt x="731" y="1848"/>
                </a:lnTo>
                <a:lnTo>
                  <a:pt x="761" y="1800"/>
                </a:lnTo>
                <a:lnTo>
                  <a:pt x="784" y="1746"/>
                </a:lnTo>
                <a:lnTo>
                  <a:pt x="808" y="1686"/>
                </a:lnTo>
                <a:lnTo>
                  <a:pt x="838" y="1615"/>
                </a:lnTo>
                <a:lnTo>
                  <a:pt x="862" y="1531"/>
                </a:lnTo>
                <a:lnTo>
                  <a:pt x="892" y="1441"/>
                </a:lnTo>
                <a:lnTo>
                  <a:pt x="916" y="1340"/>
                </a:lnTo>
                <a:lnTo>
                  <a:pt x="940" y="1238"/>
                </a:lnTo>
                <a:lnTo>
                  <a:pt x="970" y="1118"/>
                </a:lnTo>
                <a:lnTo>
                  <a:pt x="994" y="999"/>
                </a:lnTo>
                <a:lnTo>
                  <a:pt x="1018" y="879"/>
                </a:lnTo>
                <a:lnTo>
                  <a:pt x="1048" y="754"/>
                </a:lnTo>
                <a:lnTo>
                  <a:pt x="1072" y="628"/>
                </a:lnTo>
                <a:lnTo>
                  <a:pt x="1102" y="508"/>
                </a:lnTo>
                <a:lnTo>
                  <a:pt x="1126" y="395"/>
                </a:lnTo>
                <a:lnTo>
                  <a:pt x="1150" y="287"/>
                </a:lnTo>
                <a:lnTo>
                  <a:pt x="1180" y="198"/>
                </a:lnTo>
                <a:lnTo>
                  <a:pt x="1204" y="120"/>
                </a:lnTo>
                <a:lnTo>
                  <a:pt x="1234" y="60"/>
                </a:lnTo>
                <a:lnTo>
                  <a:pt x="1257" y="18"/>
                </a:lnTo>
                <a:lnTo>
                  <a:pt x="1281" y="0"/>
                </a:lnTo>
                <a:lnTo>
                  <a:pt x="1311" y="0"/>
                </a:lnTo>
                <a:lnTo>
                  <a:pt x="1335" y="18"/>
                </a:lnTo>
                <a:lnTo>
                  <a:pt x="1359" y="60"/>
                </a:lnTo>
                <a:lnTo>
                  <a:pt x="1389" y="120"/>
                </a:lnTo>
                <a:lnTo>
                  <a:pt x="1413" y="198"/>
                </a:lnTo>
                <a:lnTo>
                  <a:pt x="1443" y="287"/>
                </a:lnTo>
                <a:lnTo>
                  <a:pt x="1467" y="395"/>
                </a:lnTo>
                <a:lnTo>
                  <a:pt x="1491" y="508"/>
                </a:lnTo>
                <a:lnTo>
                  <a:pt x="1521" y="628"/>
                </a:lnTo>
                <a:lnTo>
                  <a:pt x="1545" y="754"/>
                </a:lnTo>
                <a:lnTo>
                  <a:pt x="1575" y="879"/>
                </a:lnTo>
                <a:lnTo>
                  <a:pt x="1599" y="999"/>
                </a:lnTo>
                <a:lnTo>
                  <a:pt x="1623" y="1118"/>
                </a:lnTo>
                <a:lnTo>
                  <a:pt x="1653" y="1238"/>
                </a:lnTo>
                <a:lnTo>
                  <a:pt x="1677" y="1340"/>
                </a:lnTo>
                <a:lnTo>
                  <a:pt x="1701" y="1441"/>
                </a:lnTo>
                <a:lnTo>
                  <a:pt x="1730" y="1531"/>
                </a:lnTo>
                <a:lnTo>
                  <a:pt x="1754" y="1615"/>
                </a:lnTo>
                <a:lnTo>
                  <a:pt x="1784" y="1686"/>
                </a:lnTo>
                <a:lnTo>
                  <a:pt x="1808" y="1746"/>
                </a:lnTo>
                <a:lnTo>
                  <a:pt x="1832" y="1800"/>
                </a:lnTo>
                <a:lnTo>
                  <a:pt x="1862" y="1848"/>
                </a:lnTo>
                <a:lnTo>
                  <a:pt x="1886" y="1890"/>
                </a:lnTo>
                <a:lnTo>
                  <a:pt x="1916" y="1919"/>
                </a:lnTo>
                <a:lnTo>
                  <a:pt x="1940" y="1943"/>
                </a:lnTo>
                <a:lnTo>
                  <a:pt x="1964" y="1967"/>
                </a:lnTo>
                <a:lnTo>
                  <a:pt x="1994" y="1985"/>
                </a:lnTo>
                <a:lnTo>
                  <a:pt x="2018" y="1997"/>
                </a:lnTo>
                <a:lnTo>
                  <a:pt x="2042" y="2009"/>
                </a:lnTo>
                <a:lnTo>
                  <a:pt x="2072" y="2015"/>
                </a:lnTo>
                <a:lnTo>
                  <a:pt x="2096" y="2027"/>
                </a:lnTo>
                <a:lnTo>
                  <a:pt x="2126" y="2027"/>
                </a:lnTo>
                <a:lnTo>
                  <a:pt x="2150" y="2033"/>
                </a:lnTo>
                <a:lnTo>
                  <a:pt x="2174" y="2033"/>
                </a:lnTo>
                <a:lnTo>
                  <a:pt x="2203" y="2039"/>
                </a:lnTo>
                <a:lnTo>
                  <a:pt x="2227" y="2039"/>
                </a:lnTo>
                <a:lnTo>
                  <a:pt x="2257" y="2039"/>
                </a:lnTo>
                <a:lnTo>
                  <a:pt x="2281" y="2039"/>
                </a:lnTo>
                <a:lnTo>
                  <a:pt x="2305" y="2039"/>
                </a:lnTo>
                <a:lnTo>
                  <a:pt x="2335" y="2039"/>
                </a:lnTo>
                <a:lnTo>
                  <a:pt x="2359" y="2039"/>
                </a:lnTo>
                <a:lnTo>
                  <a:pt x="2383" y="2039"/>
                </a:lnTo>
                <a:lnTo>
                  <a:pt x="2413" y="2039"/>
                </a:lnTo>
                <a:lnTo>
                  <a:pt x="2437" y="2039"/>
                </a:lnTo>
                <a:lnTo>
                  <a:pt x="2467" y="2039"/>
                </a:lnTo>
                <a:lnTo>
                  <a:pt x="2491" y="2039"/>
                </a:lnTo>
                <a:lnTo>
                  <a:pt x="2515" y="2039"/>
                </a:lnTo>
                <a:lnTo>
                  <a:pt x="2545" y="2039"/>
                </a:lnTo>
                <a:lnTo>
                  <a:pt x="2569" y="2039"/>
                </a:lnTo>
                <a:lnTo>
                  <a:pt x="2599" y="2039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676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066680" y="61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6640" y="14479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ussian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76720" y="1828800"/>
          <a:ext cx="519732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28800"/>
                    <a:ext cx="51973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066680" y="304920"/>
          <a:ext cx="276480" cy="29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04920"/>
                    <a:ext cx="27648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19520" y="1676520"/>
          <a:ext cx="288720" cy="28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1676520"/>
                    <a:ext cx="2887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 flipV="1">
            <a:off x="708660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4720" y="312408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 front curv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246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75320" y="696960"/>
            <a:ext cx="12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267080" y="4419720"/>
          <a:ext cx="3089520" cy="84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4419720"/>
                    <a:ext cx="30895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 rot="2915400">
            <a:off x="758160" y="4157280"/>
            <a:ext cx="15235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952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990720" y="472392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49528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1480" y="373392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herical wave (paraxial approxi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95480" y="4876920"/>
          <a:ext cx="289080" cy="28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876920"/>
                    <a:ext cx="2890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 flipV="1">
            <a:off x="99072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14400" y="3657600"/>
          <a:ext cx="276120" cy="29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3657600"/>
                    <a:ext cx="27612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575520" y="5486400"/>
            <a:ext cx="453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et from Gaussian beam by l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4120" y="6019920"/>
          <a:ext cx="1523880" cy="49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6019920"/>
                    <a:ext cx="152388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28400" y="30492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xial Approx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976560" y="1276200"/>
            <a:ext cx="1568520" cy="40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30720" y="1041480"/>
            <a:ext cx="193680" cy="69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218040" y="1692360"/>
            <a:ext cx="707760" cy="18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222800" y="1560600"/>
          <a:ext cx="19368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0" y="1560600"/>
                    <a:ext cx="1936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246480" y="1887480"/>
            <a:ext cx="157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35320" y="117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876920" y="1752480"/>
          <a:ext cx="30456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45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68640" y="677880"/>
          <a:ext cx="26820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68640" y="677880"/>
                    <a:ext cx="2682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rot="2369400">
            <a:off x="3214080" y="1546560"/>
            <a:ext cx="61020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99" y="892"/>
                </a:moveTo>
                <a:arcTo wR="10800" hR="10800" stAng="-3992675" swAng="2063675"/>
                <a:lnTo>
                  <a:pt x="10800" y="10800"/>
                </a:lnTo>
                <a:close/>
              </a:path>
              <a:path fill="none" w="21600" h="21600">
                <a:moveTo>
                  <a:pt x="15099" y="892"/>
                </a:moveTo>
                <a:arcTo wR="10800" hR="10800" stAng="-3992675" swAng="206367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928960" y="2489040"/>
          <a:ext cx="3755880" cy="41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2489040"/>
                    <a:ext cx="37558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75040" y="24494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6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52480" y="3276720"/>
          <a:ext cx="365940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3276720"/>
                    <a:ext cx="3659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831320" y="4114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819520" y="4114800"/>
          <a:ext cx="5095800" cy="452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4114800"/>
                    <a:ext cx="50958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3352680"/>
            <a:ext cx="2889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si-plane wave trav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direction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28400" y="30492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xial Approx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976560" y="1276200"/>
            <a:ext cx="1568520" cy="40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30720" y="1041480"/>
            <a:ext cx="193680" cy="69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218040" y="1692360"/>
            <a:ext cx="707760" cy="18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22800" y="1560600"/>
          <a:ext cx="19368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0" y="1560600"/>
                    <a:ext cx="1936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246480" y="1887480"/>
            <a:ext cx="157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235320" y="117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876920" y="1752480"/>
          <a:ext cx="30456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45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068640" y="677880"/>
          <a:ext cx="26820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68640" y="677880"/>
                    <a:ext cx="2682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 rot="2369400">
            <a:off x="3214080" y="1546560"/>
            <a:ext cx="61020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99" y="892"/>
                </a:moveTo>
                <a:arcTo wR="10800" hR="10800" stAng="-3992675" swAng="2063675"/>
                <a:lnTo>
                  <a:pt x="10800" y="10800"/>
                </a:lnTo>
                <a:close/>
              </a:path>
              <a:path fill="none" w="21600" h="21600">
                <a:moveTo>
                  <a:pt x="15099" y="892"/>
                </a:moveTo>
                <a:arcTo wR="10800" hR="10800" stAng="-3992675" swAng="206367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643040" y="2438280"/>
          <a:ext cx="5095800" cy="45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3040" y="2438280"/>
                    <a:ext cx="50958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09480" y="3429000"/>
          <a:ext cx="3584520" cy="219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3429000"/>
                    <a:ext cx="358452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724280" y="41911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646600" y="3938760"/>
          <a:ext cx="2880000" cy="91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46600" y="3938760"/>
                    <a:ext cx="28800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383000" y="3386160"/>
            <a:ext cx="26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0.5 rad (about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4720" y="22860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xial Approx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1600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76520" y="762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57400" y="178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33880" y="414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3360" y="1218600"/>
            <a:ext cx="1523160" cy="76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63" y="27"/>
                </a:moveTo>
                <a:arcTo wR="10800" hR="10800" stAng="-5156899" swAng="10227009"/>
                <a:lnTo>
                  <a:pt x="10800" y="10800"/>
                </a:lnTo>
                <a:close/>
              </a:path>
              <a:path fill="none" w="21600" h="21600">
                <a:moveTo>
                  <a:pt x="11563" y="27"/>
                </a:moveTo>
                <a:arcTo wR="10800" hR="10800" stAng="-5156899" swAng="1022700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1600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362320" y="1295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828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92680" y="838080"/>
            <a:ext cx="41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 equation (cylindrical coordin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x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781440" y="1600200"/>
          <a:ext cx="348768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1440" y="1600200"/>
                    <a:ext cx="348768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440080" y="30481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76720" y="2971800"/>
          <a:ext cx="344952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971800"/>
                    <a:ext cx="3449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679040" y="38862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s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505320" y="3733920"/>
          <a:ext cx="331308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733920"/>
                    <a:ext cx="33130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043720" y="4608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314880" y="5029200"/>
          <a:ext cx="308592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14880" y="5029200"/>
                    <a:ext cx="3085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646800" y="613260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xial wav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1680" y="2438280"/>
            <a:ext cx="48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radius, not the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3:31:23Z</dcterms:created>
  <dc:creator>Lester Schmerr</dc:creator>
  <dc:description/>
  <dc:language>en-US</dc:language>
  <cp:lastModifiedBy>Lester Schmerr</cp:lastModifiedBy>
  <dcterms:modified xsi:type="dcterms:W3CDTF">2007-01-03T20:50:00Z</dcterms:modified>
  <cp:revision>11</cp:revision>
  <dc:subject/>
  <dc:title>Slide 1</dc:title>
</cp:coreProperties>
</file>