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F2B-2482-40B9-88F9-437FE6A2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D94-50E0-4FE5-8E2A-288C01AE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ADD-57EE-44E5-8E44-528E3B44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97A-25AC-4EBA-BDE1-2DF6B930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BD7-EFCD-4863-9F8F-82EDF680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DA2-2CB7-48DD-A1D1-13D0C705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8C7-5467-46AE-BECB-3571B041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79A-4E34-47F9-9464-2FDE0DB9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F93-D21B-41F5-BE53-18895986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427-F770-4F6F-A8A5-8876CAA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E09-5F55-4027-9772-E580ED0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B99-5730-4311-9BBD-400B1E9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6E1E-378B-4EA3-B6E9-9DB59C95F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37160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4720" y="3429000"/>
            <a:ext cx="36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dels and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736200" y="422280"/>
            <a:ext cx="68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voltage spectrum in the frequency 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57200" y="1600200"/>
          <a:ext cx="784872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7848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734040" y="354636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ot of the magnitude of this spectrum at the parameter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d previous looks like the previous pl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200040" y="3808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70080" y="1430280"/>
            <a:ext cx="5035680" cy="3846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70080" y="143028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70080" y="143028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170080" y="142992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70080" y="527688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170080" y="522144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70080" y="1430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5160" y="5310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668680" y="5221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68680" y="1430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87680" y="5310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166920" y="522144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66920" y="1430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86280" y="5310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678120" y="522144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78120" y="1430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97120" y="5310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176720" y="5221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76720" y="1430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95720" y="5310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687920" y="5221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87920" y="1430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360" y="5310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186520" y="5221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86520" y="1430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70960" y="5310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684760" y="522144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84760" y="1430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69200" y="5310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195960" y="522144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95960" y="1430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0400" y="5310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694560" y="5221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94560" y="1430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79000" y="5310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205760" y="5221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05760" y="1430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90200" y="5310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70080" y="5276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146720" y="5276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95400" y="5186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70080" y="4635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7146720" y="463536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95400" y="4545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70080" y="3994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146720" y="3994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95400" y="3905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70080" y="33526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146720" y="335268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95400" y="3263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0080" y="27129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146720" y="271296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95400" y="2622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70080" y="2071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146720" y="20718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95400" y="1981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70080" y="14302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146720" y="143028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95400" y="1339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70080" y="143028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70080" y="143028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70080" y="2060640"/>
            <a:ext cx="4977000" cy="3205080"/>
          </a:xfrm>
          <a:custGeom>
            <a:avLst/>
            <a:gdLst/>
            <a:ahLst/>
            <a:rect l="l" t="t" r="r" b="b"/>
            <a:pathLst>
              <a:path w="3135" h="2019">
                <a:moveTo>
                  <a:pt x="0" y="0"/>
                </a:moveTo>
                <a:lnTo>
                  <a:pt x="29" y="63"/>
                </a:lnTo>
                <a:lnTo>
                  <a:pt x="58" y="226"/>
                </a:lnTo>
                <a:lnTo>
                  <a:pt x="95" y="418"/>
                </a:lnTo>
                <a:lnTo>
                  <a:pt x="124" y="616"/>
                </a:lnTo>
                <a:lnTo>
                  <a:pt x="153" y="786"/>
                </a:lnTo>
                <a:lnTo>
                  <a:pt x="190" y="935"/>
                </a:lnTo>
                <a:lnTo>
                  <a:pt x="219" y="1055"/>
                </a:lnTo>
                <a:lnTo>
                  <a:pt x="248" y="1162"/>
                </a:lnTo>
                <a:lnTo>
                  <a:pt x="285" y="1247"/>
                </a:lnTo>
                <a:lnTo>
                  <a:pt x="314" y="1325"/>
                </a:lnTo>
                <a:lnTo>
                  <a:pt x="343" y="1388"/>
                </a:lnTo>
                <a:lnTo>
                  <a:pt x="380" y="1445"/>
                </a:lnTo>
                <a:lnTo>
                  <a:pt x="409" y="1495"/>
                </a:lnTo>
                <a:lnTo>
                  <a:pt x="438" y="1537"/>
                </a:lnTo>
                <a:lnTo>
                  <a:pt x="475" y="1580"/>
                </a:lnTo>
                <a:lnTo>
                  <a:pt x="504" y="1615"/>
                </a:lnTo>
                <a:lnTo>
                  <a:pt x="533" y="1643"/>
                </a:lnTo>
                <a:lnTo>
                  <a:pt x="570" y="1672"/>
                </a:lnTo>
                <a:lnTo>
                  <a:pt x="599" y="1700"/>
                </a:lnTo>
                <a:lnTo>
                  <a:pt x="628" y="1721"/>
                </a:lnTo>
                <a:lnTo>
                  <a:pt x="665" y="1743"/>
                </a:lnTo>
                <a:lnTo>
                  <a:pt x="694" y="1764"/>
                </a:lnTo>
                <a:lnTo>
                  <a:pt x="723" y="1785"/>
                </a:lnTo>
                <a:lnTo>
                  <a:pt x="760" y="1799"/>
                </a:lnTo>
                <a:lnTo>
                  <a:pt x="789" y="1821"/>
                </a:lnTo>
                <a:lnTo>
                  <a:pt x="818" y="1835"/>
                </a:lnTo>
                <a:lnTo>
                  <a:pt x="855" y="1849"/>
                </a:lnTo>
                <a:lnTo>
                  <a:pt x="884" y="1863"/>
                </a:lnTo>
                <a:lnTo>
                  <a:pt x="913" y="1877"/>
                </a:lnTo>
                <a:lnTo>
                  <a:pt x="950" y="1884"/>
                </a:lnTo>
                <a:lnTo>
                  <a:pt x="979" y="1899"/>
                </a:lnTo>
                <a:lnTo>
                  <a:pt x="1008" y="1906"/>
                </a:lnTo>
                <a:lnTo>
                  <a:pt x="1045" y="1920"/>
                </a:lnTo>
                <a:lnTo>
                  <a:pt x="1074" y="1927"/>
                </a:lnTo>
                <a:lnTo>
                  <a:pt x="1103" y="1934"/>
                </a:lnTo>
                <a:lnTo>
                  <a:pt x="1140" y="1941"/>
                </a:lnTo>
                <a:lnTo>
                  <a:pt x="1169" y="1955"/>
                </a:lnTo>
                <a:lnTo>
                  <a:pt x="1198" y="1962"/>
                </a:lnTo>
                <a:lnTo>
                  <a:pt x="1235" y="1969"/>
                </a:lnTo>
                <a:lnTo>
                  <a:pt x="1264" y="1976"/>
                </a:lnTo>
                <a:lnTo>
                  <a:pt x="1293" y="1976"/>
                </a:lnTo>
                <a:lnTo>
                  <a:pt x="1330" y="1984"/>
                </a:lnTo>
                <a:lnTo>
                  <a:pt x="1359" y="1991"/>
                </a:lnTo>
                <a:lnTo>
                  <a:pt x="1388" y="1998"/>
                </a:lnTo>
                <a:lnTo>
                  <a:pt x="1425" y="1998"/>
                </a:lnTo>
                <a:lnTo>
                  <a:pt x="1454" y="2005"/>
                </a:lnTo>
                <a:lnTo>
                  <a:pt x="1483" y="2005"/>
                </a:lnTo>
                <a:lnTo>
                  <a:pt x="1520" y="2012"/>
                </a:lnTo>
                <a:lnTo>
                  <a:pt x="1549" y="2012"/>
                </a:lnTo>
                <a:lnTo>
                  <a:pt x="1586" y="2012"/>
                </a:lnTo>
                <a:lnTo>
                  <a:pt x="1615" y="2012"/>
                </a:lnTo>
                <a:lnTo>
                  <a:pt x="1644" y="2012"/>
                </a:lnTo>
                <a:lnTo>
                  <a:pt x="1681" y="2012"/>
                </a:lnTo>
                <a:lnTo>
                  <a:pt x="1710" y="2012"/>
                </a:lnTo>
                <a:lnTo>
                  <a:pt x="1739" y="2005"/>
                </a:lnTo>
                <a:lnTo>
                  <a:pt x="1776" y="2005"/>
                </a:lnTo>
                <a:lnTo>
                  <a:pt x="1805" y="2005"/>
                </a:lnTo>
                <a:lnTo>
                  <a:pt x="1834" y="2005"/>
                </a:lnTo>
                <a:lnTo>
                  <a:pt x="1871" y="2005"/>
                </a:lnTo>
                <a:lnTo>
                  <a:pt x="1900" y="1998"/>
                </a:lnTo>
                <a:lnTo>
                  <a:pt x="1929" y="1998"/>
                </a:lnTo>
                <a:lnTo>
                  <a:pt x="1966" y="1998"/>
                </a:lnTo>
                <a:lnTo>
                  <a:pt x="1995" y="1998"/>
                </a:lnTo>
                <a:lnTo>
                  <a:pt x="2024" y="1998"/>
                </a:lnTo>
                <a:lnTo>
                  <a:pt x="2061" y="1998"/>
                </a:lnTo>
                <a:lnTo>
                  <a:pt x="2090" y="1998"/>
                </a:lnTo>
                <a:lnTo>
                  <a:pt x="2119" y="1998"/>
                </a:lnTo>
                <a:lnTo>
                  <a:pt x="2156" y="1998"/>
                </a:lnTo>
                <a:lnTo>
                  <a:pt x="2185" y="1998"/>
                </a:lnTo>
                <a:lnTo>
                  <a:pt x="2214" y="1998"/>
                </a:lnTo>
                <a:lnTo>
                  <a:pt x="2251" y="1998"/>
                </a:lnTo>
                <a:lnTo>
                  <a:pt x="2280" y="1998"/>
                </a:lnTo>
                <a:lnTo>
                  <a:pt x="2309" y="1998"/>
                </a:lnTo>
                <a:lnTo>
                  <a:pt x="2346" y="1998"/>
                </a:lnTo>
                <a:lnTo>
                  <a:pt x="2375" y="1998"/>
                </a:lnTo>
                <a:lnTo>
                  <a:pt x="2404" y="1998"/>
                </a:lnTo>
                <a:lnTo>
                  <a:pt x="2441" y="1998"/>
                </a:lnTo>
                <a:lnTo>
                  <a:pt x="2470" y="2005"/>
                </a:lnTo>
                <a:lnTo>
                  <a:pt x="2499" y="2005"/>
                </a:lnTo>
                <a:lnTo>
                  <a:pt x="2536" y="2005"/>
                </a:lnTo>
                <a:lnTo>
                  <a:pt x="2565" y="2005"/>
                </a:lnTo>
                <a:lnTo>
                  <a:pt x="2594" y="2005"/>
                </a:lnTo>
                <a:lnTo>
                  <a:pt x="2631" y="2005"/>
                </a:lnTo>
                <a:lnTo>
                  <a:pt x="2660" y="2005"/>
                </a:lnTo>
                <a:lnTo>
                  <a:pt x="2689" y="2005"/>
                </a:lnTo>
                <a:lnTo>
                  <a:pt x="2726" y="2012"/>
                </a:lnTo>
                <a:lnTo>
                  <a:pt x="2755" y="2012"/>
                </a:lnTo>
                <a:lnTo>
                  <a:pt x="2784" y="2012"/>
                </a:lnTo>
                <a:lnTo>
                  <a:pt x="2821" y="2012"/>
                </a:lnTo>
                <a:lnTo>
                  <a:pt x="2850" y="2012"/>
                </a:lnTo>
                <a:lnTo>
                  <a:pt x="2879" y="2012"/>
                </a:lnTo>
                <a:lnTo>
                  <a:pt x="2916" y="2012"/>
                </a:lnTo>
                <a:lnTo>
                  <a:pt x="2945" y="2019"/>
                </a:lnTo>
                <a:lnTo>
                  <a:pt x="2974" y="2019"/>
                </a:lnTo>
                <a:lnTo>
                  <a:pt x="3011" y="2019"/>
                </a:lnTo>
                <a:lnTo>
                  <a:pt x="3040" y="2019"/>
                </a:lnTo>
                <a:lnTo>
                  <a:pt x="3069" y="2019"/>
                </a:lnTo>
                <a:lnTo>
                  <a:pt x="3106" y="2019"/>
                </a:lnTo>
                <a:lnTo>
                  <a:pt x="3135" y="201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36680" y="5791320"/>
            <a:ext cx="159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,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1341000" y="3153240"/>
            <a:ext cx="48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V(f)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990720"/>
            <a:ext cx="4572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vff = pulserV(200, .01, 0.2,50,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(1:100), abs(vff(1:100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frequency, Hz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label('|V(f)|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3124080"/>
            <a:ext cx="73915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Vout = pulserV(V0, t0, a1, a2, 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 = f + eps*(f ==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f = V0/(1 -exp(-a1*t0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g1 = a1 - i*2*pi*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g2 = a2 - i*2*pi*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ut = Vinf*(1-exp(-arg1*t0))./arg1 + Vinf*(1 -exp(i*2*pi*f*t0))./(i*2*pi*f)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V0*exp(i*2*pi*f*t0)./arg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198960" y="38088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– Panametrics 5052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86400" y="13525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pulse of Panametrics 5052PR, energy setting = 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ping setting = 5, open output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48496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322280" y="1717560"/>
            <a:ext cx="3295080" cy="1981440"/>
            <a:chOff x="1322280" y="1717560"/>
            <a:chExt cx="3295080" cy="1981440"/>
          </a:xfrm>
        </p:grpSpPr>
        <p:sp>
          <p:nvSpPr>
            <p:cNvPr id="470" name=""/>
            <p:cNvSpPr/>
            <p:nvPr/>
          </p:nvSpPr>
          <p:spPr>
            <a:xfrm>
              <a:off x="2157480" y="278460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462040" y="2479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2462040" y="3393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62040" y="2479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62040" y="36990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00400" y="2362320"/>
              <a:ext cx="533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57680" y="247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22280" y="2797200"/>
              <a:ext cx="86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05880" y="1760400"/>
              <a:ext cx="90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30880" y="17175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8560" y="2556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17040" y="278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2417760" y="105084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pulser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65600" y="28195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87052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8705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7052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7052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08880" y="2397240"/>
            <a:ext cx="533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658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30400" y="2832120"/>
            <a:ext cx="86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14360" y="179532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939000" y="17524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72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10720" y="28195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37200" y="3886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4487760" y="3081240"/>
          <a:ext cx="190440" cy="1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3081240"/>
                    <a:ext cx="19044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2368800" y="4876920"/>
            <a:ext cx="148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637000" y="5194440"/>
          <a:ext cx="190440" cy="12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5194440"/>
                    <a:ext cx="190440" cy="12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7543800" y="2819520"/>
            <a:ext cx="1522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762012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01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20000" y="281952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5181480" y="4724280"/>
          <a:ext cx="2819520" cy="86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724280"/>
                    <a:ext cx="28195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5724360" y="388620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load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97520" y="3808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-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41760" y="38088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– Panametrics 5052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191120" y="1752480"/>
                <a:ext cx="6429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1819440" y="2973240"/>
            <a:ext cx="93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ping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48320" y="297324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ping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6120" y="121932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ike Pul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16000" y="3227400"/>
            <a:ext cx="3869640" cy="3122640"/>
            <a:chOff x="216000" y="3227400"/>
            <a:chExt cx="3869640" cy="3122640"/>
          </a:xfrm>
        </p:grpSpPr>
        <p:grpSp>
          <p:nvGrpSpPr>
            <p:cNvPr id="516" name=""/>
            <p:cNvGrpSpPr/>
            <p:nvPr/>
          </p:nvGrpSpPr>
          <p:grpSpPr>
            <a:xfrm>
              <a:off x="536400" y="3227400"/>
              <a:ext cx="3549240" cy="2851560"/>
              <a:chOff x="536400" y="3227400"/>
              <a:chExt cx="3549240" cy="2851560"/>
            </a:xfrm>
          </p:grpSpPr>
          <p:sp>
            <p:nvSpPr>
              <p:cNvPr id="517" name=""/>
              <p:cNvSpPr/>
              <p:nvPr/>
            </p:nvSpPr>
            <p:spPr>
              <a:xfrm>
                <a:off x="705240" y="3297240"/>
                <a:ext cx="3308040" cy="26067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05240" y="3297240"/>
                <a:ext cx="3308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5240" y="5904000"/>
                <a:ext cx="3308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4013280" y="3296880"/>
                <a:ext cx="1800" cy="260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05240" y="3296880"/>
                <a:ext cx="1440" cy="260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05240" y="58658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5240" y="329724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2840" y="5926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1527480" y="58658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527480" y="329724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496880" y="5926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2359440" y="58658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359440" y="329724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290680" y="5926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3183120" y="586584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83120" y="329724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4720" y="5926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4013280" y="586584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13280" y="329724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944880" y="5926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5240" y="590400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3975120" y="590400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4800" y="5835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5240" y="553104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975120" y="553104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36400" y="54612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5240" y="51562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3975120" y="515628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36400" y="50878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05240" y="478332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975120" y="478332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36400" y="4714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5240" y="4410000"/>
                <a:ext cx="29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975120" y="4410000"/>
                <a:ext cx="37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6400" y="43419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05240" y="403560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975120" y="403560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6400" y="39672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5240" y="3662280"/>
                <a:ext cx="29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3975120" y="3662280"/>
                <a:ext cx="37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36400" y="35942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5240" y="329724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3975120" y="329724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36400" y="32274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5240" y="3387600"/>
                <a:ext cx="2097000" cy="2432160"/>
              </a:xfrm>
              <a:custGeom>
                <a:avLst/>
                <a:gdLst/>
                <a:ahLst/>
                <a:rect l="l" t="t" r="r" b="b"/>
                <a:pathLst>
                  <a:path w="1321" h="1532">
                    <a:moveTo>
                      <a:pt x="0" y="0"/>
                    </a:moveTo>
                    <a:lnTo>
                      <a:pt x="9" y="0"/>
                    </a:lnTo>
                    <a:lnTo>
                      <a:pt x="19" y="87"/>
                    </a:lnTo>
                    <a:lnTo>
                      <a:pt x="28" y="216"/>
                    </a:lnTo>
                    <a:lnTo>
                      <a:pt x="38" y="360"/>
                    </a:lnTo>
                    <a:lnTo>
                      <a:pt x="48" y="495"/>
                    </a:lnTo>
                    <a:lnTo>
                      <a:pt x="57" y="610"/>
                    </a:lnTo>
                    <a:lnTo>
                      <a:pt x="72" y="701"/>
                    </a:lnTo>
                    <a:lnTo>
                      <a:pt x="81" y="778"/>
                    </a:lnTo>
                    <a:lnTo>
                      <a:pt x="91" y="845"/>
                    </a:lnTo>
                    <a:lnTo>
                      <a:pt x="101" y="913"/>
                    </a:lnTo>
                    <a:lnTo>
                      <a:pt x="110" y="966"/>
                    </a:lnTo>
                    <a:lnTo>
                      <a:pt x="120" y="1014"/>
                    </a:lnTo>
                    <a:lnTo>
                      <a:pt x="134" y="1052"/>
                    </a:lnTo>
                    <a:lnTo>
                      <a:pt x="144" y="1086"/>
                    </a:lnTo>
                    <a:lnTo>
                      <a:pt x="153" y="1114"/>
                    </a:lnTo>
                    <a:lnTo>
                      <a:pt x="163" y="1143"/>
                    </a:lnTo>
                    <a:lnTo>
                      <a:pt x="173" y="1167"/>
                    </a:lnTo>
                    <a:lnTo>
                      <a:pt x="182" y="1191"/>
                    </a:lnTo>
                    <a:lnTo>
                      <a:pt x="197" y="1206"/>
                    </a:lnTo>
                    <a:lnTo>
                      <a:pt x="206" y="1225"/>
                    </a:lnTo>
                    <a:lnTo>
                      <a:pt x="216" y="1239"/>
                    </a:lnTo>
                    <a:lnTo>
                      <a:pt x="225" y="1254"/>
                    </a:lnTo>
                    <a:lnTo>
                      <a:pt x="235" y="1268"/>
                    </a:lnTo>
                    <a:lnTo>
                      <a:pt x="245" y="1282"/>
                    </a:lnTo>
                    <a:lnTo>
                      <a:pt x="259" y="1292"/>
                    </a:lnTo>
                    <a:lnTo>
                      <a:pt x="269" y="1306"/>
                    </a:lnTo>
                    <a:lnTo>
                      <a:pt x="278" y="1316"/>
                    </a:lnTo>
                    <a:lnTo>
                      <a:pt x="288" y="1326"/>
                    </a:lnTo>
                    <a:lnTo>
                      <a:pt x="297" y="1335"/>
                    </a:lnTo>
                    <a:lnTo>
                      <a:pt x="307" y="1340"/>
                    </a:lnTo>
                    <a:lnTo>
                      <a:pt x="321" y="1350"/>
                    </a:lnTo>
                    <a:lnTo>
                      <a:pt x="331" y="1355"/>
                    </a:lnTo>
                    <a:lnTo>
                      <a:pt x="341" y="1364"/>
                    </a:lnTo>
                    <a:lnTo>
                      <a:pt x="350" y="1374"/>
                    </a:lnTo>
                    <a:lnTo>
                      <a:pt x="360" y="1379"/>
                    </a:lnTo>
                    <a:lnTo>
                      <a:pt x="370" y="1383"/>
                    </a:lnTo>
                    <a:lnTo>
                      <a:pt x="384" y="1388"/>
                    </a:lnTo>
                    <a:lnTo>
                      <a:pt x="394" y="1393"/>
                    </a:lnTo>
                    <a:lnTo>
                      <a:pt x="403" y="1398"/>
                    </a:lnTo>
                    <a:lnTo>
                      <a:pt x="413" y="1403"/>
                    </a:lnTo>
                    <a:lnTo>
                      <a:pt x="422" y="1407"/>
                    </a:lnTo>
                    <a:lnTo>
                      <a:pt x="432" y="1412"/>
                    </a:lnTo>
                    <a:lnTo>
                      <a:pt x="446" y="1412"/>
                    </a:lnTo>
                    <a:lnTo>
                      <a:pt x="456" y="1417"/>
                    </a:lnTo>
                    <a:lnTo>
                      <a:pt x="466" y="1422"/>
                    </a:lnTo>
                    <a:lnTo>
                      <a:pt x="475" y="1427"/>
                    </a:lnTo>
                    <a:lnTo>
                      <a:pt x="485" y="1431"/>
                    </a:lnTo>
                    <a:lnTo>
                      <a:pt x="494" y="1431"/>
                    </a:lnTo>
                    <a:lnTo>
                      <a:pt x="509" y="1436"/>
                    </a:lnTo>
                    <a:lnTo>
                      <a:pt x="518" y="1436"/>
                    </a:lnTo>
                    <a:lnTo>
                      <a:pt x="528" y="1441"/>
                    </a:lnTo>
                    <a:lnTo>
                      <a:pt x="538" y="1446"/>
                    </a:lnTo>
                    <a:lnTo>
                      <a:pt x="547" y="1446"/>
                    </a:lnTo>
                    <a:lnTo>
                      <a:pt x="557" y="1451"/>
                    </a:lnTo>
                    <a:lnTo>
                      <a:pt x="571" y="1451"/>
                    </a:lnTo>
                    <a:lnTo>
                      <a:pt x="581" y="1455"/>
                    </a:lnTo>
                    <a:lnTo>
                      <a:pt x="590" y="1455"/>
                    </a:lnTo>
                    <a:lnTo>
                      <a:pt x="600" y="1460"/>
                    </a:lnTo>
                    <a:lnTo>
                      <a:pt x="610" y="1460"/>
                    </a:lnTo>
                    <a:lnTo>
                      <a:pt x="619" y="1460"/>
                    </a:lnTo>
                    <a:lnTo>
                      <a:pt x="634" y="1465"/>
                    </a:lnTo>
                    <a:lnTo>
                      <a:pt x="643" y="1465"/>
                    </a:lnTo>
                    <a:lnTo>
                      <a:pt x="653" y="1470"/>
                    </a:lnTo>
                    <a:lnTo>
                      <a:pt x="663" y="1470"/>
                    </a:lnTo>
                    <a:lnTo>
                      <a:pt x="672" y="1475"/>
                    </a:lnTo>
                    <a:lnTo>
                      <a:pt x="682" y="1475"/>
                    </a:lnTo>
                    <a:lnTo>
                      <a:pt x="696" y="1475"/>
                    </a:lnTo>
                    <a:lnTo>
                      <a:pt x="706" y="1479"/>
                    </a:lnTo>
                    <a:lnTo>
                      <a:pt x="715" y="1479"/>
                    </a:lnTo>
                    <a:lnTo>
                      <a:pt x="725" y="1484"/>
                    </a:lnTo>
                    <a:lnTo>
                      <a:pt x="735" y="1484"/>
                    </a:lnTo>
                    <a:lnTo>
                      <a:pt x="744" y="1484"/>
                    </a:lnTo>
                    <a:lnTo>
                      <a:pt x="759" y="1489"/>
                    </a:lnTo>
                    <a:lnTo>
                      <a:pt x="768" y="1489"/>
                    </a:lnTo>
                    <a:lnTo>
                      <a:pt x="778" y="1489"/>
                    </a:lnTo>
                    <a:lnTo>
                      <a:pt x="787" y="1489"/>
                    </a:lnTo>
                    <a:lnTo>
                      <a:pt x="797" y="1489"/>
                    </a:lnTo>
                    <a:lnTo>
                      <a:pt x="807" y="1494"/>
                    </a:lnTo>
                    <a:lnTo>
                      <a:pt x="821" y="1494"/>
                    </a:lnTo>
                    <a:lnTo>
                      <a:pt x="831" y="1494"/>
                    </a:lnTo>
                    <a:lnTo>
                      <a:pt x="840" y="1494"/>
                    </a:lnTo>
                    <a:lnTo>
                      <a:pt x="850" y="1499"/>
                    </a:lnTo>
                    <a:lnTo>
                      <a:pt x="859" y="1499"/>
                    </a:lnTo>
                    <a:lnTo>
                      <a:pt x="869" y="1499"/>
                    </a:lnTo>
                    <a:lnTo>
                      <a:pt x="884" y="1499"/>
                    </a:lnTo>
                    <a:lnTo>
                      <a:pt x="893" y="1499"/>
                    </a:lnTo>
                    <a:lnTo>
                      <a:pt x="903" y="1503"/>
                    </a:lnTo>
                    <a:lnTo>
                      <a:pt x="912" y="1503"/>
                    </a:lnTo>
                    <a:lnTo>
                      <a:pt x="922" y="1503"/>
                    </a:lnTo>
                    <a:lnTo>
                      <a:pt x="932" y="1503"/>
                    </a:lnTo>
                    <a:lnTo>
                      <a:pt x="946" y="1503"/>
                    </a:lnTo>
                    <a:lnTo>
                      <a:pt x="956" y="1508"/>
                    </a:lnTo>
                    <a:lnTo>
                      <a:pt x="965" y="1508"/>
                    </a:lnTo>
                    <a:lnTo>
                      <a:pt x="975" y="1508"/>
                    </a:lnTo>
                    <a:lnTo>
                      <a:pt x="984" y="1508"/>
                    </a:lnTo>
                    <a:lnTo>
                      <a:pt x="994" y="1508"/>
                    </a:lnTo>
                    <a:lnTo>
                      <a:pt x="1008" y="1513"/>
                    </a:lnTo>
                    <a:lnTo>
                      <a:pt x="1018" y="1513"/>
                    </a:lnTo>
                    <a:lnTo>
                      <a:pt x="1028" y="1513"/>
                    </a:lnTo>
                    <a:lnTo>
                      <a:pt x="1037" y="1513"/>
                    </a:lnTo>
                    <a:lnTo>
                      <a:pt x="1047" y="1513"/>
                    </a:lnTo>
                    <a:lnTo>
                      <a:pt x="1056" y="1513"/>
                    </a:lnTo>
                    <a:lnTo>
                      <a:pt x="1071" y="1518"/>
                    </a:lnTo>
                    <a:lnTo>
                      <a:pt x="1080" y="1518"/>
                    </a:lnTo>
                    <a:lnTo>
                      <a:pt x="1090" y="1518"/>
                    </a:lnTo>
                    <a:lnTo>
                      <a:pt x="1100" y="1518"/>
                    </a:lnTo>
                    <a:lnTo>
                      <a:pt x="1109" y="1518"/>
                    </a:lnTo>
                    <a:lnTo>
                      <a:pt x="1119" y="1518"/>
                    </a:lnTo>
                    <a:lnTo>
                      <a:pt x="1133" y="1518"/>
                    </a:lnTo>
                    <a:lnTo>
                      <a:pt x="1143" y="1518"/>
                    </a:lnTo>
                    <a:lnTo>
                      <a:pt x="1153" y="1523"/>
                    </a:lnTo>
                    <a:lnTo>
                      <a:pt x="1162" y="1523"/>
                    </a:lnTo>
                    <a:lnTo>
                      <a:pt x="1172" y="1523"/>
                    </a:lnTo>
                    <a:lnTo>
                      <a:pt x="1181" y="1523"/>
                    </a:lnTo>
                    <a:lnTo>
                      <a:pt x="1196" y="1523"/>
                    </a:lnTo>
                    <a:lnTo>
                      <a:pt x="1205" y="1523"/>
                    </a:lnTo>
                    <a:lnTo>
                      <a:pt x="1215" y="1527"/>
                    </a:lnTo>
                    <a:lnTo>
                      <a:pt x="1225" y="1527"/>
                    </a:lnTo>
                    <a:lnTo>
                      <a:pt x="1234" y="1527"/>
                    </a:lnTo>
                    <a:lnTo>
                      <a:pt x="1244" y="1527"/>
                    </a:lnTo>
                    <a:lnTo>
                      <a:pt x="1258" y="1527"/>
                    </a:lnTo>
                    <a:lnTo>
                      <a:pt x="1268" y="1527"/>
                    </a:lnTo>
                    <a:lnTo>
                      <a:pt x="1277" y="1527"/>
                    </a:lnTo>
                    <a:lnTo>
                      <a:pt x="1287" y="1527"/>
                    </a:lnTo>
                    <a:lnTo>
                      <a:pt x="1297" y="1527"/>
                    </a:lnTo>
                    <a:lnTo>
                      <a:pt x="1306" y="1532"/>
                    </a:lnTo>
                    <a:lnTo>
                      <a:pt x="1321" y="153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02240" y="5819760"/>
                <a:ext cx="1219320" cy="30240"/>
              </a:xfrm>
              <a:custGeom>
                <a:avLst/>
                <a:gdLst/>
                <a:ahLst/>
                <a:rect l="l" t="t" r="r" b="b"/>
                <a:pathLst>
                  <a:path w="768" h="19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1" y="0"/>
                    </a:lnTo>
                    <a:lnTo>
                      <a:pt x="91" y="5"/>
                    </a:lnTo>
                    <a:lnTo>
                      <a:pt x="101" y="0"/>
                    </a:lnTo>
                    <a:lnTo>
                      <a:pt x="110" y="5"/>
                    </a:lnTo>
                    <a:lnTo>
                      <a:pt x="125" y="5"/>
                    </a:lnTo>
                    <a:lnTo>
                      <a:pt x="134" y="5"/>
                    </a:lnTo>
                    <a:lnTo>
                      <a:pt x="144" y="5"/>
                    </a:lnTo>
                    <a:lnTo>
                      <a:pt x="153" y="5"/>
                    </a:lnTo>
                    <a:lnTo>
                      <a:pt x="163" y="5"/>
                    </a:lnTo>
                    <a:lnTo>
                      <a:pt x="173" y="5"/>
                    </a:lnTo>
                    <a:lnTo>
                      <a:pt x="187" y="5"/>
                    </a:lnTo>
                    <a:lnTo>
                      <a:pt x="197" y="5"/>
                    </a:lnTo>
                    <a:lnTo>
                      <a:pt x="206" y="5"/>
                    </a:lnTo>
                    <a:lnTo>
                      <a:pt x="216" y="5"/>
                    </a:lnTo>
                    <a:lnTo>
                      <a:pt x="225" y="10"/>
                    </a:lnTo>
                    <a:lnTo>
                      <a:pt x="235" y="10"/>
                    </a:lnTo>
                    <a:lnTo>
                      <a:pt x="249" y="10"/>
                    </a:lnTo>
                    <a:lnTo>
                      <a:pt x="259" y="10"/>
                    </a:lnTo>
                    <a:lnTo>
                      <a:pt x="269" y="10"/>
                    </a:lnTo>
                    <a:lnTo>
                      <a:pt x="278" y="10"/>
                    </a:lnTo>
                    <a:lnTo>
                      <a:pt x="288" y="10"/>
                    </a:lnTo>
                    <a:lnTo>
                      <a:pt x="297" y="10"/>
                    </a:lnTo>
                    <a:lnTo>
                      <a:pt x="312" y="10"/>
                    </a:lnTo>
                    <a:lnTo>
                      <a:pt x="321" y="10"/>
                    </a:lnTo>
                    <a:lnTo>
                      <a:pt x="331" y="10"/>
                    </a:lnTo>
                    <a:lnTo>
                      <a:pt x="341" y="10"/>
                    </a:lnTo>
                    <a:lnTo>
                      <a:pt x="350" y="10"/>
                    </a:lnTo>
                    <a:lnTo>
                      <a:pt x="360" y="10"/>
                    </a:lnTo>
                    <a:lnTo>
                      <a:pt x="374" y="10"/>
                    </a:lnTo>
                    <a:lnTo>
                      <a:pt x="384" y="10"/>
                    </a:lnTo>
                    <a:lnTo>
                      <a:pt x="394" y="15"/>
                    </a:lnTo>
                    <a:lnTo>
                      <a:pt x="403" y="15"/>
                    </a:lnTo>
                    <a:lnTo>
                      <a:pt x="413" y="15"/>
                    </a:lnTo>
                    <a:lnTo>
                      <a:pt x="422" y="15"/>
                    </a:lnTo>
                    <a:lnTo>
                      <a:pt x="432" y="15"/>
                    </a:lnTo>
                    <a:lnTo>
                      <a:pt x="446" y="15"/>
                    </a:lnTo>
                    <a:lnTo>
                      <a:pt x="456" y="15"/>
                    </a:lnTo>
                    <a:lnTo>
                      <a:pt x="466" y="15"/>
                    </a:lnTo>
                    <a:lnTo>
                      <a:pt x="475" y="15"/>
                    </a:lnTo>
                    <a:lnTo>
                      <a:pt x="485" y="15"/>
                    </a:lnTo>
                    <a:lnTo>
                      <a:pt x="494" y="15"/>
                    </a:lnTo>
                    <a:lnTo>
                      <a:pt x="509" y="15"/>
                    </a:lnTo>
                    <a:lnTo>
                      <a:pt x="518" y="15"/>
                    </a:lnTo>
                    <a:lnTo>
                      <a:pt x="528" y="15"/>
                    </a:lnTo>
                    <a:lnTo>
                      <a:pt x="538" y="15"/>
                    </a:lnTo>
                    <a:lnTo>
                      <a:pt x="547" y="15"/>
                    </a:lnTo>
                    <a:lnTo>
                      <a:pt x="557" y="15"/>
                    </a:lnTo>
                    <a:lnTo>
                      <a:pt x="571" y="15"/>
                    </a:lnTo>
                    <a:lnTo>
                      <a:pt x="581" y="19"/>
                    </a:lnTo>
                    <a:lnTo>
                      <a:pt x="590" y="19"/>
                    </a:lnTo>
                    <a:lnTo>
                      <a:pt x="600" y="19"/>
                    </a:lnTo>
                    <a:lnTo>
                      <a:pt x="610" y="19"/>
                    </a:lnTo>
                    <a:lnTo>
                      <a:pt x="619" y="19"/>
                    </a:lnTo>
                    <a:lnTo>
                      <a:pt x="634" y="19"/>
                    </a:lnTo>
                    <a:lnTo>
                      <a:pt x="643" y="19"/>
                    </a:lnTo>
                    <a:lnTo>
                      <a:pt x="653" y="19"/>
                    </a:lnTo>
                    <a:lnTo>
                      <a:pt x="663" y="19"/>
                    </a:lnTo>
                    <a:lnTo>
                      <a:pt x="672" y="19"/>
                    </a:lnTo>
                    <a:lnTo>
                      <a:pt x="682" y="19"/>
                    </a:lnTo>
                    <a:lnTo>
                      <a:pt x="696" y="19"/>
                    </a:lnTo>
                    <a:lnTo>
                      <a:pt x="706" y="19"/>
                    </a:lnTo>
                    <a:lnTo>
                      <a:pt x="715" y="19"/>
                    </a:lnTo>
                    <a:lnTo>
                      <a:pt x="725" y="19"/>
                    </a:lnTo>
                    <a:lnTo>
                      <a:pt x="735" y="19"/>
                    </a:lnTo>
                    <a:lnTo>
                      <a:pt x="744" y="19"/>
                    </a:lnTo>
                    <a:lnTo>
                      <a:pt x="759" y="19"/>
                    </a:lnTo>
                    <a:lnTo>
                      <a:pt x="768" y="1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03520" y="3297240"/>
                <a:ext cx="2097000" cy="2476440"/>
              </a:xfrm>
              <a:custGeom>
                <a:avLst/>
                <a:gdLst/>
                <a:ahLst/>
                <a:rect l="l" t="t" r="r" b="b"/>
                <a:pathLst>
                  <a:path w="1321" h="1560">
                    <a:moveTo>
                      <a:pt x="0" y="0"/>
                    </a:moveTo>
                    <a:lnTo>
                      <a:pt x="10" y="230"/>
                    </a:lnTo>
                    <a:lnTo>
                      <a:pt x="19" y="389"/>
                    </a:lnTo>
                    <a:lnTo>
                      <a:pt x="29" y="538"/>
                    </a:lnTo>
                    <a:lnTo>
                      <a:pt x="39" y="643"/>
                    </a:lnTo>
                    <a:lnTo>
                      <a:pt x="48" y="730"/>
                    </a:lnTo>
                    <a:lnTo>
                      <a:pt x="58" y="806"/>
                    </a:lnTo>
                    <a:lnTo>
                      <a:pt x="72" y="874"/>
                    </a:lnTo>
                    <a:lnTo>
                      <a:pt x="82" y="922"/>
                    </a:lnTo>
                    <a:lnTo>
                      <a:pt x="91" y="960"/>
                    </a:lnTo>
                    <a:lnTo>
                      <a:pt x="101" y="1008"/>
                    </a:lnTo>
                    <a:lnTo>
                      <a:pt x="111" y="1051"/>
                    </a:lnTo>
                    <a:lnTo>
                      <a:pt x="120" y="1080"/>
                    </a:lnTo>
                    <a:lnTo>
                      <a:pt x="135" y="1109"/>
                    </a:lnTo>
                    <a:lnTo>
                      <a:pt x="144" y="1138"/>
                    </a:lnTo>
                    <a:lnTo>
                      <a:pt x="154" y="1157"/>
                    </a:lnTo>
                    <a:lnTo>
                      <a:pt x="163" y="1181"/>
                    </a:lnTo>
                    <a:lnTo>
                      <a:pt x="173" y="1195"/>
                    </a:lnTo>
                    <a:lnTo>
                      <a:pt x="183" y="1215"/>
                    </a:lnTo>
                    <a:lnTo>
                      <a:pt x="197" y="1224"/>
                    </a:lnTo>
                    <a:lnTo>
                      <a:pt x="207" y="1243"/>
                    </a:lnTo>
                    <a:lnTo>
                      <a:pt x="216" y="1258"/>
                    </a:lnTo>
                    <a:lnTo>
                      <a:pt x="226" y="1272"/>
                    </a:lnTo>
                    <a:lnTo>
                      <a:pt x="235" y="1287"/>
                    </a:lnTo>
                    <a:lnTo>
                      <a:pt x="245" y="1301"/>
                    </a:lnTo>
                    <a:lnTo>
                      <a:pt x="259" y="1306"/>
                    </a:lnTo>
                    <a:lnTo>
                      <a:pt x="269" y="1315"/>
                    </a:lnTo>
                    <a:lnTo>
                      <a:pt x="279" y="1325"/>
                    </a:lnTo>
                    <a:lnTo>
                      <a:pt x="288" y="1335"/>
                    </a:lnTo>
                    <a:lnTo>
                      <a:pt x="298" y="1339"/>
                    </a:lnTo>
                    <a:lnTo>
                      <a:pt x="308" y="1354"/>
                    </a:lnTo>
                    <a:lnTo>
                      <a:pt x="322" y="1363"/>
                    </a:lnTo>
                    <a:lnTo>
                      <a:pt x="332" y="1368"/>
                    </a:lnTo>
                    <a:lnTo>
                      <a:pt x="341" y="1378"/>
                    </a:lnTo>
                    <a:lnTo>
                      <a:pt x="351" y="1383"/>
                    </a:lnTo>
                    <a:lnTo>
                      <a:pt x="360" y="1387"/>
                    </a:lnTo>
                    <a:lnTo>
                      <a:pt x="370" y="1392"/>
                    </a:lnTo>
                    <a:lnTo>
                      <a:pt x="384" y="1397"/>
                    </a:lnTo>
                    <a:lnTo>
                      <a:pt x="394" y="1402"/>
                    </a:lnTo>
                    <a:lnTo>
                      <a:pt x="404" y="1407"/>
                    </a:lnTo>
                    <a:lnTo>
                      <a:pt x="413" y="1412"/>
                    </a:lnTo>
                    <a:lnTo>
                      <a:pt x="423" y="1416"/>
                    </a:lnTo>
                    <a:lnTo>
                      <a:pt x="432" y="1421"/>
                    </a:lnTo>
                    <a:lnTo>
                      <a:pt x="447" y="1426"/>
                    </a:lnTo>
                    <a:lnTo>
                      <a:pt x="456" y="1426"/>
                    </a:lnTo>
                    <a:lnTo>
                      <a:pt x="466" y="1431"/>
                    </a:lnTo>
                    <a:lnTo>
                      <a:pt x="476" y="1436"/>
                    </a:lnTo>
                    <a:lnTo>
                      <a:pt x="485" y="1440"/>
                    </a:lnTo>
                    <a:lnTo>
                      <a:pt x="495" y="1445"/>
                    </a:lnTo>
                    <a:lnTo>
                      <a:pt x="509" y="1445"/>
                    </a:lnTo>
                    <a:lnTo>
                      <a:pt x="519" y="1450"/>
                    </a:lnTo>
                    <a:lnTo>
                      <a:pt x="528" y="1455"/>
                    </a:lnTo>
                    <a:lnTo>
                      <a:pt x="538" y="1455"/>
                    </a:lnTo>
                    <a:lnTo>
                      <a:pt x="548" y="1460"/>
                    </a:lnTo>
                    <a:lnTo>
                      <a:pt x="557" y="1464"/>
                    </a:lnTo>
                    <a:lnTo>
                      <a:pt x="572" y="1469"/>
                    </a:lnTo>
                    <a:lnTo>
                      <a:pt x="581" y="1469"/>
                    </a:lnTo>
                    <a:lnTo>
                      <a:pt x="591" y="1469"/>
                    </a:lnTo>
                    <a:lnTo>
                      <a:pt x="601" y="1469"/>
                    </a:lnTo>
                    <a:lnTo>
                      <a:pt x="610" y="1474"/>
                    </a:lnTo>
                    <a:lnTo>
                      <a:pt x="620" y="1479"/>
                    </a:lnTo>
                    <a:lnTo>
                      <a:pt x="634" y="1479"/>
                    </a:lnTo>
                    <a:lnTo>
                      <a:pt x="644" y="1484"/>
                    </a:lnTo>
                    <a:lnTo>
                      <a:pt x="653" y="1484"/>
                    </a:lnTo>
                    <a:lnTo>
                      <a:pt x="663" y="1488"/>
                    </a:lnTo>
                    <a:lnTo>
                      <a:pt x="673" y="1488"/>
                    </a:lnTo>
                    <a:lnTo>
                      <a:pt x="682" y="1488"/>
                    </a:lnTo>
                    <a:lnTo>
                      <a:pt x="697" y="1493"/>
                    </a:lnTo>
                    <a:lnTo>
                      <a:pt x="706" y="1493"/>
                    </a:lnTo>
                    <a:lnTo>
                      <a:pt x="716" y="1498"/>
                    </a:lnTo>
                    <a:lnTo>
                      <a:pt x="725" y="1498"/>
                    </a:lnTo>
                    <a:lnTo>
                      <a:pt x="735" y="1498"/>
                    </a:lnTo>
                    <a:lnTo>
                      <a:pt x="745" y="1503"/>
                    </a:lnTo>
                    <a:lnTo>
                      <a:pt x="759" y="1503"/>
                    </a:lnTo>
                    <a:lnTo>
                      <a:pt x="769" y="1508"/>
                    </a:lnTo>
                    <a:lnTo>
                      <a:pt x="778" y="1508"/>
                    </a:lnTo>
                    <a:lnTo>
                      <a:pt x="788" y="1508"/>
                    </a:lnTo>
                    <a:lnTo>
                      <a:pt x="797" y="1508"/>
                    </a:lnTo>
                    <a:lnTo>
                      <a:pt x="807" y="1512"/>
                    </a:lnTo>
                    <a:lnTo>
                      <a:pt x="822" y="1512"/>
                    </a:lnTo>
                    <a:lnTo>
                      <a:pt x="831" y="1512"/>
                    </a:lnTo>
                    <a:lnTo>
                      <a:pt x="841" y="1517"/>
                    </a:lnTo>
                    <a:lnTo>
                      <a:pt x="850" y="1517"/>
                    </a:lnTo>
                    <a:lnTo>
                      <a:pt x="860" y="1517"/>
                    </a:lnTo>
                    <a:lnTo>
                      <a:pt x="870" y="1517"/>
                    </a:lnTo>
                    <a:lnTo>
                      <a:pt x="884" y="1517"/>
                    </a:lnTo>
                    <a:lnTo>
                      <a:pt x="894" y="1522"/>
                    </a:lnTo>
                    <a:lnTo>
                      <a:pt x="903" y="1522"/>
                    </a:lnTo>
                    <a:lnTo>
                      <a:pt x="913" y="1522"/>
                    </a:lnTo>
                    <a:lnTo>
                      <a:pt x="922" y="1527"/>
                    </a:lnTo>
                    <a:lnTo>
                      <a:pt x="932" y="1527"/>
                    </a:lnTo>
                    <a:lnTo>
                      <a:pt x="946" y="1527"/>
                    </a:lnTo>
                    <a:lnTo>
                      <a:pt x="956" y="1532"/>
                    </a:lnTo>
                    <a:lnTo>
                      <a:pt x="966" y="1532"/>
                    </a:lnTo>
                    <a:lnTo>
                      <a:pt x="975" y="1532"/>
                    </a:lnTo>
                    <a:lnTo>
                      <a:pt x="985" y="1532"/>
                    </a:lnTo>
                    <a:lnTo>
                      <a:pt x="994" y="1536"/>
                    </a:lnTo>
                    <a:lnTo>
                      <a:pt x="1009" y="1536"/>
                    </a:lnTo>
                    <a:lnTo>
                      <a:pt x="1018" y="1536"/>
                    </a:lnTo>
                    <a:lnTo>
                      <a:pt x="1028" y="1536"/>
                    </a:lnTo>
                    <a:lnTo>
                      <a:pt x="1038" y="1536"/>
                    </a:lnTo>
                    <a:lnTo>
                      <a:pt x="1047" y="1541"/>
                    </a:lnTo>
                    <a:lnTo>
                      <a:pt x="1057" y="1541"/>
                    </a:lnTo>
                    <a:lnTo>
                      <a:pt x="1071" y="1541"/>
                    </a:lnTo>
                    <a:lnTo>
                      <a:pt x="1081" y="1541"/>
                    </a:lnTo>
                    <a:lnTo>
                      <a:pt x="1091" y="1541"/>
                    </a:lnTo>
                    <a:lnTo>
                      <a:pt x="1100" y="1541"/>
                    </a:lnTo>
                    <a:lnTo>
                      <a:pt x="1110" y="1546"/>
                    </a:lnTo>
                    <a:lnTo>
                      <a:pt x="1119" y="1546"/>
                    </a:lnTo>
                    <a:lnTo>
                      <a:pt x="1134" y="1546"/>
                    </a:lnTo>
                    <a:lnTo>
                      <a:pt x="1143" y="1546"/>
                    </a:lnTo>
                    <a:lnTo>
                      <a:pt x="1153" y="1546"/>
                    </a:lnTo>
                    <a:lnTo>
                      <a:pt x="1163" y="1551"/>
                    </a:lnTo>
                    <a:lnTo>
                      <a:pt x="1172" y="1551"/>
                    </a:lnTo>
                    <a:lnTo>
                      <a:pt x="1182" y="1551"/>
                    </a:lnTo>
                    <a:lnTo>
                      <a:pt x="1196" y="1551"/>
                    </a:lnTo>
                    <a:lnTo>
                      <a:pt x="1206" y="1551"/>
                    </a:lnTo>
                    <a:lnTo>
                      <a:pt x="1215" y="1556"/>
                    </a:lnTo>
                    <a:lnTo>
                      <a:pt x="1225" y="1556"/>
                    </a:lnTo>
                    <a:lnTo>
                      <a:pt x="1235" y="1556"/>
                    </a:lnTo>
                    <a:lnTo>
                      <a:pt x="1244" y="1556"/>
                    </a:lnTo>
                    <a:lnTo>
                      <a:pt x="1259" y="1556"/>
                    </a:lnTo>
                    <a:lnTo>
                      <a:pt x="1268" y="1556"/>
                    </a:lnTo>
                    <a:lnTo>
                      <a:pt x="1278" y="1556"/>
                    </a:lnTo>
                    <a:lnTo>
                      <a:pt x="1287" y="1560"/>
                    </a:lnTo>
                    <a:lnTo>
                      <a:pt x="1297" y="1560"/>
                    </a:lnTo>
                    <a:lnTo>
                      <a:pt x="1307" y="1560"/>
                    </a:lnTo>
                    <a:lnTo>
                      <a:pt x="1321" y="156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900520" y="5773680"/>
                <a:ext cx="1121040" cy="54000"/>
              </a:xfrm>
              <a:custGeom>
                <a:avLst/>
                <a:gdLst/>
                <a:ahLst/>
                <a:rect l="l" t="t" r="r" b="b"/>
                <a:pathLst>
                  <a:path w="706" h="34">
                    <a:moveTo>
                      <a:pt x="0" y="0"/>
                    </a:moveTo>
                    <a:lnTo>
                      <a:pt x="10" y="0"/>
                    </a:lnTo>
                    <a:lnTo>
                      <a:pt x="19" y="0"/>
                    </a:lnTo>
                    <a:lnTo>
                      <a:pt x="29" y="5"/>
                    </a:lnTo>
                    <a:lnTo>
                      <a:pt x="39" y="5"/>
                    </a:lnTo>
                    <a:lnTo>
                      <a:pt x="48" y="5"/>
                    </a:lnTo>
                    <a:lnTo>
                      <a:pt x="63" y="5"/>
                    </a:lnTo>
                    <a:lnTo>
                      <a:pt x="72" y="5"/>
                    </a:lnTo>
                    <a:lnTo>
                      <a:pt x="82" y="5"/>
                    </a:lnTo>
                    <a:lnTo>
                      <a:pt x="91" y="5"/>
                    </a:lnTo>
                    <a:lnTo>
                      <a:pt x="101" y="5"/>
                    </a:lnTo>
                    <a:lnTo>
                      <a:pt x="111" y="10"/>
                    </a:lnTo>
                    <a:lnTo>
                      <a:pt x="125" y="10"/>
                    </a:lnTo>
                    <a:lnTo>
                      <a:pt x="135" y="10"/>
                    </a:lnTo>
                    <a:lnTo>
                      <a:pt x="144" y="10"/>
                    </a:lnTo>
                    <a:lnTo>
                      <a:pt x="154" y="10"/>
                    </a:lnTo>
                    <a:lnTo>
                      <a:pt x="163" y="10"/>
                    </a:lnTo>
                    <a:lnTo>
                      <a:pt x="173" y="15"/>
                    </a:lnTo>
                    <a:lnTo>
                      <a:pt x="187" y="15"/>
                    </a:lnTo>
                    <a:lnTo>
                      <a:pt x="197" y="15"/>
                    </a:lnTo>
                    <a:lnTo>
                      <a:pt x="207" y="15"/>
                    </a:lnTo>
                    <a:lnTo>
                      <a:pt x="216" y="15"/>
                    </a:lnTo>
                    <a:lnTo>
                      <a:pt x="226" y="15"/>
                    </a:lnTo>
                    <a:lnTo>
                      <a:pt x="235" y="15"/>
                    </a:lnTo>
                    <a:lnTo>
                      <a:pt x="250" y="15"/>
                    </a:lnTo>
                    <a:lnTo>
                      <a:pt x="259" y="15"/>
                    </a:lnTo>
                    <a:lnTo>
                      <a:pt x="269" y="15"/>
                    </a:lnTo>
                    <a:lnTo>
                      <a:pt x="279" y="15"/>
                    </a:lnTo>
                    <a:lnTo>
                      <a:pt x="288" y="20"/>
                    </a:lnTo>
                    <a:lnTo>
                      <a:pt x="298" y="15"/>
                    </a:lnTo>
                    <a:lnTo>
                      <a:pt x="312" y="20"/>
                    </a:lnTo>
                    <a:lnTo>
                      <a:pt x="322" y="20"/>
                    </a:lnTo>
                    <a:lnTo>
                      <a:pt x="332" y="20"/>
                    </a:lnTo>
                    <a:lnTo>
                      <a:pt x="341" y="20"/>
                    </a:lnTo>
                    <a:lnTo>
                      <a:pt x="351" y="20"/>
                    </a:lnTo>
                    <a:lnTo>
                      <a:pt x="360" y="20"/>
                    </a:lnTo>
                    <a:lnTo>
                      <a:pt x="370" y="20"/>
                    </a:lnTo>
                    <a:lnTo>
                      <a:pt x="384" y="20"/>
                    </a:lnTo>
                    <a:lnTo>
                      <a:pt x="394" y="20"/>
                    </a:lnTo>
                    <a:lnTo>
                      <a:pt x="404" y="20"/>
                    </a:lnTo>
                    <a:lnTo>
                      <a:pt x="413" y="24"/>
                    </a:lnTo>
                    <a:lnTo>
                      <a:pt x="423" y="24"/>
                    </a:lnTo>
                    <a:lnTo>
                      <a:pt x="432" y="24"/>
                    </a:lnTo>
                    <a:lnTo>
                      <a:pt x="447" y="24"/>
                    </a:lnTo>
                    <a:lnTo>
                      <a:pt x="456" y="24"/>
                    </a:lnTo>
                    <a:lnTo>
                      <a:pt x="466" y="24"/>
                    </a:lnTo>
                    <a:lnTo>
                      <a:pt x="476" y="24"/>
                    </a:lnTo>
                    <a:lnTo>
                      <a:pt x="485" y="24"/>
                    </a:lnTo>
                    <a:lnTo>
                      <a:pt x="495" y="24"/>
                    </a:lnTo>
                    <a:lnTo>
                      <a:pt x="509" y="24"/>
                    </a:lnTo>
                    <a:lnTo>
                      <a:pt x="519" y="29"/>
                    </a:lnTo>
                    <a:lnTo>
                      <a:pt x="528" y="29"/>
                    </a:lnTo>
                    <a:lnTo>
                      <a:pt x="538" y="29"/>
                    </a:lnTo>
                    <a:lnTo>
                      <a:pt x="548" y="29"/>
                    </a:lnTo>
                    <a:lnTo>
                      <a:pt x="557" y="29"/>
                    </a:lnTo>
                    <a:lnTo>
                      <a:pt x="572" y="29"/>
                    </a:lnTo>
                    <a:lnTo>
                      <a:pt x="581" y="29"/>
                    </a:lnTo>
                    <a:lnTo>
                      <a:pt x="591" y="29"/>
                    </a:lnTo>
                    <a:lnTo>
                      <a:pt x="601" y="29"/>
                    </a:lnTo>
                    <a:lnTo>
                      <a:pt x="610" y="29"/>
                    </a:lnTo>
                    <a:lnTo>
                      <a:pt x="620" y="29"/>
                    </a:lnTo>
                    <a:lnTo>
                      <a:pt x="634" y="34"/>
                    </a:lnTo>
                    <a:lnTo>
                      <a:pt x="644" y="34"/>
                    </a:lnTo>
                    <a:lnTo>
                      <a:pt x="653" y="34"/>
                    </a:lnTo>
                    <a:lnTo>
                      <a:pt x="663" y="34"/>
                    </a:lnTo>
                    <a:lnTo>
                      <a:pt x="673" y="34"/>
                    </a:lnTo>
                    <a:lnTo>
                      <a:pt x="682" y="34"/>
                    </a:lnTo>
                    <a:lnTo>
                      <a:pt x="697" y="34"/>
                    </a:lnTo>
                    <a:lnTo>
                      <a:pt x="706" y="3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945080" y="6073560"/>
              <a:ext cx="6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-223200" y="4500360"/>
              <a:ext cx="11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nitude (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2617920" y="3456000"/>
              <a:ext cx="1168200" cy="518040"/>
              <a:chOff x="2617920" y="3456000"/>
              <a:chExt cx="1168200" cy="51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2987640" y="3456000"/>
                <a:ext cx="79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ergy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617920" y="3592800"/>
                <a:ext cx="37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17920" y="3834000"/>
                <a:ext cx="39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987640" y="3697560"/>
                <a:ext cx="79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ergy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4846680" y="3228840"/>
            <a:ext cx="3866040" cy="3119760"/>
            <a:chOff x="4846680" y="3228840"/>
            <a:chExt cx="3866040" cy="3119760"/>
          </a:xfrm>
        </p:grpSpPr>
        <p:sp>
          <p:nvSpPr>
            <p:cNvPr id="573" name=""/>
            <p:cNvSpPr/>
            <p:nvPr/>
          </p:nvSpPr>
          <p:spPr>
            <a:xfrm>
              <a:off x="6573600" y="6072120"/>
              <a:ext cx="6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6200000">
              <a:off x="4407120" y="4500360"/>
              <a:ext cx="11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nitude (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5166720" y="3228840"/>
              <a:ext cx="3546000" cy="2849760"/>
              <a:chOff x="5166720" y="3228840"/>
              <a:chExt cx="3546000" cy="2849760"/>
            </a:xfrm>
          </p:grpSpPr>
          <p:sp>
            <p:nvSpPr>
              <p:cNvPr id="576" name=""/>
              <p:cNvSpPr/>
              <p:nvPr/>
            </p:nvSpPr>
            <p:spPr>
              <a:xfrm>
                <a:off x="5333760" y="3298680"/>
                <a:ext cx="3306960" cy="26035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33760" y="3298680"/>
                <a:ext cx="3306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333760" y="5902200"/>
                <a:ext cx="3306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8640720" y="3298680"/>
                <a:ext cx="1440" cy="260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333760" y="3298680"/>
                <a:ext cx="1800" cy="260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5333760" y="586404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333760" y="329868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303520" y="5925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6156360" y="58640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56360" y="32986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25760" y="5925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6986520" y="58640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86520" y="32986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917760" y="59259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7810560" y="58640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10560" y="32986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741800" y="59259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8640720" y="58640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640720" y="32986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571960" y="59259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33760" y="590220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8602560" y="59022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235120" y="583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333760" y="557532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8602560" y="55753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235120" y="5506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333760" y="5248080"/>
                <a:ext cx="3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8602560" y="524808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235120" y="5178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333760" y="4919400"/>
                <a:ext cx="3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8602560" y="491940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35120" y="4851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33760" y="460044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8602560" y="4600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35120" y="4532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333760" y="427356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8602560" y="42735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166720" y="42037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333760" y="39448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8602560" y="394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166720" y="3876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33760" y="3617640"/>
                <a:ext cx="3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8602560" y="36176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166720" y="35496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333760" y="32986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8602560" y="32986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166720" y="32288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333760" y="5537160"/>
                <a:ext cx="3313080" cy="212760"/>
              </a:xfrm>
              <a:custGeom>
                <a:avLst/>
                <a:gdLst/>
                <a:ahLst/>
                <a:rect l="l" t="t" r="r" b="b"/>
                <a:pathLst>
                  <a:path w="2087" h="134">
                    <a:moveTo>
                      <a:pt x="0" y="5"/>
                    </a:moveTo>
                    <a:lnTo>
                      <a:pt x="48" y="0"/>
                    </a:lnTo>
                    <a:lnTo>
                      <a:pt x="101" y="0"/>
                    </a:lnTo>
                    <a:lnTo>
                      <a:pt x="154" y="0"/>
                    </a:lnTo>
                    <a:lnTo>
                      <a:pt x="207" y="5"/>
                    </a:lnTo>
                    <a:lnTo>
                      <a:pt x="259" y="5"/>
                    </a:lnTo>
                    <a:lnTo>
                      <a:pt x="307" y="10"/>
                    </a:lnTo>
                    <a:lnTo>
                      <a:pt x="360" y="10"/>
                    </a:lnTo>
                    <a:lnTo>
                      <a:pt x="413" y="14"/>
                    </a:lnTo>
                    <a:lnTo>
                      <a:pt x="466" y="19"/>
                    </a:lnTo>
                    <a:lnTo>
                      <a:pt x="518" y="24"/>
                    </a:lnTo>
                    <a:lnTo>
                      <a:pt x="571" y="24"/>
                    </a:lnTo>
                    <a:lnTo>
                      <a:pt x="619" y="29"/>
                    </a:lnTo>
                    <a:lnTo>
                      <a:pt x="672" y="34"/>
                    </a:lnTo>
                    <a:lnTo>
                      <a:pt x="725" y="38"/>
                    </a:lnTo>
                    <a:lnTo>
                      <a:pt x="778" y="43"/>
                    </a:lnTo>
                    <a:lnTo>
                      <a:pt x="830" y="48"/>
                    </a:lnTo>
                    <a:lnTo>
                      <a:pt x="883" y="53"/>
                    </a:lnTo>
                    <a:lnTo>
                      <a:pt x="931" y="53"/>
                    </a:lnTo>
                    <a:lnTo>
                      <a:pt x="984" y="58"/>
                    </a:lnTo>
                    <a:lnTo>
                      <a:pt x="1037" y="62"/>
                    </a:lnTo>
                    <a:lnTo>
                      <a:pt x="1089" y="67"/>
                    </a:lnTo>
                    <a:lnTo>
                      <a:pt x="1142" y="72"/>
                    </a:lnTo>
                    <a:lnTo>
                      <a:pt x="1195" y="77"/>
                    </a:lnTo>
                    <a:lnTo>
                      <a:pt x="1243" y="82"/>
                    </a:lnTo>
                    <a:lnTo>
                      <a:pt x="1296" y="86"/>
                    </a:lnTo>
                    <a:lnTo>
                      <a:pt x="1349" y="91"/>
                    </a:lnTo>
                    <a:lnTo>
                      <a:pt x="1401" y="91"/>
                    </a:lnTo>
                    <a:lnTo>
                      <a:pt x="1454" y="96"/>
                    </a:lnTo>
                    <a:lnTo>
                      <a:pt x="1507" y="101"/>
                    </a:lnTo>
                    <a:lnTo>
                      <a:pt x="1555" y="106"/>
                    </a:lnTo>
                    <a:lnTo>
                      <a:pt x="1608" y="106"/>
                    </a:lnTo>
                    <a:lnTo>
                      <a:pt x="1660" y="110"/>
                    </a:lnTo>
                    <a:lnTo>
                      <a:pt x="1713" y="115"/>
                    </a:lnTo>
                    <a:lnTo>
                      <a:pt x="1766" y="120"/>
                    </a:lnTo>
                    <a:lnTo>
                      <a:pt x="1814" y="120"/>
                    </a:lnTo>
                    <a:lnTo>
                      <a:pt x="1867" y="125"/>
                    </a:lnTo>
                    <a:lnTo>
                      <a:pt x="1920" y="129"/>
                    </a:lnTo>
                    <a:lnTo>
                      <a:pt x="1972" y="129"/>
                    </a:lnTo>
                    <a:lnTo>
                      <a:pt x="2025" y="134"/>
                    </a:lnTo>
                    <a:lnTo>
                      <a:pt x="2078" y="134"/>
                    </a:lnTo>
                    <a:lnTo>
                      <a:pt x="2087" y="13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33760" y="3419280"/>
                <a:ext cx="3313080" cy="2338560"/>
              </a:xfrm>
              <a:custGeom>
                <a:avLst/>
                <a:gdLst/>
                <a:ahLst/>
                <a:rect l="l" t="t" r="r" b="b"/>
                <a:pathLst>
                  <a:path w="2087" h="1473">
                    <a:moveTo>
                      <a:pt x="0" y="0"/>
                    </a:moveTo>
                    <a:lnTo>
                      <a:pt x="48" y="34"/>
                    </a:lnTo>
                    <a:lnTo>
                      <a:pt x="101" y="149"/>
                    </a:lnTo>
                    <a:lnTo>
                      <a:pt x="154" y="298"/>
                    </a:lnTo>
                    <a:lnTo>
                      <a:pt x="207" y="446"/>
                    </a:lnTo>
                    <a:lnTo>
                      <a:pt x="259" y="581"/>
                    </a:lnTo>
                    <a:lnTo>
                      <a:pt x="307" y="691"/>
                    </a:lnTo>
                    <a:lnTo>
                      <a:pt x="360" y="787"/>
                    </a:lnTo>
                    <a:lnTo>
                      <a:pt x="413" y="873"/>
                    </a:lnTo>
                    <a:lnTo>
                      <a:pt x="466" y="945"/>
                    </a:lnTo>
                    <a:lnTo>
                      <a:pt x="518" y="1003"/>
                    </a:lnTo>
                    <a:lnTo>
                      <a:pt x="571" y="1051"/>
                    </a:lnTo>
                    <a:lnTo>
                      <a:pt x="619" y="1094"/>
                    </a:lnTo>
                    <a:lnTo>
                      <a:pt x="672" y="1132"/>
                    </a:lnTo>
                    <a:lnTo>
                      <a:pt x="725" y="1166"/>
                    </a:lnTo>
                    <a:lnTo>
                      <a:pt x="778" y="1195"/>
                    </a:lnTo>
                    <a:lnTo>
                      <a:pt x="830" y="1219"/>
                    </a:lnTo>
                    <a:lnTo>
                      <a:pt x="883" y="1243"/>
                    </a:lnTo>
                    <a:lnTo>
                      <a:pt x="931" y="1262"/>
                    </a:lnTo>
                    <a:lnTo>
                      <a:pt x="984" y="1281"/>
                    </a:lnTo>
                    <a:lnTo>
                      <a:pt x="1037" y="1300"/>
                    </a:lnTo>
                    <a:lnTo>
                      <a:pt x="1089" y="1315"/>
                    </a:lnTo>
                    <a:lnTo>
                      <a:pt x="1142" y="1329"/>
                    </a:lnTo>
                    <a:lnTo>
                      <a:pt x="1195" y="1344"/>
                    </a:lnTo>
                    <a:lnTo>
                      <a:pt x="1243" y="1358"/>
                    </a:lnTo>
                    <a:lnTo>
                      <a:pt x="1296" y="1368"/>
                    </a:lnTo>
                    <a:lnTo>
                      <a:pt x="1349" y="1377"/>
                    </a:lnTo>
                    <a:lnTo>
                      <a:pt x="1401" y="1387"/>
                    </a:lnTo>
                    <a:lnTo>
                      <a:pt x="1454" y="1396"/>
                    </a:lnTo>
                    <a:lnTo>
                      <a:pt x="1507" y="1406"/>
                    </a:lnTo>
                    <a:lnTo>
                      <a:pt x="1555" y="1411"/>
                    </a:lnTo>
                    <a:lnTo>
                      <a:pt x="1608" y="1420"/>
                    </a:lnTo>
                    <a:lnTo>
                      <a:pt x="1660" y="1425"/>
                    </a:lnTo>
                    <a:lnTo>
                      <a:pt x="1713" y="1435"/>
                    </a:lnTo>
                    <a:lnTo>
                      <a:pt x="1766" y="1440"/>
                    </a:lnTo>
                    <a:lnTo>
                      <a:pt x="1814" y="1444"/>
                    </a:lnTo>
                    <a:lnTo>
                      <a:pt x="1867" y="1454"/>
                    </a:lnTo>
                    <a:lnTo>
                      <a:pt x="1920" y="1459"/>
                    </a:lnTo>
                    <a:lnTo>
                      <a:pt x="1972" y="1463"/>
                    </a:lnTo>
                    <a:lnTo>
                      <a:pt x="2025" y="1468"/>
                    </a:lnTo>
                    <a:lnTo>
                      <a:pt x="2078" y="1473"/>
                    </a:lnTo>
                    <a:lnTo>
                      <a:pt x="2087" y="147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7321320" y="3400200"/>
              <a:ext cx="1168200" cy="518040"/>
              <a:chOff x="7321320" y="3400200"/>
              <a:chExt cx="1168200" cy="518040"/>
            </a:xfrm>
          </p:grpSpPr>
          <p:sp>
            <p:nvSpPr>
              <p:cNvPr id="626" name=""/>
              <p:cNvSpPr/>
              <p:nvPr/>
            </p:nvSpPr>
            <p:spPr>
              <a:xfrm>
                <a:off x="7691040" y="3400200"/>
                <a:ext cx="79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ergy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21320" y="3537000"/>
                <a:ext cx="37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21320" y="3778200"/>
                <a:ext cx="39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91040" y="3641760"/>
                <a:ext cx="79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ergy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98960" y="38088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– Panametrics 5052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58880" y="307980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ping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232680" y="3079800"/>
            <a:ext cx="93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ping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24800" y="120024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ike Pul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0" y="3323880"/>
            <a:ext cx="3933000" cy="3080160"/>
            <a:chOff x="0" y="3323880"/>
            <a:chExt cx="3933000" cy="3080160"/>
          </a:xfrm>
        </p:grpSpPr>
        <p:grpSp>
          <p:nvGrpSpPr>
            <p:cNvPr id="636" name=""/>
            <p:cNvGrpSpPr/>
            <p:nvPr/>
          </p:nvGrpSpPr>
          <p:grpSpPr>
            <a:xfrm>
              <a:off x="318600" y="3323880"/>
              <a:ext cx="3614400" cy="2849400"/>
              <a:chOff x="318600" y="3323880"/>
              <a:chExt cx="3614400" cy="2849400"/>
            </a:xfrm>
          </p:grpSpPr>
          <p:sp>
            <p:nvSpPr>
              <p:cNvPr id="637" name=""/>
              <p:cNvSpPr/>
              <p:nvPr/>
            </p:nvSpPr>
            <p:spPr>
              <a:xfrm>
                <a:off x="554040" y="3393360"/>
                <a:ext cx="3306960" cy="260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54040" y="3393360"/>
                <a:ext cx="3306960" cy="26031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54040" y="3393360"/>
                <a:ext cx="3306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54040" y="5996880"/>
                <a:ext cx="3306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3861000" y="3393000"/>
                <a:ext cx="1440" cy="2603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554040" y="3393000"/>
                <a:ext cx="1800" cy="2603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54040" y="595836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54040" y="3393360"/>
                <a:ext cx="18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3800" y="602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376640" y="59583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76640" y="339336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6040" y="602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2206800" y="59583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206800" y="339336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138040" y="60206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3030840" y="59583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30840" y="339336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962080" y="60206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3861000" y="595836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61000" y="339336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92240" y="60206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4040" y="59968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3822840" y="5996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55400" y="5928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4040" y="570816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822840" y="570816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8600" y="56397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4040" y="541908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822840" y="541908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18600" y="53492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4040" y="512856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3822840" y="512856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18600" y="50601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4040" y="48394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3822840" y="48394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18600" y="4771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4040" y="455076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3822840" y="455076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18600" y="44823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4040" y="426024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3822840" y="426024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18600" y="41918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4040" y="397116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3822840" y="39711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18600" y="39031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040" y="368244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3822840" y="368244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18600" y="36140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4040" y="339336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822840" y="33933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18600" y="33238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4040" y="3636360"/>
                <a:ext cx="2095560" cy="2269800"/>
              </a:xfrm>
              <a:custGeom>
                <a:avLst/>
                <a:gdLst/>
                <a:ahLst/>
                <a:rect l="l" t="t" r="r" b="b"/>
                <a:pathLst>
                  <a:path w="1320" h="1430">
                    <a:moveTo>
                      <a:pt x="0" y="0"/>
                    </a:moveTo>
                    <a:lnTo>
                      <a:pt x="10" y="58"/>
                    </a:lnTo>
                    <a:lnTo>
                      <a:pt x="19" y="144"/>
                    </a:lnTo>
                    <a:lnTo>
                      <a:pt x="29" y="264"/>
                    </a:lnTo>
                    <a:lnTo>
                      <a:pt x="39" y="393"/>
                    </a:lnTo>
                    <a:lnTo>
                      <a:pt x="48" y="518"/>
                    </a:lnTo>
                    <a:lnTo>
                      <a:pt x="58" y="619"/>
                    </a:lnTo>
                    <a:lnTo>
                      <a:pt x="72" y="705"/>
                    </a:lnTo>
                    <a:lnTo>
                      <a:pt x="82" y="772"/>
                    </a:lnTo>
                    <a:lnTo>
                      <a:pt x="91" y="835"/>
                    </a:lnTo>
                    <a:lnTo>
                      <a:pt x="101" y="888"/>
                    </a:lnTo>
                    <a:lnTo>
                      <a:pt x="111" y="936"/>
                    </a:lnTo>
                    <a:lnTo>
                      <a:pt x="120" y="979"/>
                    </a:lnTo>
                    <a:lnTo>
                      <a:pt x="135" y="1017"/>
                    </a:lnTo>
                    <a:lnTo>
                      <a:pt x="144" y="1046"/>
                    </a:lnTo>
                    <a:lnTo>
                      <a:pt x="154" y="1070"/>
                    </a:lnTo>
                    <a:lnTo>
                      <a:pt x="163" y="1094"/>
                    </a:lnTo>
                    <a:lnTo>
                      <a:pt x="173" y="1118"/>
                    </a:lnTo>
                    <a:lnTo>
                      <a:pt x="183" y="1132"/>
                    </a:lnTo>
                    <a:lnTo>
                      <a:pt x="197" y="1151"/>
                    </a:lnTo>
                    <a:lnTo>
                      <a:pt x="207" y="1166"/>
                    </a:lnTo>
                    <a:lnTo>
                      <a:pt x="216" y="1175"/>
                    </a:lnTo>
                    <a:lnTo>
                      <a:pt x="226" y="1190"/>
                    </a:lnTo>
                    <a:lnTo>
                      <a:pt x="235" y="1204"/>
                    </a:lnTo>
                    <a:lnTo>
                      <a:pt x="245" y="1214"/>
                    </a:lnTo>
                    <a:lnTo>
                      <a:pt x="259" y="1223"/>
                    </a:lnTo>
                    <a:lnTo>
                      <a:pt x="269" y="1233"/>
                    </a:lnTo>
                    <a:lnTo>
                      <a:pt x="279" y="1243"/>
                    </a:lnTo>
                    <a:lnTo>
                      <a:pt x="288" y="1252"/>
                    </a:lnTo>
                    <a:lnTo>
                      <a:pt x="298" y="1262"/>
                    </a:lnTo>
                    <a:lnTo>
                      <a:pt x="307" y="1267"/>
                    </a:lnTo>
                    <a:lnTo>
                      <a:pt x="322" y="1271"/>
                    </a:lnTo>
                    <a:lnTo>
                      <a:pt x="331" y="1281"/>
                    </a:lnTo>
                    <a:lnTo>
                      <a:pt x="341" y="1286"/>
                    </a:lnTo>
                    <a:lnTo>
                      <a:pt x="351" y="1291"/>
                    </a:lnTo>
                    <a:lnTo>
                      <a:pt x="360" y="1300"/>
                    </a:lnTo>
                    <a:lnTo>
                      <a:pt x="370" y="1305"/>
                    </a:lnTo>
                    <a:lnTo>
                      <a:pt x="384" y="1310"/>
                    </a:lnTo>
                    <a:lnTo>
                      <a:pt x="394" y="1315"/>
                    </a:lnTo>
                    <a:lnTo>
                      <a:pt x="403" y="1315"/>
                    </a:lnTo>
                    <a:lnTo>
                      <a:pt x="413" y="1319"/>
                    </a:lnTo>
                    <a:lnTo>
                      <a:pt x="423" y="1324"/>
                    </a:lnTo>
                    <a:lnTo>
                      <a:pt x="432" y="1329"/>
                    </a:lnTo>
                    <a:lnTo>
                      <a:pt x="447" y="1329"/>
                    </a:lnTo>
                    <a:lnTo>
                      <a:pt x="456" y="1334"/>
                    </a:lnTo>
                    <a:lnTo>
                      <a:pt x="466" y="1334"/>
                    </a:lnTo>
                    <a:lnTo>
                      <a:pt x="475" y="1339"/>
                    </a:lnTo>
                    <a:lnTo>
                      <a:pt x="485" y="1343"/>
                    </a:lnTo>
                    <a:lnTo>
                      <a:pt x="494" y="1348"/>
                    </a:lnTo>
                    <a:lnTo>
                      <a:pt x="509" y="1348"/>
                    </a:lnTo>
                    <a:lnTo>
                      <a:pt x="518" y="1348"/>
                    </a:lnTo>
                    <a:lnTo>
                      <a:pt x="528" y="1353"/>
                    </a:lnTo>
                    <a:lnTo>
                      <a:pt x="538" y="1353"/>
                    </a:lnTo>
                    <a:lnTo>
                      <a:pt x="547" y="1358"/>
                    </a:lnTo>
                    <a:lnTo>
                      <a:pt x="557" y="1363"/>
                    </a:lnTo>
                    <a:lnTo>
                      <a:pt x="571" y="1363"/>
                    </a:lnTo>
                    <a:lnTo>
                      <a:pt x="581" y="1363"/>
                    </a:lnTo>
                    <a:lnTo>
                      <a:pt x="590" y="1367"/>
                    </a:lnTo>
                    <a:lnTo>
                      <a:pt x="600" y="1367"/>
                    </a:lnTo>
                    <a:lnTo>
                      <a:pt x="610" y="1372"/>
                    </a:lnTo>
                    <a:lnTo>
                      <a:pt x="619" y="1372"/>
                    </a:lnTo>
                    <a:lnTo>
                      <a:pt x="634" y="1372"/>
                    </a:lnTo>
                    <a:lnTo>
                      <a:pt x="643" y="1377"/>
                    </a:lnTo>
                    <a:lnTo>
                      <a:pt x="653" y="1377"/>
                    </a:lnTo>
                    <a:lnTo>
                      <a:pt x="662" y="1377"/>
                    </a:lnTo>
                    <a:lnTo>
                      <a:pt x="672" y="1382"/>
                    </a:lnTo>
                    <a:lnTo>
                      <a:pt x="682" y="1382"/>
                    </a:lnTo>
                    <a:lnTo>
                      <a:pt x="696" y="1382"/>
                    </a:lnTo>
                    <a:lnTo>
                      <a:pt x="706" y="1382"/>
                    </a:lnTo>
                    <a:lnTo>
                      <a:pt x="715" y="1386"/>
                    </a:lnTo>
                    <a:lnTo>
                      <a:pt x="725" y="1386"/>
                    </a:lnTo>
                    <a:lnTo>
                      <a:pt x="734" y="1391"/>
                    </a:lnTo>
                    <a:lnTo>
                      <a:pt x="744" y="1391"/>
                    </a:lnTo>
                    <a:lnTo>
                      <a:pt x="758" y="1396"/>
                    </a:lnTo>
                    <a:lnTo>
                      <a:pt x="768" y="1396"/>
                    </a:lnTo>
                    <a:lnTo>
                      <a:pt x="778" y="1396"/>
                    </a:lnTo>
                    <a:lnTo>
                      <a:pt x="787" y="1396"/>
                    </a:lnTo>
                    <a:lnTo>
                      <a:pt x="797" y="1401"/>
                    </a:lnTo>
                    <a:lnTo>
                      <a:pt x="806" y="1396"/>
                    </a:lnTo>
                    <a:lnTo>
                      <a:pt x="821" y="1396"/>
                    </a:lnTo>
                    <a:lnTo>
                      <a:pt x="830" y="1401"/>
                    </a:lnTo>
                    <a:lnTo>
                      <a:pt x="840" y="1401"/>
                    </a:lnTo>
                    <a:lnTo>
                      <a:pt x="850" y="1401"/>
                    </a:lnTo>
                    <a:lnTo>
                      <a:pt x="859" y="1401"/>
                    </a:lnTo>
                    <a:lnTo>
                      <a:pt x="869" y="1401"/>
                    </a:lnTo>
                    <a:lnTo>
                      <a:pt x="883" y="1401"/>
                    </a:lnTo>
                    <a:lnTo>
                      <a:pt x="893" y="1406"/>
                    </a:lnTo>
                    <a:lnTo>
                      <a:pt x="902" y="1406"/>
                    </a:lnTo>
                    <a:lnTo>
                      <a:pt x="912" y="1406"/>
                    </a:lnTo>
                    <a:lnTo>
                      <a:pt x="922" y="1406"/>
                    </a:lnTo>
                    <a:lnTo>
                      <a:pt x="931" y="1406"/>
                    </a:lnTo>
                    <a:lnTo>
                      <a:pt x="946" y="1410"/>
                    </a:lnTo>
                    <a:lnTo>
                      <a:pt x="955" y="1410"/>
                    </a:lnTo>
                    <a:lnTo>
                      <a:pt x="965" y="1410"/>
                    </a:lnTo>
                    <a:lnTo>
                      <a:pt x="974" y="1410"/>
                    </a:lnTo>
                    <a:lnTo>
                      <a:pt x="984" y="1410"/>
                    </a:lnTo>
                    <a:lnTo>
                      <a:pt x="994" y="1415"/>
                    </a:lnTo>
                    <a:lnTo>
                      <a:pt x="1008" y="1415"/>
                    </a:lnTo>
                    <a:lnTo>
                      <a:pt x="1017" y="1415"/>
                    </a:lnTo>
                    <a:lnTo>
                      <a:pt x="1027" y="1415"/>
                    </a:lnTo>
                    <a:lnTo>
                      <a:pt x="1037" y="1415"/>
                    </a:lnTo>
                    <a:lnTo>
                      <a:pt x="1046" y="1415"/>
                    </a:lnTo>
                    <a:lnTo>
                      <a:pt x="1056" y="1415"/>
                    </a:lnTo>
                    <a:lnTo>
                      <a:pt x="1070" y="1415"/>
                    </a:lnTo>
                    <a:lnTo>
                      <a:pt x="1080" y="1415"/>
                    </a:lnTo>
                    <a:lnTo>
                      <a:pt x="1089" y="1415"/>
                    </a:lnTo>
                    <a:lnTo>
                      <a:pt x="1099" y="1420"/>
                    </a:lnTo>
                    <a:lnTo>
                      <a:pt x="1109" y="1420"/>
                    </a:lnTo>
                    <a:lnTo>
                      <a:pt x="1118" y="1420"/>
                    </a:lnTo>
                    <a:lnTo>
                      <a:pt x="1133" y="1420"/>
                    </a:lnTo>
                    <a:lnTo>
                      <a:pt x="1142" y="1420"/>
                    </a:lnTo>
                    <a:lnTo>
                      <a:pt x="1152" y="1420"/>
                    </a:lnTo>
                    <a:lnTo>
                      <a:pt x="1161" y="1420"/>
                    </a:lnTo>
                    <a:lnTo>
                      <a:pt x="1171" y="1420"/>
                    </a:lnTo>
                    <a:lnTo>
                      <a:pt x="1181" y="1420"/>
                    </a:lnTo>
                    <a:lnTo>
                      <a:pt x="1195" y="1425"/>
                    </a:lnTo>
                    <a:lnTo>
                      <a:pt x="1205" y="1425"/>
                    </a:lnTo>
                    <a:lnTo>
                      <a:pt x="1214" y="1425"/>
                    </a:lnTo>
                    <a:lnTo>
                      <a:pt x="1224" y="1425"/>
                    </a:lnTo>
                    <a:lnTo>
                      <a:pt x="1233" y="1425"/>
                    </a:lnTo>
                    <a:lnTo>
                      <a:pt x="1243" y="1425"/>
                    </a:lnTo>
                    <a:lnTo>
                      <a:pt x="1257" y="1425"/>
                    </a:lnTo>
                    <a:lnTo>
                      <a:pt x="1267" y="1425"/>
                    </a:lnTo>
                    <a:lnTo>
                      <a:pt x="1277" y="1425"/>
                    </a:lnTo>
                    <a:lnTo>
                      <a:pt x="1286" y="1425"/>
                    </a:lnTo>
                    <a:lnTo>
                      <a:pt x="1296" y="1430"/>
                    </a:lnTo>
                    <a:lnTo>
                      <a:pt x="1305" y="1425"/>
                    </a:lnTo>
                    <a:lnTo>
                      <a:pt x="1320" y="143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649600" y="5906520"/>
                <a:ext cx="1217880" cy="21960"/>
              </a:xfrm>
              <a:custGeom>
                <a:avLst/>
                <a:gdLst/>
                <a:ahLst/>
                <a:rect l="l" t="t" r="r" b="b"/>
                <a:pathLst>
                  <a:path w="767" h="14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1" y="4"/>
                    </a:lnTo>
                    <a:lnTo>
                      <a:pt x="91" y="4"/>
                    </a:lnTo>
                    <a:lnTo>
                      <a:pt x="101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4" y="0"/>
                    </a:lnTo>
                    <a:lnTo>
                      <a:pt x="144" y="4"/>
                    </a:lnTo>
                    <a:lnTo>
                      <a:pt x="153" y="0"/>
                    </a:lnTo>
                    <a:lnTo>
                      <a:pt x="163" y="4"/>
                    </a:lnTo>
                    <a:lnTo>
                      <a:pt x="173" y="4"/>
                    </a:lnTo>
                    <a:lnTo>
                      <a:pt x="187" y="0"/>
                    </a:lnTo>
                    <a:lnTo>
                      <a:pt x="197" y="4"/>
                    </a:lnTo>
                    <a:lnTo>
                      <a:pt x="206" y="4"/>
                    </a:lnTo>
                    <a:lnTo>
                      <a:pt x="216" y="4"/>
                    </a:lnTo>
                    <a:lnTo>
                      <a:pt x="225" y="4"/>
                    </a:lnTo>
                    <a:lnTo>
                      <a:pt x="235" y="4"/>
                    </a:lnTo>
                    <a:lnTo>
                      <a:pt x="249" y="4"/>
                    </a:lnTo>
                    <a:lnTo>
                      <a:pt x="259" y="4"/>
                    </a:lnTo>
                    <a:lnTo>
                      <a:pt x="268" y="4"/>
                    </a:lnTo>
                    <a:lnTo>
                      <a:pt x="278" y="4"/>
                    </a:lnTo>
                    <a:lnTo>
                      <a:pt x="288" y="4"/>
                    </a:lnTo>
                    <a:lnTo>
                      <a:pt x="297" y="4"/>
                    </a:lnTo>
                    <a:lnTo>
                      <a:pt x="312" y="4"/>
                    </a:lnTo>
                    <a:lnTo>
                      <a:pt x="321" y="4"/>
                    </a:lnTo>
                    <a:lnTo>
                      <a:pt x="331" y="4"/>
                    </a:lnTo>
                    <a:lnTo>
                      <a:pt x="340" y="4"/>
                    </a:lnTo>
                    <a:lnTo>
                      <a:pt x="350" y="9"/>
                    </a:lnTo>
                    <a:lnTo>
                      <a:pt x="360" y="4"/>
                    </a:lnTo>
                    <a:lnTo>
                      <a:pt x="374" y="9"/>
                    </a:lnTo>
                    <a:lnTo>
                      <a:pt x="384" y="4"/>
                    </a:lnTo>
                    <a:lnTo>
                      <a:pt x="393" y="4"/>
                    </a:lnTo>
                    <a:lnTo>
                      <a:pt x="403" y="4"/>
                    </a:lnTo>
                    <a:lnTo>
                      <a:pt x="412" y="4"/>
                    </a:lnTo>
                    <a:lnTo>
                      <a:pt x="422" y="4"/>
                    </a:lnTo>
                    <a:lnTo>
                      <a:pt x="432" y="9"/>
                    </a:lnTo>
                    <a:lnTo>
                      <a:pt x="446" y="9"/>
                    </a:lnTo>
                    <a:lnTo>
                      <a:pt x="456" y="9"/>
                    </a:lnTo>
                    <a:lnTo>
                      <a:pt x="465" y="9"/>
                    </a:lnTo>
                    <a:lnTo>
                      <a:pt x="475" y="9"/>
                    </a:lnTo>
                    <a:lnTo>
                      <a:pt x="484" y="4"/>
                    </a:lnTo>
                    <a:lnTo>
                      <a:pt x="494" y="9"/>
                    </a:lnTo>
                    <a:lnTo>
                      <a:pt x="508" y="9"/>
                    </a:lnTo>
                    <a:lnTo>
                      <a:pt x="518" y="4"/>
                    </a:lnTo>
                    <a:lnTo>
                      <a:pt x="528" y="9"/>
                    </a:lnTo>
                    <a:lnTo>
                      <a:pt x="537" y="9"/>
                    </a:lnTo>
                    <a:lnTo>
                      <a:pt x="547" y="9"/>
                    </a:lnTo>
                    <a:lnTo>
                      <a:pt x="556" y="9"/>
                    </a:lnTo>
                    <a:lnTo>
                      <a:pt x="571" y="9"/>
                    </a:lnTo>
                    <a:lnTo>
                      <a:pt x="580" y="9"/>
                    </a:lnTo>
                    <a:lnTo>
                      <a:pt x="590" y="9"/>
                    </a:lnTo>
                    <a:lnTo>
                      <a:pt x="600" y="14"/>
                    </a:lnTo>
                    <a:lnTo>
                      <a:pt x="609" y="9"/>
                    </a:lnTo>
                    <a:lnTo>
                      <a:pt x="619" y="14"/>
                    </a:lnTo>
                    <a:lnTo>
                      <a:pt x="633" y="14"/>
                    </a:lnTo>
                    <a:lnTo>
                      <a:pt x="643" y="14"/>
                    </a:lnTo>
                    <a:lnTo>
                      <a:pt x="652" y="9"/>
                    </a:lnTo>
                    <a:lnTo>
                      <a:pt x="662" y="9"/>
                    </a:lnTo>
                    <a:lnTo>
                      <a:pt x="672" y="14"/>
                    </a:lnTo>
                    <a:lnTo>
                      <a:pt x="681" y="14"/>
                    </a:lnTo>
                    <a:lnTo>
                      <a:pt x="696" y="9"/>
                    </a:lnTo>
                    <a:lnTo>
                      <a:pt x="705" y="14"/>
                    </a:lnTo>
                    <a:lnTo>
                      <a:pt x="715" y="14"/>
                    </a:lnTo>
                    <a:lnTo>
                      <a:pt x="724" y="14"/>
                    </a:lnTo>
                    <a:lnTo>
                      <a:pt x="734" y="14"/>
                    </a:lnTo>
                    <a:lnTo>
                      <a:pt x="744" y="14"/>
                    </a:lnTo>
                    <a:lnTo>
                      <a:pt x="758" y="14"/>
                    </a:lnTo>
                    <a:lnTo>
                      <a:pt x="767" y="1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4040" y="3590280"/>
                <a:ext cx="2095560" cy="2346120"/>
              </a:xfrm>
              <a:custGeom>
                <a:avLst/>
                <a:gdLst/>
                <a:ahLst/>
                <a:rect l="l" t="t" r="r" b="b"/>
                <a:pathLst>
                  <a:path w="1320" h="1478">
                    <a:moveTo>
                      <a:pt x="0" y="0"/>
                    </a:moveTo>
                    <a:lnTo>
                      <a:pt x="10" y="562"/>
                    </a:lnTo>
                    <a:lnTo>
                      <a:pt x="19" y="936"/>
                    </a:lnTo>
                    <a:lnTo>
                      <a:pt x="29" y="1108"/>
                    </a:lnTo>
                    <a:lnTo>
                      <a:pt x="39" y="1204"/>
                    </a:lnTo>
                    <a:lnTo>
                      <a:pt x="48" y="1262"/>
                    </a:lnTo>
                    <a:lnTo>
                      <a:pt x="58" y="1305"/>
                    </a:lnTo>
                    <a:lnTo>
                      <a:pt x="72" y="1334"/>
                    </a:lnTo>
                    <a:lnTo>
                      <a:pt x="82" y="1358"/>
                    </a:lnTo>
                    <a:lnTo>
                      <a:pt x="91" y="1372"/>
                    </a:lnTo>
                    <a:lnTo>
                      <a:pt x="101" y="1387"/>
                    </a:lnTo>
                    <a:lnTo>
                      <a:pt x="111" y="1396"/>
                    </a:lnTo>
                    <a:lnTo>
                      <a:pt x="120" y="1406"/>
                    </a:lnTo>
                    <a:lnTo>
                      <a:pt x="135" y="1415"/>
                    </a:lnTo>
                    <a:lnTo>
                      <a:pt x="144" y="1425"/>
                    </a:lnTo>
                    <a:lnTo>
                      <a:pt x="154" y="1430"/>
                    </a:lnTo>
                    <a:lnTo>
                      <a:pt x="163" y="1435"/>
                    </a:lnTo>
                    <a:lnTo>
                      <a:pt x="173" y="1439"/>
                    </a:lnTo>
                    <a:lnTo>
                      <a:pt x="183" y="1444"/>
                    </a:lnTo>
                    <a:lnTo>
                      <a:pt x="197" y="1449"/>
                    </a:lnTo>
                    <a:lnTo>
                      <a:pt x="207" y="1454"/>
                    </a:lnTo>
                    <a:lnTo>
                      <a:pt x="216" y="1454"/>
                    </a:lnTo>
                    <a:lnTo>
                      <a:pt x="226" y="1459"/>
                    </a:lnTo>
                    <a:lnTo>
                      <a:pt x="235" y="1459"/>
                    </a:lnTo>
                    <a:lnTo>
                      <a:pt x="245" y="1459"/>
                    </a:lnTo>
                    <a:lnTo>
                      <a:pt x="259" y="1463"/>
                    </a:lnTo>
                    <a:lnTo>
                      <a:pt x="269" y="1463"/>
                    </a:lnTo>
                    <a:lnTo>
                      <a:pt x="279" y="1463"/>
                    </a:lnTo>
                    <a:lnTo>
                      <a:pt x="288" y="1468"/>
                    </a:lnTo>
                    <a:lnTo>
                      <a:pt x="298" y="1468"/>
                    </a:lnTo>
                    <a:lnTo>
                      <a:pt x="307" y="1468"/>
                    </a:lnTo>
                    <a:lnTo>
                      <a:pt x="322" y="1468"/>
                    </a:lnTo>
                    <a:lnTo>
                      <a:pt x="331" y="1468"/>
                    </a:lnTo>
                    <a:lnTo>
                      <a:pt x="341" y="1468"/>
                    </a:lnTo>
                    <a:lnTo>
                      <a:pt x="351" y="1473"/>
                    </a:lnTo>
                    <a:lnTo>
                      <a:pt x="360" y="1473"/>
                    </a:lnTo>
                    <a:lnTo>
                      <a:pt x="370" y="1473"/>
                    </a:lnTo>
                    <a:lnTo>
                      <a:pt x="384" y="1473"/>
                    </a:lnTo>
                    <a:lnTo>
                      <a:pt x="394" y="1478"/>
                    </a:lnTo>
                    <a:lnTo>
                      <a:pt x="403" y="1478"/>
                    </a:lnTo>
                    <a:lnTo>
                      <a:pt x="413" y="1478"/>
                    </a:lnTo>
                    <a:lnTo>
                      <a:pt x="423" y="1478"/>
                    </a:lnTo>
                    <a:lnTo>
                      <a:pt x="432" y="1478"/>
                    </a:lnTo>
                    <a:lnTo>
                      <a:pt x="447" y="1478"/>
                    </a:lnTo>
                    <a:lnTo>
                      <a:pt x="456" y="1478"/>
                    </a:lnTo>
                    <a:lnTo>
                      <a:pt x="466" y="1478"/>
                    </a:lnTo>
                    <a:lnTo>
                      <a:pt x="475" y="1478"/>
                    </a:lnTo>
                    <a:lnTo>
                      <a:pt x="485" y="1478"/>
                    </a:lnTo>
                    <a:lnTo>
                      <a:pt x="494" y="1478"/>
                    </a:lnTo>
                    <a:lnTo>
                      <a:pt x="509" y="1478"/>
                    </a:lnTo>
                    <a:lnTo>
                      <a:pt x="518" y="1478"/>
                    </a:lnTo>
                    <a:lnTo>
                      <a:pt x="528" y="1478"/>
                    </a:lnTo>
                    <a:lnTo>
                      <a:pt x="538" y="1478"/>
                    </a:lnTo>
                    <a:lnTo>
                      <a:pt x="547" y="1478"/>
                    </a:lnTo>
                    <a:lnTo>
                      <a:pt x="557" y="1478"/>
                    </a:lnTo>
                    <a:lnTo>
                      <a:pt x="571" y="1478"/>
                    </a:lnTo>
                    <a:lnTo>
                      <a:pt x="581" y="1478"/>
                    </a:lnTo>
                    <a:lnTo>
                      <a:pt x="590" y="1478"/>
                    </a:lnTo>
                    <a:lnTo>
                      <a:pt x="600" y="1478"/>
                    </a:lnTo>
                    <a:lnTo>
                      <a:pt x="610" y="1478"/>
                    </a:lnTo>
                    <a:lnTo>
                      <a:pt x="619" y="1478"/>
                    </a:lnTo>
                    <a:lnTo>
                      <a:pt x="634" y="1478"/>
                    </a:lnTo>
                    <a:lnTo>
                      <a:pt x="643" y="1478"/>
                    </a:lnTo>
                    <a:lnTo>
                      <a:pt x="653" y="1478"/>
                    </a:lnTo>
                    <a:lnTo>
                      <a:pt x="662" y="1473"/>
                    </a:lnTo>
                    <a:lnTo>
                      <a:pt x="672" y="1473"/>
                    </a:lnTo>
                    <a:lnTo>
                      <a:pt x="682" y="1478"/>
                    </a:lnTo>
                    <a:lnTo>
                      <a:pt x="696" y="1478"/>
                    </a:lnTo>
                    <a:lnTo>
                      <a:pt x="706" y="1478"/>
                    </a:lnTo>
                    <a:lnTo>
                      <a:pt x="715" y="1478"/>
                    </a:lnTo>
                    <a:lnTo>
                      <a:pt x="725" y="1478"/>
                    </a:lnTo>
                    <a:lnTo>
                      <a:pt x="734" y="1478"/>
                    </a:lnTo>
                    <a:lnTo>
                      <a:pt x="744" y="1478"/>
                    </a:lnTo>
                    <a:lnTo>
                      <a:pt x="758" y="1473"/>
                    </a:lnTo>
                    <a:lnTo>
                      <a:pt x="768" y="1473"/>
                    </a:lnTo>
                    <a:lnTo>
                      <a:pt x="778" y="1473"/>
                    </a:lnTo>
                    <a:lnTo>
                      <a:pt x="787" y="1473"/>
                    </a:lnTo>
                    <a:lnTo>
                      <a:pt x="797" y="1473"/>
                    </a:lnTo>
                    <a:lnTo>
                      <a:pt x="806" y="1473"/>
                    </a:lnTo>
                    <a:lnTo>
                      <a:pt x="821" y="1473"/>
                    </a:lnTo>
                    <a:lnTo>
                      <a:pt x="830" y="1473"/>
                    </a:lnTo>
                    <a:lnTo>
                      <a:pt x="840" y="1473"/>
                    </a:lnTo>
                    <a:lnTo>
                      <a:pt x="850" y="1473"/>
                    </a:lnTo>
                    <a:lnTo>
                      <a:pt x="859" y="1473"/>
                    </a:lnTo>
                    <a:lnTo>
                      <a:pt x="869" y="1473"/>
                    </a:lnTo>
                    <a:lnTo>
                      <a:pt x="883" y="1473"/>
                    </a:lnTo>
                    <a:lnTo>
                      <a:pt x="893" y="1473"/>
                    </a:lnTo>
                    <a:lnTo>
                      <a:pt x="902" y="1473"/>
                    </a:lnTo>
                    <a:lnTo>
                      <a:pt x="912" y="1473"/>
                    </a:lnTo>
                    <a:lnTo>
                      <a:pt x="922" y="1473"/>
                    </a:lnTo>
                    <a:lnTo>
                      <a:pt x="931" y="1473"/>
                    </a:lnTo>
                    <a:lnTo>
                      <a:pt x="946" y="1473"/>
                    </a:lnTo>
                    <a:lnTo>
                      <a:pt x="955" y="1473"/>
                    </a:lnTo>
                    <a:lnTo>
                      <a:pt x="965" y="1473"/>
                    </a:lnTo>
                    <a:lnTo>
                      <a:pt x="974" y="1473"/>
                    </a:lnTo>
                    <a:lnTo>
                      <a:pt x="984" y="1473"/>
                    </a:lnTo>
                    <a:lnTo>
                      <a:pt x="994" y="1473"/>
                    </a:lnTo>
                    <a:lnTo>
                      <a:pt x="1008" y="1473"/>
                    </a:lnTo>
                    <a:lnTo>
                      <a:pt x="1017" y="1473"/>
                    </a:lnTo>
                    <a:lnTo>
                      <a:pt x="1027" y="1473"/>
                    </a:lnTo>
                    <a:lnTo>
                      <a:pt x="1037" y="1473"/>
                    </a:lnTo>
                    <a:lnTo>
                      <a:pt x="1046" y="1473"/>
                    </a:lnTo>
                    <a:lnTo>
                      <a:pt x="1056" y="1473"/>
                    </a:lnTo>
                    <a:lnTo>
                      <a:pt x="1070" y="1473"/>
                    </a:lnTo>
                    <a:lnTo>
                      <a:pt x="1080" y="1473"/>
                    </a:lnTo>
                    <a:lnTo>
                      <a:pt x="1089" y="1473"/>
                    </a:lnTo>
                    <a:lnTo>
                      <a:pt x="1099" y="1473"/>
                    </a:lnTo>
                    <a:lnTo>
                      <a:pt x="1109" y="1473"/>
                    </a:lnTo>
                    <a:lnTo>
                      <a:pt x="1118" y="1473"/>
                    </a:lnTo>
                    <a:lnTo>
                      <a:pt x="1133" y="1473"/>
                    </a:lnTo>
                    <a:lnTo>
                      <a:pt x="1142" y="1473"/>
                    </a:lnTo>
                    <a:lnTo>
                      <a:pt x="1152" y="1473"/>
                    </a:lnTo>
                    <a:lnTo>
                      <a:pt x="1161" y="1473"/>
                    </a:lnTo>
                    <a:lnTo>
                      <a:pt x="1171" y="1473"/>
                    </a:lnTo>
                    <a:lnTo>
                      <a:pt x="1181" y="1473"/>
                    </a:lnTo>
                    <a:lnTo>
                      <a:pt x="1195" y="1473"/>
                    </a:lnTo>
                    <a:lnTo>
                      <a:pt x="1205" y="1473"/>
                    </a:lnTo>
                    <a:lnTo>
                      <a:pt x="1214" y="1473"/>
                    </a:lnTo>
                    <a:lnTo>
                      <a:pt x="1224" y="1473"/>
                    </a:lnTo>
                    <a:lnTo>
                      <a:pt x="1233" y="1473"/>
                    </a:lnTo>
                    <a:lnTo>
                      <a:pt x="1243" y="1473"/>
                    </a:lnTo>
                    <a:lnTo>
                      <a:pt x="1257" y="1473"/>
                    </a:lnTo>
                    <a:lnTo>
                      <a:pt x="1267" y="1473"/>
                    </a:lnTo>
                    <a:lnTo>
                      <a:pt x="1277" y="1473"/>
                    </a:lnTo>
                    <a:lnTo>
                      <a:pt x="1286" y="1473"/>
                    </a:lnTo>
                    <a:lnTo>
                      <a:pt x="1296" y="1473"/>
                    </a:lnTo>
                    <a:lnTo>
                      <a:pt x="1305" y="1473"/>
                    </a:lnTo>
                    <a:lnTo>
                      <a:pt x="1320" y="147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49600" y="5928840"/>
                <a:ext cx="1217880" cy="21600"/>
              </a:xfrm>
              <a:custGeom>
                <a:avLst/>
                <a:gdLst/>
                <a:ahLst/>
                <a:rect l="l" t="t" r="r" b="b"/>
                <a:pathLst>
                  <a:path w="767" h="14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1" y="0"/>
                    </a:lnTo>
                    <a:lnTo>
                      <a:pt x="91" y="0"/>
                    </a:lnTo>
                    <a:lnTo>
                      <a:pt x="101" y="0"/>
                    </a:lnTo>
                    <a:lnTo>
                      <a:pt x="110" y="0"/>
                    </a:lnTo>
                    <a:lnTo>
                      <a:pt x="125" y="5"/>
                    </a:lnTo>
                    <a:lnTo>
                      <a:pt x="134" y="5"/>
                    </a:lnTo>
                    <a:lnTo>
                      <a:pt x="144" y="5"/>
                    </a:lnTo>
                    <a:lnTo>
                      <a:pt x="153" y="0"/>
                    </a:lnTo>
                    <a:lnTo>
                      <a:pt x="163" y="0"/>
                    </a:lnTo>
                    <a:lnTo>
                      <a:pt x="173" y="5"/>
                    </a:lnTo>
                    <a:lnTo>
                      <a:pt x="187" y="5"/>
                    </a:lnTo>
                    <a:lnTo>
                      <a:pt x="197" y="5"/>
                    </a:lnTo>
                    <a:lnTo>
                      <a:pt x="206" y="5"/>
                    </a:lnTo>
                    <a:lnTo>
                      <a:pt x="216" y="5"/>
                    </a:lnTo>
                    <a:lnTo>
                      <a:pt x="225" y="5"/>
                    </a:lnTo>
                    <a:lnTo>
                      <a:pt x="235" y="5"/>
                    </a:lnTo>
                    <a:lnTo>
                      <a:pt x="249" y="5"/>
                    </a:lnTo>
                    <a:lnTo>
                      <a:pt x="259" y="0"/>
                    </a:lnTo>
                    <a:lnTo>
                      <a:pt x="268" y="5"/>
                    </a:lnTo>
                    <a:lnTo>
                      <a:pt x="278" y="0"/>
                    </a:lnTo>
                    <a:lnTo>
                      <a:pt x="288" y="5"/>
                    </a:lnTo>
                    <a:lnTo>
                      <a:pt x="297" y="5"/>
                    </a:lnTo>
                    <a:lnTo>
                      <a:pt x="312" y="5"/>
                    </a:lnTo>
                    <a:lnTo>
                      <a:pt x="321" y="5"/>
                    </a:lnTo>
                    <a:lnTo>
                      <a:pt x="331" y="0"/>
                    </a:lnTo>
                    <a:lnTo>
                      <a:pt x="340" y="5"/>
                    </a:lnTo>
                    <a:lnTo>
                      <a:pt x="350" y="5"/>
                    </a:lnTo>
                    <a:lnTo>
                      <a:pt x="360" y="0"/>
                    </a:lnTo>
                    <a:lnTo>
                      <a:pt x="374" y="0"/>
                    </a:lnTo>
                    <a:lnTo>
                      <a:pt x="384" y="0"/>
                    </a:lnTo>
                    <a:lnTo>
                      <a:pt x="393" y="5"/>
                    </a:lnTo>
                    <a:lnTo>
                      <a:pt x="403" y="5"/>
                    </a:lnTo>
                    <a:lnTo>
                      <a:pt x="412" y="5"/>
                    </a:lnTo>
                    <a:lnTo>
                      <a:pt x="422" y="5"/>
                    </a:lnTo>
                    <a:lnTo>
                      <a:pt x="432" y="0"/>
                    </a:lnTo>
                    <a:lnTo>
                      <a:pt x="446" y="5"/>
                    </a:lnTo>
                    <a:lnTo>
                      <a:pt x="456" y="5"/>
                    </a:lnTo>
                    <a:lnTo>
                      <a:pt x="465" y="5"/>
                    </a:lnTo>
                    <a:lnTo>
                      <a:pt x="475" y="5"/>
                    </a:lnTo>
                    <a:lnTo>
                      <a:pt x="484" y="5"/>
                    </a:lnTo>
                    <a:lnTo>
                      <a:pt x="494" y="5"/>
                    </a:lnTo>
                    <a:lnTo>
                      <a:pt x="508" y="5"/>
                    </a:lnTo>
                    <a:lnTo>
                      <a:pt x="518" y="5"/>
                    </a:lnTo>
                    <a:lnTo>
                      <a:pt x="528" y="5"/>
                    </a:lnTo>
                    <a:lnTo>
                      <a:pt x="537" y="5"/>
                    </a:lnTo>
                    <a:lnTo>
                      <a:pt x="547" y="5"/>
                    </a:lnTo>
                    <a:lnTo>
                      <a:pt x="556" y="5"/>
                    </a:lnTo>
                    <a:lnTo>
                      <a:pt x="571" y="5"/>
                    </a:lnTo>
                    <a:lnTo>
                      <a:pt x="580" y="5"/>
                    </a:lnTo>
                    <a:lnTo>
                      <a:pt x="590" y="5"/>
                    </a:lnTo>
                    <a:lnTo>
                      <a:pt x="600" y="5"/>
                    </a:lnTo>
                    <a:lnTo>
                      <a:pt x="609" y="5"/>
                    </a:lnTo>
                    <a:lnTo>
                      <a:pt x="619" y="5"/>
                    </a:lnTo>
                    <a:lnTo>
                      <a:pt x="633" y="5"/>
                    </a:lnTo>
                    <a:lnTo>
                      <a:pt x="643" y="5"/>
                    </a:lnTo>
                    <a:lnTo>
                      <a:pt x="652" y="10"/>
                    </a:lnTo>
                    <a:lnTo>
                      <a:pt x="662" y="10"/>
                    </a:lnTo>
                    <a:lnTo>
                      <a:pt x="672" y="10"/>
                    </a:lnTo>
                    <a:lnTo>
                      <a:pt x="681" y="10"/>
                    </a:lnTo>
                    <a:lnTo>
                      <a:pt x="696" y="10"/>
                    </a:lnTo>
                    <a:lnTo>
                      <a:pt x="705" y="10"/>
                    </a:lnTo>
                    <a:lnTo>
                      <a:pt x="715" y="10"/>
                    </a:lnTo>
                    <a:lnTo>
                      <a:pt x="724" y="10"/>
                    </a:lnTo>
                    <a:lnTo>
                      <a:pt x="734" y="10"/>
                    </a:lnTo>
                    <a:lnTo>
                      <a:pt x="744" y="14"/>
                    </a:lnTo>
                    <a:lnTo>
                      <a:pt x="758" y="10"/>
                    </a:lnTo>
                    <a:lnTo>
                      <a:pt x="767" y="1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1784520" y="6127560"/>
              <a:ext cx="6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6200000">
              <a:off x="-347760" y="4410000"/>
              <a:ext cx="1155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nitude 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2505240" y="3466800"/>
              <a:ext cx="1168200" cy="517680"/>
              <a:chOff x="2505240" y="3466800"/>
              <a:chExt cx="1168200" cy="517680"/>
            </a:xfrm>
          </p:grpSpPr>
          <p:sp>
            <p:nvSpPr>
              <p:cNvPr id="695" name=""/>
              <p:cNvSpPr/>
              <p:nvPr/>
            </p:nvSpPr>
            <p:spPr>
              <a:xfrm>
                <a:off x="2874960" y="3466800"/>
                <a:ext cx="79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ergy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505240" y="3603240"/>
                <a:ext cx="37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505240" y="3844440"/>
                <a:ext cx="39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874960" y="3708000"/>
                <a:ext cx="79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ergy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" name=""/>
          <p:cNvGrpSpPr/>
          <p:nvPr/>
        </p:nvGrpSpPr>
        <p:grpSpPr>
          <a:xfrm>
            <a:off x="4630680" y="3322440"/>
            <a:ext cx="3916800" cy="3081600"/>
            <a:chOff x="4630680" y="3322440"/>
            <a:chExt cx="3916800" cy="3081600"/>
          </a:xfrm>
        </p:grpSpPr>
        <p:grpSp>
          <p:nvGrpSpPr>
            <p:cNvPr id="700" name=""/>
            <p:cNvGrpSpPr/>
            <p:nvPr/>
          </p:nvGrpSpPr>
          <p:grpSpPr>
            <a:xfrm>
              <a:off x="5001480" y="3322440"/>
              <a:ext cx="3546000" cy="2849760"/>
              <a:chOff x="5001480" y="3322440"/>
              <a:chExt cx="3546000" cy="2849760"/>
            </a:xfrm>
          </p:grpSpPr>
          <p:sp>
            <p:nvSpPr>
              <p:cNvPr id="701" name=""/>
              <p:cNvSpPr/>
              <p:nvPr/>
            </p:nvSpPr>
            <p:spPr>
              <a:xfrm>
                <a:off x="5168520" y="3392280"/>
                <a:ext cx="3306960" cy="260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168520" y="3392280"/>
                <a:ext cx="3306960" cy="26035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68520" y="3392280"/>
                <a:ext cx="3306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68520" y="5995800"/>
                <a:ext cx="3306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8475480" y="3392280"/>
                <a:ext cx="1440" cy="260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168520" y="3392280"/>
                <a:ext cx="1800" cy="260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5168520" y="595764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168520" y="339228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138280" y="6019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5991120" y="59576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991120" y="33922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60520" y="6019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821280" y="59576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821280" y="33922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52520" y="6019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645320" y="59576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45320" y="33922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576560" y="6019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8475480" y="59576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75480" y="33922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06720" y="6019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168520" y="599580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8437320" y="5995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069880" y="5927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168520" y="556236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8437320" y="55623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69880" y="5493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68520" y="51274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8437320" y="51274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001480" y="5059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168520" y="469404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8437320" y="46940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001480" y="46256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168520" y="425916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8437320" y="42591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1480" y="41907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68520" y="382572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8437320" y="38257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01480" y="3757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168520" y="33922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8437320" y="33922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001480" y="33224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168520" y="3741480"/>
                <a:ext cx="3313440" cy="655560"/>
              </a:xfrm>
              <a:custGeom>
                <a:avLst/>
                <a:gdLst/>
                <a:ahLst/>
                <a:rect l="l" t="t" r="r" b="b"/>
                <a:pathLst>
                  <a:path w="2087" h="413">
                    <a:moveTo>
                      <a:pt x="0" y="53"/>
                    </a:moveTo>
                    <a:lnTo>
                      <a:pt x="48" y="10"/>
                    </a:lnTo>
                    <a:lnTo>
                      <a:pt x="101" y="0"/>
                    </a:lnTo>
                    <a:lnTo>
                      <a:pt x="154" y="15"/>
                    </a:lnTo>
                    <a:lnTo>
                      <a:pt x="207" y="5"/>
                    </a:lnTo>
                    <a:lnTo>
                      <a:pt x="259" y="24"/>
                    </a:lnTo>
                    <a:lnTo>
                      <a:pt x="307" y="29"/>
                    </a:lnTo>
                    <a:lnTo>
                      <a:pt x="360" y="34"/>
                    </a:lnTo>
                    <a:lnTo>
                      <a:pt x="413" y="39"/>
                    </a:lnTo>
                    <a:lnTo>
                      <a:pt x="466" y="48"/>
                    </a:lnTo>
                    <a:lnTo>
                      <a:pt x="518" y="58"/>
                    </a:lnTo>
                    <a:lnTo>
                      <a:pt x="571" y="67"/>
                    </a:lnTo>
                    <a:lnTo>
                      <a:pt x="619" y="96"/>
                    </a:lnTo>
                    <a:lnTo>
                      <a:pt x="672" y="101"/>
                    </a:lnTo>
                    <a:lnTo>
                      <a:pt x="725" y="130"/>
                    </a:lnTo>
                    <a:lnTo>
                      <a:pt x="778" y="135"/>
                    </a:lnTo>
                    <a:lnTo>
                      <a:pt x="830" y="149"/>
                    </a:lnTo>
                    <a:lnTo>
                      <a:pt x="883" y="173"/>
                    </a:lnTo>
                    <a:lnTo>
                      <a:pt x="931" y="187"/>
                    </a:lnTo>
                    <a:lnTo>
                      <a:pt x="984" y="187"/>
                    </a:lnTo>
                    <a:lnTo>
                      <a:pt x="1037" y="206"/>
                    </a:lnTo>
                    <a:lnTo>
                      <a:pt x="1089" y="226"/>
                    </a:lnTo>
                    <a:lnTo>
                      <a:pt x="1142" y="230"/>
                    </a:lnTo>
                    <a:lnTo>
                      <a:pt x="1195" y="250"/>
                    </a:lnTo>
                    <a:lnTo>
                      <a:pt x="1243" y="274"/>
                    </a:lnTo>
                    <a:lnTo>
                      <a:pt x="1296" y="288"/>
                    </a:lnTo>
                    <a:lnTo>
                      <a:pt x="1349" y="298"/>
                    </a:lnTo>
                    <a:lnTo>
                      <a:pt x="1401" y="326"/>
                    </a:lnTo>
                    <a:lnTo>
                      <a:pt x="1454" y="312"/>
                    </a:lnTo>
                    <a:lnTo>
                      <a:pt x="1507" y="331"/>
                    </a:lnTo>
                    <a:lnTo>
                      <a:pt x="1555" y="336"/>
                    </a:lnTo>
                    <a:lnTo>
                      <a:pt x="1608" y="346"/>
                    </a:lnTo>
                    <a:lnTo>
                      <a:pt x="1660" y="346"/>
                    </a:lnTo>
                    <a:lnTo>
                      <a:pt x="1713" y="355"/>
                    </a:lnTo>
                    <a:lnTo>
                      <a:pt x="1766" y="384"/>
                    </a:lnTo>
                    <a:lnTo>
                      <a:pt x="1814" y="379"/>
                    </a:lnTo>
                    <a:lnTo>
                      <a:pt x="1867" y="413"/>
                    </a:lnTo>
                    <a:lnTo>
                      <a:pt x="1920" y="394"/>
                    </a:lnTo>
                    <a:lnTo>
                      <a:pt x="1972" y="398"/>
                    </a:lnTo>
                    <a:lnTo>
                      <a:pt x="2025" y="398"/>
                    </a:lnTo>
                    <a:lnTo>
                      <a:pt x="2078" y="394"/>
                    </a:lnTo>
                    <a:lnTo>
                      <a:pt x="2087" y="39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168520" y="3719160"/>
                <a:ext cx="3313440" cy="1401840"/>
              </a:xfrm>
              <a:custGeom>
                <a:avLst/>
                <a:gdLst/>
                <a:ahLst/>
                <a:rect l="l" t="t" r="r" b="b"/>
                <a:pathLst>
                  <a:path w="2087" h="883">
                    <a:moveTo>
                      <a:pt x="0" y="0"/>
                    </a:moveTo>
                    <a:lnTo>
                      <a:pt x="48" y="77"/>
                    </a:lnTo>
                    <a:lnTo>
                      <a:pt x="101" y="182"/>
                    </a:lnTo>
                    <a:lnTo>
                      <a:pt x="154" y="302"/>
                    </a:lnTo>
                    <a:lnTo>
                      <a:pt x="207" y="417"/>
                    </a:lnTo>
                    <a:lnTo>
                      <a:pt x="259" y="518"/>
                    </a:lnTo>
                    <a:lnTo>
                      <a:pt x="307" y="599"/>
                    </a:lnTo>
                    <a:lnTo>
                      <a:pt x="360" y="667"/>
                    </a:lnTo>
                    <a:lnTo>
                      <a:pt x="413" y="734"/>
                    </a:lnTo>
                    <a:lnTo>
                      <a:pt x="466" y="791"/>
                    </a:lnTo>
                    <a:lnTo>
                      <a:pt x="518" y="825"/>
                    </a:lnTo>
                    <a:lnTo>
                      <a:pt x="571" y="849"/>
                    </a:lnTo>
                    <a:lnTo>
                      <a:pt x="619" y="863"/>
                    </a:lnTo>
                    <a:lnTo>
                      <a:pt x="672" y="868"/>
                    </a:lnTo>
                    <a:lnTo>
                      <a:pt x="725" y="868"/>
                    </a:lnTo>
                    <a:lnTo>
                      <a:pt x="778" y="873"/>
                    </a:lnTo>
                    <a:lnTo>
                      <a:pt x="830" y="883"/>
                    </a:lnTo>
                    <a:lnTo>
                      <a:pt x="883" y="868"/>
                    </a:lnTo>
                    <a:lnTo>
                      <a:pt x="931" y="863"/>
                    </a:lnTo>
                    <a:lnTo>
                      <a:pt x="984" y="863"/>
                    </a:lnTo>
                    <a:lnTo>
                      <a:pt x="1037" y="868"/>
                    </a:lnTo>
                    <a:lnTo>
                      <a:pt x="1089" y="873"/>
                    </a:lnTo>
                    <a:lnTo>
                      <a:pt x="1142" y="868"/>
                    </a:lnTo>
                    <a:lnTo>
                      <a:pt x="1195" y="868"/>
                    </a:lnTo>
                    <a:lnTo>
                      <a:pt x="1243" y="868"/>
                    </a:lnTo>
                    <a:lnTo>
                      <a:pt x="1296" y="849"/>
                    </a:lnTo>
                    <a:lnTo>
                      <a:pt x="1349" y="839"/>
                    </a:lnTo>
                    <a:lnTo>
                      <a:pt x="1401" y="835"/>
                    </a:lnTo>
                    <a:lnTo>
                      <a:pt x="1454" y="811"/>
                    </a:lnTo>
                    <a:lnTo>
                      <a:pt x="1507" y="787"/>
                    </a:lnTo>
                    <a:lnTo>
                      <a:pt x="1555" y="767"/>
                    </a:lnTo>
                    <a:lnTo>
                      <a:pt x="1608" y="739"/>
                    </a:lnTo>
                    <a:lnTo>
                      <a:pt x="1660" y="705"/>
                    </a:lnTo>
                    <a:lnTo>
                      <a:pt x="1713" y="705"/>
                    </a:lnTo>
                    <a:lnTo>
                      <a:pt x="1766" y="676"/>
                    </a:lnTo>
                    <a:lnTo>
                      <a:pt x="1814" y="671"/>
                    </a:lnTo>
                    <a:lnTo>
                      <a:pt x="1867" y="686"/>
                    </a:lnTo>
                    <a:lnTo>
                      <a:pt x="1920" y="643"/>
                    </a:lnTo>
                    <a:lnTo>
                      <a:pt x="1972" y="628"/>
                    </a:lnTo>
                    <a:lnTo>
                      <a:pt x="2025" y="628"/>
                    </a:lnTo>
                    <a:lnTo>
                      <a:pt x="2078" y="585"/>
                    </a:lnTo>
                    <a:lnTo>
                      <a:pt x="2087" y="58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6357600" y="6127560"/>
              <a:ext cx="6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6200000">
              <a:off x="4282200" y="4410360"/>
              <a:ext cx="115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nitude 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7178400" y="3466800"/>
              <a:ext cx="1168200" cy="518040"/>
              <a:chOff x="7178400" y="3466800"/>
              <a:chExt cx="1168200" cy="518040"/>
            </a:xfrm>
          </p:grpSpPr>
          <p:sp>
            <p:nvSpPr>
              <p:cNvPr id="748" name=""/>
              <p:cNvSpPr/>
              <p:nvPr/>
            </p:nvSpPr>
            <p:spPr>
              <a:xfrm>
                <a:off x="7548120" y="3466800"/>
                <a:ext cx="79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ergy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78400" y="3603600"/>
                <a:ext cx="37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178400" y="3844800"/>
                <a:ext cx="39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548120" y="3708360"/>
                <a:ext cx="79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ergy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67080" y="1752480"/>
                <a:ext cx="701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98960" y="38088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– Panametrics 5052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629280" y="2328840"/>
            <a:ext cx="3585960" cy="2853000"/>
            <a:chOff x="629280" y="2328840"/>
            <a:chExt cx="3585960" cy="2853000"/>
          </a:xfrm>
        </p:grpSpPr>
        <p:sp>
          <p:nvSpPr>
            <p:cNvPr id="756" name=""/>
            <p:cNvSpPr/>
            <p:nvPr/>
          </p:nvSpPr>
          <p:spPr>
            <a:xfrm>
              <a:off x="866520" y="2397240"/>
              <a:ext cx="330840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66520" y="2397240"/>
              <a:ext cx="3308400" cy="2609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66520" y="2397240"/>
              <a:ext cx="330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6520" y="5006880"/>
              <a:ext cx="330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4174920" y="2396880"/>
              <a:ext cx="1440" cy="260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66520" y="2396880"/>
              <a:ext cx="1800" cy="260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866520" y="496872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6520" y="239724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3448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1522080" y="496872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22080" y="239724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9184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185920" y="496872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85920" y="2397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5352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849400" y="496872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49400" y="2397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1736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3511440" y="496872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11440" y="2397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8084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4174920" y="496872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74920" y="2397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4432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66520" y="50068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136760" y="50068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6608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66520" y="46944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136760" y="46944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9280" y="4624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66520" y="43876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4136760" y="43876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9280" y="4319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66520" y="40831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4136760" y="40831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9280" y="4014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66520" y="37782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136760" y="3778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9280" y="3710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66520" y="34653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4136760" y="34653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9280" y="3397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66520" y="31608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4136760" y="31608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9280" y="30909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66520" y="28544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136760" y="28544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9280" y="2786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66520" y="25495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136760" y="25495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9280" y="2481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66520" y="23972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4136760" y="23972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9280" y="2328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66520" y="4923000"/>
              <a:ext cx="3316320" cy="1440"/>
            </a:xfrm>
            <a:custGeom>
              <a:avLst/>
              <a:gdLst/>
              <a:ahLst/>
              <a:rect l="l" t="t" r="r" b="b"/>
              <a:pathLst>
                <a:path w="2089" h="0">
                  <a:moveTo>
                    <a:pt x="0" y="0"/>
                  </a:moveTo>
                  <a:lnTo>
                    <a:pt x="206" y="0"/>
                  </a:lnTo>
                  <a:lnTo>
                    <a:pt x="413" y="0"/>
                  </a:lnTo>
                  <a:lnTo>
                    <a:pt x="619" y="0"/>
                  </a:lnTo>
                  <a:lnTo>
                    <a:pt x="831" y="0"/>
                  </a:lnTo>
                  <a:lnTo>
                    <a:pt x="1037" y="0"/>
                  </a:lnTo>
                  <a:lnTo>
                    <a:pt x="1244" y="0"/>
                  </a:lnTo>
                  <a:lnTo>
                    <a:pt x="1455" y="0"/>
                  </a:lnTo>
                  <a:lnTo>
                    <a:pt x="1662" y="0"/>
                  </a:lnTo>
                  <a:lnTo>
                    <a:pt x="1868" y="0"/>
                  </a:lnTo>
                  <a:lnTo>
                    <a:pt x="2080" y="0"/>
                  </a:lnTo>
                  <a:lnTo>
                    <a:pt x="20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66520" y="4854600"/>
              <a:ext cx="3316320" cy="44280"/>
            </a:xfrm>
            <a:custGeom>
              <a:avLst/>
              <a:gdLst/>
              <a:ahLst/>
              <a:rect l="l" t="t" r="r" b="b"/>
              <a:pathLst>
                <a:path w="2089" h="28">
                  <a:moveTo>
                    <a:pt x="0" y="0"/>
                  </a:moveTo>
                  <a:lnTo>
                    <a:pt x="206" y="4"/>
                  </a:lnTo>
                  <a:lnTo>
                    <a:pt x="413" y="9"/>
                  </a:lnTo>
                  <a:lnTo>
                    <a:pt x="619" y="9"/>
                  </a:lnTo>
                  <a:lnTo>
                    <a:pt x="831" y="9"/>
                  </a:lnTo>
                  <a:lnTo>
                    <a:pt x="1037" y="14"/>
                  </a:lnTo>
                  <a:lnTo>
                    <a:pt x="1244" y="14"/>
                  </a:lnTo>
                  <a:lnTo>
                    <a:pt x="1455" y="19"/>
                  </a:lnTo>
                  <a:lnTo>
                    <a:pt x="1662" y="24"/>
                  </a:lnTo>
                  <a:lnTo>
                    <a:pt x="1868" y="24"/>
                  </a:lnTo>
                  <a:lnTo>
                    <a:pt x="2080" y="28"/>
                  </a:lnTo>
                  <a:lnTo>
                    <a:pt x="2089" y="2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66520" y="4732200"/>
              <a:ext cx="3316320" cy="106560"/>
            </a:xfrm>
            <a:custGeom>
              <a:avLst/>
              <a:gdLst/>
              <a:ahLst/>
              <a:rect l="l" t="t" r="r" b="b"/>
              <a:pathLst>
                <a:path w="2089" h="67">
                  <a:moveTo>
                    <a:pt x="0" y="0"/>
                  </a:moveTo>
                  <a:lnTo>
                    <a:pt x="206" y="0"/>
                  </a:lnTo>
                  <a:lnTo>
                    <a:pt x="413" y="5"/>
                  </a:lnTo>
                  <a:lnTo>
                    <a:pt x="619" y="9"/>
                  </a:lnTo>
                  <a:lnTo>
                    <a:pt x="831" y="19"/>
                  </a:lnTo>
                  <a:lnTo>
                    <a:pt x="1037" y="29"/>
                  </a:lnTo>
                  <a:lnTo>
                    <a:pt x="1244" y="38"/>
                  </a:lnTo>
                  <a:lnTo>
                    <a:pt x="1455" y="48"/>
                  </a:lnTo>
                  <a:lnTo>
                    <a:pt x="1662" y="53"/>
                  </a:lnTo>
                  <a:lnTo>
                    <a:pt x="1868" y="57"/>
                  </a:lnTo>
                  <a:lnTo>
                    <a:pt x="2080" y="67"/>
                  </a:lnTo>
                  <a:lnTo>
                    <a:pt x="2089" y="6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66520" y="4373640"/>
              <a:ext cx="3316320" cy="426960"/>
            </a:xfrm>
            <a:custGeom>
              <a:avLst/>
              <a:gdLst/>
              <a:ahLst/>
              <a:rect l="l" t="t" r="r" b="b"/>
              <a:pathLst>
                <a:path w="2089" h="269">
                  <a:moveTo>
                    <a:pt x="0" y="0"/>
                  </a:moveTo>
                  <a:lnTo>
                    <a:pt x="38" y="38"/>
                  </a:lnTo>
                  <a:lnTo>
                    <a:pt x="81" y="43"/>
                  </a:lnTo>
                  <a:lnTo>
                    <a:pt x="120" y="43"/>
                  </a:lnTo>
                  <a:lnTo>
                    <a:pt x="163" y="48"/>
                  </a:lnTo>
                  <a:lnTo>
                    <a:pt x="206" y="53"/>
                  </a:lnTo>
                  <a:lnTo>
                    <a:pt x="245" y="58"/>
                  </a:lnTo>
                  <a:lnTo>
                    <a:pt x="288" y="67"/>
                  </a:lnTo>
                  <a:lnTo>
                    <a:pt x="331" y="72"/>
                  </a:lnTo>
                  <a:lnTo>
                    <a:pt x="370" y="77"/>
                  </a:lnTo>
                  <a:lnTo>
                    <a:pt x="413" y="86"/>
                  </a:lnTo>
                  <a:lnTo>
                    <a:pt x="456" y="91"/>
                  </a:lnTo>
                  <a:lnTo>
                    <a:pt x="494" y="101"/>
                  </a:lnTo>
                  <a:lnTo>
                    <a:pt x="538" y="106"/>
                  </a:lnTo>
                  <a:lnTo>
                    <a:pt x="581" y="115"/>
                  </a:lnTo>
                  <a:lnTo>
                    <a:pt x="619" y="125"/>
                  </a:lnTo>
                  <a:lnTo>
                    <a:pt x="663" y="130"/>
                  </a:lnTo>
                  <a:lnTo>
                    <a:pt x="706" y="139"/>
                  </a:lnTo>
                  <a:lnTo>
                    <a:pt x="744" y="144"/>
                  </a:lnTo>
                  <a:lnTo>
                    <a:pt x="787" y="149"/>
                  </a:lnTo>
                  <a:lnTo>
                    <a:pt x="831" y="158"/>
                  </a:lnTo>
                  <a:lnTo>
                    <a:pt x="869" y="163"/>
                  </a:lnTo>
                  <a:lnTo>
                    <a:pt x="912" y="168"/>
                  </a:lnTo>
                  <a:lnTo>
                    <a:pt x="956" y="173"/>
                  </a:lnTo>
                  <a:lnTo>
                    <a:pt x="994" y="178"/>
                  </a:lnTo>
                  <a:lnTo>
                    <a:pt x="1037" y="182"/>
                  </a:lnTo>
                  <a:lnTo>
                    <a:pt x="1080" y="187"/>
                  </a:lnTo>
                  <a:lnTo>
                    <a:pt x="1119" y="192"/>
                  </a:lnTo>
                  <a:lnTo>
                    <a:pt x="1162" y="197"/>
                  </a:lnTo>
                  <a:lnTo>
                    <a:pt x="1205" y="202"/>
                  </a:lnTo>
                  <a:lnTo>
                    <a:pt x="1244" y="207"/>
                  </a:lnTo>
                  <a:lnTo>
                    <a:pt x="1287" y="211"/>
                  </a:lnTo>
                  <a:lnTo>
                    <a:pt x="1330" y="211"/>
                  </a:lnTo>
                  <a:lnTo>
                    <a:pt x="1369" y="216"/>
                  </a:lnTo>
                  <a:lnTo>
                    <a:pt x="1412" y="221"/>
                  </a:lnTo>
                  <a:lnTo>
                    <a:pt x="1455" y="226"/>
                  </a:lnTo>
                  <a:lnTo>
                    <a:pt x="1494" y="226"/>
                  </a:lnTo>
                  <a:lnTo>
                    <a:pt x="1537" y="231"/>
                  </a:lnTo>
                  <a:lnTo>
                    <a:pt x="1580" y="235"/>
                  </a:lnTo>
                  <a:lnTo>
                    <a:pt x="1618" y="240"/>
                  </a:lnTo>
                  <a:lnTo>
                    <a:pt x="1662" y="245"/>
                  </a:lnTo>
                  <a:lnTo>
                    <a:pt x="1705" y="245"/>
                  </a:lnTo>
                  <a:lnTo>
                    <a:pt x="1743" y="250"/>
                  </a:lnTo>
                  <a:lnTo>
                    <a:pt x="1787" y="250"/>
                  </a:lnTo>
                  <a:lnTo>
                    <a:pt x="1830" y="255"/>
                  </a:lnTo>
                  <a:lnTo>
                    <a:pt x="1868" y="255"/>
                  </a:lnTo>
                  <a:lnTo>
                    <a:pt x="1911" y="259"/>
                  </a:lnTo>
                  <a:lnTo>
                    <a:pt x="1955" y="259"/>
                  </a:lnTo>
                  <a:lnTo>
                    <a:pt x="1993" y="264"/>
                  </a:lnTo>
                  <a:lnTo>
                    <a:pt x="2036" y="264"/>
                  </a:lnTo>
                  <a:lnTo>
                    <a:pt x="2080" y="269"/>
                  </a:lnTo>
                  <a:lnTo>
                    <a:pt x="2089" y="26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66520" y="3892680"/>
              <a:ext cx="3316320" cy="892080"/>
            </a:xfrm>
            <a:custGeom>
              <a:avLst/>
              <a:gdLst/>
              <a:ahLst/>
              <a:rect l="l" t="t" r="r" b="b"/>
              <a:pathLst>
                <a:path w="2089" h="562">
                  <a:moveTo>
                    <a:pt x="0" y="0"/>
                  </a:moveTo>
                  <a:lnTo>
                    <a:pt x="38" y="14"/>
                  </a:lnTo>
                  <a:lnTo>
                    <a:pt x="81" y="24"/>
                  </a:lnTo>
                  <a:lnTo>
                    <a:pt x="120" y="38"/>
                  </a:lnTo>
                  <a:lnTo>
                    <a:pt x="163" y="62"/>
                  </a:lnTo>
                  <a:lnTo>
                    <a:pt x="206" y="82"/>
                  </a:lnTo>
                  <a:lnTo>
                    <a:pt x="245" y="111"/>
                  </a:lnTo>
                  <a:lnTo>
                    <a:pt x="288" y="139"/>
                  </a:lnTo>
                  <a:lnTo>
                    <a:pt x="331" y="168"/>
                  </a:lnTo>
                  <a:lnTo>
                    <a:pt x="370" y="197"/>
                  </a:lnTo>
                  <a:lnTo>
                    <a:pt x="413" y="221"/>
                  </a:lnTo>
                  <a:lnTo>
                    <a:pt x="456" y="245"/>
                  </a:lnTo>
                  <a:lnTo>
                    <a:pt x="494" y="264"/>
                  </a:lnTo>
                  <a:lnTo>
                    <a:pt x="538" y="288"/>
                  </a:lnTo>
                  <a:lnTo>
                    <a:pt x="581" y="303"/>
                  </a:lnTo>
                  <a:lnTo>
                    <a:pt x="619" y="322"/>
                  </a:lnTo>
                  <a:lnTo>
                    <a:pt x="663" y="336"/>
                  </a:lnTo>
                  <a:lnTo>
                    <a:pt x="706" y="351"/>
                  </a:lnTo>
                  <a:lnTo>
                    <a:pt x="744" y="365"/>
                  </a:lnTo>
                  <a:lnTo>
                    <a:pt x="787" y="375"/>
                  </a:lnTo>
                  <a:lnTo>
                    <a:pt x="831" y="389"/>
                  </a:lnTo>
                  <a:lnTo>
                    <a:pt x="869" y="404"/>
                  </a:lnTo>
                  <a:lnTo>
                    <a:pt x="912" y="413"/>
                  </a:lnTo>
                  <a:lnTo>
                    <a:pt x="956" y="423"/>
                  </a:lnTo>
                  <a:lnTo>
                    <a:pt x="994" y="433"/>
                  </a:lnTo>
                  <a:lnTo>
                    <a:pt x="1037" y="442"/>
                  </a:lnTo>
                  <a:lnTo>
                    <a:pt x="1080" y="452"/>
                  </a:lnTo>
                  <a:lnTo>
                    <a:pt x="1119" y="457"/>
                  </a:lnTo>
                  <a:lnTo>
                    <a:pt x="1162" y="466"/>
                  </a:lnTo>
                  <a:lnTo>
                    <a:pt x="1205" y="471"/>
                  </a:lnTo>
                  <a:lnTo>
                    <a:pt x="1244" y="481"/>
                  </a:lnTo>
                  <a:lnTo>
                    <a:pt x="1287" y="490"/>
                  </a:lnTo>
                  <a:lnTo>
                    <a:pt x="1330" y="490"/>
                  </a:lnTo>
                  <a:lnTo>
                    <a:pt x="1369" y="500"/>
                  </a:lnTo>
                  <a:lnTo>
                    <a:pt x="1412" y="505"/>
                  </a:lnTo>
                  <a:lnTo>
                    <a:pt x="1455" y="510"/>
                  </a:lnTo>
                  <a:lnTo>
                    <a:pt x="1494" y="514"/>
                  </a:lnTo>
                  <a:lnTo>
                    <a:pt x="1537" y="519"/>
                  </a:lnTo>
                  <a:lnTo>
                    <a:pt x="1580" y="524"/>
                  </a:lnTo>
                  <a:lnTo>
                    <a:pt x="1618" y="524"/>
                  </a:lnTo>
                  <a:lnTo>
                    <a:pt x="1662" y="529"/>
                  </a:lnTo>
                  <a:lnTo>
                    <a:pt x="1705" y="534"/>
                  </a:lnTo>
                  <a:lnTo>
                    <a:pt x="1743" y="538"/>
                  </a:lnTo>
                  <a:lnTo>
                    <a:pt x="1787" y="543"/>
                  </a:lnTo>
                  <a:lnTo>
                    <a:pt x="1830" y="543"/>
                  </a:lnTo>
                  <a:lnTo>
                    <a:pt x="1868" y="548"/>
                  </a:lnTo>
                  <a:lnTo>
                    <a:pt x="1911" y="548"/>
                  </a:lnTo>
                  <a:lnTo>
                    <a:pt x="1955" y="553"/>
                  </a:lnTo>
                  <a:lnTo>
                    <a:pt x="1993" y="558"/>
                  </a:lnTo>
                  <a:lnTo>
                    <a:pt x="2036" y="558"/>
                  </a:lnTo>
                  <a:lnTo>
                    <a:pt x="2080" y="558"/>
                  </a:lnTo>
                  <a:lnTo>
                    <a:pt x="2089" y="56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66520" y="3289320"/>
              <a:ext cx="3316320" cy="1488960"/>
            </a:xfrm>
            <a:custGeom>
              <a:avLst/>
              <a:gdLst/>
              <a:ahLst/>
              <a:rect l="l" t="t" r="r" b="b"/>
              <a:pathLst>
                <a:path w="2089" h="938">
                  <a:moveTo>
                    <a:pt x="0" y="72"/>
                  </a:moveTo>
                  <a:lnTo>
                    <a:pt x="38" y="0"/>
                  </a:lnTo>
                  <a:lnTo>
                    <a:pt x="81" y="29"/>
                  </a:lnTo>
                  <a:lnTo>
                    <a:pt x="120" y="82"/>
                  </a:lnTo>
                  <a:lnTo>
                    <a:pt x="163" y="149"/>
                  </a:lnTo>
                  <a:lnTo>
                    <a:pt x="206" y="217"/>
                  </a:lnTo>
                  <a:lnTo>
                    <a:pt x="245" y="284"/>
                  </a:lnTo>
                  <a:lnTo>
                    <a:pt x="288" y="346"/>
                  </a:lnTo>
                  <a:lnTo>
                    <a:pt x="331" y="404"/>
                  </a:lnTo>
                  <a:lnTo>
                    <a:pt x="370" y="452"/>
                  </a:lnTo>
                  <a:lnTo>
                    <a:pt x="413" y="495"/>
                  </a:lnTo>
                  <a:lnTo>
                    <a:pt x="456" y="534"/>
                  </a:lnTo>
                  <a:lnTo>
                    <a:pt x="494" y="567"/>
                  </a:lnTo>
                  <a:lnTo>
                    <a:pt x="538" y="596"/>
                  </a:lnTo>
                  <a:lnTo>
                    <a:pt x="581" y="625"/>
                  </a:lnTo>
                  <a:lnTo>
                    <a:pt x="619" y="654"/>
                  </a:lnTo>
                  <a:lnTo>
                    <a:pt x="663" y="673"/>
                  </a:lnTo>
                  <a:lnTo>
                    <a:pt x="706" y="692"/>
                  </a:lnTo>
                  <a:lnTo>
                    <a:pt x="744" y="712"/>
                  </a:lnTo>
                  <a:lnTo>
                    <a:pt x="787" y="726"/>
                  </a:lnTo>
                  <a:lnTo>
                    <a:pt x="831" y="745"/>
                  </a:lnTo>
                  <a:lnTo>
                    <a:pt x="869" y="760"/>
                  </a:lnTo>
                  <a:lnTo>
                    <a:pt x="912" y="774"/>
                  </a:lnTo>
                  <a:lnTo>
                    <a:pt x="956" y="784"/>
                  </a:lnTo>
                  <a:lnTo>
                    <a:pt x="994" y="798"/>
                  </a:lnTo>
                  <a:lnTo>
                    <a:pt x="1037" y="808"/>
                  </a:lnTo>
                  <a:lnTo>
                    <a:pt x="1080" y="817"/>
                  </a:lnTo>
                  <a:lnTo>
                    <a:pt x="1119" y="822"/>
                  </a:lnTo>
                  <a:lnTo>
                    <a:pt x="1162" y="832"/>
                  </a:lnTo>
                  <a:lnTo>
                    <a:pt x="1205" y="841"/>
                  </a:lnTo>
                  <a:lnTo>
                    <a:pt x="1244" y="846"/>
                  </a:lnTo>
                  <a:lnTo>
                    <a:pt x="1287" y="856"/>
                  </a:lnTo>
                  <a:lnTo>
                    <a:pt x="1330" y="861"/>
                  </a:lnTo>
                  <a:lnTo>
                    <a:pt x="1369" y="870"/>
                  </a:lnTo>
                  <a:lnTo>
                    <a:pt x="1412" y="875"/>
                  </a:lnTo>
                  <a:lnTo>
                    <a:pt x="1455" y="885"/>
                  </a:lnTo>
                  <a:lnTo>
                    <a:pt x="1494" y="885"/>
                  </a:lnTo>
                  <a:lnTo>
                    <a:pt x="1537" y="894"/>
                  </a:lnTo>
                  <a:lnTo>
                    <a:pt x="1580" y="899"/>
                  </a:lnTo>
                  <a:lnTo>
                    <a:pt x="1618" y="899"/>
                  </a:lnTo>
                  <a:lnTo>
                    <a:pt x="1662" y="909"/>
                  </a:lnTo>
                  <a:lnTo>
                    <a:pt x="1705" y="909"/>
                  </a:lnTo>
                  <a:lnTo>
                    <a:pt x="1743" y="914"/>
                  </a:lnTo>
                  <a:lnTo>
                    <a:pt x="1787" y="914"/>
                  </a:lnTo>
                  <a:lnTo>
                    <a:pt x="1830" y="918"/>
                  </a:lnTo>
                  <a:lnTo>
                    <a:pt x="1868" y="923"/>
                  </a:lnTo>
                  <a:lnTo>
                    <a:pt x="1911" y="923"/>
                  </a:lnTo>
                  <a:lnTo>
                    <a:pt x="1955" y="928"/>
                  </a:lnTo>
                  <a:lnTo>
                    <a:pt x="1993" y="933"/>
                  </a:lnTo>
                  <a:lnTo>
                    <a:pt x="2036" y="938"/>
                  </a:lnTo>
                  <a:lnTo>
                    <a:pt x="2080" y="938"/>
                  </a:lnTo>
                  <a:lnTo>
                    <a:pt x="2089" y="93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66520" y="2679840"/>
              <a:ext cx="3316320" cy="2098440"/>
            </a:xfrm>
            <a:custGeom>
              <a:avLst/>
              <a:gdLst/>
              <a:ahLst/>
              <a:rect l="l" t="t" r="r" b="b"/>
              <a:pathLst>
                <a:path w="2089" h="1322">
                  <a:moveTo>
                    <a:pt x="0" y="33"/>
                  </a:moveTo>
                  <a:lnTo>
                    <a:pt x="38" y="0"/>
                  </a:lnTo>
                  <a:lnTo>
                    <a:pt x="81" y="81"/>
                  </a:lnTo>
                  <a:lnTo>
                    <a:pt x="120" y="202"/>
                  </a:lnTo>
                  <a:lnTo>
                    <a:pt x="163" y="322"/>
                  </a:lnTo>
                  <a:lnTo>
                    <a:pt x="206" y="452"/>
                  </a:lnTo>
                  <a:lnTo>
                    <a:pt x="245" y="557"/>
                  </a:lnTo>
                  <a:lnTo>
                    <a:pt x="288" y="634"/>
                  </a:lnTo>
                  <a:lnTo>
                    <a:pt x="331" y="706"/>
                  </a:lnTo>
                  <a:lnTo>
                    <a:pt x="370" y="764"/>
                  </a:lnTo>
                  <a:lnTo>
                    <a:pt x="413" y="826"/>
                  </a:lnTo>
                  <a:lnTo>
                    <a:pt x="456" y="879"/>
                  </a:lnTo>
                  <a:lnTo>
                    <a:pt x="494" y="923"/>
                  </a:lnTo>
                  <a:lnTo>
                    <a:pt x="538" y="956"/>
                  </a:lnTo>
                  <a:lnTo>
                    <a:pt x="581" y="990"/>
                  </a:lnTo>
                  <a:lnTo>
                    <a:pt x="619" y="1019"/>
                  </a:lnTo>
                  <a:lnTo>
                    <a:pt x="663" y="1043"/>
                  </a:lnTo>
                  <a:lnTo>
                    <a:pt x="706" y="1067"/>
                  </a:lnTo>
                  <a:lnTo>
                    <a:pt x="744" y="1086"/>
                  </a:lnTo>
                  <a:lnTo>
                    <a:pt x="787" y="1105"/>
                  </a:lnTo>
                  <a:lnTo>
                    <a:pt x="831" y="1125"/>
                  </a:lnTo>
                  <a:lnTo>
                    <a:pt x="869" y="1139"/>
                  </a:lnTo>
                  <a:lnTo>
                    <a:pt x="912" y="1149"/>
                  </a:lnTo>
                  <a:lnTo>
                    <a:pt x="956" y="1163"/>
                  </a:lnTo>
                  <a:lnTo>
                    <a:pt x="994" y="1173"/>
                  </a:lnTo>
                  <a:lnTo>
                    <a:pt x="1037" y="1182"/>
                  </a:lnTo>
                  <a:lnTo>
                    <a:pt x="1080" y="1197"/>
                  </a:lnTo>
                  <a:lnTo>
                    <a:pt x="1119" y="1201"/>
                  </a:lnTo>
                  <a:lnTo>
                    <a:pt x="1162" y="1211"/>
                  </a:lnTo>
                  <a:lnTo>
                    <a:pt x="1205" y="1221"/>
                  </a:lnTo>
                  <a:lnTo>
                    <a:pt x="1244" y="1230"/>
                  </a:lnTo>
                  <a:lnTo>
                    <a:pt x="1287" y="1235"/>
                  </a:lnTo>
                  <a:lnTo>
                    <a:pt x="1330" y="1240"/>
                  </a:lnTo>
                  <a:lnTo>
                    <a:pt x="1369" y="1249"/>
                  </a:lnTo>
                  <a:lnTo>
                    <a:pt x="1412" y="1254"/>
                  </a:lnTo>
                  <a:lnTo>
                    <a:pt x="1455" y="1259"/>
                  </a:lnTo>
                  <a:lnTo>
                    <a:pt x="1494" y="1264"/>
                  </a:lnTo>
                  <a:lnTo>
                    <a:pt x="1537" y="1269"/>
                  </a:lnTo>
                  <a:lnTo>
                    <a:pt x="1580" y="1278"/>
                  </a:lnTo>
                  <a:lnTo>
                    <a:pt x="1618" y="1283"/>
                  </a:lnTo>
                  <a:lnTo>
                    <a:pt x="1662" y="1283"/>
                  </a:lnTo>
                  <a:lnTo>
                    <a:pt x="1705" y="1293"/>
                  </a:lnTo>
                  <a:lnTo>
                    <a:pt x="1743" y="1298"/>
                  </a:lnTo>
                  <a:lnTo>
                    <a:pt x="1787" y="1298"/>
                  </a:lnTo>
                  <a:lnTo>
                    <a:pt x="1830" y="1302"/>
                  </a:lnTo>
                  <a:lnTo>
                    <a:pt x="1868" y="1307"/>
                  </a:lnTo>
                  <a:lnTo>
                    <a:pt x="1911" y="1307"/>
                  </a:lnTo>
                  <a:lnTo>
                    <a:pt x="1955" y="1312"/>
                  </a:lnTo>
                  <a:lnTo>
                    <a:pt x="1993" y="1312"/>
                  </a:lnTo>
                  <a:lnTo>
                    <a:pt x="2036" y="1317"/>
                  </a:lnTo>
                  <a:lnTo>
                    <a:pt x="2080" y="1322"/>
                  </a:lnTo>
                  <a:lnTo>
                    <a:pt x="2089" y="132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66520" y="2495520"/>
              <a:ext cx="3316320" cy="2282760"/>
            </a:xfrm>
            <a:custGeom>
              <a:avLst/>
              <a:gdLst/>
              <a:ahLst/>
              <a:rect l="l" t="t" r="r" b="b"/>
              <a:pathLst>
                <a:path w="2089" h="1438">
                  <a:moveTo>
                    <a:pt x="0" y="0"/>
                  </a:moveTo>
                  <a:lnTo>
                    <a:pt x="38" y="63"/>
                  </a:lnTo>
                  <a:lnTo>
                    <a:pt x="81" y="159"/>
                  </a:lnTo>
                  <a:lnTo>
                    <a:pt x="120" y="284"/>
                  </a:lnTo>
                  <a:lnTo>
                    <a:pt x="163" y="419"/>
                  </a:lnTo>
                  <a:lnTo>
                    <a:pt x="206" y="553"/>
                  </a:lnTo>
                  <a:lnTo>
                    <a:pt x="245" y="664"/>
                  </a:lnTo>
                  <a:lnTo>
                    <a:pt x="288" y="750"/>
                  </a:lnTo>
                  <a:lnTo>
                    <a:pt x="331" y="822"/>
                  </a:lnTo>
                  <a:lnTo>
                    <a:pt x="370" y="890"/>
                  </a:lnTo>
                  <a:lnTo>
                    <a:pt x="413" y="942"/>
                  </a:lnTo>
                  <a:lnTo>
                    <a:pt x="456" y="1000"/>
                  </a:lnTo>
                  <a:lnTo>
                    <a:pt x="494" y="1039"/>
                  </a:lnTo>
                  <a:lnTo>
                    <a:pt x="538" y="1082"/>
                  </a:lnTo>
                  <a:lnTo>
                    <a:pt x="581" y="1111"/>
                  </a:lnTo>
                  <a:lnTo>
                    <a:pt x="619" y="1140"/>
                  </a:lnTo>
                  <a:lnTo>
                    <a:pt x="663" y="1164"/>
                  </a:lnTo>
                  <a:lnTo>
                    <a:pt x="706" y="1188"/>
                  </a:lnTo>
                  <a:lnTo>
                    <a:pt x="744" y="1207"/>
                  </a:lnTo>
                  <a:lnTo>
                    <a:pt x="787" y="1226"/>
                  </a:lnTo>
                  <a:lnTo>
                    <a:pt x="831" y="1241"/>
                  </a:lnTo>
                  <a:lnTo>
                    <a:pt x="869" y="1255"/>
                  </a:lnTo>
                  <a:lnTo>
                    <a:pt x="912" y="1265"/>
                  </a:lnTo>
                  <a:lnTo>
                    <a:pt x="956" y="1279"/>
                  </a:lnTo>
                  <a:lnTo>
                    <a:pt x="994" y="1293"/>
                  </a:lnTo>
                  <a:lnTo>
                    <a:pt x="1037" y="1303"/>
                  </a:lnTo>
                  <a:lnTo>
                    <a:pt x="1080" y="1313"/>
                  </a:lnTo>
                  <a:lnTo>
                    <a:pt x="1119" y="1322"/>
                  </a:lnTo>
                  <a:lnTo>
                    <a:pt x="1162" y="1332"/>
                  </a:lnTo>
                  <a:lnTo>
                    <a:pt x="1205" y="1341"/>
                  </a:lnTo>
                  <a:lnTo>
                    <a:pt x="1244" y="1346"/>
                  </a:lnTo>
                  <a:lnTo>
                    <a:pt x="1287" y="1356"/>
                  </a:lnTo>
                  <a:lnTo>
                    <a:pt x="1330" y="1361"/>
                  </a:lnTo>
                  <a:lnTo>
                    <a:pt x="1369" y="1365"/>
                  </a:lnTo>
                  <a:lnTo>
                    <a:pt x="1412" y="1375"/>
                  </a:lnTo>
                  <a:lnTo>
                    <a:pt x="1455" y="1380"/>
                  </a:lnTo>
                  <a:lnTo>
                    <a:pt x="1494" y="1390"/>
                  </a:lnTo>
                  <a:lnTo>
                    <a:pt x="1537" y="1394"/>
                  </a:lnTo>
                  <a:lnTo>
                    <a:pt x="1580" y="1394"/>
                  </a:lnTo>
                  <a:lnTo>
                    <a:pt x="1618" y="1399"/>
                  </a:lnTo>
                  <a:lnTo>
                    <a:pt x="1662" y="1404"/>
                  </a:lnTo>
                  <a:lnTo>
                    <a:pt x="1705" y="1409"/>
                  </a:lnTo>
                  <a:lnTo>
                    <a:pt x="1743" y="1414"/>
                  </a:lnTo>
                  <a:lnTo>
                    <a:pt x="1787" y="1414"/>
                  </a:lnTo>
                  <a:lnTo>
                    <a:pt x="1830" y="1418"/>
                  </a:lnTo>
                  <a:lnTo>
                    <a:pt x="1868" y="1423"/>
                  </a:lnTo>
                  <a:lnTo>
                    <a:pt x="1911" y="1428"/>
                  </a:lnTo>
                  <a:lnTo>
                    <a:pt x="1955" y="1428"/>
                  </a:lnTo>
                  <a:lnTo>
                    <a:pt x="1993" y="1433"/>
                  </a:lnTo>
                  <a:lnTo>
                    <a:pt x="2036" y="1438"/>
                  </a:lnTo>
                  <a:lnTo>
                    <a:pt x="2080" y="1438"/>
                  </a:lnTo>
                  <a:lnTo>
                    <a:pt x="2089" y="143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2077920" y="512460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6200000">
            <a:off x="-183960" y="3598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tud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62080" y="5535720"/>
            <a:ext cx="79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4491000" y="1674720"/>
                <a:ext cx="6159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2" name=""/>
          <p:cNvSpPr/>
          <p:nvPr/>
        </p:nvSpPr>
        <p:spPr>
          <a:xfrm>
            <a:off x="6370560" y="21193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ing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6200000">
            <a:off x="4433040" y="3451680"/>
            <a:ext cx="115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tud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00960" y="512460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098320" y="2322360"/>
            <a:ext cx="3686040" cy="2851200"/>
            <a:chOff x="5098320" y="2322360"/>
            <a:chExt cx="3686040" cy="2851200"/>
          </a:xfrm>
        </p:grpSpPr>
        <p:sp>
          <p:nvSpPr>
            <p:cNvPr id="826" name=""/>
            <p:cNvSpPr/>
            <p:nvPr/>
          </p:nvSpPr>
          <p:spPr>
            <a:xfrm>
              <a:off x="5405400" y="2392200"/>
              <a:ext cx="3308400" cy="260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05400" y="2392200"/>
              <a:ext cx="3308400" cy="2606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5400" y="2392200"/>
              <a:ext cx="330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05400" y="4998960"/>
              <a:ext cx="330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8713800" y="2391840"/>
              <a:ext cx="1440" cy="260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405400" y="2391840"/>
              <a:ext cx="1440" cy="260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5405400" y="2391840"/>
              <a:ext cx="1440" cy="260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5405400" y="4960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05400" y="23922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73360" y="502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6227640" y="4960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227640" y="23922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97040" y="502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059600" y="4960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59600" y="23922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89400" y="502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881840" y="4960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81840" y="23922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813080" y="502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8713800" y="49608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713800" y="23922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643600" y="502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05400" y="49989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673480" y="499896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04960" y="4930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405400" y="47322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8673480" y="473220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68160" y="4663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05400" y="44733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8673480" y="447336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68160" y="4403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05400" y="42130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73480" y="421308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68160" y="4144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05400" y="39542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8673480" y="395424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68160" y="3885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05400" y="36954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8673480" y="369540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98320" y="36273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05400" y="34286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8673480" y="342864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98320" y="3360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405400" y="31683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673480" y="316836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98320" y="31003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05400" y="29095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8673480" y="290952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98320" y="2841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05400" y="26510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673480" y="265104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98320" y="25826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05400" y="23922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8673480" y="239220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098320" y="23223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05400" y="2422440"/>
              <a:ext cx="3314520" cy="2568600"/>
            </a:xfrm>
            <a:custGeom>
              <a:avLst/>
              <a:gdLst/>
              <a:ahLst/>
              <a:rect l="l" t="t" r="r" b="b"/>
              <a:pathLst>
                <a:path w="2088" h="1618">
                  <a:moveTo>
                    <a:pt x="0" y="1090"/>
                  </a:moveTo>
                  <a:lnTo>
                    <a:pt x="19" y="0"/>
                  </a:lnTo>
                  <a:lnTo>
                    <a:pt x="38" y="691"/>
                  </a:lnTo>
                  <a:lnTo>
                    <a:pt x="62" y="932"/>
                  </a:lnTo>
                  <a:lnTo>
                    <a:pt x="81" y="1052"/>
                  </a:lnTo>
                  <a:lnTo>
                    <a:pt x="100" y="1133"/>
                  </a:lnTo>
                  <a:lnTo>
                    <a:pt x="124" y="1196"/>
                  </a:lnTo>
                  <a:lnTo>
                    <a:pt x="144" y="1239"/>
                  </a:lnTo>
                  <a:lnTo>
                    <a:pt x="163" y="1272"/>
                  </a:lnTo>
                  <a:lnTo>
                    <a:pt x="187" y="1296"/>
                  </a:lnTo>
                  <a:lnTo>
                    <a:pt x="206" y="1320"/>
                  </a:lnTo>
                  <a:lnTo>
                    <a:pt x="225" y="1340"/>
                  </a:lnTo>
                  <a:lnTo>
                    <a:pt x="249" y="1359"/>
                  </a:lnTo>
                  <a:lnTo>
                    <a:pt x="268" y="1378"/>
                  </a:lnTo>
                  <a:lnTo>
                    <a:pt x="288" y="1393"/>
                  </a:lnTo>
                  <a:lnTo>
                    <a:pt x="312" y="1407"/>
                  </a:lnTo>
                  <a:lnTo>
                    <a:pt x="331" y="1417"/>
                  </a:lnTo>
                  <a:lnTo>
                    <a:pt x="350" y="1426"/>
                  </a:lnTo>
                  <a:lnTo>
                    <a:pt x="374" y="1436"/>
                  </a:lnTo>
                  <a:lnTo>
                    <a:pt x="393" y="1441"/>
                  </a:lnTo>
                  <a:lnTo>
                    <a:pt x="412" y="1445"/>
                  </a:lnTo>
                  <a:lnTo>
                    <a:pt x="436" y="1455"/>
                  </a:lnTo>
                  <a:lnTo>
                    <a:pt x="456" y="1460"/>
                  </a:lnTo>
                  <a:lnTo>
                    <a:pt x="475" y="1465"/>
                  </a:lnTo>
                  <a:lnTo>
                    <a:pt x="499" y="1469"/>
                  </a:lnTo>
                  <a:lnTo>
                    <a:pt x="518" y="1474"/>
                  </a:lnTo>
                  <a:lnTo>
                    <a:pt x="537" y="1479"/>
                  </a:lnTo>
                  <a:lnTo>
                    <a:pt x="561" y="1479"/>
                  </a:lnTo>
                  <a:lnTo>
                    <a:pt x="581" y="1484"/>
                  </a:lnTo>
                  <a:lnTo>
                    <a:pt x="600" y="1489"/>
                  </a:lnTo>
                  <a:lnTo>
                    <a:pt x="624" y="1489"/>
                  </a:lnTo>
                  <a:lnTo>
                    <a:pt x="643" y="1493"/>
                  </a:lnTo>
                  <a:lnTo>
                    <a:pt x="662" y="1498"/>
                  </a:lnTo>
                  <a:lnTo>
                    <a:pt x="686" y="1498"/>
                  </a:lnTo>
                  <a:lnTo>
                    <a:pt x="705" y="1503"/>
                  </a:lnTo>
                  <a:lnTo>
                    <a:pt x="725" y="1503"/>
                  </a:lnTo>
                  <a:lnTo>
                    <a:pt x="749" y="1503"/>
                  </a:lnTo>
                  <a:lnTo>
                    <a:pt x="768" y="1508"/>
                  </a:lnTo>
                  <a:lnTo>
                    <a:pt x="787" y="1508"/>
                  </a:lnTo>
                  <a:lnTo>
                    <a:pt x="811" y="1508"/>
                  </a:lnTo>
                  <a:lnTo>
                    <a:pt x="830" y="1508"/>
                  </a:lnTo>
                  <a:lnTo>
                    <a:pt x="849" y="1513"/>
                  </a:lnTo>
                  <a:lnTo>
                    <a:pt x="873" y="1513"/>
                  </a:lnTo>
                  <a:lnTo>
                    <a:pt x="893" y="1513"/>
                  </a:lnTo>
                  <a:lnTo>
                    <a:pt x="912" y="1513"/>
                  </a:lnTo>
                  <a:lnTo>
                    <a:pt x="936" y="1517"/>
                  </a:lnTo>
                  <a:lnTo>
                    <a:pt x="955" y="1517"/>
                  </a:lnTo>
                  <a:lnTo>
                    <a:pt x="974" y="1517"/>
                  </a:lnTo>
                  <a:lnTo>
                    <a:pt x="998" y="1522"/>
                  </a:lnTo>
                  <a:lnTo>
                    <a:pt x="1018" y="1522"/>
                  </a:lnTo>
                  <a:lnTo>
                    <a:pt x="1037" y="1527"/>
                  </a:lnTo>
                  <a:lnTo>
                    <a:pt x="1061" y="1527"/>
                  </a:lnTo>
                  <a:lnTo>
                    <a:pt x="1080" y="1532"/>
                  </a:lnTo>
                  <a:lnTo>
                    <a:pt x="1099" y="1532"/>
                  </a:lnTo>
                  <a:lnTo>
                    <a:pt x="1123" y="1532"/>
                  </a:lnTo>
                  <a:lnTo>
                    <a:pt x="1142" y="1537"/>
                  </a:lnTo>
                  <a:lnTo>
                    <a:pt x="1162" y="1537"/>
                  </a:lnTo>
                  <a:lnTo>
                    <a:pt x="1186" y="1541"/>
                  </a:lnTo>
                  <a:lnTo>
                    <a:pt x="1205" y="1541"/>
                  </a:lnTo>
                  <a:lnTo>
                    <a:pt x="1224" y="1541"/>
                  </a:lnTo>
                  <a:lnTo>
                    <a:pt x="1248" y="1546"/>
                  </a:lnTo>
                  <a:lnTo>
                    <a:pt x="1267" y="1546"/>
                  </a:lnTo>
                  <a:lnTo>
                    <a:pt x="1286" y="1551"/>
                  </a:lnTo>
                  <a:lnTo>
                    <a:pt x="1310" y="1551"/>
                  </a:lnTo>
                  <a:lnTo>
                    <a:pt x="1330" y="1556"/>
                  </a:lnTo>
                  <a:lnTo>
                    <a:pt x="1349" y="1561"/>
                  </a:lnTo>
                  <a:lnTo>
                    <a:pt x="1373" y="1565"/>
                  </a:lnTo>
                  <a:lnTo>
                    <a:pt x="1392" y="1565"/>
                  </a:lnTo>
                  <a:lnTo>
                    <a:pt x="1411" y="1570"/>
                  </a:lnTo>
                  <a:lnTo>
                    <a:pt x="1435" y="1575"/>
                  </a:lnTo>
                  <a:lnTo>
                    <a:pt x="1454" y="1580"/>
                  </a:lnTo>
                  <a:lnTo>
                    <a:pt x="1474" y="1585"/>
                  </a:lnTo>
                  <a:lnTo>
                    <a:pt x="1498" y="1594"/>
                  </a:lnTo>
                  <a:lnTo>
                    <a:pt x="1517" y="1599"/>
                  </a:lnTo>
                  <a:lnTo>
                    <a:pt x="1536" y="1604"/>
                  </a:lnTo>
                  <a:lnTo>
                    <a:pt x="1560" y="1613"/>
                  </a:lnTo>
                  <a:lnTo>
                    <a:pt x="1579" y="1618"/>
                  </a:lnTo>
                  <a:lnTo>
                    <a:pt x="1599" y="1609"/>
                  </a:lnTo>
                  <a:lnTo>
                    <a:pt x="1623" y="1599"/>
                  </a:lnTo>
                  <a:lnTo>
                    <a:pt x="1642" y="1589"/>
                  </a:lnTo>
                  <a:lnTo>
                    <a:pt x="1661" y="1575"/>
                  </a:lnTo>
                  <a:lnTo>
                    <a:pt x="1685" y="1561"/>
                  </a:lnTo>
                  <a:lnTo>
                    <a:pt x="1704" y="1541"/>
                  </a:lnTo>
                  <a:lnTo>
                    <a:pt x="1723" y="1527"/>
                  </a:lnTo>
                  <a:lnTo>
                    <a:pt x="1747" y="1503"/>
                  </a:lnTo>
                  <a:lnTo>
                    <a:pt x="1767" y="1479"/>
                  </a:lnTo>
                  <a:lnTo>
                    <a:pt x="1786" y="1450"/>
                  </a:lnTo>
                  <a:lnTo>
                    <a:pt x="1810" y="1412"/>
                  </a:lnTo>
                  <a:lnTo>
                    <a:pt x="1829" y="1373"/>
                  </a:lnTo>
                  <a:lnTo>
                    <a:pt x="1848" y="1335"/>
                  </a:lnTo>
                  <a:lnTo>
                    <a:pt x="1872" y="1292"/>
                  </a:lnTo>
                  <a:lnTo>
                    <a:pt x="1891" y="1244"/>
                  </a:lnTo>
                  <a:lnTo>
                    <a:pt x="1911" y="1200"/>
                  </a:lnTo>
                  <a:lnTo>
                    <a:pt x="1935" y="1157"/>
                  </a:lnTo>
                  <a:lnTo>
                    <a:pt x="1954" y="1119"/>
                  </a:lnTo>
                  <a:lnTo>
                    <a:pt x="1973" y="1090"/>
                  </a:lnTo>
                  <a:lnTo>
                    <a:pt x="1997" y="1090"/>
                  </a:lnTo>
                  <a:lnTo>
                    <a:pt x="2016" y="1100"/>
                  </a:lnTo>
                  <a:lnTo>
                    <a:pt x="2035" y="1119"/>
                  </a:lnTo>
                  <a:lnTo>
                    <a:pt x="2059" y="1124"/>
                  </a:lnTo>
                  <a:lnTo>
                    <a:pt x="2079" y="1124"/>
                  </a:lnTo>
                  <a:lnTo>
                    <a:pt x="2088" y="112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405400" y="4259160"/>
              <a:ext cx="2095560" cy="693720"/>
            </a:xfrm>
            <a:custGeom>
              <a:avLst/>
              <a:gdLst/>
              <a:ahLst/>
              <a:rect l="l" t="t" r="r" b="b"/>
              <a:pathLst>
                <a:path w="1320" h="437">
                  <a:moveTo>
                    <a:pt x="0" y="0"/>
                  </a:moveTo>
                  <a:lnTo>
                    <a:pt x="9" y="0"/>
                  </a:lnTo>
                  <a:lnTo>
                    <a:pt x="19" y="19"/>
                  </a:lnTo>
                  <a:lnTo>
                    <a:pt x="28" y="39"/>
                  </a:lnTo>
                  <a:lnTo>
                    <a:pt x="38" y="67"/>
                  </a:lnTo>
                  <a:lnTo>
                    <a:pt x="48" y="96"/>
                  </a:lnTo>
                  <a:lnTo>
                    <a:pt x="62" y="125"/>
                  </a:lnTo>
                  <a:lnTo>
                    <a:pt x="72" y="154"/>
                  </a:lnTo>
                  <a:lnTo>
                    <a:pt x="81" y="178"/>
                  </a:lnTo>
                  <a:lnTo>
                    <a:pt x="91" y="197"/>
                  </a:lnTo>
                  <a:lnTo>
                    <a:pt x="100" y="216"/>
                  </a:lnTo>
                  <a:lnTo>
                    <a:pt x="110" y="231"/>
                  </a:lnTo>
                  <a:lnTo>
                    <a:pt x="124" y="245"/>
                  </a:lnTo>
                  <a:lnTo>
                    <a:pt x="134" y="260"/>
                  </a:lnTo>
                  <a:lnTo>
                    <a:pt x="144" y="274"/>
                  </a:lnTo>
                  <a:lnTo>
                    <a:pt x="153" y="284"/>
                  </a:lnTo>
                  <a:lnTo>
                    <a:pt x="163" y="293"/>
                  </a:lnTo>
                  <a:lnTo>
                    <a:pt x="172" y="303"/>
                  </a:lnTo>
                  <a:lnTo>
                    <a:pt x="187" y="312"/>
                  </a:lnTo>
                  <a:lnTo>
                    <a:pt x="196" y="317"/>
                  </a:lnTo>
                  <a:lnTo>
                    <a:pt x="206" y="322"/>
                  </a:lnTo>
                  <a:lnTo>
                    <a:pt x="216" y="332"/>
                  </a:lnTo>
                  <a:lnTo>
                    <a:pt x="225" y="336"/>
                  </a:lnTo>
                  <a:lnTo>
                    <a:pt x="235" y="341"/>
                  </a:lnTo>
                  <a:lnTo>
                    <a:pt x="249" y="346"/>
                  </a:lnTo>
                  <a:lnTo>
                    <a:pt x="259" y="351"/>
                  </a:lnTo>
                  <a:lnTo>
                    <a:pt x="268" y="356"/>
                  </a:lnTo>
                  <a:lnTo>
                    <a:pt x="278" y="356"/>
                  </a:lnTo>
                  <a:lnTo>
                    <a:pt x="288" y="360"/>
                  </a:lnTo>
                  <a:lnTo>
                    <a:pt x="297" y="365"/>
                  </a:lnTo>
                  <a:lnTo>
                    <a:pt x="312" y="365"/>
                  </a:lnTo>
                  <a:lnTo>
                    <a:pt x="321" y="370"/>
                  </a:lnTo>
                  <a:lnTo>
                    <a:pt x="331" y="370"/>
                  </a:lnTo>
                  <a:lnTo>
                    <a:pt x="340" y="375"/>
                  </a:lnTo>
                  <a:lnTo>
                    <a:pt x="350" y="380"/>
                  </a:lnTo>
                  <a:lnTo>
                    <a:pt x="360" y="380"/>
                  </a:lnTo>
                  <a:lnTo>
                    <a:pt x="374" y="384"/>
                  </a:lnTo>
                  <a:lnTo>
                    <a:pt x="384" y="384"/>
                  </a:lnTo>
                  <a:lnTo>
                    <a:pt x="393" y="384"/>
                  </a:lnTo>
                  <a:lnTo>
                    <a:pt x="403" y="389"/>
                  </a:lnTo>
                  <a:lnTo>
                    <a:pt x="412" y="389"/>
                  </a:lnTo>
                  <a:lnTo>
                    <a:pt x="422" y="389"/>
                  </a:lnTo>
                  <a:lnTo>
                    <a:pt x="436" y="394"/>
                  </a:lnTo>
                  <a:lnTo>
                    <a:pt x="446" y="394"/>
                  </a:lnTo>
                  <a:lnTo>
                    <a:pt x="456" y="394"/>
                  </a:lnTo>
                  <a:lnTo>
                    <a:pt x="465" y="399"/>
                  </a:lnTo>
                  <a:lnTo>
                    <a:pt x="475" y="399"/>
                  </a:lnTo>
                  <a:lnTo>
                    <a:pt x="485" y="399"/>
                  </a:lnTo>
                  <a:lnTo>
                    <a:pt x="499" y="399"/>
                  </a:lnTo>
                  <a:lnTo>
                    <a:pt x="509" y="404"/>
                  </a:lnTo>
                  <a:lnTo>
                    <a:pt x="518" y="404"/>
                  </a:lnTo>
                  <a:lnTo>
                    <a:pt x="528" y="404"/>
                  </a:lnTo>
                  <a:lnTo>
                    <a:pt x="537" y="404"/>
                  </a:lnTo>
                  <a:lnTo>
                    <a:pt x="547" y="408"/>
                  </a:lnTo>
                  <a:lnTo>
                    <a:pt x="561" y="408"/>
                  </a:lnTo>
                  <a:lnTo>
                    <a:pt x="571" y="408"/>
                  </a:lnTo>
                  <a:lnTo>
                    <a:pt x="581" y="408"/>
                  </a:lnTo>
                  <a:lnTo>
                    <a:pt x="590" y="413"/>
                  </a:lnTo>
                  <a:lnTo>
                    <a:pt x="600" y="413"/>
                  </a:lnTo>
                  <a:lnTo>
                    <a:pt x="609" y="413"/>
                  </a:lnTo>
                  <a:lnTo>
                    <a:pt x="624" y="413"/>
                  </a:lnTo>
                  <a:lnTo>
                    <a:pt x="633" y="413"/>
                  </a:lnTo>
                  <a:lnTo>
                    <a:pt x="643" y="413"/>
                  </a:lnTo>
                  <a:lnTo>
                    <a:pt x="653" y="418"/>
                  </a:lnTo>
                  <a:lnTo>
                    <a:pt x="662" y="418"/>
                  </a:lnTo>
                  <a:lnTo>
                    <a:pt x="672" y="418"/>
                  </a:lnTo>
                  <a:lnTo>
                    <a:pt x="686" y="418"/>
                  </a:lnTo>
                  <a:lnTo>
                    <a:pt x="696" y="418"/>
                  </a:lnTo>
                  <a:lnTo>
                    <a:pt x="705" y="418"/>
                  </a:lnTo>
                  <a:lnTo>
                    <a:pt x="715" y="418"/>
                  </a:lnTo>
                  <a:lnTo>
                    <a:pt x="725" y="418"/>
                  </a:lnTo>
                  <a:lnTo>
                    <a:pt x="734" y="418"/>
                  </a:lnTo>
                  <a:lnTo>
                    <a:pt x="749" y="423"/>
                  </a:lnTo>
                  <a:lnTo>
                    <a:pt x="758" y="423"/>
                  </a:lnTo>
                  <a:lnTo>
                    <a:pt x="768" y="423"/>
                  </a:lnTo>
                  <a:lnTo>
                    <a:pt x="777" y="423"/>
                  </a:lnTo>
                  <a:lnTo>
                    <a:pt x="787" y="423"/>
                  </a:lnTo>
                  <a:lnTo>
                    <a:pt x="797" y="423"/>
                  </a:lnTo>
                  <a:lnTo>
                    <a:pt x="811" y="423"/>
                  </a:lnTo>
                  <a:lnTo>
                    <a:pt x="821" y="423"/>
                  </a:lnTo>
                  <a:lnTo>
                    <a:pt x="830" y="423"/>
                  </a:lnTo>
                  <a:lnTo>
                    <a:pt x="840" y="423"/>
                  </a:lnTo>
                  <a:lnTo>
                    <a:pt x="849" y="428"/>
                  </a:lnTo>
                  <a:lnTo>
                    <a:pt x="859" y="428"/>
                  </a:lnTo>
                  <a:lnTo>
                    <a:pt x="873" y="428"/>
                  </a:lnTo>
                  <a:lnTo>
                    <a:pt x="883" y="428"/>
                  </a:lnTo>
                  <a:lnTo>
                    <a:pt x="893" y="428"/>
                  </a:lnTo>
                  <a:lnTo>
                    <a:pt x="902" y="428"/>
                  </a:lnTo>
                  <a:lnTo>
                    <a:pt x="912" y="428"/>
                  </a:lnTo>
                  <a:lnTo>
                    <a:pt x="921" y="428"/>
                  </a:lnTo>
                  <a:lnTo>
                    <a:pt x="936" y="428"/>
                  </a:lnTo>
                  <a:lnTo>
                    <a:pt x="945" y="428"/>
                  </a:lnTo>
                  <a:lnTo>
                    <a:pt x="955" y="428"/>
                  </a:lnTo>
                  <a:lnTo>
                    <a:pt x="965" y="428"/>
                  </a:lnTo>
                  <a:lnTo>
                    <a:pt x="974" y="428"/>
                  </a:lnTo>
                  <a:lnTo>
                    <a:pt x="984" y="428"/>
                  </a:lnTo>
                  <a:lnTo>
                    <a:pt x="998" y="428"/>
                  </a:lnTo>
                  <a:lnTo>
                    <a:pt x="1008" y="428"/>
                  </a:lnTo>
                  <a:lnTo>
                    <a:pt x="1018" y="428"/>
                  </a:lnTo>
                  <a:lnTo>
                    <a:pt x="1027" y="428"/>
                  </a:lnTo>
                  <a:lnTo>
                    <a:pt x="1037" y="428"/>
                  </a:lnTo>
                  <a:lnTo>
                    <a:pt x="1046" y="432"/>
                  </a:lnTo>
                  <a:lnTo>
                    <a:pt x="1061" y="432"/>
                  </a:lnTo>
                  <a:lnTo>
                    <a:pt x="1070" y="432"/>
                  </a:lnTo>
                  <a:lnTo>
                    <a:pt x="1080" y="432"/>
                  </a:lnTo>
                  <a:lnTo>
                    <a:pt x="1090" y="432"/>
                  </a:lnTo>
                  <a:lnTo>
                    <a:pt x="1099" y="432"/>
                  </a:lnTo>
                  <a:lnTo>
                    <a:pt x="1114" y="432"/>
                  </a:lnTo>
                  <a:lnTo>
                    <a:pt x="1123" y="432"/>
                  </a:lnTo>
                  <a:lnTo>
                    <a:pt x="1133" y="432"/>
                  </a:lnTo>
                  <a:lnTo>
                    <a:pt x="1142" y="432"/>
                  </a:lnTo>
                  <a:lnTo>
                    <a:pt x="1152" y="432"/>
                  </a:lnTo>
                  <a:lnTo>
                    <a:pt x="1162" y="432"/>
                  </a:lnTo>
                  <a:lnTo>
                    <a:pt x="1176" y="432"/>
                  </a:lnTo>
                  <a:lnTo>
                    <a:pt x="1186" y="432"/>
                  </a:lnTo>
                  <a:lnTo>
                    <a:pt x="1195" y="432"/>
                  </a:lnTo>
                  <a:lnTo>
                    <a:pt x="1205" y="432"/>
                  </a:lnTo>
                  <a:lnTo>
                    <a:pt x="1214" y="432"/>
                  </a:lnTo>
                  <a:lnTo>
                    <a:pt x="1224" y="437"/>
                  </a:lnTo>
                  <a:lnTo>
                    <a:pt x="1238" y="437"/>
                  </a:lnTo>
                  <a:lnTo>
                    <a:pt x="1248" y="437"/>
                  </a:lnTo>
                  <a:lnTo>
                    <a:pt x="1258" y="437"/>
                  </a:lnTo>
                  <a:lnTo>
                    <a:pt x="1267" y="437"/>
                  </a:lnTo>
                  <a:lnTo>
                    <a:pt x="1277" y="437"/>
                  </a:lnTo>
                  <a:lnTo>
                    <a:pt x="1286" y="437"/>
                  </a:lnTo>
                  <a:lnTo>
                    <a:pt x="1301" y="437"/>
                  </a:lnTo>
                  <a:lnTo>
                    <a:pt x="1310" y="437"/>
                  </a:lnTo>
                  <a:lnTo>
                    <a:pt x="1320" y="4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500960" y="4952880"/>
              <a:ext cx="1218960" cy="7920"/>
            </a:xfrm>
            <a:custGeom>
              <a:avLst/>
              <a:gdLst/>
              <a:ahLst/>
              <a:rect l="l" t="t" r="r" b="b"/>
              <a:pathLst>
                <a:path w="768" h="5">
                  <a:moveTo>
                    <a:pt x="0" y="0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68" y="0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0"/>
                  </a:lnTo>
                  <a:lnTo>
                    <a:pt x="216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50" y="0"/>
                  </a:lnTo>
                  <a:lnTo>
                    <a:pt x="259" y="0"/>
                  </a:lnTo>
                  <a:lnTo>
                    <a:pt x="269" y="0"/>
                  </a:lnTo>
                  <a:lnTo>
                    <a:pt x="279" y="0"/>
                  </a:lnTo>
                  <a:lnTo>
                    <a:pt x="293" y="0"/>
                  </a:lnTo>
                  <a:lnTo>
                    <a:pt x="303" y="0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1" y="0"/>
                  </a:lnTo>
                  <a:lnTo>
                    <a:pt x="341" y="0"/>
                  </a:lnTo>
                  <a:lnTo>
                    <a:pt x="355" y="0"/>
                  </a:lnTo>
                  <a:lnTo>
                    <a:pt x="365" y="0"/>
                  </a:lnTo>
                  <a:lnTo>
                    <a:pt x="375" y="0"/>
                  </a:lnTo>
                  <a:lnTo>
                    <a:pt x="384" y="0"/>
                  </a:lnTo>
                  <a:lnTo>
                    <a:pt x="394" y="0"/>
                  </a:lnTo>
                  <a:lnTo>
                    <a:pt x="403" y="0"/>
                  </a:lnTo>
                  <a:lnTo>
                    <a:pt x="418" y="0"/>
                  </a:lnTo>
                  <a:lnTo>
                    <a:pt x="427" y="0"/>
                  </a:lnTo>
                  <a:lnTo>
                    <a:pt x="437" y="0"/>
                  </a:lnTo>
                  <a:lnTo>
                    <a:pt x="447" y="0"/>
                  </a:lnTo>
                  <a:lnTo>
                    <a:pt x="456" y="5"/>
                  </a:lnTo>
                  <a:lnTo>
                    <a:pt x="466" y="0"/>
                  </a:lnTo>
                  <a:lnTo>
                    <a:pt x="480" y="5"/>
                  </a:lnTo>
                  <a:lnTo>
                    <a:pt x="490" y="0"/>
                  </a:lnTo>
                  <a:lnTo>
                    <a:pt x="499" y="0"/>
                  </a:lnTo>
                  <a:lnTo>
                    <a:pt x="509" y="0"/>
                  </a:lnTo>
                  <a:lnTo>
                    <a:pt x="519" y="5"/>
                  </a:lnTo>
                  <a:lnTo>
                    <a:pt x="528" y="5"/>
                  </a:lnTo>
                  <a:lnTo>
                    <a:pt x="543" y="0"/>
                  </a:lnTo>
                  <a:lnTo>
                    <a:pt x="552" y="0"/>
                  </a:lnTo>
                  <a:lnTo>
                    <a:pt x="562" y="0"/>
                  </a:lnTo>
                  <a:lnTo>
                    <a:pt x="571" y="0"/>
                  </a:lnTo>
                  <a:lnTo>
                    <a:pt x="581" y="0"/>
                  </a:lnTo>
                  <a:lnTo>
                    <a:pt x="591" y="0"/>
                  </a:lnTo>
                  <a:lnTo>
                    <a:pt x="605" y="0"/>
                  </a:lnTo>
                  <a:lnTo>
                    <a:pt x="615" y="0"/>
                  </a:lnTo>
                  <a:lnTo>
                    <a:pt x="624" y="0"/>
                  </a:lnTo>
                  <a:lnTo>
                    <a:pt x="634" y="0"/>
                  </a:lnTo>
                  <a:lnTo>
                    <a:pt x="643" y="0"/>
                  </a:lnTo>
                  <a:lnTo>
                    <a:pt x="653" y="0"/>
                  </a:lnTo>
                  <a:lnTo>
                    <a:pt x="667" y="0"/>
                  </a:lnTo>
                  <a:lnTo>
                    <a:pt x="677" y="0"/>
                  </a:lnTo>
                  <a:lnTo>
                    <a:pt x="687" y="5"/>
                  </a:lnTo>
                  <a:lnTo>
                    <a:pt x="696" y="0"/>
                  </a:lnTo>
                  <a:lnTo>
                    <a:pt x="706" y="0"/>
                  </a:lnTo>
                  <a:lnTo>
                    <a:pt x="715" y="5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9" y="0"/>
                  </a:lnTo>
                  <a:lnTo>
                    <a:pt x="759" y="0"/>
                  </a:lnTo>
                  <a:lnTo>
                    <a:pt x="768" y="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5729400" y="5958000"/>
            <a:ext cx="55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716440" y="6329520"/>
            <a:ext cx="551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6369120" y="6197760"/>
                <a:ext cx="17002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6392880" y="5756400"/>
                <a:ext cx="18986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8" name=""/>
          <p:cNvSpPr/>
          <p:nvPr/>
        </p:nvSpPr>
        <p:spPr>
          <a:xfrm>
            <a:off x="1806480" y="211932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ping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256640" y="123336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ike Pul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3522240" y="2468520"/>
            <a:ext cx="510120" cy="1188000"/>
            <a:chOff x="3522240" y="2468520"/>
            <a:chExt cx="510120" cy="1188000"/>
          </a:xfrm>
        </p:grpSpPr>
        <p:sp>
          <p:nvSpPr>
            <p:cNvPr id="891" name=""/>
            <p:cNvSpPr/>
            <p:nvPr/>
          </p:nvSpPr>
          <p:spPr>
            <a:xfrm rot="16200000">
              <a:off x="3498120" y="29242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m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3522240" y="2468520"/>
              <a:ext cx="315000" cy="1188000"/>
              <a:chOff x="3522240" y="2468520"/>
              <a:chExt cx="315000" cy="1188000"/>
            </a:xfrm>
          </p:grpSpPr>
          <p:grpSp>
            <p:nvGrpSpPr>
              <p:cNvPr id="893" name=""/>
              <p:cNvGrpSpPr/>
              <p:nvPr/>
            </p:nvGrpSpPr>
            <p:grpSpPr>
              <a:xfrm>
                <a:off x="3522240" y="2751120"/>
                <a:ext cx="315000" cy="753840"/>
                <a:chOff x="3522240" y="2751120"/>
                <a:chExt cx="315000" cy="75384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3624480" y="2751120"/>
                  <a:ext cx="114120" cy="436320"/>
                </a:xfrm>
                <a:prstGeom prst="downArrow">
                  <a:avLst>
                    <a:gd name="adj1" fmla="val 50000"/>
                    <a:gd name="adj2" fmla="val 95584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522240" y="31366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6" name=""/>
              <p:cNvSpPr/>
              <p:nvPr/>
            </p:nvSpPr>
            <p:spPr>
              <a:xfrm>
                <a:off x="3546000" y="24685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547440" y="33800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2386080" y="3833640"/>
            <a:ext cx="4876560" cy="29530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19520" y="38088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quare Wave Pulser -UTEX 3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5248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86000" y="38088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quare Wave Pulser -UTEX 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57400" y="63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16200000">
            <a:off x="-735120" y="41832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tude (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2133720" y="2913120"/>
                <a:ext cx="4870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07" name="" descr=""/>
          <p:cNvPicPr/>
          <p:nvPr/>
        </p:nvPicPr>
        <p:blipFill>
          <a:blip r:embed="rId1"/>
          <a:srcRect l="8741" t="4113" r="2916" b="5256"/>
          <a:stretch/>
        </p:blipFill>
        <p:spPr>
          <a:xfrm>
            <a:off x="4964040" y="3287880"/>
            <a:ext cx="3775320" cy="290484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6506640" y="61228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rot="16200000">
            <a:off x="4201920" y="4601520"/>
            <a:ext cx="11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(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6324480" y="2897280"/>
                <a:ext cx="779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 rot="16200000">
            <a:off x="8375040" y="4602960"/>
            <a:ext cx="10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(de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064240" y="1600200"/>
            <a:ext cx="52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r source measured in open-circuit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39880" y="3386160"/>
            <a:ext cx="3309840" cy="261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39880" y="3386160"/>
            <a:ext cx="330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39880" y="6002280"/>
            <a:ext cx="330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4149720" y="3385800"/>
            <a:ext cx="1440" cy="261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839880" y="3385800"/>
            <a:ext cx="1440" cy="261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39880" y="6002280"/>
            <a:ext cx="330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839880" y="5964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39880" y="339408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09640" y="6024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495440" y="5964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95440" y="339408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80960" y="60246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2158920" y="5964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158920" y="339408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074680" y="60246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822400" y="5964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22400" y="339408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708280" y="60246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486240" y="5964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486240" y="339408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402000" y="60246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4149720" y="5964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149720" y="339408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035600" y="60246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39880" y="600228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4111560" y="60022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39880" y="556740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4111560" y="5567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0080" y="54990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39880" y="513252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111560" y="51325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39880" y="469728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11560" y="46972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70080" y="4629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39880" y="426240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4111560" y="42624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9880" y="382896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4111560" y="3828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44680" y="3759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9880" y="339408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4111560" y="33940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39880" y="6002280"/>
            <a:ext cx="330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149720" y="3385800"/>
            <a:ext cx="1440" cy="261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39880" y="3813120"/>
            <a:ext cx="3317760" cy="1854360"/>
          </a:xfrm>
          <a:custGeom>
            <a:avLst/>
            <a:gdLst/>
            <a:ahLst/>
            <a:rect l="l" t="t" r="r" b="b"/>
            <a:pathLst>
              <a:path w="2090" h="1168">
                <a:moveTo>
                  <a:pt x="0" y="5"/>
                </a:moveTo>
                <a:lnTo>
                  <a:pt x="14" y="5"/>
                </a:lnTo>
                <a:lnTo>
                  <a:pt x="29" y="5"/>
                </a:lnTo>
                <a:lnTo>
                  <a:pt x="48" y="5"/>
                </a:lnTo>
                <a:lnTo>
                  <a:pt x="62" y="10"/>
                </a:lnTo>
                <a:lnTo>
                  <a:pt x="81" y="5"/>
                </a:lnTo>
                <a:lnTo>
                  <a:pt x="96" y="5"/>
                </a:lnTo>
                <a:lnTo>
                  <a:pt x="115" y="5"/>
                </a:lnTo>
                <a:lnTo>
                  <a:pt x="130" y="5"/>
                </a:lnTo>
                <a:lnTo>
                  <a:pt x="149" y="5"/>
                </a:lnTo>
                <a:lnTo>
                  <a:pt x="163" y="5"/>
                </a:lnTo>
                <a:lnTo>
                  <a:pt x="182" y="10"/>
                </a:lnTo>
                <a:lnTo>
                  <a:pt x="197" y="10"/>
                </a:lnTo>
                <a:lnTo>
                  <a:pt x="216" y="14"/>
                </a:lnTo>
                <a:lnTo>
                  <a:pt x="230" y="86"/>
                </a:lnTo>
                <a:lnTo>
                  <a:pt x="250" y="428"/>
                </a:lnTo>
                <a:lnTo>
                  <a:pt x="264" y="846"/>
                </a:lnTo>
                <a:lnTo>
                  <a:pt x="283" y="1076"/>
                </a:lnTo>
                <a:lnTo>
                  <a:pt x="298" y="1091"/>
                </a:lnTo>
                <a:lnTo>
                  <a:pt x="312" y="1004"/>
                </a:lnTo>
                <a:lnTo>
                  <a:pt x="331" y="956"/>
                </a:lnTo>
                <a:lnTo>
                  <a:pt x="346" y="990"/>
                </a:lnTo>
                <a:lnTo>
                  <a:pt x="365" y="1095"/>
                </a:lnTo>
                <a:lnTo>
                  <a:pt x="379" y="1168"/>
                </a:lnTo>
                <a:lnTo>
                  <a:pt x="399" y="1143"/>
                </a:lnTo>
                <a:lnTo>
                  <a:pt x="413" y="1076"/>
                </a:lnTo>
                <a:lnTo>
                  <a:pt x="432" y="990"/>
                </a:lnTo>
                <a:lnTo>
                  <a:pt x="447" y="889"/>
                </a:lnTo>
                <a:lnTo>
                  <a:pt x="466" y="774"/>
                </a:lnTo>
                <a:lnTo>
                  <a:pt x="480" y="649"/>
                </a:lnTo>
                <a:lnTo>
                  <a:pt x="500" y="514"/>
                </a:lnTo>
                <a:lnTo>
                  <a:pt x="514" y="423"/>
                </a:lnTo>
                <a:lnTo>
                  <a:pt x="533" y="351"/>
                </a:lnTo>
                <a:lnTo>
                  <a:pt x="548" y="293"/>
                </a:lnTo>
                <a:lnTo>
                  <a:pt x="567" y="235"/>
                </a:lnTo>
                <a:lnTo>
                  <a:pt x="581" y="183"/>
                </a:lnTo>
                <a:lnTo>
                  <a:pt x="596" y="144"/>
                </a:lnTo>
                <a:lnTo>
                  <a:pt x="615" y="120"/>
                </a:lnTo>
                <a:lnTo>
                  <a:pt x="629" y="96"/>
                </a:lnTo>
                <a:lnTo>
                  <a:pt x="649" y="72"/>
                </a:lnTo>
                <a:lnTo>
                  <a:pt x="663" y="58"/>
                </a:lnTo>
                <a:lnTo>
                  <a:pt x="682" y="48"/>
                </a:lnTo>
                <a:lnTo>
                  <a:pt x="697" y="38"/>
                </a:lnTo>
                <a:lnTo>
                  <a:pt x="716" y="34"/>
                </a:lnTo>
                <a:lnTo>
                  <a:pt x="730" y="29"/>
                </a:lnTo>
                <a:lnTo>
                  <a:pt x="749" y="24"/>
                </a:lnTo>
                <a:lnTo>
                  <a:pt x="764" y="19"/>
                </a:lnTo>
                <a:lnTo>
                  <a:pt x="783" y="14"/>
                </a:lnTo>
                <a:lnTo>
                  <a:pt x="797" y="10"/>
                </a:lnTo>
                <a:lnTo>
                  <a:pt x="817" y="10"/>
                </a:lnTo>
                <a:lnTo>
                  <a:pt x="831" y="14"/>
                </a:lnTo>
                <a:lnTo>
                  <a:pt x="850" y="10"/>
                </a:lnTo>
                <a:lnTo>
                  <a:pt x="865" y="5"/>
                </a:lnTo>
                <a:lnTo>
                  <a:pt x="884" y="5"/>
                </a:lnTo>
                <a:lnTo>
                  <a:pt x="898" y="10"/>
                </a:lnTo>
                <a:lnTo>
                  <a:pt x="913" y="10"/>
                </a:lnTo>
                <a:lnTo>
                  <a:pt x="932" y="5"/>
                </a:lnTo>
                <a:lnTo>
                  <a:pt x="946" y="5"/>
                </a:lnTo>
                <a:lnTo>
                  <a:pt x="966" y="5"/>
                </a:lnTo>
                <a:lnTo>
                  <a:pt x="980" y="5"/>
                </a:lnTo>
                <a:lnTo>
                  <a:pt x="999" y="5"/>
                </a:lnTo>
                <a:lnTo>
                  <a:pt x="1014" y="0"/>
                </a:lnTo>
                <a:lnTo>
                  <a:pt x="1033" y="5"/>
                </a:lnTo>
                <a:lnTo>
                  <a:pt x="1047" y="5"/>
                </a:lnTo>
                <a:lnTo>
                  <a:pt x="1067" y="5"/>
                </a:lnTo>
                <a:lnTo>
                  <a:pt x="1081" y="5"/>
                </a:lnTo>
                <a:lnTo>
                  <a:pt x="1100" y="0"/>
                </a:lnTo>
                <a:lnTo>
                  <a:pt x="1115" y="5"/>
                </a:lnTo>
                <a:lnTo>
                  <a:pt x="1134" y="5"/>
                </a:lnTo>
                <a:lnTo>
                  <a:pt x="1148" y="5"/>
                </a:lnTo>
                <a:lnTo>
                  <a:pt x="1167" y="5"/>
                </a:lnTo>
                <a:lnTo>
                  <a:pt x="1182" y="5"/>
                </a:lnTo>
                <a:lnTo>
                  <a:pt x="1196" y="5"/>
                </a:lnTo>
                <a:lnTo>
                  <a:pt x="1216" y="5"/>
                </a:lnTo>
                <a:lnTo>
                  <a:pt x="1230" y="5"/>
                </a:lnTo>
                <a:lnTo>
                  <a:pt x="1249" y="5"/>
                </a:lnTo>
                <a:lnTo>
                  <a:pt x="1264" y="5"/>
                </a:lnTo>
                <a:lnTo>
                  <a:pt x="1283" y="5"/>
                </a:lnTo>
                <a:lnTo>
                  <a:pt x="1297" y="5"/>
                </a:lnTo>
                <a:lnTo>
                  <a:pt x="1316" y="5"/>
                </a:lnTo>
                <a:lnTo>
                  <a:pt x="1331" y="5"/>
                </a:lnTo>
                <a:lnTo>
                  <a:pt x="1350" y="5"/>
                </a:lnTo>
                <a:lnTo>
                  <a:pt x="1365" y="5"/>
                </a:lnTo>
                <a:lnTo>
                  <a:pt x="1384" y="5"/>
                </a:lnTo>
                <a:lnTo>
                  <a:pt x="1398" y="5"/>
                </a:lnTo>
                <a:lnTo>
                  <a:pt x="1417" y="5"/>
                </a:lnTo>
                <a:lnTo>
                  <a:pt x="1432" y="5"/>
                </a:lnTo>
                <a:lnTo>
                  <a:pt x="1451" y="5"/>
                </a:lnTo>
                <a:lnTo>
                  <a:pt x="1465" y="5"/>
                </a:lnTo>
                <a:lnTo>
                  <a:pt x="1485" y="5"/>
                </a:lnTo>
                <a:lnTo>
                  <a:pt x="1499" y="5"/>
                </a:lnTo>
                <a:lnTo>
                  <a:pt x="1513" y="5"/>
                </a:lnTo>
                <a:lnTo>
                  <a:pt x="1533" y="5"/>
                </a:lnTo>
                <a:lnTo>
                  <a:pt x="1547" y="5"/>
                </a:lnTo>
                <a:lnTo>
                  <a:pt x="1566" y="5"/>
                </a:lnTo>
                <a:lnTo>
                  <a:pt x="1581" y="5"/>
                </a:lnTo>
                <a:lnTo>
                  <a:pt x="1600" y="5"/>
                </a:lnTo>
                <a:lnTo>
                  <a:pt x="1614" y="5"/>
                </a:lnTo>
                <a:lnTo>
                  <a:pt x="1634" y="5"/>
                </a:lnTo>
                <a:lnTo>
                  <a:pt x="1648" y="5"/>
                </a:lnTo>
                <a:lnTo>
                  <a:pt x="1667" y="5"/>
                </a:lnTo>
                <a:lnTo>
                  <a:pt x="1682" y="5"/>
                </a:lnTo>
                <a:lnTo>
                  <a:pt x="1701" y="5"/>
                </a:lnTo>
                <a:lnTo>
                  <a:pt x="1715" y="5"/>
                </a:lnTo>
                <a:lnTo>
                  <a:pt x="1735" y="5"/>
                </a:lnTo>
                <a:lnTo>
                  <a:pt x="1749" y="5"/>
                </a:lnTo>
                <a:lnTo>
                  <a:pt x="1768" y="5"/>
                </a:lnTo>
                <a:lnTo>
                  <a:pt x="1783" y="5"/>
                </a:lnTo>
                <a:lnTo>
                  <a:pt x="1797" y="5"/>
                </a:lnTo>
                <a:lnTo>
                  <a:pt x="1816" y="5"/>
                </a:lnTo>
                <a:lnTo>
                  <a:pt x="1831" y="5"/>
                </a:lnTo>
                <a:lnTo>
                  <a:pt x="1850" y="5"/>
                </a:lnTo>
                <a:lnTo>
                  <a:pt x="1864" y="5"/>
                </a:lnTo>
                <a:lnTo>
                  <a:pt x="1883" y="5"/>
                </a:lnTo>
                <a:lnTo>
                  <a:pt x="1898" y="5"/>
                </a:lnTo>
                <a:lnTo>
                  <a:pt x="1917" y="5"/>
                </a:lnTo>
                <a:lnTo>
                  <a:pt x="1932" y="5"/>
                </a:lnTo>
                <a:lnTo>
                  <a:pt x="1951" y="5"/>
                </a:lnTo>
                <a:lnTo>
                  <a:pt x="1965" y="5"/>
                </a:lnTo>
                <a:lnTo>
                  <a:pt x="1984" y="5"/>
                </a:lnTo>
                <a:lnTo>
                  <a:pt x="1999" y="5"/>
                </a:lnTo>
                <a:lnTo>
                  <a:pt x="2018" y="5"/>
                </a:lnTo>
                <a:lnTo>
                  <a:pt x="2032" y="5"/>
                </a:lnTo>
                <a:lnTo>
                  <a:pt x="2052" y="5"/>
                </a:lnTo>
                <a:lnTo>
                  <a:pt x="2066" y="5"/>
                </a:lnTo>
                <a:lnTo>
                  <a:pt x="2085" y="5"/>
                </a:lnTo>
                <a:lnTo>
                  <a:pt x="2090" y="5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905040"/>
            <a:ext cx="7829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"spike" and square wave pul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pulser electr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pulser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86000" y="38088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quare Wave Pulser -UTEX 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433760" y="1860480"/>
                <a:ext cx="6746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0" name=""/>
          <p:cNvSpPr/>
          <p:nvPr/>
        </p:nvSpPr>
        <p:spPr>
          <a:xfrm>
            <a:off x="1838160" y="3008160"/>
            <a:ext cx="11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e Width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346800" y="3008160"/>
            <a:ext cx="12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e Width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97000" y="3295800"/>
            <a:ext cx="3854880" cy="3089160"/>
            <a:chOff x="297000" y="3295800"/>
            <a:chExt cx="3854880" cy="3089160"/>
          </a:xfrm>
        </p:grpSpPr>
        <p:grpSp>
          <p:nvGrpSpPr>
            <p:cNvPr id="963" name=""/>
            <p:cNvGrpSpPr/>
            <p:nvPr/>
          </p:nvGrpSpPr>
          <p:grpSpPr>
            <a:xfrm>
              <a:off x="674280" y="3295800"/>
              <a:ext cx="3477600" cy="2849400"/>
              <a:chOff x="674280" y="3295800"/>
              <a:chExt cx="3477600" cy="2849400"/>
            </a:xfrm>
          </p:grpSpPr>
          <p:sp>
            <p:nvSpPr>
              <p:cNvPr id="964" name=""/>
              <p:cNvSpPr/>
              <p:nvPr/>
            </p:nvSpPr>
            <p:spPr>
              <a:xfrm>
                <a:off x="773280" y="3365280"/>
                <a:ext cx="3306600" cy="260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73280" y="3365280"/>
                <a:ext cx="3306600" cy="26031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73280" y="3365280"/>
                <a:ext cx="33066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73280" y="5968800"/>
                <a:ext cx="33066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4079880" y="3364920"/>
                <a:ext cx="1440" cy="2603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773280" y="3364920"/>
                <a:ext cx="1440" cy="2603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773280" y="593028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73280" y="336528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42680" y="5992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1595520" y="593028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95520" y="336528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64920" y="5992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2425680" y="593028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425680" y="336528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356920" y="5992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249720" y="593028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49720" y="336528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180960" y="5992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4079880" y="593028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079880" y="336528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011120" y="5992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73280" y="5968800"/>
                <a:ext cx="298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4041720" y="596880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74280" y="590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73280" y="5595840"/>
                <a:ext cx="298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4041720" y="559584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74280" y="5527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73280" y="522252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4041720" y="5222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74280" y="5154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73280" y="484956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4041720" y="48495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74280" y="4781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73280" y="4476600"/>
                <a:ext cx="298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4041720" y="447660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74280" y="44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73280" y="4103640"/>
                <a:ext cx="298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4041720" y="410364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74280" y="4035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73280" y="373032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4041720" y="37303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74280" y="3662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73280" y="3365280"/>
                <a:ext cx="298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041720" y="336528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74280" y="329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73280" y="4270320"/>
                <a:ext cx="3313080" cy="1387080"/>
              </a:xfrm>
              <a:custGeom>
                <a:avLst/>
                <a:gdLst/>
                <a:ahLst/>
                <a:rect l="l" t="t" r="r" b="b"/>
                <a:pathLst>
                  <a:path w="2087" h="874">
                    <a:moveTo>
                      <a:pt x="0" y="0"/>
                    </a:moveTo>
                    <a:lnTo>
                      <a:pt x="19" y="39"/>
                    </a:lnTo>
                    <a:lnTo>
                      <a:pt x="39" y="34"/>
                    </a:lnTo>
                    <a:lnTo>
                      <a:pt x="63" y="29"/>
                    </a:lnTo>
                    <a:lnTo>
                      <a:pt x="82" y="24"/>
                    </a:lnTo>
                    <a:lnTo>
                      <a:pt x="101" y="20"/>
                    </a:lnTo>
                    <a:lnTo>
                      <a:pt x="125" y="24"/>
                    </a:lnTo>
                    <a:lnTo>
                      <a:pt x="144" y="24"/>
                    </a:lnTo>
                    <a:lnTo>
                      <a:pt x="163" y="29"/>
                    </a:lnTo>
                    <a:lnTo>
                      <a:pt x="187" y="29"/>
                    </a:lnTo>
                    <a:lnTo>
                      <a:pt x="207" y="34"/>
                    </a:lnTo>
                    <a:lnTo>
                      <a:pt x="226" y="34"/>
                    </a:lnTo>
                    <a:lnTo>
                      <a:pt x="250" y="39"/>
                    </a:lnTo>
                    <a:lnTo>
                      <a:pt x="269" y="44"/>
                    </a:lnTo>
                    <a:lnTo>
                      <a:pt x="288" y="44"/>
                    </a:lnTo>
                    <a:lnTo>
                      <a:pt x="312" y="53"/>
                    </a:lnTo>
                    <a:lnTo>
                      <a:pt x="331" y="53"/>
                    </a:lnTo>
                    <a:lnTo>
                      <a:pt x="351" y="58"/>
                    </a:lnTo>
                    <a:lnTo>
                      <a:pt x="375" y="68"/>
                    </a:lnTo>
                    <a:lnTo>
                      <a:pt x="394" y="72"/>
                    </a:lnTo>
                    <a:lnTo>
                      <a:pt x="413" y="77"/>
                    </a:lnTo>
                    <a:lnTo>
                      <a:pt x="437" y="82"/>
                    </a:lnTo>
                    <a:lnTo>
                      <a:pt x="456" y="92"/>
                    </a:lnTo>
                    <a:lnTo>
                      <a:pt x="475" y="96"/>
                    </a:lnTo>
                    <a:lnTo>
                      <a:pt x="499" y="101"/>
                    </a:lnTo>
                    <a:lnTo>
                      <a:pt x="518" y="111"/>
                    </a:lnTo>
                    <a:lnTo>
                      <a:pt x="538" y="116"/>
                    </a:lnTo>
                    <a:lnTo>
                      <a:pt x="562" y="125"/>
                    </a:lnTo>
                    <a:lnTo>
                      <a:pt x="581" y="135"/>
                    </a:lnTo>
                    <a:lnTo>
                      <a:pt x="600" y="144"/>
                    </a:lnTo>
                    <a:lnTo>
                      <a:pt x="624" y="149"/>
                    </a:lnTo>
                    <a:lnTo>
                      <a:pt x="643" y="159"/>
                    </a:lnTo>
                    <a:lnTo>
                      <a:pt x="662" y="168"/>
                    </a:lnTo>
                    <a:lnTo>
                      <a:pt x="686" y="178"/>
                    </a:lnTo>
                    <a:lnTo>
                      <a:pt x="706" y="188"/>
                    </a:lnTo>
                    <a:lnTo>
                      <a:pt x="725" y="197"/>
                    </a:lnTo>
                    <a:lnTo>
                      <a:pt x="749" y="202"/>
                    </a:lnTo>
                    <a:lnTo>
                      <a:pt x="768" y="216"/>
                    </a:lnTo>
                    <a:lnTo>
                      <a:pt x="787" y="226"/>
                    </a:lnTo>
                    <a:lnTo>
                      <a:pt x="811" y="235"/>
                    </a:lnTo>
                    <a:lnTo>
                      <a:pt x="830" y="245"/>
                    </a:lnTo>
                    <a:lnTo>
                      <a:pt x="850" y="255"/>
                    </a:lnTo>
                    <a:lnTo>
                      <a:pt x="874" y="264"/>
                    </a:lnTo>
                    <a:lnTo>
                      <a:pt x="893" y="274"/>
                    </a:lnTo>
                    <a:lnTo>
                      <a:pt x="912" y="283"/>
                    </a:lnTo>
                    <a:lnTo>
                      <a:pt x="936" y="298"/>
                    </a:lnTo>
                    <a:lnTo>
                      <a:pt x="955" y="307"/>
                    </a:lnTo>
                    <a:lnTo>
                      <a:pt x="974" y="322"/>
                    </a:lnTo>
                    <a:lnTo>
                      <a:pt x="998" y="331"/>
                    </a:lnTo>
                    <a:lnTo>
                      <a:pt x="1017" y="341"/>
                    </a:lnTo>
                    <a:lnTo>
                      <a:pt x="1037" y="355"/>
                    </a:lnTo>
                    <a:lnTo>
                      <a:pt x="1061" y="365"/>
                    </a:lnTo>
                    <a:lnTo>
                      <a:pt x="1080" y="379"/>
                    </a:lnTo>
                    <a:lnTo>
                      <a:pt x="1099" y="389"/>
                    </a:lnTo>
                    <a:lnTo>
                      <a:pt x="1123" y="399"/>
                    </a:lnTo>
                    <a:lnTo>
                      <a:pt x="1142" y="413"/>
                    </a:lnTo>
                    <a:lnTo>
                      <a:pt x="1161" y="423"/>
                    </a:lnTo>
                    <a:lnTo>
                      <a:pt x="1185" y="432"/>
                    </a:lnTo>
                    <a:lnTo>
                      <a:pt x="1205" y="447"/>
                    </a:lnTo>
                    <a:lnTo>
                      <a:pt x="1224" y="461"/>
                    </a:lnTo>
                    <a:lnTo>
                      <a:pt x="1248" y="471"/>
                    </a:lnTo>
                    <a:lnTo>
                      <a:pt x="1267" y="480"/>
                    </a:lnTo>
                    <a:lnTo>
                      <a:pt x="1286" y="495"/>
                    </a:lnTo>
                    <a:lnTo>
                      <a:pt x="1310" y="504"/>
                    </a:lnTo>
                    <a:lnTo>
                      <a:pt x="1329" y="514"/>
                    </a:lnTo>
                    <a:lnTo>
                      <a:pt x="1349" y="528"/>
                    </a:lnTo>
                    <a:lnTo>
                      <a:pt x="1373" y="538"/>
                    </a:lnTo>
                    <a:lnTo>
                      <a:pt x="1392" y="552"/>
                    </a:lnTo>
                    <a:lnTo>
                      <a:pt x="1411" y="562"/>
                    </a:lnTo>
                    <a:lnTo>
                      <a:pt x="1435" y="571"/>
                    </a:lnTo>
                    <a:lnTo>
                      <a:pt x="1454" y="586"/>
                    </a:lnTo>
                    <a:lnTo>
                      <a:pt x="1473" y="595"/>
                    </a:lnTo>
                    <a:lnTo>
                      <a:pt x="1497" y="610"/>
                    </a:lnTo>
                    <a:lnTo>
                      <a:pt x="1517" y="619"/>
                    </a:lnTo>
                    <a:lnTo>
                      <a:pt x="1536" y="629"/>
                    </a:lnTo>
                    <a:lnTo>
                      <a:pt x="1560" y="638"/>
                    </a:lnTo>
                    <a:lnTo>
                      <a:pt x="1579" y="648"/>
                    </a:lnTo>
                    <a:lnTo>
                      <a:pt x="1598" y="662"/>
                    </a:lnTo>
                    <a:lnTo>
                      <a:pt x="1622" y="672"/>
                    </a:lnTo>
                    <a:lnTo>
                      <a:pt x="1641" y="682"/>
                    </a:lnTo>
                    <a:lnTo>
                      <a:pt x="1660" y="691"/>
                    </a:lnTo>
                    <a:lnTo>
                      <a:pt x="1684" y="706"/>
                    </a:lnTo>
                    <a:lnTo>
                      <a:pt x="1704" y="715"/>
                    </a:lnTo>
                    <a:lnTo>
                      <a:pt x="1723" y="725"/>
                    </a:lnTo>
                    <a:lnTo>
                      <a:pt x="1747" y="734"/>
                    </a:lnTo>
                    <a:lnTo>
                      <a:pt x="1766" y="744"/>
                    </a:lnTo>
                    <a:lnTo>
                      <a:pt x="1785" y="754"/>
                    </a:lnTo>
                    <a:lnTo>
                      <a:pt x="1809" y="763"/>
                    </a:lnTo>
                    <a:lnTo>
                      <a:pt x="1828" y="773"/>
                    </a:lnTo>
                    <a:lnTo>
                      <a:pt x="1848" y="782"/>
                    </a:lnTo>
                    <a:lnTo>
                      <a:pt x="1872" y="792"/>
                    </a:lnTo>
                    <a:lnTo>
                      <a:pt x="1891" y="802"/>
                    </a:lnTo>
                    <a:lnTo>
                      <a:pt x="1910" y="811"/>
                    </a:lnTo>
                    <a:lnTo>
                      <a:pt x="1934" y="816"/>
                    </a:lnTo>
                    <a:lnTo>
                      <a:pt x="1953" y="830"/>
                    </a:lnTo>
                    <a:lnTo>
                      <a:pt x="1972" y="835"/>
                    </a:lnTo>
                    <a:lnTo>
                      <a:pt x="1996" y="840"/>
                    </a:lnTo>
                    <a:lnTo>
                      <a:pt x="2016" y="850"/>
                    </a:lnTo>
                    <a:lnTo>
                      <a:pt x="2035" y="859"/>
                    </a:lnTo>
                    <a:lnTo>
                      <a:pt x="2059" y="864"/>
                    </a:lnTo>
                    <a:lnTo>
                      <a:pt x="2078" y="874"/>
                    </a:lnTo>
                    <a:lnTo>
                      <a:pt x="2087" y="87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73280" y="3706560"/>
                <a:ext cx="3313080" cy="1044360"/>
              </a:xfrm>
              <a:custGeom>
                <a:avLst/>
                <a:gdLst/>
                <a:ahLst/>
                <a:rect l="l" t="t" r="r" b="b"/>
                <a:pathLst>
                  <a:path w="2087" h="658">
                    <a:moveTo>
                      <a:pt x="0" y="0"/>
                    </a:moveTo>
                    <a:lnTo>
                      <a:pt x="19" y="34"/>
                    </a:lnTo>
                    <a:lnTo>
                      <a:pt x="39" y="29"/>
                    </a:lnTo>
                    <a:lnTo>
                      <a:pt x="63" y="20"/>
                    </a:lnTo>
                    <a:lnTo>
                      <a:pt x="82" y="15"/>
                    </a:lnTo>
                    <a:lnTo>
                      <a:pt x="101" y="10"/>
                    </a:lnTo>
                    <a:lnTo>
                      <a:pt x="125" y="10"/>
                    </a:lnTo>
                    <a:lnTo>
                      <a:pt x="144" y="10"/>
                    </a:lnTo>
                    <a:lnTo>
                      <a:pt x="163" y="10"/>
                    </a:lnTo>
                    <a:lnTo>
                      <a:pt x="187" y="10"/>
                    </a:lnTo>
                    <a:lnTo>
                      <a:pt x="207" y="10"/>
                    </a:lnTo>
                    <a:lnTo>
                      <a:pt x="226" y="15"/>
                    </a:lnTo>
                    <a:lnTo>
                      <a:pt x="250" y="15"/>
                    </a:lnTo>
                    <a:lnTo>
                      <a:pt x="269" y="15"/>
                    </a:lnTo>
                    <a:lnTo>
                      <a:pt x="288" y="20"/>
                    </a:lnTo>
                    <a:lnTo>
                      <a:pt x="312" y="20"/>
                    </a:lnTo>
                    <a:lnTo>
                      <a:pt x="331" y="24"/>
                    </a:lnTo>
                    <a:lnTo>
                      <a:pt x="351" y="24"/>
                    </a:lnTo>
                    <a:lnTo>
                      <a:pt x="375" y="29"/>
                    </a:lnTo>
                    <a:lnTo>
                      <a:pt x="394" y="34"/>
                    </a:lnTo>
                    <a:lnTo>
                      <a:pt x="413" y="34"/>
                    </a:lnTo>
                    <a:lnTo>
                      <a:pt x="437" y="39"/>
                    </a:lnTo>
                    <a:lnTo>
                      <a:pt x="456" y="44"/>
                    </a:lnTo>
                    <a:lnTo>
                      <a:pt x="475" y="48"/>
                    </a:lnTo>
                    <a:lnTo>
                      <a:pt x="499" y="48"/>
                    </a:lnTo>
                    <a:lnTo>
                      <a:pt x="518" y="53"/>
                    </a:lnTo>
                    <a:lnTo>
                      <a:pt x="538" y="58"/>
                    </a:lnTo>
                    <a:lnTo>
                      <a:pt x="562" y="63"/>
                    </a:lnTo>
                    <a:lnTo>
                      <a:pt x="581" y="68"/>
                    </a:lnTo>
                    <a:lnTo>
                      <a:pt x="600" y="72"/>
                    </a:lnTo>
                    <a:lnTo>
                      <a:pt x="624" y="77"/>
                    </a:lnTo>
                    <a:lnTo>
                      <a:pt x="643" y="82"/>
                    </a:lnTo>
                    <a:lnTo>
                      <a:pt x="662" y="87"/>
                    </a:lnTo>
                    <a:lnTo>
                      <a:pt x="686" y="96"/>
                    </a:lnTo>
                    <a:lnTo>
                      <a:pt x="706" y="101"/>
                    </a:lnTo>
                    <a:lnTo>
                      <a:pt x="725" y="106"/>
                    </a:lnTo>
                    <a:lnTo>
                      <a:pt x="749" y="111"/>
                    </a:lnTo>
                    <a:lnTo>
                      <a:pt x="768" y="116"/>
                    </a:lnTo>
                    <a:lnTo>
                      <a:pt x="787" y="125"/>
                    </a:lnTo>
                    <a:lnTo>
                      <a:pt x="811" y="130"/>
                    </a:lnTo>
                    <a:lnTo>
                      <a:pt x="830" y="135"/>
                    </a:lnTo>
                    <a:lnTo>
                      <a:pt x="850" y="144"/>
                    </a:lnTo>
                    <a:lnTo>
                      <a:pt x="874" y="149"/>
                    </a:lnTo>
                    <a:lnTo>
                      <a:pt x="893" y="154"/>
                    </a:lnTo>
                    <a:lnTo>
                      <a:pt x="912" y="164"/>
                    </a:lnTo>
                    <a:lnTo>
                      <a:pt x="936" y="168"/>
                    </a:lnTo>
                    <a:lnTo>
                      <a:pt x="955" y="178"/>
                    </a:lnTo>
                    <a:lnTo>
                      <a:pt x="974" y="183"/>
                    </a:lnTo>
                    <a:lnTo>
                      <a:pt x="998" y="192"/>
                    </a:lnTo>
                    <a:lnTo>
                      <a:pt x="1017" y="202"/>
                    </a:lnTo>
                    <a:lnTo>
                      <a:pt x="1037" y="207"/>
                    </a:lnTo>
                    <a:lnTo>
                      <a:pt x="1061" y="216"/>
                    </a:lnTo>
                    <a:lnTo>
                      <a:pt x="1080" y="221"/>
                    </a:lnTo>
                    <a:lnTo>
                      <a:pt x="1099" y="231"/>
                    </a:lnTo>
                    <a:lnTo>
                      <a:pt x="1123" y="240"/>
                    </a:lnTo>
                    <a:lnTo>
                      <a:pt x="1142" y="245"/>
                    </a:lnTo>
                    <a:lnTo>
                      <a:pt x="1161" y="255"/>
                    </a:lnTo>
                    <a:lnTo>
                      <a:pt x="1185" y="264"/>
                    </a:lnTo>
                    <a:lnTo>
                      <a:pt x="1205" y="274"/>
                    </a:lnTo>
                    <a:lnTo>
                      <a:pt x="1224" y="279"/>
                    </a:lnTo>
                    <a:lnTo>
                      <a:pt x="1248" y="288"/>
                    </a:lnTo>
                    <a:lnTo>
                      <a:pt x="1267" y="298"/>
                    </a:lnTo>
                    <a:lnTo>
                      <a:pt x="1286" y="303"/>
                    </a:lnTo>
                    <a:lnTo>
                      <a:pt x="1310" y="312"/>
                    </a:lnTo>
                    <a:lnTo>
                      <a:pt x="1329" y="322"/>
                    </a:lnTo>
                    <a:lnTo>
                      <a:pt x="1349" y="331"/>
                    </a:lnTo>
                    <a:lnTo>
                      <a:pt x="1373" y="341"/>
                    </a:lnTo>
                    <a:lnTo>
                      <a:pt x="1392" y="346"/>
                    </a:lnTo>
                    <a:lnTo>
                      <a:pt x="1411" y="355"/>
                    </a:lnTo>
                    <a:lnTo>
                      <a:pt x="1435" y="365"/>
                    </a:lnTo>
                    <a:lnTo>
                      <a:pt x="1454" y="375"/>
                    </a:lnTo>
                    <a:lnTo>
                      <a:pt x="1473" y="384"/>
                    </a:lnTo>
                    <a:lnTo>
                      <a:pt x="1497" y="394"/>
                    </a:lnTo>
                    <a:lnTo>
                      <a:pt x="1517" y="403"/>
                    </a:lnTo>
                    <a:lnTo>
                      <a:pt x="1536" y="413"/>
                    </a:lnTo>
                    <a:lnTo>
                      <a:pt x="1560" y="423"/>
                    </a:lnTo>
                    <a:lnTo>
                      <a:pt x="1579" y="432"/>
                    </a:lnTo>
                    <a:lnTo>
                      <a:pt x="1598" y="442"/>
                    </a:lnTo>
                    <a:lnTo>
                      <a:pt x="1622" y="447"/>
                    </a:lnTo>
                    <a:lnTo>
                      <a:pt x="1641" y="456"/>
                    </a:lnTo>
                    <a:lnTo>
                      <a:pt x="1660" y="466"/>
                    </a:lnTo>
                    <a:lnTo>
                      <a:pt x="1684" y="475"/>
                    </a:lnTo>
                    <a:lnTo>
                      <a:pt x="1704" y="485"/>
                    </a:lnTo>
                    <a:lnTo>
                      <a:pt x="1723" y="495"/>
                    </a:lnTo>
                    <a:lnTo>
                      <a:pt x="1747" y="504"/>
                    </a:lnTo>
                    <a:lnTo>
                      <a:pt x="1766" y="514"/>
                    </a:lnTo>
                    <a:lnTo>
                      <a:pt x="1785" y="523"/>
                    </a:lnTo>
                    <a:lnTo>
                      <a:pt x="1809" y="533"/>
                    </a:lnTo>
                    <a:lnTo>
                      <a:pt x="1828" y="543"/>
                    </a:lnTo>
                    <a:lnTo>
                      <a:pt x="1848" y="552"/>
                    </a:lnTo>
                    <a:lnTo>
                      <a:pt x="1872" y="562"/>
                    </a:lnTo>
                    <a:lnTo>
                      <a:pt x="1891" y="571"/>
                    </a:lnTo>
                    <a:lnTo>
                      <a:pt x="1910" y="581"/>
                    </a:lnTo>
                    <a:lnTo>
                      <a:pt x="1934" y="590"/>
                    </a:lnTo>
                    <a:lnTo>
                      <a:pt x="1953" y="600"/>
                    </a:lnTo>
                    <a:lnTo>
                      <a:pt x="1972" y="610"/>
                    </a:lnTo>
                    <a:lnTo>
                      <a:pt x="1996" y="619"/>
                    </a:lnTo>
                    <a:lnTo>
                      <a:pt x="2016" y="629"/>
                    </a:lnTo>
                    <a:lnTo>
                      <a:pt x="2035" y="634"/>
                    </a:lnTo>
                    <a:lnTo>
                      <a:pt x="2059" y="648"/>
                    </a:lnTo>
                    <a:lnTo>
                      <a:pt x="2078" y="653"/>
                    </a:lnTo>
                    <a:lnTo>
                      <a:pt x="2087" y="65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2071800" y="6108480"/>
              <a:ext cx="6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6200000">
              <a:off x="-142200" y="4580640"/>
              <a:ext cx="11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nitude (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2984400" y="3438360"/>
              <a:ext cx="951120" cy="517320"/>
              <a:chOff x="2984400" y="3438360"/>
              <a:chExt cx="951120" cy="517320"/>
            </a:xfrm>
          </p:grpSpPr>
          <p:sp>
            <p:nvSpPr>
              <p:cNvPr id="1014" name=""/>
              <p:cNvSpPr/>
              <p:nvPr/>
            </p:nvSpPr>
            <p:spPr>
              <a:xfrm>
                <a:off x="3354480" y="3438360"/>
                <a:ext cx="58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984400" y="3574440"/>
                <a:ext cx="37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84400" y="3815640"/>
                <a:ext cx="39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354480" y="3679200"/>
                <a:ext cx="58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4861080" y="3295800"/>
            <a:ext cx="3873960" cy="3087720"/>
            <a:chOff x="4861080" y="3295800"/>
            <a:chExt cx="3873960" cy="3087720"/>
          </a:xfrm>
        </p:grpSpPr>
        <p:sp>
          <p:nvSpPr>
            <p:cNvPr id="1019" name=""/>
            <p:cNvSpPr/>
            <p:nvPr/>
          </p:nvSpPr>
          <p:spPr>
            <a:xfrm>
              <a:off x="6620040" y="6107040"/>
              <a:ext cx="6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16200000">
              <a:off x="4421520" y="4580640"/>
              <a:ext cx="11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nitude (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5189040" y="3295800"/>
              <a:ext cx="3546000" cy="2849760"/>
              <a:chOff x="5189040" y="3295800"/>
              <a:chExt cx="3546000" cy="2849760"/>
            </a:xfrm>
          </p:grpSpPr>
          <p:sp>
            <p:nvSpPr>
              <p:cNvPr id="1022" name=""/>
              <p:cNvSpPr/>
              <p:nvPr/>
            </p:nvSpPr>
            <p:spPr>
              <a:xfrm>
                <a:off x="5356080" y="3365280"/>
                <a:ext cx="3306960" cy="260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56080" y="3365280"/>
                <a:ext cx="3306960" cy="26031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56080" y="3365280"/>
                <a:ext cx="3306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56080" y="5968800"/>
                <a:ext cx="3306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8663040" y="3364920"/>
                <a:ext cx="1440" cy="2603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5356080" y="3364920"/>
                <a:ext cx="1800" cy="2603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5356080" y="5931000"/>
                <a:ext cx="1800" cy="3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56080" y="3365280"/>
                <a:ext cx="18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25840" y="5992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6178680" y="5931000"/>
                <a:ext cx="1440" cy="3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178680" y="336528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148080" y="5992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7008840" y="5931000"/>
                <a:ext cx="1440" cy="3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008840" y="336528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940080" y="5992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7832880" y="5931000"/>
                <a:ext cx="1440" cy="3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832880" y="336528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764120" y="5992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8663040" y="5931000"/>
                <a:ext cx="1440" cy="3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663040" y="336528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594280" y="5992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56080" y="596880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8624880" y="5968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57440" y="590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56080" y="559584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8624880" y="55958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57440" y="5527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56080" y="522288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8624880" y="522288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257440" y="5154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484992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8624880" y="484992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257440" y="4781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6080" y="447660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8624880" y="44766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257440" y="4408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356080" y="410364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8624880" y="410364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89040" y="40352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56080" y="373068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8624880" y="373068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189040" y="36622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356080" y="33652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8624880" y="33652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189040" y="32958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56080" y="4430520"/>
                <a:ext cx="3313440" cy="1415880"/>
              </a:xfrm>
              <a:custGeom>
                <a:avLst/>
                <a:gdLst/>
                <a:ahLst/>
                <a:rect l="l" t="t" r="r" b="b"/>
                <a:pathLst>
                  <a:path w="2087" h="892">
                    <a:moveTo>
                      <a:pt x="0" y="39"/>
                    </a:moveTo>
                    <a:lnTo>
                      <a:pt x="19" y="0"/>
                    </a:lnTo>
                    <a:lnTo>
                      <a:pt x="39" y="0"/>
                    </a:lnTo>
                    <a:lnTo>
                      <a:pt x="63" y="0"/>
                    </a:lnTo>
                    <a:lnTo>
                      <a:pt x="82" y="0"/>
                    </a:lnTo>
                    <a:lnTo>
                      <a:pt x="101" y="5"/>
                    </a:lnTo>
                    <a:lnTo>
                      <a:pt x="125" y="5"/>
                    </a:lnTo>
                    <a:lnTo>
                      <a:pt x="144" y="10"/>
                    </a:lnTo>
                    <a:lnTo>
                      <a:pt x="163" y="15"/>
                    </a:lnTo>
                    <a:lnTo>
                      <a:pt x="187" y="24"/>
                    </a:lnTo>
                    <a:lnTo>
                      <a:pt x="207" y="29"/>
                    </a:lnTo>
                    <a:lnTo>
                      <a:pt x="226" y="39"/>
                    </a:lnTo>
                    <a:lnTo>
                      <a:pt x="250" y="48"/>
                    </a:lnTo>
                    <a:lnTo>
                      <a:pt x="269" y="58"/>
                    </a:lnTo>
                    <a:lnTo>
                      <a:pt x="288" y="72"/>
                    </a:lnTo>
                    <a:lnTo>
                      <a:pt x="312" y="82"/>
                    </a:lnTo>
                    <a:lnTo>
                      <a:pt x="331" y="91"/>
                    </a:lnTo>
                    <a:lnTo>
                      <a:pt x="351" y="106"/>
                    </a:lnTo>
                    <a:lnTo>
                      <a:pt x="375" y="120"/>
                    </a:lnTo>
                    <a:lnTo>
                      <a:pt x="394" y="134"/>
                    </a:lnTo>
                    <a:lnTo>
                      <a:pt x="413" y="149"/>
                    </a:lnTo>
                    <a:lnTo>
                      <a:pt x="437" y="163"/>
                    </a:lnTo>
                    <a:lnTo>
                      <a:pt x="456" y="182"/>
                    </a:lnTo>
                    <a:lnTo>
                      <a:pt x="475" y="197"/>
                    </a:lnTo>
                    <a:lnTo>
                      <a:pt x="499" y="216"/>
                    </a:lnTo>
                    <a:lnTo>
                      <a:pt x="518" y="230"/>
                    </a:lnTo>
                    <a:lnTo>
                      <a:pt x="538" y="250"/>
                    </a:lnTo>
                    <a:lnTo>
                      <a:pt x="562" y="269"/>
                    </a:lnTo>
                    <a:lnTo>
                      <a:pt x="581" y="288"/>
                    </a:lnTo>
                    <a:lnTo>
                      <a:pt x="600" y="307"/>
                    </a:lnTo>
                    <a:lnTo>
                      <a:pt x="624" y="326"/>
                    </a:lnTo>
                    <a:lnTo>
                      <a:pt x="643" y="346"/>
                    </a:lnTo>
                    <a:lnTo>
                      <a:pt x="662" y="365"/>
                    </a:lnTo>
                    <a:lnTo>
                      <a:pt x="686" y="384"/>
                    </a:lnTo>
                    <a:lnTo>
                      <a:pt x="706" y="403"/>
                    </a:lnTo>
                    <a:lnTo>
                      <a:pt x="725" y="422"/>
                    </a:lnTo>
                    <a:lnTo>
                      <a:pt x="749" y="446"/>
                    </a:lnTo>
                    <a:lnTo>
                      <a:pt x="768" y="466"/>
                    </a:lnTo>
                    <a:lnTo>
                      <a:pt x="787" y="485"/>
                    </a:lnTo>
                    <a:lnTo>
                      <a:pt x="811" y="509"/>
                    </a:lnTo>
                    <a:lnTo>
                      <a:pt x="830" y="528"/>
                    </a:lnTo>
                    <a:lnTo>
                      <a:pt x="850" y="547"/>
                    </a:lnTo>
                    <a:lnTo>
                      <a:pt x="874" y="566"/>
                    </a:lnTo>
                    <a:lnTo>
                      <a:pt x="893" y="585"/>
                    </a:lnTo>
                    <a:lnTo>
                      <a:pt x="912" y="609"/>
                    </a:lnTo>
                    <a:lnTo>
                      <a:pt x="936" y="629"/>
                    </a:lnTo>
                    <a:lnTo>
                      <a:pt x="955" y="648"/>
                    </a:lnTo>
                    <a:lnTo>
                      <a:pt x="974" y="667"/>
                    </a:lnTo>
                    <a:lnTo>
                      <a:pt x="998" y="686"/>
                    </a:lnTo>
                    <a:lnTo>
                      <a:pt x="1017" y="705"/>
                    </a:lnTo>
                    <a:lnTo>
                      <a:pt x="1037" y="720"/>
                    </a:lnTo>
                    <a:lnTo>
                      <a:pt x="1061" y="739"/>
                    </a:lnTo>
                    <a:lnTo>
                      <a:pt x="1080" y="758"/>
                    </a:lnTo>
                    <a:lnTo>
                      <a:pt x="1099" y="773"/>
                    </a:lnTo>
                    <a:lnTo>
                      <a:pt x="1123" y="787"/>
                    </a:lnTo>
                    <a:lnTo>
                      <a:pt x="1142" y="801"/>
                    </a:lnTo>
                    <a:lnTo>
                      <a:pt x="1161" y="821"/>
                    </a:lnTo>
                    <a:lnTo>
                      <a:pt x="1185" y="830"/>
                    </a:lnTo>
                    <a:lnTo>
                      <a:pt x="1205" y="845"/>
                    </a:lnTo>
                    <a:lnTo>
                      <a:pt x="1224" y="859"/>
                    </a:lnTo>
                    <a:lnTo>
                      <a:pt x="1248" y="868"/>
                    </a:lnTo>
                    <a:lnTo>
                      <a:pt x="1267" y="878"/>
                    </a:lnTo>
                    <a:lnTo>
                      <a:pt x="1286" y="883"/>
                    </a:lnTo>
                    <a:lnTo>
                      <a:pt x="1310" y="888"/>
                    </a:lnTo>
                    <a:lnTo>
                      <a:pt x="1329" y="892"/>
                    </a:lnTo>
                    <a:lnTo>
                      <a:pt x="1349" y="892"/>
                    </a:lnTo>
                    <a:lnTo>
                      <a:pt x="1373" y="888"/>
                    </a:lnTo>
                    <a:lnTo>
                      <a:pt x="1392" y="888"/>
                    </a:lnTo>
                    <a:lnTo>
                      <a:pt x="1411" y="883"/>
                    </a:lnTo>
                    <a:lnTo>
                      <a:pt x="1435" y="878"/>
                    </a:lnTo>
                    <a:lnTo>
                      <a:pt x="1454" y="873"/>
                    </a:lnTo>
                    <a:lnTo>
                      <a:pt x="1473" y="864"/>
                    </a:lnTo>
                    <a:lnTo>
                      <a:pt x="1497" y="859"/>
                    </a:lnTo>
                    <a:lnTo>
                      <a:pt x="1517" y="854"/>
                    </a:lnTo>
                    <a:lnTo>
                      <a:pt x="1536" y="849"/>
                    </a:lnTo>
                    <a:lnTo>
                      <a:pt x="1560" y="845"/>
                    </a:lnTo>
                    <a:lnTo>
                      <a:pt x="1579" y="840"/>
                    </a:lnTo>
                    <a:lnTo>
                      <a:pt x="1598" y="835"/>
                    </a:lnTo>
                    <a:lnTo>
                      <a:pt x="1622" y="830"/>
                    </a:lnTo>
                    <a:lnTo>
                      <a:pt x="1641" y="825"/>
                    </a:lnTo>
                    <a:lnTo>
                      <a:pt x="1660" y="821"/>
                    </a:lnTo>
                    <a:lnTo>
                      <a:pt x="1684" y="816"/>
                    </a:lnTo>
                    <a:lnTo>
                      <a:pt x="1704" y="816"/>
                    </a:lnTo>
                    <a:lnTo>
                      <a:pt x="1723" y="811"/>
                    </a:lnTo>
                    <a:lnTo>
                      <a:pt x="1747" y="811"/>
                    </a:lnTo>
                    <a:lnTo>
                      <a:pt x="1766" y="806"/>
                    </a:lnTo>
                    <a:lnTo>
                      <a:pt x="1785" y="806"/>
                    </a:lnTo>
                    <a:lnTo>
                      <a:pt x="1809" y="806"/>
                    </a:lnTo>
                    <a:lnTo>
                      <a:pt x="1828" y="801"/>
                    </a:lnTo>
                    <a:lnTo>
                      <a:pt x="1848" y="801"/>
                    </a:lnTo>
                    <a:lnTo>
                      <a:pt x="1872" y="801"/>
                    </a:lnTo>
                    <a:lnTo>
                      <a:pt x="1891" y="801"/>
                    </a:lnTo>
                    <a:lnTo>
                      <a:pt x="1910" y="806"/>
                    </a:lnTo>
                    <a:lnTo>
                      <a:pt x="1934" y="806"/>
                    </a:lnTo>
                    <a:lnTo>
                      <a:pt x="1953" y="806"/>
                    </a:lnTo>
                    <a:lnTo>
                      <a:pt x="1972" y="811"/>
                    </a:lnTo>
                    <a:lnTo>
                      <a:pt x="1996" y="811"/>
                    </a:lnTo>
                    <a:lnTo>
                      <a:pt x="2016" y="816"/>
                    </a:lnTo>
                    <a:lnTo>
                      <a:pt x="2035" y="816"/>
                    </a:lnTo>
                    <a:lnTo>
                      <a:pt x="2059" y="821"/>
                    </a:lnTo>
                    <a:lnTo>
                      <a:pt x="2078" y="825"/>
                    </a:lnTo>
                    <a:lnTo>
                      <a:pt x="2087" y="82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356080" y="3409920"/>
                <a:ext cx="3313440" cy="2452320"/>
              </a:xfrm>
              <a:custGeom>
                <a:avLst/>
                <a:gdLst/>
                <a:ahLst/>
                <a:rect l="l" t="t" r="r" b="b"/>
                <a:pathLst>
                  <a:path w="2087" h="1545">
                    <a:moveTo>
                      <a:pt x="0" y="67"/>
                    </a:moveTo>
                    <a:lnTo>
                      <a:pt x="19" y="5"/>
                    </a:lnTo>
                    <a:lnTo>
                      <a:pt x="39" y="5"/>
                    </a:lnTo>
                    <a:lnTo>
                      <a:pt x="63" y="0"/>
                    </a:lnTo>
                    <a:lnTo>
                      <a:pt x="82" y="5"/>
                    </a:lnTo>
                    <a:lnTo>
                      <a:pt x="101" y="5"/>
                    </a:lnTo>
                    <a:lnTo>
                      <a:pt x="125" y="5"/>
                    </a:lnTo>
                    <a:lnTo>
                      <a:pt x="144" y="10"/>
                    </a:lnTo>
                    <a:lnTo>
                      <a:pt x="163" y="15"/>
                    </a:lnTo>
                    <a:lnTo>
                      <a:pt x="187" y="19"/>
                    </a:lnTo>
                    <a:lnTo>
                      <a:pt x="207" y="29"/>
                    </a:lnTo>
                    <a:lnTo>
                      <a:pt x="226" y="39"/>
                    </a:lnTo>
                    <a:lnTo>
                      <a:pt x="250" y="48"/>
                    </a:lnTo>
                    <a:lnTo>
                      <a:pt x="269" y="58"/>
                    </a:lnTo>
                    <a:lnTo>
                      <a:pt x="288" y="67"/>
                    </a:lnTo>
                    <a:lnTo>
                      <a:pt x="312" y="82"/>
                    </a:lnTo>
                    <a:lnTo>
                      <a:pt x="331" y="91"/>
                    </a:lnTo>
                    <a:lnTo>
                      <a:pt x="351" y="106"/>
                    </a:lnTo>
                    <a:lnTo>
                      <a:pt x="375" y="120"/>
                    </a:lnTo>
                    <a:lnTo>
                      <a:pt x="394" y="135"/>
                    </a:lnTo>
                    <a:lnTo>
                      <a:pt x="413" y="149"/>
                    </a:lnTo>
                    <a:lnTo>
                      <a:pt x="437" y="168"/>
                    </a:lnTo>
                    <a:lnTo>
                      <a:pt x="456" y="187"/>
                    </a:lnTo>
                    <a:lnTo>
                      <a:pt x="475" y="202"/>
                    </a:lnTo>
                    <a:lnTo>
                      <a:pt x="499" y="221"/>
                    </a:lnTo>
                    <a:lnTo>
                      <a:pt x="518" y="240"/>
                    </a:lnTo>
                    <a:lnTo>
                      <a:pt x="538" y="259"/>
                    </a:lnTo>
                    <a:lnTo>
                      <a:pt x="562" y="279"/>
                    </a:lnTo>
                    <a:lnTo>
                      <a:pt x="581" y="303"/>
                    </a:lnTo>
                    <a:lnTo>
                      <a:pt x="600" y="322"/>
                    </a:lnTo>
                    <a:lnTo>
                      <a:pt x="624" y="346"/>
                    </a:lnTo>
                    <a:lnTo>
                      <a:pt x="643" y="370"/>
                    </a:lnTo>
                    <a:lnTo>
                      <a:pt x="662" y="389"/>
                    </a:lnTo>
                    <a:lnTo>
                      <a:pt x="686" y="413"/>
                    </a:lnTo>
                    <a:lnTo>
                      <a:pt x="706" y="437"/>
                    </a:lnTo>
                    <a:lnTo>
                      <a:pt x="725" y="461"/>
                    </a:lnTo>
                    <a:lnTo>
                      <a:pt x="749" y="485"/>
                    </a:lnTo>
                    <a:lnTo>
                      <a:pt x="768" y="514"/>
                    </a:lnTo>
                    <a:lnTo>
                      <a:pt x="787" y="538"/>
                    </a:lnTo>
                    <a:lnTo>
                      <a:pt x="811" y="562"/>
                    </a:lnTo>
                    <a:lnTo>
                      <a:pt x="830" y="590"/>
                    </a:lnTo>
                    <a:lnTo>
                      <a:pt x="850" y="614"/>
                    </a:lnTo>
                    <a:lnTo>
                      <a:pt x="874" y="638"/>
                    </a:lnTo>
                    <a:lnTo>
                      <a:pt x="893" y="667"/>
                    </a:lnTo>
                    <a:lnTo>
                      <a:pt x="912" y="696"/>
                    </a:lnTo>
                    <a:lnTo>
                      <a:pt x="936" y="720"/>
                    </a:lnTo>
                    <a:lnTo>
                      <a:pt x="955" y="749"/>
                    </a:lnTo>
                    <a:lnTo>
                      <a:pt x="974" y="773"/>
                    </a:lnTo>
                    <a:lnTo>
                      <a:pt x="998" y="801"/>
                    </a:lnTo>
                    <a:lnTo>
                      <a:pt x="1017" y="830"/>
                    </a:lnTo>
                    <a:lnTo>
                      <a:pt x="1037" y="854"/>
                    </a:lnTo>
                    <a:lnTo>
                      <a:pt x="1061" y="883"/>
                    </a:lnTo>
                    <a:lnTo>
                      <a:pt x="1080" y="912"/>
                    </a:lnTo>
                    <a:lnTo>
                      <a:pt x="1099" y="936"/>
                    </a:lnTo>
                    <a:lnTo>
                      <a:pt x="1123" y="965"/>
                    </a:lnTo>
                    <a:lnTo>
                      <a:pt x="1142" y="989"/>
                    </a:lnTo>
                    <a:lnTo>
                      <a:pt x="1161" y="1017"/>
                    </a:lnTo>
                    <a:lnTo>
                      <a:pt x="1185" y="1041"/>
                    </a:lnTo>
                    <a:lnTo>
                      <a:pt x="1205" y="1070"/>
                    </a:lnTo>
                    <a:lnTo>
                      <a:pt x="1224" y="1099"/>
                    </a:lnTo>
                    <a:lnTo>
                      <a:pt x="1248" y="1123"/>
                    </a:lnTo>
                    <a:lnTo>
                      <a:pt x="1267" y="1147"/>
                    </a:lnTo>
                    <a:lnTo>
                      <a:pt x="1286" y="1171"/>
                    </a:lnTo>
                    <a:lnTo>
                      <a:pt x="1310" y="1200"/>
                    </a:lnTo>
                    <a:lnTo>
                      <a:pt x="1329" y="1224"/>
                    </a:lnTo>
                    <a:lnTo>
                      <a:pt x="1349" y="1248"/>
                    </a:lnTo>
                    <a:lnTo>
                      <a:pt x="1373" y="1272"/>
                    </a:lnTo>
                    <a:lnTo>
                      <a:pt x="1392" y="1296"/>
                    </a:lnTo>
                    <a:lnTo>
                      <a:pt x="1411" y="1320"/>
                    </a:lnTo>
                    <a:lnTo>
                      <a:pt x="1435" y="1344"/>
                    </a:lnTo>
                    <a:lnTo>
                      <a:pt x="1454" y="1363"/>
                    </a:lnTo>
                    <a:lnTo>
                      <a:pt x="1473" y="1387"/>
                    </a:lnTo>
                    <a:lnTo>
                      <a:pt x="1497" y="1406"/>
                    </a:lnTo>
                    <a:lnTo>
                      <a:pt x="1517" y="1425"/>
                    </a:lnTo>
                    <a:lnTo>
                      <a:pt x="1536" y="1449"/>
                    </a:lnTo>
                    <a:lnTo>
                      <a:pt x="1560" y="1464"/>
                    </a:lnTo>
                    <a:lnTo>
                      <a:pt x="1579" y="1483"/>
                    </a:lnTo>
                    <a:lnTo>
                      <a:pt x="1598" y="1502"/>
                    </a:lnTo>
                    <a:lnTo>
                      <a:pt x="1622" y="1516"/>
                    </a:lnTo>
                    <a:lnTo>
                      <a:pt x="1641" y="1531"/>
                    </a:lnTo>
                    <a:lnTo>
                      <a:pt x="1660" y="1540"/>
                    </a:lnTo>
                    <a:lnTo>
                      <a:pt x="1684" y="1545"/>
                    </a:lnTo>
                    <a:lnTo>
                      <a:pt x="1704" y="1545"/>
                    </a:lnTo>
                    <a:lnTo>
                      <a:pt x="1723" y="1540"/>
                    </a:lnTo>
                    <a:lnTo>
                      <a:pt x="1747" y="1535"/>
                    </a:lnTo>
                    <a:lnTo>
                      <a:pt x="1766" y="1526"/>
                    </a:lnTo>
                    <a:lnTo>
                      <a:pt x="1785" y="1511"/>
                    </a:lnTo>
                    <a:lnTo>
                      <a:pt x="1809" y="1502"/>
                    </a:lnTo>
                    <a:lnTo>
                      <a:pt x="1828" y="1492"/>
                    </a:lnTo>
                    <a:lnTo>
                      <a:pt x="1848" y="1478"/>
                    </a:lnTo>
                    <a:lnTo>
                      <a:pt x="1872" y="1468"/>
                    </a:lnTo>
                    <a:lnTo>
                      <a:pt x="1891" y="1454"/>
                    </a:lnTo>
                    <a:lnTo>
                      <a:pt x="1910" y="1444"/>
                    </a:lnTo>
                    <a:lnTo>
                      <a:pt x="1934" y="1435"/>
                    </a:lnTo>
                    <a:lnTo>
                      <a:pt x="1953" y="1425"/>
                    </a:lnTo>
                    <a:lnTo>
                      <a:pt x="1972" y="1411"/>
                    </a:lnTo>
                    <a:lnTo>
                      <a:pt x="1996" y="1406"/>
                    </a:lnTo>
                    <a:lnTo>
                      <a:pt x="2016" y="1396"/>
                    </a:lnTo>
                    <a:lnTo>
                      <a:pt x="2035" y="1387"/>
                    </a:lnTo>
                    <a:lnTo>
                      <a:pt x="2059" y="1377"/>
                    </a:lnTo>
                    <a:lnTo>
                      <a:pt x="2078" y="1372"/>
                    </a:lnTo>
                    <a:lnTo>
                      <a:pt x="2087" y="136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7572240" y="3433680"/>
              <a:ext cx="951120" cy="517320"/>
              <a:chOff x="7572240" y="3433680"/>
              <a:chExt cx="951120" cy="517320"/>
            </a:xfrm>
          </p:grpSpPr>
          <p:sp>
            <p:nvSpPr>
              <p:cNvPr id="1070" name=""/>
              <p:cNvSpPr/>
              <p:nvPr/>
            </p:nvSpPr>
            <p:spPr>
              <a:xfrm>
                <a:off x="7942320" y="3433680"/>
                <a:ext cx="58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572240" y="3569760"/>
                <a:ext cx="37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572240" y="3810960"/>
                <a:ext cx="39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942320" y="3674520"/>
                <a:ext cx="58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4" name=""/>
          <p:cNvSpPr/>
          <p:nvPr/>
        </p:nvSpPr>
        <p:spPr>
          <a:xfrm>
            <a:off x="3786840" y="13892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quare wave Pul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362320" y="38088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quare Wave Pulser -UTEX 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735200" y="291312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e Width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216480" y="2913120"/>
            <a:ext cx="12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e Width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4710240" y="3164040"/>
            <a:ext cx="3935880" cy="3068640"/>
            <a:chOff x="4710240" y="3164040"/>
            <a:chExt cx="3935880" cy="3068640"/>
          </a:xfrm>
        </p:grpSpPr>
        <p:grpSp>
          <p:nvGrpSpPr>
            <p:cNvPr id="1080" name=""/>
            <p:cNvGrpSpPr/>
            <p:nvPr/>
          </p:nvGrpSpPr>
          <p:grpSpPr>
            <a:xfrm>
              <a:off x="5031720" y="3164040"/>
              <a:ext cx="3614400" cy="2849400"/>
              <a:chOff x="5031720" y="3164040"/>
              <a:chExt cx="3614400" cy="2849400"/>
            </a:xfrm>
          </p:grpSpPr>
          <p:sp>
            <p:nvSpPr>
              <p:cNvPr id="1081" name=""/>
              <p:cNvSpPr/>
              <p:nvPr/>
            </p:nvSpPr>
            <p:spPr>
              <a:xfrm>
                <a:off x="5267160" y="3233520"/>
                <a:ext cx="3306960" cy="260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267160" y="3233520"/>
                <a:ext cx="3306960" cy="26031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267160" y="3233520"/>
                <a:ext cx="3306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267160" y="5837040"/>
                <a:ext cx="3306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8574120" y="3233160"/>
                <a:ext cx="1440" cy="2603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5267160" y="3233160"/>
                <a:ext cx="1800" cy="2603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5267160" y="579852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267160" y="3233520"/>
                <a:ext cx="18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236920" y="5860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6089760" y="579852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089760" y="323352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59160" y="5860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6919920" y="579852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919920" y="323352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851160" y="58608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7743960" y="579852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743960" y="323352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75200" y="58608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8574120" y="579852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574120" y="323352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505360" y="58608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67160" y="583704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8535960" y="58370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168520" y="5769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67160" y="551016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8535960" y="551016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100120" y="54417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67160" y="518292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8535960" y="51829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100120" y="5113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67160" y="485460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8535960" y="485460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100120" y="47862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67160" y="45352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8535960" y="45352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100120" y="44672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267160" y="420840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8535960" y="420840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031720" y="4138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267160" y="387972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8535960" y="387972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31720" y="3811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267160" y="3552840"/>
                <a:ext cx="30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>
                <a:off x="8535960" y="355284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031720" y="3484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267160" y="323352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>
                <a:off x="8535960" y="323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031720" y="31640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267160" y="3332160"/>
                <a:ext cx="3313080" cy="2299680"/>
              </a:xfrm>
              <a:custGeom>
                <a:avLst/>
                <a:gdLst/>
                <a:ahLst/>
                <a:rect l="l" t="t" r="r" b="b"/>
                <a:pathLst>
                  <a:path w="2087" h="1449">
                    <a:moveTo>
                      <a:pt x="0" y="1396"/>
                    </a:moveTo>
                    <a:lnTo>
                      <a:pt x="19" y="1415"/>
                    </a:lnTo>
                    <a:lnTo>
                      <a:pt x="39" y="1410"/>
                    </a:lnTo>
                    <a:lnTo>
                      <a:pt x="63" y="1410"/>
                    </a:lnTo>
                    <a:lnTo>
                      <a:pt x="82" y="1410"/>
                    </a:lnTo>
                    <a:lnTo>
                      <a:pt x="101" y="1410"/>
                    </a:lnTo>
                    <a:lnTo>
                      <a:pt x="125" y="1410"/>
                    </a:lnTo>
                    <a:lnTo>
                      <a:pt x="144" y="1410"/>
                    </a:lnTo>
                    <a:lnTo>
                      <a:pt x="163" y="1410"/>
                    </a:lnTo>
                    <a:lnTo>
                      <a:pt x="187" y="1415"/>
                    </a:lnTo>
                    <a:lnTo>
                      <a:pt x="207" y="1415"/>
                    </a:lnTo>
                    <a:lnTo>
                      <a:pt x="226" y="1415"/>
                    </a:lnTo>
                    <a:lnTo>
                      <a:pt x="250" y="1415"/>
                    </a:lnTo>
                    <a:lnTo>
                      <a:pt x="269" y="1420"/>
                    </a:lnTo>
                    <a:lnTo>
                      <a:pt x="288" y="1420"/>
                    </a:lnTo>
                    <a:lnTo>
                      <a:pt x="312" y="1420"/>
                    </a:lnTo>
                    <a:lnTo>
                      <a:pt x="331" y="1420"/>
                    </a:lnTo>
                    <a:lnTo>
                      <a:pt x="351" y="1425"/>
                    </a:lnTo>
                    <a:lnTo>
                      <a:pt x="375" y="1425"/>
                    </a:lnTo>
                    <a:lnTo>
                      <a:pt x="394" y="1425"/>
                    </a:lnTo>
                    <a:lnTo>
                      <a:pt x="413" y="1430"/>
                    </a:lnTo>
                    <a:lnTo>
                      <a:pt x="437" y="1430"/>
                    </a:lnTo>
                    <a:lnTo>
                      <a:pt x="456" y="1434"/>
                    </a:lnTo>
                    <a:lnTo>
                      <a:pt x="475" y="1434"/>
                    </a:lnTo>
                    <a:lnTo>
                      <a:pt x="499" y="1439"/>
                    </a:lnTo>
                    <a:lnTo>
                      <a:pt x="518" y="1439"/>
                    </a:lnTo>
                    <a:lnTo>
                      <a:pt x="538" y="1439"/>
                    </a:lnTo>
                    <a:lnTo>
                      <a:pt x="562" y="1439"/>
                    </a:lnTo>
                    <a:lnTo>
                      <a:pt x="581" y="1444"/>
                    </a:lnTo>
                    <a:lnTo>
                      <a:pt x="600" y="1444"/>
                    </a:lnTo>
                    <a:lnTo>
                      <a:pt x="624" y="1444"/>
                    </a:lnTo>
                    <a:lnTo>
                      <a:pt x="643" y="1449"/>
                    </a:lnTo>
                    <a:lnTo>
                      <a:pt x="662" y="1449"/>
                    </a:lnTo>
                    <a:lnTo>
                      <a:pt x="686" y="1449"/>
                    </a:lnTo>
                    <a:lnTo>
                      <a:pt x="706" y="1449"/>
                    </a:lnTo>
                    <a:lnTo>
                      <a:pt x="725" y="1449"/>
                    </a:lnTo>
                    <a:lnTo>
                      <a:pt x="749" y="1449"/>
                    </a:lnTo>
                    <a:lnTo>
                      <a:pt x="768" y="1449"/>
                    </a:lnTo>
                    <a:lnTo>
                      <a:pt x="787" y="1449"/>
                    </a:lnTo>
                    <a:lnTo>
                      <a:pt x="811" y="1444"/>
                    </a:lnTo>
                    <a:lnTo>
                      <a:pt x="830" y="1444"/>
                    </a:lnTo>
                    <a:lnTo>
                      <a:pt x="850" y="1444"/>
                    </a:lnTo>
                    <a:lnTo>
                      <a:pt x="874" y="1439"/>
                    </a:lnTo>
                    <a:lnTo>
                      <a:pt x="893" y="1434"/>
                    </a:lnTo>
                    <a:lnTo>
                      <a:pt x="912" y="1430"/>
                    </a:lnTo>
                    <a:lnTo>
                      <a:pt x="936" y="1425"/>
                    </a:lnTo>
                    <a:lnTo>
                      <a:pt x="955" y="1420"/>
                    </a:lnTo>
                    <a:lnTo>
                      <a:pt x="974" y="1415"/>
                    </a:lnTo>
                    <a:lnTo>
                      <a:pt x="998" y="1406"/>
                    </a:lnTo>
                    <a:lnTo>
                      <a:pt x="1017" y="1401"/>
                    </a:lnTo>
                    <a:lnTo>
                      <a:pt x="1037" y="1391"/>
                    </a:lnTo>
                    <a:lnTo>
                      <a:pt x="1061" y="1382"/>
                    </a:lnTo>
                    <a:lnTo>
                      <a:pt x="1080" y="1372"/>
                    </a:lnTo>
                    <a:lnTo>
                      <a:pt x="1099" y="1362"/>
                    </a:lnTo>
                    <a:lnTo>
                      <a:pt x="1123" y="1348"/>
                    </a:lnTo>
                    <a:lnTo>
                      <a:pt x="1142" y="1338"/>
                    </a:lnTo>
                    <a:lnTo>
                      <a:pt x="1161" y="1324"/>
                    </a:lnTo>
                    <a:lnTo>
                      <a:pt x="1185" y="1310"/>
                    </a:lnTo>
                    <a:lnTo>
                      <a:pt x="1205" y="1295"/>
                    </a:lnTo>
                    <a:lnTo>
                      <a:pt x="1224" y="1281"/>
                    </a:lnTo>
                    <a:lnTo>
                      <a:pt x="1248" y="1262"/>
                    </a:lnTo>
                    <a:lnTo>
                      <a:pt x="1267" y="1242"/>
                    </a:lnTo>
                    <a:lnTo>
                      <a:pt x="1286" y="1223"/>
                    </a:lnTo>
                    <a:lnTo>
                      <a:pt x="1310" y="1199"/>
                    </a:lnTo>
                    <a:lnTo>
                      <a:pt x="1329" y="1175"/>
                    </a:lnTo>
                    <a:lnTo>
                      <a:pt x="1349" y="1151"/>
                    </a:lnTo>
                    <a:lnTo>
                      <a:pt x="1373" y="1122"/>
                    </a:lnTo>
                    <a:lnTo>
                      <a:pt x="1392" y="1094"/>
                    </a:lnTo>
                    <a:lnTo>
                      <a:pt x="1411" y="1060"/>
                    </a:lnTo>
                    <a:lnTo>
                      <a:pt x="1435" y="1022"/>
                    </a:lnTo>
                    <a:lnTo>
                      <a:pt x="1454" y="983"/>
                    </a:lnTo>
                    <a:lnTo>
                      <a:pt x="1473" y="935"/>
                    </a:lnTo>
                    <a:lnTo>
                      <a:pt x="1497" y="892"/>
                    </a:lnTo>
                    <a:lnTo>
                      <a:pt x="1517" y="830"/>
                    </a:lnTo>
                    <a:lnTo>
                      <a:pt x="1536" y="763"/>
                    </a:lnTo>
                    <a:lnTo>
                      <a:pt x="1560" y="696"/>
                    </a:lnTo>
                    <a:lnTo>
                      <a:pt x="1579" y="614"/>
                    </a:lnTo>
                    <a:lnTo>
                      <a:pt x="1598" y="513"/>
                    </a:lnTo>
                    <a:lnTo>
                      <a:pt x="1622" y="417"/>
                    </a:lnTo>
                    <a:lnTo>
                      <a:pt x="1641" y="297"/>
                    </a:lnTo>
                    <a:lnTo>
                      <a:pt x="1660" y="192"/>
                    </a:lnTo>
                    <a:lnTo>
                      <a:pt x="1684" y="67"/>
                    </a:lnTo>
                    <a:lnTo>
                      <a:pt x="1704" y="9"/>
                    </a:lnTo>
                    <a:lnTo>
                      <a:pt x="1723" y="0"/>
                    </a:lnTo>
                    <a:lnTo>
                      <a:pt x="1747" y="19"/>
                    </a:lnTo>
                    <a:lnTo>
                      <a:pt x="1766" y="48"/>
                    </a:lnTo>
                    <a:lnTo>
                      <a:pt x="1785" y="67"/>
                    </a:lnTo>
                    <a:lnTo>
                      <a:pt x="1809" y="134"/>
                    </a:lnTo>
                    <a:lnTo>
                      <a:pt x="1828" y="235"/>
                    </a:lnTo>
                    <a:lnTo>
                      <a:pt x="1848" y="360"/>
                    </a:lnTo>
                    <a:lnTo>
                      <a:pt x="1872" y="465"/>
                    </a:lnTo>
                    <a:lnTo>
                      <a:pt x="1891" y="580"/>
                    </a:lnTo>
                    <a:lnTo>
                      <a:pt x="1910" y="652"/>
                    </a:lnTo>
                    <a:lnTo>
                      <a:pt x="1934" y="743"/>
                    </a:lnTo>
                    <a:lnTo>
                      <a:pt x="1953" y="815"/>
                    </a:lnTo>
                    <a:lnTo>
                      <a:pt x="1972" y="878"/>
                    </a:lnTo>
                    <a:lnTo>
                      <a:pt x="1996" y="935"/>
                    </a:lnTo>
                    <a:lnTo>
                      <a:pt x="2016" y="979"/>
                    </a:lnTo>
                    <a:lnTo>
                      <a:pt x="2035" y="1027"/>
                    </a:lnTo>
                    <a:lnTo>
                      <a:pt x="2059" y="1070"/>
                    </a:lnTo>
                    <a:lnTo>
                      <a:pt x="2078" y="1108"/>
                    </a:lnTo>
                    <a:lnTo>
                      <a:pt x="2087" y="1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267160" y="3751200"/>
                <a:ext cx="3313080" cy="1971360"/>
              </a:xfrm>
              <a:custGeom>
                <a:avLst/>
                <a:gdLst/>
                <a:ahLst/>
                <a:rect l="l" t="t" r="r" b="b"/>
                <a:pathLst>
                  <a:path w="2087" h="1242">
                    <a:moveTo>
                      <a:pt x="0" y="1180"/>
                    </a:moveTo>
                    <a:lnTo>
                      <a:pt x="19" y="1190"/>
                    </a:lnTo>
                    <a:lnTo>
                      <a:pt x="39" y="1190"/>
                    </a:lnTo>
                    <a:lnTo>
                      <a:pt x="63" y="1190"/>
                    </a:lnTo>
                    <a:lnTo>
                      <a:pt x="82" y="1190"/>
                    </a:lnTo>
                    <a:lnTo>
                      <a:pt x="101" y="1185"/>
                    </a:lnTo>
                    <a:lnTo>
                      <a:pt x="125" y="1190"/>
                    </a:lnTo>
                    <a:lnTo>
                      <a:pt x="144" y="1190"/>
                    </a:lnTo>
                    <a:lnTo>
                      <a:pt x="163" y="1190"/>
                    </a:lnTo>
                    <a:lnTo>
                      <a:pt x="187" y="1190"/>
                    </a:lnTo>
                    <a:lnTo>
                      <a:pt x="207" y="1190"/>
                    </a:lnTo>
                    <a:lnTo>
                      <a:pt x="226" y="1190"/>
                    </a:lnTo>
                    <a:lnTo>
                      <a:pt x="250" y="1190"/>
                    </a:lnTo>
                    <a:lnTo>
                      <a:pt x="269" y="1190"/>
                    </a:lnTo>
                    <a:lnTo>
                      <a:pt x="288" y="1194"/>
                    </a:lnTo>
                    <a:lnTo>
                      <a:pt x="312" y="1194"/>
                    </a:lnTo>
                    <a:lnTo>
                      <a:pt x="331" y="1194"/>
                    </a:lnTo>
                    <a:lnTo>
                      <a:pt x="351" y="1194"/>
                    </a:lnTo>
                    <a:lnTo>
                      <a:pt x="375" y="1199"/>
                    </a:lnTo>
                    <a:lnTo>
                      <a:pt x="394" y="1199"/>
                    </a:lnTo>
                    <a:lnTo>
                      <a:pt x="413" y="1199"/>
                    </a:lnTo>
                    <a:lnTo>
                      <a:pt x="437" y="1199"/>
                    </a:lnTo>
                    <a:lnTo>
                      <a:pt x="456" y="1204"/>
                    </a:lnTo>
                    <a:lnTo>
                      <a:pt x="475" y="1204"/>
                    </a:lnTo>
                    <a:lnTo>
                      <a:pt x="499" y="1209"/>
                    </a:lnTo>
                    <a:lnTo>
                      <a:pt x="518" y="1209"/>
                    </a:lnTo>
                    <a:lnTo>
                      <a:pt x="538" y="1209"/>
                    </a:lnTo>
                    <a:lnTo>
                      <a:pt x="562" y="1213"/>
                    </a:lnTo>
                    <a:lnTo>
                      <a:pt x="581" y="1213"/>
                    </a:lnTo>
                    <a:lnTo>
                      <a:pt x="600" y="1213"/>
                    </a:lnTo>
                    <a:lnTo>
                      <a:pt x="624" y="1218"/>
                    </a:lnTo>
                    <a:lnTo>
                      <a:pt x="643" y="1218"/>
                    </a:lnTo>
                    <a:lnTo>
                      <a:pt x="662" y="1223"/>
                    </a:lnTo>
                    <a:lnTo>
                      <a:pt x="686" y="1223"/>
                    </a:lnTo>
                    <a:lnTo>
                      <a:pt x="706" y="1223"/>
                    </a:lnTo>
                    <a:lnTo>
                      <a:pt x="725" y="1228"/>
                    </a:lnTo>
                    <a:lnTo>
                      <a:pt x="749" y="1228"/>
                    </a:lnTo>
                    <a:lnTo>
                      <a:pt x="768" y="1233"/>
                    </a:lnTo>
                    <a:lnTo>
                      <a:pt x="787" y="1233"/>
                    </a:lnTo>
                    <a:lnTo>
                      <a:pt x="811" y="1233"/>
                    </a:lnTo>
                    <a:lnTo>
                      <a:pt x="830" y="1237"/>
                    </a:lnTo>
                    <a:lnTo>
                      <a:pt x="850" y="1237"/>
                    </a:lnTo>
                    <a:lnTo>
                      <a:pt x="874" y="1237"/>
                    </a:lnTo>
                    <a:lnTo>
                      <a:pt x="893" y="1237"/>
                    </a:lnTo>
                    <a:lnTo>
                      <a:pt x="912" y="1242"/>
                    </a:lnTo>
                    <a:lnTo>
                      <a:pt x="936" y="1242"/>
                    </a:lnTo>
                    <a:lnTo>
                      <a:pt x="955" y="1242"/>
                    </a:lnTo>
                    <a:lnTo>
                      <a:pt x="974" y="1242"/>
                    </a:lnTo>
                    <a:lnTo>
                      <a:pt x="998" y="1242"/>
                    </a:lnTo>
                    <a:lnTo>
                      <a:pt x="1017" y="1242"/>
                    </a:lnTo>
                    <a:lnTo>
                      <a:pt x="1037" y="1237"/>
                    </a:lnTo>
                    <a:lnTo>
                      <a:pt x="1061" y="1237"/>
                    </a:lnTo>
                    <a:lnTo>
                      <a:pt x="1080" y="1233"/>
                    </a:lnTo>
                    <a:lnTo>
                      <a:pt x="1099" y="1233"/>
                    </a:lnTo>
                    <a:lnTo>
                      <a:pt x="1123" y="1228"/>
                    </a:lnTo>
                    <a:lnTo>
                      <a:pt x="1142" y="1223"/>
                    </a:lnTo>
                    <a:lnTo>
                      <a:pt x="1161" y="1218"/>
                    </a:lnTo>
                    <a:lnTo>
                      <a:pt x="1185" y="1213"/>
                    </a:lnTo>
                    <a:lnTo>
                      <a:pt x="1205" y="1209"/>
                    </a:lnTo>
                    <a:lnTo>
                      <a:pt x="1224" y="1204"/>
                    </a:lnTo>
                    <a:lnTo>
                      <a:pt x="1248" y="1199"/>
                    </a:lnTo>
                    <a:lnTo>
                      <a:pt x="1267" y="1190"/>
                    </a:lnTo>
                    <a:lnTo>
                      <a:pt x="1286" y="1180"/>
                    </a:lnTo>
                    <a:lnTo>
                      <a:pt x="1310" y="1175"/>
                    </a:lnTo>
                    <a:lnTo>
                      <a:pt x="1329" y="1166"/>
                    </a:lnTo>
                    <a:lnTo>
                      <a:pt x="1349" y="1156"/>
                    </a:lnTo>
                    <a:lnTo>
                      <a:pt x="1373" y="1146"/>
                    </a:lnTo>
                    <a:lnTo>
                      <a:pt x="1392" y="1137"/>
                    </a:lnTo>
                    <a:lnTo>
                      <a:pt x="1411" y="1122"/>
                    </a:lnTo>
                    <a:lnTo>
                      <a:pt x="1435" y="1113"/>
                    </a:lnTo>
                    <a:lnTo>
                      <a:pt x="1454" y="1098"/>
                    </a:lnTo>
                    <a:lnTo>
                      <a:pt x="1473" y="1084"/>
                    </a:lnTo>
                    <a:lnTo>
                      <a:pt x="1497" y="1070"/>
                    </a:lnTo>
                    <a:lnTo>
                      <a:pt x="1517" y="1055"/>
                    </a:lnTo>
                    <a:lnTo>
                      <a:pt x="1536" y="1036"/>
                    </a:lnTo>
                    <a:lnTo>
                      <a:pt x="1560" y="1017"/>
                    </a:lnTo>
                    <a:lnTo>
                      <a:pt x="1579" y="998"/>
                    </a:lnTo>
                    <a:lnTo>
                      <a:pt x="1598" y="974"/>
                    </a:lnTo>
                    <a:lnTo>
                      <a:pt x="1622" y="950"/>
                    </a:lnTo>
                    <a:lnTo>
                      <a:pt x="1641" y="926"/>
                    </a:lnTo>
                    <a:lnTo>
                      <a:pt x="1660" y="897"/>
                    </a:lnTo>
                    <a:lnTo>
                      <a:pt x="1684" y="863"/>
                    </a:lnTo>
                    <a:lnTo>
                      <a:pt x="1704" y="830"/>
                    </a:lnTo>
                    <a:lnTo>
                      <a:pt x="1723" y="787"/>
                    </a:lnTo>
                    <a:lnTo>
                      <a:pt x="1747" y="739"/>
                    </a:lnTo>
                    <a:lnTo>
                      <a:pt x="1766" y="691"/>
                    </a:lnTo>
                    <a:lnTo>
                      <a:pt x="1785" y="633"/>
                    </a:lnTo>
                    <a:lnTo>
                      <a:pt x="1809" y="566"/>
                    </a:lnTo>
                    <a:lnTo>
                      <a:pt x="1828" y="494"/>
                    </a:lnTo>
                    <a:lnTo>
                      <a:pt x="1848" y="408"/>
                    </a:lnTo>
                    <a:lnTo>
                      <a:pt x="1872" y="302"/>
                    </a:lnTo>
                    <a:lnTo>
                      <a:pt x="1891" y="187"/>
                    </a:lnTo>
                    <a:lnTo>
                      <a:pt x="1910" y="77"/>
                    </a:lnTo>
                    <a:lnTo>
                      <a:pt x="1934" y="0"/>
                    </a:lnTo>
                    <a:lnTo>
                      <a:pt x="1953" y="5"/>
                    </a:lnTo>
                    <a:lnTo>
                      <a:pt x="1972" y="225"/>
                    </a:lnTo>
                    <a:lnTo>
                      <a:pt x="1996" y="671"/>
                    </a:lnTo>
                    <a:lnTo>
                      <a:pt x="2016" y="734"/>
                    </a:lnTo>
                    <a:lnTo>
                      <a:pt x="2035" y="307"/>
                    </a:lnTo>
                    <a:lnTo>
                      <a:pt x="2059" y="81"/>
                    </a:lnTo>
                    <a:lnTo>
                      <a:pt x="2078" y="62"/>
                    </a:lnTo>
                    <a:lnTo>
                      <a:pt x="2087" y="8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1" name=""/>
            <p:cNvSpPr/>
            <p:nvPr/>
          </p:nvSpPr>
          <p:spPr>
            <a:xfrm>
              <a:off x="6497640" y="5956200"/>
              <a:ext cx="6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4362120" y="4359240"/>
              <a:ext cx="1155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nitude 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3" name=""/>
            <p:cNvGrpSpPr/>
            <p:nvPr/>
          </p:nvGrpSpPr>
          <p:grpSpPr>
            <a:xfrm>
              <a:off x="5425920" y="3298680"/>
              <a:ext cx="951120" cy="517320"/>
              <a:chOff x="5425920" y="3298680"/>
              <a:chExt cx="951120" cy="517320"/>
            </a:xfrm>
          </p:grpSpPr>
          <p:sp>
            <p:nvSpPr>
              <p:cNvPr id="1134" name=""/>
              <p:cNvSpPr/>
              <p:nvPr/>
            </p:nvSpPr>
            <p:spPr>
              <a:xfrm>
                <a:off x="5796000" y="3298680"/>
                <a:ext cx="58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425920" y="3434760"/>
                <a:ext cx="37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25920" y="3675960"/>
                <a:ext cx="39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796000" y="3539520"/>
                <a:ext cx="58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"/>
          <p:cNvSpPr/>
          <p:nvPr/>
        </p:nvSpPr>
        <p:spPr>
          <a:xfrm>
            <a:off x="3636000" y="12384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quare wave Pul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316400" y="1751040"/>
                <a:ext cx="7635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40" name=""/>
          <p:cNvGrpSpPr/>
          <p:nvPr/>
        </p:nvGrpSpPr>
        <p:grpSpPr>
          <a:xfrm>
            <a:off x="146160" y="3165480"/>
            <a:ext cx="3937680" cy="3068640"/>
            <a:chOff x="146160" y="3165480"/>
            <a:chExt cx="3937680" cy="3068640"/>
          </a:xfrm>
        </p:grpSpPr>
        <p:sp>
          <p:nvSpPr>
            <p:cNvPr id="1141" name=""/>
            <p:cNvSpPr/>
            <p:nvPr/>
          </p:nvSpPr>
          <p:spPr>
            <a:xfrm>
              <a:off x="1968480" y="5957640"/>
              <a:ext cx="6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16200000">
              <a:off x="-201960" y="4359600"/>
              <a:ext cx="115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nitude 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537840" y="3165480"/>
              <a:ext cx="3546000" cy="2849760"/>
              <a:chOff x="537840" y="3165480"/>
              <a:chExt cx="3546000" cy="2849760"/>
            </a:xfrm>
          </p:grpSpPr>
          <p:sp>
            <p:nvSpPr>
              <p:cNvPr id="1144" name=""/>
              <p:cNvSpPr/>
              <p:nvPr/>
            </p:nvSpPr>
            <p:spPr>
              <a:xfrm>
                <a:off x="704880" y="3235320"/>
                <a:ext cx="3306600" cy="260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04880" y="3235320"/>
                <a:ext cx="3306600" cy="26035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04880" y="3235320"/>
                <a:ext cx="3306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4880" y="5838840"/>
                <a:ext cx="3306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4011480" y="3235320"/>
                <a:ext cx="1800" cy="260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04880" y="3235320"/>
                <a:ext cx="1440" cy="260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704880" y="580068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04880" y="323532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74280" y="5862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1527120" y="580068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527120" y="3235320"/>
                <a:ext cx="18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496520" y="5862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2357280" y="580068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357280" y="3235320"/>
                <a:ext cx="18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288880" y="58626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3181320" y="580068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181320" y="323532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112560" y="58626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4011480" y="580068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011480" y="3235320"/>
                <a:ext cx="18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3080" y="58626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04880" y="583884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3973320" y="58388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05880" y="577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4880" y="5511600"/>
                <a:ext cx="3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3973320" y="551160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05880" y="5443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04880" y="518472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3973320" y="51847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37840" y="51148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04880" y="485604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3973320" y="48560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37840" y="47876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04880" y="45370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3973320" y="453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37840" y="44686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04880" y="4209840"/>
                <a:ext cx="3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3973320" y="42098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37840" y="41400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04880" y="3881160"/>
                <a:ext cx="3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3973320" y="3881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37840" y="38131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04880" y="35542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973320" y="35542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37840" y="34858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04880" y="323532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3973320" y="32353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37840" y="3165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4880" y="3477960"/>
                <a:ext cx="3313080" cy="1013040"/>
              </a:xfrm>
              <a:custGeom>
                <a:avLst/>
                <a:gdLst/>
                <a:ahLst/>
                <a:rect l="l" t="t" r="r" b="b"/>
                <a:pathLst>
                  <a:path w="2087" h="638">
                    <a:moveTo>
                      <a:pt x="0" y="77"/>
                    </a:moveTo>
                    <a:lnTo>
                      <a:pt x="19" y="14"/>
                    </a:lnTo>
                    <a:lnTo>
                      <a:pt x="39" y="0"/>
                    </a:lnTo>
                    <a:lnTo>
                      <a:pt x="63" y="0"/>
                    </a:lnTo>
                    <a:lnTo>
                      <a:pt x="82" y="5"/>
                    </a:lnTo>
                    <a:lnTo>
                      <a:pt x="101" y="10"/>
                    </a:lnTo>
                    <a:lnTo>
                      <a:pt x="125" y="10"/>
                    </a:lnTo>
                    <a:lnTo>
                      <a:pt x="144" y="10"/>
                    </a:lnTo>
                    <a:lnTo>
                      <a:pt x="163" y="10"/>
                    </a:lnTo>
                    <a:lnTo>
                      <a:pt x="187" y="5"/>
                    </a:lnTo>
                    <a:lnTo>
                      <a:pt x="207" y="10"/>
                    </a:lnTo>
                    <a:lnTo>
                      <a:pt x="226" y="14"/>
                    </a:lnTo>
                    <a:lnTo>
                      <a:pt x="250" y="24"/>
                    </a:lnTo>
                    <a:lnTo>
                      <a:pt x="269" y="19"/>
                    </a:lnTo>
                    <a:lnTo>
                      <a:pt x="288" y="34"/>
                    </a:lnTo>
                    <a:lnTo>
                      <a:pt x="312" y="34"/>
                    </a:lnTo>
                    <a:lnTo>
                      <a:pt x="331" y="38"/>
                    </a:lnTo>
                    <a:lnTo>
                      <a:pt x="351" y="34"/>
                    </a:lnTo>
                    <a:lnTo>
                      <a:pt x="375" y="43"/>
                    </a:lnTo>
                    <a:lnTo>
                      <a:pt x="394" y="53"/>
                    </a:lnTo>
                    <a:lnTo>
                      <a:pt x="413" y="67"/>
                    </a:lnTo>
                    <a:lnTo>
                      <a:pt x="437" y="77"/>
                    </a:lnTo>
                    <a:lnTo>
                      <a:pt x="456" y="77"/>
                    </a:lnTo>
                    <a:lnTo>
                      <a:pt x="475" y="86"/>
                    </a:lnTo>
                    <a:lnTo>
                      <a:pt x="499" y="82"/>
                    </a:lnTo>
                    <a:lnTo>
                      <a:pt x="518" y="106"/>
                    </a:lnTo>
                    <a:lnTo>
                      <a:pt x="538" y="106"/>
                    </a:lnTo>
                    <a:lnTo>
                      <a:pt x="562" y="115"/>
                    </a:lnTo>
                    <a:lnTo>
                      <a:pt x="581" y="130"/>
                    </a:lnTo>
                    <a:lnTo>
                      <a:pt x="600" y="139"/>
                    </a:lnTo>
                    <a:lnTo>
                      <a:pt x="624" y="144"/>
                    </a:lnTo>
                    <a:lnTo>
                      <a:pt x="643" y="149"/>
                    </a:lnTo>
                    <a:lnTo>
                      <a:pt x="662" y="168"/>
                    </a:lnTo>
                    <a:lnTo>
                      <a:pt x="686" y="178"/>
                    </a:lnTo>
                    <a:lnTo>
                      <a:pt x="706" y="197"/>
                    </a:lnTo>
                    <a:lnTo>
                      <a:pt x="725" y="202"/>
                    </a:lnTo>
                    <a:lnTo>
                      <a:pt x="749" y="202"/>
                    </a:lnTo>
                    <a:lnTo>
                      <a:pt x="768" y="216"/>
                    </a:lnTo>
                    <a:lnTo>
                      <a:pt x="787" y="230"/>
                    </a:lnTo>
                    <a:lnTo>
                      <a:pt x="811" y="245"/>
                    </a:lnTo>
                    <a:lnTo>
                      <a:pt x="830" y="250"/>
                    </a:lnTo>
                    <a:lnTo>
                      <a:pt x="850" y="278"/>
                    </a:lnTo>
                    <a:lnTo>
                      <a:pt x="874" y="273"/>
                    </a:lnTo>
                    <a:lnTo>
                      <a:pt x="893" y="278"/>
                    </a:lnTo>
                    <a:lnTo>
                      <a:pt x="912" y="297"/>
                    </a:lnTo>
                    <a:lnTo>
                      <a:pt x="936" y="317"/>
                    </a:lnTo>
                    <a:lnTo>
                      <a:pt x="955" y="326"/>
                    </a:lnTo>
                    <a:lnTo>
                      <a:pt x="974" y="336"/>
                    </a:lnTo>
                    <a:lnTo>
                      <a:pt x="998" y="350"/>
                    </a:lnTo>
                    <a:lnTo>
                      <a:pt x="1017" y="369"/>
                    </a:lnTo>
                    <a:lnTo>
                      <a:pt x="1037" y="369"/>
                    </a:lnTo>
                    <a:lnTo>
                      <a:pt x="1061" y="384"/>
                    </a:lnTo>
                    <a:lnTo>
                      <a:pt x="1080" y="398"/>
                    </a:lnTo>
                    <a:lnTo>
                      <a:pt x="1099" y="413"/>
                    </a:lnTo>
                    <a:lnTo>
                      <a:pt x="1123" y="422"/>
                    </a:lnTo>
                    <a:lnTo>
                      <a:pt x="1142" y="432"/>
                    </a:lnTo>
                    <a:lnTo>
                      <a:pt x="1161" y="456"/>
                    </a:lnTo>
                    <a:lnTo>
                      <a:pt x="1185" y="461"/>
                    </a:lnTo>
                    <a:lnTo>
                      <a:pt x="1205" y="461"/>
                    </a:lnTo>
                    <a:lnTo>
                      <a:pt x="1224" y="489"/>
                    </a:lnTo>
                    <a:lnTo>
                      <a:pt x="1248" y="489"/>
                    </a:lnTo>
                    <a:lnTo>
                      <a:pt x="1267" y="494"/>
                    </a:lnTo>
                    <a:lnTo>
                      <a:pt x="1286" y="504"/>
                    </a:lnTo>
                    <a:lnTo>
                      <a:pt x="1310" y="533"/>
                    </a:lnTo>
                    <a:lnTo>
                      <a:pt x="1329" y="537"/>
                    </a:lnTo>
                    <a:lnTo>
                      <a:pt x="1349" y="542"/>
                    </a:lnTo>
                    <a:lnTo>
                      <a:pt x="1373" y="552"/>
                    </a:lnTo>
                    <a:lnTo>
                      <a:pt x="1392" y="561"/>
                    </a:lnTo>
                    <a:lnTo>
                      <a:pt x="1411" y="576"/>
                    </a:lnTo>
                    <a:lnTo>
                      <a:pt x="1435" y="581"/>
                    </a:lnTo>
                    <a:lnTo>
                      <a:pt x="1454" y="600"/>
                    </a:lnTo>
                    <a:lnTo>
                      <a:pt x="1473" y="590"/>
                    </a:lnTo>
                    <a:lnTo>
                      <a:pt x="1497" y="600"/>
                    </a:lnTo>
                    <a:lnTo>
                      <a:pt x="1517" y="605"/>
                    </a:lnTo>
                    <a:lnTo>
                      <a:pt x="1536" y="614"/>
                    </a:lnTo>
                    <a:lnTo>
                      <a:pt x="1560" y="619"/>
                    </a:lnTo>
                    <a:lnTo>
                      <a:pt x="1579" y="628"/>
                    </a:lnTo>
                    <a:lnTo>
                      <a:pt x="1598" y="628"/>
                    </a:lnTo>
                    <a:lnTo>
                      <a:pt x="1622" y="624"/>
                    </a:lnTo>
                    <a:lnTo>
                      <a:pt x="1641" y="628"/>
                    </a:lnTo>
                    <a:lnTo>
                      <a:pt x="1660" y="633"/>
                    </a:lnTo>
                    <a:lnTo>
                      <a:pt x="1684" y="633"/>
                    </a:lnTo>
                    <a:lnTo>
                      <a:pt x="1704" y="628"/>
                    </a:lnTo>
                    <a:lnTo>
                      <a:pt x="1723" y="628"/>
                    </a:lnTo>
                    <a:lnTo>
                      <a:pt x="1747" y="638"/>
                    </a:lnTo>
                    <a:lnTo>
                      <a:pt x="1766" y="633"/>
                    </a:lnTo>
                    <a:lnTo>
                      <a:pt x="1785" y="624"/>
                    </a:lnTo>
                    <a:lnTo>
                      <a:pt x="1809" y="624"/>
                    </a:lnTo>
                    <a:lnTo>
                      <a:pt x="1828" y="619"/>
                    </a:lnTo>
                    <a:lnTo>
                      <a:pt x="1848" y="609"/>
                    </a:lnTo>
                    <a:lnTo>
                      <a:pt x="1872" y="600"/>
                    </a:lnTo>
                    <a:lnTo>
                      <a:pt x="1891" y="600"/>
                    </a:lnTo>
                    <a:lnTo>
                      <a:pt x="1910" y="585"/>
                    </a:lnTo>
                    <a:lnTo>
                      <a:pt x="1934" y="581"/>
                    </a:lnTo>
                    <a:lnTo>
                      <a:pt x="1953" y="566"/>
                    </a:lnTo>
                    <a:lnTo>
                      <a:pt x="1972" y="552"/>
                    </a:lnTo>
                    <a:lnTo>
                      <a:pt x="1996" y="552"/>
                    </a:lnTo>
                    <a:lnTo>
                      <a:pt x="2016" y="537"/>
                    </a:lnTo>
                    <a:lnTo>
                      <a:pt x="2035" y="523"/>
                    </a:lnTo>
                    <a:lnTo>
                      <a:pt x="2059" y="509"/>
                    </a:lnTo>
                    <a:lnTo>
                      <a:pt x="2078" y="499"/>
                    </a:lnTo>
                    <a:lnTo>
                      <a:pt x="2087" y="49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12800" y="3235320"/>
                <a:ext cx="3305160" cy="1461960"/>
              </a:xfrm>
              <a:custGeom>
                <a:avLst/>
                <a:gdLst/>
                <a:ahLst/>
                <a:rect l="l" t="t" r="r" b="b"/>
                <a:pathLst>
                  <a:path w="2082" h="921">
                    <a:moveTo>
                      <a:pt x="0" y="0"/>
                    </a:moveTo>
                    <a:lnTo>
                      <a:pt x="14" y="239"/>
                    </a:lnTo>
                    <a:lnTo>
                      <a:pt x="34" y="215"/>
                    </a:lnTo>
                    <a:lnTo>
                      <a:pt x="58" y="201"/>
                    </a:lnTo>
                    <a:lnTo>
                      <a:pt x="77" y="191"/>
                    </a:lnTo>
                    <a:lnTo>
                      <a:pt x="96" y="187"/>
                    </a:lnTo>
                    <a:lnTo>
                      <a:pt x="120" y="187"/>
                    </a:lnTo>
                    <a:lnTo>
                      <a:pt x="139" y="191"/>
                    </a:lnTo>
                    <a:lnTo>
                      <a:pt x="158" y="196"/>
                    </a:lnTo>
                    <a:lnTo>
                      <a:pt x="182" y="196"/>
                    </a:lnTo>
                    <a:lnTo>
                      <a:pt x="202" y="191"/>
                    </a:lnTo>
                    <a:lnTo>
                      <a:pt x="221" y="206"/>
                    </a:lnTo>
                    <a:lnTo>
                      <a:pt x="245" y="201"/>
                    </a:lnTo>
                    <a:lnTo>
                      <a:pt x="264" y="201"/>
                    </a:lnTo>
                    <a:lnTo>
                      <a:pt x="283" y="201"/>
                    </a:lnTo>
                    <a:lnTo>
                      <a:pt x="307" y="201"/>
                    </a:lnTo>
                    <a:lnTo>
                      <a:pt x="326" y="206"/>
                    </a:lnTo>
                    <a:lnTo>
                      <a:pt x="346" y="211"/>
                    </a:lnTo>
                    <a:lnTo>
                      <a:pt x="370" y="215"/>
                    </a:lnTo>
                    <a:lnTo>
                      <a:pt x="389" y="220"/>
                    </a:lnTo>
                    <a:lnTo>
                      <a:pt x="408" y="211"/>
                    </a:lnTo>
                    <a:lnTo>
                      <a:pt x="432" y="225"/>
                    </a:lnTo>
                    <a:lnTo>
                      <a:pt x="451" y="225"/>
                    </a:lnTo>
                    <a:lnTo>
                      <a:pt x="470" y="225"/>
                    </a:lnTo>
                    <a:lnTo>
                      <a:pt x="494" y="235"/>
                    </a:lnTo>
                    <a:lnTo>
                      <a:pt x="513" y="244"/>
                    </a:lnTo>
                    <a:lnTo>
                      <a:pt x="533" y="244"/>
                    </a:lnTo>
                    <a:lnTo>
                      <a:pt x="557" y="249"/>
                    </a:lnTo>
                    <a:lnTo>
                      <a:pt x="576" y="254"/>
                    </a:lnTo>
                    <a:lnTo>
                      <a:pt x="595" y="263"/>
                    </a:lnTo>
                    <a:lnTo>
                      <a:pt x="619" y="263"/>
                    </a:lnTo>
                    <a:lnTo>
                      <a:pt x="638" y="268"/>
                    </a:lnTo>
                    <a:lnTo>
                      <a:pt x="657" y="278"/>
                    </a:lnTo>
                    <a:lnTo>
                      <a:pt x="681" y="287"/>
                    </a:lnTo>
                    <a:lnTo>
                      <a:pt x="701" y="292"/>
                    </a:lnTo>
                    <a:lnTo>
                      <a:pt x="720" y="302"/>
                    </a:lnTo>
                    <a:lnTo>
                      <a:pt x="744" y="302"/>
                    </a:lnTo>
                    <a:lnTo>
                      <a:pt x="763" y="307"/>
                    </a:lnTo>
                    <a:lnTo>
                      <a:pt x="782" y="311"/>
                    </a:lnTo>
                    <a:lnTo>
                      <a:pt x="806" y="326"/>
                    </a:lnTo>
                    <a:lnTo>
                      <a:pt x="825" y="326"/>
                    </a:lnTo>
                    <a:lnTo>
                      <a:pt x="845" y="340"/>
                    </a:lnTo>
                    <a:lnTo>
                      <a:pt x="869" y="350"/>
                    </a:lnTo>
                    <a:lnTo>
                      <a:pt x="888" y="355"/>
                    </a:lnTo>
                    <a:lnTo>
                      <a:pt x="907" y="359"/>
                    </a:lnTo>
                    <a:lnTo>
                      <a:pt x="931" y="364"/>
                    </a:lnTo>
                    <a:lnTo>
                      <a:pt x="950" y="379"/>
                    </a:lnTo>
                    <a:lnTo>
                      <a:pt x="969" y="383"/>
                    </a:lnTo>
                    <a:lnTo>
                      <a:pt x="993" y="393"/>
                    </a:lnTo>
                    <a:lnTo>
                      <a:pt x="1012" y="407"/>
                    </a:lnTo>
                    <a:lnTo>
                      <a:pt x="1032" y="407"/>
                    </a:lnTo>
                    <a:lnTo>
                      <a:pt x="1056" y="417"/>
                    </a:lnTo>
                    <a:lnTo>
                      <a:pt x="1075" y="431"/>
                    </a:lnTo>
                    <a:lnTo>
                      <a:pt x="1094" y="431"/>
                    </a:lnTo>
                    <a:lnTo>
                      <a:pt x="1118" y="446"/>
                    </a:lnTo>
                    <a:lnTo>
                      <a:pt x="1137" y="455"/>
                    </a:lnTo>
                    <a:lnTo>
                      <a:pt x="1156" y="465"/>
                    </a:lnTo>
                    <a:lnTo>
                      <a:pt x="1180" y="474"/>
                    </a:lnTo>
                    <a:lnTo>
                      <a:pt x="1200" y="489"/>
                    </a:lnTo>
                    <a:lnTo>
                      <a:pt x="1219" y="494"/>
                    </a:lnTo>
                    <a:lnTo>
                      <a:pt x="1243" y="503"/>
                    </a:lnTo>
                    <a:lnTo>
                      <a:pt x="1262" y="518"/>
                    </a:lnTo>
                    <a:lnTo>
                      <a:pt x="1281" y="522"/>
                    </a:lnTo>
                    <a:lnTo>
                      <a:pt x="1305" y="532"/>
                    </a:lnTo>
                    <a:lnTo>
                      <a:pt x="1324" y="537"/>
                    </a:lnTo>
                    <a:lnTo>
                      <a:pt x="1344" y="551"/>
                    </a:lnTo>
                    <a:lnTo>
                      <a:pt x="1368" y="561"/>
                    </a:lnTo>
                    <a:lnTo>
                      <a:pt x="1387" y="566"/>
                    </a:lnTo>
                    <a:lnTo>
                      <a:pt x="1406" y="580"/>
                    </a:lnTo>
                    <a:lnTo>
                      <a:pt x="1430" y="594"/>
                    </a:lnTo>
                    <a:lnTo>
                      <a:pt x="1449" y="599"/>
                    </a:lnTo>
                    <a:lnTo>
                      <a:pt x="1468" y="614"/>
                    </a:lnTo>
                    <a:lnTo>
                      <a:pt x="1492" y="623"/>
                    </a:lnTo>
                    <a:lnTo>
                      <a:pt x="1512" y="638"/>
                    </a:lnTo>
                    <a:lnTo>
                      <a:pt x="1531" y="642"/>
                    </a:lnTo>
                    <a:lnTo>
                      <a:pt x="1555" y="657"/>
                    </a:lnTo>
                    <a:lnTo>
                      <a:pt x="1574" y="666"/>
                    </a:lnTo>
                    <a:lnTo>
                      <a:pt x="1593" y="681"/>
                    </a:lnTo>
                    <a:lnTo>
                      <a:pt x="1617" y="681"/>
                    </a:lnTo>
                    <a:lnTo>
                      <a:pt x="1636" y="705"/>
                    </a:lnTo>
                    <a:lnTo>
                      <a:pt x="1655" y="705"/>
                    </a:lnTo>
                    <a:lnTo>
                      <a:pt x="1679" y="714"/>
                    </a:lnTo>
                    <a:lnTo>
                      <a:pt x="1699" y="729"/>
                    </a:lnTo>
                    <a:lnTo>
                      <a:pt x="1718" y="738"/>
                    </a:lnTo>
                    <a:lnTo>
                      <a:pt x="1742" y="748"/>
                    </a:lnTo>
                    <a:lnTo>
                      <a:pt x="1761" y="758"/>
                    </a:lnTo>
                    <a:lnTo>
                      <a:pt x="1780" y="767"/>
                    </a:lnTo>
                    <a:lnTo>
                      <a:pt x="1804" y="786"/>
                    </a:lnTo>
                    <a:lnTo>
                      <a:pt x="1823" y="791"/>
                    </a:lnTo>
                    <a:lnTo>
                      <a:pt x="1843" y="805"/>
                    </a:lnTo>
                    <a:lnTo>
                      <a:pt x="1867" y="805"/>
                    </a:lnTo>
                    <a:lnTo>
                      <a:pt x="1886" y="825"/>
                    </a:lnTo>
                    <a:lnTo>
                      <a:pt x="1905" y="829"/>
                    </a:lnTo>
                    <a:lnTo>
                      <a:pt x="1929" y="849"/>
                    </a:lnTo>
                    <a:lnTo>
                      <a:pt x="1948" y="853"/>
                    </a:lnTo>
                    <a:lnTo>
                      <a:pt x="1967" y="858"/>
                    </a:lnTo>
                    <a:lnTo>
                      <a:pt x="1991" y="877"/>
                    </a:lnTo>
                    <a:lnTo>
                      <a:pt x="2011" y="887"/>
                    </a:lnTo>
                    <a:lnTo>
                      <a:pt x="2030" y="892"/>
                    </a:lnTo>
                    <a:lnTo>
                      <a:pt x="2054" y="901"/>
                    </a:lnTo>
                    <a:lnTo>
                      <a:pt x="2073" y="916"/>
                    </a:lnTo>
                    <a:lnTo>
                      <a:pt x="2082" y="92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2968560" y="3298680"/>
              <a:ext cx="951120" cy="517680"/>
              <a:chOff x="2968560" y="3298680"/>
              <a:chExt cx="951120" cy="517680"/>
            </a:xfrm>
          </p:grpSpPr>
          <p:sp>
            <p:nvSpPr>
              <p:cNvPr id="1195" name=""/>
              <p:cNvSpPr/>
              <p:nvPr/>
            </p:nvSpPr>
            <p:spPr>
              <a:xfrm>
                <a:off x="3338640" y="3298680"/>
                <a:ext cx="58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968560" y="3435120"/>
                <a:ext cx="37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968560" y="3676320"/>
                <a:ext cx="39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338640" y="3539880"/>
                <a:ext cx="58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09680" y="38088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quare Wave Pulser -UTEX 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rcRect l="8059" t="5031" r="6689" b="5031"/>
          <a:stretch/>
        </p:blipFill>
        <p:spPr>
          <a:xfrm>
            <a:off x="441360" y="2308320"/>
            <a:ext cx="3638520" cy="287820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1982880" y="512748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6200000">
            <a:off x="-187920" y="3510360"/>
            <a:ext cx="115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tud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789200" y="5576760"/>
            <a:ext cx="99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4267080" y="1676520"/>
                <a:ext cx="6159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6275520" y="21225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ing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6200000">
            <a:off x="4338000" y="3454920"/>
            <a:ext cx="115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tud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05560" y="512748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4000" y="5961240"/>
            <a:ext cx="55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621400" y="6332400"/>
            <a:ext cx="550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73720" y="6200640"/>
                <a:ext cx="17002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297480" y="5759280"/>
                <a:ext cx="18986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3" name=""/>
          <p:cNvSpPr/>
          <p:nvPr/>
        </p:nvSpPr>
        <p:spPr>
          <a:xfrm>
            <a:off x="1711440" y="2122560"/>
            <a:ext cx="14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e width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029920" y="2320920"/>
            <a:ext cx="3618000" cy="2851200"/>
            <a:chOff x="5029920" y="2320920"/>
            <a:chExt cx="3618000" cy="2851200"/>
          </a:xfrm>
        </p:grpSpPr>
        <p:sp>
          <p:nvSpPr>
            <p:cNvPr id="1215" name=""/>
            <p:cNvSpPr/>
            <p:nvPr/>
          </p:nvSpPr>
          <p:spPr>
            <a:xfrm>
              <a:off x="5098680" y="4684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67160" y="2388960"/>
              <a:ext cx="3308400" cy="26082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67160" y="2388960"/>
              <a:ext cx="330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67160" y="4997160"/>
              <a:ext cx="330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8575560" y="2388600"/>
              <a:ext cx="1800" cy="260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5267160" y="2388600"/>
              <a:ext cx="1800" cy="260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267160" y="49590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67160" y="2388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35120" y="501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6089760" y="49590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089760" y="2388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59160" y="501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6921360" y="49590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921360" y="2388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852960" y="5019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7745400" y="49590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45400" y="2388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676640" y="5019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8575560" y="49590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575560" y="2388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507160" y="5019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267160" y="49971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8537400" y="49971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166720" y="492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267160" y="47527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8537400" y="47527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7160" y="45162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8537400" y="4516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098680" y="4448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267160" y="42796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8537400" y="42796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098680" y="421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267160" y="40431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8537400" y="40431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98680" y="3974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267160" y="3806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8537400" y="38066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29920" y="3738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67160" y="35701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8537400" y="35701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29920" y="3501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267160" y="33350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537400" y="333504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29920" y="326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267160" y="30985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8537400" y="30985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029920" y="3028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267160" y="28620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8537400" y="28620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29920" y="2792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67160" y="26254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8537400" y="26254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29920" y="2555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67160" y="23889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8537400" y="23889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29920" y="2320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8575560" y="2388600"/>
              <a:ext cx="1800" cy="260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267160" y="4562280"/>
              <a:ext cx="3316320" cy="236520"/>
            </a:xfrm>
            <a:custGeom>
              <a:avLst/>
              <a:gdLst/>
              <a:ahLst/>
              <a:rect l="l" t="t" r="r" b="b"/>
              <a:pathLst>
                <a:path w="2089" h="149">
                  <a:moveTo>
                    <a:pt x="0" y="0"/>
                  </a:moveTo>
                  <a:lnTo>
                    <a:pt x="19" y="24"/>
                  </a:lnTo>
                  <a:lnTo>
                    <a:pt x="38" y="19"/>
                  </a:lnTo>
                  <a:lnTo>
                    <a:pt x="62" y="19"/>
                  </a:lnTo>
                  <a:lnTo>
                    <a:pt x="81" y="19"/>
                  </a:lnTo>
                  <a:lnTo>
                    <a:pt x="101" y="19"/>
                  </a:lnTo>
                  <a:lnTo>
                    <a:pt x="125" y="19"/>
                  </a:lnTo>
                  <a:lnTo>
                    <a:pt x="144" y="19"/>
                  </a:lnTo>
                  <a:lnTo>
                    <a:pt x="163" y="19"/>
                  </a:lnTo>
                  <a:lnTo>
                    <a:pt x="187" y="19"/>
                  </a:lnTo>
                  <a:lnTo>
                    <a:pt x="206" y="19"/>
                  </a:lnTo>
                  <a:lnTo>
                    <a:pt x="225" y="19"/>
                  </a:lnTo>
                  <a:lnTo>
                    <a:pt x="249" y="19"/>
                  </a:lnTo>
                  <a:lnTo>
                    <a:pt x="269" y="19"/>
                  </a:lnTo>
                  <a:lnTo>
                    <a:pt x="288" y="24"/>
                  </a:lnTo>
                  <a:lnTo>
                    <a:pt x="312" y="24"/>
                  </a:lnTo>
                  <a:lnTo>
                    <a:pt x="331" y="19"/>
                  </a:lnTo>
                  <a:lnTo>
                    <a:pt x="350" y="24"/>
                  </a:lnTo>
                  <a:lnTo>
                    <a:pt x="374" y="24"/>
                  </a:lnTo>
                  <a:lnTo>
                    <a:pt x="394" y="24"/>
                  </a:lnTo>
                  <a:lnTo>
                    <a:pt x="413" y="24"/>
                  </a:lnTo>
                  <a:lnTo>
                    <a:pt x="437" y="24"/>
                  </a:lnTo>
                  <a:lnTo>
                    <a:pt x="456" y="24"/>
                  </a:lnTo>
                  <a:lnTo>
                    <a:pt x="475" y="29"/>
                  </a:lnTo>
                  <a:lnTo>
                    <a:pt x="499" y="29"/>
                  </a:lnTo>
                  <a:lnTo>
                    <a:pt x="518" y="29"/>
                  </a:lnTo>
                  <a:lnTo>
                    <a:pt x="538" y="29"/>
                  </a:lnTo>
                  <a:lnTo>
                    <a:pt x="562" y="29"/>
                  </a:lnTo>
                  <a:lnTo>
                    <a:pt x="581" y="34"/>
                  </a:lnTo>
                  <a:lnTo>
                    <a:pt x="600" y="34"/>
                  </a:lnTo>
                  <a:lnTo>
                    <a:pt x="624" y="34"/>
                  </a:lnTo>
                  <a:lnTo>
                    <a:pt x="643" y="34"/>
                  </a:lnTo>
                  <a:lnTo>
                    <a:pt x="663" y="34"/>
                  </a:lnTo>
                  <a:lnTo>
                    <a:pt x="687" y="38"/>
                  </a:lnTo>
                  <a:lnTo>
                    <a:pt x="706" y="38"/>
                  </a:lnTo>
                  <a:lnTo>
                    <a:pt x="725" y="38"/>
                  </a:lnTo>
                  <a:lnTo>
                    <a:pt x="749" y="38"/>
                  </a:lnTo>
                  <a:lnTo>
                    <a:pt x="768" y="43"/>
                  </a:lnTo>
                  <a:lnTo>
                    <a:pt x="787" y="43"/>
                  </a:lnTo>
                  <a:lnTo>
                    <a:pt x="811" y="43"/>
                  </a:lnTo>
                  <a:lnTo>
                    <a:pt x="831" y="43"/>
                  </a:lnTo>
                  <a:lnTo>
                    <a:pt x="850" y="48"/>
                  </a:lnTo>
                  <a:lnTo>
                    <a:pt x="874" y="48"/>
                  </a:lnTo>
                  <a:lnTo>
                    <a:pt x="893" y="48"/>
                  </a:lnTo>
                  <a:lnTo>
                    <a:pt x="912" y="53"/>
                  </a:lnTo>
                  <a:lnTo>
                    <a:pt x="936" y="53"/>
                  </a:lnTo>
                  <a:lnTo>
                    <a:pt x="956" y="53"/>
                  </a:lnTo>
                  <a:lnTo>
                    <a:pt x="975" y="53"/>
                  </a:lnTo>
                  <a:lnTo>
                    <a:pt x="999" y="58"/>
                  </a:lnTo>
                  <a:lnTo>
                    <a:pt x="1018" y="58"/>
                  </a:lnTo>
                  <a:lnTo>
                    <a:pt x="1037" y="63"/>
                  </a:lnTo>
                  <a:lnTo>
                    <a:pt x="1061" y="63"/>
                  </a:lnTo>
                  <a:lnTo>
                    <a:pt x="1080" y="63"/>
                  </a:lnTo>
                  <a:lnTo>
                    <a:pt x="1100" y="63"/>
                  </a:lnTo>
                  <a:lnTo>
                    <a:pt x="1124" y="67"/>
                  </a:lnTo>
                  <a:lnTo>
                    <a:pt x="1143" y="67"/>
                  </a:lnTo>
                  <a:lnTo>
                    <a:pt x="1162" y="72"/>
                  </a:lnTo>
                  <a:lnTo>
                    <a:pt x="1186" y="72"/>
                  </a:lnTo>
                  <a:lnTo>
                    <a:pt x="1205" y="72"/>
                  </a:lnTo>
                  <a:lnTo>
                    <a:pt x="1225" y="72"/>
                  </a:lnTo>
                  <a:lnTo>
                    <a:pt x="1249" y="77"/>
                  </a:lnTo>
                  <a:lnTo>
                    <a:pt x="1268" y="77"/>
                  </a:lnTo>
                  <a:lnTo>
                    <a:pt x="1287" y="82"/>
                  </a:lnTo>
                  <a:lnTo>
                    <a:pt x="1311" y="82"/>
                  </a:lnTo>
                  <a:lnTo>
                    <a:pt x="1330" y="82"/>
                  </a:lnTo>
                  <a:lnTo>
                    <a:pt x="1349" y="87"/>
                  </a:lnTo>
                  <a:lnTo>
                    <a:pt x="1373" y="87"/>
                  </a:lnTo>
                  <a:lnTo>
                    <a:pt x="1393" y="91"/>
                  </a:lnTo>
                  <a:lnTo>
                    <a:pt x="1412" y="91"/>
                  </a:lnTo>
                  <a:lnTo>
                    <a:pt x="1436" y="91"/>
                  </a:lnTo>
                  <a:lnTo>
                    <a:pt x="1455" y="96"/>
                  </a:lnTo>
                  <a:lnTo>
                    <a:pt x="1474" y="96"/>
                  </a:lnTo>
                  <a:lnTo>
                    <a:pt x="1498" y="96"/>
                  </a:lnTo>
                  <a:lnTo>
                    <a:pt x="1518" y="101"/>
                  </a:lnTo>
                  <a:lnTo>
                    <a:pt x="1537" y="101"/>
                  </a:lnTo>
                  <a:lnTo>
                    <a:pt x="1561" y="106"/>
                  </a:lnTo>
                  <a:lnTo>
                    <a:pt x="1580" y="106"/>
                  </a:lnTo>
                  <a:lnTo>
                    <a:pt x="1599" y="106"/>
                  </a:lnTo>
                  <a:lnTo>
                    <a:pt x="1623" y="111"/>
                  </a:lnTo>
                  <a:lnTo>
                    <a:pt x="1642" y="111"/>
                  </a:lnTo>
                  <a:lnTo>
                    <a:pt x="1662" y="115"/>
                  </a:lnTo>
                  <a:lnTo>
                    <a:pt x="1686" y="115"/>
                  </a:lnTo>
                  <a:lnTo>
                    <a:pt x="1705" y="115"/>
                  </a:lnTo>
                  <a:lnTo>
                    <a:pt x="1724" y="120"/>
                  </a:lnTo>
                  <a:lnTo>
                    <a:pt x="1748" y="120"/>
                  </a:lnTo>
                  <a:lnTo>
                    <a:pt x="1767" y="125"/>
                  </a:lnTo>
                  <a:lnTo>
                    <a:pt x="1787" y="125"/>
                  </a:lnTo>
                  <a:lnTo>
                    <a:pt x="1811" y="130"/>
                  </a:lnTo>
                  <a:lnTo>
                    <a:pt x="1830" y="130"/>
                  </a:lnTo>
                  <a:lnTo>
                    <a:pt x="1849" y="130"/>
                  </a:lnTo>
                  <a:lnTo>
                    <a:pt x="1873" y="135"/>
                  </a:lnTo>
                  <a:lnTo>
                    <a:pt x="1892" y="135"/>
                  </a:lnTo>
                  <a:lnTo>
                    <a:pt x="1911" y="135"/>
                  </a:lnTo>
                  <a:lnTo>
                    <a:pt x="1935" y="139"/>
                  </a:lnTo>
                  <a:lnTo>
                    <a:pt x="1955" y="139"/>
                  </a:lnTo>
                  <a:lnTo>
                    <a:pt x="1974" y="139"/>
                  </a:lnTo>
                  <a:lnTo>
                    <a:pt x="1998" y="144"/>
                  </a:lnTo>
                  <a:lnTo>
                    <a:pt x="2017" y="144"/>
                  </a:lnTo>
                  <a:lnTo>
                    <a:pt x="2036" y="149"/>
                  </a:lnTo>
                  <a:lnTo>
                    <a:pt x="2060" y="149"/>
                  </a:lnTo>
                  <a:lnTo>
                    <a:pt x="2080" y="149"/>
                  </a:lnTo>
                  <a:lnTo>
                    <a:pt x="2089" y="14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67160" y="2388960"/>
              <a:ext cx="2867040" cy="2043000"/>
            </a:xfrm>
            <a:custGeom>
              <a:avLst/>
              <a:gdLst/>
              <a:ahLst/>
              <a:rect l="l" t="t" r="r" b="b"/>
              <a:pathLst>
                <a:path w="1806" h="1287">
                  <a:moveTo>
                    <a:pt x="0" y="206"/>
                  </a:moveTo>
                  <a:lnTo>
                    <a:pt x="19" y="33"/>
                  </a:lnTo>
                  <a:lnTo>
                    <a:pt x="38" y="499"/>
                  </a:lnTo>
                  <a:lnTo>
                    <a:pt x="62" y="797"/>
                  </a:lnTo>
                  <a:lnTo>
                    <a:pt x="81" y="956"/>
                  </a:lnTo>
                  <a:lnTo>
                    <a:pt x="101" y="1062"/>
                  </a:lnTo>
                  <a:lnTo>
                    <a:pt x="125" y="1124"/>
                  </a:lnTo>
                  <a:lnTo>
                    <a:pt x="144" y="1167"/>
                  </a:lnTo>
                  <a:lnTo>
                    <a:pt x="163" y="1196"/>
                  </a:lnTo>
                  <a:lnTo>
                    <a:pt x="187" y="1220"/>
                  </a:lnTo>
                  <a:lnTo>
                    <a:pt x="206" y="1235"/>
                  </a:lnTo>
                  <a:lnTo>
                    <a:pt x="225" y="1249"/>
                  </a:lnTo>
                  <a:lnTo>
                    <a:pt x="249" y="1254"/>
                  </a:lnTo>
                  <a:lnTo>
                    <a:pt x="269" y="1263"/>
                  </a:lnTo>
                  <a:lnTo>
                    <a:pt x="288" y="1268"/>
                  </a:lnTo>
                  <a:lnTo>
                    <a:pt x="312" y="1273"/>
                  </a:lnTo>
                  <a:lnTo>
                    <a:pt x="331" y="1278"/>
                  </a:lnTo>
                  <a:lnTo>
                    <a:pt x="350" y="1283"/>
                  </a:lnTo>
                  <a:lnTo>
                    <a:pt x="374" y="1283"/>
                  </a:lnTo>
                  <a:lnTo>
                    <a:pt x="394" y="1283"/>
                  </a:lnTo>
                  <a:lnTo>
                    <a:pt x="413" y="1287"/>
                  </a:lnTo>
                  <a:lnTo>
                    <a:pt x="437" y="1287"/>
                  </a:lnTo>
                  <a:lnTo>
                    <a:pt x="456" y="1287"/>
                  </a:lnTo>
                  <a:lnTo>
                    <a:pt x="475" y="1287"/>
                  </a:lnTo>
                  <a:lnTo>
                    <a:pt x="499" y="1287"/>
                  </a:lnTo>
                  <a:lnTo>
                    <a:pt x="518" y="1283"/>
                  </a:lnTo>
                  <a:lnTo>
                    <a:pt x="538" y="1283"/>
                  </a:lnTo>
                  <a:lnTo>
                    <a:pt x="562" y="1278"/>
                  </a:lnTo>
                  <a:lnTo>
                    <a:pt x="581" y="1273"/>
                  </a:lnTo>
                  <a:lnTo>
                    <a:pt x="600" y="1273"/>
                  </a:lnTo>
                  <a:lnTo>
                    <a:pt x="624" y="1268"/>
                  </a:lnTo>
                  <a:lnTo>
                    <a:pt x="643" y="1263"/>
                  </a:lnTo>
                  <a:lnTo>
                    <a:pt x="663" y="1263"/>
                  </a:lnTo>
                  <a:lnTo>
                    <a:pt x="687" y="1259"/>
                  </a:lnTo>
                  <a:lnTo>
                    <a:pt x="706" y="1259"/>
                  </a:lnTo>
                  <a:lnTo>
                    <a:pt x="725" y="1254"/>
                  </a:lnTo>
                  <a:lnTo>
                    <a:pt x="749" y="1249"/>
                  </a:lnTo>
                  <a:lnTo>
                    <a:pt x="768" y="1249"/>
                  </a:lnTo>
                  <a:lnTo>
                    <a:pt x="787" y="1244"/>
                  </a:lnTo>
                  <a:lnTo>
                    <a:pt x="811" y="1244"/>
                  </a:lnTo>
                  <a:lnTo>
                    <a:pt x="831" y="1239"/>
                  </a:lnTo>
                  <a:lnTo>
                    <a:pt x="850" y="1235"/>
                  </a:lnTo>
                  <a:lnTo>
                    <a:pt x="874" y="1230"/>
                  </a:lnTo>
                  <a:lnTo>
                    <a:pt x="893" y="1225"/>
                  </a:lnTo>
                  <a:lnTo>
                    <a:pt x="912" y="1220"/>
                  </a:lnTo>
                  <a:lnTo>
                    <a:pt x="936" y="1215"/>
                  </a:lnTo>
                  <a:lnTo>
                    <a:pt x="956" y="1210"/>
                  </a:lnTo>
                  <a:lnTo>
                    <a:pt x="975" y="1201"/>
                  </a:lnTo>
                  <a:lnTo>
                    <a:pt x="999" y="1196"/>
                  </a:lnTo>
                  <a:lnTo>
                    <a:pt x="1018" y="1186"/>
                  </a:lnTo>
                  <a:lnTo>
                    <a:pt x="1037" y="1182"/>
                  </a:lnTo>
                  <a:lnTo>
                    <a:pt x="1061" y="1172"/>
                  </a:lnTo>
                  <a:lnTo>
                    <a:pt x="1080" y="1162"/>
                  </a:lnTo>
                  <a:lnTo>
                    <a:pt x="1100" y="1153"/>
                  </a:lnTo>
                  <a:lnTo>
                    <a:pt x="1124" y="1143"/>
                  </a:lnTo>
                  <a:lnTo>
                    <a:pt x="1143" y="1134"/>
                  </a:lnTo>
                  <a:lnTo>
                    <a:pt x="1162" y="1124"/>
                  </a:lnTo>
                  <a:lnTo>
                    <a:pt x="1186" y="1114"/>
                  </a:lnTo>
                  <a:lnTo>
                    <a:pt x="1205" y="1100"/>
                  </a:lnTo>
                  <a:lnTo>
                    <a:pt x="1225" y="1090"/>
                  </a:lnTo>
                  <a:lnTo>
                    <a:pt x="1249" y="1076"/>
                  </a:lnTo>
                  <a:lnTo>
                    <a:pt x="1268" y="1062"/>
                  </a:lnTo>
                  <a:lnTo>
                    <a:pt x="1287" y="1047"/>
                  </a:lnTo>
                  <a:lnTo>
                    <a:pt x="1311" y="1033"/>
                  </a:lnTo>
                  <a:lnTo>
                    <a:pt x="1330" y="1018"/>
                  </a:lnTo>
                  <a:lnTo>
                    <a:pt x="1349" y="999"/>
                  </a:lnTo>
                  <a:lnTo>
                    <a:pt x="1373" y="980"/>
                  </a:lnTo>
                  <a:lnTo>
                    <a:pt x="1393" y="961"/>
                  </a:lnTo>
                  <a:lnTo>
                    <a:pt x="1412" y="941"/>
                  </a:lnTo>
                  <a:lnTo>
                    <a:pt x="1436" y="917"/>
                  </a:lnTo>
                  <a:lnTo>
                    <a:pt x="1455" y="898"/>
                  </a:lnTo>
                  <a:lnTo>
                    <a:pt x="1474" y="874"/>
                  </a:lnTo>
                  <a:lnTo>
                    <a:pt x="1498" y="845"/>
                  </a:lnTo>
                  <a:lnTo>
                    <a:pt x="1518" y="817"/>
                  </a:lnTo>
                  <a:lnTo>
                    <a:pt x="1537" y="788"/>
                  </a:lnTo>
                  <a:lnTo>
                    <a:pt x="1561" y="754"/>
                  </a:lnTo>
                  <a:lnTo>
                    <a:pt x="1580" y="720"/>
                  </a:lnTo>
                  <a:lnTo>
                    <a:pt x="1599" y="682"/>
                  </a:lnTo>
                  <a:lnTo>
                    <a:pt x="1623" y="639"/>
                  </a:lnTo>
                  <a:lnTo>
                    <a:pt x="1642" y="591"/>
                  </a:lnTo>
                  <a:lnTo>
                    <a:pt x="1662" y="547"/>
                  </a:lnTo>
                  <a:lnTo>
                    <a:pt x="1686" y="490"/>
                  </a:lnTo>
                  <a:lnTo>
                    <a:pt x="1705" y="427"/>
                  </a:lnTo>
                  <a:lnTo>
                    <a:pt x="1724" y="355"/>
                  </a:lnTo>
                  <a:lnTo>
                    <a:pt x="1748" y="278"/>
                  </a:lnTo>
                  <a:lnTo>
                    <a:pt x="1767" y="197"/>
                  </a:lnTo>
                  <a:lnTo>
                    <a:pt x="1787" y="96"/>
                  </a:lnTo>
                  <a:lnTo>
                    <a:pt x="180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3663000" y="12193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quare wave Pul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rot="16200000">
            <a:off x="3413520" y="41360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3316680" y="3691080"/>
            <a:ext cx="351360" cy="1166760"/>
            <a:chOff x="3316680" y="3691080"/>
            <a:chExt cx="351360" cy="1166760"/>
          </a:xfrm>
        </p:grpSpPr>
        <p:grpSp>
          <p:nvGrpSpPr>
            <p:cNvPr id="1277" name=""/>
            <p:cNvGrpSpPr/>
            <p:nvPr/>
          </p:nvGrpSpPr>
          <p:grpSpPr>
            <a:xfrm>
              <a:off x="3335040" y="3951000"/>
              <a:ext cx="315000" cy="753840"/>
              <a:chOff x="3335040" y="3951000"/>
              <a:chExt cx="315000" cy="753840"/>
            </a:xfrm>
          </p:grpSpPr>
          <p:sp>
            <p:nvSpPr>
              <p:cNvPr id="1278" name=""/>
              <p:cNvSpPr/>
              <p:nvPr/>
            </p:nvSpPr>
            <p:spPr>
              <a:xfrm>
                <a:off x="3437280" y="3951000"/>
                <a:ext cx="114120" cy="436320"/>
              </a:xfrm>
              <a:prstGeom prst="downArrow">
                <a:avLst>
                  <a:gd name="adj1" fmla="val 50000"/>
                  <a:gd name="adj2" fmla="val 9558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335040" y="433656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3316680" y="36910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16680" y="4581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36840" y="4572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- Panametrics 5052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930320"/>
            <a:ext cx="5943600" cy="3657600"/>
          </a:xfrm>
          <a:prstGeom prst="roundRect">
            <a:avLst>
              <a:gd name="adj" fmla="val 46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917720"/>
            <a:ext cx="5968800" cy="3683160"/>
          </a:xfrm>
          <a:prstGeom prst="roundRect">
            <a:avLst>
              <a:gd name="adj" fmla="val 5000"/>
            </a:avLst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58920" y="2324160"/>
            <a:ext cx="355680" cy="35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13000" y="2451240"/>
            <a:ext cx="355680" cy="35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18120" y="2387520"/>
            <a:ext cx="355680" cy="35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2374920"/>
            <a:ext cx="355680" cy="35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94640" y="2400480"/>
            <a:ext cx="355320" cy="35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92240" y="201924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3360" y="2031840"/>
            <a:ext cx="62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65200" y="2006640"/>
            <a:ext cx="102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en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63520" y="203184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p.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3760" y="3632040"/>
            <a:ext cx="355680" cy="35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59640" y="3276720"/>
            <a:ext cx="80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m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83360" y="2247840"/>
            <a:ext cx="59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83360" y="2247840"/>
            <a:ext cx="1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80240" y="2247840"/>
            <a:ext cx="1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72960" y="2692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162240" y="2717640"/>
            <a:ext cx="7632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543120" y="2476440"/>
            <a:ext cx="759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174480" y="2476440"/>
            <a:ext cx="6372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530520" y="2717640"/>
            <a:ext cx="763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8520" y="2349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240" y="2362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44640" y="27050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133720" y="2629080"/>
            <a:ext cx="63360" cy="3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437920" y="262872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17360" y="269244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39800" y="26798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98600" y="4775040"/>
            <a:ext cx="647280" cy="330120"/>
            <a:chOff x="2298600" y="4775040"/>
            <a:chExt cx="647280" cy="330120"/>
          </a:xfrm>
        </p:grpSpPr>
        <p:sp>
          <p:nvSpPr>
            <p:cNvPr id="75" name=""/>
            <p:cNvSpPr/>
            <p:nvPr/>
          </p:nvSpPr>
          <p:spPr>
            <a:xfrm>
              <a:off x="2539800" y="4775040"/>
              <a:ext cx="406080" cy="330120"/>
            </a:xfrm>
            <a:prstGeom prst="roundRect">
              <a:avLst>
                <a:gd name="adj" fmla="val 5192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3800" y="4851360"/>
              <a:ext cx="45684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98600" y="485136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49360" y="4863960"/>
              <a:ext cx="1011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17640" y="4851360"/>
              <a:ext cx="10116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66880" y="4863960"/>
              <a:ext cx="1011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435640" y="4826160"/>
            <a:ext cx="647640" cy="330120"/>
            <a:chOff x="5435640" y="4826160"/>
            <a:chExt cx="647640" cy="330120"/>
          </a:xfrm>
        </p:grpSpPr>
        <p:sp>
          <p:nvSpPr>
            <p:cNvPr id="82" name=""/>
            <p:cNvSpPr/>
            <p:nvPr/>
          </p:nvSpPr>
          <p:spPr>
            <a:xfrm>
              <a:off x="5676840" y="4826160"/>
              <a:ext cx="406440" cy="330120"/>
            </a:xfrm>
            <a:prstGeom prst="roundRect">
              <a:avLst>
                <a:gd name="adj" fmla="val 5192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61200" y="4902480"/>
              <a:ext cx="45720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49024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86400" y="4915080"/>
              <a:ext cx="10152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54680" y="49024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03920" y="4915080"/>
              <a:ext cx="10152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98600" y="4775040"/>
            <a:ext cx="647280" cy="330120"/>
            <a:chOff x="2298600" y="4775040"/>
            <a:chExt cx="647280" cy="330120"/>
          </a:xfrm>
        </p:grpSpPr>
        <p:sp>
          <p:nvSpPr>
            <p:cNvPr id="89" name=""/>
            <p:cNvSpPr/>
            <p:nvPr/>
          </p:nvSpPr>
          <p:spPr>
            <a:xfrm>
              <a:off x="2539800" y="4775040"/>
              <a:ext cx="406080" cy="330120"/>
            </a:xfrm>
            <a:prstGeom prst="roundRect">
              <a:avLst>
                <a:gd name="adj" fmla="val 5192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23800" y="4851360"/>
              <a:ext cx="45684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98600" y="485136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49360" y="4863960"/>
              <a:ext cx="1011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17640" y="4851360"/>
              <a:ext cx="10116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6880" y="4863960"/>
              <a:ext cx="1011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803920" y="3543480"/>
            <a:ext cx="647640" cy="330120"/>
            <a:chOff x="5803920" y="3543480"/>
            <a:chExt cx="647640" cy="330120"/>
          </a:xfrm>
        </p:grpSpPr>
        <p:sp>
          <p:nvSpPr>
            <p:cNvPr id="96" name=""/>
            <p:cNvSpPr/>
            <p:nvPr/>
          </p:nvSpPr>
          <p:spPr>
            <a:xfrm>
              <a:off x="6045120" y="3543480"/>
              <a:ext cx="406440" cy="330120"/>
            </a:xfrm>
            <a:prstGeom prst="roundRect">
              <a:avLst>
                <a:gd name="adj" fmla="val 5192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29480" y="3619800"/>
              <a:ext cx="45720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3920" y="3619800"/>
              <a:ext cx="1015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54680" y="3632400"/>
              <a:ext cx="10152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2960" y="3619800"/>
              <a:ext cx="101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3632400"/>
              <a:ext cx="10152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968080" y="317484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in (d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39800" y="447048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4280" y="4762440"/>
            <a:ext cx="545760" cy="419040"/>
            <a:chOff x="4724280" y="4762440"/>
            <a:chExt cx="545760" cy="419040"/>
          </a:xfrm>
        </p:grpSpPr>
        <p:sp>
          <p:nvSpPr>
            <p:cNvPr id="105" name=""/>
            <p:cNvSpPr/>
            <p:nvPr/>
          </p:nvSpPr>
          <p:spPr>
            <a:xfrm>
              <a:off x="4787640" y="4762440"/>
              <a:ext cx="419040" cy="41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724280" y="4813200"/>
              <a:ext cx="545760" cy="304920"/>
              <a:chOff x="4724280" y="4813200"/>
              <a:chExt cx="545760" cy="304920"/>
            </a:xfrm>
          </p:grpSpPr>
          <p:sp>
            <p:nvSpPr>
              <p:cNvPr id="107" name=""/>
              <p:cNvSpPr/>
              <p:nvPr/>
            </p:nvSpPr>
            <p:spPr>
              <a:xfrm>
                <a:off x="4838400" y="48132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94080" y="4940280"/>
                <a:ext cx="75960" cy="63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24280" y="4940280"/>
                <a:ext cx="75960" cy="63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6311880" y="4762440"/>
            <a:ext cx="546120" cy="419040"/>
            <a:chOff x="6311880" y="4762440"/>
            <a:chExt cx="546120" cy="419040"/>
          </a:xfrm>
        </p:grpSpPr>
        <p:sp>
          <p:nvSpPr>
            <p:cNvPr id="111" name=""/>
            <p:cNvSpPr/>
            <p:nvPr/>
          </p:nvSpPr>
          <p:spPr>
            <a:xfrm>
              <a:off x="6375600" y="4762440"/>
              <a:ext cx="419040" cy="41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6311880" y="4813200"/>
              <a:ext cx="546120" cy="304920"/>
              <a:chOff x="6311880" y="4813200"/>
              <a:chExt cx="546120" cy="304920"/>
            </a:xfrm>
          </p:grpSpPr>
          <p:sp>
            <p:nvSpPr>
              <p:cNvPr id="113" name=""/>
              <p:cNvSpPr/>
              <p:nvPr/>
            </p:nvSpPr>
            <p:spPr>
              <a:xfrm>
                <a:off x="6426360" y="48132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82040" y="4940280"/>
                <a:ext cx="75960" cy="63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11880" y="4940280"/>
                <a:ext cx="76320" cy="63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4875840" y="4419720"/>
            <a:ext cx="35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/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5788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CV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47880" y="46609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21080" y="4686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4960" y="3645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56120" y="36450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705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8280" y="231156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87760" y="229860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75160" y="271764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81320" y="2692440"/>
            <a:ext cx="507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111800" y="2413080"/>
            <a:ext cx="507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768720" y="2412720"/>
            <a:ext cx="507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7074000" y="2704680"/>
            <a:ext cx="633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02200" y="52052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67280" y="632448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946840" y="6070680"/>
            <a:ext cx="1066680" cy="533160"/>
            <a:chOff x="5946840" y="6070680"/>
            <a:chExt cx="1066680" cy="533160"/>
          </a:xfrm>
        </p:grpSpPr>
        <p:sp>
          <p:nvSpPr>
            <p:cNvPr id="133" name=""/>
            <p:cNvSpPr/>
            <p:nvPr/>
          </p:nvSpPr>
          <p:spPr>
            <a:xfrm>
              <a:off x="6099120" y="6070680"/>
              <a:ext cx="914400" cy="5331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46840" y="6259320"/>
              <a:ext cx="152280" cy="158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69440" y="59101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-echo 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99000" y="598644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52720" y="457200"/>
            <a:ext cx="47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- simple model of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1440" y="2871720"/>
            <a:ext cx="583920" cy="58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003400" y="2160360"/>
            <a:ext cx="144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90800" y="2058840"/>
            <a:ext cx="1092240" cy="254160"/>
          </a:xfrm>
          <a:custGeom>
            <a:avLst/>
            <a:gdLst/>
            <a:ahLst/>
            <a:rect l="l" t="t" r="r" b="b"/>
            <a:pathLst>
              <a:path w="688" h="160">
                <a:moveTo>
                  <a:pt x="0" y="72"/>
                </a:moveTo>
                <a:lnTo>
                  <a:pt x="344" y="72"/>
                </a:lnTo>
                <a:lnTo>
                  <a:pt x="384" y="152"/>
                </a:lnTo>
                <a:lnTo>
                  <a:pt x="384" y="152"/>
                </a:lnTo>
                <a:lnTo>
                  <a:pt x="448" y="8"/>
                </a:lnTo>
                <a:lnTo>
                  <a:pt x="448" y="8"/>
                </a:lnTo>
                <a:lnTo>
                  <a:pt x="496" y="160"/>
                </a:lnTo>
                <a:lnTo>
                  <a:pt x="496" y="160"/>
                </a:lnTo>
                <a:lnTo>
                  <a:pt x="544" y="8"/>
                </a:lnTo>
                <a:lnTo>
                  <a:pt x="544" y="8"/>
                </a:lnTo>
                <a:lnTo>
                  <a:pt x="592" y="160"/>
                </a:lnTo>
                <a:lnTo>
                  <a:pt x="592" y="160"/>
                </a:lnTo>
                <a:lnTo>
                  <a:pt x="656" y="0"/>
                </a:lnTo>
                <a:lnTo>
                  <a:pt x="656" y="0"/>
                </a:lnTo>
                <a:lnTo>
                  <a:pt x="688" y="80"/>
                </a:lnTo>
                <a:lnTo>
                  <a:pt x="688" y="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6920" y="2058840"/>
            <a:ext cx="546120" cy="254160"/>
          </a:xfrm>
          <a:custGeom>
            <a:avLst/>
            <a:gdLst/>
            <a:ahLst/>
            <a:rect l="l" t="t" r="r" b="b"/>
            <a:pathLst>
              <a:path w="344" h="160">
                <a:moveTo>
                  <a:pt x="0" y="72"/>
                </a:moveTo>
                <a:lnTo>
                  <a:pt x="40" y="152"/>
                </a:lnTo>
                <a:lnTo>
                  <a:pt x="104" y="8"/>
                </a:lnTo>
                <a:lnTo>
                  <a:pt x="152" y="160"/>
                </a:lnTo>
                <a:lnTo>
                  <a:pt x="200" y="8"/>
                </a:lnTo>
                <a:lnTo>
                  <a:pt x="248" y="160"/>
                </a:lnTo>
                <a:lnTo>
                  <a:pt x="312" y="0"/>
                </a:lnTo>
                <a:lnTo>
                  <a:pt x="344" y="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94120" y="1906560"/>
            <a:ext cx="2412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68560" y="2185920"/>
            <a:ext cx="863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560" y="2185920"/>
            <a:ext cx="144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44800" y="1932120"/>
            <a:ext cx="128880" cy="520560"/>
            <a:chOff x="3844800" y="1932120"/>
            <a:chExt cx="128880" cy="520560"/>
          </a:xfrm>
        </p:grpSpPr>
        <p:sp>
          <p:nvSpPr>
            <p:cNvPr id="147" name=""/>
            <p:cNvSpPr/>
            <p:nvPr/>
          </p:nvSpPr>
          <p:spPr>
            <a:xfrm flipV="1">
              <a:off x="3844800" y="1932120"/>
              <a:ext cx="180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971880" y="1932120"/>
              <a:ext cx="180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984480" y="2185920"/>
            <a:ext cx="571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90800" y="3456000"/>
            <a:ext cx="144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03400" y="4014720"/>
            <a:ext cx="441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56160" y="2185920"/>
            <a:ext cx="2095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64320" y="191916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8"/>
                </a:moveTo>
                <a:lnTo>
                  <a:pt x="0" y="432"/>
                </a:lnTo>
                <a:lnTo>
                  <a:pt x="0" y="432"/>
                </a:lnTo>
                <a:lnTo>
                  <a:pt x="288" y="216"/>
                </a:lnTo>
                <a:lnTo>
                  <a:pt x="288" y="21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4320" y="191916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8"/>
                </a:moveTo>
                <a:lnTo>
                  <a:pt x="0" y="432"/>
                </a:lnTo>
                <a:lnTo>
                  <a:pt x="288" y="21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23120" y="2351160"/>
            <a:ext cx="241200" cy="1676160"/>
          </a:xfrm>
          <a:custGeom>
            <a:avLst/>
            <a:gdLst/>
            <a:ahLst/>
            <a:rect l="l" t="t" r="r" b="b"/>
            <a:pathLst>
              <a:path w="152" h="1056">
                <a:moveTo>
                  <a:pt x="152" y="0"/>
                </a:moveTo>
                <a:lnTo>
                  <a:pt x="0" y="0"/>
                </a:lnTo>
                <a:lnTo>
                  <a:pt x="0" y="0"/>
                </a:lnTo>
                <a:lnTo>
                  <a:pt x="0" y="1056"/>
                </a:lnTo>
                <a:lnTo>
                  <a:pt x="0" y="10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23120" y="2351160"/>
            <a:ext cx="241200" cy="1676160"/>
          </a:xfrm>
          <a:custGeom>
            <a:avLst/>
            <a:gdLst/>
            <a:ahLst/>
            <a:rect l="l" t="t" r="r" b="b"/>
            <a:pathLst>
              <a:path w="152" h="1056">
                <a:moveTo>
                  <a:pt x="15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134120" y="2211480"/>
            <a:ext cx="355680" cy="101520"/>
            <a:chOff x="7134120" y="2211480"/>
            <a:chExt cx="355680" cy="101520"/>
          </a:xfrm>
        </p:grpSpPr>
        <p:sp>
          <p:nvSpPr>
            <p:cNvPr id="158" name=""/>
            <p:cNvSpPr/>
            <p:nvPr/>
          </p:nvSpPr>
          <p:spPr>
            <a:xfrm>
              <a:off x="7311960" y="2211480"/>
              <a:ext cx="177840" cy="101520"/>
            </a:xfrm>
            <a:custGeom>
              <a:avLst/>
              <a:gdLst/>
              <a:ahLst/>
              <a:rect l="l" t="t" r="r" b="b"/>
              <a:pathLst>
                <a:path w="112" h="64">
                  <a:moveTo>
                    <a:pt x="112" y="32"/>
                  </a:moveTo>
                  <a:lnTo>
                    <a:pt x="0" y="6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34120" y="2262240"/>
              <a:ext cx="17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111560" y="3125880"/>
            <a:ext cx="787320" cy="253800"/>
            <a:chOff x="4111560" y="3125880"/>
            <a:chExt cx="787320" cy="253800"/>
          </a:xfrm>
        </p:grpSpPr>
        <p:sp>
          <p:nvSpPr>
            <p:cNvPr id="161" name=""/>
            <p:cNvSpPr/>
            <p:nvPr/>
          </p:nvSpPr>
          <p:spPr>
            <a:xfrm>
              <a:off x="4721400" y="3125880"/>
              <a:ext cx="177480" cy="101520"/>
            </a:xfrm>
            <a:custGeom>
              <a:avLst/>
              <a:gdLst/>
              <a:ahLst/>
              <a:rect l="l" t="t" r="r" b="b"/>
              <a:pathLst>
                <a:path w="112" h="64">
                  <a:moveTo>
                    <a:pt x="112" y="0"/>
                  </a:moveTo>
                  <a:lnTo>
                    <a:pt x="16" y="64"/>
                  </a:lnTo>
                  <a:lnTo>
                    <a:pt x="8" y="32"/>
                  </a:lnTo>
                  <a:lnTo>
                    <a:pt x="0" y="8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11560" y="3176640"/>
              <a:ext cx="6224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191200" y="2185920"/>
            <a:ext cx="787320" cy="1828800"/>
            <a:chOff x="5191200" y="2185920"/>
            <a:chExt cx="787320" cy="1828800"/>
          </a:xfrm>
        </p:grpSpPr>
        <p:sp>
          <p:nvSpPr>
            <p:cNvPr id="164" name=""/>
            <p:cNvSpPr/>
            <p:nvPr/>
          </p:nvSpPr>
          <p:spPr>
            <a:xfrm>
              <a:off x="5191200" y="2782800"/>
              <a:ext cx="787320" cy="533520"/>
            </a:xfrm>
            <a:prstGeom prst="rect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318280" y="2960640"/>
              <a:ext cx="520560" cy="128520"/>
              <a:chOff x="5318280" y="2960640"/>
              <a:chExt cx="520560" cy="128520"/>
            </a:xfrm>
          </p:grpSpPr>
          <p:sp>
            <p:nvSpPr>
              <p:cNvPr id="166" name=""/>
              <p:cNvSpPr/>
              <p:nvPr/>
            </p:nvSpPr>
            <p:spPr>
              <a:xfrm>
                <a:off x="5318280" y="2960640"/>
                <a:ext cx="520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18280" y="3087720"/>
                <a:ext cx="520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546880" y="2185920"/>
              <a:ext cx="144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46880" y="3087720"/>
              <a:ext cx="144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400560" y="2922480"/>
            <a:ext cx="2538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00560" y="3303720"/>
            <a:ext cx="144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75000" y="2871720"/>
            <a:ext cx="241200" cy="24120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52" y="0"/>
                </a:moveTo>
                <a:lnTo>
                  <a:pt x="152" y="8"/>
                </a:lnTo>
                <a:lnTo>
                  <a:pt x="152" y="40"/>
                </a:lnTo>
                <a:lnTo>
                  <a:pt x="144" y="64"/>
                </a:lnTo>
                <a:lnTo>
                  <a:pt x="128" y="88"/>
                </a:lnTo>
                <a:lnTo>
                  <a:pt x="112" y="104"/>
                </a:lnTo>
                <a:lnTo>
                  <a:pt x="104" y="112"/>
                </a:lnTo>
                <a:lnTo>
                  <a:pt x="80" y="128"/>
                </a:lnTo>
                <a:lnTo>
                  <a:pt x="48" y="144"/>
                </a:lnTo>
                <a:lnTo>
                  <a:pt x="16" y="152"/>
                </a:lnTo>
                <a:lnTo>
                  <a:pt x="0" y="1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11640" y="3075120"/>
            <a:ext cx="101520" cy="63360"/>
          </a:xfrm>
          <a:custGeom>
            <a:avLst/>
            <a:gdLst/>
            <a:ahLst/>
            <a:rect l="l" t="t" r="r" b="b"/>
            <a:pathLst>
              <a:path w="64" h="40">
                <a:moveTo>
                  <a:pt x="64" y="0"/>
                </a:moveTo>
                <a:lnTo>
                  <a:pt x="64" y="40"/>
                </a:lnTo>
                <a:lnTo>
                  <a:pt x="0" y="32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11640" y="3075120"/>
            <a:ext cx="101520" cy="63360"/>
          </a:xfrm>
          <a:custGeom>
            <a:avLst/>
            <a:gdLst/>
            <a:ahLst/>
            <a:rect l="l" t="t" r="r" b="b"/>
            <a:pathLst>
              <a:path w="64" h="40">
                <a:moveTo>
                  <a:pt x="64" y="0"/>
                </a:moveTo>
                <a:lnTo>
                  <a:pt x="64" y="40"/>
                </a:lnTo>
                <a:lnTo>
                  <a:pt x="64" y="40"/>
                </a:lnTo>
                <a:lnTo>
                  <a:pt x="0" y="32"/>
                </a:lnTo>
                <a:lnTo>
                  <a:pt x="0" y="32"/>
                </a:lnTo>
                <a:lnTo>
                  <a:pt x="64" y="0"/>
                </a:lnTo>
                <a:lnTo>
                  <a:pt x="64" y="0"/>
                </a:lnTo>
                <a:lnTo>
                  <a:pt x="64" y="40"/>
                </a:lnTo>
                <a:lnTo>
                  <a:pt x="0" y="32"/>
                </a:lnTo>
                <a:lnTo>
                  <a:pt x="6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27080" y="3024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79000" y="311292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6080" y="175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1520" y="185580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91360" y="133524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age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92080" y="1576440"/>
            <a:ext cx="144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nergy set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01680" y="2554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79160" y="26557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7240" y="2198520"/>
            <a:ext cx="14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7560" y="2973240"/>
            <a:ext cx="253800" cy="546120"/>
          </a:xfrm>
          <a:custGeom>
            <a:avLst/>
            <a:gdLst/>
            <a:ahLst/>
            <a:rect l="l" t="t" r="r" b="b"/>
            <a:pathLst>
              <a:path w="160" h="344">
                <a:moveTo>
                  <a:pt x="88" y="0"/>
                </a:moveTo>
                <a:lnTo>
                  <a:pt x="8" y="40"/>
                </a:lnTo>
                <a:lnTo>
                  <a:pt x="8" y="40"/>
                </a:lnTo>
                <a:lnTo>
                  <a:pt x="152" y="104"/>
                </a:lnTo>
                <a:lnTo>
                  <a:pt x="152" y="104"/>
                </a:lnTo>
                <a:lnTo>
                  <a:pt x="0" y="152"/>
                </a:lnTo>
                <a:lnTo>
                  <a:pt x="0" y="152"/>
                </a:lnTo>
                <a:lnTo>
                  <a:pt x="152" y="208"/>
                </a:lnTo>
                <a:lnTo>
                  <a:pt x="152" y="208"/>
                </a:lnTo>
                <a:lnTo>
                  <a:pt x="0" y="256"/>
                </a:lnTo>
                <a:lnTo>
                  <a:pt x="0" y="256"/>
                </a:lnTo>
                <a:lnTo>
                  <a:pt x="160" y="320"/>
                </a:lnTo>
                <a:lnTo>
                  <a:pt x="160" y="320"/>
                </a:lnTo>
                <a:lnTo>
                  <a:pt x="80" y="344"/>
                </a:lnTo>
                <a:lnTo>
                  <a:pt x="80" y="3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27560" y="2973240"/>
            <a:ext cx="253800" cy="546120"/>
          </a:xfrm>
          <a:custGeom>
            <a:avLst/>
            <a:gdLst/>
            <a:ahLst/>
            <a:rect l="l" t="t" r="r" b="b"/>
            <a:pathLst>
              <a:path w="160" h="344">
                <a:moveTo>
                  <a:pt x="88" y="0"/>
                </a:moveTo>
                <a:lnTo>
                  <a:pt x="8" y="40"/>
                </a:lnTo>
                <a:lnTo>
                  <a:pt x="152" y="104"/>
                </a:lnTo>
                <a:lnTo>
                  <a:pt x="0" y="152"/>
                </a:lnTo>
                <a:lnTo>
                  <a:pt x="152" y="208"/>
                </a:lnTo>
                <a:lnTo>
                  <a:pt x="0" y="256"/>
                </a:lnTo>
                <a:lnTo>
                  <a:pt x="160" y="320"/>
                </a:lnTo>
                <a:lnTo>
                  <a:pt x="80" y="3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6800" y="3456000"/>
            <a:ext cx="419040" cy="241200"/>
          </a:xfrm>
          <a:custGeom>
            <a:avLst/>
            <a:gdLst/>
            <a:ahLst/>
            <a:rect l="l" t="t" r="r" b="b"/>
            <a:pathLst>
              <a:path w="264" h="152">
                <a:moveTo>
                  <a:pt x="0" y="0"/>
                </a:moveTo>
                <a:lnTo>
                  <a:pt x="264" y="0"/>
                </a:lnTo>
                <a:lnTo>
                  <a:pt x="264" y="152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67240" y="3456000"/>
            <a:ext cx="144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77920" y="325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42800" y="33415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01520" y="2440080"/>
            <a:ext cx="23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98280" y="268128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13080" y="1830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96680" y="19065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05040" y="3468600"/>
            <a:ext cx="86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mp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02520" y="3710160"/>
            <a:ext cx="61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24271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1680" y="266868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0" y="3201840"/>
            <a:ext cx="86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0640" y="344340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2800" y="3684600"/>
            <a:ext cx="8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p r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7000" y="4027320"/>
            <a:ext cx="14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91000" y="426888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92520" y="4344840"/>
            <a:ext cx="254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55880" y="4433760"/>
            <a:ext cx="101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1680" y="1424160"/>
            <a:ext cx="153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enuation,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2400" y="1665360"/>
            <a:ext cx="159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filter 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889600" y="3303720"/>
            <a:ext cx="432000" cy="914400"/>
            <a:chOff x="5889600" y="3303720"/>
            <a:chExt cx="432000" cy="914400"/>
          </a:xfrm>
        </p:grpSpPr>
        <p:sp>
          <p:nvSpPr>
            <p:cNvPr id="208" name=""/>
            <p:cNvSpPr/>
            <p:nvPr/>
          </p:nvSpPr>
          <p:spPr>
            <a:xfrm>
              <a:off x="5889600" y="3303720"/>
              <a:ext cx="114480" cy="177840"/>
            </a:xfrm>
            <a:custGeom>
              <a:avLst/>
              <a:gdLst/>
              <a:ahLst/>
              <a:rect l="l" t="t" r="r" b="b"/>
              <a:pathLst>
                <a:path w="72" h="112">
                  <a:moveTo>
                    <a:pt x="0" y="0"/>
                  </a:moveTo>
                  <a:lnTo>
                    <a:pt x="72" y="88"/>
                  </a:lnTo>
                  <a:lnTo>
                    <a:pt x="48" y="104"/>
                  </a:lnTo>
                  <a:lnTo>
                    <a:pt x="24" y="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965920" y="3468600"/>
              <a:ext cx="35568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597640" y="4294080"/>
            <a:ext cx="181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ducer (actu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94400" y="4535640"/>
            <a:ext cx="211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quivalent net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22400" y="19810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1273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273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732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732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65680" y="1558800"/>
            <a:ext cx="533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260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7200" y="1994040"/>
            <a:ext cx="86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1160" y="95724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95800" y="9144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384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88440" y="1981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79880" y="380880"/>
            <a:ext cx="46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– Thevenin equivalent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34080" y="3505320"/>
            <a:ext cx="459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…  equivalent voltag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4419720"/>
            <a:ext cx="433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…   equivalent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4120" y="43434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94120" y="1523880"/>
            <a:ext cx="67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modeling studies omit the impedance and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tage source as a negative time-domain “spik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8400" y="312408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343400" y="4938840"/>
          <a:ext cx="220968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4938840"/>
                    <a:ext cx="22096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7620120" y="1905120"/>
            <a:ext cx="53316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1676520"/>
            <a:ext cx="3808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236232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6201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872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31484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3720" y="3808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429000" y="2971800"/>
          <a:ext cx="4495680" cy="15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971800"/>
                    <a:ext cx="4495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85800" y="4024440"/>
          <a:ext cx="1905120" cy="56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024440"/>
                    <a:ext cx="190512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76360" y="3808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5867280"/>
            <a:ext cx="702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pulse  with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01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30520" y="1527120"/>
            <a:ext cx="4309920" cy="32940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30520" y="1527120"/>
            <a:ext cx="4309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0520" y="1527120"/>
            <a:ext cx="4309920" cy="32940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630520" y="1527120"/>
            <a:ext cx="1440" cy="329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30520" y="4821120"/>
            <a:ext cx="4309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630520" y="4773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30520" y="1527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00280" y="4849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057480" y="4773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57480" y="1527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484440" y="4773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84440" y="1527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95520" y="4849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21120" y="4773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1120" y="1527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348080" y="4773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8080" y="1527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59160" y="4849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786200" y="4773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86200" y="1527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213520" y="4773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13520" y="1527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22800" y="4849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640480" y="4773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40480" y="1527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76800" y="4773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76800" y="1527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87880" y="4849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504120" y="4773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04120" y="1527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940440" y="4773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40440" y="1527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1520" y="4849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30520" y="48211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891480" y="482112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97360" y="4743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30520" y="44845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891480" y="448452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30520" y="41562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891480" y="41562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97360" y="4079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30520" y="382896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891480" y="382896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30520" y="35020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891480" y="35020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97360" y="3424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30520" y="31748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891480" y="317484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30520" y="28368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891480" y="283680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66840" y="27608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30520" y="25099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891480" y="250992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30520" y="21826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891480" y="21826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66840" y="210492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0520" y="18543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891480" y="18543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30520" y="15271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91480" y="152712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76640" y="1450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30520" y="1527120"/>
            <a:ext cx="4309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30520" y="1527120"/>
            <a:ext cx="4309920" cy="32940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30520" y="1527120"/>
            <a:ext cx="1201680" cy="3216240"/>
          </a:xfrm>
          <a:custGeom>
            <a:avLst/>
            <a:gdLst/>
            <a:ahLst/>
            <a:rect l="l" t="t" r="r" b="b"/>
            <a:pathLst>
              <a:path w="757" h="202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37" y="0"/>
                </a:lnTo>
                <a:lnTo>
                  <a:pt x="44" y="0"/>
                </a:lnTo>
                <a:lnTo>
                  <a:pt x="50" y="0"/>
                </a:lnTo>
                <a:lnTo>
                  <a:pt x="56" y="0"/>
                </a:lnTo>
                <a:lnTo>
                  <a:pt x="62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94" y="0"/>
                </a:lnTo>
                <a:lnTo>
                  <a:pt x="100" y="0"/>
                </a:lnTo>
                <a:lnTo>
                  <a:pt x="106" y="0"/>
                </a:lnTo>
                <a:lnTo>
                  <a:pt x="112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9" y="0"/>
                </a:lnTo>
                <a:lnTo>
                  <a:pt x="175" y="0"/>
                </a:lnTo>
                <a:lnTo>
                  <a:pt x="181" y="0"/>
                </a:lnTo>
                <a:lnTo>
                  <a:pt x="187" y="0"/>
                </a:lnTo>
                <a:lnTo>
                  <a:pt x="194" y="0"/>
                </a:lnTo>
                <a:lnTo>
                  <a:pt x="200" y="0"/>
                </a:lnTo>
                <a:lnTo>
                  <a:pt x="206" y="0"/>
                </a:lnTo>
                <a:lnTo>
                  <a:pt x="213" y="0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38" y="0"/>
                </a:lnTo>
                <a:lnTo>
                  <a:pt x="244" y="0"/>
                </a:lnTo>
                <a:lnTo>
                  <a:pt x="250" y="0"/>
                </a:lnTo>
                <a:lnTo>
                  <a:pt x="256" y="0"/>
                </a:lnTo>
                <a:lnTo>
                  <a:pt x="263" y="0"/>
                </a:lnTo>
                <a:lnTo>
                  <a:pt x="269" y="0"/>
                </a:lnTo>
                <a:lnTo>
                  <a:pt x="275" y="0"/>
                </a:lnTo>
                <a:lnTo>
                  <a:pt x="281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3" y="0"/>
                </a:lnTo>
                <a:lnTo>
                  <a:pt x="319" y="0"/>
                </a:lnTo>
                <a:lnTo>
                  <a:pt x="325" y="0"/>
                </a:lnTo>
                <a:lnTo>
                  <a:pt x="331" y="0"/>
                </a:lnTo>
                <a:lnTo>
                  <a:pt x="338" y="0"/>
                </a:lnTo>
                <a:lnTo>
                  <a:pt x="344" y="0"/>
                </a:lnTo>
                <a:lnTo>
                  <a:pt x="350" y="0"/>
                </a:lnTo>
                <a:lnTo>
                  <a:pt x="356" y="0"/>
                </a:lnTo>
                <a:lnTo>
                  <a:pt x="363" y="0"/>
                </a:lnTo>
                <a:lnTo>
                  <a:pt x="369" y="0"/>
                </a:lnTo>
                <a:lnTo>
                  <a:pt x="375" y="0"/>
                </a:lnTo>
                <a:lnTo>
                  <a:pt x="381" y="0"/>
                </a:lnTo>
                <a:lnTo>
                  <a:pt x="388" y="0"/>
                </a:lnTo>
                <a:lnTo>
                  <a:pt x="394" y="0"/>
                </a:lnTo>
                <a:lnTo>
                  <a:pt x="400" y="0"/>
                </a:lnTo>
                <a:lnTo>
                  <a:pt x="406" y="0"/>
                </a:lnTo>
                <a:lnTo>
                  <a:pt x="413" y="0"/>
                </a:lnTo>
                <a:lnTo>
                  <a:pt x="419" y="0"/>
                </a:lnTo>
                <a:lnTo>
                  <a:pt x="425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7" y="0"/>
                </a:lnTo>
                <a:lnTo>
                  <a:pt x="463" y="0"/>
                </a:lnTo>
                <a:lnTo>
                  <a:pt x="469" y="0"/>
                </a:lnTo>
                <a:lnTo>
                  <a:pt x="475" y="0"/>
                </a:lnTo>
                <a:lnTo>
                  <a:pt x="482" y="0"/>
                </a:lnTo>
                <a:lnTo>
                  <a:pt x="488" y="0"/>
                </a:lnTo>
                <a:lnTo>
                  <a:pt x="494" y="0"/>
                </a:lnTo>
                <a:lnTo>
                  <a:pt x="500" y="0"/>
                </a:lnTo>
                <a:lnTo>
                  <a:pt x="507" y="0"/>
                </a:lnTo>
                <a:lnTo>
                  <a:pt x="513" y="0"/>
                </a:lnTo>
                <a:lnTo>
                  <a:pt x="519" y="0"/>
                </a:lnTo>
                <a:lnTo>
                  <a:pt x="525" y="0"/>
                </a:lnTo>
                <a:lnTo>
                  <a:pt x="532" y="200"/>
                </a:lnTo>
                <a:lnTo>
                  <a:pt x="538" y="401"/>
                </a:lnTo>
                <a:lnTo>
                  <a:pt x="544" y="607"/>
                </a:lnTo>
                <a:lnTo>
                  <a:pt x="550" y="807"/>
                </a:lnTo>
                <a:lnTo>
                  <a:pt x="557" y="1013"/>
                </a:lnTo>
                <a:lnTo>
                  <a:pt x="563" y="1213"/>
                </a:lnTo>
                <a:lnTo>
                  <a:pt x="563" y="1420"/>
                </a:lnTo>
                <a:lnTo>
                  <a:pt x="569" y="1620"/>
                </a:lnTo>
                <a:lnTo>
                  <a:pt x="575" y="1826"/>
                </a:lnTo>
                <a:lnTo>
                  <a:pt x="582" y="2026"/>
                </a:lnTo>
                <a:lnTo>
                  <a:pt x="588" y="1996"/>
                </a:lnTo>
                <a:lnTo>
                  <a:pt x="594" y="1899"/>
                </a:lnTo>
                <a:lnTo>
                  <a:pt x="594" y="1808"/>
                </a:lnTo>
                <a:lnTo>
                  <a:pt x="600" y="1723"/>
                </a:lnTo>
                <a:lnTo>
                  <a:pt x="607" y="1638"/>
                </a:lnTo>
                <a:lnTo>
                  <a:pt x="613" y="1559"/>
                </a:lnTo>
                <a:lnTo>
                  <a:pt x="619" y="1486"/>
                </a:lnTo>
                <a:lnTo>
                  <a:pt x="625" y="1414"/>
                </a:lnTo>
                <a:lnTo>
                  <a:pt x="632" y="1347"/>
                </a:lnTo>
                <a:lnTo>
                  <a:pt x="632" y="1280"/>
                </a:lnTo>
                <a:lnTo>
                  <a:pt x="638" y="1220"/>
                </a:lnTo>
                <a:lnTo>
                  <a:pt x="644" y="1165"/>
                </a:lnTo>
                <a:lnTo>
                  <a:pt x="651" y="1110"/>
                </a:lnTo>
                <a:lnTo>
                  <a:pt x="657" y="1056"/>
                </a:lnTo>
                <a:lnTo>
                  <a:pt x="663" y="1001"/>
                </a:lnTo>
                <a:lnTo>
                  <a:pt x="669" y="959"/>
                </a:lnTo>
                <a:lnTo>
                  <a:pt x="669" y="910"/>
                </a:lnTo>
                <a:lnTo>
                  <a:pt x="676" y="868"/>
                </a:lnTo>
                <a:lnTo>
                  <a:pt x="682" y="825"/>
                </a:lnTo>
                <a:lnTo>
                  <a:pt x="688" y="783"/>
                </a:lnTo>
                <a:lnTo>
                  <a:pt x="694" y="746"/>
                </a:lnTo>
                <a:lnTo>
                  <a:pt x="701" y="710"/>
                </a:lnTo>
                <a:lnTo>
                  <a:pt x="701" y="680"/>
                </a:lnTo>
                <a:lnTo>
                  <a:pt x="707" y="643"/>
                </a:lnTo>
                <a:lnTo>
                  <a:pt x="713" y="613"/>
                </a:lnTo>
                <a:lnTo>
                  <a:pt x="719" y="583"/>
                </a:lnTo>
                <a:lnTo>
                  <a:pt x="726" y="558"/>
                </a:lnTo>
                <a:lnTo>
                  <a:pt x="732" y="528"/>
                </a:lnTo>
                <a:lnTo>
                  <a:pt x="738" y="504"/>
                </a:lnTo>
                <a:lnTo>
                  <a:pt x="738" y="479"/>
                </a:lnTo>
                <a:lnTo>
                  <a:pt x="744" y="455"/>
                </a:lnTo>
                <a:lnTo>
                  <a:pt x="751" y="437"/>
                </a:lnTo>
                <a:lnTo>
                  <a:pt x="757" y="41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32200" y="1527120"/>
            <a:ext cx="1222560" cy="655560"/>
          </a:xfrm>
          <a:custGeom>
            <a:avLst/>
            <a:gdLst/>
            <a:ahLst/>
            <a:rect l="l" t="t" r="r" b="b"/>
            <a:pathLst>
              <a:path w="770" h="413">
                <a:moveTo>
                  <a:pt x="0" y="413"/>
                </a:moveTo>
                <a:lnTo>
                  <a:pt x="6" y="394"/>
                </a:lnTo>
                <a:lnTo>
                  <a:pt x="12" y="376"/>
                </a:lnTo>
                <a:lnTo>
                  <a:pt x="19" y="358"/>
                </a:lnTo>
                <a:lnTo>
                  <a:pt x="19" y="340"/>
                </a:lnTo>
                <a:lnTo>
                  <a:pt x="25" y="322"/>
                </a:lnTo>
                <a:lnTo>
                  <a:pt x="31" y="310"/>
                </a:lnTo>
                <a:lnTo>
                  <a:pt x="37" y="291"/>
                </a:lnTo>
                <a:lnTo>
                  <a:pt x="44" y="279"/>
                </a:lnTo>
                <a:lnTo>
                  <a:pt x="50" y="267"/>
                </a:lnTo>
                <a:lnTo>
                  <a:pt x="50" y="255"/>
                </a:lnTo>
                <a:lnTo>
                  <a:pt x="56" y="243"/>
                </a:lnTo>
                <a:lnTo>
                  <a:pt x="62" y="231"/>
                </a:lnTo>
                <a:lnTo>
                  <a:pt x="69" y="219"/>
                </a:lnTo>
                <a:lnTo>
                  <a:pt x="75" y="206"/>
                </a:lnTo>
                <a:lnTo>
                  <a:pt x="81" y="200"/>
                </a:lnTo>
                <a:lnTo>
                  <a:pt x="87" y="188"/>
                </a:lnTo>
                <a:lnTo>
                  <a:pt x="87" y="176"/>
                </a:lnTo>
                <a:lnTo>
                  <a:pt x="94" y="170"/>
                </a:lnTo>
                <a:lnTo>
                  <a:pt x="100" y="164"/>
                </a:lnTo>
                <a:lnTo>
                  <a:pt x="106" y="152"/>
                </a:lnTo>
                <a:lnTo>
                  <a:pt x="113" y="146"/>
                </a:lnTo>
                <a:lnTo>
                  <a:pt x="119" y="134"/>
                </a:lnTo>
                <a:lnTo>
                  <a:pt x="125" y="128"/>
                </a:lnTo>
                <a:lnTo>
                  <a:pt x="131" y="121"/>
                </a:lnTo>
                <a:lnTo>
                  <a:pt x="138" y="115"/>
                </a:lnTo>
                <a:lnTo>
                  <a:pt x="144" y="109"/>
                </a:lnTo>
                <a:lnTo>
                  <a:pt x="150" y="103"/>
                </a:lnTo>
                <a:lnTo>
                  <a:pt x="163" y="91"/>
                </a:lnTo>
                <a:lnTo>
                  <a:pt x="156" y="91"/>
                </a:lnTo>
                <a:lnTo>
                  <a:pt x="163" y="91"/>
                </a:lnTo>
                <a:lnTo>
                  <a:pt x="169" y="85"/>
                </a:lnTo>
                <a:lnTo>
                  <a:pt x="175" y="79"/>
                </a:lnTo>
                <a:lnTo>
                  <a:pt x="181" y="79"/>
                </a:lnTo>
                <a:lnTo>
                  <a:pt x="188" y="73"/>
                </a:lnTo>
                <a:lnTo>
                  <a:pt x="194" y="67"/>
                </a:lnTo>
                <a:lnTo>
                  <a:pt x="200" y="61"/>
                </a:lnTo>
                <a:lnTo>
                  <a:pt x="206" y="61"/>
                </a:lnTo>
                <a:lnTo>
                  <a:pt x="213" y="55"/>
                </a:lnTo>
                <a:lnTo>
                  <a:pt x="219" y="55"/>
                </a:lnTo>
                <a:lnTo>
                  <a:pt x="225" y="49"/>
                </a:lnTo>
                <a:lnTo>
                  <a:pt x="231" y="43"/>
                </a:lnTo>
                <a:lnTo>
                  <a:pt x="238" y="43"/>
                </a:lnTo>
                <a:lnTo>
                  <a:pt x="244" y="43"/>
                </a:lnTo>
                <a:lnTo>
                  <a:pt x="250" y="37"/>
                </a:lnTo>
                <a:lnTo>
                  <a:pt x="256" y="37"/>
                </a:lnTo>
                <a:lnTo>
                  <a:pt x="263" y="30"/>
                </a:lnTo>
                <a:lnTo>
                  <a:pt x="269" y="30"/>
                </a:lnTo>
                <a:lnTo>
                  <a:pt x="275" y="30"/>
                </a:lnTo>
                <a:lnTo>
                  <a:pt x="281" y="30"/>
                </a:lnTo>
                <a:lnTo>
                  <a:pt x="288" y="24"/>
                </a:lnTo>
                <a:lnTo>
                  <a:pt x="294" y="24"/>
                </a:lnTo>
                <a:lnTo>
                  <a:pt x="300" y="24"/>
                </a:lnTo>
                <a:lnTo>
                  <a:pt x="306" y="24"/>
                </a:lnTo>
                <a:lnTo>
                  <a:pt x="313" y="18"/>
                </a:lnTo>
                <a:lnTo>
                  <a:pt x="319" y="18"/>
                </a:lnTo>
                <a:lnTo>
                  <a:pt x="325" y="18"/>
                </a:lnTo>
                <a:lnTo>
                  <a:pt x="332" y="18"/>
                </a:lnTo>
                <a:lnTo>
                  <a:pt x="338" y="18"/>
                </a:lnTo>
                <a:lnTo>
                  <a:pt x="344" y="12"/>
                </a:lnTo>
                <a:lnTo>
                  <a:pt x="350" y="12"/>
                </a:lnTo>
                <a:lnTo>
                  <a:pt x="357" y="12"/>
                </a:lnTo>
                <a:lnTo>
                  <a:pt x="363" y="12"/>
                </a:lnTo>
                <a:lnTo>
                  <a:pt x="369" y="12"/>
                </a:lnTo>
                <a:lnTo>
                  <a:pt x="375" y="12"/>
                </a:lnTo>
                <a:lnTo>
                  <a:pt x="382" y="12"/>
                </a:lnTo>
                <a:lnTo>
                  <a:pt x="388" y="6"/>
                </a:lnTo>
                <a:lnTo>
                  <a:pt x="394" y="6"/>
                </a:lnTo>
                <a:lnTo>
                  <a:pt x="400" y="6"/>
                </a:lnTo>
                <a:lnTo>
                  <a:pt x="407" y="6"/>
                </a:lnTo>
                <a:lnTo>
                  <a:pt x="413" y="6"/>
                </a:lnTo>
                <a:lnTo>
                  <a:pt x="419" y="6"/>
                </a:lnTo>
                <a:lnTo>
                  <a:pt x="425" y="6"/>
                </a:lnTo>
                <a:lnTo>
                  <a:pt x="432" y="6"/>
                </a:lnTo>
                <a:lnTo>
                  <a:pt x="438" y="6"/>
                </a:lnTo>
                <a:lnTo>
                  <a:pt x="444" y="6"/>
                </a:lnTo>
                <a:lnTo>
                  <a:pt x="450" y="6"/>
                </a:lnTo>
                <a:lnTo>
                  <a:pt x="457" y="6"/>
                </a:lnTo>
                <a:lnTo>
                  <a:pt x="463" y="0"/>
                </a:lnTo>
                <a:lnTo>
                  <a:pt x="469" y="0"/>
                </a:lnTo>
                <a:lnTo>
                  <a:pt x="475" y="0"/>
                </a:lnTo>
                <a:lnTo>
                  <a:pt x="482" y="0"/>
                </a:lnTo>
                <a:lnTo>
                  <a:pt x="488" y="0"/>
                </a:lnTo>
                <a:lnTo>
                  <a:pt x="494" y="0"/>
                </a:lnTo>
                <a:lnTo>
                  <a:pt x="500" y="0"/>
                </a:lnTo>
                <a:lnTo>
                  <a:pt x="507" y="0"/>
                </a:lnTo>
                <a:lnTo>
                  <a:pt x="513" y="0"/>
                </a:lnTo>
                <a:lnTo>
                  <a:pt x="519" y="0"/>
                </a:lnTo>
                <a:lnTo>
                  <a:pt x="525" y="0"/>
                </a:lnTo>
                <a:lnTo>
                  <a:pt x="532" y="0"/>
                </a:lnTo>
                <a:lnTo>
                  <a:pt x="538" y="0"/>
                </a:lnTo>
                <a:lnTo>
                  <a:pt x="544" y="0"/>
                </a:lnTo>
                <a:lnTo>
                  <a:pt x="551" y="0"/>
                </a:lnTo>
                <a:lnTo>
                  <a:pt x="557" y="0"/>
                </a:lnTo>
                <a:lnTo>
                  <a:pt x="563" y="0"/>
                </a:lnTo>
                <a:lnTo>
                  <a:pt x="569" y="0"/>
                </a:lnTo>
                <a:lnTo>
                  <a:pt x="576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601" y="0"/>
                </a:lnTo>
                <a:lnTo>
                  <a:pt x="607" y="0"/>
                </a:lnTo>
                <a:lnTo>
                  <a:pt x="613" y="0"/>
                </a:lnTo>
                <a:lnTo>
                  <a:pt x="619" y="0"/>
                </a:lnTo>
                <a:lnTo>
                  <a:pt x="626" y="0"/>
                </a:lnTo>
                <a:lnTo>
                  <a:pt x="632" y="0"/>
                </a:lnTo>
                <a:lnTo>
                  <a:pt x="638" y="0"/>
                </a:lnTo>
                <a:lnTo>
                  <a:pt x="644" y="0"/>
                </a:lnTo>
                <a:lnTo>
                  <a:pt x="651" y="0"/>
                </a:lnTo>
                <a:lnTo>
                  <a:pt x="657" y="0"/>
                </a:lnTo>
                <a:lnTo>
                  <a:pt x="663" y="0"/>
                </a:lnTo>
                <a:lnTo>
                  <a:pt x="669" y="0"/>
                </a:lnTo>
                <a:lnTo>
                  <a:pt x="676" y="0"/>
                </a:lnTo>
                <a:lnTo>
                  <a:pt x="682" y="0"/>
                </a:lnTo>
                <a:lnTo>
                  <a:pt x="688" y="0"/>
                </a:lnTo>
                <a:lnTo>
                  <a:pt x="694" y="0"/>
                </a:lnTo>
                <a:lnTo>
                  <a:pt x="701" y="0"/>
                </a:lnTo>
                <a:lnTo>
                  <a:pt x="707" y="0"/>
                </a:lnTo>
                <a:lnTo>
                  <a:pt x="713" y="0"/>
                </a:lnTo>
                <a:lnTo>
                  <a:pt x="719" y="0"/>
                </a:lnTo>
                <a:lnTo>
                  <a:pt x="726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1" y="0"/>
                </a:lnTo>
                <a:lnTo>
                  <a:pt x="757" y="0"/>
                </a:lnTo>
                <a:lnTo>
                  <a:pt x="763" y="0"/>
                </a:lnTo>
                <a:lnTo>
                  <a:pt x="77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54760" y="1527120"/>
            <a:ext cx="126036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5" y="0"/>
                </a:lnTo>
                <a:lnTo>
                  <a:pt x="31" y="0"/>
                </a:lnTo>
                <a:lnTo>
                  <a:pt x="37" y="0"/>
                </a:lnTo>
                <a:lnTo>
                  <a:pt x="43" y="0"/>
                </a:lnTo>
                <a:lnTo>
                  <a:pt x="50" y="0"/>
                </a:lnTo>
                <a:lnTo>
                  <a:pt x="56" y="0"/>
                </a:lnTo>
                <a:lnTo>
                  <a:pt x="62" y="0"/>
                </a:lnTo>
                <a:lnTo>
                  <a:pt x="68" y="0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93" y="0"/>
                </a:lnTo>
                <a:lnTo>
                  <a:pt x="100" y="0"/>
                </a:lnTo>
                <a:lnTo>
                  <a:pt x="106" y="0"/>
                </a:lnTo>
                <a:lnTo>
                  <a:pt x="112" y="0"/>
                </a:lnTo>
                <a:lnTo>
                  <a:pt x="118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3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5" y="0"/>
                </a:lnTo>
                <a:lnTo>
                  <a:pt x="181" y="0"/>
                </a:lnTo>
                <a:lnTo>
                  <a:pt x="187" y="0"/>
                </a:lnTo>
                <a:lnTo>
                  <a:pt x="193" y="0"/>
                </a:lnTo>
                <a:lnTo>
                  <a:pt x="200" y="0"/>
                </a:lnTo>
                <a:lnTo>
                  <a:pt x="206" y="0"/>
                </a:lnTo>
                <a:lnTo>
                  <a:pt x="212" y="0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37" y="0"/>
                </a:lnTo>
                <a:lnTo>
                  <a:pt x="244" y="0"/>
                </a:lnTo>
                <a:lnTo>
                  <a:pt x="250" y="0"/>
                </a:lnTo>
                <a:lnTo>
                  <a:pt x="256" y="0"/>
                </a:lnTo>
                <a:lnTo>
                  <a:pt x="262" y="0"/>
                </a:lnTo>
                <a:lnTo>
                  <a:pt x="269" y="0"/>
                </a:lnTo>
                <a:lnTo>
                  <a:pt x="275" y="0"/>
                </a:lnTo>
                <a:lnTo>
                  <a:pt x="281" y="0"/>
                </a:lnTo>
                <a:lnTo>
                  <a:pt x="287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2" y="0"/>
                </a:lnTo>
                <a:lnTo>
                  <a:pt x="319" y="0"/>
                </a:lnTo>
                <a:lnTo>
                  <a:pt x="325" y="0"/>
                </a:lnTo>
                <a:lnTo>
                  <a:pt x="331" y="0"/>
                </a:lnTo>
                <a:lnTo>
                  <a:pt x="337" y="0"/>
                </a:lnTo>
                <a:lnTo>
                  <a:pt x="344" y="0"/>
                </a:lnTo>
                <a:lnTo>
                  <a:pt x="350" y="0"/>
                </a:lnTo>
                <a:lnTo>
                  <a:pt x="356" y="0"/>
                </a:lnTo>
                <a:lnTo>
                  <a:pt x="362" y="0"/>
                </a:lnTo>
                <a:lnTo>
                  <a:pt x="369" y="0"/>
                </a:lnTo>
                <a:lnTo>
                  <a:pt x="375" y="0"/>
                </a:lnTo>
                <a:lnTo>
                  <a:pt x="381" y="0"/>
                </a:lnTo>
                <a:lnTo>
                  <a:pt x="387" y="0"/>
                </a:lnTo>
                <a:lnTo>
                  <a:pt x="394" y="0"/>
                </a:lnTo>
                <a:lnTo>
                  <a:pt x="400" y="0"/>
                </a:lnTo>
                <a:lnTo>
                  <a:pt x="406" y="0"/>
                </a:lnTo>
                <a:lnTo>
                  <a:pt x="412" y="0"/>
                </a:lnTo>
                <a:lnTo>
                  <a:pt x="419" y="0"/>
                </a:lnTo>
                <a:lnTo>
                  <a:pt x="425" y="0"/>
                </a:lnTo>
                <a:lnTo>
                  <a:pt x="431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3" y="0"/>
                </a:lnTo>
                <a:lnTo>
                  <a:pt x="469" y="0"/>
                </a:lnTo>
                <a:lnTo>
                  <a:pt x="475" y="0"/>
                </a:lnTo>
                <a:lnTo>
                  <a:pt x="481" y="0"/>
                </a:lnTo>
                <a:lnTo>
                  <a:pt x="488" y="0"/>
                </a:lnTo>
                <a:lnTo>
                  <a:pt x="494" y="0"/>
                </a:lnTo>
                <a:lnTo>
                  <a:pt x="500" y="0"/>
                </a:lnTo>
                <a:lnTo>
                  <a:pt x="506" y="0"/>
                </a:lnTo>
                <a:lnTo>
                  <a:pt x="513" y="0"/>
                </a:lnTo>
                <a:lnTo>
                  <a:pt x="519" y="0"/>
                </a:lnTo>
                <a:lnTo>
                  <a:pt x="525" y="0"/>
                </a:lnTo>
                <a:lnTo>
                  <a:pt x="531" y="0"/>
                </a:lnTo>
                <a:lnTo>
                  <a:pt x="538" y="0"/>
                </a:lnTo>
                <a:lnTo>
                  <a:pt x="544" y="0"/>
                </a:lnTo>
                <a:lnTo>
                  <a:pt x="550" y="0"/>
                </a:lnTo>
                <a:lnTo>
                  <a:pt x="556" y="0"/>
                </a:lnTo>
                <a:lnTo>
                  <a:pt x="563" y="0"/>
                </a:lnTo>
                <a:lnTo>
                  <a:pt x="569" y="0"/>
                </a:lnTo>
                <a:lnTo>
                  <a:pt x="575" y="0"/>
                </a:lnTo>
                <a:lnTo>
                  <a:pt x="581" y="0"/>
                </a:lnTo>
                <a:lnTo>
                  <a:pt x="588" y="0"/>
                </a:lnTo>
                <a:lnTo>
                  <a:pt x="594" y="0"/>
                </a:lnTo>
                <a:lnTo>
                  <a:pt x="600" y="0"/>
                </a:lnTo>
                <a:lnTo>
                  <a:pt x="606" y="0"/>
                </a:lnTo>
                <a:lnTo>
                  <a:pt x="613" y="0"/>
                </a:lnTo>
                <a:lnTo>
                  <a:pt x="619" y="0"/>
                </a:lnTo>
                <a:lnTo>
                  <a:pt x="625" y="0"/>
                </a:lnTo>
                <a:lnTo>
                  <a:pt x="631" y="0"/>
                </a:lnTo>
                <a:lnTo>
                  <a:pt x="638" y="0"/>
                </a:lnTo>
                <a:lnTo>
                  <a:pt x="644" y="0"/>
                </a:lnTo>
                <a:lnTo>
                  <a:pt x="650" y="0"/>
                </a:lnTo>
                <a:lnTo>
                  <a:pt x="657" y="0"/>
                </a:lnTo>
                <a:lnTo>
                  <a:pt x="663" y="0"/>
                </a:lnTo>
                <a:lnTo>
                  <a:pt x="669" y="0"/>
                </a:lnTo>
                <a:lnTo>
                  <a:pt x="675" y="0"/>
                </a:lnTo>
                <a:lnTo>
                  <a:pt x="682" y="0"/>
                </a:lnTo>
                <a:lnTo>
                  <a:pt x="688" y="0"/>
                </a:lnTo>
                <a:lnTo>
                  <a:pt x="694" y="0"/>
                </a:lnTo>
                <a:lnTo>
                  <a:pt x="700" y="0"/>
                </a:lnTo>
                <a:lnTo>
                  <a:pt x="707" y="0"/>
                </a:lnTo>
                <a:lnTo>
                  <a:pt x="713" y="0"/>
                </a:lnTo>
                <a:lnTo>
                  <a:pt x="719" y="0"/>
                </a:lnTo>
                <a:lnTo>
                  <a:pt x="725" y="0"/>
                </a:lnTo>
                <a:lnTo>
                  <a:pt x="732" y="0"/>
                </a:lnTo>
                <a:lnTo>
                  <a:pt x="738" y="0"/>
                </a:lnTo>
                <a:lnTo>
                  <a:pt x="744" y="0"/>
                </a:lnTo>
                <a:lnTo>
                  <a:pt x="750" y="0"/>
                </a:lnTo>
                <a:lnTo>
                  <a:pt x="757" y="0"/>
                </a:lnTo>
                <a:lnTo>
                  <a:pt x="763" y="0"/>
                </a:lnTo>
                <a:lnTo>
                  <a:pt x="769" y="0"/>
                </a:lnTo>
                <a:lnTo>
                  <a:pt x="775" y="0"/>
                </a:lnTo>
                <a:lnTo>
                  <a:pt x="782" y="0"/>
                </a:lnTo>
                <a:lnTo>
                  <a:pt x="788" y="0"/>
                </a:lnTo>
                <a:lnTo>
                  <a:pt x="794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15120" y="1527120"/>
            <a:ext cx="625320" cy="1800"/>
          </a:xfrm>
          <a:custGeom>
            <a:avLst/>
            <a:gdLst/>
            <a:ahLst/>
            <a:rect l="l" t="t" r="r" b="b"/>
            <a:pathLst>
              <a:path w="394" h="0">
                <a:moveTo>
                  <a:pt x="0" y="0"/>
                </a:moveTo>
                <a:lnTo>
                  <a:pt x="6" y="0"/>
                </a:lnTo>
                <a:lnTo>
                  <a:pt x="13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38" y="0"/>
                </a:lnTo>
                <a:lnTo>
                  <a:pt x="44" y="0"/>
                </a:lnTo>
                <a:lnTo>
                  <a:pt x="50" y="0"/>
                </a:lnTo>
                <a:lnTo>
                  <a:pt x="56" y="0"/>
                </a:lnTo>
                <a:lnTo>
                  <a:pt x="63" y="0"/>
                </a:lnTo>
                <a:lnTo>
                  <a:pt x="69" y="0"/>
                </a:lnTo>
                <a:lnTo>
                  <a:pt x="75" y="0"/>
                </a:lnTo>
                <a:lnTo>
                  <a:pt x="82" y="0"/>
                </a:lnTo>
                <a:lnTo>
                  <a:pt x="88" y="0"/>
                </a:lnTo>
                <a:lnTo>
                  <a:pt x="94" y="0"/>
                </a:lnTo>
                <a:lnTo>
                  <a:pt x="100" y="0"/>
                </a:lnTo>
                <a:lnTo>
                  <a:pt x="107" y="0"/>
                </a:lnTo>
                <a:lnTo>
                  <a:pt x="113" y="0"/>
                </a:lnTo>
                <a:lnTo>
                  <a:pt x="119" y="0"/>
                </a:lnTo>
                <a:lnTo>
                  <a:pt x="125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7" y="0"/>
                </a:lnTo>
                <a:lnTo>
                  <a:pt x="163" y="0"/>
                </a:lnTo>
                <a:lnTo>
                  <a:pt x="169" y="0"/>
                </a:lnTo>
                <a:lnTo>
                  <a:pt x="175" y="0"/>
                </a:lnTo>
                <a:lnTo>
                  <a:pt x="182" y="0"/>
                </a:lnTo>
                <a:lnTo>
                  <a:pt x="188" y="0"/>
                </a:lnTo>
                <a:lnTo>
                  <a:pt x="194" y="0"/>
                </a:lnTo>
                <a:lnTo>
                  <a:pt x="200" y="0"/>
                </a:lnTo>
                <a:lnTo>
                  <a:pt x="207" y="0"/>
                </a:lnTo>
                <a:lnTo>
                  <a:pt x="213" y="0"/>
                </a:lnTo>
                <a:lnTo>
                  <a:pt x="219" y="0"/>
                </a:lnTo>
                <a:lnTo>
                  <a:pt x="225" y="0"/>
                </a:lnTo>
                <a:lnTo>
                  <a:pt x="232" y="0"/>
                </a:lnTo>
                <a:lnTo>
                  <a:pt x="238" y="0"/>
                </a:lnTo>
                <a:lnTo>
                  <a:pt x="244" y="0"/>
                </a:lnTo>
                <a:lnTo>
                  <a:pt x="250" y="0"/>
                </a:lnTo>
                <a:lnTo>
                  <a:pt x="257" y="0"/>
                </a:lnTo>
                <a:lnTo>
                  <a:pt x="263" y="0"/>
                </a:lnTo>
                <a:lnTo>
                  <a:pt x="269" y="0"/>
                </a:lnTo>
                <a:lnTo>
                  <a:pt x="275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1" y="0"/>
                </a:lnTo>
                <a:lnTo>
                  <a:pt x="307" y="0"/>
                </a:lnTo>
                <a:lnTo>
                  <a:pt x="313" y="0"/>
                </a:lnTo>
                <a:lnTo>
                  <a:pt x="319" y="0"/>
                </a:lnTo>
                <a:lnTo>
                  <a:pt x="326" y="0"/>
                </a:lnTo>
                <a:lnTo>
                  <a:pt x="332" y="0"/>
                </a:lnTo>
                <a:lnTo>
                  <a:pt x="338" y="0"/>
                </a:lnTo>
                <a:lnTo>
                  <a:pt x="344" y="0"/>
                </a:lnTo>
                <a:lnTo>
                  <a:pt x="351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76" y="0"/>
                </a:lnTo>
                <a:lnTo>
                  <a:pt x="382" y="0"/>
                </a:lnTo>
                <a:lnTo>
                  <a:pt x="388" y="0"/>
                </a:lnTo>
                <a:lnTo>
                  <a:pt x="394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343160" y="2696400"/>
            <a:ext cx="10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95480" y="514044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76360" y="3808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lser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990720"/>
            <a:ext cx="601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19600" y="1336680"/>
            <a:ext cx="65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spectrum calculated with FFT look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92320" y="2395440"/>
            <a:ext cx="4740120" cy="36212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92320" y="2395440"/>
            <a:ext cx="474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92320" y="2395440"/>
            <a:ext cx="4740120" cy="3621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092320" y="2395080"/>
            <a:ext cx="1440" cy="362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92320" y="6016680"/>
            <a:ext cx="474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092320" y="59641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92320" y="2395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60640" y="6048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562120" y="59641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62120" y="2395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86160" y="6048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032280" y="59641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32280" y="2395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55960" y="6048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513240" y="59641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13240" y="2395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36920" y="6048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983040" y="59641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83040" y="2395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05280" y="6048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462560" y="59641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62560" y="2395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54920" y="604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932360" y="59641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32360" y="2395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23280" y="604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402160" y="59641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02160" y="2395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93080" y="604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883120" y="59641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83120" y="2395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74040" y="604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353280" y="59641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353280" y="2395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3840" y="604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832440" y="59641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32440" y="2395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25160" y="604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92320" y="60166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778440" y="6016680"/>
            <a:ext cx="53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01800" y="5932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92320" y="56466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778440" y="5646600"/>
            <a:ext cx="5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92320" y="528624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78440" y="5286240"/>
            <a:ext cx="5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01800" y="5202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92320" y="492588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778440" y="4925880"/>
            <a:ext cx="5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92320" y="45673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778440" y="4567320"/>
            <a:ext cx="53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01800" y="44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92320" y="42069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778440" y="4206960"/>
            <a:ext cx="53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92320" y="38354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778440" y="3835440"/>
            <a:ext cx="53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01800" y="3751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92320" y="34765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778440" y="3476520"/>
            <a:ext cx="5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92320" y="3116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778440" y="3116160"/>
            <a:ext cx="5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01800" y="3032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92320" y="27558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778440" y="2755800"/>
            <a:ext cx="5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92320" y="239544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778440" y="2395440"/>
            <a:ext cx="5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01800" y="231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92320" y="2395440"/>
            <a:ext cx="4740120" cy="3621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92320" y="2395440"/>
            <a:ext cx="4686480" cy="3611520"/>
          </a:xfrm>
          <a:custGeom>
            <a:avLst/>
            <a:gdLst/>
            <a:ahLst/>
            <a:rect l="l" t="t" r="r" b="b"/>
            <a:pathLst>
              <a:path w="2952" h="2275">
                <a:moveTo>
                  <a:pt x="0" y="0"/>
                </a:moveTo>
                <a:lnTo>
                  <a:pt x="28" y="67"/>
                </a:lnTo>
                <a:lnTo>
                  <a:pt x="55" y="247"/>
                </a:lnTo>
                <a:lnTo>
                  <a:pt x="90" y="467"/>
                </a:lnTo>
                <a:lnTo>
                  <a:pt x="117" y="687"/>
                </a:lnTo>
                <a:lnTo>
                  <a:pt x="145" y="881"/>
                </a:lnTo>
                <a:lnTo>
                  <a:pt x="179" y="1047"/>
                </a:lnTo>
                <a:lnTo>
                  <a:pt x="207" y="1188"/>
                </a:lnTo>
                <a:lnTo>
                  <a:pt x="234" y="1301"/>
                </a:lnTo>
                <a:lnTo>
                  <a:pt x="269" y="1401"/>
                </a:lnTo>
                <a:lnTo>
                  <a:pt x="296" y="1488"/>
                </a:lnTo>
                <a:lnTo>
                  <a:pt x="324" y="1561"/>
                </a:lnTo>
                <a:lnTo>
                  <a:pt x="358" y="1621"/>
                </a:lnTo>
                <a:lnTo>
                  <a:pt x="386" y="1681"/>
                </a:lnTo>
                <a:lnTo>
                  <a:pt x="413" y="1728"/>
                </a:lnTo>
                <a:lnTo>
                  <a:pt x="447" y="1774"/>
                </a:lnTo>
                <a:lnTo>
                  <a:pt x="475" y="1814"/>
                </a:lnTo>
                <a:lnTo>
                  <a:pt x="503" y="1848"/>
                </a:lnTo>
                <a:lnTo>
                  <a:pt x="537" y="1881"/>
                </a:lnTo>
                <a:lnTo>
                  <a:pt x="564" y="1908"/>
                </a:lnTo>
                <a:lnTo>
                  <a:pt x="592" y="1941"/>
                </a:lnTo>
                <a:lnTo>
                  <a:pt x="626" y="1961"/>
                </a:lnTo>
                <a:lnTo>
                  <a:pt x="654" y="1988"/>
                </a:lnTo>
                <a:lnTo>
                  <a:pt x="681" y="2008"/>
                </a:lnTo>
                <a:lnTo>
                  <a:pt x="716" y="2028"/>
                </a:lnTo>
                <a:lnTo>
                  <a:pt x="743" y="2048"/>
                </a:lnTo>
                <a:lnTo>
                  <a:pt x="771" y="2061"/>
                </a:lnTo>
                <a:lnTo>
                  <a:pt x="805" y="2081"/>
                </a:lnTo>
                <a:lnTo>
                  <a:pt x="833" y="2094"/>
                </a:lnTo>
                <a:lnTo>
                  <a:pt x="860" y="2108"/>
                </a:lnTo>
                <a:lnTo>
                  <a:pt x="895" y="2121"/>
                </a:lnTo>
                <a:lnTo>
                  <a:pt x="922" y="2135"/>
                </a:lnTo>
                <a:lnTo>
                  <a:pt x="950" y="2148"/>
                </a:lnTo>
                <a:lnTo>
                  <a:pt x="984" y="2161"/>
                </a:lnTo>
                <a:lnTo>
                  <a:pt x="1012" y="2168"/>
                </a:lnTo>
                <a:lnTo>
                  <a:pt x="1039" y="2181"/>
                </a:lnTo>
                <a:lnTo>
                  <a:pt x="1074" y="2188"/>
                </a:lnTo>
                <a:lnTo>
                  <a:pt x="1101" y="2195"/>
                </a:lnTo>
                <a:lnTo>
                  <a:pt x="1129" y="2208"/>
                </a:lnTo>
                <a:lnTo>
                  <a:pt x="1163" y="2215"/>
                </a:lnTo>
                <a:lnTo>
                  <a:pt x="1191" y="2221"/>
                </a:lnTo>
                <a:lnTo>
                  <a:pt x="1218" y="2228"/>
                </a:lnTo>
                <a:lnTo>
                  <a:pt x="1252" y="2235"/>
                </a:lnTo>
                <a:lnTo>
                  <a:pt x="1280" y="2241"/>
                </a:lnTo>
                <a:lnTo>
                  <a:pt x="1308" y="2248"/>
                </a:lnTo>
                <a:lnTo>
                  <a:pt x="1342" y="2248"/>
                </a:lnTo>
                <a:lnTo>
                  <a:pt x="1369" y="2255"/>
                </a:lnTo>
                <a:lnTo>
                  <a:pt x="1397" y="2261"/>
                </a:lnTo>
                <a:lnTo>
                  <a:pt x="1431" y="2261"/>
                </a:lnTo>
                <a:lnTo>
                  <a:pt x="1459" y="2268"/>
                </a:lnTo>
                <a:lnTo>
                  <a:pt x="1493" y="2268"/>
                </a:lnTo>
                <a:lnTo>
                  <a:pt x="1521" y="2268"/>
                </a:lnTo>
                <a:lnTo>
                  <a:pt x="1548" y="2268"/>
                </a:lnTo>
                <a:lnTo>
                  <a:pt x="1583" y="2268"/>
                </a:lnTo>
                <a:lnTo>
                  <a:pt x="1610" y="2261"/>
                </a:lnTo>
                <a:lnTo>
                  <a:pt x="1638" y="2261"/>
                </a:lnTo>
                <a:lnTo>
                  <a:pt x="1672" y="2261"/>
                </a:lnTo>
                <a:lnTo>
                  <a:pt x="1700" y="2261"/>
                </a:lnTo>
                <a:lnTo>
                  <a:pt x="1727" y="2255"/>
                </a:lnTo>
                <a:lnTo>
                  <a:pt x="1762" y="2255"/>
                </a:lnTo>
                <a:lnTo>
                  <a:pt x="1789" y="2255"/>
                </a:lnTo>
                <a:lnTo>
                  <a:pt x="1817" y="2255"/>
                </a:lnTo>
                <a:lnTo>
                  <a:pt x="1851" y="2255"/>
                </a:lnTo>
                <a:lnTo>
                  <a:pt x="1879" y="2248"/>
                </a:lnTo>
                <a:lnTo>
                  <a:pt x="1906" y="2248"/>
                </a:lnTo>
                <a:lnTo>
                  <a:pt x="1941" y="2248"/>
                </a:lnTo>
                <a:lnTo>
                  <a:pt x="1968" y="2248"/>
                </a:lnTo>
                <a:lnTo>
                  <a:pt x="1996" y="2248"/>
                </a:lnTo>
                <a:lnTo>
                  <a:pt x="2030" y="2248"/>
                </a:lnTo>
                <a:lnTo>
                  <a:pt x="2057" y="2248"/>
                </a:lnTo>
                <a:lnTo>
                  <a:pt x="2085" y="2248"/>
                </a:lnTo>
                <a:lnTo>
                  <a:pt x="2119" y="2248"/>
                </a:lnTo>
                <a:lnTo>
                  <a:pt x="2147" y="2248"/>
                </a:lnTo>
                <a:lnTo>
                  <a:pt x="2174" y="2248"/>
                </a:lnTo>
                <a:lnTo>
                  <a:pt x="2209" y="2248"/>
                </a:lnTo>
                <a:lnTo>
                  <a:pt x="2236" y="2255"/>
                </a:lnTo>
                <a:lnTo>
                  <a:pt x="2264" y="2255"/>
                </a:lnTo>
                <a:lnTo>
                  <a:pt x="2298" y="2255"/>
                </a:lnTo>
                <a:lnTo>
                  <a:pt x="2326" y="2255"/>
                </a:lnTo>
                <a:lnTo>
                  <a:pt x="2353" y="2255"/>
                </a:lnTo>
                <a:lnTo>
                  <a:pt x="2388" y="2255"/>
                </a:lnTo>
                <a:lnTo>
                  <a:pt x="2415" y="2255"/>
                </a:lnTo>
                <a:lnTo>
                  <a:pt x="2443" y="2255"/>
                </a:lnTo>
                <a:lnTo>
                  <a:pt x="2477" y="2261"/>
                </a:lnTo>
                <a:lnTo>
                  <a:pt x="2505" y="2261"/>
                </a:lnTo>
                <a:lnTo>
                  <a:pt x="2532" y="2261"/>
                </a:lnTo>
                <a:lnTo>
                  <a:pt x="2567" y="2261"/>
                </a:lnTo>
                <a:lnTo>
                  <a:pt x="2594" y="2261"/>
                </a:lnTo>
                <a:lnTo>
                  <a:pt x="2622" y="2261"/>
                </a:lnTo>
                <a:lnTo>
                  <a:pt x="2656" y="2268"/>
                </a:lnTo>
                <a:lnTo>
                  <a:pt x="2684" y="2268"/>
                </a:lnTo>
                <a:lnTo>
                  <a:pt x="2711" y="2268"/>
                </a:lnTo>
                <a:lnTo>
                  <a:pt x="2746" y="2268"/>
                </a:lnTo>
                <a:lnTo>
                  <a:pt x="2773" y="2268"/>
                </a:lnTo>
                <a:lnTo>
                  <a:pt x="2801" y="2268"/>
                </a:lnTo>
                <a:lnTo>
                  <a:pt x="2835" y="2275"/>
                </a:lnTo>
                <a:lnTo>
                  <a:pt x="2862" y="2275"/>
                </a:lnTo>
                <a:lnTo>
                  <a:pt x="2890" y="2275"/>
                </a:lnTo>
                <a:lnTo>
                  <a:pt x="2924" y="2275"/>
                </a:lnTo>
                <a:lnTo>
                  <a:pt x="2952" y="227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36680" y="6400800"/>
            <a:ext cx="159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,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1112400" y="3991320"/>
            <a:ext cx="48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V(f)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57200" y="228600"/>
            <a:ext cx="3429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t = linspace(0, 0.5, 51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V = pulserVT(200, .005, 0.2, 50,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t,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t, c_shift(V, 100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V = pulserVT(200, .01, 0.2, 50,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t, c_shift(V, 100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 Time (\musec)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label('Voltage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dt = t(2) -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Vf=FourierT(V,d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f = linspace(0, 1/dt, 51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, abs(Vf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(1:100), abs(Vf(1:100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frequency, Hz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label('|V(f)|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81080" y="4495680"/>
            <a:ext cx="5791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V = pulserVT(V0, t0, a1, a2, 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t + eps*( t ==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f = V0/(1-exp(-a1*t0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 = -Vinf*(1- exp(-a1*t)).*(t &lt;= t0) -V0*exp(-a2*(t -t0)).*(t &gt; t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5:42:49Z</dcterms:created>
  <dc:creator>Lester Schmerr</dc:creator>
  <dc:description/>
  <dc:language>en-US</dc:language>
  <cp:lastModifiedBy>Lester Schmerr</cp:lastModifiedBy>
  <dcterms:modified xsi:type="dcterms:W3CDTF">2006-12-19T21:38:31Z</dcterms:modified>
  <cp:revision>24</cp:revision>
  <dc:subject/>
  <dc:title>No Slide Title</dc:title>
</cp:coreProperties>
</file>