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6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24.wmf" ContentType="image/x-wmf"/>
  <Override PartName="/ppt/media/image29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A5CB-930A-4950-B0BD-C7FDD9D0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367A-2BE5-49ED-8A35-5D29CE6D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918-AACB-4E5D-8FC5-0130003B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BA8-AE79-4A77-975D-491A6404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EEA7-C1FE-4FDB-9610-00ECC194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3BA-A975-4900-BBCF-B5E297D4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ECE-2BC4-4C30-9858-DAF49A71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E7A-E651-48E6-8EFC-56E671C8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0E8-07E6-42AE-B4CB-BA53ED3D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343-ACD4-48BA-9EE7-1B944F56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E42-4012-4BA0-A360-8F0E8BF6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F1E-4DC8-480F-A202-796CDE29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3A31-8D69-41B7-91D7-4397B15F2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9.wmf"/><Relationship Id="rId2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1523880"/>
            <a:ext cx="2684520" cy="773280"/>
          </a:xfrm>
          <a:custGeom>
            <a:avLst/>
            <a:gdLst/>
            <a:ahLst/>
            <a:rect l="l" t="t" r="r" b="b"/>
            <a:pathLst>
              <a:path w="1691" h="487">
                <a:moveTo>
                  <a:pt x="0" y="257"/>
                </a:moveTo>
                <a:cubicBezTo>
                  <a:pt x="276" y="257"/>
                  <a:pt x="552" y="257"/>
                  <a:pt x="672" y="257"/>
                </a:cubicBezTo>
                <a:cubicBezTo>
                  <a:pt x="792" y="257"/>
                  <a:pt x="704" y="257"/>
                  <a:pt x="720" y="257"/>
                </a:cubicBezTo>
                <a:cubicBezTo>
                  <a:pt x="736" y="257"/>
                  <a:pt x="755" y="293"/>
                  <a:pt x="768" y="257"/>
                </a:cubicBezTo>
                <a:cubicBezTo>
                  <a:pt x="780" y="220"/>
                  <a:pt x="781" y="0"/>
                  <a:pt x="795" y="38"/>
                </a:cubicBezTo>
                <a:cubicBezTo>
                  <a:pt x="808" y="75"/>
                  <a:pt x="830" y="474"/>
                  <a:pt x="848" y="481"/>
                </a:cubicBezTo>
                <a:cubicBezTo>
                  <a:pt x="865" y="487"/>
                  <a:pt x="885" y="101"/>
                  <a:pt x="901" y="76"/>
                </a:cubicBezTo>
                <a:cubicBezTo>
                  <a:pt x="916" y="50"/>
                  <a:pt x="923" y="295"/>
                  <a:pt x="939" y="326"/>
                </a:cubicBezTo>
                <a:cubicBezTo>
                  <a:pt x="954" y="356"/>
                  <a:pt x="972" y="268"/>
                  <a:pt x="992" y="257"/>
                </a:cubicBezTo>
                <a:cubicBezTo>
                  <a:pt x="1011" y="245"/>
                  <a:pt x="939" y="257"/>
                  <a:pt x="1056" y="257"/>
                </a:cubicBezTo>
                <a:cubicBezTo>
                  <a:pt x="1172" y="257"/>
                  <a:pt x="1431" y="257"/>
                  <a:pt x="1691" y="257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4400" y="35812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035080" y="212760"/>
            <a:ext cx="55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- KLM equivalent circui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64280" y="1828800"/>
            <a:ext cx="7154640" cy="4476960"/>
            <a:chOff x="764280" y="1828800"/>
            <a:chExt cx="7154640" cy="4476960"/>
          </a:xfrm>
        </p:grpSpPr>
        <p:grpSp>
          <p:nvGrpSpPr>
            <p:cNvPr id="301" name=""/>
            <p:cNvGrpSpPr/>
            <p:nvPr/>
          </p:nvGrpSpPr>
          <p:grpSpPr>
            <a:xfrm>
              <a:off x="3163680" y="3774960"/>
              <a:ext cx="635760" cy="1294920"/>
              <a:chOff x="3163680" y="3774960"/>
              <a:chExt cx="635760" cy="129492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3163680" y="4022280"/>
                <a:ext cx="473760" cy="931320"/>
                <a:chOff x="3163680" y="4022280"/>
                <a:chExt cx="473760" cy="9313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180600" y="4022280"/>
                  <a:ext cx="4568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175920" y="4263480"/>
                  <a:ext cx="4568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163680" y="4496760"/>
                  <a:ext cx="4568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163680" y="4725360"/>
                  <a:ext cx="4568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3418920" y="3774960"/>
                <a:ext cx="380520" cy="129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349360" y="3877920"/>
              <a:ext cx="626040" cy="1295280"/>
              <a:chOff x="2349360" y="3877920"/>
              <a:chExt cx="626040" cy="129528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2501640" y="4030200"/>
                <a:ext cx="473760" cy="932040"/>
                <a:chOff x="2501640" y="4030200"/>
                <a:chExt cx="473760" cy="9320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2518560" y="4030200"/>
                  <a:ext cx="45684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513880" y="4271760"/>
                  <a:ext cx="45684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501640" y="4505040"/>
                  <a:ext cx="45684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501640" y="4733640"/>
                  <a:ext cx="45684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2349360" y="3877920"/>
                <a:ext cx="380880" cy="129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101680" y="2415960"/>
              <a:ext cx="52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01680" y="3330360"/>
              <a:ext cx="52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396960" y="2415960"/>
              <a:ext cx="121896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433680" y="3330000"/>
              <a:ext cx="1258560" cy="161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194840" y="4959000"/>
              <a:ext cx="154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1797120" y="3863880"/>
              <a:ext cx="171000" cy="307080"/>
              <a:chOff x="1797120" y="3863880"/>
              <a:chExt cx="171000" cy="307080"/>
            </a:xfrm>
          </p:grpSpPr>
          <p:sp>
            <p:nvSpPr>
              <p:cNvPr id="321" name=""/>
              <p:cNvSpPr/>
              <p:nvPr/>
            </p:nvSpPr>
            <p:spPr>
              <a:xfrm>
                <a:off x="1797120" y="3866760"/>
                <a:ext cx="0" cy="3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968120" y="38638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 flipH="1">
              <a:off x="1187280" y="401616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101680" y="2491920"/>
              <a:ext cx="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7359480" y="2491920"/>
              <a:ext cx="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1187280" y="409212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87280" y="393984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78000" y="233964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750000" y="2311200"/>
              <a:ext cx="53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72720" y="4957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44000" y="351756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i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97240" y="41605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4280" y="4284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07520" y="3428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14600" y="262548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39840" y="1846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480440" y="26589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99040" y="18288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16520" y="1944360"/>
              <a:ext cx="5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26280" y="1903320"/>
              <a:ext cx="5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31920" y="3963600"/>
              <a:ext cx="380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66680" y="4027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511000" y="4028760"/>
              <a:ext cx="24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63960" y="2873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2871720" y="2796840"/>
              <a:ext cx="493200" cy="616320"/>
              <a:chOff x="2871720" y="2796840"/>
              <a:chExt cx="493200" cy="616320"/>
            </a:xfrm>
          </p:grpSpPr>
          <p:sp>
            <p:nvSpPr>
              <p:cNvPr id="346" name=""/>
              <p:cNvSpPr/>
              <p:nvPr/>
            </p:nvSpPr>
            <p:spPr>
              <a:xfrm>
                <a:off x="2871720" y="2903040"/>
                <a:ext cx="455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081960" y="279684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5957280" y="276696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01120" y="427176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82960" y="4514760"/>
              <a:ext cx="131580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30320" y="4549680"/>
              <a:ext cx="171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M sin(kl/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49520" y="4087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5086440" y="5159160"/>
              <a:ext cx="2310120" cy="640080"/>
              <a:chOff x="5086440" y="5159160"/>
              <a:chExt cx="2310120" cy="640080"/>
            </a:xfrm>
          </p:grpSpPr>
          <p:sp>
            <p:nvSpPr>
              <p:cNvPr id="354" name=""/>
              <p:cNvSpPr/>
              <p:nvPr/>
            </p:nvSpPr>
            <p:spPr>
              <a:xfrm>
                <a:off x="5086440" y="5289120"/>
                <a:ext cx="2310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= 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M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sin(kl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818680" y="515916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5157360" y="5795640"/>
              <a:ext cx="207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 =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/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65200" y="573084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523880" y="83808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338920" y="136440"/>
            <a:ext cx="48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ttig model with crystal facing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66880" y="137160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1371600"/>
            <a:ext cx="75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24080" y="1371600"/>
            <a:ext cx="152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05704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2860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2057400" y="137124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523520" y="23623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2952720"/>
            <a:ext cx="182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ing (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17360" y="28018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37920" y="29718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6720" y="27432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2666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352680" y="2590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048120" y="2590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72040" y="2803680"/>
            <a:ext cx="420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ng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poxy bonding, wear plate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6640" y="4114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lay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4280" y="4038480"/>
            <a:ext cx="8384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26708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427824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595840" y="4195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57064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26708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0199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1500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50120" y="42656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94280" y="3567240"/>
            <a:ext cx="81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40880" y="42894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12040" y="3589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060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62560" y="838080"/>
            <a:ext cx="31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transduc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15000" y="1279440"/>
            <a:ext cx="29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= [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[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[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743200" y="5334120"/>
          <a:ext cx="5867280" cy="96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334120"/>
                    <a:ext cx="586728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5904000" y="14605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96200" y="1467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71600" y="76212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809880" y="541008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3429000" y="5562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952880" y="556272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52880" y="6172200"/>
            <a:ext cx="69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3429000" y="6172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3352680" y="5562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407200" y="55767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971800" y="5638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60800" y="5614920"/>
            <a:ext cx="62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30280" y="5029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52680" y="5410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105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5203800" y="990360"/>
            <a:ext cx="2177640" cy="322560"/>
            <a:chOff x="5203800" y="990360"/>
            <a:chExt cx="2177640" cy="322560"/>
          </a:xfrm>
        </p:grpSpPr>
        <p:grpSp>
          <p:nvGrpSpPr>
            <p:cNvPr id="412" name=""/>
            <p:cNvGrpSpPr/>
            <p:nvPr/>
          </p:nvGrpSpPr>
          <p:grpSpPr>
            <a:xfrm>
              <a:off x="5203800" y="990360"/>
              <a:ext cx="866520" cy="313200"/>
              <a:chOff x="5203800" y="990360"/>
              <a:chExt cx="866520" cy="313200"/>
            </a:xfrm>
          </p:grpSpPr>
          <p:sp>
            <p:nvSpPr>
              <p:cNvPr id="413" name=""/>
              <p:cNvSpPr/>
              <p:nvPr/>
            </p:nvSpPr>
            <p:spPr>
              <a:xfrm flipV="1">
                <a:off x="5203800" y="99000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flipV="1">
                <a:off x="5632560" y="99972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091200" y="999720"/>
              <a:ext cx="866520" cy="313200"/>
              <a:chOff x="6091200" y="999720"/>
              <a:chExt cx="866520" cy="313200"/>
            </a:xfrm>
          </p:grpSpPr>
          <p:sp>
            <p:nvSpPr>
              <p:cNvPr id="416" name=""/>
              <p:cNvSpPr/>
              <p:nvPr/>
            </p:nvSpPr>
            <p:spPr>
              <a:xfrm flipV="1">
                <a:off x="6091200" y="99936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 flipV="1">
                <a:off x="6519960" y="100908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5661000" y="990360"/>
              <a:ext cx="866520" cy="313200"/>
              <a:chOff x="5661000" y="990360"/>
              <a:chExt cx="866520" cy="313200"/>
            </a:xfrm>
          </p:grpSpPr>
          <p:sp>
            <p:nvSpPr>
              <p:cNvPr id="419" name=""/>
              <p:cNvSpPr/>
              <p:nvPr/>
            </p:nvSpPr>
            <p:spPr>
              <a:xfrm flipV="1">
                <a:off x="5661000" y="99000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>
                <a:off x="6089760" y="99972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6514920" y="996480"/>
              <a:ext cx="866520" cy="313200"/>
              <a:chOff x="6514920" y="996480"/>
              <a:chExt cx="866520" cy="313200"/>
            </a:xfrm>
          </p:grpSpPr>
          <p:sp>
            <p:nvSpPr>
              <p:cNvPr id="422" name=""/>
              <p:cNvSpPr/>
              <p:nvPr/>
            </p:nvSpPr>
            <p:spPr>
              <a:xfrm flipV="1">
                <a:off x="6514920" y="99612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flipV="1">
                <a:off x="6943680" y="100584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4" name=""/>
          <p:cNvSpPr/>
          <p:nvPr/>
        </p:nvSpPr>
        <p:spPr>
          <a:xfrm rot="2630400">
            <a:off x="4521960" y="1456200"/>
            <a:ext cx="12182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638680" y="5562720"/>
            <a:ext cx="0" cy="61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62720" y="5715000"/>
            <a:ext cx="1587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036160" y="212760"/>
            <a:ext cx="43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– radiation into a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23880" y="83808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28000" y="27432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acoustic port the force and velocit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not independent. We can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5334120" y="3124080"/>
          <a:ext cx="3047760" cy="5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124080"/>
                    <a:ext cx="304776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533520" y="3581280"/>
          <a:ext cx="685800" cy="53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581280"/>
                    <a:ext cx="6858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1130400" y="3657600"/>
            <a:ext cx="791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radiation impedance (a "lumped"para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depends on the velocity  and pressure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acoustic port, the port geometry, and the fluid proper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5791320" y="5562720"/>
          <a:ext cx="685800" cy="53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5562720"/>
                    <a:ext cx="68580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3757680" y="1860480"/>
            <a:ext cx="63360" cy="3571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627360" y="1906560"/>
            <a:ext cx="130320" cy="26208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64000" y="1860480"/>
            <a:ext cx="63360" cy="3571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21040" y="1600200"/>
            <a:ext cx="1228680" cy="9144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67280" y="1730520"/>
            <a:ext cx="82440" cy="653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9328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109600" y="2004840"/>
            <a:ext cx="1447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814840" y="22860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oustic radiation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05120" y="762120"/>
            <a:ext cx="5715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27640" y="914400"/>
            <a:ext cx="656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yleigh-Sommerfeld integral model of radi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s into a fluid by a piston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905120" y="3505320"/>
          <a:ext cx="501804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505320"/>
                    <a:ext cx="501804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914400" y="5181480"/>
          <a:ext cx="6973920" cy="118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181480"/>
                    <a:ext cx="6973920" cy="11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"/>
          <p:cNvSpPr/>
          <p:nvPr/>
        </p:nvSpPr>
        <p:spPr>
          <a:xfrm>
            <a:off x="4133880" y="2374920"/>
            <a:ext cx="3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37120" y="2568600"/>
            <a:ext cx="3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40360" y="3021120"/>
            <a:ext cx="32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41800" y="2728800"/>
            <a:ext cx="3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29200" y="2876400"/>
            <a:ext cx="3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3962520" y="1905120"/>
          <a:ext cx="636480" cy="45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1905120"/>
                    <a:ext cx="63648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3276720" y="236232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81640" y="2389320"/>
            <a:ext cx="0" cy="65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670640" y="1752480"/>
            <a:ext cx="2177640" cy="322560"/>
            <a:chOff x="4670640" y="1752480"/>
            <a:chExt cx="2177640" cy="322560"/>
          </a:xfrm>
        </p:grpSpPr>
        <p:grpSp>
          <p:nvGrpSpPr>
            <p:cNvPr id="462" name=""/>
            <p:cNvGrpSpPr/>
            <p:nvPr/>
          </p:nvGrpSpPr>
          <p:grpSpPr>
            <a:xfrm>
              <a:off x="4670640" y="1752480"/>
              <a:ext cx="866520" cy="313200"/>
              <a:chOff x="4670640" y="1752480"/>
              <a:chExt cx="866520" cy="313200"/>
            </a:xfrm>
          </p:grpSpPr>
          <p:sp>
            <p:nvSpPr>
              <p:cNvPr id="463" name=""/>
              <p:cNvSpPr/>
              <p:nvPr/>
            </p:nvSpPr>
            <p:spPr>
              <a:xfrm flipV="1">
                <a:off x="4670640" y="175212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flipV="1">
                <a:off x="5099400" y="176184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5558040" y="1761840"/>
              <a:ext cx="866520" cy="313200"/>
              <a:chOff x="5558040" y="1761840"/>
              <a:chExt cx="866520" cy="313200"/>
            </a:xfrm>
          </p:grpSpPr>
          <p:sp>
            <p:nvSpPr>
              <p:cNvPr id="466" name=""/>
              <p:cNvSpPr/>
              <p:nvPr/>
            </p:nvSpPr>
            <p:spPr>
              <a:xfrm flipV="1">
                <a:off x="5558040" y="176148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flipV="1">
                <a:off x="5986800" y="177120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5127840" y="1752480"/>
              <a:ext cx="866520" cy="313200"/>
              <a:chOff x="5127840" y="1752480"/>
              <a:chExt cx="866520" cy="313200"/>
            </a:xfrm>
          </p:grpSpPr>
          <p:sp>
            <p:nvSpPr>
              <p:cNvPr id="469" name=""/>
              <p:cNvSpPr/>
              <p:nvPr/>
            </p:nvSpPr>
            <p:spPr>
              <a:xfrm flipV="1">
                <a:off x="5127840" y="175212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 flipV="1">
                <a:off x="5556600" y="176184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5981760" y="1758600"/>
              <a:ext cx="866520" cy="313200"/>
              <a:chOff x="5981760" y="1758600"/>
              <a:chExt cx="866520" cy="313200"/>
            </a:xfrm>
          </p:grpSpPr>
          <p:sp>
            <p:nvSpPr>
              <p:cNvPr id="472" name=""/>
              <p:cNvSpPr/>
              <p:nvPr/>
            </p:nvSpPr>
            <p:spPr>
              <a:xfrm flipV="1">
                <a:off x="5981760" y="1758240"/>
                <a:ext cx="4366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flipV="1">
                <a:off x="6410520" y="1767960"/>
                <a:ext cx="437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4" name=""/>
          <p:cNvSpPr/>
          <p:nvPr/>
        </p:nvSpPr>
        <p:spPr>
          <a:xfrm>
            <a:off x="4114800" y="2666880"/>
            <a:ext cx="23623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84560" y="26258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19880" y="29829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39040" y="28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768840" y="244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7880" y="2362320"/>
            <a:ext cx="284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… fluid wav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2080" y="36990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762120" y="12193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span, 1979: showed that for a circular piston transducer of radiu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coustic radiation impedance obtained from the Rayleigh-Sommerfeld model could be found explicitly in th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44400" y="1565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43600" y="3429000"/>
            <a:ext cx="287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 Besse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9000" y="3962520"/>
            <a:ext cx="277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Struv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19920" y="4648320"/>
            <a:ext cx="120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14840" y="22860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oustic radiation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05120" y="762120"/>
            <a:ext cx="5715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950760" y="2971800"/>
          <a:ext cx="477540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2971800"/>
                    <a:ext cx="47754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814840" y="22860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oustic radiation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905120" y="762120"/>
            <a:ext cx="5715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91320" y="4800600"/>
            <a:ext cx="33526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&gt; ka=linspace(0, 25, 10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&gt; ka = ka + eps*( ka ==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&gt; Z = 1 -(besselj(1,ka)-i*struve(ka))./k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&gt; plot(ka, abs(Z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&gt; xlabel(' ka 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&gt; ylabel( ' V/\rhoc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&gt; ylabel( ' Z/\rhoc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40160" y="1488960"/>
            <a:ext cx="3779640" cy="288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40160" y="1488960"/>
            <a:ext cx="3779640" cy="2886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40160" y="1488960"/>
            <a:ext cx="3779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40160" y="1488960"/>
            <a:ext cx="3779640" cy="2886120"/>
          </a:xfrm>
          <a:custGeom>
            <a:avLst/>
            <a:gdLst/>
            <a:ahLst/>
            <a:rect l="l" t="t" r="r" b="b"/>
            <a:pathLst>
              <a:path w="434" h="342">
                <a:moveTo>
                  <a:pt x="0" y="342"/>
                </a:moveTo>
                <a:lnTo>
                  <a:pt x="434" y="342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2514600" y="1488600"/>
            <a:ext cx="1440" cy="288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40160" y="4375080"/>
            <a:ext cx="3779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514600" y="433404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514600" y="14889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514240" y="4400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289320" y="433404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89320" y="14889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63400" y="4400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4046400" y="433404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46400" y="14889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985920" y="4400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805280" y="433404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05280" y="14889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43000" y="4400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5562720" y="433404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562720" y="14889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501880" y="4400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6319800" y="433404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319800" y="14889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259320" y="4400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40160" y="437508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276600" y="437508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23440" y="43084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540160" y="396252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6276600" y="396252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23440" y="3894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540160" y="354816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6276600" y="35481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323440" y="34815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540160" y="313524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6276600" y="31352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23440" y="3067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540160" y="272088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6276600" y="272088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323440" y="26542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540160" y="230832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6276600" y="230832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418840" y="2239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540160" y="189396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6276600" y="1893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323440" y="18273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40160" y="148896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6276600" y="148896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23440" y="14223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40160" y="1987560"/>
            <a:ext cx="3779640" cy="2387520"/>
          </a:xfrm>
          <a:custGeom>
            <a:avLst/>
            <a:gdLst/>
            <a:ahLst/>
            <a:rect l="l" t="t" r="r" b="b"/>
            <a:pathLst>
              <a:path w="2381" h="1504">
                <a:moveTo>
                  <a:pt x="0" y="1504"/>
                </a:moveTo>
                <a:lnTo>
                  <a:pt x="22" y="1483"/>
                </a:lnTo>
                <a:lnTo>
                  <a:pt x="44" y="1435"/>
                </a:lnTo>
                <a:lnTo>
                  <a:pt x="72" y="1356"/>
                </a:lnTo>
                <a:lnTo>
                  <a:pt x="94" y="1255"/>
                </a:lnTo>
                <a:lnTo>
                  <a:pt x="116" y="1138"/>
                </a:lnTo>
                <a:lnTo>
                  <a:pt x="143" y="1015"/>
                </a:lnTo>
                <a:lnTo>
                  <a:pt x="165" y="888"/>
                </a:lnTo>
                <a:lnTo>
                  <a:pt x="192" y="760"/>
                </a:lnTo>
                <a:lnTo>
                  <a:pt x="214" y="638"/>
                </a:lnTo>
                <a:lnTo>
                  <a:pt x="236" y="521"/>
                </a:lnTo>
                <a:lnTo>
                  <a:pt x="264" y="420"/>
                </a:lnTo>
                <a:lnTo>
                  <a:pt x="286" y="324"/>
                </a:lnTo>
                <a:lnTo>
                  <a:pt x="308" y="239"/>
                </a:lnTo>
                <a:lnTo>
                  <a:pt x="335" y="170"/>
                </a:lnTo>
                <a:lnTo>
                  <a:pt x="357" y="111"/>
                </a:lnTo>
                <a:lnTo>
                  <a:pt x="384" y="64"/>
                </a:lnTo>
                <a:lnTo>
                  <a:pt x="406" y="32"/>
                </a:lnTo>
                <a:lnTo>
                  <a:pt x="428" y="10"/>
                </a:lnTo>
                <a:lnTo>
                  <a:pt x="456" y="0"/>
                </a:lnTo>
                <a:lnTo>
                  <a:pt x="478" y="0"/>
                </a:lnTo>
                <a:lnTo>
                  <a:pt x="505" y="10"/>
                </a:lnTo>
                <a:lnTo>
                  <a:pt x="527" y="32"/>
                </a:lnTo>
                <a:lnTo>
                  <a:pt x="549" y="53"/>
                </a:lnTo>
                <a:lnTo>
                  <a:pt x="576" y="85"/>
                </a:lnTo>
                <a:lnTo>
                  <a:pt x="598" y="111"/>
                </a:lnTo>
                <a:lnTo>
                  <a:pt x="620" y="143"/>
                </a:lnTo>
                <a:lnTo>
                  <a:pt x="648" y="175"/>
                </a:lnTo>
                <a:lnTo>
                  <a:pt x="670" y="207"/>
                </a:lnTo>
                <a:lnTo>
                  <a:pt x="697" y="234"/>
                </a:lnTo>
                <a:lnTo>
                  <a:pt x="719" y="250"/>
                </a:lnTo>
                <a:lnTo>
                  <a:pt x="741" y="266"/>
                </a:lnTo>
                <a:lnTo>
                  <a:pt x="768" y="276"/>
                </a:lnTo>
                <a:lnTo>
                  <a:pt x="790" y="282"/>
                </a:lnTo>
                <a:lnTo>
                  <a:pt x="818" y="276"/>
                </a:lnTo>
                <a:lnTo>
                  <a:pt x="840" y="271"/>
                </a:lnTo>
                <a:lnTo>
                  <a:pt x="862" y="260"/>
                </a:lnTo>
                <a:lnTo>
                  <a:pt x="889" y="244"/>
                </a:lnTo>
                <a:lnTo>
                  <a:pt x="911" y="228"/>
                </a:lnTo>
                <a:lnTo>
                  <a:pt x="933" y="212"/>
                </a:lnTo>
                <a:lnTo>
                  <a:pt x="960" y="197"/>
                </a:lnTo>
                <a:lnTo>
                  <a:pt x="982" y="181"/>
                </a:lnTo>
                <a:lnTo>
                  <a:pt x="1010" y="170"/>
                </a:lnTo>
                <a:lnTo>
                  <a:pt x="1032" y="159"/>
                </a:lnTo>
                <a:lnTo>
                  <a:pt x="1054" y="154"/>
                </a:lnTo>
                <a:lnTo>
                  <a:pt x="1081" y="149"/>
                </a:lnTo>
                <a:lnTo>
                  <a:pt x="1103" y="149"/>
                </a:lnTo>
                <a:lnTo>
                  <a:pt x="1131" y="149"/>
                </a:lnTo>
                <a:lnTo>
                  <a:pt x="1152" y="154"/>
                </a:lnTo>
                <a:lnTo>
                  <a:pt x="1174" y="165"/>
                </a:lnTo>
                <a:lnTo>
                  <a:pt x="1202" y="170"/>
                </a:lnTo>
                <a:lnTo>
                  <a:pt x="1224" y="181"/>
                </a:lnTo>
                <a:lnTo>
                  <a:pt x="1246" y="191"/>
                </a:lnTo>
                <a:lnTo>
                  <a:pt x="1273" y="202"/>
                </a:lnTo>
                <a:lnTo>
                  <a:pt x="1295" y="212"/>
                </a:lnTo>
                <a:lnTo>
                  <a:pt x="1323" y="223"/>
                </a:lnTo>
                <a:lnTo>
                  <a:pt x="1344" y="228"/>
                </a:lnTo>
                <a:lnTo>
                  <a:pt x="1366" y="234"/>
                </a:lnTo>
                <a:lnTo>
                  <a:pt x="1394" y="239"/>
                </a:lnTo>
                <a:lnTo>
                  <a:pt x="1416" y="239"/>
                </a:lnTo>
                <a:lnTo>
                  <a:pt x="1443" y="234"/>
                </a:lnTo>
                <a:lnTo>
                  <a:pt x="1465" y="228"/>
                </a:lnTo>
                <a:lnTo>
                  <a:pt x="1487" y="223"/>
                </a:lnTo>
                <a:lnTo>
                  <a:pt x="1515" y="218"/>
                </a:lnTo>
                <a:lnTo>
                  <a:pt x="1536" y="207"/>
                </a:lnTo>
                <a:lnTo>
                  <a:pt x="1558" y="202"/>
                </a:lnTo>
                <a:lnTo>
                  <a:pt x="1586" y="191"/>
                </a:lnTo>
                <a:lnTo>
                  <a:pt x="1608" y="186"/>
                </a:lnTo>
                <a:lnTo>
                  <a:pt x="1635" y="181"/>
                </a:lnTo>
                <a:lnTo>
                  <a:pt x="1657" y="175"/>
                </a:lnTo>
                <a:lnTo>
                  <a:pt x="1679" y="175"/>
                </a:lnTo>
                <a:lnTo>
                  <a:pt x="1707" y="175"/>
                </a:lnTo>
                <a:lnTo>
                  <a:pt x="1728" y="175"/>
                </a:lnTo>
                <a:lnTo>
                  <a:pt x="1756" y="175"/>
                </a:lnTo>
                <a:lnTo>
                  <a:pt x="1778" y="181"/>
                </a:lnTo>
                <a:lnTo>
                  <a:pt x="1800" y="186"/>
                </a:lnTo>
                <a:lnTo>
                  <a:pt x="1827" y="191"/>
                </a:lnTo>
                <a:lnTo>
                  <a:pt x="1849" y="197"/>
                </a:lnTo>
                <a:lnTo>
                  <a:pt x="1871" y="202"/>
                </a:lnTo>
                <a:lnTo>
                  <a:pt x="1899" y="212"/>
                </a:lnTo>
                <a:lnTo>
                  <a:pt x="1920" y="212"/>
                </a:lnTo>
                <a:lnTo>
                  <a:pt x="1948" y="218"/>
                </a:lnTo>
                <a:lnTo>
                  <a:pt x="1970" y="223"/>
                </a:lnTo>
                <a:lnTo>
                  <a:pt x="1992" y="223"/>
                </a:lnTo>
                <a:lnTo>
                  <a:pt x="2019" y="223"/>
                </a:lnTo>
                <a:lnTo>
                  <a:pt x="2041" y="223"/>
                </a:lnTo>
                <a:lnTo>
                  <a:pt x="2069" y="218"/>
                </a:lnTo>
                <a:lnTo>
                  <a:pt x="2091" y="218"/>
                </a:lnTo>
                <a:lnTo>
                  <a:pt x="2112" y="212"/>
                </a:lnTo>
                <a:lnTo>
                  <a:pt x="2140" y="207"/>
                </a:lnTo>
                <a:lnTo>
                  <a:pt x="2162" y="202"/>
                </a:lnTo>
                <a:lnTo>
                  <a:pt x="2184" y="197"/>
                </a:lnTo>
                <a:lnTo>
                  <a:pt x="2211" y="191"/>
                </a:lnTo>
                <a:lnTo>
                  <a:pt x="2233" y="191"/>
                </a:lnTo>
                <a:lnTo>
                  <a:pt x="2261" y="186"/>
                </a:lnTo>
                <a:lnTo>
                  <a:pt x="2283" y="186"/>
                </a:lnTo>
                <a:lnTo>
                  <a:pt x="2304" y="186"/>
                </a:lnTo>
                <a:lnTo>
                  <a:pt x="2332" y="186"/>
                </a:lnTo>
                <a:lnTo>
                  <a:pt x="2354" y="186"/>
                </a:lnTo>
                <a:lnTo>
                  <a:pt x="2381" y="191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1600200" y="2514600"/>
          <a:ext cx="5904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14600"/>
                    <a:ext cx="590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4191120" y="4724280"/>
          <a:ext cx="304560" cy="2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4724280"/>
                    <a:ext cx="304560" cy="2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"/>
          <p:cNvSpPr/>
          <p:nvPr/>
        </p:nvSpPr>
        <p:spPr>
          <a:xfrm>
            <a:off x="2522520" y="230364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45640" y="91440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span model of a circular piston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6397920" y="2286000"/>
            <a:ext cx="98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rot="5400000">
            <a:off x="4264560" y="1610280"/>
            <a:ext cx="638280" cy="843120"/>
          </a:xfrm>
          <a:custGeom>
            <a:avLst/>
            <a:gdLst/>
            <a:ahLst/>
            <a:rect l="l" t="t" r="r" b="b"/>
            <a:pathLst>
              <a:path w="1252" h="1238">
                <a:moveTo>
                  <a:pt x="0" y="1238"/>
                </a:moveTo>
                <a:lnTo>
                  <a:pt x="9" y="1229"/>
                </a:lnTo>
                <a:lnTo>
                  <a:pt x="18" y="1215"/>
                </a:lnTo>
                <a:lnTo>
                  <a:pt x="27" y="1206"/>
                </a:lnTo>
                <a:lnTo>
                  <a:pt x="36" y="1206"/>
                </a:lnTo>
                <a:lnTo>
                  <a:pt x="45" y="1220"/>
                </a:lnTo>
                <a:lnTo>
                  <a:pt x="59" y="1229"/>
                </a:lnTo>
                <a:lnTo>
                  <a:pt x="68" y="1215"/>
                </a:lnTo>
                <a:lnTo>
                  <a:pt x="77" y="1197"/>
                </a:lnTo>
                <a:lnTo>
                  <a:pt x="86" y="1188"/>
                </a:lnTo>
                <a:lnTo>
                  <a:pt x="95" y="1197"/>
                </a:lnTo>
                <a:lnTo>
                  <a:pt x="104" y="1206"/>
                </a:lnTo>
                <a:lnTo>
                  <a:pt x="118" y="1206"/>
                </a:lnTo>
                <a:lnTo>
                  <a:pt x="127" y="1188"/>
                </a:lnTo>
                <a:lnTo>
                  <a:pt x="136" y="1170"/>
                </a:lnTo>
                <a:lnTo>
                  <a:pt x="145" y="1170"/>
                </a:lnTo>
                <a:lnTo>
                  <a:pt x="154" y="1183"/>
                </a:lnTo>
                <a:lnTo>
                  <a:pt x="168" y="1183"/>
                </a:lnTo>
                <a:lnTo>
                  <a:pt x="177" y="1165"/>
                </a:lnTo>
                <a:lnTo>
                  <a:pt x="186" y="1143"/>
                </a:lnTo>
                <a:lnTo>
                  <a:pt x="195" y="1143"/>
                </a:lnTo>
                <a:lnTo>
                  <a:pt x="204" y="1152"/>
                </a:lnTo>
                <a:lnTo>
                  <a:pt x="213" y="1152"/>
                </a:lnTo>
                <a:lnTo>
                  <a:pt x="227" y="1124"/>
                </a:lnTo>
                <a:lnTo>
                  <a:pt x="236" y="1102"/>
                </a:lnTo>
                <a:lnTo>
                  <a:pt x="245" y="1102"/>
                </a:lnTo>
                <a:lnTo>
                  <a:pt x="254" y="1111"/>
                </a:lnTo>
                <a:lnTo>
                  <a:pt x="263" y="1093"/>
                </a:lnTo>
                <a:lnTo>
                  <a:pt x="277" y="1056"/>
                </a:lnTo>
                <a:lnTo>
                  <a:pt x="286" y="1038"/>
                </a:lnTo>
                <a:lnTo>
                  <a:pt x="295" y="1047"/>
                </a:lnTo>
                <a:lnTo>
                  <a:pt x="304" y="1038"/>
                </a:lnTo>
                <a:lnTo>
                  <a:pt x="313" y="993"/>
                </a:lnTo>
                <a:lnTo>
                  <a:pt x="322" y="957"/>
                </a:lnTo>
                <a:lnTo>
                  <a:pt x="336" y="952"/>
                </a:lnTo>
                <a:lnTo>
                  <a:pt x="345" y="943"/>
                </a:lnTo>
                <a:lnTo>
                  <a:pt x="354" y="893"/>
                </a:lnTo>
                <a:lnTo>
                  <a:pt x="363" y="839"/>
                </a:lnTo>
                <a:lnTo>
                  <a:pt x="372" y="816"/>
                </a:lnTo>
                <a:lnTo>
                  <a:pt x="386" y="798"/>
                </a:lnTo>
                <a:lnTo>
                  <a:pt x="395" y="743"/>
                </a:lnTo>
                <a:lnTo>
                  <a:pt x="404" y="666"/>
                </a:lnTo>
                <a:lnTo>
                  <a:pt x="413" y="626"/>
                </a:lnTo>
                <a:lnTo>
                  <a:pt x="422" y="598"/>
                </a:lnTo>
                <a:lnTo>
                  <a:pt x="431" y="530"/>
                </a:lnTo>
                <a:lnTo>
                  <a:pt x="445" y="440"/>
                </a:lnTo>
                <a:lnTo>
                  <a:pt x="454" y="390"/>
                </a:lnTo>
                <a:lnTo>
                  <a:pt x="463" y="353"/>
                </a:lnTo>
                <a:lnTo>
                  <a:pt x="472" y="281"/>
                </a:lnTo>
                <a:lnTo>
                  <a:pt x="481" y="190"/>
                </a:lnTo>
                <a:lnTo>
                  <a:pt x="495" y="140"/>
                </a:lnTo>
                <a:lnTo>
                  <a:pt x="504" y="122"/>
                </a:lnTo>
                <a:lnTo>
                  <a:pt x="513" y="68"/>
                </a:lnTo>
                <a:lnTo>
                  <a:pt x="522" y="4"/>
                </a:lnTo>
                <a:lnTo>
                  <a:pt x="531" y="0"/>
                </a:lnTo>
                <a:lnTo>
                  <a:pt x="540" y="27"/>
                </a:lnTo>
                <a:lnTo>
                  <a:pt x="553" y="27"/>
                </a:lnTo>
                <a:lnTo>
                  <a:pt x="563" y="27"/>
                </a:lnTo>
                <a:lnTo>
                  <a:pt x="572" y="86"/>
                </a:lnTo>
                <a:lnTo>
                  <a:pt x="581" y="177"/>
                </a:lnTo>
                <a:lnTo>
                  <a:pt x="590" y="231"/>
                </a:lnTo>
                <a:lnTo>
                  <a:pt x="603" y="254"/>
                </a:lnTo>
                <a:lnTo>
                  <a:pt x="612" y="290"/>
                </a:lnTo>
                <a:lnTo>
                  <a:pt x="622" y="331"/>
                </a:lnTo>
                <a:lnTo>
                  <a:pt x="631" y="322"/>
                </a:lnTo>
                <a:lnTo>
                  <a:pt x="640" y="240"/>
                </a:lnTo>
                <a:lnTo>
                  <a:pt x="649" y="158"/>
                </a:lnTo>
                <a:lnTo>
                  <a:pt x="662" y="131"/>
                </a:lnTo>
                <a:lnTo>
                  <a:pt x="671" y="127"/>
                </a:lnTo>
                <a:lnTo>
                  <a:pt x="680" y="95"/>
                </a:lnTo>
                <a:lnTo>
                  <a:pt x="690" y="90"/>
                </a:lnTo>
                <a:lnTo>
                  <a:pt x="699" y="154"/>
                </a:lnTo>
                <a:lnTo>
                  <a:pt x="712" y="249"/>
                </a:lnTo>
                <a:lnTo>
                  <a:pt x="721" y="294"/>
                </a:lnTo>
                <a:lnTo>
                  <a:pt x="730" y="263"/>
                </a:lnTo>
                <a:lnTo>
                  <a:pt x="739" y="208"/>
                </a:lnTo>
                <a:lnTo>
                  <a:pt x="749" y="186"/>
                </a:lnTo>
                <a:lnTo>
                  <a:pt x="758" y="167"/>
                </a:lnTo>
                <a:lnTo>
                  <a:pt x="771" y="127"/>
                </a:lnTo>
                <a:lnTo>
                  <a:pt x="780" y="104"/>
                </a:lnTo>
                <a:lnTo>
                  <a:pt x="789" y="158"/>
                </a:lnTo>
                <a:lnTo>
                  <a:pt x="798" y="249"/>
                </a:lnTo>
                <a:lnTo>
                  <a:pt x="807" y="294"/>
                </a:lnTo>
                <a:lnTo>
                  <a:pt x="821" y="245"/>
                </a:lnTo>
                <a:lnTo>
                  <a:pt x="830" y="154"/>
                </a:lnTo>
                <a:lnTo>
                  <a:pt x="839" y="113"/>
                </a:lnTo>
                <a:lnTo>
                  <a:pt x="848" y="149"/>
                </a:lnTo>
                <a:lnTo>
                  <a:pt x="857" y="199"/>
                </a:lnTo>
                <a:lnTo>
                  <a:pt x="866" y="222"/>
                </a:lnTo>
                <a:lnTo>
                  <a:pt x="880" y="213"/>
                </a:lnTo>
                <a:lnTo>
                  <a:pt x="889" y="199"/>
                </a:lnTo>
                <a:lnTo>
                  <a:pt x="898" y="190"/>
                </a:lnTo>
                <a:lnTo>
                  <a:pt x="907" y="181"/>
                </a:lnTo>
                <a:lnTo>
                  <a:pt x="916" y="163"/>
                </a:lnTo>
                <a:lnTo>
                  <a:pt x="930" y="158"/>
                </a:lnTo>
                <a:lnTo>
                  <a:pt x="939" y="190"/>
                </a:lnTo>
                <a:lnTo>
                  <a:pt x="948" y="226"/>
                </a:lnTo>
                <a:lnTo>
                  <a:pt x="957" y="231"/>
                </a:lnTo>
                <a:lnTo>
                  <a:pt x="966" y="190"/>
                </a:lnTo>
                <a:lnTo>
                  <a:pt x="975" y="145"/>
                </a:lnTo>
                <a:lnTo>
                  <a:pt x="989" y="145"/>
                </a:lnTo>
                <a:lnTo>
                  <a:pt x="998" y="190"/>
                </a:lnTo>
                <a:lnTo>
                  <a:pt x="1007" y="231"/>
                </a:lnTo>
                <a:lnTo>
                  <a:pt x="1016" y="226"/>
                </a:lnTo>
                <a:lnTo>
                  <a:pt x="1025" y="190"/>
                </a:lnTo>
                <a:lnTo>
                  <a:pt x="1034" y="158"/>
                </a:lnTo>
                <a:lnTo>
                  <a:pt x="1048" y="163"/>
                </a:lnTo>
                <a:lnTo>
                  <a:pt x="1057" y="181"/>
                </a:lnTo>
                <a:lnTo>
                  <a:pt x="1066" y="190"/>
                </a:lnTo>
                <a:lnTo>
                  <a:pt x="1075" y="199"/>
                </a:lnTo>
                <a:lnTo>
                  <a:pt x="1084" y="213"/>
                </a:lnTo>
                <a:lnTo>
                  <a:pt x="1098" y="222"/>
                </a:lnTo>
                <a:lnTo>
                  <a:pt x="1107" y="199"/>
                </a:lnTo>
                <a:lnTo>
                  <a:pt x="1116" y="149"/>
                </a:lnTo>
                <a:lnTo>
                  <a:pt x="1125" y="113"/>
                </a:lnTo>
                <a:lnTo>
                  <a:pt x="1134" y="154"/>
                </a:lnTo>
                <a:lnTo>
                  <a:pt x="1143" y="245"/>
                </a:lnTo>
                <a:lnTo>
                  <a:pt x="1157" y="294"/>
                </a:lnTo>
                <a:lnTo>
                  <a:pt x="1166" y="249"/>
                </a:lnTo>
                <a:lnTo>
                  <a:pt x="1175" y="158"/>
                </a:lnTo>
                <a:lnTo>
                  <a:pt x="1184" y="104"/>
                </a:lnTo>
                <a:lnTo>
                  <a:pt x="1193" y="127"/>
                </a:lnTo>
                <a:lnTo>
                  <a:pt x="1207" y="167"/>
                </a:lnTo>
                <a:lnTo>
                  <a:pt x="1216" y="186"/>
                </a:lnTo>
                <a:lnTo>
                  <a:pt x="1225" y="208"/>
                </a:lnTo>
                <a:lnTo>
                  <a:pt x="1234" y="263"/>
                </a:lnTo>
                <a:lnTo>
                  <a:pt x="1243" y="294"/>
                </a:lnTo>
                <a:lnTo>
                  <a:pt x="1252" y="2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5400000">
            <a:off x="4401360" y="2112120"/>
            <a:ext cx="365040" cy="843120"/>
          </a:xfrm>
          <a:custGeom>
            <a:avLst/>
            <a:gdLst/>
            <a:ahLst/>
            <a:rect l="l" t="t" r="r" b="b"/>
            <a:pathLst>
              <a:path w="717" h="1238">
                <a:moveTo>
                  <a:pt x="0" y="249"/>
                </a:moveTo>
                <a:lnTo>
                  <a:pt x="14" y="154"/>
                </a:lnTo>
                <a:lnTo>
                  <a:pt x="23" y="90"/>
                </a:lnTo>
                <a:lnTo>
                  <a:pt x="32" y="95"/>
                </a:lnTo>
                <a:lnTo>
                  <a:pt x="41" y="127"/>
                </a:lnTo>
                <a:lnTo>
                  <a:pt x="50" y="131"/>
                </a:lnTo>
                <a:lnTo>
                  <a:pt x="63" y="158"/>
                </a:lnTo>
                <a:lnTo>
                  <a:pt x="73" y="240"/>
                </a:lnTo>
                <a:lnTo>
                  <a:pt x="82" y="322"/>
                </a:lnTo>
                <a:lnTo>
                  <a:pt x="91" y="331"/>
                </a:lnTo>
                <a:lnTo>
                  <a:pt x="100" y="290"/>
                </a:lnTo>
                <a:lnTo>
                  <a:pt x="109" y="254"/>
                </a:lnTo>
                <a:lnTo>
                  <a:pt x="122" y="231"/>
                </a:lnTo>
                <a:lnTo>
                  <a:pt x="132" y="177"/>
                </a:lnTo>
                <a:lnTo>
                  <a:pt x="141" y="86"/>
                </a:lnTo>
                <a:lnTo>
                  <a:pt x="150" y="27"/>
                </a:lnTo>
                <a:lnTo>
                  <a:pt x="159" y="27"/>
                </a:lnTo>
                <a:lnTo>
                  <a:pt x="172" y="27"/>
                </a:lnTo>
                <a:lnTo>
                  <a:pt x="181" y="0"/>
                </a:lnTo>
                <a:lnTo>
                  <a:pt x="190" y="4"/>
                </a:lnTo>
                <a:lnTo>
                  <a:pt x="200" y="68"/>
                </a:lnTo>
                <a:lnTo>
                  <a:pt x="209" y="122"/>
                </a:lnTo>
                <a:lnTo>
                  <a:pt x="218" y="140"/>
                </a:lnTo>
                <a:lnTo>
                  <a:pt x="231" y="190"/>
                </a:lnTo>
                <a:lnTo>
                  <a:pt x="240" y="281"/>
                </a:lnTo>
                <a:lnTo>
                  <a:pt x="249" y="353"/>
                </a:lnTo>
                <a:lnTo>
                  <a:pt x="259" y="390"/>
                </a:lnTo>
                <a:lnTo>
                  <a:pt x="268" y="440"/>
                </a:lnTo>
                <a:lnTo>
                  <a:pt x="281" y="530"/>
                </a:lnTo>
                <a:lnTo>
                  <a:pt x="290" y="598"/>
                </a:lnTo>
                <a:lnTo>
                  <a:pt x="299" y="626"/>
                </a:lnTo>
                <a:lnTo>
                  <a:pt x="308" y="666"/>
                </a:lnTo>
                <a:lnTo>
                  <a:pt x="317" y="743"/>
                </a:lnTo>
                <a:lnTo>
                  <a:pt x="327" y="798"/>
                </a:lnTo>
                <a:lnTo>
                  <a:pt x="340" y="816"/>
                </a:lnTo>
                <a:lnTo>
                  <a:pt x="349" y="839"/>
                </a:lnTo>
                <a:lnTo>
                  <a:pt x="358" y="893"/>
                </a:lnTo>
                <a:lnTo>
                  <a:pt x="367" y="943"/>
                </a:lnTo>
                <a:lnTo>
                  <a:pt x="376" y="952"/>
                </a:lnTo>
                <a:lnTo>
                  <a:pt x="390" y="957"/>
                </a:lnTo>
                <a:lnTo>
                  <a:pt x="399" y="993"/>
                </a:lnTo>
                <a:lnTo>
                  <a:pt x="408" y="1038"/>
                </a:lnTo>
                <a:lnTo>
                  <a:pt x="417" y="1047"/>
                </a:lnTo>
                <a:lnTo>
                  <a:pt x="426" y="1038"/>
                </a:lnTo>
                <a:lnTo>
                  <a:pt x="435" y="1056"/>
                </a:lnTo>
                <a:lnTo>
                  <a:pt x="449" y="1093"/>
                </a:lnTo>
                <a:lnTo>
                  <a:pt x="458" y="1111"/>
                </a:lnTo>
                <a:lnTo>
                  <a:pt x="467" y="1102"/>
                </a:lnTo>
                <a:lnTo>
                  <a:pt x="476" y="1102"/>
                </a:lnTo>
                <a:lnTo>
                  <a:pt x="485" y="1124"/>
                </a:lnTo>
                <a:lnTo>
                  <a:pt x="499" y="1152"/>
                </a:lnTo>
                <a:lnTo>
                  <a:pt x="508" y="1152"/>
                </a:lnTo>
                <a:lnTo>
                  <a:pt x="517" y="1143"/>
                </a:lnTo>
                <a:lnTo>
                  <a:pt x="526" y="1143"/>
                </a:lnTo>
                <a:lnTo>
                  <a:pt x="535" y="1165"/>
                </a:lnTo>
                <a:lnTo>
                  <a:pt x="544" y="1183"/>
                </a:lnTo>
                <a:lnTo>
                  <a:pt x="558" y="1183"/>
                </a:lnTo>
                <a:lnTo>
                  <a:pt x="567" y="1170"/>
                </a:lnTo>
                <a:lnTo>
                  <a:pt x="576" y="1170"/>
                </a:lnTo>
                <a:lnTo>
                  <a:pt x="585" y="1188"/>
                </a:lnTo>
                <a:lnTo>
                  <a:pt x="594" y="1206"/>
                </a:lnTo>
                <a:lnTo>
                  <a:pt x="608" y="1206"/>
                </a:lnTo>
                <a:lnTo>
                  <a:pt x="617" y="1197"/>
                </a:lnTo>
                <a:lnTo>
                  <a:pt x="626" y="1188"/>
                </a:lnTo>
                <a:lnTo>
                  <a:pt x="635" y="1197"/>
                </a:lnTo>
                <a:lnTo>
                  <a:pt x="644" y="1215"/>
                </a:lnTo>
                <a:lnTo>
                  <a:pt x="653" y="1229"/>
                </a:lnTo>
                <a:lnTo>
                  <a:pt x="667" y="1220"/>
                </a:lnTo>
                <a:lnTo>
                  <a:pt x="676" y="1206"/>
                </a:lnTo>
                <a:lnTo>
                  <a:pt x="685" y="1206"/>
                </a:lnTo>
                <a:lnTo>
                  <a:pt x="694" y="1215"/>
                </a:lnTo>
                <a:lnTo>
                  <a:pt x="703" y="1229"/>
                </a:lnTo>
                <a:lnTo>
                  <a:pt x="717" y="123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16520" y="1450800"/>
            <a:ext cx="387360" cy="150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37040" y="2013120"/>
            <a:ext cx="63360" cy="3571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006720" y="2058840"/>
            <a:ext cx="130320" cy="26208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943360" y="2013120"/>
            <a:ext cx="63360" cy="3571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200400" y="1752480"/>
            <a:ext cx="1228680" cy="9144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46640" y="1882800"/>
            <a:ext cx="82440" cy="654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78360" y="2209680"/>
            <a:ext cx="387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677840" y="2174760"/>
            <a:ext cx="452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19880" y="1882800"/>
            <a:ext cx="82440" cy="654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944960" y="1620720"/>
          <a:ext cx="258840" cy="2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4960" y="1620720"/>
                    <a:ext cx="258840" cy="2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5602320" y="190008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11680" y="2077920"/>
            <a:ext cx="2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03760" y="230976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603760" y="2527200"/>
            <a:ext cx="2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51440" y="188280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5972040" y="1882800"/>
          <a:ext cx="190800" cy="2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72040" y="1882800"/>
                    <a:ext cx="1908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"/>
          <p:cNvSpPr/>
          <p:nvPr/>
        </p:nvSpPr>
        <p:spPr>
          <a:xfrm>
            <a:off x="2814840" y="22860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oustic radiation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05120" y="762120"/>
            <a:ext cx="5715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14400" y="365760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NDE transducers operate at high frequencies  (ka &gt;&gt; 1). At such high frequencies if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piston behavior, for any shaped transducer it can be show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3352680" y="5257800"/>
          <a:ext cx="175284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5257800"/>
                    <a:ext cx="17528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4" name=""/>
          <p:cNvGrpSpPr/>
          <p:nvPr/>
        </p:nvGrpSpPr>
        <p:grpSpPr>
          <a:xfrm>
            <a:off x="5791320" y="5257800"/>
            <a:ext cx="380880" cy="500040"/>
            <a:chOff x="5791320" y="5257800"/>
            <a:chExt cx="380880" cy="500040"/>
          </a:xfrm>
        </p:grpSpPr>
        <p:sp>
          <p:nvSpPr>
            <p:cNvPr id="575" name=""/>
            <p:cNvSpPr/>
            <p:nvPr/>
          </p:nvSpPr>
          <p:spPr>
            <a:xfrm>
              <a:off x="5930640" y="5683320"/>
              <a:ext cx="10764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91320" y="52578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05440" y="5619600"/>
              <a:ext cx="15840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5975280" y="54478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 flipV="1">
            <a:off x="45720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46320" y="617220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y, wave speed,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0748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762120" y="13716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 y = struve(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m = length(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=zeros(1,nu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k = 1: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(k) = quadl(@struve_arg, 0, 1, [ ],[ ], z(k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38080" y="3429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 y = struve_arg(x,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(4./pi).*z.*x.^2.*sin(z.*(1-x.^2)).*sqrt(2-x.^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14840" y="22860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oustic radiation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05120" y="762120"/>
            <a:ext cx="5715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1752480" y="4876920"/>
          <a:ext cx="3886200" cy="14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876920"/>
                    <a:ext cx="388620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1752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890360" y="438156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2815920" y="22860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nsitivity,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905120" y="762120"/>
            <a:ext cx="5715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270240" y="3292560"/>
            <a:ext cx="8380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2813040" y="34448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824200" y="4130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110120" y="344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116240" y="414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813040" y="35208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4419720" y="3504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36720" y="32925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60960" y="329256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62320" y="3594240"/>
            <a:ext cx="41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768760" y="2895480"/>
            <a:ext cx="401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0" y="3451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495680" y="362412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4660920" y="3581280"/>
          <a:ext cx="415800" cy="3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0920" y="3581280"/>
                    <a:ext cx="4158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3460680" y="3581280"/>
          <a:ext cx="48276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60680" y="3581280"/>
                    <a:ext cx="4827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4114800" y="3581280"/>
          <a:ext cx="250920" cy="3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3581280"/>
                    <a:ext cx="25092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4191120" y="2895480"/>
          <a:ext cx="228600" cy="37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2895480"/>
                    <a:ext cx="22860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3352680" y="1905120"/>
            <a:ext cx="74880" cy="4158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200400" y="1959120"/>
            <a:ext cx="152280" cy="30456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1905120"/>
            <a:ext cx="74880" cy="4158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429000" y="1600200"/>
            <a:ext cx="1447920" cy="106668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3908520" y="913680"/>
            <a:ext cx="2133360" cy="352440"/>
            <a:chOff x="3908520" y="913680"/>
            <a:chExt cx="2133360" cy="352440"/>
          </a:xfrm>
        </p:grpSpPr>
        <p:grpSp>
          <p:nvGrpSpPr>
            <p:cNvPr id="618" name=""/>
            <p:cNvGrpSpPr/>
            <p:nvPr/>
          </p:nvGrpSpPr>
          <p:grpSpPr>
            <a:xfrm>
              <a:off x="3908520" y="913680"/>
              <a:ext cx="866520" cy="314280"/>
              <a:chOff x="3908520" y="913680"/>
              <a:chExt cx="866520" cy="314280"/>
            </a:xfrm>
          </p:grpSpPr>
          <p:sp>
            <p:nvSpPr>
              <p:cNvPr id="619" name=""/>
              <p:cNvSpPr/>
              <p:nvPr/>
            </p:nvSpPr>
            <p:spPr>
              <a:xfrm flipV="1">
                <a:off x="3908520" y="9133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 flipV="1">
                <a:off x="4337280" y="9234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4751280" y="936000"/>
              <a:ext cx="866520" cy="314280"/>
              <a:chOff x="4751280" y="936000"/>
              <a:chExt cx="866520" cy="314280"/>
            </a:xfrm>
          </p:grpSpPr>
          <p:sp>
            <p:nvSpPr>
              <p:cNvPr id="622" name=""/>
              <p:cNvSpPr/>
              <p:nvPr/>
            </p:nvSpPr>
            <p:spPr>
              <a:xfrm flipV="1">
                <a:off x="4751280" y="9356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flipV="1">
                <a:off x="5180040" y="9457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333680" y="926280"/>
              <a:ext cx="866520" cy="314280"/>
              <a:chOff x="4333680" y="926280"/>
              <a:chExt cx="866520" cy="314280"/>
            </a:xfrm>
          </p:grpSpPr>
          <p:sp>
            <p:nvSpPr>
              <p:cNvPr id="625" name=""/>
              <p:cNvSpPr/>
              <p:nvPr/>
            </p:nvSpPr>
            <p:spPr>
              <a:xfrm flipV="1">
                <a:off x="4333680" y="9259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 flipV="1">
                <a:off x="4762440" y="9360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5175360" y="951840"/>
              <a:ext cx="866520" cy="314280"/>
              <a:chOff x="5175360" y="951840"/>
              <a:chExt cx="866520" cy="314280"/>
            </a:xfrm>
          </p:grpSpPr>
          <p:sp>
            <p:nvSpPr>
              <p:cNvPr id="628" name=""/>
              <p:cNvSpPr/>
              <p:nvPr/>
            </p:nvSpPr>
            <p:spPr>
              <a:xfrm flipV="1">
                <a:off x="5175360" y="95148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>
                <a:off x="5604120" y="96156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0" name=""/>
          <p:cNvSpPr/>
          <p:nvPr/>
        </p:nvSpPr>
        <p:spPr>
          <a:xfrm rot="2630400">
            <a:off x="4281480" y="1463040"/>
            <a:ext cx="1218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105520" y="205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756320" y="1798560"/>
            <a:ext cx="107640" cy="669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5181480" y="3581280"/>
          <a:ext cx="1067040" cy="382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3581280"/>
                    <a:ext cx="10670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2590920" y="5624640"/>
          <a:ext cx="3276360" cy="965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5624640"/>
                    <a:ext cx="327636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617920" y="2028960"/>
            <a:ext cx="506160" cy="155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2344320" y="203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2344320" y="2112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2133720" y="1676520"/>
          <a:ext cx="317520" cy="380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33720" y="1676520"/>
                    <a:ext cx="317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"/>
          <p:cNvSpPr/>
          <p:nvPr/>
        </p:nvSpPr>
        <p:spPr>
          <a:xfrm>
            <a:off x="1968480" y="21225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1682640" y="1969920"/>
          <a:ext cx="246240" cy="325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82640" y="1969920"/>
                    <a:ext cx="2462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"/>
          <p:cNvSpPr/>
          <p:nvPr/>
        </p:nvSpPr>
        <p:spPr>
          <a:xfrm>
            <a:off x="1039320" y="4613400"/>
            <a:ext cx="570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lectrical characteristics of the 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completely described by its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d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848720" y="5562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73915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7391520" y="6248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734240" y="57150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73152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31520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315200" y="5029200"/>
            <a:ext cx="40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81680" y="5715000"/>
            <a:ext cx="41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8001000" y="5667480"/>
          <a:ext cx="1011240" cy="469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5667480"/>
                    <a:ext cx="10112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>
            <a:off x="3888360" y="182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2815920" y="22860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nsitivity,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52680" y="1905120"/>
            <a:ext cx="74880" cy="4158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200400" y="1959120"/>
            <a:ext cx="152280" cy="30456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1905120"/>
            <a:ext cx="74880" cy="4158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429000" y="1600200"/>
            <a:ext cx="1447920" cy="106668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908520" y="913680"/>
            <a:ext cx="2133360" cy="352440"/>
            <a:chOff x="3908520" y="913680"/>
            <a:chExt cx="2133360" cy="352440"/>
          </a:xfrm>
        </p:grpSpPr>
        <p:grpSp>
          <p:nvGrpSpPr>
            <p:cNvPr id="665" name=""/>
            <p:cNvGrpSpPr/>
            <p:nvPr/>
          </p:nvGrpSpPr>
          <p:grpSpPr>
            <a:xfrm>
              <a:off x="3908520" y="913680"/>
              <a:ext cx="866520" cy="314280"/>
              <a:chOff x="3908520" y="913680"/>
              <a:chExt cx="866520" cy="314280"/>
            </a:xfrm>
          </p:grpSpPr>
          <p:sp>
            <p:nvSpPr>
              <p:cNvPr id="666" name=""/>
              <p:cNvSpPr/>
              <p:nvPr/>
            </p:nvSpPr>
            <p:spPr>
              <a:xfrm flipV="1">
                <a:off x="3908520" y="9133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flipV="1">
                <a:off x="4337280" y="9234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4751280" y="936000"/>
              <a:ext cx="866520" cy="314280"/>
              <a:chOff x="4751280" y="936000"/>
              <a:chExt cx="866520" cy="314280"/>
            </a:xfrm>
          </p:grpSpPr>
          <p:sp>
            <p:nvSpPr>
              <p:cNvPr id="669" name=""/>
              <p:cNvSpPr/>
              <p:nvPr/>
            </p:nvSpPr>
            <p:spPr>
              <a:xfrm flipV="1">
                <a:off x="4751280" y="9356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 flipV="1">
                <a:off x="5180040" y="9457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4333680" y="926280"/>
              <a:ext cx="866520" cy="314280"/>
              <a:chOff x="4333680" y="926280"/>
              <a:chExt cx="866520" cy="314280"/>
            </a:xfrm>
          </p:grpSpPr>
          <p:sp>
            <p:nvSpPr>
              <p:cNvPr id="672" name=""/>
              <p:cNvSpPr/>
              <p:nvPr/>
            </p:nvSpPr>
            <p:spPr>
              <a:xfrm flipV="1">
                <a:off x="4333680" y="9259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 flipV="1">
                <a:off x="4762440" y="9360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5175360" y="951840"/>
              <a:ext cx="866520" cy="314280"/>
              <a:chOff x="5175360" y="951840"/>
              <a:chExt cx="866520" cy="314280"/>
            </a:xfrm>
          </p:grpSpPr>
          <p:sp>
            <p:nvSpPr>
              <p:cNvPr id="675" name=""/>
              <p:cNvSpPr/>
              <p:nvPr/>
            </p:nvSpPr>
            <p:spPr>
              <a:xfrm flipV="1">
                <a:off x="5175360" y="95148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flipV="1">
                <a:off x="5604120" y="96156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7" name=""/>
          <p:cNvSpPr/>
          <p:nvPr/>
        </p:nvSpPr>
        <p:spPr>
          <a:xfrm rot="2630400">
            <a:off x="4662360" y="1469520"/>
            <a:ext cx="1218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486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756320" y="1798560"/>
            <a:ext cx="107640" cy="669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17920" y="2028960"/>
            <a:ext cx="506160" cy="155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2344320" y="203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2344320" y="2112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2133720" y="1676520"/>
          <a:ext cx="31752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76520"/>
                    <a:ext cx="317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"/>
          <p:cNvSpPr/>
          <p:nvPr/>
        </p:nvSpPr>
        <p:spPr>
          <a:xfrm>
            <a:off x="1968480" y="21225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1682640" y="1969920"/>
          <a:ext cx="246240" cy="32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2640" y="1969920"/>
                    <a:ext cx="2462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"/>
          <p:cNvSpPr/>
          <p:nvPr/>
        </p:nvSpPr>
        <p:spPr>
          <a:xfrm>
            <a:off x="1905120" y="762120"/>
            <a:ext cx="5715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54560" y="5257800"/>
            <a:ext cx="506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ticular sensitivity we will us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2895480" y="5867280"/>
          <a:ext cx="274320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5867280"/>
                    <a:ext cx="27432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>
            <a:off x="1355760" y="2936880"/>
            <a:ext cx="61880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scribe the conversion of electrical signals into acoustic signals, we could use the transducer's sensitivit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O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487692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95288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5079960" y="2193840"/>
          <a:ext cx="289080" cy="4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9960" y="2193840"/>
                    <a:ext cx="2890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5016600" y="1562040"/>
          <a:ext cx="318960" cy="441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16600" y="1562040"/>
                    <a:ext cx="3189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6095880" y="3581280"/>
          <a:ext cx="1017720" cy="750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3581280"/>
                    <a:ext cx="10177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1" name=""/>
          <p:cNvSpPr/>
          <p:nvPr/>
        </p:nvSpPr>
        <p:spPr>
          <a:xfrm>
            <a:off x="1428480" y="4156200"/>
            <a:ext cx="430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an output (force or velo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an input (voltage or 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888360" y="182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22480" y="905040"/>
            <a:ext cx="53866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ort and three port transduc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ti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M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radiation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 sensitivity,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ound gener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2815920" y="22860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nsitivity,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905120" y="762120"/>
            <a:ext cx="5715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4899240" y="990000"/>
            <a:ext cx="2133360" cy="352440"/>
            <a:chOff x="4899240" y="990000"/>
            <a:chExt cx="2133360" cy="352440"/>
          </a:xfrm>
        </p:grpSpPr>
        <p:grpSp>
          <p:nvGrpSpPr>
            <p:cNvPr id="706" name=""/>
            <p:cNvGrpSpPr/>
            <p:nvPr/>
          </p:nvGrpSpPr>
          <p:grpSpPr>
            <a:xfrm>
              <a:off x="4899240" y="990000"/>
              <a:ext cx="866520" cy="314280"/>
              <a:chOff x="4899240" y="990000"/>
              <a:chExt cx="866520" cy="314280"/>
            </a:xfrm>
          </p:grpSpPr>
          <p:sp>
            <p:nvSpPr>
              <p:cNvPr id="707" name=""/>
              <p:cNvSpPr/>
              <p:nvPr/>
            </p:nvSpPr>
            <p:spPr>
              <a:xfrm flipV="1">
                <a:off x="4899240" y="9896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 flipV="1">
                <a:off x="5328000" y="9997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5742000" y="1012320"/>
              <a:ext cx="866520" cy="314280"/>
              <a:chOff x="5742000" y="1012320"/>
              <a:chExt cx="866520" cy="314280"/>
            </a:xfrm>
          </p:grpSpPr>
          <p:sp>
            <p:nvSpPr>
              <p:cNvPr id="710" name=""/>
              <p:cNvSpPr/>
              <p:nvPr/>
            </p:nvSpPr>
            <p:spPr>
              <a:xfrm flipV="1">
                <a:off x="5742000" y="101196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 flipV="1">
                <a:off x="6170760" y="102204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5324400" y="1002600"/>
              <a:ext cx="866520" cy="314280"/>
              <a:chOff x="5324400" y="1002600"/>
              <a:chExt cx="866520" cy="314280"/>
            </a:xfrm>
          </p:grpSpPr>
          <p:sp>
            <p:nvSpPr>
              <p:cNvPr id="713" name=""/>
              <p:cNvSpPr/>
              <p:nvPr/>
            </p:nvSpPr>
            <p:spPr>
              <a:xfrm flipV="1">
                <a:off x="5324400" y="10022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 flipV="1">
                <a:off x="5753160" y="10123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6166080" y="1028160"/>
              <a:ext cx="866520" cy="314280"/>
              <a:chOff x="6166080" y="1028160"/>
              <a:chExt cx="866520" cy="314280"/>
            </a:xfrm>
          </p:grpSpPr>
          <p:sp>
            <p:nvSpPr>
              <p:cNvPr id="716" name=""/>
              <p:cNvSpPr/>
              <p:nvPr/>
            </p:nvSpPr>
            <p:spPr>
              <a:xfrm flipV="1">
                <a:off x="6166080" y="102780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 flipV="1">
                <a:off x="6594840" y="103788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18" name=""/>
          <p:cNvGraphicFramePr/>
          <p:nvPr/>
        </p:nvGraphicFramePr>
        <p:xfrm>
          <a:off x="6172200" y="1738440"/>
          <a:ext cx="131904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738440"/>
                    <a:ext cx="13190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0" name=""/>
          <p:cNvSpPr/>
          <p:nvPr/>
        </p:nvSpPr>
        <p:spPr>
          <a:xfrm>
            <a:off x="1143000" y="28954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other sensitivities can be found from this sensitivity if the transducer electrical impedance and acoustic radiation impedance are know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72428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4267080" y="3654360"/>
          <a:ext cx="2552760" cy="30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654360"/>
                    <a:ext cx="255276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"/>
          <p:cNvSpPr/>
          <p:nvPr/>
        </p:nvSpPr>
        <p:spPr>
          <a:xfrm>
            <a:off x="4637160" y="1298520"/>
            <a:ext cx="387360" cy="150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757680" y="1860480"/>
            <a:ext cx="63360" cy="3571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627360" y="1906560"/>
            <a:ext cx="130320" cy="26208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564000" y="1860480"/>
            <a:ext cx="63360" cy="3571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201840" y="2057400"/>
            <a:ext cx="3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3045960" y="1925640"/>
            <a:ext cx="45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3046320" y="205740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11480" y="1925640"/>
            <a:ext cx="0" cy="13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2" name=""/>
          <p:cNvGraphicFramePr/>
          <p:nvPr/>
        </p:nvGraphicFramePr>
        <p:xfrm>
          <a:off x="2711520" y="1792440"/>
          <a:ext cx="277920" cy="3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11520" y="1792440"/>
                    <a:ext cx="27792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"/>
          <p:cNvGraphicFramePr/>
          <p:nvPr/>
        </p:nvGraphicFramePr>
        <p:xfrm>
          <a:off x="3156120" y="2111400"/>
          <a:ext cx="241200" cy="31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56120" y="2111400"/>
                    <a:ext cx="2412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6" name=""/>
          <p:cNvSpPr/>
          <p:nvPr/>
        </p:nvSpPr>
        <p:spPr>
          <a:xfrm>
            <a:off x="3821040" y="1600200"/>
            <a:ext cx="1228680" cy="9144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967280" y="1730520"/>
            <a:ext cx="82440" cy="653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268960" y="2057400"/>
            <a:ext cx="387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5192280" y="1905120"/>
            <a:ext cx="452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5345280" y="1550880"/>
          <a:ext cx="258480" cy="36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45280" y="1550880"/>
                    <a:ext cx="25848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5553000" y="2135160"/>
          <a:ext cx="233280" cy="387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53000" y="2135160"/>
                    <a:ext cx="2332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"/>
          <p:cNvSpPr/>
          <p:nvPr/>
        </p:nvSpPr>
        <p:spPr>
          <a:xfrm>
            <a:off x="4116960" y="182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3581280" y="5029200"/>
            <a:ext cx="29700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3727440" y="483552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3722400" y="5803920"/>
            <a:ext cx="468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2955600" y="5975280"/>
            <a:ext cx="77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2945880" y="4851360"/>
            <a:ext cx="77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930400" y="4772160"/>
            <a:ext cx="29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2989440" y="4900320"/>
            <a:ext cx="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286080" y="4514760"/>
            <a:ext cx="0" cy="179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279600" y="5349960"/>
            <a:ext cx="1310040" cy="9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3285720" y="4514760"/>
            <a:ext cx="1303560" cy="83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589640" y="534996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3848040" y="5168880"/>
          <a:ext cx="48600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8040" y="5168880"/>
                    <a:ext cx="4860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8" name=""/>
          <p:cNvGraphicFramePr/>
          <p:nvPr/>
        </p:nvGraphicFramePr>
        <p:xfrm>
          <a:off x="2895480" y="4343400"/>
          <a:ext cx="24768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4343400"/>
                    <a:ext cx="24768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"/>
          <p:cNvGraphicFramePr/>
          <p:nvPr/>
        </p:nvGraphicFramePr>
        <p:xfrm>
          <a:off x="2666880" y="5181480"/>
          <a:ext cx="266760" cy="3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181480"/>
                    <a:ext cx="2667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"/>
          <p:cNvGraphicFramePr/>
          <p:nvPr/>
        </p:nvGraphicFramePr>
        <p:xfrm>
          <a:off x="4800600" y="4648320"/>
          <a:ext cx="1227240" cy="48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4648320"/>
                    <a:ext cx="12272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4" name=""/>
          <p:cNvSpPr/>
          <p:nvPr/>
        </p:nvSpPr>
        <p:spPr>
          <a:xfrm>
            <a:off x="3352680" y="1905120"/>
            <a:ext cx="74880" cy="4158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00400" y="1959120"/>
            <a:ext cx="152280" cy="30456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24080" y="1905120"/>
            <a:ext cx="74880" cy="4158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429000" y="1600200"/>
            <a:ext cx="1447920" cy="106668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3908520" y="913680"/>
            <a:ext cx="2133360" cy="352440"/>
            <a:chOff x="3908520" y="913680"/>
            <a:chExt cx="2133360" cy="352440"/>
          </a:xfrm>
        </p:grpSpPr>
        <p:grpSp>
          <p:nvGrpSpPr>
            <p:cNvPr id="769" name=""/>
            <p:cNvGrpSpPr/>
            <p:nvPr/>
          </p:nvGrpSpPr>
          <p:grpSpPr>
            <a:xfrm>
              <a:off x="3908520" y="913680"/>
              <a:ext cx="866520" cy="314280"/>
              <a:chOff x="3908520" y="913680"/>
              <a:chExt cx="866520" cy="314280"/>
            </a:xfrm>
          </p:grpSpPr>
          <p:sp>
            <p:nvSpPr>
              <p:cNvPr id="770" name=""/>
              <p:cNvSpPr/>
              <p:nvPr/>
            </p:nvSpPr>
            <p:spPr>
              <a:xfrm flipV="1">
                <a:off x="3908520" y="9133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 flipV="1">
                <a:off x="4337280" y="9234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4751280" y="936000"/>
              <a:ext cx="866520" cy="314280"/>
              <a:chOff x="4751280" y="936000"/>
              <a:chExt cx="866520" cy="314280"/>
            </a:xfrm>
          </p:grpSpPr>
          <p:sp>
            <p:nvSpPr>
              <p:cNvPr id="773" name=""/>
              <p:cNvSpPr/>
              <p:nvPr/>
            </p:nvSpPr>
            <p:spPr>
              <a:xfrm flipV="1">
                <a:off x="4751280" y="93564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flipV="1">
                <a:off x="5180040" y="94572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4333680" y="926280"/>
              <a:ext cx="866520" cy="314280"/>
              <a:chOff x="4333680" y="926280"/>
              <a:chExt cx="866520" cy="314280"/>
            </a:xfrm>
          </p:grpSpPr>
          <p:sp>
            <p:nvSpPr>
              <p:cNvPr id="776" name=""/>
              <p:cNvSpPr/>
              <p:nvPr/>
            </p:nvSpPr>
            <p:spPr>
              <a:xfrm flipV="1">
                <a:off x="4333680" y="92592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 flipV="1">
                <a:off x="4762440" y="93600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5175360" y="951840"/>
              <a:ext cx="866520" cy="314280"/>
              <a:chOff x="5175360" y="951840"/>
              <a:chExt cx="866520" cy="314280"/>
            </a:xfrm>
          </p:grpSpPr>
          <p:sp>
            <p:nvSpPr>
              <p:cNvPr id="779" name=""/>
              <p:cNvSpPr/>
              <p:nvPr/>
            </p:nvSpPr>
            <p:spPr>
              <a:xfrm flipV="1">
                <a:off x="5175360" y="951480"/>
                <a:ext cx="43668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 flipV="1">
                <a:off x="5604120" y="961560"/>
                <a:ext cx="437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01" y="17"/>
                    </a:moveTo>
                    <a:arcTo wR="10800" hR="10800" stAng="-5590789" swAng="5316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01" y="17"/>
                    </a:moveTo>
                    <a:arcTo wR="10800" hR="10800" stAng="-5590789" swAng="531687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1" name=""/>
          <p:cNvSpPr/>
          <p:nvPr/>
        </p:nvSpPr>
        <p:spPr>
          <a:xfrm rot="2630400">
            <a:off x="4662360" y="1469520"/>
            <a:ext cx="1218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86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756320" y="1798560"/>
            <a:ext cx="107640" cy="669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617920" y="2028960"/>
            <a:ext cx="506160" cy="155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2344320" y="203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2344320" y="2112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2133720" y="1676520"/>
          <a:ext cx="31752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1676520"/>
                    <a:ext cx="317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9" name=""/>
          <p:cNvSpPr/>
          <p:nvPr/>
        </p:nvSpPr>
        <p:spPr>
          <a:xfrm>
            <a:off x="1968480" y="21225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1682640" y="1969920"/>
          <a:ext cx="246240" cy="325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82640" y="1969920"/>
                    <a:ext cx="2462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"/>
          <p:cNvSpPr/>
          <p:nvPr/>
        </p:nvSpPr>
        <p:spPr>
          <a:xfrm flipH="1">
            <a:off x="487692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95288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5079960" y="2193840"/>
          <a:ext cx="289080" cy="47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79960" y="2193840"/>
                    <a:ext cx="2890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"/>
          <p:cNvGraphicFramePr/>
          <p:nvPr/>
        </p:nvGraphicFramePr>
        <p:xfrm>
          <a:off x="5016600" y="1562040"/>
          <a:ext cx="318960" cy="441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16600" y="1562040"/>
                    <a:ext cx="3189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"/>
          <p:cNvSpPr/>
          <p:nvPr/>
        </p:nvSpPr>
        <p:spPr>
          <a:xfrm>
            <a:off x="3888360" y="182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815920" y="22860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nsitivity,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905120" y="762120"/>
            <a:ext cx="5715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33520" y="3048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we can replace the transfer matrix model of the transducer by a model consisting of an electrical impedance and an ideal "converter" that is defined by the transducer sensitiv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4724280" y="5486400"/>
          <a:ext cx="1771920" cy="480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24280" y="5486400"/>
                    <a:ext cx="17719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2512440" y="228600"/>
            <a:ext cx="42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tire Sound Gener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05120" y="762120"/>
            <a:ext cx="5715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5791320" y="1447920"/>
          <a:ext cx="72216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447920"/>
                    <a:ext cx="7221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8" name=""/>
          <p:cNvSpPr/>
          <p:nvPr/>
        </p:nvSpPr>
        <p:spPr>
          <a:xfrm>
            <a:off x="4424400" y="2057400"/>
            <a:ext cx="116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mi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5040" y="12193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974320" y="91440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1" name=""/>
          <p:cNvGraphicFramePr/>
          <p:nvPr/>
        </p:nvGraphicFramePr>
        <p:xfrm>
          <a:off x="1828800" y="1523880"/>
          <a:ext cx="706320" cy="4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523880"/>
                    <a:ext cx="70632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5716440" y="1981080"/>
            <a:ext cx="70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4535640" y="1469880"/>
            <a:ext cx="852120" cy="439920"/>
            <a:chOff x="4535640" y="1469880"/>
            <a:chExt cx="852120" cy="439920"/>
          </a:xfrm>
        </p:grpSpPr>
        <p:sp>
          <p:nvSpPr>
            <p:cNvPr id="815" name=""/>
            <p:cNvSpPr/>
            <p:nvPr/>
          </p:nvSpPr>
          <p:spPr>
            <a:xfrm flipH="1" rot="10800000">
              <a:off x="4731840" y="1469880"/>
              <a:ext cx="655560" cy="4399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 rot="10800000">
              <a:off x="4666320" y="1627200"/>
              <a:ext cx="64080" cy="1573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 rot="10800000">
              <a:off x="4601160" y="1658520"/>
              <a:ext cx="64080" cy="943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 rot="10800000">
              <a:off x="4535640" y="1627200"/>
              <a:ext cx="64080" cy="1573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5452920" y="1658880"/>
            <a:ext cx="32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2720160" y="1219320"/>
            <a:ext cx="1179720" cy="1066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3693960" y="1650960"/>
            <a:ext cx="131760" cy="125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3816000" y="1711440"/>
            <a:ext cx="717480" cy="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90920" y="1720800"/>
            <a:ext cx="32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736800" y="5311800"/>
            <a:ext cx="982800" cy="68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409920" y="5651640"/>
            <a:ext cx="32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19600" y="5624640"/>
            <a:ext cx="32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2670120" y="5388120"/>
          <a:ext cx="681120" cy="42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70120" y="5388120"/>
                    <a:ext cx="68112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"/>
          <p:cNvGraphicFramePr/>
          <p:nvPr/>
        </p:nvGraphicFramePr>
        <p:xfrm>
          <a:off x="5184720" y="5388120"/>
          <a:ext cx="727200" cy="43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4720" y="5388120"/>
                    <a:ext cx="72720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"/>
          <p:cNvGraphicFramePr/>
          <p:nvPr/>
        </p:nvGraphicFramePr>
        <p:xfrm>
          <a:off x="3889440" y="5464080"/>
          <a:ext cx="66024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9440" y="5464080"/>
                    <a:ext cx="6602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3" name=""/>
          <p:cNvSpPr/>
          <p:nvPr/>
        </p:nvSpPr>
        <p:spPr>
          <a:xfrm>
            <a:off x="1450440" y="2057400"/>
            <a:ext cx="129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878360" y="15238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419720" y="3562200"/>
            <a:ext cx="760320" cy="97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90920" y="3519360"/>
            <a:ext cx="1143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048120" y="3443400"/>
            <a:ext cx="304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657600" y="3422520"/>
            <a:ext cx="9144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03720" y="3768840"/>
            <a:ext cx="152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4850280" y="3536280"/>
            <a:ext cx="1306440" cy="990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010200" y="4040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413080" y="3827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1973160" y="3467160"/>
          <a:ext cx="598680" cy="372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73160" y="3467160"/>
                    <a:ext cx="598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"/>
          <p:cNvGraphicFramePr/>
          <p:nvPr/>
        </p:nvGraphicFramePr>
        <p:xfrm>
          <a:off x="2819520" y="3062160"/>
          <a:ext cx="590400" cy="328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19520" y="3062160"/>
                    <a:ext cx="5904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"/>
          <p:cNvGraphicFramePr/>
          <p:nvPr/>
        </p:nvGraphicFramePr>
        <p:xfrm>
          <a:off x="3886200" y="3747960"/>
          <a:ext cx="392040" cy="412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86200" y="3747960"/>
                    <a:ext cx="3920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"/>
          <p:cNvGraphicFramePr/>
          <p:nvPr/>
        </p:nvGraphicFramePr>
        <p:xfrm>
          <a:off x="5257800" y="3747960"/>
          <a:ext cx="463680" cy="382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5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57800" y="3747960"/>
                    <a:ext cx="4636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"/>
          <p:cNvGraphicFramePr/>
          <p:nvPr/>
        </p:nvGraphicFramePr>
        <p:xfrm>
          <a:off x="6022800" y="3214800"/>
          <a:ext cx="1051200" cy="752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5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22800" y="3214800"/>
                    <a:ext cx="105120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3" name=""/>
          <p:cNvSpPr/>
          <p:nvPr/>
        </p:nvSpPr>
        <p:spPr>
          <a:xfrm>
            <a:off x="1905120" y="2986200"/>
            <a:ext cx="160020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272680" y="266688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796560" y="30481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016600" y="2895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59120" y="599760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nd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813120" y="2665440"/>
            <a:ext cx="5461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89440" y="4799160"/>
            <a:ext cx="5461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2512440" y="228600"/>
            <a:ext cx="42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tire Sound Gener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905120" y="762120"/>
            <a:ext cx="5715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3" name=""/>
          <p:cNvGraphicFramePr/>
          <p:nvPr/>
        </p:nvGraphicFramePr>
        <p:xfrm>
          <a:off x="5791320" y="1447920"/>
          <a:ext cx="72216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447920"/>
                    <a:ext cx="7221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"/>
          <p:cNvSpPr/>
          <p:nvPr/>
        </p:nvSpPr>
        <p:spPr>
          <a:xfrm>
            <a:off x="4424400" y="2057400"/>
            <a:ext cx="116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mi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5040" y="12193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974320" y="91440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8" name=""/>
          <p:cNvGraphicFramePr/>
          <p:nvPr/>
        </p:nvGraphicFramePr>
        <p:xfrm>
          <a:off x="1828800" y="1523880"/>
          <a:ext cx="706320" cy="4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523880"/>
                    <a:ext cx="70632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"/>
          <p:cNvSpPr/>
          <p:nvPr/>
        </p:nvSpPr>
        <p:spPr>
          <a:xfrm>
            <a:off x="5716440" y="1981080"/>
            <a:ext cx="70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535640" y="1469880"/>
            <a:ext cx="852120" cy="439920"/>
            <a:chOff x="4535640" y="1469880"/>
            <a:chExt cx="852120" cy="439920"/>
          </a:xfrm>
        </p:grpSpPr>
        <p:sp>
          <p:nvSpPr>
            <p:cNvPr id="872" name=""/>
            <p:cNvSpPr/>
            <p:nvPr/>
          </p:nvSpPr>
          <p:spPr>
            <a:xfrm flipH="1" rot="10800000">
              <a:off x="4731840" y="1469880"/>
              <a:ext cx="655560" cy="4399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 rot="10800000">
              <a:off x="4666320" y="1627200"/>
              <a:ext cx="64080" cy="1573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 rot="10800000">
              <a:off x="4601160" y="1658520"/>
              <a:ext cx="64080" cy="943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 rot="10800000">
              <a:off x="4535640" y="1627200"/>
              <a:ext cx="64080" cy="1573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5452920" y="1658880"/>
            <a:ext cx="32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2720160" y="1219320"/>
            <a:ext cx="1179720" cy="1066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3693960" y="1650960"/>
            <a:ext cx="131760" cy="125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3816000" y="1711440"/>
            <a:ext cx="717480" cy="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590920" y="1720800"/>
            <a:ext cx="32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450440" y="2057400"/>
            <a:ext cx="129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878360" y="15238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581280" y="2971800"/>
            <a:ext cx="982800" cy="68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254400" y="3311640"/>
            <a:ext cx="32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564080" y="3284640"/>
            <a:ext cx="32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6" name=""/>
          <p:cNvGraphicFramePr/>
          <p:nvPr/>
        </p:nvGraphicFramePr>
        <p:xfrm>
          <a:off x="2514600" y="3048120"/>
          <a:ext cx="681120" cy="42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048120"/>
                    <a:ext cx="68112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"/>
          <p:cNvGraphicFramePr/>
          <p:nvPr/>
        </p:nvGraphicFramePr>
        <p:xfrm>
          <a:off x="5029200" y="3048120"/>
          <a:ext cx="727200" cy="43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3048120"/>
                    <a:ext cx="72720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"/>
          <p:cNvGraphicFramePr/>
          <p:nvPr/>
        </p:nvGraphicFramePr>
        <p:xfrm>
          <a:off x="3733920" y="3124080"/>
          <a:ext cx="66024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3124080"/>
                    <a:ext cx="6602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"/>
          <p:cNvGraphicFramePr/>
          <p:nvPr/>
        </p:nvGraphicFramePr>
        <p:xfrm>
          <a:off x="1295280" y="4724280"/>
          <a:ext cx="5943600" cy="94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95280" y="4724280"/>
                    <a:ext cx="59436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4" name=""/>
          <p:cNvGrpSpPr/>
          <p:nvPr/>
        </p:nvGrpSpPr>
        <p:grpSpPr>
          <a:xfrm>
            <a:off x="7467480" y="4648320"/>
            <a:ext cx="381240" cy="500040"/>
            <a:chOff x="7467480" y="4648320"/>
            <a:chExt cx="381240" cy="500040"/>
          </a:xfrm>
        </p:grpSpPr>
        <p:sp>
          <p:nvSpPr>
            <p:cNvPr id="895" name=""/>
            <p:cNvSpPr/>
            <p:nvPr/>
          </p:nvSpPr>
          <p:spPr>
            <a:xfrm>
              <a:off x="7607160" y="5073840"/>
              <a:ext cx="108000" cy="74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46748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581960" y="5010120"/>
              <a:ext cx="158760" cy="10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7651800" y="483840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2971800" y="388620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nd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3733560" y="38088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447920" y="990720"/>
            <a:ext cx="64008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41920" y="1185840"/>
            <a:ext cx="8574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tic, V.M.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ciples of Acoustic De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John Wiley, 19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o. G.S.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oustic Waves - Devices, Imaging and Ana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al Proces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entice-Hall, 198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ld, B.A.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oustic Fields and Waves in Solids, 2nd Ed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s. I and 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Krieger Publishing Co. , 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cshe, W., and N.N. Hsu,” Ultrasonic transducers for materi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and their characterization,”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sical Acous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. XI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s. W.P. Mason and R.N. Thurston, 277-406, 197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enspan, M., “Piston radiator: some extension of the theory,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 Acoust. Soc. Am., 65, 608-621, 197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16280" y="30492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model -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69800" y="34290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procit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762120"/>
            <a:ext cx="5943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057400" y="4038480"/>
          <a:ext cx="5062680" cy="7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038480"/>
                    <a:ext cx="50626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28960" y="838080"/>
            <a:ext cx="24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P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79520" y="2209680"/>
            <a:ext cx="19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77640" y="12049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27400" y="1612800"/>
            <a:ext cx="533520" cy="1067040"/>
          </a:xfrm>
          <a:custGeom>
            <a:avLst/>
            <a:gdLst/>
            <a:ahLst/>
            <a:rect l="l" t="t" r="r" b="b"/>
            <a:pathLst>
              <a:path w="336" h="672">
                <a:moveTo>
                  <a:pt x="336" y="336"/>
                </a:moveTo>
                <a:lnTo>
                  <a:pt x="320" y="464"/>
                </a:lnTo>
                <a:lnTo>
                  <a:pt x="288" y="576"/>
                </a:lnTo>
                <a:lnTo>
                  <a:pt x="264" y="616"/>
                </a:lnTo>
                <a:lnTo>
                  <a:pt x="232" y="648"/>
                </a:lnTo>
                <a:lnTo>
                  <a:pt x="200" y="664"/>
                </a:lnTo>
                <a:lnTo>
                  <a:pt x="168" y="672"/>
                </a:lnTo>
                <a:lnTo>
                  <a:pt x="168" y="672"/>
                </a:lnTo>
                <a:lnTo>
                  <a:pt x="136" y="664"/>
                </a:lnTo>
                <a:lnTo>
                  <a:pt x="104" y="648"/>
                </a:lnTo>
                <a:lnTo>
                  <a:pt x="72" y="616"/>
                </a:lnTo>
                <a:lnTo>
                  <a:pt x="48" y="576"/>
                </a:lnTo>
                <a:lnTo>
                  <a:pt x="8" y="464"/>
                </a:lnTo>
                <a:lnTo>
                  <a:pt x="0" y="336"/>
                </a:lnTo>
                <a:lnTo>
                  <a:pt x="0" y="336"/>
                </a:lnTo>
                <a:lnTo>
                  <a:pt x="8" y="208"/>
                </a:lnTo>
                <a:lnTo>
                  <a:pt x="48" y="104"/>
                </a:lnTo>
                <a:lnTo>
                  <a:pt x="72" y="56"/>
                </a:lnTo>
                <a:lnTo>
                  <a:pt x="104" y="32"/>
                </a:lnTo>
                <a:lnTo>
                  <a:pt x="136" y="8"/>
                </a:lnTo>
                <a:lnTo>
                  <a:pt x="168" y="0"/>
                </a:lnTo>
                <a:lnTo>
                  <a:pt x="168" y="0"/>
                </a:lnTo>
                <a:lnTo>
                  <a:pt x="200" y="8"/>
                </a:lnTo>
                <a:lnTo>
                  <a:pt x="232" y="32"/>
                </a:lnTo>
                <a:lnTo>
                  <a:pt x="264" y="56"/>
                </a:lnTo>
                <a:lnTo>
                  <a:pt x="288" y="104"/>
                </a:lnTo>
                <a:lnTo>
                  <a:pt x="320" y="208"/>
                </a:lnTo>
                <a:lnTo>
                  <a:pt x="336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1930320"/>
            <a:ext cx="241560" cy="470160"/>
          </a:xfrm>
          <a:custGeom>
            <a:avLst/>
            <a:gdLst/>
            <a:ahLst/>
            <a:rect l="l" t="t" r="r" b="b"/>
            <a:pathLst>
              <a:path w="152" h="296">
                <a:moveTo>
                  <a:pt x="152" y="152"/>
                </a:moveTo>
                <a:lnTo>
                  <a:pt x="144" y="208"/>
                </a:lnTo>
                <a:lnTo>
                  <a:pt x="128" y="256"/>
                </a:lnTo>
                <a:lnTo>
                  <a:pt x="104" y="288"/>
                </a:lnTo>
                <a:lnTo>
                  <a:pt x="72" y="296"/>
                </a:lnTo>
                <a:lnTo>
                  <a:pt x="72" y="296"/>
                </a:lnTo>
                <a:lnTo>
                  <a:pt x="48" y="288"/>
                </a:lnTo>
                <a:lnTo>
                  <a:pt x="24" y="256"/>
                </a:lnTo>
                <a:lnTo>
                  <a:pt x="8" y="208"/>
                </a:lnTo>
                <a:lnTo>
                  <a:pt x="0" y="152"/>
                </a:lnTo>
                <a:lnTo>
                  <a:pt x="0" y="152"/>
                </a:lnTo>
                <a:lnTo>
                  <a:pt x="8" y="88"/>
                </a:lnTo>
                <a:lnTo>
                  <a:pt x="24" y="40"/>
                </a:lnTo>
                <a:lnTo>
                  <a:pt x="48" y="8"/>
                </a:lnTo>
                <a:lnTo>
                  <a:pt x="72" y="0"/>
                </a:lnTo>
                <a:lnTo>
                  <a:pt x="72" y="0"/>
                </a:lnTo>
                <a:lnTo>
                  <a:pt x="104" y="8"/>
                </a:lnTo>
                <a:lnTo>
                  <a:pt x="128" y="40"/>
                </a:lnTo>
                <a:lnTo>
                  <a:pt x="144" y="88"/>
                </a:lnTo>
                <a:lnTo>
                  <a:pt x="152" y="1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1930320"/>
            <a:ext cx="241560" cy="470160"/>
          </a:xfrm>
          <a:custGeom>
            <a:avLst/>
            <a:gdLst/>
            <a:ahLst/>
            <a:rect l="l" t="t" r="r" b="b"/>
            <a:pathLst>
              <a:path w="152" h="296">
                <a:moveTo>
                  <a:pt x="152" y="152"/>
                </a:moveTo>
                <a:lnTo>
                  <a:pt x="144" y="208"/>
                </a:lnTo>
                <a:lnTo>
                  <a:pt x="144" y="208"/>
                </a:lnTo>
                <a:lnTo>
                  <a:pt x="128" y="256"/>
                </a:lnTo>
                <a:lnTo>
                  <a:pt x="128" y="256"/>
                </a:lnTo>
                <a:lnTo>
                  <a:pt x="104" y="288"/>
                </a:lnTo>
                <a:lnTo>
                  <a:pt x="104" y="288"/>
                </a:lnTo>
                <a:lnTo>
                  <a:pt x="72" y="296"/>
                </a:lnTo>
                <a:lnTo>
                  <a:pt x="72" y="296"/>
                </a:lnTo>
                <a:lnTo>
                  <a:pt x="72" y="296"/>
                </a:lnTo>
                <a:lnTo>
                  <a:pt x="72" y="296"/>
                </a:lnTo>
                <a:lnTo>
                  <a:pt x="48" y="288"/>
                </a:lnTo>
                <a:lnTo>
                  <a:pt x="48" y="288"/>
                </a:lnTo>
                <a:lnTo>
                  <a:pt x="24" y="256"/>
                </a:lnTo>
                <a:lnTo>
                  <a:pt x="24" y="256"/>
                </a:lnTo>
                <a:lnTo>
                  <a:pt x="8" y="208"/>
                </a:lnTo>
                <a:lnTo>
                  <a:pt x="8" y="208"/>
                </a:lnTo>
                <a:lnTo>
                  <a:pt x="0" y="152"/>
                </a:lnTo>
                <a:lnTo>
                  <a:pt x="0" y="152"/>
                </a:lnTo>
                <a:lnTo>
                  <a:pt x="0" y="152"/>
                </a:lnTo>
                <a:lnTo>
                  <a:pt x="0" y="152"/>
                </a:lnTo>
                <a:lnTo>
                  <a:pt x="8" y="88"/>
                </a:lnTo>
                <a:lnTo>
                  <a:pt x="8" y="88"/>
                </a:lnTo>
                <a:lnTo>
                  <a:pt x="24" y="40"/>
                </a:lnTo>
                <a:lnTo>
                  <a:pt x="24" y="40"/>
                </a:lnTo>
                <a:lnTo>
                  <a:pt x="48" y="8"/>
                </a:lnTo>
                <a:lnTo>
                  <a:pt x="48" y="8"/>
                </a:lnTo>
                <a:lnTo>
                  <a:pt x="72" y="0"/>
                </a:lnTo>
                <a:lnTo>
                  <a:pt x="72" y="0"/>
                </a:lnTo>
                <a:lnTo>
                  <a:pt x="72" y="0"/>
                </a:lnTo>
                <a:lnTo>
                  <a:pt x="72" y="0"/>
                </a:lnTo>
                <a:lnTo>
                  <a:pt x="104" y="8"/>
                </a:lnTo>
                <a:lnTo>
                  <a:pt x="104" y="8"/>
                </a:lnTo>
                <a:lnTo>
                  <a:pt x="128" y="40"/>
                </a:lnTo>
                <a:lnTo>
                  <a:pt x="128" y="40"/>
                </a:lnTo>
                <a:lnTo>
                  <a:pt x="144" y="88"/>
                </a:lnTo>
                <a:lnTo>
                  <a:pt x="144" y="88"/>
                </a:lnTo>
                <a:lnTo>
                  <a:pt x="152" y="152"/>
                </a:lnTo>
                <a:lnTo>
                  <a:pt x="152" y="15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25960" y="2095560"/>
            <a:ext cx="37800" cy="127080"/>
          </a:xfrm>
          <a:custGeom>
            <a:avLst/>
            <a:gdLst/>
            <a:ahLst/>
            <a:rect l="l" t="t" r="r" b="b"/>
            <a:pathLst>
              <a:path w="24" h="80">
                <a:moveTo>
                  <a:pt x="24" y="40"/>
                </a:moveTo>
                <a:lnTo>
                  <a:pt x="24" y="64"/>
                </a:lnTo>
                <a:lnTo>
                  <a:pt x="8" y="80"/>
                </a:lnTo>
                <a:lnTo>
                  <a:pt x="8" y="80"/>
                </a:lnTo>
                <a:lnTo>
                  <a:pt x="0" y="64"/>
                </a:lnTo>
                <a:lnTo>
                  <a:pt x="0" y="40"/>
                </a:lnTo>
                <a:lnTo>
                  <a:pt x="0" y="40"/>
                </a:lnTo>
                <a:lnTo>
                  <a:pt x="0" y="16"/>
                </a:lnTo>
                <a:lnTo>
                  <a:pt x="8" y="0"/>
                </a:lnTo>
                <a:lnTo>
                  <a:pt x="8" y="0"/>
                </a:lnTo>
                <a:lnTo>
                  <a:pt x="24" y="16"/>
                </a:lnTo>
                <a:lnTo>
                  <a:pt x="24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25960" y="2095560"/>
            <a:ext cx="37800" cy="127080"/>
          </a:xfrm>
          <a:custGeom>
            <a:avLst/>
            <a:gdLst/>
            <a:ahLst/>
            <a:rect l="l" t="t" r="r" b="b"/>
            <a:pathLst>
              <a:path w="24" h="80">
                <a:moveTo>
                  <a:pt x="24" y="40"/>
                </a:moveTo>
                <a:lnTo>
                  <a:pt x="24" y="64"/>
                </a:lnTo>
                <a:lnTo>
                  <a:pt x="24" y="64"/>
                </a:lnTo>
                <a:lnTo>
                  <a:pt x="8" y="80"/>
                </a:lnTo>
                <a:lnTo>
                  <a:pt x="8" y="80"/>
                </a:lnTo>
                <a:lnTo>
                  <a:pt x="8" y="80"/>
                </a:lnTo>
                <a:lnTo>
                  <a:pt x="8" y="80"/>
                </a:lnTo>
                <a:lnTo>
                  <a:pt x="0" y="64"/>
                </a:lnTo>
                <a:lnTo>
                  <a:pt x="0" y="64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16"/>
                </a:lnTo>
                <a:lnTo>
                  <a:pt x="0" y="16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24" y="16"/>
                </a:lnTo>
                <a:lnTo>
                  <a:pt x="24" y="16"/>
                </a:lnTo>
                <a:lnTo>
                  <a:pt x="24" y="40"/>
                </a:lnTo>
                <a:lnTo>
                  <a:pt x="24" y="4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238560" y="1917360"/>
            <a:ext cx="92880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51160" y="2413080"/>
            <a:ext cx="914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51160" y="2095560"/>
            <a:ext cx="863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38560" y="2209680"/>
            <a:ext cx="888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94160" y="1612800"/>
            <a:ext cx="12193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94160" y="1625760"/>
            <a:ext cx="355680" cy="10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692080" y="2120760"/>
            <a:ext cx="304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16200" y="1949400"/>
            <a:ext cx="393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17920" y="1968480"/>
            <a:ext cx="139680" cy="101520"/>
          </a:xfrm>
          <a:custGeom>
            <a:avLst/>
            <a:gdLst/>
            <a:ahLst/>
            <a:rect l="l" t="t" r="r" b="b"/>
            <a:pathLst>
              <a:path w="88" h="64">
                <a:moveTo>
                  <a:pt x="88" y="32"/>
                </a:moveTo>
                <a:lnTo>
                  <a:pt x="0" y="64"/>
                </a:lnTo>
                <a:lnTo>
                  <a:pt x="0" y="0"/>
                </a:lnTo>
                <a:lnTo>
                  <a:pt x="88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63760" y="2019240"/>
            <a:ext cx="317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06600" y="1898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78600" y="15746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4720" y="19558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1600200"/>
            <a:ext cx="533160" cy="10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30640" y="1612800"/>
            <a:ext cx="533520" cy="10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2666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1627200"/>
            <a:ext cx="301680" cy="10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175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1905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21337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2286000"/>
            <a:ext cx="34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2514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715000" y="2743200"/>
          <a:ext cx="231840" cy="29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743200"/>
                    <a:ext cx="23184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2240" y="1828800"/>
            <a:ext cx="900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8040" y="2438280"/>
            <a:ext cx="86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5760" y="1219320"/>
            <a:ext cx="22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ive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49840" y="2286000"/>
            <a:ext cx="191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962520" y="3200400"/>
          <a:ext cx="210492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200400"/>
                    <a:ext cx="210492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034720" y="13644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model- ‘lumped’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4480" y="487692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reciprocity beco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762120"/>
            <a:ext cx="6629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14600" y="5486400"/>
          <a:ext cx="487692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486400"/>
                    <a:ext cx="48769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514600" y="2971800"/>
            <a:ext cx="124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st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895480" y="4267080"/>
          <a:ext cx="4191120" cy="51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4267080"/>
                    <a:ext cx="419112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 rot="5400000">
            <a:off x="4264560" y="1610280"/>
            <a:ext cx="638280" cy="843120"/>
          </a:xfrm>
          <a:custGeom>
            <a:avLst/>
            <a:gdLst/>
            <a:ahLst/>
            <a:rect l="l" t="t" r="r" b="b"/>
            <a:pathLst>
              <a:path w="1252" h="1238">
                <a:moveTo>
                  <a:pt x="0" y="1238"/>
                </a:moveTo>
                <a:lnTo>
                  <a:pt x="9" y="1229"/>
                </a:lnTo>
                <a:lnTo>
                  <a:pt x="18" y="1215"/>
                </a:lnTo>
                <a:lnTo>
                  <a:pt x="27" y="1206"/>
                </a:lnTo>
                <a:lnTo>
                  <a:pt x="36" y="1206"/>
                </a:lnTo>
                <a:lnTo>
                  <a:pt x="45" y="1220"/>
                </a:lnTo>
                <a:lnTo>
                  <a:pt x="59" y="1229"/>
                </a:lnTo>
                <a:lnTo>
                  <a:pt x="68" y="1215"/>
                </a:lnTo>
                <a:lnTo>
                  <a:pt x="77" y="1197"/>
                </a:lnTo>
                <a:lnTo>
                  <a:pt x="86" y="1188"/>
                </a:lnTo>
                <a:lnTo>
                  <a:pt x="95" y="1197"/>
                </a:lnTo>
                <a:lnTo>
                  <a:pt x="104" y="1206"/>
                </a:lnTo>
                <a:lnTo>
                  <a:pt x="118" y="1206"/>
                </a:lnTo>
                <a:lnTo>
                  <a:pt x="127" y="1188"/>
                </a:lnTo>
                <a:lnTo>
                  <a:pt x="136" y="1170"/>
                </a:lnTo>
                <a:lnTo>
                  <a:pt x="145" y="1170"/>
                </a:lnTo>
                <a:lnTo>
                  <a:pt x="154" y="1183"/>
                </a:lnTo>
                <a:lnTo>
                  <a:pt x="168" y="1183"/>
                </a:lnTo>
                <a:lnTo>
                  <a:pt x="177" y="1165"/>
                </a:lnTo>
                <a:lnTo>
                  <a:pt x="186" y="1143"/>
                </a:lnTo>
                <a:lnTo>
                  <a:pt x="195" y="1143"/>
                </a:lnTo>
                <a:lnTo>
                  <a:pt x="204" y="1152"/>
                </a:lnTo>
                <a:lnTo>
                  <a:pt x="213" y="1152"/>
                </a:lnTo>
                <a:lnTo>
                  <a:pt x="227" y="1124"/>
                </a:lnTo>
                <a:lnTo>
                  <a:pt x="236" y="1102"/>
                </a:lnTo>
                <a:lnTo>
                  <a:pt x="245" y="1102"/>
                </a:lnTo>
                <a:lnTo>
                  <a:pt x="254" y="1111"/>
                </a:lnTo>
                <a:lnTo>
                  <a:pt x="263" y="1093"/>
                </a:lnTo>
                <a:lnTo>
                  <a:pt x="277" y="1056"/>
                </a:lnTo>
                <a:lnTo>
                  <a:pt x="286" y="1038"/>
                </a:lnTo>
                <a:lnTo>
                  <a:pt x="295" y="1047"/>
                </a:lnTo>
                <a:lnTo>
                  <a:pt x="304" y="1038"/>
                </a:lnTo>
                <a:lnTo>
                  <a:pt x="313" y="993"/>
                </a:lnTo>
                <a:lnTo>
                  <a:pt x="322" y="957"/>
                </a:lnTo>
                <a:lnTo>
                  <a:pt x="336" y="952"/>
                </a:lnTo>
                <a:lnTo>
                  <a:pt x="345" y="943"/>
                </a:lnTo>
                <a:lnTo>
                  <a:pt x="354" y="893"/>
                </a:lnTo>
                <a:lnTo>
                  <a:pt x="363" y="839"/>
                </a:lnTo>
                <a:lnTo>
                  <a:pt x="372" y="816"/>
                </a:lnTo>
                <a:lnTo>
                  <a:pt x="386" y="798"/>
                </a:lnTo>
                <a:lnTo>
                  <a:pt x="395" y="743"/>
                </a:lnTo>
                <a:lnTo>
                  <a:pt x="404" y="666"/>
                </a:lnTo>
                <a:lnTo>
                  <a:pt x="413" y="626"/>
                </a:lnTo>
                <a:lnTo>
                  <a:pt x="422" y="598"/>
                </a:lnTo>
                <a:lnTo>
                  <a:pt x="431" y="530"/>
                </a:lnTo>
                <a:lnTo>
                  <a:pt x="445" y="440"/>
                </a:lnTo>
                <a:lnTo>
                  <a:pt x="454" y="390"/>
                </a:lnTo>
                <a:lnTo>
                  <a:pt x="463" y="353"/>
                </a:lnTo>
                <a:lnTo>
                  <a:pt x="472" y="281"/>
                </a:lnTo>
                <a:lnTo>
                  <a:pt x="481" y="190"/>
                </a:lnTo>
                <a:lnTo>
                  <a:pt x="495" y="140"/>
                </a:lnTo>
                <a:lnTo>
                  <a:pt x="504" y="122"/>
                </a:lnTo>
                <a:lnTo>
                  <a:pt x="513" y="68"/>
                </a:lnTo>
                <a:lnTo>
                  <a:pt x="522" y="4"/>
                </a:lnTo>
                <a:lnTo>
                  <a:pt x="531" y="0"/>
                </a:lnTo>
                <a:lnTo>
                  <a:pt x="540" y="27"/>
                </a:lnTo>
                <a:lnTo>
                  <a:pt x="553" y="27"/>
                </a:lnTo>
                <a:lnTo>
                  <a:pt x="563" y="27"/>
                </a:lnTo>
                <a:lnTo>
                  <a:pt x="572" y="86"/>
                </a:lnTo>
                <a:lnTo>
                  <a:pt x="581" y="177"/>
                </a:lnTo>
                <a:lnTo>
                  <a:pt x="590" y="231"/>
                </a:lnTo>
                <a:lnTo>
                  <a:pt x="603" y="254"/>
                </a:lnTo>
                <a:lnTo>
                  <a:pt x="612" y="290"/>
                </a:lnTo>
                <a:lnTo>
                  <a:pt x="622" y="331"/>
                </a:lnTo>
                <a:lnTo>
                  <a:pt x="631" y="322"/>
                </a:lnTo>
                <a:lnTo>
                  <a:pt x="640" y="240"/>
                </a:lnTo>
                <a:lnTo>
                  <a:pt x="649" y="158"/>
                </a:lnTo>
                <a:lnTo>
                  <a:pt x="662" y="131"/>
                </a:lnTo>
                <a:lnTo>
                  <a:pt x="671" y="127"/>
                </a:lnTo>
                <a:lnTo>
                  <a:pt x="680" y="95"/>
                </a:lnTo>
                <a:lnTo>
                  <a:pt x="690" y="90"/>
                </a:lnTo>
                <a:lnTo>
                  <a:pt x="699" y="154"/>
                </a:lnTo>
                <a:lnTo>
                  <a:pt x="712" y="249"/>
                </a:lnTo>
                <a:lnTo>
                  <a:pt x="721" y="294"/>
                </a:lnTo>
                <a:lnTo>
                  <a:pt x="730" y="263"/>
                </a:lnTo>
                <a:lnTo>
                  <a:pt x="739" y="208"/>
                </a:lnTo>
                <a:lnTo>
                  <a:pt x="749" y="186"/>
                </a:lnTo>
                <a:lnTo>
                  <a:pt x="758" y="167"/>
                </a:lnTo>
                <a:lnTo>
                  <a:pt x="771" y="127"/>
                </a:lnTo>
                <a:lnTo>
                  <a:pt x="780" y="104"/>
                </a:lnTo>
                <a:lnTo>
                  <a:pt x="789" y="158"/>
                </a:lnTo>
                <a:lnTo>
                  <a:pt x="798" y="249"/>
                </a:lnTo>
                <a:lnTo>
                  <a:pt x="807" y="294"/>
                </a:lnTo>
                <a:lnTo>
                  <a:pt x="821" y="245"/>
                </a:lnTo>
                <a:lnTo>
                  <a:pt x="830" y="154"/>
                </a:lnTo>
                <a:lnTo>
                  <a:pt x="839" y="113"/>
                </a:lnTo>
                <a:lnTo>
                  <a:pt x="848" y="149"/>
                </a:lnTo>
                <a:lnTo>
                  <a:pt x="857" y="199"/>
                </a:lnTo>
                <a:lnTo>
                  <a:pt x="866" y="222"/>
                </a:lnTo>
                <a:lnTo>
                  <a:pt x="880" y="213"/>
                </a:lnTo>
                <a:lnTo>
                  <a:pt x="889" y="199"/>
                </a:lnTo>
                <a:lnTo>
                  <a:pt x="898" y="190"/>
                </a:lnTo>
                <a:lnTo>
                  <a:pt x="907" y="181"/>
                </a:lnTo>
                <a:lnTo>
                  <a:pt x="916" y="163"/>
                </a:lnTo>
                <a:lnTo>
                  <a:pt x="930" y="158"/>
                </a:lnTo>
                <a:lnTo>
                  <a:pt x="939" y="190"/>
                </a:lnTo>
                <a:lnTo>
                  <a:pt x="948" y="226"/>
                </a:lnTo>
                <a:lnTo>
                  <a:pt x="957" y="231"/>
                </a:lnTo>
                <a:lnTo>
                  <a:pt x="966" y="190"/>
                </a:lnTo>
                <a:lnTo>
                  <a:pt x="975" y="145"/>
                </a:lnTo>
                <a:lnTo>
                  <a:pt x="989" y="145"/>
                </a:lnTo>
                <a:lnTo>
                  <a:pt x="998" y="190"/>
                </a:lnTo>
                <a:lnTo>
                  <a:pt x="1007" y="231"/>
                </a:lnTo>
                <a:lnTo>
                  <a:pt x="1016" y="226"/>
                </a:lnTo>
                <a:lnTo>
                  <a:pt x="1025" y="190"/>
                </a:lnTo>
                <a:lnTo>
                  <a:pt x="1034" y="158"/>
                </a:lnTo>
                <a:lnTo>
                  <a:pt x="1048" y="163"/>
                </a:lnTo>
                <a:lnTo>
                  <a:pt x="1057" y="181"/>
                </a:lnTo>
                <a:lnTo>
                  <a:pt x="1066" y="190"/>
                </a:lnTo>
                <a:lnTo>
                  <a:pt x="1075" y="199"/>
                </a:lnTo>
                <a:lnTo>
                  <a:pt x="1084" y="213"/>
                </a:lnTo>
                <a:lnTo>
                  <a:pt x="1098" y="222"/>
                </a:lnTo>
                <a:lnTo>
                  <a:pt x="1107" y="199"/>
                </a:lnTo>
                <a:lnTo>
                  <a:pt x="1116" y="149"/>
                </a:lnTo>
                <a:lnTo>
                  <a:pt x="1125" y="113"/>
                </a:lnTo>
                <a:lnTo>
                  <a:pt x="1134" y="154"/>
                </a:lnTo>
                <a:lnTo>
                  <a:pt x="1143" y="245"/>
                </a:lnTo>
                <a:lnTo>
                  <a:pt x="1157" y="294"/>
                </a:lnTo>
                <a:lnTo>
                  <a:pt x="1166" y="249"/>
                </a:lnTo>
                <a:lnTo>
                  <a:pt x="1175" y="158"/>
                </a:lnTo>
                <a:lnTo>
                  <a:pt x="1184" y="104"/>
                </a:lnTo>
                <a:lnTo>
                  <a:pt x="1193" y="127"/>
                </a:lnTo>
                <a:lnTo>
                  <a:pt x="1207" y="167"/>
                </a:lnTo>
                <a:lnTo>
                  <a:pt x="1216" y="186"/>
                </a:lnTo>
                <a:lnTo>
                  <a:pt x="1225" y="208"/>
                </a:lnTo>
                <a:lnTo>
                  <a:pt x="1234" y="263"/>
                </a:lnTo>
                <a:lnTo>
                  <a:pt x="1243" y="294"/>
                </a:lnTo>
                <a:lnTo>
                  <a:pt x="1252" y="2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4401360" y="2112120"/>
            <a:ext cx="365040" cy="843120"/>
          </a:xfrm>
          <a:custGeom>
            <a:avLst/>
            <a:gdLst/>
            <a:ahLst/>
            <a:rect l="l" t="t" r="r" b="b"/>
            <a:pathLst>
              <a:path w="717" h="1238">
                <a:moveTo>
                  <a:pt x="0" y="249"/>
                </a:moveTo>
                <a:lnTo>
                  <a:pt x="14" y="154"/>
                </a:lnTo>
                <a:lnTo>
                  <a:pt x="23" y="90"/>
                </a:lnTo>
                <a:lnTo>
                  <a:pt x="32" y="95"/>
                </a:lnTo>
                <a:lnTo>
                  <a:pt x="41" y="127"/>
                </a:lnTo>
                <a:lnTo>
                  <a:pt x="50" y="131"/>
                </a:lnTo>
                <a:lnTo>
                  <a:pt x="63" y="158"/>
                </a:lnTo>
                <a:lnTo>
                  <a:pt x="73" y="240"/>
                </a:lnTo>
                <a:lnTo>
                  <a:pt x="82" y="322"/>
                </a:lnTo>
                <a:lnTo>
                  <a:pt x="91" y="331"/>
                </a:lnTo>
                <a:lnTo>
                  <a:pt x="100" y="290"/>
                </a:lnTo>
                <a:lnTo>
                  <a:pt x="109" y="254"/>
                </a:lnTo>
                <a:lnTo>
                  <a:pt x="122" y="231"/>
                </a:lnTo>
                <a:lnTo>
                  <a:pt x="132" y="177"/>
                </a:lnTo>
                <a:lnTo>
                  <a:pt x="141" y="86"/>
                </a:lnTo>
                <a:lnTo>
                  <a:pt x="150" y="27"/>
                </a:lnTo>
                <a:lnTo>
                  <a:pt x="159" y="27"/>
                </a:lnTo>
                <a:lnTo>
                  <a:pt x="172" y="27"/>
                </a:lnTo>
                <a:lnTo>
                  <a:pt x="181" y="0"/>
                </a:lnTo>
                <a:lnTo>
                  <a:pt x="190" y="4"/>
                </a:lnTo>
                <a:lnTo>
                  <a:pt x="200" y="68"/>
                </a:lnTo>
                <a:lnTo>
                  <a:pt x="209" y="122"/>
                </a:lnTo>
                <a:lnTo>
                  <a:pt x="218" y="140"/>
                </a:lnTo>
                <a:lnTo>
                  <a:pt x="231" y="190"/>
                </a:lnTo>
                <a:lnTo>
                  <a:pt x="240" y="281"/>
                </a:lnTo>
                <a:lnTo>
                  <a:pt x="249" y="353"/>
                </a:lnTo>
                <a:lnTo>
                  <a:pt x="259" y="390"/>
                </a:lnTo>
                <a:lnTo>
                  <a:pt x="268" y="440"/>
                </a:lnTo>
                <a:lnTo>
                  <a:pt x="281" y="530"/>
                </a:lnTo>
                <a:lnTo>
                  <a:pt x="290" y="598"/>
                </a:lnTo>
                <a:lnTo>
                  <a:pt x="299" y="626"/>
                </a:lnTo>
                <a:lnTo>
                  <a:pt x="308" y="666"/>
                </a:lnTo>
                <a:lnTo>
                  <a:pt x="317" y="743"/>
                </a:lnTo>
                <a:lnTo>
                  <a:pt x="327" y="798"/>
                </a:lnTo>
                <a:lnTo>
                  <a:pt x="340" y="816"/>
                </a:lnTo>
                <a:lnTo>
                  <a:pt x="349" y="839"/>
                </a:lnTo>
                <a:lnTo>
                  <a:pt x="358" y="893"/>
                </a:lnTo>
                <a:lnTo>
                  <a:pt x="367" y="943"/>
                </a:lnTo>
                <a:lnTo>
                  <a:pt x="376" y="952"/>
                </a:lnTo>
                <a:lnTo>
                  <a:pt x="390" y="957"/>
                </a:lnTo>
                <a:lnTo>
                  <a:pt x="399" y="993"/>
                </a:lnTo>
                <a:lnTo>
                  <a:pt x="408" y="1038"/>
                </a:lnTo>
                <a:lnTo>
                  <a:pt x="417" y="1047"/>
                </a:lnTo>
                <a:lnTo>
                  <a:pt x="426" y="1038"/>
                </a:lnTo>
                <a:lnTo>
                  <a:pt x="435" y="1056"/>
                </a:lnTo>
                <a:lnTo>
                  <a:pt x="449" y="1093"/>
                </a:lnTo>
                <a:lnTo>
                  <a:pt x="458" y="1111"/>
                </a:lnTo>
                <a:lnTo>
                  <a:pt x="467" y="1102"/>
                </a:lnTo>
                <a:lnTo>
                  <a:pt x="476" y="1102"/>
                </a:lnTo>
                <a:lnTo>
                  <a:pt x="485" y="1124"/>
                </a:lnTo>
                <a:lnTo>
                  <a:pt x="499" y="1152"/>
                </a:lnTo>
                <a:lnTo>
                  <a:pt x="508" y="1152"/>
                </a:lnTo>
                <a:lnTo>
                  <a:pt x="517" y="1143"/>
                </a:lnTo>
                <a:lnTo>
                  <a:pt x="526" y="1143"/>
                </a:lnTo>
                <a:lnTo>
                  <a:pt x="535" y="1165"/>
                </a:lnTo>
                <a:lnTo>
                  <a:pt x="544" y="1183"/>
                </a:lnTo>
                <a:lnTo>
                  <a:pt x="558" y="1183"/>
                </a:lnTo>
                <a:lnTo>
                  <a:pt x="567" y="1170"/>
                </a:lnTo>
                <a:lnTo>
                  <a:pt x="576" y="1170"/>
                </a:lnTo>
                <a:lnTo>
                  <a:pt x="585" y="1188"/>
                </a:lnTo>
                <a:lnTo>
                  <a:pt x="594" y="1206"/>
                </a:lnTo>
                <a:lnTo>
                  <a:pt x="608" y="1206"/>
                </a:lnTo>
                <a:lnTo>
                  <a:pt x="617" y="1197"/>
                </a:lnTo>
                <a:lnTo>
                  <a:pt x="626" y="1188"/>
                </a:lnTo>
                <a:lnTo>
                  <a:pt x="635" y="1197"/>
                </a:lnTo>
                <a:lnTo>
                  <a:pt x="644" y="1215"/>
                </a:lnTo>
                <a:lnTo>
                  <a:pt x="653" y="1229"/>
                </a:lnTo>
                <a:lnTo>
                  <a:pt x="667" y="1220"/>
                </a:lnTo>
                <a:lnTo>
                  <a:pt x="676" y="1206"/>
                </a:lnTo>
                <a:lnTo>
                  <a:pt x="685" y="1206"/>
                </a:lnTo>
                <a:lnTo>
                  <a:pt x="694" y="1215"/>
                </a:lnTo>
                <a:lnTo>
                  <a:pt x="703" y="1229"/>
                </a:lnTo>
                <a:lnTo>
                  <a:pt x="717" y="123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16520" y="1450800"/>
            <a:ext cx="387360" cy="150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7040" y="2013120"/>
            <a:ext cx="63360" cy="3571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06720" y="2058840"/>
            <a:ext cx="130320" cy="26208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43360" y="2013120"/>
            <a:ext cx="63360" cy="3571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81200" y="2209680"/>
            <a:ext cx="3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425320" y="2077920"/>
            <a:ext cx="45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25680" y="220968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90840" y="2077920"/>
            <a:ext cx="0" cy="13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17880" y="1982880"/>
          <a:ext cx="222120" cy="26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17880" y="1982880"/>
                    <a:ext cx="222120" cy="2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568600" y="2308320"/>
          <a:ext cx="17316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68600" y="2308320"/>
                    <a:ext cx="1731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200400" y="1752480"/>
            <a:ext cx="1228680" cy="9144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6640" y="1882800"/>
            <a:ext cx="82440" cy="654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78360" y="2209680"/>
            <a:ext cx="387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77840" y="2174760"/>
            <a:ext cx="452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19880" y="1882800"/>
            <a:ext cx="82440" cy="654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944960" y="1620720"/>
          <a:ext cx="258840" cy="262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44960" y="1620720"/>
                    <a:ext cx="258840" cy="2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5602320" y="190008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11680" y="2077920"/>
            <a:ext cx="2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03760" y="230976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03760" y="2527200"/>
            <a:ext cx="2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51440" y="188280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72040" y="1882800"/>
          <a:ext cx="190800" cy="236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72040" y="1882800"/>
                    <a:ext cx="1908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648320" y="23623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0080" y="259092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, p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2362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429000" y="3657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0481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04812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971800" y="3809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029200" y="3809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308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0" y="3200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15160" y="3870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5012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3657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27600" y="304920"/>
            <a:ext cx="44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model - transfer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438280" y="4876920"/>
          <a:ext cx="480060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876920"/>
                    <a:ext cx="48006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371600" y="838080"/>
            <a:ext cx="6248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6840" y="281952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Port Transduce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49280" y="5622840"/>
            <a:ext cx="22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recipr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67520" y="1143000"/>
            <a:ext cx="628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37160" y="1298520"/>
            <a:ext cx="387360" cy="150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57680" y="1860480"/>
            <a:ext cx="63360" cy="3571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27360" y="1906560"/>
            <a:ext cx="130320" cy="26208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64000" y="1860480"/>
            <a:ext cx="63360" cy="3571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1840" y="2057400"/>
            <a:ext cx="3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5960" y="1925640"/>
            <a:ext cx="45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046320" y="205740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11480" y="1925640"/>
            <a:ext cx="0" cy="13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738520" y="1830240"/>
          <a:ext cx="222120" cy="26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38520" y="1830240"/>
                    <a:ext cx="222120" cy="2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189240" y="2155680"/>
          <a:ext cx="17316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89240" y="2155680"/>
                    <a:ext cx="1731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3821040" y="1600200"/>
            <a:ext cx="1228680" cy="9144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67280" y="1730520"/>
            <a:ext cx="82440" cy="653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68960" y="2057400"/>
            <a:ext cx="387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92280" y="1905120"/>
            <a:ext cx="452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345280" y="1600200"/>
          <a:ext cx="258480" cy="26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45280" y="1600200"/>
                    <a:ext cx="258480" cy="2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573880" y="2209680"/>
          <a:ext cx="190440" cy="236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73880" y="2209680"/>
                    <a:ext cx="19044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5938200" y="20224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328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01840" y="914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745360" y="990720"/>
            <a:ext cx="2772360" cy="1295280"/>
            <a:chOff x="2745360" y="990720"/>
            <a:chExt cx="2772360" cy="1295280"/>
          </a:xfrm>
        </p:grpSpPr>
        <p:sp>
          <p:nvSpPr>
            <p:cNvPr id="174" name=""/>
            <p:cNvSpPr/>
            <p:nvPr/>
          </p:nvSpPr>
          <p:spPr>
            <a:xfrm>
              <a:off x="3581280" y="1371600"/>
              <a:ext cx="11430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T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200400" y="1523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24280" y="1523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24280" y="21337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200400" y="2133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12408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18148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45360" y="1600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67800" y="1584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02400" y="990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24080" y="1371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76920" y="1371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127600" y="304920"/>
            <a:ext cx="44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model - transfer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09480" y="3124080"/>
            <a:ext cx="7696080" cy="2527200"/>
            <a:chOff x="609480" y="3124080"/>
            <a:chExt cx="7696080" cy="2527200"/>
          </a:xfrm>
        </p:grpSpPr>
        <p:sp>
          <p:nvSpPr>
            <p:cNvPr id="188" name=""/>
            <p:cNvSpPr/>
            <p:nvPr/>
          </p:nvSpPr>
          <p:spPr>
            <a:xfrm>
              <a:off x="2588040" y="3124080"/>
              <a:ext cx="176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ttig mode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9" name=""/>
            <p:cNvGraphicFramePr/>
            <p:nvPr/>
          </p:nvGraphicFramePr>
          <p:xfrm>
            <a:off x="4724280" y="3124080"/>
            <a:ext cx="1498320" cy="35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24280" y="3124080"/>
                      <a:ext cx="1498320" cy="35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"/>
            <p:cNvGraphicFramePr/>
            <p:nvPr/>
          </p:nvGraphicFramePr>
          <p:xfrm>
            <a:off x="609480" y="3885840"/>
            <a:ext cx="7696080" cy="1765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3885840"/>
                      <a:ext cx="7696080" cy="17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3" name=""/>
          <p:cNvSpPr/>
          <p:nvPr/>
        </p:nvSpPr>
        <p:spPr>
          <a:xfrm>
            <a:off x="1371600" y="838080"/>
            <a:ext cx="6248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27600" y="304920"/>
            <a:ext cx="44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model - transfer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838080"/>
            <a:ext cx="6248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95280" y="1219320"/>
          <a:ext cx="1441440" cy="47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19320"/>
                    <a:ext cx="144144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3271320" y="1219320"/>
            <a:ext cx="428472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 number of piezoelectric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 speed of the plate, defined in terms o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te elastic constant at constant flux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te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, defined in terms o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te stiff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mped capacitance, defined in terms o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te area, thick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te dielectric impermeability at const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te acoustic impe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ing acoustic impe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815560" y="15228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- three por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1676520"/>
            <a:ext cx="304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1676520"/>
            <a:ext cx="76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676520"/>
            <a:ext cx="76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06728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697200" y="1206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1911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733920" y="1295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581280" y="1294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61960" y="974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597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82200" y="1523880"/>
            <a:ext cx="90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77440" y="1600200"/>
            <a:ext cx="90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6668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96800" y="265104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 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4240" y="23623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45040" y="2666880"/>
            <a:ext cx="276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ickness negl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523880" y="4267080"/>
          <a:ext cx="6248520" cy="14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267080"/>
                    <a:ext cx="6248520" cy="14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6858000" y="1523880"/>
            <a:ext cx="914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7240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7712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47712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15328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08660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848720" y="1600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01028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06240" y="1355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0280" y="117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22040" y="17366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99760" y="1089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71200" y="25909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67840" y="22683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819520" y="251460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57400" y="762120"/>
            <a:ext cx="5486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25760" y="36576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x3 impeda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03920" y="228600"/>
            <a:ext cx="48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ducer - Mason equivalent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84800" y="1828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561360" y="1828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999000" y="1752480"/>
            <a:ext cx="6610680" cy="3719520"/>
            <a:chOff x="999000" y="1752480"/>
            <a:chExt cx="6610680" cy="3719520"/>
          </a:xfrm>
        </p:grpSpPr>
        <p:sp>
          <p:nvSpPr>
            <p:cNvPr id="245" name=""/>
            <p:cNvSpPr/>
            <p:nvPr/>
          </p:nvSpPr>
          <p:spPr>
            <a:xfrm>
              <a:off x="2606760" y="2347920"/>
              <a:ext cx="762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7680" y="2347920"/>
              <a:ext cx="7617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78520" y="3033720"/>
              <a:ext cx="2286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4054680" y="4100400"/>
              <a:ext cx="636480" cy="1295280"/>
              <a:chOff x="4054680" y="4100400"/>
              <a:chExt cx="636480" cy="12952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4054680" y="4348080"/>
                <a:ext cx="474480" cy="932040"/>
                <a:chOff x="4054680" y="4348080"/>
                <a:chExt cx="474480" cy="9320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071960" y="4348080"/>
                  <a:ext cx="45720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067280" y="4589640"/>
                  <a:ext cx="45720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054680" y="4822920"/>
                  <a:ext cx="45720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054680" y="5051520"/>
                  <a:ext cx="45720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4310280" y="4100400"/>
                <a:ext cx="380880" cy="129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368880" y="4329000"/>
              <a:ext cx="474480" cy="932040"/>
              <a:chOff x="3368880" y="4329000"/>
              <a:chExt cx="474480" cy="932040"/>
            </a:xfrm>
          </p:grpSpPr>
          <p:sp>
            <p:nvSpPr>
              <p:cNvPr id="256" name=""/>
              <p:cNvSpPr/>
              <p:nvPr/>
            </p:nvSpPr>
            <p:spPr>
              <a:xfrm>
                <a:off x="3386160" y="4329000"/>
                <a:ext cx="4572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81480" y="4570560"/>
                <a:ext cx="4572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368880" y="4803840"/>
                <a:ext cx="4572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368880" y="5032440"/>
                <a:ext cx="4572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216240" y="4176720"/>
              <a:ext cx="38124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4283280" y="3719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83280" y="5243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16040" y="547200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301840" y="52545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2261880" y="4327560"/>
              <a:ext cx="72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70400" y="4744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57440" y="4862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30600" y="4873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719440" y="43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68880" y="24606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4283280" y="24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49560" y="4176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2225880" y="4329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8280" y="248256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634760" y="2466720"/>
              <a:ext cx="96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026480" y="257616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492960" y="23479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540080" y="257616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92360" y="23479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87640" y="4176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92400" y="4174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140280" y="4329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30960" y="4389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11120" y="3551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99000" y="33987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71200" y="332244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98560" y="387180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: 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11680" y="46339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19800" y="3755880"/>
              <a:ext cx="65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33280" y="3017880"/>
              <a:ext cx="146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sin(k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33880" y="28699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2280960" y="1778040"/>
              <a:ext cx="1848240" cy="609840"/>
              <a:chOff x="2280960" y="1778040"/>
              <a:chExt cx="1848240" cy="609840"/>
            </a:xfrm>
          </p:grpSpPr>
          <p:sp>
            <p:nvSpPr>
              <p:cNvPr id="293" name=""/>
              <p:cNvSpPr/>
              <p:nvPr/>
            </p:nvSpPr>
            <p:spPr>
              <a:xfrm>
                <a:off x="2280960" y="1877760"/>
                <a:ext cx="1848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 i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tan(kl/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749320" y="177804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4501800" y="1752480"/>
              <a:ext cx="1848240" cy="610200"/>
              <a:chOff x="4501800" y="1752480"/>
              <a:chExt cx="1848240" cy="610200"/>
            </a:xfrm>
          </p:grpSpPr>
          <p:sp>
            <p:nvSpPr>
              <p:cNvPr id="296" name=""/>
              <p:cNvSpPr/>
              <p:nvPr/>
            </p:nvSpPr>
            <p:spPr>
              <a:xfrm>
                <a:off x="4501800" y="1852560"/>
                <a:ext cx="1848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 i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tan(kl/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970160" y="175248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1447920" y="83808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3:30:07Z</dcterms:created>
  <dc:creator>Lester Schmerr</dc:creator>
  <dc:description/>
  <dc:language>en-US</dc:language>
  <cp:lastModifiedBy>Lester Schmerr</cp:lastModifiedBy>
  <dcterms:modified xsi:type="dcterms:W3CDTF">2006-12-20T22:05:34Z</dcterms:modified>
  <cp:revision>24</cp:revision>
  <dc:subject/>
  <dc:title>No Slide Title</dc:title>
</cp:coreProperties>
</file>