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985-60A4-4E6A-A2CA-2B1039BD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134-2A39-4463-9EF6-889C40C3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9B1-BCE7-4BF2-A5A7-DDBF1CEF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C19-7766-4D54-A091-AA2E4EC8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62A-E27B-4F90-BC6C-3B7FE2C9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80B-EA0C-492D-9ADD-84F26FA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7FE-FF27-400E-98DC-A49C4389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CB4-B976-4C78-808A-B8E81BB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080-5C8D-47F0-9652-947AF1EA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E63-85A4-4BB8-92FC-D9E33F2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BAF-D111-4FE9-BBC8-BF962A73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946-B850-4F52-B7B1-825141C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DA1C-5569-4D3E-86AF-E6DD229FA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5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57.wmf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6002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0160" y="365760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ltrasound Recep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74600" y="167652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transducer and acoustic sourc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8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2971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285120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4114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249640" y="3324240"/>
          <a:ext cx="20332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9640" y="3324240"/>
                    <a:ext cx="2033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5195880" y="3095640"/>
          <a:ext cx="703440" cy="3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5880" y="3095640"/>
                    <a:ext cx="7034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 flipV="1">
            <a:off x="6531120" y="30956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78480" y="2867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08880" y="32479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78480" y="2486160"/>
            <a:ext cx="2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743200" y="129528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1295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19810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15000" y="129528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1523880"/>
            <a:ext cx="759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1523880"/>
            <a:ext cx="763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95480" y="1523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1752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13336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133360" y="1600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718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00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93000" y="1127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152388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61720" y="1295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13440" y="1523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97200" y="38088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ing 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752480" y="4724280"/>
          <a:ext cx="53341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724280"/>
                    <a:ext cx="53341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3886200" y="28954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5053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50532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42900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48640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281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36920" y="24382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47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37120" y="24382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34160" y="5867280"/>
            <a:ext cx="4545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changing direction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s does not change 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19320" y="99072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7080" y="40035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l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050200" y="152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ing cable - experiment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6858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19320" y="3322800"/>
            <a:ext cx="823680" cy="641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964040"/>
            <a:ext cx="45864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38440" y="3908520"/>
            <a:ext cx="1440" cy="54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4419720"/>
            <a:ext cx="91800" cy="733320"/>
          </a:xfrm>
          <a:prstGeom prst="rect">
            <a:avLst/>
          </a:prstGeom>
          <a:solidFill>
            <a:srgbClr val="a6a6a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11120" y="4964040"/>
            <a:ext cx="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9360" y="5829480"/>
            <a:ext cx="15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- 5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ture - 2.5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89440" y="29574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8000" y="1216080"/>
            <a:ext cx="24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mmersion set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ing and fix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ing the trans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be characteriz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456000" y="631800"/>
            <a:ext cx="5154840" cy="6122880"/>
            <a:chOff x="3456000" y="631800"/>
            <a:chExt cx="5154840" cy="6122880"/>
          </a:xfrm>
        </p:grpSpPr>
        <p:sp>
          <p:nvSpPr>
            <p:cNvPr id="472" name=""/>
            <p:cNvSpPr/>
            <p:nvPr/>
          </p:nvSpPr>
          <p:spPr>
            <a:xfrm>
              <a:off x="4229280" y="1117440"/>
              <a:ext cx="173340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29280" y="1117440"/>
              <a:ext cx="1733400" cy="1028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29280" y="1117440"/>
              <a:ext cx="173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29280" y="214632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962680" y="111744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229280" y="111744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29280" y="214632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229280" y="111744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229280" y="21268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29280" y="11174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5800" y="218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667400" y="21268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67400" y="11174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33920" y="218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095800" y="21268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95800" y="11174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19840" y="218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5533920" y="21268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33920" y="11174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57960" y="218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962680" y="21268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2680" y="11174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86720" y="218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29280" y="214632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943240" y="21463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19480" y="207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29280" y="180324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943240" y="18032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07880" y="1727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29280" y="146052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943240" y="14605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19480" y="138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29280" y="111744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943240" y="11174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07880" y="1041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29280" y="1117440"/>
              <a:ext cx="173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29280" y="214632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962680" y="111744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229280" y="111744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57720" y="1450800"/>
              <a:ext cx="1666800" cy="676440"/>
            </a:xfrm>
            <a:custGeom>
              <a:avLst/>
              <a:gdLst/>
              <a:ahLst/>
              <a:rect l="l" t="t" r="r" b="b"/>
              <a:pathLst>
                <a:path w="1050" h="426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2" y="36"/>
                  </a:lnTo>
                  <a:lnTo>
                    <a:pt x="198" y="36"/>
                  </a:lnTo>
                  <a:lnTo>
                    <a:pt x="204" y="36"/>
                  </a:lnTo>
                  <a:lnTo>
                    <a:pt x="210" y="42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8" y="48"/>
                  </a:lnTo>
                  <a:lnTo>
                    <a:pt x="234" y="48"/>
                  </a:lnTo>
                  <a:lnTo>
                    <a:pt x="240" y="48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60"/>
                  </a:lnTo>
                  <a:lnTo>
                    <a:pt x="276" y="60"/>
                  </a:lnTo>
                  <a:lnTo>
                    <a:pt x="282" y="66"/>
                  </a:lnTo>
                  <a:lnTo>
                    <a:pt x="288" y="66"/>
                  </a:lnTo>
                  <a:lnTo>
                    <a:pt x="294" y="66"/>
                  </a:lnTo>
                  <a:lnTo>
                    <a:pt x="300" y="72"/>
                  </a:lnTo>
                  <a:lnTo>
                    <a:pt x="306" y="72"/>
                  </a:lnTo>
                  <a:lnTo>
                    <a:pt x="312" y="72"/>
                  </a:lnTo>
                  <a:lnTo>
                    <a:pt x="318" y="78"/>
                  </a:lnTo>
                  <a:lnTo>
                    <a:pt x="324" y="78"/>
                  </a:lnTo>
                  <a:lnTo>
                    <a:pt x="330" y="84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8" y="90"/>
                  </a:lnTo>
                  <a:lnTo>
                    <a:pt x="354" y="90"/>
                  </a:lnTo>
                  <a:lnTo>
                    <a:pt x="360" y="96"/>
                  </a:lnTo>
                  <a:lnTo>
                    <a:pt x="366" y="96"/>
                  </a:lnTo>
                  <a:lnTo>
                    <a:pt x="372" y="96"/>
                  </a:lnTo>
                  <a:lnTo>
                    <a:pt x="378" y="102"/>
                  </a:lnTo>
                  <a:lnTo>
                    <a:pt x="384" y="102"/>
                  </a:lnTo>
                  <a:lnTo>
                    <a:pt x="390" y="108"/>
                  </a:lnTo>
                  <a:lnTo>
                    <a:pt x="396" y="108"/>
                  </a:lnTo>
                  <a:lnTo>
                    <a:pt x="402" y="114"/>
                  </a:lnTo>
                  <a:lnTo>
                    <a:pt x="408" y="114"/>
                  </a:lnTo>
                  <a:lnTo>
                    <a:pt x="414" y="114"/>
                  </a:lnTo>
                  <a:lnTo>
                    <a:pt x="420" y="120"/>
                  </a:lnTo>
                  <a:lnTo>
                    <a:pt x="426" y="120"/>
                  </a:lnTo>
                  <a:lnTo>
                    <a:pt x="432" y="126"/>
                  </a:lnTo>
                  <a:lnTo>
                    <a:pt x="438" y="126"/>
                  </a:lnTo>
                  <a:lnTo>
                    <a:pt x="444" y="132"/>
                  </a:lnTo>
                  <a:lnTo>
                    <a:pt x="450" y="132"/>
                  </a:lnTo>
                  <a:lnTo>
                    <a:pt x="456" y="138"/>
                  </a:lnTo>
                  <a:lnTo>
                    <a:pt x="462" y="138"/>
                  </a:lnTo>
                  <a:lnTo>
                    <a:pt x="468" y="144"/>
                  </a:lnTo>
                  <a:lnTo>
                    <a:pt x="474" y="144"/>
                  </a:lnTo>
                  <a:lnTo>
                    <a:pt x="480" y="150"/>
                  </a:lnTo>
                  <a:lnTo>
                    <a:pt x="486" y="150"/>
                  </a:lnTo>
                  <a:lnTo>
                    <a:pt x="492" y="150"/>
                  </a:lnTo>
                  <a:lnTo>
                    <a:pt x="498" y="156"/>
                  </a:lnTo>
                  <a:lnTo>
                    <a:pt x="504" y="162"/>
                  </a:lnTo>
                  <a:lnTo>
                    <a:pt x="510" y="162"/>
                  </a:lnTo>
                  <a:lnTo>
                    <a:pt x="516" y="168"/>
                  </a:lnTo>
                  <a:lnTo>
                    <a:pt x="522" y="168"/>
                  </a:lnTo>
                  <a:lnTo>
                    <a:pt x="528" y="168"/>
                  </a:lnTo>
                  <a:lnTo>
                    <a:pt x="534" y="174"/>
                  </a:lnTo>
                  <a:lnTo>
                    <a:pt x="540" y="180"/>
                  </a:lnTo>
                  <a:lnTo>
                    <a:pt x="546" y="180"/>
                  </a:lnTo>
                  <a:lnTo>
                    <a:pt x="552" y="180"/>
                  </a:lnTo>
                  <a:lnTo>
                    <a:pt x="558" y="186"/>
                  </a:lnTo>
                  <a:lnTo>
                    <a:pt x="564" y="192"/>
                  </a:lnTo>
                  <a:lnTo>
                    <a:pt x="570" y="192"/>
                  </a:lnTo>
                  <a:lnTo>
                    <a:pt x="576" y="198"/>
                  </a:lnTo>
                  <a:lnTo>
                    <a:pt x="582" y="198"/>
                  </a:lnTo>
                  <a:lnTo>
                    <a:pt x="588" y="204"/>
                  </a:lnTo>
                  <a:lnTo>
                    <a:pt x="594" y="204"/>
                  </a:lnTo>
                  <a:lnTo>
                    <a:pt x="600" y="210"/>
                  </a:lnTo>
                  <a:lnTo>
                    <a:pt x="606" y="210"/>
                  </a:lnTo>
                  <a:lnTo>
                    <a:pt x="612" y="216"/>
                  </a:lnTo>
                  <a:lnTo>
                    <a:pt x="618" y="216"/>
                  </a:lnTo>
                  <a:lnTo>
                    <a:pt x="624" y="222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4"/>
                  </a:lnTo>
                  <a:lnTo>
                    <a:pt x="648" y="234"/>
                  </a:lnTo>
                  <a:lnTo>
                    <a:pt x="654" y="240"/>
                  </a:lnTo>
                  <a:lnTo>
                    <a:pt x="660" y="246"/>
                  </a:lnTo>
                  <a:lnTo>
                    <a:pt x="666" y="246"/>
                  </a:lnTo>
                  <a:lnTo>
                    <a:pt x="672" y="252"/>
                  </a:lnTo>
                  <a:lnTo>
                    <a:pt x="678" y="252"/>
                  </a:lnTo>
                  <a:lnTo>
                    <a:pt x="684" y="258"/>
                  </a:lnTo>
                  <a:lnTo>
                    <a:pt x="690" y="258"/>
                  </a:lnTo>
                  <a:lnTo>
                    <a:pt x="696" y="264"/>
                  </a:lnTo>
                  <a:lnTo>
                    <a:pt x="702" y="264"/>
                  </a:lnTo>
                  <a:lnTo>
                    <a:pt x="708" y="270"/>
                  </a:lnTo>
                  <a:lnTo>
                    <a:pt x="714" y="276"/>
                  </a:lnTo>
                  <a:lnTo>
                    <a:pt x="720" y="282"/>
                  </a:lnTo>
                  <a:lnTo>
                    <a:pt x="726" y="282"/>
                  </a:lnTo>
                  <a:lnTo>
                    <a:pt x="732" y="288"/>
                  </a:lnTo>
                  <a:lnTo>
                    <a:pt x="738" y="288"/>
                  </a:lnTo>
                  <a:lnTo>
                    <a:pt x="744" y="294"/>
                  </a:lnTo>
                  <a:lnTo>
                    <a:pt x="750" y="300"/>
                  </a:lnTo>
                  <a:lnTo>
                    <a:pt x="756" y="300"/>
                  </a:lnTo>
                  <a:lnTo>
                    <a:pt x="762" y="306"/>
                  </a:lnTo>
                  <a:lnTo>
                    <a:pt x="768" y="306"/>
                  </a:lnTo>
                  <a:lnTo>
                    <a:pt x="774" y="312"/>
                  </a:lnTo>
                  <a:lnTo>
                    <a:pt x="780" y="318"/>
                  </a:lnTo>
                  <a:lnTo>
                    <a:pt x="786" y="318"/>
                  </a:lnTo>
                  <a:lnTo>
                    <a:pt x="792" y="324"/>
                  </a:lnTo>
                  <a:lnTo>
                    <a:pt x="798" y="330"/>
                  </a:lnTo>
                  <a:lnTo>
                    <a:pt x="804" y="330"/>
                  </a:lnTo>
                  <a:lnTo>
                    <a:pt x="810" y="336"/>
                  </a:lnTo>
                  <a:lnTo>
                    <a:pt x="816" y="342"/>
                  </a:lnTo>
                  <a:lnTo>
                    <a:pt x="822" y="342"/>
                  </a:lnTo>
                  <a:lnTo>
                    <a:pt x="828" y="348"/>
                  </a:lnTo>
                  <a:lnTo>
                    <a:pt x="834" y="348"/>
                  </a:lnTo>
                  <a:lnTo>
                    <a:pt x="840" y="354"/>
                  </a:lnTo>
                  <a:lnTo>
                    <a:pt x="846" y="360"/>
                  </a:lnTo>
                  <a:lnTo>
                    <a:pt x="852" y="360"/>
                  </a:lnTo>
                  <a:lnTo>
                    <a:pt x="858" y="366"/>
                  </a:lnTo>
                  <a:lnTo>
                    <a:pt x="864" y="372"/>
                  </a:lnTo>
                  <a:lnTo>
                    <a:pt x="870" y="372"/>
                  </a:lnTo>
                  <a:lnTo>
                    <a:pt x="876" y="378"/>
                  </a:lnTo>
                  <a:lnTo>
                    <a:pt x="882" y="378"/>
                  </a:lnTo>
                  <a:lnTo>
                    <a:pt x="888" y="384"/>
                  </a:lnTo>
                  <a:lnTo>
                    <a:pt x="894" y="390"/>
                  </a:lnTo>
                  <a:lnTo>
                    <a:pt x="900" y="390"/>
                  </a:lnTo>
                  <a:lnTo>
                    <a:pt x="906" y="396"/>
                  </a:lnTo>
                  <a:lnTo>
                    <a:pt x="912" y="396"/>
                  </a:lnTo>
                  <a:lnTo>
                    <a:pt x="918" y="402"/>
                  </a:lnTo>
                  <a:lnTo>
                    <a:pt x="924" y="408"/>
                  </a:lnTo>
                  <a:lnTo>
                    <a:pt x="930" y="408"/>
                  </a:lnTo>
                  <a:lnTo>
                    <a:pt x="936" y="414"/>
                  </a:lnTo>
                  <a:lnTo>
                    <a:pt x="942" y="414"/>
                  </a:lnTo>
                  <a:lnTo>
                    <a:pt x="948" y="420"/>
                  </a:lnTo>
                  <a:lnTo>
                    <a:pt x="954" y="420"/>
                  </a:lnTo>
                  <a:lnTo>
                    <a:pt x="960" y="426"/>
                  </a:lnTo>
                  <a:lnTo>
                    <a:pt x="966" y="426"/>
                  </a:lnTo>
                  <a:lnTo>
                    <a:pt x="972" y="426"/>
                  </a:lnTo>
                  <a:lnTo>
                    <a:pt x="978" y="426"/>
                  </a:lnTo>
                  <a:lnTo>
                    <a:pt x="984" y="420"/>
                  </a:lnTo>
                  <a:lnTo>
                    <a:pt x="990" y="420"/>
                  </a:lnTo>
                  <a:lnTo>
                    <a:pt x="996" y="414"/>
                  </a:lnTo>
                  <a:lnTo>
                    <a:pt x="1002" y="414"/>
                  </a:lnTo>
                  <a:lnTo>
                    <a:pt x="1008" y="408"/>
                  </a:lnTo>
                  <a:lnTo>
                    <a:pt x="1014" y="408"/>
                  </a:lnTo>
                  <a:lnTo>
                    <a:pt x="1020" y="402"/>
                  </a:lnTo>
                  <a:lnTo>
                    <a:pt x="1026" y="396"/>
                  </a:lnTo>
                  <a:lnTo>
                    <a:pt x="1032" y="396"/>
                  </a:lnTo>
                  <a:lnTo>
                    <a:pt x="1038" y="390"/>
                  </a:lnTo>
                  <a:lnTo>
                    <a:pt x="1044" y="384"/>
                  </a:lnTo>
                  <a:lnTo>
                    <a:pt x="1050" y="3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781680" y="1084320"/>
              <a:ext cx="17337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1084320"/>
              <a:ext cx="1733760" cy="1028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81680" y="108432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1680" y="211284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8515440" y="10839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781680" y="1083960"/>
              <a:ext cx="180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81680" y="211284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781680" y="1083960"/>
              <a:ext cx="180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781680" y="20934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81680" y="1084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48560" y="215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219800" y="20934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19800" y="1084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86680" y="215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648560" y="20934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48560" y="10843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72600" y="2151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8086680" y="20934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86680" y="1084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10720" y="2151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515440" y="20934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15440" y="10843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39480" y="2151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81680" y="2112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496000" y="2112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91880" y="20368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81680" y="17701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8496000" y="17701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91880" y="1693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1680" y="14270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8496000" y="14270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72240" y="135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10843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496000" y="10843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29680" y="1008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81680" y="108432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81680" y="211284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8515440" y="10839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781680" y="1083960"/>
              <a:ext cx="180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10480" y="1427040"/>
              <a:ext cx="1666800" cy="590760"/>
            </a:xfrm>
            <a:custGeom>
              <a:avLst/>
              <a:gdLst/>
              <a:ahLst/>
              <a:rect l="l" t="t" r="r" b="b"/>
              <a:pathLst>
                <a:path w="1050" h="37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6"/>
                  </a:lnTo>
                  <a:lnTo>
                    <a:pt x="594" y="6"/>
                  </a:lnTo>
                  <a:lnTo>
                    <a:pt x="600" y="6"/>
                  </a:lnTo>
                  <a:lnTo>
                    <a:pt x="606" y="6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6"/>
                  </a:lnTo>
                  <a:lnTo>
                    <a:pt x="750" y="12"/>
                  </a:lnTo>
                  <a:lnTo>
                    <a:pt x="756" y="12"/>
                  </a:lnTo>
                  <a:lnTo>
                    <a:pt x="762" y="12"/>
                  </a:lnTo>
                  <a:lnTo>
                    <a:pt x="768" y="12"/>
                  </a:lnTo>
                  <a:lnTo>
                    <a:pt x="774" y="12"/>
                  </a:lnTo>
                  <a:lnTo>
                    <a:pt x="780" y="12"/>
                  </a:lnTo>
                  <a:lnTo>
                    <a:pt x="786" y="12"/>
                  </a:lnTo>
                  <a:lnTo>
                    <a:pt x="792" y="12"/>
                  </a:lnTo>
                  <a:lnTo>
                    <a:pt x="798" y="12"/>
                  </a:lnTo>
                  <a:lnTo>
                    <a:pt x="804" y="12"/>
                  </a:lnTo>
                  <a:lnTo>
                    <a:pt x="810" y="18"/>
                  </a:lnTo>
                  <a:lnTo>
                    <a:pt x="816" y="18"/>
                  </a:lnTo>
                  <a:lnTo>
                    <a:pt x="822" y="18"/>
                  </a:lnTo>
                  <a:lnTo>
                    <a:pt x="828" y="18"/>
                  </a:lnTo>
                  <a:lnTo>
                    <a:pt x="834" y="18"/>
                  </a:lnTo>
                  <a:lnTo>
                    <a:pt x="840" y="18"/>
                  </a:lnTo>
                  <a:lnTo>
                    <a:pt x="846" y="18"/>
                  </a:lnTo>
                  <a:lnTo>
                    <a:pt x="852" y="24"/>
                  </a:lnTo>
                  <a:lnTo>
                    <a:pt x="858" y="24"/>
                  </a:lnTo>
                  <a:lnTo>
                    <a:pt x="864" y="24"/>
                  </a:lnTo>
                  <a:lnTo>
                    <a:pt x="870" y="30"/>
                  </a:lnTo>
                  <a:lnTo>
                    <a:pt x="876" y="30"/>
                  </a:lnTo>
                  <a:lnTo>
                    <a:pt x="882" y="30"/>
                  </a:lnTo>
                  <a:lnTo>
                    <a:pt x="888" y="36"/>
                  </a:lnTo>
                  <a:lnTo>
                    <a:pt x="894" y="36"/>
                  </a:lnTo>
                  <a:lnTo>
                    <a:pt x="900" y="42"/>
                  </a:lnTo>
                  <a:lnTo>
                    <a:pt x="906" y="42"/>
                  </a:lnTo>
                  <a:lnTo>
                    <a:pt x="912" y="42"/>
                  </a:lnTo>
                  <a:lnTo>
                    <a:pt x="918" y="48"/>
                  </a:lnTo>
                  <a:lnTo>
                    <a:pt x="924" y="54"/>
                  </a:lnTo>
                  <a:lnTo>
                    <a:pt x="930" y="60"/>
                  </a:lnTo>
                  <a:lnTo>
                    <a:pt x="930" y="66"/>
                  </a:lnTo>
                  <a:lnTo>
                    <a:pt x="936" y="72"/>
                  </a:lnTo>
                  <a:lnTo>
                    <a:pt x="936" y="78"/>
                  </a:lnTo>
                  <a:lnTo>
                    <a:pt x="942" y="84"/>
                  </a:lnTo>
                  <a:lnTo>
                    <a:pt x="948" y="90"/>
                  </a:lnTo>
                  <a:lnTo>
                    <a:pt x="948" y="96"/>
                  </a:lnTo>
                  <a:lnTo>
                    <a:pt x="954" y="108"/>
                  </a:lnTo>
                  <a:lnTo>
                    <a:pt x="954" y="114"/>
                  </a:lnTo>
                  <a:lnTo>
                    <a:pt x="960" y="126"/>
                  </a:lnTo>
                  <a:lnTo>
                    <a:pt x="960" y="138"/>
                  </a:lnTo>
                  <a:lnTo>
                    <a:pt x="966" y="156"/>
                  </a:lnTo>
                  <a:lnTo>
                    <a:pt x="966" y="174"/>
                  </a:lnTo>
                  <a:lnTo>
                    <a:pt x="972" y="198"/>
                  </a:lnTo>
                  <a:lnTo>
                    <a:pt x="978" y="222"/>
                  </a:lnTo>
                  <a:lnTo>
                    <a:pt x="978" y="246"/>
                  </a:lnTo>
                  <a:lnTo>
                    <a:pt x="984" y="264"/>
                  </a:lnTo>
                  <a:lnTo>
                    <a:pt x="984" y="282"/>
                  </a:lnTo>
                  <a:lnTo>
                    <a:pt x="990" y="294"/>
                  </a:lnTo>
                  <a:lnTo>
                    <a:pt x="990" y="306"/>
                  </a:lnTo>
                  <a:lnTo>
                    <a:pt x="996" y="312"/>
                  </a:lnTo>
                  <a:lnTo>
                    <a:pt x="996" y="324"/>
                  </a:lnTo>
                  <a:lnTo>
                    <a:pt x="1002" y="330"/>
                  </a:lnTo>
                  <a:lnTo>
                    <a:pt x="1008" y="336"/>
                  </a:lnTo>
                  <a:lnTo>
                    <a:pt x="1014" y="342"/>
                  </a:lnTo>
                  <a:lnTo>
                    <a:pt x="1014" y="348"/>
                  </a:lnTo>
                  <a:lnTo>
                    <a:pt x="1020" y="354"/>
                  </a:lnTo>
                  <a:lnTo>
                    <a:pt x="1026" y="360"/>
                  </a:lnTo>
                  <a:lnTo>
                    <a:pt x="1032" y="366"/>
                  </a:lnTo>
                  <a:lnTo>
                    <a:pt x="1038" y="366"/>
                  </a:lnTo>
                  <a:lnTo>
                    <a:pt x="1044" y="372"/>
                  </a:lnTo>
                  <a:lnTo>
                    <a:pt x="1050" y="3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29280" y="2479680"/>
              <a:ext cx="173340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29280" y="2479680"/>
              <a:ext cx="1733400" cy="1028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29280" y="247968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29280" y="3508200"/>
              <a:ext cx="173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962680" y="247932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229280" y="247932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29280" y="3508200"/>
              <a:ext cx="173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229280" y="247932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229280" y="3489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29280" y="24796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95800" y="354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667400" y="3489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67400" y="24796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33920" y="354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095800" y="3489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95800" y="24796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9840" y="354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533920" y="34894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33920" y="24796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57960" y="354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962680" y="348948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62680" y="24796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86720" y="354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29280" y="350820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943240" y="35082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19480" y="3432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9280" y="299412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943240" y="29941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48200" y="2917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29280" y="247968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943240" y="24796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76920" y="240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29280" y="247968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29280" y="3508200"/>
              <a:ext cx="173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962680" y="247932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229280" y="247932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57720" y="2832120"/>
              <a:ext cx="1666800" cy="638280"/>
            </a:xfrm>
            <a:custGeom>
              <a:avLst/>
              <a:gdLst/>
              <a:ahLst/>
              <a:rect l="l" t="t" r="r" b="b"/>
              <a:pathLst>
                <a:path w="1050" h="402">
                  <a:moveTo>
                    <a:pt x="0" y="402"/>
                  </a:moveTo>
                  <a:lnTo>
                    <a:pt x="6" y="396"/>
                  </a:lnTo>
                  <a:lnTo>
                    <a:pt x="12" y="390"/>
                  </a:lnTo>
                  <a:lnTo>
                    <a:pt x="18" y="390"/>
                  </a:lnTo>
                  <a:lnTo>
                    <a:pt x="24" y="390"/>
                  </a:lnTo>
                  <a:lnTo>
                    <a:pt x="30" y="384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78"/>
                  </a:lnTo>
                  <a:lnTo>
                    <a:pt x="54" y="378"/>
                  </a:lnTo>
                  <a:lnTo>
                    <a:pt x="60" y="372"/>
                  </a:lnTo>
                  <a:lnTo>
                    <a:pt x="66" y="366"/>
                  </a:lnTo>
                  <a:lnTo>
                    <a:pt x="72" y="360"/>
                  </a:lnTo>
                  <a:lnTo>
                    <a:pt x="78" y="354"/>
                  </a:lnTo>
                  <a:lnTo>
                    <a:pt x="84" y="354"/>
                  </a:lnTo>
                  <a:lnTo>
                    <a:pt x="90" y="348"/>
                  </a:lnTo>
                  <a:lnTo>
                    <a:pt x="96" y="342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14" y="336"/>
                  </a:lnTo>
                  <a:lnTo>
                    <a:pt x="120" y="330"/>
                  </a:lnTo>
                  <a:lnTo>
                    <a:pt x="126" y="324"/>
                  </a:lnTo>
                  <a:lnTo>
                    <a:pt x="132" y="318"/>
                  </a:lnTo>
                  <a:lnTo>
                    <a:pt x="138" y="318"/>
                  </a:lnTo>
                  <a:lnTo>
                    <a:pt x="144" y="312"/>
                  </a:lnTo>
                  <a:lnTo>
                    <a:pt x="150" y="306"/>
                  </a:lnTo>
                  <a:lnTo>
                    <a:pt x="156" y="300"/>
                  </a:lnTo>
                  <a:lnTo>
                    <a:pt x="162" y="300"/>
                  </a:lnTo>
                  <a:lnTo>
                    <a:pt x="168" y="300"/>
                  </a:lnTo>
                  <a:lnTo>
                    <a:pt x="174" y="294"/>
                  </a:lnTo>
                  <a:lnTo>
                    <a:pt x="180" y="288"/>
                  </a:lnTo>
                  <a:lnTo>
                    <a:pt x="186" y="282"/>
                  </a:lnTo>
                  <a:lnTo>
                    <a:pt x="192" y="276"/>
                  </a:lnTo>
                  <a:lnTo>
                    <a:pt x="198" y="270"/>
                  </a:lnTo>
                  <a:lnTo>
                    <a:pt x="204" y="270"/>
                  </a:lnTo>
                  <a:lnTo>
                    <a:pt x="210" y="264"/>
                  </a:lnTo>
                  <a:lnTo>
                    <a:pt x="216" y="258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34" y="252"/>
                  </a:lnTo>
                  <a:lnTo>
                    <a:pt x="240" y="246"/>
                  </a:lnTo>
                  <a:lnTo>
                    <a:pt x="246" y="240"/>
                  </a:lnTo>
                  <a:lnTo>
                    <a:pt x="252" y="234"/>
                  </a:lnTo>
                  <a:lnTo>
                    <a:pt x="258" y="234"/>
                  </a:lnTo>
                  <a:lnTo>
                    <a:pt x="264" y="228"/>
                  </a:lnTo>
                  <a:lnTo>
                    <a:pt x="270" y="222"/>
                  </a:lnTo>
                  <a:lnTo>
                    <a:pt x="276" y="222"/>
                  </a:lnTo>
                  <a:lnTo>
                    <a:pt x="282" y="222"/>
                  </a:lnTo>
                  <a:lnTo>
                    <a:pt x="288" y="216"/>
                  </a:lnTo>
                  <a:lnTo>
                    <a:pt x="294" y="216"/>
                  </a:lnTo>
                  <a:lnTo>
                    <a:pt x="300" y="210"/>
                  </a:lnTo>
                  <a:lnTo>
                    <a:pt x="306" y="204"/>
                  </a:lnTo>
                  <a:lnTo>
                    <a:pt x="312" y="204"/>
                  </a:lnTo>
                  <a:lnTo>
                    <a:pt x="318" y="198"/>
                  </a:lnTo>
                  <a:lnTo>
                    <a:pt x="324" y="192"/>
                  </a:lnTo>
                  <a:lnTo>
                    <a:pt x="330" y="192"/>
                  </a:lnTo>
                  <a:lnTo>
                    <a:pt x="336" y="186"/>
                  </a:lnTo>
                  <a:lnTo>
                    <a:pt x="342" y="186"/>
                  </a:lnTo>
                  <a:lnTo>
                    <a:pt x="348" y="186"/>
                  </a:lnTo>
                  <a:lnTo>
                    <a:pt x="354" y="180"/>
                  </a:lnTo>
                  <a:lnTo>
                    <a:pt x="360" y="174"/>
                  </a:lnTo>
                  <a:lnTo>
                    <a:pt x="366" y="174"/>
                  </a:lnTo>
                  <a:lnTo>
                    <a:pt x="372" y="168"/>
                  </a:lnTo>
                  <a:lnTo>
                    <a:pt x="378" y="162"/>
                  </a:lnTo>
                  <a:lnTo>
                    <a:pt x="384" y="162"/>
                  </a:lnTo>
                  <a:lnTo>
                    <a:pt x="390" y="156"/>
                  </a:lnTo>
                  <a:lnTo>
                    <a:pt x="396" y="156"/>
                  </a:lnTo>
                  <a:lnTo>
                    <a:pt x="402" y="156"/>
                  </a:lnTo>
                  <a:lnTo>
                    <a:pt x="408" y="150"/>
                  </a:lnTo>
                  <a:lnTo>
                    <a:pt x="414" y="144"/>
                  </a:lnTo>
                  <a:lnTo>
                    <a:pt x="420" y="138"/>
                  </a:lnTo>
                  <a:lnTo>
                    <a:pt x="426" y="132"/>
                  </a:lnTo>
                  <a:lnTo>
                    <a:pt x="432" y="132"/>
                  </a:lnTo>
                  <a:lnTo>
                    <a:pt x="438" y="126"/>
                  </a:lnTo>
                  <a:lnTo>
                    <a:pt x="444" y="120"/>
                  </a:lnTo>
                  <a:lnTo>
                    <a:pt x="450" y="120"/>
                  </a:lnTo>
                  <a:lnTo>
                    <a:pt x="456" y="114"/>
                  </a:lnTo>
                  <a:lnTo>
                    <a:pt x="462" y="114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80" y="102"/>
                  </a:lnTo>
                  <a:lnTo>
                    <a:pt x="486" y="102"/>
                  </a:lnTo>
                  <a:lnTo>
                    <a:pt x="492" y="96"/>
                  </a:lnTo>
                  <a:lnTo>
                    <a:pt x="498" y="96"/>
                  </a:lnTo>
                  <a:lnTo>
                    <a:pt x="504" y="90"/>
                  </a:lnTo>
                  <a:lnTo>
                    <a:pt x="510" y="90"/>
                  </a:lnTo>
                  <a:lnTo>
                    <a:pt x="516" y="90"/>
                  </a:lnTo>
                  <a:lnTo>
                    <a:pt x="522" y="90"/>
                  </a:lnTo>
                  <a:lnTo>
                    <a:pt x="528" y="90"/>
                  </a:lnTo>
                  <a:lnTo>
                    <a:pt x="534" y="90"/>
                  </a:lnTo>
                  <a:lnTo>
                    <a:pt x="540" y="84"/>
                  </a:lnTo>
                  <a:lnTo>
                    <a:pt x="546" y="84"/>
                  </a:lnTo>
                  <a:lnTo>
                    <a:pt x="552" y="84"/>
                  </a:lnTo>
                  <a:lnTo>
                    <a:pt x="558" y="78"/>
                  </a:lnTo>
                  <a:lnTo>
                    <a:pt x="564" y="78"/>
                  </a:lnTo>
                  <a:lnTo>
                    <a:pt x="570" y="78"/>
                  </a:lnTo>
                  <a:lnTo>
                    <a:pt x="576" y="78"/>
                  </a:lnTo>
                  <a:lnTo>
                    <a:pt x="582" y="78"/>
                  </a:lnTo>
                  <a:lnTo>
                    <a:pt x="588" y="72"/>
                  </a:lnTo>
                  <a:lnTo>
                    <a:pt x="594" y="72"/>
                  </a:lnTo>
                  <a:lnTo>
                    <a:pt x="600" y="66"/>
                  </a:lnTo>
                  <a:lnTo>
                    <a:pt x="606" y="60"/>
                  </a:lnTo>
                  <a:lnTo>
                    <a:pt x="612" y="60"/>
                  </a:lnTo>
                  <a:lnTo>
                    <a:pt x="618" y="54"/>
                  </a:lnTo>
                  <a:lnTo>
                    <a:pt x="624" y="54"/>
                  </a:lnTo>
                  <a:lnTo>
                    <a:pt x="630" y="48"/>
                  </a:lnTo>
                  <a:lnTo>
                    <a:pt x="636" y="48"/>
                  </a:lnTo>
                  <a:lnTo>
                    <a:pt x="642" y="48"/>
                  </a:lnTo>
                  <a:lnTo>
                    <a:pt x="648" y="42"/>
                  </a:lnTo>
                  <a:lnTo>
                    <a:pt x="654" y="42"/>
                  </a:lnTo>
                  <a:lnTo>
                    <a:pt x="660" y="36"/>
                  </a:lnTo>
                  <a:lnTo>
                    <a:pt x="666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690" y="24"/>
                  </a:lnTo>
                  <a:lnTo>
                    <a:pt x="696" y="30"/>
                  </a:lnTo>
                  <a:lnTo>
                    <a:pt x="702" y="30"/>
                  </a:lnTo>
                  <a:lnTo>
                    <a:pt x="708" y="30"/>
                  </a:lnTo>
                  <a:lnTo>
                    <a:pt x="714" y="24"/>
                  </a:lnTo>
                  <a:lnTo>
                    <a:pt x="720" y="24"/>
                  </a:lnTo>
                  <a:lnTo>
                    <a:pt x="726" y="24"/>
                  </a:lnTo>
                  <a:lnTo>
                    <a:pt x="732" y="24"/>
                  </a:lnTo>
                  <a:lnTo>
                    <a:pt x="738" y="18"/>
                  </a:lnTo>
                  <a:lnTo>
                    <a:pt x="744" y="18"/>
                  </a:lnTo>
                  <a:lnTo>
                    <a:pt x="750" y="18"/>
                  </a:lnTo>
                  <a:lnTo>
                    <a:pt x="756" y="24"/>
                  </a:lnTo>
                  <a:lnTo>
                    <a:pt x="762" y="24"/>
                  </a:lnTo>
                  <a:lnTo>
                    <a:pt x="768" y="24"/>
                  </a:lnTo>
                  <a:lnTo>
                    <a:pt x="774" y="24"/>
                  </a:lnTo>
                  <a:lnTo>
                    <a:pt x="780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798" y="12"/>
                  </a:lnTo>
                  <a:lnTo>
                    <a:pt x="804" y="12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2" y="12"/>
                  </a:lnTo>
                  <a:lnTo>
                    <a:pt x="828" y="12"/>
                  </a:lnTo>
                  <a:lnTo>
                    <a:pt x="834" y="12"/>
                  </a:lnTo>
                  <a:lnTo>
                    <a:pt x="840" y="12"/>
                  </a:lnTo>
                  <a:lnTo>
                    <a:pt x="846" y="6"/>
                  </a:lnTo>
                  <a:lnTo>
                    <a:pt x="852" y="6"/>
                  </a:lnTo>
                  <a:lnTo>
                    <a:pt x="858" y="0"/>
                  </a:lnTo>
                  <a:lnTo>
                    <a:pt x="864" y="0"/>
                  </a:lnTo>
                  <a:lnTo>
                    <a:pt x="870" y="0"/>
                  </a:lnTo>
                  <a:lnTo>
                    <a:pt x="876" y="0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0" y="6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30" y="0"/>
                  </a:lnTo>
                  <a:lnTo>
                    <a:pt x="936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4" y="0"/>
                  </a:lnTo>
                  <a:lnTo>
                    <a:pt x="960" y="0"/>
                  </a:lnTo>
                  <a:lnTo>
                    <a:pt x="966" y="0"/>
                  </a:lnTo>
                  <a:lnTo>
                    <a:pt x="972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2" y="6"/>
                  </a:lnTo>
                  <a:lnTo>
                    <a:pt x="1008" y="6"/>
                  </a:lnTo>
                  <a:lnTo>
                    <a:pt x="1014" y="12"/>
                  </a:lnTo>
                  <a:lnTo>
                    <a:pt x="1020" y="12"/>
                  </a:lnTo>
                  <a:lnTo>
                    <a:pt x="1026" y="12"/>
                  </a:lnTo>
                  <a:lnTo>
                    <a:pt x="1032" y="6"/>
                  </a:lnTo>
                  <a:lnTo>
                    <a:pt x="1038" y="6"/>
                  </a:lnTo>
                  <a:lnTo>
                    <a:pt x="1044" y="12"/>
                  </a:lnTo>
                  <a:lnTo>
                    <a:pt x="105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81680" y="2446200"/>
              <a:ext cx="17337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81680" y="2446200"/>
              <a:ext cx="1733760" cy="1028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81680" y="244620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81680" y="347508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8515440" y="24462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781680" y="2446200"/>
              <a:ext cx="180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1680" y="347508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781680" y="2446200"/>
              <a:ext cx="180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781680" y="34556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81680" y="24462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48560" y="351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219800" y="34556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9800" y="24462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86680" y="351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648560" y="34556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48560" y="24462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72600" y="351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8086680" y="34556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86680" y="24462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10720" y="351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8515440" y="34556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15440" y="24462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39480" y="351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81680" y="34750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496000" y="34750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91880" y="3398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1680" y="29606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8496000" y="29606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91880" y="2884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81680" y="24462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8496000" y="24462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63160" y="23702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81680" y="244620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1680" y="347508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8515440" y="24462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781680" y="2446200"/>
              <a:ext cx="180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10480" y="2712960"/>
              <a:ext cx="1666800" cy="457200"/>
            </a:xfrm>
            <a:custGeom>
              <a:avLst/>
              <a:gdLst/>
              <a:ahLst/>
              <a:rect l="l" t="t" r="r" b="b"/>
              <a:pathLst>
                <a:path w="1050" h="288">
                  <a:moveTo>
                    <a:pt x="0" y="288"/>
                  </a:moveTo>
                  <a:lnTo>
                    <a:pt x="0" y="222"/>
                  </a:lnTo>
                  <a:lnTo>
                    <a:pt x="6" y="174"/>
                  </a:lnTo>
                  <a:lnTo>
                    <a:pt x="6" y="132"/>
                  </a:lnTo>
                  <a:lnTo>
                    <a:pt x="12" y="96"/>
                  </a:lnTo>
                  <a:lnTo>
                    <a:pt x="18" y="66"/>
                  </a:lnTo>
                  <a:lnTo>
                    <a:pt x="18" y="48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42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60" y="78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84" y="54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54"/>
                  </a:lnTo>
                  <a:lnTo>
                    <a:pt x="162" y="54"/>
                  </a:lnTo>
                  <a:lnTo>
                    <a:pt x="168" y="60"/>
                  </a:lnTo>
                  <a:lnTo>
                    <a:pt x="174" y="60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0"/>
                  </a:lnTo>
                  <a:lnTo>
                    <a:pt x="198" y="60"/>
                  </a:lnTo>
                  <a:lnTo>
                    <a:pt x="204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4" y="48"/>
                  </a:lnTo>
                  <a:lnTo>
                    <a:pt x="240" y="54"/>
                  </a:lnTo>
                  <a:lnTo>
                    <a:pt x="246" y="48"/>
                  </a:lnTo>
                  <a:lnTo>
                    <a:pt x="252" y="48"/>
                  </a:lnTo>
                  <a:lnTo>
                    <a:pt x="258" y="48"/>
                  </a:lnTo>
                  <a:lnTo>
                    <a:pt x="264" y="42"/>
                  </a:lnTo>
                  <a:lnTo>
                    <a:pt x="270" y="42"/>
                  </a:lnTo>
                  <a:lnTo>
                    <a:pt x="276" y="36"/>
                  </a:lnTo>
                  <a:lnTo>
                    <a:pt x="282" y="36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6" y="42"/>
                  </a:lnTo>
                  <a:lnTo>
                    <a:pt x="312" y="42"/>
                  </a:lnTo>
                  <a:lnTo>
                    <a:pt x="318" y="42"/>
                  </a:lnTo>
                  <a:lnTo>
                    <a:pt x="324" y="36"/>
                  </a:lnTo>
                  <a:lnTo>
                    <a:pt x="330" y="36"/>
                  </a:lnTo>
                  <a:lnTo>
                    <a:pt x="336" y="36"/>
                  </a:lnTo>
                  <a:lnTo>
                    <a:pt x="342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60" y="42"/>
                  </a:lnTo>
                  <a:lnTo>
                    <a:pt x="366" y="42"/>
                  </a:lnTo>
                  <a:lnTo>
                    <a:pt x="372" y="42"/>
                  </a:lnTo>
                  <a:lnTo>
                    <a:pt x="378" y="42"/>
                  </a:lnTo>
                  <a:lnTo>
                    <a:pt x="384" y="42"/>
                  </a:lnTo>
                  <a:lnTo>
                    <a:pt x="390" y="42"/>
                  </a:lnTo>
                  <a:lnTo>
                    <a:pt x="396" y="42"/>
                  </a:lnTo>
                  <a:lnTo>
                    <a:pt x="402" y="42"/>
                  </a:lnTo>
                  <a:lnTo>
                    <a:pt x="408" y="42"/>
                  </a:lnTo>
                  <a:lnTo>
                    <a:pt x="414" y="48"/>
                  </a:lnTo>
                  <a:lnTo>
                    <a:pt x="420" y="48"/>
                  </a:lnTo>
                  <a:lnTo>
                    <a:pt x="426" y="48"/>
                  </a:lnTo>
                  <a:lnTo>
                    <a:pt x="432" y="48"/>
                  </a:lnTo>
                  <a:lnTo>
                    <a:pt x="438" y="42"/>
                  </a:lnTo>
                  <a:lnTo>
                    <a:pt x="444" y="42"/>
                  </a:lnTo>
                  <a:lnTo>
                    <a:pt x="450" y="42"/>
                  </a:lnTo>
                  <a:lnTo>
                    <a:pt x="456" y="36"/>
                  </a:lnTo>
                  <a:lnTo>
                    <a:pt x="462" y="36"/>
                  </a:lnTo>
                  <a:lnTo>
                    <a:pt x="468" y="36"/>
                  </a:lnTo>
                  <a:lnTo>
                    <a:pt x="474" y="36"/>
                  </a:lnTo>
                  <a:lnTo>
                    <a:pt x="480" y="36"/>
                  </a:lnTo>
                  <a:lnTo>
                    <a:pt x="486" y="36"/>
                  </a:lnTo>
                  <a:lnTo>
                    <a:pt x="492" y="36"/>
                  </a:lnTo>
                  <a:lnTo>
                    <a:pt x="498" y="36"/>
                  </a:lnTo>
                  <a:lnTo>
                    <a:pt x="504" y="30"/>
                  </a:lnTo>
                  <a:lnTo>
                    <a:pt x="510" y="30"/>
                  </a:lnTo>
                  <a:lnTo>
                    <a:pt x="516" y="24"/>
                  </a:lnTo>
                  <a:lnTo>
                    <a:pt x="522" y="24"/>
                  </a:lnTo>
                  <a:lnTo>
                    <a:pt x="528" y="30"/>
                  </a:lnTo>
                  <a:lnTo>
                    <a:pt x="534" y="30"/>
                  </a:lnTo>
                  <a:lnTo>
                    <a:pt x="540" y="30"/>
                  </a:lnTo>
                  <a:lnTo>
                    <a:pt x="546" y="30"/>
                  </a:lnTo>
                  <a:lnTo>
                    <a:pt x="552" y="30"/>
                  </a:lnTo>
                  <a:lnTo>
                    <a:pt x="558" y="30"/>
                  </a:lnTo>
                  <a:lnTo>
                    <a:pt x="564" y="30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30"/>
                  </a:lnTo>
                  <a:lnTo>
                    <a:pt x="588" y="36"/>
                  </a:lnTo>
                  <a:lnTo>
                    <a:pt x="594" y="36"/>
                  </a:lnTo>
                  <a:lnTo>
                    <a:pt x="600" y="36"/>
                  </a:lnTo>
                  <a:lnTo>
                    <a:pt x="606" y="42"/>
                  </a:lnTo>
                  <a:lnTo>
                    <a:pt x="612" y="42"/>
                  </a:lnTo>
                  <a:lnTo>
                    <a:pt x="618" y="36"/>
                  </a:lnTo>
                  <a:lnTo>
                    <a:pt x="624" y="36"/>
                  </a:lnTo>
                  <a:lnTo>
                    <a:pt x="630" y="36"/>
                  </a:lnTo>
                  <a:lnTo>
                    <a:pt x="636" y="36"/>
                  </a:lnTo>
                  <a:lnTo>
                    <a:pt x="642" y="36"/>
                  </a:lnTo>
                  <a:lnTo>
                    <a:pt x="648" y="36"/>
                  </a:lnTo>
                  <a:lnTo>
                    <a:pt x="654" y="36"/>
                  </a:lnTo>
                  <a:lnTo>
                    <a:pt x="660" y="36"/>
                  </a:lnTo>
                  <a:lnTo>
                    <a:pt x="666" y="30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24"/>
                  </a:lnTo>
                  <a:lnTo>
                    <a:pt x="690" y="24"/>
                  </a:lnTo>
                  <a:lnTo>
                    <a:pt x="696" y="24"/>
                  </a:lnTo>
                  <a:lnTo>
                    <a:pt x="702" y="24"/>
                  </a:lnTo>
                  <a:lnTo>
                    <a:pt x="708" y="18"/>
                  </a:lnTo>
                  <a:lnTo>
                    <a:pt x="714" y="24"/>
                  </a:lnTo>
                  <a:lnTo>
                    <a:pt x="720" y="24"/>
                  </a:lnTo>
                  <a:lnTo>
                    <a:pt x="726" y="18"/>
                  </a:lnTo>
                  <a:lnTo>
                    <a:pt x="732" y="18"/>
                  </a:lnTo>
                  <a:lnTo>
                    <a:pt x="738" y="18"/>
                  </a:lnTo>
                  <a:lnTo>
                    <a:pt x="744" y="18"/>
                  </a:lnTo>
                  <a:lnTo>
                    <a:pt x="750" y="12"/>
                  </a:lnTo>
                  <a:lnTo>
                    <a:pt x="756" y="12"/>
                  </a:lnTo>
                  <a:lnTo>
                    <a:pt x="762" y="12"/>
                  </a:lnTo>
                  <a:lnTo>
                    <a:pt x="768" y="18"/>
                  </a:lnTo>
                  <a:lnTo>
                    <a:pt x="774" y="18"/>
                  </a:lnTo>
                  <a:lnTo>
                    <a:pt x="780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798" y="18"/>
                  </a:lnTo>
                  <a:lnTo>
                    <a:pt x="804" y="18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2" y="12"/>
                  </a:lnTo>
                  <a:lnTo>
                    <a:pt x="828" y="18"/>
                  </a:lnTo>
                  <a:lnTo>
                    <a:pt x="834" y="18"/>
                  </a:lnTo>
                  <a:lnTo>
                    <a:pt x="840" y="18"/>
                  </a:lnTo>
                  <a:lnTo>
                    <a:pt x="846" y="18"/>
                  </a:lnTo>
                  <a:lnTo>
                    <a:pt x="852" y="18"/>
                  </a:lnTo>
                  <a:lnTo>
                    <a:pt x="858" y="12"/>
                  </a:lnTo>
                  <a:lnTo>
                    <a:pt x="864" y="12"/>
                  </a:lnTo>
                  <a:lnTo>
                    <a:pt x="870" y="12"/>
                  </a:lnTo>
                  <a:lnTo>
                    <a:pt x="876" y="6"/>
                  </a:lnTo>
                  <a:lnTo>
                    <a:pt x="882" y="6"/>
                  </a:lnTo>
                  <a:lnTo>
                    <a:pt x="888" y="6"/>
                  </a:lnTo>
                  <a:lnTo>
                    <a:pt x="894" y="12"/>
                  </a:lnTo>
                  <a:lnTo>
                    <a:pt x="900" y="12"/>
                  </a:lnTo>
                  <a:lnTo>
                    <a:pt x="906" y="12"/>
                  </a:lnTo>
                  <a:lnTo>
                    <a:pt x="912" y="12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4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2" y="6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0" y="0"/>
                  </a:lnTo>
                  <a:lnTo>
                    <a:pt x="996" y="0"/>
                  </a:lnTo>
                  <a:lnTo>
                    <a:pt x="1002" y="0"/>
                  </a:lnTo>
                  <a:lnTo>
                    <a:pt x="1008" y="0"/>
                  </a:lnTo>
                  <a:lnTo>
                    <a:pt x="1014" y="0"/>
                  </a:lnTo>
                  <a:lnTo>
                    <a:pt x="1020" y="0"/>
                  </a:lnTo>
                  <a:lnTo>
                    <a:pt x="1026" y="0"/>
                  </a:lnTo>
                  <a:lnTo>
                    <a:pt x="1032" y="0"/>
                  </a:lnTo>
                  <a:lnTo>
                    <a:pt x="1038" y="0"/>
                  </a:lnTo>
                  <a:lnTo>
                    <a:pt x="1044" y="0"/>
                  </a:lnTo>
                  <a:lnTo>
                    <a:pt x="10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9280" y="3841920"/>
              <a:ext cx="173340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29280" y="3841920"/>
              <a:ext cx="1733400" cy="1028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29280" y="384192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29280" y="487044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5962680" y="38415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229280" y="38415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29280" y="487044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229280" y="38415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229280" y="48510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29280" y="384192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95800" y="490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667400" y="48510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67400" y="384192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33920" y="490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5095800" y="48510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95800" y="384192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19840" y="490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533920" y="48510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33920" y="384192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57960" y="490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962680" y="48510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62680" y="384192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86720" y="490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29280" y="487044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943240" y="48704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19480" y="479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29280" y="4356000"/>
              <a:ext cx="18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943240" y="435600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36600" y="4280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29280" y="384192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943240" y="38419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36600" y="3765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29280" y="384192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29280" y="487044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962680" y="38415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29280" y="384156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57720" y="4060800"/>
              <a:ext cx="1666800" cy="781200"/>
            </a:xfrm>
            <a:custGeom>
              <a:avLst/>
              <a:gdLst/>
              <a:ahLst/>
              <a:rect l="l" t="t" r="r" b="b"/>
              <a:pathLst>
                <a:path w="1050" h="492">
                  <a:moveTo>
                    <a:pt x="0" y="492"/>
                  </a:moveTo>
                  <a:lnTo>
                    <a:pt x="6" y="486"/>
                  </a:lnTo>
                  <a:lnTo>
                    <a:pt x="12" y="480"/>
                  </a:lnTo>
                  <a:lnTo>
                    <a:pt x="18" y="474"/>
                  </a:lnTo>
                  <a:lnTo>
                    <a:pt x="24" y="468"/>
                  </a:lnTo>
                  <a:lnTo>
                    <a:pt x="30" y="462"/>
                  </a:lnTo>
                  <a:lnTo>
                    <a:pt x="36" y="462"/>
                  </a:lnTo>
                  <a:lnTo>
                    <a:pt x="42" y="456"/>
                  </a:lnTo>
                  <a:lnTo>
                    <a:pt x="48" y="450"/>
                  </a:lnTo>
                  <a:lnTo>
                    <a:pt x="54" y="444"/>
                  </a:lnTo>
                  <a:lnTo>
                    <a:pt x="60" y="438"/>
                  </a:lnTo>
                  <a:lnTo>
                    <a:pt x="66" y="432"/>
                  </a:lnTo>
                  <a:lnTo>
                    <a:pt x="72" y="426"/>
                  </a:lnTo>
                  <a:lnTo>
                    <a:pt x="78" y="420"/>
                  </a:lnTo>
                  <a:lnTo>
                    <a:pt x="84" y="420"/>
                  </a:lnTo>
                  <a:lnTo>
                    <a:pt x="90" y="414"/>
                  </a:lnTo>
                  <a:lnTo>
                    <a:pt x="96" y="408"/>
                  </a:lnTo>
                  <a:lnTo>
                    <a:pt x="102" y="402"/>
                  </a:lnTo>
                  <a:lnTo>
                    <a:pt x="108" y="402"/>
                  </a:lnTo>
                  <a:lnTo>
                    <a:pt x="114" y="396"/>
                  </a:lnTo>
                  <a:lnTo>
                    <a:pt x="120" y="390"/>
                  </a:lnTo>
                  <a:lnTo>
                    <a:pt x="126" y="384"/>
                  </a:lnTo>
                  <a:lnTo>
                    <a:pt x="132" y="378"/>
                  </a:lnTo>
                  <a:lnTo>
                    <a:pt x="138" y="372"/>
                  </a:lnTo>
                  <a:lnTo>
                    <a:pt x="144" y="366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62" y="354"/>
                  </a:lnTo>
                  <a:lnTo>
                    <a:pt x="168" y="348"/>
                  </a:lnTo>
                  <a:lnTo>
                    <a:pt x="174" y="342"/>
                  </a:lnTo>
                  <a:lnTo>
                    <a:pt x="180" y="336"/>
                  </a:lnTo>
                  <a:lnTo>
                    <a:pt x="186" y="330"/>
                  </a:lnTo>
                  <a:lnTo>
                    <a:pt x="192" y="330"/>
                  </a:lnTo>
                  <a:lnTo>
                    <a:pt x="198" y="324"/>
                  </a:lnTo>
                  <a:lnTo>
                    <a:pt x="204" y="318"/>
                  </a:lnTo>
                  <a:lnTo>
                    <a:pt x="210" y="312"/>
                  </a:lnTo>
                  <a:lnTo>
                    <a:pt x="216" y="306"/>
                  </a:lnTo>
                  <a:lnTo>
                    <a:pt x="222" y="306"/>
                  </a:lnTo>
                  <a:lnTo>
                    <a:pt x="228" y="300"/>
                  </a:lnTo>
                  <a:lnTo>
                    <a:pt x="234" y="294"/>
                  </a:lnTo>
                  <a:lnTo>
                    <a:pt x="240" y="288"/>
                  </a:lnTo>
                  <a:lnTo>
                    <a:pt x="246" y="282"/>
                  </a:lnTo>
                  <a:lnTo>
                    <a:pt x="252" y="282"/>
                  </a:lnTo>
                  <a:lnTo>
                    <a:pt x="258" y="276"/>
                  </a:lnTo>
                  <a:lnTo>
                    <a:pt x="264" y="270"/>
                  </a:lnTo>
                  <a:lnTo>
                    <a:pt x="270" y="264"/>
                  </a:lnTo>
                  <a:lnTo>
                    <a:pt x="276" y="264"/>
                  </a:lnTo>
                  <a:lnTo>
                    <a:pt x="282" y="258"/>
                  </a:lnTo>
                  <a:lnTo>
                    <a:pt x="288" y="258"/>
                  </a:lnTo>
                  <a:lnTo>
                    <a:pt x="294" y="252"/>
                  </a:lnTo>
                  <a:lnTo>
                    <a:pt x="300" y="246"/>
                  </a:lnTo>
                  <a:lnTo>
                    <a:pt x="306" y="240"/>
                  </a:lnTo>
                  <a:lnTo>
                    <a:pt x="312" y="234"/>
                  </a:lnTo>
                  <a:lnTo>
                    <a:pt x="318" y="228"/>
                  </a:lnTo>
                  <a:lnTo>
                    <a:pt x="324" y="228"/>
                  </a:lnTo>
                  <a:lnTo>
                    <a:pt x="330" y="222"/>
                  </a:lnTo>
                  <a:lnTo>
                    <a:pt x="336" y="216"/>
                  </a:lnTo>
                  <a:lnTo>
                    <a:pt x="342" y="216"/>
                  </a:lnTo>
                  <a:lnTo>
                    <a:pt x="348" y="210"/>
                  </a:lnTo>
                  <a:lnTo>
                    <a:pt x="354" y="210"/>
                  </a:lnTo>
                  <a:lnTo>
                    <a:pt x="360" y="204"/>
                  </a:lnTo>
                  <a:lnTo>
                    <a:pt x="366" y="198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86"/>
                  </a:lnTo>
                  <a:lnTo>
                    <a:pt x="390" y="180"/>
                  </a:lnTo>
                  <a:lnTo>
                    <a:pt x="396" y="180"/>
                  </a:lnTo>
                  <a:lnTo>
                    <a:pt x="402" y="180"/>
                  </a:lnTo>
                  <a:lnTo>
                    <a:pt x="408" y="174"/>
                  </a:lnTo>
                  <a:lnTo>
                    <a:pt x="414" y="168"/>
                  </a:lnTo>
                  <a:lnTo>
                    <a:pt x="420" y="162"/>
                  </a:lnTo>
                  <a:lnTo>
                    <a:pt x="426" y="162"/>
                  </a:lnTo>
                  <a:lnTo>
                    <a:pt x="432" y="156"/>
                  </a:lnTo>
                  <a:lnTo>
                    <a:pt x="438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6" y="144"/>
                  </a:lnTo>
                  <a:lnTo>
                    <a:pt x="462" y="138"/>
                  </a:lnTo>
                  <a:lnTo>
                    <a:pt x="468" y="138"/>
                  </a:lnTo>
                  <a:lnTo>
                    <a:pt x="474" y="132"/>
                  </a:lnTo>
                  <a:lnTo>
                    <a:pt x="480" y="132"/>
                  </a:lnTo>
                  <a:lnTo>
                    <a:pt x="486" y="126"/>
                  </a:lnTo>
                  <a:lnTo>
                    <a:pt x="492" y="120"/>
                  </a:lnTo>
                  <a:lnTo>
                    <a:pt x="498" y="120"/>
                  </a:lnTo>
                  <a:lnTo>
                    <a:pt x="504" y="114"/>
                  </a:lnTo>
                  <a:lnTo>
                    <a:pt x="510" y="114"/>
                  </a:lnTo>
                  <a:lnTo>
                    <a:pt x="516" y="108"/>
                  </a:lnTo>
                  <a:lnTo>
                    <a:pt x="522" y="108"/>
                  </a:lnTo>
                  <a:lnTo>
                    <a:pt x="528" y="108"/>
                  </a:lnTo>
                  <a:lnTo>
                    <a:pt x="534" y="102"/>
                  </a:lnTo>
                  <a:lnTo>
                    <a:pt x="540" y="96"/>
                  </a:lnTo>
                  <a:lnTo>
                    <a:pt x="546" y="96"/>
                  </a:lnTo>
                  <a:lnTo>
                    <a:pt x="552" y="90"/>
                  </a:lnTo>
                  <a:lnTo>
                    <a:pt x="558" y="90"/>
                  </a:lnTo>
                  <a:lnTo>
                    <a:pt x="564" y="84"/>
                  </a:lnTo>
                  <a:lnTo>
                    <a:pt x="570" y="84"/>
                  </a:lnTo>
                  <a:lnTo>
                    <a:pt x="576" y="78"/>
                  </a:lnTo>
                  <a:lnTo>
                    <a:pt x="582" y="78"/>
                  </a:lnTo>
                  <a:lnTo>
                    <a:pt x="588" y="78"/>
                  </a:lnTo>
                  <a:lnTo>
                    <a:pt x="594" y="72"/>
                  </a:lnTo>
                  <a:lnTo>
                    <a:pt x="600" y="72"/>
                  </a:lnTo>
                  <a:lnTo>
                    <a:pt x="606" y="66"/>
                  </a:lnTo>
                  <a:lnTo>
                    <a:pt x="612" y="66"/>
                  </a:lnTo>
                  <a:lnTo>
                    <a:pt x="618" y="66"/>
                  </a:lnTo>
                  <a:lnTo>
                    <a:pt x="624" y="60"/>
                  </a:lnTo>
                  <a:lnTo>
                    <a:pt x="630" y="60"/>
                  </a:lnTo>
                  <a:lnTo>
                    <a:pt x="636" y="60"/>
                  </a:lnTo>
                  <a:lnTo>
                    <a:pt x="642" y="60"/>
                  </a:lnTo>
                  <a:lnTo>
                    <a:pt x="648" y="54"/>
                  </a:lnTo>
                  <a:lnTo>
                    <a:pt x="654" y="54"/>
                  </a:lnTo>
                  <a:lnTo>
                    <a:pt x="660" y="54"/>
                  </a:lnTo>
                  <a:lnTo>
                    <a:pt x="666" y="48"/>
                  </a:lnTo>
                  <a:lnTo>
                    <a:pt x="672" y="48"/>
                  </a:lnTo>
                  <a:lnTo>
                    <a:pt x="678" y="42"/>
                  </a:lnTo>
                  <a:lnTo>
                    <a:pt x="684" y="42"/>
                  </a:lnTo>
                  <a:lnTo>
                    <a:pt x="690" y="42"/>
                  </a:lnTo>
                  <a:lnTo>
                    <a:pt x="696" y="42"/>
                  </a:lnTo>
                  <a:lnTo>
                    <a:pt x="702" y="42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20" y="36"/>
                  </a:lnTo>
                  <a:lnTo>
                    <a:pt x="726" y="36"/>
                  </a:lnTo>
                  <a:lnTo>
                    <a:pt x="732" y="30"/>
                  </a:lnTo>
                  <a:lnTo>
                    <a:pt x="738" y="30"/>
                  </a:lnTo>
                  <a:lnTo>
                    <a:pt x="744" y="30"/>
                  </a:lnTo>
                  <a:lnTo>
                    <a:pt x="750" y="30"/>
                  </a:lnTo>
                  <a:lnTo>
                    <a:pt x="756" y="30"/>
                  </a:lnTo>
                  <a:lnTo>
                    <a:pt x="762" y="24"/>
                  </a:lnTo>
                  <a:lnTo>
                    <a:pt x="768" y="24"/>
                  </a:lnTo>
                  <a:lnTo>
                    <a:pt x="774" y="24"/>
                  </a:lnTo>
                  <a:lnTo>
                    <a:pt x="780" y="24"/>
                  </a:lnTo>
                  <a:lnTo>
                    <a:pt x="786" y="24"/>
                  </a:lnTo>
                  <a:lnTo>
                    <a:pt x="792" y="24"/>
                  </a:lnTo>
                  <a:lnTo>
                    <a:pt x="798" y="24"/>
                  </a:lnTo>
                  <a:lnTo>
                    <a:pt x="804" y="24"/>
                  </a:lnTo>
                  <a:lnTo>
                    <a:pt x="810" y="24"/>
                  </a:lnTo>
                  <a:lnTo>
                    <a:pt x="816" y="24"/>
                  </a:lnTo>
                  <a:lnTo>
                    <a:pt x="822" y="24"/>
                  </a:lnTo>
                  <a:lnTo>
                    <a:pt x="828" y="24"/>
                  </a:lnTo>
                  <a:lnTo>
                    <a:pt x="834" y="24"/>
                  </a:lnTo>
                  <a:lnTo>
                    <a:pt x="840" y="24"/>
                  </a:lnTo>
                  <a:lnTo>
                    <a:pt x="846" y="24"/>
                  </a:lnTo>
                  <a:lnTo>
                    <a:pt x="852" y="24"/>
                  </a:lnTo>
                  <a:lnTo>
                    <a:pt x="858" y="24"/>
                  </a:lnTo>
                  <a:lnTo>
                    <a:pt x="864" y="24"/>
                  </a:lnTo>
                  <a:lnTo>
                    <a:pt x="870" y="30"/>
                  </a:lnTo>
                  <a:lnTo>
                    <a:pt x="876" y="30"/>
                  </a:lnTo>
                  <a:lnTo>
                    <a:pt x="882" y="30"/>
                  </a:lnTo>
                  <a:lnTo>
                    <a:pt x="888" y="30"/>
                  </a:lnTo>
                  <a:lnTo>
                    <a:pt x="894" y="36"/>
                  </a:lnTo>
                  <a:lnTo>
                    <a:pt x="900" y="36"/>
                  </a:lnTo>
                  <a:lnTo>
                    <a:pt x="906" y="36"/>
                  </a:lnTo>
                  <a:lnTo>
                    <a:pt x="912" y="36"/>
                  </a:lnTo>
                  <a:lnTo>
                    <a:pt x="918" y="36"/>
                  </a:lnTo>
                  <a:lnTo>
                    <a:pt x="924" y="36"/>
                  </a:lnTo>
                  <a:lnTo>
                    <a:pt x="930" y="36"/>
                  </a:lnTo>
                  <a:lnTo>
                    <a:pt x="936" y="36"/>
                  </a:lnTo>
                  <a:lnTo>
                    <a:pt x="942" y="36"/>
                  </a:lnTo>
                  <a:lnTo>
                    <a:pt x="948" y="36"/>
                  </a:lnTo>
                  <a:lnTo>
                    <a:pt x="954" y="36"/>
                  </a:lnTo>
                  <a:lnTo>
                    <a:pt x="960" y="30"/>
                  </a:lnTo>
                  <a:lnTo>
                    <a:pt x="966" y="30"/>
                  </a:lnTo>
                  <a:lnTo>
                    <a:pt x="972" y="30"/>
                  </a:lnTo>
                  <a:lnTo>
                    <a:pt x="978" y="24"/>
                  </a:lnTo>
                  <a:lnTo>
                    <a:pt x="984" y="24"/>
                  </a:lnTo>
                  <a:lnTo>
                    <a:pt x="990" y="24"/>
                  </a:lnTo>
                  <a:lnTo>
                    <a:pt x="996" y="18"/>
                  </a:lnTo>
                  <a:lnTo>
                    <a:pt x="1002" y="18"/>
                  </a:lnTo>
                  <a:lnTo>
                    <a:pt x="1008" y="18"/>
                  </a:lnTo>
                  <a:lnTo>
                    <a:pt x="1014" y="12"/>
                  </a:lnTo>
                  <a:lnTo>
                    <a:pt x="1020" y="12"/>
                  </a:lnTo>
                  <a:lnTo>
                    <a:pt x="1026" y="6"/>
                  </a:lnTo>
                  <a:lnTo>
                    <a:pt x="1032" y="6"/>
                  </a:lnTo>
                  <a:lnTo>
                    <a:pt x="1038" y="0"/>
                  </a:lnTo>
                  <a:lnTo>
                    <a:pt x="1044" y="0"/>
                  </a:lnTo>
                  <a:lnTo>
                    <a:pt x="10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1680" y="3808440"/>
              <a:ext cx="17337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1680" y="3808440"/>
              <a:ext cx="1733760" cy="1028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81680" y="380844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81680" y="483696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515440" y="380808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6781680" y="3808080"/>
              <a:ext cx="180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81680" y="483696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6781680" y="3808080"/>
              <a:ext cx="180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781680" y="48182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81680" y="38084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48560" y="487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219800" y="48182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9800" y="38084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86680" y="487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648560" y="48182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48560" y="38084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72600" y="4875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8086680" y="48182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86680" y="38084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10720" y="4875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8515440" y="4818240"/>
              <a:ext cx="144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15440" y="38084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39480" y="4875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81680" y="483696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8496000" y="483696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91880" y="4761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81680" y="44942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496000" y="44942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91880" y="44179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81680" y="415116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496000" y="415116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63160" y="40752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781680" y="38084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8496000" y="38084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63160" y="37321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81680" y="380844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81680" y="483696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8515440" y="3808080"/>
              <a:ext cx="144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781680" y="3808080"/>
              <a:ext cx="1800" cy="102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10480" y="4094280"/>
              <a:ext cx="1666800" cy="647640"/>
            </a:xfrm>
            <a:custGeom>
              <a:avLst/>
              <a:gdLst/>
              <a:ahLst/>
              <a:rect l="l" t="t" r="r" b="b"/>
              <a:pathLst>
                <a:path w="1050" h="408">
                  <a:moveTo>
                    <a:pt x="0" y="402"/>
                  </a:moveTo>
                  <a:lnTo>
                    <a:pt x="0" y="288"/>
                  </a:lnTo>
                  <a:lnTo>
                    <a:pt x="6" y="204"/>
                  </a:lnTo>
                  <a:lnTo>
                    <a:pt x="6" y="144"/>
                  </a:lnTo>
                  <a:lnTo>
                    <a:pt x="12" y="96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6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24"/>
                  </a:lnTo>
                  <a:lnTo>
                    <a:pt x="168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92" y="36"/>
                  </a:lnTo>
                  <a:lnTo>
                    <a:pt x="198" y="30"/>
                  </a:lnTo>
                  <a:lnTo>
                    <a:pt x="204" y="30"/>
                  </a:lnTo>
                  <a:lnTo>
                    <a:pt x="210" y="24"/>
                  </a:lnTo>
                  <a:lnTo>
                    <a:pt x="216" y="30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42"/>
                  </a:lnTo>
                  <a:lnTo>
                    <a:pt x="246" y="42"/>
                  </a:lnTo>
                  <a:lnTo>
                    <a:pt x="252" y="42"/>
                  </a:lnTo>
                  <a:lnTo>
                    <a:pt x="258" y="36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36"/>
                  </a:lnTo>
                  <a:lnTo>
                    <a:pt x="282" y="36"/>
                  </a:lnTo>
                  <a:lnTo>
                    <a:pt x="288" y="42"/>
                  </a:lnTo>
                  <a:lnTo>
                    <a:pt x="294" y="48"/>
                  </a:lnTo>
                  <a:lnTo>
                    <a:pt x="300" y="48"/>
                  </a:lnTo>
                  <a:lnTo>
                    <a:pt x="306" y="48"/>
                  </a:lnTo>
                  <a:lnTo>
                    <a:pt x="312" y="48"/>
                  </a:lnTo>
                  <a:lnTo>
                    <a:pt x="318" y="48"/>
                  </a:lnTo>
                  <a:lnTo>
                    <a:pt x="324" y="48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8"/>
                  </a:lnTo>
                  <a:lnTo>
                    <a:pt x="348" y="48"/>
                  </a:lnTo>
                  <a:lnTo>
                    <a:pt x="354" y="54"/>
                  </a:lnTo>
                  <a:lnTo>
                    <a:pt x="360" y="54"/>
                  </a:lnTo>
                  <a:lnTo>
                    <a:pt x="366" y="60"/>
                  </a:lnTo>
                  <a:lnTo>
                    <a:pt x="372" y="60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08" y="66"/>
                  </a:lnTo>
                  <a:lnTo>
                    <a:pt x="414" y="66"/>
                  </a:lnTo>
                  <a:lnTo>
                    <a:pt x="420" y="72"/>
                  </a:lnTo>
                  <a:lnTo>
                    <a:pt x="426" y="78"/>
                  </a:lnTo>
                  <a:lnTo>
                    <a:pt x="432" y="78"/>
                  </a:lnTo>
                  <a:lnTo>
                    <a:pt x="438" y="78"/>
                  </a:lnTo>
                  <a:lnTo>
                    <a:pt x="444" y="78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74" y="90"/>
                  </a:lnTo>
                  <a:lnTo>
                    <a:pt x="480" y="96"/>
                  </a:lnTo>
                  <a:lnTo>
                    <a:pt x="486" y="96"/>
                  </a:lnTo>
                  <a:lnTo>
                    <a:pt x="492" y="96"/>
                  </a:lnTo>
                  <a:lnTo>
                    <a:pt x="498" y="102"/>
                  </a:lnTo>
                  <a:lnTo>
                    <a:pt x="504" y="102"/>
                  </a:lnTo>
                  <a:lnTo>
                    <a:pt x="510" y="102"/>
                  </a:lnTo>
                  <a:lnTo>
                    <a:pt x="516" y="102"/>
                  </a:lnTo>
                  <a:lnTo>
                    <a:pt x="522" y="102"/>
                  </a:lnTo>
                  <a:lnTo>
                    <a:pt x="528" y="108"/>
                  </a:lnTo>
                  <a:lnTo>
                    <a:pt x="534" y="114"/>
                  </a:lnTo>
                  <a:lnTo>
                    <a:pt x="540" y="114"/>
                  </a:lnTo>
                  <a:lnTo>
                    <a:pt x="546" y="120"/>
                  </a:lnTo>
                  <a:lnTo>
                    <a:pt x="552" y="120"/>
                  </a:lnTo>
                  <a:lnTo>
                    <a:pt x="558" y="120"/>
                  </a:lnTo>
                  <a:lnTo>
                    <a:pt x="564" y="120"/>
                  </a:lnTo>
                  <a:lnTo>
                    <a:pt x="570" y="120"/>
                  </a:lnTo>
                  <a:lnTo>
                    <a:pt x="576" y="120"/>
                  </a:lnTo>
                  <a:lnTo>
                    <a:pt x="582" y="120"/>
                  </a:lnTo>
                  <a:lnTo>
                    <a:pt x="588" y="126"/>
                  </a:lnTo>
                  <a:lnTo>
                    <a:pt x="594" y="126"/>
                  </a:lnTo>
                  <a:lnTo>
                    <a:pt x="600" y="132"/>
                  </a:lnTo>
                  <a:lnTo>
                    <a:pt x="606" y="132"/>
                  </a:lnTo>
                  <a:lnTo>
                    <a:pt x="612" y="132"/>
                  </a:lnTo>
                  <a:lnTo>
                    <a:pt x="618" y="132"/>
                  </a:lnTo>
                  <a:lnTo>
                    <a:pt x="624" y="132"/>
                  </a:lnTo>
                  <a:lnTo>
                    <a:pt x="630" y="132"/>
                  </a:lnTo>
                  <a:lnTo>
                    <a:pt x="636" y="132"/>
                  </a:lnTo>
                  <a:lnTo>
                    <a:pt x="642" y="138"/>
                  </a:lnTo>
                  <a:lnTo>
                    <a:pt x="648" y="138"/>
                  </a:lnTo>
                  <a:lnTo>
                    <a:pt x="654" y="144"/>
                  </a:lnTo>
                  <a:lnTo>
                    <a:pt x="660" y="150"/>
                  </a:lnTo>
                  <a:lnTo>
                    <a:pt x="666" y="150"/>
                  </a:lnTo>
                  <a:lnTo>
                    <a:pt x="672" y="150"/>
                  </a:lnTo>
                  <a:lnTo>
                    <a:pt x="678" y="150"/>
                  </a:lnTo>
                  <a:lnTo>
                    <a:pt x="684" y="150"/>
                  </a:lnTo>
                  <a:lnTo>
                    <a:pt x="690" y="150"/>
                  </a:lnTo>
                  <a:lnTo>
                    <a:pt x="696" y="150"/>
                  </a:lnTo>
                  <a:lnTo>
                    <a:pt x="702" y="150"/>
                  </a:lnTo>
                  <a:lnTo>
                    <a:pt x="708" y="150"/>
                  </a:lnTo>
                  <a:lnTo>
                    <a:pt x="714" y="156"/>
                  </a:lnTo>
                  <a:lnTo>
                    <a:pt x="720" y="156"/>
                  </a:lnTo>
                  <a:lnTo>
                    <a:pt x="726" y="162"/>
                  </a:lnTo>
                  <a:lnTo>
                    <a:pt x="732" y="162"/>
                  </a:lnTo>
                  <a:lnTo>
                    <a:pt x="738" y="162"/>
                  </a:lnTo>
                  <a:lnTo>
                    <a:pt x="744" y="162"/>
                  </a:lnTo>
                  <a:lnTo>
                    <a:pt x="750" y="162"/>
                  </a:lnTo>
                  <a:lnTo>
                    <a:pt x="756" y="162"/>
                  </a:lnTo>
                  <a:lnTo>
                    <a:pt x="762" y="162"/>
                  </a:lnTo>
                  <a:lnTo>
                    <a:pt x="768" y="162"/>
                  </a:lnTo>
                  <a:lnTo>
                    <a:pt x="774" y="168"/>
                  </a:lnTo>
                  <a:lnTo>
                    <a:pt x="780" y="168"/>
                  </a:lnTo>
                  <a:lnTo>
                    <a:pt x="786" y="174"/>
                  </a:lnTo>
                  <a:lnTo>
                    <a:pt x="792" y="174"/>
                  </a:lnTo>
                  <a:lnTo>
                    <a:pt x="798" y="174"/>
                  </a:lnTo>
                  <a:lnTo>
                    <a:pt x="804" y="174"/>
                  </a:lnTo>
                  <a:lnTo>
                    <a:pt x="810" y="174"/>
                  </a:lnTo>
                  <a:lnTo>
                    <a:pt x="816" y="174"/>
                  </a:lnTo>
                  <a:lnTo>
                    <a:pt x="822" y="174"/>
                  </a:lnTo>
                  <a:lnTo>
                    <a:pt x="828" y="180"/>
                  </a:lnTo>
                  <a:lnTo>
                    <a:pt x="834" y="180"/>
                  </a:lnTo>
                  <a:lnTo>
                    <a:pt x="840" y="186"/>
                  </a:lnTo>
                  <a:lnTo>
                    <a:pt x="846" y="192"/>
                  </a:lnTo>
                  <a:lnTo>
                    <a:pt x="852" y="192"/>
                  </a:lnTo>
                  <a:lnTo>
                    <a:pt x="858" y="198"/>
                  </a:lnTo>
                  <a:lnTo>
                    <a:pt x="864" y="204"/>
                  </a:lnTo>
                  <a:lnTo>
                    <a:pt x="870" y="204"/>
                  </a:lnTo>
                  <a:lnTo>
                    <a:pt x="876" y="210"/>
                  </a:lnTo>
                  <a:lnTo>
                    <a:pt x="882" y="210"/>
                  </a:lnTo>
                  <a:lnTo>
                    <a:pt x="888" y="216"/>
                  </a:lnTo>
                  <a:lnTo>
                    <a:pt x="894" y="222"/>
                  </a:lnTo>
                  <a:lnTo>
                    <a:pt x="894" y="228"/>
                  </a:lnTo>
                  <a:lnTo>
                    <a:pt x="900" y="234"/>
                  </a:lnTo>
                  <a:lnTo>
                    <a:pt x="906" y="240"/>
                  </a:lnTo>
                  <a:lnTo>
                    <a:pt x="906" y="246"/>
                  </a:lnTo>
                  <a:lnTo>
                    <a:pt x="912" y="252"/>
                  </a:lnTo>
                  <a:lnTo>
                    <a:pt x="918" y="258"/>
                  </a:lnTo>
                  <a:lnTo>
                    <a:pt x="918" y="264"/>
                  </a:lnTo>
                  <a:lnTo>
                    <a:pt x="924" y="270"/>
                  </a:lnTo>
                  <a:lnTo>
                    <a:pt x="930" y="276"/>
                  </a:lnTo>
                  <a:lnTo>
                    <a:pt x="930" y="282"/>
                  </a:lnTo>
                  <a:lnTo>
                    <a:pt x="936" y="288"/>
                  </a:lnTo>
                  <a:lnTo>
                    <a:pt x="936" y="294"/>
                  </a:lnTo>
                  <a:lnTo>
                    <a:pt x="942" y="300"/>
                  </a:lnTo>
                  <a:lnTo>
                    <a:pt x="948" y="306"/>
                  </a:lnTo>
                  <a:lnTo>
                    <a:pt x="954" y="312"/>
                  </a:lnTo>
                  <a:lnTo>
                    <a:pt x="954" y="318"/>
                  </a:lnTo>
                  <a:lnTo>
                    <a:pt x="960" y="324"/>
                  </a:lnTo>
                  <a:lnTo>
                    <a:pt x="960" y="330"/>
                  </a:lnTo>
                  <a:lnTo>
                    <a:pt x="966" y="336"/>
                  </a:lnTo>
                  <a:lnTo>
                    <a:pt x="966" y="342"/>
                  </a:lnTo>
                  <a:lnTo>
                    <a:pt x="972" y="348"/>
                  </a:lnTo>
                  <a:lnTo>
                    <a:pt x="978" y="354"/>
                  </a:lnTo>
                  <a:lnTo>
                    <a:pt x="984" y="360"/>
                  </a:lnTo>
                  <a:lnTo>
                    <a:pt x="990" y="366"/>
                  </a:lnTo>
                  <a:lnTo>
                    <a:pt x="990" y="372"/>
                  </a:lnTo>
                  <a:lnTo>
                    <a:pt x="996" y="378"/>
                  </a:lnTo>
                  <a:lnTo>
                    <a:pt x="1002" y="378"/>
                  </a:lnTo>
                  <a:lnTo>
                    <a:pt x="1008" y="384"/>
                  </a:lnTo>
                  <a:lnTo>
                    <a:pt x="1014" y="390"/>
                  </a:lnTo>
                  <a:lnTo>
                    <a:pt x="1020" y="396"/>
                  </a:lnTo>
                  <a:lnTo>
                    <a:pt x="1026" y="402"/>
                  </a:lnTo>
                  <a:lnTo>
                    <a:pt x="1032" y="402"/>
                  </a:lnTo>
                  <a:lnTo>
                    <a:pt x="1038" y="408"/>
                  </a:lnTo>
                  <a:lnTo>
                    <a:pt x="1044" y="408"/>
                  </a:lnTo>
                  <a:lnTo>
                    <a:pt x="1050" y="4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29280" y="5203800"/>
              <a:ext cx="173340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29280" y="5203800"/>
              <a:ext cx="1733400" cy="1028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29280" y="520380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29280" y="623268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962680" y="52038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229280" y="52038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29280" y="623268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229280" y="52038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4229280" y="62132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29280" y="52038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95800" y="627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667400" y="62132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67400" y="52038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33920" y="627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095800" y="62132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95800" y="52038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19840" y="6270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533920" y="62132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33920" y="52038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57960" y="6270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962680" y="62132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62680" y="520380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86720" y="6270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9280" y="623268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943240" y="62326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19480" y="615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9280" y="571824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943240" y="57182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07880" y="5641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29280" y="5203800"/>
              <a:ext cx="1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943240" y="52038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19480" y="5127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29280" y="520380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29280" y="6232680"/>
              <a:ext cx="173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962680" y="52038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29280" y="520380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57720" y="5213520"/>
              <a:ext cx="1666800" cy="981000"/>
            </a:xfrm>
            <a:custGeom>
              <a:avLst/>
              <a:gdLst/>
              <a:ahLst/>
              <a:rect l="l" t="t" r="r" b="b"/>
              <a:pathLst>
                <a:path w="1050" h="618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30"/>
                  </a:lnTo>
                  <a:lnTo>
                    <a:pt x="234" y="30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52" y="42"/>
                  </a:lnTo>
                  <a:lnTo>
                    <a:pt x="258" y="42"/>
                  </a:lnTo>
                  <a:lnTo>
                    <a:pt x="264" y="48"/>
                  </a:lnTo>
                  <a:lnTo>
                    <a:pt x="270" y="54"/>
                  </a:lnTo>
                  <a:lnTo>
                    <a:pt x="276" y="60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94" y="72"/>
                  </a:lnTo>
                  <a:lnTo>
                    <a:pt x="300" y="78"/>
                  </a:lnTo>
                  <a:lnTo>
                    <a:pt x="306" y="84"/>
                  </a:lnTo>
                  <a:lnTo>
                    <a:pt x="312" y="84"/>
                  </a:lnTo>
                  <a:lnTo>
                    <a:pt x="318" y="90"/>
                  </a:lnTo>
                  <a:lnTo>
                    <a:pt x="324" y="96"/>
                  </a:lnTo>
                  <a:lnTo>
                    <a:pt x="330" y="102"/>
                  </a:lnTo>
                  <a:lnTo>
                    <a:pt x="336" y="108"/>
                  </a:lnTo>
                  <a:lnTo>
                    <a:pt x="342" y="108"/>
                  </a:lnTo>
                  <a:lnTo>
                    <a:pt x="348" y="114"/>
                  </a:lnTo>
                  <a:lnTo>
                    <a:pt x="354" y="120"/>
                  </a:lnTo>
                  <a:lnTo>
                    <a:pt x="360" y="126"/>
                  </a:lnTo>
                  <a:lnTo>
                    <a:pt x="366" y="132"/>
                  </a:lnTo>
                  <a:lnTo>
                    <a:pt x="372" y="132"/>
                  </a:lnTo>
                  <a:lnTo>
                    <a:pt x="378" y="138"/>
                  </a:lnTo>
                  <a:lnTo>
                    <a:pt x="384" y="144"/>
                  </a:lnTo>
                  <a:lnTo>
                    <a:pt x="390" y="144"/>
                  </a:lnTo>
                  <a:lnTo>
                    <a:pt x="396" y="150"/>
                  </a:lnTo>
                  <a:lnTo>
                    <a:pt x="402" y="150"/>
                  </a:lnTo>
                  <a:lnTo>
                    <a:pt x="408" y="156"/>
                  </a:lnTo>
                  <a:lnTo>
                    <a:pt x="414" y="162"/>
                  </a:lnTo>
                  <a:lnTo>
                    <a:pt x="420" y="168"/>
                  </a:lnTo>
                  <a:lnTo>
                    <a:pt x="426" y="168"/>
                  </a:lnTo>
                  <a:lnTo>
                    <a:pt x="432" y="174"/>
                  </a:lnTo>
                  <a:lnTo>
                    <a:pt x="438" y="180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6" y="192"/>
                  </a:lnTo>
                  <a:lnTo>
                    <a:pt x="462" y="192"/>
                  </a:lnTo>
                  <a:lnTo>
                    <a:pt x="468" y="198"/>
                  </a:lnTo>
                  <a:lnTo>
                    <a:pt x="474" y="204"/>
                  </a:lnTo>
                  <a:lnTo>
                    <a:pt x="480" y="210"/>
                  </a:lnTo>
                  <a:lnTo>
                    <a:pt x="486" y="216"/>
                  </a:lnTo>
                  <a:lnTo>
                    <a:pt x="492" y="222"/>
                  </a:lnTo>
                  <a:lnTo>
                    <a:pt x="498" y="228"/>
                  </a:lnTo>
                  <a:lnTo>
                    <a:pt x="504" y="234"/>
                  </a:lnTo>
                  <a:lnTo>
                    <a:pt x="504" y="240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8"/>
                  </a:lnTo>
                  <a:lnTo>
                    <a:pt x="528" y="264"/>
                  </a:lnTo>
                  <a:lnTo>
                    <a:pt x="534" y="270"/>
                  </a:lnTo>
                  <a:lnTo>
                    <a:pt x="534" y="276"/>
                  </a:lnTo>
                  <a:lnTo>
                    <a:pt x="540" y="282"/>
                  </a:lnTo>
                  <a:lnTo>
                    <a:pt x="546" y="288"/>
                  </a:lnTo>
                  <a:lnTo>
                    <a:pt x="546" y="294"/>
                  </a:lnTo>
                  <a:lnTo>
                    <a:pt x="552" y="300"/>
                  </a:lnTo>
                  <a:lnTo>
                    <a:pt x="558" y="306"/>
                  </a:lnTo>
                  <a:lnTo>
                    <a:pt x="564" y="312"/>
                  </a:lnTo>
                  <a:lnTo>
                    <a:pt x="570" y="318"/>
                  </a:lnTo>
                  <a:lnTo>
                    <a:pt x="576" y="324"/>
                  </a:lnTo>
                  <a:lnTo>
                    <a:pt x="582" y="330"/>
                  </a:lnTo>
                  <a:lnTo>
                    <a:pt x="588" y="336"/>
                  </a:lnTo>
                  <a:lnTo>
                    <a:pt x="594" y="342"/>
                  </a:lnTo>
                  <a:lnTo>
                    <a:pt x="600" y="348"/>
                  </a:lnTo>
                  <a:lnTo>
                    <a:pt x="606" y="354"/>
                  </a:lnTo>
                  <a:lnTo>
                    <a:pt x="612" y="360"/>
                  </a:lnTo>
                  <a:lnTo>
                    <a:pt x="618" y="366"/>
                  </a:lnTo>
                  <a:lnTo>
                    <a:pt x="624" y="372"/>
                  </a:lnTo>
                  <a:lnTo>
                    <a:pt x="630" y="378"/>
                  </a:lnTo>
                  <a:lnTo>
                    <a:pt x="636" y="384"/>
                  </a:lnTo>
                  <a:lnTo>
                    <a:pt x="642" y="384"/>
                  </a:lnTo>
                  <a:lnTo>
                    <a:pt x="648" y="390"/>
                  </a:lnTo>
                  <a:lnTo>
                    <a:pt x="654" y="396"/>
                  </a:lnTo>
                  <a:lnTo>
                    <a:pt x="660" y="402"/>
                  </a:lnTo>
                  <a:lnTo>
                    <a:pt x="660" y="408"/>
                  </a:lnTo>
                  <a:lnTo>
                    <a:pt x="666" y="414"/>
                  </a:lnTo>
                  <a:lnTo>
                    <a:pt x="672" y="420"/>
                  </a:lnTo>
                  <a:lnTo>
                    <a:pt x="678" y="426"/>
                  </a:lnTo>
                  <a:lnTo>
                    <a:pt x="684" y="432"/>
                  </a:lnTo>
                  <a:lnTo>
                    <a:pt x="690" y="438"/>
                  </a:lnTo>
                  <a:lnTo>
                    <a:pt x="696" y="444"/>
                  </a:lnTo>
                  <a:lnTo>
                    <a:pt x="702" y="450"/>
                  </a:lnTo>
                  <a:lnTo>
                    <a:pt x="708" y="456"/>
                  </a:lnTo>
                  <a:lnTo>
                    <a:pt x="708" y="462"/>
                  </a:lnTo>
                  <a:lnTo>
                    <a:pt x="714" y="468"/>
                  </a:lnTo>
                  <a:lnTo>
                    <a:pt x="720" y="474"/>
                  </a:lnTo>
                  <a:lnTo>
                    <a:pt x="720" y="480"/>
                  </a:lnTo>
                  <a:lnTo>
                    <a:pt x="726" y="486"/>
                  </a:lnTo>
                  <a:lnTo>
                    <a:pt x="732" y="492"/>
                  </a:lnTo>
                  <a:lnTo>
                    <a:pt x="738" y="498"/>
                  </a:lnTo>
                  <a:lnTo>
                    <a:pt x="744" y="504"/>
                  </a:lnTo>
                  <a:lnTo>
                    <a:pt x="750" y="510"/>
                  </a:lnTo>
                  <a:lnTo>
                    <a:pt x="756" y="516"/>
                  </a:lnTo>
                  <a:lnTo>
                    <a:pt x="762" y="522"/>
                  </a:lnTo>
                  <a:lnTo>
                    <a:pt x="768" y="528"/>
                  </a:lnTo>
                  <a:lnTo>
                    <a:pt x="768" y="534"/>
                  </a:lnTo>
                  <a:lnTo>
                    <a:pt x="774" y="540"/>
                  </a:lnTo>
                  <a:lnTo>
                    <a:pt x="780" y="546"/>
                  </a:lnTo>
                  <a:lnTo>
                    <a:pt x="780" y="552"/>
                  </a:lnTo>
                  <a:lnTo>
                    <a:pt x="786" y="558"/>
                  </a:lnTo>
                  <a:lnTo>
                    <a:pt x="792" y="564"/>
                  </a:lnTo>
                  <a:lnTo>
                    <a:pt x="798" y="570"/>
                  </a:lnTo>
                  <a:lnTo>
                    <a:pt x="804" y="576"/>
                  </a:lnTo>
                  <a:lnTo>
                    <a:pt x="810" y="582"/>
                  </a:lnTo>
                  <a:lnTo>
                    <a:pt x="816" y="588"/>
                  </a:lnTo>
                  <a:lnTo>
                    <a:pt x="822" y="594"/>
                  </a:lnTo>
                  <a:lnTo>
                    <a:pt x="828" y="600"/>
                  </a:lnTo>
                  <a:lnTo>
                    <a:pt x="834" y="606"/>
                  </a:lnTo>
                  <a:lnTo>
                    <a:pt x="840" y="612"/>
                  </a:lnTo>
                  <a:lnTo>
                    <a:pt x="846" y="618"/>
                  </a:lnTo>
                  <a:lnTo>
                    <a:pt x="852" y="618"/>
                  </a:lnTo>
                  <a:lnTo>
                    <a:pt x="858" y="618"/>
                  </a:lnTo>
                  <a:lnTo>
                    <a:pt x="864" y="612"/>
                  </a:lnTo>
                  <a:lnTo>
                    <a:pt x="870" y="606"/>
                  </a:lnTo>
                  <a:lnTo>
                    <a:pt x="876" y="606"/>
                  </a:lnTo>
                  <a:lnTo>
                    <a:pt x="882" y="600"/>
                  </a:lnTo>
                  <a:lnTo>
                    <a:pt x="888" y="594"/>
                  </a:lnTo>
                  <a:lnTo>
                    <a:pt x="894" y="588"/>
                  </a:lnTo>
                  <a:lnTo>
                    <a:pt x="900" y="582"/>
                  </a:lnTo>
                  <a:lnTo>
                    <a:pt x="906" y="576"/>
                  </a:lnTo>
                  <a:lnTo>
                    <a:pt x="906" y="570"/>
                  </a:lnTo>
                  <a:lnTo>
                    <a:pt x="912" y="564"/>
                  </a:lnTo>
                  <a:lnTo>
                    <a:pt x="918" y="558"/>
                  </a:lnTo>
                  <a:lnTo>
                    <a:pt x="924" y="552"/>
                  </a:lnTo>
                  <a:lnTo>
                    <a:pt x="930" y="546"/>
                  </a:lnTo>
                  <a:lnTo>
                    <a:pt x="936" y="540"/>
                  </a:lnTo>
                  <a:lnTo>
                    <a:pt x="942" y="534"/>
                  </a:lnTo>
                  <a:lnTo>
                    <a:pt x="948" y="528"/>
                  </a:lnTo>
                  <a:lnTo>
                    <a:pt x="954" y="522"/>
                  </a:lnTo>
                  <a:lnTo>
                    <a:pt x="954" y="516"/>
                  </a:lnTo>
                  <a:lnTo>
                    <a:pt x="960" y="510"/>
                  </a:lnTo>
                  <a:lnTo>
                    <a:pt x="966" y="504"/>
                  </a:lnTo>
                  <a:lnTo>
                    <a:pt x="966" y="498"/>
                  </a:lnTo>
                  <a:lnTo>
                    <a:pt x="972" y="492"/>
                  </a:lnTo>
                  <a:lnTo>
                    <a:pt x="978" y="486"/>
                  </a:lnTo>
                  <a:lnTo>
                    <a:pt x="984" y="480"/>
                  </a:lnTo>
                  <a:lnTo>
                    <a:pt x="990" y="474"/>
                  </a:lnTo>
                  <a:lnTo>
                    <a:pt x="996" y="468"/>
                  </a:lnTo>
                  <a:lnTo>
                    <a:pt x="1002" y="462"/>
                  </a:lnTo>
                  <a:lnTo>
                    <a:pt x="1008" y="456"/>
                  </a:lnTo>
                  <a:lnTo>
                    <a:pt x="1014" y="450"/>
                  </a:lnTo>
                  <a:lnTo>
                    <a:pt x="1020" y="444"/>
                  </a:lnTo>
                  <a:lnTo>
                    <a:pt x="1020" y="438"/>
                  </a:lnTo>
                  <a:lnTo>
                    <a:pt x="1026" y="432"/>
                  </a:lnTo>
                  <a:lnTo>
                    <a:pt x="1032" y="426"/>
                  </a:lnTo>
                  <a:lnTo>
                    <a:pt x="1038" y="420"/>
                  </a:lnTo>
                  <a:lnTo>
                    <a:pt x="1044" y="414"/>
                  </a:lnTo>
                  <a:lnTo>
                    <a:pt x="1050" y="4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81680" y="5170320"/>
              <a:ext cx="17337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81680" y="5170320"/>
              <a:ext cx="1733760" cy="1028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81680" y="517032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81680" y="619920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8515440" y="517032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781680" y="5170320"/>
              <a:ext cx="180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81680" y="619920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781680" y="5170320"/>
              <a:ext cx="180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781680" y="617976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81680" y="5170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48560" y="62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219800" y="617976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19800" y="5170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86680" y="62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648560" y="617976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8560" y="51703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72600" y="6237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086680" y="617976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086680" y="5170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010720" y="6237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515440" y="617976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515440" y="51703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39480" y="6237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81680" y="61992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8496000" y="61992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91880" y="61228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81680" y="58561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8496000" y="58561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91880" y="57801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81680" y="55134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8496000" y="55134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7224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1680" y="51703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496000" y="51703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29680" y="5094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5170320"/>
              <a:ext cx="173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81680" y="6199200"/>
              <a:ext cx="173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515440" y="5170320"/>
              <a:ext cx="144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781680" y="5170320"/>
              <a:ext cx="1800" cy="10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10480" y="5513400"/>
              <a:ext cx="1666800" cy="571320"/>
            </a:xfrm>
            <a:custGeom>
              <a:avLst/>
              <a:gdLst/>
              <a:ahLst/>
              <a:rect l="l" t="t" r="r" b="b"/>
              <a:pathLst>
                <a:path w="1050" h="36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6"/>
                  </a:lnTo>
                  <a:lnTo>
                    <a:pt x="618" y="6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48" y="6"/>
                  </a:lnTo>
                  <a:lnTo>
                    <a:pt x="654" y="6"/>
                  </a:lnTo>
                  <a:lnTo>
                    <a:pt x="660" y="0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78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08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38" y="6"/>
                  </a:lnTo>
                  <a:lnTo>
                    <a:pt x="744" y="12"/>
                  </a:lnTo>
                  <a:lnTo>
                    <a:pt x="750" y="12"/>
                  </a:lnTo>
                  <a:lnTo>
                    <a:pt x="756" y="12"/>
                  </a:lnTo>
                  <a:lnTo>
                    <a:pt x="762" y="12"/>
                  </a:lnTo>
                  <a:lnTo>
                    <a:pt x="768" y="12"/>
                  </a:lnTo>
                  <a:lnTo>
                    <a:pt x="774" y="12"/>
                  </a:lnTo>
                  <a:lnTo>
                    <a:pt x="780" y="18"/>
                  </a:lnTo>
                  <a:lnTo>
                    <a:pt x="786" y="24"/>
                  </a:lnTo>
                  <a:lnTo>
                    <a:pt x="792" y="24"/>
                  </a:lnTo>
                  <a:lnTo>
                    <a:pt x="798" y="30"/>
                  </a:lnTo>
                  <a:lnTo>
                    <a:pt x="804" y="36"/>
                  </a:lnTo>
                  <a:lnTo>
                    <a:pt x="810" y="42"/>
                  </a:lnTo>
                  <a:lnTo>
                    <a:pt x="816" y="48"/>
                  </a:lnTo>
                  <a:lnTo>
                    <a:pt x="822" y="54"/>
                  </a:lnTo>
                  <a:lnTo>
                    <a:pt x="828" y="60"/>
                  </a:lnTo>
                  <a:lnTo>
                    <a:pt x="834" y="66"/>
                  </a:lnTo>
                  <a:lnTo>
                    <a:pt x="834" y="78"/>
                  </a:lnTo>
                  <a:lnTo>
                    <a:pt x="840" y="90"/>
                  </a:lnTo>
                  <a:lnTo>
                    <a:pt x="840" y="102"/>
                  </a:lnTo>
                  <a:lnTo>
                    <a:pt x="846" y="126"/>
                  </a:lnTo>
                  <a:lnTo>
                    <a:pt x="846" y="150"/>
                  </a:lnTo>
                  <a:lnTo>
                    <a:pt x="852" y="174"/>
                  </a:lnTo>
                  <a:lnTo>
                    <a:pt x="858" y="192"/>
                  </a:lnTo>
                  <a:lnTo>
                    <a:pt x="858" y="210"/>
                  </a:lnTo>
                  <a:lnTo>
                    <a:pt x="864" y="228"/>
                  </a:lnTo>
                  <a:lnTo>
                    <a:pt x="864" y="240"/>
                  </a:lnTo>
                  <a:lnTo>
                    <a:pt x="870" y="252"/>
                  </a:lnTo>
                  <a:lnTo>
                    <a:pt x="870" y="258"/>
                  </a:lnTo>
                  <a:lnTo>
                    <a:pt x="876" y="270"/>
                  </a:lnTo>
                  <a:lnTo>
                    <a:pt x="876" y="276"/>
                  </a:lnTo>
                  <a:lnTo>
                    <a:pt x="882" y="288"/>
                  </a:lnTo>
                  <a:lnTo>
                    <a:pt x="888" y="294"/>
                  </a:lnTo>
                  <a:lnTo>
                    <a:pt x="888" y="306"/>
                  </a:lnTo>
                  <a:lnTo>
                    <a:pt x="894" y="312"/>
                  </a:lnTo>
                  <a:lnTo>
                    <a:pt x="894" y="318"/>
                  </a:lnTo>
                  <a:lnTo>
                    <a:pt x="900" y="324"/>
                  </a:lnTo>
                  <a:lnTo>
                    <a:pt x="906" y="330"/>
                  </a:lnTo>
                  <a:lnTo>
                    <a:pt x="912" y="336"/>
                  </a:lnTo>
                  <a:lnTo>
                    <a:pt x="918" y="336"/>
                  </a:lnTo>
                  <a:lnTo>
                    <a:pt x="924" y="336"/>
                  </a:lnTo>
                  <a:lnTo>
                    <a:pt x="930" y="336"/>
                  </a:lnTo>
                  <a:lnTo>
                    <a:pt x="936" y="342"/>
                  </a:lnTo>
                  <a:lnTo>
                    <a:pt x="942" y="342"/>
                  </a:lnTo>
                  <a:lnTo>
                    <a:pt x="948" y="348"/>
                  </a:lnTo>
                  <a:lnTo>
                    <a:pt x="954" y="348"/>
                  </a:lnTo>
                  <a:lnTo>
                    <a:pt x="960" y="348"/>
                  </a:lnTo>
                  <a:lnTo>
                    <a:pt x="966" y="354"/>
                  </a:lnTo>
                  <a:lnTo>
                    <a:pt x="972" y="354"/>
                  </a:lnTo>
                  <a:lnTo>
                    <a:pt x="978" y="348"/>
                  </a:lnTo>
                  <a:lnTo>
                    <a:pt x="984" y="348"/>
                  </a:lnTo>
                  <a:lnTo>
                    <a:pt x="990" y="348"/>
                  </a:lnTo>
                  <a:lnTo>
                    <a:pt x="996" y="354"/>
                  </a:lnTo>
                  <a:lnTo>
                    <a:pt x="1002" y="354"/>
                  </a:lnTo>
                  <a:lnTo>
                    <a:pt x="1008" y="354"/>
                  </a:lnTo>
                  <a:lnTo>
                    <a:pt x="1014" y="360"/>
                  </a:lnTo>
                  <a:lnTo>
                    <a:pt x="1020" y="360"/>
                  </a:lnTo>
                  <a:lnTo>
                    <a:pt x="1026" y="360"/>
                  </a:lnTo>
                  <a:lnTo>
                    <a:pt x="1032" y="360"/>
                  </a:lnTo>
                  <a:lnTo>
                    <a:pt x="1038" y="360"/>
                  </a:lnTo>
                  <a:lnTo>
                    <a:pt x="1044" y="360"/>
                  </a:lnTo>
                  <a:lnTo>
                    <a:pt x="1050" y="3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31520" y="6446880"/>
              <a:ext cx="17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 (MH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60440" y="6480000"/>
              <a:ext cx="17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 (MH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25200" y="66528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2520" y="631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00000">
              <a:off x="5949720" y="1373040"/>
              <a:ext cx="7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De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5913360" y="2820600"/>
              <a:ext cx="7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De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200000">
              <a:off x="5950080" y="4268520"/>
              <a:ext cx="7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De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6200000">
              <a:off x="5950080" y="5563800"/>
              <a:ext cx="7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De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3415680" y="5430960"/>
              <a:ext cx="48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3114000" y="4208760"/>
              <a:ext cx="1092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1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200000">
              <a:off x="3201480" y="274824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6200000">
              <a:off x="3415680" y="1392480"/>
              <a:ext cx="48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584800" y="3808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er - equivalent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4038480"/>
            <a:ext cx="228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749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773520" y="4633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982600" y="3757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005280" y="49197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971800" y="3809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95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85000" y="40575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27440" y="3124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67480" y="4192560"/>
            <a:ext cx="9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54320" y="40561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0532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05320" y="342900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50532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47200" y="3962520"/>
            <a:ext cx="18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055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835280" y="5273640"/>
            <a:ext cx="4133520" cy="1080360"/>
            <a:chOff x="1835280" y="5273640"/>
            <a:chExt cx="4133520" cy="1080360"/>
          </a:xfrm>
        </p:grpSpPr>
        <p:sp>
          <p:nvSpPr>
            <p:cNvPr id="810" name=""/>
            <p:cNvSpPr/>
            <p:nvPr/>
          </p:nvSpPr>
          <p:spPr>
            <a:xfrm>
              <a:off x="1835280" y="5410080"/>
              <a:ext cx="41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  …  receiver  imped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27160" y="52736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88200" y="5894280"/>
              <a:ext cx="32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    …  receiver g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2046240" y="914400"/>
            <a:ext cx="5029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43200" y="1295280"/>
            <a:ext cx="1803240" cy="11131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05120" y="1352520"/>
            <a:ext cx="1679400" cy="100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798720" y="2125800"/>
            <a:ext cx="152280" cy="152280"/>
            <a:chOff x="3798720" y="2125800"/>
            <a:chExt cx="152280" cy="152280"/>
          </a:xfrm>
        </p:grpSpPr>
        <p:sp>
          <p:nvSpPr>
            <p:cNvPr id="817" name=""/>
            <p:cNvSpPr/>
            <p:nvPr/>
          </p:nvSpPr>
          <p:spPr>
            <a:xfrm>
              <a:off x="3816360" y="2151000"/>
              <a:ext cx="117360" cy="108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98720" y="2125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267000" y="15397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2998800" y="2438280"/>
          <a:ext cx="801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0" y="2438280"/>
                    <a:ext cx="801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"/>
          <p:cNvSpPr/>
          <p:nvPr/>
        </p:nvSpPr>
        <p:spPr>
          <a:xfrm flipV="1">
            <a:off x="387504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95760" y="1744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5281560" y="1523880"/>
          <a:ext cx="295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1560" y="1523880"/>
                    <a:ext cx="295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/>
          <p:cNvSpPr/>
          <p:nvPr/>
        </p:nvSpPr>
        <p:spPr>
          <a:xfrm>
            <a:off x="5116320" y="11034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697120" y="3505320"/>
            <a:ext cx="28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31880" y="4343400"/>
            <a:ext cx="284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86240" y="3808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er -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46240" y="914400"/>
            <a:ext cx="5029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829880" y="1143000"/>
            <a:ext cx="4489920" cy="2422800"/>
            <a:chOff x="1829880" y="1143000"/>
            <a:chExt cx="4489920" cy="2422800"/>
          </a:xfrm>
        </p:grpSpPr>
        <p:sp>
          <p:nvSpPr>
            <p:cNvPr id="832" name=""/>
            <p:cNvSpPr/>
            <p:nvPr/>
          </p:nvSpPr>
          <p:spPr>
            <a:xfrm>
              <a:off x="2344680" y="2374920"/>
              <a:ext cx="54936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35400" y="2374920"/>
              <a:ext cx="1440" cy="36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08800" y="2293920"/>
              <a:ext cx="641160" cy="549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49960" y="2568600"/>
              <a:ext cx="365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60520" y="1563480"/>
              <a:ext cx="182520" cy="27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43400" y="1563480"/>
              <a:ext cx="184320" cy="27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60880" y="183672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02280" y="242856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895840" y="2522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6040" y="2522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72000" y="2522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343400" y="18363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4343400" y="1379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29880" y="282708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24440" y="267480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746600" y="175248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2120" y="24462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42040" y="1143000"/>
              <a:ext cx="51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572000" y="3055680"/>
              <a:ext cx="119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53400" y="198900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 pro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889360" y="343548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2267640" y="2890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80920" y="1328760"/>
            <a:ext cx="224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probe_case3a" descr=""/>
          <p:cNvPicPr/>
          <p:nvPr/>
        </p:nvPicPr>
        <p:blipFill>
          <a:blip r:embed="rId1"/>
          <a:srcRect l="6593" t="11043" r="20839" b="4272"/>
          <a:stretch/>
        </p:blipFill>
        <p:spPr>
          <a:xfrm>
            <a:off x="2023920" y="2319480"/>
            <a:ext cx="2009880" cy="42004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880920" y="132876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probe_case1a" descr=""/>
          <p:cNvPicPr/>
          <p:nvPr/>
        </p:nvPicPr>
        <p:blipFill>
          <a:blip r:embed="rId2"/>
          <a:srcRect l="6198" t="4430" r="14609" b="10604"/>
          <a:stretch/>
        </p:blipFill>
        <p:spPr>
          <a:xfrm>
            <a:off x="4114800" y="2590920"/>
            <a:ext cx="3362400" cy="336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9" name=""/>
          <p:cNvGraphicFramePr/>
          <p:nvPr/>
        </p:nvGraphicFramePr>
        <p:xfrm>
          <a:off x="2641680" y="1328760"/>
          <a:ext cx="5622840" cy="517680"/>
        </p:xfrm>
        <a:graphic>
          <a:graphicData uri="http://schemas.openxmlformats.org/drawingml/2006/table">
            <a:tbl>
              <a:tblPr/>
              <a:tblGrid>
                <a:gridCol w="22399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0" name=""/>
          <p:cNvSpPr/>
          <p:nvPr/>
        </p:nvSpPr>
        <p:spPr>
          <a:xfrm>
            <a:off x="2726640" y="1260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2967480" y="3808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er -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46240" y="914400"/>
            <a:ext cx="5029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09960" y="1623960"/>
            <a:ext cx="6629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71800" y="1981080"/>
            <a:ext cx="51181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971800" y="1981080"/>
            <a:ext cx="5118120" cy="38862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971800" y="5867280"/>
            <a:ext cx="5118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2971800" y="1980720"/>
            <a:ext cx="3240" cy="388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971800" y="5810400"/>
            <a:ext cx="32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32200" y="5924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3610080" y="5810400"/>
            <a:ext cx="32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491640" y="59245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248000" y="5810400"/>
            <a:ext cx="32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08400" y="5924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4886280" y="5810400"/>
            <a:ext cx="32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768200" y="59245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537160" y="5810400"/>
            <a:ext cx="180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95760" y="5924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6175440" y="581040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57360" y="59245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6813720" y="581040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72320" y="5924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7451640" y="5810400"/>
            <a:ext cx="180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33560" y="59245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8089920" y="581040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048520" y="5924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71800" y="58672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38240" y="575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71800" y="5310360"/>
            <a:ext cx="4752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38240" y="519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71800" y="47530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749680" y="463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419580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49680" y="4081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71800" y="365292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9680" y="3538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71800" y="309564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49680" y="2981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71800" y="253836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9680" y="242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19810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749680" y="1866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56040" y="2252520"/>
            <a:ext cx="4986360" cy="3471840"/>
          </a:xfrm>
          <a:custGeom>
            <a:avLst/>
            <a:gdLst/>
            <a:ahLst/>
            <a:rect l="l" t="t" r="r" b="b"/>
            <a:pathLst>
              <a:path w="2532" h="1458">
                <a:moveTo>
                  <a:pt x="0" y="198"/>
                </a:moveTo>
                <a:lnTo>
                  <a:pt x="36" y="0"/>
                </a:lnTo>
                <a:lnTo>
                  <a:pt x="78" y="1248"/>
                </a:lnTo>
                <a:lnTo>
                  <a:pt x="114" y="1242"/>
                </a:lnTo>
                <a:lnTo>
                  <a:pt x="156" y="1260"/>
                </a:lnTo>
                <a:lnTo>
                  <a:pt x="198" y="1296"/>
                </a:lnTo>
                <a:lnTo>
                  <a:pt x="234" y="1320"/>
                </a:lnTo>
                <a:lnTo>
                  <a:pt x="276" y="1302"/>
                </a:lnTo>
                <a:lnTo>
                  <a:pt x="312" y="1284"/>
                </a:lnTo>
                <a:lnTo>
                  <a:pt x="354" y="1296"/>
                </a:lnTo>
                <a:lnTo>
                  <a:pt x="396" y="1314"/>
                </a:lnTo>
                <a:lnTo>
                  <a:pt x="432" y="1308"/>
                </a:lnTo>
                <a:lnTo>
                  <a:pt x="474" y="1302"/>
                </a:lnTo>
                <a:lnTo>
                  <a:pt x="510" y="1314"/>
                </a:lnTo>
                <a:lnTo>
                  <a:pt x="552" y="1326"/>
                </a:lnTo>
                <a:lnTo>
                  <a:pt x="594" y="1314"/>
                </a:lnTo>
                <a:lnTo>
                  <a:pt x="630" y="1302"/>
                </a:lnTo>
                <a:lnTo>
                  <a:pt x="672" y="1302"/>
                </a:lnTo>
                <a:lnTo>
                  <a:pt x="714" y="1302"/>
                </a:lnTo>
                <a:lnTo>
                  <a:pt x="750" y="1284"/>
                </a:lnTo>
                <a:lnTo>
                  <a:pt x="792" y="1278"/>
                </a:lnTo>
                <a:lnTo>
                  <a:pt x="828" y="1278"/>
                </a:lnTo>
                <a:lnTo>
                  <a:pt x="870" y="1278"/>
                </a:lnTo>
                <a:lnTo>
                  <a:pt x="912" y="1266"/>
                </a:lnTo>
                <a:lnTo>
                  <a:pt x="948" y="1260"/>
                </a:lnTo>
                <a:lnTo>
                  <a:pt x="990" y="1254"/>
                </a:lnTo>
                <a:lnTo>
                  <a:pt x="1026" y="1254"/>
                </a:lnTo>
                <a:lnTo>
                  <a:pt x="1068" y="1242"/>
                </a:lnTo>
                <a:lnTo>
                  <a:pt x="1110" y="1236"/>
                </a:lnTo>
                <a:lnTo>
                  <a:pt x="1146" y="1230"/>
                </a:lnTo>
                <a:lnTo>
                  <a:pt x="1188" y="1230"/>
                </a:lnTo>
                <a:lnTo>
                  <a:pt x="1224" y="1224"/>
                </a:lnTo>
                <a:lnTo>
                  <a:pt x="1266" y="1212"/>
                </a:lnTo>
                <a:lnTo>
                  <a:pt x="1308" y="1212"/>
                </a:lnTo>
                <a:lnTo>
                  <a:pt x="1344" y="1206"/>
                </a:lnTo>
                <a:lnTo>
                  <a:pt x="1386" y="1200"/>
                </a:lnTo>
                <a:lnTo>
                  <a:pt x="1422" y="1188"/>
                </a:lnTo>
                <a:lnTo>
                  <a:pt x="1464" y="1182"/>
                </a:lnTo>
                <a:lnTo>
                  <a:pt x="1506" y="1176"/>
                </a:lnTo>
                <a:lnTo>
                  <a:pt x="1542" y="1170"/>
                </a:lnTo>
                <a:lnTo>
                  <a:pt x="1584" y="1158"/>
                </a:lnTo>
                <a:lnTo>
                  <a:pt x="1620" y="1152"/>
                </a:lnTo>
                <a:lnTo>
                  <a:pt x="1662" y="1146"/>
                </a:lnTo>
                <a:lnTo>
                  <a:pt x="1704" y="1140"/>
                </a:lnTo>
                <a:lnTo>
                  <a:pt x="1740" y="1116"/>
                </a:lnTo>
                <a:lnTo>
                  <a:pt x="1782" y="1098"/>
                </a:lnTo>
                <a:lnTo>
                  <a:pt x="1824" y="1092"/>
                </a:lnTo>
                <a:lnTo>
                  <a:pt x="1860" y="1080"/>
                </a:lnTo>
                <a:lnTo>
                  <a:pt x="1902" y="1056"/>
                </a:lnTo>
                <a:lnTo>
                  <a:pt x="1938" y="1026"/>
                </a:lnTo>
                <a:lnTo>
                  <a:pt x="1980" y="1020"/>
                </a:lnTo>
                <a:lnTo>
                  <a:pt x="2022" y="1020"/>
                </a:lnTo>
                <a:lnTo>
                  <a:pt x="2058" y="978"/>
                </a:lnTo>
                <a:lnTo>
                  <a:pt x="2100" y="936"/>
                </a:lnTo>
                <a:lnTo>
                  <a:pt x="2136" y="960"/>
                </a:lnTo>
                <a:lnTo>
                  <a:pt x="2178" y="972"/>
                </a:lnTo>
                <a:lnTo>
                  <a:pt x="2220" y="870"/>
                </a:lnTo>
                <a:lnTo>
                  <a:pt x="2256" y="774"/>
                </a:lnTo>
                <a:lnTo>
                  <a:pt x="2298" y="930"/>
                </a:lnTo>
                <a:lnTo>
                  <a:pt x="2334" y="984"/>
                </a:lnTo>
                <a:lnTo>
                  <a:pt x="2376" y="714"/>
                </a:lnTo>
                <a:lnTo>
                  <a:pt x="2418" y="522"/>
                </a:lnTo>
                <a:lnTo>
                  <a:pt x="2454" y="1332"/>
                </a:lnTo>
                <a:lnTo>
                  <a:pt x="2496" y="1458"/>
                </a:lnTo>
                <a:lnTo>
                  <a:pt x="2532" y="7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2044800" y="372780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874400" y="6167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(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1981080"/>
            <a:ext cx="5118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8089920" y="1980720"/>
            <a:ext cx="1440" cy="388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71800" y="1981080"/>
            <a:ext cx="32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10080" y="1981080"/>
            <a:ext cx="32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48000" y="1981080"/>
            <a:ext cx="32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886280" y="1981080"/>
            <a:ext cx="32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37160" y="198108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175440" y="198108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13720" y="198108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98108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089920" y="198108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8042400" y="58672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126640" y="57531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8042400" y="54388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26640" y="5324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8042400" y="501012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130960" y="489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8042400" y="456732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126640" y="4452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8042400" y="413856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126640" y="4024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8042400" y="3710160"/>
            <a:ext cx="4752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126640" y="3595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042400" y="328140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126640" y="3166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042400" y="2838600"/>
            <a:ext cx="4752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121960" y="2724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8042400" y="240984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121960" y="22953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8042400" y="19810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121960" y="1866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56040" y="2381400"/>
            <a:ext cx="4986360" cy="3286080"/>
          </a:xfrm>
          <a:custGeom>
            <a:avLst/>
            <a:gdLst/>
            <a:ahLst/>
            <a:rect l="l" t="t" r="r" b="b"/>
            <a:pathLst>
              <a:path w="2532" h="1380">
                <a:moveTo>
                  <a:pt x="0" y="1104"/>
                </a:moveTo>
                <a:lnTo>
                  <a:pt x="36" y="1380"/>
                </a:lnTo>
                <a:lnTo>
                  <a:pt x="78" y="1194"/>
                </a:lnTo>
                <a:lnTo>
                  <a:pt x="114" y="1134"/>
                </a:lnTo>
                <a:lnTo>
                  <a:pt x="156" y="1110"/>
                </a:lnTo>
                <a:lnTo>
                  <a:pt x="198" y="1098"/>
                </a:lnTo>
                <a:lnTo>
                  <a:pt x="234" y="1098"/>
                </a:lnTo>
                <a:lnTo>
                  <a:pt x="276" y="1092"/>
                </a:lnTo>
                <a:lnTo>
                  <a:pt x="312" y="1086"/>
                </a:lnTo>
                <a:lnTo>
                  <a:pt x="354" y="1074"/>
                </a:lnTo>
                <a:lnTo>
                  <a:pt x="396" y="1068"/>
                </a:lnTo>
                <a:lnTo>
                  <a:pt x="432" y="1062"/>
                </a:lnTo>
                <a:lnTo>
                  <a:pt x="474" y="1056"/>
                </a:lnTo>
                <a:lnTo>
                  <a:pt x="510" y="1044"/>
                </a:lnTo>
                <a:lnTo>
                  <a:pt x="552" y="1038"/>
                </a:lnTo>
                <a:lnTo>
                  <a:pt x="594" y="1038"/>
                </a:lnTo>
                <a:lnTo>
                  <a:pt x="630" y="1026"/>
                </a:lnTo>
                <a:lnTo>
                  <a:pt x="672" y="1014"/>
                </a:lnTo>
                <a:lnTo>
                  <a:pt x="714" y="1008"/>
                </a:lnTo>
                <a:lnTo>
                  <a:pt x="750" y="1002"/>
                </a:lnTo>
                <a:lnTo>
                  <a:pt x="792" y="990"/>
                </a:lnTo>
                <a:lnTo>
                  <a:pt x="828" y="984"/>
                </a:lnTo>
                <a:lnTo>
                  <a:pt x="870" y="978"/>
                </a:lnTo>
                <a:lnTo>
                  <a:pt x="912" y="972"/>
                </a:lnTo>
                <a:lnTo>
                  <a:pt x="948" y="966"/>
                </a:lnTo>
                <a:lnTo>
                  <a:pt x="990" y="954"/>
                </a:lnTo>
                <a:lnTo>
                  <a:pt x="1026" y="948"/>
                </a:lnTo>
                <a:lnTo>
                  <a:pt x="1068" y="942"/>
                </a:lnTo>
                <a:lnTo>
                  <a:pt x="1110" y="936"/>
                </a:lnTo>
                <a:lnTo>
                  <a:pt x="1146" y="930"/>
                </a:lnTo>
                <a:lnTo>
                  <a:pt x="1188" y="924"/>
                </a:lnTo>
                <a:lnTo>
                  <a:pt x="1224" y="912"/>
                </a:lnTo>
                <a:lnTo>
                  <a:pt x="1266" y="906"/>
                </a:lnTo>
                <a:lnTo>
                  <a:pt x="1308" y="900"/>
                </a:lnTo>
                <a:lnTo>
                  <a:pt x="1344" y="888"/>
                </a:lnTo>
                <a:lnTo>
                  <a:pt x="1386" y="882"/>
                </a:lnTo>
                <a:lnTo>
                  <a:pt x="1422" y="876"/>
                </a:lnTo>
                <a:lnTo>
                  <a:pt x="1464" y="864"/>
                </a:lnTo>
                <a:lnTo>
                  <a:pt x="1506" y="852"/>
                </a:lnTo>
                <a:lnTo>
                  <a:pt x="1542" y="846"/>
                </a:lnTo>
                <a:lnTo>
                  <a:pt x="1584" y="840"/>
                </a:lnTo>
                <a:lnTo>
                  <a:pt x="1620" y="828"/>
                </a:lnTo>
                <a:lnTo>
                  <a:pt x="1662" y="816"/>
                </a:lnTo>
                <a:lnTo>
                  <a:pt x="1704" y="810"/>
                </a:lnTo>
                <a:lnTo>
                  <a:pt x="1740" y="804"/>
                </a:lnTo>
                <a:lnTo>
                  <a:pt x="1782" y="792"/>
                </a:lnTo>
                <a:lnTo>
                  <a:pt x="1824" y="780"/>
                </a:lnTo>
                <a:lnTo>
                  <a:pt x="1860" y="774"/>
                </a:lnTo>
                <a:lnTo>
                  <a:pt x="1902" y="762"/>
                </a:lnTo>
                <a:lnTo>
                  <a:pt x="1938" y="744"/>
                </a:lnTo>
                <a:lnTo>
                  <a:pt x="1980" y="726"/>
                </a:lnTo>
                <a:lnTo>
                  <a:pt x="2022" y="714"/>
                </a:lnTo>
                <a:lnTo>
                  <a:pt x="2058" y="696"/>
                </a:lnTo>
                <a:lnTo>
                  <a:pt x="2100" y="666"/>
                </a:lnTo>
                <a:lnTo>
                  <a:pt x="2136" y="630"/>
                </a:lnTo>
                <a:lnTo>
                  <a:pt x="2178" y="612"/>
                </a:lnTo>
                <a:lnTo>
                  <a:pt x="2220" y="582"/>
                </a:lnTo>
                <a:lnTo>
                  <a:pt x="2256" y="516"/>
                </a:lnTo>
                <a:lnTo>
                  <a:pt x="2298" y="444"/>
                </a:lnTo>
                <a:lnTo>
                  <a:pt x="2334" y="432"/>
                </a:lnTo>
                <a:lnTo>
                  <a:pt x="2376" y="378"/>
                </a:lnTo>
                <a:lnTo>
                  <a:pt x="2418" y="210"/>
                </a:lnTo>
                <a:lnTo>
                  <a:pt x="2454" y="66"/>
                </a:lnTo>
                <a:lnTo>
                  <a:pt x="2496" y="132"/>
                </a:lnTo>
                <a:lnTo>
                  <a:pt x="2532" y="0"/>
                </a:lnTo>
              </a:path>
            </a:pathLst>
          </a:custGeom>
          <a:noFill/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7899480" y="379620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(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614920" y="5205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00760" y="535464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700160" y="4290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27320" y="39466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920" y="12952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0480" y="495288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:  2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: 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04200" y="175248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2.2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9400" y="44956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sett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2967480" y="3808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er -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46240" y="914400"/>
            <a:ext cx="5029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50160" y="10666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65320" y="1530360"/>
            <a:ext cx="6858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57400" y="1905120"/>
            <a:ext cx="5292720" cy="40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1905120"/>
            <a:ext cx="5292720" cy="4070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57400" y="5975280"/>
            <a:ext cx="52927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2057400" y="1905120"/>
            <a:ext cx="1440" cy="407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057400" y="591624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016000" y="603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717640" y="591624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96320" y="6035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378240" y="591624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336840" y="603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038480" y="591624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915720" y="6035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4710240" y="591624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68840" y="603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370480" y="591624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249160" y="6035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031080" y="591624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89680" y="603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691320" y="591624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568200" y="6035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350120" y="5916240"/>
            <a:ext cx="32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308720" y="603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597528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17720" y="5856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57400" y="530208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38440" y="518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57400" y="4613400"/>
            <a:ext cx="4932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38440" y="4494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57400" y="394020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38440" y="38210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057400" y="32670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38440" y="31464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257796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48440" y="24591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57400" y="19051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48440" y="17845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143080" y="2503440"/>
            <a:ext cx="5159520" cy="3232080"/>
          </a:xfrm>
          <a:custGeom>
            <a:avLst/>
            <a:gdLst/>
            <a:ahLst/>
            <a:rect l="l" t="t" r="r" b="b"/>
            <a:pathLst>
              <a:path w="2532" h="1296">
                <a:moveTo>
                  <a:pt x="0" y="1284"/>
                </a:moveTo>
                <a:lnTo>
                  <a:pt x="36" y="1296"/>
                </a:lnTo>
                <a:lnTo>
                  <a:pt x="78" y="324"/>
                </a:lnTo>
                <a:lnTo>
                  <a:pt x="114" y="732"/>
                </a:lnTo>
                <a:lnTo>
                  <a:pt x="156" y="804"/>
                </a:lnTo>
                <a:lnTo>
                  <a:pt x="198" y="798"/>
                </a:lnTo>
                <a:lnTo>
                  <a:pt x="234" y="762"/>
                </a:lnTo>
                <a:lnTo>
                  <a:pt x="276" y="768"/>
                </a:lnTo>
                <a:lnTo>
                  <a:pt x="312" y="792"/>
                </a:lnTo>
                <a:lnTo>
                  <a:pt x="354" y="780"/>
                </a:lnTo>
                <a:lnTo>
                  <a:pt x="396" y="738"/>
                </a:lnTo>
                <a:lnTo>
                  <a:pt x="432" y="732"/>
                </a:lnTo>
                <a:lnTo>
                  <a:pt x="474" y="744"/>
                </a:lnTo>
                <a:lnTo>
                  <a:pt x="510" y="726"/>
                </a:lnTo>
                <a:lnTo>
                  <a:pt x="552" y="690"/>
                </a:lnTo>
                <a:lnTo>
                  <a:pt x="594" y="684"/>
                </a:lnTo>
                <a:lnTo>
                  <a:pt x="630" y="702"/>
                </a:lnTo>
                <a:lnTo>
                  <a:pt x="672" y="690"/>
                </a:lnTo>
                <a:lnTo>
                  <a:pt x="714" y="666"/>
                </a:lnTo>
                <a:lnTo>
                  <a:pt x="750" y="672"/>
                </a:lnTo>
                <a:lnTo>
                  <a:pt x="792" y="684"/>
                </a:lnTo>
                <a:lnTo>
                  <a:pt x="828" y="672"/>
                </a:lnTo>
                <a:lnTo>
                  <a:pt x="870" y="660"/>
                </a:lnTo>
                <a:lnTo>
                  <a:pt x="912" y="660"/>
                </a:lnTo>
                <a:lnTo>
                  <a:pt x="948" y="672"/>
                </a:lnTo>
                <a:lnTo>
                  <a:pt x="990" y="660"/>
                </a:lnTo>
                <a:lnTo>
                  <a:pt x="1026" y="642"/>
                </a:lnTo>
                <a:lnTo>
                  <a:pt x="1068" y="648"/>
                </a:lnTo>
                <a:lnTo>
                  <a:pt x="1110" y="648"/>
                </a:lnTo>
                <a:lnTo>
                  <a:pt x="1146" y="636"/>
                </a:lnTo>
                <a:lnTo>
                  <a:pt x="1188" y="618"/>
                </a:lnTo>
                <a:lnTo>
                  <a:pt x="1224" y="612"/>
                </a:lnTo>
                <a:lnTo>
                  <a:pt x="1266" y="612"/>
                </a:lnTo>
                <a:lnTo>
                  <a:pt x="1308" y="600"/>
                </a:lnTo>
                <a:lnTo>
                  <a:pt x="1344" y="576"/>
                </a:lnTo>
                <a:lnTo>
                  <a:pt x="1386" y="576"/>
                </a:lnTo>
                <a:lnTo>
                  <a:pt x="1422" y="576"/>
                </a:lnTo>
                <a:lnTo>
                  <a:pt x="1464" y="570"/>
                </a:lnTo>
                <a:lnTo>
                  <a:pt x="1506" y="546"/>
                </a:lnTo>
                <a:lnTo>
                  <a:pt x="1542" y="546"/>
                </a:lnTo>
                <a:lnTo>
                  <a:pt x="1584" y="558"/>
                </a:lnTo>
                <a:lnTo>
                  <a:pt x="1620" y="552"/>
                </a:lnTo>
                <a:lnTo>
                  <a:pt x="1662" y="528"/>
                </a:lnTo>
                <a:lnTo>
                  <a:pt x="1704" y="522"/>
                </a:lnTo>
                <a:lnTo>
                  <a:pt x="1740" y="540"/>
                </a:lnTo>
                <a:lnTo>
                  <a:pt x="1782" y="534"/>
                </a:lnTo>
                <a:lnTo>
                  <a:pt x="1824" y="498"/>
                </a:lnTo>
                <a:lnTo>
                  <a:pt x="1860" y="486"/>
                </a:lnTo>
                <a:lnTo>
                  <a:pt x="1902" y="510"/>
                </a:lnTo>
                <a:lnTo>
                  <a:pt x="1938" y="492"/>
                </a:lnTo>
                <a:lnTo>
                  <a:pt x="1980" y="408"/>
                </a:lnTo>
                <a:lnTo>
                  <a:pt x="2022" y="390"/>
                </a:lnTo>
                <a:lnTo>
                  <a:pt x="2058" y="456"/>
                </a:lnTo>
                <a:lnTo>
                  <a:pt x="2100" y="420"/>
                </a:lnTo>
                <a:lnTo>
                  <a:pt x="2136" y="228"/>
                </a:lnTo>
                <a:lnTo>
                  <a:pt x="2178" y="276"/>
                </a:lnTo>
                <a:lnTo>
                  <a:pt x="2220" y="450"/>
                </a:lnTo>
                <a:lnTo>
                  <a:pt x="2256" y="414"/>
                </a:lnTo>
                <a:lnTo>
                  <a:pt x="2298" y="0"/>
                </a:lnTo>
                <a:lnTo>
                  <a:pt x="2334" y="372"/>
                </a:lnTo>
                <a:lnTo>
                  <a:pt x="2376" y="654"/>
                </a:lnTo>
                <a:lnTo>
                  <a:pt x="2418" y="630"/>
                </a:lnTo>
                <a:lnTo>
                  <a:pt x="2454" y="174"/>
                </a:lnTo>
                <a:lnTo>
                  <a:pt x="2496" y="744"/>
                </a:lnTo>
                <a:lnTo>
                  <a:pt x="2532" y="9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057400" y="1905120"/>
            <a:ext cx="529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7350120" y="1905120"/>
            <a:ext cx="3240" cy="407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90512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17640" y="190512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78240" y="190512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038480" y="190512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10240" y="190512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70480" y="190512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31080" y="190512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91320" y="190512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350120" y="1905120"/>
            <a:ext cx="32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7302600" y="597528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85760" y="5856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302600" y="5167440"/>
            <a:ext cx="4752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385760" y="5048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7302600" y="434484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90080" y="422424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7302600" y="3535200"/>
            <a:ext cx="475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94400" y="341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302600" y="271296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90080" y="2592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7302600" y="19051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85400" y="1784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155680" y="2063880"/>
            <a:ext cx="5159520" cy="3173400"/>
          </a:xfrm>
          <a:custGeom>
            <a:avLst/>
            <a:gdLst/>
            <a:ahLst/>
            <a:rect l="l" t="t" r="r" b="b"/>
            <a:pathLst>
              <a:path w="2532" h="1272">
                <a:moveTo>
                  <a:pt x="0" y="588"/>
                </a:moveTo>
                <a:lnTo>
                  <a:pt x="36" y="0"/>
                </a:lnTo>
                <a:lnTo>
                  <a:pt x="78" y="312"/>
                </a:lnTo>
                <a:lnTo>
                  <a:pt x="114" y="588"/>
                </a:lnTo>
                <a:lnTo>
                  <a:pt x="156" y="642"/>
                </a:lnTo>
                <a:lnTo>
                  <a:pt x="198" y="666"/>
                </a:lnTo>
                <a:lnTo>
                  <a:pt x="234" y="660"/>
                </a:lnTo>
                <a:lnTo>
                  <a:pt x="276" y="648"/>
                </a:lnTo>
                <a:lnTo>
                  <a:pt x="312" y="654"/>
                </a:lnTo>
                <a:lnTo>
                  <a:pt x="354" y="678"/>
                </a:lnTo>
                <a:lnTo>
                  <a:pt x="396" y="690"/>
                </a:lnTo>
                <a:lnTo>
                  <a:pt x="432" y="684"/>
                </a:lnTo>
                <a:lnTo>
                  <a:pt x="474" y="696"/>
                </a:lnTo>
                <a:lnTo>
                  <a:pt x="510" y="720"/>
                </a:lnTo>
                <a:lnTo>
                  <a:pt x="552" y="726"/>
                </a:lnTo>
                <a:lnTo>
                  <a:pt x="594" y="726"/>
                </a:lnTo>
                <a:lnTo>
                  <a:pt x="630" y="738"/>
                </a:lnTo>
                <a:lnTo>
                  <a:pt x="672" y="762"/>
                </a:lnTo>
                <a:lnTo>
                  <a:pt x="714" y="768"/>
                </a:lnTo>
                <a:lnTo>
                  <a:pt x="750" y="768"/>
                </a:lnTo>
                <a:lnTo>
                  <a:pt x="792" y="780"/>
                </a:lnTo>
                <a:lnTo>
                  <a:pt x="828" y="798"/>
                </a:lnTo>
                <a:lnTo>
                  <a:pt x="870" y="804"/>
                </a:lnTo>
                <a:lnTo>
                  <a:pt x="912" y="804"/>
                </a:lnTo>
                <a:lnTo>
                  <a:pt x="948" y="816"/>
                </a:lnTo>
                <a:lnTo>
                  <a:pt x="990" y="828"/>
                </a:lnTo>
                <a:lnTo>
                  <a:pt x="1026" y="828"/>
                </a:lnTo>
                <a:lnTo>
                  <a:pt x="1068" y="834"/>
                </a:lnTo>
                <a:lnTo>
                  <a:pt x="1110" y="840"/>
                </a:lnTo>
                <a:lnTo>
                  <a:pt x="1146" y="852"/>
                </a:lnTo>
                <a:lnTo>
                  <a:pt x="1188" y="858"/>
                </a:lnTo>
                <a:lnTo>
                  <a:pt x="1224" y="858"/>
                </a:lnTo>
                <a:lnTo>
                  <a:pt x="1266" y="870"/>
                </a:lnTo>
                <a:lnTo>
                  <a:pt x="1308" y="882"/>
                </a:lnTo>
                <a:lnTo>
                  <a:pt x="1344" y="888"/>
                </a:lnTo>
                <a:lnTo>
                  <a:pt x="1386" y="894"/>
                </a:lnTo>
                <a:lnTo>
                  <a:pt x="1422" y="900"/>
                </a:lnTo>
                <a:lnTo>
                  <a:pt x="1464" y="918"/>
                </a:lnTo>
                <a:lnTo>
                  <a:pt x="1506" y="924"/>
                </a:lnTo>
                <a:lnTo>
                  <a:pt x="1542" y="924"/>
                </a:lnTo>
                <a:lnTo>
                  <a:pt x="1584" y="930"/>
                </a:lnTo>
                <a:lnTo>
                  <a:pt x="1620" y="942"/>
                </a:lnTo>
                <a:lnTo>
                  <a:pt x="1662" y="948"/>
                </a:lnTo>
                <a:lnTo>
                  <a:pt x="1704" y="948"/>
                </a:lnTo>
                <a:lnTo>
                  <a:pt x="1740" y="948"/>
                </a:lnTo>
                <a:lnTo>
                  <a:pt x="1782" y="966"/>
                </a:lnTo>
                <a:lnTo>
                  <a:pt x="1824" y="966"/>
                </a:lnTo>
                <a:lnTo>
                  <a:pt x="1860" y="960"/>
                </a:lnTo>
                <a:lnTo>
                  <a:pt x="1902" y="966"/>
                </a:lnTo>
                <a:lnTo>
                  <a:pt x="1938" y="990"/>
                </a:lnTo>
                <a:lnTo>
                  <a:pt x="1980" y="996"/>
                </a:lnTo>
                <a:lnTo>
                  <a:pt x="2022" y="978"/>
                </a:lnTo>
                <a:lnTo>
                  <a:pt x="2058" y="996"/>
                </a:lnTo>
                <a:lnTo>
                  <a:pt x="2100" y="1050"/>
                </a:lnTo>
                <a:lnTo>
                  <a:pt x="2136" y="1062"/>
                </a:lnTo>
                <a:lnTo>
                  <a:pt x="2178" y="1008"/>
                </a:lnTo>
                <a:lnTo>
                  <a:pt x="2220" y="1056"/>
                </a:lnTo>
                <a:lnTo>
                  <a:pt x="2256" y="1164"/>
                </a:lnTo>
                <a:lnTo>
                  <a:pt x="2298" y="1140"/>
                </a:lnTo>
                <a:lnTo>
                  <a:pt x="2334" y="1032"/>
                </a:lnTo>
                <a:lnTo>
                  <a:pt x="2376" y="1116"/>
                </a:lnTo>
                <a:lnTo>
                  <a:pt x="2418" y="1272"/>
                </a:lnTo>
                <a:lnTo>
                  <a:pt x="2454" y="1128"/>
                </a:lnTo>
                <a:lnTo>
                  <a:pt x="2496" y="1056"/>
                </a:lnTo>
                <a:lnTo>
                  <a:pt x="2532" y="1170"/>
                </a:lnTo>
              </a:path>
            </a:pathLst>
          </a:custGeom>
          <a:noFill/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81000" y="6330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(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rot="16200000">
            <a:off x="651960" y="3796200"/>
            <a:ext cx="15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rot="16200000">
            <a:off x="7249680" y="382896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(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98680" y="43498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92880" y="46245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298680" y="35874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681360" y="32828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740680" y="45720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ption 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57400" y="990720"/>
            <a:ext cx="487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828800" y="5791320"/>
          <a:ext cx="52578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791320"/>
                    <a:ext cx="52578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7391520" y="5715000"/>
            <a:ext cx="380880" cy="500040"/>
            <a:chOff x="7391520" y="5715000"/>
            <a:chExt cx="380880" cy="500040"/>
          </a:xfrm>
        </p:grpSpPr>
        <p:sp>
          <p:nvSpPr>
            <p:cNvPr id="1023" name=""/>
            <p:cNvSpPr/>
            <p:nvPr/>
          </p:nvSpPr>
          <p:spPr>
            <a:xfrm>
              <a:off x="7530840" y="61405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91520" y="5715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05640" y="60768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7575480" y="59050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438280" y="1523880"/>
            <a:ext cx="4586400" cy="2322360"/>
            <a:chOff x="2438280" y="1523880"/>
            <a:chExt cx="4586400" cy="2322360"/>
          </a:xfrm>
        </p:grpSpPr>
        <p:sp>
          <p:nvSpPr>
            <p:cNvPr id="1028" name=""/>
            <p:cNvSpPr/>
            <p:nvPr/>
          </p:nvSpPr>
          <p:spPr>
            <a:xfrm>
              <a:off x="3200400" y="2046240"/>
              <a:ext cx="19051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5400000">
              <a:off x="4686120" y="1855800"/>
              <a:ext cx="1447560" cy="10666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809880" y="1893960"/>
              <a:ext cx="6858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029200" y="2198520"/>
              <a:ext cx="15084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24360" y="2211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52680" y="1946160"/>
              <a:ext cx="32076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43600" y="2394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5" name=""/>
            <p:cNvGraphicFramePr/>
            <p:nvPr/>
          </p:nvGraphicFramePr>
          <p:xfrm>
            <a:off x="2438280" y="2198520"/>
            <a:ext cx="565200" cy="37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2198520"/>
                      <a:ext cx="56520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7" name=""/>
            <p:cNvGraphicFramePr/>
            <p:nvPr/>
          </p:nvGraphicFramePr>
          <p:xfrm>
            <a:off x="2971800" y="1577880"/>
            <a:ext cx="428760" cy="35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1800" y="1577880"/>
                      <a:ext cx="42876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9" name=""/>
            <p:cNvGraphicFramePr/>
            <p:nvPr/>
          </p:nvGraphicFramePr>
          <p:xfrm>
            <a:off x="3962520" y="2198520"/>
            <a:ext cx="36180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2198520"/>
                      <a:ext cx="3618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1" name=""/>
            <p:cNvGraphicFramePr/>
            <p:nvPr/>
          </p:nvGraphicFramePr>
          <p:xfrm>
            <a:off x="5257800" y="2198520"/>
            <a:ext cx="338040" cy="401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57800" y="2198520"/>
                      <a:ext cx="3380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3" name=""/>
            <p:cNvGraphicFramePr/>
            <p:nvPr/>
          </p:nvGraphicFramePr>
          <p:xfrm>
            <a:off x="6172200" y="2046240"/>
            <a:ext cx="852480" cy="33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046240"/>
                      <a:ext cx="85248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5" name=""/>
            <p:cNvSpPr/>
            <p:nvPr/>
          </p:nvSpPr>
          <p:spPr>
            <a:xfrm flipV="1">
              <a:off x="4605480" y="2111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6" name=""/>
            <p:cNvGraphicFramePr/>
            <p:nvPr/>
          </p:nvGraphicFramePr>
          <p:xfrm>
            <a:off x="4619520" y="2260440"/>
            <a:ext cx="230400" cy="31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19520" y="2260440"/>
                      <a:ext cx="23040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"/>
            <p:cNvSpPr/>
            <p:nvPr/>
          </p:nvSpPr>
          <p:spPr>
            <a:xfrm>
              <a:off x="2438280" y="1523880"/>
              <a:ext cx="13114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00600" y="1531800"/>
              <a:ext cx="1295280" cy="168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18200" y="3265560"/>
              <a:ext cx="119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ducer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72520" y="325116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b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33160" y="334152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809880" y="42670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290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9528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3124080" y="4419720"/>
          <a:ext cx="31752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4080" y="441972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"/>
          <p:cNvGraphicFramePr/>
          <p:nvPr/>
        </p:nvGraphicFramePr>
        <p:xfrm>
          <a:off x="4191120" y="4572000"/>
          <a:ext cx="26352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1120" y="457200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"/>
          <p:cNvGraphicFramePr/>
          <p:nvPr/>
        </p:nvGraphicFramePr>
        <p:xfrm>
          <a:off x="5257800" y="4343400"/>
          <a:ext cx="291960" cy="374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343400"/>
                    <a:ext cx="2919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595520" y="45720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ation and Reception proces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6680" y="106668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4" name=""/>
          <p:cNvGraphicFramePr/>
          <p:nvPr/>
        </p:nvGraphicFramePr>
        <p:xfrm>
          <a:off x="1295280" y="2895480"/>
          <a:ext cx="63453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6345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"/>
          <p:cNvGraphicFramePr/>
          <p:nvPr/>
        </p:nvGraphicFramePr>
        <p:xfrm>
          <a:off x="1224000" y="4280040"/>
          <a:ext cx="654372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4000" y="4280040"/>
                    <a:ext cx="65437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"/>
          <p:cNvSpPr/>
          <p:nvPr/>
        </p:nvSpPr>
        <p:spPr>
          <a:xfrm>
            <a:off x="685800" y="12952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generation and reception process transf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 only on the transducer sensitivities and their electrical imped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8880" y="905040"/>
            <a:ext cx="66258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ce as a "lumped" source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venin equivalent transducer/sources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receiving cabling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ation of receiver as impedance,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easurement of these receiver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tion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syst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2588760" y="2286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90720" y="83808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4724280" y="2209680"/>
          <a:ext cx="62712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09680"/>
                    <a:ext cx="6271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3" name=""/>
          <p:cNvGraphicFramePr/>
          <p:nvPr/>
        </p:nvGraphicFramePr>
        <p:xfrm>
          <a:off x="6095880" y="990720"/>
          <a:ext cx="54468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990720"/>
                    <a:ext cx="544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5" name=""/>
          <p:cNvGrpSpPr/>
          <p:nvPr/>
        </p:nvGrpSpPr>
        <p:grpSpPr>
          <a:xfrm>
            <a:off x="4528800" y="1703160"/>
            <a:ext cx="446040" cy="472680"/>
            <a:chOff x="4528800" y="1703160"/>
            <a:chExt cx="446040" cy="472680"/>
          </a:xfrm>
        </p:grpSpPr>
        <p:sp>
          <p:nvSpPr>
            <p:cNvPr id="1076" name=""/>
            <p:cNvSpPr/>
            <p:nvPr/>
          </p:nvSpPr>
          <p:spPr>
            <a:xfrm rot="7648800">
              <a:off x="4578840" y="1799640"/>
              <a:ext cx="345600" cy="297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7648800">
              <a:off x="4859640" y="1750320"/>
              <a:ext cx="3384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7648800">
              <a:off x="4880520" y="1744200"/>
              <a:ext cx="33480" cy="63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7648800">
              <a:off x="4901760" y="1695600"/>
              <a:ext cx="3348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5402160" y="1371600"/>
            <a:ext cx="763560" cy="588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451480" y="1609560"/>
            <a:ext cx="8424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91040" y="1643040"/>
            <a:ext cx="46692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07120" y="164772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924440" y="1638360"/>
            <a:ext cx="7308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3505320" y="1689480"/>
            <a:ext cx="445680" cy="472320"/>
            <a:chOff x="3505320" y="1689480"/>
            <a:chExt cx="445680" cy="472320"/>
          </a:xfrm>
        </p:grpSpPr>
        <p:sp>
          <p:nvSpPr>
            <p:cNvPr id="1086" name=""/>
            <p:cNvSpPr/>
            <p:nvPr/>
          </p:nvSpPr>
          <p:spPr>
            <a:xfrm flipH="1" rot="13951200">
              <a:off x="3555360" y="1785960"/>
              <a:ext cx="345600" cy="2966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 rot="13951200">
              <a:off x="3586680" y="1736280"/>
              <a:ext cx="3384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3951200">
              <a:off x="3565440" y="1730520"/>
              <a:ext cx="33480" cy="63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rot="13951200">
              <a:off x="3544560" y="1681920"/>
              <a:ext cx="33480" cy="1058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 flipH="1">
            <a:off x="2310840" y="1371600"/>
            <a:ext cx="763560" cy="588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941560" y="1609560"/>
            <a:ext cx="842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021120" y="1643040"/>
            <a:ext cx="4651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057400" y="164952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3473280" y="1644120"/>
            <a:ext cx="74880" cy="8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2028960"/>
            <a:ext cx="533160" cy="83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4448160" y="2104920"/>
            <a:ext cx="160200" cy="17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71800" y="2104920"/>
            <a:ext cx="150840" cy="17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1981080" y="990720"/>
          <a:ext cx="50796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990720"/>
                    <a:ext cx="5079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3200400" y="2133720"/>
          <a:ext cx="59220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2133720"/>
                    <a:ext cx="5922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2" name=""/>
          <p:cNvSpPr/>
          <p:nvPr/>
        </p:nvSpPr>
        <p:spPr>
          <a:xfrm flipH="1" flipV="1">
            <a:off x="4343040" y="2590920"/>
            <a:ext cx="43668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881960" y="266688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/el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4114800" y="2286000"/>
          <a:ext cx="212760" cy="31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2286000"/>
                    <a:ext cx="2127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6" name=""/>
          <p:cNvGraphicFramePr/>
          <p:nvPr/>
        </p:nvGraphicFramePr>
        <p:xfrm>
          <a:off x="4648320" y="4648320"/>
          <a:ext cx="544320" cy="35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4648320"/>
                    <a:ext cx="5443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8" name=""/>
          <p:cNvGraphicFramePr/>
          <p:nvPr/>
        </p:nvGraphicFramePr>
        <p:xfrm>
          <a:off x="4821120" y="3646440"/>
          <a:ext cx="38412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21120" y="3646440"/>
                    <a:ext cx="3841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"/>
          <p:cNvGraphicFramePr/>
          <p:nvPr/>
        </p:nvGraphicFramePr>
        <p:xfrm>
          <a:off x="6046920" y="4197240"/>
          <a:ext cx="266400" cy="31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46920" y="4197240"/>
                    <a:ext cx="2664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2" name=""/>
          <p:cNvGraphicFramePr/>
          <p:nvPr/>
        </p:nvGraphicFramePr>
        <p:xfrm>
          <a:off x="6510240" y="4397400"/>
          <a:ext cx="27000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0240" y="4397400"/>
                    <a:ext cx="2700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4" name=""/>
          <p:cNvGraphicFramePr/>
          <p:nvPr/>
        </p:nvGraphicFramePr>
        <p:xfrm>
          <a:off x="2057400" y="4191120"/>
          <a:ext cx="235080" cy="349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4191120"/>
                    <a:ext cx="2350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6" name=""/>
          <p:cNvGraphicFramePr/>
          <p:nvPr/>
        </p:nvGraphicFramePr>
        <p:xfrm>
          <a:off x="2438280" y="3657600"/>
          <a:ext cx="298440" cy="353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38280" y="3657600"/>
                    <a:ext cx="2984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8" name=""/>
          <p:cNvGraphicFramePr/>
          <p:nvPr/>
        </p:nvGraphicFramePr>
        <p:xfrm>
          <a:off x="3614760" y="4202280"/>
          <a:ext cx="365040" cy="30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14760" y="4202280"/>
                    <a:ext cx="36504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0" name=""/>
          <p:cNvGraphicFramePr/>
          <p:nvPr/>
        </p:nvGraphicFramePr>
        <p:xfrm>
          <a:off x="3809880" y="4572000"/>
          <a:ext cx="250920" cy="347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9880" y="4572000"/>
                    <a:ext cx="250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6149880" y="3873600"/>
          <a:ext cx="223920" cy="223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49880" y="3873600"/>
                    <a:ext cx="223920" cy="22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3657600" y="3733920"/>
          <a:ext cx="311040" cy="345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657600" y="3733920"/>
                    <a:ext cx="3110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6" name=""/>
          <p:cNvSpPr/>
          <p:nvPr/>
        </p:nvSpPr>
        <p:spPr>
          <a:xfrm>
            <a:off x="4827600" y="4145040"/>
            <a:ext cx="116028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5711760" y="4038480"/>
            <a:ext cx="922320" cy="649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178600" y="4032360"/>
            <a:ext cx="41724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940360" y="4241880"/>
            <a:ext cx="921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21400" y="4249800"/>
            <a:ext cx="23148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21200" y="4081320"/>
            <a:ext cx="195480" cy="1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497640" y="43657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394000" y="4129200"/>
            <a:ext cx="11588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5400000">
            <a:off x="3276720" y="4021920"/>
            <a:ext cx="920880" cy="649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63720" y="4032360"/>
            <a:ext cx="41760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506760" y="4226040"/>
            <a:ext cx="9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86000" y="4233960"/>
            <a:ext cx="2318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86160" y="4065480"/>
            <a:ext cx="195120" cy="1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62240" y="43545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56200" y="3886200"/>
            <a:ext cx="5205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"/>
          <p:cNvGraphicFramePr/>
          <p:nvPr/>
        </p:nvGraphicFramePr>
        <p:xfrm>
          <a:off x="2819520" y="4191120"/>
          <a:ext cx="296640" cy="311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4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819520" y="4191120"/>
                    <a:ext cx="2966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3" name=""/>
          <p:cNvGraphicFramePr/>
          <p:nvPr/>
        </p:nvGraphicFramePr>
        <p:xfrm>
          <a:off x="5210280" y="4208400"/>
          <a:ext cx="322200" cy="308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10280" y="4208400"/>
                    <a:ext cx="322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>
            <a:off x="3124080" y="55627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038480" y="55627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52880" y="55627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74320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5627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2590920" y="5410080"/>
          <a:ext cx="234720" cy="3492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590920" y="5410080"/>
                    <a:ext cx="2347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"/>
          <p:cNvGraphicFramePr/>
          <p:nvPr/>
        </p:nvGraphicFramePr>
        <p:xfrm>
          <a:off x="5791320" y="5334120"/>
          <a:ext cx="269640" cy="345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791320" y="5334120"/>
                    <a:ext cx="2696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"/>
          <p:cNvGraphicFramePr/>
          <p:nvPr/>
        </p:nvGraphicFramePr>
        <p:xfrm>
          <a:off x="4191120" y="5715000"/>
          <a:ext cx="271440" cy="407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191120" y="5715000"/>
                    <a:ext cx="2714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"/>
          <p:cNvGraphicFramePr/>
          <p:nvPr/>
        </p:nvGraphicFramePr>
        <p:xfrm>
          <a:off x="3276720" y="5715000"/>
          <a:ext cx="247680" cy="371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276720" y="5715000"/>
                    <a:ext cx="247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"/>
          <p:cNvGraphicFramePr/>
          <p:nvPr/>
        </p:nvGraphicFramePr>
        <p:xfrm>
          <a:off x="5105520" y="5715000"/>
          <a:ext cx="271440" cy="407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105520" y="5715000"/>
                    <a:ext cx="2714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2" name=""/>
          <p:cNvGrpSpPr/>
          <p:nvPr/>
        </p:nvGrpSpPr>
        <p:grpSpPr>
          <a:xfrm>
            <a:off x="7010280" y="4800600"/>
            <a:ext cx="381240" cy="500040"/>
            <a:chOff x="7010280" y="4800600"/>
            <a:chExt cx="381240" cy="500040"/>
          </a:xfrm>
        </p:grpSpPr>
        <p:sp>
          <p:nvSpPr>
            <p:cNvPr id="1163" name=""/>
            <p:cNvSpPr/>
            <p:nvPr/>
          </p:nvSpPr>
          <p:spPr>
            <a:xfrm>
              <a:off x="7149960" y="522612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010280" y="48006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124760" y="516240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194600" y="4990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7" name=""/>
          <p:cNvGraphicFramePr/>
          <p:nvPr/>
        </p:nvGraphicFramePr>
        <p:xfrm>
          <a:off x="3733920" y="5257800"/>
          <a:ext cx="250560" cy="3477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733920" y="5257800"/>
                    <a:ext cx="2505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4691160" y="5191200"/>
          <a:ext cx="280800" cy="336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691160" y="5191200"/>
                    <a:ext cx="2808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3809880"/>
            <a:ext cx="2057400" cy="1371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98240" y="15228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3886200"/>
            <a:ext cx="1143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9520" y="497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88080" y="4057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767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33412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728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78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23040" y="4187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65480" y="3475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72240" y="4267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410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assumed dir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v,I are now reversed from sound generation case 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81480" y="5562720"/>
          <a:ext cx="274320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5562720"/>
                    <a:ext cx="27432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523880" y="4038480"/>
            <a:ext cx="22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685800"/>
            <a:ext cx="5257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792960" y="823680"/>
            <a:ext cx="1100880" cy="1247400"/>
            <a:chOff x="3792960" y="823680"/>
            <a:chExt cx="1100880" cy="1247400"/>
          </a:xfrm>
        </p:grpSpPr>
        <p:sp>
          <p:nvSpPr>
            <p:cNvPr id="66" name=""/>
            <p:cNvSpPr/>
            <p:nvPr/>
          </p:nvSpPr>
          <p:spPr>
            <a:xfrm>
              <a:off x="4114800" y="12189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230800">
              <a:off x="4114440" y="837720"/>
              <a:ext cx="4572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1599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160" y="114300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t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1337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818800">
            <a:off x="4038480" y="213336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8620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140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ttered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19960" y="10508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218592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,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962520" y="762120"/>
            <a:ext cx="1801800" cy="409320"/>
            <a:chOff x="3962520" y="762120"/>
            <a:chExt cx="1801800" cy="409320"/>
          </a:xfrm>
        </p:grpSpPr>
        <p:sp>
          <p:nvSpPr>
            <p:cNvPr id="78" name=""/>
            <p:cNvSpPr/>
            <p:nvPr/>
          </p:nvSpPr>
          <p:spPr>
            <a:xfrm>
              <a:off x="4115160" y="942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760" y="942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360" y="942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0960" y="942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560" y="942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8160" y="942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762120"/>
              <a:ext cx="180180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114880" y="1828440"/>
            <a:ext cx="1417680" cy="680760"/>
            <a:chOff x="5114880" y="1828440"/>
            <a:chExt cx="1417680" cy="680760"/>
          </a:xfrm>
        </p:grpSpPr>
        <p:grpSp>
          <p:nvGrpSpPr>
            <p:cNvPr id="86" name=""/>
            <p:cNvGrpSpPr/>
            <p:nvPr/>
          </p:nvGrpSpPr>
          <p:grpSpPr>
            <a:xfrm>
              <a:off x="5115240" y="1828440"/>
              <a:ext cx="1417320" cy="680760"/>
              <a:chOff x="5115240" y="1828440"/>
              <a:chExt cx="1417320" cy="680760"/>
            </a:xfrm>
          </p:grpSpPr>
          <p:sp>
            <p:nvSpPr>
              <p:cNvPr id="87" name=""/>
              <p:cNvSpPr/>
              <p:nvPr/>
            </p:nvSpPr>
            <p:spPr>
              <a:xfrm flipH="1" flipV="1">
                <a:off x="5114880" y="1828080"/>
                <a:ext cx="109044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207480" y="202284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316920" y="207180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426000" y="202284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114880" y="1943280"/>
              <a:ext cx="1112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83280" y="1204920"/>
            <a:ext cx="1100880" cy="1247400"/>
            <a:chOff x="1583280" y="1204920"/>
            <a:chExt cx="1100880" cy="1247400"/>
          </a:xfrm>
        </p:grpSpPr>
        <p:sp>
          <p:nvSpPr>
            <p:cNvPr id="94" name=""/>
            <p:cNvSpPr/>
            <p:nvPr/>
          </p:nvSpPr>
          <p:spPr>
            <a:xfrm>
              <a:off x="1905120" y="16002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230800">
              <a:off x="1904760" y="1218960"/>
              <a:ext cx="4572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2320" y="19810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923840" y="1447920"/>
            <a:ext cx="5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819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818800">
            <a:off x="1905120" y="281916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5248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5120" y="30481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c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6640" y="2286000"/>
            <a:ext cx="126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04400" y="295596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, forc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7120" y="990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69480" y="1204920"/>
            <a:ext cx="1100880" cy="1247400"/>
            <a:chOff x="5469480" y="1204920"/>
            <a:chExt cx="1100880" cy="1247400"/>
          </a:xfrm>
        </p:grpSpPr>
        <p:sp>
          <p:nvSpPr>
            <p:cNvPr id="106" name=""/>
            <p:cNvSpPr/>
            <p:nvPr/>
          </p:nvSpPr>
          <p:spPr>
            <a:xfrm>
              <a:off x="5791320" y="16002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230800">
              <a:off x="5790960" y="1218960"/>
              <a:ext cx="4572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520" y="19810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810040" y="1447920"/>
            <a:ext cx="5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819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818800">
            <a:off x="5791320" y="281916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68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81320" y="30481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c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240" y="2955960"/>
            <a:ext cx="1738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bloc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732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640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818800">
            <a:off x="3597120" y="51210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6480" y="409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0840" y="227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4680" y="2362320"/>
            <a:ext cx="106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40480" y="232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9000" y="4587840"/>
            <a:ext cx="126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8800" y="4565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1720" y="9907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2320" y="974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5480" y="37339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19520" y="6172200"/>
          <a:ext cx="31240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6172200"/>
                    <a:ext cx="31240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454120" y="4587840"/>
            <a:ext cx="4572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06760" y="4435560"/>
            <a:ext cx="380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25520" y="48927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11160" y="420696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c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09680" y="6172200"/>
            <a:ext cx="381240" cy="304560"/>
            <a:chOff x="2209680" y="6172200"/>
            <a:chExt cx="381240" cy="304560"/>
          </a:xfrm>
        </p:grpSpPr>
        <p:sp>
          <p:nvSpPr>
            <p:cNvPr id="134" name=""/>
            <p:cNvSpPr/>
            <p:nvPr/>
          </p:nvSpPr>
          <p:spPr>
            <a:xfrm>
              <a:off x="2209680" y="6248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9680" y="6375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722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438280" y="63244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39520" y="5349960"/>
            <a:ext cx="3486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force due to mo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951280" y="2242800"/>
            <a:ext cx="1417680" cy="680760"/>
            <a:chOff x="2951280" y="2242800"/>
            <a:chExt cx="1417680" cy="680760"/>
          </a:xfrm>
        </p:grpSpPr>
        <p:grpSp>
          <p:nvGrpSpPr>
            <p:cNvPr id="141" name=""/>
            <p:cNvGrpSpPr/>
            <p:nvPr/>
          </p:nvGrpSpPr>
          <p:grpSpPr>
            <a:xfrm>
              <a:off x="2951640" y="2242800"/>
              <a:ext cx="1417320" cy="680760"/>
              <a:chOff x="2951640" y="2242800"/>
              <a:chExt cx="1417320" cy="680760"/>
            </a:xfrm>
          </p:grpSpPr>
          <p:sp>
            <p:nvSpPr>
              <p:cNvPr id="142" name=""/>
              <p:cNvSpPr/>
              <p:nvPr/>
            </p:nvSpPr>
            <p:spPr>
              <a:xfrm flipH="1" flipV="1">
                <a:off x="2951280" y="2242440"/>
                <a:ext cx="109044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4043880" y="243720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4153320" y="248616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262400" y="243720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951280" y="2357640"/>
              <a:ext cx="1112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2666520" y="2590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786720" y="2250720"/>
            <a:ext cx="1416960" cy="680760"/>
            <a:chOff x="6786720" y="2250720"/>
            <a:chExt cx="1416960" cy="680760"/>
          </a:xfrm>
        </p:grpSpPr>
        <p:grpSp>
          <p:nvGrpSpPr>
            <p:cNvPr id="149" name=""/>
            <p:cNvGrpSpPr/>
            <p:nvPr/>
          </p:nvGrpSpPr>
          <p:grpSpPr>
            <a:xfrm>
              <a:off x="6786720" y="2250720"/>
              <a:ext cx="1416960" cy="680760"/>
              <a:chOff x="6786720" y="2250720"/>
              <a:chExt cx="1416960" cy="680760"/>
            </a:xfrm>
          </p:grpSpPr>
          <p:sp>
            <p:nvSpPr>
              <p:cNvPr id="150" name=""/>
              <p:cNvSpPr/>
              <p:nvPr/>
            </p:nvSpPr>
            <p:spPr>
              <a:xfrm flipH="1" flipV="1">
                <a:off x="6786720" y="2250360"/>
                <a:ext cx="109008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78600" y="244512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988040" y="249408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97120" y="244512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786720" y="2365560"/>
              <a:ext cx="11088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22760" y="4520880"/>
            <a:ext cx="1417680" cy="680760"/>
            <a:chOff x="4622760" y="4520880"/>
            <a:chExt cx="1417680" cy="680760"/>
          </a:xfrm>
        </p:grpSpPr>
        <p:grpSp>
          <p:nvGrpSpPr>
            <p:cNvPr id="156" name=""/>
            <p:cNvGrpSpPr/>
            <p:nvPr/>
          </p:nvGrpSpPr>
          <p:grpSpPr>
            <a:xfrm>
              <a:off x="4623120" y="4520880"/>
              <a:ext cx="1417320" cy="680760"/>
              <a:chOff x="4623120" y="4520880"/>
              <a:chExt cx="1417320" cy="68076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4622760" y="4520520"/>
                <a:ext cx="109044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715360" y="471528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824800" y="476424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933880" y="471528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622760" y="4635720"/>
              <a:ext cx="1112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4359240" y="4892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2818800">
            <a:off x="2438280" y="281916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4040" y="2955960"/>
            <a:ext cx="4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424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0160" y="2286000"/>
            <a:ext cx="126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39960" y="2263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37480" y="99072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II : transducer is acting as a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410080" y="2209680"/>
          <a:ext cx="34210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09680"/>
                    <a:ext cx="34210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2004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90920" y="3657600"/>
          <a:ext cx="35812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657600"/>
                    <a:ext cx="35812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371600" y="2209680"/>
            <a:ext cx="4572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057400"/>
            <a:ext cx="381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430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28640" y="175248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c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2920" y="4191120"/>
            <a:ext cx="4724280" cy="1731960"/>
            <a:chOff x="1762920" y="4191120"/>
            <a:chExt cx="4724280" cy="1731960"/>
          </a:xfrm>
        </p:grpSpPr>
        <p:sp>
          <p:nvSpPr>
            <p:cNvPr id="179" name=""/>
            <p:cNvSpPr/>
            <p:nvPr/>
          </p:nvSpPr>
          <p:spPr>
            <a:xfrm>
              <a:off x="4267080" y="4780080"/>
              <a:ext cx="13716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19080" y="51246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360" y="4856040"/>
              <a:ext cx="380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240" y="49323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895480" y="4932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5480" y="4932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895480" y="5846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5541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2920" y="5051520"/>
              <a:ext cx="88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37880" y="4340160"/>
              <a:ext cx="91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5440" y="4191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038480" y="50086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9400" y="516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4780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6360" y="43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57680" y="5084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38680" y="4932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8680" y="5846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019560" y="50086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0960" y="478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86880" y="514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080" y="439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1" name=""/>
          <p:cNvGraphicFramePr/>
          <p:nvPr/>
        </p:nvGraphicFramePr>
        <p:xfrm>
          <a:off x="2895480" y="1600200"/>
          <a:ext cx="635040" cy="4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600200"/>
                    <a:ext cx="6350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657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5105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54560" y="2250720"/>
            <a:ext cx="1416960" cy="680760"/>
            <a:chOff x="3454560" y="2250720"/>
            <a:chExt cx="1416960" cy="680760"/>
          </a:xfrm>
        </p:grpSpPr>
        <p:grpSp>
          <p:nvGrpSpPr>
            <p:cNvPr id="208" name=""/>
            <p:cNvGrpSpPr/>
            <p:nvPr/>
          </p:nvGrpSpPr>
          <p:grpSpPr>
            <a:xfrm>
              <a:off x="3454560" y="2250720"/>
              <a:ext cx="1416960" cy="680760"/>
              <a:chOff x="3454560" y="2250720"/>
              <a:chExt cx="1416960" cy="680760"/>
            </a:xfrm>
          </p:grpSpPr>
          <p:sp>
            <p:nvSpPr>
              <p:cNvPr id="209" name=""/>
              <p:cNvSpPr/>
              <p:nvPr/>
            </p:nvSpPr>
            <p:spPr>
              <a:xfrm flipH="1" flipV="1">
                <a:off x="3454560" y="2250360"/>
                <a:ext cx="109008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546440" y="244512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655880" y="249408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764960" y="244512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454560" y="2365560"/>
              <a:ext cx="11088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H="1">
            <a:off x="32004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rot="2818800">
            <a:off x="1692360" y="32922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28720" y="3444840"/>
            <a:ext cx="4900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wice the force due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t wav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1440" y="3570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00280" y="2835360"/>
            <a:ext cx="99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71640" y="2759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87280" y="20732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960" y="2530440"/>
            <a:ext cx="380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63240" y="367344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c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57000" y="4419720"/>
            <a:ext cx="4944600" cy="1731960"/>
            <a:chOff x="2457000" y="4419720"/>
            <a:chExt cx="4944600" cy="1731960"/>
          </a:xfrm>
        </p:grpSpPr>
        <p:sp>
          <p:nvSpPr>
            <p:cNvPr id="224" name=""/>
            <p:cNvSpPr/>
            <p:nvPr/>
          </p:nvSpPr>
          <p:spPr>
            <a:xfrm>
              <a:off x="5181480" y="5008680"/>
              <a:ext cx="13716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33480" y="53532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0760" y="5084640"/>
              <a:ext cx="380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1640" y="51609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809880" y="5160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5160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809880" y="60753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9880" y="5770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7000" y="523728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2280" y="4568760"/>
              <a:ext cx="91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9840" y="44197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5237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3800" y="538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4280" y="5008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0760" y="455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72080" y="53132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53080" y="5160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3080" y="6075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933960" y="5237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05360" y="5008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01280" y="53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0480" y="4627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996920" y="3368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073240" y="3368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539720" y="230148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230184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25280" y="2225520"/>
            <a:ext cx="5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9144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many authors assume the incident and scat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can be treated as plane waves incident on a fixed planar surface. In this case, as we showed previous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334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685960" y="2714760"/>
            <a:ext cx="1417680" cy="680400"/>
            <a:chOff x="2685960" y="2714760"/>
            <a:chExt cx="1417680" cy="680400"/>
          </a:xfrm>
        </p:grpSpPr>
        <p:grpSp>
          <p:nvGrpSpPr>
            <p:cNvPr id="256" name=""/>
            <p:cNvGrpSpPr/>
            <p:nvPr/>
          </p:nvGrpSpPr>
          <p:grpSpPr>
            <a:xfrm>
              <a:off x="2686320" y="2714760"/>
              <a:ext cx="1417320" cy="680400"/>
              <a:chOff x="2686320" y="2714760"/>
              <a:chExt cx="1417320" cy="680400"/>
            </a:xfrm>
          </p:grpSpPr>
          <p:sp>
            <p:nvSpPr>
              <p:cNvPr id="257" name=""/>
              <p:cNvSpPr/>
              <p:nvPr/>
            </p:nvSpPr>
            <p:spPr>
              <a:xfrm flipH="1" flipV="1">
                <a:off x="2685960" y="2714760"/>
                <a:ext cx="1090440" cy="680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778560" y="2908800"/>
                <a:ext cx="1069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888000" y="2957400"/>
                <a:ext cx="10656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997080" y="2908800"/>
                <a:ext cx="10656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685960" y="2828880"/>
              <a:ext cx="111240" cy="456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0" y="3505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veni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transducer and acoustic sourc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0" y="1600200"/>
            <a:ext cx="3733560" cy="1363680"/>
            <a:chOff x="2286000" y="1600200"/>
            <a:chExt cx="3733560" cy="1363680"/>
          </a:xfrm>
        </p:grpSpPr>
        <p:sp>
          <p:nvSpPr>
            <p:cNvPr id="266" name=""/>
            <p:cNvSpPr/>
            <p:nvPr/>
          </p:nvSpPr>
          <p:spPr>
            <a:xfrm>
              <a:off x="3700800" y="23036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1000" y="1631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48000" y="1978200"/>
              <a:ext cx="1135080" cy="9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57400" y="2295360"/>
              <a:ext cx="314280" cy="3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2043000"/>
              <a:ext cx="31608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45080" y="21099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114360" y="21099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14720" y="210996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114720" y="289872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720" y="2635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059360" y="217476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0360" y="1978200"/>
              <a:ext cx="31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83080" y="21099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3080" y="28987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697360" y="217476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08720" y="197820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360" y="23385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79200" y="16002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27000" y="230364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5" name=""/>
            <p:cNvGraphicFramePr/>
            <p:nvPr/>
          </p:nvGraphicFramePr>
          <p:xfrm>
            <a:off x="2286000" y="2303640"/>
            <a:ext cx="56988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03640"/>
                      <a:ext cx="5698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2992320" y="1617840"/>
            <a:ext cx="763560" cy="35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92320" y="1617840"/>
                      <a:ext cx="76356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9" name=""/>
          <p:cNvSpPr/>
          <p:nvPr/>
        </p:nvSpPr>
        <p:spPr>
          <a:xfrm>
            <a:off x="3429000" y="4952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657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45277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91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706840" y="4924440"/>
          <a:ext cx="60480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4924440"/>
                    <a:ext cx="6048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245120" y="4772160"/>
          <a:ext cx="62208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4772160"/>
                    <a:ext cx="6220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 flipV="1">
            <a:off x="5540400" y="47721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88120" y="45435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18520" y="49244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8120" y="4162320"/>
            <a:ext cx="2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93720" y="129528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transducer and acoustic sourc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767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362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2417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505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325600" y="2638440"/>
          <a:ext cx="60480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5600" y="2638440"/>
                    <a:ext cx="6048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863880" y="2486160"/>
          <a:ext cx="622440" cy="3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3880" y="2486160"/>
                    <a:ext cx="6224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V="1">
            <a:off x="5159520" y="24861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06880" y="22575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37280" y="26384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06880" y="1876320"/>
            <a:ext cx="2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0120" y="365760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9880" y="3759120"/>
          <a:ext cx="216216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759120"/>
                    <a:ext cx="216216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352680" y="4876920"/>
          <a:ext cx="297180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876920"/>
                    <a:ext cx="2971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781680" y="3733920"/>
          <a:ext cx="213372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3733920"/>
                    <a:ext cx="21337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248520" y="4038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06960" y="4842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7600" y="5791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95280" y="5715000"/>
          <a:ext cx="385452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5715000"/>
                    <a:ext cx="3854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410080" y="58672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129360" y="5867280"/>
          <a:ext cx="2601720" cy="43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29360" y="5867280"/>
                    <a:ext cx="2601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168960" y="52578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circui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93720" y="129528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transducer and acoustic sourc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27680" y="2695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056280" y="239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56280" y="2390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65760" y="227016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56280" y="3152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56280" y="3533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643800" y="2514600"/>
          <a:ext cx="622080" cy="32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2514600"/>
                    <a:ext cx="6220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 flipV="1">
            <a:off x="79390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86800" y="2286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17200" y="2666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786800" y="1905120"/>
            <a:ext cx="2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34680" y="2127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762120"/>
            <a:ext cx="5105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03480" y="3774960"/>
            <a:ext cx="76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impedance, remove the blocked force sourc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             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2209680"/>
            <a:ext cx="3733560" cy="1363680"/>
            <a:chOff x="1066680" y="2209680"/>
            <a:chExt cx="3733560" cy="1363680"/>
          </a:xfrm>
        </p:grpSpPr>
        <p:sp>
          <p:nvSpPr>
            <p:cNvPr id="356" name=""/>
            <p:cNvSpPr/>
            <p:nvPr/>
          </p:nvSpPr>
          <p:spPr>
            <a:xfrm>
              <a:off x="2481480" y="29131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41680" y="22413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28680" y="2587680"/>
              <a:ext cx="1135080" cy="9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8080" y="2904840"/>
              <a:ext cx="314280" cy="32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09680" y="2652480"/>
              <a:ext cx="31608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25760" y="27194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895040" y="271944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95400" y="27194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95400" y="350820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95400" y="3244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840040" y="278424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51040" y="2587680"/>
              <a:ext cx="31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3760" y="271944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63760" y="35082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478040" y="278424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89400" y="25876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6040" y="29480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9880" y="22096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07680" y="29131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5" name=""/>
            <p:cNvGraphicFramePr/>
            <p:nvPr/>
          </p:nvGraphicFramePr>
          <p:xfrm>
            <a:off x="1066680" y="2913120"/>
            <a:ext cx="569880" cy="32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2913120"/>
                      <a:ext cx="5698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"/>
            <p:cNvGraphicFramePr/>
            <p:nvPr/>
          </p:nvGraphicFramePr>
          <p:xfrm>
            <a:off x="1773000" y="2227320"/>
            <a:ext cx="763560" cy="35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73000" y="2227320"/>
                      <a:ext cx="76356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79" name=""/>
          <p:cNvGraphicFramePr/>
          <p:nvPr/>
        </p:nvGraphicFramePr>
        <p:xfrm>
          <a:off x="4876920" y="4724280"/>
          <a:ext cx="88092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4724280"/>
                    <a:ext cx="8809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7772400" y="4267080"/>
          <a:ext cx="28116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72400" y="4267080"/>
                    <a:ext cx="281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7772400" y="4800600"/>
          <a:ext cx="266760" cy="31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72400" y="4800600"/>
                    <a:ext cx="2667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5790960" y="4495680"/>
            <a:ext cx="1904760" cy="838440"/>
            <a:chOff x="5790960" y="4495680"/>
            <a:chExt cx="1904760" cy="838440"/>
          </a:xfrm>
        </p:grpSpPr>
        <p:sp>
          <p:nvSpPr>
            <p:cNvPr id="386" name=""/>
            <p:cNvSpPr/>
            <p:nvPr/>
          </p:nvSpPr>
          <p:spPr>
            <a:xfrm flipH="1">
              <a:off x="7391160" y="4495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171480" y="457200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866920" y="4724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790600" y="4832280"/>
              <a:ext cx="1522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66920" y="472428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866920" y="5257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866920" y="5105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8880" y="4673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51480" y="5238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61976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6" name=""/>
          <p:cNvGraphicFramePr/>
          <p:nvPr/>
        </p:nvGraphicFramePr>
        <p:xfrm>
          <a:off x="6400800" y="4800600"/>
          <a:ext cx="53640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4800600"/>
                    <a:ext cx="536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433600" y="4495680"/>
          <a:ext cx="924120" cy="68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3600" y="4495680"/>
                    <a:ext cx="924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1196640" y="56037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is the same configuration as du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generation 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114800" y="6095880"/>
          <a:ext cx="114300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95880"/>
                    <a:ext cx="114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952880" y="2362320"/>
          <a:ext cx="935280" cy="349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2362320"/>
                    <a:ext cx="935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ster Schmerr</cp:lastModifiedBy>
  <dcterms:modified xsi:type="dcterms:W3CDTF">2007-01-03T20:26:03Z</dcterms:modified>
  <cp:revision>8</cp:revision>
  <dc:subject/>
  <dc:title>PowerPoint Presentation</dc:title>
</cp:coreProperties>
</file>