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C811-C1C6-43A2-AC79-0E539414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E2BA-3C2E-4CF6-ABC2-13ECEA6E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D93A-D11E-43F9-890A-D8C5A28E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F458-FED9-4D96-AA1B-855EDA8E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9469-405C-4B4A-A064-36BB660E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3072-E583-4D6E-BB23-94C8DF2A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D6F-E660-4B2C-AF8B-C539C9B9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755-54CA-4C3E-ADE0-BB6E3FB4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64B9-2561-42B3-9AD5-05646A56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57E-EF47-4C50-9603-B7F8A341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B9DD-508F-4339-9C03-5403DABE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3E7-5B1B-4516-A208-D8D49D3A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F0CA-44B3-4679-8584-C3AE4A890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523880"/>
            <a:ext cx="2684520" cy="773280"/>
          </a:xfrm>
          <a:custGeom>
            <a:avLst/>
            <a:gdLst/>
            <a:ahLst/>
            <a:rect l="l" t="t" r="r" b="b"/>
            <a:pathLst>
              <a:path w="1691" h="487">
                <a:moveTo>
                  <a:pt x="0" y="257"/>
                </a:moveTo>
                <a:cubicBezTo>
                  <a:pt x="276" y="257"/>
                  <a:pt x="552" y="257"/>
                  <a:pt x="672" y="257"/>
                </a:cubicBezTo>
                <a:cubicBezTo>
                  <a:pt x="792" y="257"/>
                  <a:pt x="704" y="257"/>
                  <a:pt x="720" y="257"/>
                </a:cubicBezTo>
                <a:cubicBezTo>
                  <a:pt x="736" y="257"/>
                  <a:pt x="755" y="293"/>
                  <a:pt x="768" y="257"/>
                </a:cubicBezTo>
                <a:cubicBezTo>
                  <a:pt x="780" y="220"/>
                  <a:pt x="781" y="0"/>
                  <a:pt x="795" y="38"/>
                </a:cubicBezTo>
                <a:cubicBezTo>
                  <a:pt x="808" y="75"/>
                  <a:pt x="830" y="474"/>
                  <a:pt x="848" y="481"/>
                </a:cubicBezTo>
                <a:cubicBezTo>
                  <a:pt x="865" y="487"/>
                  <a:pt x="885" y="101"/>
                  <a:pt x="901" y="76"/>
                </a:cubicBezTo>
                <a:cubicBezTo>
                  <a:pt x="916" y="50"/>
                  <a:pt x="923" y="295"/>
                  <a:pt x="939" y="326"/>
                </a:cubicBezTo>
                <a:cubicBezTo>
                  <a:pt x="954" y="356"/>
                  <a:pt x="972" y="268"/>
                  <a:pt x="992" y="257"/>
                </a:cubicBezTo>
                <a:cubicBezTo>
                  <a:pt x="1011" y="245"/>
                  <a:pt x="939" y="257"/>
                  <a:pt x="1056" y="257"/>
                </a:cubicBezTo>
                <a:cubicBezTo>
                  <a:pt x="1172" y="257"/>
                  <a:pt x="1431" y="257"/>
                  <a:pt x="1691" y="257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30120" y="3581280"/>
            <a:ext cx="46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ling - Models and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828800" y="2133720"/>
          <a:ext cx="5487840" cy="393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133720"/>
                    <a:ext cx="5487840" cy="39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3351240" y="121932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procity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38160" y="3049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ble – transfer matrix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914400"/>
            <a:ext cx="6933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95920" y="1143000"/>
            <a:ext cx="8123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elin, D.H., Morgenthaler, A.W., and J. Ko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magnetic Waves,Prentice-Hall, 19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is, C.A., Advanced Engineering Electromagnetic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Wiley, 198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del, J.V., Electromagnetic Fields, Hemisphere Publu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., 198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ar, D.M., Microwave Engineering, John Wiley, 199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mel, P.R., Colef, G.D., and R.L. Camisa, Introductio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magnetic and Microwave Engineering, John Wiley, 199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38160" y="3049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ble – transfer matrix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914400"/>
            <a:ext cx="6933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18880" y="905040"/>
            <a:ext cx="52221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le transfer matrix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circui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termination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 of transfer matrix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procity che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43200" y="1295280"/>
            <a:ext cx="304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12952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19810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1295280"/>
            <a:ext cx="304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19520" y="1523880"/>
            <a:ext cx="7596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1523880"/>
            <a:ext cx="763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1523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1752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133360" y="1295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133360" y="1600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1676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1295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1600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1600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93000" y="11271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1523880"/>
            <a:ext cx="38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61720" y="1295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13440" y="15238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38160" y="3049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ble – transfer matrix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52480" y="4971960"/>
          <a:ext cx="563904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971960"/>
                    <a:ext cx="563904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86200" y="289548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50532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50532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429000" y="3047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486400" y="3047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281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2895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36920" y="24382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47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37120" y="24382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914400"/>
            <a:ext cx="6933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9560" y="4114800"/>
            <a:ext cx="74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matrix from a simple 1-D transmission lin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43200" y="1295280"/>
            <a:ext cx="304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12952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9810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1295280"/>
            <a:ext cx="304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1523880"/>
            <a:ext cx="7596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1523880"/>
            <a:ext cx="763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1523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1752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133360" y="1295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133360" y="1600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1676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1295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1600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1600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93000" y="11271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523880"/>
            <a:ext cx="38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61720" y="1295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13440" y="15238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895480" y="2362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2362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98960" y="2098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32080" y="2936880"/>
            <a:ext cx="5286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length of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c = wave number (c = wave spe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371600" y="3809880"/>
          <a:ext cx="4492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9880"/>
                    <a:ext cx="4492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823040" y="383220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electrical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5840" y="45720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ideal coaxial c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510552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54240" y="537048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209320" y="5638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56386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809880" y="4343400"/>
          <a:ext cx="2667240" cy="98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4343400"/>
                    <a:ext cx="266724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2735280" y="559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84120" y="54212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2120" y="5562720"/>
            <a:ext cx="243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it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e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38160" y="3049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ble – transfer matrix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914400"/>
            <a:ext cx="6933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59360" y="1295280"/>
            <a:ext cx="69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circuit model of the transmission lin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84560" y="2576520"/>
            <a:ext cx="54936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2576520"/>
            <a:ext cx="54900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73640" y="3033720"/>
            <a:ext cx="18252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2666880"/>
            <a:ext cx="13716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64000" y="2666880"/>
            <a:ext cx="1800" cy="366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52680" y="3894120"/>
            <a:ext cx="3841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53080" y="2666880"/>
            <a:ext cx="641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452320" y="2666880"/>
            <a:ext cx="7318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452680" y="2758680"/>
            <a:ext cx="1440" cy="94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292800" y="2731680"/>
            <a:ext cx="1800" cy="10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64000" y="3606840"/>
            <a:ext cx="1800" cy="274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65320" y="22096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13760" y="2971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32400" y="22096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9440" y="2971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26560" y="2233440"/>
            <a:ext cx="135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i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n(kl/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057400"/>
            <a:ext cx="28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50040" y="2157480"/>
            <a:ext cx="135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i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n(kl/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3095640"/>
            <a:ext cx="28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07560" y="3200400"/>
            <a:ext cx="146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i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(kl/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210492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38160" y="3049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ble – transfer matrix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914400"/>
            <a:ext cx="6933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63680" y="46134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equivalent circuits are also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132720" y="1600200"/>
            <a:ext cx="3273840" cy="1371600"/>
            <a:chOff x="3132720" y="1600200"/>
            <a:chExt cx="3273840" cy="1371600"/>
          </a:xfrm>
        </p:grpSpPr>
        <p:sp>
          <p:nvSpPr>
            <p:cNvPr id="149" name=""/>
            <p:cNvSpPr/>
            <p:nvPr/>
          </p:nvSpPr>
          <p:spPr>
            <a:xfrm>
              <a:off x="4190760" y="2057400"/>
              <a:ext cx="11430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T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809880" y="2210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33760" y="2210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33760" y="2819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809880" y="2819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733560" y="22096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3272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33560" y="20574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41480" y="16002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43360" y="2349720"/>
              <a:ext cx="15228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4640" y="2210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14640" y="266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51520" y="22860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2" name=""/>
          <p:cNvGraphicFramePr/>
          <p:nvPr/>
        </p:nvGraphicFramePr>
        <p:xfrm>
          <a:off x="2209680" y="3276720"/>
          <a:ext cx="5031000" cy="328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276720"/>
                    <a:ext cx="5031000" cy="32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505600" y="1295280"/>
            <a:ext cx="534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different termination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38160" y="3049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ble – transfer matrix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914400"/>
            <a:ext cx="6933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438280" y="1523880"/>
          <a:ext cx="4243680" cy="517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523880"/>
                    <a:ext cx="42436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207080" y="990720"/>
            <a:ext cx="76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le impedance measurements under different term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38160" y="3049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ble – transfer matrix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914400"/>
            <a:ext cx="6933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303920" y="1752480"/>
            <a:ext cx="2582280" cy="1371600"/>
            <a:chOff x="1303920" y="1752480"/>
            <a:chExt cx="2582280" cy="1371600"/>
          </a:xfrm>
        </p:grpSpPr>
        <p:sp>
          <p:nvSpPr>
            <p:cNvPr id="173" name=""/>
            <p:cNvSpPr/>
            <p:nvPr/>
          </p:nvSpPr>
          <p:spPr>
            <a:xfrm>
              <a:off x="2362320" y="2209680"/>
              <a:ext cx="11430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T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980720" y="2362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05320" y="2362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05320" y="2971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980720" y="29718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905120" y="2361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03920" y="24382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05120" y="2209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17524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507760" y="1295280"/>
            <a:ext cx="53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the transfer matrix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656960" y="1752480"/>
            <a:ext cx="2581560" cy="1371600"/>
            <a:chOff x="4656960" y="1752480"/>
            <a:chExt cx="2581560" cy="1371600"/>
          </a:xfrm>
        </p:grpSpPr>
        <p:sp>
          <p:nvSpPr>
            <p:cNvPr id="184" name=""/>
            <p:cNvSpPr/>
            <p:nvPr/>
          </p:nvSpPr>
          <p:spPr>
            <a:xfrm>
              <a:off x="5715000" y="2209680"/>
              <a:ext cx="11426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T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333760" y="2362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0" y="236232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58000" y="297180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333760" y="2971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257800" y="2361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56960" y="24382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220968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65360" y="17524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72388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9152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10760" y="2346480"/>
            <a:ext cx="35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1204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084560" y="2712960"/>
          <a:ext cx="190440" cy="1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4560" y="2712960"/>
                    <a:ext cx="19044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986840" y="4327560"/>
            <a:ext cx="1632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01960" y="4876920"/>
            <a:ext cx="151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516480" y="4608360"/>
          <a:ext cx="190440" cy="1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16480" y="4608360"/>
                    <a:ext cx="19044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443400" y="5137200"/>
          <a:ext cx="190440" cy="12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3400" y="5137200"/>
                    <a:ext cx="19044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5337720" y="437184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59320" y="4952880"/>
            <a:ext cx="146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55960" y="32004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60920" y="327672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38160" y="3049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ble – transfer matrix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914400"/>
            <a:ext cx="6933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057400" y="1676520"/>
          <a:ext cx="4800600" cy="48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676520"/>
                    <a:ext cx="48006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2129040" y="1066680"/>
            <a:ext cx="46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d cable transfer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38160" y="3049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ble – transfer matrix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914400"/>
            <a:ext cx="6933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2T14:44:42Z</dcterms:created>
  <dc:creator>Lester Schmerr</dc:creator>
  <dc:description/>
  <dc:language>en-US</dc:language>
  <cp:lastModifiedBy>Les Schemerr</cp:lastModifiedBy>
  <dcterms:modified xsi:type="dcterms:W3CDTF">2006-01-04T19:08:54Z</dcterms:modified>
  <cp:revision>12</cp:revision>
  <dc:subject/>
  <dc:title>No Slide Title</dc:title>
</cp:coreProperties>
</file>