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342-38B3-4BED-960E-7A78E4B0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FAB-DEFE-43AF-8E98-6E23527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11E-23F0-4D2B-A6FC-6A4AE976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28B-0804-416B-AAEE-C12E7260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2CE-AB68-4521-A670-77959AD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328-4F94-4580-A884-F16220E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73D-C5C4-4CEF-9347-C4F55F39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24B-96C0-4CC9-B7A2-A0A45C1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4F7-B2B2-44C6-9F2C-8411904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C6C-79D8-4F1B-8A80-7AE2C5A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432-AC43-49A2-B652-EF10588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CE4-2144-444D-AEA6-45D57DC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ADC2-F999-44C5-A1FD-B75BD36E9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7040" y="35812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98560" y="1108080"/>
            <a:ext cx="7711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 electrical and electromechanical components of an ultrasonic measurement system  are measured to obtain 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en this 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conjunction with a knowledge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 used to determine the output voltage of a measuremen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examples are shown for this set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976560" y="4627440"/>
            <a:ext cx="1575000" cy="333000"/>
            <a:chOff x="3976560" y="4627440"/>
            <a:chExt cx="1575000" cy="333000"/>
          </a:xfrm>
        </p:grpSpPr>
        <p:sp>
          <p:nvSpPr>
            <p:cNvPr id="376" name=""/>
            <p:cNvSpPr/>
            <p:nvPr/>
          </p:nvSpPr>
          <p:spPr>
            <a:xfrm>
              <a:off x="410976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956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0936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0916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0896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9120" y="47743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76560" y="4627440"/>
              <a:ext cx="15750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57600" y="5257800"/>
            <a:ext cx="698040" cy="455760"/>
            <a:chOff x="3657600" y="5257800"/>
            <a:chExt cx="698040" cy="455760"/>
          </a:xfrm>
        </p:grpSpPr>
        <p:sp>
          <p:nvSpPr>
            <p:cNvPr id="384" name=""/>
            <p:cNvSpPr/>
            <p:nvPr/>
          </p:nvSpPr>
          <p:spPr>
            <a:xfrm>
              <a:off x="3818520" y="5257800"/>
              <a:ext cx="537120" cy="4557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64880" y="5387760"/>
              <a:ext cx="5256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11240" y="5420160"/>
              <a:ext cx="52200" cy="97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57600" y="5387760"/>
              <a:ext cx="5220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082120" y="5270400"/>
            <a:ext cx="682200" cy="455760"/>
            <a:chOff x="5082120" y="5270400"/>
            <a:chExt cx="682200" cy="455760"/>
          </a:xfrm>
        </p:grpSpPr>
        <p:sp>
          <p:nvSpPr>
            <p:cNvPr id="389" name=""/>
            <p:cNvSpPr/>
            <p:nvPr/>
          </p:nvSpPr>
          <p:spPr>
            <a:xfrm flipH="1">
              <a:off x="5082120" y="5270400"/>
              <a:ext cx="524880" cy="4557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607720" y="5400360"/>
              <a:ext cx="5148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660640" y="5432760"/>
              <a:ext cx="51120" cy="97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713200" y="5400360"/>
              <a:ext cx="5112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572000" y="546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164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191120"/>
            <a:ext cx="8384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46306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103200" y="5468760"/>
            <a:ext cx="55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42670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42670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18360" y="468324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773320" y="5495760"/>
            <a:ext cx="55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1960" y="434340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781680" y="4038480"/>
          <a:ext cx="5335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038480"/>
                    <a:ext cx="533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981080" y="5562720"/>
          <a:ext cx="5511960" cy="7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562720"/>
                    <a:ext cx="551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011400" y="1951200"/>
            <a:ext cx="3308400" cy="26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11400" y="195120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11400" y="456732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19800" y="1950840"/>
            <a:ext cx="180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011400" y="1950840"/>
            <a:ext cx="180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11400" y="456732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11400" y="1950840"/>
            <a:ext cx="180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011400" y="4529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11400" y="195912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5056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60760" y="452916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60760" y="1959120"/>
            <a:ext cx="144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9992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108320" y="4529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08320" y="195912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4892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665600" y="4529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65600" y="195912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0476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214960" y="452916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14960" y="1959120"/>
            <a:ext cx="144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08120" y="4638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764320" y="452916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4320" y="1959120"/>
            <a:ext cx="144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0312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319800" y="452916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19800" y="195912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60400" y="4638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11400" y="45673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281640" y="4567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3520" y="45133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11400" y="41324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81640" y="41324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93520" y="40798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11400" y="369720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281640" y="3697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93520" y="36450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11400" y="32623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281640" y="3262320"/>
            <a:ext cx="38160" cy="1440"/>
          </a:xfrm>
          <a:prstGeom prst="line">
            <a:avLst/>
          </a:prstGeom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46160" y="320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11400" y="28274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81640" y="28274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9240" y="2774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1400" y="239400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281640" y="23940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39240" y="2340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1400" y="19591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281640" y="1959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39240" y="1905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011400" y="1950840"/>
            <a:ext cx="180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11400" y="3255840"/>
            <a:ext cx="952560" cy="106560"/>
          </a:xfrm>
          <a:custGeom>
            <a:avLst/>
            <a:gdLst/>
            <a:ahLst/>
            <a:rect l="l" t="t" r="r" b="b"/>
            <a:pathLst>
              <a:path w="600" h="67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2" y="0"/>
                </a:lnTo>
                <a:lnTo>
                  <a:pt x="67" y="0"/>
                </a:lnTo>
                <a:lnTo>
                  <a:pt x="72" y="0"/>
                </a:lnTo>
                <a:lnTo>
                  <a:pt x="77" y="0"/>
                </a:lnTo>
                <a:lnTo>
                  <a:pt x="81" y="0"/>
                </a:lnTo>
                <a:lnTo>
                  <a:pt x="86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5" y="0"/>
                </a:lnTo>
                <a:lnTo>
                  <a:pt x="120" y="0"/>
                </a:lnTo>
                <a:lnTo>
                  <a:pt x="125" y="0"/>
                </a:lnTo>
                <a:lnTo>
                  <a:pt x="129" y="0"/>
                </a:lnTo>
                <a:lnTo>
                  <a:pt x="134" y="0"/>
                </a:lnTo>
                <a:lnTo>
                  <a:pt x="139" y="0"/>
                </a:lnTo>
                <a:lnTo>
                  <a:pt x="144" y="0"/>
                </a:lnTo>
                <a:lnTo>
                  <a:pt x="149" y="0"/>
                </a:lnTo>
                <a:lnTo>
                  <a:pt x="153" y="0"/>
                </a:lnTo>
                <a:lnTo>
                  <a:pt x="158" y="0"/>
                </a:lnTo>
                <a:lnTo>
                  <a:pt x="163" y="0"/>
                </a:lnTo>
                <a:lnTo>
                  <a:pt x="168" y="0"/>
                </a:lnTo>
                <a:lnTo>
                  <a:pt x="173" y="0"/>
                </a:lnTo>
                <a:lnTo>
                  <a:pt x="177" y="0"/>
                </a:lnTo>
                <a:lnTo>
                  <a:pt x="182" y="0"/>
                </a:lnTo>
                <a:lnTo>
                  <a:pt x="187" y="0"/>
                </a:lnTo>
                <a:lnTo>
                  <a:pt x="192" y="0"/>
                </a:lnTo>
                <a:lnTo>
                  <a:pt x="197" y="0"/>
                </a:lnTo>
                <a:lnTo>
                  <a:pt x="201" y="0"/>
                </a:lnTo>
                <a:lnTo>
                  <a:pt x="206" y="0"/>
                </a:lnTo>
                <a:lnTo>
                  <a:pt x="211" y="0"/>
                </a:lnTo>
                <a:lnTo>
                  <a:pt x="216" y="0"/>
                </a:lnTo>
                <a:lnTo>
                  <a:pt x="221" y="0"/>
                </a:lnTo>
                <a:lnTo>
                  <a:pt x="225" y="0"/>
                </a:lnTo>
                <a:lnTo>
                  <a:pt x="230" y="0"/>
                </a:lnTo>
                <a:lnTo>
                  <a:pt x="235" y="0"/>
                </a:lnTo>
                <a:lnTo>
                  <a:pt x="240" y="0"/>
                </a:lnTo>
                <a:lnTo>
                  <a:pt x="245" y="0"/>
                </a:lnTo>
                <a:lnTo>
                  <a:pt x="249" y="0"/>
                </a:lnTo>
                <a:lnTo>
                  <a:pt x="254" y="0"/>
                </a:lnTo>
                <a:lnTo>
                  <a:pt x="259" y="0"/>
                </a:lnTo>
                <a:lnTo>
                  <a:pt x="264" y="0"/>
                </a:lnTo>
                <a:lnTo>
                  <a:pt x="269" y="0"/>
                </a:lnTo>
                <a:lnTo>
                  <a:pt x="273" y="0"/>
                </a:lnTo>
                <a:lnTo>
                  <a:pt x="278" y="0"/>
                </a:lnTo>
                <a:lnTo>
                  <a:pt x="283" y="0"/>
                </a:lnTo>
                <a:lnTo>
                  <a:pt x="288" y="0"/>
                </a:lnTo>
                <a:lnTo>
                  <a:pt x="293" y="0"/>
                </a:lnTo>
                <a:lnTo>
                  <a:pt x="297" y="0"/>
                </a:lnTo>
                <a:lnTo>
                  <a:pt x="302" y="0"/>
                </a:lnTo>
                <a:lnTo>
                  <a:pt x="307" y="0"/>
                </a:lnTo>
                <a:lnTo>
                  <a:pt x="312" y="0"/>
                </a:lnTo>
                <a:lnTo>
                  <a:pt x="317" y="0"/>
                </a:lnTo>
                <a:lnTo>
                  <a:pt x="321" y="0"/>
                </a:lnTo>
                <a:lnTo>
                  <a:pt x="326" y="0"/>
                </a:lnTo>
                <a:lnTo>
                  <a:pt x="331" y="0"/>
                </a:lnTo>
                <a:lnTo>
                  <a:pt x="336" y="0"/>
                </a:lnTo>
                <a:lnTo>
                  <a:pt x="341" y="0"/>
                </a:lnTo>
                <a:lnTo>
                  <a:pt x="346" y="0"/>
                </a:lnTo>
                <a:lnTo>
                  <a:pt x="350" y="0"/>
                </a:lnTo>
                <a:lnTo>
                  <a:pt x="355" y="0"/>
                </a:lnTo>
                <a:lnTo>
                  <a:pt x="360" y="0"/>
                </a:lnTo>
                <a:lnTo>
                  <a:pt x="365" y="0"/>
                </a:lnTo>
                <a:lnTo>
                  <a:pt x="370" y="0"/>
                </a:lnTo>
                <a:lnTo>
                  <a:pt x="374" y="0"/>
                </a:lnTo>
                <a:lnTo>
                  <a:pt x="379" y="0"/>
                </a:lnTo>
                <a:lnTo>
                  <a:pt x="384" y="0"/>
                </a:lnTo>
                <a:lnTo>
                  <a:pt x="389" y="0"/>
                </a:lnTo>
                <a:lnTo>
                  <a:pt x="394" y="0"/>
                </a:lnTo>
                <a:lnTo>
                  <a:pt x="398" y="0"/>
                </a:lnTo>
                <a:lnTo>
                  <a:pt x="403" y="0"/>
                </a:lnTo>
                <a:lnTo>
                  <a:pt x="408" y="0"/>
                </a:lnTo>
                <a:lnTo>
                  <a:pt x="413" y="0"/>
                </a:lnTo>
                <a:lnTo>
                  <a:pt x="418" y="0"/>
                </a:lnTo>
                <a:lnTo>
                  <a:pt x="422" y="0"/>
                </a:lnTo>
                <a:lnTo>
                  <a:pt x="427" y="0"/>
                </a:lnTo>
                <a:lnTo>
                  <a:pt x="432" y="0"/>
                </a:lnTo>
                <a:lnTo>
                  <a:pt x="437" y="0"/>
                </a:lnTo>
                <a:lnTo>
                  <a:pt x="442" y="0"/>
                </a:lnTo>
                <a:lnTo>
                  <a:pt x="446" y="0"/>
                </a:lnTo>
                <a:lnTo>
                  <a:pt x="451" y="0"/>
                </a:lnTo>
                <a:lnTo>
                  <a:pt x="456" y="0"/>
                </a:lnTo>
                <a:lnTo>
                  <a:pt x="461" y="0"/>
                </a:lnTo>
                <a:lnTo>
                  <a:pt x="466" y="0"/>
                </a:lnTo>
                <a:lnTo>
                  <a:pt x="470" y="0"/>
                </a:lnTo>
                <a:lnTo>
                  <a:pt x="475" y="0"/>
                </a:lnTo>
                <a:lnTo>
                  <a:pt x="480" y="0"/>
                </a:lnTo>
                <a:lnTo>
                  <a:pt x="485" y="0"/>
                </a:lnTo>
                <a:lnTo>
                  <a:pt x="490" y="0"/>
                </a:lnTo>
                <a:lnTo>
                  <a:pt x="494" y="0"/>
                </a:lnTo>
                <a:lnTo>
                  <a:pt x="499" y="0"/>
                </a:lnTo>
                <a:lnTo>
                  <a:pt x="504" y="0"/>
                </a:lnTo>
                <a:lnTo>
                  <a:pt x="509" y="0"/>
                </a:lnTo>
                <a:lnTo>
                  <a:pt x="514" y="0"/>
                </a:lnTo>
                <a:lnTo>
                  <a:pt x="518" y="0"/>
                </a:lnTo>
                <a:lnTo>
                  <a:pt x="523" y="0"/>
                </a:lnTo>
                <a:lnTo>
                  <a:pt x="528" y="0"/>
                </a:lnTo>
                <a:lnTo>
                  <a:pt x="533" y="0"/>
                </a:lnTo>
                <a:lnTo>
                  <a:pt x="538" y="0"/>
                </a:lnTo>
                <a:lnTo>
                  <a:pt x="542" y="4"/>
                </a:lnTo>
                <a:lnTo>
                  <a:pt x="547" y="4"/>
                </a:lnTo>
                <a:lnTo>
                  <a:pt x="552" y="4"/>
                </a:lnTo>
                <a:lnTo>
                  <a:pt x="557" y="4"/>
                </a:lnTo>
                <a:lnTo>
                  <a:pt x="562" y="4"/>
                </a:lnTo>
                <a:lnTo>
                  <a:pt x="566" y="4"/>
                </a:lnTo>
                <a:lnTo>
                  <a:pt x="571" y="9"/>
                </a:lnTo>
                <a:lnTo>
                  <a:pt x="576" y="14"/>
                </a:lnTo>
                <a:lnTo>
                  <a:pt x="581" y="19"/>
                </a:lnTo>
                <a:lnTo>
                  <a:pt x="586" y="24"/>
                </a:lnTo>
                <a:lnTo>
                  <a:pt x="586" y="28"/>
                </a:lnTo>
                <a:lnTo>
                  <a:pt x="590" y="33"/>
                </a:lnTo>
                <a:lnTo>
                  <a:pt x="595" y="43"/>
                </a:lnTo>
                <a:lnTo>
                  <a:pt x="600" y="52"/>
                </a:lnTo>
                <a:lnTo>
                  <a:pt x="600" y="67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3960" y="1981080"/>
            <a:ext cx="717480" cy="2281320"/>
          </a:xfrm>
          <a:custGeom>
            <a:avLst/>
            <a:gdLst/>
            <a:ahLst/>
            <a:rect l="l" t="t" r="r" b="b"/>
            <a:pathLst>
              <a:path w="452" h="1437">
                <a:moveTo>
                  <a:pt x="0" y="870"/>
                </a:moveTo>
                <a:lnTo>
                  <a:pt x="5" y="879"/>
                </a:lnTo>
                <a:lnTo>
                  <a:pt x="10" y="899"/>
                </a:lnTo>
                <a:lnTo>
                  <a:pt x="15" y="913"/>
                </a:lnTo>
                <a:lnTo>
                  <a:pt x="15" y="932"/>
                </a:lnTo>
                <a:lnTo>
                  <a:pt x="19" y="951"/>
                </a:lnTo>
                <a:lnTo>
                  <a:pt x="24" y="975"/>
                </a:lnTo>
                <a:lnTo>
                  <a:pt x="24" y="995"/>
                </a:lnTo>
                <a:lnTo>
                  <a:pt x="29" y="1019"/>
                </a:lnTo>
                <a:lnTo>
                  <a:pt x="34" y="1038"/>
                </a:lnTo>
                <a:lnTo>
                  <a:pt x="39" y="1057"/>
                </a:lnTo>
                <a:lnTo>
                  <a:pt x="39" y="1076"/>
                </a:lnTo>
                <a:lnTo>
                  <a:pt x="43" y="1091"/>
                </a:lnTo>
                <a:lnTo>
                  <a:pt x="48" y="1105"/>
                </a:lnTo>
                <a:lnTo>
                  <a:pt x="48" y="1120"/>
                </a:lnTo>
                <a:lnTo>
                  <a:pt x="53" y="1124"/>
                </a:lnTo>
                <a:lnTo>
                  <a:pt x="63" y="1129"/>
                </a:lnTo>
                <a:lnTo>
                  <a:pt x="67" y="1124"/>
                </a:lnTo>
                <a:lnTo>
                  <a:pt x="72" y="1115"/>
                </a:lnTo>
                <a:lnTo>
                  <a:pt x="77" y="1105"/>
                </a:lnTo>
                <a:lnTo>
                  <a:pt x="77" y="1091"/>
                </a:lnTo>
                <a:lnTo>
                  <a:pt x="82" y="1076"/>
                </a:lnTo>
                <a:lnTo>
                  <a:pt x="87" y="1057"/>
                </a:lnTo>
                <a:lnTo>
                  <a:pt x="87" y="1038"/>
                </a:lnTo>
                <a:lnTo>
                  <a:pt x="91" y="1014"/>
                </a:lnTo>
                <a:lnTo>
                  <a:pt x="96" y="990"/>
                </a:lnTo>
                <a:lnTo>
                  <a:pt x="101" y="966"/>
                </a:lnTo>
                <a:lnTo>
                  <a:pt x="101" y="942"/>
                </a:lnTo>
                <a:lnTo>
                  <a:pt x="106" y="913"/>
                </a:lnTo>
                <a:lnTo>
                  <a:pt x="111" y="889"/>
                </a:lnTo>
                <a:lnTo>
                  <a:pt x="115" y="860"/>
                </a:lnTo>
                <a:lnTo>
                  <a:pt x="115" y="831"/>
                </a:lnTo>
                <a:lnTo>
                  <a:pt x="120" y="803"/>
                </a:lnTo>
                <a:lnTo>
                  <a:pt x="125" y="769"/>
                </a:lnTo>
                <a:lnTo>
                  <a:pt x="125" y="735"/>
                </a:lnTo>
                <a:lnTo>
                  <a:pt x="130" y="697"/>
                </a:lnTo>
                <a:lnTo>
                  <a:pt x="135" y="658"/>
                </a:lnTo>
                <a:lnTo>
                  <a:pt x="139" y="615"/>
                </a:lnTo>
                <a:lnTo>
                  <a:pt x="139" y="572"/>
                </a:lnTo>
                <a:lnTo>
                  <a:pt x="144" y="529"/>
                </a:lnTo>
                <a:lnTo>
                  <a:pt x="149" y="481"/>
                </a:lnTo>
                <a:lnTo>
                  <a:pt x="149" y="433"/>
                </a:lnTo>
                <a:lnTo>
                  <a:pt x="154" y="385"/>
                </a:lnTo>
                <a:lnTo>
                  <a:pt x="159" y="332"/>
                </a:lnTo>
                <a:lnTo>
                  <a:pt x="163" y="284"/>
                </a:lnTo>
                <a:lnTo>
                  <a:pt x="163" y="236"/>
                </a:lnTo>
                <a:lnTo>
                  <a:pt x="168" y="192"/>
                </a:lnTo>
                <a:lnTo>
                  <a:pt x="173" y="149"/>
                </a:lnTo>
                <a:lnTo>
                  <a:pt x="178" y="111"/>
                </a:lnTo>
                <a:lnTo>
                  <a:pt x="178" y="77"/>
                </a:lnTo>
                <a:lnTo>
                  <a:pt x="183" y="53"/>
                </a:lnTo>
                <a:lnTo>
                  <a:pt x="187" y="29"/>
                </a:lnTo>
                <a:lnTo>
                  <a:pt x="187" y="10"/>
                </a:lnTo>
                <a:lnTo>
                  <a:pt x="192" y="0"/>
                </a:lnTo>
                <a:lnTo>
                  <a:pt x="197" y="0"/>
                </a:lnTo>
                <a:lnTo>
                  <a:pt x="202" y="5"/>
                </a:lnTo>
                <a:lnTo>
                  <a:pt x="202" y="19"/>
                </a:lnTo>
                <a:lnTo>
                  <a:pt x="207" y="39"/>
                </a:lnTo>
                <a:lnTo>
                  <a:pt x="211" y="67"/>
                </a:lnTo>
                <a:lnTo>
                  <a:pt x="211" y="101"/>
                </a:lnTo>
                <a:lnTo>
                  <a:pt x="216" y="144"/>
                </a:lnTo>
                <a:lnTo>
                  <a:pt x="221" y="188"/>
                </a:lnTo>
                <a:lnTo>
                  <a:pt x="226" y="236"/>
                </a:lnTo>
                <a:lnTo>
                  <a:pt x="226" y="288"/>
                </a:lnTo>
                <a:lnTo>
                  <a:pt x="231" y="341"/>
                </a:lnTo>
                <a:lnTo>
                  <a:pt x="235" y="389"/>
                </a:lnTo>
                <a:lnTo>
                  <a:pt x="240" y="442"/>
                </a:lnTo>
                <a:lnTo>
                  <a:pt x="240" y="490"/>
                </a:lnTo>
                <a:lnTo>
                  <a:pt x="245" y="538"/>
                </a:lnTo>
                <a:lnTo>
                  <a:pt x="250" y="586"/>
                </a:lnTo>
                <a:lnTo>
                  <a:pt x="250" y="630"/>
                </a:lnTo>
                <a:lnTo>
                  <a:pt x="255" y="668"/>
                </a:lnTo>
                <a:lnTo>
                  <a:pt x="259" y="711"/>
                </a:lnTo>
                <a:lnTo>
                  <a:pt x="264" y="750"/>
                </a:lnTo>
                <a:lnTo>
                  <a:pt x="264" y="793"/>
                </a:lnTo>
                <a:lnTo>
                  <a:pt x="269" y="831"/>
                </a:lnTo>
                <a:lnTo>
                  <a:pt x="274" y="875"/>
                </a:lnTo>
                <a:lnTo>
                  <a:pt x="279" y="918"/>
                </a:lnTo>
                <a:lnTo>
                  <a:pt x="279" y="961"/>
                </a:lnTo>
                <a:lnTo>
                  <a:pt x="284" y="1009"/>
                </a:lnTo>
                <a:lnTo>
                  <a:pt x="288" y="1052"/>
                </a:lnTo>
                <a:lnTo>
                  <a:pt x="288" y="1100"/>
                </a:lnTo>
                <a:lnTo>
                  <a:pt x="293" y="1144"/>
                </a:lnTo>
                <a:lnTo>
                  <a:pt x="298" y="1187"/>
                </a:lnTo>
                <a:lnTo>
                  <a:pt x="303" y="1230"/>
                </a:lnTo>
                <a:lnTo>
                  <a:pt x="303" y="1269"/>
                </a:lnTo>
                <a:lnTo>
                  <a:pt x="308" y="1307"/>
                </a:lnTo>
                <a:lnTo>
                  <a:pt x="312" y="1341"/>
                </a:lnTo>
                <a:lnTo>
                  <a:pt x="312" y="1369"/>
                </a:lnTo>
                <a:lnTo>
                  <a:pt x="317" y="1393"/>
                </a:lnTo>
                <a:lnTo>
                  <a:pt x="322" y="1413"/>
                </a:lnTo>
                <a:lnTo>
                  <a:pt x="327" y="1427"/>
                </a:lnTo>
                <a:lnTo>
                  <a:pt x="327" y="1437"/>
                </a:lnTo>
                <a:lnTo>
                  <a:pt x="332" y="1437"/>
                </a:lnTo>
                <a:lnTo>
                  <a:pt x="336" y="1437"/>
                </a:lnTo>
                <a:lnTo>
                  <a:pt x="341" y="1427"/>
                </a:lnTo>
                <a:lnTo>
                  <a:pt x="341" y="1418"/>
                </a:lnTo>
                <a:lnTo>
                  <a:pt x="346" y="1403"/>
                </a:lnTo>
                <a:lnTo>
                  <a:pt x="351" y="1384"/>
                </a:lnTo>
                <a:lnTo>
                  <a:pt x="351" y="1360"/>
                </a:lnTo>
                <a:lnTo>
                  <a:pt x="356" y="1336"/>
                </a:lnTo>
                <a:lnTo>
                  <a:pt x="360" y="1312"/>
                </a:lnTo>
                <a:lnTo>
                  <a:pt x="365" y="1288"/>
                </a:lnTo>
                <a:lnTo>
                  <a:pt x="365" y="1259"/>
                </a:lnTo>
                <a:lnTo>
                  <a:pt x="370" y="1235"/>
                </a:lnTo>
                <a:lnTo>
                  <a:pt x="375" y="1211"/>
                </a:lnTo>
                <a:lnTo>
                  <a:pt x="375" y="1187"/>
                </a:lnTo>
                <a:lnTo>
                  <a:pt x="380" y="1163"/>
                </a:lnTo>
                <a:lnTo>
                  <a:pt x="384" y="1139"/>
                </a:lnTo>
                <a:lnTo>
                  <a:pt x="389" y="1120"/>
                </a:lnTo>
                <a:lnTo>
                  <a:pt x="389" y="1096"/>
                </a:lnTo>
                <a:lnTo>
                  <a:pt x="394" y="1076"/>
                </a:lnTo>
                <a:lnTo>
                  <a:pt x="399" y="1052"/>
                </a:lnTo>
                <a:lnTo>
                  <a:pt x="404" y="1033"/>
                </a:lnTo>
                <a:lnTo>
                  <a:pt x="404" y="1009"/>
                </a:lnTo>
                <a:lnTo>
                  <a:pt x="408" y="985"/>
                </a:lnTo>
                <a:lnTo>
                  <a:pt x="413" y="956"/>
                </a:lnTo>
                <a:lnTo>
                  <a:pt x="413" y="932"/>
                </a:lnTo>
                <a:lnTo>
                  <a:pt x="418" y="903"/>
                </a:lnTo>
                <a:lnTo>
                  <a:pt x="423" y="875"/>
                </a:lnTo>
                <a:lnTo>
                  <a:pt x="428" y="846"/>
                </a:lnTo>
                <a:lnTo>
                  <a:pt x="428" y="817"/>
                </a:lnTo>
                <a:lnTo>
                  <a:pt x="432" y="788"/>
                </a:lnTo>
                <a:lnTo>
                  <a:pt x="437" y="759"/>
                </a:lnTo>
                <a:lnTo>
                  <a:pt x="442" y="730"/>
                </a:lnTo>
                <a:lnTo>
                  <a:pt x="442" y="702"/>
                </a:lnTo>
                <a:lnTo>
                  <a:pt x="447" y="673"/>
                </a:lnTo>
                <a:lnTo>
                  <a:pt x="452" y="654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1440" y="2873520"/>
            <a:ext cx="860400" cy="541080"/>
          </a:xfrm>
          <a:custGeom>
            <a:avLst/>
            <a:gdLst/>
            <a:ahLst/>
            <a:rect l="l" t="t" r="r" b="b"/>
            <a:pathLst>
              <a:path w="542" h="341">
                <a:moveTo>
                  <a:pt x="0" y="92"/>
                </a:moveTo>
                <a:lnTo>
                  <a:pt x="0" y="68"/>
                </a:lnTo>
                <a:lnTo>
                  <a:pt x="4" y="48"/>
                </a:lnTo>
                <a:lnTo>
                  <a:pt x="9" y="34"/>
                </a:lnTo>
                <a:lnTo>
                  <a:pt x="14" y="15"/>
                </a:lnTo>
                <a:lnTo>
                  <a:pt x="19" y="5"/>
                </a:lnTo>
                <a:lnTo>
                  <a:pt x="24" y="0"/>
                </a:lnTo>
                <a:lnTo>
                  <a:pt x="28" y="0"/>
                </a:lnTo>
                <a:lnTo>
                  <a:pt x="33" y="5"/>
                </a:lnTo>
                <a:lnTo>
                  <a:pt x="38" y="15"/>
                </a:lnTo>
                <a:lnTo>
                  <a:pt x="43" y="20"/>
                </a:lnTo>
                <a:lnTo>
                  <a:pt x="48" y="24"/>
                </a:lnTo>
                <a:lnTo>
                  <a:pt x="52" y="29"/>
                </a:lnTo>
                <a:lnTo>
                  <a:pt x="52" y="34"/>
                </a:lnTo>
                <a:lnTo>
                  <a:pt x="67" y="44"/>
                </a:lnTo>
                <a:lnTo>
                  <a:pt x="62" y="44"/>
                </a:lnTo>
                <a:lnTo>
                  <a:pt x="67" y="44"/>
                </a:lnTo>
                <a:lnTo>
                  <a:pt x="72" y="48"/>
                </a:lnTo>
                <a:lnTo>
                  <a:pt x="76" y="48"/>
                </a:lnTo>
                <a:lnTo>
                  <a:pt x="81" y="53"/>
                </a:lnTo>
                <a:lnTo>
                  <a:pt x="86" y="58"/>
                </a:lnTo>
                <a:lnTo>
                  <a:pt x="91" y="63"/>
                </a:lnTo>
                <a:lnTo>
                  <a:pt x="96" y="68"/>
                </a:lnTo>
                <a:lnTo>
                  <a:pt x="101" y="72"/>
                </a:lnTo>
                <a:lnTo>
                  <a:pt x="101" y="82"/>
                </a:lnTo>
                <a:lnTo>
                  <a:pt x="105" y="92"/>
                </a:lnTo>
                <a:lnTo>
                  <a:pt x="110" y="101"/>
                </a:lnTo>
                <a:lnTo>
                  <a:pt x="115" y="111"/>
                </a:lnTo>
                <a:lnTo>
                  <a:pt x="115" y="120"/>
                </a:lnTo>
                <a:lnTo>
                  <a:pt x="120" y="135"/>
                </a:lnTo>
                <a:lnTo>
                  <a:pt x="125" y="144"/>
                </a:lnTo>
                <a:lnTo>
                  <a:pt x="125" y="159"/>
                </a:lnTo>
                <a:lnTo>
                  <a:pt x="129" y="168"/>
                </a:lnTo>
                <a:lnTo>
                  <a:pt x="134" y="183"/>
                </a:lnTo>
                <a:lnTo>
                  <a:pt x="139" y="192"/>
                </a:lnTo>
                <a:lnTo>
                  <a:pt x="139" y="202"/>
                </a:lnTo>
                <a:lnTo>
                  <a:pt x="144" y="212"/>
                </a:lnTo>
                <a:lnTo>
                  <a:pt x="149" y="221"/>
                </a:lnTo>
                <a:lnTo>
                  <a:pt x="149" y="226"/>
                </a:lnTo>
                <a:lnTo>
                  <a:pt x="153" y="236"/>
                </a:lnTo>
                <a:lnTo>
                  <a:pt x="158" y="241"/>
                </a:lnTo>
                <a:lnTo>
                  <a:pt x="163" y="245"/>
                </a:lnTo>
                <a:lnTo>
                  <a:pt x="163" y="250"/>
                </a:lnTo>
                <a:lnTo>
                  <a:pt x="168" y="255"/>
                </a:lnTo>
                <a:lnTo>
                  <a:pt x="177" y="260"/>
                </a:lnTo>
                <a:lnTo>
                  <a:pt x="177" y="265"/>
                </a:lnTo>
                <a:lnTo>
                  <a:pt x="187" y="269"/>
                </a:lnTo>
                <a:lnTo>
                  <a:pt x="187" y="274"/>
                </a:lnTo>
                <a:lnTo>
                  <a:pt x="192" y="279"/>
                </a:lnTo>
                <a:lnTo>
                  <a:pt x="197" y="284"/>
                </a:lnTo>
                <a:lnTo>
                  <a:pt x="201" y="289"/>
                </a:lnTo>
                <a:lnTo>
                  <a:pt x="201" y="293"/>
                </a:lnTo>
                <a:lnTo>
                  <a:pt x="206" y="298"/>
                </a:lnTo>
                <a:lnTo>
                  <a:pt x="211" y="303"/>
                </a:lnTo>
                <a:lnTo>
                  <a:pt x="216" y="308"/>
                </a:lnTo>
                <a:lnTo>
                  <a:pt x="216" y="313"/>
                </a:lnTo>
                <a:lnTo>
                  <a:pt x="221" y="317"/>
                </a:lnTo>
                <a:lnTo>
                  <a:pt x="225" y="322"/>
                </a:lnTo>
                <a:lnTo>
                  <a:pt x="225" y="327"/>
                </a:lnTo>
                <a:lnTo>
                  <a:pt x="230" y="332"/>
                </a:lnTo>
                <a:lnTo>
                  <a:pt x="245" y="341"/>
                </a:lnTo>
                <a:lnTo>
                  <a:pt x="240" y="341"/>
                </a:lnTo>
                <a:lnTo>
                  <a:pt x="245" y="341"/>
                </a:lnTo>
                <a:lnTo>
                  <a:pt x="249" y="341"/>
                </a:lnTo>
                <a:lnTo>
                  <a:pt x="254" y="341"/>
                </a:lnTo>
                <a:lnTo>
                  <a:pt x="259" y="341"/>
                </a:lnTo>
                <a:lnTo>
                  <a:pt x="264" y="337"/>
                </a:lnTo>
                <a:lnTo>
                  <a:pt x="269" y="337"/>
                </a:lnTo>
                <a:lnTo>
                  <a:pt x="273" y="332"/>
                </a:lnTo>
                <a:lnTo>
                  <a:pt x="278" y="327"/>
                </a:lnTo>
                <a:lnTo>
                  <a:pt x="283" y="327"/>
                </a:lnTo>
                <a:lnTo>
                  <a:pt x="288" y="322"/>
                </a:lnTo>
                <a:lnTo>
                  <a:pt x="293" y="322"/>
                </a:lnTo>
                <a:lnTo>
                  <a:pt x="297" y="322"/>
                </a:lnTo>
                <a:lnTo>
                  <a:pt x="302" y="317"/>
                </a:lnTo>
                <a:lnTo>
                  <a:pt x="307" y="313"/>
                </a:lnTo>
                <a:lnTo>
                  <a:pt x="312" y="313"/>
                </a:lnTo>
                <a:lnTo>
                  <a:pt x="317" y="308"/>
                </a:lnTo>
                <a:lnTo>
                  <a:pt x="321" y="303"/>
                </a:lnTo>
                <a:lnTo>
                  <a:pt x="326" y="298"/>
                </a:lnTo>
                <a:lnTo>
                  <a:pt x="331" y="293"/>
                </a:lnTo>
                <a:lnTo>
                  <a:pt x="336" y="293"/>
                </a:lnTo>
                <a:lnTo>
                  <a:pt x="341" y="284"/>
                </a:lnTo>
                <a:lnTo>
                  <a:pt x="345" y="279"/>
                </a:lnTo>
                <a:lnTo>
                  <a:pt x="350" y="274"/>
                </a:lnTo>
                <a:lnTo>
                  <a:pt x="350" y="265"/>
                </a:lnTo>
                <a:lnTo>
                  <a:pt x="355" y="260"/>
                </a:lnTo>
                <a:lnTo>
                  <a:pt x="360" y="255"/>
                </a:lnTo>
                <a:lnTo>
                  <a:pt x="365" y="250"/>
                </a:lnTo>
                <a:lnTo>
                  <a:pt x="365" y="245"/>
                </a:lnTo>
                <a:lnTo>
                  <a:pt x="370" y="241"/>
                </a:lnTo>
                <a:lnTo>
                  <a:pt x="374" y="236"/>
                </a:lnTo>
                <a:lnTo>
                  <a:pt x="379" y="231"/>
                </a:lnTo>
                <a:lnTo>
                  <a:pt x="379" y="226"/>
                </a:lnTo>
                <a:lnTo>
                  <a:pt x="384" y="221"/>
                </a:lnTo>
                <a:lnTo>
                  <a:pt x="389" y="217"/>
                </a:lnTo>
                <a:lnTo>
                  <a:pt x="394" y="212"/>
                </a:lnTo>
                <a:lnTo>
                  <a:pt x="408" y="202"/>
                </a:lnTo>
                <a:lnTo>
                  <a:pt x="403" y="202"/>
                </a:lnTo>
                <a:lnTo>
                  <a:pt x="408" y="202"/>
                </a:lnTo>
                <a:lnTo>
                  <a:pt x="413" y="197"/>
                </a:lnTo>
                <a:lnTo>
                  <a:pt x="418" y="197"/>
                </a:lnTo>
                <a:lnTo>
                  <a:pt x="422" y="197"/>
                </a:lnTo>
                <a:lnTo>
                  <a:pt x="427" y="197"/>
                </a:lnTo>
                <a:lnTo>
                  <a:pt x="432" y="192"/>
                </a:lnTo>
                <a:lnTo>
                  <a:pt x="437" y="192"/>
                </a:lnTo>
                <a:lnTo>
                  <a:pt x="442" y="192"/>
                </a:lnTo>
                <a:lnTo>
                  <a:pt x="446" y="192"/>
                </a:lnTo>
                <a:lnTo>
                  <a:pt x="451" y="192"/>
                </a:lnTo>
                <a:lnTo>
                  <a:pt x="456" y="192"/>
                </a:lnTo>
                <a:lnTo>
                  <a:pt x="461" y="192"/>
                </a:lnTo>
                <a:lnTo>
                  <a:pt x="466" y="192"/>
                </a:lnTo>
                <a:lnTo>
                  <a:pt x="470" y="192"/>
                </a:lnTo>
                <a:lnTo>
                  <a:pt x="475" y="197"/>
                </a:lnTo>
                <a:lnTo>
                  <a:pt x="480" y="197"/>
                </a:lnTo>
                <a:lnTo>
                  <a:pt x="485" y="197"/>
                </a:lnTo>
                <a:lnTo>
                  <a:pt x="490" y="202"/>
                </a:lnTo>
                <a:lnTo>
                  <a:pt x="494" y="207"/>
                </a:lnTo>
                <a:lnTo>
                  <a:pt x="499" y="207"/>
                </a:lnTo>
                <a:lnTo>
                  <a:pt x="504" y="212"/>
                </a:lnTo>
                <a:lnTo>
                  <a:pt x="509" y="217"/>
                </a:lnTo>
                <a:lnTo>
                  <a:pt x="514" y="221"/>
                </a:lnTo>
                <a:lnTo>
                  <a:pt x="518" y="226"/>
                </a:lnTo>
                <a:lnTo>
                  <a:pt x="523" y="226"/>
                </a:lnTo>
                <a:lnTo>
                  <a:pt x="528" y="231"/>
                </a:lnTo>
                <a:lnTo>
                  <a:pt x="533" y="231"/>
                </a:lnTo>
                <a:lnTo>
                  <a:pt x="538" y="236"/>
                </a:lnTo>
                <a:lnTo>
                  <a:pt x="542" y="241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41840" y="3247920"/>
            <a:ext cx="785880" cy="46080"/>
          </a:xfrm>
          <a:custGeom>
            <a:avLst/>
            <a:gdLst/>
            <a:ahLst/>
            <a:rect l="l" t="t" r="r" b="b"/>
            <a:pathLst>
              <a:path w="495" h="29">
                <a:moveTo>
                  <a:pt x="0" y="5"/>
                </a:moveTo>
                <a:lnTo>
                  <a:pt x="5" y="5"/>
                </a:lnTo>
                <a:lnTo>
                  <a:pt x="10" y="9"/>
                </a:lnTo>
                <a:lnTo>
                  <a:pt x="15" y="9"/>
                </a:lnTo>
                <a:lnTo>
                  <a:pt x="20" y="9"/>
                </a:lnTo>
                <a:lnTo>
                  <a:pt x="24" y="14"/>
                </a:lnTo>
                <a:lnTo>
                  <a:pt x="29" y="14"/>
                </a:lnTo>
                <a:lnTo>
                  <a:pt x="34" y="19"/>
                </a:lnTo>
                <a:lnTo>
                  <a:pt x="39" y="19"/>
                </a:lnTo>
                <a:lnTo>
                  <a:pt x="44" y="19"/>
                </a:lnTo>
                <a:lnTo>
                  <a:pt x="48" y="24"/>
                </a:lnTo>
                <a:lnTo>
                  <a:pt x="53" y="24"/>
                </a:lnTo>
                <a:lnTo>
                  <a:pt x="58" y="24"/>
                </a:lnTo>
                <a:lnTo>
                  <a:pt x="63" y="29"/>
                </a:lnTo>
                <a:lnTo>
                  <a:pt x="68" y="29"/>
                </a:lnTo>
                <a:lnTo>
                  <a:pt x="72" y="29"/>
                </a:lnTo>
                <a:lnTo>
                  <a:pt x="77" y="29"/>
                </a:lnTo>
                <a:lnTo>
                  <a:pt x="82" y="29"/>
                </a:lnTo>
                <a:lnTo>
                  <a:pt x="87" y="29"/>
                </a:lnTo>
                <a:lnTo>
                  <a:pt x="92" y="29"/>
                </a:lnTo>
                <a:lnTo>
                  <a:pt x="97" y="29"/>
                </a:lnTo>
                <a:lnTo>
                  <a:pt x="101" y="29"/>
                </a:lnTo>
                <a:lnTo>
                  <a:pt x="106" y="29"/>
                </a:lnTo>
                <a:lnTo>
                  <a:pt x="111" y="24"/>
                </a:lnTo>
                <a:lnTo>
                  <a:pt x="116" y="24"/>
                </a:lnTo>
                <a:lnTo>
                  <a:pt x="121" y="24"/>
                </a:lnTo>
                <a:lnTo>
                  <a:pt x="125" y="24"/>
                </a:lnTo>
                <a:lnTo>
                  <a:pt x="130" y="24"/>
                </a:lnTo>
                <a:lnTo>
                  <a:pt x="135" y="19"/>
                </a:lnTo>
                <a:lnTo>
                  <a:pt x="140" y="19"/>
                </a:lnTo>
                <a:lnTo>
                  <a:pt x="145" y="19"/>
                </a:lnTo>
                <a:lnTo>
                  <a:pt x="149" y="19"/>
                </a:lnTo>
                <a:lnTo>
                  <a:pt x="154" y="19"/>
                </a:lnTo>
                <a:lnTo>
                  <a:pt x="159" y="19"/>
                </a:lnTo>
                <a:lnTo>
                  <a:pt x="164" y="14"/>
                </a:lnTo>
                <a:lnTo>
                  <a:pt x="169" y="14"/>
                </a:lnTo>
                <a:lnTo>
                  <a:pt x="173" y="14"/>
                </a:lnTo>
                <a:lnTo>
                  <a:pt x="178" y="14"/>
                </a:lnTo>
                <a:lnTo>
                  <a:pt x="183" y="14"/>
                </a:lnTo>
                <a:lnTo>
                  <a:pt x="188" y="9"/>
                </a:lnTo>
                <a:lnTo>
                  <a:pt x="193" y="9"/>
                </a:lnTo>
                <a:lnTo>
                  <a:pt x="197" y="9"/>
                </a:lnTo>
                <a:lnTo>
                  <a:pt x="202" y="5"/>
                </a:lnTo>
                <a:lnTo>
                  <a:pt x="207" y="5"/>
                </a:lnTo>
                <a:lnTo>
                  <a:pt x="212" y="5"/>
                </a:lnTo>
                <a:lnTo>
                  <a:pt x="217" y="5"/>
                </a:lnTo>
                <a:lnTo>
                  <a:pt x="221" y="5"/>
                </a:lnTo>
                <a:lnTo>
                  <a:pt x="226" y="5"/>
                </a:lnTo>
                <a:lnTo>
                  <a:pt x="231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50" y="0"/>
                </a:lnTo>
                <a:lnTo>
                  <a:pt x="255" y="0"/>
                </a:lnTo>
                <a:lnTo>
                  <a:pt x="260" y="0"/>
                </a:lnTo>
                <a:lnTo>
                  <a:pt x="265" y="0"/>
                </a:lnTo>
                <a:lnTo>
                  <a:pt x="269" y="0"/>
                </a:lnTo>
                <a:lnTo>
                  <a:pt x="274" y="0"/>
                </a:lnTo>
                <a:lnTo>
                  <a:pt x="279" y="0"/>
                </a:lnTo>
                <a:lnTo>
                  <a:pt x="284" y="0"/>
                </a:lnTo>
                <a:lnTo>
                  <a:pt x="289" y="0"/>
                </a:lnTo>
                <a:lnTo>
                  <a:pt x="293" y="0"/>
                </a:lnTo>
                <a:lnTo>
                  <a:pt x="298" y="0"/>
                </a:lnTo>
                <a:lnTo>
                  <a:pt x="303" y="0"/>
                </a:lnTo>
                <a:lnTo>
                  <a:pt x="308" y="0"/>
                </a:lnTo>
                <a:lnTo>
                  <a:pt x="313" y="0"/>
                </a:lnTo>
                <a:lnTo>
                  <a:pt x="317" y="0"/>
                </a:lnTo>
                <a:lnTo>
                  <a:pt x="322" y="0"/>
                </a:lnTo>
                <a:lnTo>
                  <a:pt x="327" y="0"/>
                </a:lnTo>
                <a:lnTo>
                  <a:pt x="332" y="0"/>
                </a:lnTo>
                <a:lnTo>
                  <a:pt x="337" y="0"/>
                </a:lnTo>
                <a:lnTo>
                  <a:pt x="341" y="0"/>
                </a:lnTo>
                <a:lnTo>
                  <a:pt x="346" y="0"/>
                </a:lnTo>
                <a:lnTo>
                  <a:pt x="351" y="5"/>
                </a:lnTo>
                <a:lnTo>
                  <a:pt x="356" y="5"/>
                </a:lnTo>
                <a:lnTo>
                  <a:pt x="361" y="5"/>
                </a:lnTo>
                <a:lnTo>
                  <a:pt x="366" y="5"/>
                </a:lnTo>
                <a:lnTo>
                  <a:pt x="370" y="5"/>
                </a:lnTo>
                <a:lnTo>
                  <a:pt x="375" y="5"/>
                </a:lnTo>
                <a:lnTo>
                  <a:pt x="380" y="5"/>
                </a:lnTo>
                <a:lnTo>
                  <a:pt x="385" y="5"/>
                </a:lnTo>
                <a:lnTo>
                  <a:pt x="390" y="5"/>
                </a:lnTo>
                <a:lnTo>
                  <a:pt x="394" y="9"/>
                </a:lnTo>
                <a:lnTo>
                  <a:pt x="399" y="9"/>
                </a:lnTo>
                <a:lnTo>
                  <a:pt x="404" y="9"/>
                </a:lnTo>
                <a:lnTo>
                  <a:pt x="409" y="9"/>
                </a:lnTo>
                <a:lnTo>
                  <a:pt x="414" y="9"/>
                </a:lnTo>
                <a:lnTo>
                  <a:pt x="418" y="9"/>
                </a:lnTo>
                <a:lnTo>
                  <a:pt x="423" y="9"/>
                </a:lnTo>
                <a:lnTo>
                  <a:pt x="428" y="9"/>
                </a:lnTo>
                <a:lnTo>
                  <a:pt x="433" y="9"/>
                </a:lnTo>
                <a:lnTo>
                  <a:pt x="438" y="14"/>
                </a:lnTo>
                <a:lnTo>
                  <a:pt x="442" y="14"/>
                </a:lnTo>
                <a:lnTo>
                  <a:pt x="447" y="14"/>
                </a:lnTo>
                <a:lnTo>
                  <a:pt x="452" y="14"/>
                </a:lnTo>
                <a:lnTo>
                  <a:pt x="457" y="14"/>
                </a:lnTo>
                <a:lnTo>
                  <a:pt x="462" y="14"/>
                </a:lnTo>
                <a:lnTo>
                  <a:pt x="466" y="14"/>
                </a:lnTo>
                <a:lnTo>
                  <a:pt x="471" y="14"/>
                </a:lnTo>
                <a:lnTo>
                  <a:pt x="476" y="14"/>
                </a:lnTo>
                <a:lnTo>
                  <a:pt x="481" y="14"/>
                </a:lnTo>
                <a:lnTo>
                  <a:pt x="486" y="14"/>
                </a:lnTo>
                <a:lnTo>
                  <a:pt x="490" y="14"/>
                </a:lnTo>
                <a:lnTo>
                  <a:pt x="495" y="14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11400" y="3218040"/>
            <a:ext cx="952560" cy="158400"/>
          </a:xfrm>
          <a:custGeom>
            <a:avLst/>
            <a:gdLst/>
            <a:ahLst/>
            <a:rect l="l" t="t" r="r" b="b"/>
            <a:pathLst>
              <a:path w="600" h="100">
                <a:moveTo>
                  <a:pt x="0" y="24"/>
                </a:moveTo>
                <a:lnTo>
                  <a:pt x="4" y="24"/>
                </a:lnTo>
                <a:lnTo>
                  <a:pt x="9" y="19"/>
                </a:lnTo>
                <a:lnTo>
                  <a:pt x="14" y="19"/>
                </a:lnTo>
                <a:lnTo>
                  <a:pt x="19" y="19"/>
                </a:lnTo>
                <a:lnTo>
                  <a:pt x="24" y="19"/>
                </a:lnTo>
                <a:lnTo>
                  <a:pt x="28" y="19"/>
                </a:lnTo>
                <a:lnTo>
                  <a:pt x="33" y="24"/>
                </a:lnTo>
                <a:lnTo>
                  <a:pt x="38" y="24"/>
                </a:lnTo>
                <a:lnTo>
                  <a:pt x="43" y="24"/>
                </a:lnTo>
                <a:lnTo>
                  <a:pt x="48" y="28"/>
                </a:lnTo>
                <a:lnTo>
                  <a:pt x="52" y="28"/>
                </a:lnTo>
                <a:lnTo>
                  <a:pt x="57" y="28"/>
                </a:lnTo>
                <a:lnTo>
                  <a:pt x="62" y="28"/>
                </a:lnTo>
                <a:lnTo>
                  <a:pt x="67" y="28"/>
                </a:lnTo>
                <a:lnTo>
                  <a:pt x="72" y="28"/>
                </a:lnTo>
                <a:lnTo>
                  <a:pt x="77" y="28"/>
                </a:lnTo>
                <a:lnTo>
                  <a:pt x="81" y="28"/>
                </a:lnTo>
                <a:lnTo>
                  <a:pt x="86" y="24"/>
                </a:lnTo>
                <a:lnTo>
                  <a:pt x="91" y="24"/>
                </a:lnTo>
                <a:lnTo>
                  <a:pt x="96" y="19"/>
                </a:lnTo>
                <a:lnTo>
                  <a:pt x="101" y="19"/>
                </a:lnTo>
                <a:lnTo>
                  <a:pt x="105" y="19"/>
                </a:lnTo>
                <a:lnTo>
                  <a:pt x="110" y="14"/>
                </a:lnTo>
                <a:lnTo>
                  <a:pt x="115" y="14"/>
                </a:lnTo>
                <a:lnTo>
                  <a:pt x="120" y="19"/>
                </a:lnTo>
                <a:lnTo>
                  <a:pt x="125" y="19"/>
                </a:lnTo>
                <a:lnTo>
                  <a:pt x="129" y="19"/>
                </a:lnTo>
                <a:lnTo>
                  <a:pt x="134" y="24"/>
                </a:lnTo>
                <a:lnTo>
                  <a:pt x="139" y="24"/>
                </a:lnTo>
                <a:lnTo>
                  <a:pt x="144" y="24"/>
                </a:lnTo>
                <a:lnTo>
                  <a:pt x="149" y="28"/>
                </a:lnTo>
                <a:lnTo>
                  <a:pt x="153" y="28"/>
                </a:lnTo>
                <a:lnTo>
                  <a:pt x="158" y="28"/>
                </a:lnTo>
                <a:lnTo>
                  <a:pt x="163" y="28"/>
                </a:lnTo>
                <a:lnTo>
                  <a:pt x="168" y="28"/>
                </a:lnTo>
                <a:lnTo>
                  <a:pt x="173" y="24"/>
                </a:lnTo>
                <a:lnTo>
                  <a:pt x="177" y="24"/>
                </a:lnTo>
                <a:lnTo>
                  <a:pt x="182" y="24"/>
                </a:lnTo>
                <a:lnTo>
                  <a:pt x="187" y="19"/>
                </a:lnTo>
                <a:lnTo>
                  <a:pt x="192" y="14"/>
                </a:lnTo>
                <a:lnTo>
                  <a:pt x="197" y="14"/>
                </a:lnTo>
                <a:lnTo>
                  <a:pt x="201" y="14"/>
                </a:lnTo>
                <a:lnTo>
                  <a:pt x="206" y="14"/>
                </a:lnTo>
                <a:lnTo>
                  <a:pt x="211" y="14"/>
                </a:lnTo>
                <a:lnTo>
                  <a:pt x="216" y="14"/>
                </a:lnTo>
                <a:lnTo>
                  <a:pt x="221" y="19"/>
                </a:lnTo>
                <a:lnTo>
                  <a:pt x="225" y="19"/>
                </a:lnTo>
                <a:lnTo>
                  <a:pt x="230" y="24"/>
                </a:lnTo>
                <a:lnTo>
                  <a:pt x="235" y="24"/>
                </a:lnTo>
                <a:lnTo>
                  <a:pt x="240" y="28"/>
                </a:lnTo>
                <a:lnTo>
                  <a:pt x="245" y="28"/>
                </a:lnTo>
                <a:lnTo>
                  <a:pt x="249" y="28"/>
                </a:lnTo>
                <a:lnTo>
                  <a:pt x="254" y="28"/>
                </a:lnTo>
                <a:lnTo>
                  <a:pt x="259" y="24"/>
                </a:lnTo>
                <a:lnTo>
                  <a:pt x="264" y="24"/>
                </a:lnTo>
                <a:lnTo>
                  <a:pt x="269" y="19"/>
                </a:lnTo>
                <a:lnTo>
                  <a:pt x="273" y="14"/>
                </a:lnTo>
                <a:lnTo>
                  <a:pt x="278" y="14"/>
                </a:lnTo>
                <a:lnTo>
                  <a:pt x="283" y="9"/>
                </a:lnTo>
                <a:lnTo>
                  <a:pt x="288" y="9"/>
                </a:lnTo>
                <a:lnTo>
                  <a:pt x="293" y="9"/>
                </a:lnTo>
                <a:lnTo>
                  <a:pt x="297" y="9"/>
                </a:lnTo>
                <a:lnTo>
                  <a:pt x="302" y="9"/>
                </a:lnTo>
                <a:lnTo>
                  <a:pt x="307" y="9"/>
                </a:lnTo>
                <a:lnTo>
                  <a:pt x="312" y="14"/>
                </a:lnTo>
                <a:lnTo>
                  <a:pt x="317" y="19"/>
                </a:lnTo>
                <a:lnTo>
                  <a:pt x="321" y="24"/>
                </a:lnTo>
                <a:lnTo>
                  <a:pt x="326" y="24"/>
                </a:lnTo>
                <a:lnTo>
                  <a:pt x="331" y="28"/>
                </a:lnTo>
                <a:lnTo>
                  <a:pt x="336" y="28"/>
                </a:lnTo>
                <a:lnTo>
                  <a:pt x="341" y="28"/>
                </a:lnTo>
                <a:lnTo>
                  <a:pt x="346" y="28"/>
                </a:lnTo>
                <a:lnTo>
                  <a:pt x="350" y="28"/>
                </a:lnTo>
                <a:lnTo>
                  <a:pt x="355" y="24"/>
                </a:lnTo>
                <a:lnTo>
                  <a:pt x="360" y="19"/>
                </a:lnTo>
                <a:lnTo>
                  <a:pt x="365" y="14"/>
                </a:lnTo>
                <a:lnTo>
                  <a:pt x="370" y="14"/>
                </a:lnTo>
                <a:lnTo>
                  <a:pt x="374" y="4"/>
                </a:lnTo>
                <a:lnTo>
                  <a:pt x="379" y="4"/>
                </a:lnTo>
                <a:lnTo>
                  <a:pt x="384" y="0"/>
                </a:lnTo>
                <a:lnTo>
                  <a:pt x="389" y="0"/>
                </a:lnTo>
                <a:lnTo>
                  <a:pt x="394" y="0"/>
                </a:lnTo>
                <a:lnTo>
                  <a:pt x="398" y="4"/>
                </a:lnTo>
                <a:lnTo>
                  <a:pt x="403" y="4"/>
                </a:lnTo>
                <a:lnTo>
                  <a:pt x="408" y="9"/>
                </a:lnTo>
                <a:lnTo>
                  <a:pt x="413" y="14"/>
                </a:lnTo>
                <a:lnTo>
                  <a:pt x="418" y="19"/>
                </a:lnTo>
                <a:lnTo>
                  <a:pt x="422" y="28"/>
                </a:lnTo>
                <a:lnTo>
                  <a:pt x="427" y="28"/>
                </a:lnTo>
                <a:lnTo>
                  <a:pt x="432" y="33"/>
                </a:lnTo>
                <a:lnTo>
                  <a:pt x="437" y="33"/>
                </a:lnTo>
                <a:lnTo>
                  <a:pt x="442" y="33"/>
                </a:lnTo>
                <a:lnTo>
                  <a:pt x="446" y="28"/>
                </a:lnTo>
                <a:lnTo>
                  <a:pt x="451" y="28"/>
                </a:lnTo>
                <a:lnTo>
                  <a:pt x="456" y="24"/>
                </a:lnTo>
                <a:lnTo>
                  <a:pt x="461" y="19"/>
                </a:lnTo>
                <a:lnTo>
                  <a:pt x="466" y="14"/>
                </a:lnTo>
                <a:lnTo>
                  <a:pt x="470" y="9"/>
                </a:lnTo>
                <a:lnTo>
                  <a:pt x="475" y="9"/>
                </a:lnTo>
                <a:lnTo>
                  <a:pt x="480" y="4"/>
                </a:lnTo>
                <a:lnTo>
                  <a:pt x="485" y="9"/>
                </a:lnTo>
                <a:lnTo>
                  <a:pt x="490" y="9"/>
                </a:lnTo>
                <a:lnTo>
                  <a:pt x="494" y="14"/>
                </a:lnTo>
                <a:lnTo>
                  <a:pt x="499" y="19"/>
                </a:lnTo>
                <a:lnTo>
                  <a:pt x="504" y="24"/>
                </a:lnTo>
                <a:lnTo>
                  <a:pt x="509" y="28"/>
                </a:lnTo>
                <a:lnTo>
                  <a:pt x="514" y="33"/>
                </a:lnTo>
                <a:lnTo>
                  <a:pt x="518" y="38"/>
                </a:lnTo>
                <a:lnTo>
                  <a:pt x="523" y="38"/>
                </a:lnTo>
                <a:lnTo>
                  <a:pt x="528" y="38"/>
                </a:lnTo>
                <a:lnTo>
                  <a:pt x="533" y="38"/>
                </a:lnTo>
                <a:lnTo>
                  <a:pt x="538" y="33"/>
                </a:lnTo>
                <a:lnTo>
                  <a:pt x="542" y="33"/>
                </a:lnTo>
                <a:lnTo>
                  <a:pt x="547" y="28"/>
                </a:lnTo>
                <a:lnTo>
                  <a:pt x="552" y="19"/>
                </a:lnTo>
                <a:lnTo>
                  <a:pt x="557" y="19"/>
                </a:lnTo>
                <a:lnTo>
                  <a:pt x="562" y="14"/>
                </a:lnTo>
                <a:lnTo>
                  <a:pt x="566" y="14"/>
                </a:lnTo>
                <a:lnTo>
                  <a:pt x="571" y="19"/>
                </a:lnTo>
                <a:lnTo>
                  <a:pt x="576" y="19"/>
                </a:lnTo>
                <a:lnTo>
                  <a:pt x="576" y="28"/>
                </a:lnTo>
                <a:lnTo>
                  <a:pt x="581" y="33"/>
                </a:lnTo>
                <a:lnTo>
                  <a:pt x="586" y="43"/>
                </a:lnTo>
                <a:lnTo>
                  <a:pt x="586" y="57"/>
                </a:lnTo>
                <a:lnTo>
                  <a:pt x="590" y="72"/>
                </a:lnTo>
                <a:lnTo>
                  <a:pt x="595" y="86"/>
                </a:lnTo>
                <a:lnTo>
                  <a:pt x="600" y="100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3960" y="2141640"/>
            <a:ext cx="723960" cy="2120760"/>
          </a:xfrm>
          <a:custGeom>
            <a:avLst/>
            <a:gdLst/>
            <a:ahLst/>
            <a:rect l="l" t="t" r="r" b="b"/>
            <a:pathLst>
              <a:path w="456" h="1336">
                <a:moveTo>
                  <a:pt x="0" y="778"/>
                </a:moveTo>
                <a:lnTo>
                  <a:pt x="0" y="798"/>
                </a:lnTo>
                <a:lnTo>
                  <a:pt x="5" y="817"/>
                </a:lnTo>
                <a:lnTo>
                  <a:pt x="10" y="836"/>
                </a:lnTo>
                <a:lnTo>
                  <a:pt x="15" y="855"/>
                </a:lnTo>
                <a:lnTo>
                  <a:pt x="15" y="874"/>
                </a:lnTo>
                <a:lnTo>
                  <a:pt x="19" y="894"/>
                </a:lnTo>
                <a:lnTo>
                  <a:pt x="24" y="908"/>
                </a:lnTo>
                <a:lnTo>
                  <a:pt x="24" y="927"/>
                </a:lnTo>
                <a:lnTo>
                  <a:pt x="29" y="942"/>
                </a:lnTo>
                <a:lnTo>
                  <a:pt x="34" y="956"/>
                </a:lnTo>
                <a:lnTo>
                  <a:pt x="39" y="971"/>
                </a:lnTo>
                <a:lnTo>
                  <a:pt x="39" y="980"/>
                </a:lnTo>
                <a:lnTo>
                  <a:pt x="43" y="990"/>
                </a:lnTo>
                <a:lnTo>
                  <a:pt x="48" y="1004"/>
                </a:lnTo>
                <a:lnTo>
                  <a:pt x="53" y="1009"/>
                </a:lnTo>
                <a:lnTo>
                  <a:pt x="58" y="1014"/>
                </a:lnTo>
                <a:lnTo>
                  <a:pt x="63" y="1019"/>
                </a:lnTo>
                <a:lnTo>
                  <a:pt x="67" y="1019"/>
                </a:lnTo>
                <a:lnTo>
                  <a:pt x="72" y="1014"/>
                </a:lnTo>
                <a:lnTo>
                  <a:pt x="77" y="1009"/>
                </a:lnTo>
                <a:lnTo>
                  <a:pt x="82" y="999"/>
                </a:lnTo>
                <a:lnTo>
                  <a:pt x="87" y="990"/>
                </a:lnTo>
                <a:lnTo>
                  <a:pt x="87" y="975"/>
                </a:lnTo>
                <a:lnTo>
                  <a:pt x="91" y="961"/>
                </a:lnTo>
                <a:lnTo>
                  <a:pt x="96" y="942"/>
                </a:lnTo>
                <a:lnTo>
                  <a:pt x="101" y="923"/>
                </a:lnTo>
                <a:lnTo>
                  <a:pt x="101" y="899"/>
                </a:lnTo>
                <a:lnTo>
                  <a:pt x="106" y="874"/>
                </a:lnTo>
                <a:lnTo>
                  <a:pt x="111" y="841"/>
                </a:lnTo>
                <a:lnTo>
                  <a:pt x="115" y="807"/>
                </a:lnTo>
                <a:lnTo>
                  <a:pt x="115" y="774"/>
                </a:lnTo>
                <a:lnTo>
                  <a:pt x="120" y="735"/>
                </a:lnTo>
                <a:lnTo>
                  <a:pt x="125" y="692"/>
                </a:lnTo>
                <a:lnTo>
                  <a:pt x="125" y="649"/>
                </a:lnTo>
                <a:lnTo>
                  <a:pt x="130" y="605"/>
                </a:lnTo>
                <a:lnTo>
                  <a:pt x="135" y="557"/>
                </a:lnTo>
                <a:lnTo>
                  <a:pt x="139" y="509"/>
                </a:lnTo>
                <a:lnTo>
                  <a:pt x="139" y="461"/>
                </a:lnTo>
                <a:lnTo>
                  <a:pt x="144" y="418"/>
                </a:lnTo>
                <a:lnTo>
                  <a:pt x="149" y="370"/>
                </a:lnTo>
                <a:lnTo>
                  <a:pt x="149" y="322"/>
                </a:lnTo>
                <a:lnTo>
                  <a:pt x="154" y="279"/>
                </a:lnTo>
                <a:lnTo>
                  <a:pt x="159" y="240"/>
                </a:lnTo>
                <a:lnTo>
                  <a:pt x="163" y="197"/>
                </a:lnTo>
                <a:lnTo>
                  <a:pt x="163" y="163"/>
                </a:lnTo>
                <a:lnTo>
                  <a:pt x="168" y="130"/>
                </a:lnTo>
                <a:lnTo>
                  <a:pt x="173" y="101"/>
                </a:lnTo>
                <a:lnTo>
                  <a:pt x="178" y="72"/>
                </a:lnTo>
                <a:lnTo>
                  <a:pt x="178" y="53"/>
                </a:lnTo>
                <a:lnTo>
                  <a:pt x="183" y="34"/>
                </a:lnTo>
                <a:lnTo>
                  <a:pt x="187" y="19"/>
                </a:lnTo>
                <a:lnTo>
                  <a:pt x="187" y="10"/>
                </a:lnTo>
                <a:lnTo>
                  <a:pt x="192" y="0"/>
                </a:lnTo>
                <a:lnTo>
                  <a:pt x="197" y="0"/>
                </a:lnTo>
                <a:lnTo>
                  <a:pt x="202" y="5"/>
                </a:lnTo>
                <a:lnTo>
                  <a:pt x="207" y="14"/>
                </a:lnTo>
                <a:lnTo>
                  <a:pt x="211" y="29"/>
                </a:lnTo>
                <a:lnTo>
                  <a:pt x="211" y="48"/>
                </a:lnTo>
                <a:lnTo>
                  <a:pt x="216" y="67"/>
                </a:lnTo>
                <a:lnTo>
                  <a:pt x="221" y="91"/>
                </a:lnTo>
                <a:lnTo>
                  <a:pt x="226" y="120"/>
                </a:lnTo>
                <a:lnTo>
                  <a:pt x="226" y="154"/>
                </a:lnTo>
                <a:lnTo>
                  <a:pt x="231" y="187"/>
                </a:lnTo>
                <a:lnTo>
                  <a:pt x="235" y="226"/>
                </a:lnTo>
                <a:lnTo>
                  <a:pt x="240" y="269"/>
                </a:lnTo>
                <a:lnTo>
                  <a:pt x="240" y="317"/>
                </a:lnTo>
                <a:lnTo>
                  <a:pt x="245" y="360"/>
                </a:lnTo>
                <a:lnTo>
                  <a:pt x="250" y="413"/>
                </a:lnTo>
                <a:lnTo>
                  <a:pt x="250" y="466"/>
                </a:lnTo>
                <a:lnTo>
                  <a:pt x="255" y="519"/>
                </a:lnTo>
                <a:lnTo>
                  <a:pt x="259" y="572"/>
                </a:lnTo>
                <a:lnTo>
                  <a:pt x="264" y="629"/>
                </a:lnTo>
                <a:lnTo>
                  <a:pt x="264" y="682"/>
                </a:lnTo>
                <a:lnTo>
                  <a:pt x="269" y="740"/>
                </a:lnTo>
                <a:lnTo>
                  <a:pt x="274" y="793"/>
                </a:lnTo>
                <a:lnTo>
                  <a:pt x="279" y="846"/>
                </a:lnTo>
                <a:lnTo>
                  <a:pt x="279" y="899"/>
                </a:lnTo>
                <a:lnTo>
                  <a:pt x="284" y="951"/>
                </a:lnTo>
                <a:lnTo>
                  <a:pt x="288" y="999"/>
                </a:lnTo>
                <a:lnTo>
                  <a:pt x="288" y="1043"/>
                </a:lnTo>
                <a:lnTo>
                  <a:pt x="293" y="1086"/>
                </a:lnTo>
                <a:lnTo>
                  <a:pt x="298" y="1129"/>
                </a:lnTo>
                <a:lnTo>
                  <a:pt x="303" y="1163"/>
                </a:lnTo>
                <a:lnTo>
                  <a:pt x="303" y="1196"/>
                </a:lnTo>
                <a:lnTo>
                  <a:pt x="308" y="1225"/>
                </a:lnTo>
                <a:lnTo>
                  <a:pt x="312" y="1249"/>
                </a:lnTo>
                <a:lnTo>
                  <a:pt x="312" y="1273"/>
                </a:lnTo>
                <a:lnTo>
                  <a:pt x="317" y="1292"/>
                </a:lnTo>
                <a:lnTo>
                  <a:pt x="322" y="1307"/>
                </a:lnTo>
                <a:lnTo>
                  <a:pt x="327" y="1321"/>
                </a:lnTo>
                <a:lnTo>
                  <a:pt x="327" y="1331"/>
                </a:lnTo>
                <a:lnTo>
                  <a:pt x="332" y="1336"/>
                </a:lnTo>
                <a:lnTo>
                  <a:pt x="336" y="1336"/>
                </a:lnTo>
                <a:lnTo>
                  <a:pt x="341" y="1331"/>
                </a:lnTo>
                <a:lnTo>
                  <a:pt x="346" y="1326"/>
                </a:lnTo>
                <a:lnTo>
                  <a:pt x="351" y="1317"/>
                </a:lnTo>
                <a:lnTo>
                  <a:pt x="351" y="1307"/>
                </a:lnTo>
                <a:lnTo>
                  <a:pt x="356" y="1292"/>
                </a:lnTo>
                <a:lnTo>
                  <a:pt x="360" y="1273"/>
                </a:lnTo>
                <a:lnTo>
                  <a:pt x="365" y="1254"/>
                </a:lnTo>
                <a:lnTo>
                  <a:pt x="365" y="1235"/>
                </a:lnTo>
                <a:lnTo>
                  <a:pt x="370" y="1211"/>
                </a:lnTo>
                <a:lnTo>
                  <a:pt x="375" y="1187"/>
                </a:lnTo>
                <a:lnTo>
                  <a:pt x="375" y="1158"/>
                </a:lnTo>
                <a:lnTo>
                  <a:pt x="380" y="1129"/>
                </a:lnTo>
                <a:lnTo>
                  <a:pt x="384" y="1100"/>
                </a:lnTo>
                <a:lnTo>
                  <a:pt x="389" y="1067"/>
                </a:lnTo>
                <a:lnTo>
                  <a:pt x="389" y="1033"/>
                </a:lnTo>
                <a:lnTo>
                  <a:pt x="394" y="999"/>
                </a:lnTo>
                <a:lnTo>
                  <a:pt x="399" y="966"/>
                </a:lnTo>
                <a:lnTo>
                  <a:pt x="404" y="932"/>
                </a:lnTo>
                <a:lnTo>
                  <a:pt x="404" y="899"/>
                </a:lnTo>
                <a:lnTo>
                  <a:pt x="408" y="865"/>
                </a:lnTo>
                <a:lnTo>
                  <a:pt x="413" y="826"/>
                </a:lnTo>
                <a:lnTo>
                  <a:pt x="413" y="793"/>
                </a:lnTo>
                <a:lnTo>
                  <a:pt x="418" y="764"/>
                </a:lnTo>
                <a:lnTo>
                  <a:pt x="423" y="730"/>
                </a:lnTo>
                <a:lnTo>
                  <a:pt x="428" y="702"/>
                </a:lnTo>
                <a:lnTo>
                  <a:pt x="428" y="673"/>
                </a:lnTo>
                <a:lnTo>
                  <a:pt x="432" y="644"/>
                </a:lnTo>
                <a:lnTo>
                  <a:pt x="437" y="615"/>
                </a:lnTo>
                <a:lnTo>
                  <a:pt x="442" y="591"/>
                </a:lnTo>
                <a:lnTo>
                  <a:pt x="442" y="567"/>
                </a:lnTo>
                <a:lnTo>
                  <a:pt x="447" y="548"/>
                </a:lnTo>
                <a:lnTo>
                  <a:pt x="452" y="529"/>
                </a:lnTo>
                <a:lnTo>
                  <a:pt x="452" y="509"/>
                </a:lnTo>
                <a:lnTo>
                  <a:pt x="456" y="495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87920" y="2782800"/>
            <a:ext cx="816120" cy="639720"/>
          </a:xfrm>
          <a:custGeom>
            <a:avLst/>
            <a:gdLst/>
            <a:ahLst/>
            <a:rect l="l" t="t" r="r" b="b"/>
            <a:pathLst>
              <a:path w="514" h="403">
                <a:moveTo>
                  <a:pt x="0" y="91"/>
                </a:moveTo>
                <a:lnTo>
                  <a:pt x="5" y="77"/>
                </a:lnTo>
                <a:lnTo>
                  <a:pt x="10" y="62"/>
                </a:lnTo>
                <a:lnTo>
                  <a:pt x="10" y="48"/>
                </a:lnTo>
                <a:lnTo>
                  <a:pt x="15" y="38"/>
                </a:lnTo>
                <a:lnTo>
                  <a:pt x="20" y="28"/>
                </a:lnTo>
                <a:lnTo>
                  <a:pt x="20" y="19"/>
                </a:lnTo>
                <a:lnTo>
                  <a:pt x="24" y="14"/>
                </a:lnTo>
                <a:lnTo>
                  <a:pt x="29" y="9"/>
                </a:lnTo>
                <a:lnTo>
                  <a:pt x="39" y="0"/>
                </a:lnTo>
                <a:lnTo>
                  <a:pt x="34" y="0"/>
                </a:lnTo>
                <a:lnTo>
                  <a:pt x="39" y="0"/>
                </a:lnTo>
                <a:lnTo>
                  <a:pt x="44" y="0"/>
                </a:lnTo>
                <a:lnTo>
                  <a:pt x="48" y="4"/>
                </a:lnTo>
                <a:lnTo>
                  <a:pt x="53" y="9"/>
                </a:lnTo>
                <a:lnTo>
                  <a:pt x="58" y="14"/>
                </a:lnTo>
                <a:lnTo>
                  <a:pt x="58" y="19"/>
                </a:lnTo>
                <a:lnTo>
                  <a:pt x="63" y="24"/>
                </a:lnTo>
                <a:lnTo>
                  <a:pt x="68" y="33"/>
                </a:lnTo>
                <a:lnTo>
                  <a:pt x="72" y="43"/>
                </a:lnTo>
                <a:lnTo>
                  <a:pt x="72" y="48"/>
                </a:lnTo>
                <a:lnTo>
                  <a:pt x="77" y="62"/>
                </a:lnTo>
                <a:lnTo>
                  <a:pt x="82" y="72"/>
                </a:lnTo>
                <a:lnTo>
                  <a:pt x="82" y="81"/>
                </a:lnTo>
                <a:lnTo>
                  <a:pt x="87" y="91"/>
                </a:lnTo>
                <a:lnTo>
                  <a:pt x="92" y="105"/>
                </a:lnTo>
                <a:lnTo>
                  <a:pt x="97" y="115"/>
                </a:lnTo>
                <a:lnTo>
                  <a:pt x="97" y="129"/>
                </a:lnTo>
                <a:lnTo>
                  <a:pt x="101" y="139"/>
                </a:lnTo>
                <a:lnTo>
                  <a:pt x="106" y="153"/>
                </a:lnTo>
                <a:lnTo>
                  <a:pt x="111" y="163"/>
                </a:lnTo>
                <a:lnTo>
                  <a:pt x="111" y="173"/>
                </a:lnTo>
                <a:lnTo>
                  <a:pt x="116" y="187"/>
                </a:lnTo>
                <a:lnTo>
                  <a:pt x="121" y="197"/>
                </a:lnTo>
                <a:lnTo>
                  <a:pt x="121" y="206"/>
                </a:lnTo>
                <a:lnTo>
                  <a:pt x="125" y="216"/>
                </a:lnTo>
                <a:lnTo>
                  <a:pt x="130" y="225"/>
                </a:lnTo>
                <a:lnTo>
                  <a:pt x="135" y="240"/>
                </a:lnTo>
                <a:lnTo>
                  <a:pt x="135" y="249"/>
                </a:lnTo>
                <a:lnTo>
                  <a:pt x="140" y="254"/>
                </a:lnTo>
                <a:lnTo>
                  <a:pt x="145" y="264"/>
                </a:lnTo>
                <a:lnTo>
                  <a:pt x="145" y="274"/>
                </a:lnTo>
                <a:lnTo>
                  <a:pt x="149" y="283"/>
                </a:lnTo>
                <a:lnTo>
                  <a:pt x="154" y="293"/>
                </a:lnTo>
                <a:lnTo>
                  <a:pt x="159" y="298"/>
                </a:lnTo>
                <a:lnTo>
                  <a:pt x="159" y="307"/>
                </a:lnTo>
                <a:lnTo>
                  <a:pt x="164" y="317"/>
                </a:lnTo>
                <a:lnTo>
                  <a:pt x="169" y="322"/>
                </a:lnTo>
                <a:lnTo>
                  <a:pt x="173" y="331"/>
                </a:lnTo>
                <a:lnTo>
                  <a:pt x="173" y="336"/>
                </a:lnTo>
                <a:lnTo>
                  <a:pt x="178" y="341"/>
                </a:lnTo>
                <a:lnTo>
                  <a:pt x="183" y="350"/>
                </a:lnTo>
                <a:lnTo>
                  <a:pt x="183" y="355"/>
                </a:lnTo>
                <a:lnTo>
                  <a:pt x="188" y="360"/>
                </a:lnTo>
                <a:lnTo>
                  <a:pt x="193" y="365"/>
                </a:lnTo>
                <a:lnTo>
                  <a:pt x="197" y="370"/>
                </a:lnTo>
                <a:lnTo>
                  <a:pt x="197" y="374"/>
                </a:lnTo>
                <a:lnTo>
                  <a:pt x="202" y="379"/>
                </a:lnTo>
                <a:lnTo>
                  <a:pt x="217" y="389"/>
                </a:lnTo>
                <a:lnTo>
                  <a:pt x="212" y="389"/>
                </a:lnTo>
                <a:lnTo>
                  <a:pt x="217" y="389"/>
                </a:lnTo>
                <a:lnTo>
                  <a:pt x="221" y="394"/>
                </a:lnTo>
                <a:lnTo>
                  <a:pt x="226" y="398"/>
                </a:lnTo>
                <a:lnTo>
                  <a:pt x="231" y="398"/>
                </a:lnTo>
                <a:lnTo>
                  <a:pt x="236" y="398"/>
                </a:lnTo>
                <a:lnTo>
                  <a:pt x="241" y="398"/>
                </a:lnTo>
                <a:lnTo>
                  <a:pt x="245" y="403"/>
                </a:lnTo>
                <a:lnTo>
                  <a:pt x="250" y="403"/>
                </a:lnTo>
                <a:lnTo>
                  <a:pt x="255" y="398"/>
                </a:lnTo>
                <a:lnTo>
                  <a:pt x="260" y="398"/>
                </a:lnTo>
                <a:lnTo>
                  <a:pt x="265" y="398"/>
                </a:lnTo>
                <a:lnTo>
                  <a:pt x="269" y="398"/>
                </a:lnTo>
                <a:lnTo>
                  <a:pt x="274" y="394"/>
                </a:lnTo>
                <a:lnTo>
                  <a:pt x="279" y="394"/>
                </a:lnTo>
                <a:lnTo>
                  <a:pt x="284" y="384"/>
                </a:lnTo>
                <a:lnTo>
                  <a:pt x="289" y="384"/>
                </a:lnTo>
                <a:lnTo>
                  <a:pt x="293" y="379"/>
                </a:lnTo>
                <a:lnTo>
                  <a:pt x="298" y="374"/>
                </a:lnTo>
                <a:lnTo>
                  <a:pt x="303" y="370"/>
                </a:lnTo>
                <a:lnTo>
                  <a:pt x="313" y="360"/>
                </a:lnTo>
                <a:lnTo>
                  <a:pt x="308" y="360"/>
                </a:lnTo>
                <a:lnTo>
                  <a:pt x="313" y="360"/>
                </a:lnTo>
                <a:lnTo>
                  <a:pt x="317" y="355"/>
                </a:lnTo>
                <a:lnTo>
                  <a:pt x="322" y="350"/>
                </a:lnTo>
                <a:lnTo>
                  <a:pt x="322" y="346"/>
                </a:lnTo>
                <a:lnTo>
                  <a:pt x="327" y="341"/>
                </a:lnTo>
                <a:lnTo>
                  <a:pt x="332" y="336"/>
                </a:lnTo>
                <a:lnTo>
                  <a:pt x="337" y="331"/>
                </a:lnTo>
                <a:lnTo>
                  <a:pt x="337" y="326"/>
                </a:lnTo>
                <a:lnTo>
                  <a:pt x="341" y="322"/>
                </a:lnTo>
                <a:lnTo>
                  <a:pt x="346" y="317"/>
                </a:lnTo>
                <a:lnTo>
                  <a:pt x="346" y="312"/>
                </a:lnTo>
                <a:lnTo>
                  <a:pt x="356" y="307"/>
                </a:lnTo>
                <a:lnTo>
                  <a:pt x="361" y="302"/>
                </a:lnTo>
                <a:lnTo>
                  <a:pt x="361" y="298"/>
                </a:lnTo>
                <a:lnTo>
                  <a:pt x="366" y="293"/>
                </a:lnTo>
                <a:lnTo>
                  <a:pt x="370" y="288"/>
                </a:lnTo>
                <a:lnTo>
                  <a:pt x="380" y="278"/>
                </a:lnTo>
                <a:lnTo>
                  <a:pt x="375" y="278"/>
                </a:lnTo>
                <a:lnTo>
                  <a:pt x="380" y="278"/>
                </a:lnTo>
                <a:lnTo>
                  <a:pt x="385" y="274"/>
                </a:lnTo>
                <a:lnTo>
                  <a:pt x="385" y="269"/>
                </a:lnTo>
                <a:lnTo>
                  <a:pt x="394" y="264"/>
                </a:lnTo>
                <a:lnTo>
                  <a:pt x="399" y="259"/>
                </a:lnTo>
                <a:lnTo>
                  <a:pt x="404" y="254"/>
                </a:lnTo>
                <a:lnTo>
                  <a:pt x="409" y="249"/>
                </a:lnTo>
                <a:lnTo>
                  <a:pt x="414" y="249"/>
                </a:lnTo>
                <a:lnTo>
                  <a:pt x="418" y="245"/>
                </a:lnTo>
                <a:lnTo>
                  <a:pt x="423" y="245"/>
                </a:lnTo>
                <a:lnTo>
                  <a:pt x="428" y="245"/>
                </a:lnTo>
                <a:lnTo>
                  <a:pt x="433" y="245"/>
                </a:lnTo>
                <a:lnTo>
                  <a:pt x="438" y="245"/>
                </a:lnTo>
                <a:lnTo>
                  <a:pt x="442" y="245"/>
                </a:lnTo>
                <a:lnTo>
                  <a:pt x="447" y="245"/>
                </a:lnTo>
                <a:lnTo>
                  <a:pt x="452" y="245"/>
                </a:lnTo>
                <a:lnTo>
                  <a:pt x="457" y="245"/>
                </a:lnTo>
                <a:lnTo>
                  <a:pt x="462" y="249"/>
                </a:lnTo>
                <a:lnTo>
                  <a:pt x="466" y="249"/>
                </a:lnTo>
                <a:lnTo>
                  <a:pt x="471" y="254"/>
                </a:lnTo>
                <a:lnTo>
                  <a:pt x="476" y="254"/>
                </a:lnTo>
                <a:lnTo>
                  <a:pt x="481" y="259"/>
                </a:lnTo>
                <a:lnTo>
                  <a:pt x="486" y="259"/>
                </a:lnTo>
                <a:lnTo>
                  <a:pt x="490" y="264"/>
                </a:lnTo>
                <a:lnTo>
                  <a:pt x="495" y="264"/>
                </a:lnTo>
                <a:lnTo>
                  <a:pt x="500" y="269"/>
                </a:lnTo>
                <a:lnTo>
                  <a:pt x="505" y="274"/>
                </a:lnTo>
                <a:lnTo>
                  <a:pt x="510" y="278"/>
                </a:lnTo>
                <a:lnTo>
                  <a:pt x="514" y="278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04040" y="3224160"/>
            <a:ext cx="823680" cy="76320"/>
          </a:xfrm>
          <a:custGeom>
            <a:avLst/>
            <a:gdLst/>
            <a:ahLst/>
            <a:rect l="l" t="t" r="r" b="b"/>
            <a:pathLst>
              <a:path w="519" h="48">
                <a:moveTo>
                  <a:pt x="0" y="0"/>
                </a:moveTo>
                <a:lnTo>
                  <a:pt x="5" y="5"/>
                </a:lnTo>
                <a:lnTo>
                  <a:pt x="10" y="10"/>
                </a:lnTo>
                <a:lnTo>
                  <a:pt x="15" y="10"/>
                </a:lnTo>
                <a:lnTo>
                  <a:pt x="20" y="15"/>
                </a:lnTo>
                <a:lnTo>
                  <a:pt x="24" y="20"/>
                </a:lnTo>
                <a:lnTo>
                  <a:pt x="29" y="20"/>
                </a:lnTo>
                <a:lnTo>
                  <a:pt x="34" y="24"/>
                </a:lnTo>
                <a:lnTo>
                  <a:pt x="39" y="29"/>
                </a:lnTo>
                <a:lnTo>
                  <a:pt x="44" y="29"/>
                </a:lnTo>
                <a:lnTo>
                  <a:pt x="48" y="34"/>
                </a:lnTo>
                <a:lnTo>
                  <a:pt x="53" y="34"/>
                </a:lnTo>
                <a:lnTo>
                  <a:pt x="58" y="39"/>
                </a:lnTo>
                <a:lnTo>
                  <a:pt x="63" y="39"/>
                </a:lnTo>
                <a:lnTo>
                  <a:pt x="68" y="44"/>
                </a:lnTo>
                <a:lnTo>
                  <a:pt x="72" y="44"/>
                </a:lnTo>
                <a:lnTo>
                  <a:pt x="77" y="44"/>
                </a:lnTo>
                <a:lnTo>
                  <a:pt x="82" y="44"/>
                </a:lnTo>
                <a:lnTo>
                  <a:pt x="87" y="48"/>
                </a:lnTo>
                <a:lnTo>
                  <a:pt x="92" y="48"/>
                </a:lnTo>
                <a:lnTo>
                  <a:pt x="96" y="48"/>
                </a:lnTo>
                <a:lnTo>
                  <a:pt x="101" y="48"/>
                </a:lnTo>
                <a:lnTo>
                  <a:pt x="106" y="48"/>
                </a:lnTo>
                <a:lnTo>
                  <a:pt x="111" y="48"/>
                </a:lnTo>
                <a:lnTo>
                  <a:pt x="116" y="48"/>
                </a:lnTo>
                <a:lnTo>
                  <a:pt x="121" y="48"/>
                </a:lnTo>
                <a:lnTo>
                  <a:pt x="125" y="48"/>
                </a:lnTo>
                <a:lnTo>
                  <a:pt x="130" y="48"/>
                </a:lnTo>
                <a:lnTo>
                  <a:pt x="135" y="44"/>
                </a:lnTo>
                <a:lnTo>
                  <a:pt x="140" y="44"/>
                </a:lnTo>
                <a:lnTo>
                  <a:pt x="145" y="44"/>
                </a:lnTo>
                <a:lnTo>
                  <a:pt x="149" y="44"/>
                </a:lnTo>
                <a:lnTo>
                  <a:pt x="154" y="44"/>
                </a:lnTo>
                <a:lnTo>
                  <a:pt x="159" y="39"/>
                </a:lnTo>
                <a:lnTo>
                  <a:pt x="164" y="39"/>
                </a:lnTo>
                <a:lnTo>
                  <a:pt x="169" y="39"/>
                </a:lnTo>
                <a:lnTo>
                  <a:pt x="173" y="34"/>
                </a:lnTo>
                <a:lnTo>
                  <a:pt x="178" y="34"/>
                </a:lnTo>
                <a:lnTo>
                  <a:pt x="183" y="34"/>
                </a:lnTo>
                <a:lnTo>
                  <a:pt x="188" y="34"/>
                </a:lnTo>
                <a:lnTo>
                  <a:pt x="193" y="29"/>
                </a:lnTo>
                <a:lnTo>
                  <a:pt x="197" y="29"/>
                </a:lnTo>
                <a:lnTo>
                  <a:pt x="202" y="29"/>
                </a:lnTo>
                <a:lnTo>
                  <a:pt x="207" y="24"/>
                </a:lnTo>
                <a:lnTo>
                  <a:pt x="212" y="24"/>
                </a:lnTo>
                <a:lnTo>
                  <a:pt x="217" y="24"/>
                </a:lnTo>
                <a:lnTo>
                  <a:pt x="221" y="24"/>
                </a:lnTo>
                <a:lnTo>
                  <a:pt x="226" y="20"/>
                </a:lnTo>
                <a:lnTo>
                  <a:pt x="231" y="20"/>
                </a:lnTo>
                <a:lnTo>
                  <a:pt x="236" y="20"/>
                </a:lnTo>
                <a:lnTo>
                  <a:pt x="241" y="20"/>
                </a:lnTo>
                <a:lnTo>
                  <a:pt x="245" y="20"/>
                </a:lnTo>
                <a:lnTo>
                  <a:pt x="250" y="15"/>
                </a:lnTo>
                <a:lnTo>
                  <a:pt x="255" y="15"/>
                </a:lnTo>
                <a:lnTo>
                  <a:pt x="260" y="15"/>
                </a:lnTo>
                <a:lnTo>
                  <a:pt x="265" y="15"/>
                </a:lnTo>
                <a:lnTo>
                  <a:pt x="269" y="15"/>
                </a:lnTo>
                <a:lnTo>
                  <a:pt x="274" y="15"/>
                </a:lnTo>
                <a:lnTo>
                  <a:pt x="279" y="10"/>
                </a:lnTo>
                <a:lnTo>
                  <a:pt x="284" y="10"/>
                </a:lnTo>
                <a:lnTo>
                  <a:pt x="289" y="10"/>
                </a:lnTo>
                <a:lnTo>
                  <a:pt x="293" y="10"/>
                </a:lnTo>
                <a:lnTo>
                  <a:pt x="298" y="10"/>
                </a:lnTo>
                <a:lnTo>
                  <a:pt x="303" y="10"/>
                </a:lnTo>
                <a:lnTo>
                  <a:pt x="308" y="10"/>
                </a:lnTo>
                <a:lnTo>
                  <a:pt x="313" y="10"/>
                </a:lnTo>
                <a:lnTo>
                  <a:pt x="317" y="10"/>
                </a:lnTo>
                <a:lnTo>
                  <a:pt x="322" y="10"/>
                </a:lnTo>
                <a:lnTo>
                  <a:pt x="327" y="10"/>
                </a:lnTo>
                <a:lnTo>
                  <a:pt x="332" y="10"/>
                </a:lnTo>
                <a:lnTo>
                  <a:pt x="337" y="10"/>
                </a:lnTo>
                <a:lnTo>
                  <a:pt x="341" y="10"/>
                </a:lnTo>
                <a:lnTo>
                  <a:pt x="346" y="15"/>
                </a:lnTo>
                <a:lnTo>
                  <a:pt x="351" y="15"/>
                </a:lnTo>
                <a:lnTo>
                  <a:pt x="356" y="15"/>
                </a:lnTo>
                <a:lnTo>
                  <a:pt x="361" y="15"/>
                </a:lnTo>
                <a:lnTo>
                  <a:pt x="365" y="15"/>
                </a:lnTo>
                <a:lnTo>
                  <a:pt x="370" y="15"/>
                </a:lnTo>
                <a:lnTo>
                  <a:pt x="375" y="15"/>
                </a:lnTo>
                <a:lnTo>
                  <a:pt x="380" y="15"/>
                </a:lnTo>
                <a:lnTo>
                  <a:pt x="385" y="20"/>
                </a:lnTo>
                <a:lnTo>
                  <a:pt x="390" y="20"/>
                </a:lnTo>
                <a:lnTo>
                  <a:pt x="394" y="20"/>
                </a:lnTo>
                <a:lnTo>
                  <a:pt x="399" y="20"/>
                </a:lnTo>
                <a:lnTo>
                  <a:pt x="404" y="20"/>
                </a:lnTo>
                <a:lnTo>
                  <a:pt x="409" y="20"/>
                </a:lnTo>
                <a:lnTo>
                  <a:pt x="414" y="24"/>
                </a:lnTo>
                <a:lnTo>
                  <a:pt x="418" y="24"/>
                </a:lnTo>
                <a:lnTo>
                  <a:pt x="423" y="24"/>
                </a:lnTo>
                <a:lnTo>
                  <a:pt x="428" y="24"/>
                </a:lnTo>
                <a:lnTo>
                  <a:pt x="433" y="24"/>
                </a:lnTo>
                <a:lnTo>
                  <a:pt x="438" y="24"/>
                </a:lnTo>
                <a:lnTo>
                  <a:pt x="442" y="24"/>
                </a:lnTo>
                <a:lnTo>
                  <a:pt x="447" y="29"/>
                </a:lnTo>
                <a:lnTo>
                  <a:pt x="452" y="29"/>
                </a:lnTo>
                <a:lnTo>
                  <a:pt x="457" y="29"/>
                </a:lnTo>
                <a:lnTo>
                  <a:pt x="462" y="29"/>
                </a:lnTo>
                <a:lnTo>
                  <a:pt x="466" y="29"/>
                </a:lnTo>
                <a:lnTo>
                  <a:pt x="471" y="29"/>
                </a:lnTo>
                <a:lnTo>
                  <a:pt x="476" y="29"/>
                </a:lnTo>
                <a:lnTo>
                  <a:pt x="481" y="29"/>
                </a:lnTo>
                <a:lnTo>
                  <a:pt x="486" y="29"/>
                </a:lnTo>
                <a:lnTo>
                  <a:pt x="490" y="29"/>
                </a:lnTo>
                <a:lnTo>
                  <a:pt x="495" y="29"/>
                </a:lnTo>
                <a:lnTo>
                  <a:pt x="500" y="29"/>
                </a:lnTo>
                <a:lnTo>
                  <a:pt x="505" y="29"/>
                </a:lnTo>
                <a:lnTo>
                  <a:pt x="510" y="29"/>
                </a:lnTo>
                <a:lnTo>
                  <a:pt x="514" y="29"/>
                </a:lnTo>
                <a:lnTo>
                  <a:pt x="519" y="29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51800" y="487368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1963440" y="323856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, v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828800" y="5486400"/>
          <a:ext cx="5511960" cy="7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86400"/>
                    <a:ext cx="551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2889360" y="1890720"/>
            <a:ext cx="3305160" cy="26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89360" y="1890720"/>
            <a:ext cx="3305160" cy="2603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89360" y="1890720"/>
            <a:ext cx="330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9360" y="4494240"/>
            <a:ext cx="330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194520" y="1890720"/>
            <a:ext cx="1440" cy="26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89360" y="1890720"/>
            <a:ext cx="1440" cy="26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88936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8936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58760" y="455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54492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4492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59960" y="455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0696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0696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6360" y="455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86900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900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84040" y="455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53248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3248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0440" y="455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194520" y="44560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94520" y="18907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09560" y="4551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89360" y="449424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156360" y="44942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72920" y="44337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89360" y="416736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156360" y="4167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72920" y="41068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89360" y="384012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156360" y="38401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72920" y="37782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89360" y="351144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156360" y="3511440"/>
            <a:ext cx="38160" cy="1800"/>
          </a:xfrm>
          <a:prstGeom prst="line">
            <a:avLst/>
          </a:prstGeom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72920" y="34513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89360" y="319248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156360" y="3192480"/>
            <a:ext cx="38160" cy="1440"/>
          </a:xfrm>
          <a:prstGeom prst="line">
            <a:avLst/>
          </a:prstGeom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25200" y="3130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89360" y="286560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156360" y="2865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18640" y="28036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89360" y="253692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56360" y="2536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18640" y="2476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89360" y="220968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156360" y="22096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18640" y="2149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9360" y="189072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6360" y="18907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18640" y="18288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89360" y="3184560"/>
            <a:ext cx="876240" cy="434880"/>
          </a:xfrm>
          <a:custGeom>
            <a:avLst/>
            <a:gdLst/>
            <a:ahLst/>
            <a:rect l="l" t="t" r="r" b="b"/>
            <a:pathLst>
              <a:path w="552" h="274">
                <a:moveTo>
                  <a:pt x="0" y="0"/>
                </a:moveTo>
                <a:lnTo>
                  <a:pt x="5" y="0"/>
                </a:lnTo>
                <a:lnTo>
                  <a:pt x="10" y="0"/>
                </a:lnTo>
                <a:lnTo>
                  <a:pt x="15" y="0"/>
                </a:lnTo>
                <a:lnTo>
                  <a:pt x="19" y="0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2" y="0"/>
                </a:lnTo>
                <a:lnTo>
                  <a:pt x="77" y="0"/>
                </a:lnTo>
                <a:lnTo>
                  <a:pt x="82" y="0"/>
                </a:lnTo>
                <a:lnTo>
                  <a:pt x="86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  <a:lnTo>
                  <a:pt x="106" y="0"/>
                </a:lnTo>
                <a:lnTo>
                  <a:pt x="110" y="0"/>
                </a:lnTo>
                <a:lnTo>
                  <a:pt x="115" y="0"/>
                </a:lnTo>
                <a:lnTo>
                  <a:pt x="120" y="0"/>
                </a:lnTo>
                <a:lnTo>
                  <a:pt x="125" y="0"/>
                </a:lnTo>
                <a:lnTo>
                  <a:pt x="130" y="0"/>
                </a:lnTo>
                <a:lnTo>
                  <a:pt x="134" y="0"/>
                </a:lnTo>
                <a:lnTo>
                  <a:pt x="139" y="0"/>
                </a:lnTo>
                <a:lnTo>
                  <a:pt x="144" y="0"/>
                </a:lnTo>
                <a:lnTo>
                  <a:pt x="149" y="0"/>
                </a:lnTo>
                <a:lnTo>
                  <a:pt x="154" y="0"/>
                </a:lnTo>
                <a:lnTo>
                  <a:pt x="158" y="0"/>
                </a:lnTo>
                <a:lnTo>
                  <a:pt x="163" y="0"/>
                </a:lnTo>
                <a:lnTo>
                  <a:pt x="168" y="0"/>
                </a:lnTo>
                <a:lnTo>
                  <a:pt x="173" y="0"/>
                </a:lnTo>
                <a:lnTo>
                  <a:pt x="178" y="0"/>
                </a:lnTo>
                <a:lnTo>
                  <a:pt x="182" y="0"/>
                </a:lnTo>
                <a:lnTo>
                  <a:pt x="187" y="0"/>
                </a:lnTo>
                <a:lnTo>
                  <a:pt x="192" y="0"/>
                </a:lnTo>
                <a:lnTo>
                  <a:pt x="197" y="0"/>
                </a:lnTo>
                <a:lnTo>
                  <a:pt x="202" y="0"/>
                </a:lnTo>
                <a:lnTo>
                  <a:pt x="206" y="0"/>
                </a:lnTo>
                <a:lnTo>
                  <a:pt x="211" y="0"/>
                </a:lnTo>
                <a:lnTo>
                  <a:pt x="216" y="0"/>
                </a:lnTo>
                <a:lnTo>
                  <a:pt x="221" y="0"/>
                </a:lnTo>
                <a:lnTo>
                  <a:pt x="226" y="0"/>
                </a:lnTo>
                <a:lnTo>
                  <a:pt x="230" y="0"/>
                </a:lnTo>
                <a:lnTo>
                  <a:pt x="235" y="0"/>
                </a:lnTo>
                <a:lnTo>
                  <a:pt x="240" y="0"/>
                </a:lnTo>
                <a:lnTo>
                  <a:pt x="245" y="0"/>
                </a:lnTo>
                <a:lnTo>
                  <a:pt x="250" y="0"/>
                </a:lnTo>
                <a:lnTo>
                  <a:pt x="254" y="0"/>
                </a:lnTo>
                <a:lnTo>
                  <a:pt x="259" y="0"/>
                </a:lnTo>
                <a:lnTo>
                  <a:pt x="264" y="0"/>
                </a:lnTo>
                <a:lnTo>
                  <a:pt x="269" y="0"/>
                </a:lnTo>
                <a:lnTo>
                  <a:pt x="274" y="0"/>
                </a:lnTo>
                <a:lnTo>
                  <a:pt x="278" y="0"/>
                </a:lnTo>
                <a:lnTo>
                  <a:pt x="283" y="0"/>
                </a:lnTo>
                <a:lnTo>
                  <a:pt x="288" y="0"/>
                </a:lnTo>
                <a:lnTo>
                  <a:pt x="293" y="0"/>
                </a:lnTo>
                <a:lnTo>
                  <a:pt x="298" y="0"/>
                </a:lnTo>
                <a:lnTo>
                  <a:pt x="302" y="0"/>
                </a:lnTo>
                <a:lnTo>
                  <a:pt x="307" y="0"/>
                </a:lnTo>
                <a:lnTo>
                  <a:pt x="312" y="0"/>
                </a:lnTo>
                <a:lnTo>
                  <a:pt x="317" y="0"/>
                </a:lnTo>
                <a:lnTo>
                  <a:pt x="322" y="0"/>
                </a:lnTo>
                <a:lnTo>
                  <a:pt x="326" y="0"/>
                </a:lnTo>
                <a:lnTo>
                  <a:pt x="331" y="0"/>
                </a:lnTo>
                <a:lnTo>
                  <a:pt x="336" y="0"/>
                </a:lnTo>
                <a:lnTo>
                  <a:pt x="341" y="0"/>
                </a:lnTo>
                <a:lnTo>
                  <a:pt x="345" y="0"/>
                </a:lnTo>
                <a:lnTo>
                  <a:pt x="350" y="0"/>
                </a:lnTo>
                <a:lnTo>
                  <a:pt x="355" y="0"/>
                </a:lnTo>
                <a:lnTo>
                  <a:pt x="360" y="0"/>
                </a:lnTo>
                <a:lnTo>
                  <a:pt x="365" y="0"/>
                </a:lnTo>
                <a:lnTo>
                  <a:pt x="369" y="0"/>
                </a:lnTo>
                <a:lnTo>
                  <a:pt x="374" y="0"/>
                </a:lnTo>
                <a:lnTo>
                  <a:pt x="379" y="0"/>
                </a:lnTo>
                <a:lnTo>
                  <a:pt x="384" y="0"/>
                </a:lnTo>
                <a:lnTo>
                  <a:pt x="389" y="0"/>
                </a:lnTo>
                <a:lnTo>
                  <a:pt x="393" y="0"/>
                </a:lnTo>
                <a:lnTo>
                  <a:pt x="398" y="0"/>
                </a:lnTo>
                <a:lnTo>
                  <a:pt x="403" y="0"/>
                </a:lnTo>
                <a:lnTo>
                  <a:pt x="408" y="0"/>
                </a:lnTo>
                <a:lnTo>
                  <a:pt x="413" y="0"/>
                </a:lnTo>
                <a:lnTo>
                  <a:pt x="417" y="0"/>
                </a:lnTo>
                <a:lnTo>
                  <a:pt x="422" y="0"/>
                </a:lnTo>
                <a:lnTo>
                  <a:pt x="427" y="0"/>
                </a:lnTo>
                <a:lnTo>
                  <a:pt x="432" y="0"/>
                </a:lnTo>
                <a:lnTo>
                  <a:pt x="437" y="0"/>
                </a:lnTo>
                <a:lnTo>
                  <a:pt x="441" y="0"/>
                </a:lnTo>
                <a:lnTo>
                  <a:pt x="446" y="5"/>
                </a:lnTo>
                <a:lnTo>
                  <a:pt x="451" y="5"/>
                </a:lnTo>
                <a:lnTo>
                  <a:pt x="456" y="5"/>
                </a:lnTo>
                <a:lnTo>
                  <a:pt x="461" y="10"/>
                </a:lnTo>
                <a:lnTo>
                  <a:pt x="465" y="14"/>
                </a:lnTo>
                <a:lnTo>
                  <a:pt x="470" y="19"/>
                </a:lnTo>
                <a:lnTo>
                  <a:pt x="470" y="24"/>
                </a:lnTo>
                <a:lnTo>
                  <a:pt x="475" y="29"/>
                </a:lnTo>
                <a:lnTo>
                  <a:pt x="475" y="38"/>
                </a:lnTo>
                <a:lnTo>
                  <a:pt x="480" y="43"/>
                </a:lnTo>
                <a:lnTo>
                  <a:pt x="480" y="48"/>
                </a:lnTo>
                <a:lnTo>
                  <a:pt x="485" y="58"/>
                </a:lnTo>
                <a:lnTo>
                  <a:pt x="485" y="72"/>
                </a:lnTo>
                <a:lnTo>
                  <a:pt x="489" y="82"/>
                </a:lnTo>
                <a:lnTo>
                  <a:pt x="489" y="106"/>
                </a:lnTo>
                <a:lnTo>
                  <a:pt x="494" y="115"/>
                </a:lnTo>
                <a:lnTo>
                  <a:pt x="494" y="139"/>
                </a:lnTo>
                <a:lnTo>
                  <a:pt x="499" y="149"/>
                </a:lnTo>
                <a:lnTo>
                  <a:pt x="499" y="173"/>
                </a:lnTo>
                <a:lnTo>
                  <a:pt x="504" y="182"/>
                </a:lnTo>
                <a:lnTo>
                  <a:pt x="504" y="206"/>
                </a:lnTo>
                <a:lnTo>
                  <a:pt x="509" y="216"/>
                </a:lnTo>
                <a:lnTo>
                  <a:pt x="509" y="230"/>
                </a:lnTo>
                <a:lnTo>
                  <a:pt x="513" y="240"/>
                </a:lnTo>
                <a:lnTo>
                  <a:pt x="513" y="254"/>
                </a:lnTo>
                <a:lnTo>
                  <a:pt x="518" y="259"/>
                </a:lnTo>
                <a:lnTo>
                  <a:pt x="518" y="264"/>
                </a:lnTo>
                <a:lnTo>
                  <a:pt x="528" y="274"/>
                </a:lnTo>
                <a:lnTo>
                  <a:pt x="523" y="274"/>
                </a:lnTo>
                <a:lnTo>
                  <a:pt x="528" y="274"/>
                </a:lnTo>
                <a:lnTo>
                  <a:pt x="533" y="274"/>
                </a:lnTo>
                <a:lnTo>
                  <a:pt x="537" y="269"/>
                </a:lnTo>
                <a:lnTo>
                  <a:pt x="542" y="264"/>
                </a:lnTo>
                <a:lnTo>
                  <a:pt x="552" y="254"/>
                </a:lnTo>
                <a:lnTo>
                  <a:pt x="552" y="250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65600" y="2103480"/>
            <a:ext cx="531720" cy="2047680"/>
          </a:xfrm>
          <a:custGeom>
            <a:avLst/>
            <a:gdLst/>
            <a:ahLst/>
            <a:rect l="l" t="t" r="r" b="b"/>
            <a:pathLst>
              <a:path w="335" h="1290">
                <a:moveTo>
                  <a:pt x="0" y="931"/>
                </a:moveTo>
                <a:lnTo>
                  <a:pt x="5" y="926"/>
                </a:lnTo>
                <a:lnTo>
                  <a:pt x="9" y="921"/>
                </a:lnTo>
                <a:lnTo>
                  <a:pt x="9" y="916"/>
                </a:lnTo>
                <a:lnTo>
                  <a:pt x="14" y="911"/>
                </a:lnTo>
                <a:lnTo>
                  <a:pt x="14" y="907"/>
                </a:lnTo>
                <a:lnTo>
                  <a:pt x="19" y="902"/>
                </a:lnTo>
                <a:lnTo>
                  <a:pt x="19" y="892"/>
                </a:lnTo>
                <a:lnTo>
                  <a:pt x="24" y="887"/>
                </a:lnTo>
                <a:lnTo>
                  <a:pt x="24" y="883"/>
                </a:lnTo>
                <a:lnTo>
                  <a:pt x="29" y="878"/>
                </a:lnTo>
                <a:lnTo>
                  <a:pt x="29" y="873"/>
                </a:lnTo>
                <a:lnTo>
                  <a:pt x="33" y="868"/>
                </a:lnTo>
                <a:lnTo>
                  <a:pt x="33" y="863"/>
                </a:lnTo>
                <a:lnTo>
                  <a:pt x="38" y="859"/>
                </a:lnTo>
                <a:lnTo>
                  <a:pt x="38" y="854"/>
                </a:lnTo>
                <a:lnTo>
                  <a:pt x="48" y="844"/>
                </a:lnTo>
                <a:lnTo>
                  <a:pt x="43" y="844"/>
                </a:lnTo>
                <a:lnTo>
                  <a:pt x="48" y="844"/>
                </a:lnTo>
                <a:lnTo>
                  <a:pt x="52" y="839"/>
                </a:lnTo>
                <a:lnTo>
                  <a:pt x="57" y="835"/>
                </a:lnTo>
                <a:lnTo>
                  <a:pt x="62" y="830"/>
                </a:lnTo>
                <a:lnTo>
                  <a:pt x="67" y="825"/>
                </a:lnTo>
                <a:lnTo>
                  <a:pt x="67" y="815"/>
                </a:lnTo>
                <a:lnTo>
                  <a:pt x="72" y="801"/>
                </a:lnTo>
                <a:lnTo>
                  <a:pt x="72" y="806"/>
                </a:lnTo>
                <a:lnTo>
                  <a:pt x="72" y="801"/>
                </a:lnTo>
                <a:lnTo>
                  <a:pt x="76" y="796"/>
                </a:lnTo>
                <a:lnTo>
                  <a:pt x="76" y="777"/>
                </a:lnTo>
                <a:lnTo>
                  <a:pt x="81" y="767"/>
                </a:lnTo>
                <a:lnTo>
                  <a:pt x="81" y="743"/>
                </a:lnTo>
                <a:lnTo>
                  <a:pt x="86" y="729"/>
                </a:lnTo>
                <a:lnTo>
                  <a:pt x="86" y="715"/>
                </a:lnTo>
                <a:lnTo>
                  <a:pt x="91" y="695"/>
                </a:lnTo>
                <a:lnTo>
                  <a:pt x="91" y="657"/>
                </a:lnTo>
                <a:lnTo>
                  <a:pt x="96" y="638"/>
                </a:lnTo>
                <a:lnTo>
                  <a:pt x="96" y="590"/>
                </a:lnTo>
                <a:lnTo>
                  <a:pt x="100" y="566"/>
                </a:lnTo>
                <a:lnTo>
                  <a:pt x="100" y="518"/>
                </a:lnTo>
                <a:lnTo>
                  <a:pt x="105" y="489"/>
                </a:lnTo>
                <a:lnTo>
                  <a:pt x="105" y="432"/>
                </a:lnTo>
                <a:lnTo>
                  <a:pt x="110" y="403"/>
                </a:lnTo>
                <a:lnTo>
                  <a:pt x="110" y="350"/>
                </a:lnTo>
                <a:lnTo>
                  <a:pt x="115" y="321"/>
                </a:lnTo>
                <a:lnTo>
                  <a:pt x="115" y="269"/>
                </a:lnTo>
                <a:lnTo>
                  <a:pt x="120" y="240"/>
                </a:lnTo>
                <a:lnTo>
                  <a:pt x="120" y="192"/>
                </a:lnTo>
                <a:lnTo>
                  <a:pt x="124" y="173"/>
                </a:lnTo>
                <a:lnTo>
                  <a:pt x="124" y="149"/>
                </a:lnTo>
                <a:lnTo>
                  <a:pt x="129" y="129"/>
                </a:lnTo>
                <a:lnTo>
                  <a:pt x="129" y="96"/>
                </a:lnTo>
                <a:lnTo>
                  <a:pt x="134" y="81"/>
                </a:lnTo>
                <a:lnTo>
                  <a:pt x="134" y="57"/>
                </a:lnTo>
                <a:lnTo>
                  <a:pt x="139" y="48"/>
                </a:lnTo>
                <a:lnTo>
                  <a:pt x="139" y="29"/>
                </a:lnTo>
                <a:lnTo>
                  <a:pt x="144" y="24"/>
                </a:lnTo>
                <a:lnTo>
                  <a:pt x="144" y="9"/>
                </a:lnTo>
                <a:lnTo>
                  <a:pt x="148" y="5"/>
                </a:lnTo>
                <a:lnTo>
                  <a:pt x="153" y="0"/>
                </a:lnTo>
                <a:lnTo>
                  <a:pt x="163" y="9"/>
                </a:lnTo>
                <a:lnTo>
                  <a:pt x="163" y="19"/>
                </a:lnTo>
                <a:lnTo>
                  <a:pt x="168" y="24"/>
                </a:lnTo>
                <a:lnTo>
                  <a:pt x="168" y="29"/>
                </a:lnTo>
                <a:lnTo>
                  <a:pt x="172" y="33"/>
                </a:lnTo>
                <a:lnTo>
                  <a:pt x="172" y="48"/>
                </a:lnTo>
                <a:lnTo>
                  <a:pt x="177" y="53"/>
                </a:lnTo>
                <a:lnTo>
                  <a:pt x="177" y="67"/>
                </a:lnTo>
                <a:lnTo>
                  <a:pt x="182" y="72"/>
                </a:lnTo>
                <a:lnTo>
                  <a:pt x="182" y="91"/>
                </a:lnTo>
                <a:lnTo>
                  <a:pt x="187" y="96"/>
                </a:lnTo>
                <a:lnTo>
                  <a:pt x="187" y="110"/>
                </a:lnTo>
                <a:lnTo>
                  <a:pt x="192" y="120"/>
                </a:lnTo>
                <a:lnTo>
                  <a:pt x="192" y="129"/>
                </a:lnTo>
                <a:lnTo>
                  <a:pt x="196" y="139"/>
                </a:lnTo>
                <a:lnTo>
                  <a:pt x="196" y="149"/>
                </a:lnTo>
                <a:lnTo>
                  <a:pt x="201" y="153"/>
                </a:lnTo>
                <a:lnTo>
                  <a:pt x="201" y="163"/>
                </a:lnTo>
                <a:lnTo>
                  <a:pt x="206" y="168"/>
                </a:lnTo>
                <a:lnTo>
                  <a:pt x="206" y="173"/>
                </a:lnTo>
                <a:lnTo>
                  <a:pt x="211" y="177"/>
                </a:lnTo>
                <a:lnTo>
                  <a:pt x="211" y="182"/>
                </a:lnTo>
                <a:lnTo>
                  <a:pt x="220" y="192"/>
                </a:lnTo>
                <a:lnTo>
                  <a:pt x="220" y="197"/>
                </a:lnTo>
                <a:lnTo>
                  <a:pt x="225" y="201"/>
                </a:lnTo>
                <a:lnTo>
                  <a:pt x="225" y="206"/>
                </a:lnTo>
                <a:lnTo>
                  <a:pt x="230" y="211"/>
                </a:lnTo>
                <a:lnTo>
                  <a:pt x="230" y="221"/>
                </a:lnTo>
                <a:lnTo>
                  <a:pt x="235" y="225"/>
                </a:lnTo>
                <a:lnTo>
                  <a:pt x="235" y="240"/>
                </a:lnTo>
                <a:lnTo>
                  <a:pt x="240" y="249"/>
                </a:lnTo>
                <a:lnTo>
                  <a:pt x="240" y="273"/>
                </a:lnTo>
                <a:lnTo>
                  <a:pt x="244" y="283"/>
                </a:lnTo>
                <a:lnTo>
                  <a:pt x="244" y="297"/>
                </a:lnTo>
                <a:lnTo>
                  <a:pt x="249" y="316"/>
                </a:lnTo>
                <a:lnTo>
                  <a:pt x="249" y="350"/>
                </a:lnTo>
                <a:lnTo>
                  <a:pt x="254" y="369"/>
                </a:lnTo>
                <a:lnTo>
                  <a:pt x="254" y="417"/>
                </a:lnTo>
                <a:lnTo>
                  <a:pt x="259" y="441"/>
                </a:lnTo>
                <a:lnTo>
                  <a:pt x="259" y="494"/>
                </a:lnTo>
                <a:lnTo>
                  <a:pt x="264" y="518"/>
                </a:lnTo>
                <a:lnTo>
                  <a:pt x="264" y="580"/>
                </a:lnTo>
                <a:lnTo>
                  <a:pt x="268" y="609"/>
                </a:lnTo>
                <a:lnTo>
                  <a:pt x="268" y="671"/>
                </a:lnTo>
                <a:lnTo>
                  <a:pt x="273" y="700"/>
                </a:lnTo>
                <a:lnTo>
                  <a:pt x="273" y="763"/>
                </a:lnTo>
                <a:lnTo>
                  <a:pt x="278" y="796"/>
                </a:lnTo>
                <a:lnTo>
                  <a:pt x="278" y="854"/>
                </a:lnTo>
                <a:lnTo>
                  <a:pt x="283" y="887"/>
                </a:lnTo>
                <a:lnTo>
                  <a:pt x="283" y="945"/>
                </a:lnTo>
                <a:lnTo>
                  <a:pt x="288" y="969"/>
                </a:lnTo>
                <a:lnTo>
                  <a:pt x="288" y="998"/>
                </a:lnTo>
                <a:lnTo>
                  <a:pt x="292" y="1022"/>
                </a:lnTo>
                <a:lnTo>
                  <a:pt x="292" y="1070"/>
                </a:lnTo>
                <a:lnTo>
                  <a:pt x="297" y="1089"/>
                </a:lnTo>
                <a:lnTo>
                  <a:pt x="297" y="1127"/>
                </a:lnTo>
                <a:lnTo>
                  <a:pt x="302" y="1146"/>
                </a:lnTo>
                <a:lnTo>
                  <a:pt x="302" y="1175"/>
                </a:lnTo>
                <a:lnTo>
                  <a:pt x="307" y="1190"/>
                </a:lnTo>
                <a:lnTo>
                  <a:pt x="307" y="1214"/>
                </a:lnTo>
                <a:lnTo>
                  <a:pt x="311" y="1228"/>
                </a:lnTo>
                <a:lnTo>
                  <a:pt x="311" y="1247"/>
                </a:lnTo>
                <a:lnTo>
                  <a:pt x="316" y="1252"/>
                </a:lnTo>
                <a:lnTo>
                  <a:pt x="316" y="1266"/>
                </a:lnTo>
                <a:lnTo>
                  <a:pt x="321" y="1271"/>
                </a:lnTo>
                <a:lnTo>
                  <a:pt x="321" y="1281"/>
                </a:lnTo>
                <a:lnTo>
                  <a:pt x="326" y="1286"/>
                </a:lnTo>
                <a:lnTo>
                  <a:pt x="331" y="1290"/>
                </a:lnTo>
                <a:lnTo>
                  <a:pt x="335" y="1286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97320" y="2629080"/>
            <a:ext cx="601560" cy="1515960"/>
          </a:xfrm>
          <a:custGeom>
            <a:avLst/>
            <a:gdLst/>
            <a:ahLst/>
            <a:rect l="l" t="t" r="r" b="b"/>
            <a:pathLst>
              <a:path w="379" h="955">
                <a:moveTo>
                  <a:pt x="0" y="955"/>
                </a:moveTo>
                <a:lnTo>
                  <a:pt x="5" y="950"/>
                </a:lnTo>
                <a:lnTo>
                  <a:pt x="10" y="945"/>
                </a:lnTo>
                <a:lnTo>
                  <a:pt x="10" y="940"/>
                </a:lnTo>
                <a:lnTo>
                  <a:pt x="15" y="935"/>
                </a:lnTo>
                <a:lnTo>
                  <a:pt x="15" y="931"/>
                </a:lnTo>
                <a:lnTo>
                  <a:pt x="24" y="921"/>
                </a:lnTo>
                <a:lnTo>
                  <a:pt x="24" y="916"/>
                </a:lnTo>
                <a:lnTo>
                  <a:pt x="29" y="911"/>
                </a:lnTo>
                <a:lnTo>
                  <a:pt x="34" y="907"/>
                </a:lnTo>
                <a:lnTo>
                  <a:pt x="39" y="902"/>
                </a:lnTo>
                <a:lnTo>
                  <a:pt x="44" y="902"/>
                </a:lnTo>
                <a:lnTo>
                  <a:pt x="48" y="902"/>
                </a:lnTo>
                <a:lnTo>
                  <a:pt x="53" y="902"/>
                </a:lnTo>
                <a:lnTo>
                  <a:pt x="58" y="897"/>
                </a:lnTo>
                <a:lnTo>
                  <a:pt x="63" y="892"/>
                </a:lnTo>
                <a:lnTo>
                  <a:pt x="63" y="887"/>
                </a:lnTo>
                <a:lnTo>
                  <a:pt x="68" y="883"/>
                </a:lnTo>
                <a:lnTo>
                  <a:pt x="68" y="873"/>
                </a:lnTo>
                <a:lnTo>
                  <a:pt x="72" y="863"/>
                </a:lnTo>
                <a:lnTo>
                  <a:pt x="72" y="859"/>
                </a:lnTo>
                <a:lnTo>
                  <a:pt x="77" y="849"/>
                </a:lnTo>
                <a:lnTo>
                  <a:pt x="77" y="830"/>
                </a:lnTo>
                <a:lnTo>
                  <a:pt x="82" y="815"/>
                </a:lnTo>
                <a:lnTo>
                  <a:pt x="82" y="791"/>
                </a:lnTo>
                <a:lnTo>
                  <a:pt x="87" y="777"/>
                </a:lnTo>
                <a:lnTo>
                  <a:pt x="87" y="748"/>
                </a:lnTo>
                <a:lnTo>
                  <a:pt x="92" y="729"/>
                </a:lnTo>
                <a:lnTo>
                  <a:pt x="92" y="695"/>
                </a:lnTo>
                <a:lnTo>
                  <a:pt x="96" y="676"/>
                </a:lnTo>
                <a:lnTo>
                  <a:pt x="96" y="638"/>
                </a:lnTo>
                <a:lnTo>
                  <a:pt x="101" y="619"/>
                </a:lnTo>
                <a:lnTo>
                  <a:pt x="101" y="580"/>
                </a:lnTo>
                <a:lnTo>
                  <a:pt x="106" y="556"/>
                </a:lnTo>
                <a:lnTo>
                  <a:pt x="106" y="518"/>
                </a:lnTo>
                <a:lnTo>
                  <a:pt x="111" y="499"/>
                </a:lnTo>
                <a:lnTo>
                  <a:pt x="111" y="475"/>
                </a:lnTo>
                <a:lnTo>
                  <a:pt x="116" y="456"/>
                </a:lnTo>
                <a:lnTo>
                  <a:pt x="116" y="417"/>
                </a:lnTo>
                <a:lnTo>
                  <a:pt x="120" y="398"/>
                </a:lnTo>
                <a:lnTo>
                  <a:pt x="120" y="364"/>
                </a:lnTo>
                <a:lnTo>
                  <a:pt x="125" y="345"/>
                </a:lnTo>
                <a:lnTo>
                  <a:pt x="125" y="312"/>
                </a:lnTo>
                <a:lnTo>
                  <a:pt x="130" y="297"/>
                </a:lnTo>
                <a:lnTo>
                  <a:pt x="130" y="269"/>
                </a:lnTo>
                <a:lnTo>
                  <a:pt x="135" y="254"/>
                </a:lnTo>
                <a:lnTo>
                  <a:pt x="135" y="225"/>
                </a:lnTo>
                <a:lnTo>
                  <a:pt x="140" y="211"/>
                </a:lnTo>
                <a:lnTo>
                  <a:pt x="140" y="187"/>
                </a:lnTo>
                <a:lnTo>
                  <a:pt x="144" y="173"/>
                </a:lnTo>
                <a:lnTo>
                  <a:pt x="144" y="153"/>
                </a:lnTo>
                <a:lnTo>
                  <a:pt x="149" y="144"/>
                </a:lnTo>
                <a:lnTo>
                  <a:pt x="149" y="134"/>
                </a:lnTo>
                <a:lnTo>
                  <a:pt x="154" y="125"/>
                </a:lnTo>
                <a:lnTo>
                  <a:pt x="154" y="105"/>
                </a:lnTo>
                <a:lnTo>
                  <a:pt x="159" y="101"/>
                </a:lnTo>
                <a:lnTo>
                  <a:pt x="159" y="86"/>
                </a:lnTo>
                <a:lnTo>
                  <a:pt x="164" y="81"/>
                </a:lnTo>
                <a:lnTo>
                  <a:pt x="164" y="72"/>
                </a:lnTo>
                <a:lnTo>
                  <a:pt x="168" y="67"/>
                </a:lnTo>
                <a:lnTo>
                  <a:pt x="168" y="57"/>
                </a:lnTo>
                <a:lnTo>
                  <a:pt x="173" y="53"/>
                </a:lnTo>
                <a:lnTo>
                  <a:pt x="183" y="43"/>
                </a:lnTo>
                <a:lnTo>
                  <a:pt x="183" y="38"/>
                </a:lnTo>
                <a:lnTo>
                  <a:pt x="188" y="33"/>
                </a:lnTo>
                <a:lnTo>
                  <a:pt x="192" y="29"/>
                </a:lnTo>
                <a:lnTo>
                  <a:pt x="197" y="24"/>
                </a:lnTo>
                <a:lnTo>
                  <a:pt x="202" y="19"/>
                </a:lnTo>
                <a:lnTo>
                  <a:pt x="207" y="14"/>
                </a:lnTo>
                <a:lnTo>
                  <a:pt x="216" y="5"/>
                </a:lnTo>
                <a:lnTo>
                  <a:pt x="216" y="0"/>
                </a:lnTo>
                <a:lnTo>
                  <a:pt x="221" y="0"/>
                </a:lnTo>
                <a:lnTo>
                  <a:pt x="226" y="0"/>
                </a:lnTo>
                <a:lnTo>
                  <a:pt x="231" y="0"/>
                </a:lnTo>
                <a:lnTo>
                  <a:pt x="236" y="9"/>
                </a:lnTo>
                <a:lnTo>
                  <a:pt x="240" y="14"/>
                </a:lnTo>
                <a:lnTo>
                  <a:pt x="240" y="19"/>
                </a:lnTo>
                <a:lnTo>
                  <a:pt x="245" y="24"/>
                </a:lnTo>
                <a:lnTo>
                  <a:pt x="245" y="33"/>
                </a:lnTo>
                <a:lnTo>
                  <a:pt x="250" y="38"/>
                </a:lnTo>
                <a:lnTo>
                  <a:pt x="250" y="53"/>
                </a:lnTo>
                <a:lnTo>
                  <a:pt x="255" y="62"/>
                </a:lnTo>
                <a:lnTo>
                  <a:pt x="255" y="77"/>
                </a:lnTo>
                <a:lnTo>
                  <a:pt x="259" y="81"/>
                </a:lnTo>
                <a:lnTo>
                  <a:pt x="259" y="101"/>
                </a:lnTo>
                <a:lnTo>
                  <a:pt x="264" y="110"/>
                </a:lnTo>
                <a:lnTo>
                  <a:pt x="264" y="125"/>
                </a:lnTo>
                <a:lnTo>
                  <a:pt x="269" y="134"/>
                </a:lnTo>
                <a:lnTo>
                  <a:pt x="269" y="153"/>
                </a:lnTo>
                <a:lnTo>
                  <a:pt x="274" y="163"/>
                </a:lnTo>
                <a:lnTo>
                  <a:pt x="274" y="168"/>
                </a:lnTo>
                <a:lnTo>
                  <a:pt x="279" y="177"/>
                </a:lnTo>
                <a:lnTo>
                  <a:pt x="279" y="197"/>
                </a:lnTo>
                <a:lnTo>
                  <a:pt x="283" y="206"/>
                </a:lnTo>
                <a:lnTo>
                  <a:pt x="283" y="221"/>
                </a:lnTo>
                <a:lnTo>
                  <a:pt x="288" y="230"/>
                </a:lnTo>
                <a:lnTo>
                  <a:pt x="288" y="249"/>
                </a:lnTo>
                <a:lnTo>
                  <a:pt x="293" y="254"/>
                </a:lnTo>
                <a:lnTo>
                  <a:pt x="293" y="273"/>
                </a:lnTo>
                <a:lnTo>
                  <a:pt x="298" y="283"/>
                </a:lnTo>
                <a:lnTo>
                  <a:pt x="298" y="297"/>
                </a:lnTo>
                <a:lnTo>
                  <a:pt x="303" y="307"/>
                </a:lnTo>
                <a:lnTo>
                  <a:pt x="303" y="321"/>
                </a:lnTo>
                <a:lnTo>
                  <a:pt x="307" y="326"/>
                </a:lnTo>
                <a:lnTo>
                  <a:pt x="307" y="340"/>
                </a:lnTo>
                <a:lnTo>
                  <a:pt x="312" y="350"/>
                </a:lnTo>
                <a:lnTo>
                  <a:pt x="312" y="355"/>
                </a:lnTo>
                <a:lnTo>
                  <a:pt x="317" y="364"/>
                </a:lnTo>
                <a:lnTo>
                  <a:pt x="317" y="379"/>
                </a:lnTo>
                <a:lnTo>
                  <a:pt x="322" y="384"/>
                </a:lnTo>
                <a:lnTo>
                  <a:pt x="322" y="393"/>
                </a:lnTo>
                <a:lnTo>
                  <a:pt x="327" y="398"/>
                </a:lnTo>
                <a:lnTo>
                  <a:pt x="327" y="408"/>
                </a:lnTo>
                <a:lnTo>
                  <a:pt x="331" y="412"/>
                </a:lnTo>
                <a:lnTo>
                  <a:pt x="331" y="422"/>
                </a:lnTo>
                <a:lnTo>
                  <a:pt x="336" y="427"/>
                </a:lnTo>
                <a:lnTo>
                  <a:pt x="336" y="432"/>
                </a:lnTo>
                <a:lnTo>
                  <a:pt x="341" y="436"/>
                </a:lnTo>
                <a:lnTo>
                  <a:pt x="341" y="446"/>
                </a:lnTo>
                <a:lnTo>
                  <a:pt x="351" y="456"/>
                </a:lnTo>
                <a:lnTo>
                  <a:pt x="351" y="460"/>
                </a:lnTo>
                <a:lnTo>
                  <a:pt x="360" y="470"/>
                </a:lnTo>
                <a:lnTo>
                  <a:pt x="360" y="475"/>
                </a:lnTo>
                <a:lnTo>
                  <a:pt x="365" y="480"/>
                </a:lnTo>
                <a:lnTo>
                  <a:pt x="365" y="484"/>
                </a:lnTo>
                <a:lnTo>
                  <a:pt x="375" y="494"/>
                </a:lnTo>
                <a:lnTo>
                  <a:pt x="375" y="499"/>
                </a:lnTo>
                <a:lnTo>
                  <a:pt x="379" y="504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98880" y="3116160"/>
            <a:ext cx="936720" cy="319320"/>
          </a:xfrm>
          <a:custGeom>
            <a:avLst/>
            <a:gdLst/>
            <a:ahLst/>
            <a:rect l="l" t="t" r="r" b="b"/>
            <a:pathLst>
              <a:path w="590" h="201">
                <a:moveTo>
                  <a:pt x="0" y="197"/>
                </a:moveTo>
                <a:lnTo>
                  <a:pt x="5" y="201"/>
                </a:lnTo>
                <a:lnTo>
                  <a:pt x="10" y="201"/>
                </a:lnTo>
                <a:lnTo>
                  <a:pt x="15" y="201"/>
                </a:lnTo>
                <a:lnTo>
                  <a:pt x="20" y="201"/>
                </a:lnTo>
                <a:lnTo>
                  <a:pt x="24" y="201"/>
                </a:lnTo>
                <a:lnTo>
                  <a:pt x="29" y="197"/>
                </a:lnTo>
                <a:lnTo>
                  <a:pt x="34" y="187"/>
                </a:lnTo>
                <a:lnTo>
                  <a:pt x="39" y="182"/>
                </a:lnTo>
                <a:lnTo>
                  <a:pt x="48" y="173"/>
                </a:lnTo>
                <a:lnTo>
                  <a:pt x="48" y="168"/>
                </a:lnTo>
                <a:lnTo>
                  <a:pt x="53" y="163"/>
                </a:lnTo>
                <a:lnTo>
                  <a:pt x="58" y="158"/>
                </a:lnTo>
                <a:lnTo>
                  <a:pt x="68" y="149"/>
                </a:lnTo>
                <a:lnTo>
                  <a:pt x="68" y="144"/>
                </a:lnTo>
                <a:lnTo>
                  <a:pt x="72" y="139"/>
                </a:lnTo>
                <a:lnTo>
                  <a:pt x="72" y="134"/>
                </a:lnTo>
                <a:lnTo>
                  <a:pt x="82" y="125"/>
                </a:lnTo>
                <a:lnTo>
                  <a:pt x="82" y="120"/>
                </a:lnTo>
                <a:lnTo>
                  <a:pt x="87" y="115"/>
                </a:lnTo>
                <a:lnTo>
                  <a:pt x="87" y="110"/>
                </a:lnTo>
                <a:lnTo>
                  <a:pt x="92" y="105"/>
                </a:lnTo>
                <a:lnTo>
                  <a:pt x="101" y="96"/>
                </a:lnTo>
                <a:lnTo>
                  <a:pt x="101" y="91"/>
                </a:lnTo>
                <a:lnTo>
                  <a:pt x="106" y="86"/>
                </a:lnTo>
                <a:lnTo>
                  <a:pt x="106" y="81"/>
                </a:lnTo>
                <a:lnTo>
                  <a:pt x="116" y="72"/>
                </a:lnTo>
                <a:lnTo>
                  <a:pt x="116" y="67"/>
                </a:lnTo>
                <a:lnTo>
                  <a:pt x="125" y="57"/>
                </a:lnTo>
                <a:lnTo>
                  <a:pt x="125" y="53"/>
                </a:lnTo>
                <a:lnTo>
                  <a:pt x="130" y="48"/>
                </a:lnTo>
                <a:lnTo>
                  <a:pt x="130" y="43"/>
                </a:lnTo>
                <a:lnTo>
                  <a:pt x="135" y="38"/>
                </a:lnTo>
                <a:lnTo>
                  <a:pt x="144" y="29"/>
                </a:lnTo>
                <a:lnTo>
                  <a:pt x="144" y="24"/>
                </a:lnTo>
                <a:lnTo>
                  <a:pt x="149" y="19"/>
                </a:lnTo>
                <a:lnTo>
                  <a:pt x="154" y="14"/>
                </a:lnTo>
                <a:lnTo>
                  <a:pt x="159" y="9"/>
                </a:lnTo>
                <a:lnTo>
                  <a:pt x="163" y="5"/>
                </a:lnTo>
                <a:lnTo>
                  <a:pt x="168" y="0"/>
                </a:lnTo>
                <a:lnTo>
                  <a:pt x="173" y="0"/>
                </a:lnTo>
                <a:lnTo>
                  <a:pt x="178" y="0"/>
                </a:lnTo>
                <a:lnTo>
                  <a:pt x="183" y="0"/>
                </a:lnTo>
                <a:lnTo>
                  <a:pt x="187" y="0"/>
                </a:lnTo>
                <a:lnTo>
                  <a:pt x="192" y="0"/>
                </a:lnTo>
                <a:lnTo>
                  <a:pt x="197" y="5"/>
                </a:lnTo>
                <a:lnTo>
                  <a:pt x="202" y="5"/>
                </a:lnTo>
                <a:lnTo>
                  <a:pt x="207" y="5"/>
                </a:lnTo>
                <a:lnTo>
                  <a:pt x="211" y="9"/>
                </a:lnTo>
                <a:lnTo>
                  <a:pt x="216" y="9"/>
                </a:lnTo>
                <a:lnTo>
                  <a:pt x="221" y="9"/>
                </a:lnTo>
                <a:lnTo>
                  <a:pt x="226" y="9"/>
                </a:lnTo>
                <a:lnTo>
                  <a:pt x="231" y="9"/>
                </a:lnTo>
                <a:lnTo>
                  <a:pt x="235" y="9"/>
                </a:lnTo>
                <a:lnTo>
                  <a:pt x="240" y="9"/>
                </a:lnTo>
                <a:lnTo>
                  <a:pt x="245" y="9"/>
                </a:lnTo>
                <a:lnTo>
                  <a:pt x="250" y="9"/>
                </a:lnTo>
                <a:lnTo>
                  <a:pt x="255" y="14"/>
                </a:lnTo>
                <a:lnTo>
                  <a:pt x="259" y="14"/>
                </a:lnTo>
                <a:lnTo>
                  <a:pt x="264" y="14"/>
                </a:lnTo>
                <a:lnTo>
                  <a:pt x="269" y="14"/>
                </a:lnTo>
                <a:lnTo>
                  <a:pt x="274" y="14"/>
                </a:lnTo>
                <a:lnTo>
                  <a:pt x="279" y="19"/>
                </a:lnTo>
                <a:lnTo>
                  <a:pt x="283" y="19"/>
                </a:lnTo>
                <a:lnTo>
                  <a:pt x="288" y="24"/>
                </a:lnTo>
                <a:lnTo>
                  <a:pt x="293" y="24"/>
                </a:lnTo>
                <a:lnTo>
                  <a:pt x="298" y="29"/>
                </a:lnTo>
                <a:lnTo>
                  <a:pt x="303" y="33"/>
                </a:lnTo>
                <a:lnTo>
                  <a:pt x="307" y="33"/>
                </a:lnTo>
                <a:lnTo>
                  <a:pt x="312" y="38"/>
                </a:lnTo>
                <a:lnTo>
                  <a:pt x="317" y="43"/>
                </a:lnTo>
                <a:lnTo>
                  <a:pt x="322" y="43"/>
                </a:lnTo>
                <a:lnTo>
                  <a:pt x="327" y="48"/>
                </a:lnTo>
                <a:lnTo>
                  <a:pt x="331" y="48"/>
                </a:lnTo>
                <a:lnTo>
                  <a:pt x="336" y="48"/>
                </a:lnTo>
                <a:lnTo>
                  <a:pt x="341" y="48"/>
                </a:lnTo>
                <a:lnTo>
                  <a:pt x="346" y="48"/>
                </a:lnTo>
                <a:lnTo>
                  <a:pt x="351" y="48"/>
                </a:lnTo>
                <a:lnTo>
                  <a:pt x="355" y="48"/>
                </a:lnTo>
                <a:lnTo>
                  <a:pt x="360" y="48"/>
                </a:lnTo>
                <a:lnTo>
                  <a:pt x="365" y="48"/>
                </a:lnTo>
                <a:lnTo>
                  <a:pt x="370" y="48"/>
                </a:lnTo>
                <a:lnTo>
                  <a:pt x="375" y="48"/>
                </a:lnTo>
                <a:lnTo>
                  <a:pt x="379" y="48"/>
                </a:lnTo>
                <a:lnTo>
                  <a:pt x="384" y="48"/>
                </a:lnTo>
                <a:lnTo>
                  <a:pt x="389" y="48"/>
                </a:lnTo>
                <a:lnTo>
                  <a:pt x="394" y="48"/>
                </a:lnTo>
                <a:lnTo>
                  <a:pt x="399" y="48"/>
                </a:lnTo>
                <a:lnTo>
                  <a:pt x="403" y="53"/>
                </a:lnTo>
                <a:lnTo>
                  <a:pt x="408" y="53"/>
                </a:lnTo>
                <a:lnTo>
                  <a:pt x="413" y="53"/>
                </a:lnTo>
                <a:lnTo>
                  <a:pt x="418" y="53"/>
                </a:lnTo>
                <a:lnTo>
                  <a:pt x="422" y="57"/>
                </a:lnTo>
                <a:lnTo>
                  <a:pt x="427" y="57"/>
                </a:lnTo>
                <a:lnTo>
                  <a:pt x="432" y="57"/>
                </a:lnTo>
                <a:lnTo>
                  <a:pt x="437" y="57"/>
                </a:lnTo>
                <a:lnTo>
                  <a:pt x="442" y="57"/>
                </a:lnTo>
                <a:lnTo>
                  <a:pt x="446" y="57"/>
                </a:lnTo>
                <a:lnTo>
                  <a:pt x="451" y="57"/>
                </a:lnTo>
                <a:lnTo>
                  <a:pt x="456" y="57"/>
                </a:lnTo>
                <a:lnTo>
                  <a:pt x="461" y="57"/>
                </a:lnTo>
                <a:lnTo>
                  <a:pt x="466" y="57"/>
                </a:lnTo>
                <a:lnTo>
                  <a:pt x="470" y="57"/>
                </a:lnTo>
                <a:lnTo>
                  <a:pt x="475" y="57"/>
                </a:lnTo>
                <a:lnTo>
                  <a:pt x="480" y="57"/>
                </a:lnTo>
                <a:lnTo>
                  <a:pt x="485" y="53"/>
                </a:lnTo>
                <a:lnTo>
                  <a:pt x="490" y="53"/>
                </a:lnTo>
                <a:lnTo>
                  <a:pt x="494" y="53"/>
                </a:lnTo>
                <a:lnTo>
                  <a:pt x="499" y="53"/>
                </a:lnTo>
                <a:lnTo>
                  <a:pt x="504" y="53"/>
                </a:lnTo>
                <a:lnTo>
                  <a:pt x="509" y="53"/>
                </a:lnTo>
                <a:lnTo>
                  <a:pt x="514" y="53"/>
                </a:lnTo>
                <a:lnTo>
                  <a:pt x="518" y="53"/>
                </a:lnTo>
                <a:lnTo>
                  <a:pt x="523" y="53"/>
                </a:lnTo>
                <a:lnTo>
                  <a:pt x="528" y="53"/>
                </a:lnTo>
                <a:lnTo>
                  <a:pt x="533" y="57"/>
                </a:lnTo>
                <a:lnTo>
                  <a:pt x="538" y="57"/>
                </a:lnTo>
                <a:lnTo>
                  <a:pt x="542" y="53"/>
                </a:lnTo>
                <a:lnTo>
                  <a:pt x="547" y="53"/>
                </a:lnTo>
                <a:lnTo>
                  <a:pt x="552" y="53"/>
                </a:lnTo>
                <a:lnTo>
                  <a:pt x="557" y="53"/>
                </a:lnTo>
                <a:lnTo>
                  <a:pt x="562" y="53"/>
                </a:lnTo>
                <a:lnTo>
                  <a:pt x="566" y="53"/>
                </a:lnTo>
                <a:lnTo>
                  <a:pt x="571" y="53"/>
                </a:lnTo>
                <a:lnTo>
                  <a:pt x="576" y="53"/>
                </a:lnTo>
                <a:lnTo>
                  <a:pt x="581" y="48"/>
                </a:lnTo>
                <a:lnTo>
                  <a:pt x="586" y="48"/>
                </a:lnTo>
                <a:lnTo>
                  <a:pt x="590" y="48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5600" y="3176640"/>
            <a:ext cx="366840" cy="15840"/>
          </a:xfrm>
          <a:custGeom>
            <a:avLst/>
            <a:gdLst/>
            <a:ahLst/>
            <a:rect l="l" t="t" r="r" b="b"/>
            <a:pathLst>
              <a:path w="231" h="10">
                <a:moveTo>
                  <a:pt x="0" y="10"/>
                </a:moveTo>
                <a:lnTo>
                  <a:pt x="5" y="10"/>
                </a:lnTo>
                <a:lnTo>
                  <a:pt x="10" y="10"/>
                </a:lnTo>
                <a:lnTo>
                  <a:pt x="15" y="5"/>
                </a:lnTo>
                <a:lnTo>
                  <a:pt x="20" y="5"/>
                </a:lnTo>
                <a:lnTo>
                  <a:pt x="24" y="5"/>
                </a:lnTo>
                <a:lnTo>
                  <a:pt x="29" y="5"/>
                </a:lnTo>
                <a:lnTo>
                  <a:pt x="34" y="5"/>
                </a:lnTo>
                <a:lnTo>
                  <a:pt x="39" y="5"/>
                </a:lnTo>
                <a:lnTo>
                  <a:pt x="44" y="5"/>
                </a:lnTo>
                <a:lnTo>
                  <a:pt x="48" y="5"/>
                </a:lnTo>
                <a:lnTo>
                  <a:pt x="53" y="5"/>
                </a:lnTo>
                <a:lnTo>
                  <a:pt x="58" y="5"/>
                </a:lnTo>
                <a:lnTo>
                  <a:pt x="63" y="5"/>
                </a:lnTo>
                <a:lnTo>
                  <a:pt x="68" y="5"/>
                </a:lnTo>
                <a:lnTo>
                  <a:pt x="72" y="5"/>
                </a:lnTo>
                <a:lnTo>
                  <a:pt x="77" y="5"/>
                </a:lnTo>
                <a:lnTo>
                  <a:pt x="82" y="0"/>
                </a:lnTo>
                <a:lnTo>
                  <a:pt x="87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  <a:lnTo>
                  <a:pt x="106" y="0"/>
                </a:lnTo>
                <a:lnTo>
                  <a:pt x="111" y="0"/>
                </a:lnTo>
                <a:lnTo>
                  <a:pt x="115" y="0"/>
                </a:lnTo>
                <a:lnTo>
                  <a:pt x="120" y="0"/>
                </a:lnTo>
                <a:lnTo>
                  <a:pt x="125" y="0"/>
                </a:lnTo>
                <a:lnTo>
                  <a:pt x="130" y="0"/>
                </a:lnTo>
                <a:lnTo>
                  <a:pt x="135" y="0"/>
                </a:lnTo>
                <a:lnTo>
                  <a:pt x="139" y="0"/>
                </a:lnTo>
                <a:lnTo>
                  <a:pt x="144" y="0"/>
                </a:lnTo>
                <a:lnTo>
                  <a:pt x="149" y="0"/>
                </a:lnTo>
                <a:lnTo>
                  <a:pt x="154" y="0"/>
                </a:lnTo>
                <a:lnTo>
                  <a:pt x="159" y="0"/>
                </a:lnTo>
                <a:lnTo>
                  <a:pt x="163" y="5"/>
                </a:lnTo>
                <a:lnTo>
                  <a:pt x="168" y="5"/>
                </a:lnTo>
                <a:lnTo>
                  <a:pt x="173" y="5"/>
                </a:lnTo>
                <a:lnTo>
                  <a:pt x="178" y="5"/>
                </a:lnTo>
                <a:lnTo>
                  <a:pt x="183" y="5"/>
                </a:lnTo>
                <a:lnTo>
                  <a:pt x="187" y="5"/>
                </a:lnTo>
                <a:lnTo>
                  <a:pt x="192" y="5"/>
                </a:lnTo>
                <a:lnTo>
                  <a:pt x="197" y="5"/>
                </a:lnTo>
                <a:lnTo>
                  <a:pt x="202" y="5"/>
                </a:lnTo>
                <a:lnTo>
                  <a:pt x="207" y="5"/>
                </a:lnTo>
                <a:lnTo>
                  <a:pt x="211" y="5"/>
                </a:lnTo>
                <a:lnTo>
                  <a:pt x="216" y="5"/>
                </a:lnTo>
                <a:lnTo>
                  <a:pt x="221" y="5"/>
                </a:lnTo>
                <a:lnTo>
                  <a:pt x="226" y="5"/>
                </a:lnTo>
                <a:lnTo>
                  <a:pt x="231" y="5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89360" y="3154320"/>
            <a:ext cx="852480" cy="471600"/>
          </a:xfrm>
          <a:custGeom>
            <a:avLst/>
            <a:gdLst/>
            <a:ahLst/>
            <a:rect l="l" t="t" r="r" b="b"/>
            <a:pathLst>
              <a:path w="537" h="297">
                <a:moveTo>
                  <a:pt x="0" y="19"/>
                </a:moveTo>
                <a:lnTo>
                  <a:pt x="5" y="19"/>
                </a:lnTo>
                <a:lnTo>
                  <a:pt x="10" y="19"/>
                </a:lnTo>
                <a:lnTo>
                  <a:pt x="15" y="14"/>
                </a:lnTo>
                <a:lnTo>
                  <a:pt x="19" y="14"/>
                </a:lnTo>
                <a:lnTo>
                  <a:pt x="24" y="14"/>
                </a:lnTo>
                <a:lnTo>
                  <a:pt x="29" y="14"/>
                </a:lnTo>
                <a:lnTo>
                  <a:pt x="34" y="14"/>
                </a:lnTo>
                <a:lnTo>
                  <a:pt x="39" y="14"/>
                </a:lnTo>
                <a:lnTo>
                  <a:pt x="43" y="14"/>
                </a:lnTo>
                <a:lnTo>
                  <a:pt x="48" y="14"/>
                </a:lnTo>
                <a:lnTo>
                  <a:pt x="53" y="14"/>
                </a:lnTo>
                <a:lnTo>
                  <a:pt x="58" y="14"/>
                </a:lnTo>
                <a:lnTo>
                  <a:pt x="62" y="9"/>
                </a:lnTo>
                <a:lnTo>
                  <a:pt x="67" y="9"/>
                </a:lnTo>
                <a:lnTo>
                  <a:pt x="72" y="9"/>
                </a:lnTo>
                <a:lnTo>
                  <a:pt x="77" y="14"/>
                </a:lnTo>
                <a:lnTo>
                  <a:pt x="82" y="14"/>
                </a:lnTo>
                <a:lnTo>
                  <a:pt x="86" y="14"/>
                </a:lnTo>
                <a:lnTo>
                  <a:pt x="91" y="14"/>
                </a:lnTo>
                <a:lnTo>
                  <a:pt x="96" y="14"/>
                </a:lnTo>
                <a:lnTo>
                  <a:pt x="101" y="19"/>
                </a:lnTo>
                <a:lnTo>
                  <a:pt x="106" y="19"/>
                </a:lnTo>
                <a:lnTo>
                  <a:pt x="110" y="19"/>
                </a:lnTo>
                <a:lnTo>
                  <a:pt x="115" y="19"/>
                </a:lnTo>
                <a:lnTo>
                  <a:pt x="120" y="19"/>
                </a:lnTo>
                <a:lnTo>
                  <a:pt x="125" y="19"/>
                </a:lnTo>
                <a:lnTo>
                  <a:pt x="130" y="19"/>
                </a:lnTo>
                <a:lnTo>
                  <a:pt x="134" y="14"/>
                </a:lnTo>
                <a:lnTo>
                  <a:pt x="139" y="14"/>
                </a:lnTo>
                <a:lnTo>
                  <a:pt x="144" y="14"/>
                </a:lnTo>
                <a:lnTo>
                  <a:pt x="149" y="9"/>
                </a:lnTo>
                <a:lnTo>
                  <a:pt x="154" y="9"/>
                </a:lnTo>
                <a:lnTo>
                  <a:pt x="158" y="9"/>
                </a:lnTo>
                <a:lnTo>
                  <a:pt x="163" y="9"/>
                </a:lnTo>
                <a:lnTo>
                  <a:pt x="168" y="5"/>
                </a:lnTo>
                <a:lnTo>
                  <a:pt x="173" y="5"/>
                </a:lnTo>
                <a:lnTo>
                  <a:pt x="178" y="5"/>
                </a:lnTo>
                <a:lnTo>
                  <a:pt x="182" y="5"/>
                </a:lnTo>
                <a:lnTo>
                  <a:pt x="187" y="5"/>
                </a:lnTo>
                <a:lnTo>
                  <a:pt x="192" y="5"/>
                </a:lnTo>
                <a:lnTo>
                  <a:pt x="197" y="5"/>
                </a:lnTo>
                <a:lnTo>
                  <a:pt x="202" y="5"/>
                </a:lnTo>
                <a:lnTo>
                  <a:pt x="206" y="5"/>
                </a:lnTo>
                <a:lnTo>
                  <a:pt x="211" y="5"/>
                </a:lnTo>
                <a:lnTo>
                  <a:pt x="216" y="5"/>
                </a:lnTo>
                <a:lnTo>
                  <a:pt x="221" y="5"/>
                </a:lnTo>
                <a:lnTo>
                  <a:pt x="226" y="5"/>
                </a:lnTo>
                <a:lnTo>
                  <a:pt x="230" y="9"/>
                </a:lnTo>
                <a:lnTo>
                  <a:pt x="235" y="9"/>
                </a:lnTo>
                <a:lnTo>
                  <a:pt x="240" y="9"/>
                </a:lnTo>
                <a:lnTo>
                  <a:pt x="245" y="9"/>
                </a:lnTo>
                <a:lnTo>
                  <a:pt x="250" y="9"/>
                </a:lnTo>
                <a:lnTo>
                  <a:pt x="254" y="9"/>
                </a:lnTo>
                <a:lnTo>
                  <a:pt x="259" y="14"/>
                </a:lnTo>
                <a:lnTo>
                  <a:pt x="264" y="14"/>
                </a:lnTo>
                <a:lnTo>
                  <a:pt x="269" y="14"/>
                </a:lnTo>
                <a:lnTo>
                  <a:pt x="274" y="14"/>
                </a:lnTo>
                <a:lnTo>
                  <a:pt x="278" y="14"/>
                </a:lnTo>
                <a:lnTo>
                  <a:pt x="283" y="19"/>
                </a:lnTo>
                <a:lnTo>
                  <a:pt x="288" y="19"/>
                </a:lnTo>
                <a:lnTo>
                  <a:pt x="293" y="19"/>
                </a:lnTo>
                <a:lnTo>
                  <a:pt x="298" y="24"/>
                </a:lnTo>
                <a:lnTo>
                  <a:pt x="302" y="24"/>
                </a:lnTo>
                <a:lnTo>
                  <a:pt x="307" y="24"/>
                </a:lnTo>
                <a:lnTo>
                  <a:pt x="312" y="19"/>
                </a:lnTo>
                <a:lnTo>
                  <a:pt x="317" y="19"/>
                </a:lnTo>
                <a:lnTo>
                  <a:pt x="322" y="14"/>
                </a:lnTo>
                <a:lnTo>
                  <a:pt x="326" y="14"/>
                </a:lnTo>
                <a:lnTo>
                  <a:pt x="331" y="9"/>
                </a:lnTo>
                <a:lnTo>
                  <a:pt x="336" y="5"/>
                </a:lnTo>
                <a:lnTo>
                  <a:pt x="341" y="5"/>
                </a:lnTo>
                <a:lnTo>
                  <a:pt x="345" y="0"/>
                </a:lnTo>
                <a:lnTo>
                  <a:pt x="350" y="0"/>
                </a:lnTo>
                <a:lnTo>
                  <a:pt x="355" y="0"/>
                </a:lnTo>
                <a:lnTo>
                  <a:pt x="360" y="0"/>
                </a:lnTo>
                <a:lnTo>
                  <a:pt x="365" y="5"/>
                </a:lnTo>
                <a:lnTo>
                  <a:pt x="369" y="5"/>
                </a:lnTo>
                <a:lnTo>
                  <a:pt x="374" y="9"/>
                </a:lnTo>
                <a:lnTo>
                  <a:pt x="379" y="9"/>
                </a:lnTo>
                <a:lnTo>
                  <a:pt x="384" y="14"/>
                </a:lnTo>
                <a:lnTo>
                  <a:pt x="389" y="14"/>
                </a:lnTo>
                <a:lnTo>
                  <a:pt x="393" y="14"/>
                </a:lnTo>
                <a:lnTo>
                  <a:pt x="398" y="19"/>
                </a:lnTo>
                <a:lnTo>
                  <a:pt x="403" y="19"/>
                </a:lnTo>
                <a:lnTo>
                  <a:pt x="408" y="19"/>
                </a:lnTo>
                <a:lnTo>
                  <a:pt x="413" y="14"/>
                </a:lnTo>
                <a:lnTo>
                  <a:pt x="417" y="14"/>
                </a:lnTo>
                <a:lnTo>
                  <a:pt x="422" y="14"/>
                </a:lnTo>
                <a:lnTo>
                  <a:pt x="427" y="9"/>
                </a:lnTo>
                <a:lnTo>
                  <a:pt x="432" y="9"/>
                </a:lnTo>
                <a:lnTo>
                  <a:pt x="437" y="9"/>
                </a:lnTo>
                <a:lnTo>
                  <a:pt x="441" y="9"/>
                </a:lnTo>
                <a:lnTo>
                  <a:pt x="446" y="9"/>
                </a:lnTo>
                <a:lnTo>
                  <a:pt x="451" y="14"/>
                </a:lnTo>
                <a:lnTo>
                  <a:pt x="456" y="19"/>
                </a:lnTo>
                <a:lnTo>
                  <a:pt x="461" y="24"/>
                </a:lnTo>
                <a:lnTo>
                  <a:pt x="461" y="29"/>
                </a:lnTo>
                <a:lnTo>
                  <a:pt x="465" y="33"/>
                </a:lnTo>
                <a:lnTo>
                  <a:pt x="465" y="43"/>
                </a:lnTo>
                <a:lnTo>
                  <a:pt x="470" y="48"/>
                </a:lnTo>
                <a:lnTo>
                  <a:pt x="470" y="57"/>
                </a:lnTo>
                <a:lnTo>
                  <a:pt x="475" y="67"/>
                </a:lnTo>
                <a:lnTo>
                  <a:pt x="475" y="81"/>
                </a:lnTo>
                <a:lnTo>
                  <a:pt x="480" y="86"/>
                </a:lnTo>
                <a:lnTo>
                  <a:pt x="480" y="96"/>
                </a:lnTo>
                <a:lnTo>
                  <a:pt x="485" y="105"/>
                </a:lnTo>
                <a:lnTo>
                  <a:pt x="485" y="125"/>
                </a:lnTo>
                <a:lnTo>
                  <a:pt x="489" y="129"/>
                </a:lnTo>
                <a:lnTo>
                  <a:pt x="489" y="149"/>
                </a:lnTo>
                <a:lnTo>
                  <a:pt x="494" y="158"/>
                </a:lnTo>
                <a:lnTo>
                  <a:pt x="494" y="177"/>
                </a:lnTo>
                <a:lnTo>
                  <a:pt x="499" y="187"/>
                </a:lnTo>
                <a:lnTo>
                  <a:pt x="499" y="206"/>
                </a:lnTo>
                <a:lnTo>
                  <a:pt x="504" y="216"/>
                </a:lnTo>
                <a:lnTo>
                  <a:pt x="504" y="230"/>
                </a:lnTo>
                <a:lnTo>
                  <a:pt x="509" y="240"/>
                </a:lnTo>
                <a:lnTo>
                  <a:pt x="509" y="254"/>
                </a:lnTo>
                <a:lnTo>
                  <a:pt x="513" y="259"/>
                </a:lnTo>
                <a:lnTo>
                  <a:pt x="513" y="269"/>
                </a:lnTo>
                <a:lnTo>
                  <a:pt x="518" y="273"/>
                </a:lnTo>
                <a:lnTo>
                  <a:pt x="518" y="278"/>
                </a:lnTo>
                <a:lnTo>
                  <a:pt x="523" y="283"/>
                </a:lnTo>
                <a:lnTo>
                  <a:pt x="523" y="288"/>
                </a:lnTo>
                <a:lnTo>
                  <a:pt x="533" y="297"/>
                </a:lnTo>
                <a:lnTo>
                  <a:pt x="528" y="297"/>
                </a:lnTo>
                <a:lnTo>
                  <a:pt x="533" y="297"/>
                </a:lnTo>
                <a:lnTo>
                  <a:pt x="537" y="293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41840" y="2278080"/>
            <a:ext cx="563400" cy="1797120"/>
          </a:xfrm>
          <a:custGeom>
            <a:avLst/>
            <a:gdLst/>
            <a:ahLst/>
            <a:rect l="l" t="t" r="r" b="b"/>
            <a:pathLst>
              <a:path w="355" h="1132">
                <a:moveTo>
                  <a:pt x="0" y="845"/>
                </a:moveTo>
                <a:lnTo>
                  <a:pt x="5" y="840"/>
                </a:lnTo>
                <a:lnTo>
                  <a:pt x="15" y="830"/>
                </a:lnTo>
                <a:lnTo>
                  <a:pt x="15" y="821"/>
                </a:lnTo>
                <a:lnTo>
                  <a:pt x="20" y="816"/>
                </a:lnTo>
                <a:lnTo>
                  <a:pt x="24" y="811"/>
                </a:lnTo>
                <a:lnTo>
                  <a:pt x="24" y="806"/>
                </a:lnTo>
                <a:lnTo>
                  <a:pt x="29" y="801"/>
                </a:lnTo>
                <a:lnTo>
                  <a:pt x="29" y="797"/>
                </a:lnTo>
                <a:lnTo>
                  <a:pt x="39" y="787"/>
                </a:lnTo>
                <a:lnTo>
                  <a:pt x="39" y="782"/>
                </a:lnTo>
                <a:lnTo>
                  <a:pt x="48" y="773"/>
                </a:lnTo>
                <a:lnTo>
                  <a:pt x="48" y="768"/>
                </a:lnTo>
                <a:lnTo>
                  <a:pt x="53" y="763"/>
                </a:lnTo>
                <a:lnTo>
                  <a:pt x="58" y="758"/>
                </a:lnTo>
                <a:lnTo>
                  <a:pt x="63" y="758"/>
                </a:lnTo>
                <a:lnTo>
                  <a:pt x="67" y="749"/>
                </a:lnTo>
                <a:lnTo>
                  <a:pt x="72" y="744"/>
                </a:lnTo>
                <a:lnTo>
                  <a:pt x="72" y="739"/>
                </a:lnTo>
                <a:lnTo>
                  <a:pt x="77" y="734"/>
                </a:lnTo>
                <a:lnTo>
                  <a:pt x="77" y="725"/>
                </a:lnTo>
                <a:lnTo>
                  <a:pt x="82" y="720"/>
                </a:lnTo>
                <a:lnTo>
                  <a:pt x="82" y="705"/>
                </a:lnTo>
                <a:lnTo>
                  <a:pt x="87" y="696"/>
                </a:lnTo>
                <a:lnTo>
                  <a:pt x="87" y="677"/>
                </a:lnTo>
                <a:lnTo>
                  <a:pt x="91" y="667"/>
                </a:lnTo>
                <a:lnTo>
                  <a:pt x="91" y="643"/>
                </a:lnTo>
                <a:lnTo>
                  <a:pt x="96" y="629"/>
                </a:lnTo>
                <a:lnTo>
                  <a:pt x="96" y="600"/>
                </a:lnTo>
                <a:lnTo>
                  <a:pt x="101" y="585"/>
                </a:lnTo>
                <a:lnTo>
                  <a:pt x="101" y="571"/>
                </a:lnTo>
                <a:lnTo>
                  <a:pt x="106" y="552"/>
                </a:lnTo>
                <a:lnTo>
                  <a:pt x="106" y="518"/>
                </a:lnTo>
                <a:lnTo>
                  <a:pt x="111" y="499"/>
                </a:lnTo>
                <a:lnTo>
                  <a:pt x="111" y="456"/>
                </a:lnTo>
                <a:lnTo>
                  <a:pt x="115" y="437"/>
                </a:lnTo>
                <a:lnTo>
                  <a:pt x="115" y="398"/>
                </a:lnTo>
                <a:lnTo>
                  <a:pt x="120" y="374"/>
                </a:lnTo>
                <a:lnTo>
                  <a:pt x="120" y="331"/>
                </a:lnTo>
                <a:lnTo>
                  <a:pt x="125" y="312"/>
                </a:lnTo>
                <a:lnTo>
                  <a:pt x="125" y="274"/>
                </a:lnTo>
                <a:lnTo>
                  <a:pt x="130" y="250"/>
                </a:lnTo>
                <a:lnTo>
                  <a:pt x="130" y="211"/>
                </a:lnTo>
                <a:lnTo>
                  <a:pt x="135" y="192"/>
                </a:lnTo>
                <a:lnTo>
                  <a:pt x="135" y="159"/>
                </a:lnTo>
                <a:lnTo>
                  <a:pt x="139" y="144"/>
                </a:lnTo>
                <a:lnTo>
                  <a:pt x="139" y="125"/>
                </a:lnTo>
                <a:lnTo>
                  <a:pt x="144" y="111"/>
                </a:lnTo>
                <a:lnTo>
                  <a:pt x="144" y="87"/>
                </a:lnTo>
                <a:lnTo>
                  <a:pt x="149" y="72"/>
                </a:lnTo>
                <a:lnTo>
                  <a:pt x="149" y="53"/>
                </a:lnTo>
                <a:lnTo>
                  <a:pt x="154" y="43"/>
                </a:lnTo>
                <a:lnTo>
                  <a:pt x="154" y="24"/>
                </a:lnTo>
                <a:lnTo>
                  <a:pt x="159" y="19"/>
                </a:lnTo>
                <a:lnTo>
                  <a:pt x="159" y="10"/>
                </a:lnTo>
                <a:lnTo>
                  <a:pt x="168" y="0"/>
                </a:lnTo>
                <a:lnTo>
                  <a:pt x="163" y="0"/>
                </a:lnTo>
                <a:lnTo>
                  <a:pt x="168" y="0"/>
                </a:lnTo>
                <a:lnTo>
                  <a:pt x="173" y="5"/>
                </a:lnTo>
                <a:lnTo>
                  <a:pt x="178" y="10"/>
                </a:lnTo>
                <a:lnTo>
                  <a:pt x="178" y="15"/>
                </a:lnTo>
                <a:lnTo>
                  <a:pt x="183" y="19"/>
                </a:lnTo>
                <a:lnTo>
                  <a:pt x="183" y="24"/>
                </a:lnTo>
                <a:lnTo>
                  <a:pt x="187" y="29"/>
                </a:lnTo>
                <a:lnTo>
                  <a:pt x="187" y="39"/>
                </a:lnTo>
                <a:lnTo>
                  <a:pt x="192" y="43"/>
                </a:lnTo>
                <a:lnTo>
                  <a:pt x="192" y="53"/>
                </a:lnTo>
                <a:lnTo>
                  <a:pt x="197" y="58"/>
                </a:lnTo>
                <a:lnTo>
                  <a:pt x="197" y="67"/>
                </a:lnTo>
                <a:lnTo>
                  <a:pt x="202" y="72"/>
                </a:lnTo>
                <a:lnTo>
                  <a:pt x="202" y="87"/>
                </a:lnTo>
                <a:lnTo>
                  <a:pt x="207" y="91"/>
                </a:lnTo>
                <a:lnTo>
                  <a:pt x="207" y="96"/>
                </a:lnTo>
                <a:lnTo>
                  <a:pt x="211" y="101"/>
                </a:lnTo>
                <a:lnTo>
                  <a:pt x="211" y="111"/>
                </a:lnTo>
                <a:lnTo>
                  <a:pt x="216" y="115"/>
                </a:lnTo>
                <a:lnTo>
                  <a:pt x="216" y="120"/>
                </a:lnTo>
                <a:lnTo>
                  <a:pt x="226" y="130"/>
                </a:lnTo>
                <a:lnTo>
                  <a:pt x="226" y="139"/>
                </a:lnTo>
                <a:lnTo>
                  <a:pt x="231" y="144"/>
                </a:lnTo>
                <a:lnTo>
                  <a:pt x="231" y="149"/>
                </a:lnTo>
                <a:lnTo>
                  <a:pt x="235" y="154"/>
                </a:lnTo>
                <a:lnTo>
                  <a:pt x="235" y="163"/>
                </a:lnTo>
                <a:lnTo>
                  <a:pt x="240" y="173"/>
                </a:lnTo>
                <a:lnTo>
                  <a:pt x="240" y="182"/>
                </a:lnTo>
                <a:lnTo>
                  <a:pt x="245" y="192"/>
                </a:lnTo>
                <a:lnTo>
                  <a:pt x="245" y="206"/>
                </a:lnTo>
                <a:lnTo>
                  <a:pt x="250" y="216"/>
                </a:lnTo>
                <a:lnTo>
                  <a:pt x="250" y="240"/>
                </a:lnTo>
                <a:lnTo>
                  <a:pt x="255" y="254"/>
                </a:lnTo>
                <a:lnTo>
                  <a:pt x="255" y="278"/>
                </a:lnTo>
                <a:lnTo>
                  <a:pt x="259" y="293"/>
                </a:lnTo>
                <a:lnTo>
                  <a:pt x="259" y="312"/>
                </a:lnTo>
                <a:lnTo>
                  <a:pt x="264" y="326"/>
                </a:lnTo>
                <a:lnTo>
                  <a:pt x="264" y="365"/>
                </a:lnTo>
                <a:lnTo>
                  <a:pt x="269" y="384"/>
                </a:lnTo>
                <a:lnTo>
                  <a:pt x="269" y="422"/>
                </a:lnTo>
                <a:lnTo>
                  <a:pt x="274" y="446"/>
                </a:lnTo>
                <a:lnTo>
                  <a:pt x="274" y="490"/>
                </a:lnTo>
                <a:lnTo>
                  <a:pt x="279" y="514"/>
                </a:lnTo>
                <a:lnTo>
                  <a:pt x="279" y="561"/>
                </a:lnTo>
                <a:lnTo>
                  <a:pt x="283" y="585"/>
                </a:lnTo>
                <a:lnTo>
                  <a:pt x="283" y="633"/>
                </a:lnTo>
                <a:lnTo>
                  <a:pt x="288" y="662"/>
                </a:lnTo>
                <a:lnTo>
                  <a:pt x="288" y="710"/>
                </a:lnTo>
                <a:lnTo>
                  <a:pt x="293" y="734"/>
                </a:lnTo>
                <a:lnTo>
                  <a:pt x="293" y="782"/>
                </a:lnTo>
                <a:lnTo>
                  <a:pt x="298" y="806"/>
                </a:lnTo>
                <a:lnTo>
                  <a:pt x="298" y="849"/>
                </a:lnTo>
                <a:lnTo>
                  <a:pt x="303" y="873"/>
                </a:lnTo>
                <a:lnTo>
                  <a:pt x="303" y="893"/>
                </a:lnTo>
                <a:lnTo>
                  <a:pt x="307" y="912"/>
                </a:lnTo>
                <a:lnTo>
                  <a:pt x="307" y="950"/>
                </a:lnTo>
                <a:lnTo>
                  <a:pt x="312" y="969"/>
                </a:lnTo>
                <a:lnTo>
                  <a:pt x="312" y="998"/>
                </a:lnTo>
                <a:lnTo>
                  <a:pt x="317" y="1017"/>
                </a:lnTo>
                <a:lnTo>
                  <a:pt x="317" y="1041"/>
                </a:lnTo>
                <a:lnTo>
                  <a:pt x="322" y="1056"/>
                </a:lnTo>
                <a:lnTo>
                  <a:pt x="322" y="1075"/>
                </a:lnTo>
                <a:lnTo>
                  <a:pt x="326" y="1084"/>
                </a:lnTo>
                <a:lnTo>
                  <a:pt x="326" y="1099"/>
                </a:lnTo>
                <a:lnTo>
                  <a:pt x="331" y="1108"/>
                </a:lnTo>
                <a:lnTo>
                  <a:pt x="331" y="1118"/>
                </a:lnTo>
                <a:lnTo>
                  <a:pt x="341" y="1128"/>
                </a:lnTo>
                <a:lnTo>
                  <a:pt x="341" y="1132"/>
                </a:lnTo>
                <a:lnTo>
                  <a:pt x="346" y="1132"/>
                </a:lnTo>
                <a:lnTo>
                  <a:pt x="350" y="1128"/>
                </a:lnTo>
                <a:lnTo>
                  <a:pt x="355" y="1123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05240" y="2651040"/>
            <a:ext cx="601560" cy="1409760"/>
          </a:xfrm>
          <a:custGeom>
            <a:avLst/>
            <a:gdLst/>
            <a:ahLst/>
            <a:rect l="l" t="t" r="r" b="b"/>
            <a:pathLst>
              <a:path w="379" h="888">
                <a:moveTo>
                  <a:pt x="0" y="888"/>
                </a:moveTo>
                <a:lnTo>
                  <a:pt x="5" y="883"/>
                </a:lnTo>
                <a:lnTo>
                  <a:pt x="10" y="878"/>
                </a:lnTo>
                <a:lnTo>
                  <a:pt x="10" y="873"/>
                </a:lnTo>
                <a:lnTo>
                  <a:pt x="19" y="864"/>
                </a:lnTo>
                <a:lnTo>
                  <a:pt x="19" y="859"/>
                </a:lnTo>
                <a:lnTo>
                  <a:pt x="24" y="854"/>
                </a:lnTo>
                <a:lnTo>
                  <a:pt x="29" y="849"/>
                </a:lnTo>
                <a:lnTo>
                  <a:pt x="34" y="845"/>
                </a:lnTo>
                <a:lnTo>
                  <a:pt x="43" y="835"/>
                </a:lnTo>
                <a:lnTo>
                  <a:pt x="43" y="830"/>
                </a:lnTo>
                <a:lnTo>
                  <a:pt x="48" y="825"/>
                </a:lnTo>
                <a:lnTo>
                  <a:pt x="48" y="821"/>
                </a:lnTo>
                <a:lnTo>
                  <a:pt x="53" y="816"/>
                </a:lnTo>
                <a:lnTo>
                  <a:pt x="53" y="806"/>
                </a:lnTo>
                <a:lnTo>
                  <a:pt x="58" y="801"/>
                </a:lnTo>
                <a:lnTo>
                  <a:pt x="58" y="787"/>
                </a:lnTo>
                <a:lnTo>
                  <a:pt x="63" y="777"/>
                </a:lnTo>
                <a:lnTo>
                  <a:pt x="63" y="763"/>
                </a:lnTo>
                <a:lnTo>
                  <a:pt x="67" y="753"/>
                </a:lnTo>
                <a:lnTo>
                  <a:pt x="67" y="744"/>
                </a:lnTo>
                <a:lnTo>
                  <a:pt x="72" y="729"/>
                </a:lnTo>
                <a:lnTo>
                  <a:pt x="72" y="710"/>
                </a:lnTo>
                <a:lnTo>
                  <a:pt x="77" y="696"/>
                </a:lnTo>
                <a:lnTo>
                  <a:pt x="77" y="667"/>
                </a:lnTo>
                <a:lnTo>
                  <a:pt x="82" y="653"/>
                </a:lnTo>
                <a:lnTo>
                  <a:pt x="82" y="624"/>
                </a:lnTo>
                <a:lnTo>
                  <a:pt x="87" y="605"/>
                </a:lnTo>
                <a:lnTo>
                  <a:pt x="87" y="576"/>
                </a:lnTo>
                <a:lnTo>
                  <a:pt x="91" y="557"/>
                </a:lnTo>
                <a:lnTo>
                  <a:pt x="91" y="523"/>
                </a:lnTo>
                <a:lnTo>
                  <a:pt x="96" y="504"/>
                </a:lnTo>
                <a:lnTo>
                  <a:pt x="96" y="470"/>
                </a:lnTo>
                <a:lnTo>
                  <a:pt x="101" y="451"/>
                </a:lnTo>
                <a:lnTo>
                  <a:pt x="101" y="413"/>
                </a:lnTo>
                <a:lnTo>
                  <a:pt x="106" y="398"/>
                </a:lnTo>
                <a:lnTo>
                  <a:pt x="106" y="379"/>
                </a:lnTo>
                <a:lnTo>
                  <a:pt x="111" y="365"/>
                </a:lnTo>
                <a:lnTo>
                  <a:pt x="111" y="326"/>
                </a:lnTo>
                <a:lnTo>
                  <a:pt x="115" y="312"/>
                </a:lnTo>
                <a:lnTo>
                  <a:pt x="115" y="279"/>
                </a:lnTo>
                <a:lnTo>
                  <a:pt x="120" y="264"/>
                </a:lnTo>
                <a:lnTo>
                  <a:pt x="120" y="235"/>
                </a:lnTo>
                <a:lnTo>
                  <a:pt x="125" y="221"/>
                </a:lnTo>
                <a:lnTo>
                  <a:pt x="125" y="197"/>
                </a:lnTo>
                <a:lnTo>
                  <a:pt x="130" y="183"/>
                </a:lnTo>
                <a:lnTo>
                  <a:pt x="130" y="163"/>
                </a:lnTo>
                <a:lnTo>
                  <a:pt x="135" y="149"/>
                </a:lnTo>
                <a:lnTo>
                  <a:pt x="135" y="130"/>
                </a:lnTo>
                <a:lnTo>
                  <a:pt x="139" y="120"/>
                </a:lnTo>
                <a:lnTo>
                  <a:pt x="139" y="106"/>
                </a:lnTo>
                <a:lnTo>
                  <a:pt x="144" y="96"/>
                </a:lnTo>
                <a:lnTo>
                  <a:pt x="144" y="91"/>
                </a:lnTo>
                <a:lnTo>
                  <a:pt x="149" y="82"/>
                </a:lnTo>
                <a:lnTo>
                  <a:pt x="149" y="72"/>
                </a:lnTo>
                <a:lnTo>
                  <a:pt x="154" y="67"/>
                </a:lnTo>
                <a:lnTo>
                  <a:pt x="154" y="53"/>
                </a:lnTo>
                <a:lnTo>
                  <a:pt x="159" y="48"/>
                </a:lnTo>
                <a:lnTo>
                  <a:pt x="159" y="43"/>
                </a:lnTo>
                <a:lnTo>
                  <a:pt x="168" y="34"/>
                </a:lnTo>
                <a:lnTo>
                  <a:pt x="168" y="29"/>
                </a:lnTo>
                <a:lnTo>
                  <a:pt x="173" y="24"/>
                </a:lnTo>
                <a:lnTo>
                  <a:pt x="178" y="19"/>
                </a:lnTo>
                <a:lnTo>
                  <a:pt x="183" y="15"/>
                </a:lnTo>
                <a:lnTo>
                  <a:pt x="187" y="10"/>
                </a:lnTo>
                <a:lnTo>
                  <a:pt x="192" y="10"/>
                </a:lnTo>
                <a:lnTo>
                  <a:pt x="197" y="5"/>
                </a:lnTo>
                <a:lnTo>
                  <a:pt x="202" y="0"/>
                </a:lnTo>
                <a:lnTo>
                  <a:pt x="207" y="0"/>
                </a:lnTo>
                <a:lnTo>
                  <a:pt x="211" y="0"/>
                </a:lnTo>
                <a:lnTo>
                  <a:pt x="216" y="5"/>
                </a:lnTo>
                <a:lnTo>
                  <a:pt x="221" y="10"/>
                </a:lnTo>
                <a:lnTo>
                  <a:pt x="226" y="15"/>
                </a:lnTo>
                <a:lnTo>
                  <a:pt x="231" y="19"/>
                </a:lnTo>
                <a:lnTo>
                  <a:pt x="231" y="24"/>
                </a:lnTo>
                <a:lnTo>
                  <a:pt x="235" y="29"/>
                </a:lnTo>
                <a:lnTo>
                  <a:pt x="235" y="39"/>
                </a:lnTo>
                <a:lnTo>
                  <a:pt x="240" y="43"/>
                </a:lnTo>
                <a:lnTo>
                  <a:pt x="240" y="58"/>
                </a:lnTo>
                <a:lnTo>
                  <a:pt x="245" y="63"/>
                </a:lnTo>
                <a:lnTo>
                  <a:pt x="245" y="77"/>
                </a:lnTo>
                <a:lnTo>
                  <a:pt x="250" y="82"/>
                </a:lnTo>
                <a:lnTo>
                  <a:pt x="250" y="96"/>
                </a:lnTo>
                <a:lnTo>
                  <a:pt x="254" y="106"/>
                </a:lnTo>
                <a:lnTo>
                  <a:pt x="254" y="120"/>
                </a:lnTo>
                <a:lnTo>
                  <a:pt x="259" y="125"/>
                </a:lnTo>
                <a:lnTo>
                  <a:pt x="259" y="144"/>
                </a:lnTo>
                <a:lnTo>
                  <a:pt x="264" y="154"/>
                </a:lnTo>
                <a:lnTo>
                  <a:pt x="264" y="168"/>
                </a:lnTo>
                <a:lnTo>
                  <a:pt x="269" y="178"/>
                </a:lnTo>
                <a:lnTo>
                  <a:pt x="269" y="187"/>
                </a:lnTo>
                <a:lnTo>
                  <a:pt x="274" y="192"/>
                </a:lnTo>
                <a:lnTo>
                  <a:pt x="274" y="211"/>
                </a:lnTo>
                <a:lnTo>
                  <a:pt x="278" y="216"/>
                </a:lnTo>
                <a:lnTo>
                  <a:pt x="278" y="235"/>
                </a:lnTo>
                <a:lnTo>
                  <a:pt x="283" y="240"/>
                </a:lnTo>
                <a:lnTo>
                  <a:pt x="283" y="259"/>
                </a:lnTo>
                <a:lnTo>
                  <a:pt x="288" y="264"/>
                </a:lnTo>
                <a:lnTo>
                  <a:pt x="288" y="283"/>
                </a:lnTo>
                <a:lnTo>
                  <a:pt x="293" y="288"/>
                </a:lnTo>
                <a:lnTo>
                  <a:pt x="293" y="302"/>
                </a:lnTo>
                <a:lnTo>
                  <a:pt x="298" y="312"/>
                </a:lnTo>
                <a:lnTo>
                  <a:pt x="298" y="322"/>
                </a:lnTo>
                <a:lnTo>
                  <a:pt x="302" y="331"/>
                </a:lnTo>
                <a:lnTo>
                  <a:pt x="302" y="341"/>
                </a:lnTo>
                <a:lnTo>
                  <a:pt x="307" y="350"/>
                </a:lnTo>
                <a:lnTo>
                  <a:pt x="307" y="355"/>
                </a:lnTo>
                <a:lnTo>
                  <a:pt x="312" y="360"/>
                </a:lnTo>
                <a:lnTo>
                  <a:pt x="312" y="370"/>
                </a:lnTo>
                <a:lnTo>
                  <a:pt x="317" y="379"/>
                </a:lnTo>
                <a:lnTo>
                  <a:pt x="317" y="389"/>
                </a:lnTo>
                <a:lnTo>
                  <a:pt x="322" y="394"/>
                </a:lnTo>
                <a:lnTo>
                  <a:pt x="322" y="403"/>
                </a:lnTo>
                <a:lnTo>
                  <a:pt x="326" y="408"/>
                </a:lnTo>
                <a:lnTo>
                  <a:pt x="326" y="413"/>
                </a:lnTo>
                <a:lnTo>
                  <a:pt x="331" y="418"/>
                </a:lnTo>
                <a:lnTo>
                  <a:pt x="331" y="422"/>
                </a:lnTo>
                <a:lnTo>
                  <a:pt x="336" y="427"/>
                </a:lnTo>
                <a:lnTo>
                  <a:pt x="336" y="437"/>
                </a:lnTo>
                <a:lnTo>
                  <a:pt x="341" y="442"/>
                </a:lnTo>
                <a:lnTo>
                  <a:pt x="350" y="451"/>
                </a:lnTo>
                <a:lnTo>
                  <a:pt x="350" y="456"/>
                </a:lnTo>
                <a:lnTo>
                  <a:pt x="360" y="466"/>
                </a:lnTo>
                <a:lnTo>
                  <a:pt x="360" y="470"/>
                </a:lnTo>
                <a:lnTo>
                  <a:pt x="365" y="475"/>
                </a:lnTo>
                <a:lnTo>
                  <a:pt x="370" y="480"/>
                </a:lnTo>
                <a:lnTo>
                  <a:pt x="374" y="480"/>
                </a:lnTo>
                <a:lnTo>
                  <a:pt x="379" y="485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06800" y="3116160"/>
            <a:ext cx="960480" cy="304920"/>
          </a:xfrm>
          <a:custGeom>
            <a:avLst/>
            <a:gdLst/>
            <a:ahLst/>
            <a:rect l="l" t="t" r="r" b="b"/>
            <a:pathLst>
              <a:path w="605" h="192">
                <a:moveTo>
                  <a:pt x="0" y="192"/>
                </a:moveTo>
                <a:lnTo>
                  <a:pt x="5" y="192"/>
                </a:lnTo>
                <a:lnTo>
                  <a:pt x="10" y="192"/>
                </a:lnTo>
                <a:lnTo>
                  <a:pt x="15" y="187"/>
                </a:lnTo>
                <a:lnTo>
                  <a:pt x="19" y="182"/>
                </a:lnTo>
                <a:lnTo>
                  <a:pt x="24" y="177"/>
                </a:lnTo>
                <a:lnTo>
                  <a:pt x="29" y="173"/>
                </a:lnTo>
                <a:lnTo>
                  <a:pt x="34" y="168"/>
                </a:lnTo>
                <a:lnTo>
                  <a:pt x="43" y="158"/>
                </a:lnTo>
                <a:lnTo>
                  <a:pt x="43" y="153"/>
                </a:lnTo>
                <a:lnTo>
                  <a:pt x="48" y="149"/>
                </a:lnTo>
                <a:lnTo>
                  <a:pt x="58" y="139"/>
                </a:lnTo>
                <a:lnTo>
                  <a:pt x="58" y="134"/>
                </a:lnTo>
                <a:lnTo>
                  <a:pt x="67" y="125"/>
                </a:lnTo>
                <a:lnTo>
                  <a:pt x="67" y="120"/>
                </a:lnTo>
                <a:lnTo>
                  <a:pt x="77" y="110"/>
                </a:lnTo>
                <a:lnTo>
                  <a:pt x="77" y="105"/>
                </a:lnTo>
                <a:lnTo>
                  <a:pt x="87" y="96"/>
                </a:lnTo>
                <a:lnTo>
                  <a:pt x="87" y="91"/>
                </a:lnTo>
                <a:lnTo>
                  <a:pt x="91" y="86"/>
                </a:lnTo>
                <a:lnTo>
                  <a:pt x="101" y="77"/>
                </a:lnTo>
                <a:lnTo>
                  <a:pt x="101" y="72"/>
                </a:lnTo>
                <a:lnTo>
                  <a:pt x="111" y="62"/>
                </a:lnTo>
                <a:lnTo>
                  <a:pt x="111" y="57"/>
                </a:lnTo>
                <a:lnTo>
                  <a:pt x="120" y="48"/>
                </a:lnTo>
                <a:lnTo>
                  <a:pt x="120" y="43"/>
                </a:lnTo>
                <a:lnTo>
                  <a:pt x="130" y="33"/>
                </a:lnTo>
                <a:lnTo>
                  <a:pt x="125" y="33"/>
                </a:lnTo>
                <a:lnTo>
                  <a:pt x="130" y="33"/>
                </a:lnTo>
                <a:lnTo>
                  <a:pt x="139" y="24"/>
                </a:lnTo>
                <a:lnTo>
                  <a:pt x="139" y="19"/>
                </a:lnTo>
                <a:lnTo>
                  <a:pt x="144" y="14"/>
                </a:lnTo>
                <a:lnTo>
                  <a:pt x="149" y="9"/>
                </a:lnTo>
                <a:lnTo>
                  <a:pt x="154" y="5"/>
                </a:lnTo>
                <a:lnTo>
                  <a:pt x="158" y="5"/>
                </a:lnTo>
                <a:lnTo>
                  <a:pt x="163" y="5"/>
                </a:lnTo>
                <a:lnTo>
                  <a:pt x="168" y="0"/>
                </a:lnTo>
                <a:lnTo>
                  <a:pt x="173" y="0"/>
                </a:lnTo>
                <a:lnTo>
                  <a:pt x="178" y="5"/>
                </a:lnTo>
                <a:lnTo>
                  <a:pt x="182" y="5"/>
                </a:lnTo>
                <a:lnTo>
                  <a:pt x="187" y="5"/>
                </a:lnTo>
                <a:lnTo>
                  <a:pt x="192" y="5"/>
                </a:lnTo>
                <a:lnTo>
                  <a:pt x="197" y="9"/>
                </a:lnTo>
                <a:lnTo>
                  <a:pt x="202" y="9"/>
                </a:lnTo>
                <a:lnTo>
                  <a:pt x="206" y="9"/>
                </a:lnTo>
                <a:lnTo>
                  <a:pt x="211" y="14"/>
                </a:lnTo>
                <a:lnTo>
                  <a:pt x="216" y="14"/>
                </a:lnTo>
                <a:lnTo>
                  <a:pt x="221" y="14"/>
                </a:lnTo>
                <a:lnTo>
                  <a:pt x="226" y="14"/>
                </a:lnTo>
                <a:lnTo>
                  <a:pt x="230" y="14"/>
                </a:lnTo>
                <a:lnTo>
                  <a:pt x="235" y="14"/>
                </a:lnTo>
                <a:lnTo>
                  <a:pt x="240" y="14"/>
                </a:lnTo>
                <a:lnTo>
                  <a:pt x="245" y="19"/>
                </a:lnTo>
                <a:lnTo>
                  <a:pt x="250" y="19"/>
                </a:lnTo>
                <a:lnTo>
                  <a:pt x="254" y="19"/>
                </a:lnTo>
                <a:lnTo>
                  <a:pt x="259" y="19"/>
                </a:lnTo>
                <a:lnTo>
                  <a:pt x="264" y="24"/>
                </a:lnTo>
                <a:lnTo>
                  <a:pt x="269" y="24"/>
                </a:lnTo>
                <a:lnTo>
                  <a:pt x="274" y="24"/>
                </a:lnTo>
                <a:lnTo>
                  <a:pt x="278" y="29"/>
                </a:lnTo>
                <a:lnTo>
                  <a:pt x="283" y="29"/>
                </a:lnTo>
                <a:lnTo>
                  <a:pt x="288" y="33"/>
                </a:lnTo>
                <a:lnTo>
                  <a:pt x="293" y="33"/>
                </a:lnTo>
                <a:lnTo>
                  <a:pt x="298" y="38"/>
                </a:lnTo>
                <a:lnTo>
                  <a:pt x="302" y="38"/>
                </a:lnTo>
                <a:lnTo>
                  <a:pt x="307" y="43"/>
                </a:lnTo>
                <a:lnTo>
                  <a:pt x="312" y="48"/>
                </a:lnTo>
                <a:lnTo>
                  <a:pt x="317" y="48"/>
                </a:lnTo>
                <a:lnTo>
                  <a:pt x="322" y="48"/>
                </a:lnTo>
                <a:lnTo>
                  <a:pt x="326" y="48"/>
                </a:lnTo>
                <a:lnTo>
                  <a:pt x="331" y="53"/>
                </a:lnTo>
                <a:lnTo>
                  <a:pt x="336" y="53"/>
                </a:lnTo>
                <a:lnTo>
                  <a:pt x="341" y="53"/>
                </a:lnTo>
                <a:lnTo>
                  <a:pt x="346" y="53"/>
                </a:lnTo>
                <a:lnTo>
                  <a:pt x="350" y="53"/>
                </a:lnTo>
                <a:lnTo>
                  <a:pt x="355" y="53"/>
                </a:lnTo>
                <a:lnTo>
                  <a:pt x="360" y="53"/>
                </a:lnTo>
                <a:lnTo>
                  <a:pt x="365" y="53"/>
                </a:lnTo>
                <a:lnTo>
                  <a:pt x="370" y="53"/>
                </a:lnTo>
                <a:lnTo>
                  <a:pt x="374" y="53"/>
                </a:lnTo>
                <a:lnTo>
                  <a:pt x="379" y="53"/>
                </a:lnTo>
                <a:lnTo>
                  <a:pt x="384" y="53"/>
                </a:lnTo>
                <a:lnTo>
                  <a:pt x="389" y="53"/>
                </a:lnTo>
                <a:lnTo>
                  <a:pt x="394" y="53"/>
                </a:lnTo>
                <a:lnTo>
                  <a:pt x="398" y="53"/>
                </a:lnTo>
                <a:lnTo>
                  <a:pt x="403" y="53"/>
                </a:lnTo>
                <a:lnTo>
                  <a:pt x="408" y="53"/>
                </a:lnTo>
                <a:lnTo>
                  <a:pt x="413" y="53"/>
                </a:lnTo>
                <a:lnTo>
                  <a:pt x="417" y="57"/>
                </a:lnTo>
                <a:lnTo>
                  <a:pt x="422" y="57"/>
                </a:lnTo>
                <a:lnTo>
                  <a:pt x="427" y="57"/>
                </a:lnTo>
                <a:lnTo>
                  <a:pt x="432" y="57"/>
                </a:lnTo>
                <a:lnTo>
                  <a:pt x="437" y="57"/>
                </a:lnTo>
                <a:lnTo>
                  <a:pt x="441" y="57"/>
                </a:lnTo>
                <a:lnTo>
                  <a:pt x="446" y="57"/>
                </a:lnTo>
                <a:lnTo>
                  <a:pt x="451" y="57"/>
                </a:lnTo>
                <a:lnTo>
                  <a:pt x="456" y="57"/>
                </a:lnTo>
                <a:lnTo>
                  <a:pt x="461" y="57"/>
                </a:lnTo>
                <a:lnTo>
                  <a:pt x="465" y="57"/>
                </a:lnTo>
                <a:lnTo>
                  <a:pt x="470" y="53"/>
                </a:lnTo>
                <a:lnTo>
                  <a:pt x="475" y="53"/>
                </a:lnTo>
                <a:lnTo>
                  <a:pt x="480" y="53"/>
                </a:lnTo>
                <a:lnTo>
                  <a:pt x="485" y="53"/>
                </a:lnTo>
                <a:lnTo>
                  <a:pt x="489" y="53"/>
                </a:lnTo>
                <a:lnTo>
                  <a:pt x="494" y="53"/>
                </a:lnTo>
                <a:lnTo>
                  <a:pt x="499" y="53"/>
                </a:lnTo>
                <a:lnTo>
                  <a:pt x="504" y="53"/>
                </a:lnTo>
                <a:lnTo>
                  <a:pt x="509" y="53"/>
                </a:lnTo>
                <a:lnTo>
                  <a:pt x="513" y="53"/>
                </a:lnTo>
                <a:lnTo>
                  <a:pt x="518" y="53"/>
                </a:lnTo>
                <a:lnTo>
                  <a:pt x="523" y="53"/>
                </a:lnTo>
                <a:lnTo>
                  <a:pt x="528" y="53"/>
                </a:lnTo>
                <a:lnTo>
                  <a:pt x="533" y="53"/>
                </a:lnTo>
                <a:lnTo>
                  <a:pt x="537" y="53"/>
                </a:lnTo>
                <a:lnTo>
                  <a:pt x="542" y="53"/>
                </a:lnTo>
                <a:lnTo>
                  <a:pt x="547" y="53"/>
                </a:lnTo>
                <a:lnTo>
                  <a:pt x="552" y="53"/>
                </a:lnTo>
                <a:lnTo>
                  <a:pt x="557" y="48"/>
                </a:lnTo>
                <a:lnTo>
                  <a:pt x="561" y="48"/>
                </a:lnTo>
                <a:lnTo>
                  <a:pt x="566" y="48"/>
                </a:lnTo>
                <a:lnTo>
                  <a:pt x="571" y="48"/>
                </a:lnTo>
                <a:lnTo>
                  <a:pt x="576" y="48"/>
                </a:lnTo>
                <a:lnTo>
                  <a:pt x="581" y="48"/>
                </a:lnTo>
                <a:lnTo>
                  <a:pt x="585" y="48"/>
                </a:lnTo>
                <a:lnTo>
                  <a:pt x="590" y="43"/>
                </a:lnTo>
                <a:lnTo>
                  <a:pt x="595" y="43"/>
                </a:lnTo>
                <a:lnTo>
                  <a:pt x="600" y="43"/>
                </a:lnTo>
                <a:lnTo>
                  <a:pt x="605" y="43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3176640"/>
            <a:ext cx="335160" cy="7920"/>
          </a:xfrm>
          <a:custGeom>
            <a:avLst/>
            <a:gdLst/>
            <a:ahLst/>
            <a:rect l="l" t="t" r="r" b="b"/>
            <a:pathLst>
              <a:path w="211" h="5">
                <a:moveTo>
                  <a:pt x="0" y="5"/>
                </a:moveTo>
                <a:lnTo>
                  <a:pt x="4" y="5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4" y="5"/>
                </a:lnTo>
                <a:lnTo>
                  <a:pt x="28" y="5"/>
                </a:lnTo>
                <a:lnTo>
                  <a:pt x="33" y="5"/>
                </a:lnTo>
                <a:lnTo>
                  <a:pt x="38" y="5"/>
                </a:lnTo>
                <a:lnTo>
                  <a:pt x="43" y="5"/>
                </a:lnTo>
                <a:lnTo>
                  <a:pt x="48" y="5"/>
                </a:lnTo>
                <a:lnTo>
                  <a:pt x="52" y="5"/>
                </a:lnTo>
                <a:lnTo>
                  <a:pt x="57" y="5"/>
                </a:ln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6" y="0"/>
                </a:lnTo>
                <a:lnTo>
                  <a:pt x="81" y="0"/>
                </a:lnTo>
                <a:lnTo>
                  <a:pt x="86" y="0"/>
                </a:lnTo>
                <a:lnTo>
                  <a:pt x="91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10" y="0"/>
                </a:lnTo>
                <a:lnTo>
                  <a:pt x="115" y="0"/>
                </a:lnTo>
                <a:lnTo>
                  <a:pt x="119" y="0"/>
                </a:lnTo>
                <a:lnTo>
                  <a:pt x="124" y="0"/>
                </a:lnTo>
                <a:lnTo>
                  <a:pt x="129" y="0"/>
                </a:lnTo>
                <a:lnTo>
                  <a:pt x="134" y="5"/>
                </a:lnTo>
                <a:lnTo>
                  <a:pt x="139" y="5"/>
                </a:lnTo>
                <a:lnTo>
                  <a:pt x="143" y="5"/>
                </a:lnTo>
                <a:lnTo>
                  <a:pt x="148" y="5"/>
                </a:lnTo>
                <a:lnTo>
                  <a:pt x="153" y="5"/>
                </a:lnTo>
                <a:lnTo>
                  <a:pt x="158" y="5"/>
                </a:lnTo>
                <a:lnTo>
                  <a:pt x="163" y="5"/>
                </a:lnTo>
                <a:lnTo>
                  <a:pt x="167" y="5"/>
                </a:lnTo>
                <a:lnTo>
                  <a:pt x="172" y="5"/>
                </a:lnTo>
                <a:lnTo>
                  <a:pt x="177" y="5"/>
                </a:lnTo>
                <a:lnTo>
                  <a:pt x="182" y="5"/>
                </a:lnTo>
                <a:lnTo>
                  <a:pt x="187" y="5"/>
                </a:lnTo>
                <a:lnTo>
                  <a:pt x="191" y="5"/>
                </a:lnTo>
                <a:lnTo>
                  <a:pt x="196" y="5"/>
                </a:lnTo>
                <a:lnTo>
                  <a:pt x="201" y="5"/>
                </a:lnTo>
                <a:lnTo>
                  <a:pt x="206" y="5"/>
                </a:lnTo>
                <a:lnTo>
                  <a:pt x="211" y="5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560" y="47880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1887120" y="305136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, v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057400" y="5257800"/>
          <a:ext cx="5511960" cy="7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257800"/>
                    <a:ext cx="551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3060720" y="1662120"/>
            <a:ext cx="3308400" cy="26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0720" y="1662120"/>
            <a:ext cx="3308400" cy="2606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60720" y="166212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60720" y="426888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69120" y="1661760"/>
            <a:ext cx="1440" cy="260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060720" y="1661760"/>
            <a:ext cx="1440" cy="260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60720" y="4268880"/>
            <a:ext cx="330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068640" y="4230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68640" y="16621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8368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479760" y="4230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79760" y="166212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9480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890880" y="4230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90880" y="166212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628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02000" y="4230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02000" y="166212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1884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722840" y="4230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2840" y="16621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3788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133960" y="4230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33960" y="16621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4900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545080" y="4230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545080" y="166212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6048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56200" y="4230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56200" y="166212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25600" y="4324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369120" y="4230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69120" y="166212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84160" y="4324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60720" y="4268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337440" y="426888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68400" y="42084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60720" y="4002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337440" y="400212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68400" y="39416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60720" y="37432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337440" y="374328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68400" y="368136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60720" y="34830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337440" y="34830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68400" y="342252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60720" y="3224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337440" y="3224160"/>
            <a:ext cx="31680" cy="1800"/>
          </a:xfrm>
          <a:prstGeom prst="line">
            <a:avLst/>
          </a:prstGeom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0680" y="3164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60720" y="29653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337440" y="296532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14120" y="2903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60720" y="2698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337440" y="269892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14120" y="2637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60720" y="24382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337440" y="243828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4120" y="23781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60720" y="21798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337440" y="21798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14120" y="2119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60720" y="1920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337440" y="192096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4120" y="1860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60720" y="1662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337440" y="166212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14120" y="1600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60720" y="3224160"/>
            <a:ext cx="1050840" cy="633600"/>
          </a:xfrm>
          <a:custGeom>
            <a:avLst/>
            <a:gdLst/>
            <a:ahLst/>
            <a:rect l="l" t="t" r="r" b="b"/>
            <a:pathLst>
              <a:path w="662" h="399">
                <a:moveTo>
                  <a:pt x="0" y="0"/>
                </a:move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4" y="0"/>
                </a:lnTo>
                <a:lnTo>
                  <a:pt x="29" y="0"/>
                </a:lnTo>
                <a:lnTo>
                  <a:pt x="33" y="0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3" y="0"/>
                </a:lnTo>
                <a:lnTo>
                  <a:pt x="57" y="0"/>
                </a:lnTo>
                <a:lnTo>
                  <a:pt x="67" y="0"/>
                </a:lnTo>
                <a:lnTo>
                  <a:pt x="72" y="0"/>
                </a:lnTo>
                <a:lnTo>
                  <a:pt x="77" y="0"/>
                </a:lnTo>
                <a:lnTo>
                  <a:pt x="81" y="0"/>
                </a:lnTo>
                <a:lnTo>
                  <a:pt x="86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5" y="0"/>
                </a:lnTo>
                <a:lnTo>
                  <a:pt x="120" y="0"/>
                </a:lnTo>
                <a:lnTo>
                  <a:pt x="129" y="0"/>
                </a:lnTo>
                <a:lnTo>
                  <a:pt x="134" y="0"/>
                </a:lnTo>
                <a:lnTo>
                  <a:pt x="139" y="0"/>
                </a:lnTo>
                <a:lnTo>
                  <a:pt x="144" y="0"/>
                </a:lnTo>
                <a:lnTo>
                  <a:pt x="149" y="0"/>
                </a:lnTo>
                <a:lnTo>
                  <a:pt x="153" y="0"/>
                </a:lnTo>
                <a:lnTo>
                  <a:pt x="158" y="0"/>
                </a:lnTo>
                <a:lnTo>
                  <a:pt x="163" y="0"/>
                </a:lnTo>
                <a:lnTo>
                  <a:pt x="168" y="0"/>
                </a:lnTo>
                <a:lnTo>
                  <a:pt x="173" y="0"/>
                </a:lnTo>
                <a:lnTo>
                  <a:pt x="177" y="0"/>
                </a:lnTo>
                <a:lnTo>
                  <a:pt x="182" y="0"/>
                </a:lnTo>
                <a:lnTo>
                  <a:pt x="192" y="0"/>
                </a:lnTo>
                <a:lnTo>
                  <a:pt x="197" y="0"/>
                </a:lnTo>
                <a:lnTo>
                  <a:pt x="201" y="0"/>
                </a:lnTo>
                <a:lnTo>
                  <a:pt x="206" y="0"/>
                </a:lnTo>
                <a:lnTo>
                  <a:pt x="211" y="0"/>
                </a:lnTo>
                <a:lnTo>
                  <a:pt x="216" y="0"/>
                </a:lnTo>
                <a:lnTo>
                  <a:pt x="221" y="0"/>
                </a:lnTo>
                <a:lnTo>
                  <a:pt x="225" y="0"/>
                </a:lnTo>
                <a:lnTo>
                  <a:pt x="230" y="0"/>
                </a:lnTo>
                <a:lnTo>
                  <a:pt x="235" y="0"/>
                </a:lnTo>
                <a:lnTo>
                  <a:pt x="240" y="0"/>
                </a:lnTo>
                <a:lnTo>
                  <a:pt x="245" y="0"/>
                </a:lnTo>
                <a:lnTo>
                  <a:pt x="254" y="0"/>
                </a:lnTo>
                <a:lnTo>
                  <a:pt x="259" y="0"/>
                </a:lnTo>
                <a:lnTo>
                  <a:pt x="264" y="0"/>
                </a:lnTo>
                <a:lnTo>
                  <a:pt x="269" y="0"/>
                </a:lnTo>
                <a:lnTo>
                  <a:pt x="273" y="0"/>
                </a:lnTo>
                <a:lnTo>
                  <a:pt x="278" y="0"/>
                </a:lnTo>
                <a:lnTo>
                  <a:pt x="283" y="0"/>
                </a:lnTo>
                <a:lnTo>
                  <a:pt x="288" y="0"/>
                </a:lnTo>
                <a:lnTo>
                  <a:pt x="293" y="0"/>
                </a:lnTo>
                <a:lnTo>
                  <a:pt x="297" y="0"/>
                </a:lnTo>
                <a:lnTo>
                  <a:pt x="302" y="0"/>
                </a:lnTo>
                <a:lnTo>
                  <a:pt x="312" y="0"/>
                </a:lnTo>
                <a:lnTo>
                  <a:pt x="317" y="0"/>
                </a:lnTo>
                <a:lnTo>
                  <a:pt x="321" y="0"/>
                </a:lnTo>
                <a:lnTo>
                  <a:pt x="326" y="0"/>
                </a:lnTo>
                <a:lnTo>
                  <a:pt x="331" y="0"/>
                </a:lnTo>
                <a:lnTo>
                  <a:pt x="336" y="0"/>
                </a:lnTo>
                <a:lnTo>
                  <a:pt x="341" y="0"/>
                </a:lnTo>
                <a:lnTo>
                  <a:pt x="345" y="0"/>
                </a:lnTo>
                <a:lnTo>
                  <a:pt x="350" y="0"/>
                </a:lnTo>
                <a:lnTo>
                  <a:pt x="355" y="0"/>
                </a:lnTo>
                <a:lnTo>
                  <a:pt x="360" y="0"/>
                </a:lnTo>
                <a:lnTo>
                  <a:pt x="365" y="0"/>
                </a:lnTo>
                <a:lnTo>
                  <a:pt x="374" y="0"/>
                </a:lnTo>
                <a:lnTo>
                  <a:pt x="379" y="0"/>
                </a:lnTo>
                <a:lnTo>
                  <a:pt x="384" y="0"/>
                </a:lnTo>
                <a:lnTo>
                  <a:pt x="389" y="0"/>
                </a:lnTo>
                <a:lnTo>
                  <a:pt x="393" y="0"/>
                </a:lnTo>
                <a:lnTo>
                  <a:pt x="398" y="0"/>
                </a:lnTo>
                <a:lnTo>
                  <a:pt x="403" y="0"/>
                </a:lnTo>
                <a:lnTo>
                  <a:pt x="408" y="0"/>
                </a:lnTo>
                <a:lnTo>
                  <a:pt x="413" y="0"/>
                </a:lnTo>
                <a:lnTo>
                  <a:pt x="417" y="0"/>
                </a:lnTo>
                <a:lnTo>
                  <a:pt x="422" y="0"/>
                </a:lnTo>
                <a:lnTo>
                  <a:pt x="427" y="0"/>
                </a:lnTo>
                <a:lnTo>
                  <a:pt x="437" y="0"/>
                </a:lnTo>
                <a:lnTo>
                  <a:pt x="441" y="0"/>
                </a:lnTo>
                <a:lnTo>
                  <a:pt x="446" y="0"/>
                </a:lnTo>
                <a:lnTo>
                  <a:pt x="451" y="0"/>
                </a:lnTo>
                <a:lnTo>
                  <a:pt x="456" y="0"/>
                </a:lnTo>
                <a:lnTo>
                  <a:pt x="461" y="0"/>
                </a:lnTo>
                <a:lnTo>
                  <a:pt x="466" y="0"/>
                </a:lnTo>
                <a:lnTo>
                  <a:pt x="470" y="0"/>
                </a:lnTo>
                <a:lnTo>
                  <a:pt x="475" y="0"/>
                </a:lnTo>
                <a:lnTo>
                  <a:pt x="480" y="0"/>
                </a:lnTo>
                <a:lnTo>
                  <a:pt x="485" y="0"/>
                </a:lnTo>
                <a:lnTo>
                  <a:pt x="490" y="0"/>
                </a:lnTo>
                <a:lnTo>
                  <a:pt x="499" y="0"/>
                </a:lnTo>
                <a:lnTo>
                  <a:pt x="504" y="0"/>
                </a:lnTo>
                <a:lnTo>
                  <a:pt x="509" y="0"/>
                </a:lnTo>
                <a:lnTo>
                  <a:pt x="514" y="0"/>
                </a:lnTo>
                <a:lnTo>
                  <a:pt x="518" y="0"/>
                </a:lnTo>
                <a:lnTo>
                  <a:pt x="523" y="0"/>
                </a:lnTo>
                <a:lnTo>
                  <a:pt x="528" y="0"/>
                </a:lnTo>
                <a:lnTo>
                  <a:pt x="533" y="0"/>
                </a:lnTo>
                <a:lnTo>
                  <a:pt x="538" y="0"/>
                </a:lnTo>
                <a:lnTo>
                  <a:pt x="542" y="0"/>
                </a:lnTo>
                <a:lnTo>
                  <a:pt x="547" y="0"/>
                </a:lnTo>
                <a:lnTo>
                  <a:pt x="557" y="0"/>
                </a:lnTo>
                <a:lnTo>
                  <a:pt x="562" y="0"/>
                </a:lnTo>
                <a:lnTo>
                  <a:pt x="566" y="5"/>
                </a:lnTo>
                <a:lnTo>
                  <a:pt x="571" y="5"/>
                </a:lnTo>
                <a:lnTo>
                  <a:pt x="576" y="10"/>
                </a:lnTo>
                <a:lnTo>
                  <a:pt x="581" y="15"/>
                </a:lnTo>
                <a:lnTo>
                  <a:pt x="586" y="19"/>
                </a:lnTo>
                <a:lnTo>
                  <a:pt x="590" y="24"/>
                </a:lnTo>
                <a:lnTo>
                  <a:pt x="595" y="34"/>
                </a:lnTo>
                <a:lnTo>
                  <a:pt x="600" y="43"/>
                </a:lnTo>
                <a:lnTo>
                  <a:pt x="605" y="58"/>
                </a:lnTo>
                <a:lnTo>
                  <a:pt x="610" y="72"/>
                </a:lnTo>
                <a:lnTo>
                  <a:pt x="619" y="91"/>
                </a:lnTo>
                <a:lnTo>
                  <a:pt x="624" y="115"/>
                </a:lnTo>
                <a:lnTo>
                  <a:pt x="629" y="144"/>
                </a:lnTo>
                <a:lnTo>
                  <a:pt x="634" y="178"/>
                </a:lnTo>
                <a:lnTo>
                  <a:pt x="638" y="211"/>
                </a:lnTo>
                <a:lnTo>
                  <a:pt x="643" y="250"/>
                </a:lnTo>
                <a:lnTo>
                  <a:pt x="648" y="288"/>
                </a:lnTo>
                <a:lnTo>
                  <a:pt x="653" y="327"/>
                </a:lnTo>
                <a:lnTo>
                  <a:pt x="658" y="365"/>
                </a:lnTo>
                <a:lnTo>
                  <a:pt x="662" y="399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1560" y="1776240"/>
            <a:ext cx="1052640" cy="2462400"/>
          </a:xfrm>
          <a:custGeom>
            <a:avLst/>
            <a:gdLst/>
            <a:ahLst/>
            <a:rect l="l" t="t" r="r" b="b"/>
            <a:pathLst>
              <a:path w="663" h="1551">
                <a:moveTo>
                  <a:pt x="0" y="1311"/>
                </a:moveTo>
                <a:lnTo>
                  <a:pt x="5" y="1340"/>
                </a:lnTo>
                <a:lnTo>
                  <a:pt x="10" y="1368"/>
                </a:lnTo>
                <a:lnTo>
                  <a:pt x="20" y="1388"/>
                </a:lnTo>
                <a:lnTo>
                  <a:pt x="24" y="1397"/>
                </a:lnTo>
                <a:lnTo>
                  <a:pt x="29" y="1397"/>
                </a:lnTo>
                <a:lnTo>
                  <a:pt x="34" y="1388"/>
                </a:lnTo>
                <a:lnTo>
                  <a:pt x="39" y="1364"/>
                </a:lnTo>
                <a:lnTo>
                  <a:pt x="44" y="1330"/>
                </a:lnTo>
                <a:lnTo>
                  <a:pt x="48" y="1282"/>
                </a:lnTo>
                <a:lnTo>
                  <a:pt x="53" y="1229"/>
                </a:lnTo>
                <a:lnTo>
                  <a:pt x="58" y="1162"/>
                </a:lnTo>
                <a:lnTo>
                  <a:pt x="63" y="1085"/>
                </a:lnTo>
                <a:lnTo>
                  <a:pt x="68" y="1003"/>
                </a:lnTo>
                <a:lnTo>
                  <a:pt x="72" y="917"/>
                </a:lnTo>
                <a:lnTo>
                  <a:pt x="82" y="821"/>
                </a:lnTo>
                <a:lnTo>
                  <a:pt x="87" y="730"/>
                </a:lnTo>
                <a:lnTo>
                  <a:pt x="92" y="634"/>
                </a:lnTo>
                <a:lnTo>
                  <a:pt x="96" y="538"/>
                </a:lnTo>
                <a:lnTo>
                  <a:pt x="101" y="446"/>
                </a:lnTo>
                <a:lnTo>
                  <a:pt x="106" y="360"/>
                </a:lnTo>
                <a:lnTo>
                  <a:pt x="111" y="278"/>
                </a:lnTo>
                <a:lnTo>
                  <a:pt x="116" y="206"/>
                </a:lnTo>
                <a:lnTo>
                  <a:pt x="120" y="144"/>
                </a:lnTo>
                <a:lnTo>
                  <a:pt x="125" y="91"/>
                </a:lnTo>
                <a:lnTo>
                  <a:pt x="130" y="48"/>
                </a:lnTo>
                <a:lnTo>
                  <a:pt x="140" y="19"/>
                </a:lnTo>
                <a:lnTo>
                  <a:pt x="144" y="0"/>
                </a:lnTo>
                <a:lnTo>
                  <a:pt x="149" y="0"/>
                </a:lnTo>
                <a:lnTo>
                  <a:pt x="154" y="9"/>
                </a:lnTo>
                <a:lnTo>
                  <a:pt x="159" y="29"/>
                </a:lnTo>
                <a:lnTo>
                  <a:pt x="164" y="62"/>
                </a:lnTo>
                <a:lnTo>
                  <a:pt x="168" y="110"/>
                </a:lnTo>
                <a:lnTo>
                  <a:pt x="173" y="163"/>
                </a:lnTo>
                <a:lnTo>
                  <a:pt x="178" y="225"/>
                </a:lnTo>
                <a:lnTo>
                  <a:pt x="183" y="293"/>
                </a:lnTo>
                <a:lnTo>
                  <a:pt x="188" y="365"/>
                </a:lnTo>
                <a:lnTo>
                  <a:pt x="192" y="437"/>
                </a:lnTo>
                <a:lnTo>
                  <a:pt x="202" y="509"/>
                </a:lnTo>
                <a:lnTo>
                  <a:pt x="207" y="581"/>
                </a:lnTo>
                <a:lnTo>
                  <a:pt x="212" y="653"/>
                </a:lnTo>
                <a:lnTo>
                  <a:pt x="216" y="720"/>
                </a:lnTo>
                <a:lnTo>
                  <a:pt x="221" y="787"/>
                </a:lnTo>
                <a:lnTo>
                  <a:pt x="226" y="854"/>
                </a:lnTo>
                <a:lnTo>
                  <a:pt x="231" y="917"/>
                </a:lnTo>
                <a:lnTo>
                  <a:pt x="236" y="979"/>
                </a:lnTo>
                <a:lnTo>
                  <a:pt x="240" y="1037"/>
                </a:lnTo>
                <a:lnTo>
                  <a:pt x="245" y="1099"/>
                </a:lnTo>
                <a:lnTo>
                  <a:pt x="250" y="1157"/>
                </a:lnTo>
                <a:lnTo>
                  <a:pt x="255" y="1215"/>
                </a:lnTo>
                <a:lnTo>
                  <a:pt x="264" y="1267"/>
                </a:lnTo>
                <a:lnTo>
                  <a:pt x="269" y="1320"/>
                </a:lnTo>
                <a:lnTo>
                  <a:pt x="274" y="1368"/>
                </a:lnTo>
                <a:lnTo>
                  <a:pt x="279" y="1416"/>
                </a:lnTo>
                <a:lnTo>
                  <a:pt x="284" y="1455"/>
                </a:lnTo>
                <a:lnTo>
                  <a:pt x="288" y="1488"/>
                </a:lnTo>
                <a:lnTo>
                  <a:pt x="293" y="1512"/>
                </a:lnTo>
                <a:lnTo>
                  <a:pt x="298" y="1536"/>
                </a:lnTo>
                <a:lnTo>
                  <a:pt x="303" y="1546"/>
                </a:lnTo>
                <a:lnTo>
                  <a:pt x="308" y="1551"/>
                </a:lnTo>
                <a:lnTo>
                  <a:pt x="312" y="1546"/>
                </a:lnTo>
                <a:lnTo>
                  <a:pt x="317" y="1532"/>
                </a:lnTo>
                <a:lnTo>
                  <a:pt x="327" y="1508"/>
                </a:lnTo>
                <a:lnTo>
                  <a:pt x="332" y="1474"/>
                </a:lnTo>
                <a:lnTo>
                  <a:pt x="337" y="1436"/>
                </a:lnTo>
                <a:lnTo>
                  <a:pt x="341" y="1388"/>
                </a:lnTo>
                <a:lnTo>
                  <a:pt x="346" y="1335"/>
                </a:lnTo>
                <a:lnTo>
                  <a:pt x="351" y="1277"/>
                </a:lnTo>
                <a:lnTo>
                  <a:pt x="356" y="1215"/>
                </a:lnTo>
                <a:lnTo>
                  <a:pt x="361" y="1152"/>
                </a:lnTo>
                <a:lnTo>
                  <a:pt x="365" y="1085"/>
                </a:lnTo>
                <a:lnTo>
                  <a:pt x="370" y="1018"/>
                </a:lnTo>
                <a:lnTo>
                  <a:pt x="375" y="955"/>
                </a:lnTo>
                <a:lnTo>
                  <a:pt x="380" y="898"/>
                </a:lnTo>
                <a:lnTo>
                  <a:pt x="389" y="840"/>
                </a:lnTo>
                <a:lnTo>
                  <a:pt x="394" y="792"/>
                </a:lnTo>
                <a:lnTo>
                  <a:pt x="399" y="749"/>
                </a:lnTo>
                <a:lnTo>
                  <a:pt x="404" y="710"/>
                </a:lnTo>
                <a:lnTo>
                  <a:pt x="409" y="682"/>
                </a:lnTo>
                <a:lnTo>
                  <a:pt x="413" y="662"/>
                </a:lnTo>
                <a:lnTo>
                  <a:pt x="418" y="648"/>
                </a:lnTo>
                <a:lnTo>
                  <a:pt x="423" y="638"/>
                </a:lnTo>
                <a:lnTo>
                  <a:pt x="428" y="643"/>
                </a:lnTo>
                <a:lnTo>
                  <a:pt x="433" y="648"/>
                </a:lnTo>
                <a:lnTo>
                  <a:pt x="437" y="662"/>
                </a:lnTo>
                <a:lnTo>
                  <a:pt x="447" y="682"/>
                </a:lnTo>
                <a:lnTo>
                  <a:pt x="452" y="706"/>
                </a:lnTo>
                <a:lnTo>
                  <a:pt x="457" y="730"/>
                </a:lnTo>
                <a:lnTo>
                  <a:pt x="461" y="754"/>
                </a:lnTo>
                <a:lnTo>
                  <a:pt x="466" y="782"/>
                </a:lnTo>
                <a:lnTo>
                  <a:pt x="471" y="806"/>
                </a:lnTo>
                <a:lnTo>
                  <a:pt x="476" y="835"/>
                </a:lnTo>
                <a:lnTo>
                  <a:pt x="481" y="859"/>
                </a:lnTo>
                <a:lnTo>
                  <a:pt x="485" y="879"/>
                </a:lnTo>
                <a:lnTo>
                  <a:pt x="490" y="898"/>
                </a:lnTo>
                <a:lnTo>
                  <a:pt x="495" y="912"/>
                </a:lnTo>
                <a:lnTo>
                  <a:pt x="500" y="927"/>
                </a:lnTo>
                <a:lnTo>
                  <a:pt x="509" y="936"/>
                </a:lnTo>
                <a:lnTo>
                  <a:pt x="514" y="946"/>
                </a:lnTo>
                <a:lnTo>
                  <a:pt x="519" y="951"/>
                </a:lnTo>
                <a:lnTo>
                  <a:pt x="524" y="951"/>
                </a:lnTo>
                <a:lnTo>
                  <a:pt x="529" y="951"/>
                </a:lnTo>
                <a:lnTo>
                  <a:pt x="533" y="951"/>
                </a:lnTo>
                <a:lnTo>
                  <a:pt x="538" y="951"/>
                </a:lnTo>
                <a:lnTo>
                  <a:pt x="543" y="946"/>
                </a:lnTo>
                <a:lnTo>
                  <a:pt x="548" y="946"/>
                </a:lnTo>
                <a:lnTo>
                  <a:pt x="553" y="941"/>
                </a:lnTo>
                <a:lnTo>
                  <a:pt x="557" y="941"/>
                </a:lnTo>
                <a:lnTo>
                  <a:pt x="562" y="941"/>
                </a:lnTo>
                <a:lnTo>
                  <a:pt x="572" y="941"/>
                </a:lnTo>
                <a:lnTo>
                  <a:pt x="577" y="941"/>
                </a:lnTo>
                <a:lnTo>
                  <a:pt x="581" y="941"/>
                </a:lnTo>
                <a:lnTo>
                  <a:pt x="586" y="941"/>
                </a:lnTo>
                <a:lnTo>
                  <a:pt x="591" y="941"/>
                </a:lnTo>
                <a:lnTo>
                  <a:pt x="596" y="946"/>
                </a:lnTo>
                <a:lnTo>
                  <a:pt x="601" y="946"/>
                </a:lnTo>
                <a:lnTo>
                  <a:pt x="605" y="951"/>
                </a:lnTo>
                <a:lnTo>
                  <a:pt x="610" y="951"/>
                </a:lnTo>
                <a:lnTo>
                  <a:pt x="615" y="951"/>
                </a:lnTo>
                <a:lnTo>
                  <a:pt x="620" y="955"/>
                </a:lnTo>
                <a:lnTo>
                  <a:pt x="625" y="951"/>
                </a:lnTo>
                <a:lnTo>
                  <a:pt x="634" y="951"/>
                </a:lnTo>
                <a:lnTo>
                  <a:pt x="639" y="951"/>
                </a:lnTo>
                <a:lnTo>
                  <a:pt x="644" y="946"/>
                </a:lnTo>
                <a:lnTo>
                  <a:pt x="649" y="941"/>
                </a:lnTo>
                <a:lnTo>
                  <a:pt x="653" y="936"/>
                </a:lnTo>
                <a:lnTo>
                  <a:pt x="658" y="931"/>
                </a:lnTo>
                <a:lnTo>
                  <a:pt x="663" y="92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64200" y="3139920"/>
            <a:ext cx="1052280" cy="138240"/>
          </a:xfrm>
          <a:custGeom>
            <a:avLst/>
            <a:gdLst/>
            <a:ahLst/>
            <a:rect l="l" t="t" r="r" b="b"/>
            <a:pathLst>
              <a:path w="663" h="87">
                <a:moveTo>
                  <a:pt x="0" y="68"/>
                </a:moveTo>
                <a:lnTo>
                  <a:pt x="5" y="58"/>
                </a:lnTo>
                <a:lnTo>
                  <a:pt x="10" y="48"/>
                </a:lnTo>
                <a:lnTo>
                  <a:pt x="14" y="44"/>
                </a:lnTo>
                <a:lnTo>
                  <a:pt x="19" y="34"/>
                </a:lnTo>
                <a:lnTo>
                  <a:pt x="29" y="24"/>
                </a:lnTo>
                <a:lnTo>
                  <a:pt x="34" y="20"/>
                </a:lnTo>
                <a:lnTo>
                  <a:pt x="38" y="15"/>
                </a:lnTo>
                <a:lnTo>
                  <a:pt x="43" y="10"/>
                </a:lnTo>
                <a:lnTo>
                  <a:pt x="48" y="5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2" y="5"/>
                </a:lnTo>
                <a:lnTo>
                  <a:pt x="77" y="5"/>
                </a:lnTo>
                <a:lnTo>
                  <a:pt x="82" y="10"/>
                </a:lnTo>
                <a:lnTo>
                  <a:pt x="91" y="15"/>
                </a:lnTo>
                <a:lnTo>
                  <a:pt x="96" y="20"/>
                </a:lnTo>
                <a:lnTo>
                  <a:pt x="101" y="29"/>
                </a:lnTo>
                <a:lnTo>
                  <a:pt x="106" y="34"/>
                </a:lnTo>
                <a:lnTo>
                  <a:pt x="110" y="44"/>
                </a:lnTo>
                <a:lnTo>
                  <a:pt x="115" y="48"/>
                </a:lnTo>
                <a:lnTo>
                  <a:pt x="120" y="58"/>
                </a:lnTo>
                <a:lnTo>
                  <a:pt x="125" y="63"/>
                </a:lnTo>
                <a:lnTo>
                  <a:pt x="130" y="68"/>
                </a:lnTo>
                <a:lnTo>
                  <a:pt x="134" y="72"/>
                </a:lnTo>
                <a:lnTo>
                  <a:pt x="139" y="77"/>
                </a:lnTo>
                <a:lnTo>
                  <a:pt x="144" y="82"/>
                </a:lnTo>
                <a:lnTo>
                  <a:pt x="154" y="82"/>
                </a:lnTo>
                <a:lnTo>
                  <a:pt x="158" y="87"/>
                </a:lnTo>
                <a:lnTo>
                  <a:pt x="163" y="87"/>
                </a:lnTo>
                <a:lnTo>
                  <a:pt x="168" y="87"/>
                </a:lnTo>
                <a:lnTo>
                  <a:pt x="173" y="87"/>
                </a:lnTo>
                <a:lnTo>
                  <a:pt x="178" y="82"/>
                </a:lnTo>
                <a:lnTo>
                  <a:pt x="182" y="82"/>
                </a:lnTo>
                <a:lnTo>
                  <a:pt x="187" y="77"/>
                </a:lnTo>
                <a:lnTo>
                  <a:pt x="192" y="77"/>
                </a:lnTo>
                <a:lnTo>
                  <a:pt x="197" y="72"/>
                </a:lnTo>
                <a:lnTo>
                  <a:pt x="202" y="68"/>
                </a:lnTo>
                <a:lnTo>
                  <a:pt x="206" y="68"/>
                </a:lnTo>
                <a:lnTo>
                  <a:pt x="216" y="63"/>
                </a:lnTo>
                <a:lnTo>
                  <a:pt x="221" y="58"/>
                </a:lnTo>
                <a:lnTo>
                  <a:pt x="226" y="53"/>
                </a:lnTo>
                <a:lnTo>
                  <a:pt x="231" y="53"/>
                </a:lnTo>
                <a:lnTo>
                  <a:pt x="235" y="48"/>
                </a:lnTo>
                <a:lnTo>
                  <a:pt x="240" y="44"/>
                </a:lnTo>
                <a:lnTo>
                  <a:pt x="245" y="44"/>
                </a:lnTo>
                <a:lnTo>
                  <a:pt x="250" y="44"/>
                </a:lnTo>
                <a:lnTo>
                  <a:pt x="255" y="44"/>
                </a:lnTo>
                <a:lnTo>
                  <a:pt x="259" y="44"/>
                </a:lnTo>
                <a:lnTo>
                  <a:pt x="264" y="44"/>
                </a:lnTo>
                <a:lnTo>
                  <a:pt x="274" y="44"/>
                </a:lnTo>
                <a:lnTo>
                  <a:pt x="279" y="44"/>
                </a:lnTo>
                <a:lnTo>
                  <a:pt x="283" y="44"/>
                </a:lnTo>
                <a:lnTo>
                  <a:pt x="288" y="44"/>
                </a:lnTo>
                <a:lnTo>
                  <a:pt x="293" y="44"/>
                </a:lnTo>
                <a:lnTo>
                  <a:pt x="298" y="48"/>
                </a:lnTo>
                <a:lnTo>
                  <a:pt x="303" y="48"/>
                </a:lnTo>
                <a:lnTo>
                  <a:pt x="307" y="48"/>
                </a:lnTo>
                <a:lnTo>
                  <a:pt x="312" y="48"/>
                </a:lnTo>
                <a:lnTo>
                  <a:pt x="317" y="53"/>
                </a:lnTo>
                <a:lnTo>
                  <a:pt x="322" y="53"/>
                </a:lnTo>
                <a:lnTo>
                  <a:pt x="327" y="53"/>
                </a:lnTo>
                <a:lnTo>
                  <a:pt x="336" y="53"/>
                </a:lnTo>
                <a:lnTo>
                  <a:pt x="341" y="53"/>
                </a:lnTo>
                <a:lnTo>
                  <a:pt x="346" y="53"/>
                </a:lnTo>
                <a:lnTo>
                  <a:pt x="351" y="53"/>
                </a:lnTo>
                <a:lnTo>
                  <a:pt x="355" y="53"/>
                </a:lnTo>
                <a:lnTo>
                  <a:pt x="360" y="48"/>
                </a:lnTo>
                <a:lnTo>
                  <a:pt x="365" y="48"/>
                </a:lnTo>
                <a:lnTo>
                  <a:pt x="370" y="48"/>
                </a:lnTo>
                <a:lnTo>
                  <a:pt x="375" y="48"/>
                </a:lnTo>
                <a:lnTo>
                  <a:pt x="379" y="48"/>
                </a:lnTo>
                <a:lnTo>
                  <a:pt x="384" y="48"/>
                </a:lnTo>
                <a:lnTo>
                  <a:pt x="389" y="48"/>
                </a:lnTo>
                <a:lnTo>
                  <a:pt x="399" y="48"/>
                </a:lnTo>
                <a:lnTo>
                  <a:pt x="403" y="48"/>
                </a:lnTo>
                <a:lnTo>
                  <a:pt x="408" y="48"/>
                </a:lnTo>
                <a:lnTo>
                  <a:pt x="413" y="48"/>
                </a:lnTo>
                <a:lnTo>
                  <a:pt x="418" y="48"/>
                </a:lnTo>
                <a:lnTo>
                  <a:pt x="423" y="48"/>
                </a:lnTo>
                <a:lnTo>
                  <a:pt x="427" y="48"/>
                </a:lnTo>
                <a:lnTo>
                  <a:pt x="432" y="48"/>
                </a:lnTo>
                <a:lnTo>
                  <a:pt x="437" y="48"/>
                </a:lnTo>
                <a:lnTo>
                  <a:pt x="442" y="53"/>
                </a:lnTo>
                <a:lnTo>
                  <a:pt x="447" y="53"/>
                </a:lnTo>
                <a:lnTo>
                  <a:pt x="451" y="53"/>
                </a:lnTo>
                <a:lnTo>
                  <a:pt x="461" y="53"/>
                </a:lnTo>
                <a:lnTo>
                  <a:pt x="466" y="53"/>
                </a:lnTo>
                <a:lnTo>
                  <a:pt x="471" y="58"/>
                </a:lnTo>
                <a:lnTo>
                  <a:pt x="475" y="58"/>
                </a:lnTo>
                <a:lnTo>
                  <a:pt x="480" y="58"/>
                </a:lnTo>
                <a:lnTo>
                  <a:pt x="485" y="58"/>
                </a:lnTo>
                <a:lnTo>
                  <a:pt x="490" y="58"/>
                </a:lnTo>
                <a:lnTo>
                  <a:pt x="495" y="58"/>
                </a:lnTo>
                <a:lnTo>
                  <a:pt x="499" y="58"/>
                </a:lnTo>
                <a:lnTo>
                  <a:pt x="504" y="58"/>
                </a:lnTo>
                <a:lnTo>
                  <a:pt x="509" y="58"/>
                </a:lnTo>
                <a:lnTo>
                  <a:pt x="519" y="53"/>
                </a:lnTo>
                <a:lnTo>
                  <a:pt x="523" y="53"/>
                </a:lnTo>
                <a:lnTo>
                  <a:pt x="528" y="53"/>
                </a:lnTo>
                <a:lnTo>
                  <a:pt x="533" y="53"/>
                </a:lnTo>
                <a:lnTo>
                  <a:pt x="538" y="53"/>
                </a:lnTo>
                <a:lnTo>
                  <a:pt x="543" y="48"/>
                </a:lnTo>
                <a:lnTo>
                  <a:pt x="547" y="48"/>
                </a:lnTo>
                <a:lnTo>
                  <a:pt x="552" y="48"/>
                </a:lnTo>
                <a:lnTo>
                  <a:pt x="557" y="48"/>
                </a:lnTo>
                <a:lnTo>
                  <a:pt x="562" y="48"/>
                </a:lnTo>
                <a:lnTo>
                  <a:pt x="567" y="48"/>
                </a:lnTo>
                <a:lnTo>
                  <a:pt x="571" y="48"/>
                </a:lnTo>
                <a:lnTo>
                  <a:pt x="581" y="48"/>
                </a:lnTo>
                <a:lnTo>
                  <a:pt x="586" y="48"/>
                </a:lnTo>
                <a:lnTo>
                  <a:pt x="591" y="48"/>
                </a:lnTo>
                <a:lnTo>
                  <a:pt x="595" y="48"/>
                </a:lnTo>
                <a:lnTo>
                  <a:pt x="600" y="48"/>
                </a:lnTo>
                <a:lnTo>
                  <a:pt x="605" y="48"/>
                </a:lnTo>
                <a:lnTo>
                  <a:pt x="610" y="48"/>
                </a:lnTo>
                <a:lnTo>
                  <a:pt x="615" y="48"/>
                </a:lnTo>
                <a:lnTo>
                  <a:pt x="619" y="53"/>
                </a:lnTo>
                <a:lnTo>
                  <a:pt x="624" y="53"/>
                </a:lnTo>
                <a:lnTo>
                  <a:pt x="629" y="53"/>
                </a:lnTo>
                <a:lnTo>
                  <a:pt x="634" y="53"/>
                </a:lnTo>
                <a:lnTo>
                  <a:pt x="643" y="53"/>
                </a:lnTo>
                <a:lnTo>
                  <a:pt x="648" y="53"/>
                </a:lnTo>
                <a:lnTo>
                  <a:pt x="653" y="53"/>
                </a:lnTo>
                <a:lnTo>
                  <a:pt x="658" y="53"/>
                </a:lnTo>
                <a:lnTo>
                  <a:pt x="663" y="53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16480" y="3216240"/>
            <a:ext cx="160560" cy="7920"/>
          </a:xfrm>
          <a:custGeom>
            <a:avLst/>
            <a:gdLst/>
            <a:ahLst/>
            <a:rect l="l" t="t" r="r" b="b"/>
            <a:pathLst>
              <a:path w="101" h="5">
                <a:moveTo>
                  <a:pt x="0" y="5"/>
                </a:moveTo>
                <a:lnTo>
                  <a:pt x="4" y="5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4" y="5"/>
                </a:lnTo>
                <a:lnTo>
                  <a:pt x="28" y="5"/>
                </a:lnTo>
                <a:lnTo>
                  <a:pt x="33" y="5"/>
                </a:lnTo>
                <a:lnTo>
                  <a:pt x="43" y="5"/>
                </a:lnTo>
                <a:lnTo>
                  <a:pt x="48" y="5"/>
                </a:lnTo>
                <a:lnTo>
                  <a:pt x="52" y="5"/>
                </a:lnTo>
                <a:lnTo>
                  <a:pt x="57" y="5"/>
                </a:lnTo>
                <a:lnTo>
                  <a:pt x="62" y="0"/>
                </a:lnTo>
                <a:lnTo>
                  <a:pt x="67" y="0"/>
                </a:lnTo>
                <a:lnTo>
                  <a:pt x="72" y="0"/>
                </a:lnTo>
                <a:lnTo>
                  <a:pt x="76" y="0"/>
                </a:lnTo>
                <a:lnTo>
                  <a:pt x="81" y="0"/>
                </a:lnTo>
                <a:lnTo>
                  <a:pt x="86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60720" y="3178080"/>
            <a:ext cx="1050840" cy="647640"/>
          </a:xfrm>
          <a:custGeom>
            <a:avLst/>
            <a:gdLst/>
            <a:ahLst/>
            <a:rect l="l" t="t" r="r" b="b"/>
            <a:pathLst>
              <a:path w="662" h="408">
                <a:moveTo>
                  <a:pt x="0" y="24"/>
                </a:moveTo>
                <a:lnTo>
                  <a:pt x="9" y="24"/>
                </a:lnTo>
                <a:lnTo>
                  <a:pt x="14" y="24"/>
                </a:lnTo>
                <a:lnTo>
                  <a:pt x="19" y="24"/>
                </a:lnTo>
                <a:lnTo>
                  <a:pt x="24" y="24"/>
                </a:lnTo>
                <a:lnTo>
                  <a:pt x="29" y="24"/>
                </a:lnTo>
                <a:lnTo>
                  <a:pt x="33" y="24"/>
                </a:lnTo>
                <a:lnTo>
                  <a:pt x="38" y="24"/>
                </a:lnTo>
                <a:lnTo>
                  <a:pt x="43" y="24"/>
                </a:lnTo>
                <a:lnTo>
                  <a:pt x="48" y="24"/>
                </a:lnTo>
                <a:lnTo>
                  <a:pt x="53" y="24"/>
                </a:lnTo>
                <a:lnTo>
                  <a:pt x="57" y="24"/>
                </a:lnTo>
                <a:lnTo>
                  <a:pt x="67" y="29"/>
                </a:lnTo>
                <a:lnTo>
                  <a:pt x="72" y="29"/>
                </a:lnTo>
                <a:lnTo>
                  <a:pt x="77" y="29"/>
                </a:lnTo>
                <a:lnTo>
                  <a:pt x="81" y="29"/>
                </a:lnTo>
                <a:lnTo>
                  <a:pt x="86" y="29"/>
                </a:lnTo>
                <a:lnTo>
                  <a:pt x="91" y="29"/>
                </a:lnTo>
                <a:lnTo>
                  <a:pt x="96" y="24"/>
                </a:lnTo>
                <a:lnTo>
                  <a:pt x="101" y="24"/>
                </a:lnTo>
                <a:lnTo>
                  <a:pt x="105" y="24"/>
                </a:lnTo>
                <a:lnTo>
                  <a:pt x="110" y="24"/>
                </a:lnTo>
                <a:lnTo>
                  <a:pt x="115" y="24"/>
                </a:lnTo>
                <a:lnTo>
                  <a:pt x="120" y="24"/>
                </a:lnTo>
                <a:lnTo>
                  <a:pt x="129" y="24"/>
                </a:lnTo>
                <a:lnTo>
                  <a:pt x="134" y="24"/>
                </a:lnTo>
                <a:lnTo>
                  <a:pt x="139" y="24"/>
                </a:lnTo>
                <a:lnTo>
                  <a:pt x="144" y="20"/>
                </a:lnTo>
                <a:lnTo>
                  <a:pt x="149" y="20"/>
                </a:lnTo>
                <a:lnTo>
                  <a:pt x="153" y="20"/>
                </a:lnTo>
                <a:lnTo>
                  <a:pt x="158" y="20"/>
                </a:lnTo>
                <a:lnTo>
                  <a:pt x="163" y="20"/>
                </a:lnTo>
                <a:lnTo>
                  <a:pt x="168" y="20"/>
                </a:lnTo>
                <a:lnTo>
                  <a:pt x="173" y="20"/>
                </a:lnTo>
                <a:lnTo>
                  <a:pt x="177" y="20"/>
                </a:lnTo>
                <a:lnTo>
                  <a:pt x="182" y="24"/>
                </a:lnTo>
                <a:lnTo>
                  <a:pt x="192" y="24"/>
                </a:lnTo>
                <a:lnTo>
                  <a:pt x="197" y="24"/>
                </a:lnTo>
                <a:lnTo>
                  <a:pt x="201" y="24"/>
                </a:lnTo>
                <a:lnTo>
                  <a:pt x="206" y="24"/>
                </a:lnTo>
                <a:lnTo>
                  <a:pt x="211" y="24"/>
                </a:lnTo>
                <a:lnTo>
                  <a:pt x="216" y="24"/>
                </a:lnTo>
                <a:lnTo>
                  <a:pt x="221" y="29"/>
                </a:lnTo>
                <a:lnTo>
                  <a:pt x="225" y="29"/>
                </a:lnTo>
                <a:lnTo>
                  <a:pt x="230" y="29"/>
                </a:lnTo>
                <a:lnTo>
                  <a:pt x="235" y="29"/>
                </a:lnTo>
                <a:lnTo>
                  <a:pt x="240" y="29"/>
                </a:lnTo>
                <a:lnTo>
                  <a:pt x="245" y="29"/>
                </a:lnTo>
                <a:lnTo>
                  <a:pt x="254" y="29"/>
                </a:lnTo>
                <a:lnTo>
                  <a:pt x="259" y="29"/>
                </a:lnTo>
                <a:lnTo>
                  <a:pt x="264" y="29"/>
                </a:lnTo>
                <a:lnTo>
                  <a:pt x="269" y="29"/>
                </a:lnTo>
                <a:lnTo>
                  <a:pt x="273" y="29"/>
                </a:lnTo>
                <a:lnTo>
                  <a:pt x="278" y="29"/>
                </a:lnTo>
                <a:lnTo>
                  <a:pt x="283" y="29"/>
                </a:lnTo>
                <a:lnTo>
                  <a:pt x="288" y="24"/>
                </a:lnTo>
                <a:lnTo>
                  <a:pt x="293" y="24"/>
                </a:lnTo>
                <a:lnTo>
                  <a:pt x="297" y="24"/>
                </a:lnTo>
                <a:lnTo>
                  <a:pt x="302" y="24"/>
                </a:lnTo>
                <a:lnTo>
                  <a:pt x="312" y="24"/>
                </a:lnTo>
                <a:lnTo>
                  <a:pt x="317" y="24"/>
                </a:lnTo>
                <a:lnTo>
                  <a:pt x="321" y="24"/>
                </a:lnTo>
                <a:lnTo>
                  <a:pt x="326" y="24"/>
                </a:lnTo>
                <a:lnTo>
                  <a:pt x="331" y="24"/>
                </a:lnTo>
                <a:lnTo>
                  <a:pt x="336" y="24"/>
                </a:lnTo>
                <a:lnTo>
                  <a:pt x="341" y="24"/>
                </a:lnTo>
                <a:lnTo>
                  <a:pt x="345" y="24"/>
                </a:lnTo>
                <a:lnTo>
                  <a:pt x="350" y="24"/>
                </a:lnTo>
                <a:lnTo>
                  <a:pt x="355" y="24"/>
                </a:lnTo>
                <a:lnTo>
                  <a:pt x="360" y="24"/>
                </a:lnTo>
                <a:lnTo>
                  <a:pt x="365" y="24"/>
                </a:lnTo>
                <a:lnTo>
                  <a:pt x="374" y="24"/>
                </a:lnTo>
                <a:lnTo>
                  <a:pt x="379" y="24"/>
                </a:lnTo>
                <a:lnTo>
                  <a:pt x="384" y="24"/>
                </a:lnTo>
                <a:lnTo>
                  <a:pt x="389" y="24"/>
                </a:lnTo>
                <a:lnTo>
                  <a:pt x="393" y="24"/>
                </a:lnTo>
                <a:lnTo>
                  <a:pt x="398" y="24"/>
                </a:lnTo>
                <a:lnTo>
                  <a:pt x="403" y="29"/>
                </a:lnTo>
                <a:lnTo>
                  <a:pt x="408" y="29"/>
                </a:lnTo>
                <a:lnTo>
                  <a:pt x="413" y="29"/>
                </a:lnTo>
                <a:lnTo>
                  <a:pt x="417" y="29"/>
                </a:lnTo>
                <a:lnTo>
                  <a:pt x="422" y="29"/>
                </a:lnTo>
                <a:lnTo>
                  <a:pt x="427" y="29"/>
                </a:lnTo>
                <a:lnTo>
                  <a:pt x="437" y="29"/>
                </a:lnTo>
                <a:lnTo>
                  <a:pt x="441" y="29"/>
                </a:lnTo>
                <a:lnTo>
                  <a:pt x="446" y="34"/>
                </a:lnTo>
                <a:lnTo>
                  <a:pt x="451" y="34"/>
                </a:lnTo>
                <a:lnTo>
                  <a:pt x="456" y="34"/>
                </a:lnTo>
                <a:lnTo>
                  <a:pt x="461" y="34"/>
                </a:lnTo>
                <a:lnTo>
                  <a:pt x="466" y="39"/>
                </a:lnTo>
                <a:lnTo>
                  <a:pt x="470" y="39"/>
                </a:lnTo>
                <a:lnTo>
                  <a:pt x="475" y="39"/>
                </a:lnTo>
                <a:lnTo>
                  <a:pt x="480" y="39"/>
                </a:lnTo>
                <a:lnTo>
                  <a:pt x="485" y="44"/>
                </a:lnTo>
                <a:lnTo>
                  <a:pt x="490" y="44"/>
                </a:lnTo>
                <a:lnTo>
                  <a:pt x="499" y="44"/>
                </a:lnTo>
                <a:lnTo>
                  <a:pt x="504" y="44"/>
                </a:lnTo>
                <a:lnTo>
                  <a:pt x="509" y="39"/>
                </a:lnTo>
                <a:lnTo>
                  <a:pt x="514" y="39"/>
                </a:lnTo>
                <a:lnTo>
                  <a:pt x="518" y="39"/>
                </a:lnTo>
                <a:lnTo>
                  <a:pt x="523" y="34"/>
                </a:lnTo>
                <a:lnTo>
                  <a:pt x="528" y="29"/>
                </a:lnTo>
                <a:lnTo>
                  <a:pt x="533" y="24"/>
                </a:lnTo>
                <a:lnTo>
                  <a:pt x="538" y="20"/>
                </a:lnTo>
                <a:lnTo>
                  <a:pt x="542" y="15"/>
                </a:lnTo>
                <a:lnTo>
                  <a:pt x="547" y="10"/>
                </a:lnTo>
                <a:lnTo>
                  <a:pt x="557" y="5"/>
                </a:lnTo>
                <a:lnTo>
                  <a:pt x="562" y="5"/>
                </a:lnTo>
                <a:lnTo>
                  <a:pt x="566" y="0"/>
                </a:lnTo>
                <a:lnTo>
                  <a:pt x="571" y="0"/>
                </a:lnTo>
                <a:lnTo>
                  <a:pt x="576" y="0"/>
                </a:lnTo>
                <a:lnTo>
                  <a:pt x="581" y="5"/>
                </a:lnTo>
                <a:lnTo>
                  <a:pt x="586" y="10"/>
                </a:lnTo>
                <a:lnTo>
                  <a:pt x="590" y="20"/>
                </a:lnTo>
                <a:lnTo>
                  <a:pt x="595" y="34"/>
                </a:lnTo>
                <a:lnTo>
                  <a:pt x="600" y="48"/>
                </a:lnTo>
                <a:lnTo>
                  <a:pt x="605" y="68"/>
                </a:lnTo>
                <a:lnTo>
                  <a:pt x="610" y="87"/>
                </a:lnTo>
                <a:lnTo>
                  <a:pt x="619" y="116"/>
                </a:lnTo>
                <a:lnTo>
                  <a:pt x="624" y="144"/>
                </a:lnTo>
                <a:lnTo>
                  <a:pt x="629" y="173"/>
                </a:lnTo>
                <a:lnTo>
                  <a:pt x="634" y="207"/>
                </a:lnTo>
                <a:lnTo>
                  <a:pt x="638" y="245"/>
                </a:lnTo>
                <a:lnTo>
                  <a:pt x="643" y="279"/>
                </a:lnTo>
                <a:lnTo>
                  <a:pt x="648" y="312"/>
                </a:lnTo>
                <a:lnTo>
                  <a:pt x="653" y="346"/>
                </a:lnTo>
                <a:lnTo>
                  <a:pt x="658" y="380"/>
                </a:lnTo>
                <a:lnTo>
                  <a:pt x="662" y="408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11560" y="2073240"/>
            <a:ext cx="1052640" cy="1852560"/>
          </a:xfrm>
          <a:custGeom>
            <a:avLst/>
            <a:gdLst/>
            <a:ahLst/>
            <a:rect l="l" t="t" r="r" b="b"/>
            <a:pathLst>
              <a:path w="663" h="1167">
                <a:moveTo>
                  <a:pt x="0" y="1104"/>
                </a:moveTo>
                <a:lnTo>
                  <a:pt x="5" y="1129"/>
                </a:lnTo>
                <a:lnTo>
                  <a:pt x="10" y="1148"/>
                </a:lnTo>
                <a:lnTo>
                  <a:pt x="20" y="1157"/>
                </a:lnTo>
                <a:lnTo>
                  <a:pt x="24" y="1167"/>
                </a:lnTo>
                <a:lnTo>
                  <a:pt x="29" y="1162"/>
                </a:lnTo>
                <a:lnTo>
                  <a:pt x="34" y="1153"/>
                </a:lnTo>
                <a:lnTo>
                  <a:pt x="39" y="1133"/>
                </a:lnTo>
                <a:lnTo>
                  <a:pt x="44" y="1104"/>
                </a:lnTo>
                <a:lnTo>
                  <a:pt x="48" y="1066"/>
                </a:lnTo>
                <a:lnTo>
                  <a:pt x="53" y="1018"/>
                </a:lnTo>
                <a:lnTo>
                  <a:pt x="58" y="965"/>
                </a:lnTo>
                <a:lnTo>
                  <a:pt x="63" y="903"/>
                </a:lnTo>
                <a:lnTo>
                  <a:pt x="68" y="836"/>
                </a:lnTo>
                <a:lnTo>
                  <a:pt x="72" y="764"/>
                </a:lnTo>
                <a:lnTo>
                  <a:pt x="82" y="692"/>
                </a:lnTo>
                <a:lnTo>
                  <a:pt x="87" y="615"/>
                </a:lnTo>
                <a:lnTo>
                  <a:pt x="92" y="533"/>
                </a:lnTo>
                <a:lnTo>
                  <a:pt x="96" y="456"/>
                </a:lnTo>
                <a:lnTo>
                  <a:pt x="101" y="379"/>
                </a:lnTo>
                <a:lnTo>
                  <a:pt x="106" y="307"/>
                </a:lnTo>
                <a:lnTo>
                  <a:pt x="111" y="245"/>
                </a:lnTo>
                <a:lnTo>
                  <a:pt x="116" y="182"/>
                </a:lnTo>
                <a:lnTo>
                  <a:pt x="120" y="130"/>
                </a:lnTo>
                <a:lnTo>
                  <a:pt x="125" y="86"/>
                </a:lnTo>
                <a:lnTo>
                  <a:pt x="130" y="48"/>
                </a:lnTo>
                <a:lnTo>
                  <a:pt x="140" y="24"/>
                </a:lnTo>
                <a:lnTo>
                  <a:pt x="144" y="10"/>
                </a:lnTo>
                <a:lnTo>
                  <a:pt x="149" y="0"/>
                </a:lnTo>
                <a:lnTo>
                  <a:pt x="154" y="5"/>
                </a:lnTo>
                <a:lnTo>
                  <a:pt x="159" y="19"/>
                </a:lnTo>
                <a:lnTo>
                  <a:pt x="164" y="38"/>
                </a:lnTo>
                <a:lnTo>
                  <a:pt x="168" y="67"/>
                </a:lnTo>
                <a:lnTo>
                  <a:pt x="173" y="101"/>
                </a:lnTo>
                <a:lnTo>
                  <a:pt x="178" y="144"/>
                </a:lnTo>
                <a:lnTo>
                  <a:pt x="183" y="192"/>
                </a:lnTo>
                <a:lnTo>
                  <a:pt x="188" y="245"/>
                </a:lnTo>
                <a:lnTo>
                  <a:pt x="192" y="298"/>
                </a:lnTo>
                <a:lnTo>
                  <a:pt x="202" y="351"/>
                </a:lnTo>
                <a:lnTo>
                  <a:pt x="207" y="408"/>
                </a:lnTo>
                <a:lnTo>
                  <a:pt x="212" y="466"/>
                </a:lnTo>
                <a:lnTo>
                  <a:pt x="216" y="523"/>
                </a:lnTo>
                <a:lnTo>
                  <a:pt x="221" y="581"/>
                </a:lnTo>
                <a:lnTo>
                  <a:pt x="226" y="639"/>
                </a:lnTo>
                <a:lnTo>
                  <a:pt x="231" y="692"/>
                </a:lnTo>
                <a:lnTo>
                  <a:pt x="236" y="740"/>
                </a:lnTo>
                <a:lnTo>
                  <a:pt x="240" y="788"/>
                </a:lnTo>
                <a:lnTo>
                  <a:pt x="245" y="836"/>
                </a:lnTo>
                <a:lnTo>
                  <a:pt x="250" y="879"/>
                </a:lnTo>
                <a:lnTo>
                  <a:pt x="255" y="917"/>
                </a:lnTo>
                <a:lnTo>
                  <a:pt x="264" y="956"/>
                </a:lnTo>
                <a:lnTo>
                  <a:pt x="269" y="989"/>
                </a:lnTo>
                <a:lnTo>
                  <a:pt x="274" y="1018"/>
                </a:lnTo>
                <a:lnTo>
                  <a:pt x="279" y="1047"/>
                </a:lnTo>
                <a:lnTo>
                  <a:pt x="284" y="1076"/>
                </a:lnTo>
                <a:lnTo>
                  <a:pt x="288" y="1095"/>
                </a:lnTo>
                <a:lnTo>
                  <a:pt x="293" y="1114"/>
                </a:lnTo>
                <a:lnTo>
                  <a:pt x="298" y="1129"/>
                </a:lnTo>
                <a:lnTo>
                  <a:pt x="303" y="1138"/>
                </a:lnTo>
                <a:lnTo>
                  <a:pt x="308" y="1148"/>
                </a:lnTo>
                <a:lnTo>
                  <a:pt x="312" y="1148"/>
                </a:lnTo>
                <a:lnTo>
                  <a:pt x="317" y="1148"/>
                </a:lnTo>
                <a:lnTo>
                  <a:pt x="327" y="1143"/>
                </a:lnTo>
                <a:lnTo>
                  <a:pt x="332" y="1129"/>
                </a:lnTo>
                <a:lnTo>
                  <a:pt x="337" y="1114"/>
                </a:lnTo>
                <a:lnTo>
                  <a:pt x="341" y="1095"/>
                </a:lnTo>
                <a:lnTo>
                  <a:pt x="346" y="1071"/>
                </a:lnTo>
                <a:lnTo>
                  <a:pt x="351" y="1042"/>
                </a:lnTo>
                <a:lnTo>
                  <a:pt x="356" y="1008"/>
                </a:lnTo>
                <a:lnTo>
                  <a:pt x="361" y="975"/>
                </a:lnTo>
                <a:lnTo>
                  <a:pt x="365" y="936"/>
                </a:lnTo>
                <a:lnTo>
                  <a:pt x="370" y="898"/>
                </a:lnTo>
                <a:lnTo>
                  <a:pt x="375" y="860"/>
                </a:lnTo>
                <a:lnTo>
                  <a:pt x="380" y="816"/>
                </a:lnTo>
                <a:lnTo>
                  <a:pt x="389" y="778"/>
                </a:lnTo>
                <a:lnTo>
                  <a:pt x="394" y="740"/>
                </a:lnTo>
                <a:lnTo>
                  <a:pt x="399" y="706"/>
                </a:lnTo>
                <a:lnTo>
                  <a:pt x="404" y="672"/>
                </a:lnTo>
                <a:lnTo>
                  <a:pt x="409" y="643"/>
                </a:lnTo>
                <a:lnTo>
                  <a:pt x="413" y="619"/>
                </a:lnTo>
                <a:lnTo>
                  <a:pt x="418" y="600"/>
                </a:lnTo>
                <a:lnTo>
                  <a:pt x="423" y="586"/>
                </a:lnTo>
                <a:lnTo>
                  <a:pt x="428" y="571"/>
                </a:lnTo>
                <a:lnTo>
                  <a:pt x="433" y="567"/>
                </a:lnTo>
                <a:lnTo>
                  <a:pt x="437" y="567"/>
                </a:lnTo>
                <a:lnTo>
                  <a:pt x="447" y="571"/>
                </a:lnTo>
                <a:lnTo>
                  <a:pt x="452" y="581"/>
                </a:lnTo>
                <a:lnTo>
                  <a:pt x="457" y="595"/>
                </a:lnTo>
                <a:lnTo>
                  <a:pt x="461" y="610"/>
                </a:lnTo>
                <a:lnTo>
                  <a:pt x="466" y="624"/>
                </a:lnTo>
                <a:lnTo>
                  <a:pt x="471" y="643"/>
                </a:lnTo>
                <a:lnTo>
                  <a:pt x="476" y="667"/>
                </a:lnTo>
                <a:lnTo>
                  <a:pt x="481" y="687"/>
                </a:lnTo>
                <a:lnTo>
                  <a:pt x="485" y="706"/>
                </a:lnTo>
                <a:lnTo>
                  <a:pt x="490" y="725"/>
                </a:lnTo>
                <a:lnTo>
                  <a:pt x="495" y="740"/>
                </a:lnTo>
                <a:lnTo>
                  <a:pt x="500" y="754"/>
                </a:lnTo>
                <a:lnTo>
                  <a:pt x="509" y="768"/>
                </a:lnTo>
                <a:lnTo>
                  <a:pt x="514" y="778"/>
                </a:lnTo>
                <a:lnTo>
                  <a:pt x="519" y="783"/>
                </a:lnTo>
                <a:lnTo>
                  <a:pt x="524" y="783"/>
                </a:lnTo>
                <a:lnTo>
                  <a:pt x="529" y="788"/>
                </a:lnTo>
                <a:lnTo>
                  <a:pt x="533" y="783"/>
                </a:lnTo>
                <a:lnTo>
                  <a:pt x="538" y="778"/>
                </a:lnTo>
                <a:lnTo>
                  <a:pt x="543" y="773"/>
                </a:lnTo>
                <a:lnTo>
                  <a:pt x="548" y="764"/>
                </a:lnTo>
                <a:lnTo>
                  <a:pt x="553" y="759"/>
                </a:lnTo>
                <a:lnTo>
                  <a:pt x="557" y="749"/>
                </a:lnTo>
                <a:lnTo>
                  <a:pt x="562" y="740"/>
                </a:lnTo>
                <a:lnTo>
                  <a:pt x="572" y="730"/>
                </a:lnTo>
                <a:lnTo>
                  <a:pt x="577" y="720"/>
                </a:lnTo>
                <a:lnTo>
                  <a:pt x="581" y="716"/>
                </a:lnTo>
                <a:lnTo>
                  <a:pt x="586" y="711"/>
                </a:lnTo>
                <a:lnTo>
                  <a:pt x="591" y="706"/>
                </a:lnTo>
                <a:lnTo>
                  <a:pt x="596" y="701"/>
                </a:lnTo>
                <a:lnTo>
                  <a:pt x="601" y="701"/>
                </a:lnTo>
                <a:lnTo>
                  <a:pt x="605" y="701"/>
                </a:lnTo>
                <a:lnTo>
                  <a:pt x="610" y="701"/>
                </a:lnTo>
                <a:lnTo>
                  <a:pt x="615" y="706"/>
                </a:lnTo>
                <a:lnTo>
                  <a:pt x="620" y="711"/>
                </a:lnTo>
                <a:lnTo>
                  <a:pt x="625" y="716"/>
                </a:lnTo>
                <a:lnTo>
                  <a:pt x="634" y="720"/>
                </a:lnTo>
                <a:lnTo>
                  <a:pt x="639" y="725"/>
                </a:lnTo>
                <a:lnTo>
                  <a:pt x="644" y="725"/>
                </a:lnTo>
                <a:lnTo>
                  <a:pt x="649" y="730"/>
                </a:lnTo>
                <a:lnTo>
                  <a:pt x="653" y="735"/>
                </a:lnTo>
                <a:lnTo>
                  <a:pt x="658" y="735"/>
                </a:lnTo>
                <a:lnTo>
                  <a:pt x="663" y="735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64200" y="3132000"/>
            <a:ext cx="1052280" cy="160560"/>
          </a:xfrm>
          <a:custGeom>
            <a:avLst/>
            <a:gdLst/>
            <a:ahLst/>
            <a:rect l="l" t="t" r="r" b="b"/>
            <a:pathLst>
              <a:path w="663" h="101">
                <a:moveTo>
                  <a:pt x="0" y="68"/>
                </a:moveTo>
                <a:lnTo>
                  <a:pt x="5" y="68"/>
                </a:lnTo>
                <a:lnTo>
                  <a:pt x="10" y="68"/>
                </a:lnTo>
                <a:lnTo>
                  <a:pt x="14" y="63"/>
                </a:lnTo>
                <a:lnTo>
                  <a:pt x="19" y="58"/>
                </a:lnTo>
                <a:lnTo>
                  <a:pt x="29" y="53"/>
                </a:lnTo>
                <a:lnTo>
                  <a:pt x="34" y="49"/>
                </a:lnTo>
                <a:lnTo>
                  <a:pt x="38" y="39"/>
                </a:lnTo>
                <a:lnTo>
                  <a:pt x="43" y="34"/>
                </a:lnTo>
                <a:lnTo>
                  <a:pt x="48" y="25"/>
                </a:lnTo>
                <a:lnTo>
                  <a:pt x="53" y="20"/>
                </a:lnTo>
                <a:lnTo>
                  <a:pt x="58" y="15"/>
                </a:lnTo>
                <a:lnTo>
                  <a:pt x="62" y="10"/>
                </a:lnTo>
                <a:lnTo>
                  <a:pt x="67" y="5"/>
                </a:lnTo>
                <a:lnTo>
                  <a:pt x="72" y="0"/>
                </a:lnTo>
                <a:lnTo>
                  <a:pt x="77" y="0"/>
                </a:lnTo>
                <a:lnTo>
                  <a:pt x="82" y="0"/>
                </a:lnTo>
                <a:lnTo>
                  <a:pt x="91" y="5"/>
                </a:lnTo>
                <a:lnTo>
                  <a:pt x="96" y="5"/>
                </a:lnTo>
                <a:lnTo>
                  <a:pt x="101" y="10"/>
                </a:lnTo>
                <a:lnTo>
                  <a:pt x="106" y="20"/>
                </a:lnTo>
                <a:lnTo>
                  <a:pt x="110" y="25"/>
                </a:lnTo>
                <a:lnTo>
                  <a:pt x="115" y="34"/>
                </a:lnTo>
                <a:lnTo>
                  <a:pt x="120" y="44"/>
                </a:lnTo>
                <a:lnTo>
                  <a:pt x="125" y="49"/>
                </a:lnTo>
                <a:lnTo>
                  <a:pt x="130" y="58"/>
                </a:lnTo>
                <a:lnTo>
                  <a:pt x="134" y="68"/>
                </a:lnTo>
                <a:lnTo>
                  <a:pt x="139" y="77"/>
                </a:lnTo>
                <a:lnTo>
                  <a:pt x="144" y="82"/>
                </a:lnTo>
                <a:lnTo>
                  <a:pt x="154" y="92"/>
                </a:lnTo>
                <a:lnTo>
                  <a:pt x="158" y="97"/>
                </a:lnTo>
                <a:lnTo>
                  <a:pt x="163" y="101"/>
                </a:lnTo>
                <a:lnTo>
                  <a:pt x="168" y="101"/>
                </a:lnTo>
                <a:lnTo>
                  <a:pt x="173" y="101"/>
                </a:lnTo>
                <a:lnTo>
                  <a:pt x="178" y="101"/>
                </a:lnTo>
                <a:lnTo>
                  <a:pt x="182" y="101"/>
                </a:lnTo>
                <a:lnTo>
                  <a:pt x="187" y="97"/>
                </a:lnTo>
                <a:lnTo>
                  <a:pt x="192" y="92"/>
                </a:lnTo>
                <a:lnTo>
                  <a:pt x="197" y="87"/>
                </a:lnTo>
                <a:lnTo>
                  <a:pt x="202" y="82"/>
                </a:lnTo>
                <a:lnTo>
                  <a:pt x="206" y="73"/>
                </a:lnTo>
                <a:lnTo>
                  <a:pt x="216" y="68"/>
                </a:lnTo>
                <a:lnTo>
                  <a:pt x="221" y="58"/>
                </a:lnTo>
                <a:lnTo>
                  <a:pt x="226" y="53"/>
                </a:lnTo>
                <a:lnTo>
                  <a:pt x="231" y="49"/>
                </a:lnTo>
                <a:lnTo>
                  <a:pt x="235" y="44"/>
                </a:lnTo>
                <a:lnTo>
                  <a:pt x="240" y="39"/>
                </a:lnTo>
                <a:lnTo>
                  <a:pt x="245" y="34"/>
                </a:lnTo>
                <a:lnTo>
                  <a:pt x="250" y="29"/>
                </a:lnTo>
                <a:lnTo>
                  <a:pt x="255" y="29"/>
                </a:lnTo>
                <a:lnTo>
                  <a:pt x="259" y="29"/>
                </a:lnTo>
                <a:lnTo>
                  <a:pt x="264" y="29"/>
                </a:lnTo>
                <a:lnTo>
                  <a:pt x="274" y="29"/>
                </a:lnTo>
                <a:lnTo>
                  <a:pt x="279" y="34"/>
                </a:lnTo>
                <a:lnTo>
                  <a:pt x="283" y="39"/>
                </a:lnTo>
                <a:lnTo>
                  <a:pt x="288" y="39"/>
                </a:lnTo>
                <a:lnTo>
                  <a:pt x="293" y="44"/>
                </a:lnTo>
                <a:lnTo>
                  <a:pt x="298" y="49"/>
                </a:lnTo>
                <a:lnTo>
                  <a:pt x="303" y="53"/>
                </a:lnTo>
                <a:lnTo>
                  <a:pt x="307" y="58"/>
                </a:lnTo>
                <a:lnTo>
                  <a:pt x="312" y="58"/>
                </a:lnTo>
                <a:lnTo>
                  <a:pt x="317" y="63"/>
                </a:lnTo>
                <a:lnTo>
                  <a:pt x="322" y="63"/>
                </a:lnTo>
                <a:lnTo>
                  <a:pt x="327" y="68"/>
                </a:lnTo>
                <a:lnTo>
                  <a:pt x="336" y="68"/>
                </a:lnTo>
                <a:lnTo>
                  <a:pt x="341" y="68"/>
                </a:lnTo>
                <a:lnTo>
                  <a:pt x="346" y="68"/>
                </a:lnTo>
                <a:lnTo>
                  <a:pt x="351" y="68"/>
                </a:lnTo>
                <a:lnTo>
                  <a:pt x="355" y="63"/>
                </a:lnTo>
                <a:lnTo>
                  <a:pt x="360" y="63"/>
                </a:lnTo>
                <a:lnTo>
                  <a:pt x="365" y="58"/>
                </a:lnTo>
                <a:lnTo>
                  <a:pt x="370" y="58"/>
                </a:lnTo>
                <a:lnTo>
                  <a:pt x="375" y="53"/>
                </a:lnTo>
                <a:lnTo>
                  <a:pt x="379" y="49"/>
                </a:lnTo>
                <a:lnTo>
                  <a:pt x="384" y="49"/>
                </a:lnTo>
                <a:lnTo>
                  <a:pt x="389" y="44"/>
                </a:lnTo>
                <a:lnTo>
                  <a:pt x="399" y="44"/>
                </a:lnTo>
                <a:lnTo>
                  <a:pt x="403" y="44"/>
                </a:lnTo>
                <a:lnTo>
                  <a:pt x="408" y="39"/>
                </a:lnTo>
                <a:lnTo>
                  <a:pt x="413" y="39"/>
                </a:lnTo>
                <a:lnTo>
                  <a:pt x="418" y="39"/>
                </a:lnTo>
                <a:lnTo>
                  <a:pt x="423" y="44"/>
                </a:lnTo>
                <a:lnTo>
                  <a:pt x="427" y="44"/>
                </a:lnTo>
                <a:lnTo>
                  <a:pt x="432" y="44"/>
                </a:lnTo>
                <a:lnTo>
                  <a:pt x="437" y="49"/>
                </a:lnTo>
                <a:lnTo>
                  <a:pt x="442" y="49"/>
                </a:lnTo>
                <a:lnTo>
                  <a:pt x="447" y="53"/>
                </a:lnTo>
                <a:lnTo>
                  <a:pt x="451" y="58"/>
                </a:lnTo>
                <a:lnTo>
                  <a:pt x="461" y="58"/>
                </a:lnTo>
                <a:lnTo>
                  <a:pt x="466" y="63"/>
                </a:lnTo>
                <a:lnTo>
                  <a:pt x="471" y="63"/>
                </a:lnTo>
                <a:lnTo>
                  <a:pt x="475" y="68"/>
                </a:lnTo>
                <a:lnTo>
                  <a:pt x="480" y="68"/>
                </a:lnTo>
                <a:lnTo>
                  <a:pt x="485" y="73"/>
                </a:lnTo>
                <a:lnTo>
                  <a:pt x="490" y="73"/>
                </a:lnTo>
                <a:lnTo>
                  <a:pt x="495" y="73"/>
                </a:lnTo>
                <a:lnTo>
                  <a:pt x="499" y="73"/>
                </a:lnTo>
                <a:lnTo>
                  <a:pt x="504" y="73"/>
                </a:lnTo>
                <a:lnTo>
                  <a:pt x="509" y="68"/>
                </a:lnTo>
                <a:lnTo>
                  <a:pt x="519" y="68"/>
                </a:lnTo>
                <a:lnTo>
                  <a:pt x="523" y="68"/>
                </a:lnTo>
                <a:lnTo>
                  <a:pt x="528" y="63"/>
                </a:lnTo>
                <a:lnTo>
                  <a:pt x="533" y="63"/>
                </a:lnTo>
                <a:lnTo>
                  <a:pt x="538" y="58"/>
                </a:lnTo>
                <a:lnTo>
                  <a:pt x="543" y="53"/>
                </a:lnTo>
                <a:lnTo>
                  <a:pt x="547" y="53"/>
                </a:lnTo>
                <a:lnTo>
                  <a:pt x="552" y="49"/>
                </a:lnTo>
                <a:lnTo>
                  <a:pt x="557" y="49"/>
                </a:lnTo>
                <a:lnTo>
                  <a:pt x="562" y="49"/>
                </a:lnTo>
                <a:lnTo>
                  <a:pt x="567" y="44"/>
                </a:lnTo>
                <a:lnTo>
                  <a:pt x="571" y="44"/>
                </a:lnTo>
                <a:lnTo>
                  <a:pt x="581" y="44"/>
                </a:lnTo>
                <a:lnTo>
                  <a:pt x="586" y="44"/>
                </a:lnTo>
                <a:lnTo>
                  <a:pt x="591" y="44"/>
                </a:lnTo>
                <a:lnTo>
                  <a:pt x="595" y="44"/>
                </a:lnTo>
                <a:lnTo>
                  <a:pt x="600" y="49"/>
                </a:lnTo>
                <a:lnTo>
                  <a:pt x="605" y="49"/>
                </a:lnTo>
                <a:lnTo>
                  <a:pt x="610" y="53"/>
                </a:lnTo>
                <a:lnTo>
                  <a:pt x="615" y="53"/>
                </a:lnTo>
                <a:lnTo>
                  <a:pt x="619" y="53"/>
                </a:lnTo>
                <a:lnTo>
                  <a:pt x="624" y="58"/>
                </a:lnTo>
                <a:lnTo>
                  <a:pt x="629" y="58"/>
                </a:lnTo>
                <a:lnTo>
                  <a:pt x="634" y="63"/>
                </a:lnTo>
                <a:lnTo>
                  <a:pt x="643" y="63"/>
                </a:lnTo>
                <a:lnTo>
                  <a:pt x="648" y="63"/>
                </a:lnTo>
                <a:lnTo>
                  <a:pt x="653" y="68"/>
                </a:lnTo>
                <a:lnTo>
                  <a:pt x="658" y="68"/>
                </a:lnTo>
                <a:lnTo>
                  <a:pt x="663" y="68"/>
                </a:lnTo>
              </a:path>
            </a:pathLst>
          </a:custGeom>
          <a:noFill/>
          <a:ln w="15840">
            <a:solidFill>
              <a:srgbClr val="0000ff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16480" y="3209760"/>
            <a:ext cx="160560" cy="30240"/>
          </a:xfrm>
          <a:custGeom>
            <a:avLst/>
            <a:gdLst/>
            <a:ahLst/>
            <a:rect l="l" t="t" r="r" b="b"/>
            <a:pathLst>
              <a:path w="101" h="19">
                <a:moveTo>
                  <a:pt x="0" y="19"/>
                </a:moveTo>
                <a:lnTo>
                  <a:pt x="4" y="19"/>
                </a:lnTo>
                <a:lnTo>
                  <a:pt x="9" y="19"/>
                </a:lnTo>
                <a:lnTo>
                  <a:pt x="14" y="14"/>
                </a:lnTo>
                <a:lnTo>
                  <a:pt x="19" y="14"/>
                </a:lnTo>
                <a:lnTo>
                  <a:pt x="24" y="14"/>
                </a:lnTo>
                <a:lnTo>
                  <a:pt x="28" y="9"/>
                </a:lnTo>
                <a:lnTo>
                  <a:pt x="33" y="9"/>
                </a:lnTo>
                <a:lnTo>
                  <a:pt x="43" y="9"/>
                </a:lnTo>
                <a:lnTo>
                  <a:pt x="48" y="4"/>
                </a:lnTo>
                <a:lnTo>
                  <a:pt x="52" y="4"/>
                </a:lnTo>
                <a:lnTo>
                  <a:pt x="57" y="4"/>
                </a:lnTo>
                <a:lnTo>
                  <a:pt x="62" y="4"/>
                </a:lnTo>
                <a:lnTo>
                  <a:pt x="67" y="0"/>
                </a:lnTo>
                <a:lnTo>
                  <a:pt x="72" y="0"/>
                </a:lnTo>
                <a:lnTo>
                  <a:pt x="76" y="0"/>
                </a:lnTo>
                <a:lnTo>
                  <a:pt x="81" y="0"/>
                </a:lnTo>
                <a:lnTo>
                  <a:pt x="86" y="0"/>
                </a:lnTo>
                <a:lnTo>
                  <a:pt x="91" y="0"/>
                </a:lnTo>
                <a:lnTo>
                  <a:pt x="96" y="0"/>
                </a:lnTo>
                <a:lnTo>
                  <a:pt x="101" y="0"/>
                </a:lnTo>
              </a:path>
            </a:pathLst>
          </a:custGeom>
          <a:noFill/>
          <a:ln w="15840">
            <a:solidFill>
              <a:srgbClr val="3333cc"/>
            </a:solidFill>
            <a:prstDash val="sys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31000" y="45720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00000">
            <a:off x="2115720" y="283536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, v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9480" y="762120"/>
            <a:ext cx="83674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transfer functions and Thevenin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 source term into a single factor -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between the system function 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fficiency"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determination of the system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synthesizing an entire ultrasonic measur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3000" y="2286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6248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24280" y="2209680"/>
          <a:ext cx="62712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09680"/>
                    <a:ext cx="627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95880" y="990720"/>
          <a:ext cx="54468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990720"/>
                    <a:ext cx="544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4528800" y="1703160"/>
            <a:ext cx="446040" cy="472680"/>
            <a:chOff x="4528800" y="1703160"/>
            <a:chExt cx="446040" cy="472680"/>
          </a:xfrm>
        </p:grpSpPr>
        <p:sp>
          <p:nvSpPr>
            <p:cNvPr id="51" name=""/>
            <p:cNvSpPr/>
            <p:nvPr/>
          </p:nvSpPr>
          <p:spPr>
            <a:xfrm rot="7648800">
              <a:off x="4578840" y="1799640"/>
              <a:ext cx="345600" cy="297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648800">
              <a:off x="4859640" y="1750320"/>
              <a:ext cx="3384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648800">
              <a:off x="4880520" y="1744200"/>
              <a:ext cx="33480" cy="63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648800">
              <a:off x="4901760" y="1695600"/>
              <a:ext cx="3348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402160" y="137160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51480" y="1609560"/>
            <a:ext cx="8424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1643040"/>
            <a:ext cx="46692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07120" y="164772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24440" y="1638360"/>
            <a:ext cx="7308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505320" y="1689480"/>
            <a:ext cx="445680" cy="472320"/>
            <a:chOff x="3505320" y="1689480"/>
            <a:chExt cx="445680" cy="472320"/>
          </a:xfrm>
        </p:grpSpPr>
        <p:sp>
          <p:nvSpPr>
            <p:cNvPr id="61" name=""/>
            <p:cNvSpPr/>
            <p:nvPr/>
          </p:nvSpPr>
          <p:spPr>
            <a:xfrm flipH="1" rot="13951200">
              <a:off x="3555360" y="1785960"/>
              <a:ext cx="345600" cy="2966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3951200">
              <a:off x="3586680" y="1736280"/>
              <a:ext cx="3384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3951200">
              <a:off x="3565440" y="1730520"/>
              <a:ext cx="33480" cy="63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3951200">
              <a:off x="3544560" y="1681920"/>
              <a:ext cx="33480" cy="1058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2310840" y="137160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41560" y="1609560"/>
            <a:ext cx="842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21120" y="1643040"/>
            <a:ext cx="4651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64952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473280" y="1644120"/>
            <a:ext cx="74880" cy="8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028960"/>
            <a:ext cx="533160" cy="83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48160" y="2104920"/>
            <a:ext cx="160200" cy="17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1800" y="2104920"/>
            <a:ext cx="150840" cy="1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81080" y="990720"/>
          <a:ext cx="5079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079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00400" y="2133720"/>
          <a:ext cx="59220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2133720"/>
                    <a:ext cx="5922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flipH="1" flipV="1">
            <a:off x="4343040" y="2590920"/>
            <a:ext cx="43668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81960" y="266688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/e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4800" y="2286000"/>
          <a:ext cx="212760" cy="3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286000"/>
                    <a:ext cx="2127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124080" y="35053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5053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5053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90920" y="3352680"/>
          <a:ext cx="234720" cy="34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3352680"/>
                    <a:ext cx="2347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91320" y="3276720"/>
          <a:ext cx="26964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3276720"/>
                    <a:ext cx="2696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191120" y="3657600"/>
          <a:ext cx="27144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1120" y="3657600"/>
                    <a:ext cx="2714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276720" y="3657600"/>
          <a:ext cx="24768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76720" y="3657600"/>
                    <a:ext cx="247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05520" y="3657600"/>
          <a:ext cx="271440" cy="40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3657600"/>
                    <a:ext cx="2714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7010280" y="4800600"/>
            <a:ext cx="381240" cy="500040"/>
            <a:chOff x="7010280" y="4800600"/>
            <a:chExt cx="381240" cy="500040"/>
          </a:xfrm>
        </p:grpSpPr>
        <p:sp>
          <p:nvSpPr>
            <p:cNvPr id="99" name=""/>
            <p:cNvSpPr/>
            <p:nvPr/>
          </p:nvSpPr>
          <p:spPr>
            <a:xfrm>
              <a:off x="7149960" y="522612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0280" y="48006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24760" y="516240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194600" y="4990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2971800" y="5811840"/>
          <a:ext cx="2971800" cy="72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811840"/>
                    <a:ext cx="2971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86200" y="4724280"/>
            <a:ext cx="609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24280" y="4572000"/>
          <a:ext cx="270000" cy="345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4572000"/>
                    <a:ext cx="2700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038480" y="4800600"/>
          <a:ext cx="271440" cy="407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038480" y="4800600"/>
                    <a:ext cx="2714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352680" y="4648320"/>
          <a:ext cx="225720" cy="276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52680" y="4648320"/>
                    <a:ext cx="2257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1828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4760" y="3049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480" y="320040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relationship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e system “efficiency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[ Schmerr, Fundamentals of Ultrasonic Nonde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, 1998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4572000"/>
          <a:ext cx="29210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0"/>
                    <a:ext cx="2921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7920" y="1752480"/>
          <a:ext cx="3504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3504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73800" y="4267080"/>
          <a:ext cx="2235240" cy="9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4267080"/>
                    <a:ext cx="22352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5791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916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7520" y="605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8960" y="6165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49240" y="52228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ton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86728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5715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8840" y="5888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02160" y="60069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4160" y="6145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91080" y="6289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5881680"/>
            <a:ext cx="198360" cy="409680"/>
          </a:xfrm>
          <a:custGeom>
            <a:avLst/>
            <a:gdLst/>
            <a:ahLst/>
            <a:rect l="l" t="t" r="r" b="b"/>
            <a:pathLst>
              <a:path w="125" h="258">
                <a:moveTo>
                  <a:pt x="73" y="258"/>
                </a:moveTo>
                <a:cubicBezTo>
                  <a:pt x="112" y="200"/>
                  <a:pt x="93" y="221"/>
                  <a:pt x="125" y="189"/>
                </a:cubicBezTo>
                <a:cubicBezTo>
                  <a:pt x="114" y="147"/>
                  <a:pt x="104" y="143"/>
                  <a:pt x="64" y="129"/>
                </a:cubicBezTo>
                <a:cubicBezTo>
                  <a:pt x="58" y="120"/>
                  <a:pt x="54" y="110"/>
                  <a:pt x="47" y="103"/>
                </a:cubicBezTo>
                <a:cubicBezTo>
                  <a:pt x="33" y="89"/>
                  <a:pt x="0" y="89"/>
                  <a:pt x="30" y="60"/>
                </a:cubicBezTo>
                <a:cubicBezTo>
                  <a:pt x="37" y="54"/>
                  <a:pt x="47" y="55"/>
                  <a:pt x="56" y="52"/>
                </a:cubicBezTo>
                <a:cubicBezTo>
                  <a:pt x="91" y="29"/>
                  <a:pt x="107" y="42"/>
                  <a:pt x="1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19600" y="537516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inciden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997360" y="5651640"/>
          <a:ext cx="91440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7360" y="5651640"/>
                    <a:ext cx="914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26320" y="5713560"/>
          <a:ext cx="1143000" cy="55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6320" y="5713560"/>
                    <a:ext cx="11430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438280" y="1905120"/>
          <a:ext cx="46483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4648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66680" y="1054080"/>
          <a:ext cx="297180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054080"/>
                    <a:ext cx="2971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24280" y="3200400"/>
          <a:ext cx="274320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200400"/>
                    <a:ext cx="27432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495680" y="1143000"/>
          <a:ext cx="259092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143000"/>
                    <a:ext cx="25909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63200" y="2057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5600" y="320040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iston transduc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9880" y="5562720"/>
          <a:ext cx="2438640" cy="90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5562720"/>
                    <a:ext cx="243864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7160" y="4537080"/>
            <a:ext cx="723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areas of receiving and transmitting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867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0880" y="1066680"/>
            <a:ext cx="34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thods to find 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752480"/>
            <a:ext cx="7648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easure all the components needed to obtai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the methods indicated previously. Then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asurements to 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666880" y="3200400"/>
          <a:ext cx="304812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30481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57200" y="4572000"/>
          <a:ext cx="80773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0773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666880" cy="2108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4760" y="3049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581280" y="2286000"/>
          <a:ext cx="502920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286000"/>
                    <a:ext cx="50292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0400" y="4343400"/>
          <a:ext cx="1752480" cy="81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4343400"/>
                    <a:ext cx="1752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637960" y="43434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2280" y="5334120"/>
            <a:ext cx="19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e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357720" y="5154480"/>
          <a:ext cx="4033800" cy="107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7720" y="5154480"/>
                    <a:ext cx="4033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5800" y="106668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asur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model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5880" y="914400"/>
          <a:ext cx="1752840" cy="81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5880" y="914400"/>
                    <a:ext cx="17528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system factor obtained with both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A : synthe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B: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33840" y="3843360"/>
            <a:ext cx="4008240" cy="16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33840" y="3843360"/>
            <a:ext cx="4008240" cy="16858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33840" y="3843360"/>
            <a:ext cx="400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3840" y="5529240"/>
            <a:ext cx="400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42080" y="384300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33840" y="384300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33840" y="5529240"/>
            <a:ext cx="400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33840" y="384300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33840" y="5493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3840" y="38433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4320" y="556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130560" y="5493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0560" y="38433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02840" y="556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38440" y="5493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38440" y="38433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0720" y="556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36960" y="5493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6960" y="38433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07440" y="556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34040" y="5493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4040" y="38433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05960" y="556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741920" y="5493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41920" y="38433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7532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40440" y="54939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40440" y="38433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384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537160" y="5493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37160" y="38433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056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35680" y="5493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35680" y="38433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7088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43560" y="54939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43560" y="38433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7696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742080" y="5493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42080" y="38433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75480" y="556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3840" y="5529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703920" y="55292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31240" y="5457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3840" y="5113440"/>
            <a:ext cx="36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703920" y="5113440"/>
            <a:ext cx="38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31240" y="503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3840" y="4686480"/>
            <a:ext cx="36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703920" y="4686480"/>
            <a:ext cx="38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31240" y="4613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33840" y="42591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03920" y="4259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1240" y="4187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3840" y="3843360"/>
            <a:ext cx="36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03920" y="3843360"/>
            <a:ext cx="38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31240" y="3768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31680" y="367020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33000" y="3581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33840" y="3843360"/>
            <a:ext cx="400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33840" y="5529240"/>
            <a:ext cx="400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742080" y="384300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33840" y="384300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1760" y="4459320"/>
            <a:ext cx="3657600" cy="1069920"/>
          </a:xfrm>
          <a:custGeom>
            <a:avLst/>
            <a:gdLst/>
            <a:ahLst/>
            <a:rect l="l" t="t" r="r" b="b"/>
            <a:pathLst>
              <a:path w="2878" h="860">
                <a:moveTo>
                  <a:pt x="0" y="845"/>
                </a:moveTo>
                <a:lnTo>
                  <a:pt x="15" y="853"/>
                </a:lnTo>
                <a:lnTo>
                  <a:pt x="22" y="853"/>
                </a:lnTo>
                <a:lnTo>
                  <a:pt x="29" y="853"/>
                </a:lnTo>
                <a:lnTo>
                  <a:pt x="44" y="860"/>
                </a:lnTo>
                <a:lnTo>
                  <a:pt x="51" y="860"/>
                </a:lnTo>
                <a:lnTo>
                  <a:pt x="58" y="853"/>
                </a:lnTo>
                <a:lnTo>
                  <a:pt x="73" y="845"/>
                </a:lnTo>
                <a:lnTo>
                  <a:pt x="80" y="838"/>
                </a:lnTo>
                <a:lnTo>
                  <a:pt x="88" y="824"/>
                </a:lnTo>
                <a:lnTo>
                  <a:pt x="102" y="816"/>
                </a:lnTo>
                <a:lnTo>
                  <a:pt x="109" y="816"/>
                </a:lnTo>
                <a:lnTo>
                  <a:pt x="117" y="816"/>
                </a:lnTo>
                <a:lnTo>
                  <a:pt x="124" y="809"/>
                </a:lnTo>
                <a:lnTo>
                  <a:pt x="139" y="809"/>
                </a:lnTo>
                <a:lnTo>
                  <a:pt x="146" y="809"/>
                </a:lnTo>
                <a:lnTo>
                  <a:pt x="153" y="809"/>
                </a:lnTo>
                <a:lnTo>
                  <a:pt x="168" y="802"/>
                </a:lnTo>
                <a:lnTo>
                  <a:pt x="175" y="802"/>
                </a:lnTo>
                <a:lnTo>
                  <a:pt x="182" y="794"/>
                </a:lnTo>
                <a:lnTo>
                  <a:pt x="197" y="794"/>
                </a:lnTo>
                <a:lnTo>
                  <a:pt x="204" y="787"/>
                </a:lnTo>
                <a:lnTo>
                  <a:pt x="211" y="780"/>
                </a:lnTo>
                <a:lnTo>
                  <a:pt x="226" y="773"/>
                </a:lnTo>
                <a:lnTo>
                  <a:pt x="233" y="765"/>
                </a:lnTo>
                <a:lnTo>
                  <a:pt x="241" y="751"/>
                </a:lnTo>
                <a:lnTo>
                  <a:pt x="255" y="743"/>
                </a:lnTo>
                <a:lnTo>
                  <a:pt x="262" y="729"/>
                </a:lnTo>
                <a:lnTo>
                  <a:pt x="270" y="714"/>
                </a:lnTo>
                <a:lnTo>
                  <a:pt x="284" y="707"/>
                </a:lnTo>
                <a:lnTo>
                  <a:pt x="292" y="700"/>
                </a:lnTo>
                <a:lnTo>
                  <a:pt x="299" y="685"/>
                </a:lnTo>
                <a:lnTo>
                  <a:pt x="313" y="678"/>
                </a:lnTo>
                <a:lnTo>
                  <a:pt x="321" y="671"/>
                </a:lnTo>
                <a:lnTo>
                  <a:pt x="328" y="663"/>
                </a:lnTo>
                <a:lnTo>
                  <a:pt x="343" y="656"/>
                </a:lnTo>
                <a:lnTo>
                  <a:pt x="350" y="656"/>
                </a:lnTo>
                <a:lnTo>
                  <a:pt x="357" y="649"/>
                </a:lnTo>
                <a:lnTo>
                  <a:pt x="372" y="641"/>
                </a:lnTo>
                <a:lnTo>
                  <a:pt x="379" y="641"/>
                </a:lnTo>
                <a:lnTo>
                  <a:pt x="386" y="634"/>
                </a:lnTo>
                <a:lnTo>
                  <a:pt x="394" y="627"/>
                </a:lnTo>
                <a:lnTo>
                  <a:pt x="408" y="612"/>
                </a:lnTo>
                <a:lnTo>
                  <a:pt x="415" y="598"/>
                </a:lnTo>
                <a:lnTo>
                  <a:pt x="423" y="583"/>
                </a:lnTo>
                <a:lnTo>
                  <a:pt x="437" y="568"/>
                </a:lnTo>
                <a:lnTo>
                  <a:pt x="445" y="547"/>
                </a:lnTo>
                <a:lnTo>
                  <a:pt x="452" y="525"/>
                </a:lnTo>
                <a:lnTo>
                  <a:pt x="466" y="510"/>
                </a:lnTo>
                <a:lnTo>
                  <a:pt x="474" y="488"/>
                </a:lnTo>
                <a:lnTo>
                  <a:pt x="481" y="474"/>
                </a:lnTo>
                <a:lnTo>
                  <a:pt x="496" y="459"/>
                </a:lnTo>
                <a:lnTo>
                  <a:pt x="503" y="445"/>
                </a:lnTo>
                <a:lnTo>
                  <a:pt x="510" y="430"/>
                </a:lnTo>
                <a:lnTo>
                  <a:pt x="525" y="415"/>
                </a:lnTo>
                <a:lnTo>
                  <a:pt x="532" y="401"/>
                </a:lnTo>
                <a:lnTo>
                  <a:pt x="539" y="386"/>
                </a:lnTo>
                <a:lnTo>
                  <a:pt x="554" y="364"/>
                </a:lnTo>
                <a:lnTo>
                  <a:pt x="561" y="343"/>
                </a:lnTo>
                <a:lnTo>
                  <a:pt x="568" y="321"/>
                </a:lnTo>
                <a:lnTo>
                  <a:pt x="583" y="299"/>
                </a:lnTo>
                <a:lnTo>
                  <a:pt x="590" y="270"/>
                </a:lnTo>
                <a:lnTo>
                  <a:pt x="598" y="241"/>
                </a:lnTo>
                <a:lnTo>
                  <a:pt x="612" y="211"/>
                </a:lnTo>
                <a:lnTo>
                  <a:pt x="619" y="182"/>
                </a:lnTo>
                <a:lnTo>
                  <a:pt x="627" y="153"/>
                </a:lnTo>
                <a:lnTo>
                  <a:pt x="641" y="124"/>
                </a:lnTo>
                <a:lnTo>
                  <a:pt x="649" y="95"/>
                </a:lnTo>
                <a:lnTo>
                  <a:pt x="656" y="73"/>
                </a:lnTo>
                <a:lnTo>
                  <a:pt x="663" y="58"/>
                </a:lnTo>
                <a:lnTo>
                  <a:pt x="678" y="44"/>
                </a:lnTo>
                <a:lnTo>
                  <a:pt x="685" y="29"/>
                </a:lnTo>
                <a:lnTo>
                  <a:pt x="692" y="22"/>
                </a:lnTo>
                <a:lnTo>
                  <a:pt x="707" y="15"/>
                </a:lnTo>
                <a:lnTo>
                  <a:pt x="714" y="7"/>
                </a:lnTo>
                <a:lnTo>
                  <a:pt x="721" y="0"/>
                </a:lnTo>
                <a:lnTo>
                  <a:pt x="736" y="0"/>
                </a:lnTo>
                <a:lnTo>
                  <a:pt x="743" y="0"/>
                </a:lnTo>
                <a:lnTo>
                  <a:pt x="751" y="0"/>
                </a:lnTo>
                <a:lnTo>
                  <a:pt x="765" y="0"/>
                </a:lnTo>
                <a:lnTo>
                  <a:pt x="772" y="0"/>
                </a:lnTo>
                <a:lnTo>
                  <a:pt x="780" y="7"/>
                </a:lnTo>
                <a:lnTo>
                  <a:pt x="794" y="7"/>
                </a:lnTo>
                <a:lnTo>
                  <a:pt x="802" y="15"/>
                </a:lnTo>
                <a:lnTo>
                  <a:pt x="809" y="29"/>
                </a:lnTo>
                <a:lnTo>
                  <a:pt x="823" y="37"/>
                </a:lnTo>
                <a:lnTo>
                  <a:pt x="831" y="51"/>
                </a:lnTo>
                <a:lnTo>
                  <a:pt x="838" y="73"/>
                </a:lnTo>
                <a:lnTo>
                  <a:pt x="853" y="88"/>
                </a:lnTo>
                <a:lnTo>
                  <a:pt x="860" y="109"/>
                </a:lnTo>
                <a:lnTo>
                  <a:pt x="867" y="124"/>
                </a:lnTo>
                <a:lnTo>
                  <a:pt x="882" y="146"/>
                </a:lnTo>
                <a:lnTo>
                  <a:pt x="889" y="168"/>
                </a:lnTo>
                <a:lnTo>
                  <a:pt x="896" y="182"/>
                </a:lnTo>
                <a:lnTo>
                  <a:pt x="911" y="204"/>
                </a:lnTo>
                <a:lnTo>
                  <a:pt x="918" y="219"/>
                </a:lnTo>
                <a:lnTo>
                  <a:pt x="925" y="233"/>
                </a:lnTo>
                <a:lnTo>
                  <a:pt x="933" y="248"/>
                </a:lnTo>
                <a:lnTo>
                  <a:pt x="947" y="262"/>
                </a:lnTo>
                <a:lnTo>
                  <a:pt x="955" y="277"/>
                </a:lnTo>
                <a:lnTo>
                  <a:pt x="962" y="292"/>
                </a:lnTo>
                <a:lnTo>
                  <a:pt x="976" y="299"/>
                </a:lnTo>
                <a:lnTo>
                  <a:pt x="984" y="313"/>
                </a:lnTo>
                <a:lnTo>
                  <a:pt x="991" y="321"/>
                </a:lnTo>
                <a:lnTo>
                  <a:pt x="1006" y="335"/>
                </a:lnTo>
                <a:lnTo>
                  <a:pt x="1013" y="350"/>
                </a:lnTo>
                <a:lnTo>
                  <a:pt x="1020" y="357"/>
                </a:lnTo>
                <a:lnTo>
                  <a:pt x="1035" y="372"/>
                </a:lnTo>
                <a:lnTo>
                  <a:pt x="1042" y="386"/>
                </a:lnTo>
                <a:lnTo>
                  <a:pt x="1049" y="401"/>
                </a:lnTo>
                <a:lnTo>
                  <a:pt x="1064" y="415"/>
                </a:lnTo>
                <a:lnTo>
                  <a:pt x="1071" y="423"/>
                </a:lnTo>
                <a:lnTo>
                  <a:pt x="1078" y="437"/>
                </a:lnTo>
                <a:lnTo>
                  <a:pt x="1093" y="452"/>
                </a:lnTo>
                <a:lnTo>
                  <a:pt x="1100" y="459"/>
                </a:lnTo>
                <a:lnTo>
                  <a:pt x="1108" y="474"/>
                </a:lnTo>
                <a:lnTo>
                  <a:pt x="1122" y="488"/>
                </a:lnTo>
                <a:lnTo>
                  <a:pt x="1129" y="496"/>
                </a:lnTo>
                <a:lnTo>
                  <a:pt x="1137" y="510"/>
                </a:lnTo>
                <a:lnTo>
                  <a:pt x="1151" y="517"/>
                </a:lnTo>
                <a:lnTo>
                  <a:pt x="1159" y="532"/>
                </a:lnTo>
                <a:lnTo>
                  <a:pt x="1166" y="539"/>
                </a:lnTo>
                <a:lnTo>
                  <a:pt x="1180" y="554"/>
                </a:lnTo>
                <a:lnTo>
                  <a:pt x="1188" y="561"/>
                </a:lnTo>
                <a:lnTo>
                  <a:pt x="1195" y="576"/>
                </a:lnTo>
                <a:lnTo>
                  <a:pt x="1202" y="583"/>
                </a:lnTo>
                <a:lnTo>
                  <a:pt x="1217" y="598"/>
                </a:lnTo>
                <a:lnTo>
                  <a:pt x="1224" y="612"/>
                </a:lnTo>
                <a:lnTo>
                  <a:pt x="1231" y="619"/>
                </a:lnTo>
                <a:lnTo>
                  <a:pt x="1246" y="634"/>
                </a:lnTo>
                <a:lnTo>
                  <a:pt x="1253" y="649"/>
                </a:lnTo>
                <a:lnTo>
                  <a:pt x="1261" y="656"/>
                </a:lnTo>
                <a:lnTo>
                  <a:pt x="1275" y="671"/>
                </a:lnTo>
                <a:lnTo>
                  <a:pt x="1282" y="678"/>
                </a:lnTo>
                <a:lnTo>
                  <a:pt x="1290" y="692"/>
                </a:lnTo>
                <a:lnTo>
                  <a:pt x="1304" y="700"/>
                </a:lnTo>
                <a:lnTo>
                  <a:pt x="1312" y="714"/>
                </a:lnTo>
                <a:lnTo>
                  <a:pt x="1319" y="722"/>
                </a:lnTo>
                <a:lnTo>
                  <a:pt x="1333" y="736"/>
                </a:lnTo>
                <a:lnTo>
                  <a:pt x="1341" y="743"/>
                </a:lnTo>
                <a:lnTo>
                  <a:pt x="1348" y="751"/>
                </a:lnTo>
                <a:lnTo>
                  <a:pt x="1363" y="758"/>
                </a:lnTo>
                <a:lnTo>
                  <a:pt x="1370" y="765"/>
                </a:lnTo>
                <a:lnTo>
                  <a:pt x="1377" y="773"/>
                </a:lnTo>
                <a:lnTo>
                  <a:pt x="1392" y="780"/>
                </a:lnTo>
                <a:lnTo>
                  <a:pt x="1399" y="787"/>
                </a:lnTo>
                <a:lnTo>
                  <a:pt x="1406" y="794"/>
                </a:lnTo>
                <a:lnTo>
                  <a:pt x="1421" y="802"/>
                </a:lnTo>
                <a:lnTo>
                  <a:pt x="1428" y="802"/>
                </a:lnTo>
                <a:lnTo>
                  <a:pt x="1435" y="809"/>
                </a:lnTo>
                <a:lnTo>
                  <a:pt x="1450" y="809"/>
                </a:lnTo>
                <a:lnTo>
                  <a:pt x="1457" y="816"/>
                </a:lnTo>
                <a:lnTo>
                  <a:pt x="1465" y="816"/>
                </a:lnTo>
                <a:lnTo>
                  <a:pt x="1472" y="816"/>
                </a:lnTo>
                <a:lnTo>
                  <a:pt x="1486" y="816"/>
                </a:lnTo>
                <a:lnTo>
                  <a:pt x="1494" y="816"/>
                </a:lnTo>
                <a:lnTo>
                  <a:pt x="1501" y="816"/>
                </a:lnTo>
                <a:lnTo>
                  <a:pt x="1516" y="816"/>
                </a:lnTo>
                <a:lnTo>
                  <a:pt x="1523" y="809"/>
                </a:lnTo>
                <a:lnTo>
                  <a:pt x="1530" y="809"/>
                </a:lnTo>
                <a:lnTo>
                  <a:pt x="1545" y="809"/>
                </a:lnTo>
                <a:lnTo>
                  <a:pt x="1552" y="802"/>
                </a:lnTo>
                <a:lnTo>
                  <a:pt x="1559" y="802"/>
                </a:lnTo>
                <a:lnTo>
                  <a:pt x="1574" y="802"/>
                </a:lnTo>
                <a:lnTo>
                  <a:pt x="1581" y="794"/>
                </a:lnTo>
                <a:lnTo>
                  <a:pt x="1588" y="794"/>
                </a:lnTo>
                <a:lnTo>
                  <a:pt x="1603" y="787"/>
                </a:lnTo>
                <a:lnTo>
                  <a:pt x="1610" y="787"/>
                </a:lnTo>
                <a:lnTo>
                  <a:pt x="1618" y="780"/>
                </a:lnTo>
                <a:lnTo>
                  <a:pt x="1632" y="780"/>
                </a:lnTo>
                <a:lnTo>
                  <a:pt x="1639" y="780"/>
                </a:lnTo>
                <a:lnTo>
                  <a:pt x="1647" y="780"/>
                </a:lnTo>
                <a:lnTo>
                  <a:pt x="1661" y="773"/>
                </a:lnTo>
                <a:lnTo>
                  <a:pt x="1669" y="773"/>
                </a:lnTo>
                <a:lnTo>
                  <a:pt x="1676" y="773"/>
                </a:lnTo>
                <a:lnTo>
                  <a:pt x="1690" y="765"/>
                </a:lnTo>
                <a:lnTo>
                  <a:pt x="1698" y="765"/>
                </a:lnTo>
                <a:lnTo>
                  <a:pt x="1705" y="758"/>
                </a:lnTo>
                <a:lnTo>
                  <a:pt x="1720" y="758"/>
                </a:lnTo>
                <a:lnTo>
                  <a:pt x="1727" y="758"/>
                </a:lnTo>
                <a:lnTo>
                  <a:pt x="1734" y="758"/>
                </a:lnTo>
                <a:lnTo>
                  <a:pt x="1741" y="751"/>
                </a:lnTo>
                <a:lnTo>
                  <a:pt x="1756" y="751"/>
                </a:lnTo>
                <a:lnTo>
                  <a:pt x="1763" y="751"/>
                </a:lnTo>
                <a:lnTo>
                  <a:pt x="1771" y="751"/>
                </a:lnTo>
                <a:lnTo>
                  <a:pt x="1785" y="751"/>
                </a:lnTo>
                <a:lnTo>
                  <a:pt x="1792" y="743"/>
                </a:lnTo>
                <a:lnTo>
                  <a:pt x="1800" y="743"/>
                </a:lnTo>
                <a:lnTo>
                  <a:pt x="1814" y="743"/>
                </a:lnTo>
                <a:lnTo>
                  <a:pt x="1822" y="743"/>
                </a:lnTo>
                <a:lnTo>
                  <a:pt x="1829" y="751"/>
                </a:lnTo>
                <a:lnTo>
                  <a:pt x="1843" y="751"/>
                </a:lnTo>
                <a:lnTo>
                  <a:pt x="1851" y="751"/>
                </a:lnTo>
                <a:lnTo>
                  <a:pt x="1858" y="743"/>
                </a:lnTo>
                <a:lnTo>
                  <a:pt x="1873" y="743"/>
                </a:lnTo>
                <a:lnTo>
                  <a:pt x="1880" y="743"/>
                </a:lnTo>
                <a:lnTo>
                  <a:pt x="1887" y="743"/>
                </a:lnTo>
                <a:lnTo>
                  <a:pt x="1902" y="743"/>
                </a:lnTo>
                <a:lnTo>
                  <a:pt x="1909" y="743"/>
                </a:lnTo>
                <a:lnTo>
                  <a:pt x="1916" y="743"/>
                </a:lnTo>
                <a:lnTo>
                  <a:pt x="1931" y="743"/>
                </a:lnTo>
                <a:lnTo>
                  <a:pt x="1938" y="743"/>
                </a:lnTo>
                <a:lnTo>
                  <a:pt x="1945" y="743"/>
                </a:lnTo>
                <a:lnTo>
                  <a:pt x="1960" y="743"/>
                </a:lnTo>
                <a:lnTo>
                  <a:pt x="1967" y="743"/>
                </a:lnTo>
                <a:lnTo>
                  <a:pt x="1975" y="751"/>
                </a:lnTo>
                <a:lnTo>
                  <a:pt x="1989" y="751"/>
                </a:lnTo>
                <a:lnTo>
                  <a:pt x="1996" y="751"/>
                </a:lnTo>
                <a:lnTo>
                  <a:pt x="2004" y="751"/>
                </a:lnTo>
                <a:lnTo>
                  <a:pt x="2011" y="758"/>
                </a:lnTo>
                <a:lnTo>
                  <a:pt x="2026" y="758"/>
                </a:lnTo>
                <a:lnTo>
                  <a:pt x="2033" y="758"/>
                </a:lnTo>
                <a:lnTo>
                  <a:pt x="2040" y="765"/>
                </a:lnTo>
                <a:lnTo>
                  <a:pt x="2055" y="765"/>
                </a:lnTo>
                <a:lnTo>
                  <a:pt x="2062" y="765"/>
                </a:lnTo>
                <a:lnTo>
                  <a:pt x="2069" y="765"/>
                </a:lnTo>
                <a:lnTo>
                  <a:pt x="2084" y="773"/>
                </a:lnTo>
                <a:lnTo>
                  <a:pt x="2091" y="773"/>
                </a:lnTo>
                <a:lnTo>
                  <a:pt x="2098" y="780"/>
                </a:lnTo>
                <a:lnTo>
                  <a:pt x="2113" y="780"/>
                </a:lnTo>
                <a:lnTo>
                  <a:pt x="2120" y="787"/>
                </a:lnTo>
                <a:lnTo>
                  <a:pt x="2128" y="787"/>
                </a:lnTo>
                <a:lnTo>
                  <a:pt x="2142" y="787"/>
                </a:lnTo>
                <a:lnTo>
                  <a:pt x="2149" y="794"/>
                </a:lnTo>
                <a:lnTo>
                  <a:pt x="2157" y="794"/>
                </a:lnTo>
                <a:lnTo>
                  <a:pt x="2171" y="794"/>
                </a:lnTo>
                <a:lnTo>
                  <a:pt x="2179" y="794"/>
                </a:lnTo>
                <a:lnTo>
                  <a:pt x="2186" y="802"/>
                </a:lnTo>
                <a:lnTo>
                  <a:pt x="2200" y="802"/>
                </a:lnTo>
                <a:lnTo>
                  <a:pt x="2208" y="809"/>
                </a:lnTo>
                <a:lnTo>
                  <a:pt x="2215" y="809"/>
                </a:lnTo>
                <a:lnTo>
                  <a:pt x="2230" y="809"/>
                </a:lnTo>
                <a:lnTo>
                  <a:pt x="2237" y="816"/>
                </a:lnTo>
                <a:lnTo>
                  <a:pt x="2244" y="816"/>
                </a:lnTo>
                <a:lnTo>
                  <a:pt x="2259" y="816"/>
                </a:lnTo>
                <a:lnTo>
                  <a:pt x="2266" y="816"/>
                </a:lnTo>
                <a:lnTo>
                  <a:pt x="2273" y="816"/>
                </a:lnTo>
                <a:lnTo>
                  <a:pt x="2281" y="824"/>
                </a:lnTo>
                <a:lnTo>
                  <a:pt x="2295" y="824"/>
                </a:lnTo>
                <a:lnTo>
                  <a:pt x="2302" y="831"/>
                </a:lnTo>
                <a:lnTo>
                  <a:pt x="2310" y="831"/>
                </a:lnTo>
                <a:lnTo>
                  <a:pt x="2324" y="831"/>
                </a:lnTo>
                <a:lnTo>
                  <a:pt x="2332" y="831"/>
                </a:lnTo>
                <a:lnTo>
                  <a:pt x="2339" y="831"/>
                </a:lnTo>
                <a:lnTo>
                  <a:pt x="2353" y="838"/>
                </a:lnTo>
                <a:lnTo>
                  <a:pt x="2361" y="838"/>
                </a:lnTo>
                <a:lnTo>
                  <a:pt x="2368" y="838"/>
                </a:lnTo>
                <a:lnTo>
                  <a:pt x="2383" y="838"/>
                </a:lnTo>
                <a:lnTo>
                  <a:pt x="2390" y="845"/>
                </a:lnTo>
                <a:lnTo>
                  <a:pt x="2397" y="845"/>
                </a:lnTo>
                <a:lnTo>
                  <a:pt x="2412" y="845"/>
                </a:lnTo>
                <a:lnTo>
                  <a:pt x="2419" y="845"/>
                </a:lnTo>
                <a:lnTo>
                  <a:pt x="2426" y="845"/>
                </a:lnTo>
                <a:lnTo>
                  <a:pt x="2441" y="838"/>
                </a:lnTo>
                <a:lnTo>
                  <a:pt x="2448" y="831"/>
                </a:lnTo>
                <a:lnTo>
                  <a:pt x="2455" y="838"/>
                </a:lnTo>
                <a:lnTo>
                  <a:pt x="2470" y="845"/>
                </a:lnTo>
                <a:lnTo>
                  <a:pt x="2477" y="845"/>
                </a:lnTo>
                <a:lnTo>
                  <a:pt x="2485" y="845"/>
                </a:lnTo>
                <a:lnTo>
                  <a:pt x="2499" y="853"/>
                </a:lnTo>
                <a:lnTo>
                  <a:pt x="2506" y="853"/>
                </a:lnTo>
                <a:lnTo>
                  <a:pt x="2514" y="853"/>
                </a:lnTo>
                <a:lnTo>
                  <a:pt x="2528" y="853"/>
                </a:lnTo>
                <a:lnTo>
                  <a:pt x="2536" y="853"/>
                </a:lnTo>
                <a:lnTo>
                  <a:pt x="2543" y="853"/>
                </a:lnTo>
                <a:lnTo>
                  <a:pt x="2550" y="853"/>
                </a:lnTo>
                <a:lnTo>
                  <a:pt x="2565" y="853"/>
                </a:lnTo>
                <a:lnTo>
                  <a:pt x="2572" y="853"/>
                </a:lnTo>
                <a:lnTo>
                  <a:pt x="2579" y="853"/>
                </a:lnTo>
                <a:lnTo>
                  <a:pt x="2594" y="853"/>
                </a:lnTo>
                <a:lnTo>
                  <a:pt x="2601" y="853"/>
                </a:lnTo>
                <a:lnTo>
                  <a:pt x="2608" y="853"/>
                </a:lnTo>
                <a:lnTo>
                  <a:pt x="2623" y="853"/>
                </a:lnTo>
                <a:lnTo>
                  <a:pt x="2630" y="853"/>
                </a:lnTo>
                <a:lnTo>
                  <a:pt x="2638" y="853"/>
                </a:lnTo>
                <a:lnTo>
                  <a:pt x="2652" y="853"/>
                </a:lnTo>
                <a:lnTo>
                  <a:pt x="2659" y="853"/>
                </a:lnTo>
                <a:lnTo>
                  <a:pt x="2667" y="853"/>
                </a:lnTo>
                <a:lnTo>
                  <a:pt x="2681" y="860"/>
                </a:lnTo>
                <a:lnTo>
                  <a:pt x="2689" y="860"/>
                </a:lnTo>
                <a:lnTo>
                  <a:pt x="2696" y="860"/>
                </a:lnTo>
                <a:lnTo>
                  <a:pt x="2710" y="860"/>
                </a:lnTo>
                <a:lnTo>
                  <a:pt x="2718" y="853"/>
                </a:lnTo>
                <a:lnTo>
                  <a:pt x="2725" y="853"/>
                </a:lnTo>
                <a:lnTo>
                  <a:pt x="2740" y="853"/>
                </a:lnTo>
                <a:lnTo>
                  <a:pt x="2747" y="853"/>
                </a:lnTo>
                <a:lnTo>
                  <a:pt x="2754" y="853"/>
                </a:lnTo>
                <a:lnTo>
                  <a:pt x="2769" y="853"/>
                </a:lnTo>
                <a:lnTo>
                  <a:pt x="2776" y="853"/>
                </a:lnTo>
                <a:lnTo>
                  <a:pt x="2783" y="853"/>
                </a:lnTo>
                <a:lnTo>
                  <a:pt x="2798" y="853"/>
                </a:lnTo>
                <a:lnTo>
                  <a:pt x="2805" y="853"/>
                </a:lnTo>
                <a:lnTo>
                  <a:pt x="2812" y="853"/>
                </a:lnTo>
                <a:lnTo>
                  <a:pt x="2820" y="853"/>
                </a:lnTo>
                <a:lnTo>
                  <a:pt x="2834" y="853"/>
                </a:lnTo>
                <a:lnTo>
                  <a:pt x="2842" y="853"/>
                </a:lnTo>
                <a:lnTo>
                  <a:pt x="2849" y="853"/>
                </a:lnTo>
                <a:lnTo>
                  <a:pt x="2863" y="853"/>
                </a:lnTo>
                <a:lnTo>
                  <a:pt x="2871" y="853"/>
                </a:lnTo>
                <a:lnTo>
                  <a:pt x="2878" y="85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1760" y="4632480"/>
            <a:ext cx="3657600" cy="896760"/>
          </a:xfrm>
          <a:custGeom>
            <a:avLst/>
            <a:gdLst/>
            <a:ahLst/>
            <a:rect l="l" t="t" r="r" b="b"/>
            <a:pathLst>
              <a:path w="2878" h="721">
                <a:moveTo>
                  <a:pt x="0" y="306"/>
                </a:moveTo>
                <a:lnTo>
                  <a:pt x="15" y="335"/>
                </a:lnTo>
                <a:lnTo>
                  <a:pt x="22" y="437"/>
                </a:lnTo>
                <a:lnTo>
                  <a:pt x="29" y="517"/>
                </a:lnTo>
                <a:lnTo>
                  <a:pt x="44" y="575"/>
                </a:lnTo>
                <a:lnTo>
                  <a:pt x="51" y="619"/>
                </a:lnTo>
                <a:lnTo>
                  <a:pt x="58" y="655"/>
                </a:lnTo>
                <a:lnTo>
                  <a:pt x="73" y="677"/>
                </a:lnTo>
                <a:lnTo>
                  <a:pt x="80" y="685"/>
                </a:lnTo>
                <a:lnTo>
                  <a:pt x="88" y="692"/>
                </a:lnTo>
                <a:lnTo>
                  <a:pt x="102" y="692"/>
                </a:lnTo>
                <a:lnTo>
                  <a:pt x="109" y="685"/>
                </a:lnTo>
                <a:lnTo>
                  <a:pt x="117" y="685"/>
                </a:lnTo>
                <a:lnTo>
                  <a:pt x="124" y="677"/>
                </a:lnTo>
                <a:lnTo>
                  <a:pt x="139" y="677"/>
                </a:lnTo>
                <a:lnTo>
                  <a:pt x="146" y="670"/>
                </a:lnTo>
                <a:lnTo>
                  <a:pt x="153" y="670"/>
                </a:lnTo>
                <a:lnTo>
                  <a:pt x="168" y="663"/>
                </a:lnTo>
                <a:lnTo>
                  <a:pt x="175" y="663"/>
                </a:lnTo>
                <a:lnTo>
                  <a:pt x="182" y="663"/>
                </a:lnTo>
                <a:lnTo>
                  <a:pt x="197" y="655"/>
                </a:lnTo>
                <a:lnTo>
                  <a:pt x="204" y="648"/>
                </a:lnTo>
                <a:lnTo>
                  <a:pt x="211" y="648"/>
                </a:lnTo>
                <a:lnTo>
                  <a:pt x="226" y="641"/>
                </a:lnTo>
                <a:lnTo>
                  <a:pt x="233" y="626"/>
                </a:lnTo>
                <a:lnTo>
                  <a:pt x="241" y="619"/>
                </a:lnTo>
                <a:lnTo>
                  <a:pt x="255" y="612"/>
                </a:lnTo>
                <a:lnTo>
                  <a:pt x="262" y="604"/>
                </a:lnTo>
                <a:lnTo>
                  <a:pt x="270" y="597"/>
                </a:lnTo>
                <a:lnTo>
                  <a:pt x="284" y="590"/>
                </a:lnTo>
                <a:lnTo>
                  <a:pt x="292" y="583"/>
                </a:lnTo>
                <a:lnTo>
                  <a:pt x="299" y="575"/>
                </a:lnTo>
                <a:lnTo>
                  <a:pt x="313" y="561"/>
                </a:lnTo>
                <a:lnTo>
                  <a:pt x="321" y="553"/>
                </a:lnTo>
                <a:lnTo>
                  <a:pt x="328" y="546"/>
                </a:lnTo>
                <a:lnTo>
                  <a:pt x="343" y="532"/>
                </a:lnTo>
                <a:lnTo>
                  <a:pt x="350" y="524"/>
                </a:lnTo>
                <a:lnTo>
                  <a:pt x="357" y="524"/>
                </a:lnTo>
                <a:lnTo>
                  <a:pt x="372" y="517"/>
                </a:lnTo>
                <a:lnTo>
                  <a:pt x="379" y="510"/>
                </a:lnTo>
                <a:lnTo>
                  <a:pt x="386" y="502"/>
                </a:lnTo>
                <a:lnTo>
                  <a:pt x="394" y="502"/>
                </a:lnTo>
                <a:lnTo>
                  <a:pt x="408" y="495"/>
                </a:lnTo>
                <a:lnTo>
                  <a:pt x="415" y="480"/>
                </a:lnTo>
                <a:lnTo>
                  <a:pt x="423" y="473"/>
                </a:lnTo>
                <a:lnTo>
                  <a:pt x="437" y="459"/>
                </a:lnTo>
                <a:lnTo>
                  <a:pt x="445" y="451"/>
                </a:lnTo>
                <a:lnTo>
                  <a:pt x="452" y="437"/>
                </a:lnTo>
                <a:lnTo>
                  <a:pt x="466" y="422"/>
                </a:lnTo>
                <a:lnTo>
                  <a:pt x="474" y="408"/>
                </a:lnTo>
                <a:lnTo>
                  <a:pt x="481" y="400"/>
                </a:lnTo>
                <a:lnTo>
                  <a:pt x="496" y="386"/>
                </a:lnTo>
                <a:lnTo>
                  <a:pt x="503" y="371"/>
                </a:lnTo>
                <a:lnTo>
                  <a:pt x="510" y="357"/>
                </a:lnTo>
                <a:lnTo>
                  <a:pt x="525" y="342"/>
                </a:lnTo>
                <a:lnTo>
                  <a:pt x="532" y="327"/>
                </a:lnTo>
                <a:lnTo>
                  <a:pt x="539" y="313"/>
                </a:lnTo>
                <a:lnTo>
                  <a:pt x="554" y="298"/>
                </a:lnTo>
                <a:lnTo>
                  <a:pt x="561" y="276"/>
                </a:lnTo>
                <a:lnTo>
                  <a:pt x="568" y="262"/>
                </a:lnTo>
                <a:lnTo>
                  <a:pt x="583" y="240"/>
                </a:lnTo>
                <a:lnTo>
                  <a:pt x="590" y="218"/>
                </a:lnTo>
                <a:lnTo>
                  <a:pt x="598" y="204"/>
                </a:lnTo>
                <a:lnTo>
                  <a:pt x="612" y="182"/>
                </a:lnTo>
                <a:lnTo>
                  <a:pt x="619" y="160"/>
                </a:lnTo>
                <a:lnTo>
                  <a:pt x="627" y="145"/>
                </a:lnTo>
                <a:lnTo>
                  <a:pt x="641" y="123"/>
                </a:lnTo>
                <a:lnTo>
                  <a:pt x="649" y="102"/>
                </a:lnTo>
                <a:lnTo>
                  <a:pt x="656" y="87"/>
                </a:lnTo>
                <a:lnTo>
                  <a:pt x="663" y="72"/>
                </a:lnTo>
                <a:lnTo>
                  <a:pt x="678" y="58"/>
                </a:lnTo>
                <a:lnTo>
                  <a:pt x="685" y="43"/>
                </a:lnTo>
                <a:lnTo>
                  <a:pt x="692" y="29"/>
                </a:lnTo>
                <a:lnTo>
                  <a:pt x="707" y="21"/>
                </a:lnTo>
                <a:lnTo>
                  <a:pt x="714" y="14"/>
                </a:lnTo>
                <a:lnTo>
                  <a:pt x="721" y="7"/>
                </a:lnTo>
                <a:lnTo>
                  <a:pt x="736" y="7"/>
                </a:lnTo>
                <a:lnTo>
                  <a:pt x="743" y="0"/>
                </a:lnTo>
                <a:lnTo>
                  <a:pt x="751" y="0"/>
                </a:lnTo>
                <a:lnTo>
                  <a:pt x="765" y="7"/>
                </a:lnTo>
                <a:lnTo>
                  <a:pt x="772" y="14"/>
                </a:lnTo>
                <a:lnTo>
                  <a:pt x="780" y="14"/>
                </a:lnTo>
                <a:lnTo>
                  <a:pt x="794" y="29"/>
                </a:lnTo>
                <a:lnTo>
                  <a:pt x="802" y="36"/>
                </a:lnTo>
                <a:lnTo>
                  <a:pt x="809" y="43"/>
                </a:lnTo>
                <a:lnTo>
                  <a:pt x="823" y="58"/>
                </a:lnTo>
                <a:lnTo>
                  <a:pt x="831" y="72"/>
                </a:lnTo>
                <a:lnTo>
                  <a:pt x="838" y="87"/>
                </a:lnTo>
                <a:lnTo>
                  <a:pt x="853" y="102"/>
                </a:lnTo>
                <a:lnTo>
                  <a:pt x="860" y="116"/>
                </a:lnTo>
                <a:lnTo>
                  <a:pt x="867" y="131"/>
                </a:lnTo>
                <a:lnTo>
                  <a:pt x="882" y="145"/>
                </a:lnTo>
                <a:lnTo>
                  <a:pt x="889" y="160"/>
                </a:lnTo>
                <a:lnTo>
                  <a:pt x="896" y="174"/>
                </a:lnTo>
                <a:lnTo>
                  <a:pt x="911" y="189"/>
                </a:lnTo>
                <a:lnTo>
                  <a:pt x="918" y="196"/>
                </a:lnTo>
                <a:lnTo>
                  <a:pt x="925" y="211"/>
                </a:lnTo>
                <a:lnTo>
                  <a:pt x="933" y="225"/>
                </a:lnTo>
                <a:lnTo>
                  <a:pt x="947" y="240"/>
                </a:lnTo>
                <a:lnTo>
                  <a:pt x="955" y="247"/>
                </a:lnTo>
                <a:lnTo>
                  <a:pt x="962" y="262"/>
                </a:lnTo>
                <a:lnTo>
                  <a:pt x="976" y="269"/>
                </a:lnTo>
                <a:lnTo>
                  <a:pt x="984" y="284"/>
                </a:lnTo>
                <a:lnTo>
                  <a:pt x="991" y="291"/>
                </a:lnTo>
                <a:lnTo>
                  <a:pt x="1006" y="306"/>
                </a:lnTo>
                <a:lnTo>
                  <a:pt x="1013" y="313"/>
                </a:lnTo>
                <a:lnTo>
                  <a:pt x="1020" y="320"/>
                </a:lnTo>
                <a:lnTo>
                  <a:pt x="1035" y="335"/>
                </a:lnTo>
                <a:lnTo>
                  <a:pt x="1042" y="342"/>
                </a:lnTo>
                <a:lnTo>
                  <a:pt x="1049" y="349"/>
                </a:lnTo>
                <a:lnTo>
                  <a:pt x="1064" y="364"/>
                </a:lnTo>
                <a:lnTo>
                  <a:pt x="1071" y="371"/>
                </a:lnTo>
                <a:lnTo>
                  <a:pt x="1078" y="378"/>
                </a:lnTo>
                <a:lnTo>
                  <a:pt x="1093" y="386"/>
                </a:lnTo>
                <a:lnTo>
                  <a:pt x="1100" y="400"/>
                </a:lnTo>
                <a:lnTo>
                  <a:pt x="1108" y="408"/>
                </a:lnTo>
                <a:lnTo>
                  <a:pt x="1122" y="415"/>
                </a:lnTo>
                <a:lnTo>
                  <a:pt x="1129" y="422"/>
                </a:lnTo>
                <a:lnTo>
                  <a:pt x="1137" y="437"/>
                </a:lnTo>
                <a:lnTo>
                  <a:pt x="1151" y="444"/>
                </a:lnTo>
                <a:lnTo>
                  <a:pt x="1159" y="451"/>
                </a:lnTo>
                <a:lnTo>
                  <a:pt x="1166" y="459"/>
                </a:lnTo>
                <a:lnTo>
                  <a:pt x="1180" y="473"/>
                </a:lnTo>
                <a:lnTo>
                  <a:pt x="1188" y="480"/>
                </a:lnTo>
                <a:lnTo>
                  <a:pt x="1195" y="488"/>
                </a:lnTo>
                <a:lnTo>
                  <a:pt x="1202" y="495"/>
                </a:lnTo>
                <a:lnTo>
                  <a:pt x="1217" y="510"/>
                </a:lnTo>
                <a:lnTo>
                  <a:pt x="1224" y="517"/>
                </a:lnTo>
                <a:lnTo>
                  <a:pt x="1231" y="524"/>
                </a:lnTo>
                <a:lnTo>
                  <a:pt x="1246" y="532"/>
                </a:lnTo>
                <a:lnTo>
                  <a:pt x="1253" y="539"/>
                </a:lnTo>
                <a:lnTo>
                  <a:pt x="1261" y="553"/>
                </a:lnTo>
                <a:lnTo>
                  <a:pt x="1275" y="561"/>
                </a:lnTo>
                <a:lnTo>
                  <a:pt x="1282" y="568"/>
                </a:lnTo>
                <a:lnTo>
                  <a:pt x="1290" y="575"/>
                </a:lnTo>
                <a:lnTo>
                  <a:pt x="1304" y="583"/>
                </a:lnTo>
                <a:lnTo>
                  <a:pt x="1312" y="590"/>
                </a:lnTo>
                <a:lnTo>
                  <a:pt x="1319" y="597"/>
                </a:lnTo>
                <a:lnTo>
                  <a:pt x="1333" y="604"/>
                </a:lnTo>
                <a:lnTo>
                  <a:pt x="1341" y="612"/>
                </a:lnTo>
                <a:lnTo>
                  <a:pt x="1348" y="619"/>
                </a:lnTo>
                <a:lnTo>
                  <a:pt x="1363" y="626"/>
                </a:lnTo>
                <a:lnTo>
                  <a:pt x="1370" y="634"/>
                </a:lnTo>
                <a:lnTo>
                  <a:pt x="1377" y="634"/>
                </a:lnTo>
                <a:lnTo>
                  <a:pt x="1392" y="641"/>
                </a:lnTo>
                <a:lnTo>
                  <a:pt x="1399" y="648"/>
                </a:lnTo>
                <a:lnTo>
                  <a:pt x="1406" y="655"/>
                </a:lnTo>
                <a:lnTo>
                  <a:pt x="1421" y="655"/>
                </a:lnTo>
                <a:lnTo>
                  <a:pt x="1428" y="663"/>
                </a:lnTo>
                <a:lnTo>
                  <a:pt x="1435" y="670"/>
                </a:lnTo>
                <a:lnTo>
                  <a:pt x="1450" y="670"/>
                </a:lnTo>
                <a:lnTo>
                  <a:pt x="1457" y="677"/>
                </a:lnTo>
                <a:lnTo>
                  <a:pt x="1465" y="677"/>
                </a:lnTo>
                <a:lnTo>
                  <a:pt x="1472" y="685"/>
                </a:lnTo>
                <a:lnTo>
                  <a:pt x="1486" y="685"/>
                </a:lnTo>
                <a:lnTo>
                  <a:pt x="1494" y="692"/>
                </a:lnTo>
                <a:lnTo>
                  <a:pt x="1501" y="692"/>
                </a:lnTo>
                <a:lnTo>
                  <a:pt x="1516" y="699"/>
                </a:lnTo>
                <a:lnTo>
                  <a:pt x="1523" y="699"/>
                </a:lnTo>
                <a:lnTo>
                  <a:pt x="1530" y="699"/>
                </a:lnTo>
                <a:lnTo>
                  <a:pt x="1545" y="706"/>
                </a:lnTo>
                <a:lnTo>
                  <a:pt x="1552" y="706"/>
                </a:lnTo>
                <a:lnTo>
                  <a:pt x="1559" y="706"/>
                </a:lnTo>
                <a:lnTo>
                  <a:pt x="1574" y="706"/>
                </a:lnTo>
                <a:lnTo>
                  <a:pt x="1581" y="706"/>
                </a:lnTo>
                <a:lnTo>
                  <a:pt x="1588" y="706"/>
                </a:lnTo>
                <a:lnTo>
                  <a:pt x="1603" y="706"/>
                </a:lnTo>
                <a:lnTo>
                  <a:pt x="1610" y="706"/>
                </a:lnTo>
                <a:lnTo>
                  <a:pt x="1618" y="706"/>
                </a:lnTo>
                <a:lnTo>
                  <a:pt x="1632" y="706"/>
                </a:lnTo>
                <a:lnTo>
                  <a:pt x="1639" y="706"/>
                </a:lnTo>
                <a:lnTo>
                  <a:pt x="1647" y="706"/>
                </a:lnTo>
                <a:lnTo>
                  <a:pt x="1661" y="706"/>
                </a:lnTo>
                <a:lnTo>
                  <a:pt x="1669" y="706"/>
                </a:lnTo>
                <a:lnTo>
                  <a:pt x="1676" y="706"/>
                </a:lnTo>
                <a:lnTo>
                  <a:pt x="1690" y="699"/>
                </a:lnTo>
                <a:lnTo>
                  <a:pt x="1698" y="699"/>
                </a:lnTo>
                <a:lnTo>
                  <a:pt x="1705" y="699"/>
                </a:lnTo>
                <a:lnTo>
                  <a:pt x="1720" y="699"/>
                </a:lnTo>
                <a:lnTo>
                  <a:pt x="1727" y="699"/>
                </a:lnTo>
                <a:lnTo>
                  <a:pt x="1734" y="699"/>
                </a:lnTo>
                <a:lnTo>
                  <a:pt x="1741" y="699"/>
                </a:lnTo>
                <a:lnTo>
                  <a:pt x="1756" y="699"/>
                </a:lnTo>
                <a:lnTo>
                  <a:pt x="1763" y="699"/>
                </a:lnTo>
                <a:lnTo>
                  <a:pt x="1771" y="699"/>
                </a:lnTo>
                <a:lnTo>
                  <a:pt x="1785" y="692"/>
                </a:lnTo>
                <a:lnTo>
                  <a:pt x="1792" y="692"/>
                </a:lnTo>
                <a:lnTo>
                  <a:pt x="1800" y="692"/>
                </a:lnTo>
                <a:lnTo>
                  <a:pt x="1814" y="692"/>
                </a:lnTo>
                <a:lnTo>
                  <a:pt x="1822" y="692"/>
                </a:lnTo>
                <a:lnTo>
                  <a:pt x="1829" y="692"/>
                </a:lnTo>
                <a:lnTo>
                  <a:pt x="1843" y="692"/>
                </a:lnTo>
                <a:lnTo>
                  <a:pt x="1851" y="692"/>
                </a:lnTo>
                <a:lnTo>
                  <a:pt x="1858" y="692"/>
                </a:lnTo>
                <a:lnTo>
                  <a:pt x="1873" y="692"/>
                </a:lnTo>
                <a:lnTo>
                  <a:pt x="1880" y="692"/>
                </a:lnTo>
                <a:lnTo>
                  <a:pt x="1887" y="692"/>
                </a:lnTo>
                <a:lnTo>
                  <a:pt x="1902" y="692"/>
                </a:lnTo>
                <a:lnTo>
                  <a:pt x="1909" y="692"/>
                </a:lnTo>
                <a:lnTo>
                  <a:pt x="1916" y="692"/>
                </a:lnTo>
                <a:lnTo>
                  <a:pt x="1931" y="692"/>
                </a:lnTo>
                <a:lnTo>
                  <a:pt x="1938" y="692"/>
                </a:lnTo>
                <a:lnTo>
                  <a:pt x="1945" y="692"/>
                </a:lnTo>
                <a:lnTo>
                  <a:pt x="1960" y="699"/>
                </a:lnTo>
                <a:lnTo>
                  <a:pt x="1967" y="699"/>
                </a:lnTo>
                <a:lnTo>
                  <a:pt x="1975" y="699"/>
                </a:lnTo>
                <a:lnTo>
                  <a:pt x="1989" y="699"/>
                </a:lnTo>
                <a:lnTo>
                  <a:pt x="1996" y="699"/>
                </a:lnTo>
                <a:lnTo>
                  <a:pt x="2004" y="699"/>
                </a:lnTo>
                <a:lnTo>
                  <a:pt x="2011" y="699"/>
                </a:lnTo>
                <a:lnTo>
                  <a:pt x="2026" y="699"/>
                </a:lnTo>
                <a:lnTo>
                  <a:pt x="2033" y="699"/>
                </a:lnTo>
                <a:lnTo>
                  <a:pt x="2040" y="699"/>
                </a:lnTo>
                <a:lnTo>
                  <a:pt x="2055" y="699"/>
                </a:lnTo>
                <a:lnTo>
                  <a:pt x="2062" y="706"/>
                </a:lnTo>
                <a:lnTo>
                  <a:pt x="2069" y="706"/>
                </a:lnTo>
                <a:lnTo>
                  <a:pt x="2084" y="706"/>
                </a:lnTo>
                <a:lnTo>
                  <a:pt x="2091" y="706"/>
                </a:lnTo>
                <a:lnTo>
                  <a:pt x="2098" y="706"/>
                </a:lnTo>
                <a:lnTo>
                  <a:pt x="2113" y="706"/>
                </a:lnTo>
                <a:lnTo>
                  <a:pt x="2120" y="706"/>
                </a:lnTo>
                <a:lnTo>
                  <a:pt x="2128" y="706"/>
                </a:lnTo>
                <a:lnTo>
                  <a:pt x="2142" y="706"/>
                </a:lnTo>
                <a:lnTo>
                  <a:pt x="2149" y="706"/>
                </a:lnTo>
                <a:lnTo>
                  <a:pt x="2157" y="706"/>
                </a:lnTo>
                <a:lnTo>
                  <a:pt x="2171" y="706"/>
                </a:lnTo>
                <a:lnTo>
                  <a:pt x="2179" y="706"/>
                </a:lnTo>
                <a:lnTo>
                  <a:pt x="2186" y="706"/>
                </a:lnTo>
                <a:lnTo>
                  <a:pt x="2200" y="706"/>
                </a:lnTo>
                <a:lnTo>
                  <a:pt x="2208" y="706"/>
                </a:lnTo>
                <a:lnTo>
                  <a:pt x="2215" y="706"/>
                </a:lnTo>
                <a:lnTo>
                  <a:pt x="2230" y="706"/>
                </a:lnTo>
                <a:lnTo>
                  <a:pt x="2237" y="706"/>
                </a:lnTo>
                <a:lnTo>
                  <a:pt x="2244" y="706"/>
                </a:lnTo>
                <a:lnTo>
                  <a:pt x="2259" y="706"/>
                </a:lnTo>
                <a:lnTo>
                  <a:pt x="2266" y="706"/>
                </a:lnTo>
                <a:lnTo>
                  <a:pt x="2273" y="706"/>
                </a:lnTo>
                <a:lnTo>
                  <a:pt x="2281" y="706"/>
                </a:lnTo>
                <a:lnTo>
                  <a:pt x="2295" y="706"/>
                </a:lnTo>
                <a:lnTo>
                  <a:pt x="2302" y="714"/>
                </a:lnTo>
                <a:lnTo>
                  <a:pt x="2310" y="714"/>
                </a:lnTo>
                <a:lnTo>
                  <a:pt x="2324" y="714"/>
                </a:lnTo>
                <a:lnTo>
                  <a:pt x="2332" y="714"/>
                </a:lnTo>
                <a:lnTo>
                  <a:pt x="2339" y="714"/>
                </a:lnTo>
                <a:lnTo>
                  <a:pt x="2353" y="714"/>
                </a:lnTo>
                <a:lnTo>
                  <a:pt x="2361" y="714"/>
                </a:lnTo>
                <a:lnTo>
                  <a:pt x="2368" y="714"/>
                </a:lnTo>
                <a:lnTo>
                  <a:pt x="2383" y="714"/>
                </a:lnTo>
                <a:lnTo>
                  <a:pt x="2390" y="714"/>
                </a:lnTo>
                <a:lnTo>
                  <a:pt x="2397" y="714"/>
                </a:lnTo>
                <a:lnTo>
                  <a:pt x="2412" y="714"/>
                </a:lnTo>
                <a:lnTo>
                  <a:pt x="2419" y="714"/>
                </a:lnTo>
                <a:lnTo>
                  <a:pt x="2426" y="714"/>
                </a:lnTo>
                <a:lnTo>
                  <a:pt x="2441" y="714"/>
                </a:lnTo>
                <a:lnTo>
                  <a:pt x="2448" y="714"/>
                </a:lnTo>
                <a:lnTo>
                  <a:pt x="2455" y="714"/>
                </a:lnTo>
                <a:lnTo>
                  <a:pt x="2470" y="714"/>
                </a:lnTo>
                <a:lnTo>
                  <a:pt x="2477" y="714"/>
                </a:lnTo>
                <a:lnTo>
                  <a:pt x="2485" y="714"/>
                </a:lnTo>
                <a:lnTo>
                  <a:pt x="2499" y="714"/>
                </a:lnTo>
                <a:lnTo>
                  <a:pt x="2506" y="714"/>
                </a:lnTo>
                <a:lnTo>
                  <a:pt x="2514" y="714"/>
                </a:lnTo>
                <a:lnTo>
                  <a:pt x="2528" y="714"/>
                </a:lnTo>
                <a:lnTo>
                  <a:pt x="2536" y="714"/>
                </a:lnTo>
                <a:lnTo>
                  <a:pt x="2543" y="714"/>
                </a:lnTo>
                <a:lnTo>
                  <a:pt x="2550" y="714"/>
                </a:lnTo>
                <a:lnTo>
                  <a:pt x="2565" y="714"/>
                </a:lnTo>
                <a:lnTo>
                  <a:pt x="2572" y="714"/>
                </a:lnTo>
                <a:lnTo>
                  <a:pt x="2579" y="714"/>
                </a:lnTo>
                <a:lnTo>
                  <a:pt x="2594" y="714"/>
                </a:lnTo>
                <a:lnTo>
                  <a:pt x="2601" y="714"/>
                </a:lnTo>
                <a:lnTo>
                  <a:pt x="2608" y="714"/>
                </a:lnTo>
                <a:lnTo>
                  <a:pt x="2623" y="721"/>
                </a:lnTo>
                <a:lnTo>
                  <a:pt x="2630" y="721"/>
                </a:lnTo>
                <a:lnTo>
                  <a:pt x="2638" y="721"/>
                </a:lnTo>
                <a:lnTo>
                  <a:pt x="2652" y="721"/>
                </a:lnTo>
                <a:lnTo>
                  <a:pt x="2659" y="721"/>
                </a:lnTo>
                <a:lnTo>
                  <a:pt x="2667" y="721"/>
                </a:lnTo>
                <a:lnTo>
                  <a:pt x="2681" y="721"/>
                </a:lnTo>
                <a:lnTo>
                  <a:pt x="2689" y="721"/>
                </a:lnTo>
                <a:lnTo>
                  <a:pt x="2696" y="721"/>
                </a:lnTo>
                <a:lnTo>
                  <a:pt x="2710" y="721"/>
                </a:lnTo>
                <a:lnTo>
                  <a:pt x="2718" y="721"/>
                </a:lnTo>
                <a:lnTo>
                  <a:pt x="2725" y="721"/>
                </a:lnTo>
                <a:lnTo>
                  <a:pt x="2740" y="721"/>
                </a:lnTo>
                <a:lnTo>
                  <a:pt x="2747" y="721"/>
                </a:lnTo>
                <a:lnTo>
                  <a:pt x="2754" y="721"/>
                </a:lnTo>
                <a:lnTo>
                  <a:pt x="2769" y="721"/>
                </a:lnTo>
                <a:lnTo>
                  <a:pt x="2776" y="721"/>
                </a:lnTo>
                <a:lnTo>
                  <a:pt x="2783" y="721"/>
                </a:lnTo>
                <a:lnTo>
                  <a:pt x="2798" y="721"/>
                </a:lnTo>
                <a:lnTo>
                  <a:pt x="2805" y="714"/>
                </a:lnTo>
                <a:lnTo>
                  <a:pt x="2812" y="714"/>
                </a:lnTo>
                <a:lnTo>
                  <a:pt x="2820" y="714"/>
                </a:lnTo>
                <a:lnTo>
                  <a:pt x="2834" y="714"/>
                </a:lnTo>
                <a:lnTo>
                  <a:pt x="2842" y="714"/>
                </a:lnTo>
                <a:lnTo>
                  <a:pt x="2849" y="714"/>
                </a:lnTo>
                <a:lnTo>
                  <a:pt x="2863" y="714"/>
                </a:lnTo>
                <a:lnTo>
                  <a:pt x="2871" y="714"/>
                </a:lnTo>
                <a:lnTo>
                  <a:pt x="2878" y="714"/>
                </a:lnTo>
              </a:path>
            </a:pathLst>
          </a:custGeom>
          <a:noFill/>
          <a:ln w="2844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10760" y="5742000"/>
            <a:ext cx="145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86200" y="4425480"/>
            <a:ext cx="1843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72680" y="421164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thes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65240" y="4964040"/>
            <a:ext cx="1825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80320" y="51069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89640" y="422424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50800" y="46432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ts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112840" y="1278000"/>
            <a:ext cx="1575000" cy="333000"/>
            <a:chOff x="2112840" y="1278000"/>
            <a:chExt cx="1575000" cy="333000"/>
          </a:xfrm>
        </p:grpSpPr>
        <p:sp>
          <p:nvSpPr>
            <p:cNvPr id="256" name=""/>
            <p:cNvSpPr/>
            <p:nvPr/>
          </p:nvSpPr>
          <p:spPr>
            <a:xfrm>
              <a:off x="224604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4584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564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544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524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5400" y="142488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12840" y="1278000"/>
              <a:ext cx="15750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11640" y="1773360"/>
            <a:ext cx="1133280" cy="92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3120" y="2144880"/>
            <a:ext cx="33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3120" y="226836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92920" y="1782720"/>
            <a:ext cx="113184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92600" y="21542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592240" y="22780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59520" y="2154240"/>
            <a:ext cx="99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59520" y="2278080"/>
            <a:ext cx="93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792680" y="1287360"/>
            <a:ext cx="1576440" cy="331920"/>
            <a:chOff x="4792680" y="1287360"/>
            <a:chExt cx="1576440" cy="331920"/>
          </a:xfrm>
        </p:grpSpPr>
        <p:sp>
          <p:nvSpPr>
            <p:cNvPr id="272" name=""/>
            <p:cNvSpPr/>
            <p:nvPr/>
          </p:nvSpPr>
          <p:spPr>
            <a:xfrm>
              <a:off x="492588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2604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2620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600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2616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25960" y="1433880"/>
              <a:ext cx="199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92680" y="1287360"/>
              <a:ext cx="1576440" cy="2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112840" y="3075120"/>
            <a:ext cx="1575000" cy="331200"/>
            <a:chOff x="2112840" y="3075120"/>
            <a:chExt cx="1575000" cy="331200"/>
          </a:xfrm>
        </p:grpSpPr>
        <p:sp>
          <p:nvSpPr>
            <p:cNvPr id="280" name=""/>
            <p:cNvSpPr/>
            <p:nvPr/>
          </p:nvSpPr>
          <p:spPr>
            <a:xfrm>
              <a:off x="224604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4584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564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544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524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45400" y="3221280"/>
              <a:ext cx="199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2840" y="3075120"/>
              <a:ext cx="15750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311640" y="3570120"/>
            <a:ext cx="1133280" cy="928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24280" y="39639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923920" y="4041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19520" y="3932280"/>
            <a:ext cx="716040" cy="13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89400" y="39639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365640" y="404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283360" y="3049560"/>
            <a:ext cx="1574640" cy="312480"/>
            <a:chOff x="5283360" y="3049560"/>
            <a:chExt cx="1574640" cy="312480"/>
          </a:xfrm>
        </p:grpSpPr>
        <p:sp>
          <p:nvSpPr>
            <p:cNvPr id="294" name=""/>
            <p:cNvSpPr/>
            <p:nvPr/>
          </p:nvSpPr>
          <p:spPr>
            <a:xfrm>
              <a:off x="54165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163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61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59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57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15560" y="3187440"/>
              <a:ext cx="1994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83360" y="3049560"/>
              <a:ext cx="1574640" cy="22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794200" y="3919680"/>
            <a:ext cx="331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793840" y="399744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13320" y="3895560"/>
            <a:ext cx="412920" cy="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112840" y="2021040"/>
            <a:ext cx="698400" cy="317520"/>
            <a:chOff x="2112840" y="2021040"/>
            <a:chExt cx="698400" cy="317520"/>
          </a:xfrm>
        </p:grpSpPr>
        <p:sp>
          <p:nvSpPr>
            <p:cNvPr id="305" name=""/>
            <p:cNvSpPr/>
            <p:nvPr/>
          </p:nvSpPr>
          <p:spPr>
            <a:xfrm>
              <a:off x="2273760" y="2021040"/>
              <a:ext cx="537480" cy="317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20120" y="211140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6480" y="2134080"/>
              <a:ext cx="52560" cy="680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840" y="211140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792680" y="2092320"/>
            <a:ext cx="698040" cy="317520"/>
            <a:chOff x="4792680" y="2092320"/>
            <a:chExt cx="698040" cy="317520"/>
          </a:xfrm>
        </p:grpSpPr>
        <p:sp>
          <p:nvSpPr>
            <p:cNvPr id="310" name=""/>
            <p:cNvSpPr/>
            <p:nvPr/>
          </p:nvSpPr>
          <p:spPr>
            <a:xfrm>
              <a:off x="4953600" y="2092320"/>
              <a:ext cx="537120" cy="317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99960" y="218268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46320" y="2205360"/>
              <a:ext cx="52200" cy="680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92680" y="2182680"/>
              <a:ext cx="5220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79800" y="3817800"/>
            <a:ext cx="698040" cy="317520"/>
            <a:chOff x="2179800" y="3817800"/>
            <a:chExt cx="698040" cy="317520"/>
          </a:xfrm>
        </p:grpSpPr>
        <p:sp>
          <p:nvSpPr>
            <p:cNvPr id="315" name=""/>
            <p:cNvSpPr/>
            <p:nvPr/>
          </p:nvSpPr>
          <p:spPr>
            <a:xfrm>
              <a:off x="2340720" y="3817800"/>
              <a:ext cx="537120" cy="317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7080" y="390816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33440" y="3930840"/>
              <a:ext cx="52200" cy="680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79800" y="3908160"/>
              <a:ext cx="5220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92840" y="3798720"/>
            <a:ext cx="698040" cy="317520"/>
            <a:chOff x="4992840" y="3798720"/>
            <a:chExt cx="698040" cy="317520"/>
          </a:xfrm>
        </p:grpSpPr>
        <p:sp>
          <p:nvSpPr>
            <p:cNvPr id="320" name=""/>
            <p:cNvSpPr/>
            <p:nvPr/>
          </p:nvSpPr>
          <p:spPr>
            <a:xfrm>
              <a:off x="5153760" y="3798720"/>
              <a:ext cx="537120" cy="317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0120" y="388908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6480" y="3911760"/>
              <a:ext cx="52200" cy="680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92840" y="3889080"/>
              <a:ext cx="5220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700440" y="286380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25600" y="2878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00440" y="461628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25600" y="4478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057400" y="4973760"/>
            <a:ext cx="1574640" cy="333000"/>
            <a:chOff x="2057400" y="4973760"/>
            <a:chExt cx="1574640" cy="333000"/>
          </a:xfrm>
        </p:grpSpPr>
        <p:sp>
          <p:nvSpPr>
            <p:cNvPr id="329" name=""/>
            <p:cNvSpPr/>
            <p:nvPr/>
          </p:nvSpPr>
          <p:spPr>
            <a:xfrm>
              <a:off x="21906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04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902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900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898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89600" y="5120640"/>
              <a:ext cx="19944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57400" y="4973760"/>
              <a:ext cx="157464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255840" y="5468760"/>
            <a:ext cx="1133640" cy="928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57680" y="5840280"/>
            <a:ext cx="33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57680" y="596412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057400" y="5716440"/>
            <a:ext cx="698040" cy="317520"/>
            <a:chOff x="2057400" y="5716440"/>
            <a:chExt cx="698040" cy="317520"/>
          </a:xfrm>
        </p:grpSpPr>
        <p:sp>
          <p:nvSpPr>
            <p:cNvPr id="340" name=""/>
            <p:cNvSpPr/>
            <p:nvPr/>
          </p:nvSpPr>
          <p:spPr>
            <a:xfrm>
              <a:off x="2218320" y="5716440"/>
              <a:ext cx="537120" cy="317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64680" y="5806800"/>
              <a:ext cx="5256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11040" y="5829480"/>
              <a:ext cx="52200" cy="680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7400" y="5806800"/>
              <a:ext cx="52200" cy="113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686040" y="582948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24480" y="652140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51320" y="4991040"/>
            <a:ext cx="1575000" cy="333000"/>
            <a:chOff x="5251320" y="4991040"/>
            <a:chExt cx="1575000" cy="333000"/>
          </a:xfrm>
        </p:grpSpPr>
        <p:sp>
          <p:nvSpPr>
            <p:cNvPr id="347" name=""/>
            <p:cNvSpPr/>
            <p:nvPr/>
          </p:nvSpPr>
          <p:spPr>
            <a:xfrm>
              <a:off x="538452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8432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8412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8392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8372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83880" y="5137920"/>
              <a:ext cx="199800" cy="1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1320" y="4991040"/>
              <a:ext cx="15750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932360" y="5621400"/>
            <a:ext cx="698040" cy="455400"/>
            <a:chOff x="4932360" y="5621400"/>
            <a:chExt cx="698040" cy="455400"/>
          </a:xfrm>
        </p:grpSpPr>
        <p:sp>
          <p:nvSpPr>
            <p:cNvPr id="355" name=""/>
            <p:cNvSpPr/>
            <p:nvPr/>
          </p:nvSpPr>
          <p:spPr>
            <a:xfrm>
              <a:off x="5093280" y="5621400"/>
              <a:ext cx="537120" cy="455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39640" y="5751360"/>
              <a:ext cx="5256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6000" y="5783760"/>
              <a:ext cx="52200" cy="97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32360" y="5751360"/>
              <a:ext cx="52200" cy="162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400800" y="5742000"/>
            <a:ext cx="606240" cy="272880"/>
            <a:chOff x="6400800" y="5742000"/>
            <a:chExt cx="606240" cy="272880"/>
          </a:xfrm>
        </p:grpSpPr>
        <p:sp>
          <p:nvSpPr>
            <p:cNvPr id="360" name=""/>
            <p:cNvSpPr/>
            <p:nvPr/>
          </p:nvSpPr>
          <p:spPr>
            <a:xfrm flipH="1">
              <a:off x="6400800" y="5742000"/>
              <a:ext cx="466560" cy="2728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867720" y="5819760"/>
              <a:ext cx="45720" cy="97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915240" y="5839200"/>
              <a:ext cx="45360" cy="58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961680" y="5819760"/>
              <a:ext cx="45360" cy="97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5846760" y="582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846400" y="5925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43880" y="64450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49800" y="5850000"/>
            <a:ext cx="25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22800" y="59832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4400" y="3049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6800" y="879480"/>
            <a:ext cx="440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setups wher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35:48Z</dcterms:created>
  <dc:creator>Lester Schmerr</dc:creator>
  <dc:description/>
  <dc:language>en-US</dc:language>
  <cp:lastModifiedBy>Lester Schmerr</cp:lastModifiedBy>
  <dcterms:modified xsi:type="dcterms:W3CDTF">2007-03-26T15:47:26Z</dcterms:modified>
  <cp:revision>15</cp:revision>
  <dc:subject/>
  <dc:title>No Slide Title</dc:title>
</cp:coreProperties>
</file>