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531-7169-4E5B-A0CD-B0EABCF1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597-A026-4F68-AEEB-983C1E12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69B-74C5-45D0-83AD-BF91D49D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896-28B3-4B70-9FCE-774792E2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2FD-47B7-4139-AA96-472ABF2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533-0BC1-4DA4-8AB5-3AA3F85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EDA-62D7-467A-BDA5-ACA3085E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20F-747C-4DEE-B3D0-0D868BD9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82D-9DBA-4CF1-B552-F3BDB1A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9B2-5569-4AF3-BD24-A9B22D1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6EB-F485-42A8-B374-9C825F7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1A9-920D-48B0-8D82-B19F7E8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18B7-66B3-498E-A28F-E324E36E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0440" y="335268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ropagation Fundamentals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on of Plane and Spheric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23800" y="167652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avier's equations are not wave equations,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Navier's equations can be found in terms of potential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do satisfy wav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33720" y="762120"/>
          <a:ext cx="441936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419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3124080"/>
          <a:ext cx="23623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124080"/>
                    <a:ext cx="23623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934520" y="308304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4457880"/>
          <a:ext cx="2666880" cy="22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57880"/>
                    <a:ext cx="2666880" cy="22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557960" y="4689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6080" y="57913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18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81080" y="1143000"/>
          <a:ext cx="5621400" cy="4039920"/>
        </p:xfrm>
        <a:graphic>
          <a:graphicData uri="http://schemas.openxmlformats.org/drawingml/2006/table">
            <a:tbl>
              <a:tblPr/>
              <a:tblGrid>
                <a:gridCol w="1123920"/>
                <a:gridCol w="1123920"/>
                <a:gridCol w="1123920"/>
                <a:gridCol w="1123920"/>
                <a:gridCol w="11257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ional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-wa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/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-wa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/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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gm/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e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-wa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kgm/(m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)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mi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c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k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el, m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a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ng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971360" y="5697720"/>
            <a:ext cx="45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D.1   Acoustical properties of some common materi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610160" y="685800"/>
          <a:ext cx="26028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0160" y="685800"/>
                    <a:ext cx="260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73560" y="685800"/>
          <a:ext cx="29520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3560" y="685800"/>
                    <a:ext cx="295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91320" y="838080"/>
          <a:ext cx="222120" cy="2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838080"/>
                    <a:ext cx="22212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781680" y="762120"/>
          <a:ext cx="403200" cy="36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762120"/>
                    <a:ext cx="403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3800" y="8380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Wave Pot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29000" y="1371600"/>
          <a:ext cx="198108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19810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41560" y="20574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wo-dimensio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181480" y="1905120"/>
          <a:ext cx="354960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905120"/>
                    <a:ext cx="35496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600200" y="3657600"/>
          <a:ext cx="166212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1662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191120" y="3527280"/>
          <a:ext cx="3733560" cy="316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3527280"/>
                    <a:ext cx="373356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057400" y="5867280"/>
          <a:ext cx="838080" cy="78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867280"/>
                    <a:ext cx="8380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674720" y="28195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440" y="29718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H="1" rot="16200000">
            <a:off x="5638680" y="1523880"/>
            <a:ext cx="2133720" cy="457200"/>
          </a:xfrm>
          <a:prstGeom prst="parallelogram">
            <a:avLst>
              <a:gd name="adj" fmla="val 1166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1920" y="76212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362320"/>
          <a:ext cx="326736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26736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038480" y="1600200"/>
          <a:ext cx="13716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600200"/>
                    <a:ext cx="13716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90720" y="5181480"/>
          <a:ext cx="3317760" cy="105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81480"/>
                    <a:ext cx="3317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705720" y="1752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752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3924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086600" y="1143000"/>
          <a:ext cx="1143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143000"/>
                    <a:ext cx="11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402440" y="240336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7560" y="304812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000" y="37339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6400" y="4343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05280" y="14889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rot="16200000">
            <a:off x="5333760" y="1752480"/>
            <a:ext cx="2133720" cy="457200"/>
          </a:xfrm>
          <a:prstGeom prst="parallelogram">
            <a:avLst>
              <a:gd name="adj" fmla="val 1166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62120" y="2438280"/>
          <a:ext cx="335268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335268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33920" y="1371600"/>
          <a:ext cx="12189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1218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1905120"/>
          <a:ext cx="11430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905120"/>
                    <a:ext cx="1143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85800" y="5105520"/>
          <a:ext cx="320040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5105520"/>
                    <a:ext cx="32004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244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58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6019920" y="18284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670720" y="1413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360" y="1506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172200" y="1447920"/>
          <a:ext cx="1219320" cy="49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1447920"/>
                    <a:ext cx="12193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900360" y="1108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73840" y="24796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3000" y="304812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0400" y="3635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53760" y="42242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362320" y="3733920"/>
            <a:ext cx="228600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60" y="1219320"/>
            <a:ext cx="79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waves arise physically from "point" sources. I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source emits waves uniformly in all directions, then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the waves to depend only on the radial distance, r ,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00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3840" y="48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4639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971800" y="484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65360" y="4964040"/>
            <a:ext cx="50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14800" y="3885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5638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2437920" y="38858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65360" y="482436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5000" y="518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581280" y="4419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124080" y="4929120"/>
            <a:ext cx="27000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952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071880" y="44589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5600" y="2286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6480" y="83196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pherical harmonic waves of exp(-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. The equation of motion of the fluid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equation are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292560" y="2249640"/>
          <a:ext cx="1828800" cy="11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2560" y="2249640"/>
                    <a:ext cx="182880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209960" y="3733920"/>
            <a:ext cx="70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erms of the distan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rom the source, in sphe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s these equa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987640" y="4816440"/>
          <a:ext cx="28954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816440"/>
                    <a:ext cx="28954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045600" y="2286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89160" y="106668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solutions of the wave equ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759040" y="1539720"/>
          <a:ext cx="3809880" cy="11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539720"/>
                    <a:ext cx="38098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215720" y="2743200"/>
            <a:ext cx="74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erm represents a wave traveling in the out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direction while the second term represents a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ing on the source. Since the source only gene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ward  going waves, we must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 The pressur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velocity in the out going wave are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995560" y="4740120"/>
          <a:ext cx="30304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5560" y="4740120"/>
                    <a:ext cx="30304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045600" y="2286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8640" y="91440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cases we are only interested in the waves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 from the source, in which case kr &gt;&gt; 1 and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rite approxim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2438280"/>
          <a:ext cx="2209680" cy="17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38280"/>
                    <a:ext cx="22096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36400" y="4529160"/>
            <a:ext cx="80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 a plane wave traveling in the +z direction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505320" y="5334120"/>
          <a:ext cx="2133360" cy="13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334120"/>
                    <a:ext cx="2133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045600" y="2286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20640" y="2516040"/>
            <a:ext cx="1675080" cy="167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6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6853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48880" y="2860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5181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14640" y="537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543800" y="2514240"/>
            <a:ext cx="33336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5640" y="3987720"/>
            <a:ext cx="30024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85880" y="22860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 Waves-Elastic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2760" y="838080"/>
            <a:ext cx="76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waves from point sources in an elastic solid hav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structure in general, but for kr &gt;&gt;1 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that of a flu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97200" y="3268800"/>
            <a:ext cx="32004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4114800"/>
            <a:ext cx="14479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653080" y="352440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905120" y="2057400"/>
          <a:ext cx="403848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403848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0822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648320" y="3962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60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343400" y="40381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2920" y="4151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0440" y="385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308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451400" y="4572000"/>
          <a:ext cx="376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1400" y="4572000"/>
                    <a:ext cx="376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V="1">
            <a:off x="4343400" y="4545000"/>
            <a:ext cx="336600" cy="25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3352680"/>
          <a:ext cx="1447920" cy="11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352680"/>
                    <a:ext cx="14479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159080" y="4637160"/>
            <a:ext cx="338400" cy="320760"/>
          </a:xfrm>
          <a:custGeom>
            <a:avLst/>
            <a:gdLst/>
            <a:ahLst/>
            <a:rect l="l" t="t" r="r" b="b"/>
            <a:pathLst>
              <a:path w="213" h="202">
                <a:moveTo>
                  <a:pt x="138" y="0"/>
                </a:moveTo>
                <a:cubicBezTo>
                  <a:pt x="48" y="10"/>
                  <a:pt x="32" y="12"/>
                  <a:pt x="0" y="97"/>
                </a:cubicBezTo>
                <a:cubicBezTo>
                  <a:pt x="14" y="134"/>
                  <a:pt x="34" y="129"/>
                  <a:pt x="73" y="137"/>
                </a:cubicBezTo>
                <a:cubicBezTo>
                  <a:pt x="86" y="173"/>
                  <a:pt x="74" y="189"/>
                  <a:pt x="114" y="202"/>
                </a:cubicBezTo>
                <a:cubicBezTo>
                  <a:pt x="172" y="183"/>
                  <a:pt x="149" y="196"/>
                  <a:pt x="187" y="170"/>
                </a:cubicBezTo>
                <a:cubicBezTo>
                  <a:pt x="206" y="112"/>
                  <a:pt x="213" y="135"/>
                  <a:pt x="187" y="97"/>
                </a:cubicBezTo>
                <a:cubicBezTo>
                  <a:pt x="184" y="78"/>
                  <a:pt x="188" y="57"/>
                  <a:pt x="179" y="40"/>
                </a:cubicBezTo>
                <a:cubicBezTo>
                  <a:pt x="170" y="23"/>
                  <a:pt x="138" y="0"/>
                  <a:pt x="138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105520"/>
            <a:ext cx="1305000" cy="1285920"/>
          </a:xfrm>
          <a:custGeom>
            <a:avLst/>
            <a:gdLst/>
            <a:ahLst/>
            <a:rect l="l" t="t" r="r" b="b"/>
            <a:pathLst>
              <a:path w="213" h="202">
                <a:moveTo>
                  <a:pt x="138" y="0"/>
                </a:moveTo>
                <a:cubicBezTo>
                  <a:pt x="48" y="10"/>
                  <a:pt x="32" y="12"/>
                  <a:pt x="0" y="97"/>
                </a:cubicBezTo>
                <a:cubicBezTo>
                  <a:pt x="14" y="134"/>
                  <a:pt x="34" y="129"/>
                  <a:pt x="73" y="137"/>
                </a:cubicBezTo>
                <a:cubicBezTo>
                  <a:pt x="86" y="173"/>
                  <a:pt x="74" y="189"/>
                  <a:pt x="114" y="202"/>
                </a:cubicBezTo>
                <a:cubicBezTo>
                  <a:pt x="172" y="183"/>
                  <a:pt x="149" y="196"/>
                  <a:pt x="187" y="170"/>
                </a:cubicBezTo>
                <a:cubicBezTo>
                  <a:pt x="206" y="112"/>
                  <a:pt x="213" y="135"/>
                  <a:pt x="187" y="97"/>
                </a:cubicBezTo>
                <a:cubicBezTo>
                  <a:pt x="184" y="78"/>
                  <a:pt x="188" y="57"/>
                  <a:pt x="179" y="40"/>
                </a:cubicBezTo>
                <a:cubicBezTo>
                  <a:pt x="170" y="23"/>
                  <a:pt x="138" y="0"/>
                  <a:pt x="138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80720" y="4854600"/>
            <a:ext cx="221796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4479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18960" y="5715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9520" y="5641920"/>
            <a:ext cx="11736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7160" y="905040"/>
            <a:ext cx="55022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s in fluids an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wave pot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waves in fluids an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9320" y="2289240"/>
            <a:ext cx="75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arbitrary plane wave"pulse"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ve equation traveling  in the + x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8520" y="3086280"/>
            <a:ext cx="77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                                                       is a harmo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 traveling in the + x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simply related through the Fourier Trans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1960" y="2251080"/>
          <a:ext cx="211608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1080"/>
                    <a:ext cx="21160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782800" y="3083040"/>
          <a:ext cx="365760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2800" y="3083040"/>
                    <a:ext cx="3657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259800" y="11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 -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830240" y="5765760"/>
          <a:ext cx="5167440" cy="8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0240" y="5765760"/>
                    <a:ext cx="51674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902040" y="5349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7560" y="48006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6440" y="5654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16440" y="5654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21560" y="56545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74720" y="47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30840" y="5273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3200" y="76212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in a  fluid satisfy the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971800" y="1523880"/>
          <a:ext cx="220968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523880"/>
                    <a:ext cx="22096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8380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aw previously we can write a plane harmonic wave in different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43200" y="1676520"/>
          <a:ext cx="308304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308304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05160" y="38862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last form we can also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4648320"/>
          <a:ext cx="579096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5790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6360" y="66996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 for a harmonic wav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76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400440" y="6858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200" y="990720"/>
            <a:ext cx="70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, a plane wave traveling in the       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 (dropping the common time te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904000" y="1090440"/>
          <a:ext cx="45720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0" y="1090440"/>
                    <a:ext cx="457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666880" y="1981080"/>
          <a:ext cx="2133720" cy="130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981080"/>
                    <a:ext cx="21337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89920" y="371808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plane wave traveling in an arbitrary direction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1760" y="43434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419720"/>
            <a:ext cx="50616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4800" y="4952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14800" y="4495680"/>
          <a:ext cx="1676520" cy="83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495680"/>
                    <a:ext cx="167652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948120" y="569916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419720"/>
            <a:ext cx="19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46160" y="436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479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1520" y="30492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 - Fluid and Soli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68440" y="2489040"/>
          <a:ext cx="2209680" cy="7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2489040"/>
                    <a:ext cx="220968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486400" y="2743200"/>
          <a:ext cx="23288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2328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90720" y="4952880"/>
          <a:ext cx="441936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952880"/>
                    <a:ext cx="4419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287960" y="1965240"/>
            <a:ext cx="1402560" cy="1322280"/>
            <a:chOff x="4287960" y="1965240"/>
            <a:chExt cx="1402560" cy="1322280"/>
          </a:xfrm>
        </p:grpSpPr>
        <p:sp>
          <p:nvSpPr>
            <p:cNvPr id="98" name=""/>
            <p:cNvSpPr/>
            <p:nvPr/>
          </p:nvSpPr>
          <p:spPr>
            <a:xfrm>
              <a:off x="4287960" y="2743200"/>
              <a:ext cx="456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1080" y="2361960"/>
              <a:ext cx="456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87960" y="236160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60640" y="290664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44800" y="2265120"/>
              <a:ext cx="429840" cy="4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40600" y="1965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29800" y="1066680"/>
            <a:ext cx="73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in a fluid are governed by the scalar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3240" y="3851280"/>
            <a:ext cx="68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in an isotropic elastic solid are governed b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Navier's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1720" y="4724280"/>
            <a:ext cx="31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95200" y="19461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ion of propa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181480" y="2971800"/>
          <a:ext cx="289404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971800"/>
                    <a:ext cx="28940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2378160" y="2606760"/>
            <a:ext cx="1402560" cy="1322280"/>
            <a:chOff x="2378160" y="2606760"/>
            <a:chExt cx="1402560" cy="1322280"/>
          </a:xfrm>
        </p:grpSpPr>
        <p:sp>
          <p:nvSpPr>
            <p:cNvPr id="111" name=""/>
            <p:cNvSpPr/>
            <p:nvPr/>
          </p:nvSpPr>
          <p:spPr>
            <a:xfrm>
              <a:off x="2378160" y="3384720"/>
              <a:ext cx="456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1280" y="3003480"/>
              <a:ext cx="456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378160" y="300312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850840" y="35481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835000" y="2906640"/>
              <a:ext cx="429840" cy="4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0800" y="260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2835360" y="31395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62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78080" y="4698720"/>
            <a:ext cx="777960" cy="925920"/>
            <a:chOff x="2278080" y="4698720"/>
            <a:chExt cx="777960" cy="925920"/>
          </a:xfrm>
        </p:grpSpPr>
        <p:sp>
          <p:nvSpPr>
            <p:cNvPr id="120" name=""/>
            <p:cNvSpPr/>
            <p:nvPr/>
          </p:nvSpPr>
          <p:spPr>
            <a:xfrm>
              <a:off x="2278080" y="50803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81560" y="46990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278080" y="469872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751120" y="52437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666880" y="4643280"/>
            <a:ext cx="4302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268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2320" y="5118120"/>
            <a:ext cx="3045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24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105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39000" y="51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57400" y="990720"/>
          <a:ext cx="4419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90720"/>
                    <a:ext cx="4419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31240" y="1828800"/>
            <a:ext cx="76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er's equations also have plane wave solutions.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ypes – P-waves and S-waves. These are "bulk"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029200" y="4724280"/>
          <a:ext cx="2895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724280"/>
                    <a:ext cx="2895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03840" y="281952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320" y="480060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16120" y="3927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8672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 rot="16200000">
            <a:off x="762120" y="4343400"/>
            <a:ext cx="2133360" cy="457200"/>
          </a:xfrm>
          <a:prstGeom prst="parallelogram">
            <a:avLst>
              <a:gd name="adj" fmla="val 11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200000">
            <a:off x="-380880" y="1904760"/>
            <a:ext cx="2133720" cy="457200"/>
          </a:xfrm>
          <a:prstGeom prst="parallelogram">
            <a:avLst>
              <a:gd name="adj" fmla="val 11667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16200000">
            <a:off x="685800" y="1828800"/>
            <a:ext cx="2133360" cy="457200"/>
          </a:xfrm>
          <a:prstGeom prst="parallelogram">
            <a:avLst>
              <a:gd name="adj" fmla="val 11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6800" y="727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0360" y="1641600"/>
            <a:ext cx="54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P-waves are longitudinal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rection of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599840" y="457200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2880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16200000">
            <a:off x="-304560" y="4419360"/>
            <a:ext cx="2133720" cy="457200"/>
          </a:xfrm>
          <a:prstGeom prst="parallelogram">
            <a:avLst>
              <a:gd name="adj" fmla="val 11667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76640" y="3699000"/>
            <a:ext cx="57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-waves are polarized in th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pendicular to the direction of propa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3240" y="39020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8840" y="480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96080" y="4724280"/>
            <a:ext cx="50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ly polarized S-waves are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-waves while horizontally polar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waves are called SH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990720" y="1600200"/>
          <a:ext cx="472428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47242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066680" y="2819520"/>
          <a:ext cx="4114800" cy="11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819520"/>
                    <a:ext cx="41148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259440" y="117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e Waves-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7880" y="6508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wave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2400" y="1828800"/>
            <a:ext cx="31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… Young's mod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sson'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.. Shear Mod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4280" y="43084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al wave speed in a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3200" y="522288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al wave speed in a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24600" y="3962520"/>
          <a:ext cx="120960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24600" y="3962520"/>
                    <a:ext cx="12096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3600" y="4952880"/>
          <a:ext cx="228600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4952880"/>
                    <a:ext cx="22860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20:51:06Z</dcterms:created>
  <dc:creator>lschmerr</dc:creator>
  <dc:description/>
  <dc:language>en-US</dc:language>
  <cp:lastModifiedBy>Lester Schmerr</cp:lastModifiedBy>
  <dcterms:modified xsi:type="dcterms:W3CDTF">2007-03-26T15:45:29Z</dcterms:modified>
  <cp:revision>20</cp:revision>
  <dc:subject/>
  <dc:title>PowerPoint Presentation</dc:title>
</cp:coreProperties>
</file>