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517-CCC9-4D3B-8FDD-C86B671F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099-D64C-4C64-BB99-E14B830A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563-4153-43F4-946D-82C33546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8B2-2531-42B9-B3D2-0C21BF1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80B-9C20-46C7-A18C-676DC57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DCD-C09E-4E99-9C2E-A7CD938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731-7A87-44E6-B23D-6A7AA7C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F77-A652-4BF3-86D2-710BA3F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932-6408-41C6-AE9D-F836ABE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B88-4F33-4613-8DFF-1C8BD8E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7FA-F8E6-41B7-8D2B-4F45763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EC3-4F8E-4AF5-BB21-43E6DC4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7FD-FE79-4033-AC20-F1075D708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905120"/>
            <a:ext cx="2684520" cy="77292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9360" y="350532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ystem Measurement Model -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1676520"/>
            <a:ext cx="792504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10520" y="373392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 used to obtain this explici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4572000"/>
            <a:ext cx="7925040" cy="60948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0400" y="472428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linear, reciprocal acoustic and elastic media (harmonic disturb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8380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838080" y="1752480"/>
          <a:ext cx="72820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2820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733920" y="2614680"/>
            <a:ext cx="3200400" cy="76176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722160"/>
            <a:ext cx="8001000" cy="83844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840" y="2386080"/>
            <a:ext cx="198072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241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241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386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655720" y="256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2577960" y="3746520"/>
          <a:ext cx="895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746520"/>
                    <a:ext cx="895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2666880" y="3376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3452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36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45360" y="37940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809880" y="2690640"/>
          <a:ext cx="30481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90640"/>
                    <a:ext cx="3048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962520" y="1928880"/>
          <a:ext cx="761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928880"/>
                    <a:ext cx="761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2655720" y="282096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3071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87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we also assumed  the output velocity for the transducers can be written in a separable form. For transducer A,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443480"/>
            <a:ext cx="725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the "forces" are defined in terms of weighted pressure integrals over the transducer face, using the same functions used to describe the velocity. For example, for transduc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286000" y="5433840"/>
          <a:ext cx="37814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433840"/>
                    <a:ext cx="37814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4940640" y="19652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, wave speed of the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590920" y="1547640"/>
            <a:ext cx="914400" cy="432000"/>
            <a:chOff x="2590920" y="1547640"/>
            <a:chExt cx="914400" cy="432000"/>
          </a:xfrm>
        </p:grpSpPr>
        <p:sp>
          <p:nvSpPr>
            <p:cNvPr id="559" name=""/>
            <p:cNvSpPr/>
            <p:nvPr/>
          </p:nvSpPr>
          <p:spPr>
            <a:xfrm>
              <a:off x="2683080" y="168912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22760" y="168408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65320" y="168732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13280" y="169992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60880" y="169992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154764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22800" y="173664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37000" y="168912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129680" y="630864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piston transduc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962520" y="6272280"/>
          <a:ext cx="838080" cy="47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6272280"/>
                    <a:ext cx="8380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295280" y="2362320"/>
            <a:ext cx="1439280" cy="882000"/>
            <a:chOff x="1295280" y="2362320"/>
            <a:chExt cx="1439280" cy="882000"/>
          </a:xfrm>
        </p:grpSpPr>
        <p:sp>
          <p:nvSpPr>
            <p:cNvPr id="573" name=""/>
            <p:cNvSpPr/>
            <p:nvPr/>
          </p:nvSpPr>
          <p:spPr>
            <a:xfrm>
              <a:off x="1627200" y="2362320"/>
              <a:ext cx="1107360" cy="882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16320" y="2613960"/>
              <a:ext cx="108720" cy="315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06160" y="2676960"/>
              <a:ext cx="108000" cy="189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95280" y="2613960"/>
              <a:ext cx="108000" cy="315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9069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28600" y="4267080"/>
            <a:ext cx="8686800" cy="144792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05320" y="1828800"/>
            <a:ext cx="16002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15237600">
            <a:off x="4076640" y="2666520"/>
            <a:ext cx="3808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63600" y="20574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46040" y="2197080"/>
            <a:ext cx="559080" cy="47304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629400" y="2209680"/>
            <a:ext cx="558720" cy="47304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85760" y="265104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29080" y="272736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798920" y="31464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715360" y="2971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380880" y="4419720"/>
          <a:ext cx="8358480" cy="102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419720"/>
                    <a:ext cx="83584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2" name=""/>
          <p:cNvGrpSpPr/>
          <p:nvPr/>
        </p:nvGrpSpPr>
        <p:grpSpPr>
          <a:xfrm>
            <a:off x="2503440" y="1762200"/>
            <a:ext cx="914400" cy="431280"/>
            <a:chOff x="2503440" y="1762200"/>
            <a:chExt cx="914400" cy="431280"/>
          </a:xfrm>
        </p:grpSpPr>
        <p:sp>
          <p:nvSpPr>
            <p:cNvPr id="593" name=""/>
            <p:cNvSpPr/>
            <p:nvPr/>
          </p:nvSpPr>
          <p:spPr>
            <a:xfrm>
              <a:off x="2595600" y="190332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35280" y="189828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77840" y="190152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25800" y="191412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73400" y="191412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03440" y="176220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35320" y="195084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49520" y="190332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486400" y="1752480"/>
            <a:ext cx="914400" cy="432000"/>
            <a:chOff x="5486400" y="1752480"/>
            <a:chExt cx="914400" cy="432000"/>
          </a:xfrm>
        </p:grpSpPr>
        <p:sp>
          <p:nvSpPr>
            <p:cNvPr id="602" name=""/>
            <p:cNvSpPr/>
            <p:nvPr/>
          </p:nvSpPr>
          <p:spPr>
            <a:xfrm>
              <a:off x="5578560" y="18939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8240" y="18889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0800" y="18921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08760" y="1904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56360" y="1904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17524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18280" y="19414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32480" y="18939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905120" y="2425680"/>
            <a:ext cx="877320" cy="463680"/>
            <a:chOff x="1905120" y="2425680"/>
            <a:chExt cx="877320" cy="463680"/>
          </a:xfrm>
        </p:grpSpPr>
        <p:sp>
          <p:nvSpPr>
            <p:cNvPr id="611" name=""/>
            <p:cNvSpPr/>
            <p:nvPr/>
          </p:nvSpPr>
          <p:spPr>
            <a:xfrm>
              <a:off x="2107440" y="2425680"/>
              <a:ext cx="675000" cy="4636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39760" y="2557800"/>
              <a:ext cx="66240" cy="1656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72440" y="2590920"/>
              <a:ext cx="65880" cy="99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05120" y="2557800"/>
              <a:ext cx="65880" cy="1656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65480" y="24861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919840" y="2489040"/>
            <a:ext cx="761760" cy="405000"/>
            <a:chOff x="5919840" y="2489040"/>
            <a:chExt cx="761760" cy="405000"/>
          </a:xfrm>
        </p:grpSpPr>
        <p:sp>
          <p:nvSpPr>
            <p:cNvPr id="617" name=""/>
            <p:cNvSpPr/>
            <p:nvPr/>
          </p:nvSpPr>
          <p:spPr>
            <a:xfrm flipH="1">
              <a:off x="5919840" y="2489040"/>
              <a:ext cx="586080" cy="405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507000" y="2604600"/>
              <a:ext cx="57600" cy="144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565320" y="2633400"/>
              <a:ext cx="57240" cy="867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624000" y="2604600"/>
              <a:ext cx="57240" cy="144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004080" y="2489040"/>
            <a:ext cx="4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5335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assumptions lead to an explicit expression for the acoustic/elastic transfe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762120" y="784080"/>
            <a:ext cx="7391160" cy="99072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743200" y="1886040"/>
            <a:ext cx="3124080" cy="137160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2895480" y="2038320"/>
          <a:ext cx="2819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38320"/>
                    <a:ext cx="28195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914400" y="838080"/>
            <a:ext cx="74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we also assume that the pulser, receiver, transducers and cabling can be replaced by equivalent linear, time-shift invariant (LTI) systems, i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3120" y="3562200"/>
            <a:ext cx="59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e can write the reciprocity relationship i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851040" y="4172040"/>
          <a:ext cx="688644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4172040"/>
                    <a:ext cx="6886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992880" y="52387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952560" y="5695920"/>
          <a:ext cx="725472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2560" y="5695920"/>
                    <a:ext cx="72547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646200" y="1741320"/>
            <a:ext cx="7924680" cy="129564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27000" y="1857240"/>
          <a:ext cx="72820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1857240"/>
                    <a:ext cx="72820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796680" y="3349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3320" y="3770280"/>
            <a:ext cx="7925040" cy="247824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94240" y="392256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linear, reciprocal acoustic and elastic media (harmonic disturb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85960" y="46101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  the output velocity for the transducers can be written in a separ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85960" y="5424480"/>
            <a:ext cx="74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pulser, receiver, transducers and cabling can be replaced by equivalent linear, time-shift invariant (LTI)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09800" y="8380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 Ultrasonic Measure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73280" y="995400"/>
            <a:ext cx="7619760" cy="83808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09720" y="11080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if we also assume that the transducers behave as piston radiators at high frequenc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54360" y="2138400"/>
            <a:ext cx="2209680" cy="83808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830680" y="2290680"/>
          <a:ext cx="1981080" cy="5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0680" y="2290680"/>
                    <a:ext cx="19810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"/>
          <p:cNvSpPr/>
          <p:nvPr/>
        </p:nvSpPr>
        <p:spPr>
          <a:xfrm>
            <a:off x="762480" y="331776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ur explicit model becomes, 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2200" y="4156200"/>
            <a:ext cx="792468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901800" y="4272120"/>
          <a:ext cx="722628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272120"/>
                    <a:ext cx="72262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6" name=""/>
          <p:cNvGrpSpPr/>
          <p:nvPr/>
        </p:nvGrpSpPr>
        <p:grpSpPr>
          <a:xfrm>
            <a:off x="6792840" y="2214720"/>
            <a:ext cx="304920" cy="609480"/>
            <a:chOff x="6792840" y="2214720"/>
            <a:chExt cx="304920" cy="609480"/>
          </a:xfrm>
        </p:grpSpPr>
        <p:sp>
          <p:nvSpPr>
            <p:cNvPr id="657" name=""/>
            <p:cNvSpPr/>
            <p:nvPr/>
          </p:nvSpPr>
          <p:spPr>
            <a:xfrm>
              <a:off x="6792840" y="2214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92840" y="2367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2840" y="2519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92840" y="2671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92840" y="2824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97760" y="2214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562720" y="2209680"/>
            <a:ext cx="1215720" cy="617400"/>
            <a:chOff x="5562720" y="2209680"/>
            <a:chExt cx="1215720" cy="617400"/>
          </a:xfrm>
        </p:grpSpPr>
        <p:sp>
          <p:nvSpPr>
            <p:cNvPr id="666" name=""/>
            <p:cNvSpPr/>
            <p:nvPr/>
          </p:nvSpPr>
          <p:spPr>
            <a:xfrm>
              <a:off x="5843160" y="2209680"/>
              <a:ext cx="935280" cy="617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49560" y="2385720"/>
              <a:ext cx="91800" cy="2206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6320" y="2430000"/>
              <a:ext cx="91440" cy="1324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62720" y="2385720"/>
              <a:ext cx="91440" cy="2206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252440" y="770040"/>
            <a:ext cx="6248520" cy="219708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52440" y="757080"/>
            <a:ext cx="62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 now, assume the incident waves are quasi-plane waves in the vicinity of the flaw, 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633680" y="1519200"/>
          <a:ext cx="523080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519200"/>
                    <a:ext cx="52308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1185480" y="4491000"/>
            <a:ext cx="72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define normalized amplitudes of these quasi-plane wav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2928960" y="4881600"/>
          <a:ext cx="170964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4881600"/>
                    <a:ext cx="17096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 rot="20249400">
            <a:off x="4328640" y="3498840"/>
            <a:ext cx="203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33880" y="357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44680" y="38480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33880" y="4110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872200">
            <a:off x="2129040" y="3021120"/>
            <a:ext cx="15235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233360" y="1905120"/>
            <a:ext cx="6553440" cy="167616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295280" y="2362320"/>
          <a:ext cx="638496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3849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914400" y="1143000"/>
            <a:ext cx="73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form of the measurement model 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876920" y="3352680"/>
            <a:ext cx="838080" cy="533520"/>
            <a:chOff x="4876920" y="3352680"/>
            <a:chExt cx="838080" cy="533520"/>
          </a:xfrm>
        </p:grpSpPr>
        <p:sp>
          <p:nvSpPr>
            <p:cNvPr id="691" name=""/>
            <p:cNvSpPr/>
            <p:nvPr/>
          </p:nvSpPr>
          <p:spPr>
            <a:xfrm>
              <a:off x="4876920" y="3886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715000" y="33526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876920" y="33526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72200" y="3352680"/>
            <a:ext cx="838080" cy="533520"/>
            <a:chOff x="6172200" y="3352680"/>
            <a:chExt cx="838080" cy="533520"/>
          </a:xfrm>
        </p:grpSpPr>
        <p:sp>
          <p:nvSpPr>
            <p:cNvPr id="695" name=""/>
            <p:cNvSpPr/>
            <p:nvPr/>
          </p:nvSpPr>
          <p:spPr>
            <a:xfrm>
              <a:off x="6172200" y="3886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010280" y="33526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172200" y="33526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098960" y="4151160"/>
            <a:ext cx="245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blems (1),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unit  average velocities on the transducer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88200" y="40752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ed wav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457200" y="762120"/>
          <a:ext cx="79502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7950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687600" y="4191120"/>
            <a:ext cx="70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malized fields                  are defined as velocity and stres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(1) due to an incident wav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it displacement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971800" y="4038480"/>
          <a:ext cx="9144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038480"/>
                    <a:ext cx="914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1066680" y="4876920"/>
          <a:ext cx="158616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876920"/>
                    <a:ext cx="15861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6060960" y="5867280"/>
            <a:ext cx="990720" cy="53352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99120" y="5311800"/>
            <a:ext cx="398520" cy="290520"/>
          </a:xfrm>
          <a:custGeom>
            <a:avLst/>
            <a:gdLst/>
            <a:ahLst/>
            <a:rect l="l" t="t" r="r" b="b"/>
            <a:pathLst>
              <a:path w="251" h="183">
                <a:moveTo>
                  <a:pt x="249" y="21"/>
                </a:moveTo>
                <a:cubicBezTo>
                  <a:pt x="186" y="0"/>
                  <a:pt x="222" y="6"/>
                  <a:pt x="139" y="14"/>
                </a:cubicBezTo>
                <a:cubicBezTo>
                  <a:pt x="112" y="33"/>
                  <a:pt x="118" y="54"/>
                  <a:pt x="91" y="69"/>
                </a:cubicBezTo>
                <a:cubicBezTo>
                  <a:pt x="78" y="76"/>
                  <a:pt x="50" y="83"/>
                  <a:pt x="50" y="83"/>
                </a:cubicBezTo>
                <a:cubicBezTo>
                  <a:pt x="28" y="116"/>
                  <a:pt x="0" y="134"/>
                  <a:pt x="50" y="151"/>
                </a:cubicBezTo>
                <a:cubicBezTo>
                  <a:pt x="78" y="172"/>
                  <a:pt x="86" y="183"/>
                  <a:pt x="119" y="172"/>
                </a:cubicBezTo>
                <a:cubicBezTo>
                  <a:pt x="147" y="130"/>
                  <a:pt x="174" y="142"/>
                  <a:pt x="229" y="137"/>
                </a:cubicBezTo>
                <a:cubicBezTo>
                  <a:pt x="218" y="95"/>
                  <a:pt x="182" y="77"/>
                  <a:pt x="242" y="62"/>
                </a:cubicBezTo>
                <a:cubicBezTo>
                  <a:pt x="251" y="35"/>
                  <a:pt x="249" y="48"/>
                  <a:pt x="249" y="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0060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483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733920" y="5562720"/>
          <a:ext cx="92556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5562720"/>
                    <a:ext cx="925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6060960" y="5867280"/>
          <a:ext cx="83844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60960" y="5867280"/>
                    <a:ext cx="838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 rot="9379800">
            <a:off x="4937040" y="51217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487800">
            <a:off x="5080680" y="500004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5072040" y="5638680"/>
            <a:ext cx="18576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38680" y="49525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6430400">
            <a:off x="4939920" y="4964760"/>
            <a:ext cx="7617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4952520" y="4876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03760" y="5562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5000" y="30492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aw scattering term is rather compl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655560" y="1778040"/>
          <a:ext cx="101772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560" y="1778040"/>
                    <a:ext cx="1017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1986480" y="1905120"/>
            <a:ext cx="50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es and velocity components in proble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549360" y="2400480"/>
          <a:ext cx="1066680" cy="545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9360" y="2400480"/>
                    <a:ext cx="10666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1988640" y="2438280"/>
            <a:ext cx="60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of the incident wave direction and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ble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914400" y="2971800"/>
          <a:ext cx="3650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2971800"/>
                    <a:ext cx="365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1909440" y="312408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of the unit outward normal to the flaw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762120" y="3505320"/>
          <a:ext cx="609480" cy="552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3505320"/>
                    <a:ext cx="6094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983960" y="3581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 constants t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362320" y="3540240"/>
            <a:ext cx="289548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95480" y="4073400"/>
            <a:ext cx="182880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9416000">
            <a:off x="3504960" y="4835520"/>
            <a:ext cx="612720" cy="3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809880" y="4473720"/>
            <a:ext cx="1359000" cy="51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809880" y="4683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498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657240" y="49878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181480" y="4278240"/>
            <a:ext cx="50184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26200" y="4606920"/>
            <a:ext cx="3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35440" y="50990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4454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86200" y="51404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40640" y="529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25520" y="46832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599840" y="3616200"/>
            <a:ext cx="68580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76520" y="4226040"/>
            <a:ext cx="6094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440720" y="3600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" y="5416560"/>
            <a:ext cx="2568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 for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yp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,S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343400" y="422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4800600" y="3844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3123720" y="4149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2742840" y="3692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115800" y="5484960"/>
            <a:ext cx="2365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781000" y="5978520"/>
            <a:ext cx="190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5597640"/>
            <a:ext cx="18252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724280" y="5978520"/>
            <a:ext cx="19872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1752480" y="4530600"/>
          <a:ext cx="457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3060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5562720" y="4378320"/>
          <a:ext cx="4078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378320"/>
                    <a:ext cx="407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5031720" y="49878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ed wav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762120" y="1225440"/>
          <a:ext cx="761976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25440"/>
                    <a:ext cx="76197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2967840" y="6206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 scattering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6095520" y="376884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324480" y="3311640"/>
            <a:ext cx="4572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2778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t wave with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proble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6935760" y="3844800"/>
          <a:ext cx="208296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5760" y="3844800"/>
                    <a:ext cx="2082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3648240" y="5086440"/>
          <a:ext cx="341280" cy="47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8240" y="5086440"/>
                    <a:ext cx="341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304920" y="221616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ed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583800" y="2216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46120" y="2216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7160" y="905040"/>
            <a:ext cx="53611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a Measure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l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-G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or 2D scatte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ing the Mode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easurement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609480" y="1752480"/>
          <a:ext cx="784872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8487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841680" y="330192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t can be shown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2021040" y="4064040"/>
          <a:ext cx="42354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1040" y="4064040"/>
                    <a:ext cx="42354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2510640" y="99216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 scattering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9092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50840" y="5167440"/>
            <a:ext cx="23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 scattering amplitude of waves in proble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673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413160" y="524340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zation vector of 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 in proble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19200" y="1300320"/>
            <a:ext cx="7543800" cy="2438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987480" y="1681200"/>
          <a:ext cx="673092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81200"/>
                    <a:ext cx="673092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2166840" y="2824200"/>
          <a:ext cx="47642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6840" y="2824200"/>
                    <a:ext cx="47642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1751040" y="8794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Model - Quasi-Plane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33520" y="403848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am modeling terms and flaw scattering terms appear separately in this model but they still must be combined before the voltage can be ob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73040" y="878040"/>
            <a:ext cx="7772400" cy="68580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9144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Now, assum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D flaw, i.e. where the incident waves do not vary significantly in amplitude over the surface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21160" y="2782800"/>
            <a:ext cx="76176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02040" y="31640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902040" y="23252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292200" y="3164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368520" y="2173320"/>
          <a:ext cx="36540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8520" y="2173320"/>
                    <a:ext cx="3654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"/>
          <p:cNvGraphicFramePr/>
          <p:nvPr/>
        </p:nvGraphicFramePr>
        <p:xfrm>
          <a:off x="4765680" y="3087720"/>
          <a:ext cx="3859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5680" y="308772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3292560" y="3621240"/>
          <a:ext cx="341280" cy="47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2560" y="3621240"/>
                    <a:ext cx="341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"/>
          <p:cNvGraphicFramePr/>
          <p:nvPr/>
        </p:nvGraphicFramePr>
        <p:xfrm>
          <a:off x="4892760" y="2249640"/>
          <a:ext cx="362268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2760" y="2249640"/>
                    <a:ext cx="3622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3774600" y="31431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4419720"/>
          <a:ext cx="7072200" cy="104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419720"/>
                    <a:ext cx="70722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992880" y="396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130040" y="55990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,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2514600" y="5867280"/>
          <a:ext cx="4235400" cy="78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5867280"/>
                    <a:ext cx="42354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85800" y="2286000"/>
            <a:ext cx="7924680" cy="121932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874800" y="2438280"/>
          <a:ext cx="716436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2438280"/>
                    <a:ext cx="71643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/>
          <p:nvPr/>
        </p:nvSpPr>
        <p:spPr>
          <a:xfrm>
            <a:off x="1449000" y="114300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Model (Thompson-Gray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6688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666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88620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41520" y="38862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962520" y="3733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96252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617220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4267080" y="3749760"/>
          <a:ext cx="160020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49760"/>
                    <a:ext cx="16002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"/>
          <p:cNvSpPr/>
          <p:nvPr/>
        </p:nvSpPr>
        <p:spPr>
          <a:xfrm>
            <a:off x="4178880" y="430380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wave far f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ing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32200" y="1751760"/>
            <a:ext cx="58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B. Thompson and T. A. Gray, J. Acoust. Soc. Am., Vol. 74, (1983), pp. 140-14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1601640" y="5334120"/>
          <a:ext cx="6167520" cy="101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1640" y="5334120"/>
                    <a:ext cx="616752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739800" y="2519280"/>
            <a:ext cx="8153280" cy="419112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3480" y="1182600"/>
            <a:ext cx="7925040" cy="121932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1157400" y="1335240"/>
          <a:ext cx="6554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1335240"/>
                    <a:ext cx="6554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1731600" y="64944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Model (Thompson-Gray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4400" y="267192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linear, reciprocal acoustic and elastic media (harmonic disturb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6640" y="3152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  the output velocity for the transducer(s) can be written in a separ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26920" y="382572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pulser, receiver, transducers and cabling can be replaced by equivalent linear, time-shift invariant (LTI)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17560" y="45975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transducers are assumed to behave as piston radiators operating at high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13240" y="539280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incident waves are quasi-plane waves in the vicinity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26920" y="587376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scatterer is a small 3-D flaw where the incident waves do not vary significantly in amplitude over the surface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57200" y="685800"/>
            <a:ext cx="4495680" cy="152388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3520" y="7621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a) If instead, the scatterer is a small cylindrical flaw (e.g. side-drilled hole), with incident and scattered wave directions in the plane of the cross-section then we can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34240" y="2103480"/>
            <a:ext cx="380880" cy="380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84864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6848640" y="808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6325920" y="1569960"/>
            <a:ext cx="52236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6365880" y="503280"/>
          <a:ext cx="36504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5880" y="503280"/>
                    <a:ext cx="3650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7763040" y="1417680"/>
          <a:ext cx="3855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3040" y="1417680"/>
                    <a:ext cx="385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5781600" y="1646280"/>
          <a:ext cx="34128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1600" y="1646280"/>
                    <a:ext cx="341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5334120" y="1447920"/>
            <a:ext cx="904680" cy="4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7381800" y="73188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5477040" y="960480"/>
          <a:ext cx="3362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960480"/>
                    <a:ext cx="336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8067600" y="884160"/>
          <a:ext cx="29520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67600" y="884160"/>
                    <a:ext cx="295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658800" y="3322800"/>
          <a:ext cx="382104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" y="3322800"/>
                    <a:ext cx="3821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838080" y="2286000"/>
          <a:ext cx="3710160" cy="91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286000"/>
                    <a:ext cx="3710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4678200" y="3408480"/>
          <a:ext cx="114300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78200" y="3408480"/>
                    <a:ext cx="114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"/>
          <p:cNvSpPr/>
          <p:nvPr/>
        </p:nvSpPr>
        <p:spPr>
          <a:xfrm>
            <a:off x="5924520" y="343836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741240" y="4389480"/>
          <a:ext cx="7777440" cy="1049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1240" y="4389480"/>
                    <a:ext cx="77774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4867200" y="591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638240" y="637056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181400" y="6294600"/>
          <a:ext cx="40968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81400" y="6294600"/>
                    <a:ext cx="409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 flipH="1" flipV="1">
            <a:off x="5129280" y="5917680"/>
            <a:ext cx="18576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19560" y="6580080"/>
            <a:ext cx="16668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72120" y="621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5172120" y="553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6238800" y="5989680"/>
          <a:ext cx="38592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38800" y="598968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5248440" y="5303880"/>
          <a:ext cx="365040" cy="547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48440" y="5303880"/>
                    <a:ext cx="3650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"/>
          <p:cNvSpPr/>
          <p:nvPr/>
        </p:nvSpPr>
        <p:spPr>
          <a:xfrm>
            <a:off x="7545240" y="1189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086520" y="2560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6086160" y="21034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935760" y="1341000"/>
            <a:ext cx="59868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6848640" y="2027160"/>
          <a:ext cx="257040" cy="30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48640" y="2027160"/>
                    <a:ext cx="257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"/>
          <p:cNvSpPr/>
          <p:nvPr/>
        </p:nvSpPr>
        <p:spPr>
          <a:xfrm>
            <a:off x="754200" y="40086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054040" y="616284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52440" y="3994200"/>
            <a:ext cx="822960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39800" y="1149480"/>
            <a:ext cx="81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D scattering amplitude component of a 2-D, cylindrical geometry (end effects neglected) is j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301840" y="1911240"/>
          <a:ext cx="435924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1840" y="1911240"/>
                    <a:ext cx="43592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"/>
          <p:cNvGraphicFramePr/>
          <p:nvPr/>
        </p:nvGraphicFramePr>
        <p:xfrm>
          <a:off x="581040" y="4044960"/>
          <a:ext cx="739620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" y="4044960"/>
                    <a:ext cx="7396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729000" y="301464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 measurement model can be expressed, finally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6240" y="5867280"/>
            <a:ext cx="727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merr, L.W., and A. Sedov, "Modeling ultrasonic problems for the 2002 benchmark session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Progress in Quantitative Nondestructive Evaluation, D.O. Thompson and D.E. Chimenti, Eds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Institute of Physics, Melville, N.Y. , 22B,1776-1783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34160" y="1425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2-D and 3-D scattering ampl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2178000" y="2263680"/>
          <a:ext cx="47242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8000" y="2263680"/>
                    <a:ext cx="4724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571680" y="4270320"/>
            <a:ext cx="822960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789120" y="4321080"/>
          <a:ext cx="741996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4321080"/>
                    <a:ext cx="74199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"/>
          <p:cNvSpPr/>
          <p:nvPr/>
        </p:nvSpPr>
        <p:spPr>
          <a:xfrm>
            <a:off x="641880" y="35956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ives the alternat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762120" y="2133720"/>
            <a:ext cx="8153280" cy="455292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46360" y="228600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linear, reciprocal acoustic and elastic media (harmonic disturb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58960" y="2766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  the output velocity for the transducer(s) can be written in a separ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49240" y="344016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pulser, receiver, transducers and cabling can be replaced by equivalent linear, time-shift invariant (LTI)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17560" y="4211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transducers are assumed to behave as piston radiators operating at high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67240" y="498492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incident waves are quasi-plane waves in the vicinity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71560" y="54658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scatterer is cylindrical flaw with incident and scattered wave directions in the plane of the cross-section, where the incident waves do not vary significantly in amplitude over the small cross-section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03360" y="711360"/>
            <a:ext cx="822960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831960" y="762120"/>
          <a:ext cx="7394400" cy="103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762120"/>
                    <a:ext cx="73944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>
            <a:off x="1753560" y="15228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Model for 2-D scatte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09480" y="5391000"/>
            <a:ext cx="8229600" cy="129564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839880" y="5442120"/>
          <a:ext cx="7392960" cy="103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5442120"/>
                    <a:ext cx="739296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753560" y="487692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 small flaw  (Schmerr-Sedov 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7560" y="3486240"/>
            <a:ext cx="7925040" cy="121896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1041480" y="3638520"/>
          <a:ext cx="65548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3638520"/>
                    <a:ext cx="65548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1982520" y="295272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 small flaw (Thompson-Gray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7360" y="1465200"/>
            <a:ext cx="7924680" cy="129564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938160" y="1581120"/>
          <a:ext cx="72820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8160" y="1581120"/>
                    <a:ext cx="72820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1983960" y="81900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easurement Model (Auld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72412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9480" y="2724120"/>
            <a:ext cx="457200" cy="2666880"/>
          </a:xfrm>
          <a:prstGeom prst="downArrow">
            <a:avLst>
              <a:gd name="adj1" fmla="val 40278"/>
              <a:gd name="adj2" fmla="val 746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990720"/>
            <a:ext cx="7619760" cy="17524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3198960"/>
            <a:ext cx="96012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5237600">
            <a:off x="3881880" y="3719520"/>
            <a:ext cx="236520" cy="4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65520" y="3057480"/>
            <a:ext cx="914400" cy="432000"/>
            <a:chOff x="2765520" y="3057480"/>
            <a:chExt cx="914400" cy="432000"/>
          </a:xfrm>
        </p:grpSpPr>
        <p:sp>
          <p:nvSpPr>
            <p:cNvPr id="48" name=""/>
            <p:cNvSpPr/>
            <p:nvPr/>
          </p:nvSpPr>
          <p:spPr>
            <a:xfrm>
              <a:off x="2857680" y="31989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97360" y="31939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9920" y="31971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87880" y="3209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35480" y="3209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5520" y="30574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7400" y="32464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1600" y="31989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32000" y="3719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76640" y="384804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64000" y="430524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022640" y="355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43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733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052640"/>
            <a:ext cx="7696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n Ultrasonic Measurement Model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model that expresses the output voltag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received from a flaw in a ultrasonic testing configuration in a form that explicitly states the modeling or measurement parameters needed to obtain that voltage (immersion shown only as a specific examp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421240" y="37227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5600" y="3711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7800" y="2743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352680"/>
            <a:ext cx="762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429000"/>
            <a:ext cx="609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70160" y="2819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13360" y="4379760"/>
            <a:ext cx="3292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of the flaw which has an outward normal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86600" y="3276720"/>
          <a:ext cx="609480" cy="42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76720"/>
                    <a:ext cx="6094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0320" y="5398920"/>
            <a:ext cx="88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measurement models  discussed 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frequency component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24080" y="5715000"/>
          <a:ext cx="21337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715000"/>
                    <a:ext cx="2133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>
            <a:off x="3047760" y="4038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60680" y="422748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being ins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24280" y="2971800"/>
            <a:ext cx="914400" cy="431280"/>
            <a:chOff x="4724280" y="2971800"/>
            <a:chExt cx="914400" cy="431280"/>
          </a:xfrm>
        </p:grpSpPr>
        <p:sp>
          <p:nvSpPr>
            <p:cNvPr id="79" name=""/>
            <p:cNvSpPr/>
            <p:nvPr/>
          </p:nvSpPr>
          <p:spPr>
            <a:xfrm>
              <a:off x="4816440" y="311292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6120" y="310788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8680" y="311112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6640" y="312372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94240" y="312372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97180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56160" y="316044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70360" y="311292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57440" y="3529080"/>
            <a:ext cx="522000" cy="368280"/>
            <a:chOff x="2557440" y="3529080"/>
            <a:chExt cx="522000" cy="368280"/>
          </a:xfrm>
        </p:grpSpPr>
        <p:grpSp>
          <p:nvGrpSpPr>
            <p:cNvPr id="90" name=""/>
            <p:cNvGrpSpPr/>
            <p:nvPr/>
          </p:nvGrpSpPr>
          <p:grpSpPr>
            <a:xfrm>
              <a:off x="2557440" y="3583080"/>
              <a:ext cx="522000" cy="277560"/>
              <a:chOff x="2557440" y="3583080"/>
              <a:chExt cx="522000" cy="277560"/>
            </a:xfrm>
          </p:grpSpPr>
          <p:sp>
            <p:nvSpPr>
              <p:cNvPr id="91" name=""/>
              <p:cNvSpPr/>
              <p:nvPr/>
            </p:nvSpPr>
            <p:spPr>
              <a:xfrm>
                <a:off x="2677680" y="3583080"/>
                <a:ext cx="40176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37720" y="366228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7400" y="368208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57440" y="366228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709720" y="3529080"/>
              <a:ext cx="3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52880" y="3521160"/>
            <a:ext cx="522000" cy="368280"/>
            <a:chOff x="4952880" y="3521160"/>
            <a:chExt cx="522000" cy="368280"/>
          </a:xfrm>
        </p:grpSpPr>
        <p:grpSp>
          <p:nvGrpSpPr>
            <p:cNvPr id="97" name=""/>
            <p:cNvGrpSpPr/>
            <p:nvPr/>
          </p:nvGrpSpPr>
          <p:grpSpPr>
            <a:xfrm>
              <a:off x="4952880" y="3581280"/>
              <a:ext cx="522000" cy="277920"/>
              <a:chOff x="4952880" y="3581280"/>
              <a:chExt cx="522000" cy="27792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4952880" y="3581280"/>
                <a:ext cx="40176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355000" y="366048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395320" y="368028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435280" y="366048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996080" y="352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56880" y="170820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system linear and recipro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902160" y="235440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linearity checks of pulser/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470320" y="4560840"/>
            <a:ext cx="990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5120" y="4146480"/>
            <a:ext cx="13716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555920" y="4691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555920" y="508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260440" y="46702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936800" y="4560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7358040" y="5442120"/>
          <a:ext cx="2667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8040" y="5442120"/>
                    <a:ext cx="2667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"/>
          <p:cNvGraphicFramePr/>
          <p:nvPr/>
        </p:nvGraphicFramePr>
        <p:xfrm>
          <a:off x="1957320" y="4718160"/>
          <a:ext cx="3096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7320" y="4718160"/>
                    <a:ext cx="309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"/>
          <p:cNvSpPr/>
          <p:nvPr/>
        </p:nvSpPr>
        <p:spPr>
          <a:xfrm>
            <a:off x="3232080" y="456084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38720" y="47563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129440" y="4832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129440" y="5213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116760" y="5899320"/>
            <a:ext cx="990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107120" y="59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107120" y="6356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697880" y="598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205760" y="4756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048440" y="4319640"/>
          <a:ext cx="68904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48440" y="4319640"/>
                    <a:ext cx="689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 flipV="1">
            <a:off x="8043840" y="4831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8272440" y="4832280"/>
          <a:ext cx="3808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72440" y="483228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2089080" y="4103640"/>
          <a:ext cx="222480" cy="2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9080" y="4103640"/>
                    <a:ext cx="222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7259760" y="5899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869240" y="597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69240" y="635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8021520" y="597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8186760" y="5964120"/>
          <a:ext cx="76212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86760" y="5964120"/>
                    <a:ext cx="7621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6138720" y="4756320"/>
            <a:ext cx="262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00360" y="4692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2176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3440" y="5996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16760" y="5899320"/>
            <a:ext cx="261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3014640" y="5518080"/>
          <a:ext cx="160020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14640" y="5518080"/>
                    <a:ext cx="1600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036080" y="30034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224680" y="5899320"/>
            <a:ext cx="4564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4033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4033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301000" y="4756320"/>
            <a:ext cx="4564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4033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4033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529240" y="5060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529240" y="620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891560" y="4832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891560" y="521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38920" y="5165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62960" y="593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672320" y="6308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900080" y="4651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919160" y="504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738920" y="4797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2682600">
            <a:off x="3101040" y="440532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700440" y="4832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406600" y="9460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2732040" y="3622680"/>
            <a:ext cx="914400" cy="431280"/>
            <a:chOff x="2732040" y="3622680"/>
            <a:chExt cx="914400" cy="431280"/>
          </a:xfrm>
        </p:grpSpPr>
        <p:sp>
          <p:nvSpPr>
            <p:cNvPr id="1008" name=""/>
            <p:cNvSpPr/>
            <p:nvPr/>
          </p:nvSpPr>
          <p:spPr>
            <a:xfrm>
              <a:off x="2824200" y="376380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63880" y="37587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06440" y="376200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54400" y="377460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02000" y="377460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2040" y="362268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63920" y="381132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78120" y="376380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834160" y="3689280"/>
            <a:ext cx="914400" cy="432000"/>
            <a:chOff x="5834160" y="3689280"/>
            <a:chExt cx="914400" cy="432000"/>
          </a:xfrm>
        </p:grpSpPr>
        <p:sp>
          <p:nvSpPr>
            <p:cNvPr id="1017" name=""/>
            <p:cNvSpPr/>
            <p:nvPr/>
          </p:nvSpPr>
          <p:spPr>
            <a:xfrm>
              <a:off x="5926320" y="38307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066000" y="38257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208560" y="38289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356520" y="3841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04120" y="3841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834160" y="36892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66040" y="38782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80240" y="38307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898560" y="646200"/>
            <a:ext cx="7864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transducer acting as a pi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responses with theoretical predictions in a reference experiment,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362320" y="2209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48120" y="2209680"/>
            <a:ext cx="152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88920" y="350532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quasi-plane wave assumption va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130040" y="4608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695680" y="4451400"/>
          <a:ext cx="36669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4451400"/>
                    <a:ext cx="3666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"/>
          <p:cNvSpPr/>
          <p:nvPr/>
        </p:nvSpPr>
        <p:spPr>
          <a:xfrm>
            <a:off x="1129320" y="5979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2590920" y="5562720"/>
          <a:ext cx="421632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562720"/>
                    <a:ext cx="421632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"/>
          <p:cNvSpPr/>
          <p:nvPr/>
        </p:nvSpPr>
        <p:spPr>
          <a:xfrm>
            <a:off x="6613560" y="4532400"/>
            <a:ext cx="22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puted with a non-paraxial bea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038480" y="2286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52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3526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352680" y="1676520"/>
            <a:ext cx="914400" cy="431280"/>
            <a:chOff x="3352680" y="1676520"/>
            <a:chExt cx="914400" cy="431280"/>
          </a:xfrm>
        </p:grpSpPr>
        <p:sp>
          <p:nvSpPr>
            <p:cNvPr id="1042" name=""/>
            <p:cNvSpPr/>
            <p:nvPr/>
          </p:nvSpPr>
          <p:spPr>
            <a:xfrm>
              <a:off x="3444840" y="181764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84520" y="181260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27080" y="181584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75040" y="18284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22640" y="18284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52680" y="167652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84560" y="186516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98760" y="181764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504800" y="66348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mall flaw assumption va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30040" y="1498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666880" y="1309680"/>
          <a:ext cx="29862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09680"/>
                    <a:ext cx="2986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"/>
          <p:cNvSpPr/>
          <p:nvPr/>
        </p:nvSpPr>
        <p:spPr>
          <a:xfrm>
            <a:off x="1205640" y="23367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2470320" y="2496960"/>
          <a:ext cx="32130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0320" y="2496960"/>
                    <a:ext cx="3213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"/>
          <p:cNvSpPr/>
          <p:nvPr/>
        </p:nvSpPr>
        <p:spPr>
          <a:xfrm>
            <a:off x="6098400" y="2604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-D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81240" y="3251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1" name=""/>
          <p:cNvGraphicFramePr/>
          <p:nvPr/>
        </p:nvGraphicFramePr>
        <p:xfrm>
          <a:off x="1828800" y="3367080"/>
          <a:ext cx="417672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367080"/>
                    <a:ext cx="4176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3" name=""/>
          <p:cNvSpPr/>
          <p:nvPr/>
        </p:nvSpPr>
        <p:spPr>
          <a:xfrm>
            <a:off x="6175800" y="3672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ylindrical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677520" y="7128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supporting measurement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92040" y="1471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219320" y="208116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in separat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220040" y="314784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ty,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23640" y="375768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in separate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44080" y="459576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ducer effective radius, foc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525680" y="5506920"/>
            <a:ext cx="1295280" cy="6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13449000">
            <a:off x="2685600" y="537516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819520" y="5510160"/>
            <a:ext cx="29718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808360" y="5433480"/>
            <a:ext cx="2982960" cy="7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133720" y="5815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297160" y="5498640"/>
            <a:ext cx="11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981080" y="5510160"/>
          <a:ext cx="25092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510160"/>
                    <a:ext cx="250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"/>
          <p:cNvGraphicFramePr/>
          <p:nvPr/>
        </p:nvGraphicFramePr>
        <p:xfrm>
          <a:off x="3429000" y="5281560"/>
          <a:ext cx="33660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281560"/>
                    <a:ext cx="336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/>
          <p:nvPr/>
        </p:nvSpPr>
        <p:spPr>
          <a:xfrm flipH="1" flipV="1">
            <a:off x="2841120" y="5521320"/>
            <a:ext cx="119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20560" y="9032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87240" y="1851120"/>
            <a:ext cx="794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asurement model form is available suitable for simulating most NDE insp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these models useful one needs to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rasonic beam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w scatter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determination of essenti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ll these elements are available one has a very powerful tool for designing tests, optimizing components, and replacing expensive experimental proced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8200" y="83808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acoustic Measurement Model -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320" y="137088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ang, C. J., Schmerr, L.W., and A. Sedov," Modeling and measuring all the elements of an ultrasonic nondestr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evaluation system. I: Modeling Foundations," Research in Nondestructive Evaluation, 14, 141- 176,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027320"/>
            <a:ext cx="960480" cy="118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5237600">
            <a:off x="4263120" y="4548240"/>
            <a:ext cx="236520" cy="4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57880" y="4676760"/>
            <a:ext cx="38088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5240" y="486576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403880" y="438300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5200" y="410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162240" y="3747960"/>
            <a:ext cx="914400" cy="432000"/>
            <a:chOff x="3162240" y="3747960"/>
            <a:chExt cx="914400" cy="432000"/>
          </a:xfrm>
        </p:grpSpPr>
        <p:sp>
          <p:nvSpPr>
            <p:cNvPr id="114" name=""/>
            <p:cNvSpPr/>
            <p:nvPr/>
          </p:nvSpPr>
          <p:spPr>
            <a:xfrm>
              <a:off x="3254400" y="388944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94080" y="388440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6640" y="388764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84600" y="3900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2200" y="3900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62240" y="374796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4120" y="393696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8320" y="388944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15080" y="3747960"/>
            <a:ext cx="914400" cy="432000"/>
            <a:chOff x="4915080" y="3747960"/>
            <a:chExt cx="914400" cy="432000"/>
          </a:xfrm>
        </p:grpSpPr>
        <p:sp>
          <p:nvSpPr>
            <p:cNvPr id="123" name=""/>
            <p:cNvSpPr/>
            <p:nvPr/>
          </p:nvSpPr>
          <p:spPr>
            <a:xfrm>
              <a:off x="5007240" y="388944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46920" y="388440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89480" y="388764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7440" y="3900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5040" y="3900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5080" y="374796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46960" y="393696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61160" y="388944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71680" y="4510080"/>
            <a:ext cx="304560" cy="30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23960" y="48146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23960" y="4281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960" y="4281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960" y="504360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52560" y="4205160"/>
            <a:ext cx="222120" cy="13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1160" y="4281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6080" y="4129200"/>
            <a:ext cx="5331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2243160" y="4230720"/>
            <a:ext cx="1036800" cy="874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9240" y="4281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9240" y="50436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76440" y="42814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4510080"/>
            <a:ext cx="123840" cy="25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69160" y="4487760"/>
            <a:ext cx="304560" cy="30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121440" y="479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121440" y="4258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21440" y="42591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121440" y="5016240"/>
            <a:ext cx="7542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50040" y="4183200"/>
            <a:ext cx="222120" cy="13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78640" y="42591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83560" y="4106880"/>
            <a:ext cx="5331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560360" y="4272840"/>
            <a:ext cx="1060560" cy="73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6720" y="42591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16720" y="5021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73920" y="425916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08760" y="4487760"/>
            <a:ext cx="123840" cy="25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760" y="3824280"/>
            <a:ext cx="99072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65120" y="3824280"/>
            <a:ext cx="76536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47840" y="3824280"/>
            <a:ext cx="83844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9760" y="5460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20840" y="5460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12200" y="541008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34160" y="3843360"/>
            <a:ext cx="838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0240" y="3843360"/>
            <a:ext cx="74304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720" y="3843360"/>
            <a:ext cx="838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5240" y="54864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47120" y="55767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84480" y="55767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6280" y="466236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48240" y="4662360"/>
            <a:ext cx="3812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0120" y="601992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pag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law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40560" y="4641840"/>
            <a:ext cx="5335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8080" y="2590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868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0028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9064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62908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21036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2476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039160" y="321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280" y="32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762440" y="32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98880" y="3008160"/>
          <a:ext cx="60012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3008160"/>
                    <a:ext cx="6001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238560" y="3824280"/>
            <a:ext cx="247176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05920" y="4038480"/>
          <a:ext cx="67284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038480"/>
                    <a:ext cx="672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038480" y="5667480"/>
          <a:ext cx="685800" cy="42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5667480"/>
                    <a:ext cx="6858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514600" y="1905120"/>
          <a:ext cx="3998880" cy="97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905120"/>
                    <a:ext cx="39988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457200" y="6095520"/>
            <a:ext cx="2895480" cy="228960"/>
            <a:chOff x="457200" y="6095520"/>
            <a:chExt cx="2895480" cy="228960"/>
          </a:xfrm>
        </p:grpSpPr>
        <p:sp>
          <p:nvSpPr>
            <p:cNvPr id="193" name=""/>
            <p:cNvSpPr/>
            <p:nvPr/>
          </p:nvSpPr>
          <p:spPr>
            <a:xfrm>
              <a:off x="457200" y="63244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7200" y="609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352680" y="609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791320" y="6171840"/>
            <a:ext cx="2895480" cy="228960"/>
            <a:chOff x="5791320" y="6171840"/>
            <a:chExt cx="2895480" cy="228960"/>
          </a:xfrm>
        </p:grpSpPr>
        <p:sp>
          <p:nvSpPr>
            <p:cNvPr id="197" name=""/>
            <p:cNvSpPr/>
            <p:nvPr/>
          </p:nvSpPr>
          <p:spPr>
            <a:xfrm>
              <a:off x="5791320" y="64008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791320" y="617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86800" y="617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1589040" y="6389640"/>
          <a:ext cx="66060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89040" y="6389640"/>
                    <a:ext cx="660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858000" y="6445080"/>
          <a:ext cx="660240" cy="4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6445080"/>
                    <a:ext cx="660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808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3886200"/>
          <a:ext cx="68580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886200"/>
                    <a:ext cx="6858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flipV="1">
            <a:off x="3808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9680" y="26272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vol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25360" y="57150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33240" y="83808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d Electromechanical Reciprocity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371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d (1979) , using reciprocity relations and the solutions to two specific problems, developed an explicit relation that has been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814920"/>
            <a:ext cx="96048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5237600">
            <a:off x="2548440" y="4335480"/>
            <a:ext cx="236520" cy="4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043520"/>
            <a:ext cx="334800" cy="29340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83840" y="4051440"/>
            <a:ext cx="335160" cy="29340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8560" y="433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770280"/>
            <a:ext cx="96048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998880"/>
            <a:ext cx="335160" cy="29376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123400" y="4006800"/>
            <a:ext cx="334800" cy="29376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314840" y="42670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0720" y="3168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5520" y="32004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44640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4600" y="48769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43200" y="4159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0880" y="389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06600" y="5470560"/>
            <a:ext cx="26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A fi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w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2320" y="5486400"/>
            <a:ext cx="256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B fi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w ab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1840" y="26668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3581280"/>
            <a:ext cx="914400" cy="432000"/>
            <a:chOff x="1447920" y="3581280"/>
            <a:chExt cx="914400" cy="432000"/>
          </a:xfrm>
        </p:grpSpPr>
        <p:sp>
          <p:nvSpPr>
            <p:cNvPr id="231" name=""/>
            <p:cNvSpPr/>
            <p:nvPr/>
          </p:nvSpPr>
          <p:spPr>
            <a:xfrm>
              <a:off x="1540080" y="37227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9760" y="37177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2320" y="37209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028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788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7920" y="35812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79800" y="37702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94000" y="37227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276720" y="3581280"/>
            <a:ext cx="914400" cy="432000"/>
            <a:chOff x="3276720" y="3581280"/>
            <a:chExt cx="914400" cy="432000"/>
          </a:xfrm>
        </p:grpSpPr>
        <p:sp>
          <p:nvSpPr>
            <p:cNvPr id="240" name=""/>
            <p:cNvSpPr/>
            <p:nvPr/>
          </p:nvSpPr>
          <p:spPr>
            <a:xfrm>
              <a:off x="3368880" y="37227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8560" y="37177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1120" y="37209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9908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668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720" y="35812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08600" y="37702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22800" y="37227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57800" y="3505320"/>
            <a:ext cx="914400" cy="431280"/>
            <a:chOff x="5257800" y="3505320"/>
            <a:chExt cx="914400" cy="431280"/>
          </a:xfrm>
        </p:grpSpPr>
        <p:sp>
          <p:nvSpPr>
            <p:cNvPr id="249" name=""/>
            <p:cNvSpPr/>
            <p:nvPr/>
          </p:nvSpPr>
          <p:spPr>
            <a:xfrm>
              <a:off x="5349960" y="364644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9640" y="364140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32200" y="364464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0160" y="36572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27760" y="36572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350532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369396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03880" y="364644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38880" y="3581280"/>
            <a:ext cx="914400" cy="432000"/>
            <a:chOff x="7238880" y="3581280"/>
            <a:chExt cx="914400" cy="432000"/>
          </a:xfrm>
        </p:grpSpPr>
        <p:sp>
          <p:nvSpPr>
            <p:cNvPr id="258" name=""/>
            <p:cNvSpPr/>
            <p:nvPr/>
          </p:nvSpPr>
          <p:spPr>
            <a:xfrm>
              <a:off x="7331040" y="37227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70720" y="37177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3280" y="37209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6124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37335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38880" y="35812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0760" y="37702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84960" y="37227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20896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A. Auld, Wave Motion,, Vol. 1, (1979), pp. 3-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14280" y="4165560"/>
            <a:ext cx="522000" cy="368280"/>
            <a:chOff x="1214280" y="4165560"/>
            <a:chExt cx="522000" cy="368280"/>
          </a:xfrm>
        </p:grpSpPr>
        <p:grpSp>
          <p:nvGrpSpPr>
            <p:cNvPr id="270" name=""/>
            <p:cNvGrpSpPr/>
            <p:nvPr/>
          </p:nvGrpSpPr>
          <p:grpSpPr>
            <a:xfrm>
              <a:off x="1214280" y="4219560"/>
              <a:ext cx="522000" cy="277560"/>
              <a:chOff x="1214280" y="4219560"/>
              <a:chExt cx="522000" cy="277560"/>
            </a:xfrm>
          </p:grpSpPr>
          <p:sp>
            <p:nvSpPr>
              <p:cNvPr id="271" name=""/>
              <p:cNvSpPr/>
              <p:nvPr/>
            </p:nvSpPr>
            <p:spPr>
              <a:xfrm>
                <a:off x="1334520" y="4219560"/>
                <a:ext cx="40176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94560" y="429876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54240" y="431856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14280" y="429876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366560" y="4165560"/>
              <a:ext cx="3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276880" y="4110120"/>
            <a:ext cx="522000" cy="368280"/>
            <a:chOff x="5276880" y="4110120"/>
            <a:chExt cx="522000" cy="368280"/>
          </a:xfrm>
        </p:grpSpPr>
        <p:grpSp>
          <p:nvGrpSpPr>
            <p:cNvPr id="277" name=""/>
            <p:cNvGrpSpPr/>
            <p:nvPr/>
          </p:nvGrpSpPr>
          <p:grpSpPr>
            <a:xfrm>
              <a:off x="5276880" y="4164120"/>
              <a:ext cx="522000" cy="277560"/>
              <a:chOff x="5276880" y="4164120"/>
              <a:chExt cx="522000" cy="277560"/>
            </a:xfrm>
          </p:grpSpPr>
          <p:sp>
            <p:nvSpPr>
              <p:cNvPr id="278" name=""/>
              <p:cNvSpPr/>
              <p:nvPr/>
            </p:nvSpPr>
            <p:spPr>
              <a:xfrm>
                <a:off x="5397120" y="4164120"/>
                <a:ext cx="40176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57160" y="424332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316840" y="426312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76880" y="424332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5429160" y="4110120"/>
              <a:ext cx="3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02520" y="4133880"/>
            <a:ext cx="521640" cy="368280"/>
            <a:chOff x="3602520" y="4133880"/>
            <a:chExt cx="521640" cy="368280"/>
          </a:xfrm>
        </p:grpSpPr>
        <p:grpSp>
          <p:nvGrpSpPr>
            <p:cNvPr id="284" name=""/>
            <p:cNvGrpSpPr/>
            <p:nvPr/>
          </p:nvGrpSpPr>
          <p:grpSpPr>
            <a:xfrm>
              <a:off x="3602520" y="4194000"/>
              <a:ext cx="521640" cy="277920"/>
              <a:chOff x="3602520" y="4194000"/>
              <a:chExt cx="521640" cy="27792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3602160" y="4194000"/>
                <a:ext cx="40140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004640" y="427320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044600" y="429300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084560" y="427320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644640" y="413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648560" y="4086360"/>
            <a:ext cx="522000" cy="368280"/>
            <a:chOff x="7648560" y="4086360"/>
            <a:chExt cx="522000" cy="368280"/>
          </a:xfrm>
        </p:grpSpPr>
        <p:grpSp>
          <p:nvGrpSpPr>
            <p:cNvPr id="291" name=""/>
            <p:cNvGrpSpPr/>
            <p:nvPr/>
          </p:nvGrpSpPr>
          <p:grpSpPr>
            <a:xfrm>
              <a:off x="7648560" y="4146480"/>
              <a:ext cx="522000" cy="277920"/>
              <a:chOff x="7648560" y="4146480"/>
              <a:chExt cx="522000" cy="27792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7648560" y="4146480"/>
                <a:ext cx="40176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8050680" y="422568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8091000" y="424548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8130960" y="422568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7691760" y="4086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08160" y="3124080"/>
            <a:ext cx="4572000" cy="106704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1447920"/>
            <a:ext cx="96048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5237600">
            <a:off x="4529520" y="1969200"/>
            <a:ext cx="236880" cy="4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80000" y="196848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20970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12000" y="25542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70280" y="18032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11960" y="152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19640" y="198288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68880" y="1971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703240" y="1960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43280" y="1601640"/>
            <a:ext cx="761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33240" y="76212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d Electromechanical Reciprocity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7676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781680" y="1447920"/>
          <a:ext cx="2793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447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809880" y="2057400"/>
          <a:ext cx="266760" cy="2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057400"/>
                    <a:ext cx="2667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286000" y="3200400"/>
          <a:ext cx="4348080" cy="9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200400"/>
                    <a:ext cx="43480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994320" y="4343400"/>
            <a:ext cx="79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able transmission coefficient due to the presence of the f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power delivered by the 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33520" y="5334120"/>
          <a:ext cx="83808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5334120"/>
                    <a:ext cx="8380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598040" y="5410080"/>
            <a:ext cx="69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vector and velocity for problem (1) : A firing and flaw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33520" y="5867280"/>
          <a:ext cx="83808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867280"/>
                    <a:ext cx="838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04880" y="5791320"/>
            <a:ext cx="68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vector and velocity for problem (2): B firing and flaw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84840" y="1969920"/>
            <a:ext cx="489240" cy="1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24080" y="1219320"/>
            <a:ext cx="914400" cy="431280"/>
            <a:chOff x="3124080" y="1219320"/>
            <a:chExt cx="914400" cy="431280"/>
          </a:xfrm>
        </p:grpSpPr>
        <p:sp>
          <p:nvSpPr>
            <p:cNvPr id="326" name=""/>
            <p:cNvSpPr/>
            <p:nvPr/>
          </p:nvSpPr>
          <p:spPr>
            <a:xfrm>
              <a:off x="3216240" y="136044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5920" y="135540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8480" y="135864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46440" y="13712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94040" y="137124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24080" y="121932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55960" y="140796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70160" y="136044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77040" y="1274760"/>
            <a:ext cx="914400" cy="431280"/>
            <a:chOff x="5477040" y="1274760"/>
            <a:chExt cx="914400" cy="431280"/>
          </a:xfrm>
        </p:grpSpPr>
        <p:sp>
          <p:nvSpPr>
            <p:cNvPr id="335" name=""/>
            <p:cNvSpPr/>
            <p:nvPr/>
          </p:nvSpPr>
          <p:spPr>
            <a:xfrm>
              <a:off x="5569200" y="141588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08880" y="141084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51440" y="141408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9400" y="142668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47000" y="142668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7040" y="127476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08920" y="146340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23120" y="141588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186000" y="1784520"/>
            <a:ext cx="522000" cy="368280"/>
            <a:chOff x="3186000" y="1784520"/>
            <a:chExt cx="522000" cy="368280"/>
          </a:xfrm>
        </p:grpSpPr>
        <p:grpSp>
          <p:nvGrpSpPr>
            <p:cNvPr id="346" name=""/>
            <p:cNvGrpSpPr/>
            <p:nvPr/>
          </p:nvGrpSpPr>
          <p:grpSpPr>
            <a:xfrm>
              <a:off x="3186000" y="1838520"/>
              <a:ext cx="522000" cy="277560"/>
              <a:chOff x="3186000" y="1838520"/>
              <a:chExt cx="522000" cy="277560"/>
            </a:xfrm>
          </p:grpSpPr>
          <p:sp>
            <p:nvSpPr>
              <p:cNvPr id="347" name=""/>
              <p:cNvSpPr/>
              <p:nvPr/>
            </p:nvSpPr>
            <p:spPr>
              <a:xfrm>
                <a:off x="3306240" y="1838520"/>
                <a:ext cx="40176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66280" y="191772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25960" y="193752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186000" y="191772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338280" y="1784520"/>
              <a:ext cx="3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590080" y="1792440"/>
            <a:ext cx="521640" cy="368280"/>
            <a:chOff x="5590080" y="1792440"/>
            <a:chExt cx="521640" cy="368280"/>
          </a:xfrm>
        </p:grpSpPr>
        <p:grpSp>
          <p:nvGrpSpPr>
            <p:cNvPr id="353" name=""/>
            <p:cNvGrpSpPr/>
            <p:nvPr/>
          </p:nvGrpSpPr>
          <p:grpSpPr>
            <a:xfrm>
              <a:off x="5590080" y="1852560"/>
              <a:ext cx="521640" cy="277920"/>
              <a:chOff x="5590080" y="1852560"/>
              <a:chExt cx="521640" cy="27792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5589720" y="1852560"/>
                <a:ext cx="40140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992200" y="193176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032160" y="195156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072120" y="193176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632200" y="1792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828800" y="3276720"/>
            <a:ext cx="5105520" cy="10666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4800600"/>
            <a:ext cx="7620120" cy="685800"/>
          </a:xfrm>
          <a:prstGeom prst="rect">
            <a:avLst/>
          </a:prstGeom>
          <a:solidFill>
            <a:srgbClr val="e9f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91120" y="1752480"/>
            <a:ext cx="960480" cy="118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5237600">
            <a:off x="4529520" y="2273400"/>
            <a:ext cx="236520" cy="4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227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240192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35680" y="27432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670280" y="210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11960" y="183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228744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068880" y="2276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03240" y="2265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43280" y="1906560"/>
            <a:ext cx="761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9560" y="91440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d Electromechanical Reciprocity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47676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781680" y="1752480"/>
          <a:ext cx="2793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752480"/>
                    <a:ext cx="2793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809880" y="2362320"/>
          <a:ext cx="26676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362320"/>
                    <a:ext cx="2667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914400" y="4267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d's assum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linear, reciprocal electromechanical system (harmonic disturb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fundamental TEM mode propagating in the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93600" y="5715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we ex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971800" y="5638680"/>
          <a:ext cx="18288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638680"/>
                    <a:ext cx="18288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4957200" y="56386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d's relation "essentially"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79560" y="605628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ltrasonic measure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84840" y="2274840"/>
            <a:ext cx="489240" cy="11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16080" y="1446120"/>
            <a:ext cx="914400" cy="432000"/>
            <a:chOff x="3016080" y="1446120"/>
            <a:chExt cx="914400" cy="432000"/>
          </a:xfrm>
        </p:grpSpPr>
        <p:sp>
          <p:nvSpPr>
            <p:cNvPr id="386" name=""/>
            <p:cNvSpPr/>
            <p:nvPr/>
          </p:nvSpPr>
          <p:spPr>
            <a:xfrm>
              <a:off x="3108240" y="158760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7920" y="158256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90480" y="158580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38440" y="159840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86040" y="159840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6080" y="144612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47960" y="163512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62160" y="158760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24400" y="1488960"/>
            <a:ext cx="914400" cy="432000"/>
            <a:chOff x="5324400" y="1488960"/>
            <a:chExt cx="914400" cy="432000"/>
          </a:xfrm>
        </p:grpSpPr>
        <p:sp>
          <p:nvSpPr>
            <p:cNvPr id="395" name=""/>
            <p:cNvSpPr/>
            <p:nvPr/>
          </p:nvSpPr>
          <p:spPr>
            <a:xfrm>
              <a:off x="5416560" y="163044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56240" y="162540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98800" y="162864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46760" y="1641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94360" y="164124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24400" y="148896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56280" y="167796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70480" y="163044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218040" y="2081160"/>
            <a:ext cx="521640" cy="368280"/>
            <a:chOff x="3218040" y="2081160"/>
            <a:chExt cx="521640" cy="368280"/>
          </a:xfrm>
        </p:grpSpPr>
        <p:grpSp>
          <p:nvGrpSpPr>
            <p:cNvPr id="406" name=""/>
            <p:cNvGrpSpPr/>
            <p:nvPr/>
          </p:nvGrpSpPr>
          <p:grpSpPr>
            <a:xfrm>
              <a:off x="3218040" y="2135160"/>
              <a:ext cx="521640" cy="277560"/>
              <a:chOff x="3218040" y="2135160"/>
              <a:chExt cx="521640" cy="277560"/>
            </a:xfrm>
          </p:grpSpPr>
          <p:sp>
            <p:nvSpPr>
              <p:cNvPr id="407" name=""/>
              <p:cNvSpPr/>
              <p:nvPr/>
            </p:nvSpPr>
            <p:spPr>
              <a:xfrm>
                <a:off x="3338280" y="2135160"/>
                <a:ext cx="40140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297960" y="221436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258000" y="223416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18040" y="221436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369960" y="20811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87920" y="2089080"/>
            <a:ext cx="522000" cy="368280"/>
            <a:chOff x="5587920" y="2089080"/>
            <a:chExt cx="522000" cy="368280"/>
          </a:xfrm>
        </p:grpSpPr>
        <p:grpSp>
          <p:nvGrpSpPr>
            <p:cNvPr id="413" name=""/>
            <p:cNvGrpSpPr/>
            <p:nvPr/>
          </p:nvGrpSpPr>
          <p:grpSpPr>
            <a:xfrm>
              <a:off x="5587920" y="2149200"/>
              <a:ext cx="522000" cy="277920"/>
              <a:chOff x="5587920" y="2149200"/>
              <a:chExt cx="522000" cy="27792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5587920" y="2149200"/>
                <a:ext cx="40176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90040" y="222840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030360" y="224820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070320" y="222840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631120" y="2089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9" name=""/>
          <p:cNvGraphicFramePr/>
          <p:nvPr/>
        </p:nvGraphicFramePr>
        <p:xfrm>
          <a:off x="2286000" y="3352680"/>
          <a:ext cx="4348080" cy="94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352680"/>
                    <a:ext cx="43480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987560" y="99072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Reciprocity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4640" y="1582560"/>
            <a:ext cx="76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98, Dang, Schmerr, and Sedov obtained a completely explicit model relationship using a pur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chanical recipro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 plus several other relatively weak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" y="5392800"/>
            <a:ext cx="7925040" cy="129528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879480" y="5508720"/>
          <a:ext cx="72817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5508720"/>
                    <a:ext cx="72817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2122560" y="3251160"/>
            <a:ext cx="96048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5237600">
            <a:off x="2461320" y="3772080"/>
            <a:ext cx="236520" cy="4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3479760"/>
            <a:ext cx="335160" cy="29376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997440" y="3487680"/>
            <a:ext cx="334800" cy="29376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11440" y="377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61040" y="3206880"/>
            <a:ext cx="960480" cy="11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65760" y="3435480"/>
            <a:ext cx="334800" cy="29340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035920" y="3443400"/>
            <a:ext cx="334800" cy="29340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288"/>
                </a:moveTo>
                <a:cubicBezTo>
                  <a:pt x="280" y="296"/>
                  <a:pt x="281" y="298"/>
                  <a:pt x="224" y="264"/>
                </a:cubicBezTo>
                <a:cubicBezTo>
                  <a:pt x="196" y="222"/>
                  <a:pt x="178" y="177"/>
                  <a:pt x="152" y="136"/>
                </a:cubicBezTo>
                <a:cubicBezTo>
                  <a:pt x="145" y="125"/>
                  <a:pt x="144" y="112"/>
                  <a:pt x="136" y="104"/>
                </a:cubicBezTo>
                <a:cubicBezTo>
                  <a:pt x="114" y="84"/>
                  <a:pt x="84" y="76"/>
                  <a:pt x="64" y="56"/>
                </a:cubicBezTo>
                <a:cubicBezTo>
                  <a:pt x="50" y="42"/>
                  <a:pt x="38" y="28"/>
                  <a:pt x="24" y="16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227360" y="37036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93600" y="260496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25840" y="26258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21800" y="3973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78040" y="3876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55720" y="390060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95720" y="431316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62200" y="4008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15200" y="3921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655720" y="359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400" y="33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84120" y="3030480"/>
            <a:ext cx="914400" cy="432000"/>
            <a:chOff x="1284120" y="3030480"/>
            <a:chExt cx="914400" cy="432000"/>
          </a:xfrm>
        </p:grpSpPr>
        <p:sp>
          <p:nvSpPr>
            <p:cNvPr id="446" name=""/>
            <p:cNvSpPr/>
            <p:nvPr/>
          </p:nvSpPr>
          <p:spPr>
            <a:xfrm>
              <a:off x="1376280" y="31719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15960" y="31669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58520" y="31701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6480" y="3182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54080" y="3182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84120" y="30304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16000" y="32194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30200" y="31719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89240" y="3030480"/>
            <a:ext cx="914400" cy="432000"/>
            <a:chOff x="3189240" y="3030480"/>
            <a:chExt cx="914400" cy="432000"/>
          </a:xfrm>
        </p:grpSpPr>
        <p:sp>
          <p:nvSpPr>
            <p:cNvPr id="455" name=""/>
            <p:cNvSpPr/>
            <p:nvPr/>
          </p:nvSpPr>
          <p:spPr>
            <a:xfrm>
              <a:off x="3281400" y="317196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21080" y="3166920"/>
              <a:ext cx="136440" cy="19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63640" y="3170160"/>
              <a:ext cx="13680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11600" y="3182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59200" y="3182760"/>
              <a:ext cx="137880" cy="18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9240" y="3030480"/>
              <a:ext cx="9144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21120" y="3219480"/>
              <a:ext cx="9036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35320" y="3171960"/>
              <a:ext cx="10944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11800" y="2975040"/>
            <a:ext cx="914400" cy="431280"/>
            <a:chOff x="5311800" y="2975040"/>
            <a:chExt cx="914400" cy="431280"/>
          </a:xfrm>
        </p:grpSpPr>
        <p:sp>
          <p:nvSpPr>
            <p:cNvPr id="464" name=""/>
            <p:cNvSpPr/>
            <p:nvPr/>
          </p:nvSpPr>
          <p:spPr>
            <a:xfrm>
              <a:off x="5403960" y="311616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43640" y="311112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86200" y="311436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34160" y="312696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81760" y="312696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1800" y="297504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43680" y="316368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57880" y="311616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097760" y="3029040"/>
            <a:ext cx="914400" cy="431280"/>
            <a:chOff x="7097760" y="3029040"/>
            <a:chExt cx="914400" cy="431280"/>
          </a:xfrm>
        </p:grpSpPr>
        <p:sp>
          <p:nvSpPr>
            <p:cNvPr id="473" name=""/>
            <p:cNvSpPr/>
            <p:nvPr/>
          </p:nvSpPr>
          <p:spPr>
            <a:xfrm>
              <a:off x="7189920" y="3170160"/>
              <a:ext cx="136440" cy="19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29600" y="3165120"/>
              <a:ext cx="136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72160" y="3168360"/>
              <a:ext cx="13680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0120" y="318096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67720" y="3180960"/>
              <a:ext cx="13788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97760" y="3029040"/>
              <a:ext cx="91440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29640" y="3217680"/>
              <a:ext cx="9036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3840" y="3170160"/>
              <a:ext cx="10944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149480" y="3576600"/>
            <a:ext cx="521640" cy="368280"/>
            <a:chOff x="1149480" y="3576600"/>
            <a:chExt cx="521640" cy="368280"/>
          </a:xfrm>
        </p:grpSpPr>
        <p:grpSp>
          <p:nvGrpSpPr>
            <p:cNvPr id="484" name=""/>
            <p:cNvGrpSpPr/>
            <p:nvPr/>
          </p:nvGrpSpPr>
          <p:grpSpPr>
            <a:xfrm>
              <a:off x="1149480" y="3630600"/>
              <a:ext cx="521640" cy="277560"/>
              <a:chOff x="1149480" y="3630600"/>
              <a:chExt cx="521640" cy="277560"/>
            </a:xfrm>
          </p:grpSpPr>
          <p:sp>
            <p:nvSpPr>
              <p:cNvPr id="485" name=""/>
              <p:cNvSpPr/>
              <p:nvPr/>
            </p:nvSpPr>
            <p:spPr>
              <a:xfrm>
                <a:off x="1269720" y="3630600"/>
                <a:ext cx="40140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229400" y="370980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89440" y="372960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49480" y="370980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1301400" y="357660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165640" y="3529080"/>
            <a:ext cx="522000" cy="368280"/>
            <a:chOff x="5165640" y="3529080"/>
            <a:chExt cx="522000" cy="368280"/>
          </a:xfrm>
        </p:grpSpPr>
        <p:grpSp>
          <p:nvGrpSpPr>
            <p:cNvPr id="491" name=""/>
            <p:cNvGrpSpPr/>
            <p:nvPr/>
          </p:nvGrpSpPr>
          <p:grpSpPr>
            <a:xfrm>
              <a:off x="5165640" y="3583080"/>
              <a:ext cx="522000" cy="277560"/>
              <a:chOff x="5165640" y="3583080"/>
              <a:chExt cx="522000" cy="277560"/>
            </a:xfrm>
          </p:grpSpPr>
          <p:sp>
            <p:nvSpPr>
              <p:cNvPr id="492" name=""/>
              <p:cNvSpPr/>
              <p:nvPr/>
            </p:nvSpPr>
            <p:spPr>
              <a:xfrm>
                <a:off x="5285880" y="3583080"/>
                <a:ext cx="401760" cy="277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5920" y="366228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05600" y="368208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65640" y="3662280"/>
                <a:ext cx="39240" cy="990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317920" y="3529080"/>
              <a:ext cx="3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481920" y="3576600"/>
            <a:ext cx="521640" cy="368280"/>
            <a:chOff x="3481920" y="3576600"/>
            <a:chExt cx="521640" cy="368280"/>
          </a:xfrm>
        </p:grpSpPr>
        <p:grpSp>
          <p:nvGrpSpPr>
            <p:cNvPr id="498" name=""/>
            <p:cNvGrpSpPr/>
            <p:nvPr/>
          </p:nvGrpSpPr>
          <p:grpSpPr>
            <a:xfrm>
              <a:off x="3481920" y="3636720"/>
              <a:ext cx="521640" cy="277920"/>
              <a:chOff x="3481920" y="3636720"/>
              <a:chExt cx="521640" cy="27792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3481560" y="3636720"/>
                <a:ext cx="40140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3884040" y="371592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3924000" y="373572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63960" y="371592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524040" y="3576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535880" y="3537000"/>
            <a:ext cx="522000" cy="368280"/>
            <a:chOff x="7535880" y="3537000"/>
            <a:chExt cx="522000" cy="368280"/>
          </a:xfrm>
        </p:grpSpPr>
        <p:grpSp>
          <p:nvGrpSpPr>
            <p:cNvPr id="505" name=""/>
            <p:cNvGrpSpPr/>
            <p:nvPr/>
          </p:nvGrpSpPr>
          <p:grpSpPr>
            <a:xfrm>
              <a:off x="7535880" y="3597120"/>
              <a:ext cx="522000" cy="277920"/>
              <a:chOff x="7535880" y="3597120"/>
              <a:chExt cx="522000" cy="2779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7535880" y="3597120"/>
                <a:ext cx="401760" cy="277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7938000" y="367632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978320" y="3696120"/>
                <a:ext cx="39240" cy="594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8018280" y="3676320"/>
                <a:ext cx="39240" cy="99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579080" y="353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46200" y="1179360"/>
            <a:ext cx="7924680" cy="1295640"/>
          </a:xfrm>
          <a:prstGeom prst="rect">
            <a:avLst/>
          </a:prstGeom>
          <a:solidFill>
            <a:srgbClr val="acb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90720" y="2895480"/>
          <a:ext cx="75708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57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838080" y="3657600"/>
          <a:ext cx="9907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9907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38080" y="4419720"/>
          <a:ext cx="106704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1067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2289960" y="297180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function (pulser, cabling,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75200" y="3747960"/>
            <a:ext cx="65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elocity over the face of transducer A in proble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91040" y="4495680"/>
            <a:ext cx="65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elocity over the face of transducer B in proble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816120" y="5257800"/>
          <a:ext cx="91440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6120" y="5257800"/>
                    <a:ext cx="9144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2275920" y="5218200"/>
            <a:ext cx="56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impedance of transducer A in proble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42960" y="15228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ltrasonic Measur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609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1295280"/>
          <a:ext cx="7282080" cy="10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295280"/>
                    <a:ext cx="72820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22:08:14Z</dcterms:created>
  <dc:creator>Les Schemerr</dc:creator>
  <dc:description/>
  <dc:language>en-US</dc:language>
  <cp:lastModifiedBy>Lester Schmerr</cp:lastModifiedBy>
  <dcterms:modified xsi:type="dcterms:W3CDTF">2006-03-27T21:27:40Z</dcterms:modified>
  <cp:revision>77</cp:revision>
  <dc:subject/>
  <dc:title>Slide 1</dc:title>
</cp:coreProperties>
</file>