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png" ContentType="image/png"/>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26.png" ContentType="image/png"/>
  <Override PartName="/ppt/media/image67.wmf" ContentType="image/x-wmf"/>
  <Override PartName="/ppt/media/image89.wmf" ContentType="image/x-wmf"/>
  <Override PartName="/ppt/media/image77.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29.wmf" ContentType="image/x-wmf"/>
  <Override PartName="/ppt/media/image68.wmf" ContentType="image/x-wmf"/>
  <Override PartName="/ppt/media/image31.wmf" ContentType="image/x-wmf"/>
  <Override PartName="/ppt/media/image70.wmf" ContentType="image/x-wmf"/>
  <Override PartName="/ppt/media/image28.wmf" ContentType="image/x-wmf"/>
  <Override PartName="/ppt/media/image24.wmf" ContentType="image/x-wmf"/>
  <Override PartName="/ppt/media/image25.wmf" ContentType="image/x-wmf"/>
  <Override PartName="/ppt/media/image2.wmf" ContentType="image/x-wmf"/>
  <Override PartName="/ppt/media/image14.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96155-4772-477B-B74A-6124F0B6D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ACEF-C277-4F65-8642-77D34F1D2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03EA6-BD2D-4805-B998-DBB1FF0C3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8F437-8DD0-4DB2-8356-98837E66E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F6A2-1098-4AC9-A913-060DB3477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0703-EFDD-410B-84F3-0A1D19685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E623-CB5D-4019-956B-368DFDBF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0C439-4DFC-4F29-B61E-AC3731ACD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2573-D8FE-4F7C-8AFD-9AC4C56B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FF81-98C4-4259-B273-4BFA2D68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3419-D4DD-4662-9686-8AA0E3D21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7A2E-76BB-4987-A1EE-FBD14D519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AF83-5982-481B-8AF5-B6619300C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oleObject" Target="../embeddings/oleObject3.bin"/><Relationship Id="rId8" Type="http://schemas.openxmlformats.org/officeDocument/2006/relationships/image" Target="../media/image36.wmf"/><Relationship Id="rId9" Type="http://schemas.openxmlformats.org/officeDocument/2006/relationships/oleObject" Target="../embeddings/oleObject4.bin"/><Relationship Id="rId10" Type="http://schemas.openxmlformats.org/officeDocument/2006/relationships/image" Target="../media/image3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0.wmf"/><Relationship Id="rId1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84.wmf"/><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99440" y="297180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Flaw Scattering Models</a:t>
            </a:r>
            <a:endParaRPr b="0" lang="en-US" sz="2400" spc="-1" strike="noStrike">
              <a:solidFill>
                <a:srgbClr val="000000"/>
              </a:solidFill>
              <a:latin typeface="Times New Roman"/>
            </a:endParaRPr>
          </a:p>
        </p:txBody>
      </p:sp>
      <p:sp>
        <p:nvSpPr>
          <p:cNvPr id="42" name=""/>
          <p:cNvSpPr/>
          <p:nvPr/>
        </p:nvSpPr>
        <p:spPr>
          <a:xfrm>
            <a:off x="2895480" y="1523880"/>
            <a:ext cx="2684520" cy="773280"/>
          </a:xfrm>
          <a:custGeom>
            <a:avLst/>
            <a:gdLst/>
            <a:ahLst/>
            <a:rect l="l" t="t" r="r" b="b"/>
            <a:pathLst>
              <a:path w="1691" h="487">
                <a:moveTo>
                  <a:pt x="0" y="257"/>
                </a:moveTo>
                <a:cubicBezTo>
                  <a:pt x="276" y="257"/>
                  <a:pt x="552" y="257"/>
                  <a:pt x="672" y="257"/>
                </a:cubicBezTo>
                <a:cubicBezTo>
                  <a:pt x="792" y="257"/>
                  <a:pt x="704" y="257"/>
                  <a:pt x="720" y="257"/>
                </a:cubicBezTo>
                <a:cubicBezTo>
                  <a:pt x="736" y="257"/>
                  <a:pt x="755" y="293"/>
                  <a:pt x="768" y="257"/>
                </a:cubicBezTo>
                <a:cubicBezTo>
                  <a:pt x="780" y="220"/>
                  <a:pt x="781" y="0"/>
                  <a:pt x="795" y="38"/>
                </a:cubicBezTo>
                <a:cubicBezTo>
                  <a:pt x="808" y="75"/>
                  <a:pt x="830" y="474"/>
                  <a:pt x="848" y="481"/>
                </a:cubicBezTo>
                <a:cubicBezTo>
                  <a:pt x="865" y="487"/>
                  <a:pt x="885" y="101"/>
                  <a:pt x="901" y="76"/>
                </a:cubicBezTo>
                <a:cubicBezTo>
                  <a:pt x="916" y="50"/>
                  <a:pt x="923" y="295"/>
                  <a:pt x="939" y="326"/>
                </a:cubicBezTo>
                <a:cubicBezTo>
                  <a:pt x="954" y="356"/>
                  <a:pt x="972" y="268"/>
                  <a:pt x="992" y="257"/>
                </a:cubicBezTo>
                <a:cubicBezTo>
                  <a:pt x="1011" y="245"/>
                  <a:pt x="939" y="257"/>
                  <a:pt x="1056" y="257"/>
                </a:cubicBezTo>
                <a:cubicBezTo>
                  <a:pt x="1172" y="257"/>
                  <a:pt x="1431" y="257"/>
                  <a:pt x="1691" y="257"/>
                </a:cubicBez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20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31240" y="1127160"/>
            <a:ext cx="612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Approximation for a Volumetric Flaw</a:t>
            </a:r>
            <a:endParaRPr b="0" lang="en-US" sz="2400" spc="-1" strike="noStrike">
              <a:solidFill>
                <a:srgbClr val="000000"/>
              </a:solidFill>
              <a:latin typeface="Times New Roman"/>
            </a:endParaRPr>
          </a:p>
        </p:txBody>
      </p:sp>
      <p:pic>
        <p:nvPicPr>
          <p:cNvPr id="204" name="" descr=""/>
          <p:cNvPicPr/>
          <p:nvPr/>
        </p:nvPicPr>
        <p:blipFill>
          <a:blip r:embed="rId1"/>
          <a:stretch/>
        </p:blipFill>
        <p:spPr>
          <a:xfrm>
            <a:off x="2168640" y="1868400"/>
            <a:ext cx="4800600" cy="3124440"/>
          </a:xfrm>
          <a:prstGeom prst="rect">
            <a:avLst/>
          </a:prstGeom>
          <a:ln w="0">
            <a:noFill/>
          </a:ln>
        </p:spPr>
      </p:pic>
      <p:sp>
        <p:nvSpPr>
          <p:cNvPr id="205" name=""/>
          <p:cNvSpPr/>
          <p:nvPr/>
        </p:nvSpPr>
        <p:spPr>
          <a:xfrm>
            <a:off x="965160" y="4917960"/>
            <a:ext cx="7255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lit" surface: fields are those from plane wav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ng with a plane surf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rest of the surface the fields are assumed to be z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20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27160" y="1338120"/>
            <a:ext cx="695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been recently shown that the pulse-echo scattering amplitude response,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a stress-free flaw (void or crack) in an elastic solid is identical to the scalar (fluid) scattering amplitude:</a:t>
            </a:r>
            <a:endParaRPr b="0" lang="en-US" sz="2400" spc="-1" strike="noStrike">
              <a:solidFill>
                <a:srgbClr val="000000"/>
              </a:solidFill>
              <a:latin typeface="Times New Roman"/>
            </a:endParaRPr>
          </a:p>
        </p:txBody>
      </p:sp>
      <p:sp>
        <p:nvSpPr>
          <p:cNvPr id="20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0" name=""/>
          <p:cNvGraphicFramePr/>
          <p:nvPr/>
        </p:nvGraphicFramePr>
        <p:xfrm>
          <a:off x="457200" y="3352680"/>
          <a:ext cx="7831080" cy="1028880"/>
        </p:xfrm>
        <a:graphic>
          <a:graphicData uri="http://schemas.openxmlformats.org/presentationml/2006/ole">
            <p:oleObj r:id="rId1" spid="">
              <p:embed/>
              <p:pic>
                <p:nvPicPr>
                  <p:cNvPr id="211" name="" descr=""/>
                  <p:cNvPicPr/>
                  <p:nvPr/>
                </p:nvPicPr>
                <p:blipFill>
                  <a:blip r:embed="rId2"/>
                  <a:stretch/>
                </p:blipFill>
                <p:spPr>
                  <a:xfrm>
                    <a:off x="457200" y="3352680"/>
                    <a:ext cx="7831080" cy="1028880"/>
                  </a:xfrm>
                  <a:prstGeom prst="rect">
                    <a:avLst/>
                  </a:prstGeom>
                  <a:ln w="0">
                    <a:noFill/>
                  </a:ln>
                </p:spPr>
              </p:pic>
            </p:oleObj>
          </a:graphicData>
        </a:graphic>
      </p:graphicFrame>
      <p:sp>
        <p:nvSpPr>
          <p:cNvPr id="212" name=""/>
          <p:cNvSpPr/>
          <p:nvPr/>
        </p:nvSpPr>
        <p:spPr>
          <a:xfrm>
            <a:off x="3794040" y="5018040"/>
            <a:ext cx="1338480" cy="1062000"/>
          </a:xfrm>
          <a:custGeom>
            <a:avLst/>
            <a:gdLst/>
            <a:ahLst/>
            <a:rect l="l" t="t" r="r" b="b"/>
            <a:pathLst>
              <a:path w="843" h="669">
                <a:moveTo>
                  <a:pt x="576" y="57"/>
                </a:moveTo>
                <a:cubicBezTo>
                  <a:pt x="501" y="78"/>
                  <a:pt x="441" y="81"/>
                  <a:pt x="360" y="86"/>
                </a:cubicBezTo>
                <a:cubicBezTo>
                  <a:pt x="316" y="101"/>
                  <a:pt x="289" y="149"/>
                  <a:pt x="252" y="165"/>
                </a:cubicBezTo>
                <a:cubicBezTo>
                  <a:pt x="198" y="188"/>
                  <a:pt x="234" y="161"/>
                  <a:pt x="195" y="180"/>
                </a:cubicBezTo>
                <a:cubicBezTo>
                  <a:pt x="136" y="209"/>
                  <a:pt x="119" y="273"/>
                  <a:pt x="101" y="331"/>
                </a:cubicBezTo>
                <a:cubicBezTo>
                  <a:pt x="95" y="399"/>
                  <a:pt x="109" y="421"/>
                  <a:pt x="58" y="453"/>
                </a:cubicBezTo>
                <a:cubicBezTo>
                  <a:pt x="38" y="516"/>
                  <a:pt x="66" y="439"/>
                  <a:pt x="36" y="489"/>
                </a:cubicBezTo>
                <a:cubicBezTo>
                  <a:pt x="32" y="496"/>
                  <a:pt x="32" y="504"/>
                  <a:pt x="29" y="511"/>
                </a:cubicBezTo>
                <a:cubicBezTo>
                  <a:pt x="25" y="519"/>
                  <a:pt x="20" y="526"/>
                  <a:pt x="15" y="533"/>
                </a:cubicBezTo>
                <a:cubicBezTo>
                  <a:pt x="24" y="638"/>
                  <a:pt x="0" y="590"/>
                  <a:pt x="51" y="633"/>
                </a:cubicBezTo>
                <a:cubicBezTo>
                  <a:pt x="56" y="637"/>
                  <a:pt x="59" y="645"/>
                  <a:pt x="65" y="648"/>
                </a:cubicBezTo>
                <a:cubicBezTo>
                  <a:pt x="74" y="653"/>
                  <a:pt x="84" y="652"/>
                  <a:pt x="94" y="655"/>
                </a:cubicBezTo>
                <a:cubicBezTo>
                  <a:pt x="108" y="659"/>
                  <a:pt x="137" y="669"/>
                  <a:pt x="137" y="669"/>
                </a:cubicBezTo>
                <a:cubicBezTo>
                  <a:pt x="207" y="667"/>
                  <a:pt x="277" y="668"/>
                  <a:pt x="346" y="662"/>
                </a:cubicBezTo>
                <a:cubicBezTo>
                  <a:pt x="374" y="659"/>
                  <a:pt x="376" y="622"/>
                  <a:pt x="382" y="605"/>
                </a:cubicBezTo>
                <a:cubicBezTo>
                  <a:pt x="395" y="564"/>
                  <a:pt x="426" y="518"/>
                  <a:pt x="468" y="504"/>
                </a:cubicBezTo>
                <a:cubicBezTo>
                  <a:pt x="519" y="469"/>
                  <a:pt x="586" y="466"/>
                  <a:pt x="641" y="439"/>
                </a:cubicBezTo>
                <a:cubicBezTo>
                  <a:pt x="679" y="421"/>
                  <a:pt x="711" y="387"/>
                  <a:pt x="749" y="374"/>
                </a:cubicBezTo>
                <a:cubicBezTo>
                  <a:pt x="773" y="352"/>
                  <a:pt x="798" y="333"/>
                  <a:pt x="821" y="309"/>
                </a:cubicBezTo>
                <a:cubicBezTo>
                  <a:pt x="843" y="242"/>
                  <a:pt x="843" y="121"/>
                  <a:pt x="792" y="57"/>
                </a:cubicBezTo>
                <a:cubicBezTo>
                  <a:pt x="787" y="50"/>
                  <a:pt x="750" y="18"/>
                  <a:pt x="742" y="14"/>
                </a:cubicBezTo>
                <a:cubicBezTo>
                  <a:pt x="729" y="7"/>
                  <a:pt x="699" y="0"/>
                  <a:pt x="699" y="0"/>
                </a:cubicBezTo>
                <a:cubicBezTo>
                  <a:pt x="665" y="2"/>
                  <a:pt x="631" y="1"/>
                  <a:pt x="598" y="7"/>
                </a:cubicBezTo>
                <a:cubicBezTo>
                  <a:pt x="587" y="9"/>
                  <a:pt x="516" y="80"/>
                  <a:pt x="576" y="57"/>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514600" y="48006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3176280" y="5087520"/>
            <a:ext cx="49212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2666520" y="457200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3309480" y="489600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7" name=""/>
          <p:cNvGraphicFramePr/>
          <p:nvPr/>
        </p:nvGraphicFramePr>
        <p:xfrm>
          <a:off x="2077920" y="4495680"/>
          <a:ext cx="351000" cy="478080"/>
        </p:xfrm>
        <a:graphic>
          <a:graphicData uri="http://schemas.openxmlformats.org/presentationml/2006/ole">
            <p:oleObj r:id="rId3" spid="">
              <p:embed/>
              <p:pic>
                <p:nvPicPr>
                  <p:cNvPr id="218" name="" descr=""/>
                  <p:cNvPicPr/>
                  <p:nvPr/>
                </p:nvPicPr>
                <p:blipFill>
                  <a:blip r:embed="rId4"/>
                  <a:stretch/>
                </p:blipFill>
                <p:spPr>
                  <a:xfrm>
                    <a:off x="2077920" y="4495680"/>
                    <a:ext cx="351000" cy="478080"/>
                  </a:xfrm>
                  <a:prstGeom prst="rect">
                    <a:avLst/>
                  </a:prstGeom>
                  <a:ln w="0">
                    <a:noFill/>
                  </a:ln>
                </p:spPr>
              </p:pic>
            </p:oleObj>
          </a:graphicData>
        </a:graphic>
      </p:graphicFrame>
      <p:graphicFrame>
        <p:nvGraphicFramePr>
          <p:cNvPr id="219" name=""/>
          <p:cNvGraphicFramePr/>
          <p:nvPr/>
        </p:nvGraphicFramePr>
        <p:xfrm>
          <a:off x="2438280" y="5715000"/>
          <a:ext cx="1067040" cy="450720"/>
        </p:xfrm>
        <a:graphic>
          <a:graphicData uri="http://schemas.openxmlformats.org/presentationml/2006/ole">
            <p:oleObj r:id="rId5" spid="">
              <p:embed/>
              <p:pic>
                <p:nvPicPr>
                  <p:cNvPr id="220" name="" descr=""/>
                  <p:cNvPicPr/>
                  <p:nvPr/>
                </p:nvPicPr>
                <p:blipFill>
                  <a:blip r:embed="rId6"/>
                  <a:stretch/>
                </p:blipFill>
                <p:spPr>
                  <a:xfrm>
                    <a:off x="2438280" y="5715000"/>
                    <a:ext cx="1067040" cy="45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181320" y="289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pherical Void</a:t>
            </a:r>
            <a:endParaRPr b="0" lang="en-US" sz="2400" spc="-1" strike="noStrike">
              <a:solidFill>
                <a:srgbClr val="000000"/>
              </a:solidFill>
              <a:latin typeface="Times New Roman"/>
            </a:endParaRPr>
          </a:p>
        </p:txBody>
      </p:sp>
      <p:sp>
        <p:nvSpPr>
          <p:cNvPr id="22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90600" y="1066680"/>
            <a:ext cx="531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ulse-echo response of a spher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of radius </a:t>
            </a: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aphicFrame>
        <p:nvGraphicFramePr>
          <p:cNvPr id="224" name=""/>
          <p:cNvGraphicFramePr/>
          <p:nvPr/>
        </p:nvGraphicFramePr>
        <p:xfrm>
          <a:off x="2057400" y="1905120"/>
          <a:ext cx="6553080" cy="853920"/>
        </p:xfrm>
        <a:graphic>
          <a:graphicData uri="http://schemas.openxmlformats.org/presentationml/2006/ole">
            <p:oleObj r:id="rId1" spid="">
              <p:embed/>
              <p:pic>
                <p:nvPicPr>
                  <p:cNvPr id="225" name="" descr=""/>
                  <p:cNvPicPr/>
                  <p:nvPr/>
                </p:nvPicPr>
                <p:blipFill>
                  <a:blip r:embed="rId2"/>
                  <a:stretch/>
                </p:blipFill>
                <p:spPr>
                  <a:xfrm>
                    <a:off x="2057400" y="1905120"/>
                    <a:ext cx="6553080" cy="853920"/>
                  </a:xfrm>
                  <a:prstGeom prst="rect">
                    <a:avLst/>
                  </a:prstGeom>
                  <a:ln w="0">
                    <a:noFill/>
                  </a:ln>
                </p:spPr>
              </p:pic>
            </p:oleObj>
          </a:graphicData>
        </a:graphic>
      </p:graphicFrame>
      <p:sp>
        <p:nvSpPr>
          <p:cNvPr id="226" name=""/>
          <p:cNvSpPr/>
          <p:nvPr/>
        </p:nvSpPr>
        <p:spPr>
          <a:xfrm>
            <a:off x="2895480" y="2666880"/>
            <a:ext cx="5181840" cy="389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68680" y="2955960"/>
            <a:ext cx="3997440" cy="31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564000" y="6119640"/>
            <a:ext cx="400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3564000" y="2951280"/>
            <a:ext cx="400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flipV="1">
            <a:off x="7570800" y="2950920"/>
            <a:ext cx="144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3564000" y="2950920"/>
            <a:ext cx="144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64000" y="6119640"/>
            <a:ext cx="400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flipV="1">
            <a:off x="3564000" y="2950920"/>
            <a:ext cx="144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3564000" y="607860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564000" y="29512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3529080" y="6138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7" name=""/>
          <p:cNvSpPr/>
          <p:nvPr/>
        </p:nvSpPr>
        <p:spPr>
          <a:xfrm flipV="1">
            <a:off x="4232160" y="607860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 name=""/>
          <p:cNvSpPr/>
          <p:nvPr/>
        </p:nvSpPr>
        <p:spPr>
          <a:xfrm>
            <a:off x="4232160" y="29512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9" name=""/>
          <p:cNvSpPr/>
          <p:nvPr/>
        </p:nvSpPr>
        <p:spPr>
          <a:xfrm>
            <a:off x="4195800" y="6138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40" name=""/>
          <p:cNvSpPr/>
          <p:nvPr/>
        </p:nvSpPr>
        <p:spPr>
          <a:xfrm flipV="1">
            <a:off x="4898880" y="607860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 name=""/>
          <p:cNvSpPr/>
          <p:nvPr/>
        </p:nvSpPr>
        <p:spPr>
          <a:xfrm>
            <a:off x="4898880" y="29512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 name=""/>
          <p:cNvSpPr/>
          <p:nvPr/>
        </p:nvSpPr>
        <p:spPr>
          <a:xfrm>
            <a:off x="482940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43" name=""/>
          <p:cNvSpPr/>
          <p:nvPr/>
        </p:nvSpPr>
        <p:spPr>
          <a:xfrm flipV="1">
            <a:off x="5567400" y="607860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4" name=""/>
          <p:cNvSpPr/>
          <p:nvPr/>
        </p:nvSpPr>
        <p:spPr>
          <a:xfrm>
            <a:off x="5567400" y="29512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549756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46" name=""/>
          <p:cNvSpPr/>
          <p:nvPr/>
        </p:nvSpPr>
        <p:spPr>
          <a:xfrm flipV="1">
            <a:off x="6235560" y="607860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7" name=""/>
          <p:cNvSpPr/>
          <p:nvPr/>
        </p:nvSpPr>
        <p:spPr>
          <a:xfrm>
            <a:off x="6235560" y="29512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616608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49" name=""/>
          <p:cNvSpPr/>
          <p:nvPr/>
        </p:nvSpPr>
        <p:spPr>
          <a:xfrm flipV="1">
            <a:off x="6904080" y="607860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 name=""/>
          <p:cNvSpPr/>
          <p:nvPr/>
        </p:nvSpPr>
        <p:spPr>
          <a:xfrm>
            <a:off x="6904080" y="29512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683280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252" name=""/>
          <p:cNvSpPr/>
          <p:nvPr/>
        </p:nvSpPr>
        <p:spPr>
          <a:xfrm flipV="1">
            <a:off x="7570800" y="607860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7570800" y="29512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 name=""/>
          <p:cNvSpPr/>
          <p:nvPr/>
        </p:nvSpPr>
        <p:spPr>
          <a:xfrm>
            <a:off x="750096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255" name=""/>
          <p:cNvSpPr/>
          <p:nvPr/>
        </p:nvSpPr>
        <p:spPr>
          <a:xfrm>
            <a:off x="3564000" y="61196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flipH="1">
            <a:off x="7531200" y="61196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3425760" y="603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58" name=""/>
          <p:cNvSpPr/>
          <p:nvPr/>
        </p:nvSpPr>
        <p:spPr>
          <a:xfrm>
            <a:off x="3564000" y="566424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flipH="1">
            <a:off x="7531200" y="566424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3245760" y="55785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61" name=""/>
          <p:cNvSpPr/>
          <p:nvPr/>
        </p:nvSpPr>
        <p:spPr>
          <a:xfrm>
            <a:off x="3564000" y="521820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flipH="1">
            <a:off x="7531200" y="521820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220200" y="51465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64" name=""/>
          <p:cNvSpPr/>
          <p:nvPr/>
        </p:nvSpPr>
        <p:spPr>
          <a:xfrm>
            <a:off x="3564000" y="47624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H="1">
            <a:off x="7531200" y="47624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3260160" y="4691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267" name=""/>
          <p:cNvSpPr/>
          <p:nvPr/>
        </p:nvSpPr>
        <p:spPr>
          <a:xfrm>
            <a:off x="3564000" y="430704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H="1">
            <a:off x="7531200" y="430704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3301200" y="4248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270" name=""/>
          <p:cNvSpPr/>
          <p:nvPr/>
        </p:nvSpPr>
        <p:spPr>
          <a:xfrm>
            <a:off x="3564000" y="385128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7531200" y="385128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3274200" y="3780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73" name=""/>
          <p:cNvSpPr/>
          <p:nvPr/>
        </p:nvSpPr>
        <p:spPr>
          <a:xfrm>
            <a:off x="3564000" y="340668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flipH="1">
            <a:off x="7531200" y="340668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3299760" y="3335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276" name=""/>
          <p:cNvSpPr/>
          <p:nvPr/>
        </p:nvSpPr>
        <p:spPr>
          <a:xfrm>
            <a:off x="3564000" y="295128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7531200" y="295128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3287160" y="2892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79" name=""/>
          <p:cNvSpPr/>
          <p:nvPr/>
        </p:nvSpPr>
        <p:spPr>
          <a:xfrm>
            <a:off x="3564000" y="6119640"/>
            <a:ext cx="400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3564000" y="2951280"/>
            <a:ext cx="400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V="1">
            <a:off x="3564000" y="2950920"/>
            <a:ext cx="144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7570800" y="2950920"/>
            <a:ext cx="144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564000" y="3263760"/>
            <a:ext cx="2206440" cy="2855880"/>
          </a:xfrm>
          <a:custGeom>
            <a:avLst/>
            <a:gdLst/>
            <a:ahLst/>
            <a:rect l="l" t="t" r="r" b="b"/>
            <a:pathLst>
              <a:path w="1390" h="1799">
                <a:moveTo>
                  <a:pt x="0" y="1799"/>
                </a:moveTo>
                <a:lnTo>
                  <a:pt x="6" y="1709"/>
                </a:lnTo>
                <a:lnTo>
                  <a:pt x="13" y="1614"/>
                </a:lnTo>
                <a:lnTo>
                  <a:pt x="13" y="1525"/>
                </a:lnTo>
                <a:lnTo>
                  <a:pt x="19" y="1435"/>
                </a:lnTo>
                <a:lnTo>
                  <a:pt x="25" y="1346"/>
                </a:lnTo>
                <a:lnTo>
                  <a:pt x="32" y="1263"/>
                </a:lnTo>
                <a:lnTo>
                  <a:pt x="38" y="1174"/>
                </a:lnTo>
                <a:lnTo>
                  <a:pt x="38" y="1091"/>
                </a:lnTo>
                <a:lnTo>
                  <a:pt x="44" y="1008"/>
                </a:lnTo>
                <a:lnTo>
                  <a:pt x="51" y="925"/>
                </a:lnTo>
                <a:lnTo>
                  <a:pt x="57" y="849"/>
                </a:lnTo>
                <a:lnTo>
                  <a:pt x="64" y="772"/>
                </a:lnTo>
                <a:lnTo>
                  <a:pt x="64" y="702"/>
                </a:lnTo>
                <a:lnTo>
                  <a:pt x="70" y="632"/>
                </a:lnTo>
                <a:lnTo>
                  <a:pt x="76" y="562"/>
                </a:lnTo>
                <a:lnTo>
                  <a:pt x="83" y="498"/>
                </a:lnTo>
                <a:lnTo>
                  <a:pt x="83" y="440"/>
                </a:lnTo>
                <a:lnTo>
                  <a:pt x="89" y="383"/>
                </a:lnTo>
                <a:lnTo>
                  <a:pt x="95" y="332"/>
                </a:lnTo>
                <a:lnTo>
                  <a:pt x="102" y="281"/>
                </a:lnTo>
                <a:lnTo>
                  <a:pt x="108" y="236"/>
                </a:lnTo>
                <a:lnTo>
                  <a:pt x="108" y="198"/>
                </a:lnTo>
                <a:lnTo>
                  <a:pt x="115" y="160"/>
                </a:lnTo>
                <a:lnTo>
                  <a:pt x="121" y="128"/>
                </a:lnTo>
                <a:lnTo>
                  <a:pt x="127" y="96"/>
                </a:lnTo>
                <a:lnTo>
                  <a:pt x="134" y="70"/>
                </a:lnTo>
                <a:lnTo>
                  <a:pt x="134" y="51"/>
                </a:lnTo>
                <a:lnTo>
                  <a:pt x="140" y="32"/>
                </a:lnTo>
                <a:lnTo>
                  <a:pt x="146" y="19"/>
                </a:lnTo>
                <a:lnTo>
                  <a:pt x="153" y="7"/>
                </a:lnTo>
                <a:lnTo>
                  <a:pt x="159" y="0"/>
                </a:lnTo>
                <a:lnTo>
                  <a:pt x="166" y="7"/>
                </a:lnTo>
                <a:lnTo>
                  <a:pt x="172" y="13"/>
                </a:lnTo>
                <a:lnTo>
                  <a:pt x="178" y="19"/>
                </a:lnTo>
                <a:lnTo>
                  <a:pt x="185" y="32"/>
                </a:lnTo>
                <a:lnTo>
                  <a:pt x="185" y="45"/>
                </a:lnTo>
                <a:lnTo>
                  <a:pt x="191" y="64"/>
                </a:lnTo>
                <a:lnTo>
                  <a:pt x="197" y="83"/>
                </a:lnTo>
                <a:lnTo>
                  <a:pt x="204" y="109"/>
                </a:lnTo>
                <a:lnTo>
                  <a:pt x="210" y="134"/>
                </a:lnTo>
                <a:lnTo>
                  <a:pt x="210" y="160"/>
                </a:lnTo>
                <a:lnTo>
                  <a:pt x="217" y="192"/>
                </a:lnTo>
                <a:lnTo>
                  <a:pt x="223" y="217"/>
                </a:lnTo>
                <a:lnTo>
                  <a:pt x="229" y="249"/>
                </a:lnTo>
                <a:lnTo>
                  <a:pt x="236" y="281"/>
                </a:lnTo>
                <a:lnTo>
                  <a:pt x="236" y="313"/>
                </a:lnTo>
                <a:lnTo>
                  <a:pt x="242" y="338"/>
                </a:lnTo>
                <a:lnTo>
                  <a:pt x="248" y="370"/>
                </a:lnTo>
                <a:lnTo>
                  <a:pt x="255" y="402"/>
                </a:lnTo>
                <a:lnTo>
                  <a:pt x="255" y="428"/>
                </a:lnTo>
                <a:lnTo>
                  <a:pt x="261" y="453"/>
                </a:lnTo>
                <a:lnTo>
                  <a:pt x="268" y="472"/>
                </a:lnTo>
                <a:lnTo>
                  <a:pt x="274" y="491"/>
                </a:lnTo>
                <a:lnTo>
                  <a:pt x="280" y="510"/>
                </a:lnTo>
                <a:lnTo>
                  <a:pt x="280" y="523"/>
                </a:lnTo>
                <a:lnTo>
                  <a:pt x="287" y="536"/>
                </a:lnTo>
                <a:lnTo>
                  <a:pt x="293" y="542"/>
                </a:lnTo>
                <a:lnTo>
                  <a:pt x="299" y="549"/>
                </a:lnTo>
                <a:lnTo>
                  <a:pt x="306" y="542"/>
                </a:lnTo>
                <a:lnTo>
                  <a:pt x="312" y="536"/>
                </a:lnTo>
                <a:lnTo>
                  <a:pt x="319" y="530"/>
                </a:lnTo>
                <a:lnTo>
                  <a:pt x="325" y="517"/>
                </a:lnTo>
                <a:lnTo>
                  <a:pt x="331" y="504"/>
                </a:lnTo>
                <a:lnTo>
                  <a:pt x="331" y="485"/>
                </a:lnTo>
                <a:lnTo>
                  <a:pt x="338" y="466"/>
                </a:lnTo>
                <a:lnTo>
                  <a:pt x="344" y="447"/>
                </a:lnTo>
                <a:lnTo>
                  <a:pt x="350" y="428"/>
                </a:lnTo>
                <a:lnTo>
                  <a:pt x="357" y="408"/>
                </a:lnTo>
                <a:lnTo>
                  <a:pt x="357" y="389"/>
                </a:lnTo>
                <a:lnTo>
                  <a:pt x="363" y="370"/>
                </a:lnTo>
                <a:lnTo>
                  <a:pt x="370" y="351"/>
                </a:lnTo>
                <a:lnTo>
                  <a:pt x="376" y="332"/>
                </a:lnTo>
                <a:lnTo>
                  <a:pt x="382" y="319"/>
                </a:lnTo>
                <a:lnTo>
                  <a:pt x="382" y="300"/>
                </a:lnTo>
                <a:lnTo>
                  <a:pt x="389" y="287"/>
                </a:lnTo>
                <a:lnTo>
                  <a:pt x="395" y="275"/>
                </a:lnTo>
                <a:lnTo>
                  <a:pt x="401" y="262"/>
                </a:lnTo>
                <a:lnTo>
                  <a:pt x="401" y="255"/>
                </a:lnTo>
                <a:lnTo>
                  <a:pt x="408" y="249"/>
                </a:lnTo>
                <a:lnTo>
                  <a:pt x="414" y="243"/>
                </a:lnTo>
                <a:lnTo>
                  <a:pt x="421" y="236"/>
                </a:lnTo>
                <a:lnTo>
                  <a:pt x="427" y="236"/>
                </a:lnTo>
                <a:lnTo>
                  <a:pt x="433" y="236"/>
                </a:lnTo>
                <a:lnTo>
                  <a:pt x="440" y="243"/>
                </a:lnTo>
                <a:lnTo>
                  <a:pt x="446" y="249"/>
                </a:lnTo>
                <a:lnTo>
                  <a:pt x="452" y="255"/>
                </a:lnTo>
                <a:lnTo>
                  <a:pt x="452" y="262"/>
                </a:lnTo>
                <a:lnTo>
                  <a:pt x="459" y="275"/>
                </a:lnTo>
                <a:lnTo>
                  <a:pt x="465" y="287"/>
                </a:lnTo>
                <a:lnTo>
                  <a:pt x="472" y="300"/>
                </a:lnTo>
                <a:lnTo>
                  <a:pt x="478" y="313"/>
                </a:lnTo>
                <a:lnTo>
                  <a:pt x="478" y="326"/>
                </a:lnTo>
                <a:lnTo>
                  <a:pt x="484" y="345"/>
                </a:lnTo>
                <a:lnTo>
                  <a:pt x="491" y="357"/>
                </a:lnTo>
                <a:lnTo>
                  <a:pt x="497" y="370"/>
                </a:lnTo>
                <a:lnTo>
                  <a:pt x="503" y="383"/>
                </a:lnTo>
                <a:lnTo>
                  <a:pt x="503" y="402"/>
                </a:lnTo>
                <a:lnTo>
                  <a:pt x="510" y="415"/>
                </a:lnTo>
                <a:lnTo>
                  <a:pt x="516" y="428"/>
                </a:lnTo>
                <a:lnTo>
                  <a:pt x="523" y="434"/>
                </a:lnTo>
                <a:lnTo>
                  <a:pt x="529" y="447"/>
                </a:lnTo>
                <a:lnTo>
                  <a:pt x="529" y="453"/>
                </a:lnTo>
                <a:lnTo>
                  <a:pt x="535" y="459"/>
                </a:lnTo>
                <a:lnTo>
                  <a:pt x="542" y="466"/>
                </a:lnTo>
                <a:lnTo>
                  <a:pt x="548" y="472"/>
                </a:lnTo>
                <a:lnTo>
                  <a:pt x="554" y="472"/>
                </a:lnTo>
                <a:lnTo>
                  <a:pt x="561" y="466"/>
                </a:lnTo>
                <a:lnTo>
                  <a:pt x="567" y="466"/>
                </a:lnTo>
                <a:lnTo>
                  <a:pt x="574" y="459"/>
                </a:lnTo>
                <a:lnTo>
                  <a:pt x="574" y="453"/>
                </a:lnTo>
                <a:lnTo>
                  <a:pt x="580" y="447"/>
                </a:lnTo>
                <a:lnTo>
                  <a:pt x="586" y="434"/>
                </a:lnTo>
                <a:lnTo>
                  <a:pt x="593" y="428"/>
                </a:lnTo>
                <a:lnTo>
                  <a:pt x="599" y="415"/>
                </a:lnTo>
                <a:lnTo>
                  <a:pt x="599" y="402"/>
                </a:lnTo>
                <a:lnTo>
                  <a:pt x="605" y="389"/>
                </a:lnTo>
                <a:lnTo>
                  <a:pt x="612" y="383"/>
                </a:lnTo>
                <a:lnTo>
                  <a:pt x="618" y="370"/>
                </a:lnTo>
                <a:lnTo>
                  <a:pt x="625" y="357"/>
                </a:lnTo>
                <a:lnTo>
                  <a:pt x="625" y="345"/>
                </a:lnTo>
                <a:lnTo>
                  <a:pt x="631" y="338"/>
                </a:lnTo>
                <a:lnTo>
                  <a:pt x="637" y="326"/>
                </a:lnTo>
                <a:lnTo>
                  <a:pt x="644" y="319"/>
                </a:lnTo>
                <a:lnTo>
                  <a:pt x="650" y="313"/>
                </a:lnTo>
                <a:lnTo>
                  <a:pt x="650" y="306"/>
                </a:lnTo>
                <a:lnTo>
                  <a:pt x="656" y="300"/>
                </a:lnTo>
                <a:lnTo>
                  <a:pt x="663" y="294"/>
                </a:lnTo>
                <a:lnTo>
                  <a:pt x="669" y="287"/>
                </a:lnTo>
                <a:lnTo>
                  <a:pt x="676" y="287"/>
                </a:lnTo>
                <a:lnTo>
                  <a:pt x="682" y="287"/>
                </a:lnTo>
                <a:lnTo>
                  <a:pt x="688" y="287"/>
                </a:lnTo>
                <a:lnTo>
                  <a:pt x="695" y="294"/>
                </a:lnTo>
                <a:lnTo>
                  <a:pt x="701" y="300"/>
                </a:lnTo>
                <a:lnTo>
                  <a:pt x="707" y="306"/>
                </a:lnTo>
                <a:lnTo>
                  <a:pt x="714" y="319"/>
                </a:lnTo>
                <a:lnTo>
                  <a:pt x="720" y="326"/>
                </a:lnTo>
                <a:lnTo>
                  <a:pt x="720" y="332"/>
                </a:lnTo>
                <a:lnTo>
                  <a:pt x="727" y="345"/>
                </a:lnTo>
                <a:lnTo>
                  <a:pt x="733" y="351"/>
                </a:lnTo>
                <a:lnTo>
                  <a:pt x="739" y="364"/>
                </a:lnTo>
                <a:lnTo>
                  <a:pt x="746" y="370"/>
                </a:lnTo>
                <a:lnTo>
                  <a:pt x="746" y="383"/>
                </a:lnTo>
                <a:lnTo>
                  <a:pt x="752" y="389"/>
                </a:lnTo>
                <a:lnTo>
                  <a:pt x="758" y="402"/>
                </a:lnTo>
                <a:lnTo>
                  <a:pt x="765" y="408"/>
                </a:lnTo>
                <a:lnTo>
                  <a:pt x="771" y="415"/>
                </a:lnTo>
                <a:lnTo>
                  <a:pt x="771" y="421"/>
                </a:lnTo>
                <a:lnTo>
                  <a:pt x="778" y="428"/>
                </a:lnTo>
                <a:lnTo>
                  <a:pt x="784" y="434"/>
                </a:lnTo>
                <a:lnTo>
                  <a:pt x="790" y="434"/>
                </a:lnTo>
                <a:lnTo>
                  <a:pt x="797" y="440"/>
                </a:lnTo>
                <a:lnTo>
                  <a:pt x="803" y="440"/>
                </a:lnTo>
                <a:lnTo>
                  <a:pt x="809" y="440"/>
                </a:lnTo>
                <a:lnTo>
                  <a:pt x="816" y="440"/>
                </a:lnTo>
                <a:lnTo>
                  <a:pt x="822" y="434"/>
                </a:lnTo>
                <a:lnTo>
                  <a:pt x="829" y="428"/>
                </a:lnTo>
                <a:lnTo>
                  <a:pt x="835" y="421"/>
                </a:lnTo>
                <a:lnTo>
                  <a:pt x="841" y="415"/>
                </a:lnTo>
                <a:lnTo>
                  <a:pt x="848" y="408"/>
                </a:lnTo>
                <a:lnTo>
                  <a:pt x="848" y="396"/>
                </a:lnTo>
                <a:lnTo>
                  <a:pt x="854" y="389"/>
                </a:lnTo>
                <a:lnTo>
                  <a:pt x="860" y="383"/>
                </a:lnTo>
                <a:lnTo>
                  <a:pt x="867" y="370"/>
                </a:lnTo>
                <a:lnTo>
                  <a:pt x="867" y="364"/>
                </a:lnTo>
                <a:lnTo>
                  <a:pt x="873" y="357"/>
                </a:lnTo>
                <a:lnTo>
                  <a:pt x="880" y="351"/>
                </a:lnTo>
                <a:lnTo>
                  <a:pt x="886" y="345"/>
                </a:lnTo>
                <a:lnTo>
                  <a:pt x="892" y="338"/>
                </a:lnTo>
                <a:lnTo>
                  <a:pt x="892" y="332"/>
                </a:lnTo>
                <a:lnTo>
                  <a:pt x="899" y="326"/>
                </a:lnTo>
                <a:lnTo>
                  <a:pt x="905" y="319"/>
                </a:lnTo>
                <a:lnTo>
                  <a:pt x="911" y="319"/>
                </a:lnTo>
                <a:lnTo>
                  <a:pt x="918" y="313"/>
                </a:lnTo>
                <a:lnTo>
                  <a:pt x="924" y="313"/>
                </a:lnTo>
                <a:lnTo>
                  <a:pt x="931" y="313"/>
                </a:lnTo>
                <a:lnTo>
                  <a:pt x="937" y="313"/>
                </a:lnTo>
                <a:lnTo>
                  <a:pt x="943" y="319"/>
                </a:lnTo>
                <a:lnTo>
                  <a:pt x="950" y="319"/>
                </a:lnTo>
                <a:lnTo>
                  <a:pt x="956" y="326"/>
                </a:lnTo>
                <a:lnTo>
                  <a:pt x="962" y="332"/>
                </a:lnTo>
                <a:lnTo>
                  <a:pt x="969" y="338"/>
                </a:lnTo>
                <a:lnTo>
                  <a:pt x="969" y="345"/>
                </a:lnTo>
                <a:lnTo>
                  <a:pt x="975" y="351"/>
                </a:lnTo>
                <a:lnTo>
                  <a:pt x="982" y="357"/>
                </a:lnTo>
                <a:lnTo>
                  <a:pt x="988" y="364"/>
                </a:lnTo>
                <a:lnTo>
                  <a:pt x="994" y="370"/>
                </a:lnTo>
                <a:lnTo>
                  <a:pt x="994" y="377"/>
                </a:lnTo>
                <a:lnTo>
                  <a:pt x="1001" y="383"/>
                </a:lnTo>
                <a:lnTo>
                  <a:pt x="1007" y="389"/>
                </a:lnTo>
                <a:lnTo>
                  <a:pt x="1013" y="396"/>
                </a:lnTo>
                <a:lnTo>
                  <a:pt x="1020" y="402"/>
                </a:lnTo>
                <a:lnTo>
                  <a:pt x="1020" y="408"/>
                </a:lnTo>
                <a:lnTo>
                  <a:pt x="1026" y="415"/>
                </a:lnTo>
                <a:lnTo>
                  <a:pt x="1033" y="421"/>
                </a:lnTo>
                <a:lnTo>
                  <a:pt x="1039" y="421"/>
                </a:lnTo>
                <a:lnTo>
                  <a:pt x="1045" y="428"/>
                </a:lnTo>
                <a:lnTo>
                  <a:pt x="1052" y="428"/>
                </a:lnTo>
                <a:lnTo>
                  <a:pt x="1058" y="428"/>
                </a:lnTo>
                <a:lnTo>
                  <a:pt x="1064" y="421"/>
                </a:lnTo>
                <a:lnTo>
                  <a:pt x="1071" y="421"/>
                </a:lnTo>
                <a:lnTo>
                  <a:pt x="1077" y="415"/>
                </a:lnTo>
                <a:lnTo>
                  <a:pt x="1084" y="408"/>
                </a:lnTo>
                <a:lnTo>
                  <a:pt x="1090" y="402"/>
                </a:lnTo>
                <a:lnTo>
                  <a:pt x="1096" y="396"/>
                </a:lnTo>
                <a:lnTo>
                  <a:pt x="1103" y="389"/>
                </a:lnTo>
                <a:lnTo>
                  <a:pt x="1109" y="383"/>
                </a:lnTo>
                <a:lnTo>
                  <a:pt x="1115" y="377"/>
                </a:lnTo>
                <a:lnTo>
                  <a:pt x="1115" y="370"/>
                </a:lnTo>
                <a:lnTo>
                  <a:pt x="1122" y="364"/>
                </a:lnTo>
                <a:lnTo>
                  <a:pt x="1128" y="357"/>
                </a:lnTo>
                <a:lnTo>
                  <a:pt x="1135" y="351"/>
                </a:lnTo>
                <a:lnTo>
                  <a:pt x="1141" y="345"/>
                </a:lnTo>
                <a:lnTo>
                  <a:pt x="1147" y="338"/>
                </a:lnTo>
                <a:lnTo>
                  <a:pt x="1154" y="332"/>
                </a:lnTo>
                <a:lnTo>
                  <a:pt x="1160" y="332"/>
                </a:lnTo>
                <a:lnTo>
                  <a:pt x="1166" y="326"/>
                </a:lnTo>
                <a:lnTo>
                  <a:pt x="1173" y="326"/>
                </a:lnTo>
                <a:lnTo>
                  <a:pt x="1179" y="326"/>
                </a:lnTo>
                <a:lnTo>
                  <a:pt x="1186" y="326"/>
                </a:lnTo>
                <a:lnTo>
                  <a:pt x="1192" y="326"/>
                </a:lnTo>
                <a:lnTo>
                  <a:pt x="1198" y="332"/>
                </a:lnTo>
                <a:lnTo>
                  <a:pt x="1205" y="332"/>
                </a:lnTo>
                <a:lnTo>
                  <a:pt x="1211" y="338"/>
                </a:lnTo>
                <a:lnTo>
                  <a:pt x="1211" y="345"/>
                </a:lnTo>
                <a:lnTo>
                  <a:pt x="1217" y="351"/>
                </a:lnTo>
                <a:lnTo>
                  <a:pt x="1224" y="351"/>
                </a:lnTo>
                <a:lnTo>
                  <a:pt x="1230" y="357"/>
                </a:lnTo>
                <a:lnTo>
                  <a:pt x="1237" y="364"/>
                </a:lnTo>
                <a:lnTo>
                  <a:pt x="1237" y="370"/>
                </a:lnTo>
                <a:lnTo>
                  <a:pt x="1243" y="377"/>
                </a:lnTo>
                <a:lnTo>
                  <a:pt x="1249" y="383"/>
                </a:lnTo>
                <a:lnTo>
                  <a:pt x="1256" y="389"/>
                </a:lnTo>
                <a:lnTo>
                  <a:pt x="1262" y="396"/>
                </a:lnTo>
                <a:lnTo>
                  <a:pt x="1268" y="402"/>
                </a:lnTo>
                <a:lnTo>
                  <a:pt x="1275" y="408"/>
                </a:lnTo>
                <a:lnTo>
                  <a:pt x="1281" y="408"/>
                </a:lnTo>
                <a:lnTo>
                  <a:pt x="1288" y="415"/>
                </a:lnTo>
                <a:lnTo>
                  <a:pt x="1294" y="415"/>
                </a:lnTo>
                <a:lnTo>
                  <a:pt x="1300" y="415"/>
                </a:lnTo>
                <a:lnTo>
                  <a:pt x="1307" y="415"/>
                </a:lnTo>
                <a:lnTo>
                  <a:pt x="1313" y="415"/>
                </a:lnTo>
                <a:lnTo>
                  <a:pt x="1319" y="408"/>
                </a:lnTo>
                <a:lnTo>
                  <a:pt x="1326" y="408"/>
                </a:lnTo>
                <a:lnTo>
                  <a:pt x="1332" y="402"/>
                </a:lnTo>
                <a:lnTo>
                  <a:pt x="1339" y="396"/>
                </a:lnTo>
                <a:lnTo>
                  <a:pt x="1345" y="389"/>
                </a:lnTo>
                <a:lnTo>
                  <a:pt x="1351" y="383"/>
                </a:lnTo>
                <a:lnTo>
                  <a:pt x="1358" y="377"/>
                </a:lnTo>
                <a:lnTo>
                  <a:pt x="1364" y="370"/>
                </a:lnTo>
                <a:lnTo>
                  <a:pt x="1370" y="364"/>
                </a:lnTo>
                <a:lnTo>
                  <a:pt x="1377" y="357"/>
                </a:lnTo>
                <a:lnTo>
                  <a:pt x="1383" y="351"/>
                </a:lnTo>
                <a:lnTo>
                  <a:pt x="1390" y="345"/>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70440" y="3790800"/>
            <a:ext cx="1800360" cy="120960"/>
          </a:xfrm>
          <a:custGeom>
            <a:avLst/>
            <a:gdLst/>
            <a:ahLst/>
            <a:rect l="l" t="t" r="r" b="b"/>
            <a:pathLst>
              <a:path w="1134" h="76">
                <a:moveTo>
                  <a:pt x="0" y="13"/>
                </a:moveTo>
                <a:lnTo>
                  <a:pt x="6" y="13"/>
                </a:lnTo>
                <a:lnTo>
                  <a:pt x="12" y="6"/>
                </a:lnTo>
                <a:lnTo>
                  <a:pt x="19" y="6"/>
                </a:lnTo>
                <a:lnTo>
                  <a:pt x="25" y="0"/>
                </a:lnTo>
                <a:lnTo>
                  <a:pt x="31" y="0"/>
                </a:lnTo>
                <a:lnTo>
                  <a:pt x="38" y="0"/>
                </a:lnTo>
                <a:lnTo>
                  <a:pt x="44" y="0"/>
                </a:lnTo>
                <a:lnTo>
                  <a:pt x="51" y="6"/>
                </a:lnTo>
                <a:lnTo>
                  <a:pt x="57" y="6"/>
                </a:lnTo>
                <a:lnTo>
                  <a:pt x="63" y="6"/>
                </a:lnTo>
                <a:lnTo>
                  <a:pt x="70" y="13"/>
                </a:lnTo>
                <a:lnTo>
                  <a:pt x="76" y="19"/>
                </a:lnTo>
                <a:lnTo>
                  <a:pt x="82" y="25"/>
                </a:lnTo>
                <a:lnTo>
                  <a:pt x="89" y="32"/>
                </a:lnTo>
                <a:lnTo>
                  <a:pt x="95" y="38"/>
                </a:lnTo>
                <a:lnTo>
                  <a:pt x="102" y="45"/>
                </a:lnTo>
                <a:lnTo>
                  <a:pt x="108" y="51"/>
                </a:lnTo>
                <a:lnTo>
                  <a:pt x="114" y="57"/>
                </a:lnTo>
                <a:lnTo>
                  <a:pt x="121" y="64"/>
                </a:lnTo>
                <a:lnTo>
                  <a:pt x="127" y="64"/>
                </a:lnTo>
                <a:lnTo>
                  <a:pt x="133" y="70"/>
                </a:lnTo>
                <a:lnTo>
                  <a:pt x="140" y="76"/>
                </a:lnTo>
                <a:lnTo>
                  <a:pt x="146" y="76"/>
                </a:lnTo>
                <a:lnTo>
                  <a:pt x="153" y="76"/>
                </a:lnTo>
                <a:lnTo>
                  <a:pt x="159" y="76"/>
                </a:lnTo>
                <a:lnTo>
                  <a:pt x="165" y="76"/>
                </a:lnTo>
                <a:lnTo>
                  <a:pt x="172" y="76"/>
                </a:lnTo>
                <a:lnTo>
                  <a:pt x="178" y="70"/>
                </a:lnTo>
                <a:lnTo>
                  <a:pt x="184" y="70"/>
                </a:lnTo>
                <a:lnTo>
                  <a:pt x="191" y="64"/>
                </a:lnTo>
                <a:lnTo>
                  <a:pt x="197" y="57"/>
                </a:lnTo>
                <a:lnTo>
                  <a:pt x="204" y="57"/>
                </a:lnTo>
                <a:lnTo>
                  <a:pt x="210" y="51"/>
                </a:lnTo>
                <a:lnTo>
                  <a:pt x="216" y="45"/>
                </a:lnTo>
                <a:lnTo>
                  <a:pt x="223" y="38"/>
                </a:lnTo>
                <a:lnTo>
                  <a:pt x="229" y="32"/>
                </a:lnTo>
                <a:lnTo>
                  <a:pt x="235" y="32"/>
                </a:lnTo>
                <a:lnTo>
                  <a:pt x="242" y="25"/>
                </a:lnTo>
                <a:lnTo>
                  <a:pt x="248" y="19"/>
                </a:lnTo>
                <a:lnTo>
                  <a:pt x="255" y="13"/>
                </a:lnTo>
                <a:lnTo>
                  <a:pt x="261" y="13"/>
                </a:lnTo>
                <a:lnTo>
                  <a:pt x="267" y="6"/>
                </a:lnTo>
                <a:lnTo>
                  <a:pt x="274" y="6"/>
                </a:lnTo>
                <a:lnTo>
                  <a:pt x="280" y="6"/>
                </a:lnTo>
                <a:lnTo>
                  <a:pt x="286" y="6"/>
                </a:lnTo>
                <a:lnTo>
                  <a:pt x="293" y="6"/>
                </a:lnTo>
                <a:lnTo>
                  <a:pt x="299" y="13"/>
                </a:lnTo>
                <a:lnTo>
                  <a:pt x="306" y="13"/>
                </a:lnTo>
                <a:lnTo>
                  <a:pt x="312" y="19"/>
                </a:lnTo>
                <a:lnTo>
                  <a:pt x="318" y="19"/>
                </a:lnTo>
                <a:lnTo>
                  <a:pt x="325" y="25"/>
                </a:lnTo>
                <a:lnTo>
                  <a:pt x="331" y="25"/>
                </a:lnTo>
                <a:lnTo>
                  <a:pt x="337" y="32"/>
                </a:lnTo>
                <a:lnTo>
                  <a:pt x="344" y="38"/>
                </a:lnTo>
                <a:lnTo>
                  <a:pt x="350" y="45"/>
                </a:lnTo>
                <a:lnTo>
                  <a:pt x="357" y="45"/>
                </a:lnTo>
                <a:lnTo>
                  <a:pt x="363" y="51"/>
                </a:lnTo>
                <a:lnTo>
                  <a:pt x="369" y="57"/>
                </a:lnTo>
                <a:lnTo>
                  <a:pt x="376" y="64"/>
                </a:lnTo>
                <a:lnTo>
                  <a:pt x="382" y="64"/>
                </a:lnTo>
                <a:lnTo>
                  <a:pt x="388" y="70"/>
                </a:lnTo>
                <a:lnTo>
                  <a:pt x="395" y="70"/>
                </a:lnTo>
                <a:lnTo>
                  <a:pt x="401" y="70"/>
                </a:lnTo>
                <a:lnTo>
                  <a:pt x="408" y="70"/>
                </a:lnTo>
                <a:lnTo>
                  <a:pt x="414" y="70"/>
                </a:lnTo>
                <a:lnTo>
                  <a:pt x="420" y="70"/>
                </a:lnTo>
                <a:lnTo>
                  <a:pt x="427" y="70"/>
                </a:lnTo>
                <a:lnTo>
                  <a:pt x="433" y="64"/>
                </a:lnTo>
                <a:lnTo>
                  <a:pt x="439" y="64"/>
                </a:lnTo>
                <a:lnTo>
                  <a:pt x="446" y="57"/>
                </a:lnTo>
                <a:lnTo>
                  <a:pt x="452" y="57"/>
                </a:lnTo>
                <a:lnTo>
                  <a:pt x="459" y="51"/>
                </a:lnTo>
                <a:lnTo>
                  <a:pt x="465" y="45"/>
                </a:lnTo>
                <a:lnTo>
                  <a:pt x="471" y="38"/>
                </a:lnTo>
                <a:lnTo>
                  <a:pt x="478" y="38"/>
                </a:lnTo>
                <a:lnTo>
                  <a:pt x="484" y="32"/>
                </a:lnTo>
                <a:lnTo>
                  <a:pt x="490" y="25"/>
                </a:lnTo>
                <a:lnTo>
                  <a:pt x="497" y="19"/>
                </a:lnTo>
                <a:lnTo>
                  <a:pt x="503" y="19"/>
                </a:lnTo>
                <a:lnTo>
                  <a:pt x="510" y="13"/>
                </a:lnTo>
                <a:lnTo>
                  <a:pt x="516" y="13"/>
                </a:lnTo>
                <a:lnTo>
                  <a:pt x="522" y="13"/>
                </a:lnTo>
                <a:lnTo>
                  <a:pt x="529" y="13"/>
                </a:lnTo>
                <a:lnTo>
                  <a:pt x="535" y="13"/>
                </a:lnTo>
                <a:lnTo>
                  <a:pt x="541" y="13"/>
                </a:lnTo>
                <a:lnTo>
                  <a:pt x="548" y="13"/>
                </a:lnTo>
                <a:lnTo>
                  <a:pt x="554" y="13"/>
                </a:lnTo>
                <a:lnTo>
                  <a:pt x="561" y="19"/>
                </a:lnTo>
                <a:lnTo>
                  <a:pt x="567" y="19"/>
                </a:lnTo>
                <a:lnTo>
                  <a:pt x="573" y="25"/>
                </a:lnTo>
                <a:lnTo>
                  <a:pt x="580" y="32"/>
                </a:lnTo>
                <a:lnTo>
                  <a:pt x="586" y="38"/>
                </a:lnTo>
                <a:lnTo>
                  <a:pt x="592" y="38"/>
                </a:lnTo>
                <a:lnTo>
                  <a:pt x="599" y="45"/>
                </a:lnTo>
                <a:lnTo>
                  <a:pt x="605" y="51"/>
                </a:lnTo>
                <a:lnTo>
                  <a:pt x="612" y="51"/>
                </a:lnTo>
                <a:lnTo>
                  <a:pt x="618" y="57"/>
                </a:lnTo>
                <a:lnTo>
                  <a:pt x="624" y="57"/>
                </a:lnTo>
                <a:lnTo>
                  <a:pt x="631" y="64"/>
                </a:lnTo>
                <a:lnTo>
                  <a:pt x="637" y="64"/>
                </a:lnTo>
                <a:lnTo>
                  <a:pt x="643" y="64"/>
                </a:lnTo>
                <a:lnTo>
                  <a:pt x="650" y="70"/>
                </a:lnTo>
                <a:lnTo>
                  <a:pt x="656" y="70"/>
                </a:lnTo>
                <a:lnTo>
                  <a:pt x="663" y="70"/>
                </a:lnTo>
                <a:lnTo>
                  <a:pt x="669" y="64"/>
                </a:lnTo>
                <a:lnTo>
                  <a:pt x="675" y="64"/>
                </a:lnTo>
                <a:lnTo>
                  <a:pt x="682" y="64"/>
                </a:lnTo>
                <a:lnTo>
                  <a:pt x="688" y="57"/>
                </a:lnTo>
                <a:lnTo>
                  <a:pt x="694" y="57"/>
                </a:lnTo>
                <a:lnTo>
                  <a:pt x="701" y="51"/>
                </a:lnTo>
                <a:lnTo>
                  <a:pt x="707" y="45"/>
                </a:lnTo>
                <a:lnTo>
                  <a:pt x="714" y="45"/>
                </a:lnTo>
                <a:lnTo>
                  <a:pt x="720" y="38"/>
                </a:lnTo>
                <a:lnTo>
                  <a:pt x="726" y="38"/>
                </a:lnTo>
                <a:lnTo>
                  <a:pt x="733" y="32"/>
                </a:lnTo>
                <a:lnTo>
                  <a:pt x="739" y="25"/>
                </a:lnTo>
                <a:lnTo>
                  <a:pt x="745" y="25"/>
                </a:lnTo>
                <a:lnTo>
                  <a:pt x="752" y="19"/>
                </a:lnTo>
                <a:lnTo>
                  <a:pt x="758" y="19"/>
                </a:lnTo>
                <a:lnTo>
                  <a:pt x="765" y="19"/>
                </a:lnTo>
                <a:lnTo>
                  <a:pt x="771" y="13"/>
                </a:lnTo>
                <a:lnTo>
                  <a:pt x="777" y="13"/>
                </a:lnTo>
                <a:lnTo>
                  <a:pt x="784" y="13"/>
                </a:lnTo>
                <a:lnTo>
                  <a:pt x="790" y="13"/>
                </a:lnTo>
                <a:lnTo>
                  <a:pt x="796" y="19"/>
                </a:lnTo>
                <a:lnTo>
                  <a:pt x="803" y="19"/>
                </a:lnTo>
                <a:lnTo>
                  <a:pt x="809" y="19"/>
                </a:lnTo>
                <a:lnTo>
                  <a:pt x="816" y="25"/>
                </a:lnTo>
                <a:lnTo>
                  <a:pt x="822" y="25"/>
                </a:lnTo>
                <a:lnTo>
                  <a:pt x="828" y="32"/>
                </a:lnTo>
                <a:lnTo>
                  <a:pt x="835" y="38"/>
                </a:lnTo>
                <a:lnTo>
                  <a:pt x="841" y="38"/>
                </a:lnTo>
                <a:lnTo>
                  <a:pt x="847" y="45"/>
                </a:lnTo>
                <a:lnTo>
                  <a:pt x="854" y="51"/>
                </a:lnTo>
                <a:lnTo>
                  <a:pt x="860" y="51"/>
                </a:lnTo>
                <a:lnTo>
                  <a:pt x="867" y="57"/>
                </a:lnTo>
                <a:lnTo>
                  <a:pt x="873" y="57"/>
                </a:lnTo>
                <a:lnTo>
                  <a:pt x="879" y="64"/>
                </a:lnTo>
                <a:lnTo>
                  <a:pt x="886" y="64"/>
                </a:lnTo>
                <a:lnTo>
                  <a:pt x="892" y="64"/>
                </a:lnTo>
                <a:lnTo>
                  <a:pt x="898" y="64"/>
                </a:lnTo>
                <a:lnTo>
                  <a:pt x="905" y="64"/>
                </a:lnTo>
                <a:lnTo>
                  <a:pt x="911" y="64"/>
                </a:lnTo>
                <a:lnTo>
                  <a:pt x="918" y="64"/>
                </a:lnTo>
                <a:lnTo>
                  <a:pt x="924" y="64"/>
                </a:lnTo>
                <a:lnTo>
                  <a:pt x="930" y="57"/>
                </a:lnTo>
                <a:lnTo>
                  <a:pt x="937" y="57"/>
                </a:lnTo>
                <a:lnTo>
                  <a:pt x="943" y="57"/>
                </a:lnTo>
                <a:lnTo>
                  <a:pt x="949" y="51"/>
                </a:lnTo>
                <a:lnTo>
                  <a:pt x="956" y="45"/>
                </a:lnTo>
                <a:lnTo>
                  <a:pt x="962" y="45"/>
                </a:lnTo>
                <a:lnTo>
                  <a:pt x="969" y="38"/>
                </a:lnTo>
                <a:lnTo>
                  <a:pt x="975" y="32"/>
                </a:lnTo>
                <a:lnTo>
                  <a:pt x="981" y="32"/>
                </a:lnTo>
                <a:lnTo>
                  <a:pt x="988" y="32"/>
                </a:lnTo>
                <a:lnTo>
                  <a:pt x="994" y="25"/>
                </a:lnTo>
                <a:lnTo>
                  <a:pt x="1000" y="25"/>
                </a:lnTo>
                <a:lnTo>
                  <a:pt x="1007" y="19"/>
                </a:lnTo>
                <a:lnTo>
                  <a:pt x="1013" y="19"/>
                </a:lnTo>
                <a:lnTo>
                  <a:pt x="1020" y="19"/>
                </a:lnTo>
                <a:lnTo>
                  <a:pt x="1026" y="19"/>
                </a:lnTo>
                <a:lnTo>
                  <a:pt x="1032" y="19"/>
                </a:lnTo>
                <a:lnTo>
                  <a:pt x="1039" y="19"/>
                </a:lnTo>
                <a:lnTo>
                  <a:pt x="1045" y="19"/>
                </a:lnTo>
                <a:lnTo>
                  <a:pt x="1051" y="19"/>
                </a:lnTo>
                <a:lnTo>
                  <a:pt x="1058" y="25"/>
                </a:lnTo>
                <a:lnTo>
                  <a:pt x="1064" y="25"/>
                </a:lnTo>
                <a:lnTo>
                  <a:pt x="1071" y="32"/>
                </a:lnTo>
                <a:lnTo>
                  <a:pt x="1077" y="32"/>
                </a:lnTo>
                <a:lnTo>
                  <a:pt x="1083" y="38"/>
                </a:lnTo>
                <a:lnTo>
                  <a:pt x="1090" y="38"/>
                </a:lnTo>
                <a:lnTo>
                  <a:pt x="1096" y="45"/>
                </a:lnTo>
                <a:lnTo>
                  <a:pt x="1102" y="45"/>
                </a:lnTo>
                <a:lnTo>
                  <a:pt x="1109" y="51"/>
                </a:lnTo>
                <a:lnTo>
                  <a:pt x="1115" y="51"/>
                </a:lnTo>
                <a:lnTo>
                  <a:pt x="1122" y="57"/>
                </a:lnTo>
                <a:lnTo>
                  <a:pt x="1128" y="57"/>
                </a:lnTo>
                <a:lnTo>
                  <a:pt x="1134" y="57"/>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6249960"/>
            <a:ext cx="160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MHz</a:t>
            </a:r>
            <a:endParaRPr b="0" lang="en-US" sz="1400" spc="-1" strike="noStrike">
              <a:solidFill>
                <a:srgbClr val="000000"/>
              </a:solidFill>
              <a:latin typeface="Times New Roman"/>
            </a:endParaRPr>
          </a:p>
        </p:txBody>
      </p:sp>
      <p:sp>
        <p:nvSpPr>
          <p:cNvPr id="286" name=""/>
          <p:cNvSpPr/>
          <p:nvPr/>
        </p:nvSpPr>
        <p:spPr>
          <a:xfrm>
            <a:off x="2287440" y="380376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i="1"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7" name=""/>
          <p:cNvSpPr/>
          <p:nvPr/>
        </p:nvSpPr>
        <p:spPr>
          <a:xfrm>
            <a:off x="1143000" y="4495680"/>
            <a:ext cx="169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 m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5900m/s</a:t>
            </a:r>
            <a:endParaRPr b="0" lang="en-US" sz="2400" spc="-1" strike="noStrike">
              <a:solidFill>
                <a:srgbClr val="000000"/>
              </a:solidFill>
              <a:latin typeface="Times New Roman"/>
            </a:endParaRPr>
          </a:p>
        </p:txBody>
      </p:sp>
      <p:grpSp>
        <p:nvGrpSpPr>
          <p:cNvPr id="288" name=""/>
          <p:cNvGrpSpPr/>
          <p:nvPr/>
        </p:nvGrpSpPr>
        <p:grpSpPr>
          <a:xfrm>
            <a:off x="661680" y="2512440"/>
            <a:ext cx="1267920" cy="1278360"/>
            <a:chOff x="661680" y="2512440"/>
            <a:chExt cx="1267920" cy="1278360"/>
          </a:xfrm>
        </p:grpSpPr>
        <p:sp>
          <p:nvSpPr>
            <p:cNvPr id="289" name=""/>
            <p:cNvSpPr/>
            <p:nvPr/>
          </p:nvSpPr>
          <p:spPr>
            <a:xfrm>
              <a:off x="949320" y="2952720"/>
              <a:ext cx="914400" cy="838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9678800">
              <a:off x="762120" y="2742840"/>
              <a:ext cx="1066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rot="1288800">
            <a:off x="975960" y="2916360"/>
            <a:ext cx="888120" cy="889920"/>
          </a:xfrm>
          <a:custGeom>
            <a:avLst/>
            <a:gdLst/>
            <a:ahLst/>
            <a:rect l="l" t="t" r="r" b="b"/>
            <a:pathLst>
              <a:path stroke="0" w="21600" h="21600">
                <a:moveTo>
                  <a:pt x="5592" y="20262"/>
                </a:moveTo>
                <a:arcTo wR="10800" hR="10800" stAng="7129715" swAng="11804258"/>
                <a:lnTo>
                  <a:pt x="10800" y="10800"/>
                </a:lnTo>
                <a:close/>
              </a:path>
              <a:path fill="none" w="21600" h="21600">
                <a:moveTo>
                  <a:pt x="5592" y="20262"/>
                </a:moveTo>
                <a:arcTo wR="10800" hR="10800" stAng="7129715" swAng="1180425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4280" y="3962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a</a:t>
            </a:r>
            <a:endParaRPr b="0" lang="en-US" sz="1800" spc="-1" strike="noStrike">
              <a:solidFill>
                <a:srgbClr val="000000"/>
              </a:solidFill>
              <a:latin typeface="Times New Roman"/>
            </a:endParaRPr>
          </a:p>
        </p:txBody>
      </p:sp>
      <p:sp>
        <p:nvSpPr>
          <p:cNvPr id="293" name=""/>
          <p:cNvSpPr/>
          <p:nvPr/>
        </p:nvSpPr>
        <p:spPr>
          <a:xfrm>
            <a:off x="685800" y="24382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flipV="1">
            <a:off x="792000" y="2428920"/>
            <a:ext cx="36360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219320" y="2666880"/>
            <a:ext cx="22860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1309320" y="2674440"/>
            <a:ext cx="214200" cy="373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2480" y="3768840"/>
            <a:ext cx="2635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05120" y="3276720"/>
            <a:ext cx="2635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371240" y="3657600"/>
            <a:ext cx="76212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79480" y="2959200"/>
            <a:ext cx="198360" cy="35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flipV="1">
            <a:off x="831960" y="3043080"/>
            <a:ext cx="234720" cy="385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517920" y="2712960"/>
            <a:ext cx="4606920" cy="3519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17920" y="2712960"/>
            <a:ext cx="4606920" cy="3519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17920" y="2712960"/>
            <a:ext cx="46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3517920" y="2712960"/>
            <a:ext cx="4606920" cy="35197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3517920" y="2712600"/>
            <a:ext cx="1440" cy="351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17920" y="6232680"/>
            <a:ext cx="46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flipV="1">
            <a:off x="3517920" y="2712600"/>
            <a:ext cx="1440" cy="351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51792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 name=""/>
          <p:cNvSpPr/>
          <p:nvPr/>
        </p:nvSpPr>
        <p:spPr>
          <a:xfrm>
            <a:off x="351792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1" name=""/>
          <p:cNvSpPr/>
          <p:nvPr/>
        </p:nvSpPr>
        <p:spPr>
          <a:xfrm>
            <a:off x="3521520" y="6262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12" name=""/>
          <p:cNvSpPr/>
          <p:nvPr/>
        </p:nvSpPr>
        <p:spPr>
          <a:xfrm flipV="1">
            <a:off x="428148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 name=""/>
          <p:cNvSpPr/>
          <p:nvPr/>
        </p:nvSpPr>
        <p:spPr>
          <a:xfrm>
            <a:off x="428148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4" name=""/>
          <p:cNvSpPr/>
          <p:nvPr/>
        </p:nvSpPr>
        <p:spPr>
          <a:xfrm>
            <a:off x="4285080" y="6262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315" name=""/>
          <p:cNvSpPr/>
          <p:nvPr/>
        </p:nvSpPr>
        <p:spPr>
          <a:xfrm flipV="1">
            <a:off x="504684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a:off x="504684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a:off x="5010480" y="6262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18" name=""/>
          <p:cNvSpPr/>
          <p:nvPr/>
        </p:nvSpPr>
        <p:spPr>
          <a:xfrm flipV="1">
            <a:off x="5821200" y="6180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9" name=""/>
          <p:cNvSpPr/>
          <p:nvPr/>
        </p:nvSpPr>
        <p:spPr>
          <a:xfrm>
            <a:off x="5821200" y="27129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0" name=""/>
          <p:cNvSpPr/>
          <p:nvPr/>
        </p:nvSpPr>
        <p:spPr>
          <a:xfrm>
            <a:off x="5785200" y="6262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321" name=""/>
          <p:cNvSpPr/>
          <p:nvPr/>
        </p:nvSpPr>
        <p:spPr>
          <a:xfrm flipV="1">
            <a:off x="658512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a:off x="658512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a:off x="6548760" y="6262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24" name=""/>
          <p:cNvSpPr/>
          <p:nvPr/>
        </p:nvSpPr>
        <p:spPr>
          <a:xfrm flipV="1">
            <a:off x="735012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5" name=""/>
          <p:cNvSpPr/>
          <p:nvPr/>
        </p:nvSpPr>
        <p:spPr>
          <a:xfrm>
            <a:off x="735012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6" name=""/>
          <p:cNvSpPr/>
          <p:nvPr/>
        </p:nvSpPr>
        <p:spPr>
          <a:xfrm>
            <a:off x="7314120" y="6262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327" name=""/>
          <p:cNvSpPr/>
          <p:nvPr/>
        </p:nvSpPr>
        <p:spPr>
          <a:xfrm flipV="1">
            <a:off x="8124840" y="6180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8" name=""/>
          <p:cNvSpPr/>
          <p:nvPr/>
        </p:nvSpPr>
        <p:spPr>
          <a:xfrm>
            <a:off x="8124840" y="27129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8088840" y="6262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330" name=""/>
          <p:cNvSpPr/>
          <p:nvPr/>
        </p:nvSpPr>
        <p:spPr>
          <a:xfrm>
            <a:off x="3517920" y="62326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flipH="1">
            <a:off x="8070840" y="6232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3437280" y="6149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33" name=""/>
          <p:cNvSpPr/>
          <p:nvPr/>
        </p:nvSpPr>
        <p:spPr>
          <a:xfrm>
            <a:off x="3517920" y="57276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flipH="1">
            <a:off x="8070840" y="57276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3324600" y="56451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a:t>
            </a:r>
            <a:endParaRPr b="0" lang="en-US" sz="1100" spc="-1" strike="noStrike">
              <a:solidFill>
                <a:srgbClr val="000000"/>
              </a:solidFill>
              <a:latin typeface="Times New Roman"/>
            </a:endParaRPr>
          </a:p>
        </p:txBody>
      </p:sp>
      <p:sp>
        <p:nvSpPr>
          <p:cNvPr id="336" name=""/>
          <p:cNvSpPr/>
          <p:nvPr/>
        </p:nvSpPr>
        <p:spPr>
          <a:xfrm>
            <a:off x="3517920" y="52243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flipH="1">
            <a:off x="8070840" y="52243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3324600" y="51418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a:t>
            </a:r>
            <a:endParaRPr b="0" lang="en-US" sz="1100" spc="-1" strike="noStrike">
              <a:solidFill>
                <a:srgbClr val="000000"/>
              </a:solidFill>
              <a:latin typeface="Times New Roman"/>
            </a:endParaRPr>
          </a:p>
        </p:txBody>
      </p:sp>
      <p:sp>
        <p:nvSpPr>
          <p:cNvPr id="339" name=""/>
          <p:cNvSpPr/>
          <p:nvPr/>
        </p:nvSpPr>
        <p:spPr>
          <a:xfrm>
            <a:off x="3517920" y="47196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flipH="1">
            <a:off x="8070840" y="47196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3324600" y="46371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a:t>
            </a:r>
            <a:endParaRPr b="0" lang="en-US" sz="1100" spc="-1" strike="noStrike">
              <a:solidFill>
                <a:srgbClr val="000000"/>
              </a:solidFill>
              <a:latin typeface="Times New Roman"/>
            </a:endParaRPr>
          </a:p>
        </p:txBody>
      </p:sp>
      <p:sp>
        <p:nvSpPr>
          <p:cNvPr id="342" name=""/>
          <p:cNvSpPr/>
          <p:nvPr/>
        </p:nvSpPr>
        <p:spPr>
          <a:xfrm>
            <a:off x="3517920" y="42163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8070840" y="42163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3324600" y="41338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a:t>
            </a:r>
            <a:endParaRPr b="0" lang="en-US" sz="1100" spc="-1" strike="noStrike">
              <a:solidFill>
                <a:srgbClr val="000000"/>
              </a:solidFill>
              <a:latin typeface="Times New Roman"/>
            </a:endParaRPr>
          </a:p>
        </p:txBody>
      </p:sp>
      <p:sp>
        <p:nvSpPr>
          <p:cNvPr id="345" name=""/>
          <p:cNvSpPr/>
          <p:nvPr/>
        </p:nvSpPr>
        <p:spPr>
          <a:xfrm>
            <a:off x="3517920" y="3711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8070840" y="3711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3437280" y="3629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48" name=""/>
          <p:cNvSpPr/>
          <p:nvPr/>
        </p:nvSpPr>
        <p:spPr>
          <a:xfrm>
            <a:off x="3517920" y="32068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flipH="1">
            <a:off x="8070840" y="32068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3324600" y="31258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51" name=""/>
          <p:cNvSpPr/>
          <p:nvPr/>
        </p:nvSpPr>
        <p:spPr>
          <a:xfrm>
            <a:off x="3517920" y="2712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flipH="1">
            <a:off x="8070840" y="27129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3324600" y="2631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354" name=""/>
          <p:cNvSpPr/>
          <p:nvPr/>
        </p:nvSpPr>
        <p:spPr>
          <a:xfrm>
            <a:off x="3517920" y="2712960"/>
            <a:ext cx="46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3517920" y="2712960"/>
            <a:ext cx="4606920" cy="35197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3517920" y="2712600"/>
            <a:ext cx="1440" cy="351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17920" y="3073320"/>
            <a:ext cx="2928960" cy="3148200"/>
          </a:xfrm>
          <a:custGeom>
            <a:avLst/>
            <a:gdLst/>
            <a:ahLst/>
            <a:rect l="l" t="t" r="r" b="b"/>
            <a:pathLst>
              <a:path w="1845" h="1983">
                <a:moveTo>
                  <a:pt x="0" y="1983"/>
                </a:moveTo>
                <a:lnTo>
                  <a:pt x="13" y="1484"/>
                </a:lnTo>
                <a:lnTo>
                  <a:pt x="27" y="1018"/>
                </a:lnTo>
                <a:lnTo>
                  <a:pt x="40" y="609"/>
                </a:lnTo>
                <a:lnTo>
                  <a:pt x="54" y="298"/>
                </a:lnTo>
                <a:lnTo>
                  <a:pt x="67" y="91"/>
                </a:lnTo>
                <a:lnTo>
                  <a:pt x="87" y="0"/>
                </a:lnTo>
                <a:lnTo>
                  <a:pt x="100" y="13"/>
                </a:lnTo>
                <a:lnTo>
                  <a:pt x="114" y="117"/>
                </a:lnTo>
                <a:lnTo>
                  <a:pt x="127" y="272"/>
                </a:lnTo>
                <a:lnTo>
                  <a:pt x="140" y="434"/>
                </a:lnTo>
                <a:lnTo>
                  <a:pt x="154" y="558"/>
                </a:lnTo>
                <a:lnTo>
                  <a:pt x="174" y="596"/>
                </a:lnTo>
                <a:lnTo>
                  <a:pt x="187" y="545"/>
                </a:lnTo>
                <a:lnTo>
                  <a:pt x="201" y="441"/>
                </a:lnTo>
                <a:lnTo>
                  <a:pt x="214" y="337"/>
                </a:lnTo>
                <a:lnTo>
                  <a:pt x="227" y="266"/>
                </a:lnTo>
                <a:lnTo>
                  <a:pt x="247" y="253"/>
                </a:lnTo>
                <a:lnTo>
                  <a:pt x="261" y="285"/>
                </a:lnTo>
                <a:lnTo>
                  <a:pt x="274" y="357"/>
                </a:lnTo>
                <a:lnTo>
                  <a:pt x="288" y="434"/>
                </a:lnTo>
                <a:lnTo>
                  <a:pt x="301" y="499"/>
                </a:lnTo>
                <a:lnTo>
                  <a:pt x="314" y="512"/>
                </a:lnTo>
                <a:lnTo>
                  <a:pt x="334" y="480"/>
                </a:lnTo>
                <a:lnTo>
                  <a:pt x="348" y="421"/>
                </a:lnTo>
                <a:lnTo>
                  <a:pt x="361" y="357"/>
                </a:lnTo>
                <a:lnTo>
                  <a:pt x="374" y="318"/>
                </a:lnTo>
                <a:lnTo>
                  <a:pt x="388" y="311"/>
                </a:lnTo>
                <a:lnTo>
                  <a:pt x="408" y="337"/>
                </a:lnTo>
                <a:lnTo>
                  <a:pt x="421" y="383"/>
                </a:lnTo>
                <a:lnTo>
                  <a:pt x="435" y="434"/>
                </a:lnTo>
                <a:lnTo>
                  <a:pt x="448" y="473"/>
                </a:lnTo>
                <a:lnTo>
                  <a:pt x="461" y="480"/>
                </a:lnTo>
                <a:lnTo>
                  <a:pt x="475" y="454"/>
                </a:lnTo>
                <a:lnTo>
                  <a:pt x="495" y="409"/>
                </a:lnTo>
                <a:lnTo>
                  <a:pt x="508" y="363"/>
                </a:lnTo>
                <a:lnTo>
                  <a:pt x="522" y="337"/>
                </a:lnTo>
                <a:lnTo>
                  <a:pt x="535" y="337"/>
                </a:lnTo>
                <a:lnTo>
                  <a:pt x="548" y="363"/>
                </a:lnTo>
                <a:lnTo>
                  <a:pt x="568" y="396"/>
                </a:lnTo>
                <a:lnTo>
                  <a:pt x="582" y="434"/>
                </a:lnTo>
                <a:lnTo>
                  <a:pt x="595" y="460"/>
                </a:lnTo>
                <a:lnTo>
                  <a:pt x="608" y="460"/>
                </a:lnTo>
                <a:lnTo>
                  <a:pt x="622" y="434"/>
                </a:lnTo>
                <a:lnTo>
                  <a:pt x="635" y="402"/>
                </a:lnTo>
                <a:lnTo>
                  <a:pt x="655" y="370"/>
                </a:lnTo>
                <a:lnTo>
                  <a:pt x="669" y="350"/>
                </a:lnTo>
                <a:lnTo>
                  <a:pt x="682" y="357"/>
                </a:lnTo>
                <a:lnTo>
                  <a:pt x="695" y="376"/>
                </a:lnTo>
                <a:lnTo>
                  <a:pt x="709" y="409"/>
                </a:lnTo>
                <a:lnTo>
                  <a:pt x="729" y="434"/>
                </a:lnTo>
                <a:lnTo>
                  <a:pt x="742" y="447"/>
                </a:lnTo>
                <a:lnTo>
                  <a:pt x="756" y="447"/>
                </a:lnTo>
                <a:lnTo>
                  <a:pt x="769" y="421"/>
                </a:lnTo>
                <a:lnTo>
                  <a:pt x="782" y="396"/>
                </a:lnTo>
                <a:lnTo>
                  <a:pt x="796" y="370"/>
                </a:lnTo>
                <a:lnTo>
                  <a:pt x="816" y="357"/>
                </a:lnTo>
                <a:lnTo>
                  <a:pt x="829" y="363"/>
                </a:lnTo>
                <a:lnTo>
                  <a:pt x="842" y="383"/>
                </a:lnTo>
                <a:lnTo>
                  <a:pt x="856" y="409"/>
                </a:lnTo>
                <a:lnTo>
                  <a:pt x="869" y="434"/>
                </a:lnTo>
                <a:lnTo>
                  <a:pt x="889" y="441"/>
                </a:lnTo>
                <a:lnTo>
                  <a:pt x="903" y="434"/>
                </a:lnTo>
                <a:lnTo>
                  <a:pt x="916" y="415"/>
                </a:lnTo>
                <a:lnTo>
                  <a:pt x="929" y="389"/>
                </a:lnTo>
                <a:lnTo>
                  <a:pt x="943" y="370"/>
                </a:lnTo>
                <a:lnTo>
                  <a:pt x="956" y="363"/>
                </a:lnTo>
                <a:lnTo>
                  <a:pt x="976" y="376"/>
                </a:lnTo>
                <a:lnTo>
                  <a:pt x="990" y="389"/>
                </a:lnTo>
                <a:lnTo>
                  <a:pt x="1003" y="415"/>
                </a:lnTo>
                <a:lnTo>
                  <a:pt x="1016" y="434"/>
                </a:lnTo>
                <a:lnTo>
                  <a:pt x="1030" y="441"/>
                </a:lnTo>
                <a:lnTo>
                  <a:pt x="1050" y="428"/>
                </a:lnTo>
                <a:lnTo>
                  <a:pt x="1063" y="409"/>
                </a:lnTo>
                <a:lnTo>
                  <a:pt x="1076" y="389"/>
                </a:lnTo>
                <a:lnTo>
                  <a:pt x="1090" y="376"/>
                </a:lnTo>
                <a:lnTo>
                  <a:pt x="1103" y="370"/>
                </a:lnTo>
                <a:lnTo>
                  <a:pt x="1117" y="383"/>
                </a:lnTo>
                <a:lnTo>
                  <a:pt x="1137" y="396"/>
                </a:lnTo>
                <a:lnTo>
                  <a:pt x="1150" y="415"/>
                </a:lnTo>
                <a:lnTo>
                  <a:pt x="1163" y="428"/>
                </a:lnTo>
                <a:lnTo>
                  <a:pt x="1177" y="434"/>
                </a:lnTo>
                <a:lnTo>
                  <a:pt x="1190" y="421"/>
                </a:lnTo>
                <a:lnTo>
                  <a:pt x="1210" y="409"/>
                </a:lnTo>
                <a:lnTo>
                  <a:pt x="1224" y="389"/>
                </a:lnTo>
                <a:lnTo>
                  <a:pt x="1237" y="376"/>
                </a:lnTo>
                <a:lnTo>
                  <a:pt x="1250" y="376"/>
                </a:lnTo>
                <a:lnTo>
                  <a:pt x="1264" y="383"/>
                </a:lnTo>
                <a:lnTo>
                  <a:pt x="1277" y="402"/>
                </a:lnTo>
                <a:lnTo>
                  <a:pt x="1297" y="421"/>
                </a:lnTo>
                <a:lnTo>
                  <a:pt x="1310" y="428"/>
                </a:lnTo>
                <a:lnTo>
                  <a:pt x="1324" y="428"/>
                </a:lnTo>
                <a:lnTo>
                  <a:pt x="1337" y="415"/>
                </a:lnTo>
                <a:lnTo>
                  <a:pt x="1351" y="402"/>
                </a:lnTo>
                <a:lnTo>
                  <a:pt x="1371" y="389"/>
                </a:lnTo>
                <a:lnTo>
                  <a:pt x="1384" y="376"/>
                </a:lnTo>
                <a:lnTo>
                  <a:pt x="1397" y="383"/>
                </a:lnTo>
                <a:lnTo>
                  <a:pt x="1411" y="389"/>
                </a:lnTo>
                <a:lnTo>
                  <a:pt x="1424" y="409"/>
                </a:lnTo>
                <a:lnTo>
                  <a:pt x="1437" y="421"/>
                </a:lnTo>
                <a:lnTo>
                  <a:pt x="1458" y="428"/>
                </a:lnTo>
                <a:lnTo>
                  <a:pt x="1471" y="428"/>
                </a:lnTo>
                <a:lnTo>
                  <a:pt x="1484" y="415"/>
                </a:lnTo>
                <a:lnTo>
                  <a:pt x="1498" y="396"/>
                </a:lnTo>
                <a:lnTo>
                  <a:pt x="1511" y="383"/>
                </a:lnTo>
                <a:lnTo>
                  <a:pt x="1524" y="383"/>
                </a:lnTo>
                <a:lnTo>
                  <a:pt x="1544" y="383"/>
                </a:lnTo>
                <a:lnTo>
                  <a:pt x="1558" y="396"/>
                </a:lnTo>
                <a:lnTo>
                  <a:pt x="1571" y="409"/>
                </a:lnTo>
                <a:lnTo>
                  <a:pt x="1585" y="421"/>
                </a:lnTo>
                <a:lnTo>
                  <a:pt x="1598" y="428"/>
                </a:lnTo>
                <a:lnTo>
                  <a:pt x="1618" y="421"/>
                </a:lnTo>
                <a:lnTo>
                  <a:pt x="1631" y="409"/>
                </a:lnTo>
                <a:lnTo>
                  <a:pt x="1645" y="396"/>
                </a:lnTo>
                <a:lnTo>
                  <a:pt x="1658" y="383"/>
                </a:lnTo>
                <a:lnTo>
                  <a:pt x="1671" y="383"/>
                </a:lnTo>
                <a:lnTo>
                  <a:pt x="1685" y="389"/>
                </a:lnTo>
                <a:lnTo>
                  <a:pt x="1705" y="396"/>
                </a:lnTo>
                <a:lnTo>
                  <a:pt x="1718" y="409"/>
                </a:lnTo>
                <a:lnTo>
                  <a:pt x="1732" y="421"/>
                </a:lnTo>
                <a:lnTo>
                  <a:pt x="1745" y="421"/>
                </a:lnTo>
                <a:lnTo>
                  <a:pt x="1758" y="415"/>
                </a:lnTo>
                <a:lnTo>
                  <a:pt x="1778" y="409"/>
                </a:lnTo>
                <a:lnTo>
                  <a:pt x="1792" y="396"/>
                </a:lnTo>
                <a:lnTo>
                  <a:pt x="1805" y="383"/>
                </a:lnTo>
                <a:lnTo>
                  <a:pt x="1819" y="383"/>
                </a:lnTo>
                <a:lnTo>
                  <a:pt x="1832" y="389"/>
                </a:lnTo>
                <a:lnTo>
                  <a:pt x="1845" y="402"/>
                </a:lnTo>
              </a:path>
            </a:pathLst>
          </a:custGeom>
          <a:noFill/>
          <a:ln w="2844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46880" y="3691080"/>
            <a:ext cx="1677960" cy="50760"/>
          </a:xfrm>
          <a:custGeom>
            <a:avLst/>
            <a:gdLst/>
            <a:ahLst/>
            <a:rect l="l" t="t" r="r" b="b"/>
            <a:pathLst>
              <a:path w="1057" h="32">
                <a:moveTo>
                  <a:pt x="0" y="13"/>
                </a:moveTo>
                <a:lnTo>
                  <a:pt x="20" y="26"/>
                </a:lnTo>
                <a:lnTo>
                  <a:pt x="34" y="32"/>
                </a:lnTo>
                <a:lnTo>
                  <a:pt x="47" y="32"/>
                </a:lnTo>
                <a:lnTo>
                  <a:pt x="60" y="26"/>
                </a:lnTo>
                <a:lnTo>
                  <a:pt x="74" y="13"/>
                </a:lnTo>
                <a:lnTo>
                  <a:pt x="94" y="7"/>
                </a:lnTo>
                <a:lnTo>
                  <a:pt x="107" y="0"/>
                </a:lnTo>
                <a:lnTo>
                  <a:pt x="121" y="0"/>
                </a:lnTo>
                <a:lnTo>
                  <a:pt x="134" y="7"/>
                </a:lnTo>
                <a:lnTo>
                  <a:pt x="147" y="13"/>
                </a:lnTo>
                <a:lnTo>
                  <a:pt x="161" y="26"/>
                </a:lnTo>
                <a:lnTo>
                  <a:pt x="181" y="32"/>
                </a:lnTo>
                <a:lnTo>
                  <a:pt x="194" y="32"/>
                </a:lnTo>
                <a:lnTo>
                  <a:pt x="208" y="26"/>
                </a:lnTo>
                <a:lnTo>
                  <a:pt x="221" y="13"/>
                </a:lnTo>
                <a:lnTo>
                  <a:pt x="234" y="0"/>
                </a:lnTo>
                <a:lnTo>
                  <a:pt x="254" y="0"/>
                </a:lnTo>
                <a:lnTo>
                  <a:pt x="268" y="0"/>
                </a:lnTo>
                <a:lnTo>
                  <a:pt x="281" y="7"/>
                </a:lnTo>
                <a:lnTo>
                  <a:pt x="294" y="20"/>
                </a:lnTo>
                <a:lnTo>
                  <a:pt x="308" y="26"/>
                </a:lnTo>
                <a:lnTo>
                  <a:pt x="321" y="32"/>
                </a:lnTo>
                <a:lnTo>
                  <a:pt x="341" y="26"/>
                </a:lnTo>
                <a:lnTo>
                  <a:pt x="355" y="20"/>
                </a:lnTo>
                <a:lnTo>
                  <a:pt x="368" y="13"/>
                </a:lnTo>
                <a:lnTo>
                  <a:pt x="381" y="0"/>
                </a:lnTo>
                <a:lnTo>
                  <a:pt x="395" y="0"/>
                </a:lnTo>
                <a:lnTo>
                  <a:pt x="415" y="0"/>
                </a:lnTo>
                <a:lnTo>
                  <a:pt x="428" y="7"/>
                </a:lnTo>
                <a:lnTo>
                  <a:pt x="442" y="20"/>
                </a:lnTo>
                <a:lnTo>
                  <a:pt x="455" y="26"/>
                </a:lnTo>
                <a:lnTo>
                  <a:pt x="468" y="32"/>
                </a:lnTo>
                <a:lnTo>
                  <a:pt x="482" y="26"/>
                </a:lnTo>
                <a:lnTo>
                  <a:pt x="502" y="20"/>
                </a:lnTo>
                <a:lnTo>
                  <a:pt x="515" y="7"/>
                </a:lnTo>
                <a:lnTo>
                  <a:pt x="528" y="0"/>
                </a:lnTo>
                <a:lnTo>
                  <a:pt x="542" y="0"/>
                </a:lnTo>
                <a:lnTo>
                  <a:pt x="555" y="0"/>
                </a:lnTo>
                <a:lnTo>
                  <a:pt x="575" y="13"/>
                </a:lnTo>
                <a:lnTo>
                  <a:pt x="589" y="20"/>
                </a:lnTo>
                <a:lnTo>
                  <a:pt x="602" y="26"/>
                </a:lnTo>
                <a:lnTo>
                  <a:pt x="615" y="26"/>
                </a:lnTo>
                <a:lnTo>
                  <a:pt x="629" y="26"/>
                </a:lnTo>
                <a:lnTo>
                  <a:pt x="642" y="13"/>
                </a:lnTo>
                <a:lnTo>
                  <a:pt x="662" y="7"/>
                </a:lnTo>
                <a:lnTo>
                  <a:pt x="676" y="0"/>
                </a:lnTo>
                <a:lnTo>
                  <a:pt x="689" y="0"/>
                </a:lnTo>
                <a:lnTo>
                  <a:pt x="702" y="7"/>
                </a:lnTo>
                <a:lnTo>
                  <a:pt x="716" y="13"/>
                </a:lnTo>
                <a:lnTo>
                  <a:pt x="736" y="20"/>
                </a:lnTo>
                <a:lnTo>
                  <a:pt x="749" y="26"/>
                </a:lnTo>
                <a:lnTo>
                  <a:pt x="762" y="26"/>
                </a:lnTo>
                <a:lnTo>
                  <a:pt x="776" y="20"/>
                </a:lnTo>
                <a:lnTo>
                  <a:pt x="789" y="13"/>
                </a:lnTo>
                <a:lnTo>
                  <a:pt x="803" y="7"/>
                </a:lnTo>
                <a:lnTo>
                  <a:pt x="823" y="0"/>
                </a:lnTo>
                <a:lnTo>
                  <a:pt x="836" y="0"/>
                </a:lnTo>
                <a:lnTo>
                  <a:pt x="849" y="7"/>
                </a:lnTo>
                <a:lnTo>
                  <a:pt x="863" y="13"/>
                </a:lnTo>
                <a:lnTo>
                  <a:pt x="876" y="26"/>
                </a:lnTo>
                <a:lnTo>
                  <a:pt x="896" y="26"/>
                </a:lnTo>
                <a:lnTo>
                  <a:pt x="910" y="26"/>
                </a:lnTo>
                <a:lnTo>
                  <a:pt x="923" y="20"/>
                </a:lnTo>
                <a:lnTo>
                  <a:pt x="936" y="13"/>
                </a:lnTo>
                <a:lnTo>
                  <a:pt x="950" y="7"/>
                </a:lnTo>
                <a:lnTo>
                  <a:pt x="963" y="0"/>
                </a:lnTo>
                <a:lnTo>
                  <a:pt x="983" y="0"/>
                </a:lnTo>
                <a:lnTo>
                  <a:pt x="996" y="7"/>
                </a:lnTo>
                <a:lnTo>
                  <a:pt x="1010" y="20"/>
                </a:lnTo>
                <a:lnTo>
                  <a:pt x="1023" y="26"/>
                </a:lnTo>
                <a:lnTo>
                  <a:pt x="1037" y="26"/>
                </a:lnTo>
                <a:lnTo>
                  <a:pt x="1057" y="26"/>
                </a:lnTo>
              </a:path>
            </a:pathLst>
          </a:custGeom>
          <a:noFill/>
          <a:ln w="19080">
            <a:solidFill>
              <a:srgbClr val="0000ff"/>
            </a:solidFill>
            <a:prstDash val="sysDot"/>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3560760" y="2816280"/>
            <a:ext cx="2940120" cy="2798640"/>
          </a:xfrm>
          <a:custGeom>
            <a:avLst/>
            <a:gdLst/>
            <a:ahLst/>
            <a:rect l="l" t="t" r="r" b="b"/>
            <a:pathLst>
              <a:path w="1852" h="1763">
                <a:moveTo>
                  <a:pt x="0" y="1763"/>
                </a:moveTo>
                <a:lnTo>
                  <a:pt x="13" y="1316"/>
                </a:lnTo>
                <a:lnTo>
                  <a:pt x="27" y="791"/>
                </a:lnTo>
                <a:lnTo>
                  <a:pt x="40" y="337"/>
                </a:lnTo>
                <a:lnTo>
                  <a:pt x="60" y="156"/>
                </a:lnTo>
                <a:lnTo>
                  <a:pt x="73" y="292"/>
                </a:lnTo>
                <a:lnTo>
                  <a:pt x="87" y="538"/>
                </a:lnTo>
                <a:lnTo>
                  <a:pt x="100" y="603"/>
                </a:lnTo>
                <a:lnTo>
                  <a:pt x="113" y="389"/>
                </a:lnTo>
                <a:lnTo>
                  <a:pt x="127" y="123"/>
                </a:lnTo>
                <a:lnTo>
                  <a:pt x="147" y="0"/>
                </a:lnTo>
                <a:lnTo>
                  <a:pt x="160" y="97"/>
                </a:lnTo>
                <a:lnTo>
                  <a:pt x="174" y="370"/>
                </a:lnTo>
                <a:lnTo>
                  <a:pt x="187" y="661"/>
                </a:lnTo>
                <a:lnTo>
                  <a:pt x="200" y="726"/>
                </a:lnTo>
                <a:lnTo>
                  <a:pt x="220" y="525"/>
                </a:lnTo>
                <a:lnTo>
                  <a:pt x="234" y="266"/>
                </a:lnTo>
                <a:lnTo>
                  <a:pt x="247" y="149"/>
                </a:lnTo>
                <a:lnTo>
                  <a:pt x="261" y="227"/>
                </a:lnTo>
                <a:lnTo>
                  <a:pt x="274" y="460"/>
                </a:lnTo>
                <a:lnTo>
                  <a:pt x="287" y="700"/>
                </a:lnTo>
                <a:lnTo>
                  <a:pt x="307" y="752"/>
                </a:lnTo>
                <a:lnTo>
                  <a:pt x="321" y="577"/>
                </a:lnTo>
                <a:lnTo>
                  <a:pt x="334" y="350"/>
                </a:lnTo>
                <a:lnTo>
                  <a:pt x="347" y="240"/>
                </a:lnTo>
                <a:lnTo>
                  <a:pt x="361" y="298"/>
                </a:lnTo>
                <a:lnTo>
                  <a:pt x="381" y="493"/>
                </a:lnTo>
                <a:lnTo>
                  <a:pt x="394" y="694"/>
                </a:lnTo>
                <a:lnTo>
                  <a:pt x="408" y="746"/>
                </a:lnTo>
                <a:lnTo>
                  <a:pt x="421" y="603"/>
                </a:lnTo>
                <a:lnTo>
                  <a:pt x="434" y="409"/>
                </a:lnTo>
                <a:lnTo>
                  <a:pt x="448" y="305"/>
                </a:lnTo>
                <a:lnTo>
                  <a:pt x="468" y="350"/>
                </a:lnTo>
                <a:lnTo>
                  <a:pt x="481" y="506"/>
                </a:lnTo>
                <a:lnTo>
                  <a:pt x="495" y="674"/>
                </a:lnTo>
                <a:lnTo>
                  <a:pt x="508" y="726"/>
                </a:lnTo>
                <a:lnTo>
                  <a:pt x="521" y="616"/>
                </a:lnTo>
                <a:lnTo>
                  <a:pt x="541" y="460"/>
                </a:lnTo>
                <a:lnTo>
                  <a:pt x="555" y="363"/>
                </a:lnTo>
                <a:lnTo>
                  <a:pt x="568" y="383"/>
                </a:lnTo>
                <a:lnTo>
                  <a:pt x="581" y="506"/>
                </a:lnTo>
                <a:lnTo>
                  <a:pt x="595" y="648"/>
                </a:lnTo>
                <a:lnTo>
                  <a:pt x="608" y="700"/>
                </a:lnTo>
                <a:lnTo>
                  <a:pt x="628" y="629"/>
                </a:lnTo>
                <a:lnTo>
                  <a:pt x="642" y="499"/>
                </a:lnTo>
                <a:lnTo>
                  <a:pt x="655" y="409"/>
                </a:lnTo>
                <a:lnTo>
                  <a:pt x="668" y="409"/>
                </a:lnTo>
                <a:lnTo>
                  <a:pt x="682" y="506"/>
                </a:lnTo>
                <a:lnTo>
                  <a:pt x="702" y="622"/>
                </a:lnTo>
                <a:lnTo>
                  <a:pt x="715" y="681"/>
                </a:lnTo>
                <a:lnTo>
                  <a:pt x="729" y="635"/>
                </a:lnTo>
                <a:lnTo>
                  <a:pt x="742" y="525"/>
                </a:lnTo>
                <a:lnTo>
                  <a:pt x="755" y="441"/>
                </a:lnTo>
                <a:lnTo>
                  <a:pt x="769" y="434"/>
                </a:lnTo>
                <a:lnTo>
                  <a:pt x="789" y="499"/>
                </a:lnTo>
                <a:lnTo>
                  <a:pt x="802" y="596"/>
                </a:lnTo>
                <a:lnTo>
                  <a:pt x="815" y="655"/>
                </a:lnTo>
                <a:lnTo>
                  <a:pt x="829" y="635"/>
                </a:lnTo>
                <a:lnTo>
                  <a:pt x="842" y="551"/>
                </a:lnTo>
                <a:lnTo>
                  <a:pt x="862" y="473"/>
                </a:lnTo>
                <a:lnTo>
                  <a:pt x="876" y="454"/>
                </a:lnTo>
                <a:lnTo>
                  <a:pt x="889" y="499"/>
                </a:lnTo>
                <a:lnTo>
                  <a:pt x="902" y="577"/>
                </a:lnTo>
                <a:lnTo>
                  <a:pt x="916" y="635"/>
                </a:lnTo>
                <a:lnTo>
                  <a:pt x="929" y="629"/>
                </a:lnTo>
                <a:lnTo>
                  <a:pt x="949" y="571"/>
                </a:lnTo>
                <a:lnTo>
                  <a:pt x="963" y="506"/>
                </a:lnTo>
                <a:lnTo>
                  <a:pt x="976" y="473"/>
                </a:lnTo>
                <a:lnTo>
                  <a:pt x="989" y="499"/>
                </a:lnTo>
                <a:lnTo>
                  <a:pt x="1003" y="564"/>
                </a:lnTo>
                <a:lnTo>
                  <a:pt x="1023" y="616"/>
                </a:lnTo>
                <a:lnTo>
                  <a:pt x="1036" y="622"/>
                </a:lnTo>
                <a:lnTo>
                  <a:pt x="1049" y="583"/>
                </a:lnTo>
                <a:lnTo>
                  <a:pt x="1063" y="525"/>
                </a:lnTo>
                <a:lnTo>
                  <a:pt x="1076" y="493"/>
                </a:lnTo>
                <a:lnTo>
                  <a:pt x="1090" y="506"/>
                </a:lnTo>
                <a:lnTo>
                  <a:pt x="1110" y="551"/>
                </a:lnTo>
                <a:lnTo>
                  <a:pt x="1123" y="596"/>
                </a:lnTo>
                <a:lnTo>
                  <a:pt x="1136" y="616"/>
                </a:lnTo>
                <a:lnTo>
                  <a:pt x="1150" y="590"/>
                </a:lnTo>
                <a:lnTo>
                  <a:pt x="1163" y="545"/>
                </a:lnTo>
                <a:lnTo>
                  <a:pt x="1183" y="512"/>
                </a:lnTo>
                <a:lnTo>
                  <a:pt x="1197" y="512"/>
                </a:lnTo>
                <a:lnTo>
                  <a:pt x="1210" y="545"/>
                </a:lnTo>
                <a:lnTo>
                  <a:pt x="1223" y="583"/>
                </a:lnTo>
                <a:lnTo>
                  <a:pt x="1237" y="603"/>
                </a:lnTo>
                <a:lnTo>
                  <a:pt x="1250" y="590"/>
                </a:lnTo>
                <a:lnTo>
                  <a:pt x="1270" y="558"/>
                </a:lnTo>
                <a:lnTo>
                  <a:pt x="1283" y="525"/>
                </a:lnTo>
                <a:lnTo>
                  <a:pt x="1297" y="519"/>
                </a:lnTo>
                <a:lnTo>
                  <a:pt x="1310" y="538"/>
                </a:lnTo>
                <a:lnTo>
                  <a:pt x="1324" y="571"/>
                </a:lnTo>
                <a:lnTo>
                  <a:pt x="1344" y="596"/>
                </a:lnTo>
                <a:lnTo>
                  <a:pt x="1357" y="590"/>
                </a:lnTo>
                <a:lnTo>
                  <a:pt x="1370" y="564"/>
                </a:lnTo>
                <a:lnTo>
                  <a:pt x="1384" y="538"/>
                </a:lnTo>
                <a:lnTo>
                  <a:pt x="1397" y="525"/>
                </a:lnTo>
                <a:lnTo>
                  <a:pt x="1410" y="538"/>
                </a:lnTo>
                <a:lnTo>
                  <a:pt x="1431" y="564"/>
                </a:lnTo>
                <a:lnTo>
                  <a:pt x="1444" y="583"/>
                </a:lnTo>
                <a:lnTo>
                  <a:pt x="1457" y="590"/>
                </a:lnTo>
                <a:lnTo>
                  <a:pt x="1471" y="571"/>
                </a:lnTo>
                <a:lnTo>
                  <a:pt x="1484" y="551"/>
                </a:lnTo>
                <a:lnTo>
                  <a:pt x="1497" y="532"/>
                </a:lnTo>
                <a:lnTo>
                  <a:pt x="1517" y="538"/>
                </a:lnTo>
                <a:lnTo>
                  <a:pt x="1531" y="558"/>
                </a:lnTo>
                <a:lnTo>
                  <a:pt x="1544" y="577"/>
                </a:lnTo>
                <a:lnTo>
                  <a:pt x="1558" y="583"/>
                </a:lnTo>
                <a:lnTo>
                  <a:pt x="1571" y="577"/>
                </a:lnTo>
                <a:lnTo>
                  <a:pt x="1591" y="558"/>
                </a:lnTo>
                <a:lnTo>
                  <a:pt x="1604" y="545"/>
                </a:lnTo>
                <a:lnTo>
                  <a:pt x="1618" y="538"/>
                </a:lnTo>
                <a:lnTo>
                  <a:pt x="1631" y="551"/>
                </a:lnTo>
                <a:lnTo>
                  <a:pt x="1644" y="571"/>
                </a:lnTo>
                <a:lnTo>
                  <a:pt x="1658" y="583"/>
                </a:lnTo>
                <a:lnTo>
                  <a:pt x="1678" y="577"/>
                </a:lnTo>
                <a:lnTo>
                  <a:pt x="1691" y="564"/>
                </a:lnTo>
                <a:lnTo>
                  <a:pt x="1705" y="551"/>
                </a:lnTo>
                <a:lnTo>
                  <a:pt x="1718" y="545"/>
                </a:lnTo>
                <a:lnTo>
                  <a:pt x="1731" y="551"/>
                </a:lnTo>
                <a:lnTo>
                  <a:pt x="1751" y="564"/>
                </a:lnTo>
                <a:lnTo>
                  <a:pt x="1765" y="577"/>
                </a:lnTo>
                <a:lnTo>
                  <a:pt x="1778" y="577"/>
                </a:lnTo>
                <a:lnTo>
                  <a:pt x="1792" y="571"/>
                </a:lnTo>
                <a:lnTo>
                  <a:pt x="1805" y="558"/>
                </a:lnTo>
                <a:lnTo>
                  <a:pt x="1818" y="545"/>
                </a:lnTo>
                <a:lnTo>
                  <a:pt x="1838" y="551"/>
                </a:lnTo>
                <a:lnTo>
                  <a:pt x="1852" y="55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500880" y="3691080"/>
            <a:ext cx="1623960" cy="41040"/>
          </a:xfrm>
          <a:custGeom>
            <a:avLst/>
            <a:gdLst/>
            <a:ahLst/>
            <a:rect l="l" t="t" r="r" b="b"/>
            <a:pathLst>
              <a:path w="1023" h="26">
                <a:moveTo>
                  <a:pt x="0" y="7"/>
                </a:moveTo>
                <a:lnTo>
                  <a:pt x="13" y="20"/>
                </a:lnTo>
                <a:lnTo>
                  <a:pt x="26" y="26"/>
                </a:lnTo>
                <a:lnTo>
                  <a:pt x="40" y="20"/>
                </a:lnTo>
                <a:lnTo>
                  <a:pt x="60" y="7"/>
                </a:lnTo>
                <a:lnTo>
                  <a:pt x="73" y="0"/>
                </a:lnTo>
                <a:lnTo>
                  <a:pt x="87" y="0"/>
                </a:lnTo>
                <a:lnTo>
                  <a:pt x="100" y="7"/>
                </a:lnTo>
                <a:lnTo>
                  <a:pt x="113" y="20"/>
                </a:lnTo>
                <a:lnTo>
                  <a:pt x="127" y="20"/>
                </a:lnTo>
                <a:lnTo>
                  <a:pt x="147" y="20"/>
                </a:lnTo>
                <a:lnTo>
                  <a:pt x="160" y="13"/>
                </a:lnTo>
                <a:lnTo>
                  <a:pt x="174" y="7"/>
                </a:lnTo>
                <a:lnTo>
                  <a:pt x="187" y="0"/>
                </a:lnTo>
                <a:lnTo>
                  <a:pt x="200" y="7"/>
                </a:lnTo>
                <a:lnTo>
                  <a:pt x="220" y="13"/>
                </a:lnTo>
                <a:lnTo>
                  <a:pt x="234" y="20"/>
                </a:lnTo>
                <a:lnTo>
                  <a:pt x="247" y="20"/>
                </a:lnTo>
                <a:lnTo>
                  <a:pt x="260" y="13"/>
                </a:lnTo>
                <a:lnTo>
                  <a:pt x="274" y="7"/>
                </a:lnTo>
                <a:lnTo>
                  <a:pt x="287" y="7"/>
                </a:lnTo>
                <a:lnTo>
                  <a:pt x="307" y="7"/>
                </a:lnTo>
                <a:lnTo>
                  <a:pt x="321" y="13"/>
                </a:lnTo>
                <a:lnTo>
                  <a:pt x="334" y="20"/>
                </a:lnTo>
                <a:lnTo>
                  <a:pt x="347" y="20"/>
                </a:lnTo>
                <a:lnTo>
                  <a:pt x="361" y="20"/>
                </a:lnTo>
                <a:lnTo>
                  <a:pt x="381" y="13"/>
                </a:lnTo>
                <a:lnTo>
                  <a:pt x="394" y="7"/>
                </a:lnTo>
                <a:lnTo>
                  <a:pt x="408" y="7"/>
                </a:lnTo>
                <a:lnTo>
                  <a:pt x="421" y="7"/>
                </a:lnTo>
                <a:lnTo>
                  <a:pt x="434" y="13"/>
                </a:lnTo>
                <a:lnTo>
                  <a:pt x="448" y="20"/>
                </a:lnTo>
                <a:lnTo>
                  <a:pt x="468" y="20"/>
                </a:lnTo>
                <a:lnTo>
                  <a:pt x="481" y="13"/>
                </a:lnTo>
                <a:lnTo>
                  <a:pt x="494" y="7"/>
                </a:lnTo>
                <a:lnTo>
                  <a:pt x="508" y="7"/>
                </a:lnTo>
                <a:lnTo>
                  <a:pt x="521" y="7"/>
                </a:lnTo>
                <a:lnTo>
                  <a:pt x="541" y="13"/>
                </a:lnTo>
                <a:lnTo>
                  <a:pt x="555" y="20"/>
                </a:lnTo>
                <a:lnTo>
                  <a:pt x="568" y="20"/>
                </a:lnTo>
                <a:lnTo>
                  <a:pt x="581" y="13"/>
                </a:lnTo>
                <a:lnTo>
                  <a:pt x="595" y="13"/>
                </a:lnTo>
                <a:lnTo>
                  <a:pt x="608" y="7"/>
                </a:lnTo>
                <a:lnTo>
                  <a:pt x="628" y="7"/>
                </a:lnTo>
                <a:lnTo>
                  <a:pt x="642" y="13"/>
                </a:lnTo>
                <a:lnTo>
                  <a:pt x="655" y="13"/>
                </a:lnTo>
                <a:lnTo>
                  <a:pt x="668" y="20"/>
                </a:lnTo>
                <a:lnTo>
                  <a:pt x="682" y="13"/>
                </a:lnTo>
                <a:lnTo>
                  <a:pt x="702" y="13"/>
                </a:lnTo>
                <a:lnTo>
                  <a:pt x="715" y="13"/>
                </a:lnTo>
                <a:lnTo>
                  <a:pt x="728" y="7"/>
                </a:lnTo>
                <a:lnTo>
                  <a:pt x="742" y="13"/>
                </a:lnTo>
                <a:lnTo>
                  <a:pt x="755" y="13"/>
                </a:lnTo>
                <a:lnTo>
                  <a:pt x="769" y="13"/>
                </a:lnTo>
                <a:lnTo>
                  <a:pt x="789" y="13"/>
                </a:lnTo>
                <a:lnTo>
                  <a:pt x="802" y="13"/>
                </a:lnTo>
                <a:lnTo>
                  <a:pt x="815" y="13"/>
                </a:lnTo>
                <a:lnTo>
                  <a:pt x="829" y="7"/>
                </a:lnTo>
                <a:lnTo>
                  <a:pt x="842" y="13"/>
                </a:lnTo>
                <a:lnTo>
                  <a:pt x="862" y="13"/>
                </a:lnTo>
                <a:lnTo>
                  <a:pt x="876" y="13"/>
                </a:lnTo>
                <a:lnTo>
                  <a:pt x="889" y="13"/>
                </a:lnTo>
                <a:lnTo>
                  <a:pt x="902" y="13"/>
                </a:lnTo>
                <a:lnTo>
                  <a:pt x="916" y="13"/>
                </a:lnTo>
                <a:lnTo>
                  <a:pt x="929" y="13"/>
                </a:lnTo>
                <a:lnTo>
                  <a:pt x="949" y="13"/>
                </a:lnTo>
                <a:lnTo>
                  <a:pt x="962" y="13"/>
                </a:lnTo>
                <a:lnTo>
                  <a:pt x="976" y="13"/>
                </a:lnTo>
                <a:lnTo>
                  <a:pt x="989" y="13"/>
                </a:lnTo>
                <a:lnTo>
                  <a:pt x="1003" y="13"/>
                </a:lnTo>
                <a:lnTo>
                  <a:pt x="1023" y="13"/>
                </a:lnTo>
              </a:path>
            </a:pathLst>
          </a:custGeom>
          <a:noFill/>
          <a:ln w="19080">
            <a:solidFill>
              <a:srgbClr val="000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1" name=""/>
          <p:cNvSpPr/>
          <p:nvPr/>
        </p:nvSpPr>
        <p:spPr>
          <a:xfrm>
            <a:off x="5272560" y="6437160"/>
            <a:ext cx="159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MHz</a:t>
            </a:r>
            <a:endParaRPr b="0" lang="en-US" sz="1800" spc="-1" strike="noStrike">
              <a:solidFill>
                <a:srgbClr val="000000"/>
              </a:solidFill>
              <a:latin typeface="Times New Roman"/>
            </a:endParaRPr>
          </a:p>
        </p:txBody>
      </p:sp>
      <p:sp>
        <p:nvSpPr>
          <p:cNvPr id="362" name=""/>
          <p:cNvSpPr/>
          <p:nvPr/>
        </p:nvSpPr>
        <p:spPr>
          <a:xfrm rot="16200000">
            <a:off x="2733480" y="4203720"/>
            <a:ext cx="58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a:t>
            </a:r>
            <a:endParaRPr b="0" lang="en-US" sz="1800" spc="-1" strike="noStrike">
              <a:solidFill>
                <a:srgbClr val="000000"/>
              </a:solidFill>
              <a:latin typeface="Times New Roman"/>
            </a:endParaRPr>
          </a:p>
        </p:txBody>
      </p:sp>
      <p:sp>
        <p:nvSpPr>
          <p:cNvPr id="363"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03600" y="990720"/>
            <a:ext cx="739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Kirchhoff solution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separation of variables solution for the P-P scatte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tude of a void in an elastic solid (pulse-echo)</a:t>
            </a:r>
            <a:endParaRPr b="0" lang="en-US" sz="2400" spc="-1" strike="noStrike">
              <a:solidFill>
                <a:srgbClr val="000000"/>
              </a:solidFill>
              <a:latin typeface="Times New Roman"/>
            </a:endParaRPr>
          </a:p>
        </p:txBody>
      </p:sp>
      <p:sp>
        <p:nvSpPr>
          <p:cNvPr id="365" name=""/>
          <p:cNvSpPr/>
          <p:nvPr/>
        </p:nvSpPr>
        <p:spPr>
          <a:xfrm>
            <a:off x="1143000" y="3581280"/>
            <a:ext cx="9907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859400">
            <a:off x="1012680" y="3426840"/>
            <a:ext cx="1294560" cy="1294920"/>
          </a:xfrm>
          <a:custGeom>
            <a:avLst/>
            <a:gdLst/>
            <a:ahLst/>
            <a:rect l="l" t="t" r="r" b="b"/>
            <a:pathLst>
              <a:path stroke="0" w="21600" h="21600">
                <a:moveTo>
                  <a:pt x="10800" y="0"/>
                </a:moveTo>
                <a:arcTo wR="10800" hR="10800" stAng="-5400000" swAng="12720322"/>
                <a:lnTo>
                  <a:pt x="10800" y="10800"/>
                </a:lnTo>
                <a:close/>
              </a:path>
              <a:path fill="none" w="21600" h="21600">
                <a:moveTo>
                  <a:pt x="10800" y="0"/>
                </a:moveTo>
                <a:arcTo wR="10800" hR="10800" stAng="-5400000" swAng="12720322"/>
              </a:path>
            </a:pathLst>
          </a:custGeom>
          <a:noFill/>
          <a:ln w="9360">
            <a:solidFill>
              <a:srgbClr val="00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160" y="2286000"/>
            <a:ext cx="1732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ed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se</a:t>
            </a:r>
            <a:endParaRPr b="0" lang="en-US" sz="2400" spc="-1" strike="noStrike">
              <a:solidFill>
                <a:srgbClr val="000000"/>
              </a:solidFill>
              <a:latin typeface="Times New Roman"/>
            </a:endParaRPr>
          </a:p>
        </p:txBody>
      </p:sp>
      <p:sp>
        <p:nvSpPr>
          <p:cNvPr id="368" name=""/>
          <p:cNvSpPr/>
          <p:nvPr/>
        </p:nvSpPr>
        <p:spPr>
          <a:xfrm>
            <a:off x="532080" y="4800600"/>
            <a:ext cx="220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ping" wave</a:t>
            </a:r>
            <a:endParaRPr b="0" lang="en-US" sz="2400" spc="-1" strike="noStrike">
              <a:solidFill>
                <a:srgbClr val="000000"/>
              </a:solidFill>
              <a:latin typeface="Times New Roman"/>
            </a:endParaRPr>
          </a:p>
        </p:txBody>
      </p:sp>
      <p:sp>
        <p:nvSpPr>
          <p:cNvPr id="369" name=""/>
          <p:cNvSpPr/>
          <p:nvPr/>
        </p:nvSpPr>
        <p:spPr>
          <a:xfrm flipV="1">
            <a:off x="3962520" y="297144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91000" y="2819520"/>
            <a:ext cx="32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solution (solid line)</a:t>
            </a:r>
            <a:endParaRPr b="0" lang="en-US" sz="2400" spc="-1" strike="noStrike">
              <a:solidFill>
                <a:srgbClr val="000000"/>
              </a:solidFill>
              <a:latin typeface="Times New Roman"/>
            </a:endParaRPr>
          </a:p>
        </p:txBody>
      </p:sp>
      <p:sp>
        <p:nvSpPr>
          <p:cNvPr id="371" name=""/>
          <p:cNvSpPr/>
          <p:nvPr/>
        </p:nvSpPr>
        <p:spPr>
          <a:xfrm>
            <a:off x="3809880" y="3962520"/>
            <a:ext cx="3812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418640" y="4495680"/>
            <a:ext cx="244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s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ted line)</a:t>
            </a:r>
            <a:endParaRPr b="0" lang="en-US" sz="2400" spc="-1" strike="noStrike">
              <a:solidFill>
                <a:srgbClr val="000000"/>
              </a:solidFill>
              <a:latin typeface="Times New Roman"/>
            </a:endParaRPr>
          </a:p>
        </p:txBody>
      </p:sp>
      <p:sp>
        <p:nvSpPr>
          <p:cNvPr id="373" name=""/>
          <p:cNvSpPr/>
          <p:nvPr/>
        </p:nvSpPr>
        <p:spPr>
          <a:xfrm>
            <a:off x="808200" y="30574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flipV="1">
            <a:off x="914400" y="3048120"/>
            <a:ext cx="36360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41360" y="3286080"/>
            <a:ext cx="22860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1431720" y="3294000"/>
            <a:ext cx="214200" cy="372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001880" y="3578400"/>
            <a:ext cx="198360" cy="35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953640" y="3662280"/>
            <a:ext cx="235080" cy="385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81320" y="289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pherical Vo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130040" y="1066680"/>
            <a:ext cx="7089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ing the scattering amplitude (fluid model) into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a:t>
            </a:r>
            <a:endParaRPr b="0" lang="en-US" sz="2400" spc="-1" strike="noStrike">
              <a:solidFill>
                <a:srgbClr val="000000"/>
              </a:solidFill>
              <a:latin typeface="Times New Roman"/>
            </a:endParaRPr>
          </a:p>
        </p:txBody>
      </p:sp>
      <p:graphicFrame>
        <p:nvGraphicFramePr>
          <p:cNvPr id="382" name=""/>
          <p:cNvGraphicFramePr/>
          <p:nvPr/>
        </p:nvGraphicFramePr>
        <p:xfrm>
          <a:off x="1185840" y="1981080"/>
          <a:ext cx="6240600" cy="820800"/>
        </p:xfrm>
        <a:graphic>
          <a:graphicData uri="http://schemas.openxmlformats.org/presentationml/2006/ole">
            <p:oleObj r:id="rId1" spid="">
              <p:embed/>
              <p:pic>
                <p:nvPicPr>
                  <p:cNvPr id="383" name="" descr=""/>
                  <p:cNvPicPr/>
                  <p:nvPr/>
                </p:nvPicPr>
                <p:blipFill>
                  <a:blip r:embed="rId2"/>
                  <a:stretch/>
                </p:blipFill>
                <p:spPr>
                  <a:xfrm>
                    <a:off x="1185840" y="1981080"/>
                    <a:ext cx="6240600" cy="820800"/>
                  </a:xfrm>
                  <a:prstGeom prst="rect">
                    <a:avLst/>
                  </a:prstGeom>
                  <a:ln w="0">
                    <a:noFill/>
                  </a:ln>
                </p:spPr>
              </p:pic>
            </p:oleObj>
          </a:graphicData>
        </a:graphic>
      </p:graphicFrame>
      <p:graphicFrame>
        <p:nvGraphicFramePr>
          <p:cNvPr id="384" name=""/>
          <p:cNvGraphicFramePr/>
          <p:nvPr/>
        </p:nvGraphicFramePr>
        <p:xfrm>
          <a:off x="4876920" y="2895480"/>
          <a:ext cx="3657600" cy="1028880"/>
        </p:xfrm>
        <a:graphic>
          <a:graphicData uri="http://schemas.openxmlformats.org/presentationml/2006/ole">
            <p:oleObj r:id="rId3" spid="">
              <p:embed/>
              <p:pic>
                <p:nvPicPr>
                  <p:cNvPr id="385" name="" descr=""/>
                  <p:cNvPicPr/>
                  <p:nvPr/>
                </p:nvPicPr>
                <p:blipFill>
                  <a:blip r:embed="rId4"/>
                  <a:stretch/>
                </p:blipFill>
                <p:spPr>
                  <a:xfrm>
                    <a:off x="4876920" y="2895480"/>
                    <a:ext cx="3657600" cy="1028880"/>
                  </a:xfrm>
                  <a:prstGeom prst="rect">
                    <a:avLst/>
                  </a:prstGeom>
                  <a:ln w="0">
                    <a:noFill/>
                  </a:ln>
                </p:spPr>
              </p:pic>
            </p:oleObj>
          </a:graphicData>
        </a:graphic>
      </p:graphicFrame>
      <p:sp>
        <p:nvSpPr>
          <p:cNvPr id="386" name=""/>
          <p:cNvSpPr/>
          <p:nvPr/>
        </p:nvSpPr>
        <p:spPr>
          <a:xfrm>
            <a:off x="3505320" y="571500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4280" y="4267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975120" y="572760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038480" y="4038480"/>
            <a:ext cx="65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0" name=""/>
          <p:cNvSpPr/>
          <p:nvPr/>
        </p:nvSpPr>
        <p:spPr>
          <a:xfrm>
            <a:off x="6553080" y="5486400"/>
            <a:ext cx="26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graphicFrame>
        <p:nvGraphicFramePr>
          <p:cNvPr id="391" name=""/>
          <p:cNvGraphicFramePr/>
          <p:nvPr/>
        </p:nvGraphicFramePr>
        <p:xfrm>
          <a:off x="5029200" y="4495680"/>
          <a:ext cx="236520" cy="609840"/>
        </p:xfrm>
        <a:graphic>
          <a:graphicData uri="http://schemas.openxmlformats.org/presentationml/2006/ole">
            <p:oleObj r:id="rId5" spid="">
              <p:embed/>
              <p:pic>
                <p:nvPicPr>
                  <p:cNvPr id="392" name="" descr=""/>
                  <p:cNvPicPr/>
                  <p:nvPr/>
                </p:nvPicPr>
                <p:blipFill>
                  <a:blip r:embed="rId6"/>
                  <a:stretch/>
                </p:blipFill>
                <p:spPr>
                  <a:xfrm>
                    <a:off x="5029200" y="4495680"/>
                    <a:ext cx="236520" cy="609840"/>
                  </a:xfrm>
                  <a:prstGeom prst="rect">
                    <a:avLst/>
                  </a:prstGeom>
                  <a:ln w="0">
                    <a:noFill/>
                  </a:ln>
                </p:spPr>
              </p:pic>
            </p:oleObj>
          </a:graphicData>
        </a:graphic>
      </p:graphicFrame>
      <p:graphicFrame>
        <p:nvGraphicFramePr>
          <p:cNvPr id="393" name=""/>
          <p:cNvGraphicFramePr/>
          <p:nvPr/>
        </p:nvGraphicFramePr>
        <p:xfrm>
          <a:off x="4183200" y="5867280"/>
          <a:ext cx="309600" cy="532080"/>
        </p:xfrm>
        <a:graphic>
          <a:graphicData uri="http://schemas.openxmlformats.org/presentationml/2006/ole">
            <p:oleObj r:id="rId7" spid="">
              <p:embed/>
              <p:pic>
                <p:nvPicPr>
                  <p:cNvPr id="394" name="" descr=""/>
                  <p:cNvPicPr/>
                  <p:nvPr/>
                </p:nvPicPr>
                <p:blipFill>
                  <a:blip r:embed="rId8"/>
                  <a:stretch/>
                </p:blipFill>
                <p:spPr>
                  <a:xfrm>
                    <a:off x="4183200" y="5867280"/>
                    <a:ext cx="309600" cy="532080"/>
                  </a:xfrm>
                  <a:prstGeom prst="rect">
                    <a:avLst/>
                  </a:prstGeom>
                  <a:ln w="0">
                    <a:noFill/>
                  </a:ln>
                </p:spPr>
              </p:pic>
            </p:oleObj>
          </a:graphicData>
        </a:graphic>
      </p:graphicFrame>
      <p:sp>
        <p:nvSpPr>
          <p:cNvPr id="395" name=""/>
          <p:cNvSpPr/>
          <p:nvPr/>
        </p:nvSpPr>
        <p:spPr>
          <a:xfrm>
            <a:off x="3962520" y="4800600"/>
            <a:ext cx="76176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24280" y="5867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724280" y="4800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57040" y="579132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ing ed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399" name=""/>
          <p:cNvSpPr/>
          <p:nvPr/>
        </p:nvSpPr>
        <p:spPr>
          <a:xfrm>
            <a:off x="1905840" y="3962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 surf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400" name=""/>
          <p:cNvSpPr/>
          <p:nvPr/>
        </p:nvSpPr>
        <p:spPr>
          <a:xfrm>
            <a:off x="3276720" y="6248520"/>
            <a:ext cx="53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3276720" y="449568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181320" y="289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pherical Vo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0400" y="1260360"/>
            <a:ext cx="30229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s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void in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solid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 the Kirchhof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ion solution</a:t>
            </a:r>
            <a:endParaRPr b="0" lang="en-US" sz="2400" spc="-1" strike="noStrike">
              <a:solidFill>
                <a:srgbClr val="000000"/>
              </a:solidFill>
              <a:latin typeface="Times New Roman"/>
            </a:endParaRPr>
          </a:p>
        </p:txBody>
      </p:sp>
      <p:sp>
        <p:nvSpPr>
          <p:cNvPr id="405" name=""/>
          <p:cNvSpPr/>
          <p:nvPr/>
        </p:nvSpPr>
        <p:spPr>
          <a:xfrm>
            <a:off x="5522760" y="5567400"/>
            <a:ext cx="46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a:t>
            </a:r>
            <a:endParaRPr b="0" lang="en-US" sz="1500" spc="-1" strike="noStrike">
              <a:solidFill>
                <a:srgbClr val="000000"/>
              </a:solidFill>
              <a:latin typeface="Times New Roman"/>
            </a:endParaRPr>
          </a:p>
        </p:txBody>
      </p:sp>
      <p:sp>
        <p:nvSpPr>
          <p:cNvPr id="406" name=""/>
          <p:cNvSpPr/>
          <p:nvPr/>
        </p:nvSpPr>
        <p:spPr>
          <a:xfrm>
            <a:off x="5992560" y="554508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407" name=""/>
          <p:cNvSpPr/>
          <p:nvPr/>
        </p:nvSpPr>
        <p:spPr>
          <a:xfrm>
            <a:off x="6098040" y="5567400"/>
            <a:ext cx="29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a:t>
            </a:r>
            <a:endParaRPr b="0" lang="en-US" sz="1500" spc="-1" strike="noStrike">
              <a:solidFill>
                <a:srgbClr val="000000"/>
              </a:solidFill>
              <a:latin typeface="Times New Roman"/>
            </a:endParaRPr>
          </a:p>
        </p:txBody>
      </p:sp>
      <p:sp>
        <p:nvSpPr>
          <p:cNvPr id="408" name=""/>
          <p:cNvSpPr/>
          <p:nvPr/>
        </p:nvSpPr>
        <p:spPr>
          <a:xfrm>
            <a:off x="4648320" y="2611440"/>
            <a:ext cx="23760" cy="1262160"/>
          </a:xfrm>
          <a:custGeom>
            <a:avLst/>
            <a:gdLst/>
            <a:ahLst/>
            <a:rect l="l" t="t" r="r" b="b"/>
            <a:pathLst>
              <a:path w="15" h="795">
                <a:moveTo>
                  <a:pt x="0" y="794"/>
                </a:moveTo>
                <a:lnTo>
                  <a:pt x="0" y="754"/>
                </a:lnTo>
                <a:lnTo>
                  <a:pt x="10" y="754"/>
                </a:lnTo>
                <a:lnTo>
                  <a:pt x="10" y="795"/>
                </a:lnTo>
                <a:lnTo>
                  <a:pt x="0" y="794"/>
                </a:lnTo>
                <a:close/>
                <a:moveTo>
                  <a:pt x="1" y="724"/>
                </a:moveTo>
                <a:lnTo>
                  <a:pt x="1" y="684"/>
                </a:lnTo>
                <a:lnTo>
                  <a:pt x="11" y="684"/>
                </a:lnTo>
                <a:lnTo>
                  <a:pt x="11" y="724"/>
                </a:lnTo>
                <a:lnTo>
                  <a:pt x="1" y="724"/>
                </a:lnTo>
                <a:close/>
                <a:moveTo>
                  <a:pt x="1" y="654"/>
                </a:moveTo>
                <a:lnTo>
                  <a:pt x="1" y="614"/>
                </a:lnTo>
                <a:lnTo>
                  <a:pt x="11" y="614"/>
                </a:lnTo>
                <a:lnTo>
                  <a:pt x="11" y="654"/>
                </a:lnTo>
                <a:lnTo>
                  <a:pt x="1" y="654"/>
                </a:lnTo>
                <a:close/>
                <a:moveTo>
                  <a:pt x="1" y="584"/>
                </a:moveTo>
                <a:lnTo>
                  <a:pt x="2" y="544"/>
                </a:lnTo>
                <a:lnTo>
                  <a:pt x="12" y="544"/>
                </a:lnTo>
                <a:lnTo>
                  <a:pt x="11" y="584"/>
                </a:lnTo>
                <a:lnTo>
                  <a:pt x="1" y="584"/>
                </a:lnTo>
                <a:close/>
                <a:moveTo>
                  <a:pt x="2" y="514"/>
                </a:moveTo>
                <a:lnTo>
                  <a:pt x="2" y="474"/>
                </a:lnTo>
                <a:lnTo>
                  <a:pt x="12" y="474"/>
                </a:lnTo>
                <a:lnTo>
                  <a:pt x="12" y="514"/>
                </a:lnTo>
                <a:lnTo>
                  <a:pt x="2" y="514"/>
                </a:lnTo>
                <a:close/>
                <a:moveTo>
                  <a:pt x="2" y="444"/>
                </a:moveTo>
                <a:lnTo>
                  <a:pt x="3" y="404"/>
                </a:lnTo>
                <a:lnTo>
                  <a:pt x="13" y="404"/>
                </a:lnTo>
                <a:lnTo>
                  <a:pt x="12" y="444"/>
                </a:lnTo>
                <a:lnTo>
                  <a:pt x="2" y="444"/>
                </a:lnTo>
                <a:close/>
                <a:moveTo>
                  <a:pt x="3" y="374"/>
                </a:moveTo>
                <a:lnTo>
                  <a:pt x="3" y="334"/>
                </a:lnTo>
                <a:lnTo>
                  <a:pt x="13" y="334"/>
                </a:lnTo>
                <a:lnTo>
                  <a:pt x="13" y="374"/>
                </a:lnTo>
                <a:lnTo>
                  <a:pt x="3" y="374"/>
                </a:lnTo>
                <a:close/>
                <a:moveTo>
                  <a:pt x="3" y="304"/>
                </a:moveTo>
                <a:lnTo>
                  <a:pt x="4" y="264"/>
                </a:lnTo>
                <a:lnTo>
                  <a:pt x="13" y="264"/>
                </a:lnTo>
                <a:lnTo>
                  <a:pt x="13" y="304"/>
                </a:lnTo>
                <a:lnTo>
                  <a:pt x="3" y="304"/>
                </a:lnTo>
                <a:close/>
                <a:moveTo>
                  <a:pt x="4" y="234"/>
                </a:moveTo>
                <a:lnTo>
                  <a:pt x="4" y="194"/>
                </a:lnTo>
                <a:lnTo>
                  <a:pt x="14" y="194"/>
                </a:lnTo>
                <a:lnTo>
                  <a:pt x="14" y="234"/>
                </a:lnTo>
                <a:lnTo>
                  <a:pt x="4" y="234"/>
                </a:lnTo>
                <a:close/>
                <a:moveTo>
                  <a:pt x="4" y="164"/>
                </a:moveTo>
                <a:lnTo>
                  <a:pt x="4" y="124"/>
                </a:lnTo>
                <a:lnTo>
                  <a:pt x="14" y="124"/>
                </a:lnTo>
                <a:lnTo>
                  <a:pt x="14" y="164"/>
                </a:lnTo>
                <a:lnTo>
                  <a:pt x="4" y="164"/>
                </a:lnTo>
                <a:close/>
                <a:moveTo>
                  <a:pt x="5" y="94"/>
                </a:moveTo>
                <a:lnTo>
                  <a:pt x="5" y="54"/>
                </a:lnTo>
                <a:lnTo>
                  <a:pt x="15" y="54"/>
                </a:lnTo>
                <a:lnTo>
                  <a:pt x="15" y="94"/>
                </a:lnTo>
                <a:lnTo>
                  <a:pt x="5" y="94"/>
                </a:lnTo>
                <a:close/>
                <a:moveTo>
                  <a:pt x="5" y="24"/>
                </a:moveTo>
                <a:lnTo>
                  <a:pt x="5" y="0"/>
                </a:lnTo>
                <a:lnTo>
                  <a:pt x="15" y="0"/>
                </a:lnTo>
                <a:lnTo>
                  <a:pt x="15" y="24"/>
                </a:lnTo>
                <a:lnTo>
                  <a:pt x="5" y="24"/>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41760" y="2604960"/>
            <a:ext cx="122400" cy="15840"/>
          </a:xfrm>
          <a:custGeom>
            <a:avLst/>
            <a:gdLst/>
            <a:ahLst/>
            <a:rect l="l" t="t" r="r" b="b"/>
            <a:pathLst>
              <a:path w="77" h="10">
                <a:moveTo>
                  <a:pt x="0" y="0"/>
                </a:moveTo>
                <a:lnTo>
                  <a:pt x="40" y="0"/>
                </a:lnTo>
                <a:lnTo>
                  <a:pt x="40" y="10"/>
                </a:lnTo>
                <a:lnTo>
                  <a:pt x="0" y="10"/>
                </a:lnTo>
                <a:lnTo>
                  <a:pt x="0" y="0"/>
                </a:lnTo>
                <a:close/>
                <a:moveTo>
                  <a:pt x="70" y="0"/>
                </a:moveTo>
                <a:lnTo>
                  <a:pt x="77" y="0"/>
                </a:lnTo>
                <a:lnTo>
                  <a:pt x="77" y="10"/>
                </a:lnTo>
                <a:lnTo>
                  <a:pt x="70" y="10"/>
                </a:lnTo>
                <a:lnTo>
                  <a:pt x="70" y="0"/>
                </a:lnTo>
                <a:close/>
              </a:path>
            </a:pathLst>
          </a:custGeom>
          <a:solidFill>
            <a:srgbClr val="000000"/>
          </a:solidFill>
          <a:ln w="1440">
            <a:solidFill>
              <a:srgbClr val="000000"/>
            </a:solidFill>
            <a:beve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 name=""/>
          <p:cNvSpPr/>
          <p:nvPr/>
        </p:nvSpPr>
        <p:spPr>
          <a:xfrm>
            <a:off x="4471920" y="2616120"/>
            <a:ext cx="95400" cy="2400480"/>
          </a:xfrm>
          <a:custGeom>
            <a:avLst/>
            <a:gdLst/>
            <a:ahLst/>
            <a:rect l="l" t="t" r="r" b="b"/>
            <a:pathLst>
              <a:path w="60" h="1512">
                <a:moveTo>
                  <a:pt x="35" y="0"/>
                </a:moveTo>
                <a:lnTo>
                  <a:pt x="35" y="41"/>
                </a:lnTo>
                <a:lnTo>
                  <a:pt x="25" y="41"/>
                </a:lnTo>
                <a:lnTo>
                  <a:pt x="25" y="0"/>
                </a:lnTo>
                <a:lnTo>
                  <a:pt x="35" y="0"/>
                </a:lnTo>
                <a:close/>
                <a:moveTo>
                  <a:pt x="35" y="71"/>
                </a:moveTo>
                <a:lnTo>
                  <a:pt x="35" y="111"/>
                </a:lnTo>
                <a:lnTo>
                  <a:pt x="25" y="111"/>
                </a:lnTo>
                <a:lnTo>
                  <a:pt x="25" y="71"/>
                </a:lnTo>
                <a:lnTo>
                  <a:pt x="35" y="71"/>
                </a:lnTo>
                <a:close/>
                <a:moveTo>
                  <a:pt x="35" y="141"/>
                </a:moveTo>
                <a:lnTo>
                  <a:pt x="35" y="181"/>
                </a:lnTo>
                <a:lnTo>
                  <a:pt x="25" y="181"/>
                </a:lnTo>
                <a:lnTo>
                  <a:pt x="25" y="141"/>
                </a:lnTo>
                <a:lnTo>
                  <a:pt x="35" y="141"/>
                </a:lnTo>
                <a:close/>
                <a:moveTo>
                  <a:pt x="35" y="211"/>
                </a:moveTo>
                <a:lnTo>
                  <a:pt x="35" y="251"/>
                </a:lnTo>
                <a:lnTo>
                  <a:pt x="25" y="251"/>
                </a:lnTo>
                <a:lnTo>
                  <a:pt x="25" y="211"/>
                </a:lnTo>
                <a:lnTo>
                  <a:pt x="35" y="211"/>
                </a:lnTo>
                <a:close/>
                <a:moveTo>
                  <a:pt x="35" y="281"/>
                </a:moveTo>
                <a:lnTo>
                  <a:pt x="35" y="321"/>
                </a:lnTo>
                <a:lnTo>
                  <a:pt x="25" y="321"/>
                </a:lnTo>
                <a:lnTo>
                  <a:pt x="25" y="281"/>
                </a:lnTo>
                <a:lnTo>
                  <a:pt x="35" y="281"/>
                </a:lnTo>
                <a:close/>
                <a:moveTo>
                  <a:pt x="35" y="351"/>
                </a:moveTo>
                <a:lnTo>
                  <a:pt x="35" y="391"/>
                </a:lnTo>
                <a:lnTo>
                  <a:pt x="25" y="391"/>
                </a:lnTo>
                <a:lnTo>
                  <a:pt x="25" y="351"/>
                </a:lnTo>
                <a:lnTo>
                  <a:pt x="35" y="351"/>
                </a:lnTo>
                <a:close/>
                <a:moveTo>
                  <a:pt x="35" y="421"/>
                </a:moveTo>
                <a:lnTo>
                  <a:pt x="35" y="461"/>
                </a:lnTo>
                <a:lnTo>
                  <a:pt x="25" y="461"/>
                </a:lnTo>
                <a:lnTo>
                  <a:pt x="25" y="421"/>
                </a:lnTo>
                <a:lnTo>
                  <a:pt x="35" y="421"/>
                </a:lnTo>
                <a:close/>
                <a:moveTo>
                  <a:pt x="35" y="491"/>
                </a:moveTo>
                <a:lnTo>
                  <a:pt x="35" y="531"/>
                </a:lnTo>
                <a:lnTo>
                  <a:pt x="25" y="531"/>
                </a:lnTo>
                <a:lnTo>
                  <a:pt x="25" y="491"/>
                </a:lnTo>
                <a:lnTo>
                  <a:pt x="35" y="491"/>
                </a:lnTo>
                <a:close/>
                <a:moveTo>
                  <a:pt x="35" y="561"/>
                </a:moveTo>
                <a:lnTo>
                  <a:pt x="35" y="601"/>
                </a:lnTo>
                <a:lnTo>
                  <a:pt x="25" y="601"/>
                </a:lnTo>
                <a:lnTo>
                  <a:pt x="25" y="561"/>
                </a:lnTo>
                <a:lnTo>
                  <a:pt x="35" y="561"/>
                </a:lnTo>
                <a:close/>
                <a:moveTo>
                  <a:pt x="35" y="631"/>
                </a:moveTo>
                <a:lnTo>
                  <a:pt x="35" y="671"/>
                </a:lnTo>
                <a:lnTo>
                  <a:pt x="25" y="671"/>
                </a:lnTo>
                <a:lnTo>
                  <a:pt x="25" y="631"/>
                </a:lnTo>
                <a:lnTo>
                  <a:pt x="35" y="631"/>
                </a:lnTo>
                <a:close/>
                <a:moveTo>
                  <a:pt x="35" y="701"/>
                </a:moveTo>
                <a:lnTo>
                  <a:pt x="35" y="741"/>
                </a:lnTo>
                <a:lnTo>
                  <a:pt x="25" y="741"/>
                </a:lnTo>
                <a:lnTo>
                  <a:pt x="25" y="701"/>
                </a:lnTo>
                <a:lnTo>
                  <a:pt x="35" y="701"/>
                </a:lnTo>
                <a:close/>
                <a:moveTo>
                  <a:pt x="35" y="772"/>
                </a:moveTo>
                <a:lnTo>
                  <a:pt x="35" y="811"/>
                </a:lnTo>
                <a:lnTo>
                  <a:pt x="25" y="811"/>
                </a:lnTo>
                <a:lnTo>
                  <a:pt x="25" y="772"/>
                </a:lnTo>
                <a:lnTo>
                  <a:pt x="35" y="772"/>
                </a:lnTo>
                <a:close/>
                <a:moveTo>
                  <a:pt x="35" y="842"/>
                </a:moveTo>
                <a:lnTo>
                  <a:pt x="35" y="882"/>
                </a:lnTo>
                <a:lnTo>
                  <a:pt x="25" y="882"/>
                </a:lnTo>
                <a:lnTo>
                  <a:pt x="25" y="842"/>
                </a:lnTo>
                <a:lnTo>
                  <a:pt x="35" y="842"/>
                </a:lnTo>
                <a:close/>
                <a:moveTo>
                  <a:pt x="35" y="912"/>
                </a:moveTo>
                <a:lnTo>
                  <a:pt x="35" y="952"/>
                </a:lnTo>
                <a:lnTo>
                  <a:pt x="25" y="952"/>
                </a:lnTo>
                <a:lnTo>
                  <a:pt x="25" y="912"/>
                </a:lnTo>
                <a:lnTo>
                  <a:pt x="35" y="912"/>
                </a:lnTo>
                <a:close/>
                <a:moveTo>
                  <a:pt x="35" y="982"/>
                </a:moveTo>
                <a:lnTo>
                  <a:pt x="35" y="1022"/>
                </a:lnTo>
                <a:lnTo>
                  <a:pt x="25" y="1022"/>
                </a:lnTo>
                <a:lnTo>
                  <a:pt x="25" y="982"/>
                </a:lnTo>
                <a:lnTo>
                  <a:pt x="35" y="982"/>
                </a:lnTo>
                <a:close/>
                <a:moveTo>
                  <a:pt x="35" y="1052"/>
                </a:moveTo>
                <a:lnTo>
                  <a:pt x="35" y="1092"/>
                </a:lnTo>
                <a:lnTo>
                  <a:pt x="25" y="1092"/>
                </a:lnTo>
                <a:lnTo>
                  <a:pt x="25" y="1052"/>
                </a:lnTo>
                <a:lnTo>
                  <a:pt x="35" y="1052"/>
                </a:lnTo>
                <a:close/>
                <a:moveTo>
                  <a:pt x="35" y="1122"/>
                </a:moveTo>
                <a:lnTo>
                  <a:pt x="35" y="1162"/>
                </a:lnTo>
                <a:lnTo>
                  <a:pt x="25" y="1162"/>
                </a:lnTo>
                <a:lnTo>
                  <a:pt x="25" y="1122"/>
                </a:lnTo>
                <a:lnTo>
                  <a:pt x="35" y="1122"/>
                </a:lnTo>
                <a:close/>
                <a:moveTo>
                  <a:pt x="35" y="1192"/>
                </a:moveTo>
                <a:lnTo>
                  <a:pt x="35" y="1232"/>
                </a:lnTo>
                <a:lnTo>
                  <a:pt x="25" y="1232"/>
                </a:lnTo>
                <a:lnTo>
                  <a:pt x="25" y="1192"/>
                </a:lnTo>
                <a:lnTo>
                  <a:pt x="35" y="1192"/>
                </a:lnTo>
                <a:close/>
                <a:moveTo>
                  <a:pt x="35" y="1262"/>
                </a:moveTo>
                <a:lnTo>
                  <a:pt x="35" y="1302"/>
                </a:lnTo>
                <a:lnTo>
                  <a:pt x="25" y="1302"/>
                </a:lnTo>
                <a:lnTo>
                  <a:pt x="25" y="1262"/>
                </a:lnTo>
                <a:lnTo>
                  <a:pt x="35" y="1262"/>
                </a:lnTo>
                <a:close/>
                <a:moveTo>
                  <a:pt x="35" y="1332"/>
                </a:moveTo>
                <a:lnTo>
                  <a:pt x="35" y="1372"/>
                </a:lnTo>
                <a:lnTo>
                  <a:pt x="25" y="1372"/>
                </a:lnTo>
                <a:lnTo>
                  <a:pt x="25" y="1332"/>
                </a:lnTo>
                <a:lnTo>
                  <a:pt x="35" y="1332"/>
                </a:lnTo>
                <a:close/>
                <a:moveTo>
                  <a:pt x="35" y="1402"/>
                </a:moveTo>
                <a:lnTo>
                  <a:pt x="35" y="1442"/>
                </a:lnTo>
                <a:lnTo>
                  <a:pt x="25" y="1442"/>
                </a:lnTo>
                <a:lnTo>
                  <a:pt x="25" y="1402"/>
                </a:lnTo>
                <a:lnTo>
                  <a:pt x="35" y="1402"/>
                </a:lnTo>
                <a:close/>
                <a:moveTo>
                  <a:pt x="60" y="1452"/>
                </a:moveTo>
                <a:lnTo>
                  <a:pt x="30" y="1512"/>
                </a:lnTo>
                <a:lnTo>
                  <a:pt x="0" y="1452"/>
                </a:lnTo>
                <a:lnTo>
                  <a:pt x="60" y="145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640400" y="3868560"/>
            <a:ext cx="704880" cy="16200"/>
          </a:xfrm>
          <a:custGeom>
            <a:avLst/>
            <a:gdLst/>
            <a:ahLst/>
            <a:rect l="l" t="t" r="r" b="b"/>
            <a:pathLst>
              <a:path w="444" h="10">
                <a:moveTo>
                  <a:pt x="444" y="10"/>
                </a:moveTo>
                <a:lnTo>
                  <a:pt x="404" y="10"/>
                </a:lnTo>
                <a:lnTo>
                  <a:pt x="404" y="0"/>
                </a:lnTo>
                <a:lnTo>
                  <a:pt x="444" y="0"/>
                </a:lnTo>
                <a:lnTo>
                  <a:pt x="444" y="10"/>
                </a:lnTo>
                <a:close/>
                <a:moveTo>
                  <a:pt x="374" y="10"/>
                </a:moveTo>
                <a:lnTo>
                  <a:pt x="334" y="10"/>
                </a:lnTo>
                <a:lnTo>
                  <a:pt x="334" y="0"/>
                </a:lnTo>
                <a:lnTo>
                  <a:pt x="374" y="0"/>
                </a:lnTo>
                <a:lnTo>
                  <a:pt x="374" y="10"/>
                </a:lnTo>
                <a:close/>
                <a:moveTo>
                  <a:pt x="304" y="10"/>
                </a:moveTo>
                <a:lnTo>
                  <a:pt x="264" y="10"/>
                </a:lnTo>
                <a:lnTo>
                  <a:pt x="264" y="0"/>
                </a:lnTo>
                <a:lnTo>
                  <a:pt x="304" y="0"/>
                </a:lnTo>
                <a:lnTo>
                  <a:pt x="304" y="10"/>
                </a:lnTo>
                <a:close/>
                <a:moveTo>
                  <a:pt x="234" y="10"/>
                </a:moveTo>
                <a:lnTo>
                  <a:pt x="194" y="10"/>
                </a:lnTo>
                <a:lnTo>
                  <a:pt x="194" y="0"/>
                </a:lnTo>
                <a:lnTo>
                  <a:pt x="234" y="0"/>
                </a:lnTo>
                <a:lnTo>
                  <a:pt x="234" y="10"/>
                </a:lnTo>
                <a:close/>
                <a:moveTo>
                  <a:pt x="164" y="10"/>
                </a:moveTo>
                <a:lnTo>
                  <a:pt x="124" y="10"/>
                </a:lnTo>
                <a:lnTo>
                  <a:pt x="124" y="0"/>
                </a:lnTo>
                <a:lnTo>
                  <a:pt x="164" y="0"/>
                </a:lnTo>
                <a:lnTo>
                  <a:pt x="164" y="10"/>
                </a:lnTo>
                <a:close/>
                <a:moveTo>
                  <a:pt x="94" y="10"/>
                </a:moveTo>
                <a:lnTo>
                  <a:pt x="54" y="10"/>
                </a:lnTo>
                <a:lnTo>
                  <a:pt x="54" y="0"/>
                </a:lnTo>
                <a:lnTo>
                  <a:pt x="94" y="0"/>
                </a:lnTo>
                <a:lnTo>
                  <a:pt x="94" y="10"/>
                </a:lnTo>
                <a:close/>
                <a:moveTo>
                  <a:pt x="24" y="10"/>
                </a:moveTo>
                <a:lnTo>
                  <a:pt x="0" y="10"/>
                </a:lnTo>
                <a:lnTo>
                  <a:pt x="0" y="0"/>
                </a:lnTo>
                <a:lnTo>
                  <a:pt x="24" y="0"/>
                </a:lnTo>
                <a:lnTo>
                  <a:pt x="24" y="10"/>
                </a:lnTo>
                <a:close/>
              </a:path>
            </a:pathLst>
          </a:custGeom>
          <a:solidFill>
            <a:srgbClr val="000000"/>
          </a:solidFill>
          <a:ln w="1440">
            <a:solidFill>
              <a:srgbClr val="000000"/>
            </a:solidFill>
            <a:beve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2" name=""/>
          <p:cNvSpPr/>
          <p:nvPr/>
        </p:nvSpPr>
        <p:spPr>
          <a:xfrm>
            <a:off x="3944880" y="1754280"/>
            <a:ext cx="4238640" cy="34099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944880" y="1754280"/>
            <a:ext cx="42386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3944880" y="1754280"/>
            <a:ext cx="4238640" cy="3409920"/>
          </a:xfrm>
          <a:custGeom>
            <a:avLst/>
            <a:gdLst/>
            <a:ahLst/>
            <a:rect l="l" t="t" r="r" b="b"/>
            <a:pathLst>
              <a:path w="2670" h="2148">
                <a:moveTo>
                  <a:pt x="0" y="2148"/>
                </a:moveTo>
                <a:lnTo>
                  <a:pt x="2670" y="2148"/>
                </a:lnTo>
                <a:lnTo>
                  <a:pt x="267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944880" y="1754280"/>
            <a:ext cx="1800" cy="34099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944880" y="5164200"/>
            <a:ext cx="42386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V="1">
            <a:off x="394488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8" name=""/>
          <p:cNvSpPr/>
          <p:nvPr/>
        </p:nvSpPr>
        <p:spPr>
          <a:xfrm>
            <a:off x="394488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9" name=""/>
          <p:cNvSpPr/>
          <p:nvPr/>
        </p:nvSpPr>
        <p:spPr>
          <a:xfrm>
            <a:off x="3876840" y="5218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20" name=""/>
          <p:cNvSpPr/>
          <p:nvPr/>
        </p:nvSpPr>
        <p:spPr>
          <a:xfrm>
            <a:off x="392976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21" name=""/>
          <p:cNvSpPr/>
          <p:nvPr/>
        </p:nvSpPr>
        <p:spPr>
          <a:xfrm flipV="1">
            <a:off x="464652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2" name=""/>
          <p:cNvSpPr/>
          <p:nvPr/>
        </p:nvSpPr>
        <p:spPr>
          <a:xfrm>
            <a:off x="464652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461556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24" name=""/>
          <p:cNvSpPr/>
          <p:nvPr/>
        </p:nvSpPr>
        <p:spPr>
          <a:xfrm flipV="1">
            <a:off x="5349960" y="5111640"/>
            <a:ext cx="32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 name=""/>
          <p:cNvSpPr/>
          <p:nvPr/>
        </p:nvSpPr>
        <p:spPr>
          <a:xfrm>
            <a:off x="5349960" y="1754280"/>
            <a:ext cx="32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 name=""/>
          <p:cNvSpPr/>
          <p:nvPr/>
        </p:nvSpPr>
        <p:spPr>
          <a:xfrm>
            <a:off x="532044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27" name=""/>
          <p:cNvSpPr/>
          <p:nvPr/>
        </p:nvSpPr>
        <p:spPr>
          <a:xfrm flipV="1">
            <a:off x="6062760" y="5111640"/>
            <a:ext cx="14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8" name=""/>
          <p:cNvSpPr/>
          <p:nvPr/>
        </p:nvSpPr>
        <p:spPr>
          <a:xfrm>
            <a:off x="6062760" y="1754280"/>
            <a:ext cx="14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a:off x="603180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30" name=""/>
          <p:cNvSpPr/>
          <p:nvPr/>
        </p:nvSpPr>
        <p:spPr>
          <a:xfrm flipV="1">
            <a:off x="676584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 name=""/>
          <p:cNvSpPr/>
          <p:nvPr/>
        </p:nvSpPr>
        <p:spPr>
          <a:xfrm>
            <a:off x="676584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2" name=""/>
          <p:cNvSpPr/>
          <p:nvPr/>
        </p:nvSpPr>
        <p:spPr>
          <a:xfrm>
            <a:off x="673812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433" name=""/>
          <p:cNvSpPr/>
          <p:nvPr/>
        </p:nvSpPr>
        <p:spPr>
          <a:xfrm flipV="1">
            <a:off x="7469280" y="5111640"/>
            <a:ext cx="32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7469280" y="1754280"/>
            <a:ext cx="32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 name=""/>
          <p:cNvSpPr/>
          <p:nvPr/>
        </p:nvSpPr>
        <p:spPr>
          <a:xfrm>
            <a:off x="744120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436" name=""/>
          <p:cNvSpPr/>
          <p:nvPr/>
        </p:nvSpPr>
        <p:spPr>
          <a:xfrm flipV="1">
            <a:off x="818352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7" name=""/>
          <p:cNvSpPr/>
          <p:nvPr/>
        </p:nvSpPr>
        <p:spPr>
          <a:xfrm>
            <a:off x="818352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 name=""/>
          <p:cNvSpPr/>
          <p:nvPr/>
        </p:nvSpPr>
        <p:spPr>
          <a:xfrm>
            <a:off x="8114040" y="521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39" name=""/>
          <p:cNvSpPr/>
          <p:nvPr/>
        </p:nvSpPr>
        <p:spPr>
          <a:xfrm>
            <a:off x="3944880" y="516420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flipH="1">
            <a:off x="8133840" y="516420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3657600" y="5094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2" name=""/>
          <p:cNvSpPr/>
          <p:nvPr/>
        </p:nvSpPr>
        <p:spPr>
          <a:xfrm>
            <a:off x="3710160" y="5094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443" name=""/>
          <p:cNvSpPr/>
          <p:nvPr/>
        </p:nvSpPr>
        <p:spPr>
          <a:xfrm>
            <a:off x="3944880" y="473544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flipH="1">
            <a:off x="8133840" y="4735440"/>
            <a:ext cx="49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763800" y="4668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6" name=""/>
          <p:cNvSpPr/>
          <p:nvPr/>
        </p:nvSpPr>
        <p:spPr>
          <a:xfrm>
            <a:off x="3817080" y="46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47" name=""/>
          <p:cNvSpPr/>
          <p:nvPr/>
        </p:nvSpPr>
        <p:spPr>
          <a:xfrm>
            <a:off x="3944880" y="430524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 name=""/>
          <p:cNvSpPr/>
          <p:nvPr/>
        </p:nvSpPr>
        <p:spPr>
          <a:xfrm flipH="1">
            <a:off x="8133840" y="430524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a:off x="3657600" y="42400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50" name=""/>
          <p:cNvSpPr/>
          <p:nvPr/>
        </p:nvSpPr>
        <p:spPr>
          <a:xfrm>
            <a:off x="3710160" y="4240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451" name=""/>
          <p:cNvSpPr/>
          <p:nvPr/>
        </p:nvSpPr>
        <p:spPr>
          <a:xfrm>
            <a:off x="3944880" y="3878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flipH="1">
            <a:off x="8133840" y="38782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3802680" y="38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54" name=""/>
          <p:cNvSpPr/>
          <p:nvPr/>
        </p:nvSpPr>
        <p:spPr>
          <a:xfrm>
            <a:off x="3944880" y="345924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8133840" y="345924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3695760" y="33926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457" name=""/>
          <p:cNvSpPr/>
          <p:nvPr/>
        </p:nvSpPr>
        <p:spPr>
          <a:xfrm>
            <a:off x="3944880" y="3032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flipH="1">
            <a:off x="8133840" y="30322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3802680" y="296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60" name=""/>
          <p:cNvSpPr/>
          <p:nvPr/>
        </p:nvSpPr>
        <p:spPr>
          <a:xfrm>
            <a:off x="3944880" y="260028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flipH="1">
            <a:off x="8133840" y="26020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3695760" y="2536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463" name=""/>
          <p:cNvSpPr/>
          <p:nvPr/>
        </p:nvSpPr>
        <p:spPr>
          <a:xfrm>
            <a:off x="3944880" y="217332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 name=""/>
          <p:cNvSpPr/>
          <p:nvPr/>
        </p:nvSpPr>
        <p:spPr>
          <a:xfrm flipH="1">
            <a:off x="8133840" y="217332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 name=""/>
          <p:cNvSpPr/>
          <p:nvPr/>
        </p:nvSpPr>
        <p:spPr>
          <a:xfrm>
            <a:off x="3802680" y="210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66" name=""/>
          <p:cNvSpPr/>
          <p:nvPr/>
        </p:nvSpPr>
        <p:spPr>
          <a:xfrm>
            <a:off x="3944880" y="175428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 name=""/>
          <p:cNvSpPr/>
          <p:nvPr/>
        </p:nvSpPr>
        <p:spPr>
          <a:xfrm flipH="1">
            <a:off x="8133840" y="175428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3695760" y="1687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469" name=""/>
          <p:cNvSpPr/>
          <p:nvPr/>
        </p:nvSpPr>
        <p:spPr>
          <a:xfrm>
            <a:off x="3944880" y="1754280"/>
            <a:ext cx="4238640" cy="3409920"/>
          </a:xfrm>
          <a:custGeom>
            <a:avLst/>
            <a:gdLst/>
            <a:ahLst/>
            <a:rect l="l" t="t" r="r" b="b"/>
            <a:pathLst>
              <a:path w="2670" h="2148">
                <a:moveTo>
                  <a:pt x="0" y="2148"/>
                </a:moveTo>
                <a:lnTo>
                  <a:pt x="2670" y="2148"/>
                </a:lnTo>
                <a:lnTo>
                  <a:pt x="267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295880" y="2065320"/>
            <a:ext cx="644400" cy="2738520"/>
          </a:xfrm>
          <a:custGeom>
            <a:avLst/>
            <a:gdLst/>
            <a:ahLst/>
            <a:rect l="l" t="t" r="r" b="b"/>
            <a:pathLst>
              <a:path w="406" h="1725">
                <a:moveTo>
                  <a:pt x="0" y="1142"/>
                </a:moveTo>
                <a:lnTo>
                  <a:pt x="6" y="1148"/>
                </a:lnTo>
                <a:lnTo>
                  <a:pt x="6" y="1142"/>
                </a:lnTo>
                <a:lnTo>
                  <a:pt x="18" y="1142"/>
                </a:lnTo>
                <a:lnTo>
                  <a:pt x="12" y="1142"/>
                </a:lnTo>
                <a:lnTo>
                  <a:pt x="18" y="1142"/>
                </a:lnTo>
                <a:lnTo>
                  <a:pt x="25" y="1148"/>
                </a:lnTo>
                <a:lnTo>
                  <a:pt x="31" y="1142"/>
                </a:lnTo>
                <a:lnTo>
                  <a:pt x="31" y="1148"/>
                </a:lnTo>
                <a:lnTo>
                  <a:pt x="43" y="1142"/>
                </a:lnTo>
                <a:lnTo>
                  <a:pt x="43" y="1148"/>
                </a:lnTo>
                <a:lnTo>
                  <a:pt x="43" y="1142"/>
                </a:lnTo>
                <a:lnTo>
                  <a:pt x="55" y="1142"/>
                </a:lnTo>
                <a:lnTo>
                  <a:pt x="49" y="1142"/>
                </a:lnTo>
                <a:lnTo>
                  <a:pt x="55" y="1148"/>
                </a:lnTo>
                <a:lnTo>
                  <a:pt x="62" y="1142"/>
                </a:lnTo>
                <a:lnTo>
                  <a:pt x="62" y="1148"/>
                </a:lnTo>
                <a:lnTo>
                  <a:pt x="68" y="1142"/>
                </a:lnTo>
                <a:lnTo>
                  <a:pt x="73" y="1148"/>
                </a:lnTo>
                <a:lnTo>
                  <a:pt x="73" y="1135"/>
                </a:lnTo>
                <a:lnTo>
                  <a:pt x="79" y="1142"/>
                </a:lnTo>
                <a:lnTo>
                  <a:pt x="79" y="1148"/>
                </a:lnTo>
                <a:lnTo>
                  <a:pt x="79" y="1142"/>
                </a:lnTo>
                <a:lnTo>
                  <a:pt x="85" y="1148"/>
                </a:lnTo>
                <a:lnTo>
                  <a:pt x="85" y="1142"/>
                </a:lnTo>
                <a:lnTo>
                  <a:pt x="98" y="1148"/>
                </a:lnTo>
                <a:lnTo>
                  <a:pt x="91" y="1148"/>
                </a:lnTo>
                <a:lnTo>
                  <a:pt x="98" y="1135"/>
                </a:lnTo>
                <a:lnTo>
                  <a:pt x="98" y="1142"/>
                </a:lnTo>
                <a:lnTo>
                  <a:pt x="104" y="1154"/>
                </a:lnTo>
                <a:lnTo>
                  <a:pt x="104" y="1135"/>
                </a:lnTo>
                <a:lnTo>
                  <a:pt x="110" y="1148"/>
                </a:lnTo>
                <a:lnTo>
                  <a:pt x="110" y="1135"/>
                </a:lnTo>
                <a:lnTo>
                  <a:pt x="116" y="1142"/>
                </a:lnTo>
                <a:lnTo>
                  <a:pt x="116" y="1154"/>
                </a:lnTo>
                <a:lnTo>
                  <a:pt x="122" y="1135"/>
                </a:lnTo>
                <a:lnTo>
                  <a:pt x="122" y="1161"/>
                </a:lnTo>
                <a:lnTo>
                  <a:pt x="128" y="1148"/>
                </a:lnTo>
                <a:lnTo>
                  <a:pt x="128" y="1123"/>
                </a:lnTo>
                <a:lnTo>
                  <a:pt x="128" y="1154"/>
                </a:lnTo>
                <a:lnTo>
                  <a:pt x="134" y="1167"/>
                </a:lnTo>
                <a:lnTo>
                  <a:pt x="134" y="1110"/>
                </a:lnTo>
                <a:lnTo>
                  <a:pt x="134" y="1129"/>
                </a:lnTo>
                <a:lnTo>
                  <a:pt x="141" y="1223"/>
                </a:lnTo>
                <a:lnTo>
                  <a:pt x="141" y="1054"/>
                </a:lnTo>
                <a:lnTo>
                  <a:pt x="147" y="558"/>
                </a:lnTo>
                <a:lnTo>
                  <a:pt x="147" y="87"/>
                </a:lnTo>
                <a:lnTo>
                  <a:pt x="153" y="137"/>
                </a:lnTo>
                <a:lnTo>
                  <a:pt x="153" y="12"/>
                </a:lnTo>
                <a:lnTo>
                  <a:pt x="159" y="37"/>
                </a:lnTo>
                <a:lnTo>
                  <a:pt x="159" y="0"/>
                </a:lnTo>
                <a:lnTo>
                  <a:pt x="165" y="12"/>
                </a:lnTo>
                <a:lnTo>
                  <a:pt x="165" y="44"/>
                </a:lnTo>
                <a:lnTo>
                  <a:pt x="171" y="37"/>
                </a:lnTo>
                <a:lnTo>
                  <a:pt x="171" y="80"/>
                </a:lnTo>
                <a:lnTo>
                  <a:pt x="178" y="99"/>
                </a:lnTo>
                <a:lnTo>
                  <a:pt x="178" y="137"/>
                </a:lnTo>
                <a:lnTo>
                  <a:pt x="184" y="175"/>
                </a:lnTo>
                <a:lnTo>
                  <a:pt x="184" y="219"/>
                </a:lnTo>
                <a:lnTo>
                  <a:pt x="190" y="263"/>
                </a:lnTo>
                <a:lnTo>
                  <a:pt x="190" y="320"/>
                </a:lnTo>
                <a:lnTo>
                  <a:pt x="196" y="356"/>
                </a:lnTo>
                <a:lnTo>
                  <a:pt x="196" y="394"/>
                </a:lnTo>
                <a:lnTo>
                  <a:pt x="202" y="420"/>
                </a:lnTo>
                <a:lnTo>
                  <a:pt x="202" y="501"/>
                </a:lnTo>
                <a:lnTo>
                  <a:pt x="209" y="527"/>
                </a:lnTo>
                <a:lnTo>
                  <a:pt x="209" y="596"/>
                </a:lnTo>
                <a:lnTo>
                  <a:pt x="215" y="627"/>
                </a:lnTo>
                <a:lnTo>
                  <a:pt x="215" y="689"/>
                </a:lnTo>
                <a:lnTo>
                  <a:pt x="221" y="727"/>
                </a:lnTo>
                <a:lnTo>
                  <a:pt x="221" y="746"/>
                </a:lnTo>
                <a:lnTo>
                  <a:pt x="227" y="777"/>
                </a:lnTo>
                <a:lnTo>
                  <a:pt x="227" y="841"/>
                </a:lnTo>
                <a:lnTo>
                  <a:pt x="233" y="859"/>
                </a:lnTo>
                <a:lnTo>
                  <a:pt x="233" y="916"/>
                </a:lnTo>
                <a:lnTo>
                  <a:pt x="239" y="934"/>
                </a:lnTo>
                <a:lnTo>
                  <a:pt x="239" y="984"/>
                </a:lnTo>
                <a:lnTo>
                  <a:pt x="246" y="1003"/>
                </a:lnTo>
                <a:lnTo>
                  <a:pt x="246" y="1022"/>
                </a:lnTo>
                <a:lnTo>
                  <a:pt x="252" y="1047"/>
                </a:lnTo>
                <a:lnTo>
                  <a:pt x="252" y="1079"/>
                </a:lnTo>
                <a:lnTo>
                  <a:pt x="258" y="1098"/>
                </a:lnTo>
                <a:lnTo>
                  <a:pt x="258" y="1123"/>
                </a:lnTo>
                <a:lnTo>
                  <a:pt x="264" y="1135"/>
                </a:lnTo>
                <a:lnTo>
                  <a:pt x="264" y="1167"/>
                </a:lnTo>
                <a:lnTo>
                  <a:pt x="270" y="1173"/>
                </a:lnTo>
                <a:lnTo>
                  <a:pt x="270" y="1186"/>
                </a:lnTo>
                <a:lnTo>
                  <a:pt x="276" y="1198"/>
                </a:lnTo>
                <a:lnTo>
                  <a:pt x="276" y="1211"/>
                </a:lnTo>
                <a:lnTo>
                  <a:pt x="283" y="1223"/>
                </a:lnTo>
                <a:lnTo>
                  <a:pt x="289" y="1235"/>
                </a:lnTo>
                <a:lnTo>
                  <a:pt x="289" y="1242"/>
                </a:lnTo>
                <a:lnTo>
                  <a:pt x="289" y="1235"/>
                </a:lnTo>
                <a:lnTo>
                  <a:pt x="301" y="1248"/>
                </a:lnTo>
                <a:lnTo>
                  <a:pt x="301" y="1254"/>
                </a:lnTo>
                <a:lnTo>
                  <a:pt x="307" y="1248"/>
                </a:lnTo>
                <a:lnTo>
                  <a:pt x="313" y="1242"/>
                </a:lnTo>
                <a:lnTo>
                  <a:pt x="313" y="1235"/>
                </a:lnTo>
                <a:lnTo>
                  <a:pt x="320" y="1242"/>
                </a:lnTo>
                <a:lnTo>
                  <a:pt x="320" y="1223"/>
                </a:lnTo>
                <a:lnTo>
                  <a:pt x="326" y="1223"/>
                </a:lnTo>
                <a:lnTo>
                  <a:pt x="326" y="1211"/>
                </a:lnTo>
                <a:lnTo>
                  <a:pt x="332" y="1186"/>
                </a:lnTo>
                <a:lnTo>
                  <a:pt x="332" y="1173"/>
                </a:lnTo>
                <a:lnTo>
                  <a:pt x="338" y="1142"/>
                </a:lnTo>
                <a:lnTo>
                  <a:pt x="338" y="1079"/>
                </a:lnTo>
                <a:lnTo>
                  <a:pt x="344" y="953"/>
                </a:lnTo>
                <a:lnTo>
                  <a:pt x="344" y="790"/>
                </a:lnTo>
                <a:lnTo>
                  <a:pt x="344" y="815"/>
                </a:lnTo>
                <a:lnTo>
                  <a:pt x="350" y="1085"/>
                </a:lnTo>
                <a:lnTo>
                  <a:pt x="350" y="1405"/>
                </a:lnTo>
                <a:lnTo>
                  <a:pt x="356" y="1606"/>
                </a:lnTo>
                <a:lnTo>
                  <a:pt x="356" y="1725"/>
                </a:lnTo>
                <a:lnTo>
                  <a:pt x="363" y="1707"/>
                </a:lnTo>
                <a:lnTo>
                  <a:pt x="363" y="1606"/>
                </a:lnTo>
                <a:lnTo>
                  <a:pt x="369" y="1555"/>
                </a:lnTo>
                <a:lnTo>
                  <a:pt x="369" y="1456"/>
                </a:lnTo>
                <a:lnTo>
                  <a:pt x="375" y="1424"/>
                </a:lnTo>
                <a:lnTo>
                  <a:pt x="375" y="1386"/>
                </a:lnTo>
                <a:lnTo>
                  <a:pt x="381" y="1349"/>
                </a:lnTo>
                <a:lnTo>
                  <a:pt x="381" y="1304"/>
                </a:lnTo>
                <a:lnTo>
                  <a:pt x="387" y="1279"/>
                </a:lnTo>
                <a:lnTo>
                  <a:pt x="387" y="1248"/>
                </a:lnTo>
                <a:lnTo>
                  <a:pt x="393" y="1229"/>
                </a:lnTo>
                <a:lnTo>
                  <a:pt x="393" y="1211"/>
                </a:lnTo>
                <a:lnTo>
                  <a:pt x="400" y="1198"/>
                </a:lnTo>
                <a:lnTo>
                  <a:pt x="400" y="1186"/>
                </a:lnTo>
                <a:lnTo>
                  <a:pt x="406" y="1180"/>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940280" y="3838680"/>
            <a:ext cx="1201680" cy="100080"/>
          </a:xfrm>
          <a:custGeom>
            <a:avLst/>
            <a:gdLst/>
            <a:ahLst/>
            <a:rect l="l" t="t" r="r" b="b"/>
            <a:pathLst>
              <a:path w="757" h="63">
                <a:moveTo>
                  <a:pt x="0" y="63"/>
                </a:moveTo>
                <a:lnTo>
                  <a:pt x="0" y="50"/>
                </a:lnTo>
                <a:lnTo>
                  <a:pt x="6" y="44"/>
                </a:lnTo>
                <a:lnTo>
                  <a:pt x="6" y="32"/>
                </a:lnTo>
                <a:lnTo>
                  <a:pt x="18" y="19"/>
                </a:lnTo>
                <a:lnTo>
                  <a:pt x="18" y="13"/>
                </a:lnTo>
                <a:lnTo>
                  <a:pt x="24" y="6"/>
                </a:lnTo>
                <a:lnTo>
                  <a:pt x="31" y="6"/>
                </a:lnTo>
                <a:lnTo>
                  <a:pt x="37" y="0"/>
                </a:lnTo>
                <a:lnTo>
                  <a:pt x="43" y="0"/>
                </a:lnTo>
                <a:lnTo>
                  <a:pt x="49" y="0"/>
                </a:lnTo>
                <a:lnTo>
                  <a:pt x="55" y="0"/>
                </a:lnTo>
                <a:lnTo>
                  <a:pt x="61" y="0"/>
                </a:lnTo>
                <a:lnTo>
                  <a:pt x="68" y="0"/>
                </a:lnTo>
                <a:lnTo>
                  <a:pt x="74" y="6"/>
                </a:lnTo>
                <a:lnTo>
                  <a:pt x="80" y="6"/>
                </a:lnTo>
                <a:lnTo>
                  <a:pt x="86" y="6"/>
                </a:lnTo>
                <a:lnTo>
                  <a:pt x="92" y="6"/>
                </a:lnTo>
                <a:lnTo>
                  <a:pt x="98" y="13"/>
                </a:lnTo>
                <a:lnTo>
                  <a:pt x="105" y="13"/>
                </a:lnTo>
                <a:lnTo>
                  <a:pt x="111" y="19"/>
                </a:lnTo>
                <a:lnTo>
                  <a:pt x="117" y="19"/>
                </a:lnTo>
                <a:lnTo>
                  <a:pt x="123" y="19"/>
                </a:lnTo>
                <a:lnTo>
                  <a:pt x="129" y="19"/>
                </a:lnTo>
                <a:lnTo>
                  <a:pt x="136" y="25"/>
                </a:lnTo>
                <a:lnTo>
                  <a:pt x="142" y="25"/>
                </a:lnTo>
                <a:lnTo>
                  <a:pt x="148" y="25"/>
                </a:lnTo>
                <a:lnTo>
                  <a:pt x="154" y="25"/>
                </a:lnTo>
                <a:lnTo>
                  <a:pt x="159" y="25"/>
                </a:lnTo>
                <a:lnTo>
                  <a:pt x="165" y="32"/>
                </a:lnTo>
                <a:lnTo>
                  <a:pt x="165" y="25"/>
                </a:lnTo>
                <a:lnTo>
                  <a:pt x="178" y="32"/>
                </a:lnTo>
                <a:lnTo>
                  <a:pt x="184" y="32"/>
                </a:lnTo>
                <a:lnTo>
                  <a:pt x="190" y="32"/>
                </a:lnTo>
                <a:lnTo>
                  <a:pt x="196" y="32"/>
                </a:lnTo>
                <a:lnTo>
                  <a:pt x="202" y="32"/>
                </a:lnTo>
                <a:lnTo>
                  <a:pt x="208" y="32"/>
                </a:lnTo>
                <a:lnTo>
                  <a:pt x="221" y="32"/>
                </a:lnTo>
                <a:lnTo>
                  <a:pt x="215" y="32"/>
                </a:lnTo>
                <a:lnTo>
                  <a:pt x="221" y="25"/>
                </a:lnTo>
                <a:lnTo>
                  <a:pt x="233" y="25"/>
                </a:lnTo>
                <a:lnTo>
                  <a:pt x="227" y="25"/>
                </a:lnTo>
                <a:lnTo>
                  <a:pt x="233" y="25"/>
                </a:lnTo>
                <a:lnTo>
                  <a:pt x="239" y="25"/>
                </a:lnTo>
                <a:lnTo>
                  <a:pt x="246" y="25"/>
                </a:lnTo>
                <a:lnTo>
                  <a:pt x="252" y="25"/>
                </a:lnTo>
                <a:lnTo>
                  <a:pt x="258" y="25"/>
                </a:lnTo>
                <a:lnTo>
                  <a:pt x="264" y="25"/>
                </a:lnTo>
                <a:lnTo>
                  <a:pt x="270" y="25"/>
                </a:lnTo>
                <a:lnTo>
                  <a:pt x="276" y="25"/>
                </a:lnTo>
                <a:lnTo>
                  <a:pt x="283" y="25"/>
                </a:lnTo>
                <a:lnTo>
                  <a:pt x="289" y="25"/>
                </a:lnTo>
                <a:lnTo>
                  <a:pt x="295" y="25"/>
                </a:lnTo>
                <a:lnTo>
                  <a:pt x="301" y="25"/>
                </a:lnTo>
                <a:lnTo>
                  <a:pt x="307" y="25"/>
                </a:lnTo>
                <a:lnTo>
                  <a:pt x="313" y="25"/>
                </a:lnTo>
                <a:lnTo>
                  <a:pt x="320" y="25"/>
                </a:lnTo>
                <a:lnTo>
                  <a:pt x="326" y="25"/>
                </a:lnTo>
                <a:lnTo>
                  <a:pt x="332" y="25"/>
                </a:lnTo>
                <a:lnTo>
                  <a:pt x="338" y="25"/>
                </a:lnTo>
                <a:lnTo>
                  <a:pt x="344" y="25"/>
                </a:lnTo>
                <a:lnTo>
                  <a:pt x="350" y="25"/>
                </a:lnTo>
                <a:lnTo>
                  <a:pt x="357" y="25"/>
                </a:lnTo>
                <a:lnTo>
                  <a:pt x="363" y="25"/>
                </a:lnTo>
                <a:lnTo>
                  <a:pt x="369" y="25"/>
                </a:lnTo>
                <a:lnTo>
                  <a:pt x="375" y="25"/>
                </a:lnTo>
                <a:lnTo>
                  <a:pt x="381" y="25"/>
                </a:lnTo>
                <a:lnTo>
                  <a:pt x="387" y="25"/>
                </a:lnTo>
                <a:lnTo>
                  <a:pt x="394" y="25"/>
                </a:lnTo>
                <a:lnTo>
                  <a:pt x="400" y="25"/>
                </a:lnTo>
                <a:lnTo>
                  <a:pt x="406" y="25"/>
                </a:lnTo>
                <a:lnTo>
                  <a:pt x="412" y="25"/>
                </a:lnTo>
                <a:lnTo>
                  <a:pt x="418" y="25"/>
                </a:lnTo>
                <a:lnTo>
                  <a:pt x="424" y="25"/>
                </a:lnTo>
                <a:lnTo>
                  <a:pt x="431" y="25"/>
                </a:lnTo>
                <a:lnTo>
                  <a:pt x="437" y="25"/>
                </a:lnTo>
                <a:lnTo>
                  <a:pt x="443" y="25"/>
                </a:lnTo>
                <a:lnTo>
                  <a:pt x="449" y="25"/>
                </a:lnTo>
                <a:lnTo>
                  <a:pt x="455" y="25"/>
                </a:lnTo>
                <a:lnTo>
                  <a:pt x="461" y="25"/>
                </a:lnTo>
                <a:lnTo>
                  <a:pt x="468" y="25"/>
                </a:lnTo>
                <a:lnTo>
                  <a:pt x="474" y="25"/>
                </a:lnTo>
                <a:lnTo>
                  <a:pt x="480" y="25"/>
                </a:lnTo>
                <a:lnTo>
                  <a:pt x="486" y="25"/>
                </a:lnTo>
                <a:lnTo>
                  <a:pt x="492" y="25"/>
                </a:lnTo>
                <a:lnTo>
                  <a:pt x="498" y="25"/>
                </a:lnTo>
                <a:lnTo>
                  <a:pt x="505" y="25"/>
                </a:lnTo>
                <a:lnTo>
                  <a:pt x="511" y="25"/>
                </a:lnTo>
                <a:lnTo>
                  <a:pt x="517" y="25"/>
                </a:lnTo>
                <a:lnTo>
                  <a:pt x="523" y="25"/>
                </a:lnTo>
                <a:lnTo>
                  <a:pt x="529" y="25"/>
                </a:lnTo>
                <a:lnTo>
                  <a:pt x="535" y="25"/>
                </a:lnTo>
                <a:lnTo>
                  <a:pt x="542" y="25"/>
                </a:lnTo>
                <a:lnTo>
                  <a:pt x="548" y="25"/>
                </a:lnTo>
                <a:lnTo>
                  <a:pt x="554" y="25"/>
                </a:lnTo>
                <a:lnTo>
                  <a:pt x="560" y="25"/>
                </a:lnTo>
                <a:lnTo>
                  <a:pt x="566" y="25"/>
                </a:lnTo>
                <a:lnTo>
                  <a:pt x="573" y="25"/>
                </a:lnTo>
                <a:lnTo>
                  <a:pt x="579" y="25"/>
                </a:lnTo>
                <a:lnTo>
                  <a:pt x="585" y="25"/>
                </a:lnTo>
                <a:lnTo>
                  <a:pt x="591" y="25"/>
                </a:lnTo>
                <a:lnTo>
                  <a:pt x="597" y="25"/>
                </a:lnTo>
                <a:lnTo>
                  <a:pt x="603" y="25"/>
                </a:lnTo>
                <a:lnTo>
                  <a:pt x="610" y="25"/>
                </a:lnTo>
                <a:lnTo>
                  <a:pt x="616" y="25"/>
                </a:lnTo>
                <a:lnTo>
                  <a:pt x="622" y="25"/>
                </a:lnTo>
                <a:lnTo>
                  <a:pt x="628" y="25"/>
                </a:lnTo>
                <a:lnTo>
                  <a:pt x="634" y="25"/>
                </a:lnTo>
                <a:lnTo>
                  <a:pt x="640" y="25"/>
                </a:lnTo>
                <a:lnTo>
                  <a:pt x="647" y="25"/>
                </a:lnTo>
                <a:lnTo>
                  <a:pt x="652" y="25"/>
                </a:lnTo>
                <a:lnTo>
                  <a:pt x="658" y="25"/>
                </a:lnTo>
                <a:lnTo>
                  <a:pt x="664" y="25"/>
                </a:lnTo>
                <a:lnTo>
                  <a:pt x="670" y="25"/>
                </a:lnTo>
                <a:lnTo>
                  <a:pt x="676" y="25"/>
                </a:lnTo>
                <a:lnTo>
                  <a:pt x="683" y="25"/>
                </a:lnTo>
                <a:lnTo>
                  <a:pt x="689" y="25"/>
                </a:lnTo>
                <a:lnTo>
                  <a:pt x="695" y="25"/>
                </a:lnTo>
                <a:lnTo>
                  <a:pt x="701" y="25"/>
                </a:lnTo>
                <a:lnTo>
                  <a:pt x="707" y="25"/>
                </a:lnTo>
                <a:lnTo>
                  <a:pt x="713" y="25"/>
                </a:lnTo>
                <a:lnTo>
                  <a:pt x="720" y="25"/>
                </a:lnTo>
                <a:lnTo>
                  <a:pt x="726" y="25"/>
                </a:lnTo>
                <a:lnTo>
                  <a:pt x="732" y="25"/>
                </a:lnTo>
                <a:lnTo>
                  <a:pt x="738" y="25"/>
                </a:lnTo>
                <a:lnTo>
                  <a:pt x="744" y="25"/>
                </a:lnTo>
                <a:lnTo>
                  <a:pt x="750" y="25"/>
                </a:lnTo>
                <a:lnTo>
                  <a:pt x="757" y="25"/>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141960" y="3878280"/>
            <a:ext cx="1239840" cy="1440"/>
          </a:xfrm>
          <a:custGeom>
            <a:avLst/>
            <a:gdLst/>
            <a:ahLst/>
            <a:rect l="l" t="t" r="r" b="b"/>
            <a:pathLst>
              <a:path w="781" h="0">
                <a:moveTo>
                  <a:pt x="0" y="0"/>
                </a:moveTo>
                <a:lnTo>
                  <a:pt x="6" y="0"/>
                </a:lnTo>
                <a:lnTo>
                  <a:pt x="12" y="0"/>
                </a:lnTo>
                <a:lnTo>
                  <a:pt x="18" y="0"/>
                </a:lnTo>
                <a:lnTo>
                  <a:pt x="24" y="0"/>
                </a:lnTo>
                <a:lnTo>
                  <a:pt x="30" y="0"/>
                </a:lnTo>
                <a:lnTo>
                  <a:pt x="37" y="0"/>
                </a:lnTo>
                <a:lnTo>
                  <a:pt x="43" y="0"/>
                </a:lnTo>
                <a:lnTo>
                  <a:pt x="49" y="0"/>
                </a:lnTo>
                <a:lnTo>
                  <a:pt x="55" y="0"/>
                </a:lnTo>
                <a:lnTo>
                  <a:pt x="61" y="0"/>
                </a:lnTo>
                <a:lnTo>
                  <a:pt x="67" y="0"/>
                </a:lnTo>
                <a:lnTo>
                  <a:pt x="74" y="0"/>
                </a:lnTo>
                <a:lnTo>
                  <a:pt x="80" y="0"/>
                </a:lnTo>
                <a:lnTo>
                  <a:pt x="86" y="0"/>
                </a:lnTo>
                <a:lnTo>
                  <a:pt x="92" y="0"/>
                </a:lnTo>
                <a:lnTo>
                  <a:pt x="98" y="0"/>
                </a:lnTo>
                <a:lnTo>
                  <a:pt x="104" y="0"/>
                </a:lnTo>
                <a:lnTo>
                  <a:pt x="111" y="0"/>
                </a:lnTo>
                <a:lnTo>
                  <a:pt x="117" y="0"/>
                </a:lnTo>
                <a:lnTo>
                  <a:pt x="123" y="0"/>
                </a:lnTo>
                <a:lnTo>
                  <a:pt x="129" y="0"/>
                </a:lnTo>
                <a:lnTo>
                  <a:pt x="135" y="0"/>
                </a:lnTo>
                <a:lnTo>
                  <a:pt x="141" y="0"/>
                </a:lnTo>
                <a:lnTo>
                  <a:pt x="148" y="0"/>
                </a:lnTo>
                <a:lnTo>
                  <a:pt x="154" y="0"/>
                </a:lnTo>
                <a:lnTo>
                  <a:pt x="160" y="0"/>
                </a:lnTo>
                <a:lnTo>
                  <a:pt x="166" y="0"/>
                </a:lnTo>
                <a:lnTo>
                  <a:pt x="172" y="0"/>
                </a:lnTo>
                <a:lnTo>
                  <a:pt x="178" y="0"/>
                </a:lnTo>
                <a:lnTo>
                  <a:pt x="184" y="0"/>
                </a:lnTo>
                <a:lnTo>
                  <a:pt x="191" y="0"/>
                </a:lnTo>
                <a:lnTo>
                  <a:pt x="197" y="0"/>
                </a:lnTo>
                <a:lnTo>
                  <a:pt x="203" y="0"/>
                </a:lnTo>
                <a:lnTo>
                  <a:pt x="209" y="0"/>
                </a:lnTo>
                <a:lnTo>
                  <a:pt x="215" y="0"/>
                </a:lnTo>
                <a:lnTo>
                  <a:pt x="222" y="0"/>
                </a:lnTo>
                <a:lnTo>
                  <a:pt x="228" y="0"/>
                </a:lnTo>
                <a:lnTo>
                  <a:pt x="234" y="0"/>
                </a:lnTo>
                <a:lnTo>
                  <a:pt x="240" y="0"/>
                </a:lnTo>
                <a:lnTo>
                  <a:pt x="246" y="0"/>
                </a:lnTo>
                <a:lnTo>
                  <a:pt x="252" y="0"/>
                </a:lnTo>
                <a:lnTo>
                  <a:pt x="259" y="0"/>
                </a:lnTo>
                <a:lnTo>
                  <a:pt x="265" y="0"/>
                </a:lnTo>
                <a:lnTo>
                  <a:pt x="271" y="0"/>
                </a:lnTo>
                <a:lnTo>
                  <a:pt x="277" y="0"/>
                </a:lnTo>
                <a:lnTo>
                  <a:pt x="283" y="0"/>
                </a:lnTo>
                <a:lnTo>
                  <a:pt x="289" y="0"/>
                </a:lnTo>
                <a:lnTo>
                  <a:pt x="296" y="0"/>
                </a:lnTo>
                <a:lnTo>
                  <a:pt x="302" y="0"/>
                </a:lnTo>
                <a:lnTo>
                  <a:pt x="308" y="0"/>
                </a:lnTo>
                <a:lnTo>
                  <a:pt x="314" y="0"/>
                </a:lnTo>
                <a:lnTo>
                  <a:pt x="320" y="0"/>
                </a:lnTo>
                <a:lnTo>
                  <a:pt x="326" y="0"/>
                </a:lnTo>
                <a:lnTo>
                  <a:pt x="332" y="0"/>
                </a:lnTo>
                <a:lnTo>
                  <a:pt x="339" y="0"/>
                </a:lnTo>
                <a:lnTo>
                  <a:pt x="345" y="0"/>
                </a:lnTo>
                <a:lnTo>
                  <a:pt x="351" y="0"/>
                </a:lnTo>
                <a:lnTo>
                  <a:pt x="357" y="0"/>
                </a:lnTo>
                <a:lnTo>
                  <a:pt x="363" y="0"/>
                </a:lnTo>
                <a:lnTo>
                  <a:pt x="369" y="0"/>
                </a:lnTo>
                <a:lnTo>
                  <a:pt x="376" y="0"/>
                </a:lnTo>
                <a:lnTo>
                  <a:pt x="382" y="0"/>
                </a:lnTo>
                <a:lnTo>
                  <a:pt x="387" y="0"/>
                </a:lnTo>
                <a:lnTo>
                  <a:pt x="393" y="0"/>
                </a:lnTo>
                <a:lnTo>
                  <a:pt x="399" y="0"/>
                </a:lnTo>
                <a:lnTo>
                  <a:pt x="405" y="0"/>
                </a:lnTo>
                <a:lnTo>
                  <a:pt x="412" y="0"/>
                </a:lnTo>
                <a:lnTo>
                  <a:pt x="418" y="0"/>
                </a:lnTo>
                <a:lnTo>
                  <a:pt x="424" y="0"/>
                </a:lnTo>
                <a:lnTo>
                  <a:pt x="430" y="0"/>
                </a:lnTo>
                <a:lnTo>
                  <a:pt x="436" y="0"/>
                </a:lnTo>
                <a:lnTo>
                  <a:pt x="442" y="0"/>
                </a:lnTo>
                <a:lnTo>
                  <a:pt x="449" y="0"/>
                </a:lnTo>
                <a:lnTo>
                  <a:pt x="455" y="0"/>
                </a:lnTo>
                <a:lnTo>
                  <a:pt x="461" y="0"/>
                </a:lnTo>
                <a:lnTo>
                  <a:pt x="467" y="0"/>
                </a:lnTo>
                <a:lnTo>
                  <a:pt x="473" y="0"/>
                </a:lnTo>
                <a:lnTo>
                  <a:pt x="479" y="0"/>
                </a:lnTo>
                <a:lnTo>
                  <a:pt x="486" y="0"/>
                </a:lnTo>
                <a:lnTo>
                  <a:pt x="492" y="0"/>
                </a:lnTo>
                <a:lnTo>
                  <a:pt x="498" y="0"/>
                </a:lnTo>
                <a:lnTo>
                  <a:pt x="504" y="0"/>
                </a:lnTo>
                <a:lnTo>
                  <a:pt x="510" y="0"/>
                </a:lnTo>
                <a:lnTo>
                  <a:pt x="516" y="0"/>
                </a:lnTo>
                <a:lnTo>
                  <a:pt x="523" y="0"/>
                </a:lnTo>
                <a:lnTo>
                  <a:pt x="529" y="0"/>
                </a:lnTo>
                <a:lnTo>
                  <a:pt x="535" y="0"/>
                </a:lnTo>
                <a:lnTo>
                  <a:pt x="541" y="0"/>
                </a:lnTo>
                <a:lnTo>
                  <a:pt x="547" y="0"/>
                </a:lnTo>
                <a:lnTo>
                  <a:pt x="553" y="0"/>
                </a:lnTo>
                <a:lnTo>
                  <a:pt x="559" y="0"/>
                </a:lnTo>
                <a:lnTo>
                  <a:pt x="566" y="0"/>
                </a:lnTo>
                <a:lnTo>
                  <a:pt x="572" y="0"/>
                </a:lnTo>
                <a:lnTo>
                  <a:pt x="578" y="0"/>
                </a:lnTo>
                <a:lnTo>
                  <a:pt x="584" y="0"/>
                </a:lnTo>
                <a:lnTo>
                  <a:pt x="590" y="0"/>
                </a:lnTo>
                <a:lnTo>
                  <a:pt x="596" y="0"/>
                </a:lnTo>
                <a:lnTo>
                  <a:pt x="603" y="0"/>
                </a:lnTo>
                <a:lnTo>
                  <a:pt x="609" y="0"/>
                </a:lnTo>
                <a:lnTo>
                  <a:pt x="615" y="0"/>
                </a:lnTo>
                <a:lnTo>
                  <a:pt x="621" y="0"/>
                </a:lnTo>
                <a:lnTo>
                  <a:pt x="627" y="0"/>
                </a:lnTo>
                <a:lnTo>
                  <a:pt x="633" y="0"/>
                </a:lnTo>
                <a:lnTo>
                  <a:pt x="640" y="0"/>
                </a:lnTo>
                <a:lnTo>
                  <a:pt x="646" y="0"/>
                </a:lnTo>
                <a:lnTo>
                  <a:pt x="652" y="0"/>
                </a:lnTo>
                <a:lnTo>
                  <a:pt x="658" y="0"/>
                </a:lnTo>
                <a:lnTo>
                  <a:pt x="664" y="0"/>
                </a:lnTo>
                <a:lnTo>
                  <a:pt x="670" y="0"/>
                </a:lnTo>
                <a:lnTo>
                  <a:pt x="677" y="0"/>
                </a:lnTo>
                <a:lnTo>
                  <a:pt x="683" y="0"/>
                </a:lnTo>
                <a:lnTo>
                  <a:pt x="689" y="0"/>
                </a:lnTo>
                <a:lnTo>
                  <a:pt x="695" y="0"/>
                </a:lnTo>
                <a:lnTo>
                  <a:pt x="701" y="0"/>
                </a:lnTo>
                <a:lnTo>
                  <a:pt x="708" y="0"/>
                </a:lnTo>
                <a:lnTo>
                  <a:pt x="714" y="0"/>
                </a:lnTo>
                <a:lnTo>
                  <a:pt x="720" y="0"/>
                </a:lnTo>
                <a:lnTo>
                  <a:pt x="726" y="0"/>
                </a:lnTo>
                <a:lnTo>
                  <a:pt x="732" y="0"/>
                </a:lnTo>
                <a:lnTo>
                  <a:pt x="738" y="0"/>
                </a:lnTo>
                <a:lnTo>
                  <a:pt x="744" y="0"/>
                </a:lnTo>
                <a:lnTo>
                  <a:pt x="751" y="0"/>
                </a:lnTo>
                <a:lnTo>
                  <a:pt x="757" y="0"/>
                </a:lnTo>
                <a:lnTo>
                  <a:pt x="763" y="0"/>
                </a:lnTo>
                <a:lnTo>
                  <a:pt x="769" y="0"/>
                </a:lnTo>
                <a:lnTo>
                  <a:pt x="775" y="0"/>
                </a:lnTo>
                <a:lnTo>
                  <a:pt x="781" y="0"/>
                </a:lnTo>
              </a:path>
            </a:pathLst>
          </a:custGeom>
          <a:noFill/>
          <a:ln cap="rnd" w="14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7381800" y="3878280"/>
            <a:ext cx="525600" cy="11160"/>
          </a:xfrm>
          <a:custGeom>
            <a:avLst/>
            <a:gdLst/>
            <a:ahLst/>
            <a:rect l="l" t="t" r="r" b="b"/>
            <a:pathLst>
              <a:path w="331" h="7">
                <a:moveTo>
                  <a:pt x="0" y="0"/>
                </a:moveTo>
                <a:lnTo>
                  <a:pt x="7" y="0"/>
                </a:lnTo>
                <a:lnTo>
                  <a:pt x="13" y="0"/>
                </a:lnTo>
                <a:lnTo>
                  <a:pt x="19" y="0"/>
                </a:lnTo>
                <a:lnTo>
                  <a:pt x="25" y="0"/>
                </a:lnTo>
                <a:lnTo>
                  <a:pt x="31" y="0"/>
                </a:lnTo>
                <a:lnTo>
                  <a:pt x="37" y="0"/>
                </a:lnTo>
                <a:lnTo>
                  <a:pt x="43" y="0"/>
                </a:lnTo>
                <a:lnTo>
                  <a:pt x="50" y="0"/>
                </a:lnTo>
                <a:lnTo>
                  <a:pt x="56" y="0"/>
                </a:lnTo>
                <a:lnTo>
                  <a:pt x="62" y="0"/>
                </a:lnTo>
                <a:lnTo>
                  <a:pt x="68" y="0"/>
                </a:lnTo>
                <a:lnTo>
                  <a:pt x="74" y="0"/>
                </a:lnTo>
                <a:lnTo>
                  <a:pt x="80" y="0"/>
                </a:lnTo>
                <a:lnTo>
                  <a:pt x="86" y="0"/>
                </a:lnTo>
                <a:lnTo>
                  <a:pt x="93" y="0"/>
                </a:lnTo>
                <a:lnTo>
                  <a:pt x="98" y="0"/>
                </a:lnTo>
                <a:lnTo>
                  <a:pt x="104" y="0"/>
                </a:lnTo>
                <a:lnTo>
                  <a:pt x="110" y="0"/>
                </a:lnTo>
                <a:lnTo>
                  <a:pt x="116" y="0"/>
                </a:lnTo>
                <a:lnTo>
                  <a:pt x="122" y="0"/>
                </a:lnTo>
                <a:lnTo>
                  <a:pt x="129" y="0"/>
                </a:lnTo>
                <a:lnTo>
                  <a:pt x="135" y="0"/>
                </a:lnTo>
                <a:lnTo>
                  <a:pt x="141" y="0"/>
                </a:lnTo>
                <a:lnTo>
                  <a:pt x="147" y="0"/>
                </a:lnTo>
                <a:lnTo>
                  <a:pt x="153" y="0"/>
                </a:lnTo>
                <a:lnTo>
                  <a:pt x="159" y="0"/>
                </a:lnTo>
                <a:lnTo>
                  <a:pt x="165" y="0"/>
                </a:lnTo>
                <a:lnTo>
                  <a:pt x="172" y="0"/>
                </a:lnTo>
                <a:lnTo>
                  <a:pt x="178" y="0"/>
                </a:lnTo>
                <a:lnTo>
                  <a:pt x="184" y="0"/>
                </a:lnTo>
                <a:lnTo>
                  <a:pt x="190" y="0"/>
                </a:lnTo>
                <a:lnTo>
                  <a:pt x="196" y="0"/>
                </a:lnTo>
                <a:lnTo>
                  <a:pt x="202" y="0"/>
                </a:lnTo>
                <a:lnTo>
                  <a:pt x="208" y="0"/>
                </a:lnTo>
                <a:lnTo>
                  <a:pt x="215" y="0"/>
                </a:lnTo>
                <a:lnTo>
                  <a:pt x="221" y="0"/>
                </a:lnTo>
                <a:lnTo>
                  <a:pt x="227" y="0"/>
                </a:lnTo>
                <a:lnTo>
                  <a:pt x="233" y="0"/>
                </a:lnTo>
                <a:lnTo>
                  <a:pt x="239" y="0"/>
                </a:lnTo>
                <a:lnTo>
                  <a:pt x="245" y="0"/>
                </a:lnTo>
                <a:lnTo>
                  <a:pt x="251" y="0"/>
                </a:lnTo>
                <a:lnTo>
                  <a:pt x="258" y="0"/>
                </a:lnTo>
                <a:lnTo>
                  <a:pt x="264" y="0"/>
                </a:lnTo>
                <a:lnTo>
                  <a:pt x="270" y="0"/>
                </a:lnTo>
                <a:lnTo>
                  <a:pt x="276" y="0"/>
                </a:lnTo>
                <a:lnTo>
                  <a:pt x="282" y="0"/>
                </a:lnTo>
                <a:lnTo>
                  <a:pt x="288" y="0"/>
                </a:lnTo>
                <a:lnTo>
                  <a:pt x="294" y="0"/>
                </a:lnTo>
                <a:lnTo>
                  <a:pt x="301" y="0"/>
                </a:lnTo>
                <a:lnTo>
                  <a:pt x="307" y="7"/>
                </a:lnTo>
                <a:lnTo>
                  <a:pt x="313" y="0"/>
                </a:lnTo>
                <a:lnTo>
                  <a:pt x="313" y="7"/>
                </a:lnTo>
                <a:lnTo>
                  <a:pt x="325" y="0"/>
                </a:lnTo>
                <a:lnTo>
                  <a:pt x="325" y="7"/>
                </a:lnTo>
                <a:lnTo>
                  <a:pt x="325" y="0"/>
                </a:lnTo>
                <a:lnTo>
                  <a:pt x="331" y="7"/>
                </a:lnTo>
              </a:path>
            </a:pathLst>
          </a:custGeom>
          <a:noFill/>
          <a:ln cap="rnd" w="14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 name=""/>
          <p:cNvSpPr/>
          <p:nvPr/>
        </p:nvSpPr>
        <p:spPr>
          <a:xfrm flipH="1">
            <a:off x="4886280" y="3274920"/>
            <a:ext cx="29232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522760" y="5567400"/>
            <a:ext cx="46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a:t>
            </a:r>
            <a:endParaRPr b="0" lang="en-US" sz="1500" spc="-1" strike="noStrike">
              <a:solidFill>
                <a:srgbClr val="000000"/>
              </a:solidFill>
              <a:latin typeface="Times New Roman"/>
            </a:endParaRPr>
          </a:p>
        </p:txBody>
      </p:sp>
      <p:sp>
        <p:nvSpPr>
          <p:cNvPr id="476" name=""/>
          <p:cNvSpPr/>
          <p:nvPr/>
        </p:nvSpPr>
        <p:spPr>
          <a:xfrm>
            <a:off x="5992560" y="554508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477" name=""/>
          <p:cNvSpPr/>
          <p:nvPr/>
        </p:nvSpPr>
        <p:spPr>
          <a:xfrm>
            <a:off x="6098040" y="5567400"/>
            <a:ext cx="29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a:t>
            </a:r>
            <a:endParaRPr b="0" lang="en-US" sz="1500" spc="-1" strike="noStrike">
              <a:solidFill>
                <a:srgbClr val="000000"/>
              </a:solidFill>
              <a:latin typeface="Times New Roman"/>
            </a:endParaRPr>
          </a:p>
        </p:txBody>
      </p:sp>
      <p:sp>
        <p:nvSpPr>
          <p:cNvPr id="478" name=""/>
          <p:cNvSpPr/>
          <p:nvPr/>
        </p:nvSpPr>
        <p:spPr>
          <a:xfrm>
            <a:off x="4648320" y="2611440"/>
            <a:ext cx="23760" cy="1262160"/>
          </a:xfrm>
          <a:custGeom>
            <a:avLst/>
            <a:gdLst/>
            <a:ahLst/>
            <a:rect l="l" t="t" r="r" b="b"/>
            <a:pathLst>
              <a:path w="15" h="795">
                <a:moveTo>
                  <a:pt x="0" y="794"/>
                </a:moveTo>
                <a:lnTo>
                  <a:pt x="0" y="754"/>
                </a:lnTo>
                <a:lnTo>
                  <a:pt x="10" y="754"/>
                </a:lnTo>
                <a:lnTo>
                  <a:pt x="10" y="795"/>
                </a:lnTo>
                <a:lnTo>
                  <a:pt x="0" y="794"/>
                </a:lnTo>
                <a:close/>
                <a:moveTo>
                  <a:pt x="1" y="724"/>
                </a:moveTo>
                <a:lnTo>
                  <a:pt x="1" y="684"/>
                </a:lnTo>
                <a:lnTo>
                  <a:pt x="11" y="684"/>
                </a:lnTo>
                <a:lnTo>
                  <a:pt x="11" y="724"/>
                </a:lnTo>
                <a:lnTo>
                  <a:pt x="1" y="724"/>
                </a:lnTo>
                <a:close/>
                <a:moveTo>
                  <a:pt x="1" y="654"/>
                </a:moveTo>
                <a:lnTo>
                  <a:pt x="1" y="614"/>
                </a:lnTo>
                <a:lnTo>
                  <a:pt x="11" y="614"/>
                </a:lnTo>
                <a:lnTo>
                  <a:pt x="11" y="654"/>
                </a:lnTo>
                <a:lnTo>
                  <a:pt x="1" y="654"/>
                </a:lnTo>
                <a:close/>
                <a:moveTo>
                  <a:pt x="1" y="584"/>
                </a:moveTo>
                <a:lnTo>
                  <a:pt x="2" y="544"/>
                </a:lnTo>
                <a:lnTo>
                  <a:pt x="12" y="544"/>
                </a:lnTo>
                <a:lnTo>
                  <a:pt x="11" y="584"/>
                </a:lnTo>
                <a:lnTo>
                  <a:pt x="1" y="584"/>
                </a:lnTo>
                <a:close/>
                <a:moveTo>
                  <a:pt x="2" y="514"/>
                </a:moveTo>
                <a:lnTo>
                  <a:pt x="2" y="474"/>
                </a:lnTo>
                <a:lnTo>
                  <a:pt x="12" y="474"/>
                </a:lnTo>
                <a:lnTo>
                  <a:pt x="12" y="514"/>
                </a:lnTo>
                <a:lnTo>
                  <a:pt x="2" y="514"/>
                </a:lnTo>
                <a:close/>
                <a:moveTo>
                  <a:pt x="2" y="444"/>
                </a:moveTo>
                <a:lnTo>
                  <a:pt x="3" y="404"/>
                </a:lnTo>
                <a:lnTo>
                  <a:pt x="13" y="404"/>
                </a:lnTo>
                <a:lnTo>
                  <a:pt x="12" y="444"/>
                </a:lnTo>
                <a:lnTo>
                  <a:pt x="2" y="444"/>
                </a:lnTo>
                <a:close/>
                <a:moveTo>
                  <a:pt x="3" y="374"/>
                </a:moveTo>
                <a:lnTo>
                  <a:pt x="3" y="334"/>
                </a:lnTo>
                <a:lnTo>
                  <a:pt x="13" y="334"/>
                </a:lnTo>
                <a:lnTo>
                  <a:pt x="13" y="374"/>
                </a:lnTo>
                <a:lnTo>
                  <a:pt x="3" y="374"/>
                </a:lnTo>
                <a:close/>
                <a:moveTo>
                  <a:pt x="3" y="304"/>
                </a:moveTo>
                <a:lnTo>
                  <a:pt x="4" y="264"/>
                </a:lnTo>
                <a:lnTo>
                  <a:pt x="13" y="264"/>
                </a:lnTo>
                <a:lnTo>
                  <a:pt x="13" y="304"/>
                </a:lnTo>
                <a:lnTo>
                  <a:pt x="3" y="304"/>
                </a:lnTo>
                <a:close/>
                <a:moveTo>
                  <a:pt x="4" y="234"/>
                </a:moveTo>
                <a:lnTo>
                  <a:pt x="4" y="194"/>
                </a:lnTo>
                <a:lnTo>
                  <a:pt x="14" y="194"/>
                </a:lnTo>
                <a:lnTo>
                  <a:pt x="14" y="234"/>
                </a:lnTo>
                <a:lnTo>
                  <a:pt x="4" y="234"/>
                </a:lnTo>
                <a:close/>
                <a:moveTo>
                  <a:pt x="4" y="164"/>
                </a:moveTo>
                <a:lnTo>
                  <a:pt x="4" y="124"/>
                </a:lnTo>
                <a:lnTo>
                  <a:pt x="14" y="124"/>
                </a:lnTo>
                <a:lnTo>
                  <a:pt x="14" y="164"/>
                </a:lnTo>
                <a:lnTo>
                  <a:pt x="4" y="164"/>
                </a:lnTo>
                <a:close/>
                <a:moveTo>
                  <a:pt x="5" y="94"/>
                </a:moveTo>
                <a:lnTo>
                  <a:pt x="5" y="54"/>
                </a:lnTo>
                <a:lnTo>
                  <a:pt x="15" y="54"/>
                </a:lnTo>
                <a:lnTo>
                  <a:pt x="15" y="94"/>
                </a:lnTo>
                <a:lnTo>
                  <a:pt x="5" y="94"/>
                </a:lnTo>
                <a:close/>
                <a:moveTo>
                  <a:pt x="5" y="24"/>
                </a:moveTo>
                <a:lnTo>
                  <a:pt x="5" y="0"/>
                </a:lnTo>
                <a:lnTo>
                  <a:pt x="15" y="0"/>
                </a:lnTo>
                <a:lnTo>
                  <a:pt x="15" y="24"/>
                </a:lnTo>
                <a:lnTo>
                  <a:pt x="5" y="24"/>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41760" y="2604960"/>
            <a:ext cx="122400" cy="15840"/>
          </a:xfrm>
          <a:custGeom>
            <a:avLst/>
            <a:gdLst/>
            <a:ahLst/>
            <a:rect l="l" t="t" r="r" b="b"/>
            <a:pathLst>
              <a:path w="77" h="10">
                <a:moveTo>
                  <a:pt x="0" y="0"/>
                </a:moveTo>
                <a:lnTo>
                  <a:pt x="40" y="0"/>
                </a:lnTo>
                <a:lnTo>
                  <a:pt x="40" y="10"/>
                </a:lnTo>
                <a:lnTo>
                  <a:pt x="0" y="10"/>
                </a:lnTo>
                <a:lnTo>
                  <a:pt x="0" y="0"/>
                </a:lnTo>
                <a:close/>
                <a:moveTo>
                  <a:pt x="70" y="0"/>
                </a:moveTo>
                <a:lnTo>
                  <a:pt x="77" y="0"/>
                </a:lnTo>
                <a:lnTo>
                  <a:pt x="77" y="10"/>
                </a:lnTo>
                <a:lnTo>
                  <a:pt x="70" y="10"/>
                </a:lnTo>
                <a:lnTo>
                  <a:pt x="70" y="0"/>
                </a:lnTo>
                <a:close/>
              </a:path>
            </a:pathLst>
          </a:custGeom>
          <a:solidFill>
            <a:srgbClr val="000000"/>
          </a:solidFill>
          <a:ln w="1440">
            <a:solidFill>
              <a:srgbClr val="000000"/>
            </a:solidFill>
            <a:beve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0" name=""/>
          <p:cNvSpPr/>
          <p:nvPr/>
        </p:nvSpPr>
        <p:spPr>
          <a:xfrm>
            <a:off x="4471920" y="2616120"/>
            <a:ext cx="95400" cy="2400480"/>
          </a:xfrm>
          <a:custGeom>
            <a:avLst/>
            <a:gdLst/>
            <a:ahLst/>
            <a:rect l="l" t="t" r="r" b="b"/>
            <a:pathLst>
              <a:path w="60" h="1512">
                <a:moveTo>
                  <a:pt x="35" y="0"/>
                </a:moveTo>
                <a:lnTo>
                  <a:pt x="35" y="41"/>
                </a:lnTo>
                <a:lnTo>
                  <a:pt x="25" y="41"/>
                </a:lnTo>
                <a:lnTo>
                  <a:pt x="25" y="0"/>
                </a:lnTo>
                <a:lnTo>
                  <a:pt x="35" y="0"/>
                </a:lnTo>
                <a:close/>
                <a:moveTo>
                  <a:pt x="35" y="71"/>
                </a:moveTo>
                <a:lnTo>
                  <a:pt x="35" y="111"/>
                </a:lnTo>
                <a:lnTo>
                  <a:pt x="25" y="111"/>
                </a:lnTo>
                <a:lnTo>
                  <a:pt x="25" y="71"/>
                </a:lnTo>
                <a:lnTo>
                  <a:pt x="35" y="71"/>
                </a:lnTo>
                <a:close/>
                <a:moveTo>
                  <a:pt x="35" y="141"/>
                </a:moveTo>
                <a:lnTo>
                  <a:pt x="35" y="181"/>
                </a:lnTo>
                <a:lnTo>
                  <a:pt x="25" y="181"/>
                </a:lnTo>
                <a:lnTo>
                  <a:pt x="25" y="141"/>
                </a:lnTo>
                <a:lnTo>
                  <a:pt x="35" y="141"/>
                </a:lnTo>
                <a:close/>
                <a:moveTo>
                  <a:pt x="35" y="211"/>
                </a:moveTo>
                <a:lnTo>
                  <a:pt x="35" y="251"/>
                </a:lnTo>
                <a:lnTo>
                  <a:pt x="25" y="251"/>
                </a:lnTo>
                <a:lnTo>
                  <a:pt x="25" y="211"/>
                </a:lnTo>
                <a:lnTo>
                  <a:pt x="35" y="211"/>
                </a:lnTo>
                <a:close/>
                <a:moveTo>
                  <a:pt x="35" y="281"/>
                </a:moveTo>
                <a:lnTo>
                  <a:pt x="35" y="321"/>
                </a:lnTo>
                <a:lnTo>
                  <a:pt x="25" y="321"/>
                </a:lnTo>
                <a:lnTo>
                  <a:pt x="25" y="281"/>
                </a:lnTo>
                <a:lnTo>
                  <a:pt x="35" y="281"/>
                </a:lnTo>
                <a:close/>
                <a:moveTo>
                  <a:pt x="35" y="351"/>
                </a:moveTo>
                <a:lnTo>
                  <a:pt x="35" y="391"/>
                </a:lnTo>
                <a:lnTo>
                  <a:pt x="25" y="391"/>
                </a:lnTo>
                <a:lnTo>
                  <a:pt x="25" y="351"/>
                </a:lnTo>
                <a:lnTo>
                  <a:pt x="35" y="351"/>
                </a:lnTo>
                <a:close/>
                <a:moveTo>
                  <a:pt x="35" y="421"/>
                </a:moveTo>
                <a:lnTo>
                  <a:pt x="35" y="461"/>
                </a:lnTo>
                <a:lnTo>
                  <a:pt x="25" y="461"/>
                </a:lnTo>
                <a:lnTo>
                  <a:pt x="25" y="421"/>
                </a:lnTo>
                <a:lnTo>
                  <a:pt x="35" y="421"/>
                </a:lnTo>
                <a:close/>
                <a:moveTo>
                  <a:pt x="35" y="491"/>
                </a:moveTo>
                <a:lnTo>
                  <a:pt x="35" y="531"/>
                </a:lnTo>
                <a:lnTo>
                  <a:pt x="25" y="531"/>
                </a:lnTo>
                <a:lnTo>
                  <a:pt x="25" y="491"/>
                </a:lnTo>
                <a:lnTo>
                  <a:pt x="35" y="491"/>
                </a:lnTo>
                <a:close/>
                <a:moveTo>
                  <a:pt x="35" y="561"/>
                </a:moveTo>
                <a:lnTo>
                  <a:pt x="35" y="601"/>
                </a:lnTo>
                <a:lnTo>
                  <a:pt x="25" y="601"/>
                </a:lnTo>
                <a:lnTo>
                  <a:pt x="25" y="561"/>
                </a:lnTo>
                <a:lnTo>
                  <a:pt x="35" y="561"/>
                </a:lnTo>
                <a:close/>
                <a:moveTo>
                  <a:pt x="35" y="631"/>
                </a:moveTo>
                <a:lnTo>
                  <a:pt x="35" y="671"/>
                </a:lnTo>
                <a:lnTo>
                  <a:pt x="25" y="671"/>
                </a:lnTo>
                <a:lnTo>
                  <a:pt x="25" y="631"/>
                </a:lnTo>
                <a:lnTo>
                  <a:pt x="35" y="631"/>
                </a:lnTo>
                <a:close/>
                <a:moveTo>
                  <a:pt x="35" y="701"/>
                </a:moveTo>
                <a:lnTo>
                  <a:pt x="35" y="741"/>
                </a:lnTo>
                <a:lnTo>
                  <a:pt x="25" y="741"/>
                </a:lnTo>
                <a:lnTo>
                  <a:pt x="25" y="701"/>
                </a:lnTo>
                <a:lnTo>
                  <a:pt x="35" y="701"/>
                </a:lnTo>
                <a:close/>
                <a:moveTo>
                  <a:pt x="35" y="772"/>
                </a:moveTo>
                <a:lnTo>
                  <a:pt x="35" y="811"/>
                </a:lnTo>
                <a:lnTo>
                  <a:pt x="25" y="811"/>
                </a:lnTo>
                <a:lnTo>
                  <a:pt x="25" y="772"/>
                </a:lnTo>
                <a:lnTo>
                  <a:pt x="35" y="772"/>
                </a:lnTo>
                <a:close/>
                <a:moveTo>
                  <a:pt x="35" y="842"/>
                </a:moveTo>
                <a:lnTo>
                  <a:pt x="35" y="882"/>
                </a:lnTo>
                <a:lnTo>
                  <a:pt x="25" y="882"/>
                </a:lnTo>
                <a:lnTo>
                  <a:pt x="25" y="842"/>
                </a:lnTo>
                <a:lnTo>
                  <a:pt x="35" y="842"/>
                </a:lnTo>
                <a:close/>
                <a:moveTo>
                  <a:pt x="35" y="912"/>
                </a:moveTo>
                <a:lnTo>
                  <a:pt x="35" y="952"/>
                </a:lnTo>
                <a:lnTo>
                  <a:pt x="25" y="952"/>
                </a:lnTo>
                <a:lnTo>
                  <a:pt x="25" y="912"/>
                </a:lnTo>
                <a:lnTo>
                  <a:pt x="35" y="912"/>
                </a:lnTo>
                <a:close/>
                <a:moveTo>
                  <a:pt x="35" y="982"/>
                </a:moveTo>
                <a:lnTo>
                  <a:pt x="35" y="1022"/>
                </a:lnTo>
                <a:lnTo>
                  <a:pt x="25" y="1022"/>
                </a:lnTo>
                <a:lnTo>
                  <a:pt x="25" y="982"/>
                </a:lnTo>
                <a:lnTo>
                  <a:pt x="35" y="982"/>
                </a:lnTo>
                <a:close/>
                <a:moveTo>
                  <a:pt x="35" y="1052"/>
                </a:moveTo>
                <a:lnTo>
                  <a:pt x="35" y="1092"/>
                </a:lnTo>
                <a:lnTo>
                  <a:pt x="25" y="1092"/>
                </a:lnTo>
                <a:lnTo>
                  <a:pt x="25" y="1052"/>
                </a:lnTo>
                <a:lnTo>
                  <a:pt x="35" y="1052"/>
                </a:lnTo>
                <a:close/>
                <a:moveTo>
                  <a:pt x="35" y="1122"/>
                </a:moveTo>
                <a:lnTo>
                  <a:pt x="35" y="1162"/>
                </a:lnTo>
                <a:lnTo>
                  <a:pt x="25" y="1162"/>
                </a:lnTo>
                <a:lnTo>
                  <a:pt x="25" y="1122"/>
                </a:lnTo>
                <a:lnTo>
                  <a:pt x="35" y="1122"/>
                </a:lnTo>
                <a:close/>
                <a:moveTo>
                  <a:pt x="35" y="1192"/>
                </a:moveTo>
                <a:lnTo>
                  <a:pt x="35" y="1232"/>
                </a:lnTo>
                <a:lnTo>
                  <a:pt x="25" y="1232"/>
                </a:lnTo>
                <a:lnTo>
                  <a:pt x="25" y="1192"/>
                </a:lnTo>
                <a:lnTo>
                  <a:pt x="35" y="1192"/>
                </a:lnTo>
                <a:close/>
                <a:moveTo>
                  <a:pt x="35" y="1262"/>
                </a:moveTo>
                <a:lnTo>
                  <a:pt x="35" y="1302"/>
                </a:lnTo>
                <a:lnTo>
                  <a:pt x="25" y="1302"/>
                </a:lnTo>
                <a:lnTo>
                  <a:pt x="25" y="1262"/>
                </a:lnTo>
                <a:lnTo>
                  <a:pt x="35" y="1262"/>
                </a:lnTo>
                <a:close/>
                <a:moveTo>
                  <a:pt x="35" y="1332"/>
                </a:moveTo>
                <a:lnTo>
                  <a:pt x="35" y="1372"/>
                </a:lnTo>
                <a:lnTo>
                  <a:pt x="25" y="1372"/>
                </a:lnTo>
                <a:lnTo>
                  <a:pt x="25" y="1332"/>
                </a:lnTo>
                <a:lnTo>
                  <a:pt x="35" y="1332"/>
                </a:lnTo>
                <a:close/>
                <a:moveTo>
                  <a:pt x="35" y="1402"/>
                </a:moveTo>
                <a:lnTo>
                  <a:pt x="35" y="1442"/>
                </a:lnTo>
                <a:lnTo>
                  <a:pt x="25" y="1442"/>
                </a:lnTo>
                <a:lnTo>
                  <a:pt x="25" y="1402"/>
                </a:lnTo>
                <a:lnTo>
                  <a:pt x="35" y="1402"/>
                </a:lnTo>
                <a:close/>
                <a:moveTo>
                  <a:pt x="60" y="1452"/>
                </a:moveTo>
                <a:lnTo>
                  <a:pt x="30" y="1512"/>
                </a:lnTo>
                <a:lnTo>
                  <a:pt x="0" y="1452"/>
                </a:lnTo>
                <a:lnTo>
                  <a:pt x="60" y="1452"/>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640400" y="3868560"/>
            <a:ext cx="704880" cy="16200"/>
          </a:xfrm>
          <a:custGeom>
            <a:avLst/>
            <a:gdLst/>
            <a:ahLst/>
            <a:rect l="l" t="t" r="r" b="b"/>
            <a:pathLst>
              <a:path w="444" h="10">
                <a:moveTo>
                  <a:pt x="444" y="10"/>
                </a:moveTo>
                <a:lnTo>
                  <a:pt x="404" y="10"/>
                </a:lnTo>
                <a:lnTo>
                  <a:pt x="404" y="0"/>
                </a:lnTo>
                <a:lnTo>
                  <a:pt x="444" y="0"/>
                </a:lnTo>
                <a:lnTo>
                  <a:pt x="444" y="10"/>
                </a:lnTo>
                <a:close/>
                <a:moveTo>
                  <a:pt x="374" y="10"/>
                </a:moveTo>
                <a:lnTo>
                  <a:pt x="334" y="10"/>
                </a:lnTo>
                <a:lnTo>
                  <a:pt x="334" y="0"/>
                </a:lnTo>
                <a:lnTo>
                  <a:pt x="374" y="0"/>
                </a:lnTo>
                <a:lnTo>
                  <a:pt x="374" y="10"/>
                </a:lnTo>
                <a:close/>
                <a:moveTo>
                  <a:pt x="304" y="10"/>
                </a:moveTo>
                <a:lnTo>
                  <a:pt x="264" y="10"/>
                </a:lnTo>
                <a:lnTo>
                  <a:pt x="264" y="0"/>
                </a:lnTo>
                <a:lnTo>
                  <a:pt x="304" y="0"/>
                </a:lnTo>
                <a:lnTo>
                  <a:pt x="304" y="10"/>
                </a:lnTo>
                <a:close/>
                <a:moveTo>
                  <a:pt x="234" y="10"/>
                </a:moveTo>
                <a:lnTo>
                  <a:pt x="194" y="10"/>
                </a:lnTo>
                <a:lnTo>
                  <a:pt x="194" y="0"/>
                </a:lnTo>
                <a:lnTo>
                  <a:pt x="234" y="0"/>
                </a:lnTo>
                <a:lnTo>
                  <a:pt x="234" y="10"/>
                </a:lnTo>
                <a:close/>
                <a:moveTo>
                  <a:pt x="164" y="10"/>
                </a:moveTo>
                <a:lnTo>
                  <a:pt x="124" y="10"/>
                </a:lnTo>
                <a:lnTo>
                  <a:pt x="124" y="0"/>
                </a:lnTo>
                <a:lnTo>
                  <a:pt x="164" y="0"/>
                </a:lnTo>
                <a:lnTo>
                  <a:pt x="164" y="10"/>
                </a:lnTo>
                <a:close/>
                <a:moveTo>
                  <a:pt x="94" y="10"/>
                </a:moveTo>
                <a:lnTo>
                  <a:pt x="54" y="10"/>
                </a:lnTo>
                <a:lnTo>
                  <a:pt x="54" y="0"/>
                </a:lnTo>
                <a:lnTo>
                  <a:pt x="94" y="0"/>
                </a:lnTo>
                <a:lnTo>
                  <a:pt x="94" y="10"/>
                </a:lnTo>
                <a:close/>
                <a:moveTo>
                  <a:pt x="24" y="10"/>
                </a:moveTo>
                <a:lnTo>
                  <a:pt x="0" y="10"/>
                </a:lnTo>
                <a:lnTo>
                  <a:pt x="0" y="0"/>
                </a:lnTo>
                <a:lnTo>
                  <a:pt x="24" y="0"/>
                </a:lnTo>
                <a:lnTo>
                  <a:pt x="24" y="10"/>
                </a:lnTo>
                <a:close/>
              </a:path>
            </a:pathLst>
          </a:custGeom>
          <a:solidFill>
            <a:srgbClr val="000000"/>
          </a:solidFill>
          <a:ln w="1440">
            <a:solidFill>
              <a:srgbClr val="000000"/>
            </a:solidFill>
            <a:beve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flipV="1">
            <a:off x="394488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3" name=""/>
          <p:cNvSpPr/>
          <p:nvPr/>
        </p:nvSpPr>
        <p:spPr>
          <a:xfrm>
            <a:off x="394488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 name=""/>
          <p:cNvSpPr/>
          <p:nvPr/>
        </p:nvSpPr>
        <p:spPr>
          <a:xfrm>
            <a:off x="3876840" y="5218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85" name=""/>
          <p:cNvSpPr/>
          <p:nvPr/>
        </p:nvSpPr>
        <p:spPr>
          <a:xfrm>
            <a:off x="392976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86" name=""/>
          <p:cNvSpPr/>
          <p:nvPr/>
        </p:nvSpPr>
        <p:spPr>
          <a:xfrm flipV="1">
            <a:off x="464652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7" name=""/>
          <p:cNvSpPr/>
          <p:nvPr/>
        </p:nvSpPr>
        <p:spPr>
          <a:xfrm>
            <a:off x="464652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8" name=""/>
          <p:cNvSpPr/>
          <p:nvPr/>
        </p:nvSpPr>
        <p:spPr>
          <a:xfrm>
            <a:off x="461556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89" name=""/>
          <p:cNvSpPr/>
          <p:nvPr/>
        </p:nvSpPr>
        <p:spPr>
          <a:xfrm flipV="1">
            <a:off x="5349960" y="5111640"/>
            <a:ext cx="32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0" name=""/>
          <p:cNvSpPr/>
          <p:nvPr/>
        </p:nvSpPr>
        <p:spPr>
          <a:xfrm>
            <a:off x="5349960" y="1754280"/>
            <a:ext cx="32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1" name=""/>
          <p:cNvSpPr/>
          <p:nvPr/>
        </p:nvSpPr>
        <p:spPr>
          <a:xfrm>
            <a:off x="532044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2" name=""/>
          <p:cNvSpPr/>
          <p:nvPr/>
        </p:nvSpPr>
        <p:spPr>
          <a:xfrm flipV="1">
            <a:off x="6062760" y="5111640"/>
            <a:ext cx="14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3" name=""/>
          <p:cNvSpPr/>
          <p:nvPr/>
        </p:nvSpPr>
        <p:spPr>
          <a:xfrm>
            <a:off x="6062760" y="1754280"/>
            <a:ext cx="14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4" name=""/>
          <p:cNvSpPr/>
          <p:nvPr/>
        </p:nvSpPr>
        <p:spPr>
          <a:xfrm>
            <a:off x="603180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95" name=""/>
          <p:cNvSpPr/>
          <p:nvPr/>
        </p:nvSpPr>
        <p:spPr>
          <a:xfrm flipV="1">
            <a:off x="676584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a:off x="676584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7" name=""/>
          <p:cNvSpPr/>
          <p:nvPr/>
        </p:nvSpPr>
        <p:spPr>
          <a:xfrm>
            <a:off x="673812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498" name=""/>
          <p:cNvSpPr/>
          <p:nvPr/>
        </p:nvSpPr>
        <p:spPr>
          <a:xfrm flipV="1">
            <a:off x="7469280" y="5111640"/>
            <a:ext cx="324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9" name=""/>
          <p:cNvSpPr/>
          <p:nvPr/>
        </p:nvSpPr>
        <p:spPr>
          <a:xfrm>
            <a:off x="7469280" y="1754280"/>
            <a:ext cx="324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0" name=""/>
          <p:cNvSpPr/>
          <p:nvPr/>
        </p:nvSpPr>
        <p:spPr>
          <a:xfrm>
            <a:off x="7441200" y="5218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01" name=""/>
          <p:cNvSpPr/>
          <p:nvPr/>
        </p:nvSpPr>
        <p:spPr>
          <a:xfrm flipV="1">
            <a:off x="8183520" y="5111640"/>
            <a:ext cx="1800" cy="5256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2" name=""/>
          <p:cNvSpPr/>
          <p:nvPr/>
        </p:nvSpPr>
        <p:spPr>
          <a:xfrm>
            <a:off x="8183520" y="1754280"/>
            <a:ext cx="1800" cy="39600"/>
          </a:xfrm>
          <a:prstGeom prst="line">
            <a:avLst/>
          </a:prstGeom>
          <a:ln cap="rnd"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8114040" y="521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04" name=""/>
          <p:cNvSpPr/>
          <p:nvPr/>
        </p:nvSpPr>
        <p:spPr>
          <a:xfrm>
            <a:off x="3944880" y="516420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flipH="1">
            <a:off x="8133840" y="516420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3657600" y="5094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7" name=""/>
          <p:cNvSpPr/>
          <p:nvPr/>
        </p:nvSpPr>
        <p:spPr>
          <a:xfrm>
            <a:off x="3710160" y="5094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508" name=""/>
          <p:cNvSpPr/>
          <p:nvPr/>
        </p:nvSpPr>
        <p:spPr>
          <a:xfrm>
            <a:off x="3944880" y="473544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flipH="1">
            <a:off x="8133840" y="4735440"/>
            <a:ext cx="49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3763800" y="4668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11" name=""/>
          <p:cNvSpPr/>
          <p:nvPr/>
        </p:nvSpPr>
        <p:spPr>
          <a:xfrm>
            <a:off x="3817080" y="46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12" name=""/>
          <p:cNvSpPr/>
          <p:nvPr/>
        </p:nvSpPr>
        <p:spPr>
          <a:xfrm>
            <a:off x="3944880" y="430524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flipH="1">
            <a:off x="8133840" y="430524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 name=""/>
          <p:cNvSpPr/>
          <p:nvPr/>
        </p:nvSpPr>
        <p:spPr>
          <a:xfrm>
            <a:off x="3657600" y="42400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15" name=""/>
          <p:cNvSpPr/>
          <p:nvPr/>
        </p:nvSpPr>
        <p:spPr>
          <a:xfrm>
            <a:off x="3710160" y="4240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516" name=""/>
          <p:cNvSpPr/>
          <p:nvPr/>
        </p:nvSpPr>
        <p:spPr>
          <a:xfrm>
            <a:off x="3944880" y="3878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flipH="1">
            <a:off x="8133840" y="38782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802680" y="38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19" name=""/>
          <p:cNvSpPr/>
          <p:nvPr/>
        </p:nvSpPr>
        <p:spPr>
          <a:xfrm>
            <a:off x="3944880" y="345924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flipH="1">
            <a:off x="8133840" y="345924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3695760" y="33926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522" name=""/>
          <p:cNvSpPr/>
          <p:nvPr/>
        </p:nvSpPr>
        <p:spPr>
          <a:xfrm>
            <a:off x="3944880" y="3032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flipH="1">
            <a:off x="8133840" y="30322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3802680" y="296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25" name=""/>
          <p:cNvSpPr/>
          <p:nvPr/>
        </p:nvSpPr>
        <p:spPr>
          <a:xfrm>
            <a:off x="3944880" y="260028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 name=""/>
          <p:cNvSpPr/>
          <p:nvPr/>
        </p:nvSpPr>
        <p:spPr>
          <a:xfrm flipH="1">
            <a:off x="8133840" y="2602080"/>
            <a:ext cx="49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3695760" y="2536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528" name=""/>
          <p:cNvSpPr/>
          <p:nvPr/>
        </p:nvSpPr>
        <p:spPr>
          <a:xfrm>
            <a:off x="3944880" y="217332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 name=""/>
          <p:cNvSpPr/>
          <p:nvPr/>
        </p:nvSpPr>
        <p:spPr>
          <a:xfrm flipH="1">
            <a:off x="8133840" y="217332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3802680" y="210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31" name=""/>
          <p:cNvSpPr/>
          <p:nvPr/>
        </p:nvSpPr>
        <p:spPr>
          <a:xfrm>
            <a:off x="3944880" y="175428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 name=""/>
          <p:cNvSpPr/>
          <p:nvPr/>
        </p:nvSpPr>
        <p:spPr>
          <a:xfrm flipH="1">
            <a:off x="8133840" y="1754280"/>
            <a:ext cx="49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 name=""/>
          <p:cNvSpPr/>
          <p:nvPr/>
        </p:nvSpPr>
        <p:spPr>
          <a:xfrm>
            <a:off x="3695760" y="1687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534" name=""/>
          <p:cNvSpPr/>
          <p:nvPr/>
        </p:nvSpPr>
        <p:spPr>
          <a:xfrm>
            <a:off x="4295880" y="2065320"/>
            <a:ext cx="644400" cy="2738520"/>
          </a:xfrm>
          <a:custGeom>
            <a:avLst/>
            <a:gdLst/>
            <a:ahLst/>
            <a:rect l="l" t="t" r="r" b="b"/>
            <a:pathLst>
              <a:path w="406" h="1725">
                <a:moveTo>
                  <a:pt x="0" y="1142"/>
                </a:moveTo>
                <a:lnTo>
                  <a:pt x="6" y="1148"/>
                </a:lnTo>
                <a:lnTo>
                  <a:pt x="6" y="1142"/>
                </a:lnTo>
                <a:lnTo>
                  <a:pt x="18" y="1142"/>
                </a:lnTo>
                <a:lnTo>
                  <a:pt x="12" y="1142"/>
                </a:lnTo>
                <a:lnTo>
                  <a:pt x="18" y="1142"/>
                </a:lnTo>
                <a:lnTo>
                  <a:pt x="25" y="1148"/>
                </a:lnTo>
                <a:lnTo>
                  <a:pt x="31" y="1142"/>
                </a:lnTo>
                <a:lnTo>
                  <a:pt x="31" y="1148"/>
                </a:lnTo>
                <a:lnTo>
                  <a:pt x="43" y="1142"/>
                </a:lnTo>
                <a:lnTo>
                  <a:pt x="43" y="1148"/>
                </a:lnTo>
                <a:lnTo>
                  <a:pt x="43" y="1142"/>
                </a:lnTo>
                <a:lnTo>
                  <a:pt x="55" y="1142"/>
                </a:lnTo>
                <a:lnTo>
                  <a:pt x="49" y="1142"/>
                </a:lnTo>
                <a:lnTo>
                  <a:pt x="55" y="1148"/>
                </a:lnTo>
                <a:lnTo>
                  <a:pt x="62" y="1142"/>
                </a:lnTo>
                <a:lnTo>
                  <a:pt x="62" y="1148"/>
                </a:lnTo>
                <a:lnTo>
                  <a:pt x="68" y="1142"/>
                </a:lnTo>
                <a:lnTo>
                  <a:pt x="73" y="1148"/>
                </a:lnTo>
                <a:lnTo>
                  <a:pt x="73" y="1135"/>
                </a:lnTo>
                <a:lnTo>
                  <a:pt x="79" y="1142"/>
                </a:lnTo>
                <a:lnTo>
                  <a:pt x="79" y="1148"/>
                </a:lnTo>
                <a:lnTo>
                  <a:pt x="79" y="1142"/>
                </a:lnTo>
                <a:lnTo>
                  <a:pt x="85" y="1148"/>
                </a:lnTo>
                <a:lnTo>
                  <a:pt x="85" y="1142"/>
                </a:lnTo>
                <a:lnTo>
                  <a:pt x="98" y="1148"/>
                </a:lnTo>
                <a:lnTo>
                  <a:pt x="91" y="1148"/>
                </a:lnTo>
                <a:lnTo>
                  <a:pt x="98" y="1135"/>
                </a:lnTo>
                <a:lnTo>
                  <a:pt x="98" y="1142"/>
                </a:lnTo>
                <a:lnTo>
                  <a:pt x="104" y="1154"/>
                </a:lnTo>
                <a:lnTo>
                  <a:pt x="104" y="1135"/>
                </a:lnTo>
                <a:lnTo>
                  <a:pt x="110" y="1148"/>
                </a:lnTo>
                <a:lnTo>
                  <a:pt x="110" y="1135"/>
                </a:lnTo>
                <a:lnTo>
                  <a:pt x="116" y="1142"/>
                </a:lnTo>
                <a:lnTo>
                  <a:pt x="116" y="1154"/>
                </a:lnTo>
                <a:lnTo>
                  <a:pt x="122" y="1135"/>
                </a:lnTo>
                <a:lnTo>
                  <a:pt x="122" y="1161"/>
                </a:lnTo>
                <a:lnTo>
                  <a:pt x="128" y="1148"/>
                </a:lnTo>
                <a:lnTo>
                  <a:pt x="128" y="1123"/>
                </a:lnTo>
                <a:lnTo>
                  <a:pt x="128" y="1154"/>
                </a:lnTo>
                <a:lnTo>
                  <a:pt x="134" y="1167"/>
                </a:lnTo>
                <a:lnTo>
                  <a:pt x="134" y="1110"/>
                </a:lnTo>
                <a:lnTo>
                  <a:pt x="134" y="1129"/>
                </a:lnTo>
                <a:lnTo>
                  <a:pt x="141" y="1223"/>
                </a:lnTo>
                <a:lnTo>
                  <a:pt x="141" y="1054"/>
                </a:lnTo>
                <a:lnTo>
                  <a:pt x="147" y="558"/>
                </a:lnTo>
                <a:lnTo>
                  <a:pt x="147" y="87"/>
                </a:lnTo>
                <a:lnTo>
                  <a:pt x="153" y="137"/>
                </a:lnTo>
                <a:lnTo>
                  <a:pt x="153" y="12"/>
                </a:lnTo>
                <a:lnTo>
                  <a:pt x="159" y="37"/>
                </a:lnTo>
                <a:lnTo>
                  <a:pt x="159" y="0"/>
                </a:lnTo>
                <a:lnTo>
                  <a:pt x="165" y="12"/>
                </a:lnTo>
                <a:lnTo>
                  <a:pt x="165" y="44"/>
                </a:lnTo>
                <a:lnTo>
                  <a:pt x="171" y="37"/>
                </a:lnTo>
                <a:lnTo>
                  <a:pt x="171" y="80"/>
                </a:lnTo>
                <a:lnTo>
                  <a:pt x="178" y="99"/>
                </a:lnTo>
                <a:lnTo>
                  <a:pt x="178" y="137"/>
                </a:lnTo>
                <a:lnTo>
                  <a:pt x="184" y="175"/>
                </a:lnTo>
                <a:lnTo>
                  <a:pt x="184" y="219"/>
                </a:lnTo>
                <a:lnTo>
                  <a:pt x="190" y="263"/>
                </a:lnTo>
                <a:lnTo>
                  <a:pt x="190" y="320"/>
                </a:lnTo>
                <a:lnTo>
                  <a:pt x="196" y="356"/>
                </a:lnTo>
                <a:lnTo>
                  <a:pt x="196" y="394"/>
                </a:lnTo>
                <a:lnTo>
                  <a:pt x="202" y="420"/>
                </a:lnTo>
                <a:lnTo>
                  <a:pt x="202" y="501"/>
                </a:lnTo>
                <a:lnTo>
                  <a:pt x="209" y="527"/>
                </a:lnTo>
                <a:lnTo>
                  <a:pt x="209" y="596"/>
                </a:lnTo>
                <a:lnTo>
                  <a:pt x="215" y="627"/>
                </a:lnTo>
                <a:lnTo>
                  <a:pt x="215" y="689"/>
                </a:lnTo>
                <a:lnTo>
                  <a:pt x="221" y="727"/>
                </a:lnTo>
                <a:lnTo>
                  <a:pt x="221" y="746"/>
                </a:lnTo>
                <a:lnTo>
                  <a:pt x="227" y="777"/>
                </a:lnTo>
                <a:lnTo>
                  <a:pt x="227" y="841"/>
                </a:lnTo>
                <a:lnTo>
                  <a:pt x="233" y="859"/>
                </a:lnTo>
                <a:lnTo>
                  <a:pt x="233" y="916"/>
                </a:lnTo>
                <a:lnTo>
                  <a:pt x="239" y="934"/>
                </a:lnTo>
                <a:lnTo>
                  <a:pt x="239" y="984"/>
                </a:lnTo>
                <a:lnTo>
                  <a:pt x="246" y="1003"/>
                </a:lnTo>
                <a:lnTo>
                  <a:pt x="246" y="1022"/>
                </a:lnTo>
                <a:lnTo>
                  <a:pt x="252" y="1047"/>
                </a:lnTo>
                <a:lnTo>
                  <a:pt x="252" y="1079"/>
                </a:lnTo>
                <a:lnTo>
                  <a:pt x="258" y="1098"/>
                </a:lnTo>
                <a:lnTo>
                  <a:pt x="258" y="1123"/>
                </a:lnTo>
                <a:lnTo>
                  <a:pt x="264" y="1135"/>
                </a:lnTo>
                <a:lnTo>
                  <a:pt x="264" y="1167"/>
                </a:lnTo>
                <a:lnTo>
                  <a:pt x="270" y="1173"/>
                </a:lnTo>
                <a:lnTo>
                  <a:pt x="270" y="1186"/>
                </a:lnTo>
                <a:lnTo>
                  <a:pt x="276" y="1198"/>
                </a:lnTo>
                <a:lnTo>
                  <a:pt x="276" y="1211"/>
                </a:lnTo>
                <a:lnTo>
                  <a:pt x="283" y="1223"/>
                </a:lnTo>
                <a:lnTo>
                  <a:pt x="289" y="1235"/>
                </a:lnTo>
                <a:lnTo>
                  <a:pt x="289" y="1242"/>
                </a:lnTo>
                <a:lnTo>
                  <a:pt x="289" y="1235"/>
                </a:lnTo>
                <a:lnTo>
                  <a:pt x="301" y="1248"/>
                </a:lnTo>
                <a:lnTo>
                  <a:pt x="301" y="1254"/>
                </a:lnTo>
                <a:lnTo>
                  <a:pt x="307" y="1248"/>
                </a:lnTo>
                <a:lnTo>
                  <a:pt x="313" y="1242"/>
                </a:lnTo>
                <a:lnTo>
                  <a:pt x="313" y="1235"/>
                </a:lnTo>
                <a:lnTo>
                  <a:pt x="320" y="1242"/>
                </a:lnTo>
                <a:lnTo>
                  <a:pt x="320" y="1223"/>
                </a:lnTo>
                <a:lnTo>
                  <a:pt x="326" y="1223"/>
                </a:lnTo>
                <a:lnTo>
                  <a:pt x="326" y="1211"/>
                </a:lnTo>
                <a:lnTo>
                  <a:pt x="332" y="1186"/>
                </a:lnTo>
                <a:lnTo>
                  <a:pt x="332" y="1173"/>
                </a:lnTo>
                <a:lnTo>
                  <a:pt x="338" y="1142"/>
                </a:lnTo>
                <a:lnTo>
                  <a:pt x="338" y="1079"/>
                </a:lnTo>
                <a:lnTo>
                  <a:pt x="344" y="953"/>
                </a:lnTo>
                <a:lnTo>
                  <a:pt x="344" y="790"/>
                </a:lnTo>
                <a:lnTo>
                  <a:pt x="344" y="815"/>
                </a:lnTo>
                <a:lnTo>
                  <a:pt x="350" y="1085"/>
                </a:lnTo>
                <a:lnTo>
                  <a:pt x="350" y="1405"/>
                </a:lnTo>
                <a:lnTo>
                  <a:pt x="356" y="1606"/>
                </a:lnTo>
                <a:lnTo>
                  <a:pt x="356" y="1725"/>
                </a:lnTo>
                <a:lnTo>
                  <a:pt x="363" y="1707"/>
                </a:lnTo>
                <a:lnTo>
                  <a:pt x="363" y="1606"/>
                </a:lnTo>
                <a:lnTo>
                  <a:pt x="369" y="1555"/>
                </a:lnTo>
                <a:lnTo>
                  <a:pt x="369" y="1456"/>
                </a:lnTo>
                <a:lnTo>
                  <a:pt x="375" y="1424"/>
                </a:lnTo>
                <a:lnTo>
                  <a:pt x="375" y="1386"/>
                </a:lnTo>
                <a:lnTo>
                  <a:pt x="381" y="1349"/>
                </a:lnTo>
                <a:lnTo>
                  <a:pt x="381" y="1304"/>
                </a:lnTo>
                <a:lnTo>
                  <a:pt x="387" y="1279"/>
                </a:lnTo>
                <a:lnTo>
                  <a:pt x="387" y="1248"/>
                </a:lnTo>
                <a:lnTo>
                  <a:pt x="393" y="1229"/>
                </a:lnTo>
                <a:lnTo>
                  <a:pt x="393" y="1211"/>
                </a:lnTo>
                <a:lnTo>
                  <a:pt x="400" y="1198"/>
                </a:lnTo>
                <a:lnTo>
                  <a:pt x="400" y="1186"/>
                </a:lnTo>
                <a:lnTo>
                  <a:pt x="406" y="1180"/>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940280" y="3838680"/>
            <a:ext cx="1201680" cy="100080"/>
          </a:xfrm>
          <a:custGeom>
            <a:avLst/>
            <a:gdLst/>
            <a:ahLst/>
            <a:rect l="l" t="t" r="r" b="b"/>
            <a:pathLst>
              <a:path w="757" h="63">
                <a:moveTo>
                  <a:pt x="0" y="63"/>
                </a:moveTo>
                <a:lnTo>
                  <a:pt x="0" y="50"/>
                </a:lnTo>
                <a:lnTo>
                  <a:pt x="6" y="44"/>
                </a:lnTo>
                <a:lnTo>
                  <a:pt x="6" y="32"/>
                </a:lnTo>
                <a:lnTo>
                  <a:pt x="18" y="19"/>
                </a:lnTo>
                <a:lnTo>
                  <a:pt x="18" y="13"/>
                </a:lnTo>
                <a:lnTo>
                  <a:pt x="24" y="6"/>
                </a:lnTo>
                <a:lnTo>
                  <a:pt x="31" y="6"/>
                </a:lnTo>
                <a:lnTo>
                  <a:pt x="37" y="0"/>
                </a:lnTo>
                <a:lnTo>
                  <a:pt x="43" y="0"/>
                </a:lnTo>
                <a:lnTo>
                  <a:pt x="49" y="0"/>
                </a:lnTo>
                <a:lnTo>
                  <a:pt x="55" y="0"/>
                </a:lnTo>
                <a:lnTo>
                  <a:pt x="61" y="0"/>
                </a:lnTo>
                <a:lnTo>
                  <a:pt x="68" y="0"/>
                </a:lnTo>
                <a:lnTo>
                  <a:pt x="74" y="6"/>
                </a:lnTo>
                <a:lnTo>
                  <a:pt x="80" y="6"/>
                </a:lnTo>
                <a:lnTo>
                  <a:pt x="86" y="6"/>
                </a:lnTo>
                <a:lnTo>
                  <a:pt x="92" y="6"/>
                </a:lnTo>
                <a:lnTo>
                  <a:pt x="98" y="13"/>
                </a:lnTo>
                <a:lnTo>
                  <a:pt x="105" y="13"/>
                </a:lnTo>
                <a:lnTo>
                  <a:pt x="111" y="19"/>
                </a:lnTo>
                <a:lnTo>
                  <a:pt x="117" y="19"/>
                </a:lnTo>
                <a:lnTo>
                  <a:pt x="123" y="19"/>
                </a:lnTo>
                <a:lnTo>
                  <a:pt x="129" y="19"/>
                </a:lnTo>
                <a:lnTo>
                  <a:pt x="136" y="25"/>
                </a:lnTo>
                <a:lnTo>
                  <a:pt x="142" y="25"/>
                </a:lnTo>
                <a:lnTo>
                  <a:pt x="148" y="25"/>
                </a:lnTo>
                <a:lnTo>
                  <a:pt x="154" y="25"/>
                </a:lnTo>
                <a:lnTo>
                  <a:pt x="159" y="25"/>
                </a:lnTo>
                <a:lnTo>
                  <a:pt x="165" y="32"/>
                </a:lnTo>
                <a:lnTo>
                  <a:pt x="165" y="25"/>
                </a:lnTo>
                <a:lnTo>
                  <a:pt x="178" y="32"/>
                </a:lnTo>
                <a:lnTo>
                  <a:pt x="184" y="32"/>
                </a:lnTo>
                <a:lnTo>
                  <a:pt x="190" y="32"/>
                </a:lnTo>
                <a:lnTo>
                  <a:pt x="196" y="32"/>
                </a:lnTo>
                <a:lnTo>
                  <a:pt x="202" y="32"/>
                </a:lnTo>
                <a:lnTo>
                  <a:pt x="208" y="32"/>
                </a:lnTo>
                <a:lnTo>
                  <a:pt x="221" y="32"/>
                </a:lnTo>
                <a:lnTo>
                  <a:pt x="215" y="32"/>
                </a:lnTo>
                <a:lnTo>
                  <a:pt x="221" y="25"/>
                </a:lnTo>
                <a:lnTo>
                  <a:pt x="233" y="25"/>
                </a:lnTo>
                <a:lnTo>
                  <a:pt x="227" y="25"/>
                </a:lnTo>
                <a:lnTo>
                  <a:pt x="233" y="25"/>
                </a:lnTo>
                <a:lnTo>
                  <a:pt x="239" y="25"/>
                </a:lnTo>
                <a:lnTo>
                  <a:pt x="246" y="25"/>
                </a:lnTo>
                <a:lnTo>
                  <a:pt x="252" y="25"/>
                </a:lnTo>
                <a:lnTo>
                  <a:pt x="258" y="25"/>
                </a:lnTo>
                <a:lnTo>
                  <a:pt x="264" y="25"/>
                </a:lnTo>
                <a:lnTo>
                  <a:pt x="270" y="25"/>
                </a:lnTo>
                <a:lnTo>
                  <a:pt x="276" y="25"/>
                </a:lnTo>
                <a:lnTo>
                  <a:pt x="283" y="25"/>
                </a:lnTo>
                <a:lnTo>
                  <a:pt x="289" y="25"/>
                </a:lnTo>
                <a:lnTo>
                  <a:pt x="295" y="25"/>
                </a:lnTo>
                <a:lnTo>
                  <a:pt x="301" y="25"/>
                </a:lnTo>
                <a:lnTo>
                  <a:pt x="307" y="25"/>
                </a:lnTo>
                <a:lnTo>
                  <a:pt x="313" y="25"/>
                </a:lnTo>
                <a:lnTo>
                  <a:pt x="320" y="25"/>
                </a:lnTo>
                <a:lnTo>
                  <a:pt x="326" y="25"/>
                </a:lnTo>
                <a:lnTo>
                  <a:pt x="332" y="25"/>
                </a:lnTo>
                <a:lnTo>
                  <a:pt x="338" y="25"/>
                </a:lnTo>
                <a:lnTo>
                  <a:pt x="344" y="25"/>
                </a:lnTo>
                <a:lnTo>
                  <a:pt x="350" y="25"/>
                </a:lnTo>
                <a:lnTo>
                  <a:pt x="357" y="25"/>
                </a:lnTo>
                <a:lnTo>
                  <a:pt x="363" y="25"/>
                </a:lnTo>
                <a:lnTo>
                  <a:pt x="369" y="25"/>
                </a:lnTo>
                <a:lnTo>
                  <a:pt x="375" y="25"/>
                </a:lnTo>
                <a:lnTo>
                  <a:pt x="381" y="25"/>
                </a:lnTo>
                <a:lnTo>
                  <a:pt x="387" y="25"/>
                </a:lnTo>
                <a:lnTo>
                  <a:pt x="394" y="25"/>
                </a:lnTo>
                <a:lnTo>
                  <a:pt x="400" y="25"/>
                </a:lnTo>
                <a:lnTo>
                  <a:pt x="406" y="25"/>
                </a:lnTo>
                <a:lnTo>
                  <a:pt x="412" y="25"/>
                </a:lnTo>
                <a:lnTo>
                  <a:pt x="418" y="25"/>
                </a:lnTo>
                <a:lnTo>
                  <a:pt x="424" y="25"/>
                </a:lnTo>
                <a:lnTo>
                  <a:pt x="431" y="25"/>
                </a:lnTo>
                <a:lnTo>
                  <a:pt x="437" y="25"/>
                </a:lnTo>
                <a:lnTo>
                  <a:pt x="443" y="25"/>
                </a:lnTo>
                <a:lnTo>
                  <a:pt x="449" y="25"/>
                </a:lnTo>
                <a:lnTo>
                  <a:pt x="455" y="25"/>
                </a:lnTo>
                <a:lnTo>
                  <a:pt x="461" y="25"/>
                </a:lnTo>
                <a:lnTo>
                  <a:pt x="468" y="25"/>
                </a:lnTo>
                <a:lnTo>
                  <a:pt x="474" y="25"/>
                </a:lnTo>
                <a:lnTo>
                  <a:pt x="480" y="25"/>
                </a:lnTo>
                <a:lnTo>
                  <a:pt x="486" y="25"/>
                </a:lnTo>
                <a:lnTo>
                  <a:pt x="492" y="25"/>
                </a:lnTo>
                <a:lnTo>
                  <a:pt x="498" y="25"/>
                </a:lnTo>
                <a:lnTo>
                  <a:pt x="505" y="25"/>
                </a:lnTo>
                <a:lnTo>
                  <a:pt x="511" y="25"/>
                </a:lnTo>
                <a:lnTo>
                  <a:pt x="517" y="25"/>
                </a:lnTo>
                <a:lnTo>
                  <a:pt x="523" y="25"/>
                </a:lnTo>
                <a:lnTo>
                  <a:pt x="529" y="25"/>
                </a:lnTo>
                <a:lnTo>
                  <a:pt x="535" y="25"/>
                </a:lnTo>
                <a:lnTo>
                  <a:pt x="542" y="25"/>
                </a:lnTo>
                <a:lnTo>
                  <a:pt x="548" y="25"/>
                </a:lnTo>
                <a:lnTo>
                  <a:pt x="554" y="25"/>
                </a:lnTo>
                <a:lnTo>
                  <a:pt x="560" y="25"/>
                </a:lnTo>
                <a:lnTo>
                  <a:pt x="566" y="25"/>
                </a:lnTo>
                <a:lnTo>
                  <a:pt x="573" y="25"/>
                </a:lnTo>
                <a:lnTo>
                  <a:pt x="579" y="25"/>
                </a:lnTo>
                <a:lnTo>
                  <a:pt x="585" y="25"/>
                </a:lnTo>
                <a:lnTo>
                  <a:pt x="591" y="25"/>
                </a:lnTo>
                <a:lnTo>
                  <a:pt x="597" y="25"/>
                </a:lnTo>
                <a:lnTo>
                  <a:pt x="603" y="25"/>
                </a:lnTo>
                <a:lnTo>
                  <a:pt x="610" y="25"/>
                </a:lnTo>
                <a:lnTo>
                  <a:pt x="616" y="25"/>
                </a:lnTo>
                <a:lnTo>
                  <a:pt x="622" y="25"/>
                </a:lnTo>
                <a:lnTo>
                  <a:pt x="628" y="25"/>
                </a:lnTo>
                <a:lnTo>
                  <a:pt x="634" y="25"/>
                </a:lnTo>
                <a:lnTo>
                  <a:pt x="640" y="25"/>
                </a:lnTo>
                <a:lnTo>
                  <a:pt x="647" y="25"/>
                </a:lnTo>
                <a:lnTo>
                  <a:pt x="652" y="25"/>
                </a:lnTo>
                <a:lnTo>
                  <a:pt x="658" y="25"/>
                </a:lnTo>
                <a:lnTo>
                  <a:pt x="664" y="25"/>
                </a:lnTo>
                <a:lnTo>
                  <a:pt x="670" y="25"/>
                </a:lnTo>
                <a:lnTo>
                  <a:pt x="676" y="25"/>
                </a:lnTo>
                <a:lnTo>
                  <a:pt x="683" y="25"/>
                </a:lnTo>
                <a:lnTo>
                  <a:pt x="689" y="25"/>
                </a:lnTo>
                <a:lnTo>
                  <a:pt x="695" y="25"/>
                </a:lnTo>
                <a:lnTo>
                  <a:pt x="701" y="25"/>
                </a:lnTo>
                <a:lnTo>
                  <a:pt x="707" y="25"/>
                </a:lnTo>
                <a:lnTo>
                  <a:pt x="713" y="25"/>
                </a:lnTo>
                <a:lnTo>
                  <a:pt x="720" y="25"/>
                </a:lnTo>
                <a:lnTo>
                  <a:pt x="726" y="25"/>
                </a:lnTo>
                <a:lnTo>
                  <a:pt x="732" y="25"/>
                </a:lnTo>
                <a:lnTo>
                  <a:pt x="738" y="25"/>
                </a:lnTo>
                <a:lnTo>
                  <a:pt x="744" y="25"/>
                </a:lnTo>
                <a:lnTo>
                  <a:pt x="750" y="25"/>
                </a:lnTo>
                <a:lnTo>
                  <a:pt x="757" y="25"/>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141960" y="3878280"/>
            <a:ext cx="1239840" cy="1440"/>
          </a:xfrm>
          <a:custGeom>
            <a:avLst/>
            <a:gdLst/>
            <a:ahLst/>
            <a:rect l="l" t="t" r="r" b="b"/>
            <a:pathLst>
              <a:path w="781" h="0">
                <a:moveTo>
                  <a:pt x="0" y="0"/>
                </a:moveTo>
                <a:lnTo>
                  <a:pt x="6" y="0"/>
                </a:lnTo>
                <a:lnTo>
                  <a:pt x="12" y="0"/>
                </a:lnTo>
                <a:lnTo>
                  <a:pt x="18" y="0"/>
                </a:lnTo>
                <a:lnTo>
                  <a:pt x="24" y="0"/>
                </a:lnTo>
                <a:lnTo>
                  <a:pt x="30" y="0"/>
                </a:lnTo>
                <a:lnTo>
                  <a:pt x="37" y="0"/>
                </a:lnTo>
                <a:lnTo>
                  <a:pt x="43" y="0"/>
                </a:lnTo>
                <a:lnTo>
                  <a:pt x="49" y="0"/>
                </a:lnTo>
                <a:lnTo>
                  <a:pt x="55" y="0"/>
                </a:lnTo>
                <a:lnTo>
                  <a:pt x="61" y="0"/>
                </a:lnTo>
                <a:lnTo>
                  <a:pt x="67" y="0"/>
                </a:lnTo>
                <a:lnTo>
                  <a:pt x="74" y="0"/>
                </a:lnTo>
                <a:lnTo>
                  <a:pt x="80" y="0"/>
                </a:lnTo>
                <a:lnTo>
                  <a:pt x="86" y="0"/>
                </a:lnTo>
                <a:lnTo>
                  <a:pt x="92" y="0"/>
                </a:lnTo>
                <a:lnTo>
                  <a:pt x="98" y="0"/>
                </a:lnTo>
                <a:lnTo>
                  <a:pt x="104" y="0"/>
                </a:lnTo>
                <a:lnTo>
                  <a:pt x="111" y="0"/>
                </a:lnTo>
                <a:lnTo>
                  <a:pt x="117" y="0"/>
                </a:lnTo>
                <a:lnTo>
                  <a:pt x="123" y="0"/>
                </a:lnTo>
                <a:lnTo>
                  <a:pt x="129" y="0"/>
                </a:lnTo>
                <a:lnTo>
                  <a:pt x="135" y="0"/>
                </a:lnTo>
                <a:lnTo>
                  <a:pt x="141" y="0"/>
                </a:lnTo>
                <a:lnTo>
                  <a:pt x="148" y="0"/>
                </a:lnTo>
                <a:lnTo>
                  <a:pt x="154" y="0"/>
                </a:lnTo>
                <a:lnTo>
                  <a:pt x="160" y="0"/>
                </a:lnTo>
                <a:lnTo>
                  <a:pt x="166" y="0"/>
                </a:lnTo>
                <a:lnTo>
                  <a:pt x="172" y="0"/>
                </a:lnTo>
                <a:lnTo>
                  <a:pt x="178" y="0"/>
                </a:lnTo>
                <a:lnTo>
                  <a:pt x="184" y="0"/>
                </a:lnTo>
                <a:lnTo>
                  <a:pt x="191" y="0"/>
                </a:lnTo>
                <a:lnTo>
                  <a:pt x="197" y="0"/>
                </a:lnTo>
                <a:lnTo>
                  <a:pt x="203" y="0"/>
                </a:lnTo>
                <a:lnTo>
                  <a:pt x="209" y="0"/>
                </a:lnTo>
                <a:lnTo>
                  <a:pt x="215" y="0"/>
                </a:lnTo>
                <a:lnTo>
                  <a:pt x="222" y="0"/>
                </a:lnTo>
                <a:lnTo>
                  <a:pt x="228" y="0"/>
                </a:lnTo>
                <a:lnTo>
                  <a:pt x="234" y="0"/>
                </a:lnTo>
                <a:lnTo>
                  <a:pt x="240" y="0"/>
                </a:lnTo>
                <a:lnTo>
                  <a:pt x="246" y="0"/>
                </a:lnTo>
                <a:lnTo>
                  <a:pt x="252" y="0"/>
                </a:lnTo>
                <a:lnTo>
                  <a:pt x="259" y="0"/>
                </a:lnTo>
                <a:lnTo>
                  <a:pt x="265" y="0"/>
                </a:lnTo>
                <a:lnTo>
                  <a:pt x="271" y="0"/>
                </a:lnTo>
                <a:lnTo>
                  <a:pt x="277" y="0"/>
                </a:lnTo>
                <a:lnTo>
                  <a:pt x="283" y="0"/>
                </a:lnTo>
                <a:lnTo>
                  <a:pt x="289" y="0"/>
                </a:lnTo>
                <a:lnTo>
                  <a:pt x="296" y="0"/>
                </a:lnTo>
                <a:lnTo>
                  <a:pt x="302" y="0"/>
                </a:lnTo>
                <a:lnTo>
                  <a:pt x="308" y="0"/>
                </a:lnTo>
                <a:lnTo>
                  <a:pt x="314" y="0"/>
                </a:lnTo>
                <a:lnTo>
                  <a:pt x="320" y="0"/>
                </a:lnTo>
                <a:lnTo>
                  <a:pt x="326" y="0"/>
                </a:lnTo>
                <a:lnTo>
                  <a:pt x="332" y="0"/>
                </a:lnTo>
                <a:lnTo>
                  <a:pt x="339" y="0"/>
                </a:lnTo>
                <a:lnTo>
                  <a:pt x="345" y="0"/>
                </a:lnTo>
                <a:lnTo>
                  <a:pt x="351" y="0"/>
                </a:lnTo>
                <a:lnTo>
                  <a:pt x="357" y="0"/>
                </a:lnTo>
                <a:lnTo>
                  <a:pt x="363" y="0"/>
                </a:lnTo>
                <a:lnTo>
                  <a:pt x="369" y="0"/>
                </a:lnTo>
                <a:lnTo>
                  <a:pt x="376" y="0"/>
                </a:lnTo>
                <a:lnTo>
                  <a:pt x="382" y="0"/>
                </a:lnTo>
                <a:lnTo>
                  <a:pt x="387" y="0"/>
                </a:lnTo>
                <a:lnTo>
                  <a:pt x="393" y="0"/>
                </a:lnTo>
                <a:lnTo>
                  <a:pt x="399" y="0"/>
                </a:lnTo>
                <a:lnTo>
                  <a:pt x="405" y="0"/>
                </a:lnTo>
                <a:lnTo>
                  <a:pt x="412" y="0"/>
                </a:lnTo>
                <a:lnTo>
                  <a:pt x="418" y="0"/>
                </a:lnTo>
                <a:lnTo>
                  <a:pt x="424" y="0"/>
                </a:lnTo>
                <a:lnTo>
                  <a:pt x="430" y="0"/>
                </a:lnTo>
                <a:lnTo>
                  <a:pt x="436" y="0"/>
                </a:lnTo>
                <a:lnTo>
                  <a:pt x="442" y="0"/>
                </a:lnTo>
                <a:lnTo>
                  <a:pt x="449" y="0"/>
                </a:lnTo>
                <a:lnTo>
                  <a:pt x="455" y="0"/>
                </a:lnTo>
                <a:lnTo>
                  <a:pt x="461" y="0"/>
                </a:lnTo>
                <a:lnTo>
                  <a:pt x="467" y="0"/>
                </a:lnTo>
                <a:lnTo>
                  <a:pt x="473" y="0"/>
                </a:lnTo>
                <a:lnTo>
                  <a:pt x="479" y="0"/>
                </a:lnTo>
                <a:lnTo>
                  <a:pt x="486" y="0"/>
                </a:lnTo>
                <a:lnTo>
                  <a:pt x="492" y="0"/>
                </a:lnTo>
                <a:lnTo>
                  <a:pt x="498" y="0"/>
                </a:lnTo>
                <a:lnTo>
                  <a:pt x="504" y="0"/>
                </a:lnTo>
                <a:lnTo>
                  <a:pt x="510" y="0"/>
                </a:lnTo>
                <a:lnTo>
                  <a:pt x="516" y="0"/>
                </a:lnTo>
                <a:lnTo>
                  <a:pt x="523" y="0"/>
                </a:lnTo>
                <a:lnTo>
                  <a:pt x="529" y="0"/>
                </a:lnTo>
                <a:lnTo>
                  <a:pt x="535" y="0"/>
                </a:lnTo>
                <a:lnTo>
                  <a:pt x="541" y="0"/>
                </a:lnTo>
                <a:lnTo>
                  <a:pt x="547" y="0"/>
                </a:lnTo>
                <a:lnTo>
                  <a:pt x="553" y="0"/>
                </a:lnTo>
                <a:lnTo>
                  <a:pt x="559" y="0"/>
                </a:lnTo>
                <a:lnTo>
                  <a:pt x="566" y="0"/>
                </a:lnTo>
                <a:lnTo>
                  <a:pt x="572" y="0"/>
                </a:lnTo>
                <a:lnTo>
                  <a:pt x="578" y="0"/>
                </a:lnTo>
                <a:lnTo>
                  <a:pt x="584" y="0"/>
                </a:lnTo>
                <a:lnTo>
                  <a:pt x="590" y="0"/>
                </a:lnTo>
                <a:lnTo>
                  <a:pt x="596" y="0"/>
                </a:lnTo>
                <a:lnTo>
                  <a:pt x="603" y="0"/>
                </a:lnTo>
                <a:lnTo>
                  <a:pt x="609" y="0"/>
                </a:lnTo>
                <a:lnTo>
                  <a:pt x="615" y="0"/>
                </a:lnTo>
                <a:lnTo>
                  <a:pt x="621" y="0"/>
                </a:lnTo>
                <a:lnTo>
                  <a:pt x="627" y="0"/>
                </a:lnTo>
                <a:lnTo>
                  <a:pt x="633" y="0"/>
                </a:lnTo>
                <a:lnTo>
                  <a:pt x="640" y="0"/>
                </a:lnTo>
                <a:lnTo>
                  <a:pt x="646" y="0"/>
                </a:lnTo>
                <a:lnTo>
                  <a:pt x="652" y="0"/>
                </a:lnTo>
                <a:lnTo>
                  <a:pt x="658" y="0"/>
                </a:lnTo>
                <a:lnTo>
                  <a:pt x="664" y="0"/>
                </a:lnTo>
                <a:lnTo>
                  <a:pt x="670" y="0"/>
                </a:lnTo>
                <a:lnTo>
                  <a:pt x="677" y="0"/>
                </a:lnTo>
                <a:lnTo>
                  <a:pt x="683" y="0"/>
                </a:lnTo>
                <a:lnTo>
                  <a:pt x="689" y="0"/>
                </a:lnTo>
                <a:lnTo>
                  <a:pt x="695" y="0"/>
                </a:lnTo>
                <a:lnTo>
                  <a:pt x="701" y="0"/>
                </a:lnTo>
                <a:lnTo>
                  <a:pt x="708" y="0"/>
                </a:lnTo>
                <a:lnTo>
                  <a:pt x="714" y="0"/>
                </a:lnTo>
                <a:lnTo>
                  <a:pt x="720" y="0"/>
                </a:lnTo>
                <a:lnTo>
                  <a:pt x="726" y="0"/>
                </a:lnTo>
                <a:lnTo>
                  <a:pt x="732" y="0"/>
                </a:lnTo>
                <a:lnTo>
                  <a:pt x="738" y="0"/>
                </a:lnTo>
                <a:lnTo>
                  <a:pt x="744" y="0"/>
                </a:lnTo>
                <a:lnTo>
                  <a:pt x="751" y="0"/>
                </a:lnTo>
                <a:lnTo>
                  <a:pt x="757" y="0"/>
                </a:lnTo>
                <a:lnTo>
                  <a:pt x="763" y="0"/>
                </a:lnTo>
                <a:lnTo>
                  <a:pt x="769" y="0"/>
                </a:lnTo>
                <a:lnTo>
                  <a:pt x="775" y="0"/>
                </a:lnTo>
                <a:lnTo>
                  <a:pt x="781" y="0"/>
                </a:lnTo>
              </a:path>
            </a:pathLst>
          </a:custGeom>
          <a:noFill/>
          <a:ln cap="rnd" w="1908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7381800" y="3878280"/>
            <a:ext cx="525600" cy="11160"/>
          </a:xfrm>
          <a:custGeom>
            <a:avLst/>
            <a:gdLst/>
            <a:ahLst/>
            <a:rect l="l" t="t" r="r" b="b"/>
            <a:pathLst>
              <a:path w="331" h="7">
                <a:moveTo>
                  <a:pt x="0" y="0"/>
                </a:moveTo>
                <a:lnTo>
                  <a:pt x="7" y="0"/>
                </a:lnTo>
                <a:lnTo>
                  <a:pt x="13" y="0"/>
                </a:lnTo>
                <a:lnTo>
                  <a:pt x="19" y="0"/>
                </a:lnTo>
                <a:lnTo>
                  <a:pt x="25" y="0"/>
                </a:lnTo>
                <a:lnTo>
                  <a:pt x="31" y="0"/>
                </a:lnTo>
                <a:lnTo>
                  <a:pt x="37" y="0"/>
                </a:lnTo>
                <a:lnTo>
                  <a:pt x="43" y="0"/>
                </a:lnTo>
                <a:lnTo>
                  <a:pt x="50" y="0"/>
                </a:lnTo>
                <a:lnTo>
                  <a:pt x="56" y="0"/>
                </a:lnTo>
                <a:lnTo>
                  <a:pt x="62" y="0"/>
                </a:lnTo>
                <a:lnTo>
                  <a:pt x="68" y="0"/>
                </a:lnTo>
                <a:lnTo>
                  <a:pt x="74" y="0"/>
                </a:lnTo>
                <a:lnTo>
                  <a:pt x="80" y="0"/>
                </a:lnTo>
                <a:lnTo>
                  <a:pt x="86" y="0"/>
                </a:lnTo>
                <a:lnTo>
                  <a:pt x="93" y="0"/>
                </a:lnTo>
                <a:lnTo>
                  <a:pt x="98" y="0"/>
                </a:lnTo>
                <a:lnTo>
                  <a:pt x="104" y="0"/>
                </a:lnTo>
                <a:lnTo>
                  <a:pt x="110" y="0"/>
                </a:lnTo>
                <a:lnTo>
                  <a:pt x="116" y="0"/>
                </a:lnTo>
                <a:lnTo>
                  <a:pt x="122" y="0"/>
                </a:lnTo>
                <a:lnTo>
                  <a:pt x="129" y="0"/>
                </a:lnTo>
                <a:lnTo>
                  <a:pt x="135" y="0"/>
                </a:lnTo>
                <a:lnTo>
                  <a:pt x="141" y="0"/>
                </a:lnTo>
                <a:lnTo>
                  <a:pt x="147" y="0"/>
                </a:lnTo>
                <a:lnTo>
                  <a:pt x="153" y="0"/>
                </a:lnTo>
                <a:lnTo>
                  <a:pt x="159" y="0"/>
                </a:lnTo>
                <a:lnTo>
                  <a:pt x="165" y="0"/>
                </a:lnTo>
                <a:lnTo>
                  <a:pt x="172" y="0"/>
                </a:lnTo>
                <a:lnTo>
                  <a:pt x="178" y="0"/>
                </a:lnTo>
                <a:lnTo>
                  <a:pt x="184" y="0"/>
                </a:lnTo>
                <a:lnTo>
                  <a:pt x="190" y="0"/>
                </a:lnTo>
                <a:lnTo>
                  <a:pt x="196" y="0"/>
                </a:lnTo>
                <a:lnTo>
                  <a:pt x="202" y="0"/>
                </a:lnTo>
                <a:lnTo>
                  <a:pt x="208" y="0"/>
                </a:lnTo>
                <a:lnTo>
                  <a:pt x="215" y="0"/>
                </a:lnTo>
                <a:lnTo>
                  <a:pt x="221" y="0"/>
                </a:lnTo>
                <a:lnTo>
                  <a:pt x="227" y="0"/>
                </a:lnTo>
                <a:lnTo>
                  <a:pt x="233" y="0"/>
                </a:lnTo>
                <a:lnTo>
                  <a:pt x="239" y="0"/>
                </a:lnTo>
                <a:lnTo>
                  <a:pt x="245" y="0"/>
                </a:lnTo>
                <a:lnTo>
                  <a:pt x="251" y="0"/>
                </a:lnTo>
                <a:lnTo>
                  <a:pt x="258" y="0"/>
                </a:lnTo>
                <a:lnTo>
                  <a:pt x="264" y="0"/>
                </a:lnTo>
                <a:lnTo>
                  <a:pt x="270" y="0"/>
                </a:lnTo>
                <a:lnTo>
                  <a:pt x="276" y="0"/>
                </a:lnTo>
                <a:lnTo>
                  <a:pt x="282" y="0"/>
                </a:lnTo>
                <a:lnTo>
                  <a:pt x="288" y="0"/>
                </a:lnTo>
                <a:lnTo>
                  <a:pt x="294" y="0"/>
                </a:lnTo>
                <a:lnTo>
                  <a:pt x="301" y="0"/>
                </a:lnTo>
                <a:lnTo>
                  <a:pt x="307" y="7"/>
                </a:lnTo>
                <a:lnTo>
                  <a:pt x="313" y="0"/>
                </a:lnTo>
                <a:lnTo>
                  <a:pt x="313" y="7"/>
                </a:lnTo>
                <a:lnTo>
                  <a:pt x="325" y="0"/>
                </a:lnTo>
                <a:lnTo>
                  <a:pt x="325" y="7"/>
                </a:lnTo>
                <a:lnTo>
                  <a:pt x="325" y="0"/>
                </a:lnTo>
                <a:lnTo>
                  <a:pt x="331" y="7"/>
                </a:lnTo>
              </a:path>
            </a:pathLst>
          </a:custGeom>
          <a:noFill/>
          <a:ln cap="rnd" w="14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flipH="1">
            <a:off x="4886280" y="3274920"/>
            <a:ext cx="29232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259240" y="304812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eping wave</a:t>
            </a:r>
            <a:endParaRPr b="0" lang="en-US" sz="1800" spc="-1" strike="noStrike">
              <a:solidFill>
                <a:srgbClr val="000000"/>
              </a:solidFill>
              <a:latin typeface="Times New Roman"/>
            </a:endParaRPr>
          </a:p>
        </p:txBody>
      </p:sp>
      <p:sp>
        <p:nvSpPr>
          <p:cNvPr id="540" name=""/>
          <p:cNvSpPr/>
          <p:nvPr/>
        </p:nvSpPr>
        <p:spPr>
          <a:xfrm>
            <a:off x="3181320" y="289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pherical Vo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838080"/>
            <a:ext cx="763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Kirchhoff approximation is formally a high frequency approximation ( ka &gt;&gt;1), numerical tests have shown it capable of producing good agreement (&lt;1 dB difference) for the peak-to-peak time domain response of the spherical void down to ka =1 provided the bandwidth is sufficient</a:t>
            </a:r>
            <a:endParaRPr b="0" lang="en-US" sz="2400" spc="-1" strike="noStrike">
              <a:solidFill>
                <a:srgbClr val="000000"/>
              </a:solidFill>
              <a:latin typeface="Times New Roman"/>
            </a:endParaRPr>
          </a:p>
        </p:txBody>
      </p:sp>
      <p:sp>
        <p:nvSpPr>
          <p:cNvPr id="543" name=""/>
          <p:cNvSpPr/>
          <p:nvPr/>
        </p:nvSpPr>
        <p:spPr>
          <a:xfrm>
            <a:off x="4973760" y="3281400"/>
            <a:ext cx="3403440" cy="26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973760" y="3281400"/>
            <a:ext cx="3403440" cy="2689200"/>
          </a:xfrm>
          <a:prstGeom prst="rect">
            <a:avLst/>
          </a:prstGeom>
          <a:noFill/>
          <a:ln cap="rnd"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5" name="" descr=""/>
          <p:cNvPicPr/>
          <p:nvPr/>
        </p:nvPicPr>
        <p:blipFill>
          <a:blip r:embed="rId1"/>
          <a:stretch/>
        </p:blipFill>
        <p:spPr>
          <a:xfrm>
            <a:off x="4973760" y="3284640"/>
            <a:ext cx="3405240" cy="2689200"/>
          </a:xfrm>
          <a:prstGeom prst="rect">
            <a:avLst/>
          </a:prstGeom>
          <a:ln w="0">
            <a:noFill/>
          </a:ln>
        </p:spPr>
      </p:pic>
      <p:sp>
        <p:nvSpPr>
          <p:cNvPr id="546" name=""/>
          <p:cNvSpPr/>
          <p:nvPr/>
        </p:nvSpPr>
        <p:spPr>
          <a:xfrm flipV="1">
            <a:off x="507060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7" name=""/>
          <p:cNvSpPr/>
          <p:nvPr/>
        </p:nvSpPr>
        <p:spPr>
          <a:xfrm>
            <a:off x="507060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8" name=""/>
          <p:cNvSpPr/>
          <p:nvPr/>
        </p:nvSpPr>
        <p:spPr>
          <a:xfrm flipV="1">
            <a:off x="547056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9" name=""/>
          <p:cNvSpPr/>
          <p:nvPr/>
        </p:nvSpPr>
        <p:spPr>
          <a:xfrm>
            <a:off x="547056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flipV="1">
            <a:off x="587232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1" name=""/>
          <p:cNvSpPr/>
          <p:nvPr/>
        </p:nvSpPr>
        <p:spPr>
          <a:xfrm>
            <a:off x="587232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2" name=""/>
          <p:cNvSpPr/>
          <p:nvPr/>
        </p:nvSpPr>
        <p:spPr>
          <a:xfrm flipV="1">
            <a:off x="627228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627228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4" name=""/>
          <p:cNvSpPr/>
          <p:nvPr/>
        </p:nvSpPr>
        <p:spPr>
          <a:xfrm flipV="1">
            <a:off x="667224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5" name=""/>
          <p:cNvSpPr/>
          <p:nvPr/>
        </p:nvSpPr>
        <p:spPr>
          <a:xfrm>
            <a:off x="667224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6" name=""/>
          <p:cNvSpPr/>
          <p:nvPr/>
        </p:nvSpPr>
        <p:spPr>
          <a:xfrm flipV="1">
            <a:off x="707400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7" name=""/>
          <p:cNvSpPr/>
          <p:nvPr/>
        </p:nvSpPr>
        <p:spPr>
          <a:xfrm>
            <a:off x="707400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8" name=""/>
          <p:cNvSpPr/>
          <p:nvPr/>
        </p:nvSpPr>
        <p:spPr>
          <a:xfrm flipV="1">
            <a:off x="747396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9" name=""/>
          <p:cNvSpPr/>
          <p:nvPr/>
        </p:nvSpPr>
        <p:spPr>
          <a:xfrm>
            <a:off x="747396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0" name=""/>
          <p:cNvSpPr/>
          <p:nvPr/>
        </p:nvSpPr>
        <p:spPr>
          <a:xfrm flipV="1">
            <a:off x="7873920" y="5935320"/>
            <a:ext cx="180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 name=""/>
          <p:cNvSpPr/>
          <p:nvPr/>
        </p:nvSpPr>
        <p:spPr>
          <a:xfrm>
            <a:off x="7873920" y="3281400"/>
            <a:ext cx="180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 name=""/>
          <p:cNvSpPr/>
          <p:nvPr/>
        </p:nvSpPr>
        <p:spPr>
          <a:xfrm flipV="1">
            <a:off x="8273880" y="5935320"/>
            <a:ext cx="180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3" name=""/>
          <p:cNvSpPr/>
          <p:nvPr/>
        </p:nvSpPr>
        <p:spPr>
          <a:xfrm>
            <a:off x="8273880" y="3281400"/>
            <a:ext cx="180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4" name=""/>
          <p:cNvSpPr/>
          <p:nvPr/>
        </p:nvSpPr>
        <p:spPr>
          <a:xfrm>
            <a:off x="4973760" y="593568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flipH="1">
            <a:off x="8344080" y="593568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4973760" y="564516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flipH="1">
            <a:off x="8344080" y="564516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4973760" y="535320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flipH="1">
            <a:off x="8344080" y="535320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4973760" y="506088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flipH="1">
            <a:off x="8344080" y="506088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973760" y="476892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H="1">
            <a:off x="8344080" y="476892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4973760" y="447840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flipH="1">
            <a:off x="8344080" y="447840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4973760" y="418608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flipH="1">
            <a:off x="8344080" y="418608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a:off x="4973760" y="389412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flipH="1">
            <a:off x="8344080" y="389412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4973760" y="360216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flipH="1">
            <a:off x="8344080" y="360216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4973760" y="330984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flipH="1">
            <a:off x="8344080" y="330984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4970520" y="3274920"/>
            <a:ext cx="3406680" cy="26971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973760" y="3281400"/>
            <a:ext cx="3403440" cy="26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73760" y="3281400"/>
            <a:ext cx="3403440" cy="2689200"/>
          </a:xfrm>
          <a:prstGeom prst="rect">
            <a:avLst/>
          </a:prstGeom>
          <a:noFill/>
          <a:ln cap="rnd"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7" name="" descr=""/>
          <p:cNvPicPr/>
          <p:nvPr/>
        </p:nvPicPr>
        <p:blipFill>
          <a:blip r:embed="rId2"/>
          <a:stretch/>
        </p:blipFill>
        <p:spPr>
          <a:xfrm>
            <a:off x="4973760" y="3284640"/>
            <a:ext cx="3405240" cy="2689200"/>
          </a:xfrm>
          <a:prstGeom prst="rect">
            <a:avLst/>
          </a:prstGeom>
          <a:ln w="0">
            <a:noFill/>
          </a:ln>
        </p:spPr>
      </p:pic>
      <p:sp>
        <p:nvSpPr>
          <p:cNvPr id="588" name=""/>
          <p:cNvSpPr/>
          <p:nvPr/>
        </p:nvSpPr>
        <p:spPr>
          <a:xfrm>
            <a:off x="6139800" y="63673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000000"/>
              </a:solidFill>
              <a:latin typeface="Times New Roman"/>
            </a:endParaRPr>
          </a:p>
        </p:txBody>
      </p:sp>
      <p:sp>
        <p:nvSpPr>
          <p:cNvPr id="589" name=""/>
          <p:cNvSpPr/>
          <p:nvPr/>
        </p:nvSpPr>
        <p:spPr>
          <a:xfrm rot="16200000">
            <a:off x="3951000" y="42883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a:t>
            </a:r>
            <a:endParaRPr b="0" lang="en-US" sz="2400" spc="-1" strike="noStrike">
              <a:solidFill>
                <a:srgbClr val="000000"/>
              </a:solidFill>
              <a:latin typeface="Times New Roman"/>
            </a:endParaRPr>
          </a:p>
        </p:txBody>
      </p:sp>
      <p:sp>
        <p:nvSpPr>
          <p:cNvPr id="590" name=""/>
          <p:cNvSpPr/>
          <p:nvPr/>
        </p:nvSpPr>
        <p:spPr>
          <a:xfrm flipV="1">
            <a:off x="507060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1" name=""/>
          <p:cNvSpPr/>
          <p:nvPr/>
        </p:nvSpPr>
        <p:spPr>
          <a:xfrm>
            <a:off x="507060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2" name=""/>
          <p:cNvSpPr/>
          <p:nvPr/>
        </p:nvSpPr>
        <p:spPr>
          <a:xfrm>
            <a:off x="501012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93" name=""/>
          <p:cNvSpPr/>
          <p:nvPr/>
        </p:nvSpPr>
        <p:spPr>
          <a:xfrm flipV="1">
            <a:off x="547056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4" name=""/>
          <p:cNvSpPr/>
          <p:nvPr/>
        </p:nvSpPr>
        <p:spPr>
          <a:xfrm>
            <a:off x="547056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541044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596" name=""/>
          <p:cNvSpPr/>
          <p:nvPr/>
        </p:nvSpPr>
        <p:spPr>
          <a:xfrm flipV="1">
            <a:off x="587232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7" name=""/>
          <p:cNvSpPr/>
          <p:nvPr/>
        </p:nvSpPr>
        <p:spPr>
          <a:xfrm>
            <a:off x="587232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
          <p:cNvSpPr/>
          <p:nvPr/>
        </p:nvSpPr>
        <p:spPr>
          <a:xfrm>
            <a:off x="581040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599" name=""/>
          <p:cNvSpPr/>
          <p:nvPr/>
        </p:nvSpPr>
        <p:spPr>
          <a:xfrm flipV="1">
            <a:off x="627228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0" name=""/>
          <p:cNvSpPr/>
          <p:nvPr/>
        </p:nvSpPr>
        <p:spPr>
          <a:xfrm>
            <a:off x="627228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1" name=""/>
          <p:cNvSpPr/>
          <p:nvPr/>
        </p:nvSpPr>
        <p:spPr>
          <a:xfrm>
            <a:off x="621216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602" name=""/>
          <p:cNvSpPr/>
          <p:nvPr/>
        </p:nvSpPr>
        <p:spPr>
          <a:xfrm flipV="1">
            <a:off x="667224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3" name=""/>
          <p:cNvSpPr/>
          <p:nvPr/>
        </p:nvSpPr>
        <p:spPr>
          <a:xfrm>
            <a:off x="667224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661212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605" name=""/>
          <p:cNvSpPr/>
          <p:nvPr/>
        </p:nvSpPr>
        <p:spPr>
          <a:xfrm flipV="1">
            <a:off x="707400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6" name=""/>
          <p:cNvSpPr/>
          <p:nvPr/>
        </p:nvSpPr>
        <p:spPr>
          <a:xfrm>
            <a:off x="707400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701208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608" name=""/>
          <p:cNvSpPr/>
          <p:nvPr/>
        </p:nvSpPr>
        <p:spPr>
          <a:xfrm flipV="1">
            <a:off x="7473960" y="5935320"/>
            <a:ext cx="144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9" name=""/>
          <p:cNvSpPr/>
          <p:nvPr/>
        </p:nvSpPr>
        <p:spPr>
          <a:xfrm>
            <a:off x="7473960" y="3281400"/>
            <a:ext cx="144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0" name=""/>
          <p:cNvSpPr/>
          <p:nvPr/>
        </p:nvSpPr>
        <p:spPr>
          <a:xfrm>
            <a:off x="741384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611" name=""/>
          <p:cNvSpPr/>
          <p:nvPr/>
        </p:nvSpPr>
        <p:spPr>
          <a:xfrm flipV="1">
            <a:off x="7873920" y="5935320"/>
            <a:ext cx="180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2" name=""/>
          <p:cNvSpPr/>
          <p:nvPr/>
        </p:nvSpPr>
        <p:spPr>
          <a:xfrm>
            <a:off x="7873920" y="3281400"/>
            <a:ext cx="180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3" name=""/>
          <p:cNvSpPr/>
          <p:nvPr/>
        </p:nvSpPr>
        <p:spPr>
          <a:xfrm>
            <a:off x="781380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614" name=""/>
          <p:cNvSpPr/>
          <p:nvPr/>
        </p:nvSpPr>
        <p:spPr>
          <a:xfrm flipV="1">
            <a:off x="8273880" y="5935320"/>
            <a:ext cx="1800" cy="34920"/>
          </a:xfrm>
          <a:prstGeom prst="line">
            <a:avLst/>
          </a:prstGeom>
          <a:ln cap="rnd"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5" name=""/>
          <p:cNvSpPr/>
          <p:nvPr/>
        </p:nvSpPr>
        <p:spPr>
          <a:xfrm>
            <a:off x="8273880" y="3281400"/>
            <a:ext cx="1800" cy="28440"/>
          </a:xfrm>
          <a:prstGeom prst="line">
            <a:avLst/>
          </a:prstGeom>
          <a:ln cap="rnd"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8213760" y="6138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617" name=""/>
          <p:cNvSpPr/>
          <p:nvPr/>
        </p:nvSpPr>
        <p:spPr>
          <a:xfrm>
            <a:off x="4973760" y="593568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8344080" y="593568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4648320" y="58165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620" name=""/>
          <p:cNvSpPr/>
          <p:nvPr/>
        </p:nvSpPr>
        <p:spPr>
          <a:xfrm>
            <a:off x="4973760" y="564516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8344080" y="564516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4741200" y="5524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23" name=""/>
          <p:cNvSpPr/>
          <p:nvPr/>
        </p:nvSpPr>
        <p:spPr>
          <a:xfrm>
            <a:off x="4973760" y="535320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flipH="1">
            <a:off x="8344080" y="535320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648320" y="5232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626" name=""/>
          <p:cNvSpPr/>
          <p:nvPr/>
        </p:nvSpPr>
        <p:spPr>
          <a:xfrm>
            <a:off x="4973760" y="506088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flipH="1">
            <a:off x="8344080" y="506088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 name=""/>
          <p:cNvSpPr/>
          <p:nvPr/>
        </p:nvSpPr>
        <p:spPr>
          <a:xfrm>
            <a:off x="4741200" y="4940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29" name=""/>
          <p:cNvSpPr/>
          <p:nvPr/>
        </p:nvSpPr>
        <p:spPr>
          <a:xfrm>
            <a:off x="4973760" y="476892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flipH="1">
            <a:off x="8344080" y="476892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4648320" y="4649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632" name=""/>
          <p:cNvSpPr/>
          <p:nvPr/>
        </p:nvSpPr>
        <p:spPr>
          <a:xfrm>
            <a:off x="4973760" y="447840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flipH="1">
            <a:off x="8344080" y="447840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4741200" y="4357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35" name=""/>
          <p:cNvSpPr/>
          <p:nvPr/>
        </p:nvSpPr>
        <p:spPr>
          <a:xfrm>
            <a:off x="4973760" y="418608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flipH="1">
            <a:off x="8344080" y="418608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648320" y="4065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638" name=""/>
          <p:cNvSpPr/>
          <p:nvPr/>
        </p:nvSpPr>
        <p:spPr>
          <a:xfrm>
            <a:off x="4973760" y="389412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flipH="1">
            <a:off x="8344080" y="389412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4741200" y="377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641" name=""/>
          <p:cNvSpPr/>
          <p:nvPr/>
        </p:nvSpPr>
        <p:spPr>
          <a:xfrm>
            <a:off x="4973760" y="3602160"/>
            <a:ext cx="2844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flipH="1">
            <a:off x="8344080" y="3602160"/>
            <a:ext cx="331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4648320" y="348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644" name=""/>
          <p:cNvSpPr/>
          <p:nvPr/>
        </p:nvSpPr>
        <p:spPr>
          <a:xfrm>
            <a:off x="4973760" y="3309840"/>
            <a:ext cx="2844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flipH="1">
            <a:off x="8344080" y="3309840"/>
            <a:ext cx="331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6" name=""/>
          <p:cNvSpPr/>
          <p:nvPr/>
        </p:nvSpPr>
        <p:spPr>
          <a:xfrm>
            <a:off x="4741200" y="319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47" name=""/>
          <p:cNvSpPr/>
          <p:nvPr/>
        </p:nvSpPr>
        <p:spPr>
          <a:xfrm>
            <a:off x="4970520" y="3274920"/>
            <a:ext cx="3406680" cy="26971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83280" y="3429000"/>
            <a:ext cx="328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 differences  &lt;1 d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gt;1 dB but &lt; 1.5 d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gt; 1.5 dB</a:t>
            </a:r>
            <a:endParaRPr b="0" lang="en-US" sz="2400" spc="-1" strike="noStrike">
              <a:solidFill>
                <a:srgbClr val="000000"/>
              </a:solidFill>
              <a:latin typeface="Times New Roman"/>
            </a:endParaRPr>
          </a:p>
        </p:txBody>
      </p:sp>
      <p:sp>
        <p:nvSpPr>
          <p:cNvPr id="649" name=""/>
          <p:cNvSpPr/>
          <p:nvPr/>
        </p:nvSpPr>
        <p:spPr>
          <a:xfrm>
            <a:off x="3181320" y="289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pherical Vo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3181680" y="289080"/>
            <a:ext cx="33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Inclusion</a:t>
            </a:r>
            <a:endParaRPr b="0" lang="en-US" sz="2400" spc="-1" strike="noStrike">
              <a:solidFill>
                <a:srgbClr val="000000"/>
              </a:solidFill>
              <a:latin typeface="Times New Roman"/>
            </a:endParaRPr>
          </a:p>
        </p:txBody>
      </p:sp>
      <p:sp>
        <p:nvSpPr>
          <p:cNvPr id="65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368000" y="914400"/>
            <a:ext cx="6586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Edge Response - General Convex Inclu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ed  mode same as incident m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3" name=""/>
          <p:cNvSpPr/>
          <p:nvPr/>
        </p:nvSpPr>
        <p:spPr>
          <a:xfrm>
            <a:off x="984240" y="4191120"/>
            <a:ext cx="615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frequency, stationary phase approximation </a:t>
            </a:r>
            <a:endParaRPr b="0" lang="en-US" sz="2400" spc="-1" strike="noStrike">
              <a:solidFill>
                <a:srgbClr val="000000"/>
              </a:solidFill>
              <a:latin typeface="Times New Roman"/>
            </a:endParaRPr>
          </a:p>
        </p:txBody>
      </p:sp>
      <p:sp>
        <p:nvSpPr>
          <p:cNvPr id="654" name=""/>
          <p:cNvSpPr/>
          <p:nvPr/>
        </p:nvSpPr>
        <p:spPr>
          <a:xfrm>
            <a:off x="1981080" y="4724280"/>
            <a:ext cx="533520" cy="381240"/>
          </a:xfrm>
          <a:prstGeom prst="rightArrow">
            <a:avLst>
              <a:gd name="adj1" fmla="val 50000"/>
              <a:gd name="adj2" fmla="val 3498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55" name=""/>
          <p:cNvGraphicFramePr/>
          <p:nvPr/>
        </p:nvGraphicFramePr>
        <p:xfrm>
          <a:off x="2108160" y="4952880"/>
          <a:ext cx="5538960" cy="922320"/>
        </p:xfrm>
        <a:graphic>
          <a:graphicData uri="http://schemas.openxmlformats.org/presentationml/2006/ole">
            <p:oleObj r:id="rId1" spid="">
              <p:embed/>
              <p:pic>
                <p:nvPicPr>
                  <p:cNvPr id="656" name="" descr=""/>
                  <p:cNvPicPr/>
                  <p:nvPr/>
                </p:nvPicPr>
                <p:blipFill>
                  <a:blip r:embed="rId2"/>
                  <a:stretch/>
                </p:blipFill>
                <p:spPr>
                  <a:xfrm>
                    <a:off x="2108160" y="4952880"/>
                    <a:ext cx="5538960" cy="922320"/>
                  </a:xfrm>
                  <a:prstGeom prst="rect">
                    <a:avLst/>
                  </a:prstGeom>
                  <a:ln w="0">
                    <a:noFill/>
                  </a:ln>
                </p:spPr>
              </p:pic>
            </p:oleObj>
          </a:graphicData>
        </a:graphic>
      </p:graphicFrame>
      <p:sp>
        <p:nvSpPr>
          <p:cNvPr id="657" name=""/>
          <p:cNvSpPr/>
          <p:nvPr/>
        </p:nvSpPr>
        <p:spPr>
          <a:xfrm flipV="1">
            <a:off x="411480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063440" y="6248520"/>
            <a:ext cx="320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e wave reflection coefficient</a:t>
            </a:r>
            <a:endParaRPr b="0" lang="en-US" sz="1800" spc="-1" strike="noStrike">
              <a:solidFill>
                <a:srgbClr val="000000"/>
              </a:solidFill>
              <a:latin typeface="Times New Roman"/>
            </a:endParaRPr>
          </a:p>
        </p:txBody>
      </p:sp>
      <p:pic>
        <p:nvPicPr>
          <p:cNvPr id="659" name="" descr=""/>
          <p:cNvPicPr/>
          <p:nvPr/>
        </p:nvPicPr>
        <p:blipFill>
          <a:blip r:embed="rId3"/>
          <a:stretch/>
        </p:blipFill>
        <p:spPr>
          <a:xfrm>
            <a:off x="2590920" y="1905120"/>
            <a:ext cx="3467160" cy="2476440"/>
          </a:xfrm>
          <a:prstGeom prst="rect">
            <a:avLst/>
          </a:prstGeom>
          <a:ln w="0">
            <a:noFill/>
          </a:ln>
        </p:spPr>
      </p:pic>
      <p:graphicFrame>
        <p:nvGraphicFramePr>
          <p:cNvPr id="660" name=""/>
          <p:cNvGraphicFramePr/>
          <p:nvPr/>
        </p:nvGraphicFramePr>
        <p:xfrm>
          <a:off x="2819520" y="4724280"/>
          <a:ext cx="838080" cy="457200"/>
        </p:xfrm>
        <a:graphic>
          <a:graphicData uri="http://schemas.openxmlformats.org/presentationml/2006/ole">
            <p:oleObj r:id="rId4" spid="">
              <p:embed/>
              <p:pic>
                <p:nvPicPr>
                  <p:cNvPr id="661" name="" descr=""/>
                  <p:cNvPicPr/>
                  <p:nvPr/>
                </p:nvPicPr>
                <p:blipFill>
                  <a:blip r:embed="rId5"/>
                  <a:stretch/>
                </p:blipFill>
                <p:spPr>
                  <a:xfrm>
                    <a:off x="2819520" y="4724280"/>
                    <a:ext cx="838080" cy="457200"/>
                  </a:xfrm>
                  <a:prstGeom prst="rect">
                    <a:avLst/>
                  </a:prstGeom>
                  <a:ln w="0">
                    <a:noFill/>
                  </a:ln>
                </p:spPr>
              </p:pic>
            </p:oleObj>
          </a:graphicData>
        </a:graphic>
      </p:graphicFrame>
      <p:sp>
        <p:nvSpPr>
          <p:cNvPr id="662" name=""/>
          <p:cNvSpPr/>
          <p:nvPr/>
        </p:nvSpPr>
        <p:spPr>
          <a:xfrm flipV="1">
            <a:off x="5029200" y="5562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493160" y="6019920"/>
            <a:ext cx="365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ussian curvature of flaw surface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ry phase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181680" y="289080"/>
            <a:ext cx="33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Inclusion</a:t>
            </a:r>
            <a:endParaRPr b="0" lang="en-US" sz="2400" spc="-1" strike="noStrike">
              <a:solidFill>
                <a:srgbClr val="000000"/>
              </a:solidFill>
              <a:latin typeface="Times New Roman"/>
            </a:endParaRPr>
          </a:p>
        </p:txBody>
      </p:sp>
      <p:sp>
        <p:nvSpPr>
          <p:cNvPr id="66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1"/>
          <a:stretch/>
        </p:blipFill>
        <p:spPr>
          <a:xfrm>
            <a:off x="2590920" y="1905120"/>
            <a:ext cx="3467160" cy="2476440"/>
          </a:xfrm>
          <a:prstGeom prst="rect">
            <a:avLst/>
          </a:prstGeom>
          <a:ln w="0">
            <a:noFill/>
          </a:ln>
        </p:spPr>
      </p:pic>
      <p:sp>
        <p:nvSpPr>
          <p:cNvPr id="667" name=""/>
          <p:cNvSpPr/>
          <p:nvPr/>
        </p:nvSpPr>
        <p:spPr>
          <a:xfrm>
            <a:off x="1504800" y="4079880"/>
            <a:ext cx="24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time domain</a:t>
            </a:r>
            <a:endParaRPr b="0" lang="en-US" sz="2400" spc="-1" strike="noStrike">
              <a:solidFill>
                <a:srgbClr val="000000"/>
              </a:solidFill>
              <a:latin typeface="Times New Roman"/>
            </a:endParaRPr>
          </a:p>
        </p:txBody>
      </p:sp>
      <p:graphicFrame>
        <p:nvGraphicFramePr>
          <p:cNvPr id="668" name=""/>
          <p:cNvGraphicFramePr/>
          <p:nvPr/>
        </p:nvGraphicFramePr>
        <p:xfrm>
          <a:off x="1523880" y="5105520"/>
          <a:ext cx="5353200" cy="922320"/>
        </p:xfrm>
        <a:graphic>
          <a:graphicData uri="http://schemas.openxmlformats.org/presentationml/2006/ole">
            <p:oleObj r:id="rId2" spid="">
              <p:embed/>
              <p:pic>
                <p:nvPicPr>
                  <p:cNvPr id="669" name="" descr=""/>
                  <p:cNvPicPr/>
                  <p:nvPr/>
                </p:nvPicPr>
                <p:blipFill>
                  <a:blip r:embed="rId3"/>
                  <a:stretch/>
                </p:blipFill>
                <p:spPr>
                  <a:xfrm>
                    <a:off x="1523880" y="5105520"/>
                    <a:ext cx="5353200" cy="922320"/>
                  </a:xfrm>
                  <a:prstGeom prst="rect">
                    <a:avLst/>
                  </a:prstGeom>
                  <a:ln w="0">
                    <a:noFill/>
                  </a:ln>
                </p:spPr>
              </p:pic>
            </p:oleObj>
          </a:graphicData>
        </a:graphic>
      </p:graphicFrame>
      <p:graphicFrame>
        <p:nvGraphicFramePr>
          <p:cNvPr id="670" name=""/>
          <p:cNvGraphicFramePr/>
          <p:nvPr/>
        </p:nvGraphicFramePr>
        <p:xfrm>
          <a:off x="4952880" y="3809880"/>
          <a:ext cx="3819600" cy="854280"/>
        </p:xfrm>
        <a:graphic>
          <a:graphicData uri="http://schemas.openxmlformats.org/presentationml/2006/ole">
            <p:oleObj r:id="rId4" spid="">
              <p:embed/>
              <p:pic>
                <p:nvPicPr>
                  <p:cNvPr id="671" name="" descr=""/>
                  <p:cNvPicPr/>
                  <p:nvPr/>
                </p:nvPicPr>
                <p:blipFill>
                  <a:blip r:embed="rId5"/>
                  <a:stretch/>
                </p:blipFill>
                <p:spPr>
                  <a:xfrm>
                    <a:off x="4952880" y="3809880"/>
                    <a:ext cx="3819600" cy="854280"/>
                  </a:xfrm>
                  <a:prstGeom prst="rect">
                    <a:avLst/>
                  </a:prstGeom>
                  <a:ln w="0">
                    <a:noFill/>
                  </a:ln>
                </p:spPr>
              </p:pic>
            </p:oleObj>
          </a:graphicData>
        </a:graphic>
      </p:graphicFrame>
      <p:sp>
        <p:nvSpPr>
          <p:cNvPr id="672" name=""/>
          <p:cNvSpPr/>
          <p:nvPr/>
        </p:nvSpPr>
        <p:spPr>
          <a:xfrm>
            <a:off x="1368000" y="914400"/>
            <a:ext cx="6586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Edge Response - General Convex Inclu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ed  mode same as incident m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
        <p:nvSpPr>
          <p:cNvPr id="67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515960" y="914400"/>
            <a:ext cx="622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Approximation – Flat Elliptical Cra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6" name="" descr=""/>
          <p:cNvPicPr/>
          <p:nvPr/>
        </p:nvPicPr>
        <p:blipFill>
          <a:blip r:embed="rId1"/>
          <a:stretch/>
        </p:blipFill>
        <p:spPr>
          <a:xfrm>
            <a:off x="685800" y="1447920"/>
            <a:ext cx="3213000" cy="2628720"/>
          </a:xfrm>
          <a:prstGeom prst="rect">
            <a:avLst/>
          </a:prstGeom>
          <a:ln w="0">
            <a:noFill/>
          </a:ln>
        </p:spPr>
      </p:pic>
      <p:pic>
        <p:nvPicPr>
          <p:cNvPr id="677" name="" descr=""/>
          <p:cNvPicPr/>
          <p:nvPr/>
        </p:nvPicPr>
        <p:blipFill>
          <a:blip r:embed="rId2"/>
          <a:stretch/>
        </p:blipFill>
        <p:spPr>
          <a:xfrm>
            <a:off x="4267080" y="1828800"/>
            <a:ext cx="4178520" cy="1676520"/>
          </a:xfrm>
          <a:prstGeom prst="rect">
            <a:avLst/>
          </a:prstGeom>
          <a:ln w="0">
            <a:noFill/>
          </a:ln>
        </p:spPr>
      </p:pic>
      <p:graphicFrame>
        <p:nvGraphicFramePr>
          <p:cNvPr id="678" name=""/>
          <p:cNvGraphicFramePr/>
          <p:nvPr/>
        </p:nvGraphicFramePr>
        <p:xfrm>
          <a:off x="2133720" y="3886200"/>
          <a:ext cx="5029200" cy="906480"/>
        </p:xfrm>
        <a:graphic>
          <a:graphicData uri="http://schemas.openxmlformats.org/presentationml/2006/ole">
            <p:oleObj r:id="rId3" spid="">
              <p:embed/>
              <p:pic>
                <p:nvPicPr>
                  <p:cNvPr id="679" name="" descr=""/>
                  <p:cNvPicPr/>
                  <p:nvPr/>
                </p:nvPicPr>
                <p:blipFill>
                  <a:blip r:embed="rId4"/>
                  <a:stretch/>
                </p:blipFill>
                <p:spPr>
                  <a:xfrm>
                    <a:off x="2133720" y="3886200"/>
                    <a:ext cx="5029200" cy="906480"/>
                  </a:xfrm>
                  <a:prstGeom prst="rect">
                    <a:avLst/>
                  </a:prstGeom>
                  <a:ln w="0">
                    <a:noFill/>
                  </a:ln>
                </p:spPr>
              </p:pic>
            </p:oleObj>
          </a:graphicData>
        </a:graphic>
      </p:graphicFrame>
      <p:graphicFrame>
        <p:nvGraphicFramePr>
          <p:cNvPr id="680" name=""/>
          <p:cNvGraphicFramePr/>
          <p:nvPr/>
        </p:nvGraphicFramePr>
        <p:xfrm>
          <a:off x="685800" y="5867280"/>
          <a:ext cx="4038480" cy="631800"/>
        </p:xfrm>
        <a:graphic>
          <a:graphicData uri="http://schemas.openxmlformats.org/presentationml/2006/ole">
            <p:oleObj r:id="rId5" spid="">
              <p:embed/>
              <p:pic>
                <p:nvPicPr>
                  <p:cNvPr id="681" name="" descr=""/>
                  <p:cNvPicPr/>
                  <p:nvPr/>
                </p:nvPicPr>
                <p:blipFill>
                  <a:blip r:embed="rId6"/>
                  <a:stretch/>
                </p:blipFill>
                <p:spPr>
                  <a:xfrm>
                    <a:off x="685800" y="5867280"/>
                    <a:ext cx="4038480" cy="631800"/>
                  </a:xfrm>
                  <a:prstGeom prst="rect">
                    <a:avLst/>
                  </a:prstGeom>
                  <a:ln w="0">
                    <a:noFill/>
                  </a:ln>
                </p:spPr>
              </p:pic>
            </p:oleObj>
          </a:graphicData>
        </a:graphic>
      </p:graphicFrame>
      <p:graphicFrame>
        <p:nvGraphicFramePr>
          <p:cNvPr id="682" name=""/>
          <p:cNvGraphicFramePr/>
          <p:nvPr/>
        </p:nvGraphicFramePr>
        <p:xfrm>
          <a:off x="6858000" y="2133720"/>
          <a:ext cx="1752480" cy="906480"/>
        </p:xfrm>
        <a:graphic>
          <a:graphicData uri="http://schemas.openxmlformats.org/presentationml/2006/ole">
            <p:oleObj r:id="rId7" spid="">
              <p:embed/>
              <p:pic>
                <p:nvPicPr>
                  <p:cNvPr id="683" name="" descr=""/>
                  <p:cNvPicPr/>
                  <p:nvPr/>
                </p:nvPicPr>
                <p:blipFill>
                  <a:blip r:embed="rId8"/>
                  <a:stretch/>
                </p:blipFill>
                <p:spPr>
                  <a:xfrm>
                    <a:off x="6858000" y="2133720"/>
                    <a:ext cx="1752480" cy="906480"/>
                  </a:xfrm>
                  <a:prstGeom prst="rect">
                    <a:avLst/>
                  </a:prstGeom>
                  <a:ln w="0">
                    <a:noFill/>
                  </a:ln>
                </p:spPr>
              </p:pic>
            </p:oleObj>
          </a:graphicData>
        </a:graphic>
      </p:graphicFrame>
      <p:sp>
        <p:nvSpPr>
          <p:cNvPr id="684" name=""/>
          <p:cNvSpPr/>
          <p:nvPr/>
        </p:nvSpPr>
        <p:spPr>
          <a:xfrm flipV="1">
            <a:off x="2895480" y="16761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895480" y="18288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6" name=""/>
          <p:cNvGraphicFramePr/>
          <p:nvPr/>
        </p:nvGraphicFramePr>
        <p:xfrm>
          <a:off x="3505320" y="1600200"/>
          <a:ext cx="263520" cy="395280"/>
        </p:xfrm>
        <a:graphic>
          <a:graphicData uri="http://schemas.openxmlformats.org/presentationml/2006/ole">
            <p:oleObj r:id="rId9" spid="">
              <p:embed/>
              <p:pic>
                <p:nvPicPr>
                  <p:cNvPr id="687" name="" descr=""/>
                  <p:cNvPicPr/>
                  <p:nvPr/>
                </p:nvPicPr>
                <p:blipFill>
                  <a:blip r:embed="rId10"/>
                  <a:stretch/>
                </p:blipFill>
                <p:spPr>
                  <a:xfrm>
                    <a:off x="3505320" y="1600200"/>
                    <a:ext cx="2635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27160" y="905040"/>
            <a:ext cx="53611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9900"/>
                </a:solidFill>
                <a:latin typeface="Times New Roman"/>
              </a:rPr>
              <a:t>Learning Objectiv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field scattering amplitu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approx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n approx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ion of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scattering of simple shap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pore, flat crack, side-drilled ho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032200" y="1127160"/>
            <a:ext cx="623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itch-catch crack response-circular crack</a:t>
            </a:r>
            <a:endParaRPr b="0" lang="en-US" sz="2400" spc="-1" strike="noStrike">
              <a:solidFill>
                <a:srgbClr val="000000"/>
              </a:solidFill>
              <a:latin typeface="Times New Roman"/>
            </a:endParaRPr>
          </a:p>
        </p:txBody>
      </p:sp>
      <p:sp>
        <p:nvSpPr>
          <p:cNvPr id="690" name=""/>
          <p:cNvSpPr/>
          <p:nvPr/>
        </p:nvSpPr>
        <p:spPr>
          <a:xfrm>
            <a:off x="624600" y="5943600"/>
            <a:ext cx="8059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tude of the P-wave pulse-echo far-field scattering amplitude versus frequency for a 1 mm radius circular crack in stee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angle of incidence of   from the crack normal.</a:t>
            </a:r>
            <a:endParaRPr b="0" lang="en-US" sz="1200" spc="-1" strike="noStrike">
              <a:solidFill>
                <a:srgbClr val="000000"/>
              </a:solidFill>
              <a:latin typeface="Times New Roman"/>
            </a:endParaRPr>
          </a:p>
        </p:txBody>
      </p:sp>
      <p:grpSp>
        <p:nvGrpSpPr>
          <p:cNvPr id="691" name=""/>
          <p:cNvGrpSpPr/>
          <p:nvPr/>
        </p:nvGrpSpPr>
        <p:grpSpPr>
          <a:xfrm>
            <a:off x="2643120" y="1755720"/>
            <a:ext cx="3987720" cy="3306960"/>
            <a:chOff x="2643120" y="1755720"/>
            <a:chExt cx="3987720" cy="3306960"/>
          </a:xfrm>
        </p:grpSpPr>
        <p:sp>
          <p:nvSpPr>
            <p:cNvPr id="692" name=""/>
            <p:cNvSpPr/>
            <p:nvPr/>
          </p:nvSpPr>
          <p:spPr>
            <a:xfrm>
              <a:off x="2643120" y="1755720"/>
              <a:ext cx="398772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643120" y="1755720"/>
              <a:ext cx="3987720" cy="330696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2639880" y="1751040"/>
            <a:ext cx="39974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2639880" y="5067360"/>
            <a:ext cx="3997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flipV="1">
            <a:off x="6637320" y="1751040"/>
            <a:ext cx="3240" cy="3316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2641680" y="1738080"/>
            <a:ext cx="1440" cy="3314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608200" y="5162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699" name=""/>
          <p:cNvSpPr/>
          <p:nvPr/>
        </p:nvSpPr>
        <p:spPr>
          <a:xfrm flipV="1">
            <a:off x="3303720" y="5024160"/>
            <a:ext cx="468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3303720" y="1751040"/>
            <a:ext cx="468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3276720" y="5162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702" name=""/>
          <p:cNvSpPr/>
          <p:nvPr/>
        </p:nvSpPr>
        <p:spPr>
          <a:xfrm flipV="1">
            <a:off x="397188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 name=""/>
          <p:cNvSpPr/>
          <p:nvPr/>
        </p:nvSpPr>
        <p:spPr>
          <a:xfrm>
            <a:off x="397188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391176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705" name=""/>
          <p:cNvSpPr/>
          <p:nvPr/>
        </p:nvSpPr>
        <p:spPr>
          <a:xfrm flipV="1">
            <a:off x="463860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6" name=""/>
          <p:cNvSpPr/>
          <p:nvPr/>
        </p:nvSpPr>
        <p:spPr>
          <a:xfrm>
            <a:off x="463860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7" name=""/>
          <p:cNvSpPr/>
          <p:nvPr/>
        </p:nvSpPr>
        <p:spPr>
          <a:xfrm>
            <a:off x="457848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708" name=""/>
          <p:cNvSpPr/>
          <p:nvPr/>
        </p:nvSpPr>
        <p:spPr>
          <a:xfrm flipV="1">
            <a:off x="530532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9" name=""/>
          <p:cNvSpPr/>
          <p:nvPr/>
        </p:nvSpPr>
        <p:spPr>
          <a:xfrm>
            <a:off x="530532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0" name=""/>
          <p:cNvSpPr/>
          <p:nvPr/>
        </p:nvSpPr>
        <p:spPr>
          <a:xfrm>
            <a:off x="524520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711" name=""/>
          <p:cNvSpPr/>
          <p:nvPr/>
        </p:nvSpPr>
        <p:spPr>
          <a:xfrm flipV="1">
            <a:off x="597204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a:off x="597204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3" name=""/>
          <p:cNvSpPr/>
          <p:nvPr/>
        </p:nvSpPr>
        <p:spPr>
          <a:xfrm>
            <a:off x="591372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714" name=""/>
          <p:cNvSpPr/>
          <p:nvPr/>
        </p:nvSpPr>
        <p:spPr>
          <a:xfrm flipV="1">
            <a:off x="6637320" y="5024160"/>
            <a:ext cx="324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 name=""/>
          <p:cNvSpPr/>
          <p:nvPr/>
        </p:nvSpPr>
        <p:spPr>
          <a:xfrm>
            <a:off x="6637320" y="1751040"/>
            <a:ext cx="324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a:off x="658044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717" name=""/>
          <p:cNvSpPr/>
          <p:nvPr/>
        </p:nvSpPr>
        <p:spPr>
          <a:xfrm>
            <a:off x="2639880" y="506736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flipH="1">
            <a:off x="6597720" y="506736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2401920" y="4957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720" name=""/>
          <p:cNvSpPr/>
          <p:nvPr/>
        </p:nvSpPr>
        <p:spPr>
          <a:xfrm>
            <a:off x="2639880" y="469728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1" name=""/>
          <p:cNvSpPr/>
          <p:nvPr/>
        </p:nvSpPr>
        <p:spPr>
          <a:xfrm flipH="1">
            <a:off x="6597720" y="469728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2" name=""/>
          <p:cNvSpPr/>
          <p:nvPr/>
        </p:nvSpPr>
        <p:spPr>
          <a:xfrm>
            <a:off x="2284920" y="46497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2</a:t>
            </a:r>
            <a:endParaRPr b="0" lang="en-US" sz="1300" spc="-1" strike="noStrike">
              <a:solidFill>
                <a:srgbClr val="000000"/>
              </a:solidFill>
              <a:latin typeface="Times New Roman"/>
            </a:endParaRPr>
          </a:p>
        </p:txBody>
      </p:sp>
      <p:sp>
        <p:nvSpPr>
          <p:cNvPr id="723" name=""/>
          <p:cNvSpPr/>
          <p:nvPr/>
        </p:nvSpPr>
        <p:spPr>
          <a:xfrm>
            <a:off x="2639880" y="43257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flipH="1">
            <a:off x="6597720" y="43257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2284920" y="42800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4</a:t>
            </a:r>
            <a:endParaRPr b="0" lang="en-US" sz="1300" spc="-1" strike="noStrike">
              <a:solidFill>
                <a:srgbClr val="000000"/>
              </a:solidFill>
              <a:latin typeface="Times New Roman"/>
            </a:endParaRPr>
          </a:p>
        </p:txBody>
      </p:sp>
      <p:sp>
        <p:nvSpPr>
          <p:cNvPr id="726" name=""/>
          <p:cNvSpPr/>
          <p:nvPr/>
        </p:nvSpPr>
        <p:spPr>
          <a:xfrm>
            <a:off x="2639880" y="396720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flipH="1">
            <a:off x="6597720" y="396720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2284920" y="39196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6</a:t>
            </a:r>
            <a:endParaRPr b="0" lang="en-US" sz="1300" spc="-1" strike="noStrike">
              <a:solidFill>
                <a:srgbClr val="000000"/>
              </a:solidFill>
              <a:latin typeface="Times New Roman"/>
            </a:endParaRPr>
          </a:p>
        </p:txBody>
      </p:sp>
      <p:sp>
        <p:nvSpPr>
          <p:cNvPr id="729" name=""/>
          <p:cNvSpPr/>
          <p:nvPr/>
        </p:nvSpPr>
        <p:spPr>
          <a:xfrm>
            <a:off x="2639880" y="359424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flipH="1">
            <a:off x="6597720" y="359424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2284920" y="35481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8</a:t>
            </a:r>
            <a:endParaRPr b="0" lang="en-US" sz="1300" spc="-1" strike="noStrike">
              <a:solidFill>
                <a:srgbClr val="000000"/>
              </a:solidFill>
              <a:latin typeface="Times New Roman"/>
            </a:endParaRPr>
          </a:p>
        </p:txBody>
      </p:sp>
      <p:sp>
        <p:nvSpPr>
          <p:cNvPr id="732" name=""/>
          <p:cNvSpPr/>
          <p:nvPr/>
        </p:nvSpPr>
        <p:spPr>
          <a:xfrm>
            <a:off x="2639880" y="32241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flipH="1">
            <a:off x="6597720" y="32241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2373480" y="3178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735" name=""/>
          <p:cNvSpPr/>
          <p:nvPr/>
        </p:nvSpPr>
        <p:spPr>
          <a:xfrm>
            <a:off x="2639880" y="285120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flipH="1">
            <a:off x="6597720" y="285120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2284920" y="28051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738" name=""/>
          <p:cNvSpPr/>
          <p:nvPr/>
        </p:nvSpPr>
        <p:spPr>
          <a:xfrm>
            <a:off x="2639880" y="249228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 name=""/>
          <p:cNvSpPr/>
          <p:nvPr/>
        </p:nvSpPr>
        <p:spPr>
          <a:xfrm flipH="1">
            <a:off x="6597720" y="249228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2284920" y="244620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a:t>
            </a:r>
            <a:endParaRPr b="0" lang="en-US" sz="1300" spc="-1" strike="noStrike">
              <a:solidFill>
                <a:srgbClr val="000000"/>
              </a:solidFill>
              <a:latin typeface="Times New Roman"/>
            </a:endParaRPr>
          </a:p>
        </p:txBody>
      </p:sp>
      <p:sp>
        <p:nvSpPr>
          <p:cNvPr id="741" name=""/>
          <p:cNvSpPr/>
          <p:nvPr/>
        </p:nvSpPr>
        <p:spPr>
          <a:xfrm>
            <a:off x="2639880" y="21207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flipH="1">
            <a:off x="6597720" y="21207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2284920" y="20732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a:t>
            </a:r>
            <a:endParaRPr b="0" lang="en-US" sz="1300" spc="-1" strike="noStrike">
              <a:solidFill>
                <a:srgbClr val="000000"/>
              </a:solidFill>
              <a:latin typeface="Times New Roman"/>
            </a:endParaRPr>
          </a:p>
        </p:txBody>
      </p:sp>
      <p:sp>
        <p:nvSpPr>
          <p:cNvPr id="744" name=""/>
          <p:cNvSpPr/>
          <p:nvPr/>
        </p:nvSpPr>
        <p:spPr>
          <a:xfrm>
            <a:off x="2639880" y="175104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flipH="1">
            <a:off x="6597720" y="175104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 name=""/>
          <p:cNvSpPr/>
          <p:nvPr/>
        </p:nvSpPr>
        <p:spPr>
          <a:xfrm>
            <a:off x="2306880" y="16891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8</a:t>
            </a:r>
            <a:endParaRPr b="0" lang="en-US" sz="1300" spc="-1" strike="noStrike">
              <a:solidFill>
                <a:srgbClr val="000000"/>
              </a:solidFill>
              <a:latin typeface="Times New Roman"/>
            </a:endParaRPr>
          </a:p>
        </p:txBody>
      </p:sp>
      <p:sp>
        <p:nvSpPr>
          <p:cNvPr id="747" name=""/>
          <p:cNvSpPr/>
          <p:nvPr/>
        </p:nvSpPr>
        <p:spPr>
          <a:xfrm flipV="1">
            <a:off x="6637320" y="1751040"/>
            <a:ext cx="3240" cy="3316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639880" y="2025720"/>
            <a:ext cx="2100240" cy="3041640"/>
          </a:xfrm>
          <a:custGeom>
            <a:avLst/>
            <a:gdLst/>
            <a:ahLst/>
            <a:rect l="l" t="t" r="r" b="b"/>
            <a:pathLst>
              <a:path w="1323" h="1916">
                <a:moveTo>
                  <a:pt x="0" y="1916"/>
                </a:moveTo>
                <a:lnTo>
                  <a:pt x="7" y="1884"/>
                </a:lnTo>
                <a:lnTo>
                  <a:pt x="12" y="1843"/>
                </a:lnTo>
                <a:lnTo>
                  <a:pt x="12" y="1809"/>
                </a:lnTo>
                <a:lnTo>
                  <a:pt x="19" y="1769"/>
                </a:lnTo>
                <a:lnTo>
                  <a:pt x="26" y="1735"/>
                </a:lnTo>
                <a:lnTo>
                  <a:pt x="31" y="1696"/>
                </a:lnTo>
                <a:lnTo>
                  <a:pt x="38" y="1663"/>
                </a:lnTo>
                <a:lnTo>
                  <a:pt x="38" y="1622"/>
                </a:lnTo>
                <a:lnTo>
                  <a:pt x="44" y="1589"/>
                </a:lnTo>
                <a:lnTo>
                  <a:pt x="51" y="1555"/>
                </a:lnTo>
                <a:lnTo>
                  <a:pt x="58" y="1516"/>
                </a:lnTo>
                <a:lnTo>
                  <a:pt x="63" y="1483"/>
                </a:lnTo>
                <a:lnTo>
                  <a:pt x="63" y="1442"/>
                </a:lnTo>
                <a:lnTo>
                  <a:pt x="70" y="1408"/>
                </a:lnTo>
                <a:lnTo>
                  <a:pt x="76" y="1375"/>
                </a:lnTo>
                <a:lnTo>
                  <a:pt x="83" y="1342"/>
                </a:lnTo>
                <a:lnTo>
                  <a:pt x="83" y="1302"/>
                </a:lnTo>
                <a:lnTo>
                  <a:pt x="90" y="1269"/>
                </a:lnTo>
                <a:lnTo>
                  <a:pt x="95" y="1235"/>
                </a:lnTo>
                <a:lnTo>
                  <a:pt x="102" y="1202"/>
                </a:lnTo>
                <a:lnTo>
                  <a:pt x="108" y="1169"/>
                </a:lnTo>
                <a:lnTo>
                  <a:pt x="108" y="1135"/>
                </a:lnTo>
                <a:lnTo>
                  <a:pt x="114" y="1102"/>
                </a:lnTo>
                <a:lnTo>
                  <a:pt x="120" y="1068"/>
                </a:lnTo>
                <a:lnTo>
                  <a:pt x="127" y="1035"/>
                </a:lnTo>
                <a:lnTo>
                  <a:pt x="134" y="1002"/>
                </a:lnTo>
                <a:lnTo>
                  <a:pt x="134" y="975"/>
                </a:lnTo>
                <a:lnTo>
                  <a:pt x="139" y="942"/>
                </a:lnTo>
                <a:lnTo>
                  <a:pt x="146" y="908"/>
                </a:lnTo>
                <a:lnTo>
                  <a:pt x="152" y="881"/>
                </a:lnTo>
                <a:lnTo>
                  <a:pt x="159" y="847"/>
                </a:lnTo>
                <a:lnTo>
                  <a:pt x="159" y="815"/>
                </a:lnTo>
                <a:lnTo>
                  <a:pt x="166" y="788"/>
                </a:lnTo>
                <a:lnTo>
                  <a:pt x="171" y="762"/>
                </a:lnTo>
                <a:lnTo>
                  <a:pt x="178" y="728"/>
                </a:lnTo>
                <a:lnTo>
                  <a:pt x="184" y="701"/>
                </a:lnTo>
                <a:lnTo>
                  <a:pt x="184" y="675"/>
                </a:lnTo>
                <a:lnTo>
                  <a:pt x="191" y="648"/>
                </a:lnTo>
                <a:lnTo>
                  <a:pt x="198" y="621"/>
                </a:lnTo>
                <a:lnTo>
                  <a:pt x="203" y="595"/>
                </a:lnTo>
                <a:lnTo>
                  <a:pt x="210" y="569"/>
                </a:lnTo>
                <a:lnTo>
                  <a:pt x="210" y="541"/>
                </a:lnTo>
                <a:lnTo>
                  <a:pt x="216" y="515"/>
                </a:lnTo>
                <a:lnTo>
                  <a:pt x="222" y="494"/>
                </a:lnTo>
                <a:lnTo>
                  <a:pt x="230" y="468"/>
                </a:lnTo>
                <a:lnTo>
                  <a:pt x="235" y="441"/>
                </a:lnTo>
                <a:lnTo>
                  <a:pt x="235" y="420"/>
                </a:lnTo>
                <a:lnTo>
                  <a:pt x="242" y="401"/>
                </a:lnTo>
                <a:lnTo>
                  <a:pt x="247" y="374"/>
                </a:lnTo>
                <a:lnTo>
                  <a:pt x="254" y="355"/>
                </a:lnTo>
                <a:lnTo>
                  <a:pt x="254" y="335"/>
                </a:lnTo>
                <a:lnTo>
                  <a:pt x="261" y="314"/>
                </a:lnTo>
                <a:lnTo>
                  <a:pt x="267" y="294"/>
                </a:lnTo>
                <a:lnTo>
                  <a:pt x="274" y="274"/>
                </a:lnTo>
                <a:lnTo>
                  <a:pt x="279" y="255"/>
                </a:lnTo>
                <a:lnTo>
                  <a:pt x="279" y="240"/>
                </a:lnTo>
                <a:lnTo>
                  <a:pt x="286" y="221"/>
                </a:lnTo>
                <a:lnTo>
                  <a:pt x="293" y="207"/>
                </a:lnTo>
                <a:lnTo>
                  <a:pt x="299" y="188"/>
                </a:lnTo>
                <a:lnTo>
                  <a:pt x="306" y="175"/>
                </a:lnTo>
                <a:lnTo>
                  <a:pt x="306" y="160"/>
                </a:lnTo>
                <a:lnTo>
                  <a:pt x="311" y="147"/>
                </a:lnTo>
                <a:lnTo>
                  <a:pt x="318" y="134"/>
                </a:lnTo>
                <a:lnTo>
                  <a:pt x="323" y="121"/>
                </a:lnTo>
                <a:lnTo>
                  <a:pt x="330" y="108"/>
                </a:lnTo>
                <a:lnTo>
                  <a:pt x="330" y="93"/>
                </a:lnTo>
                <a:lnTo>
                  <a:pt x="337" y="88"/>
                </a:lnTo>
                <a:lnTo>
                  <a:pt x="343" y="74"/>
                </a:lnTo>
                <a:lnTo>
                  <a:pt x="350" y="67"/>
                </a:lnTo>
                <a:lnTo>
                  <a:pt x="355" y="54"/>
                </a:lnTo>
                <a:lnTo>
                  <a:pt x="355" y="47"/>
                </a:lnTo>
                <a:lnTo>
                  <a:pt x="362" y="41"/>
                </a:lnTo>
                <a:lnTo>
                  <a:pt x="369" y="34"/>
                </a:lnTo>
                <a:lnTo>
                  <a:pt x="375" y="27"/>
                </a:lnTo>
                <a:lnTo>
                  <a:pt x="382" y="21"/>
                </a:lnTo>
                <a:lnTo>
                  <a:pt x="387" y="13"/>
                </a:lnTo>
                <a:lnTo>
                  <a:pt x="394" y="8"/>
                </a:lnTo>
                <a:lnTo>
                  <a:pt x="401" y="0"/>
                </a:lnTo>
                <a:lnTo>
                  <a:pt x="407" y="0"/>
                </a:lnTo>
                <a:lnTo>
                  <a:pt x="414" y="0"/>
                </a:lnTo>
                <a:lnTo>
                  <a:pt x="419" y="0"/>
                </a:lnTo>
                <a:lnTo>
                  <a:pt x="426" y="0"/>
                </a:lnTo>
                <a:lnTo>
                  <a:pt x="433" y="8"/>
                </a:lnTo>
                <a:lnTo>
                  <a:pt x="438" y="8"/>
                </a:lnTo>
                <a:lnTo>
                  <a:pt x="445" y="8"/>
                </a:lnTo>
                <a:lnTo>
                  <a:pt x="451" y="13"/>
                </a:lnTo>
                <a:lnTo>
                  <a:pt x="458" y="21"/>
                </a:lnTo>
                <a:lnTo>
                  <a:pt x="465" y="27"/>
                </a:lnTo>
                <a:lnTo>
                  <a:pt x="470" y="34"/>
                </a:lnTo>
                <a:lnTo>
                  <a:pt x="477" y="41"/>
                </a:lnTo>
                <a:lnTo>
                  <a:pt x="477" y="47"/>
                </a:lnTo>
                <a:lnTo>
                  <a:pt x="483" y="60"/>
                </a:lnTo>
                <a:lnTo>
                  <a:pt x="490" y="67"/>
                </a:lnTo>
                <a:lnTo>
                  <a:pt x="497" y="74"/>
                </a:lnTo>
                <a:lnTo>
                  <a:pt x="502" y="88"/>
                </a:lnTo>
                <a:lnTo>
                  <a:pt x="502" y="101"/>
                </a:lnTo>
                <a:lnTo>
                  <a:pt x="509" y="108"/>
                </a:lnTo>
                <a:lnTo>
                  <a:pt x="515" y="121"/>
                </a:lnTo>
                <a:lnTo>
                  <a:pt x="522" y="134"/>
                </a:lnTo>
                <a:lnTo>
                  <a:pt x="527" y="147"/>
                </a:lnTo>
                <a:lnTo>
                  <a:pt x="527" y="160"/>
                </a:lnTo>
                <a:lnTo>
                  <a:pt x="534" y="175"/>
                </a:lnTo>
                <a:lnTo>
                  <a:pt x="541" y="188"/>
                </a:lnTo>
                <a:lnTo>
                  <a:pt x="546" y="207"/>
                </a:lnTo>
                <a:lnTo>
                  <a:pt x="553" y="221"/>
                </a:lnTo>
                <a:lnTo>
                  <a:pt x="553" y="240"/>
                </a:lnTo>
                <a:lnTo>
                  <a:pt x="559" y="255"/>
                </a:lnTo>
                <a:lnTo>
                  <a:pt x="566" y="274"/>
                </a:lnTo>
                <a:lnTo>
                  <a:pt x="573" y="288"/>
                </a:lnTo>
                <a:lnTo>
                  <a:pt x="573" y="307"/>
                </a:lnTo>
                <a:lnTo>
                  <a:pt x="578" y="327"/>
                </a:lnTo>
                <a:lnTo>
                  <a:pt x="585" y="348"/>
                </a:lnTo>
                <a:lnTo>
                  <a:pt x="591" y="368"/>
                </a:lnTo>
                <a:lnTo>
                  <a:pt x="598" y="388"/>
                </a:lnTo>
                <a:lnTo>
                  <a:pt x="598" y="407"/>
                </a:lnTo>
                <a:lnTo>
                  <a:pt x="605" y="435"/>
                </a:lnTo>
                <a:lnTo>
                  <a:pt x="610" y="454"/>
                </a:lnTo>
                <a:lnTo>
                  <a:pt x="617" y="474"/>
                </a:lnTo>
                <a:lnTo>
                  <a:pt x="623" y="502"/>
                </a:lnTo>
                <a:lnTo>
                  <a:pt x="623" y="521"/>
                </a:lnTo>
                <a:lnTo>
                  <a:pt x="629" y="548"/>
                </a:lnTo>
                <a:lnTo>
                  <a:pt x="636" y="569"/>
                </a:lnTo>
                <a:lnTo>
                  <a:pt x="642" y="595"/>
                </a:lnTo>
                <a:lnTo>
                  <a:pt x="649" y="621"/>
                </a:lnTo>
                <a:lnTo>
                  <a:pt x="649" y="641"/>
                </a:lnTo>
                <a:lnTo>
                  <a:pt x="654" y="667"/>
                </a:lnTo>
                <a:lnTo>
                  <a:pt x="661" y="695"/>
                </a:lnTo>
                <a:lnTo>
                  <a:pt x="668" y="721"/>
                </a:lnTo>
                <a:lnTo>
                  <a:pt x="674" y="749"/>
                </a:lnTo>
                <a:lnTo>
                  <a:pt x="674" y="775"/>
                </a:lnTo>
                <a:lnTo>
                  <a:pt x="681" y="801"/>
                </a:lnTo>
                <a:lnTo>
                  <a:pt x="686" y="829"/>
                </a:lnTo>
                <a:lnTo>
                  <a:pt x="693" y="855"/>
                </a:lnTo>
                <a:lnTo>
                  <a:pt x="700" y="888"/>
                </a:lnTo>
                <a:lnTo>
                  <a:pt x="700" y="914"/>
                </a:lnTo>
                <a:lnTo>
                  <a:pt x="706" y="942"/>
                </a:lnTo>
                <a:lnTo>
                  <a:pt x="712" y="968"/>
                </a:lnTo>
                <a:lnTo>
                  <a:pt x="718" y="1002"/>
                </a:lnTo>
                <a:lnTo>
                  <a:pt x="718" y="1029"/>
                </a:lnTo>
                <a:lnTo>
                  <a:pt x="725" y="1061"/>
                </a:lnTo>
                <a:lnTo>
                  <a:pt x="731" y="1089"/>
                </a:lnTo>
                <a:lnTo>
                  <a:pt x="737" y="1115"/>
                </a:lnTo>
                <a:lnTo>
                  <a:pt x="744" y="1148"/>
                </a:lnTo>
                <a:lnTo>
                  <a:pt x="744" y="1176"/>
                </a:lnTo>
                <a:lnTo>
                  <a:pt x="750" y="1209"/>
                </a:lnTo>
                <a:lnTo>
                  <a:pt x="757" y="1235"/>
                </a:lnTo>
                <a:lnTo>
                  <a:pt x="762" y="1269"/>
                </a:lnTo>
                <a:lnTo>
                  <a:pt x="769" y="1295"/>
                </a:lnTo>
                <a:lnTo>
                  <a:pt x="769" y="1328"/>
                </a:lnTo>
                <a:lnTo>
                  <a:pt x="776" y="1362"/>
                </a:lnTo>
                <a:lnTo>
                  <a:pt x="782" y="1389"/>
                </a:lnTo>
                <a:lnTo>
                  <a:pt x="789" y="1423"/>
                </a:lnTo>
                <a:lnTo>
                  <a:pt x="794" y="1449"/>
                </a:lnTo>
                <a:lnTo>
                  <a:pt x="794" y="1483"/>
                </a:lnTo>
                <a:lnTo>
                  <a:pt x="801" y="1516"/>
                </a:lnTo>
                <a:lnTo>
                  <a:pt x="808" y="1542"/>
                </a:lnTo>
                <a:lnTo>
                  <a:pt x="814" y="1575"/>
                </a:lnTo>
                <a:lnTo>
                  <a:pt x="820" y="1603"/>
                </a:lnTo>
                <a:lnTo>
                  <a:pt x="820" y="1637"/>
                </a:lnTo>
                <a:lnTo>
                  <a:pt x="826" y="1670"/>
                </a:lnTo>
                <a:lnTo>
                  <a:pt x="833" y="1696"/>
                </a:lnTo>
                <a:lnTo>
                  <a:pt x="840" y="1729"/>
                </a:lnTo>
                <a:lnTo>
                  <a:pt x="845" y="1756"/>
                </a:lnTo>
                <a:lnTo>
                  <a:pt x="845" y="1789"/>
                </a:lnTo>
                <a:lnTo>
                  <a:pt x="852" y="1817"/>
                </a:lnTo>
                <a:lnTo>
                  <a:pt x="858" y="1850"/>
                </a:lnTo>
                <a:lnTo>
                  <a:pt x="865" y="1876"/>
                </a:lnTo>
                <a:lnTo>
                  <a:pt x="865" y="1910"/>
                </a:lnTo>
                <a:lnTo>
                  <a:pt x="872" y="1897"/>
                </a:lnTo>
                <a:lnTo>
                  <a:pt x="877" y="1869"/>
                </a:lnTo>
                <a:lnTo>
                  <a:pt x="884" y="1836"/>
                </a:lnTo>
                <a:lnTo>
                  <a:pt x="890" y="1809"/>
                </a:lnTo>
                <a:lnTo>
                  <a:pt x="890" y="1783"/>
                </a:lnTo>
                <a:lnTo>
                  <a:pt x="897" y="1750"/>
                </a:lnTo>
                <a:lnTo>
                  <a:pt x="903" y="1722"/>
                </a:lnTo>
                <a:lnTo>
                  <a:pt x="909" y="1696"/>
                </a:lnTo>
                <a:lnTo>
                  <a:pt x="916" y="1670"/>
                </a:lnTo>
                <a:lnTo>
                  <a:pt x="916" y="1642"/>
                </a:lnTo>
                <a:lnTo>
                  <a:pt x="921" y="1616"/>
                </a:lnTo>
                <a:lnTo>
                  <a:pt x="928" y="1589"/>
                </a:lnTo>
                <a:lnTo>
                  <a:pt x="934" y="1562"/>
                </a:lnTo>
                <a:lnTo>
                  <a:pt x="941" y="1536"/>
                </a:lnTo>
                <a:lnTo>
                  <a:pt x="941" y="1509"/>
                </a:lnTo>
                <a:lnTo>
                  <a:pt x="948" y="1483"/>
                </a:lnTo>
                <a:lnTo>
                  <a:pt x="953" y="1456"/>
                </a:lnTo>
                <a:lnTo>
                  <a:pt x="960" y="1429"/>
                </a:lnTo>
                <a:lnTo>
                  <a:pt x="966" y="1408"/>
                </a:lnTo>
                <a:lnTo>
                  <a:pt x="966" y="1382"/>
                </a:lnTo>
                <a:lnTo>
                  <a:pt x="973" y="1362"/>
                </a:lnTo>
                <a:lnTo>
                  <a:pt x="980" y="1336"/>
                </a:lnTo>
                <a:lnTo>
                  <a:pt x="985" y="1315"/>
                </a:lnTo>
                <a:lnTo>
                  <a:pt x="992" y="1289"/>
                </a:lnTo>
                <a:lnTo>
                  <a:pt x="992" y="1269"/>
                </a:lnTo>
                <a:lnTo>
                  <a:pt x="998" y="1248"/>
                </a:lnTo>
                <a:lnTo>
                  <a:pt x="1004" y="1222"/>
                </a:lnTo>
                <a:lnTo>
                  <a:pt x="1011" y="1202"/>
                </a:lnTo>
                <a:lnTo>
                  <a:pt x="1017" y="1182"/>
                </a:lnTo>
                <a:lnTo>
                  <a:pt x="1017" y="1161"/>
                </a:lnTo>
                <a:lnTo>
                  <a:pt x="1024" y="1143"/>
                </a:lnTo>
                <a:lnTo>
                  <a:pt x="1029" y="1122"/>
                </a:lnTo>
                <a:lnTo>
                  <a:pt x="1036" y="1109"/>
                </a:lnTo>
                <a:lnTo>
                  <a:pt x="1036" y="1089"/>
                </a:lnTo>
                <a:lnTo>
                  <a:pt x="1043" y="1068"/>
                </a:lnTo>
                <a:lnTo>
                  <a:pt x="1049" y="1055"/>
                </a:lnTo>
                <a:lnTo>
                  <a:pt x="1056" y="1035"/>
                </a:lnTo>
                <a:lnTo>
                  <a:pt x="1061" y="1022"/>
                </a:lnTo>
                <a:lnTo>
                  <a:pt x="1061" y="1002"/>
                </a:lnTo>
                <a:lnTo>
                  <a:pt x="1068" y="988"/>
                </a:lnTo>
                <a:lnTo>
                  <a:pt x="1075" y="975"/>
                </a:lnTo>
                <a:lnTo>
                  <a:pt x="1081" y="962"/>
                </a:lnTo>
                <a:lnTo>
                  <a:pt x="1088" y="948"/>
                </a:lnTo>
                <a:lnTo>
                  <a:pt x="1088" y="935"/>
                </a:lnTo>
                <a:lnTo>
                  <a:pt x="1093" y="922"/>
                </a:lnTo>
                <a:lnTo>
                  <a:pt x="1100" y="908"/>
                </a:lnTo>
                <a:lnTo>
                  <a:pt x="1107" y="895"/>
                </a:lnTo>
                <a:lnTo>
                  <a:pt x="1112" y="881"/>
                </a:lnTo>
                <a:lnTo>
                  <a:pt x="1112" y="875"/>
                </a:lnTo>
                <a:lnTo>
                  <a:pt x="1119" y="862"/>
                </a:lnTo>
                <a:lnTo>
                  <a:pt x="1125" y="855"/>
                </a:lnTo>
                <a:lnTo>
                  <a:pt x="1132" y="847"/>
                </a:lnTo>
                <a:lnTo>
                  <a:pt x="1137" y="834"/>
                </a:lnTo>
                <a:lnTo>
                  <a:pt x="1137" y="829"/>
                </a:lnTo>
                <a:lnTo>
                  <a:pt x="1144" y="821"/>
                </a:lnTo>
                <a:lnTo>
                  <a:pt x="1151" y="815"/>
                </a:lnTo>
                <a:lnTo>
                  <a:pt x="1157" y="808"/>
                </a:lnTo>
                <a:lnTo>
                  <a:pt x="1164" y="801"/>
                </a:lnTo>
                <a:lnTo>
                  <a:pt x="1169" y="795"/>
                </a:lnTo>
                <a:lnTo>
                  <a:pt x="1176" y="788"/>
                </a:lnTo>
                <a:lnTo>
                  <a:pt x="1183" y="782"/>
                </a:lnTo>
                <a:lnTo>
                  <a:pt x="1189" y="782"/>
                </a:lnTo>
                <a:lnTo>
                  <a:pt x="1196" y="782"/>
                </a:lnTo>
                <a:lnTo>
                  <a:pt x="1201" y="775"/>
                </a:lnTo>
                <a:lnTo>
                  <a:pt x="1208" y="775"/>
                </a:lnTo>
                <a:lnTo>
                  <a:pt x="1215" y="775"/>
                </a:lnTo>
                <a:lnTo>
                  <a:pt x="1220" y="782"/>
                </a:lnTo>
                <a:lnTo>
                  <a:pt x="1227" y="782"/>
                </a:lnTo>
                <a:lnTo>
                  <a:pt x="1233" y="782"/>
                </a:lnTo>
                <a:lnTo>
                  <a:pt x="1240" y="788"/>
                </a:lnTo>
                <a:lnTo>
                  <a:pt x="1247" y="788"/>
                </a:lnTo>
                <a:lnTo>
                  <a:pt x="1252" y="795"/>
                </a:lnTo>
                <a:lnTo>
                  <a:pt x="1259" y="801"/>
                </a:lnTo>
                <a:lnTo>
                  <a:pt x="1265" y="808"/>
                </a:lnTo>
                <a:lnTo>
                  <a:pt x="1272" y="815"/>
                </a:lnTo>
                <a:lnTo>
                  <a:pt x="1279" y="821"/>
                </a:lnTo>
                <a:lnTo>
                  <a:pt x="1284" y="829"/>
                </a:lnTo>
                <a:lnTo>
                  <a:pt x="1284" y="842"/>
                </a:lnTo>
                <a:lnTo>
                  <a:pt x="1291" y="847"/>
                </a:lnTo>
                <a:lnTo>
                  <a:pt x="1297" y="855"/>
                </a:lnTo>
                <a:lnTo>
                  <a:pt x="1304" y="862"/>
                </a:lnTo>
                <a:lnTo>
                  <a:pt x="1310" y="875"/>
                </a:lnTo>
                <a:lnTo>
                  <a:pt x="1310" y="881"/>
                </a:lnTo>
                <a:lnTo>
                  <a:pt x="1316" y="895"/>
                </a:lnTo>
                <a:lnTo>
                  <a:pt x="1323" y="908"/>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40120" y="3468600"/>
            <a:ext cx="1897200" cy="1587600"/>
          </a:xfrm>
          <a:custGeom>
            <a:avLst/>
            <a:gdLst/>
            <a:ahLst/>
            <a:rect l="l" t="t" r="r" b="b"/>
            <a:pathLst>
              <a:path w="1195" h="1000">
                <a:moveTo>
                  <a:pt x="0" y="0"/>
                </a:moveTo>
                <a:lnTo>
                  <a:pt x="5" y="6"/>
                </a:lnTo>
                <a:lnTo>
                  <a:pt x="12" y="20"/>
                </a:lnTo>
                <a:lnTo>
                  <a:pt x="12" y="33"/>
                </a:lnTo>
                <a:lnTo>
                  <a:pt x="18" y="46"/>
                </a:lnTo>
                <a:lnTo>
                  <a:pt x="25" y="59"/>
                </a:lnTo>
                <a:lnTo>
                  <a:pt x="32" y="72"/>
                </a:lnTo>
                <a:lnTo>
                  <a:pt x="32" y="87"/>
                </a:lnTo>
                <a:lnTo>
                  <a:pt x="37" y="100"/>
                </a:lnTo>
                <a:lnTo>
                  <a:pt x="44" y="113"/>
                </a:lnTo>
                <a:lnTo>
                  <a:pt x="50" y="126"/>
                </a:lnTo>
                <a:lnTo>
                  <a:pt x="57" y="146"/>
                </a:lnTo>
                <a:lnTo>
                  <a:pt x="57" y="159"/>
                </a:lnTo>
                <a:lnTo>
                  <a:pt x="64" y="172"/>
                </a:lnTo>
                <a:lnTo>
                  <a:pt x="69" y="193"/>
                </a:lnTo>
                <a:lnTo>
                  <a:pt x="76" y="206"/>
                </a:lnTo>
                <a:lnTo>
                  <a:pt x="82" y="226"/>
                </a:lnTo>
                <a:lnTo>
                  <a:pt x="82" y="247"/>
                </a:lnTo>
                <a:lnTo>
                  <a:pt x="89" y="260"/>
                </a:lnTo>
                <a:lnTo>
                  <a:pt x="95" y="280"/>
                </a:lnTo>
                <a:lnTo>
                  <a:pt x="101" y="300"/>
                </a:lnTo>
                <a:lnTo>
                  <a:pt x="108" y="313"/>
                </a:lnTo>
                <a:lnTo>
                  <a:pt x="108" y="334"/>
                </a:lnTo>
                <a:lnTo>
                  <a:pt x="113" y="353"/>
                </a:lnTo>
                <a:lnTo>
                  <a:pt x="120" y="373"/>
                </a:lnTo>
                <a:lnTo>
                  <a:pt x="127" y="393"/>
                </a:lnTo>
                <a:lnTo>
                  <a:pt x="133" y="414"/>
                </a:lnTo>
                <a:lnTo>
                  <a:pt x="133" y="432"/>
                </a:lnTo>
                <a:lnTo>
                  <a:pt x="140" y="453"/>
                </a:lnTo>
                <a:lnTo>
                  <a:pt x="145" y="473"/>
                </a:lnTo>
                <a:lnTo>
                  <a:pt x="152" y="493"/>
                </a:lnTo>
                <a:lnTo>
                  <a:pt x="159" y="514"/>
                </a:lnTo>
                <a:lnTo>
                  <a:pt x="159" y="533"/>
                </a:lnTo>
                <a:lnTo>
                  <a:pt x="165" y="560"/>
                </a:lnTo>
                <a:lnTo>
                  <a:pt x="172" y="579"/>
                </a:lnTo>
                <a:lnTo>
                  <a:pt x="177" y="599"/>
                </a:lnTo>
                <a:lnTo>
                  <a:pt x="177" y="620"/>
                </a:lnTo>
                <a:lnTo>
                  <a:pt x="184" y="640"/>
                </a:lnTo>
                <a:lnTo>
                  <a:pt x="191" y="666"/>
                </a:lnTo>
                <a:lnTo>
                  <a:pt x="197" y="686"/>
                </a:lnTo>
                <a:lnTo>
                  <a:pt x="204" y="707"/>
                </a:lnTo>
                <a:lnTo>
                  <a:pt x="204" y="733"/>
                </a:lnTo>
                <a:lnTo>
                  <a:pt x="209" y="753"/>
                </a:lnTo>
                <a:lnTo>
                  <a:pt x="216" y="774"/>
                </a:lnTo>
                <a:lnTo>
                  <a:pt x="221" y="793"/>
                </a:lnTo>
                <a:lnTo>
                  <a:pt x="228" y="820"/>
                </a:lnTo>
                <a:lnTo>
                  <a:pt x="228" y="840"/>
                </a:lnTo>
                <a:lnTo>
                  <a:pt x="235" y="859"/>
                </a:lnTo>
                <a:lnTo>
                  <a:pt x="241" y="887"/>
                </a:lnTo>
                <a:lnTo>
                  <a:pt x="248" y="907"/>
                </a:lnTo>
                <a:lnTo>
                  <a:pt x="253" y="926"/>
                </a:lnTo>
                <a:lnTo>
                  <a:pt x="253" y="954"/>
                </a:lnTo>
                <a:lnTo>
                  <a:pt x="260" y="974"/>
                </a:lnTo>
                <a:lnTo>
                  <a:pt x="267" y="993"/>
                </a:lnTo>
                <a:lnTo>
                  <a:pt x="273" y="993"/>
                </a:lnTo>
                <a:lnTo>
                  <a:pt x="280" y="974"/>
                </a:lnTo>
                <a:lnTo>
                  <a:pt x="280" y="954"/>
                </a:lnTo>
                <a:lnTo>
                  <a:pt x="285" y="933"/>
                </a:lnTo>
                <a:lnTo>
                  <a:pt x="292" y="907"/>
                </a:lnTo>
                <a:lnTo>
                  <a:pt x="299" y="887"/>
                </a:lnTo>
                <a:lnTo>
                  <a:pt x="305" y="867"/>
                </a:lnTo>
                <a:lnTo>
                  <a:pt x="305" y="846"/>
                </a:lnTo>
                <a:lnTo>
                  <a:pt x="311" y="826"/>
                </a:lnTo>
                <a:lnTo>
                  <a:pt x="317" y="800"/>
                </a:lnTo>
                <a:lnTo>
                  <a:pt x="324" y="779"/>
                </a:lnTo>
                <a:lnTo>
                  <a:pt x="331" y="761"/>
                </a:lnTo>
                <a:lnTo>
                  <a:pt x="331" y="740"/>
                </a:lnTo>
                <a:lnTo>
                  <a:pt x="336" y="720"/>
                </a:lnTo>
                <a:lnTo>
                  <a:pt x="343" y="700"/>
                </a:lnTo>
                <a:lnTo>
                  <a:pt x="349" y="679"/>
                </a:lnTo>
                <a:lnTo>
                  <a:pt x="349" y="660"/>
                </a:lnTo>
                <a:lnTo>
                  <a:pt x="356" y="640"/>
                </a:lnTo>
                <a:lnTo>
                  <a:pt x="363" y="620"/>
                </a:lnTo>
                <a:lnTo>
                  <a:pt x="368" y="607"/>
                </a:lnTo>
                <a:lnTo>
                  <a:pt x="375" y="586"/>
                </a:lnTo>
                <a:lnTo>
                  <a:pt x="375" y="566"/>
                </a:lnTo>
                <a:lnTo>
                  <a:pt x="381" y="547"/>
                </a:lnTo>
                <a:lnTo>
                  <a:pt x="388" y="533"/>
                </a:lnTo>
                <a:lnTo>
                  <a:pt x="395" y="514"/>
                </a:lnTo>
                <a:lnTo>
                  <a:pt x="400" y="499"/>
                </a:lnTo>
                <a:lnTo>
                  <a:pt x="400" y="480"/>
                </a:lnTo>
                <a:lnTo>
                  <a:pt x="407" y="460"/>
                </a:lnTo>
                <a:lnTo>
                  <a:pt x="413" y="447"/>
                </a:lnTo>
                <a:lnTo>
                  <a:pt x="420" y="432"/>
                </a:lnTo>
                <a:lnTo>
                  <a:pt x="425" y="414"/>
                </a:lnTo>
                <a:lnTo>
                  <a:pt x="425" y="399"/>
                </a:lnTo>
                <a:lnTo>
                  <a:pt x="432" y="386"/>
                </a:lnTo>
                <a:lnTo>
                  <a:pt x="439" y="373"/>
                </a:lnTo>
                <a:lnTo>
                  <a:pt x="445" y="353"/>
                </a:lnTo>
                <a:lnTo>
                  <a:pt x="451" y="339"/>
                </a:lnTo>
                <a:lnTo>
                  <a:pt x="451" y="326"/>
                </a:lnTo>
                <a:lnTo>
                  <a:pt x="457" y="313"/>
                </a:lnTo>
                <a:lnTo>
                  <a:pt x="464" y="300"/>
                </a:lnTo>
                <a:lnTo>
                  <a:pt x="471" y="286"/>
                </a:lnTo>
                <a:lnTo>
                  <a:pt x="476" y="280"/>
                </a:lnTo>
                <a:lnTo>
                  <a:pt x="476" y="267"/>
                </a:lnTo>
                <a:lnTo>
                  <a:pt x="483" y="252"/>
                </a:lnTo>
                <a:lnTo>
                  <a:pt x="489" y="247"/>
                </a:lnTo>
                <a:lnTo>
                  <a:pt x="496" y="234"/>
                </a:lnTo>
                <a:lnTo>
                  <a:pt x="496" y="219"/>
                </a:lnTo>
                <a:lnTo>
                  <a:pt x="503" y="213"/>
                </a:lnTo>
                <a:lnTo>
                  <a:pt x="508" y="206"/>
                </a:lnTo>
                <a:lnTo>
                  <a:pt x="515" y="193"/>
                </a:lnTo>
                <a:lnTo>
                  <a:pt x="521" y="186"/>
                </a:lnTo>
                <a:lnTo>
                  <a:pt x="521" y="180"/>
                </a:lnTo>
                <a:lnTo>
                  <a:pt x="528" y="172"/>
                </a:lnTo>
                <a:lnTo>
                  <a:pt x="534" y="167"/>
                </a:lnTo>
                <a:lnTo>
                  <a:pt x="540" y="159"/>
                </a:lnTo>
                <a:lnTo>
                  <a:pt x="547" y="152"/>
                </a:lnTo>
                <a:lnTo>
                  <a:pt x="547" y="146"/>
                </a:lnTo>
                <a:lnTo>
                  <a:pt x="553" y="139"/>
                </a:lnTo>
                <a:lnTo>
                  <a:pt x="559" y="133"/>
                </a:lnTo>
                <a:lnTo>
                  <a:pt x="566" y="126"/>
                </a:lnTo>
                <a:lnTo>
                  <a:pt x="572" y="120"/>
                </a:lnTo>
                <a:lnTo>
                  <a:pt x="579" y="120"/>
                </a:lnTo>
                <a:lnTo>
                  <a:pt x="584" y="113"/>
                </a:lnTo>
                <a:lnTo>
                  <a:pt x="591" y="113"/>
                </a:lnTo>
                <a:lnTo>
                  <a:pt x="598" y="113"/>
                </a:lnTo>
                <a:lnTo>
                  <a:pt x="604" y="106"/>
                </a:lnTo>
                <a:lnTo>
                  <a:pt x="611" y="106"/>
                </a:lnTo>
                <a:lnTo>
                  <a:pt x="616" y="106"/>
                </a:lnTo>
                <a:lnTo>
                  <a:pt x="623" y="106"/>
                </a:lnTo>
                <a:lnTo>
                  <a:pt x="629" y="113"/>
                </a:lnTo>
                <a:lnTo>
                  <a:pt x="636" y="113"/>
                </a:lnTo>
                <a:lnTo>
                  <a:pt x="643" y="113"/>
                </a:lnTo>
                <a:lnTo>
                  <a:pt x="648" y="120"/>
                </a:lnTo>
                <a:lnTo>
                  <a:pt x="655" y="120"/>
                </a:lnTo>
                <a:lnTo>
                  <a:pt x="661" y="126"/>
                </a:lnTo>
                <a:lnTo>
                  <a:pt x="668" y="133"/>
                </a:lnTo>
                <a:lnTo>
                  <a:pt x="674" y="139"/>
                </a:lnTo>
                <a:lnTo>
                  <a:pt x="680" y="146"/>
                </a:lnTo>
                <a:lnTo>
                  <a:pt x="687" y="152"/>
                </a:lnTo>
                <a:lnTo>
                  <a:pt x="692" y="159"/>
                </a:lnTo>
                <a:lnTo>
                  <a:pt x="692" y="167"/>
                </a:lnTo>
                <a:lnTo>
                  <a:pt x="699" y="172"/>
                </a:lnTo>
                <a:lnTo>
                  <a:pt x="706" y="180"/>
                </a:lnTo>
                <a:lnTo>
                  <a:pt x="712" y="186"/>
                </a:lnTo>
                <a:lnTo>
                  <a:pt x="719" y="193"/>
                </a:lnTo>
                <a:lnTo>
                  <a:pt x="719" y="200"/>
                </a:lnTo>
                <a:lnTo>
                  <a:pt x="724" y="213"/>
                </a:lnTo>
                <a:lnTo>
                  <a:pt x="731" y="219"/>
                </a:lnTo>
                <a:lnTo>
                  <a:pt x="738" y="234"/>
                </a:lnTo>
                <a:lnTo>
                  <a:pt x="744" y="239"/>
                </a:lnTo>
                <a:lnTo>
                  <a:pt x="744" y="252"/>
                </a:lnTo>
                <a:lnTo>
                  <a:pt x="751" y="260"/>
                </a:lnTo>
                <a:lnTo>
                  <a:pt x="756" y="273"/>
                </a:lnTo>
                <a:lnTo>
                  <a:pt x="763" y="280"/>
                </a:lnTo>
                <a:lnTo>
                  <a:pt x="770" y="293"/>
                </a:lnTo>
                <a:lnTo>
                  <a:pt x="770" y="306"/>
                </a:lnTo>
                <a:lnTo>
                  <a:pt x="776" y="319"/>
                </a:lnTo>
                <a:lnTo>
                  <a:pt x="782" y="334"/>
                </a:lnTo>
                <a:lnTo>
                  <a:pt x="788" y="347"/>
                </a:lnTo>
                <a:lnTo>
                  <a:pt x="795" y="360"/>
                </a:lnTo>
                <a:lnTo>
                  <a:pt x="795" y="373"/>
                </a:lnTo>
                <a:lnTo>
                  <a:pt x="802" y="386"/>
                </a:lnTo>
                <a:lnTo>
                  <a:pt x="807" y="399"/>
                </a:lnTo>
                <a:lnTo>
                  <a:pt x="814" y="414"/>
                </a:lnTo>
                <a:lnTo>
                  <a:pt x="814" y="427"/>
                </a:lnTo>
                <a:lnTo>
                  <a:pt x="820" y="440"/>
                </a:lnTo>
                <a:lnTo>
                  <a:pt x="827" y="460"/>
                </a:lnTo>
                <a:lnTo>
                  <a:pt x="832" y="473"/>
                </a:lnTo>
                <a:lnTo>
                  <a:pt x="839" y="486"/>
                </a:lnTo>
                <a:lnTo>
                  <a:pt x="839" y="506"/>
                </a:lnTo>
                <a:lnTo>
                  <a:pt x="846" y="519"/>
                </a:lnTo>
                <a:lnTo>
                  <a:pt x="852" y="533"/>
                </a:lnTo>
                <a:lnTo>
                  <a:pt x="859" y="553"/>
                </a:lnTo>
                <a:lnTo>
                  <a:pt x="864" y="566"/>
                </a:lnTo>
                <a:lnTo>
                  <a:pt x="864" y="586"/>
                </a:lnTo>
                <a:lnTo>
                  <a:pt x="871" y="599"/>
                </a:lnTo>
                <a:lnTo>
                  <a:pt x="878" y="620"/>
                </a:lnTo>
                <a:lnTo>
                  <a:pt x="884" y="633"/>
                </a:lnTo>
                <a:lnTo>
                  <a:pt x="891" y="653"/>
                </a:lnTo>
                <a:lnTo>
                  <a:pt x="891" y="673"/>
                </a:lnTo>
                <a:lnTo>
                  <a:pt x="896" y="686"/>
                </a:lnTo>
                <a:lnTo>
                  <a:pt x="903" y="707"/>
                </a:lnTo>
                <a:lnTo>
                  <a:pt x="910" y="727"/>
                </a:lnTo>
                <a:lnTo>
                  <a:pt x="916" y="740"/>
                </a:lnTo>
                <a:lnTo>
                  <a:pt x="916" y="761"/>
                </a:lnTo>
                <a:lnTo>
                  <a:pt x="922" y="779"/>
                </a:lnTo>
                <a:lnTo>
                  <a:pt x="928" y="793"/>
                </a:lnTo>
                <a:lnTo>
                  <a:pt x="935" y="813"/>
                </a:lnTo>
                <a:lnTo>
                  <a:pt x="942" y="833"/>
                </a:lnTo>
                <a:lnTo>
                  <a:pt x="942" y="853"/>
                </a:lnTo>
                <a:lnTo>
                  <a:pt x="947" y="867"/>
                </a:lnTo>
                <a:lnTo>
                  <a:pt x="954" y="887"/>
                </a:lnTo>
                <a:lnTo>
                  <a:pt x="960" y="907"/>
                </a:lnTo>
                <a:lnTo>
                  <a:pt x="960" y="926"/>
                </a:lnTo>
                <a:lnTo>
                  <a:pt x="967" y="941"/>
                </a:lnTo>
                <a:lnTo>
                  <a:pt x="974" y="960"/>
                </a:lnTo>
                <a:lnTo>
                  <a:pt x="979" y="980"/>
                </a:lnTo>
                <a:lnTo>
                  <a:pt x="986" y="1000"/>
                </a:lnTo>
                <a:lnTo>
                  <a:pt x="992" y="980"/>
                </a:lnTo>
                <a:lnTo>
                  <a:pt x="999" y="960"/>
                </a:lnTo>
                <a:lnTo>
                  <a:pt x="1005" y="946"/>
                </a:lnTo>
                <a:lnTo>
                  <a:pt x="1011" y="926"/>
                </a:lnTo>
                <a:lnTo>
                  <a:pt x="1011" y="907"/>
                </a:lnTo>
                <a:lnTo>
                  <a:pt x="1018" y="887"/>
                </a:lnTo>
                <a:lnTo>
                  <a:pt x="1023" y="874"/>
                </a:lnTo>
                <a:lnTo>
                  <a:pt x="1030" y="853"/>
                </a:lnTo>
                <a:lnTo>
                  <a:pt x="1036" y="840"/>
                </a:lnTo>
                <a:lnTo>
                  <a:pt x="1036" y="820"/>
                </a:lnTo>
                <a:lnTo>
                  <a:pt x="1043" y="800"/>
                </a:lnTo>
                <a:lnTo>
                  <a:pt x="1050" y="787"/>
                </a:lnTo>
                <a:lnTo>
                  <a:pt x="1055" y="766"/>
                </a:lnTo>
                <a:lnTo>
                  <a:pt x="1062" y="753"/>
                </a:lnTo>
                <a:lnTo>
                  <a:pt x="1062" y="733"/>
                </a:lnTo>
                <a:lnTo>
                  <a:pt x="1068" y="720"/>
                </a:lnTo>
                <a:lnTo>
                  <a:pt x="1075" y="700"/>
                </a:lnTo>
                <a:lnTo>
                  <a:pt x="1082" y="686"/>
                </a:lnTo>
                <a:lnTo>
                  <a:pt x="1087" y="666"/>
                </a:lnTo>
                <a:lnTo>
                  <a:pt x="1087" y="653"/>
                </a:lnTo>
                <a:lnTo>
                  <a:pt x="1094" y="640"/>
                </a:lnTo>
                <a:lnTo>
                  <a:pt x="1100" y="620"/>
                </a:lnTo>
                <a:lnTo>
                  <a:pt x="1107" y="607"/>
                </a:lnTo>
                <a:lnTo>
                  <a:pt x="1114" y="594"/>
                </a:lnTo>
                <a:lnTo>
                  <a:pt x="1114" y="579"/>
                </a:lnTo>
                <a:lnTo>
                  <a:pt x="1119" y="566"/>
                </a:lnTo>
                <a:lnTo>
                  <a:pt x="1126" y="547"/>
                </a:lnTo>
                <a:lnTo>
                  <a:pt x="1132" y="533"/>
                </a:lnTo>
                <a:lnTo>
                  <a:pt x="1132" y="519"/>
                </a:lnTo>
                <a:lnTo>
                  <a:pt x="1138" y="506"/>
                </a:lnTo>
                <a:lnTo>
                  <a:pt x="1145" y="493"/>
                </a:lnTo>
                <a:lnTo>
                  <a:pt x="1151" y="480"/>
                </a:lnTo>
                <a:lnTo>
                  <a:pt x="1158" y="466"/>
                </a:lnTo>
                <a:lnTo>
                  <a:pt x="1158" y="460"/>
                </a:lnTo>
                <a:lnTo>
                  <a:pt x="1163" y="447"/>
                </a:lnTo>
                <a:lnTo>
                  <a:pt x="1170" y="432"/>
                </a:lnTo>
                <a:lnTo>
                  <a:pt x="1177" y="419"/>
                </a:lnTo>
                <a:lnTo>
                  <a:pt x="1183" y="414"/>
                </a:lnTo>
                <a:lnTo>
                  <a:pt x="1183" y="399"/>
                </a:lnTo>
                <a:lnTo>
                  <a:pt x="1190" y="386"/>
                </a:lnTo>
                <a:lnTo>
                  <a:pt x="1195" y="380"/>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18680" y="543708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equency, MHz</a:t>
            </a:r>
            <a:endParaRPr b="0" lang="en-US" sz="1500" spc="-1" strike="noStrike">
              <a:solidFill>
                <a:srgbClr val="000000"/>
              </a:solidFill>
              <a:latin typeface="Times New Roman"/>
            </a:endParaRPr>
          </a:p>
        </p:txBody>
      </p:sp>
      <p:grpSp>
        <p:nvGrpSpPr>
          <p:cNvPr id="751" name=""/>
          <p:cNvGrpSpPr/>
          <p:nvPr/>
        </p:nvGrpSpPr>
        <p:grpSpPr>
          <a:xfrm>
            <a:off x="2643120" y="1755720"/>
            <a:ext cx="3987720" cy="3306960"/>
            <a:chOff x="2643120" y="1755720"/>
            <a:chExt cx="3987720" cy="3306960"/>
          </a:xfrm>
        </p:grpSpPr>
        <p:sp>
          <p:nvSpPr>
            <p:cNvPr id="752" name=""/>
            <p:cNvSpPr/>
            <p:nvPr/>
          </p:nvSpPr>
          <p:spPr>
            <a:xfrm>
              <a:off x="2643120" y="1755720"/>
              <a:ext cx="398772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643120" y="1755720"/>
              <a:ext cx="3987720" cy="330696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2639880" y="1751040"/>
            <a:ext cx="39974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 name=""/>
          <p:cNvSpPr/>
          <p:nvPr/>
        </p:nvSpPr>
        <p:spPr>
          <a:xfrm>
            <a:off x="2639880" y="5067360"/>
            <a:ext cx="3997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flipV="1">
            <a:off x="6637320" y="1751040"/>
            <a:ext cx="3240" cy="3316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2641680" y="1738080"/>
            <a:ext cx="1440" cy="3314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608200" y="5162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759" name=""/>
          <p:cNvSpPr/>
          <p:nvPr/>
        </p:nvSpPr>
        <p:spPr>
          <a:xfrm flipV="1">
            <a:off x="3303720" y="5024160"/>
            <a:ext cx="468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0" name=""/>
          <p:cNvSpPr/>
          <p:nvPr/>
        </p:nvSpPr>
        <p:spPr>
          <a:xfrm>
            <a:off x="3303720" y="1751040"/>
            <a:ext cx="468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a:off x="3276720" y="5162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762" name=""/>
          <p:cNvSpPr/>
          <p:nvPr/>
        </p:nvSpPr>
        <p:spPr>
          <a:xfrm flipV="1">
            <a:off x="397188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3" name=""/>
          <p:cNvSpPr/>
          <p:nvPr/>
        </p:nvSpPr>
        <p:spPr>
          <a:xfrm>
            <a:off x="397188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391176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765" name=""/>
          <p:cNvSpPr/>
          <p:nvPr/>
        </p:nvSpPr>
        <p:spPr>
          <a:xfrm flipV="1">
            <a:off x="463860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6" name=""/>
          <p:cNvSpPr/>
          <p:nvPr/>
        </p:nvSpPr>
        <p:spPr>
          <a:xfrm>
            <a:off x="463860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7" name=""/>
          <p:cNvSpPr/>
          <p:nvPr/>
        </p:nvSpPr>
        <p:spPr>
          <a:xfrm>
            <a:off x="457848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768" name=""/>
          <p:cNvSpPr/>
          <p:nvPr/>
        </p:nvSpPr>
        <p:spPr>
          <a:xfrm flipV="1">
            <a:off x="530532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9" name=""/>
          <p:cNvSpPr/>
          <p:nvPr/>
        </p:nvSpPr>
        <p:spPr>
          <a:xfrm>
            <a:off x="530532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24520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771" name=""/>
          <p:cNvSpPr/>
          <p:nvPr/>
        </p:nvSpPr>
        <p:spPr>
          <a:xfrm flipV="1">
            <a:off x="5972040" y="502416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2" name=""/>
          <p:cNvSpPr/>
          <p:nvPr/>
        </p:nvSpPr>
        <p:spPr>
          <a:xfrm>
            <a:off x="5972040" y="1751040"/>
            <a:ext cx="180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a:off x="591372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774" name=""/>
          <p:cNvSpPr/>
          <p:nvPr/>
        </p:nvSpPr>
        <p:spPr>
          <a:xfrm flipV="1">
            <a:off x="6637320" y="5024160"/>
            <a:ext cx="324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a:off x="6637320" y="1751040"/>
            <a:ext cx="3240" cy="42840"/>
          </a:xfrm>
          <a:prstGeom prst="line">
            <a:avLst/>
          </a:prstGeom>
          <a:ln cap="rnd"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6" name=""/>
          <p:cNvSpPr/>
          <p:nvPr/>
        </p:nvSpPr>
        <p:spPr>
          <a:xfrm>
            <a:off x="6580440" y="5162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777" name=""/>
          <p:cNvSpPr/>
          <p:nvPr/>
        </p:nvSpPr>
        <p:spPr>
          <a:xfrm>
            <a:off x="2639880" y="506736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flipH="1">
            <a:off x="6597720" y="506736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401920" y="4957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780" name=""/>
          <p:cNvSpPr/>
          <p:nvPr/>
        </p:nvSpPr>
        <p:spPr>
          <a:xfrm>
            <a:off x="2639880" y="469728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flipH="1">
            <a:off x="6597720" y="469728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84920" y="46497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2</a:t>
            </a:r>
            <a:endParaRPr b="0" lang="en-US" sz="1300" spc="-1" strike="noStrike">
              <a:solidFill>
                <a:srgbClr val="000000"/>
              </a:solidFill>
              <a:latin typeface="Times New Roman"/>
            </a:endParaRPr>
          </a:p>
        </p:txBody>
      </p:sp>
      <p:sp>
        <p:nvSpPr>
          <p:cNvPr id="783" name=""/>
          <p:cNvSpPr/>
          <p:nvPr/>
        </p:nvSpPr>
        <p:spPr>
          <a:xfrm>
            <a:off x="2639880" y="43257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flipH="1">
            <a:off x="6597720" y="43257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2284920" y="42800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4</a:t>
            </a:r>
            <a:endParaRPr b="0" lang="en-US" sz="1300" spc="-1" strike="noStrike">
              <a:solidFill>
                <a:srgbClr val="000000"/>
              </a:solidFill>
              <a:latin typeface="Times New Roman"/>
            </a:endParaRPr>
          </a:p>
        </p:txBody>
      </p:sp>
      <p:sp>
        <p:nvSpPr>
          <p:cNvPr id="786" name=""/>
          <p:cNvSpPr/>
          <p:nvPr/>
        </p:nvSpPr>
        <p:spPr>
          <a:xfrm>
            <a:off x="2639880" y="396720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flipH="1">
            <a:off x="6597720" y="396720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2284920" y="39196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6</a:t>
            </a:r>
            <a:endParaRPr b="0" lang="en-US" sz="1300" spc="-1" strike="noStrike">
              <a:solidFill>
                <a:srgbClr val="000000"/>
              </a:solidFill>
              <a:latin typeface="Times New Roman"/>
            </a:endParaRPr>
          </a:p>
        </p:txBody>
      </p:sp>
      <p:sp>
        <p:nvSpPr>
          <p:cNvPr id="789" name=""/>
          <p:cNvSpPr/>
          <p:nvPr/>
        </p:nvSpPr>
        <p:spPr>
          <a:xfrm>
            <a:off x="2639880" y="359424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flipH="1">
            <a:off x="6597720" y="359424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2284920" y="35481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8</a:t>
            </a:r>
            <a:endParaRPr b="0" lang="en-US" sz="1300" spc="-1" strike="noStrike">
              <a:solidFill>
                <a:srgbClr val="000000"/>
              </a:solidFill>
              <a:latin typeface="Times New Roman"/>
            </a:endParaRPr>
          </a:p>
        </p:txBody>
      </p:sp>
      <p:sp>
        <p:nvSpPr>
          <p:cNvPr id="792" name=""/>
          <p:cNvSpPr/>
          <p:nvPr/>
        </p:nvSpPr>
        <p:spPr>
          <a:xfrm>
            <a:off x="2639880" y="32241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flipH="1">
            <a:off x="6597720" y="32241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a:off x="2373480" y="3178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795" name=""/>
          <p:cNvSpPr/>
          <p:nvPr/>
        </p:nvSpPr>
        <p:spPr>
          <a:xfrm>
            <a:off x="2639880" y="2851200"/>
            <a:ext cx="414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flipH="1">
            <a:off x="6597720" y="2851200"/>
            <a:ext cx="396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a:off x="2284920" y="28051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798" name=""/>
          <p:cNvSpPr/>
          <p:nvPr/>
        </p:nvSpPr>
        <p:spPr>
          <a:xfrm>
            <a:off x="2639880" y="249228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flipH="1">
            <a:off x="6597720" y="249228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0" name=""/>
          <p:cNvSpPr/>
          <p:nvPr/>
        </p:nvSpPr>
        <p:spPr>
          <a:xfrm>
            <a:off x="2284920" y="244620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a:t>
            </a:r>
            <a:endParaRPr b="0" lang="en-US" sz="1300" spc="-1" strike="noStrike">
              <a:solidFill>
                <a:srgbClr val="000000"/>
              </a:solidFill>
              <a:latin typeface="Times New Roman"/>
            </a:endParaRPr>
          </a:p>
        </p:txBody>
      </p:sp>
      <p:sp>
        <p:nvSpPr>
          <p:cNvPr id="801" name=""/>
          <p:cNvSpPr/>
          <p:nvPr/>
        </p:nvSpPr>
        <p:spPr>
          <a:xfrm>
            <a:off x="2639880" y="2120760"/>
            <a:ext cx="414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2" name=""/>
          <p:cNvSpPr/>
          <p:nvPr/>
        </p:nvSpPr>
        <p:spPr>
          <a:xfrm flipH="1">
            <a:off x="6597720" y="2120760"/>
            <a:ext cx="3960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2284920" y="20732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a:t>
            </a:r>
            <a:endParaRPr b="0" lang="en-US" sz="1300" spc="-1" strike="noStrike">
              <a:solidFill>
                <a:srgbClr val="000000"/>
              </a:solidFill>
              <a:latin typeface="Times New Roman"/>
            </a:endParaRPr>
          </a:p>
        </p:txBody>
      </p:sp>
      <p:sp>
        <p:nvSpPr>
          <p:cNvPr id="804" name=""/>
          <p:cNvSpPr/>
          <p:nvPr/>
        </p:nvSpPr>
        <p:spPr>
          <a:xfrm>
            <a:off x="2639880" y="1751040"/>
            <a:ext cx="414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flipH="1">
            <a:off x="6597720" y="1751040"/>
            <a:ext cx="396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6" name=""/>
          <p:cNvSpPr/>
          <p:nvPr/>
        </p:nvSpPr>
        <p:spPr>
          <a:xfrm>
            <a:off x="2306880" y="16891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8</a:t>
            </a:r>
            <a:endParaRPr b="0" lang="en-US" sz="1300" spc="-1" strike="noStrike">
              <a:solidFill>
                <a:srgbClr val="000000"/>
              </a:solidFill>
              <a:latin typeface="Times New Roman"/>
            </a:endParaRPr>
          </a:p>
        </p:txBody>
      </p:sp>
      <p:sp>
        <p:nvSpPr>
          <p:cNvPr id="807" name=""/>
          <p:cNvSpPr/>
          <p:nvPr/>
        </p:nvSpPr>
        <p:spPr>
          <a:xfrm flipV="1">
            <a:off x="6637320" y="1751040"/>
            <a:ext cx="3240" cy="3316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9880" y="2025720"/>
            <a:ext cx="2100240" cy="3041640"/>
          </a:xfrm>
          <a:custGeom>
            <a:avLst/>
            <a:gdLst/>
            <a:ahLst/>
            <a:rect l="l" t="t" r="r" b="b"/>
            <a:pathLst>
              <a:path w="1323" h="1916">
                <a:moveTo>
                  <a:pt x="0" y="1916"/>
                </a:moveTo>
                <a:lnTo>
                  <a:pt x="7" y="1884"/>
                </a:lnTo>
                <a:lnTo>
                  <a:pt x="12" y="1843"/>
                </a:lnTo>
                <a:lnTo>
                  <a:pt x="12" y="1809"/>
                </a:lnTo>
                <a:lnTo>
                  <a:pt x="19" y="1769"/>
                </a:lnTo>
                <a:lnTo>
                  <a:pt x="26" y="1735"/>
                </a:lnTo>
                <a:lnTo>
                  <a:pt x="31" y="1696"/>
                </a:lnTo>
                <a:lnTo>
                  <a:pt x="38" y="1663"/>
                </a:lnTo>
                <a:lnTo>
                  <a:pt x="38" y="1622"/>
                </a:lnTo>
                <a:lnTo>
                  <a:pt x="44" y="1589"/>
                </a:lnTo>
                <a:lnTo>
                  <a:pt x="51" y="1555"/>
                </a:lnTo>
                <a:lnTo>
                  <a:pt x="58" y="1516"/>
                </a:lnTo>
                <a:lnTo>
                  <a:pt x="63" y="1483"/>
                </a:lnTo>
                <a:lnTo>
                  <a:pt x="63" y="1442"/>
                </a:lnTo>
                <a:lnTo>
                  <a:pt x="70" y="1408"/>
                </a:lnTo>
                <a:lnTo>
                  <a:pt x="76" y="1375"/>
                </a:lnTo>
                <a:lnTo>
                  <a:pt x="83" y="1342"/>
                </a:lnTo>
                <a:lnTo>
                  <a:pt x="83" y="1302"/>
                </a:lnTo>
                <a:lnTo>
                  <a:pt x="90" y="1269"/>
                </a:lnTo>
                <a:lnTo>
                  <a:pt x="95" y="1235"/>
                </a:lnTo>
                <a:lnTo>
                  <a:pt x="102" y="1202"/>
                </a:lnTo>
                <a:lnTo>
                  <a:pt x="108" y="1169"/>
                </a:lnTo>
                <a:lnTo>
                  <a:pt x="108" y="1135"/>
                </a:lnTo>
                <a:lnTo>
                  <a:pt x="114" y="1102"/>
                </a:lnTo>
                <a:lnTo>
                  <a:pt x="120" y="1068"/>
                </a:lnTo>
                <a:lnTo>
                  <a:pt x="127" y="1035"/>
                </a:lnTo>
                <a:lnTo>
                  <a:pt x="134" y="1002"/>
                </a:lnTo>
                <a:lnTo>
                  <a:pt x="134" y="975"/>
                </a:lnTo>
                <a:lnTo>
                  <a:pt x="139" y="942"/>
                </a:lnTo>
                <a:lnTo>
                  <a:pt x="146" y="908"/>
                </a:lnTo>
                <a:lnTo>
                  <a:pt x="152" y="881"/>
                </a:lnTo>
                <a:lnTo>
                  <a:pt x="159" y="847"/>
                </a:lnTo>
                <a:lnTo>
                  <a:pt x="159" y="815"/>
                </a:lnTo>
                <a:lnTo>
                  <a:pt x="166" y="788"/>
                </a:lnTo>
                <a:lnTo>
                  <a:pt x="171" y="762"/>
                </a:lnTo>
                <a:lnTo>
                  <a:pt x="178" y="728"/>
                </a:lnTo>
                <a:lnTo>
                  <a:pt x="184" y="701"/>
                </a:lnTo>
                <a:lnTo>
                  <a:pt x="184" y="675"/>
                </a:lnTo>
                <a:lnTo>
                  <a:pt x="191" y="648"/>
                </a:lnTo>
                <a:lnTo>
                  <a:pt x="198" y="621"/>
                </a:lnTo>
                <a:lnTo>
                  <a:pt x="203" y="595"/>
                </a:lnTo>
                <a:lnTo>
                  <a:pt x="210" y="569"/>
                </a:lnTo>
                <a:lnTo>
                  <a:pt x="210" y="541"/>
                </a:lnTo>
                <a:lnTo>
                  <a:pt x="216" y="515"/>
                </a:lnTo>
                <a:lnTo>
                  <a:pt x="222" y="494"/>
                </a:lnTo>
                <a:lnTo>
                  <a:pt x="230" y="468"/>
                </a:lnTo>
                <a:lnTo>
                  <a:pt x="235" y="441"/>
                </a:lnTo>
                <a:lnTo>
                  <a:pt x="235" y="420"/>
                </a:lnTo>
                <a:lnTo>
                  <a:pt x="242" y="401"/>
                </a:lnTo>
                <a:lnTo>
                  <a:pt x="247" y="374"/>
                </a:lnTo>
                <a:lnTo>
                  <a:pt x="254" y="355"/>
                </a:lnTo>
                <a:lnTo>
                  <a:pt x="254" y="335"/>
                </a:lnTo>
                <a:lnTo>
                  <a:pt x="261" y="314"/>
                </a:lnTo>
                <a:lnTo>
                  <a:pt x="267" y="294"/>
                </a:lnTo>
                <a:lnTo>
                  <a:pt x="274" y="274"/>
                </a:lnTo>
                <a:lnTo>
                  <a:pt x="279" y="255"/>
                </a:lnTo>
                <a:lnTo>
                  <a:pt x="279" y="240"/>
                </a:lnTo>
                <a:lnTo>
                  <a:pt x="286" y="221"/>
                </a:lnTo>
                <a:lnTo>
                  <a:pt x="293" y="207"/>
                </a:lnTo>
                <a:lnTo>
                  <a:pt x="299" y="188"/>
                </a:lnTo>
                <a:lnTo>
                  <a:pt x="306" y="175"/>
                </a:lnTo>
                <a:lnTo>
                  <a:pt x="306" y="160"/>
                </a:lnTo>
                <a:lnTo>
                  <a:pt x="311" y="147"/>
                </a:lnTo>
                <a:lnTo>
                  <a:pt x="318" y="134"/>
                </a:lnTo>
                <a:lnTo>
                  <a:pt x="323" y="121"/>
                </a:lnTo>
                <a:lnTo>
                  <a:pt x="330" y="108"/>
                </a:lnTo>
                <a:lnTo>
                  <a:pt x="330" y="93"/>
                </a:lnTo>
                <a:lnTo>
                  <a:pt x="337" y="88"/>
                </a:lnTo>
                <a:lnTo>
                  <a:pt x="343" y="74"/>
                </a:lnTo>
                <a:lnTo>
                  <a:pt x="350" y="67"/>
                </a:lnTo>
                <a:lnTo>
                  <a:pt x="355" y="54"/>
                </a:lnTo>
                <a:lnTo>
                  <a:pt x="355" y="47"/>
                </a:lnTo>
                <a:lnTo>
                  <a:pt x="362" y="41"/>
                </a:lnTo>
                <a:lnTo>
                  <a:pt x="369" y="34"/>
                </a:lnTo>
                <a:lnTo>
                  <a:pt x="375" y="27"/>
                </a:lnTo>
                <a:lnTo>
                  <a:pt x="382" y="21"/>
                </a:lnTo>
                <a:lnTo>
                  <a:pt x="387" y="13"/>
                </a:lnTo>
                <a:lnTo>
                  <a:pt x="394" y="8"/>
                </a:lnTo>
                <a:lnTo>
                  <a:pt x="401" y="0"/>
                </a:lnTo>
                <a:lnTo>
                  <a:pt x="407" y="0"/>
                </a:lnTo>
                <a:lnTo>
                  <a:pt x="414" y="0"/>
                </a:lnTo>
                <a:lnTo>
                  <a:pt x="419" y="0"/>
                </a:lnTo>
                <a:lnTo>
                  <a:pt x="426" y="0"/>
                </a:lnTo>
                <a:lnTo>
                  <a:pt x="433" y="8"/>
                </a:lnTo>
                <a:lnTo>
                  <a:pt x="438" y="8"/>
                </a:lnTo>
                <a:lnTo>
                  <a:pt x="445" y="8"/>
                </a:lnTo>
                <a:lnTo>
                  <a:pt x="451" y="13"/>
                </a:lnTo>
                <a:lnTo>
                  <a:pt x="458" y="21"/>
                </a:lnTo>
                <a:lnTo>
                  <a:pt x="465" y="27"/>
                </a:lnTo>
                <a:lnTo>
                  <a:pt x="470" y="34"/>
                </a:lnTo>
                <a:lnTo>
                  <a:pt x="477" y="41"/>
                </a:lnTo>
                <a:lnTo>
                  <a:pt x="477" y="47"/>
                </a:lnTo>
                <a:lnTo>
                  <a:pt x="483" y="60"/>
                </a:lnTo>
                <a:lnTo>
                  <a:pt x="490" y="67"/>
                </a:lnTo>
                <a:lnTo>
                  <a:pt x="497" y="74"/>
                </a:lnTo>
                <a:lnTo>
                  <a:pt x="502" y="88"/>
                </a:lnTo>
                <a:lnTo>
                  <a:pt x="502" y="101"/>
                </a:lnTo>
                <a:lnTo>
                  <a:pt x="509" y="108"/>
                </a:lnTo>
                <a:lnTo>
                  <a:pt x="515" y="121"/>
                </a:lnTo>
                <a:lnTo>
                  <a:pt x="522" y="134"/>
                </a:lnTo>
                <a:lnTo>
                  <a:pt x="527" y="147"/>
                </a:lnTo>
                <a:lnTo>
                  <a:pt x="527" y="160"/>
                </a:lnTo>
                <a:lnTo>
                  <a:pt x="534" y="175"/>
                </a:lnTo>
                <a:lnTo>
                  <a:pt x="541" y="188"/>
                </a:lnTo>
                <a:lnTo>
                  <a:pt x="546" y="207"/>
                </a:lnTo>
                <a:lnTo>
                  <a:pt x="553" y="221"/>
                </a:lnTo>
                <a:lnTo>
                  <a:pt x="553" y="240"/>
                </a:lnTo>
                <a:lnTo>
                  <a:pt x="559" y="255"/>
                </a:lnTo>
                <a:lnTo>
                  <a:pt x="566" y="274"/>
                </a:lnTo>
                <a:lnTo>
                  <a:pt x="573" y="288"/>
                </a:lnTo>
                <a:lnTo>
                  <a:pt x="573" y="307"/>
                </a:lnTo>
                <a:lnTo>
                  <a:pt x="578" y="327"/>
                </a:lnTo>
                <a:lnTo>
                  <a:pt x="585" y="348"/>
                </a:lnTo>
                <a:lnTo>
                  <a:pt x="591" y="368"/>
                </a:lnTo>
                <a:lnTo>
                  <a:pt x="598" y="388"/>
                </a:lnTo>
                <a:lnTo>
                  <a:pt x="598" y="407"/>
                </a:lnTo>
                <a:lnTo>
                  <a:pt x="605" y="435"/>
                </a:lnTo>
                <a:lnTo>
                  <a:pt x="610" y="454"/>
                </a:lnTo>
                <a:lnTo>
                  <a:pt x="617" y="474"/>
                </a:lnTo>
                <a:lnTo>
                  <a:pt x="623" y="502"/>
                </a:lnTo>
                <a:lnTo>
                  <a:pt x="623" y="521"/>
                </a:lnTo>
                <a:lnTo>
                  <a:pt x="629" y="548"/>
                </a:lnTo>
                <a:lnTo>
                  <a:pt x="636" y="569"/>
                </a:lnTo>
                <a:lnTo>
                  <a:pt x="642" y="595"/>
                </a:lnTo>
                <a:lnTo>
                  <a:pt x="649" y="621"/>
                </a:lnTo>
                <a:lnTo>
                  <a:pt x="649" y="641"/>
                </a:lnTo>
                <a:lnTo>
                  <a:pt x="654" y="667"/>
                </a:lnTo>
                <a:lnTo>
                  <a:pt x="661" y="695"/>
                </a:lnTo>
                <a:lnTo>
                  <a:pt x="668" y="721"/>
                </a:lnTo>
                <a:lnTo>
                  <a:pt x="674" y="749"/>
                </a:lnTo>
                <a:lnTo>
                  <a:pt x="674" y="775"/>
                </a:lnTo>
                <a:lnTo>
                  <a:pt x="681" y="801"/>
                </a:lnTo>
                <a:lnTo>
                  <a:pt x="686" y="829"/>
                </a:lnTo>
                <a:lnTo>
                  <a:pt x="693" y="855"/>
                </a:lnTo>
                <a:lnTo>
                  <a:pt x="700" y="888"/>
                </a:lnTo>
                <a:lnTo>
                  <a:pt x="700" y="914"/>
                </a:lnTo>
                <a:lnTo>
                  <a:pt x="706" y="942"/>
                </a:lnTo>
                <a:lnTo>
                  <a:pt x="712" y="968"/>
                </a:lnTo>
                <a:lnTo>
                  <a:pt x="718" y="1002"/>
                </a:lnTo>
                <a:lnTo>
                  <a:pt x="718" y="1029"/>
                </a:lnTo>
                <a:lnTo>
                  <a:pt x="725" y="1061"/>
                </a:lnTo>
                <a:lnTo>
                  <a:pt x="731" y="1089"/>
                </a:lnTo>
                <a:lnTo>
                  <a:pt x="737" y="1115"/>
                </a:lnTo>
                <a:lnTo>
                  <a:pt x="744" y="1148"/>
                </a:lnTo>
                <a:lnTo>
                  <a:pt x="744" y="1176"/>
                </a:lnTo>
                <a:lnTo>
                  <a:pt x="750" y="1209"/>
                </a:lnTo>
                <a:lnTo>
                  <a:pt x="757" y="1235"/>
                </a:lnTo>
                <a:lnTo>
                  <a:pt x="762" y="1269"/>
                </a:lnTo>
                <a:lnTo>
                  <a:pt x="769" y="1295"/>
                </a:lnTo>
                <a:lnTo>
                  <a:pt x="769" y="1328"/>
                </a:lnTo>
                <a:lnTo>
                  <a:pt x="776" y="1362"/>
                </a:lnTo>
                <a:lnTo>
                  <a:pt x="782" y="1389"/>
                </a:lnTo>
                <a:lnTo>
                  <a:pt x="789" y="1423"/>
                </a:lnTo>
                <a:lnTo>
                  <a:pt x="794" y="1449"/>
                </a:lnTo>
                <a:lnTo>
                  <a:pt x="794" y="1483"/>
                </a:lnTo>
                <a:lnTo>
                  <a:pt x="801" y="1516"/>
                </a:lnTo>
                <a:lnTo>
                  <a:pt x="808" y="1542"/>
                </a:lnTo>
                <a:lnTo>
                  <a:pt x="814" y="1575"/>
                </a:lnTo>
                <a:lnTo>
                  <a:pt x="820" y="1603"/>
                </a:lnTo>
                <a:lnTo>
                  <a:pt x="820" y="1637"/>
                </a:lnTo>
                <a:lnTo>
                  <a:pt x="826" y="1670"/>
                </a:lnTo>
                <a:lnTo>
                  <a:pt x="833" y="1696"/>
                </a:lnTo>
                <a:lnTo>
                  <a:pt x="840" y="1729"/>
                </a:lnTo>
                <a:lnTo>
                  <a:pt x="845" y="1756"/>
                </a:lnTo>
                <a:lnTo>
                  <a:pt x="845" y="1789"/>
                </a:lnTo>
                <a:lnTo>
                  <a:pt x="852" y="1817"/>
                </a:lnTo>
                <a:lnTo>
                  <a:pt x="858" y="1850"/>
                </a:lnTo>
                <a:lnTo>
                  <a:pt x="865" y="1876"/>
                </a:lnTo>
                <a:lnTo>
                  <a:pt x="865" y="1910"/>
                </a:lnTo>
                <a:lnTo>
                  <a:pt x="872" y="1897"/>
                </a:lnTo>
                <a:lnTo>
                  <a:pt x="877" y="1869"/>
                </a:lnTo>
                <a:lnTo>
                  <a:pt x="884" y="1836"/>
                </a:lnTo>
                <a:lnTo>
                  <a:pt x="890" y="1809"/>
                </a:lnTo>
                <a:lnTo>
                  <a:pt x="890" y="1783"/>
                </a:lnTo>
                <a:lnTo>
                  <a:pt x="897" y="1750"/>
                </a:lnTo>
                <a:lnTo>
                  <a:pt x="903" y="1722"/>
                </a:lnTo>
                <a:lnTo>
                  <a:pt x="909" y="1696"/>
                </a:lnTo>
                <a:lnTo>
                  <a:pt x="916" y="1670"/>
                </a:lnTo>
                <a:lnTo>
                  <a:pt x="916" y="1642"/>
                </a:lnTo>
                <a:lnTo>
                  <a:pt x="921" y="1616"/>
                </a:lnTo>
                <a:lnTo>
                  <a:pt x="928" y="1589"/>
                </a:lnTo>
                <a:lnTo>
                  <a:pt x="934" y="1562"/>
                </a:lnTo>
                <a:lnTo>
                  <a:pt x="941" y="1536"/>
                </a:lnTo>
                <a:lnTo>
                  <a:pt x="941" y="1509"/>
                </a:lnTo>
                <a:lnTo>
                  <a:pt x="948" y="1483"/>
                </a:lnTo>
                <a:lnTo>
                  <a:pt x="953" y="1456"/>
                </a:lnTo>
                <a:lnTo>
                  <a:pt x="960" y="1429"/>
                </a:lnTo>
                <a:lnTo>
                  <a:pt x="966" y="1408"/>
                </a:lnTo>
                <a:lnTo>
                  <a:pt x="966" y="1382"/>
                </a:lnTo>
                <a:lnTo>
                  <a:pt x="973" y="1362"/>
                </a:lnTo>
                <a:lnTo>
                  <a:pt x="980" y="1336"/>
                </a:lnTo>
                <a:lnTo>
                  <a:pt x="985" y="1315"/>
                </a:lnTo>
                <a:lnTo>
                  <a:pt x="992" y="1289"/>
                </a:lnTo>
                <a:lnTo>
                  <a:pt x="992" y="1269"/>
                </a:lnTo>
                <a:lnTo>
                  <a:pt x="998" y="1248"/>
                </a:lnTo>
                <a:lnTo>
                  <a:pt x="1004" y="1222"/>
                </a:lnTo>
                <a:lnTo>
                  <a:pt x="1011" y="1202"/>
                </a:lnTo>
                <a:lnTo>
                  <a:pt x="1017" y="1182"/>
                </a:lnTo>
                <a:lnTo>
                  <a:pt x="1017" y="1161"/>
                </a:lnTo>
                <a:lnTo>
                  <a:pt x="1024" y="1143"/>
                </a:lnTo>
                <a:lnTo>
                  <a:pt x="1029" y="1122"/>
                </a:lnTo>
                <a:lnTo>
                  <a:pt x="1036" y="1109"/>
                </a:lnTo>
                <a:lnTo>
                  <a:pt x="1036" y="1089"/>
                </a:lnTo>
                <a:lnTo>
                  <a:pt x="1043" y="1068"/>
                </a:lnTo>
                <a:lnTo>
                  <a:pt x="1049" y="1055"/>
                </a:lnTo>
                <a:lnTo>
                  <a:pt x="1056" y="1035"/>
                </a:lnTo>
                <a:lnTo>
                  <a:pt x="1061" y="1022"/>
                </a:lnTo>
                <a:lnTo>
                  <a:pt x="1061" y="1002"/>
                </a:lnTo>
                <a:lnTo>
                  <a:pt x="1068" y="988"/>
                </a:lnTo>
                <a:lnTo>
                  <a:pt x="1075" y="975"/>
                </a:lnTo>
                <a:lnTo>
                  <a:pt x="1081" y="962"/>
                </a:lnTo>
                <a:lnTo>
                  <a:pt x="1088" y="948"/>
                </a:lnTo>
                <a:lnTo>
                  <a:pt x="1088" y="935"/>
                </a:lnTo>
                <a:lnTo>
                  <a:pt x="1093" y="922"/>
                </a:lnTo>
                <a:lnTo>
                  <a:pt x="1100" y="908"/>
                </a:lnTo>
                <a:lnTo>
                  <a:pt x="1107" y="895"/>
                </a:lnTo>
                <a:lnTo>
                  <a:pt x="1112" y="881"/>
                </a:lnTo>
                <a:lnTo>
                  <a:pt x="1112" y="875"/>
                </a:lnTo>
                <a:lnTo>
                  <a:pt x="1119" y="862"/>
                </a:lnTo>
                <a:lnTo>
                  <a:pt x="1125" y="855"/>
                </a:lnTo>
                <a:lnTo>
                  <a:pt x="1132" y="847"/>
                </a:lnTo>
                <a:lnTo>
                  <a:pt x="1137" y="834"/>
                </a:lnTo>
                <a:lnTo>
                  <a:pt x="1137" y="829"/>
                </a:lnTo>
                <a:lnTo>
                  <a:pt x="1144" y="821"/>
                </a:lnTo>
                <a:lnTo>
                  <a:pt x="1151" y="815"/>
                </a:lnTo>
                <a:lnTo>
                  <a:pt x="1157" y="808"/>
                </a:lnTo>
                <a:lnTo>
                  <a:pt x="1164" y="801"/>
                </a:lnTo>
                <a:lnTo>
                  <a:pt x="1169" y="795"/>
                </a:lnTo>
                <a:lnTo>
                  <a:pt x="1176" y="788"/>
                </a:lnTo>
                <a:lnTo>
                  <a:pt x="1183" y="782"/>
                </a:lnTo>
                <a:lnTo>
                  <a:pt x="1189" y="782"/>
                </a:lnTo>
                <a:lnTo>
                  <a:pt x="1196" y="782"/>
                </a:lnTo>
                <a:lnTo>
                  <a:pt x="1201" y="775"/>
                </a:lnTo>
                <a:lnTo>
                  <a:pt x="1208" y="775"/>
                </a:lnTo>
                <a:lnTo>
                  <a:pt x="1215" y="775"/>
                </a:lnTo>
                <a:lnTo>
                  <a:pt x="1220" y="782"/>
                </a:lnTo>
                <a:lnTo>
                  <a:pt x="1227" y="782"/>
                </a:lnTo>
                <a:lnTo>
                  <a:pt x="1233" y="782"/>
                </a:lnTo>
                <a:lnTo>
                  <a:pt x="1240" y="788"/>
                </a:lnTo>
                <a:lnTo>
                  <a:pt x="1247" y="788"/>
                </a:lnTo>
                <a:lnTo>
                  <a:pt x="1252" y="795"/>
                </a:lnTo>
                <a:lnTo>
                  <a:pt x="1259" y="801"/>
                </a:lnTo>
                <a:lnTo>
                  <a:pt x="1265" y="808"/>
                </a:lnTo>
                <a:lnTo>
                  <a:pt x="1272" y="815"/>
                </a:lnTo>
                <a:lnTo>
                  <a:pt x="1279" y="821"/>
                </a:lnTo>
                <a:lnTo>
                  <a:pt x="1284" y="829"/>
                </a:lnTo>
                <a:lnTo>
                  <a:pt x="1284" y="842"/>
                </a:lnTo>
                <a:lnTo>
                  <a:pt x="1291" y="847"/>
                </a:lnTo>
                <a:lnTo>
                  <a:pt x="1297" y="855"/>
                </a:lnTo>
                <a:lnTo>
                  <a:pt x="1304" y="862"/>
                </a:lnTo>
                <a:lnTo>
                  <a:pt x="1310" y="875"/>
                </a:lnTo>
                <a:lnTo>
                  <a:pt x="1310" y="881"/>
                </a:lnTo>
                <a:lnTo>
                  <a:pt x="1316" y="895"/>
                </a:lnTo>
                <a:lnTo>
                  <a:pt x="1323" y="908"/>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740120" y="3468600"/>
            <a:ext cx="1897200" cy="1587600"/>
          </a:xfrm>
          <a:custGeom>
            <a:avLst/>
            <a:gdLst/>
            <a:ahLst/>
            <a:rect l="l" t="t" r="r" b="b"/>
            <a:pathLst>
              <a:path w="1195" h="1000">
                <a:moveTo>
                  <a:pt x="0" y="0"/>
                </a:moveTo>
                <a:lnTo>
                  <a:pt x="5" y="6"/>
                </a:lnTo>
                <a:lnTo>
                  <a:pt x="12" y="20"/>
                </a:lnTo>
                <a:lnTo>
                  <a:pt x="12" y="33"/>
                </a:lnTo>
                <a:lnTo>
                  <a:pt x="18" y="46"/>
                </a:lnTo>
                <a:lnTo>
                  <a:pt x="25" y="59"/>
                </a:lnTo>
                <a:lnTo>
                  <a:pt x="32" y="72"/>
                </a:lnTo>
                <a:lnTo>
                  <a:pt x="32" y="87"/>
                </a:lnTo>
                <a:lnTo>
                  <a:pt x="37" y="100"/>
                </a:lnTo>
                <a:lnTo>
                  <a:pt x="44" y="113"/>
                </a:lnTo>
                <a:lnTo>
                  <a:pt x="50" y="126"/>
                </a:lnTo>
                <a:lnTo>
                  <a:pt x="57" y="146"/>
                </a:lnTo>
                <a:lnTo>
                  <a:pt x="57" y="159"/>
                </a:lnTo>
                <a:lnTo>
                  <a:pt x="64" y="172"/>
                </a:lnTo>
                <a:lnTo>
                  <a:pt x="69" y="193"/>
                </a:lnTo>
                <a:lnTo>
                  <a:pt x="76" y="206"/>
                </a:lnTo>
                <a:lnTo>
                  <a:pt x="82" y="226"/>
                </a:lnTo>
                <a:lnTo>
                  <a:pt x="82" y="247"/>
                </a:lnTo>
                <a:lnTo>
                  <a:pt x="89" y="260"/>
                </a:lnTo>
                <a:lnTo>
                  <a:pt x="95" y="280"/>
                </a:lnTo>
                <a:lnTo>
                  <a:pt x="101" y="300"/>
                </a:lnTo>
                <a:lnTo>
                  <a:pt x="108" y="313"/>
                </a:lnTo>
                <a:lnTo>
                  <a:pt x="108" y="334"/>
                </a:lnTo>
                <a:lnTo>
                  <a:pt x="113" y="353"/>
                </a:lnTo>
                <a:lnTo>
                  <a:pt x="120" y="373"/>
                </a:lnTo>
                <a:lnTo>
                  <a:pt x="127" y="393"/>
                </a:lnTo>
                <a:lnTo>
                  <a:pt x="133" y="414"/>
                </a:lnTo>
                <a:lnTo>
                  <a:pt x="133" y="432"/>
                </a:lnTo>
                <a:lnTo>
                  <a:pt x="140" y="453"/>
                </a:lnTo>
                <a:lnTo>
                  <a:pt x="145" y="473"/>
                </a:lnTo>
                <a:lnTo>
                  <a:pt x="152" y="493"/>
                </a:lnTo>
                <a:lnTo>
                  <a:pt x="159" y="514"/>
                </a:lnTo>
                <a:lnTo>
                  <a:pt x="159" y="533"/>
                </a:lnTo>
                <a:lnTo>
                  <a:pt x="165" y="560"/>
                </a:lnTo>
                <a:lnTo>
                  <a:pt x="172" y="579"/>
                </a:lnTo>
                <a:lnTo>
                  <a:pt x="177" y="599"/>
                </a:lnTo>
                <a:lnTo>
                  <a:pt x="177" y="620"/>
                </a:lnTo>
                <a:lnTo>
                  <a:pt x="184" y="640"/>
                </a:lnTo>
                <a:lnTo>
                  <a:pt x="191" y="666"/>
                </a:lnTo>
                <a:lnTo>
                  <a:pt x="197" y="686"/>
                </a:lnTo>
                <a:lnTo>
                  <a:pt x="204" y="707"/>
                </a:lnTo>
                <a:lnTo>
                  <a:pt x="204" y="733"/>
                </a:lnTo>
                <a:lnTo>
                  <a:pt x="209" y="753"/>
                </a:lnTo>
                <a:lnTo>
                  <a:pt x="216" y="774"/>
                </a:lnTo>
                <a:lnTo>
                  <a:pt x="221" y="793"/>
                </a:lnTo>
                <a:lnTo>
                  <a:pt x="228" y="820"/>
                </a:lnTo>
                <a:lnTo>
                  <a:pt x="228" y="840"/>
                </a:lnTo>
                <a:lnTo>
                  <a:pt x="235" y="859"/>
                </a:lnTo>
                <a:lnTo>
                  <a:pt x="241" y="887"/>
                </a:lnTo>
                <a:lnTo>
                  <a:pt x="248" y="907"/>
                </a:lnTo>
                <a:lnTo>
                  <a:pt x="253" y="926"/>
                </a:lnTo>
                <a:lnTo>
                  <a:pt x="253" y="954"/>
                </a:lnTo>
                <a:lnTo>
                  <a:pt x="260" y="974"/>
                </a:lnTo>
                <a:lnTo>
                  <a:pt x="267" y="993"/>
                </a:lnTo>
                <a:lnTo>
                  <a:pt x="273" y="993"/>
                </a:lnTo>
                <a:lnTo>
                  <a:pt x="280" y="974"/>
                </a:lnTo>
                <a:lnTo>
                  <a:pt x="280" y="954"/>
                </a:lnTo>
                <a:lnTo>
                  <a:pt x="285" y="933"/>
                </a:lnTo>
                <a:lnTo>
                  <a:pt x="292" y="907"/>
                </a:lnTo>
                <a:lnTo>
                  <a:pt x="299" y="887"/>
                </a:lnTo>
                <a:lnTo>
                  <a:pt x="305" y="867"/>
                </a:lnTo>
                <a:lnTo>
                  <a:pt x="305" y="846"/>
                </a:lnTo>
                <a:lnTo>
                  <a:pt x="311" y="826"/>
                </a:lnTo>
                <a:lnTo>
                  <a:pt x="317" y="800"/>
                </a:lnTo>
                <a:lnTo>
                  <a:pt x="324" y="779"/>
                </a:lnTo>
                <a:lnTo>
                  <a:pt x="331" y="761"/>
                </a:lnTo>
                <a:lnTo>
                  <a:pt x="331" y="740"/>
                </a:lnTo>
                <a:lnTo>
                  <a:pt x="336" y="720"/>
                </a:lnTo>
                <a:lnTo>
                  <a:pt x="343" y="700"/>
                </a:lnTo>
                <a:lnTo>
                  <a:pt x="349" y="679"/>
                </a:lnTo>
                <a:lnTo>
                  <a:pt x="349" y="660"/>
                </a:lnTo>
                <a:lnTo>
                  <a:pt x="356" y="640"/>
                </a:lnTo>
                <a:lnTo>
                  <a:pt x="363" y="620"/>
                </a:lnTo>
                <a:lnTo>
                  <a:pt x="368" y="607"/>
                </a:lnTo>
                <a:lnTo>
                  <a:pt x="375" y="586"/>
                </a:lnTo>
                <a:lnTo>
                  <a:pt x="375" y="566"/>
                </a:lnTo>
                <a:lnTo>
                  <a:pt x="381" y="547"/>
                </a:lnTo>
                <a:lnTo>
                  <a:pt x="388" y="533"/>
                </a:lnTo>
                <a:lnTo>
                  <a:pt x="395" y="514"/>
                </a:lnTo>
                <a:lnTo>
                  <a:pt x="400" y="499"/>
                </a:lnTo>
                <a:lnTo>
                  <a:pt x="400" y="480"/>
                </a:lnTo>
                <a:lnTo>
                  <a:pt x="407" y="460"/>
                </a:lnTo>
                <a:lnTo>
                  <a:pt x="413" y="447"/>
                </a:lnTo>
                <a:lnTo>
                  <a:pt x="420" y="432"/>
                </a:lnTo>
                <a:lnTo>
                  <a:pt x="425" y="414"/>
                </a:lnTo>
                <a:lnTo>
                  <a:pt x="425" y="399"/>
                </a:lnTo>
                <a:lnTo>
                  <a:pt x="432" y="386"/>
                </a:lnTo>
                <a:lnTo>
                  <a:pt x="439" y="373"/>
                </a:lnTo>
                <a:lnTo>
                  <a:pt x="445" y="353"/>
                </a:lnTo>
                <a:lnTo>
                  <a:pt x="451" y="339"/>
                </a:lnTo>
                <a:lnTo>
                  <a:pt x="451" y="326"/>
                </a:lnTo>
                <a:lnTo>
                  <a:pt x="457" y="313"/>
                </a:lnTo>
                <a:lnTo>
                  <a:pt x="464" y="300"/>
                </a:lnTo>
                <a:lnTo>
                  <a:pt x="471" y="286"/>
                </a:lnTo>
                <a:lnTo>
                  <a:pt x="476" y="280"/>
                </a:lnTo>
                <a:lnTo>
                  <a:pt x="476" y="267"/>
                </a:lnTo>
                <a:lnTo>
                  <a:pt x="483" y="252"/>
                </a:lnTo>
                <a:lnTo>
                  <a:pt x="489" y="247"/>
                </a:lnTo>
                <a:lnTo>
                  <a:pt x="496" y="234"/>
                </a:lnTo>
                <a:lnTo>
                  <a:pt x="496" y="219"/>
                </a:lnTo>
                <a:lnTo>
                  <a:pt x="503" y="213"/>
                </a:lnTo>
                <a:lnTo>
                  <a:pt x="508" y="206"/>
                </a:lnTo>
                <a:lnTo>
                  <a:pt x="515" y="193"/>
                </a:lnTo>
                <a:lnTo>
                  <a:pt x="521" y="186"/>
                </a:lnTo>
                <a:lnTo>
                  <a:pt x="521" y="180"/>
                </a:lnTo>
                <a:lnTo>
                  <a:pt x="528" y="172"/>
                </a:lnTo>
                <a:lnTo>
                  <a:pt x="534" y="167"/>
                </a:lnTo>
                <a:lnTo>
                  <a:pt x="540" y="159"/>
                </a:lnTo>
                <a:lnTo>
                  <a:pt x="547" y="152"/>
                </a:lnTo>
                <a:lnTo>
                  <a:pt x="547" y="146"/>
                </a:lnTo>
                <a:lnTo>
                  <a:pt x="553" y="139"/>
                </a:lnTo>
                <a:lnTo>
                  <a:pt x="559" y="133"/>
                </a:lnTo>
                <a:lnTo>
                  <a:pt x="566" y="126"/>
                </a:lnTo>
                <a:lnTo>
                  <a:pt x="572" y="120"/>
                </a:lnTo>
                <a:lnTo>
                  <a:pt x="579" y="120"/>
                </a:lnTo>
                <a:lnTo>
                  <a:pt x="584" y="113"/>
                </a:lnTo>
                <a:lnTo>
                  <a:pt x="591" y="113"/>
                </a:lnTo>
                <a:lnTo>
                  <a:pt x="598" y="113"/>
                </a:lnTo>
                <a:lnTo>
                  <a:pt x="604" y="106"/>
                </a:lnTo>
                <a:lnTo>
                  <a:pt x="611" y="106"/>
                </a:lnTo>
                <a:lnTo>
                  <a:pt x="616" y="106"/>
                </a:lnTo>
                <a:lnTo>
                  <a:pt x="623" y="106"/>
                </a:lnTo>
                <a:lnTo>
                  <a:pt x="629" y="113"/>
                </a:lnTo>
                <a:lnTo>
                  <a:pt x="636" y="113"/>
                </a:lnTo>
                <a:lnTo>
                  <a:pt x="643" y="113"/>
                </a:lnTo>
                <a:lnTo>
                  <a:pt x="648" y="120"/>
                </a:lnTo>
                <a:lnTo>
                  <a:pt x="655" y="120"/>
                </a:lnTo>
                <a:lnTo>
                  <a:pt x="661" y="126"/>
                </a:lnTo>
                <a:lnTo>
                  <a:pt x="668" y="133"/>
                </a:lnTo>
                <a:lnTo>
                  <a:pt x="674" y="139"/>
                </a:lnTo>
                <a:lnTo>
                  <a:pt x="680" y="146"/>
                </a:lnTo>
                <a:lnTo>
                  <a:pt x="687" y="152"/>
                </a:lnTo>
                <a:lnTo>
                  <a:pt x="692" y="159"/>
                </a:lnTo>
                <a:lnTo>
                  <a:pt x="692" y="167"/>
                </a:lnTo>
                <a:lnTo>
                  <a:pt x="699" y="172"/>
                </a:lnTo>
                <a:lnTo>
                  <a:pt x="706" y="180"/>
                </a:lnTo>
                <a:lnTo>
                  <a:pt x="712" y="186"/>
                </a:lnTo>
                <a:lnTo>
                  <a:pt x="719" y="193"/>
                </a:lnTo>
                <a:lnTo>
                  <a:pt x="719" y="200"/>
                </a:lnTo>
                <a:lnTo>
                  <a:pt x="724" y="213"/>
                </a:lnTo>
                <a:lnTo>
                  <a:pt x="731" y="219"/>
                </a:lnTo>
                <a:lnTo>
                  <a:pt x="738" y="234"/>
                </a:lnTo>
                <a:lnTo>
                  <a:pt x="744" y="239"/>
                </a:lnTo>
                <a:lnTo>
                  <a:pt x="744" y="252"/>
                </a:lnTo>
                <a:lnTo>
                  <a:pt x="751" y="260"/>
                </a:lnTo>
                <a:lnTo>
                  <a:pt x="756" y="273"/>
                </a:lnTo>
                <a:lnTo>
                  <a:pt x="763" y="280"/>
                </a:lnTo>
                <a:lnTo>
                  <a:pt x="770" y="293"/>
                </a:lnTo>
                <a:lnTo>
                  <a:pt x="770" y="306"/>
                </a:lnTo>
                <a:lnTo>
                  <a:pt x="776" y="319"/>
                </a:lnTo>
                <a:lnTo>
                  <a:pt x="782" y="334"/>
                </a:lnTo>
                <a:lnTo>
                  <a:pt x="788" y="347"/>
                </a:lnTo>
                <a:lnTo>
                  <a:pt x="795" y="360"/>
                </a:lnTo>
                <a:lnTo>
                  <a:pt x="795" y="373"/>
                </a:lnTo>
                <a:lnTo>
                  <a:pt x="802" y="386"/>
                </a:lnTo>
                <a:lnTo>
                  <a:pt x="807" y="399"/>
                </a:lnTo>
                <a:lnTo>
                  <a:pt x="814" y="414"/>
                </a:lnTo>
                <a:lnTo>
                  <a:pt x="814" y="427"/>
                </a:lnTo>
                <a:lnTo>
                  <a:pt x="820" y="440"/>
                </a:lnTo>
                <a:lnTo>
                  <a:pt x="827" y="460"/>
                </a:lnTo>
                <a:lnTo>
                  <a:pt x="832" y="473"/>
                </a:lnTo>
                <a:lnTo>
                  <a:pt x="839" y="486"/>
                </a:lnTo>
                <a:lnTo>
                  <a:pt x="839" y="506"/>
                </a:lnTo>
                <a:lnTo>
                  <a:pt x="846" y="519"/>
                </a:lnTo>
                <a:lnTo>
                  <a:pt x="852" y="533"/>
                </a:lnTo>
                <a:lnTo>
                  <a:pt x="859" y="553"/>
                </a:lnTo>
                <a:lnTo>
                  <a:pt x="864" y="566"/>
                </a:lnTo>
                <a:lnTo>
                  <a:pt x="864" y="586"/>
                </a:lnTo>
                <a:lnTo>
                  <a:pt x="871" y="599"/>
                </a:lnTo>
                <a:lnTo>
                  <a:pt x="878" y="620"/>
                </a:lnTo>
                <a:lnTo>
                  <a:pt x="884" y="633"/>
                </a:lnTo>
                <a:lnTo>
                  <a:pt x="891" y="653"/>
                </a:lnTo>
                <a:lnTo>
                  <a:pt x="891" y="673"/>
                </a:lnTo>
                <a:lnTo>
                  <a:pt x="896" y="686"/>
                </a:lnTo>
                <a:lnTo>
                  <a:pt x="903" y="707"/>
                </a:lnTo>
                <a:lnTo>
                  <a:pt x="910" y="727"/>
                </a:lnTo>
                <a:lnTo>
                  <a:pt x="916" y="740"/>
                </a:lnTo>
                <a:lnTo>
                  <a:pt x="916" y="761"/>
                </a:lnTo>
                <a:lnTo>
                  <a:pt x="922" y="779"/>
                </a:lnTo>
                <a:lnTo>
                  <a:pt x="928" y="793"/>
                </a:lnTo>
                <a:lnTo>
                  <a:pt x="935" y="813"/>
                </a:lnTo>
                <a:lnTo>
                  <a:pt x="942" y="833"/>
                </a:lnTo>
                <a:lnTo>
                  <a:pt x="942" y="853"/>
                </a:lnTo>
                <a:lnTo>
                  <a:pt x="947" y="867"/>
                </a:lnTo>
                <a:lnTo>
                  <a:pt x="954" y="887"/>
                </a:lnTo>
                <a:lnTo>
                  <a:pt x="960" y="907"/>
                </a:lnTo>
                <a:lnTo>
                  <a:pt x="960" y="926"/>
                </a:lnTo>
                <a:lnTo>
                  <a:pt x="967" y="941"/>
                </a:lnTo>
                <a:lnTo>
                  <a:pt x="974" y="960"/>
                </a:lnTo>
                <a:lnTo>
                  <a:pt x="979" y="980"/>
                </a:lnTo>
                <a:lnTo>
                  <a:pt x="986" y="1000"/>
                </a:lnTo>
                <a:lnTo>
                  <a:pt x="992" y="980"/>
                </a:lnTo>
                <a:lnTo>
                  <a:pt x="999" y="960"/>
                </a:lnTo>
                <a:lnTo>
                  <a:pt x="1005" y="946"/>
                </a:lnTo>
                <a:lnTo>
                  <a:pt x="1011" y="926"/>
                </a:lnTo>
                <a:lnTo>
                  <a:pt x="1011" y="907"/>
                </a:lnTo>
                <a:lnTo>
                  <a:pt x="1018" y="887"/>
                </a:lnTo>
                <a:lnTo>
                  <a:pt x="1023" y="874"/>
                </a:lnTo>
                <a:lnTo>
                  <a:pt x="1030" y="853"/>
                </a:lnTo>
                <a:lnTo>
                  <a:pt x="1036" y="840"/>
                </a:lnTo>
                <a:lnTo>
                  <a:pt x="1036" y="820"/>
                </a:lnTo>
                <a:lnTo>
                  <a:pt x="1043" y="800"/>
                </a:lnTo>
                <a:lnTo>
                  <a:pt x="1050" y="787"/>
                </a:lnTo>
                <a:lnTo>
                  <a:pt x="1055" y="766"/>
                </a:lnTo>
                <a:lnTo>
                  <a:pt x="1062" y="753"/>
                </a:lnTo>
                <a:lnTo>
                  <a:pt x="1062" y="733"/>
                </a:lnTo>
                <a:lnTo>
                  <a:pt x="1068" y="720"/>
                </a:lnTo>
                <a:lnTo>
                  <a:pt x="1075" y="700"/>
                </a:lnTo>
                <a:lnTo>
                  <a:pt x="1082" y="686"/>
                </a:lnTo>
                <a:lnTo>
                  <a:pt x="1087" y="666"/>
                </a:lnTo>
                <a:lnTo>
                  <a:pt x="1087" y="653"/>
                </a:lnTo>
                <a:lnTo>
                  <a:pt x="1094" y="640"/>
                </a:lnTo>
                <a:lnTo>
                  <a:pt x="1100" y="620"/>
                </a:lnTo>
                <a:lnTo>
                  <a:pt x="1107" y="607"/>
                </a:lnTo>
                <a:lnTo>
                  <a:pt x="1114" y="594"/>
                </a:lnTo>
                <a:lnTo>
                  <a:pt x="1114" y="579"/>
                </a:lnTo>
                <a:lnTo>
                  <a:pt x="1119" y="566"/>
                </a:lnTo>
                <a:lnTo>
                  <a:pt x="1126" y="547"/>
                </a:lnTo>
                <a:lnTo>
                  <a:pt x="1132" y="533"/>
                </a:lnTo>
                <a:lnTo>
                  <a:pt x="1132" y="519"/>
                </a:lnTo>
                <a:lnTo>
                  <a:pt x="1138" y="506"/>
                </a:lnTo>
                <a:lnTo>
                  <a:pt x="1145" y="493"/>
                </a:lnTo>
                <a:lnTo>
                  <a:pt x="1151" y="480"/>
                </a:lnTo>
                <a:lnTo>
                  <a:pt x="1158" y="466"/>
                </a:lnTo>
                <a:lnTo>
                  <a:pt x="1158" y="460"/>
                </a:lnTo>
                <a:lnTo>
                  <a:pt x="1163" y="447"/>
                </a:lnTo>
                <a:lnTo>
                  <a:pt x="1170" y="432"/>
                </a:lnTo>
                <a:lnTo>
                  <a:pt x="1177" y="419"/>
                </a:lnTo>
                <a:lnTo>
                  <a:pt x="1183" y="414"/>
                </a:lnTo>
                <a:lnTo>
                  <a:pt x="1183" y="399"/>
                </a:lnTo>
                <a:lnTo>
                  <a:pt x="1190" y="386"/>
                </a:lnTo>
                <a:lnTo>
                  <a:pt x="1195" y="380"/>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018680" y="543708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equency, MHz</a:t>
            </a:r>
            <a:endParaRPr b="0" lang="en-US" sz="1500" spc="-1" strike="noStrike">
              <a:solidFill>
                <a:srgbClr val="000000"/>
              </a:solidFill>
              <a:latin typeface="Times New Roman"/>
            </a:endParaRPr>
          </a:p>
        </p:txBody>
      </p:sp>
      <p:sp>
        <p:nvSpPr>
          <p:cNvPr id="811"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974880" y="957240"/>
            <a:ext cx="7407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the Kirchoff approximation and MOOT for a 0.381 mm radius circular crack at an incident angle of 45 degrees (pulse-echo) </a:t>
            </a:r>
            <a:endParaRPr b="0" lang="en-US" sz="2400" spc="-1" strike="noStrike">
              <a:solidFill>
                <a:srgbClr val="000000"/>
              </a:solidFill>
              <a:latin typeface="Times New Roman"/>
            </a:endParaRPr>
          </a:p>
        </p:txBody>
      </p:sp>
      <p:sp>
        <p:nvSpPr>
          <p:cNvPr id="814" name=""/>
          <p:cNvSpPr/>
          <p:nvPr/>
        </p:nvSpPr>
        <p:spPr>
          <a:xfrm>
            <a:off x="2077920" y="2665440"/>
            <a:ext cx="4199040" cy="3319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077920" y="2665440"/>
            <a:ext cx="4199040" cy="33195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077920" y="2665440"/>
            <a:ext cx="419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2077920" y="5985000"/>
            <a:ext cx="419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flipV="1">
            <a:off x="6276960" y="2665080"/>
            <a:ext cx="1440" cy="331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2077920" y="2665080"/>
            <a:ext cx="1800" cy="331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077920" y="5985000"/>
            <a:ext cx="419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
          <p:cNvSpPr/>
          <p:nvPr/>
        </p:nvSpPr>
        <p:spPr>
          <a:xfrm flipV="1">
            <a:off x="2077920" y="2665080"/>
            <a:ext cx="1800" cy="331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2077920" y="5941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3" name=""/>
          <p:cNvSpPr/>
          <p:nvPr/>
        </p:nvSpPr>
        <p:spPr>
          <a:xfrm>
            <a:off x="2077920" y="2665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2055600" y="606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flipV="1">
            <a:off x="2917800" y="5941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6" name=""/>
          <p:cNvSpPr/>
          <p:nvPr/>
        </p:nvSpPr>
        <p:spPr>
          <a:xfrm>
            <a:off x="2917800" y="2665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7" name=""/>
          <p:cNvSpPr/>
          <p:nvPr/>
        </p:nvSpPr>
        <p:spPr>
          <a:xfrm>
            <a:off x="2895120" y="606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828" name=""/>
          <p:cNvSpPr/>
          <p:nvPr/>
        </p:nvSpPr>
        <p:spPr>
          <a:xfrm flipV="1">
            <a:off x="3757680" y="5941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9" name=""/>
          <p:cNvSpPr/>
          <p:nvPr/>
        </p:nvSpPr>
        <p:spPr>
          <a:xfrm>
            <a:off x="3757680" y="2665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0" name=""/>
          <p:cNvSpPr/>
          <p:nvPr/>
        </p:nvSpPr>
        <p:spPr>
          <a:xfrm>
            <a:off x="3708000" y="606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831" name=""/>
          <p:cNvSpPr/>
          <p:nvPr/>
        </p:nvSpPr>
        <p:spPr>
          <a:xfrm flipV="1">
            <a:off x="4597560" y="5941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2" name=""/>
          <p:cNvSpPr/>
          <p:nvPr/>
        </p:nvSpPr>
        <p:spPr>
          <a:xfrm>
            <a:off x="4597560" y="2665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3" name=""/>
          <p:cNvSpPr/>
          <p:nvPr/>
        </p:nvSpPr>
        <p:spPr>
          <a:xfrm>
            <a:off x="4547880" y="606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834" name=""/>
          <p:cNvSpPr/>
          <p:nvPr/>
        </p:nvSpPr>
        <p:spPr>
          <a:xfrm flipV="1">
            <a:off x="5437080" y="5941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5437080" y="2665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6" name=""/>
          <p:cNvSpPr/>
          <p:nvPr/>
        </p:nvSpPr>
        <p:spPr>
          <a:xfrm>
            <a:off x="5387760" y="606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837" name=""/>
          <p:cNvSpPr/>
          <p:nvPr/>
        </p:nvSpPr>
        <p:spPr>
          <a:xfrm flipV="1">
            <a:off x="6276960" y="5941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 name=""/>
          <p:cNvSpPr/>
          <p:nvPr/>
        </p:nvSpPr>
        <p:spPr>
          <a:xfrm>
            <a:off x="6276960" y="2665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9" name=""/>
          <p:cNvSpPr/>
          <p:nvPr/>
        </p:nvSpPr>
        <p:spPr>
          <a:xfrm>
            <a:off x="6227280" y="606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840" name=""/>
          <p:cNvSpPr/>
          <p:nvPr/>
        </p:nvSpPr>
        <p:spPr>
          <a:xfrm>
            <a:off x="2077920" y="59850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flipH="1">
            <a:off x="6235200" y="598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1914120" y="5927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43" name=""/>
          <p:cNvSpPr/>
          <p:nvPr/>
        </p:nvSpPr>
        <p:spPr>
          <a:xfrm>
            <a:off x="2077920" y="53211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flipH="1">
            <a:off x="6235200" y="53211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1786680" y="52642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5</a:t>
            </a:r>
            <a:endParaRPr b="0" lang="en-US" sz="1000" spc="-1" strike="noStrike">
              <a:solidFill>
                <a:srgbClr val="000000"/>
              </a:solidFill>
              <a:latin typeface="Times New Roman"/>
            </a:endParaRPr>
          </a:p>
        </p:txBody>
      </p:sp>
      <p:sp>
        <p:nvSpPr>
          <p:cNvPr id="846" name=""/>
          <p:cNvSpPr/>
          <p:nvPr/>
        </p:nvSpPr>
        <p:spPr>
          <a:xfrm>
            <a:off x="2077920" y="465768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flipH="1">
            <a:off x="6235200" y="4657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a:off x="1836000" y="4600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849" name=""/>
          <p:cNvSpPr/>
          <p:nvPr/>
        </p:nvSpPr>
        <p:spPr>
          <a:xfrm>
            <a:off x="2077920" y="39862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flipH="1">
            <a:off x="6235200" y="39862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1786680" y="39290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5</a:t>
            </a:r>
            <a:endParaRPr b="0" lang="en-US" sz="1000" spc="-1" strike="noStrike">
              <a:solidFill>
                <a:srgbClr val="000000"/>
              </a:solidFill>
              <a:latin typeface="Times New Roman"/>
            </a:endParaRPr>
          </a:p>
        </p:txBody>
      </p:sp>
      <p:sp>
        <p:nvSpPr>
          <p:cNvPr id="852" name=""/>
          <p:cNvSpPr/>
          <p:nvPr/>
        </p:nvSpPr>
        <p:spPr>
          <a:xfrm>
            <a:off x="2077920" y="33289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H="1">
            <a:off x="6235200" y="33289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1836000" y="3273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855" name=""/>
          <p:cNvSpPr/>
          <p:nvPr/>
        </p:nvSpPr>
        <p:spPr>
          <a:xfrm>
            <a:off x="2077920" y="2665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flipH="1">
            <a:off x="6235200" y="2665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1786680" y="26100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a:t>
            </a:r>
            <a:endParaRPr b="0" lang="en-US" sz="1000" spc="-1" strike="noStrike">
              <a:solidFill>
                <a:srgbClr val="000000"/>
              </a:solidFill>
              <a:latin typeface="Times New Roman"/>
            </a:endParaRPr>
          </a:p>
        </p:txBody>
      </p:sp>
      <p:sp>
        <p:nvSpPr>
          <p:cNvPr id="858" name=""/>
          <p:cNvSpPr/>
          <p:nvPr/>
        </p:nvSpPr>
        <p:spPr>
          <a:xfrm>
            <a:off x="2077920" y="2665440"/>
            <a:ext cx="419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077920" y="5985000"/>
            <a:ext cx="419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flipV="1">
            <a:off x="6276960" y="2665080"/>
            <a:ext cx="1440" cy="331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2077920" y="2665080"/>
            <a:ext cx="1800" cy="331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077920" y="4248000"/>
            <a:ext cx="563760" cy="1737000"/>
          </a:xfrm>
          <a:custGeom>
            <a:avLst/>
            <a:gdLst/>
            <a:ahLst/>
            <a:rect l="l" t="t" r="r" b="b"/>
            <a:pathLst>
              <a:path w="355" h="1094">
                <a:moveTo>
                  <a:pt x="0" y="1094"/>
                </a:moveTo>
                <a:lnTo>
                  <a:pt x="0" y="1080"/>
                </a:lnTo>
                <a:lnTo>
                  <a:pt x="4" y="1067"/>
                </a:lnTo>
                <a:lnTo>
                  <a:pt x="4" y="1058"/>
                </a:lnTo>
                <a:lnTo>
                  <a:pt x="9" y="1045"/>
                </a:lnTo>
                <a:lnTo>
                  <a:pt x="9" y="1032"/>
                </a:lnTo>
                <a:lnTo>
                  <a:pt x="13" y="1023"/>
                </a:lnTo>
                <a:lnTo>
                  <a:pt x="17" y="1009"/>
                </a:lnTo>
                <a:lnTo>
                  <a:pt x="17" y="996"/>
                </a:lnTo>
                <a:lnTo>
                  <a:pt x="22" y="987"/>
                </a:lnTo>
                <a:lnTo>
                  <a:pt x="22" y="974"/>
                </a:lnTo>
                <a:lnTo>
                  <a:pt x="26" y="960"/>
                </a:lnTo>
                <a:lnTo>
                  <a:pt x="31" y="951"/>
                </a:lnTo>
                <a:lnTo>
                  <a:pt x="31" y="938"/>
                </a:lnTo>
                <a:lnTo>
                  <a:pt x="35" y="929"/>
                </a:lnTo>
                <a:lnTo>
                  <a:pt x="35" y="916"/>
                </a:lnTo>
                <a:lnTo>
                  <a:pt x="40" y="903"/>
                </a:lnTo>
                <a:lnTo>
                  <a:pt x="44" y="894"/>
                </a:lnTo>
                <a:lnTo>
                  <a:pt x="44" y="880"/>
                </a:lnTo>
                <a:lnTo>
                  <a:pt x="49" y="867"/>
                </a:lnTo>
                <a:lnTo>
                  <a:pt x="49" y="858"/>
                </a:lnTo>
                <a:lnTo>
                  <a:pt x="53" y="845"/>
                </a:lnTo>
                <a:lnTo>
                  <a:pt x="57" y="836"/>
                </a:lnTo>
                <a:lnTo>
                  <a:pt x="57" y="822"/>
                </a:lnTo>
                <a:lnTo>
                  <a:pt x="62" y="814"/>
                </a:lnTo>
                <a:lnTo>
                  <a:pt x="62" y="800"/>
                </a:lnTo>
                <a:lnTo>
                  <a:pt x="66" y="787"/>
                </a:lnTo>
                <a:lnTo>
                  <a:pt x="71" y="778"/>
                </a:lnTo>
                <a:lnTo>
                  <a:pt x="71" y="765"/>
                </a:lnTo>
                <a:lnTo>
                  <a:pt x="75" y="756"/>
                </a:lnTo>
                <a:lnTo>
                  <a:pt x="75" y="742"/>
                </a:lnTo>
                <a:lnTo>
                  <a:pt x="80" y="733"/>
                </a:lnTo>
                <a:lnTo>
                  <a:pt x="84" y="720"/>
                </a:lnTo>
                <a:lnTo>
                  <a:pt x="84" y="711"/>
                </a:lnTo>
                <a:lnTo>
                  <a:pt x="89" y="698"/>
                </a:lnTo>
                <a:lnTo>
                  <a:pt x="89" y="689"/>
                </a:lnTo>
                <a:lnTo>
                  <a:pt x="93" y="676"/>
                </a:lnTo>
                <a:lnTo>
                  <a:pt x="97" y="667"/>
                </a:lnTo>
                <a:lnTo>
                  <a:pt x="97" y="658"/>
                </a:lnTo>
                <a:lnTo>
                  <a:pt x="102" y="645"/>
                </a:lnTo>
                <a:lnTo>
                  <a:pt x="102" y="636"/>
                </a:lnTo>
                <a:lnTo>
                  <a:pt x="106" y="622"/>
                </a:lnTo>
                <a:lnTo>
                  <a:pt x="111" y="613"/>
                </a:lnTo>
                <a:lnTo>
                  <a:pt x="111" y="605"/>
                </a:lnTo>
                <a:lnTo>
                  <a:pt x="115" y="591"/>
                </a:lnTo>
                <a:lnTo>
                  <a:pt x="115" y="582"/>
                </a:lnTo>
                <a:lnTo>
                  <a:pt x="120" y="569"/>
                </a:lnTo>
                <a:lnTo>
                  <a:pt x="120" y="560"/>
                </a:lnTo>
                <a:lnTo>
                  <a:pt x="124" y="551"/>
                </a:lnTo>
                <a:lnTo>
                  <a:pt x="129" y="542"/>
                </a:lnTo>
                <a:lnTo>
                  <a:pt x="129" y="529"/>
                </a:lnTo>
                <a:lnTo>
                  <a:pt x="133" y="520"/>
                </a:lnTo>
                <a:lnTo>
                  <a:pt x="133" y="511"/>
                </a:lnTo>
                <a:lnTo>
                  <a:pt x="138" y="498"/>
                </a:lnTo>
                <a:lnTo>
                  <a:pt x="142" y="489"/>
                </a:lnTo>
                <a:lnTo>
                  <a:pt x="142" y="480"/>
                </a:lnTo>
                <a:lnTo>
                  <a:pt x="146" y="471"/>
                </a:lnTo>
                <a:lnTo>
                  <a:pt x="146" y="462"/>
                </a:lnTo>
                <a:lnTo>
                  <a:pt x="151" y="453"/>
                </a:lnTo>
                <a:lnTo>
                  <a:pt x="155" y="440"/>
                </a:lnTo>
                <a:lnTo>
                  <a:pt x="155" y="431"/>
                </a:lnTo>
                <a:lnTo>
                  <a:pt x="160" y="422"/>
                </a:lnTo>
                <a:lnTo>
                  <a:pt x="160" y="413"/>
                </a:lnTo>
                <a:lnTo>
                  <a:pt x="164" y="404"/>
                </a:lnTo>
                <a:lnTo>
                  <a:pt x="169" y="395"/>
                </a:lnTo>
                <a:lnTo>
                  <a:pt x="169" y="387"/>
                </a:lnTo>
                <a:lnTo>
                  <a:pt x="173" y="378"/>
                </a:lnTo>
                <a:lnTo>
                  <a:pt x="173" y="369"/>
                </a:lnTo>
                <a:lnTo>
                  <a:pt x="178" y="360"/>
                </a:lnTo>
                <a:lnTo>
                  <a:pt x="182" y="351"/>
                </a:lnTo>
                <a:lnTo>
                  <a:pt x="182" y="342"/>
                </a:lnTo>
                <a:lnTo>
                  <a:pt x="186" y="333"/>
                </a:lnTo>
                <a:lnTo>
                  <a:pt x="186" y="324"/>
                </a:lnTo>
                <a:lnTo>
                  <a:pt x="191" y="315"/>
                </a:lnTo>
                <a:lnTo>
                  <a:pt x="195" y="306"/>
                </a:lnTo>
                <a:lnTo>
                  <a:pt x="195" y="298"/>
                </a:lnTo>
                <a:lnTo>
                  <a:pt x="200" y="293"/>
                </a:lnTo>
                <a:lnTo>
                  <a:pt x="200" y="284"/>
                </a:lnTo>
                <a:lnTo>
                  <a:pt x="204" y="275"/>
                </a:lnTo>
                <a:lnTo>
                  <a:pt x="209" y="266"/>
                </a:lnTo>
                <a:lnTo>
                  <a:pt x="209" y="262"/>
                </a:lnTo>
                <a:lnTo>
                  <a:pt x="213" y="253"/>
                </a:lnTo>
                <a:lnTo>
                  <a:pt x="213" y="244"/>
                </a:lnTo>
                <a:lnTo>
                  <a:pt x="218" y="235"/>
                </a:lnTo>
                <a:lnTo>
                  <a:pt x="222" y="231"/>
                </a:lnTo>
                <a:lnTo>
                  <a:pt x="222" y="222"/>
                </a:lnTo>
                <a:lnTo>
                  <a:pt x="226" y="218"/>
                </a:lnTo>
                <a:lnTo>
                  <a:pt x="226" y="209"/>
                </a:lnTo>
                <a:lnTo>
                  <a:pt x="231" y="200"/>
                </a:lnTo>
                <a:lnTo>
                  <a:pt x="235" y="195"/>
                </a:lnTo>
                <a:lnTo>
                  <a:pt x="235" y="186"/>
                </a:lnTo>
                <a:lnTo>
                  <a:pt x="240" y="182"/>
                </a:lnTo>
                <a:lnTo>
                  <a:pt x="240" y="173"/>
                </a:lnTo>
                <a:lnTo>
                  <a:pt x="244" y="169"/>
                </a:lnTo>
                <a:lnTo>
                  <a:pt x="244" y="160"/>
                </a:lnTo>
                <a:lnTo>
                  <a:pt x="249" y="155"/>
                </a:lnTo>
                <a:lnTo>
                  <a:pt x="253" y="151"/>
                </a:lnTo>
                <a:lnTo>
                  <a:pt x="253" y="142"/>
                </a:lnTo>
                <a:lnTo>
                  <a:pt x="258" y="137"/>
                </a:lnTo>
                <a:lnTo>
                  <a:pt x="258" y="133"/>
                </a:lnTo>
                <a:lnTo>
                  <a:pt x="262" y="124"/>
                </a:lnTo>
                <a:lnTo>
                  <a:pt x="266" y="120"/>
                </a:lnTo>
                <a:lnTo>
                  <a:pt x="266" y="115"/>
                </a:lnTo>
                <a:lnTo>
                  <a:pt x="271" y="111"/>
                </a:lnTo>
                <a:lnTo>
                  <a:pt x="271" y="102"/>
                </a:lnTo>
                <a:lnTo>
                  <a:pt x="275" y="97"/>
                </a:lnTo>
                <a:lnTo>
                  <a:pt x="280" y="93"/>
                </a:lnTo>
                <a:lnTo>
                  <a:pt x="280" y="89"/>
                </a:lnTo>
                <a:lnTo>
                  <a:pt x="284" y="84"/>
                </a:lnTo>
                <a:lnTo>
                  <a:pt x="284" y="80"/>
                </a:lnTo>
                <a:lnTo>
                  <a:pt x="289" y="75"/>
                </a:lnTo>
                <a:lnTo>
                  <a:pt x="293" y="71"/>
                </a:lnTo>
                <a:lnTo>
                  <a:pt x="293" y="66"/>
                </a:lnTo>
                <a:lnTo>
                  <a:pt x="298" y="62"/>
                </a:lnTo>
                <a:lnTo>
                  <a:pt x="298" y="57"/>
                </a:lnTo>
                <a:lnTo>
                  <a:pt x="302" y="53"/>
                </a:lnTo>
                <a:lnTo>
                  <a:pt x="311" y="44"/>
                </a:lnTo>
                <a:lnTo>
                  <a:pt x="311" y="40"/>
                </a:lnTo>
                <a:lnTo>
                  <a:pt x="315" y="35"/>
                </a:lnTo>
                <a:lnTo>
                  <a:pt x="324" y="26"/>
                </a:lnTo>
                <a:lnTo>
                  <a:pt x="324" y="22"/>
                </a:lnTo>
                <a:lnTo>
                  <a:pt x="329" y="17"/>
                </a:lnTo>
                <a:lnTo>
                  <a:pt x="333" y="13"/>
                </a:lnTo>
                <a:lnTo>
                  <a:pt x="338" y="8"/>
                </a:lnTo>
                <a:lnTo>
                  <a:pt x="342" y="8"/>
                </a:lnTo>
                <a:lnTo>
                  <a:pt x="346" y="4"/>
                </a:lnTo>
                <a:lnTo>
                  <a:pt x="351" y="0"/>
                </a:lnTo>
                <a:lnTo>
                  <a:pt x="355"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641680" y="4226040"/>
            <a:ext cx="614160" cy="1326960"/>
          </a:xfrm>
          <a:custGeom>
            <a:avLst/>
            <a:gdLst/>
            <a:ahLst/>
            <a:rect l="l" t="t" r="r" b="b"/>
            <a:pathLst>
              <a:path w="387" h="836">
                <a:moveTo>
                  <a:pt x="0" y="14"/>
                </a:moveTo>
                <a:lnTo>
                  <a:pt x="5" y="9"/>
                </a:lnTo>
                <a:lnTo>
                  <a:pt x="9" y="5"/>
                </a:lnTo>
                <a:lnTo>
                  <a:pt x="14" y="5"/>
                </a:lnTo>
                <a:lnTo>
                  <a:pt x="18" y="5"/>
                </a:lnTo>
                <a:lnTo>
                  <a:pt x="23" y="0"/>
                </a:lnTo>
                <a:lnTo>
                  <a:pt x="27" y="0"/>
                </a:lnTo>
                <a:lnTo>
                  <a:pt x="32" y="0"/>
                </a:lnTo>
                <a:lnTo>
                  <a:pt x="36" y="0"/>
                </a:lnTo>
                <a:lnTo>
                  <a:pt x="40" y="0"/>
                </a:lnTo>
                <a:lnTo>
                  <a:pt x="45" y="0"/>
                </a:lnTo>
                <a:lnTo>
                  <a:pt x="49" y="5"/>
                </a:lnTo>
                <a:lnTo>
                  <a:pt x="54" y="5"/>
                </a:lnTo>
                <a:lnTo>
                  <a:pt x="58" y="5"/>
                </a:lnTo>
                <a:lnTo>
                  <a:pt x="63" y="9"/>
                </a:lnTo>
                <a:lnTo>
                  <a:pt x="67" y="9"/>
                </a:lnTo>
                <a:lnTo>
                  <a:pt x="72" y="14"/>
                </a:lnTo>
                <a:lnTo>
                  <a:pt x="76" y="14"/>
                </a:lnTo>
                <a:lnTo>
                  <a:pt x="80" y="18"/>
                </a:lnTo>
                <a:lnTo>
                  <a:pt x="85" y="22"/>
                </a:lnTo>
                <a:lnTo>
                  <a:pt x="89" y="27"/>
                </a:lnTo>
                <a:lnTo>
                  <a:pt x="94" y="31"/>
                </a:lnTo>
                <a:lnTo>
                  <a:pt x="98" y="36"/>
                </a:lnTo>
                <a:lnTo>
                  <a:pt x="103" y="40"/>
                </a:lnTo>
                <a:lnTo>
                  <a:pt x="107" y="45"/>
                </a:lnTo>
                <a:lnTo>
                  <a:pt x="112" y="49"/>
                </a:lnTo>
                <a:lnTo>
                  <a:pt x="120" y="58"/>
                </a:lnTo>
                <a:lnTo>
                  <a:pt x="120" y="63"/>
                </a:lnTo>
                <a:lnTo>
                  <a:pt x="125" y="67"/>
                </a:lnTo>
                <a:lnTo>
                  <a:pt x="125" y="71"/>
                </a:lnTo>
                <a:lnTo>
                  <a:pt x="129" y="76"/>
                </a:lnTo>
                <a:lnTo>
                  <a:pt x="134" y="80"/>
                </a:lnTo>
                <a:lnTo>
                  <a:pt x="134" y="85"/>
                </a:lnTo>
                <a:lnTo>
                  <a:pt x="138" y="89"/>
                </a:lnTo>
                <a:lnTo>
                  <a:pt x="138" y="94"/>
                </a:lnTo>
                <a:lnTo>
                  <a:pt x="143" y="98"/>
                </a:lnTo>
                <a:lnTo>
                  <a:pt x="147" y="103"/>
                </a:lnTo>
                <a:lnTo>
                  <a:pt x="147" y="107"/>
                </a:lnTo>
                <a:lnTo>
                  <a:pt x="152" y="111"/>
                </a:lnTo>
                <a:lnTo>
                  <a:pt x="152" y="116"/>
                </a:lnTo>
                <a:lnTo>
                  <a:pt x="156" y="120"/>
                </a:lnTo>
                <a:lnTo>
                  <a:pt x="160" y="129"/>
                </a:lnTo>
                <a:lnTo>
                  <a:pt x="160" y="134"/>
                </a:lnTo>
                <a:lnTo>
                  <a:pt x="165" y="138"/>
                </a:lnTo>
                <a:lnTo>
                  <a:pt x="165" y="143"/>
                </a:lnTo>
                <a:lnTo>
                  <a:pt x="169" y="147"/>
                </a:lnTo>
                <a:lnTo>
                  <a:pt x="174" y="156"/>
                </a:lnTo>
                <a:lnTo>
                  <a:pt x="174" y="160"/>
                </a:lnTo>
                <a:lnTo>
                  <a:pt x="178" y="165"/>
                </a:lnTo>
                <a:lnTo>
                  <a:pt x="178" y="174"/>
                </a:lnTo>
                <a:lnTo>
                  <a:pt x="183" y="178"/>
                </a:lnTo>
                <a:lnTo>
                  <a:pt x="187" y="183"/>
                </a:lnTo>
                <a:lnTo>
                  <a:pt x="187" y="192"/>
                </a:lnTo>
                <a:lnTo>
                  <a:pt x="192" y="196"/>
                </a:lnTo>
                <a:lnTo>
                  <a:pt x="192" y="205"/>
                </a:lnTo>
                <a:lnTo>
                  <a:pt x="196" y="209"/>
                </a:lnTo>
                <a:lnTo>
                  <a:pt x="200" y="218"/>
                </a:lnTo>
                <a:lnTo>
                  <a:pt x="200" y="223"/>
                </a:lnTo>
                <a:lnTo>
                  <a:pt x="205" y="232"/>
                </a:lnTo>
                <a:lnTo>
                  <a:pt x="205" y="236"/>
                </a:lnTo>
                <a:lnTo>
                  <a:pt x="209" y="245"/>
                </a:lnTo>
                <a:lnTo>
                  <a:pt x="214" y="249"/>
                </a:lnTo>
                <a:lnTo>
                  <a:pt x="214" y="258"/>
                </a:lnTo>
                <a:lnTo>
                  <a:pt x="218" y="263"/>
                </a:lnTo>
                <a:lnTo>
                  <a:pt x="218" y="272"/>
                </a:lnTo>
                <a:lnTo>
                  <a:pt x="223" y="280"/>
                </a:lnTo>
                <a:lnTo>
                  <a:pt x="227" y="285"/>
                </a:lnTo>
                <a:lnTo>
                  <a:pt x="227" y="294"/>
                </a:lnTo>
                <a:lnTo>
                  <a:pt x="232" y="303"/>
                </a:lnTo>
                <a:lnTo>
                  <a:pt x="232" y="307"/>
                </a:lnTo>
                <a:lnTo>
                  <a:pt x="236" y="316"/>
                </a:lnTo>
                <a:lnTo>
                  <a:pt x="241" y="325"/>
                </a:lnTo>
                <a:lnTo>
                  <a:pt x="241" y="334"/>
                </a:lnTo>
                <a:lnTo>
                  <a:pt x="245" y="338"/>
                </a:lnTo>
                <a:lnTo>
                  <a:pt x="245" y="347"/>
                </a:lnTo>
                <a:lnTo>
                  <a:pt x="249" y="356"/>
                </a:lnTo>
                <a:lnTo>
                  <a:pt x="249" y="365"/>
                </a:lnTo>
                <a:lnTo>
                  <a:pt x="254" y="374"/>
                </a:lnTo>
                <a:lnTo>
                  <a:pt x="258" y="383"/>
                </a:lnTo>
                <a:lnTo>
                  <a:pt x="258" y="387"/>
                </a:lnTo>
                <a:lnTo>
                  <a:pt x="263" y="396"/>
                </a:lnTo>
                <a:lnTo>
                  <a:pt x="263" y="405"/>
                </a:lnTo>
                <a:lnTo>
                  <a:pt x="267" y="414"/>
                </a:lnTo>
                <a:lnTo>
                  <a:pt x="272" y="423"/>
                </a:lnTo>
                <a:lnTo>
                  <a:pt x="272" y="432"/>
                </a:lnTo>
                <a:lnTo>
                  <a:pt x="276" y="441"/>
                </a:lnTo>
                <a:lnTo>
                  <a:pt x="276" y="449"/>
                </a:lnTo>
                <a:lnTo>
                  <a:pt x="281" y="458"/>
                </a:lnTo>
                <a:lnTo>
                  <a:pt x="285" y="467"/>
                </a:lnTo>
                <a:lnTo>
                  <a:pt x="285" y="476"/>
                </a:lnTo>
                <a:lnTo>
                  <a:pt x="289" y="485"/>
                </a:lnTo>
                <a:lnTo>
                  <a:pt x="289" y="494"/>
                </a:lnTo>
                <a:lnTo>
                  <a:pt x="294" y="503"/>
                </a:lnTo>
                <a:lnTo>
                  <a:pt x="298" y="512"/>
                </a:lnTo>
                <a:lnTo>
                  <a:pt x="298" y="521"/>
                </a:lnTo>
                <a:lnTo>
                  <a:pt x="303" y="530"/>
                </a:lnTo>
                <a:lnTo>
                  <a:pt x="303" y="538"/>
                </a:lnTo>
                <a:lnTo>
                  <a:pt x="307" y="547"/>
                </a:lnTo>
                <a:lnTo>
                  <a:pt x="312" y="556"/>
                </a:lnTo>
                <a:lnTo>
                  <a:pt x="312" y="565"/>
                </a:lnTo>
                <a:lnTo>
                  <a:pt x="316" y="574"/>
                </a:lnTo>
                <a:lnTo>
                  <a:pt x="316" y="583"/>
                </a:lnTo>
                <a:lnTo>
                  <a:pt x="321" y="596"/>
                </a:lnTo>
                <a:lnTo>
                  <a:pt x="325" y="605"/>
                </a:lnTo>
                <a:lnTo>
                  <a:pt x="325" y="614"/>
                </a:lnTo>
                <a:lnTo>
                  <a:pt x="329" y="623"/>
                </a:lnTo>
                <a:lnTo>
                  <a:pt x="329" y="632"/>
                </a:lnTo>
                <a:lnTo>
                  <a:pt x="334" y="641"/>
                </a:lnTo>
                <a:lnTo>
                  <a:pt x="338" y="650"/>
                </a:lnTo>
                <a:lnTo>
                  <a:pt x="338" y="663"/>
                </a:lnTo>
                <a:lnTo>
                  <a:pt x="343" y="672"/>
                </a:lnTo>
                <a:lnTo>
                  <a:pt x="343" y="681"/>
                </a:lnTo>
                <a:lnTo>
                  <a:pt x="347" y="690"/>
                </a:lnTo>
                <a:lnTo>
                  <a:pt x="352" y="699"/>
                </a:lnTo>
                <a:lnTo>
                  <a:pt x="352" y="707"/>
                </a:lnTo>
                <a:lnTo>
                  <a:pt x="356" y="721"/>
                </a:lnTo>
                <a:lnTo>
                  <a:pt x="356" y="730"/>
                </a:lnTo>
                <a:lnTo>
                  <a:pt x="361" y="739"/>
                </a:lnTo>
                <a:lnTo>
                  <a:pt x="365" y="747"/>
                </a:lnTo>
                <a:lnTo>
                  <a:pt x="365" y="756"/>
                </a:lnTo>
                <a:lnTo>
                  <a:pt x="369" y="770"/>
                </a:lnTo>
                <a:lnTo>
                  <a:pt x="369" y="779"/>
                </a:lnTo>
                <a:lnTo>
                  <a:pt x="374" y="788"/>
                </a:lnTo>
                <a:lnTo>
                  <a:pt x="374" y="796"/>
                </a:lnTo>
                <a:lnTo>
                  <a:pt x="378" y="810"/>
                </a:lnTo>
                <a:lnTo>
                  <a:pt x="383" y="819"/>
                </a:lnTo>
                <a:lnTo>
                  <a:pt x="383" y="828"/>
                </a:lnTo>
                <a:lnTo>
                  <a:pt x="387" y="836"/>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255840" y="4946760"/>
            <a:ext cx="579600" cy="1030320"/>
          </a:xfrm>
          <a:custGeom>
            <a:avLst/>
            <a:gdLst/>
            <a:ahLst/>
            <a:rect l="l" t="t" r="r" b="b"/>
            <a:pathLst>
              <a:path w="365" h="649">
                <a:moveTo>
                  <a:pt x="0" y="382"/>
                </a:moveTo>
                <a:lnTo>
                  <a:pt x="0" y="391"/>
                </a:lnTo>
                <a:lnTo>
                  <a:pt x="5" y="405"/>
                </a:lnTo>
                <a:lnTo>
                  <a:pt x="9" y="414"/>
                </a:lnTo>
                <a:lnTo>
                  <a:pt x="9" y="422"/>
                </a:lnTo>
                <a:lnTo>
                  <a:pt x="14" y="431"/>
                </a:lnTo>
                <a:lnTo>
                  <a:pt x="14" y="445"/>
                </a:lnTo>
                <a:lnTo>
                  <a:pt x="18" y="454"/>
                </a:lnTo>
                <a:lnTo>
                  <a:pt x="22" y="463"/>
                </a:lnTo>
                <a:lnTo>
                  <a:pt x="22" y="471"/>
                </a:lnTo>
                <a:lnTo>
                  <a:pt x="27" y="480"/>
                </a:lnTo>
                <a:lnTo>
                  <a:pt x="27" y="494"/>
                </a:lnTo>
                <a:lnTo>
                  <a:pt x="31" y="503"/>
                </a:lnTo>
                <a:lnTo>
                  <a:pt x="36" y="511"/>
                </a:lnTo>
                <a:lnTo>
                  <a:pt x="36" y="520"/>
                </a:lnTo>
                <a:lnTo>
                  <a:pt x="40" y="529"/>
                </a:lnTo>
                <a:lnTo>
                  <a:pt x="40" y="543"/>
                </a:lnTo>
                <a:lnTo>
                  <a:pt x="45" y="551"/>
                </a:lnTo>
                <a:lnTo>
                  <a:pt x="49" y="560"/>
                </a:lnTo>
                <a:lnTo>
                  <a:pt x="49" y="569"/>
                </a:lnTo>
                <a:lnTo>
                  <a:pt x="54" y="578"/>
                </a:lnTo>
                <a:lnTo>
                  <a:pt x="54" y="592"/>
                </a:lnTo>
                <a:lnTo>
                  <a:pt x="58" y="600"/>
                </a:lnTo>
                <a:lnTo>
                  <a:pt x="62" y="609"/>
                </a:lnTo>
                <a:lnTo>
                  <a:pt x="62" y="618"/>
                </a:lnTo>
                <a:lnTo>
                  <a:pt x="67" y="627"/>
                </a:lnTo>
                <a:lnTo>
                  <a:pt x="67" y="636"/>
                </a:lnTo>
                <a:lnTo>
                  <a:pt x="71" y="649"/>
                </a:lnTo>
                <a:lnTo>
                  <a:pt x="76" y="645"/>
                </a:lnTo>
                <a:lnTo>
                  <a:pt x="76" y="636"/>
                </a:lnTo>
                <a:lnTo>
                  <a:pt x="80" y="627"/>
                </a:lnTo>
                <a:lnTo>
                  <a:pt x="80" y="618"/>
                </a:lnTo>
                <a:lnTo>
                  <a:pt x="85" y="609"/>
                </a:lnTo>
                <a:lnTo>
                  <a:pt x="89" y="600"/>
                </a:lnTo>
                <a:lnTo>
                  <a:pt x="89" y="592"/>
                </a:lnTo>
                <a:lnTo>
                  <a:pt x="94" y="583"/>
                </a:lnTo>
                <a:lnTo>
                  <a:pt x="94" y="574"/>
                </a:lnTo>
                <a:lnTo>
                  <a:pt x="98" y="560"/>
                </a:lnTo>
                <a:lnTo>
                  <a:pt x="98" y="551"/>
                </a:lnTo>
                <a:lnTo>
                  <a:pt x="103" y="543"/>
                </a:lnTo>
                <a:lnTo>
                  <a:pt x="107" y="534"/>
                </a:lnTo>
                <a:lnTo>
                  <a:pt x="107" y="525"/>
                </a:lnTo>
                <a:lnTo>
                  <a:pt x="111" y="516"/>
                </a:lnTo>
                <a:lnTo>
                  <a:pt x="111" y="507"/>
                </a:lnTo>
                <a:lnTo>
                  <a:pt x="116" y="498"/>
                </a:lnTo>
                <a:lnTo>
                  <a:pt x="120" y="489"/>
                </a:lnTo>
                <a:lnTo>
                  <a:pt x="120" y="480"/>
                </a:lnTo>
                <a:lnTo>
                  <a:pt x="125" y="471"/>
                </a:lnTo>
                <a:lnTo>
                  <a:pt x="125" y="463"/>
                </a:lnTo>
                <a:lnTo>
                  <a:pt x="129" y="458"/>
                </a:lnTo>
                <a:lnTo>
                  <a:pt x="134" y="449"/>
                </a:lnTo>
                <a:lnTo>
                  <a:pt x="134" y="440"/>
                </a:lnTo>
                <a:lnTo>
                  <a:pt x="138" y="431"/>
                </a:lnTo>
                <a:lnTo>
                  <a:pt x="138" y="422"/>
                </a:lnTo>
                <a:lnTo>
                  <a:pt x="143" y="414"/>
                </a:lnTo>
                <a:lnTo>
                  <a:pt x="147" y="405"/>
                </a:lnTo>
                <a:lnTo>
                  <a:pt x="147" y="396"/>
                </a:lnTo>
                <a:lnTo>
                  <a:pt x="151" y="391"/>
                </a:lnTo>
                <a:lnTo>
                  <a:pt x="151" y="382"/>
                </a:lnTo>
                <a:lnTo>
                  <a:pt x="156" y="374"/>
                </a:lnTo>
                <a:lnTo>
                  <a:pt x="160" y="365"/>
                </a:lnTo>
                <a:lnTo>
                  <a:pt x="160" y="356"/>
                </a:lnTo>
                <a:lnTo>
                  <a:pt x="165" y="351"/>
                </a:lnTo>
                <a:lnTo>
                  <a:pt x="165" y="342"/>
                </a:lnTo>
                <a:lnTo>
                  <a:pt x="169" y="334"/>
                </a:lnTo>
                <a:lnTo>
                  <a:pt x="174" y="325"/>
                </a:lnTo>
                <a:lnTo>
                  <a:pt x="174" y="320"/>
                </a:lnTo>
                <a:lnTo>
                  <a:pt x="178" y="311"/>
                </a:lnTo>
                <a:lnTo>
                  <a:pt x="178" y="302"/>
                </a:lnTo>
                <a:lnTo>
                  <a:pt x="183" y="298"/>
                </a:lnTo>
                <a:lnTo>
                  <a:pt x="187" y="289"/>
                </a:lnTo>
                <a:lnTo>
                  <a:pt x="187" y="280"/>
                </a:lnTo>
                <a:lnTo>
                  <a:pt x="191" y="276"/>
                </a:lnTo>
                <a:lnTo>
                  <a:pt x="191" y="267"/>
                </a:lnTo>
                <a:lnTo>
                  <a:pt x="196" y="262"/>
                </a:lnTo>
                <a:lnTo>
                  <a:pt x="200" y="253"/>
                </a:lnTo>
                <a:lnTo>
                  <a:pt x="200" y="249"/>
                </a:lnTo>
                <a:lnTo>
                  <a:pt x="205" y="240"/>
                </a:lnTo>
                <a:lnTo>
                  <a:pt x="205" y="236"/>
                </a:lnTo>
                <a:lnTo>
                  <a:pt x="209" y="227"/>
                </a:lnTo>
                <a:lnTo>
                  <a:pt x="214" y="222"/>
                </a:lnTo>
                <a:lnTo>
                  <a:pt x="214" y="213"/>
                </a:lnTo>
                <a:lnTo>
                  <a:pt x="218" y="209"/>
                </a:lnTo>
                <a:lnTo>
                  <a:pt x="218" y="200"/>
                </a:lnTo>
                <a:lnTo>
                  <a:pt x="223" y="196"/>
                </a:lnTo>
                <a:lnTo>
                  <a:pt x="223" y="191"/>
                </a:lnTo>
                <a:lnTo>
                  <a:pt x="227" y="182"/>
                </a:lnTo>
                <a:lnTo>
                  <a:pt x="231" y="178"/>
                </a:lnTo>
                <a:lnTo>
                  <a:pt x="231" y="173"/>
                </a:lnTo>
                <a:lnTo>
                  <a:pt x="236" y="165"/>
                </a:lnTo>
                <a:lnTo>
                  <a:pt x="236" y="160"/>
                </a:lnTo>
                <a:lnTo>
                  <a:pt x="240" y="156"/>
                </a:lnTo>
                <a:lnTo>
                  <a:pt x="245" y="151"/>
                </a:lnTo>
                <a:lnTo>
                  <a:pt x="245" y="142"/>
                </a:lnTo>
                <a:lnTo>
                  <a:pt x="249" y="138"/>
                </a:lnTo>
                <a:lnTo>
                  <a:pt x="249" y="133"/>
                </a:lnTo>
                <a:lnTo>
                  <a:pt x="254" y="129"/>
                </a:lnTo>
                <a:lnTo>
                  <a:pt x="258" y="124"/>
                </a:lnTo>
                <a:lnTo>
                  <a:pt x="258" y="120"/>
                </a:lnTo>
                <a:lnTo>
                  <a:pt x="263" y="116"/>
                </a:lnTo>
                <a:lnTo>
                  <a:pt x="263" y="111"/>
                </a:lnTo>
                <a:lnTo>
                  <a:pt x="267" y="102"/>
                </a:lnTo>
                <a:lnTo>
                  <a:pt x="271" y="98"/>
                </a:lnTo>
                <a:lnTo>
                  <a:pt x="271" y="93"/>
                </a:lnTo>
                <a:lnTo>
                  <a:pt x="280" y="84"/>
                </a:lnTo>
                <a:lnTo>
                  <a:pt x="276" y="84"/>
                </a:lnTo>
                <a:lnTo>
                  <a:pt x="280" y="84"/>
                </a:lnTo>
                <a:lnTo>
                  <a:pt x="285" y="80"/>
                </a:lnTo>
                <a:lnTo>
                  <a:pt x="285" y="76"/>
                </a:lnTo>
                <a:lnTo>
                  <a:pt x="289" y="71"/>
                </a:lnTo>
                <a:lnTo>
                  <a:pt x="289" y="67"/>
                </a:lnTo>
                <a:lnTo>
                  <a:pt x="294" y="62"/>
                </a:lnTo>
                <a:lnTo>
                  <a:pt x="298" y="58"/>
                </a:lnTo>
                <a:lnTo>
                  <a:pt x="303" y="53"/>
                </a:lnTo>
                <a:lnTo>
                  <a:pt x="303" y="49"/>
                </a:lnTo>
                <a:lnTo>
                  <a:pt x="312" y="44"/>
                </a:lnTo>
                <a:lnTo>
                  <a:pt x="312" y="40"/>
                </a:lnTo>
                <a:lnTo>
                  <a:pt x="316" y="36"/>
                </a:lnTo>
                <a:lnTo>
                  <a:pt x="320" y="31"/>
                </a:lnTo>
                <a:lnTo>
                  <a:pt x="325" y="27"/>
                </a:lnTo>
                <a:lnTo>
                  <a:pt x="329" y="22"/>
                </a:lnTo>
                <a:lnTo>
                  <a:pt x="343" y="13"/>
                </a:lnTo>
                <a:lnTo>
                  <a:pt x="343" y="9"/>
                </a:lnTo>
                <a:lnTo>
                  <a:pt x="347" y="9"/>
                </a:lnTo>
                <a:lnTo>
                  <a:pt x="352" y="4"/>
                </a:lnTo>
                <a:lnTo>
                  <a:pt x="356" y="4"/>
                </a:lnTo>
                <a:lnTo>
                  <a:pt x="360" y="0"/>
                </a:lnTo>
                <a:lnTo>
                  <a:pt x="365"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835440" y="4938840"/>
            <a:ext cx="620640" cy="1038240"/>
          </a:xfrm>
          <a:custGeom>
            <a:avLst/>
            <a:gdLst/>
            <a:ahLst/>
            <a:rect l="l" t="t" r="r" b="b"/>
            <a:pathLst>
              <a:path w="391" h="654">
                <a:moveTo>
                  <a:pt x="0" y="5"/>
                </a:moveTo>
                <a:lnTo>
                  <a:pt x="4" y="5"/>
                </a:lnTo>
                <a:lnTo>
                  <a:pt x="9" y="0"/>
                </a:lnTo>
                <a:lnTo>
                  <a:pt x="13" y="0"/>
                </a:lnTo>
                <a:lnTo>
                  <a:pt x="18" y="0"/>
                </a:lnTo>
                <a:lnTo>
                  <a:pt x="22" y="0"/>
                </a:lnTo>
                <a:lnTo>
                  <a:pt x="27" y="0"/>
                </a:lnTo>
                <a:lnTo>
                  <a:pt x="31" y="0"/>
                </a:lnTo>
                <a:lnTo>
                  <a:pt x="35" y="0"/>
                </a:lnTo>
                <a:lnTo>
                  <a:pt x="40" y="0"/>
                </a:lnTo>
                <a:lnTo>
                  <a:pt x="44" y="0"/>
                </a:lnTo>
                <a:lnTo>
                  <a:pt x="49" y="5"/>
                </a:lnTo>
                <a:lnTo>
                  <a:pt x="53" y="5"/>
                </a:lnTo>
                <a:lnTo>
                  <a:pt x="58" y="5"/>
                </a:lnTo>
                <a:lnTo>
                  <a:pt x="62" y="9"/>
                </a:lnTo>
                <a:lnTo>
                  <a:pt x="67" y="9"/>
                </a:lnTo>
                <a:lnTo>
                  <a:pt x="71" y="14"/>
                </a:lnTo>
                <a:lnTo>
                  <a:pt x="75" y="18"/>
                </a:lnTo>
                <a:lnTo>
                  <a:pt x="80" y="18"/>
                </a:lnTo>
                <a:lnTo>
                  <a:pt x="84" y="23"/>
                </a:lnTo>
                <a:lnTo>
                  <a:pt x="89" y="27"/>
                </a:lnTo>
                <a:lnTo>
                  <a:pt x="93" y="32"/>
                </a:lnTo>
                <a:lnTo>
                  <a:pt x="98" y="32"/>
                </a:lnTo>
                <a:lnTo>
                  <a:pt x="102" y="41"/>
                </a:lnTo>
                <a:lnTo>
                  <a:pt x="107" y="45"/>
                </a:lnTo>
                <a:lnTo>
                  <a:pt x="111" y="49"/>
                </a:lnTo>
                <a:lnTo>
                  <a:pt x="115" y="54"/>
                </a:lnTo>
                <a:lnTo>
                  <a:pt x="120" y="58"/>
                </a:lnTo>
                <a:lnTo>
                  <a:pt x="124" y="63"/>
                </a:lnTo>
                <a:lnTo>
                  <a:pt x="133" y="72"/>
                </a:lnTo>
                <a:lnTo>
                  <a:pt x="133" y="76"/>
                </a:lnTo>
                <a:lnTo>
                  <a:pt x="138" y="81"/>
                </a:lnTo>
                <a:lnTo>
                  <a:pt x="142" y="85"/>
                </a:lnTo>
                <a:lnTo>
                  <a:pt x="142" y="89"/>
                </a:lnTo>
                <a:lnTo>
                  <a:pt x="151" y="98"/>
                </a:lnTo>
                <a:lnTo>
                  <a:pt x="147" y="98"/>
                </a:lnTo>
                <a:lnTo>
                  <a:pt x="151" y="98"/>
                </a:lnTo>
                <a:lnTo>
                  <a:pt x="156" y="103"/>
                </a:lnTo>
                <a:lnTo>
                  <a:pt x="156" y="107"/>
                </a:lnTo>
                <a:lnTo>
                  <a:pt x="160" y="112"/>
                </a:lnTo>
                <a:lnTo>
                  <a:pt x="160" y="116"/>
                </a:lnTo>
                <a:lnTo>
                  <a:pt x="164" y="121"/>
                </a:lnTo>
                <a:lnTo>
                  <a:pt x="169" y="125"/>
                </a:lnTo>
                <a:lnTo>
                  <a:pt x="169" y="129"/>
                </a:lnTo>
                <a:lnTo>
                  <a:pt x="173" y="134"/>
                </a:lnTo>
                <a:lnTo>
                  <a:pt x="173" y="143"/>
                </a:lnTo>
                <a:lnTo>
                  <a:pt x="178" y="147"/>
                </a:lnTo>
                <a:lnTo>
                  <a:pt x="182" y="152"/>
                </a:lnTo>
                <a:lnTo>
                  <a:pt x="182" y="156"/>
                </a:lnTo>
                <a:lnTo>
                  <a:pt x="187" y="161"/>
                </a:lnTo>
                <a:lnTo>
                  <a:pt x="187" y="165"/>
                </a:lnTo>
                <a:lnTo>
                  <a:pt x="191" y="170"/>
                </a:lnTo>
                <a:lnTo>
                  <a:pt x="196" y="174"/>
                </a:lnTo>
                <a:lnTo>
                  <a:pt x="196" y="183"/>
                </a:lnTo>
                <a:lnTo>
                  <a:pt x="200" y="187"/>
                </a:lnTo>
                <a:lnTo>
                  <a:pt x="200" y="192"/>
                </a:lnTo>
                <a:lnTo>
                  <a:pt x="204" y="196"/>
                </a:lnTo>
                <a:lnTo>
                  <a:pt x="209" y="201"/>
                </a:lnTo>
                <a:lnTo>
                  <a:pt x="209" y="210"/>
                </a:lnTo>
                <a:lnTo>
                  <a:pt x="213" y="214"/>
                </a:lnTo>
                <a:lnTo>
                  <a:pt x="213" y="218"/>
                </a:lnTo>
                <a:lnTo>
                  <a:pt x="218" y="223"/>
                </a:lnTo>
                <a:lnTo>
                  <a:pt x="218" y="232"/>
                </a:lnTo>
                <a:lnTo>
                  <a:pt x="222" y="236"/>
                </a:lnTo>
                <a:lnTo>
                  <a:pt x="227" y="241"/>
                </a:lnTo>
                <a:lnTo>
                  <a:pt x="227" y="250"/>
                </a:lnTo>
                <a:lnTo>
                  <a:pt x="231" y="254"/>
                </a:lnTo>
                <a:lnTo>
                  <a:pt x="231" y="258"/>
                </a:lnTo>
                <a:lnTo>
                  <a:pt x="236" y="267"/>
                </a:lnTo>
                <a:lnTo>
                  <a:pt x="240" y="272"/>
                </a:lnTo>
                <a:lnTo>
                  <a:pt x="240" y="281"/>
                </a:lnTo>
                <a:lnTo>
                  <a:pt x="244" y="285"/>
                </a:lnTo>
                <a:lnTo>
                  <a:pt x="244" y="290"/>
                </a:lnTo>
                <a:lnTo>
                  <a:pt x="249" y="298"/>
                </a:lnTo>
                <a:lnTo>
                  <a:pt x="253" y="303"/>
                </a:lnTo>
                <a:lnTo>
                  <a:pt x="253" y="312"/>
                </a:lnTo>
                <a:lnTo>
                  <a:pt x="258" y="316"/>
                </a:lnTo>
                <a:lnTo>
                  <a:pt x="258" y="325"/>
                </a:lnTo>
                <a:lnTo>
                  <a:pt x="262" y="330"/>
                </a:lnTo>
                <a:lnTo>
                  <a:pt x="267" y="334"/>
                </a:lnTo>
                <a:lnTo>
                  <a:pt x="267" y="343"/>
                </a:lnTo>
                <a:lnTo>
                  <a:pt x="271" y="347"/>
                </a:lnTo>
                <a:lnTo>
                  <a:pt x="271" y="356"/>
                </a:lnTo>
                <a:lnTo>
                  <a:pt x="276" y="361"/>
                </a:lnTo>
                <a:lnTo>
                  <a:pt x="280" y="370"/>
                </a:lnTo>
                <a:lnTo>
                  <a:pt x="280" y="374"/>
                </a:lnTo>
                <a:lnTo>
                  <a:pt x="284" y="383"/>
                </a:lnTo>
                <a:lnTo>
                  <a:pt x="284" y="387"/>
                </a:lnTo>
                <a:lnTo>
                  <a:pt x="289" y="396"/>
                </a:lnTo>
                <a:lnTo>
                  <a:pt x="293" y="405"/>
                </a:lnTo>
                <a:lnTo>
                  <a:pt x="293" y="410"/>
                </a:lnTo>
                <a:lnTo>
                  <a:pt x="298" y="419"/>
                </a:lnTo>
                <a:lnTo>
                  <a:pt x="298" y="423"/>
                </a:lnTo>
                <a:lnTo>
                  <a:pt x="302" y="432"/>
                </a:lnTo>
                <a:lnTo>
                  <a:pt x="307" y="436"/>
                </a:lnTo>
                <a:lnTo>
                  <a:pt x="307" y="445"/>
                </a:lnTo>
                <a:lnTo>
                  <a:pt x="311" y="450"/>
                </a:lnTo>
                <a:lnTo>
                  <a:pt x="311" y="459"/>
                </a:lnTo>
                <a:lnTo>
                  <a:pt x="316" y="468"/>
                </a:lnTo>
                <a:lnTo>
                  <a:pt x="320" y="472"/>
                </a:lnTo>
                <a:lnTo>
                  <a:pt x="320" y="481"/>
                </a:lnTo>
                <a:lnTo>
                  <a:pt x="324" y="485"/>
                </a:lnTo>
                <a:lnTo>
                  <a:pt x="324" y="494"/>
                </a:lnTo>
                <a:lnTo>
                  <a:pt x="329" y="503"/>
                </a:lnTo>
                <a:lnTo>
                  <a:pt x="333" y="508"/>
                </a:lnTo>
                <a:lnTo>
                  <a:pt x="333" y="516"/>
                </a:lnTo>
                <a:lnTo>
                  <a:pt x="338" y="521"/>
                </a:lnTo>
                <a:lnTo>
                  <a:pt x="338" y="530"/>
                </a:lnTo>
                <a:lnTo>
                  <a:pt x="342" y="539"/>
                </a:lnTo>
                <a:lnTo>
                  <a:pt x="342" y="543"/>
                </a:lnTo>
                <a:lnTo>
                  <a:pt x="347" y="552"/>
                </a:lnTo>
                <a:lnTo>
                  <a:pt x="351" y="556"/>
                </a:lnTo>
                <a:lnTo>
                  <a:pt x="351" y="565"/>
                </a:lnTo>
                <a:lnTo>
                  <a:pt x="356" y="574"/>
                </a:lnTo>
                <a:lnTo>
                  <a:pt x="356" y="579"/>
                </a:lnTo>
                <a:lnTo>
                  <a:pt x="360" y="588"/>
                </a:lnTo>
                <a:lnTo>
                  <a:pt x="364" y="592"/>
                </a:lnTo>
                <a:lnTo>
                  <a:pt x="364" y="601"/>
                </a:lnTo>
                <a:lnTo>
                  <a:pt x="369" y="610"/>
                </a:lnTo>
                <a:lnTo>
                  <a:pt x="369" y="614"/>
                </a:lnTo>
                <a:lnTo>
                  <a:pt x="373" y="623"/>
                </a:lnTo>
                <a:lnTo>
                  <a:pt x="378" y="628"/>
                </a:lnTo>
                <a:lnTo>
                  <a:pt x="378" y="637"/>
                </a:lnTo>
                <a:lnTo>
                  <a:pt x="382" y="645"/>
                </a:lnTo>
                <a:lnTo>
                  <a:pt x="382" y="650"/>
                </a:lnTo>
                <a:lnTo>
                  <a:pt x="387" y="654"/>
                </a:lnTo>
                <a:lnTo>
                  <a:pt x="391" y="650"/>
                </a:lnTo>
                <a:lnTo>
                  <a:pt x="391" y="641"/>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56080" y="5157720"/>
            <a:ext cx="692280" cy="798480"/>
          </a:xfrm>
          <a:custGeom>
            <a:avLst/>
            <a:gdLst/>
            <a:ahLst/>
            <a:rect l="l" t="t" r="r" b="b"/>
            <a:pathLst>
              <a:path w="436" h="503">
                <a:moveTo>
                  <a:pt x="0" y="503"/>
                </a:moveTo>
                <a:lnTo>
                  <a:pt x="5" y="494"/>
                </a:lnTo>
                <a:lnTo>
                  <a:pt x="5" y="490"/>
                </a:lnTo>
                <a:lnTo>
                  <a:pt x="9" y="481"/>
                </a:lnTo>
                <a:lnTo>
                  <a:pt x="14" y="476"/>
                </a:lnTo>
                <a:lnTo>
                  <a:pt x="14" y="467"/>
                </a:lnTo>
                <a:lnTo>
                  <a:pt x="18" y="463"/>
                </a:lnTo>
                <a:lnTo>
                  <a:pt x="18" y="454"/>
                </a:lnTo>
                <a:lnTo>
                  <a:pt x="22" y="445"/>
                </a:lnTo>
                <a:lnTo>
                  <a:pt x="27" y="441"/>
                </a:lnTo>
                <a:lnTo>
                  <a:pt x="27" y="432"/>
                </a:lnTo>
                <a:lnTo>
                  <a:pt x="31" y="427"/>
                </a:lnTo>
                <a:lnTo>
                  <a:pt x="31" y="418"/>
                </a:lnTo>
                <a:lnTo>
                  <a:pt x="36" y="414"/>
                </a:lnTo>
                <a:lnTo>
                  <a:pt x="40" y="405"/>
                </a:lnTo>
                <a:lnTo>
                  <a:pt x="40" y="401"/>
                </a:lnTo>
                <a:lnTo>
                  <a:pt x="45" y="392"/>
                </a:lnTo>
                <a:lnTo>
                  <a:pt x="45" y="387"/>
                </a:lnTo>
                <a:lnTo>
                  <a:pt x="49" y="378"/>
                </a:lnTo>
                <a:lnTo>
                  <a:pt x="54" y="374"/>
                </a:lnTo>
                <a:lnTo>
                  <a:pt x="54" y="365"/>
                </a:lnTo>
                <a:lnTo>
                  <a:pt x="58" y="361"/>
                </a:lnTo>
                <a:lnTo>
                  <a:pt x="58" y="352"/>
                </a:lnTo>
                <a:lnTo>
                  <a:pt x="62" y="347"/>
                </a:lnTo>
                <a:lnTo>
                  <a:pt x="62" y="338"/>
                </a:lnTo>
                <a:lnTo>
                  <a:pt x="67" y="334"/>
                </a:lnTo>
                <a:lnTo>
                  <a:pt x="71" y="330"/>
                </a:lnTo>
                <a:lnTo>
                  <a:pt x="71" y="321"/>
                </a:lnTo>
                <a:lnTo>
                  <a:pt x="76" y="316"/>
                </a:lnTo>
                <a:lnTo>
                  <a:pt x="76" y="307"/>
                </a:lnTo>
                <a:lnTo>
                  <a:pt x="80" y="303"/>
                </a:lnTo>
                <a:lnTo>
                  <a:pt x="85" y="298"/>
                </a:lnTo>
                <a:lnTo>
                  <a:pt x="85" y="289"/>
                </a:lnTo>
                <a:lnTo>
                  <a:pt x="89" y="285"/>
                </a:lnTo>
                <a:lnTo>
                  <a:pt x="89" y="276"/>
                </a:lnTo>
                <a:lnTo>
                  <a:pt x="94" y="272"/>
                </a:lnTo>
                <a:lnTo>
                  <a:pt x="98" y="267"/>
                </a:lnTo>
                <a:lnTo>
                  <a:pt x="98" y="258"/>
                </a:lnTo>
                <a:lnTo>
                  <a:pt x="102" y="254"/>
                </a:lnTo>
                <a:lnTo>
                  <a:pt x="102" y="249"/>
                </a:lnTo>
                <a:lnTo>
                  <a:pt x="107" y="245"/>
                </a:lnTo>
                <a:lnTo>
                  <a:pt x="111" y="236"/>
                </a:lnTo>
                <a:lnTo>
                  <a:pt x="111" y="232"/>
                </a:lnTo>
                <a:lnTo>
                  <a:pt x="116" y="227"/>
                </a:lnTo>
                <a:lnTo>
                  <a:pt x="116" y="223"/>
                </a:lnTo>
                <a:lnTo>
                  <a:pt x="120" y="214"/>
                </a:lnTo>
                <a:lnTo>
                  <a:pt x="125" y="209"/>
                </a:lnTo>
                <a:lnTo>
                  <a:pt x="125" y="205"/>
                </a:lnTo>
                <a:lnTo>
                  <a:pt x="129" y="201"/>
                </a:lnTo>
                <a:lnTo>
                  <a:pt x="129" y="196"/>
                </a:lnTo>
                <a:lnTo>
                  <a:pt x="134" y="187"/>
                </a:lnTo>
                <a:lnTo>
                  <a:pt x="138" y="183"/>
                </a:lnTo>
                <a:lnTo>
                  <a:pt x="138" y="178"/>
                </a:lnTo>
                <a:lnTo>
                  <a:pt x="142" y="174"/>
                </a:lnTo>
                <a:lnTo>
                  <a:pt x="142" y="169"/>
                </a:lnTo>
                <a:lnTo>
                  <a:pt x="147" y="165"/>
                </a:lnTo>
                <a:lnTo>
                  <a:pt x="151" y="160"/>
                </a:lnTo>
                <a:lnTo>
                  <a:pt x="151" y="156"/>
                </a:lnTo>
                <a:lnTo>
                  <a:pt x="156" y="152"/>
                </a:lnTo>
                <a:lnTo>
                  <a:pt x="156" y="147"/>
                </a:lnTo>
                <a:lnTo>
                  <a:pt x="160" y="138"/>
                </a:lnTo>
                <a:lnTo>
                  <a:pt x="169" y="129"/>
                </a:lnTo>
                <a:lnTo>
                  <a:pt x="169" y="125"/>
                </a:lnTo>
                <a:lnTo>
                  <a:pt x="174" y="120"/>
                </a:lnTo>
                <a:lnTo>
                  <a:pt x="178" y="116"/>
                </a:lnTo>
                <a:lnTo>
                  <a:pt x="178" y="112"/>
                </a:lnTo>
                <a:lnTo>
                  <a:pt x="182" y="107"/>
                </a:lnTo>
                <a:lnTo>
                  <a:pt x="182" y="103"/>
                </a:lnTo>
                <a:lnTo>
                  <a:pt x="187" y="98"/>
                </a:lnTo>
                <a:lnTo>
                  <a:pt x="187" y="94"/>
                </a:lnTo>
                <a:lnTo>
                  <a:pt x="196" y="89"/>
                </a:lnTo>
                <a:lnTo>
                  <a:pt x="196" y="85"/>
                </a:lnTo>
                <a:lnTo>
                  <a:pt x="200" y="80"/>
                </a:lnTo>
                <a:lnTo>
                  <a:pt x="200" y="76"/>
                </a:lnTo>
                <a:lnTo>
                  <a:pt x="209" y="72"/>
                </a:lnTo>
                <a:lnTo>
                  <a:pt x="209" y="67"/>
                </a:lnTo>
                <a:lnTo>
                  <a:pt x="218" y="58"/>
                </a:lnTo>
                <a:lnTo>
                  <a:pt x="214" y="58"/>
                </a:lnTo>
                <a:lnTo>
                  <a:pt x="218" y="58"/>
                </a:lnTo>
                <a:lnTo>
                  <a:pt x="227" y="49"/>
                </a:lnTo>
                <a:lnTo>
                  <a:pt x="227" y="45"/>
                </a:lnTo>
                <a:lnTo>
                  <a:pt x="231" y="45"/>
                </a:lnTo>
                <a:lnTo>
                  <a:pt x="236" y="40"/>
                </a:lnTo>
                <a:lnTo>
                  <a:pt x="240" y="32"/>
                </a:lnTo>
                <a:lnTo>
                  <a:pt x="245" y="32"/>
                </a:lnTo>
                <a:lnTo>
                  <a:pt x="249" y="27"/>
                </a:lnTo>
                <a:lnTo>
                  <a:pt x="254" y="23"/>
                </a:lnTo>
                <a:lnTo>
                  <a:pt x="258" y="23"/>
                </a:lnTo>
                <a:lnTo>
                  <a:pt x="263" y="18"/>
                </a:lnTo>
                <a:lnTo>
                  <a:pt x="267" y="14"/>
                </a:lnTo>
                <a:lnTo>
                  <a:pt x="271" y="14"/>
                </a:lnTo>
                <a:lnTo>
                  <a:pt x="276" y="9"/>
                </a:lnTo>
                <a:lnTo>
                  <a:pt x="280" y="9"/>
                </a:lnTo>
                <a:lnTo>
                  <a:pt x="285" y="5"/>
                </a:lnTo>
                <a:lnTo>
                  <a:pt x="289" y="5"/>
                </a:lnTo>
                <a:lnTo>
                  <a:pt x="294" y="5"/>
                </a:lnTo>
                <a:lnTo>
                  <a:pt x="298" y="0"/>
                </a:lnTo>
                <a:lnTo>
                  <a:pt x="303" y="0"/>
                </a:lnTo>
                <a:lnTo>
                  <a:pt x="307" y="0"/>
                </a:lnTo>
                <a:lnTo>
                  <a:pt x="311" y="0"/>
                </a:lnTo>
                <a:lnTo>
                  <a:pt x="316" y="0"/>
                </a:lnTo>
                <a:lnTo>
                  <a:pt x="320" y="0"/>
                </a:lnTo>
                <a:lnTo>
                  <a:pt x="325" y="0"/>
                </a:lnTo>
                <a:lnTo>
                  <a:pt x="329" y="0"/>
                </a:lnTo>
                <a:lnTo>
                  <a:pt x="334" y="0"/>
                </a:lnTo>
                <a:lnTo>
                  <a:pt x="338" y="0"/>
                </a:lnTo>
                <a:lnTo>
                  <a:pt x="343" y="5"/>
                </a:lnTo>
                <a:lnTo>
                  <a:pt x="347" y="5"/>
                </a:lnTo>
                <a:lnTo>
                  <a:pt x="351" y="5"/>
                </a:lnTo>
                <a:lnTo>
                  <a:pt x="356" y="9"/>
                </a:lnTo>
                <a:lnTo>
                  <a:pt x="360" y="9"/>
                </a:lnTo>
                <a:lnTo>
                  <a:pt x="365" y="14"/>
                </a:lnTo>
                <a:lnTo>
                  <a:pt x="369" y="14"/>
                </a:lnTo>
                <a:lnTo>
                  <a:pt x="374" y="18"/>
                </a:lnTo>
                <a:lnTo>
                  <a:pt x="378" y="18"/>
                </a:lnTo>
                <a:lnTo>
                  <a:pt x="383" y="23"/>
                </a:lnTo>
                <a:lnTo>
                  <a:pt x="387" y="27"/>
                </a:lnTo>
                <a:lnTo>
                  <a:pt x="391" y="32"/>
                </a:lnTo>
                <a:lnTo>
                  <a:pt x="396" y="32"/>
                </a:lnTo>
                <a:lnTo>
                  <a:pt x="400" y="36"/>
                </a:lnTo>
                <a:lnTo>
                  <a:pt x="405" y="40"/>
                </a:lnTo>
                <a:lnTo>
                  <a:pt x="409" y="45"/>
                </a:lnTo>
                <a:lnTo>
                  <a:pt x="414" y="49"/>
                </a:lnTo>
                <a:lnTo>
                  <a:pt x="418" y="54"/>
                </a:lnTo>
                <a:lnTo>
                  <a:pt x="423" y="58"/>
                </a:lnTo>
                <a:lnTo>
                  <a:pt x="427" y="63"/>
                </a:lnTo>
                <a:lnTo>
                  <a:pt x="431" y="67"/>
                </a:lnTo>
                <a:lnTo>
                  <a:pt x="436" y="72"/>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148360" y="5272200"/>
            <a:ext cx="550800" cy="704880"/>
          </a:xfrm>
          <a:custGeom>
            <a:avLst/>
            <a:gdLst/>
            <a:ahLst/>
            <a:rect l="l" t="t" r="r" b="b"/>
            <a:pathLst>
              <a:path w="347" h="444">
                <a:moveTo>
                  <a:pt x="0" y="0"/>
                </a:moveTo>
                <a:lnTo>
                  <a:pt x="0" y="4"/>
                </a:lnTo>
                <a:lnTo>
                  <a:pt x="9" y="8"/>
                </a:lnTo>
                <a:lnTo>
                  <a:pt x="9" y="13"/>
                </a:lnTo>
                <a:lnTo>
                  <a:pt x="13" y="17"/>
                </a:lnTo>
                <a:lnTo>
                  <a:pt x="13" y="22"/>
                </a:lnTo>
                <a:lnTo>
                  <a:pt x="22" y="26"/>
                </a:lnTo>
                <a:lnTo>
                  <a:pt x="22" y="31"/>
                </a:lnTo>
                <a:lnTo>
                  <a:pt x="27" y="35"/>
                </a:lnTo>
                <a:lnTo>
                  <a:pt x="27" y="40"/>
                </a:lnTo>
                <a:lnTo>
                  <a:pt x="31" y="44"/>
                </a:lnTo>
                <a:lnTo>
                  <a:pt x="40" y="53"/>
                </a:lnTo>
                <a:lnTo>
                  <a:pt x="40" y="57"/>
                </a:lnTo>
                <a:lnTo>
                  <a:pt x="44" y="62"/>
                </a:lnTo>
                <a:lnTo>
                  <a:pt x="49" y="66"/>
                </a:lnTo>
                <a:lnTo>
                  <a:pt x="49" y="71"/>
                </a:lnTo>
                <a:lnTo>
                  <a:pt x="53" y="75"/>
                </a:lnTo>
                <a:lnTo>
                  <a:pt x="53" y="80"/>
                </a:lnTo>
                <a:lnTo>
                  <a:pt x="58" y="84"/>
                </a:lnTo>
                <a:lnTo>
                  <a:pt x="62" y="88"/>
                </a:lnTo>
                <a:lnTo>
                  <a:pt x="62" y="93"/>
                </a:lnTo>
                <a:lnTo>
                  <a:pt x="67" y="97"/>
                </a:lnTo>
                <a:lnTo>
                  <a:pt x="67" y="102"/>
                </a:lnTo>
                <a:lnTo>
                  <a:pt x="71" y="106"/>
                </a:lnTo>
                <a:lnTo>
                  <a:pt x="76" y="111"/>
                </a:lnTo>
                <a:lnTo>
                  <a:pt x="76" y="115"/>
                </a:lnTo>
                <a:lnTo>
                  <a:pt x="80" y="124"/>
                </a:lnTo>
                <a:lnTo>
                  <a:pt x="80" y="129"/>
                </a:lnTo>
                <a:lnTo>
                  <a:pt x="84" y="133"/>
                </a:lnTo>
                <a:lnTo>
                  <a:pt x="89" y="137"/>
                </a:lnTo>
                <a:lnTo>
                  <a:pt x="89" y="142"/>
                </a:lnTo>
                <a:lnTo>
                  <a:pt x="93" y="146"/>
                </a:lnTo>
                <a:lnTo>
                  <a:pt x="93" y="151"/>
                </a:lnTo>
                <a:lnTo>
                  <a:pt x="98" y="155"/>
                </a:lnTo>
                <a:lnTo>
                  <a:pt x="102" y="160"/>
                </a:lnTo>
                <a:lnTo>
                  <a:pt x="102" y="169"/>
                </a:lnTo>
                <a:lnTo>
                  <a:pt x="107" y="173"/>
                </a:lnTo>
                <a:lnTo>
                  <a:pt x="107" y="177"/>
                </a:lnTo>
                <a:lnTo>
                  <a:pt x="111" y="182"/>
                </a:lnTo>
                <a:lnTo>
                  <a:pt x="111" y="186"/>
                </a:lnTo>
                <a:lnTo>
                  <a:pt x="116" y="195"/>
                </a:lnTo>
                <a:lnTo>
                  <a:pt x="120" y="200"/>
                </a:lnTo>
                <a:lnTo>
                  <a:pt x="120" y="204"/>
                </a:lnTo>
                <a:lnTo>
                  <a:pt x="124" y="209"/>
                </a:lnTo>
                <a:lnTo>
                  <a:pt x="124" y="213"/>
                </a:lnTo>
                <a:lnTo>
                  <a:pt x="129" y="222"/>
                </a:lnTo>
                <a:lnTo>
                  <a:pt x="133" y="226"/>
                </a:lnTo>
                <a:lnTo>
                  <a:pt x="133" y="231"/>
                </a:lnTo>
                <a:lnTo>
                  <a:pt x="138" y="235"/>
                </a:lnTo>
                <a:lnTo>
                  <a:pt x="138" y="244"/>
                </a:lnTo>
                <a:lnTo>
                  <a:pt x="142" y="249"/>
                </a:lnTo>
                <a:lnTo>
                  <a:pt x="147" y="253"/>
                </a:lnTo>
                <a:lnTo>
                  <a:pt x="147" y="258"/>
                </a:lnTo>
                <a:lnTo>
                  <a:pt x="151" y="266"/>
                </a:lnTo>
                <a:lnTo>
                  <a:pt x="151" y="271"/>
                </a:lnTo>
                <a:lnTo>
                  <a:pt x="156" y="275"/>
                </a:lnTo>
                <a:lnTo>
                  <a:pt x="160" y="284"/>
                </a:lnTo>
                <a:lnTo>
                  <a:pt x="160" y="289"/>
                </a:lnTo>
                <a:lnTo>
                  <a:pt x="164" y="293"/>
                </a:lnTo>
                <a:lnTo>
                  <a:pt x="164" y="298"/>
                </a:lnTo>
                <a:lnTo>
                  <a:pt x="169" y="306"/>
                </a:lnTo>
                <a:lnTo>
                  <a:pt x="173" y="311"/>
                </a:lnTo>
                <a:lnTo>
                  <a:pt x="173" y="315"/>
                </a:lnTo>
                <a:lnTo>
                  <a:pt x="178" y="324"/>
                </a:lnTo>
                <a:lnTo>
                  <a:pt x="178" y="329"/>
                </a:lnTo>
                <a:lnTo>
                  <a:pt x="182" y="333"/>
                </a:lnTo>
                <a:lnTo>
                  <a:pt x="187" y="342"/>
                </a:lnTo>
                <a:lnTo>
                  <a:pt x="187" y="346"/>
                </a:lnTo>
                <a:lnTo>
                  <a:pt x="191" y="351"/>
                </a:lnTo>
                <a:lnTo>
                  <a:pt x="191" y="360"/>
                </a:lnTo>
                <a:lnTo>
                  <a:pt x="196" y="364"/>
                </a:lnTo>
                <a:lnTo>
                  <a:pt x="200" y="369"/>
                </a:lnTo>
                <a:lnTo>
                  <a:pt x="200" y="378"/>
                </a:lnTo>
                <a:lnTo>
                  <a:pt x="204" y="382"/>
                </a:lnTo>
                <a:lnTo>
                  <a:pt x="204" y="387"/>
                </a:lnTo>
                <a:lnTo>
                  <a:pt x="209" y="395"/>
                </a:lnTo>
                <a:lnTo>
                  <a:pt x="213" y="400"/>
                </a:lnTo>
                <a:lnTo>
                  <a:pt x="213" y="404"/>
                </a:lnTo>
                <a:lnTo>
                  <a:pt x="218" y="413"/>
                </a:lnTo>
                <a:lnTo>
                  <a:pt x="218" y="418"/>
                </a:lnTo>
                <a:lnTo>
                  <a:pt x="222" y="422"/>
                </a:lnTo>
                <a:lnTo>
                  <a:pt x="227" y="431"/>
                </a:lnTo>
                <a:lnTo>
                  <a:pt x="227" y="435"/>
                </a:lnTo>
                <a:lnTo>
                  <a:pt x="231" y="440"/>
                </a:lnTo>
                <a:lnTo>
                  <a:pt x="231" y="444"/>
                </a:lnTo>
                <a:lnTo>
                  <a:pt x="236" y="440"/>
                </a:lnTo>
                <a:lnTo>
                  <a:pt x="236" y="435"/>
                </a:lnTo>
                <a:lnTo>
                  <a:pt x="240" y="431"/>
                </a:lnTo>
                <a:lnTo>
                  <a:pt x="245" y="422"/>
                </a:lnTo>
                <a:lnTo>
                  <a:pt x="245" y="418"/>
                </a:lnTo>
                <a:lnTo>
                  <a:pt x="249" y="413"/>
                </a:lnTo>
                <a:lnTo>
                  <a:pt x="249" y="404"/>
                </a:lnTo>
                <a:lnTo>
                  <a:pt x="253" y="400"/>
                </a:lnTo>
                <a:lnTo>
                  <a:pt x="258" y="395"/>
                </a:lnTo>
                <a:lnTo>
                  <a:pt x="258" y="387"/>
                </a:lnTo>
                <a:lnTo>
                  <a:pt x="262" y="382"/>
                </a:lnTo>
                <a:lnTo>
                  <a:pt x="262" y="378"/>
                </a:lnTo>
                <a:lnTo>
                  <a:pt x="267" y="369"/>
                </a:lnTo>
                <a:lnTo>
                  <a:pt x="271" y="364"/>
                </a:lnTo>
                <a:lnTo>
                  <a:pt x="271" y="360"/>
                </a:lnTo>
                <a:lnTo>
                  <a:pt x="276" y="355"/>
                </a:lnTo>
                <a:lnTo>
                  <a:pt x="276" y="346"/>
                </a:lnTo>
                <a:lnTo>
                  <a:pt x="280" y="342"/>
                </a:lnTo>
                <a:lnTo>
                  <a:pt x="285" y="338"/>
                </a:lnTo>
                <a:lnTo>
                  <a:pt x="285" y="333"/>
                </a:lnTo>
                <a:lnTo>
                  <a:pt x="289" y="324"/>
                </a:lnTo>
                <a:lnTo>
                  <a:pt x="289" y="320"/>
                </a:lnTo>
                <a:lnTo>
                  <a:pt x="293" y="315"/>
                </a:lnTo>
                <a:lnTo>
                  <a:pt x="298" y="311"/>
                </a:lnTo>
                <a:lnTo>
                  <a:pt x="298" y="302"/>
                </a:lnTo>
                <a:lnTo>
                  <a:pt x="302" y="298"/>
                </a:lnTo>
                <a:lnTo>
                  <a:pt x="302" y="293"/>
                </a:lnTo>
                <a:lnTo>
                  <a:pt x="307" y="289"/>
                </a:lnTo>
                <a:lnTo>
                  <a:pt x="311" y="284"/>
                </a:lnTo>
                <a:lnTo>
                  <a:pt x="311" y="275"/>
                </a:lnTo>
                <a:lnTo>
                  <a:pt x="316" y="271"/>
                </a:lnTo>
                <a:lnTo>
                  <a:pt x="316" y="266"/>
                </a:lnTo>
                <a:lnTo>
                  <a:pt x="320" y="262"/>
                </a:lnTo>
                <a:lnTo>
                  <a:pt x="325" y="258"/>
                </a:lnTo>
                <a:lnTo>
                  <a:pt x="325" y="253"/>
                </a:lnTo>
                <a:lnTo>
                  <a:pt x="329" y="244"/>
                </a:lnTo>
                <a:lnTo>
                  <a:pt x="329" y="240"/>
                </a:lnTo>
                <a:lnTo>
                  <a:pt x="333" y="235"/>
                </a:lnTo>
                <a:lnTo>
                  <a:pt x="338" y="231"/>
                </a:lnTo>
                <a:lnTo>
                  <a:pt x="338" y="226"/>
                </a:lnTo>
                <a:lnTo>
                  <a:pt x="342" y="222"/>
                </a:lnTo>
                <a:lnTo>
                  <a:pt x="342" y="217"/>
                </a:lnTo>
                <a:lnTo>
                  <a:pt x="347" y="213"/>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699160" y="5278320"/>
            <a:ext cx="577800" cy="331920"/>
          </a:xfrm>
          <a:custGeom>
            <a:avLst/>
            <a:gdLst/>
            <a:ahLst/>
            <a:rect l="l" t="t" r="r" b="b"/>
            <a:pathLst>
              <a:path w="364" h="209">
                <a:moveTo>
                  <a:pt x="0" y="209"/>
                </a:moveTo>
                <a:lnTo>
                  <a:pt x="0" y="205"/>
                </a:lnTo>
                <a:lnTo>
                  <a:pt x="4" y="196"/>
                </a:lnTo>
                <a:lnTo>
                  <a:pt x="9" y="191"/>
                </a:lnTo>
                <a:lnTo>
                  <a:pt x="9" y="187"/>
                </a:lnTo>
                <a:lnTo>
                  <a:pt x="13" y="182"/>
                </a:lnTo>
                <a:lnTo>
                  <a:pt x="13" y="178"/>
                </a:lnTo>
                <a:lnTo>
                  <a:pt x="18" y="173"/>
                </a:lnTo>
                <a:lnTo>
                  <a:pt x="22" y="169"/>
                </a:lnTo>
                <a:lnTo>
                  <a:pt x="22" y="165"/>
                </a:lnTo>
                <a:lnTo>
                  <a:pt x="26" y="160"/>
                </a:lnTo>
                <a:lnTo>
                  <a:pt x="26" y="156"/>
                </a:lnTo>
                <a:lnTo>
                  <a:pt x="31" y="151"/>
                </a:lnTo>
                <a:lnTo>
                  <a:pt x="40" y="142"/>
                </a:lnTo>
                <a:lnTo>
                  <a:pt x="40" y="138"/>
                </a:lnTo>
                <a:lnTo>
                  <a:pt x="44" y="133"/>
                </a:lnTo>
                <a:lnTo>
                  <a:pt x="49" y="129"/>
                </a:lnTo>
                <a:lnTo>
                  <a:pt x="49" y="125"/>
                </a:lnTo>
                <a:lnTo>
                  <a:pt x="53" y="120"/>
                </a:lnTo>
                <a:lnTo>
                  <a:pt x="53" y="116"/>
                </a:lnTo>
                <a:lnTo>
                  <a:pt x="58" y="111"/>
                </a:lnTo>
                <a:lnTo>
                  <a:pt x="62" y="107"/>
                </a:lnTo>
                <a:lnTo>
                  <a:pt x="66" y="102"/>
                </a:lnTo>
                <a:lnTo>
                  <a:pt x="66" y="98"/>
                </a:lnTo>
                <a:lnTo>
                  <a:pt x="75" y="93"/>
                </a:lnTo>
                <a:lnTo>
                  <a:pt x="75" y="89"/>
                </a:lnTo>
                <a:lnTo>
                  <a:pt x="84" y="80"/>
                </a:lnTo>
                <a:lnTo>
                  <a:pt x="80" y="80"/>
                </a:lnTo>
                <a:lnTo>
                  <a:pt x="84" y="80"/>
                </a:lnTo>
                <a:lnTo>
                  <a:pt x="89" y="76"/>
                </a:lnTo>
                <a:lnTo>
                  <a:pt x="89" y="71"/>
                </a:lnTo>
                <a:lnTo>
                  <a:pt x="93" y="67"/>
                </a:lnTo>
                <a:lnTo>
                  <a:pt x="102" y="62"/>
                </a:lnTo>
                <a:lnTo>
                  <a:pt x="102" y="58"/>
                </a:lnTo>
                <a:lnTo>
                  <a:pt x="106" y="53"/>
                </a:lnTo>
                <a:lnTo>
                  <a:pt x="115" y="49"/>
                </a:lnTo>
                <a:lnTo>
                  <a:pt x="115" y="44"/>
                </a:lnTo>
                <a:lnTo>
                  <a:pt x="120" y="40"/>
                </a:lnTo>
                <a:lnTo>
                  <a:pt x="124" y="36"/>
                </a:lnTo>
                <a:lnTo>
                  <a:pt x="138" y="27"/>
                </a:lnTo>
                <a:lnTo>
                  <a:pt x="133" y="27"/>
                </a:lnTo>
                <a:lnTo>
                  <a:pt x="138" y="27"/>
                </a:lnTo>
                <a:lnTo>
                  <a:pt x="142" y="22"/>
                </a:lnTo>
                <a:lnTo>
                  <a:pt x="147" y="18"/>
                </a:lnTo>
                <a:lnTo>
                  <a:pt x="151" y="18"/>
                </a:lnTo>
                <a:lnTo>
                  <a:pt x="155" y="13"/>
                </a:lnTo>
                <a:lnTo>
                  <a:pt x="160" y="13"/>
                </a:lnTo>
                <a:lnTo>
                  <a:pt x="164" y="9"/>
                </a:lnTo>
                <a:lnTo>
                  <a:pt x="169" y="9"/>
                </a:lnTo>
                <a:lnTo>
                  <a:pt x="173" y="9"/>
                </a:lnTo>
                <a:lnTo>
                  <a:pt x="178" y="4"/>
                </a:lnTo>
                <a:lnTo>
                  <a:pt x="182" y="4"/>
                </a:lnTo>
                <a:lnTo>
                  <a:pt x="187" y="4"/>
                </a:lnTo>
                <a:lnTo>
                  <a:pt x="191" y="0"/>
                </a:lnTo>
                <a:lnTo>
                  <a:pt x="195" y="0"/>
                </a:lnTo>
                <a:lnTo>
                  <a:pt x="200" y="0"/>
                </a:lnTo>
                <a:lnTo>
                  <a:pt x="204" y="0"/>
                </a:lnTo>
                <a:lnTo>
                  <a:pt x="209" y="0"/>
                </a:lnTo>
                <a:lnTo>
                  <a:pt x="213" y="0"/>
                </a:lnTo>
                <a:lnTo>
                  <a:pt x="218" y="0"/>
                </a:lnTo>
                <a:lnTo>
                  <a:pt x="222" y="0"/>
                </a:lnTo>
                <a:lnTo>
                  <a:pt x="227" y="0"/>
                </a:lnTo>
                <a:lnTo>
                  <a:pt x="231" y="0"/>
                </a:lnTo>
                <a:lnTo>
                  <a:pt x="235" y="0"/>
                </a:lnTo>
                <a:lnTo>
                  <a:pt x="240" y="4"/>
                </a:lnTo>
                <a:lnTo>
                  <a:pt x="244" y="4"/>
                </a:lnTo>
                <a:lnTo>
                  <a:pt x="249" y="9"/>
                </a:lnTo>
                <a:lnTo>
                  <a:pt x="253" y="9"/>
                </a:lnTo>
                <a:lnTo>
                  <a:pt x="258" y="9"/>
                </a:lnTo>
                <a:lnTo>
                  <a:pt x="262" y="13"/>
                </a:lnTo>
                <a:lnTo>
                  <a:pt x="267" y="13"/>
                </a:lnTo>
                <a:lnTo>
                  <a:pt x="271" y="18"/>
                </a:lnTo>
                <a:lnTo>
                  <a:pt x="275" y="18"/>
                </a:lnTo>
                <a:lnTo>
                  <a:pt x="280" y="22"/>
                </a:lnTo>
                <a:lnTo>
                  <a:pt x="284" y="27"/>
                </a:lnTo>
                <a:lnTo>
                  <a:pt x="289" y="27"/>
                </a:lnTo>
                <a:lnTo>
                  <a:pt x="293" y="31"/>
                </a:lnTo>
                <a:lnTo>
                  <a:pt x="298" y="36"/>
                </a:lnTo>
                <a:lnTo>
                  <a:pt x="302" y="40"/>
                </a:lnTo>
                <a:lnTo>
                  <a:pt x="307" y="40"/>
                </a:lnTo>
                <a:lnTo>
                  <a:pt x="311" y="44"/>
                </a:lnTo>
                <a:lnTo>
                  <a:pt x="315" y="53"/>
                </a:lnTo>
                <a:lnTo>
                  <a:pt x="320" y="53"/>
                </a:lnTo>
                <a:lnTo>
                  <a:pt x="324" y="58"/>
                </a:lnTo>
                <a:lnTo>
                  <a:pt x="329" y="67"/>
                </a:lnTo>
                <a:lnTo>
                  <a:pt x="333" y="67"/>
                </a:lnTo>
                <a:lnTo>
                  <a:pt x="338" y="71"/>
                </a:lnTo>
                <a:lnTo>
                  <a:pt x="342" y="80"/>
                </a:lnTo>
                <a:lnTo>
                  <a:pt x="347" y="84"/>
                </a:lnTo>
                <a:lnTo>
                  <a:pt x="351" y="89"/>
                </a:lnTo>
                <a:lnTo>
                  <a:pt x="356" y="93"/>
                </a:lnTo>
                <a:lnTo>
                  <a:pt x="360" y="98"/>
                </a:lnTo>
                <a:lnTo>
                  <a:pt x="364" y="102"/>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077920" y="3287880"/>
            <a:ext cx="577800" cy="2689200"/>
          </a:xfrm>
          <a:custGeom>
            <a:avLst/>
            <a:gdLst/>
            <a:ahLst/>
            <a:rect l="l" t="t" r="r" b="b"/>
            <a:pathLst>
              <a:path w="364" h="1694">
                <a:moveTo>
                  <a:pt x="4" y="1694"/>
                </a:moveTo>
                <a:lnTo>
                  <a:pt x="0" y="1694"/>
                </a:lnTo>
                <a:lnTo>
                  <a:pt x="4" y="1694"/>
                </a:lnTo>
                <a:lnTo>
                  <a:pt x="9" y="1694"/>
                </a:lnTo>
                <a:lnTo>
                  <a:pt x="13" y="1690"/>
                </a:lnTo>
                <a:lnTo>
                  <a:pt x="17" y="1690"/>
                </a:lnTo>
                <a:lnTo>
                  <a:pt x="22" y="1681"/>
                </a:lnTo>
                <a:lnTo>
                  <a:pt x="26" y="1681"/>
                </a:lnTo>
                <a:lnTo>
                  <a:pt x="31" y="1672"/>
                </a:lnTo>
                <a:lnTo>
                  <a:pt x="35" y="1668"/>
                </a:lnTo>
                <a:lnTo>
                  <a:pt x="40" y="1663"/>
                </a:lnTo>
                <a:lnTo>
                  <a:pt x="44" y="1659"/>
                </a:lnTo>
                <a:lnTo>
                  <a:pt x="44" y="1650"/>
                </a:lnTo>
                <a:lnTo>
                  <a:pt x="49" y="1645"/>
                </a:lnTo>
                <a:lnTo>
                  <a:pt x="49" y="1641"/>
                </a:lnTo>
                <a:lnTo>
                  <a:pt x="53" y="1637"/>
                </a:lnTo>
                <a:lnTo>
                  <a:pt x="57" y="1628"/>
                </a:lnTo>
                <a:lnTo>
                  <a:pt x="57" y="1623"/>
                </a:lnTo>
                <a:lnTo>
                  <a:pt x="62" y="1614"/>
                </a:lnTo>
                <a:lnTo>
                  <a:pt x="62" y="1610"/>
                </a:lnTo>
                <a:lnTo>
                  <a:pt x="66" y="1601"/>
                </a:lnTo>
                <a:lnTo>
                  <a:pt x="71" y="1592"/>
                </a:lnTo>
                <a:lnTo>
                  <a:pt x="71" y="1583"/>
                </a:lnTo>
                <a:lnTo>
                  <a:pt x="75" y="1574"/>
                </a:lnTo>
                <a:lnTo>
                  <a:pt x="75" y="1565"/>
                </a:lnTo>
                <a:lnTo>
                  <a:pt x="80" y="1556"/>
                </a:lnTo>
                <a:lnTo>
                  <a:pt x="84" y="1548"/>
                </a:lnTo>
                <a:lnTo>
                  <a:pt x="84" y="1539"/>
                </a:lnTo>
                <a:lnTo>
                  <a:pt x="89" y="1525"/>
                </a:lnTo>
                <a:lnTo>
                  <a:pt x="89" y="1516"/>
                </a:lnTo>
                <a:lnTo>
                  <a:pt x="93" y="1503"/>
                </a:lnTo>
                <a:lnTo>
                  <a:pt x="97" y="1490"/>
                </a:lnTo>
                <a:lnTo>
                  <a:pt x="97" y="1481"/>
                </a:lnTo>
                <a:lnTo>
                  <a:pt x="102" y="1467"/>
                </a:lnTo>
                <a:lnTo>
                  <a:pt x="102" y="1450"/>
                </a:lnTo>
                <a:lnTo>
                  <a:pt x="106" y="1436"/>
                </a:lnTo>
                <a:lnTo>
                  <a:pt x="111" y="1423"/>
                </a:lnTo>
                <a:lnTo>
                  <a:pt x="111" y="1405"/>
                </a:lnTo>
                <a:lnTo>
                  <a:pt x="115" y="1392"/>
                </a:lnTo>
                <a:lnTo>
                  <a:pt x="115" y="1374"/>
                </a:lnTo>
                <a:lnTo>
                  <a:pt x="120" y="1356"/>
                </a:lnTo>
                <a:lnTo>
                  <a:pt x="120" y="1338"/>
                </a:lnTo>
                <a:lnTo>
                  <a:pt x="124" y="1321"/>
                </a:lnTo>
                <a:lnTo>
                  <a:pt x="129" y="1303"/>
                </a:lnTo>
                <a:lnTo>
                  <a:pt x="129" y="1281"/>
                </a:lnTo>
                <a:lnTo>
                  <a:pt x="133" y="1263"/>
                </a:lnTo>
                <a:lnTo>
                  <a:pt x="133" y="1241"/>
                </a:lnTo>
                <a:lnTo>
                  <a:pt x="138" y="1218"/>
                </a:lnTo>
                <a:lnTo>
                  <a:pt x="142" y="1196"/>
                </a:lnTo>
                <a:lnTo>
                  <a:pt x="142" y="1174"/>
                </a:lnTo>
                <a:lnTo>
                  <a:pt x="146" y="1147"/>
                </a:lnTo>
                <a:lnTo>
                  <a:pt x="146" y="1125"/>
                </a:lnTo>
                <a:lnTo>
                  <a:pt x="151" y="1098"/>
                </a:lnTo>
                <a:lnTo>
                  <a:pt x="155" y="1072"/>
                </a:lnTo>
                <a:lnTo>
                  <a:pt x="155" y="1045"/>
                </a:lnTo>
                <a:lnTo>
                  <a:pt x="160" y="1018"/>
                </a:lnTo>
                <a:lnTo>
                  <a:pt x="160" y="987"/>
                </a:lnTo>
                <a:lnTo>
                  <a:pt x="164" y="956"/>
                </a:lnTo>
                <a:lnTo>
                  <a:pt x="169" y="929"/>
                </a:lnTo>
                <a:lnTo>
                  <a:pt x="169" y="898"/>
                </a:lnTo>
                <a:lnTo>
                  <a:pt x="173" y="863"/>
                </a:lnTo>
                <a:lnTo>
                  <a:pt x="173" y="831"/>
                </a:lnTo>
                <a:lnTo>
                  <a:pt x="178" y="800"/>
                </a:lnTo>
                <a:lnTo>
                  <a:pt x="182" y="765"/>
                </a:lnTo>
                <a:lnTo>
                  <a:pt x="182" y="734"/>
                </a:lnTo>
                <a:lnTo>
                  <a:pt x="186" y="698"/>
                </a:lnTo>
                <a:lnTo>
                  <a:pt x="186" y="667"/>
                </a:lnTo>
                <a:lnTo>
                  <a:pt x="191" y="631"/>
                </a:lnTo>
                <a:lnTo>
                  <a:pt x="195" y="596"/>
                </a:lnTo>
                <a:lnTo>
                  <a:pt x="195" y="560"/>
                </a:lnTo>
                <a:lnTo>
                  <a:pt x="200" y="529"/>
                </a:lnTo>
                <a:lnTo>
                  <a:pt x="200" y="493"/>
                </a:lnTo>
                <a:lnTo>
                  <a:pt x="204" y="458"/>
                </a:lnTo>
                <a:lnTo>
                  <a:pt x="209" y="427"/>
                </a:lnTo>
                <a:lnTo>
                  <a:pt x="209" y="396"/>
                </a:lnTo>
                <a:lnTo>
                  <a:pt x="213" y="364"/>
                </a:lnTo>
                <a:lnTo>
                  <a:pt x="213" y="333"/>
                </a:lnTo>
                <a:lnTo>
                  <a:pt x="218" y="302"/>
                </a:lnTo>
                <a:lnTo>
                  <a:pt x="222" y="275"/>
                </a:lnTo>
                <a:lnTo>
                  <a:pt x="222" y="249"/>
                </a:lnTo>
                <a:lnTo>
                  <a:pt x="226" y="222"/>
                </a:lnTo>
                <a:lnTo>
                  <a:pt x="226" y="200"/>
                </a:lnTo>
                <a:lnTo>
                  <a:pt x="231" y="173"/>
                </a:lnTo>
                <a:lnTo>
                  <a:pt x="235" y="155"/>
                </a:lnTo>
                <a:lnTo>
                  <a:pt x="235" y="133"/>
                </a:lnTo>
                <a:lnTo>
                  <a:pt x="240" y="115"/>
                </a:lnTo>
                <a:lnTo>
                  <a:pt x="240" y="98"/>
                </a:lnTo>
                <a:lnTo>
                  <a:pt x="244" y="80"/>
                </a:lnTo>
                <a:lnTo>
                  <a:pt x="244" y="66"/>
                </a:lnTo>
                <a:lnTo>
                  <a:pt x="249" y="53"/>
                </a:lnTo>
                <a:lnTo>
                  <a:pt x="253" y="44"/>
                </a:lnTo>
                <a:lnTo>
                  <a:pt x="253" y="35"/>
                </a:lnTo>
                <a:lnTo>
                  <a:pt x="258" y="26"/>
                </a:lnTo>
                <a:lnTo>
                  <a:pt x="258" y="17"/>
                </a:lnTo>
                <a:lnTo>
                  <a:pt x="262" y="13"/>
                </a:lnTo>
                <a:lnTo>
                  <a:pt x="271" y="4"/>
                </a:lnTo>
                <a:lnTo>
                  <a:pt x="271" y="0"/>
                </a:lnTo>
                <a:lnTo>
                  <a:pt x="275" y="0"/>
                </a:lnTo>
                <a:lnTo>
                  <a:pt x="280" y="0"/>
                </a:lnTo>
                <a:lnTo>
                  <a:pt x="284" y="4"/>
                </a:lnTo>
                <a:lnTo>
                  <a:pt x="289" y="9"/>
                </a:lnTo>
                <a:lnTo>
                  <a:pt x="293" y="13"/>
                </a:lnTo>
                <a:lnTo>
                  <a:pt x="298" y="17"/>
                </a:lnTo>
                <a:lnTo>
                  <a:pt x="298" y="22"/>
                </a:lnTo>
                <a:lnTo>
                  <a:pt x="302" y="26"/>
                </a:lnTo>
                <a:lnTo>
                  <a:pt x="306" y="35"/>
                </a:lnTo>
                <a:lnTo>
                  <a:pt x="306" y="40"/>
                </a:lnTo>
                <a:lnTo>
                  <a:pt x="311" y="44"/>
                </a:lnTo>
                <a:lnTo>
                  <a:pt x="311" y="53"/>
                </a:lnTo>
                <a:lnTo>
                  <a:pt x="315" y="57"/>
                </a:lnTo>
                <a:lnTo>
                  <a:pt x="320" y="66"/>
                </a:lnTo>
                <a:lnTo>
                  <a:pt x="320" y="71"/>
                </a:lnTo>
                <a:lnTo>
                  <a:pt x="324" y="80"/>
                </a:lnTo>
                <a:lnTo>
                  <a:pt x="324" y="89"/>
                </a:lnTo>
                <a:lnTo>
                  <a:pt x="329" y="98"/>
                </a:lnTo>
                <a:lnTo>
                  <a:pt x="333" y="106"/>
                </a:lnTo>
                <a:lnTo>
                  <a:pt x="333" y="115"/>
                </a:lnTo>
                <a:lnTo>
                  <a:pt x="338" y="124"/>
                </a:lnTo>
                <a:lnTo>
                  <a:pt x="338" y="138"/>
                </a:lnTo>
                <a:lnTo>
                  <a:pt x="342" y="146"/>
                </a:lnTo>
                <a:lnTo>
                  <a:pt x="346" y="160"/>
                </a:lnTo>
                <a:lnTo>
                  <a:pt x="346" y="169"/>
                </a:lnTo>
                <a:lnTo>
                  <a:pt x="351" y="182"/>
                </a:lnTo>
                <a:lnTo>
                  <a:pt x="351" y="195"/>
                </a:lnTo>
                <a:lnTo>
                  <a:pt x="355" y="209"/>
                </a:lnTo>
                <a:lnTo>
                  <a:pt x="360" y="222"/>
                </a:lnTo>
                <a:lnTo>
                  <a:pt x="360" y="240"/>
                </a:lnTo>
                <a:lnTo>
                  <a:pt x="364" y="253"/>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655720" y="3689280"/>
            <a:ext cx="586080" cy="1314360"/>
          </a:xfrm>
          <a:custGeom>
            <a:avLst/>
            <a:gdLst/>
            <a:ahLst/>
            <a:rect l="l" t="t" r="r" b="b"/>
            <a:pathLst>
              <a:path w="369" h="828">
                <a:moveTo>
                  <a:pt x="0" y="0"/>
                </a:moveTo>
                <a:lnTo>
                  <a:pt x="0" y="18"/>
                </a:lnTo>
                <a:lnTo>
                  <a:pt x="5" y="31"/>
                </a:lnTo>
                <a:lnTo>
                  <a:pt x="5" y="49"/>
                </a:lnTo>
                <a:lnTo>
                  <a:pt x="9" y="67"/>
                </a:lnTo>
                <a:lnTo>
                  <a:pt x="14" y="85"/>
                </a:lnTo>
                <a:lnTo>
                  <a:pt x="14" y="107"/>
                </a:lnTo>
                <a:lnTo>
                  <a:pt x="18" y="125"/>
                </a:lnTo>
                <a:lnTo>
                  <a:pt x="18" y="143"/>
                </a:lnTo>
                <a:lnTo>
                  <a:pt x="23" y="165"/>
                </a:lnTo>
                <a:lnTo>
                  <a:pt x="27" y="187"/>
                </a:lnTo>
                <a:lnTo>
                  <a:pt x="27" y="205"/>
                </a:lnTo>
                <a:lnTo>
                  <a:pt x="31" y="227"/>
                </a:lnTo>
                <a:lnTo>
                  <a:pt x="31" y="249"/>
                </a:lnTo>
                <a:lnTo>
                  <a:pt x="36" y="272"/>
                </a:lnTo>
                <a:lnTo>
                  <a:pt x="40" y="294"/>
                </a:lnTo>
                <a:lnTo>
                  <a:pt x="40" y="312"/>
                </a:lnTo>
                <a:lnTo>
                  <a:pt x="45" y="334"/>
                </a:lnTo>
                <a:lnTo>
                  <a:pt x="45" y="356"/>
                </a:lnTo>
                <a:lnTo>
                  <a:pt x="49" y="378"/>
                </a:lnTo>
                <a:lnTo>
                  <a:pt x="54" y="396"/>
                </a:lnTo>
                <a:lnTo>
                  <a:pt x="54" y="418"/>
                </a:lnTo>
                <a:lnTo>
                  <a:pt x="58" y="436"/>
                </a:lnTo>
                <a:lnTo>
                  <a:pt x="58" y="458"/>
                </a:lnTo>
                <a:lnTo>
                  <a:pt x="63" y="476"/>
                </a:lnTo>
                <a:lnTo>
                  <a:pt x="67" y="494"/>
                </a:lnTo>
                <a:lnTo>
                  <a:pt x="67" y="512"/>
                </a:lnTo>
                <a:lnTo>
                  <a:pt x="71" y="530"/>
                </a:lnTo>
                <a:lnTo>
                  <a:pt x="71" y="547"/>
                </a:lnTo>
                <a:lnTo>
                  <a:pt x="76" y="565"/>
                </a:lnTo>
                <a:lnTo>
                  <a:pt x="80" y="578"/>
                </a:lnTo>
                <a:lnTo>
                  <a:pt x="80" y="592"/>
                </a:lnTo>
                <a:lnTo>
                  <a:pt x="85" y="605"/>
                </a:lnTo>
                <a:lnTo>
                  <a:pt x="85" y="618"/>
                </a:lnTo>
                <a:lnTo>
                  <a:pt x="89" y="632"/>
                </a:lnTo>
                <a:lnTo>
                  <a:pt x="94" y="645"/>
                </a:lnTo>
                <a:lnTo>
                  <a:pt x="94" y="654"/>
                </a:lnTo>
                <a:lnTo>
                  <a:pt x="98" y="667"/>
                </a:lnTo>
                <a:lnTo>
                  <a:pt x="98" y="676"/>
                </a:lnTo>
                <a:lnTo>
                  <a:pt x="103" y="685"/>
                </a:lnTo>
                <a:lnTo>
                  <a:pt x="107" y="694"/>
                </a:lnTo>
                <a:lnTo>
                  <a:pt x="107" y="699"/>
                </a:lnTo>
                <a:lnTo>
                  <a:pt x="111" y="707"/>
                </a:lnTo>
                <a:lnTo>
                  <a:pt x="111" y="716"/>
                </a:lnTo>
                <a:lnTo>
                  <a:pt x="116" y="721"/>
                </a:lnTo>
                <a:lnTo>
                  <a:pt x="116" y="725"/>
                </a:lnTo>
                <a:lnTo>
                  <a:pt x="120" y="730"/>
                </a:lnTo>
                <a:lnTo>
                  <a:pt x="125" y="734"/>
                </a:lnTo>
                <a:lnTo>
                  <a:pt x="125" y="739"/>
                </a:lnTo>
                <a:lnTo>
                  <a:pt x="129" y="743"/>
                </a:lnTo>
                <a:lnTo>
                  <a:pt x="138" y="747"/>
                </a:lnTo>
                <a:lnTo>
                  <a:pt x="143" y="752"/>
                </a:lnTo>
                <a:lnTo>
                  <a:pt x="147" y="752"/>
                </a:lnTo>
                <a:lnTo>
                  <a:pt x="151" y="747"/>
                </a:lnTo>
                <a:lnTo>
                  <a:pt x="156" y="747"/>
                </a:lnTo>
                <a:lnTo>
                  <a:pt x="160" y="743"/>
                </a:lnTo>
                <a:lnTo>
                  <a:pt x="165" y="739"/>
                </a:lnTo>
                <a:lnTo>
                  <a:pt x="174" y="730"/>
                </a:lnTo>
                <a:lnTo>
                  <a:pt x="169" y="730"/>
                </a:lnTo>
                <a:lnTo>
                  <a:pt x="174" y="730"/>
                </a:lnTo>
                <a:lnTo>
                  <a:pt x="178" y="725"/>
                </a:lnTo>
                <a:lnTo>
                  <a:pt x="178" y="721"/>
                </a:lnTo>
                <a:lnTo>
                  <a:pt x="183" y="712"/>
                </a:lnTo>
                <a:lnTo>
                  <a:pt x="183" y="707"/>
                </a:lnTo>
                <a:lnTo>
                  <a:pt x="187" y="703"/>
                </a:lnTo>
                <a:lnTo>
                  <a:pt x="191" y="699"/>
                </a:lnTo>
                <a:lnTo>
                  <a:pt x="191" y="694"/>
                </a:lnTo>
                <a:lnTo>
                  <a:pt x="196" y="685"/>
                </a:lnTo>
                <a:lnTo>
                  <a:pt x="196" y="681"/>
                </a:lnTo>
                <a:lnTo>
                  <a:pt x="200" y="676"/>
                </a:lnTo>
                <a:lnTo>
                  <a:pt x="205" y="667"/>
                </a:lnTo>
                <a:lnTo>
                  <a:pt x="205" y="663"/>
                </a:lnTo>
                <a:lnTo>
                  <a:pt x="209" y="658"/>
                </a:lnTo>
                <a:lnTo>
                  <a:pt x="209" y="650"/>
                </a:lnTo>
                <a:lnTo>
                  <a:pt x="214" y="645"/>
                </a:lnTo>
                <a:lnTo>
                  <a:pt x="218" y="641"/>
                </a:lnTo>
                <a:lnTo>
                  <a:pt x="218" y="632"/>
                </a:lnTo>
                <a:lnTo>
                  <a:pt x="223" y="627"/>
                </a:lnTo>
                <a:lnTo>
                  <a:pt x="223" y="623"/>
                </a:lnTo>
                <a:lnTo>
                  <a:pt x="227" y="618"/>
                </a:lnTo>
                <a:lnTo>
                  <a:pt x="232" y="614"/>
                </a:lnTo>
                <a:lnTo>
                  <a:pt x="232" y="610"/>
                </a:lnTo>
                <a:lnTo>
                  <a:pt x="236" y="605"/>
                </a:lnTo>
                <a:lnTo>
                  <a:pt x="236" y="601"/>
                </a:lnTo>
                <a:lnTo>
                  <a:pt x="240" y="596"/>
                </a:lnTo>
                <a:lnTo>
                  <a:pt x="240" y="592"/>
                </a:lnTo>
                <a:lnTo>
                  <a:pt x="254" y="583"/>
                </a:lnTo>
                <a:lnTo>
                  <a:pt x="249" y="583"/>
                </a:lnTo>
                <a:lnTo>
                  <a:pt x="254" y="583"/>
                </a:lnTo>
                <a:lnTo>
                  <a:pt x="258" y="578"/>
                </a:lnTo>
                <a:lnTo>
                  <a:pt x="263" y="578"/>
                </a:lnTo>
                <a:lnTo>
                  <a:pt x="267" y="583"/>
                </a:lnTo>
                <a:lnTo>
                  <a:pt x="272" y="583"/>
                </a:lnTo>
                <a:lnTo>
                  <a:pt x="276" y="587"/>
                </a:lnTo>
                <a:lnTo>
                  <a:pt x="280" y="592"/>
                </a:lnTo>
                <a:lnTo>
                  <a:pt x="285" y="596"/>
                </a:lnTo>
                <a:lnTo>
                  <a:pt x="289" y="601"/>
                </a:lnTo>
                <a:lnTo>
                  <a:pt x="289" y="605"/>
                </a:lnTo>
                <a:lnTo>
                  <a:pt x="294" y="610"/>
                </a:lnTo>
                <a:lnTo>
                  <a:pt x="294" y="614"/>
                </a:lnTo>
                <a:lnTo>
                  <a:pt x="298" y="618"/>
                </a:lnTo>
                <a:lnTo>
                  <a:pt x="303" y="623"/>
                </a:lnTo>
                <a:lnTo>
                  <a:pt x="303" y="627"/>
                </a:lnTo>
                <a:lnTo>
                  <a:pt x="307" y="636"/>
                </a:lnTo>
                <a:lnTo>
                  <a:pt x="307" y="641"/>
                </a:lnTo>
                <a:lnTo>
                  <a:pt x="312" y="650"/>
                </a:lnTo>
                <a:lnTo>
                  <a:pt x="316" y="654"/>
                </a:lnTo>
                <a:lnTo>
                  <a:pt x="316" y="663"/>
                </a:lnTo>
                <a:lnTo>
                  <a:pt x="320" y="667"/>
                </a:lnTo>
                <a:lnTo>
                  <a:pt x="320" y="676"/>
                </a:lnTo>
                <a:lnTo>
                  <a:pt x="325" y="685"/>
                </a:lnTo>
                <a:lnTo>
                  <a:pt x="329" y="694"/>
                </a:lnTo>
                <a:lnTo>
                  <a:pt x="329" y="699"/>
                </a:lnTo>
                <a:lnTo>
                  <a:pt x="334" y="707"/>
                </a:lnTo>
                <a:lnTo>
                  <a:pt x="334" y="716"/>
                </a:lnTo>
                <a:lnTo>
                  <a:pt x="338" y="725"/>
                </a:lnTo>
                <a:lnTo>
                  <a:pt x="343" y="734"/>
                </a:lnTo>
                <a:lnTo>
                  <a:pt x="343" y="743"/>
                </a:lnTo>
                <a:lnTo>
                  <a:pt x="347" y="752"/>
                </a:lnTo>
                <a:lnTo>
                  <a:pt x="347" y="761"/>
                </a:lnTo>
                <a:lnTo>
                  <a:pt x="352" y="770"/>
                </a:lnTo>
                <a:lnTo>
                  <a:pt x="356" y="779"/>
                </a:lnTo>
                <a:lnTo>
                  <a:pt x="356" y="787"/>
                </a:lnTo>
                <a:lnTo>
                  <a:pt x="360" y="796"/>
                </a:lnTo>
                <a:lnTo>
                  <a:pt x="360" y="805"/>
                </a:lnTo>
                <a:lnTo>
                  <a:pt x="365" y="810"/>
                </a:lnTo>
                <a:lnTo>
                  <a:pt x="365" y="819"/>
                </a:lnTo>
                <a:lnTo>
                  <a:pt x="369" y="828"/>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241800" y="4903920"/>
            <a:ext cx="636480" cy="663480"/>
          </a:xfrm>
          <a:custGeom>
            <a:avLst/>
            <a:gdLst/>
            <a:ahLst/>
            <a:rect l="l" t="t" r="r" b="b"/>
            <a:pathLst>
              <a:path w="401" h="418">
                <a:moveTo>
                  <a:pt x="0" y="63"/>
                </a:moveTo>
                <a:lnTo>
                  <a:pt x="5" y="71"/>
                </a:lnTo>
                <a:lnTo>
                  <a:pt x="5" y="76"/>
                </a:lnTo>
                <a:lnTo>
                  <a:pt x="9" y="85"/>
                </a:lnTo>
                <a:lnTo>
                  <a:pt x="9" y="94"/>
                </a:lnTo>
                <a:lnTo>
                  <a:pt x="14" y="98"/>
                </a:lnTo>
                <a:lnTo>
                  <a:pt x="18" y="107"/>
                </a:lnTo>
                <a:lnTo>
                  <a:pt x="18" y="111"/>
                </a:lnTo>
                <a:lnTo>
                  <a:pt x="23" y="116"/>
                </a:lnTo>
                <a:lnTo>
                  <a:pt x="23" y="120"/>
                </a:lnTo>
                <a:lnTo>
                  <a:pt x="27" y="125"/>
                </a:lnTo>
                <a:lnTo>
                  <a:pt x="36" y="134"/>
                </a:lnTo>
                <a:lnTo>
                  <a:pt x="36" y="138"/>
                </a:lnTo>
                <a:lnTo>
                  <a:pt x="40" y="138"/>
                </a:lnTo>
                <a:lnTo>
                  <a:pt x="45" y="143"/>
                </a:lnTo>
                <a:lnTo>
                  <a:pt x="49" y="143"/>
                </a:lnTo>
                <a:lnTo>
                  <a:pt x="54" y="143"/>
                </a:lnTo>
                <a:lnTo>
                  <a:pt x="58" y="138"/>
                </a:lnTo>
                <a:lnTo>
                  <a:pt x="63" y="134"/>
                </a:lnTo>
                <a:lnTo>
                  <a:pt x="67" y="129"/>
                </a:lnTo>
                <a:lnTo>
                  <a:pt x="71" y="125"/>
                </a:lnTo>
                <a:lnTo>
                  <a:pt x="76" y="116"/>
                </a:lnTo>
                <a:lnTo>
                  <a:pt x="80" y="111"/>
                </a:lnTo>
                <a:lnTo>
                  <a:pt x="85" y="107"/>
                </a:lnTo>
                <a:lnTo>
                  <a:pt x="85" y="103"/>
                </a:lnTo>
                <a:lnTo>
                  <a:pt x="89" y="98"/>
                </a:lnTo>
                <a:lnTo>
                  <a:pt x="89" y="94"/>
                </a:lnTo>
                <a:lnTo>
                  <a:pt x="94" y="89"/>
                </a:lnTo>
                <a:lnTo>
                  <a:pt x="98" y="80"/>
                </a:lnTo>
                <a:lnTo>
                  <a:pt x="98" y="76"/>
                </a:lnTo>
                <a:lnTo>
                  <a:pt x="103" y="71"/>
                </a:lnTo>
                <a:lnTo>
                  <a:pt x="103" y="67"/>
                </a:lnTo>
                <a:lnTo>
                  <a:pt x="107" y="63"/>
                </a:lnTo>
                <a:lnTo>
                  <a:pt x="107" y="58"/>
                </a:lnTo>
                <a:lnTo>
                  <a:pt x="112" y="54"/>
                </a:lnTo>
                <a:lnTo>
                  <a:pt x="116" y="49"/>
                </a:lnTo>
                <a:lnTo>
                  <a:pt x="116" y="45"/>
                </a:lnTo>
                <a:lnTo>
                  <a:pt x="120" y="40"/>
                </a:lnTo>
                <a:lnTo>
                  <a:pt x="120" y="36"/>
                </a:lnTo>
                <a:lnTo>
                  <a:pt x="125" y="31"/>
                </a:lnTo>
                <a:lnTo>
                  <a:pt x="129" y="27"/>
                </a:lnTo>
                <a:lnTo>
                  <a:pt x="134" y="22"/>
                </a:lnTo>
                <a:lnTo>
                  <a:pt x="134" y="18"/>
                </a:lnTo>
                <a:lnTo>
                  <a:pt x="147" y="9"/>
                </a:lnTo>
                <a:lnTo>
                  <a:pt x="147" y="5"/>
                </a:lnTo>
                <a:lnTo>
                  <a:pt x="152" y="5"/>
                </a:lnTo>
                <a:lnTo>
                  <a:pt x="156" y="0"/>
                </a:lnTo>
                <a:lnTo>
                  <a:pt x="160" y="0"/>
                </a:lnTo>
                <a:lnTo>
                  <a:pt x="165" y="0"/>
                </a:lnTo>
                <a:lnTo>
                  <a:pt x="169" y="0"/>
                </a:lnTo>
                <a:lnTo>
                  <a:pt x="174" y="5"/>
                </a:lnTo>
                <a:lnTo>
                  <a:pt x="178" y="5"/>
                </a:lnTo>
                <a:lnTo>
                  <a:pt x="183" y="9"/>
                </a:lnTo>
                <a:lnTo>
                  <a:pt x="187" y="18"/>
                </a:lnTo>
                <a:lnTo>
                  <a:pt x="192" y="22"/>
                </a:lnTo>
                <a:lnTo>
                  <a:pt x="196" y="27"/>
                </a:lnTo>
                <a:lnTo>
                  <a:pt x="196" y="31"/>
                </a:lnTo>
                <a:lnTo>
                  <a:pt x="200" y="36"/>
                </a:lnTo>
                <a:lnTo>
                  <a:pt x="200" y="40"/>
                </a:lnTo>
                <a:lnTo>
                  <a:pt x="205" y="49"/>
                </a:lnTo>
                <a:lnTo>
                  <a:pt x="209" y="54"/>
                </a:lnTo>
                <a:lnTo>
                  <a:pt x="209" y="63"/>
                </a:lnTo>
                <a:lnTo>
                  <a:pt x="214" y="71"/>
                </a:lnTo>
                <a:lnTo>
                  <a:pt x="214" y="80"/>
                </a:lnTo>
                <a:lnTo>
                  <a:pt x="218" y="85"/>
                </a:lnTo>
                <a:lnTo>
                  <a:pt x="223" y="98"/>
                </a:lnTo>
                <a:lnTo>
                  <a:pt x="223" y="107"/>
                </a:lnTo>
                <a:lnTo>
                  <a:pt x="227" y="116"/>
                </a:lnTo>
                <a:lnTo>
                  <a:pt x="227" y="125"/>
                </a:lnTo>
                <a:lnTo>
                  <a:pt x="232" y="134"/>
                </a:lnTo>
                <a:lnTo>
                  <a:pt x="232" y="147"/>
                </a:lnTo>
                <a:lnTo>
                  <a:pt x="236" y="156"/>
                </a:lnTo>
                <a:lnTo>
                  <a:pt x="240" y="169"/>
                </a:lnTo>
                <a:lnTo>
                  <a:pt x="240" y="178"/>
                </a:lnTo>
                <a:lnTo>
                  <a:pt x="245" y="192"/>
                </a:lnTo>
                <a:lnTo>
                  <a:pt x="245" y="200"/>
                </a:lnTo>
                <a:lnTo>
                  <a:pt x="249" y="214"/>
                </a:lnTo>
                <a:lnTo>
                  <a:pt x="254" y="227"/>
                </a:lnTo>
                <a:lnTo>
                  <a:pt x="254" y="236"/>
                </a:lnTo>
                <a:lnTo>
                  <a:pt x="258" y="249"/>
                </a:lnTo>
                <a:lnTo>
                  <a:pt x="258" y="258"/>
                </a:lnTo>
                <a:lnTo>
                  <a:pt x="263" y="272"/>
                </a:lnTo>
                <a:lnTo>
                  <a:pt x="267" y="280"/>
                </a:lnTo>
                <a:lnTo>
                  <a:pt x="267" y="289"/>
                </a:lnTo>
                <a:lnTo>
                  <a:pt x="272" y="303"/>
                </a:lnTo>
                <a:lnTo>
                  <a:pt x="272" y="312"/>
                </a:lnTo>
                <a:lnTo>
                  <a:pt x="276" y="320"/>
                </a:lnTo>
                <a:lnTo>
                  <a:pt x="280" y="329"/>
                </a:lnTo>
                <a:lnTo>
                  <a:pt x="280" y="343"/>
                </a:lnTo>
                <a:lnTo>
                  <a:pt x="285" y="352"/>
                </a:lnTo>
                <a:lnTo>
                  <a:pt x="285" y="356"/>
                </a:lnTo>
                <a:lnTo>
                  <a:pt x="289" y="365"/>
                </a:lnTo>
                <a:lnTo>
                  <a:pt x="294" y="374"/>
                </a:lnTo>
                <a:lnTo>
                  <a:pt x="294" y="378"/>
                </a:lnTo>
                <a:lnTo>
                  <a:pt x="298" y="387"/>
                </a:lnTo>
                <a:lnTo>
                  <a:pt x="298" y="392"/>
                </a:lnTo>
                <a:lnTo>
                  <a:pt x="303" y="401"/>
                </a:lnTo>
                <a:lnTo>
                  <a:pt x="312" y="409"/>
                </a:lnTo>
                <a:lnTo>
                  <a:pt x="312" y="414"/>
                </a:lnTo>
                <a:lnTo>
                  <a:pt x="316" y="418"/>
                </a:lnTo>
                <a:lnTo>
                  <a:pt x="321" y="418"/>
                </a:lnTo>
                <a:lnTo>
                  <a:pt x="325" y="418"/>
                </a:lnTo>
                <a:lnTo>
                  <a:pt x="329" y="418"/>
                </a:lnTo>
                <a:lnTo>
                  <a:pt x="334" y="414"/>
                </a:lnTo>
                <a:lnTo>
                  <a:pt x="338" y="405"/>
                </a:lnTo>
                <a:lnTo>
                  <a:pt x="343" y="401"/>
                </a:lnTo>
                <a:lnTo>
                  <a:pt x="347" y="396"/>
                </a:lnTo>
                <a:lnTo>
                  <a:pt x="347" y="392"/>
                </a:lnTo>
                <a:lnTo>
                  <a:pt x="352" y="383"/>
                </a:lnTo>
                <a:lnTo>
                  <a:pt x="352" y="378"/>
                </a:lnTo>
                <a:lnTo>
                  <a:pt x="356" y="369"/>
                </a:lnTo>
                <a:lnTo>
                  <a:pt x="356" y="361"/>
                </a:lnTo>
                <a:lnTo>
                  <a:pt x="361" y="352"/>
                </a:lnTo>
                <a:lnTo>
                  <a:pt x="365" y="343"/>
                </a:lnTo>
                <a:lnTo>
                  <a:pt x="365" y="334"/>
                </a:lnTo>
                <a:lnTo>
                  <a:pt x="369" y="325"/>
                </a:lnTo>
                <a:lnTo>
                  <a:pt x="369" y="316"/>
                </a:lnTo>
                <a:lnTo>
                  <a:pt x="374" y="307"/>
                </a:lnTo>
                <a:lnTo>
                  <a:pt x="378" y="294"/>
                </a:lnTo>
                <a:lnTo>
                  <a:pt x="378" y="285"/>
                </a:lnTo>
                <a:lnTo>
                  <a:pt x="383" y="276"/>
                </a:lnTo>
                <a:lnTo>
                  <a:pt x="383" y="263"/>
                </a:lnTo>
                <a:lnTo>
                  <a:pt x="387" y="254"/>
                </a:lnTo>
                <a:lnTo>
                  <a:pt x="392" y="240"/>
                </a:lnTo>
                <a:lnTo>
                  <a:pt x="392" y="227"/>
                </a:lnTo>
                <a:lnTo>
                  <a:pt x="396" y="218"/>
                </a:lnTo>
                <a:lnTo>
                  <a:pt x="396" y="205"/>
                </a:lnTo>
                <a:lnTo>
                  <a:pt x="401" y="192"/>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878280" y="4664160"/>
            <a:ext cx="563400" cy="1157040"/>
          </a:xfrm>
          <a:custGeom>
            <a:avLst/>
            <a:gdLst/>
            <a:ahLst/>
            <a:rect l="l" t="t" r="r" b="b"/>
            <a:pathLst>
              <a:path w="355" h="729">
                <a:moveTo>
                  <a:pt x="0" y="343"/>
                </a:moveTo>
                <a:lnTo>
                  <a:pt x="4" y="334"/>
                </a:lnTo>
                <a:lnTo>
                  <a:pt x="4" y="320"/>
                </a:lnTo>
                <a:lnTo>
                  <a:pt x="8" y="307"/>
                </a:lnTo>
                <a:lnTo>
                  <a:pt x="8" y="294"/>
                </a:lnTo>
                <a:lnTo>
                  <a:pt x="13" y="285"/>
                </a:lnTo>
                <a:lnTo>
                  <a:pt x="17" y="271"/>
                </a:lnTo>
                <a:lnTo>
                  <a:pt x="17" y="258"/>
                </a:lnTo>
                <a:lnTo>
                  <a:pt x="22" y="245"/>
                </a:lnTo>
                <a:lnTo>
                  <a:pt x="22" y="236"/>
                </a:lnTo>
                <a:lnTo>
                  <a:pt x="26" y="222"/>
                </a:lnTo>
                <a:lnTo>
                  <a:pt x="31" y="209"/>
                </a:lnTo>
                <a:lnTo>
                  <a:pt x="31" y="196"/>
                </a:lnTo>
                <a:lnTo>
                  <a:pt x="35" y="187"/>
                </a:lnTo>
                <a:lnTo>
                  <a:pt x="35" y="173"/>
                </a:lnTo>
                <a:lnTo>
                  <a:pt x="40" y="165"/>
                </a:lnTo>
                <a:lnTo>
                  <a:pt x="44" y="151"/>
                </a:lnTo>
                <a:lnTo>
                  <a:pt x="44" y="142"/>
                </a:lnTo>
                <a:lnTo>
                  <a:pt x="48" y="129"/>
                </a:lnTo>
                <a:lnTo>
                  <a:pt x="48" y="120"/>
                </a:lnTo>
                <a:lnTo>
                  <a:pt x="53" y="111"/>
                </a:lnTo>
                <a:lnTo>
                  <a:pt x="57" y="98"/>
                </a:lnTo>
                <a:lnTo>
                  <a:pt x="57" y="89"/>
                </a:lnTo>
                <a:lnTo>
                  <a:pt x="62" y="80"/>
                </a:lnTo>
                <a:lnTo>
                  <a:pt x="62" y="71"/>
                </a:lnTo>
                <a:lnTo>
                  <a:pt x="66" y="62"/>
                </a:lnTo>
                <a:lnTo>
                  <a:pt x="66" y="58"/>
                </a:lnTo>
                <a:lnTo>
                  <a:pt x="71" y="49"/>
                </a:lnTo>
                <a:lnTo>
                  <a:pt x="75" y="44"/>
                </a:lnTo>
                <a:lnTo>
                  <a:pt x="75" y="36"/>
                </a:lnTo>
                <a:lnTo>
                  <a:pt x="80" y="31"/>
                </a:lnTo>
                <a:lnTo>
                  <a:pt x="80" y="27"/>
                </a:lnTo>
                <a:lnTo>
                  <a:pt x="84" y="22"/>
                </a:lnTo>
                <a:lnTo>
                  <a:pt x="88" y="18"/>
                </a:lnTo>
                <a:lnTo>
                  <a:pt x="88" y="13"/>
                </a:lnTo>
                <a:lnTo>
                  <a:pt x="97" y="4"/>
                </a:lnTo>
                <a:lnTo>
                  <a:pt x="93" y="4"/>
                </a:lnTo>
                <a:lnTo>
                  <a:pt x="97" y="4"/>
                </a:lnTo>
                <a:lnTo>
                  <a:pt x="102" y="0"/>
                </a:lnTo>
                <a:lnTo>
                  <a:pt x="106" y="0"/>
                </a:lnTo>
                <a:lnTo>
                  <a:pt x="111" y="0"/>
                </a:lnTo>
                <a:lnTo>
                  <a:pt x="115" y="0"/>
                </a:lnTo>
                <a:lnTo>
                  <a:pt x="120" y="4"/>
                </a:lnTo>
                <a:lnTo>
                  <a:pt x="124" y="9"/>
                </a:lnTo>
                <a:lnTo>
                  <a:pt x="129" y="13"/>
                </a:lnTo>
                <a:lnTo>
                  <a:pt x="133" y="22"/>
                </a:lnTo>
                <a:lnTo>
                  <a:pt x="137" y="27"/>
                </a:lnTo>
                <a:lnTo>
                  <a:pt x="142" y="31"/>
                </a:lnTo>
                <a:lnTo>
                  <a:pt x="142" y="40"/>
                </a:lnTo>
                <a:lnTo>
                  <a:pt x="146" y="44"/>
                </a:lnTo>
                <a:lnTo>
                  <a:pt x="146" y="49"/>
                </a:lnTo>
                <a:lnTo>
                  <a:pt x="151" y="58"/>
                </a:lnTo>
                <a:lnTo>
                  <a:pt x="155" y="62"/>
                </a:lnTo>
                <a:lnTo>
                  <a:pt x="155" y="71"/>
                </a:lnTo>
                <a:lnTo>
                  <a:pt x="160" y="80"/>
                </a:lnTo>
                <a:lnTo>
                  <a:pt x="160" y="85"/>
                </a:lnTo>
                <a:lnTo>
                  <a:pt x="164" y="93"/>
                </a:lnTo>
                <a:lnTo>
                  <a:pt x="169" y="102"/>
                </a:lnTo>
                <a:lnTo>
                  <a:pt x="169" y="111"/>
                </a:lnTo>
                <a:lnTo>
                  <a:pt x="173" y="120"/>
                </a:lnTo>
                <a:lnTo>
                  <a:pt x="173" y="129"/>
                </a:lnTo>
                <a:lnTo>
                  <a:pt x="177" y="142"/>
                </a:lnTo>
                <a:lnTo>
                  <a:pt x="182" y="151"/>
                </a:lnTo>
                <a:lnTo>
                  <a:pt x="182" y="160"/>
                </a:lnTo>
                <a:lnTo>
                  <a:pt x="186" y="173"/>
                </a:lnTo>
                <a:lnTo>
                  <a:pt x="186" y="182"/>
                </a:lnTo>
                <a:lnTo>
                  <a:pt x="191" y="196"/>
                </a:lnTo>
                <a:lnTo>
                  <a:pt x="191" y="209"/>
                </a:lnTo>
                <a:lnTo>
                  <a:pt x="195" y="218"/>
                </a:lnTo>
                <a:lnTo>
                  <a:pt x="200" y="231"/>
                </a:lnTo>
                <a:lnTo>
                  <a:pt x="200" y="245"/>
                </a:lnTo>
                <a:lnTo>
                  <a:pt x="204" y="258"/>
                </a:lnTo>
                <a:lnTo>
                  <a:pt x="204" y="271"/>
                </a:lnTo>
                <a:lnTo>
                  <a:pt x="209" y="285"/>
                </a:lnTo>
                <a:lnTo>
                  <a:pt x="213" y="298"/>
                </a:lnTo>
                <a:lnTo>
                  <a:pt x="213" y="316"/>
                </a:lnTo>
                <a:lnTo>
                  <a:pt x="217" y="329"/>
                </a:lnTo>
                <a:lnTo>
                  <a:pt x="217" y="343"/>
                </a:lnTo>
                <a:lnTo>
                  <a:pt x="222" y="360"/>
                </a:lnTo>
                <a:lnTo>
                  <a:pt x="226" y="374"/>
                </a:lnTo>
                <a:lnTo>
                  <a:pt x="226" y="391"/>
                </a:lnTo>
                <a:lnTo>
                  <a:pt x="231" y="405"/>
                </a:lnTo>
                <a:lnTo>
                  <a:pt x="231" y="423"/>
                </a:lnTo>
                <a:lnTo>
                  <a:pt x="235" y="436"/>
                </a:lnTo>
                <a:lnTo>
                  <a:pt x="240" y="454"/>
                </a:lnTo>
                <a:lnTo>
                  <a:pt x="240" y="471"/>
                </a:lnTo>
                <a:lnTo>
                  <a:pt x="244" y="485"/>
                </a:lnTo>
                <a:lnTo>
                  <a:pt x="244" y="503"/>
                </a:lnTo>
                <a:lnTo>
                  <a:pt x="249" y="520"/>
                </a:lnTo>
                <a:lnTo>
                  <a:pt x="253" y="534"/>
                </a:lnTo>
                <a:lnTo>
                  <a:pt x="253" y="552"/>
                </a:lnTo>
                <a:lnTo>
                  <a:pt x="257" y="569"/>
                </a:lnTo>
                <a:lnTo>
                  <a:pt x="257" y="583"/>
                </a:lnTo>
                <a:lnTo>
                  <a:pt x="262" y="596"/>
                </a:lnTo>
                <a:lnTo>
                  <a:pt x="266" y="614"/>
                </a:lnTo>
                <a:lnTo>
                  <a:pt x="266" y="627"/>
                </a:lnTo>
                <a:lnTo>
                  <a:pt x="271" y="641"/>
                </a:lnTo>
                <a:lnTo>
                  <a:pt x="271" y="654"/>
                </a:lnTo>
                <a:lnTo>
                  <a:pt x="275" y="667"/>
                </a:lnTo>
                <a:lnTo>
                  <a:pt x="280" y="681"/>
                </a:lnTo>
                <a:lnTo>
                  <a:pt x="280" y="689"/>
                </a:lnTo>
                <a:lnTo>
                  <a:pt x="284" y="698"/>
                </a:lnTo>
                <a:lnTo>
                  <a:pt x="284" y="707"/>
                </a:lnTo>
                <a:lnTo>
                  <a:pt x="289" y="716"/>
                </a:lnTo>
                <a:lnTo>
                  <a:pt x="293" y="721"/>
                </a:lnTo>
                <a:lnTo>
                  <a:pt x="293" y="725"/>
                </a:lnTo>
                <a:lnTo>
                  <a:pt x="302" y="729"/>
                </a:lnTo>
                <a:lnTo>
                  <a:pt x="306" y="725"/>
                </a:lnTo>
                <a:lnTo>
                  <a:pt x="306" y="721"/>
                </a:lnTo>
                <a:lnTo>
                  <a:pt x="311" y="716"/>
                </a:lnTo>
                <a:lnTo>
                  <a:pt x="311" y="712"/>
                </a:lnTo>
                <a:lnTo>
                  <a:pt x="315" y="707"/>
                </a:lnTo>
                <a:lnTo>
                  <a:pt x="315" y="698"/>
                </a:lnTo>
                <a:lnTo>
                  <a:pt x="320" y="694"/>
                </a:lnTo>
                <a:lnTo>
                  <a:pt x="324" y="685"/>
                </a:lnTo>
                <a:lnTo>
                  <a:pt x="324" y="681"/>
                </a:lnTo>
                <a:lnTo>
                  <a:pt x="329" y="672"/>
                </a:lnTo>
                <a:lnTo>
                  <a:pt x="329" y="667"/>
                </a:lnTo>
                <a:lnTo>
                  <a:pt x="333" y="658"/>
                </a:lnTo>
                <a:lnTo>
                  <a:pt x="337" y="654"/>
                </a:lnTo>
                <a:lnTo>
                  <a:pt x="337" y="645"/>
                </a:lnTo>
                <a:lnTo>
                  <a:pt x="342" y="641"/>
                </a:lnTo>
                <a:lnTo>
                  <a:pt x="342" y="636"/>
                </a:lnTo>
                <a:lnTo>
                  <a:pt x="346" y="632"/>
                </a:lnTo>
                <a:lnTo>
                  <a:pt x="351" y="623"/>
                </a:lnTo>
                <a:lnTo>
                  <a:pt x="351" y="618"/>
                </a:lnTo>
                <a:lnTo>
                  <a:pt x="355" y="614"/>
                </a:lnTo>
                <a:lnTo>
                  <a:pt x="355" y="609"/>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441680" y="4938840"/>
            <a:ext cx="685800" cy="755640"/>
          </a:xfrm>
          <a:custGeom>
            <a:avLst/>
            <a:gdLst/>
            <a:ahLst/>
            <a:rect l="l" t="t" r="r" b="b"/>
            <a:pathLst>
              <a:path w="432" h="476">
                <a:moveTo>
                  <a:pt x="0" y="436"/>
                </a:moveTo>
                <a:lnTo>
                  <a:pt x="5" y="432"/>
                </a:lnTo>
                <a:lnTo>
                  <a:pt x="14" y="423"/>
                </a:lnTo>
                <a:lnTo>
                  <a:pt x="14" y="419"/>
                </a:lnTo>
                <a:lnTo>
                  <a:pt x="18" y="414"/>
                </a:lnTo>
                <a:lnTo>
                  <a:pt x="23" y="410"/>
                </a:lnTo>
                <a:lnTo>
                  <a:pt x="27" y="405"/>
                </a:lnTo>
                <a:lnTo>
                  <a:pt x="31" y="405"/>
                </a:lnTo>
                <a:lnTo>
                  <a:pt x="36" y="405"/>
                </a:lnTo>
                <a:lnTo>
                  <a:pt x="40" y="401"/>
                </a:lnTo>
                <a:lnTo>
                  <a:pt x="45" y="401"/>
                </a:lnTo>
                <a:lnTo>
                  <a:pt x="49" y="405"/>
                </a:lnTo>
                <a:lnTo>
                  <a:pt x="54" y="405"/>
                </a:lnTo>
                <a:lnTo>
                  <a:pt x="58" y="410"/>
                </a:lnTo>
                <a:lnTo>
                  <a:pt x="63" y="410"/>
                </a:lnTo>
                <a:lnTo>
                  <a:pt x="67" y="414"/>
                </a:lnTo>
                <a:lnTo>
                  <a:pt x="71" y="423"/>
                </a:lnTo>
                <a:lnTo>
                  <a:pt x="76" y="423"/>
                </a:lnTo>
                <a:lnTo>
                  <a:pt x="80" y="432"/>
                </a:lnTo>
                <a:lnTo>
                  <a:pt x="85" y="436"/>
                </a:lnTo>
                <a:lnTo>
                  <a:pt x="89" y="441"/>
                </a:lnTo>
                <a:lnTo>
                  <a:pt x="94" y="445"/>
                </a:lnTo>
                <a:lnTo>
                  <a:pt x="103" y="454"/>
                </a:lnTo>
                <a:lnTo>
                  <a:pt x="98" y="454"/>
                </a:lnTo>
                <a:lnTo>
                  <a:pt x="103" y="454"/>
                </a:lnTo>
                <a:lnTo>
                  <a:pt x="111" y="463"/>
                </a:lnTo>
                <a:lnTo>
                  <a:pt x="111" y="468"/>
                </a:lnTo>
                <a:lnTo>
                  <a:pt x="116" y="468"/>
                </a:lnTo>
                <a:lnTo>
                  <a:pt x="120" y="472"/>
                </a:lnTo>
                <a:lnTo>
                  <a:pt x="125" y="476"/>
                </a:lnTo>
                <a:lnTo>
                  <a:pt x="129" y="476"/>
                </a:lnTo>
                <a:lnTo>
                  <a:pt x="134" y="476"/>
                </a:lnTo>
                <a:lnTo>
                  <a:pt x="138" y="472"/>
                </a:lnTo>
                <a:lnTo>
                  <a:pt x="143" y="472"/>
                </a:lnTo>
                <a:lnTo>
                  <a:pt x="147" y="468"/>
                </a:lnTo>
                <a:lnTo>
                  <a:pt x="156" y="459"/>
                </a:lnTo>
                <a:lnTo>
                  <a:pt x="151" y="459"/>
                </a:lnTo>
                <a:lnTo>
                  <a:pt x="156" y="459"/>
                </a:lnTo>
                <a:lnTo>
                  <a:pt x="160" y="454"/>
                </a:lnTo>
                <a:lnTo>
                  <a:pt x="160" y="445"/>
                </a:lnTo>
                <a:lnTo>
                  <a:pt x="165" y="441"/>
                </a:lnTo>
                <a:lnTo>
                  <a:pt x="165" y="436"/>
                </a:lnTo>
                <a:lnTo>
                  <a:pt x="169" y="427"/>
                </a:lnTo>
                <a:lnTo>
                  <a:pt x="174" y="423"/>
                </a:lnTo>
                <a:lnTo>
                  <a:pt x="174" y="414"/>
                </a:lnTo>
                <a:lnTo>
                  <a:pt x="178" y="410"/>
                </a:lnTo>
                <a:lnTo>
                  <a:pt x="178" y="401"/>
                </a:lnTo>
                <a:lnTo>
                  <a:pt x="183" y="392"/>
                </a:lnTo>
                <a:lnTo>
                  <a:pt x="187" y="383"/>
                </a:lnTo>
                <a:lnTo>
                  <a:pt x="187" y="374"/>
                </a:lnTo>
                <a:lnTo>
                  <a:pt x="191" y="370"/>
                </a:lnTo>
                <a:lnTo>
                  <a:pt x="191" y="361"/>
                </a:lnTo>
                <a:lnTo>
                  <a:pt x="196" y="347"/>
                </a:lnTo>
                <a:lnTo>
                  <a:pt x="196" y="339"/>
                </a:lnTo>
                <a:lnTo>
                  <a:pt x="200" y="330"/>
                </a:lnTo>
                <a:lnTo>
                  <a:pt x="205" y="321"/>
                </a:lnTo>
                <a:lnTo>
                  <a:pt x="205" y="312"/>
                </a:lnTo>
                <a:lnTo>
                  <a:pt x="209" y="303"/>
                </a:lnTo>
                <a:lnTo>
                  <a:pt x="209" y="294"/>
                </a:lnTo>
                <a:lnTo>
                  <a:pt x="214" y="281"/>
                </a:lnTo>
                <a:lnTo>
                  <a:pt x="218" y="272"/>
                </a:lnTo>
                <a:lnTo>
                  <a:pt x="218" y="263"/>
                </a:lnTo>
                <a:lnTo>
                  <a:pt x="223" y="254"/>
                </a:lnTo>
                <a:lnTo>
                  <a:pt x="223" y="245"/>
                </a:lnTo>
                <a:lnTo>
                  <a:pt x="227" y="232"/>
                </a:lnTo>
                <a:lnTo>
                  <a:pt x="232" y="223"/>
                </a:lnTo>
                <a:lnTo>
                  <a:pt x="232" y="214"/>
                </a:lnTo>
                <a:lnTo>
                  <a:pt x="236" y="205"/>
                </a:lnTo>
                <a:lnTo>
                  <a:pt x="236" y="196"/>
                </a:lnTo>
                <a:lnTo>
                  <a:pt x="240" y="187"/>
                </a:lnTo>
                <a:lnTo>
                  <a:pt x="245" y="178"/>
                </a:lnTo>
                <a:lnTo>
                  <a:pt x="245" y="165"/>
                </a:lnTo>
                <a:lnTo>
                  <a:pt x="249" y="156"/>
                </a:lnTo>
                <a:lnTo>
                  <a:pt x="249" y="147"/>
                </a:lnTo>
                <a:lnTo>
                  <a:pt x="254" y="143"/>
                </a:lnTo>
                <a:lnTo>
                  <a:pt x="258" y="134"/>
                </a:lnTo>
                <a:lnTo>
                  <a:pt x="258" y="125"/>
                </a:lnTo>
                <a:lnTo>
                  <a:pt x="263" y="116"/>
                </a:lnTo>
                <a:lnTo>
                  <a:pt x="263" y="107"/>
                </a:lnTo>
                <a:lnTo>
                  <a:pt x="267" y="98"/>
                </a:lnTo>
                <a:lnTo>
                  <a:pt x="272" y="94"/>
                </a:lnTo>
                <a:lnTo>
                  <a:pt x="272" y="85"/>
                </a:lnTo>
                <a:lnTo>
                  <a:pt x="276" y="81"/>
                </a:lnTo>
                <a:lnTo>
                  <a:pt x="276" y="72"/>
                </a:lnTo>
                <a:lnTo>
                  <a:pt x="280" y="67"/>
                </a:lnTo>
                <a:lnTo>
                  <a:pt x="285" y="58"/>
                </a:lnTo>
                <a:lnTo>
                  <a:pt x="285" y="54"/>
                </a:lnTo>
                <a:lnTo>
                  <a:pt x="289" y="49"/>
                </a:lnTo>
                <a:lnTo>
                  <a:pt x="289" y="45"/>
                </a:lnTo>
                <a:lnTo>
                  <a:pt x="294" y="36"/>
                </a:lnTo>
                <a:lnTo>
                  <a:pt x="303" y="27"/>
                </a:lnTo>
                <a:lnTo>
                  <a:pt x="303" y="23"/>
                </a:lnTo>
                <a:lnTo>
                  <a:pt x="307" y="18"/>
                </a:lnTo>
                <a:lnTo>
                  <a:pt x="312" y="14"/>
                </a:lnTo>
                <a:lnTo>
                  <a:pt x="316" y="9"/>
                </a:lnTo>
                <a:lnTo>
                  <a:pt x="320" y="5"/>
                </a:lnTo>
                <a:lnTo>
                  <a:pt x="325" y="5"/>
                </a:lnTo>
                <a:lnTo>
                  <a:pt x="329" y="0"/>
                </a:lnTo>
                <a:lnTo>
                  <a:pt x="334" y="0"/>
                </a:lnTo>
                <a:lnTo>
                  <a:pt x="338" y="0"/>
                </a:lnTo>
                <a:lnTo>
                  <a:pt x="343" y="0"/>
                </a:lnTo>
                <a:lnTo>
                  <a:pt x="347" y="5"/>
                </a:lnTo>
                <a:lnTo>
                  <a:pt x="352" y="5"/>
                </a:lnTo>
                <a:lnTo>
                  <a:pt x="356" y="9"/>
                </a:lnTo>
                <a:lnTo>
                  <a:pt x="360" y="14"/>
                </a:lnTo>
                <a:lnTo>
                  <a:pt x="365" y="18"/>
                </a:lnTo>
                <a:lnTo>
                  <a:pt x="369" y="23"/>
                </a:lnTo>
                <a:lnTo>
                  <a:pt x="374" y="27"/>
                </a:lnTo>
                <a:lnTo>
                  <a:pt x="378" y="32"/>
                </a:lnTo>
                <a:lnTo>
                  <a:pt x="383" y="36"/>
                </a:lnTo>
                <a:lnTo>
                  <a:pt x="383" y="41"/>
                </a:lnTo>
                <a:lnTo>
                  <a:pt x="387" y="45"/>
                </a:lnTo>
                <a:lnTo>
                  <a:pt x="392" y="49"/>
                </a:lnTo>
                <a:lnTo>
                  <a:pt x="396" y="54"/>
                </a:lnTo>
                <a:lnTo>
                  <a:pt x="396" y="58"/>
                </a:lnTo>
                <a:lnTo>
                  <a:pt x="400" y="63"/>
                </a:lnTo>
                <a:lnTo>
                  <a:pt x="400" y="67"/>
                </a:lnTo>
                <a:lnTo>
                  <a:pt x="405" y="72"/>
                </a:lnTo>
                <a:lnTo>
                  <a:pt x="409" y="76"/>
                </a:lnTo>
                <a:lnTo>
                  <a:pt x="409" y="81"/>
                </a:lnTo>
                <a:lnTo>
                  <a:pt x="414" y="89"/>
                </a:lnTo>
                <a:lnTo>
                  <a:pt x="414" y="94"/>
                </a:lnTo>
                <a:lnTo>
                  <a:pt x="418" y="98"/>
                </a:lnTo>
                <a:lnTo>
                  <a:pt x="423" y="103"/>
                </a:lnTo>
                <a:lnTo>
                  <a:pt x="423" y="107"/>
                </a:lnTo>
                <a:lnTo>
                  <a:pt x="427" y="112"/>
                </a:lnTo>
                <a:lnTo>
                  <a:pt x="427" y="116"/>
                </a:lnTo>
                <a:lnTo>
                  <a:pt x="432" y="121"/>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127480" y="5130720"/>
            <a:ext cx="563760" cy="755640"/>
          </a:xfrm>
          <a:custGeom>
            <a:avLst/>
            <a:gdLst/>
            <a:ahLst/>
            <a:rect l="l" t="t" r="r" b="b"/>
            <a:pathLst>
              <a:path w="355" h="476">
                <a:moveTo>
                  <a:pt x="0" y="0"/>
                </a:moveTo>
                <a:lnTo>
                  <a:pt x="0" y="8"/>
                </a:lnTo>
                <a:lnTo>
                  <a:pt x="4" y="13"/>
                </a:lnTo>
                <a:lnTo>
                  <a:pt x="8" y="17"/>
                </a:lnTo>
                <a:lnTo>
                  <a:pt x="8" y="22"/>
                </a:lnTo>
                <a:lnTo>
                  <a:pt x="13" y="26"/>
                </a:lnTo>
                <a:lnTo>
                  <a:pt x="13" y="31"/>
                </a:lnTo>
                <a:lnTo>
                  <a:pt x="17" y="40"/>
                </a:lnTo>
                <a:lnTo>
                  <a:pt x="22" y="44"/>
                </a:lnTo>
                <a:lnTo>
                  <a:pt x="22" y="49"/>
                </a:lnTo>
                <a:lnTo>
                  <a:pt x="26" y="53"/>
                </a:lnTo>
                <a:lnTo>
                  <a:pt x="26" y="57"/>
                </a:lnTo>
                <a:lnTo>
                  <a:pt x="31" y="66"/>
                </a:lnTo>
                <a:lnTo>
                  <a:pt x="35" y="71"/>
                </a:lnTo>
                <a:lnTo>
                  <a:pt x="35" y="75"/>
                </a:lnTo>
                <a:lnTo>
                  <a:pt x="40" y="80"/>
                </a:lnTo>
                <a:lnTo>
                  <a:pt x="40" y="84"/>
                </a:lnTo>
                <a:lnTo>
                  <a:pt x="44" y="89"/>
                </a:lnTo>
                <a:lnTo>
                  <a:pt x="49" y="97"/>
                </a:lnTo>
                <a:lnTo>
                  <a:pt x="49" y="102"/>
                </a:lnTo>
                <a:lnTo>
                  <a:pt x="53" y="106"/>
                </a:lnTo>
                <a:lnTo>
                  <a:pt x="53" y="111"/>
                </a:lnTo>
                <a:lnTo>
                  <a:pt x="57" y="115"/>
                </a:lnTo>
                <a:lnTo>
                  <a:pt x="62" y="124"/>
                </a:lnTo>
                <a:lnTo>
                  <a:pt x="62" y="129"/>
                </a:lnTo>
                <a:lnTo>
                  <a:pt x="66" y="133"/>
                </a:lnTo>
                <a:lnTo>
                  <a:pt x="66" y="137"/>
                </a:lnTo>
                <a:lnTo>
                  <a:pt x="71" y="142"/>
                </a:lnTo>
                <a:lnTo>
                  <a:pt x="75" y="151"/>
                </a:lnTo>
                <a:lnTo>
                  <a:pt x="75" y="155"/>
                </a:lnTo>
                <a:lnTo>
                  <a:pt x="80" y="160"/>
                </a:lnTo>
                <a:lnTo>
                  <a:pt x="80" y="164"/>
                </a:lnTo>
                <a:lnTo>
                  <a:pt x="84" y="173"/>
                </a:lnTo>
                <a:lnTo>
                  <a:pt x="89" y="177"/>
                </a:lnTo>
                <a:lnTo>
                  <a:pt x="89" y="182"/>
                </a:lnTo>
                <a:lnTo>
                  <a:pt x="93" y="186"/>
                </a:lnTo>
                <a:lnTo>
                  <a:pt x="93" y="195"/>
                </a:lnTo>
                <a:lnTo>
                  <a:pt x="97" y="200"/>
                </a:lnTo>
                <a:lnTo>
                  <a:pt x="102" y="204"/>
                </a:lnTo>
                <a:lnTo>
                  <a:pt x="102" y="209"/>
                </a:lnTo>
                <a:lnTo>
                  <a:pt x="106" y="218"/>
                </a:lnTo>
                <a:lnTo>
                  <a:pt x="106" y="222"/>
                </a:lnTo>
                <a:lnTo>
                  <a:pt x="111" y="226"/>
                </a:lnTo>
                <a:lnTo>
                  <a:pt x="115" y="235"/>
                </a:lnTo>
                <a:lnTo>
                  <a:pt x="115" y="240"/>
                </a:lnTo>
                <a:lnTo>
                  <a:pt x="120" y="244"/>
                </a:lnTo>
                <a:lnTo>
                  <a:pt x="120" y="253"/>
                </a:lnTo>
                <a:lnTo>
                  <a:pt x="124" y="258"/>
                </a:lnTo>
                <a:lnTo>
                  <a:pt x="124" y="262"/>
                </a:lnTo>
                <a:lnTo>
                  <a:pt x="129" y="271"/>
                </a:lnTo>
                <a:lnTo>
                  <a:pt x="133" y="275"/>
                </a:lnTo>
                <a:lnTo>
                  <a:pt x="133" y="284"/>
                </a:lnTo>
                <a:lnTo>
                  <a:pt x="137" y="289"/>
                </a:lnTo>
                <a:lnTo>
                  <a:pt x="137" y="298"/>
                </a:lnTo>
                <a:lnTo>
                  <a:pt x="142" y="302"/>
                </a:lnTo>
                <a:lnTo>
                  <a:pt x="146" y="306"/>
                </a:lnTo>
                <a:lnTo>
                  <a:pt x="146" y="315"/>
                </a:lnTo>
                <a:lnTo>
                  <a:pt x="151" y="320"/>
                </a:lnTo>
                <a:lnTo>
                  <a:pt x="151" y="329"/>
                </a:lnTo>
                <a:lnTo>
                  <a:pt x="155" y="333"/>
                </a:lnTo>
                <a:lnTo>
                  <a:pt x="160" y="342"/>
                </a:lnTo>
                <a:lnTo>
                  <a:pt x="160" y="347"/>
                </a:lnTo>
                <a:lnTo>
                  <a:pt x="164" y="355"/>
                </a:lnTo>
                <a:lnTo>
                  <a:pt x="164" y="360"/>
                </a:lnTo>
                <a:lnTo>
                  <a:pt x="169" y="369"/>
                </a:lnTo>
                <a:lnTo>
                  <a:pt x="173" y="373"/>
                </a:lnTo>
                <a:lnTo>
                  <a:pt x="173" y="382"/>
                </a:lnTo>
                <a:lnTo>
                  <a:pt x="177" y="387"/>
                </a:lnTo>
                <a:lnTo>
                  <a:pt x="177" y="395"/>
                </a:lnTo>
                <a:lnTo>
                  <a:pt x="182" y="400"/>
                </a:lnTo>
                <a:lnTo>
                  <a:pt x="186" y="404"/>
                </a:lnTo>
                <a:lnTo>
                  <a:pt x="186" y="413"/>
                </a:lnTo>
                <a:lnTo>
                  <a:pt x="191" y="418"/>
                </a:lnTo>
                <a:lnTo>
                  <a:pt x="191" y="427"/>
                </a:lnTo>
                <a:lnTo>
                  <a:pt x="195" y="431"/>
                </a:lnTo>
                <a:lnTo>
                  <a:pt x="200" y="435"/>
                </a:lnTo>
                <a:lnTo>
                  <a:pt x="200" y="444"/>
                </a:lnTo>
                <a:lnTo>
                  <a:pt x="204" y="449"/>
                </a:lnTo>
                <a:lnTo>
                  <a:pt x="204" y="453"/>
                </a:lnTo>
                <a:lnTo>
                  <a:pt x="209" y="458"/>
                </a:lnTo>
                <a:lnTo>
                  <a:pt x="217" y="467"/>
                </a:lnTo>
                <a:lnTo>
                  <a:pt x="217" y="471"/>
                </a:lnTo>
                <a:lnTo>
                  <a:pt x="222" y="476"/>
                </a:lnTo>
                <a:lnTo>
                  <a:pt x="226" y="476"/>
                </a:lnTo>
                <a:lnTo>
                  <a:pt x="231" y="471"/>
                </a:lnTo>
                <a:lnTo>
                  <a:pt x="235" y="471"/>
                </a:lnTo>
                <a:lnTo>
                  <a:pt x="240" y="467"/>
                </a:lnTo>
                <a:lnTo>
                  <a:pt x="244" y="458"/>
                </a:lnTo>
                <a:lnTo>
                  <a:pt x="249" y="453"/>
                </a:lnTo>
                <a:lnTo>
                  <a:pt x="249" y="449"/>
                </a:lnTo>
                <a:lnTo>
                  <a:pt x="253" y="444"/>
                </a:lnTo>
                <a:lnTo>
                  <a:pt x="258" y="440"/>
                </a:lnTo>
                <a:lnTo>
                  <a:pt x="258" y="435"/>
                </a:lnTo>
                <a:lnTo>
                  <a:pt x="262" y="431"/>
                </a:lnTo>
                <a:lnTo>
                  <a:pt x="262" y="422"/>
                </a:lnTo>
                <a:lnTo>
                  <a:pt x="266" y="418"/>
                </a:lnTo>
                <a:lnTo>
                  <a:pt x="271" y="413"/>
                </a:lnTo>
                <a:lnTo>
                  <a:pt x="271" y="409"/>
                </a:lnTo>
                <a:lnTo>
                  <a:pt x="275" y="400"/>
                </a:lnTo>
                <a:lnTo>
                  <a:pt x="275" y="395"/>
                </a:lnTo>
                <a:lnTo>
                  <a:pt x="280" y="391"/>
                </a:lnTo>
                <a:lnTo>
                  <a:pt x="284" y="387"/>
                </a:lnTo>
                <a:lnTo>
                  <a:pt x="284" y="382"/>
                </a:lnTo>
                <a:lnTo>
                  <a:pt x="289" y="373"/>
                </a:lnTo>
                <a:lnTo>
                  <a:pt x="289" y="369"/>
                </a:lnTo>
                <a:lnTo>
                  <a:pt x="293" y="364"/>
                </a:lnTo>
                <a:lnTo>
                  <a:pt x="298" y="360"/>
                </a:lnTo>
                <a:lnTo>
                  <a:pt x="298" y="355"/>
                </a:lnTo>
                <a:lnTo>
                  <a:pt x="302" y="351"/>
                </a:lnTo>
                <a:lnTo>
                  <a:pt x="302" y="342"/>
                </a:lnTo>
                <a:lnTo>
                  <a:pt x="306" y="338"/>
                </a:lnTo>
                <a:lnTo>
                  <a:pt x="311" y="333"/>
                </a:lnTo>
                <a:lnTo>
                  <a:pt x="311" y="329"/>
                </a:lnTo>
                <a:lnTo>
                  <a:pt x="315" y="324"/>
                </a:lnTo>
                <a:lnTo>
                  <a:pt x="315" y="320"/>
                </a:lnTo>
                <a:lnTo>
                  <a:pt x="320" y="315"/>
                </a:lnTo>
                <a:lnTo>
                  <a:pt x="324" y="311"/>
                </a:lnTo>
                <a:lnTo>
                  <a:pt x="324" y="306"/>
                </a:lnTo>
                <a:lnTo>
                  <a:pt x="329" y="302"/>
                </a:lnTo>
                <a:lnTo>
                  <a:pt x="329" y="298"/>
                </a:lnTo>
                <a:lnTo>
                  <a:pt x="333" y="293"/>
                </a:lnTo>
                <a:lnTo>
                  <a:pt x="338" y="289"/>
                </a:lnTo>
                <a:lnTo>
                  <a:pt x="338" y="284"/>
                </a:lnTo>
                <a:lnTo>
                  <a:pt x="342" y="280"/>
                </a:lnTo>
                <a:lnTo>
                  <a:pt x="342" y="275"/>
                </a:lnTo>
                <a:lnTo>
                  <a:pt x="346" y="271"/>
                </a:lnTo>
                <a:lnTo>
                  <a:pt x="351" y="266"/>
                </a:lnTo>
                <a:lnTo>
                  <a:pt x="355" y="262"/>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691240" y="5433840"/>
            <a:ext cx="585720" cy="113040"/>
          </a:xfrm>
          <a:custGeom>
            <a:avLst/>
            <a:gdLst/>
            <a:ahLst/>
            <a:rect l="l" t="t" r="r" b="b"/>
            <a:pathLst>
              <a:path w="369" h="71">
                <a:moveTo>
                  <a:pt x="0" y="71"/>
                </a:moveTo>
                <a:lnTo>
                  <a:pt x="0" y="67"/>
                </a:lnTo>
                <a:lnTo>
                  <a:pt x="9" y="58"/>
                </a:lnTo>
                <a:lnTo>
                  <a:pt x="5" y="58"/>
                </a:lnTo>
                <a:lnTo>
                  <a:pt x="9" y="58"/>
                </a:lnTo>
                <a:lnTo>
                  <a:pt x="18" y="49"/>
                </a:lnTo>
                <a:lnTo>
                  <a:pt x="18" y="44"/>
                </a:lnTo>
                <a:lnTo>
                  <a:pt x="23" y="40"/>
                </a:lnTo>
                <a:lnTo>
                  <a:pt x="27" y="35"/>
                </a:lnTo>
                <a:lnTo>
                  <a:pt x="31" y="31"/>
                </a:lnTo>
                <a:lnTo>
                  <a:pt x="36" y="27"/>
                </a:lnTo>
                <a:lnTo>
                  <a:pt x="40" y="22"/>
                </a:lnTo>
                <a:lnTo>
                  <a:pt x="45" y="22"/>
                </a:lnTo>
                <a:lnTo>
                  <a:pt x="49" y="18"/>
                </a:lnTo>
                <a:lnTo>
                  <a:pt x="54" y="13"/>
                </a:lnTo>
                <a:lnTo>
                  <a:pt x="58" y="13"/>
                </a:lnTo>
                <a:lnTo>
                  <a:pt x="63" y="9"/>
                </a:lnTo>
                <a:lnTo>
                  <a:pt x="67" y="9"/>
                </a:lnTo>
                <a:lnTo>
                  <a:pt x="71" y="4"/>
                </a:lnTo>
                <a:lnTo>
                  <a:pt x="76" y="4"/>
                </a:lnTo>
                <a:lnTo>
                  <a:pt x="80" y="4"/>
                </a:lnTo>
                <a:lnTo>
                  <a:pt x="85" y="4"/>
                </a:lnTo>
                <a:lnTo>
                  <a:pt x="89" y="0"/>
                </a:lnTo>
                <a:lnTo>
                  <a:pt x="94" y="0"/>
                </a:lnTo>
                <a:lnTo>
                  <a:pt x="98" y="0"/>
                </a:lnTo>
                <a:lnTo>
                  <a:pt x="103" y="0"/>
                </a:lnTo>
                <a:lnTo>
                  <a:pt x="107" y="0"/>
                </a:lnTo>
                <a:lnTo>
                  <a:pt x="111" y="0"/>
                </a:lnTo>
                <a:lnTo>
                  <a:pt x="116" y="0"/>
                </a:lnTo>
                <a:lnTo>
                  <a:pt x="120" y="4"/>
                </a:lnTo>
                <a:lnTo>
                  <a:pt x="125" y="4"/>
                </a:lnTo>
                <a:lnTo>
                  <a:pt x="129" y="4"/>
                </a:lnTo>
                <a:lnTo>
                  <a:pt x="134" y="4"/>
                </a:lnTo>
                <a:lnTo>
                  <a:pt x="138" y="9"/>
                </a:lnTo>
                <a:lnTo>
                  <a:pt x="143" y="9"/>
                </a:lnTo>
                <a:lnTo>
                  <a:pt x="147" y="9"/>
                </a:lnTo>
                <a:lnTo>
                  <a:pt x="152" y="13"/>
                </a:lnTo>
                <a:lnTo>
                  <a:pt x="156" y="13"/>
                </a:lnTo>
                <a:lnTo>
                  <a:pt x="160" y="18"/>
                </a:lnTo>
                <a:lnTo>
                  <a:pt x="165" y="18"/>
                </a:lnTo>
                <a:lnTo>
                  <a:pt x="169" y="18"/>
                </a:lnTo>
                <a:lnTo>
                  <a:pt x="174" y="22"/>
                </a:lnTo>
                <a:lnTo>
                  <a:pt x="178" y="22"/>
                </a:lnTo>
                <a:lnTo>
                  <a:pt x="183" y="27"/>
                </a:lnTo>
                <a:lnTo>
                  <a:pt x="187" y="27"/>
                </a:lnTo>
                <a:lnTo>
                  <a:pt x="192" y="27"/>
                </a:lnTo>
                <a:lnTo>
                  <a:pt x="196" y="31"/>
                </a:lnTo>
                <a:lnTo>
                  <a:pt x="200" y="31"/>
                </a:lnTo>
                <a:lnTo>
                  <a:pt x="205" y="31"/>
                </a:lnTo>
                <a:lnTo>
                  <a:pt x="209" y="31"/>
                </a:lnTo>
                <a:lnTo>
                  <a:pt x="214" y="35"/>
                </a:lnTo>
                <a:lnTo>
                  <a:pt x="218" y="35"/>
                </a:lnTo>
                <a:lnTo>
                  <a:pt x="223" y="35"/>
                </a:lnTo>
                <a:lnTo>
                  <a:pt x="227" y="35"/>
                </a:lnTo>
                <a:lnTo>
                  <a:pt x="232" y="35"/>
                </a:lnTo>
                <a:lnTo>
                  <a:pt x="236" y="35"/>
                </a:lnTo>
                <a:lnTo>
                  <a:pt x="240" y="35"/>
                </a:lnTo>
                <a:lnTo>
                  <a:pt x="245" y="35"/>
                </a:lnTo>
                <a:lnTo>
                  <a:pt x="249" y="35"/>
                </a:lnTo>
                <a:lnTo>
                  <a:pt x="254" y="35"/>
                </a:lnTo>
                <a:lnTo>
                  <a:pt x="258" y="35"/>
                </a:lnTo>
                <a:lnTo>
                  <a:pt x="263" y="35"/>
                </a:lnTo>
                <a:lnTo>
                  <a:pt x="267" y="35"/>
                </a:lnTo>
                <a:lnTo>
                  <a:pt x="272" y="35"/>
                </a:lnTo>
                <a:lnTo>
                  <a:pt x="276" y="35"/>
                </a:lnTo>
                <a:lnTo>
                  <a:pt x="280" y="35"/>
                </a:lnTo>
                <a:lnTo>
                  <a:pt x="285" y="35"/>
                </a:lnTo>
                <a:lnTo>
                  <a:pt x="289" y="35"/>
                </a:lnTo>
                <a:lnTo>
                  <a:pt x="294" y="35"/>
                </a:lnTo>
                <a:lnTo>
                  <a:pt x="298" y="35"/>
                </a:lnTo>
                <a:lnTo>
                  <a:pt x="303" y="35"/>
                </a:lnTo>
                <a:lnTo>
                  <a:pt x="307" y="35"/>
                </a:lnTo>
                <a:lnTo>
                  <a:pt x="312" y="35"/>
                </a:lnTo>
                <a:lnTo>
                  <a:pt x="316" y="35"/>
                </a:lnTo>
                <a:lnTo>
                  <a:pt x="320" y="35"/>
                </a:lnTo>
                <a:lnTo>
                  <a:pt x="325" y="35"/>
                </a:lnTo>
                <a:lnTo>
                  <a:pt x="329" y="35"/>
                </a:lnTo>
                <a:lnTo>
                  <a:pt x="334" y="40"/>
                </a:lnTo>
                <a:lnTo>
                  <a:pt x="338" y="40"/>
                </a:lnTo>
                <a:lnTo>
                  <a:pt x="343" y="40"/>
                </a:lnTo>
                <a:lnTo>
                  <a:pt x="347" y="44"/>
                </a:lnTo>
                <a:lnTo>
                  <a:pt x="352" y="44"/>
                </a:lnTo>
                <a:lnTo>
                  <a:pt x="356" y="44"/>
                </a:lnTo>
                <a:lnTo>
                  <a:pt x="361" y="49"/>
                </a:lnTo>
                <a:lnTo>
                  <a:pt x="365" y="49"/>
                </a:lnTo>
                <a:lnTo>
                  <a:pt x="369" y="53"/>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809160" y="624852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877" name=""/>
          <p:cNvSpPr/>
          <p:nvPr/>
        </p:nvSpPr>
        <p:spPr>
          <a:xfrm rot="16200000">
            <a:off x="1403280" y="415980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878" name=""/>
          <p:cNvSpPr/>
          <p:nvPr/>
        </p:nvSpPr>
        <p:spPr>
          <a:xfrm>
            <a:off x="5621400" y="2714760"/>
            <a:ext cx="6062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621400" y="2714760"/>
            <a:ext cx="606240" cy="255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621400" y="2714760"/>
            <a:ext cx="60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5621400" y="2970360"/>
            <a:ext cx="60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flipV="1">
            <a:off x="6227640" y="2714760"/>
            <a:ext cx="1800" cy="25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5621400" y="2714760"/>
            <a:ext cx="1440" cy="25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621400" y="2970360"/>
            <a:ext cx="60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flipV="1">
            <a:off x="5621400" y="2714760"/>
            <a:ext cx="1440" cy="25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621400" y="2714760"/>
            <a:ext cx="60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5621400" y="2970360"/>
            <a:ext cx="60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flipV="1">
            <a:off x="6227640" y="2714760"/>
            <a:ext cx="1800" cy="25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5621400" y="2714760"/>
            <a:ext cx="1440" cy="25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889240" y="2728800"/>
            <a:ext cx="148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IR</a:t>
            </a:r>
            <a:endParaRPr b="0" lang="en-US" sz="700" spc="-1" strike="noStrike">
              <a:solidFill>
                <a:srgbClr val="000000"/>
              </a:solidFill>
              <a:latin typeface="Times New Roman"/>
            </a:endParaRPr>
          </a:p>
        </p:txBody>
      </p:sp>
      <p:sp>
        <p:nvSpPr>
          <p:cNvPr id="891" name=""/>
          <p:cNvSpPr/>
          <p:nvPr/>
        </p:nvSpPr>
        <p:spPr>
          <a:xfrm>
            <a:off x="5891400" y="2841480"/>
            <a:ext cx="26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OT</a:t>
            </a:r>
            <a:endParaRPr b="0" lang="en-US" sz="700" spc="-1" strike="noStrike">
              <a:solidFill>
                <a:srgbClr val="000000"/>
              </a:solidFill>
              <a:latin typeface="Times New Roman"/>
            </a:endParaRPr>
          </a:p>
        </p:txBody>
      </p:sp>
      <p:sp>
        <p:nvSpPr>
          <p:cNvPr id="892" name=""/>
          <p:cNvSpPr/>
          <p:nvPr/>
        </p:nvSpPr>
        <p:spPr>
          <a:xfrm>
            <a:off x="5670720" y="2786040"/>
            <a:ext cx="161640" cy="1440"/>
          </a:xfrm>
          <a:prstGeom prst="line">
            <a:avLst/>
          </a:prstGeom>
          <a:ln w="14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
          <p:cNvSpPr/>
          <p:nvPr/>
        </p:nvSpPr>
        <p:spPr>
          <a:xfrm>
            <a:off x="5670720" y="2898720"/>
            <a:ext cx="161640" cy="1800"/>
          </a:xfrm>
          <a:prstGeom prst="line">
            <a:avLst/>
          </a:prstGeom>
          <a:ln w="14400">
            <a:solidFill>
              <a:srgbClr val="ff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4" name=""/>
          <p:cNvSpPr/>
          <p:nvPr/>
        </p:nvSpPr>
        <p:spPr>
          <a:xfrm>
            <a:off x="3898800" y="2905200"/>
            <a:ext cx="48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 = 45 </a:t>
            </a:r>
            <a:endParaRPr b="0" lang="en-US" sz="1000" spc="-1" strike="noStrike">
              <a:solidFill>
                <a:srgbClr val="000000"/>
              </a:solidFill>
              <a:latin typeface="Times New Roman"/>
            </a:endParaRPr>
          </a:p>
        </p:txBody>
      </p:sp>
      <p:sp>
        <p:nvSpPr>
          <p:cNvPr id="895"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125720" y="974880"/>
            <a:ext cx="5409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q</a:t>
            </a:r>
            <a:r>
              <a:rPr b="0" lang="en-US" sz="2400" spc="-1" strike="noStrike">
                <a:solidFill>
                  <a:srgbClr val="000000"/>
                </a:solidFill>
                <a:latin typeface="Times New Roman"/>
              </a:rPr>
              <a:t> is parallel to the crack normal, </a:t>
            </a:r>
            <a:r>
              <a:rPr b="1" lang="en-US" sz="2400" spc="-1" strike="noStrike">
                <a:solidFill>
                  <a:srgbClr val="000000"/>
                </a:solidFill>
                <a:latin typeface="Times New Roman"/>
              </a:rPr>
              <a:t>n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98" name=""/>
          <p:cNvGraphicFramePr/>
          <p:nvPr/>
        </p:nvGraphicFramePr>
        <p:xfrm>
          <a:off x="2057400" y="1523880"/>
          <a:ext cx="3048120" cy="723960"/>
        </p:xfrm>
        <a:graphic>
          <a:graphicData uri="http://schemas.openxmlformats.org/presentationml/2006/ole">
            <p:oleObj r:id="rId1" spid="">
              <p:embed/>
              <p:pic>
                <p:nvPicPr>
                  <p:cNvPr id="899" name="" descr=""/>
                  <p:cNvPicPr/>
                  <p:nvPr/>
                </p:nvPicPr>
                <p:blipFill>
                  <a:blip r:embed="rId2"/>
                  <a:stretch/>
                </p:blipFill>
                <p:spPr>
                  <a:xfrm>
                    <a:off x="2057400" y="1523880"/>
                    <a:ext cx="3048120" cy="723960"/>
                  </a:xfrm>
                  <a:prstGeom prst="rect">
                    <a:avLst/>
                  </a:prstGeom>
                  <a:ln w="0">
                    <a:noFill/>
                  </a:ln>
                </p:spPr>
              </p:pic>
            </p:oleObj>
          </a:graphicData>
        </a:graphic>
      </p:graphicFrame>
      <p:sp>
        <p:nvSpPr>
          <p:cNvPr id="900" name=""/>
          <p:cNvSpPr/>
          <p:nvPr/>
        </p:nvSpPr>
        <p:spPr>
          <a:xfrm>
            <a:off x="1596600" y="236232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case - pulse echo: </a:t>
            </a:r>
            <a:endParaRPr b="0" lang="en-US" sz="2400" spc="-1" strike="noStrike">
              <a:solidFill>
                <a:srgbClr val="000000"/>
              </a:solidFill>
              <a:latin typeface="Times New Roman"/>
            </a:endParaRPr>
          </a:p>
        </p:txBody>
      </p:sp>
      <p:graphicFrame>
        <p:nvGraphicFramePr>
          <p:cNvPr id="901" name=""/>
          <p:cNvGraphicFramePr/>
          <p:nvPr/>
        </p:nvGraphicFramePr>
        <p:xfrm>
          <a:off x="3276720" y="2743200"/>
          <a:ext cx="2450880" cy="731880"/>
        </p:xfrm>
        <a:graphic>
          <a:graphicData uri="http://schemas.openxmlformats.org/presentationml/2006/ole">
            <p:oleObj r:id="rId3" spid="">
              <p:embed/>
              <p:pic>
                <p:nvPicPr>
                  <p:cNvPr id="902" name="" descr=""/>
                  <p:cNvPicPr/>
                  <p:nvPr/>
                </p:nvPicPr>
                <p:blipFill>
                  <a:blip r:embed="rId4"/>
                  <a:stretch/>
                </p:blipFill>
                <p:spPr>
                  <a:xfrm>
                    <a:off x="3276720" y="2743200"/>
                    <a:ext cx="2450880" cy="731880"/>
                  </a:xfrm>
                  <a:prstGeom prst="rect">
                    <a:avLst/>
                  </a:prstGeom>
                  <a:ln w="0">
                    <a:noFill/>
                  </a:ln>
                </p:spPr>
              </p:pic>
            </p:oleObj>
          </a:graphicData>
        </a:graphic>
      </p:graphicFrame>
      <p:sp>
        <p:nvSpPr>
          <p:cNvPr id="903" name=""/>
          <p:cNvSpPr/>
          <p:nvPr/>
        </p:nvSpPr>
        <p:spPr>
          <a:xfrm>
            <a:off x="6400800" y="220968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095880" y="1752480"/>
            <a:ext cx="42408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7086600" y="1757160"/>
            <a:ext cx="33192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78168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6794640" y="186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796720" y="1828800"/>
            <a:ext cx="36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909" name=""/>
          <p:cNvSpPr/>
          <p:nvPr/>
        </p:nvSpPr>
        <p:spPr>
          <a:xfrm>
            <a:off x="7473960" y="190512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910" name=""/>
          <p:cNvSpPr/>
          <p:nvPr/>
        </p:nvSpPr>
        <p:spPr>
          <a:xfrm>
            <a:off x="6786720" y="168768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11" name=""/>
          <p:cNvSpPr/>
          <p:nvPr/>
        </p:nvSpPr>
        <p:spPr>
          <a:xfrm>
            <a:off x="6858000" y="1143000"/>
            <a:ext cx="473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912" name=""/>
          <p:cNvSpPr/>
          <p:nvPr/>
        </p:nvSpPr>
        <p:spPr>
          <a:xfrm>
            <a:off x="6391440" y="366084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96000" y="2898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6848640" y="2898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6772320" y="3432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249240" y="2936880"/>
            <a:ext cx="36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917" name=""/>
          <p:cNvSpPr/>
          <p:nvPr/>
        </p:nvSpPr>
        <p:spPr>
          <a:xfrm>
            <a:off x="6940800" y="28954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918" name=""/>
          <p:cNvSpPr/>
          <p:nvPr/>
        </p:nvSpPr>
        <p:spPr>
          <a:xfrm>
            <a:off x="6810480" y="324648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19" name=""/>
          <p:cNvSpPr/>
          <p:nvPr/>
        </p:nvSpPr>
        <p:spPr>
          <a:xfrm>
            <a:off x="346680" y="6291360"/>
            <a:ext cx="6308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tude of the P-wave pulse-echo far-field scattering amplitude versus frequency for a 1 m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 circular crack in steel at normal incidence. </a:t>
            </a:r>
            <a:endParaRPr b="0" lang="en-US" sz="1200" spc="-1" strike="noStrike">
              <a:solidFill>
                <a:srgbClr val="000000"/>
              </a:solidFill>
              <a:latin typeface="Times New Roman"/>
            </a:endParaRPr>
          </a:p>
        </p:txBody>
      </p:sp>
      <p:grpSp>
        <p:nvGrpSpPr>
          <p:cNvPr id="920" name=""/>
          <p:cNvGrpSpPr/>
          <p:nvPr/>
        </p:nvGrpSpPr>
        <p:grpSpPr>
          <a:xfrm>
            <a:off x="2155680" y="3637080"/>
            <a:ext cx="2851200" cy="2265120"/>
            <a:chOff x="2155680" y="3637080"/>
            <a:chExt cx="2851200" cy="2265120"/>
          </a:xfrm>
        </p:grpSpPr>
        <p:sp>
          <p:nvSpPr>
            <p:cNvPr id="921" name=""/>
            <p:cNvSpPr/>
            <p:nvPr/>
          </p:nvSpPr>
          <p:spPr>
            <a:xfrm>
              <a:off x="2155680" y="3637080"/>
              <a:ext cx="2851200" cy="226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155680" y="3637080"/>
              <a:ext cx="2851200" cy="2265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2152800" y="5905440"/>
            <a:ext cx="2857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2152800" y="3633840"/>
            <a:ext cx="2857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flipV="1">
            <a:off x="501012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V="1">
            <a:off x="215280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V="1">
            <a:off x="215280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2152800" y="58766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9" name=""/>
          <p:cNvSpPr/>
          <p:nvPr/>
        </p:nvSpPr>
        <p:spPr>
          <a:xfrm>
            <a:off x="2152800" y="36338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0" name=""/>
          <p:cNvSpPr/>
          <p:nvPr/>
        </p:nvSpPr>
        <p:spPr>
          <a:xfrm>
            <a:off x="2134440" y="5967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31" name=""/>
          <p:cNvSpPr/>
          <p:nvPr/>
        </p:nvSpPr>
        <p:spPr>
          <a:xfrm flipV="1">
            <a:off x="262728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2" name=""/>
          <p:cNvSpPr/>
          <p:nvPr/>
        </p:nvSpPr>
        <p:spPr>
          <a:xfrm>
            <a:off x="262728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3" name=""/>
          <p:cNvSpPr/>
          <p:nvPr/>
        </p:nvSpPr>
        <p:spPr>
          <a:xfrm>
            <a:off x="2610720" y="5967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34" name=""/>
          <p:cNvSpPr/>
          <p:nvPr/>
        </p:nvSpPr>
        <p:spPr>
          <a:xfrm flipV="1">
            <a:off x="310500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5" name=""/>
          <p:cNvSpPr/>
          <p:nvPr/>
        </p:nvSpPr>
        <p:spPr>
          <a:xfrm>
            <a:off x="310500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6" name=""/>
          <p:cNvSpPr/>
          <p:nvPr/>
        </p:nvSpPr>
        <p:spPr>
          <a:xfrm>
            <a:off x="306612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937" name=""/>
          <p:cNvSpPr/>
          <p:nvPr/>
        </p:nvSpPr>
        <p:spPr>
          <a:xfrm flipV="1">
            <a:off x="358128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8" name=""/>
          <p:cNvSpPr/>
          <p:nvPr/>
        </p:nvSpPr>
        <p:spPr>
          <a:xfrm>
            <a:off x="358128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9" name=""/>
          <p:cNvSpPr/>
          <p:nvPr/>
        </p:nvSpPr>
        <p:spPr>
          <a:xfrm>
            <a:off x="354240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940" name=""/>
          <p:cNvSpPr/>
          <p:nvPr/>
        </p:nvSpPr>
        <p:spPr>
          <a:xfrm flipV="1">
            <a:off x="405756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1" name=""/>
          <p:cNvSpPr/>
          <p:nvPr/>
        </p:nvSpPr>
        <p:spPr>
          <a:xfrm>
            <a:off x="405756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2" name=""/>
          <p:cNvSpPr/>
          <p:nvPr/>
        </p:nvSpPr>
        <p:spPr>
          <a:xfrm>
            <a:off x="401868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943" name=""/>
          <p:cNvSpPr/>
          <p:nvPr/>
        </p:nvSpPr>
        <p:spPr>
          <a:xfrm flipV="1">
            <a:off x="453384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4" name=""/>
          <p:cNvSpPr/>
          <p:nvPr/>
        </p:nvSpPr>
        <p:spPr>
          <a:xfrm>
            <a:off x="453384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449352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946" name=""/>
          <p:cNvSpPr/>
          <p:nvPr/>
        </p:nvSpPr>
        <p:spPr>
          <a:xfrm flipV="1">
            <a:off x="5010120" y="58766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7" name=""/>
          <p:cNvSpPr/>
          <p:nvPr/>
        </p:nvSpPr>
        <p:spPr>
          <a:xfrm>
            <a:off x="5010120" y="36338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
          <p:cNvSpPr/>
          <p:nvPr/>
        </p:nvSpPr>
        <p:spPr>
          <a:xfrm>
            <a:off x="497124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949" name=""/>
          <p:cNvSpPr/>
          <p:nvPr/>
        </p:nvSpPr>
        <p:spPr>
          <a:xfrm>
            <a:off x="2152800" y="590544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flipH="1">
            <a:off x="4981320" y="590544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2028240" y="586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52" name=""/>
          <p:cNvSpPr/>
          <p:nvPr/>
        </p:nvSpPr>
        <p:spPr>
          <a:xfrm>
            <a:off x="2152800" y="56214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2028240" y="5581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54" name=""/>
          <p:cNvSpPr/>
          <p:nvPr/>
        </p:nvSpPr>
        <p:spPr>
          <a:xfrm>
            <a:off x="2152800" y="534024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flipH="1">
            <a:off x="4981320" y="534024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2028240" y="5297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57" name=""/>
          <p:cNvSpPr/>
          <p:nvPr/>
        </p:nvSpPr>
        <p:spPr>
          <a:xfrm>
            <a:off x="2152800" y="50562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8" name=""/>
          <p:cNvSpPr/>
          <p:nvPr/>
        </p:nvSpPr>
        <p:spPr>
          <a:xfrm flipH="1">
            <a:off x="4981320" y="505620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2028240" y="5014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60" name=""/>
          <p:cNvSpPr/>
          <p:nvPr/>
        </p:nvSpPr>
        <p:spPr>
          <a:xfrm>
            <a:off x="2152800" y="47736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flipH="1">
            <a:off x="4981320" y="477360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2028240" y="47307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63" name=""/>
          <p:cNvSpPr/>
          <p:nvPr/>
        </p:nvSpPr>
        <p:spPr>
          <a:xfrm>
            <a:off x="2152800" y="448308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flipH="1">
            <a:off x="4981320" y="448308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1985040" y="44416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966" name=""/>
          <p:cNvSpPr/>
          <p:nvPr/>
        </p:nvSpPr>
        <p:spPr>
          <a:xfrm>
            <a:off x="2152800" y="420048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flipH="1">
            <a:off x="4981320" y="420048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1985040" y="41576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969" name=""/>
          <p:cNvSpPr/>
          <p:nvPr/>
        </p:nvSpPr>
        <p:spPr>
          <a:xfrm>
            <a:off x="2152800" y="391644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flipH="1">
            <a:off x="4981320" y="391644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1985040" y="387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972" name=""/>
          <p:cNvSpPr/>
          <p:nvPr/>
        </p:nvSpPr>
        <p:spPr>
          <a:xfrm>
            <a:off x="2152800" y="363384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flipH="1">
            <a:off x="4981320" y="363384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1985040" y="35924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975" name=""/>
          <p:cNvSpPr/>
          <p:nvPr/>
        </p:nvSpPr>
        <p:spPr>
          <a:xfrm>
            <a:off x="2152800" y="4454640"/>
            <a:ext cx="1825560" cy="1450800"/>
          </a:xfrm>
          <a:custGeom>
            <a:avLst/>
            <a:gdLst/>
            <a:ahLst/>
            <a:rect l="l" t="t" r="r" b="b"/>
            <a:pathLst>
              <a:path w="1150" h="914">
                <a:moveTo>
                  <a:pt x="0" y="914"/>
                </a:moveTo>
                <a:lnTo>
                  <a:pt x="4" y="909"/>
                </a:lnTo>
                <a:lnTo>
                  <a:pt x="9" y="905"/>
                </a:lnTo>
                <a:lnTo>
                  <a:pt x="13" y="901"/>
                </a:lnTo>
                <a:lnTo>
                  <a:pt x="17" y="901"/>
                </a:lnTo>
                <a:lnTo>
                  <a:pt x="23" y="896"/>
                </a:lnTo>
                <a:lnTo>
                  <a:pt x="27" y="892"/>
                </a:lnTo>
                <a:lnTo>
                  <a:pt x="31" y="886"/>
                </a:lnTo>
                <a:lnTo>
                  <a:pt x="36" y="886"/>
                </a:lnTo>
                <a:lnTo>
                  <a:pt x="40" y="882"/>
                </a:lnTo>
                <a:lnTo>
                  <a:pt x="46" y="878"/>
                </a:lnTo>
                <a:lnTo>
                  <a:pt x="50" y="873"/>
                </a:lnTo>
                <a:lnTo>
                  <a:pt x="54" y="873"/>
                </a:lnTo>
                <a:lnTo>
                  <a:pt x="59" y="869"/>
                </a:lnTo>
                <a:lnTo>
                  <a:pt x="63" y="864"/>
                </a:lnTo>
                <a:lnTo>
                  <a:pt x="67" y="859"/>
                </a:lnTo>
                <a:lnTo>
                  <a:pt x="73" y="855"/>
                </a:lnTo>
                <a:lnTo>
                  <a:pt x="77" y="850"/>
                </a:lnTo>
                <a:lnTo>
                  <a:pt x="81" y="850"/>
                </a:lnTo>
                <a:lnTo>
                  <a:pt x="86" y="846"/>
                </a:lnTo>
                <a:lnTo>
                  <a:pt x="90" y="841"/>
                </a:lnTo>
                <a:lnTo>
                  <a:pt x="95" y="836"/>
                </a:lnTo>
                <a:lnTo>
                  <a:pt x="100" y="832"/>
                </a:lnTo>
                <a:lnTo>
                  <a:pt x="104" y="832"/>
                </a:lnTo>
                <a:lnTo>
                  <a:pt x="109" y="827"/>
                </a:lnTo>
                <a:lnTo>
                  <a:pt x="113" y="823"/>
                </a:lnTo>
                <a:lnTo>
                  <a:pt x="118" y="818"/>
                </a:lnTo>
                <a:lnTo>
                  <a:pt x="123" y="818"/>
                </a:lnTo>
                <a:lnTo>
                  <a:pt x="127" y="813"/>
                </a:lnTo>
                <a:lnTo>
                  <a:pt x="132" y="809"/>
                </a:lnTo>
                <a:lnTo>
                  <a:pt x="136" y="804"/>
                </a:lnTo>
                <a:lnTo>
                  <a:pt x="140" y="804"/>
                </a:lnTo>
                <a:lnTo>
                  <a:pt x="145" y="800"/>
                </a:lnTo>
                <a:lnTo>
                  <a:pt x="150" y="795"/>
                </a:lnTo>
                <a:lnTo>
                  <a:pt x="154" y="791"/>
                </a:lnTo>
                <a:lnTo>
                  <a:pt x="159" y="786"/>
                </a:lnTo>
                <a:lnTo>
                  <a:pt x="163" y="786"/>
                </a:lnTo>
                <a:lnTo>
                  <a:pt x="168" y="781"/>
                </a:lnTo>
                <a:lnTo>
                  <a:pt x="172" y="777"/>
                </a:lnTo>
                <a:lnTo>
                  <a:pt x="177" y="772"/>
                </a:lnTo>
                <a:lnTo>
                  <a:pt x="182" y="768"/>
                </a:lnTo>
                <a:lnTo>
                  <a:pt x="186" y="764"/>
                </a:lnTo>
                <a:lnTo>
                  <a:pt x="190" y="764"/>
                </a:lnTo>
                <a:lnTo>
                  <a:pt x="195" y="758"/>
                </a:lnTo>
                <a:lnTo>
                  <a:pt x="200" y="754"/>
                </a:lnTo>
                <a:lnTo>
                  <a:pt x="204" y="750"/>
                </a:lnTo>
                <a:lnTo>
                  <a:pt x="209" y="750"/>
                </a:lnTo>
                <a:lnTo>
                  <a:pt x="213" y="745"/>
                </a:lnTo>
                <a:lnTo>
                  <a:pt x="218" y="741"/>
                </a:lnTo>
                <a:lnTo>
                  <a:pt x="222" y="735"/>
                </a:lnTo>
                <a:lnTo>
                  <a:pt x="227" y="735"/>
                </a:lnTo>
                <a:lnTo>
                  <a:pt x="232" y="731"/>
                </a:lnTo>
                <a:lnTo>
                  <a:pt x="236" y="727"/>
                </a:lnTo>
                <a:lnTo>
                  <a:pt x="241" y="722"/>
                </a:lnTo>
                <a:lnTo>
                  <a:pt x="245" y="718"/>
                </a:lnTo>
                <a:lnTo>
                  <a:pt x="250" y="718"/>
                </a:lnTo>
                <a:lnTo>
                  <a:pt x="255" y="713"/>
                </a:lnTo>
                <a:lnTo>
                  <a:pt x="259" y="708"/>
                </a:lnTo>
                <a:lnTo>
                  <a:pt x="263" y="704"/>
                </a:lnTo>
                <a:lnTo>
                  <a:pt x="268" y="704"/>
                </a:lnTo>
                <a:lnTo>
                  <a:pt x="272" y="699"/>
                </a:lnTo>
                <a:lnTo>
                  <a:pt x="277" y="695"/>
                </a:lnTo>
                <a:lnTo>
                  <a:pt x="282" y="690"/>
                </a:lnTo>
                <a:lnTo>
                  <a:pt x="286" y="686"/>
                </a:lnTo>
                <a:lnTo>
                  <a:pt x="291" y="681"/>
                </a:lnTo>
                <a:lnTo>
                  <a:pt x="295" y="681"/>
                </a:lnTo>
                <a:lnTo>
                  <a:pt x="299" y="676"/>
                </a:lnTo>
                <a:lnTo>
                  <a:pt x="305" y="672"/>
                </a:lnTo>
                <a:lnTo>
                  <a:pt x="309" y="667"/>
                </a:lnTo>
                <a:lnTo>
                  <a:pt x="313" y="667"/>
                </a:lnTo>
                <a:lnTo>
                  <a:pt x="318" y="663"/>
                </a:lnTo>
                <a:lnTo>
                  <a:pt x="322" y="658"/>
                </a:lnTo>
                <a:lnTo>
                  <a:pt x="327" y="653"/>
                </a:lnTo>
                <a:lnTo>
                  <a:pt x="332" y="649"/>
                </a:lnTo>
                <a:lnTo>
                  <a:pt x="336" y="649"/>
                </a:lnTo>
                <a:lnTo>
                  <a:pt x="341" y="644"/>
                </a:lnTo>
                <a:lnTo>
                  <a:pt x="345" y="640"/>
                </a:lnTo>
                <a:lnTo>
                  <a:pt x="349" y="636"/>
                </a:lnTo>
                <a:lnTo>
                  <a:pt x="355" y="636"/>
                </a:lnTo>
                <a:lnTo>
                  <a:pt x="359" y="630"/>
                </a:lnTo>
                <a:lnTo>
                  <a:pt x="363" y="626"/>
                </a:lnTo>
                <a:lnTo>
                  <a:pt x="368" y="621"/>
                </a:lnTo>
                <a:lnTo>
                  <a:pt x="372" y="617"/>
                </a:lnTo>
                <a:lnTo>
                  <a:pt x="377" y="613"/>
                </a:lnTo>
                <a:lnTo>
                  <a:pt x="382" y="613"/>
                </a:lnTo>
                <a:lnTo>
                  <a:pt x="386" y="608"/>
                </a:lnTo>
                <a:lnTo>
                  <a:pt x="391" y="603"/>
                </a:lnTo>
                <a:lnTo>
                  <a:pt x="395" y="599"/>
                </a:lnTo>
                <a:lnTo>
                  <a:pt x="399" y="594"/>
                </a:lnTo>
                <a:lnTo>
                  <a:pt x="405" y="594"/>
                </a:lnTo>
                <a:lnTo>
                  <a:pt x="409" y="590"/>
                </a:lnTo>
                <a:lnTo>
                  <a:pt x="413" y="585"/>
                </a:lnTo>
                <a:lnTo>
                  <a:pt x="418" y="580"/>
                </a:lnTo>
                <a:lnTo>
                  <a:pt x="422" y="580"/>
                </a:lnTo>
                <a:lnTo>
                  <a:pt x="427" y="576"/>
                </a:lnTo>
                <a:lnTo>
                  <a:pt x="432" y="571"/>
                </a:lnTo>
                <a:lnTo>
                  <a:pt x="436" y="567"/>
                </a:lnTo>
                <a:lnTo>
                  <a:pt x="441" y="567"/>
                </a:lnTo>
                <a:lnTo>
                  <a:pt x="445" y="562"/>
                </a:lnTo>
                <a:lnTo>
                  <a:pt x="450" y="558"/>
                </a:lnTo>
                <a:lnTo>
                  <a:pt x="455" y="553"/>
                </a:lnTo>
                <a:lnTo>
                  <a:pt x="459" y="548"/>
                </a:lnTo>
                <a:lnTo>
                  <a:pt x="464" y="544"/>
                </a:lnTo>
                <a:lnTo>
                  <a:pt x="468" y="544"/>
                </a:lnTo>
                <a:lnTo>
                  <a:pt x="472" y="539"/>
                </a:lnTo>
                <a:lnTo>
                  <a:pt x="477" y="535"/>
                </a:lnTo>
                <a:lnTo>
                  <a:pt x="482" y="530"/>
                </a:lnTo>
                <a:lnTo>
                  <a:pt x="486" y="525"/>
                </a:lnTo>
                <a:lnTo>
                  <a:pt x="491" y="525"/>
                </a:lnTo>
                <a:lnTo>
                  <a:pt x="495" y="521"/>
                </a:lnTo>
                <a:lnTo>
                  <a:pt x="500" y="516"/>
                </a:lnTo>
                <a:lnTo>
                  <a:pt x="504" y="512"/>
                </a:lnTo>
                <a:lnTo>
                  <a:pt x="509" y="512"/>
                </a:lnTo>
                <a:lnTo>
                  <a:pt x="514" y="507"/>
                </a:lnTo>
                <a:lnTo>
                  <a:pt x="518" y="502"/>
                </a:lnTo>
                <a:lnTo>
                  <a:pt x="522" y="498"/>
                </a:lnTo>
                <a:lnTo>
                  <a:pt x="527" y="498"/>
                </a:lnTo>
                <a:lnTo>
                  <a:pt x="532" y="493"/>
                </a:lnTo>
                <a:lnTo>
                  <a:pt x="536" y="489"/>
                </a:lnTo>
                <a:lnTo>
                  <a:pt x="541" y="485"/>
                </a:lnTo>
                <a:lnTo>
                  <a:pt x="545" y="480"/>
                </a:lnTo>
                <a:lnTo>
                  <a:pt x="550" y="475"/>
                </a:lnTo>
                <a:lnTo>
                  <a:pt x="554" y="475"/>
                </a:lnTo>
                <a:lnTo>
                  <a:pt x="559" y="470"/>
                </a:lnTo>
                <a:lnTo>
                  <a:pt x="564" y="466"/>
                </a:lnTo>
                <a:lnTo>
                  <a:pt x="568" y="462"/>
                </a:lnTo>
                <a:lnTo>
                  <a:pt x="572" y="457"/>
                </a:lnTo>
                <a:lnTo>
                  <a:pt x="577" y="457"/>
                </a:lnTo>
                <a:lnTo>
                  <a:pt x="581" y="453"/>
                </a:lnTo>
                <a:lnTo>
                  <a:pt x="587" y="447"/>
                </a:lnTo>
                <a:lnTo>
                  <a:pt x="591" y="443"/>
                </a:lnTo>
                <a:lnTo>
                  <a:pt x="595" y="443"/>
                </a:lnTo>
                <a:lnTo>
                  <a:pt x="600" y="439"/>
                </a:lnTo>
                <a:lnTo>
                  <a:pt x="604" y="434"/>
                </a:lnTo>
                <a:lnTo>
                  <a:pt x="609" y="430"/>
                </a:lnTo>
                <a:lnTo>
                  <a:pt x="614" y="430"/>
                </a:lnTo>
                <a:lnTo>
                  <a:pt x="618" y="424"/>
                </a:lnTo>
                <a:lnTo>
                  <a:pt x="623" y="420"/>
                </a:lnTo>
                <a:lnTo>
                  <a:pt x="627" y="416"/>
                </a:lnTo>
                <a:lnTo>
                  <a:pt x="631" y="411"/>
                </a:lnTo>
                <a:lnTo>
                  <a:pt x="637" y="407"/>
                </a:lnTo>
                <a:lnTo>
                  <a:pt x="641" y="407"/>
                </a:lnTo>
                <a:lnTo>
                  <a:pt x="645" y="402"/>
                </a:lnTo>
                <a:lnTo>
                  <a:pt x="650" y="397"/>
                </a:lnTo>
                <a:lnTo>
                  <a:pt x="654" y="393"/>
                </a:lnTo>
                <a:lnTo>
                  <a:pt x="659" y="388"/>
                </a:lnTo>
                <a:lnTo>
                  <a:pt x="664" y="388"/>
                </a:lnTo>
                <a:lnTo>
                  <a:pt x="668" y="384"/>
                </a:lnTo>
                <a:lnTo>
                  <a:pt x="673" y="379"/>
                </a:lnTo>
                <a:lnTo>
                  <a:pt x="677" y="374"/>
                </a:lnTo>
                <a:lnTo>
                  <a:pt x="681" y="374"/>
                </a:lnTo>
                <a:lnTo>
                  <a:pt x="687" y="370"/>
                </a:lnTo>
                <a:lnTo>
                  <a:pt x="691" y="365"/>
                </a:lnTo>
                <a:lnTo>
                  <a:pt x="695" y="361"/>
                </a:lnTo>
                <a:lnTo>
                  <a:pt x="700" y="361"/>
                </a:lnTo>
                <a:lnTo>
                  <a:pt x="704" y="356"/>
                </a:lnTo>
                <a:lnTo>
                  <a:pt x="709" y="352"/>
                </a:lnTo>
                <a:lnTo>
                  <a:pt x="714" y="347"/>
                </a:lnTo>
                <a:lnTo>
                  <a:pt x="718" y="342"/>
                </a:lnTo>
                <a:lnTo>
                  <a:pt x="723" y="342"/>
                </a:lnTo>
                <a:lnTo>
                  <a:pt x="727" y="338"/>
                </a:lnTo>
                <a:lnTo>
                  <a:pt x="731" y="334"/>
                </a:lnTo>
                <a:lnTo>
                  <a:pt x="737" y="329"/>
                </a:lnTo>
                <a:lnTo>
                  <a:pt x="741" y="325"/>
                </a:lnTo>
                <a:lnTo>
                  <a:pt x="745" y="319"/>
                </a:lnTo>
                <a:lnTo>
                  <a:pt x="750" y="319"/>
                </a:lnTo>
                <a:lnTo>
                  <a:pt x="754" y="315"/>
                </a:lnTo>
                <a:lnTo>
                  <a:pt x="759" y="311"/>
                </a:lnTo>
                <a:lnTo>
                  <a:pt x="764" y="306"/>
                </a:lnTo>
                <a:lnTo>
                  <a:pt x="768" y="306"/>
                </a:lnTo>
                <a:lnTo>
                  <a:pt x="773" y="302"/>
                </a:lnTo>
                <a:lnTo>
                  <a:pt x="777" y="296"/>
                </a:lnTo>
                <a:lnTo>
                  <a:pt x="781" y="292"/>
                </a:lnTo>
                <a:lnTo>
                  <a:pt x="786" y="288"/>
                </a:lnTo>
                <a:lnTo>
                  <a:pt x="791" y="288"/>
                </a:lnTo>
                <a:lnTo>
                  <a:pt x="795" y="283"/>
                </a:lnTo>
                <a:lnTo>
                  <a:pt x="800" y="279"/>
                </a:lnTo>
                <a:lnTo>
                  <a:pt x="804" y="274"/>
                </a:lnTo>
                <a:lnTo>
                  <a:pt x="809" y="274"/>
                </a:lnTo>
                <a:lnTo>
                  <a:pt x="814" y="269"/>
                </a:lnTo>
                <a:lnTo>
                  <a:pt x="818" y="265"/>
                </a:lnTo>
                <a:lnTo>
                  <a:pt x="823" y="260"/>
                </a:lnTo>
                <a:lnTo>
                  <a:pt x="827" y="260"/>
                </a:lnTo>
                <a:lnTo>
                  <a:pt x="832" y="256"/>
                </a:lnTo>
                <a:lnTo>
                  <a:pt x="836" y="251"/>
                </a:lnTo>
                <a:lnTo>
                  <a:pt x="841" y="247"/>
                </a:lnTo>
                <a:lnTo>
                  <a:pt x="846" y="242"/>
                </a:lnTo>
                <a:lnTo>
                  <a:pt x="850" y="237"/>
                </a:lnTo>
                <a:lnTo>
                  <a:pt x="854" y="237"/>
                </a:lnTo>
                <a:lnTo>
                  <a:pt x="859" y="233"/>
                </a:lnTo>
                <a:lnTo>
                  <a:pt x="864" y="228"/>
                </a:lnTo>
                <a:lnTo>
                  <a:pt x="868" y="224"/>
                </a:lnTo>
                <a:lnTo>
                  <a:pt x="873" y="219"/>
                </a:lnTo>
                <a:lnTo>
                  <a:pt x="877" y="219"/>
                </a:lnTo>
                <a:lnTo>
                  <a:pt x="882" y="214"/>
                </a:lnTo>
                <a:lnTo>
                  <a:pt x="886" y="210"/>
                </a:lnTo>
                <a:lnTo>
                  <a:pt x="891" y="205"/>
                </a:lnTo>
                <a:lnTo>
                  <a:pt x="896" y="205"/>
                </a:lnTo>
                <a:lnTo>
                  <a:pt x="900" y="201"/>
                </a:lnTo>
                <a:lnTo>
                  <a:pt x="904" y="197"/>
                </a:lnTo>
                <a:lnTo>
                  <a:pt x="909" y="191"/>
                </a:lnTo>
                <a:lnTo>
                  <a:pt x="913" y="191"/>
                </a:lnTo>
                <a:lnTo>
                  <a:pt x="918" y="187"/>
                </a:lnTo>
                <a:lnTo>
                  <a:pt x="923" y="182"/>
                </a:lnTo>
                <a:lnTo>
                  <a:pt x="927" y="178"/>
                </a:lnTo>
                <a:lnTo>
                  <a:pt x="932" y="174"/>
                </a:lnTo>
                <a:lnTo>
                  <a:pt x="936" y="169"/>
                </a:lnTo>
                <a:lnTo>
                  <a:pt x="941" y="169"/>
                </a:lnTo>
                <a:lnTo>
                  <a:pt x="946" y="164"/>
                </a:lnTo>
                <a:lnTo>
                  <a:pt x="950" y="159"/>
                </a:lnTo>
                <a:lnTo>
                  <a:pt x="955" y="155"/>
                </a:lnTo>
                <a:lnTo>
                  <a:pt x="959" y="151"/>
                </a:lnTo>
                <a:lnTo>
                  <a:pt x="963" y="151"/>
                </a:lnTo>
                <a:lnTo>
                  <a:pt x="969" y="146"/>
                </a:lnTo>
                <a:lnTo>
                  <a:pt x="973" y="141"/>
                </a:lnTo>
                <a:lnTo>
                  <a:pt x="977" y="136"/>
                </a:lnTo>
                <a:lnTo>
                  <a:pt x="982" y="136"/>
                </a:lnTo>
                <a:lnTo>
                  <a:pt x="986" y="132"/>
                </a:lnTo>
                <a:lnTo>
                  <a:pt x="990" y="128"/>
                </a:lnTo>
                <a:lnTo>
                  <a:pt x="996" y="123"/>
                </a:lnTo>
                <a:lnTo>
                  <a:pt x="1000" y="123"/>
                </a:lnTo>
                <a:lnTo>
                  <a:pt x="1005" y="119"/>
                </a:lnTo>
                <a:lnTo>
                  <a:pt x="1009" y="114"/>
                </a:lnTo>
                <a:lnTo>
                  <a:pt x="1013" y="109"/>
                </a:lnTo>
                <a:lnTo>
                  <a:pt x="1019" y="105"/>
                </a:lnTo>
                <a:lnTo>
                  <a:pt x="1023" y="100"/>
                </a:lnTo>
                <a:lnTo>
                  <a:pt x="1027" y="100"/>
                </a:lnTo>
                <a:lnTo>
                  <a:pt x="1032" y="96"/>
                </a:lnTo>
                <a:lnTo>
                  <a:pt x="1036" y="91"/>
                </a:lnTo>
                <a:lnTo>
                  <a:pt x="1041" y="86"/>
                </a:lnTo>
                <a:lnTo>
                  <a:pt x="1046" y="82"/>
                </a:lnTo>
                <a:lnTo>
                  <a:pt x="1050" y="82"/>
                </a:lnTo>
                <a:lnTo>
                  <a:pt x="1055" y="77"/>
                </a:lnTo>
                <a:lnTo>
                  <a:pt x="1059" y="73"/>
                </a:lnTo>
                <a:lnTo>
                  <a:pt x="1063" y="69"/>
                </a:lnTo>
                <a:lnTo>
                  <a:pt x="1068" y="69"/>
                </a:lnTo>
                <a:lnTo>
                  <a:pt x="1073" y="63"/>
                </a:lnTo>
                <a:lnTo>
                  <a:pt x="1077" y="59"/>
                </a:lnTo>
                <a:lnTo>
                  <a:pt x="1082" y="54"/>
                </a:lnTo>
                <a:lnTo>
                  <a:pt x="1086" y="54"/>
                </a:lnTo>
                <a:lnTo>
                  <a:pt x="1091" y="50"/>
                </a:lnTo>
                <a:lnTo>
                  <a:pt x="1096" y="46"/>
                </a:lnTo>
                <a:lnTo>
                  <a:pt x="1100" y="41"/>
                </a:lnTo>
                <a:lnTo>
                  <a:pt x="1105" y="36"/>
                </a:lnTo>
                <a:lnTo>
                  <a:pt x="1109" y="31"/>
                </a:lnTo>
                <a:lnTo>
                  <a:pt x="1113" y="27"/>
                </a:lnTo>
                <a:lnTo>
                  <a:pt x="1118" y="27"/>
                </a:lnTo>
                <a:lnTo>
                  <a:pt x="1123" y="23"/>
                </a:lnTo>
                <a:lnTo>
                  <a:pt x="1127" y="18"/>
                </a:lnTo>
                <a:lnTo>
                  <a:pt x="1132" y="14"/>
                </a:lnTo>
                <a:lnTo>
                  <a:pt x="1136" y="14"/>
                </a:lnTo>
                <a:lnTo>
                  <a:pt x="1141" y="8"/>
                </a:lnTo>
                <a:lnTo>
                  <a:pt x="1146" y="4"/>
                </a:lnTo>
                <a:lnTo>
                  <a:pt x="1150" y="0"/>
                </a:lnTo>
              </a:path>
            </a:pathLst>
          </a:custGeom>
          <a:noFill/>
          <a:ln cap="rnd"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978360" y="3639960"/>
            <a:ext cx="1031760" cy="814680"/>
          </a:xfrm>
          <a:custGeom>
            <a:avLst/>
            <a:gdLst/>
            <a:ahLst/>
            <a:rect l="l" t="t" r="r" b="b"/>
            <a:pathLst>
              <a:path w="650" h="513">
                <a:moveTo>
                  <a:pt x="0" y="513"/>
                </a:moveTo>
                <a:lnTo>
                  <a:pt x="5" y="513"/>
                </a:lnTo>
                <a:lnTo>
                  <a:pt x="9" y="508"/>
                </a:lnTo>
                <a:lnTo>
                  <a:pt x="14" y="504"/>
                </a:lnTo>
                <a:lnTo>
                  <a:pt x="18" y="498"/>
                </a:lnTo>
                <a:lnTo>
                  <a:pt x="23" y="494"/>
                </a:lnTo>
                <a:lnTo>
                  <a:pt x="28" y="494"/>
                </a:lnTo>
                <a:lnTo>
                  <a:pt x="32" y="490"/>
                </a:lnTo>
                <a:lnTo>
                  <a:pt x="36" y="485"/>
                </a:lnTo>
                <a:lnTo>
                  <a:pt x="41" y="481"/>
                </a:lnTo>
                <a:lnTo>
                  <a:pt x="45" y="476"/>
                </a:lnTo>
                <a:lnTo>
                  <a:pt x="50" y="471"/>
                </a:lnTo>
                <a:lnTo>
                  <a:pt x="55" y="471"/>
                </a:lnTo>
                <a:lnTo>
                  <a:pt x="59" y="467"/>
                </a:lnTo>
                <a:lnTo>
                  <a:pt x="64" y="462"/>
                </a:lnTo>
                <a:lnTo>
                  <a:pt x="68" y="458"/>
                </a:lnTo>
                <a:lnTo>
                  <a:pt x="73" y="458"/>
                </a:lnTo>
                <a:lnTo>
                  <a:pt x="78" y="453"/>
                </a:lnTo>
                <a:lnTo>
                  <a:pt x="82" y="448"/>
                </a:lnTo>
                <a:lnTo>
                  <a:pt x="86" y="444"/>
                </a:lnTo>
                <a:lnTo>
                  <a:pt x="91" y="444"/>
                </a:lnTo>
                <a:lnTo>
                  <a:pt x="95" y="439"/>
                </a:lnTo>
                <a:lnTo>
                  <a:pt x="100" y="435"/>
                </a:lnTo>
                <a:lnTo>
                  <a:pt x="105" y="430"/>
                </a:lnTo>
                <a:lnTo>
                  <a:pt x="109" y="426"/>
                </a:lnTo>
                <a:lnTo>
                  <a:pt x="114" y="426"/>
                </a:lnTo>
                <a:lnTo>
                  <a:pt x="118" y="421"/>
                </a:lnTo>
                <a:lnTo>
                  <a:pt x="122" y="416"/>
                </a:lnTo>
                <a:lnTo>
                  <a:pt x="128" y="412"/>
                </a:lnTo>
                <a:lnTo>
                  <a:pt x="132" y="412"/>
                </a:lnTo>
                <a:lnTo>
                  <a:pt x="136" y="407"/>
                </a:lnTo>
                <a:lnTo>
                  <a:pt x="141" y="403"/>
                </a:lnTo>
                <a:lnTo>
                  <a:pt x="145" y="399"/>
                </a:lnTo>
                <a:lnTo>
                  <a:pt x="151" y="393"/>
                </a:lnTo>
                <a:lnTo>
                  <a:pt x="155" y="389"/>
                </a:lnTo>
                <a:lnTo>
                  <a:pt x="159" y="389"/>
                </a:lnTo>
                <a:lnTo>
                  <a:pt x="164" y="384"/>
                </a:lnTo>
                <a:lnTo>
                  <a:pt x="168" y="380"/>
                </a:lnTo>
                <a:lnTo>
                  <a:pt x="172" y="376"/>
                </a:lnTo>
                <a:lnTo>
                  <a:pt x="178" y="376"/>
                </a:lnTo>
                <a:lnTo>
                  <a:pt x="182" y="370"/>
                </a:lnTo>
                <a:lnTo>
                  <a:pt x="187" y="366"/>
                </a:lnTo>
                <a:lnTo>
                  <a:pt x="191" y="362"/>
                </a:lnTo>
                <a:lnTo>
                  <a:pt x="195" y="357"/>
                </a:lnTo>
                <a:lnTo>
                  <a:pt x="201" y="357"/>
                </a:lnTo>
                <a:lnTo>
                  <a:pt x="205" y="353"/>
                </a:lnTo>
                <a:lnTo>
                  <a:pt x="209" y="348"/>
                </a:lnTo>
                <a:lnTo>
                  <a:pt x="214" y="343"/>
                </a:lnTo>
                <a:lnTo>
                  <a:pt x="218" y="343"/>
                </a:lnTo>
                <a:lnTo>
                  <a:pt x="222" y="339"/>
                </a:lnTo>
                <a:lnTo>
                  <a:pt x="228" y="334"/>
                </a:lnTo>
                <a:lnTo>
                  <a:pt x="232" y="330"/>
                </a:lnTo>
                <a:lnTo>
                  <a:pt x="237" y="330"/>
                </a:lnTo>
                <a:lnTo>
                  <a:pt x="241" y="325"/>
                </a:lnTo>
                <a:lnTo>
                  <a:pt x="245" y="321"/>
                </a:lnTo>
                <a:lnTo>
                  <a:pt x="250" y="316"/>
                </a:lnTo>
                <a:lnTo>
                  <a:pt x="255" y="311"/>
                </a:lnTo>
                <a:lnTo>
                  <a:pt x="259" y="307"/>
                </a:lnTo>
                <a:lnTo>
                  <a:pt x="264" y="307"/>
                </a:lnTo>
                <a:lnTo>
                  <a:pt x="268" y="302"/>
                </a:lnTo>
                <a:lnTo>
                  <a:pt x="273" y="298"/>
                </a:lnTo>
                <a:lnTo>
                  <a:pt x="278" y="293"/>
                </a:lnTo>
                <a:lnTo>
                  <a:pt x="282" y="288"/>
                </a:lnTo>
                <a:lnTo>
                  <a:pt x="287" y="288"/>
                </a:lnTo>
                <a:lnTo>
                  <a:pt x="291" y="284"/>
                </a:lnTo>
                <a:lnTo>
                  <a:pt x="295" y="279"/>
                </a:lnTo>
                <a:lnTo>
                  <a:pt x="300" y="275"/>
                </a:lnTo>
                <a:lnTo>
                  <a:pt x="305" y="275"/>
                </a:lnTo>
                <a:lnTo>
                  <a:pt x="309" y="271"/>
                </a:lnTo>
                <a:lnTo>
                  <a:pt x="314" y="265"/>
                </a:lnTo>
                <a:lnTo>
                  <a:pt x="318" y="261"/>
                </a:lnTo>
                <a:lnTo>
                  <a:pt x="323" y="256"/>
                </a:lnTo>
                <a:lnTo>
                  <a:pt x="327" y="252"/>
                </a:lnTo>
                <a:lnTo>
                  <a:pt x="332" y="252"/>
                </a:lnTo>
                <a:lnTo>
                  <a:pt x="337" y="248"/>
                </a:lnTo>
                <a:lnTo>
                  <a:pt x="341" y="243"/>
                </a:lnTo>
                <a:lnTo>
                  <a:pt x="345" y="238"/>
                </a:lnTo>
                <a:lnTo>
                  <a:pt x="350" y="233"/>
                </a:lnTo>
                <a:lnTo>
                  <a:pt x="355" y="233"/>
                </a:lnTo>
                <a:lnTo>
                  <a:pt x="359" y="229"/>
                </a:lnTo>
                <a:lnTo>
                  <a:pt x="364" y="225"/>
                </a:lnTo>
                <a:lnTo>
                  <a:pt x="368" y="220"/>
                </a:lnTo>
                <a:lnTo>
                  <a:pt x="373" y="220"/>
                </a:lnTo>
                <a:lnTo>
                  <a:pt x="377" y="215"/>
                </a:lnTo>
                <a:lnTo>
                  <a:pt x="382" y="211"/>
                </a:lnTo>
                <a:lnTo>
                  <a:pt x="387" y="206"/>
                </a:lnTo>
                <a:lnTo>
                  <a:pt x="391" y="206"/>
                </a:lnTo>
                <a:lnTo>
                  <a:pt x="396" y="202"/>
                </a:lnTo>
                <a:lnTo>
                  <a:pt x="400" y="197"/>
                </a:lnTo>
                <a:lnTo>
                  <a:pt x="405" y="193"/>
                </a:lnTo>
                <a:lnTo>
                  <a:pt x="410" y="188"/>
                </a:lnTo>
                <a:lnTo>
                  <a:pt x="414" y="183"/>
                </a:lnTo>
                <a:lnTo>
                  <a:pt x="418" y="183"/>
                </a:lnTo>
                <a:lnTo>
                  <a:pt x="423" y="179"/>
                </a:lnTo>
                <a:lnTo>
                  <a:pt x="427" y="174"/>
                </a:lnTo>
                <a:lnTo>
                  <a:pt x="432" y="170"/>
                </a:lnTo>
                <a:lnTo>
                  <a:pt x="437" y="165"/>
                </a:lnTo>
                <a:lnTo>
                  <a:pt x="441" y="165"/>
                </a:lnTo>
                <a:lnTo>
                  <a:pt x="446" y="160"/>
                </a:lnTo>
                <a:lnTo>
                  <a:pt x="450" y="156"/>
                </a:lnTo>
                <a:lnTo>
                  <a:pt x="454" y="151"/>
                </a:lnTo>
                <a:lnTo>
                  <a:pt x="460" y="151"/>
                </a:lnTo>
                <a:lnTo>
                  <a:pt x="464" y="147"/>
                </a:lnTo>
                <a:lnTo>
                  <a:pt x="468" y="142"/>
                </a:lnTo>
                <a:lnTo>
                  <a:pt x="473" y="137"/>
                </a:lnTo>
                <a:lnTo>
                  <a:pt x="477" y="137"/>
                </a:lnTo>
                <a:lnTo>
                  <a:pt x="482" y="133"/>
                </a:lnTo>
                <a:lnTo>
                  <a:pt x="487" y="128"/>
                </a:lnTo>
                <a:lnTo>
                  <a:pt x="491" y="124"/>
                </a:lnTo>
                <a:lnTo>
                  <a:pt x="496" y="119"/>
                </a:lnTo>
                <a:lnTo>
                  <a:pt x="500" y="115"/>
                </a:lnTo>
                <a:lnTo>
                  <a:pt x="504" y="115"/>
                </a:lnTo>
                <a:lnTo>
                  <a:pt x="510" y="110"/>
                </a:lnTo>
                <a:lnTo>
                  <a:pt x="514" y="105"/>
                </a:lnTo>
                <a:lnTo>
                  <a:pt x="519" y="101"/>
                </a:lnTo>
                <a:lnTo>
                  <a:pt x="523" y="97"/>
                </a:lnTo>
                <a:lnTo>
                  <a:pt x="527" y="97"/>
                </a:lnTo>
                <a:lnTo>
                  <a:pt x="532" y="92"/>
                </a:lnTo>
                <a:lnTo>
                  <a:pt x="537" y="88"/>
                </a:lnTo>
                <a:lnTo>
                  <a:pt x="541" y="82"/>
                </a:lnTo>
                <a:lnTo>
                  <a:pt x="546" y="82"/>
                </a:lnTo>
                <a:lnTo>
                  <a:pt x="550" y="78"/>
                </a:lnTo>
                <a:lnTo>
                  <a:pt x="554" y="74"/>
                </a:lnTo>
                <a:lnTo>
                  <a:pt x="560" y="69"/>
                </a:lnTo>
                <a:lnTo>
                  <a:pt x="564" y="69"/>
                </a:lnTo>
                <a:lnTo>
                  <a:pt x="569" y="65"/>
                </a:lnTo>
                <a:lnTo>
                  <a:pt x="573" y="59"/>
                </a:lnTo>
                <a:lnTo>
                  <a:pt x="577" y="55"/>
                </a:lnTo>
                <a:lnTo>
                  <a:pt x="582" y="51"/>
                </a:lnTo>
                <a:lnTo>
                  <a:pt x="587" y="51"/>
                </a:lnTo>
                <a:lnTo>
                  <a:pt x="591" y="46"/>
                </a:lnTo>
                <a:lnTo>
                  <a:pt x="596" y="42"/>
                </a:lnTo>
                <a:lnTo>
                  <a:pt x="600" y="37"/>
                </a:lnTo>
                <a:lnTo>
                  <a:pt x="605" y="32"/>
                </a:lnTo>
                <a:lnTo>
                  <a:pt x="610" y="28"/>
                </a:lnTo>
                <a:lnTo>
                  <a:pt x="614" y="28"/>
                </a:lnTo>
                <a:lnTo>
                  <a:pt x="619" y="23"/>
                </a:lnTo>
                <a:lnTo>
                  <a:pt x="623" y="19"/>
                </a:lnTo>
                <a:lnTo>
                  <a:pt x="627" y="14"/>
                </a:lnTo>
                <a:lnTo>
                  <a:pt x="632" y="14"/>
                </a:lnTo>
                <a:lnTo>
                  <a:pt x="637" y="9"/>
                </a:lnTo>
                <a:lnTo>
                  <a:pt x="641" y="5"/>
                </a:lnTo>
                <a:lnTo>
                  <a:pt x="646" y="0"/>
                </a:lnTo>
                <a:lnTo>
                  <a:pt x="650" y="0"/>
                </a:lnTo>
              </a:path>
            </a:pathLst>
          </a:custGeom>
          <a:noFill/>
          <a:ln cap="rnd"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79600" y="61992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quency, MHz</a:t>
            </a:r>
            <a:endParaRPr b="0" lang="en-US" sz="900" spc="-1" strike="noStrike">
              <a:solidFill>
                <a:srgbClr val="000000"/>
              </a:solidFill>
              <a:latin typeface="Times New Roman"/>
            </a:endParaRPr>
          </a:p>
        </p:txBody>
      </p:sp>
      <p:grpSp>
        <p:nvGrpSpPr>
          <p:cNvPr id="978" name=""/>
          <p:cNvGrpSpPr/>
          <p:nvPr/>
        </p:nvGrpSpPr>
        <p:grpSpPr>
          <a:xfrm>
            <a:off x="2155680" y="3637080"/>
            <a:ext cx="2851200" cy="2265120"/>
            <a:chOff x="2155680" y="3637080"/>
            <a:chExt cx="2851200" cy="2265120"/>
          </a:xfrm>
        </p:grpSpPr>
        <p:sp>
          <p:nvSpPr>
            <p:cNvPr id="979" name=""/>
            <p:cNvSpPr/>
            <p:nvPr/>
          </p:nvSpPr>
          <p:spPr>
            <a:xfrm>
              <a:off x="2155680" y="3637080"/>
              <a:ext cx="2851200" cy="226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155680" y="3637080"/>
              <a:ext cx="2851200" cy="2265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2152800" y="5905440"/>
            <a:ext cx="2857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2152800" y="3633840"/>
            <a:ext cx="2857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V="1">
            <a:off x="501012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215280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2152800" y="3633840"/>
            <a:ext cx="1440" cy="2271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V="1">
            <a:off x="2152800" y="58766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7" name=""/>
          <p:cNvSpPr/>
          <p:nvPr/>
        </p:nvSpPr>
        <p:spPr>
          <a:xfrm>
            <a:off x="2152800" y="36338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8" name=""/>
          <p:cNvSpPr/>
          <p:nvPr/>
        </p:nvSpPr>
        <p:spPr>
          <a:xfrm>
            <a:off x="2134440" y="5967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89" name=""/>
          <p:cNvSpPr/>
          <p:nvPr/>
        </p:nvSpPr>
        <p:spPr>
          <a:xfrm flipV="1">
            <a:off x="262728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0" name=""/>
          <p:cNvSpPr/>
          <p:nvPr/>
        </p:nvSpPr>
        <p:spPr>
          <a:xfrm>
            <a:off x="262728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1" name=""/>
          <p:cNvSpPr/>
          <p:nvPr/>
        </p:nvSpPr>
        <p:spPr>
          <a:xfrm>
            <a:off x="2610720" y="5967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2" name=""/>
          <p:cNvSpPr/>
          <p:nvPr/>
        </p:nvSpPr>
        <p:spPr>
          <a:xfrm flipV="1">
            <a:off x="310500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3" name=""/>
          <p:cNvSpPr/>
          <p:nvPr/>
        </p:nvSpPr>
        <p:spPr>
          <a:xfrm>
            <a:off x="310500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4" name=""/>
          <p:cNvSpPr/>
          <p:nvPr/>
        </p:nvSpPr>
        <p:spPr>
          <a:xfrm>
            <a:off x="306612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995" name=""/>
          <p:cNvSpPr/>
          <p:nvPr/>
        </p:nvSpPr>
        <p:spPr>
          <a:xfrm flipV="1">
            <a:off x="358128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6" name=""/>
          <p:cNvSpPr/>
          <p:nvPr/>
        </p:nvSpPr>
        <p:spPr>
          <a:xfrm>
            <a:off x="358128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354240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998" name=""/>
          <p:cNvSpPr/>
          <p:nvPr/>
        </p:nvSpPr>
        <p:spPr>
          <a:xfrm flipV="1">
            <a:off x="405756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9" name=""/>
          <p:cNvSpPr/>
          <p:nvPr/>
        </p:nvSpPr>
        <p:spPr>
          <a:xfrm>
            <a:off x="405756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0" name=""/>
          <p:cNvSpPr/>
          <p:nvPr/>
        </p:nvSpPr>
        <p:spPr>
          <a:xfrm>
            <a:off x="401868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1001" name=""/>
          <p:cNvSpPr/>
          <p:nvPr/>
        </p:nvSpPr>
        <p:spPr>
          <a:xfrm flipV="1">
            <a:off x="4533840" y="58766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2" name=""/>
          <p:cNvSpPr/>
          <p:nvPr/>
        </p:nvSpPr>
        <p:spPr>
          <a:xfrm>
            <a:off x="4533840" y="3633840"/>
            <a:ext cx="180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
          <p:cNvSpPr/>
          <p:nvPr/>
        </p:nvSpPr>
        <p:spPr>
          <a:xfrm>
            <a:off x="449352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1004" name=""/>
          <p:cNvSpPr/>
          <p:nvPr/>
        </p:nvSpPr>
        <p:spPr>
          <a:xfrm flipV="1">
            <a:off x="5010120" y="58766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5" name=""/>
          <p:cNvSpPr/>
          <p:nvPr/>
        </p:nvSpPr>
        <p:spPr>
          <a:xfrm>
            <a:off x="5010120" y="3633840"/>
            <a:ext cx="1440" cy="2844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6" name=""/>
          <p:cNvSpPr/>
          <p:nvPr/>
        </p:nvSpPr>
        <p:spPr>
          <a:xfrm>
            <a:off x="4971240" y="5967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1007" name=""/>
          <p:cNvSpPr/>
          <p:nvPr/>
        </p:nvSpPr>
        <p:spPr>
          <a:xfrm>
            <a:off x="2152800" y="590544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
          <p:cNvSpPr/>
          <p:nvPr/>
        </p:nvSpPr>
        <p:spPr>
          <a:xfrm flipH="1">
            <a:off x="4981320" y="590544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2028240" y="586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10" name=""/>
          <p:cNvSpPr/>
          <p:nvPr/>
        </p:nvSpPr>
        <p:spPr>
          <a:xfrm>
            <a:off x="2152800" y="56214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2028240" y="5581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12" name=""/>
          <p:cNvSpPr/>
          <p:nvPr/>
        </p:nvSpPr>
        <p:spPr>
          <a:xfrm>
            <a:off x="2152800" y="534024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flipH="1">
            <a:off x="4981320" y="534024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2028240" y="5297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5" name=""/>
          <p:cNvSpPr/>
          <p:nvPr/>
        </p:nvSpPr>
        <p:spPr>
          <a:xfrm>
            <a:off x="2152800" y="50562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flipH="1">
            <a:off x="4981320" y="505620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2028240" y="5014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018" name=""/>
          <p:cNvSpPr/>
          <p:nvPr/>
        </p:nvSpPr>
        <p:spPr>
          <a:xfrm>
            <a:off x="2152800" y="477360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flipH="1">
            <a:off x="4981320" y="477360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2028240" y="47307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021" name=""/>
          <p:cNvSpPr/>
          <p:nvPr/>
        </p:nvSpPr>
        <p:spPr>
          <a:xfrm>
            <a:off x="2152800" y="448308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flipH="1">
            <a:off x="4981320" y="448308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1985040" y="44416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1024" name=""/>
          <p:cNvSpPr/>
          <p:nvPr/>
        </p:nvSpPr>
        <p:spPr>
          <a:xfrm>
            <a:off x="2152800" y="4200480"/>
            <a:ext cx="27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flipH="1">
            <a:off x="4981320" y="4200480"/>
            <a:ext cx="28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1985040" y="41576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027" name=""/>
          <p:cNvSpPr/>
          <p:nvPr/>
        </p:nvSpPr>
        <p:spPr>
          <a:xfrm>
            <a:off x="2152800" y="391644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flipH="1">
            <a:off x="4981320" y="391644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1985040" y="387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1030" name=""/>
          <p:cNvSpPr/>
          <p:nvPr/>
        </p:nvSpPr>
        <p:spPr>
          <a:xfrm>
            <a:off x="2152800" y="3633840"/>
            <a:ext cx="270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flipH="1">
            <a:off x="4981320" y="3633840"/>
            <a:ext cx="28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
          <p:cNvSpPr/>
          <p:nvPr/>
        </p:nvSpPr>
        <p:spPr>
          <a:xfrm>
            <a:off x="1985040" y="35924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1033" name=""/>
          <p:cNvSpPr/>
          <p:nvPr/>
        </p:nvSpPr>
        <p:spPr>
          <a:xfrm>
            <a:off x="2152800" y="4454640"/>
            <a:ext cx="1825560" cy="1450800"/>
          </a:xfrm>
          <a:custGeom>
            <a:avLst/>
            <a:gdLst/>
            <a:ahLst/>
            <a:rect l="l" t="t" r="r" b="b"/>
            <a:pathLst>
              <a:path w="1150" h="914">
                <a:moveTo>
                  <a:pt x="0" y="914"/>
                </a:moveTo>
                <a:lnTo>
                  <a:pt x="4" y="909"/>
                </a:lnTo>
                <a:lnTo>
                  <a:pt x="9" y="905"/>
                </a:lnTo>
                <a:lnTo>
                  <a:pt x="13" y="901"/>
                </a:lnTo>
                <a:lnTo>
                  <a:pt x="17" y="901"/>
                </a:lnTo>
                <a:lnTo>
                  <a:pt x="23" y="896"/>
                </a:lnTo>
                <a:lnTo>
                  <a:pt x="27" y="892"/>
                </a:lnTo>
                <a:lnTo>
                  <a:pt x="31" y="886"/>
                </a:lnTo>
                <a:lnTo>
                  <a:pt x="36" y="886"/>
                </a:lnTo>
                <a:lnTo>
                  <a:pt x="40" y="882"/>
                </a:lnTo>
                <a:lnTo>
                  <a:pt x="46" y="878"/>
                </a:lnTo>
                <a:lnTo>
                  <a:pt x="50" y="873"/>
                </a:lnTo>
                <a:lnTo>
                  <a:pt x="54" y="873"/>
                </a:lnTo>
                <a:lnTo>
                  <a:pt x="59" y="869"/>
                </a:lnTo>
                <a:lnTo>
                  <a:pt x="63" y="864"/>
                </a:lnTo>
                <a:lnTo>
                  <a:pt x="67" y="859"/>
                </a:lnTo>
                <a:lnTo>
                  <a:pt x="73" y="855"/>
                </a:lnTo>
                <a:lnTo>
                  <a:pt x="77" y="850"/>
                </a:lnTo>
                <a:lnTo>
                  <a:pt x="81" y="850"/>
                </a:lnTo>
                <a:lnTo>
                  <a:pt x="86" y="846"/>
                </a:lnTo>
                <a:lnTo>
                  <a:pt x="90" y="841"/>
                </a:lnTo>
                <a:lnTo>
                  <a:pt x="95" y="836"/>
                </a:lnTo>
                <a:lnTo>
                  <a:pt x="100" y="832"/>
                </a:lnTo>
                <a:lnTo>
                  <a:pt x="104" y="832"/>
                </a:lnTo>
                <a:lnTo>
                  <a:pt x="109" y="827"/>
                </a:lnTo>
                <a:lnTo>
                  <a:pt x="113" y="823"/>
                </a:lnTo>
                <a:lnTo>
                  <a:pt x="118" y="818"/>
                </a:lnTo>
                <a:lnTo>
                  <a:pt x="123" y="818"/>
                </a:lnTo>
                <a:lnTo>
                  <a:pt x="127" y="813"/>
                </a:lnTo>
                <a:lnTo>
                  <a:pt x="132" y="809"/>
                </a:lnTo>
                <a:lnTo>
                  <a:pt x="136" y="804"/>
                </a:lnTo>
                <a:lnTo>
                  <a:pt x="140" y="804"/>
                </a:lnTo>
                <a:lnTo>
                  <a:pt x="145" y="800"/>
                </a:lnTo>
                <a:lnTo>
                  <a:pt x="150" y="795"/>
                </a:lnTo>
                <a:lnTo>
                  <a:pt x="154" y="791"/>
                </a:lnTo>
                <a:lnTo>
                  <a:pt x="159" y="786"/>
                </a:lnTo>
                <a:lnTo>
                  <a:pt x="163" y="786"/>
                </a:lnTo>
                <a:lnTo>
                  <a:pt x="168" y="781"/>
                </a:lnTo>
                <a:lnTo>
                  <a:pt x="172" y="777"/>
                </a:lnTo>
                <a:lnTo>
                  <a:pt x="177" y="772"/>
                </a:lnTo>
                <a:lnTo>
                  <a:pt x="182" y="768"/>
                </a:lnTo>
                <a:lnTo>
                  <a:pt x="186" y="764"/>
                </a:lnTo>
                <a:lnTo>
                  <a:pt x="190" y="764"/>
                </a:lnTo>
                <a:lnTo>
                  <a:pt x="195" y="758"/>
                </a:lnTo>
                <a:lnTo>
                  <a:pt x="200" y="754"/>
                </a:lnTo>
                <a:lnTo>
                  <a:pt x="204" y="750"/>
                </a:lnTo>
                <a:lnTo>
                  <a:pt x="209" y="750"/>
                </a:lnTo>
                <a:lnTo>
                  <a:pt x="213" y="745"/>
                </a:lnTo>
                <a:lnTo>
                  <a:pt x="218" y="741"/>
                </a:lnTo>
                <a:lnTo>
                  <a:pt x="222" y="735"/>
                </a:lnTo>
                <a:lnTo>
                  <a:pt x="227" y="735"/>
                </a:lnTo>
                <a:lnTo>
                  <a:pt x="232" y="731"/>
                </a:lnTo>
                <a:lnTo>
                  <a:pt x="236" y="727"/>
                </a:lnTo>
                <a:lnTo>
                  <a:pt x="241" y="722"/>
                </a:lnTo>
                <a:lnTo>
                  <a:pt x="245" y="718"/>
                </a:lnTo>
                <a:lnTo>
                  <a:pt x="250" y="718"/>
                </a:lnTo>
                <a:lnTo>
                  <a:pt x="255" y="713"/>
                </a:lnTo>
                <a:lnTo>
                  <a:pt x="259" y="708"/>
                </a:lnTo>
                <a:lnTo>
                  <a:pt x="263" y="704"/>
                </a:lnTo>
                <a:lnTo>
                  <a:pt x="268" y="704"/>
                </a:lnTo>
                <a:lnTo>
                  <a:pt x="272" y="699"/>
                </a:lnTo>
                <a:lnTo>
                  <a:pt x="277" y="695"/>
                </a:lnTo>
                <a:lnTo>
                  <a:pt x="282" y="690"/>
                </a:lnTo>
                <a:lnTo>
                  <a:pt x="286" y="686"/>
                </a:lnTo>
                <a:lnTo>
                  <a:pt x="291" y="681"/>
                </a:lnTo>
                <a:lnTo>
                  <a:pt x="295" y="681"/>
                </a:lnTo>
                <a:lnTo>
                  <a:pt x="299" y="676"/>
                </a:lnTo>
                <a:lnTo>
                  <a:pt x="305" y="672"/>
                </a:lnTo>
                <a:lnTo>
                  <a:pt x="309" y="667"/>
                </a:lnTo>
                <a:lnTo>
                  <a:pt x="313" y="667"/>
                </a:lnTo>
                <a:lnTo>
                  <a:pt x="318" y="663"/>
                </a:lnTo>
                <a:lnTo>
                  <a:pt x="322" y="658"/>
                </a:lnTo>
                <a:lnTo>
                  <a:pt x="327" y="653"/>
                </a:lnTo>
                <a:lnTo>
                  <a:pt x="332" y="649"/>
                </a:lnTo>
                <a:lnTo>
                  <a:pt x="336" y="649"/>
                </a:lnTo>
                <a:lnTo>
                  <a:pt x="341" y="644"/>
                </a:lnTo>
                <a:lnTo>
                  <a:pt x="345" y="640"/>
                </a:lnTo>
                <a:lnTo>
                  <a:pt x="349" y="636"/>
                </a:lnTo>
                <a:lnTo>
                  <a:pt x="355" y="636"/>
                </a:lnTo>
                <a:lnTo>
                  <a:pt x="359" y="630"/>
                </a:lnTo>
                <a:lnTo>
                  <a:pt x="363" y="626"/>
                </a:lnTo>
                <a:lnTo>
                  <a:pt x="368" y="621"/>
                </a:lnTo>
                <a:lnTo>
                  <a:pt x="372" y="617"/>
                </a:lnTo>
                <a:lnTo>
                  <a:pt x="377" y="613"/>
                </a:lnTo>
                <a:lnTo>
                  <a:pt x="382" y="613"/>
                </a:lnTo>
                <a:lnTo>
                  <a:pt x="386" y="608"/>
                </a:lnTo>
                <a:lnTo>
                  <a:pt x="391" y="603"/>
                </a:lnTo>
                <a:lnTo>
                  <a:pt x="395" y="599"/>
                </a:lnTo>
                <a:lnTo>
                  <a:pt x="399" y="594"/>
                </a:lnTo>
                <a:lnTo>
                  <a:pt x="405" y="594"/>
                </a:lnTo>
                <a:lnTo>
                  <a:pt x="409" y="590"/>
                </a:lnTo>
                <a:lnTo>
                  <a:pt x="413" y="585"/>
                </a:lnTo>
                <a:lnTo>
                  <a:pt x="418" y="580"/>
                </a:lnTo>
                <a:lnTo>
                  <a:pt x="422" y="580"/>
                </a:lnTo>
                <a:lnTo>
                  <a:pt x="427" y="576"/>
                </a:lnTo>
                <a:lnTo>
                  <a:pt x="432" y="571"/>
                </a:lnTo>
                <a:lnTo>
                  <a:pt x="436" y="567"/>
                </a:lnTo>
                <a:lnTo>
                  <a:pt x="441" y="567"/>
                </a:lnTo>
                <a:lnTo>
                  <a:pt x="445" y="562"/>
                </a:lnTo>
                <a:lnTo>
                  <a:pt x="450" y="558"/>
                </a:lnTo>
                <a:lnTo>
                  <a:pt x="455" y="553"/>
                </a:lnTo>
                <a:lnTo>
                  <a:pt x="459" y="548"/>
                </a:lnTo>
                <a:lnTo>
                  <a:pt x="464" y="544"/>
                </a:lnTo>
                <a:lnTo>
                  <a:pt x="468" y="544"/>
                </a:lnTo>
                <a:lnTo>
                  <a:pt x="472" y="539"/>
                </a:lnTo>
                <a:lnTo>
                  <a:pt x="477" y="535"/>
                </a:lnTo>
                <a:lnTo>
                  <a:pt x="482" y="530"/>
                </a:lnTo>
                <a:lnTo>
                  <a:pt x="486" y="525"/>
                </a:lnTo>
                <a:lnTo>
                  <a:pt x="491" y="525"/>
                </a:lnTo>
                <a:lnTo>
                  <a:pt x="495" y="521"/>
                </a:lnTo>
                <a:lnTo>
                  <a:pt x="500" y="516"/>
                </a:lnTo>
                <a:lnTo>
                  <a:pt x="504" y="512"/>
                </a:lnTo>
                <a:lnTo>
                  <a:pt x="509" y="512"/>
                </a:lnTo>
                <a:lnTo>
                  <a:pt x="514" y="507"/>
                </a:lnTo>
                <a:lnTo>
                  <a:pt x="518" y="502"/>
                </a:lnTo>
                <a:lnTo>
                  <a:pt x="522" y="498"/>
                </a:lnTo>
                <a:lnTo>
                  <a:pt x="527" y="498"/>
                </a:lnTo>
                <a:lnTo>
                  <a:pt x="532" y="493"/>
                </a:lnTo>
                <a:lnTo>
                  <a:pt x="536" y="489"/>
                </a:lnTo>
                <a:lnTo>
                  <a:pt x="541" y="485"/>
                </a:lnTo>
                <a:lnTo>
                  <a:pt x="545" y="480"/>
                </a:lnTo>
                <a:lnTo>
                  <a:pt x="550" y="475"/>
                </a:lnTo>
                <a:lnTo>
                  <a:pt x="554" y="475"/>
                </a:lnTo>
                <a:lnTo>
                  <a:pt x="559" y="470"/>
                </a:lnTo>
                <a:lnTo>
                  <a:pt x="564" y="466"/>
                </a:lnTo>
                <a:lnTo>
                  <a:pt x="568" y="462"/>
                </a:lnTo>
                <a:lnTo>
                  <a:pt x="572" y="457"/>
                </a:lnTo>
                <a:lnTo>
                  <a:pt x="577" y="457"/>
                </a:lnTo>
                <a:lnTo>
                  <a:pt x="581" y="453"/>
                </a:lnTo>
                <a:lnTo>
                  <a:pt x="587" y="447"/>
                </a:lnTo>
                <a:lnTo>
                  <a:pt x="591" y="443"/>
                </a:lnTo>
                <a:lnTo>
                  <a:pt x="595" y="443"/>
                </a:lnTo>
                <a:lnTo>
                  <a:pt x="600" y="439"/>
                </a:lnTo>
                <a:lnTo>
                  <a:pt x="604" y="434"/>
                </a:lnTo>
                <a:lnTo>
                  <a:pt x="609" y="430"/>
                </a:lnTo>
                <a:lnTo>
                  <a:pt x="614" y="430"/>
                </a:lnTo>
                <a:lnTo>
                  <a:pt x="618" y="424"/>
                </a:lnTo>
                <a:lnTo>
                  <a:pt x="623" y="420"/>
                </a:lnTo>
                <a:lnTo>
                  <a:pt x="627" y="416"/>
                </a:lnTo>
                <a:lnTo>
                  <a:pt x="631" y="411"/>
                </a:lnTo>
                <a:lnTo>
                  <a:pt x="637" y="407"/>
                </a:lnTo>
                <a:lnTo>
                  <a:pt x="641" y="407"/>
                </a:lnTo>
                <a:lnTo>
                  <a:pt x="645" y="402"/>
                </a:lnTo>
                <a:lnTo>
                  <a:pt x="650" y="397"/>
                </a:lnTo>
                <a:lnTo>
                  <a:pt x="654" y="393"/>
                </a:lnTo>
                <a:lnTo>
                  <a:pt x="659" y="388"/>
                </a:lnTo>
                <a:lnTo>
                  <a:pt x="664" y="388"/>
                </a:lnTo>
                <a:lnTo>
                  <a:pt x="668" y="384"/>
                </a:lnTo>
                <a:lnTo>
                  <a:pt x="673" y="379"/>
                </a:lnTo>
                <a:lnTo>
                  <a:pt x="677" y="374"/>
                </a:lnTo>
                <a:lnTo>
                  <a:pt x="681" y="374"/>
                </a:lnTo>
                <a:lnTo>
                  <a:pt x="687" y="370"/>
                </a:lnTo>
                <a:lnTo>
                  <a:pt x="691" y="365"/>
                </a:lnTo>
                <a:lnTo>
                  <a:pt x="695" y="361"/>
                </a:lnTo>
                <a:lnTo>
                  <a:pt x="700" y="361"/>
                </a:lnTo>
                <a:lnTo>
                  <a:pt x="704" y="356"/>
                </a:lnTo>
                <a:lnTo>
                  <a:pt x="709" y="352"/>
                </a:lnTo>
                <a:lnTo>
                  <a:pt x="714" y="347"/>
                </a:lnTo>
                <a:lnTo>
                  <a:pt x="718" y="342"/>
                </a:lnTo>
                <a:lnTo>
                  <a:pt x="723" y="342"/>
                </a:lnTo>
                <a:lnTo>
                  <a:pt x="727" y="338"/>
                </a:lnTo>
                <a:lnTo>
                  <a:pt x="731" y="334"/>
                </a:lnTo>
                <a:lnTo>
                  <a:pt x="737" y="329"/>
                </a:lnTo>
                <a:lnTo>
                  <a:pt x="741" y="325"/>
                </a:lnTo>
                <a:lnTo>
                  <a:pt x="745" y="319"/>
                </a:lnTo>
                <a:lnTo>
                  <a:pt x="750" y="319"/>
                </a:lnTo>
                <a:lnTo>
                  <a:pt x="754" y="315"/>
                </a:lnTo>
                <a:lnTo>
                  <a:pt x="759" y="311"/>
                </a:lnTo>
                <a:lnTo>
                  <a:pt x="764" y="306"/>
                </a:lnTo>
                <a:lnTo>
                  <a:pt x="768" y="306"/>
                </a:lnTo>
                <a:lnTo>
                  <a:pt x="773" y="302"/>
                </a:lnTo>
                <a:lnTo>
                  <a:pt x="777" y="296"/>
                </a:lnTo>
                <a:lnTo>
                  <a:pt x="781" y="292"/>
                </a:lnTo>
                <a:lnTo>
                  <a:pt x="786" y="288"/>
                </a:lnTo>
                <a:lnTo>
                  <a:pt x="791" y="288"/>
                </a:lnTo>
                <a:lnTo>
                  <a:pt x="795" y="283"/>
                </a:lnTo>
                <a:lnTo>
                  <a:pt x="800" y="279"/>
                </a:lnTo>
                <a:lnTo>
                  <a:pt x="804" y="274"/>
                </a:lnTo>
                <a:lnTo>
                  <a:pt x="809" y="274"/>
                </a:lnTo>
                <a:lnTo>
                  <a:pt x="814" y="269"/>
                </a:lnTo>
                <a:lnTo>
                  <a:pt x="818" y="265"/>
                </a:lnTo>
                <a:lnTo>
                  <a:pt x="823" y="260"/>
                </a:lnTo>
                <a:lnTo>
                  <a:pt x="827" y="260"/>
                </a:lnTo>
                <a:lnTo>
                  <a:pt x="832" y="256"/>
                </a:lnTo>
                <a:lnTo>
                  <a:pt x="836" y="251"/>
                </a:lnTo>
                <a:lnTo>
                  <a:pt x="841" y="247"/>
                </a:lnTo>
                <a:lnTo>
                  <a:pt x="846" y="242"/>
                </a:lnTo>
                <a:lnTo>
                  <a:pt x="850" y="237"/>
                </a:lnTo>
                <a:lnTo>
                  <a:pt x="854" y="237"/>
                </a:lnTo>
                <a:lnTo>
                  <a:pt x="859" y="233"/>
                </a:lnTo>
                <a:lnTo>
                  <a:pt x="864" y="228"/>
                </a:lnTo>
                <a:lnTo>
                  <a:pt x="868" y="224"/>
                </a:lnTo>
                <a:lnTo>
                  <a:pt x="873" y="219"/>
                </a:lnTo>
                <a:lnTo>
                  <a:pt x="877" y="219"/>
                </a:lnTo>
                <a:lnTo>
                  <a:pt x="882" y="214"/>
                </a:lnTo>
                <a:lnTo>
                  <a:pt x="886" y="210"/>
                </a:lnTo>
                <a:lnTo>
                  <a:pt x="891" y="205"/>
                </a:lnTo>
                <a:lnTo>
                  <a:pt x="896" y="205"/>
                </a:lnTo>
                <a:lnTo>
                  <a:pt x="900" y="201"/>
                </a:lnTo>
                <a:lnTo>
                  <a:pt x="904" y="197"/>
                </a:lnTo>
                <a:lnTo>
                  <a:pt x="909" y="191"/>
                </a:lnTo>
                <a:lnTo>
                  <a:pt x="913" y="191"/>
                </a:lnTo>
                <a:lnTo>
                  <a:pt x="918" y="187"/>
                </a:lnTo>
                <a:lnTo>
                  <a:pt x="923" y="182"/>
                </a:lnTo>
                <a:lnTo>
                  <a:pt x="927" y="178"/>
                </a:lnTo>
                <a:lnTo>
                  <a:pt x="932" y="174"/>
                </a:lnTo>
                <a:lnTo>
                  <a:pt x="936" y="169"/>
                </a:lnTo>
                <a:lnTo>
                  <a:pt x="941" y="169"/>
                </a:lnTo>
                <a:lnTo>
                  <a:pt x="946" y="164"/>
                </a:lnTo>
                <a:lnTo>
                  <a:pt x="950" y="159"/>
                </a:lnTo>
                <a:lnTo>
                  <a:pt x="955" y="155"/>
                </a:lnTo>
                <a:lnTo>
                  <a:pt x="959" y="151"/>
                </a:lnTo>
                <a:lnTo>
                  <a:pt x="963" y="151"/>
                </a:lnTo>
                <a:lnTo>
                  <a:pt x="969" y="146"/>
                </a:lnTo>
                <a:lnTo>
                  <a:pt x="973" y="141"/>
                </a:lnTo>
                <a:lnTo>
                  <a:pt x="977" y="136"/>
                </a:lnTo>
                <a:lnTo>
                  <a:pt x="982" y="136"/>
                </a:lnTo>
                <a:lnTo>
                  <a:pt x="986" y="132"/>
                </a:lnTo>
                <a:lnTo>
                  <a:pt x="990" y="128"/>
                </a:lnTo>
                <a:lnTo>
                  <a:pt x="996" y="123"/>
                </a:lnTo>
                <a:lnTo>
                  <a:pt x="1000" y="123"/>
                </a:lnTo>
                <a:lnTo>
                  <a:pt x="1005" y="119"/>
                </a:lnTo>
                <a:lnTo>
                  <a:pt x="1009" y="114"/>
                </a:lnTo>
                <a:lnTo>
                  <a:pt x="1013" y="109"/>
                </a:lnTo>
                <a:lnTo>
                  <a:pt x="1019" y="105"/>
                </a:lnTo>
                <a:lnTo>
                  <a:pt x="1023" y="100"/>
                </a:lnTo>
                <a:lnTo>
                  <a:pt x="1027" y="100"/>
                </a:lnTo>
                <a:lnTo>
                  <a:pt x="1032" y="96"/>
                </a:lnTo>
                <a:lnTo>
                  <a:pt x="1036" y="91"/>
                </a:lnTo>
                <a:lnTo>
                  <a:pt x="1041" y="86"/>
                </a:lnTo>
                <a:lnTo>
                  <a:pt x="1046" y="82"/>
                </a:lnTo>
                <a:lnTo>
                  <a:pt x="1050" y="82"/>
                </a:lnTo>
                <a:lnTo>
                  <a:pt x="1055" y="77"/>
                </a:lnTo>
                <a:lnTo>
                  <a:pt x="1059" y="73"/>
                </a:lnTo>
                <a:lnTo>
                  <a:pt x="1063" y="69"/>
                </a:lnTo>
                <a:lnTo>
                  <a:pt x="1068" y="69"/>
                </a:lnTo>
                <a:lnTo>
                  <a:pt x="1073" y="63"/>
                </a:lnTo>
                <a:lnTo>
                  <a:pt x="1077" y="59"/>
                </a:lnTo>
                <a:lnTo>
                  <a:pt x="1082" y="54"/>
                </a:lnTo>
                <a:lnTo>
                  <a:pt x="1086" y="54"/>
                </a:lnTo>
                <a:lnTo>
                  <a:pt x="1091" y="50"/>
                </a:lnTo>
                <a:lnTo>
                  <a:pt x="1096" y="46"/>
                </a:lnTo>
                <a:lnTo>
                  <a:pt x="1100" y="41"/>
                </a:lnTo>
                <a:lnTo>
                  <a:pt x="1105" y="36"/>
                </a:lnTo>
                <a:lnTo>
                  <a:pt x="1109" y="31"/>
                </a:lnTo>
                <a:lnTo>
                  <a:pt x="1113" y="27"/>
                </a:lnTo>
                <a:lnTo>
                  <a:pt x="1118" y="27"/>
                </a:lnTo>
                <a:lnTo>
                  <a:pt x="1123" y="23"/>
                </a:lnTo>
                <a:lnTo>
                  <a:pt x="1127" y="18"/>
                </a:lnTo>
                <a:lnTo>
                  <a:pt x="1132" y="14"/>
                </a:lnTo>
                <a:lnTo>
                  <a:pt x="1136" y="14"/>
                </a:lnTo>
                <a:lnTo>
                  <a:pt x="1141" y="8"/>
                </a:lnTo>
                <a:lnTo>
                  <a:pt x="1146" y="4"/>
                </a:lnTo>
                <a:lnTo>
                  <a:pt x="1150" y="0"/>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978360" y="3639960"/>
            <a:ext cx="1031760" cy="814680"/>
          </a:xfrm>
          <a:custGeom>
            <a:avLst/>
            <a:gdLst/>
            <a:ahLst/>
            <a:rect l="l" t="t" r="r" b="b"/>
            <a:pathLst>
              <a:path w="650" h="513">
                <a:moveTo>
                  <a:pt x="0" y="513"/>
                </a:moveTo>
                <a:lnTo>
                  <a:pt x="5" y="513"/>
                </a:lnTo>
                <a:lnTo>
                  <a:pt x="9" y="508"/>
                </a:lnTo>
                <a:lnTo>
                  <a:pt x="14" y="504"/>
                </a:lnTo>
                <a:lnTo>
                  <a:pt x="18" y="498"/>
                </a:lnTo>
                <a:lnTo>
                  <a:pt x="23" y="494"/>
                </a:lnTo>
                <a:lnTo>
                  <a:pt x="28" y="494"/>
                </a:lnTo>
                <a:lnTo>
                  <a:pt x="32" y="490"/>
                </a:lnTo>
                <a:lnTo>
                  <a:pt x="36" y="485"/>
                </a:lnTo>
                <a:lnTo>
                  <a:pt x="41" y="481"/>
                </a:lnTo>
                <a:lnTo>
                  <a:pt x="45" y="476"/>
                </a:lnTo>
                <a:lnTo>
                  <a:pt x="50" y="471"/>
                </a:lnTo>
                <a:lnTo>
                  <a:pt x="55" y="471"/>
                </a:lnTo>
                <a:lnTo>
                  <a:pt x="59" y="467"/>
                </a:lnTo>
                <a:lnTo>
                  <a:pt x="64" y="462"/>
                </a:lnTo>
                <a:lnTo>
                  <a:pt x="68" y="458"/>
                </a:lnTo>
                <a:lnTo>
                  <a:pt x="73" y="458"/>
                </a:lnTo>
                <a:lnTo>
                  <a:pt x="78" y="453"/>
                </a:lnTo>
                <a:lnTo>
                  <a:pt x="82" y="448"/>
                </a:lnTo>
                <a:lnTo>
                  <a:pt x="86" y="444"/>
                </a:lnTo>
                <a:lnTo>
                  <a:pt x="91" y="444"/>
                </a:lnTo>
                <a:lnTo>
                  <a:pt x="95" y="439"/>
                </a:lnTo>
                <a:lnTo>
                  <a:pt x="100" y="435"/>
                </a:lnTo>
                <a:lnTo>
                  <a:pt x="105" y="430"/>
                </a:lnTo>
                <a:lnTo>
                  <a:pt x="109" y="426"/>
                </a:lnTo>
                <a:lnTo>
                  <a:pt x="114" y="426"/>
                </a:lnTo>
                <a:lnTo>
                  <a:pt x="118" y="421"/>
                </a:lnTo>
                <a:lnTo>
                  <a:pt x="122" y="416"/>
                </a:lnTo>
                <a:lnTo>
                  <a:pt x="128" y="412"/>
                </a:lnTo>
                <a:lnTo>
                  <a:pt x="132" y="412"/>
                </a:lnTo>
                <a:lnTo>
                  <a:pt x="136" y="407"/>
                </a:lnTo>
                <a:lnTo>
                  <a:pt x="141" y="403"/>
                </a:lnTo>
                <a:lnTo>
                  <a:pt x="145" y="399"/>
                </a:lnTo>
                <a:lnTo>
                  <a:pt x="151" y="393"/>
                </a:lnTo>
                <a:lnTo>
                  <a:pt x="155" y="389"/>
                </a:lnTo>
                <a:lnTo>
                  <a:pt x="159" y="389"/>
                </a:lnTo>
                <a:lnTo>
                  <a:pt x="164" y="384"/>
                </a:lnTo>
                <a:lnTo>
                  <a:pt x="168" y="380"/>
                </a:lnTo>
                <a:lnTo>
                  <a:pt x="172" y="376"/>
                </a:lnTo>
                <a:lnTo>
                  <a:pt x="178" y="376"/>
                </a:lnTo>
                <a:lnTo>
                  <a:pt x="182" y="370"/>
                </a:lnTo>
                <a:lnTo>
                  <a:pt x="187" y="366"/>
                </a:lnTo>
                <a:lnTo>
                  <a:pt x="191" y="362"/>
                </a:lnTo>
                <a:lnTo>
                  <a:pt x="195" y="357"/>
                </a:lnTo>
                <a:lnTo>
                  <a:pt x="201" y="357"/>
                </a:lnTo>
                <a:lnTo>
                  <a:pt x="205" y="353"/>
                </a:lnTo>
                <a:lnTo>
                  <a:pt x="209" y="348"/>
                </a:lnTo>
                <a:lnTo>
                  <a:pt x="214" y="343"/>
                </a:lnTo>
                <a:lnTo>
                  <a:pt x="218" y="343"/>
                </a:lnTo>
                <a:lnTo>
                  <a:pt x="222" y="339"/>
                </a:lnTo>
                <a:lnTo>
                  <a:pt x="228" y="334"/>
                </a:lnTo>
                <a:lnTo>
                  <a:pt x="232" y="330"/>
                </a:lnTo>
                <a:lnTo>
                  <a:pt x="237" y="330"/>
                </a:lnTo>
                <a:lnTo>
                  <a:pt x="241" y="325"/>
                </a:lnTo>
                <a:lnTo>
                  <a:pt x="245" y="321"/>
                </a:lnTo>
                <a:lnTo>
                  <a:pt x="250" y="316"/>
                </a:lnTo>
                <a:lnTo>
                  <a:pt x="255" y="311"/>
                </a:lnTo>
                <a:lnTo>
                  <a:pt x="259" y="307"/>
                </a:lnTo>
                <a:lnTo>
                  <a:pt x="264" y="307"/>
                </a:lnTo>
                <a:lnTo>
                  <a:pt x="268" y="302"/>
                </a:lnTo>
                <a:lnTo>
                  <a:pt x="273" y="298"/>
                </a:lnTo>
                <a:lnTo>
                  <a:pt x="278" y="293"/>
                </a:lnTo>
                <a:lnTo>
                  <a:pt x="282" y="288"/>
                </a:lnTo>
                <a:lnTo>
                  <a:pt x="287" y="288"/>
                </a:lnTo>
                <a:lnTo>
                  <a:pt x="291" y="284"/>
                </a:lnTo>
                <a:lnTo>
                  <a:pt x="295" y="279"/>
                </a:lnTo>
                <a:lnTo>
                  <a:pt x="300" y="275"/>
                </a:lnTo>
                <a:lnTo>
                  <a:pt x="305" y="275"/>
                </a:lnTo>
                <a:lnTo>
                  <a:pt x="309" y="271"/>
                </a:lnTo>
                <a:lnTo>
                  <a:pt x="314" y="265"/>
                </a:lnTo>
                <a:lnTo>
                  <a:pt x="318" y="261"/>
                </a:lnTo>
                <a:lnTo>
                  <a:pt x="323" y="256"/>
                </a:lnTo>
                <a:lnTo>
                  <a:pt x="327" y="252"/>
                </a:lnTo>
                <a:lnTo>
                  <a:pt x="332" y="252"/>
                </a:lnTo>
                <a:lnTo>
                  <a:pt x="337" y="248"/>
                </a:lnTo>
                <a:lnTo>
                  <a:pt x="341" y="243"/>
                </a:lnTo>
                <a:lnTo>
                  <a:pt x="345" y="238"/>
                </a:lnTo>
                <a:lnTo>
                  <a:pt x="350" y="233"/>
                </a:lnTo>
                <a:lnTo>
                  <a:pt x="355" y="233"/>
                </a:lnTo>
                <a:lnTo>
                  <a:pt x="359" y="229"/>
                </a:lnTo>
                <a:lnTo>
                  <a:pt x="364" y="225"/>
                </a:lnTo>
                <a:lnTo>
                  <a:pt x="368" y="220"/>
                </a:lnTo>
                <a:lnTo>
                  <a:pt x="373" y="220"/>
                </a:lnTo>
                <a:lnTo>
                  <a:pt x="377" y="215"/>
                </a:lnTo>
                <a:lnTo>
                  <a:pt x="382" y="211"/>
                </a:lnTo>
                <a:lnTo>
                  <a:pt x="387" y="206"/>
                </a:lnTo>
                <a:lnTo>
                  <a:pt x="391" y="206"/>
                </a:lnTo>
                <a:lnTo>
                  <a:pt x="396" y="202"/>
                </a:lnTo>
                <a:lnTo>
                  <a:pt x="400" y="197"/>
                </a:lnTo>
                <a:lnTo>
                  <a:pt x="405" y="193"/>
                </a:lnTo>
                <a:lnTo>
                  <a:pt x="410" y="188"/>
                </a:lnTo>
                <a:lnTo>
                  <a:pt x="414" y="183"/>
                </a:lnTo>
                <a:lnTo>
                  <a:pt x="418" y="183"/>
                </a:lnTo>
                <a:lnTo>
                  <a:pt x="423" y="179"/>
                </a:lnTo>
                <a:lnTo>
                  <a:pt x="427" y="174"/>
                </a:lnTo>
                <a:lnTo>
                  <a:pt x="432" y="170"/>
                </a:lnTo>
                <a:lnTo>
                  <a:pt x="437" y="165"/>
                </a:lnTo>
                <a:lnTo>
                  <a:pt x="441" y="165"/>
                </a:lnTo>
                <a:lnTo>
                  <a:pt x="446" y="160"/>
                </a:lnTo>
                <a:lnTo>
                  <a:pt x="450" y="156"/>
                </a:lnTo>
                <a:lnTo>
                  <a:pt x="454" y="151"/>
                </a:lnTo>
                <a:lnTo>
                  <a:pt x="460" y="151"/>
                </a:lnTo>
                <a:lnTo>
                  <a:pt x="464" y="147"/>
                </a:lnTo>
                <a:lnTo>
                  <a:pt x="468" y="142"/>
                </a:lnTo>
                <a:lnTo>
                  <a:pt x="473" y="137"/>
                </a:lnTo>
                <a:lnTo>
                  <a:pt x="477" y="137"/>
                </a:lnTo>
                <a:lnTo>
                  <a:pt x="482" y="133"/>
                </a:lnTo>
                <a:lnTo>
                  <a:pt x="487" y="128"/>
                </a:lnTo>
                <a:lnTo>
                  <a:pt x="491" y="124"/>
                </a:lnTo>
                <a:lnTo>
                  <a:pt x="496" y="119"/>
                </a:lnTo>
                <a:lnTo>
                  <a:pt x="500" y="115"/>
                </a:lnTo>
                <a:lnTo>
                  <a:pt x="504" y="115"/>
                </a:lnTo>
                <a:lnTo>
                  <a:pt x="510" y="110"/>
                </a:lnTo>
                <a:lnTo>
                  <a:pt x="514" y="105"/>
                </a:lnTo>
                <a:lnTo>
                  <a:pt x="519" y="101"/>
                </a:lnTo>
                <a:lnTo>
                  <a:pt x="523" y="97"/>
                </a:lnTo>
                <a:lnTo>
                  <a:pt x="527" y="97"/>
                </a:lnTo>
                <a:lnTo>
                  <a:pt x="532" y="92"/>
                </a:lnTo>
                <a:lnTo>
                  <a:pt x="537" y="88"/>
                </a:lnTo>
                <a:lnTo>
                  <a:pt x="541" y="82"/>
                </a:lnTo>
                <a:lnTo>
                  <a:pt x="546" y="82"/>
                </a:lnTo>
                <a:lnTo>
                  <a:pt x="550" y="78"/>
                </a:lnTo>
                <a:lnTo>
                  <a:pt x="554" y="74"/>
                </a:lnTo>
                <a:lnTo>
                  <a:pt x="560" y="69"/>
                </a:lnTo>
                <a:lnTo>
                  <a:pt x="564" y="69"/>
                </a:lnTo>
                <a:lnTo>
                  <a:pt x="569" y="65"/>
                </a:lnTo>
                <a:lnTo>
                  <a:pt x="573" y="59"/>
                </a:lnTo>
                <a:lnTo>
                  <a:pt x="577" y="55"/>
                </a:lnTo>
                <a:lnTo>
                  <a:pt x="582" y="51"/>
                </a:lnTo>
                <a:lnTo>
                  <a:pt x="587" y="51"/>
                </a:lnTo>
                <a:lnTo>
                  <a:pt x="591" y="46"/>
                </a:lnTo>
                <a:lnTo>
                  <a:pt x="596" y="42"/>
                </a:lnTo>
                <a:lnTo>
                  <a:pt x="600" y="37"/>
                </a:lnTo>
                <a:lnTo>
                  <a:pt x="605" y="32"/>
                </a:lnTo>
                <a:lnTo>
                  <a:pt x="610" y="28"/>
                </a:lnTo>
                <a:lnTo>
                  <a:pt x="614" y="28"/>
                </a:lnTo>
                <a:lnTo>
                  <a:pt x="619" y="23"/>
                </a:lnTo>
                <a:lnTo>
                  <a:pt x="623" y="19"/>
                </a:lnTo>
                <a:lnTo>
                  <a:pt x="627" y="14"/>
                </a:lnTo>
                <a:lnTo>
                  <a:pt x="632" y="14"/>
                </a:lnTo>
                <a:lnTo>
                  <a:pt x="637" y="9"/>
                </a:lnTo>
                <a:lnTo>
                  <a:pt x="641" y="5"/>
                </a:lnTo>
                <a:lnTo>
                  <a:pt x="646" y="0"/>
                </a:lnTo>
                <a:lnTo>
                  <a:pt x="650" y="0"/>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279600" y="61992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quency, MHz</a:t>
            </a:r>
            <a:endParaRPr b="0" lang="en-US" sz="900" spc="-1" strike="noStrike">
              <a:solidFill>
                <a:srgbClr val="000000"/>
              </a:solidFill>
              <a:latin typeface="Times New Roman"/>
            </a:endParaRPr>
          </a:p>
        </p:txBody>
      </p:sp>
      <p:sp>
        <p:nvSpPr>
          <p:cNvPr id="1036"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974880" y="957240"/>
            <a:ext cx="7407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the Kirchoff approximation and MOOT for a 0.381 mm radius crack at normal incidence (pulse-echo) </a:t>
            </a:r>
            <a:endParaRPr b="0" lang="en-US" sz="2400" spc="-1" strike="noStrike">
              <a:solidFill>
                <a:srgbClr val="000000"/>
              </a:solidFill>
              <a:latin typeface="Times New Roman"/>
            </a:endParaRPr>
          </a:p>
        </p:txBody>
      </p:sp>
      <p:sp>
        <p:nvSpPr>
          <p:cNvPr id="1039" name=""/>
          <p:cNvSpPr/>
          <p:nvPr/>
        </p:nvSpPr>
        <p:spPr>
          <a:xfrm>
            <a:off x="2695680" y="2440080"/>
            <a:ext cx="425124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695680" y="2440080"/>
            <a:ext cx="4251240" cy="3357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695680" y="2440080"/>
            <a:ext cx="425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2695680" y="5797440"/>
            <a:ext cx="425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flipV="1">
            <a:off x="6946920" y="2440080"/>
            <a:ext cx="1440" cy="335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V="1">
            <a:off x="2695680" y="2440080"/>
            <a:ext cx="1440" cy="335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695680" y="5797440"/>
            <a:ext cx="425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flipV="1">
            <a:off x="2695680" y="2440080"/>
            <a:ext cx="1440" cy="335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2695680" y="575424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8" name=""/>
          <p:cNvSpPr/>
          <p:nvPr/>
        </p:nvSpPr>
        <p:spPr>
          <a:xfrm>
            <a:off x="2695680" y="24400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9" name=""/>
          <p:cNvSpPr/>
          <p:nvPr/>
        </p:nvSpPr>
        <p:spPr>
          <a:xfrm>
            <a:off x="2674440" y="5865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50" name=""/>
          <p:cNvSpPr/>
          <p:nvPr/>
        </p:nvSpPr>
        <p:spPr>
          <a:xfrm flipV="1">
            <a:off x="3546360" y="575424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1" name=""/>
          <p:cNvSpPr/>
          <p:nvPr/>
        </p:nvSpPr>
        <p:spPr>
          <a:xfrm>
            <a:off x="3546360" y="24400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3524040" y="5865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053" name=""/>
          <p:cNvSpPr/>
          <p:nvPr/>
        </p:nvSpPr>
        <p:spPr>
          <a:xfrm flipV="1">
            <a:off x="4395960" y="575424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4" name=""/>
          <p:cNvSpPr/>
          <p:nvPr/>
        </p:nvSpPr>
        <p:spPr>
          <a:xfrm>
            <a:off x="4395960" y="24400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5" name=""/>
          <p:cNvSpPr/>
          <p:nvPr/>
        </p:nvSpPr>
        <p:spPr>
          <a:xfrm>
            <a:off x="4346280" y="5865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056" name=""/>
          <p:cNvSpPr/>
          <p:nvPr/>
        </p:nvSpPr>
        <p:spPr>
          <a:xfrm flipV="1">
            <a:off x="5246640" y="575424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7" name=""/>
          <p:cNvSpPr/>
          <p:nvPr/>
        </p:nvSpPr>
        <p:spPr>
          <a:xfrm>
            <a:off x="5246640" y="24400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8" name=""/>
          <p:cNvSpPr/>
          <p:nvPr/>
        </p:nvSpPr>
        <p:spPr>
          <a:xfrm>
            <a:off x="5195520" y="5865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059" name=""/>
          <p:cNvSpPr/>
          <p:nvPr/>
        </p:nvSpPr>
        <p:spPr>
          <a:xfrm flipV="1">
            <a:off x="6095880" y="575424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0" name=""/>
          <p:cNvSpPr/>
          <p:nvPr/>
        </p:nvSpPr>
        <p:spPr>
          <a:xfrm>
            <a:off x="6095880" y="24400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1" name=""/>
          <p:cNvSpPr/>
          <p:nvPr/>
        </p:nvSpPr>
        <p:spPr>
          <a:xfrm>
            <a:off x="6046560" y="5865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062" name=""/>
          <p:cNvSpPr/>
          <p:nvPr/>
        </p:nvSpPr>
        <p:spPr>
          <a:xfrm flipV="1">
            <a:off x="6946920" y="575424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6946920" y="24400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a:off x="6895800" y="5865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1065" name=""/>
          <p:cNvSpPr/>
          <p:nvPr/>
        </p:nvSpPr>
        <p:spPr>
          <a:xfrm>
            <a:off x="2695680" y="5797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flipH="1">
            <a:off x="6903720" y="5797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2531880" y="5740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68" name=""/>
          <p:cNvSpPr/>
          <p:nvPr/>
        </p:nvSpPr>
        <p:spPr>
          <a:xfrm>
            <a:off x="2695680" y="54608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flipH="1">
            <a:off x="6903720" y="54608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0" name=""/>
          <p:cNvSpPr/>
          <p:nvPr/>
        </p:nvSpPr>
        <p:spPr>
          <a:xfrm>
            <a:off x="2451960" y="5403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1071" name=""/>
          <p:cNvSpPr/>
          <p:nvPr/>
        </p:nvSpPr>
        <p:spPr>
          <a:xfrm>
            <a:off x="2695680" y="5126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flipH="1">
            <a:off x="6903720" y="51260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2451960" y="506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1074" name=""/>
          <p:cNvSpPr/>
          <p:nvPr/>
        </p:nvSpPr>
        <p:spPr>
          <a:xfrm>
            <a:off x="2695680" y="478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flipH="1">
            <a:off x="6903720" y="4789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2451960" y="47322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1077" name=""/>
          <p:cNvSpPr/>
          <p:nvPr/>
        </p:nvSpPr>
        <p:spPr>
          <a:xfrm>
            <a:off x="2695680" y="44546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flipH="1">
            <a:off x="6903720" y="4454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2451960" y="43974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1080" name=""/>
          <p:cNvSpPr/>
          <p:nvPr/>
        </p:nvSpPr>
        <p:spPr>
          <a:xfrm>
            <a:off x="2695680" y="41194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 name=""/>
          <p:cNvSpPr/>
          <p:nvPr/>
        </p:nvSpPr>
        <p:spPr>
          <a:xfrm flipH="1">
            <a:off x="6903720" y="41194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2531880" y="4062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083" name=""/>
          <p:cNvSpPr/>
          <p:nvPr/>
        </p:nvSpPr>
        <p:spPr>
          <a:xfrm>
            <a:off x="2695680" y="37767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flipH="1">
            <a:off x="6903720" y="3776760"/>
            <a:ext cx="42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2451960" y="3719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1086" name=""/>
          <p:cNvSpPr/>
          <p:nvPr/>
        </p:nvSpPr>
        <p:spPr>
          <a:xfrm>
            <a:off x="2695680" y="34401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flipH="1">
            <a:off x="6903720" y="3440160"/>
            <a:ext cx="42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2451960" y="3382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1089" name=""/>
          <p:cNvSpPr/>
          <p:nvPr/>
        </p:nvSpPr>
        <p:spPr>
          <a:xfrm>
            <a:off x="2695680" y="3111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flipH="1">
            <a:off x="6903720" y="3111480"/>
            <a:ext cx="42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
          <p:cNvSpPr/>
          <p:nvPr/>
        </p:nvSpPr>
        <p:spPr>
          <a:xfrm>
            <a:off x="2451960" y="3054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092" name=""/>
          <p:cNvSpPr/>
          <p:nvPr/>
        </p:nvSpPr>
        <p:spPr>
          <a:xfrm>
            <a:off x="2695680" y="2776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 name=""/>
          <p:cNvSpPr/>
          <p:nvPr/>
        </p:nvSpPr>
        <p:spPr>
          <a:xfrm flipH="1">
            <a:off x="6903720" y="27766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2451960" y="2719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1095" name=""/>
          <p:cNvSpPr/>
          <p:nvPr/>
        </p:nvSpPr>
        <p:spPr>
          <a:xfrm>
            <a:off x="2695680" y="24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flipH="1">
            <a:off x="6903720" y="2440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2531880" y="238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098" name=""/>
          <p:cNvSpPr/>
          <p:nvPr/>
        </p:nvSpPr>
        <p:spPr>
          <a:xfrm>
            <a:off x="2695680" y="2440080"/>
            <a:ext cx="425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2695680" y="5797440"/>
            <a:ext cx="425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flipV="1">
            <a:off x="6946920" y="2440080"/>
            <a:ext cx="1440" cy="335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695680" y="2440080"/>
            <a:ext cx="1440" cy="335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703600" y="5132520"/>
            <a:ext cx="900000" cy="657000"/>
          </a:xfrm>
          <a:custGeom>
            <a:avLst/>
            <a:gdLst/>
            <a:ahLst/>
            <a:rect l="l" t="t" r="r" b="b"/>
            <a:pathLst>
              <a:path w="567" h="414">
                <a:moveTo>
                  <a:pt x="0" y="414"/>
                </a:moveTo>
                <a:lnTo>
                  <a:pt x="0" y="410"/>
                </a:lnTo>
                <a:lnTo>
                  <a:pt x="4" y="405"/>
                </a:lnTo>
                <a:lnTo>
                  <a:pt x="9" y="405"/>
                </a:lnTo>
                <a:lnTo>
                  <a:pt x="13" y="401"/>
                </a:lnTo>
                <a:lnTo>
                  <a:pt x="18" y="396"/>
                </a:lnTo>
                <a:lnTo>
                  <a:pt x="22" y="396"/>
                </a:lnTo>
                <a:lnTo>
                  <a:pt x="27" y="392"/>
                </a:lnTo>
                <a:lnTo>
                  <a:pt x="31" y="387"/>
                </a:lnTo>
                <a:lnTo>
                  <a:pt x="36" y="387"/>
                </a:lnTo>
                <a:lnTo>
                  <a:pt x="40" y="383"/>
                </a:lnTo>
                <a:lnTo>
                  <a:pt x="45" y="378"/>
                </a:lnTo>
                <a:lnTo>
                  <a:pt x="49" y="374"/>
                </a:lnTo>
                <a:lnTo>
                  <a:pt x="54" y="374"/>
                </a:lnTo>
                <a:lnTo>
                  <a:pt x="58" y="369"/>
                </a:lnTo>
                <a:lnTo>
                  <a:pt x="63" y="365"/>
                </a:lnTo>
                <a:lnTo>
                  <a:pt x="67" y="360"/>
                </a:lnTo>
                <a:lnTo>
                  <a:pt x="72" y="360"/>
                </a:lnTo>
                <a:lnTo>
                  <a:pt x="76" y="356"/>
                </a:lnTo>
                <a:lnTo>
                  <a:pt x="81" y="351"/>
                </a:lnTo>
                <a:lnTo>
                  <a:pt x="85" y="347"/>
                </a:lnTo>
                <a:lnTo>
                  <a:pt x="90" y="347"/>
                </a:lnTo>
                <a:lnTo>
                  <a:pt x="94" y="342"/>
                </a:lnTo>
                <a:lnTo>
                  <a:pt x="99" y="338"/>
                </a:lnTo>
                <a:lnTo>
                  <a:pt x="103" y="338"/>
                </a:lnTo>
                <a:lnTo>
                  <a:pt x="108" y="333"/>
                </a:lnTo>
                <a:lnTo>
                  <a:pt x="112" y="329"/>
                </a:lnTo>
                <a:lnTo>
                  <a:pt x="117" y="324"/>
                </a:lnTo>
                <a:lnTo>
                  <a:pt x="121" y="324"/>
                </a:lnTo>
                <a:lnTo>
                  <a:pt x="126" y="320"/>
                </a:lnTo>
                <a:lnTo>
                  <a:pt x="130" y="315"/>
                </a:lnTo>
                <a:lnTo>
                  <a:pt x="135" y="315"/>
                </a:lnTo>
                <a:lnTo>
                  <a:pt x="139" y="311"/>
                </a:lnTo>
                <a:lnTo>
                  <a:pt x="144" y="306"/>
                </a:lnTo>
                <a:lnTo>
                  <a:pt x="148" y="302"/>
                </a:lnTo>
                <a:lnTo>
                  <a:pt x="153" y="302"/>
                </a:lnTo>
                <a:lnTo>
                  <a:pt x="157" y="297"/>
                </a:lnTo>
                <a:lnTo>
                  <a:pt x="162" y="293"/>
                </a:lnTo>
                <a:lnTo>
                  <a:pt x="166" y="288"/>
                </a:lnTo>
                <a:lnTo>
                  <a:pt x="171" y="288"/>
                </a:lnTo>
                <a:lnTo>
                  <a:pt x="175" y="284"/>
                </a:lnTo>
                <a:lnTo>
                  <a:pt x="180" y="279"/>
                </a:lnTo>
                <a:lnTo>
                  <a:pt x="184" y="275"/>
                </a:lnTo>
                <a:lnTo>
                  <a:pt x="189" y="275"/>
                </a:lnTo>
                <a:lnTo>
                  <a:pt x="193" y="270"/>
                </a:lnTo>
                <a:lnTo>
                  <a:pt x="198" y="266"/>
                </a:lnTo>
                <a:lnTo>
                  <a:pt x="202" y="266"/>
                </a:lnTo>
                <a:lnTo>
                  <a:pt x="207" y="261"/>
                </a:lnTo>
                <a:lnTo>
                  <a:pt x="211" y="257"/>
                </a:lnTo>
                <a:lnTo>
                  <a:pt x="216" y="257"/>
                </a:lnTo>
                <a:lnTo>
                  <a:pt x="220" y="252"/>
                </a:lnTo>
                <a:lnTo>
                  <a:pt x="225" y="248"/>
                </a:lnTo>
                <a:lnTo>
                  <a:pt x="229" y="243"/>
                </a:lnTo>
                <a:lnTo>
                  <a:pt x="234" y="243"/>
                </a:lnTo>
                <a:lnTo>
                  <a:pt x="238" y="239"/>
                </a:lnTo>
                <a:lnTo>
                  <a:pt x="243" y="234"/>
                </a:lnTo>
                <a:lnTo>
                  <a:pt x="247" y="230"/>
                </a:lnTo>
                <a:lnTo>
                  <a:pt x="252" y="230"/>
                </a:lnTo>
                <a:lnTo>
                  <a:pt x="256" y="225"/>
                </a:lnTo>
                <a:lnTo>
                  <a:pt x="261" y="221"/>
                </a:lnTo>
                <a:lnTo>
                  <a:pt x="265" y="216"/>
                </a:lnTo>
                <a:lnTo>
                  <a:pt x="270" y="216"/>
                </a:lnTo>
                <a:lnTo>
                  <a:pt x="274" y="212"/>
                </a:lnTo>
                <a:lnTo>
                  <a:pt x="279" y="207"/>
                </a:lnTo>
                <a:lnTo>
                  <a:pt x="283" y="203"/>
                </a:lnTo>
                <a:lnTo>
                  <a:pt x="288" y="203"/>
                </a:lnTo>
                <a:lnTo>
                  <a:pt x="292" y="198"/>
                </a:lnTo>
                <a:lnTo>
                  <a:pt x="297" y="194"/>
                </a:lnTo>
                <a:lnTo>
                  <a:pt x="301" y="194"/>
                </a:lnTo>
                <a:lnTo>
                  <a:pt x="306" y="189"/>
                </a:lnTo>
                <a:lnTo>
                  <a:pt x="310" y="185"/>
                </a:lnTo>
                <a:lnTo>
                  <a:pt x="315" y="185"/>
                </a:lnTo>
                <a:lnTo>
                  <a:pt x="319" y="180"/>
                </a:lnTo>
                <a:lnTo>
                  <a:pt x="324" y="176"/>
                </a:lnTo>
                <a:lnTo>
                  <a:pt x="328" y="171"/>
                </a:lnTo>
                <a:lnTo>
                  <a:pt x="333" y="171"/>
                </a:lnTo>
                <a:lnTo>
                  <a:pt x="337" y="167"/>
                </a:lnTo>
                <a:lnTo>
                  <a:pt x="342" y="162"/>
                </a:lnTo>
                <a:lnTo>
                  <a:pt x="346" y="158"/>
                </a:lnTo>
                <a:lnTo>
                  <a:pt x="351" y="158"/>
                </a:lnTo>
                <a:lnTo>
                  <a:pt x="355" y="153"/>
                </a:lnTo>
                <a:lnTo>
                  <a:pt x="360" y="149"/>
                </a:lnTo>
                <a:lnTo>
                  <a:pt x="364" y="144"/>
                </a:lnTo>
                <a:lnTo>
                  <a:pt x="369" y="144"/>
                </a:lnTo>
                <a:lnTo>
                  <a:pt x="373" y="140"/>
                </a:lnTo>
                <a:lnTo>
                  <a:pt x="378" y="135"/>
                </a:lnTo>
                <a:lnTo>
                  <a:pt x="382" y="131"/>
                </a:lnTo>
                <a:lnTo>
                  <a:pt x="387" y="131"/>
                </a:lnTo>
                <a:lnTo>
                  <a:pt x="391" y="126"/>
                </a:lnTo>
                <a:lnTo>
                  <a:pt x="396" y="122"/>
                </a:lnTo>
                <a:lnTo>
                  <a:pt x="400" y="122"/>
                </a:lnTo>
                <a:lnTo>
                  <a:pt x="405" y="117"/>
                </a:lnTo>
                <a:lnTo>
                  <a:pt x="409" y="113"/>
                </a:lnTo>
                <a:lnTo>
                  <a:pt x="414" y="113"/>
                </a:lnTo>
                <a:lnTo>
                  <a:pt x="418" y="108"/>
                </a:lnTo>
                <a:lnTo>
                  <a:pt x="423" y="104"/>
                </a:lnTo>
                <a:lnTo>
                  <a:pt x="427" y="99"/>
                </a:lnTo>
                <a:lnTo>
                  <a:pt x="432" y="99"/>
                </a:lnTo>
                <a:lnTo>
                  <a:pt x="436" y="95"/>
                </a:lnTo>
                <a:lnTo>
                  <a:pt x="441" y="90"/>
                </a:lnTo>
                <a:lnTo>
                  <a:pt x="445" y="86"/>
                </a:lnTo>
                <a:lnTo>
                  <a:pt x="450" y="86"/>
                </a:lnTo>
                <a:lnTo>
                  <a:pt x="454" y="81"/>
                </a:lnTo>
                <a:lnTo>
                  <a:pt x="459" y="77"/>
                </a:lnTo>
                <a:lnTo>
                  <a:pt x="463" y="72"/>
                </a:lnTo>
                <a:lnTo>
                  <a:pt x="468" y="72"/>
                </a:lnTo>
                <a:lnTo>
                  <a:pt x="472" y="68"/>
                </a:lnTo>
                <a:lnTo>
                  <a:pt x="477" y="63"/>
                </a:lnTo>
                <a:lnTo>
                  <a:pt x="481" y="59"/>
                </a:lnTo>
                <a:lnTo>
                  <a:pt x="486" y="59"/>
                </a:lnTo>
                <a:lnTo>
                  <a:pt x="490" y="54"/>
                </a:lnTo>
                <a:lnTo>
                  <a:pt x="495" y="50"/>
                </a:lnTo>
                <a:lnTo>
                  <a:pt x="499" y="50"/>
                </a:lnTo>
                <a:lnTo>
                  <a:pt x="504" y="45"/>
                </a:lnTo>
                <a:lnTo>
                  <a:pt x="508" y="41"/>
                </a:lnTo>
                <a:lnTo>
                  <a:pt x="513" y="41"/>
                </a:lnTo>
                <a:lnTo>
                  <a:pt x="517" y="36"/>
                </a:lnTo>
                <a:lnTo>
                  <a:pt x="522" y="32"/>
                </a:lnTo>
                <a:lnTo>
                  <a:pt x="526" y="27"/>
                </a:lnTo>
                <a:lnTo>
                  <a:pt x="531" y="27"/>
                </a:lnTo>
                <a:lnTo>
                  <a:pt x="535" y="23"/>
                </a:lnTo>
                <a:lnTo>
                  <a:pt x="540" y="18"/>
                </a:lnTo>
                <a:lnTo>
                  <a:pt x="544" y="14"/>
                </a:lnTo>
                <a:lnTo>
                  <a:pt x="549" y="14"/>
                </a:lnTo>
                <a:lnTo>
                  <a:pt x="553" y="9"/>
                </a:lnTo>
                <a:lnTo>
                  <a:pt x="558" y="5"/>
                </a:lnTo>
                <a:lnTo>
                  <a:pt x="562" y="0"/>
                </a:lnTo>
                <a:lnTo>
                  <a:pt x="567"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603600" y="4468680"/>
            <a:ext cx="906480" cy="663840"/>
          </a:xfrm>
          <a:custGeom>
            <a:avLst/>
            <a:gdLst/>
            <a:ahLst/>
            <a:rect l="l" t="t" r="r" b="b"/>
            <a:pathLst>
              <a:path w="571" h="418">
                <a:moveTo>
                  <a:pt x="0" y="418"/>
                </a:moveTo>
                <a:lnTo>
                  <a:pt x="4" y="414"/>
                </a:lnTo>
                <a:lnTo>
                  <a:pt x="9" y="409"/>
                </a:lnTo>
                <a:lnTo>
                  <a:pt x="13" y="409"/>
                </a:lnTo>
                <a:lnTo>
                  <a:pt x="18" y="405"/>
                </a:lnTo>
                <a:lnTo>
                  <a:pt x="22" y="400"/>
                </a:lnTo>
                <a:lnTo>
                  <a:pt x="27" y="400"/>
                </a:lnTo>
                <a:lnTo>
                  <a:pt x="31" y="396"/>
                </a:lnTo>
                <a:lnTo>
                  <a:pt x="36" y="391"/>
                </a:lnTo>
                <a:lnTo>
                  <a:pt x="40" y="387"/>
                </a:lnTo>
                <a:lnTo>
                  <a:pt x="45" y="387"/>
                </a:lnTo>
                <a:lnTo>
                  <a:pt x="49" y="382"/>
                </a:lnTo>
                <a:lnTo>
                  <a:pt x="54" y="378"/>
                </a:lnTo>
                <a:lnTo>
                  <a:pt x="58" y="373"/>
                </a:lnTo>
                <a:lnTo>
                  <a:pt x="63" y="373"/>
                </a:lnTo>
                <a:lnTo>
                  <a:pt x="67" y="369"/>
                </a:lnTo>
                <a:lnTo>
                  <a:pt x="72" y="364"/>
                </a:lnTo>
                <a:lnTo>
                  <a:pt x="76" y="360"/>
                </a:lnTo>
                <a:lnTo>
                  <a:pt x="81" y="360"/>
                </a:lnTo>
                <a:lnTo>
                  <a:pt x="85" y="355"/>
                </a:lnTo>
                <a:lnTo>
                  <a:pt x="90" y="351"/>
                </a:lnTo>
                <a:lnTo>
                  <a:pt x="94" y="346"/>
                </a:lnTo>
                <a:lnTo>
                  <a:pt x="99" y="346"/>
                </a:lnTo>
                <a:lnTo>
                  <a:pt x="103" y="342"/>
                </a:lnTo>
                <a:lnTo>
                  <a:pt x="108" y="337"/>
                </a:lnTo>
                <a:lnTo>
                  <a:pt x="112" y="337"/>
                </a:lnTo>
                <a:lnTo>
                  <a:pt x="117" y="333"/>
                </a:lnTo>
                <a:lnTo>
                  <a:pt x="121" y="328"/>
                </a:lnTo>
                <a:lnTo>
                  <a:pt x="126" y="328"/>
                </a:lnTo>
                <a:lnTo>
                  <a:pt x="130" y="324"/>
                </a:lnTo>
                <a:lnTo>
                  <a:pt x="135" y="319"/>
                </a:lnTo>
                <a:lnTo>
                  <a:pt x="139" y="315"/>
                </a:lnTo>
                <a:lnTo>
                  <a:pt x="144" y="315"/>
                </a:lnTo>
                <a:lnTo>
                  <a:pt x="148" y="310"/>
                </a:lnTo>
                <a:lnTo>
                  <a:pt x="153" y="306"/>
                </a:lnTo>
                <a:lnTo>
                  <a:pt x="157" y="301"/>
                </a:lnTo>
                <a:lnTo>
                  <a:pt x="162" y="301"/>
                </a:lnTo>
                <a:lnTo>
                  <a:pt x="166" y="297"/>
                </a:lnTo>
                <a:lnTo>
                  <a:pt x="171" y="292"/>
                </a:lnTo>
                <a:lnTo>
                  <a:pt x="175" y="288"/>
                </a:lnTo>
                <a:lnTo>
                  <a:pt x="180" y="288"/>
                </a:lnTo>
                <a:lnTo>
                  <a:pt x="184" y="283"/>
                </a:lnTo>
                <a:lnTo>
                  <a:pt x="189" y="279"/>
                </a:lnTo>
                <a:lnTo>
                  <a:pt x="193" y="274"/>
                </a:lnTo>
                <a:lnTo>
                  <a:pt x="198" y="274"/>
                </a:lnTo>
                <a:lnTo>
                  <a:pt x="202" y="270"/>
                </a:lnTo>
                <a:lnTo>
                  <a:pt x="207" y="265"/>
                </a:lnTo>
                <a:lnTo>
                  <a:pt x="211" y="265"/>
                </a:lnTo>
                <a:lnTo>
                  <a:pt x="216" y="261"/>
                </a:lnTo>
                <a:lnTo>
                  <a:pt x="220" y="256"/>
                </a:lnTo>
                <a:lnTo>
                  <a:pt x="225" y="256"/>
                </a:lnTo>
                <a:lnTo>
                  <a:pt x="229" y="252"/>
                </a:lnTo>
                <a:lnTo>
                  <a:pt x="234" y="247"/>
                </a:lnTo>
                <a:lnTo>
                  <a:pt x="238" y="243"/>
                </a:lnTo>
                <a:lnTo>
                  <a:pt x="243" y="243"/>
                </a:lnTo>
                <a:lnTo>
                  <a:pt x="247" y="238"/>
                </a:lnTo>
                <a:lnTo>
                  <a:pt x="252" y="234"/>
                </a:lnTo>
                <a:lnTo>
                  <a:pt x="256" y="229"/>
                </a:lnTo>
                <a:lnTo>
                  <a:pt x="261" y="229"/>
                </a:lnTo>
                <a:lnTo>
                  <a:pt x="265" y="225"/>
                </a:lnTo>
                <a:lnTo>
                  <a:pt x="270" y="220"/>
                </a:lnTo>
                <a:lnTo>
                  <a:pt x="274" y="216"/>
                </a:lnTo>
                <a:lnTo>
                  <a:pt x="279" y="216"/>
                </a:lnTo>
                <a:lnTo>
                  <a:pt x="283" y="211"/>
                </a:lnTo>
                <a:lnTo>
                  <a:pt x="288" y="207"/>
                </a:lnTo>
                <a:lnTo>
                  <a:pt x="292" y="202"/>
                </a:lnTo>
                <a:lnTo>
                  <a:pt x="297" y="202"/>
                </a:lnTo>
                <a:lnTo>
                  <a:pt x="301" y="198"/>
                </a:lnTo>
                <a:lnTo>
                  <a:pt x="306" y="193"/>
                </a:lnTo>
                <a:lnTo>
                  <a:pt x="310" y="193"/>
                </a:lnTo>
                <a:lnTo>
                  <a:pt x="315" y="189"/>
                </a:lnTo>
                <a:lnTo>
                  <a:pt x="319" y="184"/>
                </a:lnTo>
                <a:lnTo>
                  <a:pt x="324" y="184"/>
                </a:lnTo>
                <a:lnTo>
                  <a:pt x="328" y="180"/>
                </a:lnTo>
                <a:lnTo>
                  <a:pt x="333" y="175"/>
                </a:lnTo>
                <a:lnTo>
                  <a:pt x="337" y="171"/>
                </a:lnTo>
                <a:lnTo>
                  <a:pt x="342" y="171"/>
                </a:lnTo>
                <a:lnTo>
                  <a:pt x="346" y="166"/>
                </a:lnTo>
                <a:lnTo>
                  <a:pt x="351" y="162"/>
                </a:lnTo>
                <a:lnTo>
                  <a:pt x="355" y="157"/>
                </a:lnTo>
                <a:lnTo>
                  <a:pt x="360" y="157"/>
                </a:lnTo>
                <a:lnTo>
                  <a:pt x="364" y="153"/>
                </a:lnTo>
                <a:lnTo>
                  <a:pt x="369" y="148"/>
                </a:lnTo>
                <a:lnTo>
                  <a:pt x="373" y="144"/>
                </a:lnTo>
                <a:lnTo>
                  <a:pt x="378" y="144"/>
                </a:lnTo>
                <a:lnTo>
                  <a:pt x="382" y="139"/>
                </a:lnTo>
                <a:lnTo>
                  <a:pt x="387" y="135"/>
                </a:lnTo>
                <a:lnTo>
                  <a:pt x="391" y="135"/>
                </a:lnTo>
                <a:lnTo>
                  <a:pt x="396" y="130"/>
                </a:lnTo>
                <a:lnTo>
                  <a:pt x="400" y="126"/>
                </a:lnTo>
                <a:lnTo>
                  <a:pt x="405" y="121"/>
                </a:lnTo>
                <a:lnTo>
                  <a:pt x="409" y="121"/>
                </a:lnTo>
                <a:lnTo>
                  <a:pt x="414" y="117"/>
                </a:lnTo>
                <a:lnTo>
                  <a:pt x="418" y="112"/>
                </a:lnTo>
                <a:lnTo>
                  <a:pt x="423" y="112"/>
                </a:lnTo>
                <a:lnTo>
                  <a:pt x="427" y="108"/>
                </a:lnTo>
                <a:lnTo>
                  <a:pt x="432" y="103"/>
                </a:lnTo>
                <a:lnTo>
                  <a:pt x="436" y="99"/>
                </a:lnTo>
                <a:lnTo>
                  <a:pt x="441" y="99"/>
                </a:lnTo>
                <a:lnTo>
                  <a:pt x="445" y="94"/>
                </a:lnTo>
                <a:lnTo>
                  <a:pt x="450" y="90"/>
                </a:lnTo>
                <a:lnTo>
                  <a:pt x="454" y="85"/>
                </a:lnTo>
                <a:lnTo>
                  <a:pt x="459" y="85"/>
                </a:lnTo>
                <a:lnTo>
                  <a:pt x="463" y="81"/>
                </a:lnTo>
                <a:lnTo>
                  <a:pt x="468" y="76"/>
                </a:lnTo>
                <a:lnTo>
                  <a:pt x="472" y="72"/>
                </a:lnTo>
                <a:lnTo>
                  <a:pt x="477" y="72"/>
                </a:lnTo>
                <a:lnTo>
                  <a:pt x="481" y="67"/>
                </a:lnTo>
                <a:lnTo>
                  <a:pt x="486" y="63"/>
                </a:lnTo>
                <a:lnTo>
                  <a:pt x="490" y="63"/>
                </a:lnTo>
                <a:lnTo>
                  <a:pt x="495" y="58"/>
                </a:lnTo>
                <a:lnTo>
                  <a:pt x="499" y="54"/>
                </a:lnTo>
                <a:lnTo>
                  <a:pt x="504" y="54"/>
                </a:lnTo>
                <a:lnTo>
                  <a:pt x="508" y="49"/>
                </a:lnTo>
                <a:lnTo>
                  <a:pt x="513" y="45"/>
                </a:lnTo>
                <a:lnTo>
                  <a:pt x="517" y="40"/>
                </a:lnTo>
                <a:lnTo>
                  <a:pt x="522" y="40"/>
                </a:lnTo>
                <a:lnTo>
                  <a:pt x="526" y="36"/>
                </a:lnTo>
                <a:lnTo>
                  <a:pt x="531" y="31"/>
                </a:lnTo>
                <a:lnTo>
                  <a:pt x="535" y="27"/>
                </a:lnTo>
                <a:lnTo>
                  <a:pt x="540" y="27"/>
                </a:lnTo>
                <a:lnTo>
                  <a:pt x="544" y="22"/>
                </a:lnTo>
                <a:lnTo>
                  <a:pt x="549" y="18"/>
                </a:lnTo>
                <a:lnTo>
                  <a:pt x="553" y="13"/>
                </a:lnTo>
                <a:lnTo>
                  <a:pt x="558" y="13"/>
                </a:lnTo>
                <a:lnTo>
                  <a:pt x="562" y="9"/>
                </a:lnTo>
                <a:lnTo>
                  <a:pt x="567" y="4"/>
                </a:lnTo>
                <a:lnTo>
                  <a:pt x="571"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510080" y="3811680"/>
            <a:ext cx="907920" cy="657000"/>
          </a:xfrm>
          <a:custGeom>
            <a:avLst/>
            <a:gdLst/>
            <a:ahLst/>
            <a:rect l="l" t="t" r="r" b="b"/>
            <a:pathLst>
              <a:path w="572" h="414">
                <a:moveTo>
                  <a:pt x="0" y="414"/>
                </a:moveTo>
                <a:lnTo>
                  <a:pt x="5" y="414"/>
                </a:lnTo>
                <a:lnTo>
                  <a:pt x="9" y="409"/>
                </a:lnTo>
                <a:lnTo>
                  <a:pt x="14" y="405"/>
                </a:lnTo>
                <a:lnTo>
                  <a:pt x="18" y="405"/>
                </a:lnTo>
                <a:lnTo>
                  <a:pt x="23" y="400"/>
                </a:lnTo>
                <a:lnTo>
                  <a:pt x="27" y="396"/>
                </a:lnTo>
                <a:lnTo>
                  <a:pt x="32" y="396"/>
                </a:lnTo>
                <a:lnTo>
                  <a:pt x="36" y="391"/>
                </a:lnTo>
                <a:lnTo>
                  <a:pt x="41" y="387"/>
                </a:lnTo>
                <a:lnTo>
                  <a:pt x="45" y="382"/>
                </a:lnTo>
                <a:lnTo>
                  <a:pt x="50" y="382"/>
                </a:lnTo>
                <a:lnTo>
                  <a:pt x="54" y="378"/>
                </a:lnTo>
                <a:lnTo>
                  <a:pt x="59" y="373"/>
                </a:lnTo>
                <a:lnTo>
                  <a:pt x="63" y="369"/>
                </a:lnTo>
                <a:lnTo>
                  <a:pt x="68" y="369"/>
                </a:lnTo>
                <a:lnTo>
                  <a:pt x="72" y="364"/>
                </a:lnTo>
                <a:lnTo>
                  <a:pt x="77" y="360"/>
                </a:lnTo>
                <a:lnTo>
                  <a:pt x="81" y="355"/>
                </a:lnTo>
                <a:lnTo>
                  <a:pt x="86" y="355"/>
                </a:lnTo>
                <a:lnTo>
                  <a:pt x="90" y="351"/>
                </a:lnTo>
                <a:lnTo>
                  <a:pt x="95" y="346"/>
                </a:lnTo>
                <a:lnTo>
                  <a:pt x="99" y="342"/>
                </a:lnTo>
                <a:lnTo>
                  <a:pt x="104" y="342"/>
                </a:lnTo>
                <a:lnTo>
                  <a:pt x="108" y="337"/>
                </a:lnTo>
                <a:lnTo>
                  <a:pt x="113" y="333"/>
                </a:lnTo>
                <a:lnTo>
                  <a:pt x="117" y="333"/>
                </a:lnTo>
                <a:lnTo>
                  <a:pt x="122" y="328"/>
                </a:lnTo>
                <a:lnTo>
                  <a:pt x="126" y="324"/>
                </a:lnTo>
                <a:lnTo>
                  <a:pt x="131" y="324"/>
                </a:lnTo>
                <a:lnTo>
                  <a:pt x="135" y="319"/>
                </a:lnTo>
                <a:lnTo>
                  <a:pt x="140" y="315"/>
                </a:lnTo>
                <a:lnTo>
                  <a:pt x="144" y="310"/>
                </a:lnTo>
                <a:lnTo>
                  <a:pt x="149" y="310"/>
                </a:lnTo>
                <a:lnTo>
                  <a:pt x="153" y="306"/>
                </a:lnTo>
                <a:lnTo>
                  <a:pt x="158" y="301"/>
                </a:lnTo>
                <a:lnTo>
                  <a:pt x="162" y="297"/>
                </a:lnTo>
                <a:lnTo>
                  <a:pt x="167" y="297"/>
                </a:lnTo>
                <a:lnTo>
                  <a:pt x="171" y="292"/>
                </a:lnTo>
                <a:lnTo>
                  <a:pt x="176" y="288"/>
                </a:lnTo>
                <a:lnTo>
                  <a:pt x="180" y="283"/>
                </a:lnTo>
                <a:lnTo>
                  <a:pt x="185" y="283"/>
                </a:lnTo>
                <a:lnTo>
                  <a:pt x="189" y="279"/>
                </a:lnTo>
                <a:lnTo>
                  <a:pt x="194" y="274"/>
                </a:lnTo>
                <a:lnTo>
                  <a:pt x="198" y="270"/>
                </a:lnTo>
                <a:lnTo>
                  <a:pt x="203" y="270"/>
                </a:lnTo>
                <a:lnTo>
                  <a:pt x="207" y="265"/>
                </a:lnTo>
                <a:lnTo>
                  <a:pt x="212" y="261"/>
                </a:lnTo>
                <a:lnTo>
                  <a:pt x="216" y="261"/>
                </a:lnTo>
                <a:lnTo>
                  <a:pt x="221" y="256"/>
                </a:lnTo>
                <a:lnTo>
                  <a:pt x="225" y="252"/>
                </a:lnTo>
                <a:lnTo>
                  <a:pt x="230" y="252"/>
                </a:lnTo>
                <a:lnTo>
                  <a:pt x="234" y="247"/>
                </a:lnTo>
                <a:lnTo>
                  <a:pt x="239" y="243"/>
                </a:lnTo>
                <a:lnTo>
                  <a:pt x="243" y="238"/>
                </a:lnTo>
                <a:lnTo>
                  <a:pt x="248" y="238"/>
                </a:lnTo>
                <a:lnTo>
                  <a:pt x="252" y="234"/>
                </a:lnTo>
                <a:lnTo>
                  <a:pt x="257" y="230"/>
                </a:lnTo>
                <a:lnTo>
                  <a:pt x="261" y="225"/>
                </a:lnTo>
                <a:lnTo>
                  <a:pt x="266" y="225"/>
                </a:lnTo>
                <a:lnTo>
                  <a:pt x="270" y="221"/>
                </a:lnTo>
                <a:lnTo>
                  <a:pt x="275" y="216"/>
                </a:lnTo>
                <a:lnTo>
                  <a:pt x="279" y="212"/>
                </a:lnTo>
                <a:lnTo>
                  <a:pt x="284" y="212"/>
                </a:lnTo>
                <a:lnTo>
                  <a:pt x="288" y="207"/>
                </a:lnTo>
                <a:lnTo>
                  <a:pt x="293" y="203"/>
                </a:lnTo>
                <a:lnTo>
                  <a:pt x="297" y="203"/>
                </a:lnTo>
                <a:lnTo>
                  <a:pt x="302" y="198"/>
                </a:lnTo>
                <a:lnTo>
                  <a:pt x="306" y="194"/>
                </a:lnTo>
                <a:lnTo>
                  <a:pt x="311" y="194"/>
                </a:lnTo>
                <a:lnTo>
                  <a:pt x="315" y="189"/>
                </a:lnTo>
                <a:lnTo>
                  <a:pt x="320" y="185"/>
                </a:lnTo>
                <a:lnTo>
                  <a:pt x="324" y="180"/>
                </a:lnTo>
                <a:lnTo>
                  <a:pt x="329" y="180"/>
                </a:lnTo>
                <a:lnTo>
                  <a:pt x="333" y="176"/>
                </a:lnTo>
                <a:lnTo>
                  <a:pt x="338" y="171"/>
                </a:lnTo>
                <a:lnTo>
                  <a:pt x="342" y="167"/>
                </a:lnTo>
                <a:lnTo>
                  <a:pt x="347" y="167"/>
                </a:lnTo>
                <a:lnTo>
                  <a:pt x="351" y="162"/>
                </a:lnTo>
                <a:lnTo>
                  <a:pt x="356" y="158"/>
                </a:lnTo>
                <a:lnTo>
                  <a:pt x="360" y="153"/>
                </a:lnTo>
                <a:lnTo>
                  <a:pt x="365" y="153"/>
                </a:lnTo>
                <a:lnTo>
                  <a:pt x="369" y="149"/>
                </a:lnTo>
                <a:lnTo>
                  <a:pt x="374" y="144"/>
                </a:lnTo>
                <a:lnTo>
                  <a:pt x="378" y="140"/>
                </a:lnTo>
                <a:lnTo>
                  <a:pt x="383" y="140"/>
                </a:lnTo>
                <a:lnTo>
                  <a:pt x="387" y="135"/>
                </a:lnTo>
                <a:lnTo>
                  <a:pt x="392" y="131"/>
                </a:lnTo>
                <a:lnTo>
                  <a:pt x="396" y="131"/>
                </a:lnTo>
                <a:lnTo>
                  <a:pt x="401" y="126"/>
                </a:lnTo>
                <a:lnTo>
                  <a:pt x="405" y="122"/>
                </a:lnTo>
                <a:lnTo>
                  <a:pt x="410" y="122"/>
                </a:lnTo>
                <a:lnTo>
                  <a:pt x="414" y="117"/>
                </a:lnTo>
                <a:lnTo>
                  <a:pt x="419" y="113"/>
                </a:lnTo>
                <a:lnTo>
                  <a:pt x="423" y="108"/>
                </a:lnTo>
                <a:lnTo>
                  <a:pt x="428" y="108"/>
                </a:lnTo>
                <a:lnTo>
                  <a:pt x="432" y="104"/>
                </a:lnTo>
                <a:lnTo>
                  <a:pt x="437" y="99"/>
                </a:lnTo>
                <a:lnTo>
                  <a:pt x="441" y="95"/>
                </a:lnTo>
                <a:lnTo>
                  <a:pt x="446" y="95"/>
                </a:lnTo>
                <a:lnTo>
                  <a:pt x="450" y="90"/>
                </a:lnTo>
                <a:lnTo>
                  <a:pt x="455" y="86"/>
                </a:lnTo>
                <a:lnTo>
                  <a:pt x="459" y="81"/>
                </a:lnTo>
                <a:lnTo>
                  <a:pt x="464" y="81"/>
                </a:lnTo>
                <a:lnTo>
                  <a:pt x="468" y="77"/>
                </a:lnTo>
                <a:lnTo>
                  <a:pt x="473" y="72"/>
                </a:lnTo>
                <a:lnTo>
                  <a:pt x="477" y="68"/>
                </a:lnTo>
                <a:lnTo>
                  <a:pt x="482" y="68"/>
                </a:lnTo>
                <a:lnTo>
                  <a:pt x="486" y="63"/>
                </a:lnTo>
                <a:lnTo>
                  <a:pt x="491" y="59"/>
                </a:lnTo>
                <a:lnTo>
                  <a:pt x="495" y="59"/>
                </a:lnTo>
                <a:lnTo>
                  <a:pt x="500" y="54"/>
                </a:lnTo>
                <a:lnTo>
                  <a:pt x="504" y="50"/>
                </a:lnTo>
                <a:lnTo>
                  <a:pt x="509" y="50"/>
                </a:lnTo>
                <a:lnTo>
                  <a:pt x="513" y="45"/>
                </a:lnTo>
                <a:lnTo>
                  <a:pt x="518" y="41"/>
                </a:lnTo>
                <a:lnTo>
                  <a:pt x="522" y="36"/>
                </a:lnTo>
                <a:lnTo>
                  <a:pt x="527" y="36"/>
                </a:lnTo>
                <a:lnTo>
                  <a:pt x="531" y="32"/>
                </a:lnTo>
                <a:lnTo>
                  <a:pt x="536" y="27"/>
                </a:lnTo>
                <a:lnTo>
                  <a:pt x="540" y="23"/>
                </a:lnTo>
                <a:lnTo>
                  <a:pt x="545" y="23"/>
                </a:lnTo>
                <a:lnTo>
                  <a:pt x="549" y="18"/>
                </a:lnTo>
                <a:lnTo>
                  <a:pt x="554" y="14"/>
                </a:lnTo>
                <a:lnTo>
                  <a:pt x="558" y="9"/>
                </a:lnTo>
                <a:lnTo>
                  <a:pt x="563" y="9"/>
                </a:lnTo>
                <a:lnTo>
                  <a:pt x="567" y="5"/>
                </a:lnTo>
                <a:lnTo>
                  <a:pt x="572"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418000" y="3154320"/>
            <a:ext cx="906480" cy="657360"/>
          </a:xfrm>
          <a:custGeom>
            <a:avLst/>
            <a:gdLst/>
            <a:ahLst/>
            <a:rect l="l" t="t" r="r" b="b"/>
            <a:pathLst>
              <a:path w="571" h="414">
                <a:moveTo>
                  <a:pt x="0" y="414"/>
                </a:moveTo>
                <a:lnTo>
                  <a:pt x="4" y="410"/>
                </a:lnTo>
                <a:lnTo>
                  <a:pt x="9" y="410"/>
                </a:lnTo>
                <a:lnTo>
                  <a:pt x="13" y="405"/>
                </a:lnTo>
                <a:lnTo>
                  <a:pt x="18" y="401"/>
                </a:lnTo>
                <a:lnTo>
                  <a:pt x="22" y="401"/>
                </a:lnTo>
                <a:lnTo>
                  <a:pt x="27" y="396"/>
                </a:lnTo>
                <a:lnTo>
                  <a:pt x="31" y="392"/>
                </a:lnTo>
                <a:lnTo>
                  <a:pt x="36" y="392"/>
                </a:lnTo>
                <a:lnTo>
                  <a:pt x="40" y="387"/>
                </a:lnTo>
                <a:lnTo>
                  <a:pt x="45" y="383"/>
                </a:lnTo>
                <a:lnTo>
                  <a:pt x="49" y="378"/>
                </a:lnTo>
                <a:lnTo>
                  <a:pt x="54" y="378"/>
                </a:lnTo>
                <a:lnTo>
                  <a:pt x="58" y="374"/>
                </a:lnTo>
                <a:lnTo>
                  <a:pt x="63" y="369"/>
                </a:lnTo>
                <a:lnTo>
                  <a:pt x="67" y="365"/>
                </a:lnTo>
                <a:lnTo>
                  <a:pt x="72" y="365"/>
                </a:lnTo>
                <a:lnTo>
                  <a:pt x="76" y="360"/>
                </a:lnTo>
                <a:lnTo>
                  <a:pt x="81" y="356"/>
                </a:lnTo>
                <a:lnTo>
                  <a:pt x="85" y="351"/>
                </a:lnTo>
                <a:lnTo>
                  <a:pt x="90" y="351"/>
                </a:lnTo>
                <a:lnTo>
                  <a:pt x="94" y="347"/>
                </a:lnTo>
                <a:lnTo>
                  <a:pt x="99" y="342"/>
                </a:lnTo>
                <a:lnTo>
                  <a:pt x="103" y="342"/>
                </a:lnTo>
                <a:lnTo>
                  <a:pt x="108" y="338"/>
                </a:lnTo>
                <a:lnTo>
                  <a:pt x="112" y="333"/>
                </a:lnTo>
                <a:lnTo>
                  <a:pt x="117" y="329"/>
                </a:lnTo>
                <a:lnTo>
                  <a:pt x="121" y="329"/>
                </a:lnTo>
                <a:lnTo>
                  <a:pt x="126" y="324"/>
                </a:lnTo>
                <a:lnTo>
                  <a:pt x="130" y="320"/>
                </a:lnTo>
                <a:lnTo>
                  <a:pt x="135" y="320"/>
                </a:lnTo>
                <a:lnTo>
                  <a:pt x="139" y="315"/>
                </a:lnTo>
                <a:lnTo>
                  <a:pt x="144" y="311"/>
                </a:lnTo>
                <a:lnTo>
                  <a:pt x="148" y="306"/>
                </a:lnTo>
                <a:lnTo>
                  <a:pt x="153" y="306"/>
                </a:lnTo>
                <a:lnTo>
                  <a:pt x="157" y="302"/>
                </a:lnTo>
                <a:lnTo>
                  <a:pt x="162" y="297"/>
                </a:lnTo>
                <a:lnTo>
                  <a:pt x="166" y="293"/>
                </a:lnTo>
                <a:lnTo>
                  <a:pt x="171" y="293"/>
                </a:lnTo>
                <a:lnTo>
                  <a:pt x="175" y="288"/>
                </a:lnTo>
                <a:lnTo>
                  <a:pt x="180" y="284"/>
                </a:lnTo>
                <a:lnTo>
                  <a:pt x="184" y="279"/>
                </a:lnTo>
                <a:lnTo>
                  <a:pt x="189" y="279"/>
                </a:lnTo>
                <a:lnTo>
                  <a:pt x="193" y="275"/>
                </a:lnTo>
                <a:lnTo>
                  <a:pt x="198" y="270"/>
                </a:lnTo>
                <a:lnTo>
                  <a:pt x="202" y="270"/>
                </a:lnTo>
                <a:lnTo>
                  <a:pt x="207" y="266"/>
                </a:lnTo>
                <a:lnTo>
                  <a:pt x="211" y="261"/>
                </a:lnTo>
                <a:lnTo>
                  <a:pt x="216" y="261"/>
                </a:lnTo>
                <a:lnTo>
                  <a:pt x="220" y="257"/>
                </a:lnTo>
                <a:lnTo>
                  <a:pt x="225" y="252"/>
                </a:lnTo>
                <a:lnTo>
                  <a:pt x="229" y="248"/>
                </a:lnTo>
                <a:lnTo>
                  <a:pt x="234" y="248"/>
                </a:lnTo>
                <a:lnTo>
                  <a:pt x="238" y="243"/>
                </a:lnTo>
                <a:lnTo>
                  <a:pt x="243" y="239"/>
                </a:lnTo>
                <a:lnTo>
                  <a:pt x="247" y="234"/>
                </a:lnTo>
                <a:lnTo>
                  <a:pt x="252" y="234"/>
                </a:lnTo>
                <a:lnTo>
                  <a:pt x="256" y="230"/>
                </a:lnTo>
                <a:lnTo>
                  <a:pt x="261" y="225"/>
                </a:lnTo>
                <a:lnTo>
                  <a:pt x="265" y="221"/>
                </a:lnTo>
                <a:lnTo>
                  <a:pt x="270" y="221"/>
                </a:lnTo>
                <a:lnTo>
                  <a:pt x="274" y="216"/>
                </a:lnTo>
                <a:lnTo>
                  <a:pt x="279" y="212"/>
                </a:lnTo>
                <a:lnTo>
                  <a:pt x="283" y="207"/>
                </a:lnTo>
                <a:lnTo>
                  <a:pt x="288" y="207"/>
                </a:lnTo>
                <a:lnTo>
                  <a:pt x="292" y="203"/>
                </a:lnTo>
                <a:lnTo>
                  <a:pt x="297" y="198"/>
                </a:lnTo>
                <a:lnTo>
                  <a:pt x="301" y="198"/>
                </a:lnTo>
                <a:lnTo>
                  <a:pt x="306" y="194"/>
                </a:lnTo>
                <a:lnTo>
                  <a:pt x="310" y="189"/>
                </a:lnTo>
                <a:lnTo>
                  <a:pt x="315" y="189"/>
                </a:lnTo>
                <a:lnTo>
                  <a:pt x="319" y="185"/>
                </a:lnTo>
                <a:lnTo>
                  <a:pt x="324" y="180"/>
                </a:lnTo>
                <a:lnTo>
                  <a:pt x="328" y="176"/>
                </a:lnTo>
                <a:lnTo>
                  <a:pt x="333" y="176"/>
                </a:lnTo>
                <a:lnTo>
                  <a:pt x="337" y="171"/>
                </a:lnTo>
                <a:lnTo>
                  <a:pt x="342" y="167"/>
                </a:lnTo>
                <a:lnTo>
                  <a:pt x="346" y="162"/>
                </a:lnTo>
                <a:lnTo>
                  <a:pt x="351" y="162"/>
                </a:lnTo>
                <a:lnTo>
                  <a:pt x="355" y="158"/>
                </a:lnTo>
                <a:lnTo>
                  <a:pt x="360" y="153"/>
                </a:lnTo>
                <a:lnTo>
                  <a:pt x="364" y="149"/>
                </a:lnTo>
                <a:lnTo>
                  <a:pt x="369" y="149"/>
                </a:lnTo>
                <a:lnTo>
                  <a:pt x="373" y="144"/>
                </a:lnTo>
                <a:lnTo>
                  <a:pt x="378" y="140"/>
                </a:lnTo>
                <a:lnTo>
                  <a:pt x="382" y="135"/>
                </a:lnTo>
                <a:lnTo>
                  <a:pt x="387" y="135"/>
                </a:lnTo>
                <a:lnTo>
                  <a:pt x="391" y="131"/>
                </a:lnTo>
                <a:lnTo>
                  <a:pt x="396" y="126"/>
                </a:lnTo>
                <a:lnTo>
                  <a:pt x="400" y="126"/>
                </a:lnTo>
                <a:lnTo>
                  <a:pt x="405" y="122"/>
                </a:lnTo>
                <a:lnTo>
                  <a:pt x="409" y="117"/>
                </a:lnTo>
                <a:lnTo>
                  <a:pt x="414" y="117"/>
                </a:lnTo>
                <a:lnTo>
                  <a:pt x="418" y="113"/>
                </a:lnTo>
                <a:lnTo>
                  <a:pt x="423" y="108"/>
                </a:lnTo>
                <a:lnTo>
                  <a:pt x="427" y="104"/>
                </a:lnTo>
                <a:lnTo>
                  <a:pt x="432" y="104"/>
                </a:lnTo>
                <a:lnTo>
                  <a:pt x="436" y="99"/>
                </a:lnTo>
                <a:lnTo>
                  <a:pt x="441" y="95"/>
                </a:lnTo>
                <a:lnTo>
                  <a:pt x="445" y="90"/>
                </a:lnTo>
                <a:lnTo>
                  <a:pt x="450" y="90"/>
                </a:lnTo>
                <a:lnTo>
                  <a:pt x="454" y="86"/>
                </a:lnTo>
                <a:lnTo>
                  <a:pt x="459" y="81"/>
                </a:lnTo>
                <a:lnTo>
                  <a:pt x="463" y="77"/>
                </a:lnTo>
                <a:lnTo>
                  <a:pt x="468" y="77"/>
                </a:lnTo>
                <a:lnTo>
                  <a:pt x="472" y="72"/>
                </a:lnTo>
                <a:lnTo>
                  <a:pt x="477" y="68"/>
                </a:lnTo>
                <a:lnTo>
                  <a:pt x="481" y="63"/>
                </a:lnTo>
                <a:lnTo>
                  <a:pt x="486" y="63"/>
                </a:lnTo>
                <a:lnTo>
                  <a:pt x="490" y="59"/>
                </a:lnTo>
                <a:lnTo>
                  <a:pt x="495" y="54"/>
                </a:lnTo>
                <a:lnTo>
                  <a:pt x="499" y="54"/>
                </a:lnTo>
                <a:lnTo>
                  <a:pt x="504" y="50"/>
                </a:lnTo>
                <a:lnTo>
                  <a:pt x="508" y="45"/>
                </a:lnTo>
                <a:lnTo>
                  <a:pt x="513" y="45"/>
                </a:lnTo>
                <a:lnTo>
                  <a:pt x="517" y="41"/>
                </a:lnTo>
                <a:lnTo>
                  <a:pt x="522" y="36"/>
                </a:lnTo>
                <a:lnTo>
                  <a:pt x="526" y="32"/>
                </a:lnTo>
                <a:lnTo>
                  <a:pt x="531" y="32"/>
                </a:lnTo>
                <a:lnTo>
                  <a:pt x="535" y="27"/>
                </a:lnTo>
                <a:lnTo>
                  <a:pt x="540" y="23"/>
                </a:lnTo>
                <a:lnTo>
                  <a:pt x="544" y="18"/>
                </a:lnTo>
                <a:lnTo>
                  <a:pt x="549" y="18"/>
                </a:lnTo>
                <a:lnTo>
                  <a:pt x="553" y="14"/>
                </a:lnTo>
                <a:lnTo>
                  <a:pt x="558" y="9"/>
                </a:lnTo>
                <a:lnTo>
                  <a:pt x="562" y="5"/>
                </a:lnTo>
                <a:lnTo>
                  <a:pt x="567" y="5"/>
                </a:lnTo>
                <a:lnTo>
                  <a:pt x="571"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324480" y="2705040"/>
            <a:ext cx="622440" cy="449280"/>
          </a:xfrm>
          <a:custGeom>
            <a:avLst/>
            <a:gdLst/>
            <a:ahLst/>
            <a:rect l="l" t="t" r="r" b="b"/>
            <a:pathLst>
              <a:path w="392" h="283">
                <a:moveTo>
                  <a:pt x="0" y="283"/>
                </a:moveTo>
                <a:lnTo>
                  <a:pt x="5" y="279"/>
                </a:lnTo>
                <a:lnTo>
                  <a:pt x="9" y="279"/>
                </a:lnTo>
                <a:lnTo>
                  <a:pt x="14" y="274"/>
                </a:lnTo>
                <a:lnTo>
                  <a:pt x="18" y="270"/>
                </a:lnTo>
                <a:lnTo>
                  <a:pt x="23" y="265"/>
                </a:lnTo>
                <a:lnTo>
                  <a:pt x="27" y="265"/>
                </a:lnTo>
                <a:lnTo>
                  <a:pt x="32" y="261"/>
                </a:lnTo>
                <a:lnTo>
                  <a:pt x="36" y="256"/>
                </a:lnTo>
                <a:lnTo>
                  <a:pt x="41" y="256"/>
                </a:lnTo>
                <a:lnTo>
                  <a:pt x="45" y="252"/>
                </a:lnTo>
                <a:lnTo>
                  <a:pt x="50" y="247"/>
                </a:lnTo>
                <a:lnTo>
                  <a:pt x="54" y="243"/>
                </a:lnTo>
                <a:lnTo>
                  <a:pt x="59" y="243"/>
                </a:lnTo>
                <a:lnTo>
                  <a:pt x="63" y="238"/>
                </a:lnTo>
                <a:lnTo>
                  <a:pt x="68" y="234"/>
                </a:lnTo>
                <a:lnTo>
                  <a:pt x="72" y="229"/>
                </a:lnTo>
                <a:lnTo>
                  <a:pt x="77" y="229"/>
                </a:lnTo>
                <a:lnTo>
                  <a:pt x="81" y="225"/>
                </a:lnTo>
                <a:lnTo>
                  <a:pt x="86" y="220"/>
                </a:lnTo>
                <a:lnTo>
                  <a:pt x="90" y="216"/>
                </a:lnTo>
                <a:lnTo>
                  <a:pt x="95" y="216"/>
                </a:lnTo>
                <a:lnTo>
                  <a:pt x="99" y="211"/>
                </a:lnTo>
                <a:lnTo>
                  <a:pt x="104" y="207"/>
                </a:lnTo>
                <a:lnTo>
                  <a:pt x="108" y="207"/>
                </a:lnTo>
                <a:lnTo>
                  <a:pt x="113" y="202"/>
                </a:lnTo>
                <a:lnTo>
                  <a:pt x="117" y="198"/>
                </a:lnTo>
                <a:lnTo>
                  <a:pt x="122" y="198"/>
                </a:lnTo>
                <a:lnTo>
                  <a:pt x="126" y="193"/>
                </a:lnTo>
                <a:lnTo>
                  <a:pt x="131" y="189"/>
                </a:lnTo>
                <a:lnTo>
                  <a:pt x="135" y="184"/>
                </a:lnTo>
                <a:lnTo>
                  <a:pt x="140" y="184"/>
                </a:lnTo>
                <a:lnTo>
                  <a:pt x="144" y="180"/>
                </a:lnTo>
                <a:lnTo>
                  <a:pt x="149" y="175"/>
                </a:lnTo>
                <a:lnTo>
                  <a:pt x="153" y="171"/>
                </a:lnTo>
                <a:lnTo>
                  <a:pt x="158" y="171"/>
                </a:lnTo>
                <a:lnTo>
                  <a:pt x="162" y="166"/>
                </a:lnTo>
                <a:lnTo>
                  <a:pt x="167" y="162"/>
                </a:lnTo>
                <a:lnTo>
                  <a:pt x="171" y="157"/>
                </a:lnTo>
                <a:lnTo>
                  <a:pt x="176" y="157"/>
                </a:lnTo>
                <a:lnTo>
                  <a:pt x="180" y="153"/>
                </a:lnTo>
                <a:lnTo>
                  <a:pt x="185" y="148"/>
                </a:lnTo>
                <a:lnTo>
                  <a:pt x="189" y="144"/>
                </a:lnTo>
                <a:lnTo>
                  <a:pt x="194" y="144"/>
                </a:lnTo>
                <a:lnTo>
                  <a:pt x="198" y="139"/>
                </a:lnTo>
                <a:lnTo>
                  <a:pt x="203" y="135"/>
                </a:lnTo>
                <a:lnTo>
                  <a:pt x="207" y="135"/>
                </a:lnTo>
                <a:lnTo>
                  <a:pt x="212" y="130"/>
                </a:lnTo>
                <a:lnTo>
                  <a:pt x="216" y="126"/>
                </a:lnTo>
                <a:lnTo>
                  <a:pt x="221" y="126"/>
                </a:lnTo>
                <a:lnTo>
                  <a:pt x="225" y="121"/>
                </a:lnTo>
                <a:lnTo>
                  <a:pt x="230" y="117"/>
                </a:lnTo>
                <a:lnTo>
                  <a:pt x="234" y="112"/>
                </a:lnTo>
                <a:lnTo>
                  <a:pt x="239" y="112"/>
                </a:lnTo>
                <a:lnTo>
                  <a:pt x="243" y="108"/>
                </a:lnTo>
                <a:lnTo>
                  <a:pt x="248" y="103"/>
                </a:lnTo>
                <a:lnTo>
                  <a:pt x="252" y="99"/>
                </a:lnTo>
                <a:lnTo>
                  <a:pt x="257" y="99"/>
                </a:lnTo>
                <a:lnTo>
                  <a:pt x="261" y="94"/>
                </a:lnTo>
                <a:lnTo>
                  <a:pt x="266" y="90"/>
                </a:lnTo>
                <a:lnTo>
                  <a:pt x="270" y="85"/>
                </a:lnTo>
                <a:lnTo>
                  <a:pt x="275" y="85"/>
                </a:lnTo>
                <a:lnTo>
                  <a:pt x="279" y="81"/>
                </a:lnTo>
                <a:lnTo>
                  <a:pt x="284" y="76"/>
                </a:lnTo>
                <a:lnTo>
                  <a:pt x="288" y="72"/>
                </a:lnTo>
                <a:lnTo>
                  <a:pt x="293" y="72"/>
                </a:lnTo>
                <a:lnTo>
                  <a:pt x="297" y="67"/>
                </a:lnTo>
                <a:lnTo>
                  <a:pt x="302" y="63"/>
                </a:lnTo>
                <a:lnTo>
                  <a:pt x="306" y="63"/>
                </a:lnTo>
                <a:lnTo>
                  <a:pt x="311" y="58"/>
                </a:lnTo>
                <a:lnTo>
                  <a:pt x="315" y="54"/>
                </a:lnTo>
                <a:lnTo>
                  <a:pt x="320" y="54"/>
                </a:lnTo>
                <a:lnTo>
                  <a:pt x="324" y="49"/>
                </a:lnTo>
                <a:lnTo>
                  <a:pt x="329" y="45"/>
                </a:lnTo>
                <a:lnTo>
                  <a:pt x="333" y="40"/>
                </a:lnTo>
                <a:lnTo>
                  <a:pt x="338" y="40"/>
                </a:lnTo>
                <a:lnTo>
                  <a:pt x="342" y="36"/>
                </a:lnTo>
                <a:lnTo>
                  <a:pt x="347" y="31"/>
                </a:lnTo>
                <a:lnTo>
                  <a:pt x="351" y="27"/>
                </a:lnTo>
                <a:lnTo>
                  <a:pt x="356" y="27"/>
                </a:lnTo>
                <a:lnTo>
                  <a:pt x="360" y="22"/>
                </a:lnTo>
                <a:lnTo>
                  <a:pt x="365" y="18"/>
                </a:lnTo>
                <a:lnTo>
                  <a:pt x="369" y="13"/>
                </a:lnTo>
                <a:lnTo>
                  <a:pt x="374" y="13"/>
                </a:lnTo>
                <a:lnTo>
                  <a:pt x="378" y="9"/>
                </a:lnTo>
                <a:lnTo>
                  <a:pt x="383" y="4"/>
                </a:lnTo>
                <a:lnTo>
                  <a:pt x="387" y="4"/>
                </a:lnTo>
                <a:lnTo>
                  <a:pt x="392"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695680" y="5246640"/>
            <a:ext cx="765000" cy="542880"/>
          </a:xfrm>
          <a:custGeom>
            <a:avLst/>
            <a:gdLst/>
            <a:ahLst/>
            <a:rect l="l" t="t" r="r" b="b"/>
            <a:pathLst>
              <a:path w="482" h="342">
                <a:moveTo>
                  <a:pt x="5" y="342"/>
                </a:moveTo>
                <a:lnTo>
                  <a:pt x="0" y="342"/>
                </a:lnTo>
                <a:lnTo>
                  <a:pt x="5" y="342"/>
                </a:lnTo>
                <a:lnTo>
                  <a:pt x="9" y="342"/>
                </a:lnTo>
                <a:lnTo>
                  <a:pt x="14" y="342"/>
                </a:lnTo>
                <a:lnTo>
                  <a:pt x="18" y="342"/>
                </a:lnTo>
                <a:lnTo>
                  <a:pt x="23" y="342"/>
                </a:lnTo>
                <a:lnTo>
                  <a:pt x="27" y="342"/>
                </a:lnTo>
                <a:lnTo>
                  <a:pt x="32" y="342"/>
                </a:lnTo>
                <a:lnTo>
                  <a:pt x="36" y="338"/>
                </a:lnTo>
                <a:lnTo>
                  <a:pt x="41" y="338"/>
                </a:lnTo>
                <a:lnTo>
                  <a:pt x="45" y="338"/>
                </a:lnTo>
                <a:lnTo>
                  <a:pt x="50" y="333"/>
                </a:lnTo>
                <a:lnTo>
                  <a:pt x="54" y="333"/>
                </a:lnTo>
                <a:lnTo>
                  <a:pt x="59" y="333"/>
                </a:lnTo>
                <a:lnTo>
                  <a:pt x="63" y="329"/>
                </a:lnTo>
                <a:lnTo>
                  <a:pt x="68" y="329"/>
                </a:lnTo>
                <a:lnTo>
                  <a:pt x="72" y="324"/>
                </a:lnTo>
                <a:lnTo>
                  <a:pt x="77" y="320"/>
                </a:lnTo>
                <a:lnTo>
                  <a:pt x="81" y="320"/>
                </a:lnTo>
                <a:lnTo>
                  <a:pt x="86" y="315"/>
                </a:lnTo>
                <a:lnTo>
                  <a:pt x="90" y="311"/>
                </a:lnTo>
                <a:lnTo>
                  <a:pt x="95" y="311"/>
                </a:lnTo>
                <a:lnTo>
                  <a:pt x="99" y="306"/>
                </a:lnTo>
                <a:lnTo>
                  <a:pt x="104" y="302"/>
                </a:lnTo>
                <a:lnTo>
                  <a:pt x="108" y="297"/>
                </a:lnTo>
                <a:lnTo>
                  <a:pt x="113" y="293"/>
                </a:lnTo>
                <a:lnTo>
                  <a:pt x="117" y="288"/>
                </a:lnTo>
                <a:lnTo>
                  <a:pt x="122" y="284"/>
                </a:lnTo>
                <a:lnTo>
                  <a:pt x="122" y="279"/>
                </a:lnTo>
                <a:lnTo>
                  <a:pt x="131" y="275"/>
                </a:lnTo>
                <a:lnTo>
                  <a:pt x="131" y="270"/>
                </a:lnTo>
                <a:lnTo>
                  <a:pt x="135" y="266"/>
                </a:lnTo>
                <a:lnTo>
                  <a:pt x="135" y="261"/>
                </a:lnTo>
                <a:lnTo>
                  <a:pt x="140" y="257"/>
                </a:lnTo>
                <a:lnTo>
                  <a:pt x="144" y="252"/>
                </a:lnTo>
                <a:lnTo>
                  <a:pt x="144" y="248"/>
                </a:lnTo>
                <a:lnTo>
                  <a:pt x="149" y="243"/>
                </a:lnTo>
                <a:lnTo>
                  <a:pt x="149" y="239"/>
                </a:lnTo>
                <a:lnTo>
                  <a:pt x="153" y="234"/>
                </a:lnTo>
                <a:lnTo>
                  <a:pt x="158" y="230"/>
                </a:lnTo>
                <a:lnTo>
                  <a:pt x="158" y="221"/>
                </a:lnTo>
                <a:lnTo>
                  <a:pt x="162" y="216"/>
                </a:lnTo>
                <a:lnTo>
                  <a:pt x="162" y="212"/>
                </a:lnTo>
                <a:lnTo>
                  <a:pt x="167" y="207"/>
                </a:lnTo>
                <a:lnTo>
                  <a:pt x="171" y="198"/>
                </a:lnTo>
                <a:lnTo>
                  <a:pt x="171" y="194"/>
                </a:lnTo>
                <a:lnTo>
                  <a:pt x="176" y="189"/>
                </a:lnTo>
                <a:lnTo>
                  <a:pt x="176" y="180"/>
                </a:lnTo>
                <a:lnTo>
                  <a:pt x="180" y="176"/>
                </a:lnTo>
                <a:lnTo>
                  <a:pt x="185" y="167"/>
                </a:lnTo>
                <a:lnTo>
                  <a:pt x="185" y="162"/>
                </a:lnTo>
                <a:lnTo>
                  <a:pt x="189" y="153"/>
                </a:lnTo>
                <a:lnTo>
                  <a:pt x="189" y="149"/>
                </a:lnTo>
                <a:lnTo>
                  <a:pt x="194" y="140"/>
                </a:lnTo>
                <a:lnTo>
                  <a:pt x="198" y="135"/>
                </a:lnTo>
                <a:lnTo>
                  <a:pt x="198" y="126"/>
                </a:lnTo>
                <a:lnTo>
                  <a:pt x="203" y="117"/>
                </a:lnTo>
                <a:lnTo>
                  <a:pt x="203" y="113"/>
                </a:lnTo>
                <a:lnTo>
                  <a:pt x="207" y="104"/>
                </a:lnTo>
                <a:lnTo>
                  <a:pt x="212" y="99"/>
                </a:lnTo>
                <a:lnTo>
                  <a:pt x="212" y="90"/>
                </a:lnTo>
                <a:lnTo>
                  <a:pt x="216" y="86"/>
                </a:lnTo>
                <a:lnTo>
                  <a:pt x="216" y="77"/>
                </a:lnTo>
                <a:lnTo>
                  <a:pt x="221" y="72"/>
                </a:lnTo>
                <a:lnTo>
                  <a:pt x="225" y="68"/>
                </a:lnTo>
                <a:lnTo>
                  <a:pt x="225" y="59"/>
                </a:lnTo>
                <a:lnTo>
                  <a:pt x="230" y="54"/>
                </a:lnTo>
                <a:lnTo>
                  <a:pt x="230" y="50"/>
                </a:lnTo>
                <a:lnTo>
                  <a:pt x="234" y="45"/>
                </a:lnTo>
                <a:lnTo>
                  <a:pt x="239" y="41"/>
                </a:lnTo>
                <a:lnTo>
                  <a:pt x="239" y="36"/>
                </a:lnTo>
                <a:lnTo>
                  <a:pt x="243" y="32"/>
                </a:lnTo>
                <a:lnTo>
                  <a:pt x="243" y="27"/>
                </a:lnTo>
                <a:lnTo>
                  <a:pt x="252" y="18"/>
                </a:lnTo>
                <a:lnTo>
                  <a:pt x="248" y="18"/>
                </a:lnTo>
                <a:lnTo>
                  <a:pt x="252" y="18"/>
                </a:lnTo>
                <a:lnTo>
                  <a:pt x="257" y="14"/>
                </a:lnTo>
                <a:lnTo>
                  <a:pt x="261" y="9"/>
                </a:lnTo>
                <a:lnTo>
                  <a:pt x="266" y="9"/>
                </a:lnTo>
                <a:lnTo>
                  <a:pt x="270" y="5"/>
                </a:lnTo>
                <a:lnTo>
                  <a:pt x="275" y="5"/>
                </a:lnTo>
                <a:lnTo>
                  <a:pt x="279" y="5"/>
                </a:lnTo>
                <a:lnTo>
                  <a:pt x="284" y="0"/>
                </a:lnTo>
                <a:lnTo>
                  <a:pt x="288" y="0"/>
                </a:lnTo>
                <a:lnTo>
                  <a:pt x="293" y="0"/>
                </a:lnTo>
                <a:lnTo>
                  <a:pt x="297" y="5"/>
                </a:lnTo>
                <a:lnTo>
                  <a:pt x="302" y="5"/>
                </a:lnTo>
                <a:lnTo>
                  <a:pt x="306" y="5"/>
                </a:lnTo>
                <a:lnTo>
                  <a:pt x="311" y="5"/>
                </a:lnTo>
                <a:lnTo>
                  <a:pt x="315" y="5"/>
                </a:lnTo>
                <a:lnTo>
                  <a:pt x="320" y="9"/>
                </a:lnTo>
                <a:lnTo>
                  <a:pt x="324" y="9"/>
                </a:lnTo>
                <a:lnTo>
                  <a:pt x="329" y="9"/>
                </a:lnTo>
                <a:lnTo>
                  <a:pt x="333" y="9"/>
                </a:lnTo>
                <a:lnTo>
                  <a:pt x="338" y="14"/>
                </a:lnTo>
                <a:lnTo>
                  <a:pt x="342" y="14"/>
                </a:lnTo>
                <a:lnTo>
                  <a:pt x="347" y="14"/>
                </a:lnTo>
                <a:lnTo>
                  <a:pt x="351" y="18"/>
                </a:lnTo>
                <a:lnTo>
                  <a:pt x="356" y="18"/>
                </a:lnTo>
                <a:lnTo>
                  <a:pt x="360" y="18"/>
                </a:lnTo>
                <a:lnTo>
                  <a:pt x="365" y="18"/>
                </a:lnTo>
                <a:lnTo>
                  <a:pt x="369" y="23"/>
                </a:lnTo>
                <a:lnTo>
                  <a:pt x="374" y="23"/>
                </a:lnTo>
                <a:lnTo>
                  <a:pt x="378" y="23"/>
                </a:lnTo>
                <a:lnTo>
                  <a:pt x="383" y="23"/>
                </a:lnTo>
                <a:lnTo>
                  <a:pt x="387" y="27"/>
                </a:lnTo>
                <a:lnTo>
                  <a:pt x="392" y="27"/>
                </a:lnTo>
                <a:lnTo>
                  <a:pt x="396" y="27"/>
                </a:lnTo>
                <a:lnTo>
                  <a:pt x="401" y="27"/>
                </a:lnTo>
                <a:lnTo>
                  <a:pt x="405" y="27"/>
                </a:lnTo>
                <a:lnTo>
                  <a:pt x="410" y="32"/>
                </a:lnTo>
                <a:lnTo>
                  <a:pt x="414" y="32"/>
                </a:lnTo>
                <a:lnTo>
                  <a:pt x="419" y="32"/>
                </a:lnTo>
                <a:lnTo>
                  <a:pt x="423" y="32"/>
                </a:lnTo>
                <a:lnTo>
                  <a:pt x="428" y="32"/>
                </a:lnTo>
                <a:lnTo>
                  <a:pt x="432" y="32"/>
                </a:lnTo>
                <a:lnTo>
                  <a:pt x="437" y="32"/>
                </a:lnTo>
                <a:lnTo>
                  <a:pt x="441" y="36"/>
                </a:lnTo>
                <a:lnTo>
                  <a:pt x="446" y="36"/>
                </a:lnTo>
                <a:lnTo>
                  <a:pt x="450" y="36"/>
                </a:lnTo>
                <a:lnTo>
                  <a:pt x="455" y="36"/>
                </a:lnTo>
                <a:lnTo>
                  <a:pt x="459" y="36"/>
                </a:lnTo>
                <a:lnTo>
                  <a:pt x="464" y="36"/>
                </a:lnTo>
                <a:lnTo>
                  <a:pt x="468" y="36"/>
                </a:lnTo>
                <a:lnTo>
                  <a:pt x="473" y="36"/>
                </a:lnTo>
                <a:lnTo>
                  <a:pt x="477" y="36"/>
                </a:lnTo>
                <a:lnTo>
                  <a:pt x="482" y="36"/>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460680" y="4718160"/>
            <a:ext cx="777960" cy="585720"/>
          </a:xfrm>
          <a:custGeom>
            <a:avLst/>
            <a:gdLst/>
            <a:ahLst/>
            <a:rect l="l" t="t" r="r" b="b"/>
            <a:pathLst>
              <a:path w="490" h="369">
                <a:moveTo>
                  <a:pt x="0" y="369"/>
                </a:moveTo>
                <a:lnTo>
                  <a:pt x="4" y="369"/>
                </a:lnTo>
                <a:lnTo>
                  <a:pt x="9" y="369"/>
                </a:lnTo>
                <a:lnTo>
                  <a:pt x="13" y="365"/>
                </a:lnTo>
                <a:lnTo>
                  <a:pt x="18" y="365"/>
                </a:lnTo>
                <a:lnTo>
                  <a:pt x="22" y="365"/>
                </a:lnTo>
                <a:lnTo>
                  <a:pt x="27" y="365"/>
                </a:lnTo>
                <a:lnTo>
                  <a:pt x="31" y="360"/>
                </a:lnTo>
                <a:lnTo>
                  <a:pt x="36" y="360"/>
                </a:lnTo>
                <a:lnTo>
                  <a:pt x="40" y="356"/>
                </a:lnTo>
                <a:lnTo>
                  <a:pt x="45" y="351"/>
                </a:lnTo>
                <a:lnTo>
                  <a:pt x="49" y="351"/>
                </a:lnTo>
                <a:lnTo>
                  <a:pt x="54" y="347"/>
                </a:lnTo>
                <a:lnTo>
                  <a:pt x="58" y="338"/>
                </a:lnTo>
                <a:lnTo>
                  <a:pt x="63" y="338"/>
                </a:lnTo>
                <a:lnTo>
                  <a:pt x="67" y="329"/>
                </a:lnTo>
                <a:lnTo>
                  <a:pt x="72" y="324"/>
                </a:lnTo>
                <a:lnTo>
                  <a:pt x="76" y="320"/>
                </a:lnTo>
                <a:lnTo>
                  <a:pt x="81" y="315"/>
                </a:lnTo>
                <a:lnTo>
                  <a:pt x="81" y="311"/>
                </a:lnTo>
                <a:lnTo>
                  <a:pt x="85" y="306"/>
                </a:lnTo>
                <a:lnTo>
                  <a:pt x="85" y="297"/>
                </a:lnTo>
                <a:lnTo>
                  <a:pt x="90" y="293"/>
                </a:lnTo>
                <a:lnTo>
                  <a:pt x="94" y="288"/>
                </a:lnTo>
                <a:lnTo>
                  <a:pt x="94" y="284"/>
                </a:lnTo>
                <a:lnTo>
                  <a:pt x="99" y="279"/>
                </a:lnTo>
                <a:lnTo>
                  <a:pt x="99" y="270"/>
                </a:lnTo>
                <a:lnTo>
                  <a:pt x="103" y="266"/>
                </a:lnTo>
                <a:lnTo>
                  <a:pt x="108" y="261"/>
                </a:lnTo>
                <a:lnTo>
                  <a:pt x="108" y="257"/>
                </a:lnTo>
                <a:lnTo>
                  <a:pt x="112" y="248"/>
                </a:lnTo>
                <a:lnTo>
                  <a:pt x="112" y="243"/>
                </a:lnTo>
                <a:lnTo>
                  <a:pt x="117" y="234"/>
                </a:lnTo>
                <a:lnTo>
                  <a:pt x="121" y="230"/>
                </a:lnTo>
                <a:lnTo>
                  <a:pt x="121" y="225"/>
                </a:lnTo>
                <a:lnTo>
                  <a:pt x="126" y="216"/>
                </a:lnTo>
                <a:lnTo>
                  <a:pt x="126" y="212"/>
                </a:lnTo>
                <a:lnTo>
                  <a:pt x="130" y="207"/>
                </a:lnTo>
                <a:lnTo>
                  <a:pt x="130" y="198"/>
                </a:lnTo>
                <a:lnTo>
                  <a:pt x="135" y="194"/>
                </a:lnTo>
                <a:lnTo>
                  <a:pt x="139" y="189"/>
                </a:lnTo>
                <a:lnTo>
                  <a:pt x="139" y="185"/>
                </a:lnTo>
                <a:lnTo>
                  <a:pt x="144" y="180"/>
                </a:lnTo>
                <a:lnTo>
                  <a:pt x="144" y="171"/>
                </a:lnTo>
                <a:lnTo>
                  <a:pt x="148" y="167"/>
                </a:lnTo>
                <a:lnTo>
                  <a:pt x="153" y="162"/>
                </a:lnTo>
                <a:lnTo>
                  <a:pt x="153" y="158"/>
                </a:lnTo>
                <a:lnTo>
                  <a:pt x="162" y="149"/>
                </a:lnTo>
                <a:lnTo>
                  <a:pt x="157" y="149"/>
                </a:lnTo>
                <a:lnTo>
                  <a:pt x="162" y="149"/>
                </a:lnTo>
                <a:lnTo>
                  <a:pt x="166" y="144"/>
                </a:lnTo>
                <a:lnTo>
                  <a:pt x="166" y="140"/>
                </a:lnTo>
                <a:lnTo>
                  <a:pt x="171" y="135"/>
                </a:lnTo>
                <a:lnTo>
                  <a:pt x="175" y="131"/>
                </a:lnTo>
                <a:lnTo>
                  <a:pt x="180" y="126"/>
                </a:lnTo>
                <a:lnTo>
                  <a:pt x="184" y="122"/>
                </a:lnTo>
                <a:lnTo>
                  <a:pt x="198" y="113"/>
                </a:lnTo>
                <a:lnTo>
                  <a:pt x="193" y="113"/>
                </a:lnTo>
                <a:lnTo>
                  <a:pt x="198" y="113"/>
                </a:lnTo>
                <a:lnTo>
                  <a:pt x="202" y="108"/>
                </a:lnTo>
                <a:lnTo>
                  <a:pt x="207" y="108"/>
                </a:lnTo>
                <a:lnTo>
                  <a:pt x="211" y="108"/>
                </a:lnTo>
                <a:lnTo>
                  <a:pt x="216" y="104"/>
                </a:lnTo>
                <a:lnTo>
                  <a:pt x="220" y="104"/>
                </a:lnTo>
                <a:lnTo>
                  <a:pt x="225" y="104"/>
                </a:lnTo>
                <a:lnTo>
                  <a:pt x="229" y="104"/>
                </a:lnTo>
                <a:lnTo>
                  <a:pt x="234" y="99"/>
                </a:lnTo>
                <a:lnTo>
                  <a:pt x="238" y="99"/>
                </a:lnTo>
                <a:lnTo>
                  <a:pt x="243" y="99"/>
                </a:lnTo>
                <a:lnTo>
                  <a:pt x="247" y="99"/>
                </a:lnTo>
                <a:lnTo>
                  <a:pt x="252" y="99"/>
                </a:lnTo>
                <a:lnTo>
                  <a:pt x="256" y="99"/>
                </a:lnTo>
                <a:lnTo>
                  <a:pt x="261" y="99"/>
                </a:lnTo>
                <a:lnTo>
                  <a:pt x="265" y="99"/>
                </a:lnTo>
                <a:lnTo>
                  <a:pt x="270" y="99"/>
                </a:lnTo>
                <a:lnTo>
                  <a:pt x="274" y="99"/>
                </a:lnTo>
                <a:lnTo>
                  <a:pt x="279" y="99"/>
                </a:lnTo>
                <a:lnTo>
                  <a:pt x="283" y="99"/>
                </a:lnTo>
                <a:lnTo>
                  <a:pt x="288" y="99"/>
                </a:lnTo>
                <a:lnTo>
                  <a:pt x="292" y="99"/>
                </a:lnTo>
                <a:lnTo>
                  <a:pt x="297" y="99"/>
                </a:lnTo>
                <a:lnTo>
                  <a:pt x="301" y="99"/>
                </a:lnTo>
                <a:lnTo>
                  <a:pt x="306" y="99"/>
                </a:lnTo>
                <a:lnTo>
                  <a:pt x="310" y="99"/>
                </a:lnTo>
                <a:lnTo>
                  <a:pt x="315" y="99"/>
                </a:lnTo>
                <a:lnTo>
                  <a:pt x="319" y="104"/>
                </a:lnTo>
                <a:lnTo>
                  <a:pt x="324" y="104"/>
                </a:lnTo>
                <a:lnTo>
                  <a:pt x="328" y="104"/>
                </a:lnTo>
                <a:lnTo>
                  <a:pt x="333" y="104"/>
                </a:lnTo>
                <a:lnTo>
                  <a:pt x="337" y="104"/>
                </a:lnTo>
                <a:lnTo>
                  <a:pt x="342" y="104"/>
                </a:lnTo>
                <a:lnTo>
                  <a:pt x="346" y="104"/>
                </a:lnTo>
                <a:lnTo>
                  <a:pt x="351" y="104"/>
                </a:lnTo>
                <a:lnTo>
                  <a:pt x="355" y="104"/>
                </a:lnTo>
                <a:lnTo>
                  <a:pt x="360" y="104"/>
                </a:lnTo>
                <a:lnTo>
                  <a:pt x="364" y="104"/>
                </a:lnTo>
                <a:lnTo>
                  <a:pt x="369" y="104"/>
                </a:lnTo>
                <a:lnTo>
                  <a:pt x="373" y="104"/>
                </a:lnTo>
                <a:lnTo>
                  <a:pt x="378" y="104"/>
                </a:lnTo>
                <a:lnTo>
                  <a:pt x="382" y="104"/>
                </a:lnTo>
                <a:lnTo>
                  <a:pt x="387" y="99"/>
                </a:lnTo>
                <a:lnTo>
                  <a:pt x="391" y="99"/>
                </a:lnTo>
                <a:lnTo>
                  <a:pt x="396" y="99"/>
                </a:lnTo>
                <a:lnTo>
                  <a:pt x="400" y="99"/>
                </a:lnTo>
                <a:lnTo>
                  <a:pt x="405" y="99"/>
                </a:lnTo>
                <a:lnTo>
                  <a:pt x="409" y="95"/>
                </a:lnTo>
                <a:lnTo>
                  <a:pt x="414" y="95"/>
                </a:lnTo>
                <a:lnTo>
                  <a:pt x="418" y="95"/>
                </a:lnTo>
                <a:lnTo>
                  <a:pt x="423" y="90"/>
                </a:lnTo>
                <a:lnTo>
                  <a:pt x="427" y="90"/>
                </a:lnTo>
                <a:lnTo>
                  <a:pt x="432" y="86"/>
                </a:lnTo>
                <a:lnTo>
                  <a:pt x="436" y="81"/>
                </a:lnTo>
                <a:lnTo>
                  <a:pt x="441" y="81"/>
                </a:lnTo>
                <a:lnTo>
                  <a:pt x="445" y="72"/>
                </a:lnTo>
                <a:lnTo>
                  <a:pt x="450" y="68"/>
                </a:lnTo>
                <a:lnTo>
                  <a:pt x="454" y="63"/>
                </a:lnTo>
                <a:lnTo>
                  <a:pt x="459" y="59"/>
                </a:lnTo>
                <a:lnTo>
                  <a:pt x="463" y="54"/>
                </a:lnTo>
                <a:lnTo>
                  <a:pt x="463" y="50"/>
                </a:lnTo>
                <a:lnTo>
                  <a:pt x="468" y="45"/>
                </a:lnTo>
                <a:lnTo>
                  <a:pt x="472" y="41"/>
                </a:lnTo>
                <a:lnTo>
                  <a:pt x="472" y="36"/>
                </a:lnTo>
                <a:lnTo>
                  <a:pt x="477" y="27"/>
                </a:lnTo>
                <a:lnTo>
                  <a:pt x="477" y="23"/>
                </a:lnTo>
                <a:lnTo>
                  <a:pt x="481" y="18"/>
                </a:lnTo>
                <a:lnTo>
                  <a:pt x="486" y="14"/>
                </a:lnTo>
                <a:lnTo>
                  <a:pt x="486" y="5"/>
                </a:lnTo>
                <a:lnTo>
                  <a:pt x="490" y="0"/>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238640" y="4083120"/>
            <a:ext cx="743040" cy="635040"/>
          </a:xfrm>
          <a:custGeom>
            <a:avLst/>
            <a:gdLst/>
            <a:ahLst/>
            <a:rect l="l" t="t" r="r" b="b"/>
            <a:pathLst>
              <a:path w="468" h="400">
                <a:moveTo>
                  <a:pt x="0" y="400"/>
                </a:moveTo>
                <a:lnTo>
                  <a:pt x="0" y="391"/>
                </a:lnTo>
                <a:lnTo>
                  <a:pt x="5" y="387"/>
                </a:lnTo>
                <a:lnTo>
                  <a:pt x="5" y="378"/>
                </a:lnTo>
                <a:lnTo>
                  <a:pt x="9" y="373"/>
                </a:lnTo>
                <a:lnTo>
                  <a:pt x="14" y="364"/>
                </a:lnTo>
                <a:lnTo>
                  <a:pt x="14" y="355"/>
                </a:lnTo>
                <a:lnTo>
                  <a:pt x="18" y="351"/>
                </a:lnTo>
                <a:lnTo>
                  <a:pt x="18" y="342"/>
                </a:lnTo>
                <a:lnTo>
                  <a:pt x="23" y="333"/>
                </a:lnTo>
                <a:lnTo>
                  <a:pt x="27" y="328"/>
                </a:lnTo>
                <a:lnTo>
                  <a:pt x="27" y="319"/>
                </a:lnTo>
                <a:lnTo>
                  <a:pt x="32" y="310"/>
                </a:lnTo>
                <a:lnTo>
                  <a:pt x="32" y="306"/>
                </a:lnTo>
                <a:lnTo>
                  <a:pt x="36" y="297"/>
                </a:lnTo>
                <a:lnTo>
                  <a:pt x="41" y="288"/>
                </a:lnTo>
                <a:lnTo>
                  <a:pt x="41" y="283"/>
                </a:lnTo>
                <a:lnTo>
                  <a:pt x="45" y="274"/>
                </a:lnTo>
                <a:lnTo>
                  <a:pt x="45" y="270"/>
                </a:lnTo>
                <a:lnTo>
                  <a:pt x="50" y="261"/>
                </a:lnTo>
                <a:lnTo>
                  <a:pt x="54" y="256"/>
                </a:lnTo>
                <a:lnTo>
                  <a:pt x="54" y="252"/>
                </a:lnTo>
                <a:lnTo>
                  <a:pt x="59" y="243"/>
                </a:lnTo>
                <a:lnTo>
                  <a:pt x="59" y="238"/>
                </a:lnTo>
                <a:lnTo>
                  <a:pt x="63" y="234"/>
                </a:lnTo>
                <a:lnTo>
                  <a:pt x="68" y="229"/>
                </a:lnTo>
                <a:lnTo>
                  <a:pt x="68" y="225"/>
                </a:lnTo>
                <a:lnTo>
                  <a:pt x="72" y="220"/>
                </a:lnTo>
                <a:lnTo>
                  <a:pt x="72" y="216"/>
                </a:lnTo>
                <a:lnTo>
                  <a:pt x="77" y="211"/>
                </a:lnTo>
                <a:lnTo>
                  <a:pt x="86" y="202"/>
                </a:lnTo>
                <a:lnTo>
                  <a:pt x="86" y="198"/>
                </a:lnTo>
                <a:lnTo>
                  <a:pt x="90" y="193"/>
                </a:lnTo>
                <a:lnTo>
                  <a:pt x="95" y="189"/>
                </a:lnTo>
                <a:lnTo>
                  <a:pt x="99" y="184"/>
                </a:lnTo>
                <a:lnTo>
                  <a:pt x="104" y="184"/>
                </a:lnTo>
                <a:lnTo>
                  <a:pt x="108" y="180"/>
                </a:lnTo>
                <a:lnTo>
                  <a:pt x="113" y="180"/>
                </a:lnTo>
                <a:lnTo>
                  <a:pt x="117" y="180"/>
                </a:lnTo>
                <a:lnTo>
                  <a:pt x="122" y="175"/>
                </a:lnTo>
                <a:lnTo>
                  <a:pt x="126" y="175"/>
                </a:lnTo>
                <a:lnTo>
                  <a:pt x="131" y="175"/>
                </a:lnTo>
                <a:lnTo>
                  <a:pt x="135" y="171"/>
                </a:lnTo>
                <a:lnTo>
                  <a:pt x="140" y="171"/>
                </a:lnTo>
                <a:lnTo>
                  <a:pt x="144" y="171"/>
                </a:lnTo>
                <a:lnTo>
                  <a:pt x="149" y="171"/>
                </a:lnTo>
                <a:lnTo>
                  <a:pt x="153" y="171"/>
                </a:lnTo>
                <a:lnTo>
                  <a:pt x="158" y="171"/>
                </a:lnTo>
                <a:lnTo>
                  <a:pt x="162" y="171"/>
                </a:lnTo>
                <a:lnTo>
                  <a:pt x="167" y="171"/>
                </a:lnTo>
                <a:lnTo>
                  <a:pt x="171" y="171"/>
                </a:lnTo>
                <a:lnTo>
                  <a:pt x="176" y="171"/>
                </a:lnTo>
                <a:lnTo>
                  <a:pt x="180" y="171"/>
                </a:lnTo>
                <a:lnTo>
                  <a:pt x="185" y="171"/>
                </a:lnTo>
                <a:lnTo>
                  <a:pt x="189" y="171"/>
                </a:lnTo>
                <a:lnTo>
                  <a:pt x="194" y="171"/>
                </a:lnTo>
                <a:lnTo>
                  <a:pt x="198" y="171"/>
                </a:lnTo>
                <a:lnTo>
                  <a:pt x="203" y="175"/>
                </a:lnTo>
                <a:lnTo>
                  <a:pt x="207" y="175"/>
                </a:lnTo>
                <a:lnTo>
                  <a:pt x="212" y="175"/>
                </a:lnTo>
                <a:lnTo>
                  <a:pt x="216" y="175"/>
                </a:lnTo>
                <a:lnTo>
                  <a:pt x="221" y="175"/>
                </a:lnTo>
                <a:lnTo>
                  <a:pt x="225" y="175"/>
                </a:lnTo>
                <a:lnTo>
                  <a:pt x="230" y="175"/>
                </a:lnTo>
                <a:lnTo>
                  <a:pt x="234" y="175"/>
                </a:lnTo>
                <a:lnTo>
                  <a:pt x="239" y="175"/>
                </a:lnTo>
                <a:lnTo>
                  <a:pt x="243" y="175"/>
                </a:lnTo>
                <a:lnTo>
                  <a:pt x="248" y="175"/>
                </a:lnTo>
                <a:lnTo>
                  <a:pt x="252" y="175"/>
                </a:lnTo>
                <a:lnTo>
                  <a:pt x="257" y="175"/>
                </a:lnTo>
                <a:lnTo>
                  <a:pt x="261" y="175"/>
                </a:lnTo>
                <a:lnTo>
                  <a:pt x="266" y="180"/>
                </a:lnTo>
                <a:lnTo>
                  <a:pt x="270" y="180"/>
                </a:lnTo>
                <a:lnTo>
                  <a:pt x="275" y="180"/>
                </a:lnTo>
                <a:lnTo>
                  <a:pt x="279" y="180"/>
                </a:lnTo>
                <a:lnTo>
                  <a:pt x="284" y="180"/>
                </a:lnTo>
                <a:lnTo>
                  <a:pt x="288" y="180"/>
                </a:lnTo>
                <a:lnTo>
                  <a:pt x="293" y="180"/>
                </a:lnTo>
                <a:lnTo>
                  <a:pt x="297" y="180"/>
                </a:lnTo>
                <a:lnTo>
                  <a:pt x="302" y="180"/>
                </a:lnTo>
                <a:lnTo>
                  <a:pt x="306" y="175"/>
                </a:lnTo>
                <a:lnTo>
                  <a:pt x="311" y="175"/>
                </a:lnTo>
                <a:lnTo>
                  <a:pt x="315" y="175"/>
                </a:lnTo>
                <a:lnTo>
                  <a:pt x="320" y="175"/>
                </a:lnTo>
                <a:lnTo>
                  <a:pt x="324" y="175"/>
                </a:lnTo>
                <a:lnTo>
                  <a:pt x="329" y="175"/>
                </a:lnTo>
                <a:lnTo>
                  <a:pt x="333" y="175"/>
                </a:lnTo>
                <a:lnTo>
                  <a:pt x="338" y="171"/>
                </a:lnTo>
                <a:lnTo>
                  <a:pt x="342" y="171"/>
                </a:lnTo>
                <a:lnTo>
                  <a:pt x="347" y="166"/>
                </a:lnTo>
                <a:lnTo>
                  <a:pt x="351" y="166"/>
                </a:lnTo>
                <a:lnTo>
                  <a:pt x="356" y="166"/>
                </a:lnTo>
                <a:lnTo>
                  <a:pt x="360" y="162"/>
                </a:lnTo>
                <a:lnTo>
                  <a:pt x="365" y="157"/>
                </a:lnTo>
                <a:lnTo>
                  <a:pt x="369" y="153"/>
                </a:lnTo>
                <a:lnTo>
                  <a:pt x="374" y="153"/>
                </a:lnTo>
                <a:lnTo>
                  <a:pt x="378" y="144"/>
                </a:lnTo>
                <a:lnTo>
                  <a:pt x="383" y="139"/>
                </a:lnTo>
                <a:lnTo>
                  <a:pt x="387" y="139"/>
                </a:lnTo>
                <a:lnTo>
                  <a:pt x="392" y="130"/>
                </a:lnTo>
                <a:lnTo>
                  <a:pt x="401" y="121"/>
                </a:lnTo>
                <a:lnTo>
                  <a:pt x="396" y="121"/>
                </a:lnTo>
                <a:lnTo>
                  <a:pt x="401" y="121"/>
                </a:lnTo>
                <a:lnTo>
                  <a:pt x="405" y="117"/>
                </a:lnTo>
                <a:lnTo>
                  <a:pt x="405" y="112"/>
                </a:lnTo>
                <a:lnTo>
                  <a:pt x="410" y="108"/>
                </a:lnTo>
                <a:lnTo>
                  <a:pt x="410" y="103"/>
                </a:lnTo>
                <a:lnTo>
                  <a:pt x="414" y="99"/>
                </a:lnTo>
                <a:lnTo>
                  <a:pt x="419" y="94"/>
                </a:lnTo>
                <a:lnTo>
                  <a:pt x="419" y="90"/>
                </a:lnTo>
                <a:lnTo>
                  <a:pt x="423" y="85"/>
                </a:lnTo>
                <a:lnTo>
                  <a:pt x="423" y="81"/>
                </a:lnTo>
                <a:lnTo>
                  <a:pt x="428" y="72"/>
                </a:lnTo>
                <a:lnTo>
                  <a:pt x="432" y="67"/>
                </a:lnTo>
                <a:lnTo>
                  <a:pt x="432" y="63"/>
                </a:lnTo>
                <a:lnTo>
                  <a:pt x="437" y="59"/>
                </a:lnTo>
                <a:lnTo>
                  <a:pt x="437" y="54"/>
                </a:lnTo>
                <a:lnTo>
                  <a:pt x="441" y="50"/>
                </a:lnTo>
                <a:lnTo>
                  <a:pt x="446" y="45"/>
                </a:lnTo>
                <a:lnTo>
                  <a:pt x="446" y="41"/>
                </a:lnTo>
                <a:lnTo>
                  <a:pt x="450" y="32"/>
                </a:lnTo>
                <a:lnTo>
                  <a:pt x="450" y="27"/>
                </a:lnTo>
                <a:lnTo>
                  <a:pt x="455" y="23"/>
                </a:lnTo>
                <a:lnTo>
                  <a:pt x="459" y="18"/>
                </a:lnTo>
                <a:lnTo>
                  <a:pt x="459" y="14"/>
                </a:lnTo>
                <a:lnTo>
                  <a:pt x="464" y="9"/>
                </a:lnTo>
                <a:lnTo>
                  <a:pt x="464" y="5"/>
                </a:lnTo>
                <a:lnTo>
                  <a:pt x="468" y="0"/>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981680" y="3497400"/>
            <a:ext cx="879480" cy="585720"/>
          </a:xfrm>
          <a:custGeom>
            <a:avLst/>
            <a:gdLst/>
            <a:ahLst/>
            <a:rect l="l" t="t" r="r" b="b"/>
            <a:pathLst>
              <a:path w="554" h="369">
                <a:moveTo>
                  <a:pt x="0" y="369"/>
                </a:moveTo>
                <a:lnTo>
                  <a:pt x="5" y="365"/>
                </a:lnTo>
                <a:lnTo>
                  <a:pt x="5" y="360"/>
                </a:lnTo>
                <a:lnTo>
                  <a:pt x="14" y="351"/>
                </a:lnTo>
                <a:lnTo>
                  <a:pt x="9" y="351"/>
                </a:lnTo>
                <a:lnTo>
                  <a:pt x="14" y="351"/>
                </a:lnTo>
                <a:lnTo>
                  <a:pt x="18" y="347"/>
                </a:lnTo>
                <a:lnTo>
                  <a:pt x="18" y="342"/>
                </a:lnTo>
                <a:lnTo>
                  <a:pt x="23" y="338"/>
                </a:lnTo>
                <a:lnTo>
                  <a:pt x="32" y="329"/>
                </a:lnTo>
                <a:lnTo>
                  <a:pt x="27" y="329"/>
                </a:lnTo>
                <a:lnTo>
                  <a:pt x="32" y="329"/>
                </a:lnTo>
                <a:lnTo>
                  <a:pt x="41" y="320"/>
                </a:lnTo>
                <a:lnTo>
                  <a:pt x="41" y="315"/>
                </a:lnTo>
                <a:lnTo>
                  <a:pt x="45" y="315"/>
                </a:lnTo>
                <a:lnTo>
                  <a:pt x="50" y="311"/>
                </a:lnTo>
                <a:lnTo>
                  <a:pt x="54" y="306"/>
                </a:lnTo>
                <a:lnTo>
                  <a:pt x="59" y="306"/>
                </a:lnTo>
                <a:lnTo>
                  <a:pt x="63" y="302"/>
                </a:lnTo>
                <a:lnTo>
                  <a:pt x="68" y="297"/>
                </a:lnTo>
                <a:lnTo>
                  <a:pt x="72" y="297"/>
                </a:lnTo>
                <a:lnTo>
                  <a:pt x="77" y="293"/>
                </a:lnTo>
                <a:lnTo>
                  <a:pt x="81" y="293"/>
                </a:lnTo>
                <a:lnTo>
                  <a:pt x="86" y="293"/>
                </a:lnTo>
                <a:lnTo>
                  <a:pt x="90" y="288"/>
                </a:lnTo>
                <a:lnTo>
                  <a:pt x="95" y="288"/>
                </a:lnTo>
                <a:lnTo>
                  <a:pt x="99" y="288"/>
                </a:lnTo>
                <a:lnTo>
                  <a:pt x="104" y="284"/>
                </a:lnTo>
                <a:lnTo>
                  <a:pt x="108" y="284"/>
                </a:lnTo>
                <a:lnTo>
                  <a:pt x="113" y="284"/>
                </a:lnTo>
                <a:lnTo>
                  <a:pt x="117" y="284"/>
                </a:lnTo>
                <a:lnTo>
                  <a:pt x="122" y="284"/>
                </a:lnTo>
                <a:lnTo>
                  <a:pt x="126" y="279"/>
                </a:lnTo>
                <a:lnTo>
                  <a:pt x="131" y="279"/>
                </a:lnTo>
                <a:lnTo>
                  <a:pt x="135" y="279"/>
                </a:lnTo>
                <a:lnTo>
                  <a:pt x="140" y="279"/>
                </a:lnTo>
                <a:lnTo>
                  <a:pt x="144" y="279"/>
                </a:lnTo>
                <a:lnTo>
                  <a:pt x="149" y="279"/>
                </a:lnTo>
                <a:lnTo>
                  <a:pt x="153" y="275"/>
                </a:lnTo>
                <a:lnTo>
                  <a:pt x="158" y="275"/>
                </a:lnTo>
                <a:lnTo>
                  <a:pt x="162" y="275"/>
                </a:lnTo>
                <a:lnTo>
                  <a:pt x="167" y="275"/>
                </a:lnTo>
                <a:lnTo>
                  <a:pt x="171" y="275"/>
                </a:lnTo>
                <a:lnTo>
                  <a:pt x="176" y="275"/>
                </a:lnTo>
                <a:lnTo>
                  <a:pt x="180" y="270"/>
                </a:lnTo>
                <a:lnTo>
                  <a:pt x="185" y="270"/>
                </a:lnTo>
                <a:lnTo>
                  <a:pt x="189" y="270"/>
                </a:lnTo>
                <a:lnTo>
                  <a:pt x="194" y="270"/>
                </a:lnTo>
                <a:lnTo>
                  <a:pt x="198" y="270"/>
                </a:lnTo>
                <a:lnTo>
                  <a:pt x="203" y="266"/>
                </a:lnTo>
                <a:lnTo>
                  <a:pt x="207" y="266"/>
                </a:lnTo>
                <a:lnTo>
                  <a:pt x="212" y="266"/>
                </a:lnTo>
                <a:lnTo>
                  <a:pt x="216" y="266"/>
                </a:lnTo>
                <a:lnTo>
                  <a:pt x="221" y="261"/>
                </a:lnTo>
                <a:lnTo>
                  <a:pt x="225" y="261"/>
                </a:lnTo>
                <a:lnTo>
                  <a:pt x="230" y="261"/>
                </a:lnTo>
                <a:lnTo>
                  <a:pt x="234" y="257"/>
                </a:lnTo>
                <a:lnTo>
                  <a:pt x="239" y="257"/>
                </a:lnTo>
                <a:lnTo>
                  <a:pt x="243" y="257"/>
                </a:lnTo>
                <a:lnTo>
                  <a:pt x="248" y="252"/>
                </a:lnTo>
                <a:lnTo>
                  <a:pt x="252" y="252"/>
                </a:lnTo>
                <a:lnTo>
                  <a:pt x="257" y="248"/>
                </a:lnTo>
                <a:lnTo>
                  <a:pt x="261" y="248"/>
                </a:lnTo>
                <a:lnTo>
                  <a:pt x="266" y="243"/>
                </a:lnTo>
                <a:lnTo>
                  <a:pt x="270" y="243"/>
                </a:lnTo>
                <a:lnTo>
                  <a:pt x="275" y="239"/>
                </a:lnTo>
                <a:lnTo>
                  <a:pt x="279" y="234"/>
                </a:lnTo>
                <a:lnTo>
                  <a:pt x="284" y="234"/>
                </a:lnTo>
                <a:lnTo>
                  <a:pt x="288" y="230"/>
                </a:lnTo>
                <a:lnTo>
                  <a:pt x="293" y="225"/>
                </a:lnTo>
                <a:lnTo>
                  <a:pt x="297" y="225"/>
                </a:lnTo>
                <a:lnTo>
                  <a:pt x="302" y="221"/>
                </a:lnTo>
                <a:lnTo>
                  <a:pt x="306" y="216"/>
                </a:lnTo>
                <a:lnTo>
                  <a:pt x="311" y="212"/>
                </a:lnTo>
                <a:lnTo>
                  <a:pt x="315" y="207"/>
                </a:lnTo>
                <a:lnTo>
                  <a:pt x="320" y="203"/>
                </a:lnTo>
                <a:lnTo>
                  <a:pt x="324" y="203"/>
                </a:lnTo>
                <a:lnTo>
                  <a:pt x="329" y="194"/>
                </a:lnTo>
                <a:lnTo>
                  <a:pt x="333" y="189"/>
                </a:lnTo>
                <a:lnTo>
                  <a:pt x="338" y="189"/>
                </a:lnTo>
                <a:lnTo>
                  <a:pt x="342" y="180"/>
                </a:lnTo>
                <a:lnTo>
                  <a:pt x="347" y="176"/>
                </a:lnTo>
                <a:lnTo>
                  <a:pt x="351" y="176"/>
                </a:lnTo>
                <a:lnTo>
                  <a:pt x="356" y="167"/>
                </a:lnTo>
                <a:lnTo>
                  <a:pt x="360" y="162"/>
                </a:lnTo>
                <a:lnTo>
                  <a:pt x="365" y="158"/>
                </a:lnTo>
                <a:lnTo>
                  <a:pt x="369" y="153"/>
                </a:lnTo>
                <a:lnTo>
                  <a:pt x="374" y="149"/>
                </a:lnTo>
                <a:lnTo>
                  <a:pt x="378" y="144"/>
                </a:lnTo>
                <a:lnTo>
                  <a:pt x="383" y="140"/>
                </a:lnTo>
                <a:lnTo>
                  <a:pt x="392" y="131"/>
                </a:lnTo>
                <a:lnTo>
                  <a:pt x="392" y="126"/>
                </a:lnTo>
                <a:lnTo>
                  <a:pt x="396" y="126"/>
                </a:lnTo>
                <a:lnTo>
                  <a:pt x="401" y="117"/>
                </a:lnTo>
                <a:lnTo>
                  <a:pt x="405" y="113"/>
                </a:lnTo>
                <a:lnTo>
                  <a:pt x="410" y="108"/>
                </a:lnTo>
                <a:lnTo>
                  <a:pt x="414" y="104"/>
                </a:lnTo>
                <a:lnTo>
                  <a:pt x="419" y="99"/>
                </a:lnTo>
                <a:lnTo>
                  <a:pt x="423" y="99"/>
                </a:lnTo>
                <a:lnTo>
                  <a:pt x="428" y="90"/>
                </a:lnTo>
                <a:lnTo>
                  <a:pt x="432" y="86"/>
                </a:lnTo>
                <a:lnTo>
                  <a:pt x="437" y="86"/>
                </a:lnTo>
                <a:lnTo>
                  <a:pt x="441" y="81"/>
                </a:lnTo>
                <a:lnTo>
                  <a:pt x="446" y="77"/>
                </a:lnTo>
                <a:lnTo>
                  <a:pt x="450" y="72"/>
                </a:lnTo>
                <a:lnTo>
                  <a:pt x="455" y="68"/>
                </a:lnTo>
                <a:lnTo>
                  <a:pt x="459" y="63"/>
                </a:lnTo>
                <a:lnTo>
                  <a:pt x="464" y="63"/>
                </a:lnTo>
                <a:lnTo>
                  <a:pt x="468" y="59"/>
                </a:lnTo>
                <a:lnTo>
                  <a:pt x="473" y="54"/>
                </a:lnTo>
                <a:lnTo>
                  <a:pt x="477" y="50"/>
                </a:lnTo>
                <a:lnTo>
                  <a:pt x="482" y="50"/>
                </a:lnTo>
                <a:lnTo>
                  <a:pt x="486" y="45"/>
                </a:lnTo>
                <a:lnTo>
                  <a:pt x="491" y="41"/>
                </a:lnTo>
                <a:lnTo>
                  <a:pt x="495" y="36"/>
                </a:lnTo>
                <a:lnTo>
                  <a:pt x="500" y="36"/>
                </a:lnTo>
                <a:lnTo>
                  <a:pt x="504" y="32"/>
                </a:lnTo>
                <a:lnTo>
                  <a:pt x="509" y="27"/>
                </a:lnTo>
                <a:lnTo>
                  <a:pt x="513" y="27"/>
                </a:lnTo>
                <a:lnTo>
                  <a:pt x="518" y="23"/>
                </a:lnTo>
                <a:lnTo>
                  <a:pt x="522" y="23"/>
                </a:lnTo>
                <a:lnTo>
                  <a:pt x="527" y="18"/>
                </a:lnTo>
                <a:lnTo>
                  <a:pt x="531" y="14"/>
                </a:lnTo>
                <a:lnTo>
                  <a:pt x="536" y="14"/>
                </a:lnTo>
                <a:lnTo>
                  <a:pt x="540" y="9"/>
                </a:lnTo>
                <a:lnTo>
                  <a:pt x="545" y="5"/>
                </a:lnTo>
                <a:lnTo>
                  <a:pt x="549" y="5"/>
                </a:lnTo>
                <a:lnTo>
                  <a:pt x="554" y="0"/>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861160" y="2897280"/>
            <a:ext cx="906480" cy="600120"/>
          </a:xfrm>
          <a:custGeom>
            <a:avLst/>
            <a:gdLst/>
            <a:ahLst/>
            <a:rect l="l" t="t" r="r" b="b"/>
            <a:pathLst>
              <a:path w="571" h="378">
                <a:moveTo>
                  <a:pt x="0" y="378"/>
                </a:moveTo>
                <a:lnTo>
                  <a:pt x="4" y="374"/>
                </a:lnTo>
                <a:lnTo>
                  <a:pt x="9" y="374"/>
                </a:lnTo>
                <a:lnTo>
                  <a:pt x="13" y="369"/>
                </a:lnTo>
                <a:lnTo>
                  <a:pt x="18" y="369"/>
                </a:lnTo>
                <a:lnTo>
                  <a:pt x="22" y="365"/>
                </a:lnTo>
                <a:lnTo>
                  <a:pt x="27" y="365"/>
                </a:lnTo>
                <a:lnTo>
                  <a:pt x="31" y="360"/>
                </a:lnTo>
                <a:lnTo>
                  <a:pt x="36" y="360"/>
                </a:lnTo>
                <a:lnTo>
                  <a:pt x="40" y="356"/>
                </a:lnTo>
                <a:lnTo>
                  <a:pt x="45" y="351"/>
                </a:lnTo>
                <a:lnTo>
                  <a:pt x="49" y="351"/>
                </a:lnTo>
                <a:lnTo>
                  <a:pt x="54" y="347"/>
                </a:lnTo>
                <a:lnTo>
                  <a:pt x="58" y="342"/>
                </a:lnTo>
                <a:lnTo>
                  <a:pt x="63" y="342"/>
                </a:lnTo>
                <a:lnTo>
                  <a:pt x="67" y="338"/>
                </a:lnTo>
                <a:lnTo>
                  <a:pt x="72" y="338"/>
                </a:lnTo>
                <a:lnTo>
                  <a:pt x="76" y="333"/>
                </a:lnTo>
                <a:lnTo>
                  <a:pt x="81" y="333"/>
                </a:lnTo>
                <a:lnTo>
                  <a:pt x="85" y="329"/>
                </a:lnTo>
                <a:lnTo>
                  <a:pt x="90" y="324"/>
                </a:lnTo>
                <a:lnTo>
                  <a:pt x="94" y="324"/>
                </a:lnTo>
                <a:lnTo>
                  <a:pt x="99" y="320"/>
                </a:lnTo>
                <a:lnTo>
                  <a:pt x="103" y="320"/>
                </a:lnTo>
                <a:lnTo>
                  <a:pt x="108" y="315"/>
                </a:lnTo>
                <a:lnTo>
                  <a:pt x="112" y="315"/>
                </a:lnTo>
                <a:lnTo>
                  <a:pt x="117" y="311"/>
                </a:lnTo>
                <a:lnTo>
                  <a:pt x="121" y="311"/>
                </a:lnTo>
                <a:lnTo>
                  <a:pt x="126" y="306"/>
                </a:lnTo>
                <a:lnTo>
                  <a:pt x="130" y="302"/>
                </a:lnTo>
                <a:lnTo>
                  <a:pt x="135" y="302"/>
                </a:lnTo>
                <a:lnTo>
                  <a:pt x="139" y="297"/>
                </a:lnTo>
                <a:lnTo>
                  <a:pt x="144" y="297"/>
                </a:lnTo>
                <a:lnTo>
                  <a:pt x="148" y="293"/>
                </a:lnTo>
                <a:lnTo>
                  <a:pt x="153" y="293"/>
                </a:lnTo>
                <a:lnTo>
                  <a:pt x="157" y="288"/>
                </a:lnTo>
                <a:lnTo>
                  <a:pt x="162" y="288"/>
                </a:lnTo>
                <a:lnTo>
                  <a:pt x="166" y="284"/>
                </a:lnTo>
                <a:lnTo>
                  <a:pt x="171" y="279"/>
                </a:lnTo>
                <a:lnTo>
                  <a:pt x="175" y="279"/>
                </a:lnTo>
                <a:lnTo>
                  <a:pt x="180" y="275"/>
                </a:lnTo>
                <a:lnTo>
                  <a:pt x="184" y="275"/>
                </a:lnTo>
                <a:lnTo>
                  <a:pt x="189" y="270"/>
                </a:lnTo>
                <a:lnTo>
                  <a:pt x="193" y="270"/>
                </a:lnTo>
                <a:lnTo>
                  <a:pt x="198" y="266"/>
                </a:lnTo>
                <a:lnTo>
                  <a:pt x="202" y="261"/>
                </a:lnTo>
                <a:lnTo>
                  <a:pt x="207" y="261"/>
                </a:lnTo>
                <a:lnTo>
                  <a:pt x="211" y="257"/>
                </a:lnTo>
                <a:lnTo>
                  <a:pt x="216" y="257"/>
                </a:lnTo>
                <a:lnTo>
                  <a:pt x="220" y="252"/>
                </a:lnTo>
                <a:lnTo>
                  <a:pt x="225" y="252"/>
                </a:lnTo>
                <a:lnTo>
                  <a:pt x="229" y="248"/>
                </a:lnTo>
                <a:lnTo>
                  <a:pt x="234" y="248"/>
                </a:lnTo>
                <a:lnTo>
                  <a:pt x="238" y="243"/>
                </a:lnTo>
                <a:lnTo>
                  <a:pt x="243" y="239"/>
                </a:lnTo>
                <a:lnTo>
                  <a:pt x="247" y="239"/>
                </a:lnTo>
                <a:lnTo>
                  <a:pt x="252" y="234"/>
                </a:lnTo>
                <a:lnTo>
                  <a:pt x="256" y="234"/>
                </a:lnTo>
                <a:lnTo>
                  <a:pt x="261" y="230"/>
                </a:lnTo>
                <a:lnTo>
                  <a:pt x="265" y="225"/>
                </a:lnTo>
                <a:lnTo>
                  <a:pt x="270" y="225"/>
                </a:lnTo>
                <a:lnTo>
                  <a:pt x="274" y="221"/>
                </a:lnTo>
                <a:lnTo>
                  <a:pt x="279" y="221"/>
                </a:lnTo>
                <a:lnTo>
                  <a:pt x="283" y="216"/>
                </a:lnTo>
                <a:lnTo>
                  <a:pt x="288" y="212"/>
                </a:lnTo>
                <a:lnTo>
                  <a:pt x="292" y="212"/>
                </a:lnTo>
                <a:lnTo>
                  <a:pt x="297" y="207"/>
                </a:lnTo>
                <a:lnTo>
                  <a:pt x="301" y="203"/>
                </a:lnTo>
                <a:lnTo>
                  <a:pt x="306" y="198"/>
                </a:lnTo>
                <a:lnTo>
                  <a:pt x="310" y="198"/>
                </a:lnTo>
                <a:lnTo>
                  <a:pt x="315" y="194"/>
                </a:lnTo>
                <a:lnTo>
                  <a:pt x="319" y="189"/>
                </a:lnTo>
                <a:lnTo>
                  <a:pt x="324" y="185"/>
                </a:lnTo>
                <a:lnTo>
                  <a:pt x="328" y="185"/>
                </a:lnTo>
                <a:lnTo>
                  <a:pt x="333" y="180"/>
                </a:lnTo>
                <a:lnTo>
                  <a:pt x="337" y="176"/>
                </a:lnTo>
                <a:lnTo>
                  <a:pt x="342" y="171"/>
                </a:lnTo>
                <a:lnTo>
                  <a:pt x="346" y="171"/>
                </a:lnTo>
                <a:lnTo>
                  <a:pt x="351" y="167"/>
                </a:lnTo>
                <a:lnTo>
                  <a:pt x="355" y="162"/>
                </a:lnTo>
                <a:lnTo>
                  <a:pt x="360" y="158"/>
                </a:lnTo>
                <a:lnTo>
                  <a:pt x="364" y="153"/>
                </a:lnTo>
                <a:lnTo>
                  <a:pt x="369" y="149"/>
                </a:lnTo>
                <a:lnTo>
                  <a:pt x="373" y="149"/>
                </a:lnTo>
                <a:lnTo>
                  <a:pt x="378" y="144"/>
                </a:lnTo>
                <a:lnTo>
                  <a:pt x="382" y="140"/>
                </a:lnTo>
                <a:lnTo>
                  <a:pt x="387" y="135"/>
                </a:lnTo>
                <a:lnTo>
                  <a:pt x="391" y="131"/>
                </a:lnTo>
                <a:lnTo>
                  <a:pt x="396" y="126"/>
                </a:lnTo>
                <a:lnTo>
                  <a:pt x="400" y="126"/>
                </a:lnTo>
                <a:lnTo>
                  <a:pt x="405" y="122"/>
                </a:lnTo>
                <a:lnTo>
                  <a:pt x="409" y="117"/>
                </a:lnTo>
                <a:lnTo>
                  <a:pt x="414" y="113"/>
                </a:lnTo>
                <a:lnTo>
                  <a:pt x="418" y="108"/>
                </a:lnTo>
                <a:lnTo>
                  <a:pt x="423" y="104"/>
                </a:lnTo>
                <a:lnTo>
                  <a:pt x="427" y="104"/>
                </a:lnTo>
                <a:lnTo>
                  <a:pt x="432" y="99"/>
                </a:lnTo>
                <a:lnTo>
                  <a:pt x="436" y="90"/>
                </a:lnTo>
                <a:lnTo>
                  <a:pt x="441" y="86"/>
                </a:lnTo>
                <a:lnTo>
                  <a:pt x="445" y="86"/>
                </a:lnTo>
                <a:lnTo>
                  <a:pt x="450" y="81"/>
                </a:lnTo>
                <a:lnTo>
                  <a:pt x="454" y="77"/>
                </a:lnTo>
                <a:lnTo>
                  <a:pt x="459" y="77"/>
                </a:lnTo>
                <a:lnTo>
                  <a:pt x="463" y="72"/>
                </a:lnTo>
                <a:lnTo>
                  <a:pt x="468" y="68"/>
                </a:lnTo>
                <a:lnTo>
                  <a:pt x="472" y="63"/>
                </a:lnTo>
                <a:lnTo>
                  <a:pt x="477" y="59"/>
                </a:lnTo>
                <a:lnTo>
                  <a:pt x="481" y="54"/>
                </a:lnTo>
                <a:lnTo>
                  <a:pt x="486" y="54"/>
                </a:lnTo>
                <a:lnTo>
                  <a:pt x="490" y="50"/>
                </a:lnTo>
                <a:lnTo>
                  <a:pt x="495" y="45"/>
                </a:lnTo>
                <a:lnTo>
                  <a:pt x="499" y="45"/>
                </a:lnTo>
                <a:lnTo>
                  <a:pt x="504" y="41"/>
                </a:lnTo>
                <a:lnTo>
                  <a:pt x="508" y="36"/>
                </a:lnTo>
                <a:lnTo>
                  <a:pt x="513" y="36"/>
                </a:lnTo>
                <a:lnTo>
                  <a:pt x="517" y="32"/>
                </a:lnTo>
                <a:lnTo>
                  <a:pt x="522" y="27"/>
                </a:lnTo>
                <a:lnTo>
                  <a:pt x="526" y="27"/>
                </a:lnTo>
                <a:lnTo>
                  <a:pt x="531" y="23"/>
                </a:lnTo>
                <a:lnTo>
                  <a:pt x="535" y="23"/>
                </a:lnTo>
                <a:lnTo>
                  <a:pt x="540" y="18"/>
                </a:lnTo>
                <a:lnTo>
                  <a:pt x="544" y="18"/>
                </a:lnTo>
                <a:lnTo>
                  <a:pt x="549" y="14"/>
                </a:lnTo>
                <a:lnTo>
                  <a:pt x="553" y="14"/>
                </a:lnTo>
                <a:lnTo>
                  <a:pt x="558" y="9"/>
                </a:lnTo>
                <a:lnTo>
                  <a:pt x="562" y="5"/>
                </a:lnTo>
                <a:lnTo>
                  <a:pt x="567" y="5"/>
                </a:lnTo>
                <a:lnTo>
                  <a:pt x="571" y="0"/>
                </a:lnTo>
              </a:path>
            </a:pathLst>
          </a:custGeom>
          <a:noFill/>
          <a:ln w="284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767640" y="2811600"/>
            <a:ext cx="179280" cy="85680"/>
          </a:xfrm>
          <a:custGeom>
            <a:avLst/>
            <a:gdLst/>
            <a:ahLst/>
            <a:rect l="l" t="t" r="r" b="b"/>
            <a:pathLst>
              <a:path w="113" h="54">
                <a:moveTo>
                  <a:pt x="0" y="54"/>
                </a:moveTo>
                <a:lnTo>
                  <a:pt x="5" y="54"/>
                </a:lnTo>
                <a:lnTo>
                  <a:pt x="9" y="50"/>
                </a:lnTo>
                <a:lnTo>
                  <a:pt x="14" y="50"/>
                </a:lnTo>
                <a:lnTo>
                  <a:pt x="18" y="45"/>
                </a:lnTo>
                <a:lnTo>
                  <a:pt x="23" y="45"/>
                </a:lnTo>
                <a:lnTo>
                  <a:pt x="27" y="45"/>
                </a:lnTo>
                <a:lnTo>
                  <a:pt x="32" y="41"/>
                </a:lnTo>
                <a:lnTo>
                  <a:pt x="36" y="36"/>
                </a:lnTo>
                <a:lnTo>
                  <a:pt x="41" y="36"/>
                </a:lnTo>
                <a:lnTo>
                  <a:pt x="45" y="36"/>
                </a:lnTo>
                <a:lnTo>
                  <a:pt x="50" y="32"/>
                </a:lnTo>
                <a:lnTo>
                  <a:pt x="54" y="32"/>
                </a:lnTo>
                <a:lnTo>
                  <a:pt x="59" y="27"/>
                </a:lnTo>
                <a:lnTo>
                  <a:pt x="63" y="27"/>
                </a:lnTo>
                <a:lnTo>
                  <a:pt x="68" y="23"/>
                </a:lnTo>
                <a:lnTo>
                  <a:pt x="72" y="23"/>
                </a:lnTo>
                <a:lnTo>
                  <a:pt x="77" y="18"/>
                </a:lnTo>
                <a:lnTo>
                  <a:pt x="81" y="18"/>
                </a:lnTo>
                <a:lnTo>
                  <a:pt x="86" y="14"/>
                </a:lnTo>
                <a:lnTo>
                  <a:pt x="90" y="9"/>
                </a:lnTo>
                <a:lnTo>
                  <a:pt x="95" y="9"/>
                </a:lnTo>
                <a:lnTo>
                  <a:pt x="99" y="5"/>
                </a:lnTo>
                <a:lnTo>
                  <a:pt x="104" y="5"/>
                </a:lnTo>
                <a:lnTo>
                  <a:pt x="108" y="0"/>
                </a:lnTo>
                <a:lnTo>
                  <a:pt x="113" y="0"/>
                </a:lnTo>
              </a:path>
            </a:pathLst>
          </a:custGeom>
          <a:noFill/>
          <a:ln w="14400">
            <a:solidFill>
              <a:srgbClr val="ff0000"/>
            </a:solidFill>
            <a:prstDash val="sysDash"/>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4480560" y="607392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1114" name=""/>
          <p:cNvSpPr/>
          <p:nvPr/>
        </p:nvSpPr>
        <p:spPr>
          <a:xfrm rot="16200000">
            <a:off x="2008080" y="397260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1115" name=""/>
          <p:cNvSpPr/>
          <p:nvPr/>
        </p:nvSpPr>
        <p:spPr>
          <a:xfrm>
            <a:off x="6281640" y="2490840"/>
            <a:ext cx="61452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281640" y="2490840"/>
            <a:ext cx="614520" cy="257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281640" y="2490840"/>
            <a:ext cx="61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6281640" y="2747880"/>
            <a:ext cx="61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flipV="1">
            <a:off x="6896160" y="2490840"/>
            <a:ext cx="144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6281640" y="2490840"/>
            <a:ext cx="180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281640" y="2747880"/>
            <a:ext cx="61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2" name=""/>
          <p:cNvSpPr/>
          <p:nvPr/>
        </p:nvSpPr>
        <p:spPr>
          <a:xfrm flipV="1">
            <a:off x="6281640" y="2490840"/>
            <a:ext cx="180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281640" y="2490840"/>
            <a:ext cx="61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6281640" y="2747880"/>
            <a:ext cx="61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flipV="1">
            <a:off x="6896160" y="2490840"/>
            <a:ext cx="144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V="1">
            <a:off x="6281640" y="2490840"/>
            <a:ext cx="180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552720" y="2505240"/>
            <a:ext cx="148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IR</a:t>
            </a:r>
            <a:endParaRPr b="0" lang="en-US" sz="700" spc="-1" strike="noStrike">
              <a:solidFill>
                <a:srgbClr val="000000"/>
              </a:solidFill>
              <a:latin typeface="Times New Roman"/>
            </a:endParaRPr>
          </a:p>
        </p:txBody>
      </p:sp>
      <p:sp>
        <p:nvSpPr>
          <p:cNvPr id="1128" name=""/>
          <p:cNvSpPr/>
          <p:nvPr/>
        </p:nvSpPr>
        <p:spPr>
          <a:xfrm>
            <a:off x="6555240" y="2619360"/>
            <a:ext cx="26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OT</a:t>
            </a:r>
            <a:endParaRPr b="0" lang="en-US" sz="700" spc="-1" strike="noStrike">
              <a:solidFill>
                <a:srgbClr val="000000"/>
              </a:solidFill>
              <a:latin typeface="Times New Roman"/>
            </a:endParaRPr>
          </a:p>
        </p:txBody>
      </p:sp>
      <p:sp>
        <p:nvSpPr>
          <p:cNvPr id="1129" name=""/>
          <p:cNvSpPr/>
          <p:nvPr/>
        </p:nvSpPr>
        <p:spPr>
          <a:xfrm>
            <a:off x="6332400" y="2562120"/>
            <a:ext cx="163800" cy="1800"/>
          </a:xfrm>
          <a:prstGeom prst="line">
            <a:avLst/>
          </a:prstGeom>
          <a:ln w="14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a:off x="6332400" y="2676600"/>
            <a:ext cx="163800" cy="1440"/>
          </a:xfrm>
          <a:prstGeom prst="line">
            <a:avLst/>
          </a:prstGeom>
          <a:ln w="14400">
            <a:solidFill>
              <a:srgbClr val="ff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3696120" y="3233880"/>
            <a:ext cx="34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0 </a:t>
            </a:r>
            <a:endParaRPr b="0" lang="en-US" sz="1000" spc="-1" strike="noStrike">
              <a:solidFill>
                <a:srgbClr val="000000"/>
              </a:solidFill>
              <a:latin typeface="Times New Roman"/>
            </a:endParaRPr>
          </a:p>
        </p:txBody>
      </p:sp>
      <p:sp>
        <p:nvSpPr>
          <p:cNvPr id="1132" name=""/>
          <p:cNvSpPr/>
          <p:nvPr/>
        </p:nvSpPr>
        <p:spPr>
          <a:xfrm flipH="1">
            <a:off x="5867280" y="35812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696080" y="3352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erical errors in MOOT</a:t>
            </a:r>
            <a:endParaRPr b="0" lang="en-US" sz="1800" spc="-1" strike="noStrike">
              <a:solidFill>
                <a:srgbClr val="000000"/>
              </a:solidFill>
              <a:latin typeface="Times New Roman"/>
            </a:endParaRPr>
          </a:p>
        </p:txBody>
      </p:sp>
      <p:sp>
        <p:nvSpPr>
          <p:cNvPr id="1134"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4302000" y="5307120"/>
            <a:ext cx="666720" cy="1150920"/>
          </a:xfrm>
          <a:custGeom>
            <a:avLst/>
            <a:gdLst/>
            <a:ahLst/>
            <a:rect l="l" t="t" r="r" b="b"/>
            <a:pathLst>
              <a:path w="680" h="1063">
                <a:moveTo>
                  <a:pt x="0" y="160"/>
                </a:moveTo>
                <a:lnTo>
                  <a:pt x="6" y="160"/>
                </a:lnTo>
                <a:lnTo>
                  <a:pt x="11" y="160"/>
                </a:lnTo>
                <a:lnTo>
                  <a:pt x="17" y="160"/>
                </a:lnTo>
                <a:lnTo>
                  <a:pt x="23" y="160"/>
                </a:lnTo>
                <a:lnTo>
                  <a:pt x="28" y="160"/>
                </a:lnTo>
                <a:lnTo>
                  <a:pt x="34" y="160"/>
                </a:lnTo>
                <a:lnTo>
                  <a:pt x="40" y="160"/>
                </a:lnTo>
                <a:lnTo>
                  <a:pt x="45" y="160"/>
                </a:lnTo>
                <a:lnTo>
                  <a:pt x="51" y="160"/>
                </a:lnTo>
                <a:lnTo>
                  <a:pt x="57" y="160"/>
                </a:lnTo>
                <a:lnTo>
                  <a:pt x="62" y="160"/>
                </a:lnTo>
                <a:lnTo>
                  <a:pt x="68" y="160"/>
                </a:lnTo>
                <a:lnTo>
                  <a:pt x="74" y="160"/>
                </a:lnTo>
                <a:lnTo>
                  <a:pt x="79" y="160"/>
                </a:lnTo>
                <a:lnTo>
                  <a:pt x="85" y="160"/>
                </a:lnTo>
                <a:lnTo>
                  <a:pt x="91" y="160"/>
                </a:lnTo>
                <a:lnTo>
                  <a:pt x="96" y="160"/>
                </a:lnTo>
                <a:lnTo>
                  <a:pt x="102" y="160"/>
                </a:lnTo>
                <a:lnTo>
                  <a:pt x="108" y="160"/>
                </a:lnTo>
                <a:lnTo>
                  <a:pt x="113" y="160"/>
                </a:lnTo>
                <a:lnTo>
                  <a:pt x="119" y="160"/>
                </a:lnTo>
                <a:lnTo>
                  <a:pt x="125" y="160"/>
                </a:lnTo>
                <a:lnTo>
                  <a:pt x="130" y="160"/>
                </a:lnTo>
                <a:lnTo>
                  <a:pt x="136" y="160"/>
                </a:lnTo>
                <a:lnTo>
                  <a:pt x="142" y="160"/>
                </a:lnTo>
                <a:lnTo>
                  <a:pt x="147" y="160"/>
                </a:lnTo>
                <a:lnTo>
                  <a:pt x="153" y="160"/>
                </a:lnTo>
                <a:lnTo>
                  <a:pt x="159" y="160"/>
                </a:lnTo>
                <a:lnTo>
                  <a:pt x="164" y="160"/>
                </a:lnTo>
                <a:lnTo>
                  <a:pt x="170" y="160"/>
                </a:lnTo>
                <a:lnTo>
                  <a:pt x="176" y="160"/>
                </a:lnTo>
                <a:lnTo>
                  <a:pt x="181" y="160"/>
                </a:lnTo>
                <a:lnTo>
                  <a:pt x="187" y="160"/>
                </a:lnTo>
                <a:lnTo>
                  <a:pt x="193" y="160"/>
                </a:lnTo>
                <a:lnTo>
                  <a:pt x="198" y="160"/>
                </a:lnTo>
                <a:lnTo>
                  <a:pt x="204" y="160"/>
                </a:lnTo>
                <a:lnTo>
                  <a:pt x="210" y="1063"/>
                </a:lnTo>
                <a:lnTo>
                  <a:pt x="215" y="877"/>
                </a:lnTo>
                <a:lnTo>
                  <a:pt x="221" y="771"/>
                </a:lnTo>
                <a:lnTo>
                  <a:pt x="221" y="697"/>
                </a:lnTo>
                <a:lnTo>
                  <a:pt x="227" y="643"/>
                </a:lnTo>
                <a:lnTo>
                  <a:pt x="232" y="601"/>
                </a:lnTo>
                <a:lnTo>
                  <a:pt x="238" y="564"/>
                </a:lnTo>
                <a:lnTo>
                  <a:pt x="244" y="537"/>
                </a:lnTo>
                <a:lnTo>
                  <a:pt x="249" y="511"/>
                </a:lnTo>
                <a:lnTo>
                  <a:pt x="255" y="489"/>
                </a:lnTo>
                <a:lnTo>
                  <a:pt x="261" y="468"/>
                </a:lnTo>
                <a:lnTo>
                  <a:pt x="261" y="452"/>
                </a:lnTo>
                <a:lnTo>
                  <a:pt x="266" y="436"/>
                </a:lnTo>
                <a:lnTo>
                  <a:pt x="272" y="426"/>
                </a:lnTo>
                <a:lnTo>
                  <a:pt x="278" y="410"/>
                </a:lnTo>
                <a:lnTo>
                  <a:pt x="283" y="399"/>
                </a:lnTo>
                <a:lnTo>
                  <a:pt x="289" y="388"/>
                </a:lnTo>
                <a:lnTo>
                  <a:pt x="295" y="378"/>
                </a:lnTo>
                <a:lnTo>
                  <a:pt x="300" y="367"/>
                </a:lnTo>
                <a:lnTo>
                  <a:pt x="300" y="362"/>
                </a:lnTo>
                <a:lnTo>
                  <a:pt x="306" y="351"/>
                </a:lnTo>
                <a:lnTo>
                  <a:pt x="312" y="340"/>
                </a:lnTo>
                <a:lnTo>
                  <a:pt x="317" y="335"/>
                </a:lnTo>
                <a:lnTo>
                  <a:pt x="323" y="330"/>
                </a:lnTo>
                <a:lnTo>
                  <a:pt x="329" y="319"/>
                </a:lnTo>
                <a:lnTo>
                  <a:pt x="334" y="314"/>
                </a:lnTo>
                <a:lnTo>
                  <a:pt x="334" y="309"/>
                </a:lnTo>
                <a:lnTo>
                  <a:pt x="340" y="303"/>
                </a:lnTo>
                <a:lnTo>
                  <a:pt x="346" y="298"/>
                </a:lnTo>
                <a:lnTo>
                  <a:pt x="351" y="293"/>
                </a:lnTo>
                <a:lnTo>
                  <a:pt x="357" y="282"/>
                </a:lnTo>
                <a:lnTo>
                  <a:pt x="363" y="277"/>
                </a:lnTo>
                <a:lnTo>
                  <a:pt x="368" y="271"/>
                </a:lnTo>
                <a:lnTo>
                  <a:pt x="374" y="266"/>
                </a:lnTo>
                <a:lnTo>
                  <a:pt x="380" y="261"/>
                </a:lnTo>
                <a:lnTo>
                  <a:pt x="385" y="255"/>
                </a:lnTo>
                <a:lnTo>
                  <a:pt x="391" y="250"/>
                </a:lnTo>
                <a:lnTo>
                  <a:pt x="397" y="245"/>
                </a:lnTo>
                <a:lnTo>
                  <a:pt x="402" y="240"/>
                </a:lnTo>
                <a:lnTo>
                  <a:pt x="408" y="234"/>
                </a:lnTo>
                <a:lnTo>
                  <a:pt x="414" y="229"/>
                </a:lnTo>
                <a:lnTo>
                  <a:pt x="419" y="224"/>
                </a:lnTo>
                <a:lnTo>
                  <a:pt x="425" y="218"/>
                </a:lnTo>
                <a:lnTo>
                  <a:pt x="431" y="213"/>
                </a:lnTo>
                <a:lnTo>
                  <a:pt x="436" y="213"/>
                </a:lnTo>
                <a:lnTo>
                  <a:pt x="442" y="208"/>
                </a:lnTo>
                <a:lnTo>
                  <a:pt x="448" y="202"/>
                </a:lnTo>
                <a:lnTo>
                  <a:pt x="454" y="197"/>
                </a:lnTo>
                <a:lnTo>
                  <a:pt x="459" y="192"/>
                </a:lnTo>
                <a:lnTo>
                  <a:pt x="465" y="186"/>
                </a:lnTo>
                <a:lnTo>
                  <a:pt x="471" y="186"/>
                </a:lnTo>
                <a:lnTo>
                  <a:pt x="476" y="181"/>
                </a:lnTo>
                <a:lnTo>
                  <a:pt x="482" y="176"/>
                </a:lnTo>
                <a:lnTo>
                  <a:pt x="488" y="170"/>
                </a:lnTo>
                <a:lnTo>
                  <a:pt x="493" y="165"/>
                </a:lnTo>
                <a:lnTo>
                  <a:pt x="499" y="165"/>
                </a:lnTo>
                <a:lnTo>
                  <a:pt x="505" y="160"/>
                </a:lnTo>
                <a:lnTo>
                  <a:pt x="510" y="154"/>
                </a:lnTo>
                <a:lnTo>
                  <a:pt x="516" y="149"/>
                </a:lnTo>
                <a:lnTo>
                  <a:pt x="522" y="149"/>
                </a:lnTo>
                <a:lnTo>
                  <a:pt x="533" y="139"/>
                </a:lnTo>
                <a:lnTo>
                  <a:pt x="527" y="139"/>
                </a:lnTo>
                <a:lnTo>
                  <a:pt x="533" y="139"/>
                </a:lnTo>
                <a:lnTo>
                  <a:pt x="539" y="133"/>
                </a:lnTo>
                <a:lnTo>
                  <a:pt x="544" y="128"/>
                </a:lnTo>
                <a:lnTo>
                  <a:pt x="550" y="128"/>
                </a:lnTo>
                <a:lnTo>
                  <a:pt x="556" y="123"/>
                </a:lnTo>
                <a:lnTo>
                  <a:pt x="561" y="117"/>
                </a:lnTo>
                <a:lnTo>
                  <a:pt x="567" y="112"/>
                </a:lnTo>
                <a:lnTo>
                  <a:pt x="573" y="107"/>
                </a:lnTo>
                <a:lnTo>
                  <a:pt x="578" y="101"/>
                </a:lnTo>
                <a:lnTo>
                  <a:pt x="584" y="101"/>
                </a:lnTo>
                <a:lnTo>
                  <a:pt x="590" y="96"/>
                </a:lnTo>
                <a:lnTo>
                  <a:pt x="595" y="91"/>
                </a:lnTo>
                <a:lnTo>
                  <a:pt x="607" y="80"/>
                </a:lnTo>
                <a:lnTo>
                  <a:pt x="601" y="80"/>
                </a:lnTo>
                <a:lnTo>
                  <a:pt x="607" y="80"/>
                </a:lnTo>
                <a:lnTo>
                  <a:pt x="612" y="75"/>
                </a:lnTo>
                <a:lnTo>
                  <a:pt x="618" y="69"/>
                </a:lnTo>
                <a:lnTo>
                  <a:pt x="624" y="64"/>
                </a:lnTo>
                <a:lnTo>
                  <a:pt x="629" y="59"/>
                </a:lnTo>
                <a:lnTo>
                  <a:pt x="635" y="54"/>
                </a:lnTo>
                <a:lnTo>
                  <a:pt x="641" y="48"/>
                </a:lnTo>
                <a:lnTo>
                  <a:pt x="646" y="43"/>
                </a:lnTo>
                <a:lnTo>
                  <a:pt x="652" y="38"/>
                </a:lnTo>
                <a:lnTo>
                  <a:pt x="658" y="32"/>
                </a:lnTo>
                <a:lnTo>
                  <a:pt x="663" y="22"/>
                </a:lnTo>
                <a:lnTo>
                  <a:pt x="669" y="16"/>
                </a:lnTo>
                <a:lnTo>
                  <a:pt x="675" y="11"/>
                </a:lnTo>
                <a:lnTo>
                  <a:pt x="680" y="6"/>
                </a:lnTo>
                <a:lnTo>
                  <a:pt x="68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968720" y="4495680"/>
            <a:ext cx="687600" cy="984240"/>
          </a:xfrm>
          <a:custGeom>
            <a:avLst/>
            <a:gdLst/>
            <a:ahLst/>
            <a:rect l="l" t="t" r="r" b="b"/>
            <a:pathLst>
              <a:path w="703" h="909">
                <a:moveTo>
                  <a:pt x="0" y="749"/>
                </a:moveTo>
                <a:lnTo>
                  <a:pt x="6" y="744"/>
                </a:lnTo>
                <a:lnTo>
                  <a:pt x="12" y="733"/>
                </a:lnTo>
                <a:lnTo>
                  <a:pt x="17" y="728"/>
                </a:lnTo>
                <a:lnTo>
                  <a:pt x="23" y="723"/>
                </a:lnTo>
                <a:lnTo>
                  <a:pt x="29" y="712"/>
                </a:lnTo>
                <a:lnTo>
                  <a:pt x="34" y="702"/>
                </a:lnTo>
                <a:lnTo>
                  <a:pt x="34" y="696"/>
                </a:lnTo>
                <a:lnTo>
                  <a:pt x="40" y="686"/>
                </a:lnTo>
                <a:lnTo>
                  <a:pt x="46" y="675"/>
                </a:lnTo>
                <a:lnTo>
                  <a:pt x="51" y="664"/>
                </a:lnTo>
                <a:lnTo>
                  <a:pt x="57" y="654"/>
                </a:lnTo>
                <a:lnTo>
                  <a:pt x="63" y="638"/>
                </a:lnTo>
                <a:lnTo>
                  <a:pt x="68" y="627"/>
                </a:lnTo>
                <a:lnTo>
                  <a:pt x="74" y="611"/>
                </a:lnTo>
                <a:lnTo>
                  <a:pt x="74" y="595"/>
                </a:lnTo>
                <a:lnTo>
                  <a:pt x="80" y="574"/>
                </a:lnTo>
                <a:lnTo>
                  <a:pt x="85" y="553"/>
                </a:lnTo>
                <a:lnTo>
                  <a:pt x="91" y="526"/>
                </a:lnTo>
                <a:lnTo>
                  <a:pt x="97" y="500"/>
                </a:lnTo>
                <a:lnTo>
                  <a:pt x="102" y="462"/>
                </a:lnTo>
                <a:lnTo>
                  <a:pt x="108" y="420"/>
                </a:lnTo>
                <a:lnTo>
                  <a:pt x="114" y="367"/>
                </a:lnTo>
                <a:lnTo>
                  <a:pt x="114" y="292"/>
                </a:lnTo>
                <a:lnTo>
                  <a:pt x="119" y="186"/>
                </a:lnTo>
                <a:lnTo>
                  <a:pt x="125" y="0"/>
                </a:lnTo>
                <a:lnTo>
                  <a:pt x="131" y="909"/>
                </a:lnTo>
                <a:lnTo>
                  <a:pt x="136" y="909"/>
                </a:lnTo>
                <a:lnTo>
                  <a:pt x="142" y="909"/>
                </a:lnTo>
                <a:lnTo>
                  <a:pt x="148" y="909"/>
                </a:lnTo>
                <a:lnTo>
                  <a:pt x="153" y="909"/>
                </a:lnTo>
                <a:lnTo>
                  <a:pt x="159" y="909"/>
                </a:lnTo>
                <a:lnTo>
                  <a:pt x="165" y="909"/>
                </a:lnTo>
                <a:lnTo>
                  <a:pt x="170" y="909"/>
                </a:lnTo>
                <a:lnTo>
                  <a:pt x="176" y="909"/>
                </a:lnTo>
                <a:lnTo>
                  <a:pt x="182" y="909"/>
                </a:lnTo>
                <a:lnTo>
                  <a:pt x="187" y="909"/>
                </a:lnTo>
                <a:lnTo>
                  <a:pt x="193" y="909"/>
                </a:lnTo>
                <a:lnTo>
                  <a:pt x="199" y="909"/>
                </a:lnTo>
                <a:lnTo>
                  <a:pt x="204" y="909"/>
                </a:lnTo>
                <a:lnTo>
                  <a:pt x="210" y="909"/>
                </a:lnTo>
                <a:lnTo>
                  <a:pt x="216" y="909"/>
                </a:lnTo>
                <a:lnTo>
                  <a:pt x="221" y="909"/>
                </a:lnTo>
                <a:lnTo>
                  <a:pt x="227" y="909"/>
                </a:lnTo>
                <a:lnTo>
                  <a:pt x="233" y="909"/>
                </a:lnTo>
                <a:lnTo>
                  <a:pt x="238" y="909"/>
                </a:lnTo>
                <a:lnTo>
                  <a:pt x="244" y="909"/>
                </a:lnTo>
                <a:lnTo>
                  <a:pt x="250" y="909"/>
                </a:lnTo>
                <a:lnTo>
                  <a:pt x="255" y="909"/>
                </a:lnTo>
                <a:lnTo>
                  <a:pt x="261" y="909"/>
                </a:lnTo>
                <a:lnTo>
                  <a:pt x="267" y="909"/>
                </a:lnTo>
                <a:lnTo>
                  <a:pt x="272" y="909"/>
                </a:lnTo>
                <a:lnTo>
                  <a:pt x="278" y="909"/>
                </a:lnTo>
                <a:lnTo>
                  <a:pt x="284" y="909"/>
                </a:lnTo>
                <a:lnTo>
                  <a:pt x="289" y="909"/>
                </a:lnTo>
                <a:lnTo>
                  <a:pt x="295" y="909"/>
                </a:lnTo>
                <a:lnTo>
                  <a:pt x="301" y="909"/>
                </a:lnTo>
                <a:lnTo>
                  <a:pt x="306" y="909"/>
                </a:lnTo>
                <a:lnTo>
                  <a:pt x="312" y="909"/>
                </a:lnTo>
                <a:lnTo>
                  <a:pt x="318" y="909"/>
                </a:lnTo>
                <a:lnTo>
                  <a:pt x="323" y="909"/>
                </a:lnTo>
                <a:lnTo>
                  <a:pt x="329" y="909"/>
                </a:lnTo>
                <a:lnTo>
                  <a:pt x="335" y="909"/>
                </a:lnTo>
                <a:lnTo>
                  <a:pt x="340" y="909"/>
                </a:lnTo>
                <a:lnTo>
                  <a:pt x="346" y="909"/>
                </a:lnTo>
                <a:lnTo>
                  <a:pt x="352" y="909"/>
                </a:lnTo>
                <a:lnTo>
                  <a:pt x="357" y="909"/>
                </a:lnTo>
                <a:lnTo>
                  <a:pt x="363" y="909"/>
                </a:lnTo>
                <a:lnTo>
                  <a:pt x="369" y="909"/>
                </a:lnTo>
                <a:lnTo>
                  <a:pt x="374" y="909"/>
                </a:lnTo>
                <a:lnTo>
                  <a:pt x="380" y="909"/>
                </a:lnTo>
                <a:lnTo>
                  <a:pt x="386" y="909"/>
                </a:lnTo>
                <a:lnTo>
                  <a:pt x="391" y="909"/>
                </a:lnTo>
                <a:lnTo>
                  <a:pt x="397" y="909"/>
                </a:lnTo>
                <a:lnTo>
                  <a:pt x="403" y="909"/>
                </a:lnTo>
                <a:lnTo>
                  <a:pt x="409" y="909"/>
                </a:lnTo>
                <a:lnTo>
                  <a:pt x="414" y="909"/>
                </a:lnTo>
                <a:lnTo>
                  <a:pt x="420" y="909"/>
                </a:lnTo>
                <a:lnTo>
                  <a:pt x="426" y="909"/>
                </a:lnTo>
                <a:lnTo>
                  <a:pt x="431" y="909"/>
                </a:lnTo>
                <a:lnTo>
                  <a:pt x="437" y="909"/>
                </a:lnTo>
                <a:lnTo>
                  <a:pt x="443" y="909"/>
                </a:lnTo>
                <a:lnTo>
                  <a:pt x="448" y="909"/>
                </a:lnTo>
                <a:lnTo>
                  <a:pt x="454" y="909"/>
                </a:lnTo>
                <a:lnTo>
                  <a:pt x="460" y="909"/>
                </a:lnTo>
                <a:lnTo>
                  <a:pt x="465" y="909"/>
                </a:lnTo>
                <a:lnTo>
                  <a:pt x="471" y="909"/>
                </a:lnTo>
                <a:lnTo>
                  <a:pt x="477" y="909"/>
                </a:lnTo>
                <a:lnTo>
                  <a:pt x="482" y="909"/>
                </a:lnTo>
                <a:lnTo>
                  <a:pt x="488" y="909"/>
                </a:lnTo>
                <a:lnTo>
                  <a:pt x="494" y="909"/>
                </a:lnTo>
                <a:lnTo>
                  <a:pt x="499" y="909"/>
                </a:lnTo>
                <a:lnTo>
                  <a:pt x="505" y="909"/>
                </a:lnTo>
                <a:lnTo>
                  <a:pt x="511" y="909"/>
                </a:lnTo>
                <a:lnTo>
                  <a:pt x="516" y="909"/>
                </a:lnTo>
                <a:lnTo>
                  <a:pt x="522" y="909"/>
                </a:lnTo>
                <a:lnTo>
                  <a:pt x="528" y="909"/>
                </a:lnTo>
                <a:lnTo>
                  <a:pt x="533" y="909"/>
                </a:lnTo>
                <a:lnTo>
                  <a:pt x="539" y="909"/>
                </a:lnTo>
                <a:lnTo>
                  <a:pt x="545" y="909"/>
                </a:lnTo>
                <a:lnTo>
                  <a:pt x="550" y="909"/>
                </a:lnTo>
                <a:lnTo>
                  <a:pt x="556" y="909"/>
                </a:lnTo>
                <a:lnTo>
                  <a:pt x="562" y="909"/>
                </a:lnTo>
                <a:lnTo>
                  <a:pt x="567" y="909"/>
                </a:lnTo>
                <a:lnTo>
                  <a:pt x="573" y="909"/>
                </a:lnTo>
                <a:lnTo>
                  <a:pt x="579" y="909"/>
                </a:lnTo>
                <a:lnTo>
                  <a:pt x="584" y="909"/>
                </a:lnTo>
                <a:lnTo>
                  <a:pt x="590" y="909"/>
                </a:lnTo>
                <a:lnTo>
                  <a:pt x="596" y="909"/>
                </a:lnTo>
                <a:lnTo>
                  <a:pt x="601" y="909"/>
                </a:lnTo>
                <a:lnTo>
                  <a:pt x="607" y="909"/>
                </a:lnTo>
                <a:lnTo>
                  <a:pt x="613" y="909"/>
                </a:lnTo>
                <a:lnTo>
                  <a:pt x="618" y="909"/>
                </a:lnTo>
                <a:lnTo>
                  <a:pt x="624" y="909"/>
                </a:lnTo>
                <a:lnTo>
                  <a:pt x="630" y="909"/>
                </a:lnTo>
                <a:lnTo>
                  <a:pt x="635" y="909"/>
                </a:lnTo>
                <a:lnTo>
                  <a:pt x="641" y="909"/>
                </a:lnTo>
                <a:lnTo>
                  <a:pt x="647" y="909"/>
                </a:lnTo>
                <a:lnTo>
                  <a:pt x="652" y="909"/>
                </a:lnTo>
                <a:lnTo>
                  <a:pt x="658" y="909"/>
                </a:lnTo>
                <a:lnTo>
                  <a:pt x="664" y="909"/>
                </a:lnTo>
                <a:lnTo>
                  <a:pt x="669" y="909"/>
                </a:lnTo>
                <a:lnTo>
                  <a:pt x="675" y="909"/>
                </a:lnTo>
                <a:lnTo>
                  <a:pt x="681" y="909"/>
                </a:lnTo>
                <a:lnTo>
                  <a:pt x="686" y="909"/>
                </a:lnTo>
                <a:lnTo>
                  <a:pt x="692" y="909"/>
                </a:lnTo>
                <a:lnTo>
                  <a:pt x="698" y="909"/>
                </a:lnTo>
                <a:lnTo>
                  <a:pt x="703" y="909"/>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038480" y="5484960"/>
            <a:ext cx="159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499040" y="1050840"/>
            <a:ext cx="549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ing these results into the time domain</a:t>
            </a:r>
            <a:endParaRPr b="0" lang="en-US" sz="2400" spc="-1" strike="noStrike">
              <a:solidFill>
                <a:srgbClr val="000000"/>
              </a:solidFill>
              <a:latin typeface="Times New Roman"/>
            </a:endParaRPr>
          </a:p>
        </p:txBody>
      </p:sp>
      <p:graphicFrame>
        <p:nvGraphicFramePr>
          <p:cNvPr id="1140" name=""/>
          <p:cNvGraphicFramePr/>
          <p:nvPr/>
        </p:nvGraphicFramePr>
        <p:xfrm>
          <a:off x="838080" y="1905120"/>
          <a:ext cx="7772400" cy="1417680"/>
        </p:xfrm>
        <a:graphic>
          <a:graphicData uri="http://schemas.openxmlformats.org/presentationml/2006/ole">
            <p:oleObj r:id="rId1" spid="">
              <p:embed/>
              <p:pic>
                <p:nvPicPr>
                  <p:cNvPr id="1141" name="" descr=""/>
                  <p:cNvPicPr/>
                  <p:nvPr/>
                </p:nvPicPr>
                <p:blipFill>
                  <a:blip r:embed="rId2"/>
                  <a:stretch/>
                </p:blipFill>
                <p:spPr>
                  <a:xfrm>
                    <a:off x="838080" y="1905120"/>
                    <a:ext cx="7772400" cy="1417680"/>
                  </a:xfrm>
                  <a:prstGeom prst="rect">
                    <a:avLst/>
                  </a:prstGeom>
                  <a:ln w="0">
                    <a:noFill/>
                  </a:ln>
                </p:spPr>
              </p:pic>
            </p:oleObj>
          </a:graphicData>
        </a:graphic>
      </p:graphicFrame>
      <p:sp>
        <p:nvSpPr>
          <p:cNvPr id="1142" name=""/>
          <p:cNvSpPr/>
          <p:nvPr/>
        </p:nvSpPr>
        <p:spPr>
          <a:xfrm>
            <a:off x="1599840" y="411480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sh points</a:t>
            </a:r>
            <a:endParaRPr b="0" lang="en-US" sz="2400" spc="-1" strike="noStrike">
              <a:solidFill>
                <a:srgbClr val="000000"/>
              </a:solidFill>
              <a:latin typeface="Times New Roman"/>
            </a:endParaRPr>
          </a:p>
        </p:txBody>
      </p:sp>
      <p:sp>
        <p:nvSpPr>
          <p:cNvPr id="1143" name=""/>
          <p:cNvSpPr/>
          <p:nvPr/>
        </p:nvSpPr>
        <p:spPr>
          <a:xfrm>
            <a:off x="3124080" y="4800600"/>
            <a:ext cx="10670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477120" y="4495680"/>
            <a:ext cx="121896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767560" y="408456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6119280" y="42858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7327440" y="43016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925240" y="3336840"/>
            <a:ext cx="275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pulse-echo</a:t>
            </a:r>
            <a:endParaRPr b="0" lang="en-US" sz="2400" spc="-1" strike="noStrike">
              <a:solidFill>
                <a:srgbClr val="000000"/>
              </a:solidFill>
              <a:latin typeface="Times New Roman"/>
            </a:endParaRPr>
          </a:p>
        </p:txBody>
      </p:sp>
      <p:graphicFrame>
        <p:nvGraphicFramePr>
          <p:cNvPr id="1149" name=""/>
          <p:cNvGraphicFramePr/>
          <p:nvPr/>
        </p:nvGraphicFramePr>
        <p:xfrm>
          <a:off x="1676520" y="1600200"/>
          <a:ext cx="1218960" cy="393840"/>
        </p:xfrm>
        <a:graphic>
          <a:graphicData uri="http://schemas.openxmlformats.org/presentationml/2006/ole">
            <p:oleObj r:id="rId3" spid="">
              <p:embed/>
              <p:pic>
                <p:nvPicPr>
                  <p:cNvPr id="1150" name="" descr=""/>
                  <p:cNvPicPr/>
                  <p:nvPr/>
                </p:nvPicPr>
                <p:blipFill>
                  <a:blip r:embed="rId4"/>
                  <a:stretch/>
                </p:blipFill>
                <p:spPr>
                  <a:xfrm>
                    <a:off x="1676520" y="1600200"/>
                    <a:ext cx="1218960" cy="393840"/>
                  </a:xfrm>
                  <a:prstGeom prst="rect">
                    <a:avLst/>
                  </a:prstGeom>
                  <a:ln w="0">
                    <a:noFill/>
                  </a:ln>
                </p:spPr>
              </p:pic>
            </p:oleObj>
          </a:graphicData>
        </a:graphic>
      </p:graphicFrame>
      <p:sp>
        <p:nvSpPr>
          <p:cNvPr id="1151" name=""/>
          <p:cNvSpPr/>
          <p:nvPr/>
        </p:nvSpPr>
        <p:spPr>
          <a:xfrm>
            <a:off x="6797520" y="3965400"/>
            <a:ext cx="54612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332240" y="5581800"/>
            <a:ext cx="651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422320" y="55198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154" name=""/>
          <p:cNvSpPr/>
          <p:nvPr/>
        </p:nvSpPr>
        <p:spPr>
          <a:xfrm>
            <a:off x="4572000" y="4419720"/>
            <a:ext cx="198360" cy="86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276720" y="4724280"/>
            <a:ext cx="1676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198440" y="1127160"/>
            <a:ext cx="45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ormal incidence, for pulse-echo</a:t>
            </a:r>
            <a:endParaRPr b="0" lang="en-US" sz="2400" spc="-1" strike="noStrike">
              <a:solidFill>
                <a:srgbClr val="000000"/>
              </a:solidFill>
              <a:latin typeface="Times New Roman"/>
            </a:endParaRPr>
          </a:p>
        </p:txBody>
      </p:sp>
      <p:graphicFrame>
        <p:nvGraphicFramePr>
          <p:cNvPr id="1159" name=""/>
          <p:cNvGraphicFramePr/>
          <p:nvPr/>
        </p:nvGraphicFramePr>
        <p:xfrm>
          <a:off x="2819520" y="1981080"/>
          <a:ext cx="3906720" cy="978120"/>
        </p:xfrm>
        <a:graphic>
          <a:graphicData uri="http://schemas.openxmlformats.org/presentationml/2006/ole">
            <p:oleObj r:id="rId1" spid="">
              <p:embed/>
              <p:pic>
                <p:nvPicPr>
                  <p:cNvPr id="1160" name="" descr=""/>
                  <p:cNvPicPr/>
                  <p:nvPr/>
                </p:nvPicPr>
                <p:blipFill>
                  <a:blip r:embed="rId2"/>
                  <a:stretch/>
                </p:blipFill>
                <p:spPr>
                  <a:xfrm>
                    <a:off x="2819520" y="1981080"/>
                    <a:ext cx="3906720" cy="978120"/>
                  </a:xfrm>
                  <a:prstGeom prst="rect">
                    <a:avLst/>
                  </a:prstGeom>
                  <a:ln w="0">
                    <a:noFill/>
                  </a:ln>
                </p:spPr>
              </p:pic>
            </p:oleObj>
          </a:graphicData>
        </a:graphic>
      </p:graphicFrame>
      <p:sp>
        <p:nvSpPr>
          <p:cNvPr id="1161" name=""/>
          <p:cNvSpPr/>
          <p:nvPr/>
        </p:nvSpPr>
        <p:spPr>
          <a:xfrm>
            <a:off x="4304880" y="33400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162" name=""/>
          <p:cNvSpPr/>
          <p:nvPr/>
        </p:nvSpPr>
        <p:spPr>
          <a:xfrm>
            <a:off x="4419360" y="3340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3" name=""/>
          <p:cNvSpPr/>
          <p:nvPr/>
        </p:nvSpPr>
        <p:spPr>
          <a:xfrm>
            <a:off x="4495320" y="3340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64" name=""/>
          <p:cNvSpPr/>
          <p:nvPr/>
        </p:nvSpPr>
        <p:spPr>
          <a:xfrm>
            <a:off x="4596840" y="3340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65" name=""/>
          <p:cNvSpPr/>
          <p:nvPr/>
        </p:nvSpPr>
        <p:spPr>
          <a:xfrm>
            <a:off x="4660200" y="3340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66" name=""/>
          <p:cNvSpPr/>
          <p:nvPr/>
        </p:nvSpPr>
        <p:spPr>
          <a:xfrm>
            <a:off x="4723920" y="3340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7" name=""/>
          <p:cNvSpPr/>
          <p:nvPr/>
        </p:nvSpPr>
        <p:spPr>
          <a:xfrm>
            <a:off x="4787280" y="3340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68" name=""/>
          <p:cNvSpPr/>
          <p:nvPr/>
        </p:nvSpPr>
        <p:spPr>
          <a:xfrm>
            <a:off x="4850640" y="3340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69" name=""/>
          <p:cNvSpPr/>
          <p:nvPr/>
        </p:nvSpPr>
        <p:spPr>
          <a:xfrm>
            <a:off x="4952160" y="3340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70" name=""/>
          <p:cNvSpPr/>
          <p:nvPr/>
        </p:nvSpPr>
        <p:spPr>
          <a:xfrm>
            <a:off x="5015880" y="3340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71" name=""/>
          <p:cNvSpPr/>
          <p:nvPr/>
        </p:nvSpPr>
        <p:spPr>
          <a:xfrm>
            <a:off x="5079600" y="3340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72" name=""/>
          <p:cNvSpPr/>
          <p:nvPr/>
        </p:nvSpPr>
        <p:spPr>
          <a:xfrm>
            <a:off x="4609440" y="34671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173" name=""/>
          <p:cNvSpPr/>
          <p:nvPr/>
        </p:nvSpPr>
        <p:spPr>
          <a:xfrm>
            <a:off x="4927320" y="3467160"/>
            <a:ext cx="70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174" name=""/>
          <p:cNvSpPr/>
          <p:nvPr/>
        </p:nvSpPr>
        <p:spPr>
          <a:xfrm>
            <a:off x="609480" y="2514600"/>
            <a:ext cx="990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066680" y="1905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1143000" y="19047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5649840" y="4989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178" name=""/>
          <p:cNvSpPr/>
          <p:nvPr/>
        </p:nvSpPr>
        <p:spPr>
          <a:xfrm flipV="1">
            <a:off x="4805280" y="3962520"/>
            <a:ext cx="4680" cy="9856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761000" y="4933800"/>
            <a:ext cx="3240" cy="9860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4933800"/>
            <a:ext cx="173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729080" y="1203480"/>
            <a:ext cx="55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ar crack is a very “specular” reflector</a:t>
            </a:r>
            <a:endParaRPr b="0" lang="en-US" sz="2400" spc="-1" strike="noStrike">
              <a:solidFill>
                <a:srgbClr val="000000"/>
              </a:solidFill>
              <a:latin typeface="Times New Roman"/>
            </a:endParaRPr>
          </a:p>
        </p:txBody>
      </p:sp>
      <p:grpSp>
        <p:nvGrpSpPr>
          <p:cNvPr id="1184" name=""/>
          <p:cNvGrpSpPr/>
          <p:nvPr/>
        </p:nvGrpSpPr>
        <p:grpSpPr>
          <a:xfrm>
            <a:off x="2438280" y="2209320"/>
            <a:ext cx="1242720" cy="1024560"/>
            <a:chOff x="2438280" y="2209320"/>
            <a:chExt cx="1242720" cy="1024560"/>
          </a:xfrm>
        </p:grpSpPr>
        <p:sp>
          <p:nvSpPr>
            <p:cNvPr id="1185" name=""/>
            <p:cNvSpPr/>
            <p:nvPr/>
          </p:nvSpPr>
          <p:spPr>
            <a:xfrm>
              <a:off x="2438280" y="30052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438280" y="297180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87" name=""/>
            <p:cNvGraphicFramePr/>
            <p:nvPr/>
          </p:nvGraphicFramePr>
          <p:xfrm>
            <a:off x="3428640" y="2362320"/>
            <a:ext cx="252360" cy="342720"/>
          </p:xfrm>
          <a:graphic>
            <a:graphicData uri="http://schemas.openxmlformats.org/presentationml/2006/ole">
              <p:oleObj r:id="rId1" spid="">
                <p:embed/>
                <p:pic>
                  <p:nvPicPr>
                    <p:cNvPr id="1188" name="" descr=""/>
                    <p:cNvPicPr/>
                    <p:nvPr/>
                  </p:nvPicPr>
                  <p:blipFill>
                    <a:blip r:embed="rId2"/>
                    <a:stretch/>
                  </p:blipFill>
                  <p:spPr>
                    <a:xfrm>
                      <a:off x="3428640" y="2362320"/>
                      <a:ext cx="252360" cy="342720"/>
                    </a:xfrm>
                    <a:prstGeom prst="rect">
                      <a:avLst/>
                    </a:prstGeom>
                    <a:ln w="0">
                      <a:noFill/>
                    </a:ln>
                  </p:spPr>
                </p:pic>
              </p:oleObj>
            </a:graphicData>
          </a:graphic>
        </p:graphicFrame>
        <p:sp>
          <p:nvSpPr>
            <p:cNvPr id="1189" name=""/>
            <p:cNvSpPr/>
            <p:nvPr/>
          </p:nvSpPr>
          <p:spPr>
            <a:xfrm flipV="1">
              <a:off x="2742840" y="2622600"/>
              <a:ext cx="438120" cy="42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3199680" y="2286000"/>
              <a:ext cx="31428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744280" y="251460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192" name=""/>
            <p:cNvSpPr/>
            <p:nvPr/>
          </p:nvSpPr>
          <p:spPr>
            <a:xfrm flipV="1">
              <a:off x="2742840" y="23619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3179520" y="2209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4611600" y="2416320"/>
            <a:ext cx="3411720" cy="2695320"/>
          </a:xfrm>
          <a:prstGeom prst="rect">
            <a:avLst/>
          </a:prstGeom>
          <a:solidFill>
            <a:srgbClr val="ffffff"/>
          </a:solid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608360" y="2413080"/>
            <a:ext cx="3418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4608360" y="5114880"/>
            <a:ext cx="3418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flipV="1">
            <a:off x="8026560" y="2412720"/>
            <a:ext cx="1440" cy="2701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V="1">
            <a:off x="4608360" y="2412720"/>
            <a:ext cx="1800" cy="2701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08360" y="5114880"/>
            <a:ext cx="3418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flipV="1">
            <a:off x="4608360" y="2412720"/>
            <a:ext cx="1800" cy="2701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4608360" y="507960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2" name=""/>
          <p:cNvSpPr/>
          <p:nvPr/>
        </p:nvSpPr>
        <p:spPr>
          <a:xfrm>
            <a:off x="4608360" y="24130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3" name=""/>
          <p:cNvSpPr/>
          <p:nvPr/>
        </p:nvSpPr>
        <p:spPr>
          <a:xfrm>
            <a:off x="4582800" y="5189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04" name=""/>
          <p:cNvSpPr/>
          <p:nvPr/>
        </p:nvSpPr>
        <p:spPr>
          <a:xfrm flipV="1">
            <a:off x="4987800" y="507960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5" name=""/>
          <p:cNvSpPr/>
          <p:nvPr/>
        </p:nvSpPr>
        <p:spPr>
          <a:xfrm>
            <a:off x="4987800" y="24130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6" name=""/>
          <p:cNvSpPr/>
          <p:nvPr/>
        </p:nvSpPr>
        <p:spPr>
          <a:xfrm>
            <a:off x="493668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207" name=""/>
          <p:cNvSpPr/>
          <p:nvPr/>
        </p:nvSpPr>
        <p:spPr>
          <a:xfrm flipV="1">
            <a:off x="5367240" y="507960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8" name=""/>
          <p:cNvSpPr/>
          <p:nvPr/>
        </p:nvSpPr>
        <p:spPr>
          <a:xfrm>
            <a:off x="5367240" y="24130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9" name=""/>
          <p:cNvSpPr/>
          <p:nvPr/>
        </p:nvSpPr>
        <p:spPr>
          <a:xfrm>
            <a:off x="531612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210" name=""/>
          <p:cNvSpPr/>
          <p:nvPr/>
        </p:nvSpPr>
        <p:spPr>
          <a:xfrm flipV="1">
            <a:off x="5748480" y="507960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1" name=""/>
          <p:cNvSpPr/>
          <p:nvPr/>
        </p:nvSpPr>
        <p:spPr>
          <a:xfrm>
            <a:off x="5748480" y="24130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2" name=""/>
          <p:cNvSpPr/>
          <p:nvPr/>
        </p:nvSpPr>
        <p:spPr>
          <a:xfrm>
            <a:off x="569556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213" name=""/>
          <p:cNvSpPr/>
          <p:nvPr/>
        </p:nvSpPr>
        <p:spPr>
          <a:xfrm flipV="1">
            <a:off x="6127920" y="507960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4" name=""/>
          <p:cNvSpPr/>
          <p:nvPr/>
        </p:nvSpPr>
        <p:spPr>
          <a:xfrm>
            <a:off x="6127920" y="24130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5" name=""/>
          <p:cNvSpPr/>
          <p:nvPr/>
        </p:nvSpPr>
        <p:spPr>
          <a:xfrm>
            <a:off x="607500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1216" name=""/>
          <p:cNvSpPr/>
          <p:nvPr/>
        </p:nvSpPr>
        <p:spPr>
          <a:xfrm flipV="1">
            <a:off x="6507000" y="507960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7" name=""/>
          <p:cNvSpPr/>
          <p:nvPr/>
        </p:nvSpPr>
        <p:spPr>
          <a:xfrm>
            <a:off x="6507000" y="24130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8" name=""/>
          <p:cNvSpPr/>
          <p:nvPr/>
        </p:nvSpPr>
        <p:spPr>
          <a:xfrm>
            <a:off x="645588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1219" name=""/>
          <p:cNvSpPr/>
          <p:nvPr/>
        </p:nvSpPr>
        <p:spPr>
          <a:xfrm flipV="1">
            <a:off x="6886440" y="507960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0" name=""/>
          <p:cNvSpPr/>
          <p:nvPr/>
        </p:nvSpPr>
        <p:spPr>
          <a:xfrm>
            <a:off x="6886440" y="24130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1" name=""/>
          <p:cNvSpPr/>
          <p:nvPr/>
        </p:nvSpPr>
        <p:spPr>
          <a:xfrm>
            <a:off x="683532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1222" name=""/>
          <p:cNvSpPr/>
          <p:nvPr/>
        </p:nvSpPr>
        <p:spPr>
          <a:xfrm flipV="1">
            <a:off x="7267680" y="507960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3" name=""/>
          <p:cNvSpPr/>
          <p:nvPr/>
        </p:nvSpPr>
        <p:spPr>
          <a:xfrm>
            <a:off x="7267680" y="24130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4" name=""/>
          <p:cNvSpPr/>
          <p:nvPr/>
        </p:nvSpPr>
        <p:spPr>
          <a:xfrm>
            <a:off x="721476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1225" name=""/>
          <p:cNvSpPr/>
          <p:nvPr/>
        </p:nvSpPr>
        <p:spPr>
          <a:xfrm flipV="1">
            <a:off x="7647120" y="507960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6" name=""/>
          <p:cNvSpPr/>
          <p:nvPr/>
        </p:nvSpPr>
        <p:spPr>
          <a:xfrm>
            <a:off x="7647120" y="24130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7" name=""/>
          <p:cNvSpPr/>
          <p:nvPr/>
        </p:nvSpPr>
        <p:spPr>
          <a:xfrm>
            <a:off x="759420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1228" name=""/>
          <p:cNvSpPr/>
          <p:nvPr/>
        </p:nvSpPr>
        <p:spPr>
          <a:xfrm flipV="1">
            <a:off x="8026560" y="507960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9" name=""/>
          <p:cNvSpPr/>
          <p:nvPr/>
        </p:nvSpPr>
        <p:spPr>
          <a:xfrm>
            <a:off x="8026560" y="24130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0" name=""/>
          <p:cNvSpPr/>
          <p:nvPr/>
        </p:nvSpPr>
        <p:spPr>
          <a:xfrm>
            <a:off x="7975080" y="5189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231" name=""/>
          <p:cNvSpPr/>
          <p:nvPr/>
        </p:nvSpPr>
        <p:spPr>
          <a:xfrm>
            <a:off x="4608360" y="511488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2" name=""/>
          <p:cNvSpPr/>
          <p:nvPr/>
        </p:nvSpPr>
        <p:spPr>
          <a:xfrm flipH="1">
            <a:off x="7991280" y="511488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3" name=""/>
          <p:cNvSpPr/>
          <p:nvPr/>
        </p:nvSpPr>
        <p:spPr>
          <a:xfrm>
            <a:off x="4416120" y="5056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34" name=""/>
          <p:cNvSpPr/>
          <p:nvPr/>
        </p:nvSpPr>
        <p:spPr>
          <a:xfrm>
            <a:off x="4608360" y="466560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
          <p:cNvSpPr/>
          <p:nvPr/>
        </p:nvSpPr>
        <p:spPr>
          <a:xfrm flipH="1">
            <a:off x="7991280" y="466560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6" name=""/>
          <p:cNvSpPr/>
          <p:nvPr/>
        </p:nvSpPr>
        <p:spPr>
          <a:xfrm>
            <a:off x="4338000" y="460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1237" name=""/>
          <p:cNvSpPr/>
          <p:nvPr/>
        </p:nvSpPr>
        <p:spPr>
          <a:xfrm>
            <a:off x="4608360" y="42181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H="1">
            <a:off x="7991280" y="42181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9" name=""/>
          <p:cNvSpPr/>
          <p:nvPr/>
        </p:nvSpPr>
        <p:spPr>
          <a:xfrm>
            <a:off x="4416120" y="4157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240" name=""/>
          <p:cNvSpPr/>
          <p:nvPr/>
        </p:nvSpPr>
        <p:spPr>
          <a:xfrm>
            <a:off x="4608360" y="3768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flipH="1">
            <a:off x="7991280" y="3768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4338000" y="37083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243" name=""/>
          <p:cNvSpPr/>
          <p:nvPr/>
        </p:nvSpPr>
        <p:spPr>
          <a:xfrm>
            <a:off x="4608360" y="33116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flipH="1">
            <a:off x="7991280" y="33116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416120" y="3251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246" name=""/>
          <p:cNvSpPr/>
          <p:nvPr/>
        </p:nvSpPr>
        <p:spPr>
          <a:xfrm>
            <a:off x="4608360" y="286236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flipH="1">
            <a:off x="7991280" y="286236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4338000" y="28018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1249" name=""/>
          <p:cNvSpPr/>
          <p:nvPr/>
        </p:nvSpPr>
        <p:spPr>
          <a:xfrm>
            <a:off x="4608360" y="241308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H="1">
            <a:off x="7991280" y="241308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a:off x="4416120" y="2354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252" name=""/>
          <p:cNvSpPr/>
          <p:nvPr/>
        </p:nvSpPr>
        <p:spPr>
          <a:xfrm>
            <a:off x="4608360" y="5114880"/>
            <a:ext cx="3418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4608360" y="2413080"/>
            <a:ext cx="3418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V="1">
            <a:off x="8026560" y="2412720"/>
            <a:ext cx="1440" cy="2701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V="1">
            <a:off x="4608360" y="2412720"/>
            <a:ext cx="1800" cy="2701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608360" y="2716200"/>
            <a:ext cx="1959120" cy="2398680"/>
          </a:xfrm>
          <a:custGeom>
            <a:avLst/>
            <a:gdLst/>
            <a:ahLst/>
            <a:rect l="l" t="t" r="r" b="b"/>
            <a:pathLst>
              <a:path w="1234" h="1511">
                <a:moveTo>
                  <a:pt x="0" y="0"/>
                </a:moveTo>
                <a:lnTo>
                  <a:pt x="5" y="0"/>
                </a:lnTo>
                <a:lnTo>
                  <a:pt x="11" y="5"/>
                </a:lnTo>
                <a:lnTo>
                  <a:pt x="16" y="5"/>
                </a:lnTo>
                <a:lnTo>
                  <a:pt x="22" y="5"/>
                </a:lnTo>
                <a:lnTo>
                  <a:pt x="27" y="10"/>
                </a:lnTo>
                <a:lnTo>
                  <a:pt x="33" y="16"/>
                </a:lnTo>
                <a:lnTo>
                  <a:pt x="38" y="16"/>
                </a:lnTo>
                <a:lnTo>
                  <a:pt x="43" y="21"/>
                </a:lnTo>
                <a:lnTo>
                  <a:pt x="49" y="27"/>
                </a:lnTo>
                <a:lnTo>
                  <a:pt x="54" y="32"/>
                </a:lnTo>
                <a:lnTo>
                  <a:pt x="54" y="38"/>
                </a:lnTo>
                <a:lnTo>
                  <a:pt x="60" y="43"/>
                </a:lnTo>
                <a:lnTo>
                  <a:pt x="65" y="49"/>
                </a:lnTo>
                <a:lnTo>
                  <a:pt x="71" y="54"/>
                </a:lnTo>
                <a:lnTo>
                  <a:pt x="71" y="65"/>
                </a:lnTo>
                <a:lnTo>
                  <a:pt x="76" y="70"/>
                </a:lnTo>
                <a:lnTo>
                  <a:pt x="81" y="81"/>
                </a:lnTo>
                <a:lnTo>
                  <a:pt x="87" y="87"/>
                </a:lnTo>
                <a:lnTo>
                  <a:pt x="92" y="97"/>
                </a:lnTo>
                <a:lnTo>
                  <a:pt x="92" y="103"/>
                </a:lnTo>
                <a:lnTo>
                  <a:pt x="98" y="114"/>
                </a:lnTo>
                <a:lnTo>
                  <a:pt x="103" y="125"/>
                </a:lnTo>
                <a:lnTo>
                  <a:pt x="109" y="136"/>
                </a:lnTo>
                <a:lnTo>
                  <a:pt x="114" y="146"/>
                </a:lnTo>
                <a:lnTo>
                  <a:pt x="114" y="157"/>
                </a:lnTo>
                <a:lnTo>
                  <a:pt x="120" y="168"/>
                </a:lnTo>
                <a:lnTo>
                  <a:pt x="125" y="179"/>
                </a:lnTo>
                <a:lnTo>
                  <a:pt x="130" y="190"/>
                </a:lnTo>
                <a:lnTo>
                  <a:pt x="136" y="201"/>
                </a:lnTo>
                <a:lnTo>
                  <a:pt x="136" y="212"/>
                </a:lnTo>
                <a:lnTo>
                  <a:pt x="141" y="228"/>
                </a:lnTo>
                <a:lnTo>
                  <a:pt x="147" y="239"/>
                </a:lnTo>
                <a:lnTo>
                  <a:pt x="152" y="255"/>
                </a:lnTo>
                <a:lnTo>
                  <a:pt x="158" y="266"/>
                </a:lnTo>
                <a:lnTo>
                  <a:pt x="158" y="282"/>
                </a:lnTo>
                <a:lnTo>
                  <a:pt x="163" y="293"/>
                </a:lnTo>
                <a:lnTo>
                  <a:pt x="168" y="310"/>
                </a:lnTo>
                <a:lnTo>
                  <a:pt x="174" y="326"/>
                </a:lnTo>
                <a:lnTo>
                  <a:pt x="179" y="337"/>
                </a:lnTo>
                <a:lnTo>
                  <a:pt x="179" y="353"/>
                </a:lnTo>
                <a:lnTo>
                  <a:pt x="185" y="369"/>
                </a:lnTo>
                <a:lnTo>
                  <a:pt x="190" y="386"/>
                </a:lnTo>
                <a:lnTo>
                  <a:pt x="196" y="402"/>
                </a:lnTo>
                <a:lnTo>
                  <a:pt x="201" y="418"/>
                </a:lnTo>
                <a:lnTo>
                  <a:pt x="201" y="435"/>
                </a:lnTo>
                <a:lnTo>
                  <a:pt x="207" y="451"/>
                </a:lnTo>
                <a:lnTo>
                  <a:pt x="212" y="467"/>
                </a:lnTo>
                <a:lnTo>
                  <a:pt x="217" y="484"/>
                </a:lnTo>
                <a:lnTo>
                  <a:pt x="217" y="500"/>
                </a:lnTo>
                <a:lnTo>
                  <a:pt x="223" y="516"/>
                </a:lnTo>
                <a:lnTo>
                  <a:pt x="228" y="532"/>
                </a:lnTo>
                <a:lnTo>
                  <a:pt x="234" y="549"/>
                </a:lnTo>
                <a:lnTo>
                  <a:pt x="239" y="565"/>
                </a:lnTo>
                <a:lnTo>
                  <a:pt x="239" y="587"/>
                </a:lnTo>
                <a:lnTo>
                  <a:pt x="245" y="603"/>
                </a:lnTo>
                <a:lnTo>
                  <a:pt x="250" y="619"/>
                </a:lnTo>
                <a:lnTo>
                  <a:pt x="255" y="636"/>
                </a:lnTo>
                <a:lnTo>
                  <a:pt x="261" y="658"/>
                </a:lnTo>
                <a:lnTo>
                  <a:pt x="261" y="674"/>
                </a:lnTo>
                <a:lnTo>
                  <a:pt x="266" y="690"/>
                </a:lnTo>
                <a:lnTo>
                  <a:pt x="272" y="706"/>
                </a:lnTo>
                <a:lnTo>
                  <a:pt x="277" y="728"/>
                </a:lnTo>
                <a:lnTo>
                  <a:pt x="283" y="745"/>
                </a:lnTo>
                <a:lnTo>
                  <a:pt x="283" y="761"/>
                </a:lnTo>
                <a:lnTo>
                  <a:pt x="288" y="783"/>
                </a:lnTo>
                <a:lnTo>
                  <a:pt x="294" y="799"/>
                </a:lnTo>
                <a:lnTo>
                  <a:pt x="299" y="815"/>
                </a:lnTo>
                <a:lnTo>
                  <a:pt x="304" y="832"/>
                </a:lnTo>
                <a:lnTo>
                  <a:pt x="304" y="853"/>
                </a:lnTo>
                <a:lnTo>
                  <a:pt x="310" y="870"/>
                </a:lnTo>
                <a:lnTo>
                  <a:pt x="315" y="886"/>
                </a:lnTo>
                <a:lnTo>
                  <a:pt x="321" y="902"/>
                </a:lnTo>
                <a:lnTo>
                  <a:pt x="326" y="924"/>
                </a:lnTo>
                <a:lnTo>
                  <a:pt x="326" y="940"/>
                </a:lnTo>
                <a:lnTo>
                  <a:pt x="332" y="957"/>
                </a:lnTo>
                <a:lnTo>
                  <a:pt x="337" y="973"/>
                </a:lnTo>
                <a:lnTo>
                  <a:pt x="342" y="989"/>
                </a:lnTo>
                <a:lnTo>
                  <a:pt x="342" y="1011"/>
                </a:lnTo>
                <a:lnTo>
                  <a:pt x="348" y="1027"/>
                </a:lnTo>
                <a:lnTo>
                  <a:pt x="353" y="1044"/>
                </a:lnTo>
                <a:lnTo>
                  <a:pt x="359" y="1060"/>
                </a:lnTo>
                <a:lnTo>
                  <a:pt x="364" y="1076"/>
                </a:lnTo>
                <a:lnTo>
                  <a:pt x="364" y="1093"/>
                </a:lnTo>
                <a:lnTo>
                  <a:pt x="370" y="1109"/>
                </a:lnTo>
                <a:lnTo>
                  <a:pt x="375" y="1125"/>
                </a:lnTo>
                <a:lnTo>
                  <a:pt x="381" y="1141"/>
                </a:lnTo>
                <a:lnTo>
                  <a:pt x="386" y="1158"/>
                </a:lnTo>
                <a:lnTo>
                  <a:pt x="386" y="1174"/>
                </a:lnTo>
                <a:lnTo>
                  <a:pt x="391" y="1190"/>
                </a:lnTo>
                <a:lnTo>
                  <a:pt x="397" y="1201"/>
                </a:lnTo>
                <a:lnTo>
                  <a:pt x="402" y="1218"/>
                </a:lnTo>
                <a:lnTo>
                  <a:pt x="408" y="1234"/>
                </a:lnTo>
                <a:lnTo>
                  <a:pt x="408" y="1250"/>
                </a:lnTo>
                <a:lnTo>
                  <a:pt x="413" y="1261"/>
                </a:lnTo>
                <a:lnTo>
                  <a:pt x="419" y="1277"/>
                </a:lnTo>
                <a:lnTo>
                  <a:pt x="424" y="1288"/>
                </a:lnTo>
                <a:lnTo>
                  <a:pt x="429" y="1305"/>
                </a:lnTo>
                <a:lnTo>
                  <a:pt x="429" y="1315"/>
                </a:lnTo>
                <a:lnTo>
                  <a:pt x="435" y="1332"/>
                </a:lnTo>
                <a:lnTo>
                  <a:pt x="440" y="1343"/>
                </a:lnTo>
                <a:lnTo>
                  <a:pt x="446" y="1359"/>
                </a:lnTo>
                <a:lnTo>
                  <a:pt x="451" y="1370"/>
                </a:lnTo>
                <a:lnTo>
                  <a:pt x="451" y="1381"/>
                </a:lnTo>
                <a:lnTo>
                  <a:pt x="457" y="1397"/>
                </a:lnTo>
                <a:lnTo>
                  <a:pt x="462" y="1408"/>
                </a:lnTo>
                <a:lnTo>
                  <a:pt x="468" y="1419"/>
                </a:lnTo>
                <a:lnTo>
                  <a:pt x="473" y="1430"/>
                </a:lnTo>
                <a:lnTo>
                  <a:pt x="473" y="1441"/>
                </a:lnTo>
                <a:lnTo>
                  <a:pt x="478" y="1451"/>
                </a:lnTo>
                <a:lnTo>
                  <a:pt x="484" y="1462"/>
                </a:lnTo>
                <a:lnTo>
                  <a:pt x="489" y="1473"/>
                </a:lnTo>
                <a:lnTo>
                  <a:pt x="489" y="1484"/>
                </a:lnTo>
                <a:lnTo>
                  <a:pt x="495" y="1495"/>
                </a:lnTo>
                <a:lnTo>
                  <a:pt x="500" y="1500"/>
                </a:lnTo>
                <a:lnTo>
                  <a:pt x="506" y="1511"/>
                </a:lnTo>
                <a:lnTo>
                  <a:pt x="511" y="1500"/>
                </a:lnTo>
                <a:lnTo>
                  <a:pt x="511" y="1495"/>
                </a:lnTo>
                <a:lnTo>
                  <a:pt x="516" y="1484"/>
                </a:lnTo>
                <a:lnTo>
                  <a:pt x="522" y="1473"/>
                </a:lnTo>
                <a:lnTo>
                  <a:pt x="527" y="1468"/>
                </a:lnTo>
                <a:lnTo>
                  <a:pt x="533" y="1462"/>
                </a:lnTo>
                <a:lnTo>
                  <a:pt x="533" y="1451"/>
                </a:lnTo>
                <a:lnTo>
                  <a:pt x="538" y="1446"/>
                </a:lnTo>
                <a:lnTo>
                  <a:pt x="544" y="1441"/>
                </a:lnTo>
                <a:lnTo>
                  <a:pt x="549" y="1430"/>
                </a:lnTo>
                <a:lnTo>
                  <a:pt x="555" y="1424"/>
                </a:lnTo>
                <a:lnTo>
                  <a:pt x="555" y="1419"/>
                </a:lnTo>
                <a:lnTo>
                  <a:pt x="560" y="1413"/>
                </a:lnTo>
                <a:lnTo>
                  <a:pt x="565" y="1408"/>
                </a:lnTo>
                <a:lnTo>
                  <a:pt x="571" y="1402"/>
                </a:lnTo>
                <a:lnTo>
                  <a:pt x="576" y="1397"/>
                </a:lnTo>
                <a:lnTo>
                  <a:pt x="576" y="1392"/>
                </a:lnTo>
                <a:lnTo>
                  <a:pt x="582" y="1386"/>
                </a:lnTo>
                <a:lnTo>
                  <a:pt x="587" y="1381"/>
                </a:lnTo>
                <a:lnTo>
                  <a:pt x="593" y="1375"/>
                </a:lnTo>
                <a:lnTo>
                  <a:pt x="598" y="1370"/>
                </a:lnTo>
                <a:lnTo>
                  <a:pt x="603" y="1364"/>
                </a:lnTo>
                <a:lnTo>
                  <a:pt x="609" y="1364"/>
                </a:lnTo>
                <a:lnTo>
                  <a:pt x="614" y="1359"/>
                </a:lnTo>
                <a:lnTo>
                  <a:pt x="620" y="1354"/>
                </a:lnTo>
                <a:lnTo>
                  <a:pt x="625" y="1348"/>
                </a:lnTo>
                <a:lnTo>
                  <a:pt x="631" y="1348"/>
                </a:lnTo>
                <a:lnTo>
                  <a:pt x="636" y="1343"/>
                </a:lnTo>
                <a:lnTo>
                  <a:pt x="642" y="1343"/>
                </a:lnTo>
                <a:lnTo>
                  <a:pt x="647" y="1343"/>
                </a:lnTo>
                <a:lnTo>
                  <a:pt x="652" y="1343"/>
                </a:lnTo>
                <a:lnTo>
                  <a:pt x="658" y="1337"/>
                </a:lnTo>
                <a:lnTo>
                  <a:pt x="663" y="1337"/>
                </a:lnTo>
                <a:lnTo>
                  <a:pt x="669" y="1337"/>
                </a:lnTo>
                <a:lnTo>
                  <a:pt x="674" y="1337"/>
                </a:lnTo>
                <a:lnTo>
                  <a:pt x="680" y="1337"/>
                </a:lnTo>
                <a:lnTo>
                  <a:pt x="685" y="1337"/>
                </a:lnTo>
                <a:lnTo>
                  <a:pt x="690" y="1337"/>
                </a:lnTo>
                <a:lnTo>
                  <a:pt x="696" y="1337"/>
                </a:lnTo>
                <a:lnTo>
                  <a:pt x="701" y="1337"/>
                </a:lnTo>
                <a:lnTo>
                  <a:pt x="707" y="1337"/>
                </a:lnTo>
                <a:lnTo>
                  <a:pt x="712" y="1337"/>
                </a:lnTo>
                <a:lnTo>
                  <a:pt x="718" y="1343"/>
                </a:lnTo>
                <a:lnTo>
                  <a:pt x="723" y="1343"/>
                </a:lnTo>
                <a:lnTo>
                  <a:pt x="729" y="1343"/>
                </a:lnTo>
                <a:lnTo>
                  <a:pt x="734" y="1348"/>
                </a:lnTo>
                <a:lnTo>
                  <a:pt x="739" y="1348"/>
                </a:lnTo>
                <a:lnTo>
                  <a:pt x="745" y="1354"/>
                </a:lnTo>
                <a:lnTo>
                  <a:pt x="750" y="1354"/>
                </a:lnTo>
                <a:lnTo>
                  <a:pt x="756" y="1354"/>
                </a:lnTo>
                <a:lnTo>
                  <a:pt x="761" y="1359"/>
                </a:lnTo>
                <a:lnTo>
                  <a:pt x="767" y="1364"/>
                </a:lnTo>
                <a:lnTo>
                  <a:pt x="772" y="1364"/>
                </a:lnTo>
                <a:lnTo>
                  <a:pt x="777" y="1370"/>
                </a:lnTo>
                <a:lnTo>
                  <a:pt x="783" y="1375"/>
                </a:lnTo>
                <a:lnTo>
                  <a:pt x="788" y="1375"/>
                </a:lnTo>
                <a:lnTo>
                  <a:pt x="794" y="1381"/>
                </a:lnTo>
                <a:lnTo>
                  <a:pt x="799" y="1381"/>
                </a:lnTo>
                <a:lnTo>
                  <a:pt x="805" y="1386"/>
                </a:lnTo>
                <a:lnTo>
                  <a:pt x="810" y="1392"/>
                </a:lnTo>
                <a:lnTo>
                  <a:pt x="816" y="1392"/>
                </a:lnTo>
                <a:lnTo>
                  <a:pt x="821" y="1397"/>
                </a:lnTo>
                <a:lnTo>
                  <a:pt x="826" y="1402"/>
                </a:lnTo>
                <a:lnTo>
                  <a:pt x="832" y="1402"/>
                </a:lnTo>
                <a:lnTo>
                  <a:pt x="837" y="1408"/>
                </a:lnTo>
                <a:lnTo>
                  <a:pt x="843" y="1413"/>
                </a:lnTo>
                <a:lnTo>
                  <a:pt x="848" y="1419"/>
                </a:lnTo>
                <a:lnTo>
                  <a:pt x="854" y="1419"/>
                </a:lnTo>
                <a:lnTo>
                  <a:pt x="859" y="1424"/>
                </a:lnTo>
                <a:lnTo>
                  <a:pt x="864" y="1430"/>
                </a:lnTo>
                <a:lnTo>
                  <a:pt x="870" y="1435"/>
                </a:lnTo>
                <a:lnTo>
                  <a:pt x="875" y="1435"/>
                </a:lnTo>
                <a:lnTo>
                  <a:pt x="881" y="1441"/>
                </a:lnTo>
                <a:lnTo>
                  <a:pt x="886" y="1446"/>
                </a:lnTo>
                <a:lnTo>
                  <a:pt x="892" y="1451"/>
                </a:lnTo>
                <a:lnTo>
                  <a:pt x="897" y="1451"/>
                </a:lnTo>
                <a:lnTo>
                  <a:pt x="903" y="1457"/>
                </a:lnTo>
                <a:lnTo>
                  <a:pt x="908" y="1462"/>
                </a:lnTo>
                <a:lnTo>
                  <a:pt x="913" y="1468"/>
                </a:lnTo>
                <a:lnTo>
                  <a:pt x="919" y="1468"/>
                </a:lnTo>
                <a:lnTo>
                  <a:pt x="924" y="1473"/>
                </a:lnTo>
                <a:lnTo>
                  <a:pt x="930" y="1479"/>
                </a:lnTo>
                <a:lnTo>
                  <a:pt x="935" y="1479"/>
                </a:lnTo>
                <a:lnTo>
                  <a:pt x="941" y="1484"/>
                </a:lnTo>
                <a:lnTo>
                  <a:pt x="946" y="1484"/>
                </a:lnTo>
                <a:lnTo>
                  <a:pt x="951" y="1489"/>
                </a:lnTo>
                <a:lnTo>
                  <a:pt x="957" y="1495"/>
                </a:lnTo>
                <a:lnTo>
                  <a:pt x="962" y="1495"/>
                </a:lnTo>
                <a:lnTo>
                  <a:pt x="968" y="1500"/>
                </a:lnTo>
                <a:lnTo>
                  <a:pt x="973" y="1506"/>
                </a:lnTo>
                <a:lnTo>
                  <a:pt x="979" y="1506"/>
                </a:lnTo>
                <a:lnTo>
                  <a:pt x="984" y="1511"/>
                </a:lnTo>
                <a:lnTo>
                  <a:pt x="990" y="1511"/>
                </a:lnTo>
                <a:lnTo>
                  <a:pt x="995" y="1506"/>
                </a:lnTo>
                <a:lnTo>
                  <a:pt x="1000" y="1500"/>
                </a:lnTo>
                <a:lnTo>
                  <a:pt x="1006" y="1500"/>
                </a:lnTo>
                <a:lnTo>
                  <a:pt x="1011" y="1495"/>
                </a:lnTo>
                <a:lnTo>
                  <a:pt x="1017" y="1495"/>
                </a:lnTo>
                <a:lnTo>
                  <a:pt x="1022" y="1489"/>
                </a:lnTo>
                <a:lnTo>
                  <a:pt x="1028" y="1489"/>
                </a:lnTo>
                <a:lnTo>
                  <a:pt x="1033" y="1484"/>
                </a:lnTo>
                <a:lnTo>
                  <a:pt x="1038" y="1484"/>
                </a:lnTo>
                <a:lnTo>
                  <a:pt x="1044" y="1484"/>
                </a:lnTo>
                <a:lnTo>
                  <a:pt x="1049" y="1479"/>
                </a:lnTo>
                <a:lnTo>
                  <a:pt x="1055" y="1479"/>
                </a:lnTo>
                <a:lnTo>
                  <a:pt x="1060" y="1479"/>
                </a:lnTo>
                <a:lnTo>
                  <a:pt x="1066" y="1473"/>
                </a:lnTo>
                <a:lnTo>
                  <a:pt x="1071" y="1473"/>
                </a:lnTo>
                <a:lnTo>
                  <a:pt x="1077" y="1468"/>
                </a:lnTo>
                <a:lnTo>
                  <a:pt x="1082" y="1468"/>
                </a:lnTo>
                <a:lnTo>
                  <a:pt x="1087" y="1468"/>
                </a:lnTo>
                <a:lnTo>
                  <a:pt x="1093" y="1468"/>
                </a:lnTo>
                <a:lnTo>
                  <a:pt x="1098" y="1462"/>
                </a:lnTo>
                <a:lnTo>
                  <a:pt x="1104" y="1462"/>
                </a:lnTo>
                <a:lnTo>
                  <a:pt x="1109" y="1462"/>
                </a:lnTo>
                <a:lnTo>
                  <a:pt x="1115" y="1462"/>
                </a:lnTo>
                <a:lnTo>
                  <a:pt x="1120" y="1457"/>
                </a:lnTo>
                <a:lnTo>
                  <a:pt x="1125" y="1457"/>
                </a:lnTo>
                <a:lnTo>
                  <a:pt x="1131" y="1457"/>
                </a:lnTo>
                <a:lnTo>
                  <a:pt x="1136" y="1457"/>
                </a:lnTo>
                <a:lnTo>
                  <a:pt x="1142" y="1457"/>
                </a:lnTo>
                <a:lnTo>
                  <a:pt x="1147" y="1457"/>
                </a:lnTo>
                <a:lnTo>
                  <a:pt x="1153" y="1457"/>
                </a:lnTo>
                <a:lnTo>
                  <a:pt x="1158" y="1451"/>
                </a:lnTo>
                <a:lnTo>
                  <a:pt x="1164" y="1451"/>
                </a:lnTo>
                <a:lnTo>
                  <a:pt x="1169" y="1451"/>
                </a:lnTo>
                <a:lnTo>
                  <a:pt x="1174" y="1451"/>
                </a:lnTo>
                <a:lnTo>
                  <a:pt x="1180" y="1451"/>
                </a:lnTo>
                <a:lnTo>
                  <a:pt x="1185" y="1451"/>
                </a:lnTo>
                <a:lnTo>
                  <a:pt x="1191" y="1451"/>
                </a:lnTo>
                <a:lnTo>
                  <a:pt x="1196" y="1451"/>
                </a:lnTo>
                <a:lnTo>
                  <a:pt x="1202" y="1451"/>
                </a:lnTo>
                <a:lnTo>
                  <a:pt x="1207" y="1451"/>
                </a:lnTo>
                <a:lnTo>
                  <a:pt x="1212" y="1451"/>
                </a:lnTo>
                <a:lnTo>
                  <a:pt x="1218" y="1451"/>
                </a:lnTo>
                <a:lnTo>
                  <a:pt x="1223" y="1451"/>
                </a:lnTo>
                <a:lnTo>
                  <a:pt x="1229" y="1451"/>
                </a:lnTo>
                <a:lnTo>
                  <a:pt x="1234" y="1451"/>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567480" y="5019840"/>
            <a:ext cx="1459080" cy="95040"/>
          </a:xfrm>
          <a:custGeom>
            <a:avLst/>
            <a:gdLst/>
            <a:ahLst/>
            <a:rect l="l" t="t" r="r" b="b"/>
            <a:pathLst>
              <a:path w="919" h="60">
                <a:moveTo>
                  <a:pt x="0" y="0"/>
                </a:moveTo>
                <a:lnTo>
                  <a:pt x="6" y="0"/>
                </a:lnTo>
                <a:lnTo>
                  <a:pt x="11" y="0"/>
                </a:lnTo>
                <a:lnTo>
                  <a:pt x="17" y="0"/>
                </a:lnTo>
                <a:lnTo>
                  <a:pt x="22" y="0"/>
                </a:lnTo>
                <a:lnTo>
                  <a:pt x="27" y="0"/>
                </a:lnTo>
                <a:lnTo>
                  <a:pt x="33" y="0"/>
                </a:lnTo>
                <a:lnTo>
                  <a:pt x="38" y="0"/>
                </a:lnTo>
                <a:lnTo>
                  <a:pt x="44" y="0"/>
                </a:lnTo>
                <a:lnTo>
                  <a:pt x="49" y="6"/>
                </a:lnTo>
                <a:lnTo>
                  <a:pt x="55" y="6"/>
                </a:lnTo>
                <a:lnTo>
                  <a:pt x="60" y="6"/>
                </a:lnTo>
                <a:lnTo>
                  <a:pt x="65" y="6"/>
                </a:lnTo>
                <a:lnTo>
                  <a:pt x="71" y="6"/>
                </a:lnTo>
                <a:lnTo>
                  <a:pt x="76" y="6"/>
                </a:lnTo>
                <a:lnTo>
                  <a:pt x="82" y="6"/>
                </a:lnTo>
                <a:lnTo>
                  <a:pt x="87" y="6"/>
                </a:lnTo>
                <a:lnTo>
                  <a:pt x="93" y="11"/>
                </a:lnTo>
                <a:lnTo>
                  <a:pt x="98" y="11"/>
                </a:lnTo>
                <a:lnTo>
                  <a:pt x="104" y="11"/>
                </a:lnTo>
                <a:lnTo>
                  <a:pt x="109" y="11"/>
                </a:lnTo>
                <a:lnTo>
                  <a:pt x="114" y="11"/>
                </a:lnTo>
                <a:lnTo>
                  <a:pt x="120" y="11"/>
                </a:lnTo>
                <a:lnTo>
                  <a:pt x="125" y="11"/>
                </a:lnTo>
                <a:lnTo>
                  <a:pt x="131" y="11"/>
                </a:lnTo>
                <a:lnTo>
                  <a:pt x="136" y="17"/>
                </a:lnTo>
                <a:lnTo>
                  <a:pt x="142" y="17"/>
                </a:lnTo>
                <a:lnTo>
                  <a:pt x="147" y="17"/>
                </a:lnTo>
                <a:lnTo>
                  <a:pt x="152" y="17"/>
                </a:lnTo>
                <a:lnTo>
                  <a:pt x="158" y="17"/>
                </a:lnTo>
                <a:lnTo>
                  <a:pt x="163" y="17"/>
                </a:lnTo>
                <a:lnTo>
                  <a:pt x="169" y="22"/>
                </a:lnTo>
                <a:lnTo>
                  <a:pt x="174" y="22"/>
                </a:lnTo>
                <a:lnTo>
                  <a:pt x="180" y="22"/>
                </a:lnTo>
                <a:lnTo>
                  <a:pt x="185" y="22"/>
                </a:lnTo>
                <a:lnTo>
                  <a:pt x="191" y="22"/>
                </a:lnTo>
                <a:lnTo>
                  <a:pt x="196" y="22"/>
                </a:lnTo>
                <a:lnTo>
                  <a:pt x="201" y="28"/>
                </a:lnTo>
                <a:lnTo>
                  <a:pt x="207" y="28"/>
                </a:lnTo>
                <a:lnTo>
                  <a:pt x="212" y="28"/>
                </a:lnTo>
                <a:lnTo>
                  <a:pt x="218" y="28"/>
                </a:lnTo>
                <a:lnTo>
                  <a:pt x="223" y="28"/>
                </a:lnTo>
                <a:lnTo>
                  <a:pt x="229" y="28"/>
                </a:lnTo>
                <a:lnTo>
                  <a:pt x="234" y="33"/>
                </a:lnTo>
                <a:lnTo>
                  <a:pt x="239" y="33"/>
                </a:lnTo>
                <a:lnTo>
                  <a:pt x="245" y="33"/>
                </a:lnTo>
                <a:lnTo>
                  <a:pt x="250" y="33"/>
                </a:lnTo>
                <a:lnTo>
                  <a:pt x="256" y="33"/>
                </a:lnTo>
                <a:lnTo>
                  <a:pt x="261" y="33"/>
                </a:lnTo>
                <a:lnTo>
                  <a:pt x="267" y="33"/>
                </a:lnTo>
                <a:lnTo>
                  <a:pt x="272" y="38"/>
                </a:lnTo>
                <a:lnTo>
                  <a:pt x="278" y="38"/>
                </a:lnTo>
                <a:lnTo>
                  <a:pt x="283" y="38"/>
                </a:lnTo>
                <a:lnTo>
                  <a:pt x="288" y="38"/>
                </a:lnTo>
                <a:lnTo>
                  <a:pt x="294" y="38"/>
                </a:lnTo>
                <a:lnTo>
                  <a:pt x="299" y="38"/>
                </a:lnTo>
                <a:lnTo>
                  <a:pt x="305" y="44"/>
                </a:lnTo>
                <a:lnTo>
                  <a:pt x="310" y="44"/>
                </a:lnTo>
                <a:lnTo>
                  <a:pt x="316" y="44"/>
                </a:lnTo>
                <a:lnTo>
                  <a:pt x="321" y="44"/>
                </a:lnTo>
                <a:lnTo>
                  <a:pt x="326" y="44"/>
                </a:lnTo>
                <a:lnTo>
                  <a:pt x="332" y="44"/>
                </a:lnTo>
                <a:lnTo>
                  <a:pt x="337" y="44"/>
                </a:lnTo>
                <a:lnTo>
                  <a:pt x="343" y="44"/>
                </a:lnTo>
                <a:lnTo>
                  <a:pt x="348" y="49"/>
                </a:lnTo>
                <a:lnTo>
                  <a:pt x="354" y="49"/>
                </a:lnTo>
                <a:lnTo>
                  <a:pt x="359" y="49"/>
                </a:lnTo>
                <a:lnTo>
                  <a:pt x="365" y="49"/>
                </a:lnTo>
                <a:lnTo>
                  <a:pt x="370" y="49"/>
                </a:lnTo>
                <a:lnTo>
                  <a:pt x="375" y="49"/>
                </a:lnTo>
                <a:lnTo>
                  <a:pt x="381" y="49"/>
                </a:lnTo>
                <a:lnTo>
                  <a:pt x="386" y="49"/>
                </a:lnTo>
                <a:lnTo>
                  <a:pt x="392" y="49"/>
                </a:lnTo>
                <a:lnTo>
                  <a:pt x="397" y="55"/>
                </a:lnTo>
                <a:lnTo>
                  <a:pt x="403" y="55"/>
                </a:lnTo>
                <a:lnTo>
                  <a:pt x="408" y="55"/>
                </a:lnTo>
                <a:lnTo>
                  <a:pt x="413" y="55"/>
                </a:lnTo>
                <a:lnTo>
                  <a:pt x="419" y="55"/>
                </a:lnTo>
                <a:lnTo>
                  <a:pt x="424" y="55"/>
                </a:lnTo>
                <a:lnTo>
                  <a:pt x="430" y="55"/>
                </a:lnTo>
                <a:lnTo>
                  <a:pt x="435" y="55"/>
                </a:lnTo>
                <a:lnTo>
                  <a:pt x="441" y="55"/>
                </a:lnTo>
                <a:lnTo>
                  <a:pt x="446" y="55"/>
                </a:lnTo>
                <a:lnTo>
                  <a:pt x="452" y="55"/>
                </a:lnTo>
                <a:lnTo>
                  <a:pt x="457" y="55"/>
                </a:lnTo>
                <a:lnTo>
                  <a:pt x="462" y="55"/>
                </a:lnTo>
                <a:lnTo>
                  <a:pt x="468" y="60"/>
                </a:lnTo>
                <a:lnTo>
                  <a:pt x="473" y="60"/>
                </a:lnTo>
                <a:lnTo>
                  <a:pt x="479" y="60"/>
                </a:lnTo>
                <a:lnTo>
                  <a:pt x="484" y="60"/>
                </a:lnTo>
                <a:lnTo>
                  <a:pt x="490" y="60"/>
                </a:lnTo>
                <a:lnTo>
                  <a:pt x="495" y="60"/>
                </a:lnTo>
                <a:lnTo>
                  <a:pt x="500" y="60"/>
                </a:lnTo>
                <a:lnTo>
                  <a:pt x="506" y="60"/>
                </a:lnTo>
                <a:lnTo>
                  <a:pt x="511" y="60"/>
                </a:lnTo>
                <a:lnTo>
                  <a:pt x="517" y="60"/>
                </a:lnTo>
                <a:lnTo>
                  <a:pt x="522" y="60"/>
                </a:lnTo>
                <a:lnTo>
                  <a:pt x="528" y="60"/>
                </a:lnTo>
                <a:lnTo>
                  <a:pt x="533" y="60"/>
                </a:lnTo>
                <a:lnTo>
                  <a:pt x="539" y="60"/>
                </a:lnTo>
                <a:lnTo>
                  <a:pt x="544" y="60"/>
                </a:lnTo>
                <a:lnTo>
                  <a:pt x="549" y="60"/>
                </a:lnTo>
                <a:lnTo>
                  <a:pt x="555" y="60"/>
                </a:lnTo>
                <a:lnTo>
                  <a:pt x="560" y="60"/>
                </a:lnTo>
                <a:lnTo>
                  <a:pt x="566" y="60"/>
                </a:lnTo>
                <a:lnTo>
                  <a:pt x="571" y="60"/>
                </a:lnTo>
                <a:lnTo>
                  <a:pt x="577" y="60"/>
                </a:lnTo>
                <a:lnTo>
                  <a:pt x="582" y="55"/>
                </a:lnTo>
                <a:lnTo>
                  <a:pt x="587" y="55"/>
                </a:lnTo>
                <a:lnTo>
                  <a:pt x="593" y="55"/>
                </a:lnTo>
                <a:lnTo>
                  <a:pt x="598" y="55"/>
                </a:lnTo>
                <a:lnTo>
                  <a:pt x="604" y="55"/>
                </a:lnTo>
                <a:lnTo>
                  <a:pt x="609" y="55"/>
                </a:lnTo>
                <a:lnTo>
                  <a:pt x="615" y="55"/>
                </a:lnTo>
                <a:lnTo>
                  <a:pt x="620" y="55"/>
                </a:lnTo>
                <a:lnTo>
                  <a:pt x="626" y="55"/>
                </a:lnTo>
                <a:lnTo>
                  <a:pt x="631" y="55"/>
                </a:lnTo>
                <a:lnTo>
                  <a:pt x="636" y="55"/>
                </a:lnTo>
                <a:lnTo>
                  <a:pt x="642" y="55"/>
                </a:lnTo>
                <a:lnTo>
                  <a:pt x="647" y="55"/>
                </a:lnTo>
                <a:lnTo>
                  <a:pt x="653" y="55"/>
                </a:lnTo>
                <a:lnTo>
                  <a:pt x="658" y="55"/>
                </a:lnTo>
                <a:lnTo>
                  <a:pt x="664" y="55"/>
                </a:lnTo>
                <a:lnTo>
                  <a:pt x="669" y="55"/>
                </a:lnTo>
                <a:lnTo>
                  <a:pt x="674" y="55"/>
                </a:lnTo>
                <a:lnTo>
                  <a:pt x="680" y="55"/>
                </a:lnTo>
                <a:lnTo>
                  <a:pt x="685" y="55"/>
                </a:lnTo>
                <a:lnTo>
                  <a:pt x="691" y="55"/>
                </a:lnTo>
                <a:lnTo>
                  <a:pt x="696" y="55"/>
                </a:lnTo>
                <a:lnTo>
                  <a:pt x="702" y="55"/>
                </a:lnTo>
                <a:lnTo>
                  <a:pt x="707" y="55"/>
                </a:lnTo>
                <a:lnTo>
                  <a:pt x="713" y="55"/>
                </a:lnTo>
                <a:lnTo>
                  <a:pt x="718" y="55"/>
                </a:lnTo>
                <a:lnTo>
                  <a:pt x="723" y="55"/>
                </a:lnTo>
                <a:lnTo>
                  <a:pt x="729" y="55"/>
                </a:lnTo>
                <a:lnTo>
                  <a:pt x="734" y="55"/>
                </a:lnTo>
                <a:lnTo>
                  <a:pt x="740" y="55"/>
                </a:lnTo>
                <a:lnTo>
                  <a:pt x="745" y="55"/>
                </a:lnTo>
                <a:lnTo>
                  <a:pt x="751" y="55"/>
                </a:lnTo>
                <a:lnTo>
                  <a:pt x="756" y="55"/>
                </a:lnTo>
                <a:lnTo>
                  <a:pt x="761" y="55"/>
                </a:lnTo>
                <a:lnTo>
                  <a:pt x="767" y="55"/>
                </a:lnTo>
                <a:lnTo>
                  <a:pt x="772" y="55"/>
                </a:lnTo>
                <a:lnTo>
                  <a:pt x="778" y="55"/>
                </a:lnTo>
                <a:lnTo>
                  <a:pt x="783" y="55"/>
                </a:lnTo>
                <a:lnTo>
                  <a:pt x="789" y="55"/>
                </a:lnTo>
                <a:lnTo>
                  <a:pt x="794" y="60"/>
                </a:lnTo>
                <a:lnTo>
                  <a:pt x="800" y="60"/>
                </a:lnTo>
                <a:lnTo>
                  <a:pt x="805" y="60"/>
                </a:lnTo>
                <a:lnTo>
                  <a:pt x="810" y="60"/>
                </a:lnTo>
                <a:lnTo>
                  <a:pt x="816" y="60"/>
                </a:lnTo>
                <a:lnTo>
                  <a:pt x="821" y="60"/>
                </a:lnTo>
                <a:lnTo>
                  <a:pt x="827" y="60"/>
                </a:lnTo>
                <a:lnTo>
                  <a:pt x="832" y="60"/>
                </a:lnTo>
                <a:lnTo>
                  <a:pt x="838" y="60"/>
                </a:lnTo>
                <a:lnTo>
                  <a:pt x="843" y="60"/>
                </a:lnTo>
                <a:lnTo>
                  <a:pt x="848" y="60"/>
                </a:lnTo>
                <a:lnTo>
                  <a:pt x="854" y="60"/>
                </a:lnTo>
                <a:lnTo>
                  <a:pt x="859" y="60"/>
                </a:lnTo>
                <a:lnTo>
                  <a:pt x="865" y="60"/>
                </a:lnTo>
                <a:lnTo>
                  <a:pt x="870" y="60"/>
                </a:lnTo>
                <a:lnTo>
                  <a:pt x="876" y="60"/>
                </a:lnTo>
                <a:lnTo>
                  <a:pt x="881" y="60"/>
                </a:lnTo>
                <a:lnTo>
                  <a:pt x="887" y="60"/>
                </a:lnTo>
                <a:lnTo>
                  <a:pt x="892" y="60"/>
                </a:lnTo>
                <a:lnTo>
                  <a:pt x="897" y="60"/>
                </a:lnTo>
                <a:lnTo>
                  <a:pt x="903" y="60"/>
                </a:lnTo>
                <a:lnTo>
                  <a:pt x="908" y="60"/>
                </a:lnTo>
                <a:lnTo>
                  <a:pt x="914" y="60"/>
                </a:lnTo>
                <a:lnTo>
                  <a:pt x="919" y="6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866200" y="5486400"/>
            <a:ext cx="83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gle, degrees</a:t>
            </a:r>
            <a:endParaRPr b="0" lang="en-US" sz="1000" spc="-1" strike="noStrike">
              <a:solidFill>
                <a:srgbClr val="000000"/>
              </a:solidFill>
              <a:latin typeface="Times New Roman"/>
            </a:endParaRPr>
          </a:p>
        </p:txBody>
      </p:sp>
      <p:sp>
        <p:nvSpPr>
          <p:cNvPr id="1259"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83280" y="3429000"/>
            <a:ext cx="328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 differences  &lt;1 d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gt;1 dB but &lt; 1.5 d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gt; 1.5 dB</a:t>
            </a:r>
            <a:endParaRPr b="0" lang="en-US" sz="2400" spc="-1" strike="noStrike">
              <a:solidFill>
                <a:srgbClr val="000000"/>
              </a:solidFill>
              <a:latin typeface="Times New Roman"/>
            </a:endParaRPr>
          </a:p>
        </p:txBody>
      </p:sp>
      <p:sp>
        <p:nvSpPr>
          <p:cNvPr id="1262" name=""/>
          <p:cNvSpPr/>
          <p:nvPr/>
        </p:nvSpPr>
        <p:spPr>
          <a:xfrm>
            <a:off x="685800" y="838080"/>
            <a:ext cx="763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Kirchhoff approximation is formally a high frequency approximation ( ka &gt;&gt;1), numerical tests have shown it capable of producing good agreement (&lt;1 dB difference) for the peak-to-peak time domain response of a circular crack at normal incidence down to ka =1.5  provided the bandwidth is sufficient</a:t>
            </a:r>
            <a:endParaRPr b="0" lang="en-US" sz="2400" spc="-1" strike="noStrike">
              <a:solidFill>
                <a:srgbClr val="000000"/>
              </a:solidFill>
              <a:latin typeface="Times New Roman"/>
            </a:endParaRPr>
          </a:p>
        </p:txBody>
      </p:sp>
      <p:sp>
        <p:nvSpPr>
          <p:cNvPr id="1263" name=""/>
          <p:cNvSpPr/>
          <p:nvPr/>
        </p:nvSpPr>
        <p:spPr>
          <a:xfrm>
            <a:off x="4778280" y="3238560"/>
            <a:ext cx="3403800" cy="26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778280" y="3238560"/>
            <a:ext cx="3403800" cy="2689200"/>
          </a:xfrm>
          <a:prstGeom prst="rect">
            <a:avLst/>
          </a:prstGeom>
          <a:noFill/>
          <a:ln cap="rnd"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5" name="" descr=""/>
          <p:cNvPicPr/>
          <p:nvPr/>
        </p:nvPicPr>
        <p:blipFill>
          <a:blip r:embed="rId1"/>
          <a:stretch/>
        </p:blipFill>
        <p:spPr>
          <a:xfrm>
            <a:off x="4778280" y="3241800"/>
            <a:ext cx="3405240" cy="2689200"/>
          </a:xfrm>
          <a:prstGeom prst="rect">
            <a:avLst/>
          </a:prstGeom>
          <a:ln w="0">
            <a:noFill/>
          </a:ln>
        </p:spPr>
      </p:pic>
      <p:sp>
        <p:nvSpPr>
          <p:cNvPr id="1266" name=""/>
          <p:cNvSpPr/>
          <p:nvPr/>
        </p:nvSpPr>
        <p:spPr>
          <a:xfrm>
            <a:off x="5716080" y="64929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000000"/>
              </a:solidFill>
              <a:latin typeface="Times New Roman"/>
            </a:endParaRPr>
          </a:p>
        </p:txBody>
      </p:sp>
      <p:sp>
        <p:nvSpPr>
          <p:cNvPr id="1267" name=""/>
          <p:cNvSpPr/>
          <p:nvPr/>
        </p:nvSpPr>
        <p:spPr>
          <a:xfrm flipV="1">
            <a:off x="487512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8" name=""/>
          <p:cNvSpPr/>
          <p:nvPr/>
        </p:nvSpPr>
        <p:spPr>
          <a:xfrm>
            <a:off x="487512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9" name=""/>
          <p:cNvSpPr/>
          <p:nvPr/>
        </p:nvSpPr>
        <p:spPr>
          <a:xfrm>
            <a:off x="481176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270" name=""/>
          <p:cNvSpPr/>
          <p:nvPr/>
        </p:nvSpPr>
        <p:spPr>
          <a:xfrm flipV="1">
            <a:off x="527544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1" name=""/>
          <p:cNvSpPr/>
          <p:nvPr/>
        </p:nvSpPr>
        <p:spPr>
          <a:xfrm>
            <a:off x="527544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2" name=""/>
          <p:cNvSpPr/>
          <p:nvPr/>
        </p:nvSpPr>
        <p:spPr>
          <a:xfrm>
            <a:off x="521208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273" name=""/>
          <p:cNvSpPr/>
          <p:nvPr/>
        </p:nvSpPr>
        <p:spPr>
          <a:xfrm flipV="1">
            <a:off x="567684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4" name=""/>
          <p:cNvSpPr/>
          <p:nvPr/>
        </p:nvSpPr>
        <p:spPr>
          <a:xfrm>
            <a:off x="567684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5" name=""/>
          <p:cNvSpPr/>
          <p:nvPr/>
        </p:nvSpPr>
        <p:spPr>
          <a:xfrm>
            <a:off x="561204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276" name=""/>
          <p:cNvSpPr/>
          <p:nvPr/>
        </p:nvSpPr>
        <p:spPr>
          <a:xfrm flipV="1">
            <a:off x="607680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7" name=""/>
          <p:cNvSpPr/>
          <p:nvPr/>
        </p:nvSpPr>
        <p:spPr>
          <a:xfrm>
            <a:off x="607680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8" name=""/>
          <p:cNvSpPr/>
          <p:nvPr/>
        </p:nvSpPr>
        <p:spPr>
          <a:xfrm>
            <a:off x="601344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279" name=""/>
          <p:cNvSpPr/>
          <p:nvPr/>
        </p:nvSpPr>
        <p:spPr>
          <a:xfrm flipV="1">
            <a:off x="647712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0" name=""/>
          <p:cNvSpPr/>
          <p:nvPr/>
        </p:nvSpPr>
        <p:spPr>
          <a:xfrm>
            <a:off x="647712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1" name=""/>
          <p:cNvSpPr/>
          <p:nvPr/>
        </p:nvSpPr>
        <p:spPr>
          <a:xfrm>
            <a:off x="641376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282" name=""/>
          <p:cNvSpPr/>
          <p:nvPr/>
        </p:nvSpPr>
        <p:spPr>
          <a:xfrm flipV="1">
            <a:off x="687852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3" name=""/>
          <p:cNvSpPr/>
          <p:nvPr/>
        </p:nvSpPr>
        <p:spPr>
          <a:xfrm>
            <a:off x="687852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4" name=""/>
          <p:cNvSpPr/>
          <p:nvPr/>
        </p:nvSpPr>
        <p:spPr>
          <a:xfrm>
            <a:off x="681372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285" name=""/>
          <p:cNvSpPr/>
          <p:nvPr/>
        </p:nvSpPr>
        <p:spPr>
          <a:xfrm flipV="1">
            <a:off x="727884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6" name=""/>
          <p:cNvSpPr/>
          <p:nvPr/>
        </p:nvSpPr>
        <p:spPr>
          <a:xfrm>
            <a:off x="727884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7" name=""/>
          <p:cNvSpPr/>
          <p:nvPr/>
        </p:nvSpPr>
        <p:spPr>
          <a:xfrm>
            <a:off x="721548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1288" name=""/>
          <p:cNvSpPr/>
          <p:nvPr/>
        </p:nvSpPr>
        <p:spPr>
          <a:xfrm flipV="1">
            <a:off x="767880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9" name=""/>
          <p:cNvSpPr/>
          <p:nvPr/>
        </p:nvSpPr>
        <p:spPr>
          <a:xfrm>
            <a:off x="767880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a:off x="761544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91" name=""/>
          <p:cNvSpPr/>
          <p:nvPr/>
        </p:nvSpPr>
        <p:spPr>
          <a:xfrm flipV="1">
            <a:off x="807876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2" name=""/>
          <p:cNvSpPr/>
          <p:nvPr/>
        </p:nvSpPr>
        <p:spPr>
          <a:xfrm>
            <a:off x="807876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3" name=""/>
          <p:cNvSpPr/>
          <p:nvPr/>
        </p:nvSpPr>
        <p:spPr>
          <a:xfrm>
            <a:off x="8015400" y="604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294" name=""/>
          <p:cNvSpPr/>
          <p:nvPr/>
        </p:nvSpPr>
        <p:spPr>
          <a:xfrm>
            <a:off x="4778280" y="589284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5" name=""/>
          <p:cNvSpPr/>
          <p:nvPr/>
        </p:nvSpPr>
        <p:spPr>
          <a:xfrm flipH="1">
            <a:off x="8148240" y="589284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a:off x="4505400" y="5826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1297" name=""/>
          <p:cNvSpPr/>
          <p:nvPr/>
        </p:nvSpPr>
        <p:spPr>
          <a:xfrm>
            <a:off x="4778280" y="560232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flipH="1">
            <a:off x="8148240" y="560232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a:off x="4598280" y="5533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00" name=""/>
          <p:cNvSpPr/>
          <p:nvPr/>
        </p:nvSpPr>
        <p:spPr>
          <a:xfrm>
            <a:off x="4778280" y="531036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 name=""/>
          <p:cNvSpPr/>
          <p:nvPr/>
        </p:nvSpPr>
        <p:spPr>
          <a:xfrm flipH="1">
            <a:off x="8148240" y="531036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4505400" y="52419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303" name=""/>
          <p:cNvSpPr/>
          <p:nvPr/>
        </p:nvSpPr>
        <p:spPr>
          <a:xfrm>
            <a:off x="4778280" y="501804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flipH="1">
            <a:off x="8148240" y="501804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4598280" y="495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306" name=""/>
          <p:cNvSpPr/>
          <p:nvPr/>
        </p:nvSpPr>
        <p:spPr>
          <a:xfrm>
            <a:off x="4778280" y="472608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
          <p:cNvSpPr/>
          <p:nvPr/>
        </p:nvSpPr>
        <p:spPr>
          <a:xfrm flipH="1">
            <a:off x="8148240" y="472608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
          <p:cNvSpPr/>
          <p:nvPr/>
        </p:nvSpPr>
        <p:spPr>
          <a:xfrm>
            <a:off x="4505400" y="4659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309" name=""/>
          <p:cNvSpPr/>
          <p:nvPr/>
        </p:nvSpPr>
        <p:spPr>
          <a:xfrm>
            <a:off x="4778280" y="443376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0" name=""/>
          <p:cNvSpPr/>
          <p:nvPr/>
        </p:nvSpPr>
        <p:spPr>
          <a:xfrm flipH="1">
            <a:off x="8148240" y="443376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1" name=""/>
          <p:cNvSpPr/>
          <p:nvPr/>
        </p:nvSpPr>
        <p:spPr>
          <a:xfrm>
            <a:off x="4598280" y="4367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312" name=""/>
          <p:cNvSpPr/>
          <p:nvPr/>
        </p:nvSpPr>
        <p:spPr>
          <a:xfrm>
            <a:off x="4778280" y="414324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3" name=""/>
          <p:cNvSpPr/>
          <p:nvPr/>
        </p:nvSpPr>
        <p:spPr>
          <a:xfrm flipH="1">
            <a:off x="8148240" y="414324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
          <p:cNvSpPr/>
          <p:nvPr/>
        </p:nvSpPr>
        <p:spPr>
          <a:xfrm>
            <a:off x="4505400" y="4075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1315" name=""/>
          <p:cNvSpPr/>
          <p:nvPr/>
        </p:nvSpPr>
        <p:spPr>
          <a:xfrm>
            <a:off x="4778280" y="385128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flipH="1">
            <a:off x="8148240" y="385128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4598280" y="3782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318" name=""/>
          <p:cNvSpPr/>
          <p:nvPr/>
        </p:nvSpPr>
        <p:spPr>
          <a:xfrm>
            <a:off x="4778280" y="355932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flipH="1">
            <a:off x="8148240" y="355932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 name=""/>
          <p:cNvSpPr/>
          <p:nvPr/>
        </p:nvSpPr>
        <p:spPr>
          <a:xfrm>
            <a:off x="4505400" y="3492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321" name=""/>
          <p:cNvSpPr/>
          <p:nvPr/>
        </p:nvSpPr>
        <p:spPr>
          <a:xfrm>
            <a:off x="4778280" y="326700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2" name=""/>
          <p:cNvSpPr/>
          <p:nvPr/>
        </p:nvSpPr>
        <p:spPr>
          <a:xfrm flipH="1">
            <a:off x="8148240" y="326700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3" name=""/>
          <p:cNvSpPr/>
          <p:nvPr/>
        </p:nvSpPr>
        <p:spPr>
          <a:xfrm>
            <a:off x="4598280" y="320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324" name=""/>
          <p:cNvSpPr/>
          <p:nvPr/>
        </p:nvSpPr>
        <p:spPr>
          <a:xfrm>
            <a:off x="4775040" y="3232080"/>
            <a:ext cx="3407040" cy="269712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4778280" y="3238560"/>
            <a:ext cx="3403800" cy="26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778280" y="3238560"/>
            <a:ext cx="3403800" cy="2689200"/>
          </a:xfrm>
          <a:prstGeom prst="rect">
            <a:avLst/>
          </a:prstGeom>
          <a:noFill/>
          <a:ln cap="rnd"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27" name="" descr=""/>
          <p:cNvPicPr/>
          <p:nvPr/>
        </p:nvPicPr>
        <p:blipFill>
          <a:blip r:embed="rId2"/>
          <a:stretch/>
        </p:blipFill>
        <p:spPr>
          <a:xfrm>
            <a:off x="4778280" y="3241800"/>
            <a:ext cx="3405240" cy="2689200"/>
          </a:xfrm>
          <a:prstGeom prst="rect">
            <a:avLst/>
          </a:prstGeom>
          <a:ln w="0">
            <a:noFill/>
          </a:ln>
        </p:spPr>
      </p:pic>
      <p:sp>
        <p:nvSpPr>
          <p:cNvPr id="1328" name=""/>
          <p:cNvSpPr/>
          <p:nvPr/>
        </p:nvSpPr>
        <p:spPr>
          <a:xfrm rot="16200000">
            <a:off x="4060440" y="432108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a:t>
            </a:r>
            <a:endParaRPr b="0" lang="en-US" sz="2400" spc="-1" strike="noStrike">
              <a:solidFill>
                <a:srgbClr val="000000"/>
              </a:solidFill>
              <a:latin typeface="Times New Roman"/>
            </a:endParaRPr>
          </a:p>
        </p:txBody>
      </p:sp>
      <p:sp>
        <p:nvSpPr>
          <p:cNvPr id="1329" name=""/>
          <p:cNvSpPr/>
          <p:nvPr/>
        </p:nvSpPr>
        <p:spPr>
          <a:xfrm flipV="1">
            <a:off x="487512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0" name=""/>
          <p:cNvSpPr/>
          <p:nvPr/>
        </p:nvSpPr>
        <p:spPr>
          <a:xfrm>
            <a:off x="487512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1" name=""/>
          <p:cNvSpPr/>
          <p:nvPr/>
        </p:nvSpPr>
        <p:spPr>
          <a:xfrm flipV="1">
            <a:off x="527544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2" name=""/>
          <p:cNvSpPr/>
          <p:nvPr/>
        </p:nvSpPr>
        <p:spPr>
          <a:xfrm>
            <a:off x="527544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3" name=""/>
          <p:cNvSpPr/>
          <p:nvPr/>
        </p:nvSpPr>
        <p:spPr>
          <a:xfrm flipV="1">
            <a:off x="567684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4" name=""/>
          <p:cNvSpPr/>
          <p:nvPr/>
        </p:nvSpPr>
        <p:spPr>
          <a:xfrm>
            <a:off x="567684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5" name=""/>
          <p:cNvSpPr/>
          <p:nvPr/>
        </p:nvSpPr>
        <p:spPr>
          <a:xfrm flipV="1">
            <a:off x="607680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6" name=""/>
          <p:cNvSpPr/>
          <p:nvPr/>
        </p:nvSpPr>
        <p:spPr>
          <a:xfrm>
            <a:off x="607680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flipV="1">
            <a:off x="647712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8" name=""/>
          <p:cNvSpPr/>
          <p:nvPr/>
        </p:nvSpPr>
        <p:spPr>
          <a:xfrm>
            <a:off x="647712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9" name=""/>
          <p:cNvSpPr/>
          <p:nvPr/>
        </p:nvSpPr>
        <p:spPr>
          <a:xfrm flipV="1">
            <a:off x="6878520" y="5892480"/>
            <a:ext cx="180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0" name=""/>
          <p:cNvSpPr/>
          <p:nvPr/>
        </p:nvSpPr>
        <p:spPr>
          <a:xfrm>
            <a:off x="6878520" y="3238560"/>
            <a:ext cx="180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1" name=""/>
          <p:cNvSpPr/>
          <p:nvPr/>
        </p:nvSpPr>
        <p:spPr>
          <a:xfrm flipV="1">
            <a:off x="727884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2" name=""/>
          <p:cNvSpPr/>
          <p:nvPr/>
        </p:nvSpPr>
        <p:spPr>
          <a:xfrm>
            <a:off x="727884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3" name=""/>
          <p:cNvSpPr/>
          <p:nvPr/>
        </p:nvSpPr>
        <p:spPr>
          <a:xfrm flipV="1">
            <a:off x="767880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4" name=""/>
          <p:cNvSpPr/>
          <p:nvPr/>
        </p:nvSpPr>
        <p:spPr>
          <a:xfrm>
            <a:off x="767880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5" name=""/>
          <p:cNvSpPr/>
          <p:nvPr/>
        </p:nvSpPr>
        <p:spPr>
          <a:xfrm flipV="1">
            <a:off x="8078760" y="5892480"/>
            <a:ext cx="1440" cy="34920"/>
          </a:xfrm>
          <a:prstGeom prst="line">
            <a:avLst/>
          </a:prstGeom>
          <a:ln cap="rnd"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6" name=""/>
          <p:cNvSpPr/>
          <p:nvPr/>
        </p:nvSpPr>
        <p:spPr>
          <a:xfrm>
            <a:off x="8078760" y="3238560"/>
            <a:ext cx="1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7" name=""/>
          <p:cNvSpPr/>
          <p:nvPr/>
        </p:nvSpPr>
        <p:spPr>
          <a:xfrm>
            <a:off x="4778280" y="589284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
          <p:cNvSpPr/>
          <p:nvPr/>
        </p:nvSpPr>
        <p:spPr>
          <a:xfrm flipH="1">
            <a:off x="8148240" y="589284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4778280" y="560232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flipH="1">
            <a:off x="8148240" y="560232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4778280" y="531036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flipH="1">
            <a:off x="8148240" y="531036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4778280" y="501804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
          <p:cNvSpPr/>
          <p:nvPr/>
        </p:nvSpPr>
        <p:spPr>
          <a:xfrm flipH="1">
            <a:off x="8148240" y="501804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4778280" y="472608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flipH="1">
            <a:off x="8148240" y="472608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4778280" y="443376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flipH="1">
            <a:off x="8148240" y="443376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4778280" y="414324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0" name=""/>
          <p:cNvSpPr/>
          <p:nvPr/>
        </p:nvSpPr>
        <p:spPr>
          <a:xfrm flipH="1">
            <a:off x="8148240" y="414324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1" name=""/>
          <p:cNvSpPr/>
          <p:nvPr/>
        </p:nvSpPr>
        <p:spPr>
          <a:xfrm>
            <a:off x="4778280" y="385128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flipH="1">
            <a:off x="8148240" y="385128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4778280" y="3559320"/>
            <a:ext cx="2880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4" name=""/>
          <p:cNvSpPr/>
          <p:nvPr/>
        </p:nvSpPr>
        <p:spPr>
          <a:xfrm flipH="1">
            <a:off x="8148240" y="3559320"/>
            <a:ext cx="33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
          <p:cNvSpPr/>
          <p:nvPr/>
        </p:nvSpPr>
        <p:spPr>
          <a:xfrm>
            <a:off x="4778280" y="3267000"/>
            <a:ext cx="288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flipH="1">
            <a:off x="8148240" y="3267000"/>
            <a:ext cx="33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4775040" y="3232080"/>
            <a:ext cx="3407040" cy="269712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066680" y="914400"/>
            <a:ext cx="778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synthesized waveforms scattered from a 0.381 mm radius crack using the Kirchhoff approximation  and MOOT using frequencies from 0-25 MHz approximately (pulse echo)</a:t>
            </a:r>
            <a:endParaRPr b="0" lang="en-US" sz="2400" spc="-1" strike="noStrike">
              <a:solidFill>
                <a:srgbClr val="000000"/>
              </a:solidFill>
              <a:latin typeface="Times New Roman"/>
            </a:endParaRPr>
          </a:p>
        </p:txBody>
      </p:sp>
      <p:sp>
        <p:nvSpPr>
          <p:cNvPr id="1371" name=""/>
          <p:cNvSpPr/>
          <p:nvPr/>
        </p:nvSpPr>
        <p:spPr>
          <a:xfrm>
            <a:off x="3133800" y="2933640"/>
            <a:ext cx="3681360" cy="29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133800" y="2933640"/>
            <a:ext cx="3681360" cy="29066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133800" y="2933640"/>
            <a:ext cx="36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a:off x="3133800" y="5840280"/>
            <a:ext cx="36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flipV="1">
            <a:off x="6815160" y="2933640"/>
            <a:ext cx="144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V="1">
            <a:off x="3133800" y="2933640"/>
            <a:ext cx="144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flipV="1">
            <a:off x="3133800" y="5803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8" name=""/>
          <p:cNvSpPr/>
          <p:nvPr/>
        </p:nvSpPr>
        <p:spPr>
          <a:xfrm>
            <a:off x="3133800" y="29336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9" name=""/>
          <p:cNvSpPr/>
          <p:nvPr/>
        </p:nvSpPr>
        <p:spPr>
          <a:xfrm>
            <a:off x="3088800" y="5916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380" name=""/>
          <p:cNvSpPr/>
          <p:nvPr/>
        </p:nvSpPr>
        <p:spPr>
          <a:xfrm flipV="1">
            <a:off x="3870360" y="5803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1" name=""/>
          <p:cNvSpPr/>
          <p:nvPr/>
        </p:nvSpPr>
        <p:spPr>
          <a:xfrm>
            <a:off x="3870360" y="29336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2" name=""/>
          <p:cNvSpPr/>
          <p:nvPr/>
        </p:nvSpPr>
        <p:spPr>
          <a:xfrm>
            <a:off x="3825360" y="5916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383" name=""/>
          <p:cNvSpPr/>
          <p:nvPr/>
        </p:nvSpPr>
        <p:spPr>
          <a:xfrm flipV="1">
            <a:off x="4606920" y="5803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4" name=""/>
          <p:cNvSpPr/>
          <p:nvPr/>
        </p:nvSpPr>
        <p:spPr>
          <a:xfrm>
            <a:off x="4606920" y="29336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5" name=""/>
          <p:cNvSpPr/>
          <p:nvPr/>
        </p:nvSpPr>
        <p:spPr>
          <a:xfrm>
            <a:off x="4536720" y="5916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386" name=""/>
          <p:cNvSpPr/>
          <p:nvPr/>
        </p:nvSpPr>
        <p:spPr>
          <a:xfrm flipV="1">
            <a:off x="5343480" y="58035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7" name=""/>
          <p:cNvSpPr/>
          <p:nvPr/>
        </p:nvSpPr>
        <p:spPr>
          <a:xfrm>
            <a:off x="5343480" y="29336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8" name=""/>
          <p:cNvSpPr/>
          <p:nvPr/>
        </p:nvSpPr>
        <p:spPr>
          <a:xfrm>
            <a:off x="5273280" y="5916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389" name=""/>
          <p:cNvSpPr/>
          <p:nvPr/>
        </p:nvSpPr>
        <p:spPr>
          <a:xfrm flipV="1">
            <a:off x="6080040" y="58035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0" name=""/>
          <p:cNvSpPr/>
          <p:nvPr/>
        </p:nvSpPr>
        <p:spPr>
          <a:xfrm>
            <a:off x="6080040" y="29336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1" name=""/>
          <p:cNvSpPr/>
          <p:nvPr/>
        </p:nvSpPr>
        <p:spPr>
          <a:xfrm>
            <a:off x="6009840" y="5916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392" name=""/>
          <p:cNvSpPr/>
          <p:nvPr/>
        </p:nvSpPr>
        <p:spPr>
          <a:xfrm flipV="1">
            <a:off x="6815160" y="5803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3" name=""/>
          <p:cNvSpPr/>
          <p:nvPr/>
        </p:nvSpPr>
        <p:spPr>
          <a:xfrm>
            <a:off x="6815160" y="29336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4" name=""/>
          <p:cNvSpPr/>
          <p:nvPr/>
        </p:nvSpPr>
        <p:spPr>
          <a:xfrm>
            <a:off x="6746400" y="5916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1395" name=""/>
          <p:cNvSpPr/>
          <p:nvPr/>
        </p:nvSpPr>
        <p:spPr>
          <a:xfrm>
            <a:off x="3133800" y="58402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flipH="1">
            <a:off x="6778440" y="5840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7" name=""/>
          <p:cNvSpPr/>
          <p:nvPr/>
        </p:nvSpPr>
        <p:spPr>
          <a:xfrm>
            <a:off x="2931840" y="5791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398" name=""/>
          <p:cNvSpPr/>
          <p:nvPr/>
        </p:nvSpPr>
        <p:spPr>
          <a:xfrm>
            <a:off x="3133800" y="55497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9" name=""/>
          <p:cNvSpPr/>
          <p:nvPr/>
        </p:nvSpPr>
        <p:spPr>
          <a:xfrm flipH="1">
            <a:off x="6778440" y="55497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0" name=""/>
          <p:cNvSpPr/>
          <p:nvPr/>
        </p:nvSpPr>
        <p:spPr>
          <a:xfrm>
            <a:off x="2863080" y="5500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1401" name=""/>
          <p:cNvSpPr/>
          <p:nvPr/>
        </p:nvSpPr>
        <p:spPr>
          <a:xfrm>
            <a:off x="3133800" y="52592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flipH="1">
            <a:off x="6778440" y="5259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3" name=""/>
          <p:cNvSpPr/>
          <p:nvPr/>
        </p:nvSpPr>
        <p:spPr>
          <a:xfrm>
            <a:off x="2863080" y="52102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1404" name=""/>
          <p:cNvSpPr/>
          <p:nvPr/>
        </p:nvSpPr>
        <p:spPr>
          <a:xfrm>
            <a:off x="3133800" y="49687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5" name=""/>
          <p:cNvSpPr/>
          <p:nvPr/>
        </p:nvSpPr>
        <p:spPr>
          <a:xfrm flipH="1">
            <a:off x="6778440" y="49687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
          <p:cNvSpPr/>
          <p:nvPr/>
        </p:nvSpPr>
        <p:spPr>
          <a:xfrm>
            <a:off x="2863080" y="4919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Times New Roman"/>
            </a:endParaRPr>
          </a:p>
        </p:txBody>
      </p:sp>
      <p:sp>
        <p:nvSpPr>
          <p:cNvPr id="1407" name=""/>
          <p:cNvSpPr/>
          <p:nvPr/>
        </p:nvSpPr>
        <p:spPr>
          <a:xfrm>
            <a:off x="3133800" y="46782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
          <p:cNvSpPr/>
          <p:nvPr/>
        </p:nvSpPr>
        <p:spPr>
          <a:xfrm flipH="1">
            <a:off x="6778440" y="467820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
          <p:cNvSpPr/>
          <p:nvPr/>
        </p:nvSpPr>
        <p:spPr>
          <a:xfrm>
            <a:off x="2863080" y="4627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1410" name=""/>
          <p:cNvSpPr/>
          <p:nvPr/>
        </p:nvSpPr>
        <p:spPr>
          <a:xfrm>
            <a:off x="3133800" y="43862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1" name=""/>
          <p:cNvSpPr/>
          <p:nvPr/>
        </p:nvSpPr>
        <p:spPr>
          <a:xfrm flipH="1">
            <a:off x="6778440" y="43862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2863080" y="433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1413" name=""/>
          <p:cNvSpPr/>
          <p:nvPr/>
        </p:nvSpPr>
        <p:spPr>
          <a:xfrm>
            <a:off x="3133800" y="40892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
          <p:cNvSpPr/>
          <p:nvPr/>
        </p:nvSpPr>
        <p:spPr>
          <a:xfrm flipH="1">
            <a:off x="6778440" y="4089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
          <p:cNvSpPr/>
          <p:nvPr/>
        </p:nvSpPr>
        <p:spPr>
          <a:xfrm>
            <a:off x="2863080" y="40402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1416" name=""/>
          <p:cNvSpPr/>
          <p:nvPr/>
        </p:nvSpPr>
        <p:spPr>
          <a:xfrm>
            <a:off x="3133800" y="37987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flipH="1">
            <a:off x="6778440" y="37987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8" name=""/>
          <p:cNvSpPr/>
          <p:nvPr/>
        </p:nvSpPr>
        <p:spPr>
          <a:xfrm>
            <a:off x="2863080" y="3749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Times New Roman"/>
            </a:endParaRPr>
          </a:p>
        </p:txBody>
      </p:sp>
      <p:sp>
        <p:nvSpPr>
          <p:cNvPr id="1419" name=""/>
          <p:cNvSpPr/>
          <p:nvPr/>
        </p:nvSpPr>
        <p:spPr>
          <a:xfrm>
            <a:off x="3133800" y="35146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flipH="1">
            <a:off x="6778440" y="35146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2863080" y="34653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1422" name=""/>
          <p:cNvSpPr/>
          <p:nvPr/>
        </p:nvSpPr>
        <p:spPr>
          <a:xfrm>
            <a:off x="3133800" y="32241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3" name=""/>
          <p:cNvSpPr/>
          <p:nvPr/>
        </p:nvSpPr>
        <p:spPr>
          <a:xfrm flipH="1">
            <a:off x="6778440" y="32241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4" name=""/>
          <p:cNvSpPr/>
          <p:nvPr/>
        </p:nvSpPr>
        <p:spPr>
          <a:xfrm>
            <a:off x="2863080" y="31748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Times New Roman"/>
            </a:endParaRPr>
          </a:p>
        </p:txBody>
      </p:sp>
      <p:sp>
        <p:nvSpPr>
          <p:cNvPr id="1425" name=""/>
          <p:cNvSpPr/>
          <p:nvPr/>
        </p:nvSpPr>
        <p:spPr>
          <a:xfrm>
            <a:off x="3133800" y="29336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flipH="1">
            <a:off x="6778440" y="29336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2931840" y="2882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428" name=""/>
          <p:cNvSpPr/>
          <p:nvPr/>
        </p:nvSpPr>
        <p:spPr>
          <a:xfrm>
            <a:off x="3133800" y="2933640"/>
            <a:ext cx="785880" cy="1800"/>
          </a:xfrm>
          <a:custGeom>
            <a:avLst/>
            <a:gdLst/>
            <a:ahLst/>
            <a:rect l="l" t="t" r="r" b="b"/>
            <a:pathLst>
              <a:path w="495" h="0">
                <a:moveTo>
                  <a:pt x="0" y="0"/>
                </a:moveTo>
                <a:lnTo>
                  <a:pt x="4" y="0"/>
                </a:lnTo>
                <a:lnTo>
                  <a:pt x="8" y="0"/>
                </a:lnTo>
                <a:lnTo>
                  <a:pt x="12" y="0"/>
                </a:lnTo>
                <a:lnTo>
                  <a:pt x="15" y="0"/>
                </a:lnTo>
                <a:lnTo>
                  <a:pt x="19" y="0"/>
                </a:lnTo>
                <a:lnTo>
                  <a:pt x="23" y="0"/>
                </a:lnTo>
                <a:lnTo>
                  <a:pt x="27" y="0"/>
                </a:lnTo>
                <a:lnTo>
                  <a:pt x="31" y="0"/>
                </a:lnTo>
                <a:lnTo>
                  <a:pt x="35" y="0"/>
                </a:lnTo>
                <a:lnTo>
                  <a:pt x="39" y="0"/>
                </a:lnTo>
                <a:lnTo>
                  <a:pt x="43" y="0"/>
                </a:lnTo>
                <a:lnTo>
                  <a:pt x="47" y="0"/>
                </a:lnTo>
                <a:lnTo>
                  <a:pt x="51" y="0"/>
                </a:lnTo>
                <a:lnTo>
                  <a:pt x="54" y="0"/>
                </a:lnTo>
                <a:lnTo>
                  <a:pt x="58" y="0"/>
                </a:lnTo>
                <a:lnTo>
                  <a:pt x="62" y="0"/>
                </a:lnTo>
                <a:lnTo>
                  <a:pt x="66" y="0"/>
                </a:lnTo>
                <a:lnTo>
                  <a:pt x="70" y="0"/>
                </a:lnTo>
                <a:lnTo>
                  <a:pt x="74" y="0"/>
                </a:lnTo>
                <a:lnTo>
                  <a:pt x="78" y="0"/>
                </a:lnTo>
                <a:lnTo>
                  <a:pt x="82" y="0"/>
                </a:lnTo>
                <a:lnTo>
                  <a:pt x="86" y="0"/>
                </a:lnTo>
                <a:lnTo>
                  <a:pt x="90" y="0"/>
                </a:lnTo>
                <a:lnTo>
                  <a:pt x="93" y="0"/>
                </a:lnTo>
                <a:lnTo>
                  <a:pt x="97" y="0"/>
                </a:lnTo>
                <a:lnTo>
                  <a:pt x="101" y="0"/>
                </a:lnTo>
                <a:lnTo>
                  <a:pt x="105" y="0"/>
                </a:lnTo>
                <a:lnTo>
                  <a:pt x="109" y="0"/>
                </a:lnTo>
                <a:lnTo>
                  <a:pt x="113" y="0"/>
                </a:lnTo>
                <a:lnTo>
                  <a:pt x="117" y="0"/>
                </a:lnTo>
                <a:lnTo>
                  <a:pt x="121" y="0"/>
                </a:lnTo>
                <a:lnTo>
                  <a:pt x="125" y="0"/>
                </a:lnTo>
                <a:lnTo>
                  <a:pt x="128" y="0"/>
                </a:lnTo>
                <a:lnTo>
                  <a:pt x="132" y="0"/>
                </a:lnTo>
                <a:lnTo>
                  <a:pt x="136" y="0"/>
                </a:lnTo>
                <a:lnTo>
                  <a:pt x="140" y="0"/>
                </a:lnTo>
                <a:lnTo>
                  <a:pt x="144" y="0"/>
                </a:lnTo>
                <a:lnTo>
                  <a:pt x="148" y="0"/>
                </a:lnTo>
                <a:lnTo>
                  <a:pt x="152" y="0"/>
                </a:lnTo>
                <a:lnTo>
                  <a:pt x="156" y="0"/>
                </a:lnTo>
                <a:lnTo>
                  <a:pt x="160" y="0"/>
                </a:lnTo>
                <a:lnTo>
                  <a:pt x="164" y="0"/>
                </a:lnTo>
                <a:lnTo>
                  <a:pt x="167" y="0"/>
                </a:lnTo>
                <a:lnTo>
                  <a:pt x="171" y="0"/>
                </a:lnTo>
                <a:lnTo>
                  <a:pt x="175" y="0"/>
                </a:lnTo>
                <a:lnTo>
                  <a:pt x="179" y="0"/>
                </a:lnTo>
                <a:lnTo>
                  <a:pt x="183" y="0"/>
                </a:lnTo>
                <a:lnTo>
                  <a:pt x="187" y="0"/>
                </a:lnTo>
                <a:lnTo>
                  <a:pt x="191" y="0"/>
                </a:lnTo>
                <a:lnTo>
                  <a:pt x="195" y="0"/>
                </a:lnTo>
                <a:lnTo>
                  <a:pt x="199" y="0"/>
                </a:lnTo>
                <a:lnTo>
                  <a:pt x="203" y="0"/>
                </a:lnTo>
                <a:lnTo>
                  <a:pt x="206" y="0"/>
                </a:lnTo>
                <a:lnTo>
                  <a:pt x="210" y="0"/>
                </a:lnTo>
                <a:lnTo>
                  <a:pt x="214" y="0"/>
                </a:lnTo>
                <a:lnTo>
                  <a:pt x="218" y="0"/>
                </a:lnTo>
                <a:lnTo>
                  <a:pt x="222" y="0"/>
                </a:lnTo>
                <a:lnTo>
                  <a:pt x="226" y="0"/>
                </a:lnTo>
                <a:lnTo>
                  <a:pt x="230" y="0"/>
                </a:lnTo>
                <a:lnTo>
                  <a:pt x="234" y="0"/>
                </a:lnTo>
                <a:lnTo>
                  <a:pt x="238" y="0"/>
                </a:lnTo>
                <a:lnTo>
                  <a:pt x="242" y="0"/>
                </a:lnTo>
                <a:lnTo>
                  <a:pt x="245" y="0"/>
                </a:lnTo>
                <a:lnTo>
                  <a:pt x="249" y="0"/>
                </a:lnTo>
                <a:lnTo>
                  <a:pt x="253" y="0"/>
                </a:lnTo>
                <a:lnTo>
                  <a:pt x="257" y="0"/>
                </a:lnTo>
                <a:lnTo>
                  <a:pt x="261" y="0"/>
                </a:lnTo>
                <a:lnTo>
                  <a:pt x="265" y="0"/>
                </a:lnTo>
                <a:lnTo>
                  <a:pt x="269" y="0"/>
                </a:lnTo>
                <a:lnTo>
                  <a:pt x="273" y="0"/>
                </a:lnTo>
                <a:lnTo>
                  <a:pt x="277" y="0"/>
                </a:lnTo>
                <a:lnTo>
                  <a:pt x="281" y="0"/>
                </a:lnTo>
                <a:lnTo>
                  <a:pt x="284" y="0"/>
                </a:lnTo>
                <a:lnTo>
                  <a:pt x="288" y="0"/>
                </a:lnTo>
                <a:lnTo>
                  <a:pt x="292" y="0"/>
                </a:lnTo>
                <a:lnTo>
                  <a:pt x="296" y="0"/>
                </a:lnTo>
                <a:lnTo>
                  <a:pt x="300" y="0"/>
                </a:lnTo>
                <a:lnTo>
                  <a:pt x="304" y="0"/>
                </a:lnTo>
                <a:lnTo>
                  <a:pt x="308" y="0"/>
                </a:lnTo>
                <a:lnTo>
                  <a:pt x="312" y="0"/>
                </a:lnTo>
                <a:lnTo>
                  <a:pt x="316" y="0"/>
                </a:lnTo>
                <a:lnTo>
                  <a:pt x="320" y="0"/>
                </a:lnTo>
                <a:lnTo>
                  <a:pt x="323" y="0"/>
                </a:lnTo>
                <a:lnTo>
                  <a:pt x="327" y="0"/>
                </a:lnTo>
                <a:lnTo>
                  <a:pt x="331" y="0"/>
                </a:lnTo>
                <a:lnTo>
                  <a:pt x="335" y="0"/>
                </a:lnTo>
                <a:lnTo>
                  <a:pt x="339" y="0"/>
                </a:lnTo>
                <a:lnTo>
                  <a:pt x="343" y="0"/>
                </a:lnTo>
                <a:lnTo>
                  <a:pt x="347" y="0"/>
                </a:lnTo>
                <a:lnTo>
                  <a:pt x="351" y="0"/>
                </a:lnTo>
                <a:lnTo>
                  <a:pt x="355" y="0"/>
                </a:lnTo>
                <a:lnTo>
                  <a:pt x="359" y="0"/>
                </a:lnTo>
                <a:lnTo>
                  <a:pt x="362" y="0"/>
                </a:lnTo>
                <a:lnTo>
                  <a:pt x="366" y="0"/>
                </a:lnTo>
                <a:lnTo>
                  <a:pt x="370" y="0"/>
                </a:lnTo>
                <a:lnTo>
                  <a:pt x="374" y="0"/>
                </a:lnTo>
                <a:lnTo>
                  <a:pt x="378" y="0"/>
                </a:lnTo>
                <a:lnTo>
                  <a:pt x="382" y="0"/>
                </a:lnTo>
                <a:lnTo>
                  <a:pt x="386" y="0"/>
                </a:lnTo>
                <a:lnTo>
                  <a:pt x="390" y="0"/>
                </a:lnTo>
                <a:lnTo>
                  <a:pt x="394" y="0"/>
                </a:lnTo>
                <a:lnTo>
                  <a:pt x="397" y="0"/>
                </a:lnTo>
                <a:lnTo>
                  <a:pt x="401" y="0"/>
                </a:lnTo>
                <a:lnTo>
                  <a:pt x="405" y="0"/>
                </a:lnTo>
                <a:lnTo>
                  <a:pt x="409" y="0"/>
                </a:lnTo>
                <a:lnTo>
                  <a:pt x="413" y="0"/>
                </a:lnTo>
                <a:lnTo>
                  <a:pt x="417" y="0"/>
                </a:lnTo>
                <a:lnTo>
                  <a:pt x="421" y="0"/>
                </a:lnTo>
                <a:lnTo>
                  <a:pt x="425" y="0"/>
                </a:lnTo>
                <a:lnTo>
                  <a:pt x="429" y="0"/>
                </a:lnTo>
                <a:lnTo>
                  <a:pt x="433" y="0"/>
                </a:lnTo>
                <a:lnTo>
                  <a:pt x="436" y="0"/>
                </a:lnTo>
                <a:lnTo>
                  <a:pt x="440" y="0"/>
                </a:lnTo>
                <a:lnTo>
                  <a:pt x="444" y="0"/>
                </a:lnTo>
                <a:lnTo>
                  <a:pt x="448" y="0"/>
                </a:lnTo>
                <a:lnTo>
                  <a:pt x="452" y="0"/>
                </a:lnTo>
                <a:lnTo>
                  <a:pt x="456" y="0"/>
                </a:lnTo>
                <a:lnTo>
                  <a:pt x="460" y="0"/>
                </a:lnTo>
                <a:lnTo>
                  <a:pt x="464" y="0"/>
                </a:lnTo>
                <a:lnTo>
                  <a:pt x="468" y="0"/>
                </a:lnTo>
                <a:lnTo>
                  <a:pt x="472" y="0"/>
                </a:lnTo>
                <a:lnTo>
                  <a:pt x="475" y="0"/>
                </a:lnTo>
                <a:lnTo>
                  <a:pt x="479" y="0"/>
                </a:lnTo>
                <a:lnTo>
                  <a:pt x="483" y="0"/>
                </a:lnTo>
                <a:lnTo>
                  <a:pt x="487" y="0"/>
                </a:lnTo>
                <a:lnTo>
                  <a:pt x="491" y="0"/>
                </a:lnTo>
                <a:lnTo>
                  <a:pt x="495" y="0"/>
                </a:lnTo>
              </a:path>
            </a:pathLst>
          </a:custGeom>
          <a:noFill/>
          <a:ln w="2844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9" name=""/>
          <p:cNvSpPr/>
          <p:nvPr/>
        </p:nvSpPr>
        <p:spPr>
          <a:xfrm>
            <a:off x="3919680" y="2933640"/>
            <a:ext cx="785520" cy="1800"/>
          </a:xfrm>
          <a:custGeom>
            <a:avLst/>
            <a:gdLst/>
            <a:ahLst/>
            <a:rect l="l" t="t" r="r" b="b"/>
            <a:pathLst>
              <a:path w="495" h="0">
                <a:moveTo>
                  <a:pt x="0" y="0"/>
                </a:moveTo>
                <a:lnTo>
                  <a:pt x="4" y="0"/>
                </a:lnTo>
                <a:lnTo>
                  <a:pt x="8" y="0"/>
                </a:lnTo>
                <a:lnTo>
                  <a:pt x="12" y="0"/>
                </a:lnTo>
                <a:lnTo>
                  <a:pt x="16" y="0"/>
                </a:lnTo>
                <a:lnTo>
                  <a:pt x="19" y="0"/>
                </a:lnTo>
                <a:lnTo>
                  <a:pt x="23" y="0"/>
                </a:lnTo>
                <a:lnTo>
                  <a:pt x="27" y="0"/>
                </a:lnTo>
                <a:lnTo>
                  <a:pt x="31" y="0"/>
                </a:lnTo>
                <a:lnTo>
                  <a:pt x="35" y="0"/>
                </a:lnTo>
                <a:lnTo>
                  <a:pt x="39" y="0"/>
                </a:lnTo>
                <a:lnTo>
                  <a:pt x="43" y="0"/>
                </a:lnTo>
                <a:lnTo>
                  <a:pt x="47" y="0"/>
                </a:lnTo>
                <a:lnTo>
                  <a:pt x="51" y="0"/>
                </a:lnTo>
                <a:lnTo>
                  <a:pt x="55" y="0"/>
                </a:lnTo>
                <a:lnTo>
                  <a:pt x="58" y="0"/>
                </a:lnTo>
                <a:lnTo>
                  <a:pt x="62" y="0"/>
                </a:lnTo>
                <a:lnTo>
                  <a:pt x="66" y="0"/>
                </a:lnTo>
                <a:lnTo>
                  <a:pt x="70" y="0"/>
                </a:lnTo>
                <a:lnTo>
                  <a:pt x="74" y="0"/>
                </a:lnTo>
                <a:lnTo>
                  <a:pt x="78" y="0"/>
                </a:lnTo>
                <a:lnTo>
                  <a:pt x="82" y="0"/>
                </a:lnTo>
                <a:lnTo>
                  <a:pt x="86" y="0"/>
                </a:lnTo>
                <a:lnTo>
                  <a:pt x="90" y="0"/>
                </a:lnTo>
                <a:lnTo>
                  <a:pt x="94" y="0"/>
                </a:lnTo>
                <a:lnTo>
                  <a:pt x="97" y="0"/>
                </a:lnTo>
                <a:lnTo>
                  <a:pt x="101" y="0"/>
                </a:lnTo>
                <a:lnTo>
                  <a:pt x="105" y="0"/>
                </a:lnTo>
                <a:lnTo>
                  <a:pt x="109" y="0"/>
                </a:lnTo>
                <a:lnTo>
                  <a:pt x="113" y="0"/>
                </a:lnTo>
                <a:lnTo>
                  <a:pt x="117" y="0"/>
                </a:lnTo>
                <a:lnTo>
                  <a:pt x="121" y="0"/>
                </a:lnTo>
                <a:lnTo>
                  <a:pt x="125" y="0"/>
                </a:lnTo>
                <a:lnTo>
                  <a:pt x="129" y="0"/>
                </a:lnTo>
                <a:lnTo>
                  <a:pt x="132" y="0"/>
                </a:lnTo>
                <a:lnTo>
                  <a:pt x="136" y="0"/>
                </a:lnTo>
                <a:lnTo>
                  <a:pt x="140" y="0"/>
                </a:lnTo>
                <a:lnTo>
                  <a:pt x="144" y="0"/>
                </a:lnTo>
                <a:lnTo>
                  <a:pt x="148" y="0"/>
                </a:lnTo>
                <a:lnTo>
                  <a:pt x="152" y="0"/>
                </a:lnTo>
                <a:lnTo>
                  <a:pt x="156" y="0"/>
                </a:lnTo>
                <a:lnTo>
                  <a:pt x="160" y="0"/>
                </a:lnTo>
                <a:lnTo>
                  <a:pt x="164" y="0"/>
                </a:lnTo>
                <a:lnTo>
                  <a:pt x="168" y="0"/>
                </a:lnTo>
                <a:lnTo>
                  <a:pt x="171" y="0"/>
                </a:lnTo>
                <a:lnTo>
                  <a:pt x="175" y="0"/>
                </a:lnTo>
                <a:lnTo>
                  <a:pt x="179" y="0"/>
                </a:lnTo>
                <a:lnTo>
                  <a:pt x="183" y="0"/>
                </a:lnTo>
                <a:lnTo>
                  <a:pt x="187" y="0"/>
                </a:lnTo>
                <a:lnTo>
                  <a:pt x="191" y="0"/>
                </a:lnTo>
                <a:lnTo>
                  <a:pt x="195" y="0"/>
                </a:lnTo>
                <a:lnTo>
                  <a:pt x="199" y="0"/>
                </a:lnTo>
                <a:lnTo>
                  <a:pt x="203" y="0"/>
                </a:lnTo>
                <a:lnTo>
                  <a:pt x="207" y="0"/>
                </a:lnTo>
                <a:lnTo>
                  <a:pt x="210" y="0"/>
                </a:lnTo>
                <a:lnTo>
                  <a:pt x="214" y="0"/>
                </a:lnTo>
                <a:lnTo>
                  <a:pt x="218" y="0"/>
                </a:lnTo>
                <a:lnTo>
                  <a:pt x="222" y="0"/>
                </a:lnTo>
                <a:lnTo>
                  <a:pt x="226" y="0"/>
                </a:lnTo>
                <a:lnTo>
                  <a:pt x="230" y="0"/>
                </a:lnTo>
                <a:lnTo>
                  <a:pt x="234" y="0"/>
                </a:lnTo>
                <a:lnTo>
                  <a:pt x="238" y="0"/>
                </a:lnTo>
                <a:lnTo>
                  <a:pt x="242" y="0"/>
                </a:lnTo>
                <a:lnTo>
                  <a:pt x="246" y="0"/>
                </a:lnTo>
                <a:lnTo>
                  <a:pt x="249" y="0"/>
                </a:lnTo>
                <a:lnTo>
                  <a:pt x="253" y="0"/>
                </a:lnTo>
                <a:lnTo>
                  <a:pt x="257" y="0"/>
                </a:lnTo>
                <a:lnTo>
                  <a:pt x="261" y="0"/>
                </a:lnTo>
                <a:lnTo>
                  <a:pt x="265" y="0"/>
                </a:lnTo>
                <a:lnTo>
                  <a:pt x="269" y="0"/>
                </a:lnTo>
                <a:lnTo>
                  <a:pt x="273" y="0"/>
                </a:lnTo>
                <a:lnTo>
                  <a:pt x="277" y="0"/>
                </a:lnTo>
                <a:lnTo>
                  <a:pt x="281" y="0"/>
                </a:lnTo>
                <a:lnTo>
                  <a:pt x="285" y="0"/>
                </a:lnTo>
                <a:lnTo>
                  <a:pt x="288" y="0"/>
                </a:lnTo>
                <a:lnTo>
                  <a:pt x="292" y="0"/>
                </a:lnTo>
                <a:lnTo>
                  <a:pt x="296" y="0"/>
                </a:lnTo>
                <a:lnTo>
                  <a:pt x="300" y="0"/>
                </a:lnTo>
                <a:lnTo>
                  <a:pt x="304" y="0"/>
                </a:lnTo>
                <a:lnTo>
                  <a:pt x="308" y="0"/>
                </a:lnTo>
                <a:lnTo>
                  <a:pt x="312" y="0"/>
                </a:lnTo>
                <a:lnTo>
                  <a:pt x="316" y="0"/>
                </a:lnTo>
                <a:lnTo>
                  <a:pt x="320" y="0"/>
                </a:lnTo>
                <a:lnTo>
                  <a:pt x="324" y="0"/>
                </a:lnTo>
                <a:lnTo>
                  <a:pt x="327" y="0"/>
                </a:lnTo>
                <a:lnTo>
                  <a:pt x="331" y="0"/>
                </a:lnTo>
                <a:lnTo>
                  <a:pt x="335" y="0"/>
                </a:lnTo>
                <a:lnTo>
                  <a:pt x="339" y="0"/>
                </a:lnTo>
                <a:lnTo>
                  <a:pt x="343" y="0"/>
                </a:lnTo>
                <a:lnTo>
                  <a:pt x="347" y="0"/>
                </a:lnTo>
                <a:lnTo>
                  <a:pt x="351" y="0"/>
                </a:lnTo>
                <a:lnTo>
                  <a:pt x="355" y="0"/>
                </a:lnTo>
                <a:lnTo>
                  <a:pt x="359" y="0"/>
                </a:lnTo>
                <a:lnTo>
                  <a:pt x="363" y="0"/>
                </a:lnTo>
                <a:lnTo>
                  <a:pt x="366" y="0"/>
                </a:lnTo>
                <a:lnTo>
                  <a:pt x="370" y="0"/>
                </a:lnTo>
                <a:lnTo>
                  <a:pt x="374" y="0"/>
                </a:lnTo>
                <a:lnTo>
                  <a:pt x="378" y="0"/>
                </a:lnTo>
                <a:lnTo>
                  <a:pt x="382" y="0"/>
                </a:lnTo>
                <a:lnTo>
                  <a:pt x="386" y="0"/>
                </a:lnTo>
                <a:lnTo>
                  <a:pt x="390" y="0"/>
                </a:lnTo>
                <a:lnTo>
                  <a:pt x="394" y="0"/>
                </a:lnTo>
                <a:lnTo>
                  <a:pt x="398" y="0"/>
                </a:lnTo>
                <a:lnTo>
                  <a:pt x="401" y="0"/>
                </a:lnTo>
                <a:lnTo>
                  <a:pt x="405" y="0"/>
                </a:lnTo>
                <a:lnTo>
                  <a:pt x="409" y="0"/>
                </a:lnTo>
                <a:lnTo>
                  <a:pt x="413" y="0"/>
                </a:lnTo>
                <a:lnTo>
                  <a:pt x="417" y="0"/>
                </a:lnTo>
                <a:lnTo>
                  <a:pt x="421" y="0"/>
                </a:lnTo>
                <a:lnTo>
                  <a:pt x="425" y="0"/>
                </a:lnTo>
                <a:lnTo>
                  <a:pt x="429" y="0"/>
                </a:lnTo>
                <a:lnTo>
                  <a:pt x="433" y="0"/>
                </a:lnTo>
                <a:lnTo>
                  <a:pt x="437" y="0"/>
                </a:lnTo>
                <a:lnTo>
                  <a:pt x="440" y="0"/>
                </a:lnTo>
                <a:lnTo>
                  <a:pt x="444" y="0"/>
                </a:lnTo>
                <a:lnTo>
                  <a:pt x="448" y="0"/>
                </a:lnTo>
                <a:lnTo>
                  <a:pt x="452" y="0"/>
                </a:lnTo>
                <a:lnTo>
                  <a:pt x="456" y="0"/>
                </a:lnTo>
                <a:lnTo>
                  <a:pt x="460" y="0"/>
                </a:lnTo>
                <a:lnTo>
                  <a:pt x="464" y="0"/>
                </a:lnTo>
                <a:lnTo>
                  <a:pt x="468" y="0"/>
                </a:lnTo>
                <a:lnTo>
                  <a:pt x="472" y="0"/>
                </a:lnTo>
                <a:lnTo>
                  <a:pt x="476" y="0"/>
                </a:lnTo>
                <a:lnTo>
                  <a:pt x="479" y="0"/>
                </a:lnTo>
                <a:lnTo>
                  <a:pt x="483" y="0"/>
                </a:lnTo>
                <a:lnTo>
                  <a:pt x="487" y="0"/>
                </a:lnTo>
                <a:lnTo>
                  <a:pt x="491" y="0"/>
                </a:lnTo>
                <a:lnTo>
                  <a:pt x="495" y="0"/>
                </a:lnTo>
              </a:path>
            </a:pathLst>
          </a:custGeom>
          <a:noFill/>
          <a:ln w="2844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4705200" y="2933640"/>
            <a:ext cx="711360" cy="401760"/>
          </a:xfrm>
          <a:custGeom>
            <a:avLst/>
            <a:gdLst/>
            <a:ahLst/>
            <a:rect l="l" t="t" r="r" b="b"/>
            <a:pathLst>
              <a:path w="448" h="253">
                <a:moveTo>
                  <a:pt x="0" y="0"/>
                </a:moveTo>
                <a:lnTo>
                  <a:pt x="4" y="0"/>
                </a:lnTo>
                <a:lnTo>
                  <a:pt x="8" y="0"/>
                </a:lnTo>
                <a:lnTo>
                  <a:pt x="12" y="0"/>
                </a:lnTo>
                <a:lnTo>
                  <a:pt x="16" y="0"/>
                </a:lnTo>
                <a:lnTo>
                  <a:pt x="20" y="0"/>
                </a:lnTo>
                <a:lnTo>
                  <a:pt x="23" y="0"/>
                </a:lnTo>
                <a:lnTo>
                  <a:pt x="27" y="0"/>
                </a:lnTo>
                <a:lnTo>
                  <a:pt x="31" y="0"/>
                </a:lnTo>
                <a:lnTo>
                  <a:pt x="35" y="0"/>
                </a:lnTo>
                <a:lnTo>
                  <a:pt x="39" y="0"/>
                </a:lnTo>
                <a:lnTo>
                  <a:pt x="43" y="0"/>
                </a:lnTo>
                <a:lnTo>
                  <a:pt x="47" y="0"/>
                </a:lnTo>
                <a:lnTo>
                  <a:pt x="51" y="0"/>
                </a:lnTo>
                <a:lnTo>
                  <a:pt x="55" y="0"/>
                </a:lnTo>
                <a:lnTo>
                  <a:pt x="59" y="0"/>
                </a:lnTo>
                <a:lnTo>
                  <a:pt x="62" y="0"/>
                </a:lnTo>
                <a:lnTo>
                  <a:pt x="66" y="0"/>
                </a:lnTo>
                <a:lnTo>
                  <a:pt x="70" y="0"/>
                </a:lnTo>
                <a:lnTo>
                  <a:pt x="74" y="0"/>
                </a:lnTo>
                <a:lnTo>
                  <a:pt x="78" y="0"/>
                </a:lnTo>
                <a:lnTo>
                  <a:pt x="82" y="0"/>
                </a:lnTo>
                <a:lnTo>
                  <a:pt x="86" y="0"/>
                </a:lnTo>
                <a:lnTo>
                  <a:pt x="90" y="0"/>
                </a:lnTo>
                <a:lnTo>
                  <a:pt x="94" y="0"/>
                </a:lnTo>
                <a:lnTo>
                  <a:pt x="98" y="0"/>
                </a:lnTo>
                <a:lnTo>
                  <a:pt x="101" y="0"/>
                </a:lnTo>
                <a:lnTo>
                  <a:pt x="105" y="0"/>
                </a:lnTo>
                <a:lnTo>
                  <a:pt x="109" y="0"/>
                </a:lnTo>
                <a:lnTo>
                  <a:pt x="113" y="0"/>
                </a:lnTo>
                <a:lnTo>
                  <a:pt x="117" y="0"/>
                </a:lnTo>
                <a:lnTo>
                  <a:pt x="121" y="0"/>
                </a:lnTo>
                <a:lnTo>
                  <a:pt x="125" y="0"/>
                </a:lnTo>
                <a:lnTo>
                  <a:pt x="129" y="0"/>
                </a:lnTo>
                <a:lnTo>
                  <a:pt x="133" y="0"/>
                </a:lnTo>
                <a:lnTo>
                  <a:pt x="136" y="0"/>
                </a:lnTo>
                <a:lnTo>
                  <a:pt x="140" y="0"/>
                </a:lnTo>
                <a:lnTo>
                  <a:pt x="144" y="0"/>
                </a:lnTo>
                <a:lnTo>
                  <a:pt x="148" y="0"/>
                </a:lnTo>
                <a:lnTo>
                  <a:pt x="152" y="0"/>
                </a:lnTo>
                <a:lnTo>
                  <a:pt x="156" y="0"/>
                </a:lnTo>
                <a:lnTo>
                  <a:pt x="160" y="0"/>
                </a:lnTo>
                <a:lnTo>
                  <a:pt x="164" y="0"/>
                </a:lnTo>
                <a:lnTo>
                  <a:pt x="168" y="0"/>
                </a:lnTo>
                <a:lnTo>
                  <a:pt x="172" y="0"/>
                </a:lnTo>
                <a:lnTo>
                  <a:pt x="175" y="0"/>
                </a:lnTo>
                <a:lnTo>
                  <a:pt x="179" y="0"/>
                </a:lnTo>
                <a:lnTo>
                  <a:pt x="183" y="0"/>
                </a:lnTo>
                <a:lnTo>
                  <a:pt x="187" y="0"/>
                </a:lnTo>
                <a:lnTo>
                  <a:pt x="191" y="0"/>
                </a:lnTo>
                <a:lnTo>
                  <a:pt x="195" y="0"/>
                </a:lnTo>
                <a:lnTo>
                  <a:pt x="199" y="0"/>
                </a:lnTo>
                <a:lnTo>
                  <a:pt x="203" y="3"/>
                </a:lnTo>
                <a:lnTo>
                  <a:pt x="207" y="3"/>
                </a:lnTo>
                <a:lnTo>
                  <a:pt x="211" y="3"/>
                </a:lnTo>
                <a:lnTo>
                  <a:pt x="214" y="3"/>
                </a:lnTo>
                <a:lnTo>
                  <a:pt x="218" y="7"/>
                </a:lnTo>
                <a:lnTo>
                  <a:pt x="222" y="7"/>
                </a:lnTo>
                <a:lnTo>
                  <a:pt x="226" y="11"/>
                </a:lnTo>
                <a:lnTo>
                  <a:pt x="230" y="11"/>
                </a:lnTo>
                <a:lnTo>
                  <a:pt x="234" y="11"/>
                </a:lnTo>
                <a:lnTo>
                  <a:pt x="238" y="15"/>
                </a:lnTo>
                <a:lnTo>
                  <a:pt x="242" y="15"/>
                </a:lnTo>
                <a:lnTo>
                  <a:pt x="246" y="19"/>
                </a:lnTo>
                <a:lnTo>
                  <a:pt x="250" y="19"/>
                </a:lnTo>
                <a:lnTo>
                  <a:pt x="253" y="23"/>
                </a:lnTo>
                <a:lnTo>
                  <a:pt x="257" y="23"/>
                </a:lnTo>
                <a:lnTo>
                  <a:pt x="261" y="27"/>
                </a:lnTo>
                <a:lnTo>
                  <a:pt x="265" y="31"/>
                </a:lnTo>
                <a:lnTo>
                  <a:pt x="269" y="31"/>
                </a:lnTo>
                <a:lnTo>
                  <a:pt x="273" y="35"/>
                </a:lnTo>
                <a:lnTo>
                  <a:pt x="277" y="39"/>
                </a:lnTo>
                <a:lnTo>
                  <a:pt x="281" y="42"/>
                </a:lnTo>
                <a:lnTo>
                  <a:pt x="285" y="42"/>
                </a:lnTo>
                <a:lnTo>
                  <a:pt x="289" y="46"/>
                </a:lnTo>
                <a:lnTo>
                  <a:pt x="292" y="50"/>
                </a:lnTo>
                <a:lnTo>
                  <a:pt x="296" y="54"/>
                </a:lnTo>
                <a:lnTo>
                  <a:pt x="300" y="58"/>
                </a:lnTo>
                <a:lnTo>
                  <a:pt x="304" y="62"/>
                </a:lnTo>
                <a:lnTo>
                  <a:pt x="308" y="62"/>
                </a:lnTo>
                <a:lnTo>
                  <a:pt x="312" y="66"/>
                </a:lnTo>
                <a:lnTo>
                  <a:pt x="316" y="74"/>
                </a:lnTo>
                <a:lnTo>
                  <a:pt x="320" y="74"/>
                </a:lnTo>
                <a:lnTo>
                  <a:pt x="324" y="78"/>
                </a:lnTo>
                <a:lnTo>
                  <a:pt x="328" y="85"/>
                </a:lnTo>
                <a:lnTo>
                  <a:pt x="331" y="85"/>
                </a:lnTo>
                <a:lnTo>
                  <a:pt x="335" y="93"/>
                </a:lnTo>
                <a:lnTo>
                  <a:pt x="339" y="97"/>
                </a:lnTo>
                <a:lnTo>
                  <a:pt x="343" y="101"/>
                </a:lnTo>
                <a:lnTo>
                  <a:pt x="347" y="105"/>
                </a:lnTo>
                <a:lnTo>
                  <a:pt x="351" y="109"/>
                </a:lnTo>
                <a:lnTo>
                  <a:pt x="355" y="113"/>
                </a:lnTo>
                <a:lnTo>
                  <a:pt x="359" y="117"/>
                </a:lnTo>
                <a:lnTo>
                  <a:pt x="363" y="120"/>
                </a:lnTo>
                <a:lnTo>
                  <a:pt x="363" y="124"/>
                </a:lnTo>
                <a:lnTo>
                  <a:pt x="370" y="128"/>
                </a:lnTo>
                <a:lnTo>
                  <a:pt x="370" y="132"/>
                </a:lnTo>
                <a:lnTo>
                  <a:pt x="374" y="136"/>
                </a:lnTo>
                <a:lnTo>
                  <a:pt x="374" y="140"/>
                </a:lnTo>
                <a:lnTo>
                  <a:pt x="378" y="144"/>
                </a:lnTo>
                <a:lnTo>
                  <a:pt x="382" y="148"/>
                </a:lnTo>
                <a:lnTo>
                  <a:pt x="386" y="152"/>
                </a:lnTo>
                <a:lnTo>
                  <a:pt x="386" y="155"/>
                </a:lnTo>
                <a:lnTo>
                  <a:pt x="390" y="159"/>
                </a:lnTo>
                <a:lnTo>
                  <a:pt x="394" y="163"/>
                </a:lnTo>
                <a:lnTo>
                  <a:pt x="398" y="167"/>
                </a:lnTo>
                <a:lnTo>
                  <a:pt x="398" y="171"/>
                </a:lnTo>
                <a:lnTo>
                  <a:pt x="402" y="175"/>
                </a:lnTo>
                <a:lnTo>
                  <a:pt x="402" y="179"/>
                </a:lnTo>
                <a:lnTo>
                  <a:pt x="405" y="183"/>
                </a:lnTo>
                <a:lnTo>
                  <a:pt x="409" y="187"/>
                </a:lnTo>
                <a:lnTo>
                  <a:pt x="413" y="191"/>
                </a:lnTo>
                <a:lnTo>
                  <a:pt x="413" y="194"/>
                </a:lnTo>
                <a:lnTo>
                  <a:pt x="417" y="198"/>
                </a:lnTo>
                <a:lnTo>
                  <a:pt x="421" y="202"/>
                </a:lnTo>
                <a:lnTo>
                  <a:pt x="421" y="206"/>
                </a:lnTo>
                <a:lnTo>
                  <a:pt x="425" y="210"/>
                </a:lnTo>
                <a:lnTo>
                  <a:pt x="425" y="214"/>
                </a:lnTo>
                <a:lnTo>
                  <a:pt x="429" y="218"/>
                </a:lnTo>
                <a:lnTo>
                  <a:pt x="433" y="222"/>
                </a:lnTo>
                <a:lnTo>
                  <a:pt x="433" y="226"/>
                </a:lnTo>
                <a:lnTo>
                  <a:pt x="437" y="230"/>
                </a:lnTo>
                <a:lnTo>
                  <a:pt x="437" y="233"/>
                </a:lnTo>
                <a:lnTo>
                  <a:pt x="441" y="237"/>
                </a:lnTo>
                <a:lnTo>
                  <a:pt x="444" y="241"/>
                </a:lnTo>
                <a:lnTo>
                  <a:pt x="444" y="245"/>
                </a:lnTo>
                <a:lnTo>
                  <a:pt x="448" y="249"/>
                </a:lnTo>
                <a:lnTo>
                  <a:pt x="448" y="253"/>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416560" y="3335400"/>
            <a:ext cx="471600" cy="1039680"/>
          </a:xfrm>
          <a:custGeom>
            <a:avLst/>
            <a:gdLst/>
            <a:ahLst/>
            <a:rect l="l" t="t" r="r" b="b"/>
            <a:pathLst>
              <a:path w="297" h="655">
                <a:moveTo>
                  <a:pt x="0" y="0"/>
                </a:moveTo>
                <a:lnTo>
                  <a:pt x="4" y="4"/>
                </a:lnTo>
                <a:lnTo>
                  <a:pt x="8" y="8"/>
                </a:lnTo>
                <a:lnTo>
                  <a:pt x="8" y="12"/>
                </a:lnTo>
                <a:lnTo>
                  <a:pt x="12" y="16"/>
                </a:lnTo>
                <a:lnTo>
                  <a:pt x="12" y="19"/>
                </a:lnTo>
                <a:lnTo>
                  <a:pt x="16" y="23"/>
                </a:lnTo>
                <a:lnTo>
                  <a:pt x="20" y="27"/>
                </a:lnTo>
                <a:lnTo>
                  <a:pt x="20" y="31"/>
                </a:lnTo>
                <a:lnTo>
                  <a:pt x="24" y="35"/>
                </a:lnTo>
                <a:lnTo>
                  <a:pt x="24" y="39"/>
                </a:lnTo>
                <a:lnTo>
                  <a:pt x="28" y="43"/>
                </a:lnTo>
                <a:lnTo>
                  <a:pt x="32" y="51"/>
                </a:lnTo>
                <a:lnTo>
                  <a:pt x="32" y="54"/>
                </a:lnTo>
                <a:lnTo>
                  <a:pt x="35" y="58"/>
                </a:lnTo>
                <a:lnTo>
                  <a:pt x="35" y="62"/>
                </a:lnTo>
                <a:lnTo>
                  <a:pt x="39" y="66"/>
                </a:lnTo>
                <a:lnTo>
                  <a:pt x="39" y="70"/>
                </a:lnTo>
                <a:lnTo>
                  <a:pt x="43" y="74"/>
                </a:lnTo>
                <a:lnTo>
                  <a:pt x="47" y="78"/>
                </a:lnTo>
                <a:lnTo>
                  <a:pt x="47" y="86"/>
                </a:lnTo>
                <a:lnTo>
                  <a:pt x="51" y="90"/>
                </a:lnTo>
                <a:lnTo>
                  <a:pt x="51" y="93"/>
                </a:lnTo>
                <a:lnTo>
                  <a:pt x="55" y="97"/>
                </a:lnTo>
                <a:lnTo>
                  <a:pt x="59" y="101"/>
                </a:lnTo>
                <a:lnTo>
                  <a:pt x="59" y="105"/>
                </a:lnTo>
                <a:lnTo>
                  <a:pt x="63" y="113"/>
                </a:lnTo>
                <a:lnTo>
                  <a:pt x="63" y="117"/>
                </a:lnTo>
                <a:lnTo>
                  <a:pt x="67" y="121"/>
                </a:lnTo>
                <a:lnTo>
                  <a:pt x="71" y="125"/>
                </a:lnTo>
                <a:lnTo>
                  <a:pt x="71" y="129"/>
                </a:lnTo>
                <a:lnTo>
                  <a:pt x="74" y="136"/>
                </a:lnTo>
                <a:lnTo>
                  <a:pt x="74" y="140"/>
                </a:lnTo>
                <a:lnTo>
                  <a:pt x="78" y="144"/>
                </a:lnTo>
                <a:lnTo>
                  <a:pt x="82" y="148"/>
                </a:lnTo>
                <a:lnTo>
                  <a:pt x="82" y="152"/>
                </a:lnTo>
                <a:lnTo>
                  <a:pt x="86" y="160"/>
                </a:lnTo>
                <a:lnTo>
                  <a:pt x="86" y="164"/>
                </a:lnTo>
                <a:lnTo>
                  <a:pt x="90" y="168"/>
                </a:lnTo>
                <a:lnTo>
                  <a:pt x="94" y="171"/>
                </a:lnTo>
                <a:lnTo>
                  <a:pt x="94" y="179"/>
                </a:lnTo>
                <a:lnTo>
                  <a:pt x="98" y="183"/>
                </a:lnTo>
                <a:lnTo>
                  <a:pt x="98" y="187"/>
                </a:lnTo>
                <a:lnTo>
                  <a:pt x="102" y="191"/>
                </a:lnTo>
                <a:lnTo>
                  <a:pt x="106" y="199"/>
                </a:lnTo>
                <a:lnTo>
                  <a:pt x="106" y="203"/>
                </a:lnTo>
                <a:lnTo>
                  <a:pt x="110" y="206"/>
                </a:lnTo>
                <a:lnTo>
                  <a:pt x="110" y="214"/>
                </a:lnTo>
                <a:lnTo>
                  <a:pt x="113" y="218"/>
                </a:lnTo>
                <a:lnTo>
                  <a:pt x="117" y="222"/>
                </a:lnTo>
                <a:lnTo>
                  <a:pt x="117" y="226"/>
                </a:lnTo>
                <a:lnTo>
                  <a:pt x="121" y="234"/>
                </a:lnTo>
                <a:lnTo>
                  <a:pt x="121" y="238"/>
                </a:lnTo>
                <a:lnTo>
                  <a:pt x="125" y="242"/>
                </a:lnTo>
                <a:lnTo>
                  <a:pt x="129" y="249"/>
                </a:lnTo>
                <a:lnTo>
                  <a:pt x="129" y="253"/>
                </a:lnTo>
                <a:lnTo>
                  <a:pt x="133" y="257"/>
                </a:lnTo>
                <a:lnTo>
                  <a:pt x="133" y="265"/>
                </a:lnTo>
                <a:lnTo>
                  <a:pt x="137" y="269"/>
                </a:lnTo>
                <a:lnTo>
                  <a:pt x="141" y="273"/>
                </a:lnTo>
                <a:lnTo>
                  <a:pt x="141" y="281"/>
                </a:lnTo>
                <a:lnTo>
                  <a:pt x="145" y="284"/>
                </a:lnTo>
                <a:lnTo>
                  <a:pt x="145" y="288"/>
                </a:lnTo>
                <a:lnTo>
                  <a:pt x="149" y="296"/>
                </a:lnTo>
                <a:lnTo>
                  <a:pt x="149" y="300"/>
                </a:lnTo>
                <a:lnTo>
                  <a:pt x="152" y="304"/>
                </a:lnTo>
                <a:lnTo>
                  <a:pt x="156" y="312"/>
                </a:lnTo>
                <a:lnTo>
                  <a:pt x="156" y="316"/>
                </a:lnTo>
                <a:lnTo>
                  <a:pt x="160" y="323"/>
                </a:lnTo>
                <a:lnTo>
                  <a:pt x="160" y="327"/>
                </a:lnTo>
                <a:lnTo>
                  <a:pt x="164" y="331"/>
                </a:lnTo>
                <a:lnTo>
                  <a:pt x="168" y="339"/>
                </a:lnTo>
                <a:lnTo>
                  <a:pt x="168" y="343"/>
                </a:lnTo>
                <a:lnTo>
                  <a:pt x="172" y="347"/>
                </a:lnTo>
                <a:lnTo>
                  <a:pt x="172" y="355"/>
                </a:lnTo>
                <a:lnTo>
                  <a:pt x="176" y="358"/>
                </a:lnTo>
                <a:lnTo>
                  <a:pt x="180" y="366"/>
                </a:lnTo>
                <a:lnTo>
                  <a:pt x="180" y="370"/>
                </a:lnTo>
                <a:lnTo>
                  <a:pt x="184" y="374"/>
                </a:lnTo>
                <a:lnTo>
                  <a:pt x="184" y="382"/>
                </a:lnTo>
                <a:lnTo>
                  <a:pt x="187" y="386"/>
                </a:lnTo>
                <a:lnTo>
                  <a:pt x="191" y="394"/>
                </a:lnTo>
                <a:lnTo>
                  <a:pt x="191" y="397"/>
                </a:lnTo>
                <a:lnTo>
                  <a:pt x="195" y="405"/>
                </a:lnTo>
                <a:lnTo>
                  <a:pt x="195" y="409"/>
                </a:lnTo>
                <a:lnTo>
                  <a:pt x="199" y="413"/>
                </a:lnTo>
                <a:lnTo>
                  <a:pt x="203" y="421"/>
                </a:lnTo>
                <a:lnTo>
                  <a:pt x="203" y="425"/>
                </a:lnTo>
                <a:lnTo>
                  <a:pt x="207" y="433"/>
                </a:lnTo>
                <a:lnTo>
                  <a:pt x="207" y="436"/>
                </a:lnTo>
                <a:lnTo>
                  <a:pt x="211" y="444"/>
                </a:lnTo>
                <a:lnTo>
                  <a:pt x="215" y="448"/>
                </a:lnTo>
                <a:lnTo>
                  <a:pt x="215" y="452"/>
                </a:lnTo>
                <a:lnTo>
                  <a:pt x="219" y="460"/>
                </a:lnTo>
                <a:lnTo>
                  <a:pt x="219" y="464"/>
                </a:lnTo>
                <a:lnTo>
                  <a:pt x="223" y="472"/>
                </a:lnTo>
                <a:lnTo>
                  <a:pt x="226" y="475"/>
                </a:lnTo>
                <a:lnTo>
                  <a:pt x="226" y="483"/>
                </a:lnTo>
                <a:lnTo>
                  <a:pt x="230" y="487"/>
                </a:lnTo>
                <a:lnTo>
                  <a:pt x="230" y="495"/>
                </a:lnTo>
                <a:lnTo>
                  <a:pt x="234" y="499"/>
                </a:lnTo>
                <a:lnTo>
                  <a:pt x="238" y="503"/>
                </a:lnTo>
                <a:lnTo>
                  <a:pt x="238" y="510"/>
                </a:lnTo>
                <a:lnTo>
                  <a:pt x="242" y="514"/>
                </a:lnTo>
                <a:lnTo>
                  <a:pt x="242" y="522"/>
                </a:lnTo>
                <a:lnTo>
                  <a:pt x="246" y="526"/>
                </a:lnTo>
                <a:lnTo>
                  <a:pt x="246" y="534"/>
                </a:lnTo>
                <a:lnTo>
                  <a:pt x="250" y="538"/>
                </a:lnTo>
                <a:lnTo>
                  <a:pt x="254" y="546"/>
                </a:lnTo>
                <a:lnTo>
                  <a:pt x="254" y="549"/>
                </a:lnTo>
                <a:lnTo>
                  <a:pt x="258" y="557"/>
                </a:lnTo>
                <a:lnTo>
                  <a:pt x="258" y="561"/>
                </a:lnTo>
                <a:lnTo>
                  <a:pt x="262" y="569"/>
                </a:lnTo>
                <a:lnTo>
                  <a:pt x="265" y="573"/>
                </a:lnTo>
                <a:lnTo>
                  <a:pt x="265" y="577"/>
                </a:lnTo>
                <a:lnTo>
                  <a:pt x="269" y="585"/>
                </a:lnTo>
                <a:lnTo>
                  <a:pt x="269" y="588"/>
                </a:lnTo>
                <a:lnTo>
                  <a:pt x="273" y="596"/>
                </a:lnTo>
                <a:lnTo>
                  <a:pt x="277" y="600"/>
                </a:lnTo>
                <a:lnTo>
                  <a:pt x="277" y="608"/>
                </a:lnTo>
                <a:lnTo>
                  <a:pt x="281" y="612"/>
                </a:lnTo>
                <a:lnTo>
                  <a:pt x="281" y="620"/>
                </a:lnTo>
                <a:lnTo>
                  <a:pt x="285" y="624"/>
                </a:lnTo>
                <a:lnTo>
                  <a:pt x="289" y="631"/>
                </a:lnTo>
                <a:lnTo>
                  <a:pt x="289" y="635"/>
                </a:lnTo>
                <a:lnTo>
                  <a:pt x="293" y="643"/>
                </a:lnTo>
                <a:lnTo>
                  <a:pt x="293" y="647"/>
                </a:lnTo>
                <a:lnTo>
                  <a:pt x="297" y="655"/>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888160" y="4375080"/>
            <a:ext cx="469800" cy="1044720"/>
          </a:xfrm>
          <a:custGeom>
            <a:avLst/>
            <a:gdLst/>
            <a:ahLst/>
            <a:rect l="l" t="t" r="r" b="b"/>
            <a:pathLst>
              <a:path w="296" h="658">
                <a:moveTo>
                  <a:pt x="0" y="0"/>
                </a:moveTo>
                <a:lnTo>
                  <a:pt x="4" y="4"/>
                </a:lnTo>
                <a:lnTo>
                  <a:pt x="4" y="11"/>
                </a:lnTo>
                <a:lnTo>
                  <a:pt x="7" y="15"/>
                </a:lnTo>
                <a:lnTo>
                  <a:pt x="7" y="23"/>
                </a:lnTo>
                <a:lnTo>
                  <a:pt x="11" y="27"/>
                </a:lnTo>
                <a:lnTo>
                  <a:pt x="15" y="35"/>
                </a:lnTo>
                <a:lnTo>
                  <a:pt x="15" y="39"/>
                </a:lnTo>
                <a:lnTo>
                  <a:pt x="19" y="43"/>
                </a:lnTo>
                <a:lnTo>
                  <a:pt x="19" y="50"/>
                </a:lnTo>
                <a:lnTo>
                  <a:pt x="23" y="54"/>
                </a:lnTo>
                <a:lnTo>
                  <a:pt x="27" y="62"/>
                </a:lnTo>
                <a:lnTo>
                  <a:pt x="27" y="66"/>
                </a:lnTo>
                <a:lnTo>
                  <a:pt x="31" y="74"/>
                </a:lnTo>
                <a:lnTo>
                  <a:pt x="31" y="78"/>
                </a:lnTo>
                <a:lnTo>
                  <a:pt x="35" y="85"/>
                </a:lnTo>
                <a:lnTo>
                  <a:pt x="39" y="89"/>
                </a:lnTo>
                <a:lnTo>
                  <a:pt x="39" y="97"/>
                </a:lnTo>
                <a:lnTo>
                  <a:pt x="43" y="101"/>
                </a:lnTo>
                <a:lnTo>
                  <a:pt x="43" y="109"/>
                </a:lnTo>
                <a:lnTo>
                  <a:pt x="46" y="113"/>
                </a:lnTo>
                <a:lnTo>
                  <a:pt x="50" y="121"/>
                </a:lnTo>
                <a:lnTo>
                  <a:pt x="50" y="124"/>
                </a:lnTo>
                <a:lnTo>
                  <a:pt x="54" y="132"/>
                </a:lnTo>
                <a:lnTo>
                  <a:pt x="54" y="136"/>
                </a:lnTo>
                <a:lnTo>
                  <a:pt x="58" y="140"/>
                </a:lnTo>
                <a:lnTo>
                  <a:pt x="58" y="148"/>
                </a:lnTo>
                <a:lnTo>
                  <a:pt x="62" y="152"/>
                </a:lnTo>
                <a:lnTo>
                  <a:pt x="66" y="159"/>
                </a:lnTo>
                <a:lnTo>
                  <a:pt x="66" y="163"/>
                </a:lnTo>
                <a:lnTo>
                  <a:pt x="70" y="171"/>
                </a:lnTo>
                <a:lnTo>
                  <a:pt x="70" y="175"/>
                </a:lnTo>
                <a:lnTo>
                  <a:pt x="74" y="183"/>
                </a:lnTo>
                <a:lnTo>
                  <a:pt x="78" y="187"/>
                </a:lnTo>
                <a:lnTo>
                  <a:pt x="78" y="195"/>
                </a:lnTo>
                <a:lnTo>
                  <a:pt x="82" y="198"/>
                </a:lnTo>
                <a:lnTo>
                  <a:pt x="82" y="202"/>
                </a:lnTo>
                <a:lnTo>
                  <a:pt x="85" y="210"/>
                </a:lnTo>
                <a:lnTo>
                  <a:pt x="89" y="214"/>
                </a:lnTo>
                <a:lnTo>
                  <a:pt x="89" y="222"/>
                </a:lnTo>
                <a:lnTo>
                  <a:pt x="93" y="226"/>
                </a:lnTo>
                <a:lnTo>
                  <a:pt x="93" y="234"/>
                </a:lnTo>
                <a:lnTo>
                  <a:pt x="97" y="237"/>
                </a:lnTo>
                <a:lnTo>
                  <a:pt x="101" y="245"/>
                </a:lnTo>
                <a:lnTo>
                  <a:pt x="101" y="249"/>
                </a:lnTo>
                <a:lnTo>
                  <a:pt x="105" y="253"/>
                </a:lnTo>
                <a:lnTo>
                  <a:pt x="105" y="261"/>
                </a:lnTo>
                <a:lnTo>
                  <a:pt x="109" y="265"/>
                </a:lnTo>
                <a:lnTo>
                  <a:pt x="113" y="273"/>
                </a:lnTo>
                <a:lnTo>
                  <a:pt x="113" y="276"/>
                </a:lnTo>
                <a:lnTo>
                  <a:pt x="117" y="280"/>
                </a:lnTo>
                <a:lnTo>
                  <a:pt x="117" y="288"/>
                </a:lnTo>
                <a:lnTo>
                  <a:pt x="121" y="292"/>
                </a:lnTo>
                <a:lnTo>
                  <a:pt x="124" y="300"/>
                </a:lnTo>
                <a:lnTo>
                  <a:pt x="124" y="304"/>
                </a:lnTo>
                <a:lnTo>
                  <a:pt x="128" y="308"/>
                </a:lnTo>
                <a:lnTo>
                  <a:pt x="128" y="315"/>
                </a:lnTo>
                <a:lnTo>
                  <a:pt x="132" y="319"/>
                </a:lnTo>
                <a:lnTo>
                  <a:pt x="136" y="327"/>
                </a:lnTo>
                <a:lnTo>
                  <a:pt x="136" y="331"/>
                </a:lnTo>
                <a:lnTo>
                  <a:pt x="140" y="335"/>
                </a:lnTo>
                <a:lnTo>
                  <a:pt x="140" y="343"/>
                </a:lnTo>
                <a:lnTo>
                  <a:pt x="144" y="347"/>
                </a:lnTo>
                <a:lnTo>
                  <a:pt x="148" y="350"/>
                </a:lnTo>
                <a:lnTo>
                  <a:pt x="148" y="358"/>
                </a:lnTo>
                <a:lnTo>
                  <a:pt x="152" y="362"/>
                </a:lnTo>
                <a:lnTo>
                  <a:pt x="152" y="370"/>
                </a:lnTo>
                <a:lnTo>
                  <a:pt x="156" y="374"/>
                </a:lnTo>
                <a:lnTo>
                  <a:pt x="159" y="378"/>
                </a:lnTo>
                <a:lnTo>
                  <a:pt x="159" y="386"/>
                </a:lnTo>
                <a:lnTo>
                  <a:pt x="163" y="389"/>
                </a:lnTo>
                <a:lnTo>
                  <a:pt x="163" y="393"/>
                </a:lnTo>
                <a:lnTo>
                  <a:pt x="167" y="401"/>
                </a:lnTo>
                <a:lnTo>
                  <a:pt x="167" y="405"/>
                </a:lnTo>
                <a:lnTo>
                  <a:pt x="171" y="409"/>
                </a:lnTo>
                <a:lnTo>
                  <a:pt x="175" y="417"/>
                </a:lnTo>
                <a:lnTo>
                  <a:pt x="175" y="421"/>
                </a:lnTo>
                <a:lnTo>
                  <a:pt x="179" y="425"/>
                </a:lnTo>
                <a:lnTo>
                  <a:pt x="179" y="432"/>
                </a:lnTo>
                <a:lnTo>
                  <a:pt x="183" y="436"/>
                </a:lnTo>
                <a:lnTo>
                  <a:pt x="187" y="440"/>
                </a:lnTo>
                <a:lnTo>
                  <a:pt x="187" y="444"/>
                </a:lnTo>
                <a:lnTo>
                  <a:pt x="191" y="452"/>
                </a:lnTo>
                <a:lnTo>
                  <a:pt x="191" y="456"/>
                </a:lnTo>
                <a:lnTo>
                  <a:pt x="195" y="460"/>
                </a:lnTo>
                <a:lnTo>
                  <a:pt x="198" y="467"/>
                </a:lnTo>
                <a:lnTo>
                  <a:pt x="198" y="471"/>
                </a:lnTo>
                <a:lnTo>
                  <a:pt x="202" y="475"/>
                </a:lnTo>
                <a:lnTo>
                  <a:pt x="202" y="479"/>
                </a:lnTo>
                <a:lnTo>
                  <a:pt x="206" y="487"/>
                </a:lnTo>
                <a:lnTo>
                  <a:pt x="210" y="491"/>
                </a:lnTo>
                <a:lnTo>
                  <a:pt x="210" y="495"/>
                </a:lnTo>
                <a:lnTo>
                  <a:pt x="214" y="499"/>
                </a:lnTo>
                <a:lnTo>
                  <a:pt x="214" y="506"/>
                </a:lnTo>
                <a:lnTo>
                  <a:pt x="218" y="510"/>
                </a:lnTo>
                <a:lnTo>
                  <a:pt x="222" y="514"/>
                </a:lnTo>
                <a:lnTo>
                  <a:pt x="222" y="518"/>
                </a:lnTo>
                <a:lnTo>
                  <a:pt x="226" y="526"/>
                </a:lnTo>
                <a:lnTo>
                  <a:pt x="226" y="530"/>
                </a:lnTo>
                <a:lnTo>
                  <a:pt x="230" y="534"/>
                </a:lnTo>
                <a:lnTo>
                  <a:pt x="234" y="538"/>
                </a:lnTo>
                <a:lnTo>
                  <a:pt x="234" y="541"/>
                </a:lnTo>
                <a:lnTo>
                  <a:pt x="237" y="549"/>
                </a:lnTo>
                <a:lnTo>
                  <a:pt x="237" y="553"/>
                </a:lnTo>
                <a:lnTo>
                  <a:pt x="241" y="557"/>
                </a:lnTo>
                <a:lnTo>
                  <a:pt x="245" y="561"/>
                </a:lnTo>
                <a:lnTo>
                  <a:pt x="245" y="565"/>
                </a:lnTo>
                <a:lnTo>
                  <a:pt x="249" y="573"/>
                </a:lnTo>
                <a:lnTo>
                  <a:pt x="249" y="577"/>
                </a:lnTo>
                <a:lnTo>
                  <a:pt x="253" y="580"/>
                </a:lnTo>
                <a:lnTo>
                  <a:pt x="257" y="584"/>
                </a:lnTo>
                <a:lnTo>
                  <a:pt x="257" y="588"/>
                </a:lnTo>
                <a:lnTo>
                  <a:pt x="261" y="592"/>
                </a:lnTo>
                <a:lnTo>
                  <a:pt x="261" y="596"/>
                </a:lnTo>
                <a:lnTo>
                  <a:pt x="265" y="604"/>
                </a:lnTo>
                <a:lnTo>
                  <a:pt x="265" y="608"/>
                </a:lnTo>
                <a:lnTo>
                  <a:pt x="269" y="612"/>
                </a:lnTo>
                <a:lnTo>
                  <a:pt x="273" y="615"/>
                </a:lnTo>
                <a:lnTo>
                  <a:pt x="273" y="619"/>
                </a:lnTo>
                <a:lnTo>
                  <a:pt x="276" y="623"/>
                </a:lnTo>
                <a:lnTo>
                  <a:pt x="276" y="627"/>
                </a:lnTo>
                <a:lnTo>
                  <a:pt x="280" y="631"/>
                </a:lnTo>
                <a:lnTo>
                  <a:pt x="284" y="635"/>
                </a:lnTo>
                <a:lnTo>
                  <a:pt x="284" y="639"/>
                </a:lnTo>
                <a:lnTo>
                  <a:pt x="288" y="643"/>
                </a:lnTo>
                <a:lnTo>
                  <a:pt x="288" y="647"/>
                </a:lnTo>
                <a:lnTo>
                  <a:pt x="292" y="654"/>
                </a:lnTo>
                <a:lnTo>
                  <a:pt x="296" y="65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6357960" y="5419800"/>
            <a:ext cx="457200" cy="420480"/>
          </a:xfrm>
          <a:custGeom>
            <a:avLst/>
            <a:gdLst/>
            <a:ahLst/>
            <a:rect l="l" t="t" r="r" b="b"/>
            <a:pathLst>
              <a:path w="288" h="265">
                <a:moveTo>
                  <a:pt x="0" y="0"/>
                </a:moveTo>
                <a:lnTo>
                  <a:pt x="0" y="4"/>
                </a:lnTo>
                <a:lnTo>
                  <a:pt x="4" y="8"/>
                </a:lnTo>
                <a:lnTo>
                  <a:pt x="4" y="12"/>
                </a:lnTo>
                <a:lnTo>
                  <a:pt x="8" y="16"/>
                </a:lnTo>
                <a:lnTo>
                  <a:pt x="12" y="20"/>
                </a:lnTo>
                <a:lnTo>
                  <a:pt x="12" y="24"/>
                </a:lnTo>
                <a:lnTo>
                  <a:pt x="16" y="28"/>
                </a:lnTo>
                <a:lnTo>
                  <a:pt x="16" y="32"/>
                </a:lnTo>
                <a:lnTo>
                  <a:pt x="19" y="35"/>
                </a:lnTo>
                <a:lnTo>
                  <a:pt x="23" y="39"/>
                </a:lnTo>
                <a:lnTo>
                  <a:pt x="23" y="43"/>
                </a:lnTo>
                <a:lnTo>
                  <a:pt x="31" y="51"/>
                </a:lnTo>
                <a:lnTo>
                  <a:pt x="27" y="51"/>
                </a:lnTo>
                <a:lnTo>
                  <a:pt x="31" y="51"/>
                </a:lnTo>
                <a:lnTo>
                  <a:pt x="35" y="55"/>
                </a:lnTo>
                <a:lnTo>
                  <a:pt x="35" y="59"/>
                </a:lnTo>
                <a:lnTo>
                  <a:pt x="39" y="63"/>
                </a:lnTo>
                <a:lnTo>
                  <a:pt x="39" y="67"/>
                </a:lnTo>
                <a:lnTo>
                  <a:pt x="43" y="71"/>
                </a:lnTo>
                <a:lnTo>
                  <a:pt x="47" y="74"/>
                </a:lnTo>
                <a:lnTo>
                  <a:pt x="47" y="78"/>
                </a:lnTo>
                <a:lnTo>
                  <a:pt x="51" y="82"/>
                </a:lnTo>
                <a:lnTo>
                  <a:pt x="51" y="86"/>
                </a:lnTo>
                <a:lnTo>
                  <a:pt x="58" y="90"/>
                </a:lnTo>
                <a:lnTo>
                  <a:pt x="58" y="94"/>
                </a:lnTo>
                <a:lnTo>
                  <a:pt x="62" y="98"/>
                </a:lnTo>
                <a:lnTo>
                  <a:pt x="62" y="102"/>
                </a:lnTo>
                <a:lnTo>
                  <a:pt x="66" y="106"/>
                </a:lnTo>
                <a:lnTo>
                  <a:pt x="70" y="109"/>
                </a:lnTo>
                <a:lnTo>
                  <a:pt x="74" y="113"/>
                </a:lnTo>
                <a:lnTo>
                  <a:pt x="74" y="117"/>
                </a:lnTo>
                <a:lnTo>
                  <a:pt x="82" y="125"/>
                </a:lnTo>
                <a:lnTo>
                  <a:pt x="78" y="125"/>
                </a:lnTo>
                <a:lnTo>
                  <a:pt x="82" y="125"/>
                </a:lnTo>
                <a:lnTo>
                  <a:pt x="86" y="129"/>
                </a:lnTo>
                <a:lnTo>
                  <a:pt x="86" y="133"/>
                </a:lnTo>
                <a:lnTo>
                  <a:pt x="90" y="137"/>
                </a:lnTo>
                <a:lnTo>
                  <a:pt x="93" y="141"/>
                </a:lnTo>
                <a:lnTo>
                  <a:pt x="101" y="148"/>
                </a:lnTo>
                <a:lnTo>
                  <a:pt x="101" y="152"/>
                </a:lnTo>
                <a:lnTo>
                  <a:pt x="105" y="156"/>
                </a:lnTo>
                <a:lnTo>
                  <a:pt x="109" y="160"/>
                </a:lnTo>
                <a:lnTo>
                  <a:pt x="117" y="168"/>
                </a:lnTo>
                <a:lnTo>
                  <a:pt x="113" y="168"/>
                </a:lnTo>
                <a:lnTo>
                  <a:pt x="117" y="168"/>
                </a:lnTo>
                <a:lnTo>
                  <a:pt x="121" y="172"/>
                </a:lnTo>
                <a:lnTo>
                  <a:pt x="129" y="180"/>
                </a:lnTo>
                <a:lnTo>
                  <a:pt x="125" y="180"/>
                </a:lnTo>
                <a:lnTo>
                  <a:pt x="129" y="180"/>
                </a:lnTo>
                <a:lnTo>
                  <a:pt x="136" y="187"/>
                </a:lnTo>
                <a:lnTo>
                  <a:pt x="136" y="191"/>
                </a:lnTo>
                <a:lnTo>
                  <a:pt x="140" y="191"/>
                </a:lnTo>
                <a:lnTo>
                  <a:pt x="144" y="195"/>
                </a:lnTo>
                <a:lnTo>
                  <a:pt x="148" y="203"/>
                </a:lnTo>
                <a:lnTo>
                  <a:pt x="152" y="203"/>
                </a:lnTo>
                <a:lnTo>
                  <a:pt x="156" y="207"/>
                </a:lnTo>
                <a:lnTo>
                  <a:pt x="160" y="211"/>
                </a:lnTo>
                <a:lnTo>
                  <a:pt x="164" y="215"/>
                </a:lnTo>
                <a:lnTo>
                  <a:pt x="168" y="219"/>
                </a:lnTo>
                <a:lnTo>
                  <a:pt x="171" y="219"/>
                </a:lnTo>
                <a:lnTo>
                  <a:pt x="175" y="223"/>
                </a:lnTo>
                <a:lnTo>
                  <a:pt x="179" y="226"/>
                </a:lnTo>
                <a:lnTo>
                  <a:pt x="183" y="230"/>
                </a:lnTo>
                <a:lnTo>
                  <a:pt x="187" y="230"/>
                </a:lnTo>
                <a:lnTo>
                  <a:pt x="191" y="234"/>
                </a:lnTo>
                <a:lnTo>
                  <a:pt x="195" y="234"/>
                </a:lnTo>
                <a:lnTo>
                  <a:pt x="199" y="238"/>
                </a:lnTo>
                <a:lnTo>
                  <a:pt x="203" y="242"/>
                </a:lnTo>
                <a:lnTo>
                  <a:pt x="207" y="242"/>
                </a:lnTo>
                <a:lnTo>
                  <a:pt x="210" y="246"/>
                </a:lnTo>
                <a:lnTo>
                  <a:pt x="214" y="246"/>
                </a:lnTo>
                <a:lnTo>
                  <a:pt x="218" y="250"/>
                </a:lnTo>
                <a:lnTo>
                  <a:pt x="222" y="250"/>
                </a:lnTo>
                <a:lnTo>
                  <a:pt x="226" y="250"/>
                </a:lnTo>
                <a:lnTo>
                  <a:pt x="230" y="254"/>
                </a:lnTo>
                <a:lnTo>
                  <a:pt x="234" y="254"/>
                </a:lnTo>
                <a:lnTo>
                  <a:pt x="238" y="254"/>
                </a:lnTo>
                <a:lnTo>
                  <a:pt x="242" y="258"/>
                </a:lnTo>
                <a:lnTo>
                  <a:pt x="246" y="258"/>
                </a:lnTo>
                <a:lnTo>
                  <a:pt x="249" y="258"/>
                </a:lnTo>
                <a:lnTo>
                  <a:pt x="253" y="261"/>
                </a:lnTo>
                <a:lnTo>
                  <a:pt x="257" y="261"/>
                </a:lnTo>
                <a:lnTo>
                  <a:pt x="261" y="261"/>
                </a:lnTo>
                <a:lnTo>
                  <a:pt x="265" y="261"/>
                </a:lnTo>
                <a:lnTo>
                  <a:pt x="269" y="261"/>
                </a:lnTo>
                <a:lnTo>
                  <a:pt x="273" y="261"/>
                </a:lnTo>
                <a:lnTo>
                  <a:pt x="277" y="261"/>
                </a:lnTo>
                <a:lnTo>
                  <a:pt x="281" y="261"/>
                </a:lnTo>
                <a:lnTo>
                  <a:pt x="285" y="261"/>
                </a:lnTo>
                <a:lnTo>
                  <a:pt x="288" y="265"/>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rot="16200000">
            <a:off x="2396880" y="421236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1435" name=""/>
          <p:cNvSpPr/>
          <p:nvPr/>
        </p:nvSpPr>
        <p:spPr>
          <a:xfrm>
            <a:off x="4571280" y="617220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1436"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661480" y="1447920"/>
            <a:ext cx="40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5 degrees from crack normal</a:t>
            </a:r>
            <a:endParaRPr b="0" lang="en-US" sz="2400" spc="-1" strike="noStrike">
              <a:solidFill>
                <a:srgbClr val="000000"/>
              </a:solidFill>
              <a:latin typeface="Times New Roman"/>
            </a:endParaRPr>
          </a:p>
        </p:txBody>
      </p:sp>
      <p:sp>
        <p:nvSpPr>
          <p:cNvPr id="1439" name=""/>
          <p:cNvSpPr/>
          <p:nvPr/>
        </p:nvSpPr>
        <p:spPr>
          <a:xfrm>
            <a:off x="2109960" y="2178000"/>
            <a:ext cx="4840200" cy="382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109960" y="2178000"/>
            <a:ext cx="4840200" cy="38228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109960" y="2178000"/>
            <a:ext cx="4840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2" name=""/>
          <p:cNvSpPr/>
          <p:nvPr/>
        </p:nvSpPr>
        <p:spPr>
          <a:xfrm>
            <a:off x="2109960" y="6000840"/>
            <a:ext cx="484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flipV="1">
            <a:off x="6950160" y="2177640"/>
            <a:ext cx="1440" cy="38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2109960" y="2177640"/>
            <a:ext cx="1440" cy="38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109960" y="6000840"/>
            <a:ext cx="484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flipV="1">
            <a:off x="2109960" y="2177640"/>
            <a:ext cx="1440" cy="38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109960" y="5691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flipH="1">
            <a:off x="6900480" y="5691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1930680" y="562608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Times New Roman"/>
            </a:endParaRPr>
          </a:p>
        </p:txBody>
      </p:sp>
      <p:sp>
        <p:nvSpPr>
          <p:cNvPr id="1450" name=""/>
          <p:cNvSpPr/>
          <p:nvPr/>
        </p:nvSpPr>
        <p:spPr>
          <a:xfrm>
            <a:off x="2109960" y="52848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flipH="1">
            <a:off x="6900480" y="52848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1930680" y="521964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453" name=""/>
          <p:cNvSpPr/>
          <p:nvPr/>
        </p:nvSpPr>
        <p:spPr>
          <a:xfrm>
            <a:off x="2109960" y="48783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flipH="1">
            <a:off x="6900480" y="48783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1930680" y="48132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456" name=""/>
          <p:cNvSpPr/>
          <p:nvPr/>
        </p:nvSpPr>
        <p:spPr>
          <a:xfrm>
            <a:off x="2109960" y="44640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7" name=""/>
          <p:cNvSpPr/>
          <p:nvPr/>
        </p:nvSpPr>
        <p:spPr>
          <a:xfrm flipH="1">
            <a:off x="6900480" y="44640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
          <p:cNvSpPr/>
          <p:nvPr/>
        </p:nvSpPr>
        <p:spPr>
          <a:xfrm>
            <a:off x="1987560" y="439884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459" name=""/>
          <p:cNvSpPr/>
          <p:nvPr/>
        </p:nvSpPr>
        <p:spPr>
          <a:xfrm>
            <a:off x="2109960" y="4057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0" name=""/>
          <p:cNvSpPr/>
          <p:nvPr/>
        </p:nvSpPr>
        <p:spPr>
          <a:xfrm flipH="1">
            <a:off x="6900480" y="40575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1" name=""/>
          <p:cNvSpPr/>
          <p:nvPr/>
        </p:nvSpPr>
        <p:spPr>
          <a:xfrm>
            <a:off x="2019240" y="399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62" name=""/>
          <p:cNvSpPr/>
          <p:nvPr/>
        </p:nvSpPr>
        <p:spPr>
          <a:xfrm>
            <a:off x="2109960" y="36511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
          <p:cNvSpPr/>
          <p:nvPr/>
        </p:nvSpPr>
        <p:spPr>
          <a:xfrm flipH="1">
            <a:off x="6900480" y="3651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4" name=""/>
          <p:cNvSpPr/>
          <p:nvPr/>
        </p:nvSpPr>
        <p:spPr>
          <a:xfrm>
            <a:off x="2019240" y="358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465" name=""/>
          <p:cNvSpPr/>
          <p:nvPr/>
        </p:nvSpPr>
        <p:spPr>
          <a:xfrm>
            <a:off x="2109960" y="32353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flipH="1">
            <a:off x="6900480" y="3235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1962360" y="31701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468" name=""/>
          <p:cNvSpPr/>
          <p:nvPr/>
        </p:nvSpPr>
        <p:spPr>
          <a:xfrm>
            <a:off x="2109960" y="28288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flipH="1">
            <a:off x="6900480" y="2828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a:off x="1962360" y="27637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471" name=""/>
          <p:cNvSpPr/>
          <p:nvPr/>
        </p:nvSpPr>
        <p:spPr>
          <a:xfrm>
            <a:off x="2109960" y="241452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
          <p:cNvSpPr/>
          <p:nvPr/>
        </p:nvSpPr>
        <p:spPr>
          <a:xfrm flipH="1">
            <a:off x="6900480" y="24145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3" name=""/>
          <p:cNvSpPr/>
          <p:nvPr/>
        </p:nvSpPr>
        <p:spPr>
          <a:xfrm>
            <a:off x="1962360" y="23493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Times New Roman"/>
            </a:endParaRPr>
          </a:p>
        </p:txBody>
      </p:sp>
      <p:sp>
        <p:nvSpPr>
          <p:cNvPr id="1474" name=""/>
          <p:cNvSpPr/>
          <p:nvPr/>
        </p:nvSpPr>
        <p:spPr>
          <a:xfrm>
            <a:off x="2109960" y="2178000"/>
            <a:ext cx="4840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
          <p:cNvSpPr/>
          <p:nvPr/>
        </p:nvSpPr>
        <p:spPr>
          <a:xfrm>
            <a:off x="2109960" y="6000840"/>
            <a:ext cx="484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flipV="1">
            <a:off x="6950160" y="2177640"/>
            <a:ext cx="1440" cy="38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2109960" y="2177640"/>
            <a:ext cx="1440" cy="38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109960" y="2195640"/>
            <a:ext cx="1635120" cy="3716280"/>
          </a:xfrm>
          <a:custGeom>
            <a:avLst/>
            <a:gdLst/>
            <a:ahLst/>
            <a:rect l="l" t="t" r="r" b="b"/>
            <a:pathLst>
              <a:path w="1030" h="2341">
                <a:moveTo>
                  <a:pt x="0" y="1173"/>
                </a:moveTo>
                <a:lnTo>
                  <a:pt x="5" y="1173"/>
                </a:lnTo>
                <a:lnTo>
                  <a:pt x="10" y="1173"/>
                </a:lnTo>
                <a:lnTo>
                  <a:pt x="20" y="1173"/>
                </a:lnTo>
                <a:lnTo>
                  <a:pt x="25" y="1173"/>
                </a:lnTo>
                <a:lnTo>
                  <a:pt x="35" y="1173"/>
                </a:lnTo>
                <a:lnTo>
                  <a:pt x="46" y="1173"/>
                </a:lnTo>
                <a:lnTo>
                  <a:pt x="51" y="1173"/>
                </a:lnTo>
                <a:lnTo>
                  <a:pt x="61" y="1173"/>
                </a:lnTo>
                <a:lnTo>
                  <a:pt x="66" y="1173"/>
                </a:lnTo>
                <a:lnTo>
                  <a:pt x="76" y="1168"/>
                </a:lnTo>
                <a:lnTo>
                  <a:pt x="87" y="1173"/>
                </a:lnTo>
                <a:lnTo>
                  <a:pt x="92" y="1173"/>
                </a:lnTo>
                <a:lnTo>
                  <a:pt x="102" y="1168"/>
                </a:lnTo>
                <a:lnTo>
                  <a:pt x="107" y="1168"/>
                </a:lnTo>
                <a:lnTo>
                  <a:pt x="117" y="1178"/>
                </a:lnTo>
                <a:lnTo>
                  <a:pt x="128" y="1183"/>
                </a:lnTo>
                <a:lnTo>
                  <a:pt x="133" y="1168"/>
                </a:lnTo>
                <a:lnTo>
                  <a:pt x="143" y="1162"/>
                </a:lnTo>
                <a:lnTo>
                  <a:pt x="148" y="1178"/>
                </a:lnTo>
                <a:lnTo>
                  <a:pt x="158" y="1178"/>
                </a:lnTo>
                <a:lnTo>
                  <a:pt x="164" y="1142"/>
                </a:lnTo>
                <a:lnTo>
                  <a:pt x="174" y="1147"/>
                </a:lnTo>
                <a:lnTo>
                  <a:pt x="184" y="1244"/>
                </a:lnTo>
                <a:lnTo>
                  <a:pt x="189" y="1301"/>
                </a:lnTo>
                <a:lnTo>
                  <a:pt x="199" y="1122"/>
                </a:lnTo>
                <a:lnTo>
                  <a:pt x="205" y="850"/>
                </a:lnTo>
                <a:lnTo>
                  <a:pt x="215" y="958"/>
                </a:lnTo>
                <a:lnTo>
                  <a:pt x="225" y="1644"/>
                </a:lnTo>
                <a:lnTo>
                  <a:pt x="230" y="2341"/>
                </a:lnTo>
                <a:lnTo>
                  <a:pt x="240" y="2213"/>
                </a:lnTo>
                <a:lnTo>
                  <a:pt x="246" y="1173"/>
                </a:lnTo>
                <a:lnTo>
                  <a:pt x="256" y="133"/>
                </a:lnTo>
                <a:lnTo>
                  <a:pt x="266" y="0"/>
                </a:lnTo>
                <a:lnTo>
                  <a:pt x="271" y="701"/>
                </a:lnTo>
                <a:lnTo>
                  <a:pt x="281" y="1388"/>
                </a:lnTo>
                <a:lnTo>
                  <a:pt x="287" y="1495"/>
                </a:lnTo>
                <a:lnTo>
                  <a:pt x="297" y="1219"/>
                </a:lnTo>
                <a:lnTo>
                  <a:pt x="307" y="1045"/>
                </a:lnTo>
                <a:lnTo>
                  <a:pt x="312" y="1101"/>
                </a:lnTo>
                <a:lnTo>
                  <a:pt x="322" y="1198"/>
                </a:lnTo>
                <a:lnTo>
                  <a:pt x="328" y="1203"/>
                </a:lnTo>
                <a:lnTo>
                  <a:pt x="338" y="1168"/>
                </a:lnTo>
                <a:lnTo>
                  <a:pt x="348" y="1168"/>
                </a:lnTo>
                <a:lnTo>
                  <a:pt x="353" y="1183"/>
                </a:lnTo>
                <a:lnTo>
                  <a:pt x="363" y="1173"/>
                </a:lnTo>
                <a:lnTo>
                  <a:pt x="369" y="1162"/>
                </a:lnTo>
                <a:lnTo>
                  <a:pt x="379" y="1168"/>
                </a:lnTo>
                <a:lnTo>
                  <a:pt x="384" y="1178"/>
                </a:lnTo>
                <a:lnTo>
                  <a:pt x="394" y="1178"/>
                </a:lnTo>
                <a:lnTo>
                  <a:pt x="404" y="1173"/>
                </a:lnTo>
                <a:lnTo>
                  <a:pt x="410" y="1173"/>
                </a:lnTo>
                <a:lnTo>
                  <a:pt x="420" y="1173"/>
                </a:lnTo>
                <a:lnTo>
                  <a:pt x="425" y="1173"/>
                </a:lnTo>
                <a:lnTo>
                  <a:pt x="435" y="1168"/>
                </a:lnTo>
                <a:lnTo>
                  <a:pt x="445" y="1173"/>
                </a:lnTo>
                <a:lnTo>
                  <a:pt x="451" y="1173"/>
                </a:lnTo>
                <a:lnTo>
                  <a:pt x="461" y="1173"/>
                </a:lnTo>
                <a:lnTo>
                  <a:pt x="466" y="1173"/>
                </a:lnTo>
                <a:lnTo>
                  <a:pt x="476" y="1173"/>
                </a:lnTo>
                <a:lnTo>
                  <a:pt x="486" y="1173"/>
                </a:lnTo>
                <a:lnTo>
                  <a:pt x="492" y="1173"/>
                </a:lnTo>
                <a:lnTo>
                  <a:pt x="502" y="1173"/>
                </a:lnTo>
                <a:lnTo>
                  <a:pt x="507" y="1173"/>
                </a:lnTo>
                <a:lnTo>
                  <a:pt x="517" y="1173"/>
                </a:lnTo>
                <a:lnTo>
                  <a:pt x="527" y="1173"/>
                </a:lnTo>
                <a:lnTo>
                  <a:pt x="533" y="1173"/>
                </a:lnTo>
                <a:lnTo>
                  <a:pt x="543" y="1173"/>
                </a:lnTo>
                <a:lnTo>
                  <a:pt x="548" y="1173"/>
                </a:lnTo>
                <a:lnTo>
                  <a:pt x="558" y="1173"/>
                </a:lnTo>
                <a:lnTo>
                  <a:pt x="563" y="1173"/>
                </a:lnTo>
                <a:lnTo>
                  <a:pt x="574" y="1173"/>
                </a:lnTo>
                <a:lnTo>
                  <a:pt x="584" y="1173"/>
                </a:lnTo>
                <a:lnTo>
                  <a:pt x="589" y="1173"/>
                </a:lnTo>
                <a:lnTo>
                  <a:pt x="599" y="1173"/>
                </a:lnTo>
                <a:lnTo>
                  <a:pt x="604" y="1173"/>
                </a:lnTo>
                <a:lnTo>
                  <a:pt x="615" y="1173"/>
                </a:lnTo>
                <a:lnTo>
                  <a:pt x="625" y="1173"/>
                </a:lnTo>
                <a:lnTo>
                  <a:pt x="630" y="1173"/>
                </a:lnTo>
                <a:lnTo>
                  <a:pt x="640" y="1173"/>
                </a:lnTo>
                <a:lnTo>
                  <a:pt x="645" y="1173"/>
                </a:lnTo>
                <a:lnTo>
                  <a:pt x="656" y="1173"/>
                </a:lnTo>
                <a:lnTo>
                  <a:pt x="666" y="1173"/>
                </a:lnTo>
                <a:lnTo>
                  <a:pt x="671" y="1173"/>
                </a:lnTo>
                <a:lnTo>
                  <a:pt x="681" y="1173"/>
                </a:lnTo>
                <a:lnTo>
                  <a:pt x="686" y="1173"/>
                </a:lnTo>
                <a:lnTo>
                  <a:pt x="697" y="1173"/>
                </a:lnTo>
                <a:lnTo>
                  <a:pt x="707" y="1173"/>
                </a:lnTo>
                <a:lnTo>
                  <a:pt x="712" y="1173"/>
                </a:lnTo>
                <a:lnTo>
                  <a:pt x="722" y="1173"/>
                </a:lnTo>
                <a:lnTo>
                  <a:pt x="727" y="1173"/>
                </a:lnTo>
                <a:lnTo>
                  <a:pt x="738" y="1173"/>
                </a:lnTo>
                <a:lnTo>
                  <a:pt x="748" y="1173"/>
                </a:lnTo>
                <a:lnTo>
                  <a:pt x="753" y="1173"/>
                </a:lnTo>
                <a:lnTo>
                  <a:pt x="763" y="1173"/>
                </a:lnTo>
                <a:lnTo>
                  <a:pt x="768" y="1173"/>
                </a:lnTo>
                <a:lnTo>
                  <a:pt x="779" y="1173"/>
                </a:lnTo>
                <a:lnTo>
                  <a:pt x="784" y="1173"/>
                </a:lnTo>
                <a:lnTo>
                  <a:pt x="794" y="1173"/>
                </a:lnTo>
                <a:lnTo>
                  <a:pt x="804" y="1173"/>
                </a:lnTo>
                <a:lnTo>
                  <a:pt x="809" y="1173"/>
                </a:lnTo>
                <a:lnTo>
                  <a:pt x="820" y="1173"/>
                </a:lnTo>
                <a:lnTo>
                  <a:pt x="825" y="1173"/>
                </a:lnTo>
                <a:lnTo>
                  <a:pt x="835" y="1173"/>
                </a:lnTo>
                <a:lnTo>
                  <a:pt x="845" y="1168"/>
                </a:lnTo>
                <a:lnTo>
                  <a:pt x="850" y="1168"/>
                </a:lnTo>
                <a:lnTo>
                  <a:pt x="861" y="1178"/>
                </a:lnTo>
                <a:lnTo>
                  <a:pt x="866" y="1178"/>
                </a:lnTo>
                <a:lnTo>
                  <a:pt x="876" y="1173"/>
                </a:lnTo>
                <a:lnTo>
                  <a:pt x="886" y="1168"/>
                </a:lnTo>
                <a:lnTo>
                  <a:pt x="891" y="1173"/>
                </a:lnTo>
                <a:lnTo>
                  <a:pt x="902" y="1173"/>
                </a:lnTo>
                <a:lnTo>
                  <a:pt x="907" y="1147"/>
                </a:lnTo>
                <a:lnTo>
                  <a:pt x="917" y="1162"/>
                </a:lnTo>
                <a:lnTo>
                  <a:pt x="927" y="1239"/>
                </a:lnTo>
                <a:lnTo>
                  <a:pt x="932" y="1265"/>
                </a:lnTo>
                <a:lnTo>
                  <a:pt x="943" y="1106"/>
                </a:lnTo>
                <a:lnTo>
                  <a:pt x="948" y="906"/>
                </a:lnTo>
                <a:lnTo>
                  <a:pt x="958" y="1045"/>
                </a:lnTo>
                <a:lnTo>
                  <a:pt x="968" y="1644"/>
                </a:lnTo>
                <a:lnTo>
                  <a:pt x="973" y="2213"/>
                </a:lnTo>
                <a:lnTo>
                  <a:pt x="984" y="2074"/>
                </a:lnTo>
                <a:lnTo>
                  <a:pt x="989" y="1173"/>
                </a:lnTo>
                <a:lnTo>
                  <a:pt x="999" y="271"/>
                </a:lnTo>
                <a:lnTo>
                  <a:pt x="1004" y="128"/>
                </a:lnTo>
                <a:lnTo>
                  <a:pt x="1014" y="701"/>
                </a:lnTo>
                <a:lnTo>
                  <a:pt x="1025" y="1301"/>
                </a:lnTo>
                <a:lnTo>
                  <a:pt x="1030" y="1439"/>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745080" y="2894040"/>
            <a:ext cx="1643040" cy="2325600"/>
          </a:xfrm>
          <a:custGeom>
            <a:avLst/>
            <a:gdLst/>
            <a:ahLst/>
            <a:rect l="l" t="t" r="r" b="b"/>
            <a:pathLst>
              <a:path w="1035" h="1465">
                <a:moveTo>
                  <a:pt x="0" y="999"/>
                </a:moveTo>
                <a:lnTo>
                  <a:pt x="10" y="799"/>
                </a:lnTo>
                <a:lnTo>
                  <a:pt x="15" y="641"/>
                </a:lnTo>
                <a:lnTo>
                  <a:pt x="25" y="666"/>
                </a:lnTo>
                <a:lnTo>
                  <a:pt x="36" y="743"/>
                </a:lnTo>
                <a:lnTo>
                  <a:pt x="41" y="758"/>
                </a:lnTo>
                <a:lnTo>
                  <a:pt x="51" y="733"/>
                </a:lnTo>
                <a:lnTo>
                  <a:pt x="56" y="733"/>
                </a:lnTo>
                <a:lnTo>
                  <a:pt x="66" y="738"/>
                </a:lnTo>
                <a:lnTo>
                  <a:pt x="77" y="733"/>
                </a:lnTo>
                <a:lnTo>
                  <a:pt x="82" y="722"/>
                </a:lnTo>
                <a:lnTo>
                  <a:pt x="92" y="728"/>
                </a:lnTo>
                <a:lnTo>
                  <a:pt x="97" y="733"/>
                </a:lnTo>
                <a:lnTo>
                  <a:pt x="107" y="733"/>
                </a:lnTo>
                <a:lnTo>
                  <a:pt x="118" y="733"/>
                </a:lnTo>
                <a:lnTo>
                  <a:pt x="123" y="733"/>
                </a:lnTo>
                <a:lnTo>
                  <a:pt x="133" y="733"/>
                </a:lnTo>
                <a:lnTo>
                  <a:pt x="138" y="733"/>
                </a:lnTo>
                <a:lnTo>
                  <a:pt x="148" y="728"/>
                </a:lnTo>
                <a:lnTo>
                  <a:pt x="159" y="733"/>
                </a:lnTo>
                <a:lnTo>
                  <a:pt x="164" y="733"/>
                </a:lnTo>
                <a:lnTo>
                  <a:pt x="174" y="733"/>
                </a:lnTo>
                <a:lnTo>
                  <a:pt x="179" y="733"/>
                </a:lnTo>
                <a:lnTo>
                  <a:pt x="189" y="733"/>
                </a:lnTo>
                <a:lnTo>
                  <a:pt x="194" y="733"/>
                </a:lnTo>
                <a:lnTo>
                  <a:pt x="205" y="733"/>
                </a:lnTo>
                <a:lnTo>
                  <a:pt x="215" y="733"/>
                </a:lnTo>
                <a:lnTo>
                  <a:pt x="220" y="733"/>
                </a:lnTo>
                <a:lnTo>
                  <a:pt x="230" y="733"/>
                </a:lnTo>
                <a:lnTo>
                  <a:pt x="235" y="733"/>
                </a:lnTo>
                <a:lnTo>
                  <a:pt x="246" y="733"/>
                </a:lnTo>
                <a:lnTo>
                  <a:pt x="256" y="733"/>
                </a:lnTo>
                <a:lnTo>
                  <a:pt x="261" y="733"/>
                </a:lnTo>
                <a:lnTo>
                  <a:pt x="271" y="733"/>
                </a:lnTo>
                <a:lnTo>
                  <a:pt x="276" y="733"/>
                </a:lnTo>
                <a:lnTo>
                  <a:pt x="287" y="733"/>
                </a:lnTo>
                <a:lnTo>
                  <a:pt x="297" y="733"/>
                </a:lnTo>
                <a:lnTo>
                  <a:pt x="302" y="733"/>
                </a:lnTo>
                <a:lnTo>
                  <a:pt x="312" y="733"/>
                </a:lnTo>
                <a:lnTo>
                  <a:pt x="317" y="733"/>
                </a:lnTo>
                <a:lnTo>
                  <a:pt x="328" y="733"/>
                </a:lnTo>
                <a:lnTo>
                  <a:pt x="338" y="733"/>
                </a:lnTo>
                <a:lnTo>
                  <a:pt x="343" y="733"/>
                </a:lnTo>
                <a:lnTo>
                  <a:pt x="353" y="733"/>
                </a:lnTo>
                <a:lnTo>
                  <a:pt x="358" y="733"/>
                </a:lnTo>
                <a:lnTo>
                  <a:pt x="369" y="733"/>
                </a:lnTo>
                <a:lnTo>
                  <a:pt x="374" y="733"/>
                </a:lnTo>
                <a:lnTo>
                  <a:pt x="384" y="733"/>
                </a:lnTo>
                <a:lnTo>
                  <a:pt x="394" y="733"/>
                </a:lnTo>
                <a:lnTo>
                  <a:pt x="399" y="733"/>
                </a:lnTo>
                <a:lnTo>
                  <a:pt x="410" y="733"/>
                </a:lnTo>
                <a:lnTo>
                  <a:pt x="415" y="733"/>
                </a:lnTo>
                <a:lnTo>
                  <a:pt x="425" y="733"/>
                </a:lnTo>
                <a:lnTo>
                  <a:pt x="435" y="733"/>
                </a:lnTo>
                <a:lnTo>
                  <a:pt x="440" y="733"/>
                </a:lnTo>
                <a:lnTo>
                  <a:pt x="451" y="733"/>
                </a:lnTo>
                <a:lnTo>
                  <a:pt x="456" y="733"/>
                </a:lnTo>
                <a:lnTo>
                  <a:pt x="466" y="733"/>
                </a:lnTo>
                <a:lnTo>
                  <a:pt x="476" y="733"/>
                </a:lnTo>
                <a:lnTo>
                  <a:pt x="481" y="733"/>
                </a:lnTo>
                <a:lnTo>
                  <a:pt x="492" y="733"/>
                </a:lnTo>
                <a:lnTo>
                  <a:pt x="497" y="733"/>
                </a:lnTo>
                <a:lnTo>
                  <a:pt x="507" y="733"/>
                </a:lnTo>
                <a:lnTo>
                  <a:pt x="517" y="733"/>
                </a:lnTo>
                <a:lnTo>
                  <a:pt x="522" y="733"/>
                </a:lnTo>
                <a:lnTo>
                  <a:pt x="533" y="733"/>
                </a:lnTo>
                <a:lnTo>
                  <a:pt x="538" y="733"/>
                </a:lnTo>
                <a:lnTo>
                  <a:pt x="548" y="733"/>
                </a:lnTo>
                <a:lnTo>
                  <a:pt x="558" y="733"/>
                </a:lnTo>
                <a:lnTo>
                  <a:pt x="563" y="733"/>
                </a:lnTo>
                <a:lnTo>
                  <a:pt x="574" y="733"/>
                </a:lnTo>
                <a:lnTo>
                  <a:pt x="579" y="733"/>
                </a:lnTo>
                <a:lnTo>
                  <a:pt x="589" y="733"/>
                </a:lnTo>
                <a:lnTo>
                  <a:pt x="594" y="733"/>
                </a:lnTo>
                <a:lnTo>
                  <a:pt x="604" y="733"/>
                </a:lnTo>
                <a:lnTo>
                  <a:pt x="615" y="733"/>
                </a:lnTo>
                <a:lnTo>
                  <a:pt x="620" y="733"/>
                </a:lnTo>
                <a:lnTo>
                  <a:pt x="630" y="733"/>
                </a:lnTo>
                <a:lnTo>
                  <a:pt x="635" y="733"/>
                </a:lnTo>
                <a:lnTo>
                  <a:pt x="645" y="733"/>
                </a:lnTo>
                <a:lnTo>
                  <a:pt x="656" y="733"/>
                </a:lnTo>
                <a:lnTo>
                  <a:pt x="661" y="733"/>
                </a:lnTo>
                <a:lnTo>
                  <a:pt x="671" y="733"/>
                </a:lnTo>
                <a:lnTo>
                  <a:pt x="676" y="733"/>
                </a:lnTo>
                <a:lnTo>
                  <a:pt x="686" y="733"/>
                </a:lnTo>
                <a:lnTo>
                  <a:pt x="697" y="733"/>
                </a:lnTo>
                <a:lnTo>
                  <a:pt x="702" y="733"/>
                </a:lnTo>
                <a:lnTo>
                  <a:pt x="712" y="733"/>
                </a:lnTo>
                <a:lnTo>
                  <a:pt x="717" y="733"/>
                </a:lnTo>
                <a:lnTo>
                  <a:pt x="727" y="733"/>
                </a:lnTo>
                <a:lnTo>
                  <a:pt x="738" y="733"/>
                </a:lnTo>
                <a:lnTo>
                  <a:pt x="743" y="733"/>
                </a:lnTo>
                <a:lnTo>
                  <a:pt x="753" y="733"/>
                </a:lnTo>
                <a:lnTo>
                  <a:pt x="758" y="733"/>
                </a:lnTo>
                <a:lnTo>
                  <a:pt x="768" y="728"/>
                </a:lnTo>
                <a:lnTo>
                  <a:pt x="779" y="722"/>
                </a:lnTo>
                <a:lnTo>
                  <a:pt x="784" y="722"/>
                </a:lnTo>
                <a:lnTo>
                  <a:pt x="794" y="748"/>
                </a:lnTo>
                <a:lnTo>
                  <a:pt x="799" y="774"/>
                </a:lnTo>
                <a:lnTo>
                  <a:pt x="809" y="748"/>
                </a:lnTo>
                <a:lnTo>
                  <a:pt x="815" y="651"/>
                </a:lnTo>
                <a:lnTo>
                  <a:pt x="825" y="610"/>
                </a:lnTo>
                <a:lnTo>
                  <a:pt x="835" y="799"/>
                </a:lnTo>
                <a:lnTo>
                  <a:pt x="840" y="1184"/>
                </a:lnTo>
                <a:lnTo>
                  <a:pt x="850" y="1465"/>
                </a:lnTo>
                <a:lnTo>
                  <a:pt x="856" y="1307"/>
                </a:lnTo>
                <a:lnTo>
                  <a:pt x="866" y="733"/>
                </a:lnTo>
                <a:lnTo>
                  <a:pt x="876" y="159"/>
                </a:lnTo>
                <a:lnTo>
                  <a:pt x="881" y="0"/>
                </a:lnTo>
                <a:lnTo>
                  <a:pt x="891" y="282"/>
                </a:lnTo>
                <a:lnTo>
                  <a:pt x="897" y="666"/>
                </a:lnTo>
                <a:lnTo>
                  <a:pt x="907" y="856"/>
                </a:lnTo>
                <a:lnTo>
                  <a:pt x="917" y="815"/>
                </a:lnTo>
                <a:lnTo>
                  <a:pt x="922" y="717"/>
                </a:lnTo>
                <a:lnTo>
                  <a:pt x="932" y="687"/>
                </a:lnTo>
                <a:lnTo>
                  <a:pt x="938" y="717"/>
                </a:lnTo>
                <a:lnTo>
                  <a:pt x="948" y="743"/>
                </a:lnTo>
                <a:lnTo>
                  <a:pt x="958" y="743"/>
                </a:lnTo>
                <a:lnTo>
                  <a:pt x="963" y="733"/>
                </a:lnTo>
                <a:lnTo>
                  <a:pt x="973" y="733"/>
                </a:lnTo>
                <a:lnTo>
                  <a:pt x="979" y="733"/>
                </a:lnTo>
                <a:lnTo>
                  <a:pt x="989" y="728"/>
                </a:lnTo>
                <a:lnTo>
                  <a:pt x="999" y="728"/>
                </a:lnTo>
                <a:lnTo>
                  <a:pt x="1004" y="733"/>
                </a:lnTo>
                <a:lnTo>
                  <a:pt x="1014" y="733"/>
                </a:lnTo>
                <a:lnTo>
                  <a:pt x="1020" y="733"/>
                </a:lnTo>
                <a:lnTo>
                  <a:pt x="1030" y="733"/>
                </a:lnTo>
                <a:lnTo>
                  <a:pt x="1035" y="733"/>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388120" y="3422520"/>
            <a:ext cx="1569960" cy="1268640"/>
          </a:xfrm>
          <a:custGeom>
            <a:avLst/>
            <a:gdLst/>
            <a:ahLst/>
            <a:rect l="l" t="t" r="r" b="b"/>
            <a:pathLst>
              <a:path w="989" h="799">
                <a:moveTo>
                  <a:pt x="0" y="400"/>
                </a:moveTo>
                <a:lnTo>
                  <a:pt x="10" y="400"/>
                </a:lnTo>
                <a:lnTo>
                  <a:pt x="20" y="400"/>
                </a:lnTo>
                <a:lnTo>
                  <a:pt x="26" y="400"/>
                </a:lnTo>
                <a:lnTo>
                  <a:pt x="36" y="400"/>
                </a:lnTo>
                <a:lnTo>
                  <a:pt x="41" y="400"/>
                </a:lnTo>
                <a:lnTo>
                  <a:pt x="51" y="400"/>
                </a:lnTo>
                <a:lnTo>
                  <a:pt x="61" y="400"/>
                </a:lnTo>
                <a:lnTo>
                  <a:pt x="67" y="400"/>
                </a:lnTo>
                <a:lnTo>
                  <a:pt x="77" y="400"/>
                </a:lnTo>
                <a:lnTo>
                  <a:pt x="82" y="400"/>
                </a:lnTo>
                <a:lnTo>
                  <a:pt x="92" y="400"/>
                </a:lnTo>
                <a:lnTo>
                  <a:pt x="102" y="400"/>
                </a:lnTo>
                <a:lnTo>
                  <a:pt x="108" y="400"/>
                </a:lnTo>
                <a:lnTo>
                  <a:pt x="118" y="400"/>
                </a:lnTo>
                <a:lnTo>
                  <a:pt x="123" y="400"/>
                </a:lnTo>
                <a:lnTo>
                  <a:pt x="133" y="400"/>
                </a:lnTo>
                <a:lnTo>
                  <a:pt x="143" y="400"/>
                </a:lnTo>
                <a:lnTo>
                  <a:pt x="149" y="400"/>
                </a:lnTo>
                <a:lnTo>
                  <a:pt x="159" y="400"/>
                </a:lnTo>
                <a:lnTo>
                  <a:pt x="164" y="400"/>
                </a:lnTo>
                <a:lnTo>
                  <a:pt x="174" y="400"/>
                </a:lnTo>
                <a:lnTo>
                  <a:pt x="179" y="400"/>
                </a:lnTo>
                <a:lnTo>
                  <a:pt x="190" y="400"/>
                </a:lnTo>
                <a:lnTo>
                  <a:pt x="200" y="400"/>
                </a:lnTo>
                <a:lnTo>
                  <a:pt x="205" y="400"/>
                </a:lnTo>
                <a:lnTo>
                  <a:pt x="215" y="400"/>
                </a:lnTo>
                <a:lnTo>
                  <a:pt x="220" y="400"/>
                </a:lnTo>
                <a:lnTo>
                  <a:pt x="231" y="400"/>
                </a:lnTo>
                <a:lnTo>
                  <a:pt x="241" y="400"/>
                </a:lnTo>
                <a:lnTo>
                  <a:pt x="246" y="400"/>
                </a:lnTo>
                <a:lnTo>
                  <a:pt x="256" y="400"/>
                </a:lnTo>
                <a:lnTo>
                  <a:pt x="261" y="400"/>
                </a:lnTo>
                <a:lnTo>
                  <a:pt x="272" y="400"/>
                </a:lnTo>
                <a:lnTo>
                  <a:pt x="282" y="400"/>
                </a:lnTo>
                <a:lnTo>
                  <a:pt x="287" y="400"/>
                </a:lnTo>
                <a:lnTo>
                  <a:pt x="297" y="400"/>
                </a:lnTo>
                <a:lnTo>
                  <a:pt x="302" y="400"/>
                </a:lnTo>
                <a:lnTo>
                  <a:pt x="313" y="400"/>
                </a:lnTo>
                <a:lnTo>
                  <a:pt x="323" y="400"/>
                </a:lnTo>
                <a:lnTo>
                  <a:pt x="328" y="400"/>
                </a:lnTo>
                <a:lnTo>
                  <a:pt x="338" y="400"/>
                </a:lnTo>
                <a:lnTo>
                  <a:pt x="343" y="400"/>
                </a:lnTo>
                <a:lnTo>
                  <a:pt x="354" y="400"/>
                </a:lnTo>
                <a:lnTo>
                  <a:pt x="364" y="400"/>
                </a:lnTo>
                <a:lnTo>
                  <a:pt x="369" y="400"/>
                </a:lnTo>
                <a:lnTo>
                  <a:pt x="379" y="400"/>
                </a:lnTo>
                <a:lnTo>
                  <a:pt x="384" y="400"/>
                </a:lnTo>
                <a:lnTo>
                  <a:pt x="395" y="400"/>
                </a:lnTo>
                <a:lnTo>
                  <a:pt x="400" y="400"/>
                </a:lnTo>
                <a:lnTo>
                  <a:pt x="410" y="400"/>
                </a:lnTo>
                <a:lnTo>
                  <a:pt x="420" y="400"/>
                </a:lnTo>
                <a:lnTo>
                  <a:pt x="425" y="400"/>
                </a:lnTo>
                <a:lnTo>
                  <a:pt x="436" y="400"/>
                </a:lnTo>
                <a:lnTo>
                  <a:pt x="441" y="400"/>
                </a:lnTo>
                <a:lnTo>
                  <a:pt x="451" y="400"/>
                </a:lnTo>
                <a:lnTo>
                  <a:pt x="461" y="400"/>
                </a:lnTo>
                <a:lnTo>
                  <a:pt x="466" y="400"/>
                </a:lnTo>
                <a:lnTo>
                  <a:pt x="477" y="400"/>
                </a:lnTo>
                <a:lnTo>
                  <a:pt x="482" y="400"/>
                </a:lnTo>
                <a:lnTo>
                  <a:pt x="492" y="400"/>
                </a:lnTo>
                <a:lnTo>
                  <a:pt x="502" y="400"/>
                </a:lnTo>
                <a:lnTo>
                  <a:pt x="507" y="400"/>
                </a:lnTo>
                <a:lnTo>
                  <a:pt x="518" y="400"/>
                </a:lnTo>
                <a:lnTo>
                  <a:pt x="523" y="400"/>
                </a:lnTo>
                <a:lnTo>
                  <a:pt x="533" y="400"/>
                </a:lnTo>
                <a:lnTo>
                  <a:pt x="543" y="400"/>
                </a:lnTo>
                <a:lnTo>
                  <a:pt x="548" y="400"/>
                </a:lnTo>
                <a:lnTo>
                  <a:pt x="559" y="400"/>
                </a:lnTo>
                <a:lnTo>
                  <a:pt x="564" y="400"/>
                </a:lnTo>
                <a:lnTo>
                  <a:pt x="574" y="400"/>
                </a:lnTo>
                <a:lnTo>
                  <a:pt x="584" y="400"/>
                </a:lnTo>
                <a:lnTo>
                  <a:pt x="589" y="400"/>
                </a:lnTo>
                <a:lnTo>
                  <a:pt x="600" y="400"/>
                </a:lnTo>
                <a:lnTo>
                  <a:pt x="605" y="400"/>
                </a:lnTo>
                <a:lnTo>
                  <a:pt x="615" y="400"/>
                </a:lnTo>
                <a:lnTo>
                  <a:pt x="620" y="400"/>
                </a:lnTo>
                <a:lnTo>
                  <a:pt x="630" y="400"/>
                </a:lnTo>
                <a:lnTo>
                  <a:pt x="641" y="395"/>
                </a:lnTo>
                <a:lnTo>
                  <a:pt x="646" y="395"/>
                </a:lnTo>
                <a:lnTo>
                  <a:pt x="656" y="410"/>
                </a:lnTo>
                <a:lnTo>
                  <a:pt x="661" y="420"/>
                </a:lnTo>
                <a:lnTo>
                  <a:pt x="671" y="405"/>
                </a:lnTo>
                <a:lnTo>
                  <a:pt x="682" y="359"/>
                </a:lnTo>
                <a:lnTo>
                  <a:pt x="687" y="349"/>
                </a:lnTo>
                <a:lnTo>
                  <a:pt x="697" y="441"/>
                </a:lnTo>
                <a:lnTo>
                  <a:pt x="702" y="620"/>
                </a:lnTo>
                <a:lnTo>
                  <a:pt x="712" y="774"/>
                </a:lnTo>
                <a:lnTo>
                  <a:pt x="723" y="799"/>
                </a:lnTo>
                <a:lnTo>
                  <a:pt x="728" y="656"/>
                </a:lnTo>
                <a:lnTo>
                  <a:pt x="738" y="400"/>
                </a:lnTo>
                <a:lnTo>
                  <a:pt x="743" y="144"/>
                </a:lnTo>
                <a:lnTo>
                  <a:pt x="753" y="0"/>
                </a:lnTo>
                <a:lnTo>
                  <a:pt x="764" y="21"/>
                </a:lnTo>
                <a:lnTo>
                  <a:pt x="769" y="179"/>
                </a:lnTo>
                <a:lnTo>
                  <a:pt x="779" y="359"/>
                </a:lnTo>
                <a:lnTo>
                  <a:pt x="784" y="446"/>
                </a:lnTo>
                <a:lnTo>
                  <a:pt x="794" y="441"/>
                </a:lnTo>
                <a:lnTo>
                  <a:pt x="799" y="395"/>
                </a:lnTo>
                <a:lnTo>
                  <a:pt x="810" y="379"/>
                </a:lnTo>
                <a:lnTo>
                  <a:pt x="820" y="389"/>
                </a:lnTo>
                <a:lnTo>
                  <a:pt x="825" y="405"/>
                </a:lnTo>
                <a:lnTo>
                  <a:pt x="835" y="405"/>
                </a:lnTo>
                <a:lnTo>
                  <a:pt x="840" y="400"/>
                </a:lnTo>
                <a:lnTo>
                  <a:pt x="851" y="400"/>
                </a:lnTo>
                <a:lnTo>
                  <a:pt x="861" y="400"/>
                </a:lnTo>
                <a:lnTo>
                  <a:pt x="866" y="400"/>
                </a:lnTo>
                <a:lnTo>
                  <a:pt x="876" y="400"/>
                </a:lnTo>
                <a:lnTo>
                  <a:pt x="881" y="400"/>
                </a:lnTo>
                <a:lnTo>
                  <a:pt x="892" y="400"/>
                </a:lnTo>
                <a:lnTo>
                  <a:pt x="902" y="400"/>
                </a:lnTo>
                <a:lnTo>
                  <a:pt x="907" y="400"/>
                </a:lnTo>
                <a:lnTo>
                  <a:pt x="917" y="400"/>
                </a:lnTo>
                <a:lnTo>
                  <a:pt x="922" y="400"/>
                </a:lnTo>
                <a:lnTo>
                  <a:pt x="933" y="400"/>
                </a:lnTo>
                <a:lnTo>
                  <a:pt x="943" y="400"/>
                </a:lnTo>
                <a:lnTo>
                  <a:pt x="948" y="400"/>
                </a:lnTo>
                <a:lnTo>
                  <a:pt x="958" y="400"/>
                </a:lnTo>
                <a:lnTo>
                  <a:pt x="963" y="400"/>
                </a:lnTo>
                <a:lnTo>
                  <a:pt x="974" y="400"/>
                </a:lnTo>
                <a:lnTo>
                  <a:pt x="984" y="400"/>
                </a:lnTo>
                <a:lnTo>
                  <a:pt x="989" y="400"/>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109960" y="2178000"/>
            <a:ext cx="414000" cy="3668760"/>
          </a:xfrm>
          <a:custGeom>
            <a:avLst/>
            <a:gdLst/>
            <a:ahLst/>
            <a:rect l="l" t="t" r="r" b="b"/>
            <a:pathLst>
              <a:path w="261" h="2311">
                <a:moveTo>
                  <a:pt x="0" y="1184"/>
                </a:moveTo>
                <a:lnTo>
                  <a:pt x="5" y="1184"/>
                </a:lnTo>
                <a:lnTo>
                  <a:pt x="10" y="1184"/>
                </a:lnTo>
                <a:lnTo>
                  <a:pt x="20" y="1189"/>
                </a:lnTo>
                <a:lnTo>
                  <a:pt x="25" y="1189"/>
                </a:lnTo>
                <a:lnTo>
                  <a:pt x="35" y="1179"/>
                </a:lnTo>
                <a:lnTo>
                  <a:pt x="46" y="1173"/>
                </a:lnTo>
                <a:lnTo>
                  <a:pt x="51" y="1179"/>
                </a:lnTo>
                <a:lnTo>
                  <a:pt x="61" y="1184"/>
                </a:lnTo>
                <a:lnTo>
                  <a:pt x="66" y="1189"/>
                </a:lnTo>
                <a:lnTo>
                  <a:pt x="76" y="1189"/>
                </a:lnTo>
                <a:lnTo>
                  <a:pt x="87" y="1184"/>
                </a:lnTo>
                <a:lnTo>
                  <a:pt x="92" y="1179"/>
                </a:lnTo>
                <a:lnTo>
                  <a:pt x="102" y="1173"/>
                </a:lnTo>
                <a:lnTo>
                  <a:pt x="107" y="1173"/>
                </a:lnTo>
                <a:lnTo>
                  <a:pt x="117" y="1189"/>
                </a:lnTo>
                <a:lnTo>
                  <a:pt x="128" y="1199"/>
                </a:lnTo>
                <a:lnTo>
                  <a:pt x="133" y="1184"/>
                </a:lnTo>
                <a:lnTo>
                  <a:pt x="143" y="1173"/>
                </a:lnTo>
                <a:lnTo>
                  <a:pt x="148" y="1184"/>
                </a:lnTo>
                <a:lnTo>
                  <a:pt x="158" y="1189"/>
                </a:lnTo>
                <a:lnTo>
                  <a:pt x="164" y="1158"/>
                </a:lnTo>
                <a:lnTo>
                  <a:pt x="174" y="1163"/>
                </a:lnTo>
                <a:lnTo>
                  <a:pt x="184" y="1255"/>
                </a:lnTo>
                <a:lnTo>
                  <a:pt x="189" y="1307"/>
                </a:lnTo>
                <a:lnTo>
                  <a:pt x="199" y="1133"/>
                </a:lnTo>
                <a:lnTo>
                  <a:pt x="205" y="871"/>
                </a:lnTo>
                <a:lnTo>
                  <a:pt x="215" y="974"/>
                </a:lnTo>
                <a:lnTo>
                  <a:pt x="225" y="1640"/>
                </a:lnTo>
                <a:lnTo>
                  <a:pt x="230" y="2311"/>
                </a:lnTo>
                <a:lnTo>
                  <a:pt x="240" y="2162"/>
                </a:lnTo>
                <a:lnTo>
                  <a:pt x="246" y="1122"/>
                </a:lnTo>
                <a:lnTo>
                  <a:pt x="256" y="87"/>
                </a:lnTo>
                <a:lnTo>
                  <a:pt x="261" y="0"/>
                </a:lnTo>
              </a:path>
            </a:pathLst>
          </a:custGeom>
          <a:noFill/>
          <a:ln w="158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532240" y="2178000"/>
            <a:ext cx="1643040" cy="3473640"/>
          </a:xfrm>
          <a:custGeom>
            <a:avLst/>
            <a:gdLst/>
            <a:ahLst/>
            <a:rect l="l" t="t" r="r" b="b"/>
            <a:pathLst>
              <a:path w="1035" h="2188">
                <a:moveTo>
                  <a:pt x="0" y="0"/>
                </a:moveTo>
                <a:lnTo>
                  <a:pt x="5" y="677"/>
                </a:lnTo>
                <a:lnTo>
                  <a:pt x="15" y="1384"/>
                </a:lnTo>
                <a:lnTo>
                  <a:pt x="21" y="1512"/>
                </a:lnTo>
                <a:lnTo>
                  <a:pt x="31" y="1240"/>
                </a:lnTo>
                <a:lnTo>
                  <a:pt x="41" y="1061"/>
                </a:lnTo>
                <a:lnTo>
                  <a:pt x="46" y="1107"/>
                </a:lnTo>
                <a:lnTo>
                  <a:pt x="56" y="1199"/>
                </a:lnTo>
                <a:lnTo>
                  <a:pt x="62" y="1199"/>
                </a:lnTo>
                <a:lnTo>
                  <a:pt x="72" y="1158"/>
                </a:lnTo>
                <a:lnTo>
                  <a:pt x="82" y="1158"/>
                </a:lnTo>
                <a:lnTo>
                  <a:pt x="87" y="1184"/>
                </a:lnTo>
                <a:lnTo>
                  <a:pt x="97" y="1194"/>
                </a:lnTo>
                <a:lnTo>
                  <a:pt x="103" y="1189"/>
                </a:lnTo>
                <a:lnTo>
                  <a:pt x="113" y="1194"/>
                </a:lnTo>
                <a:lnTo>
                  <a:pt x="118" y="1204"/>
                </a:lnTo>
                <a:lnTo>
                  <a:pt x="128" y="1204"/>
                </a:lnTo>
                <a:lnTo>
                  <a:pt x="138" y="1199"/>
                </a:lnTo>
                <a:lnTo>
                  <a:pt x="144" y="1199"/>
                </a:lnTo>
                <a:lnTo>
                  <a:pt x="154" y="1184"/>
                </a:lnTo>
                <a:lnTo>
                  <a:pt x="159" y="1168"/>
                </a:lnTo>
                <a:lnTo>
                  <a:pt x="169" y="1173"/>
                </a:lnTo>
                <a:lnTo>
                  <a:pt x="179" y="1214"/>
                </a:lnTo>
                <a:lnTo>
                  <a:pt x="185" y="1266"/>
                </a:lnTo>
                <a:lnTo>
                  <a:pt x="195" y="1296"/>
                </a:lnTo>
                <a:lnTo>
                  <a:pt x="200" y="1296"/>
                </a:lnTo>
                <a:lnTo>
                  <a:pt x="210" y="1266"/>
                </a:lnTo>
                <a:lnTo>
                  <a:pt x="220" y="1225"/>
                </a:lnTo>
                <a:lnTo>
                  <a:pt x="226" y="1184"/>
                </a:lnTo>
                <a:lnTo>
                  <a:pt x="236" y="1168"/>
                </a:lnTo>
                <a:lnTo>
                  <a:pt x="241" y="1168"/>
                </a:lnTo>
                <a:lnTo>
                  <a:pt x="251" y="1179"/>
                </a:lnTo>
                <a:lnTo>
                  <a:pt x="261" y="1184"/>
                </a:lnTo>
                <a:lnTo>
                  <a:pt x="267" y="1184"/>
                </a:lnTo>
                <a:lnTo>
                  <a:pt x="277" y="1184"/>
                </a:lnTo>
                <a:lnTo>
                  <a:pt x="282" y="1184"/>
                </a:lnTo>
                <a:lnTo>
                  <a:pt x="292" y="1179"/>
                </a:lnTo>
                <a:lnTo>
                  <a:pt x="297" y="1179"/>
                </a:lnTo>
                <a:lnTo>
                  <a:pt x="308" y="1179"/>
                </a:lnTo>
                <a:lnTo>
                  <a:pt x="318" y="1179"/>
                </a:lnTo>
                <a:lnTo>
                  <a:pt x="323" y="1173"/>
                </a:lnTo>
                <a:lnTo>
                  <a:pt x="333" y="1173"/>
                </a:lnTo>
                <a:lnTo>
                  <a:pt x="338" y="1173"/>
                </a:lnTo>
                <a:lnTo>
                  <a:pt x="349" y="1173"/>
                </a:lnTo>
                <a:lnTo>
                  <a:pt x="359" y="1173"/>
                </a:lnTo>
                <a:lnTo>
                  <a:pt x="364" y="1179"/>
                </a:lnTo>
                <a:lnTo>
                  <a:pt x="374" y="1184"/>
                </a:lnTo>
                <a:lnTo>
                  <a:pt x="379" y="1184"/>
                </a:lnTo>
                <a:lnTo>
                  <a:pt x="390" y="1173"/>
                </a:lnTo>
                <a:lnTo>
                  <a:pt x="400" y="1168"/>
                </a:lnTo>
                <a:lnTo>
                  <a:pt x="405" y="1163"/>
                </a:lnTo>
                <a:lnTo>
                  <a:pt x="415" y="1158"/>
                </a:lnTo>
                <a:lnTo>
                  <a:pt x="420" y="1163"/>
                </a:lnTo>
                <a:lnTo>
                  <a:pt x="431" y="1168"/>
                </a:lnTo>
                <a:lnTo>
                  <a:pt x="441" y="1179"/>
                </a:lnTo>
                <a:lnTo>
                  <a:pt x="446" y="1184"/>
                </a:lnTo>
                <a:lnTo>
                  <a:pt x="456" y="1189"/>
                </a:lnTo>
                <a:lnTo>
                  <a:pt x="461" y="1189"/>
                </a:lnTo>
                <a:lnTo>
                  <a:pt x="472" y="1184"/>
                </a:lnTo>
                <a:lnTo>
                  <a:pt x="482" y="1184"/>
                </a:lnTo>
                <a:lnTo>
                  <a:pt x="487" y="1184"/>
                </a:lnTo>
                <a:lnTo>
                  <a:pt x="497" y="1189"/>
                </a:lnTo>
                <a:lnTo>
                  <a:pt x="502" y="1189"/>
                </a:lnTo>
                <a:lnTo>
                  <a:pt x="513" y="1179"/>
                </a:lnTo>
                <a:lnTo>
                  <a:pt x="518" y="1173"/>
                </a:lnTo>
                <a:lnTo>
                  <a:pt x="528" y="1179"/>
                </a:lnTo>
                <a:lnTo>
                  <a:pt x="538" y="1184"/>
                </a:lnTo>
                <a:lnTo>
                  <a:pt x="543" y="1189"/>
                </a:lnTo>
                <a:lnTo>
                  <a:pt x="554" y="1189"/>
                </a:lnTo>
                <a:lnTo>
                  <a:pt x="559" y="1184"/>
                </a:lnTo>
                <a:lnTo>
                  <a:pt x="569" y="1179"/>
                </a:lnTo>
                <a:lnTo>
                  <a:pt x="579" y="1173"/>
                </a:lnTo>
                <a:lnTo>
                  <a:pt x="584" y="1173"/>
                </a:lnTo>
                <a:lnTo>
                  <a:pt x="595" y="1189"/>
                </a:lnTo>
                <a:lnTo>
                  <a:pt x="600" y="1199"/>
                </a:lnTo>
                <a:lnTo>
                  <a:pt x="610" y="1189"/>
                </a:lnTo>
                <a:lnTo>
                  <a:pt x="620" y="1173"/>
                </a:lnTo>
                <a:lnTo>
                  <a:pt x="625" y="1179"/>
                </a:lnTo>
                <a:lnTo>
                  <a:pt x="636" y="1184"/>
                </a:lnTo>
                <a:lnTo>
                  <a:pt x="641" y="1163"/>
                </a:lnTo>
                <a:lnTo>
                  <a:pt x="651" y="1173"/>
                </a:lnTo>
                <a:lnTo>
                  <a:pt x="661" y="1250"/>
                </a:lnTo>
                <a:lnTo>
                  <a:pt x="666" y="1271"/>
                </a:lnTo>
                <a:lnTo>
                  <a:pt x="677" y="1117"/>
                </a:lnTo>
                <a:lnTo>
                  <a:pt x="682" y="922"/>
                </a:lnTo>
                <a:lnTo>
                  <a:pt x="692" y="1056"/>
                </a:lnTo>
                <a:lnTo>
                  <a:pt x="702" y="1640"/>
                </a:lnTo>
                <a:lnTo>
                  <a:pt x="707" y="2188"/>
                </a:lnTo>
                <a:lnTo>
                  <a:pt x="718" y="2029"/>
                </a:lnTo>
                <a:lnTo>
                  <a:pt x="723" y="1127"/>
                </a:lnTo>
                <a:lnTo>
                  <a:pt x="733" y="226"/>
                </a:lnTo>
                <a:lnTo>
                  <a:pt x="738" y="93"/>
                </a:lnTo>
                <a:lnTo>
                  <a:pt x="748" y="677"/>
                </a:lnTo>
                <a:lnTo>
                  <a:pt x="759" y="1296"/>
                </a:lnTo>
                <a:lnTo>
                  <a:pt x="764" y="1450"/>
                </a:lnTo>
                <a:lnTo>
                  <a:pt x="774" y="1255"/>
                </a:lnTo>
                <a:lnTo>
                  <a:pt x="779" y="1092"/>
                </a:lnTo>
                <a:lnTo>
                  <a:pt x="789" y="1117"/>
                </a:lnTo>
                <a:lnTo>
                  <a:pt x="800" y="1189"/>
                </a:lnTo>
                <a:lnTo>
                  <a:pt x="805" y="1194"/>
                </a:lnTo>
                <a:lnTo>
                  <a:pt x="815" y="1163"/>
                </a:lnTo>
                <a:lnTo>
                  <a:pt x="820" y="1158"/>
                </a:lnTo>
                <a:lnTo>
                  <a:pt x="830" y="1179"/>
                </a:lnTo>
                <a:lnTo>
                  <a:pt x="841" y="1194"/>
                </a:lnTo>
                <a:lnTo>
                  <a:pt x="846" y="1194"/>
                </a:lnTo>
                <a:lnTo>
                  <a:pt x="856" y="1194"/>
                </a:lnTo>
                <a:lnTo>
                  <a:pt x="861" y="1199"/>
                </a:lnTo>
                <a:lnTo>
                  <a:pt x="871" y="1199"/>
                </a:lnTo>
                <a:lnTo>
                  <a:pt x="882" y="1199"/>
                </a:lnTo>
                <a:lnTo>
                  <a:pt x="887" y="1199"/>
                </a:lnTo>
                <a:lnTo>
                  <a:pt x="897" y="1184"/>
                </a:lnTo>
                <a:lnTo>
                  <a:pt x="902" y="1168"/>
                </a:lnTo>
                <a:lnTo>
                  <a:pt x="912" y="1173"/>
                </a:lnTo>
                <a:lnTo>
                  <a:pt x="923" y="1214"/>
                </a:lnTo>
                <a:lnTo>
                  <a:pt x="928" y="1261"/>
                </a:lnTo>
                <a:lnTo>
                  <a:pt x="938" y="1296"/>
                </a:lnTo>
                <a:lnTo>
                  <a:pt x="943" y="1296"/>
                </a:lnTo>
                <a:lnTo>
                  <a:pt x="953" y="1266"/>
                </a:lnTo>
                <a:lnTo>
                  <a:pt x="958" y="1225"/>
                </a:lnTo>
                <a:lnTo>
                  <a:pt x="969" y="1184"/>
                </a:lnTo>
                <a:lnTo>
                  <a:pt x="979" y="1168"/>
                </a:lnTo>
                <a:lnTo>
                  <a:pt x="984" y="1168"/>
                </a:lnTo>
                <a:lnTo>
                  <a:pt x="994" y="1179"/>
                </a:lnTo>
                <a:lnTo>
                  <a:pt x="999" y="1184"/>
                </a:lnTo>
                <a:lnTo>
                  <a:pt x="1010" y="1184"/>
                </a:lnTo>
                <a:lnTo>
                  <a:pt x="1020" y="1184"/>
                </a:lnTo>
                <a:lnTo>
                  <a:pt x="1025" y="1184"/>
                </a:lnTo>
                <a:lnTo>
                  <a:pt x="1035" y="1179"/>
                </a:lnTo>
              </a:path>
            </a:pathLst>
          </a:custGeom>
          <a:noFill/>
          <a:ln w="158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175280" y="2820960"/>
            <a:ext cx="1644480" cy="2351160"/>
          </a:xfrm>
          <a:custGeom>
            <a:avLst/>
            <a:gdLst/>
            <a:ahLst/>
            <a:rect l="l" t="t" r="r" b="b"/>
            <a:pathLst>
              <a:path w="1036" h="1481">
                <a:moveTo>
                  <a:pt x="0" y="774"/>
                </a:moveTo>
                <a:lnTo>
                  <a:pt x="5" y="774"/>
                </a:lnTo>
                <a:lnTo>
                  <a:pt x="16" y="774"/>
                </a:lnTo>
                <a:lnTo>
                  <a:pt x="26" y="774"/>
                </a:lnTo>
                <a:lnTo>
                  <a:pt x="31" y="768"/>
                </a:lnTo>
                <a:lnTo>
                  <a:pt x="41" y="768"/>
                </a:lnTo>
                <a:lnTo>
                  <a:pt x="46" y="768"/>
                </a:lnTo>
                <a:lnTo>
                  <a:pt x="57" y="768"/>
                </a:lnTo>
                <a:lnTo>
                  <a:pt x="67" y="768"/>
                </a:lnTo>
                <a:lnTo>
                  <a:pt x="72" y="774"/>
                </a:lnTo>
                <a:lnTo>
                  <a:pt x="82" y="774"/>
                </a:lnTo>
                <a:lnTo>
                  <a:pt x="87" y="774"/>
                </a:lnTo>
                <a:lnTo>
                  <a:pt x="98" y="768"/>
                </a:lnTo>
                <a:lnTo>
                  <a:pt x="103" y="763"/>
                </a:lnTo>
                <a:lnTo>
                  <a:pt x="113" y="758"/>
                </a:lnTo>
                <a:lnTo>
                  <a:pt x="123" y="758"/>
                </a:lnTo>
                <a:lnTo>
                  <a:pt x="128" y="758"/>
                </a:lnTo>
                <a:lnTo>
                  <a:pt x="139" y="763"/>
                </a:lnTo>
                <a:lnTo>
                  <a:pt x="144" y="774"/>
                </a:lnTo>
                <a:lnTo>
                  <a:pt x="154" y="779"/>
                </a:lnTo>
                <a:lnTo>
                  <a:pt x="164" y="784"/>
                </a:lnTo>
                <a:lnTo>
                  <a:pt x="169" y="784"/>
                </a:lnTo>
                <a:lnTo>
                  <a:pt x="180" y="784"/>
                </a:lnTo>
                <a:lnTo>
                  <a:pt x="185" y="784"/>
                </a:lnTo>
                <a:lnTo>
                  <a:pt x="195" y="779"/>
                </a:lnTo>
                <a:lnTo>
                  <a:pt x="205" y="779"/>
                </a:lnTo>
                <a:lnTo>
                  <a:pt x="210" y="779"/>
                </a:lnTo>
                <a:lnTo>
                  <a:pt x="221" y="779"/>
                </a:lnTo>
                <a:lnTo>
                  <a:pt x="226" y="779"/>
                </a:lnTo>
                <a:lnTo>
                  <a:pt x="236" y="779"/>
                </a:lnTo>
                <a:lnTo>
                  <a:pt x="246" y="784"/>
                </a:lnTo>
                <a:lnTo>
                  <a:pt x="251" y="784"/>
                </a:lnTo>
                <a:lnTo>
                  <a:pt x="262" y="784"/>
                </a:lnTo>
                <a:lnTo>
                  <a:pt x="267" y="784"/>
                </a:lnTo>
                <a:lnTo>
                  <a:pt x="277" y="784"/>
                </a:lnTo>
                <a:lnTo>
                  <a:pt x="287" y="779"/>
                </a:lnTo>
                <a:lnTo>
                  <a:pt x="292" y="779"/>
                </a:lnTo>
                <a:lnTo>
                  <a:pt x="303" y="779"/>
                </a:lnTo>
                <a:lnTo>
                  <a:pt x="308" y="779"/>
                </a:lnTo>
                <a:lnTo>
                  <a:pt x="318" y="779"/>
                </a:lnTo>
                <a:lnTo>
                  <a:pt x="323" y="784"/>
                </a:lnTo>
                <a:lnTo>
                  <a:pt x="333" y="784"/>
                </a:lnTo>
                <a:lnTo>
                  <a:pt x="344" y="779"/>
                </a:lnTo>
                <a:lnTo>
                  <a:pt x="349" y="779"/>
                </a:lnTo>
                <a:lnTo>
                  <a:pt x="359" y="779"/>
                </a:lnTo>
                <a:lnTo>
                  <a:pt x="364" y="784"/>
                </a:lnTo>
                <a:lnTo>
                  <a:pt x="374" y="779"/>
                </a:lnTo>
                <a:lnTo>
                  <a:pt x="385" y="774"/>
                </a:lnTo>
                <a:lnTo>
                  <a:pt x="390" y="774"/>
                </a:lnTo>
                <a:lnTo>
                  <a:pt x="400" y="774"/>
                </a:lnTo>
                <a:lnTo>
                  <a:pt x="405" y="779"/>
                </a:lnTo>
                <a:lnTo>
                  <a:pt x="415" y="784"/>
                </a:lnTo>
                <a:lnTo>
                  <a:pt x="426" y="784"/>
                </a:lnTo>
                <a:lnTo>
                  <a:pt x="431" y="779"/>
                </a:lnTo>
                <a:lnTo>
                  <a:pt x="441" y="774"/>
                </a:lnTo>
                <a:lnTo>
                  <a:pt x="446" y="768"/>
                </a:lnTo>
                <a:lnTo>
                  <a:pt x="456" y="774"/>
                </a:lnTo>
                <a:lnTo>
                  <a:pt x="467" y="784"/>
                </a:lnTo>
                <a:lnTo>
                  <a:pt x="472" y="784"/>
                </a:lnTo>
                <a:lnTo>
                  <a:pt x="482" y="784"/>
                </a:lnTo>
                <a:lnTo>
                  <a:pt x="487" y="779"/>
                </a:lnTo>
                <a:lnTo>
                  <a:pt x="497" y="774"/>
                </a:lnTo>
                <a:lnTo>
                  <a:pt x="508" y="768"/>
                </a:lnTo>
                <a:lnTo>
                  <a:pt x="513" y="768"/>
                </a:lnTo>
                <a:lnTo>
                  <a:pt x="523" y="794"/>
                </a:lnTo>
                <a:lnTo>
                  <a:pt x="528" y="820"/>
                </a:lnTo>
                <a:lnTo>
                  <a:pt x="538" y="794"/>
                </a:lnTo>
                <a:lnTo>
                  <a:pt x="544" y="702"/>
                </a:lnTo>
                <a:lnTo>
                  <a:pt x="554" y="656"/>
                </a:lnTo>
                <a:lnTo>
                  <a:pt x="564" y="835"/>
                </a:lnTo>
                <a:lnTo>
                  <a:pt x="569" y="1209"/>
                </a:lnTo>
                <a:lnTo>
                  <a:pt x="579" y="1481"/>
                </a:lnTo>
                <a:lnTo>
                  <a:pt x="585" y="1312"/>
                </a:lnTo>
                <a:lnTo>
                  <a:pt x="595" y="728"/>
                </a:lnTo>
                <a:lnTo>
                  <a:pt x="605" y="149"/>
                </a:lnTo>
                <a:lnTo>
                  <a:pt x="610" y="0"/>
                </a:lnTo>
                <a:lnTo>
                  <a:pt x="620" y="292"/>
                </a:lnTo>
                <a:lnTo>
                  <a:pt x="626" y="697"/>
                </a:lnTo>
                <a:lnTo>
                  <a:pt x="636" y="891"/>
                </a:lnTo>
                <a:lnTo>
                  <a:pt x="646" y="856"/>
                </a:lnTo>
                <a:lnTo>
                  <a:pt x="651" y="763"/>
                </a:lnTo>
                <a:lnTo>
                  <a:pt x="661" y="738"/>
                </a:lnTo>
                <a:lnTo>
                  <a:pt x="667" y="758"/>
                </a:lnTo>
                <a:lnTo>
                  <a:pt x="677" y="774"/>
                </a:lnTo>
                <a:lnTo>
                  <a:pt x="687" y="763"/>
                </a:lnTo>
                <a:lnTo>
                  <a:pt x="692" y="758"/>
                </a:lnTo>
                <a:lnTo>
                  <a:pt x="702" y="768"/>
                </a:lnTo>
                <a:lnTo>
                  <a:pt x="708" y="784"/>
                </a:lnTo>
                <a:lnTo>
                  <a:pt x="718" y="794"/>
                </a:lnTo>
                <a:lnTo>
                  <a:pt x="728" y="794"/>
                </a:lnTo>
                <a:lnTo>
                  <a:pt x="733" y="794"/>
                </a:lnTo>
                <a:lnTo>
                  <a:pt x="743" y="794"/>
                </a:lnTo>
                <a:lnTo>
                  <a:pt x="749" y="799"/>
                </a:lnTo>
                <a:lnTo>
                  <a:pt x="759" y="794"/>
                </a:lnTo>
                <a:lnTo>
                  <a:pt x="764" y="779"/>
                </a:lnTo>
                <a:lnTo>
                  <a:pt x="774" y="768"/>
                </a:lnTo>
                <a:lnTo>
                  <a:pt x="784" y="774"/>
                </a:lnTo>
                <a:lnTo>
                  <a:pt x="790" y="804"/>
                </a:lnTo>
                <a:lnTo>
                  <a:pt x="800" y="850"/>
                </a:lnTo>
                <a:lnTo>
                  <a:pt x="805" y="886"/>
                </a:lnTo>
                <a:lnTo>
                  <a:pt x="815" y="891"/>
                </a:lnTo>
                <a:lnTo>
                  <a:pt x="825" y="861"/>
                </a:lnTo>
                <a:lnTo>
                  <a:pt x="831" y="820"/>
                </a:lnTo>
                <a:lnTo>
                  <a:pt x="841" y="784"/>
                </a:lnTo>
                <a:lnTo>
                  <a:pt x="846" y="763"/>
                </a:lnTo>
                <a:lnTo>
                  <a:pt x="856" y="763"/>
                </a:lnTo>
                <a:lnTo>
                  <a:pt x="866" y="774"/>
                </a:lnTo>
                <a:lnTo>
                  <a:pt x="872" y="779"/>
                </a:lnTo>
                <a:lnTo>
                  <a:pt x="882" y="779"/>
                </a:lnTo>
                <a:lnTo>
                  <a:pt x="887" y="779"/>
                </a:lnTo>
                <a:lnTo>
                  <a:pt x="897" y="774"/>
                </a:lnTo>
                <a:lnTo>
                  <a:pt x="907" y="774"/>
                </a:lnTo>
                <a:lnTo>
                  <a:pt x="913" y="774"/>
                </a:lnTo>
                <a:lnTo>
                  <a:pt x="923" y="774"/>
                </a:lnTo>
                <a:lnTo>
                  <a:pt x="928" y="774"/>
                </a:lnTo>
                <a:lnTo>
                  <a:pt x="938" y="768"/>
                </a:lnTo>
                <a:lnTo>
                  <a:pt x="943" y="768"/>
                </a:lnTo>
                <a:lnTo>
                  <a:pt x="954" y="768"/>
                </a:lnTo>
                <a:lnTo>
                  <a:pt x="964" y="768"/>
                </a:lnTo>
                <a:lnTo>
                  <a:pt x="969" y="774"/>
                </a:lnTo>
                <a:lnTo>
                  <a:pt x="979" y="774"/>
                </a:lnTo>
                <a:lnTo>
                  <a:pt x="984" y="774"/>
                </a:lnTo>
                <a:lnTo>
                  <a:pt x="995" y="774"/>
                </a:lnTo>
                <a:lnTo>
                  <a:pt x="1005" y="768"/>
                </a:lnTo>
                <a:lnTo>
                  <a:pt x="1010" y="763"/>
                </a:lnTo>
                <a:lnTo>
                  <a:pt x="1020" y="758"/>
                </a:lnTo>
                <a:lnTo>
                  <a:pt x="1025" y="758"/>
                </a:lnTo>
                <a:lnTo>
                  <a:pt x="1036" y="763"/>
                </a:lnTo>
              </a:path>
            </a:pathLst>
          </a:custGeom>
          <a:noFill/>
          <a:ln w="158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5819760" y="3357720"/>
            <a:ext cx="1138320" cy="1293480"/>
          </a:xfrm>
          <a:custGeom>
            <a:avLst/>
            <a:gdLst/>
            <a:ahLst/>
            <a:rect l="l" t="t" r="r" b="b"/>
            <a:pathLst>
              <a:path w="717" h="815">
                <a:moveTo>
                  <a:pt x="0" y="425"/>
                </a:moveTo>
                <a:lnTo>
                  <a:pt x="10" y="430"/>
                </a:lnTo>
                <a:lnTo>
                  <a:pt x="15" y="436"/>
                </a:lnTo>
                <a:lnTo>
                  <a:pt x="25" y="441"/>
                </a:lnTo>
                <a:lnTo>
                  <a:pt x="30" y="441"/>
                </a:lnTo>
                <a:lnTo>
                  <a:pt x="41" y="446"/>
                </a:lnTo>
                <a:lnTo>
                  <a:pt x="51" y="446"/>
                </a:lnTo>
                <a:lnTo>
                  <a:pt x="56" y="446"/>
                </a:lnTo>
                <a:lnTo>
                  <a:pt x="66" y="441"/>
                </a:lnTo>
                <a:lnTo>
                  <a:pt x="71" y="441"/>
                </a:lnTo>
                <a:lnTo>
                  <a:pt x="82" y="441"/>
                </a:lnTo>
                <a:lnTo>
                  <a:pt x="92" y="441"/>
                </a:lnTo>
                <a:lnTo>
                  <a:pt x="97" y="441"/>
                </a:lnTo>
                <a:lnTo>
                  <a:pt x="107" y="446"/>
                </a:lnTo>
                <a:lnTo>
                  <a:pt x="112" y="446"/>
                </a:lnTo>
                <a:lnTo>
                  <a:pt x="123" y="446"/>
                </a:lnTo>
                <a:lnTo>
                  <a:pt x="128" y="446"/>
                </a:lnTo>
                <a:lnTo>
                  <a:pt x="138" y="446"/>
                </a:lnTo>
                <a:lnTo>
                  <a:pt x="148" y="446"/>
                </a:lnTo>
                <a:lnTo>
                  <a:pt x="153" y="441"/>
                </a:lnTo>
                <a:lnTo>
                  <a:pt x="164" y="441"/>
                </a:lnTo>
                <a:lnTo>
                  <a:pt x="169" y="441"/>
                </a:lnTo>
                <a:lnTo>
                  <a:pt x="179" y="441"/>
                </a:lnTo>
                <a:lnTo>
                  <a:pt x="189" y="441"/>
                </a:lnTo>
                <a:lnTo>
                  <a:pt x="194" y="446"/>
                </a:lnTo>
                <a:lnTo>
                  <a:pt x="205" y="446"/>
                </a:lnTo>
                <a:lnTo>
                  <a:pt x="210" y="441"/>
                </a:lnTo>
                <a:lnTo>
                  <a:pt x="220" y="441"/>
                </a:lnTo>
                <a:lnTo>
                  <a:pt x="230" y="441"/>
                </a:lnTo>
                <a:lnTo>
                  <a:pt x="235" y="446"/>
                </a:lnTo>
                <a:lnTo>
                  <a:pt x="246" y="441"/>
                </a:lnTo>
                <a:lnTo>
                  <a:pt x="251" y="436"/>
                </a:lnTo>
                <a:lnTo>
                  <a:pt x="261" y="436"/>
                </a:lnTo>
                <a:lnTo>
                  <a:pt x="271" y="436"/>
                </a:lnTo>
                <a:lnTo>
                  <a:pt x="276" y="441"/>
                </a:lnTo>
                <a:lnTo>
                  <a:pt x="287" y="446"/>
                </a:lnTo>
                <a:lnTo>
                  <a:pt x="292" y="446"/>
                </a:lnTo>
                <a:lnTo>
                  <a:pt x="302" y="441"/>
                </a:lnTo>
                <a:lnTo>
                  <a:pt x="312" y="436"/>
                </a:lnTo>
                <a:lnTo>
                  <a:pt x="317" y="436"/>
                </a:lnTo>
                <a:lnTo>
                  <a:pt x="328" y="436"/>
                </a:lnTo>
                <a:lnTo>
                  <a:pt x="333" y="441"/>
                </a:lnTo>
                <a:lnTo>
                  <a:pt x="343" y="446"/>
                </a:lnTo>
                <a:lnTo>
                  <a:pt x="348" y="446"/>
                </a:lnTo>
                <a:lnTo>
                  <a:pt x="358" y="441"/>
                </a:lnTo>
                <a:lnTo>
                  <a:pt x="369" y="436"/>
                </a:lnTo>
                <a:lnTo>
                  <a:pt x="374" y="430"/>
                </a:lnTo>
                <a:lnTo>
                  <a:pt x="384" y="446"/>
                </a:lnTo>
                <a:lnTo>
                  <a:pt x="389" y="461"/>
                </a:lnTo>
                <a:lnTo>
                  <a:pt x="399" y="446"/>
                </a:lnTo>
                <a:lnTo>
                  <a:pt x="410" y="405"/>
                </a:lnTo>
                <a:lnTo>
                  <a:pt x="415" y="390"/>
                </a:lnTo>
                <a:lnTo>
                  <a:pt x="425" y="471"/>
                </a:lnTo>
                <a:lnTo>
                  <a:pt x="430" y="641"/>
                </a:lnTo>
                <a:lnTo>
                  <a:pt x="440" y="794"/>
                </a:lnTo>
                <a:lnTo>
                  <a:pt x="451" y="815"/>
                </a:lnTo>
                <a:lnTo>
                  <a:pt x="456" y="666"/>
                </a:lnTo>
                <a:lnTo>
                  <a:pt x="466" y="400"/>
                </a:lnTo>
                <a:lnTo>
                  <a:pt x="471" y="138"/>
                </a:lnTo>
                <a:lnTo>
                  <a:pt x="481" y="0"/>
                </a:lnTo>
                <a:lnTo>
                  <a:pt x="492" y="36"/>
                </a:lnTo>
                <a:lnTo>
                  <a:pt x="497" y="200"/>
                </a:lnTo>
                <a:lnTo>
                  <a:pt x="507" y="379"/>
                </a:lnTo>
                <a:lnTo>
                  <a:pt x="512" y="477"/>
                </a:lnTo>
                <a:lnTo>
                  <a:pt x="522" y="477"/>
                </a:lnTo>
                <a:lnTo>
                  <a:pt x="527" y="436"/>
                </a:lnTo>
                <a:lnTo>
                  <a:pt x="538" y="420"/>
                </a:lnTo>
                <a:lnTo>
                  <a:pt x="548" y="420"/>
                </a:lnTo>
                <a:lnTo>
                  <a:pt x="553" y="425"/>
                </a:lnTo>
                <a:lnTo>
                  <a:pt x="563" y="425"/>
                </a:lnTo>
                <a:lnTo>
                  <a:pt x="568" y="430"/>
                </a:lnTo>
                <a:lnTo>
                  <a:pt x="579" y="446"/>
                </a:lnTo>
                <a:lnTo>
                  <a:pt x="589" y="456"/>
                </a:lnTo>
                <a:lnTo>
                  <a:pt x="594" y="456"/>
                </a:lnTo>
                <a:lnTo>
                  <a:pt x="604" y="456"/>
                </a:lnTo>
                <a:lnTo>
                  <a:pt x="609" y="456"/>
                </a:lnTo>
                <a:lnTo>
                  <a:pt x="620" y="461"/>
                </a:lnTo>
                <a:lnTo>
                  <a:pt x="630" y="456"/>
                </a:lnTo>
                <a:lnTo>
                  <a:pt x="635" y="441"/>
                </a:lnTo>
                <a:lnTo>
                  <a:pt x="645" y="430"/>
                </a:lnTo>
                <a:lnTo>
                  <a:pt x="650" y="436"/>
                </a:lnTo>
                <a:lnTo>
                  <a:pt x="661" y="466"/>
                </a:lnTo>
                <a:lnTo>
                  <a:pt x="671" y="507"/>
                </a:lnTo>
                <a:lnTo>
                  <a:pt x="676" y="543"/>
                </a:lnTo>
                <a:lnTo>
                  <a:pt x="686" y="548"/>
                </a:lnTo>
                <a:lnTo>
                  <a:pt x="691" y="523"/>
                </a:lnTo>
                <a:lnTo>
                  <a:pt x="702" y="482"/>
                </a:lnTo>
                <a:lnTo>
                  <a:pt x="712" y="446"/>
                </a:lnTo>
                <a:lnTo>
                  <a:pt x="717" y="436"/>
                </a:lnTo>
              </a:path>
            </a:pathLst>
          </a:custGeom>
          <a:noFill/>
          <a:ln w="15840">
            <a:solidFill>
              <a:srgbClr val="ff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192720" y="2235240"/>
            <a:ext cx="70020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192720" y="2235240"/>
            <a:ext cx="700200" cy="293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192720" y="2235240"/>
            <a:ext cx="70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6192720" y="2529000"/>
            <a:ext cx="70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flipV="1">
            <a:off x="6892920" y="2235240"/>
            <a:ext cx="1440" cy="29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flipV="1">
            <a:off x="6192720" y="2235240"/>
            <a:ext cx="1800" cy="29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192720" y="2529000"/>
            <a:ext cx="70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flipV="1">
            <a:off x="6192720" y="2235240"/>
            <a:ext cx="1800" cy="29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192720" y="2235240"/>
            <a:ext cx="70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6192720" y="2529000"/>
            <a:ext cx="70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flipV="1">
            <a:off x="6892920" y="2235240"/>
            <a:ext cx="1440" cy="29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flipV="1">
            <a:off x="6192720" y="2235240"/>
            <a:ext cx="1800" cy="29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501600" y="225108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R</a:t>
            </a:r>
            <a:endParaRPr b="0" lang="en-US" sz="800" spc="-1" strike="noStrike">
              <a:solidFill>
                <a:srgbClr val="000000"/>
              </a:solidFill>
              <a:latin typeface="Times New Roman"/>
            </a:endParaRPr>
          </a:p>
        </p:txBody>
      </p:sp>
      <p:sp>
        <p:nvSpPr>
          <p:cNvPr id="1498" name=""/>
          <p:cNvSpPr/>
          <p:nvPr/>
        </p:nvSpPr>
        <p:spPr>
          <a:xfrm>
            <a:off x="6501960" y="2381400"/>
            <a:ext cx="30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OT</a:t>
            </a:r>
            <a:endParaRPr b="0" lang="en-US" sz="800" spc="-1" strike="noStrike">
              <a:solidFill>
                <a:srgbClr val="000000"/>
              </a:solidFill>
              <a:latin typeface="Times New Roman"/>
            </a:endParaRPr>
          </a:p>
        </p:txBody>
      </p:sp>
      <p:sp>
        <p:nvSpPr>
          <p:cNvPr id="1499" name=""/>
          <p:cNvSpPr/>
          <p:nvPr/>
        </p:nvSpPr>
        <p:spPr>
          <a:xfrm>
            <a:off x="6249960" y="2316240"/>
            <a:ext cx="187200" cy="1440"/>
          </a:xfrm>
          <a:prstGeom prst="line">
            <a:avLst/>
          </a:prstGeom>
          <a:ln w="158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6249960" y="2446200"/>
            <a:ext cx="187200" cy="1800"/>
          </a:xfrm>
          <a:prstGeom prst="line">
            <a:avLst/>
          </a:prstGeom>
          <a:ln w="15840">
            <a:solidFill>
              <a:srgbClr val="ff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1" name=""/>
          <p:cNvSpPr/>
          <p:nvPr/>
        </p:nvSpPr>
        <p:spPr>
          <a:xfrm>
            <a:off x="2646360" y="22683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
            </a:r>
            <a:endParaRPr b="0" lang="en-US" sz="800" spc="-1" strike="noStrike">
              <a:solidFill>
                <a:srgbClr val="000000"/>
              </a:solidFill>
              <a:latin typeface="Times New Roman"/>
            </a:endParaRPr>
          </a:p>
        </p:txBody>
      </p:sp>
      <p:sp>
        <p:nvSpPr>
          <p:cNvPr id="1502" name=""/>
          <p:cNvSpPr/>
          <p:nvPr/>
        </p:nvSpPr>
        <p:spPr>
          <a:xfrm>
            <a:off x="3753000" y="250344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a:t>
            </a:r>
            <a:endParaRPr b="0" lang="en-US" sz="800" spc="-1" strike="noStrike">
              <a:solidFill>
                <a:srgbClr val="000000"/>
              </a:solidFill>
              <a:latin typeface="Times New Roman"/>
            </a:endParaRPr>
          </a:p>
        </p:txBody>
      </p:sp>
      <p:sp>
        <p:nvSpPr>
          <p:cNvPr id="1503" name=""/>
          <p:cNvSpPr/>
          <p:nvPr/>
        </p:nvSpPr>
        <p:spPr>
          <a:xfrm>
            <a:off x="5224320" y="28051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a:t>
            </a:r>
            <a:endParaRPr b="0" lang="en-US" sz="800" spc="-1" strike="noStrike">
              <a:solidFill>
                <a:srgbClr val="000000"/>
              </a:solidFill>
              <a:latin typeface="Times New Roman"/>
            </a:endParaRPr>
          </a:p>
        </p:txBody>
      </p:sp>
      <p:sp>
        <p:nvSpPr>
          <p:cNvPr id="1504" name=""/>
          <p:cNvSpPr/>
          <p:nvPr/>
        </p:nvSpPr>
        <p:spPr>
          <a:xfrm>
            <a:off x="6437160" y="3227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a:t>
            </a:r>
            <a:endParaRPr b="0" lang="en-US" sz="800" spc="-1" strike="noStrike">
              <a:solidFill>
                <a:srgbClr val="000000"/>
              </a:solidFill>
              <a:latin typeface="Times New Roman"/>
            </a:endParaRPr>
          </a:p>
        </p:txBody>
      </p:sp>
      <p:sp>
        <p:nvSpPr>
          <p:cNvPr id="1505"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4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2202120" y="1371600"/>
            <a:ext cx="3531960" cy="2440800"/>
            <a:chOff x="2202120" y="1371600"/>
            <a:chExt cx="3531960" cy="2440800"/>
          </a:xfrm>
        </p:grpSpPr>
        <p:sp>
          <p:nvSpPr>
            <p:cNvPr id="47" name=""/>
            <p:cNvSpPr/>
            <p:nvPr/>
          </p:nvSpPr>
          <p:spPr>
            <a:xfrm>
              <a:off x="3429000" y="1752480"/>
              <a:ext cx="1828800" cy="18288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9416000">
              <a:off x="4038120" y="2514600"/>
              <a:ext cx="61272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4343400" y="2362320"/>
              <a:ext cx="83808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343400" y="2362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343400" y="2666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4190760" y="2666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245200" y="2160360"/>
              <a:ext cx="48888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731120" y="2514600"/>
              <a:ext cx="351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5" name=""/>
            <p:cNvSpPr/>
            <p:nvPr/>
          </p:nvSpPr>
          <p:spPr>
            <a:xfrm>
              <a:off x="5264280" y="167652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6" name=""/>
            <p:cNvSpPr/>
            <p:nvPr/>
          </p:nvSpPr>
          <p:spPr>
            <a:xfrm>
              <a:off x="4368960" y="2778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 name=""/>
            <p:cNvSpPr/>
            <p:nvPr/>
          </p:nvSpPr>
          <p:spPr>
            <a:xfrm>
              <a:off x="5160960" y="231444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8" name=""/>
            <p:cNvSpPr/>
            <p:nvPr/>
          </p:nvSpPr>
          <p:spPr>
            <a:xfrm>
              <a:off x="4167720" y="2747880"/>
              <a:ext cx="401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9" name=""/>
            <p:cNvSpPr/>
            <p:nvPr/>
          </p:nvSpPr>
          <p:spPr>
            <a:xfrm>
              <a:off x="5235840" y="2249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0" name=""/>
            <p:cNvSpPr/>
            <p:nvPr/>
          </p:nvSpPr>
          <p:spPr>
            <a:xfrm>
              <a:off x="4419720" y="2819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50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62" name=""/>
            <p:cNvSpPr/>
            <p:nvPr/>
          </p:nvSpPr>
          <p:spPr>
            <a:xfrm>
              <a:off x="3201480" y="33526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w</a:t>
              </a:r>
              <a:endParaRPr b="0" lang="en-US" sz="2400" spc="-1" strike="noStrike">
                <a:solidFill>
                  <a:srgbClr val="000000"/>
                </a:solidFill>
                <a:latin typeface="Times New Roman"/>
              </a:endParaRPr>
            </a:p>
          </p:txBody>
        </p:sp>
        <p:sp>
          <p:nvSpPr>
            <p:cNvPr id="63" name=""/>
            <p:cNvSpPr/>
            <p:nvPr/>
          </p:nvSpPr>
          <p:spPr>
            <a:xfrm flipV="1">
              <a:off x="3581280" y="28954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2590560" y="1371600"/>
              <a:ext cx="6858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43200" y="19051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05800" y="1676520"/>
              <a:ext cx="36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67" name=""/>
            <p:cNvSpPr/>
            <p:nvPr/>
          </p:nvSpPr>
          <p:spPr>
            <a:xfrm>
              <a:off x="2202120" y="1660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68" name=""/>
          <p:cNvSpPr/>
          <p:nvPr/>
        </p:nvSpPr>
        <p:spPr>
          <a:xfrm>
            <a:off x="592200" y="1279440"/>
            <a:ext cx="191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dent pla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a:t>
            </a:r>
            <a:endParaRPr b="0" lang="en-US" sz="2400" spc="-1" strike="noStrike">
              <a:solidFill>
                <a:srgbClr val="000000"/>
              </a:solidFill>
              <a:latin typeface="Times New Roman"/>
            </a:endParaRPr>
          </a:p>
        </p:txBody>
      </p:sp>
      <p:sp>
        <p:nvSpPr>
          <p:cNvPr id="69" name=""/>
          <p:cNvSpPr/>
          <p:nvPr/>
        </p:nvSpPr>
        <p:spPr>
          <a:xfrm>
            <a:off x="753480" y="3032280"/>
            <a:ext cx="18968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pre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tude</a:t>
            </a:r>
            <a:endParaRPr b="0" lang="en-US" sz="2400" spc="-1" strike="noStrike">
              <a:solidFill>
                <a:srgbClr val="000000"/>
              </a:solidFill>
              <a:latin typeface="Times New Roman"/>
            </a:endParaRPr>
          </a:p>
        </p:txBody>
      </p:sp>
      <p:graphicFrame>
        <p:nvGraphicFramePr>
          <p:cNvPr id="70" name=""/>
          <p:cNvGraphicFramePr/>
          <p:nvPr/>
        </p:nvGraphicFramePr>
        <p:xfrm>
          <a:off x="2546280" y="5132520"/>
          <a:ext cx="2925720" cy="623880"/>
        </p:xfrm>
        <a:graphic>
          <a:graphicData uri="http://schemas.openxmlformats.org/presentationml/2006/ole">
            <p:oleObj r:id="rId1" spid="">
              <p:embed/>
              <p:pic>
                <p:nvPicPr>
                  <p:cNvPr id="71" name="" descr=""/>
                  <p:cNvPicPr/>
                  <p:nvPr/>
                </p:nvPicPr>
                <p:blipFill>
                  <a:blip r:embed="rId2"/>
                  <a:stretch/>
                </p:blipFill>
                <p:spPr>
                  <a:xfrm>
                    <a:off x="2546280" y="5132520"/>
                    <a:ext cx="2925720" cy="623880"/>
                  </a:xfrm>
                  <a:prstGeom prst="rect">
                    <a:avLst/>
                  </a:prstGeom>
                  <a:ln w="0">
                    <a:noFill/>
                  </a:ln>
                </p:spPr>
              </p:pic>
            </p:oleObj>
          </a:graphicData>
        </a:graphic>
      </p:graphicFrame>
      <p:sp>
        <p:nvSpPr>
          <p:cNvPr id="72" name=""/>
          <p:cNvSpPr/>
          <p:nvPr/>
        </p:nvSpPr>
        <p:spPr>
          <a:xfrm>
            <a:off x="3505320" y="9907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 Model</a:t>
            </a:r>
            <a:endParaRPr b="0" lang="en-US" sz="2400" spc="-1" strike="noStrike">
              <a:solidFill>
                <a:srgbClr val="000000"/>
              </a:solidFill>
              <a:latin typeface="Times New Roman"/>
            </a:endParaRPr>
          </a:p>
        </p:txBody>
      </p:sp>
      <p:sp>
        <p:nvSpPr>
          <p:cNvPr id="73" name=""/>
          <p:cNvSpPr/>
          <p:nvPr/>
        </p:nvSpPr>
        <p:spPr>
          <a:xfrm>
            <a:off x="1595880" y="3962520"/>
            <a:ext cx="574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many wavelengths away from the flaw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ed waves are spherical waves</a:t>
            </a:r>
            <a:endParaRPr b="0" lang="en-US" sz="2400" spc="-1" strike="noStrike">
              <a:solidFill>
                <a:srgbClr val="000000"/>
              </a:solidFill>
              <a:latin typeface="Times New Roman"/>
            </a:endParaRPr>
          </a:p>
        </p:txBody>
      </p:sp>
      <p:sp>
        <p:nvSpPr>
          <p:cNvPr id="74" name=""/>
          <p:cNvSpPr/>
          <p:nvPr/>
        </p:nvSpPr>
        <p:spPr>
          <a:xfrm>
            <a:off x="6474960" y="5105520"/>
            <a:ext cx="23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ed pressure</a:t>
            </a:r>
            <a:endParaRPr b="0" lang="en-US" sz="2400" spc="-1" strike="noStrike">
              <a:solidFill>
                <a:srgbClr val="000000"/>
              </a:solidFill>
              <a:latin typeface="Times New Roman"/>
            </a:endParaRPr>
          </a:p>
        </p:txBody>
      </p:sp>
      <p:sp>
        <p:nvSpPr>
          <p:cNvPr id="75" name=""/>
          <p:cNvSpPr/>
          <p:nvPr/>
        </p:nvSpPr>
        <p:spPr>
          <a:xfrm>
            <a:off x="581400" y="5985000"/>
            <a:ext cx="70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 is called the plane wave far-field scattering ampl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7" name="" descr=""/>
          <p:cNvPicPr/>
          <p:nvPr/>
        </p:nvPicPr>
        <p:blipFill>
          <a:blip r:embed="rId1"/>
          <a:stretch/>
        </p:blipFill>
        <p:spPr>
          <a:xfrm>
            <a:off x="1676520" y="1905120"/>
            <a:ext cx="6248160" cy="4684680"/>
          </a:xfrm>
          <a:prstGeom prst="rect">
            <a:avLst/>
          </a:prstGeom>
          <a:ln w="0">
            <a:noFill/>
          </a:ln>
        </p:spPr>
      </p:pic>
      <p:sp>
        <p:nvSpPr>
          <p:cNvPr id="1508" name=""/>
          <p:cNvSpPr/>
          <p:nvPr/>
        </p:nvSpPr>
        <p:spPr>
          <a:xfrm>
            <a:off x="2509200" y="1447920"/>
            <a:ext cx="42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5 degrees from crack normal</a:t>
            </a:r>
            <a:endParaRPr b="0" lang="en-US" sz="2400" spc="-1" strike="noStrike">
              <a:solidFill>
                <a:srgbClr val="000000"/>
              </a:solidFill>
              <a:latin typeface="Times New Roman"/>
            </a:endParaRPr>
          </a:p>
        </p:txBody>
      </p:sp>
      <p:sp>
        <p:nvSpPr>
          <p:cNvPr id="1509"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1"/>
          <a:stretch/>
        </p:blipFill>
        <p:spPr>
          <a:xfrm>
            <a:off x="1371600" y="2173320"/>
            <a:ext cx="6248520" cy="4684680"/>
          </a:xfrm>
          <a:prstGeom prst="rect">
            <a:avLst/>
          </a:prstGeom>
          <a:ln w="0">
            <a:noFill/>
          </a:ln>
        </p:spPr>
      </p:pic>
      <p:sp>
        <p:nvSpPr>
          <p:cNvPr id="1512" name=""/>
          <p:cNvSpPr/>
          <p:nvPr/>
        </p:nvSpPr>
        <p:spPr>
          <a:xfrm>
            <a:off x="2509200" y="1447920"/>
            <a:ext cx="42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55 degrees from crack normal</a:t>
            </a:r>
            <a:endParaRPr b="0" lang="en-US" sz="2400" spc="-1" strike="noStrike">
              <a:solidFill>
                <a:srgbClr val="000000"/>
              </a:solidFill>
              <a:latin typeface="Times New Roman"/>
            </a:endParaRPr>
          </a:p>
        </p:txBody>
      </p:sp>
      <p:sp>
        <p:nvSpPr>
          <p:cNvPr id="1513"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509200" y="1447920"/>
            <a:ext cx="42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70 degrees from crack normal</a:t>
            </a:r>
            <a:endParaRPr b="0" lang="en-US" sz="2400" spc="-1" strike="noStrike">
              <a:solidFill>
                <a:srgbClr val="000000"/>
              </a:solidFill>
              <a:latin typeface="Times New Roman"/>
            </a:endParaRPr>
          </a:p>
        </p:txBody>
      </p:sp>
      <p:pic>
        <p:nvPicPr>
          <p:cNvPr id="1516" name="" descr=""/>
          <p:cNvPicPr/>
          <p:nvPr/>
        </p:nvPicPr>
        <p:blipFill>
          <a:blip r:embed="rId1"/>
          <a:stretch/>
        </p:blipFill>
        <p:spPr>
          <a:xfrm>
            <a:off x="1600200" y="1981080"/>
            <a:ext cx="6248520" cy="4684680"/>
          </a:xfrm>
          <a:prstGeom prst="rect">
            <a:avLst/>
          </a:prstGeom>
          <a:ln w="0">
            <a:noFill/>
          </a:ln>
        </p:spPr>
      </p:pic>
      <p:sp>
        <p:nvSpPr>
          <p:cNvPr id="1517"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1"/>
          <a:stretch/>
        </p:blipFill>
        <p:spPr>
          <a:xfrm>
            <a:off x="1219320" y="1905120"/>
            <a:ext cx="6276960" cy="4706640"/>
          </a:xfrm>
          <a:prstGeom prst="rect">
            <a:avLst/>
          </a:prstGeom>
          <a:ln w="0">
            <a:noFill/>
          </a:ln>
        </p:spPr>
      </p:pic>
      <p:sp>
        <p:nvSpPr>
          <p:cNvPr id="1520" name=""/>
          <p:cNvSpPr/>
          <p:nvPr/>
        </p:nvSpPr>
        <p:spPr>
          <a:xfrm>
            <a:off x="2509200" y="1447920"/>
            <a:ext cx="42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85 degrees from crack normal</a:t>
            </a:r>
            <a:endParaRPr b="0" lang="en-US" sz="2400" spc="-1" strike="noStrike">
              <a:solidFill>
                <a:srgbClr val="000000"/>
              </a:solidFill>
              <a:latin typeface="Times New Roman"/>
            </a:endParaRPr>
          </a:p>
        </p:txBody>
      </p:sp>
      <p:sp>
        <p:nvSpPr>
          <p:cNvPr id="1521"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
          <a:stretch/>
        </p:blipFill>
        <p:spPr>
          <a:xfrm>
            <a:off x="1523880" y="2344680"/>
            <a:ext cx="6019920" cy="4513320"/>
          </a:xfrm>
          <a:prstGeom prst="rect">
            <a:avLst/>
          </a:prstGeom>
          <a:ln w="0">
            <a:noFill/>
          </a:ln>
        </p:spPr>
      </p:pic>
      <p:sp>
        <p:nvSpPr>
          <p:cNvPr id="1524" name=""/>
          <p:cNvSpPr/>
          <p:nvPr/>
        </p:nvSpPr>
        <p:spPr>
          <a:xfrm>
            <a:off x="1143000" y="91440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peak-to-peak values of MOOT and Kirchhoff versus angle of incidence for the 0.381mm radius crack (pulse-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ow shows where agreement is within 1 dB</a:t>
            </a:r>
            <a:endParaRPr b="0" lang="en-US" sz="2400" spc="-1" strike="noStrike">
              <a:solidFill>
                <a:srgbClr val="000000"/>
              </a:solidFill>
              <a:latin typeface="Times New Roman"/>
            </a:endParaRPr>
          </a:p>
        </p:txBody>
      </p:sp>
      <p:sp>
        <p:nvSpPr>
          <p:cNvPr id="1525" name=""/>
          <p:cNvSpPr/>
          <p:nvPr/>
        </p:nvSpPr>
        <p:spPr>
          <a:xfrm flipV="1">
            <a:off x="5486400" y="36572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514600" y="42670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
          <p:cNvSpPr/>
          <p:nvPr/>
        </p:nvSpPr>
        <p:spPr>
          <a:xfrm>
            <a:off x="609480" y="91908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the scattering amplitude with narrow band Gaussian wind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frequency is 10 MHz, and the bandwidth is 1 MH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us of the crack a = 0.381mm</a:t>
            </a:r>
            <a:endParaRPr b="0" lang="en-US" sz="2400" spc="-1" strike="noStrike">
              <a:solidFill>
                <a:srgbClr val="000000"/>
              </a:solidFill>
              <a:latin typeface="Times New Roman"/>
            </a:endParaRPr>
          </a:p>
        </p:txBody>
      </p:sp>
      <p:sp>
        <p:nvSpPr>
          <p:cNvPr id="1529"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523960" y="2552760"/>
            <a:ext cx="3681720" cy="29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523960" y="2552760"/>
            <a:ext cx="3681720" cy="29066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2523960" y="2552760"/>
            <a:ext cx="368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a:off x="2523960" y="5459400"/>
            <a:ext cx="368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flipV="1">
            <a:off x="6205680" y="2552760"/>
            <a:ext cx="144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V="1">
            <a:off x="2523960" y="2552760"/>
            <a:ext cx="180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523960" y="5459400"/>
            <a:ext cx="368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flipV="1">
            <a:off x="2523960" y="2552760"/>
            <a:ext cx="180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2523960" y="5422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9" name=""/>
          <p:cNvSpPr/>
          <p:nvPr/>
        </p:nvSpPr>
        <p:spPr>
          <a:xfrm>
            <a:off x="2523960" y="25527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0" name=""/>
          <p:cNvSpPr/>
          <p:nvPr/>
        </p:nvSpPr>
        <p:spPr>
          <a:xfrm>
            <a:off x="2507760" y="5524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541" name=""/>
          <p:cNvSpPr/>
          <p:nvPr/>
        </p:nvSpPr>
        <p:spPr>
          <a:xfrm flipV="1">
            <a:off x="3260880" y="5422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2" name=""/>
          <p:cNvSpPr/>
          <p:nvPr/>
        </p:nvSpPr>
        <p:spPr>
          <a:xfrm>
            <a:off x="3260880" y="25527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3" name=""/>
          <p:cNvSpPr/>
          <p:nvPr/>
        </p:nvSpPr>
        <p:spPr>
          <a:xfrm>
            <a:off x="3244320" y="5524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544" name=""/>
          <p:cNvSpPr/>
          <p:nvPr/>
        </p:nvSpPr>
        <p:spPr>
          <a:xfrm flipV="1">
            <a:off x="3997440" y="5422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5" name=""/>
          <p:cNvSpPr/>
          <p:nvPr/>
        </p:nvSpPr>
        <p:spPr>
          <a:xfrm>
            <a:off x="3997440" y="25527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6" name=""/>
          <p:cNvSpPr/>
          <p:nvPr/>
        </p:nvSpPr>
        <p:spPr>
          <a:xfrm>
            <a:off x="3955680" y="5524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547" name=""/>
          <p:cNvSpPr/>
          <p:nvPr/>
        </p:nvSpPr>
        <p:spPr>
          <a:xfrm flipV="1">
            <a:off x="4734000" y="5422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4734000" y="25527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9" name=""/>
          <p:cNvSpPr/>
          <p:nvPr/>
        </p:nvSpPr>
        <p:spPr>
          <a:xfrm>
            <a:off x="4692240" y="5524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550" name=""/>
          <p:cNvSpPr/>
          <p:nvPr/>
        </p:nvSpPr>
        <p:spPr>
          <a:xfrm flipV="1">
            <a:off x="5470560" y="5422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1" name=""/>
          <p:cNvSpPr/>
          <p:nvPr/>
        </p:nvSpPr>
        <p:spPr>
          <a:xfrm>
            <a:off x="5470560" y="25527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5428800" y="5524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553" name=""/>
          <p:cNvSpPr/>
          <p:nvPr/>
        </p:nvSpPr>
        <p:spPr>
          <a:xfrm flipV="1">
            <a:off x="6205680" y="5422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4" name=""/>
          <p:cNvSpPr/>
          <p:nvPr/>
        </p:nvSpPr>
        <p:spPr>
          <a:xfrm>
            <a:off x="6205680" y="25527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5" name=""/>
          <p:cNvSpPr/>
          <p:nvPr/>
        </p:nvSpPr>
        <p:spPr>
          <a:xfrm>
            <a:off x="6165360" y="5524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1556" name=""/>
          <p:cNvSpPr/>
          <p:nvPr/>
        </p:nvSpPr>
        <p:spPr>
          <a:xfrm>
            <a:off x="2523960" y="54594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flipH="1">
            <a:off x="6168960" y="54594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2347560" y="5410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559" name=""/>
          <p:cNvSpPr/>
          <p:nvPr/>
        </p:nvSpPr>
        <p:spPr>
          <a:xfrm>
            <a:off x="2523960" y="5168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flipH="1">
            <a:off x="6168960" y="51688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2278800" y="5119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1562" name=""/>
          <p:cNvSpPr/>
          <p:nvPr/>
        </p:nvSpPr>
        <p:spPr>
          <a:xfrm>
            <a:off x="2523960" y="48783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3" name=""/>
          <p:cNvSpPr/>
          <p:nvPr/>
        </p:nvSpPr>
        <p:spPr>
          <a:xfrm flipH="1">
            <a:off x="6168960" y="48783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4" name=""/>
          <p:cNvSpPr/>
          <p:nvPr/>
        </p:nvSpPr>
        <p:spPr>
          <a:xfrm>
            <a:off x="2278800" y="4829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1565" name=""/>
          <p:cNvSpPr/>
          <p:nvPr/>
        </p:nvSpPr>
        <p:spPr>
          <a:xfrm>
            <a:off x="2523960" y="458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6" name=""/>
          <p:cNvSpPr/>
          <p:nvPr/>
        </p:nvSpPr>
        <p:spPr>
          <a:xfrm flipH="1">
            <a:off x="6168960" y="458784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7" name=""/>
          <p:cNvSpPr/>
          <p:nvPr/>
        </p:nvSpPr>
        <p:spPr>
          <a:xfrm>
            <a:off x="2278800" y="4538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Times New Roman"/>
            </a:endParaRPr>
          </a:p>
        </p:txBody>
      </p:sp>
      <p:sp>
        <p:nvSpPr>
          <p:cNvPr id="1568" name=""/>
          <p:cNvSpPr/>
          <p:nvPr/>
        </p:nvSpPr>
        <p:spPr>
          <a:xfrm>
            <a:off x="2523960" y="42973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9" name=""/>
          <p:cNvSpPr/>
          <p:nvPr/>
        </p:nvSpPr>
        <p:spPr>
          <a:xfrm flipH="1">
            <a:off x="6168960" y="429732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2278800" y="4246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1571" name=""/>
          <p:cNvSpPr/>
          <p:nvPr/>
        </p:nvSpPr>
        <p:spPr>
          <a:xfrm>
            <a:off x="2523960" y="40053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2" name=""/>
          <p:cNvSpPr/>
          <p:nvPr/>
        </p:nvSpPr>
        <p:spPr>
          <a:xfrm flipH="1">
            <a:off x="6168960" y="40053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2278800" y="3956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1574" name=""/>
          <p:cNvSpPr/>
          <p:nvPr/>
        </p:nvSpPr>
        <p:spPr>
          <a:xfrm>
            <a:off x="2523960" y="37083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5" name=""/>
          <p:cNvSpPr/>
          <p:nvPr/>
        </p:nvSpPr>
        <p:spPr>
          <a:xfrm flipH="1">
            <a:off x="6168960" y="370836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a:off x="2278800" y="3659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1577" name=""/>
          <p:cNvSpPr/>
          <p:nvPr/>
        </p:nvSpPr>
        <p:spPr>
          <a:xfrm>
            <a:off x="2523960" y="341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8" name=""/>
          <p:cNvSpPr/>
          <p:nvPr/>
        </p:nvSpPr>
        <p:spPr>
          <a:xfrm flipH="1">
            <a:off x="6168960" y="341784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a:off x="2278800" y="3368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Times New Roman"/>
            </a:endParaRPr>
          </a:p>
        </p:txBody>
      </p:sp>
      <p:sp>
        <p:nvSpPr>
          <p:cNvPr id="1580" name=""/>
          <p:cNvSpPr/>
          <p:nvPr/>
        </p:nvSpPr>
        <p:spPr>
          <a:xfrm>
            <a:off x="2523960" y="31338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
          <p:cNvSpPr/>
          <p:nvPr/>
        </p:nvSpPr>
        <p:spPr>
          <a:xfrm flipH="1">
            <a:off x="6168960" y="31338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a:off x="2278800" y="3084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1583" name=""/>
          <p:cNvSpPr/>
          <p:nvPr/>
        </p:nvSpPr>
        <p:spPr>
          <a:xfrm>
            <a:off x="2523960" y="28432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4" name=""/>
          <p:cNvSpPr/>
          <p:nvPr/>
        </p:nvSpPr>
        <p:spPr>
          <a:xfrm flipH="1">
            <a:off x="6168960" y="28432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
          <p:cNvSpPr/>
          <p:nvPr/>
        </p:nvSpPr>
        <p:spPr>
          <a:xfrm>
            <a:off x="2278800" y="2793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Times New Roman"/>
            </a:endParaRPr>
          </a:p>
        </p:txBody>
      </p:sp>
      <p:sp>
        <p:nvSpPr>
          <p:cNvPr id="1586" name=""/>
          <p:cNvSpPr/>
          <p:nvPr/>
        </p:nvSpPr>
        <p:spPr>
          <a:xfrm>
            <a:off x="2523960" y="25527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flipH="1">
            <a:off x="6168960" y="25527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2347560" y="2502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589" name=""/>
          <p:cNvSpPr/>
          <p:nvPr/>
        </p:nvSpPr>
        <p:spPr>
          <a:xfrm>
            <a:off x="2523960" y="2552760"/>
            <a:ext cx="368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2523960" y="5459400"/>
            <a:ext cx="368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1" name=""/>
          <p:cNvSpPr/>
          <p:nvPr/>
        </p:nvSpPr>
        <p:spPr>
          <a:xfrm flipV="1">
            <a:off x="6205680" y="2552760"/>
            <a:ext cx="144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V="1">
            <a:off x="2523960" y="2552760"/>
            <a:ext cx="1800" cy="29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523960" y="5459400"/>
            <a:ext cx="785880" cy="1440"/>
          </a:xfrm>
          <a:custGeom>
            <a:avLst/>
            <a:gdLst/>
            <a:ahLst/>
            <a:rect l="l" t="t" r="r" b="b"/>
            <a:pathLst>
              <a:path w="495" h="0">
                <a:moveTo>
                  <a:pt x="0" y="0"/>
                </a:moveTo>
                <a:lnTo>
                  <a:pt x="4" y="0"/>
                </a:lnTo>
                <a:lnTo>
                  <a:pt x="8" y="0"/>
                </a:lnTo>
                <a:lnTo>
                  <a:pt x="12" y="0"/>
                </a:lnTo>
                <a:lnTo>
                  <a:pt x="15" y="0"/>
                </a:lnTo>
                <a:lnTo>
                  <a:pt x="19" y="0"/>
                </a:lnTo>
                <a:lnTo>
                  <a:pt x="23" y="0"/>
                </a:lnTo>
                <a:lnTo>
                  <a:pt x="27" y="0"/>
                </a:lnTo>
                <a:lnTo>
                  <a:pt x="31" y="0"/>
                </a:lnTo>
                <a:lnTo>
                  <a:pt x="35" y="0"/>
                </a:lnTo>
                <a:lnTo>
                  <a:pt x="39" y="0"/>
                </a:lnTo>
                <a:lnTo>
                  <a:pt x="43" y="0"/>
                </a:lnTo>
                <a:lnTo>
                  <a:pt x="47" y="0"/>
                </a:lnTo>
                <a:lnTo>
                  <a:pt x="51" y="0"/>
                </a:lnTo>
                <a:lnTo>
                  <a:pt x="54" y="0"/>
                </a:lnTo>
                <a:lnTo>
                  <a:pt x="58" y="0"/>
                </a:lnTo>
                <a:lnTo>
                  <a:pt x="62" y="0"/>
                </a:lnTo>
                <a:lnTo>
                  <a:pt x="66" y="0"/>
                </a:lnTo>
                <a:lnTo>
                  <a:pt x="70" y="0"/>
                </a:lnTo>
                <a:lnTo>
                  <a:pt x="74" y="0"/>
                </a:lnTo>
                <a:lnTo>
                  <a:pt x="78" y="0"/>
                </a:lnTo>
                <a:lnTo>
                  <a:pt x="82" y="0"/>
                </a:lnTo>
                <a:lnTo>
                  <a:pt x="86" y="0"/>
                </a:lnTo>
                <a:lnTo>
                  <a:pt x="90" y="0"/>
                </a:lnTo>
                <a:lnTo>
                  <a:pt x="93" y="0"/>
                </a:lnTo>
                <a:lnTo>
                  <a:pt x="97" y="0"/>
                </a:lnTo>
                <a:lnTo>
                  <a:pt x="101" y="0"/>
                </a:lnTo>
                <a:lnTo>
                  <a:pt x="105" y="0"/>
                </a:lnTo>
                <a:lnTo>
                  <a:pt x="109" y="0"/>
                </a:lnTo>
                <a:lnTo>
                  <a:pt x="113" y="0"/>
                </a:lnTo>
                <a:lnTo>
                  <a:pt x="117" y="0"/>
                </a:lnTo>
                <a:lnTo>
                  <a:pt x="121" y="0"/>
                </a:lnTo>
                <a:lnTo>
                  <a:pt x="125" y="0"/>
                </a:lnTo>
                <a:lnTo>
                  <a:pt x="128" y="0"/>
                </a:lnTo>
                <a:lnTo>
                  <a:pt x="132" y="0"/>
                </a:lnTo>
                <a:lnTo>
                  <a:pt x="136" y="0"/>
                </a:lnTo>
                <a:lnTo>
                  <a:pt x="140" y="0"/>
                </a:lnTo>
                <a:lnTo>
                  <a:pt x="144" y="0"/>
                </a:lnTo>
                <a:lnTo>
                  <a:pt x="148" y="0"/>
                </a:lnTo>
                <a:lnTo>
                  <a:pt x="152" y="0"/>
                </a:lnTo>
                <a:lnTo>
                  <a:pt x="156" y="0"/>
                </a:lnTo>
                <a:lnTo>
                  <a:pt x="160" y="0"/>
                </a:lnTo>
                <a:lnTo>
                  <a:pt x="164" y="0"/>
                </a:lnTo>
                <a:lnTo>
                  <a:pt x="167" y="0"/>
                </a:lnTo>
                <a:lnTo>
                  <a:pt x="171" y="0"/>
                </a:lnTo>
                <a:lnTo>
                  <a:pt x="175" y="0"/>
                </a:lnTo>
                <a:lnTo>
                  <a:pt x="179" y="0"/>
                </a:lnTo>
                <a:lnTo>
                  <a:pt x="183" y="0"/>
                </a:lnTo>
                <a:lnTo>
                  <a:pt x="187" y="0"/>
                </a:lnTo>
                <a:lnTo>
                  <a:pt x="191" y="0"/>
                </a:lnTo>
                <a:lnTo>
                  <a:pt x="195" y="0"/>
                </a:lnTo>
                <a:lnTo>
                  <a:pt x="199" y="0"/>
                </a:lnTo>
                <a:lnTo>
                  <a:pt x="203" y="0"/>
                </a:lnTo>
                <a:lnTo>
                  <a:pt x="206" y="0"/>
                </a:lnTo>
                <a:lnTo>
                  <a:pt x="210" y="0"/>
                </a:lnTo>
                <a:lnTo>
                  <a:pt x="214" y="0"/>
                </a:lnTo>
                <a:lnTo>
                  <a:pt x="218" y="0"/>
                </a:lnTo>
                <a:lnTo>
                  <a:pt x="222" y="0"/>
                </a:lnTo>
                <a:lnTo>
                  <a:pt x="226" y="0"/>
                </a:lnTo>
                <a:lnTo>
                  <a:pt x="230" y="0"/>
                </a:lnTo>
                <a:lnTo>
                  <a:pt x="234" y="0"/>
                </a:lnTo>
                <a:lnTo>
                  <a:pt x="238" y="0"/>
                </a:lnTo>
                <a:lnTo>
                  <a:pt x="242" y="0"/>
                </a:lnTo>
                <a:lnTo>
                  <a:pt x="245" y="0"/>
                </a:lnTo>
                <a:lnTo>
                  <a:pt x="249" y="0"/>
                </a:lnTo>
                <a:lnTo>
                  <a:pt x="253" y="0"/>
                </a:lnTo>
                <a:lnTo>
                  <a:pt x="257" y="0"/>
                </a:lnTo>
                <a:lnTo>
                  <a:pt x="261" y="0"/>
                </a:lnTo>
                <a:lnTo>
                  <a:pt x="265" y="0"/>
                </a:lnTo>
                <a:lnTo>
                  <a:pt x="269" y="0"/>
                </a:lnTo>
                <a:lnTo>
                  <a:pt x="273" y="0"/>
                </a:lnTo>
                <a:lnTo>
                  <a:pt x="277" y="0"/>
                </a:lnTo>
                <a:lnTo>
                  <a:pt x="281" y="0"/>
                </a:lnTo>
                <a:lnTo>
                  <a:pt x="284" y="0"/>
                </a:lnTo>
                <a:lnTo>
                  <a:pt x="288" y="0"/>
                </a:lnTo>
                <a:lnTo>
                  <a:pt x="292" y="0"/>
                </a:lnTo>
                <a:lnTo>
                  <a:pt x="296" y="0"/>
                </a:lnTo>
                <a:lnTo>
                  <a:pt x="300" y="0"/>
                </a:lnTo>
                <a:lnTo>
                  <a:pt x="304" y="0"/>
                </a:lnTo>
                <a:lnTo>
                  <a:pt x="308" y="0"/>
                </a:lnTo>
                <a:lnTo>
                  <a:pt x="312" y="0"/>
                </a:lnTo>
                <a:lnTo>
                  <a:pt x="316" y="0"/>
                </a:lnTo>
                <a:lnTo>
                  <a:pt x="320" y="0"/>
                </a:lnTo>
                <a:lnTo>
                  <a:pt x="323" y="0"/>
                </a:lnTo>
                <a:lnTo>
                  <a:pt x="327" y="0"/>
                </a:lnTo>
                <a:lnTo>
                  <a:pt x="331" y="0"/>
                </a:lnTo>
                <a:lnTo>
                  <a:pt x="335" y="0"/>
                </a:lnTo>
                <a:lnTo>
                  <a:pt x="339" y="0"/>
                </a:lnTo>
                <a:lnTo>
                  <a:pt x="343" y="0"/>
                </a:lnTo>
                <a:lnTo>
                  <a:pt x="347" y="0"/>
                </a:lnTo>
                <a:lnTo>
                  <a:pt x="351" y="0"/>
                </a:lnTo>
                <a:lnTo>
                  <a:pt x="355" y="0"/>
                </a:lnTo>
                <a:lnTo>
                  <a:pt x="359" y="0"/>
                </a:lnTo>
                <a:lnTo>
                  <a:pt x="362" y="0"/>
                </a:lnTo>
                <a:lnTo>
                  <a:pt x="366" y="0"/>
                </a:lnTo>
                <a:lnTo>
                  <a:pt x="370" y="0"/>
                </a:lnTo>
                <a:lnTo>
                  <a:pt x="374" y="0"/>
                </a:lnTo>
                <a:lnTo>
                  <a:pt x="378" y="0"/>
                </a:lnTo>
                <a:lnTo>
                  <a:pt x="382" y="0"/>
                </a:lnTo>
                <a:lnTo>
                  <a:pt x="386" y="0"/>
                </a:lnTo>
                <a:lnTo>
                  <a:pt x="390" y="0"/>
                </a:lnTo>
                <a:lnTo>
                  <a:pt x="394" y="0"/>
                </a:lnTo>
                <a:lnTo>
                  <a:pt x="397" y="0"/>
                </a:lnTo>
                <a:lnTo>
                  <a:pt x="401" y="0"/>
                </a:lnTo>
                <a:lnTo>
                  <a:pt x="405" y="0"/>
                </a:lnTo>
                <a:lnTo>
                  <a:pt x="409" y="0"/>
                </a:lnTo>
                <a:lnTo>
                  <a:pt x="413" y="0"/>
                </a:lnTo>
                <a:lnTo>
                  <a:pt x="417" y="0"/>
                </a:lnTo>
                <a:lnTo>
                  <a:pt x="421" y="0"/>
                </a:lnTo>
                <a:lnTo>
                  <a:pt x="425" y="0"/>
                </a:lnTo>
                <a:lnTo>
                  <a:pt x="429" y="0"/>
                </a:lnTo>
                <a:lnTo>
                  <a:pt x="433" y="0"/>
                </a:lnTo>
                <a:lnTo>
                  <a:pt x="436" y="0"/>
                </a:lnTo>
                <a:lnTo>
                  <a:pt x="440" y="0"/>
                </a:lnTo>
                <a:lnTo>
                  <a:pt x="444" y="0"/>
                </a:lnTo>
                <a:lnTo>
                  <a:pt x="448" y="0"/>
                </a:lnTo>
                <a:lnTo>
                  <a:pt x="452" y="0"/>
                </a:lnTo>
                <a:lnTo>
                  <a:pt x="456" y="0"/>
                </a:lnTo>
                <a:lnTo>
                  <a:pt x="460" y="0"/>
                </a:lnTo>
                <a:lnTo>
                  <a:pt x="464" y="0"/>
                </a:lnTo>
                <a:lnTo>
                  <a:pt x="468" y="0"/>
                </a:lnTo>
                <a:lnTo>
                  <a:pt x="472" y="0"/>
                </a:lnTo>
                <a:lnTo>
                  <a:pt x="475" y="0"/>
                </a:lnTo>
                <a:lnTo>
                  <a:pt x="479" y="0"/>
                </a:lnTo>
                <a:lnTo>
                  <a:pt x="483" y="0"/>
                </a:lnTo>
                <a:lnTo>
                  <a:pt x="487" y="0"/>
                </a:lnTo>
                <a:lnTo>
                  <a:pt x="491" y="0"/>
                </a:lnTo>
                <a:lnTo>
                  <a:pt x="495" y="0"/>
                </a:lnTo>
              </a:path>
            </a:pathLst>
          </a:custGeom>
          <a:noFill/>
          <a:ln w="1260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a:off x="3309840" y="2614680"/>
            <a:ext cx="668520" cy="2844720"/>
          </a:xfrm>
          <a:custGeom>
            <a:avLst/>
            <a:gdLst/>
            <a:ahLst/>
            <a:rect l="l" t="t" r="r" b="b"/>
            <a:pathLst>
              <a:path w="421" h="1792">
                <a:moveTo>
                  <a:pt x="0" y="1792"/>
                </a:moveTo>
                <a:lnTo>
                  <a:pt x="4" y="1792"/>
                </a:lnTo>
                <a:lnTo>
                  <a:pt x="8" y="1792"/>
                </a:lnTo>
                <a:lnTo>
                  <a:pt x="12" y="1792"/>
                </a:lnTo>
                <a:lnTo>
                  <a:pt x="16" y="1792"/>
                </a:lnTo>
                <a:lnTo>
                  <a:pt x="19" y="1792"/>
                </a:lnTo>
                <a:lnTo>
                  <a:pt x="23" y="1792"/>
                </a:lnTo>
                <a:lnTo>
                  <a:pt x="27" y="1792"/>
                </a:lnTo>
                <a:lnTo>
                  <a:pt x="31" y="1792"/>
                </a:lnTo>
                <a:lnTo>
                  <a:pt x="35" y="1792"/>
                </a:lnTo>
                <a:lnTo>
                  <a:pt x="39" y="1792"/>
                </a:lnTo>
                <a:lnTo>
                  <a:pt x="43" y="1792"/>
                </a:lnTo>
                <a:lnTo>
                  <a:pt x="47" y="1792"/>
                </a:lnTo>
                <a:lnTo>
                  <a:pt x="51" y="1792"/>
                </a:lnTo>
                <a:lnTo>
                  <a:pt x="55" y="1792"/>
                </a:lnTo>
                <a:lnTo>
                  <a:pt x="58" y="1792"/>
                </a:lnTo>
                <a:lnTo>
                  <a:pt x="62" y="1792"/>
                </a:lnTo>
                <a:lnTo>
                  <a:pt x="66" y="1792"/>
                </a:lnTo>
                <a:lnTo>
                  <a:pt x="70" y="1792"/>
                </a:lnTo>
                <a:lnTo>
                  <a:pt x="74" y="1792"/>
                </a:lnTo>
                <a:lnTo>
                  <a:pt x="78" y="1792"/>
                </a:lnTo>
                <a:lnTo>
                  <a:pt x="82" y="1792"/>
                </a:lnTo>
                <a:lnTo>
                  <a:pt x="86" y="1792"/>
                </a:lnTo>
                <a:lnTo>
                  <a:pt x="90" y="1792"/>
                </a:lnTo>
                <a:lnTo>
                  <a:pt x="94" y="1788"/>
                </a:lnTo>
                <a:lnTo>
                  <a:pt x="97" y="1788"/>
                </a:lnTo>
                <a:lnTo>
                  <a:pt x="101" y="1788"/>
                </a:lnTo>
                <a:lnTo>
                  <a:pt x="105" y="1788"/>
                </a:lnTo>
                <a:lnTo>
                  <a:pt x="109" y="1788"/>
                </a:lnTo>
                <a:lnTo>
                  <a:pt x="113" y="1788"/>
                </a:lnTo>
                <a:lnTo>
                  <a:pt x="117" y="1788"/>
                </a:lnTo>
                <a:lnTo>
                  <a:pt x="121" y="1788"/>
                </a:lnTo>
                <a:lnTo>
                  <a:pt x="125" y="1788"/>
                </a:lnTo>
                <a:lnTo>
                  <a:pt x="129" y="1788"/>
                </a:lnTo>
                <a:lnTo>
                  <a:pt x="132" y="1788"/>
                </a:lnTo>
                <a:lnTo>
                  <a:pt x="136" y="1788"/>
                </a:lnTo>
                <a:lnTo>
                  <a:pt x="140" y="1788"/>
                </a:lnTo>
                <a:lnTo>
                  <a:pt x="144" y="1788"/>
                </a:lnTo>
                <a:lnTo>
                  <a:pt x="148" y="1788"/>
                </a:lnTo>
                <a:lnTo>
                  <a:pt x="152" y="1788"/>
                </a:lnTo>
                <a:lnTo>
                  <a:pt x="156" y="1788"/>
                </a:lnTo>
                <a:lnTo>
                  <a:pt x="160" y="1788"/>
                </a:lnTo>
                <a:lnTo>
                  <a:pt x="164" y="1788"/>
                </a:lnTo>
                <a:lnTo>
                  <a:pt x="168" y="1788"/>
                </a:lnTo>
                <a:lnTo>
                  <a:pt x="171" y="1788"/>
                </a:lnTo>
                <a:lnTo>
                  <a:pt x="175" y="1788"/>
                </a:lnTo>
                <a:lnTo>
                  <a:pt x="179" y="1788"/>
                </a:lnTo>
                <a:lnTo>
                  <a:pt x="183" y="1788"/>
                </a:lnTo>
                <a:lnTo>
                  <a:pt x="187" y="1788"/>
                </a:lnTo>
                <a:lnTo>
                  <a:pt x="191" y="1788"/>
                </a:lnTo>
                <a:lnTo>
                  <a:pt x="195" y="1788"/>
                </a:lnTo>
                <a:lnTo>
                  <a:pt x="199" y="1788"/>
                </a:lnTo>
                <a:lnTo>
                  <a:pt x="203" y="1788"/>
                </a:lnTo>
                <a:lnTo>
                  <a:pt x="207" y="1788"/>
                </a:lnTo>
                <a:lnTo>
                  <a:pt x="210" y="1788"/>
                </a:lnTo>
                <a:lnTo>
                  <a:pt x="214" y="1788"/>
                </a:lnTo>
                <a:lnTo>
                  <a:pt x="218" y="1788"/>
                </a:lnTo>
                <a:lnTo>
                  <a:pt x="222" y="1788"/>
                </a:lnTo>
                <a:lnTo>
                  <a:pt x="226" y="1788"/>
                </a:lnTo>
                <a:lnTo>
                  <a:pt x="230" y="1788"/>
                </a:lnTo>
                <a:lnTo>
                  <a:pt x="234" y="1788"/>
                </a:lnTo>
                <a:lnTo>
                  <a:pt x="238" y="1788"/>
                </a:lnTo>
                <a:lnTo>
                  <a:pt x="242" y="1788"/>
                </a:lnTo>
                <a:lnTo>
                  <a:pt x="246" y="1788"/>
                </a:lnTo>
                <a:lnTo>
                  <a:pt x="249" y="1788"/>
                </a:lnTo>
                <a:lnTo>
                  <a:pt x="253" y="1788"/>
                </a:lnTo>
                <a:lnTo>
                  <a:pt x="257" y="1788"/>
                </a:lnTo>
                <a:lnTo>
                  <a:pt x="261" y="1788"/>
                </a:lnTo>
                <a:lnTo>
                  <a:pt x="265" y="1788"/>
                </a:lnTo>
                <a:lnTo>
                  <a:pt x="269" y="1788"/>
                </a:lnTo>
                <a:lnTo>
                  <a:pt x="273" y="1788"/>
                </a:lnTo>
                <a:lnTo>
                  <a:pt x="277" y="1788"/>
                </a:lnTo>
                <a:lnTo>
                  <a:pt x="281" y="1788"/>
                </a:lnTo>
                <a:lnTo>
                  <a:pt x="285" y="1788"/>
                </a:lnTo>
                <a:lnTo>
                  <a:pt x="288" y="1788"/>
                </a:lnTo>
                <a:lnTo>
                  <a:pt x="292" y="1788"/>
                </a:lnTo>
                <a:lnTo>
                  <a:pt x="296" y="1785"/>
                </a:lnTo>
                <a:lnTo>
                  <a:pt x="300" y="1781"/>
                </a:lnTo>
                <a:lnTo>
                  <a:pt x="304" y="1781"/>
                </a:lnTo>
                <a:lnTo>
                  <a:pt x="308" y="1777"/>
                </a:lnTo>
                <a:lnTo>
                  <a:pt x="312" y="1769"/>
                </a:lnTo>
                <a:lnTo>
                  <a:pt x="316" y="1765"/>
                </a:lnTo>
                <a:lnTo>
                  <a:pt x="320" y="1761"/>
                </a:lnTo>
                <a:lnTo>
                  <a:pt x="320" y="1753"/>
                </a:lnTo>
                <a:lnTo>
                  <a:pt x="324" y="1750"/>
                </a:lnTo>
                <a:lnTo>
                  <a:pt x="324" y="1742"/>
                </a:lnTo>
                <a:lnTo>
                  <a:pt x="327" y="1734"/>
                </a:lnTo>
                <a:lnTo>
                  <a:pt x="331" y="1722"/>
                </a:lnTo>
                <a:lnTo>
                  <a:pt x="331" y="1714"/>
                </a:lnTo>
                <a:lnTo>
                  <a:pt x="335" y="1703"/>
                </a:lnTo>
                <a:lnTo>
                  <a:pt x="335" y="1687"/>
                </a:lnTo>
                <a:lnTo>
                  <a:pt x="339" y="1672"/>
                </a:lnTo>
                <a:lnTo>
                  <a:pt x="343" y="1656"/>
                </a:lnTo>
                <a:lnTo>
                  <a:pt x="343" y="1636"/>
                </a:lnTo>
                <a:lnTo>
                  <a:pt x="347" y="1613"/>
                </a:lnTo>
                <a:lnTo>
                  <a:pt x="347" y="1590"/>
                </a:lnTo>
                <a:lnTo>
                  <a:pt x="351" y="1562"/>
                </a:lnTo>
                <a:lnTo>
                  <a:pt x="351" y="1535"/>
                </a:lnTo>
                <a:lnTo>
                  <a:pt x="355" y="1504"/>
                </a:lnTo>
                <a:lnTo>
                  <a:pt x="359" y="1469"/>
                </a:lnTo>
                <a:lnTo>
                  <a:pt x="359" y="1434"/>
                </a:lnTo>
                <a:lnTo>
                  <a:pt x="363" y="1395"/>
                </a:lnTo>
                <a:lnTo>
                  <a:pt x="363" y="1352"/>
                </a:lnTo>
                <a:lnTo>
                  <a:pt x="366" y="1305"/>
                </a:lnTo>
                <a:lnTo>
                  <a:pt x="370" y="1258"/>
                </a:lnTo>
                <a:lnTo>
                  <a:pt x="370" y="1208"/>
                </a:lnTo>
                <a:lnTo>
                  <a:pt x="374" y="1153"/>
                </a:lnTo>
                <a:lnTo>
                  <a:pt x="374" y="1099"/>
                </a:lnTo>
                <a:lnTo>
                  <a:pt x="378" y="1040"/>
                </a:lnTo>
                <a:lnTo>
                  <a:pt x="382" y="978"/>
                </a:lnTo>
                <a:lnTo>
                  <a:pt x="382" y="915"/>
                </a:lnTo>
                <a:lnTo>
                  <a:pt x="386" y="853"/>
                </a:lnTo>
                <a:lnTo>
                  <a:pt x="386" y="787"/>
                </a:lnTo>
                <a:lnTo>
                  <a:pt x="390" y="724"/>
                </a:lnTo>
                <a:lnTo>
                  <a:pt x="394" y="658"/>
                </a:lnTo>
                <a:lnTo>
                  <a:pt x="394" y="592"/>
                </a:lnTo>
                <a:lnTo>
                  <a:pt x="398" y="526"/>
                </a:lnTo>
                <a:lnTo>
                  <a:pt x="398" y="463"/>
                </a:lnTo>
                <a:lnTo>
                  <a:pt x="401" y="401"/>
                </a:lnTo>
                <a:lnTo>
                  <a:pt x="405" y="343"/>
                </a:lnTo>
                <a:lnTo>
                  <a:pt x="405" y="284"/>
                </a:lnTo>
                <a:lnTo>
                  <a:pt x="409" y="230"/>
                </a:lnTo>
                <a:lnTo>
                  <a:pt x="409" y="179"/>
                </a:lnTo>
                <a:lnTo>
                  <a:pt x="413" y="136"/>
                </a:lnTo>
                <a:lnTo>
                  <a:pt x="417" y="93"/>
                </a:lnTo>
                <a:lnTo>
                  <a:pt x="417" y="58"/>
                </a:lnTo>
                <a:lnTo>
                  <a:pt x="421" y="27"/>
                </a:lnTo>
                <a:lnTo>
                  <a:pt x="421"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978360" y="2552760"/>
            <a:ext cx="662040" cy="2906640"/>
          </a:xfrm>
          <a:custGeom>
            <a:avLst/>
            <a:gdLst/>
            <a:ahLst/>
            <a:rect l="l" t="t" r="r" b="b"/>
            <a:pathLst>
              <a:path w="417" h="1831">
                <a:moveTo>
                  <a:pt x="0" y="39"/>
                </a:moveTo>
                <a:lnTo>
                  <a:pt x="4" y="19"/>
                </a:lnTo>
                <a:lnTo>
                  <a:pt x="8" y="7"/>
                </a:lnTo>
                <a:lnTo>
                  <a:pt x="8" y="0"/>
                </a:lnTo>
                <a:lnTo>
                  <a:pt x="12" y="3"/>
                </a:lnTo>
                <a:lnTo>
                  <a:pt x="16" y="15"/>
                </a:lnTo>
                <a:lnTo>
                  <a:pt x="19" y="35"/>
                </a:lnTo>
                <a:lnTo>
                  <a:pt x="19" y="58"/>
                </a:lnTo>
                <a:lnTo>
                  <a:pt x="23" y="89"/>
                </a:lnTo>
                <a:lnTo>
                  <a:pt x="23" y="124"/>
                </a:lnTo>
                <a:lnTo>
                  <a:pt x="27" y="163"/>
                </a:lnTo>
                <a:lnTo>
                  <a:pt x="31" y="210"/>
                </a:lnTo>
                <a:lnTo>
                  <a:pt x="31" y="257"/>
                </a:lnTo>
                <a:lnTo>
                  <a:pt x="35" y="311"/>
                </a:lnTo>
                <a:lnTo>
                  <a:pt x="35" y="366"/>
                </a:lnTo>
                <a:lnTo>
                  <a:pt x="39" y="428"/>
                </a:lnTo>
                <a:lnTo>
                  <a:pt x="39" y="487"/>
                </a:lnTo>
                <a:lnTo>
                  <a:pt x="43" y="553"/>
                </a:lnTo>
                <a:lnTo>
                  <a:pt x="47" y="615"/>
                </a:lnTo>
                <a:lnTo>
                  <a:pt x="47" y="682"/>
                </a:lnTo>
                <a:lnTo>
                  <a:pt x="51" y="748"/>
                </a:lnTo>
                <a:lnTo>
                  <a:pt x="51" y="810"/>
                </a:lnTo>
                <a:lnTo>
                  <a:pt x="55" y="877"/>
                </a:lnTo>
                <a:lnTo>
                  <a:pt x="58" y="939"/>
                </a:lnTo>
                <a:lnTo>
                  <a:pt x="58" y="1001"/>
                </a:lnTo>
                <a:lnTo>
                  <a:pt x="62" y="1064"/>
                </a:lnTo>
                <a:lnTo>
                  <a:pt x="62" y="1122"/>
                </a:lnTo>
                <a:lnTo>
                  <a:pt x="66" y="1177"/>
                </a:lnTo>
                <a:lnTo>
                  <a:pt x="70" y="1231"/>
                </a:lnTo>
                <a:lnTo>
                  <a:pt x="70" y="1282"/>
                </a:lnTo>
                <a:lnTo>
                  <a:pt x="74" y="1333"/>
                </a:lnTo>
                <a:lnTo>
                  <a:pt x="74" y="1379"/>
                </a:lnTo>
                <a:lnTo>
                  <a:pt x="78" y="1422"/>
                </a:lnTo>
                <a:lnTo>
                  <a:pt x="82" y="1461"/>
                </a:lnTo>
                <a:lnTo>
                  <a:pt x="82" y="1500"/>
                </a:lnTo>
                <a:lnTo>
                  <a:pt x="86" y="1535"/>
                </a:lnTo>
                <a:lnTo>
                  <a:pt x="86" y="1566"/>
                </a:lnTo>
                <a:lnTo>
                  <a:pt x="90" y="1594"/>
                </a:lnTo>
                <a:lnTo>
                  <a:pt x="94" y="1621"/>
                </a:lnTo>
                <a:lnTo>
                  <a:pt x="94" y="1644"/>
                </a:lnTo>
                <a:lnTo>
                  <a:pt x="97" y="1668"/>
                </a:lnTo>
                <a:lnTo>
                  <a:pt x="97" y="1687"/>
                </a:lnTo>
                <a:lnTo>
                  <a:pt x="101" y="1707"/>
                </a:lnTo>
                <a:lnTo>
                  <a:pt x="105" y="1722"/>
                </a:lnTo>
                <a:lnTo>
                  <a:pt x="105" y="1738"/>
                </a:lnTo>
                <a:lnTo>
                  <a:pt x="109" y="1750"/>
                </a:lnTo>
                <a:lnTo>
                  <a:pt x="109" y="1761"/>
                </a:lnTo>
                <a:lnTo>
                  <a:pt x="113" y="1769"/>
                </a:lnTo>
                <a:lnTo>
                  <a:pt x="117" y="1777"/>
                </a:lnTo>
                <a:lnTo>
                  <a:pt x="117" y="1785"/>
                </a:lnTo>
                <a:lnTo>
                  <a:pt x="121" y="1792"/>
                </a:lnTo>
                <a:lnTo>
                  <a:pt x="121" y="1796"/>
                </a:lnTo>
                <a:lnTo>
                  <a:pt x="125" y="1804"/>
                </a:lnTo>
                <a:lnTo>
                  <a:pt x="129" y="1808"/>
                </a:lnTo>
                <a:lnTo>
                  <a:pt x="129" y="1812"/>
                </a:lnTo>
                <a:lnTo>
                  <a:pt x="133" y="1816"/>
                </a:lnTo>
                <a:lnTo>
                  <a:pt x="136" y="1820"/>
                </a:lnTo>
                <a:lnTo>
                  <a:pt x="144" y="1824"/>
                </a:lnTo>
                <a:lnTo>
                  <a:pt x="148" y="1827"/>
                </a:lnTo>
                <a:lnTo>
                  <a:pt x="152" y="1827"/>
                </a:lnTo>
                <a:lnTo>
                  <a:pt x="156" y="1827"/>
                </a:lnTo>
                <a:lnTo>
                  <a:pt x="160" y="1827"/>
                </a:lnTo>
                <a:lnTo>
                  <a:pt x="164" y="1827"/>
                </a:lnTo>
                <a:lnTo>
                  <a:pt x="168" y="1827"/>
                </a:lnTo>
                <a:lnTo>
                  <a:pt x="172" y="1827"/>
                </a:lnTo>
                <a:lnTo>
                  <a:pt x="175" y="1827"/>
                </a:lnTo>
                <a:lnTo>
                  <a:pt x="179" y="1827"/>
                </a:lnTo>
                <a:lnTo>
                  <a:pt x="183" y="1827"/>
                </a:lnTo>
                <a:lnTo>
                  <a:pt x="187" y="1827"/>
                </a:lnTo>
                <a:lnTo>
                  <a:pt x="191" y="1827"/>
                </a:lnTo>
                <a:lnTo>
                  <a:pt x="195" y="1827"/>
                </a:lnTo>
                <a:lnTo>
                  <a:pt x="199" y="1827"/>
                </a:lnTo>
                <a:lnTo>
                  <a:pt x="203" y="1827"/>
                </a:lnTo>
                <a:lnTo>
                  <a:pt x="207" y="1827"/>
                </a:lnTo>
                <a:lnTo>
                  <a:pt x="210" y="1827"/>
                </a:lnTo>
                <a:lnTo>
                  <a:pt x="214" y="1827"/>
                </a:lnTo>
                <a:lnTo>
                  <a:pt x="218" y="1827"/>
                </a:lnTo>
                <a:lnTo>
                  <a:pt x="222" y="1827"/>
                </a:lnTo>
                <a:lnTo>
                  <a:pt x="226" y="1827"/>
                </a:lnTo>
                <a:lnTo>
                  <a:pt x="230" y="1827"/>
                </a:lnTo>
                <a:lnTo>
                  <a:pt x="234" y="1827"/>
                </a:lnTo>
                <a:lnTo>
                  <a:pt x="238" y="1827"/>
                </a:lnTo>
                <a:lnTo>
                  <a:pt x="242" y="1827"/>
                </a:lnTo>
                <a:lnTo>
                  <a:pt x="246" y="1827"/>
                </a:lnTo>
                <a:lnTo>
                  <a:pt x="249" y="1827"/>
                </a:lnTo>
                <a:lnTo>
                  <a:pt x="253" y="1827"/>
                </a:lnTo>
                <a:lnTo>
                  <a:pt x="257" y="1827"/>
                </a:lnTo>
                <a:lnTo>
                  <a:pt x="261" y="1827"/>
                </a:lnTo>
                <a:lnTo>
                  <a:pt x="265" y="1827"/>
                </a:lnTo>
                <a:lnTo>
                  <a:pt x="269" y="1827"/>
                </a:lnTo>
                <a:lnTo>
                  <a:pt x="273" y="1827"/>
                </a:lnTo>
                <a:lnTo>
                  <a:pt x="277" y="1827"/>
                </a:lnTo>
                <a:lnTo>
                  <a:pt x="281" y="1827"/>
                </a:lnTo>
                <a:lnTo>
                  <a:pt x="285" y="1827"/>
                </a:lnTo>
                <a:lnTo>
                  <a:pt x="288" y="1827"/>
                </a:lnTo>
                <a:lnTo>
                  <a:pt x="292" y="1827"/>
                </a:lnTo>
                <a:lnTo>
                  <a:pt x="296" y="1827"/>
                </a:lnTo>
                <a:lnTo>
                  <a:pt x="300" y="1827"/>
                </a:lnTo>
                <a:lnTo>
                  <a:pt x="304" y="1827"/>
                </a:lnTo>
                <a:lnTo>
                  <a:pt x="308" y="1827"/>
                </a:lnTo>
                <a:lnTo>
                  <a:pt x="312" y="1827"/>
                </a:lnTo>
                <a:lnTo>
                  <a:pt x="316" y="1827"/>
                </a:lnTo>
                <a:lnTo>
                  <a:pt x="320" y="1827"/>
                </a:lnTo>
                <a:lnTo>
                  <a:pt x="324" y="1827"/>
                </a:lnTo>
                <a:lnTo>
                  <a:pt x="327" y="1827"/>
                </a:lnTo>
                <a:lnTo>
                  <a:pt x="331" y="1827"/>
                </a:lnTo>
                <a:lnTo>
                  <a:pt x="335" y="1827"/>
                </a:lnTo>
                <a:lnTo>
                  <a:pt x="339" y="1827"/>
                </a:lnTo>
                <a:lnTo>
                  <a:pt x="343" y="1827"/>
                </a:lnTo>
                <a:lnTo>
                  <a:pt x="347" y="1831"/>
                </a:lnTo>
                <a:lnTo>
                  <a:pt x="351" y="1831"/>
                </a:lnTo>
                <a:lnTo>
                  <a:pt x="355" y="1831"/>
                </a:lnTo>
                <a:lnTo>
                  <a:pt x="359" y="1831"/>
                </a:lnTo>
                <a:lnTo>
                  <a:pt x="363" y="1831"/>
                </a:lnTo>
                <a:lnTo>
                  <a:pt x="366" y="1831"/>
                </a:lnTo>
                <a:lnTo>
                  <a:pt x="370" y="1831"/>
                </a:lnTo>
                <a:lnTo>
                  <a:pt x="374" y="1831"/>
                </a:lnTo>
                <a:lnTo>
                  <a:pt x="378" y="1831"/>
                </a:lnTo>
                <a:lnTo>
                  <a:pt x="382" y="1831"/>
                </a:lnTo>
                <a:lnTo>
                  <a:pt x="386" y="1831"/>
                </a:lnTo>
                <a:lnTo>
                  <a:pt x="390" y="1831"/>
                </a:lnTo>
                <a:lnTo>
                  <a:pt x="394" y="1831"/>
                </a:lnTo>
                <a:lnTo>
                  <a:pt x="398" y="1831"/>
                </a:lnTo>
                <a:lnTo>
                  <a:pt x="402" y="1831"/>
                </a:lnTo>
                <a:lnTo>
                  <a:pt x="405" y="1831"/>
                </a:lnTo>
                <a:lnTo>
                  <a:pt x="409" y="1831"/>
                </a:lnTo>
                <a:lnTo>
                  <a:pt x="413" y="1831"/>
                </a:lnTo>
                <a:lnTo>
                  <a:pt x="417" y="1831"/>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640400" y="5459400"/>
            <a:ext cx="785520" cy="1440"/>
          </a:xfrm>
          <a:custGeom>
            <a:avLst/>
            <a:gdLst/>
            <a:ahLst/>
            <a:rect l="l" t="t" r="r" b="b"/>
            <a:pathLst>
              <a:path w="495" h="0">
                <a:moveTo>
                  <a:pt x="0" y="0"/>
                </a:moveTo>
                <a:lnTo>
                  <a:pt x="4" y="0"/>
                </a:lnTo>
                <a:lnTo>
                  <a:pt x="8" y="0"/>
                </a:lnTo>
                <a:lnTo>
                  <a:pt x="12" y="0"/>
                </a:lnTo>
                <a:lnTo>
                  <a:pt x="16" y="0"/>
                </a:lnTo>
                <a:lnTo>
                  <a:pt x="20" y="0"/>
                </a:lnTo>
                <a:lnTo>
                  <a:pt x="24" y="0"/>
                </a:lnTo>
                <a:lnTo>
                  <a:pt x="27" y="0"/>
                </a:lnTo>
                <a:lnTo>
                  <a:pt x="31" y="0"/>
                </a:lnTo>
                <a:lnTo>
                  <a:pt x="35" y="0"/>
                </a:lnTo>
                <a:lnTo>
                  <a:pt x="39" y="0"/>
                </a:lnTo>
                <a:lnTo>
                  <a:pt x="43" y="0"/>
                </a:lnTo>
                <a:lnTo>
                  <a:pt x="47" y="0"/>
                </a:lnTo>
                <a:lnTo>
                  <a:pt x="51" y="0"/>
                </a:lnTo>
                <a:lnTo>
                  <a:pt x="55" y="0"/>
                </a:lnTo>
                <a:lnTo>
                  <a:pt x="59" y="0"/>
                </a:lnTo>
                <a:lnTo>
                  <a:pt x="62" y="0"/>
                </a:lnTo>
                <a:lnTo>
                  <a:pt x="66" y="0"/>
                </a:lnTo>
                <a:lnTo>
                  <a:pt x="70" y="0"/>
                </a:lnTo>
                <a:lnTo>
                  <a:pt x="74" y="0"/>
                </a:lnTo>
                <a:lnTo>
                  <a:pt x="78" y="0"/>
                </a:lnTo>
                <a:lnTo>
                  <a:pt x="82" y="0"/>
                </a:lnTo>
                <a:lnTo>
                  <a:pt x="86" y="0"/>
                </a:lnTo>
                <a:lnTo>
                  <a:pt x="90" y="0"/>
                </a:lnTo>
                <a:lnTo>
                  <a:pt x="94" y="0"/>
                </a:lnTo>
                <a:lnTo>
                  <a:pt x="98" y="0"/>
                </a:lnTo>
                <a:lnTo>
                  <a:pt x="101" y="0"/>
                </a:lnTo>
                <a:lnTo>
                  <a:pt x="105" y="0"/>
                </a:lnTo>
                <a:lnTo>
                  <a:pt x="109" y="0"/>
                </a:lnTo>
                <a:lnTo>
                  <a:pt x="113" y="0"/>
                </a:lnTo>
                <a:lnTo>
                  <a:pt x="117" y="0"/>
                </a:lnTo>
                <a:lnTo>
                  <a:pt x="121" y="0"/>
                </a:lnTo>
                <a:lnTo>
                  <a:pt x="125" y="0"/>
                </a:lnTo>
                <a:lnTo>
                  <a:pt x="129" y="0"/>
                </a:lnTo>
                <a:lnTo>
                  <a:pt x="133" y="0"/>
                </a:lnTo>
                <a:lnTo>
                  <a:pt x="137" y="0"/>
                </a:lnTo>
                <a:lnTo>
                  <a:pt x="140" y="0"/>
                </a:lnTo>
                <a:lnTo>
                  <a:pt x="144" y="0"/>
                </a:lnTo>
                <a:lnTo>
                  <a:pt x="148" y="0"/>
                </a:lnTo>
                <a:lnTo>
                  <a:pt x="152" y="0"/>
                </a:lnTo>
                <a:lnTo>
                  <a:pt x="156" y="0"/>
                </a:lnTo>
                <a:lnTo>
                  <a:pt x="160" y="0"/>
                </a:lnTo>
                <a:lnTo>
                  <a:pt x="164" y="0"/>
                </a:lnTo>
                <a:lnTo>
                  <a:pt x="168" y="0"/>
                </a:lnTo>
                <a:lnTo>
                  <a:pt x="172" y="0"/>
                </a:lnTo>
                <a:lnTo>
                  <a:pt x="176" y="0"/>
                </a:lnTo>
                <a:lnTo>
                  <a:pt x="179" y="0"/>
                </a:lnTo>
                <a:lnTo>
                  <a:pt x="183" y="0"/>
                </a:lnTo>
                <a:lnTo>
                  <a:pt x="187" y="0"/>
                </a:lnTo>
                <a:lnTo>
                  <a:pt x="191" y="0"/>
                </a:lnTo>
                <a:lnTo>
                  <a:pt x="195" y="0"/>
                </a:lnTo>
                <a:lnTo>
                  <a:pt x="199" y="0"/>
                </a:lnTo>
                <a:lnTo>
                  <a:pt x="203" y="0"/>
                </a:lnTo>
                <a:lnTo>
                  <a:pt x="207" y="0"/>
                </a:lnTo>
                <a:lnTo>
                  <a:pt x="211" y="0"/>
                </a:lnTo>
                <a:lnTo>
                  <a:pt x="215" y="0"/>
                </a:lnTo>
                <a:lnTo>
                  <a:pt x="218" y="0"/>
                </a:lnTo>
                <a:lnTo>
                  <a:pt x="222" y="0"/>
                </a:lnTo>
                <a:lnTo>
                  <a:pt x="226" y="0"/>
                </a:lnTo>
                <a:lnTo>
                  <a:pt x="230" y="0"/>
                </a:lnTo>
                <a:lnTo>
                  <a:pt x="234" y="0"/>
                </a:lnTo>
                <a:lnTo>
                  <a:pt x="238" y="0"/>
                </a:lnTo>
                <a:lnTo>
                  <a:pt x="242" y="0"/>
                </a:lnTo>
                <a:lnTo>
                  <a:pt x="246" y="0"/>
                </a:lnTo>
                <a:lnTo>
                  <a:pt x="250" y="0"/>
                </a:lnTo>
                <a:lnTo>
                  <a:pt x="254" y="0"/>
                </a:lnTo>
                <a:lnTo>
                  <a:pt x="257" y="0"/>
                </a:lnTo>
                <a:lnTo>
                  <a:pt x="261" y="0"/>
                </a:lnTo>
                <a:lnTo>
                  <a:pt x="265" y="0"/>
                </a:lnTo>
                <a:lnTo>
                  <a:pt x="269" y="0"/>
                </a:lnTo>
                <a:lnTo>
                  <a:pt x="273" y="0"/>
                </a:lnTo>
                <a:lnTo>
                  <a:pt x="277" y="0"/>
                </a:lnTo>
                <a:lnTo>
                  <a:pt x="281" y="0"/>
                </a:lnTo>
                <a:lnTo>
                  <a:pt x="285" y="0"/>
                </a:lnTo>
                <a:lnTo>
                  <a:pt x="289" y="0"/>
                </a:lnTo>
                <a:lnTo>
                  <a:pt x="292" y="0"/>
                </a:lnTo>
                <a:lnTo>
                  <a:pt x="296" y="0"/>
                </a:lnTo>
                <a:lnTo>
                  <a:pt x="300" y="0"/>
                </a:lnTo>
                <a:lnTo>
                  <a:pt x="304" y="0"/>
                </a:lnTo>
                <a:lnTo>
                  <a:pt x="308" y="0"/>
                </a:lnTo>
                <a:lnTo>
                  <a:pt x="312" y="0"/>
                </a:lnTo>
                <a:lnTo>
                  <a:pt x="316" y="0"/>
                </a:lnTo>
                <a:lnTo>
                  <a:pt x="320" y="0"/>
                </a:lnTo>
                <a:lnTo>
                  <a:pt x="324" y="0"/>
                </a:lnTo>
                <a:lnTo>
                  <a:pt x="328" y="0"/>
                </a:lnTo>
                <a:lnTo>
                  <a:pt x="331" y="0"/>
                </a:lnTo>
                <a:lnTo>
                  <a:pt x="335" y="0"/>
                </a:lnTo>
                <a:lnTo>
                  <a:pt x="339" y="0"/>
                </a:lnTo>
                <a:lnTo>
                  <a:pt x="343" y="0"/>
                </a:lnTo>
                <a:lnTo>
                  <a:pt x="347" y="0"/>
                </a:lnTo>
                <a:lnTo>
                  <a:pt x="351" y="0"/>
                </a:lnTo>
                <a:lnTo>
                  <a:pt x="355" y="0"/>
                </a:lnTo>
                <a:lnTo>
                  <a:pt x="359" y="0"/>
                </a:lnTo>
                <a:lnTo>
                  <a:pt x="363" y="0"/>
                </a:lnTo>
                <a:lnTo>
                  <a:pt x="367" y="0"/>
                </a:lnTo>
                <a:lnTo>
                  <a:pt x="370" y="0"/>
                </a:lnTo>
                <a:lnTo>
                  <a:pt x="374" y="0"/>
                </a:lnTo>
                <a:lnTo>
                  <a:pt x="378" y="0"/>
                </a:lnTo>
                <a:lnTo>
                  <a:pt x="382" y="0"/>
                </a:lnTo>
                <a:lnTo>
                  <a:pt x="386" y="0"/>
                </a:lnTo>
                <a:lnTo>
                  <a:pt x="390" y="0"/>
                </a:lnTo>
                <a:lnTo>
                  <a:pt x="394" y="0"/>
                </a:lnTo>
                <a:lnTo>
                  <a:pt x="398" y="0"/>
                </a:lnTo>
                <a:lnTo>
                  <a:pt x="402" y="0"/>
                </a:lnTo>
                <a:lnTo>
                  <a:pt x="406" y="0"/>
                </a:lnTo>
                <a:lnTo>
                  <a:pt x="409" y="0"/>
                </a:lnTo>
                <a:lnTo>
                  <a:pt x="413" y="0"/>
                </a:lnTo>
                <a:lnTo>
                  <a:pt x="417" y="0"/>
                </a:lnTo>
                <a:lnTo>
                  <a:pt x="421" y="0"/>
                </a:lnTo>
                <a:lnTo>
                  <a:pt x="425" y="0"/>
                </a:lnTo>
                <a:lnTo>
                  <a:pt x="429" y="0"/>
                </a:lnTo>
                <a:lnTo>
                  <a:pt x="433" y="0"/>
                </a:lnTo>
                <a:lnTo>
                  <a:pt x="437" y="0"/>
                </a:lnTo>
                <a:lnTo>
                  <a:pt x="441" y="0"/>
                </a:lnTo>
                <a:lnTo>
                  <a:pt x="445" y="0"/>
                </a:lnTo>
                <a:lnTo>
                  <a:pt x="448" y="0"/>
                </a:lnTo>
                <a:lnTo>
                  <a:pt x="452" y="0"/>
                </a:lnTo>
                <a:lnTo>
                  <a:pt x="456" y="0"/>
                </a:lnTo>
                <a:lnTo>
                  <a:pt x="460" y="0"/>
                </a:lnTo>
                <a:lnTo>
                  <a:pt x="464" y="0"/>
                </a:lnTo>
                <a:lnTo>
                  <a:pt x="468" y="0"/>
                </a:lnTo>
                <a:lnTo>
                  <a:pt x="472" y="0"/>
                </a:lnTo>
                <a:lnTo>
                  <a:pt x="476" y="0"/>
                </a:lnTo>
                <a:lnTo>
                  <a:pt x="480" y="0"/>
                </a:lnTo>
                <a:lnTo>
                  <a:pt x="484" y="0"/>
                </a:lnTo>
                <a:lnTo>
                  <a:pt x="487" y="0"/>
                </a:lnTo>
                <a:lnTo>
                  <a:pt x="491" y="0"/>
                </a:lnTo>
                <a:lnTo>
                  <a:pt x="495" y="0"/>
                </a:lnTo>
              </a:path>
            </a:pathLst>
          </a:custGeom>
          <a:noFill/>
          <a:ln w="1260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5425920" y="5459400"/>
            <a:ext cx="779760" cy="1440"/>
          </a:xfrm>
          <a:custGeom>
            <a:avLst/>
            <a:gdLst/>
            <a:ahLst/>
            <a:rect l="l" t="t" r="r" b="b"/>
            <a:pathLst>
              <a:path w="491" h="0">
                <a:moveTo>
                  <a:pt x="0" y="0"/>
                </a:moveTo>
                <a:lnTo>
                  <a:pt x="4" y="0"/>
                </a:lnTo>
                <a:lnTo>
                  <a:pt x="8" y="0"/>
                </a:lnTo>
                <a:lnTo>
                  <a:pt x="12" y="0"/>
                </a:lnTo>
                <a:lnTo>
                  <a:pt x="16" y="0"/>
                </a:lnTo>
                <a:lnTo>
                  <a:pt x="20" y="0"/>
                </a:lnTo>
                <a:lnTo>
                  <a:pt x="24" y="0"/>
                </a:lnTo>
                <a:lnTo>
                  <a:pt x="28" y="0"/>
                </a:lnTo>
                <a:lnTo>
                  <a:pt x="31" y="0"/>
                </a:lnTo>
                <a:lnTo>
                  <a:pt x="35" y="0"/>
                </a:lnTo>
                <a:lnTo>
                  <a:pt x="39" y="0"/>
                </a:lnTo>
                <a:lnTo>
                  <a:pt x="43" y="0"/>
                </a:lnTo>
                <a:lnTo>
                  <a:pt x="47" y="0"/>
                </a:lnTo>
                <a:lnTo>
                  <a:pt x="51" y="0"/>
                </a:lnTo>
                <a:lnTo>
                  <a:pt x="55" y="0"/>
                </a:lnTo>
                <a:lnTo>
                  <a:pt x="59" y="0"/>
                </a:lnTo>
                <a:lnTo>
                  <a:pt x="63" y="0"/>
                </a:lnTo>
                <a:lnTo>
                  <a:pt x="66" y="0"/>
                </a:lnTo>
                <a:lnTo>
                  <a:pt x="70" y="0"/>
                </a:lnTo>
                <a:lnTo>
                  <a:pt x="74" y="0"/>
                </a:lnTo>
                <a:lnTo>
                  <a:pt x="78" y="0"/>
                </a:lnTo>
                <a:lnTo>
                  <a:pt x="82" y="0"/>
                </a:lnTo>
                <a:lnTo>
                  <a:pt x="86" y="0"/>
                </a:lnTo>
                <a:lnTo>
                  <a:pt x="90" y="0"/>
                </a:lnTo>
                <a:lnTo>
                  <a:pt x="94" y="0"/>
                </a:lnTo>
                <a:lnTo>
                  <a:pt x="98" y="0"/>
                </a:lnTo>
                <a:lnTo>
                  <a:pt x="102" y="0"/>
                </a:lnTo>
                <a:lnTo>
                  <a:pt x="105" y="0"/>
                </a:lnTo>
                <a:lnTo>
                  <a:pt x="109" y="0"/>
                </a:lnTo>
                <a:lnTo>
                  <a:pt x="113" y="0"/>
                </a:lnTo>
                <a:lnTo>
                  <a:pt x="117" y="0"/>
                </a:lnTo>
                <a:lnTo>
                  <a:pt x="121" y="0"/>
                </a:lnTo>
                <a:lnTo>
                  <a:pt x="125" y="0"/>
                </a:lnTo>
                <a:lnTo>
                  <a:pt x="129" y="0"/>
                </a:lnTo>
                <a:lnTo>
                  <a:pt x="133" y="0"/>
                </a:lnTo>
                <a:lnTo>
                  <a:pt x="137" y="0"/>
                </a:lnTo>
                <a:lnTo>
                  <a:pt x="141" y="0"/>
                </a:lnTo>
                <a:lnTo>
                  <a:pt x="144" y="0"/>
                </a:lnTo>
                <a:lnTo>
                  <a:pt x="148" y="0"/>
                </a:lnTo>
                <a:lnTo>
                  <a:pt x="152" y="0"/>
                </a:lnTo>
                <a:lnTo>
                  <a:pt x="156" y="0"/>
                </a:lnTo>
                <a:lnTo>
                  <a:pt x="160" y="0"/>
                </a:lnTo>
                <a:lnTo>
                  <a:pt x="164" y="0"/>
                </a:lnTo>
                <a:lnTo>
                  <a:pt x="168" y="0"/>
                </a:lnTo>
                <a:lnTo>
                  <a:pt x="172" y="0"/>
                </a:lnTo>
                <a:lnTo>
                  <a:pt x="176" y="0"/>
                </a:lnTo>
                <a:lnTo>
                  <a:pt x="180" y="0"/>
                </a:lnTo>
                <a:lnTo>
                  <a:pt x="183" y="0"/>
                </a:lnTo>
                <a:lnTo>
                  <a:pt x="187" y="0"/>
                </a:lnTo>
                <a:lnTo>
                  <a:pt x="191" y="0"/>
                </a:lnTo>
                <a:lnTo>
                  <a:pt x="195" y="0"/>
                </a:lnTo>
                <a:lnTo>
                  <a:pt x="199" y="0"/>
                </a:lnTo>
                <a:lnTo>
                  <a:pt x="203" y="0"/>
                </a:lnTo>
                <a:lnTo>
                  <a:pt x="207" y="0"/>
                </a:lnTo>
                <a:lnTo>
                  <a:pt x="211" y="0"/>
                </a:lnTo>
                <a:lnTo>
                  <a:pt x="215" y="0"/>
                </a:lnTo>
                <a:lnTo>
                  <a:pt x="219" y="0"/>
                </a:lnTo>
                <a:lnTo>
                  <a:pt x="222" y="0"/>
                </a:lnTo>
                <a:lnTo>
                  <a:pt x="226" y="0"/>
                </a:lnTo>
                <a:lnTo>
                  <a:pt x="230" y="0"/>
                </a:lnTo>
                <a:lnTo>
                  <a:pt x="234" y="0"/>
                </a:lnTo>
                <a:lnTo>
                  <a:pt x="238" y="0"/>
                </a:lnTo>
                <a:lnTo>
                  <a:pt x="242" y="0"/>
                </a:lnTo>
                <a:lnTo>
                  <a:pt x="246" y="0"/>
                </a:lnTo>
                <a:lnTo>
                  <a:pt x="250" y="0"/>
                </a:lnTo>
                <a:lnTo>
                  <a:pt x="254" y="0"/>
                </a:lnTo>
                <a:lnTo>
                  <a:pt x="258" y="0"/>
                </a:lnTo>
                <a:lnTo>
                  <a:pt x="261" y="0"/>
                </a:lnTo>
                <a:lnTo>
                  <a:pt x="265" y="0"/>
                </a:lnTo>
                <a:lnTo>
                  <a:pt x="269" y="0"/>
                </a:lnTo>
                <a:lnTo>
                  <a:pt x="273" y="0"/>
                </a:lnTo>
                <a:lnTo>
                  <a:pt x="277" y="0"/>
                </a:lnTo>
                <a:lnTo>
                  <a:pt x="281" y="0"/>
                </a:lnTo>
                <a:lnTo>
                  <a:pt x="285" y="0"/>
                </a:lnTo>
                <a:lnTo>
                  <a:pt x="289" y="0"/>
                </a:lnTo>
                <a:lnTo>
                  <a:pt x="293" y="0"/>
                </a:lnTo>
                <a:lnTo>
                  <a:pt x="296" y="0"/>
                </a:lnTo>
                <a:lnTo>
                  <a:pt x="300" y="0"/>
                </a:lnTo>
                <a:lnTo>
                  <a:pt x="304" y="0"/>
                </a:lnTo>
                <a:lnTo>
                  <a:pt x="308" y="0"/>
                </a:lnTo>
                <a:lnTo>
                  <a:pt x="312" y="0"/>
                </a:lnTo>
                <a:lnTo>
                  <a:pt x="316" y="0"/>
                </a:lnTo>
                <a:lnTo>
                  <a:pt x="320" y="0"/>
                </a:lnTo>
                <a:lnTo>
                  <a:pt x="324" y="0"/>
                </a:lnTo>
                <a:lnTo>
                  <a:pt x="328" y="0"/>
                </a:lnTo>
                <a:lnTo>
                  <a:pt x="332" y="0"/>
                </a:lnTo>
                <a:lnTo>
                  <a:pt x="335" y="0"/>
                </a:lnTo>
                <a:lnTo>
                  <a:pt x="339" y="0"/>
                </a:lnTo>
                <a:lnTo>
                  <a:pt x="343" y="0"/>
                </a:lnTo>
                <a:lnTo>
                  <a:pt x="347" y="0"/>
                </a:lnTo>
                <a:lnTo>
                  <a:pt x="351" y="0"/>
                </a:lnTo>
                <a:lnTo>
                  <a:pt x="355" y="0"/>
                </a:lnTo>
                <a:lnTo>
                  <a:pt x="359" y="0"/>
                </a:lnTo>
                <a:lnTo>
                  <a:pt x="363" y="0"/>
                </a:lnTo>
                <a:lnTo>
                  <a:pt x="367" y="0"/>
                </a:lnTo>
                <a:lnTo>
                  <a:pt x="371" y="0"/>
                </a:lnTo>
                <a:lnTo>
                  <a:pt x="374" y="0"/>
                </a:lnTo>
                <a:lnTo>
                  <a:pt x="378" y="0"/>
                </a:lnTo>
                <a:lnTo>
                  <a:pt x="382" y="0"/>
                </a:lnTo>
                <a:lnTo>
                  <a:pt x="386" y="0"/>
                </a:lnTo>
                <a:lnTo>
                  <a:pt x="390" y="0"/>
                </a:lnTo>
                <a:lnTo>
                  <a:pt x="394" y="0"/>
                </a:lnTo>
                <a:lnTo>
                  <a:pt x="398" y="0"/>
                </a:lnTo>
                <a:lnTo>
                  <a:pt x="402" y="0"/>
                </a:lnTo>
                <a:lnTo>
                  <a:pt x="406" y="0"/>
                </a:lnTo>
                <a:lnTo>
                  <a:pt x="410" y="0"/>
                </a:lnTo>
                <a:lnTo>
                  <a:pt x="413" y="0"/>
                </a:lnTo>
                <a:lnTo>
                  <a:pt x="417" y="0"/>
                </a:lnTo>
                <a:lnTo>
                  <a:pt x="421" y="0"/>
                </a:lnTo>
                <a:lnTo>
                  <a:pt x="425" y="0"/>
                </a:lnTo>
                <a:lnTo>
                  <a:pt x="429" y="0"/>
                </a:lnTo>
                <a:lnTo>
                  <a:pt x="433" y="0"/>
                </a:lnTo>
                <a:lnTo>
                  <a:pt x="437" y="0"/>
                </a:lnTo>
                <a:lnTo>
                  <a:pt x="441" y="0"/>
                </a:lnTo>
                <a:lnTo>
                  <a:pt x="445" y="0"/>
                </a:lnTo>
                <a:lnTo>
                  <a:pt x="449" y="0"/>
                </a:lnTo>
                <a:lnTo>
                  <a:pt x="452" y="0"/>
                </a:lnTo>
                <a:lnTo>
                  <a:pt x="456" y="0"/>
                </a:lnTo>
                <a:lnTo>
                  <a:pt x="460" y="0"/>
                </a:lnTo>
                <a:lnTo>
                  <a:pt x="464" y="0"/>
                </a:lnTo>
                <a:lnTo>
                  <a:pt x="468" y="0"/>
                </a:lnTo>
                <a:lnTo>
                  <a:pt x="472" y="0"/>
                </a:lnTo>
                <a:lnTo>
                  <a:pt x="476" y="0"/>
                </a:lnTo>
                <a:lnTo>
                  <a:pt x="480" y="0"/>
                </a:lnTo>
                <a:lnTo>
                  <a:pt x="484" y="0"/>
                </a:lnTo>
                <a:lnTo>
                  <a:pt x="488" y="0"/>
                </a:lnTo>
                <a:lnTo>
                  <a:pt x="491" y="0"/>
                </a:lnTo>
              </a:path>
            </a:pathLst>
          </a:custGeom>
          <a:noFill/>
          <a:ln w="1260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8" name=""/>
          <p:cNvSpPr/>
          <p:nvPr/>
        </p:nvSpPr>
        <p:spPr>
          <a:xfrm>
            <a:off x="3885480" y="586728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1599" name=""/>
          <p:cNvSpPr/>
          <p:nvPr/>
        </p:nvSpPr>
        <p:spPr>
          <a:xfrm rot="16200000">
            <a:off x="1784160" y="385488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1600"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2" name="" descr=""/>
          <p:cNvPicPr/>
          <p:nvPr/>
        </p:nvPicPr>
        <p:blipFill>
          <a:blip r:embed="rId1"/>
          <a:stretch/>
        </p:blipFill>
        <p:spPr>
          <a:xfrm>
            <a:off x="1295280" y="1809720"/>
            <a:ext cx="6782040" cy="4516560"/>
          </a:xfrm>
          <a:prstGeom prst="rect">
            <a:avLst/>
          </a:prstGeom>
          <a:ln w="0">
            <a:noFill/>
          </a:ln>
        </p:spPr>
      </p:pic>
      <p:sp>
        <p:nvSpPr>
          <p:cNvPr id="1603" name=""/>
          <p:cNvSpPr/>
          <p:nvPr/>
        </p:nvSpPr>
        <p:spPr>
          <a:xfrm flipV="1">
            <a:off x="3809880" y="3505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62320" y="3962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974880" y="1033560"/>
            <a:ext cx="7102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ge of angles where the agreement is good is significantly reduced </a:t>
            </a:r>
            <a:endParaRPr b="0" lang="en-US" sz="2400" spc="-1" strike="noStrike">
              <a:solidFill>
                <a:srgbClr val="000000"/>
              </a:solidFill>
              <a:latin typeface="Times New Roman"/>
            </a:endParaRPr>
          </a:p>
        </p:txBody>
      </p:sp>
      <p:sp>
        <p:nvSpPr>
          <p:cNvPr id="1606"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01920" y="919080"/>
            <a:ext cx="8226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the scattering amplitude with wider band Gaussi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frequency is 10 MHz, and the bandwidth is 6 MH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us of the crack a = 0.381mm</a:t>
            </a:r>
            <a:endParaRPr b="0" lang="en-US" sz="2400" spc="-1" strike="noStrike">
              <a:solidFill>
                <a:srgbClr val="000000"/>
              </a:solidFill>
              <a:latin typeface="Times New Roman"/>
            </a:endParaRPr>
          </a:p>
        </p:txBody>
      </p:sp>
      <p:sp>
        <p:nvSpPr>
          <p:cNvPr id="1609" name=""/>
          <p:cNvSpPr/>
          <p:nvPr/>
        </p:nvSpPr>
        <p:spPr>
          <a:xfrm>
            <a:off x="2774880" y="2638440"/>
            <a:ext cx="3811680" cy="301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2774880" y="2638440"/>
            <a:ext cx="3811680" cy="30114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2774880" y="2638440"/>
            <a:ext cx="381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2774880" y="5649840"/>
            <a:ext cx="381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3" name=""/>
          <p:cNvSpPr/>
          <p:nvPr/>
        </p:nvSpPr>
        <p:spPr>
          <a:xfrm flipV="1">
            <a:off x="6586560" y="2638080"/>
            <a:ext cx="1440" cy="30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V="1">
            <a:off x="2774880" y="2638080"/>
            <a:ext cx="1800" cy="30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774880" y="5649840"/>
            <a:ext cx="381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6" name=""/>
          <p:cNvSpPr/>
          <p:nvPr/>
        </p:nvSpPr>
        <p:spPr>
          <a:xfrm flipV="1">
            <a:off x="2774880" y="2638080"/>
            <a:ext cx="1800" cy="30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V="1">
            <a:off x="2774880" y="5610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8" name=""/>
          <p:cNvSpPr/>
          <p:nvPr/>
        </p:nvSpPr>
        <p:spPr>
          <a:xfrm>
            <a:off x="2774880" y="26384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19" name=""/>
          <p:cNvSpPr/>
          <p:nvPr/>
        </p:nvSpPr>
        <p:spPr>
          <a:xfrm>
            <a:off x="2765160" y="5688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620" name=""/>
          <p:cNvSpPr/>
          <p:nvPr/>
        </p:nvSpPr>
        <p:spPr>
          <a:xfrm flipV="1">
            <a:off x="3537000" y="5610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1" name=""/>
          <p:cNvSpPr/>
          <p:nvPr/>
        </p:nvSpPr>
        <p:spPr>
          <a:xfrm>
            <a:off x="3537000" y="2638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2" name=""/>
          <p:cNvSpPr/>
          <p:nvPr/>
        </p:nvSpPr>
        <p:spPr>
          <a:xfrm>
            <a:off x="3526920" y="5688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623" name=""/>
          <p:cNvSpPr/>
          <p:nvPr/>
        </p:nvSpPr>
        <p:spPr>
          <a:xfrm flipV="1">
            <a:off x="4299120" y="5610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4" name=""/>
          <p:cNvSpPr/>
          <p:nvPr/>
        </p:nvSpPr>
        <p:spPr>
          <a:xfrm>
            <a:off x="4299120" y="2638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5" name=""/>
          <p:cNvSpPr/>
          <p:nvPr/>
        </p:nvSpPr>
        <p:spPr>
          <a:xfrm>
            <a:off x="4263840" y="5688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626" name=""/>
          <p:cNvSpPr/>
          <p:nvPr/>
        </p:nvSpPr>
        <p:spPr>
          <a:xfrm flipV="1">
            <a:off x="5062680" y="5610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7" name=""/>
          <p:cNvSpPr/>
          <p:nvPr/>
        </p:nvSpPr>
        <p:spPr>
          <a:xfrm>
            <a:off x="5062680" y="2638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8" name=""/>
          <p:cNvSpPr/>
          <p:nvPr/>
        </p:nvSpPr>
        <p:spPr>
          <a:xfrm>
            <a:off x="5025600" y="5688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629" name=""/>
          <p:cNvSpPr/>
          <p:nvPr/>
        </p:nvSpPr>
        <p:spPr>
          <a:xfrm flipV="1">
            <a:off x="5824440" y="5610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0" name=""/>
          <p:cNvSpPr/>
          <p:nvPr/>
        </p:nvSpPr>
        <p:spPr>
          <a:xfrm>
            <a:off x="5824440" y="26384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1" name=""/>
          <p:cNvSpPr/>
          <p:nvPr/>
        </p:nvSpPr>
        <p:spPr>
          <a:xfrm>
            <a:off x="5789160" y="5688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632" name=""/>
          <p:cNvSpPr/>
          <p:nvPr/>
        </p:nvSpPr>
        <p:spPr>
          <a:xfrm flipV="1">
            <a:off x="6586560" y="5610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3" name=""/>
          <p:cNvSpPr/>
          <p:nvPr/>
        </p:nvSpPr>
        <p:spPr>
          <a:xfrm>
            <a:off x="6586560" y="2638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4" name=""/>
          <p:cNvSpPr/>
          <p:nvPr/>
        </p:nvSpPr>
        <p:spPr>
          <a:xfrm>
            <a:off x="6551280" y="5688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1635" name=""/>
          <p:cNvSpPr/>
          <p:nvPr/>
        </p:nvSpPr>
        <p:spPr>
          <a:xfrm>
            <a:off x="2774880" y="5649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6" name=""/>
          <p:cNvSpPr/>
          <p:nvPr/>
        </p:nvSpPr>
        <p:spPr>
          <a:xfrm flipH="1">
            <a:off x="6548400" y="5649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2580840" y="5602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638" name=""/>
          <p:cNvSpPr/>
          <p:nvPr/>
        </p:nvSpPr>
        <p:spPr>
          <a:xfrm>
            <a:off x="2774880" y="53481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9" name=""/>
          <p:cNvSpPr/>
          <p:nvPr/>
        </p:nvSpPr>
        <p:spPr>
          <a:xfrm flipH="1">
            <a:off x="6548400" y="5348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0" name=""/>
          <p:cNvSpPr/>
          <p:nvPr/>
        </p:nvSpPr>
        <p:spPr>
          <a:xfrm>
            <a:off x="2510640" y="53020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1641" name=""/>
          <p:cNvSpPr/>
          <p:nvPr/>
        </p:nvSpPr>
        <p:spPr>
          <a:xfrm>
            <a:off x="2774880" y="5046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flipH="1">
            <a:off x="6548400" y="5046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3" name=""/>
          <p:cNvSpPr/>
          <p:nvPr/>
        </p:nvSpPr>
        <p:spPr>
          <a:xfrm>
            <a:off x="2510640" y="5000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1644" name=""/>
          <p:cNvSpPr/>
          <p:nvPr/>
        </p:nvSpPr>
        <p:spPr>
          <a:xfrm>
            <a:off x="2774880" y="47466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flipH="1">
            <a:off x="6548400" y="4746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6" name=""/>
          <p:cNvSpPr/>
          <p:nvPr/>
        </p:nvSpPr>
        <p:spPr>
          <a:xfrm>
            <a:off x="2510640" y="46990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Times New Roman"/>
            </a:endParaRPr>
          </a:p>
        </p:txBody>
      </p:sp>
      <p:sp>
        <p:nvSpPr>
          <p:cNvPr id="1647" name=""/>
          <p:cNvSpPr/>
          <p:nvPr/>
        </p:nvSpPr>
        <p:spPr>
          <a:xfrm>
            <a:off x="2774880" y="44449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8" name=""/>
          <p:cNvSpPr/>
          <p:nvPr/>
        </p:nvSpPr>
        <p:spPr>
          <a:xfrm flipH="1">
            <a:off x="6548400" y="4444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9" name=""/>
          <p:cNvSpPr/>
          <p:nvPr/>
        </p:nvSpPr>
        <p:spPr>
          <a:xfrm>
            <a:off x="2510640" y="43988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1650" name=""/>
          <p:cNvSpPr/>
          <p:nvPr/>
        </p:nvSpPr>
        <p:spPr>
          <a:xfrm>
            <a:off x="2774880" y="41432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flipH="1">
            <a:off x="6548400" y="41432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
          <p:cNvSpPr/>
          <p:nvPr/>
        </p:nvSpPr>
        <p:spPr>
          <a:xfrm>
            <a:off x="2510640" y="40971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1653" name=""/>
          <p:cNvSpPr/>
          <p:nvPr/>
        </p:nvSpPr>
        <p:spPr>
          <a:xfrm>
            <a:off x="2774880" y="38354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
          <p:cNvSpPr/>
          <p:nvPr/>
        </p:nvSpPr>
        <p:spPr>
          <a:xfrm flipH="1">
            <a:off x="6548400" y="3835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
          <p:cNvSpPr/>
          <p:nvPr/>
        </p:nvSpPr>
        <p:spPr>
          <a:xfrm>
            <a:off x="2510640" y="37893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1656" name=""/>
          <p:cNvSpPr/>
          <p:nvPr/>
        </p:nvSpPr>
        <p:spPr>
          <a:xfrm>
            <a:off x="2774880" y="353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7" name=""/>
          <p:cNvSpPr/>
          <p:nvPr/>
        </p:nvSpPr>
        <p:spPr>
          <a:xfrm flipH="1">
            <a:off x="6548400" y="3535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
          <p:cNvSpPr/>
          <p:nvPr/>
        </p:nvSpPr>
        <p:spPr>
          <a:xfrm>
            <a:off x="2510640" y="3487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Times New Roman"/>
            </a:endParaRPr>
          </a:p>
        </p:txBody>
      </p:sp>
      <p:sp>
        <p:nvSpPr>
          <p:cNvPr id="1659" name=""/>
          <p:cNvSpPr/>
          <p:nvPr/>
        </p:nvSpPr>
        <p:spPr>
          <a:xfrm>
            <a:off x="2774880" y="3240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0" name=""/>
          <p:cNvSpPr/>
          <p:nvPr/>
        </p:nvSpPr>
        <p:spPr>
          <a:xfrm flipH="1">
            <a:off x="6548400" y="324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a:off x="2510640" y="3193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1662" name=""/>
          <p:cNvSpPr/>
          <p:nvPr/>
        </p:nvSpPr>
        <p:spPr>
          <a:xfrm>
            <a:off x="2774880" y="29383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
          <p:cNvSpPr/>
          <p:nvPr/>
        </p:nvSpPr>
        <p:spPr>
          <a:xfrm flipH="1">
            <a:off x="6548400" y="2938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4" name=""/>
          <p:cNvSpPr/>
          <p:nvPr/>
        </p:nvSpPr>
        <p:spPr>
          <a:xfrm>
            <a:off x="2510640" y="2892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Times New Roman"/>
            </a:endParaRPr>
          </a:p>
        </p:txBody>
      </p:sp>
      <p:sp>
        <p:nvSpPr>
          <p:cNvPr id="1665" name=""/>
          <p:cNvSpPr/>
          <p:nvPr/>
        </p:nvSpPr>
        <p:spPr>
          <a:xfrm>
            <a:off x="2774880" y="26384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6" name=""/>
          <p:cNvSpPr/>
          <p:nvPr/>
        </p:nvSpPr>
        <p:spPr>
          <a:xfrm flipH="1">
            <a:off x="6548400" y="2638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 name=""/>
          <p:cNvSpPr/>
          <p:nvPr/>
        </p:nvSpPr>
        <p:spPr>
          <a:xfrm>
            <a:off x="2580840" y="2590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68" name=""/>
          <p:cNvSpPr/>
          <p:nvPr/>
        </p:nvSpPr>
        <p:spPr>
          <a:xfrm>
            <a:off x="2774880" y="2638440"/>
            <a:ext cx="381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
          <p:cNvSpPr/>
          <p:nvPr/>
        </p:nvSpPr>
        <p:spPr>
          <a:xfrm>
            <a:off x="2774880" y="5649840"/>
            <a:ext cx="381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
          <p:cNvSpPr/>
          <p:nvPr/>
        </p:nvSpPr>
        <p:spPr>
          <a:xfrm flipV="1">
            <a:off x="6586560" y="2638080"/>
            <a:ext cx="1440" cy="30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V="1">
            <a:off x="2774880" y="2638080"/>
            <a:ext cx="1800" cy="30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774880" y="5329080"/>
            <a:ext cx="762120" cy="314640"/>
          </a:xfrm>
          <a:custGeom>
            <a:avLst/>
            <a:gdLst/>
            <a:ahLst/>
            <a:rect l="l" t="t" r="r" b="b"/>
            <a:pathLst>
              <a:path w="480" h="198">
                <a:moveTo>
                  <a:pt x="4" y="198"/>
                </a:moveTo>
                <a:lnTo>
                  <a:pt x="0" y="198"/>
                </a:lnTo>
                <a:lnTo>
                  <a:pt x="4" y="198"/>
                </a:lnTo>
                <a:lnTo>
                  <a:pt x="8" y="198"/>
                </a:lnTo>
                <a:lnTo>
                  <a:pt x="12" y="198"/>
                </a:lnTo>
                <a:lnTo>
                  <a:pt x="16" y="198"/>
                </a:lnTo>
                <a:lnTo>
                  <a:pt x="20" y="198"/>
                </a:lnTo>
                <a:lnTo>
                  <a:pt x="24" y="198"/>
                </a:lnTo>
                <a:lnTo>
                  <a:pt x="28" y="198"/>
                </a:lnTo>
                <a:lnTo>
                  <a:pt x="32" y="198"/>
                </a:lnTo>
                <a:lnTo>
                  <a:pt x="36" y="198"/>
                </a:lnTo>
                <a:lnTo>
                  <a:pt x="40" y="198"/>
                </a:lnTo>
                <a:lnTo>
                  <a:pt x="44" y="198"/>
                </a:lnTo>
                <a:lnTo>
                  <a:pt x="48" y="198"/>
                </a:lnTo>
                <a:lnTo>
                  <a:pt x="52" y="198"/>
                </a:lnTo>
                <a:lnTo>
                  <a:pt x="56" y="198"/>
                </a:lnTo>
                <a:lnTo>
                  <a:pt x="60" y="198"/>
                </a:lnTo>
                <a:lnTo>
                  <a:pt x="64" y="198"/>
                </a:lnTo>
                <a:lnTo>
                  <a:pt x="68" y="198"/>
                </a:lnTo>
                <a:lnTo>
                  <a:pt x="72" y="198"/>
                </a:lnTo>
                <a:lnTo>
                  <a:pt x="76" y="198"/>
                </a:lnTo>
                <a:lnTo>
                  <a:pt x="80" y="198"/>
                </a:lnTo>
                <a:lnTo>
                  <a:pt x="84" y="198"/>
                </a:lnTo>
                <a:lnTo>
                  <a:pt x="88" y="198"/>
                </a:lnTo>
                <a:lnTo>
                  <a:pt x="92" y="198"/>
                </a:lnTo>
                <a:lnTo>
                  <a:pt x="97" y="198"/>
                </a:lnTo>
                <a:lnTo>
                  <a:pt x="101" y="198"/>
                </a:lnTo>
                <a:lnTo>
                  <a:pt x="105" y="198"/>
                </a:lnTo>
                <a:lnTo>
                  <a:pt x="109" y="198"/>
                </a:lnTo>
                <a:lnTo>
                  <a:pt x="113" y="198"/>
                </a:lnTo>
                <a:lnTo>
                  <a:pt x="117" y="198"/>
                </a:lnTo>
                <a:lnTo>
                  <a:pt x="121" y="198"/>
                </a:lnTo>
                <a:lnTo>
                  <a:pt x="125" y="198"/>
                </a:lnTo>
                <a:lnTo>
                  <a:pt x="129" y="198"/>
                </a:lnTo>
                <a:lnTo>
                  <a:pt x="133" y="198"/>
                </a:lnTo>
                <a:lnTo>
                  <a:pt x="137" y="198"/>
                </a:lnTo>
                <a:lnTo>
                  <a:pt x="141" y="198"/>
                </a:lnTo>
                <a:lnTo>
                  <a:pt x="145" y="198"/>
                </a:lnTo>
                <a:lnTo>
                  <a:pt x="149" y="198"/>
                </a:lnTo>
                <a:lnTo>
                  <a:pt x="153" y="198"/>
                </a:lnTo>
                <a:lnTo>
                  <a:pt x="157" y="198"/>
                </a:lnTo>
                <a:lnTo>
                  <a:pt x="161" y="198"/>
                </a:lnTo>
                <a:lnTo>
                  <a:pt x="165" y="198"/>
                </a:lnTo>
                <a:lnTo>
                  <a:pt x="169" y="198"/>
                </a:lnTo>
                <a:lnTo>
                  <a:pt x="173" y="198"/>
                </a:lnTo>
                <a:lnTo>
                  <a:pt x="177" y="198"/>
                </a:lnTo>
                <a:lnTo>
                  <a:pt x="181" y="198"/>
                </a:lnTo>
                <a:lnTo>
                  <a:pt x="185" y="198"/>
                </a:lnTo>
                <a:lnTo>
                  <a:pt x="189" y="194"/>
                </a:lnTo>
                <a:lnTo>
                  <a:pt x="193" y="194"/>
                </a:lnTo>
                <a:lnTo>
                  <a:pt x="197" y="194"/>
                </a:lnTo>
                <a:lnTo>
                  <a:pt x="201" y="194"/>
                </a:lnTo>
                <a:lnTo>
                  <a:pt x="206" y="194"/>
                </a:lnTo>
                <a:lnTo>
                  <a:pt x="210" y="194"/>
                </a:lnTo>
                <a:lnTo>
                  <a:pt x="214" y="194"/>
                </a:lnTo>
                <a:lnTo>
                  <a:pt x="218" y="194"/>
                </a:lnTo>
                <a:lnTo>
                  <a:pt x="222" y="194"/>
                </a:lnTo>
                <a:lnTo>
                  <a:pt x="226" y="194"/>
                </a:lnTo>
                <a:lnTo>
                  <a:pt x="230" y="190"/>
                </a:lnTo>
                <a:lnTo>
                  <a:pt x="234" y="190"/>
                </a:lnTo>
                <a:lnTo>
                  <a:pt x="238" y="190"/>
                </a:lnTo>
                <a:lnTo>
                  <a:pt x="242" y="190"/>
                </a:lnTo>
                <a:lnTo>
                  <a:pt x="246" y="190"/>
                </a:lnTo>
                <a:lnTo>
                  <a:pt x="250" y="190"/>
                </a:lnTo>
                <a:lnTo>
                  <a:pt x="254" y="185"/>
                </a:lnTo>
                <a:lnTo>
                  <a:pt x="258" y="185"/>
                </a:lnTo>
                <a:lnTo>
                  <a:pt x="262" y="185"/>
                </a:lnTo>
                <a:lnTo>
                  <a:pt x="266" y="185"/>
                </a:lnTo>
                <a:lnTo>
                  <a:pt x="270" y="185"/>
                </a:lnTo>
                <a:lnTo>
                  <a:pt x="274" y="181"/>
                </a:lnTo>
                <a:lnTo>
                  <a:pt x="278" y="181"/>
                </a:lnTo>
                <a:lnTo>
                  <a:pt x="282" y="181"/>
                </a:lnTo>
                <a:lnTo>
                  <a:pt x="286" y="181"/>
                </a:lnTo>
                <a:lnTo>
                  <a:pt x="290" y="177"/>
                </a:lnTo>
                <a:lnTo>
                  <a:pt x="294" y="177"/>
                </a:lnTo>
                <a:lnTo>
                  <a:pt x="298" y="177"/>
                </a:lnTo>
                <a:lnTo>
                  <a:pt x="302" y="173"/>
                </a:lnTo>
                <a:lnTo>
                  <a:pt x="306" y="173"/>
                </a:lnTo>
                <a:lnTo>
                  <a:pt x="310" y="173"/>
                </a:lnTo>
                <a:lnTo>
                  <a:pt x="314" y="169"/>
                </a:lnTo>
                <a:lnTo>
                  <a:pt x="319" y="169"/>
                </a:lnTo>
                <a:lnTo>
                  <a:pt x="323" y="165"/>
                </a:lnTo>
                <a:lnTo>
                  <a:pt x="327" y="165"/>
                </a:lnTo>
                <a:lnTo>
                  <a:pt x="331" y="161"/>
                </a:lnTo>
                <a:lnTo>
                  <a:pt x="335" y="161"/>
                </a:lnTo>
                <a:lnTo>
                  <a:pt x="339" y="157"/>
                </a:lnTo>
                <a:lnTo>
                  <a:pt x="343" y="157"/>
                </a:lnTo>
                <a:lnTo>
                  <a:pt x="347" y="153"/>
                </a:lnTo>
                <a:lnTo>
                  <a:pt x="351" y="153"/>
                </a:lnTo>
                <a:lnTo>
                  <a:pt x="355" y="149"/>
                </a:lnTo>
                <a:lnTo>
                  <a:pt x="359" y="145"/>
                </a:lnTo>
                <a:lnTo>
                  <a:pt x="363" y="145"/>
                </a:lnTo>
                <a:lnTo>
                  <a:pt x="367" y="141"/>
                </a:lnTo>
                <a:lnTo>
                  <a:pt x="371" y="137"/>
                </a:lnTo>
                <a:lnTo>
                  <a:pt x="375" y="137"/>
                </a:lnTo>
                <a:lnTo>
                  <a:pt x="379" y="133"/>
                </a:lnTo>
                <a:lnTo>
                  <a:pt x="383" y="129"/>
                </a:lnTo>
                <a:lnTo>
                  <a:pt x="387" y="125"/>
                </a:lnTo>
                <a:lnTo>
                  <a:pt x="391" y="121"/>
                </a:lnTo>
                <a:lnTo>
                  <a:pt x="395" y="117"/>
                </a:lnTo>
                <a:lnTo>
                  <a:pt x="399" y="113"/>
                </a:lnTo>
                <a:lnTo>
                  <a:pt x="403" y="109"/>
                </a:lnTo>
                <a:lnTo>
                  <a:pt x="407" y="105"/>
                </a:lnTo>
                <a:lnTo>
                  <a:pt x="411" y="101"/>
                </a:lnTo>
                <a:lnTo>
                  <a:pt x="415" y="97"/>
                </a:lnTo>
                <a:lnTo>
                  <a:pt x="419" y="93"/>
                </a:lnTo>
                <a:lnTo>
                  <a:pt x="423" y="89"/>
                </a:lnTo>
                <a:lnTo>
                  <a:pt x="432" y="81"/>
                </a:lnTo>
                <a:lnTo>
                  <a:pt x="432" y="77"/>
                </a:lnTo>
                <a:lnTo>
                  <a:pt x="436" y="72"/>
                </a:lnTo>
                <a:lnTo>
                  <a:pt x="436" y="68"/>
                </a:lnTo>
                <a:lnTo>
                  <a:pt x="444" y="64"/>
                </a:lnTo>
                <a:lnTo>
                  <a:pt x="444" y="60"/>
                </a:lnTo>
                <a:lnTo>
                  <a:pt x="448" y="56"/>
                </a:lnTo>
                <a:lnTo>
                  <a:pt x="448" y="52"/>
                </a:lnTo>
                <a:lnTo>
                  <a:pt x="452" y="48"/>
                </a:lnTo>
                <a:lnTo>
                  <a:pt x="456" y="44"/>
                </a:lnTo>
                <a:lnTo>
                  <a:pt x="456" y="40"/>
                </a:lnTo>
                <a:lnTo>
                  <a:pt x="460" y="36"/>
                </a:lnTo>
                <a:lnTo>
                  <a:pt x="460" y="32"/>
                </a:lnTo>
                <a:lnTo>
                  <a:pt x="464" y="28"/>
                </a:lnTo>
                <a:lnTo>
                  <a:pt x="468" y="24"/>
                </a:lnTo>
                <a:lnTo>
                  <a:pt x="468" y="20"/>
                </a:lnTo>
                <a:lnTo>
                  <a:pt x="472" y="16"/>
                </a:lnTo>
                <a:lnTo>
                  <a:pt x="472" y="12"/>
                </a:lnTo>
                <a:lnTo>
                  <a:pt x="476" y="8"/>
                </a:lnTo>
                <a:lnTo>
                  <a:pt x="480" y="4"/>
                </a:lnTo>
                <a:lnTo>
                  <a:pt x="48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537000" y="3387600"/>
            <a:ext cx="487440" cy="1941480"/>
          </a:xfrm>
          <a:custGeom>
            <a:avLst/>
            <a:gdLst/>
            <a:ahLst/>
            <a:rect l="l" t="t" r="r" b="b"/>
            <a:pathLst>
              <a:path w="307" h="1223">
                <a:moveTo>
                  <a:pt x="0" y="1223"/>
                </a:moveTo>
                <a:lnTo>
                  <a:pt x="4" y="1219"/>
                </a:lnTo>
                <a:lnTo>
                  <a:pt x="4" y="1211"/>
                </a:lnTo>
                <a:lnTo>
                  <a:pt x="8" y="1207"/>
                </a:lnTo>
                <a:lnTo>
                  <a:pt x="12" y="1203"/>
                </a:lnTo>
                <a:lnTo>
                  <a:pt x="12" y="1199"/>
                </a:lnTo>
                <a:lnTo>
                  <a:pt x="16" y="1191"/>
                </a:lnTo>
                <a:lnTo>
                  <a:pt x="16" y="1186"/>
                </a:lnTo>
                <a:lnTo>
                  <a:pt x="20" y="1182"/>
                </a:lnTo>
                <a:lnTo>
                  <a:pt x="24" y="1178"/>
                </a:lnTo>
                <a:lnTo>
                  <a:pt x="24" y="1170"/>
                </a:lnTo>
                <a:lnTo>
                  <a:pt x="28" y="1166"/>
                </a:lnTo>
                <a:lnTo>
                  <a:pt x="28" y="1158"/>
                </a:lnTo>
                <a:lnTo>
                  <a:pt x="32" y="1154"/>
                </a:lnTo>
                <a:lnTo>
                  <a:pt x="36" y="1150"/>
                </a:lnTo>
                <a:lnTo>
                  <a:pt x="36" y="1142"/>
                </a:lnTo>
                <a:lnTo>
                  <a:pt x="40" y="1138"/>
                </a:lnTo>
                <a:lnTo>
                  <a:pt x="40" y="1130"/>
                </a:lnTo>
                <a:lnTo>
                  <a:pt x="44" y="1126"/>
                </a:lnTo>
                <a:lnTo>
                  <a:pt x="48" y="1118"/>
                </a:lnTo>
                <a:lnTo>
                  <a:pt x="48" y="1110"/>
                </a:lnTo>
                <a:lnTo>
                  <a:pt x="52" y="1106"/>
                </a:lnTo>
                <a:lnTo>
                  <a:pt x="52" y="1098"/>
                </a:lnTo>
                <a:lnTo>
                  <a:pt x="56" y="1094"/>
                </a:lnTo>
                <a:lnTo>
                  <a:pt x="61" y="1086"/>
                </a:lnTo>
                <a:lnTo>
                  <a:pt x="61" y="1078"/>
                </a:lnTo>
                <a:lnTo>
                  <a:pt x="65" y="1073"/>
                </a:lnTo>
                <a:lnTo>
                  <a:pt x="65" y="1065"/>
                </a:lnTo>
                <a:lnTo>
                  <a:pt x="69" y="1057"/>
                </a:lnTo>
                <a:lnTo>
                  <a:pt x="69" y="1049"/>
                </a:lnTo>
                <a:lnTo>
                  <a:pt x="73" y="1041"/>
                </a:lnTo>
                <a:lnTo>
                  <a:pt x="77" y="1037"/>
                </a:lnTo>
                <a:lnTo>
                  <a:pt x="77" y="1029"/>
                </a:lnTo>
                <a:lnTo>
                  <a:pt x="81" y="1021"/>
                </a:lnTo>
                <a:lnTo>
                  <a:pt x="81" y="1013"/>
                </a:lnTo>
                <a:lnTo>
                  <a:pt x="85" y="1005"/>
                </a:lnTo>
                <a:lnTo>
                  <a:pt x="89" y="997"/>
                </a:lnTo>
                <a:lnTo>
                  <a:pt x="89" y="989"/>
                </a:lnTo>
                <a:lnTo>
                  <a:pt x="93" y="981"/>
                </a:lnTo>
                <a:lnTo>
                  <a:pt x="93" y="973"/>
                </a:lnTo>
                <a:lnTo>
                  <a:pt x="97" y="964"/>
                </a:lnTo>
                <a:lnTo>
                  <a:pt x="101" y="956"/>
                </a:lnTo>
                <a:lnTo>
                  <a:pt x="101" y="948"/>
                </a:lnTo>
                <a:lnTo>
                  <a:pt x="105" y="940"/>
                </a:lnTo>
                <a:lnTo>
                  <a:pt x="105" y="932"/>
                </a:lnTo>
                <a:lnTo>
                  <a:pt x="109" y="924"/>
                </a:lnTo>
                <a:lnTo>
                  <a:pt x="113" y="912"/>
                </a:lnTo>
                <a:lnTo>
                  <a:pt x="113" y="904"/>
                </a:lnTo>
                <a:lnTo>
                  <a:pt x="117" y="896"/>
                </a:lnTo>
                <a:lnTo>
                  <a:pt x="117" y="888"/>
                </a:lnTo>
                <a:lnTo>
                  <a:pt x="121" y="876"/>
                </a:lnTo>
                <a:lnTo>
                  <a:pt x="125" y="868"/>
                </a:lnTo>
                <a:lnTo>
                  <a:pt x="125" y="860"/>
                </a:lnTo>
                <a:lnTo>
                  <a:pt x="129" y="847"/>
                </a:lnTo>
                <a:lnTo>
                  <a:pt x="129" y="839"/>
                </a:lnTo>
                <a:lnTo>
                  <a:pt x="133" y="831"/>
                </a:lnTo>
                <a:lnTo>
                  <a:pt x="137" y="819"/>
                </a:lnTo>
                <a:lnTo>
                  <a:pt x="137" y="811"/>
                </a:lnTo>
                <a:lnTo>
                  <a:pt x="141" y="799"/>
                </a:lnTo>
                <a:lnTo>
                  <a:pt x="141" y="791"/>
                </a:lnTo>
                <a:lnTo>
                  <a:pt x="145" y="779"/>
                </a:lnTo>
                <a:lnTo>
                  <a:pt x="149" y="771"/>
                </a:lnTo>
                <a:lnTo>
                  <a:pt x="149" y="759"/>
                </a:lnTo>
                <a:lnTo>
                  <a:pt x="153" y="751"/>
                </a:lnTo>
                <a:lnTo>
                  <a:pt x="153" y="738"/>
                </a:lnTo>
                <a:lnTo>
                  <a:pt x="157" y="730"/>
                </a:lnTo>
                <a:lnTo>
                  <a:pt x="161" y="718"/>
                </a:lnTo>
                <a:lnTo>
                  <a:pt x="161" y="706"/>
                </a:lnTo>
                <a:lnTo>
                  <a:pt x="165" y="698"/>
                </a:lnTo>
                <a:lnTo>
                  <a:pt x="165" y="686"/>
                </a:lnTo>
                <a:lnTo>
                  <a:pt x="170" y="674"/>
                </a:lnTo>
                <a:lnTo>
                  <a:pt x="174" y="666"/>
                </a:lnTo>
                <a:lnTo>
                  <a:pt x="174" y="654"/>
                </a:lnTo>
                <a:lnTo>
                  <a:pt x="178" y="642"/>
                </a:lnTo>
                <a:lnTo>
                  <a:pt x="178" y="629"/>
                </a:lnTo>
                <a:lnTo>
                  <a:pt x="182" y="621"/>
                </a:lnTo>
                <a:lnTo>
                  <a:pt x="182" y="609"/>
                </a:lnTo>
                <a:lnTo>
                  <a:pt x="186" y="597"/>
                </a:lnTo>
                <a:lnTo>
                  <a:pt x="190" y="585"/>
                </a:lnTo>
                <a:lnTo>
                  <a:pt x="190" y="573"/>
                </a:lnTo>
                <a:lnTo>
                  <a:pt x="194" y="561"/>
                </a:lnTo>
                <a:lnTo>
                  <a:pt x="194" y="553"/>
                </a:lnTo>
                <a:lnTo>
                  <a:pt x="198" y="541"/>
                </a:lnTo>
                <a:lnTo>
                  <a:pt x="202" y="529"/>
                </a:lnTo>
                <a:lnTo>
                  <a:pt x="202" y="516"/>
                </a:lnTo>
                <a:lnTo>
                  <a:pt x="206" y="504"/>
                </a:lnTo>
                <a:lnTo>
                  <a:pt x="206" y="492"/>
                </a:lnTo>
                <a:lnTo>
                  <a:pt x="210" y="480"/>
                </a:lnTo>
                <a:lnTo>
                  <a:pt x="214" y="468"/>
                </a:lnTo>
                <a:lnTo>
                  <a:pt x="214" y="456"/>
                </a:lnTo>
                <a:lnTo>
                  <a:pt x="218" y="444"/>
                </a:lnTo>
                <a:lnTo>
                  <a:pt x="218" y="432"/>
                </a:lnTo>
                <a:lnTo>
                  <a:pt x="222" y="420"/>
                </a:lnTo>
                <a:lnTo>
                  <a:pt x="226" y="407"/>
                </a:lnTo>
                <a:lnTo>
                  <a:pt x="226" y="395"/>
                </a:lnTo>
                <a:lnTo>
                  <a:pt x="230" y="383"/>
                </a:lnTo>
                <a:lnTo>
                  <a:pt x="230" y="371"/>
                </a:lnTo>
                <a:lnTo>
                  <a:pt x="234" y="359"/>
                </a:lnTo>
                <a:lnTo>
                  <a:pt x="238" y="347"/>
                </a:lnTo>
                <a:lnTo>
                  <a:pt x="238" y="335"/>
                </a:lnTo>
                <a:lnTo>
                  <a:pt x="242" y="323"/>
                </a:lnTo>
                <a:lnTo>
                  <a:pt x="242" y="311"/>
                </a:lnTo>
                <a:lnTo>
                  <a:pt x="246" y="299"/>
                </a:lnTo>
                <a:lnTo>
                  <a:pt x="250" y="286"/>
                </a:lnTo>
                <a:lnTo>
                  <a:pt x="250" y="274"/>
                </a:lnTo>
                <a:lnTo>
                  <a:pt x="254" y="262"/>
                </a:lnTo>
                <a:lnTo>
                  <a:pt x="254" y="250"/>
                </a:lnTo>
                <a:lnTo>
                  <a:pt x="258" y="238"/>
                </a:lnTo>
                <a:lnTo>
                  <a:pt x="262" y="226"/>
                </a:lnTo>
                <a:lnTo>
                  <a:pt x="262" y="214"/>
                </a:lnTo>
                <a:lnTo>
                  <a:pt x="266" y="202"/>
                </a:lnTo>
                <a:lnTo>
                  <a:pt x="266" y="190"/>
                </a:lnTo>
                <a:lnTo>
                  <a:pt x="270" y="177"/>
                </a:lnTo>
                <a:lnTo>
                  <a:pt x="274" y="165"/>
                </a:lnTo>
                <a:lnTo>
                  <a:pt x="274" y="153"/>
                </a:lnTo>
                <a:lnTo>
                  <a:pt x="279" y="141"/>
                </a:lnTo>
                <a:lnTo>
                  <a:pt x="279" y="129"/>
                </a:lnTo>
                <a:lnTo>
                  <a:pt x="283" y="117"/>
                </a:lnTo>
                <a:lnTo>
                  <a:pt x="283" y="105"/>
                </a:lnTo>
                <a:lnTo>
                  <a:pt x="287" y="93"/>
                </a:lnTo>
                <a:lnTo>
                  <a:pt x="291" y="81"/>
                </a:lnTo>
                <a:lnTo>
                  <a:pt x="291" y="68"/>
                </a:lnTo>
                <a:lnTo>
                  <a:pt x="295" y="56"/>
                </a:lnTo>
                <a:lnTo>
                  <a:pt x="295" y="44"/>
                </a:lnTo>
                <a:lnTo>
                  <a:pt x="299" y="32"/>
                </a:lnTo>
                <a:lnTo>
                  <a:pt x="303" y="24"/>
                </a:lnTo>
                <a:lnTo>
                  <a:pt x="303" y="12"/>
                </a:lnTo>
                <a:lnTo>
                  <a:pt x="307"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024440" y="2638440"/>
            <a:ext cx="538200" cy="749160"/>
          </a:xfrm>
          <a:custGeom>
            <a:avLst/>
            <a:gdLst/>
            <a:ahLst/>
            <a:rect l="l" t="t" r="r" b="b"/>
            <a:pathLst>
              <a:path w="339" h="472">
                <a:moveTo>
                  <a:pt x="0" y="472"/>
                </a:moveTo>
                <a:lnTo>
                  <a:pt x="0" y="460"/>
                </a:lnTo>
                <a:lnTo>
                  <a:pt x="4" y="448"/>
                </a:lnTo>
                <a:lnTo>
                  <a:pt x="8" y="435"/>
                </a:lnTo>
                <a:lnTo>
                  <a:pt x="8" y="427"/>
                </a:lnTo>
                <a:lnTo>
                  <a:pt x="12" y="415"/>
                </a:lnTo>
                <a:lnTo>
                  <a:pt x="12" y="403"/>
                </a:lnTo>
                <a:lnTo>
                  <a:pt x="16" y="395"/>
                </a:lnTo>
                <a:lnTo>
                  <a:pt x="20" y="383"/>
                </a:lnTo>
                <a:lnTo>
                  <a:pt x="20" y="371"/>
                </a:lnTo>
                <a:lnTo>
                  <a:pt x="24" y="363"/>
                </a:lnTo>
                <a:lnTo>
                  <a:pt x="24" y="351"/>
                </a:lnTo>
                <a:lnTo>
                  <a:pt x="28" y="339"/>
                </a:lnTo>
                <a:lnTo>
                  <a:pt x="32" y="331"/>
                </a:lnTo>
                <a:lnTo>
                  <a:pt x="32" y="318"/>
                </a:lnTo>
                <a:lnTo>
                  <a:pt x="36" y="310"/>
                </a:lnTo>
                <a:lnTo>
                  <a:pt x="36" y="298"/>
                </a:lnTo>
                <a:lnTo>
                  <a:pt x="40" y="290"/>
                </a:lnTo>
                <a:lnTo>
                  <a:pt x="44" y="278"/>
                </a:lnTo>
                <a:lnTo>
                  <a:pt x="44" y="270"/>
                </a:lnTo>
                <a:lnTo>
                  <a:pt x="48" y="262"/>
                </a:lnTo>
                <a:lnTo>
                  <a:pt x="48" y="250"/>
                </a:lnTo>
                <a:lnTo>
                  <a:pt x="52" y="242"/>
                </a:lnTo>
                <a:lnTo>
                  <a:pt x="56" y="234"/>
                </a:lnTo>
                <a:lnTo>
                  <a:pt x="56" y="226"/>
                </a:lnTo>
                <a:lnTo>
                  <a:pt x="60" y="213"/>
                </a:lnTo>
                <a:lnTo>
                  <a:pt x="60" y="205"/>
                </a:lnTo>
                <a:lnTo>
                  <a:pt x="64" y="197"/>
                </a:lnTo>
                <a:lnTo>
                  <a:pt x="68" y="189"/>
                </a:lnTo>
                <a:lnTo>
                  <a:pt x="68" y="181"/>
                </a:lnTo>
                <a:lnTo>
                  <a:pt x="72" y="173"/>
                </a:lnTo>
                <a:lnTo>
                  <a:pt x="72" y="165"/>
                </a:lnTo>
                <a:lnTo>
                  <a:pt x="76" y="157"/>
                </a:lnTo>
                <a:lnTo>
                  <a:pt x="80" y="149"/>
                </a:lnTo>
                <a:lnTo>
                  <a:pt x="80" y="141"/>
                </a:lnTo>
                <a:lnTo>
                  <a:pt x="85" y="133"/>
                </a:lnTo>
                <a:lnTo>
                  <a:pt x="85" y="129"/>
                </a:lnTo>
                <a:lnTo>
                  <a:pt x="89" y="121"/>
                </a:lnTo>
                <a:lnTo>
                  <a:pt x="89" y="113"/>
                </a:lnTo>
                <a:lnTo>
                  <a:pt x="93" y="109"/>
                </a:lnTo>
                <a:lnTo>
                  <a:pt x="97" y="100"/>
                </a:lnTo>
                <a:lnTo>
                  <a:pt x="97" y="92"/>
                </a:lnTo>
                <a:lnTo>
                  <a:pt x="101" y="88"/>
                </a:lnTo>
                <a:lnTo>
                  <a:pt x="101" y="84"/>
                </a:lnTo>
                <a:lnTo>
                  <a:pt x="105" y="76"/>
                </a:lnTo>
                <a:lnTo>
                  <a:pt x="109" y="72"/>
                </a:lnTo>
                <a:lnTo>
                  <a:pt x="109" y="64"/>
                </a:lnTo>
                <a:lnTo>
                  <a:pt x="113" y="60"/>
                </a:lnTo>
                <a:lnTo>
                  <a:pt x="113" y="56"/>
                </a:lnTo>
                <a:lnTo>
                  <a:pt x="117" y="52"/>
                </a:lnTo>
                <a:lnTo>
                  <a:pt x="121" y="48"/>
                </a:lnTo>
                <a:lnTo>
                  <a:pt x="121" y="44"/>
                </a:lnTo>
                <a:lnTo>
                  <a:pt x="125" y="36"/>
                </a:lnTo>
                <a:lnTo>
                  <a:pt x="129" y="32"/>
                </a:lnTo>
                <a:lnTo>
                  <a:pt x="133" y="28"/>
                </a:lnTo>
                <a:lnTo>
                  <a:pt x="133" y="24"/>
                </a:lnTo>
                <a:lnTo>
                  <a:pt x="141" y="16"/>
                </a:lnTo>
                <a:lnTo>
                  <a:pt x="137" y="16"/>
                </a:lnTo>
                <a:lnTo>
                  <a:pt x="141" y="16"/>
                </a:lnTo>
                <a:lnTo>
                  <a:pt x="149" y="8"/>
                </a:lnTo>
                <a:lnTo>
                  <a:pt x="149" y="4"/>
                </a:lnTo>
                <a:lnTo>
                  <a:pt x="153" y="4"/>
                </a:lnTo>
                <a:lnTo>
                  <a:pt x="157" y="0"/>
                </a:lnTo>
                <a:lnTo>
                  <a:pt x="161" y="0"/>
                </a:lnTo>
                <a:lnTo>
                  <a:pt x="165" y="0"/>
                </a:lnTo>
                <a:lnTo>
                  <a:pt x="169" y="0"/>
                </a:lnTo>
                <a:lnTo>
                  <a:pt x="173" y="0"/>
                </a:lnTo>
                <a:lnTo>
                  <a:pt x="177" y="0"/>
                </a:lnTo>
                <a:lnTo>
                  <a:pt x="181" y="0"/>
                </a:lnTo>
                <a:lnTo>
                  <a:pt x="185" y="0"/>
                </a:lnTo>
                <a:lnTo>
                  <a:pt x="189" y="4"/>
                </a:lnTo>
                <a:lnTo>
                  <a:pt x="194" y="4"/>
                </a:lnTo>
                <a:lnTo>
                  <a:pt x="198" y="8"/>
                </a:lnTo>
                <a:lnTo>
                  <a:pt x="202" y="16"/>
                </a:lnTo>
                <a:lnTo>
                  <a:pt x="206" y="16"/>
                </a:lnTo>
                <a:lnTo>
                  <a:pt x="210" y="24"/>
                </a:lnTo>
                <a:lnTo>
                  <a:pt x="214" y="28"/>
                </a:lnTo>
                <a:lnTo>
                  <a:pt x="218" y="32"/>
                </a:lnTo>
                <a:lnTo>
                  <a:pt x="222" y="36"/>
                </a:lnTo>
                <a:lnTo>
                  <a:pt x="222" y="40"/>
                </a:lnTo>
                <a:lnTo>
                  <a:pt x="226" y="44"/>
                </a:lnTo>
                <a:lnTo>
                  <a:pt x="226" y="48"/>
                </a:lnTo>
                <a:lnTo>
                  <a:pt x="230" y="52"/>
                </a:lnTo>
                <a:lnTo>
                  <a:pt x="234" y="56"/>
                </a:lnTo>
                <a:lnTo>
                  <a:pt x="234" y="60"/>
                </a:lnTo>
                <a:lnTo>
                  <a:pt x="238" y="64"/>
                </a:lnTo>
                <a:lnTo>
                  <a:pt x="238" y="68"/>
                </a:lnTo>
                <a:lnTo>
                  <a:pt x="242" y="76"/>
                </a:lnTo>
                <a:lnTo>
                  <a:pt x="246" y="80"/>
                </a:lnTo>
                <a:lnTo>
                  <a:pt x="246" y="84"/>
                </a:lnTo>
                <a:lnTo>
                  <a:pt x="250" y="92"/>
                </a:lnTo>
                <a:lnTo>
                  <a:pt x="250" y="96"/>
                </a:lnTo>
                <a:lnTo>
                  <a:pt x="254" y="105"/>
                </a:lnTo>
                <a:lnTo>
                  <a:pt x="258" y="109"/>
                </a:lnTo>
                <a:lnTo>
                  <a:pt x="258" y="117"/>
                </a:lnTo>
                <a:lnTo>
                  <a:pt x="262" y="121"/>
                </a:lnTo>
                <a:lnTo>
                  <a:pt x="262" y="129"/>
                </a:lnTo>
                <a:lnTo>
                  <a:pt x="266" y="133"/>
                </a:lnTo>
                <a:lnTo>
                  <a:pt x="270" y="141"/>
                </a:lnTo>
                <a:lnTo>
                  <a:pt x="270" y="149"/>
                </a:lnTo>
                <a:lnTo>
                  <a:pt x="274" y="157"/>
                </a:lnTo>
                <a:lnTo>
                  <a:pt x="274" y="161"/>
                </a:lnTo>
                <a:lnTo>
                  <a:pt x="278" y="169"/>
                </a:lnTo>
                <a:lnTo>
                  <a:pt x="282" y="177"/>
                </a:lnTo>
                <a:lnTo>
                  <a:pt x="282" y="185"/>
                </a:lnTo>
                <a:lnTo>
                  <a:pt x="286" y="193"/>
                </a:lnTo>
                <a:lnTo>
                  <a:pt x="286" y="201"/>
                </a:lnTo>
                <a:lnTo>
                  <a:pt x="290" y="209"/>
                </a:lnTo>
                <a:lnTo>
                  <a:pt x="294" y="218"/>
                </a:lnTo>
                <a:lnTo>
                  <a:pt x="294" y="226"/>
                </a:lnTo>
                <a:lnTo>
                  <a:pt x="298" y="234"/>
                </a:lnTo>
                <a:lnTo>
                  <a:pt x="298" y="242"/>
                </a:lnTo>
                <a:lnTo>
                  <a:pt x="302" y="250"/>
                </a:lnTo>
                <a:lnTo>
                  <a:pt x="302" y="258"/>
                </a:lnTo>
                <a:lnTo>
                  <a:pt x="307" y="266"/>
                </a:lnTo>
                <a:lnTo>
                  <a:pt x="311" y="278"/>
                </a:lnTo>
                <a:lnTo>
                  <a:pt x="311" y="286"/>
                </a:lnTo>
                <a:lnTo>
                  <a:pt x="315" y="294"/>
                </a:lnTo>
                <a:lnTo>
                  <a:pt x="315" y="302"/>
                </a:lnTo>
                <a:lnTo>
                  <a:pt x="319" y="314"/>
                </a:lnTo>
                <a:lnTo>
                  <a:pt x="323" y="322"/>
                </a:lnTo>
                <a:lnTo>
                  <a:pt x="323" y="331"/>
                </a:lnTo>
                <a:lnTo>
                  <a:pt x="327" y="343"/>
                </a:lnTo>
                <a:lnTo>
                  <a:pt x="327" y="351"/>
                </a:lnTo>
                <a:lnTo>
                  <a:pt x="331" y="363"/>
                </a:lnTo>
                <a:lnTo>
                  <a:pt x="335" y="371"/>
                </a:lnTo>
                <a:lnTo>
                  <a:pt x="335" y="379"/>
                </a:lnTo>
                <a:lnTo>
                  <a:pt x="339" y="391"/>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562640" y="3259080"/>
            <a:ext cx="480960" cy="1916280"/>
          </a:xfrm>
          <a:custGeom>
            <a:avLst/>
            <a:gdLst/>
            <a:ahLst/>
            <a:rect l="l" t="t" r="r" b="b"/>
            <a:pathLst>
              <a:path w="303" h="1207">
                <a:moveTo>
                  <a:pt x="0" y="0"/>
                </a:moveTo>
                <a:lnTo>
                  <a:pt x="0" y="8"/>
                </a:lnTo>
                <a:lnTo>
                  <a:pt x="4" y="20"/>
                </a:lnTo>
                <a:lnTo>
                  <a:pt x="8" y="28"/>
                </a:lnTo>
                <a:lnTo>
                  <a:pt x="8" y="40"/>
                </a:lnTo>
                <a:lnTo>
                  <a:pt x="12" y="53"/>
                </a:lnTo>
                <a:lnTo>
                  <a:pt x="12" y="61"/>
                </a:lnTo>
                <a:lnTo>
                  <a:pt x="16" y="73"/>
                </a:lnTo>
                <a:lnTo>
                  <a:pt x="20" y="81"/>
                </a:lnTo>
                <a:lnTo>
                  <a:pt x="20" y="93"/>
                </a:lnTo>
                <a:lnTo>
                  <a:pt x="24" y="105"/>
                </a:lnTo>
                <a:lnTo>
                  <a:pt x="24" y="113"/>
                </a:lnTo>
                <a:lnTo>
                  <a:pt x="28" y="125"/>
                </a:lnTo>
                <a:lnTo>
                  <a:pt x="32" y="137"/>
                </a:lnTo>
                <a:lnTo>
                  <a:pt x="32" y="145"/>
                </a:lnTo>
                <a:lnTo>
                  <a:pt x="36" y="158"/>
                </a:lnTo>
                <a:lnTo>
                  <a:pt x="36" y="170"/>
                </a:lnTo>
                <a:lnTo>
                  <a:pt x="40" y="182"/>
                </a:lnTo>
                <a:lnTo>
                  <a:pt x="44" y="190"/>
                </a:lnTo>
                <a:lnTo>
                  <a:pt x="44" y="202"/>
                </a:lnTo>
                <a:lnTo>
                  <a:pt x="48" y="214"/>
                </a:lnTo>
                <a:lnTo>
                  <a:pt x="48" y="226"/>
                </a:lnTo>
                <a:lnTo>
                  <a:pt x="52" y="234"/>
                </a:lnTo>
                <a:lnTo>
                  <a:pt x="56" y="246"/>
                </a:lnTo>
                <a:lnTo>
                  <a:pt x="56" y="258"/>
                </a:lnTo>
                <a:lnTo>
                  <a:pt x="60" y="271"/>
                </a:lnTo>
                <a:lnTo>
                  <a:pt x="60" y="279"/>
                </a:lnTo>
                <a:lnTo>
                  <a:pt x="64" y="291"/>
                </a:lnTo>
                <a:lnTo>
                  <a:pt x="68" y="303"/>
                </a:lnTo>
                <a:lnTo>
                  <a:pt x="68" y="315"/>
                </a:lnTo>
                <a:lnTo>
                  <a:pt x="72" y="327"/>
                </a:lnTo>
                <a:lnTo>
                  <a:pt x="72" y="335"/>
                </a:lnTo>
                <a:lnTo>
                  <a:pt x="77" y="347"/>
                </a:lnTo>
                <a:lnTo>
                  <a:pt x="77" y="359"/>
                </a:lnTo>
                <a:lnTo>
                  <a:pt x="81" y="371"/>
                </a:lnTo>
                <a:lnTo>
                  <a:pt x="85" y="384"/>
                </a:lnTo>
                <a:lnTo>
                  <a:pt x="85" y="392"/>
                </a:lnTo>
                <a:lnTo>
                  <a:pt x="89" y="404"/>
                </a:lnTo>
                <a:lnTo>
                  <a:pt x="89" y="416"/>
                </a:lnTo>
                <a:lnTo>
                  <a:pt x="93" y="428"/>
                </a:lnTo>
                <a:lnTo>
                  <a:pt x="97" y="440"/>
                </a:lnTo>
                <a:lnTo>
                  <a:pt x="97" y="448"/>
                </a:lnTo>
                <a:lnTo>
                  <a:pt x="101" y="460"/>
                </a:lnTo>
                <a:lnTo>
                  <a:pt x="101" y="472"/>
                </a:lnTo>
                <a:lnTo>
                  <a:pt x="105" y="484"/>
                </a:lnTo>
                <a:lnTo>
                  <a:pt x="109" y="493"/>
                </a:lnTo>
                <a:lnTo>
                  <a:pt x="109" y="505"/>
                </a:lnTo>
                <a:lnTo>
                  <a:pt x="113" y="517"/>
                </a:lnTo>
                <a:lnTo>
                  <a:pt x="113" y="529"/>
                </a:lnTo>
                <a:lnTo>
                  <a:pt x="117" y="537"/>
                </a:lnTo>
                <a:lnTo>
                  <a:pt x="121" y="549"/>
                </a:lnTo>
                <a:lnTo>
                  <a:pt x="121" y="561"/>
                </a:lnTo>
                <a:lnTo>
                  <a:pt x="125" y="573"/>
                </a:lnTo>
                <a:lnTo>
                  <a:pt x="125" y="581"/>
                </a:lnTo>
                <a:lnTo>
                  <a:pt x="129" y="593"/>
                </a:lnTo>
                <a:lnTo>
                  <a:pt x="133" y="606"/>
                </a:lnTo>
                <a:lnTo>
                  <a:pt x="133" y="614"/>
                </a:lnTo>
                <a:lnTo>
                  <a:pt x="137" y="626"/>
                </a:lnTo>
                <a:lnTo>
                  <a:pt x="137" y="638"/>
                </a:lnTo>
                <a:lnTo>
                  <a:pt x="141" y="646"/>
                </a:lnTo>
                <a:lnTo>
                  <a:pt x="145" y="658"/>
                </a:lnTo>
                <a:lnTo>
                  <a:pt x="145" y="670"/>
                </a:lnTo>
                <a:lnTo>
                  <a:pt x="149" y="678"/>
                </a:lnTo>
                <a:lnTo>
                  <a:pt x="149" y="690"/>
                </a:lnTo>
                <a:lnTo>
                  <a:pt x="153" y="698"/>
                </a:lnTo>
                <a:lnTo>
                  <a:pt x="157" y="710"/>
                </a:lnTo>
                <a:lnTo>
                  <a:pt x="157" y="719"/>
                </a:lnTo>
                <a:lnTo>
                  <a:pt x="161" y="731"/>
                </a:lnTo>
                <a:lnTo>
                  <a:pt x="161" y="739"/>
                </a:lnTo>
                <a:lnTo>
                  <a:pt x="165" y="751"/>
                </a:lnTo>
                <a:lnTo>
                  <a:pt x="169" y="759"/>
                </a:lnTo>
                <a:lnTo>
                  <a:pt x="169" y="771"/>
                </a:lnTo>
                <a:lnTo>
                  <a:pt x="173" y="779"/>
                </a:lnTo>
                <a:lnTo>
                  <a:pt x="173" y="791"/>
                </a:lnTo>
                <a:lnTo>
                  <a:pt x="177" y="799"/>
                </a:lnTo>
                <a:lnTo>
                  <a:pt x="181" y="811"/>
                </a:lnTo>
                <a:lnTo>
                  <a:pt x="181" y="819"/>
                </a:lnTo>
                <a:lnTo>
                  <a:pt x="185" y="828"/>
                </a:lnTo>
                <a:lnTo>
                  <a:pt x="185" y="840"/>
                </a:lnTo>
                <a:lnTo>
                  <a:pt x="190" y="848"/>
                </a:lnTo>
                <a:lnTo>
                  <a:pt x="190" y="856"/>
                </a:lnTo>
                <a:lnTo>
                  <a:pt x="194" y="868"/>
                </a:lnTo>
                <a:lnTo>
                  <a:pt x="198" y="876"/>
                </a:lnTo>
                <a:lnTo>
                  <a:pt x="198" y="884"/>
                </a:lnTo>
                <a:lnTo>
                  <a:pt x="202" y="892"/>
                </a:lnTo>
                <a:lnTo>
                  <a:pt x="202" y="904"/>
                </a:lnTo>
                <a:lnTo>
                  <a:pt x="206" y="912"/>
                </a:lnTo>
                <a:lnTo>
                  <a:pt x="210" y="920"/>
                </a:lnTo>
                <a:lnTo>
                  <a:pt x="210" y="928"/>
                </a:lnTo>
                <a:lnTo>
                  <a:pt x="214" y="937"/>
                </a:lnTo>
                <a:lnTo>
                  <a:pt x="214" y="949"/>
                </a:lnTo>
                <a:lnTo>
                  <a:pt x="218" y="957"/>
                </a:lnTo>
                <a:lnTo>
                  <a:pt x="222" y="965"/>
                </a:lnTo>
                <a:lnTo>
                  <a:pt x="222" y="973"/>
                </a:lnTo>
                <a:lnTo>
                  <a:pt x="226" y="981"/>
                </a:lnTo>
                <a:lnTo>
                  <a:pt x="226" y="989"/>
                </a:lnTo>
                <a:lnTo>
                  <a:pt x="230" y="997"/>
                </a:lnTo>
                <a:lnTo>
                  <a:pt x="234" y="1005"/>
                </a:lnTo>
                <a:lnTo>
                  <a:pt x="234" y="1013"/>
                </a:lnTo>
                <a:lnTo>
                  <a:pt x="238" y="1021"/>
                </a:lnTo>
                <a:lnTo>
                  <a:pt x="238" y="1029"/>
                </a:lnTo>
                <a:lnTo>
                  <a:pt x="242" y="1037"/>
                </a:lnTo>
                <a:lnTo>
                  <a:pt x="246" y="1045"/>
                </a:lnTo>
                <a:lnTo>
                  <a:pt x="246" y="1050"/>
                </a:lnTo>
                <a:lnTo>
                  <a:pt x="250" y="1058"/>
                </a:lnTo>
                <a:lnTo>
                  <a:pt x="250" y="1066"/>
                </a:lnTo>
                <a:lnTo>
                  <a:pt x="254" y="1074"/>
                </a:lnTo>
                <a:lnTo>
                  <a:pt x="258" y="1082"/>
                </a:lnTo>
                <a:lnTo>
                  <a:pt x="258" y="1086"/>
                </a:lnTo>
                <a:lnTo>
                  <a:pt x="262" y="1094"/>
                </a:lnTo>
                <a:lnTo>
                  <a:pt x="262" y="1102"/>
                </a:lnTo>
                <a:lnTo>
                  <a:pt x="266" y="1110"/>
                </a:lnTo>
                <a:lnTo>
                  <a:pt x="270" y="1114"/>
                </a:lnTo>
                <a:lnTo>
                  <a:pt x="270" y="1122"/>
                </a:lnTo>
                <a:lnTo>
                  <a:pt x="274" y="1130"/>
                </a:lnTo>
                <a:lnTo>
                  <a:pt x="274" y="1134"/>
                </a:lnTo>
                <a:lnTo>
                  <a:pt x="278" y="1142"/>
                </a:lnTo>
                <a:lnTo>
                  <a:pt x="282" y="1150"/>
                </a:lnTo>
                <a:lnTo>
                  <a:pt x="282" y="1154"/>
                </a:lnTo>
                <a:lnTo>
                  <a:pt x="286" y="1163"/>
                </a:lnTo>
                <a:lnTo>
                  <a:pt x="286" y="1167"/>
                </a:lnTo>
                <a:lnTo>
                  <a:pt x="290" y="1175"/>
                </a:lnTo>
                <a:lnTo>
                  <a:pt x="290" y="1179"/>
                </a:lnTo>
                <a:lnTo>
                  <a:pt x="294" y="1187"/>
                </a:lnTo>
                <a:lnTo>
                  <a:pt x="299" y="1191"/>
                </a:lnTo>
                <a:lnTo>
                  <a:pt x="299" y="1199"/>
                </a:lnTo>
                <a:lnTo>
                  <a:pt x="303" y="1203"/>
                </a:lnTo>
                <a:lnTo>
                  <a:pt x="303" y="1207"/>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043600" y="5175360"/>
            <a:ext cx="717480" cy="468360"/>
          </a:xfrm>
          <a:custGeom>
            <a:avLst/>
            <a:gdLst/>
            <a:ahLst/>
            <a:rect l="l" t="t" r="r" b="b"/>
            <a:pathLst>
              <a:path w="452" h="295">
                <a:moveTo>
                  <a:pt x="0" y="0"/>
                </a:moveTo>
                <a:lnTo>
                  <a:pt x="4" y="8"/>
                </a:lnTo>
                <a:lnTo>
                  <a:pt x="8" y="12"/>
                </a:lnTo>
                <a:lnTo>
                  <a:pt x="8" y="16"/>
                </a:lnTo>
                <a:lnTo>
                  <a:pt x="12" y="24"/>
                </a:lnTo>
                <a:lnTo>
                  <a:pt x="12" y="28"/>
                </a:lnTo>
                <a:lnTo>
                  <a:pt x="16" y="32"/>
                </a:lnTo>
                <a:lnTo>
                  <a:pt x="20" y="40"/>
                </a:lnTo>
                <a:lnTo>
                  <a:pt x="20" y="44"/>
                </a:lnTo>
                <a:lnTo>
                  <a:pt x="24" y="48"/>
                </a:lnTo>
                <a:lnTo>
                  <a:pt x="24" y="52"/>
                </a:lnTo>
                <a:lnTo>
                  <a:pt x="28" y="56"/>
                </a:lnTo>
                <a:lnTo>
                  <a:pt x="32" y="65"/>
                </a:lnTo>
                <a:lnTo>
                  <a:pt x="32" y="69"/>
                </a:lnTo>
                <a:lnTo>
                  <a:pt x="36" y="73"/>
                </a:lnTo>
                <a:lnTo>
                  <a:pt x="36" y="77"/>
                </a:lnTo>
                <a:lnTo>
                  <a:pt x="40" y="81"/>
                </a:lnTo>
                <a:lnTo>
                  <a:pt x="44" y="85"/>
                </a:lnTo>
                <a:lnTo>
                  <a:pt x="44" y="89"/>
                </a:lnTo>
                <a:lnTo>
                  <a:pt x="48" y="93"/>
                </a:lnTo>
                <a:lnTo>
                  <a:pt x="48" y="97"/>
                </a:lnTo>
                <a:lnTo>
                  <a:pt x="52" y="101"/>
                </a:lnTo>
                <a:lnTo>
                  <a:pt x="56" y="105"/>
                </a:lnTo>
                <a:lnTo>
                  <a:pt x="56" y="109"/>
                </a:lnTo>
                <a:lnTo>
                  <a:pt x="60" y="113"/>
                </a:lnTo>
                <a:lnTo>
                  <a:pt x="60" y="117"/>
                </a:lnTo>
                <a:lnTo>
                  <a:pt x="64" y="121"/>
                </a:lnTo>
                <a:lnTo>
                  <a:pt x="68" y="125"/>
                </a:lnTo>
                <a:lnTo>
                  <a:pt x="68" y="129"/>
                </a:lnTo>
                <a:lnTo>
                  <a:pt x="72" y="133"/>
                </a:lnTo>
                <a:lnTo>
                  <a:pt x="72" y="137"/>
                </a:lnTo>
                <a:lnTo>
                  <a:pt x="76" y="141"/>
                </a:lnTo>
                <a:lnTo>
                  <a:pt x="80" y="145"/>
                </a:lnTo>
                <a:lnTo>
                  <a:pt x="84" y="149"/>
                </a:lnTo>
                <a:lnTo>
                  <a:pt x="84" y="153"/>
                </a:lnTo>
                <a:lnTo>
                  <a:pt x="88" y="157"/>
                </a:lnTo>
                <a:lnTo>
                  <a:pt x="92" y="161"/>
                </a:lnTo>
                <a:lnTo>
                  <a:pt x="100" y="169"/>
                </a:lnTo>
                <a:lnTo>
                  <a:pt x="100" y="174"/>
                </a:lnTo>
                <a:lnTo>
                  <a:pt x="105" y="178"/>
                </a:lnTo>
                <a:lnTo>
                  <a:pt x="109" y="182"/>
                </a:lnTo>
                <a:lnTo>
                  <a:pt x="117" y="190"/>
                </a:lnTo>
                <a:lnTo>
                  <a:pt x="113" y="190"/>
                </a:lnTo>
                <a:lnTo>
                  <a:pt x="117" y="190"/>
                </a:lnTo>
                <a:lnTo>
                  <a:pt x="121" y="194"/>
                </a:lnTo>
                <a:lnTo>
                  <a:pt x="129" y="202"/>
                </a:lnTo>
                <a:lnTo>
                  <a:pt x="125" y="202"/>
                </a:lnTo>
                <a:lnTo>
                  <a:pt x="129" y="202"/>
                </a:lnTo>
                <a:lnTo>
                  <a:pt x="133" y="206"/>
                </a:lnTo>
                <a:lnTo>
                  <a:pt x="137" y="210"/>
                </a:lnTo>
                <a:lnTo>
                  <a:pt x="141" y="214"/>
                </a:lnTo>
                <a:lnTo>
                  <a:pt x="145" y="218"/>
                </a:lnTo>
                <a:lnTo>
                  <a:pt x="149" y="222"/>
                </a:lnTo>
                <a:lnTo>
                  <a:pt x="153" y="222"/>
                </a:lnTo>
                <a:lnTo>
                  <a:pt x="157" y="226"/>
                </a:lnTo>
                <a:lnTo>
                  <a:pt x="161" y="230"/>
                </a:lnTo>
                <a:lnTo>
                  <a:pt x="165" y="230"/>
                </a:lnTo>
                <a:lnTo>
                  <a:pt x="169" y="234"/>
                </a:lnTo>
                <a:lnTo>
                  <a:pt x="173" y="238"/>
                </a:lnTo>
                <a:lnTo>
                  <a:pt x="177" y="238"/>
                </a:lnTo>
                <a:lnTo>
                  <a:pt x="181" y="242"/>
                </a:lnTo>
                <a:lnTo>
                  <a:pt x="185" y="246"/>
                </a:lnTo>
                <a:lnTo>
                  <a:pt x="189" y="246"/>
                </a:lnTo>
                <a:lnTo>
                  <a:pt x="193" y="250"/>
                </a:lnTo>
                <a:lnTo>
                  <a:pt x="197" y="250"/>
                </a:lnTo>
                <a:lnTo>
                  <a:pt x="201" y="254"/>
                </a:lnTo>
                <a:lnTo>
                  <a:pt x="205" y="254"/>
                </a:lnTo>
                <a:lnTo>
                  <a:pt x="209" y="258"/>
                </a:lnTo>
                <a:lnTo>
                  <a:pt x="213" y="258"/>
                </a:lnTo>
                <a:lnTo>
                  <a:pt x="218" y="262"/>
                </a:lnTo>
                <a:lnTo>
                  <a:pt x="222" y="262"/>
                </a:lnTo>
                <a:lnTo>
                  <a:pt x="226" y="262"/>
                </a:lnTo>
                <a:lnTo>
                  <a:pt x="230" y="266"/>
                </a:lnTo>
                <a:lnTo>
                  <a:pt x="234" y="266"/>
                </a:lnTo>
                <a:lnTo>
                  <a:pt x="238" y="270"/>
                </a:lnTo>
                <a:lnTo>
                  <a:pt x="242" y="270"/>
                </a:lnTo>
                <a:lnTo>
                  <a:pt x="246" y="270"/>
                </a:lnTo>
                <a:lnTo>
                  <a:pt x="250" y="270"/>
                </a:lnTo>
                <a:lnTo>
                  <a:pt x="254" y="274"/>
                </a:lnTo>
                <a:lnTo>
                  <a:pt x="258" y="274"/>
                </a:lnTo>
                <a:lnTo>
                  <a:pt x="262" y="274"/>
                </a:lnTo>
                <a:lnTo>
                  <a:pt x="266" y="274"/>
                </a:lnTo>
                <a:lnTo>
                  <a:pt x="270" y="278"/>
                </a:lnTo>
                <a:lnTo>
                  <a:pt x="274" y="278"/>
                </a:lnTo>
                <a:lnTo>
                  <a:pt x="278" y="278"/>
                </a:lnTo>
                <a:lnTo>
                  <a:pt x="282" y="278"/>
                </a:lnTo>
                <a:lnTo>
                  <a:pt x="286" y="282"/>
                </a:lnTo>
                <a:lnTo>
                  <a:pt x="290" y="282"/>
                </a:lnTo>
                <a:lnTo>
                  <a:pt x="294" y="282"/>
                </a:lnTo>
                <a:lnTo>
                  <a:pt x="298" y="282"/>
                </a:lnTo>
                <a:lnTo>
                  <a:pt x="302" y="282"/>
                </a:lnTo>
                <a:lnTo>
                  <a:pt x="306" y="282"/>
                </a:lnTo>
                <a:lnTo>
                  <a:pt x="310" y="287"/>
                </a:lnTo>
                <a:lnTo>
                  <a:pt x="314" y="287"/>
                </a:lnTo>
                <a:lnTo>
                  <a:pt x="318" y="287"/>
                </a:lnTo>
                <a:lnTo>
                  <a:pt x="322" y="287"/>
                </a:lnTo>
                <a:lnTo>
                  <a:pt x="327" y="287"/>
                </a:lnTo>
                <a:lnTo>
                  <a:pt x="331" y="287"/>
                </a:lnTo>
                <a:lnTo>
                  <a:pt x="335" y="287"/>
                </a:lnTo>
                <a:lnTo>
                  <a:pt x="339" y="291"/>
                </a:lnTo>
                <a:lnTo>
                  <a:pt x="343" y="291"/>
                </a:lnTo>
                <a:lnTo>
                  <a:pt x="347" y="291"/>
                </a:lnTo>
                <a:lnTo>
                  <a:pt x="351" y="291"/>
                </a:lnTo>
                <a:lnTo>
                  <a:pt x="355" y="291"/>
                </a:lnTo>
                <a:lnTo>
                  <a:pt x="359" y="291"/>
                </a:lnTo>
                <a:lnTo>
                  <a:pt x="363" y="291"/>
                </a:lnTo>
                <a:lnTo>
                  <a:pt x="367" y="291"/>
                </a:lnTo>
                <a:lnTo>
                  <a:pt x="371" y="291"/>
                </a:lnTo>
                <a:lnTo>
                  <a:pt x="375" y="291"/>
                </a:lnTo>
                <a:lnTo>
                  <a:pt x="379" y="291"/>
                </a:lnTo>
                <a:lnTo>
                  <a:pt x="383" y="291"/>
                </a:lnTo>
                <a:lnTo>
                  <a:pt x="387" y="295"/>
                </a:lnTo>
                <a:lnTo>
                  <a:pt x="391" y="295"/>
                </a:lnTo>
                <a:lnTo>
                  <a:pt x="395" y="295"/>
                </a:lnTo>
                <a:lnTo>
                  <a:pt x="399" y="295"/>
                </a:lnTo>
                <a:lnTo>
                  <a:pt x="403" y="295"/>
                </a:lnTo>
                <a:lnTo>
                  <a:pt x="407" y="295"/>
                </a:lnTo>
                <a:lnTo>
                  <a:pt x="411" y="295"/>
                </a:lnTo>
                <a:lnTo>
                  <a:pt x="415" y="295"/>
                </a:lnTo>
                <a:lnTo>
                  <a:pt x="419" y="295"/>
                </a:lnTo>
                <a:lnTo>
                  <a:pt x="423" y="295"/>
                </a:lnTo>
                <a:lnTo>
                  <a:pt x="427" y="295"/>
                </a:lnTo>
                <a:lnTo>
                  <a:pt x="431" y="295"/>
                </a:lnTo>
                <a:lnTo>
                  <a:pt x="435" y="295"/>
                </a:lnTo>
                <a:lnTo>
                  <a:pt x="440" y="295"/>
                </a:lnTo>
                <a:lnTo>
                  <a:pt x="444" y="295"/>
                </a:lnTo>
                <a:lnTo>
                  <a:pt x="448" y="295"/>
                </a:lnTo>
                <a:lnTo>
                  <a:pt x="452" y="295"/>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761080" y="5643720"/>
            <a:ext cx="812880" cy="1440"/>
          </a:xfrm>
          <a:custGeom>
            <a:avLst/>
            <a:gdLst/>
            <a:ahLst/>
            <a:rect l="l" t="t" r="r" b="b"/>
            <a:pathLst>
              <a:path w="512" h="0">
                <a:moveTo>
                  <a:pt x="0" y="0"/>
                </a:moveTo>
                <a:lnTo>
                  <a:pt x="4" y="0"/>
                </a:lnTo>
                <a:lnTo>
                  <a:pt x="8" y="0"/>
                </a:lnTo>
                <a:lnTo>
                  <a:pt x="12" y="0"/>
                </a:lnTo>
                <a:lnTo>
                  <a:pt x="16" y="0"/>
                </a:lnTo>
                <a:lnTo>
                  <a:pt x="20" y="0"/>
                </a:lnTo>
                <a:lnTo>
                  <a:pt x="24" y="0"/>
                </a:lnTo>
                <a:lnTo>
                  <a:pt x="28" y="0"/>
                </a:lnTo>
                <a:lnTo>
                  <a:pt x="32" y="0"/>
                </a:lnTo>
                <a:lnTo>
                  <a:pt x="36" y="0"/>
                </a:lnTo>
                <a:lnTo>
                  <a:pt x="40" y="0"/>
                </a:lnTo>
                <a:lnTo>
                  <a:pt x="44" y="0"/>
                </a:lnTo>
                <a:lnTo>
                  <a:pt x="48" y="0"/>
                </a:lnTo>
                <a:lnTo>
                  <a:pt x="52" y="0"/>
                </a:lnTo>
                <a:lnTo>
                  <a:pt x="56" y="0"/>
                </a:lnTo>
                <a:lnTo>
                  <a:pt x="60" y="0"/>
                </a:lnTo>
                <a:lnTo>
                  <a:pt x="64" y="0"/>
                </a:lnTo>
                <a:lnTo>
                  <a:pt x="68" y="0"/>
                </a:lnTo>
                <a:lnTo>
                  <a:pt x="72" y="0"/>
                </a:lnTo>
                <a:lnTo>
                  <a:pt x="76" y="0"/>
                </a:lnTo>
                <a:lnTo>
                  <a:pt x="80" y="0"/>
                </a:lnTo>
                <a:lnTo>
                  <a:pt x="84" y="0"/>
                </a:lnTo>
                <a:lnTo>
                  <a:pt x="88" y="0"/>
                </a:lnTo>
                <a:lnTo>
                  <a:pt x="92" y="0"/>
                </a:lnTo>
                <a:lnTo>
                  <a:pt x="97" y="0"/>
                </a:lnTo>
                <a:lnTo>
                  <a:pt x="101" y="0"/>
                </a:lnTo>
                <a:lnTo>
                  <a:pt x="105" y="0"/>
                </a:lnTo>
                <a:lnTo>
                  <a:pt x="109" y="0"/>
                </a:lnTo>
                <a:lnTo>
                  <a:pt x="113" y="0"/>
                </a:lnTo>
                <a:lnTo>
                  <a:pt x="117" y="0"/>
                </a:lnTo>
                <a:lnTo>
                  <a:pt x="121" y="0"/>
                </a:lnTo>
                <a:lnTo>
                  <a:pt x="125" y="0"/>
                </a:lnTo>
                <a:lnTo>
                  <a:pt x="129" y="0"/>
                </a:lnTo>
                <a:lnTo>
                  <a:pt x="133" y="0"/>
                </a:lnTo>
                <a:lnTo>
                  <a:pt x="137" y="0"/>
                </a:lnTo>
                <a:lnTo>
                  <a:pt x="141" y="0"/>
                </a:lnTo>
                <a:lnTo>
                  <a:pt x="145" y="0"/>
                </a:lnTo>
                <a:lnTo>
                  <a:pt x="149" y="0"/>
                </a:lnTo>
                <a:lnTo>
                  <a:pt x="153" y="0"/>
                </a:lnTo>
                <a:lnTo>
                  <a:pt x="157" y="0"/>
                </a:lnTo>
                <a:lnTo>
                  <a:pt x="161" y="0"/>
                </a:lnTo>
                <a:lnTo>
                  <a:pt x="165" y="0"/>
                </a:lnTo>
                <a:lnTo>
                  <a:pt x="169" y="0"/>
                </a:lnTo>
                <a:lnTo>
                  <a:pt x="173" y="0"/>
                </a:lnTo>
                <a:lnTo>
                  <a:pt x="177" y="0"/>
                </a:lnTo>
                <a:lnTo>
                  <a:pt x="181" y="0"/>
                </a:lnTo>
                <a:lnTo>
                  <a:pt x="185" y="0"/>
                </a:lnTo>
                <a:lnTo>
                  <a:pt x="189" y="0"/>
                </a:lnTo>
                <a:lnTo>
                  <a:pt x="193" y="0"/>
                </a:lnTo>
                <a:lnTo>
                  <a:pt x="197" y="0"/>
                </a:lnTo>
                <a:lnTo>
                  <a:pt x="201" y="0"/>
                </a:lnTo>
                <a:lnTo>
                  <a:pt x="205" y="0"/>
                </a:lnTo>
                <a:lnTo>
                  <a:pt x="210" y="0"/>
                </a:lnTo>
                <a:lnTo>
                  <a:pt x="214" y="0"/>
                </a:lnTo>
                <a:lnTo>
                  <a:pt x="218" y="0"/>
                </a:lnTo>
                <a:lnTo>
                  <a:pt x="222" y="0"/>
                </a:lnTo>
                <a:lnTo>
                  <a:pt x="226" y="0"/>
                </a:lnTo>
                <a:lnTo>
                  <a:pt x="230" y="0"/>
                </a:lnTo>
                <a:lnTo>
                  <a:pt x="234" y="0"/>
                </a:lnTo>
                <a:lnTo>
                  <a:pt x="238" y="0"/>
                </a:lnTo>
                <a:lnTo>
                  <a:pt x="242" y="0"/>
                </a:lnTo>
                <a:lnTo>
                  <a:pt x="246" y="0"/>
                </a:lnTo>
                <a:lnTo>
                  <a:pt x="250" y="0"/>
                </a:lnTo>
                <a:lnTo>
                  <a:pt x="254" y="0"/>
                </a:lnTo>
                <a:lnTo>
                  <a:pt x="258" y="0"/>
                </a:lnTo>
                <a:lnTo>
                  <a:pt x="262" y="0"/>
                </a:lnTo>
                <a:lnTo>
                  <a:pt x="266" y="0"/>
                </a:lnTo>
                <a:lnTo>
                  <a:pt x="270" y="0"/>
                </a:lnTo>
                <a:lnTo>
                  <a:pt x="274" y="0"/>
                </a:lnTo>
                <a:lnTo>
                  <a:pt x="278" y="0"/>
                </a:lnTo>
                <a:lnTo>
                  <a:pt x="282" y="0"/>
                </a:lnTo>
                <a:lnTo>
                  <a:pt x="286" y="0"/>
                </a:lnTo>
                <a:lnTo>
                  <a:pt x="290" y="0"/>
                </a:lnTo>
                <a:lnTo>
                  <a:pt x="294" y="0"/>
                </a:lnTo>
                <a:lnTo>
                  <a:pt x="298" y="0"/>
                </a:lnTo>
                <a:lnTo>
                  <a:pt x="302" y="0"/>
                </a:lnTo>
                <a:lnTo>
                  <a:pt x="306" y="0"/>
                </a:lnTo>
                <a:lnTo>
                  <a:pt x="310" y="0"/>
                </a:lnTo>
                <a:lnTo>
                  <a:pt x="314" y="0"/>
                </a:lnTo>
                <a:lnTo>
                  <a:pt x="319" y="0"/>
                </a:lnTo>
                <a:lnTo>
                  <a:pt x="323" y="0"/>
                </a:lnTo>
                <a:lnTo>
                  <a:pt x="327" y="0"/>
                </a:lnTo>
                <a:lnTo>
                  <a:pt x="331" y="0"/>
                </a:lnTo>
                <a:lnTo>
                  <a:pt x="335" y="0"/>
                </a:lnTo>
                <a:lnTo>
                  <a:pt x="339" y="0"/>
                </a:lnTo>
                <a:lnTo>
                  <a:pt x="343" y="0"/>
                </a:lnTo>
                <a:lnTo>
                  <a:pt x="347" y="0"/>
                </a:lnTo>
                <a:lnTo>
                  <a:pt x="351" y="0"/>
                </a:lnTo>
                <a:lnTo>
                  <a:pt x="355" y="0"/>
                </a:lnTo>
                <a:lnTo>
                  <a:pt x="359" y="0"/>
                </a:lnTo>
                <a:lnTo>
                  <a:pt x="363" y="0"/>
                </a:lnTo>
                <a:lnTo>
                  <a:pt x="367" y="0"/>
                </a:lnTo>
                <a:lnTo>
                  <a:pt x="371" y="0"/>
                </a:lnTo>
                <a:lnTo>
                  <a:pt x="375" y="0"/>
                </a:lnTo>
                <a:lnTo>
                  <a:pt x="379" y="0"/>
                </a:lnTo>
                <a:lnTo>
                  <a:pt x="383" y="0"/>
                </a:lnTo>
                <a:lnTo>
                  <a:pt x="387" y="0"/>
                </a:lnTo>
                <a:lnTo>
                  <a:pt x="391" y="0"/>
                </a:lnTo>
                <a:lnTo>
                  <a:pt x="395" y="0"/>
                </a:lnTo>
                <a:lnTo>
                  <a:pt x="399" y="0"/>
                </a:lnTo>
                <a:lnTo>
                  <a:pt x="403" y="0"/>
                </a:lnTo>
                <a:lnTo>
                  <a:pt x="407" y="0"/>
                </a:lnTo>
                <a:lnTo>
                  <a:pt x="411" y="0"/>
                </a:lnTo>
                <a:lnTo>
                  <a:pt x="415" y="0"/>
                </a:lnTo>
                <a:lnTo>
                  <a:pt x="419" y="0"/>
                </a:lnTo>
                <a:lnTo>
                  <a:pt x="423" y="0"/>
                </a:lnTo>
                <a:lnTo>
                  <a:pt x="428" y="0"/>
                </a:lnTo>
                <a:lnTo>
                  <a:pt x="432" y="0"/>
                </a:lnTo>
                <a:lnTo>
                  <a:pt x="436" y="0"/>
                </a:lnTo>
                <a:lnTo>
                  <a:pt x="440" y="0"/>
                </a:lnTo>
                <a:lnTo>
                  <a:pt x="444" y="0"/>
                </a:lnTo>
                <a:lnTo>
                  <a:pt x="448" y="0"/>
                </a:lnTo>
                <a:lnTo>
                  <a:pt x="452" y="0"/>
                </a:lnTo>
                <a:lnTo>
                  <a:pt x="456" y="0"/>
                </a:lnTo>
                <a:lnTo>
                  <a:pt x="460" y="0"/>
                </a:lnTo>
                <a:lnTo>
                  <a:pt x="464" y="0"/>
                </a:lnTo>
                <a:lnTo>
                  <a:pt x="468" y="0"/>
                </a:lnTo>
                <a:lnTo>
                  <a:pt x="472" y="0"/>
                </a:lnTo>
                <a:lnTo>
                  <a:pt x="476" y="0"/>
                </a:lnTo>
                <a:lnTo>
                  <a:pt x="480" y="0"/>
                </a:lnTo>
                <a:lnTo>
                  <a:pt x="484" y="0"/>
                </a:lnTo>
                <a:lnTo>
                  <a:pt x="488" y="0"/>
                </a:lnTo>
                <a:lnTo>
                  <a:pt x="492" y="0"/>
                </a:lnTo>
                <a:lnTo>
                  <a:pt x="496" y="0"/>
                </a:lnTo>
                <a:lnTo>
                  <a:pt x="500" y="0"/>
                </a:lnTo>
                <a:lnTo>
                  <a:pt x="504" y="0"/>
                </a:lnTo>
                <a:lnTo>
                  <a:pt x="508" y="0"/>
                </a:lnTo>
                <a:lnTo>
                  <a:pt x="512" y="0"/>
                </a:lnTo>
              </a:path>
            </a:pathLst>
          </a:custGeom>
          <a:no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6573960" y="5643720"/>
            <a:ext cx="12600" cy="1440"/>
          </a:xfrm>
          <a:custGeom>
            <a:avLst/>
            <a:gdLst/>
            <a:ahLst/>
            <a:rect l="l" t="t" r="r" b="b"/>
            <a:pathLst>
              <a:path w="8" h="0">
                <a:moveTo>
                  <a:pt x="0" y="0"/>
                </a:moveTo>
                <a:lnTo>
                  <a:pt x="4" y="0"/>
                </a:lnTo>
                <a:lnTo>
                  <a:pt x="8" y="0"/>
                </a:lnTo>
              </a:path>
            </a:pathLst>
          </a:custGeom>
          <a:no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
          <p:cNvSpPr/>
          <p:nvPr/>
        </p:nvSpPr>
        <p:spPr>
          <a:xfrm>
            <a:off x="4190040" y="594360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1680" name=""/>
          <p:cNvSpPr/>
          <p:nvPr/>
        </p:nvSpPr>
        <p:spPr>
          <a:xfrm rot="16200000">
            <a:off x="2063520" y="397080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1681"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22240" y="1338120"/>
            <a:ext cx="672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ge of excellent </a:t>
            </a:r>
            <a:r>
              <a:rPr b="0" lang="en-US" sz="2400" spc="-1" strike="noStrike">
                <a:solidFill>
                  <a:srgbClr val="000000"/>
                </a:solidFill>
                <a:latin typeface="Times New Roman"/>
              </a:rPr>
              <a:t>agreement</a:t>
            </a:r>
            <a:r>
              <a:rPr b="0" lang="en-US" sz="2400" spc="-1" strike="noStrike">
                <a:solidFill>
                  <a:srgbClr val="000000"/>
                </a:solidFill>
                <a:latin typeface="Times New Roman"/>
              </a:rPr>
              <a:t> now is back to angles as great as 45 degrees or more </a:t>
            </a:r>
            <a:endParaRPr b="0" lang="en-US" sz="2400" spc="-1" strike="noStrike">
              <a:solidFill>
                <a:srgbClr val="000000"/>
              </a:solidFill>
              <a:latin typeface="Times New Roman"/>
            </a:endParaRPr>
          </a:p>
        </p:txBody>
      </p:sp>
      <p:pic>
        <p:nvPicPr>
          <p:cNvPr id="1684" name="" descr=""/>
          <p:cNvPicPr/>
          <p:nvPr/>
        </p:nvPicPr>
        <p:blipFill>
          <a:blip r:embed="rId1"/>
          <a:stretch/>
        </p:blipFill>
        <p:spPr>
          <a:xfrm>
            <a:off x="1371600" y="2133720"/>
            <a:ext cx="5973840" cy="4479840"/>
          </a:xfrm>
          <a:prstGeom prst="rect">
            <a:avLst/>
          </a:prstGeom>
          <a:ln w="0">
            <a:noFill/>
          </a:ln>
        </p:spPr>
      </p:pic>
      <p:sp>
        <p:nvSpPr>
          <p:cNvPr id="1685" name=""/>
          <p:cNvSpPr/>
          <p:nvPr/>
        </p:nvSpPr>
        <p:spPr>
          <a:xfrm>
            <a:off x="4800600" y="4876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133720" y="5486400"/>
            <a:ext cx="2666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1690" name=""/>
          <p:cNvSpPr/>
          <p:nvPr/>
        </p:nvSpPr>
        <p:spPr>
          <a:xfrm>
            <a:off x="245124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691" name=""/>
          <p:cNvSpPr/>
          <p:nvPr/>
        </p:nvSpPr>
        <p:spPr>
          <a:xfrm flipV="1">
            <a:off x="293832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2" name=""/>
          <p:cNvSpPr/>
          <p:nvPr/>
        </p:nvSpPr>
        <p:spPr>
          <a:xfrm>
            <a:off x="293832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3" name=""/>
          <p:cNvSpPr/>
          <p:nvPr/>
        </p:nvSpPr>
        <p:spPr>
          <a:xfrm>
            <a:off x="287496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694" name=""/>
          <p:cNvSpPr/>
          <p:nvPr/>
        </p:nvSpPr>
        <p:spPr>
          <a:xfrm flipV="1">
            <a:off x="336384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5" name=""/>
          <p:cNvSpPr/>
          <p:nvPr/>
        </p:nvSpPr>
        <p:spPr>
          <a:xfrm>
            <a:off x="336384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6" name=""/>
          <p:cNvSpPr/>
          <p:nvPr/>
        </p:nvSpPr>
        <p:spPr>
          <a:xfrm>
            <a:off x="329904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697" name=""/>
          <p:cNvSpPr/>
          <p:nvPr/>
        </p:nvSpPr>
        <p:spPr>
          <a:xfrm flipV="1">
            <a:off x="37926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8" name=""/>
          <p:cNvSpPr/>
          <p:nvPr/>
        </p:nvSpPr>
        <p:spPr>
          <a:xfrm>
            <a:off x="37926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9" name=""/>
          <p:cNvSpPr/>
          <p:nvPr/>
        </p:nvSpPr>
        <p:spPr>
          <a:xfrm>
            <a:off x="372924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700" name=""/>
          <p:cNvSpPr/>
          <p:nvPr/>
        </p:nvSpPr>
        <p:spPr>
          <a:xfrm flipV="1">
            <a:off x="421632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1" name=""/>
          <p:cNvSpPr/>
          <p:nvPr/>
        </p:nvSpPr>
        <p:spPr>
          <a:xfrm>
            <a:off x="421632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2" name=""/>
          <p:cNvSpPr/>
          <p:nvPr/>
        </p:nvSpPr>
        <p:spPr>
          <a:xfrm>
            <a:off x="415296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703" name=""/>
          <p:cNvSpPr/>
          <p:nvPr/>
        </p:nvSpPr>
        <p:spPr>
          <a:xfrm flipV="1">
            <a:off x="46404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4" name=""/>
          <p:cNvSpPr/>
          <p:nvPr/>
        </p:nvSpPr>
        <p:spPr>
          <a:xfrm>
            <a:off x="46404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5" name=""/>
          <p:cNvSpPr/>
          <p:nvPr/>
        </p:nvSpPr>
        <p:spPr>
          <a:xfrm>
            <a:off x="457704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706" name=""/>
          <p:cNvSpPr/>
          <p:nvPr/>
        </p:nvSpPr>
        <p:spPr>
          <a:xfrm flipV="1">
            <a:off x="50706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7" name=""/>
          <p:cNvSpPr/>
          <p:nvPr/>
        </p:nvSpPr>
        <p:spPr>
          <a:xfrm>
            <a:off x="50706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8" name=""/>
          <p:cNvSpPr/>
          <p:nvPr/>
        </p:nvSpPr>
        <p:spPr>
          <a:xfrm>
            <a:off x="500724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1709" name=""/>
          <p:cNvSpPr/>
          <p:nvPr/>
        </p:nvSpPr>
        <p:spPr>
          <a:xfrm flipV="1">
            <a:off x="549432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0" name=""/>
          <p:cNvSpPr/>
          <p:nvPr/>
        </p:nvSpPr>
        <p:spPr>
          <a:xfrm>
            <a:off x="5494320" y="3008160"/>
            <a:ext cx="14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1" name=""/>
          <p:cNvSpPr/>
          <p:nvPr/>
        </p:nvSpPr>
        <p:spPr>
          <a:xfrm>
            <a:off x="542952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712" name=""/>
          <p:cNvSpPr/>
          <p:nvPr/>
        </p:nvSpPr>
        <p:spPr>
          <a:xfrm>
            <a:off x="5859720" y="584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713" name=""/>
          <p:cNvSpPr/>
          <p:nvPr/>
        </p:nvSpPr>
        <p:spPr>
          <a:xfrm>
            <a:off x="2243160" y="5618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714" name=""/>
          <p:cNvSpPr/>
          <p:nvPr/>
        </p:nvSpPr>
        <p:spPr>
          <a:xfrm>
            <a:off x="2514600" y="54309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
          <p:cNvSpPr/>
          <p:nvPr/>
        </p:nvSpPr>
        <p:spPr>
          <a:xfrm flipH="1">
            <a:off x="5889240" y="5430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
          <p:cNvSpPr/>
          <p:nvPr/>
        </p:nvSpPr>
        <p:spPr>
          <a:xfrm>
            <a:off x="2243160" y="534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717" name=""/>
          <p:cNvSpPr/>
          <p:nvPr/>
        </p:nvSpPr>
        <p:spPr>
          <a:xfrm>
            <a:off x="2514600" y="51609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
          <p:cNvSpPr/>
          <p:nvPr/>
        </p:nvSpPr>
        <p:spPr>
          <a:xfrm flipH="1">
            <a:off x="5889240" y="5160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9" name=""/>
          <p:cNvSpPr/>
          <p:nvPr/>
        </p:nvSpPr>
        <p:spPr>
          <a:xfrm>
            <a:off x="2243160" y="50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720" name=""/>
          <p:cNvSpPr/>
          <p:nvPr/>
        </p:nvSpPr>
        <p:spPr>
          <a:xfrm>
            <a:off x="2514600" y="48927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flipH="1">
            <a:off x="5889240" y="48927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2" name=""/>
          <p:cNvSpPr/>
          <p:nvPr/>
        </p:nvSpPr>
        <p:spPr>
          <a:xfrm>
            <a:off x="2243160" y="4811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723" name=""/>
          <p:cNvSpPr/>
          <p:nvPr/>
        </p:nvSpPr>
        <p:spPr>
          <a:xfrm>
            <a:off x="2514600" y="4622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flipH="1">
            <a:off x="5889240" y="4622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2243160" y="4541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726" name=""/>
          <p:cNvSpPr/>
          <p:nvPr/>
        </p:nvSpPr>
        <p:spPr>
          <a:xfrm>
            <a:off x="2514600" y="4352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flipH="1">
            <a:off x="5889240" y="4352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2243160" y="427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1729" name=""/>
          <p:cNvSpPr/>
          <p:nvPr/>
        </p:nvSpPr>
        <p:spPr>
          <a:xfrm>
            <a:off x="2514600" y="40845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flipH="1">
            <a:off x="5889240" y="40845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1" name=""/>
          <p:cNvSpPr/>
          <p:nvPr/>
        </p:nvSpPr>
        <p:spPr>
          <a:xfrm>
            <a:off x="2243160" y="4003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732" name=""/>
          <p:cNvSpPr/>
          <p:nvPr/>
        </p:nvSpPr>
        <p:spPr>
          <a:xfrm>
            <a:off x="2514600" y="38149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flipH="1">
            <a:off x="5889240" y="38149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
          <p:cNvSpPr/>
          <p:nvPr/>
        </p:nvSpPr>
        <p:spPr>
          <a:xfrm>
            <a:off x="2243160" y="3733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735" name=""/>
          <p:cNvSpPr/>
          <p:nvPr/>
        </p:nvSpPr>
        <p:spPr>
          <a:xfrm>
            <a:off x="2514600" y="35463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flipH="1">
            <a:off x="5889240" y="35463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
          <p:cNvSpPr/>
          <p:nvPr/>
        </p:nvSpPr>
        <p:spPr>
          <a:xfrm>
            <a:off x="2243160" y="3465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738" name=""/>
          <p:cNvSpPr/>
          <p:nvPr/>
        </p:nvSpPr>
        <p:spPr>
          <a:xfrm>
            <a:off x="2514600" y="32767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flipH="1">
            <a:off x="5889240" y="32767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
          <p:cNvSpPr/>
          <p:nvPr/>
        </p:nvSpPr>
        <p:spPr>
          <a:xfrm>
            <a:off x="2243160" y="3195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1741" name=""/>
          <p:cNvSpPr/>
          <p:nvPr/>
        </p:nvSpPr>
        <p:spPr>
          <a:xfrm>
            <a:off x="2243160" y="2927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742" name=""/>
          <p:cNvSpPr/>
          <p:nvPr/>
        </p:nvSpPr>
        <p:spPr>
          <a:xfrm>
            <a:off x="2514600" y="3276720"/>
            <a:ext cx="3409920" cy="2154240"/>
          </a:xfrm>
          <a:custGeom>
            <a:avLst/>
            <a:gdLst/>
            <a:ahLst/>
            <a:rect l="l" t="t" r="r" b="b"/>
            <a:pathLst>
              <a:path w="2148" h="1357">
                <a:moveTo>
                  <a:pt x="0" y="1357"/>
                </a:moveTo>
                <a:lnTo>
                  <a:pt x="134" y="1357"/>
                </a:lnTo>
                <a:lnTo>
                  <a:pt x="267" y="1357"/>
                </a:lnTo>
                <a:lnTo>
                  <a:pt x="401" y="1187"/>
                </a:lnTo>
                <a:lnTo>
                  <a:pt x="535" y="1187"/>
                </a:lnTo>
                <a:lnTo>
                  <a:pt x="668" y="1187"/>
                </a:lnTo>
                <a:lnTo>
                  <a:pt x="805" y="1187"/>
                </a:lnTo>
                <a:lnTo>
                  <a:pt x="939" y="1187"/>
                </a:lnTo>
                <a:lnTo>
                  <a:pt x="1072" y="339"/>
                </a:lnTo>
                <a:lnTo>
                  <a:pt x="1206" y="339"/>
                </a:lnTo>
                <a:lnTo>
                  <a:pt x="1339" y="339"/>
                </a:lnTo>
                <a:lnTo>
                  <a:pt x="1476" y="339"/>
                </a:lnTo>
                <a:lnTo>
                  <a:pt x="1610" y="339"/>
                </a:lnTo>
                <a:lnTo>
                  <a:pt x="1743" y="0"/>
                </a:lnTo>
                <a:lnTo>
                  <a:pt x="1877" y="0"/>
                </a:lnTo>
                <a:lnTo>
                  <a:pt x="2011" y="0"/>
                </a:lnTo>
                <a:lnTo>
                  <a:pt x="214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972880" y="6297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000000"/>
              </a:solidFill>
              <a:latin typeface="Times New Roman"/>
            </a:endParaRPr>
          </a:p>
        </p:txBody>
      </p:sp>
      <p:sp>
        <p:nvSpPr>
          <p:cNvPr id="1744" name=""/>
          <p:cNvSpPr/>
          <p:nvPr/>
        </p:nvSpPr>
        <p:spPr>
          <a:xfrm rot="16200000">
            <a:off x="355680" y="4267800"/>
            <a:ext cx="291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incident angle, degrees</a:t>
            </a:r>
            <a:endParaRPr b="0" lang="en-US" sz="1800" spc="-1" strike="noStrike">
              <a:solidFill>
                <a:srgbClr val="000000"/>
              </a:solidFill>
              <a:latin typeface="Times New Roman"/>
            </a:endParaRPr>
          </a:p>
        </p:txBody>
      </p:sp>
      <p:sp>
        <p:nvSpPr>
          <p:cNvPr id="1745" name=""/>
          <p:cNvSpPr/>
          <p:nvPr/>
        </p:nvSpPr>
        <p:spPr>
          <a:xfrm>
            <a:off x="2513160" y="3000240"/>
            <a:ext cx="3409920" cy="270036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V="1">
            <a:off x="293832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7" name=""/>
          <p:cNvSpPr/>
          <p:nvPr/>
        </p:nvSpPr>
        <p:spPr>
          <a:xfrm>
            <a:off x="293832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8" name=""/>
          <p:cNvSpPr/>
          <p:nvPr/>
        </p:nvSpPr>
        <p:spPr>
          <a:xfrm flipV="1">
            <a:off x="336384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9" name=""/>
          <p:cNvSpPr/>
          <p:nvPr/>
        </p:nvSpPr>
        <p:spPr>
          <a:xfrm>
            <a:off x="336384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0" name=""/>
          <p:cNvSpPr/>
          <p:nvPr/>
        </p:nvSpPr>
        <p:spPr>
          <a:xfrm flipV="1">
            <a:off x="37926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1" name=""/>
          <p:cNvSpPr/>
          <p:nvPr/>
        </p:nvSpPr>
        <p:spPr>
          <a:xfrm>
            <a:off x="37926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2" name=""/>
          <p:cNvSpPr/>
          <p:nvPr/>
        </p:nvSpPr>
        <p:spPr>
          <a:xfrm flipV="1">
            <a:off x="4216320" y="566532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3" name=""/>
          <p:cNvSpPr/>
          <p:nvPr/>
        </p:nvSpPr>
        <p:spPr>
          <a:xfrm>
            <a:off x="4216320" y="30067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4" name=""/>
          <p:cNvSpPr/>
          <p:nvPr/>
        </p:nvSpPr>
        <p:spPr>
          <a:xfrm flipV="1">
            <a:off x="46404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5" name=""/>
          <p:cNvSpPr/>
          <p:nvPr/>
        </p:nvSpPr>
        <p:spPr>
          <a:xfrm>
            <a:off x="46404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6" name=""/>
          <p:cNvSpPr/>
          <p:nvPr/>
        </p:nvSpPr>
        <p:spPr>
          <a:xfrm flipV="1">
            <a:off x="507060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7" name=""/>
          <p:cNvSpPr/>
          <p:nvPr/>
        </p:nvSpPr>
        <p:spPr>
          <a:xfrm>
            <a:off x="5070600" y="300672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8" name=""/>
          <p:cNvSpPr/>
          <p:nvPr/>
        </p:nvSpPr>
        <p:spPr>
          <a:xfrm flipV="1">
            <a:off x="5494320" y="566532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9" name=""/>
          <p:cNvSpPr/>
          <p:nvPr/>
        </p:nvSpPr>
        <p:spPr>
          <a:xfrm>
            <a:off x="5494320" y="3008160"/>
            <a:ext cx="14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0" name=""/>
          <p:cNvSpPr/>
          <p:nvPr/>
        </p:nvSpPr>
        <p:spPr>
          <a:xfrm>
            <a:off x="2514600" y="54309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flipH="1">
            <a:off x="5889240" y="5430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2514600" y="51609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
          <p:cNvSpPr/>
          <p:nvPr/>
        </p:nvSpPr>
        <p:spPr>
          <a:xfrm flipH="1">
            <a:off x="5889240" y="5160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a:off x="2514600" y="489276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
          <p:cNvSpPr/>
          <p:nvPr/>
        </p:nvSpPr>
        <p:spPr>
          <a:xfrm flipH="1">
            <a:off x="5889240" y="48927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2514600" y="4622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
          <p:cNvSpPr/>
          <p:nvPr/>
        </p:nvSpPr>
        <p:spPr>
          <a:xfrm flipH="1">
            <a:off x="5889240" y="4622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8" name=""/>
          <p:cNvSpPr/>
          <p:nvPr/>
        </p:nvSpPr>
        <p:spPr>
          <a:xfrm>
            <a:off x="2514600" y="4352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
          <p:cNvSpPr/>
          <p:nvPr/>
        </p:nvSpPr>
        <p:spPr>
          <a:xfrm flipH="1">
            <a:off x="5889240" y="4352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0" name=""/>
          <p:cNvSpPr/>
          <p:nvPr/>
        </p:nvSpPr>
        <p:spPr>
          <a:xfrm>
            <a:off x="2514600" y="40845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flipH="1">
            <a:off x="5889240" y="40845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2" name=""/>
          <p:cNvSpPr/>
          <p:nvPr/>
        </p:nvSpPr>
        <p:spPr>
          <a:xfrm>
            <a:off x="2514600" y="38149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
          <p:cNvSpPr/>
          <p:nvPr/>
        </p:nvSpPr>
        <p:spPr>
          <a:xfrm flipH="1">
            <a:off x="5889240" y="38149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
          <p:cNvSpPr/>
          <p:nvPr/>
        </p:nvSpPr>
        <p:spPr>
          <a:xfrm>
            <a:off x="2514600" y="35463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5" name=""/>
          <p:cNvSpPr/>
          <p:nvPr/>
        </p:nvSpPr>
        <p:spPr>
          <a:xfrm flipH="1">
            <a:off x="5889240" y="35463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
          <p:cNvSpPr/>
          <p:nvPr/>
        </p:nvSpPr>
        <p:spPr>
          <a:xfrm>
            <a:off x="2514600" y="32767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7" name=""/>
          <p:cNvSpPr/>
          <p:nvPr/>
        </p:nvSpPr>
        <p:spPr>
          <a:xfrm flipH="1">
            <a:off x="5889240" y="32767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8" name=""/>
          <p:cNvSpPr/>
          <p:nvPr/>
        </p:nvSpPr>
        <p:spPr>
          <a:xfrm>
            <a:off x="2514600" y="3276720"/>
            <a:ext cx="3409920" cy="2154240"/>
          </a:xfrm>
          <a:custGeom>
            <a:avLst/>
            <a:gdLst/>
            <a:ahLst/>
            <a:rect l="l" t="t" r="r" b="b"/>
            <a:pathLst>
              <a:path w="2148" h="1357">
                <a:moveTo>
                  <a:pt x="0" y="1357"/>
                </a:moveTo>
                <a:lnTo>
                  <a:pt x="134" y="1357"/>
                </a:lnTo>
                <a:lnTo>
                  <a:pt x="267" y="1357"/>
                </a:lnTo>
                <a:lnTo>
                  <a:pt x="401" y="1187"/>
                </a:lnTo>
                <a:lnTo>
                  <a:pt x="535" y="1187"/>
                </a:lnTo>
                <a:lnTo>
                  <a:pt x="668" y="1187"/>
                </a:lnTo>
                <a:lnTo>
                  <a:pt x="805" y="1187"/>
                </a:lnTo>
                <a:lnTo>
                  <a:pt x="939" y="1187"/>
                </a:lnTo>
                <a:lnTo>
                  <a:pt x="1072" y="339"/>
                </a:lnTo>
                <a:lnTo>
                  <a:pt x="1206" y="339"/>
                </a:lnTo>
                <a:lnTo>
                  <a:pt x="1339" y="339"/>
                </a:lnTo>
                <a:lnTo>
                  <a:pt x="1476" y="339"/>
                </a:lnTo>
                <a:lnTo>
                  <a:pt x="1610" y="339"/>
                </a:lnTo>
                <a:lnTo>
                  <a:pt x="1743" y="0"/>
                </a:lnTo>
                <a:lnTo>
                  <a:pt x="1877" y="0"/>
                </a:lnTo>
                <a:lnTo>
                  <a:pt x="2011" y="0"/>
                </a:lnTo>
                <a:lnTo>
                  <a:pt x="2148"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513160" y="3000240"/>
            <a:ext cx="3409920" cy="270036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46280" y="879480"/>
            <a:ext cx="7635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cident angle where the peak-to-peak time domain agreement between the Kirchhoff approximation  and the exact solution for a circular crack is less than 1 dB for ka =5.0 (other ka values shown same trend).</a:t>
            </a:r>
            <a:endParaRPr b="0" lang="en-US" sz="2400" spc="-1" strike="noStrike">
              <a:solidFill>
                <a:srgbClr val="000000"/>
              </a:solidFill>
              <a:latin typeface="Times New Roman"/>
            </a:endParaRPr>
          </a:p>
        </p:txBody>
      </p:sp>
      <p:sp>
        <p:nvSpPr>
          <p:cNvPr id="1781" name=""/>
          <p:cNvSpPr/>
          <p:nvPr/>
        </p:nvSpPr>
        <p:spPr>
          <a:xfrm>
            <a:off x="3182760" y="28908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Cr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5410080" y="5791320"/>
          <a:ext cx="1600200" cy="834840"/>
        </p:xfrm>
        <a:graphic>
          <a:graphicData uri="http://schemas.openxmlformats.org/presentationml/2006/ole">
            <p:oleObj r:id="rId1" spid="">
              <p:embed/>
              <p:pic>
                <p:nvPicPr>
                  <p:cNvPr id="77" name="" descr=""/>
                  <p:cNvPicPr/>
                  <p:nvPr/>
                </p:nvPicPr>
                <p:blipFill>
                  <a:blip r:embed="rId2"/>
                  <a:stretch/>
                </p:blipFill>
                <p:spPr>
                  <a:xfrm>
                    <a:off x="5410080" y="5791320"/>
                    <a:ext cx="1600200" cy="834840"/>
                  </a:xfrm>
                  <a:prstGeom prst="rect">
                    <a:avLst/>
                  </a:prstGeom>
                  <a:ln w="0">
                    <a:noFill/>
                  </a:ln>
                </p:spPr>
              </p:pic>
            </p:oleObj>
          </a:graphicData>
        </a:graphic>
      </p:graphicFrame>
      <p:graphicFrame>
        <p:nvGraphicFramePr>
          <p:cNvPr id="78" name=""/>
          <p:cNvGraphicFramePr/>
          <p:nvPr/>
        </p:nvGraphicFramePr>
        <p:xfrm>
          <a:off x="304920" y="4876920"/>
          <a:ext cx="7772400" cy="1055520"/>
        </p:xfrm>
        <a:graphic>
          <a:graphicData uri="http://schemas.openxmlformats.org/presentationml/2006/ole">
            <p:oleObj r:id="rId3" spid="">
              <p:embed/>
              <p:pic>
                <p:nvPicPr>
                  <p:cNvPr id="79" name="" descr=""/>
                  <p:cNvPicPr/>
                  <p:nvPr/>
                </p:nvPicPr>
                <p:blipFill>
                  <a:blip r:embed="rId4"/>
                  <a:stretch/>
                </p:blipFill>
                <p:spPr>
                  <a:xfrm>
                    <a:off x="304920" y="4876920"/>
                    <a:ext cx="7772400" cy="1055520"/>
                  </a:xfrm>
                  <a:prstGeom prst="rect">
                    <a:avLst/>
                  </a:prstGeom>
                  <a:ln w="0">
                    <a:noFill/>
                  </a:ln>
                </p:spPr>
              </p:pic>
            </p:oleObj>
          </a:graphicData>
        </a:graphic>
      </p:graphicFrame>
      <p:sp>
        <p:nvSpPr>
          <p:cNvPr id="80" name=""/>
          <p:cNvSpPr/>
          <p:nvPr/>
        </p:nvSpPr>
        <p:spPr>
          <a:xfrm>
            <a:off x="675720" y="4267080"/>
            <a:ext cx="65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 wave far field scattering amplitude of the flaw</a:t>
            </a:r>
            <a:endParaRPr b="0" lang="en-US" sz="2400" spc="-1" strike="noStrike">
              <a:solidFill>
                <a:srgbClr val="000000"/>
              </a:solidFill>
              <a:latin typeface="Times New Roman"/>
            </a:endParaRPr>
          </a:p>
        </p:txBody>
      </p:sp>
      <p:sp>
        <p:nvSpPr>
          <p:cNvPr id="81"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8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2202120" y="1371600"/>
            <a:ext cx="3531960" cy="2440800"/>
            <a:chOff x="2202120" y="1371600"/>
            <a:chExt cx="3531960" cy="2440800"/>
          </a:xfrm>
        </p:grpSpPr>
        <p:sp>
          <p:nvSpPr>
            <p:cNvPr id="84" name=""/>
            <p:cNvSpPr/>
            <p:nvPr/>
          </p:nvSpPr>
          <p:spPr>
            <a:xfrm>
              <a:off x="3429000" y="1752480"/>
              <a:ext cx="1828800" cy="18288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9416000">
              <a:off x="4038120" y="2514600"/>
              <a:ext cx="61272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343400" y="2362320"/>
              <a:ext cx="83808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43400" y="2362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343400" y="2666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4190760" y="2666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245200" y="2160360"/>
              <a:ext cx="48888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731120" y="2514600"/>
              <a:ext cx="351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92" name=""/>
            <p:cNvSpPr/>
            <p:nvPr/>
          </p:nvSpPr>
          <p:spPr>
            <a:xfrm>
              <a:off x="5264280" y="167652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93" name=""/>
            <p:cNvSpPr/>
            <p:nvPr/>
          </p:nvSpPr>
          <p:spPr>
            <a:xfrm>
              <a:off x="4368960" y="2778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4" name=""/>
            <p:cNvSpPr/>
            <p:nvPr/>
          </p:nvSpPr>
          <p:spPr>
            <a:xfrm>
              <a:off x="5160960" y="231444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5" name=""/>
            <p:cNvSpPr/>
            <p:nvPr/>
          </p:nvSpPr>
          <p:spPr>
            <a:xfrm>
              <a:off x="4167720" y="2747880"/>
              <a:ext cx="401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96" name=""/>
            <p:cNvSpPr/>
            <p:nvPr/>
          </p:nvSpPr>
          <p:spPr>
            <a:xfrm>
              <a:off x="5235840" y="2249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97" name=""/>
            <p:cNvSpPr/>
            <p:nvPr/>
          </p:nvSpPr>
          <p:spPr>
            <a:xfrm>
              <a:off x="4419720" y="2819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50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9" name=""/>
            <p:cNvSpPr/>
            <p:nvPr/>
          </p:nvSpPr>
          <p:spPr>
            <a:xfrm>
              <a:off x="3201480" y="33526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w</a:t>
              </a:r>
              <a:endParaRPr b="0" lang="en-US" sz="2400" spc="-1" strike="noStrike">
                <a:solidFill>
                  <a:srgbClr val="000000"/>
                </a:solidFill>
                <a:latin typeface="Times New Roman"/>
              </a:endParaRPr>
            </a:p>
          </p:txBody>
        </p:sp>
        <p:sp>
          <p:nvSpPr>
            <p:cNvPr id="100" name=""/>
            <p:cNvSpPr/>
            <p:nvPr/>
          </p:nvSpPr>
          <p:spPr>
            <a:xfrm flipV="1">
              <a:off x="3581280" y="28954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2590560" y="1371600"/>
              <a:ext cx="6858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43200" y="19051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05800" y="1676520"/>
              <a:ext cx="36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04" name=""/>
            <p:cNvSpPr/>
            <p:nvPr/>
          </p:nvSpPr>
          <p:spPr>
            <a:xfrm>
              <a:off x="2202120" y="1660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05" name=""/>
          <p:cNvSpPr/>
          <p:nvPr/>
        </p:nvSpPr>
        <p:spPr>
          <a:xfrm>
            <a:off x="592200" y="1279440"/>
            <a:ext cx="191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dent pla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a:t>
            </a:r>
            <a:endParaRPr b="0" lang="en-US" sz="2400" spc="-1" strike="noStrike">
              <a:solidFill>
                <a:srgbClr val="000000"/>
              </a:solidFill>
              <a:latin typeface="Times New Roman"/>
            </a:endParaRPr>
          </a:p>
        </p:txBody>
      </p:sp>
      <p:sp>
        <p:nvSpPr>
          <p:cNvPr id="106" name=""/>
          <p:cNvSpPr/>
          <p:nvPr/>
        </p:nvSpPr>
        <p:spPr>
          <a:xfrm>
            <a:off x="753480" y="3032280"/>
            <a:ext cx="18968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pre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tude</a:t>
            </a:r>
            <a:endParaRPr b="0" lang="en-US" sz="2400" spc="-1" strike="noStrike">
              <a:solidFill>
                <a:srgbClr val="000000"/>
              </a:solidFill>
              <a:latin typeface="Times New Roman"/>
            </a:endParaRPr>
          </a:p>
        </p:txBody>
      </p:sp>
      <p:sp>
        <p:nvSpPr>
          <p:cNvPr id="107" name=""/>
          <p:cNvSpPr/>
          <p:nvPr/>
        </p:nvSpPr>
        <p:spPr>
          <a:xfrm>
            <a:off x="3505320" y="9907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127160" y="1109520"/>
            <a:ext cx="69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approximation for pulse-echo scattering of a side-drilled hole (incident direction in plane perpendicular to the hole axis)</a:t>
            </a:r>
            <a:endParaRPr b="0" lang="en-US" sz="2400" spc="-1" strike="noStrike">
              <a:solidFill>
                <a:srgbClr val="000000"/>
              </a:solidFill>
              <a:latin typeface="Times New Roman"/>
            </a:endParaRPr>
          </a:p>
        </p:txBody>
      </p:sp>
      <p:sp>
        <p:nvSpPr>
          <p:cNvPr id="178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5" name=""/>
          <p:cNvGraphicFramePr/>
          <p:nvPr/>
        </p:nvGraphicFramePr>
        <p:xfrm>
          <a:off x="1066680" y="4876920"/>
          <a:ext cx="6782040" cy="828720"/>
        </p:xfrm>
        <a:graphic>
          <a:graphicData uri="http://schemas.openxmlformats.org/presentationml/2006/ole">
            <p:oleObj r:id="rId1" spid="">
              <p:embed/>
              <p:pic>
                <p:nvPicPr>
                  <p:cNvPr id="1786" name="" descr=""/>
                  <p:cNvPicPr/>
                  <p:nvPr/>
                </p:nvPicPr>
                <p:blipFill>
                  <a:blip r:embed="rId2"/>
                  <a:stretch/>
                </p:blipFill>
                <p:spPr>
                  <a:xfrm>
                    <a:off x="1066680" y="4876920"/>
                    <a:ext cx="6782040" cy="828720"/>
                  </a:xfrm>
                  <a:prstGeom prst="rect">
                    <a:avLst/>
                  </a:prstGeom>
                  <a:ln w="0">
                    <a:noFill/>
                  </a:ln>
                </p:spPr>
              </p:pic>
            </p:oleObj>
          </a:graphicData>
        </a:graphic>
      </p:graphicFrame>
      <p:sp>
        <p:nvSpPr>
          <p:cNvPr id="1787" name=""/>
          <p:cNvSpPr/>
          <p:nvPr/>
        </p:nvSpPr>
        <p:spPr>
          <a:xfrm rot="12866400">
            <a:off x="4419360" y="3047760"/>
            <a:ext cx="304560" cy="10666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26080" y="35053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789" name=""/>
          <p:cNvSpPr/>
          <p:nvPr/>
        </p:nvSpPr>
        <p:spPr>
          <a:xfrm>
            <a:off x="419112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49568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91120" y="411480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115880" y="4267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b</a:t>
            </a:r>
            <a:endParaRPr b="0" lang="en-US" sz="1600" spc="-1" strike="noStrike">
              <a:solidFill>
                <a:srgbClr val="000000"/>
              </a:solidFill>
              <a:latin typeface="Times New Roman"/>
            </a:endParaRPr>
          </a:p>
        </p:txBody>
      </p:sp>
      <p:sp>
        <p:nvSpPr>
          <p:cNvPr id="1793" name=""/>
          <p:cNvSpPr/>
          <p:nvPr/>
        </p:nvSpPr>
        <p:spPr>
          <a:xfrm>
            <a:off x="3352680" y="289548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H="1" flipV="1">
            <a:off x="3276360" y="29718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95" name=""/>
          <p:cNvGraphicFramePr/>
          <p:nvPr/>
        </p:nvGraphicFramePr>
        <p:xfrm>
          <a:off x="3657600" y="2666880"/>
          <a:ext cx="352440" cy="478080"/>
        </p:xfrm>
        <a:graphic>
          <a:graphicData uri="http://schemas.openxmlformats.org/presentationml/2006/ole">
            <p:oleObj r:id="rId3" spid="">
              <p:embed/>
              <p:pic>
                <p:nvPicPr>
                  <p:cNvPr id="1796" name="" descr=""/>
                  <p:cNvPicPr/>
                  <p:nvPr/>
                </p:nvPicPr>
                <p:blipFill>
                  <a:blip r:embed="rId4"/>
                  <a:stretch/>
                </p:blipFill>
                <p:spPr>
                  <a:xfrm>
                    <a:off x="3657600" y="2666880"/>
                    <a:ext cx="352440" cy="478080"/>
                  </a:xfrm>
                  <a:prstGeom prst="rect">
                    <a:avLst/>
                  </a:prstGeom>
                  <a:ln w="0">
                    <a:noFill/>
                  </a:ln>
                </p:spPr>
              </p:pic>
            </p:oleObj>
          </a:graphicData>
        </a:graphic>
      </p:graphicFrame>
      <p:sp>
        <p:nvSpPr>
          <p:cNvPr id="1797" name=""/>
          <p:cNvSpPr/>
          <p:nvPr/>
        </p:nvSpPr>
        <p:spPr>
          <a:xfrm flipV="1">
            <a:off x="43434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2818440" y="594360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sel function</a:t>
            </a:r>
            <a:endParaRPr b="0" lang="en-US" sz="2400" spc="-1" strike="noStrike">
              <a:solidFill>
                <a:srgbClr val="000000"/>
              </a:solidFill>
              <a:latin typeface="Times New Roman"/>
            </a:endParaRPr>
          </a:p>
        </p:txBody>
      </p:sp>
      <p:sp>
        <p:nvSpPr>
          <p:cNvPr id="1799" name=""/>
          <p:cNvSpPr/>
          <p:nvPr/>
        </p:nvSpPr>
        <p:spPr>
          <a:xfrm flipV="1">
            <a:off x="563868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5317200" y="59101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ve function</a:t>
            </a:r>
            <a:endParaRPr b="0" lang="en-US" sz="2400" spc="-1" strike="noStrike">
              <a:solidFill>
                <a:srgbClr val="000000"/>
              </a:solidFill>
              <a:latin typeface="Times New Roman"/>
            </a:endParaRPr>
          </a:p>
        </p:txBody>
      </p:sp>
      <p:sp>
        <p:nvSpPr>
          <p:cNvPr id="1801" name=""/>
          <p:cNvSpPr/>
          <p:nvPr/>
        </p:nvSpPr>
        <p:spPr>
          <a:xfrm>
            <a:off x="3184920" y="2890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D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3" name=""/>
          <p:cNvSpPr/>
          <p:nvPr/>
        </p:nvSpPr>
        <p:spPr>
          <a:xfrm>
            <a:off x="3184920" y="2890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DH</a:t>
            </a:r>
            <a:endParaRPr b="0" lang="en-US" sz="2400" spc="-1" strike="noStrike">
              <a:solidFill>
                <a:srgbClr val="000000"/>
              </a:solidFill>
              <a:latin typeface="Times New Roman"/>
            </a:endParaRPr>
          </a:p>
        </p:txBody>
      </p:sp>
      <p:sp>
        <p:nvSpPr>
          <p:cNvPr id="180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1195920" y="1109520"/>
            <a:ext cx="648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exact 2-D separation of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for P-waves (pulse-echo)</a:t>
            </a:r>
            <a:endParaRPr b="0" lang="en-US" sz="2400" spc="-1" strike="noStrike">
              <a:solidFill>
                <a:srgbClr val="000000"/>
              </a:solidFill>
              <a:latin typeface="Times New Roman"/>
            </a:endParaRPr>
          </a:p>
        </p:txBody>
      </p:sp>
      <p:sp>
        <p:nvSpPr>
          <p:cNvPr id="1806" name=""/>
          <p:cNvSpPr/>
          <p:nvPr/>
        </p:nvSpPr>
        <p:spPr>
          <a:xfrm>
            <a:off x="1447920" y="5867280"/>
            <a:ext cx="7010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dimensional normalized pulse-echo P-wave scattering amplitude versus normalized wave number for a side drilled hole in the Kirchhoff approximation (solid line) and from the exact two-dimensional separation of variables solution (dashed line).</a:t>
            </a:r>
            <a:endParaRPr b="0" lang="en-US" sz="1200" spc="-1" strike="noStrike">
              <a:solidFill>
                <a:srgbClr val="000000"/>
              </a:solidFill>
              <a:latin typeface="Times New Roman"/>
            </a:endParaRPr>
          </a:p>
        </p:txBody>
      </p:sp>
      <p:sp>
        <p:nvSpPr>
          <p:cNvPr id="1807" name=""/>
          <p:cNvSpPr/>
          <p:nvPr/>
        </p:nvSpPr>
        <p:spPr>
          <a:xfrm>
            <a:off x="2701800" y="2209680"/>
            <a:ext cx="4019760" cy="303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2701800" y="2209680"/>
            <a:ext cx="4019760" cy="30355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701800" y="2209680"/>
            <a:ext cx="40197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1" name=""/>
          <p:cNvSpPr/>
          <p:nvPr/>
        </p:nvSpPr>
        <p:spPr>
          <a:xfrm flipV="1">
            <a:off x="6721560" y="2209680"/>
            <a:ext cx="144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4"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2701800" y="5199120"/>
            <a:ext cx="180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6" name=""/>
          <p:cNvSpPr/>
          <p:nvPr/>
        </p:nvSpPr>
        <p:spPr>
          <a:xfrm>
            <a:off x="2701800" y="2209680"/>
            <a:ext cx="180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7" name=""/>
          <p:cNvSpPr/>
          <p:nvPr/>
        </p:nvSpPr>
        <p:spPr>
          <a:xfrm>
            <a:off x="26647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18" name=""/>
          <p:cNvSpPr/>
          <p:nvPr/>
        </p:nvSpPr>
        <p:spPr>
          <a:xfrm flipV="1">
            <a:off x="34974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9" name=""/>
          <p:cNvSpPr/>
          <p:nvPr/>
        </p:nvSpPr>
        <p:spPr>
          <a:xfrm>
            <a:off x="34974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0" name=""/>
          <p:cNvSpPr/>
          <p:nvPr/>
        </p:nvSpPr>
        <p:spPr>
          <a:xfrm>
            <a:off x="346140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21" name=""/>
          <p:cNvSpPr/>
          <p:nvPr/>
        </p:nvSpPr>
        <p:spPr>
          <a:xfrm flipV="1">
            <a:off x="43038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2" name=""/>
          <p:cNvSpPr/>
          <p:nvPr/>
        </p:nvSpPr>
        <p:spPr>
          <a:xfrm>
            <a:off x="43038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3" name=""/>
          <p:cNvSpPr/>
          <p:nvPr/>
        </p:nvSpPr>
        <p:spPr>
          <a:xfrm>
            <a:off x="426780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24" name=""/>
          <p:cNvSpPr/>
          <p:nvPr/>
        </p:nvSpPr>
        <p:spPr>
          <a:xfrm flipV="1">
            <a:off x="51102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5" name=""/>
          <p:cNvSpPr/>
          <p:nvPr/>
        </p:nvSpPr>
        <p:spPr>
          <a:xfrm>
            <a:off x="51102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6" name=""/>
          <p:cNvSpPr/>
          <p:nvPr/>
        </p:nvSpPr>
        <p:spPr>
          <a:xfrm>
            <a:off x="50713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27" name=""/>
          <p:cNvSpPr/>
          <p:nvPr/>
        </p:nvSpPr>
        <p:spPr>
          <a:xfrm flipV="1">
            <a:off x="591516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8" name=""/>
          <p:cNvSpPr/>
          <p:nvPr/>
        </p:nvSpPr>
        <p:spPr>
          <a:xfrm>
            <a:off x="591516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9" name=""/>
          <p:cNvSpPr/>
          <p:nvPr/>
        </p:nvSpPr>
        <p:spPr>
          <a:xfrm>
            <a:off x="58777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830" name=""/>
          <p:cNvSpPr/>
          <p:nvPr/>
        </p:nvSpPr>
        <p:spPr>
          <a:xfrm flipV="1">
            <a:off x="672156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1" name=""/>
          <p:cNvSpPr/>
          <p:nvPr/>
        </p:nvSpPr>
        <p:spPr>
          <a:xfrm>
            <a:off x="672156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2" name=""/>
          <p:cNvSpPr/>
          <p:nvPr/>
        </p:nvSpPr>
        <p:spPr>
          <a:xfrm>
            <a:off x="6645600" y="5313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833" name=""/>
          <p:cNvSpPr/>
          <p:nvPr/>
        </p:nvSpPr>
        <p:spPr>
          <a:xfrm>
            <a:off x="2701800" y="52452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4" name=""/>
          <p:cNvSpPr/>
          <p:nvPr/>
        </p:nvSpPr>
        <p:spPr>
          <a:xfrm flipH="1">
            <a:off x="6673320" y="524520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a:off x="2507400" y="517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36" name=""/>
          <p:cNvSpPr/>
          <p:nvPr/>
        </p:nvSpPr>
        <p:spPr>
          <a:xfrm>
            <a:off x="2701800" y="49086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7" name=""/>
          <p:cNvSpPr/>
          <p:nvPr/>
        </p:nvSpPr>
        <p:spPr>
          <a:xfrm flipH="1">
            <a:off x="6673320" y="490860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8" name=""/>
          <p:cNvSpPr/>
          <p:nvPr/>
        </p:nvSpPr>
        <p:spPr>
          <a:xfrm>
            <a:off x="2395800" y="4842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839" name=""/>
          <p:cNvSpPr/>
          <p:nvPr/>
        </p:nvSpPr>
        <p:spPr>
          <a:xfrm>
            <a:off x="2701800" y="45705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flipH="1">
            <a:off x="6673320" y="457056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2395800" y="4505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842" name=""/>
          <p:cNvSpPr/>
          <p:nvPr/>
        </p:nvSpPr>
        <p:spPr>
          <a:xfrm>
            <a:off x="2701800" y="4233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flipH="1">
            <a:off x="6673320" y="423396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2395800" y="4167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1845" name=""/>
          <p:cNvSpPr/>
          <p:nvPr/>
        </p:nvSpPr>
        <p:spPr>
          <a:xfrm>
            <a:off x="2701800" y="38955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6" name=""/>
          <p:cNvSpPr/>
          <p:nvPr/>
        </p:nvSpPr>
        <p:spPr>
          <a:xfrm flipH="1">
            <a:off x="6673320" y="389556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7" name=""/>
          <p:cNvSpPr/>
          <p:nvPr/>
        </p:nvSpPr>
        <p:spPr>
          <a:xfrm>
            <a:off x="2395800" y="3830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1848" name=""/>
          <p:cNvSpPr/>
          <p:nvPr/>
        </p:nvSpPr>
        <p:spPr>
          <a:xfrm>
            <a:off x="2701800" y="35593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flipH="1">
            <a:off x="6673320" y="355932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a:off x="2395800" y="349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1851" name=""/>
          <p:cNvSpPr/>
          <p:nvPr/>
        </p:nvSpPr>
        <p:spPr>
          <a:xfrm>
            <a:off x="2701800" y="321300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flipH="1">
            <a:off x="6673320" y="321300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3" name=""/>
          <p:cNvSpPr/>
          <p:nvPr/>
        </p:nvSpPr>
        <p:spPr>
          <a:xfrm>
            <a:off x="2395800" y="3147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854" name=""/>
          <p:cNvSpPr/>
          <p:nvPr/>
        </p:nvSpPr>
        <p:spPr>
          <a:xfrm>
            <a:off x="2701800" y="28861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flipH="1">
            <a:off x="6673320" y="288612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2395800" y="28195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857" name=""/>
          <p:cNvSpPr/>
          <p:nvPr/>
        </p:nvSpPr>
        <p:spPr>
          <a:xfrm>
            <a:off x="2701800" y="25480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8" name=""/>
          <p:cNvSpPr/>
          <p:nvPr/>
        </p:nvSpPr>
        <p:spPr>
          <a:xfrm flipH="1">
            <a:off x="6673320" y="254808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9" name=""/>
          <p:cNvSpPr/>
          <p:nvPr/>
        </p:nvSpPr>
        <p:spPr>
          <a:xfrm>
            <a:off x="2395800" y="2481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860" name=""/>
          <p:cNvSpPr/>
          <p:nvPr/>
        </p:nvSpPr>
        <p:spPr>
          <a:xfrm>
            <a:off x="2701800" y="220968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flipH="1">
            <a:off x="6673320" y="220968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2" name=""/>
          <p:cNvSpPr/>
          <p:nvPr/>
        </p:nvSpPr>
        <p:spPr>
          <a:xfrm>
            <a:off x="2395800" y="2144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863" name=""/>
          <p:cNvSpPr/>
          <p:nvPr/>
        </p:nvSpPr>
        <p:spPr>
          <a:xfrm>
            <a:off x="2701800" y="2209680"/>
            <a:ext cx="40197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V="1">
            <a:off x="6721560" y="2209680"/>
            <a:ext cx="144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701800" y="3673440"/>
            <a:ext cx="1046160" cy="1571760"/>
          </a:xfrm>
          <a:custGeom>
            <a:avLst/>
            <a:gdLst/>
            <a:ahLst/>
            <a:rect l="l" t="t" r="r" b="b"/>
            <a:pathLst>
              <a:path w="659" h="990">
                <a:moveTo>
                  <a:pt x="0" y="990"/>
                </a:moveTo>
                <a:lnTo>
                  <a:pt x="0" y="973"/>
                </a:lnTo>
                <a:lnTo>
                  <a:pt x="6" y="961"/>
                </a:lnTo>
                <a:lnTo>
                  <a:pt x="11" y="945"/>
                </a:lnTo>
                <a:lnTo>
                  <a:pt x="17" y="933"/>
                </a:lnTo>
                <a:lnTo>
                  <a:pt x="23" y="923"/>
                </a:lnTo>
                <a:lnTo>
                  <a:pt x="29" y="906"/>
                </a:lnTo>
                <a:lnTo>
                  <a:pt x="29" y="895"/>
                </a:lnTo>
                <a:lnTo>
                  <a:pt x="35" y="883"/>
                </a:lnTo>
                <a:lnTo>
                  <a:pt x="40" y="867"/>
                </a:lnTo>
                <a:lnTo>
                  <a:pt x="46" y="856"/>
                </a:lnTo>
                <a:lnTo>
                  <a:pt x="52" y="844"/>
                </a:lnTo>
                <a:lnTo>
                  <a:pt x="58" y="828"/>
                </a:lnTo>
                <a:lnTo>
                  <a:pt x="64" y="816"/>
                </a:lnTo>
                <a:lnTo>
                  <a:pt x="64" y="806"/>
                </a:lnTo>
                <a:lnTo>
                  <a:pt x="69" y="788"/>
                </a:lnTo>
                <a:lnTo>
                  <a:pt x="75" y="778"/>
                </a:lnTo>
                <a:lnTo>
                  <a:pt x="81" y="766"/>
                </a:lnTo>
                <a:lnTo>
                  <a:pt x="87" y="750"/>
                </a:lnTo>
                <a:lnTo>
                  <a:pt x="93" y="738"/>
                </a:lnTo>
                <a:lnTo>
                  <a:pt x="93" y="727"/>
                </a:lnTo>
                <a:lnTo>
                  <a:pt x="98" y="716"/>
                </a:lnTo>
                <a:lnTo>
                  <a:pt x="104" y="699"/>
                </a:lnTo>
                <a:lnTo>
                  <a:pt x="110" y="688"/>
                </a:lnTo>
                <a:lnTo>
                  <a:pt x="116" y="677"/>
                </a:lnTo>
                <a:lnTo>
                  <a:pt x="122" y="665"/>
                </a:lnTo>
                <a:lnTo>
                  <a:pt x="127" y="655"/>
                </a:lnTo>
                <a:lnTo>
                  <a:pt x="127" y="637"/>
                </a:lnTo>
                <a:lnTo>
                  <a:pt x="133" y="627"/>
                </a:lnTo>
                <a:lnTo>
                  <a:pt x="139" y="615"/>
                </a:lnTo>
                <a:lnTo>
                  <a:pt x="145" y="605"/>
                </a:lnTo>
                <a:lnTo>
                  <a:pt x="151" y="593"/>
                </a:lnTo>
                <a:lnTo>
                  <a:pt x="157" y="581"/>
                </a:lnTo>
                <a:lnTo>
                  <a:pt x="162" y="571"/>
                </a:lnTo>
                <a:lnTo>
                  <a:pt x="162" y="554"/>
                </a:lnTo>
                <a:lnTo>
                  <a:pt x="168" y="543"/>
                </a:lnTo>
                <a:lnTo>
                  <a:pt x="174" y="531"/>
                </a:lnTo>
                <a:lnTo>
                  <a:pt x="180" y="520"/>
                </a:lnTo>
                <a:lnTo>
                  <a:pt x="187" y="509"/>
                </a:lnTo>
                <a:lnTo>
                  <a:pt x="191" y="498"/>
                </a:lnTo>
                <a:lnTo>
                  <a:pt x="191" y="486"/>
                </a:lnTo>
                <a:lnTo>
                  <a:pt x="197" y="476"/>
                </a:lnTo>
                <a:lnTo>
                  <a:pt x="204" y="470"/>
                </a:lnTo>
                <a:lnTo>
                  <a:pt x="210" y="458"/>
                </a:lnTo>
                <a:lnTo>
                  <a:pt x="216" y="448"/>
                </a:lnTo>
                <a:lnTo>
                  <a:pt x="220" y="436"/>
                </a:lnTo>
                <a:lnTo>
                  <a:pt x="227" y="426"/>
                </a:lnTo>
                <a:lnTo>
                  <a:pt x="227" y="414"/>
                </a:lnTo>
                <a:lnTo>
                  <a:pt x="233" y="402"/>
                </a:lnTo>
                <a:lnTo>
                  <a:pt x="239" y="397"/>
                </a:lnTo>
                <a:lnTo>
                  <a:pt x="245" y="386"/>
                </a:lnTo>
                <a:lnTo>
                  <a:pt x="250" y="375"/>
                </a:lnTo>
                <a:lnTo>
                  <a:pt x="256" y="364"/>
                </a:lnTo>
                <a:lnTo>
                  <a:pt x="262" y="358"/>
                </a:lnTo>
                <a:lnTo>
                  <a:pt x="262" y="347"/>
                </a:lnTo>
                <a:lnTo>
                  <a:pt x="268" y="336"/>
                </a:lnTo>
                <a:lnTo>
                  <a:pt x="274" y="330"/>
                </a:lnTo>
                <a:lnTo>
                  <a:pt x="279" y="319"/>
                </a:lnTo>
                <a:lnTo>
                  <a:pt x="285" y="313"/>
                </a:lnTo>
                <a:lnTo>
                  <a:pt x="291" y="303"/>
                </a:lnTo>
                <a:lnTo>
                  <a:pt x="291" y="291"/>
                </a:lnTo>
                <a:lnTo>
                  <a:pt x="297" y="285"/>
                </a:lnTo>
                <a:lnTo>
                  <a:pt x="303" y="275"/>
                </a:lnTo>
                <a:lnTo>
                  <a:pt x="308" y="269"/>
                </a:lnTo>
                <a:lnTo>
                  <a:pt x="314" y="263"/>
                </a:lnTo>
                <a:lnTo>
                  <a:pt x="320" y="251"/>
                </a:lnTo>
                <a:lnTo>
                  <a:pt x="326" y="247"/>
                </a:lnTo>
                <a:lnTo>
                  <a:pt x="326" y="235"/>
                </a:lnTo>
                <a:lnTo>
                  <a:pt x="332" y="229"/>
                </a:lnTo>
                <a:lnTo>
                  <a:pt x="337" y="224"/>
                </a:lnTo>
                <a:lnTo>
                  <a:pt x="343" y="219"/>
                </a:lnTo>
                <a:lnTo>
                  <a:pt x="349" y="207"/>
                </a:lnTo>
                <a:lnTo>
                  <a:pt x="355" y="202"/>
                </a:lnTo>
                <a:lnTo>
                  <a:pt x="361" y="196"/>
                </a:lnTo>
                <a:lnTo>
                  <a:pt x="361" y="190"/>
                </a:lnTo>
                <a:lnTo>
                  <a:pt x="367" y="179"/>
                </a:lnTo>
                <a:lnTo>
                  <a:pt x="372" y="174"/>
                </a:lnTo>
                <a:lnTo>
                  <a:pt x="378" y="168"/>
                </a:lnTo>
                <a:lnTo>
                  <a:pt x="384" y="162"/>
                </a:lnTo>
                <a:lnTo>
                  <a:pt x="390" y="157"/>
                </a:lnTo>
                <a:lnTo>
                  <a:pt x="390" y="152"/>
                </a:lnTo>
                <a:lnTo>
                  <a:pt x="396" y="146"/>
                </a:lnTo>
                <a:lnTo>
                  <a:pt x="401" y="140"/>
                </a:lnTo>
                <a:lnTo>
                  <a:pt x="407" y="134"/>
                </a:lnTo>
                <a:lnTo>
                  <a:pt x="413" y="129"/>
                </a:lnTo>
                <a:lnTo>
                  <a:pt x="420" y="124"/>
                </a:lnTo>
                <a:lnTo>
                  <a:pt x="430" y="112"/>
                </a:lnTo>
                <a:lnTo>
                  <a:pt x="426" y="112"/>
                </a:lnTo>
                <a:lnTo>
                  <a:pt x="430" y="112"/>
                </a:lnTo>
                <a:lnTo>
                  <a:pt x="436" y="106"/>
                </a:lnTo>
                <a:lnTo>
                  <a:pt x="443" y="100"/>
                </a:lnTo>
                <a:lnTo>
                  <a:pt x="449" y="96"/>
                </a:lnTo>
                <a:lnTo>
                  <a:pt x="455" y="90"/>
                </a:lnTo>
                <a:lnTo>
                  <a:pt x="460" y="84"/>
                </a:lnTo>
                <a:lnTo>
                  <a:pt x="466" y="78"/>
                </a:lnTo>
                <a:lnTo>
                  <a:pt x="472" y="78"/>
                </a:lnTo>
                <a:lnTo>
                  <a:pt x="478" y="72"/>
                </a:lnTo>
                <a:lnTo>
                  <a:pt x="484" y="68"/>
                </a:lnTo>
                <a:lnTo>
                  <a:pt x="489" y="62"/>
                </a:lnTo>
                <a:lnTo>
                  <a:pt x="495" y="62"/>
                </a:lnTo>
                <a:lnTo>
                  <a:pt x="501" y="56"/>
                </a:lnTo>
                <a:lnTo>
                  <a:pt x="507" y="56"/>
                </a:lnTo>
                <a:lnTo>
                  <a:pt x="513" y="50"/>
                </a:lnTo>
                <a:lnTo>
                  <a:pt x="518" y="50"/>
                </a:lnTo>
                <a:lnTo>
                  <a:pt x="524" y="45"/>
                </a:lnTo>
                <a:lnTo>
                  <a:pt x="530" y="40"/>
                </a:lnTo>
                <a:lnTo>
                  <a:pt x="536" y="40"/>
                </a:lnTo>
                <a:lnTo>
                  <a:pt x="542" y="34"/>
                </a:lnTo>
                <a:lnTo>
                  <a:pt x="547" y="34"/>
                </a:lnTo>
                <a:lnTo>
                  <a:pt x="553" y="28"/>
                </a:lnTo>
                <a:lnTo>
                  <a:pt x="559" y="28"/>
                </a:lnTo>
                <a:lnTo>
                  <a:pt x="565" y="23"/>
                </a:lnTo>
                <a:lnTo>
                  <a:pt x="571" y="23"/>
                </a:lnTo>
                <a:lnTo>
                  <a:pt x="576" y="23"/>
                </a:lnTo>
                <a:lnTo>
                  <a:pt x="582" y="23"/>
                </a:lnTo>
                <a:lnTo>
                  <a:pt x="588" y="17"/>
                </a:lnTo>
                <a:lnTo>
                  <a:pt x="594" y="17"/>
                </a:lnTo>
                <a:lnTo>
                  <a:pt x="600" y="12"/>
                </a:lnTo>
                <a:lnTo>
                  <a:pt x="606" y="12"/>
                </a:lnTo>
                <a:lnTo>
                  <a:pt x="611" y="12"/>
                </a:lnTo>
                <a:lnTo>
                  <a:pt x="617" y="12"/>
                </a:lnTo>
                <a:lnTo>
                  <a:pt x="623" y="6"/>
                </a:lnTo>
                <a:lnTo>
                  <a:pt x="629" y="6"/>
                </a:lnTo>
                <a:lnTo>
                  <a:pt x="636" y="6"/>
                </a:lnTo>
                <a:lnTo>
                  <a:pt x="640" y="0"/>
                </a:lnTo>
                <a:lnTo>
                  <a:pt x="646" y="0"/>
                </a:lnTo>
                <a:lnTo>
                  <a:pt x="653" y="0"/>
                </a:lnTo>
                <a:lnTo>
                  <a:pt x="659"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747960" y="2963880"/>
            <a:ext cx="1176480" cy="709560"/>
          </a:xfrm>
          <a:custGeom>
            <a:avLst/>
            <a:gdLst/>
            <a:ahLst/>
            <a:rect l="l" t="t" r="r" b="b"/>
            <a:pathLst>
              <a:path w="741" h="447">
                <a:moveTo>
                  <a:pt x="0" y="447"/>
                </a:moveTo>
                <a:lnTo>
                  <a:pt x="6" y="442"/>
                </a:lnTo>
                <a:lnTo>
                  <a:pt x="10" y="442"/>
                </a:lnTo>
                <a:lnTo>
                  <a:pt x="17" y="442"/>
                </a:lnTo>
                <a:lnTo>
                  <a:pt x="23" y="442"/>
                </a:lnTo>
                <a:lnTo>
                  <a:pt x="29" y="436"/>
                </a:lnTo>
                <a:lnTo>
                  <a:pt x="35" y="436"/>
                </a:lnTo>
                <a:lnTo>
                  <a:pt x="40" y="436"/>
                </a:lnTo>
                <a:lnTo>
                  <a:pt x="46" y="436"/>
                </a:lnTo>
                <a:lnTo>
                  <a:pt x="52" y="430"/>
                </a:lnTo>
                <a:lnTo>
                  <a:pt x="58" y="430"/>
                </a:lnTo>
                <a:lnTo>
                  <a:pt x="64" y="430"/>
                </a:lnTo>
                <a:lnTo>
                  <a:pt x="69" y="425"/>
                </a:lnTo>
                <a:lnTo>
                  <a:pt x="75" y="425"/>
                </a:lnTo>
                <a:lnTo>
                  <a:pt x="81" y="425"/>
                </a:lnTo>
                <a:lnTo>
                  <a:pt x="87" y="420"/>
                </a:lnTo>
                <a:lnTo>
                  <a:pt x="93" y="420"/>
                </a:lnTo>
                <a:lnTo>
                  <a:pt x="98" y="420"/>
                </a:lnTo>
                <a:lnTo>
                  <a:pt x="104" y="414"/>
                </a:lnTo>
                <a:lnTo>
                  <a:pt x="110" y="414"/>
                </a:lnTo>
                <a:lnTo>
                  <a:pt x="116" y="414"/>
                </a:lnTo>
                <a:lnTo>
                  <a:pt x="122" y="408"/>
                </a:lnTo>
                <a:lnTo>
                  <a:pt x="127" y="402"/>
                </a:lnTo>
                <a:lnTo>
                  <a:pt x="133" y="402"/>
                </a:lnTo>
                <a:lnTo>
                  <a:pt x="139" y="402"/>
                </a:lnTo>
                <a:lnTo>
                  <a:pt x="145" y="398"/>
                </a:lnTo>
                <a:lnTo>
                  <a:pt x="152" y="398"/>
                </a:lnTo>
                <a:lnTo>
                  <a:pt x="158" y="392"/>
                </a:lnTo>
                <a:lnTo>
                  <a:pt x="162" y="392"/>
                </a:lnTo>
                <a:lnTo>
                  <a:pt x="169" y="386"/>
                </a:lnTo>
                <a:lnTo>
                  <a:pt x="175" y="386"/>
                </a:lnTo>
                <a:lnTo>
                  <a:pt x="181" y="380"/>
                </a:lnTo>
                <a:lnTo>
                  <a:pt x="187" y="380"/>
                </a:lnTo>
                <a:lnTo>
                  <a:pt x="192" y="374"/>
                </a:lnTo>
                <a:lnTo>
                  <a:pt x="198" y="370"/>
                </a:lnTo>
                <a:lnTo>
                  <a:pt x="204" y="370"/>
                </a:lnTo>
                <a:lnTo>
                  <a:pt x="210" y="364"/>
                </a:lnTo>
                <a:lnTo>
                  <a:pt x="216" y="358"/>
                </a:lnTo>
                <a:lnTo>
                  <a:pt x="221" y="358"/>
                </a:lnTo>
                <a:lnTo>
                  <a:pt x="227" y="352"/>
                </a:lnTo>
                <a:lnTo>
                  <a:pt x="233" y="346"/>
                </a:lnTo>
                <a:lnTo>
                  <a:pt x="239" y="341"/>
                </a:lnTo>
                <a:lnTo>
                  <a:pt x="245" y="341"/>
                </a:lnTo>
                <a:lnTo>
                  <a:pt x="250" y="336"/>
                </a:lnTo>
                <a:lnTo>
                  <a:pt x="256" y="330"/>
                </a:lnTo>
                <a:lnTo>
                  <a:pt x="262" y="324"/>
                </a:lnTo>
                <a:lnTo>
                  <a:pt x="268" y="324"/>
                </a:lnTo>
                <a:lnTo>
                  <a:pt x="274" y="319"/>
                </a:lnTo>
                <a:lnTo>
                  <a:pt x="279" y="313"/>
                </a:lnTo>
                <a:lnTo>
                  <a:pt x="285" y="308"/>
                </a:lnTo>
                <a:lnTo>
                  <a:pt x="291" y="302"/>
                </a:lnTo>
                <a:lnTo>
                  <a:pt x="297" y="297"/>
                </a:lnTo>
                <a:lnTo>
                  <a:pt x="304" y="297"/>
                </a:lnTo>
                <a:lnTo>
                  <a:pt x="308" y="291"/>
                </a:lnTo>
                <a:lnTo>
                  <a:pt x="314" y="285"/>
                </a:lnTo>
                <a:lnTo>
                  <a:pt x="321" y="280"/>
                </a:lnTo>
                <a:lnTo>
                  <a:pt x="327" y="275"/>
                </a:lnTo>
                <a:lnTo>
                  <a:pt x="333" y="269"/>
                </a:lnTo>
                <a:lnTo>
                  <a:pt x="338" y="263"/>
                </a:lnTo>
                <a:lnTo>
                  <a:pt x="344" y="263"/>
                </a:lnTo>
                <a:lnTo>
                  <a:pt x="350" y="257"/>
                </a:lnTo>
                <a:lnTo>
                  <a:pt x="356" y="247"/>
                </a:lnTo>
                <a:lnTo>
                  <a:pt x="362" y="241"/>
                </a:lnTo>
                <a:lnTo>
                  <a:pt x="367" y="241"/>
                </a:lnTo>
                <a:lnTo>
                  <a:pt x="373" y="235"/>
                </a:lnTo>
                <a:lnTo>
                  <a:pt x="379" y="229"/>
                </a:lnTo>
                <a:lnTo>
                  <a:pt x="385" y="223"/>
                </a:lnTo>
                <a:lnTo>
                  <a:pt x="391" y="219"/>
                </a:lnTo>
                <a:lnTo>
                  <a:pt x="397" y="213"/>
                </a:lnTo>
                <a:lnTo>
                  <a:pt x="402" y="207"/>
                </a:lnTo>
                <a:lnTo>
                  <a:pt x="408" y="201"/>
                </a:lnTo>
                <a:lnTo>
                  <a:pt x="414" y="201"/>
                </a:lnTo>
                <a:lnTo>
                  <a:pt x="420" y="195"/>
                </a:lnTo>
                <a:lnTo>
                  <a:pt x="426" y="185"/>
                </a:lnTo>
                <a:lnTo>
                  <a:pt x="431" y="185"/>
                </a:lnTo>
                <a:lnTo>
                  <a:pt x="437" y="179"/>
                </a:lnTo>
                <a:lnTo>
                  <a:pt x="443" y="173"/>
                </a:lnTo>
                <a:lnTo>
                  <a:pt x="449" y="168"/>
                </a:lnTo>
                <a:lnTo>
                  <a:pt x="455" y="162"/>
                </a:lnTo>
                <a:lnTo>
                  <a:pt x="460" y="157"/>
                </a:lnTo>
                <a:lnTo>
                  <a:pt x="466" y="151"/>
                </a:lnTo>
                <a:lnTo>
                  <a:pt x="472" y="151"/>
                </a:lnTo>
                <a:lnTo>
                  <a:pt x="479" y="146"/>
                </a:lnTo>
                <a:lnTo>
                  <a:pt x="485" y="140"/>
                </a:lnTo>
                <a:lnTo>
                  <a:pt x="489" y="134"/>
                </a:lnTo>
                <a:lnTo>
                  <a:pt x="496" y="129"/>
                </a:lnTo>
                <a:lnTo>
                  <a:pt x="502" y="124"/>
                </a:lnTo>
                <a:lnTo>
                  <a:pt x="508" y="124"/>
                </a:lnTo>
                <a:lnTo>
                  <a:pt x="514" y="118"/>
                </a:lnTo>
                <a:lnTo>
                  <a:pt x="519" y="112"/>
                </a:lnTo>
                <a:lnTo>
                  <a:pt x="525" y="106"/>
                </a:lnTo>
                <a:lnTo>
                  <a:pt x="531" y="106"/>
                </a:lnTo>
                <a:lnTo>
                  <a:pt x="537" y="101"/>
                </a:lnTo>
                <a:lnTo>
                  <a:pt x="543" y="96"/>
                </a:lnTo>
                <a:lnTo>
                  <a:pt x="548" y="96"/>
                </a:lnTo>
                <a:lnTo>
                  <a:pt x="554" y="90"/>
                </a:lnTo>
                <a:lnTo>
                  <a:pt x="560" y="84"/>
                </a:lnTo>
                <a:lnTo>
                  <a:pt x="566" y="78"/>
                </a:lnTo>
                <a:lnTo>
                  <a:pt x="572" y="78"/>
                </a:lnTo>
                <a:lnTo>
                  <a:pt x="577" y="74"/>
                </a:lnTo>
                <a:lnTo>
                  <a:pt x="583" y="74"/>
                </a:lnTo>
                <a:lnTo>
                  <a:pt x="589" y="68"/>
                </a:lnTo>
                <a:lnTo>
                  <a:pt x="595" y="62"/>
                </a:lnTo>
                <a:lnTo>
                  <a:pt x="601" y="62"/>
                </a:lnTo>
                <a:lnTo>
                  <a:pt x="607" y="56"/>
                </a:lnTo>
                <a:lnTo>
                  <a:pt x="612" y="56"/>
                </a:lnTo>
                <a:lnTo>
                  <a:pt x="618" y="50"/>
                </a:lnTo>
                <a:lnTo>
                  <a:pt x="624" y="45"/>
                </a:lnTo>
                <a:lnTo>
                  <a:pt x="631" y="45"/>
                </a:lnTo>
                <a:lnTo>
                  <a:pt x="637" y="45"/>
                </a:lnTo>
                <a:lnTo>
                  <a:pt x="641" y="40"/>
                </a:lnTo>
                <a:lnTo>
                  <a:pt x="648" y="40"/>
                </a:lnTo>
                <a:lnTo>
                  <a:pt x="654" y="34"/>
                </a:lnTo>
                <a:lnTo>
                  <a:pt x="660" y="34"/>
                </a:lnTo>
                <a:lnTo>
                  <a:pt x="666" y="28"/>
                </a:lnTo>
                <a:lnTo>
                  <a:pt x="671" y="28"/>
                </a:lnTo>
                <a:lnTo>
                  <a:pt x="677" y="28"/>
                </a:lnTo>
                <a:lnTo>
                  <a:pt x="683" y="23"/>
                </a:lnTo>
                <a:lnTo>
                  <a:pt x="689" y="17"/>
                </a:lnTo>
                <a:lnTo>
                  <a:pt x="695" y="17"/>
                </a:lnTo>
                <a:lnTo>
                  <a:pt x="700" y="17"/>
                </a:lnTo>
                <a:lnTo>
                  <a:pt x="706" y="17"/>
                </a:lnTo>
                <a:lnTo>
                  <a:pt x="712" y="12"/>
                </a:lnTo>
                <a:lnTo>
                  <a:pt x="718" y="12"/>
                </a:lnTo>
                <a:lnTo>
                  <a:pt x="724" y="6"/>
                </a:lnTo>
                <a:lnTo>
                  <a:pt x="729" y="6"/>
                </a:lnTo>
                <a:lnTo>
                  <a:pt x="735" y="6"/>
                </a:lnTo>
                <a:lnTo>
                  <a:pt x="741"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4924440" y="2440080"/>
            <a:ext cx="1176480" cy="523800"/>
          </a:xfrm>
          <a:custGeom>
            <a:avLst/>
            <a:gdLst/>
            <a:ahLst/>
            <a:rect l="l" t="t" r="r" b="b"/>
            <a:pathLst>
              <a:path w="741" h="330">
                <a:moveTo>
                  <a:pt x="0" y="330"/>
                </a:moveTo>
                <a:lnTo>
                  <a:pt x="6" y="330"/>
                </a:lnTo>
                <a:lnTo>
                  <a:pt x="12" y="330"/>
                </a:lnTo>
                <a:lnTo>
                  <a:pt x="17" y="325"/>
                </a:lnTo>
                <a:lnTo>
                  <a:pt x="23" y="325"/>
                </a:lnTo>
                <a:lnTo>
                  <a:pt x="29" y="325"/>
                </a:lnTo>
                <a:lnTo>
                  <a:pt x="35" y="325"/>
                </a:lnTo>
                <a:lnTo>
                  <a:pt x="41" y="319"/>
                </a:lnTo>
                <a:lnTo>
                  <a:pt x="46" y="319"/>
                </a:lnTo>
                <a:lnTo>
                  <a:pt x="52" y="319"/>
                </a:lnTo>
                <a:lnTo>
                  <a:pt x="58" y="314"/>
                </a:lnTo>
                <a:lnTo>
                  <a:pt x="64" y="314"/>
                </a:lnTo>
                <a:lnTo>
                  <a:pt x="71" y="314"/>
                </a:lnTo>
                <a:lnTo>
                  <a:pt x="75" y="314"/>
                </a:lnTo>
                <a:lnTo>
                  <a:pt x="82" y="308"/>
                </a:lnTo>
                <a:lnTo>
                  <a:pt x="88" y="308"/>
                </a:lnTo>
                <a:lnTo>
                  <a:pt x="94" y="308"/>
                </a:lnTo>
                <a:lnTo>
                  <a:pt x="100" y="308"/>
                </a:lnTo>
                <a:lnTo>
                  <a:pt x="106" y="303"/>
                </a:lnTo>
                <a:lnTo>
                  <a:pt x="111" y="303"/>
                </a:lnTo>
                <a:lnTo>
                  <a:pt x="117" y="303"/>
                </a:lnTo>
                <a:lnTo>
                  <a:pt x="123" y="297"/>
                </a:lnTo>
                <a:lnTo>
                  <a:pt x="129" y="297"/>
                </a:lnTo>
                <a:lnTo>
                  <a:pt x="135" y="297"/>
                </a:lnTo>
                <a:lnTo>
                  <a:pt x="140" y="291"/>
                </a:lnTo>
                <a:lnTo>
                  <a:pt x="146" y="291"/>
                </a:lnTo>
                <a:lnTo>
                  <a:pt x="152" y="291"/>
                </a:lnTo>
                <a:lnTo>
                  <a:pt x="158" y="291"/>
                </a:lnTo>
                <a:lnTo>
                  <a:pt x="164" y="285"/>
                </a:lnTo>
                <a:lnTo>
                  <a:pt x="169" y="285"/>
                </a:lnTo>
                <a:lnTo>
                  <a:pt x="175" y="285"/>
                </a:lnTo>
                <a:lnTo>
                  <a:pt x="181" y="280"/>
                </a:lnTo>
                <a:lnTo>
                  <a:pt x="187" y="280"/>
                </a:lnTo>
                <a:lnTo>
                  <a:pt x="193" y="280"/>
                </a:lnTo>
                <a:lnTo>
                  <a:pt x="198" y="275"/>
                </a:lnTo>
                <a:lnTo>
                  <a:pt x="204" y="275"/>
                </a:lnTo>
                <a:lnTo>
                  <a:pt x="210" y="269"/>
                </a:lnTo>
                <a:lnTo>
                  <a:pt x="216" y="269"/>
                </a:lnTo>
                <a:lnTo>
                  <a:pt x="222" y="269"/>
                </a:lnTo>
                <a:lnTo>
                  <a:pt x="227" y="263"/>
                </a:lnTo>
                <a:lnTo>
                  <a:pt x="233" y="263"/>
                </a:lnTo>
                <a:lnTo>
                  <a:pt x="239" y="257"/>
                </a:lnTo>
                <a:lnTo>
                  <a:pt x="245" y="257"/>
                </a:lnTo>
                <a:lnTo>
                  <a:pt x="251" y="257"/>
                </a:lnTo>
                <a:lnTo>
                  <a:pt x="256" y="253"/>
                </a:lnTo>
                <a:lnTo>
                  <a:pt x="262" y="253"/>
                </a:lnTo>
                <a:lnTo>
                  <a:pt x="268" y="247"/>
                </a:lnTo>
                <a:lnTo>
                  <a:pt x="275" y="247"/>
                </a:lnTo>
                <a:lnTo>
                  <a:pt x="281" y="241"/>
                </a:lnTo>
                <a:lnTo>
                  <a:pt x="285" y="241"/>
                </a:lnTo>
                <a:lnTo>
                  <a:pt x="292" y="235"/>
                </a:lnTo>
                <a:lnTo>
                  <a:pt x="298" y="235"/>
                </a:lnTo>
                <a:lnTo>
                  <a:pt x="304" y="229"/>
                </a:lnTo>
                <a:lnTo>
                  <a:pt x="310" y="229"/>
                </a:lnTo>
                <a:lnTo>
                  <a:pt x="316" y="225"/>
                </a:lnTo>
                <a:lnTo>
                  <a:pt x="321" y="225"/>
                </a:lnTo>
                <a:lnTo>
                  <a:pt x="327" y="219"/>
                </a:lnTo>
                <a:lnTo>
                  <a:pt x="333" y="219"/>
                </a:lnTo>
                <a:lnTo>
                  <a:pt x="339" y="213"/>
                </a:lnTo>
                <a:lnTo>
                  <a:pt x="345" y="207"/>
                </a:lnTo>
                <a:lnTo>
                  <a:pt x="350" y="207"/>
                </a:lnTo>
                <a:lnTo>
                  <a:pt x="356" y="201"/>
                </a:lnTo>
                <a:lnTo>
                  <a:pt x="362" y="201"/>
                </a:lnTo>
                <a:lnTo>
                  <a:pt x="368" y="195"/>
                </a:lnTo>
                <a:lnTo>
                  <a:pt x="374" y="191"/>
                </a:lnTo>
                <a:lnTo>
                  <a:pt x="379" y="191"/>
                </a:lnTo>
                <a:lnTo>
                  <a:pt x="385" y="185"/>
                </a:lnTo>
                <a:lnTo>
                  <a:pt x="391" y="185"/>
                </a:lnTo>
                <a:lnTo>
                  <a:pt x="397" y="179"/>
                </a:lnTo>
                <a:lnTo>
                  <a:pt x="403" y="179"/>
                </a:lnTo>
                <a:lnTo>
                  <a:pt x="408" y="173"/>
                </a:lnTo>
                <a:lnTo>
                  <a:pt x="414" y="168"/>
                </a:lnTo>
                <a:lnTo>
                  <a:pt x="420" y="168"/>
                </a:lnTo>
                <a:lnTo>
                  <a:pt x="426" y="163"/>
                </a:lnTo>
                <a:lnTo>
                  <a:pt x="432" y="157"/>
                </a:lnTo>
                <a:lnTo>
                  <a:pt x="437" y="151"/>
                </a:lnTo>
                <a:lnTo>
                  <a:pt x="443" y="151"/>
                </a:lnTo>
                <a:lnTo>
                  <a:pt x="449" y="145"/>
                </a:lnTo>
                <a:lnTo>
                  <a:pt x="455" y="145"/>
                </a:lnTo>
                <a:lnTo>
                  <a:pt x="461" y="140"/>
                </a:lnTo>
                <a:lnTo>
                  <a:pt x="466" y="140"/>
                </a:lnTo>
                <a:lnTo>
                  <a:pt x="472" y="135"/>
                </a:lnTo>
                <a:lnTo>
                  <a:pt x="478" y="129"/>
                </a:lnTo>
                <a:lnTo>
                  <a:pt x="485" y="123"/>
                </a:lnTo>
                <a:lnTo>
                  <a:pt x="491" y="123"/>
                </a:lnTo>
                <a:lnTo>
                  <a:pt x="495" y="118"/>
                </a:lnTo>
                <a:lnTo>
                  <a:pt x="502" y="112"/>
                </a:lnTo>
                <a:lnTo>
                  <a:pt x="508" y="112"/>
                </a:lnTo>
                <a:lnTo>
                  <a:pt x="514" y="106"/>
                </a:lnTo>
                <a:lnTo>
                  <a:pt x="520" y="106"/>
                </a:lnTo>
                <a:lnTo>
                  <a:pt x="525" y="101"/>
                </a:lnTo>
                <a:lnTo>
                  <a:pt x="531" y="101"/>
                </a:lnTo>
                <a:lnTo>
                  <a:pt x="537" y="96"/>
                </a:lnTo>
                <a:lnTo>
                  <a:pt x="543" y="90"/>
                </a:lnTo>
                <a:lnTo>
                  <a:pt x="549" y="90"/>
                </a:lnTo>
                <a:lnTo>
                  <a:pt x="555" y="84"/>
                </a:lnTo>
                <a:lnTo>
                  <a:pt x="560" y="84"/>
                </a:lnTo>
                <a:lnTo>
                  <a:pt x="566" y="78"/>
                </a:lnTo>
                <a:lnTo>
                  <a:pt x="572" y="73"/>
                </a:lnTo>
                <a:lnTo>
                  <a:pt x="578" y="73"/>
                </a:lnTo>
                <a:lnTo>
                  <a:pt x="584" y="68"/>
                </a:lnTo>
                <a:lnTo>
                  <a:pt x="589" y="68"/>
                </a:lnTo>
                <a:lnTo>
                  <a:pt x="595" y="62"/>
                </a:lnTo>
                <a:lnTo>
                  <a:pt x="601" y="56"/>
                </a:lnTo>
                <a:lnTo>
                  <a:pt x="607" y="56"/>
                </a:lnTo>
                <a:lnTo>
                  <a:pt x="613" y="56"/>
                </a:lnTo>
                <a:lnTo>
                  <a:pt x="618" y="50"/>
                </a:lnTo>
                <a:lnTo>
                  <a:pt x="624" y="50"/>
                </a:lnTo>
                <a:lnTo>
                  <a:pt x="630" y="46"/>
                </a:lnTo>
                <a:lnTo>
                  <a:pt x="636" y="40"/>
                </a:lnTo>
                <a:lnTo>
                  <a:pt x="642" y="40"/>
                </a:lnTo>
                <a:lnTo>
                  <a:pt x="647" y="40"/>
                </a:lnTo>
                <a:lnTo>
                  <a:pt x="653" y="34"/>
                </a:lnTo>
                <a:lnTo>
                  <a:pt x="659" y="34"/>
                </a:lnTo>
                <a:lnTo>
                  <a:pt x="665" y="28"/>
                </a:lnTo>
                <a:lnTo>
                  <a:pt x="671" y="28"/>
                </a:lnTo>
                <a:lnTo>
                  <a:pt x="676" y="22"/>
                </a:lnTo>
                <a:lnTo>
                  <a:pt x="682" y="22"/>
                </a:lnTo>
                <a:lnTo>
                  <a:pt x="688" y="22"/>
                </a:lnTo>
                <a:lnTo>
                  <a:pt x="695" y="18"/>
                </a:lnTo>
                <a:lnTo>
                  <a:pt x="701" y="18"/>
                </a:lnTo>
                <a:lnTo>
                  <a:pt x="706" y="12"/>
                </a:lnTo>
                <a:lnTo>
                  <a:pt x="712" y="12"/>
                </a:lnTo>
                <a:lnTo>
                  <a:pt x="718" y="12"/>
                </a:lnTo>
                <a:lnTo>
                  <a:pt x="724" y="6"/>
                </a:lnTo>
                <a:lnTo>
                  <a:pt x="730" y="6"/>
                </a:lnTo>
                <a:lnTo>
                  <a:pt x="735" y="0"/>
                </a:lnTo>
                <a:lnTo>
                  <a:pt x="741"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100920" y="2254320"/>
            <a:ext cx="620640" cy="185760"/>
          </a:xfrm>
          <a:custGeom>
            <a:avLst/>
            <a:gdLst/>
            <a:ahLst/>
            <a:rect l="l" t="t" r="r" b="b"/>
            <a:pathLst>
              <a:path w="391" h="117">
                <a:moveTo>
                  <a:pt x="0" y="117"/>
                </a:moveTo>
                <a:lnTo>
                  <a:pt x="6" y="117"/>
                </a:lnTo>
                <a:lnTo>
                  <a:pt x="12" y="117"/>
                </a:lnTo>
                <a:lnTo>
                  <a:pt x="18" y="112"/>
                </a:lnTo>
                <a:lnTo>
                  <a:pt x="24" y="112"/>
                </a:lnTo>
                <a:lnTo>
                  <a:pt x="29" y="106"/>
                </a:lnTo>
                <a:lnTo>
                  <a:pt x="35" y="106"/>
                </a:lnTo>
                <a:lnTo>
                  <a:pt x="41" y="106"/>
                </a:lnTo>
                <a:lnTo>
                  <a:pt x="47" y="106"/>
                </a:lnTo>
                <a:lnTo>
                  <a:pt x="53" y="101"/>
                </a:lnTo>
                <a:lnTo>
                  <a:pt x="58" y="101"/>
                </a:lnTo>
                <a:lnTo>
                  <a:pt x="64" y="101"/>
                </a:lnTo>
                <a:lnTo>
                  <a:pt x="70" y="95"/>
                </a:lnTo>
                <a:lnTo>
                  <a:pt x="76" y="95"/>
                </a:lnTo>
                <a:lnTo>
                  <a:pt x="82" y="95"/>
                </a:lnTo>
                <a:lnTo>
                  <a:pt x="87" y="95"/>
                </a:lnTo>
                <a:lnTo>
                  <a:pt x="93" y="89"/>
                </a:lnTo>
                <a:lnTo>
                  <a:pt x="99" y="89"/>
                </a:lnTo>
                <a:lnTo>
                  <a:pt x="105" y="89"/>
                </a:lnTo>
                <a:lnTo>
                  <a:pt x="112" y="89"/>
                </a:lnTo>
                <a:lnTo>
                  <a:pt x="116" y="84"/>
                </a:lnTo>
                <a:lnTo>
                  <a:pt x="122" y="84"/>
                </a:lnTo>
                <a:lnTo>
                  <a:pt x="128" y="84"/>
                </a:lnTo>
                <a:lnTo>
                  <a:pt x="135" y="84"/>
                </a:lnTo>
                <a:lnTo>
                  <a:pt x="141" y="78"/>
                </a:lnTo>
                <a:lnTo>
                  <a:pt x="146" y="78"/>
                </a:lnTo>
                <a:lnTo>
                  <a:pt x="152" y="78"/>
                </a:lnTo>
                <a:lnTo>
                  <a:pt x="158" y="73"/>
                </a:lnTo>
                <a:lnTo>
                  <a:pt x="164" y="73"/>
                </a:lnTo>
                <a:lnTo>
                  <a:pt x="170" y="73"/>
                </a:lnTo>
                <a:lnTo>
                  <a:pt x="175" y="73"/>
                </a:lnTo>
                <a:lnTo>
                  <a:pt x="181" y="73"/>
                </a:lnTo>
                <a:lnTo>
                  <a:pt x="187" y="67"/>
                </a:lnTo>
                <a:lnTo>
                  <a:pt x="193" y="67"/>
                </a:lnTo>
                <a:lnTo>
                  <a:pt x="199" y="67"/>
                </a:lnTo>
                <a:lnTo>
                  <a:pt x="204" y="62"/>
                </a:lnTo>
                <a:lnTo>
                  <a:pt x="210" y="62"/>
                </a:lnTo>
                <a:lnTo>
                  <a:pt x="216" y="62"/>
                </a:lnTo>
                <a:lnTo>
                  <a:pt x="222" y="56"/>
                </a:lnTo>
                <a:lnTo>
                  <a:pt x="228" y="56"/>
                </a:lnTo>
                <a:lnTo>
                  <a:pt x="233" y="56"/>
                </a:lnTo>
                <a:lnTo>
                  <a:pt x="239" y="56"/>
                </a:lnTo>
                <a:lnTo>
                  <a:pt x="245" y="50"/>
                </a:lnTo>
                <a:lnTo>
                  <a:pt x="251" y="50"/>
                </a:lnTo>
                <a:lnTo>
                  <a:pt x="257" y="50"/>
                </a:lnTo>
                <a:lnTo>
                  <a:pt x="263" y="45"/>
                </a:lnTo>
                <a:lnTo>
                  <a:pt x="268" y="45"/>
                </a:lnTo>
                <a:lnTo>
                  <a:pt x="274" y="45"/>
                </a:lnTo>
                <a:lnTo>
                  <a:pt x="280" y="45"/>
                </a:lnTo>
                <a:lnTo>
                  <a:pt x="287" y="40"/>
                </a:lnTo>
                <a:lnTo>
                  <a:pt x="292" y="40"/>
                </a:lnTo>
                <a:lnTo>
                  <a:pt x="297" y="34"/>
                </a:lnTo>
                <a:lnTo>
                  <a:pt x="303" y="34"/>
                </a:lnTo>
                <a:lnTo>
                  <a:pt x="310" y="34"/>
                </a:lnTo>
                <a:lnTo>
                  <a:pt x="316" y="28"/>
                </a:lnTo>
                <a:lnTo>
                  <a:pt x="322" y="28"/>
                </a:lnTo>
                <a:lnTo>
                  <a:pt x="327" y="23"/>
                </a:lnTo>
                <a:lnTo>
                  <a:pt x="333" y="23"/>
                </a:lnTo>
                <a:lnTo>
                  <a:pt x="339" y="23"/>
                </a:lnTo>
                <a:lnTo>
                  <a:pt x="345" y="17"/>
                </a:lnTo>
                <a:lnTo>
                  <a:pt x="351" y="17"/>
                </a:lnTo>
                <a:lnTo>
                  <a:pt x="356" y="12"/>
                </a:lnTo>
                <a:lnTo>
                  <a:pt x="362" y="12"/>
                </a:lnTo>
                <a:lnTo>
                  <a:pt x="368" y="12"/>
                </a:lnTo>
                <a:lnTo>
                  <a:pt x="374" y="6"/>
                </a:lnTo>
                <a:lnTo>
                  <a:pt x="380" y="6"/>
                </a:lnTo>
                <a:lnTo>
                  <a:pt x="385" y="6"/>
                </a:lnTo>
                <a:lnTo>
                  <a:pt x="391"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2690640" y="3516480"/>
            <a:ext cx="1071720" cy="1726920"/>
          </a:xfrm>
          <a:custGeom>
            <a:avLst/>
            <a:gdLst/>
            <a:ahLst/>
            <a:rect l="l" t="t" r="r" b="b"/>
            <a:pathLst>
              <a:path w="6781" h="10906">
                <a:moveTo>
                  <a:pt x="127" y="10906"/>
                </a:moveTo>
                <a:lnTo>
                  <a:pt x="66" y="10906"/>
                </a:lnTo>
                <a:cubicBezTo>
                  <a:pt x="0" y="10906"/>
                  <a:pt x="0" y="10806"/>
                  <a:pt x="66" y="10806"/>
                </a:cubicBezTo>
                <a:lnTo>
                  <a:pt x="127" y="10806"/>
                </a:lnTo>
                <a:lnTo>
                  <a:pt x="89" y="10824"/>
                </a:lnTo>
                <a:lnTo>
                  <a:pt x="138" y="10766"/>
                </a:lnTo>
                <a:lnTo>
                  <a:pt x="203" y="10704"/>
                </a:lnTo>
                <a:lnTo>
                  <a:pt x="193" y="10717"/>
                </a:lnTo>
                <a:lnTo>
                  <a:pt x="247" y="10612"/>
                </a:lnTo>
                <a:lnTo>
                  <a:pt x="336" y="10659"/>
                </a:lnTo>
                <a:lnTo>
                  <a:pt x="281" y="10763"/>
                </a:lnTo>
                <a:cubicBezTo>
                  <a:pt x="279" y="10768"/>
                  <a:pt x="276" y="10772"/>
                  <a:pt x="272" y="10776"/>
                </a:cubicBezTo>
                <a:lnTo>
                  <a:pt x="215" y="10830"/>
                </a:lnTo>
                <a:lnTo>
                  <a:pt x="166" y="10889"/>
                </a:lnTo>
                <a:cubicBezTo>
                  <a:pt x="156" y="10900"/>
                  <a:pt x="142" y="10906"/>
                  <a:pt x="127" y="10906"/>
                </a:cubicBezTo>
                <a:lnTo>
                  <a:pt x="66" y="10906"/>
                </a:lnTo>
                <a:lnTo>
                  <a:pt x="66" y="10806"/>
                </a:lnTo>
                <a:lnTo>
                  <a:pt x="127" y="10806"/>
                </a:lnTo>
                <a:lnTo>
                  <a:pt x="127" y="10906"/>
                </a:lnTo>
                <a:close/>
                <a:moveTo>
                  <a:pt x="329" y="10339"/>
                </a:moveTo>
                <a:lnTo>
                  <a:pt x="373" y="10222"/>
                </a:lnTo>
                <a:lnTo>
                  <a:pt x="421" y="10051"/>
                </a:lnTo>
                <a:lnTo>
                  <a:pt x="445" y="9961"/>
                </a:lnTo>
                <a:lnTo>
                  <a:pt x="542" y="9988"/>
                </a:lnTo>
                <a:lnTo>
                  <a:pt x="517" y="10078"/>
                </a:lnTo>
                <a:lnTo>
                  <a:pt x="467" y="10257"/>
                </a:lnTo>
                <a:lnTo>
                  <a:pt x="423" y="10374"/>
                </a:lnTo>
                <a:lnTo>
                  <a:pt x="329" y="10339"/>
                </a:lnTo>
                <a:close/>
                <a:moveTo>
                  <a:pt x="525" y="9672"/>
                </a:moveTo>
                <a:lnTo>
                  <a:pt x="542" y="9609"/>
                </a:lnTo>
                <a:lnTo>
                  <a:pt x="603" y="9387"/>
                </a:lnTo>
                <a:lnTo>
                  <a:pt x="625" y="9288"/>
                </a:lnTo>
                <a:lnTo>
                  <a:pt x="723" y="9309"/>
                </a:lnTo>
                <a:lnTo>
                  <a:pt x="700" y="9414"/>
                </a:lnTo>
                <a:lnTo>
                  <a:pt x="639" y="9635"/>
                </a:lnTo>
                <a:lnTo>
                  <a:pt x="621" y="9699"/>
                </a:lnTo>
                <a:lnTo>
                  <a:pt x="525" y="9672"/>
                </a:lnTo>
                <a:close/>
                <a:moveTo>
                  <a:pt x="663" y="9003"/>
                </a:moveTo>
                <a:lnTo>
                  <a:pt x="663" y="8888"/>
                </a:lnTo>
                <a:cubicBezTo>
                  <a:pt x="663" y="8885"/>
                  <a:pt x="663" y="8882"/>
                  <a:pt x="663" y="8880"/>
                </a:cubicBezTo>
                <a:lnTo>
                  <a:pt x="712" y="8600"/>
                </a:lnTo>
                <a:lnTo>
                  <a:pt x="712" y="8598"/>
                </a:lnTo>
                <a:lnTo>
                  <a:pt x="811" y="8616"/>
                </a:lnTo>
                <a:lnTo>
                  <a:pt x="811" y="8617"/>
                </a:lnTo>
                <a:lnTo>
                  <a:pt x="762" y="8897"/>
                </a:lnTo>
                <a:lnTo>
                  <a:pt x="763" y="8888"/>
                </a:lnTo>
                <a:lnTo>
                  <a:pt x="763" y="9003"/>
                </a:lnTo>
                <a:lnTo>
                  <a:pt x="663" y="9003"/>
                </a:lnTo>
                <a:close/>
                <a:moveTo>
                  <a:pt x="766" y="8303"/>
                </a:moveTo>
                <a:lnTo>
                  <a:pt x="773" y="8262"/>
                </a:lnTo>
                <a:lnTo>
                  <a:pt x="834" y="7981"/>
                </a:lnTo>
                <a:lnTo>
                  <a:pt x="850" y="7910"/>
                </a:lnTo>
                <a:lnTo>
                  <a:pt x="947" y="7931"/>
                </a:lnTo>
                <a:lnTo>
                  <a:pt x="932" y="8002"/>
                </a:lnTo>
                <a:lnTo>
                  <a:pt x="871" y="8280"/>
                </a:lnTo>
                <a:lnTo>
                  <a:pt x="864" y="8320"/>
                </a:lnTo>
                <a:lnTo>
                  <a:pt x="766" y="8303"/>
                </a:lnTo>
                <a:close/>
                <a:moveTo>
                  <a:pt x="914" y="7617"/>
                </a:moveTo>
                <a:lnTo>
                  <a:pt x="956" y="7422"/>
                </a:lnTo>
                <a:lnTo>
                  <a:pt x="955" y="7432"/>
                </a:lnTo>
                <a:lnTo>
                  <a:pt x="955" y="7232"/>
                </a:lnTo>
                <a:lnTo>
                  <a:pt x="1055" y="7232"/>
                </a:lnTo>
                <a:lnTo>
                  <a:pt x="1055" y="7432"/>
                </a:lnTo>
                <a:cubicBezTo>
                  <a:pt x="1055" y="7436"/>
                  <a:pt x="1055" y="7439"/>
                  <a:pt x="1054" y="7443"/>
                </a:cubicBezTo>
                <a:lnTo>
                  <a:pt x="1011" y="7638"/>
                </a:lnTo>
                <a:lnTo>
                  <a:pt x="914" y="7617"/>
                </a:lnTo>
                <a:close/>
                <a:moveTo>
                  <a:pt x="984" y="6926"/>
                </a:moveTo>
                <a:lnTo>
                  <a:pt x="1005" y="6806"/>
                </a:lnTo>
                <a:lnTo>
                  <a:pt x="1067" y="6580"/>
                </a:lnTo>
                <a:lnTo>
                  <a:pt x="1076" y="6535"/>
                </a:lnTo>
                <a:lnTo>
                  <a:pt x="1174" y="6556"/>
                </a:lnTo>
                <a:lnTo>
                  <a:pt x="1163" y="6607"/>
                </a:lnTo>
                <a:lnTo>
                  <a:pt x="1103" y="6824"/>
                </a:lnTo>
                <a:lnTo>
                  <a:pt x="1082" y="6943"/>
                </a:lnTo>
                <a:lnTo>
                  <a:pt x="984" y="6926"/>
                </a:lnTo>
                <a:close/>
                <a:moveTo>
                  <a:pt x="1144" y="6240"/>
                </a:moveTo>
                <a:lnTo>
                  <a:pt x="1188" y="6080"/>
                </a:lnTo>
                <a:lnTo>
                  <a:pt x="1247" y="5854"/>
                </a:lnTo>
                <a:lnTo>
                  <a:pt x="1344" y="5879"/>
                </a:lnTo>
                <a:lnTo>
                  <a:pt x="1285" y="6106"/>
                </a:lnTo>
                <a:lnTo>
                  <a:pt x="1241" y="6266"/>
                </a:lnTo>
                <a:lnTo>
                  <a:pt x="1144" y="6240"/>
                </a:lnTo>
                <a:close/>
                <a:moveTo>
                  <a:pt x="1296" y="5574"/>
                </a:moveTo>
                <a:lnTo>
                  <a:pt x="1296" y="5534"/>
                </a:lnTo>
                <a:cubicBezTo>
                  <a:pt x="1296" y="5528"/>
                  <a:pt x="1297" y="5523"/>
                  <a:pt x="1299" y="5517"/>
                </a:cubicBezTo>
                <a:lnTo>
                  <a:pt x="1360" y="5343"/>
                </a:lnTo>
                <a:cubicBezTo>
                  <a:pt x="1361" y="5340"/>
                  <a:pt x="1363" y="5337"/>
                  <a:pt x="1364" y="5334"/>
                </a:cubicBezTo>
                <a:lnTo>
                  <a:pt x="1425" y="5229"/>
                </a:lnTo>
                <a:lnTo>
                  <a:pt x="1449" y="5184"/>
                </a:lnTo>
                <a:lnTo>
                  <a:pt x="1537" y="5230"/>
                </a:lnTo>
                <a:lnTo>
                  <a:pt x="1512" y="5279"/>
                </a:lnTo>
                <a:lnTo>
                  <a:pt x="1451" y="5384"/>
                </a:lnTo>
                <a:lnTo>
                  <a:pt x="1455" y="5376"/>
                </a:lnTo>
                <a:lnTo>
                  <a:pt x="1394" y="5550"/>
                </a:lnTo>
                <a:lnTo>
                  <a:pt x="1396" y="5534"/>
                </a:lnTo>
                <a:lnTo>
                  <a:pt x="1396" y="5574"/>
                </a:lnTo>
                <a:lnTo>
                  <a:pt x="1296" y="5574"/>
                </a:lnTo>
                <a:close/>
                <a:moveTo>
                  <a:pt x="1655" y="4948"/>
                </a:moveTo>
                <a:lnTo>
                  <a:pt x="1726" y="4880"/>
                </a:lnTo>
                <a:lnTo>
                  <a:pt x="1761" y="4967"/>
                </a:lnTo>
                <a:lnTo>
                  <a:pt x="1700" y="4967"/>
                </a:lnTo>
                <a:cubicBezTo>
                  <a:pt x="1633" y="4967"/>
                  <a:pt x="1633" y="4867"/>
                  <a:pt x="1700" y="4867"/>
                </a:cubicBezTo>
                <a:lnTo>
                  <a:pt x="1761" y="4867"/>
                </a:lnTo>
                <a:lnTo>
                  <a:pt x="1822" y="4867"/>
                </a:lnTo>
                <a:lnTo>
                  <a:pt x="1883" y="4867"/>
                </a:lnTo>
                <a:lnTo>
                  <a:pt x="1941" y="4867"/>
                </a:lnTo>
                <a:lnTo>
                  <a:pt x="1941" y="4967"/>
                </a:lnTo>
                <a:lnTo>
                  <a:pt x="1883" y="4967"/>
                </a:lnTo>
                <a:lnTo>
                  <a:pt x="1822" y="4967"/>
                </a:lnTo>
                <a:lnTo>
                  <a:pt x="1761" y="4967"/>
                </a:lnTo>
                <a:lnTo>
                  <a:pt x="1700" y="4967"/>
                </a:lnTo>
                <a:lnTo>
                  <a:pt x="1700" y="4867"/>
                </a:lnTo>
                <a:lnTo>
                  <a:pt x="1761" y="4867"/>
                </a:lnTo>
                <a:cubicBezTo>
                  <a:pt x="1781" y="4867"/>
                  <a:pt x="1800" y="4879"/>
                  <a:pt x="1807" y="4898"/>
                </a:cubicBezTo>
                <a:cubicBezTo>
                  <a:pt x="1815" y="4917"/>
                  <a:pt x="1810" y="4939"/>
                  <a:pt x="1795" y="4953"/>
                </a:cubicBezTo>
                <a:lnTo>
                  <a:pt x="1724" y="5021"/>
                </a:lnTo>
                <a:lnTo>
                  <a:pt x="1655" y="4948"/>
                </a:lnTo>
                <a:close/>
                <a:moveTo>
                  <a:pt x="2199" y="4971"/>
                </a:moveTo>
                <a:lnTo>
                  <a:pt x="2236" y="4971"/>
                </a:lnTo>
                <a:lnTo>
                  <a:pt x="2285" y="4971"/>
                </a:lnTo>
                <a:cubicBezTo>
                  <a:pt x="2298" y="4971"/>
                  <a:pt x="2310" y="4976"/>
                  <a:pt x="2320" y="4985"/>
                </a:cubicBezTo>
                <a:lnTo>
                  <a:pt x="2380" y="5043"/>
                </a:lnTo>
                <a:lnTo>
                  <a:pt x="2346" y="5030"/>
                </a:lnTo>
                <a:lnTo>
                  <a:pt x="2407" y="5030"/>
                </a:lnTo>
                <a:lnTo>
                  <a:pt x="2372" y="5043"/>
                </a:lnTo>
                <a:lnTo>
                  <a:pt x="2433" y="4985"/>
                </a:lnTo>
                <a:cubicBezTo>
                  <a:pt x="2443" y="4976"/>
                  <a:pt x="2455" y="4971"/>
                  <a:pt x="2468" y="4971"/>
                </a:cubicBezTo>
                <a:lnTo>
                  <a:pt x="2529" y="4971"/>
                </a:lnTo>
                <a:lnTo>
                  <a:pt x="2490" y="4989"/>
                </a:lnTo>
                <a:lnTo>
                  <a:pt x="2505" y="4972"/>
                </a:lnTo>
                <a:lnTo>
                  <a:pt x="2582" y="5036"/>
                </a:lnTo>
                <a:lnTo>
                  <a:pt x="2567" y="5053"/>
                </a:lnTo>
                <a:cubicBezTo>
                  <a:pt x="2558" y="5065"/>
                  <a:pt x="2544" y="5071"/>
                  <a:pt x="2529" y="5071"/>
                </a:cubicBezTo>
                <a:lnTo>
                  <a:pt x="2468" y="5071"/>
                </a:lnTo>
                <a:lnTo>
                  <a:pt x="2502" y="5058"/>
                </a:lnTo>
                <a:lnTo>
                  <a:pt x="2441" y="5116"/>
                </a:lnTo>
                <a:cubicBezTo>
                  <a:pt x="2432" y="5125"/>
                  <a:pt x="2420" y="5130"/>
                  <a:pt x="2407" y="5130"/>
                </a:cubicBezTo>
                <a:lnTo>
                  <a:pt x="2346" y="5130"/>
                </a:lnTo>
                <a:cubicBezTo>
                  <a:pt x="2333" y="5130"/>
                  <a:pt x="2321" y="5125"/>
                  <a:pt x="2311" y="5116"/>
                </a:cubicBezTo>
                <a:lnTo>
                  <a:pt x="2250" y="5058"/>
                </a:lnTo>
                <a:lnTo>
                  <a:pt x="2285" y="5071"/>
                </a:lnTo>
                <a:lnTo>
                  <a:pt x="2236" y="5071"/>
                </a:lnTo>
                <a:lnTo>
                  <a:pt x="2199" y="5071"/>
                </a:lnTo>
                <a:lnTo>
                  <a:pt x="2199" y="4971"/>
                </a:lnTo>
                <a:close/>
                <a:moveTo>
                  <a:pt x="2673" y="4742"/>
                </a:moveTo>
                <a:lnTo>
                  <a:pt x="2716" y="4660"/>
                </a:lnTo>
                <a:cubicBezTo>
                  <a:pt x="2719" y="4654"/>
                  <a:pt x="2724" y="4648"/>
                  <a:pt x="2730" y="4644"/>
                </a:cubicBezTo>
                <a:lnTo>
                  <a:pt x="2791" y="4597"/>
                </a:lnTo>
                <a:lnTo>
                  <a:pt x="2775" y="4618"/>
                </a:lnTo>
                <a:lnTo>
                  <a:pt x="2824" y="4501"/>
                </a:lnTo>
                <a:lnTo>
                  <a:pt x="2874" y="4405"/>
                </a:lnTo>
                <a:lnTo>
                  <a:pt x="2963" y="4451"/>
                </a:lnTo>
                <a:lnTo>
                  <a:pt x="2916" y="4540"/>
                </a:lnTo>
                <a:lnTo>
                  <a:pt x="2867" y="4656"/>
                </a:lnTo>
                <a:cubicBezTo>
                  <a:pt x="2864" y="4664"/>
                  <a:pt x="2859" y="4671"/>
                  <a:pt x="2852" y="4677"/>
                </a:cubicBezTo>
                <a:lnTo>
                  <a:pt x="2791" y="4723"/>
                </a:lnTo>
                <a:lnTo>
                  <a:pt x="2805" y="4707"/>
                </a:lnTo>
                <a:lnTo>
                  <a:pt x="2762" y="4789"/>
                </a:lnTo>
                <a:lnTo>
                  <a:pt x="2673" y="4742"/>
                </a:lnTo>
                <a:close/>
                <a:moveTo>
                  <a:pt x="2942" y="4147"/>
                </a:moveTo>
                <a:lnTo>
                  <a:pt x="2942" y="4125"/>
                </a:lnTo>
                <a:cubicBezTo>
                  <a:pt x="2942" y="4116"/>
                  <a:pt x="2944" y="4107"/>
                  <a:pt x="2949" y="4099"/>
                </a:cubicBezTo>
                <a:lnTo>
                  <a:pt x="3010" y="3995"/>
                </a:lnTo>
                <a:lnTo>
                  <a:pt x="3070" y="3880"/>
                </a:lnTo>
                <a:lnTo>
                  <a:pt x="3066" y="3889"/>
                </a:lnTo>
                <a:lnTo>
                  <a:pt x="3102" y="3770"/>
                </a:lnTo>
                <a:lnTo>
                  <a:pt x="3197" y="3798"/>
                </a:lnTo>
                <a:lnTo>
                  <a:pt x="3162" y="3918"/>
                </a:lnTo>
                <a:cubicBezTo>
                  <a:pt x="3161" y="3921"/>
                  <a:pt x="3160" y="3924"/>
                  <a:pt x="3158" y="3926"/>
                </a:cubicBezTo>
                <a:lnTo>
                  <a:pt x="3096" y="4045"/>
                </a:lnTo>
                <a:lnTo>
                  <a:pt x="3035" y="4150"/>
                </a:lnTo>
                <a:lnTo>
                  <a:pt x="3042" y="4125"/>
                </a:lnTo>
                <a:lnTo>
                  <a:pt x="3042" y="4147"/>
                </a:lnTo>
                <a:lnTo>
                  <a:pt x="2942" y="4147"/>
                </a:lnTo>
                <a:close/>
                <a:moveTo>
                  <a:pt x="3220" y="3491"/>
                </a:moveTo>
                <a:lnTo>
                  <a:pt x="3238" y="3443"/>
                </a:lnTo>
                <a:lnTo>
                  <a:pt x="3301" y="3321"/>
                </a:lnTo>
                <a:lnTo>
                  <a:pt x="3296" y="3344"/>
                </a:lnTo>
                <a:lnTo>
                  <a:pt x="3296" y="3181"/>
                </a:lnTo>
                <a:cubicBezTo>
                  <a:pt x="3296" y="3173"/>
                  <a:pt x="3297" y="3165"/>
                  <a:pt x="3301" y="3158"/>
                </a:cubicBezTo>
                <a:lnTo>
                  <a:pt x="3326" y="3110"/>
                </a:lnTo>
                <a:lnTo>
                  <a:pt x="3415" y="3156"/>
                </a:lnTo>
                <a:lnTo>
                  <a:pt x="3390" y="3204"/>
                </a:lnTo>
                <a:lnTo>
                  <a:pt x="3396" y="3181"/>
                </a:lnTo>
                <a:lnTo>
                  <a:pt x="3396" y="3344"/>
                </a:lnTo>
                <a:cubicBezTo>
                  <a:pt x="3396" y="3352"/>
                  <a:pt x="3394" y="3360"/>
                  <a:pt x="3390" y="3367"/>
                </a:cubicBezTo>
                <a:lnTo>
                  <a:pt x="3331" y="3478"/>
                </a:lnTo>
                <a:lnTo>
                  <a:pt x="3313" y="3526"/>
                </a:lnTo>
                <a:lnTo>
                  <a:pt x="3220" y="3491"/>
                </a:lnTo>
                <a:close/>
                <a:moveTo>
                  <a:pt x="3460" y="2840"/>
                </a:moveTo>
                <a:lnTo>
                  <a:pt x="3473" y="2818"/>
                </a:lnTo>
                <a:lnTo>
                  <a:pt x="3469" y="2827"/>
                </a:lnTo>
                <a:lnTo>
                  <a:pt x="3530" y="2652"/>
                </a:lnTo>
                <a:cubicBezTo>
                  <a:pt x="3531" y="2649"/>
                  <a:pt x="3532" y="2646"/>
                  <a:pt x="3534" y="2644"/>
                </a:cubicBezTo>
                <a:lnTo>
                  <a:pt x="3595" y="2539"/>
                </a:lnTo>
                <a:cubicBezTo>
                  <a:pt x="3597" y="2535"/>
                  <a:pt x="3600" y="2531"/>
                  <a:pt x="3604" y="2528"/>
                </a:cubicBezTo>
                <a:lnTo>
                  <a:pt x="3653" y="2480"/>
                </a:lnTo>
                <a:lnTo>
                  <a:pt x="3722" y="2552"/>
                </a:lnTo>
                <a:lnTo>
                  <a:pt x="3673" y="2600"/>
                </a:lnTo>
                <a:lnTo>
                  <a:pt x="3681" y="2589"/>
                </a:lnTo>
                <a:lnTo>
                  <a:pt x="3620" y="2694"/>
                </a:lnTo>
                <a:lnTo>
                  <a:pt x="3624" y="2685"/>
                </a:lnTo>
                <a:lnTo>
                  <a:pt x="3563" y="2860"/>
                </a:lnTo>
                <a:cubicBezTo>
                  <a:pt x="3562" y="2863"/>
                  <a:pt x="3561" y="2866"/>
                  <a:pt x="3559" y="2869"/>
                </a:cubicBezTo>
                <a:lnTo>
                  <a:pt x="3547" y="2890"/>
                </a:lnTo>
                <a:lnTo>
                  <a:pt x="3460" y="2840"/>
                </a:lnTo>
                <a:close/>
                <a:moveTo>
                  <a:pt x="3752" y="2216"/>
                </a:moveTo>
                <a:lnTo>
                  <a:pt x="3770" y="2194"/>
                </a:lnTo>
                <a:lnTo>
                  <a:pt x="3764" y="2203"/>
                </a:lnTo>
                <a:lnTo>
                  <a:pt x="3825" y="2086"/>
                </a:lnTo>
                <a:cubicBezTo>
                  <a:pt x="3828" y="2082"/>
                  <a:pt x="3831" y="2077"/>
                  <a:pt x="3835" y="2073"/>
                </a:cubicBezTo>
                <a:lnTo>
                  <a:pt x="3896" y="2015"/>
                </a:lnTo>
                <a:lnTo>
                  <a:pt x="4016" y="1912"/>
                </a:lnTo>
                <a:lnTo>
                  <a:pt x="4081" y="1988"/>
                </a:lnTo>
                <a:lnTo>
                  <a:pt x="3965" y="2088"/>
                </a:lnTo>
                <a:lnTo>
                  <a:pt x="3904" y="2146"/>
                </a:lnTo>
                <a:lnTo>
                  <a:pt x="3914" y="2133"/>
                </a:lnTo>
                <a:lnTo>
                  <a:pt x="3853" y="2249"/>
                </a:lnTo>
                <a:cubicBezTo>
                  <a:pt x="3851" y="2252"/>
                  <a:pt x="3849" y="2255"/>
                  <a:pt x="3847" y="2258"/>
                </a:cubicBezTo>
                <a:lnTo>
                  <a:pt x="3828" y="2281"/>
                </a:lnTo>
                <a:lnTo>
                  <a:pt x="3752" y="2216"/>
                </a:lnTo>
                <a:close/>
                <a:moveTo>
                  <a:pt x="4198" y="1838"/>
                </a:moveTo>
                <a:lnTo>
                  <a:pt x="4223" y="1838"/>
                </a:lnTo>
                <a:lnTo>
                  <a:pt x="4284" y="1838"/>
                </a:lnTo>
                <a:lnTo>
                  <a:pt x="4345" y="1838"/>
                </a:lnTo>
                <a:cubicBezTo>
                  <a:pt x="4360" y="1838"/>
                  <a:pt x="4374" y="1845"/>
                  <a:pt x="4383" y="1856"/>
                </a:cubicBezTo>
                <a:lnTo>
                  <a:pt x="4432" y="1914"/>
                </a:lnTo>
                <a:lnTo>
                  <a:pt x="4394" y="1897"/>
                </a:lnTo>
                <a:lnTo>
                  <a:pt x="4455" y="1897"/>
                </a:lnTo>
                <a:cubicBezTo>
                  <a:pt x="4466" y="1897"/>
                  <a:pt x="4476" y="1900"/>
                  <a:pt x="4485" y="1907"/>
                </a:cubicBezTo>
                <a:lnTo>
                  <a:pt x="4546" y="1953"/>
                </a:lnTo>
                <a:lnTo>
                  <a:pt x="4579" y="1984"/>
                </a:lnTo>
                <a:lnTo>
                  <a:pt x="4509" y="2056"/>
                </a:lnTo>
                <a:lnTo>
                  <a:pt x="4485" y="2033"/>
                </a:lnTo>
                <a:lnTo>
                  <a:pt x="4424" y="1986"/>
                </a:lnTo>
                <a:lnTo>
                  <a:pt x="4455" y="1997"/>
                </a:lnTo>
                <a:lnTo>
                  <a:pt x="4394" y="1997"/>
                </a:lnTo>
                <a:cubicBezTo>
                  <a:pt x="4379" y="1997"/>
                  <a:pt x="4365" y="1990"/>
                  <a:pt x="4356" y="1979"/>
                </a:cubicBezTo>
                <a:lnTo>
                  <a:pt x="4307" y="1920"/>
                </a:lnTo>
                <a:lnTo>
                  <a:pt x="4345" y="1938"/>
                </a:lnTo>
                <a:lnTo>
                  <a:pt x="4284" y="1938"/>
                </a:lnTo>
                <a:lnTo>
                  <a:pt x="4223" y="1938"/>
                </a:lnTo>
                <a:lnTo>
                  <a:pt x="4198" y="1938"/>
                </a:lnTo>
                <a:lnTo>
                  <a:pt x="4198" y="1838"/>
                </a:lnTo>
                <a:close/>
                <a:moveTo>
                  <a:pt x="4789" y="2197"/>
                </a:moveTo>
                <a:lnTo>
                  <a:pt x="4843" y="2248"/>
                </a:lnTo>
                <a:lnTo>
                  <a:pt x="4900" y="2291"/>
                </a:lnTo>
                <a:lnTo>
                  <a:pt x="4965" y="2353"/>
                </a:lnTo>
                <a:lnTo>
                  <a:pt x="5017" y="2415"/>
                </a:lnTo>
                <a:lnTo>
                  <a:pt x="5074" y="2469"/>
                </a:lnTo>
                <a:lnTo>
                  <a:pt x="5078" y="2473"/>
                </a:lnTo>
                <a:lnTo>
                  <a:pt x="5009" y="2545"/>
                </a:lnTo>
                <a:lnTo>
                  <a:pt x="5005" y="2542"/>
                </a:lnTo>
                <a:lnTo>
                  <a:pt x="4941" y="2479"/>
                </a:lnTo>
                <a:lnTo>
                  <a:pt x="4896" y="2425"/>
                </a:lnTo>
                <a:lnTo>
                  <a:pt x="4839" y="2371"/>
                </a:lnTo>
                <a:lnTo>
                  <a:pt x="4774" y="2320"/>
                </a:lnTo>
                <a:lnTo>
                  <a:pt x="4720" y="2269"/>
                </a:lnTo>
                <a:lnTo>
                  <a:pt x="4789" y="2197"/>
                </a:lnTo>
                <a:close/>
                <a:moveTo>
                  <a:pt x="5273" y="2493"/>
                </a:moveTo>
                <a:lnTo>
                  <a:pt x="5298" y="2469"/>
                </a:lnTo>
                <a:cubicBezTo>
                  <a:pt x="5307" y="2461"/>
                  <a:pt x="5320" y="2456"/>
                  <a:pt x="5332" y="2456"/>
                </a:cubicBezTo>
                <a:lnTo>
                  <a:pt x="5393" y="2456"/>
                </a:lnTo>
                <a:lnTo>
                  <a:pt x="5359" y="2469"/>
                </a:lnTo>
                <a:lnTo>
                  <a:pt x="5420" y="2411"/>
                </a:lnTo>
                <a:lnTo>
                  <a:pt x="5481" y="2353"/>
                </a:lnTo>
                <a:lnTo>
                  <a:pt x="5526" y="2299"/>
                </a:lnTo>
                <a:cubicBezTo>
                  <a:pt x="5528" y="2296"/>
                  <a:pt x="5531" y="2293"/>
                  <a:pt x="5534" y="2291"/>
                </a:cubicBezTo>
                <a:lnTo>
                  <a:pt x="5581" y="2255"/>
                </a:lnTo>
                <a:lnTo>
                  <a:pt x="5642" y="2334"/>
                </a:lnTo>
                <a:lnTo>
                  <a:pt x="5594" y="2371"/>
                </a:lnTo>
                <a:lnTo>
                  <a:pt x="5602" y="2363"/>
                </a:lnTo>
                <a:lnTo>
                  <a:pt x="5550" y="2425"/>
                </a:lnTo>
                <a:lnTo>
                  <a:pt x="5489" y="2484"/>
                </a:lnTo>
                <a:lnTo>
                  <a:pt x="5428" y="2542"/>
                </a:lnTo>
                <a:cubicBezTo>
                  <a:pt x="5419" y="2551"/>
                  <a:pt x="5406" y="2556"/>
                  <a:pt x="5393" y="2556"/>
                </a:cubicBezTo>
                <a:lnTo>
                  <a:pt x="5332" y="2556"/>
                </a:lnTo>
                <a:lnTo>
                  <a:pt x="5367" y="2542"/>
                </a:lnTo>
                <a:lnTo>
                  <a:pt x="5342" y="2566"/>
                </a:lnTo>
                <a:lnTo>
                  <a:pt x="5273" y="2493"/>
                </a:lnTo>
                <a:close/>
                <a:moveTo>
                  <a:pt x="5677" y="1991"/>
                </a:moveTo>
                <a:lnTo>
                  <a:pt x="5712" y="1957"/>
                </a:lnTo>
                <a:lnTo>
                  <a:pt x="5704" y="1968"/>
                </a:lnTo>
                <a:lnTo>
                  <a:pt x="5765" y="1863"/>
                </a:lnTo>
                <a:lnTo>
                  <a:pt x="5810" y="1753"/>
                </a:lnTo>
                <a:lnTo>
                  <a:pt x="5865" y="1657"/>
                </a:lnTo>
                <a:lnTo>
                  <a:pt x="5952" y="1708"/>
                </a:lnTo>
                <a:lnTo>
                  <a:pt x="5903" y="1791"/>
                </a:lnTo>
                <a:lnTo>
                  <a:pt x="5851" y="1913"/>
                </a:lnTo>
                <a:lnTo>
                  <a:pt x="5790" y="2018"/>
                </a:lnTo>
                <a:cubicBezTo>
                  <a:pt x="5788" y="2022"/>
                  <a:pt x="5785" y="2026"/>
                  <a:pt x="5781" y="2029"/>
                </a:cubicBezTo>
                <a:lnTo>
                  <a:pt x="5746" y="2063"/>
                </a:lnTo>
                <a:lnTo>
                  <a:pt x="5677" y="1991"/>
                </a:lnTo>
                <a:close/>
                <a:moveTo>
                  <a:pt x="5944" y="1384"/>
                </a:moveTo>
                <a:lnTo>
                  <a:pt x="5993" y="1254"/>
                </a:lnTo>
                <a:lnTo>
                  <a:pt x="6056" y="1131"/>
                </a:lnTo>
                <a:lnTo>
                  <a:pt x="6118" y="1025"/>
                </a:lnTo>
                <a:lnTo>
                  <a:pt x="6118" y="1023"/>
                </a:lnTo>
                <a:lnTo>
                  <a:pt x="6210" y="1062"/>
                </a:lnTo>
                <a:lnTo>
                  <a:pt x="6205" y="1075"/>
                </a:lnTo>
                <a:lnTo>
                  <a:pt x="6145" y="1178"/>
                </a:lnTo>
                <a:lnTo>
                  <a:pt x="6086" y="1289"/>
                </a:lnTo>
                <a:lnTo>
                  <a:pt x="6037" y="1419"/>
                </a:lnTo>
                <a:lnTo>
                  <a:pt x="5944" y="1384"/>
                </a:lnTo>
                <a:close/>
                <a:moveTo>
                  <a:pt x="6253" y="749"/>
                </a:moveTo>
                <a:lnTo>
                  <a:pt x="6289" y="687"/>
                </a:lnTo>
                <a:lnTo>
                  <a:pt x="6282" y="712"/>
                </a:lnTo>
                <a:lnTo>
                  <a:pt x="6282" y="596"/>
                </a:lnTo>
                <a:cubicBezTo>
                  <a:pt x="6282" y="582"/>
                  <a:pt x="6288" y="569"/>
                  <a:pt x="6297" y="559"/>
                </a:cubicBezTo>
                <a:lnTo>
                  <a:pt x="6358" y="501"/>
                </a:lnTo>
                <a:lnTo>
                  <a:pt x="6350" y="512"/>
                </a:lnTo>
                <a:lnTo>
                  <a:pt x="6411" y="407"/>
                </a:lnTo>
                <a:lnTo>
                  <a:pt x="6410" y="407"/>
                </a:lnTo>
                <a:lnTo>
                  <a:pt x="6503" y="446"/>
                </a:lnTo>
                <a:lnTo>
                  <a:pt x="6497" y="458"/>
                </a:lnTo>
                <a:lnTo>
                  <a:pt x="6436" y="562"/>
                </a:lnTo>
                <a:cubicBezTo>
                  <a:pt x="6434" y="566"/>
                  <a:pt x="6431" y="570"/>
                  <a:pt x="6428" y="573"/>
                </a:cubicBezTo>
                <a:lnTo>
                  <a:pt x="6367" y="632"/>
                </a:lnTo>
                <a:lnTo>
                  <a:pt x="6382" y="596"/>
                </a:lnTo>
                <a:lnTo>
                  <a:pt x="6382" y="712"/>
                </a:lnTo>
                <a:cubicBezTo>
                  <a:pt x="6382" y="721"/>
                  <a:pt x="6380" y="729"/>
                  <a:pt x="6375" y="737"/>
                </a:cubicBezTo>
                <a:lnTo>
                  <a:pt x="6339" y="799"/>
                </a:lnTo>
                <a:lnTo>
                  <a:pt x="6253" y="749"/>
                </a:lnTo>
                <a:close/>
                <a:moveTo>
                  <a:pt x="6569" y="150"/>
                </a:moveTo>
                <a:lnTo>
                  <a:pt x="6581" y="128"/>
                </a:lnTo>
                <a:cubicBezTo>
                  <a:pt x="6584" y="124"/>
                  <a:pt x="6587" y="120"/>
                  <a:pt x="6590" y="117"/>
                </a:cubicBezTo>
                <a:lnTo>
                  <a:pt x="6651" y="59"/>
                </a:lnTo>
                <a:lnTo>
                  <a:pt x="6712" y="0"/>
                </a:lnTo>
                <a:lnTo>
                  <a:pt x="6781" y="73"/>
                </a:lnTo>
                <a:lnTo>
                  <a:pt x="6720" y="131"/>
                </a:lnTo>
                <a:lnTo>
                  <a:pt x="6659" y="189"/>
                </a:lnTo>
                <a:lnTo>
                  <a:pt x="6668" y="178"/>
                </a:lnTo>
                <a:lnTo>
                  <a:pt x="6655" y="200"/>
                </a:lnTo>
                <a:lnTo>
                  <a:pt x="6569" y="150"/>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3751200" y="3017880"/>
            <a:ext cx="1122480" cy="601560"/>
          </a:xfrm>
          <a:custGeom>
            <a:avLst/>
            <a:gdLst/>
            <a:ahLst/>
            <a:rect l="l" t="t" r="r" b="b"/>
            <a:pathLst>
              <a:path w="7107" h="3790">
                <a:moveTo>
                  <a:pt x="0" y="3150"/>
                </a:moveTo>
                <a:lnTo>
                  <a:pt x="49" y="3091"/>
                </a:lnTo>
                <a:cubicBezTo>
                  <a:pt x="58" y="3080"/>
                  <a:pt x="72" y="3074"/>
                  <a:pt x="87" y="3074"/>
                </a:cubicBezTo>
                <a:lnTo>
                  <a:pt x="148" y="3074"/>
                </a:lnTo>
                <a:lnTo>
                  <a:pt x="209" y="3074"/>
                </a:lnTo>
                <a:lnTo>
                  <a:pt x="175" y="3087"/>
                </a:lnTo>
                <a:lnTo>
                  <a:pt x="236" y="3029"/>
                </a:lnTo>
                <a:cubicBezTo>
                  <a:pt x="245" y="3020"/>
                  <a:pt x="257" y="3015"/>
                  <a:pt x="270" y="3015"/>
                </a:cubicBezTo>
                <a:lnTo>
                  <a:pt x="331" y="3015"/>
                </a:lnTo>
                <a:cubicBezTo>
                  <a:pt x="346" y="3015"/>
                  <a:pt x="360" y="3022"/>
                  <a:pt x="370" y="3033"/>
                </a:cubicBezTo>
                <a:lnTo>
                  <a:pt x="406" y="3077"/>
                </a:lnTo>
                <a:lnTo>
                  <a:pt x="329" y="3141"/>
                </a:lnTo>
                <a:lnTo>
                  <a:pt x="293" y="3097"/>
                </a:lnTo>
                <a:lnTo>
                  <a:pt x="331" y="3115"/>
                </a:lnTo>
                <a:lnTo>
                  <a:pt x="270" y="3115"/>
                </a:lnTo>
                <a:lnTo>
                  <a:pt x="305" y="3102"/>
                </a:lnTo>
                <a:lnTo>
                  <a:pt x="244" y="3160"/>
                </a:lnTo>
                <a:cubicBezTo>
                  <a:pt x="235" y="3169"/>
                  <a:pt x="222" y="3174"/>
                  <a:pt x="209" y="3174"/>
                </a:cubicBezTo>
                <a:lnTo>
                  <a:pt x="148" y="3174"/>
                </a:lnTo>
                <a:lnTo>
                  <a:pt x="87" y="3174"/>
                </a:lnTo>
                <a:lnTo>
                  <a:pt x="126" y="3156"/>
                </a:lnTo>
                <a:lnTo>
                  <a:pt x="77" y="3214"/>
                </a:lnTo>
                <a:lnTo>
                  <a:pt x="0" y="3150"/>
                </a:lnTo>
                <a:close/>
                <a:moveTo>
                  <a:pt x="642" y="3224"/>
                </a:moveTo>
                <a:lnTo>
                  <a:pt x="668" y="3275"/>
                </a:lnTo>
                <a:lnTo>
                  <a:pt x="624" y="3248"/>
                </a:lnTo>
                <a:lnTo>
                  <a:pt x="673" y="3248"/>
                </a:lnTo>
                <a:cubicBezTo>
                  <a:pt x="686" y="3248"/>
                  <a:pt x="698" y="3253"/>
                  <a:pt x="707" y="3262"/>
                </a:cubicBezTo>
                <a:lnTo>
                  <a:pt x="768" y="3320"/>
                </a:lnTo>
                <a:lnTo>
                  <a:pt x="825" y="3363"/>
                </a:lnTo>
                <a:lnTo>
                  <a:pt x="890" y="3425"/>
                </a:lnTo>
                <a:lnTo>
                  <a:pt x="926" y="3459"/>
                </a:lnTo>
                <a:lnTo>
                  <a:pt x="857" y="3531"/>
                </a:lnTo>
                <a:lnTo>
                  <a:pt x="821" y="3497"/>
                </a:lnTo>
                <a:lnTo>
                  <a:pt x="765" y="3443"/>
                </a:lnTo>
                <a:lnTo>
                  <a:pt x="699" y="3393"/>
                </a:lnTo>
                <a:lnTo>
                  <a:pt x="638" y="3334"/>
                </a:lnTo>
                <a:lnTo>
                  <a:pt x="673" y="3348"/>
                </a:lnTo>
                <a:lnTo>
                  <a:pt x="624" y="3348"/>
                </a:lnTo>
                <a:cubicBezTo>
                  <a:pt x="606" y="3348"/>
                  <a:pt x="588" y="3338"/>
                  <a:pt x="580" y="3321"/>
                </a:cubicBezTo>
                <a:lnTo>
                  <a:pt x="553" y="3271"/>
                </a:lnTo>
                <a:lnTo>
                  <a:pt x="642" y="3224"/>
                </a:lnTo>
                <a:close/>
                <a:moveTo>
                  <a:pt x="1152" y="3622"/>
                </a:moveTo>
                <a:lnTo>
                  <a:pt x="1179" y="3643"/>
                </a:lnTo>
                <a:lnTo>
                  <a:pt x="1149" y="3632"/>
                </a:lnTo>
                <a:lnTo>
                  <a:pt x="1210" y="3632"/>
                </a:lnTo>
                <a:cubicBezTo>
                  <a:pt x="1225" y="3632"/>
                  <a:pt x="1239" y="3639"/>
                  <a:pt x="1248" y="3650"/>
                </a:cubicBezTo>
                <a:lnTo>
                  <a:pt x="1297" y="3708"/>
                </a:lnTo>
                <a:lnTo>
                  <a:pt x="1259" y="3690"/>
                </a:lnTo>
                <a:lnTo>
                  <a:pt x="1320" y="3690"/>
                </a:lnTo>
                <a:lnTo>
                  <a:pt x="1381" y="3690"/>
                </a:lnTo>
                <a:lnTo>
                  <a:pt x="1346" y="3704"/>
                </a:lnTo>
                <a:lnTo>
                  <a:pt x="1407" y="3646"/>
                </a:lnTo>
                <a:cubicBezTo>
                  <a:pt x="1416" y="3637"/>
                  <a:pt x="1429" y="3632"/>
                  <a:pt x="1442" y="3632"/>
                </a:cubicBezTo>
                <a:lnTo>
                  <a:pt x="1465" y="3632"/>
                </a:lnTo>
                <a:lnTo>
                  <a:pt x="1465" y="3732"/>
                </a:lnTo>
                <a:lnTo>
                  <a:pt x="1442" y="3732"/>
                </a:lnTo>
                <a:lnTo>
                  <a:pt x="1476" y="3718"/>
                </a:lnTo>
                <a:lnTo>
                  <a:pt x="1415" y="3777"/>
                </a:lnTo>
                <a:cubicBezTo>
                  <a:pt x="1406" y="3786"/>
                  <a:pt x="1393" y="3790"/>
                  <a:pt x="1381" y="3790"/>
                </a:cubicBezTo>
                <a:lnTo>
                  <a:pt x="1320" y="3790"/>
                </a:lnTo>
                <a:lnTo>
                  <a:pt x="1259" y="3790"/>
                </a:lnTo>
                <a:cubicBezTo>
                  <a:pt x="1244" y="3790"/>
                  <a:pt x="1230" y="3784"/>
                  <a:pt x="1220" y="3773"/>
                </a:cubicBezTo>
                <a:lnTo>
                  <a:pt x="1171" y="3714"/>
                </a:lnTo>
                <a:lnTo>
                  <a:pt x="1210" y="3732"/>
                </a:lnTo>
                <a:lnTo>
                  <a:pt x="1149" y="3732"/>
                </a:lnTo>
                <a:cubicBezTo>
                  <a:pt x="1138" y="3732"/>
                  <a:pt x="1127" y="3729"/>
                  <a:pt x="1118" y="3722"/>
                </a:cubicBezTo>
                <a:lnTo>
                  <a:pt x="1092" y="3702"/>
                </a:lnTo>
                <a:lnTo>
                  <a:pt x="1152" y="3622"/>
                </a:lnTo>
                <a:close/>
                <a:moveTo>
                  <a:pt x="1625" y="3438"/>
                </a:moveTo>
                <a:lnTo>
                  <a:pt x="1639" y="3425"/>
                </a:lnTo>
                <a:lnTo>
                  <a:pt x="1700" y="3367"/>
                </a:lnTo>
                <a:lnTo>
                  <a:pt x="1765" y="3317"/>
                </a:lnTo>
                <a:lnTo>
                  <a:pt x="1751" y="3333"/>
                </a:lnTo>
                <a:lnTo>
                  <a:pt x="1812" y="3217"/>
                </a:lnTo>
                <a:cubicBezTo>
                  <a:pt x="1814" y="3214"/>
                  <a:pt x="1816" y="3211"/>
                  <a:pt x="1818" y="3208"/>
                </a:cubicBezTo>
                <a:lnTo>
                  <a:pt x="1867" y="3150"/>
                </a:lnTo>
                <a:lnTo>
                  <a:pt x="1855" y="3182"/>
                </a:lnTo>
                <a:lnTo>
                  <a:pt x="1855" y="3170"/>
                </a:lnTo>
                <a:lnTo>
                  <a:pt x="1955" y="3170"/>
                </a:lnTo>
                <a:lnTo>
                  <a:pt x="1955" y="3182"/>
                </a:lnTo>
                <a:cubicBezTo>
                  <a:pt x="1955" y="3193"/>
                  <a:pt x="1951" y="3205"/>
                  <a:pt x="1944" y="3214"/>
                </a:cubicBezTo>
                <a:lnTo>
                  <a:pt x="1895" y="3272"/>
                </a:lnTo>
                <a:lnTo>
                  <a:pt x="1901" y="3263"/>
                </a:lnTo>
                <a:lnTo>
                  <a:pt x="1840" y="3380"/>
                </a:lnTo>
                <a:cubicBezTo>
                  <a:pt x="1836" y="3386"/>
                  <a:pt x="1832" y="3392"/>
                  <a:pt x="1826" y="3396"/>
                </a:cubicBezTo>
                <a:lnTo>
                  <a:pt x="1769" y="3439"/>
                </a:lnTo>
                <a:lnTo>
                  <a:pt x="1708" y="3497"/>
                </a:lnTo>
                <a:lnTo>
                  <a:pt x="1694" y="3511"/>
                </a:lnTo>
                <a:lnTo>
                  <a:pt x="1625" y="3438"/>
                </a:lnTo>
                <a:close/>
                <a:moveTo>
                  <a:pt x="1957" y="2871"/>
                </a:moveTo>
                <a:lnTo>
                  <a:pt x="1983" y="2821"/>
                </a:lnTo>
                <a:cubicBezTo>
                  <a:pt x="1986" y="2816"/>
                  <a:pt x="1989" y="2812"/>
                  <a:pt x="1993" y="2808"/>
                </a:cubicBezTo>
                <a:lnTo>
                  <a:pt x="2054" y="2750"/>
                </a:lnTo>
                <a:lnTo>
                  <a:pt x="2045" y="2761"/>
                </a:lnTo>
                <a:lnTo>
                  <a:pt x="2106" y="2656"/>
                </a:lnTo>
                <a:lnTo>
                  <a:pt x="2152" y="2545"/>
                </a:lnTo>
                <a:lnTo>
                  <a:pt x="2161" y="2530"/>
                </a:lnTo>
                <a:lnTo>
                  <a:pt x="2247" y="2580"/>
                </a:lnTo>
                <a:lnTo>
                  <a:pt x="2244" y="2584"/>
                </a:lnTo>
                <a:lnTo>
                  <a:pt x="2193" y="2706"/>
                </a:lnTo>
                <a:lnTo>
                  <a:pt x="2132" y="2811"/>
                </a:lnTo>
                <a:cubicBezTo>
                  <a:pt x="2129" y="2815"/>
                  <a:pt x="2126" y="2819"/>
                  <a:pt x="2123" y="2822"/>
                </a:cubicBezTo>
                <a:lnTo>
                  <a:pt x="2062" y="2880"/>
                </a:lnTo>
                <a:lnTo>
                  <a:pt x="2072" y="2867"/>
                </a:lnTo>
                <a:lnTo>
                  <a:pt x="2045" y="2918"/>
                </a:lnTo>
                <a:lnTo>
                  <a:pt x="1957" y="2871"/>
                </a:lnTo>
                <a:close/>
                <a:moveTo>
                  <a:pt x="2278" y="2257"/>
                </a:moveTo>
                <a:lnTo>
                  <a:pt x="2286" y="2249"/>
                </a:lnTo>
                <a:lnTo>
                  <a:pt x="2276" y="2262"/>
                </a:lnTo>
                <a:lnTo>
                  <a:pt x="2337" y="2146"/>
                </a:lnTo>
                <a:lnTo>
                  <a:pt x="2399" y="2039"/>
                </a:lnTo>
                <a:cubicBezTo>
                  <a:pt x="2400" y="2037"/>
                  <a:pt x="2402" y="2034"/>
                  <a:pt x="2404" y="2032"/>
                </a:cubicBezTo>
                <a:lnTo>
                  <a:pt x="2453" y="1974"/>
                </a:lnTo>
                <a:lnTo>
                  <a:pt x="2447" y="1983"/>
                </a:lnTo>
                <a:lnTo>
                  <a:pt x="2475" y="1929"/>
                </a:lnTo>
                <a:lnTo>
                  <a:pt x="2563" y="1975"/>
                </a:lnTo>
                <a:lnTo>
                  <a:pt x="2535" y="2029"/>
                </a:lnTo>
                <a:cubicBezTo>
                  <a:pt x="2534" y="2032"/>
                  <a:pt x="2532" y="2035"/>
                  <a:pt x="2529" y="2038"/>
                </a:cubicBezTo>
                <a:lnTo>
                  <a:pt x="2480" y="2096"/>
                </a:lnTo>
                <a:lnTo>
                  <a:pt x="2485" y="2089"/>
                </a:lnTo>
                <a:lnTo>
                  <a:pt x="2425" y="2192"/>
                </a:lnTo>
                <a:lnTo>
                  <a:pt x="2364" y="2309"/>
                </a:lnTo>
                <a:cubicBezTo>
                  <a:pt x="2362" y="2313"/>
                  <a:pt x="2359" y="2318"/>
                  <a:pt x="2355" y="2322"/>
                </a:cubicBezTo>
                <a:lnTo>
                  <a:pt x="2347" y="2329"/>
                </a:lnTo>
                <a:lnTo>
                  <a:pt x="2278" y="2257"/>
                </a:lnTo>
                <a:close/>
                <a:moveTo>
                  <a:pt x="2650" y="1681"/>
                </a:moveTo>
                <a:lnTo>
                  <a:pt x="2700" y="1632"/>
                </a:lnTo>
                <a:lnTo>
                  <a:pt x="2745" y="1578"/>
                </a:lnTo>
                <a:cubicBezTo>
                  <a:pt x="2749" y="1574"/>
                  <a:pt x="2754" y="1570"/>
                  <a:pt x="2759" y="1567"/>
                </a:cubicBezTo>
                <a:lnTo>
                  <a:pt x="2942" y="1462"/>
                </a:lnTo>
                <a:lnTo>
                  <a:pt x="2967" y="1556"/>
                </a:lnTo>
                <a:lnTo>
                  <a:pt x="2924" y="1556"/>
                </a:lnTo>
                <a:lnTo>
                  <a:pt x="2924" y="1456"/>
                </a:lnTo>
                <a:lnTo>
                  <a:pt x="2967" y="1456"/>
                </a:lnTo>
                <a:cubicBezTo>
                  <a:pt x="2989" y="1456"/>
                  <a:pt x="3009" y="1471"/>
                  <a:pt x="3015" y="1493"/>
                </a:cubicBezTo>
                <a:cubicBezTo>
                  <a:pt x="3021" y="1515"/>
                  <a:pt x="3011" y="1538"/>
                  <a:pt x="2992" y="1549"/>
                </a:cubicBezTo>
                <a:lnTo>
                  <a:pt x="2809" y="1654"/>
                </a:lnTo>
                <a:lnTo>
                  <a:pt x="2822" y="1642"/>
                </a:lnTo>
                <a:lnTo>
                  <a:pt x="2769" y="1705"/>
                </a:lnTo>
                <a:lnTo>
                  <a:pt x="2719" y="1753"/>
                </a:lnTo>
                <a:lnTo>
                  <a:pt x="2650" y="1681"/>
                </a:lnTo>
                <a:close/>
                <a:moveTo>
                  <a:pt x="3189" y="1427"/>
                </a:moveTo>
                <a:lnTo>
                  <a:pt x="3233" y="1469"/>
                </a:lnTo>
                <a:lnTo>
                  <a:pt x="3199" y="1456"/>
                </a:lnTo>
                <a:lnTo>
                  <a:pt x="3260" y="1456"/>
                </a:lnTo>
                <a:cubicBezTo>
                  <a:pt x="3272" y="1456"/>
                  <a:pt x="3285" y="1460"/>
                  <a:pt x="3294" y="1469"/>
                </a:cubicBezTo>
                <a:lnTo>
                  <a:pt x="3355" y="1528"/>
                </a:lnTo>
                <a:lnTo>
                  <a:pt x="3321" y="1514"/>
                </a:lnTo>
                <a:lnTo>
                  <a:pt x="3369" y="1514"/>
                </a:lnTo>
                <a:cubicBezTo>
                  <a:pt x="3380" y="1514"/>
                  <a:pt x="3391" y="1517"/>
                  <a:pt x="3400" y="1524"/>
                </a:cubicBezTo>
                <a:lnTo>
                  <a:pt x="3461" y="1571"/>
                </a:lnTo>
                <a:lnTo>
                  <a:pt x="3430" y="1560"/>
                </a:lnTo>
                <a:lnTo>
                  <a:pt x="3491" y="1560"/>
                </a:lnTo>
                <a:cubicBezTo>
                  <a:pt x="3504" y="1560"/>
                  <a:pt x="3517" y="1565"/>
                  <a:pt x="3526" y="1574"/>
                </a:cubicBezTo>
                <a:lnTo>
                  <a:pt x="3531" y="1579"/>
                </a:lnTo>
                <a:lnTo>
                  <a:pt x="3462" y="1651"/>
                </a:lnTo>
                <a:lnTo>
                  <a:pt x="3457" y="1646"/>
                </a:lnTo>
                <a:lnTo>
                  <a:pt x="3491" y="1660"/>
                </a:lnTo>
                <a:lnTo>
                  <a:pt x="3430" y="1660"/>
                </a:lnTo>
                <a:cubicBezTo>
                  <a:pt x="3419" y="1660"/>
                  <a:pt x="3409" y="1657"/>
                  <a:pt x="3400" y="1650"/>
                </a:cubicBezTo>
                <a:lnTo>
                  <a:pt x="3339" y="1603"/>
                </a:lnTo>
                <a:lnTo>
                  <a:pt x="3369" y="1614"/>
                </a:lnTo>
                <a:lnTo>
                  <a:pt x="3321" y="1614"/>
                </a:lnTo>
                <a:cubicBezTo>
                  <a:pt x="3308" y="1614"/>
                  <a:pt x="3295" y="1609"/>
                  <a:pt x="3286" y="1600"/>
                </a:cubicBezTo>
                <a:lnTo>
                  <a:pt x="3225" y="1542"/>
                </a:lnTo>
                <a:lnTo>
                  <a:pt x="3260" y="1556"/>
                </a:lnTo>
                <a:lnTo>
                  <a:pt x="3199" y="1556"/>
                </a:lnTo>
                <a:cubicBezTo>
                  <a:pt x="3186" y="1556"/>
                  <a:pt x="3173" y="1551"/>
                  <a:pt x="3164" y="1542"/>
                </a:cubicBezTo>
                <a:lnTo>
                  <a:pt x="3120" y="1499"/>
                </a:lnTo>
                <a:lnTo>
                  <a:pt x="3189" y="1427"/>
                </a:lnTo>
                <a:close/>
                <a:moveTo>
                  <a:pt x="3759" y="1750"/>
                </a:moveTo>
                <a:lnTo>
                  <a:pt x="3819" y="1807"/>
                </a:lnTo>
                <a:lnTo>
                  <a:pt x="3876" y="1850"/>
                </a:lnTo>
                <a:lnTo>
                  <a:pt x="3941" y="1912"/>
                </a:lnTo>
                <a:lnTo>
                  <a:pt x="3906" y="1898"/>
                </a:lnTo>
                <a:lnTo>
                  <a:pt x="3967" y="1898"/>
                </a:lnTo>
                <a:lnTo>
                  <a:pt x="4016" y="1898"/>
                </a:lnTo>
                <a:lnTo>
                  <a:pt x="4062" y="1898"/>
                </a:lnTo>
                <a:lnTo>
                  <a:pt x="4062" y="1998"/>
                </a:lnTo>
                <a:lnTo>
                  <a:pt x="4016" y="1998"/>
                </a:lnTo>
                <a:lnTo>
                  <a:pt x="3967" y="1998"/>
                </a:lnTo>
                <a:lnTo>
                  <a:pt x="3906" y="1998"/>
                </a:lnTo>
                <a:cubicBezTo>
                  <a:pt x="3893" y="1998"/>
                  <a:pt x="3881" y="1993"/>
                  <a:pt x="3872" y="1984"/>
                </a:cubicBezTo>
                <a:lnTo>
                  <a:pt x="3815" y="1929"/>
                </a:lnTo>
                <a:lnTo>
                  <a:pt x="3750" y="1879"/>
                </a:lnTo>
                <a:lnTo>
                  <a:pt x="3690" y="1822"/>
                </a:lnTo>
                <a:lnTo>
                  <a:pt x="3759" y="1750"/>
                </a:lnTo>
                <a:close/>
                <a:moveTo>
                  <a:pt x="4335" y="1840"/>
                </a:moveTo>
                <a:lnTo>
                  <a:pt x="4370" y="1840"/>
                </a:lnTo>
                <a:lnTo>
                  <a:pt x="4340" y="1850"/>
                </a:lnTo>
                <a:lnTo>
                  <a:pt x="4401" y="1803"/>
                </a:lnTo>
                <a:lnTo>
                  <a:pt x="4457" y="1749"/>
                </a:lnTo>
                <a:lnTo>
                  <a:pt x="4448" y="1762"/>
                </a:lnTo>
                <a:lnTo>
                  <a:pt x="4509" y="1645"/>
                </a:lnTo>
                <a:cubicBezTo>
                  <a:pt x="4510" y="1642"/>
                  <a:pt x="4512" y="1639"/>
                  <a:pt x="4515" y="1636"/>
                </a:cubicBezTo>
                <a:lnTo>
                  <a:pt x="4561" y="1581"/>
                </a:lnTo>
                <a:lnTo>
                  <a:pt x="4638" y="1645"/>
                </a:lnTo>
                <a:lnTo>
                  <a:pt x="4591" y="1701"/>
                </a:lnTo>
                <a:lnTo>
                  <a:pt x="4597" y="1692"/>
                </a:lnTo>
                <a:lnTo>
                  <a:pt x="4536" y="1808"/>
                </a:lnTo>
                <a:cubicBezTo>
                  <a:pt x="4534" y="1813"/>
                  <a:pt x="4530" y="1817"/>
                  <a:pt x="4526" y="1821"/>
                </a:cubicBezTo>
                <a:lnTo>
                  <a:pt x="4461" y="1883"/>
                </a:lnTo>
                <a:lnTo>
                  <a:pt x="4400" y="1929"/>
                </a:lnTo>
                <a:cubicBezTo>
                  <a:pt x="4392" y="1936"/>
                  <a:pt x="4381" y="1940"/>
                  <a:pt x="4370" y="1940"/>
                </a:cubicBezTo>
                <a:lnTo>
                  <a:pt x="4335" y="1940"/>
                </a:lnTo>
                <a:lnTo>
                  <a:pt x="4335" y="1840"/>
                </a:lnTo>
                <a:close/>
                <a:moveTo>
                  <a:pt x="4753" y="1350"/>
                </a:moveTo>
                <a:lnTo>
                  <a:pt x="4811" y="1295"/>
                </a:lnTo>
                <a:lnTo>
                  <a:pt x="4800" y="1310"/>
                </a:lnTo>
                <a:lnTo>
                  <a:pt x="4849" y="1205"/>
                </a:lnTo>
                <a:lnTo>
                  <a:pt x="4845" y="1226"/>
                </a:lnTo>
                <a:lnTo>
                  <a:pt x="4845" y="1168"/>
                </a:lnTo>
                <a:cubicBezTo>
                  <a:pt x="4845" y="1160"/>
                  <a:pt x="4847" y="1152"/>
                  <a:pt x="4850" y="1145"/>
                </a:cubicBezTo>
                <a:lnTo>
                  <a:pt x="4911" y="1028"/>
                </a:lnTo>
                <a:cubicBezTo>
                  <a:pt x="4914" y="1024"/>
                  <a:pt x="4917" y="1019"/>
                  <a:pt x="4921" y="1015"/>
                </a:cubicBezTo>
                <a:lnTo>
                  <a:pt x="4932" y="1005"/>
                </a:lnTo>
                <a:lnTo>
                  <a:pt x="5001" y="1078"/>
                </a:lnTo>
                <a:lnTo>
                  <a:pt x="4990" y="1088"/>
                </a:lnTo>
                <a:lnTo>
                  <a:pt x="5000" y="1075"/>
                </a:lnTo>
                <a:lnTo>
                  <a:pt x="4939" y="1191"/>
                </a:lnTo>
                <a:lnTo>
                  <a:pt x="4945" y="1168"/>
                </a:lnTo>
                <a:lnTo>
                  <a:pt x="4945" y="1226"/>
                </a:lnTo>
                <a:cubicBezTo>
                  <a:pt x="4945" y="1233"/>
                  <a:pt x="4943" y="1241"/>
                  <a:pt x="4940" y="1247"/>
                </a:cubicBezTo>
                <a:lnTo>
                  <a:pt x="4891" y="1352"/>
                </a:lnTo>
                <a:cubicBezTo>
                  <a:pt x="4888" y="1358"/>
                  <a:pt x="4885" y="1363"/>
                  <a:pt x="4880" y="1367"/>
                </a:cubicBezTo>
                <a:lnTo>
                  <a:pt x="4822" y="1422"/>
                </a:lnTo>
                <a:lnTo>
                  <a:pt x="4753" y="1350"/>
                </a:lnTo>
                <a:close/>
                <a:moveTo>
                  <a:pt x="5102" y="788"/>
                </a:moveTo>
                <a:lnTo>
                  <a:pt x="5141" y="695"/>
                </a:lnTo>
                <a:lnTo>
                  <a:pt x="5137" y="714"/>
                </a:lnTo>
                <a:lnTo>
                  <a:pt x="5137" y="667"/>
                </a:lnTo>
                <a:cubicBezTo>
                  <a:pt x="5137" y="659"/>
                  <a:pt x="5139" y="651"/>
                  <a:pt x="5143" y="644"/>
                </a:cubicBezTo>
                <a:lnTo>
                  <a:pt x="5204" y="528"/>
                </a:lnTo>
                <a:cubicBezTo>
                  <a:pt x="5207" y="523"/>
                  <a:pt x="5210" y="519"/>
                  <a:pt x="5214" y="515"/>
                </a:cubicBezTo>
                <a:lnTo>
                  <a:pt x="5275" y="457"/>
                </a:lnTo>
                <a:lnTo>
                  <a:pt x="5301" y="432"/>
                </a:lnTo>
                <a:lnTo>
                  <a:pt x="5370" y="504"/>
                </a:lnTo>
                <a:lnTo>
                  <a:pt x="5344" y="529"/>
                </a:lnTo>
                <a:lnTo>
                  <a:pt x="5283" y="587"/>
                </a:lnTo>
                <a:lnTo>
                  <a:pt x="5293" y="574"/>
                </a:lnTo>
                <a:lnTo>
                  <a:pt x="5232" y="691"/>
                </a:lnTo>
                <a:lnTo>
                  <a:pt x="5237" y="667"/>
                </a:lnTo>
                <a:lnTo>
                  <a:pt x="5237" y="714"/>
                </a:lnTo>
                <a:cubicBezTo>
                  <a:pt x="5237" y="721"/>
                  <a:pt x="5236" y="727"/>
                  <a:pt x="5234" y="733"/>
                </a:cubicBezTo>
                <a:lnTo>
                  <a:pt x="5194" y="827"/>
                </a:lnTo>
                <a:lnTo>
                  <a:pt x="5102" y="788"/>
                </a:lnTo>
                <a:close/>
                <a:moveTo>
                  <a:pt x="5491" y="257"/>
                </a:moveTo>
                <a:lnTo>
                  <a:pt x="5491" y="213"/>
                </a:lnTo>
                <a:cubicBezTo>
                  <a:pt x="5491" y="200"/>
                  <a:pt x="5497" y="187"/>
                  <a:pt x="5507" y="177"/>
                </a:cubicBezTo>
                <a:lnTo>
                  <a:pt x="5568" y="119"/>
                </a:lnTo>
                <a:cubicBezTo>
                  <a:pt x="5572" y="115"/>
                  <a:pt x="5576" y="112"/>
                  <a:pt x="5581" y="110"/>
                </a:cubicBezTo>
                <a:lnTo>
                  <a:pt x="5703" y="52"/>
                </a:lnTo>
                <a:lnTo>
                  <a:pt x="5690" y="61"/>
                </a:lnTo>
                <a:lnTo>
                  <a:pt x="5739" y="14"/>
                </a:lnTo>
                <a:cubicBezTo>
                  <a:pt x="5748" y="5"/>
                  <a:pt x="5760" y="0"/>
                  <a:pt x="5773" y="0"/>
                </a:cubicBezTo>
                <a:lnTo>
                  <a:pt x="5834" y="0"/>
                </a:lnTo>
                <a:lnTo>
                  <a:pt x="5843" y="0"/>
                </a:lnTo>
                <a:lnTo>
                  <a:pt x="5843" y="100"/>
                </a:lnTo>
                <a:lnTo>
                  <a:pt x="5834" y="100"/>
                </a:lnTo>
                <a:lnTo>
                  <a:pt x="5773" y="100"/>
                </a:lnTo>
                <a:lnTo>
                  <a:pt x="5808" y="87"/>
                </a:lnTo>
                <a:lnTo>
                  <a:pt x="5759" y="133"/>
                </a:lnTo>
                <a:cubicBezTo>
                  <a:pt x="5755" y="137"/>
                  <a:pt x="5751" y="140"/>
                  <a:pt x="5746" y="142"/>
                </a:cubicBezTo>
                <a:lnTo>
                  <a:pt x="5624" y="200"/>
                </a:lnTo>
                <a:lnTo>
                  <a:pt x="5637" y="191"/>
                </a:lnTo>
                <a:lnTo>
                  <a:pt x="5576" y="250"/>
                </a:lnTo>
                <a:lnTo>
                  <a:pt x="5591" y="213"/>
                </a:lnTo>
                <a:lnTo>
                  <a:pt x="5591" y="257"/>
                </a:lnTo>
                <a:lnTo>
                  <a:pt x="5491" y="257"/>
                </a:lnTo>
                <a:close/>
                <a:moveTo>
                  <a:pt x="6170" y="20"/>
                </a:moveTo>
                <a:lnTo>
                  <a:pt x="6218" y="57"/>
                </a:lnTo>
                <a:lnTo>
                  <a:pt x="6188" y="47"/>
                </a:lnTo>
                <a:lnTo>
                  <a:pt x="6249" y="47"/>
                </a:lnTo>
                <a:cubicBezTo>
                  <a:pt x="6262" y="47"/>
                  <a:pt x="6274" y="52"/>
                  <a:pt x="6283" y="61"/>
                </a:cubicBezTo>
                <a:lnTo>
                  <a:pt x="6344" y="119"/>
                </a:lnTo>
                <a:lnTo>
                  <a:pt x="6310" y="105"/>
                </a:lnTo>
                <a:lnTo>
                  <a:pt x="6371" y="105"/>
                </a:lnTo>
                <a:cubicBezTo>
                  <a:pt x="6386" y="105"/>
                  <a:pt x="6400" y="112"/>
                  <a:pt x="6409" y="123"/>
                </a:cubicBezTo>
                <a:lnTo>
                  <a:pt x="6458" y="181"/>
                </a:lnTo>
                <a:lnTo>
                  <a:pt x="6420" y="163"/>
                </a:lnTo>
                <a:lnTo>
                  <a:pt x="6477" y="163"/>
                </a:lnTo>
                <a:lnTo>
                  <a:pt x="6477" y="263"/>
                </a:lnTo>
                <a:lnTo>
                  <a:pt x="6420" y="263"/>
                </a:lnTo>
                <a:cubicBezTo>
                  <a:pt x="6405" y="263"/>
                  <a:pt x="6391" y="257"/>
                  <a:pt x="6381" y="246"/>
                </a:cubicBezTo>
                <a:lnTo>
                  <a:pt x="6333" y="187"/>
                </a:lnTo>
                <a:lnTo>
                  <a:pt x="6371" y="205"/>
                </a:lnTo>
                <a:lnTo>
                  <a:pt x="6310" y="205"/>
                </a:lnTo>
                <a:cubicBezTo>
                  <a:pt x="6297" y="205"/>
                  <a:pt x="6285" y="200"/>
                  <a:pt x="6275" y="191"/>
                </a:cubicBezTo>
                <a:lnTo>
                  <a:pt x="6214" y="133"/>
                </a:lnTo>
                <a:lnTo>
                  <a:pt x="6249" y="147"/>
                </a:lnTo>
                <a:lnTo>
                  <a:pt x="6188" y="147"/>
                </a:lnTo>
                <a:cubicBezTo>
                  <a:pt x="6177" y="147"/>
                  <a:pt x="6166" y="143"/>
                  <a:pt x="6158" y="137"/>
                </a:cubicBezTo>
                <a:lnTo>
                  <a:pt x="6109" y="100"/>
                </a:lnTo>
                <a:lnTo>
                  <a:pt x="6170" y="20"/>
                </a:lnTo>
                <a:close/>
                <a:moveTo>
                  <a:pt x="6760" y="306"/>
                </a:moveTo>
                <a:lnTo>
                  <a:pt x="6808" y="352"/>
                </a:lnTo>
                <a:lnTo>
                  <a:pt x="6774" y="338"/>
                </a:lnTo>
                <a:lnTo>
                  <a:pt x="6835" y="338"/>
                </a:lnTo>
                <a:lnTo>
                  <a:pt x="6896" y="338"/>
                </a:lnTo>
                <a:lnTo>
                  <a:pt x="6957" y="338"/>
                </a:lnTo>
                <a:lnTo>
                  <a:pt x="7005" y="338"/>
                </a:lnTo>
                <a:lnTo>
                  <a:pt x="7066" y="338"/>
                </a:lnTo>
                <a:lnTo>
                  <a:pt x="7107" y="338"/>
                </a:lnTo>
                <a:lnTo>
                  <a:pt x="7107" y="438"/>
                </a:lnTo>
                <a:lnTo>
                  <a:pt x="7066" y="438"/>
                </a:lnTo>
                <a:lnTo>
                  <a:pt x="7005" y="438"/>
                </a:lnTo>
                <a:lnTo>
                  <a:pt x="6957" y="438"/>
                </a:lnTo>
                <a:lnTo>
                  <a:pt x="6896" y="438"/>
                </a:lnTo>
                <a:lnTo>
                  <a:pt x="6835" y="438"/>
                </a:lnTo>
                <a:lnTo>
                  <a:pt x="6774" y="438"/>
                </a:lnTo>
                <a:cubicBezTo>
                  <a:pt x="6761" y="438"/>
                  <a:pt x="6748" y="433"/>
                  <a:pt x="6739" y="424"/>
                </a:cubicBezTo>
                <a:lnTo>
                  <a:pt x="6691" y="378"/>
                </a:lnTo>
                <a:lnTo>
                  <a:pt x="6760" y="306"/>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4881600" y="2432160"/>
            <a:ext cx="1158840" cy="644400"/>
          </a:xfrm>
          <a:custGeom>
            <a:avLst/>
            <a:gdLst/>
            <a:ahLst/>
            <a:rect l="l" t="t" r="r" b="b"/>
            <a:pathLst>
              <a:path w="7339" h="4067">
                <a:moveTo>
                  <a:pt x="0" y="3994"/>
                </a:moveTo>
                <a:lnTo>
                  <a:pt x="61" y="3936"/>
                </a:lnTo>
                <a:lnTo>
                  <a:pt x="106" y="3882"/>
                </a:lnTo>
                <a:cubicBezTo>
                  <a:pt x="115" y="3871"/>
                  <a:pt x="129" y="3864"/>
                  <a:pt x="144" y="3864"/>
                </a:cubicBezTo>
                <a:lnTo>
                  <a:pt x="205" y="3864"/>
                </a:lnTo>
                <a:lnTo>
                  <a:pt x="171" y="3878"/>
                </a:lnTo>
                <a:lnTo>
                  <a:pt x="232" y="3820"/>
                </a:lnTo>
                <a:lnTo>
                  <a:pt x="293" y="3762"/>
                </a:lnTo>
                <a:lnTo>
                  <a:pt x="284" y="3773"/>
                </a:lnTo>
                <a:lnTo>
                  <a:pt x="289" y="3764"/>
                </a:lnTo>
                <a:lnTo>
                  <a:pt x="376" y="3814"/>
                </a:lnTo>
                <a:lnTo>
                  <a:pt x="370" y="3823"/>
                </a:lnTo>
                <a:cubicBezTo>
                  <a:pt x="368" y="3827"/>
                  <a:pt x="365" y="3831"/>
                  <a:pt x="362" y="3834"/>
                </a:cubicBezTo>
                <a:lnTo>
                  <a:pt x="301" y="3892"/>
                </a:lnTo>
                <a:lnTo>
                  <a:pt x="240" y="3950"/>
                </a:lnTo>
                <a:cubicBezTo>
                  <a:pt x="230" y="3959"/>
                  <a:pt x="218" y="3964"/>
                  <a:pt x="205" y="3964"/>
                </a:cubicBezTo>
                <a:lnTo>
                  <a:pt x="144" y="3964"/>
                </a:lnTo>
                <a:lnTo>
                  <a:pt x="183" y="3946"/>
                </a:lnTo>
                <a:lnTo>
                  <a:pt x="130" y="4008"/>
                </a:lnTo>
                <a:lnTo>
                  <a:pt x="69" y="4067"/>
                </a:lnTo>
                <a:lnTo>
                  <a:pt x="0" y="3994"/>
                </a:lnTo>
                <a:close/>
                <a:moveTo>
                  <a:pt x="445" y="3511"/>
                </a:moveTo>
                <a:lnTo>
                  <a:pt x="454" y="3495"/>
                </a:lnTo>
                <a:cubicBezTo>
                  <a:pt x="457" y="3489"/>
                  <a:pt x="462" y="3483"/>
                  <a:pt x="468" y="3479"/>
                </a:cubicBezTo>
                <a:lnTo>
                  <a:pt x="529" y="3432"/>
                </a:lnTo>
                <a:lnTo>
                  <a:pt x="585" y="3378"/>
                </a:lnTo>
                <a:lnTo>
                  <a:pt x="646" y="3319"/>
                </a:lnTo>
                <a:lnTo>
                  <a:pt x="635" y="3336"/>
                </a:lnTo>
                <a:lnTo>
                  <a:pt x="684" y="3220"/>
                </a:lnTo>
                <a:lnTo>
                  <a:pt x="680" y="3239"/>
                </a:lnTo>
                <a:lnTo>
                  <a:pt x="680" y="3229"/>
                </a:lnTo>
                <a:lnTo>
                  <a:pt x="780" y="3229"/>
                </a:lnTo>
                <a:lnTo>
                  <a:pt x="780" y="3239"/>
                </a:lnTo>
                <a:cubicBezTo>
                  <a:pt x="780" y="3246"/>
                  <a:pt x="778" y="3252"/>
                  <a:pt x="776" y="3258"/>
                </a:cubicBezTo>
                <a:lnTo>
                  <a:pt x="727" y="3375"/>
                </a:lnTo>
                <a:cubicBezTo>
                  <a:pt x="724" y="3381"/>
                  <a:pt x="720" y="3387"/>
                  <a:pt x="715" y="3392"/>
                </a:cubicBezTo>
                <a:lnTo>
                  <a:pt x="655" y="3450"/>
                </a:lnTo>
                <a:lnTo>
                  <a:pt x="589" y="3512"/>
                </a:lnTo>
                <a:lnTo>
                  <a:pt x="528" y="3558"/>
                </a:lnTo>
                <a:lnTo>
                  <a:pt x="542" y="3542"/>
                </a:lnTo>
                <a:lnTo>
                  <a:pt x="534" y="3558"/>
                </a:lnTo>
                <a:lnTo>
                  <a:pt x="445" y="3511"/>
                </a:lnTo>
                <a:close/>
                <a:moveTo>
                  <a:pt x="873" y="2985"/>
                </a:moveTo>
                <a:lnTo>
                  <a:pt x="929" y="2878"/>
                </a:lnTo>
                <a:cubicBezTo>
                  <a:pt x="932" y="2874"/>
                  <a:pt x="935" y="2869"/>
                  <a:pt x="939" y="2865"/>
                </a:cubicBezTo>
                <a:lnTo>
                  <a:pt x="988" y="2819"/>
                </a:lnTo>
                <a:lnTo>
                  <a:pt x="973" y="2855"/>
                </a:lnTo>
                <a:lnTo>
                  <a:pt x="973" y="2797"/>
                </a:lnTo>
                <a:cubicBezTo>
                  <a:pt x="973" y="2783"/>
                  <a:pt x="978" y="2770"/>
                  <a:pt x="988" y="2761"/>
                </a:cubicBezTo>
                <a:lnTo>
                  <a:pt x="1049" y="2703"/>
                </a:lnTo>
                <a:lnTo>
                  <a:pt x="1099" y="2655"/>
                </a:lnTo>
                <a:lnTo>
                  <a:pt x="1168" y="2727"/>
                </a:lnTo>
                <a:lnTo>
                  <a:pt x="1118" y="2775"/>
                </a:lnTo>
                <a:lnTo>
                  <a:pt x="1057" y="2833"/>
                </a:lnTo>
                <a:lnTo>
                  <a:pt x="1073" y="2797"/>
                </a:lnTo>
                <a:lnTo>
                  <a:pt x="1073" y="2855"/>
                </a:lnTo>
                <a:cubicBezTo>
                  <a:pt x="1073" y="2869"/>
                  <a:pt x="1067" y="2882"/>
                  <a:pt x="1057" y="2891"/>
                </a:cubicBezTo>
                <a:lnTo>
                  <a:pt x="1008" y="2938"/>
                </a:lnTo>
                <a:lnTo>
                  <a:pt x="1018" y="2925"/>
                </a:lnTo>
                <a:lnTo>
                  <a:pt x="962" y="3032"/>
                </a:lnTo>
                <a:lnTo>
                  <a:pt x="873" y="2985"/>
                </a:lnTo>
                <a:close/>
                <a:moveTo>
                  <a:pt x="1336" y="2488"/>
                </a:moveTo>
                <a:lnTo>
                  <a:pt x="1338" y="2485"/>
                </a:lnTo>
                <a:lnTo>
                  <a:pt x="1403" y="2423"/>
                </a:lnTo>
                <a:cubicBezTo>
                  <a:pt x="1412" y="2414"/>
                  <a:pt x="1424" y="2409"/>
                  <a:pt x="1437" y="2409"/>
                </a:cubicBezTo>
                <a:lnTo>
                  <a:pt x="1498" y="2409"/>
                </a:lnTo>
                <a:lnTo>
                  <a:pt x="1559" y="2409"/>
                </a:lnTo>
                <a:lnTo>
                  <a:pt x="1525" y="2423"/>
                </a:lnTo>
                <a:lnTo>
                  <a:pt x="1586" y="2365"/>
                </a:lnTo>
                <a:cubicBezTo>
                  <a:pt x="1595" y="2356"/>
                  <a:pt x="1607" y="2351"/>
                  <a:pt x="1620" y="2351"/>
                </a:cubicBezTo>
                <a:lnTo>
                  <a:pt x="1669" y="2351"/>
                </a:lnTo>
                <a:lnTo>
                  <a:pt x="1727" y="2351"/>
                </a:lnTo>
                <a:lnTo>
                  <a:pt x="1727" y="2451"/>
                </a:lnTo>
                <a:lnTo>
                  <a:pt x="1669" y="2451"/>
                </a:lnTo>
                <a:lnTo>
                  <a:pt x="1620" y="2451"/>
                </a:lnTo>
                <a:lnTo>
                  <a:pt x="1655" y="2437"/>
                </a:lnTo>
                <a:lnTo>
                  <a:pt x="1594" y="2496"/>
                </a:lnTo>
                <a:cubicBezTo>
                  <a:pt x="1584" y="2504"/>
                  <a:pt x="1572" y="2509"/>
                  <a:pt x="1559" y="2509"/>
                </a:cubicBezTo>
                <a:lnTo>
                  <a:pt x="1498" y="2509"/>
                </a:lnTo>
                <a:lnTo>
                  <a:pt x="1437" y="2509"/>
                </a:lnTo>
                <a:lnTo>
                  <a:pt x="1472" y="2496"/>
                </a:lnTo>
                <a:lnTo>
                  <a:pt x="1415" y="2550"/>
                </a:lnTo>
                <a:lnTo>
                  <a:pt x="1413" y="2552"/>
                </a:lnTo>
                <a:lnTo>
                  <a:pt x="1336" y="2488"/>
                </a:lnTo>
                <a:close/>
                <a:moveTo>
                  <a:pt x="2027" y="2452"/>
                </a:moveTo>
                <a:lnTo>
                  <a:pt x="2057" y="2481"/>
                </a:lnTo>
                <a:lnTo>
                  <a:pt x="2023" y="2468"/>
                </a:lnTo>
                <a:lnTo>
                  <a:pt x="2084" y="2468"/>
                </a:lnTo>
                <a:lnTo>
                  <a:pt x="2145" y="2468"/>
                </a:lnTo>
                <a:cubicBezTo>
                  <a:pt x="2158" y="2468"/>
                  <a:pt x="2170" y="2473"/>
                  <a:pt x="2179" y="2481"/>
                </a:cubicBezTo>
                <a:lnTo>
                  <a:pt x="2240" y="2540"/>
                </a:lnTo>
                <a:lnTo>
                  <a:pt x="2206" y="2526"/>
                </a:lnTo>
                <a:lnTo>
                  <a:pt x="2255" y="2526"/>
                </a:lnTo>
                <a:lnTo>
                  <a:pt x="2316" y="2526"/>
                </a:lnTo>
                <a:cubicBezTo>
                  <a:pt x="2327" y="2526"/>
                  <a:pt x="2337" y="2529"/>
                  <a:pt x="2346" y="2536"/>
                </a:cubicBezTo>
                <a:lnTo>
                  <a:pt x="2379" y="2561"/>
                </a:lnTo>
                <a:lnTo>
                  <a:pt x="2318" y="2641"/>
                </a:lnTo>
                <a:lnTo>
                  <a:pt x="2285" y="2616"/>
                </a:lnTo>
                <a:lnTo>
                  <a:pt x="2316" y="2626"/>
                </a:lnTo>
                <a:lnTo>
                  <a:pt x="2255" y="2626"/>
                </a:lnTo>
                <a:lnTo>
                  <a:pt x="2206" y="2626"/>
                </a:lnTo>
                <a:cubicBezTo>
                  <a:pt x="2193" y="2626"/>
                  <a:pt x="2181" y="2621"/>
                  <a:pt x="2171" y="2612"/>
                </a:cubicBezTo>
                <a:lnTo>
                  <a:pt x="2110" y="2554"/>
                </a:lnTo>
                <a:lnTo>
                  <a:pt x="2145" y="2568"/>
                </a:lnTo>
                <a:lnTo>
                  <a:pt x="2084" y="2568"/>
                </a:lnTo>
                <a:lnTo>
                  <a:pt x="2023" y="2568"/>
                </a:lnTo>
                <a:cubicBezTo>
                  <a:pt x="2010" y="2568"/>
                  <a:pt x="1998" y="2563"/>
                  <a:pt x="1988" y="2554"/>
                </a:cubicBezTo>
                <a:lnTo>
                  <a:pt x="1958" y="2524"/>
                </a:lnTo>
                <a:lnTo>
                  <a:pt x="2027" y="2452"/>
                </a:lnTo>
                <a:close/>
                <a:moveTo>
                  <a:pt x="2641" y="2572"/>
                </a:moveTo>
                <a:lnTo>
                  <a:pt x="2669" y="2572"/>
                </a:lnTo>
                <a:lnTo>
                  <a:pt x="2730" y="2572"/>
                </a:lnTo>
                <a:lnTo>
                  <a:pt x="2791" y="2572"/>
                </a:lnTo>
                <a:lnTo>
                  <a:pt x="2840" y="2572"/>
                </a:lnTo>
                <a:lnTo>
                  <a:pt x="2810" y="2583"/>
                </a:lnTo>
                <a:lnTo>
                  <a:pt x="2871" y="2536"/>
                </a:lnTo>
                <a:cubicBezTo>
                  <a:pt x="2879" y="2529"/>
                  <a:pt x="2890" y="2526"/>
                  <a:pt x="2901" y="2526"/>
                </a:cubicBezTo>
                <a:lnTo>
                  <a:pt x="2962" y="2526"/>
                </a:lnTo>
                <a:lnTo>
                  <a:pt x="2928" y="2540"/>
                </a:lnTo>
                <a:lnTo>
                  <a:pt x="2974" y="2496"/>
                </a:lnTo>
                <a:lnTo>
                  <a:pt x="3043" y="2568"/>
                </a:lnTo>
                <a:lnTo>
                  <a:pt x="2997" y="2612"/>
                </a:lnTo>
                <a:cubicBezTo>
                  <a:pt x="2987" y="2621"/>
                  <a:pt x="2975" y="2626"/>
                  <a:pt x="2962" y="2626"/>
                </a:cubicBezTo>
                <a:lnTo>
                  <a:pt x="2901" y="2626"/>
                </a:lnTo>
                <a:lnTo>
                  <a:pt x="2931" y="2616"/>
                </a:lnTo>
                <a:lnTo>
                  <a:pt x="2870" y="2662"/>
                </a:lnTo>
                <a:cubicBezTo>
                  <a:pt x="2862" y="2669"/>
                  <a:pt x="2851" y="2672"/>
                  <a:pt x="2840" y="2672"/>
                </a:cubicBezTo>
                <a:lnTo>
                  <a:pt x="2791" y="2672"/>
                </a:lnTo>
                <a:lnTo>
                  <a:pt x="2730" y="2672"/>
                </a:lnTo>
                <a:lnTo>
                  <a:pt x="2669" y="2672"/>
                </a:lnTo>
                <a:lnTo>
                  <a:pt x="2641" y="2672"/>
                </a:lnTo>
                <a:lnTo>
                  <a:pt x="2641" y="2572"/>
                </a:lnTo>
                <a:close/>
                <a:moveTo>
                  <a:pt x="3229" y="2293"/>
                </a:moveTo>
                <a:lnTo>
                  <a:pt x="3255" y="2293"/>
                </a:lnTo>
                <a:lnTo>
                  <a:pt x="3224" y="2303"/>
                </a:lnTo>
                <a:lnTo>
                  <a:pt x="3285" y="2257"/>
                </a:lnTo>
                <a:lnTo>
                  <a:pt x="3272" y="2273"/>
                </a:lnTo>
                <a:lnTo>
                  <a:pt x="3333" y="2157"/>
                </a:lnTo>
                <a:cubicBezTo>
                  <a:pt x="3335" y="2152"/>
                  <a:pt x="3338" y="2148"/>
                  <a:pt x="3342" y="2144"/>
                </a:cubicBezTo>
                <a:lnTo>
                  <a:pt x="3403" y="2086"/>
                </a:lnTo>
                <a:lnTo>
                  <a:pt x="3448" y="2032"/>
                </a:lnTo>
                <a:lnTo>
                  <a:pt x="3456" y="2024"/>
                </a:lnTo>
                <a:lnTo>
                  <a:pt x="3525" y="2096"/>
                </a:lnTo>
                <a:lnTo>
                  <a:pt x="3525" y="2096"/>
                </a:lnTo>
                <a:lnTo>
                  <a:pt x="3472" y="2158"/>
                </a:lnTo>
                <a:lnTo>
                  <a:pt x="3411" y="2216"/>
                </a:lnTo>
                <a:lnTo>
                  <a:pt x="3421" y="2203"/>
                </a:lnTo>
                <a:lnTo>
                  <a:pt x="3360" y="2320"/>
                </a:lnTo>
                <a:cubicBezTo>
                  <a:pt x="3357" y="2326"/>
                  <a:pt x="3352" y="2332"/>
                  <a:pt x="3346" y="2336"/>
                </a:cubicBezTo>
                <a:lnTo>
                  <a:pt x="3285" y="2383"/>
                </a:lnTo>
                <a:cubicBezTo>
                  <a:pt x="3276" y="2389"/>
                  <a:pt x="3266" y="2393"/>
                  <a:pt x="3255" y="2393"/>
                </a:cubicBezTo>
                <a:lnTo>
                  <a:pt x="3229" y="2393"/>
                </a:lnTo>
                <a:lnTo>
                  <a:pt x="3229" y="2293"/>
                </a:lnTo>
                <a:close/>
                <a:moveTo>
                  <a:pt x="3620" y="1830"/>
                </a:moveTo>
                <a:lnTo>
                  <a:pt x="3620" y="1784"/>
                </a:lnTo>
                <a:cubicBezTo>
                  <a:pt x="3620" y="1771"/>
                  <a:pt x="3625" y="1758"/>
                  <a:pt x="3635" y="1748"/>
                </a:cubicBezTo>
                <a:lnTo>
                  <a:pt x="3696" y="1690"/>
                </a:lnTo>
                <a:lnTo>
                  <a:pt x="3745" y="1644"/>
                </a:lnTo>
                <a:lnTo>
                  <a:pt x="3806" y="1585"/>
                </a:lnTo>
                <a:cubicBezTo>
                  <a:pt x="3810" y="1582"/>
                  <a:pt x="3814" y="1579"/>
                  <a:pt x="3819" y="1576"/>
                </a:cubicBezTo>
                <a:lnTo>
                  <a:pt x="3926" y="1525"/>
                </a:lnTo>
                <a:lnTo>
                  <a:pt x="3969" y="1616"/>
                </a:lnTo>
                <a:lnTo>
                  <a:pt x="3862" y="1667"/>
                </a:lnTo>
                <a:lnTo>
                  <a:pt x="3875" y="1658"/>
                </a:lnTo>
                <a:lnTo>
                  <a:pt x="3814" y="1716"/>
                </a:lnTo>
                <a:lnTo>
                  <a:pt x="3765" y="1762"/>
                </a:lnTo>
                <a:lnTo>
                  <a:pt x="3704" y="1821"/>
                </a:lnTo>
                <a:lnTo>
                  <a:pt x="3720" y="1784"/>
                </a:lnTo>
                <a:lnTo>
                  <a:pt x="3720" y="1830"/>
                </a:lnTo>
                <a:lnTo>
                  <a:pt x="3620" y="1830"/>
                </a:lnTo>
                <a:close/>
                <a:moveTo>
                  <a:pt x="4114" y="1349"/>
                </a:moveTo>
                <a:lnTo>
                  <a:pt x="4160" y="1306"/>
                </a:lnTo>
                <a:lnTo>
                  <a:pt x="4221" y="1248"/>
                </a:lnTo>
                <a:cubicBezTo>
                  <a:pt x="4230" y="1239"/>
                  <a:pt x="4242" y="1234"/>
                  <a:pt x="4255" y="1234"/>
                </a:cubicBezTo>
                <a:lnTo>
                  <a:pt x="4316" y="1234"/>
                </a:lnTo>
                <a:lnTo>
                  <a:pt x="4278" y="1252"/>
                </a:lnTo>
                <a:lnTo>
                  <a:pt x="4327" y="1194"/>
                </a:lnTo>
                <a:cubicBezTo>
                  <a:pt x="4336" y="1182"/>
                  <a:pt x="4350" y="1176"/>
                  <a:pt x="4365" y="1176"/>
                </a:cubicBezTo>
                <a:lnTo>
                  <a:pt x="4426" y="1176"/>
                </a:lnTo>
                <a:lnTo>
                  <a:pt x="4481" y="1176"/>
                </a:lnTo>
                <a:lnTo>
                  <a:pt x="4481" y="1276"/>
                </a:lnTo>
                <a:lnTo>
                  <a:pt x="4426" y="1276"/>
                </a:lnTo>
                <a:lnTo>
                  <a:pt x="4365" y="1276"/>
                </a:lnTo>
                <a:lnTo>
                  <a:pt x="4403" y="1258"/>
                </a:lnTo>
                <a:lnTo>
                  <a:pt x="4354" y="1316"/>
                </a:lnTo>
                <a:cubicBezTo>
                  <a:pt x="4345" y="1327"/>
                  <a:pt x="4331" y="1334"/>
                  <a:pt x="4316" y="1334"/>
                </a:cubicBezTo>
                <a:lnTo>
                  <a:pt x="4255" y="1334"/>
                </a:lnTo>
                <a:lnTo>
                  <a:pt x="4290" y="1320"/>
                </a:lnTo>
                <a:lnTo>
                  <a:pt x="4229" y="1378"/>
                </a:lnTo>
                <a:lnTo>
                  <a:pt x="4183" y="1422"/>
                </a:lnTo>
                <a:lnTo>
                  <a:pt x="4114" y="1349"/>
                </a:lnTo>
                <a:close/>
                <a:moveTo>
                  <a:pt x="4782" y="1159"/>
                </a:moveTo>
                <a:lnTo>
                  <a:pt x="4814" y="1190"/>
                </a:lnTo>
                <a:lnTo>
                  <a:pt x="4780" y="1176"/>
                </a:lnTo>
                <a:lnTo>
                  <a:pt x="4841" y="1176"/>
                </a:lnTo>
                <a:lnTo>
                  <a:pt x="4902" y="1176"/>
                </a:lnTo>
                <a:lnTo>
                  <a:pt x="4950" y="1176"/>
                </a:lnTo>
                <a:lnTo>
                  <a:pt x="5011" y="1176"/>
                </a:lnTo>
                <a:cubicBezTo>
                  <a:pt x="5024" y="1176"/>
                  <a:pt x="5037" y="1181"/>
                  <a:pt x="5046" y="1190"/>
                </a:cubicBezTo>
                <a:lnTo>
                  <a:pt x="5107" y="1248"/>
                </a:lnTo>
                <a:lnTo>
                  <a:pt x="5072" y="1234"/>
                </a:lnTo>
                <a:lnTo>
                  <a:pt x="5111" y="1234"/>
                </a:lnTo>
                <a:lnTo>
                  <a:pt x="5111" y="1334"/>
                </a:lnTo>
                <a:lnTo>
                  <a:pt x="5072" y="1334"/>
                </a:lnTo>
                <a:cubicBezTo>
                  <a:pt x="5060" y="1334"/>
                  <a:pt x="5047" y="1329"/>
                  <a:pt x="5038" y="1320"/>
                </a:cubicBezTo>
                <a:lnTo>
                  <a:pt x="4977" y="1262"/>
                </a:lnTo>
                <a:lnTo>
                  <a:pt x="5011" y="1276"/>
                </a:lnTo>
                <a:lnTo>
                  <a:pt x="4950" y="1276"/>
                </a:lnTo>
                <a:lnTo>
                  <a:pt x="4902" y="1276"/>
                </a:lnTo>
                <a:lnTo>
                  <a:pt x="4841" y="1276"/>
                </a:lnTo>
                <a:lnTo>
                  <a:pt x="4780" y="1276"/>
                </a:lnTo>
                <a:cubicBezTo>
                  <a:pt x="4767" y="1276"/>
                  <a:pt x="4754" y="1271"/>
                  <a:pt x="4745" y="1262"/>
                </a:cubicBezTo>
                <a:lnTo>
                  <a:pt x="4713" y="1231"/>
                </a:lnTo>
                <a:lnTo>
                  <a:pt x="4782" y="1159"/>
                </a:lnTo>
                <a:close/>
                <a:moveTo>
                  <a:pt x="5388" y="1292"/>
                </a:moveTo>
                <a:lnTo>
                  <a:pt x="5426" y="1292"/>
                </a:lnTo>
                <a:lnTo>
                  <a:pt x="5487" y="1292"/>
                </a:lnTo>
                <a:lnTo>
                  <a:pt x="5536" y="1292"/>
                </a:lnTo>
                <a:lnTo>
                  <a:pt x="5501" y="1306"/>
                </a:lnTo>
                <a:lnTo>
                  <a:pt x="5562" y="1248"/>
                </a:lnTo>
                <a:cubicBezTo>
                  <a:pt x="5572" y="1239"/>
                  <a:pt x="5584" y="1234"/>
                  <a:pt x="5597" y="1234"/>
                </a:cubicBezTo>
                <a:lnTo>
                  <a:pt x="5658" y="1234"/>
                </a:lnTo>
                <a:lnTo>
                  <a:pt x="5719" y="1234"/>
                </a:lnTo>
                <a:lnTo>
                  <a:pt x="5684" y="1248"/>
                </a:lnTo>
                <a:lnTo>
                  <a:pt x="5718" y="1216"/>
                </a:lnTo>
                <a:lnTo>
                  <a:pt x="5787" y="1289"/>
                </a:lnTo>
                <a:lnTo>
                  <a:pt x="5753" y="1320"/>
                </a:lnTo>
                <a:cubicBezTo>
                  <a:pt x="5744" y="1329"/>
                  <a:pt x="5732" y="1334"/>
                  <a:pt x="5719" y="1334"/>
                </a:cubicBezTo>
                <a:lnTo>
                  <a:pt x="5658" y="1334"/>
                </a:lnTo>
                <a:lnTo>
                  <a:pt x="5597" y="1334"/>
                </a:lnTo>
                <a:lnTo>
                  <a:pt x="5631" y="1320"/>
                </a:lnTo>
                <a:lnTo>
                  <a:pt x="5570" y="1378"/>
                </a:lnTo>
                <a:cubicBezTo>
                  <a:pt x="5561" y="1387"/>
                  <a:pt x="5549" y="1392"/>
                  <a:pt x="5536" y="1392"/>
                </a:cubicBezTo>
                <a:lnTo>
                  <a:pt x="5487" y="1392"/>
                </a:lnTo>
                <a:lnTo>
                  <a:pt x="5426" y="1392"/>
                </a:lnTo>
                <a:lnTo>
                  <a:pt x="5388" y="1392"/>
                </a:lnTo>
                <a:lnTo>
                  <a:pt x="5388" y="1292"/>
                </a:lnTo>
                <a:close/>
                <a:moveTo>
                  <a:pt x="5965" y="1085"/>
                </a:moveTo>
                <a:lnTo>
                  <a:pt x="5977" y="1073"/>
                </a:lnTo>
                <a:lnTo>
                  <a:pt x="6042" y="1023"/>
                </a:lnTo>
                <a:cubicBezTo>
                  <a:pt x="6051" y="1017"/>
                  <a:pt x="6062" y="1013"/>
                  <a:pt x="6073" y="1013"/>
                </a:cubicBezTo>
                <a:lnTo>
                  <a:pt x="6134" y="1013"/>
                </a:lnTo>
                <a:lnTo>
                  <a:pt x="6095" y="1031"/>
                </a:lnTo>
                <a:lnTo>
                  <a:pt x="6144" y="973"/>
                </a:lnTo>
                <a:lnTo>
                  <a:pt x="6209" y="910"/>
                </a:lnTo>
                <a:lnTo>
                  <a:pt x="6199" y="923"/>
                </a:lnTo>
                <a:lnTo>
                  <a:pt x="6239" y="848"/>
                </a:lnTo>
                <a:lnTo>
                  <a:pt x="6327" y="894"/>
                </a:lnTo>
                <a:lnTo>
                  <a:pt x="6288" y="970"/>
                </a:lnTo>
                <a:cubicBezTo>
                  <a:pt x="6285" y="975"/>
                  <a:pt x="6282" y="979"/>
                  <a:pt x="6278" y="983"/>
                </a:cubicBezTo>
                <a:lnTo>
                  <a:pt x="6221" y="1037"/>
                </a:lnTo>
                <a:lnTo>
                  <a:pt x="6172" y="1095"/>
                </a:lnTo>
                <a:cubicBezTo>
                  <a:pt x="6162" y="1106"/>
                  <a:pt x="6148" y="1113"/>
                  <a:pt x="6134" y="1113"/>
                </a:cubicBezTo>
                <a:lnTo>
                  <a:pt x="6073" y="1113"/>
                </a:lnTo>
                <a:lnTo>
                  <a:pt x="6103" y="1103"/>
                </a:lnTo>
                <a:lnTo>
                  <a:pt x="6046" y="1146"/>
                </a:lnTo>
                <a:lnTo>
                  <a:pt x="6034" y="1157"/>
                </a:lnTo>
                <a:lnTo>
                  <a:pt x="5965" y="1085"/>
                </a:lnTo>
                <a:close/>
                <a:moveTo>
                  <a:pt x="6473" y="659"/>
                </a:moveTo>
                <a:lnTo>
                  <a:pt x="6502" y="631"/>
                </a:lnTo>
                <a:lnTo>
                  <a:pt x="6563" y="573"/>
                </a:lnTo>
                <a:lnTo>
                  <a:pt x="6554" y="584"/>
                </a:lnTo>
                <a:lnTo>
                  <a:pt x="6615" y="479"/>
                </a:lnTo>
                <a:cubicBezTo>
                  <a:pt x="6617" y="475"/>
                  <a:pt x="6620" y="471"/>
                  <a:pt x="6624" y="468"/>
                </a:cubicBezTo>
                <a:lnTo>
                  <a:pt x="6685" y="410"/>
                </a:lnTo>
                <a:lnTo>
                  <a:pt x="6726" y="360"/>
                </a:lnTo>
                <a:lnTo>
                  <a:pt x="6802" y="425"/>
                </a:lnTo>
                <a:lnTo>
                  <a:pt x="6754" y="482"/>
                </a:lnTo>
                <a:lnTo>
                  <a:pt x="6693" y="541"/>
                </a:lnTo>
                <a:lnTo>
                  <a:pt x="6701" y="529"/>
                </a:lnTo>
                <a:lnTo>
                  <a:pt x="6640" y="634"/>
                </a:lnTo>
                <a:cubicBezTo>
                  <a:pt x="6638" y="638"/>
                  <a:pt x="6635" y="642"/>
                  <a:pt x="6632" y="645"/>
                </a:cubicBezTo>
                <a:lnTo>
                  <a:pt x="6571" y="703"/>
                </a:lnTo>
                <a:lnTo>
                  <a:pt x="6542" y="731"/>
                </a:lnTo>
                <a:lnTo>
                  <a:pt x="6473" y="659"/>
                </a:lnTo>
                <a:close/>
                <a:moveTo>
                  <a:pt x="6972" y="193"/>
                </a:moveTo>
                <a:lnTo>
                  <a:pt x="6982" y="185"/>
                </a:lnTo>
                <a:lnTo>
                  <a:pt x="6974" y="193"/>
                </a:lnTo>
                <a:lnTo>
                  <a:pt x="7022" y="135"/>
                </a:lnTo>
                <a:cubicBezTo>
                  <a:pt x="7032" y="123"/>
                  <a:pt x="7046" y="117"/>
                  <a:pt x="7061" y="117"/>
                </a:cubicBezTo>
                <a:lnTo>
                  <a:pt x="7122" y="117"/>
                </a:lnTo>
                <a:lnTo>
                  <a:pt x="7087" y="131"/>
                </a:lnTo>
                <a:lnTo>
                  <a:pt x="7148" y="72"/>
                </a:lnTo>
                <a:cubicBezTo>
                  <a:pt x="7157" y="64"/>
                  <a:pt x="7170" y="59"/>
                  <a:pt x="7183" y="59"/>
                </a:cubicBezTo>
                <a:lnTo>
                  <a:pt x="7244" y="59"/>
                </a:lnTo>
                <a:lnTo>
                  <a:pt x="7209" y="72"/>
                </a:lnTo>
                <a:lnTo>
                  <a:pt x="7270" y="14"/>
                </a:lnTo>
                <a:cubicBezTo>
                  <a:pt x="7279" y="5"/>
                  <a:pt x="7292" y="0"/>
                  <a:pt x="7305" y="0"/>
                </a:cubicBezTo>
                <a:lnTo>
                  <a:pt x="7326" y="0"/>
                </a:lnTo>
                <a:lnTo>
                  <a:pt x="7326" y="100"/>
                </a:lnTo>
                <a:lnTo>
                  <a:pt x="7305" y="100"/>
                </a:lnTo>
                <a:lnTo>
                  <a:pt x="7339" y="87"/>
                </a:lnTo>
                <a:lnTo>
                  <a:pt x="7278" y="145"/>
                </a:lnTo>
                <a:cubicBezTo>
                  <a:pt x="7269" y="154"/>
                  <a:pt x="7257" y="159"/>
                  <a:pt x="7244" y="159"/>
                </a:cubicBezTo>
                <a:lnTo>
                  <a:pt x="7183" y="159"/>
                </a:lnTo>
                <a:lnTo>
                  <a:pt x="7217" y="145"/>
                </a:lnTo>
                <a:lnTo>
                  <a:pt x="7156" y="203"/>
                </a:lnTo>
                <a:cubicBezTo>
                  <a:pt x="7147" y="212"/>
                  <a:pt x="7135" y="217"/>
                  <a:pt x="7122" y="217"/>
                </a:cubicBezTo>
                <a:lnTo>
                  <a:pt x="7061" y="217"/>
                </a:lnTo>
                <a:lnTo>
                  <a:pt x="7099" y="199"/>
                </a:lnTo>
                <a:lnTo>
                  <a:pt x="7050" y="257"/>
                </a:lnTo>
                <a:cubicBezTo>
                  <a:pt x="7048" y="260"/>
                  <a:pt x="7045" y="263"/>
                  <a:pt x="7042" y="265"/>
                </a:cubicBezTo>
                <a:lnTo>
                  <a:pt x="7032" y="272"/>
                </a:lnTo>
                <a:lnTo>
                  <a:pt x="6972" y="193"/>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053040" y="2246400"/>
            <a:ext cx="646200" cy="210960"/>
          </a:xfrm>
          <a:custGeom>
            <a:avLst/>
            <a:gdLst/>
            <a:ahLst/>
            <a:rect l="l" t="t" r="r" b="b"/>
            <a:pathLst>
              <a:path w="2047" h="665">
                <a:moveTo>
                  <a:pt x="0" y="586"/>
                </a:moveTo>
                <a:lnTo>
                  <a:pt x="31" y="586"/>
                </a:lnTo>
                <a:lnTo>
                  <a:pt x="62" y="586"/>
                </a:lnTo>
                <a:lnTo>
                  <a:pt x="92" y="586"/>
                </a:lnTo>
                <a:lnTo>
                  <a:pt x="117" y="586"/>
                </a:lnTo>
                <a:lnTo>
                  <a:pt x="147" y="586"/>
                </a:lnTo>
                <a:lnTo>
                  <a:pt x="178" y="586"/>
                </a:lnTo>
                <a:lnTo>
                  <a:pt x="200" y="586"/>
                </a:lnTo>
                <a:lnTo>
                  <a:pt x="200" y="636"/>
                </a:lnTo>
                <a:lnTo>
                  <a:pt x="178" y="636"/>
                </a:lnTo>
                <a:lnTo>
                  <a:pt x="147" y="636"/>
                </a:lnTo>
                <a:lnTo>
                  <a:pt x="117" y="636"/>
                </a:lnTo>
                <a:lnTo>
                  <a:pt x="92" y="636"/>
                </a:lnTo>
                <a:lnTo>
                  <a:pt x="62" y="636"/>
                </a:lnTo>
                <a:lnTo>
                  <a:pt x="31" y="636"/>
                </a:lnTo>
                <a:lnTo>
                  <a:pt x="0" y="636"/>
                </a:lnTo>
                <a:lnTo>
                  <a:pt x="0" y="586"/>
                </a:lnTo>
                <a:close/>
                <a:moveTo>
                  <a:pt x="361" y="611"/>
                </a:moveTo>
                <a:lnTo>
                  <a:pt x="372" y="622"/>
                </a:lnTo>
                <a:lnTo>
                  <a:pt x="355" y="615"/>
                </a:lnTo>
                <a:lnTo>
                  <a:pt x="386" y="615"/>
                </a:lnTo>
                <a:lnTo>
                  <a:pt x="416" y="615"/>
                </a:lnTo>
                <a:lnTo>
                  <a:pt x="441" y="615"/>
                </a:lnTo>
                <a:lnTo>
                  <a:pt x="471" y="615"/>
                </a:lnTo>
                <a:lnTo>
                  <a:pt x="502" y="615"/>
                </a:lnTo>
                <a:lnTo>
                  <a:pt x="485" y="622"/>
                </a:lnTo>
                <a:lnTo>
                  <a:pt x="511" y="597"/>
                </a:lnTo>
                <a:lnTo>
                  <a:pt x="546" y="633"/>
                </a:lnTo>
                <a:lnTo>
                  <a:pt x="519" y="659"/>
                </a:lnTo>
                <a:cubicBezTo>
                  <a:pt x="514" y="663"/>
                  <a:pt x="508" y="665"/>
                  <a:pt x="502" y="665"/>
                </a:cubicBezTo>
                <a:lnTo>
                  <a:pt x="471" y="665"/>
                </a:lnTo>
                <a:lnTo>
                  <a:pt x="441" y="665"/>
                </a:lnTo>
                <a:lnTo>
                  <a:pt x="416" y="665"/>
                </a:lnTo>
                <a:lnTo>
                  <a:pt x="386" y="665"/>
                </a:lnTo>
                <a:lnTo>
                  <a:pt x="355" y="665"/>
                </a:lnTo>
                <a:cubicBezTo>
                  <a:pt x="349" y="665"/>
                  <a:pt x="342" y="663"/>
                  <a:pt x="338" y="659"/>
                </a:cubicBezTo>
                <a:lnTo>
                  <a:pt x="326" y="648"/>
                </a:lnTo>
                <a:lnTo>
                  <a:pt x="361" y="611"/>
                </a:lnTo>
                <a:close/>
                <a:moveTo>
                  <a:pt x="666" y="557"/>
                </a:moveTo>
                <a:lnTo>
                  <a:pt x="679" y="557"/>
                </a:lnTo>
                <a:lnTo>
                  <a:pt x="662" y="564"/>
                </a:lnTo>
                <a:lnTo>
                  <a:pt x="692" y="535"/>
                </a:lnTo>
                <a:cubicBezTo>
                  <a:pt x="697" y="531"/>
                  <a:pt x="703" y="528"/>
                  <a:pt x="710" y="528"/>
                </a:cubicBezTo>
                <a:lnTo>
                  <a:pt x="734" y="528"/>
                </a:lnTo>
                <a:lnTo>
                  <a:pt x="719" y="534"/>
                </a:lnTo>
                <a:lnTo>
                  <a:pt x="749" y="510"/>
                </a:lnTo>
                <a:lnTo>
                  <a:pt x="778" y="483"/>
                </a:lnTo>
                <a:lnTo>
                  <a:pt x="807" y="456"/>
                </a:lnTo>
                <a:lnTo>
                  <a:pt x="841" y="492"/>
                </a:lnTo>
                <a:lnTo>
                  <a:pt x="812" y="519"/>
                </a:lnTo>
                <a:lnTo>
                  <a:pt x="780" y="550"/>
                </a:lnTo>
                <a:lnTo>
                  <a:pt x="749" y="573"/>
                </a:lnTo>
                <a:cubicBezTo>
                  <a:pt x="745" y="577"/>
                  <a:pt x="739" y="578"/>
                  <a:pt x="734" y="578"/>
                </a:cubicBezTo>
                <a:lnTo>
                  <a:pt x="710" y="578"/>
                </a:lnTo>
                <a:lnTo>
                  <a:pt x="727" y="572"/>
                </a:lnTo>
                <a:lnTo>
                  <a:pt x="696" y="601"/>
                </a:lnTo>
                <a:cubicBezTo>
                  <a:pt x="692" y="605"/>
                  <a:pt x="685" y="607"/>
                  <a:pt x="679" y="607"/>
                </a:cubicBezTo>
                <a:lnTo>
                  <a:pt x="666" y="607"/>
                </a:lnTo>
                <a:lnTo>
                  <a:pt x="666" y="557"/>
                </a:lnTo>
                <a:close/>
                <a:moveTo>
                  <a:pt x="926" y="372"/>
                </a:moveTo>
                <a:lnTo>
                  <a:pt x="927" y="371"/>
                </a:lnTo>
                <a:lnTo>
                  <a:pt x="955" y="344"/>
                </a:lnTo>
                <a:lnTo>
                  <a:pt x="986" y="315"/>
                </a:lnTo>
                <a:cubicBezTo>
                  <a:pt x="990" y="310"/>
                  <a:pt x="997" y="308"/>
                  <a:pt x="1003" y="308"/>
                </a:cubicBezTo>
                <a:lnTo>
                  <a:pt x="1027" y="308"/>
                </a:lnTo>
                <a:lnTo>
                  <a:pt x="1010" y="315"/>
                </a:lnTo>
                <a:lnTo>
                  <a:pt x="1041" y="286"/>
                </a:lnTo>
                <a:lnTo>
                  <a:pt x="1071" y="257"/>
                </a:lnTo>
                <a:lnTo>
                  <a:pt x="1078" y="252"/>
                </a:lnTo>
                <a:lnTo>
                  <a:pt x="1108" y="292"/>
                </a:lnTo>
                <a:lnTo>
                  <a:pt x="1106" y="293"/>
                </a:lnTo>
                <a:lnTo>
                  <a:pt x="1075" y="322"/>
                </a:lnTo>
                <a:lnTo>
                  <a:pt x="1045" y="351"/>
                </a:lnTo>
                <a:cubicBezTo>
                  <a:pt x="1040" y="356"/>
                  <a:pt x="1034" y="358"/>
                  <a:pt x="1027" y="358"/>
                </a:cubicBezTo>
                <a:lnTo>
                  <a:pt x="1003" y="358"/>
                </a:lnTo>
                <a:lnTo>
                  <a:pt x="1020" y="351"/>
                </a:lnTo>
                <a:lnTo>
                  <a:pt x="990" y="380"/>
                </a:lnTo>
                <a:lnTo>
                  <a:pt x="957" y="411"/>
                </a:lnTo>
                <a:lnTo>
                  <a:pt x="956" y="412"/>
                </a:lnTo>
                <a:lnTo>
                  <a:pt x="926" y="372"/>
                </a:lnTo>
                <a:close/>
                <a:moveTo>
                  <a:pt x="1192" y="171"/>
                </a:moveTo>
                <a:lnTo>
                  <a:pt x="1218" y="147"/>
                </a:lnTo>
                <a:lnTo>
                  <a:pt x="1249" y="118"/>
                </a:lnTo>
                <a:cubicBezTo>
                  <a:pt x="1253" y="113"/>
                  <a:pt x="1259" y="111"/>
                  <a:pt x="1266" y="111"/>
                </a:cubicBezTo>
                <a:lnTo>
                  <a:pt x="1296" y="111"/>
                </a:lnTo>
                <a:lnTo>
                  <a:pt x="1277" y="120"/>
                </a:lnTo>
                <a:lnTo>
                  <a:pt x="1302" y="91"/>
                </a:lnTo>
                <a:cubicBezTo>
                  <a:pt x="1306" y="85"/>
                  <a:pt x="1313" y="82"/>
                  <a:pt x="1321" y="82"/>
                </a:cubicBezTo>
                <a:lnTo>
                  <a:pt x="1351" y="82"/>
                </a:lnTo>
                <a:lnTo>
                  <a:pt x="1375" y="82"/>
                </a:lnTo>
                <a:lnTo>
                  <a:pt x="1375" y="132"/>
                </a:lnTo>
                <a:lnTo>
                  <a:pt x="1351" y="132"/>
                </a:lnTo>
                <a:lnTo>
                  <a:pt x="1321" y="132"/>
                </a:lnTo>
                <a:lnTo>
                  <a:pt x="1340" y="123"/>
                </a:lnTo>
                <a:lnTo>
                  <a:pt x="1315" y="152"/>
                </a:lnTo>
                <a:cubicBezTo>
                  <a:pt x="1311" y="157"/>
                  <a:pt x="1304" y="161"/>
                  <a:pt x="1296" y="161"/>
                </a:cubicBezTo>
                <a:lnTo>
                  <a:pt x="1266" y="161"/>
                </a:lnTo>
                <a:lnTo>
                  <a:pt x="1283" y="154"/>
                </a:lnTo>
                <a:lnTo>
                  <a:pt x="1252" y="183"/>
                </a:lnTo>
                <a:lnTo>
                  <a:pt x="1227" y="207"/>
                </a:lnTo>
                <a:lnTo>
                  <a:pt x="1192" y="171"/>
                </a:lnTo>
                <a:close/>
                <a:moveTo>
                  <a:pt x="1503" y="29"/>
                </a:moveTo>
                <a:lnTo>
                  <a:pt x="1529" y="29"/>
                </a:lnTo>
                <a:lnTo>
                  <a:pt x="1559" y="29"/>
                </a:lnTo>
                <a:lnTo>
                  <a:pt x="1590" y="29"/>
                </a:lnTo>
                <a:lnTo>
                  <a:pt x="1620" y="29"/>
                </a:lnTo>
                <a:lnTo>
                  <a:pt x="1645" y="29"/>
                </a:lnTo>
                <a:lnTo>
                  <a:pt x="1675" y="29"/>
                </a:lnTo>
                <a:lnTo>
                  <a:pt x="1703" y="29"/>
                </a:lnTo>
                <a:lnTo>
                  <a:pt x="1703" y="79"/>
                </a:lnTo>
                <a:lnTo>
                  <a:pt x="1675" y="79"/>
                </a:lnTo>
                <a:lnTo>
                  <a:pt x="1645" y="79"/>
                </a:lnTo>
                <a:lnTo>
                  <a:pt x="1620" y="79"/>
                </a:lnTo>
                <a:lnTo>
                  <a:pt x="1590" y="79"/>
                </a:lnTo>
                <a:lnTo>
                  <a:pt x="1559" y="79"/>
                </a:lnTo>
                <a:lnTo>
                  <a:pt x="1529" y="79"/>
                </a:lnTo>
                <a:lnTo>
                  <a:pt x="1503" y="79"/>
                </a:lnTo>
                <a:lnTo>
                  <a:pt x="1503" y="29"/>
                </a:lnTo>
                <a:close/>
                <a:moveTo>
                  <a:pt x="1853" y="29"/>
                </a:moveTo>
                <a:lnTo>
                  <a:pt x="1883" y="29"/>
                </a:lnTo>
                <a:lnTo>
                  <a:pt x="1914" y="29"/>
                </a:lnTo>
                <a:lnTo>
                  <a:pt x="1938" y="29"/>
                </a:lnTo>
                <a:lnTo>
                  <a:pt x="1969" y="29"/>
                </a:lnTo>
                <a:lnTo>
                  <a:pt x="1999" y="29"/>
                </a:lnTo>
                <a:lnTo>
                  <a:pt x="1982" y="36"/>
                </a:lnTo>
                <a:lnTo>
                  <a:pt x="2013" y="7"/>
                </a:lnTo>
                <a:cubicBezTo>
                  <a:pt x="2017" y="3"/>
                  <a:pt x="2023" y="0"/>
                  <a:pt x="2030" y="0"/>
                </a:cubicBezTo>
                <a:lnTo>
                  <a:pt x="2042" y="0"/>
                </a:lnTo>
                <a:lnTo>
                  <a:pt x="2042" y="50"/>
                </a:lnTo>
                <a:lnTo>
                  <a:pt x="2030" y="50"/>
                </a:lnTo>
                <a:lnTo>
                  <a:pt x="2047" y="44"/>
                </a:lnTo>
                <a:lnTo>
                  <a:pt x="2017" y="73"/>
                </a:lnTo>
                <a:cubicBezTo>
                  <a:pt x="2012" y="77"/>
                  <a:pt x="2006" y="79"/>
                  <a:pt x="1999" y="79"/>
                </a:cubicBezTo>
                <a:lnTo>
                  <a:pt x="1969" y="79"/>
                </a:lnTo>
                <a:lnTo>
                  <a:pt x="1938" y="79"/>
                </a:lnTo>
                <a:lnTo>
                  <a:pt x="1914" y="79"/>
                </a:lnTo>
                <a:lnTo>
                  <a:pt x="1883" y="79"/>
                </a:lnTo>
                <a:lnTo>
                  <a:pt x="1853" y="79"/>
                </a:lnTo>
                <a:lnTo>
                  <a:pt x="1853" y="29"/>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2701800" y="2209680"/>
            <a:ext cx="4019760" cy="303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701800" y="2209680"/>
            <a:ext cx="4019760" cy="30355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701800" y="2209680"/>
            <a:ext cx="40197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
          <p:cNvSpPr/>
          <p:nvPr/>
        </p:nvSpPr>
        <p:spPr>
          <a:xfrm flipV="1">
            <a:off x="6721560" y="2209680"/>
            <a:ext cx="144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2"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V="1">
            <a:off x="2701800" y="5199120"/>
            <a:ext cx="180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4" name=""/>
          <p:cNvSpPr/>
          <p:nvPr/>
        </p:nvSpPr>
        <p:spPr>
          <a:xfrm>
            <a:off x="2701800" y="2209680"/>
            <a:ext cx="180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5" name=""/>
          <p:cNvSpPr/>
          <p:nvPr/>
        </p:nvSpPr>
        <p:spPr>
          <a:xfrm>
            <a:off x="26647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86" name=""/>
          <p:cNvSpPr/>
          <p:nvPr/>
        </p:nvSpPr>
        <p:spPr>
          <a:xfrm flipV="1">
            <a:off x="34974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7" name=""/>
          <p:cNvSpPr/>
          <p:nvPr/>
        </p:nvSpPr>
        <p:spPr>
          <a:xfrm>
            <a:off x="34974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8" name=""/>
          <p:cNvSpPr/>
          <p:nvPr/>
        </p:nvSpPr>
        <p:spPr>
          <a:xfrm>
            <a:off x="346140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89" name=""/>
          <p:cNvSpPr/>
          <p:nvPr/>
        </p:nvSpPr>
        <p:spPr>
          <a:xfrm flipV="1">
            <a:off x="43038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0" name=""/>
          <p:cNvSpPr/>
          <p:nvPr/>
        </p:nvSpPr>
        <p:spPr>
          <a:xfrm>
            <a:off x="43038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1" name=""/>
          <p:cNvSpPr/>
          <p:nvPr/>
        </p:nvSpPr>
        <p:spPr>
          <a:xfrm>
            <a:off x="426780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92" name=""/>
          <p:cNvSpPr/>
          <p:nvPr/>
        </p:nvSpPr>
        <p:spPr>
          <a:xfrm flipV="1">
            <a:off x="511020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3" name=""/>
          <p:cNvSpPr/>
          <p:nvPr/>
        </p:nvSpPr>
        <p:spPr>
          <a:xfrm>
            <a:off x="511020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4" name=""/>
          <p:cNvSpPr/>
          <p:nvPr/>
        </p:nvSpPr>
        <p:spPr>
          <a:xfrm>
            <a:off x="50713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95" name=""/>
          <p:cNvSpPr/>
          <p:nvPr/>
        </p:nvSpPr>
        <p:spPr>
          <a:xfrm flipV="1">
            <a:off x="591516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6" name=""/>
          <p:cNvSpPr/>
          <p:nvPr/>
        </p:nvSpPr>
        <p:spPr>
          <a:xfrm>
            <a:off x="591516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7" name=""/>
          <p:cNvSpPr/>
          <p:nvPr/>
        </p:nvSpPr>
        <p:spPr>
          <a:xfrm>
            <a:off x="5877720" y="531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898" name=""/>
          <p:cNvSpPr/>
          <p:nvPr/>
        </p:nvSpPr>
        <p:spPr>
          <a:xfrm flipV="1">
            <a:off x="6721560" y="5199120"/>
            <a:ext cx="1440" cy="46080"/>
          </a:xfrm>
          <a:prstGeom prst="line">
            <a:avLst/>
          </a:prstGeom>
          <a:ln cap="rnd"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9" name=""/>
          <p:cNvSpPr/>
          <p:nvPr/>
        </p:nvSpPr>
        <p:spPr>
          <a:xfrm>
            <a:off x="6721560" y="220968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00" name=""/>
          <p:cNvSpPr/>
          <p:nvPr/>
        </p:nvSpPr>
        <p:spPr>
          <a:xfrm>
            <a:off x="6645600" y="5313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901" name=""/>
          <p:cNvSpPr/>
          <p:nvPr/>
        </p:nvSpPr>
        <p:spPr>
          <a:xfrm>
            <a:off x="2701800" y="52452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flipH="1">
            <a:off x="6673320" y="524520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2507400" y="517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04" name=""/>
          <p:cNvSpPr/>
          <p:nvPr/>
        </p:nvSpPr>
        <p:spPr>
          <a:xfrm>
            <a:off x="2701800" y="49086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5" name=""/>
          <p:cNvSpPr/>
          <p:nvPr/>
        </p:nvSpPr>
        <p:spPr>
          <a:xfrm flipH="1">
            <a:off x="6673320" y="490860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2395800" y="4842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907" name=""/>
          <p:cNvSpPr/>
          <p:nvPr/>
        </p:nvSpPr>
        <p:spPr>
          <a:xfrm>
            <a:off x="2701800" y="45705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flipH="1">
            <a:off x="6673320" y="457056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395800" y="4505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910" name=""/>
          <p:cNvSpPr/>
          <p:nvPr/>
        </p:nvSpPr>
        <p:spPr>
          <a:xfrm>
            <a:off x="2701800" y="4233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flipH="1">
            <a:off x="6673320" y="423396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2" name=""/>
          <p:cNvSpPr/>
          <p:nvPr/>
        </p:nvSpPr>
        <p:spPr>
          <a:xfrm>
            <a:off x="2395800" y="4167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1913" name=""/>
          <p:cNvSpPr/>
          <p:nvPr/>
        </p:nvSpPr>
        <p:spPr>
          <a:xfrm>
            <a:off x="2701800" y="38955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4" name=""/>
          <p:cNvSpPr/>
          <p:nvPr/>
        </p:nvSpPr>
        <p:spPr>
          <a:xfrm flipH="1">
            <a:off x="6673320" y="389556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5" name=""/>
          <p:cNvSpPr/>
          <p:nvPr/>
        </p:nvSpPr>
        <p:spPr>
          <a:xfrm>
            <a:off x="2395800" y="3830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1916" name=""/>
          <p:cNvSpPr/>
          <p:nvPr/>
        </p:nvSpPr>
        <p:spPr>
          <a:xfrm>
            <a:off x="2701800" y="35593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flipH="1">
            <a:off x="6673320" y="355932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2395800" y="349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1919" name=""/>
          <p:cNvSpPr/>
          <p:nvPr/>
        </p:nvSpPr>
        <p:spPr>
          <a:xfrm>
            <a:off x="2701800" y="321300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flipH="1">
            <a:off x="6673320" y="321300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1" name=""/>
          <p:cNvSpPr/>
          <p:nvPr/>
        </p:nvSpPr>
        <p:spPr>
          <a:xfrm>
            <a:off x="2395800" y="3147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922" name=""/>
          <p:cNvSpPr/>
          <p:nvPr/>
        </p:nvSpPr>
        <p:spPr>
          <a:xfrm>
            <a:off x="2701800" y="28861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flipH="1">
            <a:off x="6673320" y="288612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2395800" y="28195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925" name=""/>
          <p:cNvSpPr/>
          <p:nvPr/>
        </p:nvSpPr>
        <p:spPr>
          <a:xfrm>
            <a:off x="2701800" y="25480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flipH="1">
            <a:off x="6673320" y="2548080"/>
            <a:ext cx="478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7" name=""/>
          <p:cNvSpPr/>
          <p:nvPr/>
        </p:nvSpPr>
        <p:spPr>
          <a:xfrm>
            <a:off x="2395800" y="2481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928" name=""/>
          <p:cNvSpPr/>
          <p:nvPr/>
        </p:nvSpPr>
        <p:spPr>
          <a:xfrm>
            <a:off x="2701800" y="220968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9" name=""/>
          <p:cNvSpPr/>
          <p:nvPr/>
        </p:nvSpPr>
        <p:spPr>
          <a:xfrm flipH="1">
            <a:off x="6673320" y="2209680"/>
            <a:ext cx="478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0" name=""/>
          <p:cNvSpPr/>
          <p:nvPr/>
        </p:nvSpPr>
        <p:spPr>
          <a:xfrm>
            <a:off x="2395800" y="2144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931" name=""/>
          <p:cNvSpPr/>
          <p:nvPr/>
        </p:nvSpPr>
        <p:spPr>
          <a:xfrm>
            <a:off x="2701800" y="2209680"/>
            <a:ext cx="40197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2" name=""/>
          <p:cNvSpPr/>
          <p:nvPr/>
        </p:nvSpPr>
        <p:spPr>
          <a:xfrm>
            <a:off x="2701800" y="5245200"/>
            <a:ext cx="40197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flipV="1">
            <a:off x="6721560" y="2209680"/>
            <a:ext cx="144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V="1">
            <a:off x="2701800" y="2209680"/>
            <a:ext cx="1800" cy="3035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701800" y="3673440"/>
            <a:ext cx="1046160" cy="1571760"/>
          </a:xfrm>
          <a:custGeom>
            <a:avLst/>
            <a:gdLst/>
            <a:ahLst/>
            <a:rect l="l" t="t" r="r" b="b"/>
            <a:pathLst>
              <a:path w="659" h="990">
                <a:moveTo>
                  <a:pt x="0" y="990"/>
                </a:moveTo>
                <a:lnTo>
                  <a:pt x="0" y="973"/>
                </a:lnTo>
                <a:lnTo>
                  <a:pt x="6" y="961"/>
                </a:lnTo>
                <a:lnTo>
                  <a:pt x="11" y="945"/>
                </a:lnTo>
                <a:lnTo>
                  <a:pt x="17" y="933"/>
                </a:lnTo>
                <a:lnTo>
                  <a:pt x="23" y="923"/>
                </a:lnTo>
                <a:lnTo>
                  <a:pt x="29" y="906"/>
                </a:lnTo>
                <a:lnTo>
                  <a:pt x="29" y="895"/>
                </a:lnTo>
                <a:lnTo>
                  <a:pt x="35" y="883"/>
                </a:lnTo>
                <a:lnTo>
                  <a:pt x="40" y="867"/>
                </a:lnTo>
                <a:lnTo>
                  <a:pt x="46" y="856"/>
                </a:lnTo>
                <a:lnTo>
                  <a:pt x="52" y="844"/>
                </a:lnTo>
                <a:lnTo>
                  <a:pt x="58" y="828"/>
                </a:lnTo>
                <a:lnTo>
                  <a:pt x="64" y="816"/>
                </a:lnTo>
                <a:lnTo>
                  <a:pt x="64" y="806"/>
                </a:lnTo>
                <a:lnTo>
                  <a:pt x="69" y="788"/>
                </a:lnTo>
                <a:lnTo>
                  <a:pt x="75" y="778"/>
                </a:lnTo>
                <a:lnTo>
                  <a:pt x="81" y="766"/>
                </a:lnTo>
                <a:lnTo>
                  <a:pt x="87" y="750"/>
                </a:lnTo>
                <a:lnTo>
                  <a:pt x="93" y="738"/>
                </a:lnTo>
                <a:lnTo>
                  <a:pt x="93" y="727"/>
                </a:lnTo>
                <a:lnTo>
                  <a:pt x="98" y="716"/>
                </a:lnTo>
                <a:lnTo>
                  <a:pt x="104" y="699"/>
                </a:lnTo>
                <a:lnTo>
                  <a:pt x="110" y="688"/>
                </a:lnTo>
                <a:lnTo>
                  <a:pt x="116" y="677"/>
                </a:lnTo>
                <a:lnTo>
                  <a:pt x="122" y="665"/>
                </a:lnTo>
                <a:lnTo>
                  <a:pt x="127" y="655"/>
                </a:lnTo>
                <a:lnTo>
                  <a:pt x="127" y="637"/>
                </a:lnTo>
                <a:lnTo>
                  <a:pt x="133" y="627"/>
                </a:lnTo>
                <a:lnTo>
                  <a:pt x="139" y="615"/>
                </a:lnTo>
                <a:lnTo>
                  <a:pt x="145" y="605"/>
                </a:lnTo>
                <a:lnTo>
                  <a:pt x="151" y="593"/>
                </a:lnTo>
                <a:lnTo>
                  <a:pt x="157" y="581"/>
                </a:lnTo>
                <a:lnTo>
                  <a:pt x="162" y="571"/>
                </a:lnTo>
                <a:lnTo>
                  <a:pt x="162" y="554"/>
                </a:lnTo>
                <a:lnTo>
                  <a:pt x="168" y="543"/>
                </a:lnTo>
                <a:lnTo>
                  <a:pt x="174" y="531"/>
                </a:lnTo>
                <a:lnTo>
                  <a:pt x="180" y="520"/>
                </a:lnTo>
                <a:lnTo>
                  <a:pt x="187" y="509"/>
                </a:lnTo>
                <a:lnTo>
                  <a:pt x="191" y="498"/>
                </a:lnTo>
                <a:lnTo>
                  <a:pt x="191" y="486"/>
                </a:lnTo>
                <a:lnTo>
                  <a:pt x="197" y="476"/>
                </a:lnTo>
                <a:lnTo>
                  <a:pt x="204" y="470"/>
                </a:lnTo>
                <a:lnTo>
                  <a:pt x="210" y="458"/>
                </a:lnTo>
                <a:lnTo>
                  <a:pt x="216" y="448"/>
                </a:lnTo>
                <a:lnTo>
                  <a:pt x="220" y="436"/>
                </a:lnTo>
                <a:lnTo>
                  <a:pt x="227" y="426"/>
                </a:lnTo>
                <a:lnTo>
                  <a:pt x="227" y="414"/>
                </a:lnTo>
                <a:lnTo>
                  <a:pt x="233" y="402"/>
                </a:lnTo>
                <a:lnTo>
                  <a:pt x="239" y="397"/>
                </a:lnTo>
                <a:lnTo>
                  <a:pt x="245" y="386"/>
                </a:lnTo>
                <a:lnTo>
                  <a:pt x="250" y="375"/>
                </a:lnTo>
                <a:lnTo>
                  <a:pt x="256" y="364"/>
                </a:lnTo>
                <a:lnTo>
                  <a:pt x="262" y="358"/>
                </a:lnTo>
                <a:lnTo>
                  <a:pt x="262" y="347"/>
                </a:lnTo>
                <a:lnTo>
                  <a:pt x="268" y="336"/>
                </a:lnTo>
                <a:lnTo>
                  <a:pt x="274" y="330"/>
                </a:lnTo>
                <a:lnTo>
                  <a:pt x="279" y="319"/>
                </a:lnTo>
                <a:lnTo>
                  <a:pt x="285" y="313"/>
                </a:lnTo>
                <a:lnTo>
                  <a:pt x="291" y="303"/>
                </a:lnTo>
                <a:lnTo>
                  <a:pt x="291" y="291"/>
                </a:lnTo>
                <a:lnTo>
                  <a:pt x="297" y="285"/>
                </a:lnTo>
                <a:lnTo>
                  <a:pt x="303" y="275"/>
                </a:lnTo>
                <a:lnTo>
                  <a:pt x="308" y="269"/>
                </a:lnTo>
                <a:lnTo>
                  <a:pt x="314" y="263"/>
                </a:lnTo>
                <a:lnTo>
                  <a:pt x="320" y="251"/>
                </a:lnTo>
                <a:lnTo>
                  <a:pt x="326" y="247"/>
                </a:lnTo>
                <a:lnTo>
                  <a:pt x="326" y="235"/>
                </a:lnTo>
                <a:lnTo>
                  <a:pt x="332" y="229"/>
                </a:lnTo>
                <a:lnTo>
                  <a:pt x="337" y="224"/>
                </a:lnTo>
                <a:lnTo>
                  <a:pt x="343" y="219"/>
                </a:lnTo>
                <a:lnTo>
                  <a:pt x="349" y="207"/>
                </a:lnTo>
                <a:lnTo>
                  <a:pt x="355" y="202"/>
                </a:lnTo>
                <a:lnTo>
                  <a:pt x="361" y="196"/>
                </a:lnTo>
                <a:lnTo>
                  <a:pt x="361" y="190"/>
                </a:lnTo>
                <a:lnTo>
                  <a:pt x="367" y="179"/>
                </a:lnTo>
                <a:lnTo>
                  <a:pt x="372" y="174"/>
                </a:lnTo>
                <a:lnTo>
                  <a:pt x="378" y="168"/>
                </a:lnTo>
                <a:lnTo>
                  <a:pt x="384" y="162"/>
                </a:lnTo>
                <a:lnTo>
                  <a:pt x="390" y="157"/>
                </a:lnTo>
                <a:lnTo>
                  <a:pt x="390" y="152"/>
                </a:lnTo>
                <a:lnTo>
                  <a:pt x="396" y="146"/>
                </a:lnTo>
                <a:lnTo>
                  <a:pt x="401" y="140"/>
                </a:lnTo>
                <a:lnTo>
                  <a:pt x="407" y="134"/>
                </a:lnTo>
                <a:lnTo>
                  <a:pt x="413" y="129"/>
                </a:lnTo>
                <a:lnTo>
                  <a:pt x="420" y="124"/>
                </a:lnTo>
                <a:lnTo>
                  <a:pt x="430" y="112"/>
                </a:lnTo>
                <a:lnTo>
                  <a:pt x="426" y="112"/>
                </a:lnTo>
                <a:lnTo>
                  <a:pt x="430" y="112"/>
                </a:lnTo>
                <a:lnTo>
                  <a:pt x="436" y="106"/>
                </a:lnTo>
                <a:lnTo>
                  <a:pt x="443" y="100"/>
                </a:lnTo>
                <a:lnTo>
                  <a:pt x="449" y="96"/>
                </a:lnTo>
                <a:lnTo>
                  <a:pt x="455" y="90"/>
                </a:lnTo>
                <a:lnTo>
                  <a:pt x="460" y="84"/>
                </a:lnTo>
                <a:lnTo>
                  <a:pt x="466" y="78"/>
                </a:lnTo>
                <a:lnTo>
                  <a:pt x="472" y="78"/>
                </a:lnTo>
                <a:lnTo>
                  <a:pt x="478" y="72"/>
                </a:lnTo>
                <a:lnTo>
                  <a:pt x="484" y="68"/>
                </a:lnTo>
                <a:lnTo>
                  <a:pt x="489" y="62"/>
                </a:lnTo>
                <a:lnTo>
                  <a:pt x="495" y="62"/>
                </a:lnTo>
                <a:lnTo>
                  <a:pt x="501" y="56"/>
                </a:lnTo>
                <a:lnTo>
                  <a:pt x="507" y="56"/>
                </a:lnTo>
                <a:lnTo>
                  <a:pt x="513" y="50"/>
                </a:lnTo>
                <a:lnTo>
                  <a:pt x="518" y="50"/>
                </a:lnTo>
                <a:lnTo>
                  <a:pt x="524" y="45"/>
                </a:lnTo>
                <a:lnTo>
                  <a:pt x="530" y="40"/>
                </a:lnTo>
                <a:lnTo>
                  <a:pt x="536" y="40"/>
                </a:lnTo>
                <a:lnTo>
                  <a:pt x="542" y="34"/>
                </a:lnTo>
                <a:lnTo>
                  <a:pt x="547" y="34"/>
                </a:lnTo>
                <a:lnTo>
                  <a:pt x="553" y="28"/>
                </a:lnTo>
                <a:lnTo>
                  <a:pt x="559" y="28"/>
                </a:lnTo>
                <a:lnTo>
                  <a:pt x="565" y="23"/>
                </a:lnTo>
                <a:lnTo>
                  <a:pt x="571" y="23"/>
                </a:lnTo>
                <a:lnTo>
                  <a:pt x="576" y="23"/>
                </a:lnTo>
                <a:lnTo>
                  <a:pt x="582" y="23"/>
                </a:lnTo>
                <a:lnTo>
                  <a:pt x="588" y="17"/>
                </a:lnTo>
                <a:lnTo>
                  <a:pt x="594" y="17"/>
                </a:lnTo>
                <a:lnTo>
                  <a:pt x="600" y="12"/>
                </a:lnTo>
                <a:lnTo>
                  <a:pt x="606" y="12"/>
                </a:lnTo>
                <a:lnTo>
                  <a:pt x="611" y="12"/>
                </a:lnTo>
                <a:lnTo>
                  <a:pt x="617" y="12"/>
                </a:lnTo>
                <a:lnTo>
                  <a:pt x="623" y="6"/>
                </a:lnTo>
                <a:lnTo>
                  <a:pt x="629" y="6"/>
                </a:lnTo>
                <a:lnTo>
                  <a:pt x="636" y="6"/>
                </a:lnTo>
                <a:lnTo>
                  <a:pt x="640" y="0"/>
                </a:lnTo>
                <a:lnTo>
                  <a:pt x="646" y="0"/>
                </a:lnTo>
                <a:lnTo>
                  <a:pt x="653" y="0"/>
                </a:lnTo>
                <a:lnTo>
                  <a:pt x="659"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747960" y="2963880"/>
            <a:ext cx="1176480" cy="709560"/>
          </a:xfrm>
          <a:custGeom>
            <a:avLst/>
            <a:gdLst/>
            <a:ahLst/>
            <a:rect l="l" t="t" r="r" b="b"/>
            <a:pathLst>
              <a:path w="741" h="447">
                <a:moveTo>
                  <a:pt x="0" y="447"/>
                </a:moveTo>
                <a:lnTo>
                  <a:pt x="6" y="442"/>
                </a:lnTo>
                <a:lnTo>
                  <a:pt x="10" y="442"/>
                </a:lnTo>
                <a:lnTo>
                  <a:pt x="17" y="442"/>
                </a:lnTo>
                <a:lnTo>
                  <a:pt x="23" y="442"/>
                </a:lnTo>
                <a:lnTo>
                  <a:pt x="29" y="436"/>
                </a:lnTo>
                <a:lnTo>
                  <a:pt x="35" y="436"/>
                </a:lnTo>
                <a:lnTo>
                  <a:pt x="40" y="436"/>
                </a:lnTo>
                <a:lnTo>
                  <a:pt x="46" y="436"/>
                </a:lnTo>
                <a:lnTo>
                  <a:pt x="52" y="430"/>
                </a:lnTo>
                <a:lnTo>
                  <a:pt x="58" y="430"/>
                </a:lnTo>
                <a:lnTo>
                  <a:pt x="64" y="430"/>
                </a:lnTo>
                <a:lnTo>
                  <a:pt x="69" y="425"/>
                </a:lnTo>
                <a:lnTo>
                  <a:pt x="75" y="425"/>
                </a:lnTo>
                <a:lnTo>
                  <a:pt x="81" y="425"/>
                </a:lnTo>
                <a:lnTo>
                  <a:pt x="87" y="420"/>
                </a:lnTo>
                <a:lnTo>
                  <a:pt x="93" y="420"/>
                </a:lnTo>
                <a:lnTo>
                  <a:pt x="98" y="420"/>
                </a:lnTo>
                <a:lnTo>
                  <a:pt x="104" y="414"/>
                </a:lnTo>
                <a:lnTo>
                  <a:pt x="110" y="414"/>
                </a:lnTo>
                <a:lnTo>
                  <a:pt x="116" y="414"/>
                </a:lnTo>
                <a:lnTo>
                  <a:pt x="122" y="408"/>
                </a:lnTo>
                <a:lnTo>
                  <a:pt x="127" y="402"/>
                </a:lnTo>
                <a:lnTo>
                  <a:pt x="133" y="402"/>
                </a:lnTo>
                <a:lnTo>
                  <a:pt x="139" y="402"/>
                </a:lnTo>
                <a:lnTo>
                  <a:pt x="145" y="398"/>
                </a:lnTo>
                <a:lnTo>
                  <a:pt x="152" y="398"/>
                </a:lnTo>
                <a:lnTo>
                  <a:pt x="158" y="392"/>
                </a:lnTo>
                <a:lnTo>
                  <a:pt x="162" y="392"/>
                </a:lnTo>
                <a:lnTo>
                  <a:pt x="169" y="386"/>
                </a:lnTo>
                <a:lnTo>
                  <a:pt x="175" y="386"/>
                </a:lnTo>
                <a:lnTo>
                  <a:pt x="181" y="380"/>
                </a:lnTo>
                <a:lnTo>
                  <a:pt x="187" y="380"/>
                </a:lnTo>
                <a:lnTo>
                  <a:pt x="192" y="374"/>
                </a:lnTo>
                <a:lnTo>
                  <a:pt x="198" y="370"/>
                </a:lnTo>
                <a:lnTo>
                  <a:pt x="204" y="370"/>
                </a:lnTo>
                <a:lnTo>
                  <a:pt x="210" y="364"/>
                </a:lnTo>
                <a:lnTo>
                  <a:pt x="216" y="358"/>
                </a:lnTo>
                <a:lnTo>
                  <a:pt x="221" y="358"/>
                </a:lnTo>
                <a:lnTo>
                  <a:pt x="227" y="352"/>
                </a:lnTo>
                <a:lnTo>
                  <a:pt x="233" y="346"/>
                </a:lnTo>
                <a:lnTo>
                  <a:pt x="239" y="341"/>
                </a:lnTo>
                <a:lnTo>
                  <a:pt x="245" y="341"/>
                </a:lnTo>
                <a:lnTo>
                  <a:pt x="250" y="336"/>
                </a:lnTo>
                <a:lnTo>
                  <a:pt x="256" y="330"/>
                </a:lnTo>
                <a:lnTo>
                  <a:pt x="262" y="324"/>
                </a:lnTo>
                <a:lnTo>
                  <a:pt x="268" y="324"/>
                </a:lnTo>
                <a:lnTo>
                  <a:pt x="274" y="319"/>
                </a:lnTo>
                <a:lnTo>
                  <a:pt x="279" y="313"/>
                </a:lnTo>
                <a:lnTo>
                  <a:pt x="285" y="308"/>
                </a:lnTo>
                <a:lnTo>
                  <a:pt x="291" y="302"/>
                </a:lnTo>
                <a:lnTo>
                  <a:pt x="297" y="297"/>
                </a:lnTo>
                <a:lnTo>
                  <a:pt x="304" y="297"/>
                </a:lnTo>
                <a:lnTo>
                  <a:pt x="308" y="291"/>
                </a:lnTo>
                <a:lnTo>
                  <a:pt x="314" y="285"/>
                </a:lnTo>
                <a:lnTo>
                  <a:pt x="321" y="280"/>
                </a:lnTo>
                <a:lnTo>
                  <a:pt x="327" y="275"/>
                </a:lnTo>
                <a:lnTo>
                  <a:pt x="333" y="269"/>
                </a:lnTo>
                <a:lnTo>
                  <a:pt x="338" y="263"/>
                </a:lnTo>
                <a:lnTo>
                  <a:pt x="344" y="263"/>
                </a:lnTo>
                <a:lnTo>
                  <a:pt x="350" y="257"/>
                </a:lnTo>
                <a:lnTo>
                  <a:pt x="356" y="247"/>
                </a:lnTo>
                <a:lnTo>
                  <a:pt x="362" y="241"/>
                </a:lnTo>
                <a:lnTo>
                  <a:pt x="367" y="241"/>
                </a:lnTo>
                <a:lnTo>
                  <a:pt x="373" y="235"/>
                </a:lnTo>
                <a:lnTo>
                  <a:pt x="379" y="229"/>
                </a:lnTo>
                <a:lnTo>
                  <a:pt x="385" y="223"/>
                </a:lnTo>
                <a:lnTo>
                  <a:pt x="391" y="219"/>
                </a:lnTo>
                <a:lnTo>
                  <a:pt x="397" y="213"/>
                </a:lnTo>
                <a:lnTo>
                  <a:pt x="402" y="207"/>
                </a:lnTo>
                <a:lnTo>
                  <a:pt x="408" y="201"/>
                </a:lnTo>
                <a:lnTo>
                  <a:pt x="414" y="201"/>
                </a:lnTo>
                <a:lnTo>
                  <a:pt x="420" y="195"/>
                </a:lnTo>
                <a:lnTo>
                  <a:pt x="426" y="185"/>
                </a:lnTo>
                <a:lnTo>
                  <a:pt x="431" y="185"/>
                </a:lnTo>
                <a:lnTo>
                  <a:pt x="437" y="179"/>
                </a:lnTo>
                <a:lnTo>
                  <a:pt x="443" y="173"/>
                </a:lnTo>
                <a:lnTo>
                  <a:pt x="449" y="168"/>
                </a:lnTo>
                <a:lnTo>
                  <a:pt x="455" y="162"/>
                </a:lnTo>
                <a:lnTo>
                  <a:pt x="460" y="157"/>
                </a:lnTo>
                <a:lnTo>
                  <a:pt x="466" y="151"/>
                </a:lnTo>
                <a:lnTo>
                  <a:pt x="472" y="151"/>
                </a:lnTo>
                <a:lnTo>
                  <a:pt x="479" y="146"/>
                </a:lnTo>
                <a:lnTo>
                  <a:pt x="485" y="140"/>
                </a:lnTo>
                <a:lnTo>
                  <a:pt x="489" y="134"/>
                </a:lnTo>
                <a:lnTo>
                  <a:pt x="496" y="129"/>
                </a:lnTo>
                <a:lnTo>
                  <a:pt x="502" y="124"/>
                </a:lnTo>
                <a:lnTo>
                  <a:pt x="508" y="124"/>
                </a:lnTo>
                <a:lnTo>
                  <a:pt x="514" y="118"/>
                </a:lnTo>
                <a:lnTo>
                  <a:pt x="519" y="112"/>
                </a:lnTo>
                <a:lnTo>
                  <a:pt x="525" y="106"/>
                </a:lnTo>
                <a:lnTo>
                  <a:pt x="531" y="106"/>
                </a:lnTo>
                <a:lnTo>
                  <a:pt x="537" y="101"/>
                </a:lnTo>
                <a:lnTo>
                  <a:pt x="543" y="96"/>
                </a:lnTo>
                <a:lnTo>
                  <a:pt x="548" y="96"/>
                </a:lnTo>
                <a:lnTo>
                  <a:pt x="554" y="90"/>
                </a:lnTo>
                <a:lnTo>
                  <a:pt x="560" y="84"/>
                </a:lnTo>
                <a:lnTo>
                  <a:pt x="566" y="78"/>
                </a:lnTo>
                <a:lnTo>
                  <a:pt x="572" y="78"/>
                </a:lnTo>
                <a:lnTo>
                  <a:pt x="577" y="74"/>
                </a:lnTo>
                <a:lnTo>
                  <a:pt x="583" y="74"/>
                </a:lnTo>
                <a:lnTo>
                  <a:pt x="589" y="68"/>
                </a:lnTo>
                <a:lnTo>
                  <a:pt x="595" y="62"/>
                </a:lnTo>
                <a:lnTo>
                  <a:pt x="601" y="62"/>
                </a:lnTo>
                <a:lnTo>
                  <a:pt x="607" y="56"/>
                </a:lnTo>
                <a:lnTo>
                  <a:pt x="612" y="56"/>
                </a:lnTo>
                <a:lnTo>
                  <a:pt x="618" y="50"/>
                </a:lnTo>
                <a:lnTo>
                  <a:pt x="624" y="45"/>
                </a:lnTo>
                <a:lnTo>
                  <a:pt x="631" y="45"/>
                </a:lnTo>
                <a:lnTo>
                  <a:pt x="637" y="45"/>
                </a:lnTo>
                <a:lnTo>
                  <a:pt x="641" y="40"/>
                </a:lnTo>
                <a:lnTo>
                  <a:pt x="648" y="40"/>
                </a:lnTo>
                <a:lnTo>
                  <a:pt x="654" y="34"/>
                </a:lnTo>
                <a:lnTo>
                  <a:pt x="660" y="34"/>
                </a:lnTo>
                <a:lnTo>
                  <a:pt x="666" y="28"/>
                </a:lnTo>
                <a:lnTo>
                  <a:pt x="671" y="28"/>
                </a:lnTo>
                <a:lnTo>
                  <a:pt x="677" y="28"/>
                </a:lnTo>
                <a:lnTo>
                  <a:pt x="683" y="23"/>
                </a:lnTo>
                <a:lnTo>
                  <a:pt x="689" y="17"/>
                </a:lnTo>
                <a:lnTo>
                  <a:pt x="695" y="17"/>
                </a:lnTo>
                <a:lnTo>
                  <a:pt x="700" y="17"/>
                </a:lnTo>
                <a:lnTo>
                  <a:pt x="706" y="17"/>
                </a:lnTo>
                <a:lnTo>
                  <a:pt x="712" y="12"/>
                </a:lnTo>
                <a:lnTo>
                  <a:pt x="718" y="12"/>
                </a:lnTo>
                <a:lnTo>
                  <a:pt x="724" y="6"/>
                </a:lnTo>
                <a:lnTo>
                  <a:pt x="729" y="6"/>
                </a:lnTo>
                <a:lnTo>
                  <a:pt x="735" y="6"/>
                </a:lnTo>
                <a:lnTo>
                  <a:pt x="741"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924440" y="2440080"/>
            <a:ext cx="1176480" cy="523800"/>
          </a:xfrm>
          <a:custGeom>
            <a:avLst/>
            <a:gdLst/>
            <a:ahLst/>
            <a:rect l="l" t="t" r="r" b="b"/>
            <a:pathLst>
              <a:path w="741" h="330">
                <a:moveTo>
                  <a:pt x="0" y="330"/>
                </a:moveTo>
                <a:lnTo>
                  <a:pt x="6" y="330"/>
                </a:lnTo>
                <a:lnTo>
                  <a:pt x="12" y="330"/>
                </a:lnTo>
                <a:lnTo>
                  <a:pt x="17" y="325"/>
                </a:lnTo>
                <a:lnTo>
                  <a:pt x="23" y="325"/>
                </a:lnTo>
                <a:lnTo>
                  <a:pt x="29" y="325"/>
                </a:lnTo>
                <a:lnTo>
                  <a:pt x="35" y="325"/>
                </a:lnTo>
                <a:lnTo>
                  <a:pt x="41" y="319"/>
                </a:lnTo>
                <a:lnTo>
                  <a:pt x="46" y="319"/>
                </a:lnTo>
                <a:lnTo>
                  <a:pt x="52" y="319"/>
                </a:lnTo>
                <a:lnTo>
                  <a:pt x="58" y="314"/>
                </a:lnTo>
                <a:lnTo>
                  <a:pt x="64" y="314"/>
                </a:lnTo>
                <a:lnTo>
                  <a:pt x="71" y="314"/>
                </a:lnTo>
                <a:lnTo>
                  <a:pt x="75" y="314"/>
                </a:lnTo>
                <a:lnTo>
                  <a:pt x="82" y="308"/>
                </a:lnTo>
                <a:lnTo>
                  <a:pt x="88" y="308"/>
                </a:lnTo>
                <a:lnTo>
                  <a:pt x="94" y="308"/>
                </a:lnTo>
                <a:lnTo>
                  <a:pt x="100" y="308"/>
                </a:lnTo>
                <a:lnTo>
                  <a:pt x="106" y="303"/>
                </a:lnTo>
                <a:lnTo>
                  <a:pt x="111" y="303"/>
                </a:lnTo>
                <a:lnTo>
                  <a:pt x="117" y="303"/>
                </a:lnTo>
                <a:lnTo>
                  <a:pt x="123" y="297"/>
                </a:lnTo>
                <a:lnTo>
                  <a:pt x="129" y="297"/>
                </a:lnTo>
                <a:lnTo>
                  <a:pt x="135" y="297"/>
                </a:lnTo>
                <a:lnTo>
                  <a:pt x="140" y="291"/>
                </a:lnTo>
                <a:lnTo>
                  <a:pt x="146" y="291"/>
                </a:lnTo>
                <a:lnTo>
                  <a:pt x="152" y="291"/>
                </a:lnTo>
                <a:lnTo>
                  <a:pt x="158" y="291"/>
                </a:lnTo>
                <a:lnTo>
                  <a:pt x="164" y="285"/>
                </a:lnTo>
                <a:lnTo>
                  <a:pt x="169" y="285"/>
                </a:lnTo>
                <a:lnTo>
                  <a:pt x="175" y="285"/>
                </a:lnTo>
                <a:lnTo>
                  <a:pt x="181" y="280"/>
                </a:lnTo>
                <a:lnTo>
                  <a:pt x="187" y="280"/>
                </a:lnTo>
                <a:lnTo>
                  <a:pt x="193" y="280"/>
                </a:lnTo>
                <a:lnTo>
                  <a:pt x="198" y="275"/>
                </a:lnTo>
                <a:lnTo>
                  <a:pt x="204" y="275"/>
                </a:lnTo>
                <a:lnTo>
                  <a:pt x="210" y="269"/>
                </a:lnTo>
                <a:lnTo>
                  <a:pt x="216" y="269"/>
                </a:lnTo>
                <a:lnTo>
                  <a:pt x="222" y="269"/>
                </a:lnTo>
                <a:lnTo>
                  <a:pt x="227" y="263"/>
                </a:lnTo>
                <a:lnTo>
                  <a:pt x="233" y="263"/>
                </a:lnTo>
                <a:lnTo>
                  <a:pt x="239" y="257"/>
                </a:lnTo>
                <a:lnTo>
                  <a:pt x="245" y="257"/>
                </a:lnTo>
                <a:lnTo>
                  <a:pt x="251" y="257"/>
                </a:lnTo>
                <a:lnTo>
                  <a:pt x="256" y="253"/>
                </a:lnTo>
                <a:lnTo>
                  <a:pt x="262" y="253"/>
                </a:lnTo>
                <a:lnTo>
                  <a:pt x="268" y="247"/>
                </a:lnTo>
                <a:lnTo>
                  <a:pt x="275" y="247"/>
                </a:lnTo>
                <a:lnTo>
                  <a:pt x="281" y="241"/>
                </a:lnTo>
                <a:lnTo>
                  <a:pt x="285" y="241"/>
                </a:lnTo>
                <a:lnTo>
                  <a:pt x="292" y="235"/>
                </a:lnTo>
                <a:lnTo>
                  <a:pt x="298" y="235"/>
                </a:lnTo>
                <a:lnTo>
                  <a:pt x="304" y="229"/>
                </a:lnTo>
                <a:lnTo>
                  <a:pt x="310" y="229"/>
                </a:lnTo>
                <a:lnTo>
                  <a:pt x="316" y="225"/>
                </a:lnTo>
                <a:lnTo>
                  <a:pt x="321" y="225"/>
                </a:lnTo>
                <a:lnTo>
                  <a:pt x="327" y="219"/>
                </a:lnTo>
                <a:lnTo>
                  <a:pt x="333" y="219"/>
                </a:lnTo>
                <a:lnTo>
                  <a:pt x="339" y="213"/>
                </a:lnTo>
                <a:lnTo>
                  <a:pt x="345" y="207"/>
                </a:lnTo>
                <a:lnTo>
                  <a:pt x="350" y="207"/>
                </a:lnTo>
                <a:lnTo>
                  <a:pt x="356" y="201"/>
                </a:lnTo>
                <a:lnTo>
                  <a:pt x="362" y="201"/>
                </a:lnTo>
                <a:lnTo>
                  <a:pt x="368" y="195"/>
                </a:lnTo>
                <a:lnTo>
                  <a:pt x="374" y="191"/>
                </a:lnTo>
                <a:lnTo>
                  <a:pt x="379" y="191"/>
                </a:lnTo>
                <a:lnTo>
                  <a:pt x="385" y="185"/>
                </a:lnTo>
                <a:lnTo>
                  <a:pt x="391" y="185"/>
                </a:lnTo>
                <a:lnTo>
                  <a:pt x="397" y="179"/>
                </a:lnTo>
                <a:lnTo>
                  <a:pt x="403" y="179"/>
                </a:lnTo>
                <a:lnTo>
                  <a:pt x="408" y="173"/>
                </a:lnTo>
                <a:lnTo>
                  <a:pt x="414" y="168"/>
                </a:lnTo>
                <a:lnTo>
                  <a:pt x="420" y="168"/>
                </a:lnTo>
                <a:lnTo>
                  <a:pt x="426" y="163"/>
                </a:lnTo>
                <a:lnTo>
                  <a:pt x="432" y="157"/>
                </a:lnTo>
                <a:lnTo>
                  <a:pt x="437" y="151"/>
                </a:lnTo>
                <a:lnTo>
                  <a:pt x="443" y="151"/>
                </a:lnTo>
                <a:lnTo>
                  <a:pt x="449" y="145"/>
                </a:lnTo>
                <a:lnTo>
                  <a:pt x="455" y="145"/>
                </a:lnTo>
                <a:lnTo>
                  <a:pt x="461" y="140"/>
                </a:lnTo>
                <a:lnTo>
                  <a:pt x="466" y="140"/>
                </a:lnTo>
                <a:lnTo>
                  <a:pt x="472" y="135"/>
                </a:lnTo>
                <a:lnTo>
                  <a:pt x="478" y="129"/>
                </a:lnTo>
                <a:lnTo>
                  <a:pt x="485" y="123"/>
                </a:lnTo>
                <a:lnTo>
                  <a:pt x="491" y="123"/>
                </a:lnTo>
                <a:lnTo>
                  <a:pt x="495" y="118"/>
                </a:lnTo>
                <a:lnTo>
                  <a:pt x="502" y="112"/>
                </a:lnTo>
                <a:lnTo>
                  <a:pt x="508" y="112"/>
                </a:lnTo>
                <a:lnTo>
                  <a:pt x="514" y="106"/>
                </a:lnTo>
                <a:lnTo>
                  <a:pt x="520" y="106"/>
                </a:lnTo>
                <a:lnTo>
                  <a:pt x="525" y="101"/>
                </a:lnTo>
                <a:lnTo>
                  <a:pt x="531" y="101"/>
                </a:lnTo>
                <a:lnTo>
                  <a:pt x="537" y="96"/>
                </a:lnTo>
                <a:lnTo>
                  <a:pt x="543" y="90"/>
                </a:lnTo>
                <a:lnTo>
                  <a:pt x="549" y="90"/>
                </a:lnTo>
                <a:lnTo>
                  <a:pt x="555" y="84"/>
                </a:lnTo>
                <a:lnTo>
                  <a:pt x="560" y="84"/>
                </a:lnTo>
                <a:lnTo>
                  <a:pt x="566" y="78"/>
                </a:lnTo>
                <a:lnTo>
                  <a:pt x="572" y="73"/>
                </a:lnTo>
                <a:lnTo>
                  <a:pt x="578" y="73"/>
                </a:lnTo>
                <a:lnTo>
                  <a:pt x="584" y="68"/>
                </a:lnTo>
                <a:lnTo>
                  <a:pt x="589" y="68"/>
                </a:lnTo>
                <a:lnTo>
                  <a:pt x="595" y="62"/>
                </a:lnTo>
                <a:lnTo>
                  <a:pt x="601" y="56"/>
                </a:lnTo>
                <a:lnTo>
                  <a:pt x="607" y="56"/>
                </a:lnTo>
                <a:lnTo>
                  <a:pt x="613" y="56"/>
                </a:lnTo>
                <a:lnTo>
                  <a:pt x="618" y="50"/>
                </a:lnTo>
                <a:lnTo>
                  <a:pt x="624" y="50"/>
                </a:lnTo>
                <a:lnTo>
                  <a:pt x="630" y="46"/>
                </a:lnTo>
                <a:lnTo>
                  <a:pt x="636" y="40"/>
                </a:lnTo>
                <a:lnTo>
                  <a:pt x="642" y="40"/>
                </a:lnTo>
                <a:lnTo>
                  <a:pt x="647" y="40"/>
                </a:lnTo>
                <a:lnTo>
                  <a:pt x="653" y="34"/>
                </a:lnTo>
                <a:lnTo>
                  <a:pt x="659" y="34"/>
                </a:lnTo>
                <a:lnTo>
                  <a:pt x="665" y="28"/>
                </a:lnTo>
                <a:lnTo>
                  <a:pt x="671" y="28"/>
                </a:lnTo>
                <a:lnTo>
                  <a:pt x="676" y="22"/>
                </a:lnTo>
                <a:lnTo>
                  <a:pt x="682" y="22"/>
                </a:lnTo>
                <a:lnTo>
                  <a:pt x="688" y="22"/>
                </a:lnTo>
                <a:lnTo>
                  <a:pt x="695" y="18"/>
                </a:lnTo>
                <a:lnTo>
                  <a:pt x="701" y="18"/>
                </a:lnTo>
                <a:lnTo>
                  <a:pt x="706" y="12"/>
                </a:lnTo>
                <a:lnTo>
                  <a:pt x="712" y="12"/>
                </a:lnTo>
                <a:lnTo>
                  <a:pt x="718" y="12"/>
                </a:lnTo>
                <a:lnTo>
                  <a:pt x="724" y="6"/>
                </a:lnTo>
                <a:lnTo>
                  <a:pt x="730" y="6"/>
                </a:lnTo>
                <a:lnTo>
                  <a:pt x="735" y="0"/>
                </a:lnTo>
                <a:lnTo>
                  <a:pt x="741"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100920" y="2254320"/>
            <a:ext cx="620640" cy="185760"/>
          </a:xfrm>
          <a:custGeom>
            <a:avLst/>
            <a:gdLst/>
            <a:ahLst/>
            <a:rect l="l" t="t" r="r" b="b"/>
            <a:pathLst>
              <a:path w="391" h="117">
                <a:moveTo>
                  <a:pt x="0" y="117"/>
                </a:moveTo>
                <a:lnTo>
                  <a:pt x="6" y="117"/>
                </a:lnTo>
                <a:lnTo>
                  <a:pt x="12" y="117"/>
                </a:lnTo>
                <a:lnTo>
                  <a:pt x="18" y="112"/>
                </a:lnTo>
                <a:lnTo>
                  <a:pt x="24" y="112"/>
                </a:lnTo>
                <a:lnTo>
                  <a:pt x="29" y="106"/>
                </a:lnTo>
                <a:lnTo>
                  <a:pt x="35" y="106"/>
                </a:lnTo>
                <a:lnTo>
                  <a:pt x="41" y="106"/>
                </a:lnTo>
                <a:lnTo>
                  <a:pt x="47" y="106"/>
                </a:lnTo>
                <a:lnTo>
                  <a:pt x="53" y="101"/>
                </a:lnTo>
                <a:lnTo>
                  <a:pt x="58" y="101"/>
                </a:lnTo>
                <a:lnTo>
                  <a:pt x="64" y="101"/>
                </a:lnTo>
                <a:lnTo>
                  <a:pt x="70" y="95"/>
                </a:lnTo>
                <a:lnTo>
                  <a:pt x="76" y="95"/>
                </a:lnTo>
                <a:lnTo>
                  <a:pt x="82" y="95"/>
                </a:lnTo>
                <a:lnTo>
                  <a:pt x="87" y="95"/>
                </a:lnTo>
                <a:lnTo>
                  <a:pt x="93" y="89"/>
                </a:lnTo>
                <a:lnTo>
                  <a:pt x="99" y="89"/>
                </a:lnTo>
                <a:lnTo>
                  <a:pt x="105" y="89"/>
                </a:lnTo>
                <a:lnTo>
                  <a:pt x="112" y="89"/>
                </a:lnTo>
                <a:lnTo>
                  <a:pt x="116" y="84"/>
                </a:lnTo>
                <a:lnTo>
                  <a:pt x="122" y="84"/>
                </a:lnTo>
                <a:lnTo>
                  <a:pt x="128" y="84"/>
                </a:lnTo>
                <a:lnTo>
                  <a:pt x="135" y="84"/>
                </a:lnTo>
                <a:lnTo>
                  <a:pt x="141" y="78"/>
                </a:lnTo>
                <a:lnTo>
                  <a:pt x="146" y="78"/>
                </a:lnTo>
                <a:lnTo>
                  <a:pt x="152" y="78"/>
                </a:lnTo>
                <a:lnTo>
                  <a:pt x="158" y="73"/>
                </a:lnTo>
                <a:lnTo>
                  <a:pt x="164" y="73"/>
                </a:lnTo>
                <a:lnTo>
                  <a:pt x="170" y="73"/>
                </a:lnTo>
                <a:lnTo>
                  <a:pt x="175" y="73"/>
                </a:lnTo>
                <a:lnTo>
                  <a:pt x="181" y="73"/>
                </a:lnTo>
                <a:lnTo>
                  <a:pt x="187" y="67"/>
                </a:lnTo>
                <a:lnTo>
                  <a:pt x="193" y="67"/>
                </a:lnTo>
                <a:lnTo>
                  <a:pt x="199" y="67"/>
                </a:lnTo>
                <a:lnTo>
                  <a:pt x="204" y="62"/>
                </a:lnTo>
                <a:lnTo>
                  <a:pt x="210" y="62"/>
                </a:lnTo>
                <a:lnTo>
                  <a:pt x="216" y="62"/>
                </a:lnTo>
                <a:lnTo>
                  <a:pt x="222" y="56"/>
                </a:lnTo>
                <a:lnTo>
                  <a:pt x="228" y="56"/>
                </a:lnTo>
                <a:lnTo>
                  <a:pt x="233" y="56"/>
                </a:lnTo>
                <a:lnTo>
                  <a:pt x="239" y="56"/>
                </a:lnTo>
                <a:lnTo>
                  <a:pt x="245" y="50"/>
                </a:lnTo>
                <a:lnTo>
                  <a:pt x="251" y="50"/>
                </a:lnTo>
                <a:lnTo>
                  <a:pt x="257" y="50"/>
                </a:lnTo>
                <a:lnTo>
                  <a:pt x="263" y="45"/>
                </a:lnTo>
                <a:lnTo>
                  <a:pt x="268" y="45"/>
                </a:lnTo>
                <a:lnTo>
                  <a:pt x="274" y="45"/>
                </a:lnTo>
                <a:lnTo>
                  <a:pt x="280" y="45"/>
                </a:lnTo>
                <a:lnTo>
                  <a:pt x="287" y="40"/>
                </a:lnTo>
                <a:lnTo>
                  <a:pt x="292" y="40"/>
                </a:lnTo>
                <a:lnTo>
                  <a:pt x="297" y="34"/>
                </a:lnTo>
                <a:lnTo>
                  <a:pt x="303" y="34"/>
                </a:lnTo>
                <a:lnTo>
                  <a:pt x="310" y="34"/>
                </a:lnTo>
                <a:lnTo>
                  <a:pt x="316" y="28"/>
                </a:lnTo>
                <a:lnTo>
                  <a:pt x="322" y="28"/>
                </a:lnTo>
                <a:lnTo>
                  <a:pt x="327" y="23"/>
                </a:lnTo>
                <a:lnTo>
                  <a:pt x="333" y="23"/>
                </a:lnTo>
                <a:lnTo>
                  <a:pt x="339" y="23"/>
                </a:lnTo>
                <a:lnTo>
                  <a:pt x="345" y="17"/>
                </a:lnTo>
                <a:lnTo>
                  <a:pt x="351" y="17"/>
                </a:lnTo>
                <a:lnTo>
                  <a:pt x="356" y="12"/>
                </a:lnTo>
                <a:lnTo>
                  <a:pt x="362" y="12"/>
                </a:lnTo>
                <a:lnTo>
                  <a:pt x="368" y="12"/>
                </a:lnTo>
                <a:lnTo>
                  <a:pt x="374" y="6"/>
                </a:lnTo>
                <a:lnTo>
                  <a:pt x="380" y="6"/>
                </a:lnTo>
                <a:lnTo>
                  <a:pt x="385" y="6"/>
                </a:lnTo>
                <a:lnTo>
                  <a:pt x="391"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690640" y="3516480"/>
            <a:ext cx="1071720" cy="1726920"/>
          </a:xfrm>
          <a:custGeom>
            <a:avLst/>
            <a:gdLst/>
            <a:ahLst/>
            <a:rect l="l" t="t" r="r" b="b"/>
            <a:pathLst>
              <a:path w="6781" h="10906">
                <a:moveTo>
                  <a:pt x="127" y="10906"/>
                </a:moveTo>
                <a:lnTo>
                  <a:pt x="66" y="10906"/>
                </a:lnTo>
                <a:cubicBezTo>
                  <a:pt x="0" y="10906"/>
                  <a:pt x="0" y="10806"/>
                  <a:pt x="66" y="10806"/>
                </a:cubicBezTo>
                <a:lnTo>
                  <a:pt x="127" y="10806"/>
                </a:lnTo>
                <a:lnTo>
                  <a:pt x="89" y="10824"/>
                </a:lnTo>
                <a:lnTo>
                  <a:pt x="138" y="10766"/>
                </a:lnTo>
                <a:lnTo>
                  <a:pt x="203" y="10704"/>
                </a:lnTo>
                <a:lnTo>
                  <a:pt x="193" y="10717"/>
                </a:lnTo>
                <a:lnTo>
                  <a:pt x="247" y="10612"/>
                </a:lnTo>
                <a:lnTo>
                  <a:pt x="336" y="10659"/>
                </a:lnTo>
                <a:lnTo>
                  <a:pt x="281" y="10763"/>
                </a:lnTo>
                <a:cubicBezTo>
                  <a:pt x="279" y="10768"/>
                  <a:pt x="276" y="10772"/>
                  <a:pt x="272" y="10776"/>
                </a:cubicBezTo>
                <a:lnTo>
                  <a:pt x="215" y="10830"/>
                </a:lnTo>
                <a:lnTo>
                  <a:pt x="166" y="10889"/>
                </a:lnTo>
                <a:cubicBezTo>
                  <a:pt x="156" y="10900"/>
                  <a:pt x="142" y="10906"/>
                  <a:pt x="127" y="10906"/>
                </a:cubicBezTo>
                <a:lnTo>
                  <a:pt x="66" y="10906"/>
                </a:lnTo>
                <a:lnTo>
                  <a:pt x="66" y="10806"/>
                </a:lnTo>
                <a:lnTo>
                  <a:pt x="127" y="10806"/>
                </a:lnTo>
                <a:lnTo>
                  <a:pt x="127" y="10906"/>
                </a:lnTo>
                <a:close/>
                <a:moveTo>
                  <a:pt x="329" y="10339"/>
                </a:moveTo>
                <a:lnTo>
                  <a:pt x="373" y="10222"/>
                </a:lnTo>
                <a:lnTo>
                  <a:pt x="421" y="10051"/>
                </a:lnTo>
                <a:lnTo>
                  <a:pt x="445" y="9961"/>
                </a:lnTo>
                <a:lnTo>
                  <a:pt x="542" y="9988"/>
                </a:lnTo>
                <a:lnTo>
                  <a:pt x="517" y="10078"/>
                </a:lnTo>
                <a:lnTo>
                  <a:pt x="467" y="10257"/>
                </a:lnTo>
                <a:lnTo>
                  <a:pt x="423" y="10374"/>
                </a:lnTo>
                <a:lnTo>
                  <a:pt x="329" y="10339"/>
                </a:lnTo>
                <a:close/>
                <a:moveTo>
                  <a:pt x="525" y="9672"/>
                </a:moveTo>
                <a:lnTo>
                  <a:pt x="542" y="9609"/>
                </a:lnTo>
                <a:lnTo>
                  <a:pt x="603" y="9387"/>
                </a:lnTo>
                <a:lnTo>
                  <a:pt x="625" y="9288"/>
                </a:lnTo>
                <a:lnTo>
                  <a:pt x="723" y="9309"/>
                </a:lnTo>
                <a:lnTo>
                  <a:pt x="700" y="9414"/>
                </a:lnTo>
                <a:lnTo>
                  <a:pt x="639" y="9635"/>
                </a:lnTo>
                <a:lnTo>
                  <a:pt x="621" y="9699"/>
                </a:lnTo>
                <a:lnTo>
                  <a:pt x="525" y="9672"/>
                </a:lnTo>
                <a:close/>
                <a:moveTo>
                  <a:pt x="663" y="9003"/>
                </a:moveTo>
                <a:lnTo>
                  <a:pt x="663" y="8888"/>
                </a:lnTo>
                <a:cubicBezTo>
                  <a:pt x="663" y="8885"/>
                  <a:pt x="663" y="8882"/>
                  <a:pt x="663" y="8880"/>
                </a:cubicBezTo>
                <a:lnTo>
                  <a:pt x="712" y="8600"/>
                </a:lnTo>
                <a:lnTo>
                  <a:pt x="712" y="8598"/>
                </a:lnTo>
                <a:lnTo>
                  <a:pt x="811" y="8616"/>
                </a:lnTo>
                <a:lnTo>
                  <a:pt x="811" y="8617"/>
                </a:lnTo>
                <a:lnTo>
                  <a:pt x="762" y="8897"/>
                </a:lnTo>
                <a:lnTo>
                  <a:pt x="763" y="8888"/>
                </a:lnTo>
                <a:lnTo>
                  <a:pt x="763" y="9003"/>
                </a:lnTo>
                <a:lnTo>
                  <a:pt x="663" y="9003"/>
                </a:lnTo>
                <a:close/>
                <a:moveTo>
                  <a:pt x="766" y="8303"/>
                </a:moveTo>
                <a:lnTo>
                  <a:pt x="773" y="8262"/>
                </a:lnTo>
                <a:lnTo>
                  <a:pt x="834" y="7981"/>
                </a:lnTo>
                <a:lnTo>
                  <a:pt x="850" y="7910"/>
                </a:lnTo>
                <a:lnTo>
                  <a:pt x="947" y="7931"/>
                </a:lnTo>
                <a:lnTo>
                  <a:pt x="932" y="8002"/>
                </a:lnTo>
                <a:lnTo>
                  <a:pt x="871" y="8280"/>
                </a:lnTo>
                <a:lnTo>
                  <a:pt x="864" y="8320"/>
                </a:lnTo>
                <a:lnTo>
                  <a:pt x="766" y="8303"/>
                </a:lnTo>
                <a:close/>
                <a:moveTo>
                  <a:pt x="914" y="7617"/>
                </a:moveTo>
                <a:lnTo>
                  <a:pt x="956" y="7422"/>
                </a:lnTo>
                <a:lnTo>
                  <a:pt x="955" y="7432"/>
                </a:lnTo>
                <a:lnTo>
                  <a:pt x="955" y="7232"/>
                </a:lnTo>
                <a:lnTo>
                  <a:pt x="1055" y="7232"/>
                </a:lnTo>
                <a:lnTo>
                  <a:pt x="1055" y="7432"/>
                </a:lnTo>
                <a:cubicBezTo>
                  <a:pt x="1055" y="7436"/>
                  <a:pt x="1055" y="7439"/>
                  <a:pt x="1054" y="7443"/>
                </a:cubicBezTo>
                <a:lnTo>
                  <a:pt x="1011" y="7638"/>
                </a:lnTo>
                <a:lnTo>
                  <a:pt x="914" y="7617"/>
                </a:lnTo>
                <a:close/>
                <a:moveTo>
                  <a:pt x="984" y="6926"/>
                </a:moveTo>
                <a:lnTo>
                  <a:pt x="1005" y="6806"/>
                </a:lnTo>
                <a:lnTo>
                  <a:pt x="1067" y="6580"/>
                </a:lnTo>
                <a:lnTo>
                  <a:pt x="1076" y="6535"/>
                </a:lnTo>
                <a:lnTo>
                  <a:pt x="1174" y="6556"/>
                </a:lnTo>
                <a:lnTo>
                  <a:pt x="1163" y="6607"/>
                </a:lnTo>
                <a:lnTo>
                  <a:pt x="1103" y="6824"/>
                </a:lnTo>
                <a:lnTo>
                  <a:pt x="1082" y="6943"/>
                </a:lnTo>
                <a:lnTo>
                  <a:pt x="984" y="6926"/>
                </a:lnTo>
                <a:close/>
                <a:moveTo>
                  <a:pt x="1144" y="6240"/>
                </a:moveTo>
                <a:lnTo>
                  <a:pt x="1188" y="6080"/>
                </a:lnTo>
                <a:lnTo>
                  <a:pt x="1247" y="5854"/>
                </a:lnTo>
                <a:lnTo>
                  <a:pt x="1344" y="5879"/>
                </a:lnTo>
                <a:lnTo>
                  <a:pt x="1285" y="6106"/>
                </a:lnTo>
                <a:lnTo>
                  <a:pt x="1241" y="6266"/>
                </a:lnTo>
                <a:lnTo>
                  <a:pt x="1144" y="6240"/>
                </a:lnTo>
                <a:close/>
                <a:moveTo>
                  <a:pt x="1296" y="5574"/>
                </a:moveTo>
                <a:lnTo>
                  <a:pt x="1296" y="5534"/>
                </a:lnTo>
                <a:cubicBezTo>
                  <a:pt x="1296" y="5528"/>
                  <a:pt x="1297" y="5523"/>
                  <a:pt x="1299" y="5517"/>
                </a:cubicBezTo>
                <a:lnTo>
                  <a:pt x="1360" y="5343"/>
                </a:lnTo>
                <a:cubicBezTo>
                  <a:pt x="1361" y="5340"/>
                  <a:pt x="1363" y="5337"/>
                  <a:pt x="1364" y="5334"/>
                </a:cubicBezTo>
                <a:lnTo>
                  <a:pt x="1425" y="5229"/>
                </a:lnTo>
                <a:lnTo>
                  <a:pt x="1449" y="5184"/>
                </a:lnTo>
                <a:lnTo>
                  <a:pt x="1537" y="5230"/>
                </a:lnTo>
                <a:lnTo>
                  <a:pt x="1512" y="5279"/>
                </a:lnTo>
                <a:lnTo>
                  <a:pt x="1451" y="5384"/>
                </a:lnTo>
                <a:lnTo>
                  <a:pt x="1455" y="5376"/>
                </a:lnTo>
                <a:lnTo>
                  <a:pt x="1394" y="5550"/>
                </a:lnTo>
                <a:lnTo>
                  <a:pt x="1396" y="5534"/>
                </a:lnTo>
                <a:lnTo>
                  <a:pt x="1396" y="5574"/>
                </a:lnTo>
                <a:lnTo>
                  <a:pt x="1296" y="5574"/>
                </a:lnTo>
                <a:close/>
                <a:moveTo>
                  <a:pt x="1655" y="4948"/>
                </a:moveTo>
                <a:lnTo>
                  <a:pt x="1726" y="4880"/>
                </a:lnTo>
                <a:lnTo>
                  <a:pt x="1761" y="4967"/>
                </a:lnTo>
                <a:lnTo>
                  <a:pt x="1700" y="4967"/>
                </a:lnTo>
                <a:cubicBezTo>
                  <a:pt x="1633" y="4967"/>
                  <a:pt x="1633" y="4867"/>
                  <a:pt x="1700" y="4867"/>
                </a:cubicBezTo>
                <a:lnTo>
                  <a:pt x="1761" y="4867"/>
                </a:lnTo>
                <a:lnTo>
                  <a:pt x="1822" y="4867"/>
                </a:lnTo>
                <a:lnTo>
                  <a:pt x="1883" y="4867"/>
                </a:lnTo>
                <a:lnTo>
                  <a:pt x="1941" y="4867"/>
                </a:lnTo>
                <a:lnTo>
                  <a:pt x="1941" y="4967"/>
                </a:lnTo>
                <a:lnTo>
                  <a:pt x="1883" y="4967"/>
                </a:lnTo>
                <a:lnTo>
                  <a:pt x="1822" y="4967"/>
                </a:lnTo>
                <a:lnTo>
                  <a:pt x="1761" y="4967"/>
                </a:lnTo>
                <a:lnTo>
                  <a:pt x="1700" y="4967"/>
                </a:lnTo>
                <a:lnTo>
                  <a:pt x="1700" y="4867"/>
                </a:lnTo>
                <a:lnTo>
                  <a:pt x="1761" y="4867"/>
                </a:lnTo>
                <a:cubicBezTo>
                  <a:pt x="1781" y="4867"/>
                  <a:pt x="1800" y="4879"/>
                  <a:pt x="1807" y="4898"/>
                </a:cubicBezTo>
                <a:cubicBezTo>
                  <a:pt x="1815" y="4917"/>
                  <a:pt x="1810" y="4939"/>
                  <a:pt x="1795" y="4953"/>
                </a:cubicBezTo>
                <a:lnTo>
                  <a:pt x="1724" y="5021"/>
                </a:lnTo>
                <a:lnTo>
                  <a:pt x="1655" y="4948"/>
                </a:lnTo>
                <a:close/>
                <a:moveTo>
                  <a:pt x="2199" y="4971"/>
                </a:moveTo>
                <a:lnTo>
                  <a:pt x="2236" y="4971"/>
                </a:lnTo>
                <a:lnTo>
                  <a:pt x="2285" y="4971"/>
                </a:lnTo>
                <a:cubicBezTo>
                  <a:pt x="2298" y="4971"/>
                  <a:pt x="2310" y="4976"/>
                  <a:pt x="2320" y="4985"/>
                </a:cubicBezTo>
                <a:lnTo>
                  <a:pt x="2380" y="5043"/>
                </a:lnTo>
                <a:lnTo>
                  <a:pt x="2346" y="5030"/>
                </a:lnTo>
                <a:lnTo>
                  <a:pt x="2407" y="5030"/>
                </a:lnTo>
                <a:lnTo>
                  <a:pt x="2372" y="5043"/>
                </a:lnTo>
                <a:lnTo>
                  <a:pt x="2433" y="4985"/>
                </a:lnTo>
                <a:cubicBezTo>
                  <a:pt x="2443" y="4976"/>
                  <a:pt x="2455" y="4971"/>
                  <a:pt x="2468" y="4971"/>
                </a:cubicBezTo>
                <a:lnTo>
                  <a:pt x="2529" y="4971"/>
                </a:lnTo>
                <a:lnTo>
                  <a:pt x="2490" y="4989"/>
                </a:lnTo>
                <a:lnTo>
                  <a:pt x="2505" y="4972"/>
                </a:lnTo>
                <a:lnTo>
                  <a:pt x="2582" y="5036"/>
                </a:lnTo>
                <a:lnTo>
                  <a:pt x="2567" y="5053"/>
                </a:lnTo>
                <a:cubicBezTo>
                  <a:pt x="2558" y="5065"/>
                  <a:pt x="2544" y="5071"/>
                  <a:pt x="2529" y="5071"/>
                </a:cubicBezTo>
                <a:lnTo>
                  <a:pt x="2468" y="5071"/>
                </a:lnTo>
                <a:lnTo>
                  <a:pt x="2502" y="5058"/>
                </a:lnTo>
                <a:lnTo>
                  <a:pt x="2441" y="5116"/>
                </a:lnTo>
                <a:cubicBezTo>
                  <a:pt x="2432" y="5125"/>
                  <a:pt x="2420" y="5130"/>
                  <a:pt x="2407" y="5130"/>
                </a:cubicBezTo>
                <a:lnTo>
                  <a:pt x="2346" y="5130"/>
                </a:lnTo>
                <a:cubicBezTo>
                  <a:pt x="2333" y="5130"/>
                  <a:pt x="2321" y="5125"/>
                  <a:pt x="2311" y="5116"/>
                </a:cubicBezTo>
                <a:lnTo>
                  <a:pt x="2250" y="5058"/>
                </a:lnTo>
                <a:lnTo>
                  <a:pt x="2285" y="5071"/>
                </a:lnTo>
                <a:lnTo>
                  <a:pt x="2236" y="5071"/>
                </a:lnTo>
                <a:lnTo>
                  <a:pt x="2199" y="5071"/>
                </a:lnTo>
                <a:lnTo>
                  <a:pt x="2199" y="4971"/>
                </a:lnTo>
                <a:close/>
                <a:moveTo>
                  <a:pt x="2673" y="4742"/>
                </a:moveTo>
                <a:lnTo>
                  <a:pt x="2716" y="4660"/>
                </a:lnTo>
                <a:cubicBezTo>
                  <a:pt x="2719" y="4654"/>
                  <a:pt x="2724" y="4648"/>
                  <a:pt x="2730" y="4644"/>
                </a:cubicBezTo>
                <a:lnTo>
                  <a:pt x="2791" y="4597"/>
                </a:lnTo>
                <a:lnTo>
                  <a:pt x="2775" y="4618"/>
                </a:lnTo>
                <a:lnTo>
                  <a:pt x="2824" y="4501"/>
                </a:lnTo>
                <a:lnTo>
                  <a:pt x="2874" y="4405"/>
                </a:lnTo>
                <a:lnTo>
                  <a:pt x="2963" y="4451"/>
                </a:lnTo>
                <a:lnTo>
                  <a:pt x="2916" y="4540"/>
                </a:lnTo>
                <a:lnTo>
                  <a:pt x="2867" y="4656"/>
                </a:lnTo>
                <a:cubicBezTo>
                  <a:pt x="2864" y="4664"/>
                  <a:pt x="2859" y="4671"/>
                  <a:pt x="2852" y="4677"/>
                </a:cubicBezTo>
                <a:lnTo>
                  <a:pt x="2791" y="4723"/>
                </a:lnTo>
                <a:lnTo>
                  <a:pt x="2805" y="4707"/>
                </a:lnTo>
                <a:lnTo>
                  <a:pt x="2762" y="4789"/>
                </a:lnTo>
                <a:lnTo>
                  <a:pt x="2673" y="4742"/>
                </a:lnTo>
                <a:close/>
                <a:moveTo>
                  <a:pt x="2942" y="4147"/>
                </a:moveTo>
                <a:lnTo>
                  <a:pt x="2942" y="4125"/>
                </a:lnTo>
                <a:cubicBezTo>
                  <a:pt x="2942" y="4116"/>
                  <a:pt x="2944" y="4107"/>
                  <a:pt x="2949" y="4099"/>
                </a:cubicBezTo>
                <a:lnTo>
                  <a:pt x="3010" y="3995"/>
                </a:lnTo>
                <a:lnTo>
                  <a:pt x="3070" y="3880"/>
                </a:lnTo>
                <a:lnTo>
                  <a:pt x="3066" y="3889"/>
                </a:lnTo>
                <a:lnTo>
                  <a:pt x="3102" y="3770"/>
                </a:lnTo>
                <a:lnTo>
                  <a:pt x="3197" y="3798"/>
                </a:lnTo>
                <a:lnTo>
                  <a:pt x="3162" y="3918"/>
                </a:lnTo>
                <a:cubicBezTo>
                  <a:pt x="3161" y="3921"/>
                  <a:pt x="3160" y="3924"/>
                  <a:pt x="3158" y="3926"/>
                </a:cubicBezTo>
                <a:lnTo>
                  <a:pt x="3096" y="4045"/>
                </a:lnTo>
                <a:lnTo>
                  <a:pt x="3035" y="4150"/>
                </a:lnTo>
                <a:lnTo>
                  <a:pt x="3042" y="4125"/>
                </a:lnTo>
                <a:lnTo>
                  <a:pt x="3042" y="4147"/>
                </a:lnTo>
                <a:lnTo>
                  <a:pt x="2942" y="4147"/>
                </a:lnTo>
                <a:close/>
                <a:moveTo>
                  <a:pt x="3220" y="3491"/>
                </a:moveTo>
                <a:lnTo>
                  <a:pt x="3238" y="3443"/>
                </a:lnTo>
                <a:lnTo>
                  <a:pt x="3301" y="3321"/>
                </a:lnTo>
                <a:lnTo>
                  <a:pt x="3296" y="3344"/>
                </a:lnTo>
                <a:lnTo>
                  <a:pt x="3296" y="3181"/>
                </a:lnTo>
                <a:cubicBezTo>
                  <a:pt x="3296" y="3173"/>
                  <a:pt x="3297" y="3165"/>
                  <a:pt x="3301" y="3158"/>
                </a:cubicBezTo>
                <a:lnTo>
                  <a:pt x="3326" y="3110"/>
                </a:lnTo>
                <a:lnTo>
                  <a:pt x="3415" y="3156"/>
                </a:lnTo>
                <a:lnTo>
                  <a:pt x="3390" y="3204"/>
                </a:lnTo>
                <a:lnTo>
                  <a:pt x="3396" y="3181"/>
                </a:lnTo>
                <a:lnTo>
                  <a:pt x="3396" y="3344"/>
                </a:lnTo>
                <a:cubicBezTo>
                  <a:pt x="3396" y="3352"/>
                  <a:pt x="3394" y="3360"/>
                  <a:pt x="3390" y="3367"/>
                </a:cubicBezTo>
                <a:lnTo>
                  <a:pt x="3331" y="3478"/>
                </a:lnTo>
                <a:lnTo>
                  <a:pt x="3313" y="3526"/>
                </a:lnTo>
                <a:lnTo>
                  <a:pt x="3220" y="3491"/>
                </a:lnTo>
                <a:close/>
                <a:moveTo>
                  <a:pt x="3460" y="2840"/>
                </a:moveTo>
                <a:lnTo>
                  <a:pt x="3473" y="2818"/>
                </a:lnTo>
                <a:lnTo>
                  <a:pt x="3469" y="2827"/>
                </a:lnTo>
                <a:lnTo>
                  <a:pt x="3530" y="2652"/>
                </a:lnTo>
                <a:cubicBezTo>
                  <a:pt x="3531" y="2649"/>
                  <a:pt x="3532" y="2646"/>
                  <a:pt x="3534" y="2644"/>
                </a:cubicBezTo>
                <a:lnTo>
                  <a:pt x="3595" y="2539"/>
                </a:lnTo>
                <a:cubicBezTo>
                  <a:pt x="3597" y="2535"/>
                  <a:pt x="3600" y="2531"/>
                  <a:pt x="3604" y="2528"/>
                </a:cubicBezTo>
                <a:lnTo>
                  <a:pt x="3653" y="2480"/>
                </a:lnTo>
                <a:lnTo>
                  <a:pt x="3722" y="2552"/>
                </a:lnTo>
                <a:lnTo>
                  <a:pt x="3673" y="2600"/>
                </a:lnTo>
                <a:lnTo>
                  <a:pt x="3681" y="2589"/>
                </a:lnTo>
                <a:lnTo>
                  <a:pt x="3620" y="2694"/>
                </a:lnTo>
                <a:lnTo>
                  <a:pt x="3624" y="2685"/>
                </a:lnTo>
                <a:lnTo>
                  <a:pt x="3563" y="2860"/>
                </a:lnTo>
                <a:cubicBezTo>
                  <a:pt x="3562" y="2863"/>
                  <a:pt x="3561" y="2866"/>
                  <a:pt x="3559" y="2869"/>
                </a:cubicBezTo>
                <a:lnTo>
                  <a:pt x="3547" y="2890"/>
                </a:lnTo>
                <a:lnTo>
                  <a:pt x="3460" y="2840"/>
                </a:lnTo>
                <a:close/>
                <a:moveTo>
                  <a:pt x="3752" y="2216"/>
                </a:moveTo>
                <a:lnTo>
                  <a:pt x="3770" y="2194"/>
                </a:lnTo>
                <a:lnTo>
                  <a:pt x="3764" y="2203"/>
                </a:lnTo>
                <a:lnTo>
                  <a:pt x="3825" y="2086"/>
                </a:lnTo>
                <a:cubicBezTo>
                  <a:pt x="3828" y="2082"/>
                  <a:pt x="3831" y="2077"/>
                  <a:pt x="3835" y="2073"/>
                </a:cubicBezTo>
                <a:lnTo>
                  <a:pt x="3896" y="2015"/>
                </a:lnTo>
                <a:lnTo>
                  <a:pt x="4016" y="1912"/>
                </a:lnTo>
                <a:lnTo>
                  <a:pt x="4081" y="1988"/>
                </a:lnTo>
                <a:lnTo>
                  <a:pt x="3965" y="2088"/>
                </a:lnTo>
                <a:lnTo>
                  <a:pt x="3904" y="2146"/>
                </a:lnTo>
                <a:lnTo>
                  <a:pt x="3914" y="2133"/>
                </a:lnTo>
                <a:lnTo>
                  <a:pt x="3853" y="2249"/>
                </a:lnTo>
                <a:cubicBezTo>
                  <a:pt x="3851" y="2252"/>
                  <a:pt x="3849" y="2255"/>
                  <a:pt x="3847" y="2258"/>
                </a:cubicBezTo>
                <a:lnTo>
                  <a:pt x="3828" y="2281"/>
                </a:lnTo>
                <a:lnTo>
                  <a:pt x="3752" y="2216"/>
                </a:lnTo>
                <a:close/>
                <a:moveTo>
                  <a:pt x="4198" y="1838"/>
                </a:moveTo>
                <a:lnTo>
                  <a:pt x="4223" y="1838"/>
                </a:lnTo>
                <a:lnTo>
                  <a:pt x="4284" y="1838"/>
                </a:lnTo>
                <a:lnTo>
                  <a:pt x="4345" y="1838"/>
                </a:lnTo>
                <a:cubicBezTo>
                  <a:pt x="4360" y="1838"/>
                  <a:pt x="4374" y="1845"/>
                  <a:pt x="4383" y="1856"/>
                </a:cubicBezTo>
                <a:lnTo>
                  <a:pt x="4432" y="1914"/>
                </a:lnTo>
                <a:lnTo>
                  <a:pt x="4394" y="1897"/>
                </a:lnTo>
                <a:lnTo>
                  <a:pt x="4455" y="1897"/>
                </a:lnTo>
                <a:cubicBezTo>
                  <a:pt x="4466" y="1897"/>
                  <a:pt x="4476" y="1900"/>
                  <a:pt x="4485" y="1907"/>
                </a:cubicBezTo>
                <a:lnTo>
                  <a:pt x="4546" y="1953"/>
                </a:lnTo>
                <a:lnTo>
                  <a:pt x="4579" y="1984"/>
                </a:lnTo>
                <a:lnTo>
                  <a:pt x="4509" y="2056"/>
                </a:lnTo>
                <a:lnTo>
                  <a:pt x="4485" y="2033"/>
                </a:lnTo>
                <a:lnTo>
                  <a:pt x="4424" y="1986"/>
                </a:lnTo>
                <a:lnTo>
                  <a:pt x="4455" y="1997"/>
                </a:lnTo>
                <a:lnTo>
                  <a:pt x="4394" y="1997"/>
                </a:lnTo>
                <a:cubicBezTo>
                  <a:pt x="4379" y="1997"/>
                  <a:pt x="4365" y="1990"/>
                  <a:pt x="4356" y="1979"/>
                </a:cubicBezTo>
                <a:lnTo>
                  <a:pt x="4307" y="1920"/>
                </a:lnTo>
                <a:lnTo>
                  <a:pt x="4345" y="1938"/>
                </a:lnTo>
                <a:lnTo>
                  <a:pt x="4284" y="1938"/>
                </a:lnTo>
                <a:lnTo>
                  <a:pt x="4223" y="1938"/>
                </a:lnTo>
                <a:lnTo>
                  <a:pt x="4198" y="1938"/>
                </a:lnTo>
                <a:lnTo>
                  <a:pt x="4198" y="1838"/>
                </a:lnTo>
                <a:close/>
                <a:moveTo>
                  <a:pt x="4789" y="2197"/>
                </a:moveTo>
                <a:lnTo>
                  <a:pt x="4843" y="2248"/>
                </a:lnTo>
                <a:lnTo>
                  <a:pt x="4900" y="2291"/>
                </a:lnTo>
                <a:lnTo>
                  <a:pt x="4965" y="2353"/>
                </a:lnTo>
                <a:lnTo>
                  <a:pt x="5017" y="2415"/>
                </a:lnTo>
                <a:lnTo>
                  <a:pt x="5074" y="2469"/>
                </a:lnTo>
                <a:lnTo>
                  <a:pt x="5078" y="2473"/>
                </a:lnTo>
                <a:lnTo>
                  <a:pt x="5009" y="2545"/>
                </a:lnTo>
                <a:lnTo>
                  <a:pt x="5005" y="2542"/>
                </a:lnTo>
                <a:lnTo>
                  <a:pt x="4941" y="2479"/>
                </a:lnTo>
                <a:lnTo>
                  <a:pt x="4896" y="2425"/>
                </a:lnTo>
                <a:lnTo>
                  <a:pt x="4839" y="2371"/>
                </a:lnTo>
                <a:lnTo>
                  <a:pt x="4774" y="2320"/>
                </a:lnTo>
                <a:lnTo>
                  <a:pt x="4720" y="2269"/>
                </a:lnTo>
                <a:lnTo>
                  <a:pt x="4789" y="2197"/>
                </a:lnTo>
                <a:close/>
                <a:moveTo>
                  <a:pt x="5273" y="2493"/>
                </a:moveTo>
                <a:lnTo>
                  <a:pt x="5298" y="2469"/>
                </a:lnTo>
                <a:cubicBezTo>
                  <a:pt x="5307" y="2461"/>
                  <a:pt x="5320" y="2456"/>
                  <a:pt x="5332" y="2456"/>
                </a:cubicBezTo>
                <a:lnTo>
                  <a:pt x="5393" y="2456"/>
                </a:lnTo>
                <a:lnTo>
                  <a:pt x="5359" y="2469"/>
                </a:lnTo>
                <a:lnTo>
                  <a:pt x="5420" y="2411"/>
                </a:lnTo>
                <a:lnTo>
                  <a:pt x="5481" y="2353"/>
                </a:lnTo>
                <a:lnTo>
                  <a:pt x="5526" y="2299"/>
                </a:lnTo>
                <a:cubicBezTo>
                  <a:pt x="5528" y="2296"/>
                  <a:pt x="5531" y="2293"/>
                  <a:pt x="5534" y="2291"/>
                </a:cubicBezTo>
                <a:lnTo>
                  <a:pt x="5581" y="2255"/>
                </a:lnTo>
                <a:lnTo>
                  <a:pt x="5642" y="2334"/>
                </a:lnTo>
                <a:lnTo>
                  <a:pt x="5594" y="2371"/>
                </a:lnTo>
                <a:lnTo>
                  <a:pt x="5602" y="2363"/>
                </a:lnTo>
                <a:lnTo>
                  <a:pt x="5550" y="2425"/>
                </a:lnTo>
                <a:lnTo>
                  <a:pt x="5489" y="2484"/>
                </a:lnTo>
                <a:lnTo>
                  <a:pt x="5428" y="2542"/>
                </a:lnTo>
                <a:cubicBezTo>
                  <a:pt x="5419" y="2551"/>
                  <a:pt x="5406" y="2556"/>
                  <a:pt x="5393" y="2556"/>
                </a:cubicBezTo>
                <a:lnTo>
                  <a:pt x="5332" y="2556"/>
                </a:lnTo>
                <a:lnTo>
                  <a:pt x="5367" y="2542"/>
                </a:lnTo>
                <a:lnTo>
                  <a:pt x="5342" y="2566"/>
                </a:lnTo>
                <a:lnTo>
                  <a:pt x="5273" y="2493"/>
                </a:lnTo>
                <a:close/>
                <a:moveTo>
                  <a:pt x="5677" y="1991"/>
                </a:moveTo>
                <a:lnTo>
                  <a:pt x="5712" y="1957"/>
                </a:lnTo>
                <a:lnTo>
                  <a:pt x="5704" y="1968"/>
                </a:lnTo>
                <a:lnTo>
                  <a:pt x="5765" y="1863"/>
                </a:lnTo>
                <a:lnTo>
                  <a:pt x="5810" y="1753"/>
                </a:lnTo>
                <a:lnTo>
                  <a:pt x="5865" y="1657"/>
                </a:lnTo>
                <a:lnTo>
                  <a:pt x="5952" y="1708"/>
                </a:lnTo>
                <a:lnTo>
                  <a:pt x="5903" y="1791"/>
                </a:lnTo>
                <a:lnTo>
                  <a:pt x="5851" y="1913"/>
                </a:lnTo>
                <a:lnTo>
                  <a:pt x="5790" y="2018"/>
                </a:lnTo>
                <a:cubicBezTo>
                  <a:pt x="5788" y="2022"/>
                  <a:pt x="5785" y="2026"/>
                  <a:pt x="5781" y="2029"/>
                </a:cubicBezTo>
                <a:lnTo>
                  <a:pt x="5746" y="2063"/>
                </a:lnTo>
                <a:lnTo>
                  <a:pt x="5677" y="1991"/>
                </a:lnTo>
                <a:close/>
                <a:moveTo>
                  <a:pt x="5944" y="1384"/>
                </a:moveTo>
                <a:lnTo>
                  <a:pt x="5993" y="1254"/>
                </a:lnTo>
                <a:lnTo>
                  <a:pt x="6056" y="1131"/>
                </a:lnTo>
                <a:lnTo>
                  <a:pt x="6118" y="1025"/>
                </a:lnTo>
                <a:lnTo>
                  <a:pt x="6118" y="1023"/>
                </a:lnTo>
                <a:lnTo>
                  <a:pt x="6210" y="1062"/>
                </a:lnTo>
                <a:lnTo>
                  <a:pt x="6205" y="1075"/>
                </a:lnTo>
                <a:lnTo>
                  <a:pt x="6145" y="1178"/>
                </a:lnTo>
                <a:lnTo>
                  <a:pt x="6086" y="1289"/>
                </a:lnTo>
                <a:lnTo>
                  <a:pt x="6037" y="1419"/>
                </a:lnTo>
                <a:lnTo>
                  <a:pt x="5944" y="1384"/>
                </a:lnTo>
                <a:close/>
                <a:moveTo>
                  <a:pt x="6253" y="749"/>
                </a:moveTo>
                <a:lnTo>
                  <a:pt x="6289" y="687"/>
                </a:lnTo>
                <a:lnTo>
                  <a:pt x="6282" y="712"/>
                </a:lnTo>
                <a:lnTo>
                  <a:pt x="6282" y="596"/>
                </a:lnTo>
                <a:cubicBezTo>
                  <a:pt x="6282" y="582"/>
                  <a:pt x="6288" y="569"/>
                  <a:pt x="6297" y="559"/>
                </a:cubicBezTo>
                <a:lnTo>
                  <a:pt x="6358" y="501"/>
                </a:lnTo>
                <a:lnTo>
                  <a:pt x="6350" y="512"/>
                </a:lnTo>
                <a:lnTo>
                  <a:pt x="6411" y="407"/>
                </a:lnTo>
                <a:lnTo>
                  <a:pt x="6410" y="407"/>
                </a:lnTo>
                <a:lnTo>
                  <a:pt x="6503" y="446"/>
                </a:lnTo>
                <a:lnTo>
                  <a:pt x="6497" y="458"/>
                </a:lnTo>
                <a:lnTo>
                  <a:pt x="6436" y="562"/>
                </a:lnTo>
                <a:cubicBezTo>
                  <a:pt x="6434" y="566"/>
                  <a:pt x="6431" y="570"/>
                  <a:pt x="6428" y="573"/>
                </a:cubicBezTo>
                <a:lnTo>
                  <a:pt x="6367" y="632"/>
                </a:lnTo>
                <a:lnTo>
                  <a:pt x="6382" y="596"/>
                </a:lnTo>
                <a:lnTo>
                  <a:pt x="6382" y="712"/>
                </a:lnTo>
                <a:cubicBezTo>
                  <a:pt x="6382" y="721"/>
                  <a:pt x="6380" y="729"/>
                  <a:pt x="6375" y="737"/>
                </a:cubicBezTo>
                <a:lnTo>
                  <a:pt x="6339" y="799"/>
                </a:lnTo>
                <a:lnTo>
                  <a:pt x="6253" y="749"/>
                </a:lnTo>
                <a:close/>
                <a:moveTo>
                  <a:pt x="6569" y="150"/>
                </a:moveTo>
                <a:lnTo>
                  <a:pt x="6581" y="128"/>
                </a:lnTo>
                <a:cubicBezTo>
                  <a:pt x="6584" y="124"/>
                  <a:pt x="6587" y="120"/>
                  <a:pt x="6590" y="117"/>
                </a:cubicBezTo>
                <a:lnTo>
                  <a:pt x="6651" y="59"/>
                </a:lnTo>
                <a:lnTo>
                  <a:pt x="6712" y="0"/>
                </a:lnTo>
                <a:lnTo>
                  <a:pt x="6781" y="73"/>
                </a:lnTo>
                <a:lnTo>
                  <a:pt x="6720" y="131"/>
                </a:lnTo>
                <a:lnTo>
                  <a:pt x="6659" y="189"/>
                </a:lnTo>
                <a:lnTo>
                  <a:pt x="6668" y="178"/>
                </a:lnTo>
                <a:lnTo>
                  <a:pt x="6655" y="200"/>
                </a:lnTo>
                <a:lnTo>
                  <a:pt x="6569" y="150"/>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751200" y="3017880"/>
            <a:ext cx="1122480" cy="601560"/>
          </a:xfrm>
          <a:custGeom>
            <a:avLst/>
            <a:gdLst/>
            <a:ahLst/>
            <a:rect l="l" t="t" r="r" b="b"/>
            <a:pathLst>
              <a:path w="7107" h="3790">
                <a:moveTo>
                  <a:pt x="0" y="3150"/>
                </a:moveTo>
                <a:lnTo>
                  <a:pt x="49" y="3091"/>
                </a:lnTo>
                <a:cubicBezTo>
                  <a:pt x="58" y="3080"/>
                  <a:pt x="72" y="3074"/>
                  <a:pt x="87" y="3074"/>
                </a:cubicBezTo>
                <a:lnTo>
                  <a:pt x="148" y="3074"/>
                </a:lnTo>
                <a:lnTo>
                  <a:pt x="209" y="3074"/>
                </a:lnTo>
                <a:lnTo>
                  <a:pt x="175" y="3087"/>
                </a:lnTo>
                <a:lnTo>
                  <a:pt x="236" y="3029"/>
                </a:lnTo>
                <a:cubicBezTo>
                  <a:pt x="245" y="3020"/>
                  <a:pt x="257" y="3015"/>
                  <a:pt x="270" y="3015"/>
                </a:cubicBezTo>
                <a:lnTo>
                  <a:pt x="331" y="3015"/>
                </a:lnTo>
                <a:cubicBezTo>
                  <a:pt x="346" y="3015"/>
                  <a:pt x="360" y="3022"/>
                  <a:pt x="370" y="3033"/>
                </a:cubicBezTo>
                <a:lnTo>
                  <a:pt x="406" y="3077"/>
                </a:lnTo>
                <a:lnTo>
                  <a:pt x="329" y="3141"/>
                </a:lnTo>
                <a:lnTo>
                  <a:pt x="293" y="3097"/>
                </a:lnTo>
                <a:lnTo>
                  <a:pt x="331" y="3115"/>
                </a:lnTo>
                <a:lnTo>
                  <a:pt x="270" y="3115"/>
                </a:lnTo>
                <a:lnTo>
                  <a:pt x="305" y="3102"/>
                </a:lnTo>
                <a:lnTo>
                  <a:pt x="244" y="3160"/>
                </a:lnTo>
                <a:cubicBezTo>
                  <a:pt x="235" y="3169"/>
                  <a:pt x="222" y="3174"/>
                  <a:pt x="209" y="3174"/>
                </a:cubicBezTo>
                <a:lnTo>
                  <a:pt x="148" y="3174"/>
                </a:lnTo>
                <a:lnTo>
                  <a:pt x="87" y="3174"/>
                </a:lnTo>
                <a:lnTo>
                  <a:pt x="126" y="3156"/>
                </a:lnTo>
                <a:lnTo>
                  <a:pt x="77" y="3214"/>
                </a:lnTo>
                <a:lnTo>
                  <a:pt x="0" y="3150"/>
                </a:lnTo>
                <a:close/>
                <a:moveTo>
                  <a:pt x="642" y="3224"/>
                </a:moveTo>
                <a:lnTo>
                  <a:pt x="668" y="3275"/>
                </a:lnTo>
                <a:lnTo>
                  <a:pt x="624" y="3248"/>
                </a:lnTo>
                <a:lnTo>
                  <a:pt x="673" y="3248"/>
                </a:lnTo>
                <a:cubicBezTo>
                  <a:pt x="686" y="3248"/>
                  <a:pt x="698" y="3253"/>
                  <a:pt x="707" y="3262"/>
                </a:cubicBezTo>
                <a:lnTo>
                  <a:pt x="768" y="3320"/>
                </a:lnTo>
                <a:lnTo>
                  <a:pt x="825" y="3363"/>
                </a:lnTo>
                <a:lnTo>
                  <a:pt x="890" y="3425"/>
                </a:lnTo>
                <a:lnTo>
                  <a:pt x="926" y="3459"/>
                </a:lnTo>
                <a:lnTo>
                  <a:pt x="857" y="3531"/>
                </a:lnTo>
                <a:lnTo>
                  <a:pt x="821" y="3497"/>
                </a:lnTo>
                <a:lnTo>
                  <a:pt x="765" y="3443"/>
                </a:lnTo>
                <a:lnTo>
                  <a:pt x="699" y="3393"/>
                </a:lnTo>
                <a:lnTo>
                  <a:pt x="638" y="3334"/>
                </a:lnTo>
                <a:lnTo>
                  <a:pt x="673" y="3348"/>
                </a:lnTo>
                <a:lnTo>
                  <a:pt x="624" y="3348"/>
                </a:lnTo>
                <a:cubicBezTo>
                  <a:pt x="606" y="3348"/>
                  <a:pt x="588" y="3338"/>
                  <a:pt x="580" y="3321"/>
                </a:cubicBezTo>
                <a:lnTo>
                  <a:pt x="553" y="3271"/>
                </a:lnTo>
                <a:lnTo>
                  <a:pt x="642" y="3224"/>
                </a:lnTo>
                <a:close/>
                <a:moveTo>
                  <a:pt x="1152" y="3622"/>
                </a:moveTo>
                <a:lnTo>
                  <a:pt x="1179" y="3643"/>
                </a:lnTo>
                <a:lnTo>
                  <a:pt x="1149" y="3632"/>
                </a:lnTo>
                <a:lnTo>
                  <a:pt x="1210" y="3632"/>
                </a:lnTo>
                <a:cubicBezTo>
                  <a:pt x="1225" y="3632"/>
                  <a:pt x="1239" y="3639"/>
                  <a:pt x="1248" y="3650"/>
                </a:cubicBezTo>
                <a:lnTo>
                  <a:pt x="1297" y="3708"/>
                </a:lnTo>
                <a:lnTo>
                  <a:pt x="1259" y="3690"/>
                </a:lnTo>
                <a:lnTo>
                  <a:pt x="1320" y="3690"/>
                </a:lnTo>
                <a:lnTo>
                  <a:pt x="1381" y="3690"/>
                </a:lnTo>
                <a:lnTo>
                  <a:pt x="1346" y="3704"/>
                </a:lnTo>
                <a:lnTo>
                  <a:pt x="1407" y="3646"/>
                </a:lnTo>
                <a:cubicBezTo>
                  <a:pt x="1416" y="3637"/>
                  <a:pt x="1429" y="3632"/>
                  <a:pt x="1442" y="3632"/>
                </a:cubicBezTo>
                <a:lnTo>
                  <a:pt x="1465" y="3632"/>
                </a:lnTo>
                <a:lnTo>
                  <a:pt x="1465" y="3732"/>
                </a:lnTo>
                <a:lnTo>
                  <a:pt x="1442" y="3732"/>
                </a:lnTo>
                <a:lnTo>
                  <a:pt x="1476" y="3718"/>
                </a:lnTo>
                <a:lnTo>
                  <a:pt x="1415" y="3777"/>
                </a:lnTo>
                <a:cubicBezTo>
                  <a:pt x="1406" y="3786"/>
                  <a:pt x="1393" y="3790"/>
                  <a:pt x="1381" y="3790"/>
                </a:cubicBezTo>
                <a:lnTo>
                  <a:pt x="1320" y="3790"/>
                </a:lnTo>
                <a:lnTo>
                  <a:pt x="1259" y="3790"/>
                </a:lnTo>
                <a:cubicBezTo>
                  <a:pt x="1244" y="3790"/>
                  <a:pt x="1230" y="3784"/>
                  <a:pt x="1220" y="3773"/>
                </a:cubicBezTo>
                <a:lnTo>
                  <a:pt x="1171" y="3714"/>
                </a:lnTo>
                <a:lnTo>
                  <a:pt x="1210" y="3732"/>
                </a:lnTo>
                <a:lnTo>
                  <a:pt x="1149" y="3732"/>
                </a:lnTo>
                <a:cubicBezTo>
                  <a:pt x="1138" y="3732"/>
                  <a:pt x="1127" y="3729"/>
                  <a:pt x="1118" y="3722"/>
                </a:cubicBezTo>
                <a:lnTo>
                  <a:pt x="1092" y="3702"/>
                </a:lnTo>
                <a:lnTo>
                  <a:pt x="1152" y="3622"/>
                </a:lnTo>
                <a:close/>
                <a:moveTo>
                  <a:pt x="1625" y="3438"/>
                </a:moveTo>
                <a:lnTo>
                  <a:pt x="1639" y="3425"/>
                </a:lnTo>
                <a:lnTo>
                  <a:pt x="1700" y="3367"/>
                </a:lnTo>
                <a:lnTo>
                  <a:pt x="1765" y="3317"/>
                </a:lnTo>
                <a:lnTo>
                  <a:pt x="1751" y="3333"/>
                </a:lnTo>
                <a:lnTo>
                  <a:pt x="1812" y="3217"/>
                </a:lnTo>
                <a:cubicBezTo>
                  <a:pt x="1814" y="3214"/>
                  <a:pt x="1816" y="3211"/>
                  <a:pt x="1818" y="3208"/>
                </a:cubicBezTo>
                <a:lnTo>
                  <a:pt x="1867" y="3150"/>
                </a:lnTo>
                <a:lnTo>
                  <a:pt x="1855" y="3182"/>
                </a:lnTo>
                <a:lnTo>
                  <a:pt x="1855" y="3170"/>
                </a:lnTo>
                <a:lnTo>
                  <a:pt x="1955" y="3170"/>
                </a:lnTo>
                <a:lnTo>
                  <a:pt x="1955" y="3182"/>
                </a:lnTo>
                <a:cubicBezTo>
                  <a:pt x="1955" y="3193"/>
                  <a:pt x="1951" y="3205"/>
                  <a:pt x="1944" y="3214"/>
                </a:cubicBezTo>
                <a:lnTo>
                  <a:pt x="1895" y="3272"/>
                </a:lnTo>
                <a:lnTo>
                  <a:pt x="1901" y="3263"/>
                </a:lnTo>
                <a:lnTo>
                  <a:pt x="1840" y="3380"/>
                </a:lnTo>
                <a:cubicBezTo>
                  <a:pt x="1836" y="3386"/>
                  <a:pt x="1832" y="3392"/>
                  <a:pt x="1826" y="3396"/>
                </a:cubicBezTo>
                <a:lnTo>
                  <a:pt x="1769" y="3439"/>
                </a:lnTo>
                <a:lnTo>
                  <a:pt x="1708" y="3497"/>
                </a:lnTo>
                <a:lnTo>
                  <a:pt x="1694" y="3511"/>
                </a:lnTo>
                <a:lnTo>
                  <a:pt x="1625" y="3438"/>
                </a:lnTo>
                <a:close/>
                <a:moveTo>
                  <a:pt x="1957" y="2871"/>
                </a:moveTo>
                <a:lnTo>
                  <a:pt x="1983" y="2821"/>
                </a:lnTo>
                <a:cubicBezTo>
                  <a:pt x="1986" y="2816"/>
                  <a:pt x="1989" y="2812"/>
                  <a:pt x="1993" y="2808"/>
                </a:cubicBezTo>
                <a:lnTo>
                  <a:pt x="2054" y="2750"/>
                </a:lnTo>
                <a:lnTo>
                  <a:pt x="2045" y="2761"/>
                </a:lnTo>
                <a:lnTo>
                  <a:pt x="2106" y="2656"/>
                </a:lnTo>
                <a:lnTo>
                  <a:pt x="2152" y="2545"/>
                </a:lnTo>
                <a:lnTo>
                  <a:pt x="2161" y="2530"/>
                </a:lnTo>
                <a:lnTo>
                  <a:pt x="2247" y="2580"/>
                </a:lnTo>
                <a:lnTo>
                  <a:pt x="2244" y="2584"/>
                </a:lnTo>
                <a:lnTo>
                  <a:pt x="2193" y="2706"/>
                </a:lnTo>
                <a:lnTo>
                  <a:pt x="2132" y="2811"/>
                </a:lnTo>
                <a:cubicBezTo>
                  <a:pt x="2129" y="2815"/>
                  <a:pt x="2126" y="2819"/>
                  <a:pt x="2123" y="2822"/>
                </a:cubicBezTo>
                <a:lnTo>
                  <a:pt x="2062" y="2880"/>
                </a:lnTo>
                <a:lnTo>
                  <a:pt x="2072" y="2867"/>
                </a:lnTo>
                <a:lnTo>
                  <a:pt x="2045" y="2918"/>
                </a:lnTo>
                <a:lnTo>
                  <a:pt x="1957" y="2871"/>
                </a:lnTo>
                <a:close/>
                <a:moveTo>
                  <a:pt x="2278" y="2257"/>
                </a:moveTo>
                <a:lnTo>
                  <a:pt x="2286" y="2249"/>
                </a:lnTo>
                <a:lnTo>
                  <a:pt x="2276" y="2262"/>
                </a:lnTo>
                <a:lnTo>
                  <a:pt x="2337" y="2146"/>
                </a:lnTo>
                <a:lnTo>
                  <a:pt x="2399" y="2039"/>
                </a:lnTo>
                <a:cubicBezTo>
                  <a:pt x="2400" y="2037"/>
                  <a:pt x="2402" y="2034"/>
                  <a:pt x="2404" y="2032"/>
                </a:cubicBezTo>
                <a:lnTo>
                  <a:pt x="2453" y="1974"/>
                </a:lnTo>
                <a:lnTo>
                  <a:pt x="2447" y="1983"/>
                </a:lnTo>
                <a:lnTo>
                  <a:pt x="2475" y="1929"/>
                </a:lnTo>
                <a:lnTo>
                  <a:pt x="2563" y="1975"/>
                </a:lnTo>
                <a:lnTo>
                  <a:pt x="2535" y="2029"/>
                </a:lnTo>
                <a:cubicBezTo>
                  <a:pt x="2534" y="2032"/>
                  <a:pt x="2532" y="2035"/>
                  <a:pt x="2529" y="2038"/>
                </a:cubicBezTo>
                <a:lnTo>
                  <a:pt x="2480" y="2096"/>
                </a:lnTo>
                <a:lnTo>
                  <a:pt x="2485" y="2089"/>
                </a:lnTo>
                <a:lnTo>
                  <a:pt x="2425" y="2192"/>
                </a:lnTo>
                <a:lnTo>
                  <a:pt x="2364" y="2309"/>
                </a:lnTo>
                <a:cubicBezTo>
                  <a:pt x="2362" y="2313"/>
                  <a:pt x="2359" y="2318"/>
                  <a:pt x="2355" y="2322"/>
                </a:cubicBezTo>
                <a:lnTo>
                  <a:pt x="2347" y="2329"/>
                </a:lnTo>
                <a:lnTo>
                  <a:pt x="2278" y="2257"/>
                </a:lnTo>
                <a:close/>
                <a:moveTo>
                  <a:pt x="2650" y="1681"/>
                </a:moveTo>
                <a:lnTo>
                  <a:pt x="2700" y="1632"/>
                </a:lnTo>
                <a:lnTo>
                  <a:pt x="2745" y="1578"/>
                </a:lnTo>
                <a:cubicBezTo>
                  <a:pt x="2749" y="1574"/>
                  <a:pt x="2754" y="1570"/>
                  <a:pt x="2759" y="1567"/>
                </a:cubicBezTo>
                <a:lnTo>
                  <a:pt x="2942" y="1462"/>
                </a:lnTo>
                <a:lnTo>
                  <a:pt x="2967" y="1556"/>
                </a:lnTo>
                <a:lnTo>
                  <a:pt x="2924" y="1556"/>
                </a:lnTo>
                <a:lnTo>
                  <a:pt x="2924" y="1456"/>
                </a:lnTo>
                <a:lnTo>
                  <a:pt x="2967" y="1456"/>
                </a:lnTo>
                <a:cubicBezTo>
                  <a:pt x="2989" y="1456"/>
                  <a:pt x="3009" y="1471"/>
                  <a:pt x="3015" y="1493"/>
                </a:cubicBezTo>
                <a:cubicBezTo>
                  <a:pt x="3021" y="1515"/>
                  <a:pt x="3011" y="1538"/>
                  <a:pt x="2992" y="1549"/>
                </a:cubicBezTo>
                <a:lnTo>
                  <a:pt x="2809" y="1654"/>
                </a:lnTo>
                <a:lnTo>
                  <a:pt x="2822" y="1642"/>
                </a:lnTo>
                <a:lnTo>
                  <a:pt x="2769" y="1705"/>
                </a:lnTo>
                <a:lnTo>
                  <a:pt x="2719" y="1753"/>
                </a:lnTo>
                <a:lnTo>
                  <a:pt x="2650" y="1681"/>
                </a:lnTo>
                <a:close/>
                <a:moveTo>
                  <a:pt x="3189" y="1427"/>
                </a:moveTo>
                <a:lnTo>
                  <a:pt x="3233" y="1469"/>
                </a:lnTo>
                <a:lnTo>
                  <a:pt x="3199" y="1456"/>
                </a:lnTo>
                <a:lnTo>
                  <a:pt x="3260" y="1456"/>
                </a:lnTo>
                <a:cubicBezTo>
                  <a:pt x="3272" y="1456"/>
                  <a:pt x="3285" y="1460"/>
                  <a:pt x="3294" y="1469"/>
                </a:cubicBezTo>
                <a:lnTo>
                  <a:pt x="3355" y="1528"/>
                </a:lnTo>
                <a:lnTo>
                  <a:pt x="3321" y="1514"/>
                </a:lnTo>
                <a:lnTo>
                  <a:pt x="3369" y="1514"/>
                </a:lnTo>
                <a:cubicBezTo>
                  <a:pt x="3380" y="1514"/>
                  <a:pt x="3391" y="1517"/>
                  <a:pt x="3400" y="1524"/>
                </a:cubicBezTo>
                <a:lnTo>
                  <a:pt x="3461" y="1571"/>
                </a:lnTo>
                <a:lnTo>
                  <a:pt x="3430" y="1560"/>
                </a:lnTo>
                <a:lnTo>
                  <a:pt x="3491" y="1560"/>
                </a:lnTo>
                <a:cubicBezTo>
                  <a:pt x="3504" y="1560"/>
                  <a:pt x="3517" y="1565"/>
                  <a:pt x="3526" y="1574"/>
                </a:cubicBezTo>
                <a:lnTo>
                  <a:pt x="3531" y="1579"/>
                </a:lnTo>
                <a:lnTo>
                  <a:pt x="3462" y="1651"/>
                </a:lnTo>
                <a:lnTo>
                  <a:pt x="3457" y="1646"/>
                </a:lnTo>
                <a:lnTo>
                  <a:pt x="3491" y="1660"/>
                </a:lnTo>
                <a:lnTo>
                  <a:pt x="3430" y="1660"/>
                </a:lnTo>
                <a:cubicBezTo>
                  <a:pt x="3419" y="1660"/>
                  <a:pt x="3409" y="1657"/>
                  <a:pt x="3400" y="1650"/>
                </a:cubicBezTo>
                <a:lnTo>
                  <a:pt x="3339" y="1603"/>
                </a:lnTo>
                <a:lnTo>
                  <a:pt x="3369" y="1614"/>
                </a:lnTo>
                <a:lnTo>
                  <a:pt x="3321" y="1614"/>
                </a:lnTo>
                <a:cubicBezTo>
                  <a:pt x="3308" y="1614"/>
                  <a:pt x="3295" y="1609"/>
                  <a:pt x="3286" y="1600"/>
                </a:cubicBezTo>
                <a:lnTo>
                  <a:pt x="3225" y="1542"/>
                </a:lnTo>
                <a:lnTo>
                  <a:pt x="3260" y="1556"/>
                </a:lnTo>
                <a:lnTo>
                  <a:pt x="3199" y="1556"/>
                </a:lnTo>
                <a:cubicBezTo>
                  <a:pt x="3186" y="1556"/>
                  <a:pt x="3173" y="1551"/>
                  <a:pt x="3164" y="1542"/>
                </a:cubicBezTo>
                <a:lnTo>
                  <a:pt x="3120" y="1499"/>
                </a:lnTo>
                <a:lnTo>
                  <a:pt x="3189" y="1427"/>
                </a:lnTo>
                <a:close/>
                <a:moveTo>
                  <a:pt x="3759" y="1750"/>
                </a:moveTo>
                <a:lnTo>
                  <a:pt x="3819" y="1807"/>
                </a:lnTo>
                <a:lnTo>
                  <a:pt x="3876" y="1850"/>
                </a:lnTo>
                <a:lnTo>
                  <a:pt x="3941" y="1912"/>
                </a:lnTo>
                <a:lnTo>
                  <a:pt x="3906" y="1898"/>
                </a:lnTo>
                <a:lnTo>
                  <a:pt x="3967" y="1898"/>
                </a:lnTo>
                <a:lnTo>
                  <a:pt x="4016" y="1898"/>
                </a:lnTo>
                <a:lnTo>
                  <a:pt x="4062" y="1898"/>
                </a:lnTo>
                <a:lnTo>
                  <a:pt x="4062" y="1998"/>
                </a:lnTo>
                <a:lnTo>
                  <a:pt x="4016" y="1998"/>
                </a:lnTo>
                <a:lnTo>
                  <a:pt x="3967" y="1998"/>
                </a:lnTo>
                <a:lnTo>
                  <a:pt x="3906" y="1998"/>
                </a:lnTo>
                <a:cubicBezTo>
                  <a:pt x="3893" y="1998"/>
                  <a:pt x="3881" y="1993"/>
                  <a:pt x="3872" y="1984"/>
                </a:cubicBezTo>
                <a:lnTo>
                  <a:pt x="3815" y="1929"/>
                </a:lnTo>
                <a:lnTo>
                  <a:pt x="3750" y="1879"/>
                </a:lnTo>
                <a:lnTo>
                  <a:pt x="3690" y="1822"/>
                </a:lnTo>
                <a:lnTo>
                  <a:pt x="3759" y="1750"/>
                </a:lnTo>
                <a:close/>
                <a:moveTo>
                  <a:pt x="4335" y="1840"/>
                </a:moveTo>
                <a:lnTo>
                  <a:pt x="4370" y="1840"/>
                </a:lnTo>
                <a:lnTo>
                  <a:pt x="4340" y="1850"/>
                </a:lnTo>
                <a:lnTo>
                  <a:pt x="4401" y="1803"/>
                </a:lnTo>
                <a:lnTo>
                  <a:pt x="4457" y="1749"/>
                </a:lnTo>
                <a:lnTo>
                  <a:pt x="4448" y="1762"/>
                </a:lnTo>
                <a:lnTo>
                  <a:pt x="4509" y="1645"/>
                </a:lnTo>
                <a:cubicBezTo>
                  <a:pt x="4510" y="1642"/>
                  <a:pt x="4512" y="1639"/>
                  <a:pt x="4515" y="1636"/>
                </a:cubicBezTo>
                <a:lnTo>
                  <a:pt x="4561" y="1581"/>
                </a:lnTo>
                <a:lnTo>
                  <a:pt x="4638" y="1645"/>
                </a:lnTo>
                <a:lnTo>
                  <a:pt x="4591" y="1701"/>
                </a:lnTo>
                <a:lnTo>
                  <a:pt x="4597" y="1692"/>
                </a:lnTo>
                <a:lnTo>
                  <a:pt x="4536" y="1808"/>
                </a:lnTo>
                <a:cubicBezTo>
                  <a:pt x="4534" y="1813"/>
                  <a:pt x="4530" y="1817"/>
                  <a:pt x="4526" y="1821"/>
                </a:cubicBezTo>
                <a:lnTo>
                  <a:pt x="4461" y="1883"/>
                </a:lnTo>
                <a:lnTo>
                  <a:pt x="4400" y="1929"/>
                </a:lnTo>
                <a:cubicBezTo>
                  <a:pt x="4392" y="1936"/>
                  <a:pt x="4381" y="1940"/>
                  <a:pt x="4370" y="1940"/>
                </a:cubicBezTo>
                <a:lnTo>
                  <a:pt x="4335" y="1940"/>
                </a:lnTo>
                <a:lnTo>
                  <a:pt x="4335" y="1840"/>
                </a:lnTo>
                <a:close/>
                <a:moveTo>
                  <a:pt x="4753" y="1350"/>
                </a:moveTo>
                <a:lnTo>
                  <a:pt x="4811" y="1295"/>
                </a:lnTo>
                <a:lnTo>
                  <a:pt x="4800" y="1310"/>
                </a:lnTo>
                <a:lnTo>
                  <a:pt x="4849" y="1205"/>
                </a:lnTo>
                <a:lnTo>
                  <a:pt x="4845" y="1226"/>
                </a:lnTo>
                <a:lnTo>
                  <a:pt x="4845" y="1168"/>
                </a:lnTo>
                <a:cubicBezTo>
                  <a:pt x="4845" y="1160"/>
                  <a:pt x="4847" y="1152"/>
                  <a:pt x="4850" y="1145"/>
                </a:cubicBezTo>
                <a:lnTo>
                  <a:pt x="4911" y="1028"/>
                </a:lnTo>
                <a:cubicBezTo>
                  <a:pt x="4914" y="1024"/>
                  <a:pt x="4917" y="1019"/>
                  <a:pt x="4921" y="1015"/>
                </a:cubicBezTo>
                <a:lnTo>
                  <a:pt x="4932" y="1005"/>
                </a:lnTo>
                <a:lnTo>
                  <a:pt x="5001" y="1078"/>
                </a:lnTo>
                <a:lnTo>
                  <a:pt x="4990" y="1088"/>
                </a:lnTo>
                <a:lnTo>
                  <a:pt x="5000" y="1075"/>
                </a:lnTo>
                <a:lnTo>
                  <a:pt x="4939" y="1191"/>
                </a:lnTo>
                <a:lnTo>
                  <a:pt x="4945" y="1168"/>
                </a:lnTo>
                <a:lnTo>
                  <a:pt x="4945" y="1226"/>
                </a:lnTo>
                <a:cubicBezTo>
                  <a:pt x="4945" y="1233"/>
                  <a:pt x="4943" y="1241"/>
                  <a:pt x="4940" y="1247"/>
                </a:cubicBezTo>
                <a:lnTo>
                  <a:pt x="4891" y="1352"/>
                </a:lnTo>
                <a:cubicBezTo>
                  <a:pt x="4888" y="1358"/>
                  <a:pt x="4885" y="1363"/>
                  <a:pt x="4880" y="1367"/>
                </a:cubicBezTo>
                <a:lnTo>
                  <a:pt x="4822" y="1422"/>
                </a:lnTo>
                <a:lnTo>
                  <a:pt x="4753" y="1350"/>
                </a:lnTo>
                <a:close/>
                <a:moveTo>
                  <a:pt x="5102" y="788"/>
                </a:moveTo>
                <a:lnTo>
                  <a:pt x="5141" y="695"/>
                </a:lnTo>
                <a:lnTo>
                  <a:pt x="5137" y="714"/>
                </a:lnTo>
                <a:lnTo>
                  <a:pt x="5137" y="667"/>
                </a:lnTo>
                <a:cubicBezTo>
                  <a:pt x="5137" y="659"/>
                  <a:pt x="5139" y="651"/>
                  <a:pt x="5143" y="644"/>
                </a:cubicBezTo>
                <a:lnTo>
                  <a:pt x="5204" y="528"/>
                </a:lnTo>
                <a:cubicBezTo>
                  <a:pt x="5207" y="523"/>
                  <a:pt x="5210" y="519"/>
                  <a:pt x="5214" y="515"/>
                </a:cubicBezTo>
                <a:lnTo>
                  <a:pt x="5275" y="457"/>
                </a:lnTo>
                <a:lnTo>
                  <a:pt x="5301" y="432"/>
                </a:lnTo>
                <a:lnTo>
                  <a:pt x="5370" y="504"/>
                </a:lnTo>
                <a:lnTo>
                  <a:pt x="5344" y="529"/>
                </a:lnTo>
                <a:lnTo>
                  <a:pt x="5283" y="587"/>
                </a:lnTo>
                <a:lnTo>
                  <a:pt x="5293" y="574"/>
                </a:lnTo>
                <a:lnTo>
                  <a:pt x="5232" y="691"/>
                </a:lnTo>
                <a:lnTo>
                  <a:pt x="5237" y="667"/>
                </a:lnTo>
                <a:lnTo>
                  <a:pt x="5237" y="714"/>
                </a:lnTo>
                <a:cubicBezTo>
                  <a:pt x="5237" y="721"/>
                  <a:pt x="5236" y="727"/>
                  <a:pt x="5234" y="733"/>
                </a:cubicBezTo>
                <a:lnTo>
                  <a:pt x="5194" y="827"/>
                </a:lnTo>
                <a:lnTo>
                  <a:pt x="5102" y="788"/>
                </a:lnTo>
                <a:close/>
                <a:moveTo>
                  <a:pt x="5491" y="257"/>
                </a:moveTo>
                <a:lnTo>
                  <a:pt x="5491" y="213"/>
                </a:lnTo>
                <a:cubicBezTo>
                  <a:pt x="5491" y="200"/>
                  <a:pt x="5497" y="187"/>
                  <a:pt x="5507" y="177"/>
                </a:cubicBezTo>
                <a:lnTo>
                  <a:pt x="5568" y="119"/>
                </a:lnTo>
                <a:cubicBezTo>
                  <a:pt x="5572" y="115"/>
                  <a:pt x="5576" y="112"/>
                  <a:pt x="5581" y="110"/>
                </a:cubicBezTo>
                <a:lnTo>
                  <a:pt x="5703" y="52"/>
                </a:lnTo>
                <a:lnTo>
                  <a:pt x="5690" y="61"/>
                </a:lnTo>
                <a:lnTo>
                  <a:pt x="5739" y="14"/>
                </a:lnTo>
                <a:cubicBezTo>
                  <a:pt x="5748" y="5"/>
                  <a:pt x="5760" y="0"/>
                  <a:pt x="5773" y="0"/>
                </a:cubicBezTo>
                <a:lnTo>
                  <a:pt x="5834" y="0"/>
                </a:lnTo>
                <a:lnTo>
                  <a:pt x="5843" y="0"/>
                </a:lnTo>
                <a:lnTo>
                  <a:pt x="5843" y="100"/>
                </a:lnTo>
                <a:lnTo>
                  <a:pt x="5834" y="100"/>
                </a:lnTo>
                <a:lnTo>
                  <a:pt x="5773" y="100"/>
                </a:lnTo>
                <a:lnTo>
                  <a:pt x="5808" y="87"/>
                </a:lnTo>
                <a:lnTo>
                  <a:pt x="5759" y="133"/>
                </a:lnTo>
                <a:cubicBezTo>
                  <a:pt x="5755" y="137"/>
                  <a:pt x="5751" y="140"/>
                  <a:pt x="5746" y="142"/>
                </a:cubicBezTo>
                <a:lnTo>
                  <a:pt x="5624" y="200"/>
                </a:lnTo>
                <a:lnTo>
                  <a:pt x="5637" y="191"/>
                </a:lnTo>
                <a:lnTo>
                  <a:pt x="5576" y="250"/>
                </a:lnTo>
                <a:lnTo>
                  <a:pt x="5591" y="213"/>
                </a:lnTo>
                <a:lnTo>
                  <a:pt x="5591" y="257"/>
                </a:lnTo>
                <a:lnTo>
                  <a:pt x="5491" y="257"/>
                </a:lnTo>
                <a:close/>
                <a:moveTo>
                  <a:pt x="6170" y="20"/>
                </a:moveTo>
                <a:lnTo>
                  <a:pt x="6218" y="57"/>
                </a:lnTo>
                <a:lnTo>
                  <a:pt x="6188" y="47"/>
                </a:lnTo>
                <a:lnTo>
                  <a:pt x="6249" y="47"/>
                </a:lnTo>
                <a:cubicBezTo>
                  <a:pt x="6262" y="47"/>
                  <a:pt x="6274" y="52"/>
                  <a:pt x="6283" y="61"/>
                </a:cubicBezTo>
                <a:lnTo>
                  <a:pt x="6344" y="119"/>
                </a:lnTo>
                <a:lnTo>
                  <a:pt x="6310" y="105"/>
                </a:lnTo>
                <a:lnTo>
                  <a:pt x="6371" y="105"/>
                </a:lnTo>
                <a:cubicBezTo>
                  <a:pt x="6386" y="105"/>
                  <a:pt x="6400" y="112"/>
                  <a:pt x="6409" y="123"/>
                </a:cubicBezTo>
                <a:lnTo>
                  <a:pt x="6458" y="181"/>
                </a:lnTo>
                <a:lnTo>
                  <a:pt x="6420" y="163"/>
                </a:lnTo>
                <a:lnTo>
                  <a:pt x="6477" y="163"/>
                </a:lnTo>
                <a:lnTo>
                  <a:pt x="6477" y="263"/>
                </a:lnTo>
                <a:lnTo>
                  <a:pt x="6420" y="263"/>
                </a:lnTo>
                <a:cubicBezTo>
                  <a:pt x="6405" y="263"/>
                  <a:pt x="6391" y="257"/>
                  <a:pt x="6381" y="246"/>
                </a:cubicBezTo>
                <a:lnTo>
                  <a:pt x="6333" y="187"/>
                </a:lnTo>
                <a:lnTo>
                  <a:pt x="6371" y="205"/>
                </a:lnTo>
                <a:lnTo>
                  <a:pt x="6310" y="205"/>
                </a:lnTo>
                <a:cubicBezTo>
                  <a:pt x="6297" y="205"/>
                  <a:pt x="6285" y="200"/>
                  <a:pt x="6275" y="191"/>
                </a:cubicBezTo>
                <a:lnTo>
                  <a:pt x="6214" y="133"/>
                </a:lnTo>
                <a:lnTo>
                  <a:pt x="6249" y="147"/>
                </a:lnTo>
                <a:lnTo>
                  <a:pt x="6188" y="147"/>
                </a:lnTo>
                <a:cubicBezTo>
                  <a:pt x="6177" y="147"/>
                  <a:pt x="6166" y="143"/>
                  <a:pt x="6158" y="137"/>
                </a:cubicBezTo>
                <a:lnTo>
                  <a:pt x="6109" y="100"/>
                </a:lnTo>
                <a:lnTo>
                  <a:pt x="6170" y="20"/>
                </a:lnTo>
                <a:close/>
                <a:moveTo>
                  <a:pt x="6760" y="306"/>
                </a:moveTo>
                <a:lnTo>
                  <a:pt x="6808" y="352"/>
                </a:lnTo>
                <a:lnTo>
                  <a:pt x="6774" y="338"/>
                </a:lnTo>
                <a:lnTo>
                  <a:pt x="6835" y="338"/>
                </a:lnTo>
                <a:lnTo>
                  <a:pt x="6896" y="338"/>
                </a:lnTo>
                <a:lnTo>
                  <a:pt x="6957" y="338"/>
                </a:lnTo>
                <a:lnTo>
                  <a:pt x="7005" y="338"/>
                </a:lnTo>
                <a:lnTo>
                  <a:pt x="7066" y="338"/>
                </a:lnTo>
                <a:lnTo>
                  <a:pt x="7107" y="338"/>
                </a:lnTo>
                <a:lnTo>
                  <a:pt x="7107" y="438"/>
                </a:lnTo>
                <a:lnTo>
                  <a:pt x="7066" y="438"/>
                </a:lnTo>
                <a:lnTo>
                  <a:pt x="7005" y="438"/>
                </a:lnTo>
                <a:lnTo>
                  <a:pt x="6957" y="438"/>
                </a:lnTo>
                <a:lnTo>
                  <a:pt x="6896" y="438"/>
                </a:lnTo>
                <a:lnTo>
                  <a:pt x="6835" y="438"/>
                </a:lnTo>
                <a:lnTo>
                  <a:pt x="6774" y="438"/>
                </a:lnTo>
                <a:cubicBezTo>
                  <a:pt x="6761" y="438"/>
                  <a:pt x="6748" y="433"/>
                  <a:pt x="6739" y="424"/>
                </a:cubicBezTo>
                <a:lnTo>
                  <a:pt x="6691" y="378"/>
                </a:lnTo>
                <a:lnTo>
                  <a:pt x="6760" y="306"/>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4876920" y="2438280"/>
            <a:ext cx="1158840" cy="644760"/>
          </a:xfrm>
          <a:custGeom>
            <a:avLst/>
            <a:gdLst/>
            <a:ahLst/>
            <a:rect l="l" t="t" r="r" b="b"/>
            <a:pathLst>
              <a:path w="7339" h="4067">
                <a:moveTo>
                  <a:pt x="0" y="3994"/>
                </a:moveTo>
                <a:lnTo>
                  <a:pt x="61" y="3936"/>
                </a:lnTo>
                <a:lnTo>
                  <a:pt x="106" y="3882"/>
                </a:lnTo>
                <a:cubicBezTo>
                  <a:pt x="115" y="3871"/>
                  <a:pt x="129" y="3864"/>
                  <a:pt x="144" y="3864"/>
                </a:cubicBezTo>
                <a:lnTo>
                  <a:pt x="205" y="3864"/>
                </a:lnTo>
                <a:lnTo>
                  <a:pt x="171" y="3878"/>
                </a:lnTo>
                <a:lnTo>
                  <a:pt x="232" y="3820"/>
                </a:lnTo>
                <a:lnTo>
                  <a:pt x="293" y="3762"/>
                </a:lnTo>
                <a:lnTo>
                  <a:pt x="284" y="3773"/>
                </a:lnTo>
                <a:lnTo>
                  <a:pt x="289" y="3764"/>
                </a:lnTo>
                <a:lnTo>
                  <a:pt x="376" y="3814"/>
                </a:lnTo>
                <a:lnTo>
                  <a:pt x="370" y="3823"/>
                </a:lnTo>
                <a:cubicBezTo>
                  <a:pt x="368" y="3827"/>
                  <a:pt x="365" y="3831"/>
                  <a:pt x="362" y="3834"/>
                </a:cubicBezTo>
                <a:lnTo>
                  <a:pt x="301" y="3892"/>
                </a:lnTo>
                <a:lnTo>
                  <a:pt x="240" y="3950"/>
                </a:lnTo>
                <a:cubicBezTo>
                  <a:pt x="230" y="3959"/>
                  <a:pt x="218" y="3964"/>
                  <a:pt x="205" y="3964"/>
                </a:cubicBezTo>
                <a:lnTo>
                  <a:pt x="144" y="3964"/>
                </a:lnTo>
                <a:lnTo>
                  <a:pt x="183" y="3946"/>
                </a:lnTo>
                <a:lnTo>
                  <a:pt x="130" y="4008"/>
                </a:lnTo>
                <a:lnTo>
                  <a:pt x="69" y="4067"/>
                </a:lnTo>
                <a:lnTo>
                  <a:pt x="0" y="3994"/>
                </a:lnTo>
                <a:close/>
                <a:moveTo>
                  <a:pt x="445" y="3511"/>
                </a:moveTo>
                <a:lnTo>
                  <a:pt x="454" y="3495"/>
                </a:lnTo>
                <a:cubicBezTo>
                  <a:pt x="457" y="3489"/>
                  <a:pt x="462" y="3483"/>
                  <a:pt x="468" y="3479"/>
                </a:cubicBezTo>
                <a:lnTo>
                  <a:pt x="529" y="3432"/>
                </a:lnTo>
                <a:lnTo>
                  <a:pt x="585" y="3378"/>
                </a:lnTo>
                <a:lnTo>
                  <a:pt x="646" y="3319"/>
                </a:lnTo>
                <a:lnTo>
                  <a:pt x="635" y="3336"/>
                </a:lnTo>
                <a:lnTo>
                  <a:pt x="684" y="3220"/>
                </a:lnTo>
                <a:lnTo>
                  <a:pt x="680" y="3239"/>
                </a:lnTo>
                <a:lnTo>
                  <a:pt x="680" y="3229"/>
                </a:lnTo>
                <a:lnTo>
                  <a:pt x="780" y="3229"/>
                </a:lnTo>
                <a:lnTo>
                  <a:pt x="780" y="3239"/>
                </a:lnTo>
                <a:cubicBezTo>
                  <a:pt x="780" y="3246"/>
                  <a:pt x="778" y="3252"/>
                  <a:pt x="776" y="3258"/>
                </a:cubicBezTo>
                <a:lnTo>
                  <a:pt x="727" y="3375"/>
                </a:lnTo>
                <a:cubicBezTo>
                  <a:pt x="724" y="3381"/>
                  <a:pt x="720" y="3387"/>
                  <a:pt x="715" y="3392"/>
                </a:cubicBezTo>
                <a:lnTo>
                  <a:pt x="655" y="3450"/>
                </a:lnTo>
                <a:lnTo>
                  <a:pt x="589" y="3512"/>
                </a:lnTo>
                <a:lnTo>
                  <a:pt x="528" y="3558"/>
                </a:lnTo>
                <a:lnTo>
                  <a:pt x="542" y="3542"/>
                </a:lnTo>
                <a:lnTo>
                  <a:pt x="534" y="3558"/>
                </a:lnTo>
                <a:lnTo>
                  <a:pt x="445" y="3511"/>
                </a:lnTo>
                <a:close/>
                <a:moveTo>
                  <a:pt x="873" y="2985"/>
                </a:moveTo>
                <a:lnTo>
                  <a:pt x="929" y="2878"/>
                </a:lnTo>
                <a:cubicBezTo>
                  <a:pt x="932" y="2874"/>
                  <a:pt x="935" y="2869"/>
                  <a:pt x="939" y="2865"/>
                </a:cubicBezTo>
                <a:lnTo>
                  <a:pt x="988" y="2819"/>
                </a:lnTo>
                <a:lnTo>
                  <a:pt x="973" y="2855"/>
                </a:lnTo>
                <a:lnTo>
                  <a:pt x="973" y="2797"/>
                </a:lnTo>
                <a:cubicBezTo>
                  <a:pt x="973" y="2783"/>
                  <a:pt x="978" y="2770"/>
                  <a:pt x="988" y="2761"/>
                </a:cubicBezTo>
                <a:lnTo>
                  <a:pt x="1049" y="2703"/>
                </a:lnTo>
                <a:lnTo>
                  <a:pt x="1099" y="2655"/>
                </a:lnTo>
                <a:lnTo>
                  <a:pt x="1168" y="2727"/>
                </a:lnTo>
                <a:lnTo>
                  <a:pt x="1118" y="2775"/>
                </a:lnTo>
                <a:lnTo>
                  <a:pt x="1057" y="2833"/>
                </a:lnTo>
                <a:lnTo>
                  <a:pt x="1073" y="2797"/>
                </a:lnTo>
                <a:lnTo>
                  <a:pt x="1073" y="2855"/>
                </a:lnTo>
                <a:cubicBezTo>
                  <a:pt x="1073" y="2869"/>
                  <a:pt x="1067" y="2882"/>
                  <a:pt x="1057" y="2891"/>
                </a:cubicBezTo>
                <a:lnTo>
                  <a:pt x="1008" y="2938"/>
                </a:lnTo>
                <a:lnTo>
                  <a:pt x="1018" y="2925"/>
                </a:lnTo>
                <a:lnTo>
                  <a:pt x="962" y="3032"/>
                </a:lnTo>
                <a:lnTo>
                  <a:pt x="873" y="2985"/>
                </a:lnTo>
                <a:close/>
                <a:moveTo>
                  <a:pt x="1336" y="2488"/>
                </a:moveTo>
                <a:lnTo>
                  <a:pt x="1338" y="2485"/>
                </a:lnTo>
                <a:lnTo>
                  <a:pt x="1403" y="2423"/>
                </a:lnTo>
                <a:cubicBezTo>
                  <a:pt x="1412" y="2414"/>
                  <a:pt x="1424" y="2409"/>
                  <a:pt x="1437" y="2409"/>
                </a:cubicBezTo>
                <a:lnTo>
                  <a:pt x="1498" y="2409"/>
                </a:lnTo>
                <a:lnTo>
                  <a:pt x="1559" y="2409"/>
                </a:lnTo>
                <a:lnTo>
                  <a:pt x="1525" y="2423"/>
                </a:lnTo>
                <a:lnTo>
                  <a:pt x="1586" y="2365"/>
                </a:lnTo>
                <a:cubicBezTo>
                  <a:pt x="1595" y="2356"/>
                  <a:pt x="1607" y="2351"/>
                  <a:pt x="1620" y="2351"/>
                </a:cubicBezTo>
                <a:lnTo>
                  <a:pt x="1669" y="2351"/>
                </a:lnTo>
                <a:lnTo>
                  <a:pt x="1727" y="2351"/>
                </a:lnTo>
                <a:lnTo>
                  <a:pt x="1727" y="2451"/>
                </a:lnTo>
                <a:lnTo>
                  <a:pt x="1669" y="2451"/>
                </a:lnTo>
                <a:lnTo>
                  <a:pt x="1620" y="2451"/>
                </a:lnTo>
                <a:lnTo>
                  <a:pt x="1655" y="2437"/>
                </a:lnTo>
                <a:lnTo>
                  <a:pt x="1594" y="2496"/>
                </a:lnTo>
                <a:cubicBezTo>
                  <a:pt x="1584" y="2504"/>
                  <a:pt x="1572" y="2509"/>
                  <a:pt x="1559" y="2509"/>
                </a:cubicBezTo>
                <a:lnTo>
                  <a:pt x="1498" y="2509"/>
                </a:lnTo>
                <a:lnTo>
                  <a:pt x="1437" y="2509"/>
                </a:lnTo>
                <a:lnTo>
                  <a:pt x="1472" y="2496"/>
                </a:lnTo>
                <a:lnTo>
                  <a:pt x="1415" y="2550"/>
                </a:lnTo>
                <a:lnTo>
                  <a:pt x="1413" y="2552"/>
                </a:lnTo>
                <a:lnTo>
                  <a:pt x="1336" y="2488"/>
                </a:lnTo>
                <a:close/>
                <a:moveTo>
                  <a:pt x="2027" y="2452"/>
                </a:moveTo>
                <a:lnTo>
                  <a:pt x="2057" y="2481"/>
                </a:lnTo>
                <a:lnTo>
                  <a:pt x="2023" y="2468"/>
                </a:lnTo>
                <a:lnTo>
                  <a:pt x="2084" y="2468"/>
                </a:lnTo>
                <a:lnTo>
                  <a:pt x="2145" y="2468"/>
                </a:lnTo>
                <a:cubicBezTo>
                  <a:pt x="2158" y="2468"/>
                  <a:pt x="2170" y="2473"/>
                  <a:pt x="2179" y="2481"/>
                </a:cubicBezTo>
                <a:lnTo>
                  <a:pt x="2240" y="2540"/>
                </a:lnTo>
                <a:lnTo>
                  <a:pt x="2206" y="2526"/>
                </a:lnTo>
                <a:lnTo>
                  <a:pt x="2255" y="2526"/>
                </a:lnTo>
                <a:lnTo>
                  <a:pt x="2316" y="2526"/>
                </a:lnTo>
                <a:cubicBezTo>
                  <a:pt x="2327" y="2526"/>
                  <a:pt x="2337" y="2529"/>
                  <a:pt x="2346" y="2536"/>
                </a:cubicBezTo>
                <a:lnTo>
                  <a:pt x="2379" y="2561"/>
                </a:lnTo>
                <a:lnTo>
                  <a:pt x="2318" y="2641"/>
                </a:lnTo>
                <a:lnTo>
                  <a:pt x="2285" y="2616"/>
                </a:lnTo>
                <a:lnTo>
                  <a:pt x="2316" y="2626"/>
                </a:lnTo>
                <a:lnTo>
                  <a:pt x="2255" y="2626"/>
                </a:lnTo>
                <a:lnTo>
                  <a:pt x="2206" y="2626"/>
                </a:lnTo>
                <a:cubicBezTo>
                  <a:pt x="2193" y="2626"/>
                  <a:pt x="2181" y="2621"/>
                  <a:pt x="2171" y="2612"/>
                </a:cubicBezTo>
                <a:lnTo>
                  <a:pt x="2110" y="2554"/>
                </a:lnTo>
                <a:lnTo>
                  <a:pt x="2145" y="2568"/>
                </a:lnTo>
                <a:lnTo>
                  <a:pt x="2084" y="2568"/>
                </a:lnTo>
                <a:lnTo>
                  <a:pt x="2023" y="2568"/>
                </a:lnTo>
                <a:cubicBezTo>
                  <a:pt x="2010" y="2568"/>
                  <a:pt x="1998" y="2563"/>
                  <a:pt x="1988" y="2554"/>
                </a:cubicBezTo>
                <a:lnTo>
                  <a:pt x="1958" y="2524"/>
                </a:lnTo>
                <a:lnTo>
                  <a:pt x="2027" y="2452"/>
                </a:lnTo>
                <a:close/>
                <a:moveTo>
                  <a:pt x="2641" y="2572"/>
                </a:moveTo>
                <a:lnTo>
                  <a:pt x="2669" y="2572"/>
                </a:lnTo>
                <a:lnTo>
                  <a:pt x="2730" y="2572"/>
                </a:lnTo>
                <a:lnTo>
                  <a:pt x="2791" y="2572"/>
                </a:lnTo>
                <a:lnTo>
                  <a:pt x="2840" y="2572"/>
                </a:lnTo>
                <a:lnTo>
                  <a:pt x="2810" y="2583"/>
                </a:lnTo>
                <a:lnTo>
                  <a:pt x="2871" y="2536"/>
                </a:lnTo>
                <a:cubicBezTo>
                  <a:pt x="2879" y="2529"/>
                  <a:pt x="2890" y="2526"/>
                  <a:pt x="2901" y="2526"/>
                </a:cubicBezTo>
                <a:lnTo>
                  <a:pt x="2962" y="2526"/>
                </a:lnTo>
                <a:lnTo>
                  <a:pt x="2928" y="2540"/>
                </a:lnTo>
                <a:lnTo>
                  <a:pt x="2974" y="2496"/>
                </a:lnTo>
                <a:lnTo>
                  <a:pt x="3043" y="2568"/>
                </a:lnTo>
                <a:lnTo>
                  <a:pt x="2997" y="2612"/>
                </a:lnTo>
                <a:cubicBezTo>
                  <a:pt x="2987" y="2621"/>
                  <a:pt x="2975" y="2626"/>
                  <a:pt x="2962" y="2626"/>
                </a:cubicBezTo>
                <a:lnTo>
                  <a:pt x="2901" y="2626"/>
                </a:lnTo>
                <a:lnTo>
                  <a:pt x="2931" y="2616"/>
                </a:lnTo>
                <a:lnTo>
                  <a:pt x="2870" y="2662"/>
                </a:lnTo>
                <a:cubicBezTo>
                  <a:pt x="2862" y="2669"/>
                  <a:pt x="2851" y="2672"/>
                  <a:pt x="2840" y="2672"/>
                </a:cubicBezTo>
                <a:lnTo>
                  <a:pt x="2791" y="2672"/>
                </a:lnTo>
                <a:lnTo>
                  <a:pt x="2730" y="2672"/>
                </a:lnTo>
                <a:lnTo>
                  <a:pt x="2669" y="2672"/>
                </a:lnTo>
                <a:lnTo>
                  <a:pt x="2641" y="2672"/>
                </a:lnTo>
                <a:lnTo>
                  <a:pt x="2641" y="2572"/>
                </a:lnTo>
                <a:close/>
                <a:moveTo>
                  <a:pt x="3229" y="2293"/>
                </a:moveTo>
                <a:lnTo>
                  <a:pt x="3255" y="2293"/>
                </a:lnTo>
                <a:lnTo>
                  <a:pt x="3224" y="2303"/>
                </a:lnTo>
                <a:lnTo>
                  <a:pt x="3285" y="2257"/>
                </a:lnTo>
                <a:lnTo>
                  <a:pt x="3272" y="2273"/>
                </a:lnTo>
                <a:lnTo>
                  <a:pt x="3333" y="2157"/>
                </a:lnTo>
                <a:cubicBezTo>
                  <a:pt x="3335" y="2152"/>
                  <a:pt x="3338" y="2148"/>
                  <a:pt x="3342" y="2144"/>
                </a:cubicBezTo>
                <a:lnTo>
                  <a:pt x="3403" y="2086"/>
                </a:lnTo>
                <a:lnTo>
                  <a:pt x="3448" y="2032"/>
                </a:lnTo>
                <a:lnTo>
                  <a:pt x="3456" y="2024"/>
                </a:lnTo>
                <a:lnTo>
                  <a:pt x="3525" y="2096"/>
                </a:lnTo>
                <a:lnTo>
                  <a:pt x="3525" y="2096"/>
                </a:lnTo>
                <a:lnTo>
                  <a:pt x="3472" y="2158"/>
                </a:lnTo>
                <a:lnTo>
                  <a:pt x="3411" y="2216"/>
                </a:lnTo>
                <a:lnTo>
                  <a:pt x="3421" y="2203"/>
                </a:lnTo>
                <a:lnTo>
                  <a:pt x="3360" y="2320"/>
                </a:lnTo>
                <a:cubicBezTo>
                  <a:pt x="3357" y="2326"/>
                  <a:pt x="3352" y="2332"/>
                  <a:pt x="3346" y="2336"/>
                </a:cubicBezTo>
                <a:lnTo>
                  <a:pt x="3285" y="2383"/>
                </a:lnTo>
                <a:cubicBezTo>
                  <a:pt x="3276" y="2389"/>
                  <a:pt x="3266" y="2393"/>
                  <a:pt x="3255" y="2393"/>
                </a:cubicBezTo>
                <a:lnTo>
                  <a:pt x="3229" y="2393"/>
                </a:lnTo>
                <a:lnTo>
                  <a:pt x="3229" y="2293"/>
                </a:lnTo>
                <a:close/>
                <a:moveTo>
                  <a:pt x="3620" y="1830"/>
                </a:moveTo>
                <a:lnTo>
                  <a:pt x="3620" y="1784"/>
                </a:lnTo>
                <a:cubicBezTo>
                  <a:pt x="3620" y="1771"/>
                  <a:pt x="3625" y="1758"/>
                  <a:pt x="3635" y="1748"/>
                </a:cubicBezTo>
                <a:lnTo>
                  <a:pt x="3696" y="1690"/>
                </a:lnTo>
                <a:lnTo>
                  <a:pt x="3745" y="1644"/>
                </a:lnTo>
                <a:lnTo>
                  <a:pt x="3806" y="1585"/>
                </a:lnTo>
                <a:cubicBezTo>
                  <a:pt x="3810" y="1582"/>
                  <a:pt x="3814" y="1579"/>
                  <a:pt x="3819" y="1576"/>
                </a:cubicBezTo>
                <a:lnTo>
                  <a:pt x="3926" y="1525"/>
                </a:lnTo>
                <a:lnTo>
                  <a:pt x="3969" y="1616"/>
                </a:lnTo>
                <a:lnTo>
                  <a:pt x="3862" y="1667"/>
                </a:lnTo>
                <a:lnTo>
                  <a:pt x="3875" y="1658"/>
                </a:lnTo>
                <a:lnTo>
                  <a:pt x="3814" y="1716"/>
                </a:lnTo>
                <a:lnTo>
                  <a:pt x="3765" y="1762"/>
                </a:lnTo>
                <a:lnTo>
                  <a:pt x="3704" y="1821"/>
                </a:lnTo>
                <a:lnTo>
                  <a:pt x="3720" y="1784"/>
                </a:lnTo>
                <a:lnTo>
                  <a:pt x="3720" y="1830"/>
                </a:lnTo>
                <a:lnTo>
                  <a:pt x="3620" y="1830"/>
                </a:lnTo>
                <a:close/>
                <a:moveTo>
                  <a:pt x="4114" y="1349"/>
                </a:moveTo>
                <a:lnTo>
                  <a:pt x="4160" y="1306"/>
                </a:lnTo>
                <a:lnTo>
                  <a:pt x="4221" y="1248"/>
                </a:lnTo>
                <a:cubicBezTo>
                  <a:pt x="4230" y="1239"/>
                  <a:pt x="4242" y="1234"/>
                  <a:pt x="4255" y="1234"/>
                </a:cubicBezTo>
                <a:lnTo>
                  <a:pt x="4316" y="1234"/>
                </a:lnTo>
                <a:lnTo>
                  <a:pt x="4278" y="1252"/>
                </a:lnTo>
                <a:lnTo>
                  <a:pt x="4327" y="1194"/>
                </a:lnTo>
                <a:cubicBezTo>
                  <a:pt x="4336" y="1182"/>
                  <a:pt x="4350" y="1176"/>
                  <a:pt x="4365" y="1176"/>
                </a:cubicBezTo>
                <a:lnTo>
                  <a:pt x="4426" y="1176"/>
                </a:lnTo>
                <a:lnTo>
                  <a:pt x="4481" y="1176"/>
                </a:lnTo>
                <a:lnTo>
                  <a:pt x="4481" y="1276"/>
                </a:lnTo>
                <a:lnTo>
                  <a:pt x="4426" y="1276"/>
                </a:lnTo>
                <a:lnTo>
                  <a:pt x="4365" y="1276"/>
                </a:lnTo>
                <a:lnTo>
                  <a:pt x="4403" y="1258"/>
                </a:lnTo>
                <a:lnTo>
                  <a:pt x="4354" y="1316"/>
                </a:lnTo>
                <a:cubicBezTo>
                  <a:pt x="4345" y="1327"/>
                  <a:pt x="4331" y="1334"/>
                  <a:pt x="4316" y="1334"/>
                </a:cubicBezTo>
                <a:lnTo>
                  <a:pt x="4255" y="1334"/>
                </a:lnTo>
                <a:lnTo>
                  <a:pt x="4290" y="1320"/>
                </a:lnTo>
                <a:lnTo>
                  <a:pt x="4229" y="1378"/>
                </a:lnTo>
                <a:lnTo>
                  <a:pt x="4183" y="1422"/>
                </a:lnTo>
                <a:lnTo>
                  <a:pt x="4114" y="1349"/>
                </a:lnTo>
                <a:close/>
                <a:moveTo>
                  <a:pt x="4782" y="1159"/>
                </a:moveTo>
                <a:lnTo>
                  <a:pt x="4814" y="1190"/>
                </a:lnTo>
                <a:lnTo>
                  <a:pt x="4780" y="1176"/>
                </a:lnTo>
                <a:lnTo>
                  <a:pt x="4841" y="1176"/>
                </a:lnTo>
                <a:lnTo>
                  <a:pt x="4902" y="1176"/>
                </a:lnTo>
                <a:lnTo>
                  <a:pt x="4950" y="1176"/>
                </a:lnTo>
                <a:lnTo>
                  <a:pt x="5011" y="1176"/>
                </a:lnTo>
                <a:cubicBezTo>
                  <a:pt x="5024" y="1176"/>
                  <a:pt x="5037" y="1181"/>
                  <a:pt x="5046" y="1190"/>
                </a:cubicBezTo>
                <a:lnTo>
                  <a:pt x="5107" y="1248"/>
                </a:lnTo>
                <a:lnTo>
                  <a:pt x="5072" y="1234"/>
                </a:lnTo>
                <a:lnTo>
                  <a:pt x="5111" y="1234"/>
                </a:lnTo>
                <a:lnTo>
                  <a:pt x="5111" y="1334"/>
                </a:lnTo>
                <a:lnTo>
                  <a:pt x="5072" y="1334"/>
                </a:lnTo>
                <a:cubicBezTo>
                  <a:pt x="5060" y="1334"/>
                  <a:pt x="5047" y="1329"/>
                  <a:pt x="5038" y="1320"/>
                </a:cubicBezTo>
                <a:lnTo>
                  <a:pt x="4977" y="1262"/>
                </a:lnTo>
                <a:lnTo>
                  <a:pt x="5011" y="1276"/>
                </a:lnTo>
                <a:lnTo>
                  <a:pt x="4950" y="1276"/>
                </a:lnTo>
                <a:lnTo>
                  <a:pt x="4902" y="1276"/>
                </a:lnTo>
                <a:lnTo>
                  <a:pt x="4841" y="1276"/>
                </a:lnTo>
                <a:lnTo>
                  <a:pt x="4780" y="1276"/>
                </a:lnTo>
                <a:cubicBezTo>
                  <a:pt x="4767" y="1276"/>
                  <a:pt x="4754" y="1271"/>
                  <a:pt x="4745" y="1262"/>
                </a:cubicBezTo>
                <a:lnTo>
                  <a:pt x="4713" y="1231"/>
                </a:lnTo>
                <a:lnTo>
                  <a:pt x="4782" y="1159"/>
                </a:lnTo>
                <a:close/>
                <a:moveTo>
                  <a:pt x="5388" y="1292"/>
                </a:moveTo>
                <a:lnTo>
                  <a:pt x="5426" y="1292"/>
                </a:lnTo>
                <a:lnTo>
                  <a:pt x="5487" y="1292"/>
                </a:lnTo>
                <a:lnTo>
                  <a:pt x="5536" y="1292"/>
                </a:lnTo>
                <a:lnTo>
                  <a:pt x="5501" y="1306"/>
                </a:lnTo>
                <a:lnTo>
                  <a:pt x="5562" y="1248"/>
                </a:lnTo>
                <a:cubicBezTo>
                  <a:pt x="5572" y="1239"/>
                  <a:pt x="5584" y="1234"/>
                  <a:pt x="5597" y="1234"/>
                </a:cubicBezTo>
                <a:lnTo>
                  <a:pt x="5658" y="1234"/>
                </a:lnTo>
                <a:lnTo>
                  <a:pt x="5719" y="1234"/>
                </a:lnTo>
                <a:lnTo>
                  <a:pt x="5684" y="1248"/>
                </a:lnTo>
                <a:lnTo>
                  <a:pt x="5718" y="1216"/>
                </a:lnTo>
                <a:lnTo>
                  <a:pt x="5787" y="1289"/>
                </a:lnTo>
                <a:lnTo>
                  <a:pt x="5753" y="1320"/>
                </a:lnTo>
                <a:cubicBezTo>
                  <a:pt x="5744" y="1329"/>
                  <a:pt x="5732" y="1334"/>
                  <a:pt x="5719" y="1334"/>
                </a:cubicBezTo>
                <a:lnTo>
                  <a:pt x="5658" y="1334"/>
                </a:lnTo>
                <a:lnTo>
                  <a:pt x="5597" y="1334"/>
                </a:lnTo>
                <a:lnTo>
                  <a:pt x="5631" y="1320"/>
                </a:lnTo>
                <a:lnTo>
                  <a:pt x="5570" y="1378"/>
                </a:lnTo>
                <a:cubicBezTo>
                  <a:pt x="5561" y="1387"/>
                  <a:pt x="5549" y="1392"/>
                  <a:pt x="5536" y="1392"/>
                </a:cubicBezTo>
                <a:lnTo>
                  <a:pt x="5487" y="1392"/>
                </a:lnTo>
                <a:lnTo>
                  <a:pt x="5426" y="1392"/>
                </a:lnTo>
                <a:lnTo>
                  <a:pt x="5388" y="1392"/>
                </a:lnTo>
                <a:lnTo>
                  <a:pt x="5388" y="1292"/>
                </a:lnTo>
                <a:close/>
                <a:moveTo>
                  <a:pt x="5965" y="1085"/>
                </a:moveTo>
                <a:lnTo>
                  <a:pt x="5977" y="1073"/>
                </a:lnTo>
                <a:lnTo>
                  <a:pt x="6042" y="1023"/>
                </a:lnTo>
                <a:cubicBezTo>
                  <a:pt x="6051" y="1017"/>
                  <a:pt x="6062" y="1013"/>
                  <a:pt x="6073" y="1013"/>
                </a:cubicBezTo>
                <a:lnTo>
                  <a:pt x="6134" y="1013"/>
                </a:lnTo>
                <a:lnTo>
                  <a:pt x="6095" y="1031"/>
                </a:lnTo>
                <a:lnTo>
                  <a:pt x="6144" y="973"/>
                </a:lnTo>
                <a:lnTo>
                  <a:pt x="6209" y="910"/>
                </a:lnTo>
                <a:lnTo>
                  <a:pt x="6199" y="923"/>
                </a:lnTo>
                <a:lnTo>
                  <a:pt x="6239" y="848"/>
                </a:lnTo>
                <a:lnTo>
                  <a:pt x="6327" y="894"/>
                </a:lnTo>
                <a:lnTo>
                  <a:pt x="6288" y="970"/>
                </a:lnTo>
                <a:cubicBezTo>
                  <a:pt x="6285" y="975"/>
                  <a:pt x="6282" y="979"/>
                  <a:pt x="6278" y="983"/>
                </a:cubicBezTo>
                <a:lnTo>
                  <a:pt x="6221" y="1037"/>
                </a:lnTo>
                <a:lnTo>
                  <a:pt x="6172" y="1095"/>
                </a:lnTo>
                <a:cubicBezTo>
                  <a:pt x="6162" y="1106"/>
                  <a:pt x="6148" y="1113"/>
                  <a:pt x="6134" y="1113"/>
                </a:cubicBezTo>
                <a:lnTo>
                  <a:pt x="6073" y="1113"/>
                </a:lnTo>
                <a:lnTo>
                  <a:pt x="6103" y="1103"/>
                </a:lnTo>
                <a:lnTo>
                  <a:pt x="6046" y="1146"/>
                </a:lnTo>
                <a:lnTo>
                  <a:pt x="6034" y="1157"/>
                </a:lnTo>
                <a:lnTo>
                  <a:pt x="5965" y="1085"/>
                </a:lnTo>
                <a:close/>
                <a:moveTo>
                  <a:pt x="6473" y="659"/>
                </a:moveTo>
                <a:lnTo>
                  <a:pt x="6502" y="631"/>
                </a:lnTo>
                <a:lnTo>
                  <a:pt x="6563" y="573"/>
                </a:lnTo>
                <a:lnTo>
                  <a:pt x="6554" y="584"/>
                </a:lnTo>
                <a:lnTo>
                  <a:pt x="6615" y="479"/>
                </a:lnTo>
                <a:cubicBezTo>
                  <a:pt x="6617" y="475"/>
                  <a:pt x="6620" y="471"/>
                  <a:pt x="6624" y="468"/>
                </a:cubicBezTo>
                <a:lnTo>
                  <a:pt x="6685" y="410"/>
                </a:lnTo>
                <a:lnTo>
                  <a:pt x="6726" y="360"/>
                </a:lnTo>
                <a:lnTo>
                  <a:pt x="6802" y="425"/>
                </a:lnTo>
                <a:lnTo>
                  <a:pt x="6754" y="482"/>
                </a:lnTo>
                <a:lnTo>
                  <a:pt x="6693" y="541"/>
                </a:lnTo>
                <a:lnTo>
                  <a:pt x="6701" y="529"/>
                </a:lnTo>
                <a:lnTo>
                  <a:pt x="6640" y="634"/>
                </a:lnTo>
                <a:cubicBezTo>
                  <a:pt x="6638" y="638"/>
                  <a:pt x="6635" y="642"/>
                  <a:pt x="6632" y="645"/>
                </a:cubicBezTo>
                <a:lnTo>
                  <a:pt x="6571" y="703"/>
                </a:lnTo>
                <a:lnTo>
                  <a:pt x="6542" y="731"/>
                </a:lnTo>
                <a:lnTo>
                  <a:pt x="6473" y="659"/>
                </a:lnTo>
                <a:close/>
                <a:moveTo>
                  <a:pt x="6972" y="193"/>
                </a:moveTo>
                <a:lnTo>
                  <a:pt x="6982" y="185"/>
                </a:lnTo>
                <a:lnTo>
                  <a:pt x="6974" y="193"/>
                </a:lnTo>
                <a:lnTo>
                  <a:pt x="7022" y="135"/>
                </a:lnTo>
                <a:cubicBezTo>
                  <a:pt x="7032" y="123"/>
                  <a:pt x="7046" y="117"/>
                  <a:pt x="7061" y="117"/>
                </a:cubicBezTo>
                <a:lnTo>
                  <a:pt x="7122" y="117"/>
                </a:lnTo>
                <a:lnTo>
                  <a:pt x="7087" y="131"/>
                </a:lnTo>
                <a:lnTo>
                  <a:pt x="7148" y="72"/>
                </a:lnTo>
                <a:cubicBezTo>
                  <a:pt x="7157" y="64"/>
                  <a:pt x="7170" y="59"/>
                  <a:pt x="7183" y="59"/>
                </a:cubicBezTo>
                <a:lnTo>
                  <a:pt x="7244" y="59"/>
                </a:lnTo>
                <a:lnTo>
                  <a:pt x="7209" y="72"/>
                </a:lnTo>
                <a:lnTo>
                  <a:pt x="7270" y="14"/>
                </a:lnTo>
                <a:cubicBezTo>
                  <a:pt x="7279" y="5"/>
                  <a:pt x="7292" y="0"/>
                  <a:pt x="7305" y="0"/>
                </a:cubicBezTo>
                <a:lnTo>
                  <a:pt x="7326" y="0"/>
                </a:lnTo>
                <a:lnTo>
                  <a:pt x="7326" y="100"/>
                </a:lnTo>
                <a:lnTo>
                  <a:pt x="7305" y="100"/>
                </a:lnTo>
                <a:lnTo>
                  <a:pt x="7339" y="87"/>
                </a:lnTo>
                <a:lnTo>
                  <a:pt x="7278" y="145"/>
                </a:lnTo>
                <a:cubicBezTo>
                  <a:pt x="7269" y="154"/>
                  <a:pt x="7257" y="159"/>
                  <a:pt x="7244" y="159"/>
                </a:cubicBezTo>
                <a:lnTo>
                  <a:pt x="7183" y="159"/>
                </a:lnTo>
                <a:lnTo>
                  <a:pt x="7217" y="145"/>
                </a:lnTo>
                <a:lnTo>
                  <a:pt x="7156" y="203"/>
                </a:lnTo>
                <a:cubicBezTo>
                  <a:pt x="7147" y="212"/>
                  <a:pt x="7135" y="217"/>
                  <a:pt x="7122" y="217"/>
                </a:cubicBezTo>
                <a:lnTo>
                  <a:pt x="7061" y="217"/>
                </a:lnTo>
                <a:lnTo>
                  <a:pt x="7099" y="199"/>
                </a:lnTo>
                <a:lnTo>
                  <a:pt x="7050" y="257"/>
                </a:lnTo>
                <a:cubicBezTo>
                  <a:pt x="7048" y="260"/>
                  <a:pt x="7045" y="263"/>
                  <a:pt x="7042" y="265"/>
                </a:cubicBezTo>
                <a:lnTo>
                  <a:pt x="7032" y="272"/>
                </a:lnTo>
                <a:lnTo>
                  <a:pt x="6972" y="193"/>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019920" y="2209680"/>
            <a:ext cx="645840" cy="211320"/>
          </a:xfrm>
          <a:custGeom>
            <a:avLst/>
            <a:gdLst/>
            <a:ahLst/>
            <a:rect l="l" t="t" r="r" b="b"/>
            <a:pathLst>
              <a:path w="2047" h="665">
                <a:moveTo>
                  <a:pt x="0" y="586"/>
                </a:moveTo>
                <a:lnTo>
                  <a:pt x="31" y="586"/>
                </a:lnTo>
                <a:lnTo>
                  <a:pt x="62" y="586"/>
                </a:lnTo>
                <a:lnTo>
                  <a:pt x="92" y="586"/>
                </a:lnTo>
                <a:lnTo>
                  <a:pt x="117" y="586"/>
                </a:lnTo>
                <a:lnTo>
                  <a:pt x="147" y="586"/>
                </a:lnTo>
                <a:lnTo>
                  <a:pt x="178" y="586"/>
                </a:lnTo>
                <a:lnTo>
                  <a:pt x="200" y="586"/>
                </a:lnTo>
                <a:lnTo>
                  <a:pt x="200" y="636"/>
                </a:lnTo>
                <a:lnTo>
                  <a:pt x="178" y="636"/>
                </a:lnTo>
                <a:lnTo>
                  <a:pt x="147" y="636"/>
                </a:lnTo>
                <a:lnTo>
                  <a:pt x="117" y="636"/>
                </a:lnTo>
                <a:lnTo>
                  <a:pt x="92" y="636"/>
                </a:lnTo>
                <a:lnTo>
                  <a:pt x="62" y="636"/>
                </a:lnTo>
                <a:lnTo>
                  <a:pt x="31" y="636"/>
                </a:lnTo>
                <a:lnTo>
                  <a:pt x="0" y="636"/>
                </a:lnTo>
                <a:lnTo>
                  <a:pt x="0" y="586"/>
                </a:lnTo>
                <a:close/>
                <a:moveTo>
                  <a:pt x="361" y="611"/>
                </a:moveTo>
                <a:lnTo>
                  <a:pt x="372" y="622"/>
                </a:lnTo>
                <a:lnTo>
                  <a:pt x="355" y="615"/>
                </a:lnTo>
                <a:lnTo>
                  <a:pt x="386" y="615"/>
                </a:lnTo>
                <a:lnTo>
                  <a:pt x="416" y="615"/>
                </a:lnTo>
                <a:lnTo>
                  <a:pt x="441" y="615"/>
                </a:lnTo>
                <a:lnTo>
                  <a:pt x="471" y="615"/>
                </a:lnTo>
                <a:lnTo>
                  <a:pt x="502" y="615"/>
                </a:lnTo>
                <a:lnTo>
                  <a:pt x="485" y="622"/>
                </a:lnTo>
                <a:lnTo>
                  <a:pt x="511" y="597"/>
                </a:lnTo>
                <a:lnTo>
                  <a:pt x="546" y="633"/>
                </a:lnTo>
                <a:lnTo>
                  <a:pt x="519" y="659"/>
                </a:lnTo>
                <a:cubicBezTo>
                  <a:pt x="514" y="663"/>
                  <a:pt x="508" y="665"/>
                  <a:pt x="502" y="665"/>
                </a:cubicBezTo>
                <a:lnTo>
                  <a:pt x="471" y="665"/>
                </a:lnTo>
                <a:lnTo>
                  <a:pt x="441" y="665"/>
                </a:lnTo>
                <a:lnTo>
                  <a:pt x="416" y="665"/>
                </a:lnTo>
                <a:lnTo>
                  <a:pt x="386" y="665"/>
                </a:lnTo>
                <a:lnTo>
                  <a:pt x="355" y="665"/>
                </a:lnTo>
                <a:cubicBezTo>
                  <a:pt x="349" y="665"/>
                  <a:pt x="342" y="663"/>
                  <a:pt x="338" y="659"/>
                </a:cubicBezTo>
                <a:lnTo>
                  <a:pt x="326" y="648"/>
                </a:lnTo>
                <a:lnTo>
                  <a:pt x="361" y="611"/>
                </a:lnTo>
                <a:close/>
                <a:moveTo>
                  <a:pt x="666" y="557"/>
                </a:moveTo>
                <a:lnTo>
                  <a:pt x="679" y="557"/>
                </a:lnTo>
                <a:lnTo>
                  <a:pt x="662" y="564"/>
                </a:lnTo>
                <a:lnTo>
                  <a:pt x="692" y="535"/>
                </a:lnTo>
                <a:cubicBezTo>
                  <a:pt x="697" y="531"/>
                  <a:pt x="703" y="528"/>
                  <a:pt x="710" y="528"/>
                </a:cubicBezTo>
                <a:lnTo>
                  <a:pt x="734" y="528"/>
                </a:lnTo>
                <a:lnTo>
                  <a:pt x="719" y="534"/>
                </a:lnTo>
                <a:lnTo>
                  <a:pt x="749" y="510"/>
                </a:lnTo>
                <a:lnTo>
                  <a:pt x="778" y="483"/>
                </a:lnTo>
                <a:lnTo>
                  <a:pt x="807" y="456"/>
                </a:lnTo>
                <a:lnTo>
                  <a:pt x="841" y="492"/>
                </a:lnTo>
                <a:lnTo>
                  <a:pt x="812" y="519"/>
                </a:lnTo>
                <a:lnTo>
                  <a:pt x="780" y="550"/>
                </a:lnTo>
                <a:lnTo>
                  <a:pt x="749" y="573"/>
                </a:lnTo>
                <a:cubicBezTo>
                  <a:pt x="745" y="577"/>
                  <a:pt x="739" y="578"/>
                  <a:pt x="734" y="578"/>
                </a:cubicBezTo>
                <a:lnTo>
                  <a:pt x="710" y="578"/>
                </a:lnTo>
                <a:lnTo>
                  <a:pt x="727" y="572"/>
                </a:lnTo>
                <a:lnTo>
                  <a:pt x="696" y="601"/>
                </a:lnTo>
                <a:cubicBezTo>
                  <a:pt x="692" y="605"/>
                  <a:pt x="685" y="607"/>
                  <a:pt x="679" y="607"/>
                </a:cubicBezTo>
                <a:lnTo>
                  <a:pt x="666" y="607"/>
                </a:lnTo>
                <a:lnTo>
                  <a:pt x="666" y="557"/>
                </a:lnTo>
                <a:close/>
                <a:moveTo>
                  <a:pt x="926" y="372"/>
                </a:moveTo>
                <a:lnTo>
                  <a:pt x="927" y="371"/>
                </a:lnTo>
                <a:lnTo>
                  <a:pt x="955" y="344"/>
                </a:lnTo>
                <a:lnTo>
                  <a:pt x="986" y="315"/>
                </a:lnTo>
                <a:cubicBezTo>
                  <a:pt x="990" y="310"/>
                  <a:pt x="997" y="308"/>
                  <a:pt x="1003" y="308"/>
                </a:cubicBezTo>
                <a:lnTo>
                  <a:pt x="1027" y="308"/>
                </a:lnTo>
                <a:lnTo>
                  <a:pt x="1010" y="315"/>
                </a:lnTo>
                <a:lnTo>
                  <a:pt x="1041" y="286"/>
                </a:lnTo>
                <a:lnTo>
                  <a:pt x="1071" y="257"/>
                </a:lnTo>
                <a:lnTo>
                  <a:pt x="1078" y="252"/>
                </a:lnTo>
                <a:lnTo>
                  <a:pt x="1108" y="292"/>
                </a:lnTo>
                <a:lnTo>
                  <a:pt x="1106" y="293"/>
                </a:lnTo>
                <a:lnTo>
                  <a:pt x="1075" y="322"/>
                </a:lnTo>
                <a:lnTo>
                  <a:pt x="1045" y="351"/>
                </a:lnTo>
                <a:cubicBezTo>
                  <a:pt x="1040" y="356"/>
                  <a:pt x="1034" y="358"/>
                  <a:pt x="1027" y="358"/>
                </a:cubicBezTo>
                <a:lnTo>
                  <a:pt x="1003" y="358"/>
                </a:lnTo>
                <a:lnTo>
                  <a:pt x="1020" y="351"/>
                </a:lnTo>
                <a:lnTo>
                  <a:pt x="990" y="380"/>
                </a:lnTo>
                <a:lnTo>
                  <a:pt x="957" y="411"/>
                </a:lnTo>
                <a:lnTo>
                  <a:pt x="956" y="412"/>
                </a:lnTo>
                <a:lnTo>
                  <a:pt x="926" y="372"/>
                </a:lnTo>
                <a:close/>
                <a:moveTo>
                  <a:pt x="1192" y="171"/>
                </a:moveTo>
                <a:lnTo>
                  <a:pt x="1218" y="147"/>
                </a:lnTo>
                <a:lnTo>
                  <a:pt x="1249" y="118"/>
                </a:lnTo>
                <a:cubicBezTo>
                  <a:pt x="1253" y="113"/>
                  <a:pt x="1259" y="111"/>
                  <a:pt x="1266" y="111"/>
                </a:cubicBezTo>
                <a:lnTo>
                  <a:pt x="1296" y="111"/>
                </a:lnTo>
                <a:lnTo>
                  <a:pt x="1277" y="120"/>
                </a:lnTo>
                <a:lnTo>
                  <a:pt x="1302" y="91"/>
                </a:lnTo>
                <a:cubicBezTo>
                  <a:pt x="1306" y="85"/>
                  <a:pt x="1313" y="82"/>
                  <a:pt x="1321" y="82"/>
                </a:cubicBezTo>
                <a:lnTo>
                  <a:pt x="1351" y="82"/>
                </a:lnTo>
                <a:lnTo>
                  <a:pt x="1375" y="82"/>
                </a:lnTo>
                <a:lnTo>
                  <a:pt x="1375" y="132"/>
                </a:lnTo>
                <a:lnTo>
                  <a:pt x="1351" y="132"/>
                </a:lnTo>
                <a:lnTo>
                  <a:pt x="1321" y="132"/>
                </a:lnTo>
                <a:lnTo>
                  <a:pt x="1340" y="123"/>
                </a:lnTo>
                <a:lnTo>
                  <a:pt x="1315" y="152"/>
                </a:lnTo>
                <a:cubicBezTo>
                  <a:pt x="1311" y="157"/>
                  <a:pt x="1304" y="161"/>
                  <a:pt x="1296" y="161"/>
                </a:cubicBezTo>
                <a:lnTo>
                  <a:pt x="1266" y="161"/>
                </a:lnTo>
                <a:lnTo>
                  <a:pt x="1283" y="154"/>
                </a:lnTo>
                <a:lnTo>
                  <a:pt x="1252" y="183"/>
                </a:lnTo>
                <a:lnTo>
                  <a:pt x="1227" y="207"/>
                </a:lnTo>
                <a:lnTo>
                  <a:pt x="1192" y="171"/>
                </a:lnTo>
                <a:close/>
                <a:moveTo>
                  <a:pt x="1503" y="29"/>
                </a:moveTo>
                <a:lnTo>
                  <a:pt x="1529" y="29"/>
                </a:lnTo>
                <a:lnTo>
                  <a:pt x="1559" y="29"/>
                </a:lnTo>
                <a:lnTo>
                  <a:pt x="1590" y="29"/>
                </a:lnTo>
                <a:lnTo>
                  <a:pt x="1620" y="29"/>
                </a:lnTo>
                <a:lnTo>
                  <a:pt x="1645" y="29"/>
                </a:lnTo>
                <a:lnTo>
                  <a:pt x="1675" y="29"/>
                </a:lnTo>
                <a:lnTo>
                  <a:pt x="1703" y="29"/>
                </a:lnTo>
                <a:lnTo>
                  <a:pt x="1703" y="79"/>
                </a:lnTo>
                <a:lnTo>
                  <a:pt x="1675" y="79"/>
                </a:lnTo>
                <a:lnTo>
                  <a:pt x="1645" y="79"/>
                </a:lnTo>
                <a:lnTo>
                  <a:pt x="1620" y="79"/>
                </a:lnTo>
                <a:lnTo>
                  <a:pt x="1590" y="79"/>
                </a:lnTo>
                <a:lnTo>
                  <a:pt x="1559" y="79"/>
                </a:lnTo>
                <a:lnTo>
                  <a:pt x="1529" y="79"/>
                </a:lnTo>
                <a:lnTo>
                  <a:pt x="1503" y="79"/>
                </a:lnTo>
                <a:lnTo>
                  <a:pt x="1503" y="29"/>
                </a:lnTo>
                <a:close/>
                <a:moveTo>
                  <a:pt x="1853" y="29"/>
                </a:moveTo>
                <a:lnTo>
                  <a:pt x="1883" y="29"/>
                </a:lnTo>
                <a:lnTo>
                  <a:pt x="1914" y="29"/>
                </a:lnTo>
                <a:lnTo>
                  <a:pt x="1938" y="29"/>
                </a:lnTo>
                <a:lnTo>
                  <a:pt x="1969" y="29"/>
                </a:lnTo>
                <a:lnTo>
                  <a:pt x="1999" y="29"/>
                </a:lnTo>
                <a:lnTo>
                  <a:pt x="1982" y="36"/>
                </a:lnTo>
                <a:lnTo>
                  <a:pt x="2013" y="7"/>
                </a:lnTo>
                <a:cubicBezTo>
                  <a:pt x="2017" y="3"/>
                  <a:pt x="2023" y="0"/>
                  <a:pt x="2030" y="0"/>
                </a:cubicBezTo>
                <a:lnTo>
                  <a:pt x="2042" y="0"/>
                </a:lnTo>
                <a:lnTo>
                  <a:pt x="2042" y="50"/>
                </a:lnTo>
                <a:lnTo>
                  <a:pt x="2030" y="50"/>
                </a:lnTo>
                <a:lnTo>
                  <a:pt x="2047" y="44"/>
                </a:lnTo>
                <a:lnTo>
                  <a:pt x="2017" y="73"/>
                </a:lnTo>
                <a:cubicBezTo>
                  <a:pt x="2012" y="77"/>
                  <a:pt x="2006" y="79"/>
                  <a:pt x="1999" y="79"/>
                </a:cubicBezTo>
                <a:lnTo>
                  <a:pt x="1969" y="79"/>
                </a:lnTo>
                <a:lnTo>
                  <a:pt x="1938" y="79"/>
                </a:lnTo>
                <a:lnTo>
                  <a:pt x="1914" y="79"/>
                </a:lnTo>
                <a:lnTo>
                  <a:pt x="1883" y="79"/>
                </a:lnTo>
                <a:lnTo>
                  <a:pt x="1853" y="79"/>
                </a:lnTo>
                <a:lnTo>
                  <a:pt x="1853" y="29"/>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
          <p:cNvSpPr/>
          <p:nvPr/>
        </p:nvSpPr>
        <p:spPr>
          <a:xfrm>
            <a:off x="3184920" y="2890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DH</a:t>
            </a:r>
            <a:endParaRPr b="0" lang="en-US" sz="2400" spc="-1" strike="noStrike">
              <a:solidFill>
                <a:srgbClr val="000000"/>
              </a:solidFill>
              <a:latin typeface="Times New Roman"/>
            </a:endParaRPr>
          </a:p>
        </p:txBody>
      </p:sp>
      <p:sp>
        <p:nvSpPr>
          <p:cNvPr id="194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195920" y="1109520"/>
            <a:ext cx="648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exact 2-D separation of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for S-waves (pulse-echo_)</a:t>
            </a:r>
            <a:endParaRPr b="0" lang="en-US" sz="2400" spc="-1" strike="noStrike">
              <a:solidFill>
                <a:srgbClr val="000000"/>
              </a:solidFill>
              <a:latin typeface="Times New Roman"/>
            </a:endParaRPr>
          </a:p>
        </p:txBody>
      </p:sp>
      <p:sp>
        <p:nvSpPr>
          <p:cNvPr id="1946" name=""/>
          <p:cNvSpPr/>
          <p:nvPr/>
        </p:nvSpPr>
        <p:spPr>
          <a:xfrm>
            <a:off x="609480" y="6019920"/>
            <a:ext cx="716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dimensional normalized pulse-echo SV-wave scattering amplitude versus normalized wave number for a side drilled hole in the Kirchhoff approximation (solid line) and from the exact two-dimensional separation of variables solution (dashed line).</a:t>
            </a:r>
            <a:endParaRPr b="0" lang="en-US" sz="1200" spc="-1" strike="noStrike">
              <a:solidFill>
                <a:srgbClr val="000000"/>
              </a:solidFill>
              <a:latin typeface="Times New Roman"/>
            </a:endParaRPr>
          </a:p>
        </p:txBody>
      </p:sp>
      <p:sp>
        <p:nvSpPr>
          <p:cNvPr id="1947" name=""/>
          <p:cNvSpPr/>
          <p:nvPr/>
        </p:nvSpPr>
        <p:spPr>
          <a:xfrm>
            <a:off x="2579760" y="2367000"/>
            <a:ext cx="3711600" cy="300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2579760" y="2367000"/>
            <a:ext cx="3711600" cy="300528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2579760" y="2367000"/>
            <a:ext cx="3711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0" name=""/>
          <p:cNvSpPr/>
          <p:nvPr/>
        </p:nvSpPr>
        <p:spPr>
          <a:xfrm>
            <a:off x="2579760" y="5372280"/>
            <a:ext cx="371160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1" name=""/>
          <p:cNvSpPr/>
          <p:nvPr/>
        </p:nvSpPr>
        <p:spPr>
          <a:xfrm flipV="1">
            <a:off x="6291360" y="2367000"/>
            <a:ext cx="1440" cy="3005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V="1">
            <a:off x="2579760" y="2367000"/>
            <a:ext cx="1440" cy="3005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flipV="1">
            <a:off x="25797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4" name=""/>
          <p:cNvSpPr/>
          <p:nvPr/>
        </p:nvSpPr>
        <p:spPr>
          <a:xfrm>
            <a:off x="25797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5" name=""/>
          <p:cNvSpPr/>
          <p:nvPr/>
        </p:nvSpPr>
        <p:spPr>
          <a:xfrm>
            <a:off x="254700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56" name=""/>
          <p:cNvSpPr/>
          <p:nvPr/>
        </p:nvSpPr>
        <p:spPr>
          <a:xfrm flipV="1">
            <a:off x="331488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7" name=""/>
          <p:cNvSpPr/>
          <p:nvPr/>
        </p:nvSpPr>
        <p:spPr>
          <a:xfrm>
            <a:off x="331488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8" name=""/>
          <p:cNvSpPr/>
          <p:nvPr/>
        </p:nvSpPr>
        <p:spPr>
          <a:xfrm>
            <a:off x="328356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59" name=""/>
          <p:cNvSpPr/>
          <p:nvPr/>
        </p:nvSpPr>
        <p:spPr>
          <a:xfrm flipV="1">
            <a:off x="40593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0" name=""/>
          <p:cNvSpPr/>
          <p:nvPr/>
        </p:nvSpPr>
        <p:spPr>
          <a:xfrm>
            <a:off x="40593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1" name=""/>
          <p:cNvSpPr/>
          <p:nvPr/>
        </p:nvSpPr>
        <p:spPr>
          <a:xfrm>
            <a:off x="402336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62" name=""/>
          <p:cNvSpPr/>
          <p:nvPr/>
        </p:nvSpPr>
        <p:spPr>
          <a:xfrm flipV="1">
            <a:off x="480384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3" name=""/>
          <p:cNvSpPr/>
          <p:nvPr/>
        </p:nvSpPr>
        <p:spPr>
          <a:xfrm>
            <a:off x="480384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4" name=""/>
          <p:cNvSpPr/>
          <p:nvPr/>
        </p:nvSpPr>
        <p:spPr>
          <a:xfrm>
            <a:off x="476964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965" name=""/>
          <p:cNvSpPr/>
          <p:nvPr/>
        </p:nvSpPr>
        <p:spPr>
          <a:xfrm flipV="1">
            <a:off x="554688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6" name=""/>
          <p:cNvSpPr/>
          <p:nvPr/>
        </p:nvSpPr>
        <p:spPr>
          <a:xfrm>
            <a:off x="554688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7" name=""/>
          <p:cNvSpPr/>
          <p:nvPr/>
        </p:nvSpPr>
        <p:spPr>
          <a:xfrm>
            <a:off x="551268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968" name=""/>
          <p:cNvSpPr/>
          <p:nvPr/>
        </p:nvSpPr>
        <p:spPr>
          <a:xfrm flipV="1">
            <a:off x="62913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9" name=""/>
          <p:cNvSpPr/>
          <p:nvPr/>
        </p:nvSpPr>
        <p:spPr>
          <a:xfrm>
            <a:off x="62913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6223320" y="541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971" name=""/>
          <p:cNvSpPr/>
          <p:nvPr/>
        </p:nvSpPr>
        <p:spPr>
          <a:xfrm>
            <a:off x="2579760" y="5372280"/>
            <a:ext cx="349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2" name=""/>
          <p:cNvSpPr/>
          <p:nvPr/>
        </p:nvSpPr>
        <p:spPr>
          <a:xfrm flipH="1">
            <a:off x="6248160" y="5372280"/>
            <a:ext cx="4284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3" name=""/>
          <p:cNvSpPr/>
          <p:nvPr/>
        </p:nvSpPr>
        <p:spPr>
          <a:xfrm>
            <a:off x="241524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74" name=""/>
          <p:cNvSpPr/>
          <p:nvPr/>
        </p:nvSpPr>
        <p:spPr>
          <a:xfrm>
            <a:off x="2579760" y="48196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5" name=""/>
          <p:cNvSpPr/>
          <p:nvPr/>
        </p:nvSpPr>
        <p:spPr>
          <a:xfrm flipH="1">
            <a:off x="6248160" y="481968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2311560" y="47512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977" name=""/>
          <p:cNvSpPr/>
          <p:nvPr/>
        </p:nvSpPr>
        <p:spPr>
          <a:xfrm>
            <a:off x="2579760" y="427500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flipH="1">
            <a:off x="6248160" y="427500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2311560" y="4205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1980" name=""/>
          <p:cNvSpPr/>
          <p:nvPr/>
        </p:nvSpPr>
        <p:spPr>
          <a:xfrm>
            <a:off x="2579760" y="372744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1" name=""/>
          <p:cNvSpPr/>
          <p:nvPr/>
        </p:nvSpPr>
        <p:spPr>
          <a:xfrm flipH="1">
            <a:off x="6248160" y="372744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2" name=""/>
          <p:cNvSpPr/>
          <p:nvPr/>
        </p:nvSpPr>
        <p:spPr>
          <a:xfrm>
            <a:off x="2311560" y="3660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983" name=""/>
          <p:cNvSpPr/>
          <p:nvPr/>
        </p:nvSpPr>
        <p:spPr>
          <a:xfrm>
            <a:off x="2579760" y="318276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4" name=""/>
          <p:cNvSpPr/>
          <p:nvPr/>
        </p:nvSpPr>
        <p:spPr>
          <a:xfrm flipH="1">
            <a:off x="6248160" y="318276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5" name=""/>
          <p:cNvSpPr/>
          <p:nvPr/>
        </p:nvSpPr>
        <p:spPr>
          <a:xfrm>
            <a:off x="2311560" y="311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986" name=""/>
          <p:cNvSpPr/>
          <p:nvPr/>
        </p:nvSpPr>
        <p:spPr>
          <a:xfrm>
            <a:off x="2579760" y="263988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7" name=""/>
          <p:cNvSpPr/>
          <p:nvPr/>
        </p:nvSpPr>
        <p:spPr>
          <a:xfrm flipH="1">
            <a:off x="6248160" y="263988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8" name=""/>
          <p:cNvSpPr/>
          <p:nvPr/>
        </p:nvSpPr>
        <p:spPr>
          <a:xfrm>
            <a:off x="2415240" y="2570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89" name=""/>
          <p:cNvSpPr/>
          <p:nvPr/>
        </p:nvSpPr>
        <p:spPr>
          <a:xfrm>
            <a:off x="2579760" y="23670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0" name=""/>
          <p:cNvSpPr/>
          <p:nvPr/>
        </p:nvSpPr>
        <p:spPr>
          <a:xfrm flipH="1">
            <a:off x="6248160" y="236700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2311560" y="229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992" name=""/>
          <p:cNvSpPr/>
          <p:nvPr/>
        </p:nvSpPr>
        <p:spPr>
          <a:xfrm>
            <a:off x="2579760" y="4089240"/>
            <a:ext cx="982440" cy="1283040"/>
          </a:xfrm>
          <a:custGeom>
            <a:avLst/>
            <a:gdLst/>
            <a:ahLst/>
            <a:rect l="l" t="t" r="r" b="b"/>
            <a:pathLst>
              <a:path w="619" h="808">
                <a:moveTo>
                  <a:pt x="0" y="808"/>
                </a:moveTo>
                <a:lnTo>
                  <a:pt x="0" y="797"/>
                </a:lnTo>
                <a:lnTo>
                  <a:pt x="6" y="786"/>
                </a:lnTo>
                <a:lnTo>
                  <a:pt x="10" y="774"/>
                </a:lnTo>
                <a:lnTo>
                  <a:pt x="16" y="764"/>
                </a:lnTo>
                <a:lnTo>
                  <a:pt x="22" y="752"/>
                </a:lnTo>
                <a:lnTo>
                  <a:pt x="27" y="741"/>
                </a:lnTo>
                <a:lnTo>
                  <a:pt x="27" y="731"/>
                </a:lnTo>
                <a:lnTo>
                  <a:pt x="33" y="719"/>
                </a:lnTo>
                <a:lnTo>
                  <a:pt x="37" y="708"/>
                </a:lnTo>
                <a:lnTo>
                  <a:pt x="43" y="697"/>
                </a:lnTo>
                <a:lnTo>
                  <a:pt x="48" y="686"/>
                </a:lnTo>
                <a:lnTo>
                  <a:pt x="54" y="675"/>
                </a:lnTo>
                <a:lnTo>
                  <a:pt x="60" y="664"/>
                </a:lnTo>
                <a:lnTo>
                  <a:pt x="60" y="658"/>
                </a:lnTo>
                <a:lnTo>
                  <a:pt x="64" y="647"/>
                </a:lnTo>
                <a:lnTo>
                  <a:pt x="70" y="636"/>
                </a:lnTo>
                <a:lnTo>
                  <a:pt x="75" y="625"/>
                </a:lnTo>
                <a:lnTo>
                  <a:pt x="81" y="615"/>
                </a:lnTo>
                <a:lnTo>
                  <a:pt x="87" y="603"/>
                </a:lnTo>
                <a:lnTo>
                  <a:pt x="87" y="592"/>
                </a:lnTo>
                <a:lnTo>
                  <a:pt x="91" y="586"/>
                </a:lnTo>
                <a:lnTo>
                  <a:pt x="97" y="576"/>
                </a:lnTo>
                <a:lnTo>
                  <a:pt x="102" y="564"/>
                </a:lnTo>
                <a:lnTo>
                  <a:pt x="108" y="554"/>
                </a:lnTo>
                <a:lnTo>
                  <a:pt x="114" y="542"/>
                </a:lnTo>
                <a:lnTo>
                  <a:pt x="118" y="531"/>
                </a:lnTo>
                <a:lnTo>
                  <a:pt x="118" y="525"/>
                </a:lnTo>
                <a:lnTo>
                  <a:pt x="124" y="515"/>
                </a:lnTo>
                <a:lnTo>
                  <a:pt x="129" y="503"/>
                </a:lnTo>
                <a:lnTo>
                  <a:pt x="135" y="493"/>
                </a:lnTo>
                <a:lnTo>
                  <a:pt x="140" y="487"/>
                </a:lnTo>
                <a:lnTo>
                  <a:pt x="146" y="476"/>
                </a:lnTo>
                <a:lnTo>
                  <a:pt x="151" y="464"/>
                </a:lnTo>
                <a:lnTo>
                  <a:pt x="151" y="454"/>
                </a:lnTo>
                <a:lnTo>
                  <a:pt x="156" y="448"/>
                </a:lnTo>
                <a:lnTo>
                  <a:pt x="162" y="437"/>
                </a:lnTo>
                <a:lnTo>
                  <a:pt x="167" y="426"/>
                </a:lnTo>
                <a:lnTo>
                  <a:pt x="173" y="420"/>
                </a:lnTo>
                <a:lnTo>
                  <a:pt x="178" y="409"/>
                </a:lnTo>
                <a:lnTo>
                  <a:pt x="178" y="403"/>
                </a:lnTo>
                <a:lnTo>
                  <a:pt x="183" y="393"/>
                </a:lnTo>
                <a:lnTo>
                  <a:pt x="189" y="381"/>
                </a:lnTo>
                <a:lnTo>
                  <a:pt x="194" y="376"/>
                </a:lnTo>
                <a:lnTo>
                  <a:pt x="200" y="365"/>
                </a:lnTo>
                <a:lnTo>
                  <a:pt x="204" y="360"/>
                </a:lnTo>
                <a:lnTo>
                  <a:pt x="210" y="348"/>
                </a:lnTo>
                <a:lnTo>
                  <a:pt x="210" y="342"/>
                </a:lnTo>
                <a:lnTo>
                  <a:pt x="216" y="332"/>
                </a:lnTo>
                <a:lnTo>
                  <a:pt x="221" y="326"/>
                </a:lnTo>
                <a:lnTo>
                  <a:pt x="227" y="315"/>
                </a:lnTo>
                <a:lnTo>
                  <a:pt x="231" y="310"/>
                </a:lnTo>
                <a:lnTo>
                  <a:pt x="237" y="304"/>
                </a:lnTo>
                <a:lnTo>
                  <a:pt x="243" y="293"/>
                </a:lnTo>
                <a:lnTo>
                  <a:pt x="243" y="287"/>
                </a:lnTo>
                <a:lnTo>
                  <a:pt x="248" y="277"/>
                </a:lnTo>
                <a:lnTo>
                  <a:pt x="254" y="271"/>
                </a:lnTo>
                <a:lnTo>
                  <a:pt x="258" y="265"/>
                </a:lnTo>
                <a:lnTo>
                  <a:pt x="264" y="260"/>
                </a:lnTo>
                <a:lnTo>
                  <a:pt x="269" y="249"/>
                </a:lnTo>
                <a:lnTo>
                  <a:pt x="269" y="244"/>
                </a:lnTo>
                <a:lnTo>
                  <a:pt x="275" y="238"/>
                </a:lnTo>
                <a:lnTo>
                  <a:pt x="281" y="232"/>
                </a:lnTo>
                <a:lnTo>
                  <a:pt x="285" y="221"/>
                </a:lnTo>
                <a:lnTo>
                  <a:pt x="291" y="216"/>
                </a:lnTo>
                <a:lnTo>
                  <a:pt x="296" y="210"/>
                </a:lnTo>
                <a:lnTo>
                  <a:pt x="302" y="205"/>
                </a:lnTo>
                <a:lnTo>
                  <a:pt x="302" y="199"/>
                </a:lnTo>
                <a:lnTo>
                  <a:pt x="308" y="193"/>
                </a:lnTo>
                <a:lnTo>
                  <a:pt x="312" y="188"/>
                </a:lnTo>
                <a:lnTo>
                  <a:pt x="318" y="183"/>
                </a:lnTo>
                <a:lnTo>
                  <a:pt x="323" y="177"/>
                </a:lnTo>
                <a:lnTo>
                  <a:pt x="329" y="171"/>
                </a:lnTo>
                <a:lnTo>
                  <a:pt x="334" y="166"/>
                </a:lnTo>
                <a:lnTo>
                  <a:pt x="334" y="160"/>
                </a:lnTo>
                <a:lnTo>
                  <a:pt x="340" y="155"/>
                </a:lnTo>
                <a:lnTo>
                  <a:pt x="345" y="149"/>
                </a:lnTo>
                <a:lnTo>
                  <a:pt x="350" y="144"/>
                </a:lnTo>
                <a:lnTo>
                  <a:pt x="356" y="138"/>
                </a:lnTo>
                <a:lnTo>
                  <a:pt x="361" y="132"/>
                </a:lnTo>
                <a:lnTo>
                  <a:pt x="361" y="126"/>
                </a:lnTo>
                <a:lnTo>
                  <a:pt x="372" y="122"/>
                </a:lnTo>
                <a:lnTo>
                  <a:pt x="377" y="116"/>
                </a:lnTo>
                <a:lnTo>
                  <a:pt x="383" y="110"/>
                </a:lnTo>
                <a:lnTo>
                  <a:pt x="388" y="105"/>
                </a:lnTo>
                <a:lnTo>
                  <a:pt x="394" y="99"/>
                </a:lnTo>
                <a:lnTo>
                  <a:pt x="399" y="94"/>
                </a:lnTo>
                <a:lnTo>
                  <a:pt x="404" y="89"/>
                </a:lnTo>
                <a:lnTo>
                  <a:pt x="410" y="89"/>
                </a:lnTo>
                <a:lnTo>
                  <a:pt x="415" y="83"/>
                </a:lnTo>
                <a:lnTo>
                  <a:pt x="421" y="77"/>
                </a:lnTo>
                <a:lnTo>
                  <a:pt x="425" y="71"/>
                </a:lnTo>
                <a:lnTo>
                  <a:pt x="431" y="71"/>
                </a:lnTo>
                <a:lnTo>
                  <a:pt x="437" y="66"/>
                </a:lnTo>
                <a:lnTo>
                  <a:pt x="442" y="66"/>
                </a:lnTo>
                <a:lnTo>
                  <a:pt x="448" y="61"/>
                </a:lnTo>
                <a:lnTo>
                  <a:pt x="452" y="55"/>
                </a:lnTo>
                <a:lnTo>
                  <a:pt x="458" y="55"/>
                </a:lnTo>
                <a:lnTo>
                  <a:pt x="464" y="49"/>
                </a:lnTo>
                <a:lnTo>
                  <a:pt x="469" y="49"/>
                </a:lnTo>
                <a:lnTo>
                  <a:pt x="475" y="49"/>
                </a:lnTo>
                <a:lnTo>
                  <a:pt x="479" y="44"/>
                </a:lnTo>
                <a:lnTo>
                  <a:pt x="485" y="38"/>
                </a:lnTo>
                <a:lnTo>
                  <a:pt x="490" y="38"/>
                </a:lnTo>
                <a:lnTo>
                  <a:pt x="496" y="38"/>
                </a:lnTo>
                <a:lnTo>
                  <a:pt x="502" y="33"/>
                </a:lnTo>
                <a:lnTo>
                  <a:pt x="506" y="33"/>
                </a:lnTo>
                <a:lnTo>
                  <a:pt x="512" y="28"/>
                </a:lnTo>
                <a:lnTo>
                  <a:pt x="517" y="28"/>
                </a:lnTo>
                <a:lnTo>
                  <a:pt x="523" y="28"/>
                </a:lnTo>
                <a:lnTo>
                  <a:pt x="529" y="22"/>
                </a:lnTo>
                <a:lnTo>
                  <a:pt x="533" y="22"/>
                </a:lnTo>
                <a:lnTo>
                  <a:pt x="539" y="22"/>
                </a:lnTo>
                <a:lnTo>
                  <a:pt x="544" y="16"/>
                </a:lnTo>
                <a:lnTo>
                  <a:pt x="550" y="16"/>
                </a:lnTo>
                <a:lnTo>
                  <a:pt x="555" y="16"/>
                </a:lnTo>
                <a:lnTo>
                  <a:pt x="561" y="16"/>
                </a:lnTo>
                <a:lnTo>
                  <a:pt x="566" y="16"/>
                </a:lnTo>
                <a:lnTo>
                  <a:pt x="571" y="10"/>
                </a:lnTo>
                <a:lnTo>
                  <a:pt x="577" y="10"/>
                </a:lnTo>
                <a:lnTo>
                  <a:pt x="582" y="10"/>
                </a:lnTo>
                <a:lnTo>
                  <a:pt x="588" y="10"/>
                </a:lnTo>
                <a:lnTo>
                  <a:pt x="593" y="5"/>
                </a:lnTo>
                <a:lnTo>
                  <a:pt x="598" y="5"/>
                </a:lnTo>
                <a:lnTo>
                  <a:pt x="604" y="5"/>
                </a:lnTo>
                <a:lnTo>
                  <a:pt x="609" y="5"/>
                </a:lnTo>
                <a:lnTo>
                  <a:pt x="615" y="5"/>
                </a:lnTo>
                <a:lnTo>
                  <a:pt x="619"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562200" y="3517920"/>
            <a:ext cx="1087560" cy="571320"/>
          </a:xfrm>
          <a:custGeom>
            <a:avLst/>
            <a:gdLst/>
            <a:ahLst/>
            <a:rect l="l" t="t" r="r" b="b"/>
            <a:pathLst>
              <a:path w="685" h="360">
                <a:moveTo>
                  <a:pt x="0" y="360"/>
                </a:moveTo>
                <a:lnTo>
                  <a:pt x="6" y="360"/>
                </a:lnTo>
                <a:lnTo>
                  <a:pt x="12" y="360"/>
                </a:lnTo>
                <a:lnTo>
                  <a:pt x="17" y="360"/>
                </a:lnTo>
                <a:lnTo>
                  <a:pt x="23" y="354"/>
                </a:lnTo>
                <a:lnTo>
                  <a:pt x="27" y="354"/>
                </a:lnTo>
                <a:lnTo>
                  <a:pt x="33" y="354"/>
                </a:lnTo>
                <a:lnTo>
                  <a:pt x="39" y="354"/>
                </a:lnTo>
                <a:lnTo>
                  <a:pt x="44" y="354"/>
                </a:lnTo>
                <a:lnTo>
                  <a:pt x="50" y="349"/>
                </a:lnTo>
                <a:lnTo>
                  <a:pt x="54" y="349"/>
                </a:lnTo>
                <a:lnTo>
                  <a:pt x="60" y="349"/>
                </a:lnTo>
                <a:lnTo>
                  <a:pt x="65" y="349"/>
                </a:lnTo>
                <a:lnTo>
                  <a:pt x="71" y="343"/>
                </a:lnTo>
                <a:lnTo>
                  <a:pt x="77" y="343"/>
                </a:lnTo>
                <a:lnTo>
                  <a:pt x="81" y="343"/>
                </a:lnTo>
                <a:lnTo>
                  <a:pt x="87" y="337"/>
                </a:lnTo>
                <a:lnTo>
                  <a:pt x="92" y="337"/>
                </a:lnTo>
                <a:lnTo>
                  <a:pt x="98" y="337"/>
                </a:lnTo>
                <a:lnTo>
                  <a:pt x="104" y="337"/>
                </a:lnTo>
                <a:lnTo>
                  <a:pt x="108" y="333"/>
                </a:lnTo>
                <a:lnTo>
                  <a:pt x="114" y="333"/>
                </a:lnTo>
                <a:lnTo>
                  <a:pt x="119" y="327"/>
                </a:lnTo>
                <a:lnTo>
                  <a:pt x="125" y="327"/>
                </a:lnTo>
                <a:lnTo>
                  <a:pt x="131" y="327"/>
                </a:lnTo>
                <a:lnTo>
                  <a:pt x="136" y="321"/>
                </a:lnTo>
                <a:lnTo>
                  <a:pt x="141" y="321"/>
                </a:lnTo>
                <a:lnTo>
                  <a:pt x="146" y="315"/>
                </a:lnTo>
                <a:lnTo>
                  <a:pt x="152" y="315"/>
                </a:lnTo>
                <a:lnTo>
                  <a:pt x="157" y="310"/>
                </a:lnTo>
                <a:lnTo>
                  <a:pt x="163" y="310"/>
                </a:lnTo>
                <a:lnTo>
                  <a:pt x="167" y="304"/>
                </a:lnTo>
                <a:lnTo>
                  <a:pt x="173" y="304"/>
                </a:lnTo>
                <a:lnTo>
                  <a:pt x="179" y="299"/>
                </a:lnTo>
                <a:lnTo>
                  <a:pt x="184" y="299"/>
                </a:lnTo>
                <a:lnTo>
                  <a:pt x="190" y="294"/>
                </a:lnTo>
                <a:lnTo>
                  <a:pt x="194" y="294"/>
                </a:lnTo>
                <a:lnTo>
                  <a:pt x="200" y="288"/>
                </a:lnTo>
                <a:lnTo>
                  <a:pt x="206" y="282"/>
                </a:lnTo>
                <a:lnTo>
                  <a:pt x="211" y="282"/>
                </a:lnTo>
                <a:lnTo>
                  <a:pt x="217" y="276"/>
                </a:lnTo>
                <a:lnTo>
                  <a:pt x="221" y="276"/>
                </a:lnTo>
                <a:lnTo>
                  <a:pt x="227" y="272"/>
                </a:lnTo>
                <a:lnTo>
                  <a:pt x="232" y="266"/>
                </a:lnTo>
                <a:lnTo>
                  <a:pt x="238" y="266"/>
                </a:lnTo>
                <a:lnTo>
                  <a:pt x="244" y="260"/>
                </a:lnTo>
                <a:lnTo>
                  <a:pt x="248" y="260"/>
                </a:lnTo>
                <a:lnTo>
                  <a:pt x="254" y="255"/>
                </a:lnTo>
                <a:lnTo>
                  <a:pt x="259" y="249"/>
                </a:lnTo>
                <a:lnTo>
                  <a:pt x="265" y="243"/>
                </a:lnTo>
                <a:lnTo>
                  <a:pt x="271" y="243"/>
                </a:lnTo>
                <a:lnTo>
                  <a:pt x="275" y="238"/>
                </a:lnTo>
                <a:lnTo>
                  <a:pt x="281" y="233"/>
                </a:lnTo>
                <a:lnTo>
                  <a:pt x="286" y="233"/>
                </a:lnTo>
                <a:lnTo>
                  <a:pt x="292" y="227"/>
                </a:lnTo>
                <a:lnTo>
                  <a:pt x="297" y="221"/>
                </a:lnTo>
                <a:lnTo>
                  <a:pt x="302" y="216"/>
                </a:lnTo>
                <a:lnTo>
                  <a:pt x="308" y="216"/>
                </a:lnTo>
                <a:lnTo>
                  <a:pt x="313" y="211"/>
                </a:lnTo>
                <a:lnTo>
                  <a:pt x="319" y="205"/>
                </a:lnTo>
                <a:lnTo>
                  <a:pt x="324" y="199"/>
                </a:lnTo>
                <a:lnTo>
                  <a:pt x="329" y="199"/>
                </a:lnTo>
                <a:lnTo>
                  <a:pt x="334" y="194"/>
                </a:lnTo>
                <a:lnTo>
                  <a:pt x="340" y="188"/>
                </a:lnTo>
                <a:lnTo>
                  <a:pt x="346" y="188"/>
                </a:lnTo>
                <a:lnTo>
                  <a:pt x="351" y="178"/>
                </a:lnTo>
                <a:lnTo>
                  <a:pt x="357" y="178"/>
                </a:lnTo>
                <a:lnTo>
                  <a:pt x="361" y="172"/>
                </a:lnTo>
                <a:lnTo>
                  <a:pt x="367" y="166"/>
                </a:lnTo>
                <a:lnTo>
                  <a:pt x="373" y="166"/>
                </a:lnTo>
                <a:lnTo>
                  <a:pt x="378" y="160"/>
                </a:lnTo>
                <a:lnTo>
                  <a:pt x="384" y="155"/>
                </a:lnTo>
                <a:lnTo>
                  <a:pt x="388" y="150"/>
                </a:lnTo>
                <a:lnTo>
                  <a:pt x="394" y="150"/>
                </a:lnTo>
                <a:lnTo>
                  <a:pt x="399" y="144"/>
                </a:lnTo>
                <a:lnTo>
                  <a:pt x="405" y="139"/>
                </a:lnTo>
                <a:lnTo>
                  <a:pt x="411" y="133"/>
                </a:lnTo>
                <a:lnTo>
                  <a:pt x="415" y="133"/>
                </a:lnTo>
                <a:lnTo>
                  <a:pt x="421" y="127"/>
                </a:lnTo>
                <a:lnTo>
                  <a:pt x="426" y="121"/>
                </a:lnTo>
                <a:lnTo>
                  <a:pt x="432" y="121"/>
                </a:lnTo>
                <a:lnTo>
                  <a:pt x="438" y="117"/>
                </a:lnTo>
                <a:lnTo>
                  <a:pt x="442" y="111"/>
                </a:lnTo>
                <a:lnTo>
                  <a:pt x="448" y="111"/>
                </a:lnTo>
                <a:lnTo>
                  <a:pt x="453" y="105"/>
                </a:lnTo>
                <a:lnTo>
                  <a:pt x="459" y="100"/>
                </a:lnTo>
                <a:lnTo>
                  <a:pt x="464" y="100"/>
                </a:lnTo>
                <a:lnTo>
                  <a:pt x="469" y="94"/>
                </a:lnTo>
                <a:lnTo>
                  <a:pt x="475" y="89"/>
                </a:lnTo>
                <a:lnTo>
                  <a:pt x="480" y="89"/>
                </a:lnTo>
                <a:lnTo>
                  <a:pt x="486" y="84"/>
                </a:lnTo>
                <a:lnTo>
                  <a:pt x="491" y="84"/>
                </a:lnTo>
                <a:lnTo>
                  <a:pt x="496" y="78"/>
                </a:lnTo>
                <a:lnTo>
                  <a:pt x="502" y="72"/>
                </a:lnTo>
                <a:lnTo>
                  <a:pt x="507" y="72"/>
                </a:lnTo>
                <a:lnTo>
                  <a:pt x="513" y="66"/>
                </a:lnTo>
                <a:lnTo>
                  <a:pt x="518" y="66"/>
                </a:lnTo>
                <a:lnTo>
                  <a:pt x="523" y="66"/>
                </a:lnTo>
                <a:lnTo>
                  <a:pt x="528" y="61"/>
                </a:lnTo>
                <a:lnTo>
                  <a:pt x="534" y="56"/>
                </a:lnTo>
                <a:lnTo>
                  <a:pt x="540" y="56"/>
                </a:lnTo>
                <a:lnTo>
                  <a:pt x="545" y="50"/>
                </a:lnTo>
                <a:lnTo>
                  <a:pt x="551" y="50"/>
                </a:lnTo>
                <a:lnTo>
                  <a:pt x="555" y="50"/>
                </a:lnTo>
                <a:lnTo>
                  <a:pt x="561" y="45"/>
                </a:lnTo>
                <a:lnTo>
                  <a:pt x="567" y="45"/>
                </a:lnTo>
                <a:lnTo>
                  <a:pt x="572" y="39"/>
                </a:lnTo>
                <a:lnTo>
                  <a:pt x="578" y="39"/>
                </a:lnTo>
                <a:lnTo>
                  <a:pt x="582" y="39"/>
                </a:lnTo>
                <a:lnTo>
                  <a:pt x="588" y="33"/>
                </a:lnTo>
                <a:lnTo>
                  <a:pt x="593" y="33"/>
                </a:lnTo>
                <a:lnTo>
                  <a:pt x="599" y="28"/>
                </a:lnTo>
                <a:lnTo>
                  <a:pt x="605" y="28"/>
                </a:lnTo>
                <a:lnTo>
                  <a:pt x="609" y="28"/>
                </a:lnTo>
                <a:lnTo>
                  <a:pt x="615" y="23"/>
                </a:lnTo>
                <a:lnTo>
                  <a:pt x="620" y="23"/>
                </a:lnTo>
                <a:lnTo>
                  <a:pt x="626" y="17"/>
                </a:lnTo>
                <a:lnTo>
                  <a:pt x="632" y="17"/>
                </a:lnTo>
                <a:lnTo>
                  <a:pt x="636" y="17"/>
                </a:lnTo>
                <a:lnTo>
                  <a:pt x="642" y="17"/>
                </a:lnTo>
                <a:lnTo>
                  <a:pt x="647" y="11"/>
                </a:lnTo>
                <a:lnTo>
                  <a:pt x="653" y="11"/>
                </a:lnTo>
                <a:lnTo>
                  <a:pt x="658" y="11"/>
                </a:lnTo>
                <a:lnTo>
                  <a:pt x="663" y="5"/>
                </a:lnTo>
                <a:lnTo>
                  <a:pt x="669" y="5"/>
                </a:lnTo>
                <a:lnTo>
                  <a:pt x="674" y="5"/>
                </a:lnTo>
                <a:lnTo>
                  <a:pt x="680" y="5"/>
                </a:lnTo>
                <a:lnTo>
                  <a:pt x="685"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649760" y="3095640"/>
            <a:ext cx="1085760" cy="422280"/>
          </a:xfrm>
          <a:custGeom>
            <a:avLst/>
            <a:gdLst/>
            <a:ahLst/>
            <a:rect l="l" t="t" r="r" b="b"/>
            <a:pathLst>
              <a:path w="684" h="266">
                <a:moveTo>
                  <a:pt x="0" y="266"/>
                </a:moveTo>
                <a:lnTo>
                  <a:pt x="5" y="266"/>
                </a:lnTo>
                <a:lnTo>
                  <a:pt x="10" y="266"/>
                </a:lnTo>
                <a:lnTo>
                  <a:pt x="16" y="266"/>
                </a:lnTo>
                <a:lnTo>
                  <a:pt x="22" y="266"/>
                </a:lnTo>
                <a:lnTo>
                  <a:pt x="27" y="261"/>
                </a:lnTo>
                <a:lnTo>
                  <a:pt x="32" y="261"/>
                </a:lnTo>
                <a:lnTo>
                  <a:pt x="37" y="261"/>
                </a:lnTo>
                <a:lnTo>
                  <a:pt x="43" y="261"/>
                </a:lnTo>
                <a:lnTo>
                  <a:pt x="49" y="255"/>
                </a:lnTo>
                <a:lnTo>
                  <a:pt x="54" y="255"/>
                </a:lnTo>
                <a:lnTo>
                  <a:pt x="59" y="255"/>
                </a:lnTo>
                <a:lnTo>
                  <a:pt x="64" y="255"/>
                </a:lnTo>
                <a:lnTo>
                  <a:pt x="70" y="250"/>
                </a:lnTo>
                <a:lnTo>
                  <a:pt x="75" y="250"/>
                </a:lnTo>
                <a:lnTo>
                  <a:pt x="81" y="250"/>
                </a:lnTo>
                <a:lnTo>
                  <a:pt x="87" y="250"/>
                </a:lnTo>
                <a:lnTo>
                  <a:pt x="91" y="244"/>
                </a:lnTo>
                <a:lnTo>
                  <a:pt x="97" y="244"/>
                </a:lnTo>
                <a:lnTo>
                  <a:pt x="102" y="244"/>
                </a:lnTo>
                <a:lnTo>
                  <a:pt x="108" y="244"/>
                </a:lnTo>
                <a:lnTo>
                  <a:pt x="114" y="244"/>
                </a:lnTo>
                <a:lnTo>
                  <a:pt x="118" y="238"/>
                </a:lnTo>
                <a:lnTo>
                  <a:pt x="124" y="238"/>
                </a:lnTo>
                <a:lnTo>
                  <a:pt x="129" y="238"/>
                </a:lnTo>
                <a:lnTo>
                  <a:pt x="135" y="238"/>
                </a:lnTo>
                <a:lnTo>
                  <a:pt x="140" y="234"/>
                </a:lnTo>
                <a:lnTo>
                  <a:pt x="145" y="234"/>
                </a:lnTo>
                <a:lnTo>
                  <a:pt x="151" y="234"/>
                </a:lnTo>
                <a:lnTo>
                  <a:pt x="156" y="228"/>
                </a:lnTo>
                <a:lnTo>
                  <a:pt x="162" y="228"/>
                </a:lnTo>
                <a:lnTo>
                  <a:pt x="167" y="228"/>
                </a:lnTo>
                <a:lnTo>
                  <a:pt x="172" y="228"/>
                </a:lnTo>
                <a:lnTo>
                  <a:pt x="177" y="222"/>
                </a:lnTo>
                <a:lnTo>
                  <a:pt x="183" y="222"/>
                </a:lnTo>
                <a:lnTo>
                  <a:pt x="189" y="222"/>
                </a:lnTo>
                <a:lnTo>
                  <a:pt x="194" y="216"/>
                </a:lnTo>
                <a:lnTo>
                  <a:pt x="199" y="216"/>
                </a:lnTo>
                <a:lnTo>
                  <a:pt x="204" y="216"/>
                </a:lnTo>
                <a:lnTo>
                  <a:pt x="210" y="211"/>
                </a:lnTo>
                <a:lnTo>
                  <a:pt x="216" y="211"/>
                </a:lnTo>
                <a:lnTo>
                  <a:pt x="221" y="211"/>
                </a:lnTo>
                <a:lnTo>
                  <a:pt x="226" y="205"/>
                </a:lnTo>
                <a:lnTo>
                  <a:pt x="231" y="205"/>
                </a:lnTo>
                <a:lnTo>
                  <a:pt x="237" y="205"/>
                </a:lnTo>
                <a:lnTo>
                  <a:pt x="242" y="200"/>
                </a:lnTo>
                <a:lnTo>
                  <a:pt x="248" y="200"/>
                </a:lnTo>
                <a:lnTo>
                  <a:pt x="253" y="195"/>
                </a:lnTo>
                <a:lnTo>
                  <a:pt x="258" y="195"/>
                </a:lnTo>
                <a:lnTo>
                  <a:pt x="264" y="195"/>
                </a:lnTo>
                <a:lnTo>
                  <a:pt x="269" y="189"/>
                </a:lnTo>
                <a:lnTo>
                  <a:pt x="275" y="189"/>
                </a:lnTo>
                <a:lnTo>
                  <a:pt x="281" y="183"/>
                </a:lnTo>
                <a:lnTo>
                  <a:pt x="285" y="183"/>
                </a:lnTo>
                <a:lnTo>
                  <a:pt x="291" y="177"/>
                </a:lnTo>
                <a:lnTo>
                  <a:pt x="296" y="177"/>
                </a:lnTo>
                <a:lnTo>
                  <a:pt x="302" y="173"/>
                </a:lnTo>
                <a:lnTo>
                  <a:pt x="307" y="173"/>
                </a:lnTo>
                <a:lnTo>
                  <a:pt x="312" y="167"/>
                </a:lnTo>
                <a:lnTo>
                  <a:pt x="318" y="167"/>
                </a:lnTo>
                <a:lnTo>
                  <a:pt x="323" y="167"/>
                </a:lnTo>
                <a:lnTo>
                  <a:pt x="329" y="161"/>
                </a:lnTo>
                <a:lnTo>
                  <a:pt x="334" y="155"/>
                </a:lnTo>
                <a:lnTo>
                  <a:pt x="339" y="155"/>
                </a:lnTo>
                <a:lnTo>
                  <a:pt x="345" y="155"/>
                </a:lnTo>
                <a:lnTo>
                  <a:pt x="350" y="150"/>
                </a:lnTo>
                <a:lnTo>
                  <a:pt x="356" y="150"/>
                </a:lnTo>
                <a:lnTo>
                  <a:pt x="361" y="144"/>
                </a:lnTo>
                <a:lnTo>
                  <a:pt x="366" y="139"/>
                </a:lnTo>
                <a:lnTo>
                  <a:pt x="371" y="139"/>
                </a:lnTo>
                <a:lnTo>
                  <a:pt x="377" y="139"/>
                </a:lnTo>
                <a:lnTo>
                  <a:pt x="383" y="134"/>
                </a:lnTo>
                <a:lnTo>
                  <a:pt x="388" y="134"/>
                </a:lnTo>
                <a:lnTo>
                  <a:pt x="393" y="128"/>
                </a:lnTo>
                <a:lnTo>
                  <a:pt x="398" y="122"/>
                </a:lnTo>
                <a:lnTo>
                  <a:pt x="404" y="122"/>
                </a:lnTo>
                <a:lnTo>
                  <a:pt x="410" y="116"/>
                </a:lnTo>
                <a:lnTo>
                  <a:pt x="415" y="116"/>
                </a:lnTo>
                <a:lnTo>
                  <a:pt x="420" y="116"/>
                </a:lnTo>
                <a:lnTo>
                  <a:pt x="425" y="112"/>
                </a:lnTo>
                <a:lnTo>
                  <a:pt x="431" y="106"/>
                </a:lnTo>
                <a:lnTo>
                  <a:pt x="436" y="106"/>
                </a:lnTo>
                <a:lnTo>
                  <a:pt x="442" y="100"/>
                </a:lnTo>
                <a:lnTo>
                  <a:pt x="447" y="100"/>
                </a:lnTo>
                <a:lnTo>
                  <a:pt x="452" y="95"/>
                </a:lnTo>
                <a:lnTo>
                  <a:pt x="458" y="95"/>
                </a:lnTo>
                <a:lnTo>
                  <a:pt x="463" y="89"/>
                </a:lnTo>
                <a:lnTo>
                  <a:pt x="469" y="89"/>
                </a:lnTo>
                <a:lnTo>
                  <a:pt x="473" y="83"/>
                </a:lnTo>
                <a:lnTo>
                  <a:pt x="479" y="83"/>
                </a:lnTo>
                <a:lnTo>
                  <a:pt x="485" y="78"/>
                </a:lnTo>
                <a:lnTo>
                  <a:pt x="490" y="78"/>
                </a:lnTo>
                <a:lnTo>
                  <a:pt x="496" y="73"/>
                </a:lnTo>
                <a:lnTo>
                  <a:pt x="502" y="73"/>
                </a:lnTo>
                <a:lnTo>
                  <a:pt x="506" y="67"/>
                </a:lnTo>
                <a:lnTo>
                  <a:pt x="512" y="67"/>
                </a:lnTo>
                <a:lnTo>
                  <a:pt x="517" y="61"/>
                </a:lnTo>
                <a:lnTo>
                  <a:pt x="523" y="61"/>
                </a:lnTo>
                <a:lnTo>
                  <a:pt x="528" y="55"/>
                </a:lnTo>
                <a:lnTo>
                  <a:pt x="533" y="55"/>
                </a:lnTo>
                <a:lnTo>
                  <a:pt x="538" y="55"/>
                </a:lnTo>
                <a:lnTo>
                  <a:pt x="544" y="51"/>
                </a:lnTo>
                <a:lnTo>
                  <a:pt x="550" y="51"/>
                </a:lnTo>
                <a:lnTo>
                  <a:pt x="555" y="45"/>
                </a:lnTo>
                <a:lnTo>
                  <a:pt x="560" y="45"/>
                </a:lnTo>
                <a:lnTo>
                  <a:pt x="565" y="39"/>
                </a:lnTo>
                <a:lnTo>
                  <a:pt x="571" y="39"/>
                </a:lnTo>
                <a:lnTo>
                  <a:pt x="577" y="34"/>
                </a:lnTo>
                <a:lnTo>
                  <a:pt x="582" y="34"/>
                </a:lnTo>
                <a:lnTo>
                  <a:pt x="587" y="34"/>
                </a:lnTo>
                <a:lnTo>
                  <a:pt x="592" y="28"/>
                </a:lnTo>
                <a:lnTo>
                  <a:pt x="598" y="28"/>
                </a:lnTo>
                <a:lnTo>
                  <a:pt x="604" y="28"/>
                </a:lnTo>
                <a:lnTo>
                  <a:pt x="609" y="22"/>
                </a:lnTo>
                <a:lnTo>
                  <a:pt x="614" y="22"/>
                </a:lnTo>
                <a:lnTo>
                  <a:pt x="619" y="22"/>
                </a:lnTo>
                <a:lnTo>
                  <a:pt x="625" y="17"/>
                </a:lnTo>
                <a:lnTo>
                  <a:pt x="630" y="17"/>
                </a:lnTo>
                <a:lnTo>
                  <a:pt x="636" y="12"/>
                </a:lnTo>
                <a:lnTo>
                  <a:pt x="640" y="12"/>
                </a:lnTo>
                <a:lnTo>
                  <a:pt x="646" y="12"/>
                </a:lnTo>
                <a:lnTo>
                  <a:pt x="652" y="12"/>
                </a:lnTo>
                <a:lnTo>
                  <a:pt x="657" y="6"/>
                </a:lnTo>
                <a:lnTo>
                  <a:pt x="663" y="6"/>
                </a:lnTo>
                <a:lnTo>
                  <a:pt x="667" y="6"/>
                </a:lnTo>
                <a:lnTo>
                  <a:pt x="673" y="0"/>
                </a:lnTo>
                <a:lnTo>
                  <a:pt x="679" y="0"/>
                </a:lnTo>
                <a:lnTo>
                  <a:pt x="684"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735520" y="2946240"/>
            <a:ext cx="555840" cy="149400"/>
          </a:xfrm>
          <a:custGeom>
            <a:avLst/>
            <a:gdLst/>
            <a:ahLst/>
            <a:rect l="l" t="t" r="r" b="b"/>
            <a:pathLst>
              <a:path w="350" h="94">
                <a:moveTo>
                  <a:pt x="0" y="94"/>
                </a:moveTo>
                <a:lnTo>
                  <a:pt x="6" y="94"/>
                </a:lnTo>
                <a:lnTo>
                  <a:pt x="11" y="89"/>
                </a:lnTo>
                <a:lnTo>
                  <a:pt x="16" y="89"/>
                </a:lnTo>
                <a:lnTo>
                  <a:pt x="21" y="89"/>
                </a:lnTo>
                <a:lnTo>
                  <a:pt x="27" y="89"/>
                </a:lnTo>
                <a:lnTo>
                  <a:pt x="33" y="84"/>
                </a:lnTo>
                <a:lnTo>
                  <a:pt x="38" y="84"/>
                </a:lnTo>
                <a:lnTo>
                  <a:pt x="43" y="84"/>
                </a:lnTo>
                <a:lnTo>
                  <a:pt x="48" y="84"/>
                </a:lnTo>
                <a:lnTo>
                  <a:pt x="54" y="78"/>
                </a:lnTo>
                <a:lnTo>
                  <a:pt x="60" y="78"/>
                </a:lnTo>
                <a:lnTo>
                  <a:pt x="65" y="78"/>
                </a:lnTo>
                <a:lnTo>
                  <a:pt x="70" y="78"/>
                </a:lnTo>
                <a:lnTo>
                  <a:pt x="75" y="78"/>
                </a:lnTo>
                <a:lnTo>
                  <a:pt x="81" y="73"/>
                </a:lnTo>
                <a:lnTo>
                  <a:pt x="86" y="73"/>
                </a:lnTo>
                <a:lnTo>
                  <a:pt x="92" y="73"/>
                </a:lnTo>
                <a:lnTo>
                  <a:pt x="97" y="73"/>
                </a:lnTo>
                <a:lnTo>
                  <a:pt x="102" y="67"/>
                </a:lnTo>
                <a:lnTo>
                  <a:pt x="108" y="67"/>
                </a:lnTo>
                <a:lnTo>
                  <a:pt x="113" y="67"/>
                </a:lnTo>
                <a:lnTo>
                  <a:pt x="119" y="67"/>
                </a:lnTo>
                <a:lnTo>
                  <a:pt x="123" y="67"/>
                </a:lnTo>
                <a:lnTo>
                  <a:pt x="129" y="67"/>
                </a:lnTo>
                <a:lnTo>
                  <a:pt x="135" y="61"/>
                </a:lnTo>
                <a:lnTo>
                  <a:pt x="140" y="61"/>
                </a:lnTo>
                <a:lnTo>
                  <a:pt x="146" y="61"/>
                </a:lnTo>
                <a:lnTo>
                  <a:pt x="150" y="61"/>
                </a:lnTo>
                <a:lnTo>
                  <a:pt x="156" y="55"/>
                </a:lnTo>
                <a:lnTo>
                  <a:pt x="161" y="55"/>
                </a:lnTo>
                <a:lnTo>
                  <a:pt x="167" y="55"/>
                </a:lnTo>
                <a:lnTo>
                  <a:pt x="173" y="55"/>
                </a:lnTo>
                <a:lnTo>
                  <a:pt x="177" y="55"/>
                </a:lnTo>
                <a:lnTo>
                  <a:pt x="183" y="51"/>
                </a:lnTo>
                <a:lnTo>
                  <a:pt x="188" y="51"/>
                </a:lnTo>
                <a:lnTo>
                  <a:pt x="194" y="51"/>
                </a:lnTo>
                <a:lnTo>
                  <a:pt x="200" y="51"/>
                </a:lnTo>
                <a:lnTo>
                  <a:pt x="204" y="45"/>
                </a:lnTo>
                <a:lnTo>
                  <a:pt x="210" y="45"/>
                </a:lnTo>
                <a:lnTo>
                  <a:pt x="215" y="45"/>
                </a:lnTo>
                <a:lnTo>
                  <a:pt x="221" y="45"/>
                </a:lnTo>
                <a:lnTo>
                  <a:pt x="226" y="39"/>
                </a:lnTo>
                <a:lnTo>
                  <a:pt x="232" y="39"/>
                </a:lnTo>
                <a:lnTo>
                  <a:pt x="236" y="39"/>
                </a:lnTo>
                <a:lnTo>
                  <a:pt x="242" y="39"/>
                </a:lnTo>
                <a:lnTo>
                  <a:pt x="248" y="34"/>
                </a:lnTo>
                <a:lnTo>
                  <a:pt x="253" y="34"/>
                </a:lnTo>
                <a:lnTo>
                  <a:pt x="259" y="34"/>
                </a:lnTo>
                <a:lnTo>
                  <a:pt x="263" y="28"/>
                </a:lnTo>
                <a:lnTo>
                  <a:pt x="269" y="28"/>
                </a:lnTo>
                <a:lnTo>
                  <a:pt x="275" y="28"/>
                </a:lnTo>
                <a:lnTo>
                  <a:pt x="280" y="28"/>
                </a:lnTo>
                <a:lnTo>
                  <a:pt x="286" y="23"/>
                </a:lnTo>
                <a:lnTo>
                  <a:pt x="290" y="23"/>
                </a:lnTo>
                <a:lnTo>
                  <a:pt x="296" y="23"/>
                </a:lnTo>
                <a:lnTo>
                  <a:pt x="302" y="18"/>
                </a:lnTo>
                <a:lnTo>
                  <a:pt x="307" y="18"/>
                </a:lnTo>
                <a:lnTo>
                  <a:pt x="313" y="18"/>
                </a:lnTo>
                <a:lnTo>
                  <a:pt x="317" y="12"/>
                </a:lnTo>
                <a:lnTo>
                  <a:pt x="323" y="12"/>
                </a:lnTo>
                <a:lnTo>
                  <a:pt x="328" y="12"/>
                </a:lnTo>
                <a:lnTo>
                  <a:pt x="334" y="6"/>
                </a:lnTo>
                <a:lnTo>
                  <a:pt x="340" y="6"/>
                </a:lnTo>
                <a:lnTo>
                  <a:pt x="344" y="6"/>
                </a:lnTo>
                <a:lnTo>
                  <a:pt x="350" y="0"/>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2570040" y="4354560"/>
            <a:ext cx="974880" cy="1017720"/>
          </a:xfrm>
          <a:custGeom>
            <a:avLst/>
            <a:gdLst/>
            <a:ahLst/>
            <a:rect l="l" t="t" r="r" b="b"/>
            <a:pathLst>
              <a:path w="6175" h="6420">
                <a:moveTo>
                  <a:pt x="123" y="6420"/>
                </a:moveTo>
                <a:lnTo>
                  <a:pt x="66" y="6420"/>
                </a:lnTo>
                <a:cubicBezTo>
                  <a:pt x="0" y="6420"/>
                  <a:pt x="0" y="6320"/>
                  <a:pt x="66" y="6320"/>
                </a:cubicBezTo>
                <a:lnTo>
                  <a:pt x="123" y="6320"/>
                </a:lnTo>
                <a:lnTo>
                  <a:pt x="168" y="6320"/>
                </a:lnTo>
                <a:lnTo>
                  <a:pt x="136" y="6332"/>
                </a:lnTo>
                <a:lnTo>
                  <a:pt x="193" y="6286"/>
                </a:lnTo>
                <a:lnTo>
                  <a:pt x="245" y="6232"/>
                </a:lnTo>
                <a:lnTo>
                  <a:pt x="301" y="6174"/>
                </a:lnTo>
                <a:lnTo>
                  <a:pt x="287" y="6209"/>
                </a:lnTo>
                <a:lnTo>
                  <a:pt x="287" y="6201"/>
                </a:lnTo>
                <a:lnTo>
                  <a:pt x="387" y="6201"/>
                </a:lnTo>
                <a:lnTo>
                  <a:pt x="387" y="6209"/>
                </a:lnTo>
                <a:cubicBezTo>
                  <a:pt x="387" y="6222"/>
                  <a:pt x="382" y="6235"/>
                  <a:pt x="373" y="6244"/>
                </a:cubicBezTo>
                <a:lnTo>
                  <a:pt x="316" y="6302"/>
                </a:lnTo>
                <a:lnTo>
                  <a:pt x="256" y="6363"/>
                </a:lnTo>
                <a:lnTo>
                  <a:pt x="199" y="6409"/>
                </a:lnTo>
                <a:cubicBezTo>
                  <a:pt x="191" y="6416"/>
                  <a:pt x="179" y="6420"/>
                  <a:pt x="168" y="6420"/>
                </a:cubicBezTo>
                <a:lnTo>
                  <a:pt x="123" y="6420"/>
                </a:lnTo>
                <a:lnTo>
                  <a:pt x="66" y="6420"/>
                </a:lnTo>
                <a:lnTo>
                  <a:pt x="66" y="6320"/>
                </a:lnTo>
                <a:lnTo>
                  <a:pt x="123" y="6320"/>
                </a:lnTo>
                <a:lnTo>
                  <a:pt x="123" y="6420"/>
                </a:lnTo>
                <a:close/>
                <a:moveTo>
                  <a:pt x="392" y="5913"/>
                </a:moveTo>
                <a:lnTo>
                  <a:pt x="392" y="5913"/>
                </a:lnTo>
                <a:lnTo>
                  <a:pt x="450" y="5796"/>
                </a:lnTo>
                <a:lnTo>
                  <a:pt x="504" y="5640"/>
                </a:lnTo>
                <a:lnTo>
                  <a:pt x="550" y="5544"/>
                </a:lnTo>
                <a:lnTo>
                  <a:pt x="640" y="5588"/>
                </a:lnTo>
                <a:lnTo>
                  <a:pt x="598" y="5673"/>
                </a:lnTo>
                <a:lnTo>
                  <a:pt x="539" y="5840"/>
                </a:lnTo>
                <a:lnTo>
                  <a:pt x="484" y="5953"/>
                </a:lnTo>
                <a:lnTo>
                  <a:pt x="484" y="5953"/>
                </a:lnTo>
                <a:lnTo>
                  <a:pt x="392" y="5913"/>
                </a:lnTo>
                <a:close/>
                <a:moveTo>
                  <a:pt x="613" y="5278"/>
                </a:moveTo>
                <a:lnTo>
                  <a:pt x="613" y="5208"/>
                </a:lnTo>
                <a:cubicBezTo>
                  <a:pt x="613" y="5203"/>
                  <a:pt x="614" y="5199"/>
                  <a:pt x="615" y="5194"/>
                </a:cubicBezTo>
                <a:lnTo>
                  <a:pt x="660" y="5033"/>
                </a:lnTo>
                <a:lnTo>
                  <a:pt x="711" y="4877"/>
                </a:lnTo>
                <a:lnTo>
                  <a:pt x="806" y="4908"/>
                </a:lnTo>
                <a:lnTo>
                  <a:pt x="757" y="5060"/>
                </a:lnTo>
                <a:lnTo>
                  <a:pt x="712" y="5221"/>
                </a:lnTo>
                <a:lnTo>
                  <a:pt x="713" y="5208"/>
                </a:lnTo>
                <a:lnTo>
                  <a:pt x="713" y="5278"/>
                </a:lnTo>
                <a:lnTo>
                  <a:pt x="613" y="5278"/>
                </a:lnTo>
                <a:close/>
                <a:moveTo>
                  <a:pt x="800" y="4594"/>
                </a:moveTo>
                <a:lnTo>
                  <a:pt x="829" y="4482"/>
                </a:lnTo>
                <a:lnTo>
                  <a:pt x="885" y="4252"/>
                </a:lnTo>
                <a:lnTo>
                  <a:pt x="884" y="4264"/>
                </a:lnTo>
                <a:lnTo>
                  <a:pt x="884" y="4217"/>
                </a:lnTo>
                <a:lnTo>
                  <a:pt x="984" y="4217"/>
                </a:lnTo>
                <a:lnTo>
                  <a:pt x="984" y="4264"/>
                </a:lnTo>
                <a:cubicBezTo>
                  <a:pt x="984" y="4268"/>
                  <a:pt x="983" y="4272"/>
                  <a:pt x="982" y="4276"/>
                </a:cubicBezTo>
                <a:lnTo>
                  <a:pt x="926" y="4507"/>
                </a:lnTo>
                <a:lnTo>
                  <a:pt x="897" y="4619"/>
                </a:lnTo>
                <a:lnTo>
                  <a:pt x="800" y="4594"/>
                </a:lnTo>
                <a:close/>
                <a:moveTo>
                  <a:pt x="922" y="3911"/>
                </a:moveTo>
                <a:lnTo>
                  <a:pt x="930" y="3874"/>
                </a:lnTo>
                <a:lnTo>
                  <a:pt x="987" y="3642"/>
                </a:lnTo>
                <a:lnTo>
                  <a:pt x="1018" y="3520"/>
                </a:lnTo>
                <a:lnTo>
                  <a:pt x="1115" y="3545"/>
                </a:lnTo>
                <a:lnTo>
                  <a:pt x="1084" y="3666"/>
                </a:lnTo>
                <a:lnTo>
                  <a:pt x="1028" y="3894"/>
                </a:lnTo>
                <a:lnTo>
                  <a:pt x="1020" y="3931"/>
                </a:lnTo>
                <a:lnTo>
                  <a:pt x="922" y="3911"/>
                </a:lnTo>
                <a:close/>
                <a:moveTo>
                  <a:pt x="1093" y="3229"/>
                </a:moveTo>
                <a:lnTo>
                  <a:pt x="1099" y="3204"/>
                </a:lnTo>
                <a:lnTo>
                  <a:pt x="1156" y="2974"/>
                </a:lnTo>
                <a:lnTo>
                  <a:pt x="1183" y="2842"/>
                </a:lnTo>
                <a:lnTo>
                  <a:pt x="1281" y="2862"/>
                </a:lnTo>
                <a:lnTo>
                  <a:pt x="1253" y="2998"/>
                </a:lnTo>
                <a:lnTo>
                  <a:pt x="1196" y="3229"/>
                </a:lnTo>
                <a:lnTo>
                  <a:pt x="1190" y="3254"/>
                </a:lnTo>
                <a:lnTo>
                  <a:pt x="1093" y="3229"/>
                </a:lnTo>
                <a:close/>
                <a:moveTo>
                  <a:pt x="1199" y="2554"/>
                </a:moveTo>
                <a:lnTo>
                  <a:pt x="1199" y="2549"/>
                </a:lnTo>
                <a:cubicBezTo>
                  <a:pt x="1199" y="2544"/>
                  <a:pt x="1200" y="2540"/>
                  <a:pt x="1201" y="2536"/>
                </a:cubicBezTo>
                <a:lnTo>
                  <a:pt x="1257" y="2317"/>
                </a:lnTo>
                <a:lnTo>
                  <a:pt x="1297" y="2154"/>
                </a:lnTo>
                <a:lnTo>
                  <a:pt x="1394" y="2178"/>
                </a:lnTo>
                <a:lnTo>
                  <a:pt x="1354" y="2342"/>
                </a:lnTo>
                <a:lnTo>
                  <a:pt x="1298" y="2561"/>
                </a:lnTo>
                <a:lnTo>
                  <a:pt x="1299" y="2549"/>
                </a:lnTo>
                <a:lnTo>
                  <a:pt x="1299" y="2554"/>
                </a:lnTo>
                <a:lnTo>
                  <a:pt x="1199" y="2554"/>
                </a:lnTo>
                <a:close/>
                <a:moveTo>
                  <a:pt x="1373" y="1859"/>
                </a:moveTo>
                <a:lnTo>
                  <a:pt x="1427" y="1703"/>
                </a:lnTo>
                <a:lnTo>
                  <a:pt x="1482" y="1479"/>
                </a:lnTo>
                <a:lnTo>
                  <a:pt x="1579" y="1503"/>
                </a:lnTo>
                <a:lnTo>
                  <a:pt x="1522" y="1736"/>
                </a:lnTo>
                <a:lnTo>
                  <a:pt x="1467" y="1892"/>
                </a:lnTo>
                <a:lnTo>
                  <a:pt x="1373" y="1859"/>
                </a:lnTo>
                <a:close/>
                <a:moveTo>
                  <a:pt x="1526" y="1198"/>
                </a:moveTo>
                <a:lnTo>
                  <a:pt x="1526" y="1156"/>
                </a:lnTo>
                <a:cubicBezTo>
                  <a:pt x="1526" y="1150"/>
                  <a:pt x="1527" y="1144"/>
                  <a:pt x="1529" y="1139"/>
                </a:cubicBezTo>
                <a:lnTo>
                  <a:pt x="1585" y="978"/>
                </a:lnTo>
                <a:lnTo>
                  <a:pt x="1644" y="857"/>
                </a:lnTo>
                <a:lnTo>
                  <a:pt x="1661" y="807"/>
                </a:lnTo>
                <a:lnTo>
                  <a:pt x="1755" y="840"/>
                </a:lnTo>
                <a:lnTo>
                  <a:pt x="1733" y="901"/>
                </a:lnTo>
                <a:lnTo>
                  <a:pt x="1679" y="1011"/>
                </a:lnTo>
                <a:lnTo>
                  <a:pt x="1623" y="1172"/>
                </a:lnTo>
                <a:lnTo>
                  <a:pt x="1626" y="1156"/>
                </a:lnTo>
                <a:lnTo>
                  <a:pt x="1626" y="1198"/>
                </a:lnTo>
                <a:lnTo>
                  <a:pt x="1526" y="1198"/>
                </a:lnTo>
                <a:close/>
                <a:moveTo>
                  <a:pt x="1769" y="532"/>
                </a:moveTo>
                <a:lnTo>
                  <a:pt x="1798" y="428"/>
                </a:lnTo>
                <a:cubicBezTo>
                  <a:pt x="1799" y="425"/>
                  <a:pt x="1800" y="423"/>
                  <a:pt x="1801" y="420"/>
                </a:cubicBezTo>
                <a:lnTo>
                  <a:pt x="1858" y="305"/>
                </a:lnTo>
                <a:cubicBezTo>
                  <a:pt x="1860" y="300"/>
                  <a:pt x="1863" y="296"/>
                  <a:pt x="1867" y="292"/>
                </a:cubicBezTo>
                <a:lnTo>
                  <a:pt x="1923" y="234"/>
                </a:lnTo>
                <a:lnTo>
                  <a:pt x="1983" y="184"/>
                </a:lnTo>
                <a:cubicBezTo>
                  <a:pt x="1992" y="177"/>
                  <a:pt x="2004" y="173"/>
                  <a:pt x="2015" y="173"/>
                </a:cubicBezTo>
                <a:lnTo>
                  <a:pt x="2027" y="173"/>
                </a:lnTo>
                <a:lnTo>
                  <a:pt x="2027" y="273"/>
                </a:lnTo>
                <a:lnTo>
                  <a:pt x="2015" y="273"/>
                </a:lnTo>
                <a:lnTo>
                  <a:pt x="2047" y="262"/>
                </a:lnTo>
                <a:lnTo>
                  <a:pt x="1995" y="304"/>
                </a:lnTo>
                <a:lnTo>
                  <a:pt x="1938" y="362"/>
                </a:lnTo>
                <a:lnTo>
                  <a:pt x="1947" y="349"/>
                </a:lnTo>
                <a:lnTo>
                  <a:pt x="1891" y="464"/>
                </a:lnTo>
                <a:lnTo>
                  <a:pt x="1894" y="455"/>
                </a:lnTo>
                <a:lnTo>
                  <a:pt x="1865" y="558"/>
                </a:lnTo>
                <a:lnTo>
                  <a:pt x="1769" y="532"/>
                </a:lnTo>
                <a:close/>
                <a:moveTo>
                  <a:pt x="2274" y="173"/>
                </a:moveTo>
                <a:lnTo>
                  <a:pt x="2285" y="173"/>
                </a:lnTo>
                <a:cubicBezTo>
                  <a:pt x="2297" y="173"/>
                  <a:pt x="2308" y="177"/>
                  <a:pt x="2317" y="184"/>
                </a:cubicBezTo>
                <a:lnTo>
                  <a:pt x="2373" y="230"/>
                </a:lnTo>
                <a:cubicBezTo>
                  <a:pt x="2376" y="233"/>
                  <a:pt x="2379" y="235"/>
                  <a:pt x="2381" y="238"/>
                </a:cubicBezTo>
                <a:lnTo>
                  <a:pt x="2426" y="296"/>
                </a:lnTo>
                <a:cubicBezTo>
                  <a:pt x="2428" y="299"/>
                  <a:pt x="2430" y="302"/>
                  <a:pt x="2432" y="305"/>
                </a:cubicBezTo>
                <a:lnTo>
                  <a:pt x="2488" y="420"/>
                </a:lnTo>
                <a:lnTo>
                  <a:pt x="2479" y="407"/>
                </a:lnTo>
                <a:lnTo>
                  <a:pt x="2535" y="464"/>
                </a:lnTo>
                <a:cubicBezTo>
                  <a:pt x="2544" y="474"/>
                  <a:pt x="2549" y="486"/>
                  <a:pt x="2549" y="499"/>
                </a:cubicBezTo>
                <a:lnTo>
                  <a:pt x="2549" y="534"/>
                </a:lnTo>
                <a:lnTo>
                  <a:pt x="2449" y="534"/>
                </a:lnTo>
                <a:lnTo>
                  <a:pt x="2449" y="499"/>
                </a:lnTo>
                <a:lnTo>
                  <a:pt x="2464" y="534"/>
                </a:lnTo>
                <a:lnTo>
                  <a:pt x="2407" y="477"/>
                </a:lnTo>
                <a:cubicBezTo>
                  <a:pt x="2404" y="473"/>
                  <a:pt x="2401" y="469"/>
                  <a:pt x="2398" y="464"/>
                </a:cubicBezTo>
                <a:lnTo>
                  <a:pt x="2342" y="349"/>
                </a:lnTo>
                <a:lnTo>
                  <a:pt x="2347" y="358"/>
                </a:lnTo>
                <a:lnTo>
                  <a:pt x="2302" y="300"/>
                </a:lnTo>
                <a:lnTo>
                  <a:pt x="2310" y="308"/>
                </a:lnTo>
                <a:lnTo>
                  <a:pt x="2254" y="262"/>
                </a:lnTo>
                <a:lnTo>
                  <a:pt x="2285" y="273"/>
                </a:lnTo>
                <a:lnTo>
                  <a:pt x="2274" y="273"/>
                </a:lnTo>
                <a:lnTo>
                  <a:pt x="2274" y="173"/>
                </a:lnTo>
                <a:close/>
                <a:moveTo>
                  <a:pt x="2646" y="788"/>
                </a:moveTo>
                <a:lnTo>
                  <a:pt x="2657" y="811"/>
                </a:lnTo>
                <a:cubicBezTo>
                  <a:pt x="2658" y="814"/>
                  <a:pt x="2659" y="817"/>
                  <a:pt x="2660" y="820"/>
                </a:cubicBezTo>
                <a:lnTo>
                  <a:pt x="2705" y="981"/>
                </a:lnTo>
                <a:lnTo>
                  <a:pt x="2761" y="1139"/>
                </a:lnTo>
                <a:lnTo>
                  <a:pt x="2774" y="1166"/>
                </a:lnTo>
                <a:lnTo>
                  <a:pt x="2685" y="1210"/>
                </a:lnTo>
                <a:lnTo>
                  <a:pt x="2666" y="1172"/>
                </a:lnTo>
                <a:lnTo>
                  <a:pt x="2609" y="1008"/>
                </a:lnTo>
                <a:lnTo>
                  <a:pt x="2564" y="847"/>
                </a:lnTo>
                <a:lnTo>
                  <a:pt x="2567" y="855"/>
                </a:lnTo>
                <a:lnTo>
                  <a:pt x="2556" y="832"/>
                </a:lnTo>
                <a:lnTo>
                  <a:pt x="2646" y="788"/>
                </a:lnTo>
                <a:close/>
                <a:moveTo>
                  <a:pt x="2829" y="1460"/>
                </a:moveTo>
                <a:lnTo>
                  <a:pt x="2873" y="1588"/>
                </a:lnTo>
                <a:lnTo>
                  <a:pt x="2931" y="1811"/>
                </a:lnTo>
                <a:lnTo>
                  <a:pt x="2941" y="1848"/>
                </a:lnTo>
                <a:lnTo>
                  <a:pt x="2844" y="1874"/>
                </a:lnTo>
                <a:lnTo>
                  <a:pt x="2834" y="1836"/>
                </a:lnTo>
                <a:lnTo>
                  <a:pt x="2779" y="1621"/>
                </a:lnTo>
                <a:lnTo>
                  <a:pt x="2734" y="1493"/>
                </a:lnTo>
                <a:lnTo>
                  <a:pt x="2829" y="1460"/>
                </a:lnTo>
                <a:close/>
                <a:moveTo>
                  <a:pt x="3028" y="2131"/>
                </a:moveTo>
                <a:lnTo>
                  <a:pt x="3031" y="2141"/>
                </a:lnTo>
                <a:lnTo>
                  <a:pt x="3088" y="2314"/>
                </a:lnTo>
                <a:lnTo>
                  <a:pt x="3140" y="2519"/>
                </a:lnTo>
                <a:lnTo>
                  <a:pt x="3044" y="2544"/>
                </a:lnTo>
                <a:lnTo>
                  <a:pt x="2993" y="2345"/>
                </a:lnTo>
                <a:lnTo>
                  <a:pt x="2937" y="2174"/>
                </a:lnTo>
                <a:lnTo>
                  <a:pt x="2933" y="2164"/>
                </a:lnTo>
                <a:lnTo>
                  <a:pt x="3028" y="2131"/>
                </a:lnTo>
                <a:close/>
                <a:moveTo>
                  <a:pt x="3182" y="2809"/>
                </a:moveTo>
                <a:lnTo>
                  <a:pt x="3200" y="2867"/>
                </a:lnTo>
                <a:lnTo>
                  <a:pt x="3244" y="2966"/>
                </a:lnTo>
                <a:lnTo>
                  <a:pt x="3299" y="3079"/>
                </a:lnTo>
                <a:lnTo>
                  <a:pt x="3342" y="3168"/>
                </a:lnTo>
                <a:lnTo>
                  <a:pt x="3252" y="3211"/>
                </a:lnTo>
                <a:lnTo>
                  <a:pt x="3209" y="3123"/>
                </a:lnTo>
                <a:lnTo>
                  <a:pt x="3152" y="3006"/>
                </a:lnTo>
                <a:lnTo>
                  <a:pt x="3105" y="2898"/>
                </a:lnTo>
                <a:lnTo>
                  <a:pt x="3086" y="2840"/>
                </a:lnTo>
                <a:lnTo>
                  <a:pt x="3182" y="2809"/>
                </a:lnTo>
                <a:close/>
                <a:moveTo>
                  <a:pt x="3458" y="3244"/>
                </a:moveTo>
                <a:lnTo>
                  <a:pt x="3479" y="3196"/>
                </a:lnTo>
                <a:cubicBezTo>
                  <a:pt x="3481" y="3191"/>
                  <a:pt x="3485" y="3186"/>
                  <a:pt x="3489" y="3181"/>
                </a:cubicBezTo>
                <a:lnTo>
                  <a:pt x="3545" y="3124"/>
                </a:lnTo>
                <a:lnTo>
                  <a:pt x="3533" y="3143"/>
                </a:lnTo>
                <a:lnTo>
                  <a:pt x="3590" y="2970"/>
                </a:lnTo>
                <a:cubicBezTo>
                  <a:pt x="3591" y="2968"/>
                  <a:pt x="3592" y="2965"/>
                  <a:pt x="3593" y="2962"/>
                </a:cubicBezTo>
                <a:lnTo>
                  <a:pt x="3634" y="2887"/>
                </a:lnTo>
                <a:lnTo>
                  <a:pt x="3722" y="2935"/>
                </a:lnTo>
                <a:lnTo>
                  <a:pt x="3681" y="3010"/>
                </a:lnTo>
                <a:lnTo>
                  <a:pt x="3685" y="3001"/>
                </a:lnTo>
                <a:lnTo>
                  <a:pt x="3628" y="3174"/>
                </a:lnTo>
                <a:cubicBezTo>
                  <a:pt x="3626" y="3181"/>
                  <a:pt x="3622" y="3188"/>
                  <a:pt x="3617" y="3194"/>
                </a:cubicBezTo>
                <a:lnTo>
                  <a:pt x="3560" y="3251"/>
                </a:lnTo>
                <a:lnTo>
                  <a:pt x="3570" y="3236"/>
                </a:lnTo>
                <a:lnTo>
                  <a:pt x="3549" y="3284"/>
                </a:lnTo>
                <a:lnTo>
                  <a:pt x="3458" y="3244"/>
                </a:lnTo>
                <a:close/>
                <a:moveTo>
                  <a:pt x="3678" y="2604"/>
                </a:moveTo>
                <a:lnTo>
                  <a:pt x="3703" y="2532"/>
                </a:lnTo>
                <a:lnTo>
                  <a:pt x="3746" y="2320"/>
                </a:lnTo>
                <a:lnTo>
                  <a:pt x="3779" y="2218"/>
                </a:lnTo>
                <a:lnTo>
                  <a:pt x="3874" y="2249"/>
                </a:lnTo>
                <a:lnTo>
                  <a:pt x="3844" y="2340"/>
                </a:lnTo>
                <a:lnTo>
                  <a:pt x="3797" y="2565"/>
                </a:lnTo>
                <a:lnTo>
                  <a:pt x="3772" y="2637"/>
                </a:lnTo>
                <a:lnTo>
                  <a:pt x="3678" y="2604"/>
                </a:lnTo>
                <a:close/>
                <a:moveTo>
                  <a:pt x="3870" y="1937"/>
                </a:moveTo>
                <a:lnTo>
                  <a:pt x="3915" y="1754"/>
                </a:lnTo>
                <a:lnTo>
                  <a:pt x="3973" y="1588"/>
                </a:lnTo>
                <a:lnTo>
                  <a:pt x="3970" y="1605"/>
                </a:lnTo>
                <a:lnTo>
                  <a:pt x="3970" y="1564"/>
                </a:lnTo>
                <a:lnTo>
                  <a:pt x="4070" y="1564"/>
                </a:lnTo>
                <a:lnTo>
                  <a:pt x="4070" y="1605"/>
                </a:lnTo>
                <a:cubicBezTo>
                  <a:pt x="4070" y="1610"/>
                  <a:pt x="4069" y="1616"/>
                  <a:pt x="4067" y="1621"/>
                </a:cubicBezTo>
                <a:lnTo>
                  <a:pt x="4012" y="1778"/>
                </a:lnTo>
                <a:lnTo>
                  <a:pt x="3968" y="1961"/>
                </a:lnTo>
                <a:lnTo>
                  <a:pt x="3870" y="1937"/>
                </a:lnTo>
                <a:close/>
                <a:moveTo>
                  <a:pt x="4006" y="1258"/>
                </a:moveTo>
                <a:lnTo>
                  <a:pt x="4016" y="1204"/>
                </a:lnTo>
                <a:cubicBezTo>
                  <a:pt x="4017" y="1201"/>
                  <a:pt x="4017" y="1199"/>
                  <a:pt x="4018" y="1197"/>
                </a:cubicBezTo>
                <a:lnTo>
                  <a:pt x="4074" y="1036"/>
                </a:lnTo>
                <a:lnTo>
                  <a:pt x="4133" y="915"/>
                </a:lnTo>
                <a:lnTo>
                  <a:pt x="4146" y="877"/>
                </a:lnTo>
                <a:lnTo>
                  <a:pt x="4240" y="910"/>
                </a:lnTo>
                <a:lnTo>
                  <a:pt x="4223" y="959"/>
                </a:lnTo>
                <a:lnTo>
                  <a:pt x="4169" y="1068"/>
                </a:lnTo>
                <a:lnTo>
                  <a:pt x="4112" y="1230"/>
                </a:lnTo>
                <a:lnTo>
                  <a:pt x="4114" y="1223"/>
                </a:lnTo>
                <a:lnTo>
                  <a:pt x="4104" y="1277"/>
                </a:lnTo>
                <a:lnTo>
                  <a:pt x="4006" y="1258"/>
                </a:lnTo>
                <a:close/>
                <a:moveTo>
                  <a:pt x="4241" y="593"/>
                </a:moveTo>
                <a:lnTo>
                  <a:pt x="4243" y="588"/>
                </a:lnTo>
                <a:lnTo>
                  <a:pt x="4240" y="603"/>
                </a:lnTo>
                <a:lnTo>
                  <a:pt x="4240" y="499"/>
                </a:lnTo>
                <a:cubicBezTo>
                  <a:pt x="4240" y="493"/>
                  <a:pt x="4242" y="487"/>
                  <a:pt x="4244" y="481"/>
                </a:cubicBezTo>
                <a:lnTo>
                  <a:pt x="4289" y="366"/>
                </a:lnTo>
                <a:cubicBezTo>
                  <a:pt x="4291" y="360"/>
                  <a:pt x="4295" y="354"/>
                  <a:pt x="4300" y="349"/>
                </a:cubicBezTo>
                <a:lnTo>
                  <a:pt x="4356" y="292"/>
                </a:lnTo>
                <a:lnTo>
                  <a:pt x="4348" y="303"/>
                </a:lnTo>
                <a:lnTo>
                  <a:pt x="4389" y="227"/>
                </a:lnTo>
                <a:lnTo>
                  <a:pt x="4477" y="275"/>
                </a:lnTo>
                <a:lnTo>
                  <a:pt x="4436" y="351"/>
                </a:lnTo>
                <a:cubicBezTo>
                  <a:pt x="4434" y="355"/>
                  <a:pt x="4431" y="358"/>
                  <a:pt x="4428" y="362"/>
                </a:cubicBezTo>
                <a:lnTo>
                  <a:pt x="4371" y="419"/>
                </a:lnTo>
                <a:lnTo>
                  <a:pt x="4382" y="403"/>
                </a:lnTo>
                <a:lnTo>
                  <a:pt x="4337" y="518"/>
                </a:lnTo>
                <a:lnTo>
                  <a:pt x="4340" y="499"/>
                </a:lnTo>
                <a:lnTo>
                  <a:pt x="4340" y="603"/>
                </a:lnTo>
                <a:cubicBezTo>
                  <a:pt x="4340" y="608"/>
                  <a:pt x="4340" y="614"/>
                  <a:pt x="4338" y="619"/>
                </a:cubicBezTo>
                <a:lnTo>
                  <a:pt x="4336" y="624"/>
                </a:lnTo>
                <a:lnTo>
                  <a:pt x="4241" y="593"/>
                </a:lnTo>
                <a:close/>
                <a:moveTo>
                  <a:pt x="4640" y="0"/>
                </a:moveTo>
                <a:lnTo>
                  <a:pt x="4662" y="0"/>
                </a:lnTo>
                <a:lnTo>
                  <a:pt x="4718" y="0"/>
                </a:lnTo>
                <a:cubicBezTo>
                  <a:pt x="4732" y="0"/>
                  <a:pt x="4745" y="6"/>
                  <a:pt x="4754" y="16"/>
                </a:cubicBezTo>
                <a:lnTo>
                  <a:pt x="4811" y="73"/>
                </a:lnTo>
                <a:lnTo>
                  <a:pt x="4867" y="131"/>
                </a:lnTo>
                <a:lnTo>
                  <a:pt x="4916" y="192"/>
                </a:lnTo>
                <a:lnTo>
                  <a:pt x="4908" y="184"/>
                </a:lnTo>
                <a:lnTo>
                  <a:pt x="4964" y="230"/>
                </a:lnTo>
                <a:cubicBezTo>
                  <a:pt x="4976" y="240"/>
                  <a:pt x="4982" y="254"/>
                  <a:pt x="4982" y="269"/>
                </a:cubicBezTo>
                <a:lnTo>
                  <a:pt x="4982" y="284"/>
                </a:lnTo>
                <a:lnTo>
                  <a:pt x="4882" y="284"/>
                </a:lnTo>
                <a:lnTo>
                  <a:pt x="4882" y="269"/>
                </a:lnTo>
                <a:lnTo>
                  <a:pt x="4901" y="308"/>
                </a:lnTo>
                <a:lnTo>
                  <a:pt x="4845" y="262"/>
                </a:lnTo>
                <a:cubicBezTo>
                  <a:pt x="4842" y="260"/>
                  <a:pt x="4839" y="257"/>
                  <a:pt x="4837" y="254"/>
                </a:cubicBezTo>
                <a:lnTo>
                  <a:pt x="4795" y="201"/>
                </a:lnTo>
                <a:lnTo>
                  <a:pt x="4739" y="143"/>
                </a:lnTo>
                <a:lnTo>
                  <a:pt x="4683" y="85"/>
                </a:lnTo>
                <a:lnTo>
                  <a:pt x="4718" y="100"/>
                </a:lnTo>
                <a:lnTo>
                  <a:pt x="4662" y="100"/>
                </a:lnTo>
                <a:lnTo>
                  <a:pt x="4640" y="100"/>
                </a:lnTo>
                <a:lnTo>
                  <a:pt x="4640" y="0"/>
                </a:lnTo>
                <a:close/>
                <a:moveTo>
                  <a:pt x="5059" y="550"/>
                </a:moveTo>
                <a:lnTo>
                  <a:pt x="5092" y="644"/>
                </a:lnTo>
                <a:lnTo>
                  <a:pt x="5146" y="754"/>
                </a:lnTo>
                <a:cubicBezTo>
                  <a:pt x="5148" y="756"/>
                  <a:pt x="5149" y="759"/>
                  <a:pt x="5150" y="762"/>
                </a:cubicBezTo>
                <a:lnTo>
                  <a:pt x="5195" y="923"/>
                </a:lnTo>
                <a:lnTo>
                  <a:pt x="5196" y="926"/>
                </a:lnTo>
                <a:lnTo>
                  <a:pt x="5100" y="957"/>
                </a:lnTo>
                <a:lnTo>
                  <a:pt x="5098" y="950"/>
                </a:lnTo>
                <a:lnTo>
                  <a:pt x="5053" y="789"/>
                </a:lnTo>
                <a:lnTo>
                  <a:pt x="5057" y="798"/>
                </a:lnTo>
                <a:lnTo>
                  <a:pt x="4998" y="677"/>
                </a:lnTo>
                <a:lnTo>
                  <a:pt x="4965" y="583"/>
                </a:lnTo>
                <a:lnTo>
                  <a:pt x="5059" y="550"/>
                </a:lnTo>
                <a:close/>
                <a:moveTo>
                  <a:pt x="5253" y="1233"/>
                </a:moveTo>
                <a:lnTo>
                  <a:pt x="5253" y="1271"/>
                </a:lnTo>
                <a:lnTo>
                  <a:pt x="5251" y="1258"/>
                </a:lnTo>
                <a:lnTo>
                  <a:pt x="5308" y="1477"/>
                </a:lnTo>
                <a:lnTo>
                  <a:pt x="5349" y="1603"/>
                </a:lnTo>
                <a:lnTo>
                  <a:pt x="5254" y="1634"/>
                </a:lnTo>
                <a:lnTo>
                  <a:pt x="5211" y="1502"/>
                </a:lnTo>
                <a:lnTo>
                  <a:pt x="5154" y="1283"/>
                </a:lnTo>
                <a:cubicBezTo>
                  <a:pt x="5153" y="1279"/>
                  <a:pt x="5153" y="1275"/>
                  <a:pt x="5153" y="1271"/>
                </a:cubicBezTo>
                <a:lnTo>
                  <a:pt x="5153" y="1233"/>
                </a:lnTo>
                <a:lnTo>
                  <a:pt x="5253" y="1233"/>
                </a:lnTo>
                <a:close/>
                <a:moveTo>
                  <a:pt x="5427" y="1899"/>
                </a:moveTo>
                <a:lnTo>
                  <a:pt x="5466" y="2089"/>
                </a:lnTo>
                <a:lnTo>
                  <a:pt x="5521" y="2257"/>
                </a:lnTo>
                <a:lnTo>
                  <a:pt x="5528" y="2283"/>
                </a:lnTo>
                <a:lnTo>
                  <a:pt x="5431" y="2308"/>
                </a:lnTo>
                <a:lnTo>
                  <a:pt x="5426" y="2288"/>
                </a:lnTo>
                <a:lnTo>
                  <a:pt x="5368" y="2110"/>
                </a:lnTo>
                <a:lnTo>
                  <a:pt x="5329" y="1919"/>
                </a:lnTo>
                <a:lnTo>
                  <a:pt x="5427" y="1899"/>
                </a:lnTo>
                <a:close/>
                <a:moveTo>
                  <a:pt x="5579" y="2589"/>
                </a:moveTo>
                <a:lnTo>
                  <a:pt x="5579" y="2664"/>
                </a:lnTo>
                <a:lnTo>
                  <a:pt x="5577" y="2647"/>
                </a:lnTo>
                <a:lnTo>
                  <a:pt x="5633" y="2808"/>
                </a:lnTo>
                <a:lnTo>
                  <a:pt x="5684" y="2954"/>
                </a:lnTo>
                <a:lnTo>
                  <a:pt x="5590" y="2987"/>
                </a:lnTo>
                <a:lnTo>
                  <a:pt x="5539" y="2841"/>
                </a:lnTo>
                <a:lnTo>
                  <a:pt x="5482" y="2680"/>
                </a:lnTo>
                <a:cubicBezTo>
                  <a:pt x="5480" y="2675"/>
                  <a:pt x="5479" y="2669"/>
                  <a:pt x="5479" y="2664"/>
                </a:cubicBezTo>
                <a:lnTo>
                  <a:pt x="5479" y="2589"/>
                </a:lnTo>
                <a:lnTo>
                  <a:pt x="5579" y="2589"/>
                </a:lnTo>
                <a:close/>
                <a:moveTo>
                  <a:pt x="5765" y="3180"/>
                </a:moveTo>
                <a:lnTo>
                  <a:pt x="5820" y="3124"/>
                </a:lnTo>
                <a:lnTo>
                  <a:pt x="5877" y="3066"/>
                </a:lnTo>
                <a:lnTo>
                  <a:pt x="5865" y="3085"/>
                </a:lnTo>
                <a:lnTo>
                  <a:pt x="5922" y="2923"/>
                </a:lnTo>
                <a:lnTo>
                  <a:pt x="5938" y="2859"/>
                </a:lnTo>
                <a:lnTo>
                  <a:pt x="6035" y="2885"/>
                </a:lnTo>
                <a:lnTo>
                  <a:pt x="6016" y="2956"/>
                </a:lnTo>
                <a:lnTo>
                  <a:pt x="5960" y="3118"/>
                </a:lnTo>
                <a:cubicBezTo>
                  <a:pt x="5957" y="3125"/>
                  <a:pt x="5953" y="3131"/>
                  <a:pt x="5948" y="3136"/>
                </a:cubicBezTo>
                <a:lnTo>
                  <a:pt x="5892" y="3194"/>
                </a:lnTo>
                <a:lnTo>
                  <a:pt x="5837" y="3250"/>
                </a:lnTo>
                <a:lnTo>
                  <a:pt x="5765" y="3180"/>
                </a:lnTo>
                <a:close/>
                <a:moveTo>
                  <a:pt x="6027" y="2574"/>
                </a:moveTo>
                <a:lnTo>
                  <a:pt x="6078" y="2364"/>
                </a:lnTo>
                <a:lnTo>
                  <a:pt x="6175" y="2388"/>
                </a:lnTo>
                <a:lnTo>
                  <a:pt x="6124" y="2598"/>
                </a:lnTo>
                <a:lnTo>
                  <a:pt x="6027" y="2574"/>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529080" y="3603600"/>
            <a:ext cx="958680" cy="1125720"/>
          </a:xfrm>
          <a:custGeom>
            <a:avLst/>
            <a:gdLst/>
            <a:ahLst/>
            <a:rect l="l" t="t" r="r" b="b"/>
            <a:pathLst>
              <a:path w="6059" h="7102">
                <a:moveTo>
                  <a:pt x="0" y="7102"/>
                </a:moveTo>
                <a:lnTo>
                  <a:pt x="0" y="6826"/>
                </a:lnTo>
                <a:cubicBezTo>
                  <a:pt x="0" y="6822"/>
                  <a:pt x="1" y="6818"/>
                  <a:pt x="2" y="6814"/>
                </a:cubicBezTo>
                <a:lnTo>
                  <a:pt x="33" y="6694"/>
                </a:lnTo>
                <a:lnTo>
                  <a:pt x="130" y="6719"/>
                </a:lnTo>
                <a:lnTo>
                  <a:pt x="99" y="6839"/>
                </a:lnTo>
                <a:lnTo>
                  <a:pt x="100" y="6826"/>
                </a:lnTo>
                <a:lnTo>
                  <a:pt x="100" y="7102"/>
                </a:lnTo>
                <a:lnTo>
                  <a:pt x="0" y="7102"/>
                </a:lnTo>
                <a:close/>
                <a:moveTo>
                  <a:pt x="97" y="6404"/>
                </a:moveTo>
                <a:lnTo>
                  <a:pt x="114" y="6321"/>
                </a:lnTo>
                <a:lnTo>
                  <a:pt x="159" y="6047"/>
                </a:lnTo>
                <a:lnTo>
                  <a:pt x="166" y="6010"/>
                </a:lnTo>
                <a:lnTo>
                  <a:pt x="264" y="6030"/>
                </a:lnTo>
                <a:lnTo>
                  <a:pt x="258" y="6063"/>
                </a:lnTo>
                <a:lnTo>
                  <a:pt x="212" y="6341"/>
                </a:lnTo>
                <a:lnTo>
                  <a:pt x="195" y="6424"/>
                </a:lnTo>
                <a:lnTo>
                  <a:pt x="97" y="6404"/>
                </a:lnTo>
                <a:close/>
                <a:moveTo>
                  <a:pt x="226" y="5716"/>
                </a:moveTo>
                <a:lnTo>
                  <a:pt x="272" y="5493"/>
                </a:lnTo>
                <a:lnTo>
                  <a:pt x="306" y="5324"/>
                </a:lnTo>
                <a:lnTo>
                  <a:pt x="404" y="5344"/>
                </a:lnTo>
                <a:lnTo>
                  <a:pt x="370" y="5513"/>
                </a:lnTo>
                <a:lnTo>
                  <a:pt x="324" y="5736"/>
                </a:lnTo>
                <a:lnTo>
                  <a:pt x="226" y="5716"/>
                </a:lnTo>
                <a:close/>
                <a:moveTo>
                  <a:pt x="327" y="5036"/>
                </a:moveTo>
                <a:lnTo>
                  <a:pt x="327" y="4950"/>
                </a:lnTo>
                <a:cubicBezTo>
                  <a:pt x="327" y="4946"/>
                  <a:pt x="328" y="4942"/>
                  <a:pt x="329" y="4938"/>
                </a:cubicBezTo>
                <a:lnTo>
                  <a:pt x="385" y="4708"/>
                </a:lnTo>
                <a:lnTo>
                  <a:pt x="397" y="4636"/>
                </a:lnTo>
                <a:lnTo>
                  <a:pt x="495" y="4652"/>
                </a:lnTo>
                <a:lnTo>
                  <a:pt x="482" y="4732"/>
                </a:lnTo>
                <a:lnTo>
                  <a:pt x="426" y="4962"/>
                </a:lnTo>
                <a:lnTo>
                  <a:pt x="427" y="4950"/>
                </a:lnTo>
                <a:lnTo>
                  <a:pt x="427" y="5036"/>
                </a:lnTo>
                <a:lnTo>
                  <a:pt x="327" y="5036"/>
                </a:lnTo>
                <a:close/>
                <a:moveTo>
                  <a:pt x="454" y="4337"/>
                </a:moveTo>
                <a:lnTo>
                  <a:pt x="487" y="4213"/>
                </a:lnTo>
                <a:lnTo>
                  <a:pt x="540" y="3949"/>
                </a:lnTo>
                <a:lnTo>
                  <a:pt x="638" y="3969"/>
                </a:lnTo>
                <a:lnTo>
                  <a:pt x="583" y="4238"/>
                </a:lnTo>
                <a:lnTo>
                  <a:pt x="551" y="4362"/>
                </a:lnTo>
                <a:lnTo>
                  <a:pt x="454" y="4337"/>
                </a:lnTo>
                <a:close/>
                <a:moveTo>
                  <a:pt x="618" y="3653"/>
                </a:moveTo>
                <a:lnTo>
                  <a:pt x="657" y="3541"/>
                </a:lnTo>
                <a:lnTo>
                  <a:pt x="654" y="3557"/>
                </a:lnTo>
                <a:lnTo>
                  <a:pt x="654" y="3339"/>
                </a:lnTo>
                <a:cubicBezTo>
                  <a:pt x="654" y="3335"/>
                  <a:pt x="654" y="3330"/>
                  <a:pt x="656" y="3326"/>
                </a:cubicBezTo>
                <a:lnTo>
                  <a:pt x="671" y="3265"/>
                </a:lnTo>
                <a:lnTo>
                  <a:pt x="768" y="3290"/>
                </a:lnTo>
                <a:lnTo>
                  <a:pt x="752" y="3351"/>
                </a:lnTo>
                <a:lnTo>
                  <a:pt x="754" y="3339"/>
                </a:lnTo>
                <a:lnTo>
                  <a:pt x="754" y="3557"/>
                </a:lnTo>
                <a:cubicBezTo>
                  <a:pt x="754" y="3563"/>
                  <a:pt x="753" y="3569"/>
                  <a:pt x="751" y="3574"/>
                </a:cubicBezTo>
                <a:lnTo>
                  <a:pt x="712" y="3686"/>
                </a:lnTo>
                <a:lnTo>
                  <a:pt x="618" y="3653"/>
                </a:lnTo>
                <a:close/>
                <a:moveTo>
                  <a:pt x="762" y="2976"/>
                </a:moveTo>
                <a:lnTo>
                  <a:pt x="814" y="2817"/>
                </a:lnTo>
                <a:cubicBezTo>
                  <a:pt x="815" y="2814"/>
                  <a:pt x="816" y="2811"/>
                  <a:pt x="818" y="2808"/>
                </a:cubicBezTo>
                <a:lnTo>
                  <a:pt x="874" y="2705"/>
                </a:lnTo>
                <a:lnTo>
                  <a:pt x="923" y="2604"/>
                </a:lnTo>
                <a:lnTo>
                  <a:pt x="1013" y="2648"/>
                </a:lnTo>
                <a:lnTo>
                  <a:pt x="962" y="2753"/>
                </a:lnTo>
                <a:lnTo>
                  <a:pt x="906" y="2856"/>
                </a:lnTo>
                <a:lnTo>
                  <a:pt x="909" y="2848"/>
                </a:lnTo>
                <a:lnTo>
                  <a:pt x="857" y="3007"/>
                </a:lnTo>
                <a:lnTo>
                  <a:pt x="762" y="2976"/>
                </a:lnTo>
                <a:close/>
                <a:moveTo>
                  <a:pt x="1102" y="2345"/>
                </a:moveTo>
                <a:lnTo>
                  <a:pt x="1132" y="2345"/>
                </a:lnTo>
                <a:lnTo>
                  <a:pt x="1096" y="2360"/>
                </a:lnTo>
                <a:lnTo>
                  <a:pt x="1153" y="2302"/>
                </a:lnTo>
                <a:cubicBezTo>
                  <a:pt x="1162" y="2293"/>
                  <a:pt x="1175" y="2287"/>
                  <a:pt x="1188" y="2287"/>
                </a:cubicBezTo>
                <a:cubicBezTo>
                  <a:pt x="1202" y="2287"/>
                  <a:pt x="1215" y="2293"/>
                  <a:pt x="1224" y="2302"/>
                </a:cubicBezTo>
                <a:lnTo>
                  <a:pt x="1280" y="2360"/>
                </a:lnTo>
                <a:lnTo>
                  <a:pt x="1329" y="2422"/>
                </a:lnTo>
                <a:lnTo>
                  <a:pt x="1321" y="2414"/>
                </a:lnTo>
                <a:lnTo>
                  <a:pt x="1378" y="2460"/>
                </a:lnTo>
                <a:cubicBezTo>
                  <a:pt x="1383" y="2464"/>
                  <a:pt x="1388" y="2470"/>
                  <a:pt x="1391" y="2477"/>
                </a:cubicBezTo>
                <a:lnTo>
                  <a:pt x="1419" y="2533"/>
                </a:lnTo>
                <a:lnTo>
                  <a:pt x="1329" y="2577"/>
                </a:lnTo>
                <a:lnTo>
                  <a:pt x="1301" y="2521"/>
                </a:lnTo>
                <a:lnTo>
                  <a:pt x="1314" y="2537"/>
                </a:lnTo>
                <a:lnTo>
                  <a:pt x="1258" y="2491"/>
                </a:lnTo>
                <a:cubicBezTo>
                  <a:pt x="1255" y="2489"/>
                  <a:pt x="1253" y="2486"/>
                  <a:pt x="1250" y="2483"/>
                </a:cubicBezTo>
                <a:lnTo>
                  <a:pt x="1209" y="2430"/>
                </a:lnTo>
                <a:lnTo>
                  <a:pt x="1153" y="2372"/>
                </a:lnTo>
                <a:lnTo>
                  <a:pt x="1224" y="2372"/>
                </a:lnTo>
                <a:lnTo>
                  <a:pt x="1168" y="2430"/>
                </a:lnTo>
                <a:cubicBezTo>
                  <a:pt x="1158" y="2440"/>
                  <a:pt x="1146" y="2445"/>
                  <a:pt x="1132" y="2445"/>
                </a:cubicBezTo>
                <a:lnTo>
                  <a:pt x="1102" y="2445"/>
                </a:lnTo>
                <a:lnTo>
                  <a:pt x="1102" y="2345"/>
                </a:lnTo>
                <a:close/>
                <a:moveTo>
                  <a:pt x="1541" y="2813"/>
                </a:moveTo>
                <a:lnTo>
                  <a:pt x="1562" y="2873"/>
                </a:lnTo>
                <a:lnTo>
                  <a:pt x="1616" y="2983"/>
                </a:lnTo>
                <a:cubicBezTo>
                  <a:pt x="1620" y="2990"/>
                  <a:pt x="1621" y="2997"/>
                  <a:pt x="1621" y="3005"/>
                </a:cubicBezTo>
                <a:lnTo>
                  <a:pt x="1621" y="3166"/>
                </a:lnTo>
                <a:lnTo>
                  <a:pt x="1621" y="3157"/>
                </a:lnTo>
                <a:lnTo>
                  <a:pt x="1630" y="3202"/>
                </a:lnTo>
                <a:lnTo>
                  <a:pt x="1531" y="3222"/>
                </a:lnTo>
                <a:lnTo>
                  <a:pt x="1522" y="3176"/>
                </a:lnTo>
                <a:cubicBezTo>
                  <a:pt x="1522" y="3173"/>
                  <a:pt x="1521" y="3169"/>
                  <a:pt x="1521" y="3166"/>
                </a:cubicBezTo>
                <a:lnTo>
                  <a:pt x="1521" y="3005"/>
                </a:lnTo>
                <a:lnTo>
                  <a:pt x="1527" y="3027"/>
                </a:lnTo>
                <a:lnTo>
                  <a:pt x="1468" y="2906"/>
                </a:lnTo>
                <a:lnTo>
                  <a:pt x="1447" y="2846"/>
                </a:lnTo>
                <a:lnTo>
                  <a:pt x="1541" y="2813"/>
                </a:lnTo>
                <a:close/>
                <a:moveTo>
                  <a:pt x="1701" y="3486"/>
                </a:moveTo>
                <a:lnTo>
                  <a:pt x="1720" y="3541"/>
                </a:lnTo>
                <a:lnTo>
                  <a:pt x="1778" y="3764"/>
                </a:lnTo>
                <a:lnTo>
                  <a:pt x="1805" y="3877"/>
                </a:lnTo>
                <a:lnTo>
                  <a:pt x="1708" y="3900"/>
                </a:lnTo>
                <a:lnTo>
                  <a:pt x="1681" y="3789"/>
                </a:lnTo>
                <a:lnTo>
                  <a:pt x="1626" y="3574"/>
                </a:lnTo>
                <a:lnTo>
                  <a:pt x="1606" y="3519"/>
                </a:lnTo>
                <a:lnTo>
                  <a:pt x="1701" y="3486"/>
                </a:lnTo>
                <a:close/>
                <a:moveTo>
                  <a:pt x="1879" y="4167"/>
                </a:moveTo>
                <a:lnTo>
                  <a:pt x="1890" y="4213"/>
                </a:lnTo>
                <a:lnTo>
                  <a:pt x="1936" y="4434"/>
                </a:lnTo>
                <a:cubicBezTo>
                  <a:pt x="1937" y="4437"/>
                  <a:pt x="1937" y="4440"/>
                  <a:pt x="1937" y="4444"/>
                </a:cubicBezTo>
                <a:lnTo>
                  <a:pt x="1937" y="4573"/>
                </a:lnTo>
                <a:lnTo>
                  <a:pt x="1837" y="4573"/>
                </a:lnTo>
                <a:lnTo>
                  <a:pt x="1837" y="4444"/>
                </a:lnTo>
                <a:lnTo>
                  <a:pt x="1838" y="4454"/>
                </a:lnTo>
                <a:lnTo>
                  <a:pt x="1793" y="4238"/>
                </a:lnTo>
                <a:lnTo>
                  <a:pt x="1782" y="4192"/>
                </a:lnTo>
                <a:lnTo>
                  <a:pt x="1879" y="4167"/>
                </a:lnTo>
                <a:close/>
                <a:moveTo>
                  <a:pt x="1972" y="4857"/>
                </a:moveTo>
                <a:lnTo>
                  <a:pt x="1992" y="4938"/>
                </a:lnTo>
                <a:lnTo>
                  <a:pt x="2048" y="5156"/>
                </a:lnTo>
                <a:lnTo>
                  <a:pt x="2071" y="5244"/>
                </a:lnTo>
                <a:lnTo>
                  <a:pt x="1974" y="5269"/>
                </a:lnTo>
                <a:lnTo>
                  <a:pt x="1951" y="5181"/>
                </a:lnTo>
                <a:lnTo>
                  <a:pt x="1895" y="4962"/>
                </a:lnTo>
                <a:lnTo>
                  <a:pt x="1875" y="4881"/>
                </a:lnTo>
                <a:lnTo>
                  <a:pt x="1972" y="4857"/>
                </a:lnTo>
                <a:close/>
                <a:moveTo>
                  <a:pt x="2145" y="5535"/>
                </a:moveTo>
                <a:lnTo>
                  <a:pt x="2161" y="5594"/>
                </a:lnTo>
                <a:lnTo>
                  <a:pt x="2206" y="5827"/>
                </a:lnTo>
                <a:lnTo>
                  <a:pt x="2205" y="5820"/>
                </a:lnTo>
                <a:lnTo>
                  <a:pt x="2239" y="5918"/>
                </a:lnTo>
                <a:lnTo>
                  <a:pt x="2145" y="5951"/>
                </a:lnTo>
                <a:lnTo>
                  <a:pt x="2110" y="5853"/>
                </a:lnTo>
                <a:cubicBezTo>
                  <a:pt x="2109" y="5851"/>
                  <a:pt x="2109" y="5848"/>
                  <a:pt x="2108" y="5846"/>
                </a:cubicBezTo>
                <a:lnTo>
                  <a:pt x="2064" y="5619"/>
                </a:lnTo>
                <a:lnTo>
                  <a:pt x="2049" y="5560"/>
                </a:lnTo>
                <a:lnTo>
                  <a:pt x="2145" y="5535"/>
                </a:lnTo>
                <a:close/>
                <a:moveTo>
                  <a:pt x="2287" y="6200"/>
                </a:moveTo>
                <a:lnTo>
                  <a:pt x="2314" y="6250"/>
                </a:lnTo>
                <a:lnTo>
                  <a:pt x="2306" y="6239"/>
                </a:lnTo>
                <a:lnTo>
                  <a:pt x="2362" y="6296"/>
                </a:lnTo>
                <a:lnTo>
                  <a:pt x="2418" y="6354"/>
                </a:lnTo>
                <a:lnTo>
                  <a:pt x="2383" y="6339"/>
                </a:lnTo>
                <a:lnTo>
                  <a:pt x="2428" y="6339"/>
                </a:lnTo>
                <a:lnTo>
                  <a:pt x="2484" y="6339"/>
                </a:lnTo>
                <a:lnTo>
                  <a:pt x="2434" y="6389"/>
                </a:lnTo>
                <a:lnTo>
                  <a:pt x="2434" y="6308"/>
                </a:lnTo>
                <a:lnTo>
                  <a:pt x="2534" y="6308"/>
                </a:lnTo>
                <a:lnTo>
                  <a:pt x="2534" y="6389"/>
                </a:lnTo>
                <a:cubicBezTo>
                  <a:pt x="2534" y="6416"/>
                  <a:pt x="2512" y="6439"/>
                  <a:pt x="2484" y="6439"/>
                </a:cubicBezTo>
                <a:lnTo>
                  <a:pt x="2428" y="6439"/>
                </a:lnTo>
                <a:lnTo>
                  <a:pt x="2383" y="6439"/>
                </a:lnTo>
                <a:cubicBezTo>
                  <a:pt x="2369" y="6439"/>
                  <a:pt x="2356" y="6433"/>
                  <a:pt x="2347" y="6424"/>
                </a:cubicBezTo>
                <a:lnTo>
                  <a:pt x="2291" y="6366"/>
                </a:lnTo>
                <a:lnTo>
                  <a:pt x="2234" y="6309"/>
                </a:lnTo>
                <a:cubicBezTo>
                  <a:pt x="2231" y="6305"/>
                  <a:pt x="2228" y="6302"/>
                  <a:pt x="2226" y="6298"/>
                </a:cubicBezTo>
                <a:lnTo>
                  <a:pt x="2199" y="6248"/>
                </a:lnTo>
                <a:lnTo>
                  <a:pt x="2287" y="6200"/>
                </a:lnTo>
                <a:close/>
                <a:moveTo>
                  <a:pt x="2539" y="6014"/>
                </a:moveTo>
                <a:lnTo>
                  <a:pt x="2549" y="5982"/>
                </a:lnTo>
                <a:lnTo>
                  <a:pt x="2606" y="5820"/>
                </a:lnTo>
                <a:lnTo>
                  <a:pt x="2604" y="5827"/>
                </a:lnTo>
                <a:lnTo>
                  <a:pt x="2641" y="5635"/>
                </a:lnTo>
                <a:lnTo>
                  <a:pt x="2740" y="5654"/>
                </a:lnTo>
                <a:lnTo>
                  <a:pt x="2702" y="5846"/>
                </a:lnTo>
                <a:cubicBezTo>
                  <a:pt x="2702" y="5848"/>
                  <a:pt x="2701" y="5851"/>
                  <a:pt x="2700" y="5853"/>
                </a:cubicBezTo>
                <a:lnTo>
                  <a:pt x="2644" y="6013"/>
                </a:lnTo>
                <a:lnTo>
                  <a:pt x="2634" y="6045"/>
                </a:lnTo>
                <a:lnTo>
                  <a:pt x="2539" y="6014"/>
                </a:lnTo>
                <a:close/>
                <a:moveTo>
                  <a:pt x="2712" y="5343"/>
                </a:moveTo>
                <a:lnTo>
                  <a:pt x="2762" y="5101"/>
                </a:lnTo>
                <a:lnTo>
                  <a:pt x="2761" y="5111"/>
                </a:lnTo>
                <a:lnTo>
                  <a:pt x="2761" y="4958"/>
                </a:lnTo>
                <a:lnTo>
                  <a:pt x="2861" y="4958"/>
                </a:lnTo>
                <a:lnTo>
                  <a:pt x="2861" y="5111"/>
                </a:lnTo>
                <a:cubicBezTo>
                  <a:pt x="2861" y="5115"/>
                  <a:pt x="2860" y="5118"/>
                  <a:pt x="2860" y="5121"/>
                </a:cubicBezTo>
                <a:lnTo>
                  <a:pt x="2810" y="5363"/>
                </a:lnTo>
                <a:lnTo>
                  <a:pt x="2712" y="5343"/>
                </a:lnTo>
                <a:close/>
                <a:moveTo>
                  <a:pt x="2797" y="4652"/>
                </a:moveTo>
                <a:lnTo>
                  <a:pt x="2818" y="4549"/>
                </a:lnTo>
                <a:lnTo>
                  <a:pt x="2874" y="4273"/>
                </a:lnTo>
                <a:lnTo>
                  <a:pt x="2876" y="4262"/>
                </a:lnTo>
                <a:lnTo>
                  <a:pt x="2975" y="4278"/>
                </a:lnTo>
                <a:lnTo>
                  <a:pt x="2972" y="4293"/>
                </a:lnTo>
                <a:lnTo>
                  <a:pt x="2916" y="4569"/>
                </a:lnTo>
                <a:lnTo>
                  <a:pt x="2895" y="4672"/>
                </a:lnTo>
                <a:lnTo>
                  <a:pt x="2797" y="4652"/>
                </a:lnTo>
                <a:close/>
                <a:moveTo>
                  <a:pt x="2926" y="3964"/>
                </a:moveTo>
                <a:lnTo>
                  <a:pt x="2976" y="3709"/>
                </a:lnTo>
                <a:lnTo>
                  <a:pt x="3004" y="3572"/>
                </a:lnTo>
                <a:lnTo>
                  <a:pt x="3102" y="3592"/>
                </a:lnTo>
                <a:lnTo>
                  <a:pt x="3074" y="3728"/>
                </a:lnTo>
                <a:lnTo>
                  <a:pt x="3024" y="3984"/>
                </a:lnTo>
                <a:lnTo>
                  <a:pt x="2926" y="3964"/>
                </a:lnTo>
                <a:close/>
                <a:moveTo>
                  <a:pt x="3064" y="3278"/>
                </a:moveTo>
                <a:lnTo>
                  <a:pt x="3089" y="3156"/>
                </a:lnTo>
                <a:lnTo>
                  <a:pt x="3087" y="3166"/>
                </a:lnTo>
                <a:lnTo>
                  <a:pt x="3087" y="2890"/>
                </a:lnTo>
                <a:lnTo>
                  <a:pt x="3188" y="2890"/>
                </a:lnTo>
                <a:lnTo>
                  <a:pt x="3188" y="3166"/>
                </a:lnTo>
                <a:cubicBezTo>
                  <a:pt x="3188" y="3169"/>
                  <a:pt x="3187" y="3173"/>
                  <a:pt x="3186" y="3176"/>
                </a:cubicBezTo>
                <a:lnTo>
                  <a:pt x="3162" y="3298"/>
                </a:lnTo>
                <a:lnTo>
                  <a:pt x="3064" y="3278"/>
                </a:lnTo>
                <a:close/>
                <a:moveTo>
                  <a:pt x="3147" y="2588"/>
                </a:moveTo>
                <a:lnTo>
                  <a:pt x="3190" y="2329"/>
                </a:lnTo>
                <a:lnTo>
                  <a:pt x="3225" y="2191"/>
                </a:lnTo>
                <a:lnTo>
                  <a:pt x="3322" y="2216"/>
                </a:lnTo>
                <a:lnTo>
                  <a:pt x="3288" y="2345"/>
                </a:lnTo>
                <a:lnTo>
                  <a:pt x="3246" y="2604"/>
                </a:lnTo>
                <a:lnTo>
                  <a:pt x="3147" y="2588"/>
                </a:lnTo>
                <a:close/>
                <a:moveTo>
                  <a:pt x="3297" y="1901"/>
                </a:moveTo>
                <a:lnTo>
                  <a:pt x="3303" y="1877"/>
                </a:lnTo>
                <a:lnTo>
                  <a:pt x="3359" y="1657"/>
                </a:lnTo>
                <a:lnTo>
                  <a:pt x="3358" y="1670"/>
                </a:lnTo>
                <a:lnTo>
                  <a:pt x="3358" y="1521"/>
                </a:lnTo>
                <a:lnTo>
                  <a:pt x="3458" y="1521"/>
                </a:lnTo>
                <a:lnTo>
                  <a:pt x="3458" y="1670"/>
                </a:lnTo>
                <a:cubicBezTo>
                  <a:pt x="3458" y="1674"/>
                  <a:pt x="3457" y="1678"/>
                  <a:pt x="3456" y="1682"/>
                </a:cubicBezTo>
                <a:lnTo>
                  <a:pt x="3400" y="1900"/>
                </a:lnTo>
                <a:lnTo>
                  <a:pt x="3394" y="1925"/>
                </a:lnTo>
                <a:lnTo>
                  <a:pt x="3297" y="1901"/>
                </a:lnTo>
                <a:close/>
                <a:moveTo>
                  <a:pt x="3445" y="1220"/>
                </a:moveTo>
                <a:lnTo>
                  <a:pt x="3461" y="1161"/>
                </a:lnTo>
                <a:cubicBezTo>
                  <a:pt x="3462" y="1159"/>
                  <a:pt x="3463" y="1156"/>
                  <a:pt x="3464" y="1153"/>
                </a:cubicBezTo>
                <a:lnTo>
                  <a:pt x="3521" y="1038"/>
                </a:lnTo>
                <a:lnTo>
                  <a:pt x="3578" y="932"/>
                </a:lnTo>
                <a:lnTo>
                  <a:pt x="3618" y="851"/>
                </a:lnTo>
                <a:lnTo>
                  <a:pt x="3708" y="895"/>
                </a:lnTo>
                <a:lnTo>
                  <a:pt x="3666" y="980"/>
                </a:lnTo>
                <a:lnTo>
                  <a:pt x="3611" y="1082"/>
                </a:lnTo>
                <a:lnTo>
                  <a:pt x="3554" y="1197"/>
                </a:lnTo>
                <a:lnTo>
                  <a:pt x="3557" y="1188"/>
                </a:lnTo>
                <a:lnTo>
                  <a:pt x="3541" y="1247"/>
                </a:lnTo>
                <a:lnTo>
                  <a:pt x="3445" y="1220"/>
                </a:lnTo>
                <a:close/>
                <a:moveTo>
                  <a:pt x="3872" y="676"/>
                </a:moveTo>
                <a:lnTo>
                  <a:pt x="3892" y="676"/>
                </a:lnTo>
                <a:cubicBezTo>
                  <a:pt x="3906" y="676"/>
                  <a:pt x="3919" y="681"/>
                  <a:pt x="3928" y="691"/>
                </a:cubicBezTo>
                <a:lnTo>
                  <a:pt x="3984" y="749"/>
                </a:lnTo>
                <a:lnTo>
                  <a:pt x="4041" y="806"/>
                </a:lnTo>
                <a:cubicBezTo>
                  <a:pt x="4044" y="810"/>
                  <a:pt x="4048" y="814"/>
                  <a:pt x="4050" y="819"/>
                </a:cubicBezTo>
                <a:lnTo>
                  <a:pt x="4106" y="934"/>
                </a:lnTo>
                <a:cubicBezTo>
                  <a:pt x="4110" y="941"/>
                  <a:pt x="4111" y="949"/>
                  <a:pt x="4111" y="956"/>
                </a:cubicBezTo>
                <a:lnTo>
                  <a:pt x="4111" y="1046"/>
                </a:lnTo>
                <a:lnTo>
                  <a:pt x="4011" y="1046"/>
                </a:lnTo>
                <a:lnTo>
                  <a:pt x="4011" y="956"/>
                </a:lnTo>
                <a:lnTo>
                  <a:pt x="4016" y="978"/>
                </a:lnTo>
                <a:lnTo>
                  <a:pt x="3960" y="863"/>
                </a:lnTo>
                <a:lnTo>
                  <a:pt x="3969" y="876"/>
                </a:lnTo>
                <a:lnTo>
                  <a:pt x="3913" y="819"/>
                </a:lnTo>
                <a:lnTo>
                  <a:pt x="3857" y="761"/>
                </a:lnTo>
                <a:lnTo>
                  <a:pt x="3892" y="776"/>
                </a:lnTo>
                <a:lnTo>
                  <a:pt x="3872" y="776"/>
                </a:lnTo>
                <a:lnTo>
                  <a:pt x="3872" y="676"/>
                </a:lnTo>
                <a:close/>
                <a:moveTo>
                  <a:pt x="4207" y="1312"/>
                </a:moveTo>
                <a:lnTo>
                  <a:pt x="4210" y="1320"/>
                </a:lnTo>
                <a:lnTo>
                  <a:pt x="4267" y="1493"/>
                </a:lnTo>
                <a:lnTo>
                  <a:pt x="4323" y="1653"/>
                </a:lnTo>
                <a:lnTo>
                  <a:pt x="4335" y="1692"/>
                </a:lnTo>
                <a:lnTo>
                  <a:pt x="4240" y="1723"/>
                </a:lnTo>
                <a:lnTo>
                  <a:pt x="4228" y="1686"/>
                </a:lnTo>
                <a:lnTo>
                  <a:pt x="4172" y="1524"/>
                </a:lnTo>
                <a:lnTo>
                  <a:pt x="4116" y="1353"/>
                </a:lnTo>
                <a:lnTo>
                  <a:pt x="4113" y="1345"/>
                </a:lnTo>
                <a:lnTo>
                  <a:pt x="4207" y="1312"/>
                </a:lnTo>
                <a:close/>
                <a:moveTo>
                  <a:pt x="4382" y="2001"/>
                </a:moveTo>
                <a:lnTo>
                  <a:pt x="4382" y="2061"/>
                </a:lnTo>
                <a:lnTo>
                  <a:pt x="4380" y="2048"/>
                </a:lnTo>
                <a:lnTo>
                  <a:pt x="4425" y="2209"/>
                </a:lnTo>
                <a:lnTo>
                  <a:pt x="4466" y="2378"/>
                </a:lnTo>
                <a:lnTo>
                  <a:pt x="4369" y="2401"/>
                </a:lnTo>
                <a:lnTo>
                  <a:pt x="4329" y="2236"/>
                </a:lnTo>
                <a:lnTo>
                  <a:pt x="4284" y="2075"/>
                </a:lnTo>
                <a:cubicBezTo>
                  <a:pt x="4282" y="2070"/>
                  <a:pt x="4282" y="2066"/>
                  <a:pt x="4282" y="2061"/>
                </a:cubicBezTo>
                <a:lnTo>
                  <a:pt x="4282" y="2001"/>
                </a:lnTo>
                <a:lnTo>
                  <a:pt x="4382" y="2001"/>
                </a:lnTo>
                <a:close/>
                <a:moveTo>
                  <a:pt x="4540" y="2668"/>
                </a:moveTo>
                <a:lnTo>
                  <a:pt x="4594" y="2877"/>
                </a:lnTo>
                <a:lnTo>
                  <a:pt x="4640" y="3055"/>
                </a:lnTo>
                <a:lnTo>
                  <a:pt x="4543" y="3080"/>
                </a:lnTo>
                <a:lnTo>
                  <a:pt x="4497" y="2902"/>
                </a:lnTo>
                <a:lnTo>
                  <a:pt x="4443" y="2693"/>
                </a:lnTo>
                <a:lnTo>
                  <a:pt x="4540" y="2668"/>
                </a:lnTo>
                <a:close/>
                <a:moveTo>
                  <a:pt x="4697" y="3362"/>
                </a:moveTo>
                <a:lnTo>
                  <a:pt x="4697" y="3500"/>
                </a:lnTo>
                <a:lnTo>
                  <a:pt x="4696" y="3487"/>
                </a:lnTo>
                <a:lnTo>
                  <a:pt x="4752" y="3706"/>
                </a:lnTo>
                <a:lnTo>
                  <a:pt x="4762" y="3738"/>
                </a:lnTo>
                <a:lnTo>
                  <a:pt x="4667" y="3769"/>
                </a:lnTo>
                <a:lnTo>
                  <a:pt x="4655" y="3731"/>
                </a:lnTo>
                <a:lnTo>
                  <a:pt x="4599" y="3512"/>
                </a:lnTo>
                <a:cubicBezTo>
                  <a:pt x="4598" y="3508"/>
                  <a:pt x="4597" y="3504"/>
                  <a:pt x="4597" y="3500"/>
                </a:cubicBezTo>
                <a:lnTo>
                  <a:pt x="4597" y="3362"/>
                </a:lnTo>
                <a:lnTo>
                  <a:pt x="4697" y="3362"/>
                </a:lnTo>
                <a:close/>
                <a:moveTo>
                  <a:pt x="4858" y="4021"/>
                </a:moveTo>
                <a:lnTo>
                  <a:pt x="4863" y="4036"/>
                </a:lnTo>
                <a:lnTo>
                  <a:pt x="4920" y="4210"/>
                </a:lnTo>
                <a:lnTo>
                  <a:pt x="4966" y="4373"/>
                </a:lnTo>
                <a:lnTo>
                  <a:pt x="4953" y="4351"/>
                </a:lnTo>
                <a:lnTo>
                  <a:pt x="4978" y="4376"/>
                </a:lnTo>
                <a:lnTo>
                  <a:pt x="4906" y="4446"/>
                </a:lnTo>
                <a:lnTo>
                  <a:pt x="4882" y="4421"/>
                </a:lnTo>
                <a:cubicBezTo>
                  <a:pt x="4876" y="4415"/>
                  <a:pt x="4872" y="4408"/>
                  <a:pt x="4869" y="4400"/>
                </a:cubicBezTo>
                <a:lnTo>
                  <a:pt x="4825" y="4241"/>
                </a:lnTo>
                <a:lnTo>
                  <a:pt x="4769" y="4069"/>
                </a:lnTo>
                <a:lnTo>
                  <a:pt x="4764" y="4054"/>
                </a:lnTo>
                <a:lnTo>
                  <a:pt x="4858" y="4021"/>
                </a:lnTo>
                <a:close/>
                <a:moveTo>
                  <a:pt x="5122" y="4310"/>
                </a:moveTo>
                <a:lnTo>
                  <a:pt x="5142" y="4263"/>
                </a:lnTo>
                <a:lnTo>
                  <a:pt x="5199" y="4146"/>
                </a:lnTo>
                <a:lnTo>
                  <a:pt x="5194" y="4167"/>
                </a:lnTo>
                <a:lnTo>
                  <a:pt x="5194" y="4006"/>
                </a:lnTo>
                <a:cubicBezTo>
                  <a:pt x="5194" y="4001"/>
                  <a:pt x="5195" y="3996"/>
                  <a:pt x="5197" y="3991"/>
                </a:cubicBezTo>
                <a:lnTo>
                  <a:pt x="5215" y="3935"/>
                </a:lnTo>
                <a:lnTo>
                  <a:pt x="5310" y="3966"/>
                </a:lnTo>
                <a:lnTo>
                  <a:pt x="5292" y="4022"/>
                </a:lnTo>
                <a:lnTo>
                  <a:pt x="5294" y="4006"/>
                </a:lnTo>
                <a:lnTo>
                  <a:pt x="5294" y="4167"/>
                </a:lnTo>
                <a:cubicBezTo>
                  <a:pt x="5294" y="4175"/>
                  <a:pt x="5293" y="4183"/>
                  <a:pt x="5289" y="4189"/>
                </a:cubicBezTo>
                <a:lnTo>
                  <a:pt x="5234" y="4303"/>
                </a:lnTo>
                <a:lnTo>
                  <a:pt x="5213" y="4350"/>
                </a:lnTo>
                <a:lnTo>
                  <a:pt x="5122" y="4310"/>
                </a:lnTo>
                <a:close/>
                <a:moveTo>
                  <a:pt x="5297" y="3649"/>
                </a:moveTo>
                <a:lnTo>
                  <a:pt x="5309" y="3603"/>
                </a:lnTo>
                <a:lnTo>
                  <a:pt x="5364" y="3329"/>
                </a:lnTo>
                <a:lnTo>
                  <a:pt x="5378" y="3261"/>
                </a:lnTo>
                <a:lnTo>
                  <a:pt x="5476" y="3280"/>
                </a:lnTo>
                <a:lnTo>
                  <a:pt x="5462" y="3349"/>
                </a:lnTo>
                <a:lnTo>
                  <a:pt x="5405" y="3627"/>
                </a:lnTo>
                <a:lnTo>
                  <a:pt x="5393" y="3674"/>
                </a:lnTo>
                <a:lnTo>
                  <a:pt x="5297" y="3649"/>
                </a:lnTo>
                <a:close/>
                <a:moveTo>
                  <a:pt x="5436" y="2966"/>
                </a:moveTo>
                <a:lnTo>
                  <a:pt x="5466" y="2822"/>
                </a:lnTo>
                <a:lnTo>
                  <a:pt x="5516" y="2574"/>
                </a:lnTo>
                <a:lnTo>
                  <a:pt x="5614" y="2594"/>
                </a:lnTo>
                <a:lnTo>
                  <a:pt x="5564" y="2842"/>
                </a:lnTo>
                <a:lnTo>
                  <a:pt x="5534" y="2986"/>
                </a:lnTo>
                <a:lnTo>
                  <a:pt x="5436" y="2966"/>
                </a:lnTo>
                <a:close/>
                <a:moveTo>
                  <a:pt x="5521" y="2285"/>
                </a:moveTo>
                <a:lnTo>
                  <a:pt x="5521" y="2280"/>
                </a:lnTo>
                <a:cubicBezTo>
                  <a:pt x="5521" y="2277"/>
                  <a:pt x="5521" y="2273"/>
                  <a:pt x="5522" y="2270"/>
                </a:cubicBezTo>
                <a:lnTo>
                  <a:pt x="5578" y="1994"/>
                </a:lnTo>
                <a:lnTo>
                  <a:pt x="5601" y="1883"/>
                </a:lnTo>
                <a:lnTo>
                  <a:pt x="5699" y="1903"/>
                </a:lnTo>
                <a:lnTo>
                  <a:pt x="5676" y="2014"/>
                </a:lnTo>
                <a:lnTo>
                  <a:pt x="5620" y="2290"/>
                </a:lnTo>
                <a:lnTo>
                  <a:pt x="5621" y="2280"/>
                </a:lnTo>
                <a:lnTo>
                  <a:pt x="5621" y="2285"/>
                </a:lnTo>
                <a:lnTo>
                  <a:pt x="5521" y="2285"/>
                </a:lnTo>
                <a:close/>
                <a:moveTo>
                  <a:pt x="5661" y="1589"/>
                </a:moveTo>
                <a:lnTo>
                  <a:pt x="5691" y="1441"/>
                </a:lnTo>
                <a:lnTo>
                  <a:pt x="5731" y="1197"/>
                </a:lnTo>
                <a:lnTo>
                  <a:pt x="5830" y="1213"/>
                </a:lnTo>
                <a:lnTo>
                  <a:pt x="5789" y="1461"/>
                </a:lnTo>
                <a:lnTo>
                  <a:pt x="5759" y="1609"/>
                </a:lnTo>
                <a:lnTo>
                  <a:pt x="5661" y="1589"/>
                </a:lnTo>
                <a:close/>
                <a:moveTo>
                  <a:pt x="5790" y="901"/>
                </a:moveTo>
                <a:lnTo>
                  <a:pt x="5792" y="889"/>
                </a:lnTo>
                <a:lnTo>
                  <a:pt x="5791" y="899"/>
                </a:lnTo>
                <a:lnTo>
                  <a:pt x="5791" y="669"/>
                </a:lnTo>
                <a:cubicBezTo>
                  <a:pt x="5791" y="664"/>
                  <a:pt x="5792" y="660"/>
                  <a:pt x="5793" y="656"/>
                </a:cubicBezTo>
                <a:lnTo>
                  <a:pt x="5832" y="504"/>
                </a:lnTo>
                <a:lnTo>
                  <a:pt x="5929" y="529"/>
                </a:lnTo>
                <a:lnTo>
                  <a:pt x="5890" y="681"/>
                </a:lnTo>
                <a:lnTo>
                  <a:pt x="5891" y="669"/>
                </a:lnTo>
                <a:lnTo>
                  <a:pt x="5891" y="899"/>
                </a:lnTo>
                <a:cubicBezTo>
                  <a:pt x="5891" y="902"/>
                  <a:pt x="5891" y="905"/>
                  <a:pt x="5890" y="909"/>
                </a:cubicBezTo>
                <a:lnTo>
                  <a:pt x="5888" y="921"/>
                </a:lnTo>
                <a:lnTo>
                  <a:pt x="5790" y="901"/>
                </a:lnTo>
                <a:close/>
                <a:moveTo>
                  <a:pt x="5907" y="213"/>
                </a:moveTo>
                <a:lnTo>
                  <a:pt x="5962" y="0"/>
                </a:lnTo>
                <a:lnTo>
                  <a:pt x="6059" y="25"/>
                </a:lnTo>
                <a:lnTo>
                  <a:pt x="6004" y="238"/>
                </a:lnTo>
                <a:lnTo>
                  <a:pt x="5907" y="213"/>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471920" y="2975040"/>
            <a:ext cx="955800" cy="1182600"/>
          </a:xfrm>
          <a:custGeom>
            <a:avLst/>
            <a:gdLst/>
            <a:ahLst/>
            <a:rect l="l" t="t" r="r" b="b"/>
            <a:pathLst>
              <a:path w="6050" h="7460">
                <a:moveTo>
                  <a:pt x="0" y="3971"/>
                </a:moveTo>
                <a:lnTo>
                  <a:pt x="45" y="3798"/>
                </a:lnTo>
                <a:lnTo>
                  <a:pt x="103" y="3633"/>
                </a:lnTo>
                <a:lnTo>
                  <a:pt x="118" y="3586"/>
                </a:lnTo>
                <a:lnTo>
                  <a:pt x="213" y="3617"/>
                </a:lnTo>
                <a:lnTo>
                  <a:pt x="197" y="3666"/>
                </a:lnTo>
                <a:lnTo>
                  <a:pt x="142" y="3824"/>
                </a:lnTo>
                <a:lnTo>
                  <a:pt x="97" y="3996"/>
                </a:lnTo>
                <a:lnTo>
                  <a:pt x="0" y="3971"/>
                </a:lnTo>
                <a:close/>
                <a:moveTo>
                  <a:pt x="190" y="3293"/>
                </a:moveTo>
                <a:lnTo>
                  <a:pt x="217" y="3237"/>
                </a:lnTo>
                <a:lnTo>
                  <a:pt x="274" y="3122"/>
                </a:lnTo>
                <a:cubicBezTo>
                  <a:pt x="276" y="3117"/>
                  <a:pt x="279" y="3113"/>
                  <a:pt x="283" y="3109"/>
                </a:cubicBezTo>
                <a:lnTo>
                  <a:pt x="328" y="3063"/>
                </a:lnTo>
                <a:cubicBezTo>
                  <a:pt x="337" y="3053"/>
                  <a:pt x="350" y="3048"/>
                  <a:pt x="364" y="3048"/>
                </a:cubicBezTo>
                <a:lnTo>
                  <a:pt x="420" y="3048"/>
                </a:lnTo>
                <a:lnTo>
                  <a:pt x="476" y="3048"/>
                </a:lnTo>
                <a:lnTo>
                  <a:pt x="509" y="3048"/>
                </a:lnTo>
                <a:lnTo>
                  <a:pt x="509" y="3148"/>
                </a:lnTo>
                <a:lnTo>
                  <a:pt x="476" y="3148"/>
                </a:lnTo>
                <a:lnTo>
                  <a:pt x="420" y="3148"/>
                </a:lnTo>
                <a:lnTo>
                  <a:pt x="364" y="3148"/>
                </a:lnTo>
                <a:lnTo>
                  <a:pt x="399" y="3133"/>
                </a:lnTo>
                <a:lnTo>
                  <a:pt x="354" y="3179"/>
                </a:lnTo>
                <a:lnTo>
                  <a:pt x="364" y="3166"/>
                </a:lnTo>
                <a:lnTo>
                  <a:pt x="307" y="3281"/>
                </a:lnTo>
                <a:lnTo>
                  <a:pt x="280" y="3336"/>
                </a:lnTo>
                <a:lnTo>
                  <a:pt x="190" y="3293"/>
                </a:lnTo>
                <a:close/>
                <a:moveTo>
                  <a:pt x="714" y="3309"/>
                </a:moveTo>
                <a:lnTo>
                  <a:pt x="735" y="3352"/>
                </a:lnTo>
                <a:lnTo>
                  <a:pt x="790" y="3454"/>
                </a:lnTo>
                <a:lnTo>
                  <a:pt x="848" y="3570"/>
                </a:lnTo>
                <a:cubicBezTo>
                  <a:pt x="851" y="3577"/>
                  <a:pt x="853" y="3585"/>
                  <a:pt x="853" y="3592"/>
                </a:cubicBezTo>
                <a:lnTo>
                  <a:pt x="853" y="3699"/>
                </a:lnTo>
                <a:lnTo>
                  <a:pt x="753" y="3699"/>
                </a:lnTo>
                <a:lnTo>
                  <a:pt x="753" y="3592"/>
                </a:lnTo>
                <a:lnTo>
                  <a:pt x="758" y="3614"/>
                </a:lnTo>
                <a:lnTo>
                  <a:pt x="702" y="3501"/>
                </a:lnTo>
                <a:lnTo>
                  <a:pt x="645" y="3396"/>
                </a:lnTo>
                <a:lnTo>
                  <a:pt x="624" y="3353"/>
                </a:lnTo>
                <a:lnTo>
                  <a:pt x="714" y="3309"/>
                </a:lnTo>
                <a:close/>
                <a:moveTo>
                  <a:pt x="921" y="3979"/>
                </a:moveTo>
                <a:lnTo>
                  <a:pt x="953" y="4134"/>
                </a:lnTo>
                <a:lnTo>
                  <a:pt x="1008" y="4301"/>
                </a:lnTo>
                <a:lnTo>
                  <a:pt x="1024" y="4362"/>
                </a:lnTo>
                <a:lnTo>
                  <a:pt x="927" y="4387"/>
                </a:lnTo>
                <a:lnTo>
                  <a:pt x="913" y="4332"/>
                </a:lnTo>
                <a:lnTo>
                  <a:pt x="855" y="4155"/>
                </a:lnTo>
                <a:lnTo>
                  <a:pt x="823" y="3999"/>
                </a:lnTo>
                <a:lnTo>
                  <a:pt x="921" y="3979"/>
                </a:lnTo>
                <a:close/>
                <a:moveTo>
                  <a:pt x="1098" y="4653"/>
                </a:moveTo>
                <a:lnTo>
                  <a:pt x="1121" y="4741"/>
                </a:lnTo>
                <a:lnTo>
                  <a:pt x="1178" y="5020"/>
                </a:lnTo>
                <a:cubicBezTo>
                  <a:pt x="1179" y="5023"/>
                  <a:pt x="1179" y="5027"/>
                  <a:pt x="1179" y="5030"/>
                </a:cubicBezTo>
                <a:lnTo>
                  <a:pt x="1179" y="5057"/>
                </a:lnTo>
                <a:lnTo>
                  <a:pt x="1079" y="5057"/>
                </a:lnTo>
                <a:lnTo>
                  <a:pt x="1079" y="5030"/>
                </a:lnTo>
                <a:lnTo>
                  <a:pt x="1080" y="5040"/>
                </a:lnTo>
                <a:lnTo>
                  <a:pt x="1024" y="4766"/>
                </a:lnTo>
                <a:lnTo>
                  <a:pt x="1002" y="4678"/>
                </a:lnTo>
                <a:lnTo>
                  <a:pt x="1098" y="4653"/>
                </a:lnTo>
                <a:close/>
                <a:moveTo>
                  <a:pt x="1195" y="5348"/>
                </a:moveTo>
                <a:lnTo>
                  <a:pt x="1224" y="5528"/>
                </a:lnTo>
                <a:lnTo>
                  <a:pt x="1277" y="5734"/>
                </a:lnTo>
                <a:lnTo>
                  <a:pt x="1180" y="5759"/>
                </a:lnTo>
                <a:lnTo>
                  <a:pt x="1125" y="5544"/>
                </a:lnTo>
                <a:lnTo>
                  <a:pt x="1097" y="5363"/>
                </a:lnTo>
                <a:lnTo>
                  <a:pt x="1195" y="5348"/>
                </a:lnTo>
                <a:close/>
                <a:moveTo>
                  <a:pt x="1338" y="6028"/>
                </a:moveTo>
                <a:lnTo>
                  <a:pt x="1391" y="6236"/>
                </a:lnTo>
                <a:lnTo>
                  <a:pt x="1437" y="6415"/>
                </a:lnTo>
                <a:lnTo>
                  <a:pt x="1341" y="6440"/>
                </a:lnTo>
                <a:lnTo>
                  <a:pt x="1295" y="6261"/>
                </a:lnTo>
                <a:lnTo>
                  <a:pt x="1241" y="6053"/>
                </a:lnTo>
                <a:lnTo>
                  <a:pt x="1338" y="6028"/>
                </a:lnTo>
                <a:close/>
                <a:moveTo>
                  <a:pt x="1494" y="6722"/>
                </a:moveTo>
                <a:lnTo>
                  <a:pt x="1494" y="6858"/>
                </a:lnTo>
                <a:lnTo>
                  <a:pt x="1493" y="6846"/>
                </a:lnTo>
                <a:lnTo>
                  <a:pt x="1549" y="7064"/>
                </a:lnTo>
                <a:lnTo>
                  <a:pt x="1546" y="7055"/>
                </a:lnTo>
                <a:lnTo>
                  <a:pt x="1562" y="7089"/>
                </a:lnTo>
                <a:lnTo>
                  <a:pt x="1472" y="7133"/>
                </a:lnTo>
                <a:lnTo>
                  <a:pt x="1456" y="7099"/>
                </a:lnTo>
                <a:cubicBezTo>
                  <a:pt x="1454" y="7096"/>
                  <a:pt x="1453" y="7093"/>
                  <a:pt x="1452" y="7089"/>
                </a:cubicBezTo>
                <a:lnTo>
                  <a:pt x="1396" y="6871"/>
                </a:lnTo>
                <a:cubicBezTo>
                  <a:pt x="1395" y="6867"/>
                  <a:pt x="1394" y="6863"/>
                  <a:pt x="1394" y="6858"/>
                </a:cubicBezTo>
                <a:lnTo>
                  <a:pt x="1394" y="6722"/>
                </a:lnTo>
                <a:lnTo>
                  <a:pt x="1494" y="6722"/>
                </a:lnTo>
                <a:close/>
                <a:moveTo>
                  <a:pt x="1696" y="7355"/>
                </a:moveTo>
                <a:lnTo>
                  <a:pt x="1713" y="7387"/>
                </a:lnTo>
                <a:lnTo>
                  <a:pt x="1669" y="7360"/>
                </a:lnTo>
                <a:lnTo>
                  <a:pt x="1715" y="7360"/>
                </a:lnTo>
                <a:lnTo>
                  <a:pt x="1683" y="7372"/>
                </a:lnTo>
                <a:lnTo>
                  <a:pt x="1739" y="7326"/>
                </a:lnTo>
                <a:lnTo>
                  <a:pt x="1726" y="7342"/>
                </a:lnTo>
                <a:lnTo>
                  <a:pt x="1782" y="7227"/>
                </a:lnTo>
                <a:lnTo>
                  <a:pt x="1834" y="7121"/>
                </a:lnTo>
                <a:lnTo>
                  <a:pt x="1924" y="7165"/>
                </a:lnTo>
                <a:lnTo>
                  <a:pt x="1872" y="7271"/>
                </a:lnTo>
                <a:lnTo>
                  <a:pt x="1816" y="7386"/>
                </a:lnTo>
                <a:cubicBezTo>
                  <a:pt x="1813" y="7393"/>
                  <a:pt x="1808" y="7399"/>
                  <a:pt x="1802" y="7403"/>
                </a:cubicBezTo>
                <a:lnTo>
                  <a:pt x="1746" y="7449"/>
                </a:lnTo>
                <a:cubicBezTo>
                  <a:pt x="1737" y="7456"/>
                  <a:pt x="1726" y="7460"/>
                  <a:pt x="1715" y="7460"/>
                </a:cubicBezTo>
                <a:lnTo>
                  <a:pt x="1669" y="7460"/>
                </a:lnTo>
                <a:cubicBezTo>
                  <a:pt x="1651" y="7460"/>
                  <a:pt x="1634" y="7450"/>
                  <a:pt x="1626" y="7434"/>
                </a:cubicBezTo>
                <a:lnTo>
                  <a:pt x="1608" y="7403"/>
                </a:lnTo>
                <a:lnTo>
                  <a:pt x="1696" y="7355"/>
                </a:lnTo>
                <a:close/>
                <a:moveTo>
                  <a:pt x="1921" y="6845"/>
                </a:moveTo>
                <a:lnTo>
                  <a:pt x="1948" y="6742"/>
                </a:lnTo>
                <a:lnTo>
                  <a:pt x="1992" y="6515"/>
                </a:lnTo>
                <a:lnTo>
                  <a:pt x="1991" y="6525"/>
                </a:lnTo>
                <a:lnTo>
                  <a:pt x="1991" y="6465"/>
                </a:lnTo>
                <a:lnTo>
                  <a:pt x="2091" y="6465"/>
                </a:lnTo>
                <a:lnTo>
                  <a:pt x="2091" y="6525"/>
                </a:lnTo>
                <a:cubicBezTo>
                  <a:pt x="2091" y="6528"/>
                  <a:pt x="2091" y="6531"/>
                  <a:pt x="2090" y="6535"/>
                </a:cubicBezTo>
                <a:lnTo>
                  <a:pt x="2044" y="6767"/>
                </a:lnTo>
                <a:lnTo>
                  <a:pt x="2018" y="6870"/>
                </a:lnTo>
                <a:lnTo>
                  <a:pt x="1921" y="6845"/>
                </a:lnTo>
                <a:close/>
                <a:moveTo>
                  <a:pt x="2009" y="6157"/>
                </a:moveTo>
                <a:lnTo>
                  <a:pt x="2048" y="5963"/>
                </a:lnTo>
                <a:lnTo>
                  <a:pt x="2089" y="5765"/>
                </a:lnTo>
                <a:lnTo>
                  <a:pt x="2187" y="5785"/>
                </a:lnTo>
                <a:lnTo>
                  <a:pt x="2146" y="5983"/>
                </a:lnTo>
                <a:lnTo>
                  <a:pt x="2107" y="6177"/>
                </a:lnTo>
                <a:lnTo>
                  <a:pt x="2009" y="6157"/>
                </a:lnTo>
                <a:close/>
                <a:moveTo>
                  <a:pt x="2149" y="5471"/>
                </a:moveTo>
                <a:lnTo>
                  <a:pt x="2161" y="5411"/>
                </a:lnTo>
                <a:lnTo>
                  <a:pt x="2217" y="5079"/>
                </a:lnTo>
                <a:lnTo>
                  <a:pt x="2217" y="5079"/>
                </a:lnTo>
                <a:lnTo>
                  <a:pt x="2316" y="5094"/>
                </a:lnTo>
                <a:lnTo>
                  <a:pt x="2315" y="5096"/>
                </a:lnTo>
                <a:lnTo>
                  <a:pt x="2259" y="5431"/>
                </a:lnTo>
                <a:lnTo>
                  <a:pt x="2247" y="5491"/>
                </a:lnTo>
                <a:lnTo>
                  <a:pt x="2149" y="5471"/>
                </a:lnTo>
                <a:close/>
                <a:moveTo>
                  <a:pt x="2257" y="4783"/>
                </a:moveTo>
                <a:lnTo>
                  <a:pt x="2262" y="4747"/>
                </a:lnTo>
                <a:lnTo>
                  <a:pt x="2261" y="4478"/>
                </a:lnTo>
                <a:cubicBezTo>
                  <a:pt x="2261" y="4475"/>
                  <a:pt x="2261" y="4472"/>
                  <a:pt x="2262" y="4470"/>
                </a:cubicBezTo>
                <a:lnTo>
                  <a:pt x="2276" y="4383"/>
                </a:lnTo>
                <a:lnTo>
                  <a:pt x="2375" y="4400"/>
                </a:lnTo>
                <a:lnTo>
                  <a:pt x="2360" y="4486"/>
                </a:lnTo>
                <a:lnTo>
                  <a:pt x="2361" y="4478"/>
                </a:lnTo>
                <a:lnTo>
                  <a:pt x="2361" y="4761"/>
                </a:lnTo>
                <a:lnTo>
                  <a:pt x="2356" y="4797"/>
                </a:lnTo>
                <a:lnTo>
                  <a:pt x="2257" y="4783"/>
                </a:lnTo>
                <a:close/>
                <a:moveTo>
                  <a:pt x="2328" y="4086"/>
                </a:moveTo>
                <a:lnTo>
                  <a:pt x="2375" y="3858"/>
                </a:lnTo>
                <a:lnTo>
                  <a:pt x="2402" y="3695"/>
                </a:lnTo>
                <a:lnTo>
                  <a:pt x="2501" y="3711"/>
                </a:lnTo>
                <a:lnTo>
                  <a:pt x="2473" y="3878"/>
                </a:lnTo>
                <a:lnTo>
                  <a:pt x="2426" y="4106"/>
                </a:lnTo>
                <a:lnTo>
                  <a:pt x="2328" y="4086"/>
                </a:lnTo>
                <a:close/>
                <a:moveTo>
                  <a:pt x="2457" y="3398"/>
                </a:moveTo>
                <a:lnTo>
                  <a:pt x="2487" y="3249"/>
                </a:lnTo>
                <a:lnTo>
                  <a:pt x="2527" y="3006"/>
                </a:lnTo>
                <a:lnTo>
                  <a:pt x="2626" y="3022"/>
                </a:lnTo>
                <a:lnTo>
                  <a:pt x="2585" y="3269"/>
                </a:lnTo>
                <a:lnTo>
                  <a:pt x="2555" y="3418"/>
                </a:lnTo>
                <a:lnTo>
                  <a:pt x="2457" y="3398"/>
                </a:lnTo>
                <a:close/>
                <a:moveTo>
                  <a:pt x="2588" y="2722"/>
                </a:moveTo>
                <a:lnTo>
                  <a:pt x="2588" y="2488"/>
                </a:lnTo>
                <a:cubicBezTo>
                  <a:pt x="2588" y="2484"/>
                  <a:pt x="2588" y="2480"/>
                  <a:pt x="2589" y="2477"/>
                </a:cubicBezTo>
                <a:lnTo>
                  <a:pt x="2629" y="2315"/>
                </a:lnTo>
                <a:lnTo>
                  <a:pt x="2726" y="2338"/>
                </a:lnTo>
                <a:lnTo>
                  <a:pt x="2686" y="2500"/>
                </a:lnTo>
                <a:lnTo>
                  <a:pt x="2688" y="2488"/>
                </a:lnTo>
                <a:lnTo>
                  <a:pt x="2688" y="2722"/>
                </a:lnTo>
                <a:lnTo>
                  <a:pt x="2588" y="2722"/>
                </a:lnTo>
                <a:close/>
                <a:moveTo>
                  <a:pt x="2717" y="2027"/>
                </a:moveTo>
                <a:lnTo>
                  <a:pt x="2758" y="1866"/>
                </a:lnTo>
                <a:lnTo>
                  <a:pt x="2803" y="1694"/>
                </a:lnTo>
                <a:cubicBezTo>
                  <a:pt x="2804" y="1691"/>
                  <a:pt x="2805" y="1687"/>
                  <a:pt x="2807" y="1684"/>
                </a:cubicBezTo>
                <a:lnTo>
                  <a:pt x="2831" y="1635"/>
                </a:lnTo>
                <a:lnTo>
                  <a:pt x="2921" y="1679"/>
                </a:lnTo>
                <a:lnTo>
                  <a:pt x="2896" y="1728"/>
                </a:lnTo>
                <a:lnTo>
                  <a:pt x="2900" y="1719"/>
                </a:lnTo>
                <a:lnTo>
                  <a:pt x="2855" y="1891"/>
                </a:lnTo>
                <a:lnTo>
                  <a:pt x="2813" y="2052"/>
                </a:lnTo>
                <a:lnTo>
                  <a:pt x="2717" y="2027"/>
                </a:lnTo>
                <a:close/>
                <a:moveTo>
                  <a:pt x="2914" y="1378"/>
                </a:moveTo>
                <a:lnTo>
                  <a:pt x="2914" y="1373"/>
                </a:lnTo>
                <a:cubicBezTo>
                  <a:pt x="2914" y="1360"/>
                  <a:pt x="2919" y="1347"/>
                  <a:pt x="2928" y="1338"/>
                </a:cubicBezTo>
                <a:lnTo>
                  <a:pt x="2985" y="1280"/>
                </a:lnTo>
                <a:lnTo>
                  <a:pt x="3045" y="1231"/>
                </a:lnTo>
                <a:cubicBezTo>
                  <a:pt x="3054" y="1223"/>
                  <a:pt x="3065" y="1219"/>
                  <a:pt x="3077" y="1219"/>
                </a:cubicBezTo>
                <a:lnTo>
                  <a:pt x="3122" y="1219"/>
                </a:lnTo>
                <a:lnTo>
                  <a:pt x="3178" y="1219"/>
                </a:lnTo>
                <a:cubicBezTo>
                  <a:pt x="3189" y="1219"/>
                  <a:pt x="3201" y="1223"/>
                  <a:pt x="3210" y="1231"/>
                </a:cubicBezTo>
                <a:lnTo>
                  <a:pt x="3266" y="1277"/>
                </a:lnTo>
                <a:cubicBezTo>
                  <a:pt x="3271" y="1281"/>
                  <a:pt x="3276" y="1287"/>
                  <a:pt x="3279" y="1293"/>
                </a:cubicBezTo>
                <a:lnTo>
                  <a:pt x="3309" y="1354"/>
                </a:lnTo>
                <a:lnTo>
                  <a:pt x="3219" y="1398"/>
                </a:lnTo>
                <a:lnTo>
                  <a:pt x="3189" y="1337"/>
                </a:lnTo>
                <a:lnTo>
                  <a:pt x="3203" y="1354"/>
                </a:lnTo>
                <a:lnTo>
                  <a:pt x="3146" y="1308"/>
                </a:lnTo>
                <a:lnTo>
                  <a:pt x="3178" y="1319"/>
                </a:lnTo>
                <a:lnTo>
                  <a:pt x="3122" y="1319"/>
                </a:lnTo>
                <a:lnTo>
                  <a:pt x="3077" y="1319"/>
                </a:lnTo>
                <a:lnTo>
                  <a:pt x="3108" y="1308"/>
                </a:lnTo>
                <a:lnTo>
                  <a:pt x="3056" y="1350"/>
                </a:lnTo>
                <a:lnTo>
                  <a:pt x="3000" y="1408"/>
                </a:lnTo>
                <a:lnTo>
                  <a:pt x="3014" y="1373"/>
                </a:lnTo>
                <a:lnTo>
                  <a:pt x="3014" y="1378"/>
                </a:lnTo>
                <a:lnTo>
                  <a:pt x="2914" y="1378"/>
                </a:lnTo>
                <a:close/>
                <a:moveTo>
                  <a:pt x="3438" y="1628"/>
                </a:moveTo>
                <a:lnTo>
                  <a:pt x="3440" y="1635"/>
                </a:lnTo>
                <a:lnTo>
                  <a:pt x="3437" y="1627"/>
                </a:lnTo>
                <a:lnTo>
                  <a:pt x="3493" y="1742"/>
                </a:lnTo>
                <a:cubicBezTo>
                  <a:pt x="3494" y="1745"/>
                  <a:pt x="3496" y="1748"/>
                  <a:pt x="3497" y="1751"/>
                </a:cubicBezTo>
                <a:lnTo>
                  <a:pt x="3553" y="1970"/>
                </a:lnTo>
                <a:lnTo>
                  <a:pt x="3564" y="2003"/>
                </a:lnTo>
                <a:lnTo>
                  <a:pt x="3469" y="2034"/>
                </a:lnTo>
                <a:lnTo>
                  <a:pt x="3456" y="1995"/>
                </a:lnTo>
                <a:lnTo>
                  <a:pt x="3400" y="1776"/>
                </a:lnTo>
                <a:lnTo>
                  <a:pt x="3403" y="1786"/>
                </a:lnTo>
                <a:lnTo>
                  <a:pt x="3347" y="1671"/>
                </a:lnTo>
                <a:cubicBezTo>
                  <a:pt x="3346" y="1668"/>
                  <a:pt x="3344" y="1665"/>
                  <a:pt x="3344" y="1662"/>
                </a:cubicBezTo>
                <a:lnTo>
                  <a:pt x="3341" y="1655"/>
                </a:lnTo>
                <a:lnTo>
                  <a:pt x="3438" y="1628"/>
                </a:lnTo>
                <a:close/>
                <a:moveTo>
                  <a:pt x="3611" y="2312"/>
                </a:moveTo>
                <a:lnTo>
                  <a:pt x="3611" y="2373"/>
                </a:lnTo>
                <a:lnTo>
                  <a:pt x="3609" y="2361"/>
                </a:lnTo>
                <a:lnTo>
                  <a:pt x="3665" y="2579"/>
                </a:lnTo>
                <a:lnTo>
                  <a:pt x="3689" y="2692"/>
                </a:lnTo>
                <a:lnTo>
                  <a:pt x="3591" y="2712"/>
                </a:lnTo>
                <a:lnTo>
                  <a:pt x="3569" y="2604"/>
                </a:lnTo>
                <a:lnTo>
                  <a:pt x="3512" y="2386"/>
                </a:lnTo>
                <a:cubicBezTo>
                  <a:pt x="3511" y="2382"/>
                  <a:pt x="3511" y="2378"/>
                  <a:pt x="3511" y="2373"/>
                </a:cubicBezTo>
                <a:lnTo>
                  <a:pt x="3511" y="2312"/>
                </a:lnTo>
                <a:lnTo>
                  <a:pt x="3611" y="2312"/>
                </a:lnTo>
                <a:close/>
                <a:moveTo>
                  <a:pt x="3747" y="2987"/>
                </a:moveTo>
                <a:lnTo>
                  <a:pt x="3767" y="3088"/>
                </a:lnTo>
                <a:lnTo>
                  <a:pt x="3824" y="3364"/>
                </a:lnTo>
                <a:lnTo>
                  <a:pt x="3826" y="3378"/>
                </a:lnTo>
                <a:lnTo>
                  <a:pt x="3729" y="3398"/>
                </a:lnTo>
                <a:lnTo>
                  <a:pt x="3726" y="3384"/>
                </a:lnTo>
                <a:lnTo>
                  <a:pt x="3669" y="3108"/>
                </a:lnTo>
                <a:lnTo>
                  <a:pt x="3649" y="3006"/>
                </a:lnTo>
                <a:lnTo>
                  <a:pt x="3747" y="2987"/>
                </a:lnTo>
                <a:close/>
                <a:moveTo>
                  <a:pt x="3886" y="3672"/>
                </a:moveTo>
                <a:lnTo>
                  <a:pt x="3936" y="3916"/>
                </a:lnTo>
                <a:cubicBezTo>
                  <a:pt x="3937" y="3919"/>
                  <a:pt x="3937" y="3923"/>
                  <a:pt x="3937" y="3926"/>
                </a:cubicBezTo>
                <a:lnTo>
                  <a:pt x="3937" y="4077"/>
                </a:lnTo>
                <a:lnTo>
                  <a:pt x="3837" y="4077"/>
                </a:lnTo>
                <a:lnTo>
                  <a:pt x="3837" y="3926"/>
                </a:lnTo>
                <a:lnTo>
                  <a:pt x="3838" y="3936"/>
                </a:lnTo>
                <a:lnTo>
                  <a:pt x="3788" y="3692"/>
                </a:lnTo>
                <a:lnTo>
                  <a:pt x="3886" y="3672"/>
                </a:lnTo>
                <a:close/>
                <a:moveTo>
                  <a:pt x="3971" y="4364"/>
                </a:moveTo>
                <a:lnTo>
                  <a:pt x="3992" y="4468"/>
                </a:lnTo>
                <a:lnTo>
                  <a:pt x="4038" y="4746"/>
                </a:lnTo>
                <a:lnTo>
                  <a:pt x="4040" y="4758"/>
                </a:lnTo>
                <a:lnTo>
                  <a:pt x="3942" y="4778"/>
                </a:lnTo>
                <a:lnTo>
                  <a:pt x="3939" y="4762"/>
                </a:lnTo>
                <a:lnTo>
                  <a:pt x="3894" y="4488"/>
                </a:lnTo>
                <a:lnTo>
                  <a:pt x="3873" y="4384"/>
                </a:lnTo>
                <a:lnTo>
                  <a:pt x="3971" y="4364"/>
                </a:lnTo>
                <a:close/>
                <a:moveTo>
                  <a:pt x="4101" y="5049"/>
                </a:moveTo>
                <a:lnTo>
                  <a:pt x="4149" y="5236"/>
                </a:lnTo>
                <a:lnTo>
                  <a:pt x="4190" y="5442"/>
                </a:lnTo>
                <a:lnTo>
                  <a:pt x="4092" y="5461"/>
                </a:lnTo>
                <a:lnTo>
                  <a:pt x="4053" y="5261"/>
                </a:lnTo>
                <a:lnTo>
                  <a:pt x="4004" y="5074"/>
                </a:lnTo>
                <a:lnTo>
                  <a:pt x="4101" y="5049"/>
                </a:lnTo>
                <a:close/>
                <a:moveTo>
                  <a:pt x="4222" y="5730"/>
                </a:moveTo>
                <a:lnTo>
                  <a:pt x="4261" y="5841"/>
                </a:lnTo>
                <a:lnTo>
                  <a:pt x="4307" y="6018"/>
                </a:lnTo>
                <a:lnTo>
                  <a:pt x="4304" y="6008"/>
                </a:lnTo>
                <a:lnTo>
                  <a:pt x="4349" y="6102"/>
                </a:lnTo>
                <a:lnTo>
                  <a:pt x="4259" y="6146"/>
                </a:lnTo>
                <a:lnTo>
                  <a:pt x="4214" y="6052"/>
                </a:lnTo>
                <a:cubicBezTo>
                  <a:pt x="4212" y="6049"/>
                  <a:pt x="4211" y="6046"/>
                  <a:pt x="4210" y="6043"/>
                </a:cubicBezTo>
                <a:lnTo>
                  <a:pt x="4166" y="5874"/>
                </a:lnTo>
                <a:lnTo>
                  <a:pt x="4128" y="5763"/>
                </a:lnTo>
                <a:lnTo>
                  <a:pt x="4222" y="5730"/>
                </a:lnTo>
                <a:close/>
                <a:moveTo>
                  <a:pt x="4464" y="6058"/>
                </a:moveTo>
                <a:lnTo>
                  <a:pt x="4482" y="6012"/>
                </a:lnTo>
                <a:lnTo>
                  <a:pt x="4538" y="5842"/>
                </a:lnTo>
                <a:lnTo>
                  <a:pt x="4594" y="5682"/>
                </a:lnTo>
                <a:lnTo>
                  <a:pt x="4688" y="5715"/>
                </a:lnTo>
                <a:lnTo>
                  <a:pt x="4633" y="5873"/>
                </a:lnTo>
                <a:lnTo>
                  <a:pt x="4575" y="6049"/>
                </a:lnTo>
                <a:lnTo>
                  <a:pt x="4557" y="6095"/>
                </a:lnTo>
                <a:lnTo>
                  <a:pt x="4464" y="6058"/>
                </a:lnTo>
                <a:close/>
                <a:moveTo>
                  <a:pt x="4666" y="5396"/>
                </a:moveTo>
                <a:lnTo>
                  <a:pt x="4705" y="5237"/>
                </a:lnTo>
                <a:lnTo>
                  <a:pt x="4750" y="5020"/>
                </a:lnTo>
                <a:lnTo>
                  <a:pt x="4749" y="5030"/>
                </a:lnTo>
                <a:lnTo>
                  <a:pt x="4749" y="5017"/>
                </a:lnTo>
                <a:lnTo>
                  <a:pt x="4849" y="5017"/>
                </a:lnTo>
                <a:lnTo>
                  <a:pt x="4849" y="5030"/>
                </a:lnTo>
                <a:cubicBezTo>
                  <a:pt x="4849" y="5033"/>
                  <a:pt x="4849" y="5037"/>
                  <a:pt x="4848" y="5040"/>
                </a:cubicBezTo>
                <a:lnTo>
                  <a:pt x="4802" y="5260"/>
                </a:lnTo>
                <a:lnTo>
                  <a:pt x="4764" y="5419"/>
                </a:lnTo>
                <a:lnTo>
                  <a:pt x="4666" y="5396"/>
                </a:lnTo>
                <a:close/>
                <a:moveTo>
                  <a:pt x="4749" y="4717"/>
                </a:moveTo>
                <a:lnTo>
                  <a:pt x="4749" y="4696"/>
                </a:lnTo>
                <a:cubicBezTo>
                  <a:pt x="4749" y="4693"/>
                  <a:pt x="4749" y="4690"/>
                  <a:pt x="4750" y="4686"/>
                </a:cubicBezTo>
                <a:lnTo>
                  <a:pt x="4806" y="4410"/>
                </a:lnTo>
                <a:lnTo>
                  <a:pt x="4826" y="4314"/>
                </a:lnTo>
                <a:lnTo>
                  <a:pt x="4924" y="4334"/>
                </a:lnTo>
                <a:lnTo>
                  <a:pt x="4904" y="4430"/>
                </a:lnTo>
                <a:lnTo>
                  <a:pt x="4848" y="4706"/>
                </a:lnTo>
                <a:lnTo>
                  <a:pt x="4849" y="4696"/>
                </a:lnTo>
                <a:lnTo>
                  <a:pt x="4849" y="4717"/>
                </a:lnTo>
                <a:lnTo>
                  <a:pt x="4749" y="4717"/>
                </a:lnTo>
                <a:close/>
                <a:moveTo>
                  <a:pt x="4882" y="4021"/>
                </a:moveTo>
                <a:lnTo>
                  <a:pt x="4918" y="3803"/>
                </a:lnTo>
                <a:lnTo>
                  <a:pt x="4948" y="3627"/>
                </a:lnTo>
                <a:lnTo>
                  <a:pt x="5047" y="3644"/>
                </a:lnTo>
                <a:lnTo>
                  <a:pt x="5017" y="3819"/>
                </a:lnTo>
                <a:lnTo>
                  <a:pt x="4980" y="4038"/>
                </a:lnTo>
                <a:lnTo>
                  <a:pt x="4882" y="4021"/>
                </a:lnTo>
                <a:close/>
                <a:moveTo>
                  <a:pt x="4997" y="3331"/>
                </a:moveTo>
                <a:lnTo>
                  <a:pt x="5020" y="3193"/>
                </a:lnTo>
                <a:lnTo>
                  <a:pt x="5019" y="3201"/>
                </a:lnTo>
                <a:lnTo>
                  <a:pt x="5019" y="2941"/>
                </a:lnTo>
                <a:lnTo>
                  <a:pt x="5119" y="2941"/>
                </a:lnTo>
                <a:lnTo>
                  <a:pt x="5119" y="3201"/>
                </a:lnTo>
                <a:cubicBezTo>
                  <a:pt x="5119" y="3204"/>
                  <a:pt x="5119" y="3207"/>
                  <a:pt x="5118" y="3210"/>
                </a:cubicBezTo>
                <a:lnTo>
                  <a:pt x="5096" y="3347"/>
                </a:lnTo>
                <a:lnTo>
                  <a:pt x="4997" y="3331"/>
                </a:lnTo>
                <a:close/>
                <a:moveTo>
                  <a:pt x="5065" y="2636"/>
                </a:moveTo>
                <a:lnTo>
                  <a:pt x="5076" y="2582"/>
                </a:lnTo>
                <a:lnTo>
                  <a:pt x="5132" y="2250"/>
                </a:lnTo>
                <a:lnTo>
                  <a:pt x="5134" y="2242"/>
                </a:lnTo>
                <a:lnTo>
                  <a:pt x="5232" y="2262"/>
                </a:lnTo>
                <a:lnTo>
                  <a:pt x="5231" y="2267"/>
                </a:lnTo>
                <a:lnTo>
                  <a:pt x="5174" y="2602"/>
                </a:lnTo>
                <a:lnTo>
                  <a:pt x="5163" y="2656"/>
                </a:lnTo>
                <a:lnTo>
                  <a:pt x="5065" y="2636"/>
                </a:lnTo>
                <a:close/>
                <a:moveTo>
                  <a:pt x="5194" y="1948"/>
                </a:moveTo>
                <a:lnTo>
                  <a:pt x="5245" y="1696"/>
                </a:lnTo>
                <a:lnTo>
                  <a:pt x="5268" y="1557"/>
                </a:lnTo>
                <a:lnTo>
                  <a:pt x="5367" y="1573"/>
                </a:lnTo>
                <a:lnTo>
                  <a:pt x="5343" y="1716"/>
                </a:lnTo>
                <a:lnTo>
                  <a:pt x="5292" y="1968"/>
                </a:lnTo>
                <a:lnTo>
                  <a:pt x="5194" y="1948"/>
                </a:lnTo>
                <a:close/>
                <a:moveTo>
                  <a:pt x="5332" y="1259"/>
                </a:moveTo>
                <a:lnTo>
                  <a:pt x="5347" y="1199"/>
                </a:lnTo>
                <a:lnTo>
                  <a:pt x="5346" y="1212"/>
                </a:lnTo>
                <a:lnTo>
                  <a:pt x="5346" y="982"/>
                </a:lnTo>
                <a:cubicBezTo>
                  <a:pt x="5346" y="978"/>
                  <a:pt x="5346" y="974"/>
                  <a:pt x="5347" y="969"/>
                </a:cubicBezTo>
                <a:lnTo>
                  <a:pt x="5374" y="865"/>
                </a:lnTo>
                <a:lnTo>
                  <a:pt x="5471" y="890"/>
                </a:lnTo>
                <a:lnTo>
                  <a:pt x="5444" y="994"/>
                </a:lnTo>
                <a:lnTo>
                  <a:pt x="5446" y="982"/>
                </a:lnTo>
                <a:lnTo>
                  <a:pt x="5446" y="1212"/>
                </a:lnTo>
                <a:cubicBezTo>
                  <a:pt x="5446" y="1216"/>
                  <a:pt x="5445" y="1220"/>
                  <a:pt x="5444" y="1224"/>
                </a:cubicBezTo>
                <a:lnTo>
                  <a:pt x="5429" y="1284"/>
                </a:lnTo>
                <a:lnTo>
                  <a:pt x="5332" y="1259"/>
                </a:lnTo>
                <a:close/>
                <a:moveTo>
                  <a:pt x="5464" y="575"/>
                </a:moveTo>
                <a:lnTo>
                  <a:pt x="5517" y="414"/>
                </a:lnTo>
                <a:lnTo>
                  <a:pt x="5564" y="307"/>
                </a:lnTo>
                <a:lnTo>
                  <a:pt x="5616" y="199"/>
                </a:lnTo>
                <a:lnTo>
                  <a:pt x="5706" y="243"/>
                </a:lnTo>
                <a:lnTo>
                  <a:pt x="5655" y="346"/>
                </a:lnTo>
                <a:lnTo>
                  <a:pt x="5612" y="445"/>
                </a:lnTo>
                <a:lnTo>
                  <a:pt x="5559" y="606"/>
                </a:lnTo>
                <a:lnTo>
                  <a:pt x="5464" y="575"/>
                </a:lnTo>
                <a:close/>
                <a:moveTo>
                  <a:pt x="5824" y="0"/>
                </a:moveTo>
                <a:lnTo>
                  <a:pt x="5835" y="0"/>
                </a:lnTo>
                <a:lnTo>
                  <a:pt x="5880" y="0"/>
                </a:lnTo>
                <a:cubicBezTo>
                  <a:pt x="5891" y="0"/>
                  <a:pt x="5902" y="4"/>
                  <a:pt x="5911" y="12"/>
                </a:cubicBezTo>
                <a:lnTo>
                  <a:pt x="5968" y="58"/>
                </a:lnTo>
                <a:cubicBezTo>
                  <a:pt x="5973" y="62"/>
                  <a:pt x="5978" y="68"/>
                  <a:pt x="5981" y="74"/>
                </a:cubicBezTo>
                <a:lnTo>
                  <a:pt x="6037" y="189"/>
                </a:lnTo>
                <a:cubicBezTo>
                  <a:pt x="6040" y="196"/>
                  <a:pt x="6042" y="204"/>
                  <a:pt x="6042" y="211"/>
                </a:cubicBezTo>
                <a:lnTo>
                  <a:pt x="6042" y="326"/>
                </a:lnTo>
                <a:lnTo>
                  <a:pt x="6036" y="303"/>
                </a:lnTo>
                <a:lnTo>
                  <a:pt x="6050" y="328"/>
                </a:lnTo>
                <a:lnTo>
                  <a:pt x="5962" y="376"/>
                </a:lnTo>
                <a:lnTo>
                  <a:pt x="5948" y="350"/>
                </a:lnTo>
                <a:cubicBezTo>
                  <a:pt x="5944" y="343"/>
                  <a:pt x="5942" y="335"/>
                  <a:pt x="5942" y="326"/>
                </a:cubicBezTo>
                <a:lnTo>
                  <a:pt x="5942" y="211"/>
                </a:lnTo>
                <a:lnTo>
                  <a:pt x="5947" y="233"/>
                </a:lnTo>
                <a:lnTo>
                  <a:pt x="5891" y="118"/>
                </a:lnTo>
                <a:lnTo>
                  <a:pt x="5904" y="135"/>
                </a:lnTo>
                <a:lnTo>
                  <a:pt x="5848" y="89"/>
                </a:lnTo>
                <a:lnTo>
                  <a:pt x="5880" y="100"/>
                </a:lnTo>
                <a:lnTo>
                  <a:pt x="5835" y="100"/>
                </a:lnTo>
                <a:lnTo>
                  <a:pt x="5824" y="100"/>
                </a:lnTo>
                <a:lnTo>
                  <a:pt x="5824" y="0"/>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419800" y="2570040"/>
            <a:ext cx="877680" cy="1202040"/>
          </a:xfrm>
          <a:custGeom>
            <a:avLst/>
            <a:gdLst/>
            <a:ahLst/>
            <a:rect l="l" t="t" r="r" b="b"/>
            <a:pathLst>
              <a:path w="5555" h="7590">
                <a:moveTo>
                  <a:pt x="95" y="2970"/>
                </a:moveTo>
                <a:lnTo>
                  <a:pt x="151" y="3143"/>
                </a:lnTo>
                <a:lnTo>
                  <a:pt x="207" y="3303"/>
                </a:lnTo>
                <a:lnTo>
                  <a:pt x="219" y="3356"/>
                </a:lnTo>
                <a:lnTo>
                  <a:pt x="121" y="3376"/>
                </a:lnTo>
                <a:lnTo>
                  <a:pt x="113" y="3336"/>
                </a:lnTo>
                <a:lnTo>
                  <a:pt x="56" y="3174"/>
                </a:lnTo>
                <a:lnTo>
                  <a:pt x="0" y="3001"/>
                </a:lnTo>
                <a:lnTo>
                  <a:pt x="95" y="2970"/>
                </a:lnTo>
                <a:close/>
                <a:moveTo>
                  <a:pt x="283" y="3647"/>
                </a:moveTo>
                <a:lnTo>
                  <a:pt x="310" y="3757"/>
                </a:lnTo>
                <a:lnTo>
                  <a:pt x="366" y="3975"/>
                </a:lnTo>
                <a:cubicBezTo>
                  <a:pt x="367" y="3979"/>
                  <a:pt x="368" y="3983"/>
                  <a:pt x="368" y="3987"/>
                </a:cubicBezTo>
                <a:lnTo>
                  <a:pt x="368" y="4049"/>
                </a:lnTo>
                <a:lnTo>
                  <a:pt x="268" y="4049"/>
                </a:lnTo>
                <a:lnTo>
                  <a:pt x="268" y="3987"/>
                </a:lnTo>
                <a:lnTo>
                  <a:pt x="269" y="4000"/>
                </a:lnTo>
                <a:lnTo>
                  <a:pt x="213" y="3781"/>
                </a:lnTo>
                <a:lnTo>
                  <a:pt x="186" y="3671"/>
                </a:lnTo>
                <a:lnTo>
                  <a:pt x="283" y="3647"/>
                </a:lnTo>
                <a:close/>
                <a:moveTo>
                  <a:pt x="387" y="4334"/>
                </a:moveTo>
                <a:lnTo>
                  <a:pt x="422" y="4470"/>
                </a:lnTo>
                <a:lnTo>
                  <a:pt x="475" y="4727"/>
                </a:lnTo>
                <a:lnTo>
                  <a:pt x="377" y="4747"/>
                </a:lnTo>
                <a:lnTo>
                  <a:pt x="326" y="4495"/>
                </a:lnTo>
                <a:lnTo>
                  <a:pt x="290" y="4359"/>
                </a:lnTo>
                <a:lnTo>
                  <a:pt x="387" y="4334"/>
                </a:lnTo>
                <a:close/>
                <a:moveTo>
                  <a:pt x="517" y="5027"/>
                </a:moveTo>
                <a:lnTo>
                  <a:pt x="525" y="5086"/>
                </a:lnTo>
                <a:lnTo>
                  <a:pt x="581" y="5359"/>
                </a:lnTo>
                <a:lnTo>
                  <a:pt x="592" y="5417"/>
                </a:lnTo>
                <a:lnTo>
                  <a:pt x="494" y="5436"/>
                </a:lnTo>
                <a:lnTo>
                  <a:pt x="483" y="5379"/>
                </a:lnTo>
                <a:lnTo>
                  <a:pt x="426" y="5099"/>
                </a:lnTo>
                <a:lnTo>
                  <a:pt x="418" y="5040"/>
                </a:lnTo>
                <a:lnTo>
                  <a:pt x="517" y="5027"/>
                </a:lnTo>
                <a:close/>
                <a:moveTo>
                  <a:pt x="638" y="5722"/>
                </a:moveTo>
                <a:lnTo>
                  <a:pt x="638" y="5933"/>
                </a:lnTo>
                <a:lnTo>
                  <a:pt x="637" y="5923"/>
                </a:lnTo>
                <a:lnTo>
                  <a:pt x="675" y="6108"/>
                </a:lnTo>
                <a:lnTo>
                  <a:pt x="577" y="6128"/>
                </a:lnTo>
                <a:lnTo>
                  <a:pt x="539" y="5943"/>
                </a:lnTo>
                <a:cubicBezTo>
                  <a:pt x="538" y="5940"/>
                  <a:pt x="538" y="5936"/>
                  <a:pt x="538" y="5933"/>
                </a:cubicBezTo>
                <a:lnTo>
                  <a:pt x="538" y="5722"/>
                </a:lnTo>
                <a:lnTo>
                  <a:pt x="638" y="5722"/>
                </a:lnTo>
                <a:close/>
                <a:moveTo>
                  <a:pt x="744" y="6397"/>
                </a:moveTo>
                <a:lnTo>
                  <a:pt x="749" y="6415"/>
                </a:lnTo>
                <a:lnTo>
                  <a:pt x="795" y="6696"/>
                </a:lnTo>
                <a:lnTo>
                  <a:pt x="819" y="6790"/>
                </a:lnTo>
                <a:lnTo>
                  <a:pt x="722" y="6815"/>
                </a:lnTo>
                <a:lnTo>
                  <a:pt x="696" y="6712"/>
                </a:lnTo>
                <a:lnTo>
                  <a:pt x="652" y="6440"/>
                </a:lnTo>
                <a:lnTo>
                  <a:pt x="647" y="6422"/>
                </a:lnTo>
                <a:lnTo>
                  <a:pt x="744" y="6397"/>
                </a:lnTo>
                <a:close/>
                <a:moveTo>
                  <a:pt x="904" y="7074"/>
                </a:moveTo>
                <a:lnTo>
                  <a:pt x="906" y="7080"/>
                </a:lnTo>
                <a:lnTo>
                  <a:pt x="963" y="7302"/>
                </a:lnTo>
                <a:cubicBezTo>
                  <a:pt x="964" y="7306"/>
                  <a:pt x="964" y="7310"/>
                  <a:pt x="964" y="7314"/>
                </a:cubicBezTo>
                <a:lnTo>
                  <a:pt x="964" y="7429"/>
                </a:lnTo>
                <a:lnTo>
                  <a:pt x="958" y="7405"/>
                </a:lnTo>
                <a:lnTo>
                  <a:pt x="984" y="7452"/>
                </a:lnTo>
                <a:lnTo>
                  <a:pt x="896" y="7500"/>
                </a:lnTo>
                <a:lnTo>
                  <a:pt x="870" y="7453"/>
                </a:lnTo>
                <a:cubicBezTo>
                  <a:pt x="866" y="7446"/>
                  <a:pt x="864" y="7438"/>
                  <a:pt x="864" y="7429"/>
                </a:cubicBezTo>
                <a:lnTo>
                  <a:pt x="864" y="7314"/>
                </a:lnTo>
                <a:lnTo>
                  <a:pt x="866" y="7327"/>
                </a:lnTo>
                <a:lnTo>
                  <a:pt x="810" y="7111"/>
                </a:lnTo>
                <a:lnTo>
                  <a:pt x="809" y="7105"/>
                </a:lnTo>
                <a:lnTo>
                  <a:pt x="904" y="7074"/>
                </a:lnTo>
                <a:close/>
                <a:moveTo>
                  <a:pt x="1127" y="7520"/>
                </a:moveTo>
                <a:lnTo>
                  <a:pt x="1149" y="7498"/>
                </a:lnTo>
                <a:lnTo>
                  <a:pt x="1141" y="7509"/>
                </a:lnTo>
                <a:lnTo>
                  <a:pt x="1197" y="7405"/>
                </a:lnTo>
                <a:lnTo>
                  <a:pt x="1191" y="7429"/>
                </a:lnTo>
                <a:lnTo>
                  <a:pt x="1191" y="7314"/>
                </a:lnTo>
                <a:cubicBezTo>
                  <a:pt x="1191" y="7310"/>
                  <a:pt x="1191" y="7305"/>
                  <a:pt x="1193" y="7301"/>
                </a:cubicBezTo>
                <a:lnTo>
                  <a:pt x="1229" y="7170"/>
                </a:lnTo>
                <a:lnTo>
                  <a:pt x="1326" y="7197"/>
                </a:lnTo>
                <a:lnTo>
                  <a:pt x="1289" y="7328"/>
                </a:lnTo>
                <a:lnTo>
                  <a:pt x="1291" y="7314"/>
                </a:lnTo>
                <a:lnTo>
                  <a:pt x="1291" y="7429"/>
                </a:lnTo>
                <a:cubicBezTo>
                  <a:pt x="1291" y="7438"/>
                  <a:pt x="1289" y="7446"/>
                  <a:pt x="1285" y="7453"/>
                </a:cubicBezTo>
                <a:lnTo>
                  <a:pt x="1228" y="7557"/>
                </a:lnTo>
                <a:cubicBezTo>
                  <a:pt x="1226" y="7561"/>
                  <a:pt x="1223" y="7565"/>
                  <a:pt x="1220" y="7568"/>
                </a:cubicBezTo>
                <a:lnTo>
                  <a:pt x="1199" y="7590"/>
                </a:lnTo>
                <a:lnTo>
                  <a:pt x="1127" y="7520"/>
                </a:lnTo>
                <a:close/>
                <a:moveTo>
                  <a:pt x="1302" y="6880"/>
                </a:moveTo>
                <a:lnTo>
                  <a:pt x="1350" y="6692"/>
                </a:lnTo>
                <a:lnTo>
                  <a:pt x="1390" y="6493"/>
                </a:lnTo>
                <a:lnTo>
                  <a:pt x="1488" y="6512"/>
                </a:lnTo>
                <a:lnTo>
                  <a:pt x="1447" y="6717"/>
                </a:lnTo>
                <a:lnTo>
                  <a:pt x="1398" y="6905"/>
                </a:lnTo>
                <a:lnTo>
                  <a:pt x="1302" y="6880"/>
                </a:lnTo>
                <a:close/>
                <a:moveTo>
                  <a:pt x="1450" y="6199"/>
                </a:moveTo>
                <a:lnTo>
                  <a:pt x="1462" y="6142"/>
                </a:lnTo>
                <a:lnTo>
                  <a:pt x="1461" y="6152"/>
                </a:lnTo>
                <a:lnTo>
                  <a:pt x="1461" y="5818"/>
                </a:lnTo>
                <a:cubicBezTo>
                  <a:pt x="1461" y="5815"/>
                  <a:pt x="1461" y="5812"/>
                  <a:pt x="1462" y="5810"/>
                </a:cubicBezTo>
                <a:lnTo>
                  <a:pt x="1463" y="5802"/>
                </a:lnTo>
                <a:lnTo>
                  <a:pt x="1562" y="5818"/>
                </a:lnTo>
                <a:lnTo>
                  <a:pt x="1560" y="5826"/>
                </a:lnTo>
                <a:lnTo>
                  <a:pt x="1561" y="5818"/>
                </a:lnTo>
                <a:lnTo>
                  <a:pt x="1561" y="6152"/>
                </a:lnTo>
                <a:cubicBezTo>
                  <a:pt x="1561" y="6155"/>
                  <a:pt x="1561" y="6158"/>
                  <a:pt x="1560" y="6162"/>
                </a:cubicBezTo>
                <a:lnTo>
                  <a:pt x="1548" y="6219"/>
                </a:lnTo>
                <a:lnTo>
                  <a:pt x="1450" y="6199"/>
                </a:lnTo>
                <a:close/>
                <a:moveTo>
                  <a:pt x="1511" y="5505"/>
                </a:moveTo>
                <a:lnTo>
                  <a:pt x="1563" y="5199"/>
                </a:lnTo>
                <a:lnTo>
                  <a:pt x="1578" y="5111"/>
                </a:lnTo>
                <a:lnTo>
                  <a:pt x="1676" y="5128"/>
                </a:lnTo>
                <a:lnTo>
                  <a:pt x="1662" y="5216"/>
                </a:lnTo>
                <a:lnTo>
                  <a:pt x="1610" y="5522"/>
                </a:lnTo>
                <a:lnTo>
                  <a:pt x="1511" y="5505"/>
                </a:lnTo>
                <a:close/>
                <a:moveTo>
                  <a:pt x="1628" y="4815"/>
                </a:moveTo>
                <a:lnTo>
                  <a:pt x="1676" y="4532"/>
                </a:lnTo>
                <a:lnTo>
                  <a:pt x="1694" y="4421"/>
                </a:lnTo>
                <a:lnTo>
                  <a:pt x="1793" y="4437"/>
                </a:lnTo>
                <a:lnTo>
                  <a:pt x="1774" y="4548"/>
                </a:lnTo>
                <a:lnTo>
                  <a:pt x="1726" y="4832"/>
                </a:lnTo>
                <a:lnTo>
                  <a:pt x="1628" y="4815"/>
                </a:lnTo>
                <a:close/>
                <a:moveTo>
                  <a:pt x="1741" y="4126"/>
                </a:moveTo>
                <a:lnTo>
                  <a:pt x="1777" y="3866"/>
                </a:lnTo>
                <a:lnTo>
                  <a:pt x="1776" y="3735"/>
                </a:lnTo>
                <a:lnTo>
                  <a:pt x="1876" y="3735"/>
                </a:lnTo>
                <a:lnTo>
                  <a:pt x="1876" y="3879"/>
                </a:lnTo>
                <a:lnTo>
                  <a:pt x="1841" y="4140"/>
                </a:lnTo>
                <a:lnTo>
                  <a:pt x="1741" y="4126"/>
                </a:lnTo>
                <a:close/>
                <a:moveTo>
                  <a:pt x="1795" y="3428"/>
                </a:moveTo>
                <a:lnTo>
                  <a:pt x="1833" y="3208"/>
                </a:lnTo>
                <a:lnTo>
                  <a:pt x="1867" y="3034"/>
                </a:lnTo>
                <a:lnTo>
                  <a:pt x="1965" y="3053"/>
                </a:lnTo>
                <a:lnTo>
                  <a:pt x="1932" y="3225"/>
                </a:lnTo>
                <a:lnTo>
                  <a:pt x="1893" y="3445"/>
                </a:lnTo>
                <a:lnTo>
                  <a:pt x="1795" y="3428"/>
                </a:lnTo>
                <a:close/>
                <a:moveTo>
                  <a:pt x="1926" y="2739"/>
                </a:moveTo>
                <a:lnTo>
                  <a:pt x="1946" y="2642"/>
                </a:lnTo>
                <a:lnTo>
                  <a:pt x="2002" y="2366"/>
                </a:lnTo>
                <a:lnTo>
                  <a:pt x="2008" y="2345"/>
                </a:lnTo>
                <a:lnTo>
                  <a:pt x="2104" y="2370"/>
                </a:lnTo>
                <a:lnTo>
                  <a:pt x="2100" y="2386"/>
                </a:lnTo>
                <a:lnTo>
                  <a:pt x="2044" y="2662"/>
                </a:lnTo>
                <a:lnTo>
                  <a:pt x="2024" y="2759"/>
                </a:lnTo>
                <a:lnTo>
                  <a:pt x="1926" y="2739"/>
                </a:lnTo>
                <a:close/>
                <a:moveTo>
                  <a:pt x="2058" y="2064"/>
                </a:moveTo>
                <a:lnTo>
                  <a:pt x="2058" y="1938"/>
                </a:lnTo>
                <a:cubicBezTo>
                  <a:pt x="2058" y="1934"/>
                  <a:pt x="2058" y="1930"/>
                  <a:pt x="2059" y="1926"/>
                </a:cubicBezTo>
                <a:lnTo>
                  <a:pt x="2104" y="1753"/>
                </a:lnTo>
                <a:lnTo>
                  <a:pt x="2137" y="1659"/>
                </a:lnTo>
                <a:lnTo>
                  <a:pt x="2231" y="1692"/>
                </a:lnTo>
                <a:lnTo>
                  <a:pt x="2201" y="1778"/>
                </a:lnTo>
                <a:lnTo>
                  <a:pt x="2156" y="1951"/>
                </a:lnTo>
                <a:lnTo>
                  <a:pt x="2158" y="1938"/>
                </a:lnTo>
                <a:lnTo>
                  <a:pt x="2158" y="2064"/>
                </a:lnTo>
                <a:lnTo>
                  <a:pt x="2058" y="2064"/>
                </a:lnTo>
                <a:close/>
                <a:moveTo>
                  <a:pt x="2242" y="1370"/>
                </a:moveTo>
                <a:lnTo>
                  <a:pt x="2278" y="1304"/>
                </a:lnTo>
                <a:cubicBezTo>
                  <a:pt x="2280" y="1300"/>
                  <a:pt x="2283" y="1297"/>
                  <a:pt x="2286" y="1293"/>
                </a:cubicBezTo>
                <a:lnTo>
                  <a:pt x="2342" y="1236"/>
                </a:lnTo>
                <a:lnTo>
                  <a:pt x="2383" y="1182"/>
                </a:lnTo>
                <a:cubicBezTo>
                  <a:pt x="2393" y="1170"/>
                  <a:pt x="2407" y="1163"/>
                  <a:pt x="2423" y="1163"/>
                </a:cubicBezTo>
                <a:lnTo>
                  <a:pt x="2479" y="1163"/>
                </a:lnTo>
                <a:cubicBezTo>
                  <a:pt x="2493" y="1163"/>
                  <a:pt x="2505" y="1169"/>
                  <a:pt x="2515" y="1178"/>
                </a:cubicBezTo>
                <a:lnTo>
                  <a:pt x="2571" y="1236"/>
                </a:lnTo>
                <a:lnTo>
                  <a:pt x="2596" y="1261"/>
                </a:lnTo>
                <a:lnTo>
                  <a:pt x="2524" y="1331"/>
                </a:lnTo>
                <a:lnTo>
                  <a:pt x="2500" y="1306"/>
                </a:lnTo>
                <a:lnTo>
                  <a:pt x="2443" y="1248"/>
                </a:lnTo>
                <a:lnTo>
                  <a:pt x="2479" y="1263"/>
                </a:lnTo>
                <a:lnTo>
                  <a:pt x="2423" y="1263"/>
                </a:lnTo>
                <a:lnTo>
                  <a:pt x="2462" y="1244"/>
                </a:lnTo>
                <a:lnTo>
                  <a:pt x="2414" y="1306"/>
                </a:lnTo>
                <a:lnTo>
                  <a:pt x="2357" y="1363"/>
                </a:lnTo>
                <a:lnTo>
                  <a:pt x="2365" y="1352"/>
                </a:lnTo>
                <a:lnTo>
                  <a:pt x="2330" y="1417"/>
                </a:lnTo>
                <a:lnTo>
                  <a:pt x="2242" y="1370"/>
                </a:lnTo>
                <a:close/>
                <a:moveTo>
                  <a:pt x="2740" y="1528"/>
                </a:moveTo>
                <a:lnTo>
                  <a:pt x="2794" y="1640"/>
                </a:lnTo>
                <a:cubicBezTo>
                  <a:pt x="2798" y="1647"/>
                  <a:pt x="2799" y="1654"/>
                  <a:pt x="2799" y="1662"/>
                </a:cubicBezTo>
                <a:lnTo>
                  <a:pt x="2799" y="1823"/>
                </a:lnTo>
                <a:lnTo>
                  <a:pt x="2798" y="1811"/>
                </a:lnTo>
                <a:lnTo>
                  <a:pt x="2826" y="1921"/>
                </a:lnTo>
                <a:lnTo>
                  <a:pt x="2729" y="1946"/>
                </a:lnTo>
                <a:lnTo>
                  <a:pt x="2701" y="1836"/>
                </a:lnTo>
                <a:cubicBezTo>
                  <a:pt x="2700" y="1832"/>
                  <a:pt x="2699" y="1827"/>
                  <a:pt x="2699" y="1823"/>
                </a:cubicBezTo>
                <a:lnTo>
                  <a:pt x="2699" y="1662"/>
                </a:lnTo>
                <a:lnTo>
                  <a:pt x="2704" y="1684"/>
                </a:lnTo>
                <a:lnTo>
                  <a:pt x="2650" y="1572"/>
                </a:lnTo>
                <a:lnTo>
                  <a:pt x="2740" y="1528"/>
                </a:lnTo>
                <a:close/>
                <a:moveTo>
                  <a:pt x="2899" y="2213"/>
                </a:moveTo>
                <a:lnTo>
                  <a:pt x="2910" y="2260"/>
                </a:lnTo>
                <a:lnTo>
                  <a:pt x="2967" y="2478"/>
                </a:lnTo>
                <a:lnTo>
                  <a:pt x="2992" y="2604"/>
                </a:lnTo>
                <a:lnTo>
                  <a:pt x="2895" y="2624"/>
                </a:lnTo>
                <a:lnTo>
                  <a:pt x="2870" y="2503"/>
                </a:lnTo>
                <a:lnTo>
                  <a:pt x="2813" y="2284"/>
                </a:lnTo>
                <a:lnTo>
                  <a:pt x="2802" y="2237"/>
                </a:lnTo>
                <a:lnTo>
                  <a:pt x="2899" y="2213"/>
                </a:lnTo>
                <a:close/>
                <a:moveTo>
                  <a:pt x="3053" y="2898"/>
                </a:moveTo>
                <a:lnTo>
                  <a:pt x="3069" y="2976"/>
                </a:lnTo>
                <a:cubicBezTo>
                  <a:pt x="3069" y="2979"/>
                  <a:pt x="3070" y="2983"/>
                  <a:pt x="3070" y="2986"/>
                </a:cubicBezTo>
                <a:lnTo>
                  <a:pt x="3070" y="3262"/>
                </a:lnTo>
                <a:lnTo>
                  <a:pt x="3069" y="3254"/>
                </a:lnTo>
                <a:lnTo>
                  <a:pt x="3076" y="3297"/>
                </a:lnTo>
                <a:lnTo>
                  <a:pt x="2978" y="3314"/>
                </a:lnTo>
                <a:lnTo>
                  <a:pt x="2970" y="3270"/>
                </a:lnTo>
                <a:cubicBezTo>
                  <a:pt x="2970" y="3268"/>
                  <a:pt x="2970" y="3265"/>
                  <a:pt x="2970" y="3262"/>
                </a:cubicBezTo>
                <a:lnTo>
                  <a:pt x="2970" y="2986"/>
                </a:lnTo>
                <a:lnTo>
                  <a:pt x="2971" y="2996"/>
                </a:lnTo>
                <a:lnTo>
                  <a:pt x="2955" y="2918"/>
                </a:lnTo>
                <a:lnTo>
                  <a:pt x="3053" y="2898"/>
                </a:lnTo>
                <a:close/>
                <a:moveTo>
                  <a:pt x="3126" y="3591"/>
                </a:moveTo>
                <a:lnTo>
                  <a:pt x="3181" y="3862"/>
                </a:lnTo>
                <a:lnTo>
                  <a:pt x="3202" y="3986"/>
                </a:lnTo>
                <a:lnTo>
                  <a:pt x="3103" y="4002"/>
                </a:lnTo>
                <a:lnTo>
                  <a:pt x="3083" y="3882"/>
                </a:lnTo>
                <a:lnTo>
                  <a:pt x="3028" y="3611"/>
                </a:lnTo>
                <a:lnTo>
                  <a:pt x="3126" y="3591"/>
                </a:lnTo>
                <a:close/>
                <a:moveTo>
                  <a:pt x="3251" y="4282"/>
                </a:moveTo>
                <a:lnTo>
                  <a:pt x="3283" y="4474"/>
                </a:lnTo>
                <a:lnTo>
                  <a:pt x="3317" y="4676"/>
                </a:lnTo>
                <a:lnTo>
                  <a:pt x="3218" y="4693"/>
                </a:lnTo>
                <a:lnTo>
                  <a:pt x="3184" y="4490"/>
                </a:lnTo>
                <a:lnTo>
                  <a:pt x="3153" y="4298"/>
                </a:lnTo>
                <a:lnTo>
                  <a:pt x="3251" y="4282"/>
                </a:lnTo>
                <a:close/>
                <a:moveTo>
                  <a:pt x="3372" y="4969"/>
                </a:moveTo>
                <a:lnTo>
                  <a:pt x="3395" y="5083"/>
                </a:lnTo>
                <a:cubicBezTo>
                  <a:pt x="3396" y="5086"/>
                  <a:pt x="3396" y="5089"/>
                  <a:pt x="3396" y="5092"/>
                </a:cubicBezTo>
                <a:lnTo>
                  <a:pt x="3396" y="5377"/>
                </a:lnTo>
                <a:lnTo>
                  <a:pt x="3296" y="5377"/>
                </a:lnTo>
                <a:lnTo>
                  <a:pt x="3296" y="5092"/>
                </a:lnTo>
                <a:lnTo>
                  <a:pt x="3297" y="5102"/>
                </a:lnTo>
                <a:lnTo>
                  <a:pt x="3274" y="4989"/>
                </a:lnTo>
                <a:lnTo>
                  <a:pt x="3372" y="4969"/>
                </a:lnTo>
                <a:close/>
                <a:moveTo>
                  <a:pt x="3445" y="5662"/>
                </a:moveTo>
                <a:lnTo>
                  <a:pt x="3451" y="5693"/>
                </a:lnTo>
                <a:lnTo>
                  <a:pt x="3507" y="5921"/>
                </a:lnTo>
                <a:lnTo>
                  <a:pt x="3529" y="6055"/>
                </a:lnTo>
                <a:lnTo>
                  <a:pt x="3430" y="6071"/>
                </a:lnTo>
                <a:lnTo>
                  <a:pt x="3410" y="5945"/>
                </a:lnTo>
                <a:lnTo>
                  <a:pt x="3353" y="5713"/>
                </a:lnTo>
                <a:lnTo>
                  <a:pt x="3347" y="5682"/>
                </a:lnTo>
                <a:lnTo>
                  <a:pt x="3445" y="5662"/>
                </a:lnTo>
                <a:close/>
                <a:moveTo>
                  <a:pt x="3601" y="6336"/>
                </a:moveTo>
                <a:lnTo>
                  <a:pt x="3607" y="6354"/>
                </a:lnTo>
                <a:lnTo>
                  <a:pt x="3665" y="6577"/>
                </a:lnTo>
                <a:lnTo>
                  <a:pt x="3661" y="6567"/>
                </a:lnTo>
                <a:lnTo>
                  <a:pt x="3717" y="6682"/>
                </a:lnTo>
                <a:cubicBezTo>
                  <a:pt x="3721" y="6689"/>
                  <a:pt x="3722" y="6696"/>
                  <a:pt x="3722" y="6704"/>
                </a:cubicBezTo>
                <a:lnTo>
                  <a:pt x="3722" y="6731"/>
                </a:lnTo>
                <a:lnTo>
                  <a:pt x="3622" y="6731"/>
                </a:lnTo>
                <a:lnTo>
                  <a:pt x="3622" y="6704"/>
                </a:lnTo>
                <a:lnTo>
                  <a:pt x="3628" y="6726"/>
                </a:lnTo>
                <a:lnTo>
                  <a:pt x="3571" y="6611"/>
                </a:lnTo>
                <a:cubicBezTo>
                  <a:pt x="3570" y="6608"/>
                  <a:pt x="3569" y="6605"/>
                  <a:pt x="3568" y="6601"/>
                </a:cubicBezTo>
                <a:lnTo>
                  <a:pt x="3513" y="6387"/>
                </a:lnTo>
                <a:lnTo>
                  <a:pt x="3506" y="6369"/>
                </a:lnTo>
                <a:lnTo>
                  <a:pt x="3601" y="6336"/>
                </a:lnTo>
                <a:close/>
                <a:moveTo>
                  <a:pt x="3815" y="6820"/>
                </a:moveTo>
                <a:lnTo>
                  <a:pt x="3851" y="6784"/>
                </a:lnTo>
                <a:lnTo>
                  <a:pt x="3839" y="6804"/>
                </a:lnTo>
                <a:lnTo>
                  <a:pt x="3895" y="6631"/>
                </a:lnTo>
                <a:lnTo>
                  <a:pt x="3893" y="6647"/>
                </a:lnTo>
                <a:lnTo>
                  <a:pt x="3893" y="6485"/>
                </a:lnTo>
                <a:cubicBezTo>
                  <a:pt x="3893" y="6480"/>
                  <a:pt x="3893" y="6475"/>
                  <a:pt x="3895" y="6470"/>
                </a:cubicBezTo>
                <a:lnTo>
                  <a:pt x="3897" y="6463"/>
                </a:lnTo>
                <a:lnTo>
                  <a:pt x="3992" y="6494"/>
                </a:lnTo>
                <a:lnTo>
                  <a:pt x="3990" y="6501"/>
                </a:lnTo>
                <a:lnTo>
                  <a:pt x="3993" y="6485"/>
                </a:lnTo>
                <a:lnTo>
                  <a:pt x="3993" y="6647"/>
                </a:lnTo>
                <a:cubicBezTo>
                  <a:pt x="3993" y="6652"/>
                  <a:pt x="3992" y="6657"/>
                  <a:pt x="3990" y="6662"/>
                </a:cubicBezTo>
                <a:lnTo>
                  <a:pt x="3934" y="6835"/>
                </a:lnTo>
                <a:cubicBezTo>
                  <a:pt x="3932" y="6842"/>
                  <a:pt x="3927" y="6849"/>
                  <a:pt x="3922" y="6854"/>
                </a:cubicBezTo>
                <a:lnTo>
                  <a:pt x="3887" y="6890"/>
                </a:lnTo>
                <a:lnTo>
                  <a:pt x="3815" y="6820"/>
                </a:lnTo>
                <a:close/>
                <a:moveTo>
                  <a:pt x="3970" y="6181"/>
                </a:moveTo>
                <a:lnTo>
                  <a:pt x="3995" y="6028"/>
                </a:lnTo>
                <a:lnTo>
                  <a:pt x="4044" y="5786"/>
                </a:lnTo>
                <a:lnTo>
                  <a:pt x="4142" y="5806"/>
                </a:lnTo>
                <a:lnTo>
                  <a:pt x="4093" y="6044"/>
                </a:lnTo>
                <a:lnTo>
                  <a:pt x="4068" y="6197"/>
                </a:lnTo>
                <a:lnTo>
                  <a:pt x="3970" y="6181"/>
                </a:lnTo>
                <a:close/>
                <a:moveTo>
                  <a:pt x="4104" y="5492"/>
                </a:moveTo>
                <a:lnTo>
                  <a:pt x="4108" y="5474"/>
                </a:lnTo>
                <a:lnTo>
                  <a:pt x="4164" y="5142"/>
                </a:lnTo>
                <a:lnTo>
                  <a:pt x="4171" y="5099"/>
                </a:lnTo>
                <a:lnTo>
                  <a:pt x="4269" y="5116"/>
                </a:lnTo>
                <a:lnTo>
                  <a:pt x="4262" y="5158"/>
                </a:lnTo>
                <a:lnTo>
                  <a:pt x="4206" y="5494"/>
                </a:lnTo>
                <a:lnTo>
                  <a:pt x="4202" y="5512"/>
                </a:lnTo>
                <a:lnTo>
                  <a:pt x="4104" y="5492"/>
                </a:lnTo>
                <a:close/>
                <a:moveTo>
                  <a:pt x="4219" y="4812"/>
                </a:moveTo>
                <a:lnTo>
                  <a:pt x="4219" y="4436"/>
                </a:lnTo>
                <a:cubicBezTo>
                  <a:pt x="4219" y="4434"/>
                  <a:pt x="4219" y="4431"/>
                  <a:pt x="4220" y="4428"/>
                </a:cubicBezTo>
                <a:lnTo>
                  <a:pt x="4224" y="4404"/>
                </a:lnTo>
                <a:lnTo>
                  <a:pt x="4323" y="4420"/>
                </a:lnTo>
                <a:lnTo>
                  <a:pt x="4318" y="4445"/>
                </a:lnTo>
                <a:lnTo>
                  <a:pt x="4319" y="4436"/>
                </a:lnTo>
                <a:lnTo>
                  <a:pt x="4319" y="4812"/>
                </a:lnTo>
                <a:lnTo>
                  <a:pt x="4219" y="4812"/>
                </a:lnTo>
                <a:close/>
                <a:moveTo>
                  <a:pt x="4274" y="4108"/>
                </a:moveTo>
                <a:lnTo>
                  <a:pt x="4276" y="4094"/>
                </a:lnTo>
                <a:lnTo>
                  <a:pt x="4320" y="3713"/>
                </a:lnTo>
                <a:lnTo>
                  <a:pt x="4419" y="3725"/>
                </a:lnTo>
                <a:lnTo>
                  <a:pt x="4375" y="4111"/>
                </a:lnTo>
                <a:lnTo>
                  <a:pt x="4372" y="4125"/>
                </a:lnTo>
                <a:lnTo>
                  <a:pt x="4274" y="4108"/>
                </a:lnTo>
                <a:close/>
                <a:moveTo>
                  <a:pt x="4370" y="3415"/>
                </a:moveTo>
                <a:lnTo>
                  <a:pt x="4377" y="3369"/>
                </a:lnTo>
                <a:lnTo>
                  <a:pt x="4428" y="3020"/>
                </a:lnTo>
                <a:lnTo>
                  <a:pt x="4527" y="3035"/>
                </a:lnTo>
                <a:lnTo>
                  <a:pt x="4476" y="3386"/>
                </a:lnTo>
                <a:lnTo>
                  <a:pt x="4468" y="3431"/>
                </a:lnTo>
                <a:lnTo>
                  <a:pt x="4370" y="3415"/>
                </a:lnTo>
                <a:close/>
                <a:moveTo>
                  <a:pt x="4477" y="2723"/>
                </a:moveTo>
                <a:lnTo>
                  <a:pt x="4490" y="2644"/>
                </a:lnTo>
                <a:lnTo>
                  <a:pt x="4543" y="2329"/>
                </a:lnTo>
                <a:lnTo>
                  <a:pt x="4642" y="2345"/>
                </a:lnTo>
                <a:lnTo>
                  <a:pt x="4589" y="2660"/>
                </a:lnTo>
                <a:lnTo>
                  <a:pt x="4575" y="2740"/>
                </a:lnTo>
                <a:lnTo>
                  <a:pt x="4477" y="2723"/>
                </a:lnTo>
                <a:close/>
                <a:moveTo>
                  <a:pt x="4546" y="2037"/>
                </a:moveTo>
                <a:lnTo>
                  <a:pt x="4546" y="1996"/>
                </a:lnTo>
                <a:cubicBezTo>
                  <a:pt x="4546" y="1993"/>
                  <a:pt x="4546" y="1991"/>
                  <a:pt x="4546" y="1988"/>
                </a:cubicBezTo>
                <a:lnTo>
                  <a:pt x="4591" y="1700"/>
                </a:lnTo>
                <a:lnTo>
                  <a:pt x="4605" y="1632"/>
                </a:lnTo>
                <a:lnTo>
                  <a:pt x="4703" y="1652"/>
                </a:lnTo>
                <a:lnTo>
                  <a:pt x="4690" y="1716"/>
                </a:lnTo>
                <a:lnTo>
                  <a:pt x="4645" y="2004"/>
                </a:lnTo>
                <a:lnTo>
                  <a:pt x="4646" y="1996"/>
                </a:lnTo>
                <a:lnTo>
                  <a:pt x="4646" y="2037"/>
                </a:lnTo>
                <a:lnTo>
                  <a:pt x="4546" y="2037"/>
                </a:lnTo>
                <a:close/>
                <a:moveTo>
                  <a:pt x="4665" y="1338"/>
                </a:moveTo>
                <a:lnTo>
                  <a:pt x="4704" y="1146"/>
                </a:lnTo>
                <a:lnTo>
                  <a:pt x="4755" y="946"/>
                </a:lnTo>
                <a:lnTo>
                  <a:pt x="4852" y="971"/>
                </a:lnTo>
                <a:lnTo>
                  <a:pt x="4802" y="1166"/>
                </a:lnTo>
                <a:lnTo>
                  <a:pt x="4763" y="1358"/>
                </a:lnTo>
                <a:lnTo>
                  <a:pt x="4665" y="1338"/>
                </a:lnTo>
                <a:close/>
                <a:moveTo>
                  <a:pt x="4816" y="666"/>
                </a:moveTo>
                <a:lnTo>
                  <a:pt x="4816" y="545"/>
                </a:lnTo>
                <a:cubicBezTo>
                  <a:pt x="4816" y="541"/>
                  <a:pt x="4816" y="536"/>
                  <a:pt x="4818" y="532"/>
                </a:cubicBezTo>
                <a:lnTo>
                  <a:pt x="4863" y="371"/>
                </a:lnTo>
                <a:lnTo>
                  <a:pt x="4898" y="263"/>
                </a:lnTo>
                <a:lnTo>
                  <a:pt x="4993" y="294"/>
                </a:lnTo>
                <a:lnTo>
                  <a:pt x="4959" y="398"/>
                </a:lnTo>
                <a:lnTo>
                  <a:pt x="4914" y="559"/>
                </a:lnTo>
                <a:lnTo>
                  <a:pt x="4916" y="545"/>
                </a:lnTo>
                <a:lnTo>
                  <a:pt x="4916" y="666"/>
                </a:lnTo>
                <a:lnTo>
                  <a:pt x="4816" y="666"/>
                </a:lnTo>
                <a:close/>
                <a:moveTo>
                  <a:pt x="5111" y="0"/>
                </a:moveTo>
                <a:lnTo>
                  <a:pt x="5136" y="0"/>
                </a:lnTo>
                <a:lnTo>
                  <a:pt x="5181" y="0"/>
                </a:lnTo>
                <a:lnTo>
                  <a:pt x="5237" y="0"/>
                </a:lnTo>
                <a:cubicBezTo>
                  <a:pt x="5256" y="0"/>
                  <a:pt x="5272" y="10"/>
                  <a:pt x="5281" y="27"/>
                </a:cubicBezTo>
                <a:lnTo>
                  <a:pt x="5338" y="130"/>
                </a:lnTo>
                <a:lnTo>
                  <a:pt x="5395" y="247"/>
                </a:lnTo>
                <a:lnTo>
                  <a:pt x="5407" y="272"/>
                </a:lnTo>
                <a:lnTo>
                  <a:pt x="5317" y="316"/>
                </a:lnTo>
                <a:lnTo>
                  <a:pt x="5305" y="291"/>
                </a:lnTo>
                <a:lnTo>
                  <a:pt x="5250" y="178"/>
                </a:lnTo>
                <a:lnTo>
                  <a:pt x="5193" y="74"/>
                </a:lnTo>
                <a:lnTo>
                  <a:pt x="5237" y="100"/>
                </a:lnTo>
                <a:lnTo>
                  <a:pt x="5181" y="100"/>
                </a:lnTo>
                <a:lnTo>
                  <a:pt x="5136" y="100"/>
                </a:lnTo>
                <a:lnTo>
                  <a:pt x="5111" y="100"/>
                </a:lnTo>
                <a:lnTo>
                  <a:pt x="5111" y="0"/>
                </a:lnTo>
                <a:close/>
                <a:moveTo>
                  <a:pt x="5509" y="561"/>
                </a:moveTo>
                <a:lnTo>
                  <a:pt x="5555" y="703"/>
                </a:lnTo>
                <a:lnTo>
                  <a:pt x="5460" y="734"/>
                </a:lnTo>
                <a:lnTo>
                  <a:pt x="5414" y="592"/>
                </a:lnTo>
                <a:lnTo>
                  <a:pt x="5509" y="561"/>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2579760" y="2367000"/>
            <a:ext cx="3711600" cy="300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2579760" y="2367000"/>
            <a:ext cx="3711600" cy="300528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579760" y="2367000"/>
            <a:ext cx="3711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2579760" y="5372280"/>
            <a:ext cx="371160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4" name=""/>
          <p:cNvSpPr/>
          <p:nvPr/>
        </p:nvSpPr>
        <p:spPr>
          <a:xfrm flipV="1">
            <a:off x="6291360" y="2367000"/>
            <a:ext cx="1440" cy="3005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V="1">
            <a:off x="2579760" y="2367000"/>
            <a:ext cx="1440" cy="3005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V="1">
            <a:off x="25797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07" name=""/>
          <p:cNvSpPr/>
          <p:nvPr/>
        </p:nvSpPr>
        <p:spPr>
          <a:xfrm>
            <a:off x="25797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8" name=""/>
          <p:cNvSpPr/>
          <p:nvPr/>
        </p:nvSpPr>
        <p:spPr>
          <a:xfrm>
            <a:off x="254700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009" name=""/>
          <p:cNvSpPr/>
          <p:nvPr/>
        </p:nvSpPr>
        <p:spPr>
          <a:xfrm flipV="1">
            <a:off x="331488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10" name=""/>
          <p:cNvSpPr/>
          <p:nvPr/>
        </p:nvSpPr>
        <p:spPr>
          <a:xfrm>
            <a:off x="331488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1" name=""/>
          <p:cNvSpPr/>
          <p:nvPr/>
        </p:nvSpPr>
        <p:spPr>
          <a:xfrm>
            <a:off x="328356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012" name=""/>
          <p:cNvSpPr/>
          <p:nvPr/>
        </p:nvSpPr>
        <p:spPr>
          <a:xfrm flipV="1">
            <a:off x="40593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13" name=""/>
          <p:cNvSpPr/>
          <p:nvPr/>
        </p:nvSpPr>
        <p:spPr>
          <a:xfrm>
            <a:off x="40593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4" name=""/>
          <p:cNvSpPr/>
          <p:nvPr/>
        </p:nvSpPr>
        <p:spPr>
          <a:xfrm>
            <a:off x="402336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15" name=""/>
          <p:cNvSpPr/>
          <p:nvPr/>
        </p:nvSpPr>
        <p:spPr>
          <a:xfrm flipV="1">
            <a:off x="480384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16" name=""/>
          <p:cNvSpPr/>
          <p:nvPr/>
        </p:nvSpPr>
        <p:spPr>
          <a:xfrm>
            <a:off x="480384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7" name=""/>
          <p:cNvSpPr/>
          <p:nvPr/>
        </p:nvSpPr>
        <p:spPr>
          <a:xfrm>
            <a:off x="476964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18" name=""/>
          <p:cNvSpPr/>
          <p:nvPr/>
        </p:nvSpPr>
        <p:spPr>
          <a:xfrm flipV="1">
            <a:off x="554688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19" name=""/>
          <p:cNvSpPr/>
          <p:nvPr/>
        </p:nvSpPr>
        <p:spPr>
          <a:xfrm>
            <a:off x="554688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20" name=""/>
          <p:cNvSpPr/>
          <p:nvPr/>
        </p:nvSpPr>
        <p:spPr>
          <a:xfrm>
            <a:off x="5512680" y="541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2021" name=""/>
          <p:cNvSpPr/>
          <p:nvPr/>
        </p:nvSpPr>
        <p:spPr>
          <a:xfrm flipV="1">
            <a:off x="6291360" y="5329080"/>
            <a:ext cx="1440" cy="43200"/>
          </a:xfrm>
          <a:prstGeom prst="line">
            <a:avLst/>
          </a:prstGeom>
          <a:ln cap="rnd"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22" name=""/>
          <p:cNvSpPr/>
          <p:nvPr/>
        </p:nvSpPr>
        <p:spPr>
          <a:xfrm>
            <a:off x="6291360" y="2367000"/>
            <a:ext cx="1440" cy="34920"/>
          </a:xfrm>
          <a:prstGeom prst="line">
            <a:avLst/>
          </a:prstGeom>
          <a:ln cap="rnd"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23" name=""/>
          <p:cNvSpPr/>
          <p:nvPr/>
        </p:nvSpPr>
        <p:spPr>
          <a:xfrm>
            <a:off x="6223320" y="5415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024" name=""/>
          <p:cNvSpPr/>
          <p:nvPr/>
        </p:nvSpPr>
        <p:spPr>
          <a:xfrm>
            <a:off x="2579760" y="5372280"/>
            <a:ext cx="349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25" name=""/>
          <p:cNvSpPr/>
          <p:nvPr/>
        </p:nvSpPr>
        <p:spPr>
          <a:xfrm flipH="1">
            <a:off x="6248160" y="5372280"/>
            <a:ext cx="4284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26" name=""/>
          <p:cNvSpPr/>
          <p:nvPr/>
        </p:nvSpPr>
        <p:spPr>
          <a:xfrm>
            <a:off x="241524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027" name=""/>
          <p:cNvSpPr/>
          <p:nvPr/>
        </p:nvSpPr>
        <p:spPr>
          <a:xfrm>
            <a:off x="2579760" y="48196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flipH="1">
            <a:off x="6248160" y="481968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2311560" y="47512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030" name=""/>
          <p:cNvSpPr/>
          <p:nvPr/>
        </p:nvSpPr>
        <p:spPr>
          <a:xfrm>
            <a:off x="2579760" y="427500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1" name=""/>
          <p:cNvSpPr/>
          <p:nvPr/>
        </p:nvSpPr>
        <p:spPr>
          <a:xfrm flipH="1">
            <a:off x="6248160" y="427500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2" name=""/>
          <p:cNvSpPr/>
          <p:nvPr/>
        </p:nvSpPr>
        <p:spPr>
          <a:xfrm>
            <a:off x="2311560" y="4205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2033" name=""/>
          <p:cNvSpPr/>
          <p:nvPr/>
        </p:nvSpPr>
        <p:spPr>
          <a:xfrm>
            <a:off x="2579760" y="372744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flipH="1">
            <a:off x="6248160" y="372744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2311560" y="3660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2036" name=""/>
          <p:cNvSpPr/>
          <p:nvPr/>
        </p:nvSpPr>
        <p:spPr>
          <a:xfrm>
            <a:off x="2579760" y="318276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flipH="1">
            <a:off x="6248160" y="318276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2311560" y="311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039" name=""/>
          <p:cNvSpPr/>
          <p:nvPr/>
        </p:nvSpPr>
        <p:spPr>
          <a:xfrm>
            <a:off x="2579760" y="263988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0" name=""/>
          <p:cNvSpPr/>
          <p:nvPr/>
        </p:nvSpPr>
        <p:spPr>
          <a:xfrm flipH="1">
            <a:off x="6248160" y="263988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1" name=""/>
          <p:cNvSpPr/>
          <p:nvPr/>
        </p:nvSpPr>
        <p:spPr>
          <a:xfrm>
            <a:off x="2415240" y="2570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42" name=""/>
          <p:cNvSpPr/>
          <p:nvPr/>
        </p:nvSpPr>
        <p:spPr>
          <a:xfrm>
            <a:off x="2579760" y="23670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flipH="1">
            <a:off x="6248160" y="236700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2311560" y="229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045" name=""/>
          <p:cNvSpPr/>
          <p:nvPr/>
        </p:nvSpPr>
        <p:spPr>
          <a:xfrm>
            <a:off x="2579760" y="4089240"/>
            <a:ext cx="982440" cy="1283040"/>
          </a:xfrm>
          <a:custGeom>
            <a:avLst/>
            <a:gdLst/>
            <a:ahLst/>
            <a:rect l="l" t="t" r="r" b="b"/>
            <a:pathLst>
              <a:path w="619" h="808">
                <a:moveTo>
                  <a:pt x="0" y="808"/>
                </a:moveTo>
                <a:lnTo>
                  <a:pt x="0" y="797"/>
                </a:lnTo>
                <a:lnTo>
                  <a:pt x="6" y="786"/>
                </a:lnTo>
                <a:lnTo>
                  <a:pt x="10" y="774"/>
                </a:lnTo>
                <a:lnTo>
                  <a:pt x="16" y="764"/>
                </a:lnTo>
                <a:lnTo>
                  <a:pt x="22" y="752"/>
                </a:lnTo>
                <a:lnTo>
                  <a:pt x="27" y="741"/>
                </a:lnTo>
                <a:lnTo>
                  <a:pt x="27" y="731"/>
                </a:lnTo>
                <a:lnTo>
                  <a:pt x="33" y="719"/>
                </a:lnTo>
                <a:lnTo>
                  <a:pt x="37" y="708"/>
                </a:lnTo>
                <a:lnTo>
                  <a:pt x="43" y="697"/>
                </a:lnTo>
                <a:lnTo>
                  <a:pt x="48" y="686"/>
                </a:lnTo>
                <a:lnTo>
                  <a:pt x="54" y="675"/>
                </a:lnTo>
                <a:lnTo>
                  <a:pt x="60" y="664"/>
                </a:lnTo>
                <a:lnTo>
                  <a:pt x="60" y="658"/>
                </a:lnTo>
                <a:lnTo>
                  <a:pt x="64" y="647"/>
                </a:lnTo>
                <a:lnTo>
                  <a:pt x="70" y="636"/>
                </a:lnTo>
                <a:lnTo>
                  <a:pt x="75" y="625"/>
                </a:lnTo>
                <a:lnTo>
                  <a:pt x="81" y="615"/>
                </a:lnTo>
                <a:lnTo>
                  <a:pt x="87" y="603"/>
                </a:lnTo>
                <a:lnTo>
                  <a:pt x="87" y="592"/>
                </a:lnTo>
                <a:lnTo>
                  <a:pt x="91" y="586"/>
                </a:lnTo>
                <a:lnTo>
                  <a:pt x="97" y="576"/>
                </a:lnTo>
                <a:lnTo>
                  <a:pt x="102" y="564"/>
                </a:lnTo>
                <a:lnTo>
                  <a:pt x="108" y="554"/>
                </a:lnTo>
                <a:lnTo>
                  <a:pt x="114" y="542"/>
                </a:lnTo>
                <a:lnTo>
                  <a:pt x="118" y="531"/>
                </a:lnTo>
                <a:lnTo>
                  <a:pt x="118" y="525"/>
                </a:lnTo>
                <a:lnTo>
                  <a:pt x="124" y="515"/>
                </a:lnTo>
                <a:lnTo>
                  <a:pt x="129" y="503"/>
                </a:lnTo>
                <a:lnTo>
                  <a:pt x="135" y="493"/>
                </a:lnTo>
                <a:lnTo>
                  <a:pt x="140" y="487"/>
                </a:lnTo>
                <a:lnTo>
                  <a:pt x="146" y="476"/>
                </a:lnTo>
                <a:lnTo>
                  <a:pt x="151" y="464"/>
                </a:lnTo>
                <a:lnTo>
                  <a:pt x="151" y="454"/>
                </a:lnTo>
                <a:lnTo>
                  <a:pt x="156" y="448"/>
                </a:lnTo>
                <a:lnTo>
                  <a:pt x="162" y="437"/>
                </a:lnTo>
                <a:lnTo>
                  <a:pt x="167" y="426"/>
                </a:lnTo>
                <a:lnTo>
                  <a:pt x="173" y="420"/>
                </a:lnTo>
                <a:lnTo>
                  <a:pt x="178" y="409"/>
                </a:lnTo>
                <a:lnTo>
                  <a:pt x="178" y="403"/>
                </a:lnTo>
                <a:lnTo>
                  <a:pt x="183" y="393"/>
                </a:lnTo>
                <a:lnTo>
                  <a:pt x="189" y="381"/>
                </a:lnTo>
                <a:lnTo>
                  <a:pt x="194" y="376"/>
                </a:lnTo>
                <a:lnTo>
                  <a:pt x="200" y="365"/>
                </a:lnTo>
                <a:lnTo>
                  <a:pt x="204" y="360"/>
                </a:lnTo>
                <a:lnTo>
                  <a:pt x="210" y="348"/>
                </a:lnTo>
                <a:lnTo>
                  <a:pt x="210" y="342"/>
                </a:lnTo>
                <a:lnTo>
                  <a:pt x="216" y="332"/>
                </a:lnTo>
                <a:lnTo>
                  <a:pt x="221" y="326"/>
                </a:lnTo>
                <a:lnTo>
                  <a:pt x="227" y="315"/>
                </a:lnTo>
                <a:lnTo>
                  <a:pt x="231" y="310"/>
                </a:lnTo>
                <a:lnTo>
                  <a:pt x="237" y="304"/>
                </a:lnTo>
                <a:lnTo>
                  <a:pt x="243" y="293"/>
                </a:lnTo>
                <a:lnTo>
                  <a:pt x="243" y="287"/>
                </a:lnTo>
                <a:lnTo>
                  <a:pt x="248" y="277"/>
                </a:lnTo>
                <a:lnTo>
                  <a:pt x="254" y="271"/>
                </a:lnTo>
                <a:lnTo>
                  <a:pt x="258" y="265"/>
                </a:lnTo>
                <a:lnTo>
                  <a:pt x="264" y="260"/>
                </a:lnTo>
                <a:lnTo>
                  <a:pt x="269" y="249"/>
                </a:lnTo>
                <a:lnTo>
                  <a:pt x="269" y="244"/>
                </a:lnTo>
                <a:lnTo>
                  <a:pt x="275" y="238"/>
                </a:lnTo>
                <a:lnTo>
                  <a:pt x="281" y="232"/>
                </a:lnTo>
                <a:lnTo>
                  <a:pt x="285" y="221"/>
                </a:lnTo>
                <a:lnTo>
                  <a:pt x="291" y="216"/>
                </a:lnTo>
                <a:lnTo>
                  <a:pt x="296" y="210"/>
                </a:lnTo>
                <a:lnTo>
                  <a:pt x="302" y="205"/>
                </a:lnTo>
                <a:lnTo>
                  <a:pt x="302" y="199"/>
                </a:lnTo>
                <a:lnTo>
                  <a:pt x="308" y="193"/>
                </a:lnTo>
                <a:lnTo>
                  <a:pt x="312" y="188"/>
                </a:lnTo>
                <a:lnTo>
                  <a:pt x="318" y="183"/>
                </a:lnTo>
                <a:lnTo>
                  <a:pt x="323" y="177"/>
                </a:lnTo>
                <a:lnTo>
                  <a:pt x="329" y="171"/>
                </a:lnTo>
                <a:lnTo>
                  <a:pt x="334" y="166"/>
                </a:lnTo>
                <a:lnTo>
                  <a:pt x="334" y="160"/>
                </a:lnTo>
                <a:lnTo>
                  <a:pt x="340" y="155"/>
                </a:lnTo>
                <a:lnTo>
                  <a:pt x="345" y="149"/>
                </a:lnTo>
                <a:lnTo>
                  <a:pt x="350" y="144"/>
                </a:lnTo>
                <a:lnTo>
                  <a:pt x="356" y="138"/>
                </a:lnTo>
                <a:lnTo>
                  <a:pt x="361" y="132"/>
                </a:lnTo>
                <a:lnTo>
                  <a:pt x="361" y="126"/>
                </a:lnTo>
                <a:lnTo>
                  <a:pt x="372" y="122"/>
                </a:lnTo>
                <a:lnTo>
                  <a:pt x="377" y="116"/>
                </a:lnTo>
                <a:lnTo>
                  <a:pt x="383" y="110"/>
                </a:lnTo>
                <a:lnTo>
                  <a:pt x="388" y="105"/>
                </a:lnTo>
                <a:lnTo>
                  <a:pt x="394" y="99"/>
                </a:lnTo>
                <a:lnTo>
                  <a:pt x="399" y="94"/>
                </a:lnTo>
                <a:lnTo>
                  <a:pt x="404" y="89"/>
                </a:lnTo>
                <a:lnTo>
                  <a:pt x="410" y="89"/>
                </a:lnTo>
                <a:lnTo>
                  <a:pt x="415" y="83"/>
                </a:lnTo>
                <a:lnTo>
                  <a:pt x="421" y="77"/>
                </a:lnTo>
                <a:lnTo>
                  <a:pt x="425" y="71"/>
                </a:lnTo>
                <a:lnTo>
                  <a:pt x="431" y="71"/>
                </a:lnTo>
                <a:lnTo>
                  <a:pt x="437" y="66"/>
                </a:lnTo>
                <a:lnTo>
                  <a:pt x="442" y="66"/>
                </a:lnTo>
                <a:lnTo>
                  <a:pt x="448" y="61"/>
                </a:lnTo>
                <a:lnTo>
                  <a:pt x="452" y="55"/>
                </a:lnTo>
                <a:lnTo>
                  <a:pt x="458" y="55"/>
                </a:lnTo>
                <a:lnTo>
                  <a:pt x="464" y="49"/>
                </a:lnTo>
                <a:lnTo>
                  <a:pt x="469" y="49"/>
                </a:lnTo>
                <a:lnTo>
                  <a:pt x="475" y="49"/>
                </a:lnTo>
                <a:lnTo>
                  <a:pt x="479" y="44"/>
                </a:lnTo>
                <a:lnTo>
                  <a:pt x="485" y="38"/>
                </a:lnTo>
                <a:lnTo>
                  <a:pt x="490" y="38"/>
                </a:lnTo>
                <a:lnTo>
                  <a:pt x="496" y="38"/>
                </a:lnTo>
                <a:lnTo>
                  <a:pt x="502" y="33"/>
                </a:lnTo>
                <a:lnTo>
                  <a:pt x="506" y="33"/>
                </a:lnTo>
                <a:lnTo>
                  <a:pt x="512" y="28"/>
                </a:lnTo>
                <a:lnTo>
                  <a:pt x="517" y="28"/>
                </a:lnTo>
                <a:lnTo>
                  <a:pt x="523" y="28"/>
                </a:lnTo>
                <a:lnTo>
                  <a:pt x="529" y="22"/>
                </a:lnTo>
                <a:lnTo>
                  <a:pt x="533" y="22"/>
                </a:lnTo>
                <a:lnTo>
                  <a:pt x="539" y="22"/>
                </a:lnTo>
                <a:lnTo>
                  <a:pt x="544" y="16"/>
                </a:lnTo>
                <a:lnTo>
                  <a:pt x="550" y="16"/>
                </a:lnTo>
                <a:lnTo>
                  <a:pt x="555" y="16"/>
                </a:lnTo>
                <a:lnTo>
                  <a:pt x="561" y="16"/>
                </a:lnTo>
                <a:lnTo>
                  <a:pt x="566" y="16"/>
                </a:lnTo>
                <a:lnTo>
                  <a:pt x="571" y="10"/>
                </a:lnTo>
                <a:lnTo>
                  <a:pt x="577" y="10"/>
                </a:lnTo>
                <a:lnTo>
                  <a:pt x="582" y="10"/>
                </a:lnTo>
                <a:lnTo>
                  <a:pt x="588" y="10"/>
                </a:lnTo>
                <a:lnTo>
                  <a:pt x="593" y="5"/>
                </a:lnTo>
                <a:lnTo>
                  <a:pt x="598" y="5"/>
                </a:lnTo>
                <a:lnTo>
                  <a:pt x="604" y="5"/>
                </a:lnTo>
                <a:lnTo>
                  <a:pt x="609" y="5"/>
                </a:lnTo>
                <a:lnTo>
                  <a:pt x="615" y="5"/>
                </a:lnTo>
                <a:lnTo>
                  <a:pt x="619"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562200" y="3517920"/>
            <a:ext cx="1087560" cy="571320"/>
          </a:xfrm>
          <a:custGeom>
            <a:avLst/>
            <a:gdLst/>
            <a:ahLst/>
            <a:rect l="l" t="t" r="r" b="b"/>
            <a:pathLst>
              <a:path w="685" h="360">
                <a:moveTo>
                  <a:pt x="0" y="360"/>
                </a:moveTo>
                <a:lnTo>
                  <a:pt x="6" y="360"/>
                </a:lnTo>
                <a:lnTo>
                  <a:pt x="12" y="360"/>
                </a:lnTo>
                <a:lnTo>
                  <a:pt x="17" y="360"/>
                </a:lnTo>
                <a:lnTo>
                  <a:pt x="23" y="354"/>
                </a:lnTo>
                <a:lnTo>
                  <a:pt x="27" y="354"/>
                </a:lnTo>
                <a:lnTo>
                  <a:pt x="33" y="354"/>
                </a:lnTo>
                <a:lnTo>
                  <a:pt x="39" y="354"/>
                </a:lnTo>
                <a:lnTo>
                  <a:pt x="44" y="354"/>
                </a:lnTo>
                <a:lnTo>
                  <a:pt x="50" y="349"/>
                </a:lnTo>
                <a:lnTo>
                  <a:pt x="54" y="349"/>
                </a:lnTo>
                <a:lnTo>
                  <a:pt x="60" y="349"/>
                </a:lnTo>
                <a:lnTo>
                  <a:pt x="65" y="349"/>
                </a:lnTo>
                <a:lnTo>
                  <a:pt x="71" y="343"/>
                </a:lnTo>
                <a:lnTo>
                  <a:pt x="77" y="343"/>
                </a:lnTo>
                <a:lnTo>
                  <a:pt x="81" y="343"/>
                </a:lnTo>
                <a:lnTo>
                  <a:pt x="87" y="337"/>
                </a:lnTo>
                <a:lnTo>
                  <a:pt x="92" y="337"/>
                </a:lnTo>
                <a:lnTo>
                  <a:pt x="98" y="337"/>
                </a:lnTo>
                <a:lnTo>
                  <a:pt x="104" y="337"/>
                </a:lnTo>
                <a:lnTo>
                  <a:pt x="108" y="333"/>
                </a:lnTo>
                <a:lnTo>
                  <a:pt x="114" y="333"/>
                </a:lnTo>
                <a:lnTo>
                  <a:pt x="119" y="327"/>
                </a:lnTo>
                <a:lnTo>
                  <a:pt x="125" y="327"/>
                </a:lnTo>
                <a:lnTo>
                  <a:pt x="131" y="327"/>
                </a:lnTo>
                <a:lnTo>
                  <a:pt x="136" y="321"/>
                </a:lnTo>
                <a:lnTo>
                  <a:pt x="141" y="321"/>
                </a:lnTo>
                <a:lnTo>
                  <a:pt x="146" y="315"/>
                </a:lnTo>
                <a:lnTo>
                  <a:pt x="152" y="315"/>
                </a:lnTo>
                <a:lnTo>
                  <a:pt x="157" y="310"/>
                </a:lnTo>
                <a:lnTo>
                  <a:pt x="163" y="310"/>
                </a:lnTo>
                <a:lnTo>
                  <a:pt x="167" y="304"/>
                </a:lnTo>
                <a:lnTo>
                  <a:pt x="173" y="304"/>
                </a:lnTo>
                <a:lnTo>
                  <a:pt x="179" y="299"/>
                </a:lnTo>
                <a:lnTo>
                  <a:pt x="184" y="299"/>
                </a:lnTo>
                <a:lnTo>
                  <a:pt x="190" y="294"/>
                </a:lnTo>
                <a:lnTo>
                  <a:pt x="194" y="294"/>
                </a:lnTo>
                <a:lnTo>
                  <a:pt x="200" y="288"/>
                </a:lnTo>
                <a:lnTo>
                  <a:pt x="206" y="282"/>
                </a:lnTo>
                <a:lnTo>
                  <a:pt x="211" y="282"/>
                </a:lnTo>
                <a:lnTo>
                  <a:pt x="217" y="276"/>
                </a:lnTo>
                <a:lnTo>
                  <a:pt x="221" y="276"/>
                </a:lnTo>
                <a:lnTo>
                  <a:pt x="227" y="272"/>
                </a:lnTo>
                <a:lnTo>
                  <a:pt x="232" y="266"/>
                </a:lnTo>
                <a:lnTo>
                  <a:pt x="238" y="266"/>
                </a:lnTo>
                <a:lnTo>
                  <a:pt x="244" y="260"/>
                </a:lnTo>
                <a:lnTo>
                  <a:pt x="248" y="260"/>
                </a:lnTo>
                <a:lnTo>
                  <a:pt x="254" y="255"/>
                </a:lnTo>
                <a:lnTo>
                  <a:pt x="259" y="249"/>
                </a:lnTo>
                <a:lnTo>
                  <a:pt x="265" y="243"/>
                </a:lnTo>
                <a:lnTo>
                  <a:pt x="271" y="243"/>
                </a:lnTo>
                <a:lnTo>
                  <a:pt x="275" y="238"/>
                </a:lnTo>
                <a:lnTo>
                  <a:pt x="281" y="233"/>
                </a:lnTo>
                <a:lnTo>
                  <a:pt x="286" y="233"/>
                </a:lnTo>
                <a:lnTo>
                  <a:pt x="292" y="227"/>
                </a:lnTo>
                <a:lnTo>
                  <a:pt x="297" y="221"/>
                </a:lnTo>
                <a:lnTo>
                  <a:pt x="302" y="216"/>
                </a:lnTo>
                <a:lnTo>
                  <a:pt x="308" y="216"/>
                </a:lnTo>
                <a:lnTo>
                  <a:pt x="313" y="211"/>
                </a:lnTo>
                <a:lnTo>
                  <a:pt x="319" y="205"/>
                </a:lnTo>
                <a:lnTo>
                  <a:pt x="324" y="199"/>
                </a:lnTo>
                <a:lnTo>
                  <a:pt x="329" y="199"/>
                </a:lnTo>
                <a:lnTo>
                  <a:pt x="334" y="194"/>
                </a:lnTo>
                <a:lnTo>
                  <a:pt x="340" y="188"/>
                </a:lnTo>
                <a:lnTo>
                  <a:pt x="346" y="188"/>
                </a:lnTo>
                <a:lnTo>
                  <a:pt x="351" y="178"/>
                </a:lnTo>
                <a:lnTo>
                  <a:pt x="357" y="178"/>
                </a:lnTo>
                <a:lnTo>
                  <a:pt x="361" y="172"/>
                </a:lnTo>
                <a:lnTo>
                  <a:pt x="367" y="166"/>
                </a:lnTo>
                <a:lnTo>
                  <a:pt x="373" y="166"/>
                </a:lnTo>
                <a:lnTo>
                  <a:pt x="378" y="160"/>
                </a:lnTo>
                <a:lnTo>
                  <a:pt x="384" y="155"/>
                </a:lnTo>
                <a:lnTo>
                  <a:pt x="388" y="150"/>
                </a:lnTo>
                <a:lnTo>
                  <a:pt x="394" y="150"/>
                </a:lnTo>
                <a:lnTo>
                  <a:pt x="399" y="144"/>
                </a:lnTo>
                <a:lnTo>
                  <a:pt x="405" y="139"/>
                </a:lnTo>
                <a:lnTo>
                  <a:pt x="411" y="133"/>
                </a:lnTo>
                <a:lnTo>
                  <a:pt x="415" y="133"/>
                </a:lnTo>
                <a:lnTo>
                  <a:pt x="421" y="127"/>
                </a:lnTo>
                <a:lnTo>
                  <a:pt x="426" y="121"/>
                </a:lnTo>
                <a:lnTo>
                  <a:pt x="432" y="121"/>
                </a:lnTo>
                <a:lnTo>
                  <a:pt x="438" y="117"/>
                </a:lnTo>
                <a:lnTo>
                  <a:pt x="442" y="111"/>
                </a:lnTo>
                <a:lnTo>
                  <a:pt x="448" y="111"/>
                </a:lnTo>
                <a:lnTo>
                  <a:pt x="453" y="105"/>
                </a:lnTo>
                <a:lnTo>
                  <a:pt x="459" y="100"/>
                </a:lnTo>
                <a:lnTo>
                  <a:pt x="464" y="100"/>
                </a:lnTo>
                <a:lnTo>
                  <a:pt x="469" y="94"/>
                </a:lnTo>
                <a:lnTo>
                  <a:pt x="475" y="89"/>
                </a:lnTo>
                <a:lnTo>
                  <a:pt x="480" y="89"/>
                </a:lnTo>
                <a:lnTo>
                  <a:pt x="486" y="84"/>
                </a:lnTo>
                <a:lnTo>
                  <a:pt x="491" y="84"/>
                </a:lnTo>
                <a:lnTo>
                  <a:pt x="496" y="78"/>
                </a:lnTo>
                <a:lnTo>
                  <a:pt x="502" y="72"/>
                </a:lnTo>
                <a:lnTo>
                  <a:pt x="507" y="72"/>
                </a:lnTo>
                <a:lnTo>
                  <a:pt x="513" y="66"/>
                </a:lnTo>
                <a:lnTo>
                  <a:pt x="518" y="66"/>
                </a:lnTo>
                <a:lnTo>
                  <a:pt x="523" y="66"/>
                </a:lnTo>
                <a:lnTo>
                  <a:pt x="528" y="61"/>
                </a:lnTo>
                <a:lnTo>
                  <a:pt x="534" y="56"/>
                </a:lnTo>
                <a:lnTo>
                  <a:pt x="540" y="56"/>
                </a:lnTo>
                <a:lnTo>
                  <a:pt x="545" y="50"/>
                </a:lnTo>
                <a:lnTo>
                  <a:pt x="551" y="50"/>
                </a:lnTo>
                <a:lnTo>
                  <a:pt x="555" y="50"/>
                </a:lnTo>
                <a:lnTo>
                  <a:pt x="561" y="45"/>
                </a:lnTo>
                <a:lnTo>
                  <a:pt x="567" y="45"/>
                </a:lnTo>
                <a:lnTo>
                  <a:pt x="572" y="39"/>
                </a:lnTo>
                <a:lnTo>
                  <a:pt x="578" y="39"/>
                </a:lnTo>
                <a:lnTo>
                  <a:pt x="582" y="39"/>
                </a:lnTo>
                <a:lnTo>
                  <a:pt x="588" y="33"/>
                </a:lnTo>
                <a:lnTo>
                  <a:pt x="593" y="33"/>
                </a:lnTo>
                <a:lnTo>
                  <a:pt x="599" y="28"/>
                </a:lnTo>
                <a:lnTo>
                  <a:pt x="605" y="28"/>
                </a:lnTo>
                <a:lnTo>
                  <a:pt x="609" y="28"/>
                </a:lnTo>
                <a:lnTo>
                  <a:pt x="615" y="23"/>
                </a:lnTo>
                <a:lnTo>
                  <a:pt x="620" y="23"/>
                </a:lnTo>
                <a:lnTo>
                  <a:pt x="626" y="17"/>
                </a:lnTo>
                <a:lnTo>
                  <a:pt x="632" y="17"/>
                </a:lnTo>
                <a:lnTo>
                  <a:pt x="636" y="17"/>
                </a:lnTo>
                <a:lnTo>
                  <a:pt x="642" y="17"/>
                </a:lnTo>
                <a:lnTo>
                  <a:pt x="647" y="11"/>
                </a:lnTo>
                <a:lnTo>
                  <a:pt x="653" y="11"/>
                </a:lnTo>
                <a:lnTo>
                  <a:pt x="658" y="11"/>
                </a:lnTo>
                <a:lnTo>
                  <a:pt x="663" y="5"/>
                </a:lnTo>
                <a:lnTo>
                  <a:pt x="669" y="5"/>
                </a:lnTo>
                <a:lnTo>
                  <a:pt x="674" y="5"/>
                </a:lnTo>
                <a:lnTo>
                  <a:pt x="680" y="5"/>
                </a:lnTo>
                <a:lnTo>
                  <a:pt x="685"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4649760" y="3095640"/>
            <a:ext cx="1085760" cy="422280"/>
          </a:xfrm>
          <a:custGeom>
            <a:avLst/>
            <a:gdLst/>
            <a:ahLst/>
            <a:rect l="l" t="t" r="r" b="b"/>
            <a:pathLst>
              <a:path w="684" h="266">
                <a:moveTo>
                  <a:pt x="0" y="266"/>
                </a:moveTo>
                <a:lnTo>
                  <a:pt x="5" y="266"/>
                </a:lnTo>
                <a:lnTo>
                  <a:pt x="10" y="266"/>
                </a:lnTo>
                <a:lnTo>
                  <a:pt x="16" y="266"/>
                </a:lnTo>
                <a:lnTo>
                  <a:pt x="22" y="266"/>
                </a:lnTo>
                <a:lnTo>
                  <a:pt x="27" y="261"/>
                </a:lnTo>
                <a:lnTo>
                  <a:pt x="32" y="261"/>
                </a:lnTo>
                <a:lnTo>
                  <a:pt x="37" y="261"/>
                </a:lnTo>
                <a:lnTo>
                  <a:pt x="43" y="261"/>
                </a:lnTo>
                <a:lnTo>
                  <a:pt x="49" y="255"/>
                </a:lnTo>
                <a:lnTo>
                  <a:pt x="54" y="255"/>
                </a:lnTo>
                <a:lnTo>
                  <a:pt x="59" y="255"/>
                </a:lnTo>
                <a:lnTo>
                  <a:pt x="64" y="255"/>
                </a:lnTo>
                <a:lnTo>
                  <a:pt x="70" y="250"/>
                </a:lnTo>
                <a:lnTo>
                  <a:pt x="75" y="250"/>
                </a:lnTo>
                <a:lnTo>
                  <a:pt x="81" y="250"/>
                </a:lnTo>
                <a:lnTo>
                  <a:pt x="87" y="250"/>
                </a:lnTo>
                <a:lnTo>
                  <a:pt x="91" y="244"/>
                </a:lnTo>
                <a:lnTo>
                  <a:pt x="97" y="244"/>
                </a:lnTo>
                <a:lnTo>
                  <a:pt x="102" y="244"/>
                </a:lnTo>
                <a:lnTo>
                  <a:pt x="108" y="244"/>
                </a:lnTo>
                <a:lnTo>
                  <a:pt x="114" y="244"/>
                </a:lnTo>
                <a:lnTo>
                  <a:pt x="118" y="238"/>
                </a:lnTo>
                <a:lnTo>
                  <a:pt x="124" y="238"/>
                </a:lnTo>
                <a:lnTo>
                  <a:pt x="129" y="238"/>
                </a:lnTo>
                <a:lnTo>
                  <a:pt x="135" y="238"/>
                </a:lnTo>
                <a:lnTo>
                  <a:pt x="140" y="234"/>
                </a:lnTo>
                <a:lnTo>
                  <a:pt x="145" y="234"/>
                </a:lnTo>
                <a:lnTo>
                  <a:pt x="151" y="234"/>
                </a:lnTo>
                <a:lnTo>
                  <a:pt x="156" y="228"/>
                </a:lnTo>
                <a:lnTo>
                  <a:pt x="162" y="228"/>
                </a:lnTo>
                <a:lnTo>
                  <a:pt x="167" y="228"/>
                </a:lnTo>
                <a:lnTo>
                  <a:pt x="172" y="228"/>
                </a:lnTo>
                <a:lnTo>
                  <a:pt x="177" y="222"/>
                </a:lnTo>
                <a:lnTo>
                  <a:pt x="183" y="222"/>
                </a:lnTo>
                <a:lnTo>
                  <a:pt x="189" y="222"/>
                </a:lnTo>
                <a:lnTo>
                  <a:pt x="194" y="216"/>
                </a:lnTo>
                <a:lnTo>
                  <a:pt x="199" y="216"/>
                </a:lnTo>
                <a:lnTo>
                  <a:pt x="204" y="216"/>
                </a:lnTo>
                <a:lnTo>
                  <a:pt x="210" y="211"/>
                </a:lnTo>
                <a:lnTo>
                  <a:pt x="216" y="211"/>
                </a:lnTo>
                <a:lnTo>
                  <a:pt x="221" y="211"/>
                </a:lnTo>
                <a:lnTo>
                  <a:pt x="226" y="205"/>
                </a:lnTo>
                <a:lnTo>
                  <a:pt x="231" y="205"/>
                </a:lnTo>
                <a:lnTo>
                  <a:pt x="237" y="205"/>
                </a:lnTo>
                <a:lnTo>
                  <a:pt x="242" y="200"/>
                </a:lnTo>
                <a:lnTo>
                  <a:pt x="248" y="200"/>
                </a:lnTo>
                <a:lnTo>
                  <a:pt x="253" y="195"/>
                </a:lnTo>
                <a:lnTo>
                  <a:pt x="258" y="195"/>
                </a:lnTo>
                <a:lnTo>
                  <a:pt x="264" y="195"/>
                </a:lnTo>
                <a:lnTo>
                  <a:pt x="269" y="189"/>
                </a:lnTo>
                <a:lnTo>
                  <a:pt x="275" y="189"/>
                </a:lnTo>
                <a:lnTo>
                  <a:pt x="281" y="183"/>
                </a:lnTo>
                <a:lnTo>
                  <a:pt x="285" y="183"/>
                </a:lnTo>
                <a:lnTo>
                  <a:pt x="291" y="177"/>
                </a:lnTo>
                <a:lnTo>
                  <a:pt x="296" y="177"/>
                </a:lnTo>
                <a:lnTo>
                  <a:pt x="302" y="173"/>
                </a:lnTo>
                <a:lnTo>
                  <a:pt x="307" y="173"/>
                </a:lnTo>
                <a:lnTo>
                  <a:pt x="312" y="167"/>
                </a:lnTo>
                <a:lnTo>
                  <a:pt x="318" y="167"/>
                </a:lnTo>
                <a:lnTo>
                  <a:pt x="323" y="167"/>
                </a:lnTo>
                <a:lnTo>
                  <a:pt x="329" y="161"/>
                </a:lnTo>
                <a:lnTo>
                  <a:pt x="334" y="155"/>
                </a:lnTo>
                <a:lnTo>
                  <a:pt x="339" y="155"/>
                </a:lnTo>
                <a:lnTo>
                  <a:pt x="345" y="155"/>
                </a:lnTo>
                <a:lnTo>
                  <a:pt x="350" y="150"/>
                </a:lnTo>
                <a:lnTo>
                  <a:pt x="356" y="150"/>
                </a:lnTo>
                <a:lnTo>
                  <a:pt x="361" y="144"/>
                </a:lnTo>
                <a:lnTo>
                  <a:pt x="366" y="139"/>
                </a:lnTo>
                <a:lnTo>
                  <a:pt x="371" y="139"/>
                </a:lnTo>
                <a:lnTo>
                  <a:pt x="377" y="139"/>
                </a:lnTo>
                <a:lnTo>
                  <a:pt x="383" y="134"/>
                </a:lnTo>
                <a:lnTo>
                  <a:pt x="388" y="134"/>
                </a:lnTo>
                <a:lnTo>
                  <a:pt x="393" y="128"/>
                </a:lnTo>
                <a:lnTo>
                  <a:pt x="398" y="122"/>
                </a:lnTo>
                <a:lnTo>
                  <a:pt x="404" y="122"/>
                </a:lnTo>
                <a:lnTo>
                  <a:pt x="410" y="116"/>
                </a:lnTo>
                <a:lnTo>
                  <a:pt x="415" y="116"/>
                </a:lnTo>
                <a:lnTo>
                  <a:pt x="420" y="116"/>
                </a:lnTo>
                <a:lnTo>
                  <a:pt x="425" y="112"/>
                </a:lnTo>
                <a:lnTo>
                  <a:pt x="431" y="106"/>
                </a:lnTo>
                <a:lnTo>
                  <a:pt x="436" y="106"/>
                </a:lnTo>
                <a:lnTo>
                  <a:pt x="442" y="100"/>
                </a:lnTo>
                <a:lnTo>
                  <a:pt x="447" y="100"/>
                </a:lnTo>
                <a:lnTo>
                  <a:pt x="452" y="95"/>
                </a:lnTo>
                <a:lnTo>
                  <a:pt x="458" y="95"/>
                </a:lnTo>
                <a:lnTo>
                  <a:pt x="463" y="89"/>
                </a:lnTo>
                <a:lnTo>
                  <a:pt x="469" y="89"/>
                </a:lnTo>
                <a:lnTo>
                  <a:pt x="473" y="83"/>
                </a:lnTo>
                <a:lnTo>
                  <a:pt x="479" y="83"/>
                </a:lnTo>
                <a:lnTo>
                  <a:pt x="485" y="78"/>
                </a:lnTo>
                <a:lnTo>
                  <a:pt x="490" y="78"/>
                </a:lnTo>
                <a:lnTo>
                  <a:pt x="496" y="73"/>
                </a:lnTo>
                <a:lnTo>
                  <a:pt x="502" y="73"/>
                </a:lnTo>
                <a:lnTo>
                  <a:pt x="506" y="67"/>
                </a:lnTo>
                <a:lnTo>
                  <a:pt x="512" y="67"/>
                </a:lnTo>
                <a:lnTo>
                  <a:pt x="517" y="61"/>
                </a:lnTo>
                <a:lnTo>
                  <a:pt x="523" y="61"/>
                </a:lnTo>
                <a:lnTo>
                  <a:pt x="528" y="55"/>
                </a:lnTo>
                <a:lnTo>
                  <a:pt x="533" y="55"/>
                </a:lnTo>
                <a:lnTo>
                  <a:pt x="538" y="55"/>
                </a:lnTo>
                <a:lnTo>
                  <a:pt x="544" y="51"/>
                </a:lnTo>
                <a:lnTo>
                  <a:pt x="550" y="51"/>
                </a:lnTo>
                <a:lnTo>
                  <a:pt x="555" y="45"/>
                </a:lnTo>
                <a:lnTo>
                  <a:pt x="560" y="45"/>
                </a:lnTo>
                <a:lnTo>
                  <a:pt x="565" y="39"/>
                </a:lnTo>
                <a:lnTo>
                  <a:pt x="571" y="39"/>
                </a:lnTo>
                <a:lnTo>
                  <a:pt x="577" y="34"/>
                </a:lnTo>
                <a:lnTo>
                  <a:pt x="582" y="34"/>
                </a:lnTo>
                <a:lnTo>
                  <a:pt x="587" y="34"/>
                </a:lnTo>
                <a:lnTo>
                  <a:pt x="592" y="28"/>
                </a:lnTo>
                <a:lnTo>
                  <a:pt x="598" y="28"/>
                </a:lnTo>
                <a:lnTo>
                  <a:pt x="604" y="28"/>
                </a:lnTo>
                <a:lnTo>
                  <a:pt x="609" y="22"/>
                </a:lnTo>
                <a:lnTo>
                  <a:pt x="614" y="22"/>
                </a:lnTo>
                <a:lnTo>
                  <a:pt x="619" y="22"/>
                </a:lnTo>
                <a:lnTo>
                  <a:pt x="625" y="17"/>
                </a:lnTo>
                <a:lnTo>
                  <a:pt x="630" y="17"/>
                </a:lnTo>
                <a:lnTo>
                  <a:pt x="636" y="12"/>
                </a:lnTo>
                <a:lnTo>
                  <a:pt x="640" y="12"/>
                </a:lnTo>
                <a:lnTo>
                  <a:pt x="646" y="12"/>
                </a:lnTo>
                <a:lnTo>
                  <a:pt x="652" y="12"/>
                </a:lnTo>
                <a:lnTo>
                  <a:pt x="657" y="6"/>
                </a:lnTo>
                <a:lnTo>
                  <a:pt x="663" y="6"/>
                </a:lnTo>
                <a:lnTo>
                  <a:pt x="667" y="6"/>
                </a:lnTo>
                <a:lnTo>
                  <a:pt x="673" y="0"/>
                </a:lnTo>
                <a:lnTo>
                  <a:pt x="679" y="0"/>
                </a:lnTo>
                <a:lnTo>
                  <a:pt x="684"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5735520" y="2946240"/>
            <a:ext cx="555840" cy="149400"/>
          </a:xfrm>
          <a:custGeom>
            <a:avLst/>
            <a:gdLst/>
            <a:ahLst/>
            <a:rect l="l" t="t" r="r" b="b"/>
            <a:pathLst>
              <a:path w="350" h="94">
                <a:moveTo>
                  <a:pt x="0" y="94"/>
                </a:moveTo>
                <a:lnTo>
                  <a:pt x="6" y="94"/>
                </a:lnTo>
                <a:lnTo>
                  <a:pt x="11" y="89"/>
                </a:lnTo>
                <a:lnTo>
                  <a:pt x="16" y="89"/>
                </a:lnTo>
                <a:lnTo>
                  <a:pt x="21" y="89"/>
                </a:lnTo>
                <a:lnTo>
                  <a:pt x="27" y="89"/>
                </a:lnTo>
                <a:lnTo>
                  <a:pt x="33" y="84"/>
                </a:lnTo>
                <a:lnTo>
                  <a:pt x="38" y="84"/>
                </a:lnTo>
                <a:lnTo>
                  <a:pt x="43" y="84"/>
                </a:lnTo>
                <a:lnTo>
                  <a:pt x="48" y="84"/>
                </a:lnTo>
                <a:lnTo>
                  <a:pt x="54" y="78"/>
                </a:lnTo>
                <a:lnTo>
                  <a:pt x="60" y="78"/>
                </a:lnTo>
                <a:lnTo>
                  <a:pt x="65" y="78"/>
                </a:lnTo>
                <a:lnTo>
                  <a:pt x="70" y="78"/>
                </a:lnTo>
                <a:lnTo>
                  <a:pt x="75" y="78"/>
                </a:lnTo>
                <a:lnTo>
                  <a:pt x="81" y="73"/>
                </a:lnTo>
                <a:lnTo>
                  <a:pt x="86" y="73"/>
                </a:lnTo>
                <a:lnTo>
                  <a:pt x="92" y="73"/>
                </a:lnTo>
                <a:lnTo>
                  <a:pt x="97" y="73"/>
                </a:lnTo>
                <a:lnTo>
                  <a:pt x="102" y="67"/>
                </a:lnTo>
                <a:lnTo>
                  <a:pt x="108" y="67"/>
                </a:lnTo>
                <a:lnTo>
                  <a:pt x="113" y="67"/>
                </a:lnTo>
                <a:lnTo>
                  <a:pt x="119" y="67"/>
                </a:lnTo>
                <a:lnTo>
                  <a:pt x="123" y="67"/>
                </a:lnTo>
                <a:lnTo>
                  <a:pt x="129" y="67"/>
                </a:lnTo>
                <a:lnTo>
                  <a:pt x="135" y="61"/>
                </a:lnTo>
                <a:lnTo>
                  <a:pt x="140" y="61"/>
                </a:lnTo>
                <a:lnTo>
                  <a:pt x="146" y="61"/>
                </a:lnTo>
                <a:lnTo>
                  <a:pt x="150" y="61"/>
                </a:lnTo>
                <a:lnTo>
                  <a:pt x="156" y="55"/>
                </a:lnTo>
                <a:lnTo>
                  <a:pt x="161" y="55"/>
                </a:lnTo>
                <a:lnTo>
                  <a:pt x="167" y="55"/>
                </a:lnTo>
                <a:lnTo>
                  <a:pt x="173" y="55"/>
                </a:lnTo>
                <a:lnTo>
                  <a:pt x="177" y="55"/>
                </a:lnTo>
                <a:lnTo>
                  <a:pt x="183" y="51"/>
                </a:lnTo>
                <a:lnTo>
                  <a:pt x="188" y="51"/>
                </a:lnTo>
                <a:lnTo>
                  <a:pt x="194" y="51"/>
                </a:lnTo>
                <a:lnTo>
                  <a:pt x="200" y="51"/>
                </a:lnTo>
                <a:lnTo>
                  <a:pt x="204" y="45"/>
                </a:lnTo>
                <a:lnTo>
                  <a:pt x="210" y="45"/>
                </a:lnTo>
                <a:lnTo>
                  <a:pt x="215" y="45"/>
                </a:lnTo>
                <a:lnTo>
                  <a:pt x="221" y="45"/>
                </a:lnTo>
                <a:lnTo>
                  <a:pt x="226" y="39"/>
                </a:lnTo>
                <a:lnTo>
                  <a:pt x="232" y="39"/>
                </a:lnTo>
                <a:lnTo>
                  <a:pt x="236" y="39"/>
                </a:lnTo>
                <a:lnTo>
                  <a:pt x="242" y="39"/>
                </a:lnTo>
                <a:lnTo>
                  <a:pt x="248" y="34"/>
                </a:lnTo>
                <a:lnTo>
                  <a:pt x="253" y="34"/>
                </a:lnTo>
                <a:lnTo>
                  <a:pt x="259" y="34"/>
                </a:lnTo>
                <a:lnTo>
                  <a:pt x="263" y="28"/>
                </a:lnTo>
                <a:lnTo>
                  <a:pt x="269" y="28"/>
                </a:lnTo>
                <a:lnTo>
                  <a:pt x="275" y="28"/>
                </a:lnTo>
                <a:lnTo>
                  <a:pt x="280" y="28"/>
                </a:lnTo>
                <a:lnTo>
                  <a:pt x="286" y="23"/>
                </a:lnTo>
                <a:lnTo>
                  <a:pt x="290" y="23"/>
                </a:lnTo>
                <a:lnTo>
                  <a:pt x="296" y="23"/>
                </a:lnTo>
                <a:lnTo>
                  <a:pt x="302" y="18"/>
                </a:lnTo>
                <a:lnTo>
                  <a:pt x="307" y="18"/>
                </a:lnTo>
                <a:lnTo>
                  <a:pt x="313" y="18"/>
                </a:lnTo>
                <a:lnTo>
                  <a:pt x="317" y="12"/>
                </a:lnTo>
                <a:lnTo>
                  <a:pt x="323" y="12"/>
                </a:lnTo>
                <a:lnTo>
                  <a:pt x="328" y="12"/>
                </a:lnTo>
                <a:lnTo>
                  <a:pt x="334" y="6"/>
                </a:lnTo>
                <a:lnTo>
                  <a:pt x="340" y="6"/>
                </a:lnTo>
                <a:lnTo>
                  <a:pt x="344" y="6"/>
                </a:lnTo>
                <a:lnTo>
                  <a:pt x="350"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2590920" y="4343400"/>
            <a:ext cx="974520" cy="1017720"/>
          </a:xfrm>
          <a:custGeom>
            <a:avLst/>
            <a:gdLst/>
            <a:ahLst/>
            <a:rect l="l" t="t" r="r" b="b"/>
            <a:pathLst>
              <a:path w="6175" h="6420">
                <a:moveTo>
                  <a:pt x="123" y="6420"/>
                </a:moveTo>
                <a:lnTo>
                  <a:pt x="66" y="6420"/>
                </a:lnTo>
                <a:cubicBezTo>
                  <a:pt x="0" y="6420"/>
                  <a:pt x="0" y="6320"/>
                  <a:pt x="66" y="6320"/>
                </a:cubicBezTo>
                <a:lnTo>
                  <a:pt x="123" y="6320"/>
                </a:lnTo>
                <a:lnTo>
                  <a:pt x="168" y="6320"/>
                </a:lnTo>
                <a:lnTo>
                  <a:pt x="136" y="6332"/>
                </a:lnTo>
                <a:lnTo>
                  <a:pt x="193" y="6286"/>
                </a:lnTo>
                <a:lnTo>
                  <a:pt x="245" y="6232"/>
                </a:lnTo>
                <a:lnTo>
                  <a:pt x="301" y="6174"/>
                </a:lnTo>
                <a:lnTo>
                  <a:pt x="287" y="6209"/>
                </a:lnTo>
                <a:lnTo>
                  <a:pt x="287" y="6201"/>
                </a:lnTo>
                <a:lnTo>
                  <a:pt x="387" y="6201"/>
                </a:lnTo>
                <a:lnTo>
                  <a:pt x="387" y="6209"/>
                </a:lnTo>
                <a:cubicBezTo>
                  <a:pt x="387" y="6222"/>
                  <a:pt x="382" y="6235"/>
                  <a:pt x="373" y="6244"/>
                </a:cubicBezTo>
                <a:lnTo>
                  <a:pt x="316" y="6302"/>
                </a:lnTo>
                <a:lnTo>
                  <a:pt x="256" y="6363"/>
                </a:lnTo>
                <a:lnTo>
                  <a:pt x="199" y="6409"/>
                </a:lnTo>
                <a:cubicBezTo>
                  <a:pt x="191" y="6416"/>
                  <a:pt x="179" y="6420"/>
                  <a:pt x="168" y="6420"/>
                </a:cubicBezTo>
                <a:lnTo>
                  <a:pt x="123" y="6420"/>
                </a:lnTo>
                <a:lnTo>
                  <a:pt x="66" y="6420"/>
                </a:lnTo>
                <a:lnTo>
                  <a:pt x="66" y="6320"/>
                </a:lnTo>
                <a:lnTo>
                  <a:pt x="123" y="6320"/>
                </a:lnTo>
                <a:lnTo>
                  <a:pt x="123" y="6420"/>
                </a:lnTo>
                <a:close/>
                <a:moveTo>
                  <a:pt x="392" y="5913"/>
                </a:moveTo>
                <a:lnTo>
                  <a:pt x="392" y="5913"/>
                </a:lnTo>
                <a:lnTo>
                  <a:pt x="450" y="5796"/>
                </a:lnTo>
                <a:lnTo>
                  <a:pt x="504" y="5640"/>
                </a:lnTo>
                <a:lnTo>
                  <a:pt x="550" y="5544"/>
                </a:lnTo>
                <a:lnTo>
                  <a:pt x="640" y="5588"/>
                </a:lnTo>
                <a:lnTo>
                  <a:pt x="598" y="5673"/>
                </a:lnTo>
                <a:lnTo>
                  <a:pt x="539" y="5840"/>
                </a:lnTo>
                <a:lnTo>
                  <a:pt x="484" y="5953"/>
                </a:lnTo>
                <a:lnTo>
                  <a:pt x="484" y="5953"/>
                </a:lnTo>
                <a:lnTo>
                  <a:pt x="392" y="5913"/>
                </a:lnTo>
                <a:close/>
                <a:moveTo>
                  <a:pt x="613" y="5278"/>
                </a:moveTo>
                <a:lnTo>
                  <a:pt x="613" y="5208"/>
                </a:lnTo>
                <a:cubicBezTo>
                  <a:pt x="613" y="5203"/>
                  <a:pt x="614" y="5199"/>
                  <a:pt x="615" y="5194"/>
                </a:cubicBezTo>
                <a:lnTo>
                  <a:pt x="660" y="5033"/>
                </a:lnTo>
                <a:lnTo>
                  <a:pt x="711" y="4877"/>
                </a:lnTo>
                <a:lnTo>
                  <a:pt x="806" y="4908"/>
                </a:lnTo>
                <a:lnTo>
                  <a:pt x="757" y="5060"/>
                </a:lnTo>
                <a:lnTo>
                  <a:pt x="712" y="5221"/>
                </a:lnTo>
                <a:lnTo>
                  <a:pt x="713" y="5208"/>
                </a:lnTo>
                <a:lnTo>
                  <a:pt x="713" y="5278"/>
                </a:lnTo>
                <a:lnTo>
                  <a:pt x="613" y="5278"/>
                </a:lnTo>
                <a:close/>
                <a:moveTo>
                  <a:pt x="800" y="4594"/>
                </a:moveTo>
                <a:lnTo>
                  <a:pt x="829" y="4482"/>
                </a:lnTo>
                <a:lnTo>
                  <a:pt x="885" y="4252"/>
                </a:lnTo>
                <a:lnTo>
                  <a:pt x="884" y="4264"/>
                </a:lnTo>
                <a:lnTo>
                  <a:pt x="884" y="4217"/>
                </a:lnTo>
                <a:lnTo>
                  <a:pt x="984" y="4217"/>
                </a:lnTo>
                <a:lnTo>
                  <a:pt x="984" y="4264"/>
                </a:lnTo>
                <a:cubicBezTo>
                  <a:pt x="984" y="4268"/>
                  <a:pt x="983" y="4272"/>
                  <a:pt x="982" y="4276"/>
                </a:cubicBezTo>
                <a:lnTo>
                  <a:pt x="926" y="4507"/>
                </a:lnTo>
                <a:lnTo>
                  <a:pt x="897" y="4619"/>
                </a:lnTo>
                <a:lnTo>
                  <a:pt x="800" y="4594"/>
                </a:lnTo>
                <a:close/>
                <a:moveTo>
                  <a:pt x="922" y="3911"/>
                </a:moveTo>
                <a:lnTo>
                  <a:pt x="930" y="3874"/>
                </a:lnTo>
                <a:lnTo>
                  <a:pt x="987" y="3642"/>
                </a:lnTo>
                <a:lnTo>
                  <a:pt x="1018" y="3520"/>
                </a:lnTo>
                <a:lnTo>
                  <a:pt x="1115" y="3545"/>
                </a:lnTo>
                <a:lnTo>
                  <a:pt x="1084" y="3666"/>
                </a:lnTo>
                <a:lnTo>
                  <a:pt x="1028" y="3894"/>
                </a:lnTo>
                <a:lnTo>
                  <a:pt x="1020" y="3931"/>
                </a:lnTo>
                <a:lnTo>
                  <a:pt x="922" y="3911"/>
                </a:lnTo>
                <a:close/>
                <a:moveTo>
                  <a:pt x="1093" y="3229"/>
                </a:moveTo>
                <a:lnTo>
                  <a:pt x="1099" y="3204"/>
                </a:lnTo>
                <a:lnTo>
                  <a:pt x="1156" y="2974"/>
                </a:lnTo>
                <a:lnTo>
                  <a:pt x="1183" y="2842"/>
                </a:lnTo>
                <a:lnTo>
                  <a:pt x="1281" y="2862"/>
                </a:lnTo>
                <a:lnTo>
                  <a:pt x="1253" y="2998"/>
                </a:lnTo>
                <a:lnTo>
                  <a:pt x="1196" y="3229"/>
                </a:lnTo>
                <a:lnTo>
                  <a:pt x="1190" y="3254"/>
                </a:lnTo>
                <a:lnTo>
                  <a:pt x="1093" y="3229"/>
                </a:lnTo>
                <a:close/>
                <a:moveTo>
                  <a:pt x="1199" y="2554"/>
                </a:moveTo>
                <a:lnTo>
                  <a:pt x="1199" y="2549"/>
                </a:lnTo>
                <a:cubicBezTo>
                  <a:pt x="1199" y="2544"/>
                  <a:pt x="1200" y="2540"/>
                  <a:pt x="1201" y="2536"/>
                </a:cubicBezTo>
                <a:lnTo>
                  <a:pt x="1257" y="2317"/>
                </a:lnTo>
                <a:lnTo>
                  <a:pt x="1297" y="2154"/>
                </a:lnTo>
                <a:lnTo>
                  <a:pt x="1394" y="2178"/>
                </a:lnTo>
                <a:lnTo>
                  <a:pt x="1354" y="2342"/>
                </a:lnTo>
                <a:lnTo>
                  <a:pt x="1298" y="2561"/>
                </a:lnTo>
                <a:lnTo>
                  <a:pt x="1299" y="2549"/>
                </a:lnTo>
                <a:lnTo>
                  <a:pt x="1299" y="2554"/>
                </a:lnTo>
                <a:lnTo>
                  <a:pt x="1199" y="2554"/>
                </a:lnTo>
                <a:close/>
                <a:moveTo>
                  <a:pt x="1373" y="1859"/>
                </a:moveTo>
                <a:lnTo>
                  <a:pt x="1427" y="1703"/>
                </a:lnTo>
                <a:lnTo>
                  <a:pt x="1482" y="1479"/>
                </a:lnTo>
                <a:lnTo>
                  <a:pt x="1579" y="1503"/>
                </a:lnTo>
                <a:lnTo>
                  <a:pt x="1522" y="1736"/>
                </a:lnTo>
                <a:lnTo>
                  <a:pt x="1467" y="1892"/>
                </a:lnTo>
                <a:lnTo>
                  <a:pt x="1373" y="1859"/>
                </a:lnTo>
                <a:close/>
                <a:moveTo>
                  <a:pt x="1526" y="1198"/>
                </a:moveTo>
                <a:lnTo>
                  <a:pt x="1526" y="1156"/>
                </a:lnTo>
                <a:cubicBezTo>
                  <a:pt x="1526" y="1150"/>
                  <a:pt x="1527" y="1144"/>
                  <a:pt x="1529" y="1139"/>
                </a:cubicBezTo>
                <a:lnTo>
                  <a:pt x="1585" y="978"/>
                </a:lnTo>
                <a:lnTo>
                  <a:pt x="1644" y="857"/>
                </a:lnTo>
                <a:lnTo>
                  <a:pt x="1661" y="807"/>
                </a:lnTo>
                <a:lnTo>
                  <a:pt x="1755" y="840"/>
                </a:lnTo>
                <a:lnTo>
                  <a:pt x="1733" y="901"/>
                </a:lnTo>
                <a:lnTo>
                  <a:pt x="1679" y="1011"/>
                </a:lnTo>
                <a:lnTo>
                  <a:pt x="1623" y="1172"/>
                </a:lnTo>
                <a:lnTo>
                  <a:pt x="1626" y="1156"/>
                </a:lnTo>
                <a:lnTo>
                  <a:pt x="1626" y="1198"/>
                </a:lnTo>
                <a:lnTo>
                  <a:pt x="1526" y="1198"/>
                </a:lnTo>
                <a:close/>
                <a:moveTo>
                  <a:pt x="1769" y="532"/>
                </a:moveTo>
                <a:lnTo>
                  <a:pt x="1798" y="428"/>
                </a:lnTo>
                <a:cubicBezTo>
                  <a:pt x="1799" y="425"/>
                  <a:pt x="1800" y="423"/>
                  <a:pt x="1801" y="420"/>
                </a:cubicBezTo>
                <a:lnTo>
                  <a:pt x="1858" y="305"/>
                </a:lnTo>
                <a:cubicBezTo>
                  <a:pt x="1860" y="300"/>
                  <a:pt x="1863" y="296"/>
                  <a:pt x="1867" y="292"/>
                </a:cubicBezTo>
                <a:lnTo>
                  <a:pt x="1923" y="234"/>
                </a:lnTo>
                <a:lnTo>
                  <a:pt x="1983" y="184"/>
                </a:lnTo>
                <a:cubicBezTo>
                  <a:pt x="1992" y="177"/>
                  <a:pt x="2004" y="173"/>
                  <a:pt x="2015" y="173"/>
                </a:cubicBezTo>
                <a:lnTo>
                  <a:pt x="2027" y="173"/>
                </a:lnTo>
                <a:lnTo>
                  <a:pt x="2027" y="273"/>
                </a:lnTo>
                <a:lnTo>
                  <a:pt x="2015" y="273"/>
                </a:lnTo>
                <a:lnTo>
                  <a:pt x="2047" y="262"/>
                </a:lnTo>
                <a:lnTo>
                  <a:pt x="1995" y="304"/>
                </a:lnTo>
                <a:lnTo>
                  <a:pt x="1938" y="362"/>
                </a:lnTo>
                <a:lnTo>
                  <a:pt x="1947" y="349"/>
                </a:lnTo>
                <a:lnTo>
                  <a:pt x="1891" y="464"/>
                </a:lnTo>
                <a:lnTo>
                  <a:pt x="1894" y="455"/>
                </a:lnTo>
                <a:lnTo>
                  <a:pt x="1865" y="558"/>
                </a:lnTo>
                <a:lnTo>
                  <a:pt x="1769" y="532"/>
                </a:lnTo>
                <a:close/>
                <a:moveTo>
                  <a:pt x="2274" y="173"/>
                </a:moveTo>
                <a:lnTo>
                  <a:pt x="2285" y="173"/>
                </a:lnTo>
                <a:cubicBezTo>
                  <a:pt x="2297" y="173"/>
                  <a:pt x="2308" y="177"/>
                  <a:pt x="2317" y="184"/>
                </a:cubicBezTo>
                <a:lnTo>
                  <a:pt x="2373" y="230"/>
                </a:lnTo>
                <a:cubicBezTo>
                  <a:pt x="2376" y="233"/>
                  <a:pt x="2379" y="235"/>
                  <a:pt x="2381" y="238"/>
                </a:cubicBezTo>
                <a:lnTo>
                  <a:pt x="2426" y="296"/>
                </a:lnTo>
                <a:cubicBezTo>
                  <a:pt x="2428" y="299"/>
                  <a:pt x="2430" y="302"/>
                  <a:pt x="2432" y="305"/>
                </a:cubicBezTo>
                <a:lnTo>
                  <a:pt x="2488" y="420"/>
                </a:lnTo>
                <a:lnTo>
                  <a:pt x="2479" y="407"/>
                </a:lnTo>
                <a:lnTo>
                  <a:pt x="2535" y="464"/>
                </a:lnTo>
                <a:cubicBezTo>
                  <a:pt x="2544" y="474"/>
                  <a:pt x="2549" y="486"/>
                  <a:pt x="2549" y="499"/>
                </a:cubicBezTo>
                <a:lnTo>
                  <a:pt x="2549" y="534"/>
                </a:lnTo>
                <a:lnTo>
                  <a:pt x="2449" y="534"/>
                </a:lnTo>
                <a:lnTo>
                  <a:pt x="2449" y="499"/>
                </a:lnTo>
                <a:lnTo>
                  <a:pt x="2464" y="534"/>
                </a:lnTo>
                <a:lnTo>
                  <a:pt x="2407" y="477"/>
                </a:lnTo>
                <a:cubicBezTo>
                  <a:pt x="2404" y="473"/>
                  <a:pt x="2401" y="469"/>
                  <a:pt x="2398" y="464"/>
                </a:cubicBezTo>
                <a:lnTo>
                  <a:pt x="2342" y="349"/>
                </a:lnTo>
                <a:lnTo>
                  <a:pt x="2347" y="358"/>
                </a:lnTo>
                <a:lnTo>
                  <a:pt x="2302" y="300"/>
                </a:lnTo>
                <a:lnTo>
                  <a:pt x="2310" y="308"/>
                </a:lnTo>
                <a:lnTo>
                  <a:pt x="2254" y="262"/>
                </a:lnTo>
                <a:lnTo>
                  <a:pt x="2285" y="273"/>
                </a:lnTo>
                <a:lnTo>
                  <a:pt x="2274" y="273"/>
                </a:lnTo>
                <a:lnTo>
                  <a:pt x="2274" y="173"/>
                </a:lnTo>
                <a:close/>
                <a:moveTo>
                  <a:pt x="2646" y="788"/>
                </a:moveTo>
                <a:lnTo>
                  <a:pt x="2657" y="811"/>
                </a:lnTo>
                <a:cubicBezTo>
                  <a:pt x="2658" y="814"/>
                  <a:pt x="2659" y="817"/>
                  <a:pt x="2660" y="820"/>
                </a:cubicBezTo>
                <a:lnTo>
                  <a:pt x="2705" y="981"/>
                </a:lnTo>
                <a:lnTo>
                  <a:pt x="2761" y="1139"/>
                </a:lnTo>
                <a:lnTo>
                  <a:pt x="2774" y="1166"/>
                </a:lnTo>
                <a:lnTo>
                  <a:pt x="2685" y="1210"/>
                </a:lnTo>
                <a:lnTo>
                  <a:pt x="2666" y="1172"/>
                </a:lnTo>
                <a:lnTo>
                  <a:pt x="2609" y="1008"/>
                </a:lnTo>
                <a:lnTo>
                  <a:pt x="2564" y="847"/>
                </a:lnTo>
                <a:lnTo>
                  <a:pt x="2567" y="855"/>
                </a:lnTo>
                <a:lnTo>
                  <a:pt x="2556" y="832"/>
                </a:lnTo>
                <a:lnTo>
                  <a:pt x="2646" y="788"/>
                </a:lnTo>
                <a:close/>
                <a:moveTo>
                  <a:pt x="2829" y="1460"/>
                </a:moveTo>
                <a:lnTo>
                  <a:pt x="2873" y="1588"/>
                </a:lnTo>
                <a:lnTo>
                  <a:pt x="2931" y="1811"/>
                </a:lnTo>
                <a:lnTo>
                  <a:pt x="2941" y="1848"/>
                </a:lnTo>
                <a:lnTo>
                  <a:pt x="2844" y="1874"/>
                </a:lnTo>
                <a:lnTo>
                  <a:pt x="2834" y="1836"/>
                </a:lnTo>
                <a:lnTo>
                  <a:pt x="2779" y="1621"/>
                </a:lnTo>
                <a:lnTo>
                  <a:pt x="2734" y="1493"/>
                </a:lnTo>
                <a:lnTo>
                  <a:pt x="2829" y="1460"/>
                </a:lnTo>
                <a:close/>
                <a:moveTo>
                  <a:pt x="3028" y="2131"/>
                </a:moveTo>
                <a:lnTo>
                  <a:pt x="3031" y="2141"/>
                </a:lnTo>
                <a:lnTo>
                  <a:pt x="3088" y="2314"/>
                </a:lnTo>
                <a:lnTo>
                  <a:pt x="3140" y="2519"/>
                </a:lnTo>
                <a:lnTo>
                  <a:pt x="3044" y="2544"/>
                </a:lnTo>
                <a:lnTo>
                  <a:pt x="2993" y="2345"/>
                </a:lnTo>
                <a:lnTo>
                  <a:pt x="2937" y="2174"/>
                </a:lnTo>
                <a:lnTo>
                  <a:pt x="2933" y="2164"/>
                </a:lnTo>
                <a:lnTo>
                  <a:pt x="3028" y="2131"/>
                </a:lnTo>
                <a:close/>
                <a:moveTo>
                  <a:pt x="3182" y="2809"/>
                </a:moveTo>
                <a:lnTo>
                  <a:pt x="3200" y="2867"/>
                </a:lnTo>
                <a:lnTo>
                  <a:pt x="3244" y="2966"/>
                </a:lnTo>
                <a:lnTo>
                  <a:pt x="3299" y="3079"/>
                </a:lnTo>
                <a:lnTo>
                  <a:pt x="3342" y="3168"/>
                </a:lnTo>
                <a:lnTo>
                  <a:pt x="3252" y="3211"/>
                </a:lnTo>
                <a:lnTo>
                  <a:pt x="3209" y="3123"/>
                </a:lnTo>
                <a:lnTo>
                  <a:pt x="3152" y="3006"/>
                </a:lnTo>
                <a:lnTo>
                  <a:pt x="3105" y="2898"/>
                </a:lnTo>
                <a:lnTo>
                  <a:pt x="3086" y="2840"/>
                </a:lnTo>
                <a:lnTo>
                  <a:pt x="3182" y="2809"/>
                </a:lnTo>
                <a:close/>
                <a:moveTo>
                  <a:pt x="3458" y="3244"/>
                </a:moveTo>
                <a:lnTo>
                  <a:pt x="3479" y="3196"/>
                </a:lnTo>
                <a:cubicBezTo>
                  <a:pt x="3481" y="3191"/>
                  <a:pt x="3485" y="3186"/>
                  <a:pt x="3489" y="3181"/>
                </a:cubicBezTo>
                <a:lnTo>
                  <a:pt x="3545" y="3124"/>
                </a:lnTo>
                <a:lnTo>
                  <a:pt x="3533" y="3143"/>
                </a:lnTo>
                <a:lnTo>
                  <a:pt x="3590" y="2970"/>
                </a:lnTo>
                <a:cubicBezTo>
                  <a:pt x="3591" y="2968"/>
                  <a:pt x="3592" y="2965"/>
                  <a:pt x="3593" y="2962"/>
                </a:cubicBezTo>
                <a:lnTo>
                  <a:pt x="3634" y="2887"/>
                </a:lnTo>
                <a:lnTo>
                  <a:pt x="3722" y="2935"/>
                </a:lnTo>
                <a:lnTo>
                  <a:pt x="3681" y="3010"/>
                </a:lnTo>
                <a:lnTo>
                  <a:pt x="3685" y="3001"/>
                </a:lnTo>
                <a:lnTo>
                  <a:pt x="3628" y="3174"/>
                </a:lnTo>
                <a:cubicBezTo>
                  <a:pt x="3626" y="3181"/>
                  <a:pt x="3622" y="3188"/>
                  <a:pt x="3617" y="3194"/>
                </a:cubicBezTo>
                <a:lnTo>
                  <a:pt x="3560" y="3251"/>
                </a:lnTo>
                <a:lnTo>
                  <a:pt x="3570" y="3236"/>
                </a:lnTo>
                <a:lnTo>
                  <a:pt x="3549" y="3284"/>
                </a:lnTo>
                <a:lnTo>
                  <a:pt x="3458" y="3244"/>
                </a:lnTo>
                <a:close/>
                <a:moveTo>
                  <a:pt x="3678" y="2604"/>
                </a:moveTo>
                <a:lnTo>
                  <a:pt x="3703" y="2532"/>
                </a:lnTo>
                <a:lnTo>
                  <a:pt x="3746" y="2320"/>
                </a:lnTo>
                <a:lnTo>
                  <a:pt x="3779" y="2218"/>
                </a:lnTo>
                <a:lnTo>
                  <a:pt x="3874" y="2249"/>
                </a:lnTo>
                <a:lnTo>
                  <a:pt x="3844" y="2340"/>
                </a:lnTo>
                <a:lnTo>
                  <a:pt x="3797" y="2565"/>
                </a:lnTo>
                <a:lnTo>
                  <a:pt x="3772" y="2637"/>
                </a:lnTo>
                <a:lnTo>
                  <a:pt x="3678" y="2604"/>
                </a:lnTo>
                <a:close/>
                <a:moveTo>
                  <a:pt x="3870" y="1937"/>
                </a:moveTo>
                <a:lnTo>
                  <a:pt x="3915" y="1754"/>
                </a:lnTo>
                <a:lnTo>
                  <a:pt x="3973" y="1588"/>
                </a:lnTo>
                <a:lnTo>
                  <a:pt x="3970" y="1605"/>
                </a:lnTo>
                <a:lnTo>
                  <a:pt x="3970" y="1564"/>
                </a:lnTo>
                <a:lnTo>
                  <a:pt x="4070" y="1564"/>
                </a:lnTo>
                <a:lnTo>
                  <a:pt x="4070" y="1605"/>
                </a:lnTo>
                <a:cubicBezTo>
                  <a:pt x="4070" y="1610"/>
                  <a:pt x="4069" y="1616"/>
                  <a:pt x="4067" y="1621"/>
                </a:cubicBezTo>
                <a:lnTo>
                  <a:pt x="4012" y="1778"/>
                </a:lnTo>
                <a:lnTo>
                  <a:pt x="3968" y="1961"/>
                </a:lnTo>
                <a:lnTo>
                  <a:pt x="3870" y="1937"/>
                </a:lnTo>
                <a:close/>
                <a:moveTo>
                  <a:pt x="4006" y="1258"/>
                </a:moveTo>
                <a:lnTo>
                  <a:pt x="4016" y="1204"/>
                </a:lnTo>
                <a:cubicBezTo>
                  <a:pt x="4017" y="1201"/>
                  <a:pt x="4017" y="1199"/>
                  <a:pt x="4018" y="1197"/>
                </a:cubicBezTo>
                <a:lnTo>
                  <a:pt x="4074" y="1036"/>
                </a:lnTo>
                <a:lnTo>
                  <a:pt x="4133" y="915"/>
                </a:lnTo>
                <a:lnTo>
                  <a:pt x="4146" y="877"/>
                </a:lnTo>
                <a:lnTo>
                  <a:pt x="4240" y="910"/>
                </a:lnTo>
                <a:lnTo>
                  <a:pt x="4223" y="959"/>
                </a:lnTo>
                <a:lnTo>
                  <a:pt x="4169" y="1068"/>
                </a:lnTo>
                <a:lnTo>
                  <a:pt x="4112" y="1230"/>
                </a:lnTo>
                <a:lnTo>
                  <a:pt x="4114" y="1223"/>
                </a:lnTo>
                <a:lnTo>
                  <a:pt x="4104" y="1277"/>
                </a:lnTo>
                <a:lnTo>
                  <a:pt x="4006" y="1258"/>
                </a:lnTo>
                <a:close/>
                <a:moveTo>
                  <a:pt x="4241" y="593"/>
                </a:moveTo>
                <a:lnTo>
                  <a:pt x="4243" y="588"/>
                </a:lnTo>
                <a:lnTo>
                  <a:pt x="4240" y="603"/>
                </a:lnTo>
                <a:lnTo>
                  <a:pt x="4240" y="499"/>
                </a:lnTo>
                <a:cubicBezTo>
                  <a:pt x="4240" y="493"/>
                  <a:pt x="4242" y="487"/>
                  <a:pt x="4244" y="481"/>
                </a:cubicBezTo>
                <a:lnTo>
                  <a:pt x="4289" y="366"/>
                </a:lnTo>
                <a:cubicBezTo>
                  <a:pt x="4291" y="360"/>
                  <a:pt x="4295" y="354"/>
                  <a:pt x="4300" y="349"/>
                </a:cubicBezTo>
                <a:lnTo>
                  <a:pt x="4356" y="292"/>
                </a:lnTo>
                <a:lnTo>
                  <a:pt x="4348" y="303"/>
                </a:lnTo>
                <a:lnTo>
                  <a:pt x="4389" y="227"/>
                </a:lnTo>
                <a:lnTo>
                  <a:pt x="4477" y="275"/>
                </a:lnTo>
                <a:lnTo>
                  <a:pt x="4436" y="351"/>
                </a:lnTo>
                <a:cubicBezTo>
                  <a:pt x="4434" y="355"/>
                  <a:pt x="4431" y="358"/>
                  <a:pt x="4428" y="362"/>
                </a:cubicBezTo>
                <a:lnTo>
                  <a:pt x="4371" y="419"/>
                </a:lnTo>
                <a:lnTo>
                  <a:pt x="4382" y="403"/>
                </a:lnTo>
                <a:lnTo>
                  <a:pt x="4337" y="518"/>
                </a:lnTo>
                <a:lnTo>
                  <a:pt x="4340" y="499"/>
                </a:lnTo>
                <a:lnTo>
                  <a:pt x="4340" y="603"/>
                </a:lnTo>
                <a:cubicBezTo>
                  <a:pt x="4340" y="608"/>
                  <a:pt x="4340" y="614"/>
                  <a:pt x="4338" y="619"/>
                </a:cubicBezTo>
                <a:lnTo>
                  <a:pt x="4336" y="624"/>
                </a:lnTo>
                <a:lnTo>
                  <a:pt x="4241" y="593"/>
                </a:lnTo>
                <a:close/>
                <a:moveTo>
                  <a:pt x="4640" y="0"/>
                </a:moveTo>
                <a:lnTo>
                  <a:pt x="4662" y="0"/>
                </a:lnTo>
                <a:lnTo>
                  <a:pt x="4718" y="0"/>
                </a:lnTo>
                <a:cubicBezTo>
                  <a:pt x="4732" y="0"/>
                  <a:pt x="4745" y="6"/>
                  <a:pt x="4754" y="16"/>
                </a:cubicBezTo>
                <a:lnTo>
                  <a:pt x="4811" y="73"/>
                </a:lnTo>
                <a:lnTo>
                  <a:pt x="4867" y="131"/>
                </a:lnTo>
                <a:lnTo>
                  <a:pt x="4916" y="192"/>
                </a:lnTo>
                <a:lnTo>
                  <a:pt x="4908" y="184"/>
                </a:lnTo>
                <a:lnTo>
                  <a:pt x="4964" y="230"/>
                </a:lnTo>
                <a:cubicBezTo>
                  <a:pt x="4976" y="240"/>
                  <a:pt x="4982" y="254"/>
                  <a:pt x="4982" y="269"/>
                </a:cubicBezTo>
                <a:lnTo>
                  <a:pt x="4982" y="284"/>
                </a:lnTo>
                <a:lnTo>
                  <a:pt x="4882" y="284"/>
                </a:lnTo>
                <a:lnTo>
                  <a:pt x="4882" y="269"/>
                </a:lnTo>
                <a:lnTo>
                  <a:pt x="4901" y="308"/>
                </a:lnTo>
                <a:lnTo>
                  <a:pt x="4845" y="262"/>
                </a:lnTo>
                <a:cubicBezTo>
                  <a:pt x="4842" y="260"/>
                  <a:pt x="4839" y="257"/>
                  <a:pt x="4837" y="254"/>
                </a:cubicBezTo>
                <a:lnTo>
                  <a:pt x="4795" y="201"/>
                </a:lnTo>
                <a:lnTo>
                  <a:pt x="4739" y="143"/>
                </a:lnTo>
                <a:lnTo>
                  <a:pt x="4683" y="85"/>
                </a:lnTo>
                <a:lnTo>
                  <a:pt x="4718" y="100"/>
                </a:lnTo>
                <a:lnTo>
                  <a:pt x="4662" y="100"/>
                </a:lnTo>
                <a:lnTo>
                  <a:pt x="4640" y="100"/>
                </a:lnTo>
                <a:lnTo>
                  <a:pt x="4640" y="0"/>
                </a:lnTo>
                <a:close/>
                <a:moveTo>
                  <a:pt x="5059" y="550"/>
                </a:moveTo>
                <a:lnTo>
                  <a:pt x="5092" y="644"/>
                </a:lnTo>
                <a:lnTo>
                  <a:pt x="5146" y="754"/>
                </a:lnTo>
                <a:cubicBezTo>
                  <a:pt x="5148" y="756"/>
                  <a:pt x="5149" y="759"/>
                  <a:pt x="5150" y="762"/>
                </a:cubicBezTo>
                <a:lnTo>
                  <a:pt x="5195" y="923"/>
                </a:lnTo>
                <a:lnTo>
                  <a:pt x="5196" y="926"/>
                </a:lnTo>
                <a:lnTo>
                  <a:pt x="5100" y="957"/>
                </a:lnTo>
                <a:lnTo>
                  <a:pt x="5098" y="950"/>
                </a:lnTo>
                <a:lnTo>
                  <a:pt x="5053" y="789"/>
                </a:lnTo>
                <a:lnTo>
                  <a:pt x="5057" y="798"/>
                </a:lnTo>
                <a:lnTo>
                  <a:pt x="4998" y="677"/>
                </a:lnTo>
                <a:lnTo>
                  <a:pt x="4965" y="583"/>
                </a:lnTo>
                <a:lnTo>
                  <a:pt x="5059" y="550"/>
                </a:lnTo>
                <a:close/>
                <a:moveTo>
                  <a:pt x="5253" y="1233"/>
                </a:moveTo>
                <a:lnTo>
                  <a:pt x="5253" y="1271"/>
                </a:lnTo>
                <a:lnTo>
                  <a:pt x="5251" y="1258"/>
                </a:lnTo>
                <a:lnTo>
                  <a:pt x="5308" y="1477"/>
                </a:lnTo>
                <a:lnTo>
                  <a:pt x="5349" y="1603"/>
                </a:lnTo>
                <a:lnTo>
                  <a:pt x="5254" y="1634"/>
                </a:lnTo>
                <a:lnTo>
                  <a:pt x="5211" y="1502"/>
                </a:lnTo>
                <a:lnTo>
                  <a:pt x="5154" y="1283"/>
                </a:lnTo>
                <a:cubicBezTo>
                  <a:pt x="5153" y="1279"/>
                  <a:pt x="5153" y="1275"/>
                  <a:pt x="5153" y="1271"/>
                </a:cubicBezTo>
                <a:lnTo>
                  <a:pt x="5153" y="1233"/>
                </a:lnTo>
                <a:lnTo>
                  <a:pt x="5253" y="1233"/>
                </a:lnTo>
                <a:close/>
                <a:moveTo>
                  <a:pt x="5427" y="1899"/>
                </a:moveTo>
                <a:lnTo>
                  <a:pt x="5466" y="2089"/>
                </a:lnTo>
                <a:lnTo>
                  <a:pt x="5521" y="2257"/>
                </a:lnTo>
                <a:lnTo>
                  <a:pt x="5528" y="2283"/>
                </a:lnTo>
                <a:lnTo>
                  <a:pt x="5431" y="2308"/>
                </a:lnTo>
                <a:lnTo>
                  <a:pt x="5426" y="2288"/>
                </a:lnTo>
                <a:lnTo>
                  <a:pt x="5368" y="2110"/>
                </a:lnTo>
                <a:lnTo>
                  <a:pt x="5329" y="1919"/>
                </a:lnTo>
                <a:lnTo>
                  <a:pt x="5427" y="1899"/>
                </a:lnTo>
                <a:close/>
                <a:moveTo>
                  <a:pt x="5579" y="2589"/>
                </a:moveTo>
                <a:lnTo>
                  <a:pt x="5579" y="2664"/>
                </a:lnTo>
                <a:lnTo>
                  <a:pt x="5577" y="2647"/>
                </a:lnTo>
                <a:lnTo>
                  <a:pt x="5633" y="2808"/>
                </a:lnTo>
                <a:lnTo>
                  <a:pt x="5684" y="2954"/>
                </a:lnTo>
                <a:lnTo>
                  <a:pt x="5590" y="2987"/>
                </a:lnTo>
                <a:lnTo>
                  <a:pt x="5539" y="2841"/>
                </a:lnTo>
                <a:lnTo>
                  <a:pt x="5482" y="2680"/>
                </a:lnTo>
                <a:cubicBezTo>
                  <a:pt x="5480" y="2675"/>
                  <a:pt x="5479" y="2669"/>
                  <a:pt x="5479" y="2664"/>
                </a:cubicBezTo>
                <a:lnTo>
                  <a:pt x="5479" y="2589"/>
                </a:lnTo>
                <a:lnTo>
                  <a:pt x="5579" y="2589"/>
                </a:lnTo>
                <a:close/>
                <a:moveTo>
                  <a:pt x="5765" y="3180"/>
                </a:moveTo>
                <a:lnTo>
                  <a:pt x="5820" y="3124"/>
                </a:lnTo>
                <a:lnTo>
                  <a:pt x="5877" y="3066"/>
                </a:lnTo>
                <a:lnTo>
                  <a:pt x="5865" y="3085"/>
                </a:lnTo>
                <a:lnTo>
                  <a:pt x="5922" y="2923"/>
                </a:lnTo>
                <a:lnTo>
                  <a:pt x="5938" y="2859"/>
                </a:lnTo>
                <a:lnTo>
                  <a:pt x="6035" y="2885"/>
                </a:lnTo>
                <a:lnTo>
                  <a:pt x="6016" y="2956"/>
                </a:lnTo>
                <a:lnTo>
                  <a:pt x="5960" y="3118"/>
                </a:lnTo>
                <a:cubicBezTo>
                  <a:pt x="5957" y="3125"/>
                  <a:pt x="5953" y="3131"/>
                  <a:pt x="5948" y="3136"/>
                </a:cubicBezTo>
                <a:lnTo>
                  <a:pt x="5892" y="3194"/>
                </a:lnTo>
                <a:lnTo>
                  <a:pt x="5837" y="3250"/>
                </a:lnTo>
                <a:lnTo>
                  <a:pt x="5765" y="3180"/>
                </a:lnTo>
                <a:close/>
                <a:moveTo>
                  <a:pt x="6027" y="2574"/>
                </a:moveTo>
                <a:lnTo>
                  <a:pt x="6078" y="2364"/>
                </a:lnTo>
                <a:lnTo>
                  <a:pt x="6175" y="2388"/>
                </a:lnTo>
                <a:lnTo>
                  <a:pt x="6124" y="2598"/>
                </a:lnTo>
                <a:lnTo>
                  <a:pt x="6027" y="2574"/>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529080" y="3603600"/>
            <a:ext cx="958680" cy="1125720"/>
          </a:xfrm>
          <a:custGeom>
            <a:avLst/>
            <a:gdLst/>
            <a:ahLst/>
            <a:rect l="l" t="t" r="r" b="b"/>
            <a:pathLst>
              <a:path w="6059" h="7102">
                <a:moveTo>
                  <a:pt x="0" y="7102"/>
                </a:moveTo>
                <a:lnTo>
                  <a:pt x="0" y="6826"/>
                </a:lnTo>
                <a:cubicBezTo>
                  <a:pt x="0" y="6822"/>
                  <a:pt x="1" y="6818"/>
                  <a:pt x="2" y="6814"/>
                </a:cubicBezTo>
                <a:lnTo>
                  <a:pt x="33" y="6694"/>
                </a:lnTo>
                <a:lnTo>
                  <a:pt x="130" y="6719"/>
                </a:lnTo>
                <a:lnTo>
                  <a:pt x="99" y="6839"/>
                </a:lnTo>
                <a:lnTo>
                  <a:pt x="100" y="6826"/>
                </a:lnTo>
                <a:lnTo>
                  <a:pt x="100" y="7102"/>
                </a:lnTo>
                <a:lnTo>
                  <a:pt x="0" y="7102"/>
                </a:lnTo>
                <a:close/>
                <a:moveTo>
                  <a:pt x="97" y="6404"/>
                </a:moveTo>
                <a:lnTo>
                  <a:pt x="114" y="6321"/>
                </a:lnTo>
                <a:lnTo>
                  <a:pt x="159" y="6047"/>
                </a:lnTo>
                <a:lnTo>
                  <a:pt x="166" y="6010"/>
                </a:lnTo>
                <a:lnTo>
                  <a:pt x="264" y="6030"/>
                </a:lnTo>
                <a:lnTo>
                  <a:pt x="258" y="6063"/>
                </a:lnTo>
                <a:lnTo>
                  <a:pt x="212" y="6341"/>
                </a:lnTo>
                <a:lnTo>
                  <a:pt x="195" y="6424"/>
                </a:lnTo>
                <a:lnTo>
                  <a:pt x="97" y="6404"/>
                </a:lnTo>
                <a:close/>
                <a:moveTo>
                  <a:pt x="226" y="5716"/>
                </a:moveTo>
                <a:lnTo>
                  <a:pt x="272" y="5493"/>
                </a:lnTo>
                <a:lnTo>
                  <a:pt x="306" y="5324"/>
                </a:lnTo>
                <a:lnTo>
                  <a:pt x="404" y="5344"/>
                </a:lnTo>
                <a:lnTo>
                  <a:pt x="370" y="5513"/>
                </a:lnTo>
                <a:lnTo>
                  <a:pt x="324" y="5736"/>
                </a:lnTo>
                <a:lnTo>
                  <a:pt x="226" y="5716"/>
                </a:lnTo>
                <a:close/>
                <a:moveTo>
                  <a:pt x="327" y="5036"/>
                </a:moveTo>
                <a:lnTo>
                  <a:pt x="327" y="4950"/>
                </a:lnTo>
                <a:cubicBezTo>
                  <a:pt x="327" y="4946"/>
                  <a:pt x="328" y="4942"/>
                  <a:pt x="329" y="4938"/>
                </a:cubicBezTo>
                <a:lnTo>
                  <a:pt x="385" y="4708"/>
                </a:lnTo>
                <a:lnTo>
                  <a:pt x="397" y="4636"/>
                </a:lnTo>
                <a:lnTo>
                  <a:pt x="495" y="4652"/>
                </a:lnTo>
                <a:lnTo>
                  <a:pt x="482" y="4732"/>
                </a:lnTo>
                <a:lnTo>
                  <a:pt x="426" y="4962"/>
                </a:lnTo>
                <a:lnTo>
                  <a:pt x="427" y="4950"/>
                </a:lnTo>
                <a:lnTo>
                  <a:pt x="427" y="5036"/>
                </a:lnTo>
                <a:lnTo>
                  <a:pt x="327" y="5036"/>
                </a:lnTo>
                <a:close/>
                <a:moveTo>
                  <a:pt x="454" y="4337"/>
                </a:moveTo>
                <a:lnTo>
                  <a:pt x="487" y="4213"/>
                </a:lnTo>
                <a:lnTo>
                  <a:pt x="540" y="3949"/>
                </a:lnTo>
                <a:lnTo>
                  <a:pt x="638" y="3969"/>
                </a:lnTo>
                <a:lnTo>
                  <a:pt x="583" y="4238"/>
                </a:lnTo>
                <a:lnTo>
                  <a:pt x="551" y="4362"/>
                </a:lnTo>
                <a:lnTo>
                  <a:pt x="454" y="4337"/>
                </a:lnTo>
                <a:close/>
                <a:moveTo>
                  <a:pt x="618" y="3653"/>
                </a:moveTo>
                <a:lnTo>
                  <a:pt x="657" y="3541"/>
                </a:lnTo>
                <a:lnTo>
                  <a:pt x="654" y="3557"/>
                </a:lnTo>
                <a:lnTo>
                  <a:pt x="654" y="3339"/>
                </a:lnTo>
                <a:cubicBezTo>
                  <a:pt x="654" y="3335"/>
                  <a:pt x="654" y="3330"/>
                  <a:pt x="656" y="3326"/>
                </a:cubicBezTo>
                <a:lnTo>
                  <a:pt x="671" y="3265"/>
                </a:lnTo>
                <a:lnTo>
                  <a:pt x="768" y="3290"/>
                </a:lnTo>
                <a:lnTo>
                  <a:pt x="752" y="3351"/>
                </a:lnTo>
                <a:lnTo>
                  <a:pt x="754" y="3339"/>
                </a:lnTo>
                <a:lnTo>
                  <a:pt x="754" y="3557"/>
                </a:lnTo>
                <a:cubicBezTo>
                  <a:pt x="754" y="3563"/>
                  <a:pt x="753" y="3569"/>
                  <a:pt x="751" y="3574"/>
                </a:cubicBezTo>
                <a:lnTo>
                  <a:pt x="712" y="3686"/>
                </a:lnTo>
                <a:lnTo>
                  <a:pt x="618" y="3653"/>
                </a:lnTo>
                <a:close/>
                <a:moveTo>
                  <a:pt x="762" y="2976"/>
                </a:moveTo>
                <a:lnTo>
                  <a:pt x="814" y="2817"/>
                </a:lnTo>
                <a:cubicBezTo>
                  <a:pt x="815" y="2814"/>
                  <a:pt x="816" y="2811"/>
                  <a:pt x="818" y="2808"/>
                </a:cubicBezTo>
                <a:lnTo>
                  <a:pt x="874" y="2705"/>
                </a:lnTo>
                <a:lnTo>
                  <a:pt x="923" y="2604"/>
                </a:lnTo>
                <a:lnTo>
                  <a:pt x="1013" y="2648"/>
                </a:lnTo>
                <a:lnTo>
                  <a:pt x="962" y="2753"/>
                </a:lnTo>
                <a:lnTo>
                  <a:pt x="906" y="2856"/>
                </a:lnTo>
                <a:lnTo>
                  <a:pt x="909" y="2848"/>
                </a:lnTo>
                <a:lnTo>
                  <a:pt x="857" y="3007"/>
                </a:lnTo>
                <a:lnTo>
                  <a:pt x="762" y="2976"/>
                </a:lnTo>
                <a:close/>
                <a:moveTo>
                  <a:pt x="1102" y="2345"/>
                </a:moveTo>
                <a:lnTo>
                  <a:pt x="1132" y="2345"/>
                </a:lnTo>
                <a:lnTo>
                  <a:pt x="1096" y="2360"/>
                </a:lnTo>
                <a:lnTo>
                  <a:pt x="1153" y="2302"/>
                </a:lnTo>
                <a:cubicBezTo>
                  <a:pt x="1162" y="2293"/>
                  <a:pt x="1175" y="2287"/>
                  <a:pt x="1188" y="2287"/>
                </a:cubicBezTo>
                <a:cubicBezTo>
                  <a:pt x="1202" y="2287"/>
                  <a:pt x="1215" y="2293"/>
                  <a:pt x="1224" y="2302"/>
                </a:cubicBezTo>
                <a:lnTo>
                  <a:pt x="1280" y="2360"/>
                </a:lnTo>
                <a:lnTo>
                  <a:pt x="1329" y="2422"/>
                </a:lnTo>
                <a:lnTo>
                  <a:pt x="1321" y="2414"/>
                </a:lnTo>
                <a:lnTo>
                  <a:pt x="1378" y="2460"/>
                </a:lnTo>
                <a:cubicBezTo>
                  <a:pt x="1383" y="2464"/>
                  <a:pt x="1388" y="2470"/>
                  <a:pt x="1391" y="2477"/>
                </a:cubicBezTo>
                <a:lnTo>
                  <a:pt x="1419" y="2533"/>
                </a:lnTo>
                <a:lnTo>
                  <a:pt x="1329" y="2577"/>
                </a:lnTo>
                <a:lnTo>
                  <a:pt x="1301" y="2521"/>
                </a:lnTo>
                <a:lnTo>
                  <a:pt x="1314" y="2537"/>
                </a:lnTo>
                <a:lnTo>
                  <a:pt x="1258" y="2491"/>
                </a:lnTo>
                <a:cubicBezTo>
                  <a:pt x="1255" y="2489"/>
                  <a:pt x="1253" y="2486"/>
                  <a:pt x="1250" y="2483"/>
                </a:cubicBezTo>
                <a:lnTo>
                  <a:pt x="1209" y="2430"/>
                </a:lnTo>
                <a:lnTo>
                  <a:pt x="1153" y="2372"/>
                </a:lnTo>
                <a:lnTo>
                  <a:pt x="1224" y="2372"/>
                </a:lnTo>
                <a:lnTo>
                  <a:pt x="1168" y="2430"/>
                </a:lnTo>
                <a:cubicBezTo>
                  <a:pt x="1158" y="2440"/>
                  <a:pt x="1146" y="2445"/>
                  <a:pt x="1132" y="2445"/>
                </a:cubicBezTo>
                <a:lnTo>
                  <a:pt x="1102" y="2445"/>
                </a:lnTo>
                <a:lnTo>
                  <a:pt x="1102" y="2345"/>
                </a:lnTo>
                <a:close/>
                <a:moveTo>
                  <a:pt x="1541" y="2813"/>
                </a:moveTo>
                <a:lnTo>
                  <a:pt x="1562" y="2873"/>
                </a:lnTo>
                <a:lnTo>
                  <a:pt x="1616" y="2983"/>
                </a:lnTo>
                <a:cubicBezTo>
                  <a:pt x="1620" y="2990"/>
                  <a:pt x="1621" y="2997"/>
                  <a:pt x="1621" y="3005"/>
                </a:cubicBezTo>
                <a:lnTo>
                  <a:pt x="1621" y="3166"/>
                </a:lnTo>
                <a:lnTo>
                  <a:pt x="1621" y="3157"/>
                </a:lnTo>
                <a:lnTo>
                  <a:pt x="1630" y="3202"/>
                </a:lnTo>
                <a:lnTo>
                  <a:pt x="1531" y="3222"/>
                </a:lnTo>
                <a:lnTo>
                  <a:pt x="1522" y="3176"/>
                </a:lnTo>
                <a:cubicBezTo>
                  <a:pt x="1522" y="3173"/>
                  <a:pt x="1521" y="3169"/>
                  <a:pt x="1521" y="3166"/>
                </a:cubicBezTo>
                <a:lnTo>
                  <a:pt x="1521" y="3005"/>
                </a:lnTo>
                <a:lnTo>
                  <a:pt x="1527" y="3027"/>
                </a:lnTo>
                <a:lnTo>
                  <a:pt x="1468" y="2906"/>
                </a:lnTo>
                <a:lnTo>
                  <a:pt x="1447" y="2846"/>
                </a:lnTo>
                <a:lnTo>
                  <a:pt x="1541" y="2813"/>
                </a:lnTo>
                <a:close/>
                <a:moveTo>
                  <a:pt x="1701" y="3486"/>
                </a:moveTo>
                <a:lnTo>
                  <a:pt x="1720" y="3541"/>
                </a:lnTo>
                <a:lnTo>
                  <a:pt x="1778" y="3764"/>
                </a:lnTo>
                <a:lnTo>
                  <a:pt x="1805" y="3877"/>
                </a:lnTo>
                <a:lnTo>
                  <a:pt x="1708" y="3900"/>
                </a:lnTo>
                <a:lnTo>
                  <a:pt x="1681" y="3789"/>
                </a:lnTo>
                <a:lnTo>
                  <a:pt x="1626" y="3574"/>
                </a:lnTo>
                <a:lnTo>
                  <a:pt x="1606" y="3519"/>
                </a:lnTo>
                <a:lnTo>
                  <a:pt x="1701" y="3486"/>
                </a:lnTo>
                <a:close/>
                <a:moveTo>
                  <a:pt x="1879" y="4167"/>
                </a:moveTo>
                <a:lnTo>
                  <a:pt x="1890" y="4213"/>
                </a:lnTo>
                <a:lnTo>
                  <a:pt x="1936" y="4434"/>
                </a:lnTo>
                <a:cubicBezTo>
                  <a:pt x="1937" y="4437"/>
                  <a:pt x="1937" y="4440"/>
                  <a:pt x="1937" y="4444"/>
                </a:cubicBezTo>
                <a:lnTo>
                  <a:pt x="1937" y="4573"/>
                </a:lnTo>
                <a:lnTo>
                  <a:pt x="1837" y="4573"/>
                </a:lnTo>
                <a:lnTo>
                  <a:pt x="1837" y="4444"/>
                </a:lnTo>
                <a:lnTo>
                  <a:pt x="1838" y="4454"/>
                </a:lnTo>
                <a:lnTo>
                  <a:pt x="1793" y="4238"/>
                </a:lnTo>
                <a:lnTo>
                  <a:pt x="1782" y="4192"/>
                </a:lnTo>
                <a:lnTo>
                  <a:pt x="1879" y="4167"/>
                </a:lnTo>
                <a:close/>
                <a:moveTo>
                  <a:pt x="1972" y="4857"/>
                </a:moveTo>
                <a:lnTo>
                  <a:pt x="1992" y="4938"/>
                </a:lnTo>
                <a:lnTo>
                  <a:pt x="2048" y="5156"/>
                </a:lnTo>
                <a:lnTo>
                  <a:pt x="2071" y="5244"/>
                </a:lnTo>
                <a:lnTo>
                  <a:pt x="1974" y="5269"/>
                </a:lnTo>
                <a:lnTo>
                  <a:pt x="1951" y="5181"/>
                </a:lnTo>
                <a:lnTo>
                  <a:pt x="1895" y="4962"/>
                </a:lnTo>
                <a:lnTo>
                  <a:pt x="1875" y="4881"/>
                </a:lnTo>
                <a:lnTo>
                  <a:pt x="1972" y="4857"/>
                </a:lnTo>
                <a:close/>
                <a:moveTo>
                  <a:pt x="2145" y="5535"/>
                </a:moveTo>
                <a:lnTo>
                  <a:pt x="2161" y="5594"/>
                </a:lnTo>
                <a:lnTo>
                  <a:pt x="2206" y="5827"/>
                </a:lnTo>
                <a:lnTo>
                  <a:pt x="2205" y="5820"/>
                </a:lnTo>
                <a:lnTo>
                  <a:pt x="2239" y="5918"/>
                </a:lnTo>
                <a:lnTo>
                  <a:pt x="2145" y="5951"/>
                </a:lnTo>
                <a:lnTo>
                  <a:pt x="2110" y="5853"/>
                </a:lnTo>
                <a:cubicBezTo>
                  <a:pt x="2109" y="5851"/>
                  <a:pt x="2109" y="5848"/>
                  <a:pt x="2108" y="5846"/>
                </a:cubicBezTo>
                <a:lnTo>
                  <a:pt x="2064" y="5619"/>
                </a:lnTo>
                <a:lnTo>
                  <a:pt x="2049" y="5560"/>
                </a:lnTo>
                <a:lnTo>
                  <a:pt x="2145" y="5535"/>
                </a:lnTo>
                <a:close/>
                <a:moveTo>
                  <a:pt x="2287" y="6200"/>
                </a:moveTo>
                <a:lnTo>
                  <a:pt x="2314" y="6250"/>
                </a:lnTo>
                <a:lnTo>
                  <a:pt x="2306" y="6239"/>
                </a:lnTo>
                <a:lnTo>
                  <a:pt x="2362" y="6296"/>
                </a:lnTo>
                <a:lnTo>
                  <a:pt x="2418" y="6354"/>
                </a:lnTo>
                <a:lnTo>
                  <a:pt x="2383" y="6339"/>
                </a:lnTo>
                <a:lnTo>
                  <a:pt x="2428" y="6339"/>
                </a:lnTo>
                <a:lnTo>
                  <a:pt x="2484" y="6339"/>
                </a:lnTo>
                <a:lnTo>
                  <a:pt x="2434" y="6389"/>
                </a:lnTo>
                <a:lnTo>
                  <a:pt x="2434" y="6308"/>
                </a:lnTo>
                <a:lnTo>
                  <a:pt x="2534" y="6308"/>
                </a:lnTo>
                <a:lnTo>
                  <a:pt x="2534" y="6389"/>
                </a:lnTo>
                <a:cubicBezTo>
                  <a:pt x="2534" y="6416"/>
                  <a:pt x="2512" y="6439"/>
                  <a:pt x="2484" y="6439"/>
                </a:cubicBezTo>
                <a:lnTo>
                  <a:pt x="2428" y="6439"/>
                </a:lnTo>
                <a:lnTo>
                  <a:pt x="2383" y="6439"/>
                </a:lnTo>
                <a:cubicBezTo>
                  <a:pt x="2369" y="6439"/>
                  <a:pt x="2356" y="6433"/>
                  <a:pt x="2347" y="6424"/>
                </a:cubicBezTo>
                <a:lnTo>
                  <a:pt x="2291" y="6366"/>
                </a:lnTo>
                <a:lnTo>
                  <a:pt x="2234" y="6309"/>
                </a:lnTo>
                <a:cubicBezTo>
                  <a:pt x="2231" y="6305"/>
                  <a:pt x="2228" y="6302"/>
                  <a:pt x="2226" y="6298"/>
                </a:cubicBezTo>
                <a:lnTo>
                  <a:pt x="2199" y="6248"/>
                </a:lnTo>
                <a:lnTo>
                  <a:pt x="2287" y="6200"/>
                </a:lnTo>
                <a:close/>
                <a:moveTo>
                  <a:pt x="2539" y="6014"/>
                </a:moveTo>
                <a:lnTo>
                  <a:pt x="2549" y="5982"/>
                </a:lnTo>
                <a:lnTo>
                  <a:pt x="2606" y="5820"/>
                </a:lnTo>
                <a:lnTo>
                  <a:pt x="2604" y="5827"/>
                </a:lnTo>
                <a:lnTo>
                  <a:pt x="2641" y="5635"/>
                </a:lnTo>
                <a:lnTo>
                  <a:pt x="2740" y="5654"/>
                </a:lnTo>
                <a:lnTo>
                  <a:pt x="2702" y="5846"/>
                </a:lnTo>
                <a:cubicBezTo>
                  <a:pt x="2702" y="5848"/>
                  <a:pt x="2701" y="5851"/>
                  <a:pt x="2700" y="5853"/>
                </a:cubicBezTo>
                <a:lnTo>
                  <a:pt x="2644" y="6013"/>
                </a:lnTo>
                <a:lnTo>
                  <a:pt x="2634" y="6045"/>
                </a:lnTo>
                <a:lnTo>
                  <a:pt x="2539" y="6014"/>
                </a:lnTo>
                <a:close/>
                <a:moveTo>
                  <a:pt x="2712" y="5343"/>
                </a:moveTo>
                <a:lnTo>
                  <a:pt x="2762" y="5101"/>
                </a:lnTo>
                <a:lnTo>
                  <a:pt x="2761" y="5111"/>
                </a:lnTo>
                <a:lnTo>
                  <a:pt x="2761" y="4958"/>
                </a:lnTo>
                <a:lnTo>
                  <a:pt x="2861" y="4958"/>
                </a:lnTo>
                <a:lnTo>
                  <a:pt x="2861" y="5111"/>
                </a:lnTo>
                <a:cubicBezTo>
                  <a:pt x="2861" y="5115"/>
                  <a:pt x="2860" y="5118"/>
                  <a:pt x="2860" y="5121"/>
                </a:cubicBezTo>
                <a:lnTo>
                  <a:pt x="2810" y="5363"/>
                </a:lnTo>
                <a:lnTo>
                  <a:pt x="2712" y="5343"/>
                </a:lnTo>
                <a:close/>
                <a:moveTo>
                  <a:pt x="2797" y="4652"/>
                </a:moveTo>
                <a:lnTo>
                  <a:pt x="2818" y="4549"/>
                </a:lnTo>
                <a:lnTo>
                  <a:pt x="2874" y="4273"/>
                </a:lnTo>
                <a:lnTo>
                  <a:pt x="2876" y="4262"/>
                </a:lnTo>
                <a:lnTo>
                  <a:pt x="2975" y="4278"/>
                </a:lnTo>
                <a:lnTo>
                  <a:pt x="2972" y="4293"/>
                </a:lnTo>
                <a:lnTo>
                  <a:pt x="2916" y="4569"/>
                </a:lnTo>
                <a:lnTo>
                  <a:pt x="2895" y="4672"/>
                </a:lnTo>
                <a:lnTo>
                  <a:pt x="2797" y="4652"/>
                </a:lnTo>
                <a:close/>
                <a:moveTo>
                  <a:pt x="2926" y="3964"/>
                </a:moveTo>
                <a:lnTo>
                  <a:pt x="2976" y="3709"/>
                </a:lnTo>
                <a:lnTo>
                  <a:pt x="3004" y="3572"/>
                </a:lnTo>
                <a:lnTo>
                  <a:pt x="3102" y="3592"/>
                </a:lnTo>
                <a:lnTo>
                  <a:pt x="3074" y="3728"/>
                </a:lnTo>
                <a:lnTo>
                  <a:pt x="3024" y="3984"/>
                </a:lnTo>
                <a:lnTo>
                  <a:pt x="2926" y="3964"/>
                </a:lnTo>
                <a:close/>
                <a:moveTo>
                  <a:pt x="3064" y="3278"/>
                </a:moveTo>
                <a:lnTo>
                  <a:pt x="3089" y="3156"/>
                </a:lnTo>
                <a:lnTo>
                  <a:pt x="3087" y="3166"/>
                </a:lnTo>
                <a:lnTo>
                  <a:pt x="3087" y="2890"/>
                </a:lnTo>
                <a:lnTo>
                  <a:pt x="3188" y="2890"/>
                </a:lnTo>
                <a:lnTo>
                  <a:pt x="3188" y="3166"/>
                </a:lnTo>
                <a:cubicBezTo>
                  <a:pt x="3188" y="3169"/>
                  <a:pt x="3187" y="3173"/>
                  <a:pt x="3186" y="3176"/>
                </a:cubicBezTo>
                <a:lnTo>
                  <a:pt x="3162" y="3298"/>
                </a:lnTo>
                <a:lnTo>
                  <a:pt x="3064" y="3278"/>
                </a:lnTo>
                <a:close/>
                <a:moveTo>
                  <a:pt x="3147" y="2588"/>
                </a:moveTo>
                <a:lnTo>
                  <a:pt x="3190" y="2329"/>
                </a:lnTo>
                <a:lnTo>
                  <a:pt x="3225" y="2191"/>
                </a:lnTo>
                <a:lnTo>
                  <a:pt x="3322" y="2216"/>
                </a:lnTo>
                <a:lnTo>
                  <a:pt x="3288" y="2345"/>
                </a:lnTo>
                <a:lnTo>
                  <a:pt x="3246" y="2604"/>
                </a:lnTo>
                <a:lnTo>
                  <a:pt x="3147" y="2588"/>
                </a:lnTo>
                <a:close/>
                <a:moveTo>
                  <a:pt x="3297" y="1901"/>
                </a:moveTo>
                <a:lnTo>
                  <a:pt x="3303" y="1877"/>
                </a:lnTo>
                <a:lnTo>
                  <a:pt x="3359" y="1657"/>
                </a:lnTo>
                <a:lnTo>
                  <a:pt x="3358" y="1670"/>
                </a:lnTo>
                <a:lnTo>
                  <a:pt x="3358" y="1521"/>
                </a:lnTo>
                <a:lnTo>
                  <a:pt x="3458" y="1521"/>
                </a:lnTo>
                <a:lnTo>
                  <a:pt x="3458" y="1670"/>
                </a:lnTo>
                <a:cubicBezTo>
                  <a:pt x="3458" y="1674"/>
                  <a:pt x="3457" y="1678"/>
                  <a:pt x="3456" y="1682"/>
                </a:cubicBezTo>
                <a:lnTo>
                  <a:pt x="3400" y="1900"/>
                </a:lnTo>
                <a:lnTo>
                  <a:pt x="3394" y="1925"/>
                </a:lnTo>
                <a:lnTo>
                  <a:pt x="3297" y="1901"/>
                </a:lnTo>
                <a:close/>
                <a:moveTo>
                  <a:pt x="3445" y="1220"/>
                </a:moveTo>
                <a:lnTo>
                  <a:pt x="3461" y="1161"/>
                </a:lnTo>
                <a:cubicBezTo>
                  <a:pt x="3462" y="1159"/>
                  <a:pt x="3463" y="1156"/>
                  <a:pt x="3464" y="1153"/>
                </a:cubicBezTo>
                <a:lnTo>
                  <a:pt x="3521" y="1038"/>
                </a:lnTo>
                <a:lnTo>
                  <a:pt x="3578" y="932"/>
                </a:lnTo>
                <a:lnTo>
                  <a:pt x="3618" y="851"/>
                </a:lnTo>
                <a:lnTo>
                  <a:pt x="3708" y="895"/>
                </a:lnTo>
                <a:lnTo>
                  <a:pt x="3666" y="980"/>
                </a:lnTo>
                <a:lnTo>
                  <a:pt x="3611" y="1082"/>
                </a:lnTo>
                <a:lnTo>
                  <a:pt x="3554" y="1197"/>
                </a:lnTo>
                <a:lnTo>
                  <a:pt x="3557" y="1188"/>
                </a:lnTo>
                <a:lnTo>
                  <a:pt x="3541" y="1247"/>
                </a:lnTo>
                <a:lnTo>
                  <a:pt x="3445" y="1220"/>
                </a:lnTo>
                <a:close/>
                <a:moveTo>
                  <a:pt x="3872" y="676"/>
                </a:moveTo>
                <a:lnTo>
                  <a:pt x="3892" y="676"/>
                </a:lnTo>
                <a:cubicBezTo>
                  <a:pt x="3906" y="676"/>
                  <a:pt x="3919" y="681"/>
                  <a:pt x="3928" y="691"/>
                </a:cubicBezTo>
                <a:lnTo>
                  <a:pt x="3984" y="749"/>
                </a:lnTo>
                <a:lnTo>
                  <a:pt x="4041" y="806"/>
                </a:lnTo>
                <a:cubicBezTo>
                  <a:pt x="4044" y="810"/>
                  <a:pt x="4048" y="814"/>
                  <a:pt x="4050" y="819"/>
                </a:cubicBezTo>
                <a:lnTo>
                  <a:pt x="4106" y="934"/>
                </a:lnTo>
                <a:cubicBezTo>
                  <a:pt x="4110" y="941"/>
                  <a:pt x="4111" y="949"/>
                  <a:pt x="4111" y="956"/>
                </a:cubicBezTo>
                <a:lnTo>
                  <a:pt x="4111" y="1046"/>
                </a:lnTo>
                <a:lnTo>
                  <a:pt x="4011" y="1046"/>
                </a:lnTo>
                <a:lnTo>
                  <a:pt x="4011" y="956"/>
                </a:lnTo>
                <a:lnTo>
                  <a:pt x="4016" y="978"/>
                </a:lnTo>
                <a:lnTo>
                  <a:pt x="3960" y="863"/>
                </a:lnTo>
                <a:lnTo>
                  <a:pt x="3969" y="876"/>
                </a:lnTo>
                <a:lnTo>
                  <a:pt x="3913" y="819"/>
                </a:lnTo>
                <a:lnTo>
                  <a:pt x="3857" y="761"/>
                </a:lnTo>
                <a:lnTo>
                  <a:pt x="3892" y="776"/>
                </a:lnTo>
                <a:lnTo>
                  <a:pt x="3872" y="776"/>
                </a:lnTo>
                <a:lnTo>
                  <a:pt x="3872" y="676"/>
                </a:lnTo>
                <a:close/>
                <a:moveTo>
                  <a:pt x="4207" y="1312"/>
                </a:moveTo>
                <a:lnTo>
                  <a:pt x="4210" y="1320"/>
                </a:lnTo>
                <a:lnTo>
                  <a:pt x="4267" y="1493"/>
                </a:lnTo>
                <a:lnTo>
                  <a:pt x="4323" y="1653"/>
                </a:lnTo>
                <a:lnTo>
                  <a:pt x="4335" y="1692"/>
                </a:lnTo>
                <a:lnTo>
                  <a:pt x="4240" y="1723"/>
                </a:lnTo>
                <a:lnTo>
                  <a:pt x="4228" y="1686"/>
                </a:lnTo>
                <a:lnTo>
                  <a:pt x="4172" y="1524"/>
                </a:lnTo>
                <a:lnTo>
                  <a:pt x="4116" y="1353"/>
                </a:lnTo>
                <a:lnTo>
                  <a:pt x="4113" y="1345"/>
                </a:lnTo>
                <a:lnTo>
                  <a:pt x="4207" y="1312"/>
                </a:lnTo>
                <a:close/>
                <a:moveTo>
                  <a:pt x="4382" y="2001"/>
                </a:moveTo>
                <a:lnTo>
                  <a:pt x="4382" y="2061"/>
                </a:lnTo>
                <a:lnTo>
                  <a:pt x="4380" y="2048"/>
                </a:lnTo>
                <a:lnTo>
                  <a:pt x="4425" y="2209"/>
                </a:lnTo>
                <a:lnTo>
                  <a:pt x="4466" y="2378"/>
                </a:lnTo>
                <a:lnTo>
                  <a:pt x="4369" y="2401"/>
                </a:lnTo>
                <a:lnTo>
                  <a:pt x="4329" y="2236"/>
                </a:lnTo>
                <a:lnTo>
                  <a:pt x="4284" y="2075"/>
                </a:lnTo>
                <a:cubicBezTo>
                  <a:pt x="4282" y="2070"/>
                  <a:pt x="4282" y="2066"/>
                  <a:pt x="4282" y="2061"/>
                </a:cubicBezTo>
                <a:lnTo>
                  <a:pt x="4282" y="2001"/>
                </a:lnTo>
                <a:lnTo>
                  <a:pt x="4382" y="2001"/>
                </a:lnTo>
                <a:close/>
                <a:moveTo>
                  <a:pt x="4540" y="2668"/>
                </a:moveTo>
                <a:lnTo>
                  <a:pt x="4594" y="2877"/>
                </a:lnTo>
                <a:lnTo>
                  <a:pt x="4640" y="3055"/>
                </a:lnTo>
                <a:lnTo>
                  <a:pt x="4543" y="3080"/>
                </a:lnTo>
                <a:lnTo>
                  <a:pt x="4497" y="2902"/>
                </a:lnTo>
                <a:lnTo>
                  <a:pt x="4443" y="2693"/>
                </a:lnTo>
                <a:lnTo>
                  <a:pt x="4540" y="2668"/>
                </a:lnTo>
                <a:close/>
                <a:moveTo>
                  <a:pt x="4697" y="3362"/>
                </a:moveTo>
                <a:lnTo>
                  <a:pt x="4697" y="3500"/>
                </a:lnTo>
                <a:lnTo>
                  <a:pt x="4696" y="3487"/>
                </a:lnTo>
                <a:lnTo>
                  <a:pt x="4752" y="3706"/>
                </a:lnTo>
                <a:lnTo>
                  <a:pt x="4762" y="3738"/>
                </a:lnTo>
                <a:lnTo>
                  <a:pt x="4667" y="3769"/>
                </a:lnTo>
                <a:lnTo>
                  <a:pt x="4655" y="3731"/>
                </a:lnTo>
                <a:lnTo>
                  <a:pt x="4599" y="3512"/>
                </a:lnTo>
                <a:cubicBezTo>
                  <a:pt x="4598" y="3508"/>
                  <a:pt x="4597" y="3504"/>
                  <a:pt x="4597" y="3500"/>
                </a:cubicBezTo>
                <a:lnTo>
                  <a:pt x="4597" y="3362"/>
                </a:lnTo>
                <a:lnTo>
                  <a:pt x="4697" y="3362"/>
                </a:lnTo>
                <a:close/>
                <a:moveTo>
                  <a:pt x="4858" y="4021"/>
                </a:moveTo>
                <a:lnTo>
                  <a:pt x="4863" y="4036"/>
                </a:lnTo>
                <a:lnTo>
                  <a:pt x="4920" y="4210"/>
                </a:lnTo>
                <a:lnTo>
                  <a:pt x="4966" y="4373"/>
                </a:lnTo>
                <a:lnTo>
                  <a:pt x="4953" y="4351"/>
                </a:lnTo>
                <a:lnTo>
                  <a:pt x="4978" y="4376"/>
                </a:lnTo>
                <a:lnTo>
                  <a:pt x="4906" y="4446"/>
                </a:lnTo>
                <a:lnTo>
                  <a:pt x="4882" y="4421"/>
                </a:lnTo>
                <a:cubicBezTo>
                  <a:pt x="4876" y="4415"/>
                  <a:pt x="4872" y="4408"/>
                  <a:pt x="4869" y="4400"/>
                </a:cubicBezTo>
                <a:lnTo>
                  <a:pt x="4825" y="4241"/>
                </a:lnTo>
                <a:lnTo>
                  <a:pt x="4769" y="4069"/>
                </a:lnTo>
                <a:lnTo>
                  <a:pt x="4764" y="4054"/>
                </a:lnTo>
                <a:lnTo>
                  <a:pt x="4858" y="4021"/>
                </a:lnTo>
                <a:close/>
                <a:moveTo>
                  <a:pt x="5122" y="4310"/>
                </a:moveTo>
                <a:lnTo>
                  <a:pt x="5142" y="4263"/>
                </a:lnTo>
                <a:lnTo>
                  <a:pt x="5199" y="4146"/>
                </a:lnTo>
                <a:lnTo>
                  <a:pt x="5194" y="4167"/>
                </a:lnTo>
                <a:lnTo>
                  <a:pt x="5194" y="4006"/>
                </a:lnTo>
                <a:cubicBezTo>
                  <a:pt x="5194" y="4001"/>
                  <a:pt x="5195" y="3996"/>
                  <a:pt x="5197" y="3991"/>
                </a:cubicBezTo>
                <a:lnTo>
                  <a:pt x="5215" y="3935"/>
                </a:lnTo>
                <a:lnTo>
                  <a:pt x="5310" y="3966"/>
                </a:lnTo>
                <a:lnTo>
                  <a:pt x="5292" y="4022"/>
                </a:lnTo>
                <a:lnTo>
                  <a:pt x="5294" y="4006"/>
                </a:lnTo>
                <a:lnTo>
                  <a:pt x="5294" y="4167"/>
                </a:lnTo>
                <a:cubicBezTo>
                  <a:pt x="5294" y="4175"/>
                  <a:pt x="5293" y="4183"/>
                  <a:pt x="5289" y="4189"/>
                </a:cubicBezTo>
                <a:lnTo>
                  <a:pt x="5234" y="4303"/>
                </a:lnTo>
                <a:lnTo>
                  <a:pt x="5213" y="4350"/>
                </a:lnTo>
                <a:lnTo>
                  <a:pt x="5122" y="4310"/>
                </a:lnTo>
                <a:close/>
                <a:moveTo>
                  <a:pt x="5297" y="3649"/>
                </a:moveTo>
                <a:lnTo>
                  <a:pt x="5309" y="3603"/>
                </a:lnTo>
                <a:lnTo>
                  <a:pt x="5364" y="3329"/>
                </a:lnTo>
                <a:lnTo>
                  <a:pt x="5378" y="3261"/>
                </a:lnTo>
                <a:lnTo>
                  <a:pt x="5476" y="3280"/>
                </a:lnTo>
                <a:lnTo>
                  <a:pt x="5462" y="3349"/>
                </a:lnTo>
                <a:lnTo>
                  <a:pt x="5405" y="3627"/>
                </a:lnTo>
                <a:lnTo>
                  <a:pt x="5393" y="3674"/>
                </a:lnTo>
                <a:lnTo>
                  <a:pt x="5297" y="3649"/>
                </a:lnTo>
                <a:close/>
                <a:moveTo>
                  <a:pt x="5436" y="2966"/>
                </a:moveTo>
                <a:lnTo>
                  <a:pt x="5466" y="2822"/>
                </a:lnTo>
                <a:lnTo>
                  <a:pt x="5516" y="2574"/>
                </a:lnTo>
                <a:lnTo>
                  <a:pt x="5614" y="2594"/>
                </a:lnTo>
                <a:lnTo>
                  <a:pt x="5564" y="2842"/>
                </a:lnTo>
                <a:lnTo>
                  <a:pt x="5534" y="2986"/>
                </a:lnTo>
                <a:lnTo>
                  <a:pt x="5436" y="2966"/>
                </a:lnTo>
                <a:close/>
                <a:moveTo>
                  <a:pt x="5521" y="2285"/>
                </a:moveTo>
                <a:lnTo>
                  <a:pt x="5521" y="2280"/>
                </a:lnTo>
                <a:cubicBezTo>
                  <a:pt x="5521" y="2277"/>
                  <a:pt x="5521" y="2273"/>
                  <a:pt x="5522" y="2270"/>
                </a:cubicBezTo>
                <a:lnTo>
                  <a:pt x="5578" y="1994"/>
                </a:lnTo>
                <a:lnTo>
                  <a:pt x="5601" y="1883"/>
                </a:lnTo>
                <a:lnTo>
                  <a:pt x="5699" y="1903"/>
                </a:lnTo>
                <a:lnTo>
                  <a:pt x="5676" y="2014"/>
                </a:lnTo>
                <a:lnTo>
                  <a:pt x="5620" y="2290"/>
                </a:lnTo>
                <a:lnTo>
                  <a:pt x="5621" y="2280"/>
                </a:lnTo>
                <a:lnTo>
                  <a:pt x="5621" y="2285"/>
                </a:lnTo>
                <a:lnTo>
                  <a:pt x="5521" y="2285"/>
                </a:lnTo>
                <a:close/>
                <a:moveTo>
                  <a:pt x="5661" y="1589"/>
                </a:moveTo>
                <a:lnTo>
                  <a:pt x="5691" y="1441"/>
                </a:lnTo>
                <a:lnTo>
                  <a:pt x="5731" y="1197"/>
                </a:lnTo>
                <a:lnTo>
                  <a:pt x="5830" y="1213"/>
                </a:lnTo>
                <a:lnTo>
                  <a:pt x="5789" y="1461"/>
                </a:lnTo>
                <a:lnTo>
                  <a:pt x="5759" y="1609"/>
                </a:lnTo>
                <a:lnTo>
                  <a:pt x="5661" y="1589"/>
                </a:lnTo>
                <a:close/>
                <a:moveTo>
                  <a:pt x="5790" y="901"/>
                </a:moveTo>
                <a:lnTo>
                  <a:pt x="5792" y="889"/>
                </a:lnTo>
                <a:lnTo>
                  <a:pt x="5791" y="899"/>
                </a:lnTo>
                <a:lnTo>
                  <a:pt x="5791" y="669"/>
                </a:lnTo>
                <a:cubicBezTo>
                  <a:pt x="5791" y="664"/>
                  <a:pt x="5792" y="660"/>
                  <a:pt x="5793" y="656"/>
                </a:cubicBezTo>
                <a:lnTo>
                  <a:pt x="5832" y="504"/>
                </a:lnTo>
                <a:lnTo>
                  <a:pt x="5929" y="529"/>
                </a:lnTo>
                <a:lnTo>
                  <a:pt x="5890" y="681"/>
                </a:lnTo>
                <a:lnTo>
                  <a:pt x="5891" y="669"/>
                </a:lnTo>
                <a:lnTo>
                  <a:pt x="5891" y="899"/>
                </a:lnTo>
                <a:cubicBezTo>
                  <a:pt x="5891" y="902"/>
                  <a:pt x="5891" y="905"/>
                  <a:pt x="5890" y="909"/>
                </a:cubicBezTo>
                <a:lnTo>
                  <a:pt x="5888" y="921"/>
                </a:lnTo>
                <a:lnTo>
                  <a:pt x="5790" y="901"/>
                </a:lnTo>
                <a:close/>
                <a:moveTo>
                  <a:pt x="5907" y="213"/>
                </a:moveTo>
                <a:lnTo>
                  <a:pt x="5962" y="0"/>
                </a:lnTo>
                <a:lnTo>
                  <a:pt x="6059" y="25"/>
                </a:lnTo>
                <a:lnTo>
                  <a:pt x="6004" y="238"/>
                </a:lnTo>
                <a:lnTo>
                  <a:pt x="5907" y="213"/>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471920" y="2975040"/>
            <a:ext cx="955800" cy="1182600"/>
          </a:xfrm>
          <a:custGeom>
            <a:avLst/>
            <a:gdLst/>
            <a:ahLst/>
            <a:rect l="l" t="t" r="r" b="b"/>
            <a:pathLst>
              <a:path w="6050" h="7460">
                <a:moveTo>
                  <a:pt x="0" y="3971"/>
                </a:moveTo>
                <a:lnTo>
                  <a:pt x="45" y="3798"/>
                </a:lnTo>
                <a:lnTo>
                  <a:pt x="103" y="3633"/>
                </a:lnTo>
                <a:lnTo>
                  <a:pt x="118" y="3586"/>
                </a:lnTo>
                <a:lnTo>
                  <a:pt x="213" y="3617"/>
                </a:lnTo>
                <a:lnTo>
                  <a:pt x="197" y="3666"/>
                </a:lnTo>
                <a:lnTo>
                  <a:pt x="142" y="3824"/>
                </a:lnTo>
                <a:lnTo>
                  <a:pt x="97" y="3996"/>
                </a:lnTo>
                <a:lnTo>
                  <a:pt x="0" y="3971"/>
                </a:lnTo>
                <a:close/>
                <a:moveTo>
                  <a:pt x="190" y="3293"/>
                </a:moveTo>
                <a:lnTo>
                  <a:pt x="217" y="3237"/>
                </a:lnTo>
                <a:lnTo>
                  <a:pt x="274" y="3122"/>
                </a:lnTo>
                <a:cubicBezTo>
                  <a:pt x="276" y="3117"/>
                  <a:pt x="279" y="3113"/>
                  <a:pt x="283" y="3109"/>
                </a:cubicBezTo>
                <a:lnTo>
                  <a:pt x="328" y="3063"/>
                </a:lnTo>
                <a:cubicBezTo>
                  <a:pt x="337" y="3053"/>
                  <a:pt x="350" y="3048"/>
                  <a:pt x="364" y="3048"/>
                </a:cubicBezTo>
                <a:lnTo>
                  <a:pt x="420" y="3048"/>
                </a:lnTo>
                <a:lnTo>
                  <a:pt x="476" y="3048"/>
                </a:lnTo>
                <a:lnTo>
                  <a:pt x="509" y="3048"/>
                </a:lnTo>
                <a:lnTo>
                  <a:pt x="509" y="3148"/>
                </a:lnTo>
                <a:lnTo>
                  <a:pt x="476" y="3148"/>
                </a:lnTo>
                <a:lnTo>
                  <a:pt x="420" y="3148"/>
                </a:lnTo>
                <a:lnTo>
                  <a:pt x="364" y="3148"/>
                </a:lnTo>
                <a:lnTo>
                  <a:pt x="399" y="3133"/>
                </a:lnTo>
                <a:lnTo>
                  <a:pt x="354" y="3179"/>
                </a:lnTo>
                <a:lnTo>
                  <a:pt x="364" y="3166"/>
                </a:lnTo>
                <a:lnTo>
                  <a:pt x="307" y="3281"/>
                </a:lnTo>
                <a:lnTo>
                  <a:pt x="280" y="3336"/>
                </a:lnTo>
                <a:lnTo>
                  <a:pt x="190" y="3293"/>
                </a:lnTo>
                <a:close/>
                <a:moveTo>
                  <a:pt x="714" y="3309"/>
                </a:moveTo>
                <a:lnTo>
                  <a:pt x="735" y="3352"/>
                </a:lnTo>
                <a:lnTo>
                  <a:pt x="790" y="3454"/>
                </a:lnTo>
                <a:lnTo>
                  <a:pt x="848" y="3570"/>
                </a:lnTo>
                <a:cubicBezTo>
                  <a:pt x="851" y="3577"/>
                  <a:pt x="853" y="3585"/>
                  <a:pt x="853" y="3592"/>
                </a:cubicBezTo>
                <a:lnTo>
                  <a:pt x="853" y="3699"/>
                </a:lnTo>
                <a:lnTo>
                  <a:pt x="753" y="3699"/>
                </a:lnTo>
                <a:lnTo>
                  <a:pt x="753" y="3592"/>
                </a:lnTo>
                <a:lnTo>
                  <a:pt x="758" y="3614"/>
                </a:lnTo>
                <a:lnTo>
                  <a:pt x="702" y="3501"/>
                </a:lnTo>
                <a:lnTo>
                  <a:pt x="645" y="3396"/>
                </a:lnTo>
                <a:lnTo>
                  <a:pt x="624" y="3353"/>
                </a:lnTo>
                <a:lnTo>
                  <a:pt x="714" y="3309"/>
                </a:lnTo>
                <a:close/>
                <a:moveTo>
                  <a:pt x="921" y="3979"/>
                </a:moveTo>
                <a:lnTo>
                  <a:pt x="953" y="4134"/>
                </a:lnTo>
                <a:lnTo>
                  <a:pt x="1008" y="4301"/>
                </a:lnTo>
                <a:lnTo>
                  <a:pt x="1024" y="4362"/>
                </a:lnTo>
                <a:lnTo>
                  <a:pt x="927" y="4387"/>
                </a:lnTo>
                <a:lnTo>
                  <a:pt x="913" y="4332"/>
                </a:lnTo>
                <a:lnTo>
                  <a:pt x="855" y="4155"/>
                </a:lnTo>
                <a:lnTo>
                  <a:pt x="823" y="3999"/>
                </a:lnTo>
                <a:lnTo>
                  <a:pt x="921" y="3979"/>
                </a:lnTo>
                <a:close/>
                <a:moveTo>
                  <a:pt x="1098" y="4653"/>
                </a:moveTo>
                <a:lnTo>
                  <a:pt x="1121" y="4741"/>
                </a:lnTo>
                <a:lnTo>
                  <a:pt x="1178" y="5020"/>
                </a:lnTo>
                <a:cubicBezTo>
                  <a:pt x="1179" y="5023"/>
                  <a:pt x="1179" y="5027"/>
                  <a:pt x="1179" y="5030"/>
                </a:cubicBezTo>
                <a:lnTo>
                  <a:pt x="1179" y="5057"/>
                </a:lnTo>
                <a:lnTo>
                  <a:pt x="1079" y="5057"/>
                </a:lnTo>
                <a:lnTo>
                  <a:pt x="1079" y="5030"/>
                </a:lnTo>
                <a:lnTo>
                  <a:pt x="1080" y="5040"/>
                </a:lnTo>
                <a:lnTo>
                  <a:pt x="1024" y="4766"/>
                </a:lnTo>
                <a:lnTo>
                  <a:pt x="1002" y="4678"/>
                </a:lnTo>
                <a:lnTo>
                  <a:pt x="1098" y="4653"/>
                </a:lnTo>
                <a:close/>
                <a:moveTo>
                  <a:pt x="1195" y="5348"/>
                </a:moveTo>
                <a:lnTo>
                  <a:pt x="1224" y="5528"/>
                </a:lnTo>
                <a:lnTo>
                  <a:pt x="1277" y="5734"/>
                </a:lnTo>
                <a:lnTo>
                  <a:pt x="1180" y="5759"/>
                </a:lnTo>
                <a:lnTo>
                  <a:pt x="1125" y="5544"/>
                </a:lnTo>
                <a:lnTo>
                  <a:pt x="1097" y="5363"/>
                </a:lnTo>
                <a:lnTo>
                  <a:pt x="1195" y="5348"/>
                </a:lnTo>
                <a:close/>
                <a:moveTo>
                  <a:pt x="1338" y="6028"/>
                </a:moveTo>
                <a:lnTo>
                  <a:pt x="1391" y="6236"/>
                </a:lnTo>
                <a:lnTo>
                  <a:pt x="1437" y="6415"/>
                </a:lnTo>
                <a:lnTo>
                  <a:pt x="1341" y="6440"/>
                </a:lnTo>
                <a:lnTo>
                  <a:pt x="1295" y="6261"/>
                </a:lnTo>
                <a:lnTo>
                  <a:pt x="1241" y="6053"/>
                </a:lnTo>
                <a:lnTo>
                  <a:pt x="1338" y="6028"/>
                </a:lnTo>
                <a:close/>
                <a:moveTo>
                  <a:pt x="1494" y="6722"/>
                </a:moveTo>
                <a:lnTo>
                  <a:pt x="1494" y="6858"/>
                </a:lnTo>
                <a:lnTo>
                  <a:pt x="1493" y="6846"/>
                </a:lnTo>
                <a:lnTo>
                  <a:pt x="1549" y="7064"/>
                </a:lnTo>
                <a:lnTo>
                  <a:pt x="1546" y="7055"/>
                </a:lnTo>
                <a:lnTo>
                  <a:pt x="1562" y="7089"/>
                </a:lnTo>
                <a:lnTo>
                  <a:pt x="1472" y="7133"/>
                </a:lnTo>
                <a:lnTo>
                  <a:pt x="1456" y="7099"/>
                </a:lnTo>
                <a:cubicBezTo>
                  <a:pt x="1454" y="7096"/>
                  <a:pt x="1453" y="7093"/>
                  <a:pt x="1452" y="7089"/>
                </a:cubicBezTo>
                <a:lnTo>
                  <a:pt x="1396" y="6871"/>
                </a:lnTo>
                <a:cubicBezTo>
                  <a:pt x="1395" y="6867"/>
                  <a:pt x="1394" y="6863"/>
                  <a:pt x="1394" y="6858"/>
                </a:cubicBezTo>
                <a:lnTo>
                  <a:pt x="1394" y="6722"/>
                </a:lnTo>
                <a:lnTo>
                  <a:pt x="1494" y="6722"/>
                </a:lnTo>
                <a:close/>
                <a:moveTo>
                  <a:pt x="1696" y="7355"/>
                </a:moveTo>
                <a:lnTo>
                  <a:pt x="1713" y="7387"/>
                </a:lnTo>
                <a:lnTo>
                  <a:pt x="1669" y="7360"/>
                </a:lnTo>
                <a:lnTo>
                  <a:pt x="1715" y="7360"/>
                </a:lnTo>
                <a:lnTo>
                  <a:pt x="1683" y="7372"/>
                </a:lnTo>
                <a:lnTo>
                  <a:pt x="1739" y="7326"/>
                </a:lnTo>
                <a:lnTo>
                  <a:pt x="1726" y="7342"/>
                </a:lnTo>
                <a:lnTo>
                  <a:pt x="1782" y="7227"/>
                </a:lnTo>
                <a:lnTo>
                  <a:pt x="1834" y="7121"/>
                </a:lnTo>
                <a:lnTo>
                  <a:pt x="1924" y="7165"/>
                </a:lnTo>
                <a:lnTo>
                  <a:pt x="1872" y="7271"/>
                </a:lnTo>
                <a:lnTo>
                  <a:pt x="1816" y="7386"/>
                </a:lnTo>
                <a:cubicBezTo>
                  <a:pt x="1813" y="7393"/>
                  <a:pt x="1808" y="7399"/>
                  <a:pt x="1802" y="7403"/>
                </a:cubicBezTo>
                <a:lnTo>
                  <a:pt x="1746" y="7449"/>
                </a:lnTo>
                <a:cubicBezTo>
                  <a:pt x="1737" y="7456"/>
                  <a:pt x="1726" y="7460"/>
                  <a:pt x="1715" y="7460"/>
                </a:cubicBezTo>
                <a:lnTo>
                  <a:pt x="1669" y="7460"/>
                </a:lnTo>
                <a:cubicBezTo>
                  <a:pt x="1651" y="7460"/>
                  <a:pt x="1634" y="7450"/>
                  <a:pt x="1626" y="7434"/>
                </a:cubicBezTo>
                <a:lnTo>
                  <a:pt x="1608" y="7403"/>
                </a:lnTo>
                <a:lnTo>
                  <a:pt x="1696" y="7355"/>
                </a:lnTo>
                <a:close/>
                <a:moveTo>
                  <a:pt x="1921" y="6845"/>
                </a:moveTo>
                <a:lnTo>
                  <a:pt x="1948" y="6742"/>
                </a:lnTo>
                <a:lnTo>
                  <a:pt x="1992" y="6515"/>
                </a:lnTo>
                <a:lnTo>
                  <a:pt x="1991" y="6525"/>
                </a:lnTo>
                <a:lnTo>
                  <a:pt x="1991" y="6465"/>
                </a:lnTo>
                <a:lnTo>
                  <a:pt x="2091" y="6465"/>
                </a:lnTo>
                <a:lnTo>
                  <a:pt x="2091" y="6525"/>
                </a:lnTo>
                <a:cubicBezTo>
                  <a:pt x="2091" y="6528"/>
                  <a:pt x="2091" y="6531"/>
                  <a:pt x="2090" y="6535"/>
                </a:cubicBezTo>
                <a:lnTo>
                  <a:pt x="2044" y="6767"/>
                </a:lnTo>
                <a:lnTo>
                  <a:pt x="2018" y="6870"/>
                </a:lnTo>
                <a:lnTo>
                  <a:pt x="1921" y="6845"/>
                </a:lnTo>
                <a:close/>
                <a:moveTo>
                  <a:pt x="2009" y="6157"/>
                </a:moveTo>
                <a:lnTo>
                  <a:pt x="2048" y="5963"/>
                </a:lnTo>
                <a:lnTo>
                  <a:pt x="2089" y="5765"/>
                </a:lnTo>
                <a:lnTo>
                  <a:pt x="2187" y="5785"/>
                </a:lnTo>
                <a:lnTo>
                  <a:pt x="2146" y="5983"/>
                </a:lnTo>
                <a:lnTo>
                  <a:pt x="2107" y="6177"/>
                </a:lnTo>
                <a:lnTo>
                  <a:pt x="2009" y="6157"/>
                </a:lnTo>
                <a:close/>
                <a:moveTo>
                  <a:pt x="2149" y="5471"/>
                </a:moveTo>
                <a:lnTo>
                  <a:pt x="2161" y="5411"/>
                </a:lnTo>
                <a:lnTo>
                  <a:pt x="2217" y="5079"/>
                </a:lnTo>
                <a:lnTo>
                  <a:pt x="2217" y="5079"/>
                </a:lnTo>
                <a:lnTo>
                  <a:pt x="2316" y="5094"/>
                </a:lnTo>
                <a:lnTo>
                  <a:pt x="2315" y="5096"/>
                </a:lnTo>
                <a:lnTo>
                  <a:pt x="2259" y="5431"/>
                </a:lnTo>
                <a:lnTo>
                  <a:pt x="2247" y="5491"/>
                </a:lnTo>
                <a:lnTo>
                  <a:pt x="2149" y="5471"/>
                </a:lnTo>
                <a:close/>
                <a:moveTo>
                  <a:pt x="2257" y="4783"/>
                </a:moveTo>
                <a:lnTo>
                  <a:pt x="2262" y="4747"/>
                </a:lnTo>
                <a:lnTo>
                  <a:pt x="2261" y="4478"/>
                </a:lnTo>
                <a:cubicBezTo>
                  <a:pt x="2261" y="4475"/>
                  <a:pt x="2261" y="4472"/>
                  <a:pt x="2262" y="4470"/>
                </a:cubicBezTo>
                <a:lnTo>
                  <a:pt x="2276" y="4383"/>
                </a:lnTo>
                <a:lnTo>
                  <a:pt x="2375" y="4400"/>
                </a:lnTo>
                <a:lnTo>
                  <a:pt x="2360" y="4486"/>
                </a:lnTo>
                <a:lnTo>
                  <a:pt x="2361" y="4478"/>
                </a:lnTo>
                <a:lnTo>
                  <a:pt x="2361" y="4761"/>
                </a:lnTo>
                <a:lnTo>
                  <a:pt x="2356" y="4797"/>
                </a:lnTo>
                <a:lnTo>
                  <a:pt x="2257" y="4783"/>
                </a:lnTo>
                <a:close/>
                <a:moveTo>
                  <a:pt x="2328" y="4086"/>
                </a:moveTo>
                <a:lnTo>
                  <a:pt x="2375" y="3858"/>
                </a:lnTo>
                <a:lnTo>
                  <a:pt x="2402" y="3695"/>
                </a:lnTo>
                <a:lnTo>
                  <a:pt x="2501" y="3711"/>
                </a:lnTo>
                <a:lnTo>
                  <a:pt x="2473" y="3878"/>
                </a:lnTo>
                <a:lnTo>
                  <a:pt x="2426" y="4106"/>
                </a:lnTo>
                <a:lnTo>
                  <a:pt x="2328" y="4086"/>
                </a:lnTo>
                <a:close/>
                <a:moveTo>
                  <a:pt x="2457" y="3398"/>
                </a:moveTo>
                <a:lnTo>
                  <a:pt x="2487" y="3249"/>
                </a:lnTo>
                <a:lnTo>
                  <a:pt x="2527" y="3006"/>
                </a:lnTo>
                <a:lnTo>
                  <a:pt x="2626" y="3022"/>
                </a:lnTo>
                <a:lnTo>
                  <a:pt x="2585" y="3269"/>
                </a:lnTo>
                <a:lnTo>
                  <a:pt x="2555" y="3418"/>
                </a:lnTo>
                <a:lnTo>
                  <a:pt x="2457" y="3398"/>
                </a:lnTo>
                <a:close/>
                <a:moveTo>
                  <a:pt x="2588" y="2722"/>
                </a:moveTo>
                <a:lnTo>
                  <a:pt x="2588" y="2488"/>
                </a:lnTo>
                <a:cubicBezTo>
                  <a:pt x="2588" y="2484"/>
                  <a:pt x="2588" y="2480"/>
                  <a:pt x="2589" y="2477"/>
                </a:cubicBezTo>
                <a:lnTo>
                  <a:pt x="2629" y="2315"/>
                </a:lnTo>
                <a:lnTo>
                  <a:pt x="2726" y="2338"/>
                </a:lnTo>
                <a:lnTo>
                  <a:pt x="2686" y="2500"/>
                </a:lnTo>
                <a:lnTo>
                  <a:pt x="2688" y="2488"/>
                </a:lnTo>
                <a:lnTo>
                  <a:pt x="2688" y="2722"/>
                </a:lnTo>
                <a:lnTo>
                  <a:pt x="2588" y="2722"/>
                </a:lnTo>
                <a:close/>
                <a:moveTo>
                  <a:pt x="2717" y="2027"/>
                </a:moveTo>
                <a:lnTo>
                  <a:pt x="2758" y="1866"/>
                </a:lnTo>
                <a:lnTo>
                  <a:pt x="2803" y="1694"/>
                </a:lnTo>
                <a:cubicBezTo>
                  <a:pt x="2804" y="1691"/>
                  <a:pt x="2805" y="1687"/>
                  <a:pt x="2807" y="1684"/>
                </a:cubicBezTo>
                <a:lnTo>
                  <a:pt x="2831" y="1635"/>
                </a:lnTo>
                <a:lnTo>
                  <a:pt x="2921" y="1679"/>
                </a:lnTo>
                <a:lnTo>
                  <a:pt x="2896" y="1728"/>
                </a:lnTo>
                <a:lnTo>
                  <a:pt x="2900" y="1719"/>
                </a:lnTo>
                <a:lnTo>
                  <a:pt x="2855" y="1891"/>
                </a:lnTo>
                <a:lnTo>
                  <a:pt x="2813" y="2052"/>
                </a:lnTo>
                <a:lnTo>
                  <a:pt x="2717" y="2027"/>
                </a:lnTo>
                <a:close/>
                <a:moveTo>
                  <a:pt x="2914" y="1378"/>
                </a:moveTo>
                <a:lnTo>
                  <a:pt x="2914" y="1373"/>
                </a:lnTo>
                <a:cubicBezTo>
                  <a:pt x="2914" y="1360"/>
                  <a:pt x="2919" y="1347"/>
                  <a:pt x="2928" y="1338"/>
                </a:cubicBezTo>
                <a:lnTo>
                  <a:pt x="2985" y="1280"/>
                </a:lnTo>
                <a:lnTo>
                  <a:pt x="3045" y="1231"/>
                </a:lnTo>
                <a:cubicBezTo>
                  <a:pt x="3054" y="1223"/>
                  <a:pt x="3065" y="1219"/>
                  <a:pt x="3077" y="1219"/>
                </a:cubicBezTo>
                <a:lnTo>
                  <a:pt x="3122" y="1219"/>
                </a:lnTo>
                <a:lnTo>
                  <a:pt x="3178" y="1219"/>
                </a:lnTo>
                <a:cubicBezTo>
                  <a:pt x="3189" y="1219"/>
                  <a:pt x="3201" y="1223"/>
                  <a:pt x="3210" y="1231"/>
                </a:cubicBezTo>
                <a:lnTo>
                  <a:pt x="3266" y="1277"/>
                </a:lnTo>
                <a:cubicBezTo>
                  <a:pt x="3271" y="1281"/>
                  <a:pt x="3276" y="1287"/>
                  <a:pt x="3279" y="1293"/>
                </a:cubicBezTo>
                <a:lnTo>
                  <a:pt x="3309" y="1354"/>
                </a:lnTo>
                <a:lnTo>
                  <a:pt x="3219" y="1398"/>
                </a:lnTo>
                <a:lnTo>
                  <a:pt x="3189" y="1337"/>
                </a:lnTo>
                <a:lnTo>
                  <a:pt x="3203" y="1354"/>
                </a:lnTo>
                <a:lnTo>
                  <a:pt x="3146" y="1308"/>
                </a:lnTo>
                <a:lnTo>
                  <a:pt x="3178" y="1319"/>
                </a:lnTo>
                <a:lnTo>
                  <a:pt x="3122" y="1319"/>
                </a:lnTo>
                <a:lnTo>
                  <a:pt x="3077" y="1319"/>
                </a:lnTo>
                <a:lnTo>
                  <a:pt x="3108" y="1308"/>
                </a:lnTo>
                <a:lnTo>
                  <a:pt x="3056" y="1350"/>
                </a:lnTo>
                <a:lnTo>
                  <a:pt x="3000" y="1408"/>
                </a:lnTo>
                <a:lnTo>
                  <a:pt x="3014" y="1373"/>
                </a:lnTo>
                <a:lnTo>
                  <a:pt x="3014" y="1378"/>
                </a:lnTo>
                <a:lnTo>
                  <a:pt x="2914" y="1378"/>
                </a:lnTo>
                <a:close/>
                <a:moveTo>
                  <a:pt x="3438" y="1628"/>
                </a:moveTo>
                <a:lnTo>
                  <a:pt x="3440" y="1635"/>
                </a:lnTo>
                <a:lnTo>
                  <a:pt x="3437" y="1627"/>
                </a:lnTo>
                <a:lnTo>
                  <a:pt x="3493" y="1742"/>
                </a:lnTo>
                <a:cubicBezTo>
                  <a:pt x="3494" y="1745"/>
                  <a:pt x="3496" y="1748"/>
                  <a:pt x="3497" y="1751"/>
                </a:cubicBezTo>
                <a:lnTo>
                  <a:pt x="3553" y="1970"/>
                </a:lnTo>
                <a:lnTo>
                  <a:pt x="3564" y="2003"/>
                </a:lnTo>
                <a:lnTo>
                  <a:pt x="3469" y="2034"/>
                </a:lnTo>
                <a:lnTo>
                  <a:pt x="3456" y="1995"/>
                </a:lnTo>
                <a:lnTo>
                  <a:pt x="3400" y="1776"/>
                </a:lnTo>
                <a:lnTo>
                  <a:pt x="3403" y="1786"/>
                </a:lnTo>
                <a:lnTo>
                  <a:pt x="3347" y="1671"/>
                </a:lnTo>
                <a:cubicBezTo>
                  <a:pt x="3346" y="1668"/>
                  <a:pt x="3344" y="1665"/>
                  <a:pt x="3344" y="1662"/>
                </a:cubicBezTo>
                <a:lnTo>
                  <a:pt x="3341" y="1655"/>
                </a:lnTo>
                <a:lnTo>
                  <a:pt x="3438" y="1628"/>
                </a:lnTo>
                <a:close/>
                <a:moveTo>
                  <a:pt x="3611" y="2312"/>
                </a:moveTo>
                <a:lnTo>
                  <a:pt x="3611" y="2373"/>
                </a:lnTo>
                <a:lnTo>
                  <a:pt x="3609" y="2361"/>
                </a:lnTo>
                <a:lnTo>
                  <a:pt x="3665" y="2579"/>
                </a:lnTo>
                <a:lnTo>
                  <a:pt x="3689" y="2692"/>
                </a:lnTo>
                <a:lnTo>
                  <a:pt x="3591" y="2712"/>
                </a:lnTo>
                <a:lnTo>
                  <a:pt x="3569" y="2604"/>
                </a:lnTo>
                <a:lnTo>
                  <a:pt x="3512" y="2386"/>
                </a:lnTo>
                <a:cubicBezTo>
                  <a:pt x="3511" y="2382"/>
                  <a:pt x="3511" y="2378"/>
                  <a:pt x="3511" y="2373"/>
                </a:cubicBezTo>
                <a:lnTo>
                  <a:pt x="3511" y="2312"/>
                </a:lnTo>
                <a:lnTo>
                  <a:pt x="3611" y="2312"/>
                </a:lnTo>
                <a:close/>
                <a:moveTo>
                  <a:pt x="3747" y="2987"/>
                </a:moveTo>
                <a:lnTo>
                  <a:pt x="3767" y="3088"/>
                </a:lnTo>
                <a:lnTo>
                  <a:pt x="3824" y="3364"/>
                </a:lnTo>
                <a:lnTo>
                  <a:pt x="3826" y="3378"/>
                </a:lnTo>
                <a:lnTo>
                  <a:pt x="3729" y="3398"/>
                </a:lnTo>
                <a:lnTo>
                  <a:pt x="3726" y="3384"/>
                </a:lnTo>
                <a:lnTo>
                  <a:pt x="3669" y="3108"/>
                </a:lnTo>
                <a:lnTo>
                  <a:pt x="3649" y="3006"/>
                </a:lnTo>
                <a:lnTo>
                  <a:pt x="3747" y="2987"/>
                </a:lnTo>
                <a:close/>
                <a:moveTo>
                  <a:pt x="3886" y="3672"/>
                </a:moveTo>
                <a:lnTo>
                  <a:pt x="3936" y="3916"/>
                </a:lnTo>
                <a:cubicBezTo>
                  <a:pt x="3937" y="3919"/>
                  <a:pt x="3937" y="3923"/>
                  <a:pt x="3937" y="3926"/>
                </a:cubicBezTo>
                <a:lnTo>
                  <a:pt x="3937" y="4077"/>
                </a:lnTo>
                <a:lnTo>
                  <a:pt x="3837" y="4077"/>
                </a:lnTo>
                <a:lnTo>
                  <a:pt x="3837" y="3926"/>
                </a:lnTo>
                <a:lnTo>
                  <a:pt x="3838" y="3936"/>
                </a:lnTo>
                <a:lnTo>
                  <a:pt x="3788" y="3692"/>
                </a:lnTo>
                <a:lnTo>
                  <a:pt x="3886" y="3672"/>
                </a:lnTo>
                <a:close/>
                <a:moveTo>
                  <a:pt x="3971" y="4364"/>
                </a:moveTo>
                <a:lnTo>
                  <a:pt x="3992" y="4468"/>
                </a:lnTo>
                <a:lnTo>
                  <a:pt x="4038" y="4746"/>
                </a:lnTo>
                <a:lnTo>
                  <a:pt x="4040" y="4758"/>
                </a:lnTo>
                <a:lnTo>
                  <a:pt x="3942" y="4778"/>
                </a:lnTo>
                <a:lnTo>
                  <a:pt x="3939" y="4762"/>
                </a:lnTo>
                <a:lnTo>
                  <a:pt x="3894" y="4488"/>
                </a:lnTo>
                <a:lnTo>
                  <a:pt x="3873" y="4384"/>
                </a:lnTo>
                <a:lnTo>
                  <a:pt x="3971" y="4364"/>
                </a:lnTo>
                <a:close/>
                <a:moveTo>
                  <a:pt x="4101" y="5049"/>
                </a:moveTo>
                <a:lnTo>
                  <a:pt x="4149" y="5236"/>
                </a:lnTo>
                <a:lnTo>
                  <a:pt x="4190" y="5442"/>
                </a:lnTo>
                <a:lnTo>
                  <a:pt x="4092" y="5461"/>
                </a:lnTo>
                <a:lnTo>
                  <a:pt x="4053" y="5261"/>
                </a:lnTo>
                <a:lnTo>
                  <a:pt x="4004" y="5074"/>
                </a:lnTo>
                <a:lnTo>
                  <a:pt x="4101" y="5049"/>
                </a:lnTo>
                <a:close/>
                <a:moveTo>
                  <a:pt x="4222" y="5730"/>
                </a:moveTo>
                <a:lnTo>
                  <a:pt x="4261" y="5841"/>
                </a:lnTo>
                <a:lnTo>
                  <a:pt x="4307" y="6018"/>
                </a:lnTo>
                <a:lnTo>
                  <a:pt x="4304" y="6008"/>
                </a:lnTo>
                <a:lnTo>
                  <a:pt x="4349" y="6102"/>
                </a:lnTo>
                <a:lnTo>
                  <a:pt x="4259" y="6146"/>
                </a:lnTo>
                <a:lnTo>
                  <a:pt x="4214" y="6052"/>
                </a:lnTo>
                <a:cubicBezTo>
                  <a:pt x="4212" y="6049"/>
                  <a:pt x="4211" y="6046"/>
                  <a:pt x="4210" y="6043"/>
                </a:cubicBezTo>
                <a:lnTo>
                  <a:pt x="4166" y="5874"/>
                </a:lnTo>
                <a:lnTo>
                  <a:pt x="4128" y="5763"/>
                </a:lnTo>
                <a:lnTo>
                  <a:pt x="4222" y="5730"/>
                </a:lnTo>
                <a:close/>
                <a:moveTo>
                  <a:pt x="4464" y="6058"/>
                </a:moveTo>
                <a:lnTo>
                  <a:pt x="4482" y="6012"/>
                </a:lnTo>
                <a:lnTo>
                  <a:pt x="4538" y="5842"/>
                </a:lnTo>
                <a:lnTo>
                  <a:pt x="4594" y="5682"/>
                </a:lnTo>
                <a:lnTo>
                  <a:pt x="4688" y="5715"/>
                </a:lnTo>
                <a:lnTo>
                  <a:pt x="4633" y="5873"/>
                </a:lnTo>
                <a:lnTo>
                  <a:pt x="4575" y="6049"/>
                </a:lnTo>
                <a:lnTo>
                  <a:pt x="4557" y="6095"/>
                </a:lnTo>
                <a:lnTo>
                  <a:pt x="4464" y="6058"/>
                </a:lnTo>
                <a:close/>
                <a:moveTo>
                  <a:pt x="4666" y="5396"/>
                </a:moveTo>
                <a:lnTo>
                  <a:pt x="4705" y="5237"/>
                </a:lnTo>
                <a:lnTo>
                  <a:pt x="4750" y="5020"/>
                </a:lnTo>
                <a:lnTo>
                  <a:pt x="4749" y="5030"/>
                </a:lnTo>
                <a:lnTo>
                  <a:pt x="4749" y="5017"/>
                </a:lnTo>
                <a:lnTo>
                  <a:pt x="4849" y="5017"/>
                </a:lnTo>
                <a:lnTo>
                  <a:pt x="4849" y="5030"/>
                </a:lnTo>
                <a:cubicBezTo>
                  <a:pt x="4849" y="5033"/>
                  <a:pt x="4849" y="5037"/>
                  <a:pt x="4848" y="5040"/>
                </a:cubicBezTo>
                <a:lnTo>
                  <a:pt x="4802" y="5260"/>
                </a:lnTo>
                <a:lnTo>
                  <a:pt x="4764" y="5419"/>
                </a:lnTo>
                <a:lnTo>
                  <a:pt x="4666" y="5396"/>
                </a:lnTo>
                <a:close/>
                <a:moveTo>
                  <a:pt x="4749" y="4717"/>
                </a:moveTo>
                <a:lnTo>
                  <a:pt x="4749" y="4696"/>
                </a:lnTo>
                <a:cubicBezTo>
                  <a:pt x="4749" y="4693"/>
                  <a:pt x="4749" y="4690"/>
                  <a:pt x="4750" y="4686"/>
                </a:cubicBezTo>
                <a:lnTo>
                  <a:pt x="4806" y="4410"/>
                </a:lnTo>
                <a:lnTo>
                  <a:pt x="4826" y="4314"/>
                </a:lnTo>
                <a:lnTo>
                  <a:pt x="4924" y="4334"/>
                </a:lnTo>
                <a:lnTo>
                  <a:pt x="4904" y="4430"/>
                </a:lnTo>
                <a:lnTo>
                  <a:pt x="4848" y="4706"/>
                </a:lnTo>
                <a:lnTo>
                  <a:pt x="4849" y="4696"/>
                </a:lnTo>
                <a:lnTo>
                  <a:pt x="4849" y="4717"/>
                </a:lnTo>
                <a:lnTo>
                  <a:pt x="4749" y="4717"/>
                </a:lnTo>
                <a:close/>
                <a:moveTo>
                  <a:pt x="4882" y="4021"/>
                </a:moveTo>
                <a:lnTo>
                  <a:pt x="4918" y="3803"/>
                </a:lnTo>
                <a:lnTo>
                  <a:pt x="4948" y="3627"/>
                </a:lnTo>
                <a:lnTo>
                  <a:pt x="5047" y="3644"/>
                </a:lnTo>
                <a:lnTo>
                  <a:pt x="5017" y="3819"/>
                </a:lnTo>
                <a:lnTo>
                  <a:pt x="4980" y="4038"/>
                </a:lnTo>
                <a:lnTo>
                  <a:pt x="4882" y="4021"/>
                </a:lnTo>
                <a:close/>
                <a:moveTo>
                  <a:pt x="4997" y="3331"/>
                </a:moveTo>
                <a:lnTo>
                  <a:pt x="5020" y="3193"/>
                </a:lnTo>
                <a:lnTo>
                  <a:pt x="5019" y="3201"/>
                </a:lnTo>
                <a:lnTo>
                  <a:pt x="5019" y="2941"/>
                </a:lnTo>
                <a:lnTo>
                  <a:pt x="5119" y="2941"/>
                </a:lnTo>
                <a:lnTo>
                  <a:pt x="5119" y="3201"/>
                </a:lnTo>
                <a:cubicBezTo>
                  <a:pt x="5119" y="3204"/>
                  <a:pt x="5119" y="3207"/>
                  <a:pt x="5118" y="3210"/>
                </a:cubicBezTo>
                <a:lnTo>
                  <a:pt x="5096" y="3347"/>
                </a:lnTo>
                <a:lnTo>
                  <a:pt x="4997" y="3331"/>
                </a:lnTo>
                <a:close/>
                <a:moveTo>
                  <a:pt x="5065" y="2636"/>
                </a:moveTo>
                <a:lnTo>
                  <a:pt x="5076" y="2582"/>
                </a:lnTo>
                <a:lnTo>
                  <a:pt x="5132" y="2250"/>
                </a:lnTo>
                <a:lnTo>
                  <a:pt x="5134" y="2242"/>
                </a:lnTo>
                <a:lnTo>
                  <a:pt x="5232" y="2262"/>
                </a:lnTo>
                <a:lnTo>
                  <a:pt x="5231" y="2267"/>
                </a:lnTo>
                <a:lnTo>
                  <a:pt x="5174" y="2602"/>
                </a:lnTo>
                <a:lnTo>
                  <a:pt x="5163" y="2656"/>
                </a:lnTo>
                <a:lnTo>
                  <a:pt x="5065" y="2636"/>
                </a:lnTo>
                <a:close/>
                <a:moveTo>
                  <a:pt x="5194" y="1948"/>
                </a:moveTo>
                <a:lnTo>
                  <a:pt x="5245" y="1696"/>
                </a:lnTo>
                <a:lnTo>
                  <a:pt x="5268" y="1557"/>
                </a:lnTo>
                <a:lnTo>
                  <a:pt x="5367" y="1573"/>
                </a:lnTo>
                <a:lnTo>
                  <a:pt x="5343" y="1716"/>
                </a:lnTo>
                <a:lnTo>
                  <a:pt x="5292" y="1968"/>
                </a:lnTo>
                <a:lnTo>
                  <a:pt x="5194" y="1948"/>
                </a:lnTo>
                <a:close/>
                <a:moveTo>
                  <a:pt x="5332" y="1259"/>
                </a:moveTo>
                <a:lnTo>
                  <a:pt x="5347" y="1199"/>
                </a:lnTo>
                <a:lnTo>
                  <a:pt x="5346" y="1212"/>
                </a:lnTo>
                <a:lnTo>
                  <a:pt x="5346" y="982"/>
                </a:lnTo>
                <a:cubicBezTo>
                  <a:pt x="5346" y="978"/>
                  <a:pt x="5346" y="974"/>
                  <a:pt x="5347" y="969"/>
                </a:cubicBezTo>
                <a:lnTo>
                  <a:pt x="5374" y="865"/>
                </a:lnTo>
                <a:lnTo>
                  <a:pt x="5471" y="890"/>
                </a:lnTo>
                <a:lnTo>
                  <a:pt x="5444" y="994"/>
                </a:lnTo>
                <a:lnTo>
                  <a:pt x="5446" y="982"/>
                </a:lnTo>
                <a:lnTo>
                  <a:pt x="5446" y="1212"/>
                </a:lnTo>
                <a:cubicBezTo>
                  <a:pt x="5446" y="1216"/>
                  <a:pt x="5445" y="1220"/>
                  <a:pt x="5444" y="1224"/>
                </a:cubicBezTo>
                <a:lnTo>
                  <a:pt x="5429" y="1284"/>
                </a:lnTo>
                <a:lnTo>
                  <a:pt x="5332" y="1259"/>
                </a:lnTo>
                <a:close/>
                <a:moveTo>
                  <a:pt x="5464" y="575"/>
                </a:moveTo>
                <a:lnTo>
                  <a:pt x="5517" y="414"/>
                </a:lnTo>
                <a:lnTo>
                  <a:pt x="5564" y="307"/>
                </a:lnTo>
                <a:lnTo>
                  <a:pt x="5616" y="199"/>
                </a:lnTo>
                <a:lnTo>
                  <a:pt x="5706" y="243"/>
                </a:lnTo>
                <a:lnTo>
                  <a:pt x="5655" y="346"/>
                </a:lnTo>
                <a:lnTo>
                  <a:pt x="5612" y="445"/>
                </a:lnTo>
                <a:lnTo>
                  <a:pt x="5559" y="606"/>
                </a:lnTo>
                <a:lnTo>
                  <a:pt x="5464" y="575"/>
                </a:lnTo>
                <a:close/>
                <a:moveTo>
                  <a:pt x="5824" y="0"/>
                </a:moveTo>
                <a:lnTo>
                  <a:pt x="5835" y="0"/>
                </a:lnTo>
                <a:lnTo>
                  <a:pt x="5880" y="0"/>
                </a:lnTo>
                <a:cubicBezTo>
                  <a:pt x="5891" y="0"/>
                  <a:pt x="5902" y="4"/>
                  <a:pt x="5911" y="12"/>
                </a:cubicBezTo>
                <a:lnTo>
                  <a:pt x="5968" y="58"/>
                </a:lnTo>
                <a:cubicBezTo>
                  <a:pt x="5973" y="62"/>
                  <a:pt x="5978" y="68"/>
                  <a:pt x="5981" y="74"/>
                </a:cubicBezTo>
                <a:lnTo>
                  <a:pt x="6037" y="189"/>
                </a:lnTo>
                <a:cubicBezTo>
                  <a:pt x="6040" y="196"/>
                  <a:pt x="6042" y="204"/>
                  <a:pt x="6042" y="211"/>
                </a:cubicBezTo>
                <a:lnTo>
                  <a:pt x="6042" y="326"/>
                </a:lnTo>
                <a:lnTo>
                  <a:pt x="6036" y="303"/>
                </a:lnTo>
                <a:lnTo>
                  <a:pt x="6050" y="328"/>
                </a:lnTo>
                <a:lnTo>
                  <a:pt x="5962" y="376"/>
                </a:lnTo>
                <a:lnTo>
                  <a:pt x="5948" y="350"/>
                </a:lnTo>
                <a:cubicBezTo>
                  <a:pt x="5944" y="343"/>
                  <a:pt x="5942" y="335"/>
                  <a:pt x="5942" y="326"/>
                </a:cubicBezTo>
                <a:lnTo>
                  <a:pt x="5942" y="211"/>
                </a:lnTo>
                <a:lnTo>
                  <a:pt x="5947" y="233"/>
                </a:lnTo>
                <a:lnTo>
                  <a:pt x="5891" y="118"/>
                </a:lnTo>
                <a:lnTo>
                  <a:pt x="5904" y="135"/>
                </a:lnTo>
                <a:lnTo>
                  <a:pt x="5848" y="89"/>
                </a:lnTo>
                <a:lnTo>
                  <a:pt x="5880" y="100"/>
                </a:lnTo>
                <a:lnTo>
                  <a:pt x="5835" y="100"/>
                </a:lnTo>
                <a:lnTo>
                  <a:pt x="5824" y="100"/>
                </a:lnTo>
                <a:lnTo>
                  <a:pt x="5824" y="0"/>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5419800" y="2570040"/>
            <a:ext cx="877680" cy="1202040"/>
          </a:xfrm>
          <a:custGeom>
            <a:avLst/>
            <a:gdLst/>
            <a:ahLst/>
            <a:rect l="l" t="t" r="r" b="b"/>
            <a:pathLst>
              <a:path w="5555" h="7590">
                <a:moveTo>
                  <a:pt x="95" y="2970"/>
                </a:moveTo>
                <a:lnTo>
                  <a:pt x="151" y="3143"/>
                </a:lnTo>
                <a:lnTo>
                  <a:pt x="207" y="3303"/>
                </a:lnTo>
                <a:lnTo>
                  <a:pt x="219" y="3356"/>
                </a:lnTo>
                <a:lnTo>
                  <a:pt x="121" y="3376"/>
                </a:lnTo>
                <a:lnTo>
                  <a:pt x="113" y="3336"/>
                </a:lnTo>
                <a:lnTo>
                  <a:pt x="56" y="3174"/>
                </a:lnTo>
                <a:lnTo>
                  <a:pt x="0" y="3001"/>
                </a:lnTo>
                <a:lnTo>
                  <a:pt x="95" y="2970"/>
                </a:lnTo>
                <a:close/>
                <a:moveTo>
                  <a:pt x="283" y="3647"/>
                </a:moveTo>
                <a:lnTo>
                  <a:pt x="310" y="3757"/>
                </a:lnTo>
                <a:lnTo>
                  <a:pt x="366" y="3975"/>
                </a:lnTo>
                <a:cubicBezTo>
                  <a:pt x="367" y="3979"/>
                  <a:pt x="368" y="3983"/>
                  <a:pt x="368" y="3987"/>
                </a:cubicBezTo>
                <a:lnTo>
                  <a:pt x="368" y="4049"/>
                </a:lnTo>
                <a:lnTo>
                  <a:pt x="268" y="4049"/>
                </a:lnTo>
                <a:lnTo>
                  <a:pt x="268" y="3987"/>
                </a:lnTo>
                <a:lnTo>
                  <a:pt x="269" y="4000"/>
                </a:lnTo>
                <a:lnTo>
                  <a:pt x="213" y="3781"/>
                </a:lnTo>
                <a:lnTo>
                  <a:pt x="186" y="3671"/>
                </a:lnTo>
                <a:lnTo>
                  <a:pt x="283" y="3647"/>
                </a:lnTo>
                <a:close/>
                <a:moveTo>
                  <a:pt x="387" y="4334"/>
                </a:moveTo>
                <a:lnTo>
                  <a:pt x="422" y="4470"/>
                </a:lnTo>
                <a:lnTo>
                  <a:pt x="475" y="4727"/>
                </a:lnTo>
                <a:lnTo>
                  <a:pt x="377" y="4747"/>
                </a:lnTo>
                <a:lnTo>
                  <a:pt x="326" y="4495"/>
                </a:lnTo>
                <a:lnTo>
                  <a:pt x="290" y="4359"/>
                </a:lnTo>
                <a:lnTo>
                  <a:pt x="387" y="4334"/>
                </a:lnTo>
                <a:close/>
                <a:moveTo>
                  <a:pt x="517" y="5027"/>
                </a:moveTo>
                <a:lnTo>
                  <a:pt x="525" y="5086"/>
                </a:lnTo>
                <a:lnTo>
                  <a:pt x="581" y="5359"/>
                </a:lnTo>
                <a:lnTo>
                  <a:pt x="592" y="5417"/>
                </a:lnTo>
                <a:lnTo>
                  <a:pt x="494" y="5436"/>
                </a:lnTo>
                <a:lnTo>
                  <a:pt x="483" y="5379"/>
                </a:lnTo>
                <a:lnTo>
                  <a:pt x="426" y="5099"/>
                </a:lnTo>
                <a:lnTo>
                  <a:pt x="418" y="5040"/>
                </a:lnTo>
                <a:lnTo>
                  <a:pt x="517" y="5027"/>
                </a:lnTo>
                <a:close/>
                <a:moveTo>
                  <a:pt x="638" y="5722"/>
                </a:moveTo>
                <a:lnTo>
                  <a:pt x="638" y="5933"/>
                </a:lnTo>
                <a:lnTo>
                  <a:pt x="637" y="5923"/>
                </a:lnTo>
                <a:lnTo>
                  <a:pt x="675" y="6108"/>
                </a:lnTo>
                <a:lnTo>
                  <a:pt x="577" y="6128"/>
                </a:lnTo>
                <a:lnTo>
                  <a:pt x="539" y="5943"/>
                </a:lnTo>
                <a:cubicBezTo>
                  <a:pt x="538" y="5940"/>
                  <a:pt x="538" y="5936"/>
                  <a:pt x="538" y="5933"/>
                </a:cubicBezTo>
                <a:lnTo>
                  <a:pt x="538" y="5722"/>
                </a:lnTo>
                <a:lnTo>
                  <a:pt x="638" y="5722"/>
                </a:lnTo>
                <a:close/>
                <a:moveTo>
                  <a:pt x="744" y="6397"/>
                </a:moveTo>
                <a:lnTo>
                  <a:pt x="749" y="6415"/>
                </a:lnTo>
                <a:lnTo>
                  <a:pt x="795" y="6696"/>
                </a:lnTo>
                <a:lnTo>
                  <a:pt x="819" y="6790"/>
                </a:lnTo>
                <a:lnTo>
                  <a:pt x="722" y="6815"/>
                </a:lnTo>
                <a:lnTo>
                  <a:pt x="696" y="6712"/>
                </a:lnTo>
                <a:lnTo>
                  <a:pt x="652" y="6440"/>
                </a:lnTo>
                <a:lnTo>
                  <a:pt x="647" y="6422"/>
                </a:lnTo>
                <a:lnTo>
                  <a:pt x="744" y="6397"/>
                </a:lnTo>
                <a:close/>
                <a:moveTo>
                  <a:pt x="904" y="7074"/>
                </a:moveTo>
                <a:lnTo>
                  <a:pt x="906" y="7080"/>
                </a:lnTo>
                <a:lnTo>
                  <a:pt x="963" y="7302"/>
                </a:lnTo>
                <a:cubicBezTo>
                  <a:pt x="964" y="7306"/>
                  <a:pt x="964" y="7310"/>
                  <a:pt x="964" y="7314"/>
                </a:cubicBezTo>
                <a:lnTo>
                  <a:pt x="964" y="7429"/>
                </a:lnTo>
                <a:lnTo>
                  <a:pt x="958" y="7405"/>
                </a:lnTo>
                <a:lnTo>
                  <a:pt x="984" y="7452"/>
                </a:lnTo>
                <a:lnTo>
                  <a:pt x="896" y="7500"/>
                </a:lnTo>
                <a:lnTo>
                  <a:pt x="870" y="7453"/>
                </a:lnTo>
                <a:cubicBezTo>
                  <a:pt x="866" y="7446"/>
                  <a:pt x="864" y="7438"/>
                  <a:pt x="864" y="7429"/>
                </a:cubicBezTo>
                <a:lnTo>
                  <a:pt x="864" y="7314"/>
                </a:lnTo>
                <a:lnTo>
                  <a:pt x="866" y="7327"/>
                </a:lnTo>
                <a:lnTo>
                  <a:pt x="810" y="7111"/>
                </a:lnTo>
                <a:lnTo>
                  <a:pt x="809" y="7105"/>
                </a:lnTo>
                <a:lnTo>
                  <a:pt x="904" y="7074"/>
                </a:lnTo>
                <a:close/>
                <a:moveTo>
                  <a:pt x="1127" y="7520"/>
                </a:moveTo>
                <a:lnTo>
                  <a:pt x="1149" y="7498"/>
                </a:lnTo>
                <a:lnTo>
                  <a:pt x="1141" y="7509"/>
                </a:lnTo>
                <a:lnTo>
                  <a:pt x="1197" y="7405"/>
                </a:lnTo>
                <a:lnTo>
                  <a:pt x="1191" y="7429"/>
                </a:lnTo>
                <a:lnTo>
                  <a:pt x="1191" y="7314"/>
                </a:lnTo>
                <a:cubicBezTo>
                  <a:pt x="1191" y="7310"/>
                  <a:pt x="1191" y="7305"/>
                  <a:pt x="1193" y="7301"/>
                </a:cubicBezTo>
                <a:lnTo>
                  <a:pt x="1229" y="7170"/>
                </a:lnTo>
                <a:lnTo>
                  <a:pt x="1326" y="7197"/>
                </a:lnTo>
                <a:lnTo>
                  <a:pt x="1289" y="7328"/>
                </a:lnTo>
                <a:lnTo>
                  <a:pt x="1291" y="7314"/>
                </a:lnTo>
                <a:lnTo>
                  <a:pt x="1291" y="7429"/>
                </a:lnTo>
                <a:cubicBezTo>
                  <a:pt x="1291" y="7438"/>
                  <a:pt x="1289" y="7446"/>
                  <a:pt x="1285" y="7453"/>
                </a:cubicBezTo>
                <a:lnTo>
                  <a:pt x="1228" y="7557"/>
                </a:lnTo>
                <a:cubicBezTo>
                  <a:pt x="1226" y="7561"/>
                  <a:pt x="1223" y="7565"/>
                  <a:pt x="1220" y="7568"/>
                </a:cubicBezTo>
                <a:lnTo>
                  <a:pt x="1199" y="7590"/>
                </a:lnTo>
                <a:lnTo>
                  <a:pt x="1127" y="7520"/>
                </a:lnTo>
                <a:close/>
                <a:moveTo>
                  <a:pt x="1302" y="6880"/>
                </a:moveTo>
                <a:lnTo>
                  <a:pt x="1350" y="6692"/>
                </a:lnTo>
                <a:lnTo>
                  <a:pt x="1390" y="6493"/>
                </a:lnTo>
                <a:lnTo>
                  <a:pt x="1488" y="6512"/>
                </a:lnTo>
                <a:lnTo>
                  <a:pt x="1447" y="6717"/>
                </a:lnTo>
                <a:lnTo>
                  <a:pt x="1398" y="6905"/>
                </a:lnTo>
                <a:lnTo>
                  <a:pt x="1302" y="6880"/>
                </a:lnTo>
                <a:close/>
                <a:moveTo>
                  <a:pt x="1450" y="6199"/>
                </a:moveTo>
                <a:lnTo>
                  <a:pt x="1462" y="6142"/>
                </a:lnTo>
                <a:lnTo>
                  <a:pt x="1461" y="6152"/>
                </a:lnTo>
                <a:lnTo>
                  <a:pt x="1461" y="5818"/>
                </a:lnTo>
                <a:cubicBezTo>
                  <a:pt x="1461" y="5815"/>
                  <a:pt x="1461" y="5812"/>
                  <a:pt x="1462" y="5810"/>
                </a:cubicBezTo>
                <a:lnTo>
                  <a:pt x="1463" y="5802"/>
                </a:lnTo>
                <a:lnTo>
                  <a:pt x="1562" y="5818"/>
                </a:lnTo>
                <a:lnTo>
                  <a:pt x="1560" y="5826"/>
                </a:lnTo>
                <a:lnTo>
                  <a:pt x="1561" y="5818"/>
                </a:lnTo>
                <a:lnTo>
                  <a:pt x="1561" y="6152"/>
                </a:lnTo>
                <a:cubicBezTo>
                  <a:pt x="1561" y="6155"/>
                  <a:pt x="1561" y="6158"/>
                  <a:pt x="1560" y="6162"/>
                </a:cubicBezTo>
                <a:lnTo>
                  <a:pt x="1548" y="6219"/>
                </a:lnTo>
                <a:lnTo>
                  <a:pt x="1450" y="6199"/>
                </a:lnTo>
                <a:close/>
                <a:moveTo>
                  <a:pt x="1511" y="5505"/>
                </a:moveTo>
                <a:lnTo>
                  <a:pt x="1563" y="5199"/>
                </a:lnTo>
                <a:lnTo>
                  <a:pt x="1578" y="5111"/>
                </a:lnTo>
                <a:lnTo>
                  <a:pt x="1676" y="5128"/>
                </a:lnTo>
                <a:lnTo>
                  <a:pt x="1662" y="5216"/>
                </a:lnTo>
                <a:lnTo>
                  <a:pt x="1610" y="5522"/>
                </a:lnTo>
                <a:lnTo>
                  <a:pt x="1511" y="5505"/>
                </a:lnTo>
                <a:close/>
                <a:moveTo>
                  <a:pt x="1628" y="4815"/>
                </a:moveTo>
                <a:lnTo>
                  <a:pt x="1676" y="4532"/>
                </a:lnTo>
                <a:lnTo>
                  <a:pt x="1694" y="4421"/>
                </a:lnTo>
                <a:lnTo>
                  <a:pt x="1793" y="4437"/>
                </a:lnTo>
                <a:lnTo>
                  <a:pt x="1774" y="4548"/>
                </a:lnTo>
                <a:lnTo>
                  <a:pt x="1726" y="4832"/>
                </a:lnTo>
                <a:lnTo>
                  <a:pt x="1628" y="4815"/>
                </a:lnTo>
                <a:close/>
                <a:moveTo>
                  <a:pt x="1741" y="4126"/>
                </a:moveTo>
                <a:lnTo>
                  <a:pt x="1777" y="3866"/>
                </a:lnTo>
                <a:lnTo>
                  <a:pt x="1776" y="3735"/>
                </a:lnTo>
                <a:lnTo>
                  <a:pt x="1876" y="3735"/>
                </a:lnTo>
                <a:lnTo>
                  <a:pt x="1876" y="3879"/>
                </a:lnTo>
                <a:lnTo>
                  <a:pt x="1841" y="4140"/>
                </a:lnTo>
                <a:lnTo>
                  <a:pt x="1741" y="4126"/>
                </a:lnTo>
                <a:close/>
                <a:moveTo>
                  <a:pt x="1795" y="3428"/>
                </a:moveTo>
                <a:lnTo>
                  <a:pt x="1833" y="3208"/>
                </a:lnTo>
                <a:lnTo>
                  <a:pt x="1867" y="3034"/>
                </a:lnTo>
                <a:lnTo>
                  <a:pt x="1965" y="3053"/>
                </a:lnTo>
                <a:lnTo>
                  <a:pt x="1932" y="3225"/>
                </a:lnTo>
                <a:lnTo>
                  <a:pt x="1893" y="3445"/>
                </a:lnTo>
                <a:lnTo>
                  <a:pt x="1795" y="3428"/>
                </a:lnTo>
                <a:close/>
                <a:moveTo>
                  <a:pt x="1926" y="2739"/>
                </a:moveTo>
                <a:lnTo>
                  <a:pt x="1946" y="2642"/>
                </a:lnTo>
                <a:lnTo>
                  <a:pt x="2002" y="2366"/>
                </a:lnTo>
                <a:lnTo>
                  <a:pt x="2008" y="2345"/>
                </a:lnTo>
                <a:lnTo>
                  <a:pt x="2104" y="2370"/>
                </a:lnTo>
                <a:lnTo>
                  <a:pt x="2100" y="2386"/>
                </a:lnTo>
                <a:lnTo>
                  <a:pt x="2044" y="2662"/>
                </a:lnTo>
                <a:lnTo>
                  <a:pt x="2024" y="2759"/>
                </a:lnTo>
                <a:lnTo>
                  <a:pt x="1926" y="2739"/>
                </a:lnTo>
                <a:close/>
                <a:moveTo>
                  <a:pt x="2058" y="2064"/>
                </a:moveTo>
                <a:lnTo>
                  <a:pt x="2058" y="1938"/>
                </a:lnTo>
                <a:cubicBezTo>
                  <a:pt x="2058" y="1934"/>
                  <a:pt x="2058" y="1930"/>
                  <a:pt x="2059" y="1926"/>
                </a:cubicBezTo>
                <a:lnTo>
                  <a:pt x="2104" y="1753"/>
                </a:lnTo>
                <a:lnTo>
                  <a:pt x="2137" y="1659"/>
                </a:lnTo>
                <a:lnTo>
                  <a:pt x="2231" y="1692"/>
                </a:lnTo>
                <a:lnTo>
                  <a:pt x="2201" y="1778"/>
                </a:lnTo>
                <a:lnTo>
                  <a:pt x="2156" y="1951"/>
                </a:lnTo>
                <a:lnTo>
                  <a:pt x="2158" y="1938"/>
                </a:lnTo>
                <a:lnTo>
                  <a:pt x="2158" y="2064"/>
                </a:lnTo>
                <a:lnTo>
                  <a:pt x="2058" y="2064"/>
                </a:lnTo>
                <a:close/>
                <a:moveTo>
                  <a:pt x="2242" y="1370"/>
                </a:moveTo>
                <a:lnTo>
                  <a:pt x="2278" y="1304"/>
                </a:lnTo>
                <a:cubicBezTo>
                  <a:pt x="2280" y="1300"/>
                  <a:pt x="2283" y="1297"/>
                  <a:pt x="2286" y="1293"/>
                </a:cubicBezTo>
                <a:lnTo>
                  <a:pt x="2342" y="1236"/>
                </a:lnTo>
                <a:lnTo>
                  <a:pt x="2383" y="1182"/>
                </a:lnTo>
                <a:cubicBezTo>
                  <a:pt x="2393" y="1170"/>
                  <a:pt x="2407" y="1163"/>
                  <a:pt x="2423" y="1163"/>
                </a:cubicBezTo>
                <a:lnTo>
                  <a:pt x="2479" y="1163"/>
                </a:lnTo>
                <a:cubicBezTo>
                  <a:pt x="2493" y="1163"/>
                  <a:pt x="2505" y="1169"/>
                  <a:pt x="2515" y="1178"/>
                </a:cubicBezTo>
                <a:lnTo>
                  <a:pt x="2571" y="1236"/>
                </a:lnTo>
                <a:lnTo>
                  <a:pt x="2596" y="1261"/>
                </a:lnTo>
                <a:lnTo>
                  <a:pt x="2524" y="1331"/>
                </a:lnTo>
                <a:lnTo>
                  <a:pt x="2500" y="1306"/>
                </a:lnTo>
                <a:lnTo>
                  <a:pt x="2443" y="1248"/>
                </a:lnTo>
                <a:lnTo>
                  <a:pt x="2479" y="1263"/>
                </a:lnTo>
                <a:lnTo>
                  <a:pt x="2423" y="1263"/>
                </a:lnTo>
                <a:lnTo>
                  <a:pt x="2462" y="1244"/>
                </a:lnTo>
                <a:lnTo>
                  <a:pt x="2414" y="1306"/>
                </a:lnTo>
                <a:lnTo>
                  <a:pt x="2357" y="1363"/>
                </a:lnTo>
                <a:lnTo>
                  <a:pt x="2365" y="1352"/>
                </a:lnTo>
                <a:lnTo>
                  <a:pt x="2330" y="1417"/>
                </a:lnTo>
                <a:lnTo>
                  <a:pt x="2242" y="1370"/>
                </a:lnTo>
                <a:close/>
                <a:moveTo>
                  <a:pt x="2740" y="1528"/>
                </a:moveTo>
                <a:lnTo>
                  <a:pt x="2794" y="1640"/>
                </a:lnTo>
                <a:cubicBezTo>
                  <a:pt x="2798" y="1647"/>
                  <a:pt x="2799" y="1654"/>
                  <a:pt x="2799" y="1662"/>
                </a:cubicBezTo>
                <a:lnTo>
                  <a:pt x="2799" y="1823"/>
                </a:lnTo>
                <a:lnTo>
                  <a:pt x="2798" y="1811"/>
                </a:lnTo>
                <a:lnTo>
                  <a:pt x="2826" y="1921"/>
                </a:lnTo>
                <a:lnTo>
                  <a:pt x="2729" y="1946"/>
                </a:lnTo>
                <a:lnTo>
                  <a:pt x="2701" y="1836"/>
                </a:lnTo>
                <a:cubicBezTo>
                  <a:pt x="2700" y="1832"/>
                  <a:pt x="2699" y="1827"/>
                  <a:pt x="2699" y="1823"/>
                </a:cubicBezTo>
                <a:lnTo>
                  <a:pt x="2699" y="1662"/>
                </a:lnTo>
                <a:lnTo>
                  <a:pt x="2704" y="1684"/>
                </a:lnTo>
                <a:lnTo>
                  <a:pt x="2650" y="1572"/>
                </a:lnTo>
                <a:lnTo>
                  <a:pt x="2740" y="1528"/>
                </a:lnTo>
                <a:close/>
                <a:moveTo>
                  <a:pt x="2899" y="2213"/>
                </a:moveTo>
                <a:lnTo>
                  <a:pt x="2910" y="2260"/>
                </a:lnTo>
                <a:lnTo>
                  <a:pt x="2967" y="2478"/>
                </a:lnTo>
                <a:lnTo>
                  <a:pt x="2992" y="2604"/>
                </a:lnTo>
                <a:lnTo>
                  <a:pt x="2895" y="2624"/>
                </a:lnTo>
                <a:lnTo>
                  <a:pt x="2870" y="2503"/>
                </a:lnTo>
                <a:lnTo>
                  <a:pt x="2813" y="2284"/>
                </a:lnTo>
                <a:lnTo>
                  <a:pt x="2802" y="2237"/>
                </a:lnTo>
                <a:lnTo>
                  <a:pt x="2899" y="2213"/>
                </a:lnTo>
                <a:close/>
                <a:moveTo>
                  <a:pt x="3053" y="2898"/>
                </a:moveTo>
                <a:lnTo>
                  <a:pt x="3069" y="2976"/>
                </a:lnTo>
                <a:cubicBezTo>
                  <a:pt x="3069" y="2979"/>
                  <a:pt x="3070" y="2983"/>
                  <a:pt x="3070" y="2986"/>
                </a:cubicBezTo>
                <a:lnTo>
                  <a:pt x="3070" y="3262"/>
                </a:lnTo>
                <a:lnTo>
                  <a:pt x="3069" y="3254"/>
                </a:lnTo>
                <a:lnTo>
                  <a:pt x="3076" y="3297"/>
                </a:lnTo>
                <a:lnTo>
                  <a:pt x="2978" y="3314"/>
                </a:lnTo>
                <a:lnTo>
                  <a:pt x="2970" y="3270"/>
                </a:lnTo>
                <a:cubicBezTo>
                  <a:pt x="2970" y="3268"/>
                  <a:pt x="2970" y="3265"/>
                  <a:pt x="2970" y="3262"/>
                </a:cubicBezTo>
                <a:lnTo>
                  <a:pt x="2970" y="2986"/>
                </a:lnTo>
                <a:lnTo>
                  <a:pt x="2971" y="2996"/>
                </a:lnTo>
                <a:lnTo>
                  <a:pt x="2955" y="2918"/>
                </a:lnTo>
                <a:lnTo>
                  <a:pt x="3053" y="2898"/>
                </a:lnTo>
                <a:close/>
                <a:moveTo>
                  <a:pt x="3126" y="3591"/>
                </a:moveTo>
                <a:lnTo>
                  <a:pt x="3181" y="3862"/>
                </a:lnTo>
                <a:lnTo>
                  <a:pt x="3202" y="3986"/>
                </a:lnTo>
                <a:lnTo>
                  <a:pt x="3103" y="4002"/>
                </a:lnTo>
                <a:lnTo>
                  <a:pt x="3083" y="3882"/>
                </a:lnTo>
                <a:lnTo>
                  <a:pt x="3028" y="3611"/>
                </a:lnTo>
                <a:lnTo>
                  <a:pt x="3126" y="3591"/>
                </a:lnTo>
                <a:close/>
                <a:moveTo>
                  <a:pt x="3251" y="4282"/>
                </a:moveTo>
                <a:lnTo>
                  <a:pt x="3283" y="4474"/>
                </a:lnTo>
                <a:lnTo>
                  <a:pt x="3317" y="4676"/>
                </a:lnTo>
                <a:lnTo>
                  <a:pt x="3218" y="4693"/>
                </a:lnTo>
                <a:lnTo>
                  <a:pt x="3184" y="4490"/>
                </a:lnTo>
                <a:lnTo>
                  <a:pt x="3153" y="4298"/>
                </a:lnTo>
                <a:lnTo>
                  <a:pt x="3251" y="4282"/>
                </a:lnTo>
                <a:close/>
                <a:moveTo>
                  <a:pt x="3372" y="4969"/>
                </a:moveTo>
                <a:lnTo>
                  <a:pt x="3395" y="5083"/>
                </a:lnTo>
                <a:cubicBezTo>
                  <a:pt x="3396" y="5086"/>
                  <a:pt x="3396" y="5089"/>
                  <a:pt x="3396" y="5092"/>
                </a:cubicBezTo>
                <a:lnTo>
                  <a:pt x="3396" y="5377"/>
                </a:lnTo>
                <a:lnTo>
                  <a:pt x="3296" y="5377"/>
                </a:lnTo>
                <a:lnTo>
                  <a:pt x="3296" y="5092"/>
                </a:lnTo>
                <a:lnTo>
                  <a:pt x="3297" y="5102"/>
                </a:lnTo>
                <a:lnTo>
                  <a:pt x="3274" y="4989"/>
                </a:lnTo>
                <a:lnTo>
                  <a:pt x="3372" y="4969"/>
                </a:lnTo>
                <a:close/>
                <a:moveTo>
                  <a:pt x="3445" y="5662"/>
                </a:moveTo>
                <a:lnTo>
                  <a:pt x="3451" y="5693"/>
                </a:lnTo>
                <a:lnTo>
                  <a:pt x="3507" y="5921"/>
                </a:lnTo>
                <a:lnTo>
                  <a:pt x="3529" y="6055"/>
                </a:lnTo>
                <a:lnTo>
                  <a:pt x="3430" y="6071"/>
                </a:lnTo>
                <a:lnTo>
                  <a:pt x="3410" y="5945"/>
                </a:lnTo>
                <a:lnTo>
                  <a:pt x="3353" y="5713"/>
                </a:lnTo>
                <a:lnTo>
                  <a:pt x="3347" y="5682"/>
                </a:lnTo>
                <a:lnTo>
                  <a:pt x="3445" y="5662"/>
                </a:lnTo>
                <a:close/>
                <a:moveTo>
                  <a:pt x="3601" y="6336"/>
                </a:moveTo>
                <a:lnTo>
                  <a:pt x="3607" y="6354"/>
                </a:lnTo>
                <a:lnTo>
                  <a:pt x="3665" y="6577"/>
                </a:lnTo>
                <a:lnTo>
                  <a:pt x="3661" y="6567"/>
                </a:lnTo>
                <a:lnTo>
                  <a:pt x="3717" y="6682"/>
                </a:lnTo>
                <a:cubicBezTo>
                  <a:pt x="3721" y="6689"/>
                  <a:pt x="3722" y="6696"/>
                  <a:pt x="3722" y="6704"/>
                </a:cubicBezTo>
                <a:lnTo>
                  <a:pt x="3722" y="6731"/>
                </a:lnTo>
                <a:lnTo>
                  <a:pt x="3622" y="6731"/>
                </a:lnTo>
                <a:lnTo>
                  <a:pt x="3622" y="6704"/>
                </a:lnTo>
                <a:lnTo>
                  <a:pt x="3628" y="6726"/>
                </a:lnTo>
                <a:lnTo>
                  <a:pt x="3571" y="6611"/>
                </a:lnTo>
                <a:cubicBezTo>
                  <a:pt x="3570" y="6608"/>
                  <a:pt x="3569" y="6605"/>
                  <a:pt x="3568" y="6601"/>
                </a:cubicBezTo>
                <a:lnTo>
                  <a:pt x="3513" y="6387"/>
                </a:lnTo>
                <a:lnTo>
                  <a:pt x="3506" y="6369"/>
                </a:lnTo>
                <a:lnTo>
                  <a:pt x="3601" y="6336"/>
                </a:lnTo>
                <a:close/>
                <a:moveTo>
                  <a:pt x="3815" y="6820"/>
                </a:moveTo>
                <a:lnTo>
                  <a:pt x="3851" y="6784"/>
                </a:lnTo>
                <a:lnTo>
                  <a:pt x="3839" y="6804"/>
                </a:lnTo>
                <a:lnTo>
                  <a:pt x="3895" y="6631"/>
                </a:lnTo>
                <a:lnTo>
                  <a:pt x="3893" y="6647"/>
                </a:lnTo>
                <a:lnTo>
                  <a:pt x="3893" y="6485"/>
                </a:lnTo>
                <a:cubicBezTo>
                  <a:pt x="3893" y="6480"/>
                  <a:pt x="3893" y="6475"/>
                  <a:pt x="3895" y="6470"/>
                </a:cubicBezTo>
                <a:lnTo>
                  <a:pt x="3897" y="6463"/>
                </a:lnTo>
                <a:lnTo>
                  <a:pt x="3992" y="6494"/>
                </a:lnTo>
                <a:lnTo>
                  <a:pt x="3990" y="6501"/>
                </a:lnTo>
                <a:lnTo>
                  <a:pt x="3993" y="6485"/>
                </a:lnTo>
                <a:lnTo>
                  <a:pt x="3993" y="6647"/>
                </a:lnTo>
                <a:cubicBezTo>
                  <a:pt x="3993" y="6652"/>
                  <a:pt x="3992" y="6657"/>
                  <a:pt x="3990" y="6662"/>
                </a:cubicBezTo>
                <a:lnTo>
                  <a:pt x="3934" y="6835"/>
                </a:lnTo>
                <a:cubicBezTo>
                  <a:pt x="3932" y="6842"/>
                  <a:pt x="3927" y="6849"/>
                  <a:pt x="3922" y="6854"/>
                </a:cubicBezTo>
                <a:lnTo>
                  <a:pt x="3887" y="6890"/>
                </a:lnTo>
                <a:lnTo>
                  <a:pt x="3815" y="6820"/>
                </a:lnTo>
                <a:close/>
                <a:moveTo>
                  <a:pt x="3970" y="6181"/>
                </a:moveTo>
                <a:lnTo>
                  <a:pt x="3995" y="6028"/>
                </a:lnTo>
                <a:lnTo>
                  <a:pt x="4044" y="5786"/>
                </a:lnTo>
                <a:lnTo>
                  <a:pt x="4142" y="5806"/>
                </a:lnTo>
                <a:lnTo>
                  <a:pt x="4093" y="6044"/>
                </a:lnTo>
                <a:lnTo>
                  <a:pt x="4068" y="6197"/>
                </a:lnTo>
                <a:lnTo>
                  <a:pt x="3970" y="6181"/>
                </a:lnTo>
                <a:close/>
                <a:moveTo>
                  <a:pt x="4104" y="5492"/>
                </a:moveTo>
                <a:lnTo>
                  <a:pt x="4108" y="5474"/>
                </a:lnTo>
                <a:lnTo>
                  <a:pt x="4164" y="5142"/>
                </a:lnTo>
                <a:lnTo>
                  <a:pt x="4171" y="5099"/>
                </a:lnTo>
                <a:lnTo>
                  <a:pt x="4269" y="5116"/>
                </a:lnTo>
                <a:lnTo>
                  <a:pt x="4262" y="5158"/>
                </a:lnTo>
                <a:lnTo>
                  <a:pt x="4206" y="5494"/>
                </a:lnTo>
                <a:lnTo>
                  <a:pt x="4202" y="5512"/>
                </a:lnTo>
                <a:lnTo>
                  <a:pt x="4104" y="5492"/>
                </a:lnTo>
                <a:close/>
                <a:moveTo>
                  <a:pt x="4219" y="4812"/>
                </a:moveTo>
                <a:lnTo>
                  <a:pt x="4219" y="4436"/>
                </a:lnTo>
                <a:cubicBezTo>
                  <a:pt x="4219" y="4434"/>
                  <a:pt x="4219" y="4431"/>
                  <a:pt x="4220" y="4428"/>
                </a:cubicBezTo>
                <a:lnTo>
                  <a:pt x="4224" y="4404"/>
                </a:lnTo>
                <a:lnTo>
                  <a:pt x="4323" y="4420"/>
                </a:lnTo>
                <a:lnTo>
                  <a:pt x="4318" y="4445"/>
                </a:lnTo>
                <a:lnTo>
                  <a:pt x="4319" y="4436"/>
                </a:lnTo>
                <a:lnTo>
                  <a:pt x="4319" y="4812"/>
                </a:lnTo>
                <a:lnTo>
                  <a:pt x="4219" y="4812"/>
                </a:lnTo>
                <a:close/>
                <a:moveTo>
                  <a:pt x="4274" y="4108"/>
                </a:moveTo>
                <a:lnTo>
                  <a:pt x="4276" y="4094"/>
                </a:lnTo>
                <a:lnTo>
                  <a:pt x="4320" y="3713"/>
                </a:lnTo>
                <a:lnTo>
                  <a:pt x="4419" y="3725"/>
                </a:lnTo>
                <a:lnTo>
                  <a:pt x="4375" y="4111"/>
                </a:lnTo>
                <a:lnTo>
                  <a:pt x="4372" y="4125"/>
                </a:lnTo>
                <a:lnTo>
                  <a:pt x="4274" y="4108"/>
                </a:lnTo>
                <a:close/>
                <a:moveTo>
                  <a:pt x="4370" y="3415"/>
                </a:moveTo>
                <a:lnTo>
                  <a:pt x="4377" y="3369"/>
                </a:lnTo>
                <a:lnTo>
                  <a:pt x="4428" y="3020"/>
                </a:lnTo>
                <a:lnTo>
                  <a:pt x="4527" y="3035"/>
                </a:lnTo>
                <a:lnTo>
                  <a:pt x="4476" y="3386"/>
                </a:lnTo>
                <a:lnTo>
                  <a:pt x="4468" y="3431"/>
                </a:lnTo>
                <a:lnTo>
                  <a:pt x="4370" y="3415"/>
                </a:lnTo>
                <a:close/>
                <a:moveTo>
                  <a:pt x="4477" y="2723"/>
                </a:moveTo>
                <a:lnTo>
                  <a:pt x="4490" y="2644"/>
                </a:lnTo>
                <a:lnTo>
                  <a:pt x="4543" y="2329"/>
                </a:lnTo>
                <a:lnTo>
                  <a:pt x="4642" y="2345"/>
                </a:lnTo>
                <a:lnTo>
                  <a:pt x="4589" y="2660"/>
                </a:lnTo>
                <a:lnTo>
                  <a:pt x="4575" y="2740"/>
                </a:lnTo>
                <a:lnTo>
                  <a:pt x="4477" y="2723"/>
                </a:lnTo>
                <a:close/>
                <a:moveTo>
                  <a:pt x="4546" y="2037"/>
                </a:moveTo>
                <a:lnTo>
                  <a:pt x="4546" y="1996"/>
                </a:lnTo>
                <a:cubicBezTo>
                  <a:pt x="4546" y="1993"/>
                  <a:pt x="4546" y="1991"/>
                  <a:pt x="4546" y="1988"/>
                </a:cubicBezTo>
                <a:lnTo>
                  <a:pt x="4591" y="1700"/>
                </a:lnTo>
                <a:lnTo>
                  <a:pt x="4605" y="1632"/>
                </a:lnTo>
                <a:lnTo>
                  <a:pt x="4703" y="1652"/>
                </a:lnTo>
                <a:lnTo>
                  <a:pt x="4690" y="1716"/>
                </a:lnTo>
                <a:lnTo>
                  <a:pt x="4645" y="2004"/>
                </a:lnTo>
                <a:lnTo>
                  <a:pt x="4646" y="1996"/>
                </a:lnTo>
                <a:lnTo>
                  <a:pt x="4646" y="2037"/>
                </a:lnTo>
                <a:lnTo>
                  <a:pt x="4546" y="2037"/>
                </a:lnTo>
                <a:close/>
                <a:moveTo>
                  <a:pt x="4665" y="1338"/>
                </a:moveTo>
                <a:lnTo>
                  <a:pt x="4704" y="1146"/>
                </a:lnTo>
                <a:lnTo>
                  <a:pt x="4755" y="946"/>
                </a:lnTo>
                <a:lnTo>
                  <a:pt x="4852" y="971"/>
                </a:lnTo>
                <a:lnTo>
                  <a:pt x="4802" y="1166"/>
                </a:lnTo>
                <a:lnTo>
                  <a:pt x="4763" y="1358"/>
                </a:lnTo>
                <a:lnTo>
                  <a:pt x="4665" y="1338"/>
                </a:lnTo>
                <a:close/>
                <a:moveTo>
                  <a:pt x="4816" y="666"/>
                </a:moveTo>
                <a:lnTo>
                  <a:pt x="4816" y="545"/>
                </a:lnTo>
                <a:cubicBezTo>
                  <a:pt x="4816" y="541"/>
                  <a:pt x="4816" y="536"/>
                  <a:pt x="4818" y="532"/>
                </a:cubicBezTo>
                <a:lnTo>
                  <a:pt x="4863" y="371"/>
                </a:lnTo>
                <a:lnTo>
                  <a:pt x="4898" y="263"/>
                </a:lnTo>
                <a:lnTo>
                  <a:pt x="4993" y="294"/>
                </a:lnTo>
                <a:lnTo>
                  <a:pt x="4959" y="398"/>
                </a:lnTo>
                <a:lnTo>
                  <a:pt x="4914" y="559"/>
                </a:lnTo>
                <a:lnTo>
                  <a:pt x="4916" y="545"/>
                </a:lnTo>
                <a:lnTo>
                  <a:pt x="4916" y="666"/>
                </a:lnTo>
                <a:lnTo>
                  <a:pt x="4816" y="666"/>
                </a:lnTo>
                <a:close/>
                <a:moveTo>
                  <a:pt x="5111" y="0"/>
                </a:moveTo>
                <a:lnTo>
                  <a:pt x="5136" y="0"/>
                </a:lnTo>
                <a:lnTo>
                  <a:pt x="5181" y="0"/>
                </a:lnTo>
                <a:lnTo>
                  <a:pt x="5237" y="0"/>
                </a:lnTo>
                <a:cubicBezTo>
                  <a:pt x="5256" y="0"/>
                  <a:pt x="5272" y="10"/>
                  <a:pt x="5281" y="27"/>
                </a:cubicBezTo>
                <a:lnTo>
                  <a:pt x="5338" y="130"/>
                </a:lnTo>
                <a:lnTo>
                  <a:pt x="5395" y="247"/>
                </a:lnTo>
                <a:lnTo>
                  <a:pt x="5407" y="272"/>
                </a:lnTo>
                <a:lnTo>
                  <a:pt x="5317" y="316"/>
                </a:lnTo>
                <a:lnTo>
                  <a:pt x="5305" y="291"/>
                </a:lnTo>
                <a:lnTo>
                  <a:pt x="5250" y="178"/>
                </a:lnTo>
                <a:lnTo>
                  <a:pt x="5193" y="74"/>
                </a:lnTo>
                <a:lnTo>
                  <a:pt x="5237" y="100"/>
                </a:lnTo>
                <a:lnTo>
                  <a:pt x="5181" y="100"/>
                </a:lnTo>
                <a:lnTo>
                  <a:pt x="5136" y="100"/>
                </a:lnTo>
                <a:lnTo>
                  <a:pt x="5111" y="100"/>
                </a:lnTo>
                <a:lnTo>
                  <a:pt x="5111" y="0"/>
                </a:lnTo>
                <a:close/>
                <a:moveTo>
                  <a:pt x="5509" y="561"/>
                </a:moveTo>
                <a:lnTo>
                  <a:pt x="5555" y="703"/>
                </a:lnTo>
                <a:lnTo>
                  <a:pt x="5460" y="734"/>
                </a:lnTo>
                <a:lnTo>
                  <a:pt x="5414" y="592"/>
                </a:lnTo>
                <a:lnTo>
                  <a:pt x="5509" y="561"/>
                </a:lnTo>
                <a:close/>
              </a:path>
            </a:pathLst>
          </a:custGeom>
          <a:solidFill>
            <a:srgbClr val="3333ff"/>
          </a:solidFill>
          <a:ln w="28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205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127600" y="106668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rchhoff approximation - Summary</a:t>
            </a:r>
            <a:endParaRPr b="0" lang="en-US" sz="2400" spc="-1" strike="noStrike">
              <a:solidFill>
                <a:srgbClr val="000000"/>
              </a:solidFill>
              <a:latin typeface="Times New Roman"/>
            </a:endParaRPr>
          </a:p>
        </p:txBody>
      </p:sp>
      <p:sp>
        <p:nvSpPr>
          <p:cNvPr id="2056" name=""/>
          <p:cNvSpPr/>
          <p:nvPr/>
        </p:nvSpPr>
        <p:spPr>
          <a:xfrm>
            <a:off x="1203480" y="1719360"/>
            <a:ext cx="6416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volumetric flaws -the Kirchhoff approximation properly models the leading edge signal as long as ka &gt;1 approximately but does not model other waves (creeping wave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racks – the Kirchhoff approximation models the flash point signals  properly in pulse-echo as long as ka &gt; 1 approximately and the incident angle is less than about 50 degrees for wide band responses. For narrow band responses this angle is considerably reduced to as little as 15-20 degre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
        <p:nvSpPr>
          <p:cNvPr id="205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1447920" y="1981080"/>
            <a:ext cx="694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rn approximation assumes that the material of an inclusion differs little from the host material so that to first order the incident wave passes through the inclusion unchanged (weak scattering, low frequency approximation)</a:t>
            </a:r>
            <a:endParaRPr b="0" lang="en-US" sz="2400" spc="-1" strike="noStrike">
              <a:solidFill>
                <a:srgbClr val="000000"/>
              </a:solidFill>
              <a:latin typeface="Times New Roman"/>
            </a:endParaRPr>
          </a:p>
        </p:txBody>
      </p:sp>
      <p:grpSp>
        <p:nvGrpSpPr>
          <p:cNvPr id="2060" name=""/>
          <p:cNvGrpSpPr/>
          <p:nvPr/>
        </p:nvGrpSpPr>
        <p:grpSpPr>
          <a:xfrm>
            <a:off x="2454120" y="3995640"/>
            <a:ext cx="3429000" cy="2514600"/>
            <a:chOff x="2454120" y="3995640"/>
            <a:chExt cx="3429000" cy="2514600"/>
          </a:xfrm>
        </p:grpSpPr>
        <p:sp>
          <p:nvSpPr>
            <p:cNvPr id="2061" name=""/>
            <p:cNvSpPr/>
            <p:nvPr/>
          </p:nvSpPr>
          <p:spPr>
            <a:xfrm>
              <a:off x="3490920" y="4451040"/>
              <a:ext cx="1660320" cy="162396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759040" y="5165640"/>
              <a:ext cx="598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2958840" y="399564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622680" y="5165640"/>
              <a:ext cx="598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822480" y="399564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421160" y="516564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4619520" y="39956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421160" y="5165640"/>
              <a:ext cx="598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619520" y="399564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5284800" y="5165640"/>
              <a:ext cx="598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5484600" y="399564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2454120" y="6205320"/>
              <a:ext cx="117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t wave</a:t>
              </a:r>
              <a:endParaRPr b="0" lang="en-US" sz="1400" spc="-1" strike="noStrike">
                <a:solidFill>
                  <a:srgbClr val="000000"/>
                </a:solidFill>
                <a:latin typeface="Times New Roman"/>
              </a:endParaRPr>
            </a:p>
          </p:txBody>
        </p:sp>
        <p:sp>
          <p:nvSpPr>
            <p:cNvPr id="2073" name=""/>
            <p:cNvSpPr/>
            <p:nvPr/>
          </p:nvSpPr>
          <p:spPr>
            <a:xfrm>
              <a:off x="3063600" y="4757400"/>
              <a:ext cx="45252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0" lang="en-US" sz="1600" spc="-1" strike="noStrike" baseline="-25000">
                  <a:solidFill>
                    <a:srgbClr val="000000"/>
                  </a:solidFill>
                  <a:latin typeface="Arial"/>
                </a:rPr>
                <a:t>inc</a:t>
              </a:r>
              <a:endParaRPr b="0" lang="en-US" sz="1600" spc="-1" strike="noStrike">
                <a:solidFill>
                  <a:srgbClr val="000000"/>
                </a:solidFill>
                <a:latin typeface="Times New Roman"/>
              </a:endParaRPr>
            </a:p>
          </p:txBody>
        </p:sp>
      </p:grpSp>
      <p:sp>
        <p:nvSpPr>
          <p:cNvPr id="2074" name=""/>
          <p:cNvSpPr/>
          <p:nvPr/>
        </p:nvSpPr>
        <p:spPr>
          <a:xfrm>
            <a:off x="2877840" y="1033560"/>
            <a:ext cx="32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rn Approxi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77" name=""/>
          <p:cNvGraphicFramePr/>
          <p:nvPr/>
        </p:nvGraphicFramePr>
        <p:xfrm>
          <a:off x="1066680" y="3276720"/>
          <a:ext cx="7239240" cy="841320"/>
        </p:xfrm>
        <a:graphic>
          <a:graphicData uri="http://schemas.openxmlformats.org/presentationml/2006/ole">
            <p:oleObj r:id="rId1" spid="">
              <p:embed/>
              <p:pic>
                <p:nvPicPr>
                  <p:cNvPr id="2078" name="" descr=""/>
                  <p:cNvPicPr/>
                  <p:nvPr/>
                </p:nvPicPr>
                <p:blipFill>
                  <a:blip r:embed="rId2"/>
                  <a:stretch/>
                </p:blipFill>
                <p:spPr>
                  <a:xfrm>
                    <a:off x="1066680" y="3276720"/>
                    <a:ext cx="7239240" cy="841320"/>
                  </a:xfrm>
                  <a:prstGeom prst="rect">
                    <a:avLst/>
                  </a:prstGeom>
                  <a:ln w="0">
                    <a:noFill/>
                  </a:ln>
                </p:spPr>
              </p:pic>
            </p:oleObj>
          </a:graphicData>
        </a:graphic>
      </p:graphicFrame>
      <p:sp>
        <p:nvSpPr>
          <p:cNvPr id="2079" name=""/>
          <p:cNvSpPr/>
          <p:nvPr/>
        </p:nvSpPr>
        <p:spPr>
          <a:xfrm>
            <a:off x="974880" y="1033560"/>
            <a:ext cx="725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rn approximation generally is developed from a volume integral expression for the scattering amplitude</a:t>
            </a:r>
            <a:endParaRPr b="0" lang="en-US" sz="2400" spc="-1" strike="noStrike">
              <a:solidFill>
                <a:srgbClr val="000000"/>
              </a:solidFill>
              <a:latin typeface="Times New Roman"/>
            </a:endParaRPr>
          </a:p>
        </p:txBody>
      </p:sp>
      <p:sp>
        <p:nvSpPr>
          <p:cNvPr id="2080" name=""/>
          <p:cNvSpPr/>
          <p:nvPr/>
        </p:nvSpPr>
        <p:spPr>
          <a:xfrm>
            <a:off x="2361960" y="24382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sity difference</a:t>
            </a:r>
            <a:endParaRPr b="0" lang="en-US" sz="1800" spc="-1" strike="noStrike">
              <a:solidFill>
                <a:srgbClr val="000000"/>
              </a:solidFill>
              <a:latin typeface="Times New Roman"/>
            </a:endParaRPr>
          </a:p>
        </p:txBody>
      </p:sp>
      <p:sp>
        <p:nvSpPr>
          <p:cNvPr id="2081" name=""/>
          <p:cNvSpPr/>
          <p:nvPr/>
        </p:nvSpPr>
        <p:spPr>
          <a:xfrm>
            <a:off x="4569120" y="2438280"/>
            <a:ext cx="290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ce in elastic constants</a:t>
            </a:r>
            <a:endParaRPr b="0" lang="en-US" sz="1800" spc="-1" strike="noStrike">
              <a:solidFill>
                <a:srgbClr val="000000"/>
              </a:solidFill>
              <a:latin typeface="Times New Roman"/>
            </a:endParaRPr>
          </a:p>
        </p:txBody>
      </p:sp>
      <p:sp>
        <p:nvSpPr>
          <p:cNvPr id="2082" name=""/>
          <p:cNvSpPr/>
          <p:nvPr/>
        </p:nvSpPr>
        <p:spPr>
          <a:xfrm>
            <a:off x="33526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49528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962520" y="46483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96252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867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480060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2186280" y="507204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 in the flaw replaced by incident fields</a:t>
            </a:r>
            <a:endParaRPr b="0" lang="en-US" sz="2400" spc="-1" strike="noStrike">
              <a:solidFill>
                <a:srgbClr val="000000"/>
              </a:solidFill>
              <a:latin typeface="Times New Roman"/>
            </a:endParaRPr>
          </a:p>
        </p:txBody>
      </p:sp>
      <p:graphicFrame>
        <p:nvGraphicFramePr>
          <p:cNvPr id="2089" name=""/>
          <p:cNvGraphicFramePr/>
          <p:nvPr/>
        </p:nvGraphicFramePr>
        <p:xfrm>
          <a:off x="2590920" y="5638680"/>
          <a:ext cx="1600200" cy="569880"/>
        </p:xfrm>
        <a:graphic>
          <a:graphicData uri="http://schemas.openxmlformats.org/presentationml/2006/ole">
            <p:oleObj r:id="rId3" spid="">
              <p:embed/>
              <p:pic>
                <p:nvPicPr>
                  <p:cNvPr id="2090" name="" descr=""/>
                  <p:cNvPicPr/>
                  <p:nvPr/>
                </p:nvPicPr>
                <p:blipFill>
                  <a:blip r:embed="rId4"/>
                  <a:stretch/>
                </p:blipFill>
                <p:spPr>
                  <a:xfrm>
                    <a:off x="2590920" y="5638680"/>
                    <a:ext cx="1600200" cy="569880"/>
                  </a:xfrm>
                  <a:prstGeom prst="rect">
                    <a:avLst/>
                  </a:prstGeom>
                  <a:ln w="0">
                    <a:noFill/>
                  </a:ln>
                </p:spPr>
              </p:pic>
            </p:oleObj>
          </a:graphicData>
        </a:graphic>
      </p:graphicFrame>
      <p:graphicFrame>
        <p:nvGraphicFramePr>
          <p:cNvPr id="2091" name=""/>
          <p:cNvGraphicFramePr/>
          <p:nvPr/>
        </p:nvGraphicFramePr>
        <p:xfrm>
          <a:off x="4724280" y="5562720"/>
          <a:ext cx="1676520" cy="838080"/>
        </p:xfrm>
        <a:graphic>
          <a:graphicData uri="http://schemas.openxmlformats.org/presentationml/2006/ole">
            <p:oleObj r:id="rId5" spid="">
              <p:embed/>
              <p:pic>
                <p:nvPicPr>
                  <p:cNvPr id="2092" name="" descr=""/>
                  <p:cNvPicPr/>
                  <p:nvPr/>
                </p:nvPicPr>
                <p:blipFill>
                  <a:blip r:embed="rId6"/>
                  <a:stretch/>
                </p:blipFill>
                <p:spPr>
                  <a:xfrm>
                    <a:off x="4724280" y="5562720"/>
                    <a:ext cx="1676520" cy="838080"/>
                  </a:xfrm>
                  <a:prstGeom prst="rect">
                    <a:avLst/>
                  </a:prstGeom>
                  <a:ln w="0">
                    <a:noFill/>
                  </a:ln>
                </p:spPr>
              </p:pic>
            </p:oleObj>
          </a:graphicData>
        </a:graphic>
      </p:graphicFrame>
      <p:sp>
        <p:nvSpPr>
          <p:cNvPr id="2093"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96" name=""/>
          <p:cNvGraphicFramePr/>
          <p:nvPr/>
        </p:nvGraphicFramePr>
        <p:xfrm>
          <a:off x="2057400" y="2438280"/>
          <a:ext cx="3886200" cy="986040"/>
        </p:xfrm>
        <a:graphic>
          <a:graphicData uri="http://schemas.openxmlformats.org/presentationml/2006/ole">
            <p:oleObj r:id="rId1" spid="">
              <p:embed/>
              <p:pic>
                <p:nvPicPr>
                  <p:cNvPr id="2097" name="" descr=""/>
                  <p:cNvPicPr/>
                  <p:nvPr/>
                </p:nvPicPr>
                <p:blipFill>
                  <a:blip r:embed="rId2"/>
                  <a:stretch/>
                </p:blipFill>
                <p:spPr>
                  <a:xfrm>
                    <a:off x="2057400" y="2438280"/>
                    <a:ext cx="3886200" cy="986040"/>
                  </a:xfrm>
                  <a:prstGeom prst="rect">
                    <a:avLst/>
                  </a:prstGeom>
                  <a:ln w="0">
                    <a:noFill/>
                  </a:ln>
                </p:spPr>
              </p:pic>
            </p:oleObj>
          </a:graphicData>
        </a:graphic>
      </p:graphicFrame>
      <p:sp>
        <p:nvSpPr>
          <p:cNvPr id="2098" name=""/>
          <p:cNvSpPr/>
          <p:nvPr/>
        </p:nvSpPr>
        <p:spPr>
          <a:xfrm>
            <a:off x="1578960" y="1033560"/>
            <a:ext cx="490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spherical inclusion in pulse-echo</a:t>
            </a:r>
            <a:endParaRPr b="0" lang="en-US" sz="2400" spc="-1" strike="noStrike">
              <a:solidFill>
                <a:srgbClr val="000000"/>
              </a:solidFill>
              <a:latin typeface="Times New Roman"/>
            </a:endParaRPr>
          </a:p>
        </p:txBody>
      </p:sp>
      <p:sp>
        <p:nvSpPr>
          <p:cNvPr id="209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00" name=""/>
          <p:cNvGraphicFramePr/>
          <p:nvPr/>
        </p:nvGraphicFramePr>
        <p:xfrm>
          <a:off x="3200400" y="3657600"/>
          <a:ext cx="1905120" cy="863640"/>
        </p:xfrm>
        <a:graphic>
          <a:graphicData uri="http://schemas.openxmlformats.org/presentationml/2006/ole">
            <p:oleObj r:id="rId3" spid="">
              <p:embed/>
              <p:pic>
                <p:nvPicPr>
                  <p:cNvPr id="2101" name="" descr=""/>
                  <p:cNvPicPr/>
                  <p:nvPr/>
                </p:nvPicPr>
                <p:blipFill>
                  <a:blip r:embed="rId4"/>
                  <a:stretch/>
                </p:blipFill>
                <p:spPr>
                  <a:xfrm>
                    <a:off x="3200400" y="3657600"/>
                    <a:ext cx="1905120" cy="863640"/>
                  </a:xfrm>
                  <a:prstGeom prst="rect">
                    <a:avLst/>
                  </a:prstGeom>
                  <a:ln w="0">
                    <a:noFill/>
                  </a:ln>
                </p:spPr>
              </p:pic>
            </p:oleObj>
          </a:graphicData>
        </a:graphic>
      </p:graphicFrame>
      <p:sp>
        <p:nvSpPr>
          <p:cNvPr id="2102" name=""/>
          <p:cNvSpPr/>
          <p:nvPr/>
        </p:nvSpPr>
        <p:spPr>
          <a:xfrm>
            <a:off x="50292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5086440" y="1871640"/>
            <a:ext cx="32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Bessel function</a:t>
            </a:r>
            <a:endParaRPr b="0" lang="en-US" sz="2400" spc="-1" strike="noStrike">
              <a:solidFill>
                <a:srgbClr val="000000"/>
              </a:solidFill>
              <a:latin typeface="Times New Roman"/>
            </a:endParaRPr>
          </a:p>
        </p:txBody>
      </p:sp>
      <p:sp>
        <p:nvSpPr>
          <p:cNvPr id="2104" name=""/>
          <p:cNvSpPr/>
          <p:nvPr/>
        </p:nvSpPr>
        <p:spPr>
          <a:xfrm>
            <a:off x="1585800" y="37767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2105" name=""/>
          <p:cNvSpPr/>
          <p:nvPr/>
        </p:nvSpPr>
        <p:spPr>
          <a:xfrm flipV="1">
            <a:off x="419112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971080" y="4876920"/>
            <a:ext cx="15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ve den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ce</a:t>
            </a:r>
            <a:endParaRPr b="0" lang="en-US" sz="1800" spc="-1" strike="noStrike">
              <a:solidFill>
                <a:srgbClr val="000000"/>
              </a:solidFill>
              <a:latin typeface="Times New Roman"/>
            </a:endParaRPr>
          </a:p>
        </p:txBody>
      </p:sp>
      <p:sp>
        <p:nvSpPr>
          <p:cNvPr id="2107" name=""/>
          <p:cNvSpPr/>
          <p:nvPr/>
        </p:nvSpPr>
        <p:spPr>
          <a:xfrm flipV="1">
            <a:off x="480060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4494600" y="4876920"/>
            <a:ext cx="198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ve wave spe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ce</a:t>
            </a:r>
            <a:endParaRPr b="0" lang="en-US" sz="1800" spc="-1" strike="noStrike">
              <a:solidFill>
                <a:srgbClr val="000000"/>
              </a:solidFill>
              <a:latin typeface="Times New Roman"/>
            </a:endParaRPr>
          </a:p>
        </p:txBody>
      </p:sp>
      <p:sp>
        <p:nvSpPr>
          <p:cNvPr id="2109"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1355760" y="1033560"/>
            <a:ext cx="733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ing time domain impulse response for a spherical inclusion (pulse-echo)</a:t>
            </a:r>
            <a:endParaRPr b="0" lang="en-US" sz="2400" spc="-1" strike="noStrike">
              <a:solidFill>
                <a:srgbClr val="000000"/>
              </a:solidFill>
              <a:latin typeface="Times New Roman"/>
            </a:endParaRPr>
          </a:p>
        </p:txBody>
      </p:sp>
      <p:pic>
        <p:nvPicPr>
          <p:cNvPr id="2112" name="" descr=""/>
          <p:cNvPicPr/>
          <p:nvPr/>
        </p:nvPicPr>
        <p:blipFill>
          <a:blip r:embed="rId1"/>
          <a:stretch/>
        </p:blipFill>
        <p:spPr>
          <a:xfrm>
            <a:off x="3200400" y="2895480"/>
            <a:ext cx="2760840" cy="1860840"/>
          </a:xfrm>
          <a:prstGeom prst="rect">
            <a:avLst/>
          </a:prstGeom>
          <a:ln w="0">
            <a:noFill/>
          </a:ln>
        </p:spPr>
      </p:pic>
      <p:sp>
        <p:nvSpPr>
          <p:cNvPr id="2113" name=""/>
          <p:cNvSpPr/>
          <p:nvPr/>
        </p:nvSpPr>
        <p:spPr>
          <a:xfrm>
            <a:off x="1752480" y="5334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295280" y="5715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flipH="1">
            <a:off x="1371240" y="5867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295280" y="57913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flipH="1">
            <a:off x="2209320" y="5867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2667600" y="266688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 surf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119" name=""/>
          <p:cNvSpPr/>
          <p:nvPr/>
        </p:nvSpPr>
        <p:spPr>
          <a:xfrm>
            <a:off x="4724640" y="2743200"/>
            <a:ext cx="133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 surf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120"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219320" y="914400"/>
            <a:ext cx="7178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exact" separation of variables s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ulse-echo response of a spherical inclusion by synthesizing a time-domain response from frequencies ranging from 0-20 MHz approximately for a 1 mm radius inclusion (10 % differences in properties)</a:t>
            </a:r>
            <a:endParaRPr b="0" lang="en-US" sz="2400" spc="-1" strike="noStrike">
              <a:solidFill>
                <a:srgbClr val="000000"/>
              </a:solidFill>
              <a:latin typeface="Times New Roman"/>
            </a:endParaRPr>
          </a:p>
        </p:txBody>
      </p:sp>
      <p:sp>
        <p:nvSpPr>
          <p:cNvPr id="2123" name=""/>
          <p:cNvSpPr/>
          <p:nvPr/>
        </p:nvSpPr>
        <p:spPr>
          <a:xfrm>
            <a:off x="1002600" y="6153120"/>
            <a:ext cx="6820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P-wave response of a 1 mm radius spherical inclusion in steel where the dens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compressional wave speed are both ten percent higher than the host steel. Solid li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pproximation, dashed line: separation of variables solution.</a:t>
            </a:r>
            <a:endParaRPr b="0" lang="en-US" sz="1200" spc="-1" strike="noStrike">
              <a:solidFill>
                <a:srgbClr val="000000"/>
              </a:solidFill>
              <a:latin typeface="Times New Roman"/>
            </a:endParaRPr>
          </a:p>
        </p:txBody>
      </p:sp>
      <p:sp>
        <p:nvSpPr>
          <p:cNvPr id="2124" name=""/>
          <p:cNvSpPr/>
          <p:nvPr/>
        </p:nvSpPr>
        <p:spPr>
          <a:xfrm>
            <a:off x="2770200" y="2832120"/>
            <a:ext cx="3349440" cy="264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770200" y="2832120"/>
            <a:ext cx="3349440" cy="26463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770200" y="2832120"/>
            <a:ext cx="3349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2770200" y="5478480"/>
            <a:ext cx="3349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8" name=""/>
          <p:cNvSpPr/>
          <p:nvPr/>
        </p:nvSpPr>
        <p:spPr>
          <a:xfrm flipV="1">
            <a:off x="6119640" y="2831760"/>
            <a:ext cx="180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V="1">
            <a:off x="2770200" y="2831760"/>
            <a:ext cx="324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770200" y="5478480"/>
            <a:ext cx="3349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1" name=""/>
          <p:cNvSpPr/>
          <p:nvPr/>
        </p:nvSpPr>
        <p:spPr>
          <a:xfrm flipV="1">
            <a:off x="2770200" y="2831760"/>
            <a:ext cx="324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flipV="1">
            <a:off x="277020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3" name=""/>
          <p:cNvSpPr/>
          <p:nvPr/>
        </p:nvSpPr>
        <p:spPr>
          <a:xfrm>
            <a:off x="277020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4" name=""/>
          <p:cNvSpPr/>
          <p:nvPr/>
        </p:nvSpPr>
        <p:spPr>
          <a:xfrm>
            <a:off x="2709720" y="5546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135" name=""/>
          <p:cNvSpPr/>
          <p:nvPr/>
        </p:nvSpPr>
        <p:spPr>
          <a:xfrm>
            <a:off x="276372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36" name=""/>
          <p:cNvSpPr/>
          <p:nvPr/>
        </p:nvSpPr>
        <p:spPr>
          <a:xfrm flipV="1">
            <a:off x="3602160" y="54446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7" name=""/>
          <p:cNvSpPr/>
          <p:nvPr/>
        </p:nvSpPr>
        <p:spPr>
          <a:xfrm>
            <a:off x="3602160" y="2832120"/>
            <a:ext cx="288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8" name=""/>
          <p:cNvSpPr/>
          <p:nvPr/>
        </p:nvSpPr>
        <p:spPr>
          <a:xfrm>
            <a:off x="3497400" y="5546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139" name=""/>
          <p:cNvSpPr/>
          <p:nvPr/>
        </p:nvSpPr>
        <p:spPr>
          <a:xfrm>
            <a:off x="3551760" y="5546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40" name=""/>
          <p:cNvSpPr/>
          <p:nvPr/>
        </p:nvSpPr>
        <p:spPr>
          <a:xfrm flipV="1">
            <a:off x="444168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1" name=""/>
          <p:cNvSpPr/>
          <p:nvPr/>
        </p:nvSpPr>
        <p:spPr>
          <a:xfrm>
            <a:off x="444168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2" name=""/>
          <p:cNvSpPr/>
          <p:nvPr/>
        </p:nvSpPr>
        <p:spPr>
          <a:xfrm>
            <a:off x="441468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143" name=""/>
          <p:cNvSpPr/>
          <p:nvPr/>
        </p:nvSpPr>
        <p:spPr>
          <a:xfrm flipV="1">
            <a:off x="528156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4" name=""/>
          <p:cNvSpPr/>
          <p:nvPr/>
        </p:nvSpPr>
        <p:spPr>
          <a:xfrm>
            <a:off x="528156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5" name=""/>
          <p:cNvSpPr/>
          <p:nvPr/>
        </p:nvSpPr>
        <p:spPr>
          <a:xfrm>
            <a:off x="5208840" y="5546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46" name=""/>
          <p:cNvSpPr/>
          <p:nvPr/>
        </p:nvSpPr>
        <p:spPr>
          <a:xfrm flipV="1">
            <a:off x="6119640" y="54446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7" name=""/>
          <p:cNvSpPr/>
          <p:nvPr/>
        </p:nvSpPr>
        <p:spPr>
          <a:xfrm>
            <a:off x="6119640" y="28321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8" name=""/>
          <p:cNvSpPr/>
          <p:nvPr/>
        </p:nvSpPr>
        <p:spPr>
          <a:xfrm>
            <a:off x="609300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49" name=""/>
          <p:cNvSpPr/>
          <p:nvPr/>
        </p:nvSpPr>
        <p:spPr>
          <a:xfrm>
            <a:off x="2770200" y="547848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0" name=""/>
          <p:cNvSpPr/>
          <p:nvPr/>
        </p:nvSpPr>
        <p:spPr>
          <a:xfrm flipH="1">
            <a:off x="6087960" y="547848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1" name=""/>
          <p:cNvSpPr/>
          <p:nvPr/>
        </p:nvSpPr>
        <p:spPr>
          <a:xfrm>
            <a:off x="2481120" y="54212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152" name=""/>
          <p:cNvSpPr/>
          <p:nvPr/>
        </p:nvSpPr>
        <p:spPr>
          <a:xfrm>
            <a:off x="2535480" y="54212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53" name=""/>
          <p:cNvSpPr/>
          <p:nvPr/>
        </p:nvSpPr>
        <p:spPr>
          <a:xfrm>
            <a:off x="2770200" y="481320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4" name=""/>
          <p:cNvSpPr/>
          <p:nvPr/>
        </p:nvSpPr>
        <p:spPr>
          <a:xfrm flipH="1">
            <a:off x="6087960" y="481320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5" name=""/>
          <p:cNvSpPr/>
          <p:nvPr/>
        </p:nvSpPr>
        <p:spPr>
          <a:xfrm>
            <a:off x="2606760" y="4756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156" name=""/>
          <p:cNvSpPr/>
          <p:nvPr/>
        </p:nvSpPr>
        <p:spPr>
          <a:xfrm>
            <a:off x="2770200" y="415440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7" name=""/>
          <p:cNvSpPr/>
          <p:nvPr/>
        </p:nvSpPr>
        <p:spPr>
          <a:xfrm flipH="1">
            <a:off x="6087960" y="415440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8" name=""/>
          <p:cNvSpPr/>
          <p:nvPr/>
        </p:nvSpPr>
        <p:spPr>
          <a:xfrm>
            <a:off x="2516400" y="40971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59" name=""/>
          <p:cNvSpPr/>
          <p:nvPr/>
        </p:nvSpPr>
        <p:spPr>
          <a:xfrm>
            <a:off x="2770200" y="349092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flipH="1">
            <a:off x="6087960" y="349092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1" name=""/>
          <p:cNvSpPr/>
          <p:nvPr/>
        </p:nvSpPr>
        <p:spPr>
          <a:xfrm>
            <a:off x="2606760" y="343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62" name=""/>
          <p:cNvSpPr/>
          <p:nvPr/>
        </p:nvSpPr>
        <p:spPr>
          <a:xfrm>
            <a:off x="2770200" y="28321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3" name=""/>
          <p:cNvSpPr/>
          <p:nvPr/>
        </p:nvSpPr>
        <p:spPr>
          <a:xfrm flipH="1">
            <a:off x="6087960" y="283212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4" name=""/>
          <p:cNvSpPr/>
          <p:nvPr/>
        </p:nvSpPr>
        <p:spPr>
          <a:xfrm>
            <a:off x="2516400" y="2774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2165" name=""/>
          <p:cNvSpPr/>
          <p:nvPr/>
        </p:nvSpPr>
        <p:spPr>
          <a:xfrm>
            <a:off x="2770200" y="2928960"/>
            <a:ext cx="1290600" cy="2448000"/>
          </a:xfrm>
          <a:custGeom>
            <a:avLst/>
            <a:gdLst/>
            <a:ahLst/>
            <a:rect l="l" t="t" r="r" b="b"/>
            <a:pathLst>
              <a:path w="813" h="1542">
                <a:moveTo>
                  <a:pt x="0" y="1187"/>
                </a:moveTo>
                <a:lnTo>
                  <a:pt x="3" y="1187"/>
                </a:lnTo>
                <a:lnTo>
                  <a:pt x="7" y="1187"/>
                </a:lnTo>
                <a:lnTo>
                  <a:pt x="14" y="1187"/>
                </a:lnTo>
                <a:lnTo>
                  <a:pt x="22" y="1187"/>
                </a:lnTo>
                <a:lnTo>
                  <a:pt x="28" y="1187"/>
                </a:lnTo>
                <a:lnTo>
                  <a:pt x="36" y="1187"/>
                </a:lnTo>
                <a:lnTo>
                  <a:pt x="39" y="1187"/>
                </a:lnTo>
                <a:lnTo>
                  <a:pt x="46" y="1187"/>
                </a:lnTo>
                <a:lnTo>
                  <a:pt x="53" y="1187"/>
                </a:lnTo>
                <a:lnTo>
                  <a:pt x="61" y="1187"/>
                </a:lnTo>
                <a:lnTo>
                  <a:pt x="67" y="1187"/>
                </a:lnTo>
                <a:lnTo>
                  <a:pt x="75" y="1187"/>
                </a:lnTo>
                <a:lnTo>
                  <a:pt x="78" y="1187"/>
                </a:lnTo>
                <a:lnTo>
                  <a:pt x="85" y="1187"/>
                </a:lnTo>
                <a:lnTo>
                  <a:pt x="92" y="1187"/>
                </a:lnTo>
                <a:lnTo>
                  <a:pt x="100" y="1187"/>
                </a:lnTo>
                <a:lnTo>
                  <a:pt x="106" y="1187"/>
                </a:lnTo>
                <a:lnTo>
                  <a:pt x="110" y="1187"/>
                </a:lnTo>
                <a:lnTo>
                  <a:pt x="118" y="1187"/>
                </a:lnTo>
                <a:lnTo>
                  <a:pt x="124" y="1187"/>
                </a:lnTo>
                <a:lnTo>
                  <a:pt x="131" y="1187"/>
                </a:lnTo>
                <a:lnTo>
                  <a:pt x="138" y="1187"/>
                </a:lnTo>
                <a:lnTo>
                  <a:pt x="141" y="1187"/>
                </a:lnTo>
                <a:lnTo>
                  <a:pt x="149" y="1187"/>
                </a:lnTo>
                <a:lnTo>
                  <a:pt x="157" y="1187"/>
                </a:lnTo>
                <a:lnTo>
                  <a:pt x="163" y="1187"/>
                </a:lnTo>
                <a:lnTo>
                  <a:pt x="170" y="1187"/>
                </a:lnTo>
                <a:lnTo>
                  <a:pt x="177" y="1187"/>
                </a:lnTo>
                <a:lnTo>
                  <a:pt x="180" y="1187"/>
                </a:lnTo>
                <a:lnTo>
                  <a:pt x="188" y="1187"/>
                </a:lnTo>
                <a:lnTo>
                  <a:pt x="196" y="1187"/>
                </a:lnTo>
                <a:lnTo>
                  <a:pt x="202" y="1187"/>
                </a:lnTo>
                <a:lnTo>
                  <a:pt x="209" y="1187"/>
                </a:lnTo>
                <a:lnTo>
                  <a:pt x="213" y="1187"/>
                </a:lnTo>
                <a:lnTo>
                  <a:pt x="220" y="1187"/>
                </a:lnTo>
                <a:lnTo>
                  <a:pt x="227" y="1187"/>
                </a:lnTo>
                <a:lnTo>
                  <a:pt x="235" y="1187"/>
                </a:lnTo>
                <a:lnTo>
                  <a:pt x="241" y="1187"/>
                </a:lnTo>
                <a:lnTo>
                  <a:pt x="245" y="1187"/>
                </a:lnTo>
                <a:lnTo>
                  <a:pt x="252" y="1187"/>
                </a:lnTo>
                <a:lnTo>
                  <a:pt x="259" y="1187"/>
                </a:lnTo>
                <a:lnTo>
                  <a:pt x="266" y="1187"/>
                </a:lnTo>
                <a:lnTo>
                  <a:pt x="274" y="1187"/>
                </a:lnTo>
                <a:lnTo>
                  <a:pt x="280" y="1187"/>
                </a:lnTo>
                <a:lnTo>
                  <a:pt x="284" y="1187"/>
                </a:lnTo>
                <a:lnTo>
                  <a:pt x="291" y="1187"/>
                </a:lnTo>
                <a:lnTo>
                  <a:pt x="298" y="1187"/>
                </a:lnTo>
                <a:lnTo>
                  <a:pt x="305" y="1187"/>
                </a:lnTo>
                <a:lnTo>
                  <a:pt x="311" y="1187"/>
                </a:lnTo>
                <a:lnTo>
                  <a:pt x="315" y="1187"/>
                </a:lnTo>
                <a:lnTo>
                  <a:pt x="323" y="1187"/>
                </a:lnTo>
                <a:lnTo>
                  <a:pt x="330" y="1187"/>
                </a:lnTo>
                <a:lnTo>
                  <a:pt x="337" y="1187"/>
                </a:lnTo>
                <a:lnTo>
                  <a:pt x="344" y="1187"/>
                </a:lnTo>
                <a:lnTo>
                  <a:pt x="348" y="1187"/>
                </a:lnTo>
                <a:lnTo>
                  <a:pt x="354" y="1187"/>
                </a:lnTo>
                <a:lnTo>
                  <a:pt x="362" y="1187"/>
                </a:lnTo>
                <a:lnTo>
                  <a:pt x="369" y="1187"/>
                </a:lnTo>
                <a:lnTo>
                  <a:pt x="376" y="1187"/>
                </a:lnTo>
                <a:lnTo>
                  <a:pt x="383" y="1187"/>
                </a:lnTo>
                <a:lnTo>
                  <a:pt x="387" y="1187"/>
                </a:lnTo>
                <a:lnTo>
                  <a:pt x="393" y="1187"/>
                </a:lnTo>
                <a:lnTo>
                  <a:pt x="401" y="1187"/>
                </a:lnTo>
                <a:lnTo>
                  <a:pt x="408" y="1187"/>
                </a:lnTo>
                <a:lnTo>
                  <a:pt x="415" y="1187"/>
                </a:lnTo>
                <a:lnTo>
                  <a:pt x="419" y="1187"/>
                </a:lnTo>
                <a:lnTo>
                  <a:pt x="426" y="1187"/>
                </a:lnTo>
                <a:lnTo>
                  <a:pt x="432" y="1187"/>
                </a:lnTo>
                <a:lnTo>
                  <a:pt x="440" y="1187"/>
                </a:lnTo>
                <a:lnTo>
                  <a:pt x="447" y="1187"/>
                </a:lnTo>
                <a:lnTo>
                  <a:pt x="450" y="1187"/>
                </a:lnTo>
                <a:lnTo>
                  <a:pt x="458" y="1187"/>
                </a:lnTo>
                <a:lnTo>
                  <a:pt x="465" y="1187"/>
                </a:lnTo>
                <a:lnTo>
                  <a:pt x="471" y="1187"/>
                </a:lnTo>
                <a:lnTo>
                  <a:pt x="479" y="1191"/>
                </a:lnTo>
                <a:lnTo>
                  <a:pt x="485" y="1191"/>
                </a:lnTo>
                <a:lnTo>
                  <a:pt x="489" y="1187"/>
                </a:lnTo>
                <a:lnTo>
                  <a:pt x="497" y="1184"/>
                </a:lnTo>
                <a:lnTo>
                  <a:pt x="504" y="1184"/>
                </a:lnTo>
                <a:lnTo>
                  <a:pt x="511" y="1181"/>
                </a:lnTo>
                <a:lnTo>
                  <a:pt x="518" y="1184"/>
                </a:lnTo>
                <a:lnTo>
                  <a:pt x="522" y="1184"/>
                </a:lnTo>
                <a:lnTo>
                  <a:pt x="528" y="1187"/>
                </a:lnTo>
                <a:lnTo>
                  <a:pt x="536" y="1187"/>
                </a:lnTo>
                <a:lnTo>
                  <a:pt x="543" y="1187"/>
                </a:lnTo>
                <a:lnTo>
                  <a:pt x="549" y="1187"/>
                </a:lnTo>
                <a:lnTo>
                  <a:pt x="553" y="1184"/>
                </a:lnTo>
                <a:lnTo>
                  <a:pt x="561" y="1184"/>
                </a:lnTo>
                <a:lnTo>
                  <a:pt x="567" y="1191"/>
                </a:lnTo>
                <a:lnTo>
                  <a:pt x="575" y="1199"/>
                </a:lnTo>
                <a:lnTo>
                  <a:pt x="582" y="1205"/>
                </a:lnTo>
                <a:lnTo>
                  <a:pt x="589" y="1209"/>
                </a:lnTo>
                <a:lnTo>
                  <a:pt x="592" y="1201"/>
                </a:lnTo>
                <a:lnTo>
                  <a:pt x="600" y="1181"/>
                </a:lnTo>
                <a:lnTo>
                  <a:pt x="606" y="1148"/>
                </a:lnTo>
                <a:lnTo>
                  <a:pt x="614" y="1120"/>
                </a:lnTo>
                <a:lnTo>
                  <a:pt x="621" y="1107"/>
                </a:lnTo>
                <a:lnTo>
                  <a:pt x="624" y="1120"/>
                </a:lnTo>
                <a:lnTo>
                  <a:pt x="631" y="1166"/>
                </a:lnTo>
                <a:lnTo>
                  <a:pt x="639" y="1240"/>
                </a:lnTo>
                <a:lnTo>
                  <a:pt x="645" y="1326"/>
                </a:lnTo>
                <a:lnTo>
                  <a:pt x="653" y="1387"/>
                </a:lnTo>
                <a:lnTo>
                  <a:pt x="657" y="1389"/>
                </a:lnTo>
                <a:lnTo>
                  <a:pt x="663" y="1305"/>
                </a:lnTo>
                <a:lnTo>
                  <a:pt x="670" y="1127"/>
                </a:lnTo>
                <a:lnTo>
                  <a:pt x="678" y="868"/>
                </a:lnTo>
                <a:lnTo>
                  <a:pt x="684" y="574"/>
                </a:lnTo>
                <a:lnTo>
                  <a:pt x="692" y="290"/>
                </a:lnTo>
                <a:lnTo>
                  <a:pt x="696" y="84"/>
                </a:lnTo>
                <a:lnTo>
                  <a:pt x="702" y="0"/>
                </a:lnTo>
                <a:lnTo>
                  <a:pt x="709" y="59"/>
                </a:lnTo>
                <a:lnTo>
                  <a:pt x="717" y="251"/>
                </a:lnTo>
                <a:lnTo>
                  <a:pt x="723" y="535"/>
                </a:lnTo>
                <a:lnTo>
                  <a:pt x="727" y="858"/>
                </a:lnTo>
                <a:lnTo>
                  <a:pt x="735" y="1156"/>
                </a:lnTo>
                <a:lnTo>
                  <a:pt x="741" y="1383"/>
                </a:lnTo>
                <a:lnTo>
                  <a:pt x="749" y="1511"/>
                </a:lnTo>
                <a:lnTo>
                  <a:pt x="756" y="1542"/>
                </a:lnTo>
                <a:lnTo>
                  <a:pt x="762" y="1500"/>
                </a:lnTo>
                <a:lnTo>
                  <a:pt x="766" y="1418"/>
                </a:lnTo>
                <a:lnTo>
                  <a:pt x="774" y="1330"/>
                </a:lnTo>
                <a:lnTo>
                  <a:pt x="780" y="1266"/>
                </a:lnTo>
                <a:lnTo>
                  <a:pt x="788" y="1234"/>
                </a:lnTo>
                <a:lnTo>
                  <a:pt x="795" y="1238"/>
                </a:lnTo>
                <a:lnTo>
                  <a:pt x="798" y="1262"/>
                </a:lnTo>
                <a:lnTo>
                  <a:pt x="805" y="1297"/>
                </a:lnTo>
                <a:lnTo>
                  <a:pt x="813" y="1322"/>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060800" y="2928960"/>
            <a:ext cx="1293840" cy="2448000"/>
          </a:xfrm>
          <a:custGeom>
            <a:avLst/>
            <a:gdLst/>
            <a:ahLst/>
            <a:rect l="l" t="t" r="r" b="b"/>
            <a:pathLst>
              <a:path w="815" h="1542">
                <a:moveTo>
                  <a:pt x="0" y="1322"/>
                </a:moveTo>
                <a:lnTo>
                  <a:pt x="6" y="1336"/>
                </a:lnTo>
                <a:lnTo>
                  <a:pt x="14" y="1340"/>
                </a:lnTo>
                <a:lnTo>
                  <a:pt x="17" y="1333"/>
                </a:lnTo>
                <a:lnTo>
                  <a:pt x="24" y="1322"/>
                </a:lnTo>
                <a:lnTo>
                  <a:pt x="31" y="1315"/>
                </a:lnTo>
                <a:lnTo>
                  <a:pt x="39" y="1312"/>
                </a:lnTo>
                <a:lnTo>
                  <a:pt x="45" y="1312"/>
                </a:lnTo>
                <a:lnTo>
                  <a:pt x="53" y="1315"/>
                </a:lnTo>
                <a:lnTo>
                  <a:pt x="56" y="1315"/>
                </a:lnTo>
                <a:lnTo>
                  <a:pt x="63" y="1315"/>
                </a:lnTo>
                <a:lnTo>
                  <a:pt x="70" y="1312"/>
                </a:lnTo>
                <a:lnTo>
                  <a:pt x="78" y="1309"/>
                </a:lnTo>
                <a:lnTo>
                  <a:pt x="84" y="1309"/>
                </a:lnTo>
                <a:lnTo>
                  <a:pt x="88" y="1309"/>
                </a:lnTo>
                <a:lnTo>
                  <a:pt x="95" y="1312"/>
                </a:lnTo>
                <a:lnTo>
                  <a:pt x="102" y="1312"/>
                </a:lnTo>
                <a:lnTo>
                  <a:pt x="109" y="1315"/>
                </a:lnTo>
                <a:lnTo>
                  <a:pt x="117" y="1315"/>
                </a:lnTo>
                <a:lnTo>
                  <a:pt x="120" y="1315"/>
                </a:lnTo>
                <a:lnTo>
                  <a:pt x="127" y="1315"/>
                </a:lnTo>
                <a:lnTo>
                  <a:pt x="135" y="1312"/>
                </a:lnTo>
                <a:lnTo>
                  <a:pt x="141" y="1312"/>
                </a:lnTo>
                <a:lnTo>
                  <a:pt x="148" y="1312"/>
                </a:lnTo>
                <a:lnTo>
                  <a:pt x="156" y="1312"/>
                </a:lnTo>
                <a:lnTo>
                  <a:pt x="159" y="1312"/>
                </a:lnTo>
                <a:lnTo>
                  <a:pt x="166" y="1312"/>
                </a:lnTo>
                <a:lnTo>
                  <a:pt x="174" y="1312"/>
                </a:lnTo>
                <a:lnTo>
                  <a:pt x="180" y="1312"/>
                </a:lnTo>
                <a:lnTo>
                  <a:pt x="188" y="1312"/>
                </a:lnTo>
                <a:lnTo>
                  <a:pt x="191" y="1312"/>
                </a:lnTo>
                <a:lnTo>
                  <a:pt x="197" y="1312"/>
                </a:lnTo>
                <a:lnTo>
                  <a:pt x="205" y="1312"/>
                </a:lnTo>
                <a:lnTo>
                  <a:pt x="213" y="1312"/>
                </a:lnTo>
                <a:lnTo>
                  <a:pt x="219" y="1315"/>
                </a:lnTo>
                <a:lnTo>
                  <a:pt x="223" y="1315"/>
                </a:lnTo>
                <a:lnTo>
                  <a:pt x="230" y="1312"/>
                </a:lnTo>
                <a:lnTo>
                  <a:pt x="237" y="1312"/>
                </a:lnTo>
                <a:lnTo>
                  <a:pt x="244" y="1312"/>
                </a:lnTo>
                <a:lnTo>
                  <a:pt x="252" y="1312"/>
                </a:lnTo>
                <a:lnTo>
                  <a:pt x="258" y="1312"/>
                </a:lnTo>
                <a:lnTo>
                  <a:pt x="262" y="1315"/>
                </a:lnTo>
                <a:lnTo>
                  <a:pt x="269" y="1315"/>
                </a:lnTo>
                <a:lnTo>
                  <a:pt x="276" y="1312"/>
                </a:lnTo>
                <a:lnTo>
                  <a:pt x="283" y="1312"/>
                </a:lnTo>
                <a:lnTo>
                  <a:pt x="291" y="1312"/>
                </a:lnTo>
                <a:lnTo>
                  <a:pt x="293" y="1312"/>
                </a:lnTo>
                <a:lnTo>
                  <a:pt x="301" y="1312"/>
                </a:lnTo>
                <a:lnTo>
                  <a:pt x="308" y="1312"/>
                </a:lnTo>
                <a:lnTo>
                  <a:pt x="315" y="1312"/>
                </a:lnTo>
                <a:lnTo>
                  <a:pt x="322" y="1312"/>
                </a:lnTo>
                <a:lnTo>
                  <a:pt x="326" y="1312"/>
                </a:lnTo>
                <a:lnTo>
                  <a:pt x="332" y="1312"/>
                </a:lnTo>
                <a:lnTo>
                  <a:pt x="340" y="1312"/>
                </a:lnTo>
                <a:lnTo>
                  <a:pt x="347" y="1312"/>
                </a:lnTo>
                <a:lnTo>
                  <a:pt x="354" y="1312"/>
                </a:lnTo>
                <a:lnTo>
                  <a:pt x="361" y="1315"/>
                </a:lnTo>
                <a:lnTo>
                  <a:pt x="365" y="1315"/>
                </a:lnTo>
                <a:lnTo>
                  <a:pt x="371" y="1315"/>
                </a:lnTo>
                <a:lnTo>
                  <a:pt x="379" y="1315"/>
                </a:lnTo>
                <a:lnTo>
                  <a:pt x="386" y="1312"/>
                </a:lnTo>
                <a:lnTo>
                  <a:pt x="393" y="1312"/>
                </a:lnTo>
                <a:lnTo>
                  <a:pt x="397" y="1309"/>
                </a:lnTo>
                <a:lnTo>
                  <a:pt x="404" y="1309"/>
                </a:lnTo>
                <a:lnTo>
                  <a:pt x="410" y="1309"/>
                </a:lnTo>
                <a:lnTo>
                  <a:pt x="418" y="1312"/>
                </a:lnTo>
                <a:lnTo>
                  <a:pt x="426" y="1315"/>
                </a:lnTo>
                <a:lnTo>
                  <a:pt x="428" y="1315"/>
                </a:lnTo>
                <a:lnTo>
                  <a:pt x="436" y="1315"/>
                </a:lnTo>
                <a:lnTo>
                  <a:pt x="443" y="1312"/>
                </a:lnTo>
                <a:lnTo>
                  <a:pt x="449" y="1312"/>
                </a:lnTo>
                <a:lnTo>
                  <a:pt x="457" y="1315"/>
                </a:lnTo>
                <a:lnTo>
                  <a:pt x="465" y="1322"/>
                </a:lnTo>
                <a:lnTo>
                  <a:pt x="467" y="1333"/>
                </a:lnTo>
                <a:lnTo>
                  <a:pt x="475" y="1340"/>
                </a:lnTo>
                <a:lnTo>
                  <a:pt x="482" y="1336"/>
                </a:lnTo>
                <a:lnTo>
                  <a:pt x="488" y="1322"/>
                </a:lnTo>
                <a:lnTo>
                  <a:pt x="496" y="1297"/>
                </a:lnTo>
                <a:lnTo>
                  <a:pt x="500" y="1262"/>
                </a:lnTo>
                <a:lnTo>
                  <a:pt x="506" y="1238"/>
                </a:lnTo>
                <a:lnTo>
                  <a:pt x="514" y="1234"/>
                </a:lnTo>
                <a:lnTo>
                  <a:pt x="521" y="1266"/>
                </a:lnTo>
                <a:lnTo>
                  <a:pt x="528" y="1330"/>
                </a:lnTo>
                <a:lnTo>
                  <a:pt x="531" y="1418"/>
                </a:lnTo>
                <a:lnTo>
                  <a:pt x="539" y="1500"/>
                </a:lnTo>
                <a:lnTo>
                  <a:pt x="545" y="1542"/>
                </a:lnTo>
                <a:lnTo>
                  <a:pt x="553" y="1511"/>
                </a:lnTo>
                <a:lnTo>
                  <a:pt x="560" y="1383"/>
                </a:lnTo>
                <a:lnTo>
                  <a:pt x="567" y="1156"/>
                </a:lnTo>
                <a:lnTo>
                  <a:pt x="570" y="858"/>
                </a:lnTo>
                <a:lnTo>
                  <a:pt x="578" y="535"/>
                </a:lnTo>
                <a:lnTo>
                  <a:pt x="584" y="251"/>
                </a:lnTo>
                <a:lnTo>
                  <a:pt x="592" y="59"/>
                </a:lnTo>
                <a:lnTo>
                  <a:pt x="599" y="0"/>
                </a:lnTo>
                <a:lnTo>
                  <a:pt x="602" y="84"/>
                </a:lnTo>
                <a:lnTo>
                  <a:pt x="609" y="290"/>
                </a:lnTo>
                <a:lnTo>
                  <a:pt x="617" y="574"/>
                </a:lnTo>
                <a:lnTo>
                  <a:pt x="623" y="868"/>
                </a:lnTo>
                <a:lnTo>
                  <a:pt x="631" y="1127"/>
                </a:lnTo>
                <a:lnTo>
                  <a:pt x="638" y="1305"/>
                </a:lnTo>
                <a:lnTo>
                  <a:pt x="641" y="1389"/>
                </a:lnTo>
                <a:lnTo>
                  <a:pt x="649" y="1387"/>
                </a:lnTo>
                <a:lnTo>
                  <a:pt x="656" y="1326"/>
                </a:lnTo>
                <a:lnTo>
                  <a:pt x="662" y="1240"/>
                </a:lnTo>
                <a:lnTo>
                  <a:pt x="670" y="1166"/>
                </a:lnTo>
                <a:lnTo>
                  <a:pt x="674" y="1121"/>
                </a:lnTo>
                <a:lnTo>
                  <a:pt x="680" y="1107"/>
                </a:lnTo>
                <a:lnTo>
                  <a:pt x="688" y="1121"/>
                </a:lnTo>
                <a:lnTo>
                  <a:pt x="695" y="1148"/>
                </a:lnTo>
                <a:lnTo>
                  <a:pt x="701" y="1181"/>
                </a:lnTo>
                <a:lnTo>
                  <a:pt x="705" y="1201"/>
                </a:lnTo>
                <a:lnTo>
                  <a:pt x="713" y="1209"/>
                </a:lnTo>
                <a:lnTo>
                  <a:pt x="719" y="1205"/>
                </a:lnTo>
                <a:lnTo>
                  <a:pt x="727" y="1199"/>
                </a:lnTo>
                <a:lnTo>
                  <a:pt x="734" y="1191"/>
                </a:lnTo>
                <a:lnTo>
                  <a:pt x="740" y="1184"/>
                </a:lnTo>
                <a:lnTo>
                  <a:pt x="744" y="1184"/>
                </a:lnTo>
                <a:lnTo>
                  <a:pt x="752" y="1187"/>
                </a:lnTo>
                <a:lnTo>
                  <a:pt x="758" y="1187"/>
                </a:lnTo>
                <a:lnTo>
                  <a:pt x="766" y="1187"/>
                </a:lnTo>
                <a:lnTo>
                  <a:pt x="773" y="1187"/>
                </a:lnTo>
                <a:lnTo>
                  <a:pt x="776" y="1184"/>
                </a:lnTo>
                <a:lnTo>
                  <a:pt x="783" y="1184"/>
                </a:lnTo>
                <a:lnTo>
                  <a:pt x="791" y="1181"/>
                </a:lnTo>
                <a:lnTo>
                  <a:pt x="797" y="1184"/>
                </a:lnTo>
                <a:lnTo>
                  <a:pt x="805" y="1184"/>
                </a:lnTo>
                <a:lnTo>
                  <a:pt x="808" y="1187"/>
                </a:lnTo>
                <a:lnTo>
                  <a:pt x="815" y="1191"/>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5354640" y="4813200"/>
            <a:ext cx="771480" cy="6480"/>
          </a:xfrm>
          <a:custGeom>
            <a:avLst/>
            <a:gdLst/>
            <a:ahLst/>
            <a:rect l="l" t="t" r="r" b="b"/>
            <a:pathLst>
              <a:path w="486" h="4">
                <a:moveTo>
                  <a:pt x="0" y="4"/>
                </a:moveTo>
                <a:lnTo>
                  <a:pt x="7" y="4"/>
                </a:lnTo>
                <a:lnTo>
                  <a:pt x="15" y="0"/>
                </a:lnTo>
                <a:lnTo>
                  <a:pt x="21" y="0"/>
                </a:lnTo>
                <a:lnTo>
                  <a:pt x="29" y="0"/>
                </a:lnTo>
                <a:lnTo>
                  <a:pt x="32" y="0"/>
                </a:lnTo>
                <a:lnTo>
                  <a:pt x="39" y="0"/>
                </a:lnTo>
                <a:lnTo>
                  <a:pt x="46" y="0"/>
                </a:lnTo>
                <a:lnTo>
                  <a:pt x="54" y="0"/>
                </a:lnTo>
                <a:lnTo>
                  <a:pt x="60" y="0"/>
                </a:lnTo>
                <a:lnTo>
                  <a:pt x="64" y="0"/>
                </a:lnTo>
                <a:lnTo>
                  <a:pt x="72" y="0"/>
                </a:lnTo>
                <a:lnTo>
                  <a:pt x="78" y="0"/>
                </a:lnTo>
                <a:lnTo>
                  <a:pt x="85" y="0"/>
                </a:lnTo>
                <a:lnTo>
                  <a:pt x="93" y="0"/>
                </a:lnTo>
                <a:lnTo>
                  <a:pt x="95" y="0"/>
                </a:lnTo>
                <a:lnTo>
                  <a:pt x="103" y="0"/>
                </a:lnTo>
                <a:lnTo>
                  <a:pt x="111" y="0"/>
                </a:lnTo>
                <a:lnTo>
                  <a:pt x="117" y="0"/>
                </a:lnTo>
                <a:lnTo>
                  <a:pt x="124" y="0"/>
                </a:lnTo>
                <a:lnTo>
                  <a:pt x="132" y="0"/>
                </a:lnTo>
                <a:lnTo>
                  <a:pt x="134" y="0"/>
                </a:lnTo>
                <a:lnTo>
                  <a:pt x="142" y="0"/>
                </a:lnTo>
                <a:lnTo>
                  <a:pt x="150" y="0"/>
                </a:lnTo>
                <a:lnTo>
                  <a:pt x="156" y="0"/>
                </a:lnTo>
                <a:lnTo>
                  <a:pt x="163" y="0"/>
                </a:lnTo>
                <a:lnTo>
                  <a:pt x="167" y="0"/>
                </a:lnTo>
                <a:lnTo>
                  <a:pt x="174" y="0"/>
                </a:lnTo>
                <a:lnTo>
                  <a:pt x="181" y="0"/>
                </a:lnTo>
                <a:lnTo>
                  <a:pt x="189" y="0"/>
                </a:lnTo>
                <a:lnTo>
                  <a:pt x="195" y="0"/>
                </a:lnTo>
                <a:lnTo>
                  <a:pt x="199" y="0"/>
                </a:lnTo>
                <a:lnTo>
                  <a:pt x="206" y="0"/>
                </a:lnTo>
                <a:lnTo>
                  <a:pt x="213" y="0"/>
                </a:lnTo>
                <a:lnTo>
                  <a:pt x="220" y="0"/>
                </a:lnTo>
                <a:lnTo>
                  <a:pt x="228" y="0"/>
                </a:lnTo>
                <a:lnTo>
                  <a:pt x="234" y="0"/>
                </a:lnTo>
                <a:lnTo>
                  <a:pt x="238" y="0"/>
                </a:lnTo>
                <a:lnTo>
                  <a:pt x="245" y="0"/>
                </a:lnTo>
                <a:lnTo>
                  <a:pt x="252" y="0"/>
                </a:lnTo>
                <a:lnTo>
                  <a:pt x="259" y="0"/>
                </a:lnTo>
                <a:lnTo>
                  <a:pt x="267" y="0"/>
                </a:lnTo>
                <a:lnTo>
                  <a:pt x="269" y="0"/>
                </a:lnTo>
                <a:lnTo>
                  <a:pt x="277" y="0"/>
                </a:lnTo>
                <a:lnTo>
                  <a:pt x="284" y="0"/>
                </a:lnTo>
                <a:lnTo>
                  <a:pt x="291" y="0"/>
                </a:lnTo>
                <a:lnTo>
                  <a:pt x="298" y="0"/>
                </a:lnTo>
                <a:lnTo>
                  <a:pt x="302" y="0"/>
                </a:lnTo>
                <a:lnTo>
                  <a:pt x="308" y="0"/>
                </a:lnTo>
                <a:lnTo>
                  <a:pt x="316" y="0"/>
                </a:lnTo>
                <a:lnTo>
                  <a:pt x="323" y="0"/>
                </a:lnTo>
                <a:lnTo>
                  <a:pt x="330" y="0"/>
                </a:lnTo>
                <a:lnTo>
                  <a:pt x="337" y="0"/>
                </a:lnTo>
                <a:lnTo>
                  <a:pt x="341" y="0"/>
                </a:lnTo>
                <a:lnTo>
                  <a:pt x="347" y="0"/>
                </a:lnTo>
                <a:lnTo>
                  <a:pt x="355" y="0"/>
                </a:lnTo>
                <a:lnTo>
                  <a:pt x="363" y="0"/>
                </a:lnTo>
                <a:lnTo>
                  <a:pt x="369" y="0"/>
                </a:lnTo>
                <a:lnTo>
                  <a:pt x="373" y="0"/>
                </a:lnTo>
                <a:lnTo>
                  <a:pt x="380" y="0"/>
                </a:lnTo>
                <a:lnTo>
                  <a:pt x="386" y="0"/>
                </a:lnTo>
                <a:lnTo>
                  <a:pt x="394" y="0"/>
                </a:lnTo>
                <a:lnTo>
                  <a:pt x="402" y="0"/>
                </a:lnTo>
                <a:lnTo>
                  <a:pt x="404" y="0"/>
                </a:lnTo>
                <a:lnTo>
                  <a:pt x="412" y="0"/>
                </a:lnTo>
                <a:lnTo>
                  <a:pt x="419" y="0"/>
                </a:lnTo>
                <a:lnTo>
                  <a:pt x="425" y="0"/>
                </a:lnTo>
                <a:lnTo>
                  <a:pt x="433" y="0"/>
                </a:lnTo>
                <a:lnTo>
                  <a:pt x="441" y="0"/>
                </a:lnTo>
                <a:lnTo>
                  <a:pt x="443" y="0"/>
                </a:lnTo>
                <a:lnTo>
                  <a:pt x="451" y="0"/>
                </a:lnTo>
                <a:lnTo>
                  <a:pt x="458" y="0"/>
                </a:lnTo>
                <a:lnTo>
                  <a:pt x="465" y="0"/>
                </a:lnTo>
                <a:lnTo>
                  <a:pt x="472" y="0"/>
                </a:lnTo>
                <a:lnTo>
                  <a:pt x="476" y="0"/>
                </a:lnTo>
                <a:lnTo>
                  <a:pt x="482" y="0"/>
                </a:lnTo>
                <a:lnTo>
                  <a:pt x="486" y="0"/>
                </a:lnTo>
              </a:path>
            </a:pathLst>
          </a:custGeom>
          <a:noFill/>
          <a:ln w="15840">
            <a:solidFill>
              <a:srgbClr val="3333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8" name=""/>
          <p:cNvSpPr/>
          <p:nvPr/>
        </p:nvSpPr>
        <p:spPr>
          <a:xfrm rot="16200000">
            <a:off x="2034720" y="397548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litude</a:t>
            </a:r>
            <a:endParaRPr b="0" lang="en-US" sz="1300" spc="-1" strike="noStrike">
              <a:solidFill>
                <a:srgbClr val="000000"/>
              </a:solidFill>
              <a:latin typeface="Times New Roman"/>
            </a:endParaRPr>
          </a:p>
        </p:txBody>
      </p:sp>
      <p:sp>
        <p:nvSpPr>
          <p:cNvPr id="2169" name=""/>
          <p:cNvSpPr/>
          <p:nvPr/>
        </p:nvSpPr>
        <p:spPr>
          <a:xfrm>
            <a:off x="2770200" y="3029040"/>
            <a:ext cx="1289160" cy="2322360"/>
          </a:xfrm>
          <a:custGeom>
            <a:avLst/>
            <a:gdLst/>
            <a:ahLst/>
            <a:rect l="l" t="t" r="r" b="b"/>
            <a:pathLst>
              <a:path w="10739" h="19314">
                <a:moveTo>
                  <a:pt x="0" y="14779"/>
                </a:moveTo>
                <a:lnTo>
                  <a:pt x="33" y="14779"/>
                </a:lnTo>
                <a:lnTo>
                  <a:pt x="83" y="14779"/>
                </a:lnTo>
                <a:lnTo>
                  <a:pt x="183" y="14779"/>
                </a:lnTo>
                <a:lnTo>
                  <a:pt x="283" y="14779"/>
                </a:lnTo>
                <a:lnTo>
                  <a:pt x="366" y="14779"/>
                </a:lnTo>
                <a:lnTo>
                  <a:pt x="466" y="14779"/>
                </a:lnTo>
                <a:lnTo>
                  <a:pt x="516" y="14779"/>
                </a:lnTo>
                <a:lnTo>
                  <a:pt x="533" y="14779"/>
                </a:lnTo>
                <a:lnTo>
                  <a:pt x="533" y="14912"/>
                </a:lnTo>
                <a:lnTo>
                  <a:pt x="516" y="14912"/>
                </a:lnTo>
                <a:lnTo>
                  <a:pt x="466" y="14912"/>
                </a:lnTo>
                <a:lnTo>
                  <a:pt x="366" y="14912"/>
                </a:lnTo>
                <a:lnTo>
                  <a:pt x="283" y="14912"/>
                </a:lnTo>
                <a:lnTo>
                  <a:pt x="183" y="14912"/>
                </a:lnTo>
                <a:lnTo>
                  <a:pt x="83" y="14912"/>
                </a:lnTo>
                <a:lnTo>
                  <a:pt x="33" y="14912"/>
                </a:lnTo>
                <a:lnTo>
                  <a:pt x="0" y="14912"/>
                </a:lnTo>
                <a:lnTo>
                  <a:pt x="0" y="14779"/>
                </a:lnTo>
                <a:close/>
                <a:moveTo>
                  <a:pt x="933" y="14779"/>
                </a:moveTo>
                <a:lnTo>
                  <a:pt x="983" y="14779"/>
                </a:lnTo>
                <a:lnTo>
                  <a:pt x="1033" y="14779"/>
                </a:lnTo>
                <a:lnTo>
                  <a:pt x="1116" y="14779"/>
                </a:lnTo>
                <a:lnTo>
                  <a:pt x="1216" y="14779"/>
                </a:lnTo>
                <a:lnTo>
                  <a:pt x="1316" y="14779"/>
                </a:lnTo>
                <a:lnTo>
                  <a:pt x="1400" y="14779"/>
                </a:lnTo>
                <a:lnTo>
                  <a:pt x="1450" y="14779"/>
                </a:lnTo>
                <a:lnTo>
                  <a:pt x="1466" y="14779"/>
                </a:lnTo>
                <a:lnTo>
                  <a:pt x="1466" y="14912"/>
                </a:lnTo>
                <a:lnTo>
                  <a:pt x="1450" y="14912"/>
                </a:lnTo>
                <a:lnTo>
                  <a:pt x="1400" y="14912"/>
                </a:lnTo>
                <a:lnTo>
                  <a:pt x="1316" y="14912"/>
                </a:lnTo>
                <a:lnTo>
                  <a:pt x="1216" y="14912"/>
                </a:lnTo>
                <a:lnTo>
                  <a:pt x="1116" y="14912"/>
                </a:lnTo>
                <a:lnTo>
                  <a:pt x="1033" y="14912"/>
                </a:lnTo>
                <a:lnTo>
                  <a:pt x="983" y="14912"/>
                </a:lnTo>
                <a:lnTo>
                  <a:pt x="933" y="14912"/>
                </a:lnTo>
                <a:lnTo>
                  <a:pt x="933" y="14779"/>
                </a:lnTo>
                <a:close/>
                <a:moveTo>
                  <a:pt x="1866" y="14779"/>
                </a:moveTo>
                <a:lnTo>
                  <a:pt x="1866" y="14779"/>
                </a:lnTo>
                <a:lnTo>
                  <a:pt x="1966" y="14779"/>
                </a:lnTo>
                <a:lnTo>
                  <a:pt x="2066" y="14779"/>
                </a:lnTo>
                <a:lnTo>
                  <a:pt x="2150" y="14779"/>
                </a:lnTo>
                <a:lnTo>
                  <a:pt x="2250" y="14779"/>
                </a:lnTo>
                <a:lnTo>
                  <a:pt x="2333" y="14779"/>
                </a:lnTo>
                <a:lnTo>
                  <a:pt x="2383" y="14779"/>
                </a:lnTo>
                <a:lnTo>
                  <a:pt x="2400" y="14779"/>
                </a:lnTo>
                <a:lnTo>
                  <a:pt x="2400" y="14912"/>
                </a:lnTo>
                <a:lnTo>
                  <a:pt x="2383" y="14912"/>
                </a:lnTo>
                <a:lnTo>
                  <a:pt x="2333" y="14912"/>
                </a:lnTo>
                <a:lnTo>
                  <a:pt x="2250" y="14912"/>
                </a:lnTo>
                <a:lnTo>
                  <a:pt x="2150" y="14912"/>
                </a:lnTo>
                <a:lnTo>
                  <a:pt x="2066" y="14912"/>
                </a:lnTo>
                <a:lnTo>
                  <a:pt x="1966" y="14912"/>
                </a:lnTo>
                <a:lnTo>
                  <a:pt x="1866" y="14912"/>
                </a:lnTo>
                <a:lnTo>
                  <a:pt x="1866" y="14912"/>
                </a:lnTo>
                <a:lnTo>
                  <a:pt x="1866" y="14779"/>
                </a:lnTo>
                <a:close/>
                <a:moveTo>
                  <a:pt x="2800" y="14779"/>
                </a:moveTo>
                <a:lnTo>
                  <a:pt x="2816" y="14779"/>
                </a:lnTo>
                <a:lnTo>
                  <a:pt x="2900" y="14779"/>
                </a:lnTo>
                <a:lnTo>
                  <a:pt x="3000" y="14779"/>
                </a:lnTo>
                <a:lnTo>
                  <a:pt x="3100" y="14779"/>
                </a:lnTo>
                <a:lnTo>
                  <a:pt x="3183" y="14779"/>
                </a:lnTo>
                <a:lnTo>
                  <a:pt x="3233" y="14779"/>
                </a:lnTo>
                <a:lnTo>
                  <a:pt x="3333" y="14779"/>
                </a:lnTo>
                <a:lnTo>
                  <a:pt x="3333" y="14912"/>
                </a:lnTo>
                <a:lnTo>
                  <a:pt x="3233" y="14912"/>
                </a:lnTo>
                <a:lnTo>
                  <a:pt x="3183" y="14912"/>
                </a:lnTo>
                <a:lnTo>
                  <a:pt x="3100" y="14912"/>
                </a:lnTo>
                <a:lnTo>
                  <a:pt x="3000" y="14912"/>
                </a:lnTo>
                <a:lnTo>
                  <a:pt x="2900" y="14912"/>
                </a:lnTo>
                <a:lnTo>
                  <a:pt x="2816" y="14912"/>
                </a:lnTo>
                <a:lnTo>
                  <a:pt x="2800" y="14912"/>
                </a:lnTo>
                <a:lnTo>
                  <a:pt x="2800" y="14779"/>
                </a:lnTo>
                <a:close/>
                <a:moveTo>
                  <a:pt x="3733" y="14779"/>
                </a:moveTo>
                <a:lnTo>
                  <a:pt x="3750" y="14779"/>
                </a:lnTo>
                <a:lnTo>
                  <a:pt x="3850" y="14779"/>
                </a:lnTo>
                <a:lnTo>
                  <a:pt x="3933" y="14779"/>
                </a:lnTo>
                <a:lnTo>
                  <a:pt x="4033" y="14779"/>
                </a:lnTo>
                <a:lnTo>
                  <a:pt x="4116" y="14779"/>
                </a:lnTo>
                <a:lnTo>
                  <a:pt x="4166" y="14779"/>
                </a:lnTo>
                <a:lnTo>
                  <a:pt x="4266" y="14779"/>
                </a:lnTo>
                <a:lnTo>
                  <a:pt x="4266" y="14912"/>
                </a:lnTo>
                <a:lnTo>
                  <a:pt x="4166" y="14912"/>
                </a:lnTo>
                <a:lnTo>
                  <a:pt x="4116" y="14912"/>
                </a:lnTo>
                <a:lnTo>
                  <a:pt x="4033" y="14912"/>
                </a:lnTo>
                <a:lnTo>
                  <a:pt x="3933" y="14912"/>
                </a:lnTo>
                <a:lnTo>
                  <a:pt x="3850" y="14912"/>
                </a:lnTo>
                <a:lnTo>
                  <a:pt x="3750" y="14912"/>
                </a:lnTo>
                <a:lnTo>
                  <a:pt x="3733" y="14912"/>
                </a:lnTo>
                <a:lnTo>
                  <a:pt x="3733" y="14779"/>
                </a:lnTo>
                <a:close/>
                <a:moveTo>
                  <a:pt x="4666" y="14779"/>
                </a:moveTo>
                <a:lnTo>
                  <a:pt x="4683" y="14779"/>
                </a:lnTo>
                <a:lnTo>
                  <a:pt x="4783" y="14779"/>
                </a:lnTo>
                <a:lnTo>
                  <a:pt x="4883" y="14779"/>
                </a:lnTo>
                <a:lnTo>
                  <a:pt x="4966" y="14779"/>
                </a:lnTo>
                <a:lnTo>
                  <a:pt x="5066" y="14779"/>
                </a:lnTo>
                <a:lnTo>
                  <a:pt x="5116" y="14779"/>
                </a:lnTo>
                <a:lnTo>
                  <a:pt x="5200" y="14779"/>
                </a:lnTo>
                <a:lnTo>
                  <a:pt x="5200" y="14912"/>
                </a:lnTo>
                <a:lnTo>
                  <a:pt x="5116" y="14912"/>
                </a:lnTo>
                <a:lnTo>
                  <a:pt x="5066" y="14912"/>
                </a:lnTo>
                <a:lnTo>
                  <a:pt x="4966" y="14912"/>
                </a:lnTo>
                <a:lnTo>
                  <a:pt x="4883" y="14912"/>
                </a:lnTo>
                <a:lnTo>
                  <a:pt x="4783" y="14912"/>
                </a:lnTo>
                <a:lnTo>
                  <a:pt x="4683" y="14912"/>
                </a:lnTo>
                <a:lnTo>
                  <a:pt x="4666" y="14912"/>
                </a:lnTo>
                <a:lnTo>
                  <a:pt x="4666" y="14779"/>
                </a:lnTo>
                <a:close/>
                <a:moveTo>
                  <a:pt x="5600" y="14779"/>
                </a:moveTo>
                <a:lnTo>
                  <a:pt x="5633" y="14779"/>
                </a:lnTo>
                <a:lnTo>
                  <a:pt x="5716" y="14779"/>
                </a:lnTo>
                <a:lnTo>
                  <a:pt x="5816" y="14779"/>
                </a:lnTo>
                <a:lnTo>
                  <a:pt x="5916" y="14779"/>
                </a:lnTo>
                <a:lnTo>
                  <a:pt x="5950" y="14779"/>
                </a:lnTo>
                <a:lnTo>
                  <a:pt x="6050" y="14779"/>
                </a:lnTo>
                <a:lnTo>
                  <a:pt x="6133" y="14779"/>
                </a:lnTo>
                <a:lnTo>
                  <a:pt x="6133" y="14912"/>
                </a:lnTo>
                <a:lnTo>
                  <a:pt x="6050" y="14912"/>
                </a:lnTo>
                <a:lnTo>
                  <a:pt x="5950" y="14912"/>
                </a:lnTo>
                <a:lnTo>
                  <a:pt x="5916" y="14912"/>
                </a:lnTo>
                <a:lnTo>
                  <a:pt x="5816" y="14912"/>
                </a:lnTo>
                <a:lnTo>
                  <a:pt x="5716" y="14912"/>
                </a:lnTo>
                <a:lnTo>
                  <a:pt x="5633" y="14912"/>
                </a:lnTo>
                <a:lnTo>
                  <a:pt x="5600" y="14912"/>
                </a:lnTo>
                <a:lnTo>
                  <a:pt x="5600" y="14779"/>
                </a:lnTo>
                <a:close/>
                <a:moveTo>
                  <a:pt x="6467" y="14771"/>
                </a:moveTo>
                <a:lnTo>
                  <a:pt x="6537" y="14736"/>
                </a:lnTo>
                <a:cubicBezTo>
                  <a:pt x="6546" y="14731"/>
                  <a:pt x="6556" y="14729"/>
                  <a:pt x="6566" y="14729"/>
                </a:cubicBezTo>
                <a:lnTo>
                  <a:pt x="6666" y="14729"/>
                </a:lnTo>
                <a:lnTo>
                  <a:pt x="6642" y="14734"/>
                </a:lnTo>
                <a:lnTo>
                  <a:pt x="6725" y="14700"/>
                </a:lnTo>
                <a:cubicBezTo>
                  <a:pt x="6740" y="14694"/>
                  <a:pt x="6756" y="14694"/>
                  <a:pt x="6771" y="14699"/>
                </a:cubicBezTo>
                <a:lnTo>
                  <a:pt x="6871" y="14732"/>
                </a:lnTo>
                <a:lnTo>
                  <a:pt x="6850" y="14729"/>
                </a:lnTo>
                <a:lnTo>
                  <a:pt x="6900" y="14729"/>
                </a:lnTo>
                <a:cubicBezTo>
                  <a:pt x="6912" y="14729"/>
                  <a:pt x="6924" y="14732"/>
                  <a:pt x="6934" y="14738"/>
                </a:cubicBezTo>
                <a:lnTo>
                  <a:pt x="7017" y="14788"/>
                </a:lnTo>
                <a:lnTo>
                  <a:pt x="6983" y="14779"/>
                </a:lnTo>
                <a:lnTo>
                  <a:pt x="6996" y="14779"/>
                </a:lnTo>
                <a:lnTo>
                  <a:pt x="6996" y="14912"/>
                </a:lnTo>
                <a:lnTo>
                  <a:pt x="6983" y="14912"/>
                </a:lnTo>
                <a:cubicBezTo>
                  <a:pt x="6971" y="14912"/>
                  <a:pt x="6959" y="14909"/>
                  <a:pt x="6949" y="14903"/>
                </a:cubicBezTo>
                <a:lnTo>
                  <a:pt x="6866" y="14853"/>
                </a:lnTo>
                <a:lnTo>
                  <a:pt x="6900" y="14862"/>
                </a:lnTo>
                <a:lnTo>
                  <a:pt x="6850" y="14862"/>
                </a:lnTo>
                <a:cubicBezTo>
                  <a:pt x="6843" y="14862"/>
                  <a:pt x="6836" y="14861"/>
                  <a:pt x="6829" y="14859"/>
                </a:cubicBezTo>
                <a:lnTo>
                  <a:pt x="6729" y="14825"/>
                </a:lnTo>
                <a:lnTo>
                  <a:pt x="6775" y="14824"/>
                </a:lnTo>
                <a:lnTo>
                  <a:pt x="6691" y="14857"/>
                </a:lnTo>
                <a:cubicBezTo>
                  <a:pt x="6683" y="14861"/>
                  <a:pt x="6675" y="14862"/>
                  <a:pt x="6666" y="14862"/>
                </a:cubicBezTo>
                <a:lnTo>
                  <a:pt x="6566" y="14862"/>
                </a:lnTo>
                <a:lnTo>
                  <a:pt x="6596" y="14855"/>
                </a:lnTo>
                <a:lnTo>
                  <a:pt x="6527" y="14890"/>
                </a:lnTo>
                <a:lnTo>
                  <a:pt x="6467" y="14771"/>
                </a:lnTo>
                <a:close/>
                <a:moveTo>
                  <a:pt x="7376" y="14729"/>
                </a:moveTo>
                <a:lnTo>
                  <a:pt x="7416" y="14729"/>
                </a:lnTo>
                <a:cubicBezTo>
                  <a:pt x="7436" y="14729"/>
                  <a:pt x="7455" y="14738"/>
                  <a:pt x="7468" y="14753"/>
                </a:cubicBezTo>
                <a:lnTo>
                  <a:pt x="7551" y="14853"/>
                </a:lnTo>
                <a:lnTo>
                  <a:pt x="7647" y="14948"/>
                </a:lnTo>
                <a:lnTo>
                  <a:pt x="7742" y="15028"/>
                </a:lnTo>
                <a:lnTo>
                  <a:pt x="7734" y="15022"/>
                </a:lnTo>
                <a:lnTo>
                  <a:pt x="7812" y="15068"/>
                </a:lnTo>
                <a:lnTo>
                  <a:pt x="7743" y="15183"/>
                </a:lnTo>
                <a:lnTo>
                  <a:pt x="7666" y="15136"/>
                </a:lnTo>
                <a:cubicBezTo>
                  <a:pt x="7663" y="15134"/>
                  <a:pt x="7660" y="15132"/>
                  <a:pt x="7657" y="15130"/>
                </a:cubicBezTo>
                <a:lnTo>
                  <a:pt x="7553" y="15043"/>
                </a:lnTo>
                <a:lnTo>
                  <a:pt x="7449" y="14938"/>
                </a:lnTo>
                <a:lnTo>
                  <a:pt x="7365" y="14838"/>
                </a:lnTo>
                <a:lnTo>
                  <a:pt x="7416" y="14862"/>
                </a:lnTo>
                <a:lnTo>
                  <a:pt x="7376" y="14862"/>
                </a:lnTo>
                <a:lnTo>
                  <a:pt x="7376" y="14729"/>
                </a:lnTo>
                <a:close/>
                <a:moveTo>
                  <a:pt x="7870" y="14741"/>
                </a:moveTo>
                <a:lnTo>
                  <a:pt x="7871" y="14739"/>
                </a:lnTo>
                <a:lnTo>
                  <a:pt x="7868" y="14748"/>
                </a:lnTo>
                <a:lnTo>
                  <a:pt x="7951" y="14365"/>
                </a:lnTo>
                <a:lnTo>
                  <a:pt x="7988" y="14228"/>
                </a:lnTo>
                <a:lnTo>
                  <a:pt x="8117" y="14263"/>
                </a:lnTo>
                <a:lnTo>
                  <a:pt x="8082" y="14393"/>
                </a:lnTo>
                <a:lnTo>
                  <a:pt x="7998" y="14776"/>
                </a:lnTo>
                <a:cubicBezTo>
                  <a:pt x="7998" y="14779"/>
                  <a:pt x="7997" y="14783"/>
                  <a:pt x="7996" y="14786"/>
                </a:cubicBezTo>
                <a:lnTo>
                  <a:pt x="7995" y="14788"/>
                </a:lnTo>
                <a:lnTo>
                  <a:pt x="7870" y="14741"/>
                </a:lnTo>
                <a:close/>
                <a:moveTo>
                  <a:pt x="8128" y="13841"/>
                </a:moveTo>
                <a:lnTo>
                  <a:pt x="8157" y="13782"/>
                </a:lnTo>
                <a:cubicBezTo>
                  <a:pt x="8170" y="13756"/>
                  <a:pt x="8198" y="13742"/>
                  <a:pt x="8226" y="13746"/>
                </a:cubicBezTo>
                <a:cubicBezTo>
                  <a:pt x="8255" y="13751"/>
                  <a:pt x="8277" y="13773"/>
                  <a:pt x="8282" y="13801"/>
                </a:cubicBezTo>
                <a:lnTo>
                  <a:pt x="8316" y="14001"/>
                </a:lnTo>
                <a:lnTo>
                  <a:pt x="8363" y="14261"/>
                </a:lnTo>
                <a:lnTo>
                  <a:pt x="8232" y="14285"/>
                </a:lnTo>
                <a:lnTo>
                  <a:pt x="8184" y="14023"/>
                </a:lnTo>
                <a:lnTo>
                  <a:pt x="8151" y="13823"/>
                </a:lnTo>
                <a:lnTo>
                  <a:pt x="8276" y="13842"/>
                </a:lnTo>
                <a:lnTo>
                  <a:pt x="8247" y="13901"/>
                </a:lnTo>
                <a:lnTo>
                  <a:pt x="8128" y="13841"/>
                </a:lnTo>
                <a:close/>
                <a:moveTo>
                  <a:pt x="8427" y="14661"/>
                </a:moveTo>
                <a:lnTo>
                  <a:pt x="8481" y="15191"/>
                </a:lnTo>
                <a:lnTo>
                  <a:pt x="8348" y="15205"/>
                </a:lnTo>
                <a:lnTo>
                  <a:pt x="8294" y="14674"/>
                </a:lnTo>
                <a:lnTo>
                  <a:pt x="8427" y="14661"/>
                </a:lnTo>
                <a:close/>
                <a:moveTo>
                  <a:pt x="8520" y="15591"/>
                </a:moveTo>
                <a:lnTo>
                  <a:pt x="8563" y="16122"/>
                </a:lnTo>
                <a:lnTo>
                  <a:pt x="8430" y="16133"/>
                </a:lnTo>
                <a:lnTo>
                  <a:pt x="8387" y="15602"/>
                </a:lnTo>
                <a:lnTo>
                  <a:pt x="8520" y="15591"/>
                </a:lnTo>
                <a:close/>
                <a:moveTo>
                  <a:pt x="8595" y="16521"/>
                </a:moveTo>
                <a:lnTo>
                  <a:pt x="8600" y="16573"/>
                </a:lnTo>
                <a:lnTo>
                  <a:pt x="8663" y="17047"/>
                </a:lnTo>
                <a:lnTo>
                  <a:pt x="8531" y="17064"/>
                </a:lnTo>
                <a:lnTo>
                  <a:pt x="8467" y="16584"/>
                </a:lnTo>
                <a:lnTo>
                  <a:pt x="8462" y="16532"/>
                </a:lnTo>
                <a:lnTo>
                  <a:pt x="8595" y="16521"/>
                </a:lnTo>
                <a:close/>
                <a:moveTo>
                  <a:pt x="8621" y="17320"/>
                </a:moveTo>
                <a:lnTo>
                  <a:pt x="8662" y="16789"/>
                </a:lnTo>
                <a:lnTo>
                  <a:pt x="8795" y="16799"/>
                </a:lnTo>
                <a:lnTo>
                  <a:pt x="8754" y="17330"/>
                </a:lnTo>
                <a:lnTo>
                  <a:pt x="8621" y="17320"/>
                </a:lnTo>
                <a:close/>
                <a:moveTo>
                  <a:pt x="8692" y="16390"/>
                </a:moveTo>
                <a:lnTo>
                  <a:pt x="8700" y="16290"/>
                </a:lnTo>
                <a:lnTo>
                  <a:pt x="8720" y="15859"/>
                </a:lnTo>
                <a:lnTo>
                  <a:pt x="8853" y="15865"/>
                </a:lnTo>
                <a:lnTo>
                  <a:pt x="8833" y="16301"/>
                </a:lnTo>
                <a:lnTo>
                  <a:pt x="8825" y="16400"/>
                </a:lnTo>
                <a:lnTo>
                  <a:pt x="8692" y="16390"/>
                </a:lnTo>
                <a:close/>
                <a:moveTo>
                  <a:pt x="8738" y="15460"/>
                </a:moveTo>
                <a:lnTo>
                  <a:pt x="8762" y="14927"/>
                </a:lnTo>
                <a:lnTo>
                  <a:pt x="8895" y="14933"/>
                </a:lnTo>
                <a:lnTo>
                  <a:pt x="8871" y="15466"/>
                </a:lnTo>
                <a:lnTo>
                  <a:pt x="8738" y="15460"/>
                </a:lnTo>
                <a:close/>
                <a:moveTo>
                  <a:pt x="8780" y="14527"/>
                </a:moveTo>
                <a:lnTo>
                  <a:pt x="8800" y="14092"/>
                </a:lnTo>
                <a:lnTo>
                  <a:pt x="8803" y="13995"/>
                </a:lnTo>
                <a:lnTo>
                  <a:pt x="8936" y="13999"/>
                </a:lnTo>
                <a:lnTo>
                  <a:pt x="8933" y="14098"/>
                </a:lnTo>
                <a:lnTo>
                  <a:pt x="8913" y="14533"/>
                </a:lnTo>
                <a:lnTo>
                  <a:pt x="8780" y="14527"/>
                </a:lnTo>
                <a:close/>
                <a:moveTo>
                  <a:pt x="8815" y="13596"/>
                </a:moveTo>
                <a:lnTo>
                  <a:pt x="8832" y="13062"/>
                </a:lnTo>
                <a:lnTo>
                  <a:pt x="8965" y="13067"/>
                </a:lnTo>
                <a:lnTo>
                  <a:pt x="8949" y="13600"/>
                </a:lnTo>
                <a:lnTo>
                  <a:pt x="8815" y="13596"/>
                </a:lnTo>
                <a:close/>
                <a:moveTo>
                  <a:pt x="8844" y="12663"/>
                </a:moveTo>
                <a:lnTo>
                  <a:pt x="8861" y="12130"/>
                </a:lnTo>
                <a:lnTo>
                  <a:pt x="8994" y="12134"/>
                </a:lnTo>
                <a:lnTo>
                  <a:pt x="8977" y="12667"/>
                </a:lnTo>
                <a:lnTo>
                  <a:pt x="8844" y="12663"/>
                </a:lnTo>
                <a:close/>
                <a:moveTo>
                  <a:pt x="8873" y="11730"/>
                </a:moveTo>
                <a:lnTo>
                  <a:pt x="8889" y="11197"/>
                </a:lnTo>
                <a:lnTo>
                  <a:pt x="9023" y="11201"/>
                </a:lnTo>
                <a:lnTo>
                  <a:pt x="9006" y="11734"/>
                </a:lnTo>
                <a:lnTo>
                  <a:pt x="8873" y="11730"/>
                </a:lnTo>
                <a:close/>
                <a:moveTo>
                  <a:pt x="8901" y="10797"/>
                </a:moveTo>
                <a:lnTo>
                  <a:pt x="8913" y="10264"/>
                </a:lnTo>
                <a:lnTo>
                  <a:pt x="9046" y="10267"/>
                </a:lnTo>
                <a:lnTo>
                  <a:pt x="9035" y="10800"/>
                </a:lnTo>
                <a:lnTo>
                  <a:pt x="8901" y="10797"/>
                </a:lnTo>
                <a:close/>
                <a:moveTo>
                  <a:pt x="8922" y="9864"/>
                </a:moveTo>
                <a:lnTo>
                  <a:pt x="8934" y="9331"/>
                </a:lnTo>
                <a:lnTo>
                  <a:pt x="9067" y="9334"/>
                </a:lnTo>
                <a:lnTo>
                  <a:pt x="9055" y="9867"/>
                </a:lnTo>
                <a:lnTo>
                  <a:pt x="8922" y="9864"/>
                </a:lnTo>
                <a:close/>
                <a:moveTo>
                  <a:pt x="8943" y="8931"/>
                </a:moveTo>
                <a:lnTo>
                  <a:pt x="8955" y="8398"/>
                </a:lnTo>
                <a:lnTo>
                  <a:pt x="9088" y="8401"/>
                </a:lnTo>
                <a:lnTo>
                  <a:pt x="9076" y="8934"/>
                </a:lnTo>
                <a:lnTo>
                  <a:pt x="8943" y="8931"/>
                </a:lnTo>
                <a:close/>
                <a:moveTo>
                  <a:pt x="8963" y="7998"/>
                </a:moveTo>
                <a:lnTo>
                  <a:pt x="8975" y="7465"/>
                </a:lnTo>
                <a:lnTo>
                  <a:pt x="9109" y="7468"/>
                </a:lnTo>
                <a:lnTo>
                  <a:pt x="9097" y="8001"/>
                </a:lnTo>
                <a:lnTo>
                  <a:pt x="8963" y="7998"/>
                </a:lnTo>
                <a:close/>
                <a:moveTo>
                  <a:pt x="8984" y="7065"/>
                </a:moveTo>
                <a:lnTo>
                  <a:pt x="9000" y="6531"/>
                </a:lnTo>
                <a:lnTo>
                  <a:pt x="9133" y="6535"/>
                </a:lnTo>
                <a:lnTo>
                  <a:pt x="9118" y="7068"/>
                </a:lnTo>
                <a:lnTo>
                  <a:pt x="8984" y="7065"/>
                </a:lnTo>
                <a:close/>
                <a:moveTo>
                  <a:pt x="9011" y="6132"/>
                </a:moveTo>
                <a:lnTo>
                  <a:pt x="9026" y="5599"/>
                </a:lnTo>
                <a:lnTo>
                  <a:pt x="9160" y="5602"/>
                </a:lnTo>
                <a:lnTo>
                  <a:pt x="9144" y="6135"/>
                </a:lnTo>
                <a:lnTo>
                  <a:pt x="9011" y="6132"/>
                </a:lnTo>
                <a:close/>
                <a:moveTo>
                  <a:pt x="9038" y="5199"/>
                </a:moveTo>
                <a:lnTo>
                  <a:pt x="9053" y="4666"/>
                </a:lnTo>
                <a:lnTo>
                  <a:pt x="9186" y="4669"/>
                </a:lnTo>
                <a:lnTo>
                  <a:pt x="9171" y="5203"/>
                </a:lnTo>
                <a:lnTo>
                  <a:pt x="9038" y="5199"/>
                </a:lnTo>
                <a:close/>
                <a:moveTo>
                  <a:pt x="9064" y="4266"/>
                </a:moveTo>
                <a:lnTo>
                  <a:pt x="9080" y="3733"/>
                </a:lnTo>
                <a:lnTo>
                  <a:pt x="9213" y="3736"/>
                </a:lnTo>
                <a:lnTo>
                  <a:pt x="9198" y="4270"/>
                </a:lnTo>
                <a:lnTo>
                  <a:pt x="9064" y="4266"/>
                </a:lnTo>
                <a:close/>
                <a:moveTo>
                  <a:pt x="9089" y="3333"/>
                </a:moveTo>
                <a:lnTo>
                  <a:pt x="9099" y="2800"/>
                </a:lnTo>
                <a:lnTo>
                  <a:pt x="9232" y="2803"/>
                </a:lnTo>
                <a:lnTo>
                  <a:pt x="9222" y="3336"/>
                </a:lnTo>
                <a:lnTo>
                  <a:pt x="9089" y="3333"/>
                </a:lnTo>
                <a:close/>
                <a:moveTo>
                  <a:pt x="9107" y="2400"/>
                </a:moveTo>
                <a:lnTo>
                  <a:pt x="9117" y="1867"/>
                </a:lnTo>
                <a:lnTo>
                  <a:pt x="9250" y="1870"/>
                </a:lnTo>
                <a:lnTo>
                  <a:pt x="9240" y="2403"/>
                </a:lnTo>
                <a:lnTo>
                  <a:pt x="9107" y="2400"/>
                </a:lnTo>
                <a:close/>
                <a:moveTo>
                  <a:pt x="9125" y="1467"/>
                </a:moveTo>
                <a:lnTo>
                  <a:pt x="9133" y="1028"/>
                </a:lnTo>
                <a:lnTo>
                  <a:pt x="9141" y="930"/>
                </a:lnTo>
                <a:lnTo>
                  <a:pt x="9273" y="940"/>
                </a:lnTo>
                <a:lnTo>
                  <a:pt x="9266" y="1030"/>
                </a:lnTo>
                <a:lnTo>
                  <a:pt x="9258" y="1470"/>
                </a:lnTo>
                <a:lnTo>
                  <a:pt x="9125" y="1467"/>
                </a:lnTo>
                <a:close/>
                <a:moveTo>
                  <a:pt x="9171" y="531"/>
                </a:moveTo>
                <a:lnTo>
                  <a:pt x="9212" y="0"/>
                </a:lnTo>
                <a:lnTo>
                  <a:pt x="9345" y="10"/>
                </a:lnTo>
                <a:lnTo>
                  <a:pt x="9304" y="542"/>
                </a:lnTo>
                <a:lnTo>
                  <a:pt x="9171" y="531"/>
                </a:lnTo>
                <a:close/>
                <a:moveTo>
                  <a:pt x="9394" y="274"/>
                </a:moveTo>
                <a:lnTo>
                  <a:pt x="9449" y="687"/>
                </a:lnTo>
                <a:lnTo>
                  <a:pt x="9455" y="810"/>
                </a:lnTo>
                <a:lnTo>
                  <a:pt x="9321" y="815"/>
                </a:lnTo>
                <a:lnTo>
                  <a:pt x="9317" y="704"/>
                </a:lnTo>
                <a:lnTo>
                  <a:pt x="9262" y="292"/>
                </a:lnTo>
                <a:lnTo>
                  <a:pt x="9394" y="274"/>
                </a:lnTo>
                <a:close/>
                <a:moveTo>
                  <a:pt x="9471" y="1209"/>
                </a:moveTo>
                <a:lnTo>
                  <a:pt x="9493" y="1742"/>
                </a:lnTo>
                <a:lnTo>
                  <a:pt x="9360" y="1748"/>
                </a:lnTo>
                <a:lnTo>
                  <a:pt x="9338" y="1215"/>
                </a:lnTo>
                <a:lnTo>
                  <a:pt x="9471" y="1209"/>
                </a:lnTo>
                <a:close/>
                <a:moveTo>
                  <a:pt x="9510" y="2142"/>
                </a:moveTo>
                <a:lnTo>
                  <a:pt x="9532" y="2675"/>
                </a:lnTo>
                <a:lnTo>
                  <a:pt x="9399" y="2680"/>
                </a:lnTo>
                <a:lnTo>
                  <a:pt x="9377" y="2148"/>
                </a:lnTo>
                <a:lnTo>
                  <a:pt x="9510" y="2142"/>
                </a:lnTo>
                <a:close/>
                <a:moveTo>
                  <a:pt x="9549" y="3075"/>
                </a:moveTo>
                <a:lnTo>
                  <a:pt x="9550" y="3093"/>
                </a:lnTo>
                <a:lnTo>
                  <a:pt x="9562" y="3609"/>
                </a:lnTo>
                <a:lnTo>
                  <a:pt x="9429" y="3612"/>
                </a:lnTo>
                <a:lnTo>
                  <a:pt x="9417" y="3098"/>
                </a:lnTo>
                <a:lnTo>
                  <a:pt x="9416" y="3080"/>
                </a:lnTo>
                <a:lnTo>
                  <a:pt x="9549" y="3075"/>
                </a:lnTo>
                <a:close/>
                <a:moveTo>
                  <a:pt x="9571" y="4009"/>
                </a:moveTo>
                <a:lnTo>
                  <a:pt x="9584" y="4542"/>
                </a:lnTo>
                <a:lnTo>
                  <a:pt x="9450" y="4545"/>
                </a:lnTo>
                <a:lnTo>
                  <a:pt x="9438" y="4012"/>
                </a:lnTo>
                <a:lnTo>
                  <a:pt x="9571" y="4009"/>
                </a:lnTo>
                <a:close/>
                <a:moveTo>
                  <a:pt x="9593" y="4942"/>
                </a:moveTo>
                <a:lnTo>
                  <a:pt x="9606" y="5475"/>
                </a:lnTo>
                <a:lnTo>
                  <a:pt x="9472" y="5478"/>
                </a:lnTo>
                <a:lnTo>
                  <a:pt x="9460" y="4945"/>
                </a:lnTo>
                <a:lnTo>
                  <a:pt x="9593" y="4942"/>
                </a:lnTo>
                <a:close/>
                <a:moveTo>
                  <a:pt x="9615" y="5875"/>
                </a:moveTo>
                <a:lnTo>
                  <a:pt x="9628" y="6408"/>
                </a:lnTo>
                <a:lnTo>
                  <a:pt x="9494" y="6411"/>
                </a:lnTo>
                <a:lnTo>
                  <a:pt x="9482" y="5878"/>
                </a:lnTo>
                <a:lnTo>
                  <a:pt x="9615" y="5875"/>
                </a:lnTo>
                <a:close/>
                <a:moveTo>
                  <a:pt x="9635" y="6809"/>
                </a:moveTo>
                <a:lnTo>
                  <a:pt x="9642" y="7342"/>
                </a:lnTo>
                <a:lnTo>
                  <a:pt x="9508" y="7344"/>
                </a:lnTo>
                <a:lnTo>
                  <a:pt x="9502" y="6810"/>
                </a:lnTo>
                <a:lnTo>
                  <a:pt x="9635" y="6809"/>
                </a:lnTo>
                <a:close/>
                <a:moveTo>
                  <a:pt x="9647" y="7742"/>
                </a:moveTo>
                <a:lnTo>
                  <a:pt x="9653" y="8275"/>
                </a:lnTo>
                <a:lnTo>
                  <a:pt x="9520" y="8277"/>
                </a:lnTo>
                <a:lnTo>
                  <a:pt x="9513" y="7744"/>
                </a:lnTo>
                <a:lnTo>
                  <a:pt x="9647" y="7742"/>
                </a:lnTo>
                <a:close/>
                <a:moveTo>
                  <a:pt x="9658" y="8675"/>
                </a:moveTo>
                <a:lnTo>
                  <a:pt x="9665" y="9209"/>
                </a:lnTo>
                <a:lnTo>
                  <a:pt x="9532" y="9210"/>
                </a:lnTo>
                <a:lnTo>
                  <a:pt x="9525" y="8677"/>
                </a:lnTo>
                <a:lnTo>
                  <a:pt x="9658" y="8675"/>
                </a:lnTo>
                <a:close/>
                <a:moveTo>
                  <a:pt x="9670" y="9609"/>
                </a:moveTo>
                <a:lnTo>
                  <a:pt x="9676" y="10142"/>
                </a:lnTo>
                <a:lnTo>
                  <a:pt x="9543" y="10144"/>
                </a:lnTo>
                <a:lnTo>
                  <a:pt x="9537" y="9610"/>
                </a:lnTo>
                <a:lnTo>
                  <a:pt x="9670" y="9609"/>
                </a:lnTo>
                <a:close/>
                <a:moveTo>
                  <a:pt x="9681" y="10542"/>
                </a:moveTo>
                <a:lnTo>
                  <a:pt x="9683" y="10678"/>
                </a:lnTo>
                <a:lnTo>
                  <a:pt x="9694" y="11074"/>
                </a:lnTo>
                <a:lnTo>
                  <a:pt x="9561" y="11078"/>
                </a:lnTo>
                <a:lnTo>
                  <a:pt x="9550" y="10680"/>
                </a:lnTo>
                <a:lnTo>
                  <a:pt x="9548" y="10543"/>
                </a:lnTo>
                <a:lnTo>
                  <a:pt x="9681" y="10542"/>
                </a:lnTo>
                <a:close/>
                <a:moveTo>
                  <a:pt x="9705" y="11474"/>
                </a:moveTo>
                <a:lnTo>
                  <a:pt x="9719" y="12007"/>
                </a:lnTo>
                <a:lnTo>
                  <a:pt x="9586" y="12011"/>
                </a:lnTo>
                <a:lnTo>
                  <a:pt x="9571" y="11477"/>
                </a:lnTo>
                <a:lnTo>
                  <a:pt x="9705" y="11474"/>
                </a:lnTo>
                <a:close/>
                <a:moveTo>
                  <a:pt x="9730" y="12407"/>
                </a:moveTo>
                <a:lnTo>
                  <a:pt x="9744" y="12940"/>
                </a:lnTo>
                <a:lnTo>
                  <a:pt x="9611" y="12944"/>
                </a:lnTo>
                <a:lnTo>
                  <a:pt x="9597" y="12410"/>
                </a:lnTo>
                <a:lnTo>
                  <a:pt x="9730" y="12407"/>
                </a:lnTo>
                <a:close/>
                <a:moveTo>
                  <a:pt x="9755" y="13340"/>
                </a:moveTo>
                <a:lnTo>
                  <a:pt x="9769" y="13873"/>
                </a:lnTo>
                <a:lnTo>
                  <a:pt x="9636" y="13877"/>
                </a:lnTo>
                <a:lnTo>
                  <a:pt x="9622" y="13343"/>
                </a:lnTo>
                <a:lnTo>
                  <a:pt x="9755" y="13340"/>
                </a:lnTo>
                <a:close/>
                <a:moveTo>
                  <a:pt x="9780" y="14273"/>
                </a:moveTo>
                <a:lnTo>
                  <a:pt x="9783" y="14377"/>
                </a:lnTo>
                <a:lnTo>
                  <a:pt x="9796" y="14806"/>
                </a:lnTo>
                <a:lnTo>
                  <a:pt x="9662" y="14810"/>
                </a:lnTo>
                <a:lnTo>
                  <a:pt x="9650" y="14381"/>
                </a:lnTo>
                <a:lnTo>
                  <a:pt x="9647" y="14276"/>
                </a:lnTo>
                <a:lnTo>
                  <a:pt x="9780" y="14273"/>
                </a:lnTo>
                <a:close/>
                <a:moveTo>
                  <a:pt x="9807" y="15206"/>
                </a:moveTo>
                <a:lnTo>
                  <a:pt x="9823" y="15739"/>
                </a:lnTo>
                <a:lnTo>
                  <a:pt x="9689" y="15743"/>
                </a:lnTo>
                <a:lnTo>
                  <a:pt x="9674" y="15210"/>
                </a:lnTo>
                <a:lnTo>
                  <a:pt x="9807" y="15206"/>
                </a:lnTo>
                <a:close/>
                <a:moveTo>
                  <a:pt x="9834" y="16139"/>
                </a:moveTo>
                <a:lnTo>
                  <a:pt x="9850" y="16672"/>
                </a:lnTo>
                <a:lnTo>
                  <a:pt x="9717" y="16676"/>
                </a:lnTo>
                <a:lnTo>
                  <a:pt x="9701" y="16142"/>
                </a:lnTo>
                <a:lnTo>
                  <a:pt x="9834" y="16139"/>
                </a:lnTo>
                <a:close/>
                <a:moveTo>
                  <a:pt x="9861" y="17072"/>
                </a:moveTo>
                <a:lnTo>
                  <a:pt x="9866" y="17244"/>
                </a:lnTo>
                <a:lnTo>
                  <a:pt x="9888" y="17602"/>
                </a:lnTo>
                <a:lnTo>
                  <a:pt x="9755" y="17610"/>
                </a:lnTo>
                <a:lnTo>
                  <a:pt x="9733" y="17247"/>
                </a:lnTo>
                <a:lnTo>
                  <a:pt x="9728" y="17075"/>
                </a:lnTo>
                <a:lnTo>
                  <a:pt x="9861" y="17072"/>
                </a:lnTo>
                <a:close/>
                <a:moveTo>
                  <a:pt x="9913" y="18001"/>
                </a:moveTo>
                <a:lnTo>
                  <a:pt x="9945" y="18534"/>
                </a:lnTo>
                <a:lnTo>
                  <a:pt x="9812" y="18542"/>
                </a:lnTo>
                <a:lnTo>
                  <a:pt x="9780" y="18009"/>
                </a:lnTo>
                <a:lnTo>
                  <a:pt x="9913" y="18001"/>
                </a:lnTo>
                <a:close/>
                <a:moveTo>
                  <a:pt x="9979" y="18917"/>
                </a:moveTo>
                <a:lnTo>
                  <a:pt x="10064" y="19228"/>
                </a:lnTo>
                <a:lnTo>
                  <a:pt x="9934" y="19235"/>
                </a:lnTo>
                <a:lnTo>
                  <a:pt x="9969" y="19026"/>
                </a:lnTo>
                <a:lnTo>
                  <a:pt x="10100" y="19048"/>
                </a:lnTo>
                <a:lnTo>
                  <a:pt x="10066" y="19256"/>
                </a:lnTo>
                <a:cubicBezTo>
                  <a:pt x="10060" y="19287"/>
                  <a:pt x="10034" y="19310"/>
                  <a:pt x="10003" y="19312"/>
                </a:cubicBezTo>
                <a:cubicBezTo>
                  <a:pt x="9972" y="19314"/>
                  <a:pt x="9944" y="19293"/>
                  <a:pt x="9935" y="19263"/>
                </a:cubicBezTo>
                <a:lnTo>
                  <a:pt x="9851" y="18953"/>
                </a:lnTo>
                <a:lnTo>
                  <a:pt x="9979" y="18917"/>
                </a:lnTo>
                <a:close/>
                <a:moveTo>
                  <a:pt x="10021" y="18638"/>
                </a:moveTo>
                <a:lnTo>
                  <a:pt x="10046" y="18105"/>
                </a:lnTo>
                <a:lnTo>
                  <a:pt x="10179" y="18111"/>
                </a:lnTo>
                <a:lnTo>
                  <a:pt x="10155" y="18644"/>
                </a:lnTo>
                <a:lnTo>
                  <a:pt x="10021" y="18638"/>
                </a:lnTo>
                <a:close/>
                <a:moveTo>
                  <a:pt x="10064" y="17706"/>
                </a:moveTo>
                <a:lnTo>
                  <a:pt x="10067" y="17659"/>
                </a:lnTo>
                <a:lnTo>
                  <a:pt x="10111" y="17171"/>
                </a:lnTo>
                <a:lnTo>
                  <a:pt x="10244" y="17184"/>
                </a:lnTo>
                <a:lnTo>
                  <a:pt x="10200" y="17665"/>
                </a:lnTo>
                <a:lnTo>
                  <a:pt x="10198" y="17712"/>
                </a:lnTo>
                <a:lnTo>
                  <a:pt x="10064" y="17706"/>
                </a:lnTo>
                <a:close/>
                <a:moveTo>
                  <a:pt x="10148" y="16773"/>
                </a:moveTo>
                <a:lnTo>
                  <a:pt x="10167" y="16573"/>
                </a:lnTo>
                <a:lnTo>
                  <a:pt x="10200" y="16242"/>
                </a:lnTo>
                <a:lnTo>
                  <a:pt x="10333" y="16255"/>
                </a:lnTo>
                <a:lnTo>
                  <a:pt x="10300" y="16585"/>
                </a:lnTo>
                <a:lnTo>
                  <a:pt x="10281" y="16785"/>
                </a:lnTo>
                <a:lnTo>
                  <a:pt x="10148" y="16773"/>
                </a:lnTo>
                <a:close/>
                <a:moveTo>
                  <a:pt x="10240" y="15844"/>
                </a:moveTo>
                <a:lnTo>
                  <a:pt x="10250" y="15739"/>
                </a:lnTo>
                <a:cubicBezTo>
                  <a:pt x="10250" y="15735"/>
                  <a:pt x="10251" y="15732"/>
                  <a:pt x="10252" y="15729"/>
                </a:cubicBezTo>
                <a:lnTo>
                  <a:pt x="10352" y="15345"/>
                </a:lnTo>
                <a:cubicBezTo>
                  <a:pt x="10357" y="15326"/>
                  <a:pt x="10371" y="15310"/>
                  <a:pt x="10389" y="15301"/>
                </a:cubicBezTo>
                <a:cubicBezTo>
                  <a:pt x="10407" y="15293"/>
                  <a:pt x="10428" y="15294"/>
                  <a:pt x="10446" y="15303"/>
                </a:cubicBezTo>
                <a:lnTo>
                  <a:pt x="10475" y="15317"/>
                </a:lnTo>
                <a:lnTo>
                  <a:pt x="10415" y="15436"/>
                </a:lnTo>
                <a:lnTo>
                  <a:pt x="10387" y="15422"/>
                </a:lnTo>
                <a:lnTo>
                  <a:pt x="10481" y="15379"/>
                </a:lnTo>
                <a:lnTo>
                  <a:pt x="10381" y="15762"/>
                </a:lnTo>
                <a:lnTo>
                  <a:pt x="10383" y="15752"/>
                </a:lnTo>
                <a:lnTo>
                  <a:pt x="10372" y="15857"/>
                </a:lnTo>
                <a:lnTo>
                  <a:pt x="10240" y="15844"/>
                </a:lnTo>
                <a:close/>
                <a:moveTo>
                  <a:pt x="10615" y="15724"/>
                </a:moveTo>
                <a:lnTo>
                  <a:pt x="10616" y="15739"/>
                </a:lnTo>
                <a:lnTo>
                  <a:pt x="10715" y="16147"/>
                </a:lnTo>
                <a:lnTo>
                  <a:pt x="10739" y="16229"/>
                </a:lnTo>
                <a:lnTo>
                  <a:pt x="10612" y="16267"/>
                </a:lnTo>
                <a:lnTo>
                  <a:pt x="10585" y="16178"/>
                </a:lnTo>
                <a:lnTo>
                  <a:pt x="10483" y="15752"/>
                </a:lnTo>
                <a:lnTo>
                  <a:pt x="10482" y="15737"/>
                </a:lnTo>
                <a:lnTo>
                  <a:pt x="10615" y="15724"/>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52880" y="3359160"/>
            <a:ext cx="1295280" cy="1992240"/>
          </a:xfrm>
          <a:custGeom>
            <a:avLst/>
            <a:gdLst/>
            <a:ahLst/>
            <a:rect l="l" t="t" r="r" b="b"/>
            <a:pathLst>
              <a:path w="5399" h="8284">
                <a:moveTo>
                  <a:pt x="60" y="6862"/>
                </a:moveTo>
                <a:lnTo>
                  <a:pt x="102" y="6953"/>
                </a:lnTo>
                <a:lnTo>
                  <a:pt x="87" y="6937"/>
                </a:lnTo>
                <a:lnTo>
                  <a:pt x="137" y="6962"/>
                </a:lnTo>
                <a:lnTo>
                  <a:pt x="92" y="6977"/>
                </a:lnTo>
                <a:lnTo>
                  <a:pt x="117" y="6927"/>
                </a:lnTo>
                <a:lnTo>
                  <a:pt x="147" y="6879"/>
                </a:lnTo>
                <a:lnTo>
                  <a:pt x="204" y="6914"/>
                </a:lnTo>
                <a:lnTo>
                  <a:pt x="177" y="6957"/>
                </a:lnTo>
                <a:lnTo>
                  <a:pt x="152" y="7007"/>
                </a:lnTo>
                <a:cubicBezTo>
                  <a:pt x="143" y="7024"/>
                  <a:pt x="123" y="7030"/>
                  <a:pt x="107" y="7022"/>
                </a:cubicBezTo>
                <a:lnTo>
                  <a:pt x="57" y="6997"/>
                </a:lnTo>
                <a:cubicBezTo>
                  <a:pt x="50" y="6994"/>
                  <a:pt x="45" y="6988"/>
                  <a:pt x="41" y="6981"/>
                </a:cubicBezTo>
                <a:lnTo>
                  <a:pt x="0" y="6889"/>
                </a:lnTo>
                <a:lnTo>
                  <a:pt x="60" y="6862"/>
                </a:lnTo>
                <a:close/>
                <a:moveTo>
                  <a:pt x="330" y="6792"/>
                </a:moveTo>
                <a:lnTo>
                  <a:pt x="380" y="6792"/>
                </a:lnTo>
                <a:cubicBezTo>
                  <a:pt x="389" y="6792"/>
                  <a:pt x="397" y="6796"/>
                  <a:pt x="404" y="6802"/>
                </a:cubicBezTo>
                <a:lnTo>
                  <a:pt x="429" y="6827"/>
                </a:lnTo>
                <a:lnTo>
                  <a:pt x="405" y="6817"/>
                </a:lnTo>
                <a:lnTo>
                  <a:pt x="447" y="6817"/>
                </a:lnTo>
                <a:lnTo>
                  <a:pt x="432" y="6821"/>
                </a:lnTo>
                <a:lnTo>
                  <a:pt x="482" y="6796"/>
                </a:lnTo>
                <a:cubicBezTo>
                  <a:pt x="487" y="6793"/>
                  <a:pt x="492" y="6792"/>
                  <a:pt x="497" y="6792"/>
                </a:cubicBezTo>
                <a:lnTo>
                  <a:pt x="547" y="6792"/>
                </a:lnTo>
                <a:lnTo>
                  <a:pt x="530" y="6797"/>
                </a:lnTo>
                <a:lnTo>
                  <a:pt x="559" y="6779"/>
                </a:lnTo>
                <a:lnTo>
                  <a:pt x="593" y="6837"/>
                </a:lnTo>
                <a:lnTo>
                  <a:pt x="564" y="6854"/>
                </a:lnTo>
                <a:cubicBezTo>
                  <a:pt x="559" y="6857"/>
                  <a:pt x="553" y="6859"/>
                  <a:pt x="547" y="6859"/>
                </a:cubicBezTo>
                <a:lnTo>
                  <a:pt x="497" y="6859"/>
                </a:lnTo>
                <a:lnTo>
                  <a:pt x="512" y="6855"/>
                </a:lnTo>
                <a:lnTo>
                  <a:pt x="462" y="6880"/>
                </a:lnTo>
                <a:cubicBezTo>
                  <a:pt x="457" y="6883"/>
                  <a:pt x="452" y="6884"/>
                  <a:pt x="447" y="6884"/>
                </a:cubicBezTo>
                <a:lnTo>
                  <a:pt x="405" y="6884"/>
                </a:lnTo>
                <a:cubicBezTo>
                  <a:pt x="396" y="6884"/>
                  <a:pt x="388" y="6880"/>
                  <a:pt x="382" y="6874"/>
                </a:cubicBezTo>
                <a:lnTo>
                  <a:pt x="357" y="6849"/>
                </a:lnTo>
                <a:lnTo>
                  <a:pt x="380" y="6859"/>
                </a:lnTo>
                <a:lnTo>
                  <a:pt x="330" y="6859"/>
                </a:lnTo>
                <a:lnTo>
                  <a:pt x="330" y="6792"/>
                </a:lnTo>
                <a:close/>
                <a:moveTo>
                  <a:pt x="766" y="6844"/>
                </a:moveTo>
                <a:lnTo>
                  <a:pt x="770" y="6846"/>
                </a:lnTo>
                <a:lnTo>
                  <a:pt x="755" y="6842"/>
                </a:lnTo>
                <a:lnTo>
                  <a:pt x="805" y="6842"/>
                </a:lnTo>
                <a:lnTo>
                  <a:pt x="822" y="6842"/>
                </a:lnTo>
                <a:lnTo>
                  <a:pt x="872" y="6842"/>
                </a:lnTo>
                <a:lnTo>
                  <a:pt x="922" y="6842"/>
                </a:lnTo>
                <a:lnTo>
                  <a:pt x="963" y="6842"/>
                </a:lnTo>
                <a:lnTo>
                  <a:pt x="1013" y="6842"/>
                </a:lnTo>
                <a:lnTo>
                  <a:pt x="1017" y="6842"/>
                </a:lnTo>
                <a:lnTo>
                  <a:pt x="1017" y="6909"/>
                </a:lnTo>
                <a:lnTo>
                  <a:pt x="1013" y="6909"/>
                </a:lnTo>
                <a:lnTo>
                  <a:pt x="963" y="6909"/>
                </a:lnTo>
                <a:lnTo>
                  <a:pt x="922" y="6909"/>
                </a:lnTo>
                <a:lnTo>
                  <a:pt x="872" y="6909"/>
                </a:lnTo>
                <a:lnTo>
                  <a:pt x="822" y="6909"/>
                </a:lnTo>
                <a:lnTo>
                  <a:pt x="805" y="6909"/>
                </a:lnTo>
                <a:lnTo>
                  <a:pt x="755" y="6909"/>
                </a:lnTo>
                <a:cubicBezTo>
                  <a:pt x="750" y="6909"/>
                  <a:pt x="745" y="6908"/>
                  <a:pt x="740" y="6905"/>
                </a:cubicBezTo>
                <a:lnTo>
                  <a:pt x="736" y="6903"/>
                </a:lnTo>
                <a:lnTo>
                  <a:pt x="766" y="6844"/>
                </a:lnTo>
                <a:close/>
                <a:moveTo>
                  <a:pt x="1211" y="6859"/>
                </a:moveTo>
                <a:lnTo>
                  <a:pt x="1222" y="6859"/>
                </a:lnTo>
                <a:lnTo>
                  <a:pt x="1272" y="6859"/>
                </a:lnTo>
                <a:lnTo>
                  <a:pt x="1297" y="6859"/>
                </a:lnTo>
                <a:cubicBezTo>
                  <a:pt x="1303" y="6859"/>
                  <a:pt x="1309" y="6860"/>
                  <a:pt x="1314" y="6864"/>
                </a:cubicBezTo>
                <a:lnTo>
                  <a:pt x="1356" y="6889"/>
                </a:lnTo>
                <a:lnTo>
                  <a:pt x="1338" y="6884"/>
                </a:lnTo>
                <a:lnTo>
                  <a:pt x="1388" y="6884"/>
                </a:lnTo>
                <a:lnTo>
                  <a:pt x="1438" y="6884"/>
                </a:lnTo>
                <a:lnTo>
                  <a:pt x="1470" y="6884"/>
                </a:lnTo>
                <a:lnTo>
                  <a:pt x="1470" y="6950"/>
                </a:lnTo>
                <a:lnTo>
                  <a:pt x="1438" y="6950"/>
                </a:lnTo>
                <a:lnTo>
                  <a:pt x="1388" y="6950"/>
                </a:lnTo>
                <a:lnTo>
                  <a:pt x="1338" y="6950"/>
                </a:lnTo>
                <a:cubicBezTo>
                  <a:pt x="1332" y="6950"/>
                  <a:pt x="1326" y="6949"/>
                  <a:pt x="1321" y="6946"/>
                </a:cubicBezTo>
                <a:lnTo>
                  <a:pt x="1280" y="6921"/>
                </a:lnTo>
                <a:lnTo>
                  <a:pt x="1297" y="6925"/>
                </a:lnTo>
                <a:lnTo>
                  <a:pt x="1272" y="6925"/>
                </a:lnTo>
                <a:lnTo>
                  <a:pt x="1222" y="6925"/>
                </a:lnTo>
                <a:lnTo>
                  <a:pt x="1211" y="6925"/>
                </a:lnTo>
                <a:lnTo>
                  <a:pt x="1211" y="6859"/>
                </a:lnTo>
                <a:close/>
                <a:moveTo>
                  <a:pt x="1660" y="6909"/>
                </a:moveTo>
                <a:lnTo>
                  <a:pt x="1697" y="6909"/>
                </a:lnTo>
                <a:cubicBezTo>
                  <a:pt x="1703" y="6909"/>
                  <a:pt x="1709" y="6910"/>
                  <a:pt x="1714" y="6914"/>
                </a:cubicBezTo>
                <a:lnTo>
                  <a:pt x="1756" y="6939"/>
                </a:lnTo>
                <a:lnTo>
                  <a:pt x="1738" y="6934"/>
                </a:lnTo>
                <a:lnTo>
                  <a:pt x="1763" y="6934"/>
                </a:lnTo>
                <a:lnTo>
                  <a:pt x="1813" y="6934"/>
                </a:lnTo>
                <a:lnTo>
                  <a:pt x="1855" y="6934"/>
                </a:lnTo>
                <a:lnTo>
                  <a:pt x="1905" y="6934"/>
                </a:lnTo>
                <a:cubicBezTo>
                  <a:pt x="1910" y="6934"/>
                  <a:pt x="1915" y="6935"/>
                  <a:pt x="1920" y="6937"/>
                </a:cubicBezTo>
                <a:lnTo>
                  <a:pt x="1933" y="6944"/>
                </a:lnTo>
                <a:lnTo>
                  <a:pt x="1903" y="7003"/>
                </a:lnTo>
                <a:lnTo>
                  <a:pt x="1890" y="6997"/>
                </a:lnTo>
                <a:lnTo>
                  <a:pt x="1905" y="7000"/>
                </a:lnTo>
                <a:lnTo>
                  <a:pt x="1855" y="7000"/>
                </a:lnTo>
                <a:lnTo>
                  <a:pt x="1813" y="7000"/>
                </a:lnTo>
                <a:lnTo>
                  <a:pt x="1763" y="7000"/>
                </a:lnTo>
                <a:lnTo>
                  <a:pt x="1738" y="7000"/>
                </a:lnTo>
                <a:cubicBezTo>
                  <a:pt x="1732" y="7000"/>
                  <a:pt x="1726" y="6999"/>
                  <a:pt x="1721" y="6996"/>
                </a:cubicBezTo>
                <a:lnTo>
                  <a:pt x="1680" y="6971"/>
                </a:lnTo>
                <a:lnTo>
                  <a:pt x="1697" y="6975"/>
                </a:lnTo>
                <a:lnTo>
                  <a:pt x="1660" y="6975"/>
                </a:lnTo>
                <a:lnTo>
                  <a:pt x="1660" y="6909"/>
                </a:lnTo>
                <a:close/>
                <a:moveTo>
                  <a:pt x="2111" y="6975"/>
                </a:moveTo>
                <a:lnTo>
                  <a:pt x="2113" y="6975"/>
                </a:lnTo>
                <a:lnTo>
                  <a:pt x="2163" y="6975"/>
                </a:lnTo>
                <a:lnTo>
                  <a:pt x="2145" y="6981"/>
                </a:lnTo>
                <a:lnTo>
                  <a:pt x="2170" y="6964"/>
                </a:lnTo>
                <a:cubicBezTo>
                  <a:pt x="2175" y="6961"/>
                  <a:pt x="2182" y="6959"/>
                  <a:pt x="2188" y="6959"/>
                </a:cubicBezTo>
                <a:lnTo>
                  <a:pt x="2230" y="6959"/>
                </a:lnTo>
                <a:lnTo>
                  <a:pt x="2280" y="6959"/>
                </a:lnTo>
                <a:cubicBezTo>
                  <a:pt x="2284" y="6959"/>
                  <a:pt x="2287" y="6959"/>
                  <a:pt x="2291" y="6961"/>
                </a:cubicBezTo>
                <a:lnTo>
                  <a:pt x="2341" y="6977"/>
                </a:lnTo>
                <a:lnTo>
                  <a:pt x="2330" y="6975"/>
                </a:lnTo>
                <a:lnTo>
                  <a:pt x="2370" y="6975"/>
                </a:lnTo>
                <a:lnTo>
                  <a:pt x="2370" y="7042"/>
                </a:lnTo>
                <a:lnTo>
                  <a:pt x="2330" y="7042"/>
                </a:lnTo>
                <a:cubicBezTo>
                  <a:pt x="2327" y="7042"/>
                  <a:pt x="2323" y="7042"/>
                  <a:pt x="2320" y="7040"/>
                </a:cubicBezTo>
                <a:lnTo>
                  <a:pt x="2270" y="7024"/>
                </a:lnTo>
                <a:lnTo>
                  <a:pt x="2280" y="7025"/>
                </a:lnTo>
                <a:lnTo>
                  <a:pt x="2230" y="7025"/>
                </a:lnTo>
                <a:lnTo>
                  <a:pt x="2188" y="7025"/>
                </a:lnTo>
                <a:lnTo>
                  <a:pt x="2207" y="7020"/>
                </a:lnTo>
                <a:lnTo>
                  <a:pt x="2182" y="7037"/>
                </a:lnTo>
                <a:cubicBezTo>
                  <a:pt x="2176" y="7040"/>
                  <a:pt x="2170" y="7042"/>
                  <a:pt x="2163" y="7042"/>
                </a:cubicBezTo>
                <a:lnTo>
                  <a:pt x="2113" y="7042"/>
                </a:lnTo>
                <a:lnTo>
                  <a:pt x="2111" y="7042"/>
                </a:lnTo>
                <a:lnTo>
                  <a:pt x="2111" y="6975"/>
                </a:lnTo>
                <a:close/>
                <a:moveTo>
                  <a:pt x="2564" y="7000"/>
                </a:moveTo>
                <a:lnTo>
                  <a:pt x="2588" y="7000"/>
                </a:lnTo>
                <a:cubicBezTo>
                  <a:pt x="2595" y="7000"/>
                  <a:pt x="2600" y="7002"/>
                  <a:pt x="2606" y="7005"/>
                </a:cubicBezTo>
                <a:lnTo>
                  <a:pt x="2647" y="7030"/>
                </a:lnTo>
                <a:cubicBezTo>
                  <a:pt x="2650" y="7032"/>
                  <a:pt x="2652" y="7033"/>
                  <a:pt x="2654" y="7035"/>
                </a:cubicBezTo>
                <a:lnTo>
                  <a:pt x="2679" y="7060"/>
                </a:lnTo>
                <a:cubicBezTo>
                  <a:pt x="2680" y="7061"/>
                  <a:pt x="2681" y="7063"/>
                  <a:pt x="2682" y="7064"/>
                </a:cubicBezTo>
                <a:lnTo>
                  <a:pt x="2732" y="7130"/>
                </a:lnTo>
                <a:lnTo>
                  <a:pt x="2772" y="7179"/>
                </a:lnTo>
                <a:lnTo>
                  <a:pt x="2732" y="7171"/>
                </a:lnTo>
                <a:lnTo>
                  <a:pt x="2741" y="7166"/>
                </a:lnTo>
                <a:lnTo>
                  <a:pt x="2771" y="7226"/>
                </a:lnTo>
                <a:lnTo>
                  <a:pt x="2762" y="7230"/>
                </a:lnTo>
                <a:cubicBezTo>
                  <a:pt x="2748" y="7237"/>
                  <a:pt x="2731" y="7234"/>
                  <a:pt x="2721" y="7222"/>
                </a:cubicBezTo>
                <a:lnTo>
                  <a:pt x="2678" y="7170"/>
                </a:lnTo>
                <a:lnTo>
                  <a:pt x="2628" y="7104"/>
                </a:lnTo>
                <a:lnTo>
                  <a:pt x="2632" y="7107"/>
                </a:lnTo>
                <a:lnTo>
                  <a:pt x="2607" y="7082"/>
                </a:lnTo>
                <a:lnTo>
                  <a:pt x="2613" y="7087"/>
                </a:lnTo>
                <a:lnTo>
                  <a:pt x="2571" y="7062"/>
                </a:lnTo>
                <a:lnTo>
                  <a:pt x="2588" y="7067"/>
                </a:lnTo>
                <a:lnTo>
                  <a:pt x="2564" y="7067"/>
                </a:lnTo>
                <a:lnTo>
                  <a:pt x="2564" y="7000"/>
                </a:lnTo>
                <a:close/>
                <a:moveTo>
                  <a:pt x="2824" y="7042"/>
                </a:moveTo>
                <a:lnTo>
                  <a:pt x="2830" y="6988"/>
                </a:lnTo>
                <a:cubicBezTo>
                  <a:pt x="2831" y="6986"/>
                  <a:pt x="2831" y="6984"/>
                  <a:pt x="2832" y="6983"/>
                </a:cubicBezTo>
                <a:lnTo>
                  <a:pt x="2882" y="6816"/>
                </a:lnTo>
                <a:lnTo>
                  <a:pt x="2895" y="6778"/>
                </a:lnTo>
                <a:lnTo>
                  <a:pt x="2958" y="6800"/>
                </a:lnTo>
                <a:lnTo>
                  <a:pt x="2945" y="6835"/>
                </a:lnTo>
                <a:lnTo>
                  <a:pt x="2895" y="7002"/>
                </a:lnTo>
                <a:lnTo>
                  <a:pt x="2897" y="6996"/>
                </a:lnTo>
                <a:lnTo>
                  <a:pt x="2890" y="7049"/>
                </a:lnTo>
                <a:lnTo>
                  <a:pt x="2824" y="7042"/>
                </a:lnTo>
                <a:close/>
                <a:moveTo>
                  <a:pt x="3050" y="6686"/>
                </a:moveTo>
                <a:lnTo>
                  <a:pt x="3087" y="6789"/>
                </a:lnTo>
                <a:cubicBezTo>
                  <a:pt x="3087" y="6791"/>
                  <a:pt x="3088" y="6793"/>
                  <a:pt x="3088" y="6796"/>
                </a:cubicBezTo>
                <a:lnTo>
                  <a:pt x="3111" y="6950"/>
                </a:lnTo>
                <a:lnTo>
                  <a:pt x="3045" y="6960"/>
                </a:lnTo>
                <a:lnTo>
                  <a:pt x="3022" y="6805"/>
                </a:lnTo>
                <a:lnTo>
                  <a:pt x="3024" y="6812"/>
                </a:lnTo>
                <a:lnTo>
                  <a:pt x="2987" y="6708"/>
                </a:lnTo>
                <a:lnTo>
                  <a:pt x="3050" y="6686"/>
                </a:lnTo>
                <a:close/>
                <a:moveTo>
                  <a:pt x="3139" y="7152"/>
                </a:moveTo>
                <a:lnTo>
                  <a:pt x="3149" y="7419"/>
                </a:lnTo>
                <a:lnTo>
                  <a:pt x="3083" y="7421"/>
                </a:lnTo>
                <a:lnTo>
                  <a:pt x="3073" y="7155"/>
                </a:lnTo>
                <a:lnTo>
                  <a:pt x="3139" y="7152"/>
                </a:lnTo>
                <a:close/>
                <a:moveTo>
                  <a:pt x="3160" y="7616"/>
                </a:moveTo>
                <a:lnTo>
                  <a:pt x="3190" y="7881"/>
                </a:lnTo>
                <a:lnTo>
                  <a:pt x="3124" y="7888"/>
                </a:lnTo>
                <a:lnTo>
                  <a:pt x="3094" y="7623"/>
                </a:lnTo>
                <a:lnTo>
                  <a:pt x="3160" y="7616"/>
                </a:lnTo>
                <a:close/>
                <a:moveTo>
                  <a:pt x="3218" y="8075"/>
                </a:moveTo>
                <a:lnTo>
                  <a:pt x="3254" y="8243"/>
                </a:lnTo>
                <a:lnTo>
                  <a:pt x="3190" y="8241"/>
                </a:lnTo>
                <a:lnTo>
                  <a:pt x="3218" y="8150"/>
                </a:lnTo>
                <a:lnTo>
                  <a:pt x="3282" y="8170"/>
                </a:lnTo>
                <a:lnTo>
                  <a:pt x="3254" y="8260"/>
                </a:lnTo>
                <a:cubicBezTo>
                  <a:pt x="3249" y="8275"/>
                  <a:pt x="3235" y="8284"/>
                  <a:pt x="3220" y="8284"/>
                </a:cubicBezTo>
                <a:cubicBezTo>
                  <a:pt x="3205" y="8283"/>
                  <a:pt x="3192" y="8272"/>
                  <a:pt x="3189" y="8257"/>
                </a:cubicBezTo>
                <a:lnTo>
                  <a:pt x="3153" y="8089"/>
                </a:lnTo>
                <a:lnTo>
                  <a:pt x="3218" y="8075"/>
                </a:lnTo>
                <a:close/>
                <a:moveTo>
                  <a:pt x="3242" y="7960"/>
                </a:moveTo>
                <a:lnTo>
                  <a:pt x="3263" y="7694"/>
                </a:lnTo>
                <a:lnTo>
                  <a:pt x="3330" y="7700"/>
                </a:lnTo>
                <a:lnTo>
                  <a:pt x="3309" y="7966"/>
                </a:lnTo>
                <a:lnTo>
                  <a:pt x="3242" y="7960"/>
                </a:lnTo>
                <a:close/>
                <a:moveTo>
                  <a:pt x="3279" y="7495"/>
                </a:moveTo>
                <a:lnTo>
                  <a:pt x="3280" y="7481"/>
                </a:lnTo>
                <a:lnTo>
                  <a:pt x="3286" y="7230"/>
                </a:lnTo>
                <a:lnTo>
                  <a:pt x="3352" y="7232"/>
                </a:lnTo>
                <a:lnTo>
                  <a:pt x="3347" y="7486"/>
                </a:lnTo>
                <a:lnTo>
                  <a:pt x="3346" y="7500"/>
                </a:lnTo>
                <a:lnTo>
                  <a:pt x="3279" y="7495"/>
                </a:lnTo>
                <a:close/>
                <a:moveTo>
                  <a:pt x="3290" y="7030"/>
                </a:moveTo>
                <a:lnTo>
                  <a:pt x="3296" y="6764"/>
                </a:lnTo>
                <a:lnTo>
                  <a:pt x="3362" y="6765"/>
                </a:lnTo>
                <a:lnTo>
                  <a:pt x="3357" y="7032"/>
                </a:lnTo>
                <a:lnTo>
                  <a:pt x="3290" y="7030"/>
                </a:lnTo>
                <a:close/>
                <a:moveTo>
                  <a:pt x="3300" y="6564"/>
                </a:moveTo>
                <a:lnTo>
                  <a:pt x="3305" y="6333"/>
                </a:lnTo>
                <a:lnTo>
                  <a:pt x="3306" y="6297"/>
                </a:lnTo>
                <a:lnTo>
                  <a:pt x="3373" y="6299"/>
                </a:lnTo>
                <a:lnTo>
                  <a:pt x="3372" y="6335"/>
                </a:lnTo>
                <a:lnTo>
                  <a:pt x="3367" y="6565"/>
                </a:lnTo>
                <a:lnTo>
                  <a:pt x="3300" y="6564"/>
                </a:lnTo>
                <a:close/>
                <a:moveTo>
                  <a:pt x="3311" y="6097"/>
                </a:moveTo>
                <a:lnTo>
                  <a:pt x="3319" y="5831"/>
                </a:lnTo>
                <a:lnTo>
                  <a:pt x="3385" y="5832"/>
                </a:lnTo>
                <a:lnTo>
                  <a:pt x="3378" y="6099"/>
                </a:lnTo>
                <a:lnTo>
                  <a:pt x="3311" y="6097"/>
                </a:lnTo>
                <a:close/>
                <a:moveTo>
                  <a:pt x="3324" y="5631"/>
                </a:moveTo>
                <a:lnTo>
                  <a:pt x="3331" y="5364"/>
                </a:lnTo>
                <a:lnTo>
                  <a:pt x="3398" y="5366"/>
                </a:lnTo>
                <a:lnTo>
                  <a:pt x="3391" y="5632"/>
                </a:lnTo>
                <a:lnTo>
                  <a:pt x="3324" y="5631"/>
                </a:lnTo>
                <a:close/>
                <a:moveTo>
                  <a:pt x="3337" y="5164"/>
                </a:moveTo>
                <a:lnTo>
                  <a:pt x="3344" y="4898"/>
                </a:lnTo>
                <a:lnTo>
                  <a:pt x="3410" y="4899"/>
                </a:lnTo>
                <a:lnTo>
                  <a:pt x="3403" y="5166"/>
                </a:lnTo>
                <a:lnTo>
                  <a:pt x="3337" y="5164"/>
                </a:lnTo>
                <a:close/>
                <a:moveTo>
                  <a:pt x="3349" y="4698"/>
                </a:moveTo>
                <a:lnTo>
                  <a:pt x="3357" y="4431"/>
                </a:lnTo>
                <a:lnTo>
                  <a:pt x="3424" y="4433"/>
                </a:lnTo>
                <a:lnTo>
                  <a:pt x="3416" y="4700"/>
                </a:lnTo>
                <a:lnTo>
                  <a:pt x="3349" y="4698"/>
                </a:lnTo>
                <a:close/>
                <a:moveTo>
                  <a:pt x="3363" y="4231"/>
                </a:moveTo>
                <a:lnTo>
                  <a:pt x="3371" y="3965"/>
                </a:lnTo>
                <a:lnTo>
                  <a:pt x="3437" y="3967"/>
                </a:lnTo>
                <a:lnTo>
                  <a:pt x="3430" y="4233"/>
                </a:lnTo>
                <a:lnTo>
                  <a:pt x="3363" y="4231"/>
                </a:lnTo>
                <a:close/>
                <a:moveTo>
                  <a:pt x="3377" y="3765"/>
                </a:moveTo>
                <a:lnTo>
                  <a:pt x="3384" y="3498"/>
                </a:lnTo>
                <a:lnTo>
                  <a:pt x="3451" y="3500"/>
                </a:lnTo>
                <a:lnTo>
                  <a:pt x="3443" y="3767"/>
                </a:lnTo>
                <a:lnTo>
                  <a:pt x="3377" y="3765"/>
                </a:lnTo>
                <a:close/>
                <a:moveTo>
                  <a:pt x="3390" y="3298"/>
                </a:moveTo>
                <a:lnTo>
                  <a:pt x="3397" y="3074"/>
                </a:lnTo>
                <a:lnTo>
                  <a:pt x="3398" y="3032"/>
                </a:lnTo>
                <a:lnTo>
                  <a:pt x="3465" y="3034"/>
                </a:lnTo>
                <a:lnTo>
                  <a:pt x="3463" y="3076"/>
                </a:lnTo>
                <a:lnTo>
                  <a:pt x="3457" y="3300"/>
                </a:lnTo>
                <a:lnTo>
                  <a:pt x="3390" y="3298"/>
                </a:lnTo>
                <a:close/>
                <a:moveTo>
                  <a:pt x="3405" y="2832"/>
                </a:moveTo>
                <a:lnTo>
                  <a:pt x="3413" y="2565"/>
                </a:lnTo>
                <a:lnTo>
                  <a:pt x="3480" y="2567"/>
                </a:lnTo>
                <a:lnTo>
                  <a:pt x="3471" y="2834"/>
                </a:lnTo>
                <a:lnTo>
                  <a:pt x="3405" y="2832"/>
                </a:lnTo>
                <a:close/>
                <a:moveTo>
                  <a:pt x="3420" y="2365"/>
                </a:moveTo>
                <a:lnTo>
                  <a:pt x="3428" y="2099"/>
                </a:lnTo>
                <a:lnTo>
                  <a:pt x="3495" y="2101"/>
                </a:lnTo>
                <a:lnTo>
                  <a:pt x="3486" y="2367"/>
                </a:lnTo>
                <a:lnTo>
                  <a:pt x="3420" y="2365"/>
                </a:lnTo>
                <a:close/>
                <a:moveTo>
                  <a:pt x="3435" y="1899"/>
                </a:moveTo>
                <a:lnTo>
                  <a:pt x="3444" y="1632"/>
                </a:lnTo>
                <a:lnTo>
                  <a:pt x="3510" y="1634"/>
                </a:lnTo>
                <a:lnTo>
                  <a:pt x="3502" y="1901"/>
                </a:lnTo>
                <a:lnTo>
                  <a:pt x="3435" y="1899"/>
                </a:lnTo>
                <a:close/>
                <a:moveTo>
                  <a:pt x="3451" y="1432"/>
                </a:moveTo>
                <a:lnTo>
                  <a:pt x="3461" y="1166"/>
                </a:lnTo>
                <a:lnTo>
                  <a:pt x="3527" y="1168"/>
                </a:lnTo>
                <a:lnTo>
                  <a:pt x="3517" y="1435"/>
                </a:lnTo>
                <a:lnTo>
                  <a:pt x="3451" y="1432"/>
                </a:lnTo>
                <a:close/>
                <a:moveTo>
                  <a:pt x="3468" y="966"/>
                </a:moveTo>
                <a:lnTo>
                  <a:pt x="3478" y="699"/>
                </a:lnTo>
                <a:lnTo>
                  <a:pt x="3545" y="702"/>
                </a:lnTo>
                <a:lnTo>
                  <a:pt x="3535" y="968"/>
                </a:lnTo>
                <a:lnTo>
                  <a:pt x="3468" y="966"/>
                </a:lnTo>
                <a:close/>
                <a:moveTo>
                  <a:pt x="3486" y="500"/>
                </a:moveTo>
                <a:lnTo>
                  <a:pt x="3488" y="433"/>
                </a:lnTo>
                <a:lnTo>
                  <a:pt x="3501" y="233"/>
                </a:lnTo>
                <a:lnTo>
                  <a:pt x="3568" y="237"/>
                </a:lnTo>
                <a:lnTo>
                  <a:pt x="3555" y="435"/>
                </a:lnTo>
                <a:lnTo>
                  <a:pt x="3553" y="502"/>
                </a:lnTo>
                <a:lnTo>
                  <a:pt x="3486" y="500"/>
                </a:lnTo>
                <a:close/>
                <a:moveTo>
                  <a:pt x="3513" y="33"/>
                </a:moveTo>
                <a:lnTo>
                  <a:pt x="3514" y="32"/>
                </a:lnTo>
                <a:cubicBezTo>
                  <a:pt x="3515" y="15"/>
                  <a:pt x="3528" y="1"/>
                  <a:pt x="3545" y="1"/>
                </a:cubicBezTo>
                <a:cubicBezTo>
                  <a:pt x="3562" y="0"/>
                  <a:pt x="3577" y="12"/>
                  <a:pt x="3580" y="29"/>
                </a:cubicBezTo>
                <a:lnTo>
                  <a:pt x="3620" y="291"/>
                </a:lnTo>
                <a:lnTo>
                  <a:pt x="3554" y="301"/>
                </a:lnTo>
                <a:lnTo>
                  <a:pt x="3514" y="39"/>
                </a:lnTo>
                <a:lnTo>
                  <a:pt x="3580" y="36"/>
                </a:lnTo>
                <a:lnTo>
                  <a:pt x="3580" y="37"/>
                </a:lnTo>
                <a:lnTo>
                  <a:pt x="3513" y="33"/>
                </a:lnTo>
                <a:close/>
                <a:moveTo>
                  <a:pt x="3636" y="494"/>
                </a:moveTo>
                <a:lnTo>
                  <a:pt x="3647" y="760"/>
                </a:lnTo>
                <a:lnTo>
                  <a:pt x="3581" y="763"/>
                </a:lnTo>
                <a:lnTo>
                  <a:pt x="3569" y="497"/>
                </a:lnTo>
                <a:lnTo>
                  <a:pt x="3636" y="494"/>
                </a:lnTo>
                <a:close/>
                <a:moveTo>
                  <a:pt x="3656" y="960"/>
                </a:moveTo>
                <a:lnTo>
                  <a:pt x="3667" y="1227"/>
                </a:lnTo>
                <a:lnTo>
                  <a:pt x="3600" y="1229"/>
                </a:lnTo>
                <a:lnTo>
                  <a:pt x="3589" y="963"/>
                </a:lnTo>
                <a:lnTo>
                  <a:pt x="3656" y="960"/>
                </a:lnTo>
                <a:close/>
                <a:moveTo>
                  <a:pt x="3675" y="1427"/>
                </a:moveTo>
                <a:lnTo>
                  <a:pt x="3684" y="1693"/>
                </a:lnTo>
                <a:lnTo>
                  <a:pt x="3618" y="1696"/>
                </a:lnTo>
                <a:lnTo>
                  <a:pt x="3608" y="1429"/>
                </a:lnTo>
                <a:lnTo>
                  <a:pt x="3675" y="1427"/>
                </a:lnTo>
                <a:close/>
                <a:moveTo>
                  <a:pt x="3691" y="1893"/>
                </a:moveTo>
                <a:lnTo>
                  <a:pt x="3701" y="2160"/>
                </a:lnTo>
                <a:lnTo>
                  <a:pt x="3634" y="2162"/>
                </a:lnTo>
                <a:lnTo>
                  <a:pt x="3625" y="1895"/>
                </a:lnTo>
                <a:lnTo>
                  <a:pt x="3691" y="1893"/>
                </a:lnTo>
                <a:close/>
                <a:moveTo>
                  <a:pt x="3708" y="2359"/>
                </a:moveTo>
                <a:lnTo>
                  <a:pt x="3717" y="2626"/>
                </a:lnTo>
                <a:lnTo>
                  <a:pt x="3651" y="2628"/>
                </a:lnTo>
                <a:lnTo>
                  <a:pt x="3641" y="2362"/>
                </a:lnTo>
                <a:lnTo>
                  <a:pt x="3708" y="2359"/>
                </a:lnTo>
                <a:close/>
                <a:moveTo>
                  <a:pt x="3724" y="2826"/>
                </a:moveTo>
                <a:lnTo>
                  <a:pt x="3733" y="3092"/>
                </a:lnTo>
                <a:lnTo>
                  <a:pt x="3666" y="3095"/>
                </a:lnTo>
                <a:lnTo>
                  <a:pt x="3658" y="2828"/>
                </a:lnTo>
                <a:lnTo>
                  <a:pt x="3724" y="2826"/>
                </a:lnTo>
                <a:close/>
                <a:moveTo>
                  <a:pt x="3740" y="3292"/>
                </a:moveTo>
                <a:lnTo>
                  <a:pt x="3748" y="3559"/>
                </a:lnTo>
                <a:lnTo>
                  <a:pt x="3682" y="3561"/>
                </a:lnTo>
                <a:lnTo>
                  <a:pt x="3673" y="3294"/>
                </a:lnTo>
                <a:lnTo>
                  <a:pt x="3740" y="3292"/>
                </a:lnTo>
                <a:close/>
                <a:moveTo>
                  <a:pt x="3755" y="3759"/>
                </a:moveTo>
                <a:lnTo>
                  <a:pt x="3764" y="4025"/>
                </a:lnTo>
                <a:lnTo>
                  <a:pt x="3697" y="4027"/>
                </a:lnTo>
                <a:lnTo>
                  <a:pt x="3688" y="3761"/>
                </a:lnTo>
                <a:lnTo>
                  <a:pt x="3755" y="3759"/>
                </a:lnTo>
                <a:close/>
                <a:moveTo>
                  <a:pt x="3770" y="4225"/>
                </a:moveTo>
                <a:lnTo>
                  <a:pt x="3772" y="4274"/>
                </a:lnTo>
                <a:lnTo>
                  <a:pt x="3779" y="4492"/>
                </a:lnTo>
                <a:lnTo>
                  <a:pt x="3712" y="4494"/>
                </a:lnTo>
                <a:lnTo>
                  <a:pt x="3705" y="4277"/>
                </a:lnTo>
                <a:lnTo>
                  <a:pt x="3704" y="4227"/>
                </a:lnTo>
                <a:lnTo>
                  <a:pt x="3770" y="4225"/>
                </a:lnTo>
                <a:close/>
                <a:moveTo>
                  <a:pt x="3785" y="4692"/>
                </a:moveTo>
                <a:lnTo>
                  <a:pt x="3793" y="4958"/>
                </a:lnTo>
                <a:lnTo>
                  <a:pt x="3727" y="4960"/>
                </a:lnTo>
                <a:lnTo>
                  <a:pt x="3718" y="4694"/>
                </a:lnTo>
                <a:lnTo>
                  <a:pt x="3785" y="4692"/>
                </a:lnTo>
                <a:close/>
                <a:moveTo>
                  <a:pt x="3799" y="5158"/>
                </a:moveTo>
                <a:lnTo>
                  <a:pt x="3808" y="5425"/>
                </a:lnTo>
                <a:lnTo>
                  <a:pt x="3741" y="5427"/>
                </a:lnTo>
                <a:lnTo>
                  <a:pt x="3733" y="5160"/>
                </a:lnTo>
                <a:lnTo>
                  <a:pt x="3799" y="5158"/>
                </a:lnTo>
                <a:close/>
                <a:moveTo>
                  <a:pt x="3814" y="5625"/>
                </a:moveTo>
                <a:lnTo>
                  <a:pt x="3821" y="5891"/>
                </a:lnTo>
                <a:lnTo>
                  <a:pt x="3755" y="5893"/>
                </a:lnTo>
                <a:lnTo>
                  <a:pt x="3747" y="5626"/>
                </a:lnTo>
                <a:lnTo>
                  <a:pt x="3814" y="5625"/>
                </a:lnTo>
                <a:close/>
                <a:moveTo>
                  <a:pt x="3827" y="6091"/>
                </a:moveTo>
                <a:lnTo>
                  <a:pt x="3834" y="6358"/>
                </a:lnTo>
                <a:lnTo>
                  <a:pt x="3767" y="6360"/>
                </a:lnTo>
                <a:lnTo>
                  <a:pt x="3760" y="6093"/>
                </a:lnTo>
                <a:lnTo>
                  <a:pt x="3827" y="6091"/>
                </a:lnTo>
                <a:close/>
                <a:moveTo>
                  <a:pt x="3843" y="6554"/>
                </a:moveTo>
                <a:lnTo>
                  <a:pt x="3874" y="6819"/>
                </a:lnTo>
                <a:lnTo>
                  <a:pt x="3808" y="6827"/>
                </a:lnTo>
                <a:lnTo>
                  <a:pt x="3777" y="6562"/>
                </a:lnTo>
                <a:lnTo>
                  <a:pt x="3843" y="6554"/>
                </a:lnTo>
                <a:close/>
                <a:moveTo>
                  <a:pt x="3866" y="6873"/>
                </a:moveTo>
                <a:lnTo>
                  <a:pt x="3901" y="6608"/>
                </a:lnTo>
                <a:lnTo>
                  <a:pt x="3967" y="6617"/>
                </a:lnTo>
                <a:lnTo>
                  <a:pt x="3932" y="6882"/>
                </a:lnTo>
                <a:lnTo>
                  <a:pt x="3866" y="6873"/>
                </a:lnTo>
                <a:close/>
                <a:moveTo>
                  <a:pt x="3925" y="6411"/>
                </a:moveTo>
                <a:lnTo>
                  <a:pt x="3955" y="6146"/>
                </a:lnTo>
                <a:lnTo>
                  <a:pt x="4022" y="6153"/>
                </a:lnTo>
                <a:lnTo>
                  <a:pt x="3992" y="6418"/>
                </a:lnTo>
                <a:lnTo>
                  <a:pt x="3925" y="6411"/>
                </a:lnTo>
                <a:close/>
                <a:moveTo>
                  <a:pt x="3969" y="5949"/>
                </a:moveTo>
                <a:lnTo>
                  <a:pt x="3980" y="5699"/>
                </a:lnTo>
                <a:cubicBezTo>
                  <a:pt x="3980" y="5696"/>
                  <a:pt x="3981" y="5694"/>
                  <a:pt x="3982" y="5691"/>
                </a:cubicBezTo>
                <a:lnTo>
                  <a:pt x="3986" y="5675"/>
                </a:lnTo>
                <a:lnTo>
                  <a:pt x="4050" y="5694"/>
                </a:lnTo>
                <a:lnTo>
                  <a:pt x="4045" y="5710"/>
                </a:lnTo>
                <a:lnTo>
                  <a:pt x="4047" y="5702"/>
                </a:lnTo>
                <a:lnTo>
                  <a:pt x="4036" y="5952"/>
                </a:lnTo>
                <a:lnTo>
                  <a:pt x="3969" y="5949"/>
                </a:lnTo>
                <a:close/>
                <a:moveTo>
                  <a:pt x="4115" y="5551"/>
                </a:moveTo>
                <a:lnTo>
                  <a:pt x="4141" y="5590"/>
                </a:lnTo>
                <a:cubicBezTo>
                  <a:pt x="4144" y="5594"/>
                  <a:pt x="4145" y="5598"/>
                  <a:pt x="4146" y="5603"/>
                </a:cubicBezTo>
                <a:lnTo>
                  <a:pt x="4185" y="5819"/>
                </a:lnTo>
                <a:lnTo>
                  <a:pt x="4119" y="5831"/>
                </a:lnTo>
                <a:lnTo>
                  <a:pt x="4081" y="5615"/>
                </a:lnTo>
                <a:lnTo>
                  <a:pt x="4086" y="5627"/>
                </a:lnTo>
                <a:lnTo>
                  <a:pt x="4060" y="5588"/>
                </a:lnTo>
                <a:lnTo>
                  <a:pt x="4115" y="5551"/>
                </a:lnTo>
                <a:close/>
                <a:moveTo>
                  <a:pt x="4218" y="6017"/>
                </a:moveTo>
                <a:lnTo>
                  <a:pt x="4238" y="6137"/>
                </a:lnTo>
                <a:lnTo>
                  <a:pt x="4270" y="6276"/>
                </a:lnTo>
                <a:lnTo>
                  <a:pt x="4205" y="6291"/>
                </a:lnTo>
                <a:lnTo>
                  <a:pt x="4172" y="6148"/>
                </a:lnTo>
                <a:lnTo>
                  <a:pt x="4152" y="6027"/>
                </a:lnTo>
                <a:lnTo>
                  <a:pt x="4218" y="6017"/>
                </a:lnTo>
                <a:close/>
                <a:moveTo>
                  <a:pt x="4258" y="6364"/>
                </a:moveTo>
                <a:lnTo>
                  <a:pt x="4290" y="6273"/>
                </a:lnTo>
                <a:lnTo>
                  <a:pt x="4289" y="6278"/>
                </a:lnTo>
                <a:lnTo>
                  <a:pt x="4317" y="6110"/>
                </a:lnTo>
                <a:lnTo>
                  <a:pt x="4383" y="6121"/>
                </a:lnTo>
                <a:lnTo>
                  <a:pt x="4355" y="6289"/>
                </a:lnTo>
                <a:cubicBezTo>
                  <a:pt x="4354" y="6291"/>
                  <a:pt x="4354" y="6293"/>
                  <a:pt x="4353" y="6295"/>
                </a:cubicBezTo>
                <a:lnTo>
                  <a:pt x="4321" y="6386"/>
                </a:lnTo>
                <a:lnTo>
                  <a:pt x="4258" y="6364"/>
                </a:lnTo>
                <a:close/>
                <a:moveTo>
                  <a:pt x="4345" y="5915"/>
                </a:moveTo>
                <a:lnTo>
                  <a:pt x="4373" y="5649"/>
                </a:lnTo>
                <a:lnTo>
                  <a:pt x="4439" y="5656"/>
                </a:lnTo>
                <a:lnTo>
                  <a:pt x="4412" y="5922"/>
                </a:lnTo>
                <a:lnTo>
                  <a:pt x="4345" y="5915"/>
                </a:lnTo>
                <a:close/>
                <a:moveTo>
                  <a:pt x="4398" y="5450"/>
                </a:moveTo>
                <a:lnTo>
                  <a:pt x="4430" y="5204"/>
                </a:lnTo>
                <a:lnTo>
                  <a:pt x="4432" y="5187"/>
                </a:lnTo>
                <a:lnTo>
                  <a:pt x="4498" y="5193"/>
                </a:lnTo>
                <a:lnTo>
                  <a:pt x="4497" y="5213"/>
                </a:lnTo>
                <a:lnTo>
                  <a:pt x="4464" y="5459"/>
                </a:lnTo>
                <a:lnTo>
                  <a:pt x="4398" y="5450"/>
                </a:lnTo>
                <a:close/>
                <a:moveTo>
                  <a:pt x="4450" y="4988"/>
                </a:moveTo>
                <a:lnTo>
                  <a:pt x="4455" y="4923"/>
                </a:lnTo>
                <a:cubicBezTo>
                  <a:pt x="4456" y="4920"/>
                  <a:pt x="4456" y="4917"/>
                  <a:pt x="4457" y="4914"/>
                </a:cubicBezTo>
                <a:lnTo>
                  <a:pt x="4499" y="4798"/>
                </a:lnTo>
                <a:cubicBezTo>
                  <a:pt x="4503" y="4787"/>
                  <a:pt x="4512" y="4779"/>
                  <a:pt x="4523" y="4776"/>
                </a:cubicBezTo>
                <a:cubicBezTo>
                  <a:pt x="4534" y="4774"/>
                  <a:pt x="4546" y="4777"/>
                  <a:pt x="4554" y="4785"/>
                </a:cubicBezTo>
                <a:lnTo>
                  <a:pt x="4604" y="4835"/>
                </a:lnTo>
                <a:cubicBezTo>
                  <a:pt x="4608" y="4839"/>
                  <a:pt x="4611" y="4844"/>
                  <a:pt x="4612" y="4850"/>
                </a:cubicBezTo>
                <a:lnTo>
                  <a:pt x="4614" y="4856"/>
                </a:lnTo>
                <a:lnTo>
                  <a:pt x="4550" y="4874"/>
                </a:lnTo>
                <a:lnTo>
                  <a:pt x="4548" y="4868"/>
                </a:lnTo>
                <a:lnTo>
                  <a:pt x="4557" y="4882"/>
                </a:lnTo>
                <a:lnTo>
                  <a:pt x="4507" y="4832"/>
                </a:lnTo>
                <a:lnTo>
                  <a:pt x="4562" y="4820"/>
                </a:lnTo>
                <a:lnTo>
                  <a:pt x="4520" y="4937"/>
                </a:lnTo>
                <a:lnTo>
                  <a:pt x="4522" y="4928"/>
                </a:lnTo>
                <a:lnTo>
                  <a:pt x="4516" y="4994"/>
                </a:lnTo>
                <a:lnTo>
                  <a:pt x="4450" y="4988"/>
                </a:lnTo>
                <a:close/>
                <a:moveTo>
                  <a:pt x="4666" y="5053"/>
                </a:moveTo>
                <a:lnTo>
                  <a:pt x="4705" y="5295"/>
                </a:lnTo>
                <a:lnTo>
                  <a:pt x="4707" y="5319"/>
                </a:lnTo>
                <a:lnTo>
                  <a:pt x="4641" y="5325"/>
                </a:lnTo>
                <a:lnTo>
                  <a:pt x="4639" y="5306"/>
                </a:lnTo>
                <a:lnTo>
                  <a:pt x="4600" y="5064"/>
                </a:lnTo>
                <a:lnTo>
                  <a:pt x="4666" y="5053"/>
                </a:lnTo>
                <a:close/>
                <a:moveTo>
                  <a:pt x="4726" y="5518"/>
                </a:moveTo>
                <a:lnTo>
                  <a:pt x="4730" y="5556"/>
                </a:lnTo>
                <a:lnTo>
                  <a:pt x="4777" y="5775"/>
                </a:lnTo>
                <a:lnTo>
                  <a:pt x="4712" y="5789"/>
                </a:lnTo>
                <a:lnTo>
                  <a:pt x="4664" y="5562"/>
                </a:lnTo>
                <a:lnTo>
                  <a:pt x="4660" y="5524"/>
                </a:lnTo>
                <a:lnTo>
                  <a:pt x="4726" y="5518"/>
                </a:lnTo>
                <a:close/>
                <a:moveTo>
                  <a:pt x="4842" y="5940"/>
                </a:moveTo>
                <a:lnTo>
                  <a:pt x="4862" y="5960"/>
                </a:lnTo>
                <a:lnTo>
                  <a:pt x="4838" y="5950"/>
                </a:lnTo>
                <a:lnTo>
                  <a:pt x="4888" y="5950"/>
                </a:lnTo>
                <a:lnTo>
                  <a:pt x="4863" y="5962"/>
                </a:lnTo>
                <a:lnTo>
                  <a:pt x="4905" y="5912"/>
                </a:lnTo>
                <a:lnTo>
                  <a:pt x="4899" y="5922"/>
                </a:lnTo>
                <a:lnTo>
                  <a:pt x="4924" y="5855"/>
                </a:lnTo>
                <a:cubicBezTo>
                  <a:pt x="4927" y="5848"/>
                  <a:pt x="4933" y="5841"/>
                  <a:pt x="4940" y="5837"/>
                </a:cubicBezTo>
                <a:lnTo>
                  <a:pt x="4987" y="5814"/>
                </a:lnTo>
                <a:lnTo>
                  <a:pt x="5017" y="5874"/>
                </a:lnTo>
                <a:lnTo>
                  <a:pt x="4970" y="5897"/>
                </a:lnTo>
                <a:lnTo>
                  <a:pt x="4986" y="5879"/>
                </a:lnTo>
                <a:lnTo>
                  <a:pt x="4961" y="5946"/>
                </a:lnTo>
                <a:cubicBezTo>
                  <a:pt x="4960" y="5949"/>
                  <a:pt x="4958" y="5952"/>
                  <a:pt x="4956" y="5955"/>
                </a:cubicBezTo>
                <a:lnTo>
                  <a:pt x="4914" y="6005"/>
                </a:lnTo>
                <a:cubicBezTo>
                  <a:pt x="4908" y="6013"/>
                  <a:pt x="4898" y="6017"/>
                  <a:pt x="4888" y="6017"/>
                </a:cubicBezTo>
                <a:lnTo>
                  <a:pt x="4838" y="6017"/>
                </a:lnTo>
                <a:cubicBezTo>
                  <a:pt x="4830" y="6017"/>
                  <a:pt x="4821" y="6014"/>
                  <a:pt x="4815" y="6007"/>
                </a:cubicBezTo>
                <a:lnTo>
                  <a:pt x="4795" y="5987"/>
                </a:lnTo>
                <a:lnTo>
                  <a:pt x="4842" y="5940"/>
                </a:lnTo>
                <a:close/>
                <a:moveTo>
                  <a:pt x="5189" y="5930"/>
                </a:moveTo>
                <a:lnTo>
                  <a:pt x="5195" y="5948"/>
                </a:lnTo>
                <a:lnTo>
                  <a:pt x="5187" y="5935"/>
                </a:lnTo>
                <a:lnTo>
                  <a:pt x="5237" y="5985"/>
                </a:lnTo>
                <a:lnTo>
                  <a:pt x="5213" y="5975"/>
                </a:lnTo>
                <a:lnTo>
                  <a:pt x="5263" y="5975"/>
                </a:lnTo>
                <a:lnTo>
                  <a:pt x="5305" y="5975"/>
                </a:lnTo>
                <a:lnTo>
                  <a:pt x="5290" y="5979"/>
                </a:lnTo>
                <a:lnTo>
                  <a:pt x="5340" y="5954"/>
                </a:lnTo>
                <a:lnTo>
                  <a:pt x="5332" y="5960"/>
                </a:lnTo>
                <a:lnTo>
                  <a:pt x="5352" y="5940"/>
                </a:lnTo>
                <a:lnTo>
                  <a:pt x="5399" y="5987"/>
                </a:lnTo>
                <a:lnTo>
                  <a:pt x="5379" y="6007"/>
                </a:lnTo>
                <a:cubicBezTo>
                  <a:pt x="5376" y="6010"/>
                  <a:pt x="5373" y="6012"/>
                  <a:pt x="5370" y="6014"/>
                </a:cubicBezTo>
                <a:lnTo>
                  <a:pt x="5320" y="6039"/>
                </a:lnTo>
                <a:cubicBezTo>
                  <a:pt x="5315" y="6041"/>
                  <a:pt x="5310" y="6042"/>
                  <a:pt x="5305" y="6042"/>
                </a:cubicBezTo>
                <a:lnTo>
                  <a:pt x="5263" y="6042"/>
                </a:lnTo>
                <a:lnTo>
                  <a:pt x="5213" y="6042"/>
                </a:lnTo>
                <a:cubicBezTo>
                  <a:pt x="5205" y="6042"/>
                  <a:pt x="5196" y="6039"/>
                  <a:pt x="5190" y="6032"/>
                </a:cubicBezTo>
                <a:lnTo>
                  <a:pt x="5140" y="5982"/>
                </a:lnTo>
                <a:cubicBezTo>
                  <a:pt x="5136" y="5979"/>
                  <a:pt x="5133" y="5974"/>
                  <a:pt x="5132" y="5969"/>
                </a:cubicBezTo>
                <a:lnTo>
                  <a:pt x="5126" y="5951"/>
                </a:lnTo>
                <a:lnTo>
                  <a:pt x="5189" y="5930"/>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5351400" y="4506840"/>
            <a:ext cx="774720" cy="569880"/>
          </a:xfrm>
          <a:custGeom>
            <a:avLst/>
            <a:gdLst/>
            <a:ahLst/>
            <a:rect l="l" t="t" r="r" b="b"/>
            <a:pathLst>
              <a:path w="3227" h="2369">
                <a:moveTo>
                  <a:pt x="0" y="1103"/>
                </a:moveTo>
                <a:lnTo>
                  <a:pt x="50" y="1087"/>
                </a:lnTo>
                <a:cubicBezTo>
                  <a:pt x="57" y="1084"/>
                  <a:pt x="64" y="1084"/>
                  <a:pt x="71" y="1087"/>
                </a:cubicBezTo>
                <a:lnTo>
                  <a:pt x="121" y="1103"/>
                </a:lnTo>
                <a:cubicBezTo>
                  <a:pt x="129" y="1106"/>
                  <a:pt x="136" y="1111"/>
                  <a:pt x="140" y="1119"/>
                </a:cubicBezTo>
                <a:lnTo>
                  <a:pt x="182" y="1194"/>
                </a:lnTo>
                <a:lnTo>
                  <a:pt x="213" y="1266"/>
                </a:lnTo>
                <a:lnTo>
                  <a:pt x="152" y="1292"/>
                </a:lnTo>
                <a:lnTo>
                  <a:pt x="123" y="1226"/>
                </a:lnTo>
                <a:lnTo>
                  <a:pt x="82" y="1151"/>
                </a:lnTo>
                <a:lnTo>
                  <a:pt x="100" y="1166"/>
                </a:lnTo>
                <a:lnTo>
                  <a:pt x="50" y="1150"/>
                </a:lnTo>
                <a:lnTo>
                  <a:pt x="71" y="1150"/>
                </a:lnTo>
                <a:lnTo>
                  <a:pt x="21" y="1166"/>
                </a:lnTo>
                <a:lnTo>
                  <a:pt x="0" y="1103"/>
                </a:lnTo>
                <a:close/>
                <a:moveTo>
                  <a:pt x="256" y="1469"/>
                </a:moveTo>
                <a:lnTo>
                  <a:pt x="260" y="1505"/>
                </a:lnTo>
                <a:lnTo>
                  <a:pt x="302" y="1720"/>
                </a:lnTo>
                <a:lnTo>
                  <a:pt x="304" y="1728"/>
                </a:lnTo>
                <a:lnTo>
                  <a:pt x="239" y="1744"/>
                </a:lnTo>
                <a:lnTo>
                  <a:pt x="236" y="1733"/>
                </a:lnTo>
                <a:lnTo>
                  <a:pt x="194" y="1514"/>
                </a:lnTo>
                <a:lnTo>
                  <a:pt x="190" y="1478"/>
                </a:lnTo>
                <a:lnTo>
                  <a:pt x="256" y="1469"/>
                </a:lnTo>
                <a:close/>
                <a:moveTo>
                  <a:pt x="350" y="1922"/>
                </a:moveTo>
                <a:lnTo>
                  <a:pt x="352" y="1927"/>
                </a:lnTo>
                <a:lnTo>
                  <a:pt x="401" y="2092"/>
                </a:lnTo>
                <a:lnTo>
                  <a:pt x="382" y="2071"/>
                </a:lnTo>
                <a:lnTo>
                  <a:pt x="423" y="2087"/>
                </a:lnTo>
                <a:lnTo>
                  <a:pt x="378" y="2111"/>
                </a:lnTo>
                <a:lnTo>
                  <a:pt x="387" y="2069"/>
                </a:lnTo>
                <a:lnTo>
                  <a:pt x="452" y="2083"/>
                </a:lnTo>
                <a:lnTo>
                  <a:pt x="443" y="2125"/>
                </a:lnTo>
                <a:cubicBezTo>
                  <a:pt x="441" y="2135"/>
                  <a:pt x="435" y="2143"/>
                  <a:pt x="426" y="2148"/>
                </a:cubicBezTo>
                <a:cubicBezTo>
                  <a:pt x="418" y="2152"/>
                  <a:pt x="408" y="2153"/>
                  <a:pt x="398" y="2149"/>
                </a:cubicBezTo>
                <a:lnTo>
                  <a:pt x="357" y="2132"/>
                </a:lnTo>
                <a:cubicBezTo>
                  <a:pt x="347" y="2129"/>
                  <a:pt x="340" y="2121"/>
                  <a:pt x="337" y="2111"/>
                </a:cubicBezTo>
                <a:lnTo>
                  <a:pt x="287" y="1943"/>
                </a:lnTo>
                <a:lnTo>
                  <a:pt x="286" y="1938"/>
                </a:lnTo>
                <a:lnTo>
                  <a:pt x="350" y="1922"/>
                </a:lnTo>
                <a:close/>
                <a:moveTo>
                  <a:pt x="425" y="1874"/>
                </a:moveTo>
                <a:lnTo>
                  <a:pt x="453" y="1721"/>
                </a:lnTo>
                <a:lnTo>
                  <a:pt x="463" y="1613"/>
                </a:lnTo>
                <a:lnTo>
                  <a:pt x="530" y="1619"/>
                </a:lnTo>
                <a:lnTo>
                  <a:pt x="519" y="1732"/>
                </a:lnTo>
                <a:lnTo>
                  <a:pt x="491" y="1886"/>
                </a:lnTo>
                <a:lnTo>
                  <a:pt x="425" y="1874"/>
                </a:lnTo>
                <a:close/>
                <a:moveTo>
                  <a:pt x="483" y="1414"/>
                </a:moveTo>
                <a:lnTo>
                  <a:pt x="494" y="1298"/>
                </a:lnTo>
                <a:lnTo>
                  <a:pt x="510" y="1148"/>
                </a:lnTo>
                <a:lnTo>
                  <a:pt x="577" y="1155"/>
                </a:lnTo>
                <a:lnTo>
                  <a:pt x="561" y="1305"/>
                </a:lnTo>
                <a:lnTo>
                  <a:pt x="549" y="1420"/>
                </a:lnTo>
                <a:lnTo>
                  <a:pt x="483" y="1414"/>
                </a:lnTo>
                <a:close/>
                <a:moveTo>
                  <a:pt x="532" y="949"/>
                </a:moveTo>
                <a:lnTo>
                  <a:pt x="544" y="831"/>
                </a:lnTo>
                <a:lnTo>
                  <a:pt x="561" y="684"/>
                </a:lnTo>
                <a:lnTo>
                  <a:pt x="627" y="692"/>
                </a:lnTo>
                <a:lnTo>
                  <a:pt x="611" y="838"/>
                </a:lnTo>
                <a:lnTo>
                  <a:pt x="598" y="956"/>
                </a:lnTo>
                <a:lnTo>
                  <a:pt x="532" y="949"/>
                </a:lnTo>
                <a:close/>
                <a:moveTo>
                  <a:pt x="583" y="485"/>
                </a:moveTo>
                <a:lnTo>
                  <a:pt x="594" y="381"/>
                </a:lnTo>
                <a:lnTo>
                  <a:pt x="604" y="221"/>
                </a:lnTo>
                <a:lnTo>
                  <a:pt x="671" y="225"/>
                </a:lnTo>
                <a:lnTo>
                  <a:pt x="661" y="388"/>
                </a:lnTo>
                <a:lnTo>
                  <a:pt x="649" y="493"/>
                </a:lnTo>
                <a:lnTo>
                  <a:pt x="583" y="485"/>
                </a:lnTo>
                <a:close/>
                <a:moveTo>
                  <a:pt x="664" y="20"/>
                </a:moveTo>
                <a:lnTo>
                  <a:pt x="666" y="16"/>
                </a:lnTo>
                <a:cubicBezTo>
                  <a:pt x="674" y="5"/>
                  <a:pt x="687" y="0"/>
                  <a:pt x="700" y="2"/>
                </a:cubicBezTo>
                <a:cubicBezTo>
                  <a:pt x="713" y="4"/>
                  <a:pt x="723" y="14"/>
                  <a:pt x="726" y="26"/>
                </a:cubicBezTo>
                <a:lnTo>
                  <a:pt x="776" y="218"/>
                </a:lnTo>
                <a:cubicBezTo>
                  <a:pt x="777" y="220"/>
                  <a:pt x="777" y="221"/>
                  <a:pt x="777" y="223"/>
                </a:cubicBezTo>
                <a:lnTo>
                  <a:pt x="784" y="287"/>
                </a:lnTo>
                <a:lnTo>
                  <a:pt x="718" y="294"/>
                </a:lnTo>
                <a:lnTo>
                  <a:pt x="711" y="230"/>
                </a:lnTo>
                <a:lnTo>
                  <a:pt x="712" y="235"/>
                </a:lnTo>
                <a:lnTo>
                  <a:pt x="662" y="43"/>
                </a:lnTo>
                <a:lnTo>
                  <a:pt x="722" y="53"/>
                </a:lnTo>
                <a:lnTo>
                  <a:pt x="720" y="57"/>
                </a:lnTo>
                <a:lnTo>
                  <a:pt x="664" y="20"/>
                </a:lnTo>
                <a:close/>
                <a:moveTo>
                  <a:pt x="806" y="486"/>
                </a:moveTo>
                <a:lnTo>
                  <a:pt x="819" y="598"/>
                </a:lnTo>
                <a:lnTo>
                  <a:pt x="834" y="752"/>
                </a:lnTo>
                <a:lnTo>
                  <a:pt x="767" y="758"/>
                </a:lnTo>
                <a:lnTo>
                  <a:pt x="753" y="605"/>
                </a:lnTo>
                <a:lnTo>
                  <a:pt x="740" y="493"/>
                </a:lnTo>
                <a:lnTo>
                  <a:pt x="806" y="486"/>
                </a:lnTo>
                <a:close/>
                <a:moveTo>
                  <a:pt x="853" y="951"/>
                </a:moveTo>
                <a:lnTo>
                  <a:pt x="869" y="1115"/>
                </a:lnTo>
                <a:lnTo>
                  <a:pt x="879" y="1216"/>
                </a:lnTo>
                <a:lnTo>
                  <a:pt x="813" y="1223"/>
                </a:lnTo>
                <a:lnTo>
                  <a:pt x="803" y="1121"/>
                </a:lnTo>
                <a:lnTo>
                  <a:pt x="787" y="957"/>
                </a:lnTo>
                <a:lnTo>
                  <a:pt x="853" y="951"/>
                </a:lnTo>
                <a:close/>
                <a:moveTo>
                  <a:pt x="899" y="1415"/>
                </a:moveTo>
                <a:lnTo>
                  <a:pt x="919" y="1623"/>
                </a:lnTo>
                <a:lnTo>
                  <a:pt x="921" y="1683"/>
                </a:lnTo>
                <a:lnTo>
                  <a:pt x="855" y="1685"/>
                </a:lnTo>
                <a:lnTo>
                  <a:pt x="853" y="1630"/>
                </a:lnTo>
                <a:lnTo>
                  <a:pt x="832" y="1422"/>
                </a:lnTo>
                <a:lnTo>
                  <a:pt x="899" y="1415"/>
                </a:lnTo>
                <a:close/>
                <a:moveTo>
                  <a:pt x="929" y="1883"/>
                </a:moveTo>
                <a:lnTo>
                  <a:pt x="936" y="2075"/>
                </a:lnTo>
                <a:lnTo>
                  <a:pt x="935" y="2069"/>
                </a:lnTo>
                <a:lnTo>
                  <a:pt x="951" y="2142"/>
                </a:lnTo>
                <a:lnTo>
                  <a:pt x="885" y="2156"/>
                </a:lnTo>
                <a:lnTo>
                  <a:pt x="870" y="2083"/>
                </a:lnTo>
                <a:cubicBezTo>
                  <a:pt x="869" y="2082"/>
                  <a:pt x="869" y="2080"/>
                  <a:pt x="869" y="2078"/>
                </a:cubicBezTo>
                <a:lnTo>
                  <a:pt x="862" y="1885"/>
                </a:lnTo>
                <a:lnTo>
                  <a:pt x="929" y="1883"/>
                </a:lnTo>
                <a:close/>
                <a:moveTo>
                  <a:pt x="999" y="2296"/>
                </a:moveTo>
                <a:lnTo>
                  <a:pt x="1017" y="2305"/>
                </a:lnTo>
                <a:lnTo>
                  <a:pt x="970" y="2328"/>
                </a:lnTo>
                <a:lnTo>
                  <a:pt x="1012" y="2136"/>
                </a:lnTo>
                <a:lnTo>
                  <a:pt x="1019" y="2088"/>
                </a:lnTo>
                <a:lnTo>
                  <a:pt x="1085" y="2099"/>
                </a:lnTo>
                <a:lnTo>
                  <a:pt x="1077" y="2150"/>
                </a:lnTo>
                <a:lnTo>
                  <a:pt x="1035" y="2342"/>
                </a:lnTo>
                <a:cubicBezTo>
                  <a:pt x="1033" y="2352"/>
                  <a:pt x="1026" y="2360"/>
                  <a:pt x="1017" y="2365"/>
                </a:cubicBezTo>
                <a:cubicBezTo>
                  <a:pt x="1008" y="2369"/>
                  <a:pt x="997" y="2369"/>
                  <a:pt x="988" y="2365"/>
                </a:cubicBezTo>
                <a:lnTo>
                  <a:pt x="969" y="2355"/>
                </a:lnTo>
                <a:lnTo>
                  <a:pt x="999" y="2296"/>
                </a:lnTo>
                <a:close/>
                <a:moveTo>
                  <a:pt x="1052" y="1891"/>
                </a:moveTo>
                <a:lnTo>
                  <a:pt x="1061" y="1838"/>
                </a:lnTo>
                <a:lnTo>
                  <a:pt x="1076" y="1629"/>
                </a:lnTo>
                <a:lnTo>
                  <a:pt x="1143" y="1634"/>
                </a:lnTo>
                <a:lnTo>
                  <a:pt x="1127" y="1849"/>
                </a:lnTo>
                <a:lnTo>
                  <a:pt x="1118" y="1902"/>
                </a:lnTo>
                <a:lnTo>
                  <a:pt x="1052" y="1891"/>
                </a:lnTo>
                <a:close/>
                <a:moveTo>
                  <a:pt x="1094" y="1428"/>
                </a:moveTo>
                <a:lnTo>
                  <a:pt x="1128" y="1180"/>
                </a:lnTo>
                <a:lnTo>
                  <a:pt x="1132" y="1160"/>
                </a:lnTo>
                <a:lnTo>
                  <a:pt x="1197" y="1176"/>
                </a:lnTo>
                <a:lnTo>
                  <a:pt x="1194" y="1189"/>
                </a:lnTo>
                <a:lnTo>
                  <a:pt x="1160" y="1437"/>
                </a:lnTo>
                <a:lnTo>
                  <a:pt x="1094" y="1428"/>
                </a:lnTo>
                <a:close/>
                <a:moveTo>
                  <a:pt x="1182" y="959"/>
                </a:moveTo>
                <a:lnTo>
                  <a:pt x="1231" y="862"/>
                </a:lnTo>
                <a:cubicBezTo>
                  <a:pt x="1236" y="851"/>
                  <a:pt x="1246" y="845"/>
                  <a:pt x="1257" y="843"/>
                </a:cubicBezTo>
                <a:cubicBezTo>
                  <a:pt x="1268" y="842"/>
                  <a:pt x="1279" y="846"/>
                  <a:pt x="1286" y="855"/>
                </a:cubicBezTo>
                <a:lnTo>
                  <a:pt x="1328" y="905"/>
                </a:lnTo>
                <a:cubicBezTo>
                  <a:pt x="1331" y="909"/>
                  <a:pt x="1333" y="913"/>
                  <a:pt x="1335" y="918"/>
                </a:cubicBezTo>
                <a:lnTo>
                  <a:pt x="1359" y="1007"/>
                </a:lnTo>
                <a:lnTo>
                  <a:pt x="1295" y="1025"/>
                </a:lnTo>
                <a:lnTo>
                  <a:pt x="1270" y="935"/>
                </a:lnTo>
                <a:lnTo>
                  <a:pt x="1277" y="948"/>
                </a:lnTo>
                <a:lnTo>
                  <a:pt x="1235" y="898"/>
                </a:lnTo>
                <a:lnTo>
                  <a:pt x="1291" y="891"/>
                </a:lnTo>
                <a:lnTo>
                  <a:pt x="1242" y="989"/>
                </a:lnTo>
                <a:lnTo>
                  <a:pt x="1182" y="959"/>
                </a:lnTo>
                <a:close/>
                <a:moveTo>
                  <a:pt x="1425" y="1193"/>
                </a:moveTo>
                <a:lnTo>
                  <a:pt x="1451" y="1265"/>
                </a:lnTo>
                <a:lnTo>
                  <a:pt x="1447" y="1258"/>
                </a:lnTo>
                <a:lnTo>
                  <a:pt x="1497" y="1333"/>
                </a:lnTo>
                <a:lnTo>
                  <a:pt x="1480" y="1320"/>
                </a:lnTo>
                <a:lnTo>
                  <a:pt x="1530" y="1337"/>
                </a:lnTo>
                <a:lnTo>
                  <a:pt x="1507" y="1337"/>
                </a:lnTo>
                <a:lnTo>
                  <a:pt x="1548" y="1321"/>
                </a:lnTo>
                <a:lnTo>
                  <a:pt x="1537" y="1328"/>
                </a:lnTo>
                <a:lnTo>
                  <a:pt x="1539" y="1326"/>
                </a:lnTo>
                <a:lnTo>
                  <a:pt x="1586" y="1373"/>
                </a:lnTo>
                <a:lnTo>
                  <a:pt x="1584" y="1375"/>
                </a:lnTo>
                <a:cubicBezTo>
                  <a:pt x="1581" y="1378"/>
                  <a:pt x="1577" y="1381"/>
                  <a:pt x="1573" y="1382"/>
                </a:cubicBezTo>
                <a:lnTo>
                  <a:pt x="1532" y="1399"/>
                </a:lnTo>
                <a:cubicBezTo>
                  <a:pt x="1524" y="1402"/>
                  <a:pt x="1516" y="1402"/>
                  <a:pt x="1509" y="1400"/>
                </a:cubicBezTo>
                <a:lnTo>
                  <a:pt x="1459" y="1383"/>
                </a:lnTo>
                <a:cubicBezTo>
                  <a:pt x="1452" y="1381"/>
                  <a:pt x="1446" y="1376"/>
                  <a:pt x="1441" y="1370"/>
                </a:cubicBezTo>
                <a:lnTo>
                  <a:pt x="1391" y="1295"/>
                </a:lnTo>
                <a:cubicBezTo>
                  <a:pt x="1390" y="1293"/>
                  <a:pt x="1389" y="1290"/>
                  <a:pt x="1388" y="1288"/>
                </a:cubicBezTo>
                <a:lnTo>
                  <a:pt x="1362" y="1216"/>
                </a:lnTo>
                <a:lnTo>
                  <a:pt x="1425" y="1193"/>
                </a:lnTo>
                <a:close/>
                <a:moveTo>
                  <a:pt x="1725" y="1218"/>
                </a:moveTo>
                <a:lnTo>
                  <a:pt x="1727" y="1218"/>
                </a:lnTo>
                <a:lnTo>
                  <a:pt x="1777" y="1218"/>
                </a:lnTo>
                <a:cubicBezTo>
                  <a:pt x="1789" y="1218"/>
                  <a:pt x="1799" y="1224"/>
                  <a:pt x="1805" y="1233"/>
                </a:cubicBezTo>
                <a:lnTo>
                  <a:pt x="1822" y="1258"/>
                </a:lnTo>
                <a:lnTo>
                  <a:pt x="1794" y="1243"/>
                </a:lnTo>
                <a:lnTo>
                  <a:pt x="1844" y="1243"/>
                </a:lnTo>
                <a:lnTo>
                  <a:pt x="1894" y="1243"/>
                </a:lnTo>
                <a:lnTo>
                  <a:pt x="1877" y="1248"/>
                </a:lnTo>
                <a:lnTo>
                  <a:pt x="1919" y="1223"/>
                </a:lnTo>
                <a:cubicBezTo>
                  <a:pt x="1924" y="1220"/>
                  <a:pt x="1930" y="1218"/>
                  <a:pt x="1936" y="1218"/>
                </a:cubicBezTo>
                <a:lnTo>
                  <a:pt x="1972" y="1218"/>
                </a:lnTo>
                <a:lnTo>
                  <a:pt x="1972" y="1285"/>
                </a:lnTo>
                <a:lnTo>
                  <a:pt x="1936" y="1285"/>
                </a:lnTo>
                <a:lnTo>
                  <a:pt x="1953" y="1280"/>
                </a:lnTo>
                <a:lnTo>
                  <a:pt x="1911" y="1305"/>
                </a:lnTo>
                <a:cubicBezTo>
                  <a:pt x="1906" y="1308"/>
                  <a:pt x="1900" y="1310"/>
                  <a:pt x="1894" y="1310"/>
                </a:cubicBezTo>
                <a:lnTo>
                  <a:pt x="1844" y="1310"/>
                </a:lnTo>
                <a:lnTo>
                  <a:pt x="1794" y="1310"/>
                </a:lnTo>
                <a:cubicBezTo>
                  <a:pt x="1783" y="1310"/>
                  <a:pt x="1773" y="1304"/>
                  <a:pt x="1766" y="1295"/>
                </a:cubicBezTo>
                <a:lnTo>
                  <a:pt x="1750" y="1270"/>
                </a:lnTo>
                <a:lnTo>
                  <a:pt x="1777" y="1285"/>
                </a:lnTo>
                <a:lnTo>
                  <a:pt x="1727" y="1285"/>
                </a:lnTo>
                <a:lnTo>
                  <a:pt x="1725" y="1285"/>
                </a:lnTo>
                <a:lnTo>
                  <a:pt x="1725" y="1218"/>
                </a:lnTo>
                <a:close/>
                <a:moveTo>
                  <a:pt x="2154" y="1151"/>
                </a:moveTo>
                <a:lnTo>
                  <a:pt x="2194" y="1151"/>
                </a:lnTo>
                <a:lnTo>
                  <a:pt x="2179" y="1155"/>
                </a:lnTo>
                <a:lnTo>
                  <a:pt x="2229" y="1130"/>
                </a:lnTo>
                <a:cubicBezTo>
                  <a:pt x="2242" y="1124"/>
                  <a:pt x="2258" y="1126"/>
                  <a:pt x="2268" y="1136"/>
                </a:cubicBezTo>
                <a:lnTo>
                  <a:pt x="2293" y="1161"/>
                </a:lnTo>
                <a:lnTo>
                  <a:pt x="2269" y="1151"/>
                </a:lnTo>
                <a:lnTo>
                  <a:pt x="2311" y="1151"/>
                </a:lnTo>
                <a:cubicBezTo>
                  <a:pt x="2316" y="1151"/>
                  <a:pt x="2321" y="1153"/>
                  <a:pt x="2326" y="1155"/>
                </a:cubicBezTo>
                <a:lnTo>
                  <a:pt x="2376" y="1180"/>
                </a:lnTo>
                <a:lnTo>
                  <a:pt x="2409" y="1197"/>
                </a:lnTo>
                <a:lnTo>
                  <a:pt x="2379" y="1256"/>
                </a:lnTo>
                <a:lnTo>
                  <a:pt x="2346" y="1240"/>
                </a:lnTo>
                <a:lnTo>
                  <a:pt x="2296" y="1215"/>
                </a:lnTo>
                <a:lnTo>
                  <a:pt x="2311" y="1218"/>
                </a:lnTo>
                <a:lnTo>
                  <a:pt x="2269" y="1218"/>
                </a:lnTo>
                <a:cubicBezTo>
                  <a:pt x="2260" y="1218"/>
                  <a:pt x="2252" y="1215"/>
                  <a:pt x="2246" y="1208"/>
                </a:cubicBezTo>
                <a:lnTo>
                  <a:pt x="2221" y="1183"/>
                </a:lnTo>
                <a:lnTo>
                  <a:pt x="2259" y="1190"/>
                </a:lnTo>
                <a:lnTo>
                  <a:pt x="2209" y="1215"/>
                </a:lnTo>
                <a:cubicBezTo>
                  <a:pt x="2204" y="1217"/>
                  <a:pt x="2199" y="1218"/>
                  <a:pt x="2194" y="1218"/>
                </a:cubicBezTo>
                <a:lnTo>
                  <a:pt x="2154" y="1218"/>
                </a:lnTo>
                <a:lnTo>
                  <a:pt x="2154" y="1151"/>
                </a:lnTo>
                <a:close/>
                <a:moveTo>
                  <a:pt x="2583" y="1243"/>
                </a:moveTo>
                <a:lnTo>
                  <a:pt x="2619" y="1243"/>
                </a:lnTo>
                <a:lnTo>
                  <a:pt x="2669" y="1243"/>
                </a:lnTo>
                <a:lnTo>
                  <a:pt x="2686" y="1243"/>
                </a:lnTo>
                <a:lnTo>
                  <a:pt x="2736" y="1243"/>
                </a:lnTo>
                <a:lnTo>
                  <a:pt x="2786" y="1243"/>
                </a:lnTo>
                <a:lnTo>
                  <a:pt x="2827" y="1243"/>
                </a:lnTo>
                <a:lnTo>
                  <a:pt x="2850" y="1243"/>
                </a:lnTo>
                <a:lnTo>
                  <a:pt x="2850" y="1310"/>
                </a:lnTo>
                <a:lnTo>
                  <a:pt x="2827" y="1310"/>
                </a:lnTo>
                <a:lnTo>
                  <a:pt x="2786" y="1310"/>
                </a:lnTo>
                <a:lnTo>
                  <a:pt x="2736" y="1310"/>
                </a:lnTo>
                <a:lnTo>
                  <a:pt x="2686" y="1310"/>
                </a:lnTo>
                <a:lnTo>
                  <a:pt x="2669" y="1310"/>
                </a:lnTo>
                <a:lnTo>
                  <a:pt x="2619" y="1310"/>
                </a:lnTo>
                <a:lnTo>
                  <a:pt x="2583" y="1310"/>
                </a:lnTo>
                <a:lnTo>
                  <a:pt x="2583" y="1243"/>
                </a:lnTo>
                <a:close/>
                <a:moveTo>
                  <a:pt x="3050" y="1243"/>
                </a:moveTo>
                <a:lnTo>
                  <a:pt x="3086" y="1243"/>
                </a:lnTo>
                <a:lnTo>
                  <a:pt x="3136" y="1243"/>
                </a:lnTo>
                <a:lnTo>
                  <a:pt x="3161" y="1243"/>
                </a:lnTo>
                <a:lnTo>
                  <a:pt x="3202" y="1243"/>
                </a:lnTo>
                <a:lnTo>
                  <a:pt x="3227" y="1243"/>
                </a:lnTo>
                <a:lnTo>
                  <a:pt x="3227" y="1310"/>
                </a:lnTo>
                <a:lnTo>
                  <a:pt x="3202" y="1310"/>
                </a:lnTo>
                <a:lnTo>
                  <a:pt x="3161" y="1310"/>
                </a:lnTo>
                <a:lnTo>
                  <a:pt x="3136" y="1310"/>
                </a:lnTo>
                <a:lnTo>
                  <a:pt x="3086" y="1310"/>
                </a:lnTo>
                <a:lnTo>
                  <a:pt x="3050" y="1310"/>
                </a:lnTo>
                <a:lnTo>
                  <a:pt x="3050" y="1243"/>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131360" y="58341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a:t>
            </a:r>
            <a:endParaRPr b="0" lang="en-US" sz="1300" spc="-1" strike="noStrike">
              <a:solidFill>
                <a:srgbClr val="000000"/>
              </a:solidFill>
              <a:latin typeface="Times New Roman"/>
            </a:endParaRPr>
          </a:p>
        </p:txBody>
      </p:sp>
      <p:sp>
        <p:nvSpPr>
          <p:cNvPr id="2173" name=""/>
          <p:cNvSpPr/>
          <p:nvPr/>
        </p:nvSpPr>
        <p:spPr>
          <a:xfrm>
            <a:off x="4522680" y="58165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174" name=""/>
          <p:cNvSpPr/>
          <p:nvPr/>
        </p:nvSpPr>
        <p:spPr>
          <a:xfrm>
            <a:off x="4610160" y="5834160"/>
            <a:ext cx="256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a:t>
            </a:r>
            <a:endParaRPr b="0" lang="en-US" sz="1300" spc="-1" strike="noStrike">
              <a:solidFill>
                <a:srgbClr val="000000"/>
              </a:solidFill>
              <a:latin typeface="Times New Roman"/>
            </a:endParaRPr>
          </a:p>
        </p:txBody>
      </p:sp>
      <p:sp>
        <p:nvSpPr>
          <p:cNvPr id="2175" name=""/>
          <p:cNvSpPr/>
          <p:nvPr/>
        </p:nvSpPr>
        <p:spPr>
          <a:xfrm>
            <a:off x="2770200" y="2832120"/>
            <a:ext cx="3349440" cy="264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2770200" y="2832120"/>
            <a:ext cx="3349440" cy="26463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2770200" y="2832120"/>
            <a:ext cx="3349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2770200" y="5478480"/>
            <a:ext cx="3349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9" name=""/>
          <p:cNvSpPr/>
          <p:nvPr/>
        </p:nvSpPr>
        <p:spPr>
          <a:xfrm flipV="1">
            <a:off x="6119640" y="2831760"/>
            <a:ext cx="180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V="1">
            <a:off x="2770200" y="2831760"/>
            <a:ext cx="324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770200" y="5478480"/>
            <a:ext cx="3349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2" name=""/>
          <p:cNvSpPr/>
          <p:nvPr/>
        </p:nvSpPr>
        <p:spPr>
          <a:xfrm flipV="1">
            <a:off x="2770200" y="2831760"/>
            <a:ext cx="3240" cy="2646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277020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4" name=""/>
          <p:cNvSpPr/>
          <p:nvPr/>
        </p:nvSpPr>
        <p:spPr>
          <a:xfrm>
            <a:off x="277020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5" name=""/>
          <p:cNvSpPr/>
          <p:nvPr/>
        </p:nvSpPr>
        <p:spPr>
          <a:xfrm>
            <a:off x="2709720" y="5546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186" name=""/>
          <p:cNvSpPr/>
          <p:nvPr/>
        </p:nvSpPr>
        <p:spPr>
          <a:xfrm>
            <a:off x="276372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87" name=""/>
          <p:cNvSpPr/>
          <p:nvPr/>
        </p:nvSpPr>
        <p:spPr>
          <a:xfrm flipV="1">
            <a:off x="3602160" y="54446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8" name=""/>
          <p:cNvSpPr/>
          <p:nvPr/>
        </p:nvSpPr>
        <p:spPr>
          <a:xfrm>
            <a:off x="3602160" y="2832120"/>
            <a:ext cx="288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9" name=""/>
          <p:cNvSpPr/>
          <p:nvPr/>
        </p:nvSpPr>
        <p:spPr>
          <a:xfrm>
            <a:off x="3497400" y="5546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190" name=""/>
          <p:cNvSpPr/>
          <p:nvPr/>
        </p:nvSpPr>
        <p:spPr>
          <a:xfrm>
            <a:off x="3551760" y="5546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91" name=""/>
          <p:cNvSpPr/>
          <p:nvPr/>
        </p:nvSpPr>
        <p:spPr>
          <a:xfrm flipV="1">
            <a:off x="444168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2" name=""/>
          <p:cNvSpPr/>
          <p:nvPr/>
        </p:nvSpPr>
        <p:spPr>
          <a:xfrm>
            <a:off x="444168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3" name=""/>
          <p:cNvSpPr/>
          <p:nvPr/>
        </p:nvSpPr>
        <p:spPr>
          <a:xfrm>
            <a:off x="441468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194" name=""/>
          <p:cNvSpPr/>
          <p:nvPr/>
        </p:nvSpPr>
        <p:spPr>
          <a:xfrm flipV="1">
            <a:off x="5281560" y="544464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5" name=""/>
          <p:cNvSpPr/>
          <p:nvPr/>
        </p:nvSpPr>
        <p:spPr>
          <a:xfrm>
            <a:off x="5281560" y="2832120"/>
            <a:ext cx="32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6" name=""/>
          <p:cNvSpPr/>
          <p:nvPr/>
        </p:nvSpPr>
        <p:spPr>
          <a:xfrm>
            <a:off x="5208840" y="5546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197" name=""/>
          <p:cNvSpPr/>
          <p:nvPr/>
        </p:nvSpPr>
        <p:spPr>
          <a:xfrm flipV="1">
            <a:off x="6119640" y="54446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8" name=""/>
          <p:cNvSpPr/>
          <p:nvPr/>
        </p:nvSpPr>
        <p:spPr>
          <a:xfrm>
            <a:off x="6119640" y="283212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9" name=""/>
          <p:cNvSpPr/>
          <p:nvPr/>
        </p:nvSpPr>
        <p:spPr>
          <a:xfrm>
            <a:off x="6093000" y="5546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200" name=""/>
          <p:cNvSpPr/>
          <p:nvPr/>
        </p:nvSpPr>
        <p:spPr>
          <a:xfrm>
            <a:off x="2770200" y="547848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1" name=""/>
          <p:cNvSpPr/>
          <p:nvPr/>
        </p:nvSpPr>
        <p:spPr>
          <a:xfrm flipH="1">
            <a:off x="6087960" y="547848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2" name=""/>
          <p:cNvSpPr/>
          <p:nvPr/>
        </p:nvSpPr>
        <p:spPr>
          <a:xfrm>
            <a:off x="2481120" y="54212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2203" name=""/>
          <p:cNvSpPr/>
          <p:nvPr/>
        </p:nvSpPr>
        <p:spPr>
          <a:xfrm>
            <a:off x="2535480" y="54212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204" name=""/>
          <p:cNvSpPr/>
          <p:nvPr/>
        </p:nvSpPr>
        <p:spPr>
          <a:xfrm>
            <a:off x="2770200" y="481320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5" name=""/>
          <p:cNvSpPr/>
          <p:nvPr/>
        </p:nvSpPr>
        <p:spPr>
          <a:xfrm flipH="1">
            <a:off x="6087960" y="481320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6" name=""/>
          <p:cNvSpPr/>
          <p:nvPr/>
        </p:nvSpPr>
        <p:spPr>
          <a:xfrm>
            <a:off x="2606760" y="4756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207" name=""/>
          <p:cNvSpPr/>
          <p:nvPr/>
        </p:nvSpPr>
        <p:spPr>
          <a:xfrm>
            <a:off x="2770200" y="415440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8" name=""/>
          <p:cNvSpPr/>
          <p:nvPr/>
        </p:nvSpPr>
        <p:spPr>
          <a:xfrm flipH="1">
            <a:off x="6087960" y="415440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9" name=""/>
          <p:cNvSpPr/>
          <p:nvPr/>
        </p:nvSpPr>
        <p:spPr>
          <a:xfrm>
            <a:off x="2516400" y="40971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2210" name=""/>
          <p:cNvSpPr/>
          <p:nvPr/>
        </p:nvSpPr>
        <p:spPr>
          <a:xfrm>
            <a:off x="2770200" y="3490920"/>
            <a:ext cx="284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1" name=""/>
          <p:cNvSpPr/>
          <p:nvPr/>
        </p:nvSpPr>
        <p:spPr>
          <a:xfrm flipH="1">
            <a:off x="6087960" y="349092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2" name=""/>
          <p:cNvSpPr/>
          <p:nvPr/>
        </p:nvSpPr>
        <p:spPr>
          <a:xfrm>
            <a:off x="2606760" y="343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213" name=""/>
          <p:cNvSpPr/>
          <p:nvPr/>
        </p:nvSpPr>
        <p:spPr>
          <a:xfrm>
            <a:off x="2770200" y="28321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4" name=""/>
          <p:cNvSpPr/>
          <p:nvPr/>
        </p:nvSpPr>
        <p:spPr>
          <a:xfrm flipH="1">
            <a:off x="6087960" y="283212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5" name=""/>
          <p:cNvSpPr/>
          <p:nvPr/>
        </p:nvSpPr>
        <p:spPr>
          <a:xfrm>
            <a:off x="2516400" y="2774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2216" name=""/>
          <p:cNvSpPr/>
          <p:nvPr/>
        </p:nvSpPr>
        <p:spPr>
          <a:xfrm>
            <a:off x="2770200" y="2928960"/>
            <a:ext cx="1290600" cy="2448000"/>
          </a:xfrm>
          <a:custGeom>
            <a:avLst/>
            <a:gdLst/>
            <a:ahLst/>
            <a:rect l="l" t="t" r="r" b="b"/>
            <a:pathLst>
              <a:path w="813" h="1542">
                <a:moveTo>
                  <a:pt x="0" y="1187"/>
                </a:moveTo>
                <a:lnTo>
                  <a:pt x="3" y="1187"/>
                </a:lnTo>
                <a:lnTo>
                  <a:pt x="7" y="1187"/>
                </a:lnTo>
                <a:lnTo>
                  <a:pt x="14" y="1187"/>
                </a:lnTo>
                <a:lnTo>
                  <a:pt x="22" y="1187"/>
                </a:lnTo>
                <a:lnTo>
                  <a:pt x="28" y="1187"/>
                </a:lnTo>
                <a:lnTo>
                  <a:pt x="36" y="1187"/>
                </a:lnTo>
                <a:lnTo>
                  <a:pt x="39" y="1187"/>
                </a:lnTo>
                <a:lnTo>
                  <a:pt x="46" y="1187"/>
                </a:lnTo>
                <a:lnTo>
                  <a:pt x="53" y="1187"/>
                </a:lnTo>
                <a:lnTo>
                  <a:pt x="61" y="1187"/>
                </a:lnTo>
                <a:lnTo>
                  <a:pt x="67" y="1187"/>
                </a:lnTo>
                <a:lnTo>
                  <a:pt x="75" y="1187"/>
                </a:lnTo>
                <a:lnTo>
                  <a:pt x="78" y="1187"/>
                </a:lnTo>
                <a:lnTo>
                  <a:pt x="85" y="1187"/>
                </a:lnTo>
                <a:lnTo>
                  <a:pt x="92" y="1187"/>
                </a:lnTo>
                <a:lnTo>
                  <a:pt x="100" y="1187"/>
                </a:lnTo>
                <a:lnTo>
                  <a:pt x="106" y="1187"/>
                </a:lnTo>
                <a:lnTo>
                  <a:pt x="110" y="1187"/>
                </a:lnTo>
                <a:lnTo>
                  <a:pt x="118" y="1187"/>
                </a:lnTo>
                <a:lnTo>
                  <a:pt x="124" y="1187"/>
                </a:lnTo>
                <a:lnTo>
                  <a:pt x="131" y="1187"/>
                </a:lnTo>
                <a:lnTo>
                  <a:pt x="138" y="1187"/>
                </a:lnTo>
                <a:lnTo>
                  <a:pt x="141" y="1187"/>
                </a:lnTo>
                <a:lnTo>
                  <a:pt x="149" y="1187"/>
                </a:lnTo>
                <a:lnTo>
                  <a:pt x="157" y="1187"/>
                </a:lnTo>
                <a:lnTo>
                  <a:pt x="163" y="1187"/>
                </a:lnTo>
                <a:lnTo>
                  <a:pt x="170" y="1187"/>
                </a:lnTo>
                <a:lnTo>
                  <a:pt x="177" y="1187"/>
                </a:lnTo>
                <a:lnTo>
                  <a:pt x="180" y="1187"/>
                </a:lnTo>
                <a:lnTo>
                  <a:pt x="188" y="1187"/>
                </a:lnTo>
                <a:lnTo>
                  <a:pt x="196" y="1187"/>
                </a:lnTo>
                <a:lnTo>
                  <a:pt x="202" y="1187"/>
                </a:lnTo>
                <a:lnTo>
                  <a:pt x="209" y="1187"/>
                </a:lnTo>
                <a:lnTo>
                  <a:pt x="213" y="1187"/>
                </a:lnTo>
                <a:lnTo>
                  <a:pt x="220" y="1187"/>
                </a:lnTo>
                <a:lnTo>
                  <a:pt x="227" y="1187"/>
                </a:lnTo>
                <a:lnTo>
                  <a:pt x="235" y="1187"/>
                </a:lnTo>
                <a:lnTo>
                  <a:pt x="241" y="1187"/>
                </a:lnTo>
                <a:lnTo>
                  <a:pt x="245" y="1187"/>
                </a:lnTo>
                <a:lnTo>
                  <a:pt x="252" y="1187"/>
                </a:lnTo>
                <a:lnTo>
                  <a:pt x="259" y="1187"/>
                </a:lnTo>
                <a:lnTo>
                  <a:pt x="266" y="1187"/>
                </a:lnTo>
                <a:lnTo>
                  <a:pt x="274" y="1187"/>
                </a:lnTo>
                <a:lnTo>
                  <a:pt x="280" y="1187"/>
                </a:lnTo>
                <a:lnTo>
                  <a:pt x="284" y="1187"/>
                </a:lnTo>
                <a:lnTo>
                  <a:pt x="291" y="1187"/>
                </a:lnTo>
                <a:lnTo>
                  <a:pt x="298" y="1187"/>
                </a:lnTo>
                <a:lnTo>
                  <a:pt x="305" y="1187"/>
                </a:lnTo>
                <a:lnTo>
                  <a:pt x="311" y="1187"/>
                </a:lnTo>
                <a:lnTo>
                  <a:pt x="315" y="1187"/>
                </a:lnTo>
                <a:lnTo>
                  <a:pt x="323" y="1187"/>
                </a:lnTo>
                <a:lnTo>
                  <a:pt x="330" y="1187"/>
                </a:lnTo>
                <a:lnTo>
                  <a:pt x="337" y="1187"/>
                </a:lnTo>
                <a:lnTo>
                  <a:pt x="344" y="1187"/>
                </a:lnTo>
                <a:lnTo>
                  <a:pt x="348" y="1187"/>
                </a:lnTo>
                <a:lnTo>
                  <a:pt x="354" y="1187"/>
                </a:lnTo>
                <a:lnTo>
                  <a:pt x="362" y="1187"/>
                </a:lnTo>
                <a:lnTo>
                  <a:pt x="369" y="1187"/>
                </a:lnTo>
                <a:lnTo>
                  <a:pt x="376" y="1187"/>
                </a:lnTo>
                <a:lnTo>
                  <a:pt x="383" y="1187"/>
                </a:lnTo>
                <a:lnTo>
                  <a:pt x="387" y="1187"/>
                </a:lnTo>
                <a:lnTo>
                  <a:pt x="393" y="1187"/>
                </a:lnTo>
                <a:lnTo>
                  <a:pt x="401" y="1187"/>
                </a:lnTo>
                <a:lnTo>
                  <a:pt x="408" y="1187"/>
                </a:lnTo>
                <a:lnTo>
                  <a:pt x="415" y="1187"/>
                </a:lnTo>
                <a:lnTo>
                  <a:pt x="419" y="1187"/>
                </a:lnTo>
                <a:lnTo>
                  <a:pt x="426" y="1187"/>
                </a:lnTo>
                <a:lnTo>
                  <a:pt x="432" y="1187"/>
                </a:lnTo>
                <a:lnTo>
                  <a:pt x="440" y="1187"/>
                </a:lnTo>
                <a:lnTo>
                  <a:pt x="447" y="1187"/>
                </a:lnTo>
                <a:lnTo>
                  <a:pt x="450" y="1187"/>
                </a:lnTo>
                <a:lnTo>
                  <a:pt x="458" y="1187"/>
                </a:lnTo>
                <a:lnTo>
                  <a:pt x="465" y="1187"/>
                </a:lnTo>
                <a:lnTo>
                  <a:pt x="471" y="1187"/>
                </a:lnTo>
                <a:lnTo>
                  <a:pt x="479" y="1191"/>
                </a:lnTo>
                <a:lnTo>
                  <a:pt x="485" y="1191"/>
                </a:lnTo>
                <a:lnTo>
                  <a:pt x="489" y="1187"/>
                </a:lnTo>
                <a:lnTo>
                  <a:pt x="497" y="1184"/>
                </a:lnTo>
                <a:lnTo>
                  <a:pt x="504" y="1184"/>
                </a:lnTo>
                <a:lnTo>
                  <a:pt x="511" y="1181"/>
                </a:lnTo>
                <a:lnTo>
                  <a:pt x="518" y="1184"/>
                </a:lnTo>
                <a:lnTo>
                  <a:pt x="522" y="1184"/>
                </a:lnTo>
                <a:lnTo>
                  <a:pt x="528" y="1187"/>
                </a:lnTo>
                <a:lnTo>
                  <a:pt x="536" y="1187"/>
                </a:lnTo>
                <a:lnTo>
                  <a:pt x="543" y="1187"/>
                </a:lnTo>
                <a:lnTo>
                  <a:pt x="549" y="1187"/>
                </a:lnTo>
                <a:lnTo>
                  <a:pt x="553" y="1184"/>
                </a:lnTo>
                <a:lnTo>
                  <a:pt x="561" y="1184"/>
                </a:lnTo>
                <a:lnTo>
                  <a:pt x="567" y="1191"/>
                </a:lnTo>
                <a:lnTo>
                  <a:pt x="575" y="1199"/>
                </a:lnTo>
                <a:lnTo>
                  <a:pt x="582" y="1205"/>
                </a:lnTo>
                <a:lnTo>
                  <a:pt x="589" y="1209"/>
                </a:lnTo>
                <a:lnTo>
                  <a:pt x="592" y="1201"/>
                </a:lnTo>
                <a:lnTo>
                  <a:pt x="600" y="1181"/>
                </a:lnTo>
                <a:lnTo>
                  <a:pt x="606" y="1148"/>
                </a:lnTo>
                <a:lnTo>
                  <a:pt x="614" y="1120"/>
                </a:lnTo>
                <a:lnTo>
                  <a:pt x="621" y="1107"/>
                </a:lnTo>
                <a:lnTo>
                  <a:pt x="624" y="1120"/>
                </a:lnTo>
                <a:lnTo>
                  <a:pt x="631" y="1166"/>
                </a:lnTo>
                <a:lnTo>
                  <a:pt x="639" y="1240"/>
                </a:lnTo>
                <a:lnTo>
                  <a:pt x="645" y="1326"/>
                </a:lnTo>
                <a:lnTo>
                  <a:pt x="653" y="1387"/>
                </a:lnTo>
                <a:lnTo>
                  <a:pt x="657" y="1389"/>
                </a:lnTo>
                <a:lnTo>
                  <a:pt x="663" y="1305"/>
                </a:lnTo>
                <a:lnTo>
                  <a:pt x="670" y="1127"/>
                </a:lnTo>
                <a:lnTo>
                  <a:pt x="678" y="868"/>
                </a:lnTo>
                <a:lnTo>
                  <a:pt x="684" y="574"/>
                </a:lnTo>
                <a:lnTo>
                  <a:pt x="692" y="290"/>
                </a:lnTo>
                <a:lnTo>
                  <a:pt x="696" y="84"/>
                </a:lnTo>
                <a:lnTo>
                  <a:pt x="702" y="0"/>
                </a:lnTo>
                <a:lnTo>
                  <a:pt x="709" y="59"/>
                </a:lnTo>
                <a:lnTo>
                  <a:pt x="717" y="251"/>
                </a:lnTo>
                <a:lnTo>
                  <a:pt x="723" y="535"/>
                </a:lnTo>
                <a:lnTo>
                  <a:pt x="727" y="858"/>
                </a:lnTo>
                <a:lnTo>
                  <a:pt x="735" y="1156"/>
                </a:lnTo>
                <a:lnTo>
                  <a:pt x="741" y="1383"/>
                </a:lnTo>
                <a:lnTo>
                  <a:pt x="749" y="1511"/>
                </a:lnTo>
                <a:lnTo>
                  <a:pt x="756" y="1542"/>
                </a:lnTo>
                <a:lnTo>
                  <a:pt x="762" y="1500"/>
                </a:lnTo>
                <a:lnTo>
                  <a:pt x="766" y="1418"/>
                </a:lnTo>
                <a:lnTo>
                  <a:pt x="774" y="1330"/>
                </a:lnTo>
                <a:lnTo>
                  <a:pt x="780" y="1266"/>
                </a:lnTo>
                <a:lnTo>
                  <a:pt x="788" y="1234"/>
                </a:lnTo>
                <a:lnTo>
                  <a:pt x="795" y="1238"/>
                </a:lnTo>
                <a:lnTo>
                  <a:pt x="798" y="1262"/>
                </a:lnTo>
                <a:lnTo>
                  <a:pt x="805" y="1297"/>
                </a:lnTo>
                <a:lnTo>
                  <a:pt x="813" y="1322"/>
                </a:lnTo>
              </a:path>
            </a:pathLst>
          </a:custGeom>
          <a:noFill/>
          <a:ln w="158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4060800" y="2928960"/>
            <a:ext cx="1293840" cy="2448000"/>
          </a:xfrm>
          <a:custGeom>
            <a:avLst/>
            <a:gdLst/>
            <a:ahLst/>
            <a:rect l="l" t="t" r="r" b="b"/>
            <a:pathLst>
              <a:path w="815" h="1542">
                <a:moveTo>
                  <a:pt x="0" y="1322"/>
                </a:moveTo>
                <a:lnTo>
                  <a:pt x="6" y="1336"/>
                </a:lnTo>
                <a:lnTo>
                  <a:pt x="14" y="1340"/>
                </a:lnTo>
                <a:lnTo>
                  <a:pt x="17" y="1333"/>
                </a:lnTo>
                <a:lnTo>
                  <a:pt x="24" y="1322"/>
                </a:lnTo>
                <a:lnTo>
                  <a:pt x="31" y="1315"/>
                </a:lnTo>
                <a:lnTo>
                  <a:pt x="39" y="1312"/>
                </a:lnTo>
                <a:lnTo>
                  <a:pt x="45" y="1312"/>
                </a:lnTo>
                <a:lnTo>
                  <a:pt x="53" y="1315"/>
                </a:lnTo>
                <a:lnTo>
                  <a:pt x="56" y="1315"/>
                </a:lnTo>
                <a:lnTo>
                  <a:pt x="63" y="1315"/>
                </a:lnTo>
                <a:lnTo>
                  <a:pt x="70" y="1312"/>
                </a:lnTo>
                <a:lnTo>
                  <a:pt x="78" y="1309"/>
                </a:lnTo>
                <a:lnTo>
                  <a:pt x="84" y="1309"/>
                </a:lnTo>
                <a:lnTo>
                  <a:pt x="88" y="1309"/>
                </a:lnTo>
                <a:lnTo>
                  <a:pt x="95" y="1312"/>
                </a:lnTo>
                <a:lnTo>
                  <a:pt x="102" y="1312"/>
                </a:lnTo>
                <a:lnTo>
                  <a:pt x="109" y="1315"/>
                </a:lnTo>
                <a:lnTo>
                  <a:pt x="117" y="1315"/>
                </a:lnTo>
                <a:lnTo>
                  <a:pt x="120" y="1315"/>
                </a:lnTo>
                <a:lnTo>
                  <a:pt x="127" y="1315"/>
                </a:lnTo>
                <a:lnTo>
                  <a:pt x="135" y="1312"/>
                </a:lnTo>
                <a:lnTo>
                  <a:pt x="141" y="1312"/>
                </a:lnTo>
                <a:lnTo>
                  <a:pt x="148" y="1312"/>
                </a:lnTo>
                <a:lnTo>
                  <a:pt x="156" y="1312"/>
                </a:lnTo>
                <a:lnTo>
                  <a:pt x="159" y="1312"/>
                </a:lnTo>
                <a:lnTo>
                  <a:pt x="166" y="1312"/>
                </a:lnTo>
                <a:lnTo>
                  <a:pt x="174" y="1312"/>
                </a:lnTo>
                <a:lnTo>
                  <a:pt x="180" y="1312"/>
                </a:lnTo>
                <a:lnTo>
                  <a:pt x="188" y="1312"/>
                </a:lnTo>
                <a:lnTo>
                  <a:pt x="191" y="1312"/>
                </a:lnTo>
                <a:lnTo>
                  <a:pt x="197" y="1312"/>
                </a:lnTo>
                <a:lnTo>
                  <a:pt x="205" y="1312"/>
                </a:lnTo>
                <a:lnTo>
                  <a:pt x="213" y="1312"/>
                </a:lnTo>
                <a:lnTo>
                  <a:pt x="219" y="1315"/>
                </a:lnTo>
                <a:lnTo>
                  <a:pt x="223" y="1315"/>
                </a:lnTo>
                <a:lnTo>
                  <a:pt x="230" y="1312"/>
                </a:lnTo>
                <a:lnTo>
                  <a:pt x="237" y="1312"/>
                </a:lnTo>
                <a:lnTo>
                  <a:pt x="244" y="1312"/>
                </a:lnTo>
                <a:lnTo>
                  <a:pt x="252" y="1312"/>
                </a:lnTo>
                <a:lnTo>
                  <a:pt x="258" y="1312"/>
                </a:lnTo>
                <a:lnTo>
                  <a:pt x="262" y="1315"/>
                </a:lnTo>
                <a:lnTo>
                  <a:pt x="269" y="1315"/>
                </a:lnTo>
                <a:lnTo>
                  <a:pt x="276" y="1312"/>
                </a:lnTo>
                <a:lnTo>
                  <a:pt x="283" y="1312"/>
                </a:lnTo>
                <a:lnTo>
                  <a:pt x="291" y="1312"/>
                </a:lnTo>
                <a:lnTo>
                  <a:pt x="293" y="1312"/>
                </a:lnTo>
                <a:lnTo>
                  <a:pt x="301" y="1312"/>
                </a:lnTo>
                <a:lnTo>
                  <a:pt x="308" y="1312"/>
                </a:lnTo>
                <a:lnTo>
                  <a:pt x="315" y="1312"/>
                </a:lnTo>
                <a:lnTo>
                  <a:pt x="322" y="1312"/>
                </a:lnTo>
                <a:lnTo>
                  <a:pt x="326" y="1312"/>
                </a:lnTo>
                <a:lnTo>
                  <a:pt x="332" y="1312"/>
                </a:lnTo>
                <a:lnTo>
                  <a:pt x="340" y="1312"/>
                </a:lnTo>
                <a:lnTo>
                  <a:pt x="347" y="1312"/>
                </a:lnTo>
                <a:lnTo>
                  <a:pt x="354" y="1312"/>
                </a:lnTo>
                <a:lnTo>
                  <a:pt x="361" y="1315"/>
                </a:lnTo>
                <a:lnTo>
                  <a:pt x="365" y="1315"/>
                </a:lnTo>
                <a:lnTo>
                  <a:pt x="371" y="1315"/>
                </a:lnTo>
                <a:lnTo>
                  <a:pt x="379" y="1315"/>
                </a:lnTo>
                <a:lnTo>
                  <a:pt x="386" y="1312"/>
                </a:lnTo>
                <a:lnTo>
                  <a:pt x="393" y="1312"/>
                </a:lnTo>
                <a:lnTo>
                  <a:pt x="397" y="1309"/>
                </a:lnTo>
                <a:lnTo>
                  <a:pt x="404" y="1309"/>
                </a:lnTo>
                <a:lnTo>
                  <a:pt x="410" y="1309"/>
                </a:lnTo>
                <a:lnTo>
                  <a:pt x="418" y="1312"/>
                </a:lnTo>
                <a:lnTo>
                  <a:pt x="426" y="1315"/>
                </a:lnTo>
                <a:lnTo>
                  <a:pt x="428" y="1315"/>
                </a:lnTo>
                <a:lnTo>
                  <a:pt x="436" y="1315"/>
                </a:lnTo>
                <a:lnTo>
                  <a:pt x="443" y="1312"/>
                </a:lnTo>
                <a:lnTo>
                  <a:pt x="449" y="1312"/>
                </a:lnTo>
                <a:lnTo>
                  <a:pt x="457" y="1315"/>
                </a:lnTo>
                <a:lnTo>
                  <a:pt x="465" y="1322"/>
                </a:lnTo>
                <a:lnTo>
                  <a:pt x="467" y="1333"/>
                </a:lnTo>
                <a:lnTo>
                  <a:pt x="475" y="1340"/>
                </a:lnTo>
                <a:lnTo>
                  <a:pt x="482" y="1336"/>
                </a:lnTo>
                <a:lnTo>
                  <a:pt x="488" y="1322"/>
                </a:lnTo>
                <a:lnTo>
                  <a:pt x="496" y="1297"/>
                </a:lnTo>
                <a:lnTo>
                  <a:pt x="500" y="1262"/>
                </a:lnTo>
                <a:lnTo>
                  <a:pt x="506" y="1238"/>
                </a:lnTo>
                <a:lnTo>
                  <a:pt x="514" y="1234"/>
                </a:lnTo>
                <a:lnTo>
                  <a:pt x="521" y="1266"/>
                </a:lnTo>
                <a:lnTo>
                  <a:pt x="528" y="1330"/>
                </a:lnTo>
                <a:lnTo>
                  <a:pt x="531" y="1418"/>
                </a:lnTo>
                <a:lnTo>
                  <a:pt x="539" y="1500"/>
                </a:lnTo>
                <a:lnTo>
                  <a:pt x="545" y="1542"/>
                </a:lnTo>
                <a:lnTo>
                  <a:pt x="553" y="1511"/>
                </a:lnTo>
                <a:lnTo>
                  <a:pt x="560" y="1383"/>
                </a:lnTo>
                <a:lnTo>
                  <a:pt x="567" y="1156"/>
                </a:lnTo>
                <a:lnTo>
                  <a:pt x="570" y="858"/>
                </a:lnTo>
                <a:lnTo>
                  <a:pt x="578" y="535"/>
                </a:lnTo>
                <a:lnTo>
                  <a:pt x="584" y="251"/>
                </a:lnTo>
                <a:lnTo>
                  <a:pt x="592" y="59"/>
                </a:lnTo>
                <a:lnTo>
                  <a:pt x="599" y="0"/>
                </a:lnTo>
                <a:lnTo>
                  <a:pt x="602" y="84"/>
                </a:lnTo>
                <a:lnTo>
                  <a:pt x="609" y="290"/>
                </a:lnTo>
                <a:lnTo>
                  <a:pt x="617" y="574"/>
                </a:lnTo>
                <a:lnTo>
                  <a:pt x="623" y="868"/>
                </a:lnTo>
                <a:lnTo>
                  <a:pt x="631" y="1127"/>
                </a:lnTo>
                <a:lnTo>
                  <a:pt x="638" y="1305"/>
                </a:lnTo>
                <a:lnTo>
                  <a:pt x="641" y="1389"/>
                </a:lnTo>
                <a:lnTo>
                  <a:pt x="649" y="1387"/>
                </a:lnTo>
                <a:lnTo>
                  <a:pt x="656" y="1326"/>
                </a:lnTo>
                <a:lnTo>
                  <a:pt x="662" y="1240"/>
                </a:lnTo>
                <a:lnTo>
                  <a:pt x="670" y="1166"/>
                </a:lnTo>
                <a:lnTo>
                  <a:pt x="674" y="1121"/>
                </a:lnTo>
                <a:lnTo>
                  <a:pt x="680" y="1107"/>
                </a:lnTo>
                <a:lnTo>
                  <a:pt x="688" y="1121"/>
                </a:lnTo>
                <a:lnTo>
                  <a:pt x="695" y="1148"/>
                </a:lnTo>
                <a:lnTo>
                  <a:pt x="701" y="1181"/>
                </a:lnTo>
                <a:lnTo>
                  <a:pt x="705" y="1201"/>
                </a:lnTo>
                <a:lnTo>
                  <a:pt x="713" y="1209"/>
                </a:lnTo>
                <a:lnTo>
                  <a:pt x="719" y="1205"/>
                </a:lnTo>
                <a:lnTo>
                  <a:pt x="727" y="1199"/>
                </a:lnTo>
                <a:lnTo>
                  <a:pt x="734" y="1191"/>
                </a:lnTo>
                <a:lnTo>
                  <a:pt x="740" y="1184"/>
                </a:lnTo>
                <a:lnTo>
                  <a:pt x="744" y="1184"/>
                </a:lnTo>
                <a:lnTo>
                  <a:pt x="752" y="1187"/>
                </a:lnTo>
                <a:lnTo>
                  <a:pt x="758" y="1187"/>
                </a:lnTo>
                <a:lnTo>
                  <a:pt x="766" y="1187"/>
                </a:lnTo>
                <a:lnTo>
                  <a:pt x="773" y="1187"/>
                </a:lnTo>
                <a:lnTo>
                  <a:pt x="776" y="1184"/>
                </a:lnTo>
                <a:lnTo>
                  <a:pt x="783" y="1184"/>
                </a:lnTo>
                <a:lnTo>
                  <a:pt x="791" y="1181"/>
                </a:lnTo>
                <a:lnTo>
                  <a:pt x="797" y="1184"/>
                </a:lnTo>
                <a:lnTo>
                  <a:pt x="805" y="1184"/>
                </a:lnTo>
                <a:lnTo>
                  <a:pt x="808" y="1187"/>
                </a:lnTo>
                <a:lnTo>
                  <a:pt x="815" y="1191"/>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5354640" y="4813200"/>
            <a:ext cx="771480" cy="6480"/>
          </a:xfrm>
          <a:custGeom>
            <a:avLst/>
            <a:gdLst/>
            <a:ahLst/>
            <a:rect l="l" t="t" r="r" b="b"/>
            <a:pathLst>
              <a:path w="486" h="4">
                <a:moveTo>
                  <a:pt x="0" y="4"/>
                </a:moveTo>
                <a:lnTo>
                  <a:pt x="7" y="4"/>
                </a:lnTo>
                <a:lnTo>
                  <a:pt x="15" y="0"/>
                </a:lnTo>
                <a:lnTo>
                  <a:pt x="21" y="0"/>
                </a:lnTo>
                <a:lnTo>
                  <a:pt x="29" y="0"/>
                </a:lnTo>
                <a:lnTo>
                  <a:pt x="32" y="0"/>
                </a:lnTo>
                <a:lnTo>
                  <a:pt x="39" y="0"/>
                </a:lnTo>
                <a:lnTo>
                  <a:pt x="46" y="0"/>
                </a:lnTo>
                <a:lnTo>
                  <a:pt x="54" y="0"/>
                </a:lnTo>
                <a:lnTo>
                  <a:pt x="60" y="0"/>
                </a:lnTo>
                <a:lnTo>
                  <a:pt x="64" y="0"/>
                </a:lnTo>
                <a:lnTo>
                  <a:pt x="72" y="0"/>
                </a:lnTo>
                <a:lnTo>
                  <a:pt x="78" y="0"/>
                </a:lnTo>
                <a:lnTo>
                  <a:pt x="85" y="0"/>
                </a:lnTo>
                <a:lnTo>
                  <a:pt x="93" y="0"/>
                </a:lnTo>
                <a:lnTo>
                  <a:pt x="95" y="0"/>
                </a:lnTo>
                <a:lnTo>
                  <a:pt x="103" y="0"/>
                </a:lnTo>
                <a:lnTo>
                  <a:pt x="111" y="0"/>
                </a:lnTo>
                <a:lnTo>
                  <a:pt x="117" y="0"/>
                </a:lnTo>
                <a:lnTo>
                  <a:pt x="124" y="0"/>
                </a:lnTo>
                <a:lnTo>
                  <a:pt x="132" y="0"/>
                </a:lnTo>
                <a:lnTo>
                  <a:pt x="134" y="0"/>
                </a:lnTo>
                <a:lnTo>
                  <a:pt x="142" y="0"/>
                </a:lnTo>
                <a:lnTo>
                  <a:pt x="150" y="0"/>
                </a:lnTo>
                <a:lnTo>
                  <a:pt x="156" y="0"/>
                </a:lnTo>
                <a:lnTo>
                  <a:pt x="163" y="0"/>
                </a:lnTo>
                <a:lnTo>
                  <a:pt x="167" y="0"/>
                </a:lnTo>
                <a:lnTo>
                  <a:pt x="174" y="0"/>
                </a:lnTo>
                <a:lnTo>
                  <a:pt x="181" y="0"/>
                </a:lnTo>
                <a:lnTo>
                  <a:pt x="189" y="0"/>
                </a:lnTo>
                <a:lnTo>
                  <a:pt x="195" y="0"/>
                </a:lnTo>
                <a:lnTo>
                  <a:pt x="199" y="0"/>
                </a:lnTo>
                <a:lnTo>
                  <a:pt x="206" y="0"/>
                </a:lnTo>
                <a:lnTo>
                  <a:pt x="213" y="0"/>
                </a:lnTo>
                <a:lnTo>
                  <a:pt x="220" y="0"/>
                </a:lnTo>
                <a:lnTo>
                  <a:pt x="228" y="0"/>
                </a:lnTo>
                <a:lnTo>
                  <a:pt x="234" y="0"/>
                </a:lnTo>
                <a:lnTo>
                  <a:pt x="238" y="0"/>
                </a:lnTo>
                <a:lnTo>
                  <a:pt x="245" y="0"/>
                </a:lnTo>
                <a:lnTo>
                  <a:pt x="252" y="0"/>
                </a:lnTo>
                <a:lnTo>
                  <a:pt x="259" y="0"/>
                </a:lnTo>
                <a:lnTo>
                  <a:pt x="267" y="0"/>
                </a:lnTo>
                <a:lnTo>
                  <a:pt x="269" y="0"/>
                </a:lnTo>
                <a:lnTo>
                  <a:pt x="277" y="0"/>
                </a:lnTo>
                <a:lnTo>
                  <a:pt x="284" y="0"/>
                </a:lnTo>
                <a:lnTo>
                  <a:pt x="291" y="0"/>
                </a:lnTo>
                <a:lnTo>
                  <a:pt x="298" y="0"/>
                </a:lnTo>
                <a:lnTo>
                  <a:pt x="302" y="0"/>
                </a:lnTo>
                <a:lnTo>
                  <a:pt x="308" y="0"/>
                </a:lnTo>
                <a:lnTo>
                  <a:pt x="316" y="0"/>
                </a:lnTo>
                <a:lnTo>
                  <a:pt x="323" y="0"/>
                </a:lnTo>
                <a:lnTo>
                  <a:pt x="330" y="0"/>
                </a:lnTo>
                <a:lnTo>
                  <a:pt x="337" y="0"/>
                </a:lnTo>
                <a:lnTo>
                  <a:pt x="341" y="0"/>
                </a:lnTo>
                <a:lnTo>
                  <a:pt x="347" y="0"/>
                </a:lnTo>
                <a:lnTo>
                  <a:pt x="355" y="0"/>
                </a:lnTo>
                <a:lnTo>
                  <a:pt x="363" y="0"/>
                </a:lnTo>
                <a:lnTo>
                  <a:pt x="369" y="0"/>
                </a:lnTo>
                <a:lnTo>
                  <a:pt x="373" y="0"/>
                </a:lnTo>
                <a:lnTo>
                  <a:pt x="380" y="0"/>
                </a:lnTo>
                <a:lnTo>
                  <a:pt x="386" y="0"/>
                </a:lnTo>
                <a:lnTo>
                  <a:pt x="394" y="0"/>
                </a:lnTo>
                <a:lnTo>
                  <a:pt x="402" y="0"/>
                </a:lnTo>
                <a:lnTo>
                  <a:pt x="404" y="0"/>
                </a:lnTo>
                <a:lnTo>
                  <a:pt x="412" y="0"/>
                </a:lnTo>
                <a:lnTo>
                  <a:pt x="419" y="0"/>
                </a:lnTo>
                <a:lnTo>
                  <a:pt x="425" y="0"/>
                </a:lnTo>
                <a:lnTo>
                  <a:pt x="433" y="0"/>
                </a:lnTo>
                <a:lnTo>
                  <a:pt x="441" y="0"/>
                </a:lnTo>
                <a:lnTo>
                  <a:pt x="443" y="0"/>
                </a:lnTo>
                <a:lnTo>
                  <a:pt x="451" y="0"/>
                </a:lnTo>
                <a:lnTo>
                  <a:pt x="458" y="0"/>
                </a:lnTo>
                <a:lnTo>
                  <a:pt x="465" y="0"/>
                </a:lnTo>
                <a:lnTo>
                  <a:pt x="472" y="0"/>
                </a:lnTo>
                <a:lnTo>
                  <a:pt x="476" y="0"/>
                </a:lnTo>
                <a:lnTo>
                  <a:pt x="482" y="0"/>
                </a:lnTo>
                <a:lnTo>
                  <a:pt x="486" y="0"/>
                </a:lnTo>
              </a:path>
            </a:pathLst>
          </a:custGeom>
          <a:noFill/>
          <a:ln w="15840">
            <a:solidFill>
              <a:srgbClr val="3333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9" name=""/>
          <p:cNvSpPr/>
          <p:nvPr/>
        </p:nvSpPr>
        <p:spPr>
          <a:xfrm rot="16200000">
            <a:off x="2034720" y="397548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litude</a:t>
            </a:r>
            <a:endParaRPr b="0" lang="en-US" sz="1300" spc="-1" strike="noStrike">
              <a:solidFill>
                <a:srgbClr val="000000"/>
              </a:solidFill>
              <a:latin typeface="Times New Roman"/>
            </a:endParaRPr>
          </a:p>
        </p:txBody>
      </p:sp>
      <p:sp>
        <p:nvSpPr>
          <p:cNvPr id="2220" name=""/>
          <p:cNvSpPr/>
          <p:nvPr/>
        </p:nvSpPr>
        <p:spPr>
          <a:xfrm>
            <a:off x="2770200" y="3029040"/>
            <a:ext cx="1289160" cy="2322360"/>
          </a:xfrm>
          <a:custGeom>
            <a:avLst/>
            <a:gdLst/>
            <a:ahLst/>
            <a:rect l="l" t="t" r="r" b="b"/>
            <a:pathLst>
              <a:path w="10739" h="19314">
                <a:moveTo>
                  <a:pt x="0" y="14779"/>
                </a:moveTo>
                <a:lnTo>
                  <a:pt x="33" y="14779"/>
                </a:lnTo>
                <a:lnTo>
                  <a:pt x="83" y="14779"/>
                </a:lnTo>
                <a:lnTo>
                  <a:pt x="183" y="14779"/>
                </a:lnTo>
                <a:lnTo>
                  <a:pt x="283" y="14779"/>
                </a:lnTo>
                <a:lnTo>
                  <a:pt x="366" y="14779"/>
                </a:lnTo>
                <a:lnTo>
                  <a:pt x="466" y="14779"/>
                </a:lnTo>
                <a:lnTo>
                  <a:pt x="516" y="14779"/>
                </a:lnTo>
                <a:lnTo>
                  <a:pt x="533" y="14779"/>
                </a:lnTo>
                <a:lnTo>
                  <a:pt x="533" y="14912"/>
                </a:lnTo>
                <a:lnTo>
                  <a:pt x="516" y="14912"/>
                </a:lnTo>
                <a:lnTo>
                  <a:pt x="466" y="14912"/>
                </a:lnTo>
                <a:lnTo>
                  <a:pt x="366" y="14912"/>
                </a:lnTo>
                <a:lnTo>
                  <a:pt x="283" y="14912"/>
                </a:lnTo>
                <a:lnTo>
                  <a:pt x="183" y="14912"/>
                </a:lnTo>
                <a:lnTo>
                  <a:pt x="83" y="14912"/>
                </a:lnTo>
                <a:lnTo>
                  <a:pt x="33" y="14912"/>
                </a:lnTo>
                <a:lnTo>
                  <a:pt x="0" y="14912"/>
                </a:lnTo>
                <a:lnTo>
                  <a:pt x="0" y="14779"/>
                </a:lnTo>
                <a:close/>
                <a:moveTo>
                  <a:pt x="933" y="14779"/>
                </a:moveTo>
                <a:lnTo>
                  <a:pt x="983" y="14779"/>
                </a:lnTo>
                <a:lnTo>
                  <a:pt x="1033" y="14779"/>
                </a:lnTo>
                <a:lnTo>
                  <a:pt x="1116" y="14779"/>
                </a:lnTo>
                <a:lnTo>
                  <a:pt x="1216" y="14779"/>
                </a:lnTo>
                <a:lnTo>
                  <a:pt x="1316" y="14779"/>
                </a:lnTo>
                <a:lnTo>
                  <a:pt x="1400" y="14779"/>
                </a:lnTo>
                <a:lnTo>
                  <a:pt x="1450" y="14779"/>
                </a:lnTo>
                <a:lnTo>
                  <a:pt x="1466" y="14779"/>
                </a:lnTo>
                <a:lnTo>
                  <a:pt x="1466" y="14912"/>
                </a:lnTo>
                <a:lnTo>
                  <a:pt x="1450" y="14912"/>
                </a:lnTo>
                <a:lnTo>
                  <a:pt x="1400" y="14912"/>
                </a:lnTo>
                <a:lnTo>
                  <a:pt x="1316" y="14912"/>
                </a:lnTo>
                <a:lnTo>
                  <a:pt x="1216" y="14912"/>
                </a:lnTo>
                <a:lnTo>
                  <a:pt x="1116" y="14912"/>
                </a:lnTo>
                <a:lnTo>
                  <a:pt x="1033" y="14912"/>
                </a:lnTo>
                <a:lnTo>
                  <a:pt x="983" y="14912"/>
                </a:lnTo>
                <a:lnTo>
                  <a:pt x="933" y="14912"/>
                </a:lnTo>
                <a:lnTo>
                  <a:pt x="933" y="14779"/>
                </a:lnTo>
                <a:close/>
                <a:moveTo>
                  <a:pt x="1866" y="14779"/>
                </a:moveTo>
                <a:lnTo>
                  <a:pt x="1866" y="14779"/>
                </a:lnTo>
                <a:lnTo>
                  <a:pt x="1966" y="14779"/>
                </a:lnTo>
                <a:lnTo>
                  <a:pt x="2066" y="14779"/>
                </a:lnTo>
                <a:lnTo>
                  <a:pt x="2150" y="14779"/>
                </a:lnTo>
                <a:lnTo>
                  <a:pt x="2250" y="14779"/>
                </a:lnTo>
                <a:lnTo>
                  <a:pt x="2333" y="14779"/>
                </a:lnTo>
                <a:lnTo>
                  <a:pt x="2383" y="14779"/>
                </a:lnTo>
                <a:lnTo>
                  <a:pt x="2400" y="14779"/>
                </a:lnTo>
                <a:lnTo>
                  <a:pt x="2400" y="14912"/>
                </a:lnTo>
                <a:lnTo>
                  <a:pt x="2383" y="14912"/>
                </a:lnTo>
                <a:lnTo>
                  <a:pt x="2333" y="14912"/>
                </a:lnTo>
                <a:lnTo>
                  <a:pt x="2250" y="14912"/>
                </a:lnTo>
                <a:lnTo>
                  <a:pt x="2150" y="14912"/>
                </a:lnTo>
                <a:lnTo>
                  <a:pt x="2066" y="14912"/>
                </a:lnTo>
                <a:lnTo>
                  <a:pt x="1966" y="14912"/>
                </a:lnTo>
                <a:lnTo>
                  <a:pt x="1866" y="14912"/>
                </a:lnTo>
                <a:lnTo>
                  <a:pt x="1866" y="14912"/>
                </a:lnTo>
                <a:lnTo>
                  <a:pt x="1866" y="14779"/>
                </a:lnTo>
                <a:close/>
                <a:moveTo>
                  <a:pt x="2800" y="14779"/>
                </a:moveTo>
                <a:lnTo>
                  <a:pt x="2816" y="14779"/>
                </a:lnTo>
                <a:lnTo>
                  <a:pt x="2900" y="14779"/>
                </a:lnTo>
                <a:lnTo>
                  <a:pt x="3000" y="14779"/>
                </a:lnTo>
                <a:lnTo>
                  <a:pt x="3100" y="14779"/>
                </a:lnTo>
                <a:lnTo>
                  <a:pt x="3183" y="14779"/>
                </a:lnTo>
                <a:lnTo>
                  <a:pt x="3233" y="14779"/>
                </a:lnTo>
                <a:lnTo>
                  <a:pt x="3333" y="14779"/>
                </a:lnTo>
                <a:lnTo>
                  <a:pt x="3333" y="14912"/>
                </a:lnTo>
                <a:lnTo>
                  <a:pt x="3233" y="14912"/>
                </a:lnTo>
                <a:lnTo>
                  <a:pt x="3183" y="14912"/>
                </a:lnTo>
                <a:lnTo>
                  <a:pt x="3100" y="14912"/>
                </a:lnTo>
                <a:lnTo>
                  <a:pt x="3000" y="14912"/>
                </a:lnTo>
                <a:lnTo>
                  <a:pt x="2900" y="14912"/>
                </a:lnTo>
                <a:lnTo>
                  <a:pt x="2816" y="14912"/>
                </a:lnTo>
                <a:lnTo>
                  <a:pt x="2800" y="14912"/>
                </a:lnTo>
                <a:lnTo>
                  <a:pt x="2800" y="14779"/>
                </a:lnTo>
                <a:close/>
                <a:moveTo>
                  <a:pt x="3733" y="14779"/>
                </a:moveTo>
                <a:lnTo>
                  <a:pt x="3750" y="14779"/>
                </a:lnTo>
                <a:lnTo>
                  <a:pt x="3850" y="14779"/>
                </a:lnTo>
                <a:lnTo>
                  <a:pt x="3933" y="14779"/>
                </a:lnTo>
                <a:lnTo>
                  <a:pt x="4033" y="14779"/>
                </a:lnTo>
                <a:lnTo>
                  <a:pt x="4116" y="14779"/>
                </a:lnTo>
                <a:lnTo>
                  <a:pt x="4166" y="14779"/>
                </a:lnTo>
                <a:lnTo>
                  <a:pt x="4266" y="14779"/>
                </a:lnTo>
                <a:lnTo>
                  <a:pt x="4266" y="14912"/>
                </a:lnTo>
                <a:lnTo>
                  <a:pt x="4166" y="14912"/>
                </a:lnTo>
                <a:lnTo>
                  <a:pt x="4116" y="14912"/>
                </a:lnTo>
                <a:lnTo>
                  <a:pt x="4033" y="14912"/>
                </a:lnTo>
                <a:lnTo>
                  <a:pt x="3933" y="14912"/>
                </a:lnTo>
                <a:lnTo>
                  <a:pt x="3850" y="14912"/>
                </a:lnTo>
                <a:lnTo>
                  <a:pt x="3750" y="14912"/>
                </a:lnTo>
                <a:lnTo>
                  <a:pt x="3733" y="14912"/>
                </a:lnTo>
                <a:lnTo>
                  <a:pt x="3733" y="14779"/>
                </a:lnTo>
                <a:close/>
                <a:moveTo>
                  <a:pt x="4666" y="14779"/>
                </a:moveTo>
                <a:lnTo>
                  <a:pt x="4683" y="14779"/>
                </a:lnTo>
                <a:lnTo>
                  <a:pt x="4783" y="14779"/>
                </a:lnTo>
                <a:lnTo>
                  <a:pt x="4883" y="14779"/>
                </a:lnTo>
                <a:lnTo>
                  <a:pt x="4966" y="14779"/>
                </a:lnTo>
                <a:lnTo>
                  <a:pt x="5066" y="14779"/>
                </a:lnTo>
                <a:lnTo>
                  <a:pt x="5116" y="14779"/>
                </a:lnTo>
                <a:lnTo>
                  <a:pt x="5200" y="14779"/>
                </a:lnTo>
                <a:lnTo>
                  <a:pt x="5200" y="14912"/>
                </a:lnTo>
                <a:lnTo>
                  <a:pt x="5116" y="14912"/>
                </a:lnTo>
                <a:lnTo>
                  <a:pt x="5066" y="14912"/>
                </a:lnTo>
                <a:lnTo>
                  <a:pt x="4966" y="14912"/>
                </a:lnTo>
                <a:lnTo>
                  <a:pt x="4883" y="14912"/>
                </a:lnTo>
                <a:lnTo>
                  <a:pt x="4783" y="14912"/>
                </a:lnTo>
                <a:lnTo>
                  <a:pt x="4683" y="14912"/>
                </a:lnTo>
                <a:lnTo>
                  <a:pt x="4666" y="14912"/>
                </a:lnTo>
                <a:lnTo>
                  <a:pt x="4666" y="14779"/>
                </a:lnTo>
                <a:close/>
                <a:moveTo>
                  <a:pt x="5600" y="14779"/>
                </a:moveTo>
                <a:lnTo>
                  <a:pt x="5633" y="14779"/>
                </a:lnTo>
                <a:lnTo>
                  <a:pt x="5716" y="14779"/>
                </a:lnTo>
                <a:lnTo>
                  <a:pt x="5816" y="14779"/>
                </a:lnTo>
                <a:lnTo>
                  <a:pt x="5916" y="14779"/>
                </a:lnTo>
                <a:lnTo>
                  <a:pt x="5950" y="14779"/>
                </a:lnTo>
                <a:lnTo>
                  <a:pt x="6050" y="14779"/>
                </a:lnTo>
                <a:lnTo>
                  <a:pt x="6133" y="14779"/>
                </a:lnTo>
                <a:lnTo>
                  <a:pt x="6133" y="14912"/>
                </a:lnTo>
                <a:lnTo>
                  <a:pt x="6050" y="14912"/>
                </a:lnTo>
                <a:lnTo>
                  <a:pt x="5950" y="14912"/>
                </a:lnTo>
                <a:lnTo>
                  <a:pt x="5916" y="14912"/>
                </a:lnTo>
                <a:lnTo>
                  <a:pt x="5816" y="14912"/>
                </a:lnTo>
                <a:lnTo>
                  <a:pt x="5716" y="14912"/>
                </a:lnTo>
                <a:lnTo>
                  <a:pt x="5633" y="14912"/>
                </a:lnTo>
                <a:lnTo>
                  <a:pt x="5600" y="14912"/>
                </a:lnTo>
                <a:lnTo>
                  <a:pt x="5600" y="14779"/>
                </a:lnTo>
                <a:close/>
                <a:moveTo>
                  <a:pt x="6467" y="14771"/>
                </a:moveTo>
                <a:lnTo>
                  <a:pt x="6537" y="14736"/>
                </a:lnTo>
                <a:cubicBezTo>
                  <a:pt x="6546" y="14731"/>
                  <a:pt x="6556" y="14729"/>
                  <a:pt x="6566" y="14729"/>
                </a:cubicBezTo>
                <a:lnTo>
                  <a:pt x="6666" y="14729"/>
                </a:lnTo>
                <a:lnTo>
                  <a:pt x="6642" y="14734"/>
                </a:lnTo>
                <a:lnTo>
                  <a:pt x="6725" y="14700"/>
                </a:lnTo>
                <a:cubicBezTo>
                  <a:pt x="6740" y="14694"/>
                  <a:pt x="6756" y="14694"/>
                  <a:pt x="6771" y="14699"/>
                </a:cubicBezTo>
                <a:lnTo>
                  <a:pt x="6871" y="14732"/>
                </a:lnTo>
                <a:lnTo>
                  <a:pt x="6850" y="14729"/>
                </a:lnTo>
                <a:lnTo>
                  <a:pt x="6900" y="14729"/>
                </a:lnTo>
                <a:cubicBezTo>
                  <a:pt x="6912" y="14729"/>
                  <a:pt x="6924" y="14732"/>
                  <a:pt x="6934" y="14738"/>
                </a:cubicBezTo>
                <a:lnTo>
                  <a:pt x="7017" y="14788"/>
                </a:lnTo>
                <a:lnTo>
                  <a:pt x="6983" y="14779"/>
                </a:lnTo>
                <a:lnTo>
                  <a:pt x="6996" y="14779"/>
                </a:lnTo>
                <a:lnTo>
                  <a:pt x="6996" y="14912"/>
                </a:lnTo>
                <a:lnTo>
                  <a:pt x="6983" y="14912"/>
                </a:lnTo>
                <a:cubicBezTo>
                  <a:pt x="6971" y="14912"/>
                  <a:pt x="6959" y="14909"/>
                  <a:pt x="6949" y="14903"/>
                </a:cubicBezTo>
                <a:lnTo>
                  <a:pt x="6866" y="14853"/>
                </a:lnTo>
                <a:lnTo>
                  <a:pt x="6900" y="14862"/>
                </a:lnTo>
                <a:lnTo>
                  <a:pt x="6850" y="14862"/>
                </a:lnTo>
                <a:cubicBezTo>
                  <a:pt x="6843" y="14862"/>
                  <a:pt x="6836" y="14861"/>
                  <a:pt x="6829" y="14859"/>
                </a:cubicBezTo>
                <a:lnTo>
                  <a:pt x="6729" y="14825"/>
                </a:lnTo>
                <a:lnTo>
                  <a:pt x="6775" y="14824"/>
                </a:lnTo>
                <a:lnTo>
                  <a:pt x="6691" y="14857"/>
                </a:lnTo>
                <a:cubicBezTo>
                  <a:pt x="6683" y="14861"/>
                  <a:pt x="6675" y="14862"/>
                  <a:pt x="6666" y="14862"/>
                </a:cubicBezTo>
                <a:lnTo>
                  <a:pt x="6566" y="14862"/>
                </a:lnTo>
                <a:lnTo>
                  <a:pt x="6596" y="14855"/>
                </a:lnTo>
                <a:lnTo>
                  <a:pt x="6527" y="14890"/>
                </a:lnTo>
                <a:lnTo>
                  <a:pt x="6467" y="14771"/>
                </a:lnTo>
                <a:close/>
                <a:moveTo>
                  <a:pt x="7376" y="14729"/>
                </a:moveTo>
                <a:lnTo>
                  <a:pt x="7416" y="14729"/>
                </a:lnTo>
                <a:cubicBezTo>
                  <a:pt x="7436" y="14729"/>
                  <a:pt x="7455" y="14738"/>
                  <a:pt x="7468" y="14753"/>
                </a:cubicBezTo>
                <a:lnTo>
                  <a:pt x="7551" y="14853"/>
                </a:lnTo>
                <a:lnTo>
                  <a:pt x="7647" y="14948"/>
                </a:lnTo>
                <a:lnTo>
                  <a:pt x="7742" y="15028"/>
                </a:lnTo>
                <a:lnTo>
                  <a:pt x="7734" y="15022"/>
                </a:lnTo>
                <a:lnTo>
                  <a:pt x="7812" y="15068"/>
                </a:lnTo>
                <a:lnTo>
                  <a:pt x="7743" y="15183"/>
                </a:lnTo>
                <a:lnTo>
                  <a:pt x="7666" y="15136"/>
                </a:lnTo>
                <a:cubicBezTo>
                  <a:pt x="7663" y="15134"/>
                  <a:pt x="7660" y="15132"/>
                  <a:pt x="7657" y="15130"/>
                </a:cubicBezTo>
                <a:lnTo>
                  <a:pt x="7553" y="15043"/>
                </a:lnTo>
                <a:lnTo>
                  <a:pt x="7449" y="14938"/>
                </a:lnTo>
                <a:lnTo>
                  <a:pt x="7365" y="14838"/>
                </a:lnTo>
                <a:lnTo>
                  <a:pt x="7416" y="14862"/>
                </a:lnTo>
                <a:lnTo>
                  <a:pt x="7376" y="14862"/>
                </a:lnTo>
                <a:lnTo>
                  <a:pt x="7376" y="14729"/>
                </a:lnTo>
                <a:close/>
                <a:moveTo>
                  <a:pt x="7870" y="14741"/>
                </a:moveTo>
                <a:lnTo>
                  <a:pt x="7871" y="14739"/>
                </a:lnTo>
                <a:lnTo>
                  <a:pt x="7868" y="14748"/>
                </a:lnTo>
                <a:lnTo>
                  <a:pt x="7951" y="14365"/>
                </a:lnTo>
                <a:lnTo>
                  <a:pt x="7988" y="14228"/>
                </a:lnTo>
                <a:lnTo>
                  <a:pt x="8117" y="14263"/>
                </a:lnTo>
                <a:lnTo>
                  <a:pt x="8082" y="14393"/>
                </a:lnTo>
                <a:lnTo>
                  <a:pt x="7998" y="14776"/>
                </a:lnTo>
                <a:cubicBezTo>
                  <a:pt x="7998" y="14779"/>
                  <a:pt x="7997" y="14783"/>
                  <a:pt x="7996" y="14786"/>
                </a:cubicBezTo>
                <a:lnTo>
                  <a:pt x="7995" y="14788"/>
                </a:lnTo>
                <a:lnTo>
                  <a:pt x="7870" y="14741"/>
                </a:lnTo>
                <a:close/>
                <a:moveTo>
                  <a:pt x="8128" y="13841"/>
                </a:moveTo>
                <a:lnTo>
                  <a:pt x="8157" y="13782"/>
                </a:lnTo>
                <a:cubicBezTo>
                  <a:pt x="8170" y="13756"/>
                  <a:pt x="8198" y="13742"/>
                  <a:pt x="8226" y="13746"/>
                </a:cubicBezTo>
                <a:cubicBezTo>
                  <a:pt x="8255" y="13751"/>
                  <a:pt x="8277" y="13773"/>
                  <a:pt x="8282" y="13801"/>
                </a:cubicBezTo>
                <a:lnTo>
                  <a:pt x="8316" y="14001"/>
                </a:lnTo>
                <a:lnTo>
                  <a:pt x="8363" y="14261"/>
                </a:lnTo>
                <a:lnTo>
                  <a:pt x="8232" y="14285"/>
                </a:lnTo>
                <a:lnTo>
                  <a:pt x="8184" y="14023"/>
                </a:lnTo>
                <a:lnTo>
                  <a:pt x="8151" y="13823"/>
                </a:lnTo>
                <a:lnTo>
                  <a:pt x="8276" y="13842"/>
                </a:lnTo>
                <a:lnTo>
                  <a:pt x="8247" y="13901"/>
                </a:lnTo>
                <a:lnTo>
                  <a:pt x="8128" y="13841"/>
                </a:lnTo>
                <a:close/>
                <a:moveTo>
                  <a:pt x="8427" y="14661"/>
                </a:moveTo>
                <a:lnTo>
                  <a:pt x="8481" y="15191"/>
                </a:lnTo>
                <a:lnTo>
                  <a:pt x="8348" y="15205"/>
                </a:lnTo>
                <a:lnTo>
                  <a:pt x="8294" y="14674"/>
                </a:lnTo>
                <a:lnTo>
                  <a:pt x="8427" y="14661"/>
                </a:lnTo>
                <a:close/>
                <a:moveTo>
                  <a:pt x="8520" y="15591"/>
                </a:moveTo>
                <a:lnTo>
                  <a:pt x="8563" y="16122"/>
                </a:lnTo>
                <a:lnTo>
                  <a:pt x="8430" y="16133"/>
                </a:lnTo>
                <a:lnTo>
                  <a:pt x="8387" y="15602"/>
                </a:lnTo>
                <a:lnTo>
                  <a:pt x="8520" y="15591"/>
                </a:lnTo>
                <a:close/>
                <a:moveTo>
                  <a:pt x="8595" y="16521"/>
                </a:moveTo>
                <a:lnTo>
                  <a:pt x="8600" y="16573"/>
                </a:lnTo>
                <a:lnTo>
                  <a:pt x="8663" y="17047"/>
                </a:lnTo>
                <a:lnTo>
                  <a:pt x="8531" y="17064"/>
                </a:lnTo>
                <a:lnTo>
                  <a:pt x="8467" y="16584"/>
                </a:lnTo>
                <a:lnTo>
                  <a:pt x="8462" y="16532"/>
                </a:lnTo>
                <a:lnTo>
                  <a:pt x="8595" y="16521"/>
                </a:lnTo>
                <a:close/>
                <a:moveTo>
                  <a:pt x="8621" y="17320"/>
                </a:moveTo>
                <a:lnTo>
                  <a:pt x="8662" y="16789"/>
                </a:lnTo>
                <a:lnTo>
                  <a:pt x="8795" y="16799"/>
                </a:lnTo>
                <a:lnTo>
                  <a:pt x="8754" y="17330"/>
                </a:lnTo>
                <a:lnTo>
                  <a:pt x="8621" y="17320"/>
                </a:lnTo>
                <a:close/>
                <a:moveTo>
                  <a:pt x="8692" y="16390"/>
                </a:moveTo>
                <a:lnTo>
                  <a:pt x="8700" y="16290"/>
                </a:lnTo>
                <a:lnTo>
                  <a:pt x="8720" y="15859"/>
                </a:lnTo>
                <a:lnTo>
                  <a:pt x="8853" y="15865"/>
                </a:lnTo>
                <a:lnTo>
                  <a:pt x="8833" y="16301"/>
                </a:lnTo>
                <a:lnTo>
                  <a:pt x="8825" y="16400"/>
                </a:lnTo>
                <a:lnTo>
                  <a:pt x="8692" y="16390"/>
                </a:lnTo>
                <a:close/>
                <a:moveTo>
                  <a:pt x="8738" y="15460"/>
                </a:moveTo>
                <a:lnTo>
                  <a:pt x="8762" y="14927"/>
                </a:lnTo>
                <a:lnTo>
                  <a:pt x="8895" y="14933"/>
                </a:lnTo>
                <a:lnTo>
                  <a:pt x="8871" y="15466"/>
                </a:lnTo>
                <a:lnTo>
                  <a:pt x="8738" y="15460"/>
                </a:lnTo>
                <a:close/>
                <a:moveTo>
                  <a:pt x="8780" y="14527"/>
                </a:moveTo>
                <a:lnTo>
                  <a:pt x="8800" y="14092"/>
                </a:lnTo>
                <a:lnTo>
                  <a:pt x="8803" y="13995"/>
                </a:lnTo>
                <a:lnTo>
                  <a:pt x="8936" y="13999"/>
                </a:lnTo>
                <a:lnTo>
                  <a:pt x="8933" y="14098"/>
                </a:lnTo>
                <a:lnTo>
                  <a:pt x="8913" y="14533"/>
                </a:lnTo>
                <a:lnTo>
                  <a:pt x="8780" y="14527"/>
                </a:lnTo>
                <a:close/>
                <a:moveTo>
                  <a:pt x="8815" y="13596"/>
                </a:moveTo>
                <a:lnTo>
                  <a:pt x="8832" y="13062"/>
                </a:lnTo>
                <a:lnTo>
                  <a:pt x="8965" y="13067"/>
                </a:lnTo>
                <a:lnTo>
                  <a:pt x="8949" y="13600"/>
                </a:lnTo>
                <a:lnTo>
                  <a:pt x="8815" y="13596"/>
                </a:lnTo>
                <a:close/>
                <a:moveTo>
                  <a:pt x="8844" y="12663"/>
                </a:moveTo>
                <a:lnTo>
                  <a:pt x="8861" y="12130"/>
                </a:lnTo>
                <a:lnTo>
                  <a:pt x="8994" y="12134"/>
                </a:lnTo>
                <a:lnTo>
                  <a:pt x="8977" y="12667"/>
                </a:lnTo>
                <a:lnTo>
                  <a:pt x="8844" y="12663"/>
                </a:lnTo>
                <a:close/>
                <a:moveTo>
                  <a:pt x="8873" y="11730"/>
                </a:moveTo>
                <a:lnTo>
                  <a:pt x="8889" y="11197"/>
                </a:lnTo>
                <a:lnTo>
                  <a:pt x="9023" y="11201"/>
                </a:lnTo>
                <a:lnTo>
                  <a:pt x="9006" y="11734"/>
                </a:lnTo>
                <a:lnTo>
                  <a:pt x="8873" y="11730"/>
                </a:lnTo>
                <a:close/>
                <a:moveTo>
                  <a:pt x="8901" y="10797"/>
                </a:moveTo>
                <a:lnTo>
                  <a:pt x="8913" y="10264"/>
                </a:lnTo>
                <a:lnTo>
                  <a:pt x="9046" y="10267"/>
                </a:lnTo>
                <a:lnTo>
                  <a:pt x="9035" y="10800"/>
                </a:lnTo>
                <a:lnTo>
                  <a:pt x="8901" y="10797"/>
                </a:lnTo>
                <a:close/>
                <a:moveTo>
                  <a:pt x="8922" y="9864"/>
                </a:moveTo>
                <a:lnTo>
                  <a:pt x="8934" y="9331"/>
                </a:lnTo>
                <a:lnTo>
                  <a:pt x="9067" y="9334"/>
                </a:lnTo>
                <a:lnTo>
                  <a:pt x="9055" y="9867"/>
                </a:lnTo>
                <a:lnTo>
                  <a:pt x="8922" y="9864"/>
                </a:lnTo>
                <a:close/>
                <a:moveTo>
                  <a:pt x="8943" y="8931"/>
                </a:moveTo>
                <a:lnTo>
                  <a:pt x="8955" y="8398"/>
                </a:lnTo>
                <a:lnTo>
                  <a:pt x="9088" y="8401"/>
                </a:lnTo>
                <a:lnTo>
                  <a:pt x="9076" y="8934"/>
                </a:lnTo>
                <a:lnTo>
                  <a:pt x="8943" y="8931"/>
                </a:lnTo>
                <a:close/>
                <a:moveTo>
                  <a:pt x="8963" y="7998"/>
                </a:moveTo>
                <a:lnTo>
                  <a:pt x="8975" y="7465"/>
                </a:lnTo>
                <a:lnTo>
                  <a:pt x="9109" y="7468"/>
                </a:lnTo>
                <a:lnTo>
                  <a:pt x="9097" y="8001"/>
                </a:lnTo>
                <a:lnTo>
                  <a:pt x="8963" y="7998"/>
                </a:lnTo>
                <a:close/>
                <a:moveTo>
                  <a:pt x="8984" y="7065"/>
                </a:moveTo>
                <a:lnTo>
                  <a:pt x="9000" y="6531"/>
                </a:lnTo>
                <a:lnTo>
                  <a:pt x="9133" y="6535"/>
                </a:lnTo>
                <a:lnTo>
                  <a:pt x="9118" y="7068"/>
                </a:lnTo>
                <a:lnTo>
                  <a:pt x="8984" y="7065"/>
                </a:lnTo>
                <a:close/>
                <a:moveTo>
                  <a:pt x="9011" y="6132"/>
                </a:moveTo>
                <a:lnTo>
                  <a:pt x="9026" y="5599"/>
                </a:lnTo>
                <a:lnTo>
                  <a:pt x="9160" y="5602"/>
                </a:lnTo>
                <a:lnTo>
                  <a:pt x="9144" y="6135"/>
                </a:lnTo>
                <a:lnTo>
                  <a:pt x="9011" y="6132"/>
                </a:lnTo>
                <a:close/>
                <a:moveTo>
                  <a:pt x="9038" y="5199"/>
                </a:moveTo>
                <a:lnTo>
                  <a:pt x="9053" y="4666"/>
                </a:lnTo>
                <a:lnTo>
                  <a:pt x="9186" y="4669"/>
                </a:lnTo>
                <a:lnTo>
                  <a:pt x="9171" y="5203"/>
                </a:lnTo>
                <a:lnTo>
                  <a:pt x="9038" y="5199"/>
                </a:lnTo>
                <a:close/>
                <a:moveTo>
                  <a:pt x="9064" y="4266"/>
                </a:moveTo>
                <a:lnTo>
                  <a:pt x="9080" y="3733"/>
                </a:lnTo>
                <a:lnTo>
                  <a:pt x="9213" y="3736"/>
                </a:lnTo>
                <a:lnTo>
                  <a:pt x="9198" y="4270"/>
                </a:lnTo>
                <a:lnTo>
                  <a:pt x="9064" y="4266"/>
                </a:lnTo>
                <a:close/>
                <a:moveTo>
                  <a:pt x="9089" y="3333"/>
                </a:moveTo>
                <a:lnTo>
                  <a:pt x="9099" y="2800"/>
                </a:lnTo>
                <a:lnTo>
                  <a:pt x="9232" y="2803"/>
                </a:lnTo>
                <a:lnTo>
                  <a:pt x="9222" y="3336"/>
                </a:lnTo>
                <a:lnTo>
                  <a:pt x="9089" y="3333"/>
                </a:lnTo>
                <a:close/>
                <a:moveTo>
                  <a:pt x="9107" y="2400"/>
                </a:moveTo>
                <a:lnTo>
                  <a:pt x="9117" y="1867"/>
                </a:lnTo>
                <a:lnTo>
                  <a:pt x="9250" y="1870"/>
                </a:lnTo>
                <a:lnTo>
                  <a:pt x="9240" y="2403"/>
                </a:lnTo>
                <a:lnTo>
                  <a:pt x="9107" y="2400"/>
                </a:lnTo>
                <a:close/>
                <a:moveTo>
                  <a:pt x="9125" y="1467"/>
                </a:moveTo>
                <a:lnTo>
                  <a:pt x="9133" y="1028"/>
                </a:lnTo>
                <a:lnTo>
                  <a:pt x="9141" y="930"/>
                </a:lnTo>
                <a:lnTo>
                  <a:pt x="9273" y="940"/>
                </a:lnTo>
                <a:lnTo>
                  <a:pt x="9266" y="1030"/>
                </a:lnTo>
                <a:lnTo>
                  <a:pt x="9258" y="1470"/>
                </a:lnTo>
                <a:lnTo>
                  <a:pt x="9125" y="1467"/>
                </a:lnTo>
                <a:close/>
                <a:moveTo>
                  <a:pt x="9171" y="531"/>
                </a:moveTo>
                <a:lnTo>
                  <a:pt x="9212" y="0"/>
                </a:lnTo>
                <a:lnTo>
                  <a:pt x="9345" y="10"/>
                </a:lnTo>
                <a:lnTo>
                  <a:pt x="9304" y="542"/>
                </a:lnTo>
                <a:lnTo>
                  <a:pt x="9171" y="531"/>
                </a:lnTo>
                <a:close/>
                <a:moveTo>
                  <a:pt x="9394" y="274"/>
                </a:moveTo>
                <a:lnTo>
                  <a:pt x="9449" y="687"/>
                </a:lnTo>
                <a:lnTo>
                  <a:pt x="9455" y="810"/>
                </a:lnTo>
                <a:lnTo>
                  <a:pt x="9321" y="815"/>
                </a:lnTo>
                <a:lnTo>
                  <a:pt x="9317" y="704"/>
                </a:lnTo>
                <a:lnTo>
                  <a:pt x="9262" y="292"/>
                </a:lnTo>
                <a:lnTo>
                  <a:pt x="9394" y="274"/>
                </a:lnTo>
                <a:close/>
                <a:moveTo>
                  <a:pt x="9471" y="1209"/>
                </a:moveTo>
                <a:lnTo>
                  <a:pt x="9493" y="1742"/>
                </a:lnTo>
                <a:lnTo>
                  <a:pt x="9360" y="1748"/>
                </a:lnTo>
                <a:lnTo>
                  <a:pt x="9338" y="1215"/>
                </a:lnTo>
                <a:lnTo>
                  <a:pt x="9471" y="1209"/>
                </a:lnTo>
                <a:close/>
                <a:moveTo>
                  <a:pt x="9510" y="2142"/>
                </a:moveTo>
                <a:lnTo>
                  <a:pt x="9532" y="2675"/>
                </a:lnTo>
                <a:lnTo>
                  <a:pt x="9399" y="2680"/>
                </a:lnTo>
                <a:lnTo>
                  <a:pt x="9377" y="2148"/>
                </a:lnTo>
                <a:lnTo>
                  <a:pt x="9510" y="2142"/>
                </a:lnTo>
                <a:close/>
                <a:moveTo>
                  <a:pt x="9549" y="3075"/>
                </a:moveTo>
                <a:lnTo>
                  <a:pt x="9550" y="3093"/>
                </a:lnTo>
                <a:lnTo>
                  <a:pt x="9562" y="3609"/>
                </a:lnTo>
                <a:lnTo>
                  <a:pt x="9429" y="3612"/>
                </a:lnTo>
                <a:lnTo>
                  <a:pt x="9417" y="3098"/>
                </a:lnTo>
                <a:lnTo>
                  <a:pt x="9416" y="3080"/>
                </a:lnTo>
                <a:lnTo>
                  <a:pt x="9549" y="3075"/>
                </a:lnTo>
                <a:close/>
                <a:moveTo>
                  <a:pt x="9571" y="4009"/>
                </a:moveTo>
                <a:lnTo>
                  <a:pt x="9584" y="4542"/>
                </a:lnTo>
                <a:lnTo>
                  <a:pt x="9450" y="4545"/>
                </a:lnTo>
                <a:lnTo>
                  <a:pt x="9438" y="4012"/>
                </a:lnTo>
                <a:lnTo>
                  <a:pt x="9571" y="4009"/>
                </a:lnTo>
                <a:close/>
                <a:moveTo>
                  <a:pt x="9593" y="4942"/>
                </a:moveTo>
                <a:lnTo>
                  <a:pt x="9606" y="5475"/>
                </a:lnTo>
                <a:lnTo>
                  <a:pt x="9472" y="5478"/>
                </a:lnTo>
                <a:lnTo>
                  <a:pt x="9460" y="4945"/>
                </a:lnTo>
                <a:lnTo>
                  <a:pt x="9593" y="4942"/>
                </a:lnTo>
                <a:close/>
                <a:moveTo>
                  <a:pt x="9615" y="5875"/>
                </a:moveTo>
                <a:lnTo>
                  <a:pt x="9628" y="6408"/>
                </a:lnTo>
                <a:lnTo>
                  <a:pt x="9494" y="6411"/>
                </a:lnTo>
                <a:lnTo>
                  <a:pt x="9482" y="5878"/>
                </a:lnTo>
                <a:lnTo>
                  <a:pt x="9615" y="5875"/>
                </a:lnTo>
                <a:close/>
                <a:moveTo>
                  <a:pt x="9635" y="6809"/>
                </a:moveTo>
                <a:lnTo>
                  <a:pt x="9642" y="7342"/>
                </a:lnTo>
                <a:lnTo>
                  <a:pt x="9508" y="7344"/>
                </a:lnTo>
                <a:lnTo>
                  <a:pt x="9502" y="6810"/>
                </a:lnTo>
                <a:lnTo>
                  <a:pt x="9635" y="6809"/>
                </a:lnTo>
                <a:close/>
                <a:moveTo>
                  <a:pt x="9647" y="7742"/>
                </a:moveTo>
                <a:lnTo>
                  <a:pt x="9653" y="8275"/>
                </a:lnTo>
                <a:lnTo>
                  <a:pt x="9520" y="8277"/>
                </a:lnTo>
                <a:lnTo>
                  <a:pt x="9513" y="7744"/>
                </a:lnTo>
                <a:lnTo>
                  <a:pt x="9647" y="7742"/>
                </a:lnTo>
                <a:close/>
                <a:moveTo>
                  <a:pt x="9658" y="8675"/>
                </a:moveTo>
                <a:lnTo>
                  <a:pt x="9665" y="9209"/>
                </a:lnTo>
                <a:lnTo>
                  <a:pt x="9532" y="9210"/>
                </a:lnTo>
                <a:lnTo>
                  <a:pt x="9525" y="8677"/>
                </a:lnTo>
                <a:lnTo>
                  <a:pt x="9658" y="8675"/>
                </a:lnTo>
                <a:close/>
                <a:moveTo>
                  <a:pt x="9670" y="9609"/>
                </a:moveTo>
                <a:lnTo>
                  <a:pt x="9676" y="10142"/>
                </a:lnTo>
                <a:lnTo>
                  <a:pt x="9543" y="10144"/>
                </a:lnTo>
                <a:lnTo>
                  <a:pt x="9537" y="9610"/>
                </a:lnTo>
                <a:lnTo>
                  <a:pt x="9670" y="9609"/>
                </a:lnTo>
                <a:close/>
                <a:moveTo>
                  <a:pt x="9681" y="10542"/>
                </a:moveTo>
                <a:lnTo>
                  <a:pt x="9683" y="10678"/>
                </a:lnTo>
                <a:lnTo>
                  <a:pt x="9694" y="11074"/>
                </a:lnTo>
                <a:lnTo>
                  <a:pt x="9561" y="11078"/>
                </a:lnTo>
                <a:lnTo>
                  <a:pt x="9550" y="10680"/>
                </a:lnTo>
                <a:lnTo>
                  <a:pt x="9548" y="10543"/>
                </a:lnTo>
                <a:lnTo>
                  <a:pt x="9681" y="10542"/>
                </a:lnTo>
                <a:close/>
                <a:moveTo>
                  <a:pt x="9705" y="11474"/>
                </a:moveTo>
                <a:lnTo>
                  <a:pt x="9719" y="12007"/>
                </a:lnTo>
                <a:lnTo>
                  <a:pt x="9586" y="12011"/>
                </a:lnTo>
                <a:lnTo>
                  <a:pt x="9571" y="11477"/>
                </a:lnTo>
                <a:lnTo>
                  <a:pt x="9705" y="11474"/>
                </a:lnTo>
                <a:close/>
                <a:moveTo>
                  <a:pt x="9730" y="12407"/>
                </a:moveTo>
                <a:lnTo>
                  <a:pt x="9744" y="12940"/>
                </a:lnTo>
                <a:lnTo>
                  <a:pt x="9611" y="12944"/>
                </a:lnTo>
                <a:lnTo>
                  <a:pt x="9597" y="12410"/>
                </a:lnTo>
                <a:lnTo>
                  <a:pt x="9730" y="12407"/>
                </a:lnTo>
                <a:close/>
                <a:moveTo>
                  <a:pt x="9755" y="13340"/>
                </a:moveTo>
                <a:lnTo>
                  <a:pt x="9769" y="13873"/>
                </a:lnTo>
                <a:lnTo>
                  <a:pt x="9636" y="13877"/>
                </a:lnTo>
                <a:lnTo>
                  <a:pt x="9622" y="13343"/>
                </a:lnTo>
                <a:lnTo>
                  <a:pt x="9755" y="13340"/>
                </a:lnTo>
                <a:close/>
                <a:moveTo>
                  <a:pt x="9780" y="14273"/>
                </a:moveTo>
                <a:lnTo>
                  <a:pt x="9783" y="14377"/>
                </a:lnTo>
                <a:lnTo>
                  <a:pt x="9796" y="14806"/>
                </a:lnTo>
                <a:lnTo>
                  <a:pt x="9662" y="14810"/>
                </a:lnTo>
                <a:lnTo>
                  <a:pt x="9650" y="14381"/>
                </a:lnTo>
                <a:lnTo>
                  <a:pt x="9647" y="14276"/>
                </a:lnTo>
                <a:lnTo>
                  <a:pt x="9780" y="14273"/>
                </a:lnTo>
                <a:close/>
                <a:moveTo>
                  <a:pt x="9807" y="15206"/>
                </a:moveTo>
                <a:lnTo>
                  <a:pt x="9823" y="15739"/>
                </a:lnTo>
                <a:lnTo>
                  <a:pt x="9689" y="15743"/>
                </a:lnTo>
                <a:lnTo>
                  <a:pt x="9674" y="15210"/>
                </a:lnTo>
                <a:lnTo>
                  <a:pt x="9807" y="15206"/>
                </a:lnTo>
                <a:close/>
                <a:moveTo>
                  <a:pt x="9834" y="16139"/>
                </a:moveTo>
                <a:lnTo>
                  <a:pt x="9850" y="16672"/>
                </a:lnTo>
                <a:lnTo>
                  <a:pt x="9717" y="16676"/>
                </a:lnTo>
                <a:lnTo>
                  <a:pt x="9701" y="16142"/>
                </a:lnTo>
                <a:lnTo>
                  <a:pt x="9834" y="16139"/>
                </a:lnTo>
                <a:close/>
                <a:moveTo>
                  <a:pt x="9861" y="17072"/>
                </a:moveTo>
                <a:lnTo>
                  <a:pt x="9866" y="17244"/>
                </a:lnTo>
                <a:lnTo>
                  <a:pt x="9888" y="17602"/>
                </a:lnTo>
                <a:lnTo>
                  <a:pt x="9755" y="17610"/>
                </a:lnTo>
                <a:lnTo>
                  <a:pt x="9733" y="17247"/>
                </a:lnTo>
                <a:lnTo>
                  <a:pt x="9728" y="17075"/>
                </a:lnTo>
                <a:lnTo>
                  <a:pt x="9861" y="17072"/>
                </a:lnTo>
                <a:close/>
                <a:moveTo>
                  <a:pt x="9913" y="18001"/>
                </a:moveTo>
                <a:lnTo>
                  <a:pt x="9945" y="18534"/>
                </a:lnTo>
                <a:lnTo>
                  <a:pt x="9812" y="18542"/>
                </a:lnTo>
                <a:lnTo>
                  <a:pt x="9780" y="18009"/>
                </a:lnTo>
                <a:lnTo>
                  <a:pt x="9913" y="18001"/>
                </a:lnTo>
                <a:close/>
                <a:moveTo>
                  <a:pt x="9979" y="18917"/>
                </a:moveTo>
                <a:lnTo>
                  <a:pt x="10064" y="19228"/>
                </a:lnTo>
                <a:lnTo>
                  <a:pt x="9934" y="19235"/>
                </a:lnTo>
                <a:lnTo>
                  <a:pt x="9969" y="19026"/>
                </a:lnTo>
                <a:lnTo>
                  <a:pt x="10100" y="19048"/>
                </a:lnTo>
                <a:lnTo>
                  <a:pt x="10066" y="19256"/>
                </a:lnTo>
                <a:cubicBezTo>
                  <a:pt x="10060" y="19287"/>
                  <a:pt x="10034" y="19310"/>
                  <a:pt x="10003" y="19312"/>
                </a:cubicBezTo>
                <a:cubicBezTo>
                  <a:pt x="9972" y="19314"/>
                  <a:pt x="9944" y="19293"/>
                  <a:pt x="9935" y="19263"/>
                </a:cubicBezTo>
                <a:lnTo>
                  <a:pt x="9851" y="18953"/>
                </a:lnTo>
                <a:lnTo>
                  <a:pt x="9979" y="18917"/>
                </a:lnTo>
                <a:close/>
                <a:moveTo>
                  <a:pt x="10021" y="18638"/>
                </a:moveTo>
                <a:lnTo>
                  <a:pt x="10046" y="18105"/>
                </a:lnTo>
                <a:lnTo>
                  <a:pt x="10179" y="18111"/>
                </a:lnTo>
                <a:lnTo>
                  <a:pt x="10155" y="18644"/>
                </a:lnTo>
                <a:lnTo>
                  <a:pt x="10021" y="18638"/>
                </a:lnTo>
                <a:close/>
                <a:moveTo>
                  <a:pt x="10064" y="17706"/>
                </a:moveTo>
                <a:lnTo>
                  <a:pt x="10067" y="17659"/>
                </a:lnTo>
                <a:lnTo>
                  <a:pt x="10111" y="17171"/>
                </a:lnTo>
                <a:lnTo>
                  <a:pt x="10244" y="17184"/>
                </a:lnTo>
                <a:lnTo>
                  <a:pt x="10200" y="17665"/>
                </a:lnTo>
                <a:lnTo>
                  <a:pt x="10198" y="17712"/>
                </a:lnTo>
                <a:lnTo>
                  <a:pt x="10064" y="17706"/>
                </a:lnTo>
                <a:close/>
                <a:moveTo>
                  <a:pt x="10148" y="16773"/>
                </a:moveTo>
                <a:lnTo>
                  <a:pt x="10167" y="16573"/>
                </a:lnTo>
                <a:lnTo>
                  <a:pt x="10200" y="16242"/>
                </a:lnTo>
                <a:lnTo>
                  <a:pt x="10333" y="16255"/>
                </a:lnTo>
                <a:lnTo>
                  <a:pt x="10300" y="16585"/>
                </a:lnTo>
                <a:lnTo>
                  <a:pt x="10281" y="16785"/>
                </a:lnTo>
                <a:lnTo>
                  <a:pt x="10148" y="16773"/>
                </a:lnTo>
                <a:close/>
                <a:moveTo>
                  <a:pt x="10240" y="15844"/>
                </a:moveTo>
                <a:lnTo>
                  <a:pt x="10250" y="15739"/>
                </a:lnTo>
                <a:cubicBezTo>
                  <a:pt x="10250" y="15735"/>
                  <a:pt x="10251" y="15732"/>
                  <a:pt x="10252" y="15729"/>
                </a:cubicBezTo>
                <a:lnTo>
                  <a:pt x="10352" y="15345"/>
                </a:lnTo>
                <a:cubicBezTo>
                  <a:pt x="10357" y="15326"/>
                  <a:pt x="10371" y="15310"/>
                  <a:pt x="10389" y="15301"/>
                </a:cubicBezTo>
                <a:cubicBezTo>
                  <a:pt x="10407" y="15293"/>
                  <a:pt x="10428" y="15294"/>
                  <a:pt x="10446" y="15303"/>
                </a:cubicBezTo>
                <a:lnTo>
                  <a:pt x="10475" y="15317"/>
                </a:lnTo>
                <a:lnTo>
                  <a:pt x="10415" y="15436"/>
                </a:lnTo>
                <a:lnTo>
                  <a:pt x="10387" y="15422"/>
                </a:lnTo>
                <a:lnTo>
                  <a:pt x="10481" y="15379"/>
                </a:lnTo>
                <a:lnTo>
                  <a:pt x="10381" y="15762"/>
                </a:lnTo>
                <a:lnTo>
                  <a:pt x="10383" y="15752"/>
                </a:lnTo>
                <a:lnTo>
                  <a:pt x="10372" y="15857"/>
                </a:lnTo>
                <a:lnTo>
                  <a:pt x="10240" y="15844"/>
                </a:lnTo>
                <a:close/>
                <a:moveTo>
                  <a:pt x="10615" y="15724"/>
                </a:moveTo>
                <a:lnTo>
                  <a:pt x="10616" y="15739"/>
                </a:lnTo>
                <a:lnTo>
                  <a:pt x="10715" y="16147"/>
                </a:lnTo>
                <a:lnTo>
                  <a:pt x="10739" y="16229"/>
                </a:lnTo>
                <a:lnTo>
                  <a:pt x="10612" y="16267"/>
                </a:lnTo>
                <a:lnTo>
                  <a:pt x="10585" y="16178"/>
                </a:lnTo>
                <a:lnTo>
                  <a:pt x="10483" y="15752"/>
                </a:lnTo>
                <a:lnTo>
                  <a:pt x="10482" y="15737"/>
                </a:lnTo>
                <a:lnTo>
                  <a:pt x="10615" y="15724"/>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4052880" y="3359160"/>
            <a:ext cx="1295280" cy="1992240"/>
          </a:xfrm>
          <a:custGeom>
            <a:avLst/>
            <a:gdLst/>
            <a:ahLst/>
            <a:rect l="l" t="t" r="r" b="b"/>
            <a:pathLst>
              <a:path w="5399" h="8284">
                <a:moveTo>
                  <a:pt x="60" y="6862"/>
                </a:moveTo>
                <a:lnTo>
                  <a:pt x="102" y="6953"/>
                </a:lnTo>
                <a:lnTo>
                  <a:pt x="87" y="6937"/>
                </a:lnTo>
                <a:lnTo>
                  <a:pt x="137" y="6962"/>
                </a:lnTo>
                <a:lnTo>
                  <a:pt x="92" y="6977"/>
                </a:lnTo>
                <a:lnTo>
                  <a:pt x="117" y="6927"/>
                </a:lnTo>
                <a:lnTo>
                  <a:pt x="147" y="6879"/>
                </a:lnTo>
                <a:lnTo>
                  <a:pt x="204" y="6914"/>
                </a:lnTo>
                <a:lnTo>
                  <a:pt x="177" y="6957"/>
                </a:lnTo>
                <a:lnTo>
                  <a:pt x="152" y="7007"/>
                </a:lnTo>
                <a:cubicBezTo>
                  <a:pt x="143" y="7024"/>
                  <a:pt x="123" y="7030"/>
                  <a:pt x="107" y="7022"/>
                </a:cubicBezTo>
                <a:lnTo>
                  <a:pt x="57" y="6997"/>
                </a:lnTo>
                <a:cubicBezTo>
                  <a:pt x="50" y="6994"/>
                  <a:pt x="45" y="6988"/>
                  <a:pt x="41" y="6981"/>
                </a:cubicBezTo>
                <a:lnTo>
                  <a:pt x="0" y="6889"/>
                </a:lnTo>
                <a:lnTo>
                  <a:pt x="60" y="6862"/>
                </a:lnTo>
                <a:close/>
                <a:moveTo>
                  <a:pt x="330" y="6792"/>
                </a:moveTo>
                <a:lnTo>
                  <a:pt x="380" y="6792"/>
                </a:lnTo>
                <a:cubicBezTo>
                  <a:pt x="389" y="6792"/>
                  <a:pt x="397" y="6796"/>
                  <a:pt x="404" y="6802"/>
                </a:cubicBezTo>
                <a:lnTo>
                  <a:pt x="429" y="6827"/>
                </a:lnTo>
                <a:lnTo>
                  <a:pt x="405" y="6817"/>
                </a:lnTo>
                <a:lnTo>
                  <a:pt x="447" y="6817"/>
                </a:lnTo>
                <a:lnTo>
                  <a:pt x="432" y="6821"/>
                </a:lnTo>
                <a:lnTo>
                  <a:pt x="482" y="6796"/>
                </a:lnTo>
                <a:cubicBezTo>
                  <a:pt x="487" y="6793"/>
                  <a:pt x="492" y="6792"/>
                  <a:pt x="497" y="6792"/>
                </a:cubicBezTo>
                <a:lnTo>
                  <a:pt x="547" y="6792"/>
                </a:lnTo>
                <a:lnTo>
                  <a:pt x="530" y="6797"/>
                </a:lnTo>
                <a:lnTo>
                  <a:pt x="559" y="6779"/>
                </a:lnTo>
                <a:lnTo>
                  <a:pt x="593" y="6837"/>
                </a:lnTo>
                <a:lnTo>
                  <a:pt x="564" y="6854"/>
                </a:lnTo>
                <a:cubicBezTo>
                  <a:pt x="559" y="6857"/>
                  <a:pt x="553" y="6859"/>
                  <a:pt x="547" y="6859"/>
                </a:cubicBezTo>
                <a:lnTo>
                  <a:pt x="497" y="6859"/>
                </a:lnTo>
                <a:lnTo>
                  <a:pt x="512" y="6855"/>
                </a:lnTo>
                <a:lnTo>
                  <a:pt x="462" y="6880"/>
                </a:lnTo>
                <a:cubicBezTo>
                  <a:pt x="457" y="6883"/>
                  <a:pt x="452" y="6884"/>
                  <a:pt x="447" y="6884"/>
                </a:cubicBezTo>
                <a:lnTo>
                  <a:pt x="405" y="6884"/>
                </a:lnTo>
                <a:cubicBezTo>
                  <a:pt x="396" y="6884"/>
                  <a:pt x="388" y="6880"/>
                  <a:pt x="382" y="6874"/>
                </a:cubicBezTo>
                <a:lnTo>
                  <a:pt x="357" y="6849"/>
                </a:lnTo>
                <a:lnTo>
                  <a:pt x="380" y="6859"/>
                </a:lnTo>
                <a:lnTo>
                  <a:pt x="330" y="6859"/>
                </a:lnTo>
                <a:lnTo>
                  <a:pt x="330" y="6792"/>
                </a:lnTo>
                <a:close/>
                <a:moveTo>
                  <a:pt x="766" y="6844"/>
                </a:moveTo>
                <a:lnTo>
                  <a:pt x="770" y="6846"/>
                </a:lnTo>
                <a:lnTo>
                  <a:pt x="755" y="6842"/>
                </a:lnTo>
                <a:lnTo>
                  <a:pt x="805" y="6842"/>
                </a:lnTo>
                <a:lnTo>
                  <a:pt x="822" y="6842"/>
                </a:lnTo>
                <a:lnTo>
                  <a:pt x="872" y="6842"/>
                </a:lnTo>
                <a:lnTo>
                  <a:pt x="922" y="6842"/>
                </a:lnTo>
                <a:lnTo>
                  <a:pt x="963" y="6842"/>
                </a:lnTo>
                <a:lnTo>
                  <a:pt x="1013" y="6842"/>
                </a:lnTo>
                <a:lnTo>
                  <a:pt x="1017" y="6842"/>
                </a:lnTo>
                <a:lnTo>
                  <a:pt x="1017" y="6909"/>
                </a:lnTo>
                <a:lnTo>
                  <a:pt x="1013" y="6909"/>
                </a:lnTo>
                <a:lnTo>
                  <a:pt x="963" y="6909"/>
                </a:lnTo>
                <a:lnTo>
                  <a:pt x="922" y="6909"/>
                </a:lnTo>
                <a:lnTo>
                  <a:pt x="872" y="6909"/>
                </a:lnTo>
                <a:lnTo>
                  <a:pt x="822" y="6909"/>
                </a:lnTo>
                <a:lnTo>
                  <a:pt x="805" y="6909"/>
                </a:lnTo>
                <a:lnTo>
                  <a:pt x="755" y="6909"/>
                </a:lnTo>
                <a:cubicBezTo>
                  <a:pt x="750" y="6909"/>
                  <a:pt x="745" y="6908"/>
                  <a:pt x="740" y="6905"/>
                </a:cubicBezTo>
                <a:lnTo>
                  <a:pt x="736" y="6903"/>
                </a:lnTo>
                <a:lnTo>
                  <a:pt x="766" y="6844"/>
                </a:lnTo>
                <a:close/>
                <a:moveTo>
                  <a:pt x="1211" y="6859"/>
                </a:moveTo>
                <a:lnTo>
                  <a:pt x="1222" y="6859"/>
                </a:lnTo>
                <a:lnTo>
                  <a:pt x="1272" y="6859"/>
                </a:lnTo>
                <a:lnTo>
                  <a:pt x="1297" y="6859"/>
                </a:lnTo>
                <a:cubicBezTo>
                  <a:pt x="1303" y="6859"/>
                  <a:pt x="1309" y="6860"/>
                  <a:pt x="1314" y="6864"/>
                </a:cubicBezTo>
                <a:lnTo>
                  <a:pt x="1356" y="6889"/>
                </a:lnTo>
                <a:lnTo>
                  <a:pt x="1338" y="6884"/>
                </a:lnTo>
                <a:lnTo>
                  <a:pt x="1388" y="6884"/>
                </a:lnTo>
                <a:lnTo>
                  <a:pt x="1438" y="6884"/>
                </a:lnTo>
                <a:lnTo>
                  <a:pt x="1470" y="6884"/>
                </a:lnTo>
                <a:lnTo>
                  <a:pt x="1470" y="6950"/>
                </a:lnTo>
                <a:lnTo>
                  <a:pt x="1438" y="6950"/>
                </a:lnTo>
                <a:lnTo>
                  <a:pt x="1388" y="6950"/>
                </a:lnTo>
                <a:lnTo>
                  <a:pt x="1338" y="6950"/>
                </a:lnTo>
                <a:cubicBezTo>
                  <a:pt x="1332" y="6950"/>
                  <a:pt x="1326" y="6949"/>
                  <a:pt x="1321" y="6946"/>
                </a:cubicBezTo>
                <a:lnTo>
                  <a:pt x="1280" y="6921"/>
                </a:lnTo>
                <a:lnTo>
                  <a:pt x="1297" y="6925"/>
                </a:lnTo>
                <a:lnTo>
                  <a:pt x="1272" y="6925"/>
                </a:lnTo>
                <a:lnTo>
                  <a:pt x="1222" y="6925"/>
                </a:lnTo>
                <a:lnTo>
                  <a:pt x="1211" y="6925"/>
                </a:lnTo>
                <a:lnTo>
                  <a:pt x="1211" y="6859"/>
                </a:lnTo>
                <a:close/>
                <a:moveTo>
                  <a:pt x="1660" y="6909"/>
                </a:moveTo>
                <a:lnTo>
                  <a:pt x="1697" y="6909"/>
                </a:lnTo>
                <a:cubicBezTo>
                  <a:pt x="1703" y="6909"/>
                  <a:pt x="1709" y="6910"/>
                  <a:pt x="1714" y="6914"/>
                </a:cubicBezTo>
                <a:lnTo>
                  <a:pt x="1756" y="6939"/>
                </a:lnTo>
                <a:lnTo>
                  <a:pt x="1738" y="6934"/>
                </a:lnTo>
                <a:lnTo>
                  <a:pt x="1763" y="6934"/>
                </a:lnTo>
                <a:lnTo>
                  <a:pt x="1813" y="6934"/>
                </a:lnTo>
                <a:lnTo>
                  <a:pt x="1855" y="6934"/>
                </a:lnTo>
                <a:lnTo>
                  <a:pt x="1905" y="6934"/>
                </a:lnTo>
                <a:cubicBezTo>
                  <a:pt x="1910" y="6934"/>
                  <a:pt x="1915" y="6935"/>
                  <a:pt x="1920" y="6937"/>
                </a:cubicBezTo>
                <a:lnTo>
                  <a:pt x="1933" y="6944"/>
                </a:lnTo>
                <a:lnTo>
                  <a:pt x="1903" y="7003"/>
                </a:lnTo>
                <a:lnTo>
                  <a:pt x="1890" y="6997"/>
                </a:lnTo>
                <a:lnTo>
                  <a:pt x="1905" y="7000"/>
                </a:lnTo>
                <a:lnTo>
                  <a:pt x="1855" y="7000"/>
                </a:lnTo>
                <a:lnTo>
                  <a:pt x="1813" y="7000"/>
                </a:lnTo>
                <a:lnTo>
                  <a:pt x="1763" y="7000"/>
                </a:lnTo>
                <a:lnTo>
                  <a:pt x="1738" y="7000"/>
                </a:lnTo>
                <a:cubicBezTo>
                  <a:pt x="1732" y="7000"/>
                  <a:pt x="1726" y="6999"/>
                  <a:pt x="1721" y="6996"/>
                </a:cubicBezTo>
                <a:lnTo>
                  <a:pt x="1680" y="6971"/>
                </a:lnTo>
                <a:lnTo>
                  <a:pt x="1697" y="6975"/>
                </a:lnTo>
                <a:lnTo>
                  <a:pt x="1660" y="6975"/>
                </a:lnTo>
                <a:lnTo>
                  <a:pt x="1660" y="6909"/>
                </a:lnTo>
                <a:close/>
                <a:moveTo>
                  <a:pt x="2111" y="6975"/>
                </a:moveTo>
                <a:lnTo>
                  <a:pt x="2113" y="6975"/>
                </a:lnTo>
                <a:lnTo>
                  <a:pt x="2163" y="6975"/>
                </a:lnTo>
                <a:lnTo>
                  <a:pt x="2145" y="6981"/>
                </a:lnTo>
                <a:lnTo>
                  <a:pt x="2170" y="6964"/>
                </a:lnTo>
                <a:cubicBezTo>
                  <a:pt x="2175" y="6961"/>
                  <a:pt x="2182" y="6959"/>
                  <a:pt x="2188" y="6959"/>
                </a:cubicBezTo>
                <a:lnTo>
                  <a:pt x="2230" y="6959"/>
                </a:lnTo>
                <a:lnTo>
                  <a:pt x="2280" y="6959"/>
                </a:lnTo>
                <a:cubicBezTo>
                  <a:pt x="2284" y="6959"/>
                  <a:pt x="2287" y="6959"/>
                  <a:pt x="2291" y="6961"/>
                </a:cubicBezTo>
                <a:lnTo>
                  <a:pt x="2341" y="6977"/>
                </a:lnTo>
                <a:lnTo>
                  <a:pt x="2330" y="6975"/>
                </a:lnTo>
                <a:lnTo>
                  <a:pt x="2370" y="6975"/>
                </a:lnTo>
                <a:lnTo>
                  <a:pt x="2370" y="7042"/>
                </a:lnTo>
                <a:lnTo>
                  <a:pt x="2330" y="7042"/>
                </a:lnTo>
                <a:cubicBezTo>
                  <a:pt x="2327" y="7042"/>
                  <a:pt x="2323" y="7042"/>
                  <a:pt x="2320" y="7040"/>
                </a:cubicBezTo>
                <a:lnTo>
                  <a:pt x="2270" y="7024"/>
                </a:lnTo>
                <a:lnTo>
                  <a:pt x="2280" y="7025"/>
                </a:lnTo>
                <a:lnTo>
                  <a:pt x="2230" y="7025"/>
                </a:lnTo>
                <a:lnTo>
                  <a:pt x="2188" y="7025"/>
                </a:lnTo>
                <a:lnTo>
                  <a:pt x="2207" y="7020"/>
                </a:lnTo>
                <a:lnTo>
                  <a:pt x="2182" y="7037"/>
                </a:lnTo>
                <a:cubicBezTo>
                  <a:pt x="2176" y="7040"/>
                  <a:pt x="2170" y="7042"/>
                  <a:pt x="2163" y="7042"/>
                </a:cubicBezTo>
                <a:lnTo>
                  <a:pt x="2113" y="7042"/>
                </a:lnTo>
                <a:lnTo>
                  <a:pt x="2111" y="7042"/>
                </a:lnTo>
                <a:lnTo>
                  <a:pt x="2111" y="6975"/>
                </a:lnTo>
                <a:close/>
                <a:moveTo>
                  <a:pt x="2564" y="7000"/>
                </a:moveTo>
                <a:lnTo>
                  <a:pt x="2588" y="7000"/>
                </a:lnTo>
                <a:cubicBezTo>
                  <a:pt x="2595" y="7000"/>
                  <a:pt x="2600" y="7002"/>
                  <a:pt x="2606" y="7005"/>
                </a:cubicBezTo>
                <a:lnTo>
                  <a:pt x="2647" y="7030"/>
                </a:lnTo>
                <a:cubicBezTo>
                  <a:pt x="2650" y="7032"/>
                  <a:pt x="2652" y="7033"/>
                  <a:pt x="2654" y="7035"/>
                </a:cubicBezTo>
                <a:lnTo>
                  <a:pt x="2679" y="7060"/>
                </a:lnTo>
                <a:cubicBezTo>
                  <a:pt x="2680" y="7061"/>
                  <a:pt x="2681" y="7063"/>
                  <a:pt x="2682" y="7064"/>
                </a:cubicBezTo>
                <a:lnTo>
                  <a:pt x="2732" y="7130"/>
                </a:lnTo>
                <a:lnTo>
                  <a:pt x="2772" y="7179"/>
                </a:lnTo>
                <a:lnTo>
                  <a:pt x="2732" y="7171"/>
                </a:lnTo>
                <a:lnTo>
                  <a:pt x="2741" y="7166"/>
                </a:lnTo>
                <a:lnTo>
                  <a:pt x="2771" y="7226"/>
                </a:lnTo>
                <a:lnTo>
                  <a:pt x="2762" y="7230"/>
                </a:lnTo>
                <a:cubicBezTo>
                  <a:pt x="2748" y="7237"/>
                  <a:pt x="2731" y="7234"/>
                  <a:pt x="2721" y="7222"/>
                </a:cubicBezTo>
                <a:lnTo>
                  <a:pt x="2678" y="7170"/>
                </a:lnTo>
                <a:lnTo>
                  <a:pt x="2628" y="7104"/>
                </a:lnTo>
                <a:lnTo>
                  <a:pt x="2632" y="7107"/>
                </a:lnTo>
                <a:lnTo>
                  <a:pt x="2607" y="7082"/>
                </a:lnTo>
                <a:lnTo>
                  <a:pt x="2613" y="7087"/>
                </a:lnTo>
                <a:lnTo>
                  <a:pt x="2571" y="7062"/>
                </a:lnTo>
                <a:lnTo>
                  <a:pt x="2588" y="7067"/>
                </a:lnTo>
                <a:lnTo>
                  <a:pt x="2564" y="7067"/>
                </a:lnTo>
                <a:lnTo>
                  <a:pt x="2564" y="7000"/>
                </a:lnTo>
                <a:close/>
                <a:moveTo>
                  <a:pt x="2824" y="7042"/>
                </a:moveTo>
                <a:lnTo>
                  <a:pt x="2830" y="6988"/>
                </a:lnTo>
                <a:cubicBezTo>
                  <a:pt x="2831" y="6986"/>
                  <a:pt x="2831" y="6984"/>
                  <a:pt x="2832" y="6983"/>
                </a:cubicBezTo>
                <a:lnTo>
                  <a:pt x="2882" y="6816"/>
                </a:lnTo>
                <a:lnTo>
                  <a:pt x="2895" y="6778"/>
                </a:lnTo>
                <a:lnTo>
                  <a:pt x="2958" y="6800"/>
                </a:lnTo>
                <a:lnTo>
                  <a:pt x="2945" y="6835"/>
                </a:lnTo>
                <a:lnTo>
                  <a:pt x="2895" y="7002"/>
                </a:lnTo>
                <a:lnTo>
                  <a:pt x="2897" y="6996"/>
                </a:lnTo>
                <a:lnTo>
                  <a:pt x="2890" y="7049"/>
                </a:lnTo>
                <a:lnTo>
                  <a:pt x="2824" y="7042"/>
                </a:lnTo>
                <a:close/>
                <a:moveTo>
                  <a:pt x="3050" y="6686"/>
                </a:moveTo>
                <a:lnTo>
                  <a:pt x="3087" y="6789"/>
                </a:lnTo>
                <a:cubicBezTo>
                  <a:pt x="3087" y="6791"/>
                  <a:pt x="3088" y="6793"/>
                  <a:pt x="3088" y="6796"/>
                </a:cubicBezTo>
                <a:lnTo>
                  <a:pt x="3111" y="6950"/>
                </a:lnTo>
                <a:lnTo>
                  <a:pt x="3045" y="6960"/>
                </a:lnTo>
                <a:lnTo>
                  <a:pt x="3022" y="6805"/>
                </a:lnTo>
                <a:lnTo>
                  <a:pt x="3024" y="6812"/>
                </a:lnTo>
                <a:lnTo>
                  <a:pt x="2987" y="6708"/>
                </a:lnTo>
                <a:lnTo>
                  <a:pt x="3050" y="6686"/>
                </a:lnTo>
                <a:close/>
                <a:moveTo>
                  <a:pt x="3139" y="7152"/>
                </a:moveTo>
                <a:lnTo>
                  <a:pt x="3149" y="7419"/>
                </a:lnTo>
                <a:lnTo>
                  <a:pt x="3083" y="7421"/>
                </a:lnTo>
                <a:lnTo>
                  <a:pt x="3073" y="7155"/>
                </a:lnTo>
                <a:lnTo>
                  <a:pt x="3139" y="7152"/>
                </a:lnTo>
                <a:close/>
                <a:moveTo>
                  <a:pt x="3160" y="7616"/>
                </a:moveTo>
                <a:lnTo>
                  <a:pt x="3190" y="7881"/>
                </a:lnTo>
                <a:lnTo>
                  <a:pt x="3124" y="7888"/>
                </a:lnTo>
                <a:lnTo>
                  <a:pt x="3094" y="7623"/>
                </a:lnTo>
                <a:lnTo>
                  <a:pt x="3160" y="7616"/>
                </a:lnTo>
                <a:close/>
                <a:moveTo>
                  <a:pt x="3218" y="8075"/>
                </a:moveTo>
                <a:lnTo>
                  <a:pt x="3254" y="8243"/>
                </a:lnTo>
                <a:lnTo>
                  <a:pt x="3190" y="8241"/>
                </a:lnTo>
                <a:lnTo>
                  <a:pt x="3218" y="8150"/>
                </a:lnTo>
                <a:lnTo>
                  <a:pt x="3282" y="8170"/>
                </a:lnTo>
                <a:lnTo>
                  <a:pt x="3254" y="8260"/>
                </a:lnTo>
                <a:cubicBezTo>
                  <a:pt x="3249" y="8275"/>
                  <a:pt x="3235" y="8284"/>
                  <a:pt x="3220" y="8284"/>
                </a:cubicBezTo>
                <a:cubicBezTo>
                  <a:pt x="3205" y="8283"/>
                  <a:pt x="3192" y="8272"/>
                  <a:pt x="3189" y="8257"/>
                </a:cubicBezTo>
                <a:lnTo>
                  <a:pt x="3153" y="8089"/>
                </a:lnTo>
                <a:lnTo>
                  <a:pt x="3218" y="8075"/>
                </a:lnTo>
                <a:close/>
                <a:moveTo>
                  <a:pt x="3242" y="7960"/>
                </a:moveTo>
                <a:lnTo>
                  <a:pt x="3263" y="7694"/>
                </a:lnTo>
                <a:lnTo>
                  <a:pt x="3330" y="7700"/>
                </a:lnTo>
                <a:lnTo>
                  <a:pt x="3309" y="7966"/>
                </a:lnTo>
                <a:lnTo>
                  <a:pt x="3242" y="7960"/>
                </a:lnTo>
                <a:close/>
                <a:moveTo>
                  <a:pt x="3279" y="7495"/>
                </a:moveTo>
                <a:lnTo>
                  <a:pt x="3280" y="7481"/>
                </a:lnTo>
                <a:lnTo>
                  <a:pt x="3286" y="7230"/>
                </a:lnTo>
                <a:lnTo>
                  <a:pt x="3352" y="7232"/>
                </a:lnTo>
                <a:lnTo>
                  <a:pt x="3347" y="7486"/>
                </a:lnTo>
                <a:lnTo>
                  <a:pt x="3346" y="7500"/>
                </a:lnTo>
                <a:lnTo>
                  <a:pt x="3279" y="7495"/>
                </a:lnTo>
                <a:close/>
                <a:moveTo>
                  <a:pt x="3290" y="7030"/>
                </a:moveTo>
                <a:lnTo>
                  <a:pt x="3296" y="6764"/>
                </a:lnTo>
                <a:lnTo>
                  <a:pt x="3362" y="6765"/>
                </a:lnTo>
                <a:lnTo>
                  <a:pt x="3357" y="7032"/>
                </a:lnTo>
                <a:lnTo>
                  <a:pt x="3290" y="7030"/>
                </a:lnTo>
                <a:close/>
                <a:moveTo>
                  <a:pt x="3300" y="6564"/>
                </a:moveTo>
                <a:lnTo>
                  <a:pt x="3305" y="6333"/>
                </a:lnTo>
                <a:lnTo>
                  <a:pt x="3306" y="6297"/>
                </a:lnTo>
                <a:lnTo>
                  <a:pt x="3373" y="6299"/>
                </a:lnTo>
                <a:lnTo>
                  <a:pt x="3372" y="6335"/>
                </a:lnTo>
                <a:lnTo>
                  <a:pt x="3367" y="6565"/>
                </a:lnTo>
                <a:lnTo>
                  <a:pt x="3300" y="6564"/>
                </a:lnTo>
                <a:close/>
                <a:moveTo>
                  <a:pt x="3311" y="6097"/>
                </a:moveTo>
                <a:lnTo>
                  <a:pt x="3319" y="5831"/>
                </a:lnTo>
                <a:lnTo>
                  <a:pt x="3385" y="5832"/>
                </a:lnTo>
                <a:lnTo>
                  <a:pt x="3378" y="6099"/>
                </a:lnTo>
                <a:lnTo>
                  <a:pt x="3311" y="6097"/>
                </a:lnTo>
                <a:close/>
                <a:moveTo>
                  <a:pt x="3324" y="5631"/>
                </a:moveTo>
                <a:lnTo>
                  <a:pt x="3331" y="5364"/>
                </a:lnTo>
                <a:lnTo>
                  <a:pt x="3398" y="5366"/>
                </a:lnTo>
                <a:lnTo>
                  <a:pt x="3391" y="5632"/>
                </a:lnTo>
                <a:lnTo>
                  <a:pt x="3324" y="5631"/>
                </a:lnTo>
                <a:close/>
                <a:moveTo>
                  <a:pt x="3337" y="5164"/>
                </a:moveTo>
                <a:lnTo>
                  <a:pt x="3344" y="4898"/>
                </a:lnTo>
                <a:lnTo>
                  <a:pt x="3410" y="4899"/>
                </a:lnTo>
                <a:lnTo>
                  <a:pt x="3403" y="5166"/>
                </a:lnTo>
                <a:lnTo>
                  <a:pt x="3337" y="5164"/>
                </a:lnTo>
                <a:close/>
                <a:moveTo>
                  <a:pt x="3349" y="4698"/>
                </a:moveTo>
                <a:lnTo>
                  <a:pt x="3357" y="4431"/>
                </a:lnTo>
                <a:lnTo>
                  <a:pt x="3424" y="4433"/>
                </a:lnTo>
                <a:lnTo>
                  <a:pt x="3416" y="4700"/>
                </a:lnTo>
                <a:lnTo>
                  <a:pt x="3349" y="4698"/>
                </a:lnTo>
                <a:close/>
                <a:moveTo>
                  <a:pt x="3363" y="4231"/>
                </a:moveTo>
                <a:lnTo>
                  <a:pt x="3371" y="3965"/>
                </a:lnTo>
                <a:lnTo>
                  <a:pt x="3437" y="3967"/>
                </a:lnTo>
                <a:lnTo>
                  <a:pt x="3430" y="4233"/>
                </a:lnTo>
                <a:lnTo>
                  <a:pt x="3363" y="4231"/>
                </a:lnTo>
                <a:close/>
                <a:moveTo>
                  <a:pt x="3377" y="3765"/>
                </a:moveTo>
                <a:lnTo>
                  <a:pt x="3384" y="3498"/>
                </a:lnTo>
                <a:lnTo>
                  <a:pt x="3451" y="3500"/>
                </a:lnTo>
                <a:lnTo>
                  <a:pt x="3443" y="3767"/>
                </a:lnTo>
                <a:lnTo>
                  <a:pt x="3377" y="3765"/>
                </a:lnTo>
                <a:close/>
                <a:moveTo>
                  <a:pt x="3390" y="3298"/>
                </a:moveTo>
                <a:lnTo>
                  <a:pt x="3397" y="3074"/>
                </a:lnTo>
                <a:lnTo>
                  <a:pt x="3398" y="3032"/>
                </a:lnTo>
                <a:lnTo>
                  <a:pt x="3465" y="3034"/>
                </a:lnTo>
                <a:lnTo>
                  <a:pt x="3463" y="3076"/>
                </a:lnTo>
                <a:lnTo>
                  <a:pt x="3457" y="3300"/>
                </a:lnTo>
                <a:lnTo>
                  <a:pt x="3390" y="3298"/>
                </a:lnTo>
                <a:close/>
                <a:moveTo>
                  <a:pt x="3405" y="2832"/>
                </a:moveTo>
                <a:lnTo>
                  <a:pt x="3413" y="2565"/>
                </a:lnTo>
                <a:lnTo>
                  <a:pt x="3480" y="2567"/>
                </a:lnTo>
                <a:lnTo>
                  <a:pt x="3471" y="2834"/>
                </a:lnTo>
                <a:lnTo>
                  <a:pt x="3405" y="2832"/>
                </a:lnTo>
                <a:close/>
                <a:moveTo>
                  <a:pt x="3420" y="2365"/>
                </a:moveTo>
                <a:lnTo>
                  <a:pt x="3428" y="2099"/>
                </a:lnTo>
                <a:lnTo>
                  <a:pt x="3495" y="2101"/>
                </a:lnTo>
                <a:lnTo>
                  <a:pt x="3486" y="2367"/>
                </a:lnTo>
                <a:lnTo>
                  <a:pt x="3420" y="2365"/>
                </a:lnTo>
                <a:close/>
                <a:moveTo>
                  <a:pt x="3435" y="1899"/>
                </a:moveTo>
                <a:lnTo>
                  <a:pt x="3444" y="1632"/>
                </a:lnTo>
                <a:lnTo>
                  <a:pt x="3510" y="1634"/>
                </a:lnTo>
                <a:lnTo>
                  <a:pt x="3502" y="1901"/>
                </a:lnTo>
                <a:lnTo>
                  <a:pt x="3435" y="1899"/>
                </a:lnTo>
                <a:close/>
                <a:moveTo>
                  <a:pt x="3451" y="1432"/>
                </a:moveTo>
                <a:lnTo>
                  <a:pt x="3461" y="1166"/>
                </a:lnTo>
                <a:lnTo>
                  <a:pt x="3527" y="1168"/>
                </a:lnTo>
                <a:lnTo>
                  <a:pt x="3517" y="1435"/>
                </a:lnTo>
                <a:lnTo>
                  <a:pt x="3451" y="1432"/>
                </a:lnTo>
                <a:close/>
                <a:moveTo>
                  <a:pt x="3468" y="966"/>
                </a:moveTo>
                <a:lnTo>
                  <a:pt x="3478" y="699"/>
                </a:lnTo>
                <a:lnTo>
                  <a:pt x="3545" y="702"/>
                </a:lnTo>
                <a:lnTo>
                  <a:pt x="3535" y="968"/>
                </a:lnTo>
                <a:lnTo>
                  <a:pt x="3468" y="966"/>
                </a:lnTo>
                <a:close/>
                <a:moveTo>
                  <a:pt x="3486" y="500"/>
                </a:moveTo>
                <a:lnTo>
                  <a:pt x="3488" y="433"/>
                </a:lnTo>
                <a:lnTo>
                  <a:pt x="3501" y="233"/>
                </a:lnTo>
                <a:lnTo>
                  <a:pt x="3568" y="237"/>
                </a:lnTo>
                <a:lnTo>
                  <a:pt x="3555" y="435"/>
                </a:lnTo>
                <a:lnTo>
                  <a:pt x="3553" y="502"/>
                </a:lnTo>
                <a:lnTo>
                  <a:pt x="3486" y="500"/>
                </a:lnTo>
                <a:close/>
                <a:moveTo>
                  <a:pt x="3513" y="33"/>
                </a:moveTo>
                <a:lnTo>
                  <a:pt x="3514" y="32"/>
                </a:lnTo>
                <a:cubicBezTo>
                  <a:pt x="3515" y="15"/>
                  <a:pt x="3528" y="1"/>
                  <a:pt x="3545" y="1"/>
                </a:cubicBezTo>
                <a:cubicBezTo>
                  <a:pt x="3562" y="0"/>
                  <a:pt x="3577" y="12"/>
                  <a:pt x="3580" y="29"/>
                </a:cubicBezTo>
                <a:lnTo>
                  <a:pt x="3620" y="291"/>
                </a:lnTo>
                <a:lnTo>
                  <a:pt x="3554" y="301"/>
                </a:lnTo>
                <a:lnTo>
                  <a:pt x="3514" y="39"/>
                </a:lnTo>
                <a:lnTo>
                  <a:pt x="3580" y="36"/>
                </a:lnTo>
                <a:lnTo>
                  <a:pt x="3580" y="37"/>
                </a:lnTo>
                <a:lnTo>
                  <a:pt x="3513" y="33"/>
                </a:lnTo>
                <a:close/>
                <a:moveTo>
                  <a:pt x="3636" y="494"/>
                </a:moveTo>
                <a:lnTo>
                  <a:pt x="3647" y="760"/>
                </a:lnTo>
                <a:lnTo>
                  <a:pt x="3581" y="763"/>
                </a:lnTo>
                <a:lnTo>
                  <a:pt x="3569" y="497"/>
                </a:lnTo>
                <a:lnTo>
                  <a:pt x="3636" y="494"/>
                </a:lnTo>
                <a:close/>
                <a:moveTo>
                  <a:pt x="3656" y="960"/>
                </a:moveTo>
                <a:lnTo>
                  <a:pt x="3667" y="1227"/>
                </a:lnTo>
                <a:lnTo>
                  <a:pt x="3600" y="1229"/>
                </a:lnTo>
                <a:lnTo>
                  <a:pt x="3589" y="963"/>
                </a:lnTo>
                <a:lnTo>
                  <a:pt x="3656" y="960"/>
                </a:lnTo>
                <a:close/>
                <a:moveTo>
                  <a:pt x="3675" y="1427"/>
                </a:moveTo>
                <a:lnTo>
                  <a:pt x="3684" y="1693"/>
                </a:lnTo>
                <a:lnTo>
                  <a:pt x="3618" y="1696"/>
                </a:lnTo>
                <a:lnTo>
                  <a:pt x="3608" y="1429"/>
                </a:lnTo>
                <a:lnTo>
                  <a:pt x="3675" y="1427"/>
                </a:lnTo>
                <a:close/>
                <a:moveTo>
                  <a:pt x="3691" y="1893"/>
                </a:moveTo>
                <a:lnTo>
                  <a:pt x="3701" y="2160"/>
                </a:lnTo>
                <a:lnTo>
                  <a:pt x="3634" y="2162"/>
                </a:lnTo>
                <a:lnTo>
                  <a:pt x="3625" y="1895"/>
                </a:lnTo>
                <a:lnTo>
                  <a:pt x="3691" y="1893"/>
                </a:lnTo>
                <a:close/>
                <a:moveTo>
                  <a:pt x="3708" y="2359"/>
                </a:moveTo>
                <a:lnTo>
                  <a:pt x="3717" y="2626"/>
                </a:lnTo>
                <a:lnTo>
                  <a:pt x="3651" y="2628"/>
                </a:lnTo>
                <a:lnTo>
                  <a:pt x="3641" y="2362"/>
                </a:lnTo>
                <a:lnTo>
                  <a:pt x="3708" y="2359"/>
                </a:lnTo>
                <a:close/>
                <a:moveTo>
                  <a:pt x="3724" y="2826"/>
                </a:moveTo>
                <a:lnTo>
                  <a:pt x="3733" y="3092"/>
                </a:lnTo>
                <a:lnTo>
                  <a:pt x="3666" y="3095"/>
                </a:lnTo>
                <a:lnTo>
                  <a:pt x="3658" y="2828"/>
                </a:lnTo>
                <a:lnTo>
                  <a:pt x="3724" y="2826"/>
                </a:lnTo>
                <a:close/>
                <a:moveTo>
                  <a:pt x="3740" y="3292"/>
                </a:moveTo>
                <a:lnTo>
                  <a:pt x="3748" y="3559"/>
                </a:lnTo>
                <a:lnTo>
                  <a:pt x="3682" y="3561"/>
                </a:lnTo>
                <a:lnTo>
                  <a:pt x="3673" y="3294"/>
                </a:lnTo>
                <a:lnTo>
                  <a:pt x="3740" y="3292"/>
                </a:lnTo>
                <a:close/>
                <a:moveTo>
                  <a:pt x="3755" y="3759"/>
                </a:moveTo>
                <a:lnTo>
                  <a:pt x="3764" y="4025"/>
                </a:lnTo>
                <a:lnTo>
                  <a:pt x="3697" y="4027"/>
                </a:lnTo>
                <a:lnTo>
                  <a:pt x="3688" y="3761"/>
                </a:lnTo>
                <a:lnTo>
                  <a:pt x="3755" y="3759"/>
                </a:lnTo>
                <a:close/>
                <a:moveTo>
                  <a:pt x="3770" y="4225"/>
                </a:moveTo>
                <a:lnTo>
                  <a:pt x="3772" y="4274"/>
                </a:lnTo>
                <a:lnTo>
                  <a:pt x="3779" y="4492"/>
                </a:lnTo>
                <a:lnTo>
                  <a:pt x="3712" y="4494"/>
                </a:lnTo>
                <a:lnTo>
                  <a:pt x="3705" y="4277"/>
                </a:lnTo>
                <a:lnTo>
                  <a:pt x="3704" y="4227"/>
                </a:lnTo>
                <a:lnTo>
                  <a:pt x="3770" y="4225"/>
                </a:lnTo>
                <a:close/>
                <a:moveTo>
                  <a:pt x="3785" y="4692"/>
                </a:moveTo>
                <a:lnTo>
                  <a:pt x="3793" y="4958"/>
                </a:lnTo>
                <a:lnTo>
                  <a:pt x="3727" y="4960"/>
                </a:lnTo>
                <a:lnTo>
                  <a:pt x="3718" y="4694"/>
                </a:lnTo>
                <a:lnTo>
                  <a:pt x="3785" y="4692"/>
                </a:lnTo>
                <a:close/>
                <a:moveTo>
                  <a:pt x="3799" y="5158"/>
                </a:moveTo>
                <a:lnTo>
                  <a:pt x="3808" y="5425"/>
                </a:lnTo>
                <a:lnTo>
                  <a:pt x="3741" y="5427"/>
                </a:lnTo>
                <a:lnTo>
                  <a:pt x="3733" y="5160"/>
                </a:lnTo>
                <a:lnTo>
                  <a:pt x="3799" y="5158"/>
                </a:lnTo>
                <a:close/>
                <a:moveTo>
                  <a:pt x="3814" y="5625"/>
                </a:moveTo>
                <a:lnTo>
                  <a:pt x="3821" y="5891"/>
                </a:lnTo>
                <a:lnTo>
                  <a:pt x="3755" y="5893"/>
                </a:lnTo>
                <a:lnTo>
                  <a:pt x="3747" y="5626"/>
                </a:lnTo>
                <a:lnTo>
                  <a:pt x="3814" y="5625"/>
                </a:lnTo>
                <a:close/>
                <a:moveTo>
                  <a:pt x="3827" y="6091"/>
                </a:moveTo>
                <a:lnTo>
                  <a:pt x="3834" y="6358"/>
                </a:lnTo>
                <a:lnTo>
                  <a:pt x="3767" y="6360"/>
                </a:lnTo>
                <a:lnTo>
                  <a:pt x="3760" y="6093"/>
                </a:lnTo>
                <a:lnTo>
                  <a:pt x="3827" y="6091"/>
                </a:lnTo>
                <a:close/>
                <a:moveTo>
                  <a:pt x="3843" y="6554"/>
                </a:moveTo>
                <a:lnTo>
                  <a:pt x="3874" y="6819"/>
                </a:lnTo>
                <a:lnTo>
                  <a:pt x="3808" y="6827"/>
                </a:lnTo>
                <a:lnTo>
                  <a:pt x="3777" y="6562"/>
                </a:lnTo>
                <a:lnTo>
                  <a:pt x="3843" y="6554"/>
                </a:lnTo>
                <a:close/>
                <a:moveTo>
                  <a:pt x="3866" y="6873"/>
                </a:moveTo>
                <a:lnTo>
                  <a:pt x="3901" y="6608"/>
                </a:lnTo>
                <a:lnTo>
                  <a:pt x="3967" y="6617"/>
                </a:lnTo>
                <a:lnTo>
                  <a:pt x="3932" y="6882"/>
                </a:lnTo>
                <a:lnTo>
                  <a:pt x="3866" y="6873"/>
                </a:lnTo>
                <a:close/>
                <a:moveTo>
                  <a:pt x="3925" y="6411"/>
                </a:moveTo>
                <a:lnTo>
                  <a:pt x="3955" y="6146"/>
                </a:lnTo>
                <a:lnTo>
                  <a:pt x="4022" y="6153"/>
                </a:lnTo>
                <a:lnTo>
                  <a:pt x="3992" y="6418"/>
                </a:lnTo>
                <a:lnTo>
                  <a:pt x="3925" y="6411"/>
                </a:lnTo>
                <a:close/>
                <a:moveTo>
                  <a:pt x="3969" y="5949"/>
                </a:moveTo>
                <a:lnTo>
                  <a:pt x="3980" y="5699"/>
                </a:lnTo>
                <a:cubicBezTo>
                  <a:pt x="3980" y="5696"/>
                  <a:pt x="3981" y="5694"/>
                  <a:pt x="3982" y="5691"/>
                </a:cubicBezTo>
                <a:lnTo>
                  <a:pt x="3986" y="5675"/>
                </a:lnTo>
                <a:lnTo>
                  <a:pt x="4050" y="5694"/>
                </a:lnTo>
                <a:lnTo>
                  <a:pt x="4045" y="5710"/>
                </a:lnTo>
                <a:lnTo>
                  <a:pt x="4047" y="5702"/>
                </a:lnTo>
                <a:lnTo>
                  <a:pt x="4036" y="5952"/>
                </a:lnTo>
                <a:lnTo>
                  <a:pt x="3969" y="5949"/>
                </a:lnTo>
                <a:close/>
                <a:moveTo>
                  <a:pt x="4115" y="5551"/>
                </a:moveTo>
                <a:lnTo>
                  <a:pt x="4141" y="5590"/>
                </a:lnTo>
                <a:cubicBezTo>
                  <a:pt x="4144" y="5594"/>
                  <a:pt x="4145" y="5598"/>
                  <a:pt x="4146" y="5603"/>
                </a:cubicBezTo>
                <a:lnTo>
                  <a:pt x="4185" y="5819"/>
                </a:lnTo>
                <a:lnTo>
                  <a:pt x="4119" y="5831"/>
                </a:lnTo>
                <a:lnTo>
                  <a:pt x="4081" y="5615"/>
                </a:lnTo>
                <a:lnTo>
                  <a:pt x="4086" y="5627"/>
                </a:lnTo>
                <a:lnTo>
                  <a:pt x="4060" y="5588"/>
                </a:lnTo>
                <a:lnTo>
                  <a:pt x="4115" y="5551"/>
                </a:lnTo>
                <a:close/>
                <a:moveTo>
                  <a:pt x="4218" y="6017"/>
                </a:moveTo>
                <a:lnTo>
                  <a:pt x="4238" y="6137"/>
                </a:lnTo>
                <a:lnTo>
                  <a:pt x="4270" y="6276"/>
                </a:lnTo>
                <a:lnTo>
                  <a:pt x="4205" y="6291"/>
                </a:lnTo>
                <a:lnTo>
                  <a:pt x="4172" y="6148"/>
                </a:lnTo>
                <a:lnTo>
                  <a:pt x="4152" y="6027"/>
                </a:lnTo>
                <a:lnTo>
                  <a:pt x="4218" y="6017"/>
                </a:lnTo>
                <a:close/>
                <a:moveTo>
                  <a:pt x="4258" y="6364"/>
                </a:moveTo>
                <a:lnTo>
                  <a:pt x="4290" y="6273"/>
                </a:lnTo>
                <a:lnTo>
                  <a:pt x="4289" y="6278"/>
                </a:lnTo>
                <a:lnTo>
                  <a:pt x="4317" y="6110"/>
                </a:lnTo>
                <a:lnTo>
                  <a:pt x="4383" y="6121"/>
                </a:lnTo>
                <a:lnTo>
                  <a:pt x="4355" y="6289"/>
                </a:lnTo>
                <a:cubicBezTo>
                  <a:pt x="4354" y="6291"/>
                  <a:pt x="4354" y="6293"/>
                  <a:pt x="4353" y="6295"/>
                </a:cubicBezTo>
                <a:lnTo>
                  <a:pt x="4321" y="6386"/>
                </a:lnTo>
                <a:lnTo>
                  <a:pt x="4258" y="6364"/>
                </a:lnTo>
                <a:close/>
                <a:moveTo>
                  <a:pt x="4345" y="5915"/>
                </a:moveTo>
                <a:lnTo>
                  <a:pt x="4373" y="5649"/>
                </a:lnTo>
                <a:lnTo>
                  <a:pt x="4439" y="5656"/>
                </a:lnTo>
                <a:lnTo>
                  <a:pt x="4412" y="5922"/>
                </a:lnTo>
                <a:lnTo>
                  <a:pt x="4345" y="5915"/>
                </a:lnTo>
                <a:close/>
                <a:moveTo>
                  <a:pt x="4398" y="5450"/>
                </a:moveTo>
                <a:lnTo>
                  <a:pt x="4430" y="5204"/>
                </a:lnTo>
                <a:lnTo>
                  <a:pt x="4432" y="5187"/>
                </a:lnTo>
                <a:lnTo>
                  <a:pt x="4498" y="5193"/>
                </a:lnTo>
                <a:lnTo>
                  <a:pt x="4497" y="5213"/>
                </a:lnTo>
                <a:lnTo>
                  <a:pt x="4464" y="5459"/>
                </a:lnTo>
                <a:lnTo>
                  <a:pt x="4398" y="5450"/>
                </a:lnTo>
                <a:close/>
                <a:moveTo>
                  <a:pt x="4450" y="4988"/>
                </a:moveTo>
                <a:lnTo>
                  <a:pt x="4455" y="4923"/>
                </a:lnTo>
                <a:cubicBezTo>
                  <a:pt x="4456" y="4920"/>
                  <a:pt x="4456" y="4917"/>
                  <a:pt x="4457" y="4914"/>
                </a:cubicBezTo>
                <a:lnTo>
                  <a:pt x="4499" y="4798"/>
                </a:lnTo>
                <a:cubicBezTo>
                  <a:pt x="4503" y="4787"/>
                  <a:pt x="4512" y="4779"/>
                  <a:pt x="4523" y="4776"/>
                </a:cubicBezTo>
                <a:cubicBezTo>
                  <a:pt x="4534" y="4774"/>
                  <a:pt x="4546" y="4777"/>
                  <a:pt x="4554" y="4785"/>
                </a:cubicBezTo>
                <a:lnTo>
                  <a:pt x="4604" y="4835"/>
                </a:lnTo>
                <a:cubicBezTo>
                  <a:pt x="4608" y="4839"/>
                  <a:pt x="4611" y="4844"/>
                  <a:pt x="4612" y="4850"/>
                </a:cubicBezTo>
                <a:lnTo>
                  <a:pt x="4614" y="4856"/>
                </a:lnTo>
                <a:lnTo>
                  <a:pt x="4550" y="4874"/>
                </a:lnTo>
                <a:lnTo>
                  <a:pt x="4548" y="4868"/>
                </a:lnTo>
                <a:lnTo>
                  <a:pt x="4557" y="4882"/>
                </a:lnTo>
                <a:lnTo>
                  <a:pt x="4507" y="4832"/>
                </a:lnTo>
                <a:lnTo>
                  <a:pt x="4562" y="4820"/>
                </a:lnTo>
                <a:lnTo>
                  <a:pt x="4520" y="4937"/>
                </a:lnTo>
                <a:lnTo>
                  <a:pt x="4522" y="4928"/>
                </a:lnTo>
                <a:lnTo>
                  <a:pt x="4516" y="4994"/>
                </a:lnTo>
                <a:lnTo>
                  <a:pt x="4450" y="4988"/>
                </a:lnTo>
                <a:close/>
                <a:moveTo>
                  <a:pt x="4666" y="5053"/>
                </a:moveTo>
                <a:lnTo>
                  <a:pt x="4705" y="5295"/>
                </a:lnTo>
                <a:lnTo>
                  <a:pt x="4707" y="5319"/>
                </a:lnTo>
                <a:lnTo>
                  <a:pt x="4641" y="5325"/>
                </a:lnTo>
                <a:lnTo>
                  <a:pt x="4639" y="5306"/>
                </a:lnTo>
                <a:lnTo>
                  <a:pt x="4600" y="5064"/>
                </a:lnTo>
                <a:lnTo>
                  <a:pt x="4666" y="5053"/>
                </a:lnTo>
                <a:close/>
                <a:moveTo>
                  <a:pt x="4726" y="5518"/>
                </a:moveTo>
                <a:lnTo>
                  <a:pt x="4730" y="5556"/>
                </a:lnTo>
                <a:lnTo>
                  <a:pt x="4777" y="5775"/>
                </a:lnTo>
                <a:lnTo>
                  <a:pt x="4712" y="5789"/>
                </a:lnTo>
                <a:lnTo>
                  <a:pt x="4664" y="5562"/>
                </a:lnTo>
                <a:lnTo>
                  <a:pt x="4660" y="5524"/>
                </a:lnTo>
                <a:lnTo>
                  <a:pt x="4726" y="5518"/>
                </a:lnTo>
                <a:close/>
                <a:moveTo>
                  <a:pt x="4842" y="5940"/>
                </a:moveTo>
                <a:lnTo>
                  <a:pt x="4862" y="5960"/>
                </a:lnTo>
                <a:lnTo>
                  <a:pt x="4838" y="5950"/>
                </a:lnTo>
                <a:lnTo>
                  <a:pt x="4888" y="5950"/>
                </a:lnTo>
                <a:lnTo>
                  <a:pt x="4863" y="5962"/>
                </a:lnTo>
                <a:lnTo>
                  <a:pt x="4905" y="5912"/>
                </a:lnTo>
                <a:lnTo>
                  <a:pt x="4899" y="5922"/>
                </a:lnTo>
                <a:lnTo>
                  <a:pt x="4924" y="5855"/>
                </a:lnTo>
                <a:cubicBezTo>
                  <a:pt x="4927" y="5848"/>
                  <a:pt x="4933" y="5841"/>
                  <a:pt x="4940" y="5837"/>
                </a:cubicBezTo>
                <a:lnTo>
                  <a:pt x="4987" y="5814"/>
                </a:lnTo>
                <a:lnTo>
                  <a:pt x="5017" y="5874"/>
                </a:lnTo>
                <a:lnTo>
                  <a:pt x="4970" y="5897"/>
                </a:lnTo>
                <a:lnTo>
                  <a:pt x="4986" y="5879"/>
                </a:lnTo>
                <a:lnTo>
                  <a:pt x="4961" y="5946"/>
                </a:lnTo>
                <a:cubicBezTo>
                  <a:pt x="4960" y="5949"/>
                  <a:pt x="4958" y="5952"/>
                  <a:pt x="4956" y="5955"/>
                </a:cubicBezTo>
                <a:lnTo>
                  <a:pt x="4914" y="6005"/>
                </a:lnTo>
                <a:cubicBezTo>
                  <a:pt x="4908" y="6013"/>
                  <a:pt x="4898" y="6017"/>
                  <a:pt x="4888" y="6017"/>
                </a:cubicBezTo>
                <a:lnTo>
                  <a:pt x="4838" y="6017"/>
                </a:lnTo>
                <a:cubicBezTo>
                  <a:pt x="4830" y="6017"/>
                  <a:pt x="4821" y="6014"/>
                  <a:pt x="4815" y="6007"/>
                </a:cubicBezTo>
                <a:lnTo>
                  <a:pt x="4795" y="5987"/>
                </a:lnTo>
                <a:lnTo>
                  <a:pt x="4842" y="5940"/>
                </a:lnTo>
                <a:close/>
                <a:moveTo>
                  <a:pt x="5189" y="5930"/>
                </a:moveTo>
                <a:lnTo>
                  <a:pt x="5195" y="5948"/>
                </a:lnTo>
                <a:lnTo>
                  <a:pt x="5187" y="5935"/>
                </a:lnTo>
                <a:lnTo>
                  <a:pt x="5237" y="5985"/>
                </a:lnTo>
                <a:lnTo>
                  <a:pt x="5213" y="5975"/>
                </a:lnTo>
                <a:lnTo>
                  <a:pt x="5263" y="5975"/>
                </a:lnTo>
                <a:lnTo>
                  <a:pt x="5305" y="5975"/>
                </a:lnTo>
                <a:lnTo>
                  <a:pt x="5290" y="5979"/>
                </a:lnTo>
                <a:lnTo>
                  <a:pt x="5340" y="5954"/>
                </a:lnTo>
                <a:lnTo>
                  <a:pt x="5332" y="5960"/>
                </a:lnTo>
                <a:lnTo>
                  <a:pt x="5352" y="5940"/>
                </a:lnTo>
                <a:lnTo>
                  <a:pt x="5399" y="5987"/>
                </a:lnTo>
                <a:lnTo>
                  <a:pt x="5379" y="6007"/>
                </a:lnTo>
                <a:cubicBezTo>
                  <a:pt x="5376" y="6010"/>
                  <a:pt x="5373" y="6012"/>
                  <a:pt x="5370" y="6014"/>
                </a:cubicBezTo>
                <a:lnTo>
                  <a:pt x="5320" y="6039"/>
                </a:lnTo>
                <a:cubicBezTo>
                  <a:pt x="5315" y="6041"/>
                  <a:pt x="5310" y="6042"/>
                  <a:pt x="5305" y="6042"/>
                </a:cubicBezTo>
                <a:lnTo>
                  <a:pt x="5263" y="6042"/>
                </a:lnTo>
                <a:lnTo>
                  <a:pt x="5213" y="6042"/>
                </a:lnTo>
                <a:cubicBezTo>
                  <a:pt x="5205" y="6042"/>
                  <a:pt x="5196" y="6039"/>
                  <a:pt x="5190" y="6032"/>
                </a:cubicBezTo>
                <a:lnTo>
                  <a:pt x="5140" y="5982"/>
                </a:lnTo>
                <a:cubicBezTo>
                  <a:pt x="5136" y="5979"/>
                  <a:pt x="5133" y="5974"/>
                  <a:pt x="5132" y="5969"/>
                </a:cubicBezTo>
                <a:lnTo>
                  <a:pt x="5126" y="5951"/>
                </a:lnTo>
                <a:lnTo>
                  <a:pt x="5189" y="5930"/>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5351400" y="4506840"/>
            <a:ext cx="774720" cy="569880"/>
          </a:xfrm>
          <a:custGeom>
            <a:avLst/>
            <a:gdLst/>
            <a:ahLst/>
            <a:rect l="l" t="t" r="r" b="b"/>
            <a:pathLst>
              <a:path w="3227" h="2369">
                <a:moveTo>
                  <a:pt x="0" y="1103"/>
                </a:moveTo>
                <a:lnTo>
                  <a:pt x="50" y="1087"/>
                </a:lnTo>
                <a:cubicBezTo>
                  <a:pt x="57" y="1084"/>
                  <a:pt x="64" y="1084"/>
                  <a:pt x="71" y="1087"/>
                </a:cubicBezTo>
                <a:lnTo>
                  <a:pt x="121" y="1103"/>
                </a:lnTo>
                <a:cubicBezTo>
                  <a:pt x="129" y="1106"/>
                  <a:pt x="136" y="1111"/>
                  <a:pt x="140" y="1119"/>
                </a:cubicBezTo>
                <a:lnTo>
                  <a:pt x="182" y="1194"/>
                </a:lnTo>
                <a:lnTo>
                  <a:pt x="213" y="1266"/>
                </a:lnTo>
                <a:lnTo>
                  <a:pt x="152" y="1292"/>
                </a:lnTo>
                <a:lnTo>
                  <a:pt x="123" y="1226"/>
                </a:lnTo>
                <a:lnTo>
                  <a:pt x="82" y="1151"/>
                </a:lnTo>
                <a:lnTo>
                  <a:pt x="100" y="1166"/>
                </a:lnTo>
                <a:lnTo>
                  <a:pt x="50" y="1150"/>
                </a:lnTo>
                <a:lnTo>
                  <a:pt x="71" y="1150"/>
                </a:lnTo>
                <a:lnTo>
                  <a:pt x="21" y="1166"/>
                </a:lnTo>
                <a:lnTo>
                  <a:pt x="0" y="1103"/>
                </a:lnTo>
                <a:close/>
                <a:moveTo>
                  <a:pt x="256" y="1469"/>
                </a:moveTo>
                <a:lnTo>
                  <a:pt x="260" y="1505"/>
                </a:lnTo>
                <a:lnTo>
                  <a:pt x="302" y="1720"/>
                </a:lnTo>
                <a:lnTo>
                  <a:pt x="304" y="1728"/>
                </a:lnTo>
                <a:lnTo>
                  <a:pt x="239" y="1744"/>
                </a:lnTo>
                <a:lnTo>
                  <a:pt x="236" y="1733"/>
                </a:lnTo>
                <a:lnTo>
                  <a:pt x="194" y="1514"/>
                </a:lnTo>
                <a:lnTo>
                  <a:pt x="190" y="1478"/>
                </a:lnTo>
                <a:lnTo>
                  <a:pt x="256" y="1469"/>
                </a:lnTo>
                <a:close/>
                <a:moveTo>
                  <a:pt x="350" y="1922"/>
                </a:moveTo>
                <a:lnTo>
                  <a:pt x="352" y="1927"/>
                </a:lnTo>
                <a:lnTo>
                  <a:pt x="401" y="2092"/>
                </a:lnTo>
                <a:lnTo>
                  <a:pt x="382" y="2071"/>
                </a:lnTo>
                <a:lnTo>
                  <a:pt x="423" y="2087"/>
                </a:lnTo>
                <a:lnTo>
                  <a:pt x="378" y="2111"/>
                </a:lnTo>
                <a:lnTo>
                  <a:pt x="387" y="2069"/>
                </a:lnTo>
                <a:lnTo>
                  <a:pt x="452" y="2083"/>
                </a:lnTo>
                <a:lnTo>
                  <a:pt x="443" y="2125"/>
                </a:lnTo>
                <a:cubicBezTo>
                  <a:pt x="441" y="2135"/>
                  <a:pt x="435" y="2143"/>
                  <a:pt x="426" y="2148"/>
                </a:cubicBezTo>
                <a:cubicBezTo>
                  <a:pt x="418" y="2152"/>
                  <a:pt x="408" y="2153"/>
                  <a:pt x="398" y="2149"/>
                </a:cubicBezTo>
                <a:lnTo>
                  <a:pt x="357" y="2132"/>
                </a:lnTo>
                <a:cubicBezTo>
                  <a:pt x="347" y="2129"/>
                  <a:pt x="340" y="2121"/>
                  <a:pt x="337" y="2111"/>
                </a:cubicBezTo>
                <a:lnTo>
                  <a:pt x="287" y="1943"/>
                </a:lnTo>
                <a:lnTo>
                  <a:pt x="286" y="1938"/>
                </a:lnTo>
                <a:lnTo>
                  <a:pt x="350" y="1922"/>
                </a:lnTo>
                <a:close/>
                <a:moveTo>
                  <a:pt x="425" y="1874"/>
                </a:moveTo>
                <a:lnTo>
                  <a:pt x="453" y="1721"/>
                </a:lnTo>
                <a:lnTo>
                  <a:pt x="463" y="1613"/>
                </a:lnTo>
                <a:lnTo>
                  <a:pt x="530" y="1619"/>
                </a:lnTo>
                <a:lnTo>
                  <a:pt x="519" y="1732"/>
                </a:lnTo>
                <a:lnTo>
                  <a:pt x="491" y="1886"/>
                </a:lnTo>
                <a:lnTo>
                  <a:pt x="425" y="1874"/>
                </a:lnTo>
                <a:close/>
                <a:moveTo>
                  <a:pt x="483" y="1414"/>
                </a:moveTo>
                <a:lnTo>
                  <a:pt x="494" y="1298"/>
                </a:lnTo>
                <a:lnTo>
                  <a:pt x="510" y="1148"/>
                </a:lnTo>
                <a:lnTo>
                  <a:pt x="577" y="1155"/>
                </a:lnTo>
                <a:lnTo>
                  <a:pt x="561" y="1305"/>
                </a:lnTo>
                <a:lnTo>
                  <a:pt x="549" y="1420"/>
                </a:lnTo>
                <a:lnTo>
                  <a:pt x="483" y="1414"/>
                </a:lnTo>
                <a:close/>
                <a:moveTo>
                  <a:pt x="532" y="949"/>
                </a:moveTo>
                <a:lnTo>
                  <a:pt x="544" y="831"/>
                </a:lnTo>
                <a:lnTo>
                  <a:pt x="561" y="684"/>
                </a:lnTo>
                <a:lnTo>
                  <a:pt x="627" y="692"/>
                </a:lnTo>
                <a:lnTo>
                  <a:pt x="611" y="838"/>
                </a:lnTo>
                <a:lnTo>
                  <a:pt x="598" y="956"/>
                </a:lnTo>
                <a:lnTo>
                  <a:pt x="532" y="949"/>
                </a:lnTo>
                <a:close/>
                <a:moveTo>
                  <a:pt x="583" y="485"/>
                </a:moveTo>
                <a:lnTo>
                  <a:pt x="594" y="381"/>
                </a:lnTo>
                <a:lnTo>
                  <a:pt x="604" y="221"/>
                </a:lnTo>
                <a:lnTo>
                  <a:pt x="671" y="225"/>
                </a:lnTo>
                <a:lnTo>
                  <a:pt x="661" y="388"/>
                </a:lnTo>
                <a:lnTo>
                  <a:pt x="649" y="493"/>
                </a:lnTo>
                <a:lnTo>
                  <a:pt x="583" y="485"/>
                </a:lnTo>
                <a:close/>
                <a:moveTo>
                  <a:pt x="664" y="20"/>
                </a:moveTo>
                <a:lnTo>
                  <a:pt x="666" y="16"/>
                </a:lnTo>
                <a:cubicBezTo>
                  <a:pt x="674" y="5"/>
                  <a:pt x="687" y="0"/>
                  <a:pt x="700" y="2"/>
                </a:cubicBezTo>
                <a:cubicBezTo>
                  <a:pt x="713" y="4"/>
                  <a:pt x="723" y="14"/>
                  <a:pt x="726" y="26"/>
                </a:cubicBezTo>
                <a:lnTo>
                  <a:pt x="776" y="218"/>
                </a:lnTo>
                <a:cubicBezTo>
                  <a:pt x="777" y="220"/>
                  <a:pt x="777" y="221"/>
                  <a:pt x="777" y="223"/>
                </a:cubicBezTo>
                <a:lnTo>
                  <a:pt x="784" y="287"/>
                </a:lnTo>
                <a:lnTo>
                  <a:pt x="718" y="294"/>
                </a:lnTo>
                <a:lnTo>
                  <a:pt x="711" y="230"/>
                </a:lnTo>
                <a:lnTo>
                  <a:pt x="712" y="235"/>
                </a:lnTo>
                <a:lnTo>
                  <a:pt x="662" y="43"/>
                </a:lnTo>
                <a:lnTo>
                  <a:pt x="722" y="53"/>
                </a:lnTo>
                <a:lnTo>
                  <a:pt x="720" y="57"/>
                </a:lnTo>
                <a:lnTo>
                  <a:pt x="664" y="20"/>
                </a:lnTo>
                <a:close/>
                <a:moveTo>
                  <a:pt x="806" y="486"/>
                </a:moveTo>
                <a:lnTo>
                  <a:pt x="819" y="598"/>
                </a:lnTo>
                <a:lnTo>
                  <a:pt x="834" y="752"/>
                </a:lnTo>
                <a:lnTo>
                  <a:pt x="767" y="758"/>
                </a:lnTo>
                <a:lnTo>
                  <a:pt x="753" y="605"/>
                </a:lnTo>
                <a:lnTo>
                  <a:pt x="740" y="493"/>
                </a:lnTo>
                <a:lnTo>
                  <a:pt x="806" y="486"/>
                </a:lnTo>
                <a:close/>
                <a:moveTo>
                  <a:pt x="853" y="951"/>
                </a:moveTo>
                <a:lnTo>
                  <a:pt x="869" y="1115"/>
                </a:lnTo>
                <a:lnTo>
                  <a:pt x="879" y="1216"/>
                </a:lnTo>
                <a:lnTo>
                  <a:pt x="813" y="1223"/>
                </a:lnTo>
                <a:lnTo>
                  <a:pt x="803" y="1121"/>
                </a:lnTo>
                <a:lnTo>
                  <a:pt x="787" y="957"/>
                </a:lnTo>
                <a:lnTo>
                  <a:pt x="853" y="951"/>
                </a:lnTo>
                <a:close/>
                <a:moveTo>
                  <a:pt x="899" y="1415"/>
                </a:moveTo>
                <a:lnTo>
                  <a:pt x="919" y="1623"/>
                </a:lnTo>
                <a:lnTo>
                  <a:pt x="921" y="1683"/>
                </a:lnTo>
                <a:lnTo>
                  <a:pt x="855" y="1685"/>
                </a:lnTo>
                <a:lnTo>
                  <a:pt x="853" y="1630"/>
                </a:lnTo>
                <a:lnTo>
                  <a:pt x="832" y="1422"/>
                </a:lnTo>
                <a:lnTo>
                  <a:pt x="899" y="1415"/>
                </a:lnTo>
                <a:close/>
                <a:moveTo>
                  <a:pt x="929" y="1883"/>
                </a:moveTo>
                <a:lnTo>
                  <a:pt x="936" y="2075"/>
                </a:lnTo>
                <a:lnTo>
                  <a:pt x="935" y="2069"/>
                </a:lnTo>
                <a:lnTo>
                  <a:pt x="951" y="2142"/>
                </a:lnTo>
                <a:lnTo>
                  <a:pt x="885" y="2156"/>
                </a:lnTo>
                <a:lnTo>
                  <a:pt x="870" y="2083"/>
                </a:lnTo>
                <a:cubicBezTo>
                  <a:pt x="869" y="2082"/>
                  <a:pt x="869" y="2080"/>
                  <a:pt x="869" y="2078"/>
                </a:cubicBezTo>
                <a:lnTo>
                  <a:pt x="862" y="1885"/>
                </a:lnTo>
                <a:lnTo>
                  <a:pt x="929" y="1883"/>
                </a:lnTo>
                <a:close/>
                <a:moveTo>
                  <a:pt x="999" y="2296"/>
                </a:moveTo>
                <a:lnTo>
                  <a:pt x="1017" y="2305"/>
                </a:lnTo>
                <a:lnTo>
                  <a:pt x="970" y="2328"/>
                </a:lnTo>
                <a:lnTo>
                  <a:pt x="1012" y="2136"/>
                </a:lnTo>
                <a:lnTo>
                  <a:pt x="1019" y="2088"/>
                </a:lnTo>
                <a:lnTo>
                  <a:pt x="1085" y="2099"/>
                </a:lnTo>
                <a:lnTo>
                  <a:pt x="1077" y="2150"/>
                </a:lnTo>
                <a:lnTo>
                  <a:pt x="1035" y="2342"/>
                </a:lnTo>
                <a:cubicBezTo>
                  <a:pt x="1033" y="2352"/>
                  <a:pt x="1026" y="2360"/>
                  <a:pt x="1017" y="2365"/>
                </a:cubicBezTo>
                <a:cubicBezTo>
                  <a:pt x="1008" y="2369"/>
                  <a:pt x="997" y="2369"/>
                  <a:pt x="988" y="2365"/>
                </a:cubicBezTo>
                <a:lnTo>
                  <a:pt x="969" y="2355"/>
                </a:lnTo>
                <a:lnTo>
                  <a:pt x="999" y="2296"/>
                </a:lnTo>
                <a:close/>
                <a:moveTo>
                  <a:pt x="1052" y="1891"/>
                </a:moveTo>
                <a:lnTo>
                  <a:pt x="1061" y="1838"/>
                </a:lnTo>
                <a:lnTo>
                  <a:pt x="1076" y="1629"/>
                </a:lnTo>
                <a:lnTo>
                  <a:pt x="1143" y="1634"/>
                </a:lnTo>
                <a:lnTo>
                  <a:pt x="1127" y="1849"/>
                </a:lnTo>
                <a:lnTo>
                  <a:pt x="1118" y="1902"/>
                </a:lnTo>
                <a:lnTo>
                  <a:pt x="1052" y="1891"/>
                </a:lnTo>
                <a:close/>
                <a:moveTo>
                  <a:pt x="1094" y="1428"/>
                </a:moveTo>
                <a:lnTo>
                  <a:pt x="1128" y="1180"/>
                </a:lnTo>
                <a:lnTo>
                  <a:pt x="1132" y="1160"/>
                </a:lnTo>
                <a:lnTo>
                  <a:pt x="1197" y="1176"/>
                </a:lnTo>
                <a:lnTo>
                  <a:pt x="1194" y="1189"/>
                </a:lnTo>
                <a:lnTo>
                  <a:pt x="1160" y="1437"/>
                </a:lnTo>
                <a:lnTo>
                  <a:pt x="1094" y="1428"/>
                </a:lnTo>
                <a:close/>
                <a:moveTo>
                  <a:pt x="1182" y="959"/>
                </a:moveTo>
                <a:lnTo>
                  <a:pt x="1231" y="862"/>
                </a:lnTo>
                <a:cubicBezTo>
                  <a:pt x="1236" y="851"/>
                  <a:pt x="1246" y="845"/>
                  <a:pt x="1257" y="843"/>
                </a:cubicBezTo>
                <a:cubicBezTo>
                  <a:pt x="1268" y="842"/>
                  <a:pt x="1279" y="846"/>
                  <a:pt x="1286" y="855"/>
                </a:cubicBezTo>
                <a:lnTo>
                  <a:pt x="1328" y="905"/>
                </a:lnTo>
                <a:cubicBezTo>
                  <a:pt x="1331" y="909"/>
                  <a:pt x="1333" y="913"/>
                  <a:pt x="1335" y="918"/>
                </a:cubicBezTo>
                <a:lnTo>
                  <a:pt x="1359" y="1007"/>
                </a:lnTo>
                <a:lnTo>
                  <a:pt x="1295" y="1025"/>
                </a:lnTo>
                <a:lnTo>
                  <a:pt x="1270" y="935"/>
                </a:lnTo>
                <a:lnTo>
                  <a:pt x="1277" y="948"/>
                </a:lnTo>
                <a:lnTo>
                  <a:pt x="1235" y="898"/>
                </a:lnTo>
                <a:lnTo>
                  <a:pt x="1291" y="891"/>
                </a:lnTo>
                <a:lnTo>
                  <a:pt x="1242" y="989"/>
                </a:lnTo>
                <a:lnTo>
                  <a:pt x="1182" y="959"/>
                </a:lnTo>
                <a:close/>
                <a:moveTo>
                  <a:pt x="1425" y="1193"/>
                </a:moveTo>
                <a:lnTo>
                  <a:pt x="1451" y="1265"/>
                </a:lnTo>
                <a:lnTo>
                  <a:pt x="1447" y="1258"/>
                </a:lnTo>
                <a:lnTo>
                  <a:pt x="1497" y="1333"/>
                </a:lnTo>
                <a:lnTo>
                  <a:pt x="1480" y="1320"/>
                </a:lnTo>
                <a:lnTo>
                  <a:pt x="1530" y="1337"/>
                </a:lnTo>
                <a:lnTo>
                  <a:pt x="1507" y="1337"/>
                </a:lnTo>
                <a:lnTo>
                  <a:pt x="1548" y="1321"/>
                </a:lnTo>
                <a:lnTo>
                  <a:pt x="1537" y="1328"/>
                </a:lnTo>
                <a:lnTo>
                  <a:pt x="1539" y="1326"/>
                </a:lnTo>
                <a:lnTo>
                  <a:pt x="1586" y="1373"/>
                </a:lnTo>
                <a:lnTo>
                  <a:pt x="1584" y="1375"/>
                </a:lnTo>
                <a:cubicBezTo>
                  <a:pt x="1581" y="1378"/>
                  <a:pt x="1577" y="1381"/>
                  <a:pt x="1573" y="1382"/>
                </a:cubicBezTo>
                <a:lnTo>
                  <a:pt x="1532" y="1399"/>
                </a:lnTo>
                <a:cubicBezTo>
                  <a:pt x="1524" y="1402"/>
                  <a:pt x="1516" y="1402"/>
                  <a:pt x="1509" y="1400"/>
                </a:cubicBezTo>
                <a:lnTo>
                  <a:pt x="1459" y="1383"/>
                </a:lnTo>
                <a:cubicBezTo>
                  <a:pt x="1452" y="1381"/>
                  <a:pt x="1446" y="1376"/>
                  <a:pt x="1441" y="1370"/>
                </a:cubicBezTo>
                <a:lnTo>
                  <a:pt x="1391" y="1295"/>
                </a:lnTo>
                <a:cubicBezTo>
                  <a:pt x="1390" y="1293"/>
                  <a:pt x="1389" y="1290"/>
                  <a:pt x="1388" y="1288"/>
                </a:cubicBezTo>
                <a:lnTo>
                  <a:pt x="1362" y="1216"/>
                </a:lnTo>
                <a:lnTo>
                  <a:pt x="1425" y="1193"/>
                </a:lnTo>
                <a:close/>
                <a:moveTo>
                  <a:pt x="1725" y="1218"/>
                </a:moveTo>
                <a:lnTo>
                  <a:pt x="1727" y="1218"/>
                </a:lnTo>
                <a:lnTo>
                  <a:pt x="1777" y="1218"/>
                </a:lnTo>
                <a:cubicBezTo>
                  <a:pt x="1789" y="1218"/>
                  <a:pt x="1799" y="1224"/>
                  <a:pt x="1805" y="1233"/>
                </a:cubicBezTo>
                <a:lnTo>
                  <a:pt x="1822" y="1258"/>
                </a:lnTo>
                <a:lnTo>
                  <a:pt x="1794" y="1243"/>
                </a:lnTo>
                <a:lnTo>
                  <a:pt x="1844" y="1243"/>
                </a:lnTo>
                <a:lnTo>
                  <a:pt x="1894" y="1243"/>
                </a:lnTo>
                <a:lnTo>
                  <a:pt x="1877" y="1248"/>
                </a:lnTo>
                <a:lnTo>
                  <a:pt x="1919" y="1223"/>
                </a:lnTo>
                <a:cubicBezTo>
                  <a:pt x="1924" y="1220"/>
                  <a:pt x="1930" y="1218"/>
                  <a:pt x="1936" y="1218"/>
                </a:cubicBezTo>
                <a:lnTo>
                  <a:pt x="1972" y="1218"/>
                </a:lnTo>
                <a:lnTo>
                  <a:pt x="1972" y="1285"/>
                </a:lnTo>
                <a:lnTo>
                  <a:pt x="1936" y="1285"/>
                </a:lnTo>
                <a:lnTo>
                  <a:pt x="1953" y="1280"/>
                </a:lnTo>
                <a:lnTo>
                  <a:pt x="1911" y="1305"/>
                </a:lnTo>
                <a:cubicBezTo>
                  <a:pt x="1906" y="1308"/>
                  <a:pt x="1900" y="1310"/>
                  <a:pt x="1894" y="1310"/>
                </a:cubicBezTo>
                <a:lnTo>
                  <a:pt x="1844" y="1310"/>
                </a:lnTo>
                <a:lnTo>
                  <a:pt x="1794" y="1310"/>
                </a:lnTo>
                <a:cubicBezTo>
                  <a:pt x="1783" y="1310"/>
                  <a:pt x="1773" y="1304"/>
                  <a:pt x="1766" y="1295"/>
                </a:cubicBezTo>
                <a:lnTo>
                  <a:pt x="1750" y="1270"/>
                </a:lnTo>
                <a:lnTo>
                  <a:pt x="1777" y="1285"/>
                </a:lnTo>
                <a:lnTo>
                  <a:pt x="1727" y="1285"/>
                </a:lnTo>
                <a:lnTo>
                  <a:pt x="1725" y="1285"/>
                </a:lnTo>
                <a:lnTo>
                  <a:pt x="1725" y="1218"/>
                </a:lnTo>
                <a:close/>
                <a:moveTo>
                  <a:pt x="2154" y="1151"/>
                </a:moveTo>
                <a:lnTo>
                  <a:pt x="2194" y="1151"/>
                </a:lnTo>
                <a:lnTo>
                  <a:pt x="2179" y="1155"/>
                </a:lnTo>
                <a:lnTo>
                  <a:pt x="2229" y="1130"/>
                </a:lnTo>
                <a:cubicBezTo>
                  <a:pt x="2242" y="1124"/>
                  <a:pt x="2258" y="1126"/>
                  <a:pt x="2268" y="1136"/>
                </a:cubicBezTo>
                <a:lnTo>
                  <a:pt x="2293" y="1161"/>
                </a:lnTo>
                <a:lnTo>
                  <a:pt x="2269" y="1151"/>
                </a:lnTo>
                <a:lnTo>
                  <a:pt x="2311" y="1151"/>
                </a:lnTo>
                <a:cubicBezTo>
                  <a:pt x="2316" y="1151"/>
                  <a:pt x="2321" y="1153"/>
                  <a:pt x="2326" y="1155"/>
                </a:cubicBezTo>
                <a:lnTo>
                  <a:pt x="2376" y="1180"/>
                </a:lnTo>
                <a:lnTo>
                  <a:pt x="2409" y="1197"/>
                </a:lnTo>
                <a:lnTo>
                  <a:pt x="2379" y="1256"/>
                </a:lnTo>
                <a:lnTo>
                  <a:pt x="2346" y="1240"/>
                </a:lnTo>
                <a:lnTo>
                  <a:pt x="2296" y="1215"/>
                </a:lnTo>
                <a:lnTo>
                  <a:pt x="2311" y="1218"/>
                </a:lnTo>
                <a:lnTo>
                  <a:pt x="2269" y="1218"/>
                </a:lnTo>
                <a:cubicBezTo>
                  <a:pt x="2260" y="1218"/>
                  <a:pt x="2252" y="1215"/>
                  <a:pt x="2246" y="1208"/>
                </a:cubicBezTo>
                <a:lnTo>
                  <a:pt x="2221" y="1183"/>
                </a:lnTo>
                <a:lnTo>
                  <a:pt x="2259" y="1190"/>
                </a:lnTo>
                <a:lnTo>
                  <a:pt x="2209" y="1215"/>
                </a:lnTo>
                <a:cubicBezTo>
                  <a:pt x="2204" y="1217"/>
                  <a:pt x="2199" y="1218"/>
                  <a:pt x="2194" y="1218"/>
                </a:cubicBezTo>
                <a:lnTo>
                  <a:pt x="2154" y="1218"/>
                </a:lnTo>
                <a:lnTo>
                  <a:pt x="2154" y="1151"/>
                </a:lnTo>
                <a:close/>
                <a:moveTo>
                  <a:pt x="2583" y="1243"/>
                </a:moveTo>
                <a:lnTo>
                  <a:pt x="2619" y="1243"/>
                </a:lnTo>
                <a:lnTo>
                  <a:pt x="2669" y="1243"/>
                </a:lnTo>
                <a:lnTo>
                  <a:pt x="2686" y="1243"/>
                </a:lnTo>
                <a:lnTo>
                  <a:pt x="2736" y="1243"/>
                </a:lnTo>
                <a:lnTo>
                  <a:pt x="2786" y="1243"/>
                </a:lnTo>
                <a:lnTo>
                  <a:pt x="2827" y="1243"/>
                </a:lnTo>
                <a:lnTo>
                  <a:pt x="2850" y="1243"/>
                </a:lnTo>
                <a:lnTo>
                  <a:pt x="2850" y="1310"/>
                </a:lnTo>
                <a:lnTo>
                  <a:pt x="2827" y="1310"/>
                </a:lnTo>
                <a:lnTo>
                  <a:pt x="2786" y="1310"/>
                </a:lnTo>
                <a:lnTo>
                  <a:pt x="2736" y="1310"/>
                </a:lnTo>
                <a:lnTo>
                  <a:pt x="2686" y="1310"/>
                </a:lnTo>
                <a:lnTo>
                  <a:pt x="2669" y="1310"/>
                </a:lnTo>
                <a:lnTo>
                  <a:pt x="2619" y="1310"/>
                </a:lnTo>
                <a:lnTo>
                  <a:pt x="2583" y="1310"/>
                </a:lnTo>
                <a:lnTo>
                  <a:pt x="2583" y="1243"/>
                </a:lnTo>
                <a:close/>
                <a:moveTo>
                  <a:pt x="3050" y="1243"/>
                </a:moveTo>
                <a:lnTo>
                  <a:pt x="3086" y="1243"/>
                </a:lnTo>
                <a:lnTo>
                  <a:pt x="3136" y="1243"/>
                </a:lnTo>
                <a:lnTo>
                  <a:pt x="3161" y="1243"/>
                </a:lnTo>
                <a:lnTo>
                  <a:pt x="3202" y="1243"/>
                </a:lnTo>
                <a:lnTo>
                  <a:pt x="3227" y="1243"/>
                </a:lnTo>
                <a:lnTo>
                  <a:pt x="3227" y="1310"/>
                </a:lnTo>
                <a:lnTo>
                  <a:pt x="3202" y="1310"/>
                </a:lnTo>
                <a:lnTo>
                  <a:pt x="3161" y="1310"/>
                </a:lnTo>
                <a:lnTo>
                  <a:pt x="3136" y="1310"/>
                </a:lnTo>
                <a:lnTo>
                  <a:pt x="3086" y="1310"/>
                </a:lnTo>
                <a:lnTo>
                  <a:pt x="3050" y="1310"/>
                </a:lnTo>
                <a:lnTo>
                  <a:pt x="3050" y="1243"/>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4131360" y="58341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a:t>
            </a:r>
            <a:endParaRPr b="0" lang="en-US" sz="1300" spc="-1" strike="noStrike">
              <a:solidFill>
                <a:srgbClr val="000000"/>
              </a:solidFill>
              <a:latin typeface="Times New Roman"/>
            </a:endParaRPr>
          </a:p>
        </p:txBody>
      </p:sp>
      <p:sp>
        <p:nvSpPr>
          <p:cNvPr id="2224" name=""/>
          <p:cNvSpPr/>
          <p:nvPr/>
        </p:nvSpPr>
        <p:spPr>
          <a:xfrm>
            <a:off x="4522680" y="58165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225" name=""/>
          <p:cNvSpPr/>
          <p:nvPr/>
        </p:nvSpPr>
        <p:spPr>
          <a:xfrm>
            <a:off x="4610160" y="5834160"/>
            <a:ext cx="256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a:t>
            </a:r>
            <a:endParaRPr b="0" lang="en-US" sz="1300" spc="-1" strike="noStrike">
              <a:solidFill>
                <a:srgbClr val="000000"/>
              </a:solidFill>
              <a:latin typeface="Times New Roman"/>
            </a:endParaRPr>
          </a:p>
        </p:txBody>
      </p:sp>
      <p:sp>
        <p:nvSpPr>
          <p:cNvPr id="2226"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203480" y="1033560"/>
            <a:ext cx="7178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exact" separation of variables s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ulse-echo response of a spherical inclusion by synthesizing a time-domain response from frequencies ranging from 0-20 MHz approximately for a 1 mm radius inclusion (50 % differences in properties)</a:t>
            </a:r>
            <a:endParaRPr b="0" lang="en-US" sz="2400" spc="-1" strike="noStrike">
              <a:solidFill>
                <a:srgbClr val="000000"/>
              </a:solidFill>
              <a:latin typeface="Times New Roman"/>
            </a:endParaRPr>
          </a:p>
        </p:txBody>
      </p:sp>
      <p:sp>
        <p:nvSpPr>
          <p:cNvPr id="2229" name=""/>
          <p:cNvSpPr/>
          <p:nvPr/>
        </p:nvSpPr>
        <p:spPr>
          <a:xfrm>
            <a:off x="1077840" y="6019920"/>
            <a:ext cx="6953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P-wave response of a 1 mm radius spherical inclusion in steel where the densit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mpressional wave speed are both fifty percent higher than the host steel.Solid line: Born approxim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hed line: separation of variables solution.</a:t>
            </a:r>
            <a:endParaRPr b="0" lang="en-US" sz="1200" spc="-1" strike="noStrike">
              <a:solidFill>
                <a:srgbClr val="000000"/>
              </a:solidFill>
              <a:latin typeface="Times New Roman"/>
            </a:endParaRPr>
          </a:p>
        </p:txBody>
      </p:sp>
      <p:sp>
        <p:nvSpPr>
          <p:cNvPr id="2230" name=""/>
          <p:cNvSpPr/>
          <p:nvPr/>
        </p:nvSpPr>
        <p:spPr>
          <a:xfrm>
            <a:off x="2286000" y="3505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502920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973440" y="3319560"/>
            <a:ext cx="109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litu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s</a:t>
            </a:r>
            <a:endParaRPr b="0" lang="en-US" sz="1800" spc="-1" strike="noStrike">
              <a:solidFill>
                <a:srgbClr val="000000"/>
              </a:solidFill>
              <a:latin typeface="Times New Roman"/>
            </a:endParaRPr>
          </a:p>
        </p:txBody>
      </p:sp>
      <p:sp>
        <p:nvSpPr>
          <p:cNvPr id="2233" name=""/>
          <p:cNvSpPr/>
          <p:nvPr/>
        </p:nvSpPr>
        <p:spPr>
          <a:xfrm flipH="1">
            <a:off x="5105160" y="3809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6610680" y="3624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of arrival errors</a:t>
            </a:r>
            <a:endParaRPr b="0" lang="en-US" sz="1800" spc="-1" strike="noStrike">
              <a:solidFill>
                <a:srgbClr val="000000"/>
              </a:solidFill>
              <a:latin typeface="Times New Roman"/>
            </a:endParaRPr>
          </a:p>
        </p:txBody>
      </p:sp>
      <p:sp>
        <p:nvSpPr>
          <p:cNvPr id="2235" name=""/>
          <p:cNvSpPr/>
          <p:nvPr/>
        </p:nvSpPr>
        <p:spPr>
          <a:xfrm>
            <a:off x="2952720" y="3092400"/>
            <a:ext cx="3146400" cy="232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2952720" y="3092400"/>
            <a:ext cx="3146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7" name=""/>
          <p:cNvSpPr/>
          <p:nvPr/>
        </p:nvSpPr>
        <p:spPr>
          <a:xfrm>
            <a:off x="2952720" y="5416560"/>
            <a:ext cx="3146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flipV="1">
            <a:off x="6099120" y="3092400"/>
            <a:ext cx="180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V="1">
            <a:off x="2952720" y="3092400"/>
            <a:ext cx="144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2952720" y="5416560"/>
            <a:ext cx="3146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1" name=""/>
          <p:cNvSpPr/>
          <p:nvPr/>
        </p:nvSpPr>
        <p:spPr>
          <a:xfrm flipV="1">
            <a:off x="2952720" y="3092400"/>
            <a:ext cx="144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V="1">
            <a:off x="2952720" y="538632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3" name=""/>
          <p:cNvSpPr/>
          <p:nvPr/>
        </p:nvSpPr>
        <p:spPr>
          <a:xfrm>
            <a:off x="2952720" y="3092400"/>
            <a:ext cx="14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4" name=""/>
          <p:cNvSpPr/>
          <p:nvPr/>
        </p:nvSpPr>
        <p:spPr>
          <a:xfrm>
            <a:off x="2895480" y="5483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45" name=""/>
          <p:cNvSpPr/>
          <p:nvPr/>
        </p:nvSpPr>
        <p:spPr>
          <a:xfrm>
            <a:off x="294552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46" name=""/>
          <p:cNvSpPr/>
          <p:nvPr/>
        </p:nvSpPr>
        <p:spPr>
          <a:xfrm flipV="1">
            <a:off x="3735360" y="538632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7" name=""/>
          <p:cNvSpPr/>
          <p:nvPr/>
        </p:nvSpPr>
        <p:spPr>
          <a:xfrm>
            <a:off x="3735360" y="3092400"/>
            <a:ext cx="32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8" name=""/>
          <p:cNvSpPr/>
          <p:nvPr/>
        </p:nvSpPr>
        <p:spPr>
          <a:xfrm>
            <a:off x="3637080" y="5483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49" name=""/>
          <p:cNvSpPr/>
          <p:nvPr/>
        </p:nvSpPr>
        <p:spPr>
          <a:xfrm>
            <a:off x="3686400" y="5483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250" name=""/>
          <p:cNvSpPr/>
          <p:nvPr/>
        </p:nvSpPr>
        <p:spPr>
          <a:xfrm flipV="1">
            <a:off x="4522680" y="538632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1" name=""/>
          <p:cNvSpPr/>
          <p:nvPr/>
        </p:nvSpPr>
        <p:spPr>
          <a:xfrm>
            <a:off x="4522680" y="3092400"/>
            <a:ext cx="32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2" name=""/>
          <p:cNvSpPr/>
          <p:nvPr/>
        </p:nvSpPr>
        <p:spPr>
          <a:xfrm>
            <a:off x="449640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253" name=""/>
          <p:cNvSpPr/>
          <p:nvPr/>
        </p:nvSpPr>
        <p:spPr>
          <a:xfrm flipV="1">
            <a:off x="5310360" y="538632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4" name=""/>
          <p:cNvSpPr/>
          <p:nvPr/>
        </p:nvSpPr>
        <p:spPr>
          <a:xfrm>
            <a:off x="5310360" y="3092400"/>
            <a:ext cx="14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5" name=""/>
          <p:cNvSpPr/>
          <p:nvPr/>
        </p:nvSpPr>
        <p:spPr>
          <a:xfrm>
            <a:off x="5241960" y="5483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256" name=""/>
          <p:cNvSpPr/>
          <p:nvPr/>
        </p:nvSpPr>
        <p:spPr>
          <a:xfrm flipV="1">
            <a:off x="6099120" y="538632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7" name=""/>
          <p:cNvSpPr/>
          <p:nvPr/>
        </p:nvSpPr>
        <p:spPr>
          <a:xfrm>
            <a:off x="6099120" y="3092400"/>
            <a:ext cx="180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8" name=""/>
          <p:cNvSpPr/>
          <p:nvPr/>
        </p:nvSpPr>
        <p:spPr>
          <a:xfrm>
            <a:off x="607464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59" name=""/>
          <p:cNvSpPr/>
          <p:nvPr/>
        </p:nvSpPr>
        <p:spPr>
          <a:xfrm>
            <a:off x="2952720" y="5416560"/>
            <a:ext cx="27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0" name=""/>
          <p:cNvSpPr/>
          <p:nvPr/>
        </p:nvSpPr>
        <p:spPr>
          <a:xfrm flipH="1">
            <a:off x="6066000" y="54165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1" name=""/>
          <p:cNvSpPr/>
          <p:nvPr/>
        </p:nvSpPr>
        <p:spPr>
          <a:xfrm>
            <a:off x="2770200" y="53830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62" name=""/>
          <p:cNvSpPr/>
          <p:nvPr/>
        </p:nvSpPr>
        <p:spPr>
          <a:xfrm>
            <a:off x="2818440" y="5383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63" name=""/>
          <p:cNvSpPr/>
          <p:nvPr/>
        </p:nvSpPr>
        <p:spPr>
          <a:xfrm>
            <a:off x="2952720" y="502596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
          <p:cNvSpPr/>
          <p:nvPr/>
        </p:nvSpPr>
        <p:spPr>
          <a:xfrm flipH="1">
            <a:off x="6066000" y="50259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5" name=""/>
          <p:cNvSpPr/>
          <p:nvPr/>
        </p:nvSpPr>
        <p:spPr>
          <a:xfrm>
            <a:off x="2770200" y="4992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66" name=""/>
          <p:cNvSpPr/>
          <p:nvPr/>
        </p:nvSpPr>
        <p:spPr>
          <a:xfrm>
            <a:off x="2818440" y="4992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67" name=""/>
          <p:cNvSpPr/>
          <p:nvPr/>
        </p:nvSpPr>
        <p:spPr>
          <a:xfrm>
            <a:off x="2952720" y="463860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8" name=""/>
          <p:cNvSpPr/>
          <p:nvPr/>
        </p:nvSpPr>
        <p:spPr>
          <a:xfrm flipH="1">
            <a:off x="6066000" y="4638600"/>
            <a:ext cx="331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9" name=""/>
          <p:cNvSpPr/>
          <p:nvPr/>
        </p:nvSpPr>
        <p:spPr>
          <a:xfrm>
            <a:off x="2797920" y="460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270" name=""/>
          <p:cNvSpPr/>
          <p:nvPr/>
        </p:nvSpPr>
        <p:spPr>
          <a:xfrm>
            <a:off x="2952720" y="4254480"/>
            <a:ext cx="27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flipH="1">
            <a:off x="6066000" y="425448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2" name=""/>
          <p:cNvSpPr/>
          <p:nvPr/>
        </p:nvSpPr>
        <p:spPr>
          <a:xfrm>
            <a:off x="2797920" y="4224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73" name=""/>
          <p:cNvSpPr/>
          <p:nvPr/>
        </p:nvSpPr>
        <p:spPr>
          <a:xfrm>
            <a:off x="2952720" y="386388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4" name=""/>
          <p:cNvSpPr/>
          <p:nvPr/>
        </p:nvSpPr>
        <p:spPr>
          <a:xfrm flipH="1">
            <a:off x="6066000" y="386388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5" name=""/>
          <p:cNvSpPr/>
          <p:nvPr/>
        </p:nvSpPr>
        <p:spPr>
          <a:xfrm>
            <a:off x="2797920" y="3833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76" name=""/>
          <p:cNvSpPr/>
          <p:nvPr/>
        </p:nvSpPr>
        <p:spPr>
          <a:xfrm>
            <a:off x="2952720" y="347976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7" name=""/>
          <p:cNvSpPr/>
          <p:nvPr/>
        </p:nvSpPr>
        <p:spPr>
          <a:xfrm flipH="1">
            <a:off x="6066000" y="34797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2797920" y="344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79" name=""/>
          <p:cNvSpPr/>
          <p:nvPr/>
        </p:nvSpPr>
        <p:spPr>
          <a:xfrm>
            <a:off x="2952720" y="309240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0" name=""/>
          <p:cNvSpPr/>
          <p:nvPr/>
        </p:nvSpPr>
        <p:spPr>
          <a:xfrm flipH="1">
            <a:off x="6066000" y="30924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1" name=""/>
          <p:cNvSpPr/>
          <p:nvPr/>
        </p:nvSpPr>
        <p:spPr>
          <a:xfrm>
            <a:off x="2797920" y="3062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2282" name=""/>
          <p:cNvSpPr/>
          <p:nvPr/>
        </p:nvSpPr>
        <p:spPr>
          <a:xfrm flipV="1">
            <a:off x="6099120" y="3092400"/>
            <a:ext cx="180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952720" y="3260880"/>
            <a:ext cx="1212840" cy="1788840"/>
          </a:xfrm>
          <a:custGeom>
            <a:avLst/>
            <a:gdLst/>
            <a:ahLst/>
            <a:rect l="l" t="t" r="r" b="b"/>
            <a:pathLst>
              <a:path w="764" h="1127">
                <a:moveTo>
                  <a:pt x="0" y="868"/>
                </a:moveTo>
                <a:lnTo>
                  <a:pt x="3" y="868"/>
                </a:lnTo>
                <a:lnTo>
                  <a:pt x="7" y="868"/>
                </a:lnTo>
                <a:lnTo>
                  <a:pt x="14" y="868"/>
                </a:lnTo>
                <a:lnTo>
                  <a:pt x="19" y="868"/>
                </a:lnTo>
                <a:lnTo>
                  <a:pt x="26" y="868"/>
                </a:lnTo>
                <a:lnTo>
                  <a:pt x="33" y="868"/>
                </a:lnTo>
                <a:lnTo>
                  <a:pt x="36" y="868"/>
                </a:lnTo>
                <a:lnTo>
                  <a:pt x="43" y="868"/>
                </a:lnTo>
                <a:lnTo>
                  <a:pt x="50" y="868"/>
                </a:lnTo>
                <a:lnTo>
                  <a:pt x="57" y="868"/>
                </a:lnTo>
                <a:lnTo>
                  <a:pt x="64" y="868"/>
                </a:lnTo>
                <a:lnTo>
                  <a:pt x="69" y="868"/>
                </a:lnTo>
                <a:lnTo>
                  <a:pt x="74" y="868"/>
                </a:lnTo>
                <a:lnTo>
                  <a:pt x="81" y="868"/>
                </a:lnTo>
                <a:lnTo>
                  <a:pt x="86" y="868"/>
                </a:lnTo>
                <a:lnTo>
                  <a:pt x="93" y="868"/>
                </a:lnTo>
                <a:lnTo>
                  <a:pt x="100" y="868"/>
                </a:lnTo>
                <a:lnTo>
                  <a:pt x="103" y="868"/>
                </a:lnTo>
                <a:lnTo>
                  <a:pt x="110" y="868"/>
                </a:lnTo>
                <a:lnTo>
                  <a:pt x="117" y="868"/>
                </a:lnTo>
                <a:lnTo>
                  <a:pt x="124" y="868"/>
                </a:lnTo>
                <a:lnTo>
                  <a:pt x="130" y="868"/>
                </a:lnTo>
                <a:lnTo>
                  <a:pt x="133" y="868"/>
                </a:lnTo>
                <a:lnTo>
                  <a:pt x="140" y="868"/>
                </a:lnTo>
                <a:lnTo>
                  <a:pt x="147" y="868"/>
                </a:lnTo>
                <a:lnTo>
                  <a:pt x="153" y="868"/>
                </a:lnTo>
                <a:lnTo>
                  <a:pt x="160" y="868"/>
                </a:lnTo>
                <a:lnTo>
                  <a:pt x="167" y="868"/>
                </a:lnTo>
                <a:lnTo>
                  <a:pt x="169" y="868"/>
                </a:lnTo>
                <a:lnTo>
                  <a:pt x="176" y="868"/>
                </a:lnTo>
                <a:lnTo>
                  <a:pt x="183" y="868"/>
                </a:lnTo>
                <a:lnTo>
                  <a:pt x="190" y="868"/>
                </a:lnTo>
                <a:lnTo>
                  <a:pt x="197" y="868"/>
                </a:lnTo>
                <a:lnTo>
                  <a:pt x="200" y="868"/>
                </a:lnTo>
                <a:lnTo>
                  <a:pt x="207" y="868"/>
                </a:lnTo>
                <a:lnTo>
                  <a:pt x="214" y="868"/>
                </a:lnTo>
                <a:lnTo>
                  <a:pt x="219" y="868"/>
                </a:lnTo>
                <a:lnTo>
                  <a:pt x="226" y="868"/>
                </a:lnTo>
                <a:lnTo>
                  <a:pt x="230" y="868"/>
                </a:lnTo>
                <a:lnTo>
                  <a:pt x="236" y="868"/>
                </a:lnTo>
                <a:lnTo>
                  <a:pt x="243" y="868"/>
                </a:lnTo>
                <a:lnTo>
                  <a:pt x="250" y="868"/>
                </a:lnTo>
                <a:lnTo>
                  <a:pt x="257" y="868"/>
                </a:lnTo>
                <a:lnTo>
                  <a:pt x="264" y="868"/>
                </a:lnTo>
                <a:lnTo>
                  <a:pt x="267" y="868"/>
                </a:lnTo>
                <a:lnTo>
                  <a:pt x="274" y="868"/>
                </a:lnTo>
                <a:lnTo>
                  <a:pt x="281" y="868"/>
                </a:lnTo>
                <a:lnTo>
                  <a:pt x="286" y="868"/>
                </a:lnTo>
                <a:lnTo>
                  <a:pt x="293" y="868"/>
                </a:lnTo>
                <a:lnTo>
                  <a:pt x="297" y="868"/>
                </a:lnTo>
                <a:lnTo>
                  <a:pt x="303" y="868"/>
                </a:lnTo>
                <a:lnTo>
                  <a:pt x="310" y="868"/>
                </a:lnTo>
                <a:lnTo>
                  <a:pt x="317" y="868"/>
                </a:lnTo>
                <a:lnTo>
                  <a:pt x="324" y="868"/>
                </a:lnTo>
                <a:lnTo>
                  <a:pt x="326" y="868"/>
                </a:lnTo>
                <a:lnTo>
                  <a:pt x="333" y="868"/>
                </a:lnTo>
                <a:lnTo>
                  <a:pt x="340" y="868"/>
                </a:lnTo>
                <a:lnTo>
                  <a:pt x="347" y="868"/>
                </a:lnTo>
                <a:lnTo>
                  <a:pt x="353" y="868"/>
                </a:lnTo>
                <a:lnTo>
                  <a:pt x="360" y="868"/>
                </a:lnTo>
                <a:lnTo>
                  <a:pt x="364" y="868"/>
                </a:lnTo>
                <a:lnTo>
                  <a:pt x="369" y="868"/>
                </a:lnTo>
                <a:lnTo>
                  <a:pt x="376" y="866"/>
                </a:lnTo>
                <a:lnTo>
                  <a:pt x="383" y="866"/>
                </a:lnTo>
                <a:lnTo>
                  <a:pt x="390" y="868"/>
                </a:lnTo>
                <a:lnTo>
                  <a:pt x="393" y="868"/>
                </a:lnTo>
                <a:lnTo>
                  <a:pt x="400" y="868"/>
                </a:lnTo>
                <a:lnTo>
                  <a:pt x="407" y="868"/>
                </a:lnTo>
                <a:lnTo>
                  <a:pt x="414" y="868"/>
                </a:lnTo>
                <a:lnTo>
                  <a:pt x="419" y="868"/>
                </a:lnTo>
                <a:lnTo>
                  <a:pt x="424" y="868"/>
                </a:lnTo>
                <a:lnTo>
                  <a:pt x="431" y="868"/>
                </a:lnTo>
                <a:lnTo>
                  <a:pt x="436" y="868"/>
                </a:lnTo>
                <a:lnTo>
                  <a:pt x="443" y="868"/>
                </a:lnTo>
                <a:lnTo>
                  <a:pt x="450" y="868"/>
                </a:lnTo>
                <a:lnTo>
                  <a:pt x="457" y="868"/>
                </a:lnTo>
                <a:lnTo>
                  <a:pt x="460" y="868"/>
                </a:lnTo>
                <a:lnTo>
                  <a:pt x="467" y="866"/>
                </a:lnTo>
                <a:lnTo>
                  <a:pt x="474" y="866"/>
                </a:lnTo>
                <a:lnTo>
                  <a:pt x="481" y="863"/>
                </a:lnTo>
                <a:lnTo>
                  <a:pt x="486" y="866"/>
                </a:lnTo>
                <a:lnTo>
                  <a:pt x="490" y="866"/>
                </a:lnTo>
                <a:lnTo>
                  <a:pt x="497" y="868"/>
                </a:lnTo>
                <a:lnTo>
                  <a:pt x="503" y="868"/>
                </a:lnTo>
                <a:lnTo>
                  <a:pt x="510" y="868"/>
                </a:lnTo>
                <a:lnTo>
                  <a:pt x="517" y="866"/>
                </a:lnTo>
                <a:lnTo>
                  <a:pt x="519" y="866"/>
                </a:lnTo>
                <a:lnTo>
                  <a:pt x="526" y="866"/>
                </a:lnTo>
                <a:lnTo>
                  <a:pt x="533" y="868"/>
                </a:lnTo>
                <a:lnTo>
                  <a:pt x="540" y="875"/>
                </a:lnTo>
                <a:lnTo>
                  <a:pt x="547" y="881"/>
                </a:lnTo>
                <a:lnTo>
                  <a:pt x="553" y="884"/>
                </a:lnTo>
                <a:lnTo>
                  <a:pt x="557" y="879"/>
                </a:lnTo>
                <a:lnTo>
                  <a:pt x="564" y="863"/>
                </a:lnTo>
                <a:lnTo>
                  <a:pt x="569" y="841"/>
                </a:lnTo>
                <a:lnTo>
                  <a:pt x="576" y="819"/>
                </a:lnTo>
                <a:lnTo>
                  <a:pt x="583" y="810"/>
                </a:lnTo>
                <a:lnTo>
                  <a:pt x="586" y="819"/>
                </a:lnTo>
                <a:lnTo>
                  <a:pt x="593" y="853"/>
                </a:lnTo>
                <a:lnTo>
                  <a:pt x="600" y="910"/>
                </a:lnTo>
                <a:lnTo>
                  <a:pt x="607" y="968"/>
                </a:lnTo>
                <a:lnTo>
                  <a:pt x="614" y="1015"/>
                </a:lnTo>
                <a:lnTo>
                  <a:pt x="617" y="1015"/>
                </a:lnTo>
                <a:lnTo>
                  <a:pt x="624" y="953"/>
                </a:lnTo>
                <a:lnTo>
                  <a:pt x="631" y="826"/>
                </a:lnTo>
                <a:lnTo>
                  <a:pt x="636" y="635"/>
                </a:lnTo>
                <a:lnTo>
                  <a:pt x="643" y="418"/>
                </a:lnTo>
                <a:lnTo>
                  <a:pt x="650" y="212"/>
                </a:lnTo>
                <a:lnTo>
                  <a:pt x="653" y="63"/>
                </a:lnTo>
                <a:lnTo>
                  <a:pt x="660" y="0"/>
                </a:lnTo>
                <a:lnTo>
                  <a:pt x="667" y="44"/>
                </a:lnTo>
                <a:lnTo>
                  <a:pt x="674" y="184"/>
                </a:lnTo>
                <a:lnTo>
                  <a:pt x="681" y="393"/>
                </a:lnTo>
                <a:lnTo>
                  <a:pt x="683" y="626"/>
                </a:lnTo>
                <a:lnTo>
                  <a:pt x="690" y="844"/>
                </a:lnTo>
                <a:lnTo>
                  <a:pt x="697" y="1008"/>
                </a:lnTo>
                <a:lnTo>
                  <a:pt x="703" y="1105"/>
                </a:lnTo>
                <a:lnTo>
                  <a:pt x="710" y="1127"/>
                </a:lnTo>
                <a:lnTo>
                  <a:pt x="717" y="1096"/>
                </a:lnTo>
                <a:lnTo>
                  <a:pt x="720" y="1037"/>
                </a:lnTo>
                <a:lnTo>
                  <a:pt x="726" y="972"/>
                </a:lnTo>
                <a:lnTo>
                  <a:pt x="733" y="925"/>
                </a:lnTo>
                <a:lnTo>
                  <a:pt x="740" y="903"/>
                </a:lnTo>
                <a:lnTo>
                  <a:pt x="747" y="906"/>
                </a:lnTo>
                <a:lnTo>
                  <a:pt x="750" y="925"/>
                </a:lnTo>
                <a:lnTo>
                  <a:pt x="757" y="946"/>
                </a:lnTo>
                <a:lnTo>
                  <a:pt x="764" y="968"/>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165560" y="3260880"/>
            <a:ext cx="1212840" cy="1788840"/>
          </a:xfrm>
          <a:custGeom>
            <a:avLst/>
            <a:gdLst/>
            <a:ahLst/>
            <a:rect l="l" t="t" r="r" b="b"/>
            <a:pathLst>
              <a:path w="764" h="1127">
                <a:moveTo>
                  <a:pt x="0" y="968"/>
                </a:moveTo>
                <a:lnTo>
                  <a:pt x="6" y="977"/>
                </a:lnTo>
                <a:lnTo>
                  <a:pt x="12" y="981"/>
                </a:lnTo>
                <a:lnTo>
                  <a:pt x="17" y="975"/>
                </a:lnTo>
                <a:lnTo>
                  <a:pt x="22" y="968"/>
                </a:lnTo>
                <a:lnTo>
                  <a:pt x="29" y="962"/>
                </a:lnTo>
                <a:lnTo>
                  <a:pt x="36" y="959"/>
                </a:lnTo>
                <a:lnTo>
                  <a:pt x="43" y="959"/>
                </a:lnTo>
                <a:lnTo>
                  <a:pt x="50" y="962"/>
                </a:lnTo>
                <a:lnTo>
                  <a:pt x="53" y="962"/>
                </a:lnTo>
                <a:lnTo>
                  <a:pt x="60" y="962"/>
                </a:lnTo>
                <a:lnTo>
                  <a:pt x="66" y="959"/>
                </a:lnTo>
                <a:lnTo>
                  <a:pt x="72" y="959"/>
                </a:lnTo>
                <a:lnTo>
                  <a:pt x="79" y="956"/>
                </a:lnTo>
                <a:lnTo>
                  <a:pt x="83" y="956"/>
                </a:lnTo>
                <a:lnTo>
                  <a:pt x="89" y="959"/>
                </a:lnTo>
                <a:lnTo>
                  <a:pt x="96" y="959"/>
                </a:lnTo>
                <a:lnTo>
                  <a:pt x="103" y="962"/>
                </a:lnTo>
                <a:lnTo>
                  <a:pt x="109" y="962"/>
                </a:lnTo>
                <a:lnTo>
                  <a:pt x="112" y="962"/>
                </a:lnTo>
                <a:lnTo>
                  <a:pt x="119" y="962"/>
                </a:lnTo>
                <a:lnTo>
                  <a:pt x="126" y="959"/>
                </a:lnTo>
                <a:lnTo>
                  <a:pt x="133" y="959"/>
                </a:lnTo>
                <a:lnTo>
                  <a:pt x="139" y="959"/>
                </a:lnTo>
                <a:lnTo>
                  <a:pt x="145" y="959"/>
                </a:lnTo>
                <a:lnTo>
                  <a:pt x="150" y="959"/>
                </a:lnTo>
                <a:lnTo>
                  <a:pt x="155" y="959"/>
                </a:lnTo>
                <a:lnTo>
                  <a:pt x="162" y="959"/>
                </a:lnTo>
                <a:lnTo>
                  <a:pt x="169" y="959"/>
                </a:lnTo>
                <a:lnTo>
                  <a:pt x="176" y="959"/>
                </a:lnTo>
                <a:lnTo>
                  <a:pt x="179" y="959"/>
                </a:lnTo>
                <a:lnTo>
                  <a:pt x="186" y="959"/>
                </a:lnTo>
                <a:lnTo>
                  <a:pt x="193" y="959"/>
                </a:lnTo>
                <a:lnTo>
                  <a:pt x="198" y="959"/>
                </a:lnTo>
                <a:lnTo>
                  <a:pt x="205" y="959"/>
                </a:lnTo>
                <a:lnTo>
                  <a:pt x="209" y="959"/>
                </a:lnTo>
                <a:lnTo>
                  <a:pt x="215" y="959"/>
                </a:lnTo>
                <a:lnTo>
                  <a:pt x="222" y="959"/>
                </a:lnTo>
                <a:lnTo>
                  <a:pt x="229" y="959"/>
                </a:lnTo>
                <a:lnTo>
                  <a:pt x="236" y="959"/>
                </a:lnTo>
                <a:lnTo>
                  <a:pt x="243" y="959"/>
                </a:lnTo>
                <a:lnTo>
                  <a:pt x="245" y="959"/>
                </a:lnTo>
                <a:lnTo>
                  <a:pt x="252" y="959"/>
                </a:lnTo>
                <a:lnTo>
                  <a:pt x="259" y="959"/>
                </a:lnTo>
                <a:lnTo>
                  <a:pt x="265" y="959"/>
                </a:lnTo>
                <a:lnTo>
                  <a:pt x="272" y="959"/>
                </a:lnTo>
                <a:lnTo>
                  <a:pt x="276" y="959"/>
                </a:lnTo>
                <a:lnTo>
                  <a:pt x="281" y="959"/>
                </a:lnTo>
                <a:lnTo>
                  <a:pt x="288" y="959"/>
                </a:lnTo>
                <a:lnTo>
                  <a:pt x="295" y="959"/>
                </a:lnTo>
                <a:lnTo>
                  <a:pt x="302" y="959"/>
                </a:lnTo>
                <a:lnTo>
                  <a:pt x="305" y="959"/>
                </a:lnTo>
                <a:lnTo>
                  <a:pt x="312" y="959"/>
                </a:lnTo>
                <a:lnTo>
                  <a:pt x="319" y="959"/>
                </a:lnTo>
                <a:lnTo>
                  <a:pt x="326" y="959"/>
                </a:lnTo>
                <a:lnTo>
                  <a:pt x="331" y="959"/>
                </a:lnTo>
                <a:lnTo>
                  <a:pt x="338" y="962"/>
                </a:lnTo>
                <a:lnTo>
                  <a:pt x="343" y="962"/>
                </a:lnTo>
                <a:lnTo>
                  <a:pt x="348" y="962"/>
                </a:lnTo>
                <a:lnTo>
                  <a:pt x="355" y="962"/>
                </a:lnTo>
                <a:lnTo>
                  <a:pt x="362" y="959"/>
                </a:lnTo>
                <a:lnTo>
                  <a:pt x="369" y="959"/>
                </a:lnTo>
                <a:lnTo>
                  <a:pt x="372" y="956"/>
                </a:lnTo>
                <a:lnTo>
                  <a:pt x="379" y="956"/>
                </a:lnTo>
                <a:lnTo>
                  <a:pt x="385" y="959"/>
                </a:lnTo>
                <a:lnTo>
                  <a:pt x="392" y="959"/>
                </a:lnTo>
                <a:lnTo>
                  <a:pt x="398" y="962"/>
                </a:lnTo>
                <a:lnTo>
                  <a:pt x="402" y="962"/>
                </a:lnTo>
                <a:lnTo>
                  <a:pt x="409" y="962"/>
                </a:lnTo>
                <a:lnTo>
                  <a:pt x="415" y="959"/>
                </a:lnTo>
                <a:lnTo>
                  <a:pt x="422" y="959"/>
                </a:lnTo>
                <a:lnTo>
                  <a:pt x="428" y="962"/>
                </a:lnTo>
                <a:lnTo>
                  <a:pt x="435" y="968"/>
                </a:lnTo>
                <a:lnTo>
                  <a:pt x="438" y="975"/>
                </a:lnTo>
                <a:lnTo>
                  <a:pt x="445" y="981"/>
                </a:lnTo>
                <a:lnTo>
                  <a:pt x="452" y="977"/>
                </a:lnTo>
                <a:lnTo>
                  <a:pt x="459" y="968"/>
                </a:lnTo>
                <a:lnTo>
                  <a:pt x="465" y="946"/>
                </a:lnTo>
                <a:lnTo>
                  <a:pt x="469" y="925"/>
                </a:lnTo>
                <a:lnTo>
                  <a:pt x="476" y="906"/>
                </a:lnTo>
                <a:lnTo>
                  <a:pt x="481" y="903"/>
                </a:lnTo>
                <a:lnTo>
                  <a:pt x="488" y="925"/>
                </a:lnTo>
                <a:lnTo>
                  <a:pt x="495" y="972"/>
                </a:lnTo>
                <a:lnTo>
                  <a:pt x="498" y="1037"/>
                </a:lnTo>
                <a:lnTo>
                  <a:pt x="505" y="1096"/>
                </a:lnTo>
                <a:lnTo>
                  <a:pt x="512" y="1127"/>
                </a:lnTo>
                <a:lnTo>
                  <a:pt x="519" y="1105"/>
                </a:lnTo>
                <a:lnTo>
                  <a:pt x="525" y="1008"/>
                </a:lnTo>
                <a:lnTo>
                  <a:pt x="531" y="844"/>
                </a:lnTo>
                <a:lnTo>
                  <a:pt x="535" y="626"/>
                </a:lnTo>
                <a:lnTo>
                  <a:pt x="542" y="393"/>
                </a:lnTo>
                <a:lnTo>
                  <a:pt x="548" y="184"/>
                </a:lnTo>
                <a:lnTo>
                  <a:pt x="555" y="45"/>
                </a:lnTo>
                <a:lnTo>
                  <a:pt x="561" y="0"/>
                </a:lnTo>
                <a:lnTo>
                  <a:pt x="564" y="63"/>
                </a:lnTo>
                <a:lnTo>
                  <a:pt x="571" y="212"/>
                </a:lnTo>
                <a:lnTo>
                  <a:pt x="578" y="418"/>
                </a:lnTo>
                <a:lnTo>
                  <a:pt x="585" y="635"/>
                </a:lnTo>
                <a:lnTo>
                  <a:pt x="592" y="826"/>
                </a:lnTo>
                <a:lnTo>
                  <a:pt x="598" y="953"/>
                </a:lnTo>
                <a:lnTo>
                  <a:pt x="602" y="1015"/>
                </a:lnTo>
                <a:lnTo>
                  <a:pt x="609" y="1015"/>
                </a:lnTo>
                <a:lnTo>
                  <a:pt x="614" y="968"/>
                </a:lnTo>
                <a:lnTo>
                  <a:pt x="621" y="910"/>
                </a:lnTo>
                <a:lnTo>
                  <a:pt x="628" y="853"/>
                </a:lnTo>
                <a:lnTo>
                  <a:pt x="631" y="819"/>
                </a:lnTo>
                <a:lnTo>
                  <a:pt x="638" y="810"/>
                </a:lnTo>
                <a:lnTo>
                  <a:pt x="645" y="819"/>
                </a:lnTo>
                <a:lnTo>
                  <a:pt x="652" y="841"/>
                </a:lnTo>
                <a:lnTo>
                  <a:pt x="659" y="863"/>
                </a:lnTo>
                <a:lnTo>
                  <a:pt x="661" y="879"/>
                </a:lnTo>
                <a:lnTo>
                  <a:pt x="668" y="884"/>
                </a:lnTo>
                <a:lnTo>
                  <a:pt x="675" y="881"/>
                </a:lnTo>
                <a:lnTo>
                  <a:pt x="681" y="875"/>
                </a:lnTo>
                <a:lnTo>
                  <a:pt x="688" y="868"/>
                </a:lnTo>
                <a:lnTo>
                  <a:pt x="695" y="866"/>
                </a:lnTo>
                <a:lnTo>
                  <a:pt x="697" y="866"/>
                </a:lnTo>
                <a:lnTo>
                  <a:pt x="704" y="866"/>
                </a:lnTo>
                <a:lnTo>
                  <a:pt x="711" y="868"/>
                </a:lnTo>
                <a:lnTo>
                  <a:pt x="718" y="868"/>
                </a:lnTo>
                <a:lnTo>
                  <a:pt x="725" y="868"/>
                </a:lnTo>
                <a:lnTo>
                  <a:pt x="728" y="866"/>
                </a:lnTo>
                <a:lnTo>
                  <a:pt x="735" y="866"/>
                </a:lnTo>
                <a:lnTo>
                  <a:pt x="742" y="863"/>
                </a:lnTo>
                <a:lnTo>
                  <a:pt x="747" y="866"/>
                </a:lnTo>
                <a:lnTo>
                  <a:pt x="754" y="866"/>
                </a:lnTo>
                <a:lnTo>
                  <a:pt x="759" y="868"/>
                </a:lnTo>
                <a:lnTo>
                  <a:pt x="764" y="868"/>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378400" y="4635360"/>
            <a:ext cx="725400" cy="3240"/>
          </a:xfrm>
          <a:custGeom>
            <a:avLst/>
            <a:gdLst/>
            <a:ahLst/>
            <a:rect l="l" t="t" r="r" b="b"/>
            <a:pathLst>
              <a:path w="457" h="2">
                <a:moveTo>
                  <a:pt x="0" y="2"/>
                </a:moveTo>
                <a:lnTo>
                  <a:pt x="7" y="2"/>
                </a:lnTo>
                <a:lnTo>
                  <a:pt x="14" y="2"/>
                </a:lnTo>
                <a:lnTo>
                  <a:pt x="21" y="2"/>
                </a:lnTo>
                <a:lnTo>
                  <a:pt x="28" y="2"/>
                </a:lnTo>
                <a:lnTo>
                  <a:pt x="31" y="2"/>
                </a:lnTo>
                <a:lnTo>
                  <a:pt x="38" y="2"/>
                </a:lnTo>
                <a:lnTo>
                  <a:pt x="44" y="2"/>
                </a:lnTo>
                <a:lnTo>
                  <a:pt x="50" y="2"/>
                </a:lnTo>
                <a:lnTo>
                  <a:pt x="57" y="2"/>
                </a:lnTo>
                <a:lnTo>
                  <a:pt x="61" y="2"/>
                </a:lnTo>
                <a:lnTo>
                  <a:pt x="67" y="2"/>
                </a:lnTo>
                <a:lnTo>
                  <a:pt x="74" y="0"/>
                </a:lnTo>
                <a:lnTo>
                  <a:pt x="81" y="0"/>
                </a:lnTo>
                <a:lnTo>
                  <a:pt x="87" y="2"/>
                </a:lnTo>
                <a:lnTo>
                  <a:pt x="90" y="2"/>
                </a:lnTo>
                <a:lnTo>
                  <a:pt x="97" y="2"/>
                </a:lnTo>
                <a:lnTo>
                  <a:pt x="104" y="2"/>
                </a:lnTo>
                <a:lnTo>
                  <a:pt x="111" y="2"/>
                </a:lnTo>
                <a:lnTo>
                  <a:pt x="117" y="2"/>
                </a:lnTo>
                <a:lnTo>
                  <a:pt x="124" y="2"/>
                </a:lnTo>
                <a:lnTo>
                  <a:pt x="128" y="2"/>
                </a:lnTo>
                <a:lnTo>
                  <a:pt x="133" y="2"/>
                </a:lnTo>
                <a:lnTo>
                  <a:pt x="140" y="2"/>
                </a:lnTo>
                <a:lnTo>
                  <a:pt x="147" y="2"/>
                </a:lnTo>
                <a:lnTo>
                  <a:pt x="154" y="2"/>
                </a:lnTo>
                <a:lnTo>
                  <a:pt x="157" y="2"/>
                </a:lnTo>
                <a:lnTo>
                  <a:pt x="164" y="2"/>
                </a:lnTo>
                <a:lnTo>
                  <a:pt x="171" y="2"/>
                </a:lnTo>
                <a:lnTo>
                  <a:pt x="178" y="2"/>
                </a:lnTo>
                <a:lnTo>
                  <a:pt x="183" y="2"/>
                </a:lnTo>
                <a:lnTo>
                  <a:pt x="187" y="2"/>
                </a:lnTo>
                <a:lnTo>
                  <a:pt x="194" y="2"/>
                </a:lnTo>
                <a:lnTo>
                  <a:pt x="200" y="2"/>
                </a:lnTo>
                <a:lnTo>
                  <a:pt x="207" y="2"/>
                </a:lnTo>
                <a:lnTo>
                  <a:pt x="214" y="2"/>
                </a:lnTo>
                <a:lnTo>
                  <a:pt x="221" y="2"/>
                </a:lnTo>
                <a:lnTo>
                  <a:pt x="224" y="2"/>
                </a:lnTo>
                <a:lnTo>
                  <a:pt x="230" y="2"/>
                </a:lnTo>
                <a:lnTo>
                  <a:pt x="237" y="2"/>
                </a:lnTo>
                <a:lnTo>
                  <a:pt x="244" y="2"/>
                </a:lnTo>
                <a:lnTo>
                  <a:pt x="250" y="2"/>
                </a:lnTo>
                <a:lnTo>
                  <a:pt x="254" y="2"/>
                </a:lnTo>
                <a:lnTo>
                  <a:pt x="261" y="2"/>
                </a:lnTo>
                <a:lnTo>
                  <a:pt x="267" y="2"/>
                </a:lnTo>
                <a:lnTo>
                  <a:pt x="274" y="2"/>
                </a:lnTo>
                <a:lnTo>
                  <a:pt x="280" y="2"/>
                </a:lnTo>
                <a:lnTo>
                  <a:pt x="283" y="2"/>
                </a:lnTo>
                <a:lnTo>
                  <a:pt x="290" y="2"/>
                </a:lnTo>
                <a:lnTo>
                  <a:pt x="297" y="2"/>
                </a:lnTo>
                <a:lnTo>
                  <a:pt x="304" y="2"/>
                </a:lnTo>
                <a:lnTo>
                  <a:pt x="311" y="2"/>
                </a:lnTo>
                <a:lnTo>
                  <a:pt x="317" y="2"/>
                </a:lnTo>
                <a:lnTo>
                  <a:pt x="321" y="2"/>
                </a:lnTo>
                <a:lnTo>
                  <a:pt x="328" y="2"/>
                </a:lnTo>
                <a:lnTo>
                  <a:pt x="333" y="2"/>
                </a:lnTo>
                <a:lnTo>
                  <a:pt x="340" y="2"/>
                </a:lnTo>
                <a:lnTo>
                  <a:pt x="347" y="2"/>
                </a:lnTo>
                <a:lnTo>
                  <a:pt x="350" y="2"/>
                </a:lnTo>
                <a:lnTo>
                  <a:pt x="357" y="2"/>
                </a:lnTo>
                <a:lnTo>
                  <a:pt x="364" y="2"/>
                </a:lnTo>
                <a:lnTo>
                  <a:pt x="371" y="2"/>
                </a:lnTo>
                <a:lnTo>
                  <a:pt x="378" y="2"/>
                </a:lnTo>
                <a:lnTo>
                  <a:pt x="380" y="2"/>
                </a:lnTo>
                <a:lnTo>
                  <a:pt x="387" y="2"/>
                </a:lnTo>
                <a:lnTo>
                  <a:pt x="394" y="2"/>
                </a:lnTo>
                <a:lnTo>
                  <a:pt x="400" y="2"/>
                </a:lnTo>
                <a:lnTo>
                  <a:pt x="407" y="2"/>
                </a:lnTo>
                <a:lnTo>
                  <a:pt x="414" y="2"/>
                </a:lnTo>
                <a:lnTo>
                  <a:pt x="416" y="2"/>
                </a:lnTo>
                <a:lnTo>
                  <a:pt x="423" y="2"/>
                </a:lnTo>
                <a:lnTo>
                  <a:pt x="430" y="2"/>
                </a:lnTo>
                <a:lnTo>
                  <a:pt x="437" y="2"/>
                </a:lnTo>
                <a:lnTo>
                  <a:pt x="444" y="2"/>
                </a:lnTo>
                <a:lnTo>
                  <a:pt x="447" y="2"/>
                </a:lnTo>
                <a:lnTo>
                  <a:pt x="454" y="2"/>
                </a:lnTo>
                <a:lnTo>
                  <a:pt x="457" y="2"/>
                </a:lnTo>
              </a:path>
            </a:pathLst>
          </a:custGeom>
          <a:noFill/>
          <a:ln w="14400">
            <a:solidFill>
              <a:srgbClr val="3333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6" name=""/>
          <p:cNvSpPr/>
          <p:nvPr/>
        </p:nvSpPr>
        <p:spPr>
          <a:xfrm>
            <a:off x="2952720" y="3579840"/>
            <a:ext cx="1219320" cy="1368360"/>
          </a:xfrm>
          <a:custGeom>
            <a:avLst/>
            <a:gdLst/>
            <a:ahLst/>
            <a:rect l="l" t="t" r="r" b="b"/>
            <a:pathLst>
              <a:path w="10794" h="12028">
                <a:moveTo>
                  <a:pt x="0" y="9237"/>
                </a:moveTo>
                <a:lnTo>
                  <a:pt x="39" y="9237"/>
                </a:lnTo>
                <a:lnTo>
                  <a:pt x="97" y="9237"/>
                </a:lnTo>
                <a:lnTo>
                  <a:pt x="195" y="9237"/>
                </a:lnTo>
                <a:lnTo>
                  <a:pt x="273" y="9237"/>
                </a:lnTo>
                <a:lnTo>
                  <a:pt x="371" y="9237"/>
                </a:lnTo>
                <a:lnTo>
                  <a:pt x="468" y="9237"/>
                </a:lnTo>
                <a:lnTo>
                  <a:pt x="507" y="9237"/>
                </a:lnTo>
                <a:lnTo>
                  <a:pt x="533" y="9237"/>
                </a:lnTo>
                <a:lnTo>
                  <a:pt x="533" y="9370"/>
                </a:lnTo>
                <a:lnTo>
                  <a:pt x="507" y="9370"/>
                </a:lnTo>
                <a:lnTo>
                  <a:pt x="468" y="9370"/>
                </a:lnTo>
                <a:lnTo>
                  <a:pt x="371" y="9370"/>
                </a:lnTo>
                <a:lnTo>
                  <a:pt x="273" y="9370"/>
                </a:lnTo>
                <a:lnTo>
                  <a:pt x="195" y="9370"/>
                </a:lnTo>
                <a:lnTo>
                  <a:pt x="97" y="9370"/>
                </a:lnTo>
                <a:lnTo>
                  <a:pt x="39" y="9370"/>
                </a:lnTo>
                <a:lnTo>
                  <a:pt x="0" y="9370"/>
                </a:lnTo>
                <a:lnTo>
                  <a:pt x="0" y="9237"/>
                </a:lnTo>
                <a:close/>
                <a:moveTo>
                  <a:pt x="933" y="9237"/>
                </a:moveTo>
                <a:lnTo>
                  <a:pt x="976" y="9237"/>
                </a:lnTo>
                <a:lnTo>
                  <a:pt x="1034" y="9237"/>
                </a:lnTo>
                <a:lnTo>
                  <a:pt x="1132" y="9237"/>
                </a:lnTo>
                <a:lnTo>
                  <a:pt x="1210" y="9237"/>
                </a:lnTo>
                <a:lnTo>
                  <a:pt x="1307" y="9237"/>
                </a:lnTo>
                <a:lnTo>
                  <a:pt x="1405" y="9237"/>
                </a:lnTo>
                <a:lnTo>
                  <a:pt x="1444" y="9237"/>
                </a:lnTo>
                <a:lnTo>
                  <a:pt x="1466" y="9237"/>
                </a:lnTo>
                <a:lnTo>
                  <a:pt x="1466" y="9370"/>
                </a:lnTo>
                <a:lnTo>
                  <a:pt x="1444" y="9370"/>
                </a:lnTo>
                <a:lnTo>
                  <a:pt x="1405" y="9370"/>
                </a:lnTo>
                <a:lnTo>
                  <a:pt x="1307" y="9370"/>
                </a:lnTo>
                <a:lnTo>
                  <a:pt x="1210" y="9370"/>
                </a:lnTo>
                <a:lnTo>
                  <a:pt x="1132" y="9370"/>
                </a:lnTo>
                <a:lnTo>
                  <a:pt x="1034" y="9370"/>
                </a:lnTo>
                <a:lnTo>
                  <a:pt x="976" y="9370"/>
                </a:lnTo>
                <a:lnTo>
                  <a:pt x="933" y="9370"/>
                </a:lnTo>
                <a:lnTo>
                  <a:pt x="933" y="9237"/>
                </a:lnTo>
                <a:close/>
                <a:moveTo>
                  <a:pt x="1866" y="9237"/>
                </a:moveTo>
                <a:lnTo>
                  <a:pt x="1873" y="9237"/>
                </a:lnTo>
                <a:lnTo>
                  <a:pt x="1971" y="9237"/>
                </a:lnTo>
                <a:lnTo>
                  <a:pt x="2068" y="9237"/>
                </a:lnTo>
                <a:lnTo>
                  <a:pt x="2146" y="9237"/>
                </a:lnTo>
                <a:lnTo>
                  <a:pt x="2244" y="9237"/>
                </a:lnTo>
                <a:lnTo>
                  <a:pt x="2342" y="9237"/>
                </a:lnTo>
                <a:lnTo>
                  <a:pt x="2381" y="9237"/>
                </a:lnTo>
                <a:lnTo>
                  <a:pt x="2400" y="9237"/>
                </a:lnTo>
                <a:lnTo>
                  <a:pt x="2400" y="9370"/>
                </a:lnTo>
                <a:lnTo>
                  <a:pt x="2381" y="9370"/>
                </a:lnTo>
                <a:lnTo>
                  <a:pt x="2342" y="9370"/>
                </a:lnTo>
                <a:lnTo>
                  <a:pt x="2244" y="9370"/>
                </a:lnTo>
                <a:lnTo>
                  <a:pt x="2146" y="9370"/>
                </a:lnTo>
                <a:lnTo>
                  <a:pt x="2068" y="9370"/>
                </a:lnTo>
                <a:lnTo>
                  <a:pt x="1971" y="9370"/>
                </a:lnTo>
                <a:lnTo>
                  <a:pt x="1873" y="9370"/>
                </a:lnTo>
                <a:lnTo>
                  <a:pt x="1866" y="9370"/>
                </a:lnTo>
                <a:lnTo>
                  <a:pt x="1866" y="9237"/>
                </a:lnTo>
                <a:close/>
                <a:moveTo>
                  <a:pt x="2800" y="9237"/>
                </a:moveTo>
                <a:lnTo>
                  <a:pt x="2810" y="9237"/>
                </a:lnTo>
                <a:lnTo>
                  <a:pt x="2908" y="9237"/>
                </a:lnTo>
                <a:lnTo>
                  <a:pt x="3005" y="9237"/>
                </a:lnTo>
                <a:lnTo>
                  <a:pt x="3083" y="9237"/>
                </a:lnTo>
                <a:lnTo>
                  <a:pt x="3181" y="9237"/>
                </a:lnTo>
                <a:lnTo>
                  <a:pt x="3239" y="9237"/>
                </a:lnTo>
                <a:lnTo>
                  <a:pt x="3317" y="9237"/>
                </a:lnTo>
                <a:lnTo>
                  <a:pt x="3333" y="9237"/>
                </a:lnTo>
                <a:lnTo>
                  <a:pt x="3333" y="9370"/>
                </a:lnTo>
                <a:lnTo>
                  <a:pt x="3317" y="9370"/>
                </a:lnTo>
                <a:lnTo>
                  <a:pt x="3239" y="9370"/>
                </a:lnTo>
                <a:lnTo>
                  <a:pt x="3181" y="9370"/>
                </a:lnTo>
                <a:lnTo>
                  <a:pt x="3083" y="9370"/>
                </a:lnTo>
                <a:lnTo>
                  <a:pt x="3005" y="9370"/>
                </a:lnTo>
                <a:lnTo>
                  <a:pt x="2908" y="9370"/>
                </a:lnTo>
                <a:lnTo>
                  <a:pt x="2810" y="9370"/>
                </a:lnTo>
                <a:lnTo>
                  <a:pt x="2800" y="9370"/>
                </a:lnTo>
                <a:lnTo>
                  <a:pt x="2800" y="9237"/>
                </a:lnTo>
                <a:close/>
                <a:moveTo>
                  <a:pt x="3733" y="9237"/>
                </a:moveTo>
                <a:lnTo>
                  <a:pt x="3747" y="9237"/>
                </a:lnTo>
                <a:lnTo>
                  <a:pt x="3844" y="9237"/>
                </a:lnTo>
                <a:lnTo>
                  <a:pt x="3942" y="9237"/>
                </a:lnTo>
                <a:lnTo>
                  <a:pt x="4020" y="9237"/>
                </a:lnTo>
                <a:lnTo>
                  <a:pt x="4117" y="9237"/>
                </a:lnTo>
                <a:lnTo>
                  <a:pt x="4176" y="9237"/>
                </a:lnTo>
                <a:lnTo>
                  <a:pt x="4254" y="9237"/>
                </a:lnTo>
                <a:lnTo>
                  <a:pt x="4266" y="9237"/>
                </a:lnTo>
                <a:lnTo>
                  <a:pt x="4266" y="9370"/>
                </a:lnTo>
                <a:lnTo>
                  <a:pt x="4254" y="9370"/>
                </a:lnTo>
                <a:lnTo>
                  <a:pt x="4176" y="9370"/>
                </a:lnTo>
                <a:lnTo>
                  <a:pt x="4117" y="9370"/>
                </a:lnTo>
                <a:lnTo>
                  <a:pt x="4020" y="9370"/>
                </a:lnTo>
                <a:lnTo>
                  <a:pt x="3942" y="9370"/>
                </a:lnTo>
                <a:lnTo>
                  <a:pt x="3844" y="9370"/>
                </a:lnTo>
                <a:lnTo>
                  <a:pt x="3747" y="9370"/>
                </a:lnTo>
                <a:lnTo>
                  <a:pt x="3733" y="9370"/>
                </a:lnTo>
                <a:lnTo>
                  <a:pt x="3733" y="9237"/>
                </a:lnTo>
                <a:close/>
                <a:moveTo>
                  <a:pt x="4666" y="9237"/>
                </a:moveTo>
                <a:lnTo>
                  <a:pt x="4683" y="9237"/>
                </a:lnTo>
                <a:lnTo>
                  <a:pt x="4781" y="9237"/>
                </a:lnTo>
                <a:lnTo>
                  <a:pt x="4879" y="9237"/>
                </a:lnTo>
                <a:lnTo>
                  <a:pt x="4957" y="9237"/>
                </a:lnTo>
                <a:lnTo>
                  <a:pt x="5054" y="9237"/>
                </a:lnTo>
                <a:lnTo>
                  <a:pt x="5113" y="9237"/>
                </a:lnTo>
                <a:lnTo>
                  <a:pt x="5191" y="9237"/>
                </a:lnTo>
                <a:lnTo>
                  <a:pt x="5200" y="9237"/>
                </a:lnTo>
                <a:lnTo>
                  <a:pt x="5200" y="9370"/>
                </a:lnTo>
                <a:lnTo>
                  <a:pt x="5191" y="9370"/>
                </a:lnTo>
                <a:lnTo>
                  <a:pt x="5113" y="9370"/>
                </a:lnTo>
                <a:lnTo>
                  <a:pt x="5054" y="9370"/>
                </a:lnTo>
                <a:lnTo>
                  <a:pt x="4957" y="9370"/>
                </a:lnTo>
                <a:lnTo>
                  <a:pt x="4879" y="9370"/>
                </a:lnTo>
                <a:lnTo>
                  <a:pt x="4781" y="9370"/>
                </a:lnTo>
                <a:lnTo>
                  <a:pt x="4683" y="9370"/>
                </a:lnTo>
                <a:lnTo>
                  <a:pt x="4666" y="9370"/>
                </a:lnTo>
                <a:lnTo>
                  <a:pt x="4666" y="9237"/>
                </a:lnTo>
                <a:close/>
                <a:moveTo>
                  <a:pt x="5600" y="9237"/>
                </a:moveTo>
                <a:lnTo>
                  <a:pt x="5620" y="9237"/>
                </a:lnTo>
                <a:lnTo>
                  <a:pt x="5718" y="9237"/>
                </a:lnTo>
                <a:lnTo>
                  <a:pt x="5815" y="9237"/>
                </a:lnTo>
                <a:lnTo>
                  <a:pt x="5893" y="9237"/>
                </a:lnTo>
                <a:lnTo>
                  <a:pt x="5952" y="9237"/>
                </a:lnTo>
                <a:lnTo>
                  <a:pt x="6049" y="9237"/>
                </a:lnTo>
                <a:lnTo>
                  <a:pt x="6128" y="9237"/>
                </a:lnTo>
                <a:lnTo>
                  <a:pt x="6133" y="9237"/>
                </a:lnTo>
                <a:lnTo>
                  <a:pt x="6133" y="9370"/>
                </a:lnTo>
                <a:lnTo>
                  <a:pt x="6128" y="9370"/>
                </a:lnTo>
                <a:lnTo>
                  <a:pt x="6049" y="9370"/>
                </a:lnTo>
                <a:lnTo>
                  <a:pt x="5952" y="9370"/>
                </a:lnTo>
                <a:lnTo>
                  <a:pt x="5893" y="9370"/>
                </a:lnTo>
                <a:lnTo>
                  <a:pt x="5815" y="9370"/>
                </a:lnTo>
                <a:lnTo>
                  <a:pt x="5718" y="9370"/>
                </a:lnTo>
                <a:lnTo>
                  <a:pt x="5620" y="9370"/>
                </a:lnTo>
                <a:lnTo>
                  <a:pt x="5600" y="9370"/>
                </a:lnTo>
                <a:lnTo>
                  <a:pt x="5600" y="9237"/>
                </a:lnTo>
                <a:close/>
                <a:moveTo>
                  <a:pt x="6505" y="9215"/>
                </a:moveTo>
                <a:lnTo>
                  <a:pt x="6534" y="9205"/>
                </a:lnTo>
                <a:cubicBezTo>
                  <a:pt x="6541" y="9202"/>
                  <a:pt x="6549" y="9201"/>
                  <a:pt x="6557" y="9201"/>
                </a:cubicBezTo>
                <a:lnTo>
                  <a:pt x="6654" y="9201"/>
                </a:lnTo>
                <a:lnTo>
                  <a:pt x="6752" y="9201"/>
                </a:lnTo>
                <a:lnTo>
                  <a:pt x="6830" y="9201"/>
                </a:lnTo>
                <a:lnTo>
                  <a:pt x="6889" y="9201"/>
                </a:lnTo>
                <a:cubicBezTo>
                  <a:pt x="6897" y="9201"/>
                  <a:pt x="6904" y="9202"/>
                  <a:pt x="6912" y="9205"/>
                </a:cubicBezTo>
                <a:lnTo>
                  <a:pt x="7009" y="9241"/>
                </a:lnTo>
                <a:lnTo>
                  <a:pt x="6986" y="9237"/>
                </a:lnTo>
                <a:lnTo>
                  <a:pt x="7054" y="9237"/>
                </a:lnTo>
                <a:lnTo>
                  <a:pt x="7054" y="9370"/>
                </a:lnTo>
                <a:lnTo>
                  <a:pt x="6986" y="9370"/>
                </a:lnTo>
                <a:cubicBezTo>
                  <a:pt x="6978" y="9370"/>
                  <a:pt x="6970" y="9369"/>
                  <a:pt x="6963" y="9366"/>
                </a:cubicBezTo>
                <a:lnTo>
                  <a:pt x="6865" y="9330"/>
                </a:lnTo>
                <a:lnTo>
                  <a:pt x="6889" y="9334"/>
                </a:lnTo>
                <a:lnTo>
                  <a:pt x="6830" y="9334"/>
                </a:lnTo>
                <a:lnTo>
                  <a:pt x="6752" y="9334"/>
                </a:lnTo>
                <a:lnTo>
                  <a:pt x="6654" y="9334"/>
                </a:lnTo>
                <a:lnTo>
                  <a:pt x="6557" y="9334"/>
                </a:lnTo>
                <a:lnTo>
                  <a:pt x="6580" y="9330"/>
                </a:lnTo>
                <a:lnTo>
                  <a:pt x="6552" y="9340"/>
                </a:lnTo>
                <a:lnTo>
                  <a:pt x="6505" y="9215"/>
                </a:lnTo>
                <a:close/>
                <a:moveTo>
                  <a:pt x="7460" y="9220"/>
                </a:moveTo>
                <a:lnTo>
                  <a:pt x="7517" y="9241"/>
                </a:lnTo>
                <a:cubicBezTo>
                  <a:pt x="7525" y="9244"/>
                  <a:pt x="7533" y="9249"/>
                  <a:pt x="7539" y="9255"/>
                </a:cubicBezTo>
                <a:lnTo>
                  <a:pt x="7636" y="9345"/>
                </a:lnTo>
                <a:lnTo>
                  <a:pt x="7624" y="9336"/>
                </a:lnTo>
                <a:lnTo>
                  <a:pt x="7721" y="9390"/>
                </a:lnTo>
                <a:lnTo>
                  <a:pt x="7795" y="9424"/>
                </a:lnTo>
                <a:lnTo>
                  <a:pt x="7711" y="9448"/>
                </a:lnTo>
                <a:lnTo>
                  <a:pt x="7769" y="9358"/>
                </a:lnTo>
                <a:lnTo>
                  <a:pt x="7793" y="9326"/>
                </a:lnTo>
                <a:lnTo>
                  <a:pt x="7899" y="9407"/>
                </a:lnTo>
                <a:lnTo>
                  <a:pt x="7881" y="9430"/>
                </a:lnTo>
                <a:lnTo>
                  <a:pt x="7823" y="9521"/>
                </a:lnTo>
                <a:cubicBezTo>
                  <a:pt x="7805" y="9548"/>
                  <a:pt x="7769" y="9559"/>
                  <a:pt x="7739" y="9545"/>
                </a:cubicBezTo>
                <a:lnTo>
                  <a:pt x="7656" y="9506"/>
                </a:lnTo>
                <a:lnTo>
                  <a:pt x="7559" y="9452"/>
                </a:lnTo>
                <a:cubicBezTo>
                  <a:pt x="7554" y="9450"/>
                  <a:pt x="7550" y="9446"/>
                  <a:pt x="7546" y="9443"/>
                </a:cubicBezTo>
                <a:lnTo>
                  <a:pt x="7448" y="9352"/>
                </a:lnTo>
                <a:lnTo>
                  <a:pt x="7470" y="9366"/>
                </a:lnTo>
                <a:lnTo>
                  <a:pt x="7413" y="9345"/>
                </a:lnTo>
                <a:lnTo>
                  <a:pt x="7460" y="9220"/>
                </a:lnTo>
                <a:close/>
                <a:moveTo>
                  <a:pt x="7944" y="8978"/>
                </a:moveTo>
                <a:lnTo>
                  <a:pt x="8038" y="8770"/>
                </a:lnTo>
                <a:cubicBezTo>
                  <a:pt x="8039" y="8767"/>
                  <a:pt x="8041" y="8763"/>
                  <a:pt x="8043" y="8760"/>
                </a:cubicBezTo>
                <a:lnTo>
                  <a:pt x="8141" y="8616"/>
                </a:lnTo>
                <a:cubicBezTo>
                  <a:pt x="8155" y="8595"/>
                  <a:pt x="8178" y="8584"/>
                  <a:pt x="8202" y="8586"/>
                </a:cubicBezTo>
                <a:cubicBezTo>
                  <a:pt x="8227" y="8589"/>
                  <a:pt x="8248" y="8604"/>
                  <a:pt x="8257" y="8626"/>
                </a:cubicBezTo>
                <a:lnTo>
                  <a:pt x="8296" y="8717"/>
                </a:lnTo>
                <a:cubicBezTo>
                  <a:pt x="8298" y="8720"/>
                  <a:pt x="8299" y="8724"/>
                  <a:pt x="8300" y="8727"/>
                </a:cubicBezTo>
                <a:lnTo>
                  <a:pt x="8308" y="8759"/>
                </a:lnTo>
                <a:lnTo>
                  <a:pt x="8178" y="8790"/>
                </a:lnTo>
                <a:lnTo>
                  <a:pt x="8170" y="8759"/>
                </a:lnTo>
                <a:lnTo>
                  <a:pt x="8174" y="8770"/>
                </a:lnTo>
                <a:lnTo>
                  <a:pt x="8135" y="8679"/>
                </a:lnTo>
                <a:lnTo>
                  <a:pt x="8251" y="8690"/>
                </a:lnTo>
                <a:lnTo>
                  <a:pt x="8154" y="8835"/>
                </a:lnTo>
                <a:lnTo>
                  <a:pt x="8159" y="8825"/>
                </a:lnTo>
                <a:lnTo>
                  <a:pt x="8066" y="9033"/>
                </a:lnTo>
                <a:lnTo>
                  <a:pt x="7944" y="8978"/>
                </a:lnTo>
                <a:close/>
                <a:moveTo>
                  <a:pt x="8402" y="9153"/>
                </a:moveTo>
                <a:lnTo>
                  <a:pt x="8488" y="9679"/>
                </a:lnTo>
                <a:lnTo>
                  <a:pt x="8357" y="9701"/>
                </a:lnTo>
                <a:lnTo>
                  <a:pt x="8271" y="9174"/>
                </a:lnTo>
                <a:lnTo>
                  <a:pt x="8402" y="9153"/>
                </a:lnTo>
                <a:close/>
                <a:moveTo>
                  <a:pt x="8548" y="10075"/>
                </a:moveTo>
                <a:lnTo>
                  <a:pt x="8594" y="10378"/>
                </a:lnTo>
                <a:lnTo>
                  <a:pt x="8638" y="10598"/>
                </a:lnTo>
                <a:lnTo>
                  <a:pt x="8507" y="10624"/>
                </a:lnTo>
                <a:lnTo>
                  <a:pt x="8462" y="10398"/>
                </a:lnTo>
                <a:lnTo>
                  <a:pt x="8417" y="10095"/>
                </a:lnTo>
                <a:lnTo>
                  <a:pt x="8548" y="10075"/>
                </a:lnTo>
                <a:close/>
                <a:moveTo>
                  <a:pt x="8612" y="10777"/>
                </a:moveTo>
                <a:lnTo>
                  <a:pt x="8691" y="10249"/>
                </a:lnTo>
                <a:lnTo>
                  <a:pt x="8823" y="10269"/>
                </a:lnTo>
                <a:lnTo>
                  <a:pt x="8744" y="10796"/>
                </a:lnTo>
                <a:lnTo>
                  <a:pt x="8612" y="10777"/>
                </a:lnTo>
                <a:close/>
                <a:moveTo>
                  <a:pt x="8721" y="9856"/>
                </a:moveTo>
                <a:lnTo>
                  <a:pt x="8758" y="9324"/>
                </a:lnTo>
                <a:lnTo>
                  <a:pt x="8891" y="9333"/>
                </a:lnTo>
                <a:lnTo>
                  <a:pt x="8854" y="9865"/>
                </a:lnTo>
                <a:lnTo>
                  <a:pt x="8721" y="9856"/>
                </a:lnTo>
                <a:close/>
                <a:moveTo>
                  <a:pt x="8786" y="8925"/>
                </a:moveTo>
                <a:lnTo>
                  <a:pt x="8793" y="8829"/>
                </a:lnTo>
                <a:lnTo>
                  <a:pt x="8810" y="8394"/>
                </a:lnTo>
                <a:lnTo>
                  <a:pt x="8943" y="8399"/>
                </a:lnTo>
                <a:lnTo>
                  <a:pt x="8926" y="8838"/>
                </a:lnTo>
                <a:lnTo>
                  <a:pt x="8919" y="8934"/>
                </a:lnTo>
                <a:lnTo>
                  <a:pt x="8786" y="8925"/>
                </a:lnTo>
                <a:close/>
                <a:moveTo>
                  <a:pt x="8825" y="7994"/>
                </a:moveTo>
                <a:lnTo>
                  <a:pt x="8845" y="7461"/>
                </a:lnTo>
                <a:lnTo>
                  <a:pt x="8979" y="7466"/>
                </a:lnTo>
                <a:lnTo>
                  <a:pt x="8958" y="7999"/>
                </a:lnTo>
                <a:lnTo>
                  <a:pt x="8825" y="7994"/>
                </a:lnTo>
                <a:close/>
                <a:moveTo>
                  <a:pt x="8861" y="7062"/>
                </a:moveTo>
                <a:lnTo>
                  <a:pt x="8871" y="6789"/>
                </a:lnTo>
                <a:lnTo>
                  <a:pt x="8882" y="6528"/>
                </a:lnTo>
                <a:lnTo>
                  <a:pt x="9015" y="6534"/>
                </a:lnTo>
                <a:lnTo>
                  <a:pt x="9004" y="6794"/>
                </a:lnTo>
                <a:lnTo>
                  <a:pt x="8994" y="7067"/>
                </a:lnTo>
                <a:lnTo>
                  <a:pt x="8861" y="7062"/>
                </a:lnTo>
                <a:close/>
                <a:moveTo>
                  <a:pt x="8899" y="6129"/>
                </a:moveTo>
                <a:lnTo>
                  <a:pt x="8922" y="5596"/>
                </a:lnTo>
                <a:lnTo>
                  <a:pt x="9055" y="5602"/>
                </a:lnTo>
                <a:lnTo>
                  <a:pt x="9032" y="6134"/>
                </a:lnTo>
                <a:lnTo>
                  <a:pt x="8899" y="6129"/>
                </a:lnTo>
                <a:close/>
                <a:moveTo>
                  <a:pt x="8939" y="5196"/>
                </a:moveTo>
                <a:lnTo>
                  <a:pt x="8961" y="4663"/>
                </a:lnTo>
                <a:lnTo>
                  <a:pt x="9095" y="4669"/>
                </a:lnTo>
                <a:lnTo>
                  <a:pt x="9072" y="5202"/>
                </a:lnTo>
                <a:lnTo>
                  <a:pt x="8939" y="5196"/>
                </a:lnTo>
                <a:close/>
                <a:moveTo>
                  <a:pt x="8979" y="4264"/>
                </a:moveTo>
                <a:lnTo>
                  <a:pt x="9002" y="3731"/>
                </a:lnTo>
                <a:lnTo>
                  <a:pt x="9135" y="3737"/>
                </a:lnTo>
                <a:lnTo>
                  <a:pt x="9112" y="4270"/>
                </a:lnTo>
                <a:lnTo>
                  <a:pt x="8979" y="4264"/>
                </a:lnTo>
                <a:close/>
                <a:moveTo>
                  <a:pt x="9020" y="3331"/>
                </a:moveTo>
                <a:lnTo>
                  <a:pt x="9043" y="2798"/>
                </a:lnTo>
                <a:lnTo>
                  <a:pt x="9176" y="2804"/>
                </a:lnTo>
                <a:lnTo>
                  <a:pt x="9153" y="3337"/>
                </a:lnTo>
                <a:lnTo>
                  <a:pt x="9020" y="3331"/>
                </a:lnTo>
                <a:close/>
                <a:moveTo>
                  <a:pt x="9061" y="2399"/>
                </a:moveTo>
                <a:lnTo>
                  <a:pt x="9066" y="2270"/>
                </a:lnTo>
                <a:lnTo>
                  <a:pt x="9076" y="1867"/>
                </a:lnTo>
                <a:lnTo>
                  <a:pt x="9209" y="1870"/>
                </a:lnTo>
                <a:lnTo>
                  <a:pt x="9199" y="2276"/>
                </a:lnTo>
                <a:lnTo>
                  <a:pt x="9194" y="2405"/>
                </a:lnTo>
                <a:lnTo>
                  <a:pt x="9061" y="2399"/>
                </a:lnTo>
                <a:close/>
                <a:moveTo>
                  <a:pt x="9086" y="1467"/>
                </a:moveTo>
                <a:lnTo>
                  <a:pt x="9099" y="934"/>
                </a:lnTo>
                <a:lnTo>
                  <a:pt x="9232" y="937"/>
                </a:lnTo>
                <a:lnTo>
                  <a:pt x="9219" y="1470"/>
                </a:lnTo>
                <a:lnTo>
                  <a:pt x="9086" y="1467"/>
                </a:lnTo>
                <a:close/>
                <a:moveTo>
                  <a:pt x="9124" y="528"/>
                </a:moveTo>
                <a:lnTo>
                  <a:pt x="9199" y="0"/>
                </a:lnTo>
                <a:lnTo>
                  <a:pt x="9331" y="18"/>
                </a:lnTo>
                <a:lnTo>
                  <a:pt x="9256" y="546"/>
                </a:lnTo>
                <a:lnTo>
                  <a:pt x="9124" y="528"/>
                </a:lnTo>
                <a:close/>
                <a:moveTo>
                  <a:pt x="9415" y="321"/>
                </a:moveTo>
                <a:lnTo>
                  <a:pt x="9432" y="396"/>
                </a:lnTo>
                <a:cubicBezTo>
                  <a:pt x="9433" y="400"/>
                  <a:pt x="9433" y="403"/>
                  <a:pt x="9434" y="407"/>
                </a:cubicBezTo>
                <a:lnTo>
                  <a:pt x="9464" y="862"/>
                </a:lnTo>
                <a:lnTo>
                  <a:pt x="9331" y="871"/>
                </a:lnTo>
                <a:lnTo>
                  <a:pt x="9301" y="415"/>
                </a:lnTo>
                <a:lnTo>
                  <a:pt x="9302" y="426"/>
                </a:lnTo>
                <a:lnTo>
                  <a:pt x="9285" y="351"/>
                </a:lnTo>
                <a:lnTo>
                  <a:pt x="9415" y="321"/>
                </a:lnTo>
                <a:close/>
                <a:moveTo>
                  <a:pt x="9490" y="1261"/>
                </a:moveTo>
                <a:lnTo>
                  <a:pt x="9525" y="1793"/>
                </a:lnTo>
                <a:lnTo>
                  <a:pt x="9392" y="1802"/>
                </a:lnTo>
                <a:lnTo>
                  <a:pt x="9357" y="1270"/>
                </a:lnTo>
                <a:lnTo>
                  <a:pt x="9490" y="1261"/>
                </a:lnTo>
                <a:close/>
                <a:moveTo>
                  <a:pt x="9545" y="2194"/>
                </a:moveTo>
                <a:lnTo>
                  <a:pt x="9568" y="2727"/>
                </a:lnTo>
                <a:lnTo>
                  <a:pt x="9435" y="2733"/>
                </a:lnTo>
                <a:lnTo>
                  <a:pt x="9412" y="2200"/>
                </a:lnTo>
                <a:lnTo>
                  <a:pt x="9545" y="2194"/>
                </a:lnTo>
                <a:close/>
                <a:moveTo>
                  <a:pt x="9586" y="3127"/>
                </a:moveTo>
                <a:lnTo>
                  <a:pt x="9610" y="3660"/>
                </a:lnTo>
                <a:lnTo>
                  <a:pt x="9476" y="3665"/>
                </a:lnTo>
                <a:lnTo>
                  <a:pt x="9453" y="3133"/>
                </a:lnTo>
                <a:lnTo>
                  <a:pt x="9586" y="3127"/>
                </a:lnTo>
                <a:close/>
                <a:moveTo>
                  <a:pt x="9627" y="4059"/>
                </a:moveTo>
                <a:lnTo>
                  <a:pt x="9629" y="4095"/>
                </a:lnTo>
                <a:lnTo>
                  <a:pt x="9637" y="4594"/>
                </a:lnTo>
                <a:lnTo>
                  <a:pt x="9503" y="4596"/>
                </a:lnTo>
                <a:lnTo>
                  <a:pt x="9496" y="4101"/>
                </a:lnTo>
                <a:lnTo>
                  <a:pt x="9494" y="4065"/>
                </a:lnTo>
                <a:lnTo>
                  <a:pt x="9627" y="4059"/>
                </a:lnTo>
                <a:close/>
                <a:moveTo>
                  <a:pt x="9643" y="4994"/>
                </a:moveTo>
                <a:lnTo>
                  <a:pt x="9651" y="5528"/>
                </a:lnTo>
                <a:lnTo>
                  <a:pt x="9518" y="5530"/>
                </a:lnTo>
                <a:lnTo>
                  <a:pt x="9510" y="4996"/>
                </a:lnTo>
                <a:lnTo>
                  <a:pt x="9643" y="4994"/>
                </a:lnTo>
                <a:close/>
                <a:moveTo>
                  <a:pt x="9657" y="5928"/>
                </a:moveTo>
                <a:lnTo>
                  <a:pt x="9666" y="6461"/>
                </a:lnTo>
                <a:lnTo>
                  <a:pt x="9532" y="6463"/>
                </a:lnTo>
                <a:lnTo>
                  <a:pt x="9524" y="5930"/>
                </a:lnTo>
                <a:lnTo>
                  <a:pt x="9657" y="5928"/>
                </a:lnTo>
                <a:close/>
                <a:moveTo>
                  <a:pt x="9678" y="6859"/>
                </a:moveTo>
                <a:lnTo>
                  <a:pt x="9700" y="7392"/>
                </a:lnTo>
                <a:lnTo>
                  <a:pt x="9567" y="7397"/>
                </a:lnTo>
                <a:lnTo>
                  <a:pt x="9545" y="6864"/>
                </a:lnTo>
                <a:lnTo>
                  <a:pt x="9678" y="6859"/>
                </a:lnTo>
                <a:close/>
                <a:moveTo>
                  <a:pt x="9717" y="7791"/>
                </a:moveTo>
                <a:lnTo>
                  <a:pt x="9739" y="8324"/>
                </a:lnTo>
                <a:lnTo>
                  <a:pt x="9606" y="8330"/>
                </a:lnTo>
                <a:lnTo>
                  <a:pt x="9584" y="7797"/>
                </a:lnTo>
                <a:lnTo>
                  <a:pt x="9717" y="7791"/>
                </a:lnTo>
                <a:close/>
                <a:moveTo>
                  <a:pt x="9756" y="8724"/>
                </a:moveTo>
                <a:lnTo>
                  <a:pt x="9765" y="8957"/>
                </a:lnTo>
                <a:lnTo>
                  <a:pt x="9782" y="9256"/>
                </a:lnTo>
                <a:lnTo>
                  <a:pt x="9649" y="9263"/>
                </a:lnTo>
                <a:lnTo>
                  <a:pt x="9632" y="8963"/>
                </a:lnTo>
                <a:lnTo>
                  <a:pt x="9623" y="8729"/>
                </a:lnTo>
                <a:lnTo>
                  <a:pt x="9756" y="8724"/>
                </a:lnTo>
                <a:close/>
                <a:moveTo>
                  <a:pt x="9805" y="9655"/>
                </a:moveTo>
                <a:lnTo>
                  <a:pt x="9835" y="10187"/>
                </a:lnTo>
                <a:lnTo>
                  <a:pt x="9701" y="10195"/>
                </a:lnTo>
                <a:lnTo>
                  <a:pt x="9672" y="9662"/>
                </a:lnTo>
                <a:lnTo>
                  <a:pt x="9805" y="9655"/>
                </a:lnTo>
                <a:close/>
                <a:moveTo>
                  <a:pt x="9857" y="10587"/>
                </a:moveTo>
                <a:lnTo>
                  <a:pt x="9863" y="10692"/>
                </a:lnTo>
                <a:lnTo>
                  <a:pt x="9896" y="11117"/>
                </a:lnTo>
                <a:lnTo>
                  <a:pt x="9763" y="11128"/>
                </a:lnTo>
                <a:lnTo>
                  <a:pt x="9730" y="10699"/>
                </a:lnTo>
                <a:lnTo>
                  <a:pt x="9724" y="10594"/>
                </a:lnTo>
                <a:lnTo>
                  <a:pt x="9857" y="10587"/>
                </a:lnTo>
                <a:close/>
                <a:moveTo>
                  <a:pt x="9927" y="11516"/>
                </a:moveTo>
                <a:lnTo>
                  <a:pt x="9941" y="11702"/>
                </a:lnTo>
                <a:lnTo>
                  <a:pt x="9937" y="11683"/>
                </a:lnTo>
                <a:lnTo>
                  <a:pt x="10034" y="11936"/>
                </a:lnTo>
                <a:lnTo>
                  <a:pt x="9908" y="11942"/>
                </a:lnTo>
                <a:lnTo>
                  <a:pt x="9929" y="11870"/>
                </a:lnTo>
                <a:lnTo>
                  <a:pt x="10057" y="11906"/>
                </a:lnTo>
                <a:lnTo>
                  <a:pt x="10036" y="11979"/>
                </a:lnTo>
                <a:cubicBezTo>
                  <a:pt x="10028" y="12006"/>
                  <a:pt x="10004" y="12026"/>
                  <a:pt x="9975" y="12027"/>
                </a:cubicBezTo>
                <a:cubicBezTo>
                  <a:pt x="9946" y="12028"/>
                  <a:pt x="9920" y="12011"/>
                  <a:pt x="9910" y="11984"/>
                </a:cubicBezTo>
                <a:lnTo>
                  <a:pt x="9812" y="11731"/>
                </a:lnTo>
                <a:cubicBezTo>
                  <a:pt x="9810" y="11725"/>
                  <a:pt x="9808" y="11719"/>
                  <a:pt x="9808" y="11713"/>
                </a:cubicBezTo>
                <a:lnTo>
                  <a:pt x="9794" y="11526"/>
                </a:lnTo>
                <a:lnTo>
                  <a:pt x="9927" y="11516"/>
                </a:lnTo>
                <a:close/>
                <a:moveTo>
                  <a:pt x="10010" y="11495"/>
                </a:moveTo>
                <a:lnTo>
                  <a:pt x="10042" y="10963"/>
                </a:lnTo>
                <a:lnTo>
                  <a:pt x="10175" y="10970"/>
                </a:lnTo>
                <a:lnTo>
                  <a:pt x="10143" y="11503"/>
                </a:lnTo>
                <a:lnTo>
                  <a:pt x="10010" y="11495"/>
                </a:lnTo>
                <a:close/>
                <a:moveTo>
                  <a:pt x="10097" y="10561"/>
                </a:moveTo>
                <a:lnTo>
                  <a:pt x="10140" y="10252"/>
                </a:lnTo>
                <a:lnTo>
                  <a:pt x="10181" y="10031"/>
                </a:lnTo>
                <a:lnTo>
                  <a:pt x="10312" y="10056"/>
                </a:lnTo>
                <a:lnTo>
                  <a:pt x="10272" y="10271"/>
                </a:lnTo>
                <a:lnTo>
                  <a:pt x="10230" y="10579"/>
                </a:lnTo>
                <a:lnTo>
                  <a:pt x="10097" y="10561"/>
                </a:lnTo>
                <a:close/>
                <a:moveTo>
                  <a:pt x="10279" y="9629"/>
                </a:moveTo>
                <a:lnTo>
                  <a:pt x="10341" y="9493"/>
                </a:lnTo>
                <a:cubicBezTo>
                  <a:pt x="10351" y="9469"/>
                  <a:pt x="10375" y="9454"/>
                  <a:pt x="10401" y="9454"/>
                </a:cubicBezTo>
                <a:lnTo>
                  <a:pt x="10499" y="9454"/>
                </a:lnTo>
                <a:cubicBezTo>
                  <a:pt x="10531" y="9454"/>
                  <a:pt x="10559" y="9477"/>
                  <a:pt x="10565" y="9509"/>
                </a:cubicBezTo>
                <a:lnTo>
                  <a:pt x="10604" y="9726"/>
                </a:lnTo>
                <a:lnTo>
                  <a:pt x="10601" y="9715"/>
                </a:lnTo>
                <a:lnTo>
                  <a:pt x="10623" y="9777"/>
                </a:lnTo>
                <a:lnTo>
                  <a:pt x="10498" y="9822"/>
                </a:lnTo>
                <a:lnTo>
                  <a:pt x="10475" y="9760"/>
                </a:lnTo>
                <a:cubicBezTo>
                  <a:pt x="10474" y="9756"/>
                  <a:pt x="10473" y="9753"/>
                  <a:pt x="10472" y="9749"/>
                </a:cubicBezTo>
                <a:lnTo>
                  <a:pt x="10433" y="9532"/>
                </a:lnTo>
                <a:lnTo>
                  <a:pt x="10499" y="9587"/>
                </a:lnTo>
                <a:lnTo>
                  <a:pt x="10401" y="9587"/>
                </a:lnTo>
                <a:lnTo>
                  <a:pt x="10462" y="9548"/>
                </a:lnTo>
                <a:lnTo>
                  <a:pt x="10401" y="9684"/>
                </a:lnTo>
                <a:lnTo>
                  <a:pt x="10279" y="9629"/>
                </a:lnTo>
                <a:close/>
                <a:moveTo>
                  <a:pt x="10769" y="10143"/>
                </a:moveTo>
                <a:lnTo>
                  <a:pt x="10794" y="10198"/>
                </a:lnTo>
                <a:lnTo>
                  <a:pt x="10672" y="10253"/>
                </a:lnTo>
                <a:lnTo>
                  <a:pt x="10648" y="10198"/>
                </a:lnTo>
                <a:lnTo>
                  <a:pt x="10769" y="10143"/>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159080" y="4127400"/>
            <a:ext cx="1221120" cy="831960"/>
          </a:xfrm>
          <a:custGeom>
            <a:avLst/>
            <a:gdLst/>
            <a:ahLst/>
            <a:rect l="l" t="t" r="r" b="b"/>
            <a:pathLst>
              <a:path w="5405" h="3662">
                <a:moveTo>
                  <a:pt x="57" y="2692"/>
                </a:moveTo>
                <a:lnTo>
                  <a:pt x="96" y="2755"/>
                </a:lnTo>
                <a:lnTo>
                  <a:pt x="79" y="2741"/>
                </a:lnTo>
                <a:lnTo>
                  <a:pt x="128" y="2759"/>
                </a:lnTo>
                <a:lnTo>
                  <a:pt x="99" y="2762"/>
                </a:lnTo>
                <a:lnTo>
                  <a:pt x="128" y="2744"/>
                </a:lnTo>
                <a:lnTo>
                  <a:pt x="120" y="2751"/>
                </a:lnTo>
                <a:lnTo>
                  <a:pt x="159" y="2705"/>
                </a:lnTo>
                <a:cubicBezTo>
                  <a:pt x="163" y="2701"/>
                  <a:pt x="168" y="2698"/>
                  <a:pt x="173" y="2696"/>
                </a:cubicBezTo>
                <a:lnTo>
                  <a:pt x="217" y="2680"/>
                </a:lnTo>
                <a:lnTo>
                  <a:pt x="240" y="2742"/>
                </a:lnTo>
                <a:lnTo>
                  <a:pt x="196" y="2758"/>
                </a:lnTo>
                <a:lnTo>
                  <a:pt x="210" y="2749"/>
                </a:lnTo>
                <a:lnTo>
                  <a:pt x="171" y="2794"/>
                </a:lnTo>
                <a:cubicBezTo>
                  <a:pt x="169" y="2797"/>
                  <a:pt x="166" y="2799"/>
                  <a:pt x="163" y="2801"/>
                </a:cubicBezTo>
                <a:lnTo>
                  <a:pt x="134" y="2819"/>
                </a:lnTo>
                <a:cubicBezTo>
                  <a:pt x="125" y="2824"/>
                  <a:pt x="115" y="2825"/>
                  <a:pt x="105" y="2822"/>
                </a:cubicBezTo>
                <a:lnTo>
                  <a:pt x="56" y="2804"/>
                </a:lnTo>
                <a:cubicBezTo>
                  <a:pt x="49" y="2801"/>
                  <a:pt x="43" y="2796"/>
                  <a:pt x="39" y="2790"/>
                </a:cubicBezTo>
                <a:lnTo>
                  <a:pt x="0" y="2727"/>
                </a:lnTo>
                <a:lnTo>
                  <a:pt x="57" y="2692"/>
                </a:lnTo>
                <a:close/>
                <a:moveTo>
                  <a:pt x="411" y="2721"/>
                </a:moveTo>
                <a:lnTo>
                  <a:pt x="448" y="2721"/>
                </a:lnTo>
                <a:lnTo>
                  <a:pt x="496" y="2721"/>
                </a:lnTo>
                <a:lnTo>
                  <a:pt x="535" y="2721"/>
                </a:lnTo>
                <a:lnTo>
                  <a:pt x="584" y="2721"/>
                </a:lnTo>
                <a:cubicBezTo>
                  <a:pt x="590" y="2721"/>
                  <a:pt x="596" y="2723"/>
                  <a:pt x="602" y="2726"/>
                </a:cubicBezTo>
                <a:lnTo>
                  <a:pt x="631" y="2744"/>
                </a:lnTo>
                <a:lnTo>
                  <a:pt x="666" y="2760"/>
                </a:lnTo>
                <a:lnTo>
                  <a:pt x="682" y="2769"/>
                </a:lnTo>
                <a:lnTo>
                  <a:pt x="650" y="2827"/>
                </a:lnTo>
                <a:lnTo>
                  <a:pt x="638" y="2821"/>
                </a:lnTo>
                <a:lnTo>
                  <a:pt x="596" y="2801"/>
                </a:lnTo>
                <a:lnTo>
                  <a:pt x="566" y="2783"/>
                </a:lnTo>
                <a:lnTo>
                  <a:pt x="584" y="2788"/>
                </a:lnTo>
                <a:lnTo>
                  <a:pt x="535" y="2788"/>
                </a:lnTo>
                <a:lnTo>
                  <a:pt x="496" y="2788"/>
                </a:lnTo>
                <a:lnTo>
                  <a:pt x="448" y="2788"/>
                </a:lnTo>
                <a:lnTo>
                  <a:pt x="411" y="2788"/>
                </a:lnTo>
                <a:lnTo>
                  <a:pt x="411" y="2721"/>
                </a:lnTo>
                <a:close/>
                <a:moveTo>
                  <a:pt x="860" y="2843"/>
                </a:moveTo>
                <a:lnTo>
                  <a:pt x="878" y="2849"/>
                </a:lnTo>
                <a:lnTo>
                  <a:pt x="927" y="2868"/>
                </a:lnTo>
                <a:lnTo>
                  <a:pt x="915" y="2865"/>
                </a:lnTo>
                <a:lnTo>
                  <a:pt x="964" y="2865"/>
                </a:lnTo>
                <a:cubicBezTo>
                  <a:pt x="971" y="2865"/>
                  <a:pt x="977" y="2868"/>
                  <a:pt x="983" y="2871"/>
                </a:cubicBezTo>
                <a:lnTo>
                  <a:pt x="1022" y="2899"/>
                </a:lnTo>
                <a:lnTo>
                  <a:pt x="1003" y="2893"/>
                </a:lnTo>
                <a:lnTo>
                  <a:pt x="1051" y="2893"/>
                </a:lnTo>
                <a:cubicBezTo>
                  <a:pt x="1058" y="2893"/>
                  <a:pt x="1064" y="2894"/>
                  <a:pt x="1069" y="2898"/>
                </a:cubicBezTo>
                <a:lnTo>
                  <a:pt x="1098" y="2916"/>
                </a:lnTo>
                <a:lnTo>
                  <a:pt x="1081" y="2911"/>
                </a:lnTo>
                <a:lnTo>
                  <a:pt x="1097" y="2911"/>
                </a:lnTo>
                <a:lnTo>
                  <a:pt x="1097" y="2977"/>
                </a:lnTo>
                <a:lnTo>
                  <a:pt x="1081" y="2977"/>
                </a:lnTo>
                <a:cubicBezTo>
                  <a:pt x="1075" y="2977"/>
                  <a:pt x="1068" y="2976"/>
                  <a:pt x="1063" y="2972"/>
                </a:cubicBezTo>
                <a:lnTo>
                  <a:pt x="1034" y="2954"/>
                </a:lnTo>
                <a:lnTo>
                  <a:pt x="1051" y="2959"/>
                </a:lnTo>
                <a:lnTo>
                  <a:pt x="1003" y="2959"/>
                </a:lnTo>
                <a:cubicBezTo>
                  <a:pt x="996" y="2959"/>
                  <a:pt x="989" y="2957"/>
                  <a:pt x="984" y="2953"/>
                </a:cubicBezTo>
                <a:lnTo>
                  <a:pt x="945" y="2926"/>
                </a:lnTo>
                <a:lnTo>
                  <a:pt x="964" y="2932"/>
                </a:lnTo>
                <a:lnTo>
                  <a:pt x="915" y="2932"/>
                </a:lnTo>
                <a:cubicBezTo>
                  <a:pt x="911" y="2932"/>
                  <a:pt x="907" y="2931"/>
                  <a:pt x="904" y="2930"/>
                </a:cubicBezTo>
                <a:lnTo>
                  <a:pt x="855" y="2912"/>
                </a:lnTo>
                <a:lnTo>
                  <a:pt x="837" y="2905"/>
                </a:lnTo>
                <a:lnTo>
                  <a:pt x="860" y="2843"/>
                </a:lnTo>
                <a:close/>
                <a:moveTo>
                  <a:pt x="1303" y="3003"/>
                </a:moveTo>
                <a:lnTo>
                  <a:pt x="1312" y="3015"/>
                </a:lnTo>
                <a:lnTo>
                  <a:pt x="1285" y="3001"/>
                </a:lnTo>
                <a:lnTo>
                  <a:pt x="1334" y="3001"/>
                </a:lnTo>
                <a:cubicBezTo>
                  <a:pt x="1338" y="3001"/>
                  <a:pt x="1342" y="3002"/>
                  <a:pt x="1346" y="3003"/>
                </a:cubicBezTo>
                <a:lnTo>
                  <a:pt x="1394" y="3021"/>
                </a:lnTo>
                <a:cubicBezTo>
                  <a:pt x="1397" y="3022"/>
                  <a:pt x="1399" y="3023"/>
                  <a:pt x="1402" y="3025"/>
                </a:cubicBezTo>
                <a:lnTo>
                  <a:pt x="1441" y="3052"/>
                </a:lnTo>
                <a:lnTo>
                  <a:pt x="1433" y="3048"/>
                </a:lnTo>
                <a:lnTo>
                  <a:pt x="1482" y="3066"/>
                </a:lnTo>
                <a:cubicBezTo>
                  <a:pt x="1484" y="3067"/>
                  <a:pt x="1486" y="3068"/>
                  <a:pt x="1488" y="3069"/>
                </a:cubicBezTo>
                <a:lnTo>
                  <a:pt x="1517" y="3087"/>
                </a:lnTo>
                <a:lnTo>
                  <a:pt x="1533" y="3098"/>
                </a:lnTo>
                <a:lnTo>
                  <a:pt x="1494" y="3153"/>
                </a:lnTo>
                <a:lnTo>
                  <a:pt x="1482" y="3144"/>
                </a:lnTo>
                <a:lnTo>
                  <a:pt x="1453" y="3126"/>
                </a:lnTo>
                <a:lnTo>
                  <a:pt x="1459" y="3129"/>
                </a:lnTo>
                <a:lnTo>
                  <a:pt x="1410" y="3111"/>
                </a:lnTo>
                <a:cubicBezTo>
                  <a:pt x="1407" y="3110"/>
                  <a:pt x="1405" y="3108"/>
                  <a:pt x="1403" y="3107"/>
                </a:cubicBezTo>
                <a:lnTo>
                  <a:pt x="1364" y="3080"/>
                </a:lnTo>
                <a:lnTo>
                  <a:pt x="1371" y="3084"/>
                </a:lnTo>
                <a:lnTo>
                  <a:pt x="1322" y="3066"/>
                </a:lnTo>
                <a:lnTo>
                  <a:pt x="1334" y="3068"/>
                </a:lnTo>
                <a:lnTo>
                  <a:pt x="1285" y="3068"/>
                </a:lnTo>
                <a:cubicBezTo>
                  <a:pt x="1275" y="3068"/>
                  <a:pt x="1264" y="3062"/>
                  <a:pt x="1258" y="3054"/>
                </a:cubicBezTo>
                <a:lnTo>
                  <a:pt x="1249" y="3041"/>
                </a:lnTo>
                <a:lnTo>
                  <a:pt x="1303" y="3003"/>
                </a:lnTo>
                <a:close/>
                <a:moveTo>
                  <a:pt x="1675" y="3174"/>
                </a:moveTo>
                <a:lnTo>
                  <a:pt x="1722" y="3157"/>
                </a:lnTo>
                <a:lnTo>
                  <a:pt x="1706" y="3168"/>
                </a:lnTo>
                <a:lnTo>
                  <a:pt x="1726" y="3141"/>
                </a:lnTo>
                <a:cubicBezTo>
                  <a:pt x="1727" y="3140"/>
                  <a:pt x="1728" y="3138"/>
                  <a:pt x="1730" y="3136"/>
                </a:cubicBezTo>
                <a:lnTo>
                  <a:pt x="1779" y="3091"/>
                </a:lnTo>
                <a:lnTo>
                  <a:pt x="1830" y="3053"/>
                </a:lnTo>
                <a:cubicBezTo>
                  <a:pt x="1840" y="3045"/>
                  <a:pt x="1853" y="3044"/>
                  <a:pt x="1864" y="3049"/>
                </a:cubicBezTo>
                <a:lnTo>
                  <a:pt x="1903" y="3067"/>
                </a:lnTo>
                <a:cubicBezTo>
                  <a:pt x="1910" y="3070"/>
                  <a:pt x="1915" y="3075"/>
                  <a:pt x="1918" y="3082"/>
                </a:cubicBezTo>
                <a:lnTo>
                  <a:pt x="1925" y="3094"/>
                </a:lnTo>
                <a:lnTo>
                  <a:pt x="1866" y="3126"/>
                </a:lnTo>
                <a:lnTo>
                  <a:pt x="1860" y="3113"/>
                </a:lnTo>
                <a:lnTo>
                  <a:pt x="1875" y="3128"/>
                </a:lnTo>
                <a:lnTo>
                  <a:pt x="1836" y="3110"/>
                </a:lnTo>
                <a:lnTo>
                  <a:pt x="1870" y="3106"/>
                </a:lnTo>
                <a:lnTo>
                  <a:pt x="1824" y="3140"/>
                </a:lnTo>
                <a:lnTo>
                  <a:pt x="1775" y="3185"/>
                </a:lnTo>
                <a:lnTo>
                  <a:pt x="1780" y="3180"/>
                </a:lnTo>
                <a:lnTo>
                  <a:pt x="1760" y="3207"/>
                </a:lnTo>
                <a:cubicBezTo>
                  <a:pt x="1756" y="3213"/>
                  <a:pt x="1751" y="3217"/>
                  <a:pt x="1745" y="3219"/>
                </a:cubicBezTo>
                <a:lnTo>
                  <a:pt x="1699" y="3236"/>
                </a:lnTo>
                <a:lnTo>
                  <a:pt x="1675" y="3174"/>
                </a:lnTo>
                <a:close/>
                <a:moveTo>
                  <a:pt x="1993" y="3290"/>
                </a:moveTo>
                <a:lnTo>
                  <a:pt x="2000" y="3326"/>
                </a:lnTo>
                <a:lnTo>
                  <a:pt x="2039" y="3506"/>
                </a:lnTo>
                <a:lnTo>
                  <a:pt x="2037" y="3501"/>
                </a:lnTo>
                <a:lnTo>
                  <a:pt x="2053" y="3544"/>
                </a:lnTo>
                <a:lnTo>
                  <a:pt x="1991" y="3568"/>
                </a:lnTo>
                <a:lnTo>
                  <a:pt x="1975" y="3525"/>
                </a:lnTo>
                <a:cubicBezTo>
                  <a:pt x="1974" y="3524"/>
                  <a:pt x="1974" y="3522"/>
                  <a:pt x="1973" y="3520"/>
                </a:cubicBezTo>
                <a:lnTo>
                  <a:pt x="1934" y="3339"/>
                </a:lnTo>
                <a:lnTo>
                  <a:pt x="1927" y="3304"/>
                </a:lnTo>
                <a:lnTo>
                  <a:pt x="1993" y="3290"/>
                </a:lnTo>
                <a:close/>
                <a:moveTo>
                  <a:pt x="2095" y="3631"/>
                </a:moveTo>
                <a:lnTo>
                  <a:pt x="2123" y="3579"/>
                </a:lnTo>
                <a:lnTo>
                  <a:pt x="2119" y="3592"/>
                </a:lnTo>
                <a:lnTo>
                  <a:pt x="2132" y="3385"/>
                </a:lnTo>
                <a:lnTo>
                  <a:pt x="2199" y="3389"/>
                </a:lnTo>
                <a:lnTo>
                  <a:pt x="2185" y="3597"/>
                </a:lnTo>
                <a:cubicBezTo>
                  <a:pt x="2185" y="3601"/>
                  <a:pt x="2184" y="3606"/>
                  <a:pt x="2181" y="3610"/>
                </a:cubicBezTo>
                <a:lnTo>
                  <a:pt x="2153" y="3662"/>
                </a:lnTo>
                <a:lnTo>
                  <a:pt x="2095" y="3631"/>
                </a:lnTo>
                <a:close/>
                <a:moveTo>
                  <a:pt x="2150" y="3185"/>
                </a:moveTo>
                <a:lnTo>
                  <a:pt x="2178" y="2919"/>
                </a:lnTo>
                <a:lnTo>
                  <a:pt x="2244" y="2926"/>
                </a:lnTo>
                <a:lnTo>
                  <a:pt x="2216" y="3192"/>
                </a:lnTo>
                <a:lnTo>
                  <a:pt x="2150" y="3185"/>
                </a:lnTo>
                <a:close/>
                <a:moveTo>
                  <a:pt x="2197" y="2721"/>
                </a:moveTo>
                <a:lnTo>
                  <a:pt x="2220" y="2455"/>
                </a:lnTo>
                <a:lnTo>
                  <a:pt x="2286" y="2461"/>
                </a:lnTo>
                <a:lnTo>
                  <a:pt x="2263" y="2727"/>
                </a:lnTo>
                <a:lnTo>
                  <a:pt x="2197" y="2721"/>
                </a:lnTo>
                <a:close/>
                <a:moveTo>
                  <a:pt x="2237" y="2256"/>
                </a:moveTo>
                <a:lnTo>
                  <a:pt x="2259" y="1990"/>
                </a:lnTo>
                <a:lnTo>
                  <a:pt x="2326" y="1996"/>
                </a:lnTo>
                <a:lnTo>
                  <a:pt x="2304" y="2262"/>
                </a:lnTo>
                <a:lnTo>
                  <a:pt x="2237" y="2256"/>
                </a:lnTo>
                <a:close/>
                <a:moveTo>
                  <a:pt x="2276" y="1791"/>
                </a:moveTo>
                <a:lnTo>
                  <a:pt x="2284" y="1685"/>
                </a:lnTo>
                <a:lnTo>
                  <a:pt x="2297" y="1525"/>
                </a:lnTo>
                <a:lnTo>
                  <a:pt x="2364" y="1531"/>
                </a:lnTo>
                <a:lnTo>
                  <a:pt x="2351" y="1691"/>
                </a:lnTo>
                <a:lnTo>
                  <a:pt x="2342" y="1797"/>
                </a:lnTo>
                <a:lnTo>
                  <a:pt x="2276" y="1791"/>
                </a:lnTo>
                <a:close/>
                <a:moveTo>
                  <a:pt x="2314" y="1326"/>
                </a:moveTo>
                <a:lnTo>
                  <a:pt x="2323" y="1207"/>
                </a:lnTo>
                <a:lnTo>
                  <a:pt x="2347" y="1059"/>
                </a:lnTo>
                <a:lnTo>
                  <a:pt x="2413" y="1069"/>
                </a:lnTo>
                <a:lnTo>
                  <a:pt x="2390" y="1212"/>
                </a:lnTo>
                <a:lnTo>
                  <a:pt x="2380" y="1331"/>
                </a:lnTo>
                <a:lnTo>
                  <a:pt x="2314" y="1326"/>
                </a:lnTo>
                <a:close/>
                <a:moveTo>
                  <a:pt x="2390" y="856"/>
                </a:moveTo>
                <a:lnTo>
                  <a:pt x="2404" y="825"/>
                </a:lnTo>
                <a:cubicBezTo>
                  <a:pt x="2410" y="812"/>
                  <a:pt x="2424" y="804"/>
                  <a:pt x="2438" y="806"/>
                </a:cubicBezTo>
                <a:cubicBezTo>
                  <a:pt x="2452" y="807"/>
                  <a:pt x="2463" y="817"/>
                  <a:pt x="2467" y="831"/>
                </a:cubicBezTo>
                <a:lnTo>
                  <a:pt x="2506" y="984"/>
                </a:lnTo>
                <a:lnTo>
                  <a:pt x="2519" y="1060"/>
                </a:lnTo>
                <a:lnTo>
                  <a:pt x="2453" y="1072"/>
                </a:lnTo>
                <a:lnTo>
                  <a:pt x="2441" y="1001"/>
                </a:lnTo>
                <a:lnTo>
                  <a:pt x="2402" y="847"/>
                </a:lnTo>
                <a:lnTo>
                  <a:pt x="2465" y="853"/>
                </a:lnTo>
                <a:lnTo>
                  <a:pt x="2451" y="884"/>
                </a:lnTo>
                <a:lnTo>
                  <a:pt x="2390" y="856"/>
                </a:lnTo>
                <a:close/>
                <a:moveTo>
                  <a:pt x="2553" y="1257"/>
                </a:moveTo>
                <a:lnTo>
                  <a:pt x="2555" y="1267"/>
                </a:lnTo>
                <a:lnTo>
                  <a:pt x="2589" y="1523"/>
                </a:lnTo>
                <a:lnTo>
                  <a:pt x="2523" y="1532"/>
                </a:lnTo>
                <a:lnTo>
                  <a:pt x="2489" y="1278"/>
                </a:lnTo>
                <a:lnTo>
                  <a:pt x="2488" y="1269"/>
                </a:lnTo>
                <a:lnTo>
                  <a:pt x="2553" y="1257"/>
                </a:lnTo>
                <a:close/>
                <a:moveTo>
                  <a:pt x="2615" y="1721"/>
                </a:moveTo>
                <a:lnTo>
                  <a:pt x="2650" y="1986"/>
                </a:lnTo>
                <a:lnTo>
                  <a:pt x="2583" y="1994"/>
                </a:lnTo>
                <a:lnTo>
                  <a:pt x="2549" y="1730"/>
                </a:lnTo>
                <a:lnTo>
                  <a:pt x="2615" y="1721"/>
                </a:lnTo>
                <a:close/>
                <a:moveTo>
                  <a:pt x="2665" y="2187"/>
                </a:moveTo>
                <a:lnTo>
                  <a:pt x="2672" y="2291"/>
                </a:lnTo>
                <a:lnTo>
                  <a:pt x="2671" y="2286"/>
                </a:lnTo>
                <a:lnTo>
                  <a:pt x="2710" y="2443"/>
                </a:lnTo>
                <a:lnTo>
                  <a:pt x="2645" y="2459"/>
                </a:lnTo>
                <a:lnTo>
                  <a:pt x="2607" y="2301"/>
                </a:lnTo>
                <a:cubicBezTo>
                  <a:pt x="2606" y="2300"/>
                  <a:pt x="2606" y="2298"/>
                  <a:pt x="2606" y="2296"/>
                </a:cubicBezTo>
                <a:lnTo>
                  <a:pt x="2599" y="2192"/>
                </a:lnTo>
                <a:lnTo>
                  <a:pt x="2665" y="2187"/>
                </a:lnTo>
                <a:close/>
                <a:moveTo>
                  <a:pt x="2785" y="2617"/>
                </a:moveTo>
                <a:lnTo>
                  <a:pt x="2814" y="2665"/>
                </a:lnTo>
                <a:lnTo>
                  <a:pt x="2855" y="2759"/>
                </a:lnTo>
                <a:lnTo>
                  <a:pt x="2885" y="2852"/>
                </a:lnTo>
                <a:lnTo>
                  <a:pt x="2882" y="2846"/>
                </a:lnTo>
                <a:lnTo>
                  <a:pt x="2891" y="2860"/>
                </a:lnTo>
                <a:lnTo>
                  <a:pt x="2834" y="2895"/>
                </a:lnTo>
                <a:lnTo>
                  <a:pt x="2825" y="2880"/>
                </a:lnTo>
                <a:cubicBezTo>
                  <a:pt x="2823" y="2878"/>
                  <a:pt x="2822" y="2875"/>
                  <a:pt x="2822" y="2873"/>
                </a:cubicBezTo>
                <a:lnTo>
                  <a:pt x="2794" y="2786"/>
                </a:lnTo>
                <a:lnTo>
                  <a:pt x="2757" y="2699"/>
                </a:lnTo>
                <a:lnTo>
                  <a:pt x="2728" y="2651"/>
                </a:lnTo>
                <a:lnTo>
                  <a:pt x="2785" y="2617"/>
                </a:lnTo>
                <a:close/>
                <a:moveTo>
                  <a:pt x="2953" y="2919"/>
                </a:moveTo>
                <a:lnTo>
                  <a:pt x="2963" y="2906"/>
                </a:lnTo>
                <a:lnTo>
                  <a:pt x="2958" y="2917"/>
                </a:lnTo>
                <a:lnTo>
                  <a:pt x="3006" y="2745"/>
                </a:lnTo>
                <a:lnTo>
                  <a:pt x="3017" y="2678"/>
                </a:lnTo>
                <a:lnTo>
                  <a:pt x="3083" y="2690"/>
                </a:lnTo>
                <a:lnTo>
                  <a:pt x="3070" y="2763"/>
                </a:lnTo>
                <a:lnTo>
                  <a:pt x="3022" y="2935"/>
                </a:lnTo>
                <a:cubicBezTo>
                  <a:pt x="3021" y="2939"/>
                  <a:pt x="3019" y="2943"/>
                  <a:pt x="3016" y="2946"/>
                </a:cubicBezTo>
                <a:lnTo>
                  <a:pt x="3006" y="2960"/>
                </a:lnTo>
                <a:lnTo>
                  <a:pt x="2953" y="2919"/>
                </a:lnTo>
                <a:close/>
                <a:moveTo>
                  <a:pt x="3051" y="2481"/>
                </a:moveTo>
                <a:lnTo>
                  <a:pt x="3054" y="2460"/>
                </a:lnTo>
                <a:lnTo>
                  <a:pt x="3066" y="2219"/>
                </a:lnTo>
                <a:lnTo>
                  <a:pt x="3133" y="2222"/>
                </a:lnTo>
                <a:lnTo>
                  <a:pt x="3120" y="2471"/>
                </a:lnTo>
                <a:lnTo>
                  <a:pt x="3116" y="2492"/>
                </a:lnTo>
                <a:lnTo>
                  <a:pt x="3051" y="2481"/>
                </a:lnTo>
                <a:close/>
                <a:moveTo>
                  <a:pt x="3080" y="2017"/>
                </a:moveTo>
                <a:lnTo>
                  <a:pt x="3114" y="1753"/>
                </a:lnTo>
                <a:lnTo>
                  <a:pt x="3180" y="1761"/>
                </a:lnTo>
                <a:lnTo>
                  <a:pt x="3147" y="2025"/>
                </a:lnTo>
                <a:lnTo>
                  <a:pt x="3080" y="2017"/>
                </a:lnTo>
                <a:close/>
                <a:moveTo>
                  <a:pt x="3142" y="1554"/>
                </a:moveTo>
                <a:lnTo>
                  <a:pt x="3171" y="1358"/>
                </a:lnTo>
                <a:lnTo>
                  <a:pt x="3187" y="1289"/>
                </a:lnTo>
                <a:lnTo>
                  <a:pt x="3252" y="1303"/>
                </a:lnTo>
                <a:lnTo>
                  <a:pt x="3237" y="1368"/>
                </a:lnTo>
                <a:lnTo>
                  <a:pt x="3208" y="1564"/>
                </a:lnTo>
                <a:lnTo>
                  <a:pt x="3142" y="1554"/>
                </a:lnTo>
                <a:close/>
                <a:moveTo>
                  <a:pt x="3258" y="1089"/>
                </a:moveTo>
                <a:lnTo>
                  <a:pt x="3266" y="1079"/>
                </a:lnTo>
                <a:cubicBezTo>
                  <a:pt x="3274" y="1070"/>
                  <a:pt x="3286" y="1066"/>
                  <a:pt x="3298" y="1068"/>
                </a:cubicBezTo>
                <a:cubicBezTo>
                  <a:pt x="3310" y="1071"/>
                  <a:pt x="3320" y="1079"/>
                  <a:pt x="3323" y="1091"/>
                </a:cubicBezTo>
                <a:lnTo>
                  <a:pt x="3353" y="1181"/>
                </a:lnTo>
                <a:lnTo>
                  <a:pt x="3393" y="1336"/>
                </a:lnTo>
                <a:lnTo>
                  <a:pt x="3328" y="1353"/>
                </a:lnTo>
                <a:lnTo>
                  <a:pt x="3289" y="1201"/>
                </a:lnTo>
                <a:lnTo>
                  <a:pt x="3260" y="1111"/>
                </a:lnTo>
                <a:lnTo>
                  <a:pt x="3317" y="1123"/>
                </a:lnTo>
                <a:lnTo>
                  <a:pt x="3308" y="1133"/>
                </a:lnTo>
                <a:lnTo>
                  <a:pt x="3258" y="1089"/>
                </a:lnTo>
                <a:close/>
                <a:moveTo>
                  <a:pt x="3431" y="1535"/>
                </a:moveTo>
                <a:lnTo>
                  <a:pt x="3441" y="1592"/>
                </a:lnTo>
                <a:lnTo>
                  <a:pt x="3490" y="1789"/>
                </a:lnTo>
                <a:lnTo>
                  <a:pt x="3488" y="1783"/>
                </a:lnTo>
                <a:lnTo>
                  <a:pt x="3489" y="1787"/>
                </a:lnTo>
                <a:lnTo>
                  <a:pt x="3429" y="1814"/>
                </a:lnTo>
                <a:lnTo>
                  <a:pt x="3427" y="1810"/>
                </a:lnTo>
                <a:cubicBezTo>
                  <a:pt x="3426" y="1808"/>
                  <a:pt x="3425" y="1806"/>
                  <a:pt x="3425" y="1804"/>
                </a:cubicBezTo>
                <a:lnTo>
                  <a:pt x="3376" y="1604"/>
                </a:lnTo>
                <a:lnTo>
                  <a:pt x="3366" y="1547"/>
                </a:lnTo>
                <a:lnTo>
                  <a:pt x="3431" y="1535"/>
                </a:lnTo>
                <a:close/>
                <a:moveTo>
                  <a:pt x="3521" y="1901"/>
                </a:moveTo>
                <a:lnTo>
                  <a:pt x="3548" y="1867"/>
                </a:lnTo>
                <a:lnTo>
                  <a:pt x="3544" y="1873"/>
                </a:lnTo>
                <a:lnTo>
                  <a:pt x="3592" y="1765"/>
                </a:lnTo>
                <a:lnTo>
                  <a:pt x="3627" y="1669"/>
                </a:lnTo>
                <a:lnTo>
                  <a:pt x="3689" y="1692"/>
                </a:lnTo>
                <a:lnTo>
                  <a:pt x="3653" y="1792"/>
                </a:lnTo>
                <a:lnTo>
                  <a:pt x="3605" y="1901"/>
                </a:lnTo>
                <a:cubicBezTo>
                  <a:pt x="3603" y="1903"/>
                  <a:pt x="3602" y="1905"/>
                  <a:pt x="3601" y="1907"/>
                </a:cubicBezTo>
                <a:lnTo>
                  <a:pt x="3574" y="1942"/>
                </a:lnTo>
                <a:lnTo>
                  <a:pt x="3521" y="1901"/>
                </a:lnTo>
                <a:close/>
                <a:moveTo>
                  <a:pt x="3722" y="1486"/>
                </a:moveTo>
                <a:lnTo>
                  <a:pt x="3731" y="1472"/>
                </a:lnTo>
                <a:cubicBezTo>
                  <a:pt x="3736" y="1463"/>
                  <a:pt x="3745" y="1458"/>
                  <a:pt x="3755" y="1456"/>
                </a:cubicBezTo>
                <a:cubicBezTo>
                  <a:pt x="3765" y="1455"/>
                  <a:pt x="3775" y="1458"/>
                  <a:pt x="3782" y="1465"/>
                </a:cubicBezTo>
                <a:lnTo>
                  <a:pt x="3811" y="1492"/>
                </a:lnTo>
                <a:cubicBezTo>
                  <a:pt x="3815" y="1496"/>
                  <a:pt x="3818" y="1500"/>
                  <a:pt x="3819" y="1505"/>
                </a:cubicBezTo>
                <a:lnTo>
                  <a:pt x="3868" y="1631"/>
                </a:lnTo>
                <a:cubicBezTo>
                  <a:pt x="3869" y="1633"/>
                  <a:pt x="3869" y="1635"/>
                  <a:pt x="3870" y="1637"/>
                </a:cubicBezTo>
                <a:lnTo>
                  <a:pt x="3884" y="1710"/>
                </a:lnTo>
                <a:lnTo>
                  <a:pt x="3819" y="1723"/>
                </a:lnTo>
                <a:lnTo>
                  <a:pt x="3804" y="1649"/>
                </a:lnTo>
                <a:lnTo>
                  <a:pt x="3806" y="1655"/>
                </a:lnTo>
                <a:lnTo>
                  <a:pt x="3757" y="1528"/>
                </a:lnTo>
                <a:lnTo>
                  <a:pt x="3766" y="1541"/>
                </a:lnTo>
                <a:lnTo>
                  <a:pt x="3737" y="1514"/>
                </a:lnTo>
                <a:lnTo>
                  <a:pt x="3788" y="1507"/>
                </a:lnTo>
                <a:lnTo>
                  <a:pt x="3779" y="1521"/>
                </a:lnTo>
                <a:lnTo>
                  <a:pt x="3722" y="1486"/>
                </a:lnTo>
                <a:close/>
                <a:moveTo>
                  <a:pt x="3921" y="1907"/>
                </a:moveTo>
                <a:lnTo>
                  <a:pt x="3958" y="2116"/>
                </a:lnTo>
                <a:lnTo>
                  <a:pt x="3966" y="2171"/>
                </a:lnTo>
                <a:lnTo>
                  <a:pt x="3900" y="2181"/>
                </a:lnTo>
                <a:lnTo>
                  <a:pt x="3892" y="2128"/>
                </a:lnTo>
                <a:lnTo>
                  <a:pt x="3856" y="1918"/>
                </a:lnTo>
                <a:lnTo>
                  <a:pt x="3921" y="1907"/>
                </a:lnTo>
                <a:close/>
                <a:moveTo>
                  <a:pt x="3995" y="2369"/>
                </a:moveTo>
                <a:lnTo>
                  <a:pt x="4006" y="2442"/>
                </a:lnTo>
                <a:lnTo>
                  <a:pt x="4020" y="2637"/>
                </a:lnTo>
                <a:lnTo>
                  <a:pt x="3954" y="2641"/>
                </a:lnTo>
                <a:lnTo>
                  <a:pt x="3940" y="2452"/>
                </a:lnTo>
                <a:lnTo>
                  <a:pt x="3929" y="2378"/>
                </a:lnTo>
                <a:lnTo>
                  <a:pt x="3995" y="2369"/>
                </a:lnTo>
                <a:close/>
                <a:moveTo>
                  <a:pt x="4055" y="2825"/>
                </a:moveTo>
                <a:lnTo>
                  <a:pt x="4074" y="2890"/>
                </a:lnTo>
                <a:lnTo>
                  <a:pt x="4042" y="2865"/>
                </a:lnTo>
                <a:lnTo>
                  <a:pt x="4090" y="2865"/>
                </a:lnTo>
                <a:lnTo>
                  <a:pt x="4058" y="2891"/>
                </a:lnTo>
                <a:lnTo>
                  <a:pt x="4091" y="2744"/>
                </a:lnTo>
                <a:lnTo>
                  <a:pt x="4156" y="2759"/>
                </a:lnTo>
                <a:lnTo>
                  <a:pt x="4123" y="2906"/>
                </a:lnTo>
                <a:cubicBezTo>
                  <a:pt x="4119" y="2921"/>
                  <a:pt x="4106" y="2932"/>
                  <a:pt x="4090" y="2932"/>
                </a:cubicBezTo>
                <a:lnTo>
                  <a:pt x="4042" y="2932"/>
                </a:lnTo>
                <a:cubicBezTo>
                  <a:pt x="4027" y="2932"/>
                  <a:pt x="4014" y="2922"/>
                  <a:pt x="4010" y="2908"/>
                </a:cubicBezTo>
                <a:lnTo>
                  <a:pt x="3991" y="2844"/>
                </a:lnTo>
                <a:lnTo>
                  <a:pt x="4055" y="2825"/>
                </a:lnTo>
                <a:close/>
                <a:moveTo>
                  <a:pt x="4120" y="2550"/>
                </a:moveTo>
                <a:lnTo>
                  <a:pt x="4150" y="2285"/>
                </a:lnTo>
                <a:lnTo>
                  <a:pt x="4216" y="2293"/>
                </a:lnTo>
                <a:lnTo>
                  <a:pt x="4187" y="2558"/>
                </a:lnTo>
                <a:lnTo>
                  <a:pt x="4120" y="2550"/>
                </a:lnTo>
                <a:close/>
                <a:moveTo>
                  <a:pt x="4165" y="2087"/>
                </a:moveTo>
                <a:lnTo>
                  <a:pt x="4183" y="1821"/>
                </a:lnTo>
                <a:lnTo>
                  <a:pt x="4249" y="1826"/>
                </a:lnTo>
                <a:lnTo>
                  <a:pt x="4232" y="2092"/>
                </a:lnTo>
                <a:lnTo>
                  <a:pt x="4165" y="2087"/>
                </a:lnTo>
                <a:close/>
                <a:moveTo>
                  <a:pt x="4195" y="1622"/>
                </a:moveTo>
                <a:lnTo>
                  <a:pt x="4208" y="1356"/>
                </a:lnTo>
                <a:lnTo>
                  <a:pt x="4274" y="1359"/>
                </a:lnTo>
                <a:lnTo>
                  <a:pt x="4262" y="1625"/>
                </a:lnTo>
                <a:lnTo>
                  <a:pt x="4195" y="1622"/>
                </a:lnTo>
                <a:close/>
                <a:moveTo>
                  <a:pt x="4217" y="1156"/>
                </a:moveTo>
                <a:lnTo>
                  <a:pt x="4223" y="1036"/>
                </a:lnTo>
                <a:lnTo>
                  <a:pt x="4235" y="889"/>
                </a:lnTo>
                <a:lnTo>
                  <a:pt x="4302" y="895"/>
                </a:lnTo>
                <a:lnTo>
                  <a:pt x="4289" y="1039"/>
                </a:lnTo>
                <a:lnTo>
                  <a:pt x="4284" y="1159"/>
                </a:lnTo>
                <a:lnTo>
                  <a:pt x="4217" y="1156"/>
                </a:lnTo>
                <a:close/>
                <a:moveTo>
                  <a:pt x="4252" y="690"/>
                </a:moveTo>
                <a:lnTo>
                  <a:pt x="4271" y="466"/>
                </a:lnTo>
                <a:lnTo>
                  <a:pt x="4276" y="423"/>
                </a:lnTo>
                <a:lnTo>
                  <a:pt x="4342" y="431"/>
                </a:lnTo>
                <a:lnTo>
                  <a:pt x="4338" y="471"/>
                </a:lnTo>
                <a:lnTo>
                  <a:pt x="4319" y="695"/>
                </a:lnTo>
                <a:lnTo>
                  <a:pt x="4252" y="690"/>
                </a:lnTo>
                <a:close/>
                <a:moveTo>
                  <a:pt x="4299" y="224"/>
                </a:moveTo>
                <a:lnTo>
                  <a:pt x="4310" y="121"/>
                </a:lnTo>
                <a:cubicBezTo>
                  <a:pt x="4311" y="117"/>
                  <a:pt x="4312" y="113"/>
                  <a:pt x="4314" y="109"/>
                </a:cubicBezTo>
                <a:lnTo>
                  <a:pt x="4363" y="19"/>
                </a:lnTo>
                <a:cubicBezTo>
                  <a:pt x="4369" y="7"/>
                  <a:pt x="4383" y="0"/>
                  <a:pt x="4396" y="2"/>
                </a:cubicBezTo>
                <a:cubicBezTo>
                  <a:pt x="4410" y="3"/>
                  <a:pt x="4421" y="13"/>
                  <a:pt x="4425" y="27"/>
                </a:cubicBezTo>
                <a:lnTo>
                  <a:pt x="4439" y="86"/>
                </a:lnTo>
                <a:lnTo>
                  <a:pt x="4374" y="101"/>
                </a:lnTo>
                <a:lnTo>
                  <a:pt x="4360" y="43"/>
                </a:lnTo>
                <a:lnTo>
                  <a:pt x="4422" y="51"/>
                </a:lnTo>
                <a:lnTo>
                  <a:pt x="4373" y="141"/>
                </a:lnTo>
                <a:lnTo>
                  <a:pt x="4377" y="129"/>
                </a:lnTo>
                <a:lnTo>
                  <a:pt x="4365" y="232"/>
                </a:lnTo>
                <a:lnTo>
                  <a:pt x="4299" y="224"/>
                </a:lnTo>
                <a:close/>
                <a:moveTo>
                  <a:pt x="4477" y="288"/>
                </a:moveTo>
                <a:lnTo>
                  <a:pt x="4488" y="554"/>
                </a:lnTo>
                <a:lnTo>
                  <a:pt x="4422" y="557"/>
                </a:lnTo>
                <a:lnTo>
                  <a:pt x="4410" y="291"/>
                </a:lnTo>
                <a:lnTo>
                  <a:pt x="4477" y="288"/>
                </a:lnTo>
                <a:close/>
                <a:moveTo>
                  <a:pt x="4499" y="753"/>
                </a:moveTo>
                <a:lnTo>
                  <a:pt x="4522" y="1018"/>
                </a:lnTo>
                <a:lnTo>
                  <a:pt x="4455" y="1024"/>
                </a:lnTo>
                <a:lnTo>
                  <a:pt x="4433" y="758"/>
                </a:lnTo>
                <a:lnTo>
                  <a:pt x="4499" y="753"/>
                </a:lnTo>
                <a:close/>
                <a:moveTo>
                  <a:pt x="4538" y="1218"/>
                </a:moveTo>
                <a:lnTo>
                  <a:pt x="4542" y="1270"/>
                </a:lnTo>
                <a:lnTo>
                  <a:pt x="4559" y="1484"/>
                </a:lnTo>
                <a:lnTo>
                  <a:pt x="4493" y="1489"/>
                </a:lnTo>
                <a:lnTo>
                  <a:pt x="4476" y="1275"/>
                </a:lnTo>
                <a:lnTo>
                  <a:pt x="4472" y="1223"/>
                </a:lnTo>
                <a:lnTo>
                  <a:pt x="4538" y="1218"/>
                </a:lnTo>
                <a:close/>
                <a:moveTo>
                  <a:pt x="4575" y="1683"/>
                </a:moveTo>
                <a:lnTo>
                  <a:pt x="4591" y="1884"/>
                </a:lnTo>
                <a:lnTo>
                  <a:pt x="4597" y="1948"/>
                </a:lnTo>
                <a:lnTo>
                  <a:pt x="4531" y="1955"/>
                </a:lnTo>
                <a:lnTo>
                  <a:pt x="4525" y="1890"/>
                </a:lnTo>
                <a:lnTo>
                  <a:pt x="4509" y="1688"/>
                </a:lnTo>
                <a:lnTo>
                  <a:pt x="4575" y="1683"/>
                </a:lnTo>
                <a:close/>
                <a:moveTo>
                  <a:pt x="4617" y="2147"/>
                </a:moveTo>
                <a:lnTo>
                  <a:pt x="4640" y="2381"/>
                </a:lnTo>
                <a:lnTo>
                  <a:pt x="4644" y="2411"/>
                </a:lnTo>
                <a:lnTo>
                  <a:pt x="4578" y="2420"/>
                </a:lnTo>
                <a:lnTo>
                  <a:pt x="4573" y="2387"/>
                </a:lnTo>
                <a:lnTo>
                  <a:pt x="4550" y="2154"/>
                </a:lnTo>
                <a:lnTo>
                  <a:pt x="4617" y="2147"/>
                </a:lnTo>
                <a:close/>
                <a:moveTo>
                  <a:pt x="4672" y="2609"/>
                </a:moveTo>
                <a:lnTo>
                  <a:pt x="4688" y="2722"/>
                </a:lnTo>
                <a:lnTo>
                  <a:pt x="4708" y="2858"/>
                </a:lnTo>
                <a:lnTo>
                  <a:pt x="4659" y="2834"/>
                </a:lnTo>
                <a:lnTo>
                  <a:pt x="4672" y="2826"/>
                </a:lnTo>
                <a:lnTo>
                  <a:pt x="4704" y="2884"/>
                </a:lnTo>
                <a:lnTo>
                  <a:pt x="4691" y="2892"/>
                </a:lnTo>
                <a:cubicBezTo>
                  <a:pt x="4681" y="2897"/>
                  <a:pt x="4670" y="2897"/>
                  <a:pt x="4660" y="2893"/>
                </a:cubicBezTo>
                <a:cubicBezTo>
                  <a:pt x="4650" y="2888"/>
                  <a:pt x="4643" y="2878"/>
                  <a:pt x="4642" y="2867"/>
                </a:cubicBezTo>
                <a:lnTo>
                  <a:pt x="4622" y="2732"/>
                </a:lnTo>
                <a:lnTo>
                  <a:pt x="4606" y="2618"/>
                </a:lnTo>
                <a:lnTo>
                  <a:pt x="4672" y="2609"/>
                </a:lnTo>
                <a:close/>
                <a:moveTo>
                  <a:pt x="4750" y="2680"/>
                </a:moveTo>
                <a:lnTo>
                  <a:pt x="4779" y="2565"/>
                </a:lnTo>
                <a:cubicBezTo>
                  <a:pt x="4779" y="2563"/>
                  <a:pt x="4780" y="2562"/>
                  <a:pt x="4781" y="2560"/>
                </a:cubicBezTo>
                <a:lnTo>
                  <a:pt x="4829" y="2451"/>
                </a:lnTo>
                <a:cubicBezTo>
                  <a:pt x="4832" y="2446"/>
                  <a:pt x="4835" y="2442"/>
                  <a:pt x="4840" y="2438"/>
                </a:cubicBezTo>
                <a:lnTo>
                  <a:pt x="4864" y="2421"/>
                </a:lnTo>
                <a:lnTo>
                  <a:pt x="4904" y="2474"/>
                </a:lnTo>
                <a:lnTo>
                  <a:pt x="4880" y="2492"/>
                </a:lnTo>
                <a:lnTo>
                  <a:pt x="4890" y="2479"/>
                </a:lnTo>
                <a:lnTo>
                  <a:pt x="4841" y="2587"/>
                </a:lnTo>
                <a:lnTo>
                  <a:pt x="4843" y="2582"/>
                </a:lnTo>
                <a:lnTo>
                  <a:pt x="4814" y="2696"/>
                </a:lnTo>
                <a:lnTo>
                  <a:pt x="4750" y="2680"/>
                </a:lnTo>
                <a:close/>
                <a:moveTo>
                  <a:pt x="5026" y="2555"/>
                </a:moveTo>
                <a:lnTo>
                  <a:pt x="5054" y="2602"/>
                </a:lnTo>
                <a:lnTo>
                  <a:pt x="5100" y="2662"/>
                </a:lnTo>
                <a:lnTo>
                  <a:pt x="5074" y="2649"/>
                </a:lnTo>
                <a:lnTo>
                  <a:pt x="5123" y="2649"/>
                </a:lnTo>
                <a:lnTo>
                  <a:pt x="5093" y="2666"/>
                </a:lnTo>
                <a:lnTo>
                  <a:pt x="5113" y="2630"/>
                </a:lnTo>
                <a:lnTo>
                  <a:pt x="5133" y="2593"/>
                </a:lnTo>
                <a:lnTo>
                  <a:pt x="5192" y="2624"/>
                </a:lnTo>
                <a:lnTo>
                  <a:pt x="5172" y="2662"/>
                </a:lnTo>
                <a:lnTo>
                  <a:pt x="5152" y="2698"/>
                </a:lnTo>
                <a:cubicBezTo>
                  <a:pt x="5146" y="2709"/>
                  <a:pt x="5135" y="2715"/>
                  <a:pt x="5123" y="2715"/>
                </a:cubicBezTo>
                <a:lnTo>
                  <a:pt x="5074" y="2715"/>
                </a:lnTo>
                <a:cubicBezTo>
                  <a:pt x="5064" y="2715"/>
                  <a:pt x="5054" y="2710"/>
                  <a:pt x="5048" y="2702"/>
                </a:cubicBezTo>
                <a:lnTo>
                  <a:pt x="4997" y="2636"/>
                </a:lnTo>
                <a:lnTo>
                  <a:pt x="4969" y="2589"/>
                </a:lnTo>
                <a:lnTo>
                  <a:pt x="5026" y="2555"/>
                </a:lnTo>
                <a:close/>
                <a:moveTo>
                  <a:pt x="5217" y="2415"/>
                </a:moveTo>
                <a:lnTo>
                  <a:pt x="5248" y="2344"/>
                </a:lnTo>
                <a:cubicBezTo>
                  <a:pt x="5252" y="2335"/>
                  <a:pt x="5258" y="2329"/>
                  <a:pt x="5267" y="2325"/>
                </a:cubicBezTo>
                <a:lnTo>
                  <a:pt x="5316" y="2307"/>
                </a:lnTo>
                <a:cubicBezTo>
                  <a:pt x="5332" y="2301"/>
                  <a:pt x="5350" y="2309"/>
                  <a:pt x="5358" y="2325"/>
                </a:cubicBezTo>
                <a:lnTo>
                  <a:pt x="5387" y="2388"/>
                </a:lnTo>
                <a:cubicBezTo>
                  <a:pt x="5388" y="2390"/>
                  <a:pt x="5388" y="2392"/>
                  <a:pt x="5389" y="2394"/>
                </a:cubicBezTo>
                <a:lnTo>
                  <a:pt x="5405" y="2459"/>
                </a:lnTo>
                <a:lnTo>
                  <a:pt x="5341" y="2476"/>
                </a:lnTo>
                <a:lnTo>
                  <a:pt x="5324" y="2410"/>
                </a:lnTo>
                <a:lnTo>
                  <a:pt x="5326" y="2416"/>
                </a:lnTo>
                <a:lnTo>
                  <a:pt x="5297" y="2353"/>
                </a:lnTo>
                <a:lnTo>
                  <a:pt x="5339" y="2370"/>
                </a:lnTo>
                <a:lnTo>
                  <a:pt x="5290" y="2388"/>
                </a:lnTo>
                <a:lnTo>
                  <a:pt x="5309" y="2370"/>
                </a:lnTo>
                <a:lnTo>
                  <a:pt x="5278" y="2441"/>
                </a:lnTo>
                <a:lnTo>
                  <a:pt x="5217" y="2415"/>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370480" y="4329000"/>
            <a:ext cx="733320" cy="606600"/>
          </a:xfrm>
          <a:custGeom>
            <a:avLst/>
            <a:gdLst/>
            <a:ahLst/>
            <a:rect l="l" t="t" r="r" b="b"/>
            <a:pathLst>
              <a:path w="3241" h="2662">
                <a:moveTo>
                  <a:pt x="65" y="1660"/>
                </a:moveTo>
                <a:lnTo>
                  <a:pt x="114" y="1895"/>
                </a:lnTo>
                <a:lnTo>
                  <a:pt x="118" y="1922"/>
                </a:lnTo>
                <a:lnTo>
                  <a:pt x="53" y="1933"/>
                </a:lnTo>
                <a:lnTo>
                  <a:pt x="49" y="1909"/>
                </a:lnTo>
                <a:lnTo>
                  <a:pt x="0" y="1673"/>
                </a:lnTo>
                <a:lnTo>
                  <a:pt x="65" y="1660"/>
                </a:lnTo>
                <a:close/>
                <a:moveTo>
                  <a:pt x="152" y="2120"/>
                </a:moveTo>
                <a:lnTo>
                  <a:pt x="163" y="2187"/>
                </a:lnTo>
                <a:lnTo>
                  <a:pt x="200" y="2381"/>
                </a:lnTo>
                <a:lnTo>
                  <a:pt x="135" y="2394"/>
                </a:lnTo>
                <a:lnTo>
                  <a:pt x="97" y="2198"/>
                </a:lnTo>
                <a:lnTo>
                  <a:pt x="86" y="2131"/>
                </a:lnTo>
                <a:lnTo>
                  <a:pt x="152" y="2120"/>
                </a:lnTo>
                <a:close/>
                <a:moveTo>
                  <a:pt x="253" y="2570"/>
                </a:moveTo>
                <a:lnTo>
                  <a:pt x="259" y="2590"/>
                </a:lnTo>
                <a:lnTo>
                  <a:pt x="255" y="2581"/>
                </a:lnTo>
                <a:lnTo>
                  <a:pt x="274" y="2608"/>
                </a:lnTo>
                <a:lnTo>
                  <a:pt x="215" y="2617"/>
                </a:lnTo>
                <a:lnTo>
                  <a:pt x="264" y="2463"/>
                </a:lnTo>
                <a:lnTo>
                  <a:pt x="263" y="2468"/>
                </a:lnTo>
                <a:lnTo>
                  <a:pt x="271" y="2418"/>
                </a:lnTo>
                <a:lnTo>
                  <a:pt x="337" y="2429"/>
                </a:lnTo>
                <a:lnTo>
                  <a:pt x="329" y="2478"/>
                </a:lnTo>
                <a:cubicBezTo>
                  <a:pt x="328" y="2480"/>
                  <a:pt x="328" y="2482"/>
                  <a:pt x="328" y="2483"/>
                </a:cubicBezTo>
                <a:lnTo>
                  <a:pt x="279" y="2637"/>
                </a:lnTo>
                <a:cubicBezTo>
                  <a:pt x="275" y="2649"/>
                  <a:pt x="265" y="2658"/>
                  <a:pt x="252" y="2660"/>
                </a:cubicBezTo>
                <a:cubicBezTo>
                  <a:pt x="240" y="2662"/>
                  <a:pt x="227" y="2657"/>
                  <a:pt x="220" y="2647"/>
                </a:cubicBezTo>
                <a:lnTo>
                  <a:pt x="200" y="2619"/>
                </a:lnTo>
                <a:cubicBezTo>
                  <a:pt x="198" y="2617"/>
                  <a:pt x="197" y="2613"/>
                  <a:pt x="196" y="2610"/>
                </a:cubicBezTo>
                <a:lnTo>
                  <a:pt x="189" y="2590"/>
                </a:lnTo>
                <a:lnTo>
                  <a:pt x="253" y="2570"/>
                </a:lnTo>
                <a:close/>
                <a:moveTo>
                  <a:pt x="302" y="2221"/>
                </a:moveTo>
                <a:lnTo>
                  <a:pt x="312" y="2160"/>
                </a:lnTo>
                <a:lnTo>
                  <a:pt x="331" y="1958"/>
                </a:lnTo>
                <a:lnTo>
                  <a:pt x="397" y="1964"/>
                </a:lnTo>
                <a:lnTo>
                  <a:pt x="377" y="2170"/>
                </a:lnTo>
                <a:lnTo>
                  <a:pt x="368" y="2231"/>
                </a:lnTo>
                <a:lnTo>
                  <a:pt x="302" y="2221"/>
                </a:lnTo>
                <a:close/>
                <a:moveTo>
                  <a:pt x="350" y="1759"/>
                </a:moveTo>
                <a:lnTo>
                  <a:pt x="350" y="1754"/>
                </a:lnTo>
                <a:lnTo>
                  <a:pt x="382" y="1493"/>
                </a:lnTo>
                <a:lnTo>
                  <a:pt x="448" y="1501"/>
                </a:lnTo>
                <a:lnTo>
                  <a:pt x="417" y="1760"/>
                </a:lnTo>
                <a:lnTo>
                  <a:pt x="416" y="1765"/>
                </a:lnTo>
                <a:lnTo>
                  <a:pt x="350" y="1759"/>
                </a:lnTo>
                <a:close/>
                <a:moveTo>
                  <a:pt x="405" y="1295"/>
                </a:moveTo>
                <a:lnTo>
                  <a:pt x="428" y="1056"/>
                </a:lnTo>
                <a:cubicBezTo>
                  <a:pt x="429" y="1054"/>
                  <a:pt x="429" y="1052"/>
                  <a:pt x="430" y="1050"/>
                </a:cubicBezTo>
                <a:lnTo>
                  <a:pt x="437" y="1025"/>
                </a:lnTo>
                <a:lnTo>
                  <a:pt x="501" y="1043"/>
                </a:lnTo>
                <a:lnTo>
                  <a:pt x="494" y="1069"/>
                </a:lnTo>
                <a:lnTo>
                  <a:pt x="495" y="1063"/>
                </a:lnTo>
                <a:lnTo>
                  <a:pt x="471" y="1302"/>
                </a:lnTo>
                <a:lnTo>
                  <a:pt x="405" y="1295"/>
                </a:lnTo>
                <a:close/>
                <a:moveTo>
                  <a:pt x="586" y="979"/>
                </a:moveTo>
                <a:lnTo>
                  <a:pt x="630" y="1160"/>
                </a:lnTo>
                <a:lnTo>
                  <a:pt x="647" y="1240"/>
                </a:lnTo>
                <a:lnTo>
                  <a:pt x="582" y="1253"/>
                </a:lnTo>
                <a:lnTo>
                  <a:pt x="566" y="1176"/>
                </a:lnTo>
                <a:lnTo>
                  <a:pt x="521" y="995"/>
                </a:lnTo>
                <a:lnTo>
                  <a:pt x="586" y="979"/>
                </a:lnTo>
                <a:close/>
                <a:moveTo>
                  <a:pt x="683" y="1441"/>
                </a:moveTo>
                <a:lnTo>
                  <a:pt x="700" y="1646"/>
                </a:lnTo>
                <a:lnTo>
                  <a:pt x="695" y="1631"/>
                </a:lnTo>
                <a:lnTo>
                  <a:pt x="726" y="1683"/>
                </a:lnTo>
                <a:lnTo>
                  <a:pt x="669" y="1718"/>
                </a:lnTo>
                <a:lnTo>
                  <a:pt x="638" y="1666"/>
                </a:lnTo>
                <a:cubicBezTo>
                  <a:pt x="635" y="1661"/>
                  <a:pt x="634" y="1656"/>
                  <a:pt x="633" y="1651"/>
                </a:cubicBezTo>
                <a:lnTo>
                  <a:pt x="617" y="1446"/>
                </a:lnTo>
                <a:lnTo>
                  <a:pt x="683" y="1441"/>
                </a:lnTo>
                <a:close/>
                <a:moveTo>
                  <a:pt x="744" y="1573"/>
                </a:moveTo>
                <a:lnTo>
                  <a:pt x="780" y="1380"/>
                </a:lnTo>
                <a:lnTo>
                  <a:pt x="787" y="1313"/>
                </a:lnTo>
                <a:lnTo>
                  <a:pt x="853" y="1319"/>
                </a:lnTo>
                <a:lnTo>
                  <a:pt x="845" y="1392"/>
                </a:lnTo>
                <a:lnTo>
                  <a:pt x="810" y="1585"/>
                </a:lnTo>
                <a:lnTo>
                  <a:pt x="744" y="1573"/>
                </a:lnTo>
                <a:close/>
                <a:moveTo>
                  <a:pt x="808" y="1114"/>
                </a:moveTo>
                <a:lnTo>
                  <a:pt x="818" y="1011"/>
                </a:lnTo>
                <a:lnTo>
                  <a:pt x="837" y="848"/>
                </a:lnTo>
                <a:lnTo>
                  <a:pt x="904" y="856"/>
                </a:lnTo>
                <a:lnTo>
                  <a:pt x="885" y="1018"/>
                </a:lnTo>
                <a:lnTo>
                  <a:pt x="874" y="1121"/>
                </a:lnTo>
                <a:lnTo>
                  <a:pt x="808" y="1114"/>
                </a:lnTo>
                <a:close/>
                <a:moveTo>
                  <a:pt x="861" y="650"/>
                </a:moveTo>
                <a:lnTo>
                  <a:pt x="867" y="593"/>
                </a:lnTo>
                <a:lnTo>
                  <a:pt x="886" y="385"/>
                </a:lnTo>
                <a:lnTo>
                  <a:pt x="952" y="391"/>
                </a:lnTo>
                <a:lnTo>
                  <a:pt x="933" y="601"/>
                </a:lnTo>
                <a:lnTo>
                  <a:pt x="927" y="657"/>
                </a:lnTo>
                <a:lnTo>
                  <a:pt x="861" y="650"/>
                </a:lnTo>
                <a:close/>
                <a:moveTo>
                  <a:pt x="914" y="183"/>
                </a:moveTo>
                <a:lnTo>
                  <a:pt x="936" y="74"/>
                </a:lnTo>
                <a:cubicBezTo>
                  <a:pt x="937" y="67"/>
                  <a:pt x="941" y="61"/>
                  <a:pt x="946" y="56"/>
                </a:cubicBezTo>
                <a:lnTo>
                  <a:pt x="995" y="11"/>
                </a:lnTo>
                <a:cubicBezTo>
                  <a:pt x="1003" y="4"/>
                  <a:pt x="1014" y="0"/>
                  <a:pt x="1025" y="3"/>
                </a:cubicBezTo>
                <a:cubicBezTo>
                  <a:pt x="1036" y="5"/>
                  <a:pt x="1045" y="13"/>
                  <a:pt x="1049" y="24"/>
                </a:cubicBezTo>
                <a:lnTo>
                  <a:pt x="1080" y="106"/>
                </a:lnTo>
                <a:lnTo>
                  <a:pt x="1018" y="130"/>
                </a:lnTo>
                <a:lnTo>
                  <a:pt x="986" y="47"/>
                </a:lnTo>
                <a:lnTo>
                  <a:pt x="1040" y="60"/>
                </a:lnTo>
                <a:lnTo>
                  <a:pt x="991" y="105"/>
                </a:lnTo>
                <a:lnTo>
                  <a:pt x="1001" y="87"/>
                </a:lnTo>
                <a:lnTo>
                  <a:pt x="979" y="197"/>
                </a:lnTo>
                <a:lnTo>
                  <a:pt x="914" y="183"/>
                </a:lnTo>
                <a:close/>
                <a:moveTo>
                  <a:pt x="1132" y="304"/>
                </a:moveTo>
                <a:lnTo>
                  <a:pt x="1147" y="373"/>
                </a:lnTo>
                <a:lnTo>
                  <a:pt x="1164" y="573"/>
                </a:lnTo>
                <a:lnTo>
                  <a:pt x="1097" y="578"/>
                </a:lnTo>
                <a:lnTo>
                  <a:pt x="1082" y="387"/>
                </a:lnTo>
                <a:lnTo>
                  <a:pt x="1067" y="318"/>
                </a:lnTo>
                <a:lnTo>
                  <a:pt x="1132" y="304"/>
                </a:lnTo>
                <a:close/>
                <a:moveTo>
                  <a:pt x="1200" y="764"/>
                </a:moveTo>
                <a:lnTo>
                  <a:pt x="1216" y="835"/>
                </a:lnTo>
                <a:lnTo>
                  <a:pt x="1264" y="1005"/>
                </a:lnTo>
                <a:lnTo>
                  <a:pt x="1261" y="998"/>
                </a:lnTo>
                <a:lnTo>
                  <a:pt x="1269" y="1012"/>
                </a:lnTo>
                <a:lnTo>
                  <a:pt x="1210" y="1044"/>
                </a:lnTo>
                <a:lnTo>
                  <a:pt x="1203" y="1030"/>
                </a:lnTo>
                <a:cubicBezTo>
                  <a:pt x="1201" y="1028"/>
                  <a:pt x="1201" y="1026"/>
                  <a:pt x="1200" y="1023"/>
                </a:cubicBezTo>
                <a:lnTo>
                  <a:pt x="1151" y="849"/>
                </a:lnTo>
                <a:lnTo>
                  <a:pt x="1135" y="779"/>
                </a:lnTo>
                <a:lnTo>
                  <a:pt x="1200" y="764"/>
                </a:lnTo>
                <a:close/>
                <a:moveTo>
                  <a:pt x="1386" y="1157"/>
                </a:moveTo>
                <a:lnTo>
                  <a:pt x="1420" y="1189"/>
                </a:lnTo>
                <a:cubicBezTo>
                  <a:pt x="1423" y="1191"/>
                  <a:pt x="1425" y="1193"/>
                  <a:pt x="1426" y="1196"/>
                </a:cubicBezTo>
                <a:lnTo>
                  <a:pt x="1465" y="1259"/>
                </a:lnTo>
                <a:lnTo>
                  <a:pt x="1512" y="1320"/>
                </a:lnTo>
                <a:cubicBezTo>
                  <a:pt x="1513" y="1322"/>
                  <a:pt x="1515" y="1324"/>
                  <a:pt x="1516" y="1327"/>
                </a:cubicBezTo>
                <a:lnTo>
                  <a:pt x="1543" y="1386"/>
                </a:lnTo>
                <a:lnTo>
                  <a:pt x="1482" y="1414"/>
                </a:lnTo>
                <a:lnTo>
                  <a:pt x="1455" y="1354"/>
                </a:lnTo>
                <a:lnTo>
                  <a:pt x="1459" y="1361"/>
                </a:lnTo>
                <a:lnTo>
                  <a:pt x="1408" y="1294"/>
                </a:lnTo>
                <a:lnTo>
                  <a:pt x="1369" y="1231"/>
                </a:lnTo>
                <a:lnTo>
                  <a:pt x="1375" y="1238"/>
                </a:lnTo>
                <a:lnTo>
                  <a:pt x="1341" y="1206"/>
                </a:lnTo>
                <a:lnTo>
                  <a:pt x="1386" y="1157"/>
                </a:lnTo>
                <a:close/>
                <a:moveTo>
                  <a:pt x="1634" y="1566"/>
                </a:moveTo>
                <a:lnTo>
                  <a:pt x="1634" y="1566"/>
                </a:lnTo>
                <a:lnTo>
                  <a:pt x="1603" y="1543"/>
                </a:lnTo>
                <a:lnTo>
                  <a:pt x="1651" y="1543"/>
                </a:lnTo>
                <a:lnTo>
                  <a:pt x="1700" y="1543"/>
                </a:lnTo>
                <a:lnTo>
                  <a:pt x="1688" y="1545"/>
                </a:lnTo>
                <a:lnTo>
                  <a:pt x="1737" y="1527"/>
                </a:lnTo>
                <a:lnTo>
                  <a:pt x="1724" y="1536"/>
                </a:lnTo>
                <a:lnTo>
                  <a:pt x="1763" y="1491"/>
                </a:lnTo>
                <a:cubicBezTo>
                  <a:pt x="1765" y="1488"/>
                  <a:pt x="1767" y="1486"/>
                  <a:pt x="1770" y="1484"/>
                </a:cubicBezTo>
                <a:lnTo>
                  <a:pt x="1799" y="1466"/>
                </a:lnTo>
                <a:lnTo>
                  <a:pt x="1821" y="1454"/>
                </a:lnTo>
                <a:lnTo>
                  <a:pt x="1853" y="1512"/>
                </a:lnTo>
                <a:lnTo>
                  <a:pt x="1835" y="1523"/>
                </a:lnTo>
                <a:lnTo>
                  <a:pt x="1805" y="1541"/>
                </a:lnTo>
                <a:lnTo>
                  <a:pt x="1813" y="1534"/>
                </a:lnTo>
                <a:lnTo>
                  <a:pt x="1774" y="1580"/>
                </a:lnTo>
                <a:cubicBezTo>
                  <a:pt x="1770" y="1584"/>
                  <a:pt x="1766" y="1587"/>
                  <a:pt x="1760" y="1589"/>
                </a:cubicBezTo>
                <a:lnTo>
                  <a:pt x="1712" y="1607"/>
                </a:lnTo>
                <a:cubicBezTo>
                  <a:pt x="1708" y="1609"/>
                  <a:pt x="1704" y="1609"/>
                  <a:pt x="1700" y="1609"/>
                </a:cubicBezTo>
                <a:lnTo>
                  <a:pt x="1651" y="1609"/>
                </a:lnTo>
                <a:lnTo>
                  <a:pt x="1603" y="1609"/>
                </a:lnTo>
                <a:cubicBezTo>
                  <a:pt x="1588" y="1609"/>
                  <a:pt x="1575" y="1600"/>
                  <a:pt x="1571" y="1586"/>
                </a:cubicBezTo>
                <a:lnTo>
                  <a:pt x="1571" y="1586"/>
                </a:lnTo>
                <a:lnTo>
                  <a:pt x="1634" y="1566"/>
                </a:lnTo>
                <a:close/>
                <a:moveTo>
                  <a:pt x="1989" y="1393"/>
                </a:moveTo>
                <a:lnTo>
                  <a:pt x="1995" y="1384"/>
                </a:lnTo>
                <a:cubicBezTo>
                  <a:pt x="1999" y="1379"/>
                  <a:pt x="2004" y="1375"/>
                  <a:pt x="2010" y="1373"/>
                </a:cubicBezTo>
                <a:lnTo>
                  <a:pt x="2059" y="1354"/>
                </a:lnTo>
                <a:cubicBezTo>
                  <a:pt x="2063" y="1353"/>
                  <a:pt x="2067" y="1352"/>
                  <a:pt x="2071" y="1352"/>
                </a:cubicBezTo>
                <a:lnTo>
                  <a:pt x="2119" y="1352"/>
                </a:lnTo>
                <a:lnTo>
                  <a:pt x="2168" y="1352"/>
                </a:lnTo>
                <a:cubicBezTo>
                  <a:pt x="2172" y="1352"/>
                  <a:pt x="2176" y="1353"/>
                  <a:pt x="2180" y="1354"/>
                </a:cubicBezTo>
                <a:lnTo>
                  <a:pt x="2228" y="1373"/>
                </a:lnTo>
                <a:lnTo>
                  <a:pt x="2217" y="1370"/>
                </a:lnTo>
                <a:lnTo>
                  <a:pt x="2256" y="1370"/>
                </a:lnTo>
                <a:cubicBezTo>
                  <a:pt x="2264" y="1370"/>
                  <a:pt x="2272" y="1374"/>
                  <a:pt x="2279" y="1379"/>
                </a:cubicBezTo>
                <a:lnTo>
                  <a:pt x="2290" y="1390"/>
                </a:lnTo>
                <a:lnTo>
                  <a:pt x="2245" y="1439"/>
                </a:lnTo>
                <a:lnTo>
                  <a:pt x="2233" y="1428"/>
                </a:lnTo>
                <a:lnTo>
                  <a:pt x="2256" y="1437"/>
                </a:lnTo>
                <a:lnTo>
                  <a:pt x="2217" y="1437"/>
                </a:lnTo>
                <a:cubicBezTo>
                  <a:pt x="2213" y="1437"/>
                  <a:pt x="2209" y="1436"/>
                  <a:pt x="2205" y="1435"/>
                </a:cubicBezTo>
                <a:lnTo>
                  <a:pt x="2156" y="1417"/>
                </a:lnTo>
                <a:lnTo>
                  <a:pt x="2168" y="1419"/>
                </a:lnTo>
                <a:lnTo>
                  <a:pt x="2119" y="1419"/>
                </a:lnTo>
                <a:lnTo>
                  <a:pt x="2071" y="1419"/>
                </a:lnTo>
                <a:lnTo>
                  <a:pt x="2082" y="1417"/>
                </a:lnTo>
                <a:lnTo>
                  <a:pt x="2033" y="1435"/>
                </a:lnTo>
                <a:lnTo>
                  <a:pt x="2049" y="1423"/>
                </a:lnTo>
                <a:lnTo>
                  <a:pt x="2043" y="1432"/>
                </a:lnTo>
                <a:lnTo>
                  <a:pt x="1989" y="1393"/>
                </a:lnTo>
                <a:close/>
                <a:moveTo>
                  <a:pt x="2419" y="1343"/>
                </a:moveTo>
                <a:lnTo>
                  <a:pt x="2448" y="1316"/>
                </a:lnTo>
                <a:lnTo>
                  <a:pt x="2439" y="1331"/>
                </a:lnTo>
                <a:lnTo>
                  <a:pt x="2458" y="1267"/>
                </a:lnTo>
                <a:cubicBezTo>
                  <a:pt x="2460" y="1262"/>
                  <a:pt x="2463" y="1256"/>
                  <a:pt x="2467" y="1253"/>
                </a:cubicBezTo>
                <a:lnTo>
                  <a:pt x="2516" y="1207"/>
                </a:lnTo>
                <a:cubicBezTo>
                  <a:pt x="2519" y="1204"/>
                  <a:pt x="2523" y="1202"/>
                  <a:pt x="2527" y="1200"/>
                </a:cubicBezTo>
                <a:lnTo>
                  <a:pt x="2576" y="1182"/>
                </a:lnTo>
                <a:cubicBezTo>
                  <a:pt x="2580" y="1181"/>
                  <a:pt x="2583" y="1180"/>
                  <a:pt x="2587" y="1180"/>
                </a:cubicBezTo>
                <a:lnTo>
                  <a:pt x="2630" y="1180"/>
                </a:lnTo>
                <a:lnTo>
                  <a:pt x="2630" y="1247"/>
                </a:lnTo>
                <a:lnTo>
                  <a:pt x="2587" y="1247"/>
                </a:lnTo>
                <a:lnTo>
                  <a:pt x="2599" y="1245"/>
                </a:lnTo>
                <a:lnTo>
                  <a:pt x="2550" y="1263"/>
                </a:lnTo>
                <a:lnTo>
                  <a:pt x="2561" y="1256"/>
                </a:lnTo>
                <a:lnTo>
                  <a:pt x="2513" y="1301"/>
                </a:lnTo>
                <a:lnTo>
                  <a:pt x="2522" y="1287"/>
                </a:lnTo>
                <a:lnTo>
                  <a:pt x="2502" y="1350"/>
                </a:lnTo>
                <a:cubicBezTo>
                  <a:pt x="2501" y="1356"/>
                  <a:pt x="2497" y="1361"/>
                  <a:pt x="2493" y="1365"/>
                </a:cubicBezTo>
                <a:lnTo>
                  <a:pt x="2464" y="1391"/>
                </a:lnTo>
                <a:lnTo>
                  <a:pt x="2419" y="1343"/>
                </a:lnTo>
                <a:close/>
                <a:moveTo>
                  <a:pt x="2795" y="1322"/>
                </a:moveTo>
                <a:lnTo>
                  <a:pt x="2828" y="1365"/>
                </a:lnTo>
                <a:lnTo>
                  <a:pt x="2866" y="1409"/>
                </a:lnTo>
                <a:lnTo>
                  <a:pt x="2853" y="1400"/>
                </a:lnTo>
                <a:lnTo>
                  <a:pt x="2901" y="1418"/>
                </a:lnTo>
                <a:lnTo>
                  <a:pt x="2950" y="1436"/>
                </a:lnTo>
                <a:lnTo>
                  <a:pt x="2916" y="1443"/>
                </a:lnTo>
                <a:lnTo>
                  <a:pt x="2935" y="1425"/>
                </a:lnTo>
                <a:cubicBezTo>
                  <a:pt x="2939" y="1422"/>
                  <a:pt x="2942" y="1419"/>
                  <a:pt x="2946" y="1418"/>
                </a:cubicBezTo>
                <a:lnTo>
                  <a:pt x="2967" y="1410"/>
                </a:lnTo>
                <a:lnTo>
                  <a:pt x="2990" y="1473"/>
                </a:lnTo>
                <a:lnTo>
                  <a:pt x="2970" y="1480"/>
                </a:lnTo>
                <a:lnTo>
                  <a:pt x="2981" y="1474"/>
                </a:lnTo>
                <a:lnTo>
                  <a:pt x="2961" y="1492"/>
                </a:lnTo>
                <a:cubicBezTo>
                  <a:pt x="2952" y="1500"/>
                  <a:pt x="2939" y="1503"/>
                  <a:pt x="2927" y="1498"/>
                </a:cubicBezTo>
                <a:lnTo>
                  <a:pt x="2878" y="1480"/>
                </a:lnTo>
                <a:lnTo>
                  <a:pt x="2829" y="1462"/>
                </a:lnTo>
                <a:cubicBezTo>
                  <a:pt x="2824" y="1460"/>
                  <a:pt x="2819" y="1457"/>
                  <a:pt x="2816" y="1453"/>
                </a:cubicBezTo>
                <a:lnTo>
                  <a:pt x="2776" y="1406"/>
                </a:lnTo>
                <a:lnTo>
                  <a:pt x="2743" y="1363"/>
                </a:lnTo>
                <a:lnTo>
                  <a:pt x="2795" y="1322"/>
                </a:lnTo>
                <a:close/>
                <a:moveTo>
                  <a:pt x="3109" y="1291"/>
                </a:moveTo>
                <a:lnTo>
                  <a:pt x="3130" y="1271"/>
                </a:lnTo>
                <a:cubicBezTo>
                  <a:pt x="3137" y="1265"/>
                  <a:pt x="3145" y="1262"/>
                  <a:pt x="3153" y="1262"/>
                </a:cubicBezTo>
                <a:lnTo>
                  <a:pt x="3173" y="1262"/>
                </a:lnTo>
                <a:lnTo>
                  <a:pt x="3221" y="1262"/>
                </a:lnTo>
                <a:lnTo>
                  <a:pt x="3241" y="1262"/>
                </a:lnTo>
                <a:lnTo>
                  <a:pt x="3241" y="1328"/>
                </a:lnTo>
                <a:lnTo>
                  <a:pt x="3221" y="1328"/>
                </a:lnTo>
                <a:lnTo>
                  <a:pt x="3173" y="1328"/>
                </a:lnTo>
                <a:lnTo>
                  <a:pt x="3153" y="1328"/>
                </a:lnTo>
                <a:lnTo>
                  <a:pt x="3176" y="1319"/>
                </a:lnTo>
                <a:lnTo>
                  <a:pt x="3154" y="1340"/>
                </a:lnTo>
                <a:lnTo>
                  <a:pt x="3109" y="1291"/>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rot="16200000">
            <a:off x="2282040" y="40201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2290" name=""/>
          <p:cNvSpPr/>
          <p:nvPr/>
        </p:nvSpPr>
        <p:spPr>
          <a:xfrm>
            <a:off x="4068360" y="58626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2291" name=""/>
          <p:cNvSpPr/>
          <p:nvPr/>
        </p:nvSpPr>
        <p:spPr>
          <a:xfrm>
            <a:off x="4437720" y="584352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292" name=""/>
          <p:cNvSpPr/>
          <p:nvPr/>
        </p:nvSpPr>
        <p:spPr>
          <a:xfrm>
            <a:off x="4520520" y="586260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2293" name=""/>
          <p:cNvSpPr/>
          <p:nvPr/>
        </p:nvSpPr>
        <p:spPr>
          <a:xfrm>
            <a:off x="4660920" y="3836880"/>
            <a:ext cx="90360" cy="460440"/>
          </a:xfrm>
          <a:custGeom>
            <a:avLst/>
            <a:gdLst/>
            <a:ahLst/>
            <a:rect l="l" t="t" r="r" b="b"/>
            <a:pathLst>
              <a:path w="800" h="4050">
                <a:moveTo>
                  <a:pt x="450" y="50"/>
                </a:moveTo>
                <a:lnTo>
                  <a:pt x="450" y="3384"/>
                </a:lnTo>
                <a:cubicBezTo>
                  <a:pt x="450" y="3411"/>
                  <a:pt x="428" y="3434"/>
                  <a:pt x="400" y="3434"/>
                </a:cubicBezTo>
                <a:cubicBezTo>
                  <a:pt x="373" y="3434"/>
                  <a:pt x="350" y="3411"/>
                  <a:pt x="350" y="3384"/>
                </a:cubicBezTo>
                <a:lnTo>
                  <a:pt x="350" y="50"/>
                </a:lnTo>
                <a:cubicBezTo>
                  <a:pt x="350" y="23"/>
                  <a:pt x="373" y="0"/>
                  <a:pt x="400" y="0"/>
                </a:cubicBezTo>
                <a:cubicBezTo>
                  <a:pt x="428" y="0"/>
                  <a:pt x="450" y="23"/>
                  <a:pt x="450" y="50"/>
                </a:cubicBezTo>
                <a:close/>
                <a:moveTo>
                  <a:pt x="800" y="3250"/>
                </a:moveTo>
                <a:lnTo>
                  <a:pt x="400" y="4050"/>
                </a:lnTo>
                <a:lnTo>
                  <a:pt x="0" y="3250"/>
                </a:lnTo>
                <a:lnTo>
                  <a:pt x="800" y="325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2952720" y="3092400"/>
            <a:ext cx="3146400" cy="232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2952720" y="3092400"/>
            <a:ext cx="3146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6" name=""/>
          <p:cNvSpPr/>
          <p:nvPr/>
        </p:nvSpPr>
        <p:spPr>
          <a:xfrm>
            <a:off x="2952720" y="5416560"/>
            <a:ext cx="3146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7" name=""/>
          <p:cNvSpPr/>
          <p:nvPr/>
        </p:nvSpPr>
        <p:spPr>
          <a:xfrm flipV="1">
            <a:off x="6099120" y="3092400"/>
            <a:ext cx="180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V="1">
            <a:off x="2952720" y="3092400"/>
            <a:ext cx="144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952720" y="5416560"/>
            <a:ext cx="3146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flipV="1">
            <a:off x="2952720" y="3092400"/>
            <a:ext cx="144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V="1">
            <a:off x="2952720" y="538632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2" name=""/>
          <p:cNvSpPr/>
          <p:nvPr/>
        </p:nvSpPr>
        <p:spPr>
          <a:xfrm>
            <a:off x="2952720" y="3092400"/>
            <a:ext cx="14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03" name=""/>
          <p:cNvSpPr/>
          <p:nvPr/>
        </p:nvSpPr>
        <p:spPr>
          <a:xfrm>
            <a:off x="2895480" y="5483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04" name=""/>
          <p:cNvSpPr/>
          <p:nvPr/>
        </p:nvSpPr>
        <p:spPr>
          <a:xfrm>
            <a:off x="294552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305" name=""/>
          <p:cNvSpPr/>
          <p:nvPr/>
        </p:nvSpPr>
        <p:spPr>
          <a:xfrm flipV="1">
            <a:off x="3735360" y="538632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6" name=""/>
          <p:cNvSpPr/>
          <p:nvPr/>
        </p:nvSpPr>
        <p:spPr>
          <a:xfrm>
            <a:off x="3735360" y="3092400"/>
            <a:ext cx="32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07" name=""/>
          <p:cNvSpPr/>
          <p:nvPr/>
        </p:nvSpPr>
        <p:spPr>
          <a:xfrm>
            <a:off x="3637080" y="5483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08" name=""/>
          <p:cNvSpPr/>
          <p:nvPr/>
        </p:nvSpPr>
        <p:spPr>
          <a:xfrm>
            <a:off x="3686400" y="5483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309" name=""/>
          <p:cNvSpPr/>
          <p:nvPr/>
        </p:nvSpPr>
        <p:spPr>
          <a:xfrm flipV="1">
            <a:off x="4522680" y="538632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0" name=""/>
          <p:cNvSpPr/>
          <p:nvPr/>
        </p:nvSpPr>
        <p:spPr>
          <a:xfrm>
            <a:off x="4522680" y="3092400"/>
            <a:ext cx="32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1" name=""/>
          <p:cNvSpPr/>
          <p:nvPr/>
        </p:nvSpPr>
        <p:spPr>
          <a:xfrm>
            <a:off x="449640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12" name=""/>
          <p:cNvSpPr/>
          <p:nvPr/>
        </p:nvSpPr>
        <p:spPr>
          <a:xfrm flipV="1">
            <a:off x="5310360" y="538632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3" name=""/>
          <p:cNvSpPr/>
          <p:nvPr/>
        </p:nvSpPr>
        <p:spPr>
          <a:xfrm>
            <a:off x="5310360" y="3092400"/>
            <a:ext cx="144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4" name=""/>
          <p:cNvSpPr/>
          <p:nvPr/>
        </p:nvSpPr>
        <p:spPr>
          <a:xfrm>
            <a:off x="5241960" y="5483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315" name=""/>
          <p:cNvSpPr/>
          <p:nvPr/>
        </p:nvSpPr>
        <p:spPr>
          <a:xfrm flipV="1">
            <a:off x="6099120" y="538632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6" name=""/>
          <p:cNvSpPr/>
          <p:nvPr/>
        </p:nvSpPr>
        <p:spPr>
          <a:xfrm>
            <a:off x="6099120" y="3092400"/>
            <a:ext cx="1800" cy="25560"/>
          </a:xfrm>
          <a:prstGeom prst="line">
            <a:avLst/>
          </a:prstGeom>
          <a:ln cap="rnd"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7" name=""/>
          <p:cNvSpPr/>
          <p:nvPr/>
        </p:nvSpPr>
        <p:spPr>
          <a:xfrm>
            <a:off x="6074640" y="548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318" name=""/>
          <p:cNvSpPr/>
          <p:nvPr/>
        </p:nvSpPr>
        <p:spPr>
          <a:xfrm>
            <a:off x="2952720" y="5416560"/>
            <a:ext cx="27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9" name=""/>
          <p:cNvSpPr/>
          <p:nvPr/>
        </p:nvSpPr>
        <p:spPr>
          <a:xfrm flipH="1">
            <a:off x="6066000" y="54165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2770200" y="53830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21" name=""/>
          <p:cNvSpPr/>
          <p:nvPr/>
        </p:nvSpPr>
        <p:spPr>
          <a:xfrm>
            <a:off x="2818440" y="5383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22" name=""/>
          <p:cNvSpPr/>
          <p:nvPr/>
        </p:nvSpPr>
        <p:spPr>
          <a:xfrm>
            <a:off x="2952720" y="502596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3" name=""/>
          <p:cNvSpPr/>
          <p:nvPr/>
        </p:nvSpPr>
        <p:spPr>
          <a:xfrm flipH="1">
            <a:off x="6066000" y="50259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4" name=""/>
          <p:cNvSpPr/>
          <p:nvPr/>
        </p:nvSpPr>
        <p:spPr>
          <a:xfrm>
            <a:off x="2770200" y="4992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25" name=""/>
          <p:cNvSpPr/>
          <p:nvPr/>
        </p:nvSpPr>
        <p:spPr>
          <a:xfrm>
            <a:off x="2818440" y="4992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26" name=""/>
          <p:cNvSpPr/>
          <p:nvPr/>
        </p:nvSpPr>
        <p:spPr>
          <a:xfrm>
            <a:off x="2952720" y="463860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7" name=""/>
          <p:cNvSpPr/>
          <p:nvPr/>
        </p:nvSpPr>
        <p:spPr>
          <a:xfrm flipH="1">
            <a:off x="6066000" y="4638600"/>
            <a:ext cx="331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8" name=""/>
          <p:cNvSpPr/>
          <p:nvPr/>
        </p:nvSpPr>
        <p:spPr>
          <a:xfrm>
            <a:off x="2797920" y="460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29" name=""/>
          <p:cNvSpPr/>
          <p:nvPr/>
        </p:nvSpPr>
        <p:spPr>
          <a:xfrm>
            <a:off x="2952720" y="4254480"/>
            <a:ext cx="27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0" name=""/>
          <p:cNvSpPr/>
          <p:nvPr/>
        </p:nvSpPr>
        <p:spPr>
          <a:xfrm flipH="1">
            <a:off x="6066000" y="425448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1" name=""/>
          <p:cNvSpPr/>
          <p:nvPr/>
        </p:nvSpPr>
        <p:spPr>
          <a:xfrm>
            <a:off x="2797920" y="4224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32" name=""/>
          <p:cNvSpPr/>
          <p:nvPr/>
        </p:nvSpPr>
        <p:spPr>
          <a:xfrm>
            <a:off x="2952720" y="386388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3" name=""/>
          <p:cNvSpPr/>
          <p:nvPr/>
        </p:nvSpPr>
        <p:spPr>
          <a:xfrm flipH="1">
            <a:off x="6066000" y="386388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4" name=""/>
          <p:cNvSpPr/>
          <p:nvPr/>
        </p:nvSpPr>
        <p:spPr>
          <a:xfrm>
            <a:off x="2797920" y="3833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35" name=""/>
          <p:cNvSpPr/>
          <p:nvPr/>
        </p:nvSpPr>
        <p:spPr>
          <a:xfrm>
            <a:off x="2952720" y="347976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6" name=""/>
          <p:cNvSpPr/>
          <p:nvPr/>
        </p:nvSpPr>
        <p:spPr>
          <a:xfrm flipH="1">
            <a:off x="6066000" y="34797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7" name=""/>
          <p:cNvSpPr/>
          <p:nvPr/>
        </p:nvSpPr>
        <p:spPr>
          <a:xfrm>
            <a:off x="2797920" y="344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338" name=""/>
          <p:cNvSpPr/>
          <p:nvPr/>
        </p:nvSpPr>
        <p:spPr>
          <a:xfrm>
            <a:off x="2952720" y="3092400"/>
            <a:ext cx="270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9" name=""/>
          <p:cNvSpPr/>
          <p:nvPr/>
        </p:nvSpPr>
        <p:spPr>
          <a:xfrm flipH="1">
            <a:off x="6066000" y="30924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0" name=""/>
          <p:cNvSpPr/>
          <p:nvPr/>
        </p:nvSpPr>
        <p:spPr>
          <a:xfrm>
            <a:off x="2797920" y="3062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2341" name=""/>
          <p:cNvSpPr/>
          <p:nvPr/>
        </p:nvSpPr>
        <p:spPr>
          <a:xfrm flipV="1">
            <a:off x="6099120" y="3092400"/>
            <a:ext cx="1800" cy="2324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952720" y="3260880"/>
            <a:ext cx="1212840" cy="1788840"/>
          </a:xfrm>
          <a:custGeom>
            <a:avLst/>
            <a:gdLst/>
            <a:ahLst/>
            <a:rect l="l" t="t" r="r" b="b"/>
            <a:pathLst>
              <a:path w="764" h="1127">
                <a:moveTo>
                  <a:pt x="0" y="868"/>
                </a:moveTo>
                <a:lnTo>
                  <a:pt x="3" y="868"/>
                </a:lnTo>
                <a:lnTo>
                  <a:pt x="7" y="868"/>
                </a:lnTo>
                <a:lnTo>
                  <a:pt x="14" y="868"/>
                </a:lnTo>
                <a:lnTo>
                  <a:pt x="19" y="868"/>
                </a:lnTo>
                <a:lnTo>
                  <a:pt x="26" y="868"/>
                </a:lnTo>
                <a:lnTo>
                  <a:pt x="33" y="868"/>
                </a:lnTo>
                <a:lnTo>
                  <a:pt x="36" y="868"/>
                </a:lnTo>
                <a:lnTo>
                  <a:pt x="43" y="868"/>
                </a:lnTo>
                <a:lnTo>
                  <a:pt x="50" y="868"/>
                </a:lnTo>
                <a:lnTo>
                  <a:pt x="57" y="868"/>
                </a:lnTo>
                <a:lnTo>
                  <a:pt x="64" y="868"/>
                </a:lnTo>
                <a:lnTo>
                  <a:pt x="69" y="868"/>
                </a:lnTo>
                <a:lnTo>
                  <a:pt x="74" y="868"/>
                </a:lnTo>
                <a:lnTo>
                  <a:pt x="81" y="868"/>
                </a:lnTo>
                <a:lnTo>
                  <a:pt x="86" y="868"/>
                </a:lnTo>
                <a:lnTo>
                  <a:pt x="93" y="868"/>
                </a:lnTo>
                <a:lnTo>
                  <a:pt x="100" y="868"/>
                </a:lnTo>
                <a:lnTo>
                  <a:pt x="103" y="868"/>
                </a:lnTo>
                <a:lnTo>
                  <a:pt x="110" y="868"/>
                </a:lnTo>
                <a:lnTo>
                  <a:pt x="117" y="868"/>
                </a:lnTo>
                <a:lnTo>
                  <a:pt x="124" y="868"/>
                </a:lnTo>
                <a:lnTo>
                  <a:pt x="130" y="868"/>
                </a:lnTo>
                <a:lnTo>
                  <a:pt x="133" y="868"/>
                </a:lnTo>
                <a:lnTo>
                  <a:pt x="140" y="868"/>
                </a:lnTo>
                <a:lnTo>
                  <a:pt x="147" y="868"/>
                </a:lnTo>
                <a:lnTo>
                  <a:pt x="153" y="868"/>
                </a:lnTo>
                <a:lnTo>
                  <a:pt x="160" y="868"/>
                </a:lnTo>
                <a:lnTo>
                  <a:pt x="167" y="868"/>
                </a:lnTo>
                <a:lnTo>
                  <a:pt x="169" y="868"/>
                </a:lnTo>
                <a:lnTo>
                  <a:pt x="176" y="868"/>
                </a:lnTo>
                <a:lnTo>
                  <a:pt x="183" y="868"/>
                </a:lnTo>
                <a:lnTo>
                  <a:pt x="190" y="868"/>
                </a:lnTo>
                <a:lnTo>
                  <a:pt x="197" y="868"/>
                </a:lnTo>
                <a:lnTo>
                  <a:pt x="200" y="868"/>
                </a:lnTo>
                <a:lnTo>
                  <a:pt x="207" y="868"/>
                </a:lnTo>
                <a:lnTo>
                  <a:pt x="214" y="868"/>
                </a:lnTo>
                <a:lnTo>
                  <a:pt x="219" y="868"/>
                </a:lnTo>
                <a:lnTo>
                  <a:pt x="226" y="868"/>
                </a:lnTo>
                <a:lnTo>
                  <a:pt x="230" y="868"/>
                </a:lnTo>
                <a:lnTo>
                  <a:pt x="236" y="868"/>
                </a:lnTo>
                <a:lnTo>
                  <a:pt x="243" y="868"/>
                </a:lnTo>
                <a:lnTo>
                  <a:pt x="250" y="868"/>
                </a:lnTo>
                <a:lnTo>
                  <a:pt x="257" y="868"/>
                </a:lnTo>
                <a:lnTo>
                  <a:pt x="264" y="868"/>
                </a:lnTo>
                <a:lnTo>
                  <a:pt x="267" y="868"/>
                </a:lnTo>
                <a:lnTo>
                  <a:pt x="274" y="868"/>
                </a:lnTo>
                <a:lnTo>
                  <a:pt x="281" y="868"/>
                </a:lnTo>
                <a:lnTo>
                  <a:pt x="286" y="868"/>
                </a:lnTo>
                <a:lnTo>
                  <a:pt x="293" y="868"/>
                </a:lnTo>
                <a:lnTo>
                  <a:pt x="297" y="868"/>
                </a:lnTo>
                <a:lnTo>
                  <a:pt x="303" y="868"/>
                </a:lnTo>
                <a:lnTo>
                  <a:pt x="310" y="868"/>
                </a:lnTo>
                <a:lnTo>
                  <a:pt x="317" y="868"/>
                </a:lnTo>
                <a:lnTo>
                  <a:pt x="324" y="868"/>
                </a:lnTo>
                <a:lnTo>
                  <a:pt x="326" y="868"/>
                </a:lnTo>
                <a:lnTo>
                  <a:pt x="333" y="868"/>
                </a:lnTo>
                <a:lnTo>
                  <a:pt x="340" y="868"/>
                </a:lnTo>
                <a:lnTo>
                  <a:pt x="347" y="868"/>
                </a:lnTo>
                <a:lnTo>
                  <a:pt x="353" y="868"/>
                </a:lnTo>
                <a:lnTo>
                  <a:pt x="360" y="868"/>
                </a:lnTo>
                <a:lnTo>
                  <a:pt x="364" y="868"/>
                </a:lnTo>
                <a:lnTo>
                  <a:pt x="369" y="868"/>
                </a:lnTo>
                <a:lnTo>
                  <a:pt x="376" y="866"/>
                </a:lnTo>
                <a:lnTo>
                  <a:pt x="383" y="866"/>
                </a:lnTo>
                <a:lnTo>
                  <a:pt x="390" y="868"/>
                </a:lnTo>
                <a:lnTo>
                  <a:pt x="393" y="868"/>
                </a:lnTo>
                <a:lnTo>
                  <a:pt x="400" y="868"/>
                </a:lnTo>
                <a:lnTo>
                  <a:pt x="407" y="868"/>
                </a:lnTo>
                <a:lnTo>
                  <a:pt x="414" y="868"/>
                </a:lnTo>
                <a:lnTo>
                  <a:pt x="419" y="868"/>
                </a:lnTo>
                <a:lnTo>
                  <a:pt x="424" y="868"/>
                </a:lnTo>
                <a:lnTo>
                  <a:pt x="431" y="868"/>
                </a:lnTo>
                <a:lnTo>
                  <a:pt x="436" y="868"/>
                </a:lnTo>
                <a:lnTo>
                  <a:pt x="443" y="868"/>
                </a:lnTo>
                <a:lnTo>
                  <a:pt x="450" y="868"/>
                </a:lnTo>
                <a:lnTo>
                  <a:pt x="457" y="868"/>
                </a:lnTo>
                <a:lnTo>
                  <a:pt x="460" y="868"/>
                </a:lnTo>
                <a:lnTo>
                  <a:pt x="467" y="866"/>
                </a:lnTo>
                <a:lnTo>
                  <a:pt x="474" y="866"/>
                </a:lnTo>
                <a:lnTo>
                  <a:pt x="481" y="863"/>
                </a:lnTo>
                <a:lnTo>
                  <a:pt x="486" y="866"/>
                </a:lnTo>
                <a:lnTo>
                  <a:pt x="490" y="866"/>
                </a:lnTo>
                <a:lnTo>
                  <a:pt x="497" y="868"/>
                </a:lnTo>
                <a:lnTo>
                  <a:pt x="503" y="868"/>
                </a:lnTo>
                <a:lnTo>
                  <a:pt x="510" y="868"/>
                </a:lnTo>
                <a:lnTo>
                  <a:pt x="517" y="866"/>
                </a:lnTo>
                <a:lnTo>
                  <a:pt x="519" y="866"/>
                </a:lnTo>
                <a:lnTo>
                  <a:pt x="526" y="866"/>
                </a:lnTo>
                <a:lnTo>
                  <a:pt x="533" y="868"/>
                </a:lnTo>
                <a:lnTo>
                  <a:pt x="540" y="875"/>
                </a:lnTo>
                <a:lnTo>
                  <a:pt x="547" y="881"/>
                </a:lnTo>
                <a:lnTo>
                  <a:pt x="553" y="884"/>
                </a:lnTo>
                <a:lnTo>
                  <a:pt x="557" y="879"/>
                </a:lnTo>
                <a:lnTo>
                  <a:pt x="564" y="863"/>
                </a:lnTo>
                <a:lnTo>
                  <a:pt x="569" y="841"/>
                </a:lnTo>
                <a:lnTo>
                  <a:pt x="576" y="819"/>
                </a:lnTo>
                <a:lnTo>
                  <a:pt x="583" y="810"/>
                </a:lnTo>
                <a:lnTo>
                  <a:pt x="586" y="819"/>
                </a:lnTo>
                <a:lnTo>
                  <a:pt x="593" y="853"/>
                </a:lnTo>
                <a:lnTo>
                  <a:pt x="600" y="910"/>
                </a:lnTo>
                <a:lnTo>
                  <a:pt x="607" y="968"/>
                </a:lnTo>
                <a:lnTo>
                  <a:pt x="614" y="1015"/>
                </a:lnTo>
                <a:lnTo>
                  <a:pt x="617" y="1015"/>
                </a:lnTo>
                <a:lnTo>
                  <a:pt x="624" y="953"/>
                </a:lnTo>
                <a:lnTo>
                  <a:pt x="631" y="826"/>
                </a:lnTo>
                <a:lnTo>
                  <a:pt x="636" y="635"/>
                </a:lnTo>
                <a:lnTo>
                  <a:pt x="643" y="418"/>
                </a:lnTo>
                <a:lnTo>
                  <a:pt x="650" y="212"/>
                </a:lnTo>
                <a:lnTo>
                  <a:pt x="653" y="63"/>
                </a:lnTo>
                <a:lnTo>
                  <a:pt x="660" y="0"/>
                </a:lnTo>
                <a:lnTo>
                  <a:pt x="667" y="44"/>
                </a:lnTo>
                <a:lnTo>
                  <a:pt x="674" y="184"/>
                </a:lnTo>
                <a:lnTo>
                  <a:pt x="681" y="393"/>
                </a:lnTo>
                <a:lnTo>
                  <a:pt x="683" y="626"/>
                </a:lnTo>
                <a:lnTo>
                  <a:pt x="690" y="844"/>
                </a:lnTo>
                <a:lnTo>
                  <a:pt x="697" y="1008"/>
                </a:lnTo>
                <a:lnTo>
                  <a:pt x="703" y="1105"/>
                </a:lnTo>
                <a:lnTo>
                  <a:pt x="710" y="1127"/>
                </a:lnTo>
                <a:lnTo>
                  <a:pt x="717" y="1096"/>
                </a:lnTo>
                <a:lnTo>
                  <a:pt x="720" y="1037"/>
                </a:lnTo>
                <a:lnTo>
                  <a:pt x="726" y="972"/>
                </a:lnTo>
                <a:lnTo>
                  <a:pt x="733" y="925"/>
                </a:lnTo>
                <a:lnTo>
                  <a:pt x="740" y="903"/>
                </a:lnTo>
                <a:lnTo>
                  <a:pt x="747" y="906"/>
                </a:lnTo>
                <a:lnTo>
                  <a:pt x="750" y="925"/>
                </a:lnTo>
                <a:lnTo>
                  <a:pt x="757" y="946"/>
                </a:lnTo>
                <a:lnTo>
                  <a:pt x="764" y="968"/>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165560" y="3260880"/>
            <a:ext cx="1212840" cy="1788840"/>
          </a:xfrm>
          <a:custGeom>
            <a:avLst/>
            <a:gdLst/>
            <a:ahLst/>
            <a:rect l="l" t="t" r="r" b="b"/>
            <a:pathLst>
              <a:path w="764" h="1127">
                <a:moveTo>
                  <a:pt x="0" y="968"/>
                </a:moveTo>
                <a:lnTo>
                  <a:pt x="6" y="977"/>
                </a:lnTo>
                <a:lnTo>
                  <a:pt x="12" y="981"/>
                </a:lnTo>
                <a:lnTo>
                  <a:pt x="17" y="975"/>
                </a:lnTo>
                <a:lnTo>
                  <a:pt x="22" y="968"/>
                </a:lnTo>
                <a:lnTo>
                  <a:pt x="29" y="962"/>
                </a:lnTo>
                <a:lnTo>
                  <a:pt x="36" y="959"/>
                </a:lnTo>
                <a:lnTo>
                  <a:pt x="43" y="959"/>
                </a:lnTo>
                <a:lnTo>
                  <a:pt x="50" y="962"/>
                </a:lnTo>
                <a:lnTo>
                  <a:pt x="53" y="962"/>
                </a:lnTo>
                <a:lnTo>
                  <a:pt x="60" y="962"/>
                </a:lnTo>
                <a:lnTo>
                  <a:pt x="66" y="959"/>
                </a:lnTo>
                <a:lnTo>
                  <a:pt x="72" y="959"/>
                </a:lnTo>
                <a:lnTo>
                  <a:pt x="79" y="956"/>
                </a:lnTo>
                <a:lnTo>
                  <a:pt x="83" y="956"/>
                </a:lnTo>
                <a:lnTo>
                  <a:pt x="89" y="959"/>
                </a:lnTo>
                <a:lnTo>
                  <a:pt x="96" y="959"/>
                </a:lnTo>
                <a:lnTo>
                  <a:pt x="103" y="962"/>
                </a:lnTo>
                <a:lnTo>
                  <a:pt x="109" y="962"/>
                </a:lnTo>
                <a:lnTo>
                  <a:pt x="112" y="962"/>
                </a:lnTo>
                <a:lnTo>
                  <a:pt x="119" y="962"/>
                </a:lnTo>
                <a:lnTo>
                  <a:pt x="126" y="959"/>
                </a:lnTo>
                <a:lnTo>
                  <a:pt x="133" y="959"/>
                </a:lnTo>
                <a:lnTo>
                  <a:pt x="139" y="959"/>
                </a:lnTo>
                <a:lnTo>
                  <a:pt x="145" y="959"/>
                </a:lnTo>
                <a:lnTo>
                  <a:pt x="150" y="959"/>
                </a:lnTo>
                <a:lnTo>
                  <a:pt x="155" y="959"/>
                </a:lnTo>
                <a:lnTo>
                  <a:pt x="162" y="959"/>
                </a:lnTo>
                <a:lnTo>
                  <a:pt x="169" y="959"/>
                </a:lnTo>
                <a:lnTo>
                  <a:pt x="176" y="959"/>
                </a:lnTo>
                <a:lnTo>
                  <a:pt x="179" y="959"/>
                </a:lnTo>
                <a:lnTo>
                  <a:pt x="186" y="959"/>
                </a:lnTo>
                <a:lnTo>
                  <a:pt x="193" y="959"/>
                </a:lnTo>
                <a:lnTo>
                  <a:pt x="198" y="959"/>
                </a:lnTo>
                <a:lnTo>
                  <a:pt x="205" y="959"/>
                </a:lnTo>
                <a:lnTo>
                  <a:pt x="209" y="959"/>
                </a:lnTo>
                <a:lnTo>
                  <a:pt x="215" y="959"/>
                </a:lnTo>
                <a:lnTo>
                  <a:pt x="222" y="959"/>
                </a:lnTo>
                <a:lnTo>
                  <a:pt x="229" y="959"/>
                </a:lnTo>
                <a:lnTo>
                  <a:pt x="236" y="959"/>
                </a:lnTo>
                <a:lnTo>
                  <a:pt x="243" y="959"/>
                </a:lnTo>
                <a:lnTo>
                  <a:pt x="245" y="959"/>
                </a:lnTo>
                <a:lnTo>
                  <a:pt x="252" y="959"/>
                </a:lnTo>
                <a:lnTo>
                  <a:pt x="259" y="959"/>
                </a:lnTo>
                <a:lnTo>
                  <a:pt x="265" y="959"/>
                </a:lnTo>
                <a:lnTo>
                  <a:pt x="272" y="959"/>
                </a:lnTo>
                <a:lnTo>
                  <a:pt x="276" y="959"/>
                </a:lnTo>
                <a:lnTo>
                  <a:pt x="281" y="959"/>
                </a:lnTo>
                <a:lnTo>
                  <a:pt x="288" y="959"/>
                </a:lnTo>
                <a:lnTo>
                  <a:pt x="295" y="959"/>
                </a:lnTo>
                <a:lnTo>
                  <a:pt x="302" y="959"/>
                </a:lnTo>
                <a:lnTo>
                  <a:pt x="305" y="959"/>
                </a:lnTo>
                <a:lnTo>
                  <a:pt x="312" y="959"/>
                </a:lnTo>
                <a:lnTo>
                  <a:pt x="319" y="959"/>
                </a:lnTo>
                <a:lnTo>
                  <a:pt x="326" y="959"/>
                </a:lnTo>
                <a:lnTo>
                  <a:pt x="331" y="959"/>
                </a:lnTo>
                <a:lnTo>
                  <a:pt x="338" y="962"/>
                </a:lnTo>
                <a:lnTo>
                  <a:pt x="343" y="962"/>
                </a:lnTo>
                <a:lnTo>
                  <a:pt x="348" y="962"/>
                </a:lnTo>
                <a:lnTo>
                  <a:pt x="355" y="962"/>
                </a:lnTo>
                <a:lnTo>
                  <a:pt x="362" y="959"/>
                </a:lnTo>
                <a:lnTo>
                  <a:pt x="369" y="959"/>
                </a:lnTo>
                <a:lnTo>
                  <a:pt x="372" y="956"/>
                </a:lnTo>
                <a:lnTo>
                  <a:pt x="379" y="956"/>
                </a:lnTo>
                <a:lnTo>
                  <a:pt x="385" y="959"/>
                </a:lnTo>
                <a:lnTo>
                  <a:pt x="392" y="959"/>
                </a:lnTo>
                <a:lnTo>
                  <a:pt x="398" y="962"/>
                </a:lnTo>
                <a:lnTo>
                  <a:pt x="402" y="962"/>
                </a:lnTo>
                <a:lnTo>
                  <a:pt x="409" y="962"/>
                </a:lnTo>
                <a:lnTo>
                  <a:pt x="415" y="959"/>
                </a:lnTo>
                <a:lnTo>
                  <a:pt x="422" y="959"/>
                </a:lnTo>
                <a:lnTo>
                  <a:pt x="428" y="962"/>
                </a:lnTo>
                <a:lnTo>
                  <a:pt x="435" y="968"/>
                </a:lnTo>
                <a:lnTo>
                  <a:pt x="438" y="975"/>
                </a:lnTo>
                <a:lnTo>
                  <a:pt x="445" y="981"/>
                </a:lnTo>
                <a:lnTo>
                  <a:pt x="452" y="977"/>
                </a:lnTo>
                <a:lnTo>
                  <a:pt x="459" y="968"/>
                </a:lnTo>
                <a:lnTo>
                  <a:pt x="465" y="946"/>
                </a:lnTo>
                <a:lnTo>
                  <a:pt x="469" y="925"/>
                </a:lnTo>
                <a:lnTo>
                  <a:pt x="476" y="906"/>
                </a:lnTo>
                <a:lnTo>
                  <a:pt x="481" y="903"/>
                </a:lnTo>
                <a:lnTo>
                  <a:pt x="488" y="925"/>
                </a:lnTo>
                <a:lnTo>
                  <a:pt x="495" y="972"/>
                </a:lnTo>
                <a:lnTo>
                  <a:pt x="498" y="1037"/>
                </a:lnTo>
                <a:lnTo>
                  <a:pt x="505" y="1096"/>
                </a:lnTo>
                <a:lnTo>
                  <a:pt x="512" y="1127"/>
                </a:lnTo>
                <a:lnTo>
                  <a:pt x="519" y="1105"/>
                </a:lnTo>
                <a:lnTo>
                  <a:pt x="525" y="1008"/>
                </a:lnTo>
                <a:lnTo>
                  <a:pt x="531" y="844"/>
                </a:lnTo>
                <a:lnTo>
                  <a:pt x="535" y="626"/>
                </a:lnTo>
                <a:lnTo>
                  <a:pt x="542" y="393"/>
                </a:lnTo>
                <a:lnTo>
                  <a:pt x="548" y="184"/>
                </a:lnTo>
                <a:lnTo>
                  <a:pt x="555" y="45"/>
                </a:lnTo>
                <a:lnTo>
                  <a:pt x="561" y="0"/>
                </a:lnTo>
                <a:lnTo>
                  <a:pt x="564" y="63"/>
                </a:lnTo>
                <a:lnTo>
                  <a:pt x="571" y="212"/>
                </a:lnTo>
                <a:lnTo>
                  <a:pt x="578" y="418"/>
                </a:lnTo>
                <a:lnTo>
                  <a:pt x="585" y="635"/>
                </a:lnTo>
                <a:lnTo>
                  <a:pt x="592" y="826"/>
                </a:lnTo>
                <a:lnTo>
                  <a:pt x="598" y="953"/>
                </a:lnTo>
                <a:lnTo>
                  <a:pt x="602" y="1015"/>
                </a:lnTo>
                <a:lnTo>
                  <a:pt x="609" y="1015"/>
                </a:lnTo>
                <a:lnTo>
                  <a:pt x="614" y="968"/>
                </a:lnTo>
                <a:lnTo>
                  <a:pt x="621" y="910"/>
                </a:lnTo>
                <a:lnTo>
                  <a:pt x="628" y="853"/>
                </a:lnTo>
                <a:lnTo>
                  <a:pt x="631" y="819"/>
                </a:lnTo>
                <a:lnTo>
                  <a:pt x="638" y="810"/>
                </a:lnTo>
                <a:lnTo>
                  <a:pt x="645" y="819"/>
                </a:lnTo>
                <a:lnTo>
                  <a:pt x="652" y="841"/>
                </a:lnTo>
                <a:lnTo>
                  <a:pt x="659" y="863"/>
                </a:lnTo>
                <a:lnTo>
                  <a:pt x="661" y="879"/>
                </a:lnTo>
                <a:lnTo>
                  <a:pt x="668" y="884"/>
                </a:lnTo>
                <a:lnTo>
                  <a:pt x="675" y="881"/>
                </a:lnTo>
                <a:lnTo>
                  <a:pt x="681" y="875"/>
                </a:lnTo>
                <a:lnTo>
                  <a:pt x="688" y="868"/>
                </a:lnTo>
                <a:lnTo>
                  <a:pt x="695" y="866"/>
                </a:lnTo>
                <a:lnTo>
                  <a:pt x="697" y="866"/>
                </a:lnTo>
                <a:lnTo>
                  <a:pt x="704" y="866"/>
                </a:lnTo>
                <a:lnTo>
                  <a:pt x="711" y="868"/>
                </a:lnTo>
                <a:lnTo>
                  <a:pt x="718" y="868"/>
                </a:lnTo>
                <a:lnTo>
                  <a:pt x="725" y="868"/>
                </a:lnTo>
                <a:lnTo>
                  <a:pt x="728" y="866"/>
                </a:lnTo>
                <a:lnTo>
                  <a:pt x="735" y="866"/>
                </a:lnTo>
                <a:lnTo>
                  <a:pt x="742" y="863"/>
                </a:lnTo>
                <a:lnTo>
                  <a:pt x="747" y="866"/>
                </a:lnTo>
                <a:lnTo>
                  <a:pt x="754" y="866"/>
                </a:lnTo>
                <a:lnTo>
                  <a:pt x="759" y="868"/>
                </a:lnTo>
                <a:lnTo>
                  <a:pt x="764" y="868"/>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5378400" y="4635360"/>
            <a:ext cx="725400" cy="3240"/>
          </a:xfrm>
          <a:custGeom>
            <a:avLst/>
            <a:gdLst/>
            <a:ahLst/>
            <a:rect l="l" t="t" r="r" b="b"/>
            <a:pathLst>
              <a:path w="457" h="2">
                <a:moveTo>
                  <a:pt x="0" y="2"/>
                </a:moveTo>
                <a:lnTo>
                  <a:pt x="7" y="2"/>
                </a:lnTo>
                <a:lnTo>
                  <a:pt x="14" y="2"/>
                </a:lnTo>
                <a:lnTo>
                  <a:pt x="21" y="2"/>
                </a:lnTo>
                <a:lnTo>
                  <a:pt x="28" y="2"/>
                </a:lnTo>
                <a:lnTo>
                  <a:pt x="31" y="2"/>
                </a:lnTo>
                <a:lnTo>
                  <a:pt x="38" y="2"/>
                </a:lnTo>
                <a:lnTo>
                  <a:pt x="44" y="2"/>
                </a:lnTo>
                <a:lnTo>
                  <a:pt x="50" y="2"/>
                </a:lnTo>
                <a:lnTo>
                  <a:pt x="57" y="2"/>
                </a:lnTo>
                <a:lnTo>
                  <a:pt x="61" y="2"/>
                </a:lnTo>
                <a:lnTo>
                  <a:pt x="67" y="2"/>
                </a:lnTo>
                <a:lnTo>
                  <a:pt x="74" y="0"/>
                </a:lnTo>
                <a:lnTo>
                  <a:pt x="81" y="0"/>
                </a:lnTo>
                <a:lnTo>
                  <a:pt x="87" y="2"/>
                </a:lnTo>
                <a:lnTo>
                  <a:pt x="90" y="2"/>
                </a:lnTo>
                <a:lnTo>
                  <a:pt x="97" y="2"/>
                </a:lnTo>
                <a:lnTo>
                  <a:pt x="104" y="2"/>
                </a:lnTo>
                <a:lnTo>
                  <a:pt x="111" y="2"/>
                </a:lnTo>
                <a:lnTo>
                  <a:pt x="117" y="2"/>
                </a:lnTo>
                <a:lnTo>
                  <a:pt x="124" y="2"/>
                </a:lnTo>
                <a:lnTo>
                  <a:pt x="128" y="2"/>
                </a:lnTo>
                <a:lnTo>
                  <a:pt x="133" y="2"/>
                </a:lnTo>
                <a:lnTo>
                  <a:pt x="140" y="2"/>
                </a:lnTo>
                <a:lnTo>
                  <a:pt x="147" y="2"/>
                </a:lnTo>
                <a:lnTo>
                  <a:pt x="154" y="2"/>
                </a:lnTo>
                <a:lnTo>
                  <a:pt x="157" y="2"/>
                </a:lnTo>
                <a:lnTo>
                  <a:pt x="164" y="2"/>
                </a:lnTo>
                <a:lnTo>
                  <a:pt x="171" y="2"/>
                </a:lnTo>
                <a:lnTo>
                  <a:pt x="178" y="2"/>
                </a:lnTo>
                <a:lnTo>
                  <a:pt x="183" y="2"/>
                </a:lnTo>
                <a:lnTo>
                  <a:pt x="187" y="2"/>
                </a:lnTo>
                <a:lnTo>
                  <a:pt x="194" y="2"/>
                </a:lnTo>
                <a:lnTo>
                  <a:pt x="200" y="2"/>
                </a:lnTo>
                <a:lnTo>
                  <a:pt x="207" y="2"/>
                </a:lnTo>
                <a:lnTo>
                  <a:pt x="214" y="2"/>
                </a:lnTo>
                <a:lnTo>
                  <a:pt x="221" y="2"/>
                </a:lnTo>
                <a:lnTo>
                  <a:pt x="224" y="2"/>
                </a:lnTo>
                <a:lnTo>
                  <a:pt x="230" y="2"/>
                </a:lnTo>
                <a:lnTo>
                  <a:pt x="237" y="2"/>
                </a:lnTo>
                <a:lnTo>
                  <a:pt x="244" y="2"/>
                </a:lnTo>
                <a:lnTo>
                  <a:pt x="250" y="2"/>
                </a:lnTo>
                <a:lnTo>
                  <a:pt x="254" y="2"/>
                </a:lnTo>
                <a:lnTo>
                  <a:pt x="261" y="2"/>
                </a:lnTo>
                <a:lnTo>
                  <a:pt x="267" y="2"/>
                </a:lnTo>
                <a:lnTo>
                  <a:pt x="274" y="2"/>
                </a:lnTo>
                <a:lnTo>
                  <a:pt x="280" y="2"/>
                </a:lnTo>
                <a:lnTo>
                  <a:pt x="283" y="2"/>
                </a:lnTo>
                <a:lnTo>
                  <a:pt x="290" y="2"/>
                </a:lnTo>
                <a:lnTo>
                  <a:pt x="297" y="2"/>
                </a:lnTo>
                <a:lnTo>
                  <a:pt x="304" y="2"/>
                </a:lnTo>
                <a:lnTo>
                  <a:pt x="311" y="2"/>
                </a:lnTo>
                <a:lnTo>
                  <a:pt x="317" y="2"/>
                </a:lnTo>
                <a:lnTo>
                  <a:pt x="321" y="2"/>
                </a:lnTo>
                <a:lnTo>
                  <a:pt x="328" y="2"/>
                </a:lnTo>
                <a:lnTo>
                  <a:pt x="333" y="2"/>
                </a:lnTo>
                <a:lnTo>
                  <a:pt x="340" y="2"/>
                </a:lnTo>
                <a:lnTo>
                  <a:pt x="347" y="2"/>
                </a:lnTo>
                <a:lnTo>
                  <a:pt x="350" y="2"/>
                </a:lnTo>
                <a:lnTo>
                  <a:pt x="357" y="2"/>
                </a:lnTo>
                <a:lnTo>
                  <a:pt x="364" y="2"/>
                </a:lnTo>
                <a:lnTo>
                  <a:pt x="371" y="2"/>
                </a:lnTo>
                <a:lnTo>
                  <a:pt x="378" y="2"/>
                </a:lnTo>
                <a:lnTo>
                  <a:pt x="380" y="2"/>
                </a:lnTo>
                <a:lnTo>
                  <a:pt x="387" y="2"/>
                </a:lnTo>
                <a:lnTo>
                  <a:pt x="394" y="2"/>
                </a:lnTo>
                <a:lnTo>
                  <a:pt x="400" y="2"/>
                </a:lnTo>
                <a:lnTo>
                  <a:pt x="407" y="2"/>
                </a:lnTo>
                <a:lnTo>
                  <a:pt x="414" y="2"/>
                </a:lnTo>
                <a:lnTo>
                  <a:pt x="416" y="2"/>
                </a:lnTo>
                <a:lnTo>
                  <a:pt x="423" y="2"/>
                </a:lnTo>
                <a:lnTo>
                  <a:pt x="430" y="2"/>
                </a:lnTo>
                <a:lnTo>
                  <a:pt x="437" y="2"/>
                </a:lnTo>
                <a:lnTo>
                  <a:pt x="444" y="2"/>
                </a:lnTo>
                <a:lnTo>
                  <a:pt x="447" y="2"/>
                </a:lnTo>
                <a:lnTo>
                  <a:pt x="454" y="2"/>
                </a:lnTo>
                <a:lnTo>
                  <a:pt x="457" y="2"/>
                </a:lnTo>
              </a:path>
            </a:pathLst>
          </a:custGeom>
          <a:noFill/>
          <a:ln w="19080">
            <a:solidFill>
              <a:srgbClr val="3333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2952720" y="3579840"/>
            <a:ext cx="1219320" cy="1368360"/>
          </a:xfrm>
          <a:custGeom>
            <a:avLst/>
            <a:gdLst/>
            <a:ahLst/>
            <a:rect l="l" t="t" r="r" b="b"/>
            <a:pathLst>
              <a:path w="10794" h="12028">
                <a:moveTo>
                  <a:pt x="0" y="9237"/>
                </a:moveTo>
                <a:lnTo>
                  <a:pt x="39" y="9237"/>
                </a:lnTo>
                <a:lnTo>
                  <a:pt x="97" y="9237"/>
                </a:lnTo>
                <a:lnTo>
                  <a:pt x="195" y="9237"/>
                </a:lnTo>
                <a:lnTo>
                  <a:pt x="273" y="9237"/>
                </a:lnTo>
                <a:lnTo>
                  <a:pt x="371" y="9237"/>
                </a:lnTo>
                <a:lnTo>
                  <a:pt x="468" y="9237"/>
                </a:lnTo>
                <a:lnTo>
                  <a:pt x="507" y="9237"/>
                </a:lnTo>
                <a:lnTo>
                  <a:pt x="533" y="9237"/>
                </a:lnTo>
                <a:lnTo>
                  <a:pt x="533" y="9370"/>
                </a:lnTo>
                <a:lnTo>
                  <a:pt x="507" y="9370"/>
                </a:lnTo>
                <a:lnTo>
                  <a:pt x="468" y="9370"/>
                </a:lnTo>
                <a:lnTo>
                  <a:pt x="371" y="9370"/>
                </a:lnTo>
                <a:lnTo>
                  <a:pt x="273" y="9370"/>
                </a:lnTo>
                <a:lnTo>
                  <a:pt x="195" y="9370"/>
                </a:lnTo>
                <a:lnTo>
                  <a:pt x="97" y="9370"/>
                </a:lnTo>
                <a:lnTo>
                  <a:pt x="39" y="9370"/>
                </a:lnTo>
                <a:lnTo>
                  <a:pt x="0" y="9370"/>
                </a:lnTo>
                <a:lnTo>
                  <a:pt x="0" y="9237"/>
                </a:lnTo>
                <a:close/>
                <a:moveTo>
                  <a:pt x="933" y="9237"/>
                </a:moveTo>
                <a:lnTo>
                  <a:pt x="976" y="9237"/>
                </a:lnTo>
                <a:lnTo>
                  <a:pt x="1034" y="9237"/>
                </a:lnTo>
                <a:lnTo>
                  <a:pt x="1132" y="9237"/>
                </a:lnTo>
                <a:lnTo>
                  <a:pt x="1210" y="9237"/>
                </a:lnTo>
                <a:lnTo>
                  <a:pt x="1307" y="9237"/>
                </a:lnTo>
                <a:lnTo>
                  <a:pt x="1405" y="9237"/>
                </a:lnTo>
                <a:lnTo>
                  <a:pt x="1444" y="9237"/>
                </a:lnTo>
                <a:lnTo>
                  <a:pt x="1466" y="9237"/>
                </a:lnTo>
                <a:lnTo>
                  <a:pt x="1466" y="9370"/>
                </a:lnTo>
                <a:lnTo>
                  <a:pt x="1444" y="9370"/>
                </a:lnTo>
                <a:lnTo>
                  <a:pt x="1405" y="9370"/>
                </a:lnTo>
                <a:lnTo>
                  <a:pt x="1307" y="9370"/>
                </a:lnTo>
                <a:lnTo>
                  <a:pt x="1210" y="9370"/>
                </a:lnTo>
                <a:lnTo>
                  <a:pt x="1132" y="9370"/>
                </a:lnTo>
                <a:lnTo>
                  <a:pt x="1034" y="9370"/>
                </a:lnTo>
                <a:lnTo>
                  <a:pt x="976" y="9370"/>
                </a:lnTo>
                <a:lnTo>
                  <a:pt x="933" y="9370"/>
                </a:lnTo>
                <a:lnTo>
                  <a:pt x="933" y="9237"/>
                </a:lnTo>
                <a:close/>
                <a:moveTo>
                  <a:pt x="1866" y="9237"/>
                </a:moveTo>
                <a:lnTo>
                  <a:pt x="1873" y="9237"/>
                </a:lnTo>
                <a:lnTo>
                  <a:pt x="1971" y="9237"/>
                </a:lnTo>
                <a:lnTo>
                  <a:pt x="2068" y="9237"/>
                </a:lnTo>
                <a:lnTo>
                  <a:pt x="2146" y="9237"/>
                </a:lnTo>
                <a:lnTo>
                  <a:pt x="2244" y="9237"/>
                </a:lnTo>
                <a:lnTo>
                  <a:pt x="2342" y="9237"/>
                </a:lnTo>
                <a:lnTo>
                  <a:pt x="2381" y="9237"/>
                </a:lnTo>
                <a:lnTo>
                  <a:pt x="2400" y="9237"/>
                </a:lnTo>
                <a:lnTo>
                  <a:pt x="2400" y="9370"/>
                </a:lnTo>
                <a:lnTo>
                  <a:pt x="2381" y="9370"/>
                </a:lnTo>
                <a:lnTo>
                  <a:pt x="2342" y="9370"/>
                </a:lnTo>
                <a:lnTo>
                  <a:pt x="2244" y="9370"/>
                </a:lnTo>
                <a:lnTo>
                  <a:pt x="2146" y="9370"/>
                </a:lnTo>
                <a:lnTo>
                  <a:pt x="2068" y="9370"/>
                </a:lnTo>
                <a:lnTo>
                  <a:pt x="1971" y="9370"/>
                </a:lnTo>
                <a:lnTo>
                  <a:pt x="1873" y="9370"/>
                </a:lnTo>
                <a:lnTo>
                  <a:pt x="1866" y="9370"/>
                </a:lnTo>
                <a:lnTo>
                  <a:pt x="1866" y="9237"/>
                </a:lnTo>
                <a:close/>
                <a:moveTo>
                  <a:pt x="2800" y="9237"/>
                </a:moveTo>
                <a:lnTo>
                  <a:pt x="2810" y="9237"/>
                </a:lnTo>
                <a:lnTo>
                  <a:pt x="2908" y="9237"/>
                </a:lnTo>
                <a:lnTo>
                  <a:pt x="3005" y="9237"/>
                </a:lnTo>
                <a:lnTo>
                  <a:pt x="3083" y="9237"/>
                </a:lnTo>
                <a:lnTo>
                  <a:pt x="3181" y="9237"/>
                </a:lnTo>
                <a:lnTo>
                  <a:pt x="3239" y="9237"/>
                </a:lnTo>
                <a:lnTo>
                  <a:pt x="3317" y="9237"/>
                </a:lnTo>
                <a:lnTo>
                  <a:pt x="3333" y="9237"/>
                </a:lnTo>
                <a:lnTo>
                  <a:pt x="3333" y="9370"/>
                </a:lnTo>
                <a:lnTo>
                  <a:pt x="3317" y="9370"/>
                </a:lnTo>
                <a:lnTo>
                  <a:pt x="3239" y="9370"/>
                </a:lnTo>
                <a:lnTo>
                  <a:pt x="3181" y="9370"/>
                </a:lnTo>
                <a:lnTo>
                  <a:pt x="3083" y="9370"/>
                </a:lnTo>
                <a:lnTo>
                  <a:pt x="3005" y="9370"/>
                </a:lnTo>
                <a:lnTo>
                  <a:pt x="2908" y="9370"/>
                </a:lnTo>
                <a:lnTo>
                  <a:pt x="2810" y="9370"/>
                </a:lnTo>
                <a:lnTo>
                  <a:pt x="2800" y="9370"/>
                </a:lnTo>
                <a:lnTo>
                  <a:pt x="2800" y="9237"/>
                </a:lnTo>
                <a:close/>
                <a:moveTo>
                  <a:pt x="3733" y="9237"/>
                </a:moveTo>
                <a:lnTo>
                  <a:pt x="3747" y="9237"/>
                </a:lnTo>
                <a:lnTo>
                  <a:pt x="3844" y="9237"/>
                </a:lnTo>
                <a:lnTo>
                  <a:pt x="3942" y="9237"/>
                </a:lnTo>
                <a:lnTo>
                  <a:pt x="4020" y="9237"/>
                </a:lnTo>
                <a:lnTo>
                  <a:pt x="4117" y="9237"/>
                </a:lnTo>
                <a:lnTo>
                  <a:pt x="4176" y="9237"/>
                </a:lnTo>
                <a:lnTo>
                  <a:pt x="4254" y="9237"/>
                </a:lnTo>
                <a:lnTo>
                  <a:pt x="4266" y="9237"/>
                </a:lnTo>
                <a:lnTo>
                  <a:pt x="4266" y="9370"/>
                </a:lnTo>
                <a:lnTo>
                  <a:pt x="4254" y="9370"/>
                </a:lnTo>
                <a:lnTo>
                  <a:pt x="4176" y="9370"/>
                </a:lnTo>
                <a:lnTo>
                  <a:pt x="4117" y="9370"/>
                </a:lnTo>
                <a:lnTo>
                  <a:pt x="4020" y="9370"/>
                </a:lnTo>
                <a:lnTo>
                  <a:pt x="3942" y="9370"/>
                </a:lnTo>
                <a:lnTo>
                  <a:pt x="3844" y="9370"/>
                </a:lnTo>
                <a:lnTo>
                  <a:pt x="3747" y="9370"/>
                </a:lnTo>
                <a:lnTo>
                  <a:pt x="3733" y="9370"/>
                </a:lnTo>
                <a:lnTo>
                  <a:pt x="3733" y="9237"/>
                </a:lnTo>
                <a:close/>
                <a:moveTo>
                  <a:pt x="4666" y="9237"/>
                </a:moveTo>
                <a:lnTo>
                  <a:pt x="4683" y="9237"/>
                </a:lnTo>
                <a:lnTo>
                  <a:pt x="4781" y="9237"/>
                </a:lnTo>
                <a:lnTo>
                  <a:pt x="4879" y="9237"/>
                </a:lnTo>
                <a:lnTo>
                  <a:pt x="4957" y="9237"/>
                </a:lnTo>
                <a:lnTo>
                  <a:pt x="5054" y="9237"/>
                </a:lnTo>
                <a:lnTo>
                  <a:pt x="5113" y="9237"/>
                </a:lnTo>
                <a:lnTo>
                  <a:pt x="5191" y="9237"/>
                </a:lnTo>
                <a:lnTo>
                  <a:pt x="5200" y="9237"/>
                </a:lnTo>
                <a:lnTo>
                  <a:pt x="5200" y="9370"/>
                </a:lnTo>
                <a:lnTo>
                  <a:pt x="5191" y="9370"/>
                </a:lnTo>
                <a:lnTo>
                  <a:pt x="5113" y="9370"/>
                </a:lnTo>
                <a:lnTo>
                  <a:pt x="5054" y="9370"/>
                </a:lnTo>
                <a:lnTo>
                  <a:pt x="4957" y="9370"/>
                </a:lnTo>
                <a:lnTo>
                  <a:pt x="4879" y="9370"/>
                </a:lnTo>
                <a:lnTo>
                  <a:pt x="4781" y="9370"/>
                </a:lnTo>
                <a:lnTo>
                  <a:pt x="4683" y="9370"/>
                </a:lnTo>
                <a:lnTo>
                  <a:pt x="4666" y="9370"/>
                </a:lnTo>
                <a:lnTo>
                  <a:pt x="4666" y="9237"/>
                </a:lnTo>
                <a:close/>
                <a:moveTo>
                  <a:pt x="5600" y="9237"/>
                </a:moveTo>
                <a:lnTo>
                  <a:pt x="5620" y="9237"/>
                </a:lnTo>
                <a:lnTo>
                  <a:pt x="5718" y="9237"/>
                </a:lnTo>
                <a:lnTo>
                  <a:pt x="5815" y="9237"/>
                </a:lnTo>
                <a:lnTo>
                  <a:pt x="5893" y="9237"/>
                </a:lnTo>
                <a:lnTo>
                  <a:pt x="5952" y="9237"/>
                </a:lnTo>
                <a:lnTo>
                  <a:pt x="6049" y="9237"/>
                </a:lnTo>
                <a:lnTo>
                  <a:pt x="6128" y="9237"/>
                </a:lnTo>
                <a:lnTo>
                  <a:pt x="6133" y="9237"/>
                </a:lnTo>
                <a:lnTo>
                  <a:pt x="6133" y="9370"/>
                </a:lnTo>
                <a:lnTo>
                  <a:pt x="6128" y="9370"/>
                </a:lnTo>
                <a:lnTo>
                  <a:pt x="6049" y="9370"/>
                </a:lnTo>
                <a:lnTo>
                  <a:pt x="5952" y="9370"/>
                </a:lnTo>
                <a:lnTo>
                  <a:pt x="5893" y="9370"/>
                </a:lnTo>
                <a:lnTo>
                  <a:pt x="5815" y="9370"/>
                </a:lnTo>
                <a:lnTo>
                  <a:pt x="5718" y="9370"/>
                </a:lnTo>
                <a:lnTo>
                  <a:pt x="5620" y="9370"/>
                </a:lnTo>
                <a:lnTo>
                  <a:pt x="5600" y="9370"/>
                </a:lnTo>
                <a:lnTo>
                  <a:pt x="5600" y="9237"/>
                </a:lnTo>
                <a:close/>
                <a:moveTo>
                  <a:pt x="6505" y="9215"/>
                </a:moveTo>
                <a:lnTo>
                  <a:pt x="6534" y="9205"/>
                </a:lnTo>
                <a:cubicBezTo>
                  <a:pt x="6541" y="9202"/>
                  <a:pt x="6549" y="9201"/>
                  <a:pt x="6557" y="9201"/>
                </a:cubicBezTo>
                <a:lnTo>
                  <a:pt x="6654" y="9201"/>
                </a:lnTo>
                <a:lnTo>
                  <a:pt x="6752" y="9201"/>
                </a:lnTo>
                <a:lnTo>
                  <a:pt x="6830" y="9201"/>
                </a:lnTo>
                <a:lnTo>
                  <a:pt x="6889" y="9201"/>
                </a:lnTo>
                <a:cubicBezTo>
                  <a:pt x="6897" y="9201"/>
                  <a:pt x="6904" y="9202"/>
                  <a:pt x="6912" y="9205"/>
                </a:cubicBezTo>
                <a:lnTo>
                  <a:pt x="7009" y="9241"/>
                </a:lnTo>
                <a:lnTo>
                  <a:pt x="6986" y="9237"/>
                </a:lnTo>
                <a:lnTo>
                  <a:pt x="7054" y="9237"/>
                </a:lnTo>
                <a:lnTo>
                  <a:pt x="7054" y="9370"/>
                </a:lnTo>
                <a:lnTo>
                  <a:pt x="6986" y="9370"/>
                </a:lnTo>
                <a:cubicBezTo>
                  <a:pt x="6978" y="9370"/>
                  <a:pt x="6970" y="9369"/>
                  <a:pt x="6963" y="9366"/>
                </a:cubicBezTo>
                <a:lnTo>
                  <a:pt x="6865" y="9330"/>
                </a:lnTo>
                <a:lnTo>
                  <a:pt x="6889" y="9334"/>
                </a:lnTo>
                <a:lnTo>
                  <a:pt x="6830" y="9334"/>
                </a:lnTo>
                <a:lnTo>
                  <a:pt x="6752" y="9334"/>
                </a:lnTo>
                <a:lnTo>
                  <a:pt x="6654" y="9334"/>
                </a:lnTo>
                <a:lnTo>
                  <a:pt x="6557" y="9334"/>
                </a:lnTo>
                <a:lnTo>
                  <a:pt x="6580" y="9330"/>
                </a:lnTo>
                <a:lnTo>
                  <a:pt x="6552" y="9340"/>
                </a:lnTo>
                <a:lnTo>
                  <a:pt x="6505" y="9215"/>
                </a:lnTo>
                <a:close/>
                <a:moveTo>
                  <a:pt x="7460" y="9220"/>
                </a:moveTo>
                <a:lnTo>
                  <a:pt x="7517" y="9241"/>
                </a:lnTo>
                <a:cubicBezTo>
                  <a:pt x="7525" y="9244"/>
                  <a:pt x="7533" y="9249"/>
                  <a:pt x="7539" y="9255"/>
                </a:cubicBezTo>
                <a:lnTo>
                  <a:pt x="7636" y="9345"/>
                </a:lnTo>
                <a:lnTo>
                  <a:pt x="7624" y="9336"/>
                </a:lnTo>
                <a:lnTo>
                  <a:pt x="7721" y="9390"/>
                </a:lnTo>
                <a:lnTo>
                  <a:pt x="7795" y="9424"/>
                </a:lnTo>
                <a:lnTo>
                  <a:pt x="7711" y="9448"/>
                </a:lnTo>
                <a:lnTo>
                  <a:pt x="7769" y="9358"/>
                </a:lnTo>
                <a:lnTo>
                  <a:pt x="7793" y="9326"/>
                </a:lnTo>
                <a:lnTo>
                  <a:pt x="7899" y="9407"/>
                </a:lnTo>
                <a:lnTo>
                  <a:pt x="7881" y="9430"/>
                </a:lnTo>
                <a:lnTo>
                  <a:pt x="7823" y="9521"/>
                </a:lnTo>
                <a:cubicBezTo>
                  <a:pt x="7805" y="9548"/>
                  <a:pt x="7769" y="9559"/>
                  <a:pt x="7739" y="9545"/>
                </a:cubicBezTo>
                <a:lnTo>
                  <a:pt x="7656" y="9506"/>
                </a:lnTo>
                <a:lnTo>
                  <a:pt x="7559" y="9452"/>
                </a:lnTo>
                <a:cubicBezTo>
                  <a:pt x="7554" y="9450"/>
                  <a:pt x="7550" y="9446"/>
                  <a:pt x="7546" y="9443"/>
                </a:cubicBezTo>
                <a:lnTo>
                  <a:pt x="7448" y="9352"/>
                </a:lnTo>
                <a:lnTo>
                  <a:pt x="7470" y="9366"/>
                </a:lnTo>
                <a:lnTo>
                  <a:pt x="7413" y="9345"/>
                </a:lnTo>
                <a:lnTo>
                  <a:pt x="7460" y="9220"/>
                </a:lnTo>
                <a:close/>
                <a:moveTo>
                  <a:pt x="7944" y="8978"/>
                </a:moveTo>
                <a:lnTo>
                  <a:pt x="8038" y="8770"/>
                </a:lnTo>
                <a:cubicBezTo>
                  <a:pt x="8039" y="8767"/>
                  <a:pt x="8041" y="8763"/>
                  <a:pt x="8043" y="8760"/>
                </a:cubicBezTo>
                <a:lnTo>
                  <a:pt x="8141" y="8616"/>
                </a:lnTo>
                <a:cubicBezTo>
                  <a:pt x="8155" y="8595"/>
                  <a:pt x="8178" y="8584"/>
                  <a:pt x="8202" y="8586"/>
                </a:cubicBezTo>
                <a:cubicBezTo>
                  <a:pt x="8227" y="8589"/>
                  <a:pt x="8248" y="8604"/>
                  <a:pt x="8257" y="8626"/>
                </a:cubicBezTo>
                <a:lnTo>
                  <a:pt x="8296" y="8717"/>
                </a:lnTo>
                <a:cubicBezTo>
                  <a:pt x="8298" y="8720"/>
                  <a:pt x="8299" y="8724"/>
                  <a:pt x="8300" y="8727"/>
                </a:cubicBezTo>
                <a:lnTo>
                  <a:pt x="8308" y="8759"/>
                </a:lnTo>
                <a:lnTo>
                  <a:pt x="8178" y="8790"/>
                </a:lnTo>
                <a:lnTo>
                  <a:pt x="8170" y="8759"/>
                </a:lnTo>
                <a:lnTo>
                  <a:pt x="8174" y="8770"/>
                </a:lnTo>
                <a:lnTo>
                  <a:pt x="8135" y="8679"/>
                </a:lnTo>
                <a:lnTo>
                  <a:pt x="8251" y="8690"/>
                </a:lnTo>
                <a:lnTo>
                  <a:pt x="8154" y="8835"/>
                </a:lnTo>
                <a:lnTo>
                  <a:pt x="8159" y="8825"/>
                </a:lnTo>
                <a:lnTo>
                  <a:pt x="8066" y="9033"/>
                </a:lnTo>
                <a:lnTo>
                  <a:pt x="7944" y="8978"/>
                </a:lnTo>
                <a:close/>
                <a:moveTo>
                  <a:pt x="8402" y="9153"/>
                </a:moveTo>
                <a:lnTo>
                  <a:pt x="8488" y="9679"/>
                </a:lnTo>
                <a:lnTo>
                  <a:pt x="8357" y="9701"/>
                </a:lnTo>
                <a:lnTo>
                  <a:pt x="8271" y="9174"/>
                </a:lnTo>
                <a:lnTo>
                  <a:pt x="8402" y="9153"/>
                </a:lnTo>
                <a:close/>
                <a:moveTo>
                  <a:pt x="8548" y="10075"/>
                </a:moveTo>
                <a:lnTo>
                  <a:pt x="8594" y="10378"/>
                </a:lnTo>
                <a:lnTo>
                  <a:pt x="8638" y="10598"/>
                </a:lnTo>
                <a:lnTo>
                  <a:pt x="8507" y="10624"/>
                </a:lnTo>
                <a:lnTo>
                  <a:pt x="8462" y="10398"/>
                </a:lnTo>
                <a:lnTo>
                  <a:pt x="8417" y="10095"/>
                </a:lnTo>
                <a:lnTo>
                  <a:pt x="8548" y="10075"/>
                </a:lnTo>
                <a:close/>
                <a:moveTo>
                  <a:pt x="8612" y="10777"/>
                </a:moveTo>
                <a:lnTo>
                  <a:pt x="8691" y="10249"/>
                </a:lnTo>
                <a:lnTo>
                  <a:pt x="8823" y="10269"/>
                </a:lnTo>
                <a:lnTo>
                  <a:pt x="8744" y="10796"/>
                </a:lnTo>
                <a:lnTo>
                  <a:pt x="8612" y="10777"/>
                </a:lnTo>
                <a:close/>
                <a:moveTo>
                  <a:pt x="8721" y="9856"/>
                </a:moveTo>
                <a:lnTo>
                  <a:pt x="8758" y="9324"/>
                </a:lnTo>
                <a:lnTo>
                  <a:pt x="8891" y="9333"/>
                </a:lnTo>
                <a:lnTo>
                  <a:pt x="8854" y="9865"/>
                </a:lnTo>
                <a:lnTo>
                  <a:pt x="8721" y="9856"/>
                </a:lnTo>
                <a:close/>
                <a:moveTo>
                  <a:pt x="8786" y="8925"/>
                </a:moveTo>
                <a:lnTo>
                  <a:pt x="8793" y="8829"/>
                </a:lnTo>
                <a:lnTo>
                  <a:pt x="8810" y="8394"/>
                </a:lnTo>
                <a:lnTo>
                  <a:pt x="8943" y="8399"/>
                </a:lnTo>
                <a:lnTo>
                  <a:pt x="8926" y="8838"/>
                </a:lnTo>
                <a:lnTo>
                  <a:pt x="8919" y="8934"/>
                </a:lnTo>
                <a:lnTo>
                  <a:pt x="8786" y="8925"/>
                </a:lnTo>
                <a:close/>
                <a:moveTo>
                  <a:pt x="8825" y="7994"/>
                </a:moveTo>
                <a:lnTo>
                  <a:pt x="8845" y="7461"/>
                </a:lnTo>
                <a:lnTo>
                  <a:pt x="8979" y="7466"/>
                </a:lnTo>
                <a:lnTo>
                  <a:pt x="8958" y="7999"/>
                </a:lnTo>
                <a:lnTo>
                  <a:pt x="8825" y="7994"/>
                </a:lnTo>
                <a:close/>
                <a:moveTo>
                  <a:pt x="8861" y="7062"/>
                </a:moveTo>
                <a:lnTo>
                  <a:pt x="8871" y="6789"/>
                </a:lnTo>
                <a:lnTo>
                  <a:pt x="8882" y="6528"/>
                </a:lnTo>
                <a:lnTo>
                  <a:pt x="9015" y="6534"/>
                </a:lnTo>
                <a:lnTo>
                  <a:pt x="9004" y="6794"/>
                </a:lnTo>
                <a:lnTo>
                  <a:pt x="8994" y="7067"/>
                </a:lnTo>
                <a:lnTo>
                  <a:pt x="8861" y="7062"/>
                </a:lnTo>
                <a:close/>
                <a:moveTo>
                  <a:pt x="8899" y="6129"/>
                </a:moveTo>
                <a:lnTo>
                  <a:pt x="8922" y="5596"/>
                </a:lnTo>
                <a:lnTo>
                  <a:pt x="9055" y="5602"/>
                </a:lnTo>
                <a:lnTo>
                  <a:pt x="9032" y="6134"/>
                </a:lnTo>
                <a:lnTo>
                  <a:pt x="8899" y="6129"/>
                </a:lnTo>
                <a:close/>
                <a:moveTo>
                  <a:pt x="8939" y="5196"/>
                </a:moveTo>
                <a:lnTo>
                  <a:pt x="8961" y="4663"/>
                </a:lnTo>
                <a:lnTo>
                  <a:pt x="9095" y="4669"/>
                </a:lnTo>
                <a:lnTo>
                  <a:pt x="9072" y="5202"/>
                </a:lnTo>
                <a:lnTo>
                  <a:pt x="8939" y="5196"/>
                </a:lnTo>
                <a:close/>
                <a:moveTo>
                  <a:pt x="8979" y="4264"/>
                </a:moveTo>
                <a:lnTo>
                  <a:pt x="9002" y="3731"/>
                </a:lnTo>
                <a:lnTo>
                  <a:pt x="9135" y="3737"/>
                </a:lnTo>
                <a:lnTo>
                  <a:pt x="9112" y="4270"/>
                </a:lnTo>
                <a:lnTo>
                  <a:pt x="8979" y="4264"/>
                </a:lnTo>
                <a:close/>
                <a:moveTo>
                  <a:pt x="9020" y="3331"/>
                </a:moveTo>
                <a:lnTo>
                  <a:pt x="9043" y="2798"/>
                </a:lnTo>
                <a:lnTo>
                  <a:pt x="9176" y="2804"/>
                </a:lnTo>
                <a:lnTo>
                  <a:pt x="9153" y="3337"/>
                </a:lnTo>
                <a:lnTo>
                  <a:pt x="9020" y="3331"/>
                </a:lnTo>
                <a:close/>
                <a:moveTo>
                  <a:pt x="9061" y="2399"/>
                </a:moveTo>
                <a:lnTo>
                  <a:pt x="9066" y="2270"/>
                </a:lnTo>
                <a:lnTo>
                  <a:pt x="9076" y="1867"/>
                </a:lnTo>
                <a:lnTo>
                  <a:pt x="9209" y="1870"/>
                </a:lnTo>
                <a:lnTo>
                  <a:pt x="9199" y="2276"/>
                </a:lnTo>
                <a:lnTo>
                  <a:pt x="9194" y="2405"/>
                </a:lnTo>
                <a:lnTo>
                  <a:pt x="9061" y="2399"/>
                </a:lnTo>
                <a:close/>
                <a:moveTo>
                  <a:pt x="9086" y="1467"/>
                </a:moveTo>
                <a:lnTo>
                  <a:pt x="9099" y="934"/>
                </a:lnTo>
                <a:lnTo>
                  <a:pt x="9232" y="937"/>
                </a:lnTo>
                <a:lnTo>
                  <a:pt x="9219" y="1470"/>
                </a:lnTo>
                <a:lnTo>
                  <a:pt x="9086" y="1467"/>
                </a:lnTo>
                <a:close/>
                <a:moveTo>
                  <a:pt x="9124" y="528"/>
                </a:moveTo>
                <a:lnTo>
                  <a:pt x="9199" y="0"/>
                </a:lnTo>
                <a:lnTo>
                  <a:pt x="9331" y="18"/>
                </a:lnTo>
                <a:lnTo>
                  <a:pt x="9256" y="546"/>
                </a:lnTo>
                <a:lnTo>
                  <a:pt x="9124" y="528"/>
                </a:lnTo>
                <a:close/>
                <a:moveTo>
                  <a:pt x="9415" y="321"/>
                </a:moveTo>
                <a:lnTo>
                  <a:pt x="9432" y="396"/>
                </a:lnTo>
                <a:cubicBezTo>
                  <a:pt x="9433" y="400"/>
                  <a:pt x="9433" y="403"/>
                  <a:pt x="9434" y="407"/>
                </a:cubicBezTo>
                <a:lnTo>
                  <a:pt x="9464" y="862"/>
                </a:lnTo>
                <a:lnTo>
                  <a:pt x="9331" y="871"/>
                </a:lnTo>
                <a:lnTo>
                  <a:pt x="9301" y="415"/>
                </a:lnTo>
                <a:lnTo>
                  <a:pt x="9302" y="426"/>
                </a:lnTo>
                <a:lnTo>
                  <a:pt x="9285" y="351"/>
                </a:lnTo>
                <a:lnTo>
                  <a:pt x="9415" y="321"/>
                </a:lnTo>
                <a:close/>
                <a:moveTo>
                  <a:pt x="9490" y="1261"/>
                </a:moveTo>
                <a:lnTo>
                  <a:pt x="9525" y="1793"/>
                </a:lnTo>
                <a:lnTo>
                  <a:pt x="9392" y="1802"/>
                </a:lnTo>
                <a:lnTo>
                  <a:pt x="9357" y="1270"/>
                </a:lnTo>
                <a:lnTo>
                  <a:pt x="9490" y="1261"/>
                </a:lnTo>
                <a:close/>
                <a:moveTo>
                  <a:pt x="9545" y="2194"/>
                </a:moveTo>
                <a:lnTo>
                  <a:pt x="9568" y="2727"/>
                </a:lnTo>
                <a:lnTo>
                  <a:pt x="9435" y="2733"/>
                </a:lnTo>
                <a:lnTo>
                  <a:pt x="9412" y="2200"/>
                </a:lnTo>
                <a:lnTo>
                  <a:pt x="9545" y="2194"/>
                </a:lnTo>
                <a:close/>
                <a:moveTo>
                  <a:pt x="9586" y="3127"/>
                </a:moveTo>
                <a:lnTo>
                  <a:pt x="9610" y="3660"/>
                </a:lnTo>
                <a:lnTo>
                  <a:pt x="9476" y="3665"/>
                </a:lnTo>
                <a:lnTo>
                  <a:pt x="9453" y="3133"/>
                </a:lnTo>
                <a:lnTo>
                  <a:pt x="9586" y="3127"/>
                </a:lnTo>
                <a:close/>
                <a:moveTo>
                  <a:pt x="9627" y="4059"/>
                </a:moveTo>
                <a:lnTo>
                  <a:pt x="9629" y="4095"/>
                </a:lnTo>
                <a:lnTo>
                  <a:pt x="9637" y="4594"/>
                </a:lnTo>
                <a:lnTo>
                  <a:pt x="9503" y="4596"/>
                </a:lnTo>
                <a:lnTo>
                  <a:pt x="9496" y="4101"/>
                </a:lnTo>
                <a:lnTo>
                  <a:pt x="9494" y="4065"/>
                </a:lnTo>
                <a:lnTo>
                  <a:pt x="9627" y="4059"/>
                </a:lnTo>
                <a:close/>
                <a:moveTo>
                  <a:pt x="9643" y="4994"/>
                </a:moveTo>
                <a:lnTo>
                  <a:pt x="9651" y="5528"/>
                </a:lnTo>
                <a:lnTo>
                  <a:pt x="9518" y="5530"/>
                </a:lnTo>
                <a:lnTo>
                  <a:pt x="9510" y="4996"/>
                </a:lnTo>
                <a:lnTo>
                  <a:pt x="9643" y="4994"/>
                </a:lnTo>
                <a:close/>
                <a:moveTo>
                  <a:pt x="9657" y="5928"/>
                </a:moveTo>
                <a:lnTo>
                  <a:pt x="9666" y="6461"/>
                </a:lnTo>
                <a:lnTo>
                  <a:pt x="9532" y="6463"/>
                </a:lnTo>
                <a:lnTo>
                  <a:pt x="9524" y="5930"/>
                </a:lnTo>
                <a:lnTo>
                  <a:pt x="9657" y="5928"/>
                </a:lnTo>
                <a:close/>
                <a:moveTo>
                  <a:pt x="9678" y="6859"/>
                </a:moveTo>
                <a:lnTo>
                  <a:pt x="9700" y="7392"/>
                </a:lnTo>
                <a:lnTo>
                  <a:pt x="9567" y="7397"/>
                </a:lnTo>
                <a:lnTo>
                  <a:pt x="9545" y="6864"/>
                </a:lnTo>
                <a:lnTo>
                  <a:pt x="9678" y="6859"/>
                </a:lnTo>
                <a:close/>
                <a:moveTo>
                  <a:pt x="9717" y="7791"/>
                </a:moveTo>
                <a:lnTo>
                  <a:pt x="9739" y="8324"/>
                </a:lnTo>
                <a:lnTo>
                  <a:pt x="9606" y="8330"/>
                </a:lnTo>
                <a:lnTo>
                  <a:pt x="9584" y="7797"/>
                </a:lnTo>
                <a:lnTo>
                  <a:pt x="9717" y="7791"/>
                </a:lnTo>
                <a:close/>
                <a:moveTo>
                  <a:pt x="9756" y="8724"/>
                </a:moveTo>
                <a:lnTo>
                  <a:pt x="9765" y="8957"/>
                </a:lnTo>
                <a:lnTo>
                  <a:pt x="9782" y="9256"/>
                </a:lnTo>
                <a:lnTo>
                  <a:pt x="9649" y="9263"/>
                </a:lnTo>
                <a:lnTo>
                  <a:pt x="9632" y="8963"/>
                </a:lnTo>
                <a:lnTo>
                  <a:pt x="9623" y="8729"/>
                </a:lnTo>
                <a:lnTo>
                  <a:pt x="9756" y="8724"/>
                </a:lnTo>
                <a:close/>
                <a:moveTo>
                  <a:pt x="9805" y="9655"/>
                </a:moveTo>
                <a:lnTo>
                  <a:pt x="9835" y="10187"/>
                </a:lnTo>
                <a:lnTo>
                  <a:pt x="9701" y="10195"/>
                </a:lnTo>
                <a:lnTo>
                  <a:pt x="9672" y="9662"/>
                </a:lnTo>
                <a:lnTo>
                  <a:pt x="9805" y="9655"/>
                </a:lnTo>
                <a:close/>
                <a:moveTo>
                  <a:pt x="9857" y="10587"/>
                </a:moveTo>
                <a:lnTo>
                  <a:pt x="9863" y="10692"/>
                </a:lnTo>
                <a:lnTo>
                  <a:pt x="9896" y="11117"/>
                </a:lnTo>
                <a:lnTo>
                  <a:pt x="9763" y="11128"/>
                </a:lnTo>
                <a:lnTo>
                  <a:pt x="9730" y="10699"/>
                </a:lnTo>
                <a:lnTo>
                  <a:pt x="9724" y="10594"/>
                </a:lnTo>
                <a:lnTo>
                  <a:pt x="9857" y="10587"/>
                </a:lnTo>
                <a:close/>
                <a:moveTo>
                  <a:pt x="9927" y="11516"/>
                </a:moveTo>
                <a:lnTo>
                  <a:pt x="9941" y="11702"/>
                </a:lnTo>
                <a:lnTo>
                  <a:pt x="9937" y="11683"/>
                </a:lnTo>
                <a:lnTo>
                  <a:pt x="10034" y="11936"/>
                </a:lnTo>
                <a:lnTo>
                  <a:pt x="9908" y="11942"/>
                </a:lnTo>
                <a:lnTo>
                  <a:pt x="9929" y="11870"/>
                </a:lnTo>
                <a:lnTo>
                  <a:pt x="10057" y="11906"/>
                </a:lnTo>
                <a:lnTo>
                  <a:pt x="10036" y="11979"/>
                </a:lnTo>
                <a:cubicBezTo>
                  <a:pt x="10028" y="12006"/>
                  <a:pt x="10004" y="12026"/>
                  <a:pt x="9975" y="12027"/>
                </a:cubicBezTo>
                <a:cubicBezTo>
                  <a:pt x="9946" y="12028"/>
                  <a:pt x="9920" y="12011"/>
                  <a:pt x="9910" y="11984"/>
                </a:cubicBezTo>
                <a:lnTo>
                  <a:pt x="9812" y="11731"/>
                </a:lnTo>
                <a:cubicBezTo>
                  <a:pt x="9810" y="11725"/>
                  <a:pt x="9808" y="11719"/>
                  <a:pt x="9808" y="11713"/>
                </a:cubicBezTo>
                <a:lnTo>
                  <a:pt x="9794" y="11526"/>
                </a:lnTo>
                <a:lnTo>
                  <a:pt x="9927" y="11516"/>
                </a:lnTo>
                <a:close/>
                <a:moveTo>
                  <a:pt x="10010" y="11495"/>
                </a:moveTo>
                <a:lnTo>
                  <a:pt x="10042" y="10963"/>
                </a:lnTo>
                <a:lnTo>
                  <a:pt x="10175" y="10970"/>
                </a:lnTo>
                <a:lnTo>
                  <a:pt x="10143" y="11503"/>
                </a:lnTo>
                <a:lnTo>
                  <a:pt x="10010" y="11495"/>
                </a:lnTo>
                <a:close/>
                <a:moveTo>
                  <a:pt x="10097" y="10561"/>
                </a:moveTo>
                <a:lnTo>
                  <a:pt x="10140" y="10252"/>
                </a:lnTo>
                <a:lnTo>
                  <a:pt x="10181" y="10031"/>
                </a:lnTo>
                <a:lnTo>
                  <a:pt x="10312" y="10056"/>
                </a:lnTo>
                <a:lnTo>
                  <a:pt x="10272" y="10271"/>
                </a:lnTo>
                <a:lnTo>
                  <a:pt x="10230" y="10579"/>
                </a:lnTo>
                <a:lnTo>
                  <a:pt x="10097" y="10561"/>
                </a:lnTo>
                <a:close/>
                <a:moveTo>
                  <a:pt x="10279" y="9629"/>
                </a:moveTo>
                <a:lnTo>
                  <a:pt x="10341" y="9493"/>
                </a:lnTo>
                <a:cubicBezTo>
                  <a:pt x="10351" y="9469"/>
                  <a:pt x="10375" y="9454"/>
                  <a:pt x="10401" y="9454"/>
                </a:cubicBezTo>
                <a:lnTo>
                  <a:pt x="10499" y="9454"/>
                </a:lnTo>
                <a:cubicBezTo>
                  <a:pt x="10531" y="9454"/>
                  <a:pt x="10559" y="9477"/>
                  <a:pt x="10565" y="9509"/>
                </a:cubicBezTo>
                <a:lnTo>
                  <a:pt x="10604" y="9726"/>
                </a:lnTo>
                <a:lnTo>
                  <a:pt x="10601" y="9715"/>
                </a:lnTo>
                <a:lnTo>
                  <a:pt x="10623" y="9777"/>
                </a:lnTo>
                <a:lnTo>
                  <a:pt x="10498" y="9822"/>
                </a:lnTo>
                <a:lnTo>
                  <a:pt x="10475" y="9760"/>
                </a:lnTo>
                <a:cubicBezTo>
                  <a:pt x="10474" y="9756"/>
                  <a:pt x="10473" y="9753"/>
                  <a:pt x="10472" y="9749"/>
                </a:cubicBezTo>
                <a:lnTo>
                  <a:pt x="10433" y="9532"/>
                </a:lnTo>
                <a:lnTo>
                  <a:pt x="10499" y="9587"/>
                </a:lnTo>
                <a:lnTo>
                  <a:pt x="10401" y="9587"/>
                </a:lnTo>
                <a:lnTo>
                  <a:pt x="10462" y="9548"/>
                </a:lnTo>
                <a:lnTo>
                  <a:pt x="10401" y="9684"/>
                </a:lnTo>
                <a:lnTo>
                  <a:pt x="10279" y="9629"/>
                </a:lnTo>
                <a:close/>
                <a:moveTo>
                  <a:pt x="10769" y="10143"/>
                </a:moveTo>
                <a:lnTo>
                  <a:pt x="10794" y="10198"/>
                </a:lnTo>
                <a:lnTo>
                  <a:pt x="10672" y="10253"/>
                </a:lnTo>
                <a:lnTo>
                  <a:pt x="10648" y="10198"/>
                </a:lnTo>
                <a:lnTo>
                  <a:pt x="10769" y="10143"/>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159080" y="4127400"/>
            <a:ext cx="1221120" cy="831960"/>
          </a:xfrm>
          <a:custGeom>
            <a:avLst/>
            <a:gdLst/>
            <a:ahLst/>
            <a:rect l="l" t="t" r="r" b="b"/>
            <a:pathLst>
              <a:path w="5405" h="3662">
                <a:moveTo>
                  <a:pt x="57" y="2692"/>
                </a:moveTo>
                <a:lnTo>
                  <a:pt x="96" y="2755"/>
                </a:lnTo>
                <a:lnTo>
                  <a:pt x="79" y="2741"/>
                </a:lnTo>
                <a:lnTo>
                  <a:pt x="128" y="2759"/>
                </a:lnTo>
                <a:lnTo>
                  <a:pt x="99" y="2762"/>
                </a:lnTo>
                <a:lnTo>
                  <a:pt x="128" y="2744"/>
                </a:lnTo>
                <a:lnTo>
                  <a:pt x="120" y="2751"/>
                </a:lnTo>
                <a:lnTo>
                  <a:pt x="159" y="2705"/>
                </a:lnTo>
                <a:cubicBezTo>
                  <a:pt x="163" y="2701"/>
                  <a:pt x="168" y="2698"/>
                  <a:pt x="173" y="2696"/>
                </a:cubicBezTo>
                <a:lnTo>
                  <a:pt x="217" y="2680"/>
                </a:lnTo>
                <a:lnTo>
                  <a:pt x="240" y="2742"/>
                </a:lnTo>
                <a:lnTo>
                  <a:pt x="196" y="2758"/>
                </a:lnTo>
                <a:lnTo>
                  <a:pt x="210" y="2749"/>
                </a:lnTo>
                <a:lnTo>
                  <a:pt x="171" y="2794"/>
                </a:lnTo>
                <a:cubicBezTo>
                  <a:pt x="169" y="2797"/>
                  <a:pt x="166" y="2799"/>
                  <a:pt x="163" y="2801"/>
                </a:cubicBezTo>
                <a:lnTo>
                  <a:pt x="134" y="2819"/>
                </a:lnTo>
                <a:cubicBezTo>
                  <a:pt x="125" y="2824"/>
                  <a:pt x="115" y="2825"/>
                  <a:pt x="105" y="2822"/>
                </a:cubicBezTo>
                <a:lnTo>
                  <a:pt x="56" y="2804"/>
                </a:lnTo>
                <a:cubicBezTo>
                  <a:pt x="49" y="2801"/>
                  <a:pt x="43" y="2796"/>
                  <a:pt x="39" y="2790"/>
                </a:cubicBezTo>
                <a:lnTo>
                  <a:pt x="0" y="2727"/>
                </a:lnTo>
                <a:lnTo>
                  <a:pt x="57" y="2692"/>
                </a:lnTo>
                <a:close/>
                <a:moveTo>
                  <a:pt x="411" y="2721"/>
                </a:moveTo>
                <a:lnTo>
                  <a:pt x="448" y="2721"/>
                </a:lnTo>
                <a:lnTo>
                  <a:pt x="496" y="2721"/>
                </a:lnTo>
                <a:lnTo>
                  <a:pt x="535" y="2721"/>
                </a:lnTo>
                <a:lnTo>
                  <a:pt x="584" y="2721"/>
                </a:lnTo>
                <a:cubicBezTo>
                  <a:pt x="590" y="2721"/>
                  <a:pt x="596" y="2723"/>
                  <a:pt x="602" y="2726"/>
                </a:cubicBezTo>
                <a:lnTo>
                  <a:pt x="631" y="2744"/>
                </a:lnTo>
                <a:lnTo>
                  <a:pt x="666" y="2760"/>
                </a:lnTo>
                <a:lnTo>
                  <a:pt x="682" y="2769"/>
                </a:lnTo>
                <a:lnTo>
                  <a:pt x="650" y="2827"/>
                </a:lnTo>
                <a:lnTo>
                  <a:pt x="638" y="2821"/>
                </a:lnTo>
                <a:lnTo>
                  <a:pt x="596" y="2801"/>
                </a:lnTo>
                <a:lnTo>
                  <a:pt x="566" y="2783"/>
                </a:lnTo>
                <a:lnTo>
                  <a:pt x="584" y="2788"/>
                </a:lnTo>
                <a:lnTo>
                  <a:pt x="535" y="2788"/>
                </a:lnTo>
                <a:lnTo>
                  <a:pt x="496" y="2788"/>
                </a:lnTo>
                <a:lnTo>
                  <a:pt x="448" y="2788"/>
                </a:lnTo>
                <a:lnTo>
                  <a:pt x="411" y="2788"/>
                </a:lnTo>
                <a:lnTo>
                  <a:pt x="411" y="2721"/>
                </a:lnTo>
                <a:close/>
                <a:moveTo>
                  <a:pt x="860" y="2843"/>
                </a:moveTo>
                <a:lnTo>
                  <a:pt x="878" y="2849"/>
                </a:lnTo>
                <a:lnTo>
                  <a:pt x="927" y="2868"/>
                </a:lnTo>
                <a:lnTo>
                  <a:pt x="915" y="2865"/>
                </a:lnTo>
                <a:lnTo>
                  <a:pt x="964" y="2865"/>
                </a:lnTo>
                <a:cubicBezTo>
                  <a:pt x="971" y="2865"/>
                  <a:pt x="977" y="2868"/>
                  <a:pt x="983" y="2871"/>
                </a:cubicBezTo>
                <a:lnTo>
                  <a:pt x="1022" y="2899"/>
                </a:lnTo>
                <a:lnTo>
                  <a:pt x="1003" y="2893"/>
                </a:lnTo>
                <a:lnTo>
                  <a:pt x="1051" y="2893"/>
                </a:lnTo>
                <a:cubicBezTo>
                  <a:pt x="1058" y="2893"/>
                  <a:pt x="1064" y="2894"/>
                  <a:pt x="1069" y="2898"/>
                </a:cubicBezTo>
                <a:lnTo>
                  <a:pt x="1098" y="2916"/>
                </a:lnTo>
                <a:lnTo>
                  <a:pt x="1081" y="2911"/>
                </a:lnTo>
                <a:lnTo>
                  <a:pt x="1097" y="2911"/>
                </a:lnTo>
                <a:lnTo>
                  <a:pt x="1097" y="2977"/>
                </a:lnTo>
                <a:lnTo>
                  <a:pt x="1081" y="2977"/>
                </a:lnTo>
                <a:cubicBezTo>
                  <a:pt x="1075" y="2977"/>
                  <a:pt x="1068" y="2976"/>
                  <a:pt x="1063" y="2972"/>
                </a:cubicBezTo>
                <a:lnTo>
                  <a:pt x="1034" y="2954"/>
                </a:lnTo>
                <a:lnTo>
                  <a:pt x="1051" y="2959"/>
                </a:lnTo>
                <a:lnTo>
                  <a:pt x="1003" y="2959"/>
                </a:lnTo>
                <a:cubicBezTo>
                  <a:pt x="996" y="2959"/>
                  <a:pt x="989" y="2957"/>
                  <a:pt x="984" y="2953"/>
                </a:cubicBezTo>
                <a:lnTo>
                  <a:pt x="945" y="2926"/>
                </a:lnTo>
                <a:lnTo>
                  <a:pt x="964" y="2932"/>
                </a:lnTo>
                <a:lnTo>
                  <a:pt x="915" y="2932"/>
                </a:lnTo>
                <a:cubicBezTo>
                  <a:pt x="911" y="2932"/>
                  <a:pt x="907" y="2931"/>
                  <a:pt x="904" y="2930"/>
                </a:cubicBezTo>
                <a:lnTo>
                  <a:pt x="855" y="2912"/>
                </a:lnTo>
                <a:lnTo>
                  <a:pt x="837" y="2905"/>
                </a:lnTo>
                <a:lnTo>
                  <a:pt x="860" y="2843"/>
                </a:lnTo>
                <a:close/>
                <a:moveTo>
                  <a:pt x="1303" y="3003"/>
                </a:moveTo>
                <a:lnTo>
                  <a:pt x="1312" y="3015"/>
                </a:lnTo>
                <a:lnTo>
                  <a:pt x="1285" y="3001"/>
                </a:lnTo>
                <a:lnTo>
                  <a:pt x="1334" y="3001"/>
                </a:lnTo>
                <a:cubicBezTo>
                  <a:pt x="1338" y="3001"/>
                  <a:pt x="1342" y="3002"/>
                  <a:pt x="1346" y="3003"/>
                </a:cubicBezTo>
                <a:lnTo>
                  <a:pt x="1394" y="3021"/>
                </a:lnTo>
                <a:cubicBezTo>
                  <a:pt x="1397" y="3022"/>
                  <a:pt x="1399" y="3023"/>
                  <a:pt x="1402" y="3025"/>
                </a:cubicBezTo>
                <a:lnTo>
                  <a:pt x="1441" y="3052"/>
                </a:lnTo>
                <a:lnTo>
                  <a:pt x="1433" y="3048"/>
                </a:lnTo>
                <a:lnTo>
                  <a:pt x="1482" y="3066"/>
                </a:lnTo>
                <a:cubicBezTo>
                  <a:pt x="1484" y="3067"/>
                  <a:pt x="1486" y="3068"/>
                  <a:pt x="1488" y="3069"/>
                </a:cubicBezTo>
                <a:lnTo>
                  <a:pt x="1517" y="3087"/>
                </a:lnTo>
                <a:lnTo>
                  <a:pt x="1533" y="3098"/>
                </a:lnTo>
                <a:lnTo>
                  <a:pt x="1494" y="3153"/>
                </a:lnTo>
                <a:lnTo>
                  <a:pt x="1482" y="3144"/>
                </a:lnTo>
                <a:lnTo>
                  <a:pt x="1453" y="3126"/>
                </a:lnTo>
                <a:lnTo>
                  <a:pt x="1459" y="3129"/>
                </a:lnTo>
                <a:lnTo>
                  <a:pt x="1410" y="3111"/>
                </a:lnTo>
                <a:cubicBezTo>
                  <a:pt x="1407" y="3110"/>
                  <a:pt x="1405" y="3108"/>
                  <a:pt x="1403" y="3107"/>
                </a:cubicBezTo>
                <a:lnTo>
                  <a:pt x="1364" y="3080"/>
                </a:lnTo>
                <a:lnTo>
                  <a:pt x="1371" y="3084"/>
                </a:lnTo>
                <a:lnTo>
                  <a:pt x="1322" y="3066"/>
                </a:lnTo>
                <a:lnTo>
                  <a:pt x="1334" y="3068"/>
                </a:lnTo>
                <a:lnTo>
                  <a:pt x="1285" y="3068"/>
                </a:lnTo>
                <a:cubicBezTo>
                  <a:pt x="1275" y="3068"/>
                  <a:pt x="1264" y="3062"/>
                  <a:pt x="1258" y="3054"/>
                </a:cubicBezTo>
                <a:lnTo>
                  <a:pt x="1249" y="3041"/>
                </a:lnTo>
                <a:lnTo>
                  <a:pt x="1303" y="3003"/>
                </a:lnTo>
                <a:close/>
                <a:moveTo>
                  <a:pt x="1675" y="3174"/>
                </a:moveTo>
                <a:lnTo>
                  <a:pt x="1722" y="3157"/>
                </a:lnTo>
                <a:lnTo>
                  <a:pt x="1706" y="3168"/>
                </a:lnTo>
                <a:lnTo>
                  <a:pt x="1726" y="3141"/>
                </a:lnTo>
                <a:cubicBezTo>
                  <a:pt x="1727" y="3140"/>
                  <a:pt x="1728" y="3138"/>
                  <a:pt x="1730" y="3136"/>
                </a:cubicBezTo>
                <a:lnTo>
                  <a:pt x="1779" y="3091"/>
                </a:lnTo>
                <a:lnTo>
                  <a:pt x="1830" y="3053"/>
                </a:lnTo>
                <a:cubicBezTo>
                  <a:pt x="1840" y="3045"/>
                  <a:pt x="1853" y="3044"/>
                  <a:pt x="1864" y="3049"/>
                </a:cubicBezTo>
                <a:lnTo>
                  <a:pt x="1903" y="3067"/>
                </a:lnTo>
                <a:cubicBezTo>
                  <a:pt x="1910" y="3070"/>
                  <a:pt x="1915" y="3075"/>
                  <a:pt x="1918" y="3082"/>
                </a:cubicBezTo>
                <a:lnTo>
                  <a:pt x="1925" y="3094"/>
                </a:lnTo>
                <a:lnTo>
                  <a:pt x="1866" y="3126"/>
                </a:lnTo>
                <a:lnTo>
                  <a:pt x="1860" y="3113"/>
                </a:lnTo>
                <a:lnTo>
                  <a:pt x="1875" y="3128"/>
                </a:lnTo>
                <a:lnTo>
                  <a:pt x="1836" y="3110"/>
                </a:lnTo>
                <a:lnTo>
                  <a:pt x="1870" y="3106"/>
                </a:lnTo>
                <a:lnTo>
                  <a:pt x="1824" y="3140"/>
                </a:lnTo>
                <a:lnTo>
                  <a:pt x="1775" y="3185"/>
                </a:lnTo>
                <a:lnTo>
                  <a:pt x="1780" y="3180"/>
                </a:lnTo>
                <a:lnTo>
                  <a:pt x="1760" y="3207"/>
                </a:lnTo>
                <a:cubicBezTo>
                  <a:pt x="1756" y="3213"/>
                  <a:pt x="1751" y="3217"/>
                  <a:pt x="1745" y="3219"/>
                </a:cubicBezTo>
                <a:lnTo>
                  <a:pt x="1699" y="3236"/>
                </a:lnTo>
                <a:lnTo>
                  <a:pt x="1675" y="3174"/>
                </a:lnTo>
                <a:close/>
                <a:moveTo>
                  <a:pt x="1993" y="3290"/>
                </a:moveTo>
                <a:lnTo>
                  <a:pt x="2000" y="3326"/>
                </a:lnTo>
                <a:lnTo>
                  <a:pt x="2039" y="3506"/>
                </a:lnTo>
                <a:lnTo>
                  <a:pt x="2037" y="3501"/>
                </a:lnTo>
                <a:lnTo>
                  <a:pt x="2053" y="3544"/>
                </a:lnTo>
                <a:lnTo>
                  <a:pt x="1991" y="3568"/>
                </a:lnTo>
                <a:lnTo>
                  <a:pt x="1975" y="3525"/>
                </a:lnTo>
                <a:cubicBezTo>
                  <a:pt x="1974" y="3524"/>
                  <a:pt x="1974" y="3522"/>
                  <a:pt x="1973" y="3520"/>
                </a:cubicBezTo>
                <a:lnTo>
                  <a:pt x="1934" y="3339"/>
                </a:lnTo>
                <a:lnTo>
                  <a:pt x="1927" y="3304"/>
                </a:lnTo>
                <a:lnTo>
                  <a:pt x="1993" y="3290"/>
                </a:lnTo>
                <a:close/>
                <a:moveTo>
                  <a:pt x="2095" y="3631"/>
                </a:moveTo>
                <a:lnTo>
                  <a:pt x="2123" y="3579"/>
                </a:lnTo>
                <a:lnTo>
                  <a:pt x="2119" y="3592"/>
                </a:lnTo>
                <a:lnTo>
                  <a:pt x="2132" y="3385"/>
                </a:lnTo>
                <a:lnTo>
                  <a:pt x="2199" y="3389"/>
                </a:lnTo>
                <a:lnTo>
                  <a:pt x="2185" y="3597"/>
                </a:lnTo>
                <a:cubicBezTo>
                  <a:pt x="2185" y="3601"/>
                  <a:pt x="2184" y="3606"/>
                  <a:pt x="2181" y="3610"/>
                </a:cubicBezTo>
                <a:lnTo>
                  <a:pt x="2153" y="3662"/>
                </a:lnTo>
                <a:lnTo>
                  <a:pt x="2095" y="3631"/>
                </a:lnTo>
                <a:close/>
                <a:moveTo>
                  <a:pt x="2150" y="3185"/>
                </a:moveTo>
                <a:lnTo>
                  <a:pt x="2178" y="2919"/>
                </a:lnTo>
                <a:lnTo>
                  <a:pt x="2244" y="2926"/>
                </a:lnTo>
                <a:lnTo>
                  <a:pt x="2216" y="3192"/>
                </a:lnTo>
                <a:lnTo>
                  <a:pt x="2150" y="3185"/>
                </a:lnTo>
                <a:close/>
                <a:moveTo>
                  <a:pt x="2197" y="2721"/>
                </a:moveTo>
                <a:lnTo>
                  <a:pt x="2220" y="2455"/>
                </a:lnTo>
                <a:lnTo>
                  <a:pt x="2286" y="2461"/>
                </a:lnTo>
                <a:lnTo>
                  <a:pt x="2263" y="2727"/>
                </a:lnTo>
                <a:lnTo>
                  <a:pt x="2197" y="2721"/>
                </a:lnTo>
                <a:close/>
                <a:moveTo>
                  <a:pt x="2237" y="2256"/>
                </a:moveTo>
                <a:lnTo>
                  <a:pt x="2259" y="1990"/>
                </a:lnTo>
                <a:lnTo>
                  <a:pt x="2326" y="1996"/>
                </a:lnTo>
                <a:lnTo>
                  <a:pt x="2304" y="2262"/>
                </a:lnTo>
                <a:lnTo>
                  <a:pt x="2237" y="2256"/>
                </a:lnTo>
                <a:close/>
                <a:moveTo>
                  <a:pt x="2276" y="1791"/>
                </a:moveTo>
                <a:lnTo>
                  <a:pt x="2284" y="1685"/>
                </a:lnTo>
                <a:lnTo>
                  <a:pt x="2297" y="1525"/>
                </a:lnTo>
                <a:lnTo>
                  <a:pt x="2364" y="1531"/>
                </a:lnTo>
                <a:lnTo>
                  <a:pt x="2351" y="1691"/>
                </a:lnTo>
                <a:lnTo>
                  <a:pt x="2342" y="1797"/>
                </a:lnTo>
                <a:lnTo>
                  <a:pt x="2276" y="1791"/>
                </a:lnTo>
                <a:close/>
                <a:moveTo>
                  <a:pt x="2314" y="1326"/>
                </a:moveTo>
                <a:lnTo>
                  <a:pt x="2323" y="1207"/>
                </a:lnTo>
                <a:lnTo>
                  <a:pt x="2347" y="1059"/>
                </a:lnTo>
                <a:lnTo>
                  <a:pt x="2413" y="1069"/>
                </a:lnTo>
                <a:lnTo>
                  <a:pt x="2390" y="1212"/>
                </a:lnTo>
                <a:lnTo>
                  <a:pt x="2380" y="1331"/>
                </a:lnTo>
                <a:lnTo>
                  <a:pt x="2314" y="1326"/>
                </a:lnTo>
                <a:close/>
                <a:moveTo>
                  <a:pt x="2390" y="856"/>
                </a:moveTo>
                <a:lnTo>
                  <a:pt x="2404" y="825"/>
                </a:lnTo>
                <a:cubicBezTo>
                  <a:pt x="2410" y="812"/>
                  <a:pt x="2424" y="804"/>
                  <a:pt x="2438" y="806"/>
                </a:cubicBezTo>
                <a:cubicBezTo>
                  <a:pt x="2452" y="807"/>
                  <a:pt x="2463" y="817"/>
                  <a:pt x="2467" y="831"/>
                </a:cubicBezTo>
                <a:lnTo>
                  <a:pt x="2506" y="984"/>
                </a:lnTo>
                <a:lnTo>
                  <a:pt x="2519" y="1060"/>
                </a:lnTo>
                <a:lnTo>
                  <a:pt x="2453" y="1072"/>
                </a:lnTo>
                <a:lnTo>
                  <a:pt x="2441" y="1001"/>
                </a:lnTo>
                <a:lnTo>
                  <a:pt x="2402" y="847"/>
                </a:lnTo>
                <a:lnTo>
                  <a:pt x="2465" y="853"/>
                </a:lnTo>
                <a:lnTo>
                  <a:pt x="2451" y="884"/>
                </a:lnTo>
                <a:lnTo>
                  <a:pt x="2390" y="856"/>
                </a:lnTo>
                <a:close/>
                <a:moveTo>
                  <a:pt x="2553" y="1257"/>
                </a:moveTo>
                <a:lnTo>
                  <a:pt x="2555" y="1267"/>
                </a:lnTo>
                <a:lnTo>
                  <a:pt x="2589" y="1523"/>
                </a:lnTo>
                <a:lnTo>
                  <a:pt x="2523" y="1532"/>
                </a:lnTo>
                <a:lnTo>
                  <a:pt x="2489" y="1278"/>
                </a:lnTo>
                <a:lnTo>
                  <a:pt x="2488" y="1269"/>
                </a:lnTo>
                <a:lnTo>
                  <a:pt x="2553" y="1257"/>
                </a:lnTo>
                <a:close/>
                <a:moveTo>
                  <a:pt x="2615" y="1721"/>
                </a:moveTo>
                <a:lnTo>
                  <a:pt x="2650" y="1986"/>
                </a:lnTo>
                <a:lnTo>
                  <a:pt x="2583" y="1994"/>
                </a:lnTo>
                <a:lnTo>
                  <a:pt x="2549" y="1730"/>
                </a:lnTo>
                <a:lnTo>
                  <a:pt x="2615" y="1721"/>
                </a:lnTo>
                <a:close/>
                <a:moveTo>
                  <a:pt x="2665" y="2187"/>
                </a:moveTo>
                <a:lnTo>
                  <a:pt x="2672" y="2291"/>
                </a:lnTo>
                <a:lnTo>
                  <a:pt x="2671" y="2286"/>
                </a:lnTo>
                <a:lnTo>
                  <a:pt x="2710" y="2443"/>
                </a:lnTo>
                <a:lnTo>
                  <a:pt x="2645" y="2459"/>
                </a:lnTo>
                <a:lnTo>
                  <a:pt x="2607" y="2301"/>
                </a:lnTo>
                <a:cubicBezTo>
                  <a:pt x="2606" y="2300"/>
                  <a:pt x="2606" y="2298"/>
                  <a:pt x="2606" y="2296"/>
                </a:cubicBezTo>
                <a:lnTo>
                  <a:pt x="2599" y="2192"/>
                </a:lnTo>
                <a:lnTo>
                  <a:pt x="2665" y="2187"/>
                </a:lnTo>
                <a:close/>
                <a:moveTo>
                  <a:pt x="2785" y="2617"/>
                </a:moveTo>
                <a:lnTo>
                  <a:pt x="2814" y="2665"/>
                </a:lnTo>
                <a:lnTo>
                  <a:pt x="2855" y="2759"/>
                </a:lnTo>
                <a:lnTo>
                  <a:pt x="2885" y="2852"/>
                </a:lnTo>
                <a:lnTo>
                  <a:pt x="2882" y="2846"/>
                </a:lnTo>
                <a:lnTo>
                  <a:pt x="2891" y="2860"/>
                </a:lnTo>
                <a:lnTo>
                  <a:pt x="2834" y="2895"/>
                </a:lnTo>
                <a:lnTo>
                  <a:pt x="2825" y="2880"/>
                </a:lnTo>
                <a:cubicBezTo>
                  <a:pt x="2823" y="2878"/>
                  <a:pt x="2822" y="2875"/>
                  <a:pt x="2822" y="2873"/>
                </a:cubicBezTo>
                <a:lnTo>
                  <a:pt x="2794" y="2786"/>
                </a:lnTo>
                <a:lnTo>
                  <a:pt x="2757" y="2699"/>
                </a:lnTo>
                <a:lnTo>
                  <a:pt x="2728" y="2651"/>
                </a:lnTo>
                <a:lnTo>
                  <a:pt x="2785" y="2617"/>
                </a:lnTo>
                <a:close/>
                <a:moveTo>
                  <a:pt x="2953" y="2919"/>
                </a:moveTo>
                <a:lnTo>
                  <a:pt x="2963" y="2906"/>
                </a:lnTo>
                <a:lnTo>
                  <a:pt x="2958" y="2917"/>
                </a:lnTo>
                <a:lnTo>
                  <a:pt x="3006" y="2745"/>
                </a:lnTo>
                <a:lnTo>
                  <a:pt x="3017" y="2678"/>
                </a:lnTo>
                <a:lnTo>
                  <a:pt x="3083" y="2690"/>
                </a:lnTo>
                <a:lnTo>
                  <a:pt x="3070" y="2763"/>
                </a:lnTo>
                <a:lnTo>
                  <a:pt x="3022" y="2935"/>
                </a:lnTo>
                <a:cubicBezTo>
                  <a:pt x="3021" y="2939"/>
                  <a:pt x="3019" y="2943"/>
                  <a:pt x="3016" y="2946"/>
                </a:cubicBezTo>
                <a:lnTo>
                  <a:pt x="3006" y="2960"/>
                </a:lnTo>
                <a:lnTo>
                  <a:pt x="2953" y="2919"/>
                </a:lnTo>
                <a:close/>
                <a:moveTo>
                  <a:pt x="3051" y="2481"/>
                </a:moveTo>
                <a:lnTo>
                  <a:pt x="3054" y="2460"/>
                </a:lnTo>
                <a:lnTo>
                  <a:pt x="3066" y="2219"/>
                </a:lnTo>
                <a:lnTo>
                  <a:pt x="3133" y="2222"/>
                </a:lnTo>
                <a:lnTo>
                  <a:pt x="3120" y="2471"/>
                </a:lnTo>
                <a:lnTo>
                  <a:pt x="3116" y="2492"/>
                </a:lnTo>
                <a:lnTo>
                  <a:pt x="3051" y="2481"/>
                </a:lnTo>
                <a:close/>
                <a:moveTo>
                  <a:pt x="3080" y="2017"/>
                </a:moveTo>
                <a:lnTo>
                  <a:pt x="3114" y="1753"/>
                </a:lnTo>
                <a:lnTo>
                  <a:pt x="3180" y="1761"/>
                </a:lnTo>
                <a:lnTo>
                  <a:pt x="3147" y="2025"/>
                </a:lnTo>
                <a:lnTo>
                  <a:pt x="3080" y="2017"/>
                </a:lnTo>
                <a:close/>
                <a:moveTo>
                  <a:pt x="3142" y="1554"/>
                </a:moveTo>
                <a:lnTo>
                  <a:pt x="3171" y="1358"/>
                </a:lnTo>
                <a:lnTo>
                  <a:pt x="3187" y="1289"/>
                </a:lnTo>
                <a:lnTo>
                  <a:pt x="3252" y="1303"/>
                </a:lnTo>
                <a:lnTo>
                  <a:pt x="3237" y="1368"/>
                </a:lnTo>
                <a:lnTo>
                  <a:pt x="3208" y="1564"/>
                </a:lnTo>
                <a:lnTo>
                  <a:pt x="3142" y="1554"/>
                </a:lnTo>
                <a:close/>
                <a:moveTo>
                  <a:pt x="3258" y="1089"/>
                </a:moveTo>
                <a:lnTo>
                  <a:pt x="3266" y="1079"/>
                </a:lnTo>
                <a:cubicBezTo>
                  <a:pt x="3274" y="1070"/>
                  <a:pt x="3286" y="1066"/>
                  <a:pt x="3298" y="1068"/>
                </a:cubicBezTo>
                <a:cubicBezTo>
                  <a:pt x="3310" y="1071"/>
                  <a:pt x="3320" y="1079"/>
                  <a:pt x="3323" y="1091"/>
                </a:cubicBezTo>
                <a:lnTo>
                  <a:pt x="3353" y="1181"/>
                </a:lnTo>
                <a:lnTo>
                  <a:pt x="3393" y="1336"/>
                </a:lnTo>
                <a:lnTo>
                  <a:pt x="3328" y="1353"/>
                </a:lnTo>
                <a:lnTo>
                  <a:pt x="3289" y="1201"/>
                </a:lnTo>
                <a:lnTo>
                  <a:pt x="3260" y="1111"/>
                </a:lnTo>
                <a:lnTo>
                  <a:pt x="3317" y="1123"/>
                </a:lnTo>
                <a:lnTo>
                  <a:pt x="3308" y="1133"/>
                </a:lnTo>
                <a:lnTo>
                  <a:pt x="3258" y="1089"/>
                </a:lnTo>
                <a:close/>
                <a:moveTo>
                  <a:pt x="3431" y="1535"/>
                </a:moveTo>
                <a:lnTo>
                  <a:pt x="3441" y="1592"/>
                </a:lnTo>
                <a:lnTo>
                  <a:pt x="3490" y="1789"/>
                </a:lnTo>
                <a:lnTo>
                  <a:pt x="3488" y="1783"/>
                </a:lnTo>
                <a:lnTo>
                  <a:pt x="3489" y="1787"/>
                </a:lnTo>
                <a:lnTo>
                  <a:pt x="3429" y="1814"/>
                </a:lnTo>
                <a:lnTo>
                  <a:pt x="3427" y="1810"/>
                </a:lnTo>
                <a:cubicBezTo>
                  <a:pt x="3426" y="1808"/>
                  <a:pt x="3425" y="1806"/>
                  <a:pt x="3425" y="1804"/>
                </a:cubicBezTo>
                <a:lnTo>
                  <a:pt x="3376" y="1604"/>
                </a:lnTo>
                <a:lnTo>
                  <a:pt x="3366" y="1547"/>
                </a:lnTo>
                <a:lnTo>
                  <a:pt x="3431" y="1535"/>
                </a:lnTo>
                <a:close/>
                <a:moveTo>
                  <a:pt x="3521" y="1901"/>
                </a:moveTo>
                <a:lnTo>
                  <a:pt x="3548" y="1867"/>
                </a:lnTo>
                <a:lnTo>
                  <a:pt x="3544" y="1873"/>
                </a:lnTo>
                <a:lnTo>
                  <a:pt x="3592" y="1765"/>
                </a:lnTo>
                <a:lnTo>
                  <a:pt x="3627" y="1669"/>
                </a:lnTo>
                <a:lnTo>
                  <a:pt x="3689" y="1692"/>
                </a:lnTo>
                <a:lnTo>
                  <a:pt x="3653" y="1792"/>
                </a:lnTo>
                <a:lnTo>
                  <a:pt x="3605" y="1901"/>
                </a:lnTo>
                <a:cubicBezTo>
                  <a:pt x="3603" y="1903"/>
                  <a:pt x="3602" y="1905"/>
                  <a:pt x="3601" y="1907"/>
                </a:cubicBezTo>
                <a:lnTo>
                  <a:pt x="3574" y="1942"/>
                </a:lnTo>
                <a:lnTo>
                  <a:pt x="3521" y="1901"/>
                </a:lnTo>
                <a:close/>
                <a:moveTo>
                  <a:pt x="3722" y="1486"/>
                </a:moveTo>
                <a:lnTo>
                  <a:pt x="3731" y="1472"/>
                </a:lnTo>
                <a:cubicBezTo>
                  <a:pt x="3736" y="1463"/>
                  <a:pt x="3745" y="1458"/>
                  <a:pt x="3755" y="1456"/>
                </a:cubicBezTo>
                <a:cubicBezTo>
                  <a:pt x="3765" y="1455"/>
                  <a:pt x="3775" y="1458"/>
                  <a:pt x="3782" y="1465"/>
                </a:cubicBezTo>
                <a:lnTo>
                  <a:pt x="3811" y="1492"/>
                </a:lnTo>
                <a:cubicBezTo>
                  <a:pt x="3815" y="1496"/>
                  <a:pt x="3818" y="1500"/>
                  <a:pt x="3819" y="1505"/>
                </a:cubicBezTo>
                <a:lnTo>
                  <a:pt x="3868" y="1631"/>
                </a:lnTo>
                <a:cubicBezTo>
                  <a:pt x="3869" y="1633"/>
                  <a:pt x="3869" y="1635"/>
                  <a:pt x="3870" y="1637"/>
                </a:cubicBezTo>
                <a:lnTo>
                  <a:pt x="3884" y="1710"/>
                </a:lnTo>
                <a:lnTo>
                  <a:pt x="3819" y="1723"/>
                </a:lnTo>
                <a:lnTo>
                  <a:pt x="3804" y="1649"/>
                </a:lnTo>
                <a:lnTo>
                  <a:pt x="3806" y="1655"/>
                </a:lnTo>
                <a:lnTo>
                  <a:pt x="3757" y="1528"/>
                </a:lnTo>
                <a:lnTo>
                  <a:pt x="3766" y="1541"/>
                </a:lnTo>
                <a:lnTo>
                  <a:pt x="3737" y="1514"/>
                </a:lnTo>
                <a:lnTo>
                  <a:pt x="3788" y="1507"/>
                </a:lnTo>
                <a:lnTo>
                  <a:pt x="3779" y="1521"/>
                </a:lnTo>
                <a:lnTo>
                  <a:pt x="3722" y="1486"/>
                </a:lnTo>
                <a:close/>
                <a:moveTo>
                  <a:pt x="3921" y="1907"/>
                </a:moveTo>
                <a:lnTo>
                  <a:pt x="3958" y="2116"/>
                </a:lnTo>
                <a:lnTo>
                  <a:pt x="3966" y="2171"/>
                </a:lnTo>
                <a:lnTo>
                  <a:pt x="3900" y="2181"/>
                </a:lnTo>
                <a:lnTo>
                  <a:pt x="3892" y="2128"/>
                </a:lnTo>
                <a:lnTo>
                  <a:pt x="3856" y="1918"/>
                </a:lnTo>
                <a:lnTo>
                  <a:pt x="3921" y="1907"/>
                </a:lnTo>
                <a:close/>
                <a:moveTo>
                  <a:pt x="3995" y="2369"/>
                </a:moveTo>
                <a:lnTo>
                  <a:pt x="4006" y="2442"/>
                </a:lnTo>
                <a:lnTo>
                  <a:pt x="4020" y="2637"/>
                </a:lnTo>
                <a:lnTo>
                  <a:pt x="3954" y="2641"/>
                </a:lnTo>
                <a:lnTo>
                  <a:pt x="3940" y="2452"/>
                </a:lnTo>
                <a:lnTo>
                  <a:pt x="3929" y="2378"/>
                </a:lnTo>
                <a:lnTo>
                  <a:pt x="3995" y="2369"/>
                </a:lnTo>
                <a:close/>
                <a:moveTo>
                  <a:pt x="4055" y="2825"/>
                </a:moveTo>
                <a:lnTo>
                  <a:pt x="4074" y="2890"/>
                </a:lnTo>
                <a:lnTo>
                  <a:pt x="4042" y="2865"/>
                </a:lnTo>
                <a:lnTo>
                  <a:pt x="4090" y="2865"/>
                </a:lnTo>
                <a:lnTo>
                  <a:pt x="4058" y="2891"/>
                </a:lnTo>
                <a:lnTo>
                  <a:pt x="4091" y="2744"/>
                </a:lnTo>
                <a:lnTo>
                  <a:pt x="4156" y="2759"/>
                </a:lnTo>
                <a:lnTo>
                  <a:pt x="4123" y="2906"/>
                </a:lnTo>
                <a:cubicBezTo>
                  <a:pt x="4119" y="2921"/>
                  <a:pt x="4106" y="2932"/>
                  <a:pt x="4090" y="2932"/>
                </a:cubicBezTo>
                <a:lnTo>
                  <a:pt x="4042" y="2932"/>
                </a:lnTo>
                <a:cubicBezTo>
                  <a:pt x="4027" y="2932"/>
                  <a:pt x="4014" y="2922"/>
                  <a:pt x="4010" y="2908"/>
                </a:cubicBezTo>
                <a:lnTo>
                  <a:pt x="3991" y="2844"/>
                </a:lnTo>
                <a:lnTo>
                  <a:pt x="4055" y="2825"/>
                </a:lnTo>
                <a:close/>
                <a:moveTo>
                  <a:pt x="4120" y="2550"/>
                </a:moveTo>
                <a:lnTo>
                  <a:pt x="4150" y="2285"/>
                </a:lnTo>
                <a:lnTo>
                  <a:pt x="4216" y="2293"/>
                </a:lnTo>
                <a:lnTo>
                  <a:pt x="4187" y="2558"/>
                </a:lnTo>
                <a:lnTo>
                  <a:pt x="4120" y="2550"/>
                </a:lnTo>
                <a:close/>
                <a:moveTo>
                  <a:pt x="4165" y="2087"/>
                </a:moveTo>
                <a:lnTo>
                  <a:pt x="4183" y="1821"/>
                </a:lnTo>
                <a:lnTo>
                  <a:pt x="4249" y="1826"/>
                </a:lnTo>
                <a:lnTo>
                  <a:pt x="4232" y="2092"/>
                </a:lnTo>
                <a:lnTo>
                  <a:pt x="4165" y="2087"/>
                </a:lnTo>
                <a:close/>
                <a:moveTo>
                  <a:pt x="4195" y="1622"/>
                </a:moveTo>
                <a:lnTo>
                  <a:pt x="4208" y="1356"/>
                </a:lnTo>
                <a:lnTo>
                  <a:pt x="4274" y="1359"/>
                </a:lnTo>
                <a:lnTo>
                  <a:pt x="4262" y="1625"/>
                </a:lnTo>
                <a:lnTo>
                  <a:pt x="4195" y="1622"/>
                </a:lnTo>
                <a:close/>
                <a:moveTo>
                  <a:pt x="4217" y="1156"/>
                </a:moveTo>
                <a:lnTo>
                  <a:pt x="4223" y="1036"/>
                </a:lnTo>
                <a:lnTo>
                  <a:pt x="4235" y="889"/>
                </a:lnTo>
                <a:lnTo>
                  <a:pt x="4302" y="895"/>
                </a:lnTo>
                <a:lnTo>
                  <a:pt x="4289" y="1039"/>
                </a:lnTo>
                <a:lnTo>
                  <a:pt x="4284" y="1159"/>
                </a:lnTo>
                <a:lnTo>
                  <a:pt x="4217" y="1156"/>
                </a:lnTo>
                <a:close/>
                <a:moveTo>
                  <a:pt x="4252" y="690"/>
                </a:moveTo>
                <a:lnTo>
                  <a:pt x="4271" y="466"/>
                </a:lnTo>
                <a:lnTo>
                  <a:pt x="4276" y="423"/>
                </a:lnTo>
                <a:lnTo>
                  <a:pt x="4342" y="431"/>
                </a:lnTo>
                <a:lnTo>
                  <a:pt x="4338" y="471"/>
                </a:lnTo>
                <a:lnTo>
                  <a:pt x="4319" y="695"/>
                </a:lnTo>
                <a:lnTo>
                  <a:pt x="4252" y="690"/>
                </a:lnTo>
                <a:close/>
                <a:moveTo>
                  <a:pt x="4299" y="224"/>
                </a:moveTo>
                <a:lnTo>
                  <a:pt x="4310" y="121"/>
                </a:lnTo>
                <a:cubicBezTo>
                  <a:pt x="4311" y="117"/>
                  <a:pt x="4312" y="113"/>
                  <a:pt x="4314" y="109"/>
                </a:cubicBezTo>
                <a:lnTo>
                  <a:pt x="4363" y="19"/>
                </a:lnTo>
                <a:cubicBezTo>
                  <a:pt x="4369" y="7"/>
                  <a:pt x="4383" y="0"/>
                  <a:pt x="4396" y="2"/>
                </a:cubicBezTo>
                <a:cubicBezTo>
                  <a:pt x="4410" y="3"/>
                  <a:pt x="4421" y="13"/>
                  <a:pt x="4425" y="27"/>
                </a:cubicBezTo>
                <a:lnTo>
                  <a:pt x="4439" y="86"/>
                </a:lnTo>
                <a:lnTo>
                  <a:pt x="4374" y="101"/>
                </a:lnTo>
                <a:lnTo>
                  <a:pt x="4360" y="43"/>
                </a:lnTo>
                <a:lnTo>
                  <a:pt x="4422" y="51"/>
                </a:lnTo>
                <a:lnTo>
                  <a:pt x="4373" y="141"/>
                </a:lnTo>
                <a:lnTo>
                  <a:pt x="4377" y="129"/>
                </a:lnTo>
                <a:lnTo>
                  <a:pt x="4365" y="232"/>
                </a:lnTo>
                <a:lnTo>
                  <a:pt x="4299" y="224"/>
                </a:lnTo>
                <a:close/>
                <a:moveTo>
                  <a:pt x="4477" y="288"/>
                </a:moveTo>
                <a:lnTo>
                  <a:pt x="4488" y="554"/>
                </a:lnTo>
                <a:lnTo>
                  <a:pt x="4422" y="557"/>
                </a:lnTo>
                <a:lnTo>
                  <a:pt x="4410" y="291"/>
                </a:lnTo>
                <a:lnTo>
                  <a:pt x="4477" y="288"/>
                </a:lnTo>
                <a:close/>
                <a:moveTo>
                  <a:pt x="4499" y="753"/>
                </a:moveTo>
                <a:lnTo>
                  <a:pt x="4522" y="1018"/>
                </a:lnTo>
                <a:lnTo>
                  <a:pt x="4455" y="1024"/>
                </a:lnTo>
                <a:lnTo>
                  <a:pt x="4433" y="758"/>
                </a:lnTo>
                <a:lnTo>
                  <a:pt x="4499" y="753"/>
                </a:lnTo>
                <a:close/>
                <a:moveTo>
                  <a:pt x="4538" y="1218"/>
                </a:moveTo>
                <a:lnTo>
                  <a:pt x="4542" y="1270"/>
                </a:lnTo>
                <a:lnTo>
                  <a:pt x="4559" y="1484"/>
                </a:lnTo>
                <a:lnTo>
                  <a:pt x="4493" y="1489"/>
                </a:lnTo>
                <a:lnTo>
                  <a:pt x="4476" y="1275"/>
                </a:lnTo>
                <a:lnTo>
                  <a:pt x="4472" y="1223"/>
                </a:lnTo>
                <a:lnTo>
                  <a:pt x="4538" y="1218"/>
                </a:lnTo>
                <a:close/>
                <a:moveTo>
                  <a:pt x="4575" y="1683"/>
                </a:moveTo>
                <a:lnTo>
                  <a:pt x="4591" y="1884"/>
                </a:lnTo>
                <a:lnTo>
                  <a:pt x="4597" y="1948"/>
                </a:lnTo>
                <a:lnTo>
                  <a:pt x="4531" y="1955"/>
                </a:lnTo>
                <a:lnTo>
                  <a:pt x="4525" y="1890"/>
                </a:lnTo>
                <a:lnTo>
                  <a:pt x="4509" y="1688"/>
                </a:lnTo>
                <a:lnTo>
                  <a:pt x="4575" y="1683"/>
                </a:lnTo>
                <a:close/>
                <a:moveTo>
                  <a:pt x="4617" y="2147"/>
                </a:moveTo>
                <a:lnTo>
                  <a:pt x="4640" y="2381"/>
                </a:lnTo>
                <a:lnTo>
                  <a:pt x="4644" y="2411"/>
                </a:lnTo>
                <a:lnTo>
                  <a:pt x="4578" y="2420"/>
                </a:lnTo>
                <a:lnTo>
                  <a:pt x="4573" y="2387"/>
                </a:lnTo>
                <a:lnTo>
                  <a:pt x="4550" y="2154"/>
                </a:lnTo>
                <a:lnTo>
                  <a:pt x="4617" y="2147"/>
                </a:lnTo>
                <a:close/>
                <a:moveTo>
                  <a:pt x="4672" y="2609"/>
                </a:moveTo>
                <a:lnTo>
                  <a:pt x="4688" y="2722"/>
                </a:lnTo>
                <a:lnTo>
                  <a:pt x="4708" y="2858"/>
                </a:lnTo>
                <a:lnTo>
                  <a:pt x="4659" y="2834"/>
                </a:lnTo>
                <a:lnTo>
                  <a:pt x="4672" y="2826"/>
                </a:lnTo>
                <a:lnTo>
                  <a:pt x="4704" y="2884"/>
                </a:lnTo>
                <a:lnTo>
                  <a:pt x="4691" y="2892"/>
                </a:lnTo>
                <a:cubicBezTo>
                  <a:pt x="4681" y="2897"/>
                  <a:pt x="4670" y="2897"/>
                  <a:pt x="4660" y="2893"/>
                </a:cubicBezTo>
                <a:cubicBezTo>
                  <a:pt x="4650" y="2888"/>
                  <a:pt x="4643" y="2878"/>
                  <a:pt x="4642" y="2867"/>
                </a:cubicBezTo>
                <a:lnTo>
                  <a:pt x="4622" y="2732"/>
                </a:lnTo>
                <a:lnTo>
                  <a:pt x="4606" y="2618"/>
                </a:lnTo>
                <a:lnTo>
                  <a:pt x="4672" y="2609"/>
                </a:lnTo>
                <a:close/>
                <a:moveTo>
                  <a:pt x="4750" y="2680"/>
                </a:moveTo>
                <a:lnTo>
                  <a:pt x="4779" y="2565"/>
                </a:lnTo>
                <a:cubicBezTo>
                  <a:pt x="4779" y="2563"/>
                  <a:pt x="4780" y="2562"/>
                  <a:pt x="4781" y="2560"/>
                </a:cubicBezTo>
                <a:lnTo>
                  <a:pt x="4829" y="2451"/>
                </a:lnTo>
                <a:cubicBezTo>
                  <a:pt x="4832" y="2446"/>
                  <a:pt x="4835" y="2442"/>
                  <a:pt x="4840" y="2438"/>
                </a:cubicBezTo>
                <a:lnTo>
                  <a:pt x="4864" y="2421"/>
                </a:lnTo>
                <a:lnTo>
                  <a:pt x="4904" y="2474"/>
                </a:lnTo>
                <a:lnTo>
                  <a:pt x="4880" y="2492"/>
                </a:lnTo>
                <a:lnTo>
                  <a:pt x="4890" y="2479"/>
                </a:lnTo>
                <a:lnTo>
                  <a:pt x="4841" y="2587"/>
                </a:lnTo>
                <a:lnTo>
                  <a:pt x="4843" y="2582"/>
                </a:lnTo>
                <a:lnTo>
                  <a:pt x="4814" y="2696"/>
                </a:lnTo>
                <a:lnTo>
                  <a:pt x="4750" y="2680"/>
                </a:lnTo>
                <a:close/>
                <a:moveTo>
                  <a:pt x="5026" y="2555"/>
                </a:moveTo>
                <a:lnTo>
                  <a:pt x="5054" y="2602"/>
                </a:lnTo>
                <a:lnTo>
                  <a:pt x="5100" y="2662"/>
                </a:lnTo>
                <a:lnTo>
                  <a:pt x="5074" y="2649"/>
                </a:lnTo>
                <a:lnTo>
                  <a:pt x="5123" y="2649"/>
                </a:lnTo>
                <a:lnTo>
                  <a:pt x="5093" y="2666"/>
                </a:lnTo>
                <a:lnTo>
                  <a:pt x="5113" y="2630"/>
                </a:lnTo>
                <a:lnTo>
                  <a:pt x="5133" y="2593"/>
                </a:lnTo>
                <a:lnTo>
                  <a:pt x="5192" y="2624"/>
                </a:lnTo>
                <a:lnTo>
                  <a:pt x="5172" y="2662"/>
                </a:lnTo>
                <a:lnTo>
                  <a:pt x="5152" y="2698"/>
                </a:lnTo>
                <a:cubicBezTo>
                  <a:pt x="5146" y="2709"/>
                  <a:pt x="5135" y="2715"/>
                  <a:pt x="5123" y="2715"/>
                </a:cubicBezTo>
                <a:lnTo>
                  <a:pt x="5074" y="2715"/>
                </a:lnTo>
                <a:cubicBezTo>
                  <a:pt x="5064" y="2715"/>
                  <a:pt x="5054" y="2710"/>
                  <a:pt x="5048" y="2702"/>
                </a:cubicBezTo>
                <a:lnTo>
                  <a:pt x="4997" y="2636"/>
                </a:lnTo>
                <a:lnTo>
                  <a:pt x="4969" y="2589"/>
                </a:lnTo>
                <a:lnTo>
                  <a:pt x="5026" y="2555"/>
                </a:lnTo>
                <a:close/>
                <a:moveTo>
                  <a:pt x="5217" y="2415"/>
                </a:moveTo>
                <a:lnTo>
                  <a:pt x="5248" y="2344"/>
                </a:lnTo>
                <a:cubicBezTo>
                  <a:pt x="5252" y="2335"/>
                  <a:pt x="5258" y="2329"/>
                  <a:pt x="5267" y="2325"/>
                </a:cubicBezTo>
                <a:lnTo>
                  <a:pt x="5316" y="2307"/>
                </a:lnTo>
                <a:cubicBezTo>
                  <a:pt x="5332" y="2301"/>
                  <a:pt x="5350" y="2309"/>
                  <a:pt x="5358" y="2325"/>
                </a:cubicBezTo>
                <a:lnTo>
                  <a:pt x="5387" y="2388"/>
                </a:lnTo>
                <a:cubicBezTo>
                  <a:pt x="5388" y="2390"/>
                  <a:pt x="5388" y="2392"/>
                  <a:pt x="5389" y="2394"/>
                </a:cubicBezTo>
                <a:lnTo>
                  <a:pt x="5405" y="2459"/>
                </a:lnTo>
                <a:lnTo>
                  <a:pt x="5341" y="2476"/>
                </a:lnTo>
                <a:lnTo>
                  <a:pt x="5324" y="2410"/>
                </a:lnTo>
                <a:lnTo>
                  <a:pt x="5326" y="2416"/>
                </a:lnTo>
                <a:lnTo>
                  <a:pt x="5297" y="2353"/>
                </a:lnTo>
                <a:lnTo>
                  <a:pt x="5339" y="2370"/>
                </a:lnTo>
                <a:lnTo>
                  <a:pt x="5290" y="2388"/>
                </a:lnTo>
                <a:lnTo>
                  <a:pt x="5309" y="2370"/>
                </a:lnTo>
                <a:lnTo>
                  <a:pt x="5278" y="2441"/>
                </a:lnTo>
                <a:lnTo>
                  <a:pt x="5217" y="2415"/>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5370480" y="4329000"/>
            <a:ext cx="733320" cy="606600"/>
          </a:xfrm>
          <a:custGeom>
            <a:avLst/>
            <a:gdLst/>
            <a:ahLst/>
            <a:rect l="l" t="t" r="r" b="b"/>
            <a:pathLst>
              <a:path w="3241" h="2662">
                <a:moveTo>
                  <a:pt x="65" y="1660"/>
                </a:moveTo>
                <a:lnTo>
                  <a:pt x="114" y="1895"/>
                </a:lnTo>
                <a:lnTo>
                  <a:pt x="118" y="1922"/>
                </a:lnTo>
                <a:lnTo>
                  <a:pt x="53" y="1933"/>
                </a:lnTo>
                <a:lnTo>
                  <a:pt x="49" y="1909"/>
                </a:lnTo>
                <a:lnTo>
                  <a:pt x="0" y="1673"/>
                </a:lnTo>
                <a:lnTo>
                  <a:pt x="65" y="1660"/>
                </a:lnTo>
                <a:close/>
                <a:moveTo>
                  <a:pt x="152" y="2120"/>
                </a:moveTo>
                <a:lnTo>
                  <a:pt x="163" y="2187"/>
                </a:lnTo>
                <a:lnTo>
                  <a:pt x="200" y="2381"/>
                </a:lnTo>
                <a:lnTo>
                  <a:pt x="135" y="2394"/>
                </a:lnTo>
                <a:lnTo>
                  <a:pt x="97" y="2198"/>
                </a:lnTo>
                <a:lnTo>
                  <a:pt x="86" y="2131"/>
                </a:lnTo>
                <a:lnTo>
                  <a:pt x="152" y="2120"/>
                </a:lnTo>
                <a:close/>
                <a:moveTo>
                  <a:pt x="253" y="2570"/>
                </a:moveTo>
                <a:lnTo>
                  <a:pt x="259" y="2590"/>
                </a:lnTo>
                <a:lnTo>
                  <a:pt x="255" y="2581"/>
                </a:lnTo>
                <a:lnTo>
                  <a:pt x="274" y="2608"/>
                </a:lnTo>
                <a:lnTo>
                  <a:pt x="215" y="2617"/>
                </a:lnTo>
                <a:lnTo>
                  <a:pt x="264" y="2463"/>
                </a:lnTo>
                <a:lnTo>
                  <a:pt x="263" y="2468"/>
                </a:lnTo>
                <a:lnTo>
                  <a:pt x="271" y="2418"/>
                </a:lnTo>
                <a:lnTo>
                  <a:pt x="337" y="2429"/>
                </a:lnTo>
                <a:lnTo>
                  <a:pt x="329" y="2478"/>
                </a:lnTo>
                <a:cubicBezTo>
                  <a:pt x="328" y="2480"/>
                  <a:pt x="328" y="2482"/>
                  <a:pt x="328" y="2483"/>
                </a:cubicBezTo>
                <a:lnTo>
                  <a:pt x="279" y="2637"/>
                </a:lnTo>
                <a:cubicBezTo>
                  <a:pt x="275" y="2649"/>
                  <a:pt x="265" y="2658"/>
                  <a:pt x="252" y="2660"/>
                </a:cubicBezTo>
                <a:cubicBezTo>
                  <a:pt x="240" y="2662"/>
                  <a:pt x="227" y="2657"/>
                  <a:pt x="220" y="2647"/>
                </a:cubicBezTo>
                <a:lnTo>
                  <a:pt x="200" y="2619"/>
                </a:lnTo>
                <a:cubicBezTo>
                  <a:pt x="198" y="2617"/>
                  <a:pt x="197" y="2613"/>
                  <a:pt x="196" y="2610"/>
                </a:cubicBezTo>
                <a:lnTo>
                  <a:pt x="189" y="2590"/>
                </a:lnTo>
                <a:lnTo>
                  <a:pt x="253" y="2570"/>
                </a:lnTo>
                <a:close/>
                <a:moveTo>
                  <a:pt x="302" y="2221"/>
                </a:moveTo>
                <a:lnTo>
                  <a:pt x="312" y="2160"/>
                </a:lnTo>
                <a:lnTo>
                  <a:pt x="331" y="1958"/>
                </a:lnTo>
                <a:lnTo>
                  <a:pt x="397" y="1964"/>
                </a:lnTo>
                <a:lnTo>
                  <a:pt x="377" y="2170"/>
                </a:lnTo>
                <a:lnTo>
                  <a:pt x="368" y="2231"/>
                </a:lnTo>
                <a:lnTo>
                  <a:pt x="302" y="2221"/>
                </a:lnTo>
                <a:close/>
                <a:moveTo>
                  <a:pt x="350" y="1759"/>
                </a:moveTo>
                <a:lnTo>
                  <a:pt x="350" y="1754"/>
                </a:lnTo>
                <a:lnTo>
                  <a:pt x="382" y="1493"/>
                </a:lnTo>
                <a:lnTo>
                  <a:pt x="448" y="1501"/>
                </a:lnTo>
                <a:lnTo>
                  <a:pt x="417" y="1760"/>
                </a:lnTo>
                <a:lnTo>
                  <a:pt x="416" y="1765"/>
                </a:lnTo>
                <a:lnTo>
                  <a:pt x="350" y="1759"/>
                </a:lnTo>
                <a:close/>
                <a:moveTo>
                  <a:pt x="405" y="1295"/>
                </a:moveTo>
                <a:lnTo>
                  <a:pt x="428" y="1056"/>
                </a:lnTo>
                <a:cubicBezTo>
                  <a:pt x="429" y="1054"/>
                  <a:pt x="429" y="1052"/>
                  <a:pt x="430" y="1050"/>
                </a:cubicBezTo>
                <a:lnTo>
                  <a:pt x="437" y="1025"/>
                </a:lnTo>
                <a:lnTo>
                  <a:pt x="501" y="1043"/>
                </a:lnTo>
                <a:lnTo>
                  <a:pt x="494" y="1069"/>
                </a:lnTo>
                <a:lnTo>
                  <a:pt x="495" y="1063"/>
                </a:lnTo>
                <a:lnTo>
                  <a:pt x="471" y="1302"/>
                </a:lnTo>
                <a:lnTo>
                  <a:pt x="405" y="1295"/>
                </a:lnTo>
                <a:close/>
                <a:moveTo>
                  <a:pt x="586" y="979"/>
                </a:moveTo>
                <a:lnTo>
                  <a:pt x="630" y="1160"/>
                </a:lnTo>
                <a:lnTo>
                  <a:pt x="647" y="1240"/>
                </a:lnTo>
                <a:lnTo>
                  <a:pt x="582" y="1253"/>
                </a:lnTo>
                <a:lnTo>
                  <a:pt x="566" y="1176"/>
                </a:lnTo>
                <a:lnTo>
                  <a:pt x="521" y="995"/>
                </a:lnTo>
                <a:lnTo>
                  <a:pt x="586" y="979"/>
                </a:lnTo>
                <a:close/>
                <a:moveTo>
                  <a:pt x="683" y="1441"/>
                </a:moveTo>
                <a:lnTo>
                  <a:pt x="700" y="1646"/>
                </a:lnTo>
                <a:lnTo>
                  <a:pt x="695" y="1631"/>
                </a:lnTo>
                <a:lnTo>
                  <a:pt x="726" y="1683"/>
                </a:lnTo>
                <a:lnTo>
                  <a:pt x="669" y="1718"/>
                </a:lnTo>
                <a:lnTo>
                  <a:pt x="638" y="1666"/>
                </a:lnTo>
                <a:cubicBezTo>
                  <a:pt x="635" y="1661"/>
                  <a:pt x="634" y="1656"/>
                  <a:pt x="633" y="1651"/>
                </a:cubicBezTo>
                <a:lnTo>
                  <a:pt x="617" y="1446"/>
                </a:lnTo>
                <a:lnTo>
                  <a:pt x="683" y="1441"/>
                </a:lnTo>
                <a:close/>
                <a:moveTo>
                  <a:pt x="744" y="1573"/>
                </a:moveTo>
                <a:lnTo>
                  <a:pt x="780" y="1380"/>
                </a:lnTo>
                <a:lnTo>
                  <a:pt x="787" y="1313"/>
                </a:lnTo>
                <a:lnTo>
                  <a:pt x="853" y="1319"/>
                </a:lnTo>
                <a:lnTo>
                  <a:pt x="845" y="1392"/>
                </a:lnTo>
                <a:lnTo>
                  <a:pt x="810" y="1585"/>
                </a:lnTo>
                <a:lnTo>
                  <a:pt x="744" y="1573"/>
                </a:lnTo>
                <a:close/>
                <a:moveTo>
                  <a:pt x="808" y="1114"/>
                </a:moveTo>
                <a:lnTo>
                  <a:pt x="818" y="1011"/>
                </a:lnTo>
                <a:lnTo>
                  <a:pt x="837" y="848"/>
                </a:lnTo>
                <a:lnTo>
                  <a:pt x="904" y="856"/>
                </a:lnTo>
                <a:lnTo>
                  <a:pt x="885" y="1018"/>
                </a:lnTo>
                <a:lnTo>
                  <a:pt x="874" y="1121"/>
                </a:lnTo>
                <a:lnTo>
                  <a:pt x="808" y="1114"/>
                </a:lnTo>
                <a:close/>
                <a:moveTo>
                  <a:pt x="861" y="650"/>
                </a:moveTo>
                <a:lnTo>
                  <a:pt x="867" y="593"/>
                </a:lnTo>
                <a:lnTo>
                  <a:pt x="886" y="385"/>
                </a:lnTo>
                <a:lnTo>
                  <a:pt x="952" y="391"/>
                </a:lnTo>
                <a:lnTo>
                  <a:pt x="933" y="601"/>
                </a:lnTo>
                <a:lnTo>
                  <a:pt x="927" y="657"/>
                </a:lnTo>
                <a:lnTo>
                  <a:pt x="861" y="650"/>
                </a:lnTo>
                <a:close/>
                <a:moveTo>
                  <a:pt x="914" y="183"/>
                </a:moveTo>
                <a:lnTo>
                  <a:pt x="936" y="74"/>
                </a:lnTo>
                <a:cubicBezTo>
                  <a:pt x="937" y="67"/>
                  <a:pt x="941" y="61"/>
                  <a:pt x="946" y="56"/>
                </a:cubicBezTo>
                <a:lnTo>
                  <a:pt x="995" y="11"/>
                </a:lnTo>
                <a:cubicBezTo>
                  <a:pt x="1003" y="4"/>
                  <a:pt x="1014" y="0"/>
                  <a:pt x="1025" y="3"/>
                </a:cubicBezTo>
                <a:cubicBezTo>
                  <a:pt x="1036" y="5"/>
                  <a:pt x="1045" y="13"/>
                  <a:pt x="1049" y="24"/>
                </a:cubicBezTo>
                <a:lnTo>
                  <a:pt x="1080" y="106"/>
                </a:lnTo>
                <a:lnTo>
                  <a:pt x="1018" y="130"/>
                </a:lnTo>
                <a:lnTo>
                  <a:pt x="986" y="47"/>
                </a:lnTo>
                <a:lnTo>
                  <a:pt x="1040" y="60"/>
                </a:lnTo>
                <a:lnTo>
                  <a:pt x="991" y="105"/>
                </a:lnTo>
                <a:lnTo>
                  <a:pt x="1001" y="87"/>
                </a:lnTo>
                <a:lnTo>
                  <a:pt x="979" y="197"/>
                </a:lnTo>
                <a:lnTo>
                  <a:pt x="914" y="183"/>
                </a:lnTo>
                <a:close/>
                <a:moveTo>
                  <a:pt x="1132" y="304"/>
                </a:moveTo>
                <a:lnTo>
                  <a:pt x="1147" y="373"/>
                </a:lnTo>
                <a:lnTo>
                  <a:pt x="1164" y="573"/>
                </a:lnTo>
                <a:lnTo>
                  <a:pt x="1097" y="578"/>
                </a:lnTo>
                <a:lnTo>
                  <a:pt x="1082" y="387"/>
                </a:lnTo>
                <a:lnTo>
                  <a:pt x="1067" y="318"/>
                </a:lnTo>
                <a:lnTo>
                  <a:pt x="1132" y="304"/>
                </a:lnTo>
                <a:close/>
                <a:moveTo>
                  <a:pt x="1200" y="764"/>
                </a:moveTo>
                <a:lnTo>
                  <a:pt x="1216" y="835"/>
                </a:lnTo>
                <a:lnTo>
                  <a:pt x="1264" y="1005"/>
                </a:lnTo>
                <a:lnTo>
                  <a:pt x="1261" y="998"/>
                </a:lnTo>
                <a:lnTo>
                  <a:pt x="1269" y="1012"/>
                </a:lnTo>
                <a:lnTo>
                  <a:pt x="1210" y="1044"/>
                </a:lnTo>
                <a:lnTo>
                  <a:pt x="1203" y="1030"/>
                </a:lnTo>
                <a:cubicBezTo>
                  <a:pt x="1201" y="1028"/>
                  <a:pt x="1201" y="1026"/>
                  <a:pt x="1200" y="1023"/>
                </a:cubicBezTo>
                <a:lnTo>
                  <a:pt x="1151" y="849"/>
                </a:lnTo>
                <a:lnTo>
                  <a:pt x="1135" y="779"/>
                </a:lnTo>
                <a:lnTo>
                  <a:pt x="1200" y="764"/>
                </a:lnTo>
                <a:close/>
                <a:moveTo>
                  <a:pt x="1386" y="1157"/>
                </a:moveTo>
                <a:lnTo>
                  <a:pt x="1420" y="1189"/>
                </a:lnTo>
                <a:cubicBezTo>
                  <a:pt x="1423" y="1191"/>
                  <a:pt x="1425" y="1193"/>
                  <a:pt x="1426" y="1196"/>
                </a:cubicBezTo>
                <a:lnTo>
                  <a:pt x="1465" y="1259"/>
                </a:lnTo>
                <a:lnTo>
                  <a:pt x="1512" y="1320"/>
                </a:lnTo>
                <a:cubicBezTo>
                  <a:pt x="1513" y="1322"/>
                  <a:pt x="1515" y="1324"/>
                  <a:pt x="1516" y="1327"/>
                </a:cubicBezTo>
                <a:lnTo>
                  <a:pt x="1543" y="1386"/>
                </a:lnTo>
                <a:lnTo>
                  <a:pt x="1482" y="1414"/>
                </a:lnTo>
                <a:lnTo>
                  <a:pt x="1455" y="1354"/>
                </a:lnTo>
                <a:lnTo>
                  <a:pt x="1459" y="1361"/>
                </a:lnTo>
                <a:lnTo>
                  <a:pt x="1408" y="1294"/>
                </a:lnTo>
                <a:lnTo>
                  <a:pt x="1369" y="1231"/>
                </a:lnTo>
                <a:lnTo>
                  <a:pt x="1375" y="1238"/>
                </a:lnTo>
                <a:lnTo>
                  <a:pt x="1341" y="1206"/>
                </a:lnTo>
                <a:lnTo>
                  <a:pt x="1386" y="1157"/>
                </a:lnTo>
                <a:close/>
                <a:moveTo>
                  <a:pt x="1634" y="1566"/>
                </a:moveTo>
                <a:lnTo>
                  <a:pt x="1634" y="1566"/>
                </a:lnTo>
                <a:lnTo>
                  <a:pt x="1603" y="1543"/>
                </a:lnTo>
                <a:lnTo>
                  <a:pt x="1651" y="1543"/>
                </a:lnTo>
                <a:lnTo>
                  <a:pt x="1700" y="1543"/>
                </a:lnTo>
                <a:lnTo>
                  <a:pt x="1688" y="1545"/>
                </a:lnTo>
                <a:lnTo>
                  <a:pt x="1737" y="1527"/>
                </a:lnTo>
                <a:lnTo>
                  <a:pt x="1724" y="1536"/>
                </a:lnTo>
                <a:lnTo>
                  <a:pt x="1763" y="1491"/>
                </a:lnTo>
                <a:cubicBezTo>
                  <a:pt x="1765" y="1488"/>
                  <a:pt x="1767" y="1486"/>
                  <a:pt x="1770" y="1484"/>
                </a:cubicBezTo>
                <a:lnTo>
                  <a:pt x="1799" y="1466"/>
                </a:lnTo>
                <a:lnTo>
                  <a:pt x="1821" y="1454"/>
                </a:lnTo>
                <a:lnTo>
                  <a:pt x="1853" y="1512"/>
                </a:lnTo>
                <a:lnTo>
                  <a:pt x="1835" y="1523"/>
                </a:lnTo>
                <a:lnTo>
                  <a:pt x="1805" y="1541"/>
                </a:lnTo>
                <a:lnTo>
                  <a:pt x="1813" y="1534"/>
                </a:lnTo>
                <a:lnTo>
                  <a:pt x="1774" y="1580"/>
                </a:lnTo>
                <a:cubicBezTo>
                  <a:pt x="1770" y="1584"/>
                  <a:pt x="1766" y="1587"/>
                  <a:pt x="1760" y="1589"/>
                </a:cubicBezTo>
                <a:lnTo>
                  <a:pt x="1712" y="1607"/>
                </a:lnTo>
                <a:cubicBezTo>
                  <a:pt x="1708" y="1609"/>
                  <a:pt x="1704" y="1609"/>
                  <a:pt x="1700" y="1609"/>
                </a:cubicBezTo>
                <a:lnTo>
                  <a:pt x="1651" y="1609"/>
                </a:lnTo>
                <a:lnTo>
                  <a:pt x="1603" y="1609"/>
                </a:lnTo>
                <a:cubicBezTo>
                  <a:pt x="1588" y="1609"/>
                  <a:pt x="1575" y="1600"/>
                  <a:pt x="1571" y="1586"/>
                </a:cubicBezTo>
                <a:lnTo>
                  <a:pt x="1571" y="1586"/>
                </a:lnTo>
                <a:lnTo>
                  <a:pt x="1634" y="1566"/>
                </a:lnTo>
                <a:close/>
                <a:moveTo>
                  <a:pt x="1989" y="1393"/>
                </a:moveTo>
                <a:lnTo>
                  <a:pt x="1995" y="1384"/>
                </a:lnTo>
                <a:cubicBezTo>
                  <a:pt x="1999" y="1379"/>
                  <a:pt x="2004" y="1375"/>
                  <a:pt x="2010" y="1373"/>
                </a:cubicBezTo>
                <a:lnTo>
                  <a:pt x="2059" y="1354"/>
                </a:lnTo>
                <a:cubicBezTo>
                  <a:pt x="2063" y="1353"/>
                  <a:pt x="2067" y="1352"/>
                  <a:pt x="2071" y="1352"/>
                </a:cubicBezTo>
                <a:lnTo>
                  <a:pt x="2119" y="1352"/>
                </a:lnTo>
                <a:lnTo>
                  <a:pt x="2168" y="1352"/>
                </a:lnTo>
                <a:cubicBezTo>
                  <a:pt x="2172" y="1352"/>
                  <a:pt x="2176" y="1353"/>
                  <a:pt x="2180" y="1354"/>
                </a:cubicBezTo>
                <a:lnTo>
                  <a:pt x="2228" y="1373"/>
                </a:lnTo>
                <a:lnTo>
                  <a:pt x="2217" y="1370"/>
                </a:lnTo>
                <a:lnTo>
                  <a:pt x="2256" y="1370"/>
                </a:lnTo>
                <a:cubicBezTo>
                  <a:pt x="2264" y="1370"/>
                  <a:pt x="2272" y="1374"/>
                  <a:pt x="2279" y="1379"/>
                </a:cubicBezTo>
                <a:lnTo>
                  <a:pt x="2290" y="1390"/>
                </a:lnTo>
                <a:lnTo>
                  <a:pt x="2245" y="1439"/>
                </a:lnTo>
                <a:lnTo>
                  <a:pt x="2233" y="1428"/>
                </a:lnTo>
                <a:lnTo>
                  <a:pt x="2256" y="1437"/>
                </a:lnTo>
                <a:lnTo>
                  <a:pt x="2217" y="1437"/>
                </a:lnTo>
                <a:cubicBezTo>
                  <a:pt x="2213" y="1437"/>
                  <a:pt x="2209" y="1436"/>
                  <a:pt x="2205" y="1435"/>
                </a:cubicBezTo>
                <a:lnTo>
                  <a:pt x="2156" y="1417"/>
                </a:lnTo>
                <a:lnTo>
                  <a:pt x="2168" y="1419"/>
                </a:lnTo>
                <a:lnTo>
                  <a:pt x="2119" y="1419"/>
                </a:lnTo>
                <a:lnTo>
                  <a:pt x="2071" y="1419"/>
                </a:lnTo>
                <a:lnTo>
                  <a:pt x="2082" y="1417"/>
                </a:lnTo>
                <a:lnTo>
                  <a:pt x="2033" y="1435"/>
                </a:lnTo>
                <a:lnTo>
                  <a:pt x="2049" y="1423"/>
                </a:lnTo>
                <a:lnTo>
                  <a:pt x="2043" y="1432"/>
                </a:lnTo>
                <a:lnTo>
                  <a:pt x="1989" y="1393"/>
                </a:lnTo>
                <a:close/>
                <a:moveTo>
                  <a:pt x="2419" y="1343"/>
                </a:moveTo>
                <a:lnTo>
                  <a:pt x="2448" y="1316"/>
                </a:lnTo>
                <a:lnTo>
                  <a:pt x="2439" y="1331"/>
                </a:lnTo>
                <a:lnTo>
                  <a:pt x="2458" y="1267"/>
                </a:lnTo>
                <a:cubicBezTo>
                  <a:pt x="2460" y="1262"/>
                  <a:pt x="2463" y="1256"/>
                  <a:pt x="2467" y="1253"/>
                </a:cubicBezTo>
                <a:lnTo>
                  <a:pt x="2516" y="1207"/>
                </a:lnTo>
                <a:cubicBezTo>
                  <a:pt x="2519" y="1204"/>
                  <a:pt x="2523" y="1202"/>
                  <a:pt x="2527" y="1200"/>
                </a:cubicBezTo>
                <a:lnTo>
                  <a:pt x="2576" y="1182"/>
                </a:lnTo>
                <a:cubicBezTo>
                  <a:pt x="2580" y="1181"/>
                  <a:pt x="2583" y="1180"/>
                  <a:pt x="2587" y="1180"/>
                </a:cubicBezTo>
                <a:lnTo>
                  <a:pt x="2630" y="1180"/>
                </a:lnTo>
                <a:lnTo>
                  <a:pt x="2630" y="1247"/>
                </a:lnTo>
                <a:lnTo>
                  <a:pt x="2587" y="1247"/>
                </a:lnTo>
                <a:lnTo>
                  <a:pt x="2599" y="1245"/>
                </a:lnTo>
                <a:lnTo>
                  <a:pt x="2550" y="1263"/>
                </a:lnTo>
                <a:lnTo>
                  <a:pt x="2561" y="1256"/>
                </a:lnTo>
                <a:lnTo>
                  <a:pt x="2513" y="1301"/>
                </a:lnTo>
                <a:lnTo>
                  <a:pt x="2522" y="1287"/>
                </a:lnTo>
                <a:lnTo>
                  <a:pt x="2502" y="1350"/>
                </a:lnTo>
                <a:cubicBezTo>
                  <a:pt x="2501" y="1356"/>
                  <a:pt x="2497" y="1361"/>
                  <a:pt x="2493" y="1365"/>
                </a:cubicBezTo>
                <a:lnTo>
                  <a:pt x="2464" y="1391"/>
                </a:lnTo>
                <a:lnTo>
                  <a:pt x="2419" y="1343"/>
                </a:lnTo>
                <a:close/>
                <a:moveTo>
                  <a:pt x="2795" y="1322"/>
                </a:moveTo>
                <a:lnTo>
                  <a:pt x="2828" y="1365"/>
                </a:lnTo>
                <a:lnTo>
                  <a:pt x="2866" y="1409"/>
                </a:lnTo>
                <a:lnTo>
                  <a:pt x="2853" y="1400"/>
                </a:lnTo>
                <a:lnTo>
                  <a:pt x="2901" y="1418"/>
                </a:lnTo>
                <a:lnTo>
                  <a:pt x="2950" y="1436"/>
                </a:lnTo>
                <a:lnTo>
                  <a:pt x="2916" y="1443"/>
                </a:lnTo>
                <a:lnTo>
                  <a:pt x="2935" y="1425"/>
                </a:lnTo>
                <a:cubicBezTo>
                  <a:pt x="2939" y="1422"/>
                  <a:pt x="2942" y="1419"/>
                  <a:pt x="2946" y="1418"/>
                </a:cubicBezTo>
                <a:lnTo>
                  <a:pt x="2967" y="1410"/>
                </a:lnTo>
                <a:lnTo>
                  <a:pt x="2990" y="1473"/>
                </a:lnTo>
                <a:lnTo>
                  <a:pt x="2970" y="1480"/>
                </a:lnTo>
                <a:lnTo>
                  <a:pt x="2981" y="1474"/>
                </a:lnTo>
                <a:lnTo>
                  <a:pt x="2961" y="1492"/>
                </a:lnTo>
                <a:cubicBezTo>
                  <a:pt x="2952" y="1500"/>
                  <a:pt x="2939" y="1503"/>
                  <a:pt x="2927" y="1498"/>
                </a:cubicBezTo>
                <a:lnTo>
                  <a:pt x="2878" y="1480"/>
                </a:lnTo>
                <a:lnTo>
                  <a:pt x="2829" y="1462"/>
                </a:lnTo>
                <a:cubicBezTo>
                  <a:pt x="2824" y="1460"/>
                  <a:pt x="2819" y="1457"/>
                  <a:pt x="2816" y="1453"/>
                </a:cubicBezTo>
                <a:lnTo>
                  <a:pt x="2776" y="1406"/>
                </a:lnTo>
                <a:lnTo>
                  <a:pt x="2743" y="1363"/>
                </a:lnTo>
                <a:lnTo>
                  <a:pt x="2795" y="1322"/>
                </a:lnTo>
                <a:close/>
                <a:moveTo>
                  <a:pt x="3109" y="1291"/>
                </a:moveTo>
                <a:lnTo>
                  <a:pt x="3130" y="1271"/>
                </a:lnTo>
                <a:cubicBezTo>
                  <a:pt x="3137" y="1265"/>
                  <a:pt x="3145" y="1262"/>
                  <a:pt x="3153" y="1262"/>
                </a:cubicBezTo>
                <a:lnTo>
                  <a:pt x="3173" y="1262"/>
                </a:lnTo>
                <a:lnTo>
                  <a:pt x="3221" y="1262"/>
                </a:lnTo>
                <a:lnTo>
                  <a:pt x="3241" y="1262"/>
                </a:lnTo>
                <a:lnTo>
                  <a:pt x="3241" y="1328"/>
                </a:lnTo>
                <a:lnTo>
                  <a:pt x="3221" y="1328"/>
                </a:lnTo>
                <a:lnTo>
                  <a:pt x="3173" y="1328"/>
                </a:lnTo>
                <a:lnTo>
                  <a:pt x="3153" y="1328"/>
                </a:lnTo>
                <a:lnTo>
                  <a:pt x="3176" y="1319"/>
                </a:lnTo>
                <a:lnTo>
                  <a:pt x="3154" y="1340"/>
                </a:lnTo>
                <a:lnTo>
                  <a:pt x="3109" y="1291"/>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rot="16200000">
            <a:off x="2282040" y="40201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2349" name=""/>
          <p:cNvSpPr/>
          <p:nvPr/>
        </p:nvSpPr>
        <p:spPr>
          <a:xfrm>
            <a:off x="4068360" y="58626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2350" name=""/>
          <p:cNvSpPr/>
          <p:nvPr/>
        </p:nvSpPr>
        <p:spPr>
          <a:xfrm>
            <a:off x="4437720" y="584352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351" name=""/>
          <p:cNvSpPr/>
          <p:nvPr/>
        </p:nvSpPr>
        <p:spPr>
          <a:xfrm>
            <a:off x="4520520" y="586260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2352" name=""/>
          <p:cNvSpPr/>
          <p:nvPr/>
        </p:nvSpPr>
        <p:spPr>
          <a:xfrm>
            <a:off x="4660920" y="3836880"/>
            <a:ext cx="90360" cy="460440"/>
          </a:xfrm>
          <a:custGeom>
            <a:avLst/>
            <a:gdLst/>
            <a:ahLst/>
            <a:rect l="l" t="t" r="r" b="b"/>
            <a:pathLst>
              <a:path w="800" h="4050">
                <a:moveTo>
                  <a:pt x="450" y="50"/>
                </a:moveTo>
                <a:lnTo>
                  <a:pt x="450" y="3384"/>
                </a:lnTo>
                <a:cubicBezTo>
                  <a:pt x="450" y="3411"/>
                  <a:pt x="428" y="3434"/>
                  <a:pt x="400" y="3434"/>
                </a:cubicBezTo>
                <a:cubicBezTo>
                  <a:pt x="373" y="3434"/>
                  <a:pt x="350" y="3411"/>
                  <a:pt x="350" y="3384"/>
                </a:cubicBezTo>
                <a:lnTo>
                  <a:pt x="350" y="50"/>
                </a:lnTo>
                <a:cubicBezTo>
                  <a:pt x="350" y="23"/>
                  <a:pt x="373" y="0"/>
                  <a:pt x="400" y="0"/>
                </a:cubicBezTo>
                <a:cubicBezTo>
                  <a:pt x="428" y="0"/>
                  <a:pt x="450" y="23"/>
                  <a:pt x="450" y="50"/>
                </a:cubicBezTo>
                <a:close/>
                <a:moveTo>
                  <a:pt x="800" y="3250"/>
                </a:moveTo>
                <a:lnTo>
                  <a:pt x="400" y="4050"/>
                </a:lnTo>
                <a:lnTo>
                  <a:pt x="0" y="3250"/>
                </a:lnTo>
                <a:lnTo>
                  <a:pt x="800" y="325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a:t>
            </a:r>
            <a:r>
              <a:rPr b="0" lang="en-US" sz="2400" spc="-1" strike="noStrike">
                <a:solidFill>
                  <a:srgbClr val="3333cc"/>
                </a:solidFill>
                <a:latin typeface="Times New Roman"/>
              </a:rPr>
              <a:t> </a:t>
            </a:r>
            <a:r>
              <a:rPr b="0" lang="en-US" sz="2400" spc="-1" strike="noStrike">
                <a:solidFill>
                  <a:srgbClr val="0066ff"/>
                </a:solidFill>
                <a:latin typeface="Times New Roman"/>
              </a:rPr>
              <a:t>Scattering</a:t>
            </a:r>
            <a:endParaRPr b="0" lang="en-US" sz="2400" spc="-1" strike="noStrike">
              <a:solidFill>
                <a:srgbClr val="000000"/>
              </a:solidFill>
              <a:latin typeface="Times New Roman"/>
            </a:endParaRPr>
          </a:p>
        </p:txBody>
      </p:sp>
      <p:sp>
        <p:nvSpPr>
          <p:cNvPr id="109"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6705720" y="2438280"/>
          <a:ext cx="1600200" cy="835200"/>
        </p:xfrm>
        <a:graphic>
          <a:graphicData uri="http://schemas.openxmlformats.org/presentationml/2006/ole">
            <p:oleObj r:id="rId1" spid="">
              <p:embed/>
              <p:pic>
                <p:nvPicPr>
                  <p:cNvPr id="111" name="" descr=""/>
                  <p:cNvPicPr/>
                  <p:nvPr/>
                </p:nvPicPr>
                <p:blipFill>
                  <a:blip r:embed="rId2"/>
                  <a:stretch/>
                </p:blipFill>
                <p:spPr>
                  <a:xfrm>
                    <a:off x="6705720" y="2438280"/>
                    <a:ext cx="1600200" cy="835200"/>
                  </a:xfrm>
                  <a:prstGeom prst="rect">
                    <a:avLst/>
                  </a:prstGeom>
                  <a:ln w="0">
                    <a:noFill/>
                  </a:ln>
                </p:spPr>
              </p:pic>
            </p:oleObj>
          </a:graphicData>
        </a:graphic>
      </p:graphicFrame>
      <p:graphicFrame>
        <p:nvGraphicFramePr>
          <p:cNvPr id="112" name=""/>
          <p:cNvGraphicFramePr/>
          <p:nvPr/>
        </p:nvGraphicFramePr>
        <p:xfrm>
          <a:off x="457200" y="1371600"/>
          <a:ext cx="7772400" cy="1055520"/>
        </p:xfrm>
        <a:graphic>
          <a:graphicData uri="http://schemas.openxmlformats.org/presentationml/2006/ole">
            <p:oleObj r:id="rId3" spid="">
              <p:embed/>
              <p:pic>
                <p:nvPicPr>
                  <p:cNvPr id="113" name="" descr=""/>
                  <p:cNvPicPr/>
                  <p:nvPr/>
                </p:nvPicPr>
                <p:blipFill>
                  <a:blip r:embed="rId4"/>
                  <a:stretch/>
                </p:blipFill>
                <p:spPr>
                  <a:xfrm>
                    <a:off x="457200" y="1371600"/>
                    <a:ext cx="7772400" cy="1055520"/>
                  </a:xfrm>
                  <a:prstGeom prst="rect">
                    <a:avLst/>
                  </a:prstGeom>
                  <a:ln w="0">
                    <a:noFill/>
                  </a:ln>
                </p:spPr>
              </p:pic>
            </p:oleObj>
          </a:graphicData>
        </a:graphic>
      </p:graphicFrame>
      <p:sp>
        <p:nvSpPr>
          <p:cNvPr id="114" name=""/>
          <p:cNvSpPr/>
          <p:nvPr/>
        </p:nvSpPr>
        <p:spPr>
          <a:xfrm>
            <a:off x="598680" y="3657600"/>
            <a:ext cx="830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btain the far field scattering amplitude, we need to know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and velocity on the surface of the flaw due to the inc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cattered waves</a:t>
            </a:r>
            <a:endParaRPr b="0" lang="en-US" sz="2400" spc="-1" strike="noStrike">
              <a:solidFill>
                <a:srgbClr val="000000"/>
              </a:solidFill>
              <a:latin typeface="Times New Roman"/>
            </a:endParaRPr>
          </a:p>
        </p:txBody>
      </p:sp>
      <p:sp>
        <p:nvSpPr>
          <p:cNvPr id="115" name=""/>
          <p:cNvSpPr/>
          <p:nvPr/>
        </p:nvSpPr>
        <p:spPr>
          <a:xfrm>
            <a:off x="3124080" y="2438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76920" y="20574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55120" y="5014800"/>
            <a:ext cx="735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quantities can be found by solving a flaw scatte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ary value probl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
          <p:cNvSpPr/>
          <p:nvPr/>
        </p:nvSpPr>
        <p:spPr>
          <a:xfrm>
            <a:off x="7696080" y="2133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2207520" y="99072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y Distorted Born Approximation</a:t>
            </a:r>
            <a:endParaRPr b="0" lang="en-US" sz="2400" spc="-1" strike="noStrike">
              <a:solidFill>
                <a:srgbClr val="000000"/>
              </a:solidFill>
              <a:latin typeface="Times New Roman"/>
            </a:endParaRPr>
          </a:p>
        </p:txBody>
      </p:sp>
      <p:sp>
        <p:nvSpPr>
          <p:cNvPr id="2357" name=""/>
          <p:cNvSpPr/>
          <p:nvPr/>
        </p:nvSpPr>
        <p:spPr>
          <a:xfrm>
            <a:off x="990720" y="251460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wave speeds of host material by that of the flaw in the Born approximation</a:t>
            </a:r>
            <a:endParaRPr b="0" lang="en-US" sz="2400" spc="-1" strike="noStrike">
              <a:solidFill>
                <a:srgbClr val="000000"/>
              </a:solidFill>
              <a:latin typeface="Times New Roman"/>
            </a:endParaRPr>
          </a:p>
        </p:txBody>
      </p:sp>
      <p:sp>
        <p:nvSpPr>
          <p:cNvPr id="2358" name=""/>
          <p:cNvSpPr/>
          <p:nvPr/>
        </p:nvSpPr>
        <p:spPr>
          <a:xfrm>
            <a:off x="7467480" y="2514600"/>
            <a:ext cx="1067040" cy="1066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69608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7696080" y="3733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7848720" y="2590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84872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64" name=""/>
          <p:cNvGraphicFramePr/>
          <p:nvPr/>
        </p:nvGraphicFramePr>
        <p:xfrm>
          <a:off x="1905120" y="4038480"/>
          <a:ext cx="4038480" cy="858960"/>
        </p:xfrm>
        <a:graphic>
          <a:graphicData uri="http://schemas.openxmlformats.org/presentationml/2006/ole">
            <p:oleObj r:id="rId1" spid="">
              <p:embed/>
              <p:pic>
                <p:nvPicPr>
                  <p:cNvPr id="2365" name="" descr=""/>
                  <p:cNvPicPr/>
                  <p:nvPr/>
                </p:nvPicPr>
                <p:blipFill>
                  <a:blip r:embed="rId2"/>
                  <a:stretch/>
                </p:blipFill>
                <p:spPr>
                  <a:xfrm>
                    <a:off x="1905120" y="4038480"/>
                    <a:ext cx="4038480" cy="858960"/>
                  </a:xfrm>
                  <a:prstGeom prst="rect">
                    <a:avLst/>
                  </a:prstGeom>
                  <a:ln w="0">
                    <a:noFill/>
                  </a:ln>
                </p:spPr>
              </p:pic>
            </p:oleObj>
          </a:graphicData>
        </a:graphic>
      </p:graphicFrame>
      <p:sp>
        <p:nvSpPr>
          <p:cNvPr id="2366" name=""/>
          <p:cNvSpPr/>
          <p:nvPr/>
        </p:nvSpPr>
        <p:spPr>
          <a:xfrm>
            <a:off x="985320" y="3352680"/>
            <a:ext cx="525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ulse-echo response of a spher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sion</a:t>
            </a:r>
            <a:endParaRPr b="0" lang="en-US" sz="2400" spc="-1" strike="noStrike">
              <a:solidFill>
                <a:srgbClr val="000000"/>
              </a:solidFill>
              <a:latin typeface="Times New Roman"/>
            </a:endParaRPr>
          </a:p>
        </p:txBody>
      </p:sp>
      <p:sp>
        <p:nvSpPr>
          <p:cNvPr id="2367" name=""/>
          <p:cNvSpPr/>
          <p:nvPr/>
        </p:nvSpPr>
        <p:spPr>
          <a:xfrm>
            <a:off x="1814400" y="49957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236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69" name=""/>
          <p:cNvGraphicFramePr/>
          <p:nvPr/>
        </p:nvGraphicFramePr>
        <p:xfrm>
          <a:off x="3581280" y="5410080"/>
          <a:ext cx="1905120" cy="835200"/>
        </p:xfrm>
        <a:graphic>
          <a:graphicData uri="http://schemas.openxmlformats.org/presentationml/2006/ole">
            <p:oleObj r:id="rId3" spid="">
              <p:embed/>
              <p:pic>
                <p:nvPicPr>
                  <p:cNvPr id="2370" name="" descr=""/>
                  <p:cNvPicPr/>
                  <p:nvPr/>
                </p:nvPicPr>
                <p:blipFill>
                  <a:blip r:embed="rId4"/>
                  <a:stretch/>
                </p:blipFill>
                <p:spPr>
                  <a:xfrm>
                    <a:off x="3581280" y="5410080"/>
                    <a:ext cx="1905120" cy="835200"/>
                  </a:xfrm>
                  <a:prstGeom prst="rect">
                    <a:avLst/>
                  </a:prstGeom>
                  <a:ln w="0">
                    <a:noFill/>
                  </a:ln>
                </p:spPr>
              </p:pic>
            </p:oleObj>
          </a:graphicData>
        </a:graphic>
      </p:graphicFrame>
      <p:graphicFrame>
        <p:nvGraphicFramePr>
          <p:cNvPr id="2371" name=""/>
          <p:cNvGraphicFramePr/>
          <p:nvPr/>
        </p:nvGraphicFramePr>
        <p:xfrm>
          <a:off x="1371600" y="1600200"/>
          <a:ext cx="3429000" cy="798480"/>
        </p:xfrm>
        <a:graphic>
          <a:graphicData uri="http://schemas.openxmlformats.org/presentationml/2006/ole">
            <p:oleObj r:id="rId5" spid="">
              <p:embed/>
              <p:pic>
                <p:nvPicPr>
                  <p:cNvPr id="2372" name="" descr=""/>
                  <p:cNvPicPr/>
                  <p:nvPr/>
                </p:nvPicPr>
                <p:blipFill>
                  <a:blip r:embed="rId6"/>
                  <a:stretch/>
                </p:blipFill>
                <p:spPr>
                  <a:xfrm>
                    <a:off x="1371600" y="1600200"/>
                    <a:ext cx="3429000" cy="798480"/>
                  </a:xfrm>
                  <a:prstGeom prst="rect">
                    <a:avLst/>
                  </a:prstGeom>
                  <a:ln w="0">
                    <a:noFill/>
                  </a:ln>
                </p:spPr>
              </p:pic>
            </p:oleObj>
          </a:graphicData>
        </a:graphic>
      </p:graphicFrame>
      <p:graphicFrame>
        <p:nvGraphicFramePr>
          <p:cNvPr id="2373" name=""/>
          <p:cNvGraphicFramePr/>
          <p:nvPr/>
        </p:nvGraphicFramePr>
        <p:xfrm>
          <a:off x="5334120" y="1676520"/>
          <a:ext cx="1828800" cy="833400"/>
        </p:xfrm>
        <a:graphic>
          <a:graphicData uri="http://schemas.openxmlformats.org/presentationml/2006/ole">
            <p:oleObj r:id="rId7" spid="">
              <p:embed/>
              <p:pic>
                <p:nvPicPr>
                  <p:cNvPr id="2374" name="" descr=""/>
                  <p:cNvPicPr/>
                  <p:nvPr/>
                </p:nvPicPr>
                <p:blipFill>
                  <a:blip r:embed="rId8"/>
                  <a:stretch/>
                </p:blipFill>
                <p:spPr>
                  <a:xfrm>
                    <a:off x="5334120" y="1676520"/>
                    <a:ext cx="1828800" cy="833400"/>
                  </a:xfrm>
                  <a:prstGeom prst="rect">
                    <a:avLst/>
                  </a:prstGeom>
                  <a:ln w="0">
                    <a:noFill/>
                  </a:ln>
                </p:spPr>
              </p:pic>
            </p:oleObj>
          </a:graphicData>
        </a:graphic>
      </p:graphicFrame>
      <p:sp>
        <p:nvSpPr>
          <p:cNvPr id="2375"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28600" y="5486400"/>
            <a:ext cx="7772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P-wave response of a 1 mm radius spherical inclusion in steel where the density and compressional wave speed are both fifty percent higher than the host steel. Solid line: Doubly Distorted Born approximation, dashed line: separation of variables solution.</a:t>
            </a:r>
            <a:endParaRPr b="0" lang="en-US" sz="1200" spc="-1" strike="noStrike">
              <a:solidFill>
                <a:srgbClr val="000000"/>
              </a:solidFill>
              <a:latin typeface="Times New Roman"/>
            </a:endParaRPr>
          </a:p>
        </p:txBody>
      </p:sp>
      <p:sp>
        <p:nvSpPr>
          <p:cNvPr id="2378" name=""/>
          <p:cNvSpPr/>
          <p:nvPr/>
        </p:nvSpPr>
        <p:spPr>
          <a:xfrm>
            <a:off x="1295280" y="838080"/>
            <a:ext cx="679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surface amplitude response is improved, and relative time of arrival of back surface response is correct, but there is an error in absolute time of arrivals  (50% differences in properties)</a:t>
            </a:r>
            <a:endParaRPr b="0" lang="en-US" sz="2400" spc="-1" strike="noStrike">
              <a:solidFill>
                <a:srgbClr val="000000"/>
              </a:solidFill>
              <a:latin typeface="Times New Roman"/>
            </a:endParaRPr>
          </a:p>
        </p:txBody>
      </p:sp>
      <p:sp>
        <p:nvSpPr>
          <p:cNvPr id="2379" name=""/>
          <p:cNvSpPr/>
          <p:nvPr/>
        </p:nvSpPr>
        <p:spPr>
          <a:xfrm>
            <a:off x="4300560" y="2666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4441680" y="2874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4921200" y="340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51055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3324240" y="2494080"/>
            <a:ext cx="2894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a:off x="3324240" y="4770360"/>
            <a:ext cx="2894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5" name=""/>
          <p:cNvSpPr/>
          <p:nvPr/>
        </p:nvSpPr>
        <p:spPr>
          <a:xfrm flipV="1">
            <a:off x="6218280" y="2493720"/>
            <a:ext cx="1440" cy="2276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flipV="1">
            <a:off x="3324240" y="2493720"/>
            <a:ext cx="1440" cy="2276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324240" y="4770360"/>
            <a:ext cx="2894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8" name=""/>
          <p:cNvSpPr/>
          <p:nvPr/>
        </p:nvSpPr>
        <p:spPr>
          <a:xfrm flipV="1">
            <a:off x="332424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9" name=""/>
          <p:cNvSpPr/>
          <p:nvPr/>
        </p:nvSpPr>
        <p:spPr>
          <a:xfrm>
            <a:off x="332424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0" name=""/>
          <p:cNvSpPr/>
          <p:nvPr/>
        </p:nvSpPr>
        <p:spPr>
          <a:xfrm>
            <a:off x="3263040" y="4827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391" name=""/>
          <p:cNvSpPr/>
          <p:nvPr/>
        </p:nvSpPr>
        <p:spPr>
          <a:xfrm>
            <a:off x="331128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392" name=""/>
          <p:cNvSpPr/>
          <p:nvPr/>
        </p:nvSpPr>
        <p:spPr>
          <a:xfrm flipV="1">
            <a:off x="40435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3" name=""/>
          <p:cNvSpPr/>
          <p:nvPr/>
        </p:nvSpPr>
        <p:spPr>
          <a:xfrm>
            <a:off x="40435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4" name=""/>
          <p:cNvSpPr/>
          <p:nvPr/>
        </p:nvSpPr>
        <p:spPr>
          <a:xfrm>
            <a:off x="3944160" y="4827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395" name=""/>
          <p:cNvSpPr/>
          <p:nvPr/>
        </p:nvSpPr>
        <p:spPr>
          <a:xfrm>
            <a:off x="3991320" y="48276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396" name=""/>
          <p:cNvSpPr/>
          <p:nvPr/>
        </p:nvSpPr>
        <p:spPr>
          <a:xfrm flipV="1">
            <a:off x="47689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7" name=""/>
          <p:cNvSpPr/>
          <p:nvPr/>
        </p:nvSpPr>
        <p:spPr>
          <a:xfrm>
            <a:off x="47689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8" name=""/>
          <p:cNvSpPr/>
          <p:nvPr/>
        </p:nvSpPr>
        <p:spPr>
          <a:xfrm>
            <a:off x="473832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399" name=""/>
          <p:cNvSpPr/>
          <p:nvPr/>
        </p:nvSpPr>
        <p:spPr>
          <a:xfrm flipV="1">
            <a:off x="54943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0" name=""/>
          <p:cNvSpPr/>
          <p:nvPr/>
        </p:nvSpPr>
        <p:spPr>
          <a:xfrm>
            <a:off x="54943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1" name=""/>
          <p:cNvSpPr/>
          <p:nvPr/>
        </p:nvSpPr>
        <p:spPr>
          <a:xfrm>
            <a:off x="5420160" y="48276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402" name=""/>
          <p:cNvSpPr/>
          <p:nvPr/>
        </p:nvSpPr>
        <p:spPr>
          <a:xfrm flipV="1">
            <a:off x="621828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3" name=""/>
          <p:cNvSpPr/>
          <p:nvPr/>
        </p:nvSpPr>
        <p:spPr>
          <a:xfrm>
            <a:off x="621828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4" name=""/>
          <p:cNvSpPr/>
          <p:nvPr/>
        </p:nvSpPr>
        <p:spPr>
          <a:xfrm>
            <a:off x="618624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405" name=""/>
          <p:cNvSpPr/>
          <p:nvPr/>
        </p:nvSpPr>
        <p:spPr>
          <a:xfrm>
            <a:off x="3324240" y="477036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6" name=""/>
          <p:cNvSpPr/>
          <p:nvPr/>
        </p:nvSpPr>
        <p:spPr>
          <a:xfrm flipH="1">
            <a:off x="6188040" y="477036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7" name=""/>
          <p:cNvSpPr/>
          <p:nvPr/>
        </p:nvSpPr>
        <p:spPr>
          <a:xfrm>
            <a:off x="3169440" y="47260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08" name=""/>
          <p:cNvSpPr/>
          <p:nvPr/>
        </p:nvSpPr>
        <p:spPr>
          <a:xfrm>
            <a:off x="3217680" y="4726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409" name=""/>
          <p:cNvSpPr/>
          <p:nvPr/>
        </p:nvSpPr>
        <p:spPr>
          <a:xfrm>
            <a:off x="3324240" y="438768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0" name=""/>
          <p:cNvSpPr/>
          <p:nvPr/>
        </p:nvSpPr>
        <p:spPr>
          <a:xfrm flipH="1">
            <a:off x="6188040" y="438768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1" name=""/>
          <p:cNvSpPr/>
          <p:nvPr/>
        </p:nvSpPr>
        <p:spPr>
          <a:xfrm>
            <a:off x="3169440" y="4341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12" name=""/>
          <p:cNvSpPr/>
          <p:nvPr/>
        </p:nvSpPr>
        <p:spPr>
          <a:xfrm>
            <a:off x="3217680" y="4341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413" name=""/>
          <p:cNvSpPr/>
          <p:nvPr/>
        </p:nvSpPr>
        <p:spPr>
          <a:xfrm>
            <a:off x="3324240" y="401148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4" name=""/>
          <p:cNvSpPr/>
          <p:nvPr/>
        </p:nvSpPr>
        <p:spPr>
          <a:xfrm flipH="1">
            <a:off x="6188040" y="401148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5" name=""/>
          <p:cNvSpPr/>
          <p:nvPr/>
        </p:nvSpPr>
        <p:spPr>
          <a:xfrm>
            <a:off x="3198600" y="3963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416" name=""/>
          <p:cNvSpPr/>
          <p:nvPr/>
        </p:nvSpPr>
        <p:spPr>
          <a:xfrm>
            <a:off x="3324240" y="363204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flipH="1">
            <a:off x="6188040" y="363204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8" name=""/>
          <p:cNvSpPr/>
          <p:nvPr/>
        </p:nvSpPr>
        <p:spPr>
          <a:xfrm>
            <a:off x="3198600" y="3584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419" name=""/>
          <p:cNvSpPr/>
          <p:nvPr/>
        </p:nvSpPr>
        <p:spPr>
          <a:xfrm>
            <a:off x="3324240" y="324972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flipH="1">
            <a:off x="6188040" y="32497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3198600" y="3201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422" name=""/>
          <p:cNvSpPr/>
          <p:nvPr/>
        </p:nvSpPr>
        <p:spPr>
          <a:xfrm>
            <a:off x="3324240" y="287352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3" name=""/>
          <p:cNvSpPr/>
          <p:nvPr/>
        </p:nvSpPr>
        <p:spPr>
          <a:xfrm flipH="1">
            <a:off x="6188040" y="28735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3198600" y="2825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2425" name=""/>
          <p:cNvSpPr/>
          <p:nvPr/>
        </p:nvSpPr>
        <p:spPr>
          <a:xfrm>
            <a:off x="3324240" y="249408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flipH="1">
            <a:off x="6188040" y="24940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7" name=""/>
          <p:cNvSpPr/>
          <p:nvPr/>
        </p:nvSpPr>
        <p:spPr>
          <a:xfrm>
            <a:off x="3198600" y="2446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2428" name=""/>
          <p:cNvSpPr/>
          <p:nvPr/>
        </p:nvSpPr>
        <p:spPr>
          <a:xfrm>
            <a:off x="3324240" y="2494080"/>
            <a:ext cx="2894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3324240" y="3216240"/>
            <a:ext cx="1112760" cy="949320"/>
          </a:xfrm>
          <a:custGeom>
            <a:avLst/>
            <a:gdLst/>
            <a:ahLst/>
            <a:rect l="l" t="t" r="r" b="b"/>
            <a:pathLst>
              <a:path w="701" h="598">
                <a:moveTo>
                  <a:pt x="0" y="501"/>
                </a:moveTo>
                <a:lnTo>
                  <a:pt x="3" y="501"/>
                </a:lnTo>
                <a:lnTo>
                  <a:pt x="7" y="501"/>
                </a:lnTo>
                <a:lnTo>
                  <a:pt x="13" y="501"/>
                </a:lnTo>
                <a:lnTo>
                  <a:pt x="18" y="501"/>
                </a:lnTo>
                <a:lnTo>
                  <a:pt x="24" y="501"/>
                </a:lnTo>
                <a:lnTo>
                  <a:pt x="31" y="501"/>
                </a:lnTo>
                <a:lnTo>
                  <a:pt x="33" y="501"/>
                </a:lnTo>
                <a:lnTo>
                  <a:pt x="40" y="501"/>
                </a:lnTo>
                <a:lnTo>
                  <a:pt x="46" y="501"/>
                </a:lnTo>
                <a:lnTo>
                  <a:pt x="52" y="501"/>
                </a:lnTo>
                <a:lnTo>
                  <a:pt x="58" y="501"/>
                </a:lnTo>
                <a:lnTo>
                  <a:pt x="65" y="501"/>
                </a:lnTo>
                <a:lnTo>
                  <a:pt x="67" y="501"/>
                </a:lnTo>
                <a:lnTo>
                  <a:pt x="73" y="501"/>
                </a:lnTo>
                <a:lnTo>
                  <a:pt x="80" y="501"/>
                </a:lnTo>
                <a:lnTo>
                  <a:pt x="86" y="501"/>
                </a:lnTo>
                <a:lnTo>
                  <a:pt x="92" y="501"/>
                </a:lnTo>
                <a:lnTo>
                  <a:pt x="95" y="501"/>
                </a:lnTo>
                <a:lnTo>
                  <a:pt x="101" y="501"/>
                </a:lnTo>
                <a:lnTo>
                  <a:pt x="107" y="501"/>
                </a:lnTo>
                <a:lnTo>
                  <a:pt x="114" y="501"/>
                </a:lnTo>
                <a:lnTo>
                  <a:pt x="120" y="501"/>
                </a:lnTo>
                <a:lnTo>
                  <a:pt x="123" y="501"/>
                </a:lnTo>
                <a:lnTo>
                  <a:pt x="129" y="501"/>
                </a:lnTo>
                <a:lnTo>
                  <a:pt x="135" y="501"/>
                </a:lnTo>
                <a:lnTo>
                  <a:pt x="140" y="501"/>
                </a:lnTo>
                <a:lnTo>
                  <a:pt x="147" y="501"/>
                </a:lnTo>
                <a:lnTo>
                  <a:pt x="153" y="501"/>
                </a:lnTo>
                <a:lnTo>
                  <a:pt x="157" y="501"/>
                </a:lnTo>
                <a:lnTo>
                  <a:pt x="163" y="501"/>
                </a:lnTo>
                <a:lnTo>
                  <a:pt x="168" y="501"/>
                </a:lnTo>
                <a:lnTo>
                  <a:pt x="174" y="501"/>
                </a:lnTo>
                <a:lnTo>
                  <a:pt x="181" y="501"/>
                </a:lnTo>
                <a:lnTo>
                  <a:pt x="183" y="501"/>
                </a:lnTo>
                <a:lnTo>
                  <a:pt x="190" y="501"/>
                </a:lnTo>
                <a:lnTo>
                  <a:pt x="196" y="501"/>
                </a:lnTo>
                <a:lnTo>
                  <a:pt x="202" y="501"/>
                </a:lnTo>
                <a:lnTo>
                  <a:pt x="208" y="501"/>
                </a:lnTo>
                <a:lnTo>
                  <a:pt x="211" y="501"/>
                </a:lnTo>
                <a:lnTo>
                  <a:pt x="217" y="501"/>
                </a:lnTo>
                <a:lnTo>
                  <a:pt x="223" y="501"/>
                </a:lnTo>
                <a:lnTo>
                  <a:pt x="230" y="501"/>
                </a:lnTo>
                <a:lnTo>
                  <a:pt x="236" y="501"/>
                </a:lnTo>
                <a:lnTo>
                  <a:pt x="242" y="501"/>
                </a:lnTo>
                <a:lnTo>
                  <a:pt x="245" y="501"/>
                </a:lnTo>
                <a:lnTo>
                  <a:pt x="251" y="501"/>
                </a:lnTo>
                <a:lnTo>
                  <a:pt x="257" y="501"/>
                </a:lnTo>
                <a:lnTo>
                  <a:pt x="264" y="501"/>
                </a:lnTo>
                <a:lnTo>
                  <a:pt x="270" y="501"/>
                </a:lnTo>
                <a:lnTo>
                  <a:pt x="273" y="501"/>
                </a:lnTo>
                <a:lnTo>
                  <a:pt x="279" y="501"/>
                </a:lnTo>
                <a:lnTo>
                  <a:pt x="285" y="501"/>
                </a:lnTo>
                <a:lnTo>
                  <a:pt x="290" y="501"/>
                </a:lnTo>
                <a:lnTo>
                  <a:pt x="297" y="501"/>
                </a:lnTo>
                <a:lnTo>
                  <a:pt x="300" y="501"/>
                </a:lnTo>
                <a:lnTo>
                  <a:pt x="307" y="501"/>
                </a:lnTo>
                <a:lnTo>
                  <a:pt x="313" y="501"/>
                </a:lnTo>
                <a:lnTo>
                  <a:pt x="318" y="501"/>
                </a:lnTo>
                <a:lnTo>
                  <a:pt x="324" y="501"/>
                </a:lnTo>
                <a:lnTo>
                  <a:pt x="331" y="501"/>
                </a:lnTo>
                <a:lnTo>
                  <a:pt x="333" y="501"/>
                </a:lnTo>
                <a:lnTo>
                  <a:pt x="340" y="501"/>
                </a:lnTo>
                <a:lnTo>
                  <a:pt x="346" y="501"/>
                </a:lnTo>
                <a:lnTo>
                  <a:pt x="352" y="501"/>
                </a:lnTo>
                <a:lnTo>
                  <a:pt x="358" y="501"/>
                </a:lnTo>
                <a:lnTo>
                  <a:pt x="361" y="501"/>
                </a:lnTo>
                <a:lnTo>
                  <a:pt x="367" y="501"/>
                </a:lnTo>
                <a:lnTo>
                  <a:pt x="373" y="501"/>
                </a:lnTo>
                <a:lnTo>
                  <a:pt x="380" y="501"/>
                </a:lnTo>
                <a:lnTo>
                  <a:pt x="386" y="501"/>
                </a:lnTo>
                <a:lnTo>
                  <a:pt x="389" y="501"/>
                </a:lnTo>
                <a:lnTo>
                  <a:pt x="395" y="501"/>
                </a:lnTo>
                <a:lnTo>
                  <a:pt x="401" y="501"/>
                </a:lnTo>
                <a:lnTo>
                  <a:pt x="407" y="501"/>
                </a:lnTo>
                <a:lnTo>
                  <a:pt x="414" y="501"/>
                </a:lnTo>
                <a:lnTo>
                  <a:pt x="420" y="501"/>
                </a:lnTo>
                <a:lnTo>
                  <a:pt x="423" y="501"/>
                </a:lnTo>
                <a:lnTo>
                  <a:pt x="429" y="501"/>
                </a:lnTo>
                <a:lnTo>
                  <a:pt x="435" y="501"/>
                </a:lnTo>
                <a:lnTo>
                  <a:pt x="440" y="501"/>
                </a:lnTo>
                <a:lnTo>
                  <a:pt x="447" y="501"/>
                </a:lnTo>
                <a:lnTo>
                  <a:pt x="450" y="501"/>
                </a:lnTo>
                <a:lnTo>
                  <a:pt x="457" y="501"/>
                </a:lnTo>
                <a:lnTo>
                  <a:pt x="463" y="501"/>
                </a:lnTo>
                <a:lnTo>
                  <a:pt x="468" y="501"/>
                </a:lnTo>
                <a:lnTo>
                  <a:pt x="474" y="501"/>
                </a:lnTo>
                <a:lnTo>
                  <a:pt x="478" y="501"/>
                </a:lnTo>
                <a:lnTo>
                  <a:pt x="484" y="501"/>
                </a:lnTo>
                <a:lnTo>
                  <a:pt x="491" y="501"/>
                </a:lnTo>
                <a:lnTo>
                  <a:pt x="496" y="501"/>
                </a:lnTo>
                <a:lnTo>
                  <a:pt x="502" y="501"/>
                </a:lnTo>
                <a:lnTo>
                  <a:pt x="508" y="501"/>
                </a:lnTo>
                <a:lnTo>
                  <a:pt x="511" y="501"/>
                </a:lnTo>
                <a:lnTo>
                  <a:pt x="517" y="501"/>
                </a:lnTo>
                <a:lnTo>
                  <a:pt x="523" y="501"/>
                </a:lnTo>
                <a:lnTo>
                  <a:pt x="530" y="501"/>
                </a:lnTo>
                <a:lnTo>
                  <a:pt x="536" y="497"/>
                </a:lnTo>
                <a:lnTo>
                  <a:pt x="539" y="497"/>
                </a:lnTo>
                <a:lnTo>
                  <a:pt x="545" y="497"/>
                </a:lnTo>
                <a:lnTo>
                  <a:pt x="551" y="497"/>
                </a:lnTo>
                <a:lnTo>
                  <a:pt x="557" y="501"/>
                </a:lnTo>
                <a:lnTo>
                  <a:pt x="564" y="501"/>
                </a:lnTo>
                <a:lnTo>
                  <a:pt x="566" y="501"/>
                </a:lnTo>
                <a:lnTo>
                  <a:pt x="573" y="501"/>
                </a:lnTo>
                <a:lnTo>
                  <a:pt x="579" y="497"/>
                </a:lnTo>
                <a:lnTo>
                  <a:pt x="585" y="497"/>
                </a:lnTo>
                <a:lnTo>
                  <a:pt x="591" y="501"/>
                </a:lnTo>
                <a:lnTo>
                  <a:pt x="598" y="503"/>
                </a:lnTo>
                <a:lnTo>
                  <a:pt x="600" y="509"/>
                </a:lnTo>
                <a:lnTo>
                  <a:pt x="607" y="509"/>
                </a:lnTo>
                <a:lnTo>
                  <a:pt x="613" y="509"/>
                </a:lnTo>
                <a:lnTo>
                  <a:pt x="618" y="501"/>
                </a:lnTo>
                <a:lnTo>
                  <a:pt x="624" y="485"/>
                </a:lnTo>
                <a:lnTo>
                  <a:pt x="628" y="470"/>
                </a:lnTo>
                <a:lnTo>
                  <a:pt x="634" y="460"/>
                </a:lnTo>
                <a:lnTo>
                  <a:pt x="641" y="464"/>
                </a:lnTo>
                <a:lnTo>
                  <a:pt x="646" y="485"/>
                </a:lnTo>
                <a:lnTo>
                  <a:pt x="652" y="518"/>
                </a:lnTo>
                <a:lnTo>
                  <a:pt x="658" y="559"/>
                </a:lnTo>
                <a:lnTo>
                  <a:pt x="661" y="592"/>
                </a:lnTo>
                <a:lnTo>
                  <a:pt x="667" y="598"/>
                </a:lnTo>
                <a:lnTo>
                  <a:pt x="674" y="570"/>
                </a:lnTo>
                <a:lnTo>
                  <a:pt x="680" y="494"/>
                </a:lnTo>
                <a:lnTo>
                  <a:pt x="686" y="378"/>
                </a:lnTo>
                <a:lnTo>
                  <a:pt x="689" y="241"/>
                </a:lnTo>
                <a:lnTo>
                  <a:pt x="695" y="107"/>
                </a:lnTo>
                <a:lnTo>
                  <a:pt x="701" y="0"/>
                </a:lnTo>
              </a:path>
            </a:pathLst>
          </a:custGeom>
          <a:noFill/>
          <a:ln w="126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37000" y="3133800"/>
            <a:ext cx="1120680" cy="1191960"/>
          </a:xfrm>
          <a:custGeom>
            <a:avLst/>
            <a:gdLst/>
            <a:ahLst/>
            <a:rect l="l" t="t" r="r" b="b"/>
            <a:pathLst>
              <a:path w="706" h="751">
                <a:moveTo>
                  <a:pt x="0" y="53"/>
                </a:moveTo>
                <a:lnTo>
                  <a:pt x="6" y="0"/>
                </a:lnTo>
                <a:lnTo>
                  <a:pt x="13" y="15"/>
                </a:lnTo>
                <a:lnTo>
                  <a:pt x="15" y="98"/>
                </a:lnTo>
                <a:lnTo>
                  <a:pt x="22" y="229"/>
                </a:lnTo>
                <a:lnTo>
                  <a:pt x="28" y="385"/>
                </a:lnTo>
                <a:lnTo>
                  <a:pt x="34" y="534"/>
                </a:lnTo>
                <a:lnTo>
                  <a:pt x="40" y="652"/>
                </a:lnTo>
                <a:lnTo>
                  <a:pt x="47" y="726"/>
                </a:lnTo>
                <a:lnTo>
                  <a:pt x="49" y="751"/>
                </a:lnTo>
                <a:lnTo>
                  <a:pt x="56" y="738"/>
                </a:lnTo>
                <a:lnTo>
                  <a:pt x="62" y="699"/>
                </a:lnTo>
                <a:lnTo>
                  <a:pt x="68" y="656"/>
                </a:lnTo>
                <a:lnTo>
                  <a:pt x="73" y="622"/>
                </a:lnTo>
                <a:lnTo>
                  <a:pt x="77" y="604"/>
                </a:lnTo>
                <a:lnTo>
                  <a:pt x="83" y="604"/>
                </a:lnTo>
                <a:lnTo>
                  <a:pt x="90" y="613"/>
                </a:lnTo>
                <a:lnTo>
                  <a:pt x="96" y="628"/>
                </a:lnTo>
                <a:lnTo>
                  <a:pt x="101" y="644"/>
                </a:lnTo>
                <a:lnTo>
                  <a:pt x="105" y="652"/>
                </a:lnTo>
                <a:lnTo>
                  <a:pt x="111" y="652"/>
                </a:lnTo>
                <a:lnTo>
                  <a:pt x="117" y="652"/>
                </a:lnTo>
                <a:lnTo>
                  <a:pt x="124" y="646"/>
                </a:lnTo>
                <a:lnTo>
                  <a:pt x="129" y="644"/>
                </a:lnTo>
                <a:lnTo>
                  <a:pt x="135" y="641"/>
                </a:lnTo>
                <a:lnTo>
                  <a:pt x="139" y="641"/>
                </a:lnTo>
                <a:lnTo>
                  <a:pt x="144" y="641"/>
                </a:lnTo>
                <a:lnTo>
                  <a:pt x="150" y="641"/>
                </a:lnTo>
                <a:lnTo>
                  <a:pt x="156" y="641"/>
                </a:lnTo>
                <a:lnTo>
                  <a:pt x="163" y="641"/>
                </a:lnTo>
                <a:lnTo>
                  <a:pt x="165" y="641"/>
                </a:lnTo>
                <a:lnTo>
                  <a:pt x="172" y="637"/>
                </a:lnTo>
                <a:lnTo>
                  <a:pt x="178" y="641"/>
                </a:lnTo>
                <a:lnTo>
                  <a:pt x="184" y="641"/>
                </a:lnTo>
                <a:lnTo>
                  <a:pt x="190" y="641"/>
                </a:lnTo>
                <a:lnTo>
                  <a:pt x="193" y="641"/>
                </a:lnTo>
                <a:lnTo>
                  <a:pt x="199" y="644"/>
                </a:lnTo>
                <a:lnTo>
                  <a:pt x="206" y="644"/>
                </a:lnTo>
                <a:lnTo>
                  <a:pt x="212" y="644"/>
                </a:lnTo>
                <a:lnTo>
                  <a:pt x="218" y="644"/>
                </a:lnTo>
                <a:lnTo>
                  <a:pt x="224" y="644"/>
                </a:lnTo>
                <a:lnTo>
                  <a:pt x="227" y="641"/>
                </a:lnTo>
                <a:lnTo>
                  <a:pt x="233" y="641"/>
                </a:lnTo>
                <a:lnTo>
                  <a:pt x="240" y="641"/>
                </a:lnTo>
                <a:lnTo>
                  <a:pt x="246" y="641"/>
                </a:lnTo>
                <a:lnTo>
                  <a:pt x="252" y="637"/>
                </a:lnTo>
                <a:lnTo>
                  <a:pt x="255" y="641"/>
                </a:lnTo>
                <a:lnTo>
                  <a:pt x="261" y="641"/>
                </a:lnTo>
                <a:lnTo>
                  <a:pt x="267" y="641"/>
                </a:lnTo>
                <a:lnTo>
                  <a:pt x="274" y="641"/>
                </a:lnTo>
                <a:lnTo>
                  <a:pt x="280" y="641"/>
                </a:lnTo>
                <a:lnTo>
                  <a:pt x="282" y="641"/>
                </a:lnTo>
                <a:lnTo>
                  <a:pt x="289" y="641"/>
                </a:lnTo>
                <a:lnTo>
                  <a:pt x="295" y="644"/>
                </a:lnTo>
                <a:lnTo>
                  <a:pt x="301" y="646"/>
                </a:lnTo>
                <a:lnTo>
                  <a:pt x="306" y="652"/>
                </a:lnTo>
                <a:lnTo>
                  <a:pt x="313" y="652"/>
                </a:lnTo>
                <a:lnTo>
                  <a:pt x="316" y="652"/>
                </a:lnTo>
                <a:lnTo>
                  <a:pt x="323" y="644"/>
                </a:lnTo>
                <a:lnTo>
                  <a:pt x="328" y="628"/>
                </a:lnTo>
                <a:lnTo>
                  <a:pt x="334" y="613"/>
                </a:lnTo>
                <a:lnTo>
                  <a:pt x="340" y="604"/>
                </a:lnTo>
                <a:lnTo>
                  <a:pt x="344" y="604"/>
                </a:lnTo>
                <a:lnTo>
                  <a:pt x="349" y="622"/>
                </a:lnTo>
                <a:lnTo>
                  <a:pt x="356" y="656"/>
                </a:lnTo>
                <a:lnTo>
                  <a:pt x="362" y="699"/>
                </a:lnTo>
                <a:lnTo>
                  <a:pt x="368" y="738"/>
                </a:lnTo>
                <a:lnTo>
                  <a:pt x="372" y="751"/>
                </a:lnTo>
                <a:lnTo>
                  <a:pt x="377" y="726"/>
                </a:lnTo>
                <a:lnTo>
                  <a:pt x="383" y="652"/>
                </a:lnTo>
                <a:lnTo>
                  <a:pt x="390" y="534"/>
                </a:lnTo>
                <a:lnTo>
                  <a:pt x="396" y="385"/>
                </a:lnTo>
                <a:lnTo>
                  <a:pt x="402" y="229"/>
                </a:lnTo>
                <a:lnTo>
                  <a:pt x="405" y="98"/>
                </a:lnTo>
                <a:lnTo>
                  <a:pt x="411" y="15"/>
                </a:lnTo>
                <a:lnTo>
                  <a:pt x="417" y="0"/>
                </a:lnTo>
                <a:lnTo>
                  <a:pt x="424" y="53"/>
                </a:lnTo>
                <a:lnTo>
                  <a:pt x="430" y="159"/>
                </a:lnTo>
                <a:lnTo>
                  <a:pt x="432" y="293"/>
                </a:lnTo>
                <a:lnTo>
                  <a:pt x="439" y="430"/>
                </a:lnTo>
                <a:lnTo>
                  <a:pt x="445" y="546"/>
                </a:lnTo>
                <a:lnTo>
                  <a:pt x="451" y="622"/>
                </a:lnTo>
                <a:lnTo>
                  <a:pt x="457" y="650"/>
                </a:lnTo>
                <a:lnTo>
                  <a:pt x="460" y="644"/>
                </a:lnTo>
                <a:lnTo>
                  <a:pt x="466" y="611"/>
                </a:lnTo>
                <a:lnTo>
                  <a:pt x="473" y="570"/>
                </a:lnTo>
                <a:lnTo>
                  <a:pt x="479" y="537"/>
                </a:lnTo>
                <a:lnTo>
                  <a:pt x="485" y="516"/>
                </a:lnTo>
                <a:lnTo>
                  <a:pt x="490" y="512"/>
                </a:lnTo>
                <a:lnTo>
                  <a:pt x="494" y="521"/>
                </a:lnTo>
                <a:lnTo>
                  <a:pt x="500" y="537"/>
                </a:lnTo>
                <a:lnTo>
                  <a:pt x="507" y="553"/>
                </a:lnTo>
                <a:lnTo>
                  <a:pt x="512" y="561"/>
                </a:lnTo>
                <a:lnTo>
                  <a:pt x="518" y="561"/>
                </a:lnTo>
                <a:lnTo>
                  <a:pt x="522" y="561"/>
                </a:lnTo>
                <a:lnTo>
                  <a:pt x="528" y="555"/>
                </a:lnTo>
                <a:lnTo>
                  <a:pt x="533" y="553"/>
                </a:lnTo>
                <a:lnTo>
                  <a:pt x="540" y="549"/>
                </a:lnTo>
                <a:lnTo>
                  <a:pt x="546" y="549"/>
                </a:lnTo>
                <a:lnTo>
                  <a:pt x="552" y="553"/>
                </a:lnTo>
                <a:lnTo>
                  <a:pt x="555" y="553"/>
                </a:lnTo>
                <a:lnTo>
                  <a:pt x="561" y="553"/>
                </a:lnTo>
                <a:lnTo>
                  <a:pt x="567" y="553"/>
                </a:lnTo>
                <a:lnTo>
                  <a:pt x="574" y="549"/>
                </a:lnTo>
                <a:lnTo>
                  <a:pt x="580" y="549"/>
                </a:lnTo>
                <a:lnTo>
                  <a:pt x="582" y="549"/>
                </a:lnTo>
                <a:lnTo>
                  <a:pt x="589" y="549"/>
                </a:lnTo>
                <a:lnTo>
                  <a:pt x="595" y="553"/>
                </a:lnTo>
                <a:lnTo>
                  <a:pt x="601" y="553"/>
                </a:lnTo>
                <a:lnTo>
                  <a:pt x="607" y="553"/>
                </a:lnTo>
                <a:lnTo>
                  <a:pt x="610" y="553"/>
                </a:lnTo>
                <a:lnTo>
                  <a:pt x="616" y="553"/>
                </a:lnTo>
                <a:lnTo>
                  <a:pt x="623" y="553"/>
                </a:lnTo>
                <a:lnTo>
                  <a:pt x="629" y="553"/>
                </a:lnTo>
                <a:lnTo>
                  <a:pt x="635" y="553"/>
                </a:lnTo>
                <a:lnTo>
                  <a:pt x="641" y="553"/>
                </a:lnTo>
                <a:lnTo>
                  <a:pt x="644" y="553"/>
                </a:lnTo>
                <a:lnTo>
                  <a:pt x="650" y="553"/>
                </a:lnTo>
                <a:lnTo>
                  <a:pt x="657" y="553"/>
                </a:lnTo>
                <a:lnTo>
                  <a:pt x="663" y="553"/>
                </a:lnTo>
                <a:lnTo>
                  <a:pt x="668" y="553"/>
                </a:lnTo>
                <a:lnTo>
                  <a:pt x="672" y="553"/>
                </a:lnTo>
                <a:lnTo>
                  <a:pt x="678" y="553"/>
                </a:lnTo>
                <a:lnTo>
                  <a:pt x="684" y="553"/>
                </a:lnTo>
                <a:lnTo>
                  <a:pt x="691" y="553"/>
                </a:lnTo>
                <a:lnTo>
                  <a:pt x="696" y="553"/>
                </a:lnTo>
                <a:lnTo>
                  <a:pt x="699" y="553"/>
                </a:lnTo>
                <a:lnTo>
                  <a:pt x="706" y="553"/>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557680" y="4011480"/>
            <a:ext cx="663840" cy="1800"/>
          </a:xfrm>
          <a:custGeom>
            <a:avLst/>
            <a:gdLst/>
            <a:ahLst/>
            <a:rect l="l" t="t" r="r" b="b"/>
            <a:pathLst>
              <a:path w="418" h="0">
                <a:moveTo>
                  <a:pt x="0" y="0"/>
                </a:moveTo>
                <a:lnTo>
                  <a:pt x="6" y="0"/>
                </a:lnTo>
                <a:lnTo>
                  <a:pt x="11" y="0"/>
                </a:lnTo>
                <a:lnTo>
                  <a:pt x="18" y="0"/>
                </a:lnTo>
                <a:lnTo>
                  <a:pt x="24" y="0"/>
                </a:lnTo>
                <a:lnTo>
                  <a:pt x="26" y="0"/>
                </a:lnTo>
                <a:lnTo>
                  <a:pt x="33" y="0"/>
                </a:lnTo>
                <a:lnTo>
                  <a:pt x="39" y="0"/>
                </a:lnTo>
                <a:lnTo>
                  <a:pt x="45" y="0"/>
                </a:lnTo>
                <a:lnTo>
                  <a:pt x="52" y="0"/>
                </a:lnTo>
                <a:lnTo>
                  <a:pt x="54" y="0"/>
                </a:lnTo>
                <a:lnTo>
                  <a:pt x="60" y="0"/>
                </a:lnTo>
                <a:lnTo>
                  <a:pt x="67" y="0"/>
                </a:lnTo>
                <a:lnTo>
                  <a:pt x="73" y="0"/>
                </a:lnTo>
                <a:lnTo>
                  <a:pt x="79" y="0"/>
                </a:lnTo>
                <a:lnTo>
                  <a:pt x="82" y="0"/>
                </a:lnTo>
                <a:lnTo>
                  <a:pt x="88" y="0"/>
                </a:lnTo>
                <a:lnTo>
                  <a:pt x="94" y="0"/>
                </a:lnTo>
                <a:lnTo>
                  <a:pt x="101" y="0"/>
                </a:lnTo>
                <a:lnTo>
                  <a:pt x="107" y="0"/>
                </a:lnTo>
                <a:lnTo>
                  <a:pt x="112" y="0"/>
                </a:lnTo>
                <a:lnTo>
                  <a:pt x="116" y="0"/>
                </a:lnTo>
                <a:lnTo>
                  <a:pt x="122" y="0"/>
                </a:lnTo>
                <a:lnTo>
                  <a:pt x="128" y="0"/>
                </a:lnTo>
                <a:lnTo>
                  <a:pt x="134" y="0"/>
                </a:lnTo>
                <a:lnTo>
                  <a:pt x="140" y="0"/>
                </a:lnTo>
                <a:lnTo>
                  <a:pt x="143" y="0"/>
                </a:lnTo>
                <a:lnTo>
                  <a:pt x="150" y="0"/>
                </a:lnTo>
                <a:lnTo>
                  <a:pt x="155" y="0"/>
                </a:lnTo>
                <a:lnTo>
                  <a:pt x="161" y="0"/>
                </a:lnTo>
                <a:lnTo>
                  <a:pt x="168" y="0"/>
                </a:lnTo>
                <a:lnTo>
                  <a:pt x="170" y="0"/>
                </a:lnTo>
                <a:lnTo>
                  <a:pt x="176" y="0"/>
                </a:lnTo>
                <a:lnTo>
                  <a:pt x="183" y="0"/>
                </a:lnTo>
                <a:lnTo>
                  <a:pt x="189" y="0"/>
                </a:lnTo>
                <a:lnTo>
                  <a:pt x="195" y="0"/>
                </a:lnTo>
                <a:lnTo>
                  <a:pt x="202" y="0"/>
                </a:lnTo>
                <a:lnTo>
                  <a:pt x="204" y="0"/>
                </a:lnTo>
                <a:lnTo>
                  <a:pt x="210" y="0"/>
                </a:lnTo>
                <a:lnTo>
                  <a:pt x="217" y="0"/>
                </a:lnTo>
                <a:lnTo>
                  <a:pt x="223" y="0"/>
                </a:lnTo>
                <a:lnTo>
                  <a:pt x="229" y="0"/>
                </a:lnTo>
                <a:lnTo>
                  <a:pt x="232" y="0"/>
                </a:lnTo>
                <a:lnTo>
                  <a:pt x="238" y="0"/>
                </a:lnTo>
                <a:lnTo>
                  <a:pt x="244" y="0"/>
                </a:lnTo>
                <a:lnTo>
                  <a:pt x="251" y="0"/>
                </a:lnTo>
                <a:lnTo>
                  <a:pt x="256" y="0"/>
                </a:lnTo>
                <a:lnTo>
                  <a:pt x="260" y="0"/>
                </a:lnTo>
                <a:lnTo>
                  <a:pt x="266" y="0"/>
                </a:lnTo>
                <a:lnTo>
                  <a:pt x="272" y="0"/>
                </a:lnTo>
                <a:lnTo>
                  <a:pt x="277" y="0"/>
                </a:lnTo>
                <a:lnTo>
                  <a:pt x="284" y="0"/>
                </a:lnTo>
                <a:lnTo>
                  <a:pt x="290" y="0"/>
                </a:lnTo>
                <a:lnTo>
                  <a:pt x="292" y="0"/>
                </a:lnTo>
                <a:lnTo>
                  <a:pt x="299" y="0"/>
                </a:lnTo>
                <a:lnTo>
                  <a:pt x="305" y="0"/>
                </a:lnTo>
                <a:lnTo>
                  <a:pt x="311" y="0"/>
                </a:lnTo>
                <a:lnTo>
                  <a:pt x="318" y="0"/>
                </a:lnTo>
                <a:lnTo>
                  <a:pt x="320" y="0"/>
                </a:lnTo>
                <a:lnTo>
                  <a:pt x="326" y="0"/>
                </a:lnTo>
                <a:lnTo>
                  <a:pt x="333" y="0"/>
                </a:lnTo>
                <a:lnTo>
                  <a:pt x="339" y="0"/>
                </a:lnTo>
                <a:lnTo>
                  <a:pt x="345" y="0"/>
                </a:lnTo>
                <a:lnTo>
                  <a:pt x="348" y="0"/>
                </a:lnTo>
                <a:lnTo>
                  <a:pt x="354" y="0"/>
                </a:lnTo>
                <a:lnTo>
                  <a:pt x="360" y="0"/>
                </a:lnTo>
                <a:lnTo>
                  <a:pt x="367" y="0"/>
                </a:lnTo>
                <a:lnTo>
                  <a:pt x="373" y="0"/>
                </a:lnTo>
                <a:lnTo>
                  <a:pt x="378" y="0"/>
                </a:lnTo>
                <a:lnTo>
                  <a:pt x="382" y="0"/>
                </a:lnTo>
                <a:lnTo>
                  <a:pt x="388" y="0"/>
                </a:lnTo>
                <a:lnTo>
                  <a:pt x="394" y="0"/>
                </a:lnTo>
                <a:lnTo>
                  <a:pt x="401" y="0"/>
                </a:lnTo>
                <a:lnTo>
                  <a:pt x="406" y="0"/>
                </a:lnTo>
                <a:lnTo>
                  <a:pt x="410" y="0"/>
                </a:lnTo>
                <a:lnTo>
                  <a:pt x="416" y="0"/>
                </a:lnTo>
                <a:lnTo>
                  <a:pt x="418" y="0"/>
                </a:lnTo>
              </a:path>
            </a:pathLst>
          </a:custGeom>
          <a:noFill/>
          <a:ln w="14400">
            <a:solidFill>
              <a:srgbClr val="3333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2" name=""/>
          <p:cNvSpPr/>
          <p:nvPr/>
        </p:nvSpPr>
        <p:spPr>
          <a:xfrm>
            <a:off x="3324240" y="2960640"/>
            <a:ext cx="1109520" cy="1352520"/>
          </a:xfrm>
          <a:custGeom>
            <a:avLst/>
            <a:gdLst/>
            <a:ahLst/>
            <a:rect l="l" t="t" r="r" b="b"/>
            <a:pathLst>
              <a:path w="10623" h="12852">
                <a:moveTo>
                  <a:pt x="0" y="9919"/>
                </a:moveTo>
                <a:lnTo>
                  <a:pt x="53" y="9919"/>
                </a:lnTo>
                <a:lnTo>
                  <a:pt x="106" y="9919"/>
                </a:lnTo>
                <a:lnTo>
                  <a:pt x="195" y="9919"/>
                </a:lnTo>
                <a:lnTo>
                  <a:pt x="283" y="9919"/>
                </a:lnTo>
                <a:lnTo>
                  <a:pt x="371" y="9919"/>
                </a:lnTo>
                <a:lnTo>
                  <a:pt x="477" y="9919"/>
                </a:lnTo>
                <a:lnTo>
                  <a:pt x="513" y="9919"/>
                </a:lnTo>
                <a:lnTo>
                  <a:pt x="534" y="9919"/>
                </a:lnTo>
                <a:lnTo>
                  <a:pt x="534" y="10052"/>
                </a:lnTo>
                <a:lnTo>
                  <a:pt x="513" y="10052"/>
                </a:lnTo>
                <a:lnTo>
                  <a:pt x="477" y="10052"/>
                </a:lnTo>
                <a:lnTo>
                  <a:pt x="371" y="10052"/>
                </a:lnTo>
                <a:lnTo>
                  <a:pt x="283" y="10052"/>
                </a:lnTo>
                <a:lnTo>
                  <a:pt x="195" y="10052"/>
                </a:lnTo>
                <a:lnTo>
                  <a:pt x="106" y="10052"/>
                </a:lnTo>
                <a:lnTo>
                  <a:pt x="53" y="10052"/>
                </a:lnTo>
                <a:lnTo>
                  <a:pt x="0" y="10052"/>
                </a:lnTo>
                <a:lnTo>
                  <a:pt x="0" y="9919"/>
                </a:lnTo>
                <a:close/>
                <a:moveTo>
                  <a:pt x="934" y="9919"/>
                </a:moveTo>
                <a:lnTo>
                  <a:pt x="990" y="9919"/>
                </a:lnTo>
                <a:lnTo>
                  <a:pt x="1025" y="9919"/>
                </a:lnTo>
                <a:lnTo>
                  <a:pt x="1113" y="9919"/>
                </a:lnTo>
                <a:lnTo>
                  <a:pt x="1219" y="9919"/>
                </a:lnTo>
                <a:lnTo>
                  <a:pt x="1307" y="9919"/>
                </a:lnTo>
                <a:lnTo>
                  <a:pt x="1396" y="9919"/>
                </a:lnTo>
                <a:lnTo>
                  <a:pt x="1449" y="9919"/>
                </a:lnTo>
                <a:lnTo>
                  <a:pt x="1467" y="9919"/>
                </a:lnTo>
                <a:lnTo>
                  <a:pt x="1467" y="10052"/>
                </a:lnTo>
                <a:lnTo>
                  <a:pt x="1449" y="10052"/>
                </a:lnTo>
                <a:lnTo>
                  <a:pt x="1396" y="10052"/>
                </a:lnTo>
                <a:lnTo>
                  <a:pt x="1307" y="10052"/>
                </a:lnTo>
                <a:lnTo>
                  <a:pt x="1219" y="10052"/>
                </a:lnTo>
                <a:lnTo>
                  <a:pt x="1113" y="10052"/>
                </a:lnTo>
                <a:lnTo>
                  <a:pt x="1025" y="10052"/>
                </a:lnTo>
                <a:lnTo>
                  <a:pt x="990" y="10052"/>
                </a:lnTo>
                <a:lnTo>
                  <a:pt x="934" y="10052"/>
                </a:lnTo>
                <a:lnTo>
                  <a:pt x="934" y="9919"/>
                </a:lnTo>
                <a:close/>
                <a:moveTo>
                  <a:pt x="1867" y="9919"/>
                </a:moveTo>
                <a:lnTo>
                  <a:pt x="1873" y="9919"/>
                </a:lnTo>
                <a:lnTo>
                  <a:pt x="1961" y="9919"/>
                </a:lnTo>
                <a:lnTo>
                  <a:pt x="2049" y="9919"/>
                </a:lnTo>
                <a:lnTo>
                  <a:pt x="2138" y="9919"/>
                </a:lnTo>
                <a:lnTo>
                  <a:pt x="2244" y="9919"/>
                </a:lnTo>
                <a:lnTo>
                  <a:pt x="2332" y="9919"/>
                </a:lnTo>
                <a:lnTo>
                  <a:pt x="2385" y="9919"/>
                </a:lnTo>
                <a:lnTo>
                  <a:pt x="2400" y="9919"/>
                </a:lnTo>
                <a:lnTo>
                  <a:pt x="2400" y="10052"/>
                </a:lnTo>
                <a:lnTo>
                  <a:pt x="2385" y="10052"/>
                </a:lnTo>
                <a:lnTo>
                  <a:pt x="2332" y="10052"/>
                </a:lnTo>
                <a:lnTo>
                  <a:pt x="2244" y="10052"/>
                </a:lnTo>
                <a:lnTo>
                  <a:pt x="2138" y="10052"/>
                </a:lnTo>
                <a:lnTo>
                  <a:pt x="2049" y="10052"/>
                </a:lnTo>
                <a:lnTo>
                  <a:pt x="1961" y="10052"/>
                </a:lnTo>
                <a:lnTo>
                  <a:pt x="1873" y="10052"/>
                </a:lnTo>
                <a:lnTo>
                  <a:pt x="1867" y="10052"/>
                </a:lnTo>
                <a:lnTo>
                  <a:pt x="1867" y="9919"/>
                </a:lnTo>
                <a:close/>
                <a:moveTo>
                  <a:pt x="2800" y="9919"/>
                </a:moveTo>
                <a:lnTo>
                  <a:pt x="2897" y="9919"/>
                </a:lnTo>
                <a:lnTo>
                  <a:pt x="2985" y="9919"/>
                </a:lnTo>
                <a:lnTo>
                  <a:pt x="3074" y="9919"/>
                </a:lnTo>
                <a:lnTo>
                  <a:pt x="3162" y="9919"/>
                </a:lnTo>
                <a:lnTo>
                  <a:pt x="3215" y="9919"/>
                </a:lnTo>
                <a:lnTo>
                  <a:pt x="3303" y="9919"/>
                </a:lnTo>
                <a:lnTo>
                  <a:pt x="3334" y="9919"/>
                </a:lnTo>
                <a:lnTo>
                  <a:pt x="3334" y="10052"/>
                </a:lnTo>
                <a:lnTo>
                  <a:pt x="3303" y="10052"/>
                </a:lnTo>
                <a:lnTo>
                  <a:pt x="3215" y="10052"/>
                </a:lnTo>
                <a:lnTo>
                  <a:pt x="3162" y="10052"/>
                </a:lnTo>
                <a:lnTo>
                  <a:pt x="3074" y="10052"/>
                </a:lnTo>
                <a:lnTo>
                  <a:pt x="2985" y="10052"/>
                </a:lnTo>
                <a:lnTo>
                  <a:pt x="2897" y="10052"/>
                </a:lnTo>
                <a:lnTo>
                  <a:pt x="2800" y="10052"/>
                </a:lnTo>
                <a:lnTo>
                  <a:pt x="2800" y="9919"/>
                </a:lnTo>
                <a:close/>
                <a:moveTo>
                  <a:pt x="3734" y="9919"/>
                </a:moveTo>
                <a:lnTo>
                  <a:pt x="3815" y="9919"/>
                </a:lnTo>
                <a:lnTo>
                  <a:pt x="3904" y="9919"/>
                </a:lnTo>
                <a:lnTo>
                  <a:pt x="4010" y="9919"/>
                </a:lnTo>
                <a:lnTo>
                  <a:pt x="4098" y="9919"/>
                </a:lnTo>
                <a:lnTo>
                  <a:pt x="4151" y="9919"/>
                </a:lnTo>
                <a:lnTo>
                  <a:pt x="4239" y="9919"/>
                </a:lnTo>
                <a:lnTo>
                  <a:pt x="4267" y="9919"/>
                </a:lnTo>
                <a:lnTo>
                  <a:pt x="4267" y="10052"/>
                </a:lnTo>
                <a:lnTo>
                  <a:pt x="4239" y="10052"/>
                </a:lnTo>
                <a:lnTo>
                  <a:pt x="4151" y="10052"/>
                </a:lnTo>
                <a:lnTo>
                  <a:pt x="4098" y="10052"/>
                </a:lnTo>
                <a:lnTo>
                  <a:pt x="4010" y="10052"/>
                </a:lnTo>
                <a:lnTo>
                  <a:pt x="3904" y="10052"/>
                </a:lnTo>
                <a:lnTo>
                  <a:pt x="3815" y="10052"/>
                </a:lnTo>
                <a:lnTo>
                  <a:pt x="3734" y="10052"/>
                </a:lnTo>
                <a:lnTo>
                  <a:pt x="3734" y="9919"/>
                </a:lnTo>
                <a:close/>
                <a:moveTo>
                  <a:pt x="4667" y="9919"/>
                </a:moveTo>
                <a:lnTo>
                  <a:pt x="4751" y="9919"/>
                </a:lnTo>
                <a:lnTo>
                  <a:pt x="4840" y="9919"/>
                </a:lnTo>
                <a:lnTo>
                  <a:pt x="4928" y="9919"/>
                </a:lnTo>
                <a:lnTo>
                  <a:pt x="5034" y="9919"/>
                </a:lnTo>
                <a:lnTo>
                  <a:pt x="5069" y="9919"/>
                </a:lnTo>
                <a:lnTo>
                  <a:pt x="5175" y="9919"/>
                </a:lnTo>
                <a:lnTo>
                  <a:pt x="5200" y="9919"/>
                </a:lnTo>
                <a:lnTo>
                  <a:pt x="5200" y="10052"/>
                </a:lnTo>
                <a:lnTo>
                  <a:pt x="5175" y="10052"/>
                </a:lnTo>
                <a:lnTo>
                  <a:pt x="5069" y="10052"/>
                </a:lnTo>
                <a:lnTo>
                  <a:pt x="5034" y="10052"/>
                </a:lnTo>
                <a:lnTo>
                  <a:pt x="4928" y="10052"/>
                </a:lnTo>
                <a:lnTo>
                  <a:pt x="4840" y="10052"/>
                </a:lnTo>
                <a:lnTo>
                  <a:pt x="4751" y="10052"/>
                </a:lnTo>
                <a:lnTo>
                  <a:pt x="4667" y="10052"/>
                </a:lnTo>
                <a:lnTo>
                  <a:pt x="4667" y="9919"/>
                </a:lnTo>
                <a:close/>
                <a:moveTo>
                  <a:pt x="5600" y="9919"/>
                </a:moveTo>
                <a:lnTo>
                  <a:pt x="5670" y="9919"/>
                </a:lnTo>
                <a:lnTo>
                  <a:pt x="5776" y="9919"/>
                </a:lnTo>
                <a:lnTo>
                  <a:pt x="5864" y="9919"/>
                </a:lnTo>
                <a:lnTo>
                  <a:pt x="5917" y="9919"/>
                </a:lnTo>
                <a:lnTo>
                  <a:pt x="6005" y="9919"/>
                </a:lnTo>
                <a:lnTo>
                  <a:pt x="6094" y="9919"/>
                </a:lnTo>
                <a:lnTo>
                  <a:pt x="6134" y="9919"/>
                </a:lnTo>
                <a:lnTo>
                  <a:pt x="6134" y="10052"/>
                </a:lnTo>
                <a:lnTo>
                  <a:pt x="6094" y="10052"/>
                </a:lnTo>
                <a:lnTo>
                  <a:pt x="6005" y="10052"/>
                </a:lnTo>
                <a:lnTo>
                  <a:pt x="5917" y="10052"/>
                </a:lnTo>
                <a:lnTo>
                  <a:pt x="5864" y="10052"/>
                </a:lnTo>
                <a:lnTo>
                  <a:pt x="5776" y="10052"/>
                </a:lnTo>
                <a:lnTo>
                  <a:pt x="5670" y="10052"/>
                </a:lnTo>
                <a:lnTo>
                  <a:pt x="5600" y="10052"/>
                </a:lnTo>
                <a:lnTo>
                  <a:pt x="5600" y="9919"/>
                </a:lnTo>
                <a:close/>
                <a:moveTo>
                  <a:pt x="6519" y="9867"/>
                </a:moveTo>
                <a:lnTo>
                  <a:pt x="6606" y="9867"/>
                </a:lnTo>
                <a:lnTo>
                  <a:pt x="6694" y="9867"/>
                </a:lnTo>
                <a:lnTo>
                  <a:pt x="6800" y="9867"/>
                </a:lnTo>
                <a:lnTo>
                  <a:pt x="6836" y="9867"/>
                </a:lnTo>
                <a:cubicBezTo>
                  <a:pt x="6846" y="9867"/>
                  <a:pt x="6856" y="9869"/>
                  <a:pt x="6865" y="9874"/>
                </a:cubicBezTo>
                <a:lnTo>
                  <a:pt x="6971" y="9926"/>
                </a:lnTo>
                <a:lnTo>
                  <a:pt x="6942" y="9919"/>
                </a:lnTo>
                <a:lnTo>
                  <a:pt x="7030" y="9919"/>
                </a:lnTo>
                <a:lnTo>
                  <a:pt x="7040" y="9919"/>
                </a:lnTo>
                <a:lnTo>
                  <a:pt x="7040" y="10052"/>
                </a:lnTo>
                <a:lnTo>
                  <a:pt x="7030" y="10052"/>
                </a:lnTo>
                <a:lnTo>
                  <a:pt x="6942" y="10052"/>
                </a:lnTo>
                <a:cubicBezTo>
                  <a:pt x="6931" y="10052"/>
                  <a:pt x="6921" y="10050"/>
                  <a:pt x="6912" y="10045"/>
                </a:cubicBezTo>
                <a:lnTo>
                  <a:pt x="6806" y="9993"/>
                </a:lnTo>
                <a:lnTo>
                  <a:pt x="6836" y="10000"/>
                </a:lnTo>
                <a:lnTo>
                  <a:pt x="6800" y="10000"/>
                </a:lnTo>
                <a:lnTo>
                  <a:pt x="6694" y="10000"/>
                </a:lnTo>
                <a:lnTo>
                  <a:pt x="6606" y="10000"/>
                </a:lnTo>
                <a:lnTo>
                  <a:pt x="6519" y="10000"/>
                </a:lnTo>
                <a:lnTo>
                  <a:pt x="6519" y="9867"/>
                </a:lnTo>
                <a:close/>
                <a:moveTo>
                  <a:pt x="7441" y="9905"/>
                </a:moveTo>
                <a:lnTo>
                  <a:pt x="7483" y="9926"/>
                </a:lnTo>
                <a:cubicBezTo>
                  <a:pt x="7490" y="9929"/>
                  <a:pt x="7496" y="9933"/>
                  <a:pt x="7501" y="9938"/>
                </a:cubicBezTo>
                <a:lnTo>
                  <a:pt x="7589" y="10026"/>
                </a:lnTo>
                <a:lnTo>
                  <a:pt x="7567" y="10011"/>
                </a:lnTo>
                <a:lnTo>
                  <a:pt x="7655" y="10046"/>
                </a:lnTo>
                <a:cubicBezTo>
                  <a:pt x="7658" y="10048"/>
                  <a:pt x="7661" y="10049"/>
                  <a:pt x="7664" y="10051"/>
                </a:cubicBezTo>
                <a:lnTo>
                  <a:pt x="7753" y="10103"/>
                </a:lnTo>
                <a:lnTo>
                  <a:pt x="7662" y="10126"/>
                </a:lnTo>
                <a:lnTo>
                  <a:pt x="7715" y="10039"/>
                </a:lnTo>
                <a:lnTo>
                  <a:pt x="7748" y="9985"/>
                </a:lnTo>
                <a:lnTo>
                  <a:pt x="7861" y="10056"/>
                </a:lnTo>
                <a:lnTo>
                  <a:pt x="7829" y="10108"/>
                </a:lnTo>
                <a:lnTo>
                  <a:pt x="7776" y="10195"/>
                </a:lnTo>
                <a:cubicBezTo>
                  <a:pt x="7757" y="10227"/>
                  <a:pt x="7716" y="10237"/>
                  <a:pt x="7685" y="10218"/>
                </a:cubicBezTo>
                <a:lnTo>
                  <a:pt x="7596" y="10166"/>
                </a:lnTo>
                <a:lnTo>
                  <a:pt x="7606" y="10170"/>
                </a:lnTo>
                <a:lnTo>
                  <a:pt x="7517" y="10135"/>
                </a:lnTo>
                <a:cubicBezTo>
                  <a:pt x="7509" y="10132"/>
                  <a:pt x="7501" y="10127"/>
                  <a:pt x="7495" y="10121"/>
                </a:cubicBezTo>
                <a:lnTo>
                  <a:pt x="7407" y="10033"/>
                </a:lnTo>
                <a:lnTo>
                  <a:pt x="7424" y="10045"/>
                </a:lnTo>
                <a:lnTo>
                  <a:pt x="7382" y="10025"/>
                </a:lnTo>
                <a:lnTo>
                  <a:pt x="7441" y="9905"/>
                </a:lnTo>
                <a:close/>
                <a:moveTo>
                  <a:pt x="7889" y="9623"/>
                </a:moveTo>
                <a:lnTo>
                  <a:pt x="7994" y="9398"/>
                </a:lnTo>
                <a:lnTo>
                  <a:pt x="8086" y="9250"/>
                </a:lnTo>
                <a:cubicBezTo>
                  <a:pt x="8098" y="9231"/>
                  <a:pt x="8120" y="9219"/>
                  <a:pt x="8143" y="9219"/>
                </a:cubicBezTo>
                <a:cubicBezTo>
                  <a:pt x="8166" y="9220"/>
                  <a:pt x="8188" y="9232"/>
                  <a:pt x="8200" y="9252"/>
                </a:cubicBezTo>
                <a:lnTo>
                  <a:pt x="8253" y="9339"/>
                </a:lnTo>
                <a:cubicBezTo>
                  <a:pt x="8256" y="9345"/>
                  <a:pt x="8259" y="9352"/>
                  <a:pt x="8261" y="9360"/>
                </a:cubicBezTo>
                <a:lnTo>
                  <a:pt x="8264" y="9377"/>
                </a:lnTo>
                <a:lnTo>
                  <a:pt x="8134" y="9405"/>
                </a:lnTo>
                <a:lnTo>
                  <a:pt x="8130" y="9387"/>
                </a:lnTo>
                <a:lnTo>
                  <a:pt x="8138" y="9408"/>
                </a:lnTo>
                <a:lnTo>
                  <a:pt x="8085" y="9321"/>
                </a:lnTo>
                <a:lnTo>
                  <a:pt x="8199" y="9322"/>
                </a:lnTo>
                <a:lnTo>
                  <a:pt x="8115" y="9454"/>
                </a:lnTo>
                <a:lnTo>
                  <a:pt x="8010" y="9679"/>
                </a:lnTo>
                <a:lnTo>
                  <a:pt x="7889" y="9623"/>
                </a:lnTo>
                <a:close/>
                <a:moveTo>
                  <a:pt x="8347" y="9769"/>
                </a:moveTo>
                <a:lnTo>
                  <a:pt x="8349" y="9780"/>
                </a:lnTo>
                <a:lnTo>
                  <a:pt x="8420" y="10302"/>
                </a:lnTo>
                <a:lnTo>
                  <a:pt x="8288" y="10320"/>
                </a:lnTo>
                <a:lnTo>
                  <a:pt x="8219" y="9807"/>
                </a:lnTo>
                <a:lnTo>
                  <a:pt x="8216" y="9796"/>
                </a:lnTo>
                <a:lnTo>
                  <a:pt x="8347" y="9769"/>
                </a:lnTo>
                <a:close/>
                <a:moveTo>
                  <a:pt x="8473" y="10699"/>
                </a:moveTo>
                <a:lnTo>
                  <a:pt x="8527" y="11114"/>
                </a:lnTo>
                <a:lnTo>
                  <a:pt x="8549" y="11221"/>
                </a:lnTo>
                <a:lnTo>
                  <a:pt x="8419" y="11248"/>
                </a:lnTo>
                <a:lnTo>
                  <a:pt x="8394" y="11131"/>
                </a:lnTo>
                <a:lnTo>
                  <a:pt x="8341" y="10716"/>
                </a:lnTo>
                <a:lnTo>
                  <a:pt x="8473" y="10699"/>
                </a:lnTo>
                <a:close/>
                <a:moveTo>
                  <a:pt x="8631" y="11613"/>
                </a:moveTo>
                <a:lnTo>
                  <a:pt x="8632" y="11616"/>
                </a:lnTo>
                <a:lnTo>
                  <a:pt x="8566" y="11563"/>
                </a:lnTo>
                <a:lnTo>
                  <a:pt x="8602" y="11563"/>
                </a:lnTo>
                <a:lnTo>
                  <a:pt x="8536" y="11620"/>
                </a:lnTo>
                <a:lnTo>
                  <a:pt x="8612" y="11132"/>
                </a:lnTo>
                <a:lnTo>
                  <a:pt x="8743" y="11152"/>
                </a:lnTo>
                <a:lnTo>
                  <a:pt x="8668" y="11640"/>
                </a:lnTo>
                <a:cubicBezTo>
                  <a:pt x="8663" y="11673"/>
                  <a:pt x="8635" y="11697"/>
                  <a:pt x="8602" y="11697"/>
                </a:cubicBezTo>
                <a:lnTo>
                  <a:pt x="8566" y="11697"/>
                </a:lnTo>
                <a:cubicBezTo>
                  <a:pt x="8535" y="11697"/>
                  <a:pt x="8508" y="11675"/>
                  <a:pt x="8501" y="11644"/>
                </a:cubicBezTo>
                <a:lnTo>
                  <a:pt x="8500" y="11640"/>
                </a:lnTo>
                <a:lnTo>
                  <a:pt x="8631" y="11613"/>
                </a:lnTo>
                <a:close/>
                <a:moveTo>
                  <a:pt x="8653" y="10740"/>
                </a:moveTo>
                <a:lnTo>
                  <a:pt x="8685" y="10208"/>
                </a:lnTo>
                <a:lnTo>
                  <a:pt x="8818" y="10216"/>
                </a:lnTo>
                <a:lnTo>
                  <a:pt x="8786" y="10748"/>
                </a:lnTo>
                <a:lnTo>
                  <a:pt x="8653" y="10740"/>
                </a:lnTo>
                <a:close/>
                <a:moveTo>
                  <a:pt x="8709" y="9809"/>
                </a:moveTo>
                <a:lnTo>
                  <a:pt x="8729" y="9474"/>
                </a:lnTo>
                <a:lnTo>
                  <a:pt x="8737" y="9278"/>
                </a:lnTo>
                <a:lnTo>
                  <a:pt x="8871" y="9283"/>
                </a:lnTo>
                <a:lnTo>
                  <a:pt x="8863" y="9482"/>
                </a:lnTo>
                <a:lnTo>
                  <a:pt x="8842" y="9817"/>
                </a:lnTo>
                <a:lnTo>
                  <a:pt x="8709" y="9809"/>
                </a:lnTo>
                <a:close/>
                <a:moveTo>
                  <a:pt x="8754" y="8878"/>
                </a:moveTo>
                <a:lnTo>
                  <a:pt x="8775" y="8345"/>
                </a:lnTo>
                <a:lnTo>
                  <a:pt x="8909" y="8350"/>
                </a:lnTo>
                <a:lnTo>
                  <a:pt x="8887" y="8883"/>
                </a:lnTo>
                <a:lnTo>
                  <a:pt x="8754" y="8878"/>
                </a:lnTo>
                <a:close/>
                <a:moveTo>
                  <a:pt x="8792" y="7945"/>
                </a:moveTo>
                <a:lnTo>
                  <a:pt x="8813" y="7412"/>
                </a:lnTo>
                <a:lnTo>
                  <a:pt x="8947" y="7418"/>
                </a:lnTo>
                <a:lnTo>
                  <a:pt x="8925" y="7951"/>
                </a:lnTo>
                <a:lnTo>
                  <a:pt x="8792" y="7945"/>
                </a:lnTo>
                <a:close/>
                <a:moveTo>
                  <a:pt x="8828" y="7013"/>
                </a:moveTo>
                <a:lnTo>
                  <a:pt x="8847" y="6480"/>
                </a:lnTo>
                <a:lnTo>
                  <a:pt x="8981" y="6485"/>
                </a:lnTo>
                <a:lnTo>
                  <a:pt x="8962" y="7018"/>
                </a:lnTo>
                <a:lnTo>
                  <a:pt x="8828" y="7013"/>
                </a:lnTo>
                <a:close/>
                <a:moveTo>
                  <a:pt x="8862" y="6080"/>
                </a:moveTo>
                <a:lnTo>
                  <a:pt x="8881" y="5547"/>
                </a:lnTo>
                <a:lnTo>
                  <a:pt x="9014" y="5552"/>
                </a:lnTo>
                <a:lnTo>
                  <a:pt x="8995" y="6085"/>
                </a:lnTo>
                <a:lnTo>
                  <a:pt x="8862" y="6080"/>
                </a:lnTo>
                <a:close/>
                <a:moveTo>
                  <a:pt x="8896" y="5148"/>
                </a:moveTo>
                <a:lnTo>
                  <a:pt x="8906" y="4858"/>
                </a:lnTo>
                <a:lnTo>
                  <a:pt x="8917" y="4614"/>
                </a:lnTo>
                <a:lnTo>
                  <a:pt x="9050" y="4620"/>
                </a:lnTo>
                <a:lnTo>
                  <a:pt x="9039" y="4863"/>
                </a:lnTo>
                <a:lnTo>
                  <a:pt x="9029" y="5152"/>
                </a:lnTo>
                <a:lnTo>
                  <a:pt x="8896" y="5148"/>
                </a:lnTo>
                <a:close/>
                <a:moveTo>
                  <a:pt x="8935" y="4214"/>
                </a:moveTo>
                <a:lnTo>
                  <a:pt x="8959" y="3682"/>
                </a:lnTo>
                <a:lnTo>
                  <a:pt x="9092" y="3688"/>
                </a:lnTo>
                <a:lnTo>
                  <a:pt x="9068" y="4220"/>
                </a:lnTo>
                <a:lnTo>
                  <a:pt x="8935" y="4214"/>
                </a:lnTo>
                <a:close/>
                <a:moveTo>
                  <a:pt x="8977" y="3282"/>
                </a:moveTo>
                <a:lnTo>
                  <a:pt x="9001" y="2749"/>
                </a:lnTo>
                <a:lnTo>
                  <a:pt x="9135" y="2755"/>
                </a:lnTo>
                <a:lnTo>
                  <a:pt x="9110" y="3288"/>
                </a:lnTo>
                <a:lnTo>
                  <a:pt x="8977" y="3282"/>
                </a:lnTo>
                <a:close/>
                <a:moveTo>
                  <a:pt x="9015" y="2351"/>
                </a:moveTo>
                <a:lnTo>
                  <a:pt x="9026" y="1818"/>
                </a:lnTo>
                <a:lnTo>
                  <a:pt x="9160" y="1821"/>
                </a:lnTo>
                <a:lnTo>
                  <a:pt x="9149" y="2354"/>
                </a:lnTo>
                <a:lnTo>
                  <a:pt x="9015" y="2351"/>
                </a:lnTo>
                <a:close/>
                <a:moveTo>
                  <a:pt x="9035" y="1418"/>
                </a:moveTo>
                <a:lnTo>
                  <a:pt x="9046" y="885"/>
                </a:lnTo>
                <a:lnTo>
                  <a:pt x="9179" y="888"/>
                </a:lnTo>
                <a:lnTo>
                  <a:pt x="9168" y="1421"/>
                </a:lnTo>
                <a:lnTo>
                  <a:pt x="9035" y="1418"/>
                </a:lnTo>
                <a:close/>
                <a:moveTo>
                  <a:pt x="9093" y="480"/>
                </a:moveTo>
                <a:lnTo>
                  <a:pt x="9154" y="58"/>
                </a:lnTo>
                <a:cubicBezTo>
                  <a:pt x="9159" y="26"/>
                  <a:pt x="9186" y="2"/>
                  <a:pt x="9218" y="1"/>
                </a:cubicBezTo>
                <a:cubicBezTo>
                  <a:pt x="9251" y="0"/>
                  <a:pt x="9279" y="23"/>
                  <a:pt x="9285" y="56"/>
                </a:cubicBezTo>
                <a:lnTo>
                  <a:pt x="9305" y="161"/>
                </a:lnTo>
                <a:lnTo>
                  <a:pt x="9174" y="186"/>
                </a:lnTo>
                <a:lnTo>
                  <a:pt x="9154" y="80"/>
                </a:lnTo>
                <a:lnTo>
                  <a:pt x="9286" y="77"/>
                </a:lnTo>
                <a:lnTo>
                  <a:pt x="9225" y="499"/>
                </a:lnTo>
                <a:lnTo>
                  <a:pt x="9093" y="480"/>
                </a:lnTo>
                <a:close/>
                <a:moveTo>
                  <a:pt x="9376" y="563"/>
                </a:moveTo>
                <a:lnTo>
                  <a:pt x="9406" y="1096"/>
                </a:lnTo>
                <a:lnTo>
                  <a:pt x="9273" y="1103"/>
                </a:lnTo>
                <a:lnTo>
                  <a:pt x="9243" y="571"/>
                </a:lnTo>
                <a:lnTo>
                  <a:pt x="9376" y="563"/>
                </a:lnTo>
                <a:close/>
                <a:moveTo>
                  <a:pt x="9429" y="1495"/>
                </a:moveTo>
                <a:lnTo>
                  <a:pt x="9459" y="2027"/>
                </a:lnTo>
                <a:lnTo>
                  <a:pt x="9326" y="2035"/>
                </a:lnTo>
                <a:lnTo>
                  <a:pt x="9296" y="1503"/>
                </a:lnTo>
                <a:lnTo>
                  <a:pt x="9429" y="1495"/>
                </a:lnTo>
                <a:close/>
                <a:moveTo>
                  <a:pt x="9476" y="2428"/>
                </a:moveTo>
                <a:lnTo>
                  <a:pt x="9496" y="2961"/>
                </a:lnTo>
                <a:lnTo>
                  <a:pt x="9362" y="2966"/>
                </a:lnTo>
                <a:lnTo>
                  <a:pt x="9342" y="2433"/>
                </a:lnTo>
                <a:lnTo>
                  <a:pt x="9476" y="2428"/>
                </a:lnTo>
                <a:close/>
                <a:moveTo>
                  <a:pt x="9510" y="3361"/>
                </a:moveTo>
                <a:lnTo>
                  <a:pt x="9530" y="3894"/>
                </a:lnTo>
                <a:lnTo>
                  <a:pt x="9397" y="3899"/>
                </a:lnTo>
                <a:lnTo>
                  <a:pt x="9377" y="3366"/>
                </a:lnTo>
                <a:lnTo>
                  <a:pt x="9510" y="3361"/>
                </a:lnTo>
                <a:close/>
                <a:moveTo>
                  <a:pt x="9545" y="4294"/>
                </a:moveTo>
                <a:lnTo>
                  <a:pt x="9551" y="4456"/>
                </a:lnTo>
                <a:lnTo>
                  <a:pt x="9559" y="4828"/>
                </a:lnTo>
                <a:lnTo>
                  <a:pt x="9426" y="4831"/>
                </a:lnTo>
                <a:lnTo>
                  <a:pt x="9418" y="4461"/>
                </a:lnTo>
                <a:lnTo>
                  <a:pt x="9412" y="4299"/>
                </a:lnTo>
                <a:lnTo>
                  <a:pt x="9545" y="4294"/>
                </a:lnTo>
                <a:close/>
                <a:moveTo>
                  <a:pt x="9567" y="5228"/>
                </a:moveTo>
                <a:lnTo>
                  <a:pt x="9577" y="5761"/>
                </a:lnTo>
                <a:lnTo>
                  <a:pt x="9444" y="5764"/>
                </a:lnTo>
                <a:lnTo>
                  <a:pt x="9434" y="5231"/>
                </a:lnTo>
                <a:lnTo>
                  <a:pt x="9567" y="5228"/>
                </a:lnTo>
                <a:close/>
                <a:moveTo>
                  <a:pt x="9585" y="6161"/>
                </a:moveTo>
                <a:lnTo>
                  <a:pt x="9596" y="6694"/>
                </a:lnTo>
                <a:lnTo>
                  <a:pt x="9463" y="6697"/>
                </a:lnTo>
                <a:lnTo>
                  <a:pt x="9452" y="6164"/>
                </a:lnTo>
                <a:lnTo>
                  <a:pt x="9585" y="6161"/>
                </a:lnTo>
                <a:close/>
                <a:moveTo>
                  <a:pt x="9604" y="7094"/>
                </a:moveTo>
                <a:lnTo>
                  <a:pt x="9604" y="7116"/>
                </a:lnTo>
                <a:lnTo>
                  <a:pt x="9623" y="7626"/>
                </a:lnTo>
                <a:lnTo>
                  <a:pt x="9489" y="7631"/>
                </a:lnTo>
                <a:lnTo>
                  <a:pt x="9471" y="7118"/>
                </a:lnTo>
                <a:lnTo>
                  <a:pt x="9471" y="7097"/>
                </a:lnTo>
                <a:lnTo>
                  <a:pt x="9604" y="7094"/>
                </a:lnTo>
                <a:close/>
                <a:moveTo>
                  <a:pt x="9637" y="8026"/>
                </a:moveTo>
                <a:lnTo>
                  <a:pt x="9656" y="8559"/>
                </a:lnTo>
                <a:lnTo>
                  <a:pt x="9523" y="8564"/>
                </a:lnTo>
                <a:lnTo>
                  <a:pt x="9504" y="8031"/>
                </a:lnTo>
                <a:lnTo>
                  <a:pt x="9637" y="8026"/>
                </a:lnTo>
                <a:close/>
                <a:moveTo>
                  <a:pt x="9670" y="8959"/>
                </a:moveTo>
                <a:lnTo>
                  <a:pt x="9689" y="9492"/>
                </a:lnTo>
                <a:lnTo>
                  <a:pt x="9556" y="9496"/>
                </a:lnTo>
                <a:lnTo>
                  <a:pt x="9537" y="8963"/>
                </a:lnTo>
                <a:lnTo>
                  <a:pt x="9670" y="8959"/>
                </a:lnTo>
                <a:close/>
                <a:moveTo>
                  <a:pt x="9709" y="9890"/>
                </a:moveTo>
                <a:lnTo>
                  <a:pt x="9740" y="10422"/>
                </a:lnTo>
                <a:lnTo>
                  <a:pt x="9607" y="10430"/>
                </a:lnTo>
                <a:lnTo>
                  <a:pt x="9576" y="9897"/>
                </a:lnTo>
                <a:lnTo>
                  <a:pt x="9709" y="9890"/>
                </a:lnTo>
                <a:close/>
                <a:moveTo>
                  <a:pt x="9763" y="10822"/>
                </a:moveTo>
                <a:lnTo>
                  <a:pt x="9793" y="11354"/>
                </a:lnTo>
                <a:lnTo>
                  <a:pt x="9660" y="11362"/>
                </a:lnTo>
                <a:lnTo>
                  <a:pt x="9630" y="10829"/>
                </a:lnTo>
                <a:lnTo>
                  <a:pt x="9763" y="10822"/>
                </a:lnTo>
                <a:close/>
                <a:moveTo>
                  <a:pt x="9824" y="11751"/>
                </a:moveTo>
                <a:lnTo>
                  <a:pt x="9869" y="12282"/>
                </a:lnTo>
                <a:lnTo>
                  <a:pt x="9736" y="12294"/>
                </a:lnTo>
                <a:lnTo>
                  <a:pt x="9691" y="11762"/>
                </a:lnTo>
                <a:lnTo>
                  <a:pt x="9824" y="11751"/>
                </a:lnTo>
                <a:close/>
                <a:moveTo>
                  <a:pt x="9939" y="12659"/>
                </a:moveTo>
                <a:lnTo>
                  <a:pt x="9972" y="12764"/>
                </a:lnTo>
                <a:lnTo>
                  <a:pt x="9844" y="12769"/>
                </a:lnTo>
                <a:lnTo>
                  <a:pt x="9932" y="12402"/>
                </a:lnTo>
                <a:lnTo>
                  <a:pt x="9931" y="12412"/>
                </a:lnTo>
                <a:lnTo>
                  <a:pt x="9934" y="12367"/>
                </a:lnTo>
                <a:lnTo>
                  <a:pt x="10067" y="12378"/>
                </a:lnTo>
                <a:lnTo>
                  <a:pt x="10063" y="12422"/>
                </a:lnTo>
                <a:cubicBezTo>
                  <a:pt x="10063" y="12426"/>
                  <a:pt x="10063" y="12429"/>
                  <a:pt x="10062" y="12433"/>
                </a:cubicBezTo>
                <a:lnTo>
                  <a:pt x="9973" y="12800"/>
                </a:lnTo>
                <a:cubicBezTo>
                  <a:pt x="9966" y="12829"/>
                  <a:pt x="9941" y="12850"/>
                  <a:pt x="9911" y="12851"/>
                </a:cubicBezTo>
                <a:cubicBezTo>
                  <a:pt x="9881" y="12852"/>
                  <a:pt x="9854" y="12833"/>
                  <a:pt x="9845" y="12805"/>
                </a:cubicBezTo>
                <a:lnTo>
                  <a:pt x="9812" y="12699"/>
                </a:lnTo>
                <a:lnTo>
                  <a:pt x="9939" y="12659"/>
                </a:lnTo>
                <a:close/>
                <a:moveTo>
                  <a:pt x="9965" y="11969"/>
                </a:moveTo>
                <a:lnTo>
                  <a:pt x="9984" y="11730"/>
                </a:lnTo>
                <a:lnTo>
                  <a:pt x="10019" y="11435"/>
                </a:lnTo>
                <a:lnTo>
                  <a:pt x="10151" y="11451"/>
                </a:lnTo>
                <a:lnTo>
                  <a:pt x="10116" y="11740"/>
                </a:lnTo>
                <a:lnTo>
                  <a:pt x="10098" y="11979"/>
                </a:lnTo>
                <a:lnTo>
                  <a:pt x="9965" y="11969"/>
                </a:lnTo>
                <a:close/>
                <a:moveTo>
                  <a:pt x="10067" y="11038"/>
                </a:moveTo>
                <a:lnTo>
                  <a:pt x="10072" y="10992"/>
                </a:lnTo>
                <a:lnTo>
                  <a:pt x="10163" y="10509"/>
                </a:lnTo>
                <a:lnTo>
                  <a:pt x="10294" y="10534"/>
                </a:lnTo>
                <a:lnTo>
                  <a:pt x="10204" y="11008"/>
                </a:lnTo>
                <a:lnTo>
                  <a:pt x="10199" y="11054"/>
                </a:lnTo>
                <a:lnTo>
                  <a:pt x="10067" y="11038"/>
                </a:lnTo>
                <a:close/>
                <a:moveTo>
                  <a:pt x="10406" y="10146"/>
                </a:moveTo>
                <a:lnTo>
                  <a:pt x="10421" y="10146"/>
                </a:lnTo>
                <a:cubicBezTo>
                  <a:pt x="10452" y="10146"/>
                  <a:pt x="10479" y="10168"/>
                  <a:pt x="10486" y="10198"/>
                </a:cubicBezTo>
                <a:lnTo>
                  <a:pt x="10539" y="10425"/>
                </a:lnTo>
                <a:lnTo>
                  <a:pt x="10623" y="10692"/>
                </a:lnTo>
                <a:lnTo>
                  <a:pt x="10496" y="10733"/>
                </a:lnTo>
                <a:lnTo>
                  <a:pt x="10409" y="10456"/>
                </a:lnTo>
                <a:lnTo>
                  <a:pt x="10356" y="10228"/>
                </a:lnTo>
                <a:lnTo>
                  <a:pt x="10421" y="10280"/>
                </a:lnTo>
                <a:lnTo>
                  <a:pt x="10406" y="10280"/>
                </a:lnTo>
                <a:lnTo>
                  <a:pt x="10406" y="10146"/>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4430880" y="3510000"/>
            <a:ext cx="1122120" cy="826920"/>
          </a:xfrm>
          <a:custGeom>
            <a:avLst/>
            <a:gdLst/>
            <a:ahLst/>
            <a:rect l="l" t="t" r="r" b="b"/>
            <a:pathLst>
              <a:path w="5369" h="3929">
                <a:moveTo>
                  <a:pt x="57" y="2846"/>
                </a:moveTo>
                <a:lnTo>
                  <a:pt x="101" y="2916"/>
                </a:lnTo>
                <a:lnTo>
                  <a:pt x="83" y="2902"/>
                </a:lnTo>
                <a:lnTo>
                  <a:pt x="136" y="2919"/>
                </a:lnTo>
                <a:lnTo>
                  <a:pt x="102" y="2927"/>
                </a:lnTo>
                <a:lnTo>
                  <a:pt x="120" y="2910"/>
                </a:lnTo>
                <a:lnTo>
                  <a:pt x="175" y="2864"/>
                </a:lnTo>
                <a:cubicBezTo>
                  <a:pt x="177" y="2863"/>
                  <a:pt x="178" y="2862"/>
                  <a:pt x="179" y="2861"/>
                </a:cubicBezTo>
                <a:lnTo>
                  <a:pt x="209" y="2844"/>
                </a:lnTo>
                <a:lnTo>
                  <a:pt x="243" y="2901"/>
                </a:lnTo>
                <a:lnTo>
                  <a:pt x="213" y="2919"/>
                </a:lnTo>
                <a:lnTo>
                  <a:pt x="218" y="2916"/>
                </a:lnTo>
                <a:lnTo>
                  <a:pt x="167" y="2957"/>
                </a:lnTo>
                <a:lnTo>
                  <a:pt x="149" y="2975"/>
                </a:lnTo>
                <a:cubicBezTo>
                  <a:pt x="140" y="2984"/>
                  <a:pt x="127" y="2987"/>
                  <a:pt x="115" y="2983"/>
                </a:cubicBezTo>
                <a:lnTo>
                  <a:pt x="62" y="2965"/>
                </a:lnTo>
                <a:cubicBezTo>
                  <a:pt x="55" y="2963"/>
                  <a:pt x="49" y="2958"/>
                  <a:pt x="45" y="2951"/>
                </a:cubicBezTo>
                <a:lnTo>
                  <a:pt x="0" y="2882"/>
                </a:lnTo>
                <a:lnTo>
                  <a:pt x="57" y="2846"/>
                </a:lnTo>
                <a:close/>
                <a:moveTo>
                  <a:pt x="411" y="2874"/>
                </a:moveTo>
                <a:lnTo>
                  <a:pt x="453" y="2874"/>
                </a:lnTo>
                <a:lnTo>
                  <a:pt x="497" y="2874"/>
                </a:lnTo>
                <a:lnTo>
                  <a:pt x="541" y="2874"/>
                </a:lnTo>
                <a:lnTo>
                  <a:pt x="586" y="2874"/>
                </a:lnTo>
                <a:cubicBezTo>
                  <a:pt x="594" y="2874"/>
                  <a:pt x="603" y="2878"/>
                  <a:pt x="609" y="2884"/>
                </a:cubicBezTo>
                <a:lnTo>
                  <a:pt x="635" y="2910"/>
                </a:lnTo>
                <a:lnTo>
                  <a:pt x="624" y="2903"/>
                </a:lnTo>
                <a:lnTo>
                  <a:pt x="669" y="2920"/>
                </a:lnTo>
                <a:lnTo>
                  <a:pt x="677" y="2924"/>
                </a:lnTo>
                <a:lnTo>
                  <a:pt x="648" y="2984"/>
                </a:lnTo>
                <a:lnTo>
                  <a:pt x="644" y="2982"/>
                </a:lnTo>
                <a:lnTo>
                  <a:pt x="600" y="2965"/>
                </a:lnTo>
                <a:cubicBezTo>
                  <a:pt x="596" y="2963"/>
                  <a:pt x="592" y="2960"/>
                  <a:pt x="589" y="2957"/>
                </a:cubicBezTo>
                <a:lnTo>
                  <a:pt x="562" y="2931"/>
                </a:lnTo>
                <a:lnTo>
                  <a:pt x="586" y="2941"/>
                </a:lnTo>
                <a:lnTo>
                  <a:pt x="541" y="2941"/>
                </a:lnTo>
                <a:lnTo>
                  <a:pt x="497" y="2941"/>
                </a:lnTo>
                <a:lnTo>
                  <a:pt x="453" y="2941"/>
                </a:lnTo>
                <a:lnTo>
                  <a:pt x="411" y="2941"/>
                </a:lnTo>
                <a:lnTo>
                  <a:pt x="411" y="2874"/>
                </a:lnTo>
                <a:close/>
                <a:moveTo>
                  <a:pt x="860" y="3004"/>
                </a:moveTo>
                <a:lnTo>
                  <a:pt x="885" y="3018"/>
                </a:lnTo>
                <a:lnTo>
                  <a:pt x="930" y="3045"/>
                </a:lnTo>
                <a:lnTo>
                  <a:pt x="913" y="3040"/>
                </a:lnTo>
                <a:lnTo>
                  <a:pt x="966" y="3040"/>
                </a:lnTo>
                <a:cubicBezTo>
                  <a:pt x="970" y="3040"/>
                  <a:pt x="974" y="3041"/>
                  <a:pt x="978" y="3042"/>
                </a:cubicBezTo>
                <a:lnTo>
                  <a:pt x="1022" y="3060"/>
                </a:lnTo>
                <a:lnTo>
                  <a:pt x="1010" y="3057"/>
                </a:lnTo>
                <a:lnTo>
                  <a:pt x="1054" y="3057"/>
                </a:lnTo>
                <a:cubicBezTo>
                  <a:pt x="1063" y="3057"/>
                  <a:pt x="1071" y="3061"/>
                  <a:pt x="1078" y="3067"/>
                </a:cubicBezTo>
                <a:lnTo>
                  <a:pt x="1104" y="3093"/>
                </a:lnTo>
                <a:lnTo>
                  <a:pt x="1081" y="3084"/>
                </a:lnTo>
                <a:lnTo>
                  <a:pt x="1085" y="3084"/>
                </a:lnTo>
                <a:lnTo>
                  <a:pt x="1085" y="3150"/>
                </a:lnTo>
                <a:lnTo>
                  <a:pt x="1081" y="3150"/>
                </a:lnTo>
                <a:cubicBezTo>
                  <a:pt x="1072" y="3150"/>
                  <a:pt x="1064" y="3147"/>
                  <a:pt x="1057" y="3141"/>
                </a:cubicBezTo>
                <a:lnTo>
                  <a:pt x="1031" y="3114"/>
                </a:lnTo>
                <a:lnTo>
                  <a:pt x="1054" y="3124"/>
                </a:lnTo>
                <a:lnTo>
                  <a:pt x="1010" y="3124"/>
                </a:lnTo>
                <a:cubicBezTo>
                  <a:pt x="1006" y="3124"/>
                  <a:pt x="1002" y="3123"/>
                  <a:pt x="998" y="3122"/>
                </a:cubicBezTo>
                <a:lnTo>
                  <a:pt x="953" y="3104"/>
                </a:lnTo>
                <a:lnTo>
                  <a:pt x="966" y="3107"/>
                </a:lnTo>
                <a:lnTo>
                  <a:pt x="913" y="3107"/>
                </a:lnTo>
                <a:cubicBezTo>
                  <a:pt x="907" y="3107"/>
                  <a:pt x="901" y="3105"/>
                  <a:pt x="896" y="3102"/>
                </a:cubicBezTo>
                <a:lnTo>
                  <a:pt x="851" y="3076"/>
                </a:lnTo>
                <a:lnTo>
                  <a:pt x="827" y="3061"/>
                </a:lnTo>
                <a:lnTo>
                  <a:pt x="860" y="3004"/>
                </a:lnTo>
                <a:close/>
                <a:moveTo>
                  <a:pt x="1291" y="3164"/>
                </a:moveTo>
                <a:lnTo>
                  <a:pt x="1307" y="3180"/>
                </a:lnTo>
                <a:lnTo>
                  <a:pt x="1284" y="3171"/>
                </a:lnTo>
                <a:lnTo>
                  <a:pt x="1337" y="3171"/>
                </a:lnTo>
                <a:cubicBezTo>
                  <a:pt x="1343" y="3171"/>
                  <a:pt x="1349" y="3172"/>
                  <a:pt x="1354" y="3176"/>
                </a:cubicBezTo>
                <a:lnTo>
                  <a:pt x="1398" y="3202"/>
                </a:lnTo>
                <a:lnTo>
                  <a:pt x="1443" y="3228"/>
                </a:lnTo>
                <a:lnTo>
                  <a:pt x="1438" y="3226"/>
                </a:lnTo>
                <a:lnTo>
                  <a:pt x="1482" y="3243"/>
                </a:lnTo>
                <a:cubicBezTo>
                  <a:pt x="1486" y="3245"/>
                  <a:pt x="1490" y="3247"/>
                  <a:pt x="1493" y="3250"/>
                </a:cubicBezTo>
                <a:lnTo>
                  <a:pt x="1520" y="3276"/>
                </a:lnTo>
                <a:lnTo>
                  <a:pt x="1513" y="3272"/>
                </a:lnTo>
                <a:lnTo>
                  <a:pt x="1516" y="3273"/>
                </a:lnTo>
                <a:lnTo>
                  <a:pt x="1482" y="3330"/>
                </a:lnTo>
                <a:lnTo>
                  <a:pt x="1479" y="3329"/>
                </a:lnTo>
                <a:cubicBezTo>
                  <a:pt x="1477" y="3328"/>
                  <a:pt x="1475" y="3326"/>
                  <a:pt x="1473" y="3324"/>
                </a:cubicBezTo>
                <a:lnTo>
                  <a:pt x="1446" y="3298"/>
                </a:lnTo>
                <a:lnTo>
                  <a:pt x="1457" y="3305"/>
                </a:lnTo>
                <a:lnTo>
                  <a:pt x="1413" y="3288"/>
                </a:lnTo>
                <a:cubicBezTo>
                  <a:pt x="1412" y="3287"/>
                  <a:pt x="1410" y="3286"/>
                  <a:pt x="1409" y="3285"/>
                </a:cubicBezTo>
                <a:lnTo>
                  <a:pt x="1364" y="3259"/>
                </a:lnTo>
                <a:lnTo>
                  <a:pt x="1320" y="3233"/>
                </a:lnTo>
                <a:lnTo>
                  <a:pt x="1337" y="3238"/>
                </a:lnTo>
                <a:lnTo>
                  <a:pt x="1284" y="3238"/>
                </a:lnTo>
                <a:cubicBezTo>
                  <a:pt x="1275" y="3238"/>
                  <a:pt x="1267" y="3234"/>
                  <a:pt x="1261" y="3228"/>
                </a:cubicBezTo>
                <a:lnTo>
                  <a:pt x="1244" y="3212"/>
                </a:lnTo>
                <a:lnTo>
                  <a:pt x="1291" y="3164"/>
                </a:lnTo>
                <a:close/>
                <a:moveTo>
                  <a:pt x="1673" y="3354"/>
                </a:moveTo>
                <a:lnTo>
                  <a:pt x="1682" y="3354"/>
                </a:lnTo>
                <a:lnTo>
                  <a:pt x="1670" y="3357"/>
                </a:lnTo>
                <a:lnTo>
                  <a:pt x="1714" y="3339"/>
                </a:lnTo>
                <a:lnTo>
                  <a:pt x="1703" y="3346"/>
                </a:lnTo>
                <a:lnTo>
                  <a:pt x="1729" y="3320"/>
                </a:lnTo>
                <a:lnTo>
                  <a:pt x="1773" y="3276"/>
                </a:lnTo>
                <a:lnTo>
                  <a:pt x="1829" y="3231"/>
                </a:lnTo>
                <a:cubicBezTo>
                  <a:pt x="1838" y="3223"/>
                  <a:pt x="1851" y="3221"/>
                  <a:pt x="1862" y="3226"/>
                </a:cubicBezTo>
                <a:lnTo>
                  <a:pt x="1902" y="3241"/>
                </a:lnTo>
                <a:lnTo>
                  <a:pt x="1877" y="3303"/>
                </a:lnTo>
                <a:lnTo>
                  <a:pt x="1838" y="3288"/>
                </a:lnTo>
                <a:lnTo>
                  <a:pt x="1871" y="3282"/>
                </a:lnTo>
                <a:lnTo>
                  <a:pt x="1820" y="3324"/>
                </a:lnTo>
                <a:lnTo>
                  <a:pt x="1776" y="3368"/>
                </a:lnTo>
                <a:lnTo>
                  <a:pt x="1750" y="3394"/>
                </a:lnTo>
                <a:cubicBezTo>
                  <a:pt x="1746" y="3397"/>
                  <a:pt x="1743" y="3399"/>
                  <a:pt x="1738" y="3401"/>
                </a:cubicBezTo>
                <a:lnTo>
                  <a:pt x="1694" y="3419"/>
                </a:lnTo>
                <a:cubicBezTo>
                  <a:pt x="1690" y="3420"/>
                  <a:pt x="1686" y="3421"/>
                  <a:pt x="1682" y="3421"/>
                </a:cubicBezTo>
                <a:lnTo>
                  <a:pt x="1673" y="3421"/>
                </a:lnTo>
                <a:lnTo>
                  <a:pt x="1673" y="3354"/>
                </a:lnTo>
                <a:close/>
                <a:moveTo>
                  <a:pt x="1986" y="3452"/>
                </a:moveTo>
                <a:lnTo>
                  <a:pt x="1998" y="3522"/>
                </a:lnTo>
                <a:lnTo>
                  <a:pt x="2042" y="3703"/>
                </a:lnTo>
                <a:lnTo>
                  <a:pt x="2043" y="3708"/>
                </a:lnTo>
                <a:lnTo>
                  <a:pt x="1980" y="3728"/>
                </a:lnTo>
                <a:lnTo>
                  <a:pt x="1977" y="3718"/>
                </a:lnTo>
                <a:lnTo>
                  <a:pt x="1932" y="3533"/>
                </a:lnTo>
                <a:lnTo>
                  <a:pt x="1920" y="3463"/>
                </a:lnTo>
                <a:lnTo>
                  <a:pt x="1986" y="3452"/>
                </a:lnTo>
                <a:close/>
                <a:moveTo>
                  <a:pt x="2122" y="3863"/>
                </a:moveTo>
                <a:lnTo>
                  <a:pt x="2128" y="3868"/>
                </a:lnTo>
                <a:lnTo>
                  <a:pt x="2077" y="3879"/>
                </a:lnTo>
                <a:lnTo>
                  <a:pt x="2121" y="3791"/>
                </a:lnTo>
                <a:lnTo>
                  <a:pt x="2117" y="3805"/>
                </a:lnTo>
                <a:lnTo>
                  <a:pt x="2126" y="3644"/>
                </a:lnTo>
                <a:lnTo>
                  <a:pt x="2193" y="3647"/>
                </a:lnTo>
                <a:lnTo>
                  <a:pt x="2184" y="3808"/>
                </a:lnTo>
                <a:cubicBezTo>
                  <a:pt x="2184" y="3813"/>
                  <a:pt x="2182" y="3817"/>
                  <a:pt x="2180" y="3822"/>
                </a:cubicBezTo>
                <a:lnTo>
                  <a:pt x="2136" y="3909"/>
                </a:lnTo>
                <a:cubicBezTo>
                  <a:pt x="2132" y="3918"/>
                  <a:pt x="2123" y="3924"/>
                  <a:pt x="2113" y="3926"/>
                </a:cubicBezTo>
                <a:cubicBezTo>
                  <a:pt x="2103" y="3929"/>
                  <a:pt x="2093" y="3926"/>
                  <a:pt x="2085" y="3920"/>
                </a:cubicBezTo>
                <a:lnTo>
                  <a:pt x="2079" y="3915"/>
                </a:lnTo>
                <a:lnTo>
                  <a:pt x="2122" y="3863"/>
                </a:lnTo>
                <a:close/>
                <a:moveTo>
                  <a:pt x="2139" y="3442"/>
                </a:moveTo>
                <a:lnTo>
                  <a:pt x="2169" y="3177"/>
                </a:lnTo>
                <a:lnTo>
                  <a:pt x="2235" y="3184"/>
                </a:lnTo>
                <a:lnTo>
                  <a:pt x="2206" y="3449"/>
                </a:lnTo>
                <a:lnTo>
                  <a:pt x="2139" y="3442"/>
                </a:lnTo>
                <a:close/>
                <a:moveTo>
                  <a:pt x="2190" y="2979"/>
                </a:moveTo>
                <a:lnTo>
                  <a:pt x="2209" y="2714"/>
                </a:lnTo>
                <a:lnTo>
                  <a:pt x="2276" y="2718"/>
                </a:lnTo>
                <a:lnTo>
                  <a:pt x="2256" y="2984"/>
                </a:lnTo>
                <a:lnTo>
                  <a:pt x="2190" y="2979"/>
                </a:lnTo>
                <a:close/>
                <a:moveTo>
                  <a:pt x="2224" y="2514"/>
                </a:moveTo>
                <a:lnTo>
                  <a:pt x="2232" y="2399"/>
                </a:lnTo>
                <a:lnTo>
                  <a:pt x="2243" y="2248"/>
                </a:lnTo>
                <a:lnTo>
                  <a:pt x="2310" y="2253"/>
                </a:lnTo>
                <a:lnTo>
                  <a:pt x="2299" y="2404"/>
                </a:lnTo>
                <a:lnTo>
                  <a:pt x="2290" y="2519"/>
                </a:lnTo>
                <a:lnTo>
                  <a:pt x="2224" y="2514"/>
                </a:lnTo>
                <a:close/>
                <a:moveTo>
                  <a:pt x="2257" y="2049"/>
                </a:moveTo>
                <a:lnTo>
                  <a:pt x="2276" y="1783"/>
                </a:lnTo>
                <a:lnTo>
                  <a:pt x="2343" y="1787"/>
                </a:lnTo>
                <a:lnTo>
                  <a:pt x="2324" y="2053"/>
                </a:lnTo>
                <a:lnTo>
                  <a:pt x="2257" y="2049"/>
                </a:lnTo>
                <a:close/>
                <a:moveTo>
                  <a:pt x="2294" y="1583"/>
                </a:moveTo>
                <a:lnTo>
                  <a:pt x="2317" y="1317"/>
                </a:lnTo>
                <a:lnTo>
                  <a:pt x="2383" y="1323"/>
                </a:lnTo>
                <a:lnTo>
                  <a:pt x="2360" y="1589"/>
                </a:lnTo>
                <a:lnTo>
                  <a:pt x="2294" y="1583"/>
                </a:lnTo>
                <a:close/>
                <a:moveTo>
                  <a:pt x="2346" y="1117"/>
                </a:moveTo>
                <a:lnTo>
                  <a:pt x="2374" y="947"/>
                </a:lnTo>
                <a:lnTo>
                  <a:pt x="2392" y="874"/>
                </a:lnTo>
                <a:cubicBezTo>
                  <a:pt x="2396" y="860"/>
                  <a:pt x="2409" y="849"/>
                  <a:pt x="2424" y="849"/>
                </a:cubicBezTo>
                <a:cubicBezTo>
                  <a:pt x="2439" y="848"/>
                  <a:pt x="2452" y="858"/>
                  <a:pt x="2456" y="872"/>
                </a:cubicBezTo>
                <a:lnTo>
                  <a:pt x="2463" y="893"/>
                </a:lnTo>
                <a:lnTo>
                  <a:pt x="2400" y="913"/>
                </a:lnTo>
                <a:lnTo>
                  <a:pt x="2393" y="892"/>
                </a:lnTo>
                <a:lnTo>
                  <a:pt x="2457" y="890"/>
                </a:lnTo>
                <a:lnTo>
                  <a:pt x="2440" y="957"/>
                </a:lnTo>
                <a:lnTo>
                  <a:pt x="2412" y="1128"/>
                </a:lnTo>
                <a:lnTo>
                  <a:pt x="2346" y="1117"/>
                </a:lnTo>
                <a:close/>
                <a:moveTo>
                  <a:pt x="2518" y="1091"/>
                </a:moveTo>
                <a:lnTo>
                  <a:pt x="2555" y="1340"/>
                </a:lnTo>
                <a:lnTo>
                  <a:pt x="2557" y="1356"/>
                </a:lnTo>
                <a:lnTo>
                  <a:pt x="2490" y="1363"/>
                </a:lnTo>
                <a:lnTo>
                  <a:pt x="2489" y="1350"/>
                </a:lnTo>
                <a:lnTo>
                  <a:pt x="2452" y="1100"/>
                </a:lnTo>
                <a:lnTo>
                  <a:pt x="2518" y="1091"/>
                </a:lnTo>
                <a:close/>
                <a:moveTo>
                  <a:pt x="2579" y="1554"/>
                </a:moveTo>
                <a:lnTo>
                  <a:pt x="2599" y="1734"/>
                </a:lnTo>
                <a:lnTo>
                  <a:pt x="2609" y="1819"/>
                </a:lnTo>
                <a:lnTo>
                  <a:pt x="2543" y="1827"/>
                </a:lnTo>
                <a:lnTo>
                  <a:pt x="2533" y="1741"/>
                </a:lnTo>
                <a:lnTo>
                  <a:pt x="2513" y="1562"/>
                </a:lnTo>
                <a:lnTo>
                  <a:pt x="2579" y="1554"/>
                </a:lnTo>
                <a:close/>
                <a:moveTo>
                  <a:pt x="2631" y="2018"/>
                </a:moveTo>
                <a:lnTo>
                  <a:pt x="2643" y="2127"/>
                </a:lnTo>
                <a:lnTo>
                  <a:pt x="2658" y="2284"/>
                </a:lnTo>
                <a:lnTo>
                  <a:pt x="2591" y="2290"/>
                </a:lnTo>
                <a:lnTo>
                  <a:pt x="2577" y="2134"/>
                </a:lnTo>
                <a:lnTo>
                  <a:pt x="2565" y="2025"/>
                </a:lnTo>
                <a:lnTo>
                  <a:pt x="2631" y="2018"/>
                </a:lnTo>
                <a:close/>
                <a:moveTo>
                  <a:pt x="2682" y="2478"/>
                </a:moveTo>
                <a:lnTo>
                  <a:pt x="2714" y="2630"/>
                </a:lnTo>
                <a:lnTo>
                  <a:pt x="2711" y="2623"/>
                </a:lnTo>
                <a:lnTo>
                  <a:pt x="2759" y="2724"/>
                </a:lnTo>
                <a:lnTo>
                  <a:pt x="2698" y="2752"/>
                </a:lnTo>
                <a:lnTo>
                  <a:pt x="2651" y="2651"/>
                </a:lnTo>
                <a:cubicBezTo>
                  <a:pt x="2650" y="2649"/>
                  <a:pt x="2649" y="2646"/>
                  <a:pt x="2648" y="2644"/>
                </a:cubicBezTo>
                <a:lnTo>
                  <a:pt x="2617" y="2492"/>
                </a:lnTo>
                <a:lnTo>
                  <a:pt x="2682" y="2478"/>
                </a:lnTo>
                <a:close/>
                <a:moveTo>
                  <a:pt x="2846" y="2904"/>
                </a:moveTo>
                <a:lnTo>
                  <a:pt x="2853" y="2920"/>
                </a:lnTo>
                <a:lnTo>
                  <a:pt x="2881" y="3011"/>
                </a:lnTo>
                <a:lnTo>
                  <a:pt x="2924" y="3103"/>
                </a:lnTo>
                <a:lnTo>
                  <a:pt x="2917" y="3093"/>
                </a:lnTo>
                <a:lnTo>
                  <a:pt x="2954" y="3130"/>
                </a:lnTo>
                <a:lnTo>
                  <a:pt x="2907" y="3178"/>
                </a:lnTo>
                <a:lnTo>
                  <a:pt x="2870" y="3141"/>
                </a:lnTo>
                <a:cubicBezTo>
                  <a:pt x="2867" y="3138"/>
                  <a:pt x="2865" y="3134"/>
                  <a:pt x="2863" y="3131"/>
                </a:cubicBezTo>
                <a:lnTo>
                  <a:pt x="2817" y="3031"/>
                </a:lnTo>
                <a:lnTo>
                  <a:pt x="2792" y="2948"/>
                </a:lnTo>
                <a:lnTo>
                  <a:pt x="2785" y="2932"/>
                </a:lnTo>
                <a:lnTo>
                  <a:pt x="2846" y="2904"/>
                </a:lnTo>
                <a:close/>
                <a:moveTo>
                  <a:pt x="2982" y="2983"/>
                </a:moveTo>
                <a:lnTo>
                  <a:pt x="3002" y="2900"/>
                </a:lnTo>
                <a:lnTo>
                  <a:pt x="3028" y="2723"/>
                </a:lnTo>
                <a:lnTo>
                  <a:pt x="3094" y="2733"/>
                </a:lnTo>
                <a:lnTo>
                  <a:pt x="3067" y="2915"/>
                </a:lnTo>
                <a:lnTo>
                  <a:pt x="3047" y="2999"/>
                </a:lnTo>
                <a:lnTo>
                  <a:pt x="2982" y="2983"/>
                </a:lnTo>
                <a:close/>
                <a:moveTo>
                  <a:pt x="3051" y="2528"/>
                </a:moveTo>
                <a:lnTo>
                  <a:pt x="3068" y="2262"/>
                </a:lnTo>
                <a:lnTo>
                  <a:pt x="3134" y="2266"/>
                </a:lnTo>
                <a:lnTo>
                  <a:pt x="3117" y="2532"/>
                </a:lnTo>
                <a:lnTo>
                  <a:pt x="3051" y="2528"/>
                </a:lnTo>
                <a:close/>
                <a:moveTo>
                  <a:pt x="3086" y="2061"/>
                </a:moveTo>
                <a:lnTo>
                  <a:pt x="3115" y="1796"/>
                </a:lnTo>
                <a:lnTo>
                  <a:pt x="3181" y="1803"/>
                </a:lnTo>
                <a:lnTo>
                  <a:pt x="3152" y="2068"/>
                </a:lnTo>
                <a:lnTo>
                  <a:pt x="3086" y="2061"/>
                </a:lnTo>
                <a:close/>
                <a:moveTo>
                  <a:pt x="3140" y="1597"/>
                </a:moveTo>
                <a:lnTo>
                  <a:pt x="3161" y="1437"/>
                </a:lnTo>
                <a:lnTo>
                  <a:pt x="3185" y="1331"/>
                </a:lnTo>
                <a:lnTo>
                  <a:pt x="3250" y="1346"/>
                </a:lnTo>
                <a:lnTo>
                  <a:pt x="3227" y="1445"/>
                </a:lnTo>
                <a:lnTo>
                  <a:pt x="3206" y="1605"/>
                </a:lnTo>
                <a:lnTo>
                  <a:pt x="3140" y="1597"/>
                </a:lnTo>
                <a:close/>
                <a:moveTo>
                  <a:pt x="3324" y="1157"/>
                </a:moveTo>
                <a:lnTo>
                  <a:pt x="3342" y="1252"/>
                </a:lnTo>
                <a:lnTo>
                  <a:pt x="3385" y="1414"/>
                </a:lnTo>
                <a:lnTo>
                  <a:pt x="3320" y="1431"/>
                </a:lnTo>
                <a:lnTo>
                  <a:pt x="3276" y="1264"/>
                </a:lnTo>
                <a:lnTo>
                  <a:pt x="3259" y="1169"/>
                </a:lnTo>
                <a:lnTo>
                  <a:pt x="3324" y="1157"/>
                </a:lnTo>
                <a:close/>
                <a:moveTo>
                  <a:pt x="3425" y="1612"/>
                </a:moveTo>
                <a:lnTo>
                  <a:pt x="3439" y="1688"/>
                </a:lnTo>
                <a:lnTo>
                  <a:pt x="3479" y="1872"/>
                </a:lnTo>
                <a:lnTo>
                  <a:pt x="3414" y="1886"/>
                </a:lnTo>
                <a:lnTo>
                  <a:pt x="3373" y="1700"/>
                </a:lnTo>
                <a:lnTo>
                  <a:pt x="3359" y="1624"/>
                </a:lnTo>
                <a:lnTo>
                  <a:pt x="3425" y="1612"/>
                </a:lnTo>
                <a:close/>
                <a:moveTo>
                  <a:pt x="3495" y="2040"/>
                </a:moveTo>
                <a:lnTo>
                  <a:pt x="3537" y="1973"/>
                </a:lnTo>
                <a:lnTo>
                  <a:pt x="3588" y="1863"/>
                </a:lnTo>
                <a:lnTo>
                  <a:pt x="3605" y="1808"/>
                </a:lnTo>
                <a:lnTo>
                  <a:pt x="3669" y="1828"/>
                </a:lnTo>
                <a:lnTo>
                  <a:pt x="3649" y="1891"/>
                </a:lnTo>
                <a:lnTo>
                  <a:pt x="3593" y="2009"/>
                </a:lnTo>
                <a:lnTo>
                  <a:pt x="3551" y="2075"/>
                </a:lnTo>
                <a:lnTo>
                  <a:pt x="3495" y="2040"/>
                </a:lnTo>
                <a:close/>
                <a:moveTo>
                  <a:pt x="3684" y="1615"/>
                </a:moveTo>
                <a:lnTo>
                  <a:pt x="3723" y="1554"/>
                </a:lnTo>
                <a:cubicBezTo>
                  <a:pt x="3728" y="1545"/>
                  <a:pt x="3737" y="1540"/>
                  <a:pt x="3747" y="1539"/>
                </a:cubicBezTo>
                <a:cubicBezTo>
                  <a:pt x="3757" y="1538"/>
                  <a:pt x="3767" y="1541"/>
                  <a:pt x="3774" y="1548"/>
                </a:cubicBezTo>
                <a:lnTo>
                  <a:pt x="3801" y="1574"/>
                </a:lnTo>
                <a:cubicBezTo>
                  <a:pt x="3805" y="1578"/>
                  <a:pt x="3808" y="1583"/>
                  <a:pt x="3809" y="1588"/>
                </a:cubicBezTo>
                <a:lnTo>
                  <a:pt x="3854" y="1728"/>
                </a:lnTo>
                <a:lnTo>
                  <a:pt x="3857" y="1740"/>
                </a:lnTo>
                <a:lnTo>
                  <a:pt x="3792" y="1756"/>
                </a:lnTo>
                <a:lnTo>
                  <a:pt x="3790" y="1748"/>
                </a:lnTo>
                <a:lnTo>
                  <a:pt x="3746" y="1608"/>
                </a:lnTo>
                <a:lnTo>
                  <a:pt x="3754" y="1622"/>
                </a:lnTo>
                <a:lnTo>
                  <a:pt x="3728" y="1596"/>
                </a:lnTo>
                <a:lnTo>
                  <a:pt x="3779" y="1590"/>
                </a:lnTo>
                <a:lnTo>
                  <a:pt x="3740" y="1651"/>
                </a:lnTo>
                <a:lnTo>
                  <a:pt x="3684" y="1615"/>
                </a:lnTo>
                <a:close/>
                <a:moveTo>
                  <a:pt x="3906" y="1933"/>
                </a:moveTo>
                <a:lnTo>
                  <a:pt x="3907" y="1939"/>
                </a:lnTo>
                <a:lnTo>
                  <a:pt x="3946" y="2200"/>
                </a:lnTo>
                <a:lnTo>
                  <a:pt x="3880" y="2210"/>
                </a:lnTo>
                <a:lnTo>
                  <a:pt x="3842" y="1955"/>
                </a:lnTo>
                <a:lnTo>
                  <a:pt x="3841" y="1950"/>
                </a:lnTo>
                <a:lnTo>
                  <a:pt x="3906" y="1933"/>
                </a:lnTo>
                <a:close/>
                <a:moveTo>
                  <a:pt x="3973" y="2399"/>
                </a:moveTo>
                <a:lnTo>
                  <a:pt x="3996" y="2580"/>
                </a:lnTo>
                <a:lnTo>
                  <a:pt x="4004" y="2665"/>
                </a:lnTo>
                <a:lnTo>
                  <a:pt x="3937" y="2671"/>
                </a:lnTo>
                <a:lnTo>
                  <a:pt x="3930" y="2589"/>
                </a:lnTo>
                <a:lnTo>
                  <a:pt x="3907" y="2408"/>
                </a:lnTo>
                <a:lnTo>
                  <a:pt x="3973" y="2399"/>
                </a:lnTo>
                <a:close/>
                <a:moveTo>
                  <a:pt x="4021" y="2865"/>
                </a:moveTo>
                <a:lnTo>
                  <a:pt x="4023" y="2887"/>
                </a:lnTo>
                <a:lnTo>
                  <a:pt x="4022" y="2882"/>
                </a:lnTo>
                <a:lnTo>
                  <a:pt x="4066" y="3065"/>
                </a:lnTo>
                <a:lnTo>
                  <a:pt x="4034" y="3040"/>
                </a:lnTo>
                <a:lnTo>
                  <a:pt x="4078" y="3040"/>
                </a:lnTo>
                <a:lnTo>
                  <a:pt x="4046" y="3066"/>
                </a:lnTo>
                <a:lnTo>
                  <a:pt x="4048" y="3055"/>
                </a:lnTo>
                <a:lnTo>
                  <a:pt x="4113" y="3069"/>
                </a:lnTo>
                <a:lnTo>
                  <a:pt x="4111" y="3081"/>
                </a:lnTo>
                <a:cubicBezTo>
                  <a:pt x="4107" y="3096"/>
                  <a:pt x="4094" y="3107"/>
                  <a:pt x="4078" y="3107"/>
                </a:cubicBezTo>
                <a:lnTo>
                  <a:pt x="4034" y="3107"/>
                </a:lnTo>
                <a:cubicBezTo>
                  <a:pt x="4019" y="3107"/>
                  <a:pt x="4005" y="3096"/>
                  <a:pt x="4002" y="3081"/>
                </a:cubicBezTo>
                <a:lnTo>
                  <a:pt x="3957" y="2898"/>
                </a:lnTo>
                <a:cubicBezTo>
                  <a:pt x="3957" y="2896"/>
                  <a:pt x="3957" y="2894"/>
                  <a:pt x="3957" y="2893"/>
                </a:cubicBezTo>
                <a:lnTo>
                  <a:pt x="3955" y="2870"/>
                </a:lnTo>
                <a:lnTo>
                  <a:pt x="4021" y="2865"/>
                </a:lnTo>
                <a:close/>
                <a:moveTo>
                  <a:pt x="4092" y="2860"/>
                </a:moveTo>
                <a:lnTo>
                  <a:pt x="4099" y="2830"/>
                </a:lnTo>
                <a:lnTo>
                  <a:pt x="4121" y="2599"/>
                </a:lnTo>
                <a:lnTo>
                  <a:pt x="4187" y="2605"/>
                </a:lnTo>
                <a:lnTo>
                  <a:pt x="4164" y="2845"/>
                </a:lnTo>
                <a:lnTo>
                  <a:pt x="4157" y="2874"/>
                </a:lnTo>
                <a:lnTo>
                  <a:pt x="4092" y="2860"/>
                </a:lnTo>
                <a:close/>
                <a:moveTo>
                  <a:pt x="4140" y="2400"/>
                </a:moveTo>
                <a:lnTo>
                  <a:pt x="4142" y="2380"/>
                </a:lnTo>
                <a:lnTo>
                  <a:pt x="4160" y="2135"/>
                </a:lnTo>
                <a:lnTo>
                  <a:pt x="4226" y="2140"/>
                </a:lnTo>
                <a:lnTo>
                  <a:pt x="4209" y="2387"/>
                </a:lnTo>
                <a:lnTo>
                  <a:pt x="4207" y="2406"/>
                </a:lnTo>
                <a:lnTo>
                  <a:pt x="4140" y="2400"/>
                </a:lnTo>
                <a:close/>
                <a:moveTo>
                  <a:pt x="4174" y="1935"/>
                </a:moveTo>
                <a:lnTo>
                  <a:pt x="4186" y="1753"/>
                </a:lnTo>
                <a:lnTo>
                  <a:pt x="4190" y="1670"/>
                </a:lnTo>
                <a:lnTo>
                  <a:pt x="4256" y="1673"/>
                </a:lnTo>
                <a:lnTo>
                  <a:pt x="4253" y="1757"/>
                </a:lnTo>
                <a:lnTo>
                  <a:pt x="4240" y="1940"/>
                </a:lnTo>
                <a:lnTo>
                  <a:pt x="4174" y="1935"/>
                </a:lnTo>
                <a:close/>
                <a:moveTo>
                  <a:pt x="4198" y="1470"/>
                </a:moveTo>
                <a:lnTo>
                  <a:pt x="4208" y="1204"/>
                </a:lnTo>
                <a:lnTo>
                  <a:pt x="4275" y="1207"/>
                </a:lnTo>
                <a:lnTo>
                  <a:pt x="4264" y="1473"/>
                </a:lnTo>
                <a:lnTo>
                  <a:pt x="4198" y="1470"/>
                </a:lnTo>
                <a:close/>
                <a:moveTo>
                  <a:pt x="4219" y="1003"/>
                </a:moveTo>
                <a:lnTo>
                  <a:pt x="4239" y="737"/>
                </a:lnTo>
                <a:lnTo>
                  <a:pt x="4306" y="742"/>
                </a:lnTo>
                <a:lnTo>
                  <a:pt x="4286" y="1008"/>
                </a:lnTo>
                <a:lnTo>
                  <a:pt x="4219" y="1003"/>
                </a:lnTo>
                <a:close/>
                <a:moveTo>
                  <a:pt x="4254" y="538"/>
                </a:moveTo>
                <a:lnTo>
                  <a:pt x="4257" y="496"/>
                </a:lnTo>
                <a:lnTo>
                  <a:pt x="4284" y="271"/>
                </a:lnTo>
                <a:lnTo>
                  <a:pt x="4350" y="279"/>
                </a:lnTo>
                <a:lnTo>
                  <a:pt x="4324" y="501"/>
                </a:lnTo>
                <a:lnTo>
                  <a:pt x="4320" y="543"/>
                </a:lnTo>
                <a:lnTo>
                  <a:pt x="4254" y="538"/>
                </a:lnTo>
                <a:close/>
                <a:moveTo>
                  <a:pt x="4330" y="66"/>
                </a:moveTo>
                <a:lnTo>
                  <a:pt x="4359" y="18"/>
                </a:lnTo>
                <a:cubicBezTo>
                  <a:pt x="4366" y="6"/>
                  <a:pt x="4380" y="0"/>
                  <a:pt x="4393" y="3"/>
                </a:cubicBezTo>
                <a:cubicBezTo>
                  <a:pt x="4407" y="5"/>
                  <a:pt x="4417" y="15"/>
                  <a:pt x="4420" y="29"/>
                </a:cubicBezTo>
                <a:lnTo>
                  <a:pt x="4464" y="235"/>
                </a:lnTo>
                <a:lnTo>
                  <a:pt x="4399" y="249"/>
                </a:lnTo>
                <a:lnTo>
                  <a:pt x="4355" y="42"/>
                </a:lnTo>
                <a:lnTo>
                  <a:pt x="4416" y="53"/>
                </a:lnTo>
                <a:lnTo>
                  <a:pt x="4387" y="100"/>
                </a:lnTo>
                <a:lnTo>
                  <a:pt x="4330" y="66"/>
                </a:lnTo>
                <a:close/>
                <a:moveTo>
                  <a:pt x="4472" y="441"/>
                </a:moveTo>
                <a:lnTo>
                  <a:pt x="4482" y="707"/>
                </a:lnTo>
                <a:lnTo>
                  <a:pt x="4416" y="709"/>
                </a:lnTo>
                <a:lnTo>
                  <a:pt x="4406" y="443"/>
                </a:lnTo>
                <a:lnTo>
                  <a:pt x="4472" y="441"/>
                </a:lnTo>
                <a:close/>
                <a:moveTo>
                  <a:pt x="4498" y="905"/>
                </a:moveTo>
                <a:lnTo>
                  <a:pt x="4521" y="1170"/>
                </a:lnTo>
                <a:lnTo>
                  <a:pt x="4455" y="1176"/>
                </a:lnTo>
                <a:lnTo>
                  <a:pt x="4432" y="910"/>
                </a:lnTo>
                <a:lnTo>
                  <a:pt x="4498" y="905"/>
                </a:lnTo>
                <a:close/>
                <a:moveTo>
                  <a:pt x="4538" y="1370"/>
                </a:moveTo>
                <a:lnTo>
                  <a:pt x="4556" y="1636"/>
                </a:lnTo>
                <a:lnTo>
                  <a:pt x="4489" y="1641"/>
                </a:lnTo>
                <a:lnTo>
                  <a:pt x="4471" y="1375"/>
                </a:lnTo>
                <a:lnTo>
                  <a:pt x="4538" y="1370"/>
                </a:lnTo>
                <a:close/>
                <a:moveTo>
                  <a:pt x="4570" y="1836"/>
                </a:moveTo>
                <a:lnTo>
                  <a:pt x="4580" y="1989"/>
                </a:lnTo>
                <a:lnTo>
                  <a:pt x="4590" y="2101"/>
                </a:lnTo>
                <a:lnTo>
                  <a:pt x="4523" y="2107"/>
                </a:lnTo>
                <a:lnTo>
                  <a:pt x="4514" y="1993"/>
                </a:lnTo>
                <a:lnTo>
                  <a:pt x="4503" y="1840"/>
                </a:lnTo>
                <a:lnTo>
                  <a:pt x="4570" y="1836"/>
                </a:lnTo>
                <a:close/>
                <a:moveTo>
                  <a:pt x="4606" y="2301"/>
                </a:moveTo>
                <a:lnTo>
                  <a:pt x="4624" y="2512"/>
                </a:lnTo>
                <a:lnTo>
                  <a:pt x="4631" y="2565"/>
                </a:lnTo>
                <a:lnTo>
                  <a:pt x="4564" y="2573"/>
                </a:lnTo>
                <a:lnTo>
                  <a:pt x="4558" y="2517"/>
                </a:lnTo>
                <a:lnTo>
                  <a:pt x="4540" y="2306"/>
                </a:lnTo>
                <a:lnTo>
                  <a:pt x="4606" y="2301"/>
                </a:lnTo>
                <a:close/>
                <a:moveTo>
                  <a:pt x="4654" y="2764"/>
                </a:moveTo>
                <a:lnTo>
                  <a:pt x="4668" y="2886"/>
                </a:lnTo>
                <a:lnTo>
                  <a:pt x="4694" y="3014"/>
                </a:lnTo>
                <a:lnTo>
                  <a:pt x="4650" y="2990"/>
                </a:lnTo>
                <a:lnTo>
                  <a:pt x="4659" y="2986"/>
                </a:lnTo>
                <a:lnTo>
                  <a:pt x="4683" y="3048"/>
                </a:lnTo>
                <a:lnTo>
                  <a:pt x="4674" y="3052"/>
                </a:lnTo>
                <a:cubicBezTo>
                  <a:pt x="4665" y="3056"/>
                  <a:pt x="4655" y="3055"/>
                  <a:pt x="4646" y="3050"/>
                </a:cubicBezTo>
                <a:cubicBezTo>
                  <a:pt x="4637" y="3045"/>
                  <a:pt x="4631" y="3037"/>
                  <a:pt x="4629" y="3027"/>
                </a:cubicBezTo>
                <a:lnTo>
                  <a:pt x="4602" y="2894"/>
                </a:lnTo>
                <a:lnTo>
                  <a:pt x="4588" y="2771"/>
                </a:lnTo>
                <a:lnTo>
                  <a:pt x="4654" y="2764"/>
                </a:lnTo>
                <a:close/>
                <a:moveTo>
                  <a:pt x="4736" y="2846"/>
                </a:moveTo>
                <a:lnTo>
                  <a:pt x="4771" y="2715"/>
                </a:lnTo>
                <a:lnTo>
                  <a:pt x="4816" y="2599"/>
                </a:lnTo>
                <a:cubicBezTo>
                  <a:pt x="4818" y="2594"/>
                  <a:pt x="4821" y="2590"/>
                  <a:pt x="4824" y="2587"/>
                </a:cubicBezTo>
                <a:lnTo>
                  <a:pt x="4831" y="2580"/>
                </a:lnTo>
                <a:lnTo>
                  <a:pt x="4878" y="2627"/>
                </a:lnTo>
                <a:lnTo>
                  <a:pt x="4871" y="2634"/>
                </a:lnTo>
                <a:lnTo>
                  <a:pt x="4878" y="2623"/>
                </a:lnTo>
                <a:lnTo>
                  <a:pt x="4835" y="2733"/>
                </a:lnTo>
                <a:lnTo>
                  <a:pt x="4801" y="2863"/>
                </a:lnTo>
                <a:lnTo>
                  <a:pt x="4736" y="2846"/>
                </a:lnTo>
                <a:close/>
                <a:moveTo>
                  <a:pt x="4996" y="2672"/>
                </a:moveTo>
                <a:lnTo>
                  <a:pt x="5044" y="2750"/>
                </a:lnTo>
                <a:lnTo>
                  <a:pt x="5088" y="2820"/>
                </a:lnTo>
                <a:lnTo>
                  <a:pt x="5060" y="2804"/>
                </a:lnTo>
                <a:lnTo>
                  <a:pt x="5104" y="2804"/>
                </a:lnTo>
                <a:lnTo>
                  <a:pt x="5075" y="2820"/>
                </a:lnTo>
                <a:lnTo>
                  <a:pt x="5100" y="2779"/>
                </a:lnTo>
                <a:lnTo>
                  <a:pt x="5157" y="2814"/>
                </a:lnTo>
                <a:lnTo>
                  <a:pt x="5132" y="2855"/>
                </a:lnTo>
                <a:cubicBezTo>
                  <a:pt x="5126" y="2865"/>
                  <a:pt x="5115" y="2871"/>
                  <a:pt x="5104" y="2871"/>
                </a:cubicBezTo>
                <a:lnTo>
                  <a:pt x="5060" y="2871"/>
                </a:lnTo>
                <a:cubicBezTo>
                  <a:pt x="5048" y="2871"/>
                  <a:pt x="5038" y="2865"/>
                  <a:pt x="5031" y="2855"/>
                </a:cubicBezTo>
                <a:lnTo>
                  <a:pt x="4987" y="2785"/>
                </a:lnTo>
                <a:lnTo>
                  <a:pt x="4939" y="2707"/>
                </a:lnTo>
                <a:lnTo>
                  <a:pt x="4996" y="2672"/>
                </a:lnTo>
                <a:close/>
                <a:moveTo>
                  <a:pt x="5177" y="2601"/>
                </a:moveTo>
                <a:lnTo>
                  <a:pt x="5188" y="2572"/>
                </a:lnTo>
                <a:cubicBezTo>
                  <a:pt x="5188" y="2571"/>
                  <a:pt x="5189" y="2569"/>
                  <a:pt x="5190" y="2567"/>
                </a:cubicBezTo>
                <a:lnTo>
                  <a:pt x="5243" y="2480"/>
                </a:lnTo>
                <a:cubicBezTo>
                  <a:pt x="5246" y="2475"/>
                  <a:pt x="5250" y="2471"/>
                  <a:pt x="5255" y="2468"/>
                </a:cubicBezTo>
                <a:lnTo>
                  <a:pt x="5299" y="2442"/>
                </a:lnTo>
                <a:cubicBezTo>
                  <a:pt x="5308" y="2437"/>
                  <a:pt x="5319" y="2436"/>
                  <a:pt x="5329" y="2440"/>
                </a:cubicBezTo>
                <a:cubicBezTo>
                  <a:pt x="5339" y="2444"/>
                  <a:pt x="5346" y="2453"/>
                  <a:pt x="5348" y="2463"/>
                </a:cubicBezTo>
                <a:lnTo>
                  <a:pt x="5366" y="2533"/>
                </a:lnTo>
                <a:lnTo>
                  <a:pt x="5369" y="2540"/>
                </a:lnTo>
                <a:lnTo>
                  <a:pt x="5306" y="2562"/>
                </a:lnTo>
                <a:lnTo>
                  <a:pt x="5301" y="2549"/>
                </a:lnTo>
                <a:lnTo>
                  <a:pt x="5284" y="2479"/>
                </a:lnTo>
                <a:lnTo>
                  <a:pt x="5333" y="2500"/>
                </a:lnTo>
                <a:lnTo>
                  <a:pt x="5289" y="2526"/>
                </a:lnTo>
                <a:lnTo>
                  <a:pt x="5300" y="2514"/>
                </a:lnTo>
                <a:lnTo>
                  <a:pt x="5247" y="2602"/>
                </a:lnTo>
                <a:lnTo>
                  <a:pt x="5250" y="2597"/>
                </a:lnTo>
                <a:lnTo>
                  <a:pt x="5239" y="2625"/>
                </a:lnTo>
                <a:lnTo>
                  <a:pt x="5177" y="2601"/>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5549760" y="3716280"/>
            <a:ext cx="671760" cy="581040"/>
          </a:xfrm>
          <a:custGeom>
            <a:avLst/>
            <a:gdLst/>
            <a:ahLst/>
            <a:rect l="l" t="t" r="r" b="b"/>
            <a:pathLst>
              <a:path w="3208" h="2762">
                <a:moveTo>
                  <a:pt x="66" y="1708"/>
                </a:moveTo>
                <a:lnTo>
                  <a:pt x="110" y="1961"/>
                </a:lnTo>
                <a:lnTo>
                  <a:pt x="111" y="1971"/>
                </a:lnTo>
                <a:lnTo>
                  <a:pt x="45" y="1981"/>
                </a:lnTo>
                <a:lnTo>
                  <a:pt x="44" y="1972"/>
                </a:lnTo>
                <a:lnTo>
                  <a:pt x="0" y="1719"/>
                </a:lnTo>
                <a:lnTo>
                  <a:pt x="66" y="1708"/>
                </a:lnTo>
                <a:close/>
                <a:moveTo>
                  <a:pt x="140" y="2169"/>
                </a:moveTo>
                <a:lnTo>
                  <a:pt x="154" y="2268"/>
                </a:lnTo>
                <a:lnTo>
                  <a:pt x="186" y="2430"/>
                </a:lnTo>
                <a:lnTo>
                  <a:pt x="120" y="2443"/>
                </a:lnTo>
                <a:lnTo>
                  <a:pt x="88" y="2277"/>
                </a:lnTo>
                <a:lnTo>
                  <a:pt x="74" y="2179"/>
                </a:lnTo>
                <a:lnTo>
                  <a:pt x="140" y="2169"/>
                </a:lnTo>
                <a:close/>
                <a:moveTo>
                  <a:pt x="230" y="2623"/>
                </a:moveTo>
                <a:lnTo>
                  <a:pt x="250" y="2700"/>
                </a:lnTo>
                <a:lnTo>
                  <a:pt x="241" y="2685"/>
                </a:lnTo>
                <a:lnTo>
                  <a:pt x="259" y="2703"/>
                </a:lnTo>
                <a:lnTo>
                  <a:pt x="204" y="2716"/>
                </a:lnTo>
                <a:lnTo>
                  <a:pt x="256" y="2562"/>
                </a:lnTo>
                <a:lnTo>
                  <a:pt x="319" y="2584"/>
                </a:lnTo>
                <a:lnTo>
                  <a:pt x="267" y="2737"/>
                </a:lnTo>
                <a:cubicBezTo>
                  <a:pt x="264" y="2748"/>
                  <a:pt x="255" y="2756"/>
                  <a:pt x="243" y="2759"/>
                </a:cubicBezTo>
                <a:cubicBezTo>
                  <a:pt x="232" y="2762"/>
                  <a:pt x="220" y="2758"/>
                  <a:pt x="212" y="2750"/>
                </a:cubicBezTo>
                <a:lnTo>
                  <a:pt x="195" y="2733"/>
                </a:lnTo>
                <a:cubicBezTo>
                  <a:pt x="190" y="2729"/>
                  <a:pt x="187" y="2723"/>
                  <a:pt x="186" y="2718"/>
                </a:cubicBezTo>
                <a:lnTo>
                  <a:pt x="165" y="2640"/>
                </a:lnTo>
                <a:lnTo>
                  <a:pt x="230" y="2623"/>
                </a:lnTo>
                <a:close/>
                <a:moveTo>
                  <a:pt x="282" y="2371"/>
                </a:moveTo>
                <a:lnTo>
                  <a:pt x="300" y="2242"/>
                </a:lnTo>
                <a:lnTo>
                  <a:pt x="313" y="2107"/>
                </a:lnTo>
                <a:lnTo>
                  <a:pt x="380" y="2114"/>
                </a:lnTo>
                <a:lnTo>
                  <a:pt x="366" y="2251"/>
                </a:lnTo>
                <a:lnTo>
                  <a:pt x="348" y="2380"/>
                </a:lnTo>
                <a:lnTo>
                  <a:pt x="282" y="2371"/>
                </a:lnTo>
                <a:close/>
                <a:moveTo>
                  <a:pt x="333" y="1908"/>
                </a:moveTo>
                <a:lnTo>
                  <a:pt x="344" y="1806"/>
                </a:lnTo>
                <a:lnTo>
                  <a:pt x="365" y="1642"/>
                </a:lnTo>
                <a:lnTo>
                  <a:pt x="431" y="1651"/>
                </a:lnTo>
                <a:lnTo>
                  <a:pt x="410" y="1813"/>
                </a:lnTo>
                <a:lnTo>
                  <a:pt x="400" y="1915"/>
                </a:lnTo>
                <a:lnTo>
                  <a:pt x="333" y="1908"/>
                </a:lnTo>
                <a:close/>
                <a:moveTo>
                  <a:pt x="390" y="1444"/>
                </a:moveTo>
                <a:lnTo>
                  <a:pt x="397" y="1395"/>
                </a:lnTo>
                <a:lnTo>
                  <a:pt x="408" y="1180"/>
                </a:lnTo>
                <a:lnTo>
                  <a:pt x="475" y="1184"/>
                </a:lnTo>
                <a:lnTo>
                  <a:pt x="463" y="1403"/>
                </a:lnTo>
                <a:lnTo>
                  <a:pt x="456" y="1452"/>
                </a:lnTo>
                <a:lnTo>
                  <a:pt x="390" y="1444"/>
                </a:lnTo>
                <a:close/>
                <a:moveTo>
                  <a:pt x="444" y="977"/>
                </a:moveTo>
                <a:lnTo>
                  <a:pt x="460" y="926"/>
                </a:lnTo>
                <a:cubicBezTo>
                  <a:pt x="463" y="916"/>
                  <a:pt x="471" y="907"/>
                  <a:pt x="482" y="904"/>
                </a:cubicBezTo>
                <a:cubicBezTo>
                  <a:pt x="493" y="901"/>
                  <a:pt x="504" y="904"/>
                  <a:pt x="513" y="911"/>
                </a:cubicBezTo>
                <a:lnTo>
                  <a:pt x="566" y="954"/>
                </a:lnTo>
                <a:cubicBezTo>
                  <a:pt x="571" y="959"/>
                  <a:pt x="575" y="966"/>
                  <a:pt x="577" y="973"/>
                </a:cubicBezTo>
                <a:lnTo>
                  <a:pt x="607" y="1115"/>
                </a:lnTo>
                <a:lnTo>
                  <a:pt x="542" y="1129"/>
                </a:lnTo>
                <a:lnTo>
                  <a:pt x="512" y="987"/>
                </a:lnTo>
                <a:lnTo>
                  <a:pt x="523" y="1006"/>
                </a:lnTo>
                <a:lnTo>
                  <a:pt x="470" y="962"/>
                </a:lnTo>
                <a:lnTo>
                  <a:pt x="523" y="946"/>
                </a:lnTo>
                <a:lnTo>
                  <a:pt x="507" y="997"/>
                </a:lnTo>
                <a:lnTo>
                  <a:pt x="444" y="977"/>
                </a:lnTo>
                <a:close/>
                <a:moveTo>
                  <a:pt x="644" y="1313"/>
                </a:moveTo>
                <a:lnTo>
                  <a:pt x="665" y="1437"/>
                </a:lnTo>
                <a:lnTo>
                  <a:pt x="680" y="1579"/>
                </a:lnTo>
                <a:lnTo>
                  <a:pt x="614" y="1586"/>
                </a:lnTo>
                <a:lnTo>
                  <a:pt x="600" y="1448"/>
                </a:lnTo>
                <a:lnTo>
                  <a:pt x="578" y="1324"/>
                </a:lnTo>
                <a:lnTo>
                  <a:pt x="644" y="1313"/>
                </a:lnTo>
                <a:close/>
                <a:moveTo>
                  <a:pt x="727" y="1758"/>
                </a:moveTo>
                <a:lnTo>
                  <a:pt x="733" y="1768"/>
                </a:lnTo>
                <a:lnTo>
                  <a:pt x="673" y="1768"/>
                </a:lnTo>
                <a:lnTo>
                  <a:pt x="717" y="1681"/>
                </a:lnTo>
                <a:lnTo>
                  <a:pt x="714" y="1690"/>
                </a:lnTo>
                <a:lnTo>
                  <a:pt x="744" y="1536"/>
                </a:lnTo>
                <a:lnTo>
                  <a:pt x="809" y="1548"/>
                </a:lnTo>
                <a:lnTo>
                  <a:pt x="780" y="1702"/>
                </a:lnTo>
                <a:cubicBezTo>
                  <a:pt x="779" y="1705"/>
                  <a:pt x="778" y="1708"/>
                  <a:pt x="777" y="1711"/>
                </a:cubicBezTo>
                <a:lnTo>
                  <a:pt x="733" y="1798"/>
                </a:lnTo>
                <a:cubicBezTo>
                  <a:pt x="727" y="1810"/>
                  <a:pt x="716" y="1817"/>
                  <a:pt x="703" y="1817"/>
                </a:cubicBezTo>
                <a:cubicBezTo>
                  <a:pt x="691" y="1817"/>
                  <a:pt x="679" y="1810"/>
                  <a:pt x="673" y="1798"/>
                </a:cubicBezTo>
                <a:lnTo>
                  <a:pt x="668" y="1788"/>
                </a:lnTo>
                <a:lnTo>
                  <a:pt x="727" y="1758"/>
                </a:lnTo>
                <a:close/>
                <a:moveTo>
                  <a:pt x="775" y="1341"/>
                </a:moveTo>
                <a:lnTo>
                  <a:pt x="805" y="1076"/>
                </a:lnTo>
                <a:lnTo>
                  <a:pt x="871" y="1083"/>
                </a:lnTo>
                <a:lnTo>
                  <a:pt x="841" y="1348"/>
                </a:lnTo>
                <a:lnTo>
                  <a:pt x="775" y="1341"/>
                </a:lnTo>
                <a:close/>
                <a:moveTo>
                  <a:pt x="825" y="877"/>
                </a:moveTo>
                <a:lnTo>
                  <a:pt x="852" y="612"/>
                </a:lnTo>
                <a:lnTo>
                  <a:pt x="919" y="619"/>
                </a:lnTo>
                <a:lnTo>
                  <a:pt x="892" y="884"/>
                </a:lnTo>
                <a:lnTo>
                  <a:pt x="825" y="877"/>
                </a:lnTo>
                <a:close/>
                <a:moveTo>
                  <a:pt x="868" y="413"/>
                </a:moveTo>
                <a:lnTo>
                  <a:pt x="882" y="244"/>
                </a:lnTo>
                <a:lnTo>
                  <a:pt x="902" y="145"/>
                </a:lnTo>
                <a:lnTo>
                  <a:pt x="967" y="159"/>
                </a:lnTo>
                <a:lnTo>
                  <a:pt x="948" y="249"/>
                </a:lnTo>
                <a:lnTo>
                  <a:pt x="935" y="419"/>
                </a:lnTo>
                <a:lnTo>
                  <a:pt x="868" y="413"/>
                </a:lnTo>
                <a:close/>
                <a:moveTo>
                  <a:pt x="1041" y="0"/>
                </a:moveTo>
                <a:lnTo>
                  <a:pt x="1087" y="121"/>
                </a:lnTo>
                <a:cubicBezTo>
                  <a:pt x="1088" y="123"/>
                  <a:pt x="1088" y="125"/>
                  <a:pt x="1089" y="127"/>
                </a:cubicBezTo>
                <a:lnTo>
                  <a:pt x="1115" y="262"/>
                </a:lnTo>
                <a:lnTo>
                  <a:pt x="1049" y="274"/>
                </a:lnTo>
                <a:lnTo>
                  <a:pt x="1023" y="139"/>
                </a:lnTo>
                <a:lnTo>
                  <a:pt x="1025" y="145"/>
                </a:lnTo>
                <a:lnTo>
                  <a:pt x="979" y="24"/>
                </a:lnTo>
                <a:lnTo>
                  <a:pt x="1041" y="0"/>
                </a:lnTo>
                <a:close/>
                <a:moveTo>
                  <a:pt x="1141" y="464"/>
                </a:moveTo>
                <a:lnTo>
                  <a:pt x="1151" y="611"/>
                </a:lnTo>
                <a:lnTo>
                  <a:pt x="1150" y="606"/>
                </a:lnTo>
                <a:lnTo>
                  <a:pt x="1177" y="722"/>
                </a:lnTo>
                <a:lnTo>
                  <a:pt x="1112" y="737"/>
                </a:lnTo>
                <a:lnTo>
                  <a:pt x="1085" y="621"/>
                </a:lnTo>
                <a:cubicBezTo>
                  <a:pt x="1085" y="619"/>
                  <a:pt x="1084" y="617"/>
                  <a:pt x="1084" y="615"/>
                </a:cubicBezTo>
                <a:lnTo>
                  <a:pt x="1074" y="468"/>
                </a:lnTo>
                <a:lnTo>
                  <a:pt x="1141" y="464"/>
                </a:lnTo>
                <a:close/>
                <a:moveTo>
                  <a:pt x="1223" y="916"/>
                </a:moveTo>
                <a:lnTo>
                  <a:pt x="1247" y="1016"/>
                </a:lnTo>
                <a:lnTo>
                  <a:pt x="1245" y="1010"/>
                </a:lnTo>
                <a:lnTo>
                  <a:pt x="1289" y="1106"/>
                </a:lnTo>
                <a:lnTo>
                  <a:pt x="1280" y="1094"/>
                </a:lnTo>
                <a:lnTo>
                  <a:pt x="1325" y="1131"/>
                </a:lnTo>
                <a:lnTo>
                  <a:pt x="1283" y="1183"/>
                </a:lnTo>
                <a:lnTo>
                  <a:pt x="1237" y="1145"/>
                </a:lnTo>
                <a:cubicBezTo>
                  <a:pt x="1234" y="1142"/>
                  <a:pt x="1231" y="1138"/>
                  <a:pt x="1228" y="1134"/>
                </a:cubicBezTo>
                <a:lnTo>
                  <a:pt x="1184" y="1038"/>
                </a:lnTo>
                <a:cubicBezTo>
                  <a:pt x="1183" y="1036"/>
                  <a:pt x="1183" y="1033"/>
                  <a:pt x="1182" y="1031"/>
                </a:cubicBezTo>
                <a:lnTo>
                  <a:pt x="1158" y="932"/>
                </a:lnTo>
                <a:lnTo>
                  <a:pt x="1223" y="916"/>
                </a:lnTo>
                <a:close/>
                <a:moveTo>
                  <a:pt x="1459" y="1292"/>
                </a:moveTo>
                <a:lnTo>
                  <a:pt x="1499" y="1355"/>
                </a:lnTo>
                <a:cubicBezTo>
                  <a:pt x="1500" y="1357"/>
                  <a:pt x="1501" y="1359"/>
                  <a:pt x="1501" y="1361"/>
                </a:cubicBezTo>
                <a:lnTo>
                  <a:pt x="1546" y="1474"/>
                </a:lnTo>
                <a:lnTo>
                  <a:pt x="1541" y="1466"/>
                </a:lnTo>
                <a:lnTo>
                  <a:pt x="1584" y="1523"/>
                </a:lnTo>
                <a:lnTo>
                  <a:pt x="1531" y="1563"/>
                </a:lnTo>
                <a:lnTo>
                  <a:pt x="1488" y="1507"/>
                </a:lnTo>
                <a:cubicBezTo>
                  <a:pt x="1486" y="1504"/>
                  <a:pt x="1485" y="1501"/>
                  <a:pt x="1483" y="1498"/>
                </a:cubicBezTo>
                <a:lnTo>
                  <a:pt x="1439" y="1385"/>
                </a:lnTo>
                <a:lnTo>
                  <a:pt x="1442" y="1391"/>
                </a:lnTo>
                <a:lnTo>
                  <a:pt x="1403" y="1328"/>
                </a:lnTo>
                <a:lnTo>
                  <a:pt x="1459" y="1292"/>
                </a:lnTo>
                <a:close/>
                <a:moveTo>
                  <a:pt x="1677" y="1590"/>
                </a:moveTo>
                <a:lnTo>
                  <a:pt x="1709" y="1571"/>
                </a:lnTo>
                <a:lnTo>
                  <a:pt x="1703" y="1576"/>
                </a:lnTo>
                <a:lnTo>
                  <a:pt x="1747" y="1533"/>
                </a:lnTo>
                <a:lnTo>
                  <a:pt x="1773" y="1506"/>
                </a:lnTo>
                <a:cubicBezTo>
                  <a:pt x="1776" y="1503"/>
                  <a:pt x="1780" y="1501"/>
                  <a:pt x="1784" y="1499"/>
                </a:cubicBezTo>
                <a:lnTo>
                  <a:pt x="1829" y="1482"/>
                </a:lnTo>
                <a:lnTo>
                  <a:pt x="1824" y="1484"/>
                </a:lnTo>
                <a:lnTo>
                  <a:pt x="1868" y="1458"/>
                </a:lnTo>
                <a:lnTo>
                  <a:pt x="1898" y="1443"/>
                </a:lnTo>
                <a:lnTo>
                  <a:pt x="1928" y="1502"/>
                </a:lnTo>
                <a:lnTo>
                  <a:pt x="1902" y="1515"/>
                </a:lnTo>
                <a:lnTo>
                  <a:pt x="1858" y="1541"/>
                </a:lnTo>
                <a:cubicBezTo>
                  <a:pt x="1856" y="1542"/>
                  <a:pt x="1855" y="1543"/>
                  <a:pt x="1853" y="1544"/>
                </a:cubicBezTo>
                <a:lnTo>
                  <a:pt x="1809" y="1561"/>
                </a:lnTo>
                <a:lnTo>
                  <a:pt x="1820" y="1554"/>
                </a:lnTo>
                <a:lnTo>
                  <a:pt x="1794" y="1580"/>
                </a:lnTo>
                <a:lnTo>
                  <a:pt x="1750" y="1624"/>
                </a:lnTo>
                <a:cubicBezTo>
                  <a:pt x="1748" y="1626"/>
                  <a:pt x="1745" y="1627"/>
                  <a:pt x="1743" y="1629"/>
                </a:cubicBezTo>
                <a:lnTo>
                  <a:pt x="1711" y="1648"/>
                </a:lnTo>
                <a:lnTo>
                  <a:pt x="1677" y="1590"/>
                </a:lnTo>
                <a:close/>
                <a:moveTo>
                  <a:pt x="2098" y="1383"/>
                </a:moveTo>
                <a:lnTo>
                  <a:pt x="2141" y="1383"/>
                </a:lnTo>
                <a:cubicBezTo>
                  <a:pt x="2146" y="1383"/>
                  <a:pt x="2151" y="1384"/>
                  <a:pt x="2155" y="1387"/>
                </a:cubicBezTo>
                <a:lnTo>
                  <a:pt x="2208" y="1413"/>
                </a:lnTo>
                <a:lnTo>
                  <a:pt x="2194" y="1409"/>
                </a:lnTo>
                <a:lnTo>
                  <a:pt x="2238" y="1409"/>
                </a:lnTo>
                <a:cubicBezTo>
                  <a:pt x="2246" y="1409"/>
                  <a:pt x="2255" y="1413"/>
                  <a:pt x="2261" y="1419"/>
                </a:cubicBezTo>
                <a:lnTo>
                  <a:pt x="2279" y="1437"/>
                </a:lnTo>
                <a:lnTo>
                  <a:pt x="2255" y="1427"/>
                </a:lnTo>
                <a:lnTo>
                  <a:pt x="2308" y="1427"/>
                </a:lnTo>
                <a:lnTo>
                  <a:pt x="2296" y="1429"/>
                </a:lnTo>
                <a:lnTo>
                  <a:pt x="2336" y="1413"/>
                </a:lnTo>
                <a:lnTo>
                  <a:pt x="2360" y="1475"/>
                </a:lnTo>
                <a:lnTo>
                  <a:pt x="2320" y="1491"/>
                </a:lnTo>
                <a:cubicBezTo>
                  <a:pt x="2317" y="1493"/>
                  <a:pt x="2312" y="1494"/>
                  <a:pt x="2308" y="1494"/>
                </a:cubicBezTo>
                <a:lnTo>
                  <a:pt x="2255" y="1494"/>
                </a:lnTo>
                <a:cubicBezTo>
                  <a:pt x="2247" y="1494"/>
                  <a:pt x="2238" y="1490"/>
                  <a:pt x="2232" y="1484"/>
                </a:cubicBezTo>
                <a:lnTo>
                  <a:pt x="2214" y="1466"/>
                </a:lnTo>
                <a:lnTo>
                  <a:pt x="2238" y="1476"/>
                </a:lnTo>
                <a:lnTo>
                  <a:pt x="2194" y="1476"/>
                </a:lnTo>
                <a:cubicBezTo>
                  <a:pt x="2188" y="1476"/>
                  <a:pt x="2183" y="1475"/>
                  <a:pt x="2179" y="1473"/>
                </a:cubicBezTo>
                <a:lnTo>
                  <a:pt x="2126" y="1446"/>
                </a:lnTo>
                <a:lnTo>
                  <a:pt x="2141" y="1450"/>
                </a:lnTo>
                <a:lnTo>
                  <a:pt x="2098" y="1450"/>
                </a:lnTo>
                <a:lnTo>
                  <a:pt x="2098" y="1383"/>
                </a:lnTo>
                <a:close/>
                <a:moveTo>
                  <a:pt x="2446" y="1277"/>
                </a:moveTo>
                <a:lnTo>
                  <a:pt x="2488" y="1236"/>
                </a:lnTo>
                <a:cubicBezTo>
                  <a:pt x="2490" y="1233"/>
                  <a:pt x="2493" y="1231"/>
                  <a:pt x="2496" y="1230"/>
                </a:cubicBezTo>
                <a:lnTo>
                  <a:pt x="2549" y="1203"/>
                </a:lnTo>
                <a:cubicBezTo>
                  <a:pt x="2554" y="1201"/>
                  <a:pt x="2559" y="1200"/>
                  <a:pt x="2564" y="1200"/>
                </a:cubicBezTo>
                <a:lnTo>
                  <a:pt x="2608" y="1200"/>
                </a:lnTo>
                <a:cubicBezTo>
                  <a:pt x="2614" y="1200"/>
                  <a:pt x="2620" y="1201"/>
                  <a:pt x="2625" y="1205"/>
                </a:cubicBezTo>
                <a:lnTo>
                  <a:pt x="2669" y="1231"/>
                </a:lnTo>
                <a:cubicBezTo>
                  <a:pt x="2674" y="1234"/>
                  <a:pt x="2678" y="1237"/>
                  <a:pt x="2681" y="1242"/>
                </a:cubicBezTo>
                <a:lnTo>
                  <a:pt x="2707" y="1286"/>
                </a:lnTo>
                <a:lnTo>
                  <a:pt x="2702" y="1279"/>
                </a:lnTo>
                <a:lnTo>
                  <a:pt x="2704" y="1281"/>
                </a:lnTo>
                <a:lnTo>
                  <a:pt x="2657" y="1329"/>
                </a:lnTo>
                <a:lnTo>
                  <a:pt x="2655" y="1327"/>
                </a:lnTo>
                <a:cubicBezTo>
                  <a:pt x="2653" y="1325"/>
                  <a:pt x="2652" y="1323"/>
                  <a:pt x="2650" y="1320"/>
                </a:cubicBezTo>
                <a:lnTo>
                  <a:pt x="2624" y="1277"/>
                </a:lnTo>
                <a:lnTo>
                  <a:pt x="2635" y="1288"/>
                </a:lnTo>
                <a:lnTo>
                  <a:pt x="2591" y="1262"/>
                </a:lnTo>
                <a:lnTo>
                  <a:pt x="2608" y="1267"/>
                </a:lnTo>
                <a:lnTo>
                  <a:pt x="2564" y="1267"/>
                </a:lnTo>
                <a:lnTo>
                  <a:pt x="2579" y="1263"/>
                </a:lnTo>
                <a:lnTo>
                  <a:pt x="2526" y="1289"/>
                </a:lnTo>
                <a:lnTo>
                  <a:pt x="2535" y="1283"/>
                </a:lnTo>
                <a:lnTo>
                  <a:pt x="2493" y="1324"/>
                </a:lnTo>
                <a:lnTo>
                  <a:pt x="2446" y="1277"/>
                </a:lnTo>
                <a:close/>
                <a:moveTo>
                  <a:pt x="2833" y="1428"/>
                </a:moveTo>
                <a:lnTo>
                  <a:pt x="2841" y="1435"/>
                </a:lnTo>
                <a:lnTo>
                  <a:pt x="2837" y="1432"/>
                </a:lnTo>
                <a:lnTo>
                  <a:pt x="2881" y="1458"/>
                </a:lnTo>
                <a:lnTo>
                  <a:pt x="2925" y="1484"/>
                </a:lnTo>
                <a:lnTo>
                  <a:pt x="2884" y="1489"/>
                </a:lnTo>
                <a:lnTo>
                  <a:pt x="2911" y="1463"/>
                </a:lnTo>
                <a:cubicBezTo>
                  <a:pt x="2913" y="1461"/>
                  <a:pt x="2915" y="1459"/>
                  <a:pt x="2917" y="1458"/>
                </a:cubicBezTo>
                <a:lnTo>
                  <a:pt x="2961" y="1432"/>
                </a:lnTo>
                <a:lnTo>
                  <a:pt x="2955" y="1437"/>
                </a:lnTo>
                <a:lnTo>
                  <a:pt x="2999" y="1393"/>
                </a:lnTo>
                <a:lnTo>
                  <a:pt x="3004" y="1389"/>
                </a:lnTo>
                <a:lnTo>
                  <a:pt x="3046" y="1440"/>
                </a:lnTo>
                <a:lnTo>
                  <a:pt x="3046" y="1440"/>
                </a:lnTo>
                <a:lnTo>
                  <a:pt x="3002" y="1484"/>
                </a:lnTo>
                <a:cubicBezTo>
                  <a:pt x="3000" y="1486"/>
                  <a:pt x="2998" y="1487"/>
                  <a:pt x="2996" y="1489"/>
                </a:cubicBezTo>
                <a:lnTo>
                  <a:pt x="2951" y="1515"/>
                </a:lnTo>
                <a:lnTo>
                  <a:pt x="2958" y="1510"/>
                </a:lnTo>
                <a:lnTo>
                  <a:pt x="2931" y="1536"/>
                </a:lnTo>
                <a:cubicBezTo>
                  <a:pt x="2921" y="1547"/>
                  <a:pt x="2904" y="1549"/>
                  <a:pt x="2891" y="1541"/>
                </a:cubicBezTo>
                <a:lnTo>
                  <a:pt x="2847" y="1515"/>
                </a:lnTo>
                <a:lnTo>
                  <a:pt x="2803" y="1489"/>
                </a:lnTo>
                <a:cubicBezTo>
                  <a:pt x="2801" y="1488"/>
                  <a:pt x="2800" y="1487"/>
                  <a:pt x="2799" y="1486"/>
                </a:cubicBezTo>
                <a:lnTo>
                  <a:pt x="2790" y="1479"/>
                </a:lnTo>
                <a:lnTo>
                  <a:pt x="2833" y="1428"/>
                </a:lnTo>
                <a:close/>
                <a:moveTo>
                  <a:pt x="3192" y="1296"/>
                </a:moveTo>
                <a:lnTo>
                  <a:pt x="3208" y="1296"/>
                </a:lnTo>
                <a:lnTo>
                  <a:pt x="3208" y="1363"/>
                </a:lnTo>
                <a:lnTo>
                  <a:pt x="3192" y="1363"/>
                </a:lnTo>
                <a:lnTo>
                  <a:pt x="3192" y="1296"/>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rot="16200000">
            <a:off x="2758320" y="344592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2436" name=""/>
          <p:cNvSpPr/>
          <p:nvPr/>
        </p:nvSpPr>
        <p:spPr>
          <a:xfrm>
            <a:off x="5506920" y="2527200"/>
            <a:ext cx="67644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331160" y="508788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2438" name=""/>
          <p:cNvSpPr/>
          <p:nvPr/>
        </p:nvSpPr>
        <p:spPr>
          <a:xfrm>
            <a:off x="4673520" y="50706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439" name=""/>
          <p:cNvSpPr/>
          <p:nvPr/>
        </p:nvSpPr>
        <p:spPr>
          <a:xfrm>
            <a:off x="4750920" y="50878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2440" name=""/>
          <p:cNvSpPr/>
          <p:nvPr/>
        </p:nvSpPr>
        <p:spPr>
          <a:xfrm>
            <a:off x="3324240" y="2494080"/>
            <a:ext cx="2894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a:off x="3324240" y="4770360"/>
            <a:ext cx="2894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2" name=""/>
          <p:cNvSpPr/>
          <p:nvPr/>
        </p:nvSpPr>
        <p:spPr>
          <a:xfrm flipV="1">
            <a:off x="6218280" y="2493720"/>
            <a:ext cx="1440" cy="2276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flipV="1">
            <a:off x="3324240" y="2493720"/>
            <a:ext cx="1440" cy="2276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324240" y="4770360"/>
            <a:ext cx="2894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5" name=""/>
          <p:cNvSpPr/>
          <p:nvPr/>
        </p:nvSpPr>
        <p:spPr>
          <a:xfrm flipV="1">
            <a:off x="332424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6" name=""/>
          <p:cNvSpPr/>
          <p:nvPr/>
        </p:nvSpPr>
        <p:spPr>
          <a:xfrm>
            <a:off x="332424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7" name=""/>
          <p:cNvSpPr/>
          <p:nvPr/>
        </p:nvSpPr>
        <p:spPr>
          <a:xfrm>
            <a:off x="3263040" y="4827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48" name=""/>
          <p:cNvSpPr/>
          <p:nvPr/>
        </p:nvSpPr>
        <p:spPr>
          <a:xfrm>
            <a:off x="331128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449" name=""/>
          <p:cNvSpPr/>
          <p:nvPr/>
        </p:nvSpPr>
        <p:spPr>
          <a:xfrm flipV="1">
            <a:off x="40435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50" name=""/>
          <p:cNvSpPr/>
          <p:nvPr/>
        </p:nvSpPr>
        <p:spPr>
          <a:xfrm>
            <a:off x="40435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1" name=""/>
          <p:cNvSpPr/>
          <p:nvPr/>
        </p:nvSpPr>
        <p:spPr>
          <a:xfrm>
            <a:off x="3944160" y="4827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52" name=""/>
          <p:cNvSpPr/>
          <p:nvPr/>
        </p:nvSpPr>
        <p:spPr>
          <a:xfrm>
            <a:off x="3991320" y="48276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453" name=""/>
          <p:cNvSpPr/>
          <p:nvPr/>
        </p:nvSpPr>
        <p:spPr>
          <a:xfrm flipV="1">
            <a:off x="47689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54" name=""/>
          <p:cNvSpPr/>
          <p:nvPr/>
        </p:nvSpPr>
        <p:spPr>
          <a:xfrm>
            <a:off x="47689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5" name=""/>
          <p:cNvSpPr/>
          <p:nvPr/>
        </p:nvSpPr>
        <p:spPr>
          <a:xfrm>
            <a:off x="473832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456" name=""/>
          <p:cNvSpPr/>
          <p:nvPr/>
        </p:nvSpPr>
        <p:spPr>
          <a:xfrm flipV="1">
            <a:off x="549432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57" name=""/>
          <p:cNvSpPr/>
          <p:nvPr/>
        </p:nvSpPr>
        <p:spPr>
          <a:xfrm>
            <a:off x="549432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8" name=""/>
          <p:cNvSpPr/>
          <p:nvPr/>
        </p:nvSpPr>
        <p:spPr>
          <a:xfrm>
            <a:off x="5420160" y="48276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459" name=""/>
          <p:cNvSpPr/>
          <p:nvPr/>
        </p:nvSpPr>
        <p:spPr>
          <a:xfrm flipV="1">
            <a:off x="6218280" y="474156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0" name=""/>
          <p:cNvSpPr/>
          <p:nvPr/>
        </p:nvSpPr>
        <p:spPr>
          <a:xfrm>
            <a:off x="6218280" y="249408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1" name=""/>
          <p:cNvSpPr/>
          <p:nvPr/>
        </p:nvSpPr>
        <p:spPr>
          <a:xfrm>
            <a:off x="6186240" y="4827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462" name=""/>
          <p:cNvSpPr/>
          <p:nvPr/>
        </p:nvSpPr>
        <p:spPr>
          <a:xfrm>
            <a:off x="3324240" y="477036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3" name=""/>
          <p:cNvSpPr/>
          <p:nvPr/>
        </p:nvSpPr>
        <p:spPr>
          <a:xfrm flipH="1">
            <a:off x="6188040" y="477036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4" name=""/>
          <p:cNvSpPr/>
          <p:nvPr/>
        </p:nvSpPr>
        <p:spPr>
          <a:xfrm>
            <a:off x="3169440" y="47260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65" name=""/>
          <p:cNvSpPr/>
          <p:nvPr/>
        </p:nvSpPr>
        <p:spPr>
          <a:xfrm>
            <a:off x="3217680" y="4726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466" name=""/>
          <p:cNvSpPr/>
          <p:nvPr/>
        </p:nvSpPr>
        <p:spPr>
          <a:xfrm>
            <a:off x="3324240" y="438768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7" name=""/>
          <p:cNvSpPr/>
          <p:nvPr/>
        </p:nvSpPr>
        <p:spPr>
          <a:xfrm flipH="1">
            <a:off x="6188040" y="438768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8" name=""/>
          <p:cNvSpPr/>
          <p:nvPr/>
        </p:nvSpPr>
        <p:spPr>
          <a:xfrm>
            <a:off x="3169440" y="4341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469" name=""/>
          <p:cNvSpPr/>
          <p:nvPr/>
        </p:nvSpPr>
        <p:spPr>
          <a:xfrm>
            <a:off x="3217680" y="4341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470" name=""/>
          <p:cNvSpPr/>
          <p:nvPr/>
        </p:nvSpPr>
        <p:spPr>
          <a:xfrm>
            <a:off x="3324240" y="401148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1" name=""/>
          <p:cNvSpPr/>
          <p:nvPr/>
        </p:nvSpPr>
        <p:spPr>
          <a:xfrm flipH="1">
            <a:off x="6188040" y="401148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2" name=""/>
          <p:cNvSpPr/>
          <p:nvPr/>
        </p:nvSpPr>
        <p:spPr>
          <a:xfrm>
            <a:off x="3198600" y="3963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473" name=""/>
          <p:cNvSpPr/>
          <p:nvPr/>
        </p:nvSpPr>
        <p:spPr>
          <a:xfrm>
            <a:off x="3324240" y="363204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4" name=""/>
          <p:cNvSpPr/>
          <p:nvPr/>
        </p:nvSpPr>
        <p:spPr>
          <a:xfrm flipH="1">
            <a:off x="6188040" y="363204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5" name=""/>
          <p:cNvSpPr/>
          <p:nvPr/>
        </p:nvSpPr>
        <p:spPr>
          <a:xfrm>
            <a:off x="3198600" y="3584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476" name=""/>
          <p:cNvSpPr/>
          <p:nvPr/>
        </p:nvSpPr>
        <p:spPr>
          <a:xfrm>
            <a:off x="3324240" y="324972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7" name=""/>
          <p:cNvSpPr/>
          <p:nvPr/>
        </p:nvSpPr>
        <p:spPr>
          <a:xfrm flipH="1">
            <a:off x="6188040" y="32497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8" name=""/>
          <p:cNvSpPr/>
          <p:nvPr/>
        </p:nvSpPr>
        <p:spPr>
          <a:xfrm>
            <a:off x="3198600" y="3201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479" name=""/>
          <p:cNvSpPr/>
          <p:nvPr/>
        </p:nvSpPr>
        <p:spPr>
          <a:xfrm>
            <a:off x="3324240" y="287352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0" name=""/>
          <p:cNvSpPr/>
          <p:nvPr/>
        </p:nvSpPr>
        <p:spPr>
          <a:xfrm flipH="1">
            <a:off x="6188040" y="28735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1" name=""/>
          <p:cNvSpPr/>
          <p:nvPr/>
        </p:nvSpPr>
        <p:spPr>
          <a:xfrm>
            <a:off x="3198600" y="2825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2482" name=""/>
          <p:cNvSpPr/>
          <p:nvPr/>
        </p:nvSpPr>
        <p:spPr>
          <a:xfrm>
            <a:off x="3324240" y="2494080"/>
            <a:ext cx="223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3" name=""/>
          <p:cNvSpPr/>
          <p:nvPr/>
        </p:nvSpPr>
        <p:spPr>
          <a:xfrm flipH="1">
            <a:off x="6188040" y="24940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4" name=""/>
          <p:cNvSpPr/>
          <p:nvPr/>
        </p:nvSpPr>
        <p:spPr>
          <a:xfrm>
            <a:off x="3198600" y="2446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2485" name=""/>
          <p:cNvSpPr/>
          <p:nvPr/>
        </p:nvSpPr>
        <p:spPr>
          <a:xfrm>
            <a:off x="3324240" y="2494080"/>
            <a:ext cx="2894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a:off x="3324240" y="3216240"/>
            <a:ext cx="1112760" cy="949320"/>
          </a:xfrm>
          <a:custGeom>
            <a:avLst/>
            <a:gdLst/>
            <a:ahLst/>
            <a:rect l="l" t="t" r="r" b="b"/>
            <a:pathLst>
              <a:path w="701" h="598">
                <a:moveTo>
                  <a:pt x="0" y="501"/>
                </a:moveTo>
                <a:lnTo>
                  <a:pt x="3" y="501"/>
                </a:lnTo>
                <a:lnTo>
                  <a:pt x="7" y="501"/>
                </a:lnTo>
                <a:lnTo>
                  <a:pt x="13" y="501"/>
                </a:lnTo>
                <a:lnTo>
                  <a:pt x="18" y="501"/>
                </a:lnTo>
                <a:lnTo>
                  <a:pt x="24" y="501"/>
                </a:lnTo>
                <a:lnTo>
                  <a:pt x="31" y="501"/>
                </a:lnTo>
                <a:lnTo>
                  <a:pt x="33" y="501"/>
                </a:lnTo>
                <a:lnTo>
                  <a:pt x="40" y="501"/>
                </a:lnTo>
                <a:lnTo>
                  <a:pt x="46" y="501"/>
                </a:lnTo>
                <a:lnTo>
                  <a:pt x="52" y="501"/>
                </a:lnTo>
                <a:lnTo>
                  <a:pt x="58" y="501"/>
                </a:lnTo>
                <a:lnTo>
                  <a:pt x="65" y="501"/>
                </a:lnTo>
                <a:lnTo>
                  <a:pt x="67" y="501"/>
                </a:lnTo>
                <a:lnTo>
                  <a:pt x="73" y="501"/>
                </a:lnTo>
                <a:lnTo>
                  <a:pt x="80" y="501"/>
                </a:lnTo>
                <a:lnTo>
                  <a:pt x="86" y="501"/>
                </a:lnTo>
                <a:lnTo>
                  <a:pt x="92" y="501"/>
                </a:lnTo>
                <a:lnTo>
                  <a:pt x="95" y="501"/>
                </a:lnTo>
                <a:lnTo>
                  <a:pt x="101" y="501"/>
                </a:lnTo>
                <a:lnTo>
                  <a:pt x="107" y="501"/>
                </a:lnTo>
                <a:lnTo>
                  <a:pt x="114" y="501"/>
                </a:lnTo>
                <a:lnTo>
                  <a:pt x="120" y="501"/>
                </a:lnTo>
                <a:lnTo>
                  <a:pt x="123" y="501"/>
                </a:lnTo>
                <a:lnTo>
                  <a:pt x="129" y="501"/>
                </a:lnTo>
                <a:lnTo>
                  <a:pt x="135" y="501"/>
                </a:lnTo>
                <a:lnTo>
                  <a:pt x="140" y="501"/>
                </a:lnTo>
                <a:lnTo>
                  <a:pt x="147" y="501"/>
                </a:lnTo>
                <a:lnTo>
                  <a:pt x="153" y="501"/>
                </a:lnTo>
                <a:lnTo>
                  <a:pt x="157" y="501"/>
                </a:lnTo>
                <a:lnTo>
                  <a:pt x="163" y="501"/>
                </a:lnTo>
                <a:lnTo>
                  <a:pt x="168" y="501"/>
                </a:lnTo>
                <a:lnTo>
                  <a:pt x="174" y="501"/>
                </a:lnTo>
                <a:lnTo>
                  <a:pt x="181" y="501"/>
                </a:lnTo>
                <a:lnTo>
                  <a:pt x="183" y="501"/>
                </a:lnTo>
                <a:lnTo>
                  <a:pt x="190" y="501"/>
                </a:lnTo>
                <a:lnTo>
                  <a:pt x="196" y="501"/>
                </a:lnTo>
                <a:lnTo>
                  <a:pt x="202" y="501"/>
                </a:lnTo>
                <a:lnTo>
                  <a:pt x="208" y="501"/>
                </a:lnTo>
                <a:lnTo>
                  <a:pt x="211" y="501"/>
                </a:lnTo>
                <a:lnTo>
                  <a:pt x="217" y="501"/>
                </a:lnTo>
                <a:lnTo>
                  <a:pt x="223" y="501"/>
                </a:lnTo>
                <a:lnTo>
                  <a:pt x="230" y="501"/>
                </a:lnTo>
                <a:lnTo>
                  <a:pt x="236" y="501"/>
                </a:lnTo>
                <a:lnTo>
                  <a:pt x="242" y="501"/>
                </a:lnTo>
                <a:lnTo>
                  <a:pt x="245" y="501"/>
                </a:lnTo>
                <a:lnTo>
                  <a:pt x="251" y="501"/>
                </a:lnTo>
                <a:lnTo>
                  <a:pt x="257" y="501"/>
                </a:lnTo>
                <a:lnTo>
                  <a:pt x="264" y="501"/>
                </a:lnTo>
                <a:lnTo>
                  <a:pt x="270" y="501"/>
                </a:lnTo>
                <a:lnTo>
                  <a:pt x="273" y="501"/>
                </a:lnTo>
                <a:lnTo>
                  <a:pt x="279" y="501"/>
                </a:lnTo>
                <a:lnTo>
                  <a:pt x="285" y="501"/>
                </a:lnTo>
                <a:lnTo>
                  <a:pt x="290" y="501"/>
                </a:lnTo>
                <a:lnTo>
                  <a:pt x="297" y="501"/>
                </a:lnTo>
                <a:lnTo>
                  <a:pt x="300" y="501"/>
                </a:lnTo>
                <a:lnTo>
                  <a:pt x="307" y="501"/>
                </a:lnTo>
                <a:lnTo>
                  <a:pt x="313" y="501"/>
                </a:lnTo>
                <a:lnTo>
                  <a:pt x="318" y="501"/>
                </a:lnTo>
                <a:lnTo>
                  <a:pt x="324" y="501"/>
                </a:lnTo>
                <a:lnTo>
                  <a:pt x="331" y="501"/>
                </a:lnTo>
                <a:lnTo>
                  <a:pt x="333" y="501"/>
                </a:lnTo>
                <a:lnTo>
                  <a:pt x="340" y="501"/>
                </a:lnTo>
                <a:lnTo>
                  <a:pt x="346" y="501"/>
                </a:lnTo>
                <a:lnTo>
                  <a:pt x="352" y="501"/>
                </a:lnTo>
                <a:lnTo>
                  <a:pt x="358" y="501"/>
                </a:lnTo>
                <a:lnTo>
                  <a:pt x="361" y="501"/>
                </a:lnTo>
                <a:lnTo>
                  <a:pt x="367" y="501"/>
                </a:lnTo>
                <a:lnTo>
                  <a:pt x="373" y="501"/>
                </a:lnTo>
                <a:lnTo>
                  <a:pt x="380" y="501"/>
                </a:lnTo>
                <a:lnTo>
                  <a:pt x="386" y="501"/>
                </a:lnTo>
                <a:lnTo>
                  <a:pt x="389" y="501"/>
                </a:lnTo>
                <a:lnTo>
                  <a:pt x="395" y="501"/>
                </a:lnTo>
                <a:lnTo>
                  <a:pt x="401" y="501"/>
                </a:lnTo>
                <a:lnTo>
                  <a:pt x="407" y="501"/>
                </a:lnTo>
                <a:lnTo>
                  <a:pt x="414" y="501"/>
                </a:lnTo>
                <a:lnTo>
                  <a:pt x="420" y="501"/>
                </a:lnTo>
                <a:lnTo>
                  <a:pt x="423" y="501"/>
                </a:lnTo>
                <a:lnTo>
                  <a:pt x="429" y="501"/>
                </a:lnTo>
                <a:lnTo>
                  <a:pt x="435" y="501"/>
                </a:lnTo>
                <a:lnTo>
                  <a:pt x="440" y="501"/>
                </a:lnTo>
                <a:lnTo>
                  <a:pt x="447" y="501"/>
                </a:lnTo>
                <a:lnTo>
                  <a:pt x="450" y="501"/>
                </a:lnTo>
                <a:lnTo>
                  <a:pt x="457" y="501"/>
                </a:lnTo>
                <a:lnTo>
                  <a:pt x="463" y="501"/>
                </a:lnTo>
                <a:lnTo>
                  <a:pt x="468" y="501"/>
                </a:lnTo>
                <a:lnTo>
                  <a:pt x="474" y="501"/>
                </a:lnTo>
                <a:lnTo>
                  <a:pt x="478" y="501"/>
                </a:lnTo>
                <a:lnTo>
                  <a:pt x="484" y="501"/>
                </a:lnTo>
                <a:lnTo>
                  <a:pt x="491" y="501"/>
                </a:lnTo>
                <a:lnTo>
                  <a:pt x="496" y="501"/>
                </a:lnTo>
                <a:lnTo>
                  <a:pt x="502" y="501"/>
                </a:lnTo>
                <a:lnTo>
                  <a:pt x="508" y="501"/>
                </a:lnTo>
                <a:lnTo>
                  <a:pt x="511" y="501"/>
                </a:lnTo>
                <a:lnTo>
                  <a:pt x="517" y="501"/>
                </a:lnTo>
                <a:lnTo>
                  <a:pt x="523" y="501"/>
                </a:lnTo>
                <a:lnTo>
                  <a:pt x="530" y="501"/>
                </a:lnTo>
                <a:lnTo>
                  <a:pt x="536" y="497"/>
                </a:lnTo>
                <a:lnTo>
                  <a:pt x="539" y="497"/>
                </a:lnTo>
                <a:lnTo>
                  <a:pt x="545" y="497"/>
                </a:lnTo>
                <a:lnTo>
                  <a:pt x="551" y="497"/>
                </a:lnTo>
                <a:lnTo>
                  <a:pt x="557" y="501"/>
                </a:lnTo>
                <a:lnTo>
                  <a:pt x="564" y="501"/>
                </a:lnTo>
                <a:lnTo>
                  <a:pt x="566" y="501"/>
                </a:lnTo>
                <a:lnTo>
                  <a:pt x="573" y="501"/>
                </a:lnTo>
                <a:lnTo>
                  <a:pt x="579" y="497"/>
                </a:lnTo>
                <a:lnTo>
                  <a:pt x="585" y="497"/>
                </a:lnTo>
                <a:lnTo>
                  <a:pt x="591" y="501"/>
                </a:lnTo>
                <a:lnTo>
                  <a:pt x="598" y="503"/>
                </a:lnTo>
                <a:lnTo>
                  <a:pt x="600" y="509"/>
                </a:lnTo>
                <a:lnTo>
                  <a:pt x="607" y="509"/>
                </a:lnTo>
                <a:lnTo>
                  <a:pt x="613" y="509"/>
                </a:lnTo>
                <a:lnTo>
                  <a:pt x="618" y="501"/>
                </a:lnTo>
                <a:lnTo>
                  <a:pt x="624" y="485"/>
                </a:lnTo>
                <a:lnTo>
                  <a:pt x="628" y="470"/>
                </a:lnTo>
                <a:lnTo>
                  <a:pt x="634" y="460"/>
                </a:lnTo>
                <a:lnTo>
                  <a:pt x="641" y="464"/>
                </a:lnTo>
                <a:lnTo>
                  <a:pt x="646" y="485"/>
                </a:lnTo>
                <a:lnTo>
                  <a:pt x="652" y="518"/>
                </a:lnTo>
                <a:lnTo>
                  <a:pt x="658" y="559"/>
                </a:lnTo>
                <a:lnTo>
                  <a:pt x="661" y="592"/>
                </a:lnTo>
                <a:lnTo>
                  <a:pt x="667" y="598"/>
                </a:lnTo>
                <a:lnTo>
                  <a:pt x="674" y="570"/>
                </a:lnTo>
                <a:lnTo>
                  <a:pt x="680" y="494"/>
                </a:lnTo>
                <a:lnTo>
                  <a:pt x="686" y="378"/>
                </a:lnTo>
                <a:lnTo>
                  <a:pt x="689" y="241"/>
                </a:lnTo>
                <a:lnTo>
                  <a:pt x="695" y="107"/>
                </a:lnTo>
                <a:lnTo>
                  <a:pt x="701" y="0"/>
                </a:lnTo>
              </a:path>
            </a:pathLst>
          </a:custGeom>
          <a:noFill/>
          <a:ln w="126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4437000" y="3133800"/>
            <a:ext cx="1120680" cy="1191960"/>
          </a:xfrm>
          <a:custGeom>
            <a:avLst/>
            <a:gdLst/>
            <a:ahLst/>
            <a:rect l="l" t="t" r="r" b="b"/>
            <a:pathLst>
              <a:path w="706" h="751">
                <a:moveTo>
                  <a:pt x="0" y="53"/>
                </a:moveTo>
                <a:lnTo>
                  <a:pt x="6" y="0"/>
                </a:lnTo>
                <a:lnTo>
                  <a:pt x="13" y="15"/>
                </a:lnTo>
                <a:lnTo>
                  <a:pt x="15" y="98"/>
                </a:lnTo>
                <a:lnTo>
                  <a:pt x="22" y="229"/>
                </a:lnTo>
                <a:lnTo>
                  <a:pt x="28" y="385"/>
                </a:lnTo>
                <a:lnTo>
                  <a:pt x="34" y="534"/>
                </a:lnTo>
                <a:lnTo>
                  <a:pt x="40" y="652"/>
                </a:lnTo>
                <a:lnTo>
                  <a:pt x="47" y="726"/>
                </a:lnTo>
                <a:lnTo>
                  <a:pt x="49" y="751"/>
                </a:lnTo>
                <a:lnTo>
                  <a:pt x="56" y="738"/>
                </a:lnTo>
                <a:lnTo>
                  <a:pt x="62" y="699"/>
                </a:lnTo>
                <a:lnTo>
                  <a:pt x="68" y="656"/>
                </a:lnTo>
                <a:lnTo>
                  <a:pt x="73" y="622"/>
                </a:lnTo>
                <a:lnTo>
                  <a:pt x="77" y="604"/>
                </a:lnTo>
                <a:lnTo>
                  <a:pt x="83" y="604"/>
                </a:lnTo>
                <a:lnTo>
                  <a:pt x="90" y="613"/>
                </a:lnTo>
                <a:lnTo>
                  <a:pt x="96" y="628"/>
                </a:lnTo>
                <a:lnTo>
                  <a:pt x="101" y="644"/>
                </a:lnTo>
                <a:lnTo>
                  <a:pt x="105" y="652"/>
                </a:lnTo>
                <a:lnTo>
                  <a:pt x="111" y="652"/>
                </a:lnTo>
                <a:lnTo>
                  <a:pt x="117" y="652"/>
                </a:lnTo>
                <a:lnTo>
                  <a:pt x="124" y="646"/>
                </a:lnTo>
                <a:lnTo>
                  <a:pt x="129" y="644"/>
                </a:lnTo>
                <a:lnTo>
                  <a:pt x="135" y="641"/>
                </a:lnTo>
                <a:lnTo>
                  <a:pt x="139" y="641"/>
                </a:lnTo>
                <a:lnTo>
                  <a:pt x="144" y="641"/>
                </a:lnTo>
                <a:lnTo>
                  <a:pt x="150" y="641"/>
                </a:lnTo>
                <a:lnTo>
                  <a:pt x="156" y="641"/>
                </a:lnTo>
                <a:lnTo>
                  <a:pt x="163" y="641"/>
                </a:lnTo>
                <a:lnTo>
                  <a:pt x="165" y="641"/>
                </a:lnTo>
                <a:lnTo>
                  <a:pt x="172" y="637"/>
                </a:lnTo>
                <a:lnTo>
                  <a:pt x="178" y="641"/>
                </a:lnTo>
                <a:lnTo>
                  <a:pt x="184" y="641"/>
                </a:lnTo>
                <a:lnTo>
                  <a:pt x="190" y="641"/>
                </a:lnTo>
                <a:lnTo>
                  <a:pt x="193" y="641"/>
                </a:lnTo>
                <a:lnTo>
                  <a:pt x="199" y="644"/>
                </a:lnTo>
                <a:lnTo>
                  <a:pt x="206" y="644"/>
                </a:lnTo>
                <a:lnTo>
                  <a:pt x="212" y="644"/>
                </a:lnTo>
                <a:lnTo>
                  <a:pt x="218" y="644"/>
                </a:lnTo>
                <a:lnTo>
                  <a:pt x="224" y="644"/>
                </a:lnTo>
                <a:lnTo>
                  <a:pt x="227" y="641"/>
                </a:lnTo>
                <a:lnTo>
                  <a:pt x="233" y="641"/>
                </a:lnTo>
                <a:lnTo>
                  <a:pt x="240" y="641"/>
                </a:lnTo>
                <a:lnTo>
                  <a:pt x="246" y="641"/>
                </a:lnTo>
                <a:lnTo>
                  <a:pt x="252" y="637"/>
                </a:lnTo>
                <a:lnTo>
                  <a:pt x="255" y="641"/>
                </a:lnTo>
                <a:lnTo>
                  <a:pt x="261" y="641"/>
                </a:lnTo>
                <a:lnTo>
                  <a:pt x="267" y="641"/>
                </a:lnTo>
                <a:lnTo>
                  <a:pt x="274" y="641"/>
                </a:lnTo>
                <a:lnTo>
                  <a:pt x="280" y="641"/>
                </a:lnTo>
                <a:lnTo>
                  <a:pt x="282" y="641"/>
                </a:lnTo>
                <a:lnTo>
                  <a:pt x="289" y="641"/>
                </a:lnTo>
                <a:lnTo>
                  <a:pt x="295" y="644"/>
                </a:lnTo>
                <a:lnTo>
                  <a:pt x="301" y="646"/>
                </a:lnTo>
                <a:lnTo>
                  <a:pt x="306" y="652"/>
                </a:lnTo>
                <a:lnTo>
                  <a:pt x="313" y="652"/>
                </a:lnTo>
                <a:lnTo>
                  <a:pt x="316" y="652"/>
                </a:lnTo>
                <a:lnTo>
                  <a:pt x="323" y="644"/>
                </a:lnTo>
                <a:lnTo>
                  <a:pt x="328" y="628"/>
                </a:lnTo>
                <a:lnTo>
                  <a:pt x="334" y="613"/>
                </a:lnTo>
                <a:lnTo>
                  <a:pt x="340" y="604"/>
                </a:lnTo>
                <a:lnTo>
                  <a:pt x="344" y="604"/>
                </a:lnTo>
                <a:lnTo>
                  <a:pt x="349" y="622"/>
                </a:lnTo>
                <a:lnTo>
                  <a:pt x="356" y="656"/>
                </a:lnTo>
                <a:lnTo>
                  <a:pt x="362" y="699"/>
                </a:lnTo>
                <a:lnTo>
                  <a:pt x="368" y="738"/>
                </a:lnTo>
                <a:lnTo>
                  <a:pt x="372" y="751"/>
                </a:lnTo>
                <a:lnTo>
                  <a:pt x="377" y="726"/>
                </a:lnTo>
                <a:lnTo>
                  <a:pt x="383" y="652"/>
                </a:lnTo>
                <a:lnTo>
                  <a:pt x="390" y="534"/>
                </a:lnTo>
                <a:lnTo>
                  <a:pt x="396" y="385"/>
                </a:lnTo>
                <a:lnTo>
                  <a:pt x="402" y="229"/>
                </a:lnTo>
                <a:lnTo>
                  <a:pt x="405" y="98"/>
                </a:lnTo>
                <a:lnTo>
                  <a:pt x="411" y="15"/>
                </a:lnTo>
                <a:lnTo>
                  <a:pt x="417" y="0"/>
                </a:lnTo>
                <a:lnTo>
                  <a:pt x="424" y="53"/>
                </a:lnTo>
                <a:lnTo>
                  <a:pt x="430" y="159"/>
                </a:lnTo>
                <a:lnTo>
                  <a:pt x="432" y="293"/>
                </a:lnTo>
                <a:lnTo>
                  <a:pt x="439" y="430"/>
                </a:lnTo>
                <a:lnTo>
                  <a:pt x="445" y="546"/>
                </a:lnTo>
                <a:lnTo>
                  <a:pt x="451" y="622"/>
                </a:lnTo>
                <a:lnTo>
                  <a:pt x="457" y="650"/>
                </a:lnTo>
                <a:lnTo>
                  <a:pt x="460" y="644"/>
                </a:lnTo>
                <a:lnTo>
                  <a:pt x="466" y="611"/>
                </a:lnTo>
                <a:lnTo>
                  <a:pt x="473" y="570"/>
                </a:lnTo>
                <a:lnTo>
                  <a:pt x="479" y="537"/>
                </a:lnTo>
                <a:lnTo>
                  <a:pt x="485" y="516"/>
                </a:lnTo>
                <a:lnTo>
                  <a:pt x="490" y="512"/>
                </a:lnTo>
                <a:lnTo>
                  <a:pt x="494" y="521"/>
                </a:lnTo>
                <a:lnTo>
                  <a:pt x="500" y="537"/>
                </a:lnTo>
                <a:lnTo>
                  <a:pt x="507" y="553"/>
                </a:lnTo>
                <a:lnTo>
                  <a:pt x="512" y="561"/>
                </a:lnTo>
                <a:lnTo>
                  <a:pt x="518" y="561"/>
                </a:lnTo>
                <a:lnTo>
                  <a:pt x="522" y="561"/>
                </a:lnTo>
                <a:lnTo>
                  <a:pt x="528" y="555"/>
                </a:lnTo>
                <a:lnTo>
                  <a:pt x="533" y="553"/>
                </a:lnTo>
                <a:lnTo>
                  <a:pt x="540" y="549"/>
                </a:lnTo>
                <a:lnTo>
                  <a:pt x="546" y="549"/>
                </a:lnTo>
                <a:lnTo>
                  <a:pt x="552" y="553"/>
                </a:lnTo>
                <a:lnTo>
                  <a:pt x="555" y="553"/>
                </a:lnTo>
                <a:lnTo>
                  <a:pt x="561" y="553"/>
                </a:lnTo>
                <a:lnTo>
                  <a:pt x="567" y="553"/>
                </a:lnTo>
                <a:lnTo>
                  <a:pt x="574" y="549"/>
                </a:lnTo>
                <a:lnTo>
                  <a:pt x="580" y="549"/>
                </a:lnTo>
                <a:lnTo>
                  <a:pt x="582" y="549"/>
                </a:lnTo>
                <a:lnTo>
                  <a:pt x="589" y="549"/>
                </a:lnTo>
                <a:lnTo>
                  <a:pt x="595" y="553"/>
                </a:lnTo>
                <a:lnTo>
                  <a:pt x="601" y="553"/>
                </a:lnTo>
                <a:lnTo>
                  <a:pt x="607" y="553"/>
                </a:lnTo>
                <a:lnTo>
                  <a:pt x="610" y="553"/>
                </a:lnTo>
                <a:lnTo>
                  <a:pt x="616" y="553"/>
                </a:lnTo>
                <a:lnTo>
                  <a:pt x="623" y="553"/>
                </a:lnTo>
                <a:lnTo>
                  <a:pt x="629" y="553"/>
                </a:lnTo>
                <a:lnTo>
                  <a:pt x="635" y="553"/>
                </a:lnTo>
                <a:lnTo>
                  <a:pt x="641" y="553"/>
                </a:lnTo>
                <a:lnTo>
                  <a:pt x="644" y="553"/>
                </a:lnTo>
                <a:lnTo>
                  <a:pt x="650" y="553"/>
                </a:lnTo>
                <a:lnTo>
                  <a:pt x="657" y="553"/>
                </a:lnTo>
                <a:lnTo>
                  <a:pt x="663" y="553"/>
                </a:lnTo>
                <a:lnTo>
                  <a:pt x="668" y="553"/>
                </a:lnTo>
                <a:lnTo>
                  <a:pt x="672" y="553"/>
                </a:lnTo>
                <a:lnTo>
                  <a:pt x="678" y="553"/>
                </a:lnTo>
                <a:lnTo>
                  <a:pt x="684" y="553"/>
                </a:lnTo>
                <a:lnTo>
                  <a:pt x="691" y="553"/>
                </a:lnTo>
                <a:lnTo>
                  <a:pt x="696" y="553"/>
                </a:lnTo>
                <a:lnTo>
                  <a:pt x="699" y="553"/>
                </a:lnTo>
                <a:lnTo>
                  <a:pt x="706" y="553"/>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557680" y="4011480"/>
            <a:ext cx="663840" cy="1800"/>
          </a:xfrm>
          <a:custGeom>
            <a:avLst/>
            <a:gdLst/>
            <a:ahLst/>
            <a:rect l="l" t="t" r="r" b="b"/>
            <a:pathLst>
              <a:path w="418" h="0">
                <a:moveTo>
                  <a:pt x="0" y="0"/>
                </a:moveTo>
                <a:lnTo>
                  <a:pt x="6" y="0"/>
                </a:lnTo>
                <a:lnTo>
                  <a:pt x="11" y="0"/>
                </a:lnTo>
                <a:lnTo>
                  <a:pt x="18" y="0"/>
                </a:lnTo>
                <a:lnTo>
                  <a:pt x="24" y="0"/>
                </a:lnTo>
                <a:lnTo>
                  <a:pt x="26" y="0"/>
                </a:lnTo>
                <a:lnTo>
                  <a:pt x="33" y="0"/>
                </a:lnTo>
                <a:lnTo>
                  <a:pt x="39" y="0"/>
                </a:lnTo>
                <a:lnTo>
                  <a:pt x="45" y="0"/>
                </a:lnTo>
                <a:lnTo>
                  <a:pt x="52" y="0"/>
                </a:lnTo>
                <a:lnTo>
                  <a:pt x="54" y="0"/>
                </a:lnTo>
                <a:lnTo>
                  <a:pt x="60" y="0"/>
                </a:lnTo>
                <a:lnTo>
                  <a:pt x="67" y="0"/>
                </a:lnTo>
                <a:lnTo>
                  <a:pt x="73" y="0"/>
                </a:lnTo>
                <a:lnTo>
                  <a:pt x="79" y="0"/>
                </a:lnTo>
                <a:lnTo>
                  <a:pt x="82" y="0"/>
                </a:lnTo>
                <a:lnTo>
                  <a:pt x="88" y="0"/>
                </a:lnTo>
                <a:lnTo>
                  <a:pt x="94" y="0"/>
                </a:lnTo>
                <a:lnTo>
                  <a:pt x="101" y="0"/>
                </a:lnTo>
                <a:lnTo>
                  <a:pt x="107" y="0"/>
                </a:lnTo>
                <a:lnTo>
                  <a:pt x="112" y="0"/>
                </a:lnTo>
                <a:lnTo>
                  <a:pt x="116" y="0"/>
                </a:lnTo>
                <a:lnTo>
                  <a:pt x="122" y="0"/>
                </a:lnTo>
                <a:lnTo>
                  <a:pt x="128" y="0"/>
                </a:lnTo>
                <a:lnTo>
                  <a:pt x="134" y="0"/>
                </a:lnTo>
                <a:lnTo>
                  <a:pt x="140" y="0"/>
                </a:lnTo>
                <a:lnTo>
                  <a:pt x="143" y="0"/>
                </a:lnTo>
                <a:lnTo>
                  <a:pt x="150" y="0"/>
                </a:lnTo>
                <a:lnTo>
                  <a:pt x="155" y="0"/>
                </a:lnTo>
                <a:lnTo>
                  <a:pt x="161" y="0"/>
                </a:lnTo>
                <a:lnTo>
                  <a:pt x="168" y="0"/>
                </a:lnTo>
                <a:lnTo>
                  <a:pt x="170" y="0"/>
                </a:lnTo>
                <a:lnTo>
                  <a:pt x="176" y="0"/>
                </a:lnTo>
                <a:lnTo>
                  <a:pt x="183" y="0"/>
                </a:lnTo>
                <a:lnTo>
                  <a:pt x="189" y="0"/>
                </a:lnTo>
                <a:lnTo>
                  <a:pt x="195" y="0"/>
                </a:lnTo>
                <a:lnTo>
                  <a:pt x="202" y="0"/>
                </a:lnTo>
                <a:lnTo>
                  <a:pt x="204" y="0"/>
                </a:lnTo>
                <a:lnTo>
                  <a:pt x="210" y="0"/>
                </a:lnTo>
                <a:lnTo>
                  <a:pt x="217" y="0"/>
                </a:lnTo>
                <a:lnTo>
                  <a:pt x="223" y="0"/>
                </a:lnTo>
                <a:lnTo>
                  <a:pt x="229" y="0"/>
                </a:lnTo>
                <a:lnTo>
                  <a:pt x="232" y="0"/>
                </a:lnTo>
                <a:lnTo>
                  <a:pt x="238" y="0"/>
                </a:lnTo>
                <a:lnTo>
                  <a:pt x="244" y="0"/>
                </a:lnTo>
                <a:lnTo>
                  <a:pt x="251" y="0"/>
                </a:lnTo>
                <a:lnTo>
                  <a:pt x="256" y="0"/>
                </a:lnTo>
                <a:lnTo>
                  <a:pt x="260" y="0"/>
                </a:lnTo>
                <a:lnTo>
                  <a:pt x="266" y="0"/>
                </a:lnTo>
                <a:lnTo>
                  <a:pt x="272" y="0"/>
                </a:lnTo>
                <a:lnTo>
                  <a:pt x="277" y="0"/>
                </a:lnTo>
                <a:lnTo>
                  <a:pt x="284" y="0"/>
                </a:lnTo>
                <a:lnTo>
                  <a:pt x="290" y="0"/>
                </a:lnTo>
                <a:lnTo>
                  <a:pt x="292" y="0"/>
                </a:lnTo>
                <a:lnTo>
                  <a:pt x="299" y="0"/>
                </a:lnTo>
                <a:lnTo>
                  <a:pt x="305" y="0"/>
                </a:lnTo>
                <a:lnTo>
                  <a:pt x="311" y="0"/>
                </a:lnTo>
                <a:lnTo>
                  <a:pt x="318" y="0"/>
                </a:lnTo>
                <a:lnTo>
                  <a:pt x="320" y="0"/>
                </a:lnTo>
                <a:lnTo>
                  <a:pt x="326" y="0"/>
                </a:lnTo>
                <a:lnTo>
                  <a:pt x="333" y="0"/>
                </a:lnTo>
                <a:lnTo>
                  <a:pt x="339" y="0"/>
                </a:lnTo>
                <a:lnTo>
                  <a:pt x="345" y="0"/>
                </a:lnTo>
                <a:lnTo>
                  <a:pt x="348" y="0"/>
                </a:lnTo>
                <a:lnTo>
                  <a:pt x="354" y="0"/>
                </a:lnTo>
                <a:lnTo>
                  <a:pt x="360" y="0"/>
                </a:lnTo>
                <a:lnTo>
                  <a:pt x="367" y="0"/>
                </a:lnTo>
                <a:lnTo>
                  <a:pt x="373" y="0"/>
                </a:lnTo>
                <a:lnTo>
                  <a:pt x="378" y="0"/>
                </a:lnTo>
                <a:lnTo>
                  <a:pt x="382" y="0"/>
                </a:lnTo>
                <a:lnTo>
                  <a:pt x="388" y="0"/>
                </a:lnTo>
                <a:lnTo>
                  <a:pt x="394" y="0"/>
                </a:lnTo>
                <a:lnTo>
                  <a:pt x="401" y="0"/>
                </a:lnTo>
                <a:lnTo>
                  <a:pt x="406" y="0"/>
                </a:lnTo>
                <a:lnTo>
                  <a:pt x="410" y="0"/>
                </a:lnTo>
                <a:lnTo>
                  <a:pt x="416" y="0"/>
                </a:lnTo>
                <a:lnTo>
                  <a:pt x="418" y="0"/>
                </a:lnTo>
              </a:path>
            </a:pathLst>
          </a:custGeom>
          <a:noFill/>
          <a:ln w="14400">
            <a:solidFill>
              <a:srgbClr val="3333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9" name=""/>
          <p:cNvSpPr/>
          <p:nvPr/>
        </p:nvSpPr>
        <p:spPr>
          <a:xfrm>
            <a:off x="3324240" y="2960640"/>
            <a:ext cx="1109520" cy="1352520"/>
          </a:xfrm>
          <a:custGeom>
            <a:avLst/>
            <a:gdLst/>
            <a:ahLst/>
            <a:rect l="l" t="t" r="r" b="b"/>
            <a:pathLst>
              <a:path w="10623" h="12852">
                <a:moveTo>
                  <a:pt x="0" y="9919"/>
                </a:moveTo>
                <a:lnTo>
                  <a:pt x="53" y="9919"/>
                </a:lnTo>
                <a:lnTo>
                  <a:pt x="106" y="9919"/>
                </a:lnTo>
                <a:lnTo>
                  <a:pt x="195" y="9919"/>
                </a:lnTo>
                <a:lnTo>
                  <a:pt x="283" y="9919"/>
                </a:lnTo>
                <a:lnTo>
                  <a:pt x="371" y="9919"/>
                </a:lnTo>
                <a:lnTo>
                  <a:pt x="477" y="9919"/>
                </a:lnTo>
                <a:lnTo>
                  <a:pt x="513" y="9919"/>
                </a:lnTo>
                <a:lnTo>
                  <a:pt x="534" y="9919"/>
                </a:lnTo>
                <a:lnTo>
                  <a:pt x="534" y="10052"/>
                </a:lnTo>
                <a:lnTo>
                  <a:pt x="513" y="10052"/>
                </a:lnTo>
                <a:lnTo>
                  <a:pt x="477" y="10052"/>
                </a:lnTo>
                <a:lnTo>
                  <a:pt x="371" y="10052"/>
                </a:lnTo>
                <a:lnTo>
                  <a:pt x="283" y="10052"/>
                </a:lnTo>
                <a:lnTo>
                  <a:pt x="195" y="10052"/>
                </a:lnTo>
                <a:lnTo>
                  <a:pt x="106" y="10052"/>
                </a:lnTo>
                <a:lnTo>
                  <a:pt x="53" y="10052"/>
                </a:lnTo>
                <a:lnTo>
                  <a:pt x="0" y="10052"/>
                </a:lnTo>
                <a:lnTo>
                  <a:pt x="0" y="9919"/>
                </a:lnTo>
                <a:close/>
                <a:moveTo>
                  <a:pt x="934" y="9919"/>
                </a:moveTo>
                <a:lnTo>
                  <a:pt x="990" y="9919"/>
                </a:lnTo>
                <a:lnTo>
                  <a:pt x="1025" y="9919"/>
                </a:lnTo>
                <a:lnTo>
                  <a:pt x="1113" y="9919"/>
                </a:lnTo>
                <a:lnTo>
                  <a:pt x="1219" y="9919"/>
                </a:lnTo>
                <a:lnTo>
                  <a:pt x="1307" y="9919"/>
                </a:lnTo>
                <a:lnTo>
                  <a:pt x="1396" y="9919"/>
                </a:lnTo>
                <a:lnTo>
                  <a:pt x="1449" y="9919"/>
                </a:lnTo>
                <a:lnTo>
                  <a:pt x="1467" y="9919"/>
                </a:lnTo>
                <a:lnTo>
                  <a:pt x="1467" y="10052"/>
                </a:lnTo>
                <a:lnTo>
                  <a:pt x="1449" y="10052"/>
                </a:lnTo>
                <a:lnTo>
                  <a:pt x="1396" y="10052"/>
                </a:lnTo>
                <a:lnTo>
                  <a:pt x="1307" y="10052"/>
                </a:lnTo>
                <a:lnTo>
                  <a:pt x="1219" y="10052"/>
                </a:lnTo>
                <a:lnTo>
                  <a:pt x="1113" y="10052"/>
                </a:lnTo>
                <a:lnTo>
                  <a:pt x="1025" y="10052"/>
                </a:lnTo>
                <a:lnTo>
                  <a:pt x="990" y="10052"/>
                </a:lnTo>
                <a:lnTo>
                  <a:pt x="934" y="10052"/>
                </a:lnTo>
                <a:lnTo>
                  <a:pt x="934" y="9919"/>
                </a:lnTo>
                <a:close/>
                <a:moveTo>
                  <a:pt x="1867" y="9919"/>
                </a:moveTo>
                <a:lnTo>
                  <a:pt x="1873" y="9919"/>
                </a:lnTo>
                <a:lnTo>
                  <a:pt x="1961" y="9919"/>
                </a:lnTo>
                <a:lnTo>
                  <a:pt x="2049" y="9919"/>
                </a:lnTo>
                <a:lnTo>
                  <a:pt x="2138" y="9919"/>
                </a:lnTo>
                <a:lnTo>
                  <a:pt x="2244" y="9919"/>
                </a:lnTo>
                <a:lnTo>
                  <a:pt x="2332" y="9919"/>
                </a:lnTo>
                <a:lnTo>
                  <a:pt x="2385" y="9919"/>
                </a:lnTo>
                <a:lnTo>
                  <a:pt x="2400" y="9919"/>
                </a:lnTo>
                <a:lnTo>
                  <a:pt x="2400" y="10052"/>
                </a:lnTo>
                <a:lnTo>
                  <a:pt x="2385" y="10052"/>
                </a:lnTo>
                <a:lnTo>
                  <a:pt x="2332" y="10052"/>
                </a:lnTo>
                <a:lnTo>
                  <a:pt x="2244" y="10052"/>
                </a:lnTo>
                <a:lnTo>
                  <a:pt x="2138" y="10052"/>
                </a:lnTo>
                <a:lnTo>
                  <a:pt x="2049" y="10052"/>
                </a:lnTo>
                <a:lnTo>
                  <a:pt x="1961" y="10052"/>
                </a:lnTo>
                <a:lnTo>
                  <a:pt x="1873" y="10052"/>
                </a:lnTo>
                <a:lnTo>
                  <a:pt x="1867" y="10052"/>
                </a:lnTo>
                <a:lnTo>
                  <a:pt x="1867" y="9919"/>
                </a:lnTo>
                <a:close/>
                <a:moveTo>
                  <a:pt x="2800" y="9919"/>
                </a:moveTo>
                <a:lnTo>
                  <a:pt x="2897" y="9919"/>
                </a:lnTo>
                <a:lnTo>
                  <a:pt x="2985" y="9919"/>
                </a:lnTo>
                <a:lnTo>
                  <a:pt x="3074" y="9919"/>
                </a:lnTo>
                <a:lnTo>
                  <a:pt x="3162" y="9919"/>
                </a:lnTo>
                <a:lnTo>
                  <a:pt x="3215" y="9919"/>
                </a:lnTo>
                <a:lnTo>
                  <a:pt x="3303" y="9919"/>
                </a:lnTo>
                <a:lnTo>
                  <a:pt x="3334" y="9919"/>
                </a:lnTo>
                <a:lnTo>
                  <a:pt x="3334" y="10052"/>
                </a:lnTo>
                <a:lnTo>
                  <a:pt x="3303" y="10052"/>
                </a:lnTo>
                <a:lnTo>
                  <a:pt x="3215" y="10052"/>
                </a:lnTo>
                <a:lnTo>
                  <a:pt x="3162" y="10052"/>
                </a:lnTo>
                <a:lnTo>
                  <a:pt x="3074" y="10052"/>
                </a:lnTo>
                <a:lnTo>
                  <a:pt x="2985" y="10052"/>
                </a:lnTo>
                <a:lnTo>
                  <a:pt x="2897" y="10052"/>
                </a:lnTo>
                <a:lnTo>
                  <a:pt x="2800" y="10052"/>
                </a:lnTo>
                <a:lnTo>
                  <a:pt x="2800" y="9919"/>
                </a:lnTo>
                <a:close/>
                <a:moveTo>
                  <a:pt x="3734" y="9919"/>
                </a:moveTo>
                <a:lnTo>
                  <a:pt x="3815" y="9919"/>
                </a:lnTo>
                <a:lnTo>
                  <a:pt x="3904" y="9919"/>
                </a:lnTo>
                <a:lnTo>
                  <a:pt x="4010" y="9919"/>
                </a:lnTo>
                <a:lnTo>
                  <a:pt x="4098" y="9919"/>
                </a:lnTo>
                <a:lnTo>
                  <a:pt x="4151" y="9919"/>
                </a:lnTo>
                <a:lnTo>
                  <a:pt x="4239" y="9919"/>
                </a:lnTo>
                <a:lnTo>
                  <a:pt x="4267" y="9919"/>
                </a:lnTo>
                <a:lnTo>
                  <a:pt x="4267" y="10052"/>
                </a:lnTo>
                <a:lnTo>
                  <a:pt x="4239" y="10052"/>
                </a:lnTo>
                <a:lnTo>
                  <a:pt x="4151" y="10052"/>
                </a:lnTo>
                <a:lnTo>
                  <a:pt x="4098" y="10052"/>
                </a:lnTo>
                <a:lnTo>
                  <a:pt x="4010" y="10052"/>
                </a:lnTo>
                <a:lnTo>
                  <a:pt x="3904" y="10052"/>
                </a:lnTo>
                <a:lnTo>
                  <a:pt x="3815" y="10052"/>
                </a:lnTo>
                <a:lnTo>
                  <a:pt x="3734" y="10052"/>
                </a:lnTo>
                <a:lnTo>
                  <a:pt x="3734" y="9919"/>
                </a:lnTo>
                <a:close/>
                <a:moveTo>
                  <a:pt x="4667" y="9919"/>
                </a:moveTo>
                <a:lnTo>
                  <a:pt x="4751" y="9919"/>
                </a:lnTo>
                <a:lnTo>
                  <a:pt x="4840" y="9919"/>
                </a:lnTo>
                <a:lnTo>
                  <a:pt x="4928" y="9919"/>
                </a:lnTo>
                <a:lnTo>
                  <a:pt x="5034" y="9919"/>
                </a:lnTo>
                <a:lnTo>
                  <a:pt x="5069" y="9919"/>
                </a:lnTo>
                <a:lnTo>
                  <a:pt x="5175" y="9919"/>
                </a:lnTo>
                <a:lnTo>
                  <a:pt x="5200" y="9919"/>
                </a:lnTo>
                <a:lnTo>
                  <a:pt x="5200" y="10052"/>
                </a:lnTo>
                <a:lnTo>
                  <a:pt x="5175" y="10052"/>
                </a:lnTo>
                <a:lnTo>
                  <a:pt x="5069" y="10052"/>
                </a:lnTo>
                <a:lnTo>
                  <a:pt x="5034" y="10052"/>
                </a:lnTo>
                <a:lnTo>
                  <a:pt x="4928" y="10052"/>
                </a:lnTo>
                <a:lnTo>
                  <a:pt x="4840" y="10052"/>
                </a:lnTo>
                <a:lnTo>
                  <a:pt x="4751" y="10052"/>
                </a:lnTo>
                <a:lnTo>
                  <a:pt x="4667" y="10052"/>
                </a:lnTo>
                <a:lnTo>
                  <a:pt x="4667" y="9919"/>
                </a:lnTo>
                <a:close/>
                <a:moveTo>
                  <a:pt x="5600" y="9919"/>
                </a:moveTo>
                <a:lnTo>
                  <a:pt x="5670" y="9919"/>
                </a:lnTo>
                <a:lnTo>
                  <a:pt x="5776" y="9919"/>
                </a:lnTo>
                <a:lnTo>
                  <a:pt x="5864" y="9919"/>
                </a:lnTo>
                <a:lnTo>
                  <a:pt x="5917" y="9919"/>
                </a:lnTo>
                <a:lnTo>
                  <a:pt x="6005" y="9919"/>
                </a:lnTo>
                <a:lnTo>
                  <a:pt x="6094" y="9919"/>
                </a:lnTo>
                <a:lnTo>
                  <a:pt x="6134" y="9919"/>
                </a:lnTo>
                <a:lnTo>
                  <a:pt x="6134" y="10052"/>
                </a:lnTo>
                <a:lnTo>
                  <a:pt x="6094" y="10052"/>
                </a:lnTo>
                <a:lnTo>
                  <a:pt x="6005" y="10052"/>
                </a:lnTo>
                <a:lnTo>
                  <a:pt x="5917" y="10052"/>
                </a:lnTo>
                <a:lnTo>
                  <a:pt x="5864" y="10052"/>
                </a:lnTo>
                <a:lnTo>
                  <a:pt x="5776" y="10052"/>
                </a:lnTo>
                <a:lnTo>
                  <a:pt x="5670" y="10052"/>
                </a:lnTo>
                <a:lnTo>
                  <a:pt x="5600" y="10052"/>
                </a:lnTo>
                <a:lnTo>
                  <a:pt x="5600" y="9919"/>
                </a:lnTo>
                <a:close/>
                <a:moveTo>
                  <a:pt x="6519" y="9867"/>
                </a:moveTo>
                <a:lnTo>
                  <a:pt x="6606" y="9867"/>
                </a:lnTo>
                <a:lnTo>
                  <a:pt x="6694" y="9867"/>
                </a:lnTo>
                <a:lnTo>
                  <a:pt x="6800" y="9867"/>
                </a:lnTo>
                <a:lnTo>
                  <a:pt x="6836" y="9867"/>
                </a:lnTo>
                <a:cubicBezTo>
                  <a:pt x="6846" y="9867"/>
                  <a:pt x="6856" y="9869"/>
                  <a:pt x="6865" y="9874"/>
                </a:cubicBezTo>
                <a:lnTo>
                  <a:pt x="6971" y="9926"/>
                </a:lnTo>
                <a:lnTo>
                  <a:pt x="6942" y="9919"/>
                </a:lnTo>
                <a:lnTo>
                  <a:pt x="7030" y="9919"/>
                </a:lnTo>
                <a:lnTo>
                  <a:pt x="7040" y="9919"/>
                </a:lnTo>
                <a:lnTo>
                  <a:pt x="7040" y="10052"/>
                </a:lnTo>
                <a:lnTo>
                  <a:pt x="7030" y="10052"/>
                </a:lnTo>
                <a:lnTo>
                  <a:pt x="6942" y="10052"/>
                </a:lnTo>
                <a:cubicBezTo>
                  <a:pt x="6931" y="10052"/>
                  <a:pt x="6921" y="10050"/>
                  <a:pt x="6912" y="10045"/>
                </a:cubicBezTo>
                <a:lnTo>
                  <a:pt x="6806" y="9993"/>
                </a:lnTo>
                <a:lnTo>
                  <a:pt x="6836" y="10000"/>
                </a:lnTo>
                <a:lnTo>
                  <a:pt x="6800" y="10000"/>
                </a:lnTo>
                <a:lnTo>
                  <a:pt x="6694" y="10000"/>
                </a:lnTo>
                <a:lnTo>
                  <a:pt x="6606" y="10000"/>
                </a:lnTo>
                <a:lnTo>
                  <a:pt x="6519" y="10000"/>
                </a:lnTo>
                <a:lnTo>
                  <a:pt x="6519" y="9867"/>
                </a:lnTo>
                <a:close/>
                <a:moveTo>
                  <a:pt x="7441" y="9905"/>
                </a:moveTo>
                <a:lnTo>
                  <a:pt x="7483" y="9926"/>
                </a:lnTo>
                <a:cubicBezTo>
                  <a:pt x="7490" y="9929"/>
                  <a:pt x="7496" y="9933"/>
                  <a:pt x="7501" y="9938"/>
                </a:cubicBezTo>
                <a:lnTo>
                  <a:pt x="7589" y="10026"/>
                </a:lnTo>
                <a:lnTo>
                  <a:pt x="7567" y="10011"/>
                </a:lnTo>
                <a:lnTo>
                  <a:pt x="7655" y="10046"/>
                </a:lnTo>
                <a:cubicBezTo>
                  <a:pt x="7658" y="10048"/>
                  <a:pt x="7661" y="10049"/>
                  <a:pt x="7664" y="10051"/>
                </a:cubicBezTo>
                <a:lnTo>
                  <a:pt x="7753" y="10103"/>
                </a:lnTo>
                <a:lnTo>
                  <a:pt x="7662" y="10126"/>
                </a:lnTo>
                <a:lnTo>
                  <a:pt x="7715" y="10039"/>
                </a:lnTo>
                <a:lnTo>
                  <a:pt x="7748" y="9985"/>
                </a:lnTo>
                <a:lnTo>
                  <a:pt x="7861" y="10056"/>
                </a:lnTo>
                <a:lnTo>
                  <a:pt x="7829" y="10108"/>
                </a:lnTo>
                <a:lnTo>
                  <a:pt x="7776" y="10195"/>
                </a:lnTo>
                <a:cubicBezTo>
                  <a:pt x="7757" y="10227"/>
                  <a:pt x="7716" y="10237"/>
                  <a:pt x="7685" y="10218"/>
                </a:cubicBezTo>
                <a:lnTo>
                  <a:pt x="7596" y="10166"/>
                </a:lnTo>
                <a:lnTo>
                  <a:pt x="7606" y="10170"/>
                </a:lnTo>
                <a:lnTo>
                  <a:pt x="7517" y="10135"/>
                </a:lnTo>
                <a:cubicBezTo>
                  <a:pt x="7509" y="10132"/>
                  <a:pt x="7501" y="10127"/>
                  <a:pt x="7495" y="10121"/>
                </a:cubicBezTo>
                <a:lnTo>
                  <a:pt x="7407" y="10033"/>
                </a:lnTo>
                <a:lnTo>
                  <a:pt x="7424" y="10045"/>
                </a:lnTo>
                <a:lnTo>
                  <a:pt x="7382" y="10025"/>
                </a:lnTo>
                <a:lnTo>
                  <a:pt x="7441" y="9905"/>
                </a:lnTo>
                <a:close/>
                <a:moveTo>
                  <a:pt x="7889" y="9623"/>
                </a:moveTo>
                <a:lnTo>
                  <a:pt x="7994" y="9398"/>
                </a:lnTo>
                <a:lnTo>
                  <a:pt x="8086" y="9250"/>
                </a:lnTo>
                <a:cubicBezTo>
                  <a:pt x="8098" y="9231"/>
                  <a:pt x="8120" y="9219"/>
                  <a:pt x="8143" y="9219"/>
                </a:cubicBezTo>
                <a:cubicBezTo>
                  <a:pt x="8166" y="9220"/>
                  <a:pt x="8188" y="9232"/>
                  <a:pt x="8200" y="9252"/>
                </a:cubicBezTo>
                <a:lnTo>
                  <a:pt x="8253" y="9339"/>
                </a:lnTo>
                <a:cubicBezTo>
                  <a:pt x="8256" y="9345"/>
                  <a:pt x="8259" y="9352"/>
                  <a:pt x="8261" y="9360"/>
                </a:cubicBezTo>
                <a:lnTo>
                  <a:pt x="8264" y="9377"/>
                </a:lnTo>
                <a:lnTo>
                  <a:pt x="8134" y="9405"/>
                </a:lnTo>
                <a:lnTo>
                  <a:pt x="8130" y="9387"/>
                </a:lnTo>
                <a:lnTo>
                  <a:pt x="8138" y="9408"/>
                </a:lnTo>
                <a:lnTo>
                  <a:pt x="8085" y="9321"/>
                </a:lnTo>
                <a:lnTo>
                  <a:pt x="8199" y="9322"/>
                </a:lnTo>
                <a:lnTo>
                  <a:pt x="8115" y="9454"/>
                </a:lnTo>
                <a:lnTo>
                  <a:pt x="8010" y="9679"/>
                </a:lnTo>
                <a:lnTo>
                  <a:pt x="7889" y="9623"/>
                </a:lnTo>
                <a:close/>
                <a:moveTo>
                  <a:pt x="8347" y="9769"/>
                </a:moveTo>
                <a:lnTo>
                  <a:pt x="8349" y="9780"/>
                </a:lnTo>
                <a:lnTo>
                  <a:pt x="8420" y="10302"/>
                </a:lnTo>
                <a:lnTo>
                  <a:pt x="8288" y="10320"/>
                </a:lnTo>
                <a:lnTo>
                  <a:pt x="8219" y="9807"/>
                </a:lnTo>
                <a:lnTo>
                  <a:pt x="8216" y="9796"/>
                </a:lnTo>
                <a:lnTo>
                  <a:pt x="8347" y="9769"/>
                </a:lnTo>
                <a:close/>
                <a:moveTo>
                  <a:pt x="8473" y="10699"/>
                </a:moveTo>
                <a:lnTo>
                  <a:pt x="8527" y="11114"/>
                </a:lnTo>
                <a:lnTo>
                  <a:pt x="8549" y="11221"/>
                </a:lnTo>
                <a:lnTo>
                  <a:pt x="8419" y="11248"/>
                </a:lnTo>
                <a:lnTo>
                  <a:pt x="8394" y="11131"/>
                </a:lnTo>
                <a:lnTo>
                  <a:pt x="8341" y="10716"/>
                </a:lnTo>
                <a:lnTo>
                  <a:pt x="8473" y="10699"/>
                </a:lnTo>
                <a:close/>
                <a:moveTo>
                  <a:pt x="8631" y="11613"/>
                </a:moveTo>
                <a:lnTo>
                  <a:pt x="8632" y="11616"/>
                </a:lnTo>
                <a:lnTo>
                  <a:pt x="8566" y="11563"/>
                </a:lnTo>
                <a:lnTo>
                  <a:pt x="8602" y="11563"/>
                </a:lnTo>
                <a:lnTo>
                  <a:pt x="8536" y="11620"/>
                </a:lnTo>
                <a:lnTo>
                  <a:pt x="8612" y="11132"/>
                </a:lnTo>
                <a:lnTo>
                  <a:pt x="8743" y="11152"/>
                </a:lnTo>
                <a:lnTo>
                  <a:pt x="8668" y="11640"/>
                </a:lnTo>
                <a:cubicBezTo>
                  <a:pt x="8663" y="11673"/>
                  <a:pt x="8635" y="11697"/>
                  <a:pt x="8602" y="11697"/>
                </a:cubicBezTo>
                <a:lnTo>
                  <a:pt x="8566" y="11697"/>
                </a:lnTo>
                <a:cubicBezTo>
                  <a:pt x="8535" y="11697"/>
                  <a:pt x="8508" y="11675"/>
                  <a:pt x="8501" y="11644"/>
                </a:cubicBezTo>
                <a:lnTo>
                  <a:pt x="8500" y="11640"/>
                </a:lnTo>
                <a:lnTo>
                  <a:pt x="8631" y="11613"/>
                </a:lnTo>
                <a:close/>
                <a:moveTo>
                  <a:pt x="8653" y="10740"/>
                </a:moveTo>
                <a:lnTo>
                  <a:pt x="8685" y="10208"/>
                </a:lnTo>
                <a:lnTo>
                  <a:pt x="8818" y="10216"/>
                </a:lnTo>
                <a:lnTo>
                  <a:pt x="8786" y="10748"/>
                </a:lnTo>
                <a:lnTo>
                  <a:pt x="8653" y="10740"/>
                </a:lnTo>
                <a:close/>
                <a:moveTo>
                  <a:pt x="8709" y="9809"/>
                </a:moveTo>
                <a:lnTo>
                  <a:pt x="8729" y="9474"/>
                </a:lnTo>
                <a:lnTo>
                  <a:pt x="8737" y="9278"/>
                </a:lnTo>
                <a:lnTo>
                  <a:pt x="8871" y="9283"/>
                </a:lnTo>
                <a:lnTo>
                  <a:pt x="8863" y="9482"/>
                </a:lnTo>
                <a:lnTo>
                  <a:pt x="8842" y="9817"/>
                </a:lnTo>
                <a:lnTo>
                  <a:pt x="8709" y="9809"/>
                </a:lnTo>
                <a:close/>
                <a:moveTo>
                  <a:pt x="8754" y="8878"/>
                </a:moveTo>
                <a:lnTo>
                  <a:pt x="8775" y="8345"/>
                </a:lnTo>
                <a:lnTo>
                  <a:pt x="8909" y="8350"/>
                </a:lnTo>
                <a:lnTo>
                  <a:pt x="8887" y="8883"/>
                </a:lnTo>
                <a:lnTo>
                  <a:pt x="8754" y="8878"/>
                </a:lnTo>
                <a:close/>
                <a:moveTo>
                  <a:pt x="8792" y="7945"/>
                </a:moveTo>
                <a:lnTo>
                  <a:pt x="8813" y="7412"/>
                </a:lnTo>
                <a:lnTo>
                  <a:pt x="8947" y="7418"/>
                </a:lnTo>
                <a:lnTo>
                  <a:pt x="8925" y="7951"/>
                </a:lnTo>
                <a:lnTo>
                  <a:pt x="8792" y="7945"/>
                </a:lnTo>
                <a:close/>
                <a:moveTo>
                  <a:pt x="8828" y="7013"/>
                </a:moveTo>
                <a:lnTo>
                  <a:pt x="8847" y="6480"/>
                </a:lnTo>
                <a:lnTo>
                  <a:pt x="8981" y="6485"/>
                </a:lnTo>
                <a:lnTo>
                  <a:pt x="8962" y="7018"/>
                </a:lnTo>
                <a:lnTo>
                  <a:pt x="8828" y="7013"/>
                </a:lnTo>
                <a:close/>
                <a:moveTo>
                  <a:pt x="8862" y="6080"/>
                </a:moveTo>
                <a:lnTo>
                  <a:pt x="8881" y="5547"/>
                </a:lnTo>
                <a:lnTo>
                  <a:pt x="9014" y="5552"/>
                </a:lnTo>
                <a:lnTo>
                  <a:pt x="8995" y="6085"/>
                </a:lnTo>
                <a:lnTo>
                  <a:pt x="8862" y="6080"/>
                </a:lnTo>
                <a:close/>
                <a:moveTo>
                  <a:pt x="8896" y="5148"/>
                </a:moveTo>
                <a:lnTo>
                  <a:pt x="8906" y="4858"/>
                </a:lnTo>
                <a:lnTo>
                  <a:pt x="8917" y="4614"/>
                </a:lnTo>
                <a:lnTo>
                  <a:pt x="9050" y="4620"/>
                </a:lnTo>
                <a:lnTo>
                  <a:pt x="9039" y="4863"/>
                </a:lnTo>
                <a:lnTo>
                  <a:pt x="9029" y="5152"/>
                </a:lnTo>
                <a:lnTo>
                  <a:pt x="8896" y="5148"/>
                </a:lnTo>
                <a:close/>
                <a:moveTo>
                  <a:pt x="8935" y="4214"/>
                </a:moveTo>
                <a:lnTo>
                  <a:pt x="8959" y="3682"/>
                </a:lnTo>
                <a:lnTo>
                  <a:pt x="9092" y="3688"/>
                </a:lnTo>
                <a:lnTo>
                  <a:pt x="9068" y="4220"/>
                </a:lnTo>
                <a:lnTo>
                  <a:pt x="8935" y="4214"/>
                </a:lnTo>
                <a:close/>
                <a:moveTo>
                  <a:pt x="8977" y="3282"/>
                </a:moveTo>
                <a:lnTo>
                  <a:pt x="9001" y="2749"/>
                </a:lnTo>
                <a:lnTo>
                  <a:pt x="9135" y="2755"/>
                </a:lnTo>
                <a:lnTo>
                  <a:pt x="9110" y="3288"/>
                </a:lnTo>
                <a:lnTo>
                  <a:pt x="8977" y="3282"/>
                </a:lnTo>
                <a:close/>
                <a:moveTo>
                  <a:pt x="9015" y="2351"/>
                </a:moveTo>
                <a:lnTo>
                  <a:pt x="9026" y="1818"/>
                </a:lnTo>
                <a:lnTo>
                  <a:pt x="9160" y="1821"/>
                </a:lnTo>
                <a:lnTo>
                  <a:pt x="9149" y="2354"/>
                </a:lnTo>
                <a:lnTo>
                  <a:pt x="9015" y="2351"/>
                </a:lnTo>
                <a:close/>
                <a:moveTo>
                  <a:pt x="9035" y="1418"/>
                </a:moveTo>
                <a:lnTo>
                  <a:pt x="9046" y="885"/>
                </a:lnTo>
                <a:lnTo>
                  <a:pt x="9179" y="888"/>
                </a:lnTo>
                <a:lnTo>
                  <a:pt x="9168" y="1421"/>
                </a:lnTo>
                <a:lnTo>
                  <a:pt x="9035" y="1418"/>
                </a:lnTo>
                <a:close/>
                <a:moveTo>
                  <a:pt x="9093" y="480"/>
                </a:moveTo>
                <a:lnTo>
                  <a:pt x="9154" y="58"/>
                </a:lnTo>
                <a:cubicBezTo>
                  <a:pt x="9159" y="26"/>
                  <a:pt x="9186" y="2"/>
                  <a:pt x="9218" y="1"/>
                </a:cubicBezTo>
                <a:cubicBezTo>
                  <a:pt x="9251" y="0"/>
                  <a:pt x="9279" y="23"/>
                  <a:pt x="9285" y="56"/>
                </a:cubicBezTo>
                <a:lnTo>
                  <a:pt x="9305" y="161"/>
                </a:lnTo>
                <a:lnTo>
                  <a:pt x="9174" y="186"/>
                </a:lnTo>
                <a:lnTo>
                  <a:pt x="9154" y="80"/>
                </a:lnTo>
                <a:lnTo>
                  <a:pt x="9286" y="77"/>
                </a:lnTo>
                <a:lnTo>
                  <a:pt x="9225" y="499"/>
                </a:lnTo>
                <a:lnTo>
                  <a:pt x="9093" y="480"/>
                </a:lnTo>
                <a:close/>
                <a:moveTo>
                  <a:pt x="9376" y="563"/>
                </a:moveTo>
                <a:lnTo>
                  <a:pt x="9406" y="1096"/>
                </a:lnTo>
                <a:lnTo>
                  <a:pt x="9273" y="1103"/>
                </a:lnTo>
                <a:lnTo>
                  <a:pt x="9243" y="571"/>
                </a:lnTo>
                <a:lnTo>
                  <a:pt x="9376" y="563"/>
                </a:lnTo>
                <a:close/>
                <a:moveTo>
                  <a:pt x="9429" y="1495"/>
                </a:moveTo>
                <a:lnTo>
                  <a:pt x="9459" y="2027"/>
                </a:lnTo>
                <a:lnTo>
                  <a:pt x="9326" y="2035"/>
                </a:lnTo>
                <a:lnTo>
                  <a:pt x="9296" y="1503"/>
                </a:lnTo>
                <a:lnTo>
                  <a:pt x="9429" y="1495"/>
                </a:lnTo>
                <a:close/>
                <a:moveTo>
                  <a:pt x="9476" y="2428"/>
                </a:moveTo>
                <a:lnTo>
                  <a:pt x="9496" y="2961"/>
                </a:lnTo>
                <a:lnTo>
                  <a:pt x="9362" y="2966"/>
                </a:lnTo>
                <a:lnTo>
                  <a:pt x="9342" y="2433"/>
                </a:lnTo>
                <a:lnTo>
                  <a:pt x="9476" y="2428"/>
                </a:lnTo>
                <a:close/>
                <a:moveTo>
                  <a:pt x="9510" y="3361"/>
                </a:moveTo>
                <a:lnTo>
                  <a:pt x="9530" y="3894"/>
                </a:lnTo>
                <a:lnTo>
                  <a:pt x="9397" y="3899"/>
                </a:lnTo>
                <a:lnTo>
                  <a:pt x="9377" y="3366"/>
                </a:lnTo>
                <a:lnTo>
                  <a:pt x="9510" y="3361"/>
                </a:lnTo>
                <a:close/>
                <a:moveTo>
                  <a:pt x="9545" y="4294"/>
                </a:moveTo>
                <a:lnTo>
                  <a:pt x="9551" y="4456"/>
                </a:lnTo>
                <a:lnTo>
                  <a:pt x="9559" y="4828"/>
                </a:lnTo>
                <a:lnTo>
                  <a:pt x="9426" y="4831"/>
                </a:lnTo>
                <a:lnTo>
                  <a:pt x="9418" y="4461"/>
                </a:lnTo>
                <a:lnTo>
                  <a:pt x="9412" y="4299"/>
                </a:lnTo>
                <a:lnTo>
                  <a:pt x="9545" y="4294"/>
                </a:lnTo>
                <a:close/>
                <a:moveTo>
                  <a:pt x="9567" y="5228"/>
                </a:moveTo>
                <a:lnTo>
                  <a:pt x="9577" y="5761"/>
                </a:lnTo>
                <a:lnTo>
                  <a:pt x="9444" y="5764"/>
                </a:lnTo>
                <a:lnTo>
                  <a:pt x="9434" y="5231"/>
                </a:lnTo>
                <a:lnTo>
                  <a:pt x="9567" y="5228"/>
                </a:lnTo>
                <a:close/>
                <a:moveTo>
                  <a:pt x="9585" y="6161"/>
                </a:moveTo>
                <a:lnTo>
                  <a:pt x="9596" y="6694"/>
                </a:lnTo>
                <a:lnTo>
                  <a:pt x="9463" y="6697"/>
                </a:lnTo>
                <a:lnTo>
                  <a:pt x="9452" y="6164"/>
                </a:lnTo>
                <a:lnTo>
                  <a:pt x="9585" y="6161"/>
                </a:lnTo>
                <a:close/>
                <a:moveTo>
                  <a:pt x="9604" y="7094"/>
                </a:moveTo>
                <a:lnTo>
                  <a:pt x="9604" y="7116"/>
                </a:lnTo>
                <a:lnTo>
                  <a:pt x="9623" y="7626"/>
                </a:lnTo>
                <a:lnTo>
                  <a:pt x="9489" y="7631"/>
                </a:lnTo>
                <a:lnTo>
                  <a:pt x="9471" y="7118"/>
                </a:lnTo>
                <a:lnTo>
                  <a:pt x="9471" y="7097"/>
                </a:lnTo>
                <a:lnTo>
                  <a:pt x="9604" y="7094"/>
                </a:lnTo>
                <a:close/>
                <a:moveTo>
                  <a:pt x="9637" y="8026"/>
                </a:moveTo>
                <a:lnTo>
                  <a:pt x="9656" y="8559"/>
                </a:lnTo>
                <a:lnTo>
                  <a:pt x="9523" y="8564"/>
                </a:lnTo>
                <a:lnTo>
                  <a:pt x="9504" y="8031"/>
                </a:lnTo>
                <a:lnTo>
                  <a:pt x="9637" y="8026"/>
                </a:lnTo>
                <a:close/>
                <a:moveTo>
                  <a:pt x="9670" y="8959"/>
                </a:moveTo>
                <a:lnTo>
                  <a:pt x="9689" y="9492"/>
                </a:lnTo>
                <a:lnTo>
                  <a:pt x="9556" y="9496"/>
                </a:lnTo>
                <a:lnTo>
                  <a:pt x="9537" y="8963"/>
                </a:lnTo>
                <a:lnTo>
                  <a:pt x="9670" y="8959"/>
                </a:lnTo>
                <a:close/>
                <a:moveTo>
                  <a:pt x="9709" y="9890"/>
                </a:moveTo>
                <a:lnTo>
                  <a:pt x="9740" y="10422"/>
                </a:lnTo>
                <a:lnTo>
                  <a:pt x="9607" y="10430"/>
                </a:lnTo>
                <a:lnTo>
                  <a:pt x="9576" y="9897"/>
                </a:lnTo>
                <a:lnTo>
                  <a:pt x="9709" y="9890"/>
                </a:lnTo>
                <a:close/>
                <a:moveTo>
                  <a:pt x="9763" y="10822"/>
                </a:moveTo>
                <a:lnTo>
                  <a:pt x="9793" y="11354"/>
                </a:lnTo>
                <a:lnTo>
                  <a:pt x="9660" y="11362"/>
                </a:lnTo>
                <a:lnTo>
                  <a:pt x="9630" y="10829"/>
                </a:lnTo>
                <a:lnTo>
                  <a:pt x="9763" y="10822"/>
                </a:lnTo>
                <a:close/>
                <a:moveTo>
                  <a:pt x="9824" y="11751"/>
                </a:moveTo>
                <a:lnTo>
                  <a:pt x="9869" y="12282"/>
                </a:lnTo>
                <a:lnTo>
                  <a:pt x="9736" y="12294"/>
                </a:lnTo>
                <a:lnTo>
                  <a:pt x="9691" y="11762"/>
                </a:lnTo>
                <a:lnTo>
                  <a:pt x="9824" y="11751"/>
                </a:lnTo>
                <a:close/>
                <a:moveTo>
                  <a:pt x="9939" y="12659"/>
                </a:moveTo>
                <a:lnTo>
                  <a:pt x="9972" y="12764"/>
                </a:lnTo>
                <a:lnTo>
                  <a:pt x="9844" y="12769"/>
                </a:lnTo>
                <a:lnTo>
                  <a:pt x="9932" y="12402"/>
                </a:lnTo>
                <a:lnTo>
                  <a:pt x="9931" y="12412"/>
                </a:lnTo>
                <a:lnTo>
                  <a:pt x="9934" y="12367"/>
                </a:lnTo>
                <a:lnTo>
                  <a:pt x="10067" y="12378"/>
                </a:lnTo>
                <a:lnTo>
                  <a:pt x="10063" y="12422"/>
                </a:lnTo>
                <a:cubicBezTo>
                  <a:pt x="10063" y="12426"/>
                  <a:pt x="10063" y="12429"/>
                  <a:pt x="10062" y="12433"/>
                </a:cubicBezTo>
                <a:lnTo>
                  <a:pt x="9973" y="12800"/>
                </a:lnTo>
                <a:cubicBezTo>
                  <a:pt x="9966" y="12829"/>
                  <a:pt x="9941" y="12850"/>
                  <a:pt x="9911" y="12851"/>
                </a:cubicBezTo>
                <a:cubicBezTo>
                  <a:pt x="9881" y="12852"/>
                  <a:pt x="9854" y="12833"/>
                  <a:pt x="9845" y="12805"/>
                </a:cubicBezTo>
                <a:lnTo>
                  <a:pt x="9812" y="12699"/>
                </a:lnTo>
                <a:lnTo>
                  <a:pt x="9939" y="12659"/>
                </a:lnTo>
                <a:close/>
                <a:moveTo>
                  <a:pt x="9965" y="11969"/>
                </a:moveTo>
                <a:lnTo>
                  <a:pt x="9984" y="11730"/>
                </a:lnTo>
                <a:lnTo>
                  <a:pt x="10019" y="11435"/>
                </a:lnTo>
                <a:lnTo>
                  <a:pt x="10151" y="11451"/>
                </a:lnTo>
                <a:lnTo>
                  <a:pt x="10116" y="11740"/>
                </a:lnTo>
                <a:lnTo>
                  <a:pt x="10098" y="11979"/>
                </a:lnTo>
                <a:lnTo>
                  <a:pt x="9965" y="11969"/>
                </a:lnTo>
                <a:close/>
                <a:moveTo>
                  <a:pt x="10067" y="11038"/>
                </a:moveTo>
                <a:lnTo>
                  <a:pt x="10072" y="10992"/>
                </a:lnTo>
                <a:lnTo>
                  <a:pt x="10163" y="10509"/>
                </a:lnTo>
                <a:lnTo>
                  <a:pt x="10294" y="10534"/>
                </a:lnTo>
                <a:lnTo>
                  <a:pt x="10204" y="11008"/>
                </a:lnTo>
                <a:lnTo>
                  <a:pt x="10199" y="11054"/>
                </a:lnTo>
                <a:lnTo>
                  <a:pt x="10067" y="11038"/>
                </a:lnTo>
                <a:close/>
                <a:moveTo>
                  <a:pt x="10406" y="10146"/>
                </a:moveTo>
                <a:lnTo>
                  <a:pt x="10421" y="10146"/>
                </a:lnTo>
                <a:cubicBezTo>
                  <a:pt x="10452" y="10146"/>
                  <a:pt x="10479" y="10168"/>
                  <a:pt x="10486" y="10198"/>
                </a:cubicBezTo>
                <a:lnTo>
                  <a:pt x="10539" y="10425"/>
                </a:lnTo>
                <a:lnTo>
                  <a:pt x="10623" y="10692"/>
                </a:lnTo>
                <a:lnTo>
                  <a:pt x="10496" y="10733"/>
                </a:lnTo>
                <a:lnTo>
                  <a:pt x="10409" y="10456"/>
                </a:lnTo>
                <a:lnTo>
                  <a:pt x="10356" y="10228"/>
                </a:lnTo>
                <a:lnTo>
                  <a:pt x="10421" y="10280"/>
                </a:lnTo>
                <a:lnTo>
                  <a:pt x="10406" y="10280"/>
                </a:lnTo>
                <a:lnTo>
                  <a:pt x="10406" y="10146"/>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430880" y="3510000"/>
            <a:ext cx="1122120" cy="826920"/>
          </a:xfrm>
          <a:custGeom>
            <a:avLst/>
            <a:gdLst/>
            <a:ahLst/>
            <a:rect l="l" t="t" r="r" b="b"/>
            <a:pathLst>
              <a:path w="5369" h="3929">
                <a:moveTo>
                  <a:pt x="57" y="2846"/>
                </a:moveTo>
                <a:lnTo>
                  <a:pt x="101" y="2916"/>
                </a:lnTo>
                <a:lnTo>
                  <a:pt x="83" y="2902"/>
                </a:lnTo>
                <a:lnTo>
                  <a:pt x="136" y="2919"/>
                </a:lnTo>
                <a:lnTo>
                  <a:pt x="102" y="2927"/>
                </a:lnTo>
                <a:lnTo>
                  <a:pt x="120" y="2910"/>
                </a:lnTo>
                <a:lnTo>
                  <a:pt x="175" y="2864"/>
                </a:lnTo>
                <a:cubicBezTo>
                  <a:pt x="177" y="2863"/>
                  <a:pt x="178" y="2862"/>
                  <a:pt x="179" y="2861"/>
                </a:cubicBezTo>
                <a:lnTo>
                  <a:pt x="209" y="2844"/>
                </a:lnTo>
                <a:lnTo>
                  <a:pt x="243" y="2901"/>
                </a:lnTo>
                <a:lnTo>
                  <a:pt x="213" y="2919"/>
                </a:lnTo>
                <a:lnTo>
                  <a:pt x="218" y="2916"/>
                </a:lnTo>
                <a:lnTo>
                  <a:pt x="167" y="2957"/>
                </a:lnTo>
                <a:lnTo>
                  <a:pt x="149" y="2975"/>
                </a:lnTo>
                <a:cubicBezTo>
                  <a:pt x="140" y="2984"/>
                  <a:pt x="127" y="2987"/>
                  <a:pt x="115" y="2983"/>
                </a:cubicBezTo>
                <a:lnTo>
                  <a:pt x="62" y="2965"/>
                </a:lnTo>
                <a:cubicBezTo>
                  <a:pt x="55" y="2963"/>
                  <a:pt x="49" y="2958"/>
                  <a:pt x="45" y="2951"/>
                </a:cubicBezTo>
                <a:lnTo>
                  <a:pt x="0" y="2882"/>
                </a:lnTo>
                <a:lnTo>
                  <a:pt x="57" y="2846"/>
                </a:lnTo>
                <a:close/>
                <a:moveTo>
                  <a:pt x="411" y="2874"/>
                </a:moveTo>
                <a:lnTo>
                  <a:pt x="453" y="2874"/>
                </a:lnTo>
                <a:lnTo>
                  <a:pt x="497" y="2874"/>
                </a:lnTo>
                <a:lnTo>
                  <a:pt x="541" y="2874"/>
                </a:lnTo>
                <a:lnTo>
                  <a:pt x="586" y="2874"/>
                </a:lnTo>
                <a:cubicBezTo>
                  <a:pt x="594" y="2874"/>
                  <a:pt x="603" y="2878"/>
                  <a:pt x="609" y="2884"/>
                </a:cubicBezTo>
                <a:lnTo>
                  <a:pt x="635" y="2910"/>
                </a:lnTo>
                <a:lnTo>
                  <a:pt x="624" y="2903"/>
                </a:lnTo>
                <a:lnTo>
                  <a:pt x="669" y="2920"/>
                </a:lnTo>
                <a:lnTo>
                  <a:pt x="677" y="2924"/>
                </a:lnTo>
                <a:lnTo>
                  <a:pt x="648" y="2984"/>
                </a:lnTo>
                <a:lnTo>
                  <a:pt x="644" y="2982"/>
                </a:lnTo>
                <a:lnTo>
                  <a:pt x="600" y="2965"/>
                </a:lnTo>
                <a:cubicBezTo>
                  <a:pt x="596" y="2963"/>
                  <a:pt x="592" y="2960"/>
                  <a:pt x="589" y="2957"/>
                </a:cubicBezTo>
                <a:lnTo>
                  <a:pt x="562" y="2931"/>
                </a:lnTo>
                <a:lnTo>
                  <a:pt x="586" y="2941"/>
                </a:lnTo>
                <a:lnTo>
                  <a:pt x="541" y="2941"/>
                </a:lnTo>
                <a:lnTo>
                  <a:pt x="497" y="2941"/>
                </a:lnTo>
                <a:lnTo>
                  <a:pt x="453" y="2941"/>
                </a:lnTo>
                <a:lnTo>
                  <a:pt x="411" y="2941"/>
                </a:lnTo>
                <a:lnTo>
                  <a:pt x="411" y="2874"/>
                </a:lnTo>
                <a:close/>
                <a:moveTo>
                  <a:pt x="860" y="3004"/>
                </a:moveTo>
                <a:lnTo>
                  <a:pt x="885" y="3018"/>
                </a:lnTo>
                <a:lnTo>
                  <a:pt x="930" y="3045"/>
                </a:lnTo>
                <a:lnTo>
                  <a:pt x="913" y="3040"/>
                </a:lnTo>
                <a:lnTo>
                  <a:pt x="966" y="3040"/>
                </a:lnTo>
                <a:cubicBezTo>
                  <a:pt x="970" y="3040"/>
                  <a:pt x="974" y="3041"/>
                  <a:pt x="978" y="3042"/>
                </a:cubicBezTo>
                <a:lnTo>
                  <a:pt x="1022" y="3060"/>
                </a:lnTo>
                <a:lnTo>
                  <a:pt x="1010" y="3057"/>
                </a:lnTo>
                <a:lnTo>
                  <a:pt x="1054" y="3057"/>
                </a:lnTo>
                <a:cubicBezTo>
                  <a:pt x="1063" y="3057"/>
                  <a:pt x="1071" y="3061"/>
                  <a:pt x="1078" y="3067"/>
                </a:cubicBezTo>
                <a:lnTo>
                  <a:pt x="1104" y="3093"/>
                </a:lnTo>
                <a:lnTo>
                  <a:pt x="1081" y="3084"/>
                </a:lnTo>
                <a:lnTo>
                  <a:pt x="1085" y="3084"/>
                </a:lnTo>
                <a:lnTo>
                  <a:pt x="1085" y="3150"/>
                </a:lnTo>
                <a:lnTo>
                  <a:pt x="1081" y="3150"/>
                </a:lnTo>
                <a:cubicBezTo>
                  <a:pt x="1072" y="3150"/>
                  <a:pt x="1064" y="3147"/>
                  <a:pt x="1057" y="3141"/>
                </a:cubicBezTo>
                <a:lnTo>
                  <a:pt x="1031" y="3114"/>
                </a:lnTo>
                <a:lnTo>
                  <a:pt x="1054" y="3124"/>
                </a:lnTo>
                <a:lnTo>
                  <a:pt x="1010" y="3124"/>
                </a:lnTo>
                <a:cubicBezTo>
                  <a:pt x="1006" y="3124"/>
                  <a:pt x="1002" y="3123"/>
                  <a:pt x="998" y="3122"/>
                </a:cubicBezTo>
                <a:lnTo>
                  <a:pt x="953" y="3104"/>
                </a:lnTo>
                <a:lnTo>
                  <a:pt x="966" y="3107"/>
                </a:lnTo>
                <a:lnTo>
                  <a:pt x="913" y="3107"/>
                </a:lnTo>
                <a:cubicBezTo>
                  <a:pt x="907" y="3107"/>
                  <a:pt x="901" y="3105"/>
                  <a:pt x="896" y="3102"/>
                </a:cubicBezTo>
                <a:lnTo>
                  <a:pt x="851" y="3076"/>
                </a:lnTo>
                <a:lnTo>
                  <a:pt x="827" y="3061"/>
                </a:lnTo>
                <a:lnTo>
                  <a:pt x="860" y="3004"/>
                </a:lnTo>
                <a:close/>
                <a:moveTo>
                  <a:pt x="1291" y="3164"/>
                </a:moveTo>
                <a:lnTo>
                  <a:pt x="1307" y="3180"/>
                </a:lnTo>
                <a:lnTo>
                  <a:pt x="1284" y="3171"/>
                </a:lnTo>
                <a:lnTo>
                  <a:pt x="1337" y="3171"/>
                </a:lnTo>
                <a:cubicBezTo>
                  <a:pt x="1343" y="3171"/>
                  <a:pt x="1349" y="3172"/>
                  <a:pt x="1354" y="3176"/>
                </a:cubicBezTo>
                <a:lnTo>
                  <a:pt x="1398" y="3202"/>
                </a:lnTo>
                <a:lnTo>
                  <a:pt x="1443" y="3228"/>
                </a:lnTo>
                <a:lnTo>
                  <a:pt x="1438" y="3226"/>
                </a:lnTo>
                <a:lnTo>
                  <a:pt x="1482" y="3243"/>
                </a:lnTo>
                <a:cubicBezTo>
                  <a:pt x="1486" y="3245"/>
                  <a:pt x="1490" y="3247"/>
                  <a:pt x="1493" y="3250"/>
                </a:cubicBezTo>
                <a:lnTo>
                  <a:pt x="1520" y="3276"/>
                </a:lnTo>
                <a:lnTo>
                  <a:pt x="1513" y="3272"/>
                </a:lnTo>
                <a:lnTo>
                  <a:pt x="1516" y="3273"/>
                </a:lnTo>
                <a:lnTo>
                  <a:pt x="1482" y="3330"/>
                </a:lnTo>
                <a:lnTo>
                  <a:pt x="1479" y="3329"/>
                </a:lnTo>
                <a:cubicBezTo>
                  <a:pt x="1477" y="3328"/>
                  <a:pt x="1475" y="3326"/>
                  <a:pt x="1473" y="3324"/>
                </a:cubicBezTo>
                <a:lnTo>
                  <a:pt x="1446" y="3298"/>
                </a:lnTo>
                <a:lnTo>
                  <a:pt x="1457" y="3305"/>
                </a:lnTo>
                <a:lnTo>
                  <a:pt x="1413" y="3288"/>
                </a:lnTo>
                <a:cubicBezTo>
                  <a:pt x="1412" y="3287"/>
                  <a:pt x="1410" y="3286"/>
                  <a:pt x="1409" y="3285"/>
                </a:cubicBezTo>
                <a:lnTo>
                  <a:pt x="1364" y="3259"/>
                </a:lnTo>
                <a:lnTo>
                  <a:pt x="1320" y="3233"/>
                </a:lnTo>
                <a:lnTo>
                  <a:pt x="1337" y="3238"/>
                </a:lnTo>
                <a:lnTo>
                  <a:pt x="1284" y="3238"/>
                </a:lnTo>
                <a:cubicBezTo>
                  <a:pt x="1275" y="3238"/>
                  <a:pt x="1267" y="3234"/>
                  <a:pt x="1261" y="3228"/>
                </a:cubicBezTo>
                <a:lnTo>
                  <a:pt x="1244" y="3212"/>
                </a:lnTo>
                <a:lnTo>
                  <a:pt x="1291" y="3164"/>
                </a:lnTo>
                <a:close/>
                <a:moveTo>
                  <a:pt x="1673" y="3354"/>
                </a:moveTo>
                <a:lnTo>
                  <a:pt x="1682" y="3354"/>
                </a:lnTo>
                <a:lnTo>
                  <a:pt x="1670" y="3357"/>
                </a:lnTo>
                <a:lnTo>
                  <a:pt x="1714" y="3339"/>
                </a:lnTo>
                <a:lnTo>
                  <a:pt x="1703" y="3346"/>
                </a:lnTo>
                <a:lnTo>
                  <a:pt x="1729" y="3320"/>
                </a:lnTo>
                <a:lnTo>
                  <a:pt x="1773" y="3276"/>
                </a:lnTo>
                <a:lnTo>
                  <a:pt x="1829" y="3231"/>
                </a:lnTo>
                <a:cubicBezTo>
                  <a:pt x="1838" y="3223"/>
                  <a:pt x="1851" y="3221"/>
                  <a:pt x="1862" y="3226"/>
                </a:cubicBezTo>
                <a:lnTo>
                  <a:pt x="1902" y="3241"/>
                </a:lnTo>
                <a:lnTo>
                  <a:pt x="1877" y="3303"/>
                </a:lnTo>
                <a:lnTo>
                  <a:pt x="1838" y="3288"/>
                </a:lnTo>
                <a:lnTo>
                  <a:pt x="1871" y="3282"/>
                </a:lnTo>
                <a:lnTo>
                  <a:pt x="1820" y="3324"/>
                </a:lnTo>
                <a:lnTo>
                  <a:pt x="1776" y="3368"/>
                </a:lnTo>
                <a:lnTo>
                  <a:pt x="1750" y="3394"/>
                </a:lnTo>
                <a:cubicBezTo>
                  <a:pt x="1746" y="3397"/>
                  <a:pt x="1743" y="3399"/>
                  <a:pt x="1738" y="3401"/>
                </a:cubicBezTo>
                <a:lnTo>
                  <a:pt x="1694" y="3419"/>
                </a:lnTo>
                <a:cubicBezTo>
                  <a:pt x="1690" y="3420"/>
                  <a:pt x="1686" y="3421"/>
                  <a:pt x="1682" y="3421"/>
                </a:cubicBezTo>
                <a:lnTo>
                  <a:pt x="1673" y="3421"/>
                </a:lnTo>
                <a:lnTo>
                  <a:pt x="1673" y="3354"/>
                </a:lnTo>
                <a:close/>
                <a:moveTo>
                  <a:pt x="1986" y="3452"/>
                </a:moveTo>
                <a:lnTo>
                  <a:pt x="1998" y="3522"/>
                </a:lnTo>
                <a:lnTo>
                  <a:pt x="2042" y="3703"/>
                </a:lnTo>
                <a:lnTo>
                  <a:pt x="2043" y="3708"/>
                </a:lnTo>
                <a:lnTo>
                  <a:pt x="1980" y="3728"/>
                </a:lnTo>
                <a:lnTo>
                  <a:pt x="1977" y="3718"/>
                </a:lnTo>
                <a:lnTo>
                  <a:pt x="1932" y="3533"/>
                </a:lnTo>
                <a:lnTo>
                  <a:pt x="1920" y="3463"/>
                </a:lnTo>
                <a:lnTo>
                  <a:pt x="1986" y="3452"/>
                </a:lnTo>
                <a:close/>
                <a:moveTo>
                  <a:pt x="2122" y="3863"/>
                </a:moveTo>
                <a:lnTo>
                  <a:pt x="2128" y="3868"/>
                </a:lnTo>
                <a:lnTo>
                  <a:pt x="2077" y="3879"/>
                </a:lnTo>
                <a:lnTo>
                  <a:pt x="2121" y="3791"/>
                </a:lnTo>
                <a:lnTo>
                  <a:pt x="2117" y="3805"/>
                </a:lnTo>
                <a:lnTo>
                  <a:pt x="2126" y="3644"/>
                </a:lnTo>
                <a:lnTo>
                  <a:pt x="2193" y="3647"/>
                </a:lnTo>
                <a:lnTo>
                  <a:pt x="2184" y="3808"/>
                </a:lnTo>
                <a:cubicBezTo>
                  <a:pt x="2184" y="3813"/>
                  <a:pt x="2182" y="3817"/>
                  <a:pt x="2180" y="3822"/>
                </a:cubicBezTo>
                <a:lnTo>
                  <a:pt x="2136" y="3909"/>
                </a:lnTo>
                <a:cubicBezTo>
                  <a:pt x="2132" y="3918"/>
                  <a:pt x="2123" y="3924"/>
                  <a:pt x="2113" y="3926"/>
                </a:cubicBezTo>
                <a:cubicBezTo>
                  <a:pt x="2103" y="3929"/>
                  <a:pt x="2093" y="3926"/>
                  <a:pt x="2085" y="3920"/>
                </a:cubicBezTo>
                <a:lnTo>
                  <a:pt x="2079" y="3915"/>
                </a:lnTo>
                <a:lnTo>
                  <a:pt x="2122" y="3863"/>
                </a:lnTo>
                <a:close/>
                <a:moveTo>
                  <a:pt x="2139" y="3442"/>
                </a:moveTo>
                <a:lnTo>
                  <a:pt x="2169" y="3177"/>
                </a:lnTo>
                <a:lnTo>
                  <a:pt x="2235" y="3184"/>
                </a:lnTo>
                <a:lnTo>
                  <a:pt x="2206" y="3449"/>
                </a:lnTo>
                <a:lnTo>
                  <a:pt x="2139" y="3442"/>
                </a:lnTo>
                <a:close/>
                <a:moveTo>
                  <a:pt x="2190" y="2979"/>
                </a:moveTo>
                <a:lnTo>
                  <a:pt x="2209" y="2714"/>
                </a:lnTo>
                <a:lnTo>
                  <a:pt x="2276" y="2718"/>
                </a:lnTo>
                <a:lnTo>
                  <a:pt x="2256" y="2984"/>
                </a:lnTo>
                <a:lnTo>
                  <a:pt x="2190" y="2979"/>
                </a:lnTo>
                <a:close/>
                <a:moveTo>
                  <a:pt x="2224" y="2514"/>
                </a:moveTo>
                <a:lnTo>
                  <a:pt x="2232" y="2399"/>
                </a:lnTo>
                <a:lnTo>
                  <a:pt x="2243" y="2248"/>
                </a:lnTo>
                <a:lnTo>
                  <a:pt x="2310" y="2253"/>
                </a:lnTo>
                <a:lnTo>
                  <a:pt x="2299" y="2404"/>
                </a:lnTo>
                <a:lnTo>
                  <a:pt x="2290" y="2519"/>
                </a:lnTo>
                <a:lnTo>
                  <a:pt x="2224" y="2514"/>
                </a:lnTo>
                <a:close/>
                <a:moveTo>
                  <a:pt x="2257" y="2049"/>
                </a:moveTo>
                <a:lnTo>
                  <a:pt x="2276" y="1783"/>
                </a:lnTo>
                <a:lnTo>
                  <a:pt x="2343" y="1787"/>
                </a:lnTo>
                <a:lnTo>
                  <a:pt x="2324" y="2053"/>
                </a:lnTo>
                <a:lnTo>
                  <a:pt x="2257" y="2049"/>
                </a:lnTo>
                <a:close/>
                <a:moveTo>
                  <a:pt x="2294" y="1583"/>
                </a:moveTo>
                <a:lnTo>
                  <a:pt x="2317" y="1317"/>
                </a:lnTo>
                <a:lnTo>
                  <a:pt x="2383" y="1323"/>
                </a:lnTo>
                <a:lnTo>
                  <a:pt x="2360" y="1589"/>
                </a:lnTo>
                <a:lnTo>
                  <a:pt x="2294" y="1583"/>
                </a:lnTo>
                <a:close/>
                <a:moveTo>
                  <a:pt x="2346" y="1117"/>
                </a:moveTo>
                <a:lnTo>
                  <a:pt x="2374" y="947"/>
                </a:lnTo>
                <a:lnTo>
                  <a:pt x="2392" y="874"/>
                </a:lnTo>
                <a:cubicBezTo>
                  <a:pt x="2396" y="860"/>
                  <a:pt x="2409" y="849"/>
                  <a:pt x="2424" y="849"/>
                </a:cubicBezTo>
                <a:cubicBezTo>
                  <a:pt x="2439" y="848"/>
                  <a:pt x="2452" y="858"/>
                  <a:pt x="2456" y="872"/>
                </a:cubicBezTo>
                <a:lnTo>
                  <a:pt x="2463" y="893"/>
                </a:lnTo>
                <a:lnTo>
                  <a:pt x="2400" y="913"/>
                </a:lnTo>
                <a:lnTo>
                  <a:pt x="2393" y="892"/>
                </a:lnTo>
                <a:lnTo>
                  <a:pt x="2457" y="890"/>
                </a:lnTo>
                <a:lnTo>
                  <a:pt x="2440" y="957"/>
                </a:lnTo>
                <a:lnTo>
                  <a:pt x="2412" y="1128"/>
                </a:lnTo>
                <a:lnTo>
                  <a:pt x="2346" y="1117"/>
                </a:lnTo>
                <a:close/>
                <a:moveTo>
                  <a:pt x="2518" y="1091"/>
                </a:moveTo>
                <a:lnTo>
                  <a:pt x="2555" y="1340"/>
                </a:lnTo>
                <a:lnTo>
                  <a:pt x="2557" y="1356"/>
                </a:lnTo>
                <a:lnTo>
                  <a:pt x="2490" y="1363"/>
                </a:lnTo>
                <a:lnTo>
                  <a:pt x="2489" y="1350"/>
                </a:lnTo>
                <a:lnTo>
                  <a:pt x="2452" y="1100"/>
                </a:lnTo>
                <a:lnTo>
                  <a:pt x="2518" y="1091"/>
                </a:lnTo>
                <a:close/>
                <a:moveTo>
                  <a:pt x="2579" y="1554"/>
                </a:moveTo>
                <a:lnTo>
                  <a:pt x="2599" y="1734"/>
                </a:lnTo>
                <a:lnTo>
                  <a:pt x="2609" y="1819"/>
                </a:lnTo>
                <a:lnTo>
                  <a:pt x="2543" y="1827"/>
                </a:lnTo>
                <a:lnTo>
                  <a:pt x="2533" y="1741"/>
                </a:lnTo>
                <a:lnTo>
                  <a:pt x="2513" y="1562"/>
                </a:lnTo>
                <a:lnTo>
                  <a:pt x="2579" y="1554"/>
                </a:lnTo>
                <a:close/>
                <a:moveTo>
                  <a:pt x="2631" y="2018"/>
                </a:moveTo>
                <a:lnTo>
                  <a:pt x="2643" y="2127"/>
                </a:lnTo>
                <a:lnTo>
                  <a:pt x="2658" y="2284"/>
                </a:lnTo>
                <a:lnTo>
                  <a:pt x="2591" y="2290"/>
                </a:lnTo>
                <a:lnTo>
                  <a:pt x="2577" y="2134"/>
                </a:lnTo>
                <a:lnTo>
                  <a:pt x="2565" y="2025"/>
                </a:lnTo>
                <a:lnTo>
                  <a:pt x="2631" y="2018"/>
                </a:lnTo>
                <a:close/>
                <a:moveTo>
                  <a:pt x="2682" y="2478"/>
                </a:moveTo>
                <a:lnTo>
                  <a:pt x="2714" y="2630"/>
                </a:lnTo>
                <a:lnTo>
                  <a:pt x="2711" y="2623"/>
                </a:lnTo>
                <a:lnTo>
                  <a:pt x="2759" y="2724"/>
                </a:lnTo>
                <a:lnTo>
                  <a:pt x="2698" y="2752"/>
                </a:lnTo>
                <a:lnTo>
                  <a:pt x="2651" y="2651"/>
                </a:lnTo>
                <a:cubicBezTo>
                  <a:pt x="2650" y="2649"/>
                  <a:pt x="2649" y="2646"/>
                  <a:pt x="2648" y="2644"/>
                </a:cubicBezTo>
                <a:lnTo>
                  <a:pt x="2617" y="2492"/>
                </a:lnTo>
                <a:lnTo>
                  <a:pt x="2682" y="2478"/>
                </a:lnTo>
                <a:close/>
                <a:moveTo>
                  <a:pt x="2846" y="2904"/>
                </a:moveTo>
                <a:lnTo>
                  <a:pt x="2853" y="2920"/>
                </a:lnTo>
                <a:lnTo>
                  <a:pt x="2881" y="3011"/>
                </a:lnTo>
                <a:lnTo>
                  <a:pt x="2924" y="3103"/>
                </a:lnTo>
                <a:lnTo>
                  <a:pt x="2917" y="3093"/>
                </a:lnTo>
                <a:lnTo>
                  <a:pt x="2954" y="3130"/>
                </a:lnTo>
                <a:lnTo>
                  <a:pt x="2907" y="3178"/>
                </a:lnTo>
                <a:lnTo>
                  <a:pt x="2870" y="3141"/>
                </a:lnTo>
                <a:cubicBezTo>
                  <a:pt x="2867" y="3138"/>
                  <a:pt x="2865" y="3134"/>
                  <a:pt x="2863" y="3131"/>
                </a:cubicBezTo>
                <a:lnTo>
                  <a:pt x="2817" y="3031"/>
                </a:lnTo>
                <a:lnTo>
                  <a:pt x="2792" y="2948"/>
                </a:lnTo>
                <a:lnTo>
                  <a:pt x="2785" y="2932"/>
                </a:lnTo>
                <a:lnTo>
                  <a:pt x="2846" y="2904"/>
                </a:lnTo>
                <a:close/>
                <a:moveTo>
                  <a:pt x="2982" y="2983"/>
                </a:moveTo>
                <a:lnTo>
                  <a:pt x="3002" y="2900"/>
                </a:lnTo>
                <a:lnTo>
                  <a:pt x="3028" y="2723"/>
                </a:lnTo>
                <a:lnTo>
                  <a:pt x="3094" y="2733"/>
                </a:lnTo>
                <a:lnTo>
                  <a:pt x="3067" y="2915"/>
                </a:lnTo>
                <a:lnTo>
                  <a:pt x="3047" y="2999"/>
                </a:lnTo>
                <a:lnTo>
                  <a:pt x="2982" y="2983"/>
                </a:lnTo>
                <a:close/>
                <a:moveTo>
                  <a:pt x="3051" y="2528"/>
                </a:moveTo>
                <a:lnTo>
                  <a:pt x="3068" y="2262"/>
                </a:lnTo>
                <a:lnTo>
                  <a:pt x="3134" y="2266"/>
                </a:lnTo>
                <a:lnTo>
                  <a:pt x="3117" y="2532"/>
                </a:lnTo>
                <a:lnTo>
                  <a:pt x="3051" y="2528"/>
                </a:lnTo>
                <a:close/>
                <a:moveTo>
                  <a:pt x="3086" y="2061"/>
                </a:moveTo>
                <a:lnTo>
                  <a:pt x="3115" y="1796"/>
                </a:lnTo>
                <a:lnTo>
                  <a:pt x="3181" y="1803"/>
                </a:lnTo>
                <a:lnTo>
                  <a:pt x="3152" y="2068"/>
                </a:lnTo>
                <a:lnTo>
                  <a:pt x="3086" y="2061"/>
                </a:lnTo>
                <a:close/>
                <a:moveTo>
                  <a:pt x="3140" y="1597"/>
                </a:moveTo>
                <a:lnTo>
                  <a:pt x="3161" y="1437"/>
                </a:lnTo>
                <a:lnTo>
                  <a:pt x="3185" y="1331"/>
                </a:lnTo>
                <a:lnTo>
                  <a:pt x="3250" y="1346"/>
                </a:lnTo>
                <a:lnTo>
                  <a:pt x="3227" y="1445"/>
                </a:lnTo>
                <a:lnTo>
                  <a:pt x="3206" y="1605"/>
                </a:lnTo>
                <a:lnTo>
                  <a:pt x="3140" y="1597"/>
                </a:lnTo>
                <a:close/>
                <a:moveTo>
                  <a:pt x="3324" y="1157"/>
                </a:moveTo>
                <a:lnTo>
                  <a:pt x="3342" y="1252"/>
                </a:lnTo>
                <a:lnTo>
                  <a:pt x="3385" y="1414"/>
                </a:lnTo>
                <a:lnTo>
                  <a:pt x="3320" y="1431"/>
                </a:lnTo>
                <a:lnTo>
                  <a:pt x="3276" y="1264"/>
                </a:lnTo>
                <a:lnTo>
                  <a:pt x="3259" y="1169"/>
                </a:lnTo>
                <a:lnTo>
                  <a:pt x="3324" y="1157"/>
                </a:lnTo>
                <a:close/>
                <a:moveTo>
                  <a:pt x="3425" y="1612"/>
                </a:moveTo>
                <a:lnTo>
                  <a:pt x="3439" y="1688"/>
                </a:lnTo>
                <a:lnTo>
                  <a:pt x="3479" y="1872"/>
                </a:lnTo>
                <a:lnTo>
                  <a:pt x="3414" y="1886"/>
                </a:lnTo>
                <a:lnTo>
                  <a:pt x="3373" y="1700"/>
                </a:lnTo>
                <a:lnTo>
                  <a:pt x="3359" y="1624"/>
                </a:lnTo>
                <a:lnTo>
                  <a:pt x="3425" y="1612"/>
                </a:lnTo>
                <a:close/>
                <a:moveTo>
                  <a:pt x="3495" y="2040"/>
                </a:moveTo>
                <a:lnTo>
                  <a:pt x="3537" y="1973"/>
                </a:lnTo>
                <a:lnTo>
                  <a:pt x="3588" y="1863"/>
                </a:lnTo>
                <a:lnTo>
                  <a:pt x="3605" y="1808"/>
                </a:lnTo>
                <a:lnTo>
                  <a:pt x="3669" y="1828"/>
                </a:lnTo>
                <a:lnTo>
                  <a:pt x="3649" y="1891"/>
                </a:lnTo>
                <a:lnTo>
                  <a:pt x="3593" y="2009"/>
                </a:lnTo>
                <a:lnTo>
                  <a:pt x="3551" y="2075"/>
                </a:lnTo>
                <a:lnTo>
                  <a:pt x="3495" y="2040"/>
                </a:lnTo>
                <a:close/>
                <a:moveTo>
                  <a:pt x="3684" y="1615"/>
                </a:moveTo>
                <a:lnTo>
                  <a:pt x="3723" y="1554"/>
                </a:lnTo>
                <a:cubicBezTo>
                  <a:pt x="3728" y="1545"/>
                  <a:pt x="3737" y="1540"/>
                  <a:pt x="3747" y="1539"/>
                </a:cubicBezTo>
                <a:cubicBezTo>
                  <a:pt x="3757" y="1538"/>
                  <a:pt x="3767" y="1541"/>
                  <a:pt x="3774" y="1548"/>
                </a:cubicBezTo>
                <a:lnTo>
                  <a:pt x="3801" y="1574"/>
                </a:lnTo>
                <a:cubicBezTo>
                  <a:pt x="3805" y="1578"/>
                  <a:pt x="3808" y="1583"/>
                  <a:pt x="3809" y="1588"/>
                </a:cubicBezTo>
                <a:lnTo>
                  <a:pt x="3854" y="1728"/>
                </a:lnTo>
                <a:lnTo>
                  <a:pt x="3857" y="1740"/>
                </a:lnTo>
                <a:lnTo>
                  <a:pt x="3792" y="1756"/>
                </a:lnTo>
                <a:lnTo>
                  <a:pt x="3790" y="1748"/>
                </a:lnTo>
                <a:lnTo>
                  <a:pt x="3746" y="1608"/>
                </a:lnTo>
                <a:lnTo>
                  <a:pt x="3754" y="1622"/>
                </a:lnTo>
                <a:lnTo>
                  <a:pt x="3728" y="1596"/>
                </a:lnTo>
                <a:lnTo>
                  <a:pt x="3779" y="1590"/>
                </a:lnTo>
                <a:lnTo>
                  <a:pt x="3740" y="1651"/>
                </a:lnTo>
                <a:lnTo>
                  <a:pt x="3684" y="1615"/>
                </a:lnTo>
                <a:close/>
                <a:moveTo>
                  <a:pt x="3906" y="1933"/>
                </a:moveTo>
                <a:lnTo>
                  <a:pt x="3907" y="1939"/>
                </a:lnTo>
                <a:lnTo>
                  <a:pt x="3946" y="2200"/>
                </a:lnTo>
                <a:lnTo>
                  <a:pt x="3880" y="2210"/>
                </a:lnTo>
                <a:lnTo>
                  <a:pt x="3842" y="1955"/>
                </a:lnTo>
                <a:lnTo>
                  <a:pt x="3841" y="1950"/>
                </a:lnTo>
                <a:lnTo>
                  <a:pt x="3906" y="1933"/>
                </a:lnTo>
                <a:close/>
                <a:moveTo>
                  <a:pt x="3973" y="2399"/>
                </a:moveTo>
                <a:lnTo>
                  <a:pt x="3996" y="2580"/>
                </a:lnTo>
                <a:lnTo>
                  <a:pt x="4004" y="2665"/>
                </a:lnTo>
                <a:lnTo>
                  <a:pt x="3937" y="2671"/>
                </a:lnTo>
                <a:lnTo>
                  <a:pt x="3930" y="2589"/>
                </a:lnTo>
                <a:lnTo>
                  <a:pt x="3907" y="2408"/>
                </a:lnTo>
                <a:lnTo>
                  <a:pt x="3973" y="2399"/>
                </a:lnTo>
                <a:close/>
                <a:moveTo>
                  <a:pt x="4021" y="2865"/>
                </a:moveTo>
                <a:lnTo>
                  <a:pt x="4023" y="2887"/>
                </a:lnTo>
                <a:lnTo>
                  <a:pt x="4022" y="2882"/>
                </a:lnTo>
                <a:lnTo>
                  <a:pt x="4066" y="3065"/>
                </a:lnTo>
                <a:lnTo>
                  <a:pt x="4034" y="3040"/>
                </a:lnTo>
                <a:lnTo>
                  <a:pt x="4078" y="3040"/>
                </a:lnTo>
                <a:lnTo>
                  <a:pt x="4046" y="3066"/>
                </a:lnTo>
                <a:lnTo>
                  <a:pt x="4048" y="3055"/>
                </a:lnTo>
                <a:lnTo>
                  <a:pt x="4113" y="3069"/>
                </a:lnTo>
                <a:lnTo>
                  <a:pt x="4111" y="3081"/>
                </a:lnTo>
                <a:cubicBezTo>
                  <a:pt x="4107" y="3096"/>
                  <a:pt x="4094" y="3107"/>
                  <a:pt x="4078" y="3107"/>
                </a:cubicBezTo>
                <a:lnTo>
                  <a:pt x="4034" y="3107"/>
                </a:lnTo>
                <a:cubicBezTo>
                  <a:pt x="4019" y="3107"/>
                  <a:pt x="4005" y="3096"/>
                  <a:pt x="4002" y="3081"/>
                </a:cubicBezTo>
                <a:lnTo>
                  <a:pt x="3957" y="2898"/>
                </a:lnTo>
                <a:cubicBezTo>
                  <a:pt x="3957" y="2896"/>
                  <a:pt x="3957" y="2894"/>
                  <a:pt x="3957" y="2893"/>
                </a:cubicBezTo>
                <a:lnTo>
                  <a:pt x="3955" y="2870"/>
                </a:lnTo>
                <a:lnTo>
                  <a:pt x="4021" y="2865"/>
                </a:lnTo>
                <a:close/>
                <a:moveTo>
                  <a:pt x="4092" y="2860"/>
                </a:moveTo>
                <a:lnTo>
                  <a:pt x="4099" y="2830"/>
                </a:lnTo>
                <a:lnTo>
                  <a:pt x="4121" y="2599"/>
                </a:lnTo>
                <a:lnTo>
                  <a:pt x="4187" y="2605"/>
                </a:lnTo>
                <a:lnTo>
                  <a:pt x="4164" y="2845"/>
                </a:lnTo>
                <a:lnTo>
                  <a:pt x="4157" y="2874"/>
                </a:lnTo>
                <a:lnTo>
                  <a:pt x="4092" y="2860"/>
                </a:lnTo>
                <a:close/>
                <a:moveTo>
                  <a:pt x="4140" y="2400"/>
                </a:moveTo>
                <a:lnTo>
                  <a:pt x="4142" y="2380"/>
                </a:lnTo>
                <a:lnTo>
                  <a:pt x="4160" y="2135"/>
                </a:lnTo>
                <a:lnTo>
                  <a:pt x="4226" y="2140"/>
                </a:lnTo>
                <a:lnTo>
                  <a:pt x="4209" y="2387"/>
                </a:lnTo>
                <a:lnTo>
                  <a:pt x="4207" y="2406"/>
                </a:lnTo>
                <a:lnTo>
                  <a:pt x="4140" y="2400"/>
                </a:lnTo>
                <a:close/>
                <a:moveTo>
                  <a:pt x="4174" y="1935"/>
                </a:moveTo>
                <a:lnTo>
                  <a:pt x="4186" y="1753"/>
                </a:lnTo>
                <a:lnTo>
                  <a:pt x="4190" y="1670"/>
                </a:lnTo>
                <a:lnTo>
                  <a:pt x="4256" y="1673"/>
                </a:lnTo>
                <a:lnTo>
                  <a:pt x="4253" y="1757"/>
                </a:lnTo>
                <a:lnTo>
                  <a:pt x="4240" y="1940"/>
                </a:lnTo>
                <a:lnTo>
                  <a:pt x="4174" y="1935"/>
                </a:lnTo>
                <a:close/>
                <a:moveTo>
                  <a:pt x="4198" y="1470"/>
                </a:moveTo>
                <a:lnTo>
                  <a:pt x="4208" y="1204"/>
                </a:lnTo>
                <a:lnTo>
                  <a:pt x="4275" y="1207"/>
                </a:lnTo>
                <a:lnTo>
                  <a:pt x="4264" y="1473"/>
                </a:lnTo>
                <a:lnTo>
                  <a:pt x="4198" y="1470"/>
                </a:lnTo>
                <a:close/>
                <a:moveTo>
                  <a:pt x="4219" y="1003"/>
                </a:moveTo>
                <a:lnTo>
                  <a:pt x="4239" y="737"/>
                </a:lnTo>
                <a:lnTo>
                  <a:pt x="4306" y="742"/>
                </a:lnTo>
                <a:lnTo>
                  <a:pt x="4286" y="1008"/>
                </a:lnTo>
                <a:lnTo>
                  <a:pt x="4219" y="1003"/>
                </a:lnTo>
                <a:close/>
                <a:moveTo>
                  <a:pt x="4254" y="538"/>
                </a:moveTo>
                <a:lnTo>
                  <a:pt x="4257" y="496"/>
                </a:lnTo>
                <a:lnTo>
                  <a:pt x="4284" y="271"/>
                </a:lnTo>
                <a:lnTo>
                  <a:pt x="4350" y="279"/>
                </a:lnTo>
                <a:lnTo>
                  <a:pt x="4324" y="501"/>
                </a:lnTo>
                <a:lnTo>
                  <a:pt x="4320" y="543"/>
                </a:lnTo>
                <a:lnTo>
                  <a:pt x="4254" y="538"/>
                </a:lnTo>
                <a:close/>
                <a:moveTo>
                  <a:pt x="4330" y="66"/>
                </a:moveTo>
                <a:lnTo>
                  <a:pt x="4359" y="18"/>
                </a:lnTo>
                <a:cubicBezTo>
                  <a:pt x="4366" y="6"/>
                  <a:pt x="4380" y="0"/>
                  <a:pt x="4393" y="3"/>
                </a:cubicBezTo>
                <a:cubicBezTo>
                  <a:pt x="4407" y="5"/>
                  <a:pt x="4417" y="15"/>
                  <a:pt x="4420" y="29"/>
                </a:cubicBezTo>
                <a:lnTo>
                  <a:pt x="4464" y="235"/>
                </a:lnTo>
                <a:lnTo>
                  <a:pt x="4399" y="249"/>
                </a:lnTo>
                <a:lnTo>
                  <a:pt x="4355" y="42"/>
                </a:lnTo>
                <a:lnTo>
                  <a:pt x="4416" y="53"/>
                </a:lnTo>
                <a:lnTo>
                  <a:pt x="4387" y="100"/>
                </a:lnTo>
                <a:lnTo>
                  <a:pt x="4330" y="66"/>
                </a:lnTo>
                <a:close/>
                <a:moveTo>
                  <a:pt x="4472" y="441"/>
                </a:moveTo>
                <a:lnTo>
                  <a:pt x="4482" y="707"/>
                </a:lnTo>
                <a:lnTo>
                  <a:pt x="4416" y="709"/>
                </a:lnTo>
                <a:lnTo>
                  <a:pt x="4406" y="443"/>
                </a:lnTo>
                <a:lnTo>
                  <a:pt x="4472" y="441"/>
                </a:lnTo>
                <a:close/>
                <a:moveTo>
                  <a:pt x="4498" y="905"/>
                </a:moveTo>
                <a:lnTo>
                  <a:pt x="4521" y="1170"/>
                </a:lnTo>
                <a:lnTo>
                  <a:pt x="4455" y="1176"/>
                </a:lnTo>
                <a:lnTo>
                  <a:pt x="4432" y="910"/>
                </a:lnTo>
                <a:lnTo>
                  <a:pt x="4498" y="905"/>
                </a:lnTo>
                <a:close/>
                <a:moveTo>
                  <a:pt x="4538" y="1370"/>
                </a:moveTo>
                <a:lnTo>
                  <a:pt x="4556" y="1636"/>
                </a:lnTo>
                <a:lnTo>
                  <a:pt x="4489" y="1641"/>
                </a:lnTo>
                <a:lnTo>
                  <a:pt x="4471" y="1375"/>
                </a:lnTo>
                <a:lnTo>
                  <a:pt x="4538" y="1370"/>
                </a:lnTo>
                <a:close/>
                <a:moveTo>
                  <a:pt x="4570" y="1836"/>
                </a:moveTo>
                <a:lnTo>
                  <a:pt x="4580" y="1989"/>
                </a:lnTo>
                <a:lnTo>
                  <a:pt x="4590" y="2101"/>
                </a:lnTo>
                <a:lnTo>
                  <a:pt x="4523" y="2107"/>
                </a:lnTo>
                <a:lnTo>
                  <a:pt x="4514" y="1993"/>
                </a:lnTo>
                <a:lnTo>
                  <a:pt x="4503" y="1840"/>
                </a:lnTo>
                <a:lnTo>
                  <a:pt x="4570" y="1836"/>
                </a:lnTo>
                <a:close/>
                <a:moveTo>
                  <a:pt x="4606" y="2301"/>
                </a:moveTo>
                <a:lnTo>
                  <a:pt x="4624" y="2512"/>
                </a:lnTo>
                <a:lnTo>
                  <a:pt x="4631" y="2565"/>
                </a:lnTo>
                <a:lnTo>
                  <a:pt x="4564" y="2573"/>
                </a:lnTo>
                <a:lnTo>
                  <a:pt x="4558" y="2517"/>
                </a:lnTo>
                <a:lnTo>
                  <a:pt x="4540" y="2306"/>
                </a:lnTo>
                <a:lnTo>
                  <a:pt x="4606" y="2301"/>
                </a:lnTo>
                <a:close/>
                <a:moveTo>
                  <a:pt x="4654" y="2764"/>
                </a:moveTo>
                <a:lnTo>
                  <a:pt x="4668" y="2886"/>
                </a:lnTo>
                <a:lnTo>
                  <a:pt x="4694" y="3014"/>
                </a:lnTo>
                <a:lnTo>
                  <a:pt x="4650" y="2990"/>
                </a:lnTo>
                <a:lnTo>
                  <a:pt x="4659" y="2986"/>
                </a:lnTo>
                <a:lnTo>
                  <a:pt x="4683" y="3048"/>
                </a:lnTo>
                <a:lnTo>
                  <a:pt x="4674" y="3052"/>
                </a:lnTo>
                <a:cubicBezTo>
                  <a:pt x="4665" y="3056"/>
                  <a:pt x="4655" y="3055"/>
                  <a:pt x="4646" y="3050"/>
                </a:cubicBezTo>
                <a:cubicBezTo>
                  <a:pt x="4637" y="3045"/>
                  <a:pt x="4631" y="3037"/>
                  <a:pt x="4629" y="3027"/>
                </a:cubicBezTo>
                <a:lnTo>
                  <a:pt x="4602" y="2894"/>
                </a:lnTo>
                <a:lnTo>
                  <a:pt x="4588" y="2771"/>
                </a:lnTo>
                <a:lnTo>
                  <a:pt x="4654" y="2764"/>
                </a:lnTo>
                <a:close/>
                <a:moveTo>
                  <a:pt x="4736" y="2846"/>
                </a:moveTo>
                <a:lnTo>
                  <a:pt x="4771" y="2715"/>
                </a:lnTo>
                <a:lnTo>
                  <a:pt x="4816" y="2599"/>
                </a:lnTo>
                <a:cubicBezTo>
                  <a:pt x="4818" y="2594"/>
                  <a:pt x="4821" y="2590"/>
                  <a:pt x="4824" y="2587"/>
                </a:cubicBezTo>
                <a:lnTo>
                  <a:pt x="4831" y="2580"/>
                </a:lnTo>
                <a:lnTo>
                  <a:pt x="4878" y="2627"/>
                </a:lnTo>
                <a:lnTo>
                  <a:pt x="4871" y="2634"/>
                </a:lnTo>
                <a:lnTo>
                  <a:pt x="4878" y="2623"/>
                </a:lnTo>
                <a:lnTo>
                  <a:pt x="4835" y="2733"/>
                </a:lnTo>
                <a:lnTo>
                  <a:pt x="4801" y="2863"/>
                </a:lnTo>
                <a:lnTo>
                  <a:pt x="4736" y="2846"/>
                </a:lnTo>
                <a:close/>
                <a:moveTo>
                  <a:pt x="4996" y="2672"/>
                </a:moveTo>
                <a:lnTo>
                  <a:pt x="5044" y="2750"/>
                </a:lnTo>
                <a:lnTo>
                  <a:pt x="5088" y="2820"/>
                </a:lnTo>
                <a:lnTo>
                  <a:pt x="5060" y="2804"/>
                </a:lnTo>
                <a:lnTo>
                  <a:pt x="5104" y="2804"/>
                </a:lnTo>
                <a:lnTo>
                  <a:pt x="5075" y="2820"/>
                </a:lnTo>
                <a:lnTo>
                  <a:pt x="5100" y="2779"/>
                </a:lnTo>
                <a:lnTo>
                  <a:pt x="5157" y="2814"/>
                </a:lnTo>
                <a:lnTo>
                  <a:pt x="5132" y="2855"/>
                </a:lnTo>
                <a:cubicBezTo>
                  <a:pt x="5126" y="2865"/>
                  <a:pt x="5115" y="2871"/>
                  <a:pt x="5104" y="2871"/>
                </a:cubicBezTo>
                <a:lnTo>
                  <a:pt x="5060" y="2871"/>
                </a:lnTo>
                <a:cubicBezTo>
                  <a:pt x="5048" y="2871"/>
                  <a:pt x="5038" y="2865"/>
                  <a:pt x="5031" y="2855"/>
                </a:cubicBezTo>
                <a:lnTo>
                  <a:pt x="4987" y="2785"/>
                </a:lnTo>
                <a:lnTo>
                  <a:pt x="4939" y="2707"/>
                </a:lnTo>
                <a:lnTo>
                  <a:pt x="4996" y="2672"/>
                </a:lnTo>
                <a:close/>
                <a:moveTo>
                  <a:pt x="5177" y="2601"/>
                </a:moveTo>
                <a:lnTo>
                  <a:pt x="5188" y="2572"/>
                </a:lnTo>
                <a:cubicBezTo>
                  <a:pt x="5188" y="2571"/>
                  <a:pt x="5189" y="2569"/>
                  <a:pt x="5190" y="2567"/>
                </a:cubicBezTo>
                <a:lnTo>
                  <a:pt x="5243" y="2480"/>
                </a:lnTo>
                <a:cubicBezTo>
                  <a:pt x="5246" y="2475"/>
                  <a:pt x="5250" y="2471"/>
                  <a:pt x="5255" y="2468"/>
                </a:cubicBezTo>
                <a:lnTo>
                  <a:pt x="5299" y="2442"/>
                </a:lnTo>
                <a:cubicBezTo>
                  <a:pt x="5308" y="2437"/>
                  <a:pt x="5319" y="2436"/>
                  <a:pt x="5329" y="2440"/>
                </a:cubicBezTo>
                <a:cubicBezTo>
                  <a:pt x="5339" y="2444"/>
                  <a:pt x="5346" y="2453"/>
                  <a:pt x="5348" y="2463"/>
                </a:cubicBezTo>
                <a:lnTo>
                  <a:pt x="5366" y="2533"/>
                </a:lnTo>
                <a:lnTo>
                  <a:pt x="5369" y="2540"/>
                </a:lnTo>
                <a:lnTo>
                  <a:pt x="5306" y="2562"/>
                </a:lnTo>
                <a:lnTo>
                  <a:pt x="5301" y="2549"/>
                </a:lnTo>
                <a:lnTo>
                  <a:pt x="5284" y="2479"/>
                </a:lnTo>
                <a:lnTo>
                  <a:pt x="5333" y="2500"/>
                </a:lnTo>
                <a:lnTo>
                  <a:pt x="5289" y="2526"/>
                </a:lnTo>
                <a:lnTo>
                  <a:pt x="5300" y="2514"/>
                </a:lnTo>
                <a:lnTo>
                  <a:pt x="5247" y="2602"/>
                </a:lnTo>
                <a:lnTo>
                  <a:pt x="5250" y="2597"/>
                </a:lnTo>
                <a:lnTo>
                  <a:pt x="5239" y="2625"/>
                </a:lnTo>
                <a:lnTo>
                  <a:pt x="5177" y="2601"/>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549760" y="3716280"/>
            <a:ext cx="671760" cy="581040"/>
          </a:xfrm>
          <a:custGeom>
            <a:avLst/>
            <a:gdLst/>
            <a:ahLst/>
            <a:rect l="l" t="t" r="r" b="b"/>
            <a:pathLst>
              <a:path w="3208" h="2762">
                <a:moveTo>
                  <a:pt x="66" y="1708"/>
                </a:moveTo>
                <a:lnTo>
                  <a:pt x="110" y="1961"/>
                </a:lnTo>
                <a:lnTo>
                  <a:pt x="111" y="1971"/>
                </a:lnTo>
                <a:lnTo>
                  <a:pt x="45" y="1981"/>
                </a:lnTo>
                <a:lnTo>
                  <a:pt x="44" y="1972"/>
                </a:lnTo>
                <a:lnTo>
                  <a:pt x="0" y="1719"/>
                </a:lnTo>
                <a:lnTo>
                  <a:pt x="66" y="1708"/>
                </a:lnTo>
                <a:close/>
                <a:moveTo>
                  <a:pt x="140" y="2169"/>
                </a:moveTo>
                <a:lnTo>
                  <a:pt x="154" y="2268"/>
                </a:lnTo>
                <a:lnTo>
                  <a:pt x="186" y="2430"/>
                </a:lnTo>
                <a:lnTo>
                  <a:pt x="120" y="2443"/>
                </a:lnTo>
                <a:lnTo>
                  <a:pt x="88" y="2277"/>
                </a:lnTo>
                <a:lnTo>
                  <a:pt x="74" y="2179"/>
                </a:lnTo>
                <a:lnTo>
                  <a:pt x="140" y="2169"/>
                </a:lnTo>
                <a:close/>
                <a:moveTo>
                  <a:pt x="230" y="2623"/>
                </a:moveTo>
                <a:lnTo>
                  <a:pt x="250" y="2700"/>
                </a:lnTo>
                <a:lnTo>
                  <a:pt x="241" y="2685"/>
                </a:lnTo>
                <a:lnTo>
                  <a:pt x="259" y="2703"/>
                </a:lnTo>
                <a:lnTo>
                  <a:pt x="204" y="2716"/>
                </a:lnTo>
                <a:lnTo>
                  <a:pt x="256" y="2562"/>
                </a:lnTo>
                <a:lnTo>
                  <a:pt x="319" y="2584"/>
                </a:lnTo>
                <a:lnTo>
                  <a:pt x="267" y="2737"/>
                </a:lnTo>
                <a:cubicBezTo>
                  <a:pt x="264" y="2748"/>
                  <a:pt x="255" y="2756"/>
                  <a:pt x="243" y="2759"/>
                </a:cubicBezTo>
                <a:cubicBezTo>
                  <a:pt x="232" y="2762"/>
                  <a:pt x="220" y="2758"/>
                  <a:pt x="212" y="2750"/>
                </a:cubicBezTo>
                <a:lnTo>
                  <a:pt x="195" y="2733"/>
                </a:lnTo>
                <a:cubicBezTo>
                  <a:pt x="190" y="2729"/>
                  <a:pt x="187" y="2723"/>
                  <a:pt x="186" y="2718"/>
                </a:cubicBezTo>
                <a:lnTo>
                  <a:pt x="165" y="2640"/>
                </a:lnTo>
                <a:lnTo>
                  <a:pt x="230" y="2623"/>
                </a:lnTo>
                <a:close/>
                <a:moveTo>
                  <a:pt x="282" y="2371"/>
                </a:moveTo>
                <a:lnTo>
                  <a:pt x="300" y="2242"/>
                </a:lnTo>
                <a:lnTo>
                  <a:pt x="313" y="2107"/>
                </a:lnTo>
                <a:lnTo>
                  <a:pt x="380" y="2114"/>
                </a:lnTo>
                <a:lnTo>
                  <a:pt x="366" y="2251"/>
                </a:lnTo>
                <a:lnTo>
                  <a:pt x="348" y="2380"/>
                </a:lnTo>
                <a:lnTo>
                  <a:pt x="282" y="2371"/>
                </a:lnTo>
                <a:close/>
                <a:moveTo>
                  <a:pt x="333" y="1908"/>
                </a:moveTo>
                <a:lnTo>
                  <a:pt x="344" y="1806"/>
                </a:lnTo>
                <a:lnTo>
                  <a:pt x="365" y="1642"/>
                </a:lnTo>
                <a:lnTo>
                  <a:pt x="431" y="1651"/>
                </a:lnTo>
                <a:lnTo>
                  <a:pt x="410" y="1813"/>
                </a:lnTo>
                <a:lnTo>
                  <a:pt x="400" y="1915"/>
                </a:lnTo>
                <a:lnTo>
                  <a:pt x="333" y="1908"/>
                </a:lnTo>
                <a:close/>
                <a:moveTo>
                  <a:pt x="390" y="1444"/>
                </a:moveTo>
                <a:lnTo>
                  <a:pt x="397" y="1395"/>
                </a:lnTo>
                <a:lnTo>
                  <a:pt x="408" y="1180"/>
                </a:lnTo>
                <a:lnTo>
                  <a:pt x="475" y="1184"/>
                </a:lnTo>
                <a:lnTo>
                  <a:pt x="463" y="1403"/>
                </a:lnTo>
                <a:lnTo>
                  <a:pt x="456" y="1452"/>
                </a:lnTo>
                <a:lnTo>
                  <a:pt x="390" y="1444"/>
                </a:lnTo>
                <a:close/>
                <a:moveTo>
                  <a:pt x="444" y="977"/>
                </a:moveTo>
                <a:lnTo>
                  <a:pt x="460" y="926"/>
                </a:lnTo>
                <a:cubicBezTo>
                  <a:pt x="463" y="916"/>
                  <a:pt x="471" y="907"/>
                  <a:pt x="482" y="904"/>
                </a:cubicBezTo>
                <a:cubicBezTo>
                  <a:pt x="493" y="901"/>
                  <a:pt x="504" y="904"/>
                  <a:pt x="513" y="911"/>
                </a:cubicBezTo>
                <a:lnTo>
                  <a:pt x="566" y="954"/>
                </a:lnTo>
                <a:cubicBezTo>
                  <a:pt x="571" y="959"/>
                  <a:pt x="575" y="966"/>
                  <a:pt x="577" y="973"/>
                </a:cubicBezTo>
                <a:lnTo>
                  <a:pt x="607" y="1115"/>
                </a:lnTo>
                <a:lnTo>
                  <a:pt x="542" y="1129"/>
                </a:lnTo>
                <a:lnTo>
                  <a:pt x="512" y="987"/>
                </a:lnTo>
                <a:lnTo>
                  <a:pt x="523" y="1006"/>
                </a:lnTo>
                <a:lnTo>
                  <a:pt x="470" y="962"/>
                </a:lnTo>
                <a:lnTo>
                  <a:pt x="523" y="946"/>
                </a:lnTo>
                <a:lnTo>
                  <a:pt x="507" y="997"/>
                </a:lnTo>
                <a:lnTo>
                  <a:pt x="444" y="977"/>
                </a:lnTo>
                <a:close/>
                <a:moveTo>
                  <a:pt x="644" y="1313"/>
                </a:moveTo>
                <a:lnTo>
                  <a:pt x="665" y="1437"/>
                </a:lnTo>
                <a:lnTo>
                  <a:pt x="680" y="1579"/>
                </a:lnTo>
                <a:lnTo>
                  <a:pt x="614" y="1586"/>
                </a:lnTo>
                <a:lnTo>
                  <a:pt x="600" y="1448"/>
                </a:lnTo>
                <a:lnTo>
                  <a:pt x="578" y="1324"/>
                </a:lnTo>
                <a:lnTo>
                  <a:pt x="644" y="1313"/>
                </a:lnTo>
                <a:close/>
                <a:moveTo>
                  <a:pt x="727" y="1758"/>
                </a:moveTo>
                <a:lnTo>
                  <a:pt x="733" y="1768"/>
                </a:lnTo>
                <a:lnTo>
                  <a:pt x="673" y="1768"/>
                </a:lnTo>
                <a:lnTo>
                  <a:pt x="717" y="1681"/>
                </a:lnTo>
                <a:lnTo>
                  <a:pt x="714" y="1690"/>
                </a:lnTo>
                <a:lnTo>
                  <a:pt x="744" y="1536"/>
                </a:lnTo>
                <a:lnTo>
                  <a:pt x="809" y="1548"/>
                </a:lnTo>
                <a:lnTo>
                  <a:pt x="780" y="1702"/>
                </a:lnTo>
                <a:cubicBezTo>
                  <a:pt x="779" y="1705"/>
                  <a:pt x="778" y="1708"/>
                  <a:pt x="777" y="1711"/>
                </a:cubicBezTo>
                <a:lnTo>
                  <a:pt x="733" y="1798"/>
                </a:lnTo>
                <a:cubicBezTo>
                  <a:pt x="727" y="1810"/>
                  <a:pt x="716" y="1817"/>
                  <a:pt x="703" y="1817"/>
                </a:cubicBezTo>
                <a:cubicBezTo>
                  <a:pt x="691" y="1817"/>
                  <a:pt x="679" y="1810"/>
                  <a:pt x="673" y="1798"/>
                </a:cubicBezTo>
                <a:lnTo>
                  <a:pt x="668" y="1788"/>
                </a:lnTo>
                <a:lnTo>
                  <a:pt x="727" y="1758"/>
                </a:lnTo>
                <a:close/>
                <a:moveTo>
                  <a:pt x="775" y="1341"/>
                </a:moveTo>
                <a:lnTo>
                  <a:pt x="805" y="1076"/>
                </a:lnTo>
                <a:lnTo>
                  <a:pt x="871" y="1083"/>
                </a:lnTo>
                <a:lnTo>
                  <a:pt x="841" y="1348"/>
                </a:lnTo>
                <a:lnTo>
                  <a:pt x="775" y="1341"/>
                </a:lnTo>
                <a:close/>
                <a:moveTo>
                  <a:pt x="825" y="877"/>
                </a:moveTo>
                <a:lnTo>
                  <a:pt x="852" y="612"/>
                </a:lnTo>
                <a:lnTo>
                  <a:pt x="919" y="619"/>
                </a:lnTo>
                <a:lnTo>
                  <a:pt x="892" y="884"/>
                </a:lnTo>
                <a:lnTo>
                  <a:pt x="825" y="877"/>
                </a:lnTo>
                <a:close/>
                <a:moveTo>
                  <a:pt x="868" y="413"/>
                </a:moveTo>
                <a:lnTo>
                  <a:pt x="882" y="244"/>
                </a:lnTo>
                <a:lnTo>
                  <a:pt x="902" y="145"/>
                </a:lnTo>
                <a:lnTo>
                  <a:pt x="967" y="159"/>
                </a:lnTo>
                <a:lnTo>
                  <a:pt x="948" y="249"/>
                </a:lnTo>
                <a:lnTo>
                  <a:pt x="935" y="419"/>
                </a:lnTo>
                <a:lnTo>
                  <a:pt x="868" y="413"/>
                </a:lnTo>
                <a:close/>
                <a:moveTo>
                  <a:pt x="1041" y="0"/>
                </a:moveTo>
                <a:lnTo>
                  <a:pt x="1087" y="121"/>
                </a:lnTo>
                <a:cubicBezTo>
                  <a:pt x="1088" y="123"/>
                  <a:pt x="1088" y="125"/>
                  <a:pt x="1089" y="127"/>
                </a:cubicBezTo>
                <a:lnTo>
                  <a:pt x="1115" y="262"/>
                </a:lnTo>
                <a:lnTo>
                  <a:pt x="1049" y="274"/>
                </a:lnTo>
                <a:lnTo>
                  <a:pt x="1023" y="139"/>
                </a:lnTo>
                <a:lnTo>
                  <a:pt x="1025" y="145"/>
                </a:lnTo>
                <a:lnTo>
                  <a:pt x="979" y="24"/>
                </a:lnTo>
                <a:lnTo>
                  <a:pt x="1041" y="0"/>
                </a:lnTo>
                <a:close/>
                <a:moveTo>
                  <a:pt x="1141" y="464"/>
                </a:moveTo>
                <a:lnTo>
                  <a:pt x="1151" y="611"/>
                </a:lnTo>
                <a:lnTo>
                  <a:pt x="1150" y="606"/>
                </a:lnTo>
                <a:lnTo>
                  <a:pt x="1177" y="722"/>
                </a:lnTo>
                <a:lnTo>
                  <a:pt x="1112" y="737"/>
                </a:lnTo>
                <a:lnTo>
                  <a:pt x="1085" y="621"/>
                </a:lnTo>
                <a:cubicBezTo>
                  <a:pt x="1085" y="619"/>
                  <a:pt x="1084" y="617"/>
                  <a:pt x="1084" y="615"/>
                </a:cubicBezTo>
                <a:lnTo>
                  <a:pt x="1074" y="468"/>
                </a:lnTo>
                <a:lnTo>
                  <a:pt x="1141" y="464"/>
                </a:lnTo>
                <a:close/>
                <a:moveTo>
                  <a:pt x="1223" y="916"/>
                </a:moveTo>
                <a:lnTo>
                  <a:pt x="1247" y="1016"/>
                </a:lnTo>
                <a:lnTo>
                  <a:pt x="1245" y="1010"/>
                </a:lnTo>
                <a:lnTo>
                  <a:pt x="1289" y="1106"/>
                </a:lnTo>
                <a:lnTo>
                  <a:pt x="1280" y="1094"/>
                </a:lnTo>
                <a:lnTo>
                  <a:pt x="1325" y="1131"/>
                </a:lnTo>
                <a:lnTo>
                  <a:pt x="1283" y="1183"/>
                </a:lnTo>
                <a:lnTo>
                  <a:pt x="1237" y="1145"/>
                </a:lnTo>
                <a:cubicBezTo>
                  <a:pt x="1234" y="1142"/>
                  <a:pt x="1231" y="1138"/>
                  <a:pt x="1228" y="1134"/>
                </a:cubicBezTo>
                <a:lnTo>
                  <a:pt x="1184" y="1038"/>
                </a:lnTo>
                <a:cubicBezTo>
                  <a:pt x="1183" y="1036"/>
                  <a:pt x="1183" y="1033"/>
                  <a:pt x="1182" y="1031"/>
                </a:cubicBezTo>
                <a:lnTo>
                  <a:pt x="1158" y="932"/>
                </a:lnTo>
                <a:lnTo>
                  <a:pt x="1223" y="916"/>
                </a:lnTo>
                <a:close/>
                <a:moveTo>
                  <a:pt x="1459" y="1292"/>
                </a:moveTo>
                <a:lnTo>
                  <a:pt x="1499" y="1355"/>
                </a:lnTo>
                <a:cubicBezTo>
                  <a:pt x="1500" y="1357"/>
                  <a:pt x="1501" y="1359"/>
                  <a:pt x="1501" y="1361"/>
                </a:cubicBezTo>
                <a:lnTo>
                  <a:pt x="1546" y="1474"/>
                </a:lnTo>
                <a:lnTo>
                  <a:pt x="1541" y="1466"/>
                </a:lnTo>
                <a:lnTo>
                  <a:pt x="1584" y="1523"/>
                </a:lnTo>
                <a:lnTo>
                  <a:pt x="1531" y="1563"/>
                </a:lnTo>
                <a:lnTo>
                  <a:pt x="1488" y="1507"/>
                </a:lnTo>
                <a:cubicBezTo>
                  <a:pt x="1486" y="1504"/>
                  <a:pt x="1485" y="1501"/>
                  <a:pt x="1483" y="1498"/>
                </a:cubicBezTo>
                <a:lnTo>
                  <a:pt x="1439" y="1385"/>
                </a:lnTo>
                <a:lnTo>
                  <a:pt x="1442" y="1391"/>
                </a:lnTo>
                <a:lnTo>
                  <a:pt x="1403" y="1328"/>
                </a:lnTo>
                <a:lnTo>
                  <a:pt x="1459" y="1292"/>
                </a:lnTo>
                <a:close/>
                <a:moveTo>
                  <a:pt x="1677" y="1590"/>
                </a:moveTo>
                <a:lnTo>
                  <a:pt x="1709" y="1571"/>
                </a:lnTo>
                <a:lnTo>
                  <a:pt x="1703" y="1576"/>
                </a:lnTo>
                <a:lnTo>
                  <a:pt x="1747" y="1533"/>
                </a:lnTo>
                <a:lnTo>
                  <a:pt x="1773" y="1506"/>
                </a:lnTo>
                <a:cubicBezTo>
                  <a:pt x="1776" y="1503"/>
                  <a:pt x="1780" y="1501"/>
                  <a:pt x="1784" y="1499"/>
                </a:cubicBezTo>
                <a:lnTo>
                  <a:pt x="1829" y="1482"/>
                </a:lnTo>
                <a:lnTo>
                  <a:pt x="1824" y="1484"/>
                </a:lnTo>
                <a:lnTo>
                  <a:pt x="1868" y="1458"/>
                </a:lnTo>
                <a:lnTo>
                  <a:pt x="1898" y="1443"/>
                </a:lnTo>
                <a:lnTo>
                  <a:pt x="1928" y="1502"/>
                </a:lnTo>
                <a:lnTo>
                  <a:pt x="1902" y="1515"/>
                </a:lnTo>
                <a:lnTo>
                  <a:pt x="1858" y="1541"/>
                </a:lnTo>
                <a:cubicBezTo>
                  <a:pt x="1856" y="1542"/>
                  <a:pt x="1855" y="1543"/>
                  <a:pt x="1853" y="1544"/>
                </a:cubicBezTo>
                <a:lnTo>
                  <a:pt x="1809" y="1561"/>
                </a:lnTo>
                <a:lnTo>
                  <a:pt x="1820" y="1554"/>
                </a:lnTo>
                <a:lnTo>
                  <a:pt x="1794" y="1580"/>
                </a:lnTo>
                <a:lnTo>
                  <a:pt x="1750" y="1624"/>
                </a:lnTo>
                <a:cubicBezTo>
                  <a:pt x="1748" y="1626"/>
                  <a:pt x="1745" y="1627"/>
                  <a:pt x="1743" y="1629"/>
                </a:cubicBezTo>
                <a:lnTo>
                  <a:pt x="1711" y="1648"/>
                </a:lnTo>
                <a:lnTo>
                  <a:pt x="1677" y="1590"/>
                </a:lnTo>
                <a:close/>
                <a:moveTo>
                  <a:pt x="2098" y="1383"/>
                </a:moveTo>
                <a:lnTo>
                  <a:pt x="2141" y="1383"/>
                </a:lnTo>
                <a:cubicBezTo>
                  <a:pt x="2146" y="1383"/>
                  <a:pt x="2151" y="1384"/>
                  <a:pt x="2155" y="1387"/>
                </a:cubicBezTo>
                <a:lnTo>
                  <a:pt x="2208" y="1413"/>
                </a:lnTo>
                <a:lnTo>
                  <a:pt x="2194" y="1409"/>
                </a:lnTo>
                <a:lnTo>
                  <a:pt x="2238" y="1409"/>
                </a:lnTo>
                <a:cubicBezTo>
                  <a:pt x="2246" y="1409"/>
                  <a:pt x="2255" y="1413"/>
                  <a:pt x="2261" y="1419"/>
                </a:cubicBezTo>
                <a:lnTo>
                  <a:pt x="2279" y="1437"/>
                </a:lnTo>
                <a:lnTo>
                  <a:pt x="2255" y="1427"/>
                </a:lnTo>
                <a:lnTo>
                  <a:pt x="2308" y="1427"/>
                </a:lnTo>
                <a:lnTo>
                  <a:pt x="2296" y="1429"/>
                </a:lnTo>
                <a:lnTo>
                  <a:pt x="2336" y="1413"/>
                </a:lnTo>
                <a:lnTo>
                  <a:pt x="2360" y="1475"/>
                </a:lnTo>
                <a:lnTo>
                  <a:pt x="2320" y="1491"/>
                </a:lnTo>
                <a:cubicBezTo>
                  <a:pt x="2317" y="1493"/>
                  <a:pt x="2312" y="1494"/>
                  <a:pt x="2308" y="1494"/>
                </a:cubicBezTo>
                <a:lnTo>
                  <a:pt x="2255" y="1494"/>
                </a:lnTo>
                <a:cubicBezTo>
                  <a:pt x="2247" y="1494"/>
                  <a:pt x="2238" y="1490"/>
                  <a:pt x="2232" y="1484"/>
                </a:cubicBezTo>
                <a:lnTo>
                  <a:pt x="2214" y="1466"/>
                </a:lnTo>
                <a:lnTo>
                  <a:pt x="2238" y="1476"/>
                </a:lnTo>
                <a:lnTo>
                  <a:pt x="2194" y="1476"/>
                </a:lnTo>
                <a:cubicBezTo>
                  <a:pt x="2188" y="1476"/>
                  <a:pt x="2183" y="1475"/>
                  <a:pt x="2179" y="1473"/>
                </a:cubicBezTo>
                <a:lnTo>
                  <a:pt x="2126" y="1446"/>
                </a:lnTo>
                <a:lnTo>
                  <a:pt x="2141" y="1450"/>
                </a:lnTo>
                <a:lnTo>
                  <a:pt x="2098" y="1450"/>
                </a:lnTo>
                <a:lnTo>
                  <a:pt x="2098" y="1383"/>
                </a:lnTo>
                <a:close/>
                <a:moveTo>
                  <a:pt x="2446" y="1277"/>
                </a:moveTo>
                <a:lnTo>
                  <a:pt x="2488" y="1236"/>
                </a:lnTo>
                <a:cubicBezTo>
                  <a:pt x="2490" y="1233"/>
                  <a:pt x="2493" y="1231"/>
                  <a:pt x="2496" y="1230"/>
                </a:cubicBezTo>
                <a:lnTo>
                  <a:pt x="2549" y="1203"/>
                </a:lnTo>
                <a:cubicBezTo>
                  <a:pt x="2554" y="1201"/>
                  <a:pt x="2559" y="1200"/>
                  <a:pt x="2564" y="1200"/>
                </a:cubicBezTo>
                <a:lnTo>
                  <a:pt x="2608" y="1200"/>
                </a:lnTo>
                <a:cubicBezTo>
                  <a:pt x="2614" y="1200"/>
                  <a:pt x="2620" y="1201"/>
                  <a:pt x="2625" y="1205"/>
                </a:cubicBezTo>
                <a:lnTo>
                  <a:pt x="2669" y="1231"/>
                </a:lnTo>
                <a:cubicBezTo>
                  <a:pt x="2674" y="1234"/>
                  <a:pt x="2678" y="1237"/>
                  <a:pt x="2681" y="1242"/>
                </a:cubicBezTo>
                <a:lnTo>
                  <a:pt x="2707" y="1286"/>
                </a:lnTo>
                <a:lnTo>
                  <a:pt x="2702" y="1279"/>
                </a:lnTo>
                <a:lnTo>
                  <a:pt x="2704" y="1281"/>
                </a:lnTo>
                <a:lnTo>
                  <a:pt x="2657" y="1329"/>
                </a:lnTo>
                <a:lnTo>
                  <a:pt x="2655" y="1327"/>
                </a:lnTo>
                <a:cubicBezTo>
                  <a:pt x="2653" y="1325"/>
                  <a:pt x="2652" y="1323"/>
                  <a:pt x="2650" y="1320"/>
                </a:cubicBezTo>
                <a:lnTo>
                  <a:pt x="2624" y="1277"/>
                </a:lnTo>
                <a:lnTo>
                  <a:pt x="2635" y="1288"/>
                </a:lnTo>
                <a:lnTo>
                  <a:pt x="2591" y="1262"/>
                </a:lnTo>
                <a:lnTo>
                  <a:pt x="2608" y="1267"/>
                </a:lnTo>
                <a:lnTo>
                  <a:pt x="2564" y="1267"/>
                </a:lnTo>
                <a:lnTo>
                  <a:pt x="2579" y="1263"/>
                </a:lnTo>
                <a:lnTo>
                  <a:pt x="2526" y="1289"/>
                </a:lnTo>
                <a:lnTo>
                  <a:pt x="2535" y="1283"/>
                </a:lnTo>
                <a:lnTo>
                  <a:pt x="2493" y="1324"/>
                </a:lnTo>
                <a:lnTo>
                  <a:pt x="2446" y="1277"/>
                </a:lnTo>
                <a:close/>
                <a:moveTo>
                  <a:pt x="2833" y="1428"/>
                </a:moveTo>
                <a:lnTo>
                  <a:pt x="2841" y="1435"/>
                </a:lnTo>
                <a:lnTo>
                  <a:pt x="2837" y="1432"/>
                </a:lnTo>
                <a:lnTo>
                  <a:pt x="2881" y="1458"/>
                </a:lnTo>
                <a:lnTo>
                  <a:pt x="2925" y="1484"/>
                </a:lnTo>
                <a:lnTo>
                  <a:pt x="2884" y="1489"/>
                </a:lnTo>
                <a:lnTo>
                  <a:pt x="2911" y="1463"/>
                </a:lnTo>
                <a:cubicBezTo>
                  <a:pt x="2913" y="1461"/>
                  <a:pt x="2915" y="1459"/>
                  <a:pt x="2917" y="1458"/>
                </a:cubicBezTo>
                <a:lnTo>
                  <a:pt x="2961" y="1432"/>
                </a:lnTo>
                <a:lnTo>
                  <a:pt x="2955" y="1437"/>
                </a:lnTo>
                <a:lnTo>
                  <a:pt x="2999" y="1393"/>
                </a:lnTo>
                <a:lnTo>
                  <a:pt x="3004" y="1389"/>
                </a:lnTo>
                <a:lnTo>
                  <a:pt x="3046" y="1440"/>
                </a:lnTo>
                <a:lnTo>
                  <a:pt x="3046" y="1440"/>
                </a:lnTo>
                <a:lnTo>
                  <a:pt x="3002" y="1484"/>
                </a:lnTo>
                <a:cubicBezTo>
                  <a:pt x="3000" y="1486"/>
                  <a:pt x="2998" y="1487"/>
                  <a:pt x="2996" y="1489"/>
                </a:cubicBezTo>
                <a:lnTo>
                  <a:pt x="2951" y="1515"/>
                </a:lnTo>
                <a:lnTo>
                  <a:pt x="2958" y="1510"/>
                </a:lnTo>
                <a:lnTo>
                  <a:pt x="2931" y="1536"/>
                </a:lnTo>
                <a:cubicBezTo>
                  <a:pt x="2921" y="1547"/>
                  <a:pt x="2904" y="1549"/>
                  <a:pt x="2891" y="1541"/>
                </a:cubicBezTo>
                <a:lnTo>
                  <a:pt x="2847" y="1515"/>
                </a:lnTo>
                <a:lnTo>
                  <a:pt x="2803" y="1489"/>
                </a:lnTo>
                <a:cubicBezTo>
                  <a:pt x="2801" y="1488"/>
                  <a:pt x="2800" y="1487"/>
                  <a:pt x="2799" y="1486"/>
                </a:cubicBezTo>
                <a:lnTo>
                  <a:pt x="2790" y="1479"/>
                </a:lnTo>
                <a:lnTo>
                  <a:pt x="2833" y="1428"/>
                </a:lnTo>
                <a:close/>
                <a:moveTo>
                  <a:pt x="3192" y="1296"/>
                </a:moveTo>
                <a:lnTo>
                  <a:pt x="3208" y="1296"/>
                </a:lnTo>
                <a:lnTo>
                  <a:pt x="3208" y="1363"/>
                </a:lnTo>
                <a:lnTo>
                  <a:pt x="3192" y="1363"/>
                </a:lnTo>
                <a:lnTo>
                  <a:pt x="3192" y="1296"/>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rot="16200000">
            <a:off x="2758320" y="344592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2493" name=""/>
          <p:cNvSpPr/>
          <p:nvPr/>
        </p:nvSpPr>
        <p:spPr>
          <a:xfrm>
            <a:off x="5506920" y="2527200"/>
            <a:ext cx="67644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331160" y="508788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2495" name=""/>
          <p:cNvSpPr/>
          <p:nvPr/>
        </p:nvSpPr>
        <p:spPr>
          <a:xfrm>
            <a:off x="4673520" y="50706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496" name=""/>
          <p:cNvSpPr/>
          <p:nvPr/>
        </p:nvSpPr>
        <p:spPr>
          <a:xfrm>
            <a:off x="4750920" y="50878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2497"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1066680" y="99072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the front surface response amplitude improved by the Doubly Distorted Born Approximation ? </a:t>
            </a:r>
            <a:endParaRPr b="0" lang="en-US" sz="2400" spc="-1" strike="noStrike">
              <a:solidFill>
                <a:srgbClr val="000000"/>
              </a:solidFill>
              <a:latin typeface="Times New Roman"/>
            </a:endParaRPr>
          </a:p>
        </p:txBody>
      </p:sp>
      <p:sp>
        <p:nvSpPr>
          <p:cNvPr id="2500" name=""/>
          <p:cNvSpPr/>
          <p:nvPr/>
        </p:nvSpPr>
        <p:spPr>
          <a:xfrm>
            <a:off x="686160" y="594360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a:t>
            </a:r>
            <a:endParaRPr b="0" lang="en-US" sz="2400" spc="-1" strike="noStrike">
              <a:solidFill>
                <a:srgbClr val="000000"/>
              </a:solidFill>
              <a:latin typeface="Times New Roman"/>
            </a:endParaRPr>
          </a:p>
        </p:txBody>
      </p:sp>
      <p:graphicFrame>
        <p:nvGraphicFramePr>
          <p:cNvPr id="2501" name=""/>
          <p:cNvGraphicFramePr/>
          <p:nvPr/>
        </p:nvGraphicFramePr>
        <p:xfrm>
          <a:off x="3124080" y="5987880"/>
          <a:ext cx="1219320" cy="503280"/>
        </p:xfrm>
        <a:graphic>
          <a:graphicData uri="http://schemas.openxmlformats.org/presentationml/2006/ole">
            <p:oleObj r:id="rId1" spid="">
              <p:embed/>
              <p:pic>
                <p:nvPicPr>
                  <p:cNvPr id="2502" name="" descr=""/>
                  <p:cNvPicPr/>
                  <p:nvPr/>
                </p:nvPicPr>
                <p:blipFill>
                  <a:blip r:embed="rId2"/>
                  <a:stretch/>
                </p:blipFill>
                <p:spPr>
                  <a:xfrm>
                    <a:off x="3124080" y="5987880"/>
                    <a:ext cx="1219320" cy="503280"/>
                  </a:xfrm>
                  <a:prstGeom prst="rect">
                    <a:avLst/>
                  </a:prstGeom>
                  <a:ln w="0">
                    <a:noFill/>
                  </a:ln>
                </p:spPr>
              </p:pic>
            </p:oleObj>
          </a:graphicData>
        </a:graphic>
      </p:graphicFrame>
      <p:sp>
        <p:nvSpPr>
          <p:cNvPr id="2503" name=""/>
          <p:cNvSpPr/>
          <p:nvPr/>
        </p:nvSpPr>
        <p:spPr>
          <a:xfrm>
            <a:off x="4412520" y="601992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 wave reflection coefficient)</a:t>
            </a:r>
            <a:endParaRPr b="0" lang="en-US" sz="2400" spc="-1" strike="noStrike">
              <a:solidFill>
                <a:srgbClr val="000000"/>
              </a:solidFill>
              <a:latin typeface="Times New Roman"/>
            </a:endParaRPr>
          </a:p>
        </p:txBody>
      </p:sp>
      <p:sp>
        <p:nvSpPr>
          <p:cNvPr id="2504" name=""/>
          <p:cNvSpPr/>
          <p:nvPr/>
        </p:nvSpPr>
        <p:spPr>
          <a:xfrm flipV="1">
            <a:off x="288144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5" name=""/>
          <p:cNvSpPr/>
          <p:nvPr/>
        </p:nvSpPr>
        <p:spPr>
          <a:xfrm>
            <a:off x="288144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6" name=""/>
          <p:cNvSpPr/>
          <p:nvPr/>
        </p:nvSpPr>
        <p:spPr>
          <a:xfrm>
            <a:off x="285552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07" name=""/>
          <p:cNvSpPr/>
          <p:nvPr/>
        </p:nvSpPr>
        <p:spPr>
          <a:xfrm flipV="1">
            <a:off x="323676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8" name=""/>
          <p:cNvSpPr/>
          <p:nvPr/>
        </p:nvSpPr>
        <p:spPr>
          <a:xfrm>
            <a:off x="323676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9" name=""/>
          <p:cNvSpPr/>
          <p:nvPr/>
        </p:nvSpPr>
        <p:spPr>
          <a:xfrm>
            <a:off x="316152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2510" name=""/>
          <p:cNvSpPr/>
          <p:nvPr/>
        </p:nvSpPr>
        <p:spPr>
          <a:xfrm flipV="1">
            <a:off x="359244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1" name=""/>
          <p:cNvSpPr/>
          <p:nvPr/>
        </p:nvSpPr>
        <p:spPr>
          <a:xfrm>
            <a:off x="359244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2" name=""/>
          <p:cNvSpPr/>
          <p:nvPr/>
        </p:nvSpPr>
        <p:spPr>
          <a:xfrm>
            <a:off x="351864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2513" name=""/>
          <p:cNvSpPr/>
          <p:nvPr/>
        </p:nvSpPr>
        <p:spPr>
          <a:xfrm flipV="1">
            <a:off x="395748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4" name=""/>
          <p:cNvSpPr/>
          <p:nvPr/>
        </p:nvSpPr>
        <p:spPr>
          <a:xfrm>
            <a:off x="395748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5" name=""/>
          <p:cNvSpPr/>
          <p:nvPr/>
        </p:nvSpPr>
        <p:spPr>
          <a:xfrm>
            <a:off x="388224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516" name=""/>
          <p:cNvSpPr/>
          <p:nvPr/>
        </p:nvSpPr>
        <p:spPr>
          <a:xfrm flipV="1">
            <a:off x="431316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7" name=""/>
          <p:cNvSpPr/>
          <p:nvPr/>
        </p:nvSpPr>
        <p:spPr>
          <a:xfrm>
            <a:off x="431316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8" name=""/>
          <p:cNvSpPr/>
          <p:nvPr/>
        </p:nvSpPr>
        <p:spPr>
          <a:xfrm>
            <a:off x="423936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2519" name=""/>
          <p:cNvSpPr/>
          <p:nvPr/>
        </p:nvSpPr>
        <p:spPr>
          <a:xfrm flipV="1">
            <a:off x="467820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0" name=""/>
          <p:cNvSpPr/>
          <p:nvPr/>
        </p:nvSpPr>
        <p:spPr>
          <a:xfrm>
            <a:off x="467820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1" name=""/>
          <p:cNvSpPr/>
          <p:nvPr/>
        </p:nvSpPr>
        <p:spPr>
          <a:xfrm>
            <a:off x="465588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22" name=""/>
          <p:cNvSpPr/>
          <p:nvPr/>
        </p:nvSpPr>
        <p:spPr>
          <a:xfrm flipV="1">
            <a:off x="503568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3" name=""/>
          <p:cNvSpPr/>
          <p:nvPr/>
        </p:nvSpPr>
        <p:spPr>
          <a:xfrm>
            <a:off x="503568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4" name=""/>
          <p:cNvSpPr/>
          <p:nvPr/>
        </p:nvSpPr>
        <p:spPr>
          <a:xfrm>
            <a:off x="496188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525" name=""/>
          <p:cNvSpPr/>
          <p:nvPr/>
        </p:nvSpPr>
        <p:spPr>
          <a:xfrm flipV="1">
            <a:off x="539100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6" name=""/>
          <p:cNvSpPr/>
          <p:nvPr/>
        </p:nvSpPr>
        <p:spPr>
          <a:xfrm>
            <a:off x="539100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7" name=""/>
          <p:cNvSpPr/>
          <p:nvPr/>
        </p:nvSpPr>
        <p:spPr>
          <a:xfrm>
            <a:off x="531756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2528" name=""/>
          <p:cNvSpPr/>
          <p:nvPr/>
        </p:nvSpPr>
        <p:spPr>
          <a:xfrm flipV="1">
            <a:off x="575640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9" name=""/>
          <p:cNvSpPr/>
          <p:nvPr/>
        </p:nvSpPr>
        <p:spPr>
          <a:xfrm>
            <a:off x="575640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0" name=""/>
          <p:cNvSpPr/>
          <p:nvPr/>
        </p:nvSpPr>
        <p:spPr>
          <a:xfrm>
            <a:off x="568260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2531" name=""/>
          <p:cNvSpPr/>
          <p:nvPr/>
        </p:nvSpPr>
        <p:spPr>
          <a:xfrm flipV="1">
            <a:off x="611352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2" name=""/>
          <p:cNvSpPr/>
          <p:nvPr/>
        </p:nvSpPr>
        <p:spPr>
          <a:xfrm>
            <a:off x="611352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3" name=""/>
          <p:cNvSpPr/>
          <p:nvPr/>
        </p:nvSpPr>
        <p:spPr>
          <a:xfrm>
            <a:off x="603828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Times New Roman"/>
            </a:endParaRPr>
          </a:p>
        </p:txBody>
      </p:sp>
      <p:sp>
        <p:nvSpPr>
          <p:cNvPr id="2534" name=""/>
          <p:cNvSpPr/>
          <p:nvPr/>
        </p:nvSpPr>
        <p:spPr>
          <a:xfrm flipV="1">
            <a:off x="647712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5" name=""/>
          <p:cNvSpPr/>
          <p:nvPr/>
        </p:nvSpPr>
        <p:spPr>
          <a:xfrm>
            <a:off x="647712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6" name=""/>
          <p:cNvSpPr/>
          <p:nvPr/>
        </p:nvSpPr>
        <p:spPr>
          <a:xfrm>
            <a:off x="645300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537" name=""/>
          <p:cNvSpPr/>
          <p:nvPr/>
        </p:nvSpPr>
        <p:spPr>
          <a:xfrm>
            <a:off x="2881440" y="50497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8" name=""/>
          <p:cNvSpPr/>
          <p:nvPr/>
        </p:nvSpPr>
        <p:spPr>
          <a:xfrm flipH="1">
            <a:off x="6435360" y="504972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9" name=""/>
          <p:cNvSpPr/>
          <p:nvPr/>
        </p:nvSpPr>
        <p:spPr>
          <a:xfrm>
            <a:off x="2758680" y="4994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540" name=""/>
          <p:cNvSpPr/>
          <p:nvPr/>
        </p:nvSpPr>
        <p:spPr>
          <a:xfrm>
            <a:off x="2881440" y="47577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1" name=""/>
          <p:cNvSpPr/>
          <p:nvPr/>
        </p:nvSpPr>
        <p:spPr>
          <a:xfrm flipH="1">
            <a:off x="6435360" y="47577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2" name=""/>
          <p:cNvSpPr/>
          <p:nvPr/>
        </p:nvSpPr>
        <p:spPr>
          <a:xfrm>
            <a:off x="2666160" y="4700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2543" name=""/>
          <p:cNvSpPr/>
          <p:nvPr/>
        </p:nvSpPr>
        <p:spPr>
          <a:xfrm>
            <a:off x="2881440" y="44751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4" name=""/>
          <p:cNvSpPr/>
          <p:nvPr/>
        </p:nvSpPr>
        <p:spPr>
          <a:xfrm flipH="1">
            <a:off x="6435360" y="44751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5" name=""/>
          <p:cNvSpPr/>
          <p:nvPr/>
        </p:nvSpPr>
        <p:spPr>
          <a:xfrm>
            <a:off x="2666160" y="4419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2546" name=""/>
          <p:cNvSpPr/>
          <p:nvPr/>
        </p:nvSpPr>
        <p:spPr>
          <a:xfrm>
            <a:off x="2881440" y="419112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7" name=""/>
          <p:cNvSpPr/>
          <p:nvPr/>
        </p:nvSpPr>
        <p:spPr>
          <a:xfrm flipH="1">
            <a:off x="6435360" y="41911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8" name=""/>
          <p:cNvSpPr/>
          <p:nvPr/>
        </p:nvSpPr>
        <p:spPr>
          <a:xfrm>
            <a:off x="2666160" y="41338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2549" name=""/>
          <p:cNvSpPr/>
          <p:nvPr/>
        </p:nvSpPr>
        <p:spPr>
          <a:xfrm>
            <a:off x="2881440" y="39067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0" name=""/>
          <p:cNvSpPr/>
          <p:nvPr/>
        </p:nvSpPr>
        <p:spPr>
          <a:xfrm flipH="1">
            <a:off x="6435360" y="390672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1" name=""/>
          <p:cNvSpPr/>
          <p:nvPr/>
        </p:nvSpPr>
        <p:spPr>
          <a:xfrm>
            <a:off x="2666160" y="3852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2552" name=""/>
          <p:cNvSpPr/>
          <p:nvPr/>
        </p:nvSpPr>
        <p:spPr>
          <a:xfrm>
            <a:off x="2881440" y="36241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3" name=""/>
          <p:cNvSpPr/>
          <p:nvPr/>
        </p:nvSpPr>
        <p:spPr>
          <a:xfrm flipH="1">
            <a:off x="6435360" y="36259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4" name=""/>
          <p:cNvSpPr/>
          <p:nvPr/>
        </p:nvSpPr>
        <p:spPr>
          <a:xfrm>
            <a:off x="2758680" y="3567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55" name=""/>
          <p:cNvSpPr/>
          <p:nvPr/>
        </p:nvSpPr>
        <p:spPr>
          <a:xfrm>
            <a:off x="2881440" y="33336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6" name=""/>
          <p:cNvSpPr/>
          <p:nvPr/>
        </p:nvSpPr>
        <p:spPr>
          <a:xfrm flipH="1">
            <a:off x="6435360" y="333360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7" name=""/>
          <p:cNvSpPr/>
          <p:nvPr/>
        </p:nvSpPr>
        <p:spPr>
          <a:xfrm>
            <a:off x="2666160" y="3276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2558" name=""/>
          <p:cNvSpPr/>
          <p:nvPr/>
        </p:nvSpPr>
        <p:spPr>
          <a:xfrm>
            <a:off x="2881440" y="30510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9" name=""/>
          <p:cNvSpPr/>
          <p:nvPr/>
        </p:nvSpPr>
        <p:spPr>
          <a:xfrm flipH="1">
            <a:off x="6435360" y="305100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0" name=""/>
          <p:cNvSpPr/>
          <p:nvPr/>
        </p:nvSpPr>
        <p:spPr>
          <a:xfrm>
            <a:off x="2666160" y="2994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2561" name=""/>
          <p:cNvSpPr/>
          <p:nvPr/>
        </p:nvSpPr>
        <p:spPr>
          <a:xfrm>
            <a:off x="2881440" y="27669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2" name=""/>
          <p:cNvSpPr/>
          <p:nvPr/>
        </p:nvSpPr>
        <p:spPr>
          <a:xfrm flipH="1">
            <a:off x="6435360" y="27669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3" name=""/>
          <p:cNvSpPr/>
          <p:nvPr/>
        </p:nvSpPr>
        <p:spPr>
          <a:xfrm>
            <a:off x="2666160" y="2709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564" name=""/>
          <p:cNvSpPr/>
          <p:nvPr/>
        </p:nvSpPr>
        <p:spPr>
          <a:xfrm>
            <a:off x="2881440" y="24843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5" name=""/>
          <p:cNvSpPr/>
          <p:nvPr/>
        </p:nvSpPr>
        <p:spPr>
          <a:xfrm flipH="1">
            <a:off x="6435360" y="24843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6" name=""/>
          <p:cNvSpPr/>
          <p:nvPr/>
        </p:nvSpPr>
        <p:spPr>
          <a:xfrm>
            <a:off x="2666160" y="2428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2567" name=""/>
          <p:cNvSpPr/>
          <p:nvPr/>
        </p:nvSpPr>
        <p:spPr>
          <a:xfrm>
            <a:off x="2881440" y="220032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8" name=""/>
          <p:cNvSpPr/>
          <p:nvPr/>
        </p:nvSpPr>
        <p:spPr>
          <a:xfrm flipH="1">
            <a:off x="6435360" y="22003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9" name=""/>
          <p:cNvSpPr/>
          <p:nvPr/>
        </p:nvSpPr>
        <p:spPr>
          <a:xfrm>
            <a:off x="2758680" y="214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70" name=""/>
          <p:cNvSpPr/>
          <p:nvPr/>
        </p:nvSpPr>
        <p:spPr>
          <a:xfrm>
            <a:off x="2881440" y="3906720"/>
            <a:ext cx="3595680" cy="1143000"/>
          </a:xfrm>
          <a:custGeom>
            <a:avLst/>
            <a:gdLst/>
            <a:ahLst/>
            <a:rect l="l" t="t" r="r" b="b"/>
            <a:pathLst>
              <a:path w="2265" h="720">
                <a:moveTo>
                  <a:pt x="0" y="720"/>
                </a:moveTo>
                <a:lnTo>
                  <a:pt x="42" y="683"/>
                </a:lnTo>
                <a:lnTo>
                  <a:pt x="89" y="647"/>
                </a:lnTo>
                <a:lnTo>
                  <a:pt x="135" y="614"/>
                </a:lnTo>
                <a:lnTo>
                  <a:pt x="182" y="583"/>
                </a:lnTo>
                <a:lnTo>
                  <a:pt x="229" y="552"/>
                </a:lnTo>
                <a:lnTo>
                  <a:pt x="276" y="526"/>
                </a:lnTo>
                <a:lnTo>
                  <a:pt x="318" y="494"/>
                </a:lnTo>
                <a:lnTo>
                  <a:pt x="365" y="468"/>
                </a:lnTo>
                <a:lnTo>
                  <a:pt x="412" y="447"/>
                </a:lnTo>
                <a:lnTo>
                  <a:pt x="459" y="420"/>
                </a:lnTo>
                <a:lnTo>
                  <a:pt x="506" y="399"/>
                </a:lnTo>
                <a:lnTo>
                  <a:pt x="553" y="378"/>
                </a:lnTo>
                <a:lnTo>
                  <a:pt x="600" y="358"/>
                </a:lnTo>
                <a:lnTo>
                  <a:pt x="647" y="337"/>
                </a:lnTo>
                <a:lnTo>
                  <a:pt x="689" y="321"/>
                </a:lnTo>
                <a:lnTo>
                  <a:pt x="736" y="300"/>
                </a:lnTo>
                <a:lnTo>
                  <a:pt x="783" y="284"/>
                </a:lnTo>
                <a:lnTo>
                  <a:pt x="830" y="269"/>
                </a:lnTo>
                <a:lnTo>
                  <a:pt x="876" y="253"/>
                </a:lnTo>
                <a:lnTo>
                  <a:pt x="923" y="237"/>
                </a:lnTo>
                <a:lnTo>
                  <a:pt x="970" y="221"/>
                </a:lnTo>
                <a:lnTo>
                  <a:pt x="1012" y="210"/>
                </a:lnTo>
                <a:lnTo>
                  <a:pt x="1059" y="195"/>
                </a:lnTo>
                <a:lnTo>
                  <a:pt x="1106" y="184"/>
                </a:lnTo>
                <a:lnTo>
                  <a:pt x="1153" y="174"/>
                </a:lnTo>
                <a:lnTo>
                  <a:pt x="1200" y="163"/>
                </a:lnTo>
                <a:lnTo>
                  <a:pt x="1247" y="153"/>
                </a:lnTo>
                <a:lnTo>
                  <a:pt x="1294" y="142"/>
                </a:lnTo>
                <a:lnTo>
                  <a:pt x="1336" y="132"/>
                </a:lnTo>
                <a:lnTo>
                  <a:pt x="1383" y="122"/>
                </a:lnTo>
                <a:lnTo>
                  <a:pt x="1430" y="111"/>
                </a:lnTo>
                <a:lnTo>
                  <a:pt x="1477" y="106"/>
                </a:lnTo>
                <a:lnTo>
                  <a:pt x="1523" y="95"/>
                </a:lnTo>
                <a:lnTo>
                  <a:pt x="1570" y="90"/>
                </a:lnTo>
                <a:lnTo>
                  <a:pt x="1618" y="80"/>
                </a:lnTo>
                <a:lnTo>
                  <a:pt x="1659" y="75"/>
                </a:lnTo>
                <a:lnTo>
                  <a:pt x="1706" y="64"/>
                </a:lnTo>
                <a:lnTo>
                  <a:pt x="1753" y="59"/>
                </a:lnTo>
                <a:lnTo>
                  <a:pt x="1801" y="54"/>
                </a:lnTo>
                <a:lnTo>
                  <a:pt x="1848" y="48"/>
                </a:lnTo>
                <a:lnTo>
                  <a:pt x="1895" y="38"/>
                </a:lnTo>
                <a:lnTo>
                  <a:pt x="1942" y="32"/>
                </a:lnTo>
                <a:lnTo>
                  <a:pt x="1984" y="28"/>
                </a:lnTo>
                <a:lnTo>
                  <a:pt x="2031" y="22"/>
                </a:lnTo>
                <a:lnTo>
                  <a:pt x="2078" y="16"/>
                </a:lnTo>
                <a:lnTo>
                  <a:pt x="2125" y="11"/>
                </a:lnTo>
                <a:lnTo>
                  <a:pt x="2172" y="6"/>
                </a:lnTo>
                <a:lnTo>
                  <a:pt x="2219" y="6"/>
                </a:lnTo>
                <a:lnTo>
                  <a:pt x="2265"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2881440" y="2200320"/>
            <a:ext cx="3595680" cy="2849400"/>
          </a:xfrm>
          <a:custGeom>
            <a:avLst/>
            <a:gdLst/>
            <a:ahLst/>
            <a:rect l="l" t="t" r="r" b="b"/>
            <a:pathLst>
              <a:path w="2265" h="1795">
                <a:moveTo>
                  <a:pt x="0" y="1795"/>
                </a:moveTo>
                <a:lnTo>
                  <a:pt x="42" y="1758"/>
                </a:lnTo>
                <a:lnTo>
                  <a:pt x="89" y="1722"/>
                </a:lnTo>
                <a:lnTo>
                  <a:pt x="135" y="1684"/>
                </a:lnTo>
                <a:lnTo>
                  <a:pt x="182" y="1648"/>
                </a:lnTo>
                <a:lnTo>
                  <a:pt x="229" y="1611"/>
                </a:lnTo>
                <a:lnTo>
                  <a:pt x="276" y="1575"/>
                </a:lnTo>
                <a:lnTo>
                  <a:pt x="318" y="1538"/>
                </a:lnTo>
                <a:lnTo>
                  <a:pt x="365" y="1501"/>
                </a:lnTo>
                <a:lnTo>
                  <a:pt x="412" y="1464"/>
                </a:lnTo>
                <a:lnTo>
                  <a:pt x="459" y="1427"/>
                </a:lnTo>
                <a:lnTo>
                  <a:pt x="506" y="1391"/>
                </a:lnTo>
                <a:lnTo>
                  <a:pt x="553" y="1354"/>
                </a:lnTo>
                <a:lnTo>
                  <a:pt x="600" y="1318"/>
                </a:lnTo>
                <a:lnTo>
                  <a:pt x="647" y="1280"/>
                </a:lnTo>
                <a:lnTo>
                  <a:pt x="689" y="1244"/>
                </a:lnTo>
                <a:lnTo>
                  <a:pt x="736" y="1207"/>
                </a:lnTo>
                <a:lnTo>
                  <a:pt x="783" y="1170"/>
                </a:lnTo>
                <a:lnTo>
                  <a:pt x="830" y="1134"/>
                </a:lnTo>
                <a:lnTo>
                  <a:pt x="876" y="1097"/>
                </a:lnTo>
                <a:lnTo>
                  <a:pt x="923" y="1060"/>
                </a:lnTo>
                <a:lnTo>
                  <a:pt x="970" y="1023"/>
                </a:lnTo>
                <a:lnTo>
                  <a:pt x="1012" y="987"/>
                </a:lnTo>
                <a:lnTo>
                  <a:pt x="1059" y="950"/>
                </a:lnTo>
                <a:lnTo>
                  <a:pt x="1106" y="914"/>
                </a:lnTo>
                <a:lnTo>
                  <a:pt x="1153" y="876"/>
                </a:lnTo>
                <a:lnTo>
                  <a:pt x="1200" y="840"/>
                </a:lnTo>
                <a:lnTo>
                  <a:pt x="1247" y="803"/>
                </a:lnTo>
                <a:lnTo>
                  <a:pt x="1294" y="766"/>
                </a:lnTo>
                <a:lnTo>
                  <a:pt x="1336" y="730"/>
                </a:lnTo>
                <a:lnTo>
                  <a:pt x="1383" y="693"/>
                </a:lnTo>
                <a:lnTo>
                  <a:pt x="1430" y="656"/>
                </a:lnTo>
                <a:lnTo>
                  <a:pt x="1477" y="619"/>
                </a:lnTo>
                <a:lnTo>
                  <a:pt x="1523" y="583"/>
                </a:lnTo>
                <a:lnTo>
                  <a:pt x="1570" y="546"/>
                </a:lnTo>
                <a:lnTo>
                  <a:pt x="1618" y="510"/>
                </a:lnTo>
                <a:lnTo>
                  <a:pt x="1659" y="472"/>
                </a:lnTo>
                <a:lnTo>
                  <a:pt x="1706" y="435"/>
                </a:lnTo>
                <a:lnTo>
                  <a:pt x="1753" y="399"/>
                </a:lnTo>
                <a:lnTo>
                  <a:pt x="1801" y="362"/>
                </a:lnTo>
                <a:lnTo>
                  <a:pt x="1848" y="326"/>
                </a:lnTo>
                <a:lnTo>
                  <a:pt x="1895" y="289"/>
                </a:lnTo>
                <a:lnTo>
                  <a:pt x="1942" y="252"/>
                </a:lnTo>
                <a:lnTo>
                  <a:pt x="1984" y="215"/>
                </a:lnTo>
                <a:lnTo>
                  <a:pt x="2031" y="179"/>
                </a:lnTo>
                <a:lnTo>
                  <a:pt x="2078" y="142"/>
                </a:lnTo>
                <a:lnTo>
                  <a:pt x="2125" y="106"/>
                </a:lnTo>
                <a:lnTo>
                  <a:pt x="2172" y="68"/>
                </a:lnTo>
                <a:lnTo>
                  <a:pt x="2219" y="31"/>
                </a:lnTo>
                <a:lnTo>
                  <a:pt x="2265"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2881440" y="4100400"/>
            <a:ext cx="3595680" cy="949320"/>
          </a:xfrm>
          <a:custGeom>
            <a:avLst/>
            <a:gdLst/>
            <a:ahLst/>
            <a:rect l="l" t="t" r="r" b="b"/>
            <a:pathLst>
              <a:path w="2265" h="598">
                <a:moveTo>
                  <a:pt x="0" y="598"/>
                </a:moveTo>
                <a:lnTo>
                  <a:pt x="42" y="561"/>
                </a:lnTo>
                <a:lnTo>
                  <a:pt x="89" y="530"/>
                </a:lnTo>
                <a:lnTo>
                  <a:pt x="135" y="498"/>
                </a:lnTo>
                <a:lnTo>
                  <a:pt x="182" y="472"/>
                </a:lnTo>
                <a:lnTo>
                  <a:pt x="229" y="445"/>
                </a:lnTo>
                <a:lnTo>
                  <a:pt x="276" y="419"/>
                </a:lnTo>
                <a:lnTo>
                  <a:pt x="318" y="398"/>
                </a:lnTo>
                <a:lnTo>
                  <a:pt x="365" y="372"/>
                </a:lnTo>
                <a:lnTo>
                  <a:pt x="412" y="357"/>
                </a:lnTo>
                <a:lnTo>
                  <a:pt x="459" y="336"/>
                </a:lnTo>
                <a:lnTo>
                  <a:pt x="506" y="320"/>
                </a:lnTo>
                <a:lnTo>
                  <a:pt x="553" y="298"/>
                </a:lnTo>
                <a:lnTo>
                  <a:pt x="600" y="283"/>
                </a:lnTo>
                <a:lnTo>
                  <a:pt x="647" y="267"/>
                </a:lnTo>
                <a:lnTo>
                  <a:pt x="689" y="256"/>
                </a:lnTo>
                <a:lnTo>
                  <a:pt x="736" y="241"/>
                </a:lnTo>
                <a:lnTo>
                  <a:pt x="783" y="225"/>
                </a:lnTo>
                <a:lnTo>
                  <a:pt x="830" y="215"/>
                </a:lnTo>
                <a:lnTo>
                  <a:pt x="876" y="204"/>
                </a:lnTo>
                <a:lnTo>
                  <a:pt x="923" y="194"/>
                </a:lnTo>
                <a:lnTo>
                  <a:pt x="970" y="183"/>
                </a:lnTo>
                <a:lnTo>
                  <a:pt x="1012" y="173"/>
                </a:lnTo>
                <a:lnTo>
                  <a:pt x="1059" y="162"/>
                </a:lnTo>
                <a:lnTo>
                  <a:pt x="1106" y="152"/>
                </a:lnTo>
                <a:lnTo>
                  <a:pt x="1153" y="142"/>
                </a:lnTo>
                <a:lnTo>
                  <a:pt x="1200" y="131"/>
                </a:lnTo>
                <a:lnTo>
                  <a:pt x="1247" y="126"/>
                </a:lnTo>
                <a:lnTo>
                  <a:pt x="1294" y="115"/>
                </a:lnTo>
                <a:lnTo>
                  <a:pt x="1336" y="109"/>
                </a:lnTo>
                <a:lnTo>
                  <a:pt x="1383" y="99"/>
                </a:lnTo>
                <a:lnTo>
                  <a:pt x="1430" y="94"/>
                </a:lnTo>
                <a:lnTo>
                  <a:pt x="1477" y="88"/>
                </a:lnTo>
                <a:lnTo>
                  <a:pt x="1523" y="78"/>
                </a:lnTo>
                <a:lnTo>
                  <a:pt x="1570" y="73"/>
                </a:lnTo>
                <a:lnTo>
                  <a:pt x="1618" y="67"/>
                </a:lnTo>
                <a:lnTo>
                  <a:pt x="1659" y="62"/>
                </a:lnTo>
                <a:lnTo>
                  <a:pt x="1706" y="57"/>
                </a:lnTo>
                <a:lnTo>
                  <a:pt x="1753" y="52"/>
                </a:lnTo>
                <a:lnTo>
                  <a:pt x="1801" y="41"/>
                </a:lnTo>
                <a:lnTo>
                  <a:pt x="1848" y="36"/>
                </a:lnTo>
                <a:lnTo>
                  <a:pt x="1895" y="31"/>
                </a:lnTo>
                <a:lnTo>
                  <a:pt x="1942" y="31"/>
                </a:lnTo>
                <a:lnTo>
                  <a:pt x="1984" y="26"/>
                </a:lnTo>
                <a:lnTo>
                  <a:pt x="2031" y="20"/>
                </a:lnTo>
                <a:lnTo>
                  <a:pt x="2078" y="15"/>
                </a:lnTo>
                <a:lnTo>
                  <a:pt x="2125" y="10"/>
                </a:lnTo>
                <a:lnTo>
                  <a:pt x="2172" y="5"/>
                </a:lnTo>
                <a:lnTo>
                  <a:pt x="2219" y="0"/>
                </a:lnTo>
                <a:lnTo>
                  <a:pt x="2265"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878200" y="2195640"/>
            <a:ext cx="1440" cy="2846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flipV="1">
            <a:off x="2878200" y="2195280"/>
            <a:ext cx="3589200" cy="6120"/>
          </a:xfrm>
          <a:prstGeom prst="line">
            <a:avLst/>
          </a:prstGeom>
          <a:ln cap="rnd"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5" name=""/>
          <p:cNvSpPr/>
          <p:nvPr/>
        </p:nvSpPr>
        <p:spPr>
          <a:xfrm>
            <a:off x="2884320" y="5048280"/>
            <a:ext cx="36021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6" name=""/>
          <p:cNvSpPr/>
          <p:nvPr/>
        </p:nvSpPr>
        <p:spPr>
          <a:xfrm>
            <a:off x="6478560" y="2195640"/>
            <a:ext cx="1440" cy="2801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flipV="1">
            <a:off x="288144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8" name=""/>
          <p:cNvSpPr/>
          <p:nvPr/>
        </p:nvSpPr>
        <p:spPr>
          <a:xfrm>
            <a:off x="288144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9" name=""/>
          <p:cNvSpPr/>
          <p:nvPr/>
        </p:nvSpPr>
        <p:spPr>
          <a:xfrm>
            <a:off x="285552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80" name=""/>
          <p:cNvSpPr/>
          <p:nvPr/>
        </p:nvSpPr>
        <p:spPr>
          <a:xfrm flipV="1">
            <a:off x="323676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1" name=""/>
          <p:cNvSpPr/>
          <p:nvPr/>
        </p:nvSpPr>
        <p:spPr>
          <a:xfrm>
            <a:off x="323676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2" name=""/>
          <p:cNvSpPr/>
          <p:nvPr/>
        </p:nvSpPr>
        <p:spPr>
          <a:xfrm>
            <a:off x="316152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2583" name=""/>
          <p:cNvSpPr/>
          <p:nvPr/>
        </p:nvSpPr>
        <p:spPr>
          <a:xfrm flipV="1">
            <a:off x="359244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4" name=""/>
          <p:cNvSpPr/>
          <p:nvPr/>
        </p:nvSpPr>
        <p:spPr>
          <a:xfrm>
            <a:off x="359244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5" name=""/>
          <p:cNvSpPr/>
          <p:nvPr/>
        </p:nvSpPr>
        <p:spPr>
          <a:xfrm>
            <a:off x="351864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2586" name=""/>
          <p:cNvSpPr/>
          <p:nvPr/>
        </p:nvSpPr>
        <p:spPr>
          <a:xfrm flipV="1">
            <a:off x="395748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7" name=""/>
          <p:cNvSpPr/>
          <p:nvPr/>
        </p:nvSpPr>
        <p:spPr>
          <a:xfrm>
            <a:off x="395748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8" name=""/>
          <p:cNvSpPr/>
          <p:nvPr/>
        </p:nvSpPr>
        <p:spPr>
          <a:xfrm>
            <a:off x="388224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589" name=""/>
          <p:cNvSpPr/>
          <p:nvPr/>
        </p:nvSpPr>
        <p:spPr>
          <a:xfrm flipV="1">
            <a:off x="431316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0" name=""/>
          <p:cNvSpPr/>
          <p:nvPr/>
        </p:nvSpPr>
        <p:spPr>
          <a:xfrm>
            <a:off x="431316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1" name=""/>
          <p:cNvSpPr/>
          <p:nvPr/>
        </p:nvSpPr>
        <p:spPr>
          <a:xfrm>
            <a:off x="423936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2592" name=""/>
          <p:cNvSpPr/>
          <p:nvPr/>
        </p:nvSpPr>
        <p:spPr>
          <a:xfrm flipV="1">
            <a:off x="467820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3" name=""/>
          <p:cNvSpPr/>
          <p:nvPr/>
        </p:nvSpPr>
        <p:spPr>
          <a:xfrm>
            <a:off x="467820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4" name=""/>
          <p:cNvSpPr/>
          <p:nvPr/>
        </p:nvSpPr>
        <p:spPr>
          <a:xfrm>
            <a:off x="465588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5" name=""/>
          <p:cNvSpPr/>
          <p:nvPr/>
        </p:nvSpPr>
        <p:spPr>
          <a:xfrm flipV="1">
            <a:off x="503568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6" name=""/>
          <p:cNvSpPr/>
          <p:nvPr/>
        </p:nvSpPr>
        <p:spPr>
          <a:xfrm>
            <a:off x="503568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7" name=""/>
          <p:cNvSpPr/>
          <p:nvPr/>
        </p:nvSpPr>
        <p:spPr>
          <a:xfrm>
            <a:off x="496188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598" name=""/>
          <p:cNvSpPr/>
          <p:nvPr/>
        </p:nvSpPr>
        <p:spPr>
          <a:xfrm flipV="1">
            <a:off x="5391000" y="5008680"/>
            <a:ext cx="180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9" name=""/>
          <p:cNvSpPr/>
          <p:nvPr/>
        </p:nvSpPr>
        <p:spPr>
          <a:xfrm>
            <a:off x="5391000" y="220032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0" name=""/>
          <p:cNvSpPr/>
          <p:nvPr/>
        </p:nvSpPr>
        <p:spPr>
          <a:xfrm>
            <a:off x="531756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2601" name=""/>
          <p:cNvSpPr/>
          <p:nvPr/>
        </p:nvSpPr>
        <p:spPr>
          <a:xfrm flipV="1">
            <a:off x="575640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2" name=""/>
          <p:cNvSpPr/>
          <p:nvPr/>
        </p:nvSpPr>
        <p:spPr>
          <a:xfrm>
            <a:off x="575640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3" name=""/>
          <p:cNvSpPr/>
          <p:nvPr/>
        </p:nvSpPr>
        <p:spPr>
          <a:xfrm>
            <a:off x="568260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2604" name=""/>
          <p:cNvSpPr/>
          <p:nvPr/>
        </p:nvSpPr>
        <p:spPr>
          <a:xfrm flipV="1">
            <a:off x="611352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5" name=""/>
          <p:cNvSpPr/>
          <p:nvPr/>
        </p:nvSpPr>
        <p:spPr>
          <a:xfrm>
            <a:off x="611352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6" name=""/>
          <p:cNvSpPr/>
          <p:nvPr/>
        </p:nvSpPr>
        <p:spPr>
          <a:xfrm>
            <a:off x="6038280" y="5116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Times New Roman"/>
            </a:endParaRPr>
          </a:p>
        </p:txBody>
      </p:sp>
      <p:sp>
        <p:nvSpPr>
          <p:cNvPr id="2607" name=""/>
          <p:cNvSpPr/>
          <p:nvPr/>
        </p:nvSpPr>
        <p:spPr>
          <a:xfrm flipV="1">
            <a:off x="6477120" y="5008680"/>
            <a:ext cx="1440" cy="41040"/>
          </a:xfrm>
          <a:prstGeom prst="line">
            <a:avLst/>
          </a:prstGeom>
          <a:ln cap="rnd"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6477120" y="220032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9" name=""/>
          <p:cNvSpPr/>
          <p:nvPr/>
        </p:nvSpPr>
        <p:spPr>
          <a:xfrm>
            <a:off x="6453000" y="511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0" name=""/>
          <p:cNvSpPr/>
          <p:nvPr/>
        </p:nvSpPr>
        <p:spPr>
          <a:xfrm>
            <a:off x="2881440" y="50497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1" name=""/>
          <p:cNvSpPr/>
          <p:nvPr/>
        </p:nvSpPr>
        <p:spPr>
          <a:xfrm flipH="1">
            <a:off x="6435360" y="504972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2" name=""/>
          <p:cNvSpPr/>
          <p:nvPr/>
        </p:nvSpPr>
        <p:spPr>
          <a:xfrm>
            <a:off x="2758680" y="4994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613" name=""/>
          <p:cNvSpPr/>
          <p:nvPr/>
        </p:nvSpPr>
        <p:spPr>
          <a:xfrm>
            <a:off x="2881440" y="47577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4" name=""/>
          <p:cNvSpPr/>
          <p:nvPr/>
        </p:nvSpPr>
        <p:spPr>
          <a:xfrm flipH="1">
            <a:off x="6435360" y="47577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5" name=""/>
          <p:cNvSpPr/>
          <p:nvPr/>
        </p:nvSpPr>
        <p:spPr>
          <a:xfrm>
            <a:off x="2666160" y="4700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2616" name=""/>
          <p:cNvSpPr/>
          <p:nvPr/>
        </p:nvSpPr>
        <p:spPr>
          <a:xfrm>
            <a:off x="2881440" y="447516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7" name=""/>
          <p:cNvSpPr/>
          <p:nvPr/>
        </p:nvSpPr>
        <p:spPr>
          <a:xfrm flipH="1">
            <a:off x="6435360" y="44751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8" name=""/>
          <p:cNvSpPr/>
          <p:nvPr/>
        </p:nvSpPr>
        <p:spPr>
          <a:xfrm>
            <a:off x="2666160" y="4419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2619" name=""/>
          <p:cNvSpPr/>
          <p:nvPr/>
        </p:nvSpPr>
        <p:spPr>
          <a:xfrm>
            <a:off x="2881440" y="419112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0" name=""/>
          <p:cNvSpPr/>
          <p:nvPr/>
        </p:nvSpPr>
        <p:spPr>
          <a:xfrm flipH="1">
            <a:off x="6435360" y="41911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a:off x="2666160" y="41338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2622" name=""/>
          <p:cNvSpPr/>
          <p:nvPr/>
        </p:nvSpPr>
        <p:spPr>
          <a:xfrm>
            <a:off x="2881440" y="39067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3" name=""/>
          <p:cNvSpPr/>
          <p:nvPr/>
        </p:nvSpPr>
        <p:spPr>
          <a:xfrm flipH="1">
            <a:off x="6435360" y="390672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4" name=""/>
          <p:cNvSpPr/>
          <p:nvPr/>
        </p:nvSpPr>
        <p:spPr>
          <a:xfrm>
            <a:off x="2666160" y="3852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2625" name=""/>
          <p:cNvSpPr/>
          <p:nvPr/>
        </p:nvSpPr>
        <p:spPr>
          <a:xfrm>
            <a:off x="2881440" y="362412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6" name=""/>
          <p:cNvSpPr/>
          <p:nvPr/>
        </p:nvSpPr>
        <p:spPr>
          <a:xfrm flipH="1">
            <a:off x="6435360" y="36259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7" name=""/>
          <p:cNvSpPr/>
          <p:nvPr/>
        </p:nvSpPr>
        <p:spPr>
          <a:xfrm>
            <a:off x="2758680" y="3567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28" name=""/>
          <p:cNvSpPr/>
          <p:nvPr/>
        </p:nvSpPr>
        <p:spPr>
          <a:xfrm>
            <a:off x="2881440" y="33336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9" name=""/>
          <p:cNvSpPr/>
          <p:nvPr/>
        </p:nvSpPr>
        <p:spPr>
          <a:xfrm flipH="1">
            <a:off x="6435360" y="333360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0" name=""/>
          <p:cNvSpPr/>
          <p:nvPr/>
        </p:nvSpPr>
        <p:spPr>
          <a:xfrm>
            <a:off x="2666160" y="3276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2631" name=""/>
          <p:cNvSpPr/>
          <p:nvPr/>
        </p:nvSpPr>
        <p:spPr>
          <a:xfrm>
            <a:off x="2881440" y="305100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2" name=""/>
          <p:cNvSpPr/>
          <p:nvPr/>
        </p:nvSpPr>
        <p:spPr>
          <a:xfrm flipH="1">
            <a:off x="6435360" y="305100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3" name=""/>
          <p:cNvSpPr/>
          <p:nvPr/>
        </p:nvSpPr>
        <p:spPr>
          <a:xfrm>
            <a:off x="2666160" y="2994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2634" name=""/>
          <p:cNvSpPr/>
          <p:nvPr/>
        </p:nvSpPr>
        <p:spPr>
          <a:xfrm>
            <a:off x="2881440" y="27669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5" name=""/>
          <p:cNvSpPr/>
          <p:nvPr/>
        </p:nvSpPr>
        <p:spPr>
          <a:xfrm flipH="1">
            <a:off x="6435360" y="27669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6" name=""/>
          <p:cNvSpPr/>
          <p:nvPr/>
        </p:nvSpPr>
        <p:spPr>
          <a:xfrm>
            <a:off x="2666160" y="2709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637" name=""/>
          <p:cNvSpPr/>
          <p:nvPr/>
        </p:nvSpPr>
        <p:spPr>
          <a:xfrm>
            <a:off x="2881440" y="2484360"/>
            <a:ext cx="331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8" name=""/>
          <p:cNvSpPr/>
          <p:nvPr/>
        </p:nvSpPr>
        <p:spPr>
          <a:xfrm flipH="1">
            <a:off x="6435360" y="24843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9" name=""/>
          <p:cNvSpPr/>
          <p:nvPr/>
        </p:nvSpPr>
        <p:spPr>
          <a:xfrm>
            <a:off x="2666160" y="2428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2640" name=""/>
          <p:cNvSpPr/>
          <p:nvPr/>
        </p:nvSpPr>
        <p:spPr>
          <a:xfrm>
            <a:off x="2881440" y="2200320"/>
            <a:ext cx="331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1" name=""/>
          <p:cNvSpPr/>
          <p:nvPr/>
        </p:nvSpPr>
        <p:spPr>
          <a:xfrm flipH="1">
            <a:off x="6435360" y="220032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2" name=""/>
          <p:cNvSpPr/>
          <p:nvPr/>
        </p:nvSpPr>
        <p:spPr>
          <a:xfrm>
            <a:off x="2758680" y="214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643" name=""/>
          <p:cNvSpPr/>
          <p:nvPr/>
        </p:nvSpPr>
        <p:spPr>
          <a:xfrm>
            <a:off x="2881440" y="3906720"/>
            <a:ext cx="3595680" cy="1143000"/>
          </a:xfrm>
          <a:custGeom>
            <a:avLst/>
            <a:gdLst/>
            <a:ahLst/>
            <a:rect l="l" t="t" r="r" b="b"/>
            <a:pathLst>
              <a:path w="2265" h="720">
                <a:moveTo>
                  <a:pt x="0" y="720"/>
                </a:moveTo>
                <a:lnTo>
                  <a:pt x="42" y="683"/>
                </a:lnTo>
                <a:lnTo>
                  <a:pt x="89" y="647"/>
                </a:lnTo>
                <a:lnTo>
                  <a:pt x="135" y="614"/>
                </a:lnTo>
                <a:lnTo>
                  <a:pt x="182" y="583"/>
                </a:lnTo>
                <a:lnTo>
                  <a:pt x="229" y="552"/>
                </a:lnTo>
                <a:lnTo>
                  <a:pt x="276" y="526"/>
                </a:lnTo>
                <a:lnTo>
                  <a:pt x="318" y="494"/>
                </a:lnTo>
                <a:lnTo>
                  <a:pt x="365" y="468"/>
                </a:lnTo>
                <a:lnTo>
                  <a:pt x="412" y="447"/>
                </a:lnTo>
                <a:lnTo>
                  <a:pt x="459" y="420"/>
                </a:lnTo>
                <a:lnTo>
                  <a:pt x="506" y="399"/>
                </a:lnTo>
                <a:lnTo>
                  <a:pt x="553" y="378"/>
                </a:lnTo>
                <a:lnTo>
                  <a:pt x="600" y="358"/>
                </a:lnTo>
                <a:lnTo>
                  <a:pt x="647" y="337"/>
                </a:lnTo>
                <a:lnTo>
                  <a:pt x="689" y="321"/>
                </a:lnTo>
                <a:lnTo>
                  <a:pt x="736" y="300"/>
                </a:lnTo>
                <a:lnTo>
                  <a:pt x="783" y="284"/>
                </a:lnTo>
                <a:lnTo>
                  <a:pt x="830" y="269"/>
                </a:lnTo>
                <a:lnTo>
                  <a:pt x="876" y="253"/>
                </a:lnTo>
                <a:lnTo>
                  <a:pt x="923" y="237"/>
                </a:lnTo>
                <a:lnTo>
                  <a:pt x="970" y="221"/>
                </a:lnTo>
                <a:lnTo>
                  <a:pt x="1012" y="210"/>
                </a:lnTo>
                <a:lnTo>
                  <a:pt x="1059" y="195"/>
                </a:lnTo>
                <a:lnTo>
                  <a:pt x="1106" y="184"/>
                </a:lnTo>
                <a:lnTo>
                  <a:pt x="1153" y="174"/>
                </a:lnTo>
                <a:lnTo>
                  <a:pt x="1200" y="163"/>
                </a:lnTo>
                <a:lnTo>
                  <a:pt x="1247" y="153"/>
                </a:lnTo>
                <a:lnTo>
                  <a:pt x="1294" y="142"/>
                </a:lnTo>
                <a:lnTo>
                  <a:pt x="1336" y="132"/>
                </a:lnTo>
                <a:lnTo>
                  <a:pt x="1383" y="122"/>
                </a:lnTo>
                <a:lnTo>
                  <a:pt x="1430" y="111"/>
                </a:lnTo>
                <a:lnTo>
                  <a:pt x="1477" y="106"/>
                </a:lnTo>
                <a:lnTo>
                  <a:pt x="1523" y="95"/>
                </a:lnTo>
                <a:lnTo>
                  <a:pt x="1570" y="90"/>
                </a:lnTo>
                <a:lnTo>
                  <a:pt x="1618" y="80"/>
                </a:lnTo>
                <a:lnTo>
                  <a:pt x="1659" y="75"/>
                </a:lnTo>
                <a:lnTo>
                  <a:pt x="1706" y="64"/>
                </a:lnTo>
                <a:lnTo>
                  <a:pt x="1753" y="59"/>
                </a:lnTo>
                <a:lnTo>
                  <a:pt x="1801" y="54"/>
                </a:lnTo>
                <a:lnTo>
                  <a:pt x="1848" y="48"/>
                </a:lnTo>
                <a:lnTo>
                  <a:pt x="1895" y="38"/>
                </a:lnTo>
                <a:lnTo>
                  <a:pt x="1942" y="32"/>
                </a:lnTo>
                <a:lnTo>
                  <a:pt x="1984" y="28"/>
                </a:lnTo>
                <a:lnTo>
                  <a:pt x="2031" y="22"/>
                </a:lnTo>
                <a:lnTo>
                  <a:pt x="2078" y="16"/>
                </a:lnTo>
                <a:lnTo>
                  <a:pt x="2125" y="11"/>
                </a:lnTo>
                <a:lnTo>
                  <a:pt x="2172" y="6"/>
                </a:lnTo>
                <a:lnTo>
                  <a:pt x="2219" y="6"/>
                </a:lnTo>
                <a:lnTo>
                  <a:pt x="2265"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2881440" y="2200320"/>
            <a:ext cx="3595680" cy="2849400"/>
          </a:xfrm>
          <a:custGeom>
            <a:avLst/>
            <a:gdLst/>
            <a:ahLst/>
            <a:rect l="l" t="t" r="r" b="b"/>
            <a:pathLst>
              <a:path w="2265" h="1795">
                <a:moveTo>
                  <a:pt x="0" y="1795"/>
                </a:moveTo>
                <a:lnTo>
                  <a:pt x="42" y="1758"/>
                </a:lnTo>
                <a:lnTo>
                  <a:pt x="89" y="1722"/>
                </a:lnTo>
                <a:lnTo>
                  <a:pt x="135" y="1684"/>
                </a:lnTo>
                <a:lnTo>
                  <a:pt x="182" y="1648"/>
                </a:lnTo>
                <a:lnTo>
                  <a:pt x="229" y="1611"/>
                </a:lnTo>
                <a:lnTo>
                  <a:pt x="276" y="1575"/>
                </a:lnTo>
                <a:lnTo>
                  <a:pt x="318" y="1538"/>
                </a:lnTo>
                <a:lnTo>
                  <a:pt x="365" y="1501"/>
                </a:lnTo>
                <a:lnTo>
                  <a:pt x="412" y="1464"/>
                </a:lnTo>
                <a:lnTo>
                  <a:pt x="459" y="1427"/>
                </a:lnTo>
                <a:lnTo>
                  <a:pt x="506" y="1391"/>
                </a:lnTo>
                <a:lnTo>
                  <a:pt x="553" y="1354"/>
                </a:lnTo>
                <a:lnTo>
                  <a:pt x="600" y="1318"/>
                </a:lnTo>
                <a:lnTo>
                  <a:pt x="647" y="1280"/>
                </a:lnTo>
                <a:lnTo>
                  <a:pt x="689" y="1244"/>
                </a:lnTo>
                <a:lnTo>
                  <a:pt x="736" y="1207"/>
                </a:lnTo>
                <a:lnTo>
                  <a:pt x="783" y="1170"/>
                </a:lnTo>
                <a:lnTo>
                  <a:pt x="830" y="1134"/>
                </a:lnTo>
                <a:lnTo>
                  <a:pt x="876" y="1097"/>
                </a:lnTo>
                <a:lnTo>
                  <a:pt x="923" y="1060"/>
                </a:lnTo>
                <a:lnTo>
                  <a:pt x="970" y="1023"/>
                </a:lnTo>
                <a:lnTo>
                  <a:pt x="1012" y="987"/>
                </a:lnTo>
                <a:lnTo>
                  <a:pt x="1059" y="950"/>
                </a:lnTo>
                <a:lnTo>
                  <a:pt x="1106" y="914"/>
                </a:lnTo>
                <a:lnTo>
                  <a:pt x="1153" y="876"/>
                </a:lnTo>
                <a:lnTo>
                  <a:pt x="1200" y="840"/>
                </a:lnTo>
                <a:lnTo>
                  <a:pt x="1247" y="803"/>
                </a:lnTo>
                <a:lnTo>
                  <a:pt x="1294" y="766"/>
                </a:lnTo>
                <a:lnTo>
                  <a:pt x="1336" y="730"/>
                </a:lnTo>
                <a:lnTo>
                  <a:pt x="1383" y="693"/>
                </a:lnTo>
                <a:lnTo>
                  <a:pt x="1430" y="656"/>
                </a:lnTo>
                <a:lnTo>
                  <a:pt x="1477" y="619"/>
                </a:lnTo>
                <a:lnTo>
                  <a:pt x="1523" y="583"/>
                </a:lnTo>
                <a:lnTo>
                  <a:pt x="1570" y="546"/>
                </a:lnTo>
                <a:lnTo>
                  <a:pt x="1618" y="510"/>
                </a:lnTo>
                <a:lnTo>
                  <a:pt x="1659" y="472"/>
                </a:lnTo>
                <a:lnTo>
                  <a:pt x="1706" y="435"/>
                </a:lnTo>
                <a:lnTo>
                  <a:pt x="1753" y="399"/>
                </a:lnTo>
                <a:lnTo>
                  <a:pt x="1801" y="362"/>
                </a:lnTo>
                <a:lnTo>
                  <a:pt x="1848" y="326"/>
                </a:lnTo>
                <a:lnTo>
                  <a:pt x="1895" y="289"/>
                </a:lnTo>
                <a:lnTo>
                  <a:pt x="1942" y="252"/>
                </a:lnTo>
                <a:lnTo>
                  <a:pt x="1984" y="215"/>
                </a:lnTo>
                <a:lnTo>
                  <a:pt x="2031" y="179"/>
                </a:lnTo>
                <a:lnTo>
                  <a:pt x="2078" y="142"/>
                </a:lnTo>
                <a:lnTo>
                  <a:pt x="2125" y="106"/>
                </a:lnTo>
                <a:lnTo>
                  <a:pt x="2172" y="68"/>
                </a:lnTo>
                <a:lnTo>
                  <a:pt x="2219" y="31"/>
                </a:lnTo>
                <a:lnTo>
                  <a:pt x="2265"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2878200" y="2195640"/>
            <a:ext cx="1440" cy="2846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flipV="1">
            <a:off x="2878200" y="2195280"/>
            <a:ext cx="3589200" cy="6120"/>
          </a:xfrm>
          <a:prstGeom prst="line">
            <a:avLst/>
          </a:prstGeom>
          <a:ln cap="rnd"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7" name=""/>
          <p:cNvSpPr/>
          <p:nvPr/>
        </p:nvSpPr>
        <p:spPr>
          <a:xfrm>
            <a:off x="2884320" y="5048280"/>
            <a:ext cx="36021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8" name=""/>
          <p:cNvSpPr/>
          <p:nvPr/>
        </p:nvSpPr>
        <p:spPr>
          <a:xfrm>
            <a:off x="6478560" y="2195640"/>
            <a:ext cx="1440" cy="2801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4800240" y="28954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650" name=""/>
          <p:cNvSpPr/>
          <p:nvPr/>
        </p:nvSpPr>
        <p:spPr>
          <a:xfrm>
            <a:off x="5257800" y="3505320"/>
            <a:ext cx="59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aphicFrame>
        <p:nvGraphicFramePr>
          <p:cNvPr id="2651" name=""/>
          <p:cNvGraphicFramePr/>
          <p:nvPr/>
        </p:nvGraphicFramePr>
        <p:xfrm>
          <a:off x="5257800" y="4267080"/>
          <a:ext cx="320760" cy="370080"/>
        </p:xfrm>
        <a:graphic>
          <a:graphicData uri="http://schemas.openxmlformats.org/presentationml/2006/ole">
            <p:oleObj r:id="rId3" spid="">
              <p:embed/>
              <p:pic>
                <p:nvPicPr>
                  <p:cNvPr id="2652" name="" descr=""/>
                  <p:cNvPicPr/>
                  <p:nvPr/>
                </p:nvPicPr>
                <p:blipFill>
                  <a:blip r:embed="rId4"/>
                  <a:stretch/>
                </p:blipFill>
                <p:spPr>
                  <a:xfrm>
                    <a:off x="5257800" y="4267080"/>
                    <a:ext cx="320760" cy="370080"/>
                  </a:xfrm>
                  <a:prstGeom prst="rect">
                    <a:avLst/>
                  </a:prstGeom>
                  <a:ln w="0">
                    <a:noFill/>
                  </a:ln>
                </p:spPr>
              </p:pic>
            </p:oleObj>
          </a:graphicData>
        </a:graphic>
      </p:graphicFrame>
      <p:sp>
        <p:nvSpPr>
          <p:cNvPr id="2653"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graphicFrame>
        <p:nvGraphicFramePr>
          <p:cNvPr id="2654" name=""/>
          <p:cNvGraphicFramePr/>
          <p:nvPr/>
        </p:nvGraphicFramePr>
        <p:xfrm>
          <a:off x="3962520" y="5410080"/>
          <a:ext cx="914400" cy="641520"/>
        </p:xfrm>
        <a:graphic>
          <a:graphicData uri="http://schemas.openxmlformats.org/presentationml/2006/ole">
            <p:oleObj r:id="rId5" spid="">
              <p:embed/>
              <p:pic>
                <p:nvPicPr>
                  <p:cNvPr id="2655" name="" descr=""/>
                  <p:cNvPicPr/>
                  <p:nvPr/>
                </p:nvPicPr>
                <p:blipFill>
                  <a:blip r:embed="rId6"/>
                  <a:stretch/>
                </p:blipFill>
                <p:spPr>
                  <a:xfrm>
                    <a:off x="3962520" y="5410080"/>
                    <a:ext cx="914400" cy="6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974880" y="957240"/>
            <a:ext cx="717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uggests we apply a phase correction to the doubly distorted Born approximation and replace        b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in the modified Born approximation (MBA)</a:t>
            </a:r>
            <a:endParaRPr b="0" lang="en-US" sz="2400" spc="-1" strike="noStrike">
              <a:solidFill>
                <a:srgbClr val="000000"/>
              </a:solidFill>
              <a:latin typeface="Times New Roman"/>
            </a:endParaRPr>
          </a:p>
        </p:txBody>
      </p:sp>
      <p:graphicFrame>
        <p:nvGraphicFramePr>
          <p:cNvPr id="2658" name=""/>
          <p:cNvGraphicFramePr/>
          <p:nvPr/>
        </p:nvGraphicFramePr>
        <p:xfrm>
          <a:off x="6237360" y="1338120"/>
          <a:ext cx="261720" cy="378000"/>
        </p:xfrm>
        <a:graphic>
          <a:graphicData uri="http://schemas.openxmlformats.org/presentationml/2006/ole">
            <p:oleObj r:id="rId1" spid="">
              <p:embed/>
              <p:pic>
                <p:nvPicPr>
                  <p:cNvPr id="2659" name="" descr=""/>
                  <p:cNvPicPr/>
                  <p:nvPr/>
                </p:nvPicPr>
                <p:blipFill>
                  <a:blip r:embed="rId2"/>
                  <a:stretch/>
                </p:blipFill>
                <p:spPr>
                  <a:xfrm>
                    <a:off x="6237360" y="1338120"/>
                    <a:ext cx="261720" cy="378000"/>
                  </a:xfrm>
                  <a:prstGeom prst="rect">
                    <a:avLst/>
                  </a:prstGeom>
                  <a:ln w="0">
                    <a:noFill/>
                  </a:ln>
                </p:spPr>
              </p:pic>
            </p:oleObj>
          </a:graphicData>
        </a:graphic>
      </p:graphicFrame>
      <p:graphicFrame>
        <p:nvGraphicFramePr>
          <p:cNvPr id="2660" name=""/>
          <p:cNvGraphicFramePr/>
          <p:nvPr/>
        </p:nvGraphicFramePr>
        <p:xfrm>
          <a:off x="7216920" y="1351080"/>
          <a:ext cx="533160" cy="422280"/>
        </p:xfrm>
        <a:graphic>
          <a:graphicData uri="http://schemas.openxmlformats.org/presentationml/2006/ole">
            <p:oleObj r:id="rId3" spid="">
              <p:embed/>
              <p:pic>
                <p:nvPicPr>
                  <p:cNvPr id="2661" name="" descr=""/>
                  <p:cNvPicPr/>
                  <p:nvPr/>
                </p:nvPicPr>
                <p:blipFill>
                  <a:blip r:embed="rId4"/>
                  <a:stretch/>
                </p:blipFill>
                <p:spPr>
                  <a:xfrm>
                    <a:off x="7216920" y="1351080"/>
                    <a:ext cx="533160" cy="422280"/>
                  </a:xfrm>
                  <a:prstGeom prst="rect">
                    <a:avLst/>
                  </a:prstGeom>
                  <a:ln w="0">
                    <a:noFill/>
                  </a:ln>
                </p:spPr>
              </p:pic>
            </p:oleObj>
          </a:graphicData>
        </a:graphic>
      </p:graphicFrame>
      <p:sp>
        <p:nvSpPr>
          <p:cNvPr id="26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63" name=""/>
          <p:cNvGraphicFramePr/>
          <p:nvPr/>
        </p:nvGraphicFramePr>
        <p:xfrm>
          <a:off x="1219320" y="4191120"/>
          <a:ext cx="6553080" cy="820440"/>
        </p:xfrm>
        <a:graphic>
          <a:graphicData uri="http://schemas.openxmlformats.org/presentationml/2006/ole">
            <p:oleObj r:id="rId5" spid="">
              <p:embed/>
              <p:pic>
                <p:nvPicPr>
                  <p:cNvPr id="2664" name="" descr=""/>
                  <p:cNvPicPr/>
                  <p:nvPr/>
                </p:nvPicPr>
                <p:blipFill>
                  <a:blip r:embed="rId6"/>
                  <a:stretch/>
                </p:blipFill>
                <p:spPr>
                  <a:xfrm>
                    <a:off x="1219320" y="4191120"/>
                    <a:ext cx="6553080" cy="820440"/>
                  </a:xfrm>
                  <a:prstGeom prst="rect">
                    <a:avLst/>
                  </a:prstGeom>
                  <a:ln w="0">
                    <a:noFill/>
                  </a:ln>
                </p:spPr>
              </p:pic>
            </p:oleObj>
          </a:graphicData>
        </a:graphic>
      </p:graphicFrame>
      <p:sp>
        <p:nvSpPr>
          <p:cNvPr id="2665" name=""/>
          <p:cNvSpPr/>
          <p:nvPr/>
        </p:nvSpPr>
        <p:spPr>
          <a:xfrm>
            <a:off x="1289880" y="3276720"/>
            <a:ext cx="525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ulse-echo response of a spher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sion</a:t>
            </a:r>
            <a:endParaRPr b="0" lang="en-US" sz="2400" spc="-1" strike="noStrike">
              <a:solidFill>
                <a:srgbClr val="000000"/>
              </a:solidFill>
              <a:latin typeface="Times New Roman"/>
            </a:endParaRPr>
          </a:p>
        </p:txBody>
      </p:sp>
      <p:sp>
        <p:nvSpPr>
          <p:cNvPr id="2666" name=""/>
          <p:cNvSpPr/>
          <p:nvPr/>
        </p:nvSpPr>
        <p:spPr>
          <a:xfrm flipV="1">
            <a:off x="5638680" y="4952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011920" y="545292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 correction</a:t>
            </a:r>
            <a:endParaRPr b="0" lang="en-US" sz="2400" spc="-1" strike="noStrike">
              <a:solidFill>
                <a:srgbClr val="000000"/>
              </a:solidFill>
              <a:latin typeface="Times New Roman"/>
            </a:endParaRPr>
          </a:p>
        </p:txBody>
      </p:sp>
      <p:sp>
        <p:nvSpPr>
          <p:cNvPr id="2668"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9"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247320" y="6019920"/>
            <a:ext cx="8391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P-wave response of a 1 mm radius spherical inclusion in steel where the density and compressional wav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re both fifty percent higher than the host steel.Solid line: MBA approximation, dashed line: separation of variables solution.</a:t>
            </a:r>
            <a:endParaRPr b="0" lang="en-US" sz="1200" spc="-1" strike="noStrike">
              <a:solidFill>
                <a:srgbClr val="000000"/>
              </a:solidFill>
              <a:latin typeface="Times New Roman"/>
            </a:endParaRPr>
          </a:p>
        </p:txBody>
      </p:sp>
      <p:sp>
        <p:nvSpPr>
          <p:cNvPr id="2671" name=""/>
          <p:cNvSpPr/>
          <p:nvPr/>
        </p:nvSpPr>
        <p:spPr>
          <a:xfrm>
            <a:off x="2814840" y="1295280"/>
            <a:ext cx="414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 % differences in properties)</a:t>
            </a:r>
            <a:endParaRPr b="0" lang="en-US" sz="2400" spc="-1" strike="noStrike">
              <a:solidFill>
                <a:srgbClr val="000000"/>
              </a:solidFill>
              <a:latin typeface="Times New Roman"/>
            </a:endParaRPr>
          </a:p>
        </p:txBody>
      </p:sp>
      <p:sp>
        <p:nvSpPr>
          <p:cNvPr id="2672" name=""/>
          <p:cNvSpPr/>
          <p:nvPr/>
        </p:nvSpPr>
        <p:spPr>
          <a:xfrm>
            <a:off x="3100320" y="2774880"/>
            <a:ext cx="3148200" cy="24861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3108240" y="2739960"/>
            <a:ext cx="31482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4"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5" name=""/>
          <p:cNvSpPr/>
          <p:nvPr/>
        </p:nvSpPr>
        <p:spPr>
          <a:xfrm flipV="1">
            <a:off x="6256440" y="2739960"/>
            <a:ext cx="1440" cy="2486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7" name=""/>
          <p:cNvSpPr/>
          <p:nvPr/>
        </p:nvSpPr>
        <p:spPr>
          <a:xfrm>
            <a:off x="3051000" y="530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78" name=""/>
          <p:cNvSpPr/>
          <p:nvPr/>
        </p:nvSpPr>
        <p:spPr>
          <a:xfrm>
            <a:off x="309960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679" name=""/>
          <p:cNvSpPr/>
          <p:nvPr/>
        </p:nvSpPr>
        <p:spPr>
          <a:xfrm flipV="1">
            <a:off x="388944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0" name=""/>
          <p:cNvSpPr/>
          <p:nvPr/>
        </p:nvSpPr>
        <p:spPr>
          <a:xfrm>
            <a:off x="388944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81" name=""/>
          <p:cNvSpPr/>
          <p:nvPr/>
        </p:nvSpPr>
        <p:spPr>
          <a:xfrm>
            <a:off x="3790800" y="530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82" name=""/>
          <p:cNvSpPr/>
          <p:nvPr/>
        </p:nvSpPr>
        <p:spPr>
          <a:xfrm>
            <a:off x="3838680" y="53053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683" name=""/>
          <p:cNvSpPr/>
          <p:nvPr/>
        </p:nvSpPr>
        <p:spPr>
          <a:xfrm flipV="1">
            <a:off x="467820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4" name=""/>
          <p:cNvSpPr/>
          <p:nvPr/>
        </p:nvSpPr>
        <p:spPr>
          <a:xfrm>
            <a:off x="467820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85" name=""/>
          <p:cNvSpPr/>
          <p:nvPr/>
        </p:nvSpPr>
        <p:spPr>
          <a:xfrm>
            <a:off x="465372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86" name=""/>
          <p:cNvSpPr/>
          <p:nvPr/>
        </p:nvSpPr>
        <p:spPr>
          <a:xfrm flipV="1">
            <a:off x="546732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7" name=""/>
          <p:cNvSpPr/>
          <p:nvPr/>
        </p:nvSpPr>
        <p:spPr>
          <a:xfrm>
            <a:off x="546732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88" name=""/>
          <p:cNvSpPr/>
          <p:nvPr/>
        </p:nvSpPr>
        <p:spPr>
          <a:xfrm>
            <a:off x="5399280" y="53053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689" name=""/>
          <p:cNvSpPr/>
          <p:nvPr/>
        </p:nvSpPr>
        <p:spPr>
          <a:xfrm flipV="1">
            <a:off x="6256440" y="519228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90" name=""/>
          <p:cNvSpPr/>
          <p:nvPr/>
        </p:nvSpPr>
        <p:spPr>
          <a:xfrm>
            <a:off x="6256440" y="2739960"/>
            <a:ext cx="14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91" name=""/>
          <p:cNvSpPr/>
          <p:nvPr/>
        </p:nvSpPr>
        <p:spPr>
          <a:xfrm>
            <a:off x="623016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692" name=""/>
          <p:cNvSpPr/>
          <p:nvPr/>
        </p:nvSpPr>
        <p:spPr>
          <a:xfrm>
            <a:off x="3108240" y="522612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flipH="1">
            <a:off x="6227640" y="522612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4" name=""/>
          <p:cNvSpPr/>
          <p:nvPr/>
        </p:nvSpPr>
        <p:spPr>
          <a:xfrm>
            <a:off x="2914560" y="51418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5" name=""/>
          <p:cNvSpPr/>
          <p:nvPr/>
        </p:nvSpPr>
        <p:spPr>
          <a:xfrm>
            <a:off x="2963160" y="5141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696" name=""/>
          <p:cNvSpPr/>
          <p:nvPr/>
        </p:nvSpPr>
        <p:spPr>
          <a:xfrm>
            <a:off x="3108240" y="491328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7" name=""/>
          <p:cNvSpPr/>
          <p:nvPr/>
        </p:nvSpPr>
        <p:spPr>
          <a:xfrm flipH="1">
            <a:off x="6227640" y="4913280"/>
            <a:ext cx="288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8" name=""/>
          <p:cNvSpPr/>
          <p:nvPr/>
        </p:nvSpPr>
        <p:spPr>
          <a:xfrm>
            <a:off x="2911320" y="4867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9" name=""/>
          <p:cNvSpPr/>
          <p:nvPr/>
        </p:nvSpPr>
        <p:spPr>
          <a:xfrm>
            <a:off x="2958120" y="4867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00" name=""/>
          <p:cNvSpPr/>
          <p:nvPr/>
        </p:nvSpPr>
        <p:spPr>
          <a:xfrm>
            <a:off x="3108240" y="46004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1" name=""/>
          <p:cNvSpPr/>
          <p:nvPr/>
        </p:nvSpPr>
        <p:spPr>
          <a:xfrm flipH="1">
            <a:off x="6227640" y="460044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02" name=""/>
          <p:cNvSpPr/>
          <p:nvPr/>
        </p:nvSpPr>
        <p:spPr>
          <a:xfrm>
            <a:off x="2939400" y="4556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703" name=""/>
          <p:cNvSpPr/>
          <p:nvPr/>
        </p:nvSpPr>
        <p:spPr>
          <a:xfrm>
            <a:off x="3108240" y="42908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4" name=""/>
          <p:cNvSpPr/>
          <p:nvPr/>
        </p:nvSpPr>
        <p:spPr>
          <a:xfrm flipH="1">
            <a:off x="6227640" y="4290840"/>
            <a:ext cx="288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2939400" y="4243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06" name=""/>
          <p:cNvSpPr/>
          <p:nvPr/>
        </p:nvSpPr>
        <p:spPr>
          <a:xfrm>
            <a:off x="3108240" y="398304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7" name=""/>
          <p:cNvSpPr/>
          <p:nvPr/>
        </p:nvSpPr>
        <p:spPr>
          <a:xfrm flipH="1">
            <a:off x="6227640" y="398304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8" name=""/>
          <p:cNvSpPr/>
          <p:nvPr/>
        </p:nvSpPr>
        <p:spPr>
          <a:xfrm>
            <a:off x="2939400" y="3936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09" name=""/>
          <p:cNvSpPr/>
          <p:nvPr/>
        </p:nvSpPr>
        <p:spPr>
          <a:xfrm>
            <a:off x="3108240" y="3670200"/>
            <a:ext cx="255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0" name=""/>
          <p:cNvSpPr/>
          <p:nvPr/>
        </p:nvSpPr>
        <p:spPr>
          <a:xfrm flipH="1">
            <a:off x="6227640" y="367020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1" name=""/>
          <p:cNvSpPr/>
          <p:nvPr/>
        </p:nvSpPr>
        <p:spPr>
          <a:xfrm>
            <a:off x="2939400" y="36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12" name=""/>
          <p:cNvSpPr/>
          <p:nvPr/>
        </p:nvSpPr>
        <p:spPr>
          <a:xfrm>
            <a:off x="3108240" y="335916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flipH="1">
            <a:off x="6227640" y="335916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2939400" y="3311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15" name=""/>
          <p:cNvSpPr/>
          <p:nvPr/>
        </p:nvSpPr>
        <p:spPr>
          <a:xfrm>
            <a:off x="3108240" y="304812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6" name=""/>
          <p:cNvSpPr/>
          <p:nvPr/>
        </p:nvSpPr>
        <p:spPr>
          <a:xfrm flipH="1">
            <a:off x="6227640" y="3048120"/>
            <a:ext cx="2880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7" name=""/>
          <p:cNvSpPr/>
          <p:nvPr/>
        </p:nvSpPr>
        <p:spPr>
          <a:xfrm>
            <a:off x="2939400" y="3000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18" name=""/>
          <p:cNvSpPr/>
          <p:nvPr/>
        </p:nvSpPr>
        <p:spPr>
          <a:xfrm>
            <a:off x="3108240" y="2739960"/>
            <a:ext cx="255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9" name=""/>
          <p:cNvSpPr/>
          <p:nvPr/>
        </p:nvSpPr>
        <p:spPr>
          <a:xfrm flipH="1">
            <a:off x="6227640" y="273996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0" name=""/>
          <p:cNvSpPr/>
          <p:nvPr/>
        </p:nvSpPr>
        <p:spPr>
          <a:xfrm>
            <a:off x="2950200" y="271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721" name=""/>
          <p:cNvSpPr/>
          <p:nvPr/>
        </p:nvSpPr>
        <p:spPr>
          <a:xfrm>
            <a:off x="3108240" y="2739960"/>
            <a:ext cx="31482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2"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flipV="1">
            <a:off x="3094200" y="2733480"/>
            <a:ext cx="1440" cy="2484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108240" y="2941560"/>
            <a:ext cx="1211400" cy="2262240"/>
          </a:xfrm>
          <a:custGeom>
            <a:avLst/>
            <a:gdLst/>
            <a:ahLst/>
            <a:rect l="l" t="t" r="r" b="b"/>
            <a:pathLst>
              <a:path w="763" h="1425">
                <a:moveTo>
                  <a:pt x="0" y="1045"/>
                </a:moveTo>
                <a:lnTo>
                  <a:pt x="2" y="1045"/>
                </a:lnTo>
                <a:lnTo>
                  <a:pt x="6" y="1045"/>
                </a:lnTo>
                <a:lnTo>
                  <a:pt x="13" y="1045"/>
                </a:lnTo>
                <a:lnTo>
                  <a:pt x="20" y="1045"/>
                </a:lnTo>
                <a:lnTo>
                  <a:pt x="26" y="1045"/>
                </a:lnTo>
                <a:lnTo>
                  <a:pt x="33" y="1045"/>
                </a:lnTo>
                <a:lnTo>
                  <a:pt x="37" y="1045"/>
                </a:lnTo>
                <a:lnTo>
                  <a:pt x="43" y="1045"/>
                </a:lnTo>
                <a:lnTo>
                  <a:pt x="49" y="1045"/>
                </a:lnTo>
                <a:lnTo>
                  <a:pt x="57" y="1045"/>
                </a:lnTo>
                <a:lnTo>
                  <a:pt x="63" y="1045"/>
                </a:lnTo>
                <a:lnTo>
                  <a:pt x="69" y="1045"/>
                </a:lnTo>
                <a:lnTo>
                  <a:pt x="73" y="1045"/>
                </a:lnTo>
                <a:lnTo>
                  <a:pt x="79" y="1045"/>
                </a:lnTo>
                <a:lnTo>
                  <a:pt x="86" y="1045"/>
                </a:lnTo>
                <a:lnTo>
                  <a:pt x="93" y="1045"/>
                </a:lnTo>
                <a:lnTo>
                  <a:pt x="100" y="1045"/>
                </a:lnTo>
                <a:lnTo>
                  <a:pt x="103" y="1045"/>
                </a:lnTo>
                <a:lnTo>
                  <a:pt x="110" y="1045"/>
                </a:lnTo>
                <a:lnTo>
                  <a:pt x="116" y="1045"/>
                </a:lnTo>
                <a:lnTo>
                  <a:pt x="122" y="1045"/>
                </a:lnTo>
                <a:lnTo>
                  <a:pt x="130" y="1045"/>
                </a:lnTo>
                <a:lnTo>
                  <a:pt x="132" y="1045"/>
                </a:lnTo>
                <a:lnTo>
                  <a:pt x="140" y="1045"/>
                </a:lnTo>
                <a:lnTo>
                  <a:pt x="146" y="1045"/>
                </a:lnTo>
                <a:lnTo>
                  <a:pt x="153" y="1045"/>
                </a:lnTo>
                <a:lnTo>
                  <a:pt x="159" y="1045"/>
                </a:lnTo>
                <a:lnTo>
                  <a:pt x="167" y="1045"/>
                </a:lnTo>
                <a:lnTo>
                  <a:pt x="169" y="1045"/>
                </a:lnTo>
                <a:lnTo>
                  <a:pt x="177" y="1045"/>
                </a:lnTo>
                <a:lnTo>
                  <a:pt x="183" y="1045"/>
                </a:lnTo>
                <a:lnTo>
                  <a:pt x="189" y="1045"/>
                </a:lnTo>
                <a:lnTo>
                  <a:pt x="196" y="1045"/>
                </a:lnTo>
                <a:lnTo>
                  <a:pt x="199" y="1045"/>
                </a:lnTo>
                <a:lnTo>
                  <a:pt x="206" y="1045"/>
                </a:lnTo>
                <a:lnTo>
                  <a:pt x="213" y="1045"/>
                </a:lnTo>
                <a:lnTo>
                  <a:pt x="220" y="1045"/>
                </a:lnTo>
                <a:lnTo>
                  <a:pt x="226" y="1045"/>
                </a:lnTo>
                <a:lnTo>
                  <a:pt x="230" y="1045"/>
                </a:lnTo>
                <a:lnTo>
                  <a:pt x="236" y="1045"/>
                </a:lnTo>
                <a:lnTo>
                  <a:pt x="242" y="1045"/>
                </a:lnTo>
                <a:lnTo>
                  <a:pt x="250" y="1045"/>
                </a:lnTo>
                <a:lnTo>
                  <a:pt x="256" y="1045"/>
                </a:lnTo>
                <a:lnTo>
                  <a:pt x="263" y="1045"/>
                </a:lnTo>
                <a:lnTo>
                  <a:pt x="266" y="1045"/>
                </a:lnTo>
                <a:lnTo>
                  <a:pt x="273" y="1045"/>
                </a:lnTo>
                <a:lnTo>
                  <a:pt x="279" y="1045"/>
                </a:lnTo>
                <a:lnTo>
                  <a:pt x="287" y="1045"/>
                </a:lnTo>
                <a:lnTo>
                  <a:pt x="293" y="1045"/>
                </a:lnTo>
                <a:lnTo>
                  <a:pt x="297" y="1045"/>
                </a:lnTo>
                <a:lnTo>
                  <a:pt x="303" y="1045"/>
                </a:lnTo>
                <a:lnTo>
                  <a:pt x="309" y="1045"/>
                </a:lnTo>
                <a:lnTo>
                  <a:pt x="316" y="1045"/>
                </a:lnTo>
                <a:lnTo>
                  <a:pt x="323" y="1045"/>
                </a:lnTo>
                <a:lnTo>
                  <a:pt x="326" y="1045"/>
                </a:lnTo>
                <a:lnTo>
                  <a:pt x="333" y="1045"/>
                </a:lnTo>
                <a:lnTo>
                  <a:pt x="340" y="1045"/>
                </a:lnTo>
                <a:lnTo>
                  <a:pt x="346" y="1045"/>
                </a:lnTo>
                <a:lnTo>
                  <a:pt x="352" y="1045"/>
                </a:lnTo>
                <a:lnTo>
                  <a:pt x="360" y="1045"/>
                </a:lnTo>
                <a:lnTo>
                  <a:pt x="362" y="1045"/>
                </a:lnTo>
                <a:lnTo>
                  <a:pt x="370" y="1045"/>
                </a:lnTo>
                <a:lnTo>
                  <a:pt x="376" y="1045"/>
                </a:lnTo>
                <a:lnTo>
                  <a:pt x="383" y="1045"/>
                </a:lnTo>
                <a:lnTo>
                  <a:pt x="389" y="1045"/>
                </a:lnTo>
                <a:lnTo>
                  <a:pt x="393" y="1045"/>
                </a:lnTo>
                <a:lnTo>
                  <a:pt x="399" y="1045"/>
                </a:lnTo>
                <a:lnTo>
                  <a:pt x="407" y="1045"/>
                </a:lnTo>
                <a:lnTo>
                  <a:pt x="413" y="1045"/>
                </a:lnTo>
                <a:lnTo>
                  <a:pt x="419" y="1045"/>
                </a:lnTo>
                <a:lnTo>
                  <a:pt x="423" y="1045"/>
                </a:lnTo>
                <a:lnTo>
                  <a:pt x="429" y="1045"/>
                </a:lnTo>
                <a:lnTo>
                  <a:pt x="436" y="1045"/>
                </a:lnTo>
                <a:lnTo>
                  <a:pt x="443" y="1045"/>
                </a:lnTo>
                <a:lnTo>
                  <a:pt x="450" y="1049"/>
                </a:lnTo>
                <a:lnTo>
                  <a:pt x="456" y="1049"/>
                </a:lnTo>
                <a:lnTo>
                  <a:pt x="460" y="1045"/>
                </a:lnTo>
                <a:lnTo>
                  <a:pt x="466" y="1043"/>
                </a:lnTo>
                <a:lnTo>
                  <a:pt x="472" y="1043"/>
                </a:lnTo>
                <a:lnTo>
                  <a:pt x="480" y="1039"/>
                </a:lnTo>
                <a:lnTo>
                  <a:pt x="486" y="1043"/>
                </a:lnTo>
                <a:lnTo>
                  <a:pt x="490" y="1043"/>
                </a:lnTo>
                <a:lnTo>
                  <a:pt x="496" y="1045"/>
                </a:lnTo>
                <a:lnTo>
                  <a:pt x="503" y="1045"/>
                </a:lnTo>
                <a:lnTo>
                  <a:pt x="509" y="1045"/>
                </a:lnTo>
                <a:lnTo>
                  <a:pt x="516" y="1045"/>
                </a:lnTo>
                <a:lnTo>
                  <a:pt x="519" y="1043"/>
                </a:lnTo>
                <a:lnTo>
                  <a:pt x="527" y="1043"/>
                </a:lnTo>
                <a:lnTo>
                  <a:pt x="533" y="1049"/>
                </a:lnTo>
                <a:lnTo>
                  <a:pt x="539" y="1056"/>
                </a:lnTo>
                <a:lnTo>
                  <a:pt x="546" y="1063"/>
                </a:lnTo>
                <a:lnTo>
                  <a:pt x="553" y="1066"/>
                </a:lnTo>
                <a:lnTo>
                  <a:pt x="556" y="1059"/>
                </a:lnTo>
                <a:lnTo>
                  <a:pt x="563" y="1039"/>
                </a:lnTo>
                <a:lnTo>
                  <a:pt x="570" y="1013"/>
                </a:lnTo>
                <a:lnTo>
                  <a:pt x="576" y="986"/>
                </a:lnTo>
                <a:lnTo>
                  <a:pt x="582" y="972"/>
                </a:lnTo>
                <a:lnTo>
                  <a:pt x="586" y="986"/>
                </a:lnTo>
                <a:lnTo>
                  <a:pt x="592" y="1029"/>
                </a:lnTo>
                <a:lnTo>
                  <a:pt x="600" y="1096"/>
                </a:lnTo>
                <a:lnTo>
                  <a:pt x="606" y="1173"/>
                </a:lnTo>
                <a:lnTo>
                  <a:pt x="612" y="1226"/>
                </a:lnTo>
                <a:lnTo>
                  <a:pt x="616" y="1226"/>
                </a:lnTo>
                <a:lnTo>
                  <a:pt x="623" y="1149"/>
                </a:lnTo>
                <a:lnTo>
                  <a:pt x="629" y="986"/>
                </a:lnTo>
                <a:lnTo>
                  <a:pt x="636" y="756"/>
                </a:lnTo>
                <a:lnTo>
                  <a:pt x="643" y="493"/>
                </a:lnTo>
                <a:lnTo>
                  <a:pt x="649" y="243"/>
                </a:lnTo>
                <a:lnTo>
                  <a:pt x="653" y="67"/>
                </a:lnTo>
                <a:lnTo>
                  <a:pt x="659" y="0"/>
                </a:lnTo>
                <a:lnTo>
                  <a:pt x="666" y="64"/>
                </a:lnTo>
                <a:lnTo>
                  <a:pt x="673" y="247"/>
                </a:lnTo>
                <a:lnTo>
                  <a:pt x="679" y="509"/>
                </a:lnTo>
                <a:lnTo>
                  <a:pt x="683" y="806"/>
                </a:lnTo>
                <a:lnTo>
                  <a:pt x="690" y="1080"/>
                </a:lnTo>
                <a:lnTo>
                  <a:pt x="696" y="1283"/>
                </a:lnTo>
                <a:lnTo>
                  <a:pt x="702" y="1399"/>
                </a:lnTo>
                <a:lnTo>
                  <a:pt x="710" y="1425"/>
                </a:lnTo>
                <a:lnTo>
                  <a:pt x="716" y="1385"/>
                </a:lnTo>
                <a:lnTo>
                  <a:pt x="720" y="1309"/>
                </a:lnTo>
                <a:lnTo>
                  <a:pt x="726" y="1228"/>
                </a:lnTo>
                <a:lnTo>
                  <a:pt x="732" y="1169"/>
                </a:lnTo>
                <a:lnTo>
                  <a:pt x="739" y="1143"/>
                </a:lnTo>
                <a:lnTo>
                  <a:pt x="746" y="1149"/>
                </a:lnTo>
                <a:lnTo>
                  <a:pt x="749" y="1173"/>
                </a:lnTo>
                <a:lnTo>
                  <a:pt x="756" y="1202"/>
                </a:lnTo>
                <a:lnTo>
                  <a:pt x="763" y="1226"/>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319640" y="2962440"/>
            <a:ext cx="1217520" cy="2225520"/>
          </a:xfrm>
          <a:custGeom>
            <a:avLst/>
            <a:gdLst/>
            <a:ahLst/>
            <a:rect l="l" t="t" r="r" b="b"/>
            <a:pathLst>
              <a:path w="767" h="1402">
                <a:moveTo>
                  <a:pt x="0" y="1213"/>
                </a:moveTo>
                <a:lnTo>
                  <a:pt x="6" y="1225"/>
                </a:lnTo>
                <a:lnTo>
                  <a:pt x="12" y="1225"/>
                </a:lnTo>
                <a:lnTo>
                  <a:pt x="16" y="1219"/>
                </a:lnTo>
                <a:lnTo>
                  <a:pt x="23" y="1213"/>
                </a:lnTo>
                <a:lnTo>
                  <a:pt x="30" y="1206"/>
                </a:lnTo>
                <a:lnTo>
                  <a:pt x="36" y="1203"/>
                </a:lnTo>
                <a:lnTo>
                  <a:pt x="43" y="1203"/>
                </a:lnTo>
                <a:lnTo>
                  <a:pt x="49" y="1203"/>
                </a:lnTo>
                <a:lnTo>
                  <a:pt x="53" y="1203"/>
                </a:lnTo>
                <a:lnTo>
                  <a:pt x="59" y="1203"/>
                </a:lnTo>
                <a:lnTo>
                  <a:pt x="67" y="1199"/>
                </a:lnTo>
                <a:lnTo>
                  <a:pt x="73" y="1199"/>
                </a:lnTo>
                <a:lnTo>
                  <a:pt x="79" y="1199"/>
                </a:lnTo>
                <a:lnTo>
                  <a:pt x="83" y="1199"/>
                </a:lnTo>
                <a:lnTo>
                  <a:pt x="90" y="1199"/>
                </a:lnTo>
                <a:lnTo>
                  <a:pt x="96" y="1203"/>
                </a:lnTo>
                <a:lnTo>
                  <a:pt x="103" y="1203"/>
                </a:lnTo>
                <a:lnTo>
                  <a:pt x="110" y="1206"/>
                </a:lnTo>
                <a:lnTo>
                  <a:pt x="114" y="1206"/>
                </a:lnTo>
                <a:lnTo>
                  <a:pt x="120" y="1206"/>
                </a:lnTo>
                <a:lnTo>
                  <a:pt x="126" y="1206"/>
                </a:lnTo>
                <a:lnTo>
                  <a:pt x="132" y="1206"/>
                </a:lnTo>
                <a:lnTo>
                  <a:pt x="140" y="1203"/>
                </a:lnTo>
                <a:lnTo>
                  <a:pt x="146" y="1199"/>
                </a:lnTo>
                <a:lnTo>
                  <a:pt x="150" y="1199"/>
                </a:lnTo>
                <a:lnTo>
                  <a:pt x="157" y="1199"/>
                </a:lnTo>
                <a:lnTo>
                  <a:pt x="163" y="1199"/>
                </a:lnTo>
                <a:lnTo>
                  <a:pt x="169" y="1199"/>
                </a:lnTo>
                <a:lnTo>
                  <a:pt x="177" y="1199"/>
                </a:lnTo>
                <a:lnTo>
                  <a:pt x="179" y="1203"/>
                </a:lnTo>
                <a:lnTo>
                  <a:pt x="187" y="1203"/>
                </a:lnTo>
                <a:lnTo>
                  <a:pt x="193" y="1199"/>
                </a:lnTo>
                <a:lnTo>
                  <a:pt x="200" y="1199"/>
                </a:lnTo>
                <a:lnTo>
                  <a:pt x="206" y="1203"/>
                </a:lnTo>
                <a:lnTo>
                  <a:pt x="210" y="1206"/>
                </a:lnTo>
                <a:lnTo>
                  <a:pt x="216" y="1213"/>
                </a:lnTo>
                <a:lnTo>
                  <a:pt x="224" y="1223"/>
                </a:lnTo>
                <a:lnTo>
                  <a:pt x="230" y="1225"/>
                </a:lnTo>
                <a:lnTo>
                  <a:pt x="236" y="1219"/>
                </a:lnTo>
                <a:lnTo>
                  <a:pt x="243" y="1199"/>
                </a:lnTo>
                <a:lnTo>
                  <a:pt x="246" y="1172"/>
                </a:lnTo>
                <a:lnTo>
                  <a:pt x="253" y="1142"/>
                </a:lnTo>
                <a:lnTo>
                  <a:pt x="260" y="1126"/>
                </a:lnTo>
                <a:lnTo>
                  <a:pt x="267" y="1136"/>
                </a:lnTo>
                <a:lnTo>
                  <a:pt x="273" y="1179"/>
                </a:lnTo>
                <a:lnTo>
                  <a:pt x="277" y="1249"/>
                </a:lnTo>
                <a:lnTo>
                  <a:pt x="283" y="1329"/>
                </a:lnTo>
                <a:lnTo>
                  <a:pt x="289" y="1392"/>
                </a:lnTo>
                <a:lnTo>
                  <a:pt x="297" y="1402"/>
                </a:lnTo>
                <a:lnTo>
                  <a:pt x="303" y="1333"/>
                </a:lnTo>
                <a:lnTo>
                  <a:pt x="307" y="1172"/>
                </a:lnTo>
                <a:lnTo>
                  <a:pt x="313" y="933"/>
                </a:lnTo>
                <a:lnTo>
                  <a:pt x="320" y="644"/>
                </a:lnTo>
                <a:lnTo>
                  <a:pt x="326" y="357"/>
                </a:lnTo>
                <a:lnTo>
                  <a:pt x="334" y="128"/>
                </a:lnTo>
                <a:lnTo>
                  <a:pt x="340" y="0"/>
                </a:lnTo>
                <a:lnTo>
                  <a:pt x="344" y="4"/>
                </a:lnTo>
                <a:lnTo>
                  <a:pt x="350" y="130"/>
                </a:lnTo>
                <a:lnTo>
                  <a:pt x="356" y="347"/>
                </a:lnTo>
                <a:lnTo>
                  <a:pt x="363" y="613"/>
                </a:lnTo>
                <a:lnTo>
                  <a:pt x="370" y="866"/>
                </a:lnTo>
                <a:lnTo>
                  <a:pt x="373" y="1066"/>
                </a:lnTo>
                <a:lnTo>
                  <a:pt x="380" y="1186"/>
                </a:lnTo>
                <a:lnTo>
                  <a:pt x="387" y="1223"/>
                </a:lnTo>
                <a:lnTo>
                  <a:pt x="393" y="1193"/>
                </a:lnTo>
                <a:lnTo>
                  <a:pt x="399" y="1126"/>
                </a:lnTo>
                <a:lnTo>
                  <a:pt x="403" y="1050"/>
                </a:lnTo>
                <a:lnTo>
                  <a:pt x="409" y="993"/>
                </a:lnTo>
                <a:lnTo>
                  <a:pt x="417" y="963"/>
                </a:lnTo>
                <a:lnTo>
                  <a:pt x="423" y="963"/>
                </a:lnTo>
                <a:lnTo>
                  <a:pt x="430" y="986"/>
                </a:lnTo>
                <a:lnTo>
                  <a:pt x="436" y="1012"/>
                </a:lnTo>
                <a:lnTo>
                  <a:pt x="440" y="1036"/>
                </a:lnTo>
                <a:lnTo>
                  <a:pt x="446" y="1050"/>
                </a:lnTo>
                <a:lnTo>
                  <a:pt x="454" y="1053"/>
                </a:lnTo>
                <a:lnTo>
                  <a:pt x="460" y="1046"/>
                </a:lnTo>
                <a:lnTo>
                  <a:pt x="466" y="1040"/>
                </a:lnTo>
                <a:lnTo>
                  <a:pt x="470" y="1032"/>
                </a:lnTo>
                <a:lnTo>
                  <a:pt x="476" y="1030"/>
                </a:lnTo>
                <a:lnTo>
                  <a:pt x="483" y="1030"/>
                </a:lnTo>
                <a:lnTo>
                  <a:pt x="490" y="1032"/>
                </a:lnTo>
                <a:lnTo>
                  <a:pt x="497" y="1032"/>
                </a:lnTo>
                <a:lnTo>
                  <a:pt x="500" y="1032"/>
                </a:lnTo>
                <a:lnTo>
                  <a:pt x="507" y="1032"/>
                </a:lnTo>
                <a:lnTo>
                  <a:pt x="513" y="1030"/>
                </a:lnTo>
                <a:lnTo>
                  <a:pt x="519" y="1030"/>
                </a:lnTo>
                <a:lnTo>
                  <a:pt x="527" y="1030"/>
                </a:lnTo>
                <a:lnTo>
                  <a:pt x="533" y="1030"/>
                </a:lnTo>
                <a:lnTo>
                  <a:pt x="537" y="1032"/>
                </a:lnTo>
                <a:lnTo>
                  <a:pt x="543" y="1032"/>
                </a:lnTo>
                <a:lnTo>
                  <a:pt x="550" y="1036"/>
                </a:lnTo>
                <a:lnTo>
                  <a:pt x="556" y="1036"/>
                </a:lnTo>
                <a:lnTo>
                  <a:pt x="564" y="1032"/>
                </a:lnTo>
                <a:lnTo>
                  <a:pt x="566" y="1032"/>
                </a:lnTo>
                <a:lnTo>
                  <a:pt x="574" y="1032"/>
                </a:lnTo>
                <a:lnTo>
                  <a:pt x="580" y="1032"/>
                </a:lnTo>
                <a:lnTo>
                  <a:pt x="586" y="1032"/>
                </a:lnTo>
                <a:lnTo>
                  <a:pt x="593" y="1032"/>
                </a:lnTo>
                <a:lnTo>
                  <a:pt x="600" y="1032"/>
                </a:lnTo>
                <a:lnTo>
                  <a:pt x="603" y="1032"/>
                </a:lnTo>
                <a:lnTo>
                  <a:pt x="610" y="1032"/>
                </a:lnTo>
                <a:lnTo>
                  <a:pt x="617" y="1032"/>
                </a:lnTo>
                <a:lnTo>
                  <a:pt x="623" y="1032"/>
                </a:lnTo>
                <a:lnTo>
                  <a:pt x="629" y="1032"/>
                </a:lnTo>
                <a:lnTo>
                  <a:pt x="633" y="1032"/>
                </a:lnTo>
                <a:lnTo>
                  <a:pt x="640" y="1032"/>
                </a:lnTo>
                <a:lnTo>
                  <a:pt x="647" y="1032"/>
                </a:lnTo>
                <a:lnTo>
                  <a:pt x="653" y="1032"/>
                </a:lnTo>
                <a:lnTo>
                  <a:pt x="660" y="1032"/>
                </a:lnTo>
                <a:lnTo>
                  <a:pt x="664" y="1032"/>
                </a:lnTo>
                <a:lnTo>
                  <a:pt x="670" y="1032"/>
                </a:lnTo>
                <a:lnTo>
                  <a:pt x="676" y="1032"/>
                </a:lnTo>
                <a:lnTo>
                  <a:pt x="684" y="1032"/>
                </a:lnTo>
                <a:lnTo>
                  <a:pt x="690" y="1032"/>
                </a:lnTo>
                <a:lnTo>
                  <a:pt x="696" y="1032"/>
                </a:lnTo>
                <a:lnTo>
                  <a:pt x="700" y="1032"/>
                </a:lnTo>
                <a:lnTo>
                  <a:pt x="707" y="1032"/>
                </a:lnTo>
                <a:lnTo>
                  <a:pt x="713" y="1032"/>
                </a:lnTo>
                <a:lnTo>
                  <a:pt x="721" y="1032"/>
                </a:lnTo>
                <a:lnTo>
                  <a:pt x="727" y="1032"/>
                </a:lnTo>
                <a:lnTo>
                  <a:pt x="731" y="1032"/>
                </a:lnTo>
                <a:lnTo>
                  <a:pt x="737" y="1032"/>
                </a:lnTo>
                <a:lnTo>
                  <a:pt x="743" y="1032"/>
                </a:lnTo>
                <a:lnTo>
                  <a:pt x="750" y="1032"/>
                </a:lnTo>
                <a:lnTo>
                  <a:pt x="757" y="1032"/>
                </a:lnTo>
                <a:lnTo>
                  <a:pt x="760" y="1032"/>
                </a:lnTo>
                <a:lnTo>
                  <a:pt x="767" y="1032"/>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537160" y="4600440"/>
            <a:ext cx="725400" cy="1800"/>
          </a:xfrm>
          <a:custGeom>
            <a:avLst/>
            <a:gdLst/>
            <a:ahLst/>
            <a:rect l="l" t="t" r="r" b="b"/>
            <a:pathLst>
              <a:path w="457" h="0">
                <a:moveTo>
                  <a:pt x="0" y="0"/>
                </a:moveTo>
                <a:lnTo>
                  <a:pt x="7" y="0"/>
                </a:lnTo>
                <a:lnTo>
                  <a:pt x="13" y="0"/>
                </a:lnTo>
                <a:lnTo>
                  <a:pt x="19" y="0"/>
                </a:lnTo>
                <a:lnTo>
                  <a:pt x="27" y="0"/>
                </a:lnTo>
                <a:lnTo>
                  <a:pt x="29" y="0"/>
                </a:lnTo>
                <a:lnTo>
                  <a:pt x="37" y="0"/>
                </a:lnTo>
                <a:lnTo>
                  <a:pt x="43" y="0"/>
                </a:lnTo>
                <a:lnTo>
                  <a:pt x="50" y="0"/>
                </a:lnTo>
                <a:lnTo>
                  <a:pt x="56" y="0"/>
                </a:lnTo>
                <a:lnTo>
                  <a:pt x="60" y="0"/>
                </a:lnTo>
                <a:lnTo>
                  <a:pt x="66" y="0"/>
                </a:lnTo>
                <a:lnTo>
                  <a:pt x="74" y="0"/>
                </a:lnTo>
                <a:lnTo>
                  <a:pt x="80" y="0"/>
                </a:lnTo>
                <a:lnTo>
                  <a:pt x="86" y="0"/>
                </a:lnTo>
                <a:lnTo>
                  <a:pt x="90" y="0"/>
                </a:lnTo>
                <a:lnTo>
                  <a:pt x="96" y="0"/>
                </a:lnTo>
                <a:lnTo>
                  <a:pt x="103" y="0"/>
                </a:lnTo>
                <a:lnTo>
                  <a:pt x="110" y="0"/>
                </a:lnTo>
                <a:lnTo>
                  <a:pt x="117" y="0"/>
                </a:lnTo>
                <a:lnTo>
                  <a:pt x="123" y="0"/>
                </a:lnTo>
                <a:lnTo>
                  <a:pt x="127" y="0"/>
                </a:lnTo>
                <a:lnTo>
                  <a:pt x="133" y="0"/>
                </a:lnTo>
                <a:lnTo>
                  <a:pt x="139" y="0"/>
                </a:lnTo>
                <a:lnTo>
                  <a:pt x="147" y="0"/>
                </a:lnTo>
                <a:lnTo>
                  <a:pt x="153" y="0"/>
                </a:lnTo>
                <a:lnTo>
                  <a:pt x="157" y="0"/>
                </a:lnTo>
                <a:lnTo>
                  <a:pt x="164" y="0"/>
                </a:lnTo>
                <a:lnTo>
                  <a:pt x="170" y="0"/>
                </a:lnTo>
                <a:lnTo>
                  <a:pt x="176" y="0"/>
                </a:lnTo>
                <a:lnTo>
                  <a:pt x="184" y="0"/>
                </a:lnTo>
                <a:lnTo>
                  <a:pt x="186" y="0"/>
                </a:lnTo>
                <a:lnTo>
                  <a:pt x="194" y="0"/>
                </a:lnTo>
                <a:lnTo>
                  <a:pt x="200" y="0"/>
                </a:lnTo>
                <a:lnTo>
                  <a:pt x="207" y="0"/>
                </a:lnTo>
                <a:lnTo>
                  <a:pt x="213" y="0"/>
                </a:lnTo>
                <a:lnTo>
                  <a:pt x="220" y="0"/>
                </a:lnTo>
                <a:lnTo>
                  <a:pt x="223" y="0"/>
                </a:lnTo>
                <a:lnTo>
                  <a:pt x="231" y="0"/>
                </a:lnTo>
                <a:lnTo>
                  <a:pt x="237" y="0"/>
                </a:lnTo>
                <a:lnTo>
                  <a:pt x="243" y="0"/>
                </a:lnTo>
                <a:lnTo>
                  <a:pt x="251" y="0"/>
                </a:lnTo>
                <a:lnTo>
                  <a:pt x="253" y="0"/>
                </a:lnTo>
                <a:lnTo>
                  <a:pt x="260" y="0"/>
                </a:lnTo>
                <a:lnTo>
                  <a:pt x="267" y="0"/>
                </a:lnTo>
                <a:lnTo>
                  <a:pt x="274" y="0"/>
                </a:lnTo>
                <a:lnTo>
                  <a:pt x="280" y="0"/>
                </a:lnTo>
                <a:lnTo>
                  <a:pt x="284" y="0"/>
                </a:lnTo>
                <a:lnTo>
                  <a:pt x="290" y="0"/>
                </a:lnTo>
                <a:lnTo>
                  <a:pt x="296" y="0"/>
                </a:lnTo>
                <a:lnTo>
                  <a:pt x="304" y="0"/>
                </a:lnTo>
                <a:lnTo>
                  <a:pt x="310" y="0"/>
                </a:lnTo>
                <a:lnTo>
                  <a:pt x="317" y="0"/>
                </a:lnTo>
                <a:lnTo>
                  <a:pt x="320" y="0"/>
                </a:lnTo>
                <a:lnTo>
                  <a:pt x="327" y="0"/>
                </a:lnTo>
                <a:lnTo>
                  <a:pt x="333" y="0"/>
                </a:lnTo>
                <a:lnTo>
                  <a:pt x="341" y="0"/>
                </a:lnTo>
                <a:lnTo>
                  <a:pt x="347" y="0"/>
                </a:lnTo>
                <a:lnTo>
                  <a:pt x="351" y="0"/>
                </a:lnTo>
                <a:lnTo>
                  <a:pt x="357" y="0"/>
                </a:lnTo>
                <a:lnTo>
                  <a:pt x="364" y="0"/>
                </a:lnTo>
                <a:lnTo>
                  <a:pt x="370" y="0"/>
                </a:lnTo>
                <a:lnTo>
                  <a:pt x="378" y="0"/>
                </a:lnTo>
                <a:lnTo>
                  <a:pt x="380" y="0"/>
                </a:lnTo>
                <a:lnTo>
                  <a:pt x="388" y="0"/>
                </a:lnTo>
                <a:lnTo>
                  <a:pt x="394" y="0"/>
                </a:lnTo>
                <a:lnTo>
                  <a:pt x="400" y="0"/>
                </a:lnTo>
                <a:lnTo>
                  <a:pt x="407" y="0"/>
                </a:lnTo>
                <a:lnTo>
                  <a:pt x="414" y="0"/>
                </a:lnTo>
                <a:lnTo>
                  <a:pt x="417" y="0"/>
                </a:lnTo>
                <a:lnTo>
                  <a:pt x="424" y="0"/>
                </a:lnTo>
                <a:lnTo>
                  <a:pt x="431" y="0"/>
                </a:lnTo>
                <a:lnTo>
                  <a:pt x="437" y="0"/>
                </a:lnTo>
                <a:lnTo>
                  <a:pt x="445" y="0"/>
                </a:lnTo>
                <a:lnTo>
                  <a:pt x="447" y="0"/>
                </a:lnTo>
                <a:lnTo>
                  <a:pt x="454" y="0"/>
                </a:lnTo>
                <a:lnTo>
                  <a:pt x="457" y="0"/>
                </a:lnTo>
              </a:path>
            </a:pathLst>
          </a:custGeom>
          <a:noFill/>
          <a:ln w="14400">
            <a:solidFill>
              <a:srgbClr val="3333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7" name=""/>
          <p:cNvSpPr/>
          <p:nvPr/>
        </p:nvSpPr>
        <p:spPr>
          <a:xfrm rot="16200000">
            <a:off x="2431440" y="396144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2728" name=""/>
          <p:cNvSpPr/>
          <p:nvPr/>
        </p:nvSpPr>
        <p:spPr>
          <a:xfrm>
            <a:off x="3108240" y="2894040"/>
            <a:ext cx="1217520" cy="2195640"/>
          </a:xfrm>
          <a:custGeom>
            <a:avLst/>
            <a:gdLst/>
            <a:ahLst/>
            <a:rect l="l" t="t" r="r" b="b"/>
            <a:pathLst>
              <a:path w="11248" h="20152">
                <a:moveTo>
                  <a:pt x="0" y="15606"/>
                </a:moveTo>
                <a:lnTo>
                  <a:pt x="37" y="15606"/>
                </a:lnTo>
                <a:lnTo>
                  <a:pt x="93" y="15606"/>
                </a:lnTo>
                <a:lnTo>
                  <a:pt x="185" y="15606"/>
                </a:lnTo>
                <a:lnTo>
                  <a:pt x="296" y="15606"/>
                </a:lnTo>
                <a:lnTo>
                  <a:pt x="389" y="15606"/>
                </a:lnTo>
                <a:lnTo>
                  <a:pt x="482" y="15606"/>
                </a:lnTo>
                <a:lnTo>
                  <a:pt x="533" y="15606"/>
                </a:lnTo>
                <a:lnTo>
                  <a:pt x="533" y="15739"/>
                </a:lnTo>
                <a:lnTo>
                  <a:pt x="482" y="15739"/>
                </a:lnTo>
                <a:lnTo>
                  <a:pt x="389" y="15739"/>
                </a:lnTo>
                <a:lnTo>
                  <a:pt x="296" y="15739"/>
                </a:lnTo>
                <a:lnTo>
                  <a:pt x="185" y="15739"/>
                </a:lnTo>
                <a:lnTo>
                  <a:pt x="93" y="15739"/>
                </a:lnTo>
                <a:lnTo>
                  <a:pt x="37" y="15739"/>
                </a:lnTo>
                <a:lnTo>
                  <a:pt x="0" y="15739"/>
                </a:lnTo>
                <a:lnTo>
                  <a:pt x="0" y="15606"/>
                </a:lnTo>
                <a:close/>
                <a:moveTo>
                  <a:pt x="933" y="15606"/>
                </a:moveTo>
                <a:lnTo>
                  <a:pt x="1018" y="15606"/>
                </a:lnTo>
                <a:lnTo>
                  <a:pt x="1074" y="15606"/>
                </a:lnTo>
                <a:lnTo>
                  <a:pt x="1167" y="15606"/>
                </a:lnTo>
                <a:lnTo>
                  <a:pt x="1259" y="15606"/>
                </a:lnTo>
                <a:lnTo>
                  <a:pt x="1370" y="15606"/>
                </a:lnTo>
                <a:lnTo>
                  <a:pt x="1463" y="15606"/>
                </a:lnTo>
                <a:lnTo>
                  <a:pt x="1467" y="15606"/>
                </a:lnTo>
                <a:lnTo>
                  <a:pt x="1467" y="15739"/>
                </a:lnTo>
                <a:lnTo>
                  <a:pt x="1463" y="15739"/>
                </a:lnTo>
                <a:lnTo>
                  <a:pt x="1370" y="15739"/>
                </a:lnTo>
                <a:lnTo>
                  <a:pt x="1259" y="15739"/>
                </a:lnTo>
                <a:lnTo>
                  <a:pt x="1167" y="15739"/>
                </a:lnTo>
                <a:lnTo>
                  <a:pt x="1074" y="15739"/>
                </a:lnTo>
                <a:lnTo>
                  <a:pt x="1018" y="15739"/>
                </a:lnTo>
                <a:lnTo>
                  <a:pt x="933" y="15739"/>
                </a:lnTo>
                <a:lnTo>
                  <a:pt x="933" y="15606"/>
                </a:lnTo>
                <a:close/>
                <a:moveTo>
                  <a:pt x="1867" y="15606"/>
                </a:moveTo>
                <a:lnTo>
                  <a:pt x="1907" y="15606"/>
                </a:lnTo>
                <a:lnTo>
                  <a:pt x="1944" y="15606"/>
                </a:lnTo>
                <a:lnTo>
                  <a:pt x="2055" y="15606"/>
                </a:lnTo>
                <a:lnTo>
                  <a:pt x="2148" y="15606"/>
                </a:lnTo>
                <a:lnTo>
                  <a:pt x="2241" y="15606"/>
                </a:lnTo>
                <a:lnTo>
                  <a:pt x="2333" y="15606"/>
                </a:lnTo>
                <a:lnTo>
                  <a:pt x="2400" y="15606"/>
                </a:lnTo>
                <a:lnTo>
                  <a:pt x="2400" y="15739"/>
                </a:lnTo>
                <a:lnTo>
                  <a:pt x="2333" y="15739"/>
                </a:lnTo>
                <a:lnTo>
                  <a:pt x="2241" y="15739"/>
                </a:lnTo>
                <a:lnTo>
                  <a:pt x="2148" y="15739"/>
                </a:lnTo>
                <a:lnTo>
                  <a:pt x="2055" y="15739"/>
                </a:lnTo>
                <a:lnTo>
                  <a:pt x="1944" y="15739"/>
                </a:lnTo>
                <a:lnTo>
                  <a:pt x="1907" y="15739"/>
                </a:lnTo>
                <a:lnTo>
                  <a:pt x="1867" y="15739"/>
                </a:lnTo>
                <a:lnTo>
                  <a:pt x="1867" y="15606"/>
                </a:lnTo>
                <a:close/>
                <a:moveTo>
                  <a:pt x="2800" y="15606"/>
                </a:moveTo>
                <a:lnTo>
                  <a:pt x="2870" y="15606"/>
                </a:lnTo>
                <a:lnTo>
                  <a:pt x="2926" y="15606"/>
                </a:lnTo>
                <a:lnTo>
                  <a:pt x="3018" y="15606"/>
                </a:lnTo>
                <a:lnTo>
                  <a:pt x="3129" y="15606"/>
                </a:lnTo>
                <a:lnTo>
                  <a:pt x="3222" y="15606"/>
                </a:lnTo>
                <a:lnTo>
                  <a:pt x="3314" y="15606"/>
                </a:lnTo>
                <a:lnTo>
                  <a:pt x="3333" y="15606"/>
                </a:lnTo>
                <a:lnTo>
                  <a:pt x="3333" y="15739"/>
                </a:lnTo>
                <a:lnTo>
                  <a:pt x="3314" y="15739"/>
                </a:lnTo>
                <a:lnTo>
                  <a:pt x="3222" y="15739"/>
                </a:lnTo>
                <a:lnTo>
                  <a:pt x="3129" y="15739"/>
                </a:lnTo>
                <a:lnTo>
                  <a:pt x="3018" y="15739"/>
                </a:lnTo>
                <a:lnTo>
                  <a:pt x="2926" y="15739"/>
                </a:lnTo>
                <a:lnTo>
                  <a:pt x="2870" y="15739"/>
                </a:lnTo>
                <a:lnTo>
                  <a:pt x="2800" y="15739"/>
                </a:lnTo>
                <a:lnTo>
                  <a:pt x="2800" y="15606"/>
                </a:lnTo>
                <a:close/>
                <a:moveTo>
                  <a:pt x="3733" y="15606"/>
                </a:moveTo>
                <a:lnTo>
                  <a:pt x="3759" y="15606"/>
                </a:lnTo>
                <a:lnTo>
                  <a:pt x="3851" y="15606"/>
                </a:lnTo>
                <a:lnTo>
                  <a:pt x="3907" y="15606"/>
                </a:lnTo>
                <a:lnTo>
                  <a:pt x="3999" y="15606"/>
                </a:lnTo>
                <a:lnTo>
                  <a:pt x="4092" y="15606"/>
                </a:lnTo>
                <a:lnTo>
                  <a:pt x="4203" y="15606"/>
                </a:lnTo>
                <a:lnTo>
                  <a:pt x="4267" y="15606"/>
                </a:lnTo>
                <a:lnTo>
                  <a:pt x="4267" y="15739"/>
                </a:lnTo>
                <a:lnTo>
                  <a:pt x="4203" y="15739"/>
                </a:lnTo>
                <a:lnTo>
                  <a:pt x="4092" y="15739"/>
                </a:lnTo>
                <a:lnTo>
                  <a:pt x="3999" y="15739"/>
                </a:lnTo>
                <a:lnTo>
                  <a:pt x="3907" y="15739"/>
                </a:lnTo>
                <a:lnTo>
                  <a:pt x="3851" y="15739"/>
                </a:lnTo>
                <a:lnTo>
                  <a:pt x="3759" y="15739"/>
                </a:lnTo>
                <a:lnTo>
                  <a:pt x="3733" y="15739"/>
                </a:lnTo>
                <a:lnTo>
                  <a:pt x="3733" y="15606"/>
                </a:lnTo>
                <a:close/>
                <a:moveTo>
                  <a:pt x="4667" y="15606"/>
                </a:moveTo>
                <a:lnTo>
                  <a:pt x="4740" y="15606"/>
                </a:lnTo>
                <a:lnTo>
                  <a:pt x="4777" y="15606"/>
                </a:lnTo>
                <a:lnTo>
                  <a:pt x="4888" y="15606"/>
                </a:lnTo>
                <a:lnTo>
                  <a:pt x="4981" y="15606"/>
                </a:lnTo>
                <a:lnTo>
                  <a:pt x="5073" y="15606"/>
                </a:lnTo>
                <a:lnTo>
                  <a:pt x="5166" y="15606"/>
                </a:lnTo>
                <a:lnTo>
                  <a:pt x="5200" y="15606"/>
                </a:lnTo>
                <a:lnTo>
                  <a:pt x="5200" y="15739"/>
                </a:lnTo>
                <a:lnTo>
                  <a:pt x="5166" y="15739"/>
                </a:lnTo>
                <a:lnTo>
                  <a:pt x="5073" y="15739"/>
                </a:lnTo>
                <a:lnTo>
                  <a:pt x="4981" y="15739"/>
                </a:lnTo>
                <a:lnTo>
                  <a:pt x="4888" y="15739"/>
                </a:lnTo>
                <a:lnTo>
                  <a:pt x="4777" y="15739"/>
                </a:lnTo>
                <a:lnTo>
                  <a:pt x="4740" y="15739"/>
                </a:lnTo>
                <a:lnTo>
                  <a:pt x="4667" y="15739"/>
                </a:lnTo>
                <a:lnTo>
                  <a:pt x="4667" y="15606"/>
                </a:lnTo>
                <a:close/>
                <a:moveTo>
                  <a:pt x="5600" y="15606"/>
                </a:moveTo>
                <a:lnTo>
                  <a:pt x="5610" y="15606"/>
                </a:lnTo>
                <a:lnTo>
                  <a:pt x="5703" y="15606"/>
                </a:lnTo>
                <a:lnTo>
                  <a:pt x="5758" y="15606"/>
                </a:lnTo>
                <a:lnTo>
                  <a:pt x="5851" y="15606"/>
                </a:lnTo>
                <a:lnTo>
                  <a:pt x="5962" y="15606"/>
                </a:lnTo>
                <a:lnTo>
                  <a:pt x="6055" y="15606"/>
                </a:lnTo>
                <a:lnTo>
                  <a:pt x="6133" y="15606"/>
                </a:lnTo>
                <a:lnTo>
                  <a:pt x="6133" y="15739"/>
                </a:lnTo>
                <a:lnTo>
                  <a:pt x="6055" y="15739"/>
                </a:lnTo>
                <a:lnTo>
                  <a:pt x="5962" y="15739"/>
                </a:lnTo>
                <a:lnTo>
                  <a:pt x="5851" y="15739"/>
                </a:lnTo>
                <a:lnTo>
                  <a:pt x="5758" y="15739"/>
                </a:lnTo>
                <a:lnTo>
                  <a:pt x="5703" y="15739"/>
                </a:lnTo>
                <a:lnTo>
                  <a:pt x="5610" y="15739"/>
                </a:lnTo>
                <a:lnTo>
                  <a:pt x="5600" y="15739"/>
                </a:lnTo>
                <a:lnTo>
                  <a:pt x="5600" y="15606"/>
                </a:lnTo>
                <a:close/>
                <a:moveTo>
                  <a:pt x="6563" y="15633"/>
                </a:moveTo>
                <a:lnTo>
                  <a:pt x="6626" y="15671"/>
                </a:lnTo>
                <a:lnTo>
                  <a:pt x="6592" y="15661"/>
                </a:lnTo>
                <a:lnTo>
                  <a:pt x="6684" y="15661"/>
                </a:lnTo>
                <a:lnTo>
                  <a:pt x="6637" y="15681"/>
                </a:lnTo>
                <a:lnTo>
                  <a:pt x="6693" y="15625"/>
                </a:lnTo>
                <a:cubicBezTo>
                  <a:pt x="6699" y="15619"/>
                  <a:pt x="6707" y="15614"/>
                  <a:pt x="6715" y="15611"/>
                </a:cubicBezTo>
                <a:lnTo>
                  <a:pt x="6808" y="15574"/>
                </a:lnTo>
                <a:cubicBezTo>
                  <a:pt x="6816" y="15571"/>
                  <a:pt x="6824" y="15569"/>
                  <a:pt x="6832" y="15569"/>
                </a:cubicBezTo>
                <a:lnTo>
                  <a:pt x="6925" y="15569"/>
                </a:lnTo>
                <a:lnTo>
                  <a:pt x="6895" y="15576"/>
                </a:lnTo>
                <a:lnTo>
                  <a:pt x="6982" y="15533"/>
                </a:lnTo>
                <a:lnTo>
                  <a:pt x="7041" y="15653"/>
                </a:lnTo>
                <a:lnTo>
                  <a:pt x="6955" y="15696"/>
                </a:lnTo>
                <a:cubicBezTo>
                  <a:pt x="6945" y="15700"/>
                  <a:pt x="6935" y="15703"/>
                  <a:pt x="6925" y="15703"/>
                </a:cubicBezTo>
                <a:lnTo>
                  <a:pt x="6832" y="15703"/>
                </a:lnTo>
                <a:lnTo>
                  <a:pt x="6857" y="15698"/>
                </a:lnTo>
                <a:lnTo>
                  <a:pt x="6764" y="15735"/>
                </a:lnTo>
                <a:lnTo>
                  <a:pt x="6787" y="15720"/>
                </a:lnTo>
                <a:lnTo>
                  <a:pt x="6731" y="15775"/>
                </a:lnTo>
                <a:cubicBezTo>
                  <a:pt x="6719" y="15788"/>
                  <a:pt x="6702" y="15795"/>
                  <a:pt x="6684" y="15795"/>
                </a:cubicBezTo>
                <a:lnTo>
                  <a:pt x="6592" y="15795"/>
                </a:lnTo>
                <a:cubicBezTo>
                  <a:pt x="6580" y="15795"/>
                  <a:pt x="6568" y="15791"/>
                  <a:pt x="6558" y="15785"/>
                </a:cubicBezTo>
                <a:lnTo>
                  <a:pt x="6495" y="15748"/>
                </a:lnTo>
                <a:lnTo>
                  <a:pt x="6563" y="15633"/>
                </a:lnTo>
                <a:close/>
                <a:moveTo>
                  <a:pt x="7387" y="15606"/>
                </a:moveTo>
                <a:lnTo>
                  <a:pt x="7462" y="15606"/>
                </a:lnTo>
                <a:lnTo>
                  <a:pt x="7573" y="15606"/>
                </a:lnTo>
                <a:lnTo>
                  <a:pt x="7526" y="15625"/>
                </a:lnTo>
                <a:lnTo>
                  <a:pt x="7563" y="15589"/>
                </a:lnTo>
                <a:cubicBezTo>
                  <a:pt x="7576" y="15576"/>
                  <a:pt x="7592" y="15569"/>
                  <a:pt x="7610" y="15569"/>
                </a:cubicBezTo>
                <a:lnTo>
                  <a:pt x="7721" y="15569"/>
                </a:lnTo>
                <a:cubicBezTo>
                  <a:pt x="7739" y="15569"/>
                  <a:pt x="7756" y="15576"/>
                  <a:pt x="7768" y="15589"/>
                </a:cubicBezTo>
                <a:lnTo>
                  <a:pt x="7861" y="15681"/>
                </a:lnTo>
                <a:lnTo>
                  <a:pt x="7899" y="15718"/>
                </a:lnTo>
                <a:lnTo>
                  <a:pt x="7805" y="15813"/>
                </a:lnTo>
                <a:lnTo>
                  <a:pt x="7767" y="15775"/>
                </a:lnTo>
                <a:lnTo>
                  <a:pt x="7674" y="15683"/>
                </a:lnTo>
                <a:lnTo>
                  <a:pt x="7721" y="15703"/>
                </a:lnTo>
                <a:lnTo>
                  <a:pt x="7610" y="15703"/>
                </a:lnTo>
                <a:lnTo>
                  <a:pt x="7657" y="15683"/>
                </a:lnTo>
                <a:lnTo>
                  <a:pt x="7620" y="15720"/>
                </a:lnTo>
                <a:cubicBezTo>
                  <a:pt x="7607" y="15732"/>
                  <a:pt x="7591" y="15739"/>
                  <a:pt x="7573" y="15739"/>
                </a:cubicBezTo>
                <a:lnTo>
                  <a:pt x="7462" y="15739"/>
                </a:lnTo>
                <a:lnTo>
                  <a:pt x="7387" y="15739"/>
                </a:lnTo>
                <a:lnTo>
                  <a:pt x="7387" y="15606"/>
                </a:lnTo>
                <a:close/>
                <a:moveTo>
                  <a:pt x="8071" y="15884"/>
                </a:moveTo>
                <a:lnTo>
                  <a:pt x="8085" y="15850"/>
                </a:lnTo>
                <a:lnTo>
                  <a:pt x="8196" y="15557"/>
                </a:lnTo>
                <a:lnTo>
                  <a:pt x="8236" y="15389"/>
                </a:lnTo>
                <a:lnTo>
                  <a:pt x="8365" y="15420"/>
                </a:lnTo>
                <a:lnTo>
                  <a:pt x="8320" y="15604"/>
                </a:lnTo>
                <a:lnTo>
                  <a:pt x="8209" y="15900"/>
                </a:lnTo>
                <a:lnTo>
                  <a:pt x="8195" y="15934"/>
                </a:lnTo>
                <a:lnTo>
                  <a:pt x="8071" y="15884"/>
                </a:lnTo>
                <a:close/>
                <a:moveTo>
                  <a:pt x="8329" y="15000"/>
                </a:moveTo>
                <a:lnTo>
                  <a:pt x="8378" y="14793"/>
                </a:lnTo>
                <a:cubicBezTo>
                  <a:pt x="8379" y="14789"/>
                  <a:pt x="8381" y="14785"/>
                  <a:pt x="8383" y="14781"/>
                </a:cubicBezTo>
                <a:lnTo>
                  <a:pt x="8475" y="14579"/>
                </a:lnTo>
                <a:cubicBezTo>
                  <a:pt x="8486" y="14554"/>
                  <a:pt x="8511" y="14539"/>
                  <a:pt x="8538" y="14540"/>
                </a:cubicBezTo>
                <a:cubicBezTo>
                  <a:pt x="8565" y="14541"/>
                  <a:pt x="8589" y="14558"/>
                  <a:pt x="8598" y="14583"/>
                </a:cubicBezTo>
                <a:lnTo>
                  <a:pt x="8633" y="14676"/>
                </a:lnTo>
                <a:lnTo>
                  <a:pt x="8508" y="14723"/>
                </a:lnTo>
                <a:lnTo>
                  <a:pt x="8473" y="14630"/>
                </a:lnTo>
                <a:lnTo>
                  <a:pt x="8596" y="14634"/>
                </a:lnTo>
                <a:lnTo>
                  <a:pt x="8504" y="14837"/>
                </a:lnTo>
                <a:lnTo>
                  <a:pt x="8508" y="14824"/>
                </a:lnTo>
                <a:lnTo>
                  <a:pt x="8459" y="15031"/>
                </a:lnTo>
                <a:lnTo>
                  <a:pt x="8329" y="15000"/>
                </a:lnTo>
                <a:close/>
                <a:moveTo>
                  <a:pt x="8707" y="15082"/>
                </a:moveTo>
                <a:lnTo>
                  <a:pt x="8750" y="15369"/>
                </a:lnTo>
                <a:lnTo>
                  <a:pt x="8776" y="15613"/>
                </a:lnTo>
                <a:lnTo>
                  <a:pt x="8644" y="15628"/>
                </a:lnTo>
                <a:lnTo>
                  <a:pt x="8618" y="15388"/>
                </a:lnTo>
                <a:lnTo>
                  <a:pt x="8575" y="15101"/>
                </a:lnTo>
                <a:lnTo>
                  <a:pt x="8707" y="15082"/>
                </a:lnTo>
                <a:close/>
                <a:moveTo>
                  <a:pt x="8819" y="16011"/>
                </a:moveTo>
                <a:lnTo>
                  <a:pt x="8861" y="16401"/>
                </a:lnTo>
                <a:lnTo>
                  <a:pt x="8874" y="16543"/>
                </a:lnTo>
                <a:lnTo>
                  <a:pt x="8741" y="16554"/>
                </a:lnTo>
                <a:lnTo>
                  <a:pt x="8729" y="16415"/>
                </a:lnTo>
                <a:lnTo>
                  <a:pt x="8687" y="16025"/>
                </a:lnTo>
                <a:lnTo>
                  <a:pt x="8819" y="16011"/>
                </a:lnTo>
                <a:close/>
                <a:moveTo>
                  <a:pt x="8908" y="16941"/>
                </a:moveTo>
                <a:lnTo>
                  <a:pt x="8954" y="17468"/>
                </a:lnTo>
                <a:lnTo>
                  <a:pt x="8954" y="17471"/>
                </a:lnTo>
                <a:lnTo>
                  <a:pt x="8822" y="17486"/>
                </a:lnTo>
                <a:lnTo>
                  <a:pt x="8821" y="17480"/>
                </a:lnTo>
                <a:lnTo>
                  <a:pt x="8775" y="16953"/>
                </a:lnTo>
                <a:lnTo>
                  <a:pt x="8908" y="16941"/>
                </a:lnTo>
                <a:close/>
                <a:moveTo>
                  <a:pt x="8999" y="17869"/>
                </a:moveTo>
                <a:lnTo>
                  <a:pt x="9046" y="18294"/>
                </a:lnTo>
                <a:lnTo>
                  <a:pt x="8980" y="18235"/>
                </a:lnTo>
                <a:lnTo>
                  <a:pt x="9036" y="18235"/>
                </a:lnTo>
                <a:lnTo>
                  <a:pt x="8969" y="18295"/>
                </a:lnTo>
                <a:lnTo>
                  <a:pt x="8974" y="18246"/>
                </a:lnTo>
                <a:lnTo>
                  <a:pt x="9106" y="18257"/>
                </a:lnTo>
                <a:lnTo>
                  <a:pt x="9102" y="18307"/>
                </a:lnTo>
                <a:cubicBezTo>
                  <a:pt x="9099" y="18341"/>
                  <a:pt x="9070" y="18368"/>
                  <a:pt x="9036" y="18368"/>
                </a:cubicBezTo>
                <a:lnTo>
                  <a:pt x="8980" y="18368"/>
                </a:lnTo>
                <a:cubicBezTo>
                  <a:pt x="8946" y="18368"/>
                  <a:pt x="8918" y="18342"/>
                  <a:pt x="8914" y="18309"/>
                </a:cubicBezTo>
                <a:lnTo>
                  <a:pt x="8866" y="17883"/>
                </a:lnTo>
                <a:lnTo>
                  <a:pt x="8999" y="17869"/>
                </a:lnTo>
                <a:close/>
                <a:moveTo>
                  <a:pt x="9008" y="17847"/>
                </a:moveTo>
                <a:lnTo>
                  <a:pt x="9054" y="17316"/>
                </a:lnTo>
                <a:lnTo>
                  <a:pt x="9187" y="17327"/>
                </a:lnTo>
                <a:lnTo>
                  <a:pt x="9141" y="17859"/>
                </a:lnTo>
                <a:lnTo>
                  <a:pt x="9008" y="17847"/>
                </a:lnTo>
                <a:close/>
                <a:moveTo>
                  <a:pt x="9074" y="16919"/>
                </a:moveTo>
                <a:lnTo>
                  <a:pt x="9095" y="16387"/>
                </a:lnTo>
                <a:lnTo>
                  <a:pt x="9228" y="16392"/>
                </a:lnTo>
                <a:lnTo>
                  <a:pt x="9207" y="16925"/>
                </a:lnTo>
                <a:lnTo>
                  <a:pt x="9074" y="16919"/>
                </a:lnTo>
                <a:close/>
                <a:moveTo>
                  <a:pt x="9111" y="15987"/>
                </a:moveTo>
                <a:lnTo>
                  <a:pt x="9132" y="15454"/>
                </a:lnTo>
                <a:lnTo>
                  <a:pt x="9265" y="15459"/>
                </a:lnTo>
                <a:lnTo>
                  <a:pt x="9244" y="15992"/>
                </a:lnTo>
                <a:lnTo>
                  <a:pt x="9111" y="15987"/>
                </a:lnTo>
                <a:close/>
                <a:moveTo>
                  <a:pt x="9148" y="15054"/>
                </a:moveTo>
                <a:lnTo>
                  <a:pt x="9154" y="14898"/>
                </a:lnTo>
                <a:lnTo>
                  <a:pt x="9167" y="14522"/>
                </a:lnTo>
                <a:lnTo>
                  <a:pt x="9300" y="14526"/>
                </a:lnTo>
                <a:lnTo>
                  <a:pt x="9287" y="14903"/>
                </a:lnTo>
                <a:lnTo>
                  <a:pt x="9281" y="15060"/>
                </a:lnTo>
                <a:lnTo>
                  <a:pt x="9148" y="15054"/>
                </a:lnTo>
                <a:close/>
                <a:moveTo>
                  <a:pt x="9180" y="14122"/>
                </a:moveTo>
                <a:lnTo>
                  <a:pt x="9197" y="13589"/>
                </a:lnTo>
                <a:lnTo>
                  <a:pt x="9330" y="13593"/>
                </a:lnTo>
                <a:lnTo>
                  <a:pt x="9313" y="14126"/>
                </a:lnTo>
                <a:lnTo>
                  <a:pt x="9180" y="14122"/>
                </a:lnTo>
                <a:close/>
                <a:moveTo>
                  <a:pt x="9210" y="13189"/>
                </a:moveTo>
                <a:lnTo>
                  <a:pt x="9227" y="12656"/>
                </a:lnTo>
                <a:lnTo>
                  <a:pt x="9361" y="12660"/>
                </a:lnTo>
                <a:lnTo>
                  <a:pt x="9343" y="13193"/>
                </a:lnTo>
                <a:lnTo>
                  <a:pt x="9210" y="13189"/>
                </a:lnTo>
                <a:close/>
                <a:moveTo>
                  <a:pt x="9241" y="12256"/>
                </a:moveTo>
                <a:lnTo>
                  <a:pt x="9258" y="11723"/>
                </a:lnTo>
                <a:lnTo>
                  <a:pt x="9391" y="11728"/>
                </a:lnTo>
                <a:lnTo>
                  <a:pt x="9374" y="12261"/>
                </a:lnTo>
                <a:lnTo>
                  <a:pt x="9241" y="12256"/>
                </a:lnTo>
                <a:close/>
                <a:moveTo>
                  <a:pt x="9269" y="11324"/>
                </a:moveTo>
                <a:lnTo>
                  <a:pt x="9282" y="10791"/>
                </a:lnTo>
                <a:lnTo>
                  <a:pt x="9415" y="10794"/>
                </a:lnTo>
                <a:lnTo>
                  <a:pt x="9403" y="11327"/>
                </a:lnTo>
                <a:lnTo>
                  <a:pt x="9269" y="11324"/>
                </a:lnTo>
                <a:close/>
                <a:moveTo>
                  <a:pt x="9291" y="10391"/>
                </a:moveTo>
                <a:lnTo>
                  <a:pt x="9304" y="9858"/>
                </a:lnTo>
                <a:lnTo>
                  <a:pt x="9437" y="9861"/>
                </a:lnTo>
                <a:lnTo>
                  <a:pt x="9425" y="10394"/>
                </a:lnTo>
                <a:lnTo>
                  <a:pt x="9291" y="10391"/>
                </a:lnTo>
                <a:close/>
                <a:moveTo>
                  <a:pt x="9314" y="9458"/>
                </a:moveTo>
                <a:lnTo>
                  <a:pt x="9326" y="8925"/>
                </a:lnTo>
                <a:lnTo>
                  <a:pt x="9459" y="8928"/>
                </a:lnTo>
                <a:lnTo>
                  <a:pt x="9447" y="9461"/>
                </a:lnTo>
                <a:lnTo>
                  <a:pt x="9314" y="9458"/>
                </a:lnTo>
                <a:close/>
                <a:moveTo>
                  <a:pt x="9336" y="8525"/>
                </a:moveTo>
                <a:lnTo>
                  <a:pt x="9348" y="7992"/>
                </a:lnTo>
                <a:lnTo>
                  <a:pt x="9482" y="7995"/>
                </a:lnTo>
                <a:lnTo>
                  <a:pt x="9469" y="8528"/>
                </a:lnTo>
                <a:lnTo>
                  <a:pt x="9336" y="8525"/>
                </a:lnTo>
                <a:close/>
                <a:moveTo>
                  <a:pt x="9358" y="7592"/>
                </a:moveTo>
                <a:lnTo>
                  <a:pt x="9358" y="7584"/>
                </a:lnTo>
                <a:lnTo>
                  <a:pt x="9371" y="7058"/>
                </a:lnTo>
                <a:lnTo>
                  <a:pt x="9504" y="7062"/>
                </a:lnTo>
                <a:lnTo>
                  <a:pt x="9491" y="7587"/>
                </a:lnTo>
                <a:lnTo>
                  <a:pt x="9491" y="7595"/>
                </a:lnTo>
                <a:lnTo>
                  <a:pt x="9358" y="7592"/>
                </a:lnTo>
                <a:close/>
                <a:moveTo>
                  <a:pt x="9381" y="6659"/>
                </a:moveTo>
                <a:lnTo>
                  <a:pt x="9394" y="6125"/>
                </a:lnTo>
                <a:lnTo>
                  <a:pt x="9528" y="6129"/>
                </a:lnTo>
                <a:lnTo>
                  <a:pt x="9514" y="6662"/>
                </a:lnTo>
                <a:lnTo>
                  <a:pt x="9381" y="6659"/>
                </a:lnTo>
                <a:close/>
                <a:moveTo>
                  <a:pt x="9404" y="5726"/>
                </a:moveTo>
                <a:lnTo>
                  <a:pt x="9418" y="5192"/>
                </a:lnTo>
                <a:lnTo>
                  <a:pt x="9551" y="5196"/>
                </a:lnTo>
                <a:lnTo>
                  <a:pt x="9538" y="5729"/>
                </a:lnTo>
                <a:lnTo>
                  <a:pt x="9404" y="5726"/>
                </a:lnTo>
                <a:close/>
                <a:moveTo>
                  <a:pt x="9428" y="4792"/>
                </a:moveTo>
                <a:lnTo>
                  <a:pt x="9441" y="4259"/>
                </a:lnTo>
                <a:lnTo>
                  <a:pt x="9574" y="4263"/>
                </a:lnTo>
                <a:lnTo>
                  <a:pt x="9561" y="4796"/>
                </a:lnTo>
                <a:lnTo>
                  <a:pt x="9428" y="4792"/>
                </a:lnTo>
                <a:close/>
                <a:moveTo>
                  <a:pt x="9451" y="3860"/>
                </a:moveTo>
                <a:lnTo>
                  <a:pt x="9462" y="3327"/>
                </a:lnTo>
                <a:lnTo>
                  <a:pt x="9595" y="3329"/>
                </a:lnTo>
                <a:lnTo>
                  <a:pt x="9584" y="3862"/>
                </a:lnTo>
                <a:lnTo>
                  <a:pt x="9451" y="3860"/>
                </a:lnTo>
                <a:close/>
                <a:moveTo>
                  <a:pt x="9470" y="2927"/>
                </a:moveTo>
                <a:lnTo>
                  <a:pt x="9481" y="2393"/>
                </a:lnTo>
                <a:lnTo>
                  <a:pt x="9614" y="2396"/>
                </a:lnTo>
                <a:lnTo>
                  <a:pt x="9603" y="2929"/>
                </a:lnTo>
                <a:lnTo>
                  <a:pt x="9470" y="2927"/>
                </a:lnTo>
                <a:close/>
                <a:moveTo>
                  <a:pt x="9489" y="1993"/>
                </a:moveTo>
                <a:lnTo>
                  <a:pt x="9500" y="1460"/>
                </a:lnTo>
                <a:lnTo>
                  <a:pt x="9633" y="1463"/>
                </a:lnTo>
                <a:lnTo>
                  <a:pt x="9622" y="1996"/>
                </a:lnTo>
                <a:lnTo>
                  <a:pt x="9489" y="1993"/>
                </a:lnTo>
                <a:close/>
                <a:moveTo>
                  <a:pt x="9515" y="1056"/>
                </a:moveTo>
                <a:lnTo>
                  <a:pt x="9560" y="525"/>
                </a:lnTo>
                <a:lnTo>
                  <a:pt x="9693" y="536"/>
                </a:lnTo>
                <a:lnTo>
                  <a:pt x="9648" y="1068"/>
                </a:lnTo>
                <a:lnTo>
                  <a:pt x="9515" y="1056"/>
                </a:lnTo>
                <a:close/>
                <a:moveTo>
                  <a:pt x="9593" y="126"/>
                </a:moveTo>
                <a:lnTo>
                  <a:pt x="9599" y="62"/>
                </a:lnTo>
                <a:cubicBezTo>
                  <a:pt x="9602" y="28"/>
                  <a:pt x="9630" y="2"/>
                  <a:pt x="9664" y="1"/>
                </a:cubicBezTo>
                <a:cubicBezTo>
                  <a:pt x="9698" y="0"/>
                  <a:pt x="9727" y="25"/>
                  <a:pt x="9731" y="59"/>
                </a:cubicBezTo>
                <a:lnTo>
                  <a:pt x="9791" y="524"/>
                </a:lnTo>
                <a:lnTo>
                  <a:pt x="9659" y="541"/>
                </a:lnTo>
                <a:lnTo>
                  <a:pt x="9599" y="76"/>
                </a:lnTo>
                <a:lnTo>
                  <a:pt x="9732" y="73"/>
                </a:lnTo>
                <a:lnTo>
                  <a:pt x="9726" y="138"/>
                </a:lnTo>
                <a:lnTo>
                  <a:pt x="9593" y="126"/>
                </a:lnTo>
                <a:close/>
                <a:moveTo>
                  <a:pt x="9831" y="927"/>
                </a:moveTo>
                <a:lnTo>
                  <a:pt x="9855" y="1460"/>
                </a:lnTo>
                <a:lnTo>
                  <a:pt x="9722" y="1466"/>
                </a:lnTo>
                <a:lnTo>
                  <a:pt x="9698" y="933"/>
                </a:lnTo>
                <a:lnTo>
                  <a:pt x="9831" y="927"/>
                </a:lnTo>
                <a:close/>
                <a:moveTo>
                  <a:pt x="9873" y="1859"/>
                </a:moveTo>
                <a:lnTo>
                  <a:pt x="9896" y="2392"/>
                </a:lnTo>
                <a:lnTo>
                  <a:pt x="9763" y="2398"/>
                </a:lnTo>
                <a:lnTo>
                  <a:pt x="9739" y="1865"/>
                </a:lnTo>
                <a:lnTo>
                  <a:pt x="9873" y="1859"/>
                </a:lnTo>
                <a:close/>
                <a:moveTo>
                  <a:pt x="9914" y="2792"/>
                </a:moveTo>
                <a:lnTo>
                  <a:pt x="9935" y="3263"/>
                </a:lnTo>
                <a:lnTo>
                  <a:pt x="9937" y="3326"/>
                </a:lnTo>
                <a:lnTo>
                  <a:pt x="9804" y="3329"/>
                </a:lnTo>
                <a:lnTo>
                  <a:pt x="9802" y="3269"/>
                </a:lnTo>
                <a:lnTo>
                  <a:pt x="9781" y="2798"/>
                </a:lnTo>
                <a:lnTo>
                  <a:pt x="9914" y="2792"/>
                </a:lnTo>
                <a:close/>
                <a:moveTo>
                  <a:pt x="9947" y="3726"/>
                </a:moveTo>
                <a:lnTo>
                  <a:pt x="9960" y="4259"/>
                </a:lnTo>
                <a:lnTo>
                  <a:pt x="9827" y="4262"/>
                </a:lnTo>
                <a:lnTo>
                  <a:pt x="9814" y="3729"/>
                </a:lnTo>
                <a:lnTo>
                  <a:pt x="9947" y="3726"/>
                </a:lnTo>
                <a:close/>
                <a:moveTo>
                  <a:pt x="9970" y="4659"/>
                </a:moveTo>
                <a:lnTo>
                  <a:pt x="9983" y="5192"/>
                </a:lnTo>
                <a:lnTo>
                  <a:pt x="9850" y="5195"/>
                </a:lnTo>
                <a:lnTo>
                  <a:pt x="9837" y="4662"/>
                </a:lnTo>
                <a:lnTo>
                  <a:pt x="9970" y="4659"/>
                </a:lnTo>
                <a:close/>
                <a:moveTo>
                  <a:pt x="9993" y="5592"/>
                </a:moveTo>
                <a:lnTo>
                  <a:pt x="10006" y="6125"/>
                </a:lnTo>
                <a:lnTo>
                  <a:pt x="9873" y="6128"/>
                </a:lnTo>
                <a:lnTo>
                  <a:pt x="9860" y="5595"/>
                </a:lnTo>
                <a:lnTo>
                  <a:pt x="9993" y="5592"/>
                </a:lnTo>
                <a:close/>
                <a:moveTo>
                  <a:pt x="10016" y="6525"/>
                </a:moveTo>
                <a:lnTo>
                  <a:pt x="10028" y="6995"/>
                </a:lnTo>
                <a:lnTo>
                  <a:pt x="10029" y="7059"/>
                </a:lnTo>
                <a:lnTo>
                  <a:pt x="9896" y="7061"/>
                </a:lnTo>
                <a:lnTo>
                  <a:pt x="9895" y="6999"/>
                </a:lnTo>
                <a:lnTo>
                  <a:pt x="9883" y="6528"/>
                </a:lnTo>
                <a:lnTo>
                  <a:pt x="10016" y="6525"/>
                </a:lnTo>
                <a:close/>
                <a:moveTo>
                  <a:pt x="10034" y="7459"/>
                </a:moveTo>
                <a:lnTo>
                  <a:pt x="10041" y="7992"/>
                </a:lnTo>
                <a:lnTo>
                  <a:pt x="9908" y="7994"/>
                </a:lnTo>
                <a:lnTo>
                  <a:pt x="9901" y="7461"/>
                </a:lnTo>
                <a:lnTo>
                  <a:pt x="10034" y="7459"/>
                </a:lnTo>
                <a:close/>
                <a:moveTo>
                  <a:pt x="10047" y="8392"/>
                </a:moveTo>
                <a:lnTo>
                  <a:pt x="10054" y="8925"/>
                </a:lnTo>
                <a:lnTo>
                  <a:pt x="9920" y="8927"/>
                </a:lnTo>
                <a:lnTo>
                  <a:pt x="9913" y="8394"/>
                </a:lnTo>
                <a:lnTo>
                  <a:pt x="10047" y="8392"/>
                </a:lnTo>
                <a:close/>
                <a:moveTo>
                  <a:pt x="10059" y="9325"/>
                </a:moveTo>
                <a:lnTo>
                  <a:pt x="10066" y="9859"/>
                </a:lnTo>
                <a:lnTo>
                  <a:pt x="9933" y="9860"/>
                </a:lnTo>
                <a:lnTo>
                  <a:pt x="9926" y="9327"/>
                </a:lnTo>
                <a:lnTo>
                  <a:pt x="10059" y="9325"/>
                </a:lnTo>
                <a:close/>
                <a:moveTo>
                  <a:pt x="10072" y="10259"/>
                </a:moveTo>
                <a:lnTo>
                  <a:pt x="10079" y="10792"/>
                </a:lnTo>
                <a:lnTo>
                  <a:pt x="9945" y="10794"/>
                </a:lnTo>
                <a:lnTo>
                  <a:pt x="9938" y="10260"/>
                </a:lnTo>
                <a:lnTo>
                  <a:pt x="10072" y="10259"/>
                </a:lnTo>
                <a:close/>
                <a:moveTo>
                  <a:pt x="10084" y="11191"/>
                </a:moveTo>
                <a:lnTo>
                  <a:pt x="10097" y="11724"/>
                </a:lnTo>
                <a:lnTo>
                  <a:pt x="9963" y="11728"/>
                </a:lnTo>
                <a:lnTo>
                  <a:pt x="9951" y="11194"/>
                </a:lnTo>
                <a:lnTo>
                  <a:pt x="10084" y="11191"/>
                </a:lnTo>
                <a:close/>
                <a:moveTo>
                  <a:pt x="10106" y="12124"/>
                </a:moveTo>
                <a:lnTo>
                  <a:pt x="10119" y="12657"/>
                </a:lnTo>
                <a:lnTo>
                  <a:pt x="9985" y="12661"/>
                </a:lnTo>
                <a:lnTo>
                  <a:pt x="9973" y="12127"/>
                </a:lnTo>
                <a:lnTo>
                  <a:pt x="10106" y="12124"/>
                </a:lnTo>
                <a:close/>
                <a:moveTo>
                  <a:pt x="10128" y="13057"/>
                </a:moveTo>
                <a:lnTo>
                  <a:pt x="10141" y="13591"/>
                </a:lnTo>
                <a:lnTo>
                  <a:pt x="10007" y="13594"/>
                </a:lnTo>
                <a:lnTo>
                  <a:pt x="9995" y="13060"/>
                </a:lnTo>
                <a:lnTo>
                  <a:pt x="10128" y="13057"/>
                </a:lnTo>
                <a:close/>
                <a:moveTo>
                  <a:pt x="10150" y="13990"/>
                </a:moveTo>
                <a:lnTo>
                  <a:pt x="10163" y="14524"/>
                </a:lnTo>
                <a:lnTo>
                  <a:pt x="10029" y="14527"/>
                </a:lnTo>
                <a:lnTo>
                  <a:pt x="10017" y="13994"/>
                </a:lnTo>
                <a:lnTo>
                  <a:pt x="10150" y="13990"/>
                </a:lnTo>
                <a:close/>
                <a:moveTo>
                  <a:pt x="10172" y="14923"/>
                </a:moveTo>
                <a:lnTo>
                  <a:pt x="10176" y="15101"/>
                </a:lnTo>
                <a:lnTo>
                  <a:pt x="10187" y="15456"/>
                </a:lnTo>
                <a:lnTo>
                  <a:pt x="10054" y="15460"/>
                </a:lnTo>
                <a:lnTo>
                  <a:pt x="10043" y="15105"/>
                </a:lnTo>
                <a:lnTo>
                  <a:pt x="10039" y="14927"/>
                </a:lnTo>
                <a:lnTo>
                  <a:pt x="10172" y="14923"/>
                </a:lnTo>
                <a:close/>
                <a:moveTo>
                  <a:pt x="10200" y="15856"/>
                </a:moveTo>
                <a:lnTo>
                  <a:pt x="10217" y="16389"/>
                </a:lnTo>
                <a:lnTo>
                  <a:pt x="10083" y="16393"/>
                </a:lnTo>
                <a:lnTo>
                  <a:pt x="10067" y="15860"/>
                </a:lnTo>
                <a:lnTo>
                  <a:pt x="10200" y="15856"/>
                </a:lnTo>
                <a:close/>
                <a:moveTo>
                  <a:pt x="10229" y="16789"/>
                </a:moveTo>
                <a:lnTo>
                  <a:pt x="10246" y="17322"/>
                </a:lnTo>
                <a:lnTo>
                  <a:pt x="10112" y="17326"/>
                </a:lnTo>
                <a:lnTo>
                  <a:pt x="10096" y="16793"/>
                </a:lnTo>
                <a:lnTo>
                  <a:pt x="10229" y="16789"/>
                </a:lnTo>
                <a:close/>
                <a:moveTo>
                  <a:pt x="10258" y="17722"/>
                </a:moveTo>
                <a:lnTo>
                  <a:pt x="10269" y="18060"/>
                </a:lnTo>
                <a:lnTo>
                  <a:pt x="10280" y="18253"/>
                </a:lnTo>
                <a:lnTo>
                  <a:pt x="10147" y="18260"/>
                </a:lnTo>
                <a:lnTo>
                  <a:pt x="10136" y="18064"/>
                </a:lnTo>
                <a:lnTo>
                  <a:pt x="10125" y="17726"/>
                </a:lnTo>
                <a:lnTo>
                  <a:pt x="10258" y="17722"/>
                </a:lnTo>
                <a:close/>
                <a:moveTo>
                  <a:pt x="10302" y="18652"/>
                </a:moveTo>
                <a:lnTo>
                  <a:pt x="10332" y="19185"/>
                </a:lnTo>
                <a:lnTo>
                  <a:pt x="10199" y="19192"/>
                </a:lnTo>
                <a:lnTo>
                  <a:pt x="10169" y="18660"/>
                </a:lnTo>
                <a:lnTo>
                  <a:pt x="10302" y="18652"/>
                </a:lnTo>
                <a:close/>
                <a:moveTo>
                  <a:pt x="10355" y="19584"/>
                </a:moveTo>
                <a:lnTo>
                  <a:pt x="10361" y="19694"/>
                </a:lnTo>
                <a:lnTo>
                  <a:pt x="10359" y="19680"/>
                </a:lnTo>
                <a:lnTo>
                  <a:pt x="10470" y="20066"/>
                </a:lnTo>
                <a:lnTo>
                  <a:pt x="10340" y="20073"/>
                </a:lnTo>
                <a:lnTo>
                  <a:pt x="10344" y="20052"/>
                </a:lnTo>
                <a:lnTo>
                  <a:pt x="10475" y="20075"/>
                </a:lnTo>
                <a:lnTo>
                  <a:pt x="10472" y="20096"/>
                </a:lnTo>
                <a:cubicBezTo>
                  <a:pt x="10466" y="20126"/>
                  <a:pt x="10440" y="20149"/>
                  <a:pt x="10409" y="20151"/>
                </a:cubicBezTo>
                <a:cubicBezTo>
                  <a:pt x="10378" y="20152"/>
                  <a:pt x="10350" y="20132"/>
                  <a:pt x="10342" y="20103"/>
                </a:cubicBezTo>
                <a:lnTo>
                  <a:pt x="10231" y="19717"/>
                </a:lnTo>
                <a:cubicBezTo>
                  <a:pt x="10229" y="19712"/>
                  <a:pt x="10228" y="19707"/>
                  <a:pt x="10228" y="19702"/>
                </a:cubicBezTo>
                <a:lnTo>
                  <a:pt x="10222" y="19592"/>
                </a:lnTo>
                <a:lnTo>
                  <a:pt x="10355" y="19584"/>
                </a:lnTo>
                <a:close/>
                <a:moveTo>
                  <a:pt x="10412" y="19658"/>
                </a:moveTo>
                <a:lnTo>
                  <a:pt x="10433" y="19540"/>
                </a:lnTo>
                <a:lnTo>
                  <a:pt x="10453" y="19135"/>
                </a:lnTo>
                <a:lnTo>
                  <a:pt x="10586" y="19142"/>
                </a:lnTo>
                <a:lnTo>
                  <a:pt x="10564" y="19563"/>
                </a:lnTo>
                <a:lnTo>
                  <a:pt x="10544" y="19681"/>
                </a:lnTo>
                <a:lnTo>
                  <a:pt x="10412" y="19658"/>
                </a:lnTo>
                <a:close/>
                <a:moveTo>
                  <a:pt x="10473" y="18735"/>
                </a:moveTo>
                <a:lnTo>
                  <a:pt x="10487" y="18445"/>
                </a:lnTo>
                <a:lnTo>
                  <a:pt x="10507" y="18201"/>
                </a:lnTo>
                <a:lnTo>
                  <a:pt x="10639" y="18212"/>
                </a:lnTo>
                <a:lnTo>
                  <a:pt x="10621" y="18452"/>
                </a:lnTo>
                <a:lnTo>
                  <a:pt x="10606" y="18742"/>
                </a:lnTo>
                <a:lnTo>
                  <a:pt x="10473" y="18735"/>
                </a:lnTo>
                <a:close/>
                <a:moveTo>
                  <a:pt x="10538" y="17802"/>
                </a:moveTo>
                <a:lnTo>
                  <a:pt x="10580" y="17271"/>
                </a:lnTo>
                <a:lnTo>
                  <a:pt x="10713" y="17281"/>
                </a:lnTo>
                <a:lnTo>
                  <a:pt x="10671" y="17813"/>
                </a:lnTo>
                <a:lnTo>
                  <a:pt x="10538" y="17802"/>
                </a:lnTo>
                <a:close/>
                <a:moveTo>
                  <a:pt x="10622" y="16871"/>
                </a:moveTo>
                <a:lnTo>
                  <a:pt x="10673" y="16401"/>
                </a:lnTo>
                <a:lnTo>
                  <a:pt x="10688" y="16334"/>
                </a:lnTo>
                <a:lnTo>
                  <a:pt x="10818" y="16365"/>
                </a:lnTo>
                <a:lnTo>
                  <a:pt x="10805" y="16415"/>
                </a:lnTo>
                <a:lnTo>
                  <a:pt x="10755" y="16885"/>
                </a:lnTo>
                <a:lnTo>
                  <a:pt x="10622" y="16871"/>
                </a:lnTo>
                <a:close/>
                <a:moveTo>
                  <a:pt x="10913" y="15979"/>
                </a:moveTo>
                <a:lnTo>
                  <a:pt x="10964" y="15995"/>
                </a:lnTo>
                <a:cubicBezTo>
                  <a:pt x="10989" y="16004"/>
                  <a:pt x="11007" y="16026"/>
                  <a:pt x="11009" y="16053"/>
                </a:cubicBezTo>
                <a:lnTo>
                  <a:pt x="11046" y="16457"/>
                </a:lnTo>
                <a:lnTo>
                  <a:pt x="11044" y="16446"/>
                </a:lnTo>
                <a:lnTo>
                  <a:pt x="11063" y="16517"/>
                </a:lnTo>
                <a:lnTo>
                  <a:pt x="10934" y="16551"/>
                </a:lnTo>
                <a:lnTo>
                  <a:pt x="10915" y="16480"/>
                </a:lnTo>
                <a:cubicBezTo>
                  <a:pt x="10914" y="16477"/>
                  <a:pt x="10914" y="16473"/>
                  <a:pt x="10913" y="16469"/>
                </a:cubicBezTo>
                <a:lnTo>
                  <a:pt x="10876" y="16065"/>
                </a:lnTo>
                <a:lnTo>
                  <a:pt x="10922" y="16122"/>
                </a:lnTo>
                <a:lnTo>
                  <a:pt x="10871" y="16105"/>
                </a:lnTo>
                <a:lnTo>
                  <a:pt x="10913" y="15979"/>
                </a:lnTo>
                <a:close/>
                <a:moveTo>
                  <a:pt x="11165" y="16904"/>
                </a:moveTo>
                <a:lnTo>
                  <a:pt x="11248" y="17218"/>
                </a:lnTo>
                <a:lnTo>
                  <a:pt x="11119" y="17252"/>
                </a:lnTo>
                <a:lnTo>
                  <a:pt x="11036" y="16938"/>
                </a:lnTo>
                <a:lnTo>
                  <a:pt x="11165" y="16904"/>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4313160" y="3801960"/>
            <a:ext cx="1224000" cy="1335240"/>
          </a:xfrm>
          <a:custGeom>
            <a:avLst/>
            <a:gdLst/>
            <a:ahLst/>
            <a:rect l="l" t="t" r="r" b="b"/>
            <a:pathLst>
              <a:path w="5654" h="6124">
                <a:moveTo>
                  <a:pt x="59" y="4430"/>
                </a:moveTo>
                <a:lnTo>
                  <a:pt x="106" y="4522"/>
                </a:lnTo>
                <a:lnTo>
                  <a:pt x="93" y="4508"/>
                </a:lnTo>
                <a:lnTo>
                  <a:pt x="139" y="4535"/>
                </a:lnTo>
                <a:lnTo>
                  <a:pt x="99" y="4540"/>
                </a:lnTo>
                <a:lnTo>
                  <a:pt x="126" y="4513"/>
                </a:lnTo>
                <a:lnTo>
                  <a:pt x="173" y="4467"/>
                </a:lnTo>
                <a:lnTo>
                  <a:pt x="179" y="4461"/>
                </a:lnTo>
                <a:lnTo>
                  <a:pt x="222" y="4513"/>
                </a:lnTo>
                <a:lnTo>
                  <a:pt x="220" y="4514"/>
                </a:lnTo>
                <a:lnTo>
                  <a:pt x="173" y="4560"/>
                </a:lnTo>
                <a:lnTo>
                  <a:pt x="146" y="4588"/>
                </a:lnTo>
                <a:cubicBezTo>
                  <a:pt x="135" y="4598"/>
                  <a:pt x="118" y="4601"/>
                  <a:pt x="105" y="4593"/>
                </a:cubicBezTo>
                <a:lnTo>
                  <a:pt x="59" y="4565"/>
                </a:lnTo>
                <a:cubicBezTo>
                  <a:pt x="53" y="4562"/>
                  <a:pt x="49" y="4557"/>
                  <a:pt x="46" y="4552"/>
                </a:cubicBezTo>
                <a:lnTo>
                  <a:pt x="0" y="4460"/>
                </a:lnTo>
                <a:lnTo>
                  <a:pt x="59" y="4430"/>
                </a:lnTo>
                <a:close/>
                <a:moveTo>
                  <a:pt x="395" y="4429"/>
                </a:moveTo>
                <a:lnTo>
                  <a:pt x="403" y="4432"/>
                </a:lnTo>
                <a:cubicBezTo>
                  <a:pt x="407" y="4434"/>
                  <a:pt x="411" y="4436"/>
                  <a:pt x="414" y="4439"/>
                </a:cubicBezTo>
                <a:lnTo>
                  <a:pt x="442" y="4467"/>
                </a:lnTo>
                <a:lnTo>
                  <a:pt x="436" y="4462"/>
                </a:lnTo>
                <a:lnTo>
                  <a:pt x="482" y="4490"/>
                </a:lnTo>
                <a:lnTo>
                  <a:pt x="465" y="4485"/>
                </a:lnTo>
                <a:lnTo>
                  <a:pt x="521" y="4485"/>
                </a:lnTo>
                <a:lnTo>
                  <a:pt x="567" y="4485"/>
                </a:lnTo>
                <a:lnTo>
                  <a:pt x="613" y="4485"/>
                </a:lnTo>
                <a:cubicBezTo>
                  <a:pt x="620" y="4485"/>
                  <a:pt x="626" y="4487"/>
                  <a:pt x="632" y="4490"/>
                </a:cubicBezTo>
                <a:lnTo>
                  <a:pt x="645" y="4499"/>
                </a:lnTo>
                <a:lnTo>
                  <a:pt x="608" y="4555"/>
                </a:lnTo>
                <a:lnTo>
                  <a:pt x="595" y="4546"/>
                </a:lnTo>
                <a:lnTo>
                  <a:pt x="613" y="4552"/>
                </a:lnTo>
                <a:lnTo>
                  <a:pt x="567" y="4552"/>
                </a:lnTo>
                <a:lnTo>
                  <a:pt x="521" y="4552"/>
                </a:lnTo>
                <a:lnTo>
                  <a:pt x="465" y="4552"/>
                </a:lnTo>
                <a:cubicBezTo>
                  <a:pt x="459" y="4552"/>
                  <a:pt x="453" y="4550"/>
                  <a:pt x="448" y="4547"/>
                </a:cubicBezTo>
                <a:lnTo>
                  <a:pt x="402" y="4519"/>
                </a:lnTo>
                <a:cubicBezTo>
                  <a:pt x="399" y="4518"/>
                  <a:pt x="397" y="4516"/>
                  <a:pt x="395" y="4514"/>
                </a:cubicBezTo>
                <a:lnTo>
                  <a:pt x="367" y="4487"/>
                </a:lnTo>
                <a:lnTo>
                  <a:pt x="379" y="4494"/>
                </a:lnTo>
                <a:lnTo>
                  <a:pt x="370" y="4491"/>
                </a:lnTo>
                <a:lnTo>
                  <a:pt x="395" y="4429"/>
                </a:lnTo>
                <a:close/>
                <a:moveTo>
                  <a:pt x="801" y="4629"/>
                </a:moveTo>
                <a:lnTo>
                  <a:pt x="813" y="4641"/>
                </a:lnTo>
                <a:lnTo>
                  <a:pt x="802" y="4634"/>
                </a:lnTo>
                <a:lnTo>
                  <a:pt x="848" y="4652"/>
                </a:lnTo>
                <a:cubicBezTo>
                  <a:pt x="852" y="4654"/>
                  <a:pt x="856" y="4657"/>
                  <a:pt x="859" y="4660"/>
                </a:cubicBezTo>
                <a:lnTo>
                  <a:pt x="887" y="4687"/>
                </a:lnTo>
                <a:lnTo>
                  <a:pt x="876" y="4680"/>
                </a:lnTo>
                <a:lnTo>
                  <a:pt x="922" y="4698"/>
                </a:lnTo>
                <a:cubicBezTo>
                  <a:pt x="924" y="4699"/>
                  <a:pt x="925" y="4700"/>
                  <a:pt x="927" y="4701"/>
                </a:cubicBezTo>
                <a:lnTo>
                  <a:pt x="973" y="4728"/>
                </a:lnTo>
                <a:lnTo>
                  <a:pt x="956" y="4724"/>
                </a:lnTo>
                <a:lnTo>
                  <a:pt x="1002" y="4724"/>
                </a:lnTo>
                <a:cubicBezTo>
                  <a:pt x="1008" y="4724"/>
                  <a:pt x="1013" y="4725"/>
                  <a:pt x="1017" y="4727"/>
                </a:cubicBezTo>
                <a:lnTo>
                  <a:pt x="1027" y="4732"/>
                </a:lnTo>
                <a:lnTo>
                  <a:pt x="997" y="4791"/>
                </a:lnTo>
                <a:lnTo>
                  <a:pt x="988" y="4787"/>
                </a:lnTo>
                <a:lnTo>
                  <a:pt x="1002" y="4790"/>
                </a:lnTo>
                <a:lnTo>
                  <a:pt x="956" y="4790"/>
                </a:lnTo>
                <a:cubicBezTo>
                  <a:pt x="950" y="4790"/>
                  <a:pt x="944" y="4789"/>
                  <a:pt x="939" y="4786"/>
                </a:cubicBezTo>
                <a:lnTo>
                  <a:pt x="893" y="4758"/>
                </a:lnTo>
                <a:lnTo>
                  <a:pt x="898" y="4760"/>
                </a:lnTo>
                <a:lnTo>
                  <a:pt x="851" y="4742"/>
                </a:lnTo>
                <a:cubicBezTo>
                  <a:pt x="847" y="4740"/>
                  <a:pt x="843" y="4738"/>
                  <a:pt x="840" y="4735"/>
                </a:cubicBezTo>
                <a:lnTo>
                  <a:pt x="812" y="4707"/>
                </a:lnTo>
                <a:lnTo>
                  <a:pt x="823" y="4714"/>
                </a:lnTo>
                <a:lnTo>
                  <a:pt x="777" y="4696"/>
                </a:lnTo>
                <a:cubicBezTo>
                  <a:pt x="773" y="4694"/>
                  <a:pt x="769" y="4692"/>
                  <a:pt x="766" y="4689"/>
                </a:cubicBezTo>
                <a:lnTo>
                  <a:pt x="754" y="4677"/>
                </a:lnTo>
                <a:lnTo>
                  <a:pt x="801" y="4629"/>
                </a:lnTo>
                <a:close/>
                <a:moveTo>
                  <a:pt x="1196" y="4829"/>
                </a:moveTo>
                <a:lnTo>
                  <a:pt x="1237" y="4845"/>
                </a:lnTo>
                <a:cubicBezTo>
                  <a:pt x="1239" y="4846"/>
                  <a:pt x="1240" y="4847"/>
                  <a:pt x="1242" y="4848"/>
                </a:cubicBezTo>
                <a:lnTo>
                  <a:pt x="1288" y="4875"/>
                </a:lnTo>
                <a:lnTo>
                  <a:pt x="1342" y="4902"/>
                </a:lnTo>
                <a:cubicBezTo>
                  <a:pt x="1349" y="4905"/>
                  <a:pt x="1355" y="4911"/>
                  <a:pt x="1358" y="4919"/>
                </a:cubicBezTo>
                <a:lnTo>
                  <a:pt x="1376" y="4965"/>
                </a:lnTo>
                <a:lnTo>
                  <a:pt x="1356" y="4946"/>
                </a:lnTo>
                <a:lnTo>
                  <a:pt x="1410" y="4964"/>
                </a:lnTo>
                <a:lnTo>
                  <a:pt x="1389" y="5027"/>
                </a:lnTo>
                <a:lnTo>
                  <a:pt x="1335" y="5009"/>
                </a:lnTo>
                <a:cubicBezTo>
                  <a:pt x="1326" y="5006"/>
                  <a:pt x="1318" y="4999"/>
                  <a:pt x="1314" y="4990"/>
                </a:cubicBezTo>
                <a:lnTo>
                  <a:pt x="1296" y="4944"/>
                </a:lnTo>
                <a:lnTo>
                  <a:pt x="1312" y="4961"/>
                </a:lnTo>
                <a:lnTo>
                  <a:pt x="1254" y="4933"/>
                </a:lnTo>
                <a:lnTo>
                  <a:pt x="1208" y="4905"/>
                </a:lnTo>
                <a:lnTo>
                  <a:pt x="1213" y="4907"/>
                </a:lnTo>
                <a:lnTo>
                  <a:pt x="1171" y="4891"/>
                </a:lnTo>
                <a:lnTo>
                  <a:pt x="1196" y="4829"/>
                </a:lnTo>
                <a:close/>
                <a:moveTo>
                  <a:pt x="1588" y="5090"/>
                </a:moveTo>
                <a:lnTo>
                  <a:pt x="1598" y="5109"/>
                </a:lnTo>
                <a:lnTo>
                  <a:pt x="1591" y="5101"/>
                </a:lnTo>
                <a:lnTo>
                  <a:pt x="1638" y="5147"/>
                </a:lnTo>
                <a:lnTo>
                  <a:pt x="1691" y="5190"/>
                </a:lnTo>
                <a:lnTo>
                  <a:pt x="1740" y="5238"/>
                </a:lnTo>
                <a:lnTo>
                  <a:pt x="1716" y="5229"/>
                </a:lnTo>
                <a:lnTo>
                  <a:pt x="1759" y="5229"/>
                </a:lnTo>
                <a:lnTo>
                  <a:pt x="1759" y="5295"/>
                </a:lnTo>
                <a:lnTo>
                  <a:pt x="1716" y="5295"/>
                </a:lnTo>
                <a:cubicBezTo>
                  <a:pt x="1707" y="5295"/>
                  <a:pt x="1699" y="5292"/>
                  <a:pt x="1693" y="5286"/>
                </a:cubicBezTo>
                <a:lnTo>
                  <a:pt x="1648" y="5242"/>
                </a:lnTo>
                <a:lnTo>
                  <a:pt x="1591" y="5194"/>
                </a:lnTo>
                <a:lnTo>
                  <a:pt x="1544" y="5148"/>
                </a:lnTo>
                <a:cubicBezTo>
                  <a:pt x="1542" y="5145"/>
                  <a:pt x="1540" y="5142"/>
                  <a:pt x="1538" y="5139"/>
                </a:cubicBezTo>
                <a:lnTo>
                  <a:pt x="1529" y="5120"/>
                </a:lnTo>
                <a:lnTo>
                  <a:pt x="1588" y="5090"/>
                </a:lnTo>
                <a:close/>
                <a:moveTo>
                  <a:pt x="1864" y="5096"/>
                </a:moveTo>
                <a:lnTo>
                  <a:pt x="1915" y="5045"/>
                </a:lnTo>
                <a:cubicBezTo>
                  <a:pt x="1926" y="5035"/>
                  <a:pt x="1942" y="5033"/>
                  <a:pt x="1955" y="5041"/>
                </a:cubicBezTo>
                <a:lnTo>
                  <a:pt x="2002" y="5068"/>
                </a:lnTo>
                <a:cubicBezTo>
                  <a:pt x="2009" y="5072"/>
                  <a:pt x="2014" y="5079"/>
                  <a:pt x="2017" y="5087"/>
                </a:cubicBezTo>
                <a:lnTo>
                  <a:pt x="2059" y="5221"/>
                </a:lnTo>
                <a:lnTo>
                  <a:pt x="1995" y="5241"/>
                </a:lnTo>
                <a:lnTo>
                  <a:pt x="1953" y="5107"/>
                </a:lnTo>
                <a:lnTo>
                  <a:pt x="1968" y="5125"/>
                </a:lnTo>
                <a:lnTo>
                  <a:pt x="1921" y="5098"/>
                </a:lnTo>
                <a:lnTo>
                  <a:pt x="1962" y="5093"/>
                </a:lnTo>
                <a:lnTo>
                  <a:pt x="1911" y="5143"/>
                </a:lnTo>
                <a:lnTo>
                  <a:pt x="1864" y="5096"/>
                </a:lnTo>
                <a:close/>
                <a:moveTo>
                  <a:pt x="2086" y="5425"/>
                </a:moveTo>
                <a:lnTo>
                  <a:pt x="2092" y="5479"/>
                </a:lnTo>
                <a:lnTo>
                  <a:pt x="2125" y="5688"/>
                </a:lnTo>
                <a:lnTo>
                  <a:pt x="2059" y="5698"/>
                </a:lnTo>
                <a:lnTo>
                  <a:pt x="2026" y="5486"/>
                </a:lnTo>
                <a:lnTo>
                  <a:pt x="2020" y="5433"/>
                </a:lnTo>
                <a:lnTo>
                  <a:pt x="2086" y="5425"/>
                </a:lnTo>
                <a:close/>
                <a:moveTo>
                  <a:pt x="2160" y="5883"/>
                </a:moveTo>
                <a:lnTo>
                  <a:pt x="2184" y="6009"/>
                </a:lnTo>
                <a:lnTo>
                  <a:pt x="2178" y="5995"/>
                </a:lnTo>
                <a:lnTo>
                  <a:pt x="2234" y="6068"/>
                </a:lnTo>
                <a:lnTo>
                  <a:pt x="2175" y="6079"/>
                </a:lnTo>
                <a:lnTo>
                  <a:pt x="2188" y="6034"/>
                </a:lnTo>
                <a:lnTo>
                  <a:pt x="2252" y="6052"/>
                </a:lnTo>
                <a:lnTo>
                  <a:pt x="2239" y="6097"/>
                </a:lnTo>
                <a:cubicBezTo>
                  <a:pt x="2236" y="6110"/>
                  <a:pt x="2226" y="6119"/>
                  <a:pt x="2213" y="6121"/>
                </a:cubicBezTo>
                <a:cubicBezTo>
                  <a:pt x="2201" y="6124"/>
                  <a:pt x="2188" y="6119"/>
                  <a:pt x="2181" y="6109"/>
                </a:cubicBezTo>
                <a:lnTo>
                  <a:pt x="2125" y="6035"/>
                </a:lnTo>
                <a:cubicBezTo>
                  <a:pt x="2122" y="6031"/>
                  <a:pt x="2120" y="6026"/>
                  <a:pt x="2119" y="6021"/>
                </a:cubicBezTo>
                <a:lnTo>
                  <a:pt x="2095" y="5896"/>
                </a:lnTo>
                <a:lnTo>
                  <a:pt x="2160" y="5883"/>
                </a:lnTo>
                <a:close/>
                <a:moveTo>
                  <a:pt x="2224" y="5846"/>
                </a:moveTo>
                <a:lnTo>
                  <a:pt x="2239" y="5580"/>
                </a:lnTo>
                <a:lnTo>
                  <a:pt x="2305" y="5584"/>
                </a:lnTo>
                <a:lnTo>
                  <a:pt x="2291" y="5850"/>
                </a:lnTo>
                <a:lnTo>
                  <a:pt x="2224" y="5846"/>
                </a:lnTo>
                <a:close/>
                <a:moveTo>
                  <a:pt x="2250" y="5380"/>
                </a:moveTo>
                <a:lnTo>
                  <a:pt x="2266" y="5114"/>
                </a:lnTo>
                <a:lnTo>
                  <a:pt x="2333" y="5118"/>
                </a:lnTo>
                <a:lnTo>
                  <a:pt x="2316" y="5384"/>
                </a:lnTo>
                <a:lnTo>
                  <a:pt x="2250" y="5380"/>
                </a:lnTo>
                <a:close/>
                <a:moveTo>
                  <a:pt x="2279" y="4914"/>
                </a:moveTo>
                <a:lnTo>
                  <a:pt x="2294" y="4663"/>
                </a:lnTo>
                <a:lnTo>
                  <a:pt x="2295" y="4649"/>
                </a:lnTo>
                <a:lnTo>
                  <a:pt x="2362" y="4652"/>
                </a:lnTo>
                <a:lnTo>
                  <a:pt x="2361" y="4667"/>
                </a:lnTo>
                <a:lnTo>
                  <a:pt x="2345" y="4918"/>
                </a:lnTo>
                <a:lnTo>
                  <a:pt x="2279" y="4914"/>
                </a:lnTo>
                <a:close/>
                <a:moveTo>
                  <a:pt x="2305" y="4449"/>
                </a:moveTo>
                <a:lnTo>
                  <a:pt x="2318" y="4182"/>
                </a:lnTo>
                <a:lnTo>
                  <a:pt x="2385" y="4186"/>
                </a:lnTo>
                <a:lnTo>
                  <a:pt x="2371" y="4452"/>
                </a:lnTo>
                <a:lnTo>
                  <a:pt x="2305" y="4449"/>
                </a:lnTo>
                <a:close/>
                <a:moveTo>
                  <a:pt x="2328" y="3983"/>
                </a:moveTo>
                <a:lnTo>
                  <a:pt x="2341" y="3718"/>
                </a:lnTo>
                <a:lnTo>
                  <a:pt x="2341" y="3716"/>
                </a:lnTo>
                <a:lnTo>
                  <a:pt x="2407" y="3720"/>
                </a:lnTo>
                <a:lnTo>
                  <a:pt x="2407" y="3721"/>
                </a:lnTo>
                <a:lnTo>
                  <a:pt x="2394" y="3986"/>
                </a:lnTo>
                <a:lnTo>
                  <a:pt x="2328" y="3983"/>
                </a:lnTo>
                <a:close/>
                <a:moveTo>
                  <a:pt x="2350" y="3517"/>
                </a:moveTo>
                <a:lnTo>
                  <a:pt x="2363" y="3250"/>
                </a:lnTo>
                <a:lnTo>
                  <a:pt x="2430" y="3253"/>
                </a:lnTo>
                <a:lnTo>
                  <a:pt x="2417" y="3520"/>
                </a:lnTo>
                <a:lnTo>
                  <a:pt x="2350" y="3517"/>
                </a:lnTo>
                <a:close/>
                <a:moveTo>
                  <a:pt x="2372" y="3050"/>
                </a:moveTo>
                <a:lnTo>
                  <a:pt x="2385" y="2784"/>
                </a:lnTo>
                <a:lnTo>
                  <a:pt x="2452" y="2787"/>
                </a:lnTo>
                <a:lnTo>
                  <a:pt x="2439" y="3054"/>
                </a:lnTo>
                <a:lnTo>
                  <a:pt x="2372" y="3050"/>
                </a:lnTo>
                <a:close/>
                <a:moveTo>
                  <a:pt x="2398" y="2584"/>
                </a:moveTo>
                <a:lnTo>
                  <a:pt x="2416" y="2318"/>
                </a:lnTo>
                <a:lnTo>
                  <a:pt x="2482" y="2322"/>
                </a:lnTo>
                <a:lnTo>
                  <a:pt x="2464" y="2588"/>
                </a:lnTo>
                <a:lnTo>
                  <a:pt x="2398" y="2584"/>
                </a:lnTo>
                <a:close/>
                <a:moveTo>
                  <a:pt x="2429" y="2118"/>
                </a:moveTo>
                <a:lnTo>
                  <a:pt x="2443" y="1917"/>
                </a:lnTo>
                <a:lnTo>
                  <a:pt x="2449" y="1851"/>
                </a:lnTo>
                <a:lnTo>
                  <a:pt x="2515" y="1858"/>
                </a:lnTo>
                <a:lnTo>
                  <a:pt x="2509" y="1922"/>
                </a:lnTo>
                <a:lnTo>
                  <a:pt x="2496" y="2123"/>
                </a:lnTo>
                <a:lnTo>
                  <a:pt x="2429" y="2118"/>
                </a:lnTo>
                <a:close/>
                <a:moveTo>
                  <a:pt x="2468" y="1652"/>
                </a:moveTo>
                <a:lnTo>
                  <a:pt x="2489" y="1439"/>
                </a:lnTo>
                <a:lnTo>
                  <a:pt x="2501" y="1384"/>
                </a:lnTo>
                <a:lnTo>
                  <a:pt x="2566" y="1398"/>
                </a:lnTo>
                <a:lnTo>
                  <a:pt x="2555" y="1445"/>
                </a:lnTo>
                <a:lnTo>
                  <a:pt x="2535" y="1659"/>
                </a:lnTo>
                <a:lnTo>
                  <a:pt x="2468" y="1652"/>
                </a:lnTo>
                <a:close/>
                <a:moveTo>
                  <a:pt x="2605" y="1426"/>
                </a:moveTo>
                <a:lnTo>
                  <a:pt x="2629" y="1555"/>
                </a:lnTo>
                <a:lnTo>
                  <a:pt x="2642" y="1693"/>
                </a:lnTo>
                <a:lnTo>
                  <a:pt x="2576" y="1699"/>
                </a:lnTo>
                <a:lnTo>
                  <a:pt x="2564" y="1567"/>
                </a:lnTo>
                <a:lnTo>
                  <a:pt x="2539" y="1438"/>
                </a:lnTo>
                <a:lnTo>
                  <a:pt x="2605" y="1426"/>
                </a:lnTo>
                <a:close/>
                <a:moveTo>
                  <a:pt x="2661" y="1892"/>
                </a:moveTo>
                <a:lnTo>
                  <a:pt x="2676" y="2045"/>
                </a:lnTo>
                <a:lnTo>
                  <a:pt x="2684" y="2158"/>
                </a:lnTo>
                <a:lnTo>
                  <a:pt x="2618" y="2163"/>
                </a:lnTo>
                <a:lnTo>
                  <a:pt x="2610" y="2051"/>
                </a:lnTo>
                <a:lnTo>
                  <a:pt x="2595" y="1898"/>
                </a:lnTo>
                <a:lnTo>
                  <a:pt x="2661" y="1892"/>
                </a:lnTo>
                <a:close/>
                <a:moveTo>
                  <a:pt x="2699" y="2357"/>
                </a:moveTo>
                <a:lnTo>
                  <a:pt x="2719" y="2623"/>
                </a:lnTo>
                <a:lnTo>
                  <a:pt x="2652" y="2628"/>
                </a:lnTo>
                <a:lnTo>
                  <a:pt x="2633" y="2362"/>
                </a:lnTo>
                <a:lnTo>
                  <a:pt x="2699" y="2357"/>
                </a:lnTo>
                <a:close/>
                <a:moveTo>
                  <a:pt x="2737" y="2822"/>
                </a:moveTo>
                <a:lnTo>
                  <a:pt x="2762" y="3087"/>
                </a:lnTo>
                <a:lnTo>
                  <a:pt x="2696" y="3094"/>
                </a:lnTo>
                <a:lnTo>
                  <a:pt x="2671" y="2828"/>
                </a:lnTo>
                <a:lnTo>
                  <a:pt x="2737" y="2822"/>
                </a:lnTo>
                <a:close/>
                <a:moveTo>
                  <a:pt x="2779" y="3288"/>
                </a:moveTo>
                <a:lnTo>
                  <a:pt x="2790" y="3555"/>
                </a:lnTo>
                <a:lnTo>
                  <a:pt x="2723" y="3557"/>
                </a:lnTo>
                <a:lnTo>
                  <a:pt x="2713" y="3291"/>
                </a:lnTo>
                <a:lnTo>
                  <a:pt x="2779" y="3288"/>
                </a:lnTo>
                <a:close/>
                <a:moveTo>
                  <a:pt x="2799" y="3750"/>
                </a:moveTo>
                <a:lnTo>
                  <a:pt x="2842" y="4014"/>
                </a:lnTo>
                <a:lnTo>
                  <a:pt x="2776" y="4024"/>
                </a:lnTo>
                <a:lnTo>
                  <a:pt x="2733" y="3761"/>
                </a:lnTo>
                <a:lnTo>
                  <a:pt x="2799" y="3750"/>
                </a:lnTo>
                <a:close/>
                <a:moveTo>
                  <a:pt x="2884" y="4206"/>
                </a:moveTo>
                <a:lnTo>
                  <a:pt x="2898" y="4262"/>
                </a:lnTo>
                <a:lnTo>
                  <a:pt x="2943" y="4378"/>
                </a:lnTo>
                <a:lnTo>
                  <a:pt x="2968" y="4457"/>
                </a:lnTo>
                <a:lnTo>
                  <a:pt x="2904" y="4477"/>
                </a:lnTo>
                <a:lnTo>
                  <a:pt x="2880" y="4402"/>
                </a:lnTo>
                <a:lnTo>
                  <a:pt x="2833" y="4278"/>
                </a:lnTo>
                <a:lnTo>
                  <a:pt x="2819" y="4222"/>
                </a:lnTo>
                <a:lnTo>
                  <a:pt x="2884" y="4206"/>
                </a:lnTo>
                <a:close/>
                <a:moveTo>
                  <a:pt x="3014" y="4655"/>
                </a:moveTo>
                <a:lnTo>
                  <a:pt x="3018" y="4677"/>
                </a:lnTo>
                <a:lnTo>
                  <a:pt x="3064" y="4820"/>
                </a:lnTo>
                <a:lnTo>
                  <a:pt x="3059" y="4810"/>
                </a:lnTo>
                <a:lnTo>
                  <a:pt x="3113" y="4882"/>
                </a:lnTo>
                <a:lnTo>
                  <a:pt x="3060" y="4922"/>
                </a:lnTo>
                <a:lnTo>
                  <a:pt x="3005" y="4851"/>
                </a:lnTo>
                <a:cubicBezTo>
                  <a:pt x="3003" y="4847"/>
                  <a:pt x="3001" y="4844"/>
                  <a:pt x="3000" y="4840"/>
                </a:cubicBezTo>
                <a:lnTo>
                  <a:pt x="2953" y="4690"/>
                </a:lnTo>
                <a:lnTo>
                  <a:pt x="2949" y="4668"/>
                </a:lnTo>
                <a:lnTo>
                  <a:pt x="3014" y="4655"/>
                </a:lnTo>
                <a:close/>
                <a:moveTo>
                  <a:pt x="3115" y="4712"/>
                </a:moveTo>
                <a:lnTo>
                  <a:pt x="3147" y="4513"/>
                </a:lnTo>
                <a:lnTo>
                  <a:pt x="3153" y="4450"/>
                </a:lnTo>
                <a:lnTo>
                  <a:pt x="3220" y="4457"/>
                </a:lnTo>
                <a:lnTo>
                  <a:pt x="3213" y="4524"/>
                </a:lnTo>
                <a:lnTo>
                  <a:pt x="3181" y="4723"/>
                </a:lnTo>
                <a:lnTo>
                  <a:pt x="3115" y="4712"/>
                </a:lnTo>
                <a:close/>
                <a:moveTo>
                  <a:pt x="3172" y="4251"/>
                </a:moveTo>
                <a:lnTo>
                  <a:pt x="3193" y="4028"/>
                </a:lnTo>
                <a:lnTo>
                  <a:pt x="3195" y="3987"/>
                </a:lnTo>
                <a:lnTo>
                  <a:pt x="3262" y="3990"/>
                </a:lnTo>
                <a:lnTo>
                  <a:pt x="3260" y="4035"/>
                </a:lnTo>
                <a:lnTo>
                  <a:pt x="3239" y="4257"/>
                </a:lnTo>
                <a:lnTo>
                  <a:pt x="3172" y="4251"/>
                </a:lnTo>
                <a:close/>
                <a:moveTo>
                  <a:pt x="3204" y="3787"/>
                </a:moveTo>
                <a:lnTo>
                  <a:pt x="3215" y="3521"/>
                </a:lnTo>
                <a:lnTo>
                  <a:pt x="3282" y="3524"/>
                </a:lnTo>
                <a:lnTo>
                  <a:pt x="3270" y="3790"/>
                </a:lnTo>
                <a:lnTo>
                  <a:pt x="3204" y="3787"/>
                </a:lnTo>
                <a:close/>
                <a:moveTo>
                  <a:pt x="3225" y="3320"/>
                </a:moveTo>
                <a:lnTo>
                  <a:pt x="3244" y="3054"/>
                </a:lnTo>
                <a:lnTo>
                  <a:pt x="3310" y="3059"/>
                </a:lnTo>
                <a:lnTo>
                  <a:pt x="3292" y="3325"/>
                </a:lnTo>
                <a:lnTo>
                  <a:pt x="3225" y="3320"/>
                </a:lnTo>
                <a:close/>
                <a:moveTo>
                  <a:pt x="3258" y="2855"/>
                </a:moveTo>
                <a:lnTo>
                  <a:pt x="3267" y="2716"/>
                </a:lnTo>
                <a:lnTo>
                  <a:pt x="3281" y="2588"/>
                </a:lnTo>
                <a:lnTo>
                  <a:pt x="3347" y="2595"/>
                </a:lnTo>
                <a:lnTo>
                  <a:pt x="3334" y="2721"/>
                </a:lnTo>
                <a:lnTo>
                  <a:pt x="3324" y="2860"/>
                </a:lnTo>
                <a:lnTo>
                  <a:pt x="3258" y="2855"/>
                </a:lnTo>
                <a:close/>
                <a:moveTo>
                  <a:pt x="3302" y="2389"/>
                </a:moveTo>
                <a:lnTo>
                  <a:pt x="3323" y="2182"/>
                </a:lnTo>
                <a:lnTo>
                  <a:pt x="3331" y="2123"/>
                </a:lnTo>
                <a:lnTo>
                  <a:pt x="3397" y="2132"/>
                </a:lnTo>
                <a:lnTo>
                  <a:pt x="3389" y="2189"/>
                </a:lnTo>
                <a:lnTo>
                  <a:pt x="3368" y="2396"/>
                </a:lnTo>
                <a:lnTo>
                  <a:pt x="3302" y="2389"/>
                </a:lnTo>
                <a:close/>
                <a:moveTo>
                  <a:pt x="3356" y="1925"/>
                </a:moveTo>
                <a:lnTo>
                  <a:pt x="3370" y="1823"/>
                </a:lnTo>
                <a:cubicBezTo>
                  <a:pt x="3370" y="1819"/>
                  <a:pt x="3372" y="1814"/>
                  <a:pt x="3374" y="1810"/>
                </a:cubicBezTo>
                <a:lnTo>
                  <a:pt x="3421" y="1736"/>
                </a:lnTo>
                <a:cubicBezTo>
                  <a:pt x="3428" y="1725"/>
                  <a:pt x="3442" y="1719"/>
                  <a:pt x="3455" y="1721"/>
                </a:cubicBezTo>
                <a:cubicBezTo>
                  <a:pt x="3469" y="1724"/>
                  <a:pt x="3479" y="1734"/>
                  <a:pt x="3482" y="1748"/>
                </a:cubicBezTo>
                <a:lnTo>
                  <a:pt x="3496" y="1824"/>
                </a:lnTo>
                <a:lnTo>
                  <a:pt x="3431" y="1836"/>
                </a:lnTo>
                <a:lnTo>
                  <a:pt x="3416" y="1760"/>
                </a:lnTo>
                <a:lnTo>
                  <a:pt x="3477" y="1772"/>
                </a:lnTo>
                <a:lnTo>
                  <a:pt x="3431" y="1845"/>
                </a:lnTo>
                <a:lnTo>
                  <a:pt x="3436" y="1832"/>
                </a:lnTo>
                <a:lnTo>
                  <a:pt x="3423" y="1934"/>
                </a:lnTo>
                <a:lnTo>
                  <a:pt x="3356" y="1925"/>
                </a:lnTo>
                <a:close/>
                <a:moveTo>
                  <a:pt x="3528" y="2023"/>
                </a:moveTo>
                <a:lnTo>
                  <a:pt x="3556" y="2208"/>
                </a:lnTo>
                <a:lnTo>
                  <a:pt x="3566" y="2287"/>
                </a:lnTo>
                <a:lnTo>
                  <a:pt x="3500" y="2296"/>
                </a:lnTo>
                <a:lnTo>
                  <a:pt x="3490" y="2218"/>
                </a:lnTo>
                <a:lnTo>
                  <a:pt x="3463" y="2032"/>
                </a:lnTo>
                <a:lnTo>
                  <a:pt x="3528" y="2023"/>
                </a:lnTo>
                <a:close/>
                <a:moveTo>
                  <a:pt x="3591" y="2486"/>
                </a:moveTo>
                <a:lnTo>
                  <a:pt x="3602" y="2576"/>
                </a:lnTo>
                <a:lnTo>
                  <a:pt x="3631" y="2748"/>
                </a:lnTo>
                <a:lnTo>
                  <a:pt x="3565" y="2759"/>
                </a:lnTo>
                <a:lnTo>
                  <a:pt x="3536" y="2585"/>
                </a:lnTo>
                <a:lnTo>
                  <a:pt x="3525" y="2494"/>
                </a:lnTo>
                <a:lnTo>
                  <a:pt x="3591" y="2486"/>
                </a:lnTo>
                <a:close/>
                <a:moveTo>
                  <a:pt x="3665" y="2943"/>
                </a:moveTo>
                <a:lnTo>
                  <a:pt x="3704" y="3105"/>
                </a:lnTo>
                <a:lnTo>
                  <a:pt x="3700" y="3096"/>
                </a:lnTo>
                <a:lnTo>
                  <a:pt x="3728" y="3142"/>
                </a:lnTo>
                <a:lnTo>
                  <a:pt x="3669" y="3145"/>
                </a:lnTo>
                <a:lnTo>
                  <a:pt x="3688" y="3104"/>
                </a:lnTo>
                <a:lnTo>
                  <a:pt x="3748" y="3132"/>
                </a:lnTo>
                <a:lnTo>
                  <a:pt x="3729" y="3173"/>
                </a:lnTo>
                <a:cubicBezTo>
                  <a:pt x="3724" y="3184"/>
                  <a:pt x="3713" y="3192"/>
                  <a:pt x="3701" y="3192"/>
                </a:cubicBezTo>
                <a:cubicBezTo>
                  <a:pt x="3689" y="3193"/>
                  <a:pt x="3677" y="3187"/>
                  <a:pt x="3671" y="3176"/>
                </a:cubicBezTo>
                <a:lnTo>
                  <a:pt x="3643" y="3130"/>
                </a:lnTo>
                <a:cubicBezTo>
                  <a:pt x="3641" y="3128"/>
                  <a:pt x="3640" y="3124"/>
                  <a:pt x="3639" y="3121"/>
                </a:cubicBezTo>
                <a:lnTo>
                  <a:pt x="3600" y="2958"/>
                </a:lnTo>
                <a:lnTo>
                  <a:pt x="3665" y="2943"/>
                </a:lnTo>
                <a:close/>
                <a:moveTo>
                  <a:pt x="3750" y="2920"/>
                </a:moveTo>
                <a:lnTo>
                  <a:pt x="3760" y="2884"/>
                </a:lnTo>
                <a:lnTo>
                  <a:pt x="3806" y="2666"/>
                </a:lnTo>
                <a:lnTo>
                  <a:pt x="3808" y="2658"/>
                </a:lnTo>
                <a:lnTo>
                  <a:pt x="3871" y="2679"/>
                </a:lnTo>
                <a:lnTo>
                  <a:pt x="3871" y="2679"/>
                </a:lnTo>
                <a:lnTo>
                  <a:pt x="3824" y="2902"/>
                </a:lnTo>
                <a:lnTo>
                  <a:pt x="3814" y="2938"/>
                </a:lnTo>
                <a:lnTo>
                  <a:pt x="3750" y="2920"/>
                </a:lnTo>
                <a:close/>
                <a:moveTo>
                  <a:pt x="3876" y="2466"/>
                </a:moveTo>
                <a:lnTo>
                  <a:pt x="3910" y="2392"/>
                </a:lnTo>
                <a:cubicBezTo>
                  <a:pt x="3915" y="2381"/>
                  <a:pt x="3926" y="2374"/>
                  <a:pt x="3938" y="2373"/>
                </a:cubicBezTo>
                <a:cubicBezTo>
                  <a:pt x="3951" y="2372"/>
                  <a:pt x="3962" y="2378"/>
                  <a:pt x="3969" y="2389"/>
                </a:cubicBezTo>
                <a:lnTo>
                  <a:pt x="3996" y="2435"/>
                </a:lnTo>
                <a:cubicBezTo>
                  <a:pt x="3998" y="2438"/>
                  <a:pt x="4000" y="2441"/>
                  <a:pt x="4000" y="2444"/>
                </a:cubicBezTo>
                <a:lnTo>
                  <a:pt x="4031" y="2572"/>
                </a:lnTo>
                <a:lnTo>
                  <a:pt x="3966" y="2588"/>
                </a:lnTo>
                <a:lnTo>
                  <a:pt x="3935" y="2460"/>
                </a:lnTo>
                <a:lnTo>
                  <a:pt x="3939" y="2469"/>
                </a:lnTo>
                <a:lnTo>
                  <a:pt x="3912" y="2423"/>
                </a:lnTo>
                <a:lnTo>
                  <a:pt x="3970" y="2420"/>
                </a:lnTo>
                <a:lnTo>
                  <a:pt x="3937" y="2494"/>
                </a:lnTo>
                <a:lnTo>
                  <a:pt x="3876" y="2466"/>
                </a:lnTo>
                <a:close/>
                <a:moveTo>
                  <a:pt x="4065" y="2773"/>
                </a:moveTo>
                <a:lnTo>
                  <a:pt x="4094" y="2980"/>
                </a:lnTo>
                <a:lnTo>
                  <a:pt x="4099" y="3038"/>
                </a:lnTo>
                <a:lnTo>
                  <a:pt x="4033" y="3045"/>
                </a:lnTo>
                <a:lnTo>
                  <a:pt x="4028" y="2989"/>
                </a:lnTo>
                <a:lnTo>
                  <a:pt x="3999" y="2782"/>
                </a:lnTo>
                <a:lnTo>
                  <a:pt x="4065" y="2773"/>
                </a:lnTo>
                <a:close/>
                <a:moveTo>
                  <a:pt x="4118" y="3237"/>
                </a:moveTo>
                <a:lnTo>
                  <a:pt x="4140" y="3468"/>
                </a:lnTo>
                <a:lnTo>
                  <a:pt x="4144" y="3502"/>
                </a:lnTo>
                <a:lnTo>
                  <a:pt x="4078" y="3510"/>
                </a:lnTo>
                <a:lnTo>
                  <a:pt x="4074" y="3474"/>
                </a:lnTo>
                <a:lnTo>
                  <a:pt x="4052" y="3244"/>
                </a:lnTo>
                <a:lnTo>
                  <a:pt x="4118" y="3237"/>
                </a:lnTo>
                <a:close/>
                <a:moveTo>
                  <a:pt x="4165" y="3701"/>
                </a:moveTo>
                <a:lnTo>
                  <a:pt x="4194" y="3966"/>
                </a:lnTo>
                <a:lnTo>
                  <a:pt x="4128" y="3974"/>
                </a:lnTo>
                <a:lnTo>
                  <a:pt x="4099" y="3709"/>
                </a:lnTo>
                <a:lnTo>
                  <a:pt x="4165" y="3701"/>
                </a:lnTo>
                <a:close/>
                <a:moveTo>
                  <a:pt x="4203" y="4169"/>
                </a:moveTo>
                <a:lnTo>
                  <a:pt x="4213" y="4435"/>
                </a:lnTo>
                <a:lnTo>
                  <a:pt x="4147" y="4438"/>
                </a:lnTo>
                <a:lnTo>
                  <a:pt x="4136" y="4171"/>
                </a:lnTo>
                <a:lnTo>
                  <a:pt x="4203" y="4169"/>
                </a:lnTo>
                <a:close/>
                <a:moveTo>
                  <a:pt x="4246" y="4627"/>
                </a:moveTo>
                <a:lnTo>
                  <a:pt x="4269" y="4751"/>
                </a:lnTo>
                <a:lnTo>
                  <a:pt x="4237" y="4724"/>
                </a:lnTo>
                <a:lnTo>
                  <a:pt x="4283" y="4724"/>
                </a:lnTo>
                <a:lnTo>
                  <a:pt x="4250" y="4753"/>
                </a:lnTo>
                <a:lnTo>
                  <a:pt x="4262" y="4659"/>
                </a:lnTo>
                <a:lnTo>
                  <a:pt x="4328" y="4667"/>
                </a:lnTo>
                <a:lnTo>
                  <a:pt x="4316" y="4761"/>
                </a:lnTo>
                <a:cubicBezTo>
                  <a:pt x="4314" y="4778"/>
                  <a:pt x="4300" y="4790"/>
                  <a:pt x="4283" y="4790"/>
                </a:cubicBezTo>
                <a:lnTo>
                  <a:pt x="4237" y="4790"/>
                </a:lnTo>
                <a:cubicBezTo>
                  <a:pt x="4221" y="4790"/>
                  <a:pt x="4207" y="4779"/>
                  <a:pt x="4204" y="4763"/>
                </a:cubicBezTo>
                <a:lnTo>
                  <a:pt x="4180" y="4639"/>
                </a:lnTo>
                <a:lnTo>
                  <a:pt x="4246" y="4627"/>
                </a:lnTo>
                <a:close/>
                <a:moveTo>
                  <a:pt x="4287" y="4461"/>
                </a:moveTo>
                <a:lnTo>
                  <a:pt x="4296" y="4385"/>
                </a:lnTo>
                <a:lnTo>
                  <a:pt x="4308" y="4197"/>
                </a:lnTo>
                <a:lnTo>
                  <a:pt x="4375" y="4201"/>
                </a:lnTo>
                <a:lnTo>
                  <a:pt x="4362" y="4394"/>
                </a:lnTo>
                <a:lnTo>
                  <a:pt x="4353" y="4469"/>
                </a:lnTo>
                <a:lnTo>
                  <a:pt x="4287" y="4461"/>
                </a:lnTo>
                <a:close/>
                <a:moveTo>
                  <a:pt x="4321" y="3997"/>
                </a:moveTo>
                <a:lnTo>
                  <a:pt x="4338" y="3731"/>
                </a:lnTo>
                <a:lnTo>
                  <a:pt x="4404" y="3736"/>
                </a:lnTo>
                <a:lnTo>
                  <a:pt x="4387" y="4002"/>
                </a:lnTo>
                <a:lnTo>
                  <a:pt x="4321" y="3997"/>
                </a:lnTo>
                <a:close/>
                <a:moveTo>
                  <a:pt x="4350" y="3532"/>
                </a:moveTo>
                <a:lnTo>
                  <a:pt x="4365" y="3266"/>
                </a:lnTo>
                <a:lnTo>
                  <a:pt x="4432" y="3269"/>
                </a:lnTo>
                <a:lnTo>
                  <a:pt x="4416" y="3536"/>
                </a:lnTo>
                <a:lnTo>
                  <a:pt x="4350" y="3532"/>
                </a:lnTo>
                <a:close/>
                <a:moveTo>
                  <a:pt x="4377" y="3066"/>
                </a:moveTo>
                <a:lnTo>
                  <a:pt x="4392" y="2800"/>
                </a:lnTo>
                <a:lnTo>
                  <a:pt x="4459" y="2804"/>
                </a:lnTo>
                <a:lnTo>
                  <a:pt x="4443" y="3070"/>
                </a:lnTo>
                <a:lnTo>
                  <a:pt x="4377" y="3066"/>
                </a:lnTo>
                <a:close/>
                <a:moveTo>
                  <a:pt x="4400" y="2601"/>
                </a:moveTo>
                <a:lnTo>
                  <a:pt x="4404" y="2335"/>
                </a:lnTo>
                <a:lnTo>
                  <a:pt x="4471" y="2336"/>
                </a:lnTo>
                <a:lnTo>
                  <a:pt x="4466" y="2602"/>
                </a:lnTo>
                <a:lnTo>
                  <a:pt x="4400" y="2601"/>
                </a:lnTo>
                <a:close/>
                <a:moveTo>
                  <a:pt x="4408" y="2135"/>
                </a:moveTo>
                <a:lnTo>
                  <a:pt x="4412" y="1868"/>
                </a:lnTo>
                <a:lnTo>
                  <a:pt x="4479" y="1869"/>
                </a:lnTo>
                <a:lnTo>
                  <a:pt x="4474" y="2136"/>
                </a:lnTo>
                <a:lnTo>
                  <a:pt x="4408" y="2135"/>
                </a:lnTo>
                <a:close/>
                <a:moveTo>
                  <a:pt x="4416" y="1668"/>
                </a:moveTo>
                <a:lnTo>
                  <a:pt x="4416" y="1634"/>
                </a:lnTo>
                <a:lnTo>
                  <a:pt x="4430" y="1400"/>
                </a:lnTo>
                <a:lnTo>
                  <a:pt x="4497" y="1404"/>
                </a:lnTo>
                <a:lnTo>
                  <a:pt x="4483" y="1635"/>
                </a:lnTo>
                <a:lnTo>
                  <a:pt x="4483" y="1669"/>
                </a:lnTo>
                <a:lnTo>
                  <a:pt x="4416" y="1668"/>
                </a:lnTo>
                <a:close/>
                <a:moveTo>
                  <a:pt x="4442" y="1201"/>
                </a:moveTo>
                <a:lnTo>
                  <a:pt x="4458" y="935"/>
                </a:lnTo>
                <a:lnTo>
                  <a:pt x="4525" y="939"/>
                </a:lnTo>
                <a:lnTo>
                  <a:pt x="4509" y="1205"/>
                </a:lnTo>
                <a:lnTo>
                  <a:pt x="4442" y="1201"/>
                </a:lnTo>
                <a:close/>
                <a:moveTo>
                  <a:pt x="4470" y="735"/>
                </a:moveTo>
                <a:lnTo>
                  <a:pt x="4472" y="705"/>
                </a:lnTo>
                <a:lnTo>
                  <a:pt x="4490" y="468"/>
                </a:lnTo>
                <a:lnTo>
                  <a:pt x="4557" y="474"/>
                </a:lnTo>
                <a:lnTo>
                  <a:pt x="4539" y="709"/>
                </a:lnTo>
                <a:lnTo>
                  <a:pt x="4537" y="739"/>
                </a:lnTo>
                <a:lnTo>
                  <a:pt x="4470" y="735"/>
                </a:lnTo>
                <a:close/>
                <a:moveTo>
                  <a:pt x="4505" y="269"/>
                </a:moveTo>
                <a:lnTo>
                  <a:pt x="4518" y="99"/>
                </a:lnTo>
                <a:cubicBezTo>
                  <a:pt x="4519" y="96"/>
                  <a:pt x="4519" y="93"/>
                  <a:pt x="4520" y="91"/>
                </a:cubicBezTo>
                <a:lnTo>
                  <a:pt x="4551" y="0"/>
                </a:lnTo>
                <a:lnTo>
                  <a:pt x="4614" y="21"/>
                </a:lnTo>
                <a:lnTo>
                  <a:pt x="4583" y="112"/>
                </a:lnTo>
                <a:lnTo>
                  <a:pt x="4585" y="104"/>
                </a:lnTo>
                <a:lnTo>
                  <a:pt x="4572" y="274"/>
                </a:lnTo>
                <a:lnTo>
                  <a:pt x="4505" y="269"/>
                </a:lnTo>
                <a:close/>
                <a:moveTo>
                  <a:pt x="4651" y="108"/>
                </a:moveTo>
                <a:lnTo>
                  <a:pt x="4677" y="299"/>
                </a:lnTo>
                <a:lnTo>
                  <a:pt x="4680" y="376"/>
                </a:lnTo>
                <a:lnTo>
                  <a:pt x="4614" y="379"/>
                </a:lnTo>
                <a:lnTo>
                  <a:pt x="4611" y="308"/>
                </a:lnTo>
                <a:lnTo>
                  <a:pt x="4585" y="117"/>
                </a:lnTo>
                <a:lnTo>
                  <a:pt x="4651" y="108"/>
                </a:lnTo>
                <a:close/>
                <a:moveTo>
                  <a:pt x="4688" y="576"/>
                </a:moveTo>
                <a:lnTo>
                  <a:pt x="4698" y="842"/>
                </a:lnTo>
                <a:lnTo>
                  <a:pt x="4631" y="845"/>
                </a:lnTo>
                <a:lnTo>
                  <a:pt x="4621" y="578"/>
                </a:lnTo>
                <a:lnTo>
                  <a:pt x="4688" y="576"/>
                </a:lnTo>
                <a:close/>
                <a:moveTo>
                  <a:pt x="4705" y="1042"/>
                </a:moveTo>
                <a:lnTo>
                  <a:pt x="4705" y="1046"/>
                </a:lnTo>
                <a:lnTo>
                  <a:pt x="4718" y="1308"/>
                </a:lnTo>
                <a:lnTo>
                  <a:pt x="4651" y="1312"/>
                </a:lnTo>
                <a:lnTo>
                  <a:pt x="4639" y="1048"/>
                </a:lnTo>
                <a:lnTo>
                  <a:pt x="4639" y="1045"/>
                </a:lnTo>
                <a:lnTo>
                  <a:pt x="4705" y="1042"/>
                </a:lnTo>
                <a:close/>
                <a:moveTo>
                  <a:pt x="4727" y="1508"/>
                </a:moveTo>
                <a:lnTo>
                  <a:pt x="4739" y="1775"/>
                </a:lnTo>
                <a:lnTo>
                  <a:pt x="4673" y="1778"/>
                </a:lnTo>
                <a:lnTo>
                  <a:pt x="4660" y="1511"/>
                </a:lnTo>
                <a:lnTo>
                  <a:pt x="4727" y="1508"/>
                </a:lnTo>
                <a:close/>
                <a:moveTo>
                  <a:pt x="4748" y="1974"/>
                </a:moveTo>
                <a:lnTo>
                  <a:pt x="4752" y="2046"/>
                </a:lnTo>
                <a:lnTo>
                  <a:pt x="4762" y="2240"/>
                </a:lnTo>
                <a:lnTo>
                  <a:pt x="4696" y="2244"/>
                </a:lnTo>
                <a:lnTo>
                  <a:pt x="4685" y="2050"/>
                </a:lnTo>
                <a:lnTo>
                  <a:pt x="4682" y="1977"/>
                </a:lnTo>
                <a:lnTo>
                  <a:pt x="4748" y="1974"/>
                </a:lnTo>
                <a:close/>
                <a:moveTo>
                  <a:pt x="4773" y="2440"/>
                </a:moveTo>
                <a:lnTo>
                  <a:pt x="4788" y="2706"/>
                </a:lnTo>
                <a:lnTo>
                  <a:pt x="4722" y="2710"/>
                </a:lnTo>
                <a:lnTo>
                  <a:pt x="4707" y="2444"/>
                </a:lnTo>
                <a:lnTo>
                  <a:pt x="4773" y="2440"/>
                </a:lnTo>
                <a:close/>
                <a:moveTo>
                  <a:pt x="4799" y="2906"/>
                </a:moveTo>
                <a:lnTo>
                  <a:pt x="4807" y="3056"/>
                </a:lnTo>
                <a:lnTo>
                  <a:pt x="4814" y="3172"/>
                </a:lnTo>
                <a:lnTo>
                  <a:pt x="4747" y="3176"/>
                </a:lnTo>
                <a:lnTo>
                  <a:pt x="4741" y="3060"/>
                </a:lnTo>
                <a:lnTo>
                  <a:pt x="4733" y="2910"/>
                </a:lnTo>
                <a:lnTo>
                  <a:pt x="4799" y="2906"/>
                </a:lnTo>
                <a:close/>
                <a:moveTo>
                  <a:pt x="4825" y="3372"/>
                </a:moveTo>
                <a:lnTo>
                  <a:pt x="4839" y="3638"/>
                </a:lnTo>
                <a:lnTo>
                  <a:pt x="4772" y="3642"/>
                </a:lnTo>
                <a:lnTo>
                  <a:pt x="4758" y="3376"/>
                </a:lnTo>
                <a:lnTo>
                  <a:pt x="4825" y="3372"/>
                </a:lnTo>
                <a:close/>
                <a:moveTo>
                  <a:pt x="4850" y="3838"/>
                </a:moveTo>
                <a:lnTo>
                  <a:pt x="4854" y="3910"/>
                </a:lnTo>
                <a:lnTo>
                  <a:pt x="4870" y="4103"/>
                </a:lnTo>
                <a:lnTo>
                  <a:pt x="4804" y="4109"/>
                </a:lnTo>
                <a:lnTo>
                  <a:pt x="4787" y="3914"/>
                </a:lnTo>
                <a:lnTo>
                  <a:pt x="4783" y="3842"/>
                </a:lnTo>
                <a:lnTo>
                  <a:pt x="4850" y="3838"/>
                </a:lnTo>
                <a:close/>
                <a:moveTo>
                  <a:pt x="4887" y="4302"/>
                </a:moveTo>
                <a:lnTo>
                  <a:pt x="4900" y="4460"/>
                </a:lnTo>
                <a:lnTo>
                  <a:pt x="4912" y="4567"/>
                </a:lnTo>
                <a:lnTo>
                  <a:pt x="4846" y="4574"/>
                </a:lnTo>
                <a:lnTo>
                  <a:pt x="4834" y="4466"/>
                </a:lnTo>
                <a:lnTo>
                  <a:pt x="4820" y="4308"/>
                </a:lnTo>
                <a:lnTo>
                  <a:pt x="4887" y="4302"/>
                </a:lnTo>
                <a:close/>
                <a:moveTo>
                  <a:pt x="4913" y="4646"/>
                </a:moveTo>
                <a:lnTo>
                  <a:pt x="4917" y="4641"/>
                </a:lnTo>
                <a:lnTo>
                  <a:pt x="4908" y="4658"/>
                </a:lnTo>
                <a:lnTo>
                  <a:pt x="4955" y="4456"/>
                </a:lnTo>
                <a:lnTo>
                  <a:pt x="4967" y="4404"/>
                </a:lnTo>
                <a:lnTo>
                  <a:pt x="5032" y="4419"/>
                </a:lnTo>
                <a:lnTo>
                  <a:pt x="5020" y="4471"/>
                </a:lnTo>
                <a:lnTo>
                  <a:pt x="4973" y="4673"/>
                </a:lnTo>
                <a:cubicBezTo>
                  <a:pt x="4972" y="4679"/>
                  <a:pt x="4969" y="4684"/>
                  <a:pt x="4964" y="4689"/>
                </a:cubicBezTo>
                <a:lnTo>
                  <a:pt x="4960" y="4694"/>
                </a:lnTo>
                <a:lnTo>
                  <a:pt x="4913" y="4646"/>
                </a:lnTo>
                <a:close/>
                <a:moveTo>
                  <a:pt x="5012" y="4209"/>
                </a:moveTo>
                <a:lnTo>
                  <a:pt x="5057" y="4024"/>
                </a:lnTo>
                <a:cubicBezTo>
                  <a:pt x="5058" y="4020"/>
                  <a:pt x="5059" y="4017"/>
                  <a:pt x="5061" y="4014"/>
                </a:cubicBezTo>
                <a:lnTo>
                  <a:pt x="5101" y="3950"/>
                </a:lnTo>
                <a:lnTo>
                  <a:pt x="5158" y="3985"/>
                </a:lnTo>
                <a:lnTo>
                  <a:pt x="5117" y="4049"/>
                </a:lnTo>
                <a:lnTo>
                  <a:pt x="5122" y="4039"/>
                </a:lnTo>
                <a:lnTo>
                  <a:pt x="5077" y="4225"/>
                </a:lnTo>
                <a:lnTo>
                  <a:pt x="5012" y="4209"/>
                </a:lnTo>
                <a:close/>
                <a:moveTo>
                  <a:pt x="5244" y="4120"/>
                </a:moveTo>
                <a:lnTo>
                  <a:pt x="5288" y="4260"/>
                </a:lnTo>
                <a:lnTo>
                  <a:pt x="5337" y="4365"/>
                </a:lnTo>
                <a:lnTo>
                  <a:pt x="5276" y="4393"/>
                </a:lnTo>
                <a:lnTo>
                  <a:pt x="5224" y="4280"/>
                </a:lnTo>
                <a:lnTo>
                  <a:pt x="5180" y="4140"/>
                </a:lnTo>
                <a:lnTo>
                  <a:pt x="5244" y="4120"/>
                </a:lnTo>
                <a:close/>
                <a:moveTo>
                  <a:pt x="5369" y="4281"/>
                </a:moveTo>
                <a:lnTo>
                  <a:pt x="5400" y="4169"/>
                </a:lnTo>
                <a:lnTo>
                  <a:pt x="5439" y="4024"/>
                </a:lnTo>
                <a:lnTo>
                  <a:pt x="5503" y="4041"/>
                </a:lnTo>
                <a:lnTo>
                  <a:pt x="5464" y="4187"/>
                </a:lnTo>
                <a:lnTo>
                  <a:pt x="5433" y="4299"/>
                </a:lnTo>
                <a:lnTo>
                  <a:pt x="5369" y="4281"/>
                </a:lnTo>
                <a:close/>
                <a:moveTo>
                  <a:pt x="5516" y="3821"/>
                </a:moveTo>
                <a:lnTo>
                  <a:pt x="5559" y="3785"/>
                </a:lnTo>
                <a:cubicBezTo>
                  <a:pt x="5568" y="3778"/>
                  <a:pt x="5581" y="3776"/>
                  <a:pt x="5592" y="3780"/>
                </a:cubicBezTo>
                <a:cubicBezTo>
                  <a:pt x="5603" y="3784"/>
                  <a:pt x="5611" y="3793"/>
                  <a:pt x="5613" y="3805"/>
                </a:cubicBezTo>
                <a:lnTo>
                  <a:pt x="5632" y="3906"/>
                </a:lnTo>
                <a:lnTo>
                  <a:pt x="5654" y="4011"/>
                </a:lnTo>
                <a:lnTo>
                  <a:pt x="5588" y="4025"/>
                </a:lnTo>
                <a:lnTo>
                  <a:pt x="5566" y="3918"/>
                </a:lnTo>
                <a:lnTo>
                  <a:pt x="5548" y="3817"/>
                </a:lnTo>
                <a:lnTo>
                  <a:pt x="5602" y="3837"/>
                </a:lnTo>
                <a:lnTo>
                  <a:pt x="5558" y="3872"/>
                </a:lnTo>
                <a:lnTo>
                  <a:pt x="5516" y="3821"/>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530680" y="4132440"/>
            <a:ext cx="708120" cy="942840"/>
          </a:xfrm>
          <a:custGeom>
            <a:avLst/>
            <a:gdLst/>
            <a:ahLst/>
            <a:rect l="l" t="t" r="r" b="b"/>
            <a:pathLst>
              <a:path w="3269" h="4328">
                <a:moveTo>
                  <a:pt x="67" y="2663"/>
                </a:moveTo>
                <a:lnTo>
                  <a:pt x="96" y="2928"/>
                </a:lnTo>
                <a:lnTo>
                  <a:pt x="30" y="2935"/>
                </a:lnTo>
                <a:lnTo>
                  <a:pt x="0" y="2670"/>
                </a:lnTo>
                <a:lnTo>
                  <a:pt x="67" y="2663"/>
                </a:lnTo>
                <a:close/>
                <a:moveTo>
                  <a:pt x="118" y="3127"/>
                </a:moveTo>
                <a:lnTo>
                  <a:pt x="145" y="3392"/>
                </a:lnTo>
                <a:lnTo>
                  <a:pt x="79" y="3399"/>
                </a:lnTo>
                <a:lnTo>
                  <a:pt x="52" y="3133"/>
                </a:lnTo>
                <a:lnTo>
                  <a:pt x="118" y="3127"/>
                </a:lnTo>
                <a:close/>
                <a:moveTo>
                  <a:pt x="165" y="3591"/>
                </a:moveTo>
                <a:lnTo>
                  <a:pt x="194" y="3856"/>
                </a:lnTo>
                <a:lnTo>
                  <a:pt x="127" y="3863"/>
                </a:lnTo>
                <a:lnTo>
                  <a:pt x="99" y="3598"/>
                </a:lnTo>
                <a:lnTo>
                  <a:pt x="165" y="3591"/>
                </a:lnTo>
                <a:close/>
                <a:moveTo>
                  <a:pt x="223" y="4050"/>
                </a:moveTo>
                <a:lnTo>
                  <a:pt x="261" y="4232"/>
                </a:lnTo>
                <a:lnTo>
                  <a:pt x="278" y="4284"/>
                </a:lnTo>
                <a:lnTo>
                  <a:pt x="214" y="4287"/>
                </a:lnTo>
                <a:lnTo>
                  <a:pt x="219" y="4265"/>
                </a:lnTo>
                <a:lnTo>
                  <a:pt x="284" y="4279"/>
                </a:lnTo>
                <a:lnTo>
                  <a:pt x="280" y="4301"/>
                </a:lnTo>
                <a:cubicBezTo>
                  <a:pt x="276" y="4316"/>
                  <a:pt x="264" y="4327"/>
                  <a:pt x="249" y="4327"/>
                </a:cubicBezTo>
                <a:cubicBezTo>
                  <a:pt x="234" y="4328"/>
                  <a:pt x="220" y="4319"/>
                  <a:pt x="215" y="4305"/>
                </a:cubicBezTo>
                <a:lnTo>
                  <a:pt x="196" y="4246"/>
                </a:lnTo>
                <a:lnTo>
                  <a:pt x="158" y="4064"/>
                </a:lnTo>
                <a:lnTo>
                  <a:pt x="223" y="4050"/>
                </a:lnTo>
                <a:close/>
                <a:moveTo>
                  <a:pt x="260" y="4069"/>
                </a:moveTo>
                <a:lnTo>
                  <a:pt x="270" y="4021"/>
                </a:lnTo>
                <a:lnTo>
                  <a:pt x="288" y="3809"/>
                </a:lnTo>
                <a:lnTo>
                  <a:pt x="354" y="3814"/>
                </a:lnTo>
                <a:lnTo>
                  <a:pt x="335" y="4034"/>
                </a:lnTo>
                <a:lnTo>
                  <a:pt x="325" y="4083"/>
                </a:lnTo>
                <a:lnTo>
                  <a:pt x="260" y="4069"/>
                </a:lnTo>
                <a:close/>
                <a:moveTo>
                  <a:pt x="305" y="3609"/>
                </a:moveTo>
                <a:lnTo>
                  <a:pt x="316" y="3482"/>
                </a:lnTo>
                <a:lnTo>
                  <a:pt x="326" y="3344"/>
                </a:lnTo>
                <a:lnTo>
                  <a:pt x="392" y="3349"/>
                </a:lnTo>
                <a:lnTo>
                  <a:pt x="382" y="3488"/>
                </a:lnTo>
                <a:lnTo>
                  <a:pt x="371" y="3615"/>
                </a:lnTo>
                <a:lnTo>
                  <a:pt x="305" y="3609"/>
                </a:lnTo>
                <a:close/>
                <a:moveTo>
                  <a:pt x="340" y="3144"/>
                </a:moveTo>
                <a:lnTo>
                  <a:pt x="359" y="2878"/>
                </a:lnTo>
                <a:lnTo>
                  <a:pt x="425" y="2883"/>
                </a:lnTo>
                <a:lnTo>
                  <a:pt x="406" y="3149"/>
                </a:lnTo>
                <a:lnTo>
                  <a:pt x="340" y="3144"/>
                </a:lnTo>
                <a:close/>
                <a:moveTo>
                  <a:pt x="372" y="2679"/>
                </a:moveTo>
                <a:lnTo>
                  <a:pt x="391" y="2413"/>
                </a:lnTo>
                <a:lnTo>
                  <a:pt x="457" y="2417"/>
                </a:lnTo>
                <a:lnTo>
                  <a:pt x="439" y="2683"/>
                </a:lnTo>
                <a:lnTo>
                  <a:pt x="372" y="2679"/>
                </a:lnTo>
                <a:close/>
                <a:moveTo>
                  <a:pt x="404" y="2213"/>
                </a:moveTo>
                <a:lnTo>
                  <a:pt x="409" y="2149"/>
                </a:lnTo>
                <a:lnTo>
                  <a:pt x="420" y="1947"/>
                </a:lnTo>
                <a:lnTo>
                  <a:pt x="487" y="1951"/>
                </a:lnTo>
                <a:lnTo>
                  <a:pt x="475" y="2154"/>
                </a:lnTo>
                <a:lnTo>
                  <a:pt x="471" y="2218"/>
                </a:lnTo>
                <a:lnTo>
                  <a:pt x="404" y="2213"/>
                </a:lnTo>
                <a:close/>
                <a:moveTo>
                  <a:pt x="432" y="1748"/>
                </a:moveTo>
                <a:lnTo>
                  <a:pt x="436" y="1671"/>
                </a:lnTo>
                <a:lnTo>
                  <a:pt x="472" y="1480"/>
                </a:lnTo>
                <a:lnTo>
                  <a:pt x="537" y="1493"/>
                </a:lnTo>
                <a:lnTo>
                  <a:pt x="503" y="1675"/>
                </a:lnTo>
                <a:lnTo>
                  <a:pt x="498" y="1752"/>
                </a:lnTo>
                <a:lnTo>
                  <a:pt x="432" y="1748"/>
                </a:lnTo>
                <a:close/>
                <a:moveTo>
                  <a:pt x="611" y="1538"/>
                </a:moveTo>
                <a:lnTo>
                  <a:pt x="650" y="1802"/>
                </a:lnTo>
                <a:lnTo>
                  <a:pt x="584" y="1812"/>
                </a:lnTo>
                <a:lnTo>
                  <a:pt x="545" y="1548"/>
                </a:lnTo>
                <a:lnTo>
                  <a:pt x="611" y="1538"/>
                </a:lnTo>
                <a:close/>
                <a:moveTo>
                  <a:pt x="672" y="2002"/>
                </a:moveTo>
                <a:lnTo>
                  <a:pt x="698" y="2249"/>
                </a:lnTo>
                <a:lnTo>
                  <a:pt x="699" y="2268"/>
                </a:lnTo>
                <a:lnTo>
                  <a:pt x="633" y="2273"/>
                </a:lnTo>
                <a:lnTo>
                  <a:pt x="631" y="2256"/>
                </a:lnTo>
                <a:lnTo>
                  <a:pt x="605" y="2009"/>
                </a:lnTo>
                <a:lnTo>
                  <a:pt x="672" y="2002"/>
                </a:lnTo>
                <a:close/>
                <a:moveTo>
                  <a:pt x="715" y="2468"/>
                </a:moveTo>
                <a:lnTo>
                  <a:pt x="726" y="2609"/>
                </a:lnTo>
                <a:lnTo>
                  <a:pt x="725" y="2603"/>
                </a:lnTo>
                <a:lnTo>
                  <a:pt x="757" y="2724"/>
                </a:lnTo>
                <a:lnTo>
                  <a:pt x="692" y="2741"/>
                </a:lnTo>
                <a:lnTo>
                  <a:pt x="660" y="2620"/>
                </a:lnTo>
                <a:cubicBezTo>
                  <a:pt x="660" y="2618"/>
                  <a:pt x="659" y="2616"/>
                  <a:pt x="659" y="2614"/>
                </a:cubicBezTo>
                <a:lnTo>
                  <a:pt x="648" y="2473"/>
                </a:lnTo>
                <a:lnTo>
                  <a:pt x="715" y="2468"/>
                </a:lnTo>
                <a:close/>
                <a:moveTo>
                  <a:pt x="750" y="2638"/>
                </a:moveTo>
                <a:lnTo>
                  <a:pt x="753" y="2629"/>
                </a:lnTo>
                <a:lnTo>
                  <a:pt x="752" y="2634"/>
                </a:lnTo>
                <a:lnTo>
                  <a:pt x="785" y="2380"/>
                </a:lnTo>
                <a:lnTo>
                  <a:pt x="851" y="2388"/>
                </a:lnTo>
                <a:lnTo>
                  <a:pt x="818" y="2643"/>
                </a:lnTo>
                <a:cubicBezTo>
                  <a:pt x="818" y="2645"/>
                  <a:pt x="818" y="2647"/>
                  <a:pt x="817" y="2649"/>
                </a:cubicBezTo>
                <a:lnTo>
                  <a:pt x="814" y="2658"/>
                </a:lnTo>
                <a:lnTo>
                  <a:pt x="750" y="2638"/>
                </a:lnTo>
                <a:close/>
                <a:moveTo>
                  <a:pt x="809" y="2183"/>
                </a:moveTo>
                <a:lnTo>
                  <a:pt x="829" y="1917"/>
                </a:lnTo>
                <a:lnTo>
                  <a:pt x="895" y="1922"/>
                </a:lnTo>
                <a:lnTo>
                  <a:pt x="876" y="2188"/>
                </a:lnTo>
                <a:lnTo>
                  <a:pt x="809" y="2183"/>
                </a:lnTo>
                <a:close/>
                <a:moveTo>
                  <a:pt x="843" y="1718"/>
                </a:moveTo>
                <a:lnTo>
                  <a:pt x="854" y="1570"/>
                </a:lnTo>
                <a:lnTo>
                  <a:pt x="862" y="1452"/>
                </a:lnTo>
                <a:lnTo>
                  <a:pt x="928" y="1456"/>
                </a:lnTo>
                <a:lnTo>
                  <a:pt x="920" y="1574"/>
                </a:lnTo>
                <a:lnTo>
                  <a:pt x="910" y="1723"/>
                </a:lnTo>
                <a:lnTo>
                  <a:pt x="843" y="1718"/>
                </a:lnTo>
                <a:close/>
                <a:moveTo>
                  <a:pt x="876" y="1252"/>
                </a:moveTo>
                <a:lnTo>
                  <a:pt x="894" y="986"/>
                </a:lnTo>
                <a:lnTo>
                  <a:pt x="960" y="991"/>
                </a:lnTo>
                <a:lnTo>
                  <a:pt x="942" y="1257"/>
                </a:lnTo>
                <a:lnTo>
                  <a:pt x="876" y="1252"/>
                </a:lnTo>
                <a:close/>
                <a:moveTo>
                  <a:pt x="905" y="787"/>
                </a:moveTo>
                <a:lnTo>
                  <a:pt x="919" y="521"/>
                </a:lnTo>
                <a:lnTo>
                  <a:pt x="985" y="524"/>
                </a:lnTo>
                <a:lnTo>
                  <a:pt x="972" y="791"/>
                </a:lnTo>
                <a:lnTo>
                  <a:pt x="905" y="787"/>
                </a:lnTo>
                <a:close/>
                <a:moveTo>
                  <a:pt x="929" y="318"/>
                </a:moveTo>
                <a:lnTo>
                  <a:pt x="965" y="54"/>
                </a:lnTo>
                <a:lnTo>
                  <a:pt x="1032" y="63"/>
                </a:lnTo>
                <a:lnTo>
                  <a:pt x="996" y="327"/>
                </a:lnTo>
                <a:lnTo>
                  <a:pt x="929" y="318"/>
                </a:lnTo>
                <a:close/>
                <a:moveTo>
                  <a:pt x="1103" y="0"/>
                </a:moveTo>
                <a:lnTo>
                  <a:pt x="1142" y="157"/>
                </a:lnTo>
                <a:lnTo>
                  <a:pt x="1156" y="264"/>
                </a:lnTo>
                <a:lnTo>
                  <a:pt x="1090" y="273"/>
                </a:lnTo>
                <a:lnTo>
                  <a:pt x="1078" y="173"/>
                </a:lnTo>
                <a:lnTo>
                  <a:pt x="1038" y="16"/>
                </a:lnTo>
                <a:lnTo>
                  <a:pt x="1103" y="0"/>
                </a:lnTo>
                <a:close/>
                <a:moveTo>
                  <a:pt x="1181" y="463"/>
                </a:moveTo>
                <a:lnTo>
                  <a:pt x="1189" y="529"/>
                </a:lnTo>
                <a:lnTo>
                  <a:pt x="1203" y="730"/>
                </a:lnTo>
                <a:lnTo>
                  <a:pt x="1137" y="735"/>
                </a:lnTo>
                <a:lnTo>
                  <a:pt x="1123" y="537"/>
                </a:lnTo>
                <a:lnTo>
                  <a:pt x="1115" y="471"/>
                </a:lnTo>
                <a:lnTo>
                  <a:pt x="1181" y="463"/>
                </a:lnTo>
                <a:close/>
                <a:moveTo>
                  <a:pt x="1217" y="930"/>
                </a:moveTo>
                <a:lnTo>
                  <a:pt x="1217" y="935"/>
                </a:lnTo>
                <a:lnTo>
                  <a:pt x="1250" y="1193"/>
                </a:lnTo>
                <a:lnTo>
                  <a:pt x="1184" y="1201"/>
                </a:lnTo>
                <a:lnTo>
                  <a:pt x="1151" y="940"/>
                </a:lnTo>
                <a:lnTo>
                  <a:pt x="1151" y="935"/>
                </a:lnTo>
                <a:lnTo>
                  <a:pt x="1217" y="930"/>
                </a:lnTo>
                <a:close/>
                <a:moveTo>
                  <a:pt x="1279" y="1389"/>
                </a:moveTo>
                <a:lnTo>
                  <a:pt x="1310" y="1566"/>
                </a:lnTo>
                <a:lnTo>
                  <a:pt x="1335" y="1645"/>
                </a:lnTo>
                <a:lnTo>
                  <a:pt x="1271" y="1665"/>
                </a:lnTo>
                <a:lnTo>
                  <a:pt x="1244" y="1578"/>
                </a:lnTo>
                <a:lnTo>
                  <a:pt x="1213" y="1400"/>
                </a:lnTo>
                <a:lnTo>
                  <a:pt x="1279" y="1389"/>
                </a:lnTo>
                <a:close/>
                <a:moveTo>
                  <a:pt x="1425" y="1817"/>
                </a:moveTo>
                <a:lnTo>
                  <a:pt x="1429" y="1826"/>
                </a:lnTo>
                <a:lnTo>
                  <a:pt x="1419" y="1813"/>
                </a:lnTo>
                <a:lnTo>
                  <a:pt x="1475" y="1859"/>
                </a:lnTo>
                <a:cubicBezTo>
                  <a:pt x="1479" y="1863"/>
                  <a:pt x="1482" y="1867"/>
                  <a:pt x="1484" y="1873"/>
                </a:cubicBezTo>
                <a:lnTo>
                  <a:pt x="1531" y="1992"/>
                </a:lnTo>
                <a:lnTo>
                  <a:pt x="1550" y="2046"/>
                </a:lnTo>
                <a:lnTo>
                  <a:pt x="1488" y="2069"/>
                </a:lnTo>
                <a:lnTo>
                  <a:pt x="1469" y="2016"/>
                </a:lnTo>
                <a:lnTo>
                  <a:pt x="1422" y="1897"/>
                </a:lnTo>
                <a:lnTo>
                  <a:pt x="1432" y="1910"/>
                </a:lnTo>
                <a:lnTo>
                  <a:pt x="1376" y="1864"/>
                </a:lnTo>
                <a:cubicBezTo>
                  <a:pt x="1372" y="1861"/>
                  <a:pt x="1369" y="1856"/>
                  <a:pt x="1367" y="1851"/>
                </a:cubicBezTo>
                <a:lnTo>
                  <a:pt x="1363" y="1842"/>
                </a:lnTo>
                <a:lnTo>
                  <a:pt x="1425" y="1817"/>
                </a:lnTo>
                <a:close/>
                <a:moveTo>
                  <a:pt x="1611" y="2239"/>
                </a:moveTo>
                <a:lnTo>
                  <a:pt x="1625" y="2289"/>
                </a:lnTo>
                <a:lnTo>
                  <a:pt x="1623" y="2284"/>
                </a:lnTo>
                <a:lnTo>
                  <a:pt x="1678" y="2404"/>
                </a:lnTo>
                <a:cubicBezTo>
                  <a:pt x="1680" y="2407"/>
                  <a:pt x="1680" y="2409"/>
                  <a:pt x="1681" y="2412"/>
                </a:cubicBezTo>
                <a:lnTo>
                  <a:pt x="1696" y="2493"/>
                </a:lnTo>
                <a:lnTo>
                  <a:pt x="1630" y="2505"/>
                </a:lnTo>
                <a:lnTo>
                  <a:pt x="1615" y="2424"/>
                </a:lnTo>
                <a:lnTo>
                  <a:pt x="1618" y="2432"/>
                </a:lnTo>
                <a:lnTo>
                  <a:pt x="1562" y="2313"/>
                </a:lnTo>
                <a:cubicBezTo>
                  <a:pt x="1561" y="2311"/>
                  <a:pt x="1561" y="2309"/>
                  <a:pt x="1560" y="2307"/>
                </a:cubicBezTo>
                <a:lnTo>
                  <a:pt x="1546" y="2257"/>
                </a:lnTo>
                <a:lnTo>
                  <a:pt x="1611" y="2239"/>
                </a:lnTo>
                <a:close/>
                <a:moveTo>
                  <a:pt x="1791" y="2451"/>
                </a:moveTo>
                <a:lnTo>
                  <a:pt x="1792" y="2450"/>
                </a:lnTo>
                <a:lnTo>
                  <a:pt x="1847" y="2394"/>
                </a:lnTo>
                <a:lnTo>
                  <a:pt x="1840" y="2406"/>
                </a:lnTo>
                <a:lnTo>
                  <a:pt x="1859" y="2360"/>
                </a:lnTo>
                <a:cubicBezTo>
                  <a:pt x="1860" y="2355"/>
                  <a:pt x="1863" y="2352"/>
                  <a:pt x="1866" y="2348"/>
                </a:cubicBezTo>
                <a:lnTo>
                  <a:pt x="1912" y="2302"/>
                </a:lnTo>
                <a:cubicBezTo>
                  <a:pt x="1915" y="2300"/>
                  <a:pt x="1918" y="2298"/>
                  <a:pt x="1921" y="2296"/>
                </a:cubicBezTo>
                <a:lnTo>
                  <a:pt x="1977" y="2269"/>
                </a:lnTo>
                <a:lnTo>
                  <a:pt x="1988" y="2264"/>
                </a:lnTo>
                <a:lnTo>
                  <a:pt x="2013" y="2326"/>
                </a:lnTo>
                <a:lnTo>
                  <a:pt x="2006" y="2328"/>
                </a:lnTo>
                <a:lnTo>
                  <a:pt x="1951" y="2356"/>
                </a:lnTo>
                <a:lnTo>
                  <a:pt x="1959" y="2350"/>
                </a:lnTo>
                <a:lnTo>
                  <a:pt x="1913" y="2396"/>
                </a:lnTo>
                <a:lnTo>
                  <a:pt x="1920" y="2385"/>
                </a:lnTo>
                <a:lnTo>
                  <a:pt x="1902" y="2431"/>
                </a:lnTo>
                <a:cubicBezTo>
                  <a:pt x="1900" y="2435"/>
                  <a:pt x="1898" y="2439"/>
                  <a:pt x="1894" y="2442"/>
                </a:cubicBezTo>
                <a:lnTo>
                  <a:pt x="1839" y="2497"/>
                </a:lnTo>
                <a:lnTo>
                  <a:pt x="1838" y="2498"/>
                </a:lnTo>
                <a:lnTo>
                  <a:pt x="1791" y="2451"/>
                </a:lnTo>
                <a:close/>
                <a:moveTo>
                  <a:pt x="2175" y="2173"/>
                </a:moveTo>
                <a:lnTo>
                  <a:pt x="2205" y="2173"/>
                </a:lnTo>
                <a:lnTo>
                  <a:pt x="2261" y="2173"/>
                </a:lnTo>
                <a:cubicBezTo>
                  <a:pt x="2265" y="2173"/>
                  <a:pt x="2269" y="2174"/>
                  <a:pt x="2273" y="2176"/>
                </a:cubicBezTo>
                <a:lnTo>
                  <a:pt x="2319" y="2194"/>
                </a:lnTo>
                <a:cubicBezTo>
                  <a:pt x="2321" y="2195"/>
                  <a:pt x="2323" y="2195"/>
                  <a:pt x="2324" y="2196"/>
                </a:cubicBezTo>
                <a:lnTo>
                  <a:pt x="2370" y="2224"/>
                </a:lnTo>
                <a:cubicBezTo>
                  <a:pt x="2373" y="2225"/>
                  <a:pt x="2375" y="2227"/>
                  <a:pt x="2377" y="2229"/>
                </a:cubicBezTo>
                <a:lnTo>
                  <a:pt x="2405" y="2256"/>
                </a:lnTo>
                <a:lnTo>
                  <a:pt x="2381" y="2247"/>
                </a:lnTo>
                <a:lnTo>
                  <a:pt x="2419" y="2247"/>
                </a:lnTo>
                <a:lnTo>
                  <a:pt x="2419" y="2313"/>
                </a:lnTo>
                <a:lnTo>
                  <a:pt x="2381" y="2313"/>
                </a:lnTo>
                <a:cubicBezTo>
                  <a:pt x="2372" y="2313"/>
                  <a:pt x="2364" y="2310"/>
                  <a:pt x="2358" y="2304"/>
                </a:cubicBezTo>
                <a:lnTo>
                  <a:pt x="2330" y="2276"/>
                </a:lnTo>
                <a:lnTo>
                  <a:pt x="2336" y="2281"/>
                </a:lnTo>
                <a:lnTo>
                  <a:pt x="2290" y="2254"/>
                </a:lnTo>
                <a:lnTo>
                  <a:pt x="2295" y="2256"/>
                </a:lnTo>
                <a:lnTo>
                  <a:pt x="2248" y="2237"/>
                </a:lnTo>
                <a:lnTo>
                  <a:pt x="2261" y="2240"/>
                </a:lnTo>
                <a:lnTo>
                  <a:pt x="2205" y="2240"/>
                </a:lnTo>
                <a:lnTo>
                  <a:pt x="2175" y="2240"/>
                </a:lnTo>
                <a:lnTo>
                  <a:pt x="2175" y="2173"/>
                </a:lnTo>
                <a:close/>
                <a:moveTo>
                  <a:pt x="2526" y="2123"/>
                </a:moveTo>
                <a:lnTo>
                  <a:pt x="2548" y="2088"/>
                </a:lnTo>
                <a:lnTo>
                  <a:pt x="2545" y="2094"/>
                </a:lnTo>
                <a:lnTo>
                  <a:pt x="2573" y="2020"/>
                </a:lnTo>
                <a:lnTo>
                  <a:pt x="2621" y="1925"/>
                </a:lnTo>
                <a:cubicBezTo>
                  <a:pt x="2623" y="1919"/>
                  <a:pt x="2628" y="1914"/>
                  <a:pt x="2633" y="1911"/>
                </a:cubicBezTo>
                <a:lnTo>
                  <a:pt x="2671" y="1889"/>
                </a:lnTo>
                <a:lnTo>
                  <a:pt x="2705" y="1946"/>
                </a:lnTo>
                <a:lnTo>
                  <a:pt x="2667" y="1968"/>
                </a:lnTo>
                <a:lnTo>
                  <a:pt x="2680" y="1955"/>
                </a:lnTo>
                <a:lnTo>
                  <a:pt x="2635" y="2044"/>
                </a:lnTo>
                <a:lnTo>
                  <a:pt x="2607" y="2117"/>
                </a:lnTo>
                <a:cubicBezTo>
                  <a:pt x="2607" y="2119"/>
                  <a:pt x="2606" y="2121"/>
                  <a:pt x="2604" y="2123"/>
                </a:cubicBezTo>
                <a:lnTo>
                  <a:pt x="2582" y="2158"/>
                </a:lnTo>
                <a:lnTo>
                  <a:pt x="2526" y="2123"/>
                </a:lnTo>
                <a:close/>
                <a:moveTo>
                  <a:pt x="2847" y="1986"/>
                </a:moveTo>
                <a:lnTo>
                  <a:pt x="2849" y="1995"/>
                </a:lnTo>
                <a:lnTo>
                  <a:pt x="2844" y="1984"/>
                </a:lnTo>
                <a:lnTo>
                  <a:pt x="2900" y="2058"/>
                </a:lnTo>
                <a:cubicBezTo>
                  <a:pt x="2901" y="2060"/>
                  <a:pt x="2902" y="2062"/>
                  <a:pt x="2903" y="2064"/>
                </a:cubicBezTo>
                <a:lnTo>
                  <a:pt x="2950" y="2165"/>
                </a:lnTo>
                <a:lnTo>
                  <a:pt x="2972" y="2213"/>
                </a:lnTo>
                <a:lnTo>
                  <a:pt x="2911" y="2241"/>
                </a:lnTo>
                <a:lnTo>
                  <a:pt x="2889" y="2193"/>
                </a:lnTo>
                <a:lnTo>
                  <a:pt x="2843" y="2092"/>
                </a:lnTo>
                <a:lnTo>
                  <a:pt x="2846" y="2098"/>
                </a:lnTo>
                <a:lnTo>
                  <a:pt x="2791" y="2024"/>
                </a:lnTo>
                <a:cubicBezTo>
                  <a:pt x="2788" y="2021"/>
                  <a:pt x="2787" y="2017"/>
                  <a:pt x="2785" y="2013"/>
                </a:cubicBezTo>
                <a:lnTo>
                  <a:pt x="2783" y="2004"/>
                </a:lnTo>
                <a:lnTo>
                  <a:pt x="2847" y="1986"/>
                </a:lnTo>
                <a:close/>
                <a:moveTo>
                  <a:pt x="3057" y="2308"/>
                </a:moveTo>
                <a:lnTo>
                  <a:pt x="3063" y="2302"/>
                </a:lnTo>
                <a:lnTo>
                  <a:pt x="3121" y="2254"/>
                </a:lnTo>
                <a:lnTo>
                  <a:pt x="3114" y="2262"/>
                </a:lnTo>
                <a:lnTo>
                  <a:pt x="3160" y="2189"/>
                </a:lnTo>
                <a:lnTo>
                  <a:pt x="3207" y="2115"/>
                </a:lnTo>
                <a:lnTo>
                  <a:pt x="3216" y="2103"/>
                </a:lnTo>
                <a:lnTo>
                  <a:pt x="3269" y="2143"/>
                </a:lnTo>
                <a:lnTo>
                  <a:pt x="3263" y="2151"/>
                </a:lnTo>
                <a:lnTo>
                  <a:pt x="3217" y="2224"/>
                </a:lnTo>
                <a:lnTo>
                  <a:pt x="3170" y="2298"/>
                </a:lnTo>
                <a:cubicBezTo>
                  <a:pt x="3169" y="2301"/>
                  <a:pt x="3166" y="2304"/>
                  <a:pt x="3163" y="2306"/>
                </a:cubicBezTo>
                <a:lnTo>
                  <a:pt x="3110" y="2350"/>
                </a:lnTo>
                <a:lnTo>
                  <a:pt x="3104" y="2355"/>
                </a:lnTo>
                <a:lnTo>
                  <a:pt x="3057" y="2308"/>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141440" y="56102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2732" name=""/>
          <p:cNvSpPr/>
          <p:nvPr/>
        </p:nvSpPr>
        <p:spPr>
          <a:xfrm>
            <a:off x="4493160" y="55944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733" name=""/>
          <p:cNvSpPr/>
          <p:nvPr/>
        </p:nvSpPr>
        <p:spPr>
          <a:xfrm>
            <a:off x="4574520" y="56102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2734" name=""/>
          <p:cNvSpPr/>
          <p:nvPr/>
        </p:nvSpPr>
        <p:spPr>
          <a:xfrm>
            <a:off x="3100320" y="2774880"/>
            <a:ext cx="3148200" cy="24861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108240" y="2739960"/>
            <a:ext cx="31482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6"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7" name=""/>
          <p:cNvSpPr/>
          <p:nvPr/>
        </p:nvSpPr>
        <p:spPr>
          <a:xfrm flipV="1">
            <a:off x="6256440" y="2739960"/>
            <a:ext cx="1440" cy="24861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9" name=""/>
          <p:cNvSpPr/>
          <p:nvPr/>
        </p:nvSpPr>
        <p:spPr>
          <a:xfrm>
            <a:off x="3051000" y="530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40" name=""/>
          <p:cNvSpPr/>
          <p:nvPr/>
        </p:nvSpPr>
        <p:spPr>
          <a:xfrm>
            <a:off x="309960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41" name=""/>
          <p:cNvSpPr/>
          <p:nvPr/>
        </p:nvSpPr>
        <p:spPr>
          <a:xfrm flipV="1">
            <a:off x="388944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2" name=""/>
          <p:cNvSpPr/>
          <p:nvPr/>
        </p:nvSpPr>
        <p:spPr>
          <a:xfrm>
            <a:off x="388944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43" name=""/>
          <p:cNvSpPr/>
          <p:nvPr/>
        </p:nvSpPr>
        <p:spPr>
          <a:xfrm>
            <a:off x="3790800" y="530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44" name=""/>
          <p:cNvSpPr/>
          <p:nvPr/>
        </p:nvSpPr>
        <p:spPr>
          <a:xfrm>
            <a:off x="3838680" y="53053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745" name=""/>
          <p:cNvSpPr/>
          <p:nvPr/>
        </p:nvSpPr>
        <p:spPr>
          <a:xfrm flipV="1">
            <a:off x="467820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6" name=""/>
          <p:cNvSpPr/>
          <p:nvPr/>
        </p:nvSpPr>
        <p:spPr>
          <a:xfrm>
            <a:off x="467820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47" name=""/>
          <p:cNvSpPr/>
          <p:nvPr/>
        </p:nvSpPr>
        <p:spPr>
          <a:xfrm>
            <a:off x="465372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748" name=""/>
          <p:cNvSpPr/>
          <p:nvPr/>
        </p:nvSpPr>
        <p:spPr>
          <a:xfrm flipV="1">
            <a:off x="5467320" y="5192280"/>
            <a:ext cx="32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9" name=""/>
          <p:cNvSpPr/>
          <p:nvPr/>
        </p:nvSpPr>
        <p:spPr>
          <a:xfrm>
            <a:off x="5467320" y="2739960"/>
            <a:ext cx="32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50" name=""/>
          <p:cNvSpPr/>
          <p:nvPr/>
        </p:nvSpPr>
        <p:spPr>
          <a:xfrm>
            <a:off x="5399280" y="53053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751" name=""/>
          <p:cNvSpPr/>
          <p:nvPr/>
        </p:nvSpPr>
        <p:spPr>
          <a:xfrm flipV="1">
            <a:off x="6256440" y="519228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a:off x="6256440" y="2739960"/>
            <a:ext cx="1440" cy="28800"/>
          </a:xfrm>
          <a:prstGeom prst="line">
            <a:avLst/>
          </a:prstGeom>
          <a:ln cap="rnd"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53" name=""/>
          <p:cNvSpPr/>
          <p:nvPr/>
        </p:nvSpPr>
        <p:spPr>
          <a:xfrm>
            <a:off x="6230160" y="5305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54" name=""/>
          <p:cNvSpPr/>
          <p:nvPr/>
        </p:nvSpPr>
        <p:spPr>
          <a:xfrm>
            <a:off x="3108240" y="522612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flipH="1">
            <a:off x="6227640" y="522612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6" name=""/>
          <p:cNvSpPr/>
          <p:nvPr/>
        </p:nvSpPr>
        <p:spPr>
          <a:xfrm>
            <a:off x="2914560" y="51418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57" name=""/>
          <p:cNvSpPr/>
          <p:nvPr/>
        </p:nvSpPr>
        <p:spPr>
          <a:xfrm>
            <a:off x="2963160" y="5141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58" name=""/>
          <p:cNvSpPr/>
          <p:nvPr/>
        </p:nvSpPr>
        <p:spPr>
          <a:xfrm>
            <a:off x="3108240" y="491328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9" name=""/>
          <p:cNvSpPr/>
          <p:nvPr/>
        </p:nvSpPr>
        <p:spPr>
          <a:xfrm flipH="1">
            <a:off x="6227640" y="4913280"/>
            <a:ext cx="288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0" name=""/>
          <p:cNvSpPr/>
          <p:nvPr/>
        </p:nvSpPr>
        <p:spPr>
          <a:xfrm>
            <a:off x="2911320" y="4867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61" name=""/>
          <p:cNvSpPr/>
          <p:nvPr/>
        </p:nvSpPr>
        <p:spPr>
          <a:xfrm>
            <a:off x="2958120" y="4867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62" name=""/>
          <p:cNvSpPr/>
          <p:nvPr/>
        </p:nvSpPr>
        <p:spPr>
          <a:xfrm>
            <a:off x="3108240" y="46004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3" name=""/>
          <p:cNvSpPr/>
          <p:nvPr/>
        </p:nvSpPr>
        <p:spPr>
          <a:xfrm flipH="1">
            <a:off x="6227640" y="460044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4" name=""/>
          <p:cNvSpPr/>
          <p:nvPr/>
        </p:nvSpPr>
        <p:spPr>
          <a:xfrm>
            <a:off x="2939400" y="4556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765" name=""/>
          <p:cNvSpPr/>
          <p:nvPr/>
        </p:nvSpPr>
        <p:spPr>
          <a:xfrm>
            <a:off x="3108240" y="42908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6" name=""/>
          <p:cNvSpPr/>
          <p:nvPr/>
        </p:nvSpPr>
        <p:spPr>
          <a:xfrm flipH="1">
            <a:off x="6227640" y="4290840"/>
            <a:ext cx="288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7" name=""/>
          <p:cNvSpPr/>
          <p:nvPr/>
        </p:nvSpPr>
        <p:spPr>
          <a:xfrm>
            <a:off x="2939400" y="4243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68" name=""/>
          <p:cNvSpPr/>
          <p:nvPr/>
        </p:nvSpPr>
        <p:spPr>
          <a:xfrm>
            <a:off x="3108240" y="398304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flipH="1">
            <a:off x="6227640" y="398304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0" name=""/>
          <p:cNvSpPr/>
          <p:nvPr/>
        </p:nvSpPr>
        <p:spPr>
          <a:xfrm>
            <a:off x="2939400" y="3936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71" name=""/>
          <p:cNvSpPr/>
          <p:nvPr/>
        </p:nvSpPr>
        <p:spPr>
          <a:xfrm>
            <a:off x="3108240" y="3670200"/>
            <a:ext cx="255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2" name=""/>
          <p:cNvSpPr/>
          <p:nvPr/>
        </p:nvSpPr>
        <p:spPr>
          <a:xfrm flipH="1">
            <a:off x="6227640" y="367020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3" name=""/>
          <p:cNvSpPr/>
          <p:nvPr/>
        </p:nvSpPr>
        <p:spPr>
          <a:xfrm>
            <a:off x="2939400" y="36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74" name=""/>
          <p:cNvSpPr/>
          <p:nvPr/>
        </p:nvSpPr>
        <p:spPr>
          <a:xfrm>
            <a:off x="3108240" y="335916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5" name=""/>
          <p:cNvSpPr/>
          <p:nvPr/>
        </p:nvSpPr>
        <p:spPr>
          <a:xfrm flipH="1">
            <a:off x="6227640" y="3359160"/>
            <a:ext cx="288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6" name=""/>
          <p:cNvSpPr/>
          <p:nvPr/>
        </p:nvSpPr>
        <p:spPr>
          <a:xfrm>
            <a:off x="2939400" y="3311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77" name=""/>
          <p:cNvSpPr/>
          <p:nvPr/>
        </p:nvSpPr>
        <p:spPr>
          <a:xfrm>
            <a:off x="3108240" y="304812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78" name=""/>
          <p:cNvSpPr/>
          <p:nvPr/>
        </p:nvSpPr>
        <p:spPr>
          <a:xfrm flipH="1">
            <a:off x="6227640" y="3048120"/>
            <a:ext cx="2880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79" name=""/>
          <p:cNvSpPr/>
          <p:nvPr/>
        </p:nvSpPr>
        <p:spPr>
          <a:xfrm>
            <a:off x="2939400" y="3000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80" name=""/>
          <p:cNvSpPr/>
          <p:nvPr/>
        </p:nvSpPr>
        <p:spPr>
          <a:xfrm>
            <a:off x="3108240" y="2739960"/>
            <a:ext cx="255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1" name=""/>
          <p:cNvSpPr/>
          <p:nvPr/>
        </p:nvSpPr>
        <p:spPr>
          <a:xfrm flipH="1">
            <a:off x="6227640" y="2739960"/>
            <a:ext cx="288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2" name=""/>
          <p:cNvSpPr/>
          <p:nvPr/>
        </p:nvSpPr>
        <p:spPr>
          <a:xfrm>
            <a:off x="2950200" y="271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783" name=""/>
          <p:cNvSpPr/>
          <p:nvPr/>
        </p:nvSpPr>
        <p:spPr>
          <a:xfrm>
            <a:off x="3108240" y="2739960"/>
            <a:ext cx="31482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4" name=""/>
          <p:cNvSpPr/>
          <p:nvPr/>
        </p:nvSpPr>
        <p:spPr>
          <a:xfrm>
            <a:off x="3108240" y="5226120"/>
            <a:ext cx="31482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5" name=""/>
          <p:cNvSpPr/>
          <p:nvPr/>
        </p:nvSpPr>
        <p:spPr>
          <a:xfrm flipV="1">
            <a:off x="3094200" y="2733480"/>
            <a:ext cx="1440" cy="24843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108240" y="2941560"/>
            <a:ext cx="1211400" cy="2262240"/>
          </a:xfrm>
          <a:custGeom>
            <a:avLst/>
            <a:gdLst/>
            <a:ahLst/>
            <a:rect l="l" t="t" r="r" b="b"/>
            <a:pathLst>
              <a:path w="763" h="1425">
                <a:moveTo>
                  <a:pt x="0" y="1045"/>
                </a:moveTo>
                <a:lnTo>
                  <a:pt x="2" y="1045"/>
                </a:lnTo>
                <a:lnTo>
                  <a:pt x="6" y="1045"/>
                </a:lnTo>
                <a:lnTo>
                  <a:pt x="13" y="1045"/>
                </a:lnTo>
                <a:lnTo>
                  <a:pt x="20" y="1045"/>
                </a:lnTo>
                <a:lnTo>
                  <a:pt x="26" y="1045"/>
                </a:lnTo>
                <a:lnTo>
                  <a:pt x="33" y="1045"/>
                </a:lnTo>
                <a:lnTo>
                  <a:pt x="37" y="1045"/>
                </a:lnTo>
                <a:lnTo>
                  <a:pt x="43" y="1045"/>
                </a:lnTo>
                <a:lnTo>
                  <a:pt x="49" y="1045"/>
                </a:lnTo>
                <a:lnTo>
                  <a:pt x="57" y="1045"/>
                </a:lnTo>
                <a:lnTo>
                  <a:pt x="63" y="1045"/>
                </a:lnTo>
                <a:lnTo>
                  <a:pt x="69" y="1045"/>
                </a:lnTo>
                <a:lnTo>
                  <a:pt x="73" y="1045"/>
                </a:lnTo>
                <a:lnTo>
                  <a:pt x="79" y="1045"/>
                </a:lnTo>
                <a:lnTo>
                  <a:pt x="86" y="1045"/>
                </a:lnTo>
                <a:lnTo>
                  <a:pt x="93" y="1045"/>
                </a:lnTo>
                <a:lnTo>
                  <a:pt x="100" y="1045"/>
                </a:lnTo>
                <a:lnTo>
                  <a:pt x="103" y="1045"/>
                </a:lnTo>
                <a:lnTo>
                  <a:pt x="110" y="1045"/>
                </a:lnTo>
                <a:lnTo>
                  <a:pt x="116" y="1045"/>
                </a:lnTo>
                <a:lnTo>
                  <a:pt x="122" y="1045"/>
                </a:lnTo>
                <a:lnTo>
                  <a:pt x="130" y="1045"/>
                </a:lnTo>
                <a:lnTo>
                  <a:pt x="132" y="1045"/>
                </a:lnTo>
                <a:lnTo>
                  <a:pt x="140" y="1045"/>
                </a:lnTo>
                <a:lnTo>
                  <a:pt x="146" y="1045"/>
                </a:lnTo>
                <a:lnTo>
                  <a:pt x="153" y="1045"/>
                </a:lnTo>
                <a:lnTo>
                  <a:pt x="159" y="1045"/>
                </a:lnTo>
                <a:lnTo>
                  <a:pt x="167" y="1045"/>
                </a:lnTo>
                <a:lnTo>
                  <a:pt x="169" y="1045"/>
                </a:lnTo>
                <a:lnTo>
                  <a:pt x="177" y="1045"/>
                </a:lnTo>
                <a:lnTo>
                  <a:pt x="183" y="1045"/>
                </a:lnTo>
                <a:lnTo>
                  <a:pt x="189" y="1045"/>
                </a:lnTo>
                <a:lnTo>
                  <a:pt x="196" y="1045"/>
                </a:lnTo>
                <a:lnTo>
                  <a:pt x="199" y="1045"/>
                </a:lnTo>
                <a:lnTo>
                  <a:pt x="206" y="1045"/>
                </a:lnTo>
                <a:lnTo>
                  <a:pt x="213" y="1045"/>
                </a:lnTo>
                <a:lnTo>
                  <a:pt x="220" y="1045"/>
                </a:lnTo>
                <a:lnTo>
                  <a:pt x="226" y="1045"/>
                </a:lnTo>
                <a:lnTo>
                  <a:pt x="230" y="1045"/>
                </a:lnTo>
                <a:lnTo>
                  <a:pt x="236" y="1045"/>
                </a:lnTo>
                <a:lnTo>
                  <a:pt x="242" y="1045"/>
                </a:lnTo>
                <a:lnTo>
                  <a:pt x="250" y="1045"/>
                </a:lnTo>
                <a:lnTo>
                  <a:pt x="256" y="1045"/>
                </a:lnTo>
                <a:lnTo>
                  <a:pt x="263" y="1045"/>
                </a:lnTo>
                <a:lnTo>
                  <a:pt x="266" y="1045"/>
                </a:lnTo>
                <a:lnTo>
                  <a:pt x="273" y="1045"/>
                </a:lnTo>
                <a:lnTo>
                  <a:pt x="279" y="1045"/>
                </a:lnTo>
                <a:lnTo>
                  <a:pt x="287" y="1045"/>
                </a:lnTo>
                <a:lnTo>
                  <a:pt x="293" y="1045"/>
                </a:lnTo>
                <a:lnTo>
                  <a:pt x="297" y="1045"/>
                </a:lnTo>
                <a:lnTo>
                  <a:pt x="303" y="1045"/>
                </a:lnTo>
                <a:lnTo>
                  <a:pt x="309" y="1045"/>
                </a:lnTo>
                <a:lnTo>
                  <a:pt x="316" y="1045"/>
                </a:lnTo>
                <a:lnTo>
                  <a:pt x="323" y="1045"/>
                </a:lnTo>
                <a:lnTo>
                  <a:pt x="326" y="1045"/>
                </a:lnTo>
                <a:lnTo>
                  <a:pt x="333" y="1045"/>
                </a:lnTo>
                <a:lnTo>
                  <a:pt x="340" y="1045"/>
                </a:lnTo>
                <a:lnTo>
                  <a:pt x="346" y="1045"/>
                </a:lnTo>
                <a:lnTo>
                  <a:pt x="352" y="1045"/>
                </a:lnTo>
                <a:lnTo>
                  <a:pt x="360" y="1045"/>
                </a:lnTo>
                <a:lnTo>
                  <a:pt x="362" y="1045"/>
                </a:lnTo>
                <a:lnTo>
                  <a:pt x="370" y="1045"/>
                </a:lnTo>
                <a:lnTo>
                  <a:pt x="376" y="1045"/>
                </a:lnTo>
                <a:lnTo>
                  <a:pt x="383" y="1045"/>
                </a:lnTo>
                <a:lnTo>
                  <a:pt x="389" y="1045"/>
                </a:lnTo>
                <a:lnTo>
                  <a:pt x="393" y="1045"/>
                </a:lnTo>
                <a:lnTo>
                  <a:pt x="399" y="1045"/>
                </a:lnTo>
                <a:lnTo>
                  <a:pt x="407" y="1045"/>
                </a:lnTo>
                <a:lnTo>
                  <a:pt x="413" y="1045"/>
                </a:lnTo>
                <a:lnTo>
                  <a:pt x="419" y="1045"/>
                </a:lnTo>
                <a:lnTo>
                  <a:pt x="423" y="1045"/>
                </a:lnTo>
                <a:lnTo>
                  <a:pt x="429" y="1045"/>
                </a:lnTo>
                <a:lnTo>
                  <a:pt x="436" y="1045"/>
                </a:lnTo>
                <a:lnTo>
                  <a:pt x="443" y="1045"/>
                </a:lnTo>
                <a:lnTo>
                  <a:pt x="450" y="1049"/>
                </a:lnTo>
                <a:lnTo>
                  <a:pt x="456" y="1049"/>
                </a:lnTo>
                <a:lnTo>
                  <a:pt x="460" y="1045"/>
                </a:lnTo>
                <a:lnTo>
                  <a:pt x="466" y="1043"/>
                </a:lnTo>
                <a:lnTo>
                  <a:pt x="472" y="1043"/>
                </a:lnTo>
                <a:lnTo>
                  <a:pt x="480" y="1039"/>
                </a:lnTo>
                <a:lnTo>
                  <a:pt x="486" y="1043"/>
                </a:lnTo>
                <a:lnTo>
                  <a:pt x="490" y="1043"/>
                </a:lnTo>
                <a:lnTo>
                  <a:pt x="496" y="1045"/>
                </a:lnTo>
                <a:lnTo>
                  <a:pt x="503" y="1045"/>
                </a:lnTo>
                <a:lnTo>
                  <a:pt x="509" y="1045"/>
                </a:lnTo>
                <a:lnTo>
                  <a:pt x="516" y="1045"/>
                </a:lnTo>
                <a:lnTo>
                  <a:pt x="519" y="1043"/>
                </a:lnTo>
                <a:lnTo>
                  <a:pt x="527" y="1043"/>
                </a:lnTo>
                <a:lnTo>
                  <a:pt x="533" y="1049"/>
                </a:lnTo>
                <a:lnTo>
                  <a:pt x="539" y="1056"/>
                </a:lnTo>
                <a:lnTo>
                  <a:pt x="546" y="1063"/>
                </a:lnTo>
                <a:lnTo>
                  <a:pt x="553" y="1066"/>
                </a:lnTo>
                <a:lnTo>
                  <a:pt x="556" y="1059"/>
                </a:lnTo>
                <a:lnTo>
                  <a:pt x="563" y="1039"/>
                </a:lnTo>
                <a:lnTo>
                  <a:pt x="570" y="1013"/>
                </a:lnTo>
                <a:lnTo>
                  <a:pt x="576" y="986"/>
                </a:lnTo>
                <a:lnTo>
                  <a:pt x="582" y="972"/>
                </a:lnTo>
                <a:lnTo>
                  <a:pt x="586" y="986"/>
                </a:lnTo>
                <a:lnTo>
                  <a:pt x="592" y="1029"/>
                </a:lnTo>
                <a:lnTo>
                  <a:pt x="600" y="1096"/>
                </a:lnTo>
                <a:lnTo>
                  <a:pt x="606" y="1173"/>
                </a:lnTo>
                <a:lnTo>
                  <a:pt x="612" y="1226"/>
                </a:lnTo>
                <a:lnTo>
                  <a:pt x="616" y="1226"/>
                </a:lnTo>
                <a:lnTo>
                  <a:pt x="623" y="1149"/>
                </a:lnTo>
                <a:lnTo>
                  <a:pt x="629" y="986"/>
                </a:lnTo>
                <a:lnTo>
                  <a:pt x="636" y="756"/>
                </a:lnTo>
                <a:lnTo>
                  <a:pt x="643" y="493"/>
                </a:lnTo>
                <a:lnTo>
                  <a:pt x="649" y="243"/>
                </a:lnTo>
                <a:lnTo>
                  <a:pt x="653" y="67"/>
                </a:lnTo>
                <a:lnTo>
                  <a:pt x="659" y="0"/>
                </a:lnTo>
                <a:lnTo>
                  <a:pt x="666" y="64"/>
                </a:lnTo>
                <a:lnTo>
                  <a:pt x="673" y="247"/>
                </a:lnTo>
                <a:lnTo>
                  <a:pt x="679" y="509"/>
                </a:lnTo>
                <a:lnTo>
                  <a:pt x="683" y="806"/>
                </a:lnTo>
                <a:lnTo>
                  <a:pt x="690" y="1080"/>
                </a:lnTo>
                <a:lnTo>
                  <a:pt x="696" y="1283"/>
                </a:lnTo>
                <a:lnTo>
                  <a:pt x="702" y="1399"/>
                </a:lnTo>
                <a:lnTo>
                  <a:pt x="710" y="1425"/>
                </a:lnTo>
                <a:lnTo>
                  <a:pt x="716" y="1385"/>
                </a:lnTo>
                <a:lnTo>
                  <a:pt x="720" y="1309"/>
                </a:lnTo>
                <a:lnTo>
                  <a:pt x="726" y="1228"/>
                </a:lnTo>
                <a:lnTo>
                  <a:pt x="732" y="1169"/>
                </a:lnTo>
                <a:lnTo>
                  <a:pt x="739" y="1143"/>
                </a:lnTo>
                <a:lnTo>
                  <a:pt x="746" y="1149"/>
                </a:lnTo>
                <a:lnTo>
                  <a:pt x="749" y="1173"/>
                </a:lnTo>
                <a:lnTo>
                  <a:pt x="756" y="1202"/>
                </a:lnTo>
                <a:lnTo>
                  <a:pt x="763" y="1226"/>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4319640" y="2962440"/>
            <a:ext cx="1217520" cy="2225520"/>
          </a:xfrm>
          <a:custGeom>
            <a:avLst/>
            <a:gdLst/>
            <a:ahLst/>
            <a:rect l="l" t="t" r="r" b="b"/>
            <a:pathLst>
              <a:path w="767" h="1402">
                <a:moveTo>
                  <a:pt x="0" y="1213"/>
                </a:moveTo>
                <a:lnTo>
                  <a:pt x="6" y="1225"/>
                </a:lnTo>
                <a:lnTo>
                  <a:pt x="12" y="1225"/>
                </a:lnTo>
                <a:lnTo>
                  <a:pt x="16" y="1219"/>
                </a:lnTo>
                <a:lnTo>
                  <a:pt x="23" y="1213"/>
                </a:lnTo>
                <a:lnTo>
                  <a:pt x="30" y="1206"/>
                </a:lnTo>
                <a:lnTo>
                  <a:pt x="36" y="1203"/>
                </a:lnTo>
                <a:lnTo>
                  <a:pt x="43" y="1203"/>
                </a:lnTo>
                <a:lnTo>
                  <a:pt x="49" y="1203"/>
                </a:lnTo>
                <a:lnTo>
                  <a:pt x="53" y="1203"/>
                </a:lnTo>
                <a:lnTo>
                  <a:pt x="59" y="1203"/>
                </a:lnTo>
                <a:lnTo>
                  <a:pt x="67" y="1199"/>
                </a:lnTo>
                <a:lnTo>
                  <a:pt x="73" y="1199"/>
                </a:lnTo>
                <a:lnTo>
                  <a:pt x="79" y="1199"/>
                </a:lnTo>
                <a:lnTo>
                  <a:pt x="83" y="1199"/>
                </a:lnTo>
                <a:lnTo>
                  <a:pt x="90" y="1199"/>
                </a:lnTo>
                <a:lnTo>
                  <a:pt x="96" y="1203"/>
                </a:lnTo>
                <a:lnTo>
                  <a:pt x="103" y="1203"/>
                </a:lnTo>
                <a:lnTo>
                  <a:pt x="110" y="1206"/>
                </a:lnTo>
                <a:lnTo>
                  <a:pt x="114" y="1206"/>
                </a:lnTo>
                <a:lnTo>
                  <a:pt x="120" y="1206"/>
                </a:lnTo>
                <a:lnTo>
                  <a:pt x="126" y="1206"/>
                </a:lnTo>
                <a:lnTo>
                  <a:pt x="132" y="1206"/>
                </a:lnTo>
                <a:lnTo>
                  <a:pt x="140" y="1203"/>
                </a:lnTo>
                <a:lnTo>
                  <a:pt x="146" y="1199"/>
                </a:lnTo>
                <a:lnTo>
                  <a:pt x="150" y="1199"/>
                </a:lnTo>
                <a:lnTo>
                  <a:pt x="157" y="1199"/>
                </a:lnTo>
                <a:lnTo>
                  <a:pt x="163" y="1199"/>
                </a:lnTo>
                <a:lnTo>
                  <a:pt x="169" y="1199"/>
                </a:lnTo>
                <a:lnTo>
                  <a:pt x="177" y="1199"/>
                </a:lnTo>
                <a:lnTo>
                  <a:pt x="179" y="1203"/>
                </a:lnTo>
                <a:lnTo>
                  <a:pt x="187" y="1203"/>
                </a:lnTo>
                <a:lnTo>
                  <a:pt x="193" y="1199"/>
                </a:lnTo>
                <a:lnTo>
                  <a:pt x="200" y="1199"/>
                </a:lnTo>
                <a:lnTo>
                  <a:pt x="206" y="1203"/>
                </a:lnTo>
                <a:lnTo>
                  <a:pt x="210" y="1206"/>
                </a:lnTo>
                <a:lnTo>
                  <a:pt x="216" y="1213"/>
                </a:lnTo>
                <a:lnTo>
                  <a:pt x="224" y="1223"/>
                </a:lnTo>
                <a:lnTo>
                  <a:pt x="230" y="1225"/>
                </a:lnTo>
                <a:lnTo>
                  <a:pt x="236" y="1219"/>
                </a:lnTo>
                <a:lnTo>
                  <a:pt x="243" y="1199"/>
                </a:lnTo>
                <a:lnTo>
                  <a:pt x="246" y="1172"/>
                </a:lnTo>
                <a:lnTo>
                  <a:pt x="253" y="1142"/>
                </a:lnTo>
                <a:lnTo>
                  <a:pt x="260" y="1126"/>
                </a:lnTo>
                <a:lnTo>
                  <a:pt x="267" y="1136"/>
                </a:lnTo>
                <a:lnTo>
                  <a:pt x="273" y="1179"/>
                </a:lnTo>
                <a:lnTo>
                  <a:pt x="277" y="1249"/>
                </a:lnTo>
                <a:lnTo>
                  <a:pt x="283" y="1329"/>
                </a:lnTo>
                <a:lnTo>
                  <a:pt x="289" y="1392"/>
                </a:lnTo>
                <a:lnTo>
                  <a:pt x="297" y="1402"/>
                </a:lnTo>
                <a:lnTo>
                  <a:pt x="303" y="1333"/>
                </a:lnTo>
                <a:lnTo>
                  <a:pt x="307" y="1172"/>
                </a:lnTo>
                <a:lnTo>
                  <a:pt x="313" y="933"/>
                </a:lnTo>
                <a:lnTo>
                  <a:pt x="320" y="644"/>
                </a:lnTo>
                <a:lnTo>
                  <a:pt x="326" y="357"/>
                </a:lnTo>
                <a:lnTo>
                  <a:pt x="334" y="128"/>
                </a:lnTo>
                <a:lnTo>
                  <a:pt x="340" y="0"/>
                </a:lnTo>
                <a:lnTo>
                  <a:pt x="344" y="4"/>
                </a:lnTo>
                <a:lnTo>
                  <a:pt x="350" y="130"/>
                </a:lnTo>
                <a:lnTo>
                  <a:pt x="356" y="347"/>
                </a:lnTo>
                <a:lnTo>
                  <a:pt x="363" y="613"/>
                </a:lnTo>
                <a:lnTo>
                  <a:pt x="370" y="866"/>
                </a:lnTo>
                <a:lnTo>
                  <a:pt x="373" y="1066"/>
                </a:lnTo>
                <a:lnTo>
                  <a:pt x="380" y="1186"/>
                </a:lnTo>
                <a:lnTo>
                  <a:pt x="387" y="1223"/>
                </a:lnTo>
                <a:lnTo>
                  <a:pt x="393" y="1193"/>
                </a:lnTo>
                <a:lnTo>
                  <a:pt x="399" y="1126"/>
                </a:lnTo>
                <a:lnTo>
                  <a:pt x="403" y="1050"/>
                </a:lnTo>
                <a:lnTo>
                  <a:pt x="409" y="993"/>
                </a:lnTo>
                <a:lnTo>
                  <a:pt x="417" y="963"/>
                </a:lnTo>
                <a:lnTo>
                  <a:pt x="423" y="963"/>
                </a:lnTo>
                <a:lnTo>
                  <a:pt x="430" y="986"/>
                </a:lnTo>
                <a:lnTo>
                  <a:pt x="436" y="1012"/>
                </a:lnTo>
                <a:lnTo>
                  <a:pt x="440" y="1036"/>
                </a:lnTo>
                <a:lnTo>
                  <a:pt x="446" y="1050"/>
                </a:lnTo>
                <a:lnTo>
                  <a:pt x="454" y="1053"/>
                </a:lnTo>
                <a:lnTo>
                  <a:pt x="460" y="1046"/>
                </a:lnTo>
                <a:lnTo>
                  <a:pt x="466" y="1040"/>
                </a:lnTo>
                <a:lnTo>
                  <a:pt x="470" y="1032"/>
                </a:lnTo>
                <a:lnTo>
                  <a:pt x="476" y="1030"/>
                </a:lnTo>
                <a:lnTo>
                  <a:pt x="483" y="1030"/>
                </a:lnTo>
                <a:lnTo>
                  <a:pt x="490" y="1032"/>
                </a:lnTo>
                <a:lnTo>
                  <a:pt x="497" y="1032"/>
                </a:lnTo>
                <a:lnTo>
                  <a:pt x="500" y="1032"/>
                </a:lnTo>
                <a:lnTo>
                  <a:pt x="507" y="1032"/>
                </a:lnTo>
                <a:lnTo>
                  <a:pt x="513" y="1030"/>
                </a:lnTo>
                <a:lnTo>
                  <a:pt x="519" y="1030"/>
                </a:lnTo>
                <a:lnTo>
                  <a:pt x="527" y="1030"/>
                </a:lnTo>
                <a:lnTo>
                  <a:pt x="533" y="1030"/>
                </a:lnTo>
                <a:lnTo>
                  <a:pt x="537" y="1032"/>
                </a:lnTo>
                <a:lnTo>
                  <a:pt x="543" y="1032"/>
                </a:lnTo>
                <a:lnTo>
                  <a:pt x="550" y="1036"/>
                </a:lnTo>
                <a:lnTo>
                  <a:pt x="556" y="1036"/>
                </a:lnTo>
                <a:lnTo>
                  <a:pt x="564" y="1032"/>
                </a:lnTo>
                <a:lnTo>
                  <a:pt x="566" y="1032"/>
                </a:lnTo>
                <a:lnTo>
                  <a:pt x="574" y="1032"/>
                </a:lnTo>
                <a:lnTo>
                  <a:pt x="580" y="1032"/>
                </a:lnTo>
                <a:lnTo>
                  <a:pt x="586" y="1032"/>
                </a:lnTo>
                <a:lnTo>
                  <a:pt x="593" y="1032"/>
                </a:lnTo>
                <a:lnTo>
                  <a:pt x="600" y="1032"/>
                </a:lnTo>
                <a:lnTo>
                  <a:pt x="603" y="1032"/>
                </a:lnTo>
                <a:lnTo>
                  <a:pt x="610" y="1032"/>
                </a:lnTo>
                <a:lnTo>
                  <a:pt x="617" y="1032"/>
                </a:lnTo>
                <a:lnTo>
                  <a:pt x="623" y="1032"/>
                </a:lnTo>
                <a:lnTo>
                  <a:pt x="629" y="1032"/>
                </a:lnTo>
                <a:lnTo>
                  <a:pt x="633" y="1032"/>
                </a:lnTo>
                <a:lnTo>
                  <a:pt x="640" y="1032"/>
                </a:lnTo>
                <a:lnTo>
                  <a:pt x="647" y="1032"/>
                </a:lnTo>
                <a:lnTo>
                  <a:pt x="653" y="1032"/>
                </a:lnTo>
                <a:lnTo>
                  <a:pt x="660" y="1032"/>
                </a:lnTo>
                <a:lnTo>
                  <a:pt x="664" y="1032"/>
                </a:lnTo>
                <a:lnTo>
                  <a:pt x="670" y="1032"/>
                </a:lnTo>
                <a:lnTo>
                  <a:pt x="676" y="1032"/>
                </a:lnTo>
                <a:lnTo>
                  <a:pt x="684" y="1032"/>
                </a:lnTo>
                <a:lnTo>
                  <a:pt x="690" y="1032"/>
                </a:lnTo>
                <a:lnTo>
                  <a:pt x="696" y="1032"/>
                </a:lnTo>
                <a:lnTo>
                  <a:pt x="700" y="1032"/>
                </a:lnTo>
                <a:lnTo>
                  <a:pt x="707" y="1032"/>
                </a:lnTo>
                <a:lnTo>
                  <a:pt x="713" y="1032"/>
                </a:lnTo>
                <a:lnTo>
                  <a:pt x="721" y="1032"/>
                </a:lnTo>
                <a:lnTo>
                  <a:pt x="727" y="1032"/>
                </a:lnTo>
                <a:lnTo>
                  <a:pt x="731" y="1032"/>
                </a:lnTo>
                <a:lnTo>
                  <a:pt x="737" y="1032"/>
                </a:lnTo>
                <a:lnTo>
                  <a:pt x="743" y="1032"/>
                </a:lnTo>
                <a:lnTo>
                  <a:pt x="750" y="1032"/>
                </a:lnTo>
                <a:lnTo>
                  <a:pt x="757" y="1032"/>
                </a:lnTo>
                <a:lnTo>
                  <a:pt x="760" y="1032"/>
                </a:lnTo>
                <a:lnTo>
                  <a:pt x="767" y="1032"/>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5537160" y="4600440"/>
            <a:ext cx="725400" cy="1800"/>
          </a:xfrm>
          <a:custGeom>
            <a:avLst/>
            <a:gdLst/>
            <a:ahLst/>
            <a:rect l="l" t="t" r="r" b="b"/>
            <a:pathLst>
              <a:path w="457" h="0">
                <a:moveTo>
                  <a:pt x="0" y="0"/>
                </a:moveTo>
                <a:lnTo>
                  <a:pt x="7" y="0"/>
                </a:lnTo>
                <a:lnTo>
                  <a:pt x="13" y="0"/>
                </a:lnTo>
                <a:lnTo>
                  <a:pt x="19" y="0"/>
                </a:lnTo>
                <a:lnTo>
                  <a:pt x="27" y="0"/>
                </a:lnTo>
                <a:lnTo>
                  <a:pt x="29" y="0"/>
                </a:lnTo>
                <a:lnTo>
                  <a:pt x="37" y="0"/>
                </a:lnTo>
                <a:lnTo>
                  <a:pt x="43" y="0"/>
                </a:lnTo>
                <a:lnTo>
                  <a:pt x="50" y="0"/>
                </a:lnTo>
                <a:lnTo>
                  <a:pt x="56" y="0"/>
                </a:lnTo>
                <a:lnTo>
                  <a:pt x="60" y="0"/>
                </a:lnTo>
                <a:lnTo>
                  <a:pt x="66" y="0"/>
                </a:lnTo>
                <a:lnTo>
                  <a:pt x="74" y="0"/>
                </a:lnTo>
                <a:lnTo>
                  <a:pt x="80" y="0"/>
                </a:lnTo>
                <a:lnTo>
                  <a:pt x="86" y="0"/>
                </a:lnTo>
                <a:lnTo>
                  <a:pt x="90" y="0"/>
                </a:lnTo>
                <a:lnTo>
                  <a:pt x="96" y="0"/>
                </a:lnTo>
                <a:lnTo>
                  <a:pt x="103" y="0"/>
                </a:lnTo>
                <a:lnTo>
                  <a:pt x="110" y="0"/>
                </a:lnTo>
                <a:lnTo>
                  <a:pt x="117" y="0"/>
                </a:lnTo>
                <a:lnTo>
                  <a:pt x="123" y="0"/>
                </a:lnTo>
                <a:lnTo>
                  <a:pt x="127" y="0"/>
                </a:lnTo>
                <a:lnTo>
                  <a:pt x="133" y="0"/>
                </a:lnTo>
                <a:lnTo>
                  <a:pt x="139" y="0"/>
                </a:lnTo>
                <a:lnTo>
                  <a:pt x="147" y="0"/>
                </a:lnTo>
                <a:lnTo>
                  <a:pt x="153" y="0"/>
                </a:lnTo>
                <a:lnTo>
                  <a:pt x="157" y="0"/>
                </a:lnTo>
                <a:lnTo>
                  <a:pt x="164" y="0"/>
                </a:lnTo>
                <a:lnTo>
                  <a:pt x="170" y="0"/>
                </a:lnTo>
                <a:lnTo>
                  <a:pt x="176" y="0"/>
                </a:lnTo>
                <a:lnTo>
                  <a:pt x="184" y="0"/>
                </a:lnTo>
                <a:lnTo>
                  <a:pt x="186" y="0"/>
                </a:lnTo>
                <a:lnTo>
                  <a:pt x="194" y="0"/>
                </a:lnTo>
                <a:lnTo>
                  <a:pt x="200" y="0"/>
                </a:lnTo>
                <a:lnTo>
                  <a:pt x="207" y="0"/>
                </a:lnTo>
                <a:lnTo>
                  <a:pt x="213" y="0"/>
                </a:lnTo>
                <a:lnTo>
                  <a:pt x="220" y="0"/>
                </a:lnTo>
                <a:lnTo>
                  <a:pt x="223" y="0"/>
                </a:lnTo>
                <a:lnTo>
                  <a:pt x="231" y="0"/>
                </a:lnTo>
                <a:lnTo>
                  <a:pt x="237" y="0"/>
                </a:lnTo>
                <a:lnTo>
                  <a:pt x="243" y="0"/>
                </a:lnTo>
                <a:lnTo>
                  <a:pt x="251" y="0"/>
                </a:lnTo>
                <a:lnTo>
                  <a:pt x="253" y="0"/>
                </a:lnTo>
                <a:lnTo>
                  <a:pt x="260" y="0"/>
                </a:lnTo>
                <a:lnTo>
                  <a:pt x="267" y="0"/>
                </a:lnTo>
                <a:lnTo>
                  <a:pt x="274" y="0"/>
                </a:lnTo>
                <a:lnTo>
                  <a:pt x="280" y="0"/>
                </a:lnTo>
                <a:lnTo>
                  <a:pt x="284" y="0"/>
                </a:lnTo>
                <a:lnTo>
                  <a:pt x="290" y="0"/>
                </a:lnTo>
                <a:lnTo>
                  <a:pt x="296" y="0"/>
                </a:lnTo>
                <a:lnTo>
                  <a:pt x="304" y="0"/>
                </a:lnTo>
                <a:lnTo>
                  <a:pt x="310" y="0"/>
                </a:lnTo>
                <a:lnTo>
                  <a:pt x="317" y="0"/>
                </a:lnTo>
                <a:lnTo>
                  <a:pt x="320" y="0"/>
                </a:lnTo>
                <a:lnTo>
                  <a:pt x="327" y="0"/>
                </a:lnTo>
                <a:lnTo>
                  <a:pt x="333" y="0"/>
                </a:lnTo>
                <a:lnTo>
                  <a:pt x="341" y="0"/>
                </a:lnTo>
                <a:lnTo>
                  <a:pt x="347" y="0"/>
                </a:lnTo>
                <a:lnTo>
                  <a:pt x="351" y="0"/>
                </a:lnTo>
                <a:lnTo>
                  <a:pt x="357" y="0"/>
                </a:lnTo>
                <a:lnTo>
                  <a:pt x="364" y="0"/>
                </a:lnTo>
                <a:lnTo>
                  <a:pt x="370" y="0"/>
                </a:lnTo>
                <a:lnTo>
                  <a:pt x="378" y="0"/>
                </a:lnTo>
                <a:lnTo>
                  <a:pt x="380" y="0"/>
                </a:lnTo>
                <a:lnTo>
                  <a:pt x="388" y="0"/>
                </a:lnTo>
                <a:lnTo>
                  <a:pt x="394" y="0"/>
                </a:lnTo>
                <a:lnTo>
                  <a:pt x="400" y="0"/>
                </a:lnTo>
                <a:lnTo>
                  <a:pt x="407" y="0"/>
                </a:lnTo>
                <a:lnTo>
                  <a:pt x="414" y="0"/>
                </a:lnTo>
                <a:lnTo>
                  <a:pt x="417" y="0"/>
                </a:lnTo>
                <a:lnTo>
                  <a:pt x="424" y="0"/>
                </a:lnTo>
                <a:lnTo>
                  <a:pt x="431" y="0"/>
                </a:lnTo>
                <a:lnTo>
                  <a:pt x="437" y="0"/>
                </a:lnTo>
                <a:lnTo>
                  <a:pt x="445" y="0"/>
                </a:lnTo>
                <a:lnTo>
                  <a:pt x="447" y="0"/>
                </a:lnTo>
                <a:lnTo>
                  <a:pt x="454" y="0"/>
                </a:lnTo>
                <a:lnTo>
                  <a:pt x="457" y="0"/>
                </a:lnTo>
              </a:path>
            </a:pathLst>
          </a:custGeom>
          <a:noFill/>
          <a:ln w="14400">
            <a:solidFill>
              <a:srgbClr val="3333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9" name=""/>
          <p:cNvSpPr/>
          <p:nvPr/>
        </p:nvSpPr>
        <p:spPr>
          <a:xfrm rot="16200000">
            <a:off x="2431440" y="396144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2790" name=""/>
          <p:cNvSpPr/>
          <p:nvPr/>
        </p:nvSpPr>
        <p:spPr>
          <a:xfrm>
            <a:off x="3108240" y="2894040"/>
            <a:ext cx="1217520" cy="2195640"/>
          </a:xfrm>
          <a:custGeom>
            <a:avLst/>
            <a:gdLst/>
            <a:ahLst/>
            <a:rect l="l" t="t" r="r" b="b"/>
            <a:pathLst>
              <a:path w="11248" h="20152">
                <a:moveTo>
                  <a:pt x="0" y="15606"/>
                </a:moveTo>
                <a:lnTo>
                  <a:pt x="37" y="15606"/>
                </a:lnTo>
                <a:lnTo>
                  <a:pt x="93" y="15606"/>
                </a:lnTo>
                <a:lnTo>
                  <a:pt x="185" y="15606"/>
                </a:lnTo>
                <a:lnTo>
                  <a:pt x="296" y="15606"/>
                </a:lnTo>
                <a:lnTo>
                  <a:pt x="389" y="15606"/>
                </a:lnTo>
                <a:lnTo>
                  <a:pt x="482" y="15606"/>
                </a:lnTo>
                <a:lnTo>
                  <a:pt x="533" y="15606"/>
                </a:lnTo>
                <a:lnTo>
                  <a:pt x="533" y="15739"/>
                </a:lnTo>
                <a:lnTo>
                  <a:pt x="482" y="15739"/>
                </a:lnTo>
                <a:lnTo>
                  <a:pt x="389" y="15739"/>
                </a:lnTo>
                <a:lnTo>
                  <a:pt x="296" y="15739"/>
                </a:lnTo>
                <a:lnTo>
                  <a:pt x="185" y="15739"/>
                </a:lnTo>
                <a:lnTo>
                  <a:pt x="93" y="15739"/>
                </a:lnTo>
                <a:lnTo>
                  <a:pt x="37" y="15739"/>
                </a:lnTo>
                <a:lnTo>
                  <a:pt x="0" y="15739"/>
                </a:lnTo>
                <a:lnTo>
                  <a:pt x="0" y="15606"/>
                </a:lnTo>
                <a:close/>
                <a:moveTo>
                  <a:pt x="933" y="15606"/>
                </a:moveTo>
                <a:lnTo>
                  <a:pt x="1018" y="15606"/>
                </a:lnTo>
                <a:lnTo>
                  <a:pt x="1074" y="15606"/>
                </a:lnTo>
                <a:lnTo>
                  <a:pt x="1167" y="15606"/>
                </a:lnTo>
                <a:lnTo>
                  <a:pt x="1259" y="15606"/>
                </a:lnTo>
                <a:lnTo>
                  <a:pt x="1370" y="15606"/>
                </a:lnTo>
                <a:lnTo>
                  <a:pt x="1463" y="15606"/>
                </a:lnTo>
                <a:lnTo>
                  <a:pt x="1467" y="15606"/>
                </a:lnTo>
                <a:lnTo>
                  <a:pt x="1467" y="15739"/>
                </a:lnTo>
                <a:lnTo>
                  <a:pt x="1463" y="15739"/>
                </a:lnTo>
                <a:lnTo>
                  <a:pt x="1370" y="15739"/>
                </a:lnTo>
                <a:lnTo>
                  <a:pt x="1259" y="15739"/>
                </a:lnTo>
                <a:lnTo>
                  <a:pt x="1167" y="15739"/>
                </a:lnTo>
                <a:lnTo>
                  <a:pt x="1074" y="15739"/>
                </a:lnTo>
                <a:lnTo>
                  <a:pt x="1018" y="15739"/>
                </a:lnTo>
                <a:lnTo>
                  <a:pt x="933" y="15739"/>
                </a:lnTo>
                <a:lnTo>
                  <a:pt x="933" y="15606"/>
                </a:lnTo>
                <a:close/>
                <a:moveTo>
                  <a:pt x="1867" y="15606"/>
                </a:moveTo>
                <a:lnTo>
                  <a:pt x="1907" y="15606"/>
                </a:lnTo>
                <a:lnTo>
                  <a:pt x="1944" y="15606"/>
                </a:lnTo>
                <a:lnTo>
                  <a:pt x="2055" y="15606"/>
                </a:lnTo>
                <a:lnTo>
                  <a:pt x="2148" y="15606"/>
                </a:lnTo>
                <a:lnTo>
                  <a:pt x="2241" y="15606"/>
                </a:lnTo>
                <a:lnTo>
                  <a:pt x="2333" y="15606"/>
                </a:lnTo>
                <a:lnTo>
                  <a:pt x="2400" y="15606"/>
                </a:lnTo>
                <a:lnTo>
                  <a:pt x="2400" y="15739"/>
                </a:lnTo>
                <a:lnTo>
                  <a:pt x="2333" y="15739"/>
                </a:lnTo>
                <a:lnTo>
                  <a:pt x="2241" y="15739"/>
                </a:lnTo>
                <a:lnTo>
                  <a:pt x="2148" y="15739"/>
                </a:lnTo>
                <a:lnTo>
                  <a:pt x="2055" y="15739"/>
                </a:lnTo>
                <a:lnTo>
                  <a:pt x="1944" y="15739"/>
                </a:lnTo>
                <a:lnTo>
                  <a:pt x="1907" y="15739"/>
                </a:lnTo>
                <a:lnTo>
                  <a:pt x="1867" y="15739"/>
                </a:lnTo>
                <a:lnTo>
                  <a:pt x="1867" y="15606"/>
                </a:lnTo>
                <a:close/>
                <a:moveTo>
                  <a:pt x="2800" y="15606"/>
                </a:moveTo>
                <a:lnTo>
                  <a:pt x="2870" y="15606"/>
                </a:lnTo>
                <a:lnTo>
                  <a:pt x="2926" y="15606"/>
                </a:lnTo>
                <a:lnTo>
                  <a:pt x="3018" y="15606"/>
                </a:lnTo>
                <a:lnTo>
                  <a:pt x="3129" y="15606"/>
                </a:lnTo>
                <a:lnTo>
                  <a:pt x="3222" y="15606"/>
                </a:lnTo>
                <a:lnTo>
                  <a:pt x="3314" y="15606"/>
                </a:lnTo>
                <a:lnTo>
                  <a:pt x="3333" y="15606"/>
                </a:lnTo>
                <a:lnTo>
                  <a:pt x="3333" y="15739"/>
                </a:lnTo>
                <a:lnTo>
                  <a:pt x="3314" y="15739"/>
                </a:lnTo>
                <a:lnTo>
                  <a:pt x="3222" y="15739"/>
                </a:lnTo>
                <a:lnTo>
                  <a:pt x="3129" y="15739"/>
                </a:lnTo>
                <a:lnTo>
                  <a:pt x="3018" y="15739"/>
                </a:lnTo>
                <a:lnTo>
                  <a:pt x="2926" y="15739"/>
                </a:lnTo>
                <a:lnTo>
                  <a:pt x="2870" y="15739"/>
                </a:lnTo>
                <a:lnTo>
                  <a:pt x="2800" y="15739"/>
                </a:lnTo>
                <a:lnTo>
                  <a:pt x="2800" y="15606"/>
                </a:lnTo>
                <a:close/>
                <a:moveTo>
                  <a:pt x="3733" y="15606"/>
                </a:moveTo>
                <a:lnTo>
                  <a:pt x="3759" y="15606"/>
                </a:lnTo>
                <a:lnTo>
                  <a:pt x="3851" y="15606"/>
                </a:lnTo>
                <a:lnTo>
                  <a:pt x="3907" y="15606"/>
                </a:lnTo>
                <a:lnTo>
                  <a:pt x="3999" y="15606"/>
                </a:lnTo>
                <a:lnTo>
                  <a:pt x="4092" y="15606"/>
                </a:lnTo>
                <a:lnTo>
                  <a:pt x="4203" y="15606"/>
                </a:lnTo>
                <a:lnTo>
                  <a:pt x="4267" y="15606"/>
                </a:lnTo>
                <a:lnTo>
                  <a:pt x="4267" y="15739"/>
                </a:lnTo>
                <a:lnTo>
                  <a:pt x="4203" y="15739"/>
                </a:lnTo>
                <a:lnTo>
                  <a:pt x="4092" y="15739"/>
                </a:lnTo>
                <a:lnTo>
                  <a:pt x="3999" y="15739"/>
                </a:lnTo>
                <a:lnTo>
                  <a:pt x="3907" y="15739"/>
                </a:lnTo>
                <a:lnTo>
                  <a:pt x="3851" y="15739"/>
                </a:lnTo>
                <a:lnTo>
                  <a:pt x="3759" y="15739"/>
                </a:lnTo>
                <a:lnTo>
                  <a:pt x="3733" y="15739"/>
                </a:lnTo>
                <a:lnTo>
                  <a:pt x="3733" y="15606"/>
                </a:lnTo>
                <a:close/>
                <a:moveTo>
                  <a:pt x="4667" y="15606"/>
                </a:moveTo>
                <a:lnTo>
                  <a:pt x="4740" y="15606"/>
                </a:lnTo>
                <a:lnTo>
                  <a:pt x="4777" y="15606"/>
                </a:lnTo>
                <a:lnTo>
                  <a:pt x="4888" y="15606"/>
                </a:lnTo>
                <a:lnTo>
                  <a:pt x="4981" y="15606"/>
                </a:lnTo>
                <a:lnTo>
                  <a:pt x="5073" y="15606"/>
                </a:lnTo>
                <a:lnTo>
                  <a:pt x="5166" y="15606"/>
                </a:lnTo>
                <a:lnTo>
                  <a:pt x="5200" y="15606"/>
                </a:lnTo>
                <a:lnTo>
                  <a:pt x="5200" y="15739"/>
                </a:lnTo>
                <a:lnTo>
                  <a:pt x="5166" y="15739"/>
                </a:lnTo>
                <a:lnTo>
                  <a:pt x="5073" y="15739"/>
                </a:lnTo>
                <a:lnTo>
                  <a:pt x="4981" y="15739"/>
                </a:lnTo>
                <a:lnTo>
                  <a:pt x="4888" y="15739"/>
                </a:lnTo>
                <a:lnTo>
                  <a:pt x="4777" y="15739"/>
                </a:lnTo>
                <a:lnTo>
                  <a:pt x="4740" y="15739"/>
                </a:lnTo>
                <a:lnTo>
                  <a:pt x="4667" y="15739"/>
                </a:lnTo>
                <a:lnTo>
                  <a:pt x="4667" y="15606"/>
                </a:lnTo>
                <a:close/>
                <a:moveTo>
                  <a:pt x="5600" y="15606"/>
                </a:moveTo>
                <a:lnTo>
                  <a:pt x="5610" y="15606"/>
                </a:lnTo>
                <a:lnTo>
                  <a:pt x="5703" y="15606"/>
                </a:lnTo>
                <a:lnTo>
                  <a:pt x="5758" y="15606"/>
                </a:lnTo>
                <a:lnTo>
                  <a:pt x="5851" y="15606"/>
                </a:lnTo>
                <a:lnTo>
                  <a:pt x="5962" y="15606"/>
                </a:lnTo>
                <a:lnTo>
                  <a:pt x="6055" y="15606"/>
                </a:lnTo>
                <a:lnTo>
                  <a:pt x="6133" y="15606"/>
                </a:lnTo>
                <a:lnTo>
                  <a:pt x="6133" y="15739"/>
                </a:lnTo>
                <a:lnTo>
                  <a:pt x="6055" y="15739"/>
                </a:lnTo>
                <a:lnTo>
                  <a:pt x="5962" y="15739"/>
                </a:lnTo>
                <a:lnTo>
                  <a:pt x="5851" y="15739"/>
                </a:lnTo>
                <a:lnTo>
                  <a:pt x="5758" y="15739"/>
                </a:lnTo>
                <a:lnTo>
                  <a:pt x="5703" y="15739"/>
                </a:lnTo>
                <a:lnTo>
                  <a:pt x="5610" y="15739"/>
                </a:lnTo>
                <a:lnTo>
                  <a:pt x="5600" y="15739"/>
                </a:lnTo>
                <a:lnTo>
                  <a:pt x="5600" y="15606"/>
                </a:lnTo>
                <a:close/>
                <a:moveTo>
                  <a:pt x="6563" y="15633"/>
                </a:moveTo>
                <a:lnTo>
                  <a:pt x="6626" y="15671"/>
                </a:lnTo>
                <a:lnTo>
                  <a:pt x="6592" y="15661"/>
                </a:lnTo>
                <a:lnTo>
                  <a:pt x="6684" y="15661"/>
                </a:lnTo>
                <a:lnTo>
                  <a:pt x="6637" y="15681"/>
                </a:lnTo>
                <a:lnTo>
                  <a:pt x="6693" y="15625"/>
                </a:lnTo>
                <a:cubicBezTo>
                  <a:pt x="6699" y="15619"/>
                  <a:pt x="6707" y="15614"/>
                  <a:pt x="6715" y="15611"/>
                </a:cubicBezTo>
                <a:lnTo>
                  <a:pt x="6808" y="15574"/>
                </a:lnTo>
                <a:cubicBezTo>
                  <a:pt x="6816" y="15571"/>
                  <a:pt x="6824" y="15569"/>
                  <a:pt x="6832" y="15569"/>
                </a:cubicBezTo>
                <a:lnTo>
                  <a:pt x="6925" y="15569"/>
                </a:lnTo>
                <a:lnTo>
                  <a:pt x="6895" y="15576"/>
                </a:lnTo>
                <a:lnTo>
                  <a:pt x="6982" y="15533"/>
                </a:lnTo>
                <a:lnTo>
                  <a:pt x="7041" y="15653"/>
                </a:lnTo>
                <a:lnTo>
                  <a:pt x="6955" y="15696"/>
                </a:lnTo>
                <a:cubicBezTo>
                  <a:pt x="6945" y="15700"/>
                  <a:pt x="6935" y="15703"/>
                  <a:pt x="6925" y="15703"/>
                </a:cubicBezTo>
                <a:lnTo>
                  <a:pt x="6832" y="15703"/>
                </a:lnTo>
                <a:lnTo>
                  <a:pt x="6857" y="15698"/>
                </a:lnTo>
                <a:lnTo>
                  <a:pt x="6764" y="15735"/>
                </a:lnTo>
                <a:lnTo>
                  <a:pt x="6787" y="15720"/>
                </a:lnTo>
                <a:lnTo>
                  <a:pt x="6731" y="15775"/>
                </a:lnTo>
                <a:cubicBezTo>
                  <a:pt x="6719" y="15788"/>
                  <a:pt x="6702" y="15795"/>
                  <a:pt x="6684" y="15795"/>
                </a:cubicBezTo>
                <a:lnTo>
                  <a:pt x="6592" y="15795"/>
                </a:lnTo>
                <a:cubicBezTo>
                  <a:pt x="6580" y="15795"/>
                  <a:pt x="6568" y="15791"/>
                  <a:pt x="6558" y="15785"/>
                </a:cubicBezTo>
                <a:lnTo>
                  <a:pt x="6495" y="15748"/>
                </a:lnTo>
                <a:lnTo>
                  <a:pt x="6563" y="15633"/>
                </a:lnTo>
                <a:close/>
                <a:moveTo>
                  <a:pt x="7387" y="15606"/>
                </a:moveTo>
                <a:lnTo>
                  <a:pt x="7462" y="15606"/>
                </a:lnTo>
                <a:lnTo>
                  <a:pt x="7573" y="15606"/>
                </a:lnTo>
                <a:lnTo>
                  <a:pt x="7526" y="15625"/>
                </a:lnTo>
                <a:lnTo>
                  <a:pt x="7563" y="15589"/>
                </a:lnTo>
                <a:cubicBezTo>
                  <a:pt x="7576" y="15576"/>
                  <a:pt x="7592" y="15569"/>
                  <a:pt x="7610" y="15569"/>
                </a:cubicBezTo>
                <a:lnTo>
                  <a:pt x="7721" y="15569"/>
                </a:lnTo>
                <a:cubicBezTo>
                  <a:pt x="7739" y="15569"/>
                  <a:pt x="7756" y="15576"/>
                  <a:pt x="7768" y="15589"/>
                </a:cubicBezTo>
                <a:lnTo>
                  <a:pt x="7861" y="15681"/>
                </a:lnTo>
                <a:lnTo>
                  <a:pt x="7899" y="15718"/>
                </a:lnTo>
                <a:lnTo>
                  <a:pt x="7805" y="15813"/>
                </a:lnTo>
                <a:lnTo>
                  <a:pt x="7767" y="15775"/>
                </a:lnTo>
                <a:lnTo>
                  <a:pt x="7674" y="15683"/>
                </a:lnTo>
                <a:lnTo>
                  <a:pt x="7721" y="15703"/>
                </a:lnTo>
                <a:lnTo>
                  <a:pt x="7610" y="15703"/>
                </a:lnTo>
                <a:lnTo>
                  <a:pt x="7657" y="15683"/>
                </a:lnTo>
                <a:lnTo>
                  <a:pt x="7620" y="15720"/>
                </a:lnTo>
                <a:cubicBezTo>
                  <a:pt x="7607" y="15732"/>
                  <a:pt x="7591" y="15739"/>
                  <a:pt x="7573" y="15739"/>
                </a:cubicBezTo>
                <a:lnTo>
                  <a:pt x="7462" y="15739"/>
                </a:lnTo>
                <a:lnTo>
                  <a:pt x="7387" y="15739"/>
                </a:lnTo>
                <a:lnTo>
                  <a:pt x="7387" y="15606"/>
                </a:lnTo>
                <a:close/>
                <a:moveTo>
                  <a:pt x="8071" y="15884"/>
                </a:moveTo>
                <a:lnTo>
                  <a:pt x="8085" y="15850"/>
                </a:lnTo>
                <a:lnTo>
                  <a:pt x="8196" y="15557"/>
                </a:lnTo>
                <a:lnTo>
                  <a:pt x="8236" y="15389"/>
                </a:lnTo>
                <a:lnTo>
                  <a:pt x="8365" y="15420"/>
                </a:lnTo>
                <a:lnTo>
                  <a:pt x="8320" y="15604"/>
                </a:lnTo>
                <a:lnTo>
                  <a:pt x="8209" y="15900"/>
                </a:lnTo>
                <a:lnTo>
                  <a:pt x="8195" y="15934"/>
                </a:lnTo>
                <a:lnTo>
                  <a:pt x="8071" y="15884"/>
                </a:lnTo>
                <a:close/>
                <a:moveTo>
                  <a:pt x="8329" y="15000"/>
                </a:moveTo>
                <a:lnTo>
                  <a:pt x="8378" y="14793"/>
                </a:lnTo>
                <a:cubicBezTo>
                  <a:pt x="8379" y="14789"/>
                  <a:pt x="8381" y="14785"/>
                  <a:pt x="8383" y="14781"/>
                </a:cubicBezTo>
                <a:lnTo>
                  <a:pt x="8475" y="14579"/>
                </a:lnTo>
                <a:cubicBezTo>
                  <a:pt x="8486" y="14554"/>
                  <a:pt x="8511" y="14539"/>
                  <a:pt x="8538" y="14540"/>
                </a:cubicBezTo>
                <a:cubicBezTo>
                  <a:pt x="8565" y="14541"/>
                  <a:pt x="8589" y="14558"/>
                  <a:pt x="8598" y="14583"/>
                </a:cubicBezTo>
                <a:lnTo>
                  <a:pt x="8633" y="14676"/>
                </a:lnTo>
                <a:lnTo>
                  <a:pt x="8508" y="14723"/>
                </a:lnTo>
                <a:lnTo>
                  <a:pt x="8473" y="14630"/>
                </a:lnTo>
                <a:lnTo>
                  <a:pt x="8596" y="14634"/>
                </a:lnTo>
                <a:lnTo>
                  <a:pt x="8504" y="14837"/>
                </a:lnTo>
                <a:lnTo>
                  <a:pt x="8508" y="14824"/>
                </a:lnTo>
                <a:lnTo>
                  <a:pt x="8459" y="15031"/>
                </a:lnTo>
                <a:lnTo>
                  <a:pt x="8329" y="15000"/>
                </a:lnTo>
                <a:close/>
                <a:moveTo>
                  <a:pt x="8707" y="15082"/>
                </a:moveTo>
                <a:lnTo>
                  <a:pt x="8750" y="15369"/>
                </a:lnTo>
                <a:lnTo>
                  <a:pt x="8776" y="15613"/>
                </a:lnTo>
                <a:lnTo>
                  <a:pt x="8644" y="15628"/>
                </a:lnTo>
                <a:lnTo>
                  <a:pt x="8618" y="15388"/>
                </a:lnTo>
                <a:lnTo>
                  <a:pt x="8575" y="15101"/>
                </a:lnTo>
                <a:lnTo>
                  <a:pt x="8707" y="15082"/>
                </a:lnTo>
                <a:close/>
                <a:moveTo>
                  <a:pt x="8819" y="16011"/>
                </a:moveTo>
                <a:lnTo>
                  <a:pt x="8861" y="16401"/>
                </a:lnTo>
                <a:lnTo>
                  <a:pt x="8874" y="16543"/>
                </a:lnTo>
                <a:lnTo>
                  <a:pt x="8741" y="16554"/>
                </a:lnTo>
                <a:lnTo>
                  <a:pt x="8729" y="16415"/>
                </a:lnTo>
                <a:lnTo>
                  <a:pt x="8687" y="16025"/>
                </a:lnTo>
                <a:lnTo>
                  <a:pt x="8819" y="16011"/>
                </a:lnTo>
                <a:close/>
                <a:moveTo>
                  <a:pt x="8908" y="16941"/>
                </a:moveTo>
                <a:lnTo>
                  <a:pt x="8954" y="17468"/>
                </a:lnTo>
                <a:lnTo>
                  <a:pt x="8954" y="17471"/>
                </a:lnTo>
                <a:lnTo>
                  <a:pt x="8822" y="17486"/>
                </a:lnTo>
                <a:lnTo>
                  <a:pt x="8821" y="17480"/>
                </a:lnTo>
                <a:lnTo>
                  <a:pt x="8775" y="16953"/>
                </a:lnTo>
                <a:lnTo>
                  <a:pt x="8908" y="16941"/>
                </a:lnTo>
                <a:close/>
                <a:moveTo>
                  <a:pt x="8999" y="17869"/>
                </a:moveTo>
                <a:lnTo>
                  <a:pt x="9046" y="18294"/>
                </a:lnTo>
                <a:lnTo>
                  <a:pt x="8980" y="18235"/>
                </a:lnTo>
                <a:lnTo>
                  <a:pt x="9036" y="18235"/>
                </a:lnTo>
                <a:lnTo>
                  <a:pt x="8969" y="18295"/>
                </a:lnTo>
                <a:lnTo>
                  <a:pt x="8974" y="18246"/>
                </a:lnTo>
                <a:lnTo>
                  <a:pt x="9106" y="18257"/>
                </a:lnTo>
                <a:lnTo>
                  <a:pt x="9102" y="18307"/>
                </a:lnTo>
                <a:cubicBezTo>
                  <a:pt x="9099" y="18341"/>
                  <a:pt x="9070" y="18368"/>
                  <a:pt x="9036" y="18368"/>
                </a:cubicBezTo>
                <a:lnTo>
                  <a:pt x="8980" y="18368"/>
                </a:lnTo>
                <a:cubicBezTo>
                  <a:pt x="8946" y="18368"/>
                  <a:pt x="8918" y="18342"/>
                  <a:pt x="8914" y="18309"/>
                </a:cubicBezTo>
                <a:lnTo>
                  <a:pt x="8866" y="17883"/>
                </a:lnTo>
                <a:lnTo>
                  <a:pt x="8999" y="17869"/>
                </a:lnTo>
                <a:close/>
                <a:moveTo>
                  <a:pt x="9008" y="17847"/>
                </a:moveTo>
                <a:lnTo>
                  <a:pt x="9054" y="17316"/>
                </a:lnTo>
                <a:lnTo>
                  <a:pt x="9187" y="17327"/>
                </a:lnTo>
                <a:lnTo>
                  <a:pt x="9141" y="17859"/>
                </a:lnTo>
                <a:lnTo>
                  <a:pt x="9008" y="17847"/>
                </a:lnTo>
                <a:close/>
                <a:moveTo>
                  <a:pt x="9074" y="16919"/>
                </a:moveTo>
                <a:lnTo>
                  <a:pt x="9095" y="16387"/>
                </a:lnTo>
                <a:lnTo>
                  <a:pt x="9228" y="16392"/>
                </a:lnTo>
                <a:lnTo>
                  <a:pt x="9207" y="16925"/>
                </a:lnTo>
                <a:lnTo>
                  <a:pt x="9074" y="16919"/>
                </a:lnTo>
                <a:close/>
                <a:moveTo>
                  <a:pt x="9111" y="15987"/>
                </a:moveTo>
                <a:lnTo>
                  <a:pt x="9132" y="15454"/>
                </a:lnTo>
                <a:lnTo>
                  <a:pt x="9265" y="15459"/>
                </a:lnTo>
                <a:lnTo>
                  <a:pt x="9244" y="15992"/>
                </a:lnTo>
                <a:lnTo>
                  <a:pt x="9111" y="15987"/>
                </a:lnTo>
                <a:close/>
                <a:moveTo>
                  <a:pt x="9148" y="15054"/>
                </a:moveTo>
                <a:lnTo>
                  <a:pt x="9154" y="14898"/>
                </a:lnTo>
                <a:lnTo>
                  <a:pt x="9167" y="14522"/>
                </a:lnTo>
                <a:lnTo>
                  <a:pt x="9300" y="14526"/>
                </a:lnTo>
                <a:lnTo>
                  <a:pt x="9287" y="14903"/>
                </a:lnTo>
                <a:lnTo>
                  <a:pt x="9281" y="15060"/>
                </a:lnTo>
                <a:lnTo>
                  <a:pt x="9148" y="15054"/>
                </a:lnTo>
                <a:close/>
                <a:moveTo>
                  <a:pt x="9180" y="14122"/>
                </a:moveTo>
                <a:lnTo>
                  <a:pt x="9197" y="13589"/>
                </a:lnTo>
                <a:lnTo>
                  <a:pt x="9330" y="13593"/>
                </a:lnTo>
                <a:lnTo>
                  <a:pt x="9313" y="14126"/>
                </a:lnTo>
                <a:lnTo>
                  <a:pt x="9180" y="14122"/>
                </a:lnTo>
                <a:close/>
                <a:moveTo>
                  <a:pt x="9210" y="13189"/>
                </a:moveTo>
                <a:lnTo>
                  <a:pt x="9227" y="12656"/>
                </a:lnTo>
                <a:lnTo>
                  <a:pt x="9361" y="12660"/>
                </a:lnTo>
                <a:lnTo>
                  <a:pt x="9343" y="13193"/>
                </a:lnTo>
                <a:lnTo>
                  <a:pt x="9210" y="13189"/>
                </a:lnTo>
                <a:close/>
                <a:moveTo>
                  <a:pt x="9241" y="12256"/>
                </a:moveTo>
                <a:lnTo>
                  <a:pt x="9258" y="11723"/>
                </a:lnTo>
                <a:lnTo>
                  <a:pt x="9391" y="11728"/>
                </a:lnTo>
                <a:lnTo>
                  <a:pt x="9374" y="12261"/>
                </a:lnTo>
                <a:lnTo>
                  <a:pt x="9241" y="12256"/>
                </a:lnTo>
                <a:close/>
                <a:moveTo>
                  <a:pt x="9269" y="11324"/>
                </a:moveTo>
                <a:lnTo>
                  <a:pt x="9282" y="10791"/>
                </a:lnTo>
                <a:lnTo>
                  <a:pt x="9415" y="10794"/>
                </a:lnTo>
                <a:lnTo>
                  <a:pt x="9403" y="11327"/>
                </a:lnTo>
                <a:lnTo>
                  <a:pt x="9269" y="11324"/>
                </a:lnTo>
                <a:close/>
                <a:moveTo>
                  <a:pt x="9291" y="10391"/>
                </a:moveTo>
                <a:lnTo>
                  <a:pt x="9304" y="9858"/>
                </a:lnTo>
                <a:lnTo>
                  <a:pt x="9437" y="9861"/>
                </a:lnTo>
                <a:lnTo>
                  <a:pt x="9425" y="10394"/>
                </a:lnTo>
                <a:lnTo>
                  <a:pt x="9291" y="10391"/>
                </a:lnTo>
                <a:close/>
                <a:moveTo>
                  <a:pt x="9314" y="9458"/>
                </a:moveTo>
                <a:lnTo>
                  <a:pt x="9326" y="8925"/>
                </a:lnTo>
                <a:lnTo>
                  <a:pt x="9459" y="8928"/>
                </a:lnTo>
                <a:lnTo>
                  <a:pt x="9447" y="9461"/>
                </a:lnTo>
                <a:lnTo>
                  <a:pt x="9314" y="9458"/>
                </a:lnTo>
                <a:close/>
                <a:moveTo>
                  <a:pt x="9336" y="8525"/>
                </a:moveTo>
                <a:lnTo>
                  <a:pt x="9348" y="7992"/>
                </a:lnTo>
                <a:lnTo>
                  <a:pt x="9482" y="7995"/>
                </a:lnTo>
                <a:lnTo>
                  <a:pt x="9469" y="8528"/>
                </a:lnTo>
                <a:lnTo>
                  <a:pt x="9336" y="8525"/>
                </a:lnTo>
                <a:close/>
                <a:moveTo>
                  <a:pt x="9358" y="7592"/>
                </a:moveTo>
                <a:lnTo>
                  <a:pt x="9358" y="7584"/>
                </a:lnTo>
                <a:lnTo>
                  <a:pt x="9371" y="7058"/>
                </a:lnTo>
                <a:lnTo>
                  <a:pt x="9504" y="7062"/>
                </a:lnTo>
                <a:lnTo>
                  <a:pt x="9491" y="7587"/>
                </a:lnTo>
                <a:lnTo>
                  <a:pt x="9491" y="7595"/>
                </a:lnTo>
                <a:lnTo>
                  <a:pt x="9358" y="7592"/>
                </a:lnTo>
                <a:close/>
                <a:moveTo>
                  <a:pt x="9381" y="6659"/>
                </a:moveTo>
                <a:lnTo>
                  <a:pt x="9394" y="6125"/>
                </a:lnTo>
                <a:lnTo>
                  <a:pt x="9528" y="6129"/>
                </a:lnTo>
                <a:lnTo>
                  <a:pt x="9514" y="6662"/>
                </a:lnTo>
                <a:lnTo>
                  <a:pt x="9381" y="6659"/>
                </a:lnTo>
                <a:close/>
                <a:moveTo>
                  <a:pt x="9404" y="5726"/>
                </a:moveTo>
                <a:lnTo>
                  <a:pt x="9418" y="5192"/>
                </a:lnTo>
                <a:lnTo>
                  <a:pt x="9551" y="5196"/>
                </a:lnTo>
                <a:lnTo>
                  <a:pt x="9538" y="5729"/>
                </a:lnTo>
                <a:lnTo>
                  <a:pt x="9404" y="5726"/>
                </a:lnTo>
                <a:close/>
                <a:moveTo>
                  <a:pt x="9428" y="4792"/>
                </a:moveTo>
                <a:lnTo>
                  <a:pt x="9441" y="4259"/>
                </a:lnTo>
                <a:lnTo>
                  <a:pt x="9574" y="4263"/>
                </a:lnTo>
                <a:lnTo>
                  <a:pt x="9561" y="4796"/>
                </a:lnTo>
                <a:lnTo>
                  <a:pt x="9428" y="4792"/>
                </a:lnTo>
                <a:close/>
                <a:moveTo>
                  <a:pt x="9451" y="3860"/>
                </a:moveTo>
                <a:lnTo>
                  <a:pt x="9462" y="3327"/>
                </a:lnTo>
                <a:lnTo>
                  <a:pt x="9595" y="3329"/>
                </a:lnTo>
                <a:lnTo>
                  <a:pt x="9584" y="3862"/>
                </a:lnTo>
                <a:lnTo>
                  <a:pt x="9451" y="3860"/>
                </a:lnTo>
                <a:close/>
                <a:moveTo>
                  <a:pt x="9470" y="2927"/>
                </a:moveTo>
                <a:lnTo>
                  <a:pt x="9481" y="2393"/>
                </a:lnTo>
                <a:lnTo>
                  <a:pt x="9614" y="2396"/>
                </a:lnTo>
                <a:lnTo>
                  <a:pt x="9603" y="2929"/>
                </a:lnTo>
                <a:lnTo>
                  <a:pt x="9470" y="2927"/>
                </a:lnTo>
                <a:close/>
                <a:moveTo>
                  <a:pt x="9489" y="1993"/>
                </a:moveTo>
                <a:lnTo>
                  <a:pt x="9500" y="1460"/>
                </a:lnTo>
                <a:lnTo>
                  <a:pt x="9633" y="1463"/>
                </a:lnTo>
                <a:lnTo>
                  <a:pt x="9622" y="1996"/>
                </a:lnTo>
                <a:lnTo>
                  <a:pt x="9489" y="1993"/>
                </a:lnTo>
                <a:close/>
                <a:moveTo>
                  <a:pt x="9515" y="1056"/>
                </a:moveTo>
                <a:lnTo>
                  <a:pt x="9560" y="525"/>
                </a:lnTo>
                <a:lnTo>
                  <a:pt x="9693" y="536"/>
                </a:lnTo>
                <a:lnTo>
                  <a:pt x="9648" y="1068"/>
                </a:lnTo>
                <a:lnTo>
                  <a:pt x="9515" y="1056"/>
                </a:lnTo>
                <a:close/>
                <a:moveTo>
                  <a:pt x="9593" y="126"/>
                </a:moveTo>
                <a:lnTo>
                  <a:pt x="9599" y="62"/>
                </a:lnTo>
                <a:cubicBezTo>
                  <a:pt x="9602" y="28"/>
                  <a:pt x="9630" y="2"/>
                  <a:pt x="9664" y="1"/>
                </a:cubicBezTo>
                <a:cubicBezTo>
                  <a:pt x="9698" y="0"/>
                  <a:pt x="9727" y="25"/>
                  <a:pt x="9731" y="59"/>
                </a:cubicBezTo>
                <a:lnTo>
                  <a:pt x="9791" y="524"/>
                </a:lnTo>
                <a:lnTo>
                  <a:pt x="9659" y="541"/>
                </a:lnTo>
                <a:lnTo>
                  <a:pt x="9599" y="76"/>
                </a:lnTo>
                <a:lnTo>
                  <a:pt x="9732" y="73"/>
                </a:lnTo>
                <a:lnTo>
                  <a:pt x="9726" y="138"/>
                </a:lnTo>
                <a:lnTo>
                  <a:pt x="9593" y="126"/>
                </a:lnTo>
                <a:close/>
                <a:moveTo>
                  <a:pt x="9831" y="927"/>
                </a:moveTo>
                <a:lnTo>
                  <a:pt x="9855" y="1460"/>
                </a:lnTo>
                <a:lnTo>
                  <a:pt x="9722" y="1466"/>
                </a:lnTo>
                <a:lnTo>
                  <a:pt x="9698" y="933"/>
                </a:lnTo>
                <a:lnTo>
                  <a:pt x="9831" y="927"/>
                </a:lnTo>
                <a:close/>
                <a:moveTo>
                  <a:pt x="9873" y="1859"/>
                </a:moveTo>
                <a:lnTo>
                  <a:pt x="9896" y="2392"/>
                </a:lnTo>
                <a:lnTo>
                  <a:pt x="9763" y="2398"/>
                </a:lnTo>
                <a:lnTo>
                  <a:pt x="9739" y="1865"/>
                </a:lnTo>
                <a:lnTo>
                  <a:pt x="9873" y="1859"/>
                </a:lnTo>
                <a:close/>
                <a:moveTo>
                  <a:pt x="9914" y="2792"/>
                </a:moveTo>
                <a:lnTo>
                  <a:pt x="9935" y="3263"/>
                </a:lnTo>
                <a:lnTo>
                  <a:pt x="9937" y="3326"/>
                </a:lnTo>
                <a:lnTo>
                  <a:pt x="9804" y="3329"/>
                </a:lnTo>
                <a:lnTo>
                  <a:pt x="9802" y="3269"/>
                </a:lnTo>
                <a:lnTo>
                  <a:pt x="9781" y="2798"/>
                </a:lnTo>
                <a:lnTo>
                  <a:pt x="9914" y="2792"/>
                </a:lnTo>
                <a:close/>
                <a:moveTo>
                  <a:pt x="9947" y="3726"/>
                </a:moveTo>
                <a:lnTo>
                  <a:pt x="9960" y="4259"/>
                </a:lnTo>
                <a:lnTo>
                  <a:pt x="9827" y="4262"/>
                </a:lnTo>
                <a:lnTo>
                  <a:pt x="9814" y="3729"/>
                </a:lnTo>
                <a:lnTo>
                  <a:pt x="9947" y="3726"/>
                </a:lnTo>
                <a:close/>
                <a:moveTo>
                  <a:pt x="9970" y="4659"/>
                </a:moveTo>
                <a:lnTo>
                  <a:pt x="9983" y="5192"/>
                </a:lnTo>
                <a:lnTo>
                  <a:pt x="9850" y="5195"/>
                </a:lnTo>
                <a:lnTo>
                  <a:pt x="9837" y="4662"/>
                </a:lnTo>
                <a:lnTo>
                  <a:pt x="9970" y="4659"/>
                </a:lnTo>
                <a:close/>
                <a:moveTo>
                  <a:pt x="9993" y="5592"/>
                </a:moveTo>
                <a:lnTo>
                  <a:pt x="10006" y="6125"/>
                </a:lnTo>
                <a:lnTo>
                  <a:pt x="9873" y="6128"/>
                </a:lnTo>
                <a:lnTo>
                  <a:pt x="9860" y="5595"/>
                </a:lnTo>
                <a:lnTo>
                  <a:pt x="9993" y="5592"/>
                </a:lnTo>
                <a:close/>
                <a:moveTo>
                  <a:pt x="10016" y="6525"/>
                </a:moveTo>
                <a:lnTo>
                  <a:pt x="10028" y="6995"/>
                </a:lnTo>
                <a:lnTo>
                  <a:pt x="10029" y="7059"/>
                </a:lnTo>
                <a:lnTo>
                  <a:pt x="9896" y="7061"/>
                </a:lnTo>
                <a:lnTo>
                  <a:pt x="9895" y="6999"/>
                </a:lnTo>
                <a:lnTo>
                  <a:pt x="9883" y="6528"/>
                </a:lnTo>
                <a:lnTo>
                  <a:pt x="10016" y="6525"/>
                </a:lnTo>
                <a:close/>
                <a:moveTo>
                  <a:pt x="10034" y="7459"/>
                </a:moveTo>
                <a:lnTo>
                  <a:pt x="10041" y="7992"/>
                </a:lnTo>
                <a:lnTo>
                  <a:pt x="9908" y="7994"/>
                </a:lnTo>
                <a:lnTo>
                  <a:pt x="9901" y="7461"/>
                </a:lnTo>
                <a:lnTo>
                  <a:pt x="10034" y="7459"/>
                </a:lnTo>
                <a:close/>
                <a:moveTo>
                  <a:pt x="10047" y="8392"/>
                </a:moveTo>
                <a:lnTo>
                  <a:pt x="10054" y="8925"/>
                </a:lnTo>
                <a:lnTo>
                  <a:pt x="9920" y="8927"/>
                </a:lnTo>
                <a:lnTo>
                  <a:pt x="9913" y="8394"/>
                </a:lnTo>
                <a:lnTo>
                  <a:pt x="10047" y="8392"/>
                </a:lnTo>
                <a:close/>
                <a:moveTo>
                  <a:pt x="10059" y="9325"/>
                </a:moveTo>
                <a:lnTo>
                  <a:pt x="10066" y="9859"/>
                </a:lnTo>
                <a:lnTo>
                  <a:pt x="9933" y="9860"/>
                </a:lnTo>
                <a:lnTo>
                  <a:pt x="9926" y="9327"/>
                </a:lnTo>
                <a:lnTo>
                  <a:pt x="10059" y="9325"/>
                </a:lnTo>
                <a:close/>
                <a:moveTo>
                  <a:pt x="10072" y="10259"/>
                </a:moveTo>
                <a:lnTo>
                  <a:pt x="10079" y="10792"/>
                </a:lnTo>
                <a:lnTo>
                  <a:pt x="9945" y="10794"/>
                </a:lnTo>
                <a:lnTo>
                  <a:pt x="9938" y="10260"/>
                </a:lnTo>
                <a:lnTo>
                  <a:pt x="10072" y="10259"/>
                </a:lnTo>
                <a:close/>
                <a:moveTo>
                  <a:pt x="10084" y="11191"/>
                </a:moveTo>
                <a:lnTo>
                  <a:pt x="10097" y="11724"/>
                </a:lnTo>
                <a:lnTo>
                  <a:pt x="9963" y="11728"/>
                </a:lnTo>
                <a:lnTo>
                  <a:pt x="9951" y="11194"/>
                </a:lnTo>
                <a:lnTo>
                  <a:pt x="10084" y="11191"/>
                </a:lnTo>
                <a:close/>
                <a:moveTo>
                  <a:pt x="10106" y="12124"/>
                </a:moveTo>
                <a:lnTo>
                  <a:pt x="10119" y="12657"/>
                </a:lnTo>
                <a:lnTo>
                  <a:pt x="9985" y="12661"/>
                </a:lnTo>
                <a:lnTo>
                  <a:pt x="9973" y="12127"/>
                </a:lnTo>
                <a:lnTo>
                  <a:pt x="10106" y="12124"/>
                </a:lnTo>
                <a:close/>
                <a:moveTo>
                  <a:pt x="10128" y="13057"/>
                </a:moveTo>
                <a:lnTo>
                  <a:pt x="10141" y="13591"/>
                </a:lnTo>
                <a:lnTo>
                  <a:pt x="10007" y="13594"/>
                </a:lnTo>
                <a:lnTo>
                  <a:pt x="9995" y="13060"/>
                </a:lnTo>
                <a:lnTo>
                  <a:pt x="10128" y="13057"/>
                </a:lnTo>
                <a:close/>
                <a:moveTo>
                  <a:pt x="10150" y="13990"/>
                </a:moveTo>
                <a:lnTo>
                  <a:pt x="10163" y="14524"/>
                </a:lnTo>
                <a:lnTo>
                  <a:pt x="10029" y="14527"/>
                </a:lnTo>
                <a:lnTo>
                  <a:pt x="10017" y="13994"/>
                </a:lnTo>
                <a:lnTo>
                  <a:pt x="10150" y="13990"/>
                </a:lnTo>
                <a:close/>
                <a:moveTo>
                  <a:pt x="10172" y="14923"/>
                </a:moveTo>
                <a:lnTo>
                  <a:pt x="10176" y="15101"/>
                </a:lnTo>
                <a:lnTo>
                  <a:pt x="10187" y="15456"/>
                </a:lnTo>
                <a:lnTo>
                  <a:pt x="10054" y="15460"/>
                </a:lnTo>
                <a:lnTo>
                  <a:pt x="10043" y="15105"/>
                </a:lnTo>
                <a:lnTo>
                  <a:pt x="10039" y="14927"/>
                </a:lnTo>
                <a:lnTo>
                  <a:pt x="10172" y="14923"/>
                </a:lnTo>
                <a:close/>
                <a:moveTo>
                  <a:pt x="10200" y="15856"/>
                </a:moveTo>
                <a:lnTo>
                  <a:pt x="10217" y="16389"/>
                </a:lnTo>
                <a:lnTo>
                  <a:pt x="10083" y="16393"/>
                </a:lnTo>
                <a:lnTo>
                  <a:pt x="10067" y="15860"/>
                </a:lnTo>
                <a:lnTo>
                  <a:pt x="10200" y="15856"/>
                </a:lnTo>
                <a:close/>
                <a:moveTo>
                  <a:pt x="10229" y="16789"/>
                </a:moveTo>
                <a:lnTo>
                  <a:pt x="10246" y="17322"/>
                </a:lnTo>
                <a:lnTo>
                  <a:pt x="10112" y="17326"/>
                </a:lnTo>
                <a:lnTo>
                  <a:pt x="10096" y="16793"/>
                </a:lnTo>
                <a:lnTo>
                  <a:pt x="10229" y="16789"/>
                </a:lnTo>
                <a:close/>
                <a:moveTo>
                  <a:pt x="10258" y="17722"/>
                </a:moveTo>
                <a:lnTo>
                  <a:pt x="10269" y="18060"/>
                </a:lnTo>
                <a:lnTo>
                  <a:pt x="10280" y="18253"/>
                </a:lnTo>
                <a:lnTo>
                  <a:pt x="10147" y="18260"/>
                </a:lnTo>
                <a:lnTo>
                  <a:pt x="10136" y="18064"/>
                </a:lnTo>
                <a:lnTo>
                  <a:pt x="10125" y="17726"/>
                </a:lnTo>
                <a:lnTo>
                  <a:pt x="10258" y="17722"/>
                </a:lnTo>
                <a:close/>
                <a:moveTo>
                  <a:pt x="10302" y="18652"/>
                </a:moveTo>
                <a:lnTo>
                  <a:pt x="10332" y="19185"/>
                </a:lnTo>
                <a:lnTo>
                  <a:pt x="10199" y="19192"/>
                </a:lnTo>
                <a:lnTo>
                  <a:pt x="10169" y="18660"/>
                </a:lnTo>
                <a:lnTo>
                  <a:pt x="10302" y="18652"/>
                </a:lnTo>
                <a:close/>
                <a:moveTo>
                  <a:pt x="10355" y="19584"/>
                </a:moveTo>
                <a:lnTo>
                  <a:pt x="10361" y="19694"/>
                </a:lnTo>
                <a:lnTo>
                  <a:pt x="10359" y="19680"/>
                </a:lnTo>
                <a:lnTo>
                  <a:pt x="10470" y="20066"/>
                </a:lnTo>
                <a:lnTo>
                  <a:pt x="10340" y="20073"/>
                </a:lnTo>
                <a:lnTo>
                  <a:pt x="10344" y="20052"/>
                </a:lnTo>
                <a:lnTo>
                  <a:pt x="10475" y="20075"/>
                </a:lnTo>
                <a:lnTo>
                  <a:pt x="10472" y="20096"/>
                </a:lnTo>
                <a:cubicBezTo>
                  <a:pt x="10466" y="20126"/>
                  <a:pt x="10440" y="20149"/>
                  <a:pt x="10409" y="20151"/>
                </a:cubicBezTo>
                <a:cubicBezTo>
                  <a:pt x="10378" y="20152"/>
                  <a:pt x="10350" y="20132"/>
                  <a:pt x="10342" y="20103"/>
                </a:cubicBezTo>
                <a:lnTo>
                  <a:pt x="10231" y="19717"/>
                </a:lnTo>
                <a:cubicBezTo>
                  <a:pt x="10229" y="19712"/>
                  <a:pt x="10228" y="19707"/>
                  <a:pt x="10228" y="19702"/>
                </a:cubicBezTo>
                <a:lnTo>
                  <a:pt x="10222" y="19592"/>
                </a:lnTo>
                <a:lnTo>
                  <a:pt x="10355" y="19584"/>
                </a:lnTo>
                <a:close/>
                <a:moveTo>
                  <a:pt x="10412" y="19658"/>
                </a:moveTo>
                <a:lnTo>
                  <a:pt x="10433" y="19540"/>
                </a:lnTo>
                <a:lnTo>
                  <a:pt x="10453" y="19135"/>
                </a:lnTo>
                <a:lnTo>
                  <a:pt x="10586" y="19142"/>
                </a:lnTo>
                <a:lnTo>
                  <a:pt x="10564" y="19563"/>
                </a:lnTo>
                <a:lnTo>
                  <a:pt x="10544" y="19681"/>
                </a:lnTo>
                <a:lnTo>
                  <a:pt x="10412" y="19658"/>
                </a:lnTo>
                <a:close/>
                <a:moveTo>
                  <a:pt x="10473" y="18735"/>
                </a:moveTo>
                <a:lnTo>
                  <a:pt x="10487" y="18445"/>
                </a:lnTo>
                <a:lnTo>
                  <a:pt x="10507" y="18201"/>
                </a:lnTo>
                <a:lnTo>
                  <a:pt x="10639" y="18212"/>
                </a:lnTo>
                <a:lnTo>
                  <a:pt x="10621" y="18452"/>
                </a:lnTo>
                <a:lnTo>
                  <a:pt x="10606" y="18742"/>
                </a:lnTo>
                <a:lnTo>
                  <a:pt x="10473" y="18735"/>
                </a:lnTo>
                <a:close/>
                <a:moveTo>
                  <a:pt x="10538" y="17802"/>
                </a:moveTo>
                <a:lnTo>
                  <a:pt x="10580" y="17271"/>
                </a:lnTo>
                <a:lnTo>
                  <a:pt x="10713" y="17281"/>
                </a:lnTo>
                <a:lnTo>
                  <a:pt x="10671" y="17813"/>
                </a:lnTo>
                <a:lnTo>
                  <a:pt x="10538" y="17802"/>
                </a:lnTo>
                <a:close/>
                <a:moveTo>
                  <a:pt x="10622" y="16871"/>
                </a:moveTo>
                <a:lnTo>
                  <a:pt x="10673" y="16401"/>
                </a:lnTo>
                <a:lnTo>
                  <a:pt x="10688" y="16334"/>
                </a:lnTo>
                <a:lnTo>
                  <a:pt x="10818" y="16365"/>
                </a:lnTo>
                <a:lnTo>
                  <a:pt x="10805" y="16415"/>
                </a:lnTo>
                <a:lnTo>
                  <a:pt x="10755" y="16885"/>
                </a:lnTo>
                <a:lnTo>
                  <a:pt x="10622" y="16871"/>
                </a:lnTo>
                <a:close/>
                <a:moveTo>
                  <a:pt x="10913" y="15979"/>
                </a:moveTo>
                <a:lnTo>
                  <a:pt x="10964" y="15995"/>
                </a:lnTo>
                <a:cubicBezTo>
                  <a:pt x="10989" y="16004"/>
                  <a:pt x="11007" y="16026"/>
                  <a:pt x="11009" y="16053"/>
                </a:cubicBezTo>
                <a:lnTo>
                  <a:pt x="11046" y="16457"/>
                </a:lnTo>
                <a:lnTo>
                  <a:pt x="11044" y="16446"/>
                </a:lnTo>
                <a:lnTo>
                  <a:pt x="11063" y="16517"/>
                </a:lnTo>
                <a:lnTo>
                  <a:pt x="10934" y="16551"/>
                </a:lnTo>
                <a:lnTo>
                  <a:pt x="10915" y="16480"/>
                </a:lnTo>
                <a:cubicBezTo>
                  <a:pt x="10914" y="16477"/>
                  <a:pt x="10914" y="16473"/>
                  <a:pt x="10913" y="16469"/>
                </a:cubicBezTo>
                <a:lnTo>
                  <a:pt x="10876" y="16065"/>
                </a:lnTo>
                <a:lnTo>
                  <a:pt x="10922" y="16122"/>
                </a:lnTo>
                <a:lnTo>
                  <a:pt x="10871" y="16105"/>
                </a:lnTo>
                <a:lnTo>
                  <a:pt x="10913" y="15979"/>
                </a:lnTo>
                <a:close/>
                <a:moveTo>
                  <a:pt x="11165" y="16904"/>
                </a:moveTo>
                <a:lnTo>
                  <a:pt x="11248" y="17218"/>
                </a:lnTo>
                <a:lnTo>
                  <a:pt x="11119" y="17252"/>
                </a:lnTo>
                <a:lnTo>
                  <a:pt x="11036" y="16938"/>
                </a:lnTo>
                <a:lnTo>
                  <a:pt x="11165" y="16904"/>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4313160" y="3801960"/>
            <a:ext cx="1224000" cy="1335240"/>
          </a:xfrm>
          <a:custGeom>
            <a:avLst/>
            <a:gdLst/>
            <a:ahLst/>
            <a:rect l="l" t="t" r="r" b="b"/>
            <a:pathLst>
              <a:path w="5654" h="6124">
                <a:moveTo>
                  <a:pt x="59" y="4430"/>
                </a:moveTo>
                <a:lnTo>
                  <a:pt x="106" y="4522"/>
                </a:lnTo>
                <a:lnTo>
                  <a:pt x="93" y="4508"/>
                </a:lnTo>
                <a:lnTo>
                  <a:pt x="139" y="4535"/>
                </a:lnTo>
                <a:lnTo>
                  <a:pt x="99" y="4540"/>
                </a:lnTo>
                <a:lnTo>
                  <a:pt x="126" y="4513"/>
                </a:lnTo>
                <a:lnTo>
                  <a:pt x="173" y="4467"/>
                </a:lnTo>
                <a:lnTo>
                  <a:pt x="179" y="4461"/>
                </a:lnTo>
                <a:lnTo>
                  <a:pt x="222" y="4513"/>
                </a:lnTo>
                <a:lnTo>
                  <a:pt x="220" y="4514"/>
                </a:lnTo>
                <a:lnTo>
                  <a:pt x="173" y="4560"/>
                </a:lnTo>
                <a:lnTo>
                  <a:pt x="146" y="4588"/>
                </a:lnTo>
                <a:cubicBezTo>
                  <a:pt x="135" y="4598"/>
                  <a:pt x="118" y="4601"/>
                  <a:pt x="105" y="4593"/>
                </a:cubicBezTo>
                <a:lnTo>
                  <a:pt x="59" y="4565"/>
                </a:lnTo>
                <a:cubicBezTo>
                  <a:pt x="53" y="4562"/>
                  <a:pt x="49" y="4557"/>
                  <a:pt x="46" y="4552"/>
                </a:cubicBezTo>
                <a:lnTo>
                  <a:pt x="0" y="4460"/>
                </a:lnTo>
                <a:lnTo>
                  <a:pt x="59" y="4430"/>
                </a:lnTo>
                <a:close/>
                <a:moveTo>
                  <a:pt x="395" y="4429"/>
                </a:moveTo>
                <a:lnTo>
                  <a:pt x="403" y="4432"/>
                </a:lnTo>
                <a:cubicBezTo>
                  <a:pt x="407" y="4434"/>
                  <a:pt x="411" y="4436"/>
                  <a:pt x="414" y="4439"/>
                </a:cubicBezTo>
                <a:lnTo>
                  <a:pt x="442" y="4467"/>
                </a:lnTo>
                <a:lnTo>
                  <a:pt x="436" y="4462"/>
                </a:lnTo>
                <a:lnTo>
                  <a:pt x="482" y="4490"/>
                </a:lnTo>
                <a:lnTo>
                  <a:pt x="465" y="4485"/>
                </a:lnTo>
                <a:lnTo>
                  <a:pt x="521" y="4485"/>
                </a:lnTo>
                <a:lnTo>
                  <a:pt x="567" y="4485"/>
                </a:lnTo>
                <a:lnTo>
                  <a:pt x="613" y="4485"/>
                </a:lnTo>
                <a:cubicBezTo>
                  <a:pt x="620" y="4485"/>
                  <a:pt x="626" y="4487"/>
                  <a:pt x="632" y="4490"/>
                </a:cubicBezTo>
                <a:lnTo>
                  <a:pt x="645" y="4499"/>
                </a:lnTo>
                <a:lnTo>
                  <a:pt x="608" y="4555"/>
                </a:lnTo>
                <a:lnTo>
                  <a:pt x="595" y="4546"/>
                </a:lnTo>
                <a:lnTo>
                  <a:pt x="613" y="4552"/>
                </a:lnTo>
                <a:lnTo>
                  <a:pt x="567" y="4552"/>
                </a:lnTo>
                <a:lnTo>
                  <a:pt x="521" y="4552"/>
                </a:lnTo>
                <a:lnTo>
                  <a:pt x="465" y="4552"/>
                </a:lnTo>
                <a:cubicBezTo>
                  <a:pt x="459" y="4552"/>
                  <a:pt x="453" y="4550"/>
                  <a:pt x="448" y="4547"/>
                </a:cubicBezTo>
                <a:lnTo>
                  <a:pt x="402" y="4519"/>
                </a:lnTo>
                <a:cubicBezTo>
                  <a:pt x="399" y="4518"/>
                  <a:pt x="397" y="4516"/>
                  <a:pt x="395" y="4514"/>
                </a:cubicBezTo>
                <a:lnTo>
                  <a:pt x="367" y="4487"/>
                </a:lnTo>
                <a:lnTo>
                  <a:pt x="379" y="4494"/>
                </a:lnTo>
                <a:lnTo>
                  <a:pt x="370" y="4491"/>
                </a:lnTo>
                <a:lnTo>
                  <a:pt x="395" y="4429"/>
                </a:lnTo>
                <a:close/>
                <a:moveTo>
                  <a:pt x="801" y="4629"/>
                </a:moveTo>
                <a:lnTo>
                  <a:pt x="813" y="4641"/>
                </a:lnTo>
                <a:lnTo>
                  <a:pt x="802" y="4634"/>
                </a:lnTo>
                <a:lnTo>
                  <a:pt x="848" y="4652"/>
                </a:lnTo>
                <a:cubicBezTo>
                  <a:pt x="852" y="4654"/>
                  <a:pt x="856" y="4657"/>
                  <a:pt x="859" y="4660"/>
                </a:cubicBezTo>
                <a:lnTo>
                  <a:pt x="887" y="4687"/>
                </a:lnTo>
                <a:lnTo>
                  <a:pt x="876" y="4680"/>
                </a:lnTo>
                <a:lnTo>
                  <a:pt x="922" y="4698"/>
                </a:lnTo>
                <a:cubicBezTo>
                  <a:pt x="924" y="4699"/>
                  <a:pt x="925" y="4700"/>
                  <a:pt x="927" y="4701"/>
                </a:cubicBezTo>
                <a:lnTo>
                  <a:pt x="973" y="4728"/>
                </a:lnTo>
                <a:lnTo>
                  <a:pt x="956" y="4724"/>
                </a:lnTo>
                <a:lnTo>
                  <a:pt x="1002" y="4724"/>
                </a:lnTo>
                <a:cubicBezTo>
                  <a:pt x="1008" y="4724"/>
                  <a:pt x="1013" y="4725"/>
                  <a:pt x="1017" y="4727"/>
                </a:cubicBezTo>
                <a:lnTo>
                  <a:pt x="1027" y="4732"/>
                </a:lnTo>
                <a:lnTo>
                  <a:pt x="997" y="4791"/>
                </a:lnTo>
                <a:lnTo>
                  <a:pt x="988" y="4787"/>
                </a:lnTo>
                <a:lnTo>
                  <a:pt x="1002" y="4790"/>
                </a:lnTo>
                <a:lnTo>
                  <a:pt x="956" y="4790"/>
                </a:lnTo>
                <a:cubicBezTo>
                  <a:pt x="950" y="4790"/>
                  <a:pt x="944" y="4789"/>
                  <a:pt x="939" y="4786"/>
                </a:cubicBezTo>
                <a:lnTo>
                  <a:pt x="893" y="4758"/>
                </a:lnTo>
                <a:lnTo>
                  <a:pt x="898" y="4760"/>
                </a:lnTo>
                <a:lnTo>
                  <a:pt x="851" y="4742"/>
                </a:lnTo>
                <a:cubicBezTo>
                  <a:pt x="847" y="4740"/>
                  <a:pt x="843" y="4738"/>
                  <a:pt x="840" y="4735"/>
                </a:cubicBezTo>
                <a:lnTo>
                  <a:pt x="812" y="4707"/>
                </a:lnTo>
                <a:lnTo>
                  <a:pt x="823" y="4714"/>
                </a:lnTo>
                <a:lnTo>
                  <a:pt x="777" y="4696"/>
                </a:lnTo>
                <a:cubicBezTo>
                  <a:pt x="773" y="4694"/>
                  <a:pt x="769" y="4692"/>
                  <a:pt x="766" y="4689"/>
                </a:cubicBezTo>
                <a:lnTo>
                  <a:pt x="754" y="4677"/>
                </a:lnTo>
                <a:lnTo>
                  <a:pt x="801" y="4629"/>
                </a:lnTo>
                <a:close/>
                <a:moveTo>
                  <a:pt x="1196" y="4829"/>
                </a:moveTo>
                <a:lnTo>
                  <a:pt x="1237" y="4845"/>
                </a:lnTo>
                <a:cubicBezTo>
                  <a:pt x="1239" y="4846"/>
                  <a:pt x="1240" y="4847"/>
                  <a:pt x="1242" y="4848"/>
                </a:cubicBezTo>
                <a:lnTo>
                  <a:pt x="1288" y="4875"/>
                </a:lnTo>
                <a:lnTo>
                  <a:pt x="1342" y="4902"/>
                </a:lnTo>
                <a:cubicBezTo>
                  <a:pt x="1349" y="4905"/>
                  <a:pt x="1355" y="4911"/>
                  <a:pt x="1358" y="4919"/>
                </a:cubicBezTo>
                <a:lnTo>
                  <a:pt x="1376" y="4965"/>
                </a:lnTo>
                <a:lnTo>
                  <a:pt x="1356" y="4946"/>
                </a:lnTo>
                <a:lnTo>
                  <a:pt x="1410" y="4964"/>
                </a:lnTo>
                <a:lnTo>
                  <a:pt x="1389" y="5027"/>
                </a:lnTo>
                <a:lnTo>
                  <a:pt x="1335" y="5009"/>
                </a:lnTo>
                <a:cubicBezTo>
                  <a:pt x="1326" y="5006"/>
                  <a:pt x="1318" y="4999"/>
                  <a:pt x="1314" y="4990"/>
                </a:cubicBezTo>
                <a:lnTo>
                  <a:pt x="1296" y="4944"/>
                </a:lnTo>
                <a:lnTo>
                  <a:pt x="1312" y="4961"/>
                </a:lnTo>
                <a:lnTo>
                  <a:pt x="1254" y="4933"/>
                </a:lnTo>
                <a:lnTo>
                  <a:pt x="1208" y="4905"/>
                </a:lnTo>
                <a:lnTo>
                  <a:pt x="1213" y="4907"/>
                </a:lnTo>
                <a:lnTo>
                  <a:pt x="1171" y="4891"/>
                </a:lnTo>
                <a:lnTo>
                  <a:pt x="1196" y="4829"/>
                </a:lnTo>
                <a:close/>
                <a:moveTo>
                  <a:pt x="1588" y="5090"/>
                </a:moveTo>
                <a:lnTo>
                  <a:pt x="1598" y="5109"/>
                </a:lnTo>
                <a:lnTo>
                  <a:pt x="1591" y="5101"/>
                </a:lnTo>
                <a:lnTo>
                  <a:pt x="1638" y="5147"/>
                </a:lnTo>
                <a:lnTo>
                  <a:pt x="1691" y="5190"/>
                </a:lnTo>
                <a:lnTo>
                  <a:pt x="1740" y="5238"/>
                </a:lnTo>
                <a:lnTo>
                  <a:pt x="1716" y="5229"/>
                </a:lnTo>
                <a:lnTo>
                  <a:pt x="1759" y="5229"/>
                </a:lnTo>
                <a:lnTo>
                  <a:pt x="1759" y="5295"/>
                </a:lnTo>
                <a:lnTo>
                  <a:pt x="1716" y="5295"/>
                </a:lnTo>
                <a:cubicBezTo>
                  <a:pt x="1707" y="5295"/>
                  <a:pt x="1699" y="5292"/>
                  <a:pt x="1693" y="5286"/>
                </a:cubicBezTo>
                <a:lnTo>
                  <a:pt x="1648" y="5242"/>
                </a:lnTo>
                <a:lnTo>
                  <a:pt x="1591" y="5194"/>
                </a:lnTo>
                <a:lnTo>
                  <a:pt x="1544" y="5148"/>
                </a:lnTo>
                <a:cubicBezTo>
                  <a:pt x="1542" y="5145"/>
                  <a:pt x="1540" y="5142"/>
                  <a:pt x="1538" y="5139"/>
                </a:cubicBezTo>
                <a:lnTo>
                  <a:pt x="1529" y="5120"/>
                </a:lnTo>
                <a:lnTo>
                  <a:pt x="1588" y="5090"/>
                </a:lnTo>
                <a:close/>
                <a:moveTo>
                  <a:pt x="1864" y="5096"/>
                </a:moveTo>
                <a:lnTo>
                  <a:pt x="1915" y="5045"/>
                </a:lnTo>
                <a:cubicBezTo>
                  <a:pt x="1926" y="5035"/>
                  <a:pt x="1942" y="5033"/>
                  <a:pt x="1955" y="5041"/>
                </a:cubicBezTo>
                <a:lnTo>
                  <a:pt x="2002" y="5068"/>
                </a:lnTo>
                <a:cubicBezTo>
                  <a:pt x="2009" y="5072"/>
                  <a:pt x="2014" y="5079"/>
                  <a:pt x="2017" y="5087"/>
                </a:cubicBezTo>
                <a:lnTo>
                  <a:pt x="2059" y="5221"/>
                </a:lnTo>
                <a:lnTo>
                  <a:pt x="1995" y="5241"/>
                </a:lnTo>
                <a:lnTo>
                  <a:pt x="1953" y="5107"/>
                </a:lnTo>
                <a:lnTo>
                  <a:pt x="1968" y="5125"/>
                </a:lnTo>
                <a:lnTo>
                  <a:pt x="1921" y="5098"/>
                </a:lnTo>
                <a:lnTo>
                  <a:pt x="1962" y="5093"/>
                </a:lnTo>
                <a:lnTo>
                  <a:pt x="1911" y="5143"/>
                </a:lnTo>
                <a:lnTo>
                  <a:pt x="1864" y="5096"/>
                </a:lnTo>
                <a:close/>
                <a:moveTo>
                  <a:pt x="2086" y="5425"/>
                </a:moveTo>
                <a:lnTo>
                  <a:pt x="2092" y="5479"/>
                </a:lnTo>
                <a:lnTo>
                  <a:pt x="2125" y="5688"/>
                </a:lnTo>
                <a:lnTo>
                  <a:pt x="2059" y="5698"/>
                </a:lnTo>
                <a:lnTo>
                  <a:pt x="2026" y="5486"/>
                </a:lnTo>
                <a:lnTo>
                  <a:pt x="2020" y="5433"/>
                </a:lnTo>
                <a:lnTo>
                  <a:pt x="2086" y="5425"/>
                </a:lnTo>
                <a:close/>
                <a:moveTo>
                  <a:pt x="2160" y="5883"/>
                </a:moveTo>
                <a:lnTo>
                  <a:pt x="2184" y="6009"/>
                </a:lnTo>
                <a:lnTo>
                  <a:pt x="2178" y="5995"/>
                </a:lnTo>
                <a:lnTo>
                  <a:pt x="2234" y="6068"/>
                </a:lnTo>
                <a:lnTo>
                  <a:pt x="2175" y="6079"/>
                </a:lnTo>
                <a:lnTo>
                  <a:pt x="2188" y="6034"/>
                </a:lnTo>
                <a:lnTo>
                  <a:pt x="2252" y="6052"/>
                </a:lnTo>
                <a:lnTo>
                  <a:pt x="2239" y="6097"/>
                </a:lnTo>
                <a:cubicBezTo>
                  <a:pt x="2236" y="6110"/>
                  <a:pt x="2226" y="6119"/>
                  <a:pt x="2213" y="6121"/>
                </a:cubicBezTo>
                <a:cubicBezTo>
                  <a:pt x="2201" y="6124"/>
                  <a:pt x="2188" y="6119"/>
                  <a:pt x="2181" y="6109"/>
                </a:cubicBezTo>
                <a:lnTo>
                  <a:pt x="2125" y="6035"/>
                </a:lnTo>
                <a:cubicBezTo>
                  <a:pt x="2122" y="6031"/>
                  <a:pt x="2120" y="6026"/>
                  <a:pt x="2119" y="6021"/>
                </a:cubicBezTo>
                <a:lnTo>
                  <a:pt x="2095" y="5896"/>
                </a:lnTo>
                <a:lnTo>
                  <a:pt x="2160" y="5883"/>
                </a:lnTo>
                <a:close/>
                <a:moveTo>
                  <a:pt x="2224" y="5846"/>
                </a:moveTo>
                <a:lnTo>
                  <a:pt x="2239" y="5580"/>
                </a:lnTo>
                <a:lnTo>
                  <a:pt x="2305" y="5584"/>
                </a:lnTo>
                <a:lnTo>
                  <a:pt x="2291" y="5850"/>
                </a:lnTo>
                <a:lnTo>
                  <a:pt x="2224" y="5846"/>
                </a:lnTo>
                <a:close/>
                <a:moveTo>
                  <a:pt x="2250" y="5380"/>
                </a:moveTo>
                <a:lnTo>
                  <a:pt x="2266" y="5114"/>
                </a:lnTo>
                <a:lnTo>
                  <a:pt x="2333" y="5118"/>
                </a:lnTo>
                <a:lnTo>
                  <a:pt x="2316" y="5384"/>
                </a:lnTo>
                <a:lnTo>
                  <a:pt x="2250" y="5380"/>
                </a:lnTo>
                <a:close/>
                <a:moveTo>
                  <a:pt x="2279" y="4914"/>
                </a:moveTo>
                <a:lnTo>
                  <a:pt x="2294" y="4663"/>
                </a:lnTo>
                <a:lnTo>
                  <a:pt x="2295" y="4649"/>
                </a:lnTo>
                <a:lnTo>
                  <a:pt x="2362" y="4652"/>
                </a:lnTo>
                <a:lnTo>
                  <a:pt x="2361" y="4667"/>
                </a:lnTo>
                <a:lnTo>
                  <a:pt x="2345" y="4918"/>
                </a:lnTo>
                <a:lnTo>
                  <a:pt x="2279" y="4914"/>
                </a:lnTo>
                <a:close/>
                <a:moveTo>
                  <a:pt x="2305" y="4449"/>
                </a:moveTo>
                <a:lnTo>
                  <a:pt x="2318" y="4182"/>
                </a:lnTo>
                <a:lnTo>
                  <a:pt x="2385" y="4186"/>
                </a:lnTo>
                <a:lnTo>
                  <a:pt x="2371" y="4452"/>
                </a:lnTo>
                <a:lnTo>
                  <a:pt x="2305" y="4449"/>
                </a:lnTo>
                <a:close/>
                <a:moveTo>
                  <a:pt x="2328" y="3983"/>
                </a:moveTo>
                <a:lnTo>
                  <a:pt x="2341" y="3718"/>
                </a:lnTo>
                <a:lnTo>
                  <a:pt x="2341" y="3716"/>
                </a:lnTo>
                <a:lnTo>
                  <a:pt x="2407" y="3720"/>
                </a:lnTo>
                <a:lnTo>
                  <a:pt x="2407" y="3721"/>
                </a:lnTo>
                <a:lnTo>
                  <a:pt x="2394" y="3986"/>
                </a:lnTo>
                <a:lnTo>
                  <a:pt x="2328" y="3983"/>
                </a:lnTo>
                <a:close/>
                <a:moveTo>
                  <a:pt x="2350" y="3517"/>
                </a:moveTo>
                <a:lnTo>
                  <a:pt x="2363" y="3250"/>
                </a:lnTo>
                <a:lnTo>
                  <a:pt x="2430" y="3253"/>
                </a:lnTo>
                <a:lnTo>
                  <a:pt x="2417" y="3520"/>
                </a:lnTo>
                <a:lnTo>
                  <a:pt x="2350" y="3517"/>
                </a:lnTo>
                <a:close/>
                <a:moveTo>
                  <a:pt x="2372" y="3050"/>
                </a:moveTo>
                <a:lnTo>
                  <a:pt x="2385" y="2784"/>
                </a:lnTo>
                <a:lnTo>
                  <a:pt x="2452" y="2787"/>
                </a:lnTo>
                <a:lnTo>
                  <a:pt x="2439" y="3054"/>
                </a:lnTo>
                <a:lnTo>
                  <a:pt x="2372" y="3050"/>
                </a:lnTo>
                <a:close/>
                <a:moveTo>
                  <a:pt x="2398" y="2584"/>
                </a:moveTo>
                <a:lnTo>
                  <a:pt x="2416" y="2318"/>
                </a:lnTo>
                <a:lnTo>
                  <a:pt x="2482" y="2322"/>
                </a:lnTo>
                <a:lnTo>
                  <a:pt x="2464" y="2588"/>
                </a:lnTo>
                <a:lnTo>
                  <a:pt x="2398" y="2584"/>
                </a:lnTo>
                <a:close/>
                <a:moveTo>
                  <a:pt x="2429" y="2118"/>
                </a:moveTo>
                <a:lnTo>
                  <a:pt x="2443" y="1917"/>
                </a:lnTo>
                <a:lnTo>
                  <a:pt x="2449" y="1851"/>
                </a:lnTo>
                <a:lnTo>
                  <a:pt x="2515" y="1858"/>
                </a:lnTo>
                <a:lnTo>
                  <a:pt x="2509" y="1922"/>
                </a:lnTo>
                <a:lnTo>
                  <a:pt x="2496" y="2123"/>
                </a:lnTo>
                <a:lnTo>
                  <a:pt x="2429" y="2118"/>
                </a:lnTo>
                <a:close/>
                <a:moveTo>
                  <a:pt x="2468" y="1652"/>
                </a:moveTo>
                <a:lnTo>
                  <a:pt x="2489" y="1439"/>
                </a:lnTo>
                <a:lnTo>
                  <a:pt x="2501" y="1384"/>
                </a:lnTo>
                <a:lnTo>
                  <a:pt x="2566" y="1398"/>
                </a:lnTo>
                <a:lnTo>
                  <a:pt x="2555" y="1445"/>
                </a:lnTo>
                <a:lnTo>
                  <a:pt x="2535" y="1659"/>
                </a:lnTo>
                <a:lnTo>
                  <a:pt x="2468" y="1652"/>
                </a:lnTo>
                <a:close/>
                <a:moveTo>
                  <a:pt x="2605" y="1426"/>
                </a:moveTo>
                <a:lnTo>
                  <a:pt x="2629" y="1555"/>
                </a:lnTo>
                <a:lnTo>
                  <a:pt x="2642" y="1693"/>
                </a:lnTo>
                <a:lnTo>
                  <a:pt x="2576" y="1699"/>
                </a:lnTo>
                <a:lnTo>
                  <a:pt x="2564" y="1567"/>
                </a:lnTo>
                <a:lnTo>
                  <a:pt x="2539" y="1438"/>
                </a:lnTo>
                <a:lnTo>
                  <a:pt x="2605" y="1426"/>
                </a:lnTo>
                <a:close/>
                <a:moveTo>
                  <a:pt x="2661" y="1892"/>
                </a:moveTo>
                <a:lnTo>
                  <a:pt x="2676" y="2045"/>
                </a:lnTo>
                <a:lnTo>
                  <a:pt x="2684" y="2158"/>
                </a:lnTo>
                <a:lnTo>
                  <a:pt x="2618" y="2163"/>
                </a:lnTo>
                <a:lnTo>
                  <a:pt x="2610" y="2051"/>
                </a:lnTo>
                <a:lnTo>
                  <a:pt x="2595" y="1898"/>
                </a:lnTo>
                <a:lnTo>
                  <a:pt x="2661" y="1892"/>
                </a:lnTo>
                <a:close/>
                <a:moveTo>
                  <a:pt x="2699" y="2357"/>
                </a:moveTo>
                <a:lnTo>
                  <a:pt x="2719" y="2623"/>
                </a:lnTo>
                <a:lnTo>
                  <a:pt x="2652" y="2628"/>
                </a:lnTo>
                <a:lnTo>
                  <a:pt x="2633" y="2362"/>
                </a:lnTo>
                <a:lnTo>
                  <a:pt x="2699" y="2357"/>
                </a:lnTo>
                <a:close/>
                <a:moveTo>
                  <a:pt x="2737" y="2822"/>
                </a:moveTo>
                <a:lnTo>
                  <a:pt x="2762" y="3087"/>
                </a:lnTo>
                <a:lnTo>
                  <a:pt x="2696" y="3094"/>
                </a:lnTo>
                <a:lnTo>
                  <a:pt x="2671" y="2828"/>
                </a:lnTo>
                <a:lnTo>
                  <a:pt x="2737" y="2822"/>
                </a:lnTo>
                <a:close/>
                <a:moveTo>
                  <a:pt x="2779" y="3288"/>
                </a:moveTo>
                <a:lnTo>
                  <a:pt x="2790" y="3555"/>
                </a:lnTo>
                <a:lnTo>
                  <a:pt x="2723" y="3557"/>
                </a:lnTo>
                <a:lnTo>
                  <a:pt x="2713" y="3291"/>
                </a:lnTo>
                <a:lnTo>
                  <a:pt x="2779" y="3288"/>
                </a:lnTo>
                <a:close/>
                <a:moveTo>
                  <a:pt x="2799" y="3750"/>
                </a:moveTo>
                <a:lnTo>
                  <a:pt x="2842" y="4014"/>
                </a:lnTo>
                <a:lnTo>
                  <a:pt x="2776" y="4024"/>
                </a:lnTo>
                <a:lnTo>
                  <a:pt x="2733" y="3761"/>
                </a:lnTo>
                <a:lnTo>
                  <a:pt x="2799" y="3750"/>
                </a:lnTo>
                <a:close/>
                <a:moveTo>
                  <a:pt x="2884" y="4206"/>
                </a:moveTo>
                <a:lnTo>
                  <a:pt x="2898" y="4262"/>
                </a:lnTo>
                <a:lnTo>
                  <a:pt x="2943" y="4378"/>
                </a:lnTo>
                <a:lnTo>
                  <a:pt x="2968" y="4457"/>
                </a:lnTo>
                <a:lnTo>
                  <a:pt x="2904" y="4477"/>
                </a:lnTo>
                <a:lnTo>
                  <a:pt x="2880" y="4402"/>
                </a:lnTo>
                <a:lnTo>
                  <a:pt x="2833" y="4278"/>
                </a:lnTo>
                <a:lnTo>
                  <a:pt x="2819" y="4222"/>
                </a:lnTo>
                <a:lnTo>
                  <a:pt x="2884" y="4206"/>
                </a:lnTo>
                <a:close/>
                <a:moveTo>
                  <a:pt x="3014" y="4655"/>
                </a:moveTo>
                <a:lnTo>
                  <a:pt x="3018" y="4677"/>
                </a:lnTo>
                <a:lnTo>
                  <a:pt x="3064" y="4820"/>
                </a:lnTo>
                <a:lnTo>
                  <a:pt x="3059" y="4810"/>
                </a:lnTo>
                <a:lnTo>
                  <a:pt x="3113" y="4882"/>
                </a:lnTo>
                <a:lnTo>
                  <a:pt x="3060" y="4922"/>
                </a:lnTo>
                <a:lnTo>
                  <a:pt x="3005" y="4851"/>
                </a:lnTo>
                <a:cubicBezTo>
                  <a:pt x="3003" y="4847"/>
                  <a:pt x="3001" y="4844"/>
                  <a:pt x="3000" y="4840"/>
                </a:cubicBezTo>
                <a:lnTo>
                  <a:pt x="2953" y="4690"/>
                </a:lnTo>
                <a:lnTo>
                  <a:pt x="2949" y="4668"/>
                </a:lnTo>
                <a:lnTo>
                  <a:pt x="3014" y="4655"/>
                </a:lnTo>
                <a:close/>
                <a:moveTo>
                  <a:pt x="3115" y="4712"/>
                </a:moveTo>
                <a:lnTo>
                  <a:pt x="3147" y="4513"/>
                </a:lnTo>
                <a:lnTo>
                  <a:pt x="3153" y="4450"/>
                </a:lnTo>
                <a:lnTo>
                  <a:pt x="3220" y="4457"/>
                </a:lnTo>
                <a:lnTo>
                  <a:pt x="3213" y="4524"/>
                </a:lnTo>
                <a:lnTo>
                  <a:pt x="3181" y="4723"/>
                </a:lnTo>
                <a:lnTo>
                  <a:pt x="3115" y="4712"/>
                </a:lnTo>
                <a:close/>
                <a:moveTo>
                  <a:pt x="3172" y="4251"/>
                </a:moveTo>
                <a:lnTo>
                  <a:pt x="3193" y="4028"/>
                </a:lnTo>
                <a:lnTo>
                  <a:pt x="3195" y="3987"/>
                </a:lnTo>
                <a:lnTo>
                  <a:pt x="3262" y="3990"/>
                </a:lnTo>
                <a:lnTo>
                  <a:pt x="3260" y="4035"/>
                </a:lnTo>
                <a:lnTo>
                  <a:pt x="3239" y="4257"/>
                </a:lnTo>
                <a:lnTo>
                  <a:pt x="3172" y="4251"/>
                </a:lnTo>
                <a:close/>
                <a:moveTo>
                  <a:pt x="3204" y="3787"/>
                </a:moveTo>
                <a:lnTo>
                  <a:pt x="3215" y="3521"/>
                </a:lnTo>
                <a:lnTo>
                  <a:pt x="3282" y="3524"/>
                </a:lnTo>
                <a:lnTo>
                  <a:pt x="3270" y="3790"/>
                </a:lnTo>
                <a:lnTo>
                  <a:pt x="3204" y="3787"/>
                </a:lnTo>
                <a:close/>
                <a:moveTo>
                  <a:pt x="3225" y="3320"/>
                </a:moveTo>
                <a:lnTo>
                  <a:pt x="3244" y="3054"/>
                </a:lnTo>
                <a:lnTo>
                  <a:pt x="3310" y="3059"/>
                </a:lnTo>
                <a:lnTo>
                  <a:pt x="3292" y="3325"/>
                </a:lnTo>
                <a:lnTo>
                  <a:pt x="3225" y="3320"/>
                </a:lnTo>
                <a:close/>
                <a:moveTo>
                  <a:pt x="3258" y="2855"/>
                </a:moveTo>
                <a:lnTo>
                  <a:pt x="3267" y="2716"/>
                </a:lnTo>
                <a:lnTo>
                  <a:pt x="3281" y="2588"/>
                </a:lnTo>
                <a:lnTo>
                  <a:pt x="3347" y="2595"/>
                </a:lnTo>
                <a:lnTo>
                  <a:pt x="3334" y="2721"/>
                </a:lnTo>
                <a:lnTo>
                  <a:pt x="3324" y="2860"/>
                </a:lnTo>
                <a:lnTo>
                  <a:pt x="3258" y="2855"/>
                </a:lnTo>
                <a:close/>
                <a:moveTo>
                  <a:pt x="3302" y="2389"/>
                </a:moveTo>
                <a:lnTo>
                  <a:pt x="3323" y="2182"/>
                </a:lnTo>
                <a:lnTo>
                  <a:pt x="3331" y="2123"/>
                </a:lnTo>
                <a:lnTo>
                  <a:pt x="3397" y="2132"/>
                </a:lnTo>
                <a:lnTo>
                  <a:pt x="3389" y="2189"/>
                </a:lnTo>
                <a:lnTo>
                  <a:pt x="3368" y="2396"/>
                </a:lnTo>
                <a:lnTo>
                  <a:pt x="3302" y="2389"/>
                </a:lnTo>
                <a:close/>
                <a:moveTo>
                  <a:pt x="3356" y="1925"/>
                </a:moveTo>
                <a:lnTo>
                  <a:pt x="3370" y="1823"/>
                </a:lnTo>
                <a:cubicBezTo>
                  <a:pt x="3370" y="1819"/>
                  <a:pt x="3372" y="1814"/>
                  <a:pt x="3374" y="1810"/>
                </a:cubicBezTo>
                <a:lnTo>
                  <a:pt x="3421" y="1736"/>
                </a:lnTo>
                <a:cubicBezTo>
                  <a:pt x="3428" y="1725"/>
                  <a:pt x="3442" y="1719"/>
                  <a:pt x="3455" y="1721"/>
                </a:cubicBezTo>
                <a:cubicBezTo>
                  <a:pt x="3469" y="1724"/>
                  <a:pt x="3479" y="1734"/>
                  <a:pt x="3482" y="1748"/>
                </a:cubicBezTo>
                <a:lnTo>
                  <a:pt x="3496" y="1824"/>
                </a:lnTo>
                <a:lnTo>
                  <a:pt x="3431" y="1836"/>
                </a:lnTo>
                <a:lnTo>
                  <a:pt x="3416" y="1760"/>
                </a:lnTo>
                <a:lnTo>
                  <a:pt x="3477" y="1772"/>
                </a:lnTo>
                <a:lnTo>
                  <a:pt x="3431" y="1845"/>
                </a:lnTo>
                <a:lnTo>
                  <a:pt x="3436" y="1832"/>
                </a:lnTo>
                <a:lnTo>
                  <a:pt x="3423" y="1934"/>
                </a:lnTo>
                <a:lnTo>
                  <a:pt x="3356" y="1925"/>
                </a:lnTo>
                <a:close/>
                <a:moveTo>
                  <a:pt x="3528" y="2023"/>
                </a:moveTo>
                <a:lnTo>
                  <a:pt x="3556" y="2208"/>
                </a:lnTo>
                <a:lnTo>
                  <a:pt x="3566" y="2287"/>
                </a:lnTo>
                <a:lnTo>
                  <a:pt x="3500" y="2296"/>
                </a:lnTo>
                <a:lnTo>
                  <a:pt x="3490" y="2218"/>
                </a:lnTo>
                <a:lnTo>
                  <a:pt x="3463" y="2032"/>
                </a:lnTo>
                <a:lnTo>
                  <a:pt x="3528" y="2023"/>
                </a:lnTo>
                <a:close/>
                <a:moveTo>
                  <a:pt x="3591" y="2486"/>
                </a:moveTo>
                <a:lnTo>
                  <a:pt x="3602" y="2576"/>
                </a:lnTo>
                <a:lnTo>
                  <a:pt x="3631" y="2748"/>
                </a:lnTo>
                <a:lnTo>
                  <a:pt x="3565" y="2759"/>
                </a:lnTo>
                <a:lnTo>
                  <a:pt x="3536" y="2585"/>
                </a:lnTo>
                <a:lnTo>
                  <a:pt x="3525" y="2494"/>
                </a:lnTo>
                <a:lnTo>
                  <a:pt x="3591" y="2486"/>
                </a:lnTo>
                <a:close/>
                <a:moveTo>
                  <a:pt x="3665" y="2943"/>
                </a:moveTo>
                <a:lnTo>
                  <a:pt x="3704" y="3105"/>
                </a:lnTo>
                <a:lnTo>
                  <a:pt x="3700" y="3096"/>
                </a:lnTo>
                <a:lnTo>
                  <a:pt x="3728" y="3142"/>
                </a:lnTo>
                <a:lnTo>
                  <a:pt x="3669" y="3145"/>
                </a:lnTo>
                <a:lnTo>
                  <a:pt x="3688" y="3104"/>
                </a:lnTo>
                <a:lnTo>
                  <a:pt x="3748" y="3132"/>
                </a:lnTo>
                <a:lnTo>
                  <a:pt x="3729" y="3173"/>
                </a:lnTo>
                <a:cubicBezTo>
                  <a:pt x="3724" y="3184"/>
                  <a:pt x="3713" y="3192"/>
                  <a:pt x="3701" y="3192"/>
                </a:cubicBezTo>
                <a:cubicBezTo>
                  <a:pt x="3689" y="3193"/>
                  <a:pt x="3677" y="3187"/>
                  <a:pt x="3671" y="3176"/>
                </a:cubicBezTo>
                <a:lnTo>
                  <a:pt x="3643" y="3130"/>
                </a:lnTo>
                <a:cubicBezTo>
                  <a:pt x="3641" y="3128"/>
                  <a:pt x="3640" y="3124"/>
                  <a:pt x="3639" y="3121"/>
                </a:cubicBezTo>
                <a:lnTo>
                  <a:pt x="3600" y="2958"/>
                </a:lnTo>
                <a:lnTo>
                  <a:pt x="3665" y="2943"/>
                </a:lnTo>
                <a:close/>
                <a:moveTo>
                  <a:pt x="3750" y="2920"/>
                </a:moveTo>
                <a:lnTo>
                  <a:pt x="3760" y="2884"/>
                </a:lnTo>
                <a:lnTo>
                  <a:pt x="3806" y="2666"/>
                </a:lnTo>
                <a:lnTo>
                  <a:pt x="3808" y="2658"/>
                </a:lnTo>
                <a:lnTo>
                  <a:pt x="3871" y="2679"/>
                </a:lnTo>
                <a:lnTo>
                  <a:pt x="3871" y="2679"/>
                </a:lnTo>
                <a:lnTo>
                  <a:pt x="3824" y="2902"/>
                </a:lnTo>
                <a:lnTo>
                  <a:pt x="3814" y="2938"/>
                </a:lnTo>
                <a:lnTo>
                  <a:pt x="3750" y="2920"/>
                </a:lnTo>
                <a:close/>
                <a:moveTo>
                  <a:pt x="3876" y="2466"/>
                </a:moveTo>
                <a:lnTo>
                  <a:pt x="3910" y="2392"/>
                </a:lnTo>
                <a:cubicBezTo>
                  <a:pt x="3915" y="2381"/>
                  <a:pt x="3926" y="2374"/>
                  <a:pt x="3938" y="2373"/>
                </a:cubicBezTo>
                <a:cubicBezTo>
                  <a:pt x="3951" y="2372"/>
                  <a:pt x="3962" y="2378"/>
                  <a:pt x="3969" y="2389"/>
                </a:cubicBezTo>
                <a:lnTo>
                  <a:pt x="3996" y="2435"/>
                </a:lnTo>
                <a:cubicBezTo>
                  <a:pt x="3998" y="2438"/>
                  <a:pt x="4000" y="2441"/>
                  <a:pt x="4000" y="2444"/>
                </a:cubicBezTo>
                <a:lnTo>
                  <a:pt x="4031" y="2572"/>
                </a:lnTo>
                <a:lnTo>
                  <a:pt x="3966" y="2588"/>
                </a:lnTo>
                <a:lnTo>
                  <a:pt x="3935" y="2460"/>
                </a:lnTo>
                <a:lnTo>
                  <a:pt x="3939" y="2469"/>
                </a:lnTo>
                <a:lnTo>
                  <a:pt x="3912" y="2423"/>
                </a:lnTo>
                <a:lnTo>
                  <a:pt x="3970" y="2420"/>
                </a:lnTo>
                <a:lnTo>
                  <a:pt x="3937" y="2494"/>
                </a:lnTo>
                <a:lnTo>
                  <a:pt x="3876" y="2466"/>
                </a:lnTo>
                <a:close/>
                <a:moveTo>
                  <a:pt x="4065" y="2773"/>
                </a:moveTo>
                <a:lnTo>
                  <a:pt x="4094" y="2980"/>
                </a:lnTo>
                <a:lnTo>
                  <a:pt x="4099" y="3038"/>
                </a:lnTo>
                <a:lnTo>
                  <a:pt x="4033" y="3045"/>
                </a:lnTo>
                <a:lnTo>
                  <a:pt x="4028" y="2989"/>
                </a:lnTo>
                <a:lnTo>
                  <a:pt x="3999" y="2782"/>
                </a:lnTo>
                <a:lnTo>
                  <a:pt x="4065" y="2773"/>
                </a:lnTo>
                <a:close/>
                <a:moveTo>
                  <a:pt x="4118" y="3237"/>
                </a:moveTo>
                <a:lnTo>
                  <a:pt x="4140" y="3468"/>
                </a:lnTo>
                <a:lnTo>
                  <a:pt x="4144" y="3502"/>
                </a:lnTo>
                <a:lnTo>
                  <a:pt x="4078" y="3510"/>
                </a:lnTo>
                <a:lnTo>
                  <a:pt x="4074" y="3474"/>
                </a:lnTo>
                <a:lnTo>
                  <a:pt x="4052" y="3244"/>
                </a:lnTo>
                <a:lnTo>
                  <a:pt x="4118" y="3237"/>
                </a:lnTo>
                <a:close/>
                <a:moveTo>
                  <a:pt x="4165" y="3701"/>
                </a:moveTo>
                <a:lnTo>
                  <a:pt x="4194" y="3966"/>
                </a:lnTo>
                <a:lnTo>
                  <a:pt x="4128" y="3974"/>
                </a:lnTo>
                <a:lnTo>
                  <a:pt x="4099" y="3709"/>
                </a:lnTo>
                <a:lnTo>
                  <a:pt x="4165" y="3701"/>
                </a:lnTo>
                <a:close/>
                <a:moveTo>
                  <a:pt x="4203" y="4169"/>
                </a:moveTo>
                <a:lnTo>
                  <a:pt x="4213" y="4435"/>
                </a:lnTo>
                <a:lnTo>
                  <a:pt x="4147" y="4438"/>
                </a:lnTo>
                <a:lnTo>
                  <a:pt x="4136" y="4171"/>
                </a:lnTo>
                <a:lnTo>
                  <a:pt x="4203" y="4169"/>
                </a:lnTo>
                <a:close/>
                <a:moveTo>
                  <a:pt x="4246" y="4627"/>
                </a:moveTo>
                <a:lnTo>
                  <a:pt x="4269" y="4751"/>
                </a:lnTo>
                <a:lnTo>
                  <a:pt x="4237" y="4724"/>
                </a:lnTo>
                <a:lnTo>
                  <a:pt x="4283" y="4724"/>
                </a:lnTo>
                <a:lnTo>
                  <a:pt x="4250" y="4753"/>
                </a:lnTo>
                <a:lnTo>
                  <a:pt x="4262" y="4659"/>
                </a:lnTo>
                <a:lnTo>
                  <a:pt x="4328" y="4667"/>
                </a:lnTo>
                <a:lnTo>
                  <a:pt x="4316" y="4761"/>
                </a:lnTo>
                <a:cubicBezTo>
                  <a:pt x="4314" y="4778"/>
                  <a:pt x="4300" y="4790"/>
                  <a:pt x="4283" y="4790"/>
                </a:cubicBezTo>
                <a:lnTo>
                  <a:pt x="4237" y="4790"/>
                </a:lnTo>
                <a:cubicBezTo>
                  <a:pt x="4221" y="4790"/>
                  <a:pt x="4207" y="4779"/>
                  <a:pt x="4204" y="4763"/>
                </a:cubicBezTo>
                <a:lnTo>
                  <a:pt x="4180" y="4639"/>
                </a:lnTo>
                <a:lnTo>
                  <a:pt x="4246" y="4627"/>
                </a:lnTo>
                <a:close/>
                <a:moveTo>
                  <a:pt x="4287" y="4461"/>
                </a:moveTo>
                <a:lnTo>
                  <a:pt x="4296" y="4385"/>
                </a:lnTo>
                <a:lnTo>
                  <a:pt x="4308" y="4197"/>
                </a:lnTo>
                <a:lnTo>
                  <a:pt x="4375" y="4201"/>
                </a:lnTo>
                <a:lnTo>
                  <a:pt x="4362" y="4394"/>
                </a:lnTo>
                <a:lnTo>
                  <a:pt x="4353" y="4469"/>
                </a:lnTo>
                <a:lnTo>
                  <a:pt x="4287" y="4461"/>
                </a:lnTo>
                <a:close/>
                <a:moveTo>
                  <a:pt x="4321" y="3997"/>
                </a:moveTo>
                <a:lnTo>
                  <a:pt x="4338" y="3731"/>
                </a:lnTo>
                <a:lnTo>
                  <a:pt x="4404" y="3736"/>
                </a:lnTo>
                <a:lnTo>
                  <a:pt x="4387" y="4002"/>
                </a:lnTo>
                <a:lnTo>
                  <a:pt x="4321" y="3997"/>
                </a:lnTo>
                <a:close/>
                <a:moveTo>
                  <a:pt x="4350" y="3532"/>
                </a:moveTo>
                <a:lnTo>
                  <a:pt x="4365" y="3266"/>
                </a:lnTo>
                <a:lnTo>
                  <a:pt x="4432" y="3269"/>
                </a:lnTo>
                <a:lnTo>
                  <a:pt x="4416" y="3536"/>
                </a:lnTo>
                <a:lnTo>
                  <a:pt x="4350" y="3532"/>
                </a:lnTo>
                <a:close/>
                <a:moveTo>
                  <a:pt x="4377" y="3066"/>
                </a:moveTo>
                <a:lnTo>
                  <a:pt x="4392" y="2800"/>
                </a:lnTo>
                <a:lnTo>
                  <a:pt x="4459" y="2804"/>
                </a:lnTo>
                <a:lnTo>
                  <a:pt x="4443" y="3070"/>
                </a:lnTo>
                <a:lnTo>
                  <a:pt x="4377" y="3066"/>
                </a:lnTo>
                <a:close/>
                <a:moveTo>
                  <a:pt x="4400" y="2601"/>
                </a:moveTo>
                <a:lnTo>
                  <a:pt x="4404" y="2335"/>
                </a:lnTo>
                <a:lnTo>
                  <a:pt x="4471" y="2336"/>
                </a:lnTo>
                <a:lnTo>
                  <a:pt x="4466" y="2602"/>
                </a:lnTo>
                <a:lnTo>
                  <a:pt x="4400" y="2601"/>
                </a:lnTo>
                <a:close/>
                <a:moveTo>
                  <a:pt x="4408" y="2135"/>
                </a:moveTo>
                <a:lnTo>
                  <a:pt x="4412" y="1868"/>
                </a:lnTo>
                <a:lnTo>
                  <a:pt x="4479" y="1869"/>
                </a:lnTo>
                <a:lnTo>
                  <a:pt x="4474" y="2136"/>
                </a:lnTo>
                <a:lnTo>
                  <a:pt x="4408" y="2135"/>
                </a:lnTo>
                <a:close/>
                <a:moveTo>
                  <a:pt x="4416" y="1668"/>
                </a:moveTo>
                <a:lnTo>
                  <a:pt x="4416" y="1634"/>
                </a:lnTo>
                <a:lnTo>
                  <a:pt x="4430" y="1400"/>
                </a:lnTo>
                <a:lnTo>
                  <a:pt x="4497" y="1404"/>
                </a:lnTo>
                <a:lnTo>
                  <a:pt x="4483" y="1635"/>
                </a:lnTo>
                <a:lnTo>
                  <a:pt x="4483" y="1669"/>
                </a:lnTo>
                <a:lnTo>
                  <a:pt x="4416" y="1668"/>
                </a:lnTo>
                <a:close/>
                <a:moveTo>
                  <a:pt x="4442" y="1201"/>
                </a:moveTo>
                <a:lnTo>
                  <a:pt x="4458" y="935"/>
                </a:lnTo>
                <a:lnTo>
                  <a:pt x="4525" y="939"/>
                </a:lnTo>
                <a:lnTo>
                  <a:pt x="4509" y="1205"/>
                </a:lnTo>
                <a:lnTo>
                  <a:pt x="4442" y="1201"/>
                </a:lnTo>
                <a:close/>
                <a:moveTo>
                  <a:pt x="4470" y="735"/>
                </a:moveTo>
                <a:lnTo>
                  <a:pt x="4472" y="705"/>
                </a:lnTo>
                <a:lnTo>
                  <a:pt x="4490" y="468"/>
                </a:lnTo>
                <a:lnTo>
                  <a:pt x="4557" y="474"/>
                </a:lnTo>
                <a:lnTo>
                  <a:pt x="4539" y="709"/>
                </a:lnTo>
                <a:lnTo>
                  <a:pt x="4537" y="739"/>
                </a:lnTo>
                <a:lnTo>
                  <a:pt x="4470" y="735"/>
                </a:lnTo>
                <a:close/>
                <a:moveTo>
                  <a:pt x="4505" y="269"/>
                </a:moveTo>
                <a:lnTo>
                  <a:pt x="4518" y="99"/>
                </a:lnTo>
                <a:cubicBezTo>
                  <a:pt x="4519" y="96"/>
                  <a:pt x="4519" y="93"/>
                  <a:pt x="4520" y="91"/>
                </a:cubicBezTo>
                <a:lnTo>
                  <a:pt x="4551" y="0"/>
                </a:lnTo>
                <a:lnTo>
                  <a:pt x="4614" y="21"/>
                </a:lnTo>
                <a:lnTo>
                  <a:pt x="4583" y="112"/>
                </a:lnTo>
                <a:lnTo>
                  <a:pt x="4585" y="104"/>
                </a:lnTo>
                <a:lnTo>
                  <a:pt x="4572" y="274"/>
                </a:lnTo>
                <a:lnTo>
                  <a:pt x="4505" y="269"/>
                </a:lnTo>
                <a:close/>
                <a:moveTo>
                  <a:pt x="4651" y="108"/>
                </a:moveTo>
                <a:lnTo>
                  <a:pt x="4677" y="299"/>
                </a:lnTo>
                <a:lnTo>
                  <a:pt x="4680" y="376"/>
                </a:lnTo>
                <a:lnTo>
                  <a:pt x="4614" y="379"/>
                </a:lnTo>
                <a:lnTo>
                  <a:pt x="4611" y="308"/>
                </a:lnTo>
                <a:lnTo>
                  <a:pt x="4585" y="117"/>
                </a:lnTo>
                <a:lnTo>
                  <a:pt x="4651" y="108"/>
                </a:lnTo>
                <a:close/>
                <a:moveTo>
                  <a:pt x="4688" y="576"/>
                </a:moveTo>
                <a:lnTo>
                  <a:pt x="4698" y="842"/>
                </a:lnTo>
                <a:lnTo>
                  <a:pt x="4631" y="845"/>
                </a:lnTo>
                <a:lnTo>
                  <a:pt x="4621" y="578"/>
                </a:lnTo>
                <a:lnTo>
                  <a:pt x="4688" y="576"/>
                </a:lnTo>
                <a:close/>
                <a:moveTo>
                  <a:pt x="4705" y="1042"/>
                </a:moveTo>
                <a:lnTo>
                  <a:pt x="4705" y="1046"/>
                </a:lnTo>
                <a:lnTo>
                  <a:pt x="4718" y="1308"/>
                </a:lnTo>
                <a:lnTo>
                  <a:pt x="4651" y="1312"/>
                </a:lnTo>
                <a:lnTo>
                  <a:pt x="4639" y="1048"/>
                </a:lnTo>
                <a:lnTo>
                  <a:pt x="4639" y="1045"/>
                </a:lnTo>
                <a:lnTo>
                  <a:pt x="4705" y="1042"/>
                </a:lnTo>
                <a:close/>
                <a:moveTo>
                  <a:pt x="4727" y="1508"/>
                </a:moveTo>
                <a:lnTo>
                  <a:pt x="4739" y="1775"/>
                </a:lnTo>
                <a:lnTo>
                  <a:pt x="4673" y="1778"/>
                </a:lnTo>
                <a:lnTo>
                  <a:pt x="4660" y="1511"/>
                </a:lnTo>
                <a:lnTo>
                  <a:pt x="4727" y="1508"/>
                </a:lnTo>
                <a:close/>
                <a:moveTo>
                  <a:pt x="4748" y="1974"/>
                </a:moveTo>
                <a:lnTo>
                  <a:pt x="4752" y="2046"/>
                </a:lnTo>
                <a:lnTo>
                  <a:pt x="4762" y="2240"/>
                </a:lnTo>
                <a:lnTo>
                  <a:pt x="4696" y="2244"/>
                </a:lnTo>
                <a:lnTo>
                  <a:pt x="4685" y="2050"/>
                </a:lnTo>
                <a:lnTo>
                  <a:pt x="4682" y="1977"/>
                </a:lnTo>
                <a:lnTo>
                  <a:pt x="4748" y="1974"/>
                </a:lnTo>
                <a:close/>
                <a:moveTo>
                  <a:pt x="4773" y="2440"/>
                </a:moveTo>
                <a:lnTo>
                  <a:pt x="4788" y="2706"/>
                </a:lnTo>
                <a:lnTo>
                  <a:pt x="4722" y="2710"/>
                </a:lnTo>
                <a:lnTo>
                  <a:pt x="4707" y="2444"/>
                </a:lnTo>
                <a:lnTo>
                  <a:pt x="4773" y="2440"/>
                </a:lnTo>
                <a:close/>
                <a:moveTo>
                  <a:pt x="4799" y="2906"/>
                </a:moveTo>
                <a:lnTo>
                  <a:pt x="4807" y="3056"/>
                </a:lnTo>
                <a:lnTo>
                  <a:pt x="4814" y="3172"/>
                </a:lnTo>
                <a:lnTo>
                  <a:pt x="4747" y="3176"/>
                </a:lnTo>
                <a:lnTo>
                  <a:pt x="4741" y="3060"/>
                </a:lnTo>
                <a:lnTo>
                  <a:pt x="4733" y="2910"/>
                </a:lnTo>
                <a:lnTo>
                  <a:pt x="4799" y="2906"/>
                </a:lnTo>
                <a:close/>
                <a:moveTo>
                  <a:pt x="4825" y="3372"/>
                </a:moveTo>
                <a:lnTo>
                  <a:pt x="4839" y="3638"/>
                </a:lnTo>
                <a:lnTo>
                  <a:pt x="4772" y="3642"/>
                </a:lnTo>
                <a:lnTo>
                  <a:pt x="4758" y="3376"/>
                </a:lnTo>
                <a:lnTo>
                  <a:pt x="4825" y="3372"/>
                </a:lnTo>
                <a:close/>
                <a:moveTo>
                  <a:pt x="4850" y="3838"/>
                </a:moveTo>
                <a:lnTo>
                  <a:pt x="4854" y="3910"/>
                </a:lnTo>
                <a:lnTo>
                  <a:pt x="4870" y="4103"/>
                </a:lnTo>
                <a:lnTo>
                  <a:pt x="4804" y="4109"/>
                </a:lnTo>
                <a:lnTo>
                  <a:pt x="4787" y="3914"/>
                </a:lnTo>
                <a:lnTo>
                  <a:pt x="4783" y="3842"/>
                </a:lnTo>
                <a:lnTo>
                  <a:pt x="4850" y="3838"/>
                </a:lnTo>
                <a:close/>
                <a:moveTo>
                  <a:pt x="4887" y="4302"/>
                </a:moveTo>
                <a:lnTo>
                  <a:pt x="4900" y="4460"/>
                </a:lnTo>
                <a:lnTo>
                  <a:pt x="4912" y="4567"/>
                </a:lnTo>
                <a:lnTo>
                  <a:pt x="4846" y="4574"/>
                </a:lnTo>
                <a:lnTo>
                  <a:pt x="4834" y="4466"/>
                </a:lnTo>
                <a:lnTo>
                  <a:pt x="4820" y="4308"/>
                </a:lnTo>
                <a:lnTo>
                  <a:pt x="4887" y="4302"/>
                </a:lnTo>
                <a:close/>
                <a:moveTo>
                  <a:pt x="4913" y="4646"/>
                </a:moveTo>
                <a:lnTo>
                  <a:pt x="4917" y="4641"/>
                </a:lnTo>
                <a:lnTo>
                  <a:pt x="4908" y="4658"/>
                </a:lnTo>
                <a:lnTo>
                  <a:pt x="4955" y="4456"/>
                </a:lnTo>
                <a:lnTo>
                  <a:pt x="4967" y="4404"/>
                </a:lnTo>
                <a:lnTo>
                  <a:pt x="5032" y="4419"/>
                </a:lnTo>
                <a:lnTo>
                  <a:pt x="5020" y="4471"/>
                </a:lnTo>
                <a:lnTo>
                  <a:pt x="4973" y="4673"/>
                </a:lnTo>
                <a:cubicBezTo>
                  <a:pt x="4972" y="4679"/>
                  <a:pt x="4969" y="4684"/>
                  <a:pt x="4964" y="4689"/>
                </a:cubicBezTo>
                <a:lnTo>
                  <a:pt x="4960" y="4694"/>
                </a:lnTo>
                <a:lnTo>
                  <a:pt x="4913" y="4646"/>
                </a:lnTo>
                <a:close/>
                <a:moveTo>
                  <a:pt x="5012" y="4209"/>
                </a:moveTo>
                <a:lnTo>
                  <a:pt x="5057" y="4024"/>
                </a:lnTo>
                <a:cubicBezTo>
                  <a:pt x="5058" y="4020"/>
                  <a:pt x="5059" y="4017"/>
                  <a:pt x="5061" y="4014"/>
                </a:cubicBezTo>
                <a:lnTo>
                  <a:pt x="5101" y="3950"/>
                </a:lnTo>
                <a:lnTo>
                  <a:pt x="5158" y="3985"/>
                </a:lnTo>
                <a:lnTo>
                  <a:pt x="5117" y="4049"/>
                </a:lnTo>
                <a:lnTo>
                  <a:pt x="5122" y="4039"/>
                </a:lnTo>
                <a:lnTo>
                  <a:pt x="5077" y="4225"/>
                </a:lnTo>
                <a:lnTo>
                  <a:pt x="5012" y="4209"/>
                </a:lnTo>
                <a:close/>
                <a:moveTo>
                  <a:pt x="5244" y="4120"/>
                </a:moveTo>
                <a:lnTo>
                  <a:pt x="5288" y="4260"/>
                </a:lnTo>
                <a:lnTo>
                  <a:pt x="5337" y="4365"/>
                </a:lnTo>
                <a:lnTo>
                  <a:pt x="5276" y="4393"/>
                </a:lnTo>
                <a:lnTo>
                  <a:pt x="5224" y="4280"/>
                </a:lnTo>
                <a:lnTo>
                  <a:pt x="5180" y="4140"/>
                </a:lnTo>
                <a:lnTo>
                  <a:pt x="5244" y="4120"/>
                </a:lnTo>
                <a:close/>
                <a:moveTo>
                  <a:pt x="5369" y="4281"/>
                </a:moveTo>
                <a:lnTo>
                  <a:pt x="5400" y="4169"/>
                </a:lnTo>
                <a:lnTo>
                  <a:pt x="5439" y="4024"/>
                </a:lnTo>
                <a:lnTo>
                  <a:pt x="5503" y="4041"/>
                </a:lnTo>
                <a:lnTo>
                  <a:pt x="5464" y="4187"/>
                </a:lnTo>
                <a:lnTo>
                  <a:pt x="5433" y="4299"/>
                </a:lnTo>
                <a:lnTo>
                  <a:pt x="5369" y="4281"/>
                </a:lnTo>
                <a:close/>
                <a:moveTo>
                  <a:pt x="5516" y="3821"/>
                </a:moveTo>
                <a:lnTo>
                  <a:pt x="5559" y="3785"/>
                </a:lnTo>
                <a:cubicBezTo>
                  <a:pt x="5568" y="3778"/>
                  <a:pt x="5581" y="3776"/>
                  <a:pt x="5592" y="3780"/>
                </a:cubicBezTo>
                <a:cubicBezTo>
                  <a:pt x="5603" y="3784"/>
                  <a:pt x="5611" y="3793"/>
                  <a:pt x="5613" y="3805"/>
                </a:cubicBezTo>
                <a:lnTo>
                  <a:pt x="5632" y="3906"/>
                </a:lnTo>
                <a:lnTo>
                  <a:pt x="5654" y="4011"/>
                </a:lnTo>
                <a:lnTo>
                  <a:pt x="5588" y="4025"/>
                </a:lnTo>
                <a:lnTo>
                  <a:pt x="5566" y="3918"/>
                </a:lnTo>
                <a:lnTo>
                  <a:pt x="5548" y="3817"/>
                </a:lnTo>
                <a:lnTo>
                  <a:pt x="5602" y="3837"/>
                </a:lnTo>
                <a:lnTo>
                  <a:pt x="5558" y="3872"/>
                </a:lnTo>
                <a:lnTo>
                  <a:pt x="5516" y="3821"/>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5530680" y="4132440"/>
            <a:ext cx="708120" cy="942840"/>
          </a:xfrm>
          <a:custGeom>
            <a:avLst/>
            <a:gdLst/>
            <a:ahLst/>
            <a:rect l="l" t="t" r="r" b="b"/>
            <a:pathLst>
              <a:path w="3269" h="4328">
                <a:moveTo>
                  <a:pt x="67" y="2663"/>
                </a:moveTo>
                <a:lnTo>
                  <a:pt x="96" y="2928"/>
                </a:lnTo>
                <a:lnTo>
                  <a:pt x="30" y="2935"/>
                </a:lnTo>
                <a:lnTo>
                  <a:pt x="0" y="2670"/>
                </a:lnTo>
                <a:lnTo>
                  <a:pt x="67" y="2663"/>
                </a:lnTo>
                <a:close/>
                <a:moveTo>
                  <a:pt x="118" y="3127"/>
                </a:moveTo>
                <a:lnTo>
                  <a:pt x="145" y="3392"/>
                </a:lnTo>
                <a:lnTo>
                  <a:pt x="79" y="3399"/>
                </a:lnTo>
                <a:lnTo>
                  <a:pt x="52" y="3133"/>
                </a:lnTo>
                <a:lnTo>
                  <a:pt x="118" y="3127"/>
                </a:lnTo>
                <a:close/>
                <a:moveTo>
                  <a:pt x="165" y="3591"/>
                </a:moveTo>
                <a:lnTo>
                  <a:pt x="194" y="3856"/>
                </a:lnTo>
                <a:lnTo>
                  <a:pt x="127" y="3863"/>
                </a:lnTo>
                <a:lnTo>
                  <a:pt x="99" y="3598"/>
                </a:lnTo>
                <a:lnTo>
                  <a:pt x="165" y="3591"/>
                </a:lnTo>
                <a:close/>
                <a:moveTo>
                  <a:pt x="223" y="4050"/>
                </a:moveTo>
                <a:lnTo>
                  <a:pt x="261" y="4232"/>
                </a:lnTo>
                <a:lnTo>
                  <a:pt x="278" y="4284"/>
                </a:lnTo>
                <a:lnTo>
                  <a:pt x="214" y="4287"/>
                </a:lnTo>
                <a:lnTo>
                  <a:pt x="219" y="4265"/>
                </a:lnTo>
                <a:lnTo>
                  <a:pt x="284" y="4279"/>
                </a:lnTo>
                <a:lnTo>
                  <a:pt x="280" y="4301"/>
                </a:lnTo>
                <a:cubicBezTo>
                  <a:pt x="276" y="4316"/>
                  <a:pt x="264" y="4327"/>
                  <a:pt x="249" y="4327"/>
                </a:cubicBezTo>
                <a:cubicBezTo>
                  <a:pt x="234" y="4328"/>
                  <a:pt x="220" y="4319"/>
                  <a:pt x="215" y="4305"/>
                </a:cubicBezTo>
                <a:lnTo>
                  <a:pt x="196" y="4246"/>
                </a:lnTo>
                <a:lnTo>
                  <a:pt x="158" y="4064"/>
                </a:lnTo>
                <a:lnTo>
                  <a:pt x="223" y="4050"/>
                </a:lnTo>
                <a:close/>
                <a:moveTo>
                  <a:pt x="260" y="4069"/>
                </a:moveTo>
                <a:lnTo>
                  <a:pt x="270" y="4021"/>
                </a:lnTo>
                <a:lnTo>
                  <a:pt x="288" y="3809"/>
                </a:lnTo>
                <a:lnTo>
                  <a:pt x="354" y="3814"/>
                </a:lnTo>
                <a:lnTo>
                  <a:pt x="335" y="4034"/>
                </a:lnTo>
                <a:lnTo>
                  <a:pt x="325" y="4083"/>
                </a:lnTo>
                <a:lnTo>
                  <a:pt x="260" y="4069"/>
                </a:lnTo>
                <a:close/>
                <a:moveTo>
                  <a:pt x="305" y="3609"/>
                </a:moveTo>
                <a:lnTo>
                  <a:pt x="316" y="3482"/>
                </a:lnTo>
                <a:lnTo>
                  <a:pt x="326" y="3344"/>
                </a:lnTo>
                <a:lnTo>
                  <a:pt x="392" y="3349"/>
                </a:lnTo>
                <a:lnTo>
                  <a:pt x="382" y="3488"/>
                </a:lnTo>
                <a:lnTo>
                  <a:pt x="371" y="3615"/>
                </a:lnTo>
                <a:lnTo>
                  <a:pt x="305" y="3609"/>
                </a:lnTo>
                <a:close/>
                <a:moveTo>
                  <a:pt x="340" y="3144"/>
                </a:moveTo>
                <a:lnTo>
                  <a:pt x="359" y="2878"/>
                </a:lnTo>
                <a:lnTo>
                  <a:pt x="425" y="2883"/>
                </a:lnTo>
                <a:lnTo>
                  <a:pt x="406" y="3149"/>
                </a:lnTo>
                <a:lnTo>
                  <a:pt x="340" y="3144"/>
                </a:lnTo>
                <a:close/>
                <a:moveTo>
                  <a:pt x="372" y="2679"/>
                </a:moveTo>
                <a:lnTo>
                  <a:pt x="391" y="2413"/>
                </a:lnTo>
                <a:lnTo>
                  <a:pt x="457" y="2417"/>
                </a:lnTo>
                <a:lnTo>
                  <a:pt x="439" y="2683"/>
                </a:lnTo>
                <a:lnTo>
                  <a:pt x="372" y="2679"/>
                </a:lnTo>
                <a:close/>
                <a:moveTo>
                  <a:pt x="404" y="2213"/>
                </a:moveTo>
                <a:lnTo>
                  <a:pt x="409" y="2149"/>
                </a:lnTo>
                <a:lnTo>
                  <a:pt x="420" y="1947"/>
                </a:lnTo>
                <a:lnTo>
                  <a:pt x="487" y="1951"/>
                </a:lnTo>
                <a:lnTo>
                  <a:pt x="475" y="2154"/>
                </a:lnTo>
                <a:lnTo>
                  <a:pt x="471" y="2218"/>
                </a:lnTo>
                <a:lnTo>
                  <a:pt x="404" y="2213"/>
                </a:lnTo>
                <a:close/>
                <a:moveTo>
                  <a:pt x="432" y="1748"/>
                </a:moveTo>
                <a:lnTo>
                  <a:pt x="436" y="1671"/>
                </a:lnTo>
                <a:lnTo>
                  <a:pt x="472" y="1480"/>
                </a:lnTo>
                <a:lnTo>
                  <a:pt x="537" y="1493"/>
                </a:lnTo>
                <a:lnTo>
                  <a:pt x="503" y="1675"/>
                </a:lnTo>
                <a:lnTo>
                  <a:pt x="498" y="1752"/>
                </a:lnTo>
                <a:lnTo>
                  <a:pt x="432" y="1748"/>
                </a:lnTo>
                <a:close/>
                <a:moveTo>
                  <a:pt x="611" y="1538"/>
                </a:moveTo>
                <a:lnTo>
                  <a:pt x="650" y="1802"/>
                </a:lnTo>
                <a:lnTo>
                  <a:pt x="584" y="1812"/>
                </a:lnTo>
                <a:lnTo>
                  <a:pt x="545" y="1548"/>
                </a:lnTo>
                <a:lnTo>
                  <a:pt x="611" y="1538"/>
                </a:lnTo>
                <a:close/>
                <a:moveTo>
                  <a:pt x="672" y="2002"/>
                </a:moveTo>
                <a:lnTo>
                  <a:pt x="698" y="2249"/>
                </a:lnTo>
                <a:lnTo>
                  <a:pt x="699" y="2268"/>
                </a:lnTo>
                <a:lnTo>
                  <a:pt x="633" y="2273"/>
                </a:lnTo>
                <a:lnTo>
                  <a:pt x="631" y="2256"/>
                </a:lnTo>
                <a:lnTo>
                  <a:pt x="605" y="2009"/>
                </a:lnTo>
                <a:lnTo>
                  <a:pt x="672" y="2002"/>
                </a:lnTo>
                <a:close/>
                <a:moveTo>
                  <a:pt x="715" y="2468"/>
                </a:moveTo>
                <a:lnTo>
                  <a:pt x="726" y="2609"/>
                </a:lnTo>
                <a:lnTo>
                  <a:pt x="725" y="2603"/>
                </a:lnTo>
                <a:lnTo>
                  <a:pt x="757" y="2724"/>
                </a:lnTo>
                <a:lnTo>
                  <a:pt x="692" y="2741"/>
                </a:lnTo>
                <a:lnTo>
                  <a:pt x="660" y="2620"/>
                </a:lnTo>
                <a:cubicBezTo>
                  <a:pt x="660" y="2618"/>
                  <a:pt x="659" y="2616"/>
                  <a:pt x="659" y="2614"/>
                </a:cubicBezTo>
                <a:lnTo>
                  <a:pt x="648" y="2473"/>
                </a:lnTo>
                <a:lnTo>
                  <a:pt x="715" y="2468"/>
                </a:lnTo>
                <a:close/>
                <a:moveTo>
                  <a:pt x="750" y="2638"/>
                </a:moveTo>
                <a:lnTo>
                  <a:pt x="753" y="2629"/>
                </a:lnTo>
                <a:lnTo>
                  <a:pt x="752" y="2634"/>
                </a:lnTo>
                <a:lnTo>
                  <a:pt x="785" y="2380"/>
                </a:lnTo>
                <a:lnTo>
                  <a:pt x="851" y="2388"/>
                </a:lnTo>
                <a:lnTo>
                  <a:pt x="818" y="2643"/>
                </a:lnTo>
                <a:cubicBezTo>
                  <a:pt x="818" y="2645"/>
                  <a:pt x="818" y="2647"/>
                  <a:pt x="817" y="2649"/>
                </a:cubicBezTo>
                <a:lnTo>
                  <a:pt x="814" y="2658"/>
                </a:lnTo>
                <a:lnTo>
                  <a:pt x="750" y="2638"/>
                </a:lnTo>
                <a:close/>
                <a:moveTo>
                  <a:pt x="809" y="2183"/>
                </a:moveTo>
                <a:lnTo>
                  <a:pt x="829" y="1917"/>
                </a:lnTo>
                <a:lnTo>
                  <a:pt x="895" y="1922"/>
                </a:lnTo>
                <a:lnTo>
                  <a:pt x="876" y="2188"/>
                </a:lnTo>
                <a:lnTo>
                  <a:pt x="809" y="2183"/>
                </a:lnTo>
                <a:close/>
                <a:moveTo>
                  <a:pt x="843" y="1718"/>
                </a:moveTo>
                <a:lnTo>
                  <a:pt x="854" y="1570"/>
                </a:lnTo>
                <a:lnTo>
                  <a:pt x="862" y="1452"/>
                </a:lnTo>
                <a:lnTo>
                  <a:pt x="928" y="1456"/>
                </a:lnTo>
                <a:lnTo>
                  <a:pt x="920" y="1574"/>
                </a:lnTo>
                <a:lnTo>
                  <a:pt x="910" y="1723"/>
                </a:lnTo>
                <a:lnTo>
                  <a:pt x="843" y="1718"/>
                </a:lnTo>
                <a:close/>
                <a:moveTo>
                  <a:pt x="876" y="1252"/>
                </a:moveTo>
                <a:lnTo>
                  <a:pt x="894" y="986"/>
                </a:lnTo>
                <a:lnTo>
                  <a:pt x="960" y="991"/>
                </a:lnTo>
                <a:lnTo>
                  <a:pt x="942" y="1257"/>
                </a:lnTo>
                <a:lnTo>
                  <a:pt x="876" y="1252"/>
                </a:lnTo>
                <a:close/>
                <a:moveTo>
                  <a:pt x="905" y="787"/>
                </a:moveTo>
                <a:lnTo>
                  <a:pt x="919" y="521"/>
                </a:lnTo>
                <a:lnTo>
                  <a:pt x="985" y="524"/>
                </a:lnTo>
                <a:lnTo>
                  <a:pt x="972" y="791"/>
                </a:lnTo>
                <a:lnTo>
                  <a:pt x="905" y="787"/>
                </a:lnTo>
                <a:close/>
                <a:moveTo>
                  <a:pt x="929" y="318"/>
                </a:moveTo>
                <a:lnTo>
                  <a:pt x="965" y="54"/>
                </a:lnTo>
                <a:lnTo>
                  <a:pt x="1032" y="63"/>
                </a:lnTo>
                <a:lnTo>
                  <a:pt x="996" y="327"/>
                </a:lnTo>
                <a:lnTo>
                  <a:pt x="929" y="318"/>
                </a:lnTo>
                <a:close/>
                <a:moveTo>
                  <a:pt x="1103" y="0"/>
                </a:moveTo>
                <a:lnTo>
                  <a:pt x="1142" y="157"/>
                </a:lnTo>
                <a:lnTo>
                  <a:pt x="1156" y="264"/>
                </a:lnTo>
                <a:lnTo>
                  <a:pt x="1090" y="273"/>
                </a:lnTo>
                <a:lnTo>
                  <a:pt x="1078" y="173"/>
                </a:lnTo>
                <a:lnTo>
                  <a:pt x="1038" y="16"/>
                </a:lnTo>
                <a:lnTo>
                  <a:pt x="1103" y="0"/>
                </a:lnTo>
                <a:close/>
                <a:moveTo>
                  <a:pt x="1181" y="463"/>
                </a:moveTo>
                <a:lnTo>
                  <a:pt x="1189" y="529"/>
                </a:lnTo>
                <a:lnTo>
                  <a:pt x="1203" y="730"/>
                </a:lnTo>
                <a:lnTo>
                  <a:pt x="1137" y="735"/>
                </a:lnTo>
                <a:lnTo>
                  <a:pt x="1123" y="537"/>
                </a:lnTo>
                <a:lnTo>
                  <a:pt x="1115" y="471"/>
                </a:lnTo>
                <a:lnTo>
                  <a:pt x="1181" y="463"/>
                </a:lnTo>
                <a:close/>
                <a:moveTo>
                  <a:pt x="1217" y="930"/>
                </a:moveTo>
                <a:lnTo>
                  <a:pt x="1217" y="935"/>
                </a:lnTo>
                <a:lnTo>
                  <a:pt x="1250" y="1193"/>
                </a:lnTo>
                <a:lnTo>
                  <a:pt x="1184" y="1201"/>
                </a:lnTo>
                <a:lnTo>
                  <a:pt x="1151" y="940"/>
                </a:lnTo>
                <a:lnTo>
                  <a:pt x="1151" y="935"/>
                </a:lnTo>
                <a:lnTo>
                  <a:pt x="1217" y="930"/>
                </a:lnTo>
                <a:close/>
                <a:moveTo>
                  <a:pt x="1279" y="1389"/>
                </a:moveTo>
                <a:lnTo>
                  <a:pt x="1310" y="1566"/>
                </a:lnTo>
                <a:lnTo>
                  <a:pt x="1335" y="1645"/>
                </a:lnTo>
                <a:lnTo>
                  <a:pt x="1271" y="1665"/>
                </a:lnTo>
                <a:lnTo>
                  <a:pt x="1244" y="1578"/>
                </a:lnTo>
                <a:lnTo>
                  <a:pt x="1213" y="1400"/>
                </a:lnTo>
                <a:lnTo>
                  <a:pt x="1279" y="1389"/>
                </a:lnTo>
                <a:close/>
                <a:moveTo>
                  <a:pt x="1425" y="1817"/>
                </a:moveTo>
                <a:lnTo>
                  <a:pt x="1429" y="1826"/>
                </a:lnTo>
                <a:lnTo>
                  <a:pt x="1419" y="1813"/>
                </a:lnTo>
                <a:lnTo>
                  <a:pt x="1475" y="1859"/>
                </a:lnTo>
                <a:cubicBezTo>
                  <a:pt x="1479" y="1863"/>
                  <a:pt x="1482" y="1867"/>
                  <a:pt x="1484" y="1873"/>
                </a:cubicBezTo>
                <a:lnTo>
                  <a:pt x="1531" y="1992"/>
                </a:lnTo>
                <a:lnTo>
                  <a:pt x="1550" y="2046"/>
                </a:lnTo>
                <a:lnTo>
                  <a:pt x="1488" y="2069"/>
                </a:lnTo>
                <a:lnTo>
                  <a:pt x="1469" y="2016"/>
                </a:lnTo>
                <a:lnTo>
                  <a:pt x="1422" y="1897"/>
                </a:lnTo>
                <a:lnTo>
                  <a:pt x="1432" y="1910"/>
                </a:lnTo>
                <a:lnTo>
                  <a:pt x="1376" y="1864"/>
                </a:lnTo>
                <a:cubicBezTo>
                  <a:pt x="1372" y="1861"/>
                  <a:pt x="1369" y="1856"/>
                  <a:pt x="1367" y="1851"/>
                </a:cubicBezTo>
                <a:lnTo>
                  <a:pt x="1363" y="1842"/>
                </a:lnTo>
                <a:lnTo>
                  <a:pt x="1425" y="1817"/>
                </a:lnTo>
                <a:close/>
                <a:moveTo>
                  <a:pt x="1611" y="2239"/>
                </a:moveTo>
                <a:lnTo>
                  <a:pt x="1625" y="2289"/>
                </a:lnTo>
                <a:lnTo>
                  <a:pt x="1623" y="2284"/>
                </a:lnTo>
                <a:lnTo>
                  <a:pt x="1678" y="2404"/>
                </a:lnTo>
                <a:cubicBezTo>
                  <a:pt x="1680" y="2407"/>
                  <a:pt x="1680" y="2409"/>
                  <a:pt x="1681" y="2412"/>
                </a:cubicBezTo>
                <a:lnTo>
                  <a:pt x="1696" y="2493"/>
                </a:lnTo>
                <a:lnTo>
                  <a:pt x="1630" y="2505"/>
                </a:lnTo>
                <a:lnTo>
                  <a:pt x="1615" y="2424"/>
                </a:lnTo>
                <a:lnTo>
                  <a:pt x="1618" y="2432"/>
                </a:lnTo>
                <a:lnTo>
                  <a:pt x="1562" y="2313"/>
                </a:lnTo>
                <a:cubicBezTo>
                  <a:pt x="1561" y="2311"/>
                  <a:pt x="1561" y="2309"/>
                  <a:pt x="1560" y="2307"/>
                </a:cubicBezTo>
                <a:lnTo>
                  <a:pt x="1546" y="2257"/>
                </a:lnTo>
                <a:lnTo>
                  <a:pt x="1611" y="2239"/>
                </a:lnTo>
                <a:close/>
                <a:moveTo>
                  <a:pt x="1791" y="2451"/>
                </a:moveTo>
                <a:lnTo>
                  <a:pt x="1792" y="2450"/>
                </a:lnTo>
                <a:lnTo>
                  <a:pt x="1847" y="2394"/>
                </a:lnTo>
                <a:lnTo>
                  <a:pt x="1840" y="2406"/>
                </a:lnTo>
                <a:lnTo>
                  <a:pt x="1859" y="2360"/>
                </a:lnTo>
                <a:cubicBezTo>
                  <a:pt x="1860" y="2355"/>
                  <a:pt x="1863" y="2352"/>
                  <a:pt x="1866" y="2348"/>
                </a:cubicBezTo>
                <a:lnTo>
                  <a:pt x="1912" y="2302"/>
                </a:lnTo>
                <a:cubicBezTo>
                  <a:pt x="1915" y="2300"/>
                  <a:pt x="1918" y="2298"/>
                  <a:pt x="1921" y="2296"/>
                </a:cubicBezTo>
                <a:lnTo>
                  <a:pt x="1977" y="2269"/>
                </a:lnTo>
                <a:lnTo>
                  <a:pt x="1988" y="2264"/>
                </a:lnTo>
                <a:lnTo>
                  <a:pt x="2013" y="2326"/>
                </a:lnTo>
                <a:lnTo>
                  <a:pt x="2006" y="2328"/>
                </a:lnTo>
                <a:lnTo>
                  <a:pt x="1951" y="2356"/>
                </a:lnTo>
                <a:lnTo>
                  <a:pt x="1959" y="2350"/>
                </a:lnTo>
                <a:lnTo>
                  <a:pt x="1913" y="2396"/>
                </a:lnTo>
                <a:lnTo>
                  <a:pt x="1920" y="2385"/>
                </a:lnTo>
                <a:lnTo>
                  <a:pt x="1902" y="2431"/>
                </a:lnTo>
                <a:cubicBezTo>
                  <a:pt x="1900" y="2435"/>
                  <a:pt x="1898" y="2439"/>
                  <a:pt x="1894" y="2442"/>
                </a:cubicBezTo>
                <a:lnTo>
                  <a:pt x="1839" y="2497"/>
                </a:lnTo>
                <a:lnTo>
                  <a:pt x="1838" y="2498"/>
                </a:lnTo>
                <a:lnTo>
                  <a:pt x="1791" y="2451"/>
                </a:lnTo>
                <a:close/>
                <a:moveTo>
                  <a:pt x="2175" y="2173"/>
                </a:moveTo>
                <a:lnTo>
                  <a:pt x="2205" y="2173"/>
                </a:lnTo>
                <a:lnTo>
                  <a:pt x="2261" y="2173"/>
                </a:lnTo>
                <a:cubicBezTo>
                  <a:pt x="2265" y="2173"/>
                  <a:pt x="2269" y="2174"/>
                  <a:pt x="2273" y="2176"/>
                </a:cubicBezTo>
                <a:lnTo>
                  <a:pt x="2319" y="2194"/>
                </a:lnTo>
                <a:cubicBezTo>
                  <a:pt x="2321" y="2195"/>
                  <a:pt x="2323" y="2195"/>
                  <a:pt x="2324" y="2196"/>
                </a:cubicBezTo>
                <a:lnTo>
                  <a:pt x="2370" y="2224"/>
                </a:lnTo>
                <a:cubicBezTo>
                  <a:pt x="2373" y="2225"/>
                  <a:pt x="2375" y="2227"/>
                  <a:pt x="2377" y="2229"/>
                </a:cubicBezTo>
                <a:lnTo>
                  <a:pt x="2405" y="2256"/>
                </a:lnTo>
                <a:lnTo>
                  <a:pt x="2381" y="2247"/>
                </a:lnTo>
                <a:lnTo>
                  <a:pt x="2419" y="2247"/>
                </a:lnTo>
                <a:lnTo>
                  <a:pt x="2419" y="2313"/>
                </a:lnTo>
                <a:lnTo>
                  <a:pt x="2381" y="2313"/>
                </a:lnTo>
                <a:cubicBezTo>
                  <a:pt x="2372" y="2313"/>
                  <a:pt x="2364" y="2310"/>
                  <a:pt x="2358" y="2304"/>
                </a:cubicBezTo>
                <a:lnTo>
                  <a:pt x="2330" y="2276"/>
                </a:lnTo>
                <a:lnTo>
                  <a:pt x="2336" y="2281"/>
                </a:lnTo>
                <a:lnTo>
                  <a:pt x="2290" y="2254"/>
                </a:lnTo>
                <a:lnTo>
                  <a:pt x="2295" y="2256"/>
                </a:lnTo>
                <a:lnTo>
                  <a:pt x="2248" y="2237"/>
                </a:lnTo>
                <a:lnTo>
                  <a:pt x="2261" y="2240"/>
                </a:lnTo>
                <a:lnTo>
                  <a:pt x="2205" y="2240"/>
                </a:lnTo>
                <a:lnTo>
                  <a:pt x="2175" y="2240"/>
                </a:lnTo>
                <a:lnTo>
                  <a:pt x="2175" y="2173"/>
                </a:lnTo>
                <a:close/>
                <a:moveTo>
                  <a:pt x="2526" y="2123"/>
                </a:moveTo>
                <a:lnTo>
                  <a:pt x="2548" y="2088"/>
                </a:lnTo>
                <a:lnTo>
                  <a:pt x="2545" y="2094"/>
                </a:lnTo>
                <a:lnTo>
                  <a:pt x="2573" y="2020"/>
                </a:lnTo>
                <a:lnTo>
                  <a:pt x="2621" y="1925"/>
                </a:lnTo>
                <a:cubicBezTo>
                  <a:pt x="2623" y="1919"/>
                  <a:pt x="2628" y="1914"/>
                  <a:pt x="2633" y="1911"/>
                </a:cubicBezTo>
                <a:lnTo>
                  <a:pt x="2671" y="1889"/>
                </a:lnTo>
                <a:lnTo>
                  <a:pt x="2705" y="1946"/>
                </a:lnTo>
                <a:lnTo>
                  <a:pt x="2667" y="1968"/>
                </a:lnTo>
                <a:lnTo>
                  <a:pt x="2680" y="1955"/>
                </a:lnTo>
                <a:lnTo>
                  <a:pt x="2635" y="2044"/>
                </a:lnTo>
                <a:lnTo>
                  <a:pt x="2607" y="2117"/>
                </a:lnTo>
                <a:cubicBezTo>
                  <a:pt x="2607" y="2119"/>
                  <a:pt x="2606" y="2121"/>
                  <a:pt x="2604" y="2123"/>
                </a:cubicBezTo>
                <a:lnTo>
                  <a:pt x="2582" y="2158"/>
                </a:lnTo>
                <a:lnTo>
                  <a:pt x="2526" y="2123"/>
                </a:lnTo>
                <a:close/>
                <a:moveTo>
                  <a:pt x="2847" y="1986"/>
                </a:moveTo>
                <a:lnTo>
                  <a:pt x="2849" y="1995"/>
                </a:lnTo>
                <a:lnTo>
                  <a:pt x="2844" y="1984"/>
                </a:lnTo>
                <a:lnTo>
                  <a:pt x="2900" y="2058"/>
                </a:lnTo>
                <a:cubicBezTo>
                  <a:pt x="2901" y="2060"/>
                  <a:pt x="2902" y="2062"/>
                  <a:pt x="2903" y="2064"/>
                </a:cubicBezTo>
                <a:lnTo>
                  <a:pt x="2950" y="2165"/>
                </a:lnTo>
                <a:lnTo>
                  <a:pt x="2972" y="2213"/>
                </a:lnTo>
                <a:lnTo>
                  <a:pt x="2911" y="2241"/>
                </a:lnTo>
                <a:lnTo>
                  <a:pt x="2889" y="2193"/>
                </a:lnTo>
                <a:lnTo>
                  <a:pt x="2843" y="2092"/>
                </a:lnTo>
                <a:lnTo>
                  <a:pt x="2846" y="2098"/>
                </a:lnTo>
                <a:lnTo>
                  <a:pt x="2791" y="2024"/>
                </a:lnTo>
                <a:cubicBezTo>
                  <a:pt x="2788" y="2021"/>
                  <a:pt x="2787" y="2017"/>
                  <a:pt x="2785" y="2013"/>
                </a:cubicBezTo>
                <a:lnTo>
                  <a:pt x="2783" y="2004"/>
                </a:lnTo>
                <a:lnTo>
                  <a:pt x="2847" y="1986"/>
                </a:lnTo>
                <a:close/>
                <a:moveTo>
                  <a:pt x="3057" y="2308"/>
                </a:moveTo>
                <a:lnTo>
                  <a:pt x="3063" y="2302"/>
                </a:lnTo>
                <a:lnTo>
                  <a:pt x="3121" y="2254"/>
                </a:lnTo>
                <a:lnTo>
                  <a:pt x="3114" y="2262"/>
                </a:lnTo>
                <a:lnTo>
                  <a:pt x="3160" y="2189"/>
                </a:lnTo>
                <a:lnTo>
                  <a:pt x="3207" y="2115"/>
                </a:lnTo>
                <a:lnTo>
                  <a:pt x="3216" y="2103"/>
                </a:lnTo>
                <a:lnTo>
                  <a:pt x="3269" y="2143"/>
                </a:lnTo>
                <a:lnTo>
                  <a:pt x="3263" y="2151"/>
                </a:lnTo>
                <a:lnTo>
                  <a:pt x="3217" y="2224"/>
                </a:lnTo>
                <a:lnTo>
                  <a:pt x="3170" y="2298"/>
                </a:lnTo>
                <a:cubicBezTo>
                  <a:pt x="3169" y="2301"/>
                  <a:pt x="3166" y="2304"/>
                  <a:pt x="3163" y="2306"/>
                </a:cubicBezTo>
                <a:lnTo>
                  <a:pt x="3110" y="2350"/>
                </a:lnTo>
                <a:lnTo>
                  <a:pt x="3104" y="2355"/>
                </a:lnTo>
                <a:lnTo>
                  <a:pt x="3057" y="2308"/>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41440" y="56102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2794" name=""/>
          <p:cNvSpPr/>
          <p:nvPr/>
        </p:nvSpPr>
        <p:spPr>
          <a:xfrm>
            <a:off x="4493160" y="55944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795" name=""/>
          <p:cNvSpPr/>
          <p:nvPr/>
        </p:nvSpPr>
        <p:spPr>
          <a:xfrm>
            <a:off x="4574520" y="56102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2796"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7"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1310760" y="6019920"/>
            <a:ext cx="6171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P-wave response of a 1 mm radius spherical inclusion in steel whe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and compressional wave speed are both one hundred percent higher than the host ste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d line: MBA approximation, dashed line: separation of variables solution.</a:t>
            </a:r>
            <a:endParaRPr b="0" lang="en-US" sz="1200" spc="-1" strike="noStrike">
              <a:solidFill>
                <a:srgbClr val="000000"/>
              </a:solidFill>
              <a:latin typeface="Times New Roman"/>
            </a:endParaRPr>
          </a:p>
        </p:txBody>
      </p:sp>
      <p:sp>
        <p:nvSpPr>
          <p:cNvPr id="2799" name=""/>
          <p:cNvSpPr/>
          <p:nvPr/>
        </p:nvSpPr>
        <p:spPr>
          <a:xfrm>
            <a:off x="2514600" y="129528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 % differences in properties)</a:t>
            </a:r>
            <a:endParaRPr b="0" lang="en-US" sz="2400" spc="-1" strike="noStrike">
              <a:solidFill>
                <a:srgbClr val="000000"/>
              </a:solidFill>
              <a:latin typeface="Times New Roman"/>
            </a:endParaRPr>
          </a:p>
        </p:txBody>
      </p:sp>
      <p:grpSp>
        <p:nvGrpSpPr>
          <p:cNvPr id="2800" name=""/>
          <p:cNvGrpSpPr/>
          <p:nvPr/>
        </p:nvGrpSpPr>
        <p:grpSpPr>
          <a:xfrm>
            <a:off x="3193920" y="2813040"/>
            <a:ext cx="3114720" cy="2471760"/>
            <a:chOff x="3193920" y="2813040"/>
            <a:chExt cx="3114720" cy="2471760"/>
          </a:xfrm>
        </p:grpSpPr>
        <p:sp>
          <p:nvSpPr>
            <p:cNvPr id="2801" name=""/>
            <p:cNvSpPr/>
            <p:nvPr/>
          </p:nvSpPr>
          <p:spPr>
            <a:xfrm>
              <a:off x="3193920" y="2813040"/>
              <a:ext cx="3114720" cy="24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193920" y="2813040"/>
              <a:ext cx="3114720" cy="24717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3" name=""/>
          <p:cNvSpPr/>
          <p:nvPr/>
        </p:nvSpPr>
        <p:spPr>
          <a:xfrm>
            <a:off x="3193920" y="2813040"/>
            <a:ext cx="3114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flipV="1">
            <a:off x="6308640" y="2813040"/>
            <a:ext cx="1800" cy="24717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V="1">
            <a:off x="3193920" y="2813040"/>
            <a:ext cx="3240" cy="2471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V="1">
            <a:off x="3193920" y="2813040"/>
            <a:ext cx="3240" cy="2471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flipV="1">
            <a:off x="3193920" y="5253120"/>
            <a:ext cx="32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8" name=""/>
          <p:cNvSpPr/>
          <p:nvPr/>
        </p:nvSpPr>
        <p:spPr>
          <a:xfrm>
            <a:off x="3193920" y="2813040"/>
            <a:ext cx="32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9" name=""/>
          <p:cNvSpPr/>
          <p:nvPr/>
        </p:nvSpPr>
        <p:spPr>
          <a:xfrm>
            <a:off x="308052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10" name=""/>
          <p:cNvSpPr/>
          <p:nvPr/>
        </p:nvSpPr>
        <p:spPr>
          <a:xfrm>
            <a:off x="312948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811" name=""/>
          <p:cNvSpPr/>
          <p:nvPr/>
        </p:nvSpPr>
        <p:spPr>
          <a:xfrm flipV="1">
            <a:off x="363996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2" name=""/>
          <p:cNvSpPr/>
          <p:nvPr/>
        </p:nvSpPr>
        <p:spPr>
          <a:xfrm>
            <a:off x="363996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3" name=""/>
          <p:cNvSpPr/>
          <p:nvPr/>
        </p:nvSpPr>
        <p:spPr>
          <a:xfrm>
            <a:off x="356652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14" name=""/>
          <p:cNvSpPr/>
          <p:nvPr/>
        </p:nvSpPr>
        <p:spPr>
          <a:xfrm>
            <a:off x="36158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815" name=""/>
          <p:cNvSpPr/>
          <p:nvPr/>
        </p:nvSpPr>
        <p:spPr>
          <a:xfrm flipV="1">
            <a:off x="408456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408456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7" name=""/>
          <p:cNvSpPr/>
          <p:nvPr/>
        </p:nvSpPr>
        <p:spPr>
          <a:xfrm>
            <a:off x="397116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18" name=""/>
          <p:cNvSpPr/>
          <p:nvPr/>
        </p:nvSpPr>
        <p:spPr>
          <a:xfrm>
            <a:off x="401832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819" name=""/>
          <p:cNvSpPr/>
          <p:nvPr/>
        </p:nvSpPr>
        <p:spPr>
          <a:xfrm flipV="1">
            <a:off x="4529160" y="5253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0" name=""/>
          <p:cNvSpPr/>
          <p:nvPr/>
        </p:nvSpPr>
        <p:spPr>
          <a:xfrm>
            <a:off x="4529160" y="2813040"/>
            <a:ext cx="14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1" name=""/>
          <p:cNvSpPr/>
          <p:nvPr/>
        </p:nvSpPr>
        <p:spPr>
          <a:xfrm>
            <a:off x="44906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822" name=""/>
          <p:cNvSpPr/>
          <p:nvPr/>
        </p:nvSpPr>
        <p:spPr>
          <a:xfrm flipV="1">
            <a:off x="4973760" y="5253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3" name=""/>
          <p:cNvSpPr/>
          <p:nvPr/>
        </p:nvSpPr>
        <p:spPr>
          <a:xfrm>
            <a:off x="4973760" y="2813040"/>
            <a:ext cx="14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4" name=""/>
          <p:cNvSpPr/>
          <p:nvPr/>
        </p:nvSpPr>
        <p:spPr>
          <a:xfrm>
            <a:off x="489168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825" name=""/>
          <p:cNvSpPr/>
          <p:nvPr/>
        </p:nvSpPr>
        <p:spPr>
          <a:xfrm flipV="1">
            <a:off x="541800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6" name=""/>
          <p:cNvSpPr/>
          <p:nvPr/>
        </p:nvSpPr>
        <p:spPr>
          <a:xfrm>
            <a:off x="541800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7" name=""/>
          <p:cNvSpPr/>
          <p:nvPr/>
        </p:nvSpPr>
        <p:spPr>
          <a:xfrm>
            <a:off x="53780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828" name=""/>
          <p:cNvSpPr/>
          <p:nvPr/>
        </p:nvSpPr>
        <p:spPr>
          <a:xfrm flipV="1">
            <a:off x="586260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9" name=""/>
          <p:cNvSpPr/>
          <p:nvPr/>
        </p:nvSpPr>
        <p:spPr>
          <a:xfrm>
            <a:off x="586260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0" name=""/>
          <p:cNvSpPr/>
          <p:nvPr/>
        </p:nvSpPr>
        <p:spPr>
          <a:xfrm>
            <a:off x="578052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831" name=""/>
          <p:cNvSpPr/>
          <p:nvPr/>
        </p:nvSpPr>
        <p:spPr>
          <a:xfrm flipV="1">
            <a:off x="630864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2" name=""/>
          <p:cNvSpPr/>
          <p:nvPr/>
        </p:nvSpPr>
        <p:spPr>
          <a:xfrm>
            <a:off x="630864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3" name=""/>
          <p:cNvSpPr/>
          <p:nvPr/>
        </p:nvSpPr>
        <p:spPr>
          <a:xfrm>
            <a:off x="626868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834" name=""/>
          <p:cNvSpPr/>
          <p:nvPr/>
        </p:nvSpPr>
        <p:spPr>
          <a:xfrm>
            <a:off x="3193920" y="528480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flipH="1">
            <a:off x="6276960" y="528480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6" name=""/>
          <p:cNvSpPr/>
          <p:nvPr/>
        </p:nvSpPr>
        <p:spPr>
          <a:xfrm>
            <a:off x="2940840" y="52243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37" name=""/>
          <p:cNvSpPr/>
          <p:nvPr/>
        </p:nvSpPr>
        <p:spPr>
          <a:xfrm>
            <a:off x="2989080" y="522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838" name=""/>
          <p:cNvSpPr/>
          <p:nvPr/>
        </p:nvSpPr>
        <p:spPr>
          <a:xfrm>
            <a:off x="3193920" y="486900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9" name=""/>
          <p:cNvSpPr/>
          <p:nvPr/>
        </p:nvSpPr>
        <p:spPr>
          <a:xfrm flipH="1">
            <a:off x="6276960" y="48704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a:off x="2998080" y="48117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41" name=""/>
          <p:cNvSpPr/>
          <p:nvPr/>
        </p:nvSpPr>
        <p:spPr>
          <a:xfrm>
            <a:off x="3045960" y="4811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842" name=""/>
          <p:cNvSpPr/>
          <p:nvPr/>
        </p:nvSpPr>
        <p:spPr>
          <a:xfrm>
            <a:off x="3193920" y="445788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3" name=""/>
          <p:cNvSpPr/>
          <p:nvPr/>
        </p:nvSpPr>
        <p:spPr>
          <a:xfrm flipH="1">
            <a:off x="6276960" y="4457880"/>
            <a:ext cx="316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4" name=""/>
          <p:cNvSpPr/>
          <p:nvPr/>
        </p:nvSpPr>
        <p:spPr>
          <a:xfrm>
            <a:off x="3028680" y="43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845" name=""/>
          <p:cNvSpPr/>
          <p:nvPr/>
        </p:nvSpPr>
        <p:spPr>
          <a:xfrm>
            <a:off x="3193920" y="40496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6" name=""/>
          <p:cNvSpPr/>
          <p:nvPr/>
        </p:nvSpPr>
        <p:spPr>
          <a:xfrm flipH="1">
            <a:off x="6276960" y="40496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7" name=""/>
          <p:cNvSpPr/>
          <p:nvPr/>
        </p:nvSpPr>
        <p:spPr>
          <a:xfrm>
            <a:off x="3028680" y="3990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848" name=""/>
          <p:cNvSpPr/>
          <p:nvPr/>
        </p:nvSpPr>
        <p:spPr>
          <a:xfrm>
            <a:off x="3193920" y="36320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9" name=""/>
          <p:cNvSpPr/>
          <p:nvPr/>
        </p:nvSpPr>
        <p:spPr>
          <a:xfrm flipH="1">
            <a:off x="6276960" y="36320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0" name=""/>
          <p:cNvSpPr/>
          <p:nvPr/>
        </p:nvSpPr>
        <p:spPr>
          <a:xfrm>
            <a:off x="2971440" y="3573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851" name=""/>
          <p:cNvSpPr/>
          <p:nvPr/>
        </p:nvSpPr>
        <p:spPr>
          <a:xfrm>
            <a:off x="3193920" y="322416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2" name=""/>
          <p:cNvSpPr/>
          <p:nvPr/>
        </p:nvSpPr>
        <p:spPr>
          <a:xfrm flipH="1">
            <a:off x="6276960" y="322416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3" name=""/>
          <p:cNvSpPr/>
          <p:nvPr/>
        </p:nvSpPr>
        <p:spPr>
          <a:xfrm>
            <a:off x="2971440" y="3164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854" name=""/>
          <p:cNvSpPr/>
          <p:nvPr/>
        </p:nvSpPr>
        <p:spPr>
          <a:xfrm>
            <a:off x="3193920" y="281304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5" name=""/>
          <p:cNvSpPr/>
          <p:nvPr/>
        </p:nvSpPr>
        <p:spPr>
          <a:xfrm flipH="1">
            <a:off x="6276960" y="28130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6" name=""/>
          <p:cNvSpPr/>
          <p:nvPr/>
        </p:nvSpPr>
        <p:spPr>
          <a:xfrm>
            <a:off x="2971440" y="27558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2857" name=""/>
          <p:cNvSpPr/>
          <p:nvPr/>
        </p:nvSpPr>
        <p:spPr>
          <a:xfrm>
            <a:off x="3193920" y="3102120"/>
            <a:ext cx="1105200" cy="1771560"/>
          </a:xfrm>
          <a:custGeom>
            <a:avLst/>
            <a:gdLst/>
            <a:ahLst/>
            <a:rect l="l" t="t" r="r" b="b"/>
            <a:pathLst>
              <a:path w="696" h="1116">
                <a:moveTo>
                  <a:pt x="0" y="854"/>
                </a:moveTo>
                <a:lnTo>
                  <a:pt x="3" y="854"/>
                </a:lnTo>
                <a:lnTo>
                  <a:pt x="9" y="854"/>
                </a:lnTo>
                <a:lnTo>
                  <a:pt x="16" y="854"/>
                </a:lnTo>
                <a:lnTo>
                  <a:pt x="20" y="854"/>
                </a:lnTo>
                <a:lnTo>
                  <a:pt x="27" y="854"/>
                </a:lnTo>
                <a:lnTo>
                  <a:pt x="33" y="854"/>
                </a:lnTo>
                <a:lnTo>
                  <a:pt x="36" y="854"/>
                </a:lnTo>
                <a:lnTo>
                  <a:pt x="42" y="854"/>
                </a:lnTo>
                <a:lnTo>
                  <a:pt x="49" y="854"/>
                </a:lnTo>
                <a:lnTo>
                  <a:pt x="53" y="854"/>
                </a:lnTo>
                <a:lnTo>
                  <a:pt x="60" y="854"/>
                </a:lnTo>
                <a:lnTo>
                  <a:pt x="65" y="854"/>
                </a:lnTo>
                <a:lnTo>
                  <a:pt x="69" y="854"/>
                </a:lnTo>
                <a:lnTo>
                  <a:pt x="76" y="854"/>
                </a:lnTo>
                <a:lnTo>
                  <a:pt x="82" y="854"/>
                </a:lnTo>
                <a:lnTo>
                  <a:pt x="86" y="854"/>
                </a:lnTo>
                <a:lnTo>
                  <a:pt x="93" y="854"/>
                </a:lnTo>
                <a:lnTo>
                  <a:pt x="98" y="854"/>
                </a:lnTo>
                <a:lnTo>
                  <a:pt x="102" y="854"/>
                </a:lnTo>
                <a:lnTo>
                  <a:pt x="109" y="854"/>
                </a:lnTo>
                <a:lnTo>
                  <a:pt x="115" y="854"/>
                </a:lnTo>
                <a:lnTo>
                  <a:pt x="119" y="854"/>
                </a:lnTo>
                <a:lnTo>
                  <a:pt x="126" y="854"/>
                </a:lnTo>
                <a:lnTo>
                  <a:pt x="131" y="854"/>
                </a:lnTo>
                <a:lnTo>
                  <a:pt x="135" y="854"/>
                </a:lnTo>
                <a:lnTo>
                  <a:pt x="142" y="854"/>
                </a:lnTo>
                <a:lnTo>
                  <a:pt x="148" y="854"/>
                </a:lnTo>
                <a:lnTo>
                  <a:pt x="152" y="854"/>
                </a:lnTo>
                <a:lnTo>
                  <a:pt x="159" y="854"/>
                </a:lnTo>
                <a:lnTo>
                  <a:pt x="164" y="854"/>
                </a:lnTo>
                <a:lnTo>
                  <a:pt x="168" y="854"/>
                </a:lnTo>
                <a:lnTo>
                  <a:pt x="175" y="854"/>
                </a:lnTo>
                <a:lnTo>
                  <a:pt x="181" y="854"/>
                </a:lnTo>
                <a:lnTo>
                  <a:pt x="185" y="854"/>
                </a:lnTo>
                <a:lnTo>
                  <a:pt x="192" y="854"/>
                </a:lnTo>
                <a:lnTo>
                  <a:pt x="197" y="854"/>
                </a:lnTo>
                <a:lnTo>
                  <a:pt x="201" y="854"/>
                </a:lnTo>
                <a:lnTo>
                  <a:pt x="208" y="854"/>
                </a:lnTo>
                <a:lnTo>
                  <a:pt x="214" y="854"/>
                </a:lnTo>
                <a:lnTo>
                  <a:pt x="218" y="854"/>
                </a:lnTo>
                <a:lnTo>
                  <a:pt x="224" y="854"/>
                </a:lnTo>
                <a:lnTo>
                  <a:pt x="227" y="854"/>
                </a:lnTo>
                <a:lnTo>
                  <a:pt x="234" y="854"/>
                </a:lnTo>
                <a:lnTo>
                  <a:pt x="241" y="854"/>
                </a:lnTo>
                <a:lnTo>
                  <a:pt x="244" y="854"/>
                </a:lnTo>
                <a:lnTo>
                  <a:pt x="251" y="854"/>
                </a:lnTo>
                <a:lnTo>
                  <a:pt x="257" y="854"/>
                </a:lnTo>
                <a:lnTo>
                  <a:pt x="260" y="854"/>
                </a:lnTo>
                <a:lnTo>
                  <a:pt x="267" y="854"/>
                </a:lnTo>
                <a:lnTo>
                  <a:pt x="274" y="854"/>
                </a:lnTo>
                <a:lnTo>
                  <a:pt x="277" y="854"/>
                </a:lnTo>
                <a:lnTo>
                  <a:pt x="284" y="854"/>
                </a:lnTo>
                <a:lnTo>
                  <a:pt x="290" y="854"/>
                </a:lnTo>
                <a:lnTo>
                  <a:pt x="293" y="854"/>
                </a:lnTo>
                <a:lnTo>
                  <a:pt x="300" y="854"/>
                </a:lnTo>
                <a:lnTo>
                  <a:pt x="307" y="851"/>
                </a:lnTo>
                <a:lnTo>
                  <a:pt x="310" y="851"/>
                </a:lnTo>
                <a:lnTo>
                  <a:pt x="317" y="854"/>
                </a:lnTo>
                <a:lnTo>
                  <a:pt x="323" y="854"/>
                </a:lnTo>
                <a:lnTo>
                  <a:pt x="326" y="854"/>
                </a:lnTo>
                <a:lnTo>
                  <a:pt x="333" y="854"/>
                </a:lnTo>
                <a:lnTo>
                  <a:pt x="340" y="854"/>
                </a:lnTo>
                <a:lnTo>
                  <a:pt x="343" y="854"/>
                </a:lnTo>
                <a:lnTo>
                  <a:pt x="350" y="854"/>
                </a:lnTo>
                <a:lnTo>
                  <a:pt x="356" y="854"/>
                </a:lnTo>
                <a:lnTo>
                  <a:pt x="359" y="851"/>
                </a:lnTo>
                <a:lnTo>
                  <a:pt x="366" y="848"/>
                </a:lnTo>
                <a:lnTo>
                  <a:pt x="373" y="851"/>
                </a:lnTo>
                <a:lnTo>
                  <a:pt x="376" y="854"/>
                </a:lnTo>
                <a:lnTo>
                  <a:pt x="382" y="854"/>
                </a:lnTo>
                <a:lnTo>
                  <a:pt x="389" y="851"/>
                </a:lnTo>
                <a:lnTo>
                  <a:pt x="392" y="851"/>
                </a:lnTo>
                <a:lnTo>
                  <a:pt x="399" y="861"/>
                </a:lnTo>
                <a:lnTo>
                  <a:pt x="406" y="868"/>
                </a:lnTo>
                <a:lnTo>
                  <a:pt x="409" y="861"/>
                </a:lnTo>
                <a:lnTo>
                  <a:pt x="415" y="832"/>
                </a:lnTo>
                <a:lnTo>
                  <a:pt x="422" y="795"/>
                </a:lnTo>
                <a:lnTo>
                  <a:pt x="425" y="802"/>
                </a:lnTo>
                <a:lnTo>
                  <a:pt x="432" y="868"/>
                </a:lnTo>
                <a:lnTo>
                  <a:pt x="439" y="967"/>
                </a:lnTo>
                <a:lnTo>
                  <a:pt x="442" y="1003"/>
                </a:lnTo>
                <a:lnTo>
                  <a:pt x="448" y="891"/>
                </a:lnTo>
                <a:lnTo>
                  <a:pt x="455" y="609"/>
                </a:lnTo>
                <a:lnTo>
                  <a:pt x="458" y="259"/>
                </a:lnTo>
                <a:lnTo>
                  <a:pt x="465" y="7"/>
                </a:lnTo>
                <a:lnTo>
                  <a:pt x="468" y="0"/>
                </a:lnTo>
                <a:lnTo>
                  <a:pt x="475" y="245"/>
                </a:lnTo>
                <a:lnTo>
                  <a:pt x="481" y="620"/>
                </a:lnTo>
                <a:lnTo>
                  <a:pt x="484" y="951"/>
                </a:lnTo>
                <a:lnTo>
                  <a:pt x="491" y="1116"/>
                </a:lnTo>
                <a:lnTo>
                  <a:pt x="498" y="1103"/>
                </a:lnTo>
                <a:lnTo>
                  <a:pt x="501" y="1000"/>
                </a:lnTo>
                <a:lnTo>
                  <a:pt x="508" y="914"/>
                </a:lnTo>
                <a:lnTo>
                  <a:pt x="514" y="891"/>
                </a:lnTo>
                <a:lnTo>
                  <a:pt x="517" y="921"/>
                </a:lnTo>
                <a:lnTo>
                  <a:pt x="524" y="958"/>
                </a:lnTo>
                <a:lnTo>
                  <a:pt x="531" y="970"/>
                </a:lnTo>
                <a:lnTo>
                  <a:pt x="534" y="963"/>
                </a:lnTo>
                <a:lnTo>
                  <a:pt x="540" y="954"/>
                </a:lnTo>
                <a:lnTo>
                  <a:pt x="547" y="947"/>
                </a:lnTo>
                <a:lnTo>
                  <a:pt x="550" y="951"/>
                </a:lnTo>
                <a:lnTo>
                  <a:pt x="557" y="951"/>
                </a:lnTo>
                <a:lnTo>
                  <a:pt x="564" y="947"/>
                </a:lnTo>
                <a:lnTo>
                  <a:pt x="567" y="947"/>
                </a:lnTo>
                <a:lnTo>
                  <a:pt x="573" y="947"/>
                </a:lnTo>
                <a:lnTo>
                  <a:pt x="580" y="947"/>
                </a:lnTo>
                <a:lnTo>
                  <a:pt x="583" y="951"/>
                </a:lnTo>
                <a:lnTo>
                  <a:pt x="590" y="951"/>
                </a:lnTo>
                <a:lnTo>
                  <a:pt x="597" y="951"/>
                </a:lnTo>
                <a:lnTo>
                  <a:pt x="600" y="947"/>
                </a:lnTo>
                <a:lnTo>
                  <a:pt x="606" y="947"/>
                </a:lnTo>
                <a:lnTo>
                  <a:pt x="613" y="947"/>
                </a:lnTo>
                <a:lnTo>
                  <a:pt x="616" y="947"/>
                </a:lnTo>
                <a:lnTo>
                  <a:pt x="623" y="947"/>
                </a:lnTo>
                <a:lnTo>
                  <a:pt x="630" y="947"/>
                </a:lnTo>
                <a:lnTo>
                  <a:pt x="633" y="947"/>
                </a:lnTo>
                <a:lnTo>
                  <a:pt x="639" y="947"/>
                </a:lnTo>
                <a:lnTo>
                  <a:pt x="646" y="947"/>
                </a:lnTo>
                <a:lnTo>
                  <a:pt x="649" y="947"/>
                </a:lnTo>
                <a:lnTo>
                  <a:pt x="656" y="947"/>
                </a:lnTo>
                <a:lnTo>
                  <a:pt x="663" y="947"/>
                </a:lnTo>
                <a:lnTo>
                  <a:pt x="666" y="947"/>
                </a:lnTo>
                <a:lnTo>
                  <a:pt x="672" y="947"/>
                </a:lnTo>
                <a:lnTo>
                  <a:pt x="679" y="947"/>
                </a:lnTo>
                <a:lnTo>
                  <a:pt x="682" y="947"/>
                </a:lnTo>
                <a:lnTo>
                  <a:pt x="689" y="947"/>
                </a:lnTo>
                <a:lnTo>
                  <a:pt x="696" y="947"/>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299120" y="3049560"/>
            <a:ext cx="1098360" cy="1814400"/>
          </a:xfrm>
          <a:custGeom>
            <a:avLst/>
            <a:gdLst/>
            <a:ahLst/>
            <a:rect l="l" t="t" r="r" b="b"/>
            <a:pathLst>
              <a:path w="692" h="1143">
                <a:moveTo>
                  <a:pt x="0" y="980"/>
                </a:moveTo>
                <a:lnTo>
                  <a:pt x="2" y="980"/>
                </a:lnTo>
                <a:lnTo>
                  <a:pt x="9" y="980"/>
                </a:lnTo>
                <a:lnTo>
                  <a:pt x="16" y="980"/>
                </a:lnTo>
                <a:lnTo>
                  <a:pt x="19" y="980"/>
                </a:lnTo>
                <a:lnTo>
                  <a:pt x="26" y="984"/>
                </a:lnTo>
                <a:lnTo>
                  <a:pt x="30" y="980"/>
                </a:lnTo>
                <a:lnTo>
                  <a:pt x="35" y="977"/>
                </a:lnTo>
                <a:lnTo>
                  <a:pt x="42" y="977"/>
                </a:lnTo>
                <a:lnTo>
                  <a:pt x="46" y="977"/>
                </a:lnTo>
                <a:lnTo>
                  <a:pt x="52" y="980"/>
                </a:lnTo>
                <a:lnTo>
                  <a:pt x="59" y="980"/>
                </a:lnTo>
                <a:lnTo>
                  <a:pt x="63" y="980"/>
                </a:lnTo>
                <a:lnTo>
                  <a:pt x="68" y="977"/>
                </a:lnTo>
                <a:lnTo>
                  <a:pt x="75" y="984"/>
                </a:lnTo>
                <a:lnTo>
                  <a:pt x="79" y="996"/>
                </a:lnTo>
                <a:lnTo>
                  <a:pt x="85" y="996"/>
                </a:lnTo>
                <a:lnTo>
                  <a:pt x="92" y="973"/>
                </a:lnTo>
                <a:lnTo>
                  <a:pt x="96" y="935"/>
                </a:lnTo>
                <a:lnTo>
                  <a:pt x="101" y="917"/>
                </a:lnTo>
                <a:lnTo>
                  <a:pt x="108" y="964"/>
                </a:lnTo>
                <a:lnTo>
                  <a:pt x="112" y="1063"/>
                </a:lnTo>
                <a:lnTo>
                  <a:pt x="118" y="1143"/>
                </a:lnTo>
                <a:lnTo>
                  <a:pt x="125" y="1100"/>
                </a:lnTo>
                <a:lnTo>
                  <a:pt x="129" y="871"/>
                </a:lnTo>
                <a:lnTo>
                  <a:pt x="134" y="507"/>
                </a:lnTo>
                <a:lnTo>
                  <a:pt x="141" y="159"/>
                </a:lnTo>
                <a:lnTo>
                  <a:pt x="145" y="0"/>
                </a:lnTo>
                <a:lnTo>
                  <a:pt x="152" y="106"/>
                </a:lnTo>
                <a:lnTo>
                  <a:pt x="158" y="418"/>
                </a:lnTo>
                <a:lnTo>
                  <a:pt x="161" y="761"/>
                </a:lnTo>
                <a:lnTo>
                  <a:pt x="167" y="994"/>
                </a:lnTo>
                <a:lnTo>
                  <a:pt x="174" y="1047"/>
                </a:lnTo>
                <a:lnTo>
                  <a:pt x="178" y="973"/>
                </a:lnTo>
                <a:lnTo>
                  <a:pt x="185" y="875"/>
                </a:lnTo>
                <a:lnTo>
                  <a:pt x="191" y="828"/>
                </a:lnTo>
                <a:lnTo>
                  <a:pt x="194" y="842"/>
                </a:lnTo>
                <a:lnTo>
                  <a:pt x="200" y="877"/>
                </a:lnTo>
                <a:lnTo>
                  <a:pt x="207" y="901"/>
                </a:lnTo>
                <a:lnTo>
                  <a:pt x="211" y="905"/>
                </a:lnTo>
                <a:lnTo>
                  <a:pt x="218" y="891"/>
                </a:lnTo>
                <a:lnTo>
                  <a:pt x="224" y="884"/>
                </a:lnTo>
                <a:lnTo>
                  <a:pt x="227" y="887"/>
                </a:lnTo>
                <a:lnTo>
                  <a:pt x="234" y="887"/>
                </a:lnTo>
                <a:lnTo>
                  <a:pt x="240" y="887"/>
                </a:lnTo>
                <a:lnTo>
                  <a:pt x="244" y="884"/>
                </a:lnTo>
                <a:lnTo>
                  <a:pt x="251" y="884"/>
                </a:lnTo>
                <a:lnTo>
                  <a:pt x="256" y="884"/>
                </a:lnTo>
                <a:lnTo>
                  <a:pt x="260" y="887"/>
                </a:lnTo>
                <a:lnTo>
                  <a:pt x="267" y="887"/>
                </a:lnTo>
                <a:lnTo>
                  <a:pt x="270" y="887"/>
                </a:lnTo>
                <a:lnTo>
                  <a:pt x="277" y="887"/>
                </a:lnTo>
                <a:lnTo>
                  <a:pt x="284" y="887"/>
                </a:lnTo>
                <a:lnTo>
                  <a:pt x="287" y="887"/>
                </a:lnTo>
                <a:lnTo>
                  <a:pt x="293" y="887"/>
                </a:lnTo>
                <a:lnTo>
                  <a:pt x="300" y="887"/>
                </a:lnTo>
                <a:lnTo>
                  <a:pt x="303" y="884"/>
                </a:lnTo>
                <a:lnTo>
                  <a:pt x="310" y="887"/>
                </a:lnTo>
                <a:lnTo>
                  <a:pt x="317" y="887"/>
                </a:lnTo>
                <a:lnTo>
                  <a:pt x="319" y="887"/>
                </a:lnTo>
                <a:lnTo>
                  <a:pt x="326" y="887"/>
                </a:lnTo>
                <a:lnTo>
                  <a:pt x="333" y="887"/>
                </a:lnTo>
                <a:lnTo>
                  <a:pt x="336" y="887"/>
                </a:lnTo>
                <a:lnTo>
                  <a:pt x="343" y="887"/>
                </a:lnTo>
                <a:lnTo>
                  <a:pt x="350" y="887"/>
                </a:lnTo>
                <a:lnTo>
                  <a:pt x="352" y="887"/>
                </a:lnTo>
                <a:lnTo>
                  <a:pt x="359" y="887"/>
                </a:lnTo>
                <a:lnTo>
                  <a:pt x="366" y="887"/>
                </a:lnTo>
                <a:lnTo>
                  <a:pt x="369" y="887"/>
                </a:lnTo>
                <a:lnTo>
                  <a:pt x="376" y="887"/>
                </a:lnTo>
                <a:lnTo>
                  <a:pt x="383" y="887"/>
                </a:lnTo>
                <a:lnTo>
                  <a:pt x="385" y="887"/>
                </a:lnTo>
                <a:lnTo>
                  <a:pt x="392" y="887"/>
                </a:lnTo>
                <a:lnTo>
                  <a:pt x="399" y="887"/>
                </a:lnTo>
                <a:lnTo>
                  <a:pt x="402" y="887"/>
                </a:lnTo>
                <a:lnTo>
                  <a:pt x="409" y="887"/>
                </a:lnTo>
                <a:lnTo>
                  <a:pt x="415" y="887"/>
                </a:lnTo>
                <a:lnTo>
                  <a:pt x="418" y="887"/>
                </a:lnTo>
                <a:lnTo>
                  <a:pt x="425" y="887"/>
                </a:lnTo>
                <a:lnTo>
                  <a:pt x="432" y="887"/>
                </a:lnTo>
                <a:lnTo>
                  <a:pt x="435" y="887"/>
                </a:lnTo>
                <a:lnTo>
                  <a:pt x="442" y="887"/>
                </a:lnTo>
                <a:lnTo>
                  <a:pt x="448" y="887"/>
                </a:lnTo>
                <a:lnTo>
                  <a:pt x="451" y="887"/>
                </a:lnTo>
                <a:lnTo>
                  <a:pt x="458" y="887"/>
                </a:lnTo>
                <a:lnTo>
                  <a:pt x="465" y="887"/>
                </a:lnTo>
                <a:lnTo>
                  <a:pt x="468" y="887"/>
                </a:lnTo>
                <a:lnTo>
                  <a:pt x="475" y="887"/>
                </a:lnTo>
                <a:lnTo>
                  <a:pt x="481" y="887"/>
                </a:lnTo>
                <a:lnTo>
                  <a:pt x="484" y="887"/>
                </a:lnTo>
                <a:lnTo>
                  <a:pt x="491" y="887"/>
                </a:lnTo>
                <a:lnTo>
                  <a:pt x="498" y="887"/>
                </a:lnTo>
                <a:lnTo>
                  <a:pt x="501" y="887"/>
                </a:lnTo>
                <a:lnTo>
                  <a:pt x="508" y="887"/>
                </a:lnTo>
                <a:lnTo>
                  <a:pt x="514" y="887"/>
                </a:lnTo>
                <a:lnTo>
                  <a:pt x="517" y="887"/>
                </a:lnTo>
                <a:lnTo>
                  <a:pt x="524" y="887"/>
                </a:lnTo>
                <a:lnTo>
                  <a:pt x="527" y="887"/>
                </a:lnTo>
                <a:lnTo>
                  <a:pt x="534" y="887"/>
                </a:lnTo>
                <a:lnTo>
                  <a:pt x="541" y="887"/>
                </a:lnTo>
                <a:lnTo>
                  <a:pt x="543" y="887"/>
                </a:lnTo>
                <a:lnTo>
                  <a:pt x="550" y="887"/>
                </a:lnTo>
                <a:lnTo>
                  <a:pt x="557" y="887"/>
                </a:lnTo>
                <a:lnTo>
                  <a:pt x="560" y="887"/>
                </a:lnTo>
                <a:lnTo>
                  <a:pt x="567" y="887"/>
                </a:lnTo>
                <a:lnTo>
                  <a:pt x="573" y="887"/>
                </a:lnTo>
                <a:lnTo>
                  <a:pt x="576" y="887"/>
                </a:lnTo>
                <a:lnTo>
                  <a:pt x="583" y="887"/>
                </a:lnTo>
                <a:lnTo>
                  <a:pt x="590" y="887"/>
                </a:lnTo>
                <a:lnTo>
                  <a:pt x="593" y="887"/>
                </a:lnTo>
                <a:lnTo>
                  <a:pt x="600" y="887"/>
                </a:lnTo>
                <a:lnTo>
                  <a:pt x="606" y="887"/>
                </a:lnTo>
                <a:lnTo>
                  <a:pt x="609" y="887"/>
                </a:lnTo>
                <a:lnTo>
                  <a:pt x="616" y="887"/>
                </a:lnTo>
                <a:lnTo>
                  <a:pt x="623" y="887"/>
                </a:lnTo>
                <a:lnTo>
                  <a:pt x="626" y="887"/>
                </a:lnTo>
                <a:lnTo>
                  <a:pt x="633" y="887"/>
                </a:lnTo>
                <a:lnTo>
                  <a:pt x="639" y="887"/>
                </a:lnTo>
                <a:lnTo>
                  <a:pt x="642" y="887"/>
                </a:lnTo>
                <a:lnTo>
                  <a:pt x="649" y="887"/>
                </a:lnTo>
                <a:lnTo>
                  <a:pt x="656" y="887"/>
                </a:lnTo>
                <a:lnTo>
                  <a:pt x="659" y="887"/>
                </a:lnTo>
                <a:lnTo>
                  <a:pt x="666" y="887"/>
                </a:lnTo>
                <a:lnTo>
                  <a:pt x="672" y="887"/>
                </a:lnTo>
                <a:lnTo>
                  <a:pt x="675" y="887"/>
                </a:lnTo>
                <a:lnTo>
                  <a:pt x="682" y="887"/>
                </a:lnTo>
                <a:lnTo>
                  <a:pt x="689" y="887"/>
                </a:lnTo>
                <a:lnTo>
                  <a:pt x="692" y="887"/>
                </a:lnTo>
              </a:path>
            </a:pathLst>
          </a:custGeom>
          <a:noFill/>
          <a:ln w="1440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397480" y="4457880"/>
            <a:ext cx="915840" cy="1440"/>
          </a:xfrm>
          <a:custGeom>
            <a:avLst/>
            <a:gdLst/>
            <a:ahLst/>
            <a:rect l="l" t="t" r="r" b="b"/>
            <a:pathLst>
              <a:path w="577" h="0">
                <a:moveTo>
                  <a:pt x="0" y="0"/>
                </a:moveTo>
                <a:lnTo>
                  <a:pt x="7" y="0"/>
                </a:lnTo>
                <a:lnTo>
                  <a:pt x="13" y="0"/>
                </a:lnTo>
                <a:lnTo>
                  <a:pt x="16" y="0"/>
                </a:lnTo>
                <a:lnTo>
                  <a:pt x="23" y="0"/>
                </a:lnTo>
                <a:lnTo>
                  <a:pt x="30" y="0"/>
                </a:lnTo>
                <a:lnTo>
                  <a:pt x="33" y="0"/>
                </a:lnTo>
                <a:lnTo>
                  <a:pt x="39" y="0"/>
                </a:lnTo>
                <a:lnTo>
                  <a:pt x="46" y="0"/>
                </a:lnTo>
                <a:lnTo>
                  <a:pt x="49" y="0"/>
                </a:lnTo>
                <a:lnTo>
                  <a:pt x="56" y="0"/>
                </a:lnTo>
                <a:lnTo>
                  <a:pt x="63" y="0"/>
                </a:lnTo>
                <a:lnTo>
                  <a:pt x="66" y="0"/>
                </a:lnTo>
                <a:lnTo>
                  <a:pt x="72" y="0"/>
                </a:lnTo>
                <a:lnTo>
                  <a:pt x="75" y="0"/>
                </a:lnTo>
                <a:lnTo>
                  <a:pt x="82" y="0"/>
                </a:lnTo>
                <a:lnTo>
                  <a:pt x="89" y="0"/>
                </a:lnTo>
                <a:lnTo>
                  <a:pt x="93" y="0"/>
                </a:lnTo>
                <a:lnTo>
                  <a:pt x="99" y="0"/>
                </a:lnTo>
                <a:lnTo>
                  <a:pt x="105" y="0"/>
                </a:lnTo>
                <a:lnTo>
                  <a:pt x="109" y="0"/>
                </a:lnTo>
                <a:lnTo>
                  <a:pt x="115" y="0"/>
                </a:lnTo>
                <a:lnTo>
                  <a:pt x="122" y="0"/>
                </a:lnTo>
                <a:lnTo>
                  <a:pt x="126" y="0"/>
                </a:lnTo>
                <a:lnTo>
                  <a:pt x="132" y="0"/>
                </a:lnTo>
                <a:lnTo>
                  <a:pt x="138" y="0"/>
                </a:lnTo>
                <a:lnTo>
                  <a:pt x="142" y="0"/>
                </a:lnTo>
                <a:lnTo>
                  <a:pt x="148" y="0"/>
                </a:lnTo>
                <a:lnTo>
                  <a:pt x="155" y="0"/>
                </a:lnTo>
                <a:lnTo>
                  <a:pt x="159" y="0"/>
                </a:lnTo>
                <a:lnTo>
                  <a:pt x="166" y="0"/>
                </a:lnTo>
                <a:lnTo>
                  <a:pt x="171" y="0"/>
                </a:lnTo>
                <a:lnTo>
                  <a:pt x="175" y="0"/>
                </a:lnTo>
                <a:lnTo>
                  <a:pt x="181" y="0"/>
                </a:lnTo>
                <a:lnTo>
                  <a:pt x="188" y="0"/>
                </a:lnTo>
                <a:lnTo>
                  <a:pt x="192" y="0"/>
                </a:lnTo>
                <a:lnTo>
                  <a:pt x="197" y="0"/>
                </a:lnTo>
                <a:lnTo>
                  <a:pt x="204" y="0"/>
                </a:lnTo>
                <a:lnTo>
                  <a:pt x="208" y="0"/>
                </a:lnTo>
                <a:lnTo>
                  <a:pt x="214" y="0"/>
                </a:lnTo>
                <a:lnTo>
                  <a:pt x="221" y="0"/>
                </a:lnTo>
                <a:lnTo>
                  <a:pt x="225" y="0"/>
                </a:lnTo>
                <a:lnTo>
                  <a:pt x="230" y="0"/>
                </a:lnTo>
                <a:lnTo>
                  <a:pt x="237" y="0"/>
                </a:lnTo>
                <a:lnTo>
                  <a:pt x="241" y="0"/>
                </a:lnTo>
                <a:lnTo>
                  <a:pt x="247" y="0"/>
                </a:lnTo>
                <a:lnTo>
                  <a:pt x="254" y="0"/>
                </a:lnTo>
                <a:lnTo>
                  <a:pt x="258" y="0"/>
                </a:lnTo>
                <a:lnTo>
                  <a:pt x="263" y="0"/>
                </a:lnTo>
                <a:lnTo>
                  <a:pt x="270" y="0"/>
                </a:lnTo>
                <a:lnTo>
                  <a:pt x="274" y="0"/>
                </a:lnTo>
                <a:lnTo>
                  <a:pt x="280" y="0"/>
                </a:lnTo>
                <a:lnTo>
                  <a:pt x="287" y="0"/>
                </a:lnTo>
                <a:lnTo>
                  <a:pt x="291" y="0"/>
                </a:lnTo>
                <a:lnTo>
                  <a:pt x="296" y="0"/>
                </a:lnTo>
                <a:lnTo>
                  <a:pt x="303" y="0"/>
                </a:lnTo>
                <a:lnTo>
                  <a:pt x="307" y="0"/>
                </a:lnTo>
                <a:lnTo>
                  <a:pt x="313" y="0"/>
                </a:lnTo>
                <a:lnTo>
                  <a:pt x="320" y="0"/>
                </a:lnTo>
                <a:lnTo>
                  <a:pt x="324" y="0"/>
                </a:lnTo>
                <a:lnTo>
                  <a:pt x="329" y="0"/>
                </a:lnTo>
                <a:lnTo>
                  <a:pt x="333" y="0"/>
                </a:lnTo>
                <a:lnTo>
                  <a:pt x="340" y="0"/>
                </a:lnTo>
                <a:lnTo>
                  <a:pt x="347" y="0"/>
                </a:lnTo>
                <a:lnTo>
                  <a:pt x="350" y="0"/>
                </a:lnTo>
                <a:lnTo>
                  <a:pt x="356" y="0"/>
                </a:lnTo>
                <a:lnTo>
                  <a:pt x="362" y="0"/>
                </a:lnTo>
                <a:lnTo>
                  <a:pt x="366" y="0"/>
                </a:lnTo>
                <a:lnTo>
                  <a:pt x="373" y="0"/>
                </a:lnTo>
                <a:lnTo>
                  <a:pt x="379" y="0"/>
                </a:lnTo>
                <a:lnTo>
                  <a:pt x="383" y="0"/>
                </a:lnTo>
                <a:lnTo>
                  <a:pt x="389" y="0"/>
                </a:lnTo>
                <a:lnTo>
                  <a:pt x="395" y="0"/>
                </a:lnTo>
                <a:lnTo>
                  <a:pt x="399" y="0"/>
                </a:lnTo>
                <a:lnTo>
                  <a:pt x="406" y="0"/>
                </a:lnTo>
                <a:lnTo>
                  <a:pt x="413" y="0"/>
                </a:lnTo>
                <a:lnTo>
                  <a:pt x="416" y="0"/>
                </a:lnTo>
                <a:lnTo>
                  <a:pt x="422" y="0"/>
                </a:lnTo>
                <a:lnTo>
                  <a:pt x="429" y="0"/>
                </a:lnTo>
                <a:lnTo>
                  <a:pt x="432" y="0"/>
                </a:lnTo>
                <a:lnTo>
                  <a:pt x="439" y="0"/>
                </a:lnTo>
                <a:lnTo>
                  <a:pt x="446" y="0"/>
                </a:lnTo>
                <a:lnTo>
                  <a:pt x="449" y="0"/>
                </a:lnTo>
                <a:lnTo>
                  <a:pt x="455" y="0"/>
                </a:lnTo>
                <a:lnTo>
                  <a:pt x="461" y="0"/>
                </a:lnTo>
                <a:lnTo>
                  <a:pt x="465" y="0"/>
                </a:lnTo>
                <a:lnTo>
                  <a:pt x="472" y="0"/>
                </a:lnTo>
                <a:lnTo>
                  <a:pt x="479" y="0"/>
                </a:lnTo>
                <a:lnTo>
                  <a:pt x="482" y="0"/>
                </a:lnTo>
                <a:lnTo>
                  <a:pt x="488" y="0"/>
                </a:lnTo>
                <a:lnTo>
                  <a:pt x="495" y="0"/>
                </a:lnTo>
                <a:lnTo>
                  <a:pt x="498" y="0"/>
                </a:lnTo>
                <a:lnTo>
                  <a:pt x="505" y="0"/>
                </a:lnTo>
                <a:lnTo>
                  <a:pt x="512" y="0"/>
                </a:lnTo>
                <a:lnTo>
                  <a:pt x="514" y="0"/>
                </a:lnTo>
                <a:lnTo>
                  <a:pt x="521" y="0"/>
                </a:lnTo>
                <a:lnTo>
                  <a:pt x="528" y="0"/>
                </a:lnTo>
                <a:lnTo>
                  <a:pt x="531" y="0"/>
                </a:lnTo>
                <a:lnTo>
                  <a:pt x="538" y="0"/>
                </a:lnTo>
                <a:lnTo>
                  <a:pt x="545" y="0"/>
                </a:lnTo>
                <a:lnTo>
                  <a:pt x="547" y="0"/>
                </a:lnTo>
                <a:lnTo>
                  <a:pt x="554" y="0"/>
                </a:lnTo>
                <a:lnTo>
                  <a:pt x="561" y="0"/>
                </a:lnTo>
                <a:lnTo>
                  <a:pt x="564" y="0"/>
                </a:lnTo>
                <a:lnTo>
                  <a:pt x="571" y="0"/>
                </a:lnTo>
                <a:lnTo>
                  <a:pt x="574" y="0"/>
                </a:lnTo>
                <a:lnTo>
                  <a:pt x="577" y="0"/>
                </a:lnTo>
              </a:path>
            </a:pathLst>
          </a:custGeom>
          <a:noFill/>
          <a:ln w="14400">
            <a:solidFill>
              <a:srgbClr val="3333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0" name=""/>
          <p:cNvSpPr/>
          <p:nvPr/>
        </p:nvSpPr>
        <p:spPr>
          <a:xfrm>
            <a:off x="3193920" y="3041640"/>
            <a:ext cx="1079640" cy="1744560"/>
          </a:xfrm>
          <a:custGeom>
            <a:avLst/>
            <a:gdLst/>
            <a:ahLst/>
            <a:rect l="l" t="t" r="r" b="b"/>
            <a:pathLst>
              <a:path w="9952" h="15990">
                <a:moveTo>
                  <a:pt x="0" y="12918"/>
                </a:moveTo>
                <a:lnTo>
                  <a:pt x="33" y="12918"/>
                </a:lnTo>
                <a:lnTo>
                  <a:pt x="133" y="12918"/>
                </a:lnTo>
                <a:lnTo>
                  <a:pt x="233" y="12918"/>
                </a:lnTo>
                <a:lnTo>
                  <a:pt x="283" y="12918"/>
                </a:lnTo>
                <a:lnTo>
                  <a:pt x="383" y="12918"/>
                </a:lnTo>
                <a:lnTo>
                  <a:pt x="483" y="12918"/>
                </a:lnTo>
                <a:lnTo>
                  <a:pt x="516" y="12918"/>
                </a:lnTo>
                <a:lnTo>
                  <a:pt x="533" y="12918"/>
                </a:lnTo>
                <a:lnTo>
                  <a:pt x="533" y="13051"/>
                </a:lnTo>
                <a:lnTo>
                  <a:pt x="516" y="13051"/>
                </a:lnTo>
                <a:lnTo>
                  <a:pt x="483" y="13051"/>
                </a:lnTo>
                <a:lnTo>
                  <a:pt x="383" y="13051"/>
                </a:lnTo>
                <a:lnTo>
                  <a:pt x="283" y="13051"/>
                </a:lnTo>
                <a:lnTo>
                  <a:pt x="233" y="13051"/>
                </a:lnTo>
                <a:lnTo>
                  <a:pt x="133" y="13051"/>
                </a:lnTo>
                <a:lnTo>
                  <a:pt x="33" y="13051"/>
                </a:lnTo>
                <a:lnTo>
                  <a:pt x="0" y="13051"/>
                </a:lnTo>
                <a:lnTo>
                  <a:pt x="0" y="12918"/>
                </a:lnTo>
                <a:close/>
                <a:moveTo>
                  <a:pt x="933" y="12918"/>
                </a:moveTo>
                <a:lnTo>
                  <a:pt x="950" y="12918"/>
                </a:lnTo>
                <a:lnTo>
                  <a:pt x="1000" y="12918"/>
                </a:lnTo>
                <a:lnTo>
                  <a:pt x="1100" y="12918"/>
                </a:lnTo>
                <a:lnTo>
                  <a:pt x="1200" y="12918"/>
                </a:lnTo>
                <a:lnTo>
                  <a:pt x="1250" y="12918"/>
                </a:lnTo>
                <a:lnTo>
                  <a:pt x="1350" y="12918"/>
                </a:lnTo>
                <a:lnTo>
                  <a:pt x="1433" y="12918"/>
                </a:lnTo>
                <a:lnTo>
                  <a:pt x="1466" y="12918"/>
                </a:lnTo>
                <a:lnTo>
                  <a:pt x="1466" y="13051"/>
                </a:lnTo>
                <a:lnTo>
                  <a:pt x="1433" y="13051"/>
                </a:lnTo>
                <a:lnTo>
                  <a:pt x="1350" y="13051"/>
                </a:lnTo>
                <a:lnTo>
                  <a:pt x="1250" y="13051"/>
                </a:lnTo>
                <a:lnTo>
                  <a:pt x="1200" y="13051"/>
                </a:lnTo>
                <a:lnTo>
                  <a:pt x="1100" y="13051"/>
                </a:lnTo>
                <a:lnTo>
                  <a:pt x="1000" y="13051"/>
                </a:lnTo>
                <a:lnTo>
                  <a:pt x="950" y="13051"/>
                </a:lnTo>
                <a:lnTo>
                  <a:pt x="933" y="13051"/>
                </a:lnTo>
                <a:lnTo>
                  <a:pt x="933" y="12918"/>
                </a:lnTo>
                <a:close/>
                <a:moveTo>
                  <a:pt x="1866" y="12918"/>
                </a:moveTo>
                <a:lnTo>
                  <a:pt x="1916" y="12918"/>
                </a:lnTo>
                <a:lnTo>
                  <a:pt x="1966" y="12918"/>
                </a:lnTo>
                <a:lnTo>
                  <a:pt x="2066" y="12918"/>
                </a:lnTo>
                <a:lnTo>
                  <a:pt x="2166" y="12918"/>
                </a:lnTo>
                <a:lnTo>
                  <a:pt x="2216" y="12918"/>
                </a:lnTo>
                <a:lnTo>
                  <a:pt x="2316" y="12918"/>
                </a:lnTo>
                <a:lnTo>
                  <a:pt x="2400" y="12918"/>
                </a:lnTo>
                <a:lnTo>
                  <a:pt x="2400" y="13051"/>
                </a:lnTo>
                <a:lnTo>
                  <a:pt x="2316" y="13051"/>
                </a:lnTo>
                <a:lnTo>
                  <a:pt x="2216" y="13051"/>
                </a:lnTo>
                <a:lnTo>
                  <a:pt x="2166" y="13051"/>
                </a:lnTo>
                <a:lnTo>
                  <a:pt x="2066" y="13051"/>
                </a:lnTo>
                <a:lnTo>
                  <a:pt x="1966" y="13051"/>
                </a:lnTo>
                <a:lnTo>
                  <a:pt x="1916" y="13051"/>
                </a:lnTo>
                <a:lnTo>
                  <a:pt x="1866" y="13051"/>
                </a:lnTo>
                <a:lnTo>
                  <a:pt x="1866" y="12918"/>
                </a:lnTo>
                <a:close/>
                <a:moveTo>
                  <a:pt x="2800" y="12918"/>
                </a:moveTo>
                <a:lnTo>
                  <a:pt x="2800" y="12918"/>
                </a:lnTo>
                <a:lnTo>
                  <a:pt x="2883" y="12918"/>
                </a:lnTo>
                <a:lnTo>
                  <a:pt x="2933" y="12918"/>
                </a:lnTo>
                <a:lnTo>
                  <a:pt x="3033" y="12918"/>
                </a:lnTo>
                <a:lnTo>
                  <a:pt x="3133" y="12918"/>
                </a:lnTo>
                <a:lnTo>
                  <a:pt x="3183" y="12918"/>
                </a:lnTo>
                <a:lnTo>
                  <a:pt x="3266" y="12918"/>
                </a:lnTo>
                <a:lnTo>
                  <a:pt x="3316" y="12918"/>
                </a:lnTo>
                <a:lnTo>
                  <a:pt x="3333" y="12918"/>
                </a:lnTo>
                <a:lnTo>
                  <a:pt x="3333" y="13051"/>
                </a:lnTo>
                <a:lnTo>
                  <a:pt x="3316" y="13051"/>
                </a:lnTo>
                <a:lnTo>
                  <a:pt x="3266" y="13051"/>
                </a:lnTo>
                <a:lnTo>
                  <a:pt x="3183" y="13051"/>
                </a:lnTo>
                <a:lnTo>
                  <a:pt x="3133" y="13051"/>
                </a:lnTo>
                <a:lnTo>
                  <a:pt x="3033" y="13051"/>
                </a:lnTo>
                <a:lnTo>
                  <a:pt x="2933" y="13051"/>
                </a:lnTo>
                <a:lnTo>
                  <a:pt x="2883" y="13051"/>
                </a:lnTo>
                <a:lnTo>
                  <a:pt x="2800" y="13051"/>
                </a:lnTo>
                <a:lnTo>
                  <a:pt x="2800" y="13051"/>
                </a:lnTo>
                <a:lnTo>
                  <a:pt x="2800" y="12918"/>
                </a:lnTo>
                <a:close/>
                <a:moveTo>
                  <a:pt x="3733" y="12918"/>
                </a:moveTo>
                <a:lnTo>
                  <a:pt x="3750" y="12918"/>
                </a:lnTo>
                <a:lnTo>
                  <a:pt x="3800" y="12918"/>
                </a:lnTo>
                <a:lnTo>
                  <a:pt x="3900" y="12918"/>
                </a:lnTo>
                <a:lnTo>
                  <a:pt x="4000" y="12918"/>
                </a:lnTo>
                <a:lnTo>
                  <a:pt x="4050" y="12918"/>
                </a:lnTo>
                <a:lnTo>
                  <a:pt x="4150" y="12918"/>
                </a:lnTo>
                <a:lnTo>
                  <a:pt x="4233" y="12918"/>
                </a:lnTo>
                <a:lnTo>
                  <a:pt x="4266" y="12918"/>
                </a:lnTo>
                <a:lnTo>
                  <a:pt x="4266" y="13051"/>
                </a:lnTo>
                <a:lnTo>
                  <a:pt x="4233" y="13051"/>
                </a:lnTo>
                <a:lnTo>
                  <a:pt x="4150" y="13051"/>
                </a:lnTo>
                <a:lnTo>
                  <a:pt x="4050" y="13051"/>
                </a:lnTo>
                <a:lnTo>
                  <a:pt x="4000" y="13051"/>
                </a:lnTo>
                <a:lnTo>
                  <a:pt x="3900" y="13051"/>
                </a:lnTo>
                <a:lnTo>
                  <a:pt x="3800" y="13051"/>
                </a:lnTo>
                <a:lnTo>
                  <a:pt x="3750" y="13051"/>
                </a:lnTo>
                <a:lnTo>
                  <a:pt x="3733" y="13051"/>
                </a:lnTo>
                <a:lnTo>
                  <a:pt x="3733" y="12918"/>
                </a:lnTo>
                <a:close/>
                <a:moveTo>
                  <a:pt x="4686" y="12888"/>
                </a:moveTo>
                <a:lnTo>
                  <a:pt x="4751" y="12927"/>
                </a:lnTo>
                <a:lnTo>
                  <a:pt x="4716" y="12918"/>
                </a:lnTo>
                <a:lnTo>
                  <a:pt x="4766" y="12918"/>
                </a:lnTo>
                <a:lnTo>
                  <a:pt x="4737" y="12925"/>
                </a:lnTo>
                <a:lnTo>
                  <a:pt x="4837" y="12875"/>
                </a:lnTo>
                <a:cubicBezTo>
                  <a:pt x="4855" y="12865"/>
                  <a:pt x="4878" y="12865"/>
                  <a:pt x="4896" y="12875"/>
                </a:cubicBezTo>
                <a:lnTo>
                  <a:pt x="4996" y="12925"/>
                </a:lnTo>
                <a:lnTo>
                  <a:pt x="4966" y="12918"/>
                </a:lnTo>
                <a:lnTo>
                  <a:pt x="5016" y="12918"/>
                </a:lnTo>
                <a:lnTo>
                  <a:pt x="5116" y="12918"/>
                </a:lnTo>
                <a:lnTo>
                  <a:pt x="5151" y="12918"/>
                </a:lnTo>
                <a:lnTo>
                  <a:pt x="5151" y="13051"/>
                </a:lnTo>
                <a:lnTo>
                  <a:pt x="5116" y="13051"/>
                </a:lnTo>
                <a:lnTo>
                  <a:pt x="5016" y="13051"/>
                </a:lnTo>
                <a:lnTo>
                  <a:pt x="4966" y="13051"/>
                </a:lnTo>
                <a:cubicBezTo>
                  <a:pt x="4956" y="13051"/>
                  <a:pt x="4946" y="13049"/>
                  <a:pt x="4937" y="13044"/>
                </a:cubicBezTo>
                <a:lnTo>
                  <a:pt x="4837" y="12994"/>
                </a:lnTo>
                <a:lnTo>
                  <a:pt x="4896" y="12994"/>
                </a:lnTo>
                <a:lnTo>
                  <a:pt x="4796" y="13044"/>
                </a:lnTo>
                <a:cubicBezTo>
                  <a:pt x="4787" y="13049"/>
                  <a:pt x="4777" y="13051"/>
                  <a:pt x="4766" y="13051"/>
                </a:cubicBezTo>
                <a:lnTo>
                  <a:pt x="4716" y="13051"/>
                </a:lnTo>
                <a:cubicBezTo>
                  <a:pt x="4704" y="13051"/>
                  <a:pt x="4693" y="13048"/>
                  <a:pt x="4682" y="13042"/>
                </a:cubicBezTo>
                <a:lnTo>
                  <a:pt x="4617" y="13003"/>
                </a:lnTo>
                <a:lnTo>
                  <a:pt x="4686" y="12888"/>
                </a:lnTo>
                <a:close/>
                <a:moveTo>
                  <a:pt x="5537" y="12927"/>
                </a:moveTo>
                <a:lnTo>
                  <a:pt x="5547" y="12937"/>
                </a:lnTo>
                <a:lnTo>
                  <a:pt x="5466" y="12927"/>
                </a:lnTo>
                <a:lnTo>
                  <a:pt x="5549" y="12877"/>
                </a:lnTo>
                <a:cubicBezTo>
                  <a:pt x="5559" y="12871"/>
                  <a:pt x="5571" y="12868"/>
                  <a:pt x="5583" y="12868"/>
                </a:cubicBezTo>
                <a:lnTo>
                  <a:pt x="5683" y="12868"/>
                </a:lnTo>
                <a:lnTo>
                  <a:pt x="5733" y="12868"/>
                </a:lnTo>
                <a:cubicBezTo>
                  <a:pt x="5755" y="12868"/>
                  <a:pt x="5776" y="12879"/>
                  <a:pt x="5789" y="12897"/>
                </a:cubicBezTo>
                <a:lnTo>
                  <a:pt x="5889" y="13047"/>
                </a:lnTo>
                <a:lnTo>
                  <a:pt x="5880" y="13037"/>
                </a:lnTo>
                <a:lnTo>
                  <a:pt x="5945" y="13102"/>
                </a:lnTo>
                <a:lnTo>
                  <a:pt x="5851" y="13196"/>
                </a:lnTo>
                <a:lnTo>
                  <a:pt x="5786" y="13132"/>
                </a:lnTo>
                <a:cubicBezTo>
                  <a:pt x="5783" y="13129"/>
                  <a:pt x="5780" y="13125"/>
                  <a:pt x="5778" y="13121"/>
                </a:cubicBezTo>
                <a:lnTo>
                  <a:pt x="5678" y="12971"/>
                </a:lnTo>
                <a:lnTo>
                  <a:pt x="5733" y="13001"/>
                </a:lnTo>
                <a:lnTo>
                  <a:pt x="5683" y="13001"/>
                </a:lnTo>
                <a:lnTo>
                  <a:pt x="5583" y="13001"/>
                </a:lnTo>
                <a:lnTo>
                  <a:pt x="5617" y="12992"/>
                </a:lnTo>
                <a:lnTo>
                  <a:pt x="5534" y="13042"/>
                </a:lnTo>
                <a:cubicBezTo>
                  <a:pt x="5508" y="13057"/>
                  <a:pt x="5474" y="13053"/>
                  <a:pt x="5453" y="13032"/>
                </a:cubicBezTo>
                <a:lnTo>
                  <a:pt x="5443" y="13022"/>
                </a:lnTo>
                <a:lnTo>
                  <a:pt x="5537" y="12927"/>
                </a:lnTo>
                <a:close/>
                <a:moveTo>
                  <a:pt x="5958" y="12838"/>
                </a:moveTo>
                <a:lnTo>
                  <a:pt x="6001" y="12590"/>
                </a:lnTo>
                <a:lnTo>
                  <a:pt x="6058" y="12312"/>
                </a:lnTo>
                <a:lnTo>
                  <a:pt x="6189" y="12339"/>
                </a:lnTo>
                <a:lnTo>
                  <a:pt x="6132" y="12612"/>
                </a:lnTo>
                <a:lnTo>
                  <a:pt x="6089" y="12861"/>
                </a:lnTo>
                <a:lnTo>
                  <a:pt x="5958" y="12838"/>
                </a:lnTo>
                <a:close/>
                <a:moveTo>
                  <a:pt x="6294" y="12278"/>
                </a:moveTo>
                <a:lnTo>
                  <a:pt x="6346" y="12808"/>
                </a:lnTo>
                <a:lnTo>
                  <a:pt x="6214" y="12821"/>
                </a:lnTo>
                <a:lnTo>
                  <a:pt x="6162" y="12291"/>
                </a:lnTo>
                <a:lnTo>
                  <a:pt x="6294" y="12278"/>
                </a:lnTo>
                <a:close/>
                <a:moveTo>
                  <a:pt x="6385" y="13208"/>
                </a:moveTo>
                <a:lnTo>
                  <a:pt x="6423" y="13740"/>
                </a:lnTo>
                <a:lnTo>
                  <a:pt x="6290" y="13750"/>
                </a:lnTo>
                <a:lnTo>
                  <a:pt x="6252" y="13218"/>
                </a:lnTo>
                <a:lnTo>
                  <a:pt x="6385" y="13208"/>
                </a:lnTo>
                <a:close/>
                <a:moveTo>
                  <a:pt x="6452" y="14139"/>
                </a:moveTo>
                <a:lnTo>
                  <a:pt x="6483" y="14563"/>
                </a:lnTo>
                <a:lnTo>
                  <a:pt x="6492" y="14670"/>
                </a:lnTo>
                <a:lnTo>
                  <a:pt x="6359" y="14682"/>
                </a:lnTo>
                <a:lnTo>
                  <a:pt x="6350" y="14573"/>
                </a:lnTo>
                <a:lnTo>
                  <a:pt x="6319" y="14149"/>
                </a:lnTo>
                <a:lnTo>
                  <a:pt x="6452" y="14139"/>
                </a:lnTo>
                <a:close/>
                <a:moveTo>
                  <a:pt x="6526" y="15069"/>
                </a:moveTo>
                <a:lnTo>
                  <a:pt x="6533" y="15145"/>
                </a:lnTo>
                <a:lnTo>
                  <a:pt x="6400" y="15148"/>
                </a:lnTo>
                <a:lnTo>
                  <a:pt x="6424" y="14692"/>
                </a:lnTo>
                <a:lnTo>
                  <a:pt x="6557" y="14699"/>
                </a:lnTo>
                <a:lnTo>
                  <a:pt x="6533" y="15155"/>
                </a:lnTo>
                <a:cubicBezTo>
                  <a:pt x="6531" y="15190"/>
                  <a:pt x="6503" y="15217"/>
                  <a:pt x="6468" y="15218"/>
                </a:cubicBezTo>
                <a:cubicBezTo>
                  <a:pt x="6433" y="15218"/>
                  <a:pt x="6403" y="15192"/>
                  <a:pt x="6400" y="15157"/>
                </a:cubicBezTo>
                <a:lnTo>
                  <a:pt x="6393" y="15080"/>
                </a:lnTo>
                <a:lnTo>
                  <a:pt x="6526" y="15069"/>
                </a:lnTo>
                <a:close/>
                <a:moveTo>
                  <a:pt x="6445" y="14293"/>
                </a:moveTo>
                <a:lnTo>
                  <a:pt x="6473" y="13760"/>
                </a:lnTo>
                <a:lnTo>
                  <a:pt x="6606" y="13767"/>
                </a:lnTo>
                <a:lnTo>
                  <a:pt x="6578" y="14300"/>
                </a:lnTo>
                <a:lnTo>
                  <a:pt x="6445" y="14293"/>
                </a:lnTo>
                <a:close/>
                <a:moveTo>
                  <a:pt x="6488" y="13362"/>
                </a:moveTo>
                <a:lnTo>
                  <a:pt x="6501" y="12829"/>
                </a:lnTo>
                <a:lnTo>
                  <a:pt x="6634" y="12832"/>
                </a:lnTo>
                <a:lnTo>
                  <a:pt x="6621" y="13365"/>
                </a:lnTo>
                <a:lnTo>
                  <a:pt x="6488" y="13362"/>
                </a:lnTo>
                <a:close/>
                <a:moveTo>
                  <a:pt x="6511" y="12429"/>
                </a:moveTo>
                <a:lnTo>
                  <a:pt x="6523" y="11896"/>
                </a:lnTo>
                <a:lnTo>
                  <a:pt x="6657" y="11899"/>
                </a:lnTo>
                <a:lnTo>
                  <a:pt x="6644" y="12432"/>
                </a:lnTo>
                <a:lnTo>
                  <a:pt x="6511" y="12429"/>
                </a:lnTo>
                <a:close/>
                <a:moveTo>
                  <a:pt x="6533" y="11496"/>
                </a:moveTo>
                <a:lnTo>
                  <a:pt x="6546" y="10963"/>
                </a:lnTo>
                <a:lnTo>
                  <a:pt x="6679" y="10966"/>
                </a:lnTo>
                <a:lnTo>
                  <a:pt x="6666" y="11499"/>
                </a:lnTo>
                <a:lnTo>
                  <a:pt x="6533" y="11496"/>
                </a:lnTo>
                <a:close/>
                <a:moveTo>
                  <a:pt x="6556" y="10563"/>
                </a:moveTo>
                <a:lnTo>
                  <a:pt x="6568" y="10030"/>
                </a:lnTo>
                <a:lnTo>
                  <a:pt x="6702" y="10033"/>
                </a:lnTo>
                <a:lnTo>
                  <a:pt x="6689" y="10566"/>
                </a:lnTo>
                <a:lnTo>
                  <a:pt x="6556" y="10563"/>
                </a:lnTo>
                <a:close/>
                <a:moveTo>
                  <a:pt x="6578" y="9630"/>
                </a:moveTo>
                <a:lnTo>
                  <a:pt x="6583" y="9416"/>
                </a:lnTo>
                <a:lnTo>
                  <a:pt x="6586" y="9098"/>
                </a:lnTo>
                <a:lnTo>
                  <a:pt x="6720" y="9099"/>
                </a:lnTo>
                <a:lnTo>
                  <a:pt x="6716" y="9419"/>
                </a:lnTo>
                <a:lnTo>
                  <a:pt x="6711" y="9633"/>
                </a:lnTo>
                <a:lnTo>
                  <a:pt x="6578" y="9630"/>
                </a:lnTo>
                <a:close/>
                <a:moveTo>
                  <a:pt x="6590" y="8698"/>
                </a:moveTo>
                <a:lnTo>
                  <a:pt x="6595" y="8164"/>
                </a:lnTo>
                <a:lnTo>
                  <a:pt x="6729" y="8166"/>
                </a:lnTo>
                <a:lnTo>
                  <a:pt x="6723" y="8699"/>
                </a:lnTo>
                <a:lnTo>
                  <a:pt x="6590" y="8698"/>
                </a:lnTo>
                <a:close/>
                <a:moveTo>
                  <a:pt x="6599" y="7764"/>
                </a:moveTo>
                <a:lnTo>
                  <a:pt x="6604" y="7231"/>
                </a:lnTo>
                <a:lnTo>
                  <a:pt x="6737" y="7232"/>
                </a:lnTo>
                <a:lnTo>
                  <a:pt x="6732" y="7766"/>
                </a:lnTo>
                <a:lnTo>
                  <a:pt x="6599" y="7764"/>
                </a:lnTo>
                <a:close/>
                <a:moveTo>
                  <a:pt x="6608" y="6831"/>
                </a:moveTo>
                <a:lnTo>
                  <a:pt x="6613" y="6298"/>
                </a:lnTo>
                <a:lnTo>
                  <a:pt x="6746" y="6299"/>
                </a:lnTo>
                <a:lnTo>
                  <a:pt x="6741" y="6832"/>
                </a:lnTo>
                <a:lnTo>
                  <a:pt x="6608" y="6831"/>
                </a:lnTo>
                <a:close/>
                <a:moveTo>
                  <a:pt x="6617" y="5898"/>
                </a:moveTo>
                <a:lnTo>
                  <a:pt x="6622" y="5364"/>
                </a:lnTo>
                <a:lnTo>
                  <a:pt x="6755" y="5366"/>
                </a:lnTo>
                <a:lnTo>
                  <a:pt x="6750" y="5899"/>
                </a:lnTo>
                <a:lnTo>
                  <a:pt x="6617" y="5898"/>
                </a:lnTo>
                <a:close/>
                <a:moveTo>
                  <a:pt x="6626" y="4964"/>
                </a:moveTo>
                <a:lnTo>
                  <a:pt x="6631" y="4431"/>
                </a:lnTo>
                <a:lnTo>
                  <a:pt x="6764" y="4432"/>
                </a:lnTo>
                <a:lnTo>
                  <a:pt x="6759" y="4966"/>
                </a:lnTo>
                <a:lnTo>
                  <a:pt x="6626" y="4964"/>
                </a:lnTo>
                <a:close/>
                <a:moveTo>
                  <a:pt x="6638" y="4030"/>
                </a:moveTo>
                <a:lnTo>
                  <a:pt x="6652" y="3497"/>
                </a:lnTo>
                <a:lnTo>
                  <a:pt x="6786" y="3501"/>
                </a:lnTo>
                <a:lnTo>
                  <a:pt x="6771" y="4034"/>
                </a:lnTo>
                <a:lnTo>
                  <a:pt x="6638" y="4030"/>
                </a:lnTo>
                <a:close/>
                <a:moveTo>
                  <a:pt x="6663" y="3097"/>
                </a:moveTo>
                <a:lnTo>
                  <a:pt x="6677" y="2564"/>
                </a:lnTo>
                <a:lnTo>
                  <a:pt x="6810" y="2568"/>
                </a:lnTo>
                <a:lnTo>
                  <a:pt x="6796" y="3101"/>
                </a:lnTo>
                <a:lnTo>
                  <a:pt x="6663" y="3097"/>
                </a:lnTo>
                <a:close/>
                <a:moveTo>
                  <a:pt x="6688" y="2164"/>
                </a:moveTo>
                <a:lnTo>
                  <a:pt x="6702" y="1631"/>
                </a:lnTo>
                <a:lnTo>
                  <a:pt x="6835" y="1635"/>
                </a:lnTo>
                <a:lnTo>
                  <a:pt x="6821" y="2168"/>
                </a:lnTo>
                <a:lnTo>
                  <a:pt x="6688" y="2164"/>
                </a:lnTo>
                <a:close/>
                <a:moveTo>
                  <a:pt x="6713" y="1231"/>
                </a:moveTo>
                <a:lnTo>
                  <a:pt x="6727" y="698"/>
                </a:lnTo>
                <a:lnTo>
                  <a:pt x="6860" y="702"/>
                </a:lnTo>
                <a:lnTo>
                  <a:pt x="6846" y="1235"/>
                </a:lnTo>
                <a:lnTo>
                  <a:pt x="6713" y="1231"/>
                </a:lnTo>
                <a:close/>
                <a:moveTo>
                  <a:pt x="6754" y="293"/>
                </a:moveTo>
                <a:lnTo>
                  <a:pt x="6784" y="60"/>
                </a:lnTo>
                <a:cubicBezTo>
                  <a:pt x="6788" y="25"/>
                  <a:pt x="6818" y="0"/>
                  <a:pt x="6853" y="1"/>
                </a:cubicBezTo>
                <a:cubicBezTo>
                  <a:pt x="6888" y="3"/>
                  <a:pt x="6915" y="31"/>
                  <a:pt x="6916" y="66"/>
                </a:cubicBezTo>
                <a:lnTo>
                  <a:pt x="6925" y="364"/>
                </a:lnTo>
                <a:lnTo>
                  <a:pt x="6792" y="368"/>
                </a:lnTo>
                <a:lnTo>
                  <a:pt x="6783" y="70"/>
                </a:lnTo>
                <a:lnTo>
                  <a:pt x="6916" y="76"/>
                </a:lnTo>
                <a:lnTo>
                  <a:pt x="6887" y="309"/>
                </a:lnTo>
                <a:lnTo>
                  <a:pt x="6754" y="293"/>
                </a:lnTo>
                <a:close/>
                <a:moveTo>
                  <a:pt x="6937" y="764"/>
                </a:moveTo>
                <a:lnTo>
                  <a:pt x="6953" y="1297"/>
                </a:lnTo>
                <a:lnTo>
                  <a:pt x="6820" y="1301"/>
                </a:lnTo>
                <a:lnTo>
                  <a:pt x="6804" y="768"/>
                </a:lnTo>
                <a:lnTo>
                  <a:pt x="6937" y="764"/>
                </a:lnTo>
                <a:close/>
                <a:moveTo>
                  <a:pt x="6965" y="1697"/>
                </a:moveTo>
                <a:lnTo>
                  <a:pt x="6980" y="2230"/>
                </a:lnTo>
                <a:lnTo>
                  <a:pt x="6847" y="2234"/>
                </a:lnTo>
                <a:lnTo>
                  <a:pt x="6831" y="1701"/>
                </a:lnTo>
                <a:lnTo>
                  <a:pt x="6965" y="1697"/>
                </a:lnTo>
                <a:close/>
                <a:moveTo>
                  <a:pt x="6992" y="2630"/>
                </a:moveTo>
                <a:lnTo>
                  <a:pt x="7008" y="3163"/>
                </a:lnTo>
                <a:lnTo>
                  <a:pt x="6875" y="3167"/>
                </a:lnTo>
                <a:lnTo>
                  <a:pt x="6859" y="2634"/>
                </a:lnTo>
                <a:lnTo>
                  <a:pt x="6992" y="2630"/>
                </a:lnTo>
                <a:close/>
                <a:moveTo>
                  <a:pt x="7018" y="3563"/>
                </a:moveTo>
                <a:lnTo>
                  <a:pt x="7027" y="4097"/>
                </a:lnTo>
                <a:lnTo>
                  <a:pt x="6893" y="4099"/>
                </a:lnTo>
                <a:lnTo>
                  <a:pt x="6885" y="3566"/>
                </a:lnTo>
                <a:lnTo>
                  <a:pt x="7018" y="3563"/>
                </a:lnTo>
                <a:close/>
                <a:moveTo>
                  <a:pt x="7033" y="4497"/>
                </a:moveTo>
                <a:lnTo>
                  <a:pt x="7041" y="5030"/>
                </a:lnTo>
                <a:lnTo>
                  <a:pt x="6908" y="5032"/>
                </a:lnTo>
                <a:lnTo>
                  <a:pt x="6899" y="4499"/>
                </a:lnTo>
                <a:lnTo>
                  <a:pt x="7033" y="4497"/>
                </a:lnTo>
                <a:close/>
                <a:moveTo>
                  <a:pt x="7047" y="5430"/>
                </a:moveTo>
                <a:lnTo>
                  <a:pt x="7056" y="5963"/>
                </a:lnTo>
                <a:lnTo>
                  <a:pt x="6922" y="5965"/>
                </a:lnTo>
                <a:lnTo>
                  <a:pt x="6914" y="5432"/>
                </a:lnTo>
                <a:lnTo>
                  <a:pt x="7047" y="5430"/>
                </a:lnTo>
                <a:close/>
                <a:moveTo>
                  <a:pt x="7062" y="6363"/>
                </a:moveTo>
                <a:lnTo>
                  <a:pt x="7070" y="6896"/>
                </a:lnTo>
                <a:lnTo>
                  <a:pt x="6937" y="6898"/>
                </a:lnTo>
                <a:lnTo>
                  <a:pt x="6929" y="6365"/>
                </a:lnTo>
                <a:lnTo>
                  <a:pt x="7062" y="6363"/>
                </a:lnTo>
                <a:close/>
                <a:moveTo>
                  <a:pt x="7076" y="7296"/>
                </a:moveTo>
                <a:lnTo>
                  <a:pt x="7085" y="7830"/>
                </a:lnTo>
                <a:lnTo>
                  <a:pt x="6951" y="7832"/>
                </a:lnTo>
                <a:lnTo>
                  <a:pt x="6943" y="7298"/>
                </a:lnTo>
                <a:lnTo>
                  <a:pt x="7076" y="7296"/>
                </a:lnTo>
                <a:close/>
                <a:moveTo>
                  <a:pt x="7091" y="8230"/>
                </a:moveTo>
                <a:lnTo>
                  <a:pt x="7099" y="8763"/>
                </a:lnTo>
                <a:lnTo>
                  <a:pt x="6966" y="8765"/>
                </a:lnTo>
                <a:lnTo>
                  <a:pt x="6958" y="8232"/>
                </a:lnTo>
                <a:lnTo>
                  <a:pt x="7091" y="8230"/>
                </a:lnTo>
                <a:close/>
                <a:moveTo>
                  <a:pt x="7104" y="9163"/>
                </a:moveTo>
                <a:lnTo>
                  <a:pt x="7109" y="9696"/>
                </a:lnTo>
                <a:lnTo>
                  <a:pt x="6976" y="9698"/>
                </a:lnTo>
                <a:lnTo>
                  <a:pt x="6970" y="9165"/>
                </a:lnTo>
                <a:lnTo>
                  <a:pt x="7104" y="9163"/>
                </a:lnTo>
                <a:close/>
                <a:moveTo>
                  <a:pt x="7113" y="10096"/>
                </a:moveTo>
                <a:lnTo>
                  <a:pt x="7119" y="10630"/>
                </a:lnTo>
                <a:lnTo>
                  <a:pt x="6986" y="10631"/>
                </a:lnTo>
                <a:lnTo>
                  <a:pt x="6980" y="10098"/>
                </a:lnTo>
                <a:lnTo>
                  <a:pt x="7113" y="10096"/>
                </a:lnTo>
                <a:close/>
                <a:moveTo>
                  <a:pt x="7123" y="11030"/>
                </a:moveTo>
                <a:lnTo>
                  <a:pt x="7129" y="11563"/>
                </a:lnTo>
                <a:lnTo>
                  <a:pt x="6995" y="11564"/>
                </a:lnTo>
                <a:lnTo>
                  <a:pt x="6990" y="11031"/>
                </a:lnTo>
                <a:lnTo>
                  <a:pt x="7123" y="11030"/>
                </a:lnTo>
                <a:close/>
                <a:moveTo>
                  <a:pt x="7133" y="11963"/>
                </a:moveTo>
                <a:lnTo>
                  <a:pt x="7139" y="12496"/>
                </a:lnTo>
                <a:lnTo>
                  <a:pt x="7005" y="12498"/>
                </a:lnTo>
                <a:lnTo>
                  <a:pt x="7000" y="11964"/>
                </a:lnTo>
                <a:lnTo>
                  <a:pt x="7133" y="11963"/>
                </a:lnTo>
                <a:close/>
                <a:moveTo>
                  <a:pt x="7143" y="12896"/>
                </a:moveTo>
                <a:lnTo>
                  <a:pt x="7148" y="13430"/>
                </a:lnTo>
                <a:lnTo>
                  <a:pt x="7015" y="13431"/>
                </a:lnTo>
                <a:lnTo>
                  <a:pt x="7009" y="12898"/>
                </a:lnTo>
                <a:lnTo>
                  <a:pt x="7143" y="12896"/>
                </a:lnTo>
                <a:close/>
                <a:moveTo>
                  <a:pt x="7161" y="13827"/>
                </a:moveTo>
                <a:lnTo>
                  <a:pt x="7184" y="14360"/>
                </a:lnTo>
                <a:lnTo>
                  <a:pt x="7050" y="14366"/>
                </a:lnTo>
                <a:lnTo>
                  <a:pt x="7028" y="13833"/>
                </a:lnTo>
                <a:lnTo>
                  <a:pt x="7161" y="13827"/>
                </a:lnTo>
                <a:close/>
                <a:moveTo>
                  <a:pt x="7201" y="14760"/>
                </a:moveTo>
                <a:lnTo>
                  <a:pt x="7223" y="15293"/>
                </a:lnTo>
                <a:lnTo>
                  <a:pt x="7090" y="15298"/>
                </a:lnTo>
                <a:lnTo>
                  <a:pt x="7067" y="14765"/>
                </a:lnTo>
                <a:lnTo>
                  <a:pt x="7201" y="14760"/>
                </a:lnTo>
                <a:close/>
                <a:moveTo>
                  <a:pt x="7240" y="15692"/>
                </a:moveTo>
                <a:lnTo>
                  <a:pt x="7250" y="15915"/>
                </a:lnTo>
                <a:lnTo>
                  <a:pt x="7130" y="15878"/>
                </a:lnTo>
                <a:lnTo>
                  <a:pt x="7230" y="15744"/>
                </a:lnTo>
                <a:lnTo>
                  <a:pt x="7217" y="15782"/>
                </a:lnTo>
                <a:lnTo>
                  <a:pt x="7221" y="15639"/>
                </a:lnTo>
                <a:lnTo>
                  <a:pt x="7355" y="15643"/>
                </a:lnTo>
                <a:lnTo>
                  <a:pt x="7350" y="15787"/>
                </a:lnTo>
                <a:cubicBezTo>
                  <a:pt x="7349" y="15800"/>
                  <a:pt x="7345" y="15814"/>
                  <a:pt x="7336" y="15824"/>
                </a:cubicBezTo>
                <a:lnTo>
                  <a:pt x="7236" y="15958"/>
                </a:lnTo>
                <a:cubicBezTo>
                  <a:pt x="7220" y="15980"/>
                  <a:pt x="7190" y="15990"/>
                  <a:pt x="7163" y="15981"/>
                </a:cubicBezTo>
                <a:cubicBezTo>
                  <a:pt x="7136" y="15973"/>
                  <a:pt x="7118" y="15949"/>
                  <a:pt x="7117" y="15921"/>
                </a:cubicBezTo>
                <a:lnTo>
                  <a:pt x="7107" y="15698"/>
                </a:lnTo>
                <a:lnTo>
                  <a:pt x="7240" y="15692"/>
                </a:lnTo>
                <a:close/>
                <a:moveTo>
                  <a:pt x="7235" y="15239"/>
                </a:moveTo>
                <a:lnTo>
                  <a:pt x="7254" y="14706"/>
                </a:lnTo>
                <a:lnTo>
                  <a:pt x="7387" y="14710"/>
                </a:lnTo>
                <a:lnTo>
                  <a:pt x="7368" y="15243"/>
                </a:lnTo>
                <a:lnTo>
                  <a:pt x="7235" y="15239"/>
                </a:lnTo>
                <a:close/>
                <a:moveTo>
                  <a:pt x="7269" y="14303"/>
                </a:moveTo>
                <a:lnTo>
                  <a:pt x="7310" y="13771"/>
                </a:lnTo>
                <a:lnTo>
                  <a:pt x="7443" y="13782"/>
                </a:lnTo>
                <a:lnTo>
                  <a:pt x="7402" y="14313"/>
                </a:lnTo>
                <a:lnTo>
                  <a:pt x="7269" y="14303"/>
                </a:lnTo>
                <a:close/>
                <a:moveTo>
                  <a:pt x="7340" y="13373"/>
                </a:moveTo>
                <a:lnTo>
                  <a:pt x="7367" y="13029"/>
                </a:lnTo>
                <a:cubicBezTo>
                  <a:pt x="7367" y="13026"/>
                  <a:pt x="7368" y="13022"/>
                  <a:pt x="7368" y="13018"/>
                </a:cubicBezTo>
                <a:lnTo>
                  <a:pt x="7414" y="12835"/>
                </a:lnTo>
                <a:lnTo>
                  <a:pt x="7544" y="12867"/>
                </a:lnTo>
                <a:lnTo>
                  <a:pt x="7498" y="13051"/>
                </a:lnTo>
                <a:lnTo>
                  <a:pt x="7500" y="13040"/>
                </a:lnTo>
                <a:lnTo>
                  <a:pt x="7473" y="13383"/>
                </a:lnTo>
                <a:lnTo>
                  <a:pt x="7340" y="13373"/>
                </a:lnTo>
                <a:close/>
                <a:moveTo>
                  <a:pt x="7614" y="12936"/>
                </a:moveTo>
                <a:lnTo>
                  <a:pt x="7633" y="13076"/>
                </a:lnTo>
                <a:lnTo>
                  <a:pt x="7704" y="13458"/>
                </a:lnTo>
                <a:lnTo>
                  <a:pt x="7573" y="13482"/>
                </a:lnTo>
                <a:lnTo>
                  <a:pt x="7500" y="13093"/>
                </a:lnTo>
                <a:lnTo>
                  <a:pt x="7482" y="12953"/>
                </a:lnTo>
                <a:lnTo>
                  <a:pt x="7614" y="12936"/>
                </a:lnTo>
                <a:close/>
                <a:moveTo>
                  <a:pt x="7748" y="13725"/>
                </a:moveTo>
                <a:lnTo>
                  <a:pt x="7769" y="13704"/>
                </a:lnTo>
                <a:lnTo>
                  <a:pt x="7756" y="13724"/>
                </a:lnTo>
                <a:lnTo>
                  <a:pt x="7839" y="13540"/>
                </a:lnTo>
                <a:cubicBezTo>
                  <a:pt x="7845" y="13526"/>
                  <a:pt x="7856" y="13515"/>
                  <a:pt x="7870" y="13508"/>
                </a:cubicBezTo>
                <a:lnTo>
                  <a:pt x="7970" y="13458"/>
                </a:lnTo>
                <a:cubicBezTo>
                  <a:pt x="7979" y="13454"/>
                  <a:pt x="7989" y="13451"/>
                  <a:pt x="8000" y="13451"/>
                </a:cubicBezTo>
                <a:lnTo>
                  <a:pt x="8050" y="13451"/>
                </a:lnTo>
                <a:cubicBezTo>
                  <a:pt x="8060" y="13451"/>
                  <a:pt x="8070" y="13454"/>
                  <a:pt x="8080" y="13458"/>
                </a:cubicBezTo>
                <a:lnTo>
                  <a:pt x="8180" y="13508"/>
                </a:lnTo>
                <a:lnTo>
                  <a:pt x="8120" y="13508"/>
                </a:lnTo>
                <a:lnTo>
                  <a:pt x="8145" y="13496"/>
                </a:lnTo>
                <a:lnTo>
                  <a:pt x="8205" y="13615"/>
                </a:lnTo>
                <a:lnTo>
                  <a:pt x="8180" y="13627"/>
                </a:lnTo>
                <a:cubicBezTo>
                  <a:pt x="8161" y="13637"/>
                  <a:pt x="8139" y="13637"/>
                  <a:pt x="8120" y="13627"/>
                </a:cubicBezTo>
                <a:lnTo>
                  <a:pt x="8020" y="13577"/>
                </a:lnTo>
                <a:lnTo>
                  <a:pt x="8050" y="13584"/>
                </a:lnTo>
                <a:lnTo>
                  <a:pt x="8000" y="13584"/>
                </a:lnTo>
                <a:lnTo>
                  <a:pt x="8030" y="13577"/>
                </a:lnTo>
                <a:lnTo>
                  <a:pt x="7930" y="13627"/>
                </a:lnTo>
                <a:lnTo>
                  <a:pt x="7960" y="13595"/>
                </a:lnTo>
                <a:lnTo>
                  <a:pt x="7877" y="13779"/>
                </a:lnTo>
                <a:cubicBezTo>
                  <a:pt x="7874" y="13786"/>
                  <a:pt x="7869" y="13793"/>
                  <a:pt x="7864" y="13798"/>
                </a:cubicBezTo>
                <a:lnTo>
                  <a:pt x="7842" y="13819"/>
                </a:lnTo>
                <a:lnTo>
                  <a:pt x="7748" y="13725"/>
                </a:lnTo>
                <a:close/>
                <a:moveTo>
                  <a:pt x="8534" y="13551"/>
                </a:moveTo>
                <a:lnTo>
                  <a:pt x="8633" y="13551"/>
                </a:lnTo>
                <a:lnTo>
                  <a:pt x="8733" y="13551"/>
                </a:lnTo>
                <a:lnTo>
                  <a:pt x="8783" y="13551"/>
                </a:lnTo>
                <a:lnTo>
                  <a:pt x="8866" y="13551"/>
                </a:lnTo>
                <a:cubicBezTo>
                  <a:pt x="8877" y="13551"/>
                  <a:pt x="8887" y="13554"/>
                  <a:pt x="8896" y="13558"/>
                </a:cubicBezTo>
                <a:lnTo>
                  <a:pt x="8996" y="13608"/>
                </a:lnTo>
                <a:lnTo>
                  <a:pt x="8966" y="13601"/>
                </a:lnTo>
                <a:lnTo>
                  <a:pt x="9016" y="13601"/>
                </a:lnTo>
                <a:lnTo>
                  <a:pt x="9055" y="13601"/>
                </a:lnTo>
                <a:lnTo>
                  <a:pt x="9055" y="13734"/>
                </a:lnTo>
                <a:lnTo>
                  <a:pt x="9016" y="13734"/>
                </a:lnTo>
                <a:lnTo>
                  <a:pt x="8966" y="13734"/>
                </a:lnTo>
                <a:cubicBezTo>
                  <a:pt x="8956" y="13734"/>
                  <a:pt x="8946" y="13732"/>
                  <a:pt x="8937" y="13727"/>
                </a:cubicBezTo>
                <a:lnTo>
                  <a:pt x="8837" y="13677"/>
                </a:lnTo>
                <a:lnTo>
                  <a:pt x="8866" y="13684"/>
                </a:lnTo>
                <a:lnTo>
                  <a:pt x="8783" y="13684"/>
                </a:lnTo>
                <a:lnTo>
                  <a:pt x="8733" y="13684"/>
                </a:lnTo>
                <a:lnTo>
                  <a:pt x="8633" y="13684"/>
                </a:lnTo>
                <a:lnTo>
                  <a:pt x="8534" y="13684"/>
                </a:lnTo>
                <a:lnTo>
                  <a:pt x="8534" y="13551"/>
                </a:lnTo>
                <a:close/>
                <a:moveTo>
                  <a:pt x="9431" y="13684"/>
                </a:moveTo>
                <a:lnTo>
                  <a:pt x="9450" y="13684"/>
                </a:lnTo>
                <a:lnTo>
                  <a:pt x="9500" y="13684"/>
                </a:lnTo>
                <a:cubicBezTo>
                  <a:pt x="9510" y="13684"/>
                  <a:pt x="9520" y="13687"/>
                  <a:pt x="9530" y="13692"/>
                </a:cubicBezTo>
                <a:lnTo>
                  <a:pt x="9630" y="13742"/>
                </a:lnTo>
                <a:lnTo>
                  <a:pt x="9600" y="13734"/>
                </a:lnTo>
                <a:lnTo>
                  <a:pt x="9700" y="13734"/>
                </a:lnTo>
                <a:cubicBezTo>
                  <a:pt x="9717" y="13734"/>
                  <a:pt x="9734" y="13741"/>
                  <a:pt x="9747" y="13754"/>
                </a:cubicBezTo>
                <a:lnTo>
                  <a:pt x="9797" y="13804"/>
                </a:lnTo>
                <a:lnTo>
                  <a:pt x="9750" y="13784"/>
                </a:lnTo>
                <a:lnTo>
                  <a:pt x="9833" y="13784"/>
                </a:lnTo>
                <a:cubicBezTo>
                  <a:pt x="9843" y="13784"/>
                  <a:pt x="9854" y="13787"/>
                  <a:pt x="9863" y="13792"/>
                </a:cubicBezTo>
                <a:lnTo>
                  <a:pt x="9952" y="13836"/>
                </a:lnTo>
                <a:lnTo>
                  <a:pt x="9892" y="13955"/>
                </a:lnTo>
                <a:lnTo>
                  <a:pt x="9803" y="13911"/>
                </a:lnTo>
                <a:lnTo>
                  <a:pt x="9833" y="13918"/>
                </a:lnTo>
                <a:lnTo>
                  <a:pt x="9750" y="13918"/>
                </a:lnTo>
                <a:cubicBezTo>
                  <a:pt x="9732" y="13918"/>
                  <a:pt x="9715" y="13911"/>
                  <a:pt x="9703" y="13898"/>
                </a:cubicBezTo>
                <a:lnTo>
                  <a:pt x="9653" y="13848"/>
                </a:lnTo>
                <a:lnTo>
                  <a:pt x="9700" y="13868"/>
                </a:lnTo>
                <a:lnTo>
                  <a:pt x="9600" y="13868"/>
                </a:lnTo>
                <a:cubicBezTo>
                  <a:pt x="9589" y="13868"/>
                  <a:pt x="9579" y="13865"/>
                  <a:pt x="9570" y="13861"/>
                </a:cubicBezTo>
                <a:lnTo>
                  <a:pt x="9470" y="13811"/>
                </a:lnTo>
                <a:lnTo>
                  <a:pt x="9500" y="13818"/>
                </a:lnTo>
                <a:lnTo>
                  <a:pt x="9450" y="13818"/>
                </a:lnTo>
                <a:lnTo>
                  <a:pt x="9431" y="13818"/>
                </a:lnTo>
                <a:lnTo>
                  <a:pt x="9431" y="13684"/>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299120" y="3797280"/>
            <a:ext cx="1106280" cy="1298520"/>
          </a:xfrm>
          <a:custGeom>
            <a:avLst/>
            <a:gdLst/>
            <a:ahLst/>
            <a:rect l="l" t="t" r="r" b="b"/>
            <a:pathLst>
              <a:path w="10199" h="11899">
                <a:moveTo>
                  <a:pt x="0" y="7010"/>
                </a:moveTo>
                <a:lnTo>
                  <a:pt x="33" y="7010"/>
                </a:lnTo>
                <a:cubicBezTo>
                  <a:pt x="44" y="7010"/>
                  <a:pt x="54" y="7013"/>
                  <a:pt x="63" y="7018"/>
                </a:cubicBezTo>
                <a:lnTo>
                  <a:pt x="163" y="7068"/>
                </a:lnTo>
                <a:lnTo>
                  <a:pt x="263" y="7118"/>
                </a:lnTo>
                <a:lnTo>
                  <a:pt x="233" y="7110"/>
                </a:lnTo>
                <a:lnTo>
                  <a:pt x="283" y="7110"/>
                </a:lnTo>
                <a:cubicBezTo>
                  <a:pt x="291" y="7110"/>
                  <a:pt x="298" y="7112"/>
                  <a:pt x="305" y="7114"/>
                </a:cubicBezTo>
                <a:lnTo>
                  <a:pt x="405" y="7147"/>
                </a:lnTo>
                <a:cubicBezTo>
                  <a:pt x="414" y="7150"/>
                  <a:pt x="423" y="7156"/>
                  <a:pt x="431" y="7163"/>
                </a:cubicBezTo>
                <a:lnTo>
                  <a:pt x="481" y="7213"/>
                </a:lnTo>
                <a:lnTo>
                  <a:pt x="433" y="7194"/>
                </a:lnTo>
                <a:lnTo>
                  <a:pt x="484" y="7194"/>
                </a:lnTo>
                <a:lnTo>
                  <a:pt x="484" y="7327"/>
                </a:lnTo>
                <a:lnTo>
                  <a:pt x="433" y="7327"/>
                </a:lnTo>
                <a:cubicBezTo>
                  <a:pt x="416" y="7327"/>
                  <a:pt x="399" y="7320"/>
                  <a:pt x="386" y="7308"/>
                </a:cubicBezTo>
                <a:lnTo>
                  <a:pt x="336" y="7258"/>
                </a:lnTo>
                <a:lnTo>
                  <a:pt x="362" y="7274"/>
                </a:lnTo>
                <a:lnTo>
                  <a:pt x="262" y="7240"/>
                </a:lnTo>
                <a:lnTo>
                  <a:pt x="283" y="7244"/>
                </a:lnTo>
                <a:lnTo>
                  <a:pt x="233" y="7244"/>
                </a:lnTo>
                <a:cubicBezTo>
                  <a:pt x="223" y="7244"/>
                  <a:pt x="213" y="7241"/>
                  <a:pt x="204" y="7237"/>
                </a:cubicBezTo>
                <a:lnTo>
                  <a:pt x="104" y="7187"/>
                </a:lnTo>
                <a:lnTo>
                  <a:pt x="4" y="7137"/>
                </a:lnTo>
                <a:lnTo>
                  <a:pt x="33" y="7144"/>
                </a:lnTo>
                <a:lnTo>
                  <a:pt x="0" y="7144"/>
                </a:lnTo>
                <a:lnTo>
                  <a:pt x="0" y="7010"/>
                </a:lnTo>
                <a:close/>
                <a:moveTo>
                  <a:pt x="880" y="7343"/>
                </a:moveTo>
                <a:lnTo>
                  <a:pt x="897" y="7351"/>
                </a:lnTo>
                <a:cubicBezTo>
                  <a:pt x="903" y="7354"/>
                  <a:pt x="909" y="7358"/>
                  <a:pt x="914" y="7363"/>
                </a:cubicBezTo>
                <a:lnTo>
                  <a:pt x="964" y="7413"/>
                </a:lnTo>
                <a:lnTo>
                  <a:pt x="917" y="7394"/>
                </a:lnTo>
                <a:lnTo>
                  <a:pt x="1000" y="7394"/>
                </a:lnTo>
                <a:cubicBezTo>
                  <a:pt x="1010" y="7394"/>
                  <a:pt x="1021" y="7396"/>
                  <a:pt x="1030" y="7401"/>
                </a:cubicBezTo>
                <a:lnTo>
                  <a:pt x="1130" y="7451"/>
                </a:lnTo>
                <a:cubicBezTo>
                  <a:pt x="1143" y="7457"/>
                  <a:pt x="1153" y="7468"/>
                  <a:pt x="1160" y="7481"/>
                </a:cubicBezTo>
                <a:lnTo>
                  <a:pt x="1210" y="7581"/>
                </a:lnTo>
                <a:lnTo>
                  <a:pt x="1150" y="7544"/>
                </a:lnTo>
                <a:lnTo>
                  <a:pt x="1250" y="7544"/>
                </a:lnTo>
                <a:lnTo>
                  <a:pt x="1220" y="7551"/>
                </a:lnTo>
                <a:lnTo>
                  <a:pt x="1254" y="7534"/>
                </a:lnTo>
                <a:lnTo>
                  <a:pt x="1313" y="7653"/>
                </a:lnTo>
                <a:lnTo>
                  <a:pt x="1280" y="7670"/>
                </a:lnTo>
                <a:cubicBezTo>
                  <a:pt x="1271" y="7675"/>
                  <a:pt x="1260" y="7677"/>
                  <a:pt x="1250" y="7677"/>
                </a:cubicBezTo>
                <a:lnTo>
                  <a:pt x="1150" y="7677"/>
                </a:lnTo>
                <a:cubicBezTo>
                  <a:pt x="1125" y="7677"/>
                  <a:pt x="1102" y="7663"/>
                  <a:pt x="1091" y="7640"/>
                </a:cubicBezTo>
                <a:lnTo>
                  <a:pt x="1041" y="7540"/>
                </a:lnTo>
                <a:lnTo>
                  <a:pt x="1070" y="7570"/>
                </a:lnTo>
                <a:lnTo>
                  <a:pt x="970" y="7520"/>
                </a:lnTo>
                <a:lnTo>
                  <a:pt x="1000" y="7527"/>
                </a:lnTo>
                <a:lnTo>
                  <a:pt x="917" y="7527"/>
                </a:lnTo>
                <a:cubicBezTo>
                  <a:pt x="899" y="7527"/>
                  <a:pt x="882" y="7520"/>
                  <a:pt x="870" y="7508"/>
                </a:cubicBezTo>
                <a:lnTo>
                  <a:pt x="820" y="7458"/>
                </a:lnTo>
                <a:lnTo>
                  <a:pt x="837" y="7470"/>
                </a:lnTo>
                <a:lnTo>
                  <a:pt x="820" y="7462"/>
                </a:lnTo>
                <a:lnTo>
                  <a:pt x="880" y="7343"/>
                </a:lnTo>
                <a:close/>
                <a:moveTo>
                  <a:pt x="1626" y="7555"/>
                </a:moveTo>
                <a:lnTo>
                  <a:pt x="1639" y="7573"/>
                </a:lnTo>
                <a:cubicBezTo>
                  <a:pt x="1644" y="7582"/>
                  <a:pt x="1648" y="7591"/>
                  <a:pt x="1649" y="7601"/>
                </a:cubicBezTo>
                <a:lnTo>
                  <a:pt x="1699" y="7934"/>
                </a:lnTo>
                <a:lnTo>
                  <a:pt x="1696" y="7922"/>
                </a:lnTo>
                <a:lnTo>
                  <a:pt x="1754" y="8085"/>
                </a:lnTo>
                <a:lnTo>
                  <a:pt x="1628" y="8130"/>
                </a:lnTo>
                <a:lnTo>
                  <a:pt x="1571" y="7966"/>
                </a:lnTo>
                <a:cubicBezTo>
                  <a:pt x="1569" y="7962"/>
                  <a:pt x="1568" y="7958"/>
                  <a:pt x="1568" y="7954"/>
                </a:cubicBezTo>
                <a:lnTo>
                  <a:pt x="1518" y="7620"/>
                </a:lnTo>
                <a:lnTo>
                  <a:pt x="1528" y="7647"/>
                </a:lnTo>
                <a:lnTo>
                  <a:pt x="1515" y="7629"/>
                </a:lnTo>
                <a:lnTo>
                  <a:pt x="1626" y="7555"/>
                </a:lnTo>
                <a:close/>
                <a:moveTo>
                  <a:pt x="1779" y="8011"/>
                </a:moveTo>
                <a:lnTo>
                  <a:pt x="1817" y="7505"/>
                </a:lnTo>
                <a:lnTo>
                  <a:pt x="1819" y="7480"/>
                </a:lnTo>
                <a:lnTo>
                  <a:pt x="1952" y="7489"/>
                </a:lnTo>
                <a:lnTo>
                  <a:pt x="1950" y="7515"/>
                </a:lnTo>
                <a:lnTo>
                  <a:pt x="1912" y="8021"/>
                </a:lnTo>
                <a:lnTo>
                  <a:pt x="1779" y="8011"/>
                </a:lnTo>
                <a:close/>
                <a:moveTo>
                  <a:pt x="1847" y="7081"/>
                </a:moveTo>
                <a:lnTo>
                  <a:pt x="1885" y="6549"/>
                </a:lnTo>
                <a:lnTo>
                  <a:pt x="2018" y="6558"/>
                </a:lnTo>
                <a:lnTo>
                  <a:pt x="1980" y="7090"/>
                </a:lnTo>
                <a:lnTo>
                  <a:pt x="1847" y="7081"/>
                </a:lnTo>
                <a:close/>
                <a:moveTo>
                  <a:pt x="1916" y="6149"/>
                </a:moveTo>
                <a:lnTo>
                  <a:pt x="1960" y="5618"/>
                </a:lnTo>
                <a:lnTo>
                  <a:pt x="2093" y="5629"/>
                </a:lnTo>
                <a:lnTo>
                  <a:pt x="2049" y="6160"/>
                </a:lnTo>
                <a:lnTo>
                  <a:pt x="1916" y="6149"/>
                </a:lnTo>
                <a:close/>
                <a:moveTo>
                  <a:pt x="1994" y="5219"/>
                </a:moveTo>
                <a:lnTo>
                  <a:pt x="2000" y="5138"/>
                </a:lnTo>
                <a:lnTo>
                  <a:pt x="2032" y="4688"/>
                </a:lnTo>
                <a:lnTo>
                  <a:pt x="2165" y="4697"/>
                </a:lnTo>
                <a:lnTo>
                  <a:pt x="2133" y="5149"/>
                </a:lnTo>
                <a:lnTo>
                  <a:pt x="2127" y="5230"/>
                </a:lnTo>
                <a:lnTo>
                  <a:pt x="1994" y="5219"/>
                </a:lnTo>
                <a:close/>
                <a:moveTo>
                  <a:pt x="2239" y="4513"/>
                </a:moveTo>
                <a:lnTo>
                  <a:pt x="2275" y="4579"/>
                </a:lnTo>
                <a:cubicBezTo>
                  <a:pt x="2279" y="4586"/>
                  <a:pt x="2282" y="4594"/>
                  <a:pt x="2283" y="4602"/>
                </a:cubicBezTo>
                <a:lnTo>
                  <a:pt x="2339" y="5057"/>
                </a:lnTo>
                <a:lnTo>
                  <a:pt x="2206" y="5074"/>
                </a:lnTo>
                <a:lnTo>
                  <a:pt x="2151" y="4619"/>
                </a:lnTo>
                <a:lnTo>
                  <a:pt x="2158" y="4642"/>
                </a:lnTo>
                <a:lnTo>
                  <a:pt x="2122" y="4577"/>
                </a:lnTo>
                <a:lnTo>
                  <a:pt x="2239" y="4513"/>
                </a:lnTo>
                <a:close/>
                <a:moveTo>
                  <a:pt x="2385" y="5460"/>
                </a:moveTo>
                <a:lnTo>
                  <a:pt x="2402" y="5994"/>
                </a:lnTo>
                <a:lnTo>
                  <a:pt x="2269" y="5998"/>
                </a:lnTo>
                <a:lnTo>
                  <a:pt x="2251" y="5465"/>
                </a:lnTo>
                <a:lnTo>
                  <a:pt x="2385" y="5460"/>
                </a:lnTo>
                <a:close/>
                <a:moveTo>
                  <a:pt x="2415" y="6393"/>
                </a:moveTo>
                <a:lnTo>
                  <a:pt x="2417" y="6442"/>
                </a:lnTo>
                <a:lnTo>
                  <a:pt x="2486" y="6914"/>
                </a:lnTo>
                <a:lnTo>
                  <a:pt x="2354" y="6933"/>
                </a:lnTo>
                <a:lnTo>
                  <a:pt x="2284" y="6446"/>
                </a:lnTo>
                <a:lnTo>
                  <a:pt x="2282" y="6398"/>
                </a:lnTo>
                <a:lnTo>
                  <a:pt x="2415" y="6393"/>
                </a:lnTo>
                <a:close/>
                <a:moveTo>
                  <a:pt x="2602" y="7266"/>
                </a:moveTo>
                <a:lnTo>
                  <a:pt x="2609" y="7279"/>
                </a:lnTo>
                <a:lnTo>
                  <a:pt x="2491" y="7281"/>
                </a:lnTo>
                <a:lnTo>
                  <a:pt x="2541" y="7181"/>
                </a:lnTo>
                <a:lnTo>
                  <a:pt x="2642" y="6995"/>
                </a:lnTo>
                <a:cubicBezTo>
                  <a:pt x="2645" y="6990"/>
                  <a:pt x="2648" y="6984"/>
                  <a:pt x="2653" y="6980"/>
                </a:cubicBezTo>
                <a:lnTo>
                  <a:pt x="2753" y="6880"/>
                </a:lnTo>
                <a:lnTo>
                  <a:pt x="2735" y="6913"/>
                </a:lnTo>
                <a:lnTo>
                  <a:pt x="2747" y="6857"/>
                </a:lnTo>
                <a:lnTo>
                  <a:pt x="2878" y="6886"/>
                </a:lnTo>
                <a:lnTo>
                  <a:pt x="2865" y="6942"/>
                </a:lnTo>
                <a:cubicBezTo>
                  <a:pt x="2862" y="6954"/>
                  <a:pt x="2856" y="6965"/>
                  <a:pt x="2847" y="6974"/>
                </a:cubicBezTo>
                <a:lnTo>
                  <a:pt x="2747" y="7074"/>
                </a:lnTo>
                <a:lnTo>
                  <a:pt x="2759" y="7059"/>
                </a:lnTo>
                <a:lnTo>
                  <a:pt x="2660" y="7240"/>
                </a:lnTo>
                <a:lnTo>
                  <a:pt x="2610" y="7340"/>
                </a:lnTo>
                <a:cubicBezTo>
                  <a:pt x="2599" y="7362"/>
                  <a:pt x="2576" y="7377"/>
                  <a:pt x="2551" y="7377"/>
                </a:cubicBezTo>
                <a:cubicBezTo>
                  <a:pt x="2527" y="7378"/>
                  <a:pt x="2503" y="7364"/>
                  <a:pt x="2492" y="7342"/>
                </a:cubicBezTo>
                <a:lnTo>
                  <a:pt x="2485" y="7330"/>
                </a:lnTo>
                <a:lnTo>
                  <a:pt x="2602" y="7266"/>
                </a:lnTo>
                <a:close/>
                <a:moveTo>
                  <a:pt x="2988" y="6492"/>
                </a:moveTo>
                <a:lnTo>
                  <a:pt x="3004" y="6484"/>
                </a:lnTo>
                <a:cubicBezTo>
                  <a:pt x="3023" y="6474"/>
                  <a:pt x="3046" y="6475"/>
                  <a:pt x="3066" y="6485"/>
                </a:cubicBezTo>
                <a:cubicBezTo>
                  <a:pt x="3085" y="6496"/>
                  <a:pt x="3098" y="6515"/>
                  <a:pt x="3100" y="6537"/>
                </a:cubicBezTo>
                <a:lnTo>
                  <a:pt x="3150" y="7020"/>
                </a:lnTo>
                <a:lnTo>
                  <a:pt x="3153" y="7050"/>
                </a:lnTo>
                <a:lnTo>
                  <a:pt x="3020" y="7063"/>
                </a:lnTo>
                <a:lnTo>
                  <a:pt x="3017" y="7034"/>
                </a:lnTo>
                <a:lnTo>
                  <a:pt x="2967" y="6551"/>
                </a:lnTo>
                <a:lnTo>
                  <a:pt x="3063" y="6603"/>
                </a:lnTo>
                <a:lnTo>
                  <a:pt x="3048" y="6611"/>
                </a:lnTo>
                <a:lnTo>
                  <a:pt x="2988" y="6492"/>
                </a:lnTo>
                <a:close/>
                <a:moveTo>
                  <a:pt x="3192" y="7449"/>
                </a:moveTo>
                <a:lnTo>
                  <a:pt x="3244" y="7979"/>
                </a:lnTo>
                <a:lnTo>
                  <a:pt x="3111" y="7992"/>
                </a:lnTo>
                <a:lnTo>
                  <a:pt x="3059" y="7462"/>
                </a:lnTo>
                <a:lnTo>
                  <a:pt x="3192" y="7449"/>
                </a:lnTo>
                <a:close/>
                <a:moveTo>
                  <a:pt x="3281" y="8378"/>
                </a:moveTo>
                <a:lnTo>
                  <a:pt x="3329" y="8909"/>
                </a:lnTo>
                <a:lnTo>
                  <a:pt x="3196" y="8921"/>
                </a:lnTo>
                <a:lnTo>
                  <a:pt x="3148" y="8390"/>
                </a:lnTo>
                <a:lnTo>
                  <a:pt x="3281" y="8378"/>
                </a:lnTo>
                <a:close/>
                <a:moveTo>
                  <a:pt x="3363" y="9309"/>
                </a:moveTo>
                <a:lnTo>
                  <a:pt x="3383" y="9572"/>
                </a:lnTo>
                <a:lnTo>
                  <a:pt x="3251" y="9569"/>
                </a:lnTo>
                <a:lnTo>
                  <a:pt x="3281" y="9302"/>
                </a:lnTo>
                <a:lnTo>
                  <a:pt x="3414" y="9317"/>
                </a:lnTo>
                <a:lnTo>
                  <a:pt x="3383" y="9585"/>
                </a:lnTo>
                <a:cubicBezTo>
                  <a:pt x="3379" y="9619"/>
                  <a:pt x="3350" y="9644"/>
                  <a:pt x="3316" y="9644"/>
                </a:cubicBezTo>
                <a:cubicBezTo>
                  <a:pt x="3281" y="9643"/>
                  <a:pt x="3253" y="9616"/>
                  <a:pt x="3250" y="9582"/>
                </a:cubicBezTo>
                <a:lnTo>
                  <a:pt x="3230" y="9319"/>
                </a:lnTo>
                <a:lnTo>
                  <a:pt x="3363" y="9309"/>
                </a:lnTo>
                <a:close/>
                <a:moveTo>
                  <a:pt x="3327" y="8905"/>
                </a:moveTo>
                <a:lnTo>
                  <a:pt x="3351" y="8703"/>
                </a:lnTo>
                <a:lnTo>
                  <a:pt x="3367" y="8377"/>
                </a:lnTo>
                <a:lnTo>
                  <a:pt x="3500" y="8384"/>
                </a:lnTo>
                <a:lnTo>
                  <a:pt x="3483" y="8718"/>
                </a:lnTo>
                <a:lnTo>
                  <a:pt x="3460" y="8920"/>
                </a:lnTo>
                <a:lnTo>
                  <a:pt x="3327" y="8905"/>
                </a:lnTo>
                <a:close/>
                <a:moveTo>
                  <a:pt x="3388" y="7978"/>
                </a:moveTo>
                <a:lnTo>
                  <a:pt x="3415" y="7445"/>
                </a:lnTo>
                <a:lnTo>
                  <a:pt x="3549" y="7452"/>
                </a:lnTo>
                <a:lnTo>
                  <a:pt x="3521" y="7985"/>
                </a:lnTo>
                <a:lnTo>
                  <a:pt x="3388" y="7978"/>
                </a:lnTo>
                <a:close/>
                <a:moveTo>
                  <a:pt x="3436" y="7046"/>
                </a:moveTo>
                <a:lnTo>
                  <a:pt x="3450" y="6774"/>
                </a:lnTo>
                <a:lnTo>
                  <a:pt x="3456" y="6515"/>
                </a:lnTo>
                <a:lnTo>
                  <a:pt x="3590" y="6518"/>
                </a:lnTo>
                <a:lnTo>
                  <a:pt x="3583" y="6781"/>
                </a:lnTo>
                <a:lnTo>
                  <a:pt x="3569" y="7053"/>
                </a:lnTo>
                <a:lnTo>
                  <a:pt x="3436" y="7046"/>
                </a:lnTo>
                <a:close/>
                <a:moveTo>
                  <a:pt x="3466" y="6115"/>
                </a:moveTo>
                <a:lnTo>
                  <a:pt x="3479" y="5582"/>
                </a:lnTo>
                <a:lnTo>
                  <a:pt x="3612" y="5585"/>
                </a:lnTo>
                <a:lnTo>
                  <a:pt x="3599" y="6118"/>
                </a:lnTo>
                <a:lnTo>
                  <a:pt x="3466" y="6115"/>
                </a:lnTo>
                <a:close/>
                <a:moveTo>
                  <a:pt x="3489" y="5182"/>
                </a:moveTo>
                <a:lnTo>
                  <a:pt x="3500" y="4709"/>
                </a:lnTo>
                <a:lnTo>
                  <a:pt x="3506" y="4645"/>
                </a:lnTo>
                <a:lnTo>
                  <a:pt x="3638" y="4656"/>
                </a:lnTo>
                <a:lnTo>
                  <a:pt x="3633" y="4712"/>
                </a:lnTo>
                <a:lnTo>
                  <a:pt x="3622" y="5185"/>
                </a:lnTo>
                <a:lnTo>
                  <a:pt x="3489" y="5182"/>
                </a:lnTo>
                <a:close/>
                <a:moveTo>
                  <a:pt x="3540" y="4246"/>
                </a:moveTo>
                <a:lnTo>
                  <a:pt x="3586" y="3715"/>
                </a:lnTo>
                <a:lnTo>
                  <a:pt x="3719" y="3726"/>
                </a:lnTo>
                <a:lnTo>
                  <a:pt x="3673" y="4258"/>
                </a:lnTo>
                <a:lnTo>
                  <a:pt x="3540" y="4246"/>
                </a:lnTo>
                <a:close/>
                <a:moveTo>
                  <a:pt x="3810" y="3763"/>
                </a:moveTo>
                <a:lnTo>
                  <a:pt x="3813" y="3771"/>
                </a:lnTo>
                <a:cubicBezTo>
                  <a:pt x="3815" y="3778"/>
                  <a:pt x="3816" y="3784"/>
                  <a:pt x="3817" y="3791"/>
                </a:cubicBezTo>
                <a:lnTo>
                  <a:pt x="3838" y="4316"/>
                </a:lnTo>
                <a:lnTo>
                  <a:pt x="3704" y="4321"/>
                </a:lnTo>
                <a:lnTo>
                  <a:pt x="3684" y="3796"/>
                </a:lnTo>
                <a:lnTo>
                  <a:pt x="3687" y="3816"/>
                </a:lnTo>
                <a:lnTo>
                  <a:pt x="3685" y="3808"/>
                </a:lnTo>
                <a:lnTo>
                  <a:pt x="3810" y="3763"/>
                </a:lnTo>
                <a:close/>
                <a:moveTo>
                  <a:pt x="3854" y="4715"/>
                </a:moveTo>
                <a:lnTo>
                  <a:pt x="3867" y="5041"/>
                </a:lnTo>
                <a:lnTo>
                  <a:pt x="3881" y="5246"/>
                </a:lnTo>
                <a:lnTo>
                  <a:pt x="3748" y="5255"/>
                </a:lnTo>
                <a:lnTo>
                  <a:pt x="3734" y="5046"/>
                </a:lnTo>
                <a:lnTo>
                  <a:pt x="3720" y="4721"/>
                </a:lnTo>
                <a:lnTo>
                  <a:pt x="3854" y="4715"/>
                </a:lnTo>
                <a:close/>
                <a:moveTo>
                  <a:pt x="3910" y="5645"/>
                </a:moveTo>
                <a:lnTo>
                  <a:pt x="3948" y="6177"/>
                </a:lnTo>
                <a:lnTo>
                  <a:pt x="3815" y="6186"/>
                </a:lnTo>
                <a:lnTo>
                  <a:pt x="3777" y="5654"/>
                </a:lnTo>
                <a:lnTo>
                  <a:pt x="3910" y="5645"/>
                </a:lnTo>
                <a:close/>
                <a:moveTo>
                  <a:pt x="3976" y="6576"/>
                </a:moveTo>
                <a:lnTo>
                  <a:pt x="4012" y="7108"/>
                </a:lnTo>
                <a:lnTo>
                  <a:pt x="3879" y="7117"/>
                </a:lnTo>
                <a:lnTo>
                  <a:pt x="3843" y="6585"/>
                </a:lnTo>
                <a:lnTo>
                  <a:pt x="3976" y="6576"/>
                </a:lnTo>
                <a:close/>
                <a:moveTo>
                  <a:pt x="3998" y="6858"/>
                </a:moveTo>
                <a:lnTo>
                  <a:pt x="4067" y="6329"/>
                </a:lnTo>
                <a:lnTo>
                  <a:pt x="4200" y="6346"/>
                </a:lnTo>
                <a:lnTo>
                  <a:pt x="4131" y="6875"/>
                </a:lnTo>
                <a:lnTo>
                  <a:pt x="3998" y="6858"/>
                </a:lnTo>
                <a:close/>
                <a:moveTo>
                  <a:pt x="4103" y="5934"/>
                </a:moveTo>
                <a:lnTo>
                  <a:pt x="4134" y="5522"/>
                </a:lnTo>
                <a:cubicBezTo>
                  <a:pt x="4134" y="5516"/>
                  <a:pt x="4135" y="5510"/>
                  <a:pt x="4137" y="5505"/>
                </a:cubicBezTo>
                <a:lnTo>
                  <a:pt x="4178" y="5392"/>
                </a:lnTo>
                <a:lnTo>
                  <a:pt x="4303" y="5437"/>
                </a:lnTo>
                <a:lnTo>
                  <a:pt x="4263" y="5550"/>
                </a:lnTo>
                <a:lnTo>
                  <a:pt x="4267" y="5532"/>
                </a:lnTo>
                <a:lnTo>
                  <a:pt x="4236" y="5944"/>
                </a:lnTo>
                <a:lnTo>
                  <a:pt x="4103" y="5934"/>
                </a:lnTo>
                <a:close/>
                <a:moveTo>
                  <a:pt x="4476" y="5508"/>
                </a:moveTo>
                <a:lnTo>
                  <a:pt x="4499" y="5613"/>
                </a:lnTo>
                <a:lnTo>
                  <a:pt x="4481" y="5580"/>
                </a:lnTo>
                <a:lnTo>
                  <a:pt x="4581" y="5680"/>
                </a:lnTo>
                <a:lnTo>
                  <a:pt x="4486" y="5680"/>
                </a:lnTo>
                <a:lnTo>
                  <a:pt x="4586" y="5580"/>
                </a:lnTo>
                <a:lnTo>
                  <a:pt x="4578" y="5590"/>
                </a:lnTo>
                <a:lnTo>
                  <a:pt x="4611" y="5540"/>
                </a:lnTo>
                <a:cubicBezTo>
                  <a:pt x="4622" y="5524"/>
                  <a:pt x="4640" y="5513"/>
                  <a:pt x="4660" y="5511"/>
                </a:cubicBezTo>
                <a:cubicBezTo>
                  <a:pt x="4680" y="5509"/>
                  <a:pt x="4700" y="5516"/>
                  <a:pt x="4714" y="5530"/>
                </a:cubicBezTo>
                <a:lnTo>
                  <a:pt x="4772" y="5588"/>
                </a:lnTo>
                <a:lnTo>
                  <a:pt x="4678" y="5683"/>
                </a:lnTo>
                <a:lnTo>
                  <a:pt x="4620" y="5624"/>
                </a:lnTo>
                <a:lnTo>
                  <a:pt x="4722" y="5614"/>
                </a:lnTo>
                <a:lnTo>
                  <a:pt x="4689" y="5664"/>
                </a:lnTo>
                <a:cubicBezTo>
                  <a:pt x="4687" y="5668"/>
                  <a:pt x="4684" y="5671"/>
                  <a:pt x="4681" y="5674"/>
                </a:cubicBezTo>
                <a:lnTo>
                  <a:pt x="4581" y="5774"/>
                </a:lnTo>
                <a:cubicBezTo>
                  <a:pt x="4555" y="5800"/>
                  <a:pt x="4512" y="5800"/>
                  <a:pt x="4486" y="5774"/>
                </a:cubicBezTo>
                <a:lnTo>
                  <a:pt x="4386" y="5674"/>
                </a:lnTo>
                <a:cubicBezTo>
                  <a:pt x="4377" y="5665"/>
                  <a:pt x="4371" y="5654"/>
                  <a:pt x="4368" y="5641"/>
                </a:cubicBezTo>
                <a:lnTo>
                  <a:pt x="4346" y="5536"/>
                </a:lnTo>
                <a:lnTo>
                  <a:pt x="4476" y="5508"/>
                </a:lnTo>
                <a:close/>
                <a:moveTo>
                  <a:pt x="4929" y="5985"/>
                </a:moveTo>
                <a:lnTo>
                  <a:pt x="4931" y="5991"/>
                </a:lnTo>
                <a:cubicBezTo>
                  <a:pt x="4932" y="5994"/>
                  <a:pt x="4932" y="5997"/>
                  <a:pt x="4933" y="6001"/>
                </a:cubicBezTo>
                <a:lnTo>
                  <a:pt x="4983" y="6334"/>
                </a:lnTo>
                <a:lnTo>
                  <a:pt x="4964" y="6297"/>
                </a:lnTo>
                <a:lnTo>
                  <a:pt x="5064" y="6397"/>
                </a:lnTo>
                <a:lnTo>
                  <a:pt x="4958" y="6412"/>
                </a:lnTo>
                <a:lnTo>
                  <a:pt x="4981" y="6370"/>
                </a:lnTo>
                <a:lnTo>
                  <a:pt x="5098" y="6434"/>
                </a:lnTo>
                <a:lnTo>
                  <a:pt x="5075" y="6476"/>
                </a:lnTo>
                <a:cubicBezTo>
                  <a:pt x="5065" y="6494"/>
                  <a:pt x="5047" y="6507"/>
                  <a:pt x="5026" y="6510"/>
                </a:cubicBezTo>
                <a:cubicBezTo>
                  <a:pt x="5006" y="6513"/>
                  <a:pt x="4985" y="6506"/>
                  <a:pt x="4970" y="6491"/>
                </a:cubicBezTo>
                <a:lnTo>
                  <a:pt x="4870" y="6391"/>
                </a:lnTo>
                <a:cubicBezTo>
                  <a:pt x="4860" y="6381"/>
                  <a:pt x="4853" y="6368"/>
                  <a:pt x="4851" y="6354"/>
                </a:cubicBezTo>
                <a:lnTo>
                  <a:pt x="4801" y="6020"/>
                </a:lnTo>
                <a:lnTo>
                  <a:pt x="4803" y="6030"/>
                </a:lnTo>
                <a:lnTo>
                  <a:pt x="4801" y="6023"/>
                </a:lnTo>
                <a:lnTo>
                  <a:pt x="4929" y="5985"/>
                </a:lnTo>
                <a:close/>
                <a:moveTo>
                  <a:pt x="5226" y="6063"/>
                </a:moveTo>
                <a:lnTo>
                  <a:pt x="5310" y="6231"/>
                </a:lnTo>
                <a:cubicBezTo>
                  <a:pt x="5313" y="6236"/>
                  <a:pt x="5315" y="6243"/>
                  <a:pt x="5316" y="6249"/>
                </a:cubicBezTo>
                <a:lnTo>
                  <a:pt x="5376" y="6590"/>
                </a:lnTo>
                <a:lnTo>
                  <a:pt x="5245" y="6613"/>
                </a:lnTo>
                <a:lnTo>
                  <a:pt x="5184" y="6272"/>
                </a:lnTo>
                <a:lnTo>
                  <a:pt x="5191" y="6290"/>
                </a:lnTo>
                <a:lnTo>
                  <a:pt x="5107" y="6123"/>
                </a:lnTo>
                <a:lnTo>
                  <a:pt x="5226" y="6063"/>
                </a:lnTo>
                <a:close/>
                <a:moveTo>
                  <a:pt x="5438" y="6988"/>
                </a:moveTo>
                <a:lnTo>
                  <a:pt x="5466" y="7202"/>
                </a:lnTo>
                <a:lnTo>
                  <a:pt x="5334" y="7201"/>
                </a:lnTo>
                <a:lnTo>
                  <a:pt x="5378" y="6887"/>
                </a:lnTo>
                <a:lnTo>
                  <a:pt x="5510" y="6905"/>
                </a:lnTo>
                <a:lnTo>
                  <a:pt x="5466" y="7220"/>
                </a:lnTo>
                <a:cubicBezTo>
                  <a:pt x="5462" y="7253"/>
                  <a:pt x="5433" y="7277"/>
                  <a:pt x="5400" y="7277"/>
                </a:cubicBezTo>
                <a:cubicBezTo>
                  <a:pt x="5366" y="7277"/>
                  <a:pt x="5338" y="7252"/>
                  <a:pt x="5334" y="7219"/>
                </a:cubicBezTo>
                <a:lnTo>
                  <a:pt x="5306" y="7005"/>
                </a:lnTo>
                <a:lnTo>
                  <a:pt x="5438" y="6988"/>
                </a:lnTo>
                <a:close/>
                <a:moveTo>
                  <a:pt x="5433" y="6491"/>
                </a:moveTo>
                <a:lnTo>
                  <a:pt x="5434" y="6485"/>
                </a:lnTo>
                <a:lnTo>
                  <a:pt x="5459" y="5964"/>
                </a:lnTo>
                <a:lnTo>
                  <a:pt x="5592" y="5970"/>
                </a:lnTo>
                <a:lnTo>
                  <a:pt x="5566" y="6503"/>
                </a:lnTo>
                <a:lnTo>
                  <a:pt x="5565" y="6509"/>
                </a:lnTo>
                <a:lnTo>
                  <a:pt x="5433" y="6491"/>
                </a:lnTo>
                <a:close/>
                <a:moveTo>
                  <a:pt x="5478" y="5564"/>
                </a:moveTo>
                <a:lnTo>
                  <a:pt x="5504" y="5032"/>
                </a:lnTo>
                <a:lnTo>
                  <a:pt x="5637" y="5038"/>
                </a:lnTo>
                <a:lnTo>
                  <a:pt x="5612" y="5571"/>
                </a:lnTo>
                <a:lnTo>
                  <a:pt x="5478" y="5564"/>
                </a:lnTo>
                <a:close/>
                <a:moveTo>
                  <a:pt x="5523" y="4632"/>
                </a:moveTo>
                <a:lnTo>
                  <a:pt x="5534" y="4424"/>
                </a:lnTo>
                <a:lnTo>
                  <a:pt x="5538" y="4102"/>
                </a:lnTo>
                <a:lnTo>
                  <a:pt x="5671" y="4103"/>
                </a:lnTo>
                <a:lnTo>
                  <a:pt x="5667" y="4430"/>
                </a:lnTo>
                <a:lnTo>
                  <a:pt x="5657" y="4639"/>
                </a:lnTo>
                <a:lnTo>
                  <a:pt x="5523" y="4632"/>
                </a:lnTo>
                <a:close/>
                <a:moveTo>
                  <a:pt x="5543" y="3702"/>
                </a:moveTo>
                <a:lnTo>
                  <a:pt x="5549" y="3168"/>
                </a:lnTo>
                <a:lnTo>
                  <a:pt x="5683" y="3170"/>
                </a:lnTo>
                <a:lnTo>
                  <a:pt x="5676" y="3703"/>
                </a:lnTo>
                <a:lnTo>
                  <a:pt x="5543" y="3702"/>
                </a:lnTo>
                <a:close/>
                <a:moveTo>
                  <a:pt x="5554" y="2768"/>
                </a:moveTo>
                <a:lnTo>
                  <a:pt x="5561" y="2235"/>
                </a:lnTo>
                <a:lnTo>
                  <a:pt x="5694" y="2237"/>
                </a:lnTo>
                <a:lnTo>
                  <a:pt x="5688" y="2770"/>
                </a:lnTo>
                <a:lnTo>
                  <a:pt x="5554" y="2768"/>
                </a:lnTo>
                <a:close/>
                <a:moveTo>
                  <a:pt x="5566" y="1835"/>
                </a:moveTo>
                <a:lnTo>
                  <a:pt x="5567" y="1776"/>
                </a:lnTo>
                <a:lnTo>
                  <a:pt x="5593" y="1300"/>
                </a:lnTo>
                <a:lnTo>
                  <a:pt x="5727" y="1307"/>
                </a:lnTo>
                <a:lnTo>
                  <a:pt x="5700" y="1778"/>
                </a:lnTo>
                <a:lnTo>
                  <a:pt x="5699" y="1837"/>
                </a:lnTo>
                <a:lnTo>
                  <a:pt x="5566" y="1835"/>
                </a:lnTo>
                <a:close/>
                <a:moveTo>
                  <a:pt x="5616" y="900"/>
                </a:moveTo>
                <a:lnTo>
                  <a:pt x="5646" y="368"/>
                </a:lnTo>
                <a:lnTo>
                  <a:pt x="5779" y="375"/>
                </a:lnTo>
                <a:lnTo>
                  <a:pt x="5749" y="908"/>
                </a:lnTo>
                <a:lnTo>
                  <a:pt x="5616" y="900"/>
                </a:lnTo>
                <a:close/>
                <a:moveTo>
                  <a:pt x="5803" y="0"/>
                </a:moveTo>
                <a:lnTo>
                  <a:pt x="5898" y="412"/>
                </a:lnTo>
                <a:cubicBezTo>
                  <a:pt x="5899" y="417"/>
                  <a:pt x="5900" y="421"/>
                  <a:pt x="5900" y="426"/>
                </a:cubicBezTo>
                <a:lnTo>
                  <a:pt x="5902" y="536"/>
                </a:lnTo>
                <a:lnTo>
                  <a:pt x="5769" y="539"/>
                </a:lnTo>
                <a:lnTo>
                  <a:pt x="5767" y="428"/>
                </a:lnTo>
                <a:lnTo>
                  <a:pt x="5769" y="442"/>
                </a:lnTo>
                <a:lnTo>
                  <a:pt x="5673" y="30"/>
                </a:lnTo>
                <a:lnTo>
                  <a:pt x="5803" y="0"/>
                </a:lnTo>
                <a:close/>
                <a:moveTo>
                  <a:pt x="5910" y="936"/>
                </a:moveTo>
                <a:lnTo>
                  <a:pt x="5920" y="1469"/>
                </a:lnTo>
                <a:lnTo>
                  <a:pt x="5787" y="1472"/>
                </a:lnTo>
                <a:lnTo>
                  <a:pt x="5777" y="939"/>
                </a:lnTo>
                <a:lnTo>
                  <a:pt x="5910" y="936"/>
                </a:lnTo>
                <a:close/>
                <a:moveTo>
                  <a:pt x="5928" y="1869"/>
                </a:moveTo>
                <a:lnTo>
                  <a:pt x="5938" y="2403"/>
                </a:lnTo>
                <a:lnTo>
                  <a:pt x="5805" y="2405"/>
                </a:lnTo>
                <a:lnTo>
                  <a:pt x="5795" y="1872"/>
                </a:lnTo>
                <a:lnTo>
                  <a:pt x="5928" y="1869"/>
                </a:lnTo>
                <a:close/>
                <a:moveTo>
                  <a:pt x="5946" y="2802"/>
                </a:moveTo>
                <a:lnTo>
                  <a:pt x="5950" y="3026"/>
                </a:lnTo>
                <a:lnTo>
                  <a:pt x="5959" y="3335"/>
                </a:lnTo>
                <a:lnTo>
                  <a:pt x="5826" y="3339"/>
                </a:lnTo>
                <a:lnTo>
                  <a:pt x="5817" y="3028"/>
                </a:lnTo>
                <a:lnTo>
                  <a:pt x="5813" y="2805"/>
                </a:lnTo>
                <a:lnTo>
                  <a:pt x="5946" y="2802"/>
                </a:lnTo>
                <a:close/>
                <a:moveTo>
                  <a:pt x="5971" y="3735"/>
                </a:moveTo>
                <a:lnTo>
                  <a:pt x="5988" y="4268"/>
                </a:lnTo>
                <a:lnTo>
                  <a:pt x="5854" y="4272"/>
                </a:lnTo>
                <a:lnTo>
                  <a:pt x="5838" y="3739"/>
                </a:lnTo>
                <a:lnTo>
                  <a:pt x="5971" y="3735"/>
                </a:lnTo>
                <a:close/>
                <a:moveTo>
                  <a:pt x="6000" y="4668"/>
                </a:moveTo>
                <a:lnTo>
                  <a:pt x="6016" y="5201"/>
                </a:lnTo>
                <a:lnTo>
                  <a:pt x="5882" y="5205"/>
                </a:lnTo>
                <a:lnTo>
                  <a:pt x="5866" y="4672"/>
                </a:lnTo>
                <a:lnTo>
                  <a:pt x="6000" y="4668"/>
                </a:lnTo>
                <a:close/>
                <a:moveTo>
                  <a:pt x="6028" y="5601"/>
                </a:moveTo>
                <a:lnTo>
                  <a:pt x="6044" y="6134"/>
                </a:lnTo>
                <a:lnTo>
                  <a:pt x="5911" y="6138"/>
                </a:lnTo>
                <a:lnTo>
                  <a:pt x="5894" y="5605"/>
                </a:lnTo>
                <a:lnTo>
                  <a:pt x="6028" y="5601"/>
                </a:lnTo>
                <a:close/>
                <a:moveTo>
                  <a:pt x="6058" y="6533"/>
                </a:moveTo>
                <a:lnTo>
                  <a:pt x="6079" y="7066"/>
                </a:lnTo>
                <a:lnTo>
                  <a:pt x="5946" y="7071"/>
                </a:lnTo>
                <a:lnTo>
                  <a:pt x="5925" y="6538"/>
                </a:lnTo>
                <a:lnTo>
                  <a:pt x="6058" y="6533"/>
                </a:lnTo>
                <a:close/>
                <a:moveTo>
                  <a:pt x="6095" y="7465"/>
                </a:moveTo>
                <a:lnTo>
                  <a:pt x="6116" y="7998"/>
                </a:lnTo>
                <a:lnTo>
                  <a:pt x="5983" y="8004"/>
                </a:lnTo>
                <a:lnTo>
                  <a:pt x="5962" y="7471"/>
                </a:lnTo>
                <a:lnTo>
                  <a:pt x="6095" y="7465"/>
                </a:lnTo>
                <a:close/>
                <a:moveTo>
                  <a:pt x="6132" y="8398"/>
                </a:moveTo>
                <a:lnTo>
                  <a:pt x="6133" y="8424"/>
                </a:lnTo>
                <a:lnTo>
                  <a:pt x="6001" y="8414"/>
                </a:lnTo>
                <a:lnTo>
                  <a:pt x="6051" y="8164"/>
                </a:lnTo>
                <a:lnTo>
                  <a:pt x="6050" y="8174"/>
                </a:lnTo>
                <a:lnTo>
                  <a:pt x="6062" y="7923"/>
                </a:lnTo>
                <a:lnTo>
                  <a:pt x="6195" y="7929"/>
                </a:lnTo>
                <a:lnTo>
                  <a:pt x="6183" y="8180"/>
                </a:lnTo>
                <a:cubicBezTo>
                  <a:pt x="6183" y="8184"/>
                  <a:pt x="6183" y="8187"/>
                  <a:pt x="6182" y="8190"/>
                </a:cubicBezTo>
                <a:lnTo>
                  <a:pt x="6132" y="8440"/>
                </a:lnTo>
                <a:cubicBezTo>
                  <a:pt x="6126" y="8473"/>
                  <a:pt x="6095" y="8496"/>
                  <a:pt x="6062" y="8494"/>
                </a:cubicBezTo>
                <a:cubicBezTo>
                  <a:pt x="6028" y="8491"/>
                  <a:pt x="6002" y="8464"/>
                  <a:pt x="6000" y="8430"/>
                </a:cubicBezTo>
                <a:lnTo>
                  <a:pt x="5999" y="8403"/>
                </a:lnTo>
                <a:lnTo>
                  <a:pt x="6132" y="8398"/>
                </a:lnTo>
                <a:close/>
                <a:moveTo>
                  <a:pt x="6080" y="7523"/>
                </a:moveTo>
                <a:lnTo>
                  <a:pt x="6105" y="6990"/>
                </a:lnTo>
                <a:lnTo>
                  <a:pt x="6238" y="6996"/>
                </a:lnTo>
                <a:lnTo>
                  <a:pt x="6213" y="7529"/>
                </a:lnTo>
                <a:lnTo>
                  <a:pt x="6080" y="7523"/>
                </a:lnTo>
                <a:close/>
                <a:moveTo>
                  <a:pt x="6123" y="6591"/>
                </a:moveTo>
                <a:lnTo>
                  <a:pt x="6148" y="6058"/>
                </a:lnTo>
                <a:lnTo>
                  <a:pt x="6281" y="6064"/>
                </a:lnTo>
                <a:lnTo>
                  <a:pt x="6256" y="6597"/>
                </a:lnTo>
                <a:lnTo>
                  <a:pt x="6123" y="6591"/>
                </a:lnTo>
                <a:close/>
                <a:moveTo>
                  <a:pt x="6164" y="5659"/>
                </a:moveTo>
                <a:lnTo>
                  <a:pt x="6186" y="5126"/>
                </a:lnTo>
                <a:lnTo>
                  <a:pt x="6319" y="5131"/>
                </a:lnTo>
                <a:lnTo>
                  <a:pt x="6298" y="5664"/>
                </a:lnTo>
                <a:lnTo>
                  <a:pt x="6164" y="5659"/>
                </a:lnTo>
                <a:close/>
                <a:moveTo>
                  <a:pt x="6203" y="4726"/>
                </a:moveTo>
                <a:lnTo>
                  <a:pt x="6224" y="4193"/>
                </a:lnTo>
                <a:lnTo>
                  <a:pt x="6357" y="4199"/>
                </a:lnTo>
                <a:lnTo>
                  <a:pt x="6336" y="4731"/>
                </a:lnTo>
                <a:lnTo>
                  <a:pt x="6203" y="4726"/>
                </a:lnTo>
                <a:close/>
                <a:moveTo>
                  <a:pt x="6241" y="3793"/>
                </a:moveTo>
                <a:lnTo>
                  <a:pt x="6250" y="3558"/>
                </a:lnTo>
                <a:lnTo>
                  <a:pt x="6263" y="3260"/>
                </a:lnTo>
                <a:lnTo>
                  <a:pt x="6396" y="3266"/>
                </a:lnTo>
                <a:lnTo>
                  <a:pt x="6383" y="3563"/>
                </a:lnTo>
                <a:lnTo>
                  <a:pt x="6374" y="3799"/>
                </a:lnTo>
                <a:lnTo>
                  <a:pt x="6241" y="3793"/>
                </a:lnTo>
                <a:close/>
                <a:moveTo>
                  <a:pt x="6280" y="2861"/>
                </a:moveTo>
                <a:lnTo>
                  <a:pt x="6300" y="2391"/>
                </a:lnTo>
                <a:cubicBezTo>
                  <a:pt x="6302" y="2358"/>
                  <a:pt x="6327" y="2330"/>
                  <a:pt x="6361" y="2327"/>
                </a:cubicBezTo>
                <a:cubicBezTo>
                  <a:pt x="6394" y="2324"/>
                  <a:pt x="6424" y="2346"/>
                  <a:pt x="6432" y="2379"/>
                </a:cubicBezTo>
                <a:lnTo>
                  <a:pt x="6446" y="2440"/>
                </a:lnTo>
                <a:lnTo>
                  <a:pt x="6316" y="2470"/>
                </a:lnTo>
                <a:lnTo>
                  <a:pt x="6302" y="2409"/>
                </a:lnTo>
                <a:lnTo>
                  <a:pt x="6433" y="2397"/>
                </a:lnTo>
                <a:lnTo>
                  <a:pt x="6413" y="2867"/>
                </a:lnTo>
                <a:lnTo>
                  <a:pt x="6280" y="2861"/>
                </a:lnTo>
                <a:close/>
                <a:moveTo>
                  <a:pt x="6534" y="2842"/>
                </a:moveTo>
                <a:lnTo>
                  <a:pt x="6565" y="3374"/>
                </a:lnTo>
                <a:lnTo>
                  <a:pt x="6432" y="3382"/>
                </a:lnTo>
                <a:lnTo>
                  <a:pt x="6401" y="2849"/>
                </a:lnTo>
                <a:lnTo>
                  <a:pt x="6534" y="2842"/>
                </a:lnTo>
                <a:close/>
                <a:moveTo>
                  <a:pt x="6588" y="3773"/>
                </a:moveTo>
                <a:lnTo>
                  <a:pt x="6617" y="4273"/>
                </a:lnTo>
                <a:lnTo>
                  <a:pt x="6618" y="4307"/>
                </a:lnTo>
                <a:lnTo>
                  <a:pt x="6485" y="4312"/>
                </a:lnTo>
                <a:lnTo>
                  <a:pt x="6484" y="4281"/>
                </a:lnTo>
                <a:lnTo>
                  <a:pt x="6455" y="3781"/>
                </a:lnTo>
                <a:lnTo>
                  <a:pt x="6588" y="3773"/>
                </a:lnTo>
                <a:close/>
                <a:moveTo>
                  <a:pt x="6633" y="4707"/>
                </a:moveTo>
                <a:lnTo>
                  <a:pt x="6653" y="5240"/>
                </a:lnTo>
                <a:lnTo>
                  <a:pt x="6519" y="5245"/>
                </a:lnTo>
                <a:lnTo>
                  <a:pt x="6500" y="4712"/>
                </a:lnTo>
                <a:lnTo>
                  <a:pt x="6633" y="4707"/>
                </a:lnTo>
                <a:close/>
                <a:moveTo>
                  <a:pt x="6668" y="5631"/>
                </a:moveTo>
                <a:lnTo>
                  <a:pt x="6758" y="6156"/>
                </a:lnTo>
                <a:lnTo>
                  <a:pt x="6627" y="6179"/>
                </a:lnTo>
                <a:lnTo>
                  <a:pt x="6537" y="5653"/>
                </a:lnTo>
                <a:lnTo>
                  <a:pt x="6668" y="5631"/>
                </a:lnTo>
                <a:close/>
                <a:moveTo>
                  <a:pt x="6780" y="5886"/>
                </a:moveTo>
                <a:lnTo>
                  <a:pt x="6785" y="5863"/>
                </a:lnTo>
                <a:cubicBezTo>
                  <a:pt x="6788" y="5851"/>
                  <a:pt x="6794" y="5839"/>
                  <a:pt x="6803" y="5830"/>
                </a:cubicBezTo>
                <a:lnTo>
                  <a:pt x="6903" y="5730"/>
                </a:lnTo>
                <a:cubicBezTo>
                  <a:pt x="6917" y="5716"/>
                  <a:pt x="6937" y="5709"/>
                  <a:pt x="6958" y="5711"/>
                </a:cubicBezTo>
                <a:cubicBezTo>
                  <a:pt x="6978" y="5713"/>
                  <a:pt x="6996" y="5725"/>
                  <a:pt x="7007" y="5742"/>
                </a:cubicBezTo>
                <a:lnTo>
                  <a:pt x="7090" y="5875"/>
                </a:lnTo>
                <a:cubicBezTo>
                  <a:pt x="7094" y="5881"/>
                  <a:pt x="7096" y="5888"/>
                  <a:pt x="7098" y="5894"/>
                </a:cubicBezTo>
                <a:lnTo>
                  <a:pt x="7148" y="6094"/>
                </a:lnTo>
                <a:lnTo>
                  <a:pt x="7131" y="6063"/>
                </a:lnTo>
                <a:lnTo>
                  <a:pt x="7134" y="6067"/>
                </a:lnTo>
                <a:lnTo>
                  <a:pt x="7040" y="6161"/>
                </a:lnTo>
                <a:lnTo>
                  <a:pt x="7036" y="6158"/>
                </a:lnTo>
                <a:cubicBezTo>
                  <a:pt x="7028" y="6149"/>
                  <a:pt x="7022" y="6138"/>
                  <a:pt x="7019" y="6127"/>
                </a:cubicBezTo>
                <a:lnTo>
                  <a:pt x="6969" y="5927"/>
                </a:lnTo>
                <a:lnTo>
                  <a:pt x="6977" y="5946"/>
                </a:lnTo>
                <a:lnTo>
                  <a:pt x="6894" y="5812"/>
                </a:lnTo>
                <a:lnTo>
                  <a:pt x="6997" y="5824"/>
                </a:lnTo>
                <a:lnTo>
                  <a:pt x="6897" y="5924"/>
                </a:lnTo>
                <a:lnTo>
                  <a:pt x="6915" y="5891"/>
                </a:lnTo>
                <a:lnTo>
                  <a:pt x="6910" y="5914"/>
                </a:lnTo>
                <a:lnTo>
                  <a:pt x="6780" y="5886"/>
                </a:lnTo>
                <a:close/>
                <a:moveTo>
                  <a:pt x="7236" y="5965"/>
                </a:moveTo>
                <a:lnTo>
                  <a:pt x="7268" y="5813"/>
                </a:lnTo>
                <a:cubicBezTo>
                  <a:pt x="7269" y="5808"/>
                  <a:pt x="7271" y="5802"/>
                  <a:pt x="7274" y="5797"/>
                </a:cubicBezTo>
                <a:lnTo>
                  <a:pt x="7374" y="5597"/>
                </a:lnTo>
                <a:lnTo>
                  <a:pt x="7450" y="5460"/>
                </a:lnTo>
                <a:lnTo>
                  <a:pt x="7567" y="5525"/>
                </a:lnTo>
                <a:lnTo>
                  <a:pt x="7493" y="5657"/>
                </a:lnTo>
                <a:lnTo>
                  <a:pt x="7393" y="5857"/>
                </a:lnTo>
                <a:lnTo>
                  <a:pt x="7399" y="5841"/>
                </a:lnTo>
                <a:lnTo>
                  <a:pt x="7366" y="5993"/>
                </a:lnTo>
                <a:lnTo>
                  <a:pt x="7236" y="5965"/>
                </a:lnTo>
                <a:close/>
                <a:moveTo>
                  <a:pt x="7767" y="5778"/>
                </a:moveTo>
                <a:lnTo>
                  <a:pt x="7776" y="5797"/>
                </a:lnTo>
                <a:lnTo>
                  <a:pt x="7653" y="5809"/>
                </a:lnTo>
                <a:lnTo>
                  <a:pt x="7753" y="5459"/>
                </a:lnTo>
                <a:lnTo>
                  <a:pt x="7777" y="5320"/>
                </a:lnTo>
                <a:lnTo>
                  <a:pt x="7908" y="5343"/>
                </a:lnTo>
                <a:lnTo>
                  <a:pt x="7881" y="5495"/>
                </a:lnTo>
                <a:lnTo>
                  <a:pt x="7781" y="5845"/>
                </a:lnTo>
                <a:cubicBezTo>
                  <a:pt x="7773" y="5872"/>
                  <a:pt x="7750" y="5891"/>
                  <a:pt x="7723" y="5894"/>
                </a:cubicBezTo>
                <a:cubicBezTo>
                  <a:pt x="7696" y="5896"/>
                  <a:pt x="7669" y="5882"/>
                  <a:pt x="7657" y="5857"/>
                </a:cubicBezTo>
                <a:lnTo>
                  <a:pt x="7648" y="5838"/>
                </a:lnTo>
                <a:lnTo>
                  <a:pt x="7767" y="5778"/>
                </a:lnTo>
                <a:close/>
                <a:moveTo>
                  <a:pt x="7846" y="4926"/>
                </a:moveTo>
                <a:lnTo>
                  <a:pt x="7851" y="4899"/>
                </a:lnTo>
                <a:lnTo>
                  <a:pt x="7884" y="4423"/>
                </a:lnTo>
                <a:cubicBezTo>
                  <a:pt x="7886" y="4390"/>
                  <a:pt x="7911" y="4364"/>
                  <a:pt x="7944" y="4361"/>
                </a:cubicBezTo>
                <a:cubicBezTo>
                  <a:pt x="7976" y="4358"/>
                  <a:pt x="8006" y="4379"/>
                  <a:pt x="8015" y="4410"/>
                </a:cubicBezTo>
                <a:lnTo>
                  <a:pt x="8020" y="4431"/>
                </a:lnTo>
                <a:lnTo>
                  <a:pt x="7891" y="4465"/>
                </a:lnTo>
                <a:lnTo>
                  <a:pt x="7886" y="4444"/>
                </a:lnTo>
                <a:lnTo>
                  <a:pt x="8017" y="4432"/>
                </a:lnTo>
                <a:lnTo>
                  <a:pt x="7982" y="4922"/>
                </a:lnTo>
                <a:lnTo>
                  <a:pt x="7978" y="4949"/>
                </a:lnTo>
                <a:lnTo>
                  <a:pt x="7846" y="4926"/>
                </a:lnTo>
                <a:close/>
                <a:moveTo>
                  <a:pt x="8118" y="4832"/>
                </a:moveTo>
                <a:lnTo>
                  <a:pt x="8152" y="5364"/>
                </a:lnTo>
                <a:lnTo>
                  <a:pt x="8019" y="5372"/>
                </a:lnTo>
                <a:lnTo>
                  <a:pt x="7985" y="4840"/>
                </a:lnTo>
                <a:lnTo>
                  <a:pt x="8118" y="4832"/>
                </a:lnTo>
                <a:close/>
                <a:moveTo>
                  <a:pt x="8177" y="5763"/>
                </a:moveTo>
                <a:lnTo>
                  <a:pt x="8211" y="6295"/>
                </a:lnTo>
                <a:lnTo>
                  <a:pt x="8078" y="6304"/>
                </a:lnTo>
                <a:lnTo>
                  <a:pt x="8044" y="5772"/>
                </a:lnTo>
                <a:lnTo>
                  <a:pt x="8177" y="5763"/>
                </a:lnTo>
                <a:close/>
                <a:moveTo>
                  <a:pt x="8223" y="6698"/>
                </a:moveTo>
                <a:lnTo>
                  <a:pt x="8234" y="7231"/>
                </a:lnTo>
                <a:lnTo>
                  <a:pt x="8100" y="7234"/>
                </a:lnTo>
                <a:lnTo>
                  <a:pt x="8090" y="6701"/>
                </a:lnTo>
                <a:lnTo>
                  <a:pt x="8223" y="6698"/>
                </a:lnTo>
                <a:close/>
                <a:moveTo>
                  <a:pt x="8242" y="7631"/>
                </a:moveTo>
                <a:lnTo>
                  <a:pt x="8253" y="8164"/>
                </a:lnTo>
                <a:lnTo>
                  <a:pt x="8119" y="8167"/>
                </a:lnTo>
                <a:lnTo>
                  <a:pt x="8109" y="7634"/>
                </a:lnTo>
                <a:lnTo>
                  <a:pt x="8242" y="7631"/>
                </a:lnTo>
                <a:close/>
                <a:moveTo>
                  <a:pt x="8261" y="8564"/>
                </a:moveTo>
                <a:lnTo>
                  <a:pt x="8267" y="8859"/>
                </a:lnTo>
                <a:lnTo>
                  <a:pt x="8277" y="9096"/>
                </a:lnTo>
                <a:lnTo>
                  <a:pt x="8144" y="9102"/>
                </a:lnTo>
                <a:lnTo>
                  <a:pt x="8133" y="8862"/>
                </a:lnTo>
                <a:lnTo>
                  <a:pt x="8128" y="8567"/>
                </a:lnTo>
                <a:lnTo>
                  <a:pt x="8261" y="8564"/>
                </a:lnTo>
                <a:close/>
                <a:moveTo>
                  <a:pt x="8295" y="9495"/>
                </a:moveTo>
                <a:lnTo>
                  <a:pt x="8318" y="10028"/>
                </a:lnTo>
                <a:lnTo>
                  <a:pt x="8185" y="10034"/>
                </a:lnTo>
                <a:lnTo>
                  <a:pt x="8162" y="9501"/>
                </a:lnTo>
                <a:lnTo>
                  <a:pt x="8295" y="9495"/>
                </a:lnTo>
                <a:close/>
                <a:moveTo>
                  <a:pt x="8336" y="10428"/>
                </a:moveTo>
                <a:lnTo>
                  <a:pt x="8360" y="10961"/>
                </a:lnTo>
                <a:lnTo>
                  <a:pt x="8226" y="10966"/>
                </a:lnTo>
                <a:lnTo>
                  <a:pt x="8203" y="10434"/>
                </a:lnTo>
                <a:lnTo>
                  <a:pt x="8336" y="10428"/>
                </a:lnTo>
                <a:close/>
                <a:moveTo>
                  <a:pt x="8392" y="11355"/>
                </a:moveTo>
                <a:lnTo>
                  <a:pt x="8450" y="11885"/>
                </a:lnTo>
                <a:lnTo>
                  <a:pt x="8317" y="11899"/>
                </a:lnTo>
                <a:lnTo>
                  <a:pt x="8259" y="11369"/>
                </a:lnTo>
                <a:lnTo>
                  <a:pt x="8392" y="11355"/>
                </a:lnTo>
                <a:close/>
                <a:moveTo>
                  <a:pt x="8333" y="11493"/>
                </a:moveTo>
                <a:lnTo>
                  <a:pt x="8354" y="10960"/>
                </a:lnTo>
                <a:lnTo>
                  <a:pt x="8487" y="10965"/>
                </a:lnTo>
                <a:lnTo>
                  <a:pt x="8466" y="11498"/>
                </a:lnTo>
                <a:lnTo>
                  <a:pt x="8333" y="11493"/>
                </a:lnTo>
                <a:close/>
                <a:moveTo>
                  <a:pt x="8370" y="10561"/>
                </a:moveTo>
                <a:lnTo>
                  <a:pt x="8390" y="10028"/>
                </a:lnTo>
                <a:lnTo>
                  <a:pt x="8523" y="10033"/>
                </a:lnTo>
                <a:lnTo>
                  <a:pt x="8503" y="10566"/>
                </a:lnTo>
                <a:lnTo>
                  <a:pt x="8370" y="10561"/>
                </a:lnTo>
                <a:close/>
                <a:moveTo>
                  <a:pt x="8404" y="9628"/>
                </a:moveTo>
                <a:lnTo>
                  <a:pt x="8424" y="9095"/>
                </a:lnTo>
                <a:lnTo>
                  <a:pt x="8557" y="9100"/>
                </a:lnTo>
                <a:lnTo>
                  <a:pt x="8538" y="9633"/>
                </a:lnTo>
                <a:lnTo>
                  <a:pt x="8404" y="9628"/>
                </a:lnTo>
                <a:close/>
                <a:moveTo>
                  <a:pt x="8439" y="8695"/>
                </a:moveTo>
                <a:lnTo>
                  <a:pt x="8459" y="8162"/>
                </a:lnTo>
                <a:lnTo>
                  <a:pt x="8592" y="8167"/>
                </a:lnTo>
                <a:lnTo>
                  <a:pt x="8572" y="8700"/>
                </a:lnTo>
                <a:lnTo>
                  <a:pt x="8439" y="8695"/>
                </a:lnTo>
                <a:close/>
                <a:moveTo>
                  <a:pt x="8474" y="7762"/>
                </a:moveTo>
                <a:lnTo>
                  <a:pt x="8494" y="7230"/>
                </a:lnTo>
                <a:lnTo>
                  <a:pt x="8627" y="7235"/>
                </a:lnTo>
                <a:lnTo>
                  <a:pt x="8607" y="7768"/>
                </a:lnTo>
                <a:lnTo>
                  <a:pt x="8474" y="7762"/>
                </a:lnTo>
                <a:close/>
                <a:moveTo>
                  <a:pt x="8510" y="6830"/>
                </a:moveTo>
                <a:lnTo>
                  <a:pt x="8530" y="6297"/>
                </a:lnTo>
                <a:lnTo>
                  <a:pt x="8663" y="6302"/>
                </a:lnTo>
                <a:lnTo>
                  <a:pt x="8643" y="6835"/>
                </a:lnTo>
                <a:lnTo>
                  <a:pt x="8510" y="6830"/>
                </a:lnTo>
                <a:close/>
                <a:moveTo>
                  <a:pt x="8545" y="5897"/>
                </a:moveTo>
                <a:lnTo>
                  <a:pt x="8566" y="5364"/>
                </a:lnTo>
                <a:lnTo>
                  <a:pt x="8699" y="5369"/>
                </a:lnTo>
                <a:lnTo>
                  <a:pt x="8679" y="5902"/>
                </a:lnTo>
                <a:lnTo>
                  <a:pt x="8545" y="5897"/>
                </a:lnTo>
                <a:close/>
                <a:moveTo>
                  <a:pt x="8582" y="4964"/>
                </a:moveTo>
                <a:lnTo>
                  <a:pt x="8603" y="4432"/>
                </a:lnTo>
                <a:lnTo>
                  <a:pt x="8736" y="4437"/>
                </a:lnTo>
                <a:lnTo>
                  <a:pt x="8715" y="4970"/>
                </a:lnTo>
                <a:lnTo>
                  <a:pt x="8582" y="4964"/>
                </a:lnTo>
                <a:close/>
                <a:moveTo>
                  <a:pt x="8763" y="4134"/>
                </a:moveTo>
                <a:lnTo>
                  <a:pt x="8848" y="4460"/>
                </a:lnTo>
                <a:cubicBezTo>
                  <a:pt x="8849" y="4465"/>
                  <a:pt x="8850" y="4469"/>
                  <a:pt x="8850" y="4473"/>
                </a:cubicBezTo>
                <a:lnTo>
                  <a:pt x="8862" y="4669"/>
                </a:lnTo>
                <a:lnTo>
                  <a:pt x="8729" y="4677"/>
                </a:lnTo>
                <a:lnTo>
                  <a:pt x="8717" y="4481"/>
                </a:lnTo>
                <a:lnTo>
                  <a:pt x="8719" y="4494"/>
                </a:lnTo>
                <a:lnTo>
                  <a:pt x="8634" y="4168"/>
                </a:lnTo>
                <a:lnTo>
                  <a:pt x="8763" y="4134"/>
                </a:lnTo>
                <a:close/>
                <a:moveTo>
                  <a:pt x="8885" y="5069"/>
                </a:moveTo>
                <a:lnTo>
                  <a:pt x="8917" y="5601"/>
                </a:lnTo>
                <a:lnTo>
                  <a:pt x="8784" y="5609"/>
                </a:lnTo>
                <a:lnTo>
                  <a:pt x="8752" y="5077"/>
                </a:lnTo>
                <a:lnTo>
                  <a:pt x="8885" y="5069"/>
                </a:lnTo>
                <a:close/>
                <a:moveTo>
                  <a:pt x="8939" y="6002"/>
                </a:moveTo>
                <a:lnTo>
                  <a:pt x="8960" y="6535"/>
                </a:lnTo>
                <a:lnTo>
                  <a:pt x="8827" y="6540"/>
                </a:lnTo>
                <a:lnTo>
                  <a:pt x="8805" y="6007"/>
                </a:lnTo>
                <a:lnTo>
                  <a:pt x="8939" y="6002"/>
                </a:lnTo>
                <a:close/>
                <a:moveTo>
                  <a:pt x="8976" y="6934"/>
                </a:moveTo>
                <a:lnTo>
                  <a:pt x="8983" y="7124"/>
                </a:lnTo>
                <a:lnTo>
                  <a:pt x="9034" y="7456"/>
                </a:lnTo>
                <a:lnTo>
                  <a:pt x="8902" y="7476"/>
                </a:lnTo>
                <a:lnTo>
                  <a:pt x="8850" y="7130"/>
                </a:lnTo>
                <a:lnTo>
                  <a:pt x="8843" y="6940"/>
                </a:lnTo>
                <a:lnTo>
                  <a:pt x="8976" y="6934"/>
                </a:lnTo>
                <a:close/>
                <a:moveTo>
                  <a:pt x="9096" y="7848"/>
                </a:moveTo>
                <a:lnTo>
                  <a:pt x="9182" y="8264"/>
                </a:lnTo>
                <a:cubicBezTo>
                  <a:pt x="9183" y="8267"/>
                  <a:pt x="9183" y="8270"/>
                  <a:pt x="9183" y="8274"/>
                </a:cubicBezTo>
                <a:lnTo>
                  <a:pt x="9189" y="8382"/>
                </a:lnTo>
                <a:lnTo>
                  <a:pt x="9056" y="8389"/>
                </a:lnTo>
                <a:lnTo>
                  <a:pt x="9050" y="8281"/>
                </a:lnTo>
                <a:lnTo>
                  <a:pt x="9052" y="8291"/>
                </a:lnTo>
                <a:lnTo>
                  <a:pt x="8965" y="7875"/>
                </a:lnTo>
                <a:lnTo>
                  <a:pt x="9096" y="7848"/>
                </a:lnTo>
                <a:close/>
                <a:moveTo>
                  <a:pt x="9210" y="8782"/>
                </a:moveTo>
                <a:lnTo>
                  <a:pt x="9233" y="9240"/>
                </a:lnTo>
                <a:lnTo>
                  <a:pt x="9238" y="9313"/>
                </a:lnTo>
                <a:lnTo>
                  <a:pt x="9105" y="9322"/>
                </a:lnTo>
                <a:lnTo>
                  <a:pt x="9100" y="9247"/>
                </a:lnTo>
                <a:lnTo>
                  <a:pt x="9076" y="8789"/>
                </a:lnTo>
                <a:lnTo>
                  <a:pt x="9210" y="8782"/>
                </a:lnTo>
                <a:close/>
                <a:moveTo>
                  <a:pt x="9265" y="9712"/>
                </a:moveTo>
                <a:lnTo>
                  <a:pt x="9301" y="10244"/>
                </a:lnTo>
                <a:lnTo>
                  <a:pt x="9168" y="10253"/>
                </a:lnTo>
                <a:lnTo>
                  <a:pt x="9132" y="9721"/>
                </a:lnTo>
                <a:lnTo>
                  <a:pt x="9265" y="9712"/>
                </a:lnTo>
                <a:close/>
                <a:moveTo>
                  <a:pt x="9328" y="10643"/>
                </a:moveTo>
                <a:lnTo>
                  <a:pt x="9333" y="10723"/>
                </a:lnTo>
                <a:lnTo>
                  <a:pt x="9377" y="11173"/>
                </a:lnTo>
                <a:lnTo>
                  <a:pt x="9244" y="11185"/>
                </a:lnTo>
                <a:lnTo>
                  <a:pt x="9200" y="10732"/>
                </a:lnTo>
                <a:lnTo>
                  <a:pt x="9195" y="10652"/>
                </a:lnTo>
                <a:lnTo>
                  <a:pt x="9328" y="10643"/>
                </a:lnTo>
                <a:close/>
                <a:moveTo>
                  <a:pt x="9415" y="11571"/>
                </a:moveTo>
                <a:lnTo>
                  <a:pt x="9416" y="11587"/>
                </a:lnTo>
                <a:lnTo>
                  <a:pt x="9284" y="11590"/>
                </a:lnTo>
                <a:lnTo>
                  <a:pt x="9311" y="11074"/>
                </a:lnTo>
                <a:lnTo>
                  <a:pt x="9444" y="11081"/>
                </a:lnTo>
                <a:lnTo>
                  <a:pt x="9417" y="11597"/>
                </a:lnTo>
                <a:cubicBezTo>
                  <a:pt x="9415" y="11632"/>
                  <a:pt x="9386" y="11660"/>
                  <a:pt x="9352" y="11660"/>
                </a:cubicBezTo>
                <a:cubicBezTo>
                  <a:pt x="9317" y="11661"/>
                  <a:pt x="9287" y="11635"/>
                  <a:pt x="9284" y="11600"/>
                </a:cubicBezTo>
                <a:lnTo>
                  <a:pt x="9282" y="11584"/>
                </a:lnTo>
                <a:lnTo>
                  <a:pt x="9415" y="11571"/>
                </a:lnTo>
                <a:close/>
                <a:moveTo>
                  <a:pt x="9332" y="10675"/>
                </a:moveTo>
                <a:lnTo>
                  <a:pt x="9334" y="10640"/>
                </a:lnTo>
                <a:lnTo>
                  <a:pt x="9349" y="10143"/>
                </a:lnTo>
                <a:lnTo>
                  <a:pt x="9482" y="10147"/>
                </a:lnTo>
                <a:lnTo>
                  <a:pt x="9467" y="10647"/>
                </a:lnTo>
                <a:lnTo>
                  <a:pt x="9465" y="10682"/>
                </a:lnTo>
                <a:lnTo>
                  <a:pt x="9332" y="10675"/>
                </a:lnTo>
                <a:close/>
                <a:moveTo>
                  <a:pt x="9362" y="9743"/>
                </a:moveTo>
                <a:lnTo>
                  <a:pt x="9378" y="9210"/>
                </a:lnTo>
                <a:lnTo>
                  <a:pt x="9512" y="9215"/>
                </a:lnTo>
                <a:lnTo>
                  <a:pt x="9495" y="9748"/>
                </a:lnTo>
                <a:lnTo>
                  <a:pt x="9362" y="9743"/>
                </a:lnTo>
                <a:close/>
                <a:moveTo>
                  <a:pt x="9391" y="8811"/>
                </a:moveTo>
                <a:lnTo>
                  <a:pt x="9408" y="8278"/>
                </a:lnTo>
                <a:lnTo>
                  <a:pt x="9541" y="8282"/>
                </a:lnTo>
                <a:lnTo>
                  <a:pt x="9524" y="8815"/>
                </a:lnTo>
                <a:lnTo>
                  <a:pt x="9391" y="8811"/>
                </a:lnTo>
                <a:close/>
                <a:moveTo>
                  <a:pt x="9420" y="7878"/>
                </a:moveTo>
                <a:lnTo>
                  <a:pt x="9434" y="7458"/>
                </a:lnTo>
                <a:lnTo>
                  <a:pt x="9436" y="7345"/>
                </a:lnTo>
                <a:lnTo>
                  <a:pt x="9570" y="7348"/>
                </a:lnTo>
                <a:lnTo>
                  <a:pt x="9567" y="7463"/>
                </a:lnTo>
                <a:lnTo>
                  <a:pt x="9554" y="7882"/>
                </a:lnTo>
                <a:lnTo>
                  <a:pt x="9420" y="7878"/>
                </a:lnTo>
                <a:close/>
                <a:moveTo>
                  <a:pt x="9446" y="6945"/>
                </a:moveTo>
                <a:lnTo>
                  <a:pt x="9460" y="6412"/>
                </a:lnTo>
                <a:lnTo>
                  <a:pt x="9593" y="6415"/>
                </a:lnTo>
                <a:lnTo>
                  <a:pt x="9580" y="6949"/>
                </a:lnTo>
                <a:lnTo>
                  <a:pt x="9446" y="6945"/>
                </a:lnTo>
                <a:close/>
                <a:moveTo>
                  <a:pt x="9470" y="6012"/>
                </a:moveTo>
                <a:lnTo>
                  <a:pt x="9483" y="5479"/>
                </a:lnTo>
                <a:lnTo>
                  <a:pt x="9616" y="5482"/>
                </a:lnTo>
                <a:lnTo>
                  <a:pt x="9603" y="6015"/>
                </a:lnTo>
                <a:lnTo>
                  <a:pt x="9470" y="6012"/>
                </a:lnTo>
                <a:close/>
                <a:moveTo>
                  <a:pt x="9493" y="5079"/>
                </a:moveTo>
                <a:lnTo>
                  <a:pt x="9506" y="4546"/>
                </a:lnTo>
                <a:lnTo>
                  <a:pt x="9640" y="4549"/>
                </a:lnTo>
                <a:lnTo>
                  <a:pt x="9626" y="5082"/>
                </a:lnTo>
                <a:lnTo>
                  <a:pt x="9493" y="5079"/>
                </a:lnTo>
                <a:close/>
                <a:moveTo>
                  <a:pt x="9516" y="4146"/>
                </a:moveTo>
                <a:lnTo>
                  <a:pt x="9530" y="3613"/>
                </a:lnTo>
                <a:lnTo>
                  <a:pt x="9663" y="3616"/>
                </a:lnTo>
                <a:lnTo>
                  <a:pt x="9650" y="4149"/>
                </a:lnTo>
                <a:lnTo>
                  <a:pt x="9516" y="4146"/>
                </a:lnTo>
                <a:close/>
                <a:moveTo>
                  <a:pt x="9538" y="3213"/>
                </a:moveTo>
                <a:lnTo>
                  <a:pt x="9549" y="2680"/>
                </a:lnTo>
                <a:lnTo>
                  <a:pt x="9682" y="2683"/>
                </a:lnTo>
                <a:lnTo>
                  <a:pt x="9672" y="3216"/>
                </a:lnTo>
                <a:lnTo>
                  <a:pt x="9538" y="3213"/>
                </a:lnTo>
                <a:close/>
                <a:moveTo>
                  <a:pt x="9557" y="2280"/>
                </a:moveTo>
                <a:lnTo>
                  <a:pt x="9568" y="1747"/>
                </a:lnTo>
                <a:lnTo>
                  <a:pt x="9701" y="1750"/>
                </a:lnTo>
                <a:lnTo>
                  <a:pt x="9690" y="2283"/>
                </a:lnTo>
                <a:lnTo>
                  <a:pt x="9557" y="2280"/>
                </a:lnTo>
                <a:close/>
                <a:moveTo>
                  <a:pt x="9576" y="1347"/>
                </a:moveTo>
                <a:lnTo>
                  <a:pt x="9583" y="959"/>
                </a:lnTo>
                <a:cubicBezTo>
                  <a:pt x="9584" y="925"/>
                  <a:pt x="9611" y="896"/>
                  <a:pt x="9646" y="894"/>
                </a:cubicBezTo>
                <a:cubicBezTo>
                  <a:pt x="9680" y="892"/>
                  <a:pt x="9711" y="916"/>
                  <a:pt x="9716" y="951"/>
                </a:cubicBezTo>
                <a:lnTo>
                  <a:pt x="9738" y="1094"/>
                </a:lnTo>
                <a:lnTo>
                  <a:pt x="9606" y="1114"/>
                </a:lnTo>
                <a:lnTo>
                  <a:pt x="9584" y="970"/>
                </a:lnTo>
                <a:lnTo>
                  <a:pt x="9717" y="962"/>
                </a:lnTo>
                <a:lnTo>
                  <a:pt x="9709" y="1350"/>
                </a:lnTo>
                <a:lnTo>
                  <a:pt x="9576" y="1347"/>
                </a:lnTo>
                <a:close/>
                <a:moveTo>
                  <a:pt x="9797" y="1490"/>
                </a:moveTo>
                <a:lnTo>
                  <a:pt x="9816" y="1617"/>
                </a:lnTo>
                <a:lnTo>
                  <a:pt x="9827" y="2030"/>
                </a:lnTo>
                <a:lnTo>
                  <a:pt x="9694" y="2033"/>
                </a:lnTo>
                <a:lnTo>
                  <a:pt x="9684" y="1637"/>
                </a:lnTo>
                <a:lnTo>
                  <a:pt x="9665" y="1510"/>
                </a:lnTo>
                <a:lnTo>
                  <a:pt x="9797" y="1490"/>
                </a:lnTo>
                <a:close/>
                <a:moveTo>
                  <a:pt x="9837" y="2430"/>
                </a:moveTo>
                <a:lnTo>
                  <a:pt x="9850" y="2963"/>
                </a:lnTo>
                <a:lnTo>
                  <a:pt x="9717" y="2966"/>
                </a:lnTo>
                <a:lnTo>
                  <a:pt x="9704" y="2433"/>
                </a:lnTo>
                <a:lnTo>
                  <a:pt x="9837" y="2430"/>
                </a:lnTo>
                <a:close/>
                <a:moveTo>
                  <a:pt x="9860" y="3363"/>
                </a:moveTo>
                <a:lnTo>
                  <a:pt x="9874" y="3896"/>
                </a:lnTo>
                <a:lnTo>
                  <a:pt x="9740" y="3899"/>
                </a:lnTo>
                <a:lnTo>
                  <a:pt x="9727" y="3366"/>
                </a:lnTo>
                <a:lnTo>
                  <a:pt x="9860" y="3363"/>
                </a:lnTo>
                <a:close/>
                <a:moveTo>
                  <a:pt x="9884" y="4296"/>
                </a:moveTo>
                <a:lnTo>
                  <a:pt x="9897" y="4829"/>
                </a:lnTo>
                <a:lnTo>
                  <a:pt x="9764" y="4832"/>
                </a:lnTo>
                <a:lnTo>
                  <a:pt x="9750" y="4299"/>
                </a:lnTo>
                <a:lnTo>
                  <a:pt x="9884" y="4296"/>
                </a:lnTo>
                <a:close/>
                <a:moveTo>
                  <a:pt x="9904" y="5230"/>
                </a:moveTo>
                <a:lnTo>
                  <a:pt x="9911" y="5763"/>
                </a:lnTo>
                <a:lnTo>
                  <a:pt x="9778" y="5765"/>
                </a:lnTo>
                <a:lnTo>
                  <a:pt x="9771" y="5232"/>
                </a:lnTo>
                <a:lnTo>
                  <a:pt x="9904" y="5230"/>
                </a:lnTo>
                <a:close/>
                <a:moveTo>
                  <a:pt x="9917" y="6163"/>
                </a:moveTo>
                <a:lnTo>
                  <a:pt x="9924" y="6696"/>
                </a:lnTo>
                <a:lnTo>
                  <a:pt x="9791" y="6698"/>
                </a:lnTo>
                <a:lnTo>
                  <a:pt x="9783" y="6165"/>
                </a:lnTo>
                <a:lnTo>
                  <a:pt x="9917" y="6163"/>
                </a:lnTo>
                <a:close/>
                <a:moveTo>
                  <a:pt x="9929" y="7096"/>
                </a:moveTo>
                <a:lnTo>
                  <a:pt x="9937" y="7629"/>
                </a:lnTo>
                <a:lnTo>
                  <a:pt x="9803" y="7631"/>
                </a:lnTo>
                <a:lnTo>
                  <a:pt x="9796" y="7098"/>
                </a:lnTo>
                <a:lnTo>
                  <a:pt x="9929" y="7096"/>
                </a:lnTo>
                <a:close/>
                <a:moveTo>
                  <a:pt x="9942" y="8029"/>
                </a:moveTo>
                <a:lnTo>
                  <a:pt x="9949" y="8563"/>
                </a:lnTo>
                <a:lnTo>
                  <a:pt x="9816" y="8565"/>
                </a:lnTo>
                <a:lnTo>
                  <a:pt x="9809" y="8031"/>
                </a:lnTo>
                <a:lnTo>
                  <a:pt x="9942" y="8029"/>
                </a:lnTo>
                <a:close/>
                <a:moveTo>
                  <a:pt x="9974" y="8958"/>
                </a:moveTo>
                <a:lnTo>
                  <a:pt x="10011" y="9490"/>
                </a:lnTo>
                <a:lnTo>
                  <a:pt x="9878" y="9499"/>
                </a:lnTo>
                <a:lnTo>
                  <a:pt x="9841" y="8967"/>
                </a:lnTo>
                <a:lnTo>
                  <a:pt x="9974" y="8958"/>
                </a:lnTo>
                <a:close/>
                <a:moveTo>
                  <a:pt x="10038" y="9889"/>
                </a:moveTo>
                <a:lnTo>
                  <a:pt x="10050" y="10056"/>
                </a:lnTo>
                <a:lnTo>
                  <a:pt x="9917" y="10056"/>
                </a:lnTo>
                <a:lnTo>
                  <a:pt x="9939" y="9691"/>
                </a:lnTo>
                <a:lnTo>
                  <a:pt x="10072" y="9699"/>
                </a:lnTo>
                <a:lnTo>
                  <a:pt x="10050" y="10065"/>
                </a:lnTo>
                <a:cubicBezTo>
                  <a:pt x="10048" y="10100"/>
                  <a:pt x="10019" y="10127"/>
                  <a:pt x="9984" y="10127"/>
                </a:cubicBezTo>
                <a:cubicBezTo>
                  <a:pt x="9949" y="10127"/>
                  <a:pt x="9919" y="10100"/>
                  <a:pt x="9917" y="10065"/>
                </a:cubicBezTo>
                <a:lnTo>
                  <a:pt x="9905" y="9899"/>
                </a:lnTo>
                <a:lnTo>
                  <a:pt x="10038" y="9889"/>
                </a:lnTo>
                <a:close/>
                <a:moveTo>
                  <a:pt x="9964" y="9291"/>
                </a:moveTo>
                <a:lnTo>
                  <a:pt x="9996" y="8759"/>
                </a:lnTo>
                <a:lnTo>
                  <a:pt x="10129" y="8767"/>
                </a:lnTo>
                <a:lnTo>
                  <a:pt x="10097" y="9300"/>
                </a:lnTo>
                <a:lnTo>
                  <a:pt x="9964" y="9291"/>
                </a:lnTo>
                <a:close/>
                <a:moveTo>
                  <a:pt x="10018" y="8363"/>
                </a:moveTo>
                <a:lnTo>
                  <a:pt x="10025" y="7830"/>
                </a:lnTo>
                <a:lnTo>
                  <a:pt x="10159" y="7831"/>
                </a:lnTo>
                <a:lnTo>
                  <a:pt x="10151" y="8365"/>
                </a:lnTo>
                <a:lnTo>
                  <a:pt x="10018" y="8363"/>
                </a:lnTo>
                <a:close/>
                <a:moveTo>
                  <a:pt x="10031" y="7430"/>
                </a:moveTo>
                <a:lnTo>
                  <a:pt x="10039" y="6896"/>
                </a:lnTo>
                <a:lnTo>
                  <a:pt x="10172" y="6898"/>
                </a:lnTo>
                <a:lnTo>
                  <a:pt x="10164" y="7432"/>
                </a:lnTo>
                <a:lnTo>
                  <a:pt x="10031" y="7430"/>
                </a:lnTo>
                <a:close/>
                <a:moveTo>
                  <a:pt x="10045" y="6496"/>
                </a:moveTo>
                <a:lnTo>
                  <a:pt x="10052" y="5963"/>
                </a:lnTo>
                <a:lnTo>
                  <a:pt x="10186" y="5965"/>
                </a:lnTo>
                <a:lnTo>
                  <a:pt x="10178" y="6498"/>
                </a:lnTo>
                <a:lnTo>
                  <a:pt x="10045" y="6496"/>
                </a:lnTo>
                <a:close/>
                <a:moveTo>
                  <a:pt x="10058" y="5563"/>
                </a:moveTo>
                <a:lnTo>
                  <a:pt x="10066" y="5030"/>
                </a:lnTo>
                <a:lnTo>
                  <a:pt x="10199" y="5032"/>
                </a:lnTo>
                <a:lnTo>
                  <a:pt x="10191" y="5565"/>
                </a:lnTo>
                <a:lnTo>
                  <a:pt x="10058" y="5563"/>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391000" y="3956040"/>
            <a:ext cx="919440" cy="579600"/>
          </a:xfrm>
          <a:custGeom>
            <a:avLst/>
            <a:gdLst/>
            <a:ahLst/>
            <a:rect l="l" t="t" r="r" b="b"/>
            <a:pathLst>
              <a:path w="4242" h="2656">
                <a:moveTo>
                  <a:pt x="0" y="1753"/>
                </a:moveTo>
                <a:lnTo>
                  <a:pt x="9" y="1487"/>
                </a:lnTo>
                <a:lnTo>
                  <a:pt x="76" y="1489"/>
                </a:lnTo>
                <a:lnTo>
                  <a:pt x="67" y="1756"/>
                </a:lnTo>
                <a:lnTo>
                  <a:pt x="0" y="1753"/>
                </a:lnTo>
                <a:close/>
                <a:moveTo>
                  <a:pt x="16" y="1287"/>
                </a:moveTo>
                <a:lnTo>
                  <a:pt x="25" y="1020"/>
                </a:lnTo>
                <a:lnTo>
                  <a:pt x="92" y="1023"/>
                </a:lnTo>
                <a:lnTo>
                  <a:pt x="83" y="1289"/>
                </a:lnTo>
                <a:lnTo>
                  <a:pt x="16" y="1287"/>
                </a:lnTo>
                <a:close/>
                <a:moveTo>
                  <a:pt x="32" y="821"/>
                </a:moveTo>
                <a:lnTo>
                  <a:pt x="42" y="554"/>
                </a:lnTo>
                <a:lnTo>
                  <a:pt x="108" y="556"/>
                </a:lnTo>
                <a:lnTo>
                  <a:pt x="99" y="823"/>
                </a:lnTo>
                <a:lnTo>
                  <a:pt x="32" y="821"/>
                </a:lnTo>
                <a:close/>
                <a:moveTo>
                  <a:pt x="48" y="354"/>
                </a:moveTo>
                <a:lnTo>
                  <a:pt x="50" y="303"/>
                </a:lnTo>
                <a:lnTo>
                  <a:pt x="75" y="86"/>
                </a:lnTo>
                <a:lnTo>
                  <a:pt x="142" y="94"/>
                </a:lnTo>
                <a:lnTo>
                  <a:pt x="117" y="306"/>
                </a:lnTo>
                <a:lnTo>
                  <a:pt x="115" y="356"/>
                </a:lnTo>
                <a:lnTo>
                  <a:pt x="48" y="354"/>
                </a:lnTo>
                <a:close/>
                <a:moveTo>
                  <a:pt x="161" y="0"/>
                </a:moveTo>
                <a:lnTo>
                  <a:pt x="171" y="266"/>
                </a:lnTo>
                <a:lnTo>
                  <a:pt x="104" y="269"/>
                </a:lnTo>
                <a:lnTo>
                  <a:pt x="94" y="2"/>
                </a:lnTo>
                <a:lnTo>
                  <a:pt x="161" y="0"/>
                </a:lnTo>
                <a:close/>
                <a:moveTo>
                  <a:pt x="178" y="466"/>
                </a:moveTo>
                <a:lnTo>
                  <a:pt x="183" y="595"/>
                </a:lnTo>
                <a:lnTo>
                  <a:pt x="191" y="732"/>
                </a:lnTo>
                <a:lnTo>
                  <a:pt x="124" y="736"/>
                </a:lnTo>
                <a:lnTo>
                  <a:pt x="117" y="597"/>
                </a:lnTo>
                <a:lnTo>
                  <a:pt x="112" y="469"/>
                </a:lnTo>
                <a:lnTo>
                  <a:pt x="178" y="466"/>
                </a:lnTo>
                <a:close/>
                <a:moveTo>
                  <a:pt x="201" y="932"/>
                </a:moveTo>
                <a:lnTo>
                  <a:pt x="215" y="1198"/>
                </a:lnTo>
                <a:lnTo>
                  <a:pt x="149" y="1202"/>
                </a:lnTo>
                <a:lnTo>
                  <a:pt x="135" y="935"/>
                </a:lnTo>
                <a:lnTo>
                  <a:pt x="201" y="932"/>
                </a:lnTo>
                <a:close/>
                <a:moveTo>
                  <a:pt x="226" y="1398"/>
                </a:moveTo>
                <a:lnTo>
                  <a:pt x="233" y="1536"/>
                </a:lnTo>
                <a:lnTo>
                  <a:pt x="246" y="1662"/>
                </a:lnTo>
                <a:lnTo>
                  <a:pt x="180" y="1669"/>
                </a:lnTo>
                <a:lnTo>
                  <a:pt x="167" y="1540"/>
                </a:lnTo>
                <a:lnTo>
                  <a:pt x="160" y="1401"/>
                </a:lnTo>
                <a:lnTo>
                  <a:pt x="226" y="1398"/>
                </a:lnTo>
                <a:close/>
                <a:moveTo>
                  <a:pt x="266" y="1861"/>
                </a:moveTo>
                <a:lnTo>
                  <a:pt x="283" y="2034"/>
                </a:lnTo>
                <a:lnTo>
                  <a:pt x="218" y="2029"/>
                </a:lnTo>
                <a:lnTo>
                  <a:pt x="242" y="1940"/>
                </a:lnTo>
                <a:lnTo>
                  <a:pt x="307" y="1957"/>
                </a:lnTo>
                <a:lnTo>
                  <a:pt x="282" y="2047"/>
                </a:lnTo>
                <a:cubicBezTo>
                  <a:pt x="278" y="2062"/>
                  <a:pt x="263" y="2072"/>
                  <a:pt x="247" y="2071"/>
                </a:cubicBezTo>
                <a:cubicBezTo>
                  <a:pt x="231" y="2070"/>
                  <a:pt x="219" y="2057"/>
                  <a:pt x="217" y="2041"/>
                </a:cubicBezTo>
                <a:lnTo>
                  <a:pt x="200" y="1868"/>
                </a:lnTo>
                <a:lnTo>
                  <a:pt x="266" y="1861"/>
                </a:lnTo>
                <a:close/>
                <a:moveTo>
                  <a:pt x="261" y="1746"/>
                </a:moveTo>
                <a:lnTo>
                  <a:pt x="284" y="1510"/>
                </a:lnTo>
                <a:lnTo>
                  <a:pt x="289" y="1479"/>
                </a:lnTo>
                <a:lnTo>
                  <a:pt x="355" y="1490"/>
                </a:lnTo>
                <a:lnTo>
                  <a:pt x="350" y="1516"/>
                </a:lnTo>
                <a:lnTo>
                  <a:pt x="327" y="1753"/>
                </a:lnTo>
                <a:lnTo>
                  <a:pt x="261" y="1746"/>
                </a:lnTo>
                <a:close/>
                <a:moveTo>
                  <a:pt x="323" y="1282"/>
                </a:moveTo>
                <a:lnTo>
                  <a:pt x="334" y="1216"/>
                </a:lnTo>
                <a:cubicBezTo>
                  <a:pt x="336" y="1203"/>
                  <a:pt x="345" y="1193"/>
                  <a:pt x="357" y="1189"/>
                </a:cubicBezTo>
                <a:cubicBezTo>
                  <a:pt x="369" y="1186"/>
                  <a:pt x="382" y="1189"/>
                  <a:pt x="390" y="1198"/>
                </a:cubicBezTo>
                <a:lnTo>
                  <a:pt x="415" y="1223"/>
                </a:lnTo>
                <a:cubicBezTo>
                  <a:pt x="420" y="1227"/>
                  <a:pt x="423" y="1233"/>
                  <a:pt x="424" y="1239"/>
                </a:cubicBezTo>
                <a:lnTo>
                  <a:pt x="458" y="1400"/>
                </a:lnTo>
                <a:lnTo>
                  <a:pt x="392" y="1414"/>
                </a:lnTo>
                <a:lnTo>
                  <a:pt x="359" y="1253"/>
                </a:lnTo>
                <a:lnTo>
                  <a:pt x="368" y="1270"/>
                </a:lnTo>
                <a:lnTo>
                  <a:pt x="343" y="1245"/>
                </a:lnTo>
                <a:lnTo>
                  <a:pt x="400" y="1227"/>
                </a:lnTo>
                <a:lnTo>
                  <a:pt x="388" y="1293"/>
                </a:lnTo>
                <a:lnTo>
                  <a:pt x="323" y="1282"/>
                </a:lnTo>
                <a:close/>
                <a:moveTo>
                  <a:pt x="496" y="1597"/>
                </a:moveTo>
                <a:lnTo>
                  <a:pt x="525" y="1748"/>
                </a:lnTo>
                <a:lnTo>
                  <a:pt x="544" y="1860"/>
                </a:lnTo>
                <a:lnTo>
                  <a:pt x="479" y="1871"/>
                </a:lnTo>
                <a:lnTo>
                  <a:pt x="459" y="1761"/>
                </a:lnTo>
                <a:lnTo>
                  <a:pt x="431" y="1609"/>
                </a:lnTo>
                <a:lnTo>
                  <a:pt x="496" y="1597"/>
                </a:lnTo>
                <a:close/>
                <a:moveTo>
                  <a:pt x="612" y="2042"/>
                </a:moveTo>
                <a:lnTo>
                  <a:pt x="616" y="2054"/>
                </a:lnTo>
                <a:lnTo>
                  <a:pt x="613" y="2048"/>
                </a:lnTo>
                <a:lnTo>
                  <a:pt x="663" y="2148"/>
                </a:lnTo>
                <a:lnTo>
                  <a:pt x="713" y="2239"/>
                </a:lnTo>
                <a:cubicBezTo>
                  <a:pt x="714" y="2240"/>
                  <a:pt x="714" y="2242"/>
                  <a:pt x="715" y="2244"/>
                </a:cubicBezTo>
                <a:lnTo>
                  <a:pt x="727" y="2280"/>
                </a:lnTo>
                <a:lnTo>
                  <a:pt x="664" y="2302"/>
                </a:lnTo>
                <a:lnTo>
                  <a:pt x="652" y="2265"/>
                </a:lnTo>
                <a:lnTo>
                  <a:pt x="654" y="2270"/>
                </a:lnTo>
                <a:lnTo>
                  <a:pt x="604" y="2178"/>
                </a:lnTo>
                <a:lnTo>
                  <a:pt x="554" y="2078"/>
                </a:lnTo>
                <a:cubicBezTo>
                  <a:pt x="553" y="2076"/>
                  <a:pt x="552" y="2074"/>
                  <a:pt x="551" y="2072"/>
                </a:cubicBezTo>
                <a:lnTo>
                  <a:pt x="548" y="2060"/>
                </a:lnTo>
                <a:lnTo>
                  <a:pt x="612" y="2042"/>
                </a:lnTo>
                <a:close/>
                <a:moveTo>
                  <a:pt x="823" y="2446"/>
                </a:moveTo>
                <a:lnTo>
                  <a:pt x="828" y="2453"/>
                </a:lnTo>
                <a:cubicBezTo>
                  <a:pt x="830" y="2456"/>
                  <a:pt x="831" y="2458"/>
                  <a:pt x="832" y="2461"/>
                </a:cubicBezTo>
                <a:lnTo>
                  <a:pt x="857" y="2536"/>
                </a:lnTo>
                <a:lnTo>
                  <a:pt x="802" y="2523"/>
                </a:lnTo>
                <a:lnTo>
                  <a:pt x="852" y="2473"/>
                </a:lnTo>
                <a:lnTo>
                  <a:pt x="843" y="2488"/>
                </a:lnTo>
                <a:lnTo>
                  <a:pt x="870" y="2384"/>
                </a:lnTo>
                <a:lnTo>
                  <a:pt x="935" y="2400"/>
                </a:lnTo>
                <a:lnTo>
                  <a:pt x="907" y="2505"/>
                </a:lnTo>
                <a:cubicBezTo>
                  <a:pt x="906" y="2510"/>
                  <a:pt x="903" y="2516"/>
                  <a:pt x="899" y="2520"/>
                </a:cubicBezTo>
                <a:lnTo>
                  <a:pt x="849" y="2570"/>
                </a:lnTo>
                <a:cubicBezTo>
                  <a:pt x="841" y="2578"/>
                  <a:pt x="829" y="2581"/>
                  <a:pt x="817" y="2579"/>
                </a:cubicBezTo>
                <a:cubicBezTo>
                  <a:pt x="806" y="2576"/>
                  <a:pt x="797" y="2568"/>
                  <a:pt x="794" y="2557"/>
                </a:cubicBezTo>
                <a:lnTo>
                  <a:pt x="769" y="2482"/>
                </a:lnTo>
                <a:lnTo>
                  <a:pt x="772" y="2489"/>
                </a:lnTo>
                <a:lnTo>
                  <a:pt x="767" y="2481"/>
                </a:lnTo>
                <a:lnTo>
                  <a:pt x="823" y="2446"/>
                </a:lnTo>
                <a:close/>
                <a:moveTo>
                  <a:pt x="905" y="2192"/>
                </a:moveTo>
                <a:lnTo>
                  <a:pt x="917" y="2084"/>
                </a:lnTo>
                <a:cubicBezTo>
                  <a:pt x="917" y="2081"/>
                  <a:pt x="918" y="2078"/>
                  <a:pt x="919" y="2075"/>
                </a:cubicBezTo>
                <a:lnTo>
                  <a:pt x="969" y="1958"/>
                </a:lnTo>
                <a:cubicBezTo>
                  <a:pt x="974" y="1948"/>
                  <a:pt x="983" y="1940"/>
                  <a:pt x="994" y="1938"/>
                </a:cubicBezTo>
                <a:cubicBezTo>
                  <a:pt x="1005" y="1936"/>
                  <a:pt x="1016" y="1940"/>
                  <a:pt x="1024" y="1948"/>
                </a:cubicBezTo>
                <a:lnTo>
                  <a:pt x="1046" y="1970"/>
                </a:lnTo>
                <a:lnTo>
                  <a:pt x="999" y="2017"/>
                </a:lnTo>
                <a:lnTo>
                  <a:pt x="977" y="1995"/>
                </a:lnTo>
                <a:lnTo>
                  <a:pt x="1031" y="1984"/>
                </a:lnTo>
                <a:lnTo>
                  <a:pt x="981" y="2101"/>
                </a:lnTo>
                <a:lnTo>
                  <a:pt x="983" y="2092"/>
                </a:lnTo>
                <a:lnTo>
                  <a:pt x="971" y="2200"/>
                </a:lnTo>
                <a:lnTo>
                  <a:pt x="905" y="2192"/>
                </a:lnTo>
                <a:close/>
                <a:moveTo>
                  <a:pt x="1095" y="2180"/>
                </a:moveTo>
                <a:lnTo>
                  <a:pt x="1100" y="2226"/>
                </a:lnTo>
                <a:lnTo>
                  <a:pt x="1149" y="2437"/>
                </a:lnTo>
                <a:lnTo>
                  <a:pt x="1084" y="2452"/>
                </a:lnTo>
                <a:lnTo>
                  <a:pt x="1034" y="2233"/>
                </a:lnTo>
                <a:lnTo>
                  <a:pt x="1028" y="2188"/>
                </a:lnTo>
                <a:lnTo>
                  <a:pt x="1095" y="2180"/>
                </a:lnTo>
                <a:close/>
                <a:moveTo>
                  <a:pt x="1171" y="2456"/>
                </a:moveTo>
                <a:lnTo>
                  <a:pt x="1210" y="2343"/>
                </a:lnTo>
                <a:cubicBezTo>
                  <a:pt x="1211" y="2342"/>
                  <a:pt x="1212" y="2340"/>
                  <a:pt x="1213" y="2338"/>
                </a:cubicBezTo>
                <a:lnTo>
                  <a:pt x="1254" y="2263"/>
                </a:lnTo>
                <a:cubicBezTo>
                  <a:pt x="1260" y="2252"/>
                  <a:pt x="1272" y="2246"/>
                  <a:pt x="1284" y="2246"/>
                </a:cubicBezTo>
                <a:cubicBezTo>
                  <a:pt x="1297" y="2246"/>
                  <a:pt x="1308" y="2254"/>
                  <a:pt x="1313" y="2265"/>
                </a:cubicBezTo>
                <a:lnTo>
                  <a:pt x="1338" y="2315"/>
                </a:lnTo>
                <a:lnTo>
                  <a:pt x="1341" y="2321"/>
                </a:lnTo>
                <a:lnTo>
                  <a:pt x="1280" y="2348"/>
                </a:lnTo>
                <a:lnTo>
                  <a:pt x="1279" y="2344"/>
                </a:lnTo>
                <a:lnTo>
                  <a:pt x="1254" y="2294"/>
                </a:lnTo>
                <a:lnTo>
                  <a:pt x="1313" y="2296"/>
                </a:lnTo>
                <a:lnTo>
                  <a:pt x="1271" y="2371"/>
                </a:lnTo>
                <a:lnTo>
                  <a:pt x="1273" y="2366"/>
                </a:lnTo>
                <a:lnTo>
                  <a:pt x="1233" y="2478"/>
                </a:lnTo>
                <a:lnTo>
                  <a:pt x="1171" y="2456"/>
                </a:lnTo>
                <a:close/>
                <a:moveTo>
                  <a:pt x="1378" y="2480"/>
                </a:moveTo>
                <a:lnTo>
                  <a:pt x="1401" y="2396"/>
                </a:lnTo>
                <a:lnTo>
                  <a:pt x="1435" y="2222"/>
                </a:lnTo>
                <a:lnTo>
                  <a:pt x="1500" y="2235"/>
                </a:lnTo>
                <a:lnTo>
                  <a:pt x="1466" y="2413"/>
                </a:lnTo>
                <a:lnTo>
                  <a:pt x="1443" y="2497"/>
                </a:lnTo>
                <a:lnTo>
                  <a:pt x="1378" y="2480"/>
                </a:lnTo>
                <a:close/>
                <a:moveTo>
                  <a:pt x="1472" y="2026"/>
                </a:moveTo>
                <a:lnTo>
                  <a:pt x="1492" y="1915"/>
                </a:lnTo>
                <a:lnTo>
                  <a:pt x="1518" y="1813"/>
                </a:lnTo>
                <a:cubicBezTo>
                  <a:pt x="1521" y="1800"/>
                  <a:pt x="1533" y="1790"/>
                  <a:pt x="1546" y="1788"/>
                </a:cubicBezTo>
                <a:cubicBezTo>
                  <a:pt x="1560" y="1786"/>
                  <a:pt x="1574" y="1794"/>
                  <a:pt x="1580" y="1806"/>
                </a:cubicBezTo>
                <a:lnTo>
                  <a:pt x="1603" y="1852"/>
                </a:lnTo>
                <a:lnTo>
                  <a:pt x="1543" y="1882"/>
                </a:lnTo>
                <a:lnTo>
                  <a:pt x="1520" y="1836"/>
                </a:lnTo>
                <a:lnTo>
                  <a:pt x="1582" y="1829"/>
                </a:lnTo>
                <a:lnTo>
                  <a:pt x="1558" y="1927"/>
                </a:lnTo>
                <a:lnTo>
                  <a:pt x="1537" y="2038"/>
                </a:lnTo>
                <a:lnTo>
                  <a:pt x="1472" y="2026"/>
                </a:lnTo>
                <a:close/>
                <a:moveTo>
                  <a:pt x="1661" y="2051"/>
                </a:moveTo>
                <a:lnTo>
                  <a:pt x="1683" y="2156"/>
                </a:lnTo>
                <a:lnTo>
                  <a:pt x="1700" y="2318"/>
                </a:lnTo>
                <a:lnTo>
                  <a:pt x="1633" y="2325"/>
                </a:lnTo>
                <a:lnTo>
                  <a:pt x="1617" y="2170"/>
                </a:lnTo>
                <a:lnTo>
                  <a:pt x="1596" y="2064"/>
                </a:lnTo>
                <a:lnTo>
                  <a:pt x="1661" y="2051"/>
                </a:lnTo>
                <a:close/>
                <a:moveTo>
                  <a:pt x="1746" y="2503"/>
                </a:moveTo>
                <a:lnTo>
                  <a:pt x="1748" y="2510"/>
                </a:lnTo>
                <a:lnTo>
                  <a:pt x="1702" y="2491"/>
                </a:lnTo>
                <a:lnTo>
                  <a:pt x="1752" y="2466"/>
                </a:lnTo>
                <a:lnTo>
                  <a:pt x="1734" y="2489"/>
                </a:lnTo>
                <a:lnTo>
                  <a:pt x="1759" y="2372"/>
                </a:lnTo>
                <a:cubicBezTo>
                  <a:pt x="1760" y="2371"/>
                  <a:pt x="1760" y="2369"/>
                  <a:pt x="1761" y="2367"/>
                </a:cubicBezTo>
                <a:lnTo>
                  <a:pt x="1792" y="2289"/>
                </a:lnTo>
                <a:lnTo>
                  <a:pt x="1854" y="2314"/>
                </a:lnTo>
                <a:lnTo>
                  <a:pt x="1823" y="2392"/>
                </a:lnTo>
                <a:lnTo>
                  <a:pt x="1824" y="2386"/>
                </a:lnTo>
                <a:lnTo>
                  <a:pt x="1799" y="2503"/>
                </a:lnTo>
                <a:cubicBezTo>
                  <a:pt x="1797" y="2513"/>
                  <a:pt x="1791" y="2521"/>
                  <a:pt x="1782" y="2526"/>
                </a:cubicBezTo>
                <a:lnTo>
                  <a:pt x="1732" y="2551"/>
                </a:lnTo>
                <a:cubicBezTo>
                  <a:pt x="1723" y="2555"/>
                  <a:pt x="1713" y="2556"/>
                  <a:pt x="1704" y="2552"/>
                </a:cubicBezTo>
                <a:cubicBezTo>
                  <a:pt x="1696" y="2549"/>
                  <a:pt x="1689" y="2541"/>
                  <a:pt x="1685" y="2532"/>
                </a:cubicBezTo>
                <a:lnTo>
                  <a:pt x="1683" y="2525"/>
                </a:lnTo>
                <a:lnTo>
                  <a:pt x="1746" y="2503"/>
                </a:lnTo>
                <a:close/>
                <a:moveTo>
                  <a:pt x="1977" y="2250"/>
                </a:moveTo>
                <a:lnTo>
                  <a:pt x="1984" y="2258"/>
                </a:lnTo>
                <a:lnTo>
                  <a:pt x="2032" y="2306"/>
                </a:lnTo>
                <a:cubicBezTo>
                  <a:pt x="2035" y="2308"/>
                  <a:pt x="2037" y="2311"/>
                  <a:pt x="2038" y="2315"/>
                </a:cubicBezTo>
                <a:lnTo>
                  <a:pt x="2063" y="2365"/>
                </a:lnTo>
                <a:lnTo>
                  <a:pt x="2033" y="2346"/>
                </a:lnTo>
                <a:lnTo>
                  <a:pt x="2083" y="2346"/>
                </a:lnTo>
                <a:lnTo>
                  <a:pt x="2133" y="2346"/>
                </a:lnTo>
                <a:lnTo>
                  <a:pt x="2104" y="2365"/>
                </a:lnTo>
                <a:lnTo>
                  <a:pt x="2117" y="2339"/>
                </a:lnTo>
                <a:lnTo>
                  <a:pt x="2176" y="2368"/>
                </a:lnTo>
                <a:lnTo>
                  <a:pt x="2163" y="2394"/>
                </a:lnTo>
                <a:cubicBezTo>
                  <a:pt x="2158" y="2406"/>
                  <a:pt x="2146" y="2413"/>
                  <a:pt x="2133" y="2413"/>
                </a:cubicBezTo>
                <a:lnTo>
                  <a:pt x="2083" y="2413"/>
                </a:lnTo>
                <a:lnTo>
                  <a:pt x="2033" y="2413"/>
                </a:lnTo>
                <a:cubicBezTo>
                  <a:pt x="2021" y="2413"/>
                  <a:pt x="2009" y="2406"/>
                  <a:pt x="2004" y="2394"/>
                </a:cubicBezTo>
                <a:lnTo>
                  <a:pt x="1979" y="2344"/>
                </a:lnTo>
                <a:lnTo>
                  <a:pt x="1985" y="2353"/>
                </a:lnTo>
                <a:lnTo>
                  <a:pt x="1933" y="2301"/>
                </a:lnTo>
                <a:lnTo>
                  <a:pt x="1926" y="2292"/>
                </a:lnTo>
                <a:lnTo>
                  <a:pt x="1977" y="2250"/>
                </a:lnTo>
                <a:close/>
                <a:moveTo>
                  <a:pt x="2213" y="2162"/>
                </a:moveTo>
                <a:lnTo>
                  <a:pt x="2221" y="2147"/>
                </a:lnTo>
                <a:lnTo>
                  <a:pt x="2218" y="2155"/>
                </a:lnTo>
                <a:lnTo>
                  <a:pt x="2243" y="2055"/>
                </a:lnTo>
                <a:cubicBezTo>
                  <a:pt x="2245" y="2045"/>
                  <a:pt x="2252" y="2037"/>
                  <a:pt x="2261" y="2033"/>
                </a:cubicBezTo>
                <a:cubicBezTo>
                  <a:pt x="2270" y="2028"/>
                  <a:pt x="2281" y="2028"/>
                  <a:pt x="2290" y="2033"/>
                </a:cubicBezTo>
                <a:lnTo>
                  <a:pt x="2340" y="2058"/>
                </a:lnTo>
                <a:cubicBezTo>
                  <a:pt x="2347" y="2062"/>
                  <a:pt x="2353" y="2068"/>
                  <a:pt x="2356" y="2075"/>
                </a:cubicBezTo>
                <a:lnTo>
                  <a:pt x="2390" y="2159"/>
                </a:lnTo>
                <a:lnTo>
                  <a:pt x="2328" y="2184"/>
                </a:lnTo>
                <a:lnTo>
                  <a:pt x="2294" y="2100"/>
                </a:lnTo>
                <a:lnTo>
                  <a:pt x="2310" y="2118"/>
                </a:lnTo>
                <a:lnTo>
                  <a:pt x="2260" y="2093"/>
                </a:lnTo>
                <a:lnTo>
                  <a:pt x="2307" y="2071"/>
                </a:lnTo>
                <a:lnTo>
                  <a:pt x="2282" y="2171"/>
                </a:lnTo>
                <a:cubicBezTo>
                  <a:pt x="2282" y="2174"/>
                  <a:pt x="2281" y="2176"/>
                  <a:pt x="2279" y="2179"/>
                </a:cubicBezTo>
                <a:lnTo>
                  <a:pt x="2271" y="2194"/>
                </a:lnTo>
                <a:lnTo>
                  <a:pt x="2213" y="2162"/>
                </a:lnTo>
                <a:close/>
                <a:moveTo>
                  <a:pt x="2428" y="2363"/>
                </a:moveTo>
                <a:lnTo>
                  <a:pt x="2433" y="2400"/>
                </a:lnTo>
                <a:lnTo>
                  <a:pt x="2474" y="2563"/>
                </a:lnTo>
                <a:lnTo>
                  <a:pt x="2492" y="2615"/>
                </a:lnTo>
                <a:lnTo>
                  <a:pt x="2428" y="2636"/>
                </a:lnTo>
                <a:lnTo>
                  <a:pt x="2409" y="2579"/>
                </a:lnTo>
                <a:lnTo>
                  <a:pt x="2367" y="2409"/>
                </a:lnTo>
                <a:lnTo>
                  <a:pt x="2362" y="2372"/>
                </a:lnTo>
                <a:lnTo>
                  <a:pt x="2428" y="2363"/>
                </a:lnTo>
                <a:close/>
                <a:moveTo>
                  <a:pt x="2501" y="2473"/>
                </a:moveTo>
                <a:lnTo>
                  <a:pt x="2535" y="2346"/>
                </a:lnTo>
                <a:lnTo>
                  <a:pt x="2549" y="2216"/>
                </a:lnTo>
                <a:lnTo>
                  <a:pt x="2615" y="2224"/>
                </a:lnTo>
                <a:lnTo>
                  <a:pt x="2599" y="2363"/>
                </a:lnTo>
                <a:lnTo>
                  <a:pt x="2566" y="2490"/>
                </a:lnTo>
                <a:lnTo>
                  <a:pt x="2501" y="2473"/>
                </a:lnTo>
                <a:close/>
                <a:moveTo>
                  <a:pt x="2684" y="2124"/>
                </a:moveTo>
                <a:lnTo>
                  <a:pt x="2714" y="2200"/>
                </a:lnTo>
                <a:cubicBezTo>
                  <a:pt x="2716" y="2203"/>
                  <a:pt x="2716" y="2206"/>
                  <a:pt x="2717" y="2209"/>
                </a:cubicBezTo>
                <a:lnTo>
                  <a:pt x="2738" y="2392"/>
                </a:lnTo>
                <a:lnTo>
                  <a:pt x="2671" y="2399"/>
                </a:lnTo>
                <a:lnTo>
                  <a:pt x="2650" y="2217"/>
                </a:lnTo>
                <a:lnTo>
                  <a:pt x="2653" y="2225"/>
                </a:lnTo>
                <a:lnTo>
                  <a:pt x="2622" y="2148"/>
                </a:lnTo>
                <a:lnTo>
                  <a:pt x="2684" y="2124"/>
                </a:lnTo>
                <a:close/>
                <a:moveTo>
                  <a:pt x="2788" y="2579"/>
                </a:moveTo>
                <a:lnTo>
                  <a:pt x="2790" y="2587"/>
                </a:lnTo>
                <a:lnTo>
                  <a:pt x="2773" y="2566"/>
                </a:lnTo>
                <a:lnTo>
                  <a:pt x="2823" y="2591"/>
                </a:lnTo>
                <a:lnTo>
                  <a:pt x="2775" y="2616"/>
                </a:lnTo>
                <a:lnTo>
                  <a:pt x="2800" y="2441"/>
                </a:lnTo>
                <a:lnTo>
                  <a:pt x="2806" y="2414"/>
                </a:lnTo>
                <a:lnTo>
                  <a:pt x="2872" y="2428"/>
                </a:lnTo>
                <a:lnTo>
                  <a:pt x="2866" y="2451"/>
                </a:lnTo>
                <a:lnTo>
                  <a:pt x="2841" y="2626"/>
                </a:lnTo>
                <a:cubicBezTo>
                  <a:pt x="2840" y="2636"/>
                  <a:pt x="2833" y="2646"/>
                  <a:pt x="2824" y="2651"/>
                </a:cubicBezTo>
                <a:cubicBezTo>
                  <a:pt x="2814" y="2656"/>
                  <a:pt x="2803" y="2656"/>
                  <a:pt x="2794" y="2651"/>
                </a:cubicBezTo>
                <a:lnTo>
                  <a:pt x="2744" y="2626"/>
                </a:lnTo>
                <a:cubicBezTo>
                  <a:pt x="2735" y="2622"/>
                  <a:pt x="2729" y="2615"/>
                  <a:pt x="2727" y="2606"/>
                </a:cubicBezTo>
                <a:lnTo>
                  <a:pt x="2724" y="2598"/>
                </a:lnTo>
                <a:lnTo>
                  <a:pt x="2788" y="2579"/>
                </a:lnTo>
                <a:close/>
                <a:moveTo>
                  <a:pt x="2854" y="2215"/>
                </a:moveTo>
                <a:lnTo>
                  <a:pt x="2894" y="2102"/>
                </a:lnTo>
                <a:cubicBezTo>
                  <a:pt x="2898" y="2088"/>
                  <a:pt x="2911" y="2079"/>
                  <a:pt x="2925" y="2079"/>
                </a:cubicBezTo>
                <a:lnTo>
                  <a:pt x="2950" y="2079"/>
                </a:lnTo>
                <a:cubicBezTo>
                  <a:pt x="2964" y="2079"/>
                  <a:pt x="2977" y="2088"/>
                  <a:pt x="2982" y="2102"/>
                </a:cubicBezTo>
                <a:lnTo>
                  <a:pt x="3022" y="2216"/>
                </a:lnTo>
                <a:lnTo>
                  <a:pt x="2959" y="2238"/>
                </a:lnTo>
                <a:lnTo>
                  <a:pt x="2919" y="2124"/>
                </a:lnTo>
                <a:lnTo>
                  <a:pt x="2950" y="2146"/>
                </a:lnTo>
                <a:lnTo>
                  <a:pt x="2925" y="2146"/>
                </a:lnTo>
                <a:lnTo>
                  <a:pt x="2957" y="2124"/>
                </a:lnTo>
                <a:lnTo>
                  <a:pt x="2916" y="2237"/>
                </a:lnTo>
                <a:lnTo>
                  <a:pt x="2854" y="2215"/>
                </a:lnTo>
                <a:close/>
                <a:moveTo>
                  <a:pt x="3096" y="2397"/>
                </a:moveTo>
                <a:lnTo>
                  <a:pt x="3105" y="2415"/>
                </a:lnTo>
                <a:lnTo>
                  <a:pt x="3050" y="2408"/>
                </a:lnTo>
                <a:lnTo>
                  <a:pt x="3091" y="2358"/>
                </a:lnTo>
                <a:lnTo>
                  <a:pt x="3139" y="2286"/>
                </a:lnTo>
                <a:lnTo>
                  <a:pt x="3135" y="2294"/>
                </a:lnTo>
                <a:lnTo>
                  <a:pt x="3160" y="2219"/>
                </a:lnTo>
                <a:cubicBezTo>
                  <a:pt x="3165" y="2205"/>
                  <a:pt x="3177" y="2196"/>
                  <a:pt x="3192" y="2196"/>
                </a:cubicBezTo>
                <a:lnTo>
                  <a:pt x="3205" y="2196"/>
                </a:lnTo>
                <a:lnTo>
                  <a:pt x="3205" y="2263"/>
                </a:lnTo>
                <a:lnTo>
                  <a:pt x="3192" y="2263"/>
                </a:lnTo>
                <a:lnTo>
                  <a:pt x="3223" y="2240"/>
                </a:lnTo>
                <a:lnTo>
                  <a:pt x="3198" y="2315"/>
                </a:lnTo>
                <a:cubicBezTo>
                  <a:pt x="3197" y="2318"/>
                  <a:pt x="3196" y="2320"/>
                  <a:pt x="3195" y="2323"/>
                </a:cubicBezTo>
                <a:lnTo>
                  <a:pt x="3142" y="2401"/>
                </a:lnTo>
                <a:lnTo>
                  <a:pt x="3101" y="2451"/>
                </a:lnTo>
                <a:cubicBezTo>
                  <a:pt x="3094" y="2459"/>
                  <a:pt x="3082" y="2464"/>
                  <a:pt x="3071" y="2463"/>
                </a:cubicBezTo>
                <a:cubicBezTo>
                  <a:pt x="3060" y="2461"/>
                  <a:pt x="3050" y="2454"/>
                  <a:pt x="3045" y="2444"/>
                </a:cubicBezTo>
                <a:lnTo>
                  <a:pt x="3037" y="2427"/>
                </a:lnTo>
                <a:lnTo>
                  <a:pt x="3096" y="2397"/>
                </a:lnTo>
                <a:close/>
                <a:moveTo>
                  <a:pt x="3366" y="2336"/>
                </a:moveTo>
                <a:lnTo>
                  <a:pt x="3384" y="2358"/>
                </a:lnTo>
                <a:lnTo>
                  <a:pt x="3358" y="2346"/>
                </a:lnTo>
                <a:lnTo>
                  <a:pt x="3408" y="2346"/>
                </a:lnTo>
                <a:lnTo>
                  <a:pt x="3385" y="2356"/>
                </a:lnTo>
                <a:lnTo>
                  <a:pt x="3410" y="2331"/>
                </a:lnTo>
                <a:lnTo>
                  <a:pt x="3460" y="2281"/>
                </a:lnTo>
                <a:lnTo>
                  <a:pt x="3456" y="2286"/>
                </a:lnTo>
                <a:lnTo>
                  <a:pt x="3501" y="2218"/>
                </a:lnTo>
                <a:lnTo>
                  <a:pt x="3557" y="2255"/>
                </a:lnTo>
                <a:lnTo>
                  <a:pt x="3511" y="2323"/>
                </a:lnTo>
                <a:cubicBezTo>
                  <a:pt x="3510" y="2325"/>
                  <a:pt x="3509" y="2326"/>
                  <a:pt x="3507" y="2328"/>
                </a:cubicBezTo>
                <a:lnTo>
                  <a:pt x="3457" y="2378"/>
                </a:lnTo>
                <a:lnTo>
                  <a:pt x="3432" y="2403"/>
                </a:lnTo>
                <a:cubicBezTo>
                  <a:pt x="3426" y="2409"/>
                  <a:pt x="3417" y="2413"/>
                  <a:pt x="3408" y="2413"/>
                </a:cubicBezTo>
                <a:lnTo>
                  <a:pt x="3358" y="2413"/>
                </a:lnTo>
                <a:cubicBezTo>
                  <a:pt x="3349" y="2413"/>
                  <a:pt x="3339" y="2408"/>
                  <a:pt x="3333" y="2401"/>
                </a:cubicBezTo>
                <a:lnTo>
                  <a:pt x="3314" y="2379"/>
                </a:lnTo>
                <a:lnTo>
                  <a:pt x="3366" y="2336"/>
                </a:lnTo>
                <a:close/>
                <a:moveTo>
                  <a:pt x="3685" y="2282"/>
                </a:moveTo>
                <a:lnTo>
                  <a:pt x="3707" y="2371"/>
                </a:lnTo>
                <a:lnTo>
                  <a:pt x="3690" y="2350"/>
                </a:lnTo>
                <a:lnTo>
                  <a:pt x="3740" y="2375"/>
                </a:lnTo>
                <a:lnTo>
                  <a:pt x="3702" y="2381"/>
                </a:lnTo>
                <a:lnTo>
                  <a:pt x="3752" y="2331"/>
                </a:lnTo>
                <a:lnTo>
                  <a:pt x="3742" y="2350"/>
                </a:lnTo>
                <a:lnTo>
                  <a:pt x="3748" y="2302"/>
                </a:lnTo>
                <a:lnTo>
                  <a:pt x="3815" y="2311"/>
                </a:lnTo>
                <a:lnTo>
                  <a:pt x="3808" y="2359"/>
                </a:lnTo>
                <a:cubicBezTo>
                  <a:pt x="3807" y="2366"/>
                  <a:pt x="3804" y="2373"/>
                  <a:pt x="3799" y="2378"/>
                </a:cubicBezTo>
                <a:lnTo>
                  <a:pt x="3749" y="2428"/>
                </a:lnTo>
                <a:cubicBezTo>
                  <a:pt x="3739" y="2438"/>
                  <a:pt x="3723" y="2441"/>
                  <a:pt x="3710" y="2434"/>
                </a:cubicBezTo>
                <a:lnTo>
                  <a:pt x="3660" y="2409"/>
                </a:lnTo>
                <a:cubicBezTo>
                  <a:pt x="3652" y="2405"/>
                  <a:pt x="3645" y="2397"/>
                  <a:pt x="3643" y="2388"/>
                </a:cubicBezTo>
                <a:lnTo>
                  <a:pt x="3620" y="2298"/>
                </a:lnTo>
                <a:lnTo>
                  <a:pt x="3685" y="2282"/>
                </a:lnTo>
                <a:close/>
                <a:moveTo>
                  <a:pt x="3809" y="2104"/>
                </a:moveTo>
                <a:lnTo>
                  <a:pt x="3811" y="2100"/>
                </a:lnTo>
                <a:cubicBezTo>
                  <a:pt x="3814" y="2092"/>
                  <a:pt x="3820" y="2087"/>
                  <a:pt x="3827" y="2083"/>
                </a:cubicBezTo>
                <a:lnTo>
                  <a:pt x="3877" y="2058"/>
                </a:lnTo>
                <a:cubicBezTo>
                  <a:pt x="3886" y="2054"/>
                  <a:pt x="3896" y="2053"/>
                  <a:pt x="3905" y="2057"/>
                </a:cubicBezTo>
                <a:cubicBezTo>
                  <a:pt x="3913" y="2061"/>
                  <a:pt x="3920" y="2068"/>
                  <a:pt x="3923" y="2077"/>
                </a:cubicBezTo>
                <a:lnTo>
                  <a:pt x="3948" y="2152"/>
                </a:lnTo>
                <a:lnTo>
                  <a:pt x="3990" y="2271"/>
                </a:lnTo>
                <a:lnTo>
                  <a:pt x="3928" y="2293"/>
                </a:lnTo>
                <a:lnTo>
                  <a:pt x="3885" y="2173"/>
                </a:lnTo>
                <a:lnTo>
                  <a:pt x="3860" y="2098"/>
                </a:lnTo>
                <a:lnTo>
                  <a:pt x="3907" y="2118"/>
                </a:lnTo>
                <a:lnTo>
                  <a:pt x="3857" y="2143"/>
                </a:lnTo>
                <a:lnTo>
                  <a:pt x="3872" y="2126"/>
                </a:lnTo>
                <a:lnTo>
                  <a:pt x="3870" y="2130"/>
                </a:lnTo>
                <a:lnTo>
                  <a:pt x="3809" y="2104"/>
                </a:lnTo>
                <a:close/>
                <a:moveTo>
                  <a:pt x="4035" y="2302"/>
                </a:moveTo>
                <a:lnTo>
                  <a:pt x="4054" y="2265"/>
                </a:lnTo>
                <a:lnTo>
                  <a:pt x="4104" y="2172"/>
                </a:lnTo>
                <a:lnTo>
                  <a:pt x="4129" y="2123"/>
                </a:lnTo>
                <a:cubicBezTo>
                  <a:pt x="4137" y="2106"/>
                  <a:pt x="4157" y="2100"/>
                  <a:pt x="4173" y="2108"/>
                </a:cubicBezTo>
                <a:lnTo>
                  <a:pt x="4223" y="2133"/>
                </a:lnTo>
                <a:cubicBezTo>
                  <a:pt x="4230" y="2136"/>
                  <a:pt x="4235" y="2141"/>
                  <a:pt x="4238" y="2148"/>
                </a:cubicBezTo>
                <a:lnTo>
                  <a:pt x="4242" y="2155"/>
                </a:lnTo>
                <a:lnTo>
                  <a:pt x="4182" y="2185"/>
                </a:lnTo>
                <a:lnTo>
                  <a:pt x="4179" y="2178"/>
                </a:lnTo>
                <a:lnTo>
                  <a:pt x="4194" y="2193"/>
                </a:lnTo>
                <a:lnTo>
                  <a:pt x="4144" y="2168"/>
                </a:lnTo>
                <a:lnTo>
                  <a:pt x="4188" y="2153"/>
                </a:lnTo>
                <a:lnTo>
                  <a:pt x="4163" y="2204"/>
                </a:lnTo>
                <a:lnTo>
                  <a:pt x="4113" y="2294"/>
                </a:lnTo>
                <a:lnTo>
                  <a:pt x="4094" y="2332"/>
                </a:lnTo>
                <a:lnTo>
                  <a:pt x="4035" y="2302"/>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16200000">
            <a:off x="2527920" y="386136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2864" name=""/>
          <p:cNvSpPr/>
          <p:nvPr/>
        </p:nvSpPr>
        <p:spPr>
          <a:xfrm>
            <a:off x="4394880" y="570852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2865" name=""/>
          <p:cNvSpPr/>
          <p:nvPr/>
        </p:nvSpPr>
        <p:spPr>
          <a:xfrm>
            <a:off x="4751280" y="569268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866" name=""/>
          <p:cNvSpPr/>
          <p:nvPr/>
        </p:nvSpPr>
        <p:spPr>
          <a:xfrm>
            <a:off x="4830480" y="570852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2867" name=""/>
          <p:cNvSpPr/>
          <p:nvPr/>
        </p:nvSpPr>
        <p:spPr>
          <a:xfrm>
            <a:off x="3193920" y="2813040"/>
            <a:ext cx="3114720" cy="24717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3193920" y="2813040"/>
            <a:ext cx="3114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9" name=""/>
          <p:cNvSpPr/>
          <p:nvPr/>
        </p:nvSpPr>
        <p:spPr>
          <a:xfrm flipV="1">
            <a:off x="6308640" y="2813040"/>
            <a:ext cx="1800" cy="24717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flipV="1">
            <a:off x="3193920" y="2813040"/>
            <a:ext cx="3240" cy="2471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flipV="1">
            <a:off x="3193920" y="2813040"/>
            <a:ext cx="3240" cy="2471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flipV="1">
            <a:off x="3193920" y="5253120"/>
            <a:ext cx="32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3" name=""/>
          <p:cNvSpPr/>
          <p:nvPr/>
        </p:nvSpPr>
        <p:spPr>
          <a:xfrm>
            <a:off x="3193920" y="2813040"/>
            <a:ext cx="32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4" name=""/>
          <p:cNvSpPr/>
          <p:nvPr/>
        </p:nvSpPr>
        <p:spPr>
          <a:xfrm>
            <a:off x="308052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75" name=""/>
          <p:cNvSpPr/>
          <p:nvPr/>
        </p:nvSpPr>
        <p:spPr>
          <a:xfrm>
            <a:off x="312948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876" name=""/>
          <p:cNvSpPr/>
          <p:nvPr/>
        </p:nvSpPr>
        <p:spPr>
          <a:xfrm flipV="1">
            <a:off x="363996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7" name=""/>
          <p:cNvSpPr/>
          <p:nvPr/>
        </p:nvSpPr>
        <p:spPr>
          <a:xfrm>
            <a:off x="363996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8" name=""/>
          <p:cNvSpPr/>
          <p:nvPr/>
        </p:nvSpPr>
        <p:spPr>
          <a:xfrm>
            <a:off x="356652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79" name=""/>
          <p:cNvSpPr/>
          <p:nvPr/>
        </p:nvSpPr>
        <p:spPr>
          <a:xfrm>
            <a:off x="36158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880" name=""/>
          <p:cNvSpPr/>
          <p:nvPr/>
        </p:nvSpPr>
        <p:spPr>
          <a:xfrm flipV="1">
            <a:off x="408456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1" name=""/>
          <p:cNvSpPr/>
          <p:nvPr/>
        </p:nvSpPr>
        <p:spPr>
          <a:xfrm>
            <a:off x="408456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2" name=""/>
          <p:cNvSpPr/>
          <p:nvPr/>
        </p:nvSpPr>
        <p:spPr>
          <a:xfrm>
            <a:off x="3971160" y="5373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883" name=""/>
          <p:cNvSpPr/>
          <p:nvPr/>
        </p:nvSpPr>
        <p:spPr>
          <a:xfrm>
            <a:off x="401832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884" name=""/>
          <p:cNvSpPr/>
          <p:nvPr/>
        </p:nvSpPr>
        <p:spPr>
          <a:xfrm flipV="1">
            <a:off x="4529160" y="5253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5" name=""/>
          <p:cNvSpPr/>
          <p:nvPr/>
        </p:nvSpPr>
        <p:spPr>
          <a:xfrm>
            <a:off x="4529160" y="2813040"/>
            <a:ext cx="14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6" name=""/>
          <p:cNvSpPr/>
          <p:nvPr/>
        </p:nvSpPr>
        <p:spPr>
          <a:xfrm>
            <a:off x="44906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887" name=""/>
          <p:cNvSpPr/>
          <p:nvPr/>
        </p:nvSpPr>
        <p:spPr>
          <a:xfrm flipV="1">
            <a:off x="4973760" y="5253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8" name=""/>
          <p:cNvSpPr/>
          <p:nvPr/>
        </p:nvSpPr>
        <p:spPr>
          <a:xfrm>
            <a:off x="4973760" y="2813040"/>
            <a:ext cx="144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9" name=""/>
          <p:cNvSpPr/>
          <p:nvPr/>
        </p:nvSpPr>
        <p:spPr>
          <a:xfrm>
            <a:off x="489168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890" name=""/>
          <p:cNvSpPr/>
          <p:nvPr/>
        </p:nvSpPr>
        <p:spPr>
          <a:xfrm flipV="1">
            <a:off x="541800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1" name=""/>
          <p:cNvSpPr/>
          <p:nvPr/>
        </p:nvSpPr>
        <p:spPr>
          <a:xfrm>
            <a:off x="541800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2" name=""/>
          <p:cNvSpPr/>
          <p:nvPr/>
        </p:nvSpPr>
        <p:spPr>
          <a:xfrm>
            <a:off x="537804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893" name=""/>
          <p:cNvSpPr/>
          <p:nvPr/>
        </p:nvSpPr>
        <p:spPr>
          <a:xfrm flipV="1">
            <a:off x="586260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4" name=""/>
          <p:cNvSpPr/>
          <p:nvPr/>
        </p:nvSpPr>
        <p:spPr>
          <a:xfrm>
            <a:off x="586260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5" name=""/>
          <p:cNvSpPr/>
          <p:nvPr/>
        </p:nvSpPr>
        <p:spPr>
          <a:xfrm>
            <a:off x="5780520" y="53737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896" name=""/>
          <p:cNvSpPr/>
          <p:nvPr/>
        </p:nvSpPr>
        <p:spPr>
          <a:xfrm flipV="1">
            <a:off x="6308640" y="5253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7" name=""/>
          <p:cNvSpPr/>
          <p:nvPr/>
        </p:nvSpPr>
        <p:spPr>
          <a:xfrm>
            <a:off x="6308640" y="2813040"/>
            <a:ext cx="1800" cy="27000"/>
          </a:xfrm>
          <a:prstGeom prst="line">
            <a:avLst/>
          </a:prstGeom>
          <a:ln cap="rnd"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8" name=""/>
          <p:cNvSpPr/>
          <p:nvPr/>
        </p:nvSpPr>
        <p:spPr>
          <a:xfrm>
            <a:off x="6268680" y="537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899" name=""/>
          <p:cNvSpPr/>
          <p:nvPr/>
        </p:nvSpPr>
        <p:spPr>
          <a:xfrm>
            <a:off x="3193920" y="528480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flipH="1">
            <a:off x="6276960" y="528480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a:off x="2940840" y="52243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902" name=""/>
          <p:cNvSpPr/>
          <p:nvPr/>
        </p:nvSpPr>
        <p:spPr>
          <a:xfrm>
            <a:off x="2989080" y="522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903" name=""/>
          <p:cNvSpPr/>
          <p:nvPr/>
        </p:nvSpPr>
        <p:spPr>
          <a:xfrm>
            <a:off x="3193920" y="486900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04" name=""/>
          <p:cNvSpPr/>
          <p:nvPr/>
        </p:nvSpPr>
        <p:spPr>
          <a:xfrm flipH="1">
            <a:off x="6276960" y="48704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5" name=""/>
          <p:cNvSpPr/>
          <p:nvPr/>
        </p:nvSpPr>
        <p:spPr>
          <a:xfrm>
            <a:off x="2998080" y="48117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906" name=""/>
          <p:cNvSpPr/>
          <p:nvPr/>
        </p:nvSpPr>
        <p:spPr>
          <a:xfrm>
            <a:off x="3045960" y="4811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907" name=""/>
          <p:cNvSpPr/>
          <p:nvPr/>
        </p:nvSpPr>
        <p:spPr>
          <a:xfrm>
            <a:off x="3193920" y="4457880"/>
            <a:ext cx="255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08" name=""/>
          <p:cNvSpPr/>
          <p:nvPr/>
        </p:nvSpPr>
        <p:spPr>
          <a:xfrm flipH="1">
            <a:off x="6276960" y="4457880"/>
            <a:ext cx="316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09" name=""/>
          <p:cNvSpPr/>
          <p:nvPr/>
        </p:nvSpPr>
        <p:spPr>
          <a:xfrm>
            <a:off x="3028680" y="43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910" name=""/>
          <p:cNvSpPr/>
          <p:nvPr/>
        </p:nvSpPr>
        <p:spPr>
          <a:xfrm>
            <a:off x="3193920" y="40496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1" name=""/>
          <p:cNvSpPr/>
          <p:nvPr/>
        </p:nvSpPr>
        <p:spPr>
          <a:xfrm flipH="1">
            <a:off x="6276960" y="40496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2" name=""/>
          <p:cNvSpPr/>
          <p:nvPr/>
        </p:nvSpPr>
        <p:spPr>
          <a:xfrm>
            <a:off x="3028680" y="3990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913" name=""/>
          <p:cNvSpPr/>
          <p:nvPr/>
        </p:nvSpPr>
        <p:spPr>
          <a:xfrm>
            <a:off x="3193920" y="363204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4" name=""/>
          <p:cNvSpPr/>
          <p:nvPr/>
        </p:nvSpPr>
        <p:spPr>
          <a:xfrm flipH="1">
            <a:off x="6276960" y="36320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5" name=""/>
          <p:cNvSpPr/>
          <p:nvPr/>
        </p:nvSpPr>
        <p:spPr>
          <a:xfrm>
            <a:off x="2971440" y="3573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916" name=""/>
          <p:cNvSpPr/>
          <p:nvPr/>
        </p:nvSpPr>
        <p:spPr>
          <a:xfrm>
            <a:off x="3193920" y="3224160"/>
            <a:ext cx="255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7" name=""/>
          <p:cNvSpPr/>
          <p:nvPr/>
        </p:nvSpPr>
        <p:spPr>
          <a:xfrm flipH="1">
            <a:off x="6276960" y="322416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8" name=""/>
          <p:cNvSpPr/>
          <p:nvPr/>
        </p:nvSpPr>
        <p:spPr>
          <a:xfrm>
            <a:off x="2971440" y="3164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919" name=""/>
          <p:cNvSpPr/>
          <p:nvPr/>
        </p:nvSpPr>
        <p:spPr>
          <a:xfrm>
            <a:off x="3193920" y="2813040"/>
            <a:ext cx="255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0" name=""/>
          <p:cNvSpPr/>
          <p:nvPr/>
        </p:nvSpPr>
        <p:spPr>
          <a:xfrm flipH="1">
            <a:off x="6276960" y="28130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1" name=""/>
          <p:cNvSpPr/>
          <p:nvPr/>
        </p:nvSpPr>
        <p:spPr>
          <a:xfrm>
            <a:off x="2971440" y="27558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2922" name=""/>
          <p:cNvSpPr/>
          <p:nvPr/>
        </p:nvSpPr>
        <p:spPr>
          <a:xfrm>
            <a:off x="3193920" y="3102120"/>
            <a:ext cx="1105200" cy="1771560"/>
          </a:xfrm>
          <a:custGeom>
            <a:avLst/>
            <a:gdLst/>
            <a:ahLst/>
            <a:rect l="l" t="t" r="r" b="b"/>
            <a:pathLst>
              <a:path w="696" h="1116">
                <a:moveTo>
                  <a:pt x="0" y="854"/>
                </a:moveTo>
                <a:lnTo>
                  <a:pt x="3" y="854"/>
                </a:lnTo>
                <a:lnTo>
                  <a:pt x="9" y="854"/>
                </a:lnTo>
                <a:lnTo>
                  <a:pt x="16" y="854"/>
                </a:lnTo>
                <a:lnTo>
                  <a:pt x="20" y="854"/>
                </a:lnTo>
                <a:lnTo>
                  <a:pt x="27" y="854"/>
                </a:lnTo>
                <a:lnTo>
                  <a:pt x="33" y="854"/>
                </a:lnTo>
                <a:lnTo>
                  <a:pt x="36" y="854"/>
                </a:lnTo>
                <a:lnTo>
                  <a:pt x="42" y="854"/>
                </a:lnTo>
                <a:lnTo>
                  <a:pt x="49" y="854"/>
                </a:lnTo>
                <a:lnTo>
                  <a:pt x="53" y="854"/>
                </a:lnTo>
                <a:lnTo>
                  <a:pt x="60" y="854"/>
                </a:lnTo>
                <a:lnTo>
                  <a:pt x="65" y="854"/>
                </a:lnTo>
                <a:lnTo>
                  <a:pt x="69" y="854"/>
                </a:lnTo>
                <a:lnTo>
                  <a:pt x="76" y="854"/>
                </a:lnTo>
                <a:lnTo>
                  <a:pt x="82" y="854"/>
                </a:lnTo>
                <a:lnTo>
                  <a:pt x="86" y="854"/>
                </a:lnTo>
                <a:lnTo>
                  <a:pt x="93" y="854"/>
                </a:lnTo>
                <a:lnTo>
                  <a:pt x="98" y="854"/>
                </a:lnTo>
                <a:lnTo>
                  <a:pt x="102" y="854"/>
                </a:lnTo>
                <a:lnTo>
                  <a:pt x="109" y="854"/>
                </a:lnTo>
                <a:lnTo>
                  <a:pt x="115" y="854"/>
                </a:lnTo>
                <a:lnTo>
                  <a:pt x="119" y="854"/>
                </a:lnTo>
                <a:lnTo>
                  <a:pt x="126" y="854"/>
                </a:lnTo>
                <a:lnTo>
                  <a:pt x="131" y="854"/>
                </a:lnTo>
                <a:lnTo>
                  <a:pt x="135" y="854"/>
                </a:lnTo>
                <a:lnTo>
                  <a:pt x="142" y="854"/>
                </a:lnTo>
                <a:lnTo>
                  <a:pt x="148" y="854"/>
                </a:lnTo>
                <a:lnTo>
                  <a:pt x="152" y="854"/>
                </a:lnTo>
                <a:lnTo>
                  <a:pt x="159" y="854"/>
                </a:lnTo>
                <a:lnTo>
                  <a:pt x="164" y="854"/>
                </a:lnTo>
                <a:lnTo>
                  <a:pt x="168" y="854"/>
                </a:lnTo>
                <a:lnTo>
                  <a:pt x="175" y="854"/>
                </a:lnTo>
                <a:lnTo>
                  <a:pt x="181" y="854"/>
                </a:lnTo>
                <a:lnTo>
                  <a:pt x="185" y="854"/>
                </a:lnTo>
                <a:lnTo>
                  <a:pt x="192" y="854"/>
                </a:lnTo>
                <a:lnTo>
                  <a:pt x="197" y="854"/>
                </a:lnTo>
                <a:lnTo>
                  <a:pt x="201" y="854"/>
                </a:lnTo>
                <a:lnTo>
                  <a:pt x="208" y="854"/>
                </a:lnTo>
                <a:lnTo>
                  <a:pt x="214" y="854"/>
                </a:lnTo>
                <a:lnTo>
                  <a:pt x="218" y="854"/>
                </a:lnTo>
                <a:lnTo>
                  <a:pt x="224" y="854"/>
                </a:lnTo>
                <a:lnTo>
                  <a:pt x="227" y="854"/>
                </a:lnTo>
                <a:lnTo>
                  <a:pt x="234" y="854"/>
                </a:lnTo>
                <a:lnTo>
                  <a:pt x="241" y="854"/>
                </a:lnTo>
                <a:lnTo>
                  <a:pt x="244" y="854"/>
                </a:lnTo>
                <a:lnTo>
                  <a:pt x="251" y="854"/>
                </a:lnTo>
                <a:lnTo>
                  <a:pt x="257" y="854"/>
                </a:lnTo>
                <a:lnTo>
                  <a:pt x="260" y="854"/>
                </a:lnTo>
                <a:lnTo>
                  <a:pt x="267" y="854"/>
                </a:lnTo>
                <a:lnTo>
                  <a:pt x="274" y="854"/>
                </a:lnTo>
                <a:lnTo>
                  <a:pt x="277" y="854"/>
                </a:lnTo>
                <a:lnTo>
                  <a:pt x="284" y="854"/>
                </a:lnTo>
                <a:lnTo>
                  <a:pt x="290" y="854"/>
                </a:lnTo>
                <a:lnTo>
                  <a:pt x="293" y="854"/>
                </a:lnTo>
                <a:lnTo>
                  <a:pt x="300" y="854"/>
                </a:lnTo>
                <a:lnTo>
                  <a:pt x="307" y="851"/>
                </a:lnTo>
                <a:lnTo>
                  <a:pt x="310" y="851"/>
                </a:lnTo>
                <a:lnTo>
                  <a:pt x="317" y="854"/>
                </a:lnTo>
                <a:lnTo>
                  <a:pt x="323" y="854"/>
                </a:lnTo>
                <a:lnTo>
                  <a:pt x="326" y="854"/>
                </a:lnTo>
                <a:lnTo>
                  <a:pt x="333" y="854"/>
                </a:lnTo>
                <a:lnTo>
                  <a:pt x="340" y="854"/>
                </a:lnTo>
                <a:lnTo>
                  <a:pt x="343" y="854"/>
                </a:lnTo>
                <a:lnTo>
                  <a:pt x="350" y="854"/>
                </a:lnTo>
                <a:lnTo>
                  <a:pt x="356" y="854"/>
                </a:lnTo>
                <a:lnTo>
                  <a:pt x="359" y="851"/>
                </a:lnTo>
                <a:lnTo>
                  <a:pt x="366" y="848"/>
                </a:lnTo>
                <a:lnTo>
                  <a:pt x="373" y="851"/>
                </a:lnTo>
                <a:lnTo>
                  <a:pt x="376" y="854"/>
                </a:lnTo>
                <a:lnTo>
                  <a:pt x="382" y="854"/>
                </a:lnTo>
                <a:lnTo>
                  <a:pt x="389" y="851"/>
                </a:lnTo>
                <a:lnTo>
                  <a:pt x="392" y="851"/>
                </a:lnTo>
                <a:lnTo>
                  <a:pt x="399" y="861"/>
                </a:lnTo>
                <a:lnTo>
                  <a:pt x="406" y="868"/>
                </a:lnTo>
                <a:lnTo>
                  <a:pt x="409" y="861"/>
                </a:lnTo>
                <a:lnTo>
                  <a:pt x="415" y="832"/>
                </a:lnTo>
                <a:lnTo>
                  <a:pt x="422" y="795"/>
                </a:lnTo>
                <a:lnTo>
                  <a:pt x="425" y="802"/>
                </a:lnTo>
                <a:lnTo>
                  <a:pt x="432" y="868"/>
                </a:lnTo>
                <a:lnTo>
                  <a:pt x="439" y="967"/>
                </a:lnTo>
                <a:lnTo>
                  <a:pt x="442" y="1003"/>
                </a:lnTo>
                <a:lnTo>
                  <a:pt x="448" y="891"/>
                </a:lnTo>
                <a:lnTo>
                  <a:pt x="455" y="609"/>
                </a:lnTo>
                <a:lnTo>
                  <a:pt x="458" y="259"/>
                </a:lnTo>
                <a:lnTo>
                  <a:pt x="465" y="7"/>
                </a:lnTo>
                <a:lnTo>
                  <a:pt x="468" y="0"/>
                </a:lnTo>
                <a:lnTo>
                  <a:pt x="475" y="245"/>
                </a:lnTo>
                <a:lnTo>
                  <a:pt x="481" y="620"/>
                </a:lnTo>
                <a:lnTo>
                  <a:pt x="484" y="951"/>
                </a:lnTo>
                <a:lnTo>
                  <a:pt x="491" y="1116"/>
                </a:lnTo>
                <a:lnTo>
                  <a:pt x="498" y="1103"/>
                </a:lnTo>
                <a:lnTo>
                  <a:pt x="501" y="1000"/>
                </a:lnTo>
                <a:lnTo>
                  <a:pt x="508" y="914"/>
                </a:lnTo>
                <a:lnTo>
                  <a:pt x="514" y="891"/>
                </a:lnTo>
                <a:lnTo>
                  <a:pt x="517" y="921"/>
                </a:lnTo>
                <a:lnTo>
                  <a:pt x="524" y="958"/>
                </a:lnTo>
                <a:lnTo>
                  <a:pt x="531" y="970"/>
                </a:lnTo>
                <a:lnTo>
                  <a:pt x="534" y="963"/>
                </a:lnTo>
                <a:lnTo>
                  <a:pt x="540" y="954"/>
                </a:lnTo>
                <a:lnTo>
                  <a:pt x="547" y="947"/>
                </a:lnTo>
                <a:lnTo>
                  <a:pt x="550" y="951"/>
                </a:lnTo>
                <a:lnTo>
                  <a:pt x="557" y="951"/>
                </a:lnTo>
                <a:lnTo>
                  <a:pt x="564" y="947"/>
                </a:lnTo>
                <a:lnTo>
                  <a:pt x="567" y="947"/>
                </a:lnTo>
                <a:lnTo>
                  <a:pt x="573" y="947"/>
                </a:lnTo>
                <a:lnTo>
                  <a:pt x="580" y="947"/>
                </a:lnTo>
                <a:lnTo>
                  <a:pt x="583" y="951"/>
                </a:lnTo>
                <a:lnTo>
                  <a:pt x="590" y="951"/>
                </a:lnTo>
                <a:lnTo>
                  <a:pt x="597" y="951"/>
                </a:lnTo>
                <a:lnTo>
                  <a:pt x="600" y="947"/>
                </a:lnTo>
                <a:lnTo>
                  <a:pt x="606" y="947"/>
                </a:lnTo>
                <a:lnTo>
                  <a:pt x="613" y="947"/>
                </a:lnTo>
                <a:lnTo>
                  <a:pt x="616" y="947"/>
                </a:lnTo>
                <a:lnTo>
                  <a:pt x="623" y="947"/>
                </a:lnTo>
                <a:lnTo>
                  <a:pt x="630" y="947"/>
                </a:lnTo>
                <a:lnTo>
                  <a:pt x="633" y="947"/>
                </a:lnTo>
                <a:lnTo>
                  <a:pt x="639" y="947"/>
                </a:lnTo>
                <a:lnTo>
                  <a:pt x="646" y="947"/>
                </a:lnTo>
                <a:lnTo>
                  <a:pt x="649" y="947"/>
                </a:lnTo>
                <a:lnTo>
                  <a:pt x="656" y="947"/>
                </a:lnTo>
                <a:lnTo>
                  <a:pt x="663" y="947"/>
                </a:lnTo>
                <a:lnTo>
                  <a:pt x="666" y="947"/>
                </a:lnTo>
                <a:lnTo>
                  <a:pt x="672" y="947"/>
                </a:lnTo>
                <a:lnTo>
                  <a:pt x="679" y="947"/>
                </a:lnTo>
                <a:lnTo>
                  <a:pt x="682" y="947"/>
                </a:lnTo>
                <a:lnTo>
                  <a:pt x="689" y="947"/>
                </a:lnTo>
                <a:lnTo>
                  <a:pt x="696" y="947"/>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4299120" y="3049560"/>
            <a:ext cx="1098360" cy="1814400"/>
          </a:xfrm>
          <a:custGeom>
            <a:avLst/>
            <a:gdLst/>
            <a:ahLst/>
            <a:rect l="l" t="t" r="r" b="b"/>
            <a:pathLst>
              <a:path w="692" h="1143">
                <a:moveTo>
                  <a:pt x="0" y="980"/>
                </a:moveTo>
                <a:lnTo>
                  <a:pt x="2" y="980"/>
                </a:lnTo>
                <a:lnTo>
                  <a:pt x="9" y="980"/>
                </a:lnTo>
                <a:lnTo>
                  <a:pt x="16" y="980"/>
                </a:lnTo>
                <a:lnTo>
                  <a:pt x="19" y="980"/>
                </a:lnTo>
                <a:lnTo>
                  <a:pt x="26" y="984"/>
                </a:lnTo>
                <a:lnTo>
                  <a:pt x="30" y="980"/>
                </a:lnTo>
                <a:lnTo>
                  <a:pt x="35" y="977"/>
                </a:lnTo>
                <a:lnTo>
                  <a:pt x="42" y="977"/>
                </a:lnTo>
                <a:lnTo>
                  <a:pt x="46" y="977"/>
                </a:lnTo>
                <a:lnTo>
                  <a:pt x="52" y="980"/>
                </a:lnTo>
                <a:lnTo>
                  <a:pt x="59" y="980"/>
                </a:lnTo>
                <a:lnTo>
                  <a:pt x="63" y="980"/>
                </a:lnTo>
                <a:lnTo>
                  <a:pt x="68" y="977"/>
                </a:lnTo>
                <a:lnTo>
                  <a:pt x="75" y="984"/>
                </a:lnTo>
                <a:lnTo>
                  <a:pt x="79" y="996"/>
                </a:lnTo>
                <a:lnTo>
                  <a:pt x="85" y="996"/>
                </a:lnTo>
                <a:lnTo>
                  <a:pt x="92" y="973"/>
                </a:lnTo>
                <a:lnTo>
                  <a:pt x="96" y="935"/>
                </a:lnTo>
                <a:lnTo>
                  <a:pt x="101" y="917"/>
                </a:lnTo>
                <a:lnTo>
                  <a:pt x="108" y="964"/>
                </a:lnTo>
                <a:lnTo>
                  <a:pt x="112" y="1063"/>
                </a:lnTo>
                <a:lnTo>
                  <a:pt x="118" y="1143"/>
                </a:lnTo>
                <a:lnTo>
                  <a:pt x="125" y="1100"/>
                </a:lnTo>
                <a:lnTo>
                  <a:pt x="129" y="871"/>
                </a:lnTo>
                <a:lnTo>
                  <a:pt x="134" y="507"/>
                </a:lnTo>
                <a:lnTo>
                  <a:pt x="141" y="159"/>
                </a:lnTo>
                <a:lnTo>
                  <a:pt x="145" y="0"/>
                </a:lnTo>
                <a:lnTo>
                  <a:pt x="152" y="106"/>
                </a:lnTo>
                <a:lnTo>
                  <a:pt x="158" y="418"/>
                </a:lnTo>
                <a:lnTo>
                  <a:pt x="161" y="761"/>
                </a:lnTo>
                <a:lnTo>
                  <a:pt x="167" y="994"/>
                </a:lnTo>
                <a:lnTo>
                  <a:pt x="174" y="1047"/>
                </a:lnTo>
                <a:lnTo>
                  <a:pt x="178" y="973"/>
                </a:lnTo>
                <a:lnTo>
                  <a:pt x="185" y="875"/>
                </a:lnTo>
                <a:lnTo>
                  <a:pt x="191" y="828"/>
                </a:lnTo>
                <a:lnTo>
                  <a:pt x="194" y="842"/>
                </a:lnTo>
                <a:lnTo>
                  <a:pt x="200" y="877"/>
                </a:lnTo>
                <a:lnTo>
                  <a:pt x="207" y="901"/>
                </a:lnTo>
                <a:lnTo>
                  <a:pt x="211" y="905"/>
                </a:lnTo>
                <a:lnTo>
                  <a:pt x="218" y="891"/>
                </a:lnTo>
                <a:lnTo>
                  <a:pt x="224" y="884"/>
                </a:lnTo>
                <a:lnTo>
                  <a:pt x="227" y="887"/>
                </a:lnTo>
                <a:lnTo>
                  <a:pt x="234" y="887"/>
                </a:lnTo>
                <a:lnTo>
                  <a:pt x="240" y="887"/>
                </a:lnTo>
                <a:lnTo>
                  <a:pt x="244" y="884"/>
                </a:lnTo>
                <a:lnTo>
                  <a:pt x="251" y="884"/>
                </a:lnTo>
                <a:lnTo>
                  <a:pt x="256" y="884"/>
                </a:lnTo>
                <a:lnTo>
                  <a:pt x="260" y="887"/>
                </a:lnTo>
                <a:lnTo>
                  <a:pt x="267" y="887"/>
                </a:lnTo>
                <a:lnTo>
                  <a:pt x="270" y="887"/>
                </a:lnTo>
                <a:lnTo>
                  <a:pt x="277" y="887"/>
                </a:lnTo>
                <a:lnTo>
                  <a:pt x="284" y="887"/>
                </a:lnTo>
                <a:lnTo>
                  <a:pt x="287" y="887"/>
                </a:lnTo>
                <a:lnTo>
                  <a:pt x="293" y="887"/>
                </a:lnTo>
                <a:lnTo>
                  <a:pt x="300" y="887"/>
                </a:lnTo>
                <a:lnTo>
                  <a:pt x="303" y="884"/>
                </a:lnTo>
                <a:lnTo>
                  <a:pt x="310" y="887"/>
                </a:lnTo>
                <a:lnTo>
                  <a:pt x="317" y="887"/>
                </a:lnTo>
                <a:lnTo>
                  <a:pt x="319" y="887"/>
                </a:lnTo>
                <a:lnTo>
                  <a:pt x="326" y="887"/>
                </a:lnTo>
                <a:lnTo>
                  <a:pt x="333" y="887"/>
                </a:lnTo>
                <a:lnTo>
                  <a:pt x="336" y="887"/>
                </a:lnTo>
                <a:lnTo>
                  <a:pt x="343" y="887"/>
                </a:lnTo>
                <a:lnTo>
                  <a:pt x="350" y="887"/>
                </a:lnTo>
                <a:lnTo>
                  <a:pt x="352" y="887"/>
                </a:lnTo>
                <a:lnTo>
                  <a:pt x="359" y="887"/>
                </a:lnTo>
                <a:lnTo>
                  <a:pt x="366" y="887"/>
                </a:lnTo>
                <a:lnTo>
                  <a:pt x="369" y="887"/>
                </a:lnTo>
                <a:lnTo>
                  <a:pt x="376" y="887"/>
                </a:lnTo>
                <a:lnTo>
                  <a:pt x="383" y="887"/>
                </a:lnTo>
                <a:lnTo>
                  <a:pt x="385" y="887"/>
                </a:lnTo>
                <a:lnTo>
                  <a:pt x="392" y="887"/>
                </a:lnTo>
                <a:lnTo>
                  <a:pt x="399" y="887"/>
                </a:lnTo>
                <a:lnTo>
                  <a:pt x="402" y="887"/>
                </a:lnTo>
                <a:lnTo>
                  <a:pt x="409" y="887"/>
                </a:lnTo>
                <a:lnTo>
                  <a:pt x="415" y="887"/>
                </a:lnTo>
                <a:lnTo>
                  <a:pt x="418" y="887"/>
                </a:lnTo>
                <a:lnTo>
                  <a:pt x="425" y="887"/>
                </a:lnTo>
                <a:lnTo>
                  <a:pt x="432" y="887"/>
                </a:lnTo>
                <a:lnTo>
                  <a:pt x="435" y="887"/>
                </a:lnTo>
                <a:lnTo>
                  <a:pt x="442" y="887"/>
                </a:lnTo>
                <a:lnTo>
                  <a:pt x="448" y="887"/>
                </a:lnTo>
                <a:lnTo>
                  <a:pt x="451" y="887"/>
                </a:lnTo>
                <a:lnTo>
                  <a:pt x="458" y="887"/>
                </a:lnTo>
                <a:lnTo>
                  <a:pt x="465" y="887"/>
                </a:lnTo>
                <a:lnTo>
                  <a:pt x="468" y="887"/>
                </a:lnTo>
                <a:lnTo>
                  <a:pt x="475" y="887"/>
                </a:lnTo>
                <a:lnTo>
                  <a:pt x="481" y="887"/>
                </a:lnTo>
                <a:lnTo>
                  <a:pt x="484" y="887"/>
                </a:lnTo>
                <a:lnTo>
                  <a:pt x="491" y="887"/>
                </a:lnTo>
                <a:lnTo>
                  <a:pt x="498" y="887"/>
                </a:lnTo>
                <a:lnTo>
                  <a:pt x="501" y="887"/>
                </a:lnTo>
                <a:lnTo>
                  <a:pt x="508" y="887"/>
                </a:lnTo>
                <a:lnTo>
                  <a:pt x="514" y="887"/>
                </a:lnTo>
                <a:lnTo>
                  <a:pt x="517" y="887"/>
                </a:lnTo>
                <a:lnTo>
                  <a:pt x="524" y="887"/>
                </a:lnTo>
                <a:lnTo>
                  <a:pt x="527" y="887"/>
                </a:lnTo>
                <a:lnTo>
                  <a:pt x="534" y="887"/>
                </a:lnTo>
                <a:lnTo>
                  <a:pt x="541" y="887"/>
                </a:lnTo>
                <a:lnTo>
                  <a:pt x="543" y="887"/>
                </a:lnTo>
                <a:lnTo>
                  <a:pt x="550" y="887"/>
                </a:lnTo>
                <a:lnTo>
                  <a:pt x="557" y="887"/>
                </a:lnTo>
                <a:lnTo>
                  <a:pt x="560" y="887"/>
                </a:lnTo>
                <a:lnTo>
                  <a:pt x="567" y="887"/>
                </a:lnTo>
                <a:lnTo>
                  <a:pt x="573" y="887"/>
                </a:lnTo>
                <a:lnTo>
                  <a:pt x="576" y="887"/>
                </a:lnTo>
                <a:lnTo>
                  <a:pt x="583" y="887"/>
                </a:lnTo>
                <a:lnTo>
                  <a:pt x="590" y="887"/>
                </a:lnTo>
                <a:lnTo>
                  <a:pt x="593" y="887"/>
                </a:lnTo>
                <a:lnTo>
                  <a:pt x="600" y="887"/>
                </a:lnTo>
                <a:lnTo>
                  <a:pt x="606" y="887"/>
                </a:lnTo>
                <a:lnTo>
                  <a:pt x="609" y="887"/>
                </a:lnTo>
                <a:lnTo>
                  <a:pt x="616" y="887"/>
                </a:lnTo>
                <a:lnTo>
                  <a:pt x="623" y="887"/>
                </a:lnTo>
                <a:lnTo>
                  <a:pt x="626" y="887"/>
                </a:lnTo>
                <a:lnTo>
                  <a:pt x="633" y="887"/>
                </a:lnTo>
                <a:lnTo>
                  <a:pt x="639" y="887"/>
                </a:lnTo>
                <a:lnTo>
                  <a:pt x="642" y="887"/>
                </a:lnTo>
                <a:lnTo>
                  <a:pt x="649" y="887"/>
                </a:lnTo>
                <a:lnTo>
                  <a:pt x="656" y="887"/>
                </a:lnTo>
                <a:lnTo>
                  <a:pt x="659" y="887"/>
                </a:lnTo>
                <a:lnTo>
                  <a:pt x="666" y="887"/>
                </a:lnTo>
                <a:lnTo>
                  <a:pt x="672" y="887"/>
                </a:lnTo>
                <a:lnTo>
                  <a:pt x="675" y="887"/>
                </a:lnTo>
                <a:lnTo>
                  <a:pt x="682" y="887"/>
                </a:lnTo>
                <a:lnTo>
                  <a:pt x="689" y="887"/>
                </a:lnTo>
                <a:lnTo>
                  <a:pt x="692" y="887"/>
                </a:lnTo>
              </a:path>
            </a:pathLst>
          </a:custGeom>
          <a:noFill/>
          <a:ln w="1908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5397480" y="4457880"/>
            <a:ext cx="915840" cy="1440"/>
          </a:xfrm>
          <a:custGeom>
            <a:avLst/>
            <a:gdLst/>
            <a:ahLst/>
            <a:rect l="l" t="t" r="r" b="b"/>
            <a:pathLst>
              <a:path w="577" h="0">
                <a:moveTo>
                  <a:pt x="0" y="0"/>
                </a:moveTo>
                <a:lnTo>
                  <a:pt x="7" y="0"/>
                </a:lnTo>
                <a:lnTo>
                  <a:pt x="13" y="0"/>
                </a:lnTo>
                <a:lnTo>
                  <a:pt x="16" y="0"/>
                </a:lnTo>
                <a:lnTo>
                  <a:pt x="23" y="0"/>
                </a:lnTo>
                <a:lnTo>
                  <a:pt x="30" y="0"/>
                </a:lnTo>
                <a:lnTo>
                  <a:pt x="33" y="0"/>
                </a:lnTo>
                <a:lnTo>
                  <a:pt x="39" y="0"/>
                </a:lnTo>
                <a:lnTo>
                  <a:pt x="46" y="0"/>
                </a:lnTo>
                <a:lnTo>
                  <a:pt x="49" y="0"/>
                </a:lnTo>
                <a:lnTo>
                  <a:pt x="56" y="0"/>
                </a:lnTo>
                <a:lnTo>
                  <a:pt x="63" y="0"/>
                </a:lnTo>
                <a:lnTo>
                  <a:pt x="66" y="0"/>
                </a:lnTo>
                <a:lnTo>
                  <a:pt x="72" y="0"/>
                </a:lnTo>
                <a:lnTo>
                  <a:pt x="75" y="0"/>
                </a:lnTo>
                <a:lnTo>
                  <a:pt x="82" y="0"/>
                </a:lnTo>
                <a:lnTo>
                  <a:pt x="89" y="0"/>
                </a:lnTo>
                <a:lnTo>
                  <a:pt x="93" y="0"/>
                </a:lnTo>
                <a:lnTo>
                  <a:pt x="99" y="0"/>
                </a:lnTo>
                <a:lnTo>
                  <a:pt x="105" y="0"/>
                </a:lnTo>
                <a:lnTo>
                  <a:pt x="109" y="0"/>
                </a:lnTo>
                <a:lnTo>
                  <a:pt x="115" y="0"/>
                </a:lnTo>
                <a:lnTo>
                  <a:pt x="122" y="0"/>
                </a:lnTo>
                <a:lnTo>
                  <a:pt x="126" y="0"/>
                </a:lnTo>
                <a:lnTo>
                  <a:pt x="132" y="0"/>
                </a:lnTo>
                <a:lnTo>
                  <a:pt x="138" y="0"/>
                </a:lnTo>
                <a:lnTo>
                  <a:pt x="142" y="0"/>
                </a:lnTo>
                <a:lnTo>
                  <a:pt x="148" y="0"/>
                </a:lnTo>
                <a:lnTo>
                  <a:pt x="155" y="0"/>
                </a:lnTo>
                <a:lnTo>
                  <a:pt x="159" y="0"/>
                </a:lnTo>
                <a:lnTo>
                  <a:pt x="166" y="0"/>
                </a:lnTo>
                <a:lnTo>
                  <a:pt x="171" y="0"/>
                </a:lnTo>
                <a:lnTo>
                  <a:pt x="175" y="0"/>
                </a:lnTo>
                <a:lnTo>
                  <a:pt x="181" y="0"/>
                </a:lnTo>
                <a:lnTo>
                  <a:pt x="188" y="0"/>
                </a:lnTo>
                <a:lnTo>
                  <a:pt x="192" y="0"/>
                </a:lnTo>
                <a:lnTo>
                  <a:pt x="197" y="0"/>
                </a:lnTo>
                <a:lnTo>
                  <a:pt x="204" y="0"/>
                </a:lnTo>
                <a:lnTo>
                  <a:pt x="208" y="0"/>
                </a:lnTo>
                <a:lnTo>
                  <a:pt x="214" y="0"/>
                </a:lnTo>
                <a:lnTo>
                  <a:pt x="221" y="0"/>
                </a:lnTo>
                <a:lnTo>
                  <a:pt x="225" y="0"/>
                </a:lnTo>
                <a:lnTo>
                  <a:pt x="230" y="0"/>
                </a:lnTo>
                <a:lnTo>
                  <a:pt x="237" y="0"/>
                </a:lnTo>
                <a:lnTo>
                  <a:pt x="241" y="0"/>
                </a:lnTo>
                <a:lnTo>
                  <a:pt x="247" y="0"/>
                </a:lnTo>
                <a:lnTo>
                  <a:pt x="254" y="0"/>
                </a:lnTo>
                <a:lnTo>
                  <a:pt x="258" y="0"/>
                </a:lnTo>
                <a:lnTo>
                  <a:pt x="263" y="0"/>
                </a:lnTo>
                <a:lnTo>
                  <a:pt x="270" y="0"/>
                </a:lnTo>
                <a:lnTo>
                  <a:pt x="274" y="0"/>
                </a:lnTo>
                <a:lnTo>
                  <a:pt x="280" y="0"/>
                </a:lnTo>
                <a:lnTo>
                  <a:pt x="287" y="0"/>
                </a:lnTo>
                <a:lnTo>
                  <a:pt x="291" y="0"/>
                </a:lnTo>
                <a:lnTo>
                  <a:pt x="296" y="0"/>
                </a:lnTo>
                <a:lnTo>
                  <a:pt x="303" y="0"/>
                </a:lnTo>
                <a:lnTo>
                  <a:pt x="307" y="0"/>
                </a:lnTo>
                <a:lnTo>
                  <a:pt x="313" y="0"/>
                </a:lnTo>
                <a:lnTo>
                  <a:pt x="320" y="0"/>
                </a:lnTo>
                <a:lnTo>
                  <a:pt x="324" y="0"/>
                </a:lnTo>
                <a:lnTo>
                  <a:pt x="329" y="0"/>
                </a:lnTo>
                <a:lnTo>
                  <a:pt x="333" y="0"/>
                </a:lnTo>
                <a:lnTo>
                  <a:pt x="340" y="0"/>
                </a:lnTo>
                <a:lnTo>
                  <a:pt x="347" y="0"/>
                </a:lnTo>
                <a:lnTo>
                  <a:pt x="350" y="0"/>
                </a:lnTo>
                <a:lnTo>
                  <a:pt x="356" y="0"/>
                </a:lnTo>
                <a:lnTo>
                  <a:pt x="362" y="0"/>
                </a:lnTo>
                <a:lnTo>
                  <a:pt x="366" y="0"/>
                </a:lnTo>
                <a:lnTo>
                  <a:pt x="373" y="0"/>
                </a:lnTo>
                <a:lnTo>
                  <a:pt x="379" y="0"/>
                </a:lnTo>
                <a:lnTo>
                  <a:pt x="383" y="0"/>
                </a:lnTo>
                <a:lnTo>
                  <a:pt x="389" y="0"/>
                </a:lnTo>
                <a:lnTo>
                  <a:pt x="395" y="0"/>
                </a:lnTo>
                <a:lnTo>
                  <a:pt x="399" y="0"/>
                </a:lnTo>
                <a:lnTo>
                  <a:pt x="406" y="0"/>
                </a:lnTo>
                <a:lnTo>
                  <a:pt x="413" y="0"/>
                </a:lnTo>
                <a:lnTo>
                  <a:pt x="416" y="0"/>
                </a:lnTo>
                <a:lnTo>
                  <a:pt x="422" y="0"/>
                </a:lnTo>
                <a:lnTo>
                  <a:pt x="429" y="0"/>
                </a:lnTo>
                <a:lnTo>
                  <a:pt x="432" y="0"/>
                </a:lnTo>
                <a:lnTo>
                  <a:pt x="439" y="0"/>
                </a:lnTo>
                <a:lnTo>
                  <a:pt x="446" y="0"/>
                </a:lnTo>
                <a:lnTo>
                  <a:pt x="449" y="0"/>
                </a:lnTo>
                <a:lnTo>
                  <a:pt x="455" y="0"/>
                </a:lnTo>
                <a:lnTo>
                  <a:pt x="461" y="0"/>
                </a:lnTo>
                <a:lnTo>
                  <a:pt x="465" y="0"/>
                </a:lnTo>
                <a:lnTo>
                  <a:pt x="472" y="0"/>
                </a:lnTo>
                <a:lnTo>
                  <a:pt x="479" y="0"/>
                </a:lnTo>
                <a:lnTo>
                  <a:pt x="482" y="0"/>
                </a:lnTo>
                <a:lnTo>
                  <a:pt x="488" y="0"/>
                </a:lnTo>
                <a:lnTo>
                  <a:pt x="495" y="0"/>
                </a:lnTo>
                <a:lnTo>
                  <a:pt x="498" y="0"/>
                </a:lnTo>
                <a:lnTo>
                  <a:pt x="505" y="0"/>
                </a:lnTo>
                <a:lnTo>
                  <a:pt x="512" y="0"/>
                </a:lnTo>
                <a:lnTo>
                  <a:pt x="514" y="0"/>
                </a:lnTo>
                <a:lnTo>
                  <a:pt x="521" y="0"/>
                </a:lnTo>
                <a:lnTo>
                  <a:pt x="528" y="0"/>
                </a:lnTo>
                <a:lnTo>
                  <a:pt x="531" y="0"/>
                </a:lnTo>
                <a:lnTo>
                  <a:pt x="538" y="0"/>
                </a:lnTo>
                <a:lnTo>
                  <a:pt x="545" y="0"/>
                </a:lnTo>
                <a:lnTo>
                  <a:pt x="547" y="0"/>
                </a:lnTo>
                <a:lnTo>
                  <a:pt x="554" y="0"/>
                </a:lnTo>
                <a:lnTo>
                  <a:pt x="561" y="0"/>
                </a:lnTo>
                <a:lnTo>
                  <a:pt x="564" y="0"/>
                </a:lnTo>
                <a:lnTo>
                  <a:pt x="571" y="0"/>
                </a:lnTo>
                <a:lnTo>
                  <a:pt x="574" y="0"/>
                </a:lnTo>
                <a:lnTo>
                  <a:pt x="577" y="0"/>
                </a:lnTo>
              </a:path>
            </a:pathLst>
          </a:custGeom>
          <a:noFill/>
          <a:ln w="14400">
            <a:solidFill>
              <a:srgbClr val="3333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5" name=""/>
          <p:cNvSpPr/>
          <p:nvPr/>
        </p:nvSpPr>
        <p:spPr>
          <a:xfrm>
            <a:off x="3193920" y="3041640"/>
            <a:ext cx="1079640" cy="1744560"/>
          </a:xfrm>
          <a:custGeom>
            <a:avLst/>
            <a:gdLst/>
            <a:ahLst/>
            <a:rect l="l" t="t" r="r" b="b"/>
            <a:pathLst>
              <a:path w="9952" h="15990">
                <a:moveTo>
                  <a:pt x="0" y="12918"/>
                </a:moveTo>
                <a:lnTo>
                  <a:pt x="33" y="12918"/>
                </a:lnTo>
                <a:lnTo>
                  <a:pt x="133" y="12918"/>
                </a:lnTo>
                <a:lnTo>
                  <a:pt x="233" y="12918"/>
                </a:lnTo>
                <a:lnTo>
                  <a:pt x="283" y="12918"/>
                </a:lnTo>
                <a:lnTo>
                  <a:pt x="383" y="12918"/>
                </a:lnTo>
                <a:lnTo>
                  <a:pt x="483" y="12918"/>
                </a:lnTo>
                <a:lnTo>
                  <a:pt x="516" y="12918"/>
                </a:lnTo>
                <a:lnTo>
                  <a:pt x="533" y="12918"/>
                </a:lnTo>
                <a:lnTo>
                  <a:pt x="533" y="13051"/>
                </a:lnTo>
                <a:lnTo>
                  <a:pt x="516" y="13051"/>
                </a:lnTo>
                <a:lnTo>
                  <a:pt x="483" y="13051"/>
                </a:lnTo>
                <a:lnTo>
                  <a:pt x="383" y="13051"/>
                </a:lnTo>
                <a:lnTo>
                  <a:pt x="283" y="13051"/>
                </a:lnTo>
                <a:lnTo>
                  <a:pt x="233" y="13051"/>
                </a:lnTo>
                <a:lnTo>
                  <a:pt x="133" y="13051"/>
                </a:lnTo>
                <a:lnTo>
                  <a:pt x="33" y="13051"/>
                </a:lnTo>
                <a:lnTo>
                  <a:pt x="0" y="13051"/>
                </a:lnTo>
                <a:lnTo>
                  <a:pt x="0" y="12918"/>
                </a:lnTo>
                <a:close/>
                <a:moveTo>
                  <a:pt x="933" y="12918"/>
                </a:moveTo>
                <a:lnTo>
                  <a:pt x="950" y="12918"/>
                </a:lnTo>
                <a:lnTo>
                  <a:pt x="1000" y="12918"/>
                </a:lnTo>
                <a:lnTo>
                  <a:pt x="1100" y="12918"/>
                </a:lnTo>
                <a:lnTo>
                  <a:pt x="1200" y="12918"/>
                </a:lnTo>
                <a:lnTo>
                  <a:pt x="1250" y="12918"/>
                </a:lnTo>
                <a:lnTo>
                  <a:pt x="1350" y="12918"/>
                </a:lnTo>
                <a:lnTo>
                  <a:pt x="1433" y="12918"/>
                </a:lnTo>
                <a:lnTo>
                  <a:pt x="1466" y="12918"/>
                </a:lnTo>
                <a:lnTo>
                  <a:pt x="1466" y="13051"/>
                </a:lnTo>
                <a:lnTo>
                  <a:pt x="1433" y="13051"/>
                </a:lnTo>
                <a:lnTo>
                  <a:pt x="1350" y="13051"/>
                </a:lnTo>
                <a:lnTo>
                  <a:pt x="1250" y="13051"/>
                </a:lnTo>
                <a:lnTo>
                  <a:pt x="1200" y="13051"/>
                </a:lnTo>
                <a:lnTo>
                  <a:pt x="1100" y="13051"/>
                </a:lnTo>
                <a:lnTo>
                  <a:pt x="1000" y="13051"/>
                </a:lnTo>
                <a:lnTo>
                  <a:pt x="950" y="13051"/>
                </a:lnTo>
                <a:lnTo>
                  <a:pt x="933" y="13051"/>
                </a:lnTo>
                <a:lnTo>
                  <a:pt x="933" y="12918"/>
                </a:lnTo>
                <a:close/>
                <a:moveTo>
                  <a:pt x="1866" y="12918"/>
                </a:moveTo>
                <a:lnTo>
                  <a:pt x="1916" y="12918"/>
                </a:lnTo>
                <a:lnTo>
                  <a:pt x="1966" y="12918"/>
                </a:lnTo>
                <a:lnTo>
                  <a:pt x="2066" y="12918"/>
                </a:lnTo>
                <a:lnTo>
                  <a:pt x="2166" y="12918"/>
                </a:lnTo>
                <a:lnTo>
                  <a:pt x="2216" y="12918"/>
                </a:lnTo>
                <a:lnTo>
                  <a:pt x="2316" y="12918"/>
                </a:lnTo>
                <a:lnTo>
                  <a:pt x="2400" y="12918"/>
                </a:lnTo>
                <a:lnTo>
                  <a:pt x="2400" y="13051"/>
                </a:lnTo>
                <a:lnTo>
                  <a:pt x="2316" y="13051"/>
                </a:lnTo>
                <a:lnTo>
                  <a:pt x="2216" y="13051"/>
                </a:lnTo>
                <a:lnTo>
                  <a:pt x="2166" y="13051"/>
                </a:lnTo>
                <a:lnTo>
                  <a:pt x="2066" y="13051"/>
                </a:lnTo>
                <a:lnTo>
                  <a:pt x="1966" y="13051"/>
                </a:lnTo>
                <a:lnTo>
                  <a:pt x="1916" y="13051"/>
                </a:lnTo>
                <a:lnTo>
                  <a:pt x="1866" y="13051"/>
                </a:lnTo>
                <a:lnTo>
                  <a:pt x="1866" y="12918"/>
                </a:lnTo>
                <a:close/>
                <a:moveTo>
                  <a:pt x="2800" y="12918"/>
                </a:moveTo>
                <a:lnTo>
                  <a:pt x="2800" y="12918"/>
                </a:lnTo>
                <a:lnTo>
                  <a:pt x="2883" y="12918"/>
                </a:lnTo>
                <a:lnTo>
                  <a:pt x="2933" y="12918"/>
                </a:lnTo>
                <a:lnTo>
                  <a:pt x="3033" y="12918"/>
                </a:lnTo>
                <a:lnTo>
                  <a:pt x="3133" y="12918"/>
                </a:lnTo>
                <a:lnTo>
                  <a:pt x="3183" y="12918"/>
                </a:lnTo>
                <a:lnTo>
                  <a:pt x="3266" y="12918"/>
                </a:lnTo>
                <a:lnTo>
                  <a:pt x="3316" y="12918"/>
                </a:lnTo>
                <a:lnTo>
                  <a:pt x="3333" y="12918"/>
                </a:lnTo>
                <a:lnTo>
                  <a:pt x="3333" y="13051"/>
                </a:lnTo>
                <a:lnTo>
                  <a:pt x="3316" y="13051"/>
                </a:lnTo>
                <a:lnTo>
                  <a:pt x="3266" y="13051"/>
                </a:lnTo>
                <a:lnTo>
                  <a:pt x="3183" y="13051"/>
                </a:lnTo>
                <a:lnTo>
                  <a:pt x="3133" y="13051"/>
                </a:lnTo>
                <a:lnTo>
                  <a:pt x="3033" y="13051"/>
                </a:lnTo>
                <a:lnTo>
                  <a:pt x="2933" y="13051"/>
                </a:lnTo>
                <a:lnTo>
                  <a:pt x="2883" y="13051"/>
                </a:lnTo>
                <a:lnTo>
                  <a:pt x="2800" y="13051"/>
                </a:lnTo>
                <a:lnTo>
                  <a:pt x="2800" y="13051"/>
                </a:lnTo>
                <a:lnTo>
                  <a:pt x="2800" y="12918"/>
                </a:lnTo>
                <a:close/>
                <a:moveTo>
                  <a:pt x="3733" y="12918"/>
                </a:moveTo>
                <a:lnTo>
                  <a:pt x="3750" y="12918"/>
                </a:lnTo>
                <a:lnTo>
                  <a:pt x="3800" y="12918"/>
                </a:lnTo>
                <a:lnTo>
                  <a:pt x="3900" y="12918"/>
                </a:lnTo>
                <a:lnTo>
                  <a:pt x="4000" y="12918"/>
                </a:lnTo>
                <a:lnTo>
                  <a:pt x="4050" y="12918"/>
                </a:lnTo>
                <a:lnTo>
                  <a:pt x="4150" y="12918"/>
                </a:lnTo>
                <a:lnTo>
                  <a:pt x="4233" y="12918"/>
                </a:lnTo>
                <a:lnTo>
                  <a:pt x="4266" y="12918"/>
                </a:lnTo>
                <a:lnTo>
                  <a:pt x="4266" y="13051"/>
                </a:lnTo>
                <a:lnTo>
                  <a:pt x="4233" y="13051"/>
                </a:lnTo>
                <a:lnTo>
                  <a:pt x="4150" y="13051"/>
                </a:lnTo>
                <a:lnTo>
                  <a:pt x="4050" y="13051"/>
                </a:lnTo>
                <a:lnTo>
                  <a:pt x="4000" y="13051"/>
                </a:lnTo>
                <a:lnTo>
                  <a:pt x="3900" y="13051"/>
                </a:lnTo>
                <a:lnTo>
                  <a:pt x="3800" y="13051"/>
                </a:lnTo>
                <a:lnTo>
                  <a:pt x="3750" y="13051"/>
                </a:lnTo>
                <a:lnTo>
                  <a:pt x="3733" y="13051"/>
                </a:lnTo>
                <a:lnTo>
                  <a:pt x="3733" y="12918"/>
                </a:lnTo>
                <a:close/>
                <a:moveTo>
                  <a:pt x="4686" y="12888"/>
                </a:moveTo>
                <a:lnTo>
                  <a:pt x="4751" y="12927"/>
                </a:lnTo>
                <a:lnTo>
                  <a:pt x="4716" y="12918"/>
                </a:lnTo>
                <a:lnTo>
                  <a:pt x="4766" y="12918"/>
                </a:lnTo>
                <a:lnTo>
                  <a:pt x="4737" y="12925"/>
                </a:lnTo>
                <a:lnTo>
                  <a:pt x="4837" y="12875"/>
                </a:lnTo>
                <a:cubicBezTo>
                  <a:pt x="4855" y="12865"/>
                  <a:pt x="4878" y="12865"/>
                  <a:pt x="4896" y="12875"/>
                </a:cubicBezTo>
                <a:lnTo>
                  <a:pt x="4996" y="12925"/>
                </a:lnTo>
                <a:lnTo>
                  <a:pt x="4966" y="12918"/>
                </a:lnTo>
                <a:lnTo>
                  <a:pt x="5016" y="12918"/>
                </a:lnTo>
                <a:lnTo>
                  <a:pt x="5116" y="12918"/>
                </a:lnTo>
                <a:lnTo>
                  <a:pt x="5151" y="12918"/>
                </a:lnTo>
                <a:lnTo>
                  <a:pt x="5151" y="13051"/>
                </a:lnTo>
                <a:lnTo>
                  <a:pt x="5116" y="13051"/>
                </a:lnTo>
                <a:lnTo>
                  <a:pt x="5016" y="13051"/>
                </a:lnTo>
                <a:lnTo>
                  <a:pt x="4966" y="13051"/>
                </a:lnTo>
                <a:cubicBezTo>
                  <a:pt x="4956" y="13051"/>
                  <a:pt x="4946" y="13049"/>
                  <a:pt x="4937" y="13044"/>
                </a:cubicBezTo>
                <a:lnTo>
                  <a:pt x="4837" y="12994"/>
                </a:lnTo>
                <a:lnTo>
                  <a:pt x="4896" y="12994"/>
                </a:lnTo>
                <a:lnTo>
                  <a:pt x="4796" y="13044"/>
                </a:lnTo>
                <a:cubicBezTo>
                  <a:pt x="4787" y="13049"/>
                  <a:pt x="4777" y="13051"/>
                  <a:pt x="4766" y="13051"/>
                </a:cubicBezTo>
                <a:lnTo>
                  <a:pt x="4716" y="13051"/>
                </a:lnTo>
                <a:cubicBezTo>
                  <a:pt x="4704" y="13051"/>
                  <a:pt x="4693" y="13048"/>
                  <a:pt x="4682" y="13042"/>
                </a:cubicBezTo>
                <a:lnTo>
                  <a:pt x="4617" y="13003"/>
                </a:lnTo>
                <a:lnTo>
                  <a:pt x="4686" y="12888"/>
                </a:lnTo>
                <a:close/>
                <a:moveTo>
                  <a:pt x="5537" y="12927"/>
                </a:moveTo>
                <a:lnTo>
                  <a:pt x="5547" y="12937"/>
                </a:lnTo>
                <a:lnTo>
                  <a:pt x="5466" y="12927"/>
                </a:lnTo>
                <a:lnTo>
                  <a:pt x="5549" y="12877"/>
                </a:lnTo>
                <a:cubicBezTo>
                  <a:pt x="5559" y="12871"/>
                  <a:pt x="5571" y="12868"/>
                  <a:pt x="5583" y="12868"/>
                </a:cubicBezTo>
                <a:lnTo>
                  <a:pt x="5683" y="12868"/>
                </a:lnTo>
                <a:lnTo>
                  <a:pt x="5733" y="12868"/>
                </a:lnTo>
                <a:cubicBezTo>
                  <a:pt x="5755" y="12868"/>
                  <a:pt x="5776" y="12879"/>
                  <a:pt x="5789" y="12897"/>
                </a:cubicBezTo>
                <a:lnTo>
                  <a:pt x="5889" y="13047"/>
                </a:lnTo>
                <a:lnTo>
                  <a:pt x="5880" y="13037"/>
                </a:lnTo>
                <a:lnTo>
                  <a:pt x="5945" y="13102"/>
                </a:lnTo>
                <a:lnTo>
                  <a:pt x="5851" y="13196"/>
                </a:lnTo>
                <a:lnTo>
                  <a:pt x="5786" y="13132"/>
                </a:lnTo>
                <a:cubicBezTo>
                  <a:pt x="5783" y="13129"/>
                  <a:pt x="5780" y="13125"/>
                  <a:pt x="5778" y="13121"/>
                </a:cubicBezTo>
                <a:lnTo>
                  <a:pt x="5678" y="12971"/>
                </a:lnTo>
                <a:lnTo>
                  <a:pt x="5733" y="13001"/>
                </a:lnTo>
                <a:lnTo>
                  <a:pt x="5683" y="13001"/>
                </a:lnTo>
                <a:lnTo>
                  <a:pt x="5583" y="13001"/>
                </a:lnTo>
                <a:lnTo>
                  <a:pt x="5617" y="12992"/>
                </a:lnTo>
                <a:lnTo>
                  <a:pt x="5534" y="13042"/>
                </a:lnTo>
                <a:cubicBezTo>
                  <a:pt x="5508" y="13057"/>
                  <a:pt x="5474" y="13053"/>
                  <a:pt x="5453" y="13032"/>
                </a:cubicBezTo>
                <a:lnTo>
                  <a:pt x="5443" y="13022"/>
                </a:lnTo>
                <a:lnTo>
                  <a:pt x="5537" y="12927"/>
                </a:lnTo>
                <a:close/>
                <a:moveTo>
                  <a:pt x="5958" y="12838"/>
                </a:moveTo>
                <a:lnTo>
                  <a:pt x="6001" y="12590"/>
                </a:lnTo>
                <a:lnTo>
                  <a:pt x="6058" y="12312"/>
                </a:lnTo>
                <a:lnTo>
                  <a:pt x="6189" y="12339"/>
                </a:lnTo>
                <a:lnTo>
                  <a:pt x="6132" y="12612"/>
                </a:lnTo>
                <a:lnTo>
                  <a:pt x="6089" y="12861"/>
                </a:lnTo>
                <a:lnTo>
                  <a:pt x="5958" y="12838"/>
                </a:lnTo>
                <a:close/>
                <a:moveTo>
                  <a:pt x="6294" y="12278"/>
                </a:moveTo>
                <a:lnTo>
                  <a:pt x="6346" y="12808"/>
                </a:lnTo>
                <a:lnTo>
                  <a:pt x="6214" y="12821"/>
                </a:lnTo>
                <a:lnTo>
                  <a:pt x="6162" y="12291"/>
                </a:lnTo>
                <a:lnTo>
                  <a:pt x="6294" y="12278"/>
                </a:lnTo>
                <a:close/>
                <a:moveTo>
                  <a:pt x="6385" y="13208"/>
                </a:moveTo>
                <a:lnTo>
                  <a:pt x="6423" y="13740"/>
                </a:lnTo>
                <a:lnTo>
                  <a:pt x="6290" y="13750"/>
                </a:lnTo>
                <a:lnTo>
                  <a:pt x="6252" y="13218"/>
                </a:lnTo>
                <a:lnTo>
                  <a:pt x="6385" y="13208"/>
                </a:lnTo>
                <a:close/>
                <a:moveTo>
                  <a:pt x="6452" y="14139"/>
                </a:moveTo>
                <a:lnTo>
                  <a:pt x="6483" y="14563"/>
                </a:lnTo>
                <a:lnTo>
                  <a:pt x="6492" y="14670"/>
                </a:lnTo>
                <a:lnTo>
                  <a:pt x="6359" y="14682"/>
                </a:lnTo>
                <a:lnTo>
                  <a:pt x="6350" y="14573"/>
                </a:lnTo>
                <a:lnTo>
                  <a:pt x="6319" y="14149"/>
                </a:lnTo>
                <a:lnTo>
                  <a:pt x="6452" y="14139"/>
                </a:lnTo>
                <a:close/>
                <a:moveTo>
                  <a:pt x="6526" y="15069"/>
                </a:moveTo>
                <a:lnTo>
                  <a:pt x="6533" y="15145"/>
                </a:lnTo>
                <a:lnTo>
                  <a:pt x="6400" y="15148"/>
                </a:lnTo>
                <a:lnTo>
                  <a:pt x="6424" y="14692"/>
                </a:lnTo>
                <a:lnTo>
                  <a:pt x="6557" y="14699"/>
                </a:lnTo>
                <a:lnTo>
                  <a:pt x="6533" y="15155"/>
                </a:lnTo>
                <a:cubicBezTo>
                  <a:pt x="6531" y="15190"/>
                  <a:pt x="6503" y="15217"/>
                  <a:pt x="6468" y="15218"/>
                </a:cubicBezTo>
                <a:cubicBezTo>
                  <a:pt x="6433" y="15218"/>
                  <a:pt x="6403" y="15192"/>
                  <a:pt x="6400" y="15157"/>
                </a:cubicBezTo>
                <a:lnTo>
                  <a:pt x="6393" y="15080"/>
                </a:lnTo>
                <a:lnTo>
                  <a:pt x="6526" y="15069"/>
                </a:lnTo>
                <a:close/>
                <a:moveTo>
                  <a:pt x="6445" y="14293"/>
                </a:moveTo>
                <a:lnTo>
                  <a:pt x="6473" y="13760"/>
                </a:lnTo>
                <a:lnTo>
                  <a:pt x="6606" y="13767"/>
                </a:lnTo>
                <a:lnTo>
                  <a:pt x="6578" y="14300"/>
                </a:lnTo>
                <a:lnTo>
                  <a:pt x="6445" y="14293"/>
                </a:lnTo>
                <a:close/>
                <a:moveTo>
                  <a:pt x="6488" y="13362"/>
                </a:moveTo>
                <a:lnTo>
                  <a:pt x="6501" y="12829"/>
                </a:lnTo>
                <a:lnTo>
                  <a:pt x="6634" y="12832"/>
                </a:lnTo>
                <a:lnTo>
                  <a:pt x="6621" y="13365"/>
                </a:lnTo>
                <a:lnTo>
                  <a:pt x="6488" y="13362"/>
                </a:lnTo>
                <a:close/>
                <a:moveTo>
                  <a:pt x="6511" y="12429"/>
                </a:moveTo>
                <a:lnTo>
                  <a:pt x="6523" y="11896"/>
                </a:lnTo>
                <a:lnTo>
                  <a:pt x="6657" y="11899"/>
                </a:lnTo>
                <a:lnTo>
                  <a:pt x="6644" y="12432"/>
                </a:lnTo>
                <a:lnTo>
                  <a:pt x="6511" y="12429"/>
                </a:lnTo>
                <a:close/>
                <a:moveTo>
                  <a:pt x="6533" y="11496"/>
                </a:moveTo>
                <a:lnTo>
                  <a:pt x="6546" y="10963"/>
                </a:lnTo>
                <a:lnTo>
                  <a:pt x="6679" y="10966"/>
                </a:lnTo>
                <a:lnTo>
                  <a:pt x="6666" y="11499"/>
                </a:lnTo>
                <a:lnTo>
                  <a:pt x="6533" y="11496"/>
                </a:lnTo>
                <a:close/>
                <a:moveTo>
                  <a:pt x="6556" y="10563"/>
                </a:moveTo>
                <a:lnTo>
                  <a:pt x="6568" y="10030"/>
                </a:lnTo>
                <a:lnTo>
                  <a:pt x="6702" y="10033"/>
                </a:lnTo>
                <a:lnTo>
                  <a:pt x="6689" y="10566"/>
                </a:lnTo>
                <a:lnTo>
                  <a:pt x="6556" y="10563"/>
                </a:lnTo>
                <a:close/>
                <a:moveTo>
                  <a:pt x="6578" y="9630"/>
                </a:moveTo>
                <a:lnTo>
                  <a:pt x="6583" y="9416"/>
                </a:lnTo>
                <a:lnTo>
                  <a:pt x="6586" y="9098"/>
                </a:lnTo>
                <a:lnTo>
                  <a:pt x="6720" y="9099"/>
                </a:lnTo>
                <a:lnTo>
                  <a:pt x="6716" y="9419"/>
                </a:lnTo>
                <a:lnTo>
                  <a:pt x="6711" y="9633"/>
                </a:lnTo>
                <a:lnTo>
                  <a:pt x="6578" y="9630"/>
                </a:lnTo>
                <a:close/>
                <a:moveTo>
                  <a:pt x="6590" y="8698"/>
                </a:moveTo>
                <a:lnTo>
                  <a:pt x="6595" y="8164"/>
                </a:lnTo>
                <a:lnTo>
                  <a:pt x="6729" y="8166"/>
                </a:lnTo>
                <a:lnTo>
                  <a:pt x="6723" y="8699"/>
                </a:lnTo>
                <a:lnTo>
                  <a:pt x="6590" y="8698"/>
                </a:lnTo>
                <a:close/>
                <a:moveTo>
                  <a:pt x="6599" y="7764"/>
                </a:moveTo>
                <a:lnTo>
                  <a:pt x="6604" y="7231"/>
                </a:lnTo>
                <a:lnTo>
                  <a:pt x="6737" y="7232"/>
                </a:lnTo>
                <a:lnTo>
                  <a:pt x="6732" y="7766"/>
                </a:lnTo>
                <a:lnTo>
                  <a:pt x="6599" y="7764"/>
                </a:lnTo>
                <a:close/>
                <a:moveTo>
                  <a:pt x="6608" y="6831"/>
                </a:moveTo>
                <a:lnTo>
                  <a:pt x="6613" y="6298"/>
                </a:lnTo>
                <a:lnTo>
                  <a:pt x="6746" y="6299"/>
                </a:lnTo>
                <a:lnTo>
                  <a:pt x="6741" y="6832"/>
                </a:lnTo>
                <a:lnTo>
                  <a:pt x="6608" y="6831"/>
                </a:lnTo>
                <a:close/>
                <a:moveTo>
                  <a:pt x="6617" y="5898"/>
                </a:moveTo>
                <a:lnTo>
                  <a:pt x="6622" y="5364"/>
                </a:lnTo>
                <a:lnTo>
                  <a:pt x="6755" y="5366"/>
                </a:lnTo>
                <a:lnTo>
                  <a:pt x="6750" y="5899"/>
                </a:lnTo>
                <a:lnTo>
                  <a:pt x="6617" y="5898"/>
                </a:lnTo>
                <a:close/>
                <a:moveTo>
                  <a:pt x="6626" y="4964"/>
                </a:moveTo>
                <a:lnTo>
                  <a:pt x="6631" y="4431"/>
                </a:lnTo>
                <a:lnTo>
                  <a:pt x="6764" y="4432"/>
                </a:lnTo>
                <a:lnTo>
                  <a:pt x="6759" y="4966"/>
                </a:lnTo>
                <a:lnTo>
                  <a:pt x="6626" y="4964"/>
                </a:lnTo>
                <a:close/>
                <a:moveTo>
                  <a:pt x="6638" y="4030"/>
                </a:moveTo>
                <a:lnTo>
                  <a:pt x="6652" y="3497"/>
                </a:lnTo>
                <a:lnTo>
                  <a:pt x="6786" y="3501"/>
                </a:lnTo>
                <a:lnTo>
                  <a:pt x="6771" y="4034"/>
                </a:lnTo>
                <a:lnTo>
                  <a:pt x="6638" y="4030"/>
                </a:lnTo>
                <a:close/>
                <a:moveTo>
                  <a:pt x="6663" y="3097"/>
                </a:moveTo>
                <a:lnTo>
                  <a:pt x="6677" y="2564"/>
                </a:lnTo>
                <a:lnTo>
                  <a:pt x="6810" y="2568"/>
                </a:lnTo>
                <a:lnTo>
                  <a:pt x="6796" y="3101"/>
                </a:lnTo>
                <a:lnTo>
                  <a:pt x="6663" y="3097"/>
                </a:lnTo>
                <a:close/>
                <a:moveTo>
                  <a:pt x="6688" y="2164"/>
                </a:moveTo>
                <a:lnTo>
                  <a:pt x="6702" y="1631"/>
                </a:lnTo>
                <a:lnTo>
                  <a:pt x="6835" y="1635"/>
                </a:lnTo>
                <a:lnTo>
                  <a:pt x="6821" y="2168"/>
                </a:lnTo>
                <a:lnTo>
                  <a:pt x="6688" y="2164"/>
                </a:lnTo>
                <a:close/>
                <a:moveTo>
                  <a:pt x="6713" y="1231"/>
                </a:moveTo>
                <a:lnTo>
                  <a:pt x="6727" y="698"/>
                </a:lnTo>
                <a:lnTo>
                  <a:pt x="6860" y="702"/>
                </a:lnTo>
                <a:lnTo>
                  <a:pt x="6846" y="1235"/>
                </a:lnTo>
                <a:lnTo>
                  <a:pt x="6713" y="1231"/>
                </a:lnTo>
                <a:close/>
                <a:moveTo>
                  <a:pt x="6754" y="293"/>
                </a:moveTo>
                <a:lnTo>
                  <a:pt x="6784" y="60"/>
                </a:lnTo>
                <a:cubicBezTo>
                  <a:pt x="6788" y="25"/>
                  <a:pt x="6818" y="0"/>
                  <a:pt x="6853" y="1"/>
                </a:cubicBezTo>
                <a:cubicBezTo>
                  <a:pt x="6888" y="3"/>
                  <a:pt x="6915" y="31"/>
                  <a:pt x="6916" y="66"/>
                </a:cubicBezTo>
                <a:lnTo>
                  <a:pt x="6925" y="364"/>
                </a:lnTo>
                <a:lnTo>
                  <a:pt x="6792" y="368"/>
                </a:lnTo>
                <a:lnTo>
                  <a:pt x="6783" y="70"/>
                </a:lnTo>
                <a:lnTo>
                  <a:pt x="6916" y="76"/>
                </a:lnTo>
                <a:lnTo>
                  <a:pt x="6887" y="309"/>
                </a:lnTo>
                <a:lnTo>
                  <a:pt x="6754" y="293"/>
                </a:lnTo>
                <a:close/>
                <a:moveTo>
                  <a:pt x="6937" y="764"/>
                </a:moveTo>
                <a:lnTo>
                  <a:pt x="6953" y="1297"/>
                </a:lnTo>
                <a:lnTo>
                  <a:pt x="6820" y="1301"/>
                </a:lnTo>
                <a:lnTo>
                  <a:pt x="6804" y="768"/>
                </a:lnTo>
                <a:lnTo>
                  <a:pt x="6937" y="764"/>
                </a:lnTo>
                <a:close/>
                <a:moveTo>
                  <a:pt x="6965" y="1697"/>
                </a:moveTo>
                <a:lnTo>
                  <a:pt x="6980" y="2230"/>
                </a:lnTo>
                <a:lnTo>
                  <a:pt x="6847" y="2234"/>
                </a:lnTo>
                <a:lnTo>
                  <a:pt x="6831" y="1701"/>
                </a:lnTo>
                <a:lnTo>
                  <a:pt x="6965" y="1697"/>
                </a:lnTo>
                <a:close/>
                <a:moveTo>
                  <a:pt x="6992" y="2630"/>
                </a:moveTo>
                <a:lnTo>
                  <a:pt x="7008" y="3163"/>
                </a:lnTo>
                <a:lnTo>
                  <a:pt x="6875" y="3167"/>
                </a:lnTo>
                <a:lnTo>
                  <a:pt x="6859" y="2634"/>
                </a:lnTo>
                <a:lnTo>
                  <a:pt x="6992" y="2630"/>
                </a:lnTo>
                <a:close/>
                <a:moveTo>
                  <a:pt x="7018" y="3563"/>
                </a:moveTo>
                <a:lnTo>
                  <a:pt x="7027" y="4097"/>
                </a:lnTo>
                <a:lnTo>
                  <a:pt x="6893" y="4099"/>
                </a:lnTo>
                <a:lnTo>
                  <a:pt x="6885" y="3566"/>
                </a:lnTo>
                <a:lnTo>
                  <a:pt x="7018" y="3563"/>
                </a:lnTo>
                <a:close/>
                <a:moveTo>
                  <a:pt x="7033" y="4497"/>
                </a:moveTo>
                <a:lnTo>
                  <a:pt x="7041" y="5030"/>
                </a:lnTo>
                <a:lnTo>
                  <a:pt x="6908" y="5032"/>
                </a:lnTo>
                <a:lnTo>
                  <a:pt x="6899" y="4499"/>
                </a:lnTo>
                <a:lnTo>
                  <a:pt x="7033" y="4497"/>
                </a:lnTo>
                <a:close/>
                <a:moveTo>
                  <a:pt x="7047" y="5430"/>
                </a:moveTo>
                <a:lnTo>
                  <a:pt x="7056" y="5963"/>
                </a:lnTo>
                <a:lnTo>
                  <a:pt x="6922" y="5965"/>
                </a:lnTo>
                <a:lnTo>
                  <a:pt x="6914" y="5432"/>
                </a:lnTo>
                <a:lnTo>
                  <a:pt x="7047" y="5430"/>
                </a:lnTo>
                <a:close/>
                <a:moveTo>
                  <a:pt x="7062" y="6363"/>
                </a:moveTo>
                <a:lnTo>
                  <a:pt x="7070" y="6896"/>
                </a:lnTo>
                <a:lnTo>
                  <a:pt x="6937" y="6898"/>
                </a:lnTo>
                <a:lnTo>
                  <a:pt x="6929" y="6365"/>
                </a:lnTo>
                <a:lnTo>
                  <a:pt x="7062" y="6363"/>
                </a:lnTo>
                <a:close/>
                <a:moveTo>
                  <a:pt x="7076" y="7296"/>
                </a:moveTo>
                <a:lnTo>
                  <a:pt x="7085" y="7830"/>
                </a:lnTo>
                <a:lnTo>
                  <a:pt x="6951" y="7832"/>
                </a:lnTo>
                <a:lnTo>
                  <a:pt x="6943" y="7298"/>
                </a:lnTo>
                <a:lnTo>
                  <a:pt x="7076" y="7296"/>
                </a:lnTo>
                <a:close/>
                <a:moveTo>
                  <a:pt x="7091" y="8230"/>
                </a:moveTo>
                <a:lnTo>
                  <a:pt x="7099" y="8763"/>
                </a:lnTo>
                <a:lnTo>
                  <a:pt x="6966" y="8765"/>
                </a:lnTo>
                <a:lnTo>
                  <a:pt x="6958" y="8232"/>
                </a:lnTo>
                <a:lnTo>
                  <a:pt x="7091" y="8230"/>
                </a:lnTo>
                <a:close/>
                <a:moveTo>
                  <a:pt x="7104" y="9163"/>
                </a:moveTo>
                <a:lnTo>
                  <a:pt x="7109" y="9696"/>
                </a:lnTo>
                <a:lnTo>
                  <a:pt x="6976" y="9698"/>
                </a:lnTo>
                <a:lnTo>
                  <a:pt x="6970" y="9165"/>
                </a:lnTo>
                <a:lnTo>
                  <a:pt x="7104" y="9163"/>
                </a:lnTo>
                <a:close/>
                <a:moveTo>
                  <a:pt x="7113" y="10096"/>
                </a:moveTo>
                <a:lnTo>
                  <a:pt x="7119" y="10630"/>
                </a:lnTo>
                <a:lnTo>
                  <a:pt x="6986" y="10631"/>
                </a:lnTo>
                <a:lnTo>
                  <a:pt x="6980" y="10098"/>
                </a:lnTo>
                <a:lnTo>
                  <a:pt x="7113" y="10096"/>
                </a:lnTo>
                <a:close/>
                <a:moveTo>
                  <a:pt x="7123" y="11030"/>
                </a:moveTo>
                <a:lnTo>
                  <a:pt x="7129" y="11563"/>
                </a:lnTo>
                <a:lnTo>
                  <a:pt x="6995" y="11564"/>
                </a:lnTo>
                <a:lnTo>
                  <a:pt x="6990" y="11031"/>
                </a:lnTo>
                <a:lnTo>
                  <a:pt x="7123" y="11030"/>
                </a:lnTo>
                <a:close/>
                <a:moveTo>
                  <a:pt x="7133" y="11963"/>
                </a:moveTo>
                <a:lnTo>
                  <a:pt x="7139" y="12496"/>
                </a:lnTo>
                <a:lnTo>
                  <a:pt x="7005" y="12498"/>
                </a:lnTo>
                <a:lnTo>
                  <a:pt x="7000" y="11964"/>
                </a:lnTo>
                <a:lnTo>
                  <a:pt x="7133" y="11963"/>
                </a:lnTo>
                <a:close/>
                <a:moveTo>
                  <a:pt x="7143" y="12896"/>
                </a:moveTo>
                <a:lnTo>
                  <a:pt x="7148" y="13430"/>
                </a:lnTo>
                <a:lnTo>
                  <a:pt x="7015" y="13431"/>
                </a:lnTo>
                <a:lnTo>
                  <a:pt x="7009" y="12898"/>
                </a:lnTo>
                <a:lnTo>
                  <a:pt x="7143" y="12896"/>
                </a:lnTo>
                <a:close/>
                <a:moveTo>
                  <a:pt x="7161" y="13827"/>
                </a:moveTo>
                <a:lnTo>
                  <a:pt x="7184" y="14360"/>
                </a:lnTo>
                <a:lnTo>
                  <a:pt x="7050" y="14366"/>
                </a:lnTo>
                <a:lnTo>
                  <a:pt x="7028" y="13833"/>
                </a:lnTo>
                <a:lnTo>
                  <a:pt x="7161" y="13827"/>
                </a:lnTo>
                <a:close/>
                <a:moveTo>
                  <a:pt x="7201" y="14760"/>
                </a:moveTo>
                <a:lnTo>
                  <a:pt x="7223" y="15293"/>
                </a:lnTo>
                <a:lnTo>
                  <a:pt x="7090" y="15298"/>
                </a:lnTo>
                <a:lnTo>
                  <a:pt x="7067" y="14765"/>
                </a:lnTo>
                <a:lnTo>
                  <a:pt x="7201" y="14760"/>
                </a:lnTo>
                <a:close/>
                <a:moveTo>
                  <a:pt x="7240" y="15692"/>
                </a:moveTo>
                <a:lnTo>
                  <a:pt x="7250" y="15915"/>
                </a:lnTo>
                <a:lnTo>
                  <a:pt x="7130" y="15878"/>
                </a:lnTo>
                <a:lnTo>
                  <a:pt x="7230" y="15744"/>
                </a:lnTo>
                <a:lnTo>
                  <a:pt x="7217" y="15782"/>
                </a:lnTo>
                <a:lnTo>
                  <a:pt x="7221" y="15639"/>
                </a:lnTo>
                <a:lnTo>
                  <a:pt x="7355" y="15643"/>
                </a:lnTo>
                <a:lnTo>
                  <a:pt x="7350" y="15787"/>
                </a:lnTo>
                <a:cubicBezTo>
                  <a:pt x="7349" y="15800"/>
                  <a:pt x="7345" y="15814"/>
                  <a:pt x="7336" y="15824"/>
                </a:cubicBezTo>
                <a:lnTo>
                  <a:pt x="7236" y="15958"/>
                </a:lnTo>
                <a:cubicBezTo>
                  <a:pt x="7220" y="15980"/>
                  <a:pt x="7190" y="15990"/>
                  <a:pt x="7163" y="15981"/>
                </a:cubicBezTo>
                <a:cubicBezTo>
                  <a:pt x="7136" y="15973"/>
                  <a:pt x="7118" y="15949"/>
                  <a:pt x="7117" y="15921"/>
                </a:cubicBezTo>
                <a:lnTo>
                  <a:pt x="7107" y="15698"/>
                </a:lnTo>
                <a:lnTo>
                  <a:pt x="7240" y="15692"/>
                </a:lnTo>
                <a:close/>
                <a:moveTo>
                  <a:pt x="7235" y="15239"/>
                </a:moveTo>
                <a:lnTo>
                  <a:pt x="7254" y="14706"/>
                </a:lnTo>
                <a:lnTo>
                  <a:pt x="7387" y="14710"/>
                </a:lnTo>
                <a:lnTo>
                  <a:pt x="7368" y="15243"/>
                </a:lnTo>
                <a:lnTo>
                  <a:pt x="7235" y="15239"/>
                </a:lnTo>
                <a:close/>
                <a:moveTo>
                  <a:pt x="7269" y="14303"/>
                </a:moveTo>
                <a:lnTo>
                  <a:pt x="7310" y="13771"/>
                </a:lnTo>
                <a:lnTo>
                  <a:pt x="7443" y="13782"/>
                </a:lnTo>
                <a:lnTo>
                  <a:pt x="7402" y="14313"/>
                </a:lnTo>
                <a:lnTo>
                  <a:pt x="7269" y="14303"/>
                </a:lnTo>
                <a:close/>
                <a:moveTo>
                  <a:pt x="7340" y="13373"/>
                </a:moveTo>
                <a:lnTo>
                  <a:pt x="7367" y="13029"/>
                </a:lnTo>
                <a:cubicBezTo>
                  <a:pt x="7367" y="13026"/>
                  <a:pt x="7368" y="13022"/>
                  <a:pt x="7368" y="13018"/>
                </a:cubicBezTo>
                <a:lnTo>
                  <a:pt x="7414" y="12835"/>
                </a:lnTo>
                <a:lnTo>
                  <a:pt x="7544" y="12867"/>
                </a:lnTo>
                <a:lnTo>
                  <a:pt x="7498" y="13051"/>
                </a:lnTo>
                <a:lnTo>
                  <a:pt x="7500" y="13040"/>
                </a:lnTo>
                <a:lnTo>
                  <a:pt x="7473" y="13383"/>
                </a:lnTo>
                <a:lnTo>
                  <a:pt x="7340" y="13373"/>
                </a:lnTo>
                <a:close/>
                <a:moveTo>
                  <a:pt x="7614" y="12936"/>
                </a:moveTo>
                <a:lnTo>
                  <a:pt x="7633" y="13076"/>
                </a:lnTo>
                <a:lnTo>
                  <a:pt x="7704" y="13458"/>
                </a:lnTo>
                <a:lnTo>
                  <a:pt x="7573" y="13482"/>
                </a:lnTo>
                <a:lnTo>
                  <a:pt x="7500" y="13093"/>
                </a:lnTo>
                <a:lnTo>
                  <a:pt x="7482" y="12953"/>
                </a:lnTo>
                <a:lnTo>
                  <a:pt x="7614" y="12936"/>
                </a:lnTo>
                <a:close/>
                <a:moveTo>
                  <a:pt x="7748" y="13725"/>
                </a:moveTo>
                <a:lnTo>
                  <a:pt x="7769" y="13704"/>
                </a:lnTo>
                <a:lnTo>
                  <a:pt x="7756" y="13724"/>
                </a:lnTo>
                <a:lnTo>
                  <a:pt x="7839" y="13540"/>
                </a:lnTo>
                <a:cubicBezTo>
                  <a:pt x="7845" y="13526"/>
                  <a:pt x="7856" y="13515"/>
                  <a:pt x="7870" y="13508"/>
                </a:cubicBezTo>
                <a:lnTo>
                  <a:pt x="7970" y="13458"/>
                </a:lnTo>
                <a:cubicBezTo>
                  <a:pt x="7979" y="13454"/>
                  <a:pt x="7989" y="13451"/>
                  <a:pt x="8000" y="13451"/>
                </a:cubicBezTo>
                <a:lnTo>
                  <a:pt x="8050" y="13451"/>
                </a:lnTo>
                <a:cubicBezTo>
                  <a:pt x="8060" y="13451"/>
                  <a:pt x="8070" y="13454"/>
                  <a:pt x="8080" y="13458"/>
                </a:cubicBezTo>
                <a:lnTo>
                  <a:pt x="8180" y="13508"/>
                </a:lnTo>
                <a:lnTo>
                  <a:pt x="8120" y="13508"/>
                </a:lnTo>
                <a:lnTo>
                  <a:pt x="8145" y="13496"/>
                </a:lnTo>
                <a:lnTo>
                  <a:pt x="8205" y="13615"/>
                </a:lnTo>
                <a:lnTo>
                  <a:pt x="8180" y="13627"/>
                </a:lnTo>
                <a:cubicBezTo>
                  <a:pt x="8161" y="13637"/>
                  <a:pt x="8139" y="13637"/>
                  <a:pt x="8120" y="13627"/>
                </a:cubicBezTo>
                <a:lnTo>
                  <a:pt x="8020" y="13577"/>
                </a:lnTo>
                <a:lnTo>
                  <a:pt x="8050" y="13584"/>
                </a:lnTo>
                <a:lnTo>
                  <a:pt x="8000" y="13584"/>
                </a:lnTo>
                <a:lnTo>
                  <a:pt x="8030" y="13577"/>
                </a:lnTo>
                <a:lnTo>
                  <a:pt x="7930" y="13627"/>
                </a:lnTo>
                <a:lnTo>
                  <a:pt x="7960" y="13595"/>
                </a:lnTo>
                <a:lnTo>
                  <a:pt x="7877" y="13779"/>
                </a:lnTo>
                <a:cubicBezTo>
                  <a:pt x="7874" y="13786"/>
                  <a:pt x="7869" y="13793"/>
                  <a:pt x="7864" y="13798"/>
                </a:cubicBezTo>
                <a:lnTo>
                  <a:pt x="7842" y="13819"/>
                </a:lnTo>
                <a:lnTo>
                  <a:pt x="7748" y="13725"/>
                </a:lnTo>
                <a:close/>
                <a:moveTo>
                  <a:pt x="8534" y="13551"/>
                </a:moveTo>
                <a:lnTo>
                  <a:pt x="8633" y="13551"/>
                </a:lnTo>
                <a:lnTo>
                  <a:pt x="8733" y="13551"/>
                </a:lnTo>
                <a:lnTo>
                  <a:pt x="8783" y="13551"/>
                </a:lnTo>
                <a:lnTo>
                  <a:pt x="8866" y="13551"/>
                </a:lnTo>
                <a:cubicBezTo>
                  <a:pt x="8877" y="13551"/>
                  <a:pt x="8887" y="13554"/>
                  <a:pt x="8896" y="13558"/>
                </a:cubicBezTo>
                <a:lnTo>
                  <a:pt x="8996" y="13608"/>
                </a:lnTo>
                <a:lnTo>
                  <a:pt x="8966" y="13601"/>
                </a:lnTo>
                <a:lnTo>
                  <a:pt x="9016" y="13601"/>
                </a:lnTo>
                <a:lnTo>
                  <a:pt x="9055" y="13601"/>
                </a:lnTo>
                <a:lnTo>
                  <a:pt x="9055" y="13734"/>
                </a:lnTo>
                <a:lnTo>
                  <a:pt x="9016" y="13734"/>
                </a:lnTo>
                <a:lnTo>
                  <a:pt x="8966" y="13734"/>
                </a:lnTo>
                <a:cubicBezTo>
                  <a:pt x="8956" y="13734"/>
                  <a:pt x="8946" y="13732"/>
                  <a:pt x="8937" y="13727"/>
                </a:cubicBezTo>
                <a:lnTo>
                  <a:pt x="8837" y="13677"/>
                </a:lnTo>
                <a:lnTo>
                  <a:pt x="8866" y="13684"/>
                </a:lnTo>
                <a:lnTo>
                  <a:pt x="8783" y="13684"/>
                </a:lnTo>
                <a:lnTo>
                  <a:pt x="8733" y="13684"/>
                </a:lnTo>
                <a:lnTo>
                  <a:pt x="8633" y="13684"/>
                </a:lnTo>
                <a:lnTo>
                  <a:pt x="8534" y="13684"/>
                </a:lnTo>
                <a:lnTo>
                  <a:pt x="8534" y="13551"/>
                </a:lnTo>
                <a:close/>
                <a:moveTo>
                  <a:pt x="9431" y="13684"/>
                </a:moveTo>
                <a:lnTo>
                  <a:pt x="9450" y="13684"/>
                </a:lnTo>
                <a:lnTo>
                  <a:pt x="9500" y="13684"/>
                </a:lnTo>
                <a:cubicBezTo>
                  <a:pt x="9510" y="13684"/>
                  <a:pt x="9520" y="13687"/>
                  <a:pt x="9530" y="13692"/>
                </a:cubicBezTo>
                <a:lnTo>
                  <a:pt x="9630" y="13742"/>
                </a:lnTo>
                <a:lnTo>
                  <a:pt x="9600" y="13734"/>
                </a:lnTo>
                <a:lnTo>
                  <a:pt x="9700" y="13734"/>
                </a:lnTo>
                <a:cubicBezTo>
                  <a:pt x="9717" y="13734"/>
                  <a:pt x="9734" y="13741"/>
                  <a:pt x="9747" y="13754"/>
                </a:cubicBezTo>
                <a:lnTo>
                  <a:pt x="9797" y="13804"/>
                </a:lnTo>
                <a:lnTo>
                  <a:pt x="9750" y="13784"/>
                </a:lnTo>
                <a:lnTo>
                  <a:pt x="9833" y="13784"/>
                </a:lnTo>
                <a:cubicBezTo>
                  <a:pt x="9843" y="13784"/>
                  <a:pt x="9854" y="13787"/>
                  <a:pt x="9863" y="13792"/>
                </a:cubicBezTo>
                <a:lnTo>
                  <a:pt x="9952" y="13836"/>
                </a:lnTo>
                <a:lnTo>
                  <a:pt x="9892" y="13955"/>
                </a:lnTo>
                <a:lnTo>
                  <a:pt x="9803" y="13911"/>
                </a:lnTo>
                <a:lnTo>
                  <a:pt x="9833" y="13918"/>
                </a:lnTo>
                <a:lnTo>
                  <a:pt x="9750" y="13918"/>
                </a:lnTo>
                <a:cubicBezTo>
                  <a:pt x="9732" y="13918"/>
                  <a:pt x="9715" y="13911"/>
                  <a:pt x="9703" y="13898"/>
                </a:cubicBezTo>
                <a:lnTo>
                  <a:pt x="9653" y="13848"/>
                </a:lnTo>
                <a:lnTo>
                  <a:pt x="9700" y="13868"/>
                </a:lnTo>
                <a:lnTo>
                  <a:pt x="9600" y="13868"/>
                </a:lnTo>
                <a:cubicBezTo>
                  <a:pt x="9589" y="13868"/>
                  <a:pt x="9579" y="13865"/>
                  <a:pt x="9570" y="13861"/>
                </a:cubicBezTo>
                <a:lnTo>
                  <a:pt x="9470" y="13811"/>
                </a:lnTo>
                <a:lnTo>
                  <a:pt x="9500" y="13818"/>
                </a:lnTo>
                <a:lnTo>
                  <a:pt x="9450" y="13818"/>
                </a:lnTo>
                <a:lnTo>
                  <a:pt x="9431" y="13818"/>
                </a:lnTo>
                <a:lnTo>
                  <a:pt x="9431" y="13684"/>
                </a:lnTo>
                <a:close/>
              </a:path>
            </a:pathLst>
          </a:custGeom>
          <a:solidFill>
            <a:srgbClr val="3333ff"/>
          </a:solidFill>
          <a:ln w="144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4299120" y="3797280"/>
            <a:ext cx="1106280" cy="1298520"/>
          </a:xfrm>
          <a:custGeom>
            <a:avLst/>
            <a:gdLst/>
            <a:ahLst/>
            <a:rect l="l" t="t" r="r" b="b"/>
            <a:pathLst>
              <a:path w="10199" h="11899">
                <a:moveTo>
                  <a:pt x="0" y="7010"/>
                </a:moveTo>
                <a:lnTo>
                  <a:pt x="33" y="7010"/>
                </a:lnTo>
                <a:cubicBezTo>
                  <a:pt x="44" y="7010"/>
                  <a:pt x="54" y="7013"/>
                  <a:pt x="63" y="7018"/>
                </a:cubicBezTo>
                <a:lnTo>
                  <a:pt x="163" y="7068"/>
                </a:lnTo>
                <a:lnTo>
                  <a:pt x="263" y="7118"/>
                </a:lnTo>
                <a:lnTo>
                  <a:pt x="233" y="7110"/>
                </a:lnTo>
                <a:lnTo>
                  <a:pt x="283" y="7110"/>
                </a:lnTo>
                <a:cubicBezTo>
                  <a:pt x="291" y="7110"/>
                  <a:pt x="298" y="7112"/>
                  <a:pt x="305" y="7114"/>
                </a:cubicBezTo>
                <a:lnTo>
                  <a:pt x="405" y="7147"/>
                </a:lnTo>
                <a:cubicBezTo>
                  <a:pt x="414" y="7150"/>
                  <a:pt x="423" y="7156"/>
                  <a:pt x="431" y="7163"/>
                </a:cubicBezTo>
                <a:lnTo>
                  <a:pt x="481" y="7213"/>
                </a:lnTo>
                <a:lnTo>
                  <a:pt x="433" y="7194"/>
                </a:lnTo>
                <a:lnTo>
                  <a:pt x="484" y="7194"/>
                </a:lnTo>
                <a:lnTo>
                  <a:pt x="484" y="7327"/>
                </a:lnTo>
                <a:lnTo>
                  <a:pt x="433" y="7327"/>
                </a:lnTo>
                <a:cubicBezTo>
                  <a:pt x="416" y="7327"/>
                  <a:pt x="399" y="7320"/>
                  <a:pt x="386" y="7308"/>
                </a:cubicBezTo>
                <a:lnTo>
                  <a:pt x="336" y="7258"/>
                </a:lnTo>
                <a:lnTo>
                  <a:pt x="362" y="7274"/>
                </a:lnTo>
                <a:lnTo>
                  <a:pt x="262" y="7240"/>
                </a:lnTo>
                <a:lnTo>
                  <a:pt x="283" y="7244"/>
                </a:lnTo>
                <a:lnTo>
                  <a:pt x="233" y="7244"/>
                </a:lnTo>
                <a:cubicBezTo>
                  <a:pt x="223" y="7244"/>
                  <a:pt x="213" y="7241"/>
                  <a:pt x="204" y="7237"/>
                </a:cubicBezTo>
                <a:lnTo>
                  <a:pt x="104" y="7187"/>
                </a:lnTo>
                <a:lnTo>
                  <a:pt x="4" y="7137"/>
                </a:lnTo>
                <a:lnTo>
                  <a:pt x="33" y="7144"/>
                </a:lnTo>
                <a:lnTo>
                  <a:pt x="0" y="7144"/>
                </a:lnTo>
                <a:lnTo>
                  <a:pt x="0" y="7010"/>
                </a:lnTo>
                <a:close/>
                <a:moveTo>
                  <a:pt x="880" y="7343"/>
                </a:moveTo>
                <a:lnTo>
                  <a:pt x="897" y="7351"/>
                </a:lnTo>
                <a:cubicBezTo>
                  <a:pt x="903" y="7354"/>
                  <a:pt x="909" y="7358"/>
                  <a:pt x="914" y="7363"/>
                </a:cubicBezTo>
                <a:lnTo>
                  <a:pt x="964" y="7413"/>
                </a:lnTo>
                <a:lnTo>
                  <a:pt x="917" y="7394"/>
                </a:lnTo>
                <a:lnTo>
                  <a:pt x="1000" y="7394"/>
                </a:lnTo>
                <a:cubicBezTo>
                  <a:pt x="1010" y="7394"/>
                  <a:pt x="1021" y="7396"/>
                  <a:pt x="1030" y="7401"/>
                </a:cubicBezTo>
                <a:lnTo>
                  <a:pt x="1130" y="7451"/>
                </a:lnTo>
                <a:cubicBezTo>
                  <a:pt x="1143" y="7457"/>
                  <a:pt x="1153" y="7468"/>
                  <a:pt x="1160" y="7481"/>
                </a:cubicBezTo>
                <a:lnTo>
                  <a:pt x="1210" y="7581"/>
                </a:lnTo>
                <a:lnTo>
                  <a:pt x="1150" y="7544"/>
                </a:lnTo>
                <a:lnTo>
                  <a:pt x="1250" y="7544"/>
                </a:lnTo>
                <a:lnTo>
                  <a:pt x="1220" y="7551"/>
                </a:lnTo>
                <a:lnTo>
                  <a:pt x="1254" y="7534"/>
                </a:lnTo>
                <a:lnTo>
                  <a:pt x="1313" y="7653"/>
                </a:lnTo>
                <a:lnTo>
                  <a:pt x="1280" y="7670"/>
                </a:lnTo>
                <a:cubicBezTo>
                  <a:pt x="1271" y="7675"/>
                  <a:pt x="1260" y="7677"/>
                  <a:pt x="1250" y="7677"/>
                </a:cubicBezTo>
                <a:lnTo>
                  <a:pt x="1150" y="7677"/>
                </a:lnTo>
                <a:cubicBezTo>
                  <a:pt x="1125" y="7677"/>
                  <a:pt x="1102" y="7663"/>
                  <a:pt x="1091" y="7640"/>
                </a:cubicBezTo>
                <a:lnTo>
                  <a:pt x="1041" y="7540"/>
                </a:lnTo>
                <a:lnTo>
                  <a:pt x="1070" y="7570"/>
                </a:lnTo>
                <a:lnTo>
                  <a:pt x="970" y="7520"/>
                </a:lnTo>
                <a:lnTo>
                  <a:pt x="1000" y="7527"/>
                </a:lnTo>
                <a:lnTo>
                  <a:pt x="917" y="7527"/>
                </a:lnTo>
                <a:cubicBezTo>
                  <a:pt x="899" y="7527"/>
                  <a:pt x="882" y="7520"/>
                  <a:pt x="870" y="7508"/>
                </a:cubicBezTo>
                <a:lnTo>
                  <a:pt x="820" y="7458"/>
                </a:lnTo>
                <a:lnTo>
                  <a:pt x="837" y="7470"/>
                </a:lnTo>
                <a:lnTo>
                  <a:pt x="820" y="7462"/>
                </a:lnTo>
                <a:lnTo>
                  <a:pt x="880" y="7343"/>
                </a:lnTo>
                <a:close/>
                <a:moveTo>
                  <a:pt x="1626" y="7555"/>
                </a:moveTo>
                <a:lnTo>
                  <a:pt x="1639" y="7573"/>
                </a:lnTo>
                <a:cubicBezTo>
                  <a:pt x="1644" y="7582"/>
                  <a:pt x="1648" y="7591"/>
                  <a:pt x="1649" y="7601"/>
                </a:cubicBezTo>
                <a:lnTo>
                  <a:pt x="1699" y="7934"/>
                </a:lnTo>
                <a:lnTo>
                  <a:pt x="1696" y="7922"/>
                </a:lnTo>
                <a:lnTo>
                  <a:pt x="1754" y="8085"/>
                </a:lnTo>
                <a:lnTo>
                  <a:pt x="1628" y="8130"/>
                </a:lnTo>
                <a:lnTo>
                  <a:pt x="1571" y="7966"/>
                </a:lnTo>
                <a:cubicBezTo>
                  <a:pt x="1569" y="7962"/>
                  <a:pt x="1568" y="7958"/>
                  <a:pt x="1568" y="7954"/>
                </a:cubicBezTo>
                <a:lnTo>
                  <a:pt x="1518" y="7620"/>
                </a:lnTo>
                <a:lnTo>
                  <a:pt x="1528" y="7647"/>
                </a:lnTo>
                <a:lnTo>
                  <a:pt x="1515" y="7629"/>
                </a:lnTo>
                <a:lnTo>
                  <a:pt x="1626" y="7555"/>
                </a:lnTo>
                <a:close/>
                <a:moveTo>
                  <a:pt x="1779" y="8011"/>
                </a:moveTo>
                <a:lnTo>
                  <a:pt x="1817" y="7505"/>
                </a:lnTo>
                <a:lnTo>
                  <a:pt x="1819" y="7480"/>
                </a:lnTo>
                <a:lnTo>
                  <a:pt x="1952" y="7489"/>
                </a:lnTo>
                <a:lnTo>
                  <a:pt x="1950" y="7515"/>
                </a:lnTo>
                <a:lnTo>
                  <a:pt x="1912" y="8021"/>
                </a:lnTo>
                <a:lnTo>
                  <a:pt x="1779" y="8011"/>
                </a:lnTo>
                <a:close/>
                <a:moveTo>
                  <a:pt x="1847" y="7081"/>
                </a:moveTo>
                <a:lnTo>
                  <a:pt x="1885" y="6549"/>
                </a:lnTo>
                <a:lnTo>
                  <a:pt x="2018" y="6558"/>
                </a:lnTo>
                <a:lnTo>
                  <a:pt x="1980" y="7090"/>
                </a:lnTo>
                <a:lnTo>
                  <a:pt x="1847" y="7081"/>
                </a:lnTo>
                <a:close/>
                <a:moveTo>
                  <a:pt x="1916" y="6149"/>
                </a:moveTo>
                <a:lnTo>
                  <a:pt x="1960" y="5618"/>
                </a:lnTo>
                <a:lnTo>
                  <a:pt x="2093" y="5629"/>
                </a:lnTo>
                <a:lnTo>
                  <a:pt x="2049" y="6160"/>
                </a:lnTo>
                <a:lnTo>
                  <a:pt x="1916" y="6149"/>
                </a:lnTo>
                <a:close/>
                <a:moveTo>
                  <a:pt x="1994" y="5219"/>
                </a:moveTo>
                <a:lnTo>
                  <a:pt x="2000" y="5138"/>
                </a:lnTo>
                <a:lnTo>
                  <a:pt x="2032" y="4688"/>
                </a:lnTo>
                <a:lnTo>
                  <a:pt x="2165" y="4697"/>
                </a:lnTo>
                <a:lnTo>
                  <a:pt x="2133" y="5149"/>
                </a:lnTo>
                <a:lnTo>
                  <a:pt x="2127" y="5230"/>
                </a:lnTo>
                <a:lnTo>
                  <a:pt x="1994" y="5219"/>
                </a:lnTo>
                <a:close/>
                <a:moveTo>
                  <a:pt x="2239" y="4513"/>
                </a:moveTo>
                <a:lnTo>
                  <a:pt x="2275" y="4579"/>
                </a:lnTo>
                <a:cubicBezTo>
                  <a:pt x="2279" y="4586"/>
                  <a:pt x="2282" y="4594"/>
                  <a:pt x="2283" y="4602"/>
                </a:cubicBezTo>
                <a:lnTo>
                  <a:pt x="2339" y="5057"/>
                </a:lnTo>
                <a:lnTo>
                  <a:pt x="2206" y="5074"/>
                </a:lnTo>
                <a:lnTo>
                  <a:pt x="2151" y="4619"/>
                </a:lnTo>
                <a:lnTo>
                  <a:pt x="2158" y="4642"/>
                </a:lnTo>
                <a:lnTo>
                  <a:pt x="2122" y="4577"/>
                </a:lnTo>
                <a:lnTo>
                  <a:pt x="2239" y="4513"/>
                </a:lnTo>
                <a:close/>
                <a:moveTo>
                  <a:pt x="2385" y="5460"/>
                </a:moveTo>
                <a:lnTo>
                  <a:pt x="2402" y="5994"/>
                </a:lnTo>
                <a:lnTo>
                  <a:pt x="2269" y="5998"/>
                </a:lnTo>
                <a:lnTo>
                  <a:pt x="2251" y="5465"/>
                </a:lnTo>
                <a:lnTo>
                  <a:pt x="2385" y="5460"/>
                </a:lnTo>
                <a:close/>
                <a:moveTo>
                  <a:pt x="2415" y="6393"/>
                </a:moveTo>
                <a:lnTo>
                  <a:pt x="2417" y="6442"/>
                </a:lnTo>
                <a:lnTo>
                  <a:pt x="2486" y="6914"/>
                </a:lnTo>
                <a:lnTo>
                  <a:pt x="2354" y="6933"/>
                </a:lnTo>
                <a:lnTo>
                  <a:pt x="2284" y="6446"/>
                </a:lnTo>
                <a:lnTo>
                  <a:pt x="2282" y="6398"/>
                </a:lnTo>
                <a:lnTo>
                  <a:pt x="2415" y="6393"/>
                </a:lnTo>
                <a:close/>
                <a:moveTo>
                  <a:pt x="2602" y="7266"/>
                </a:moveTo>
                <a:lnTo>
                  <a:pt x="2609" y="7279"/>
                </a:lnTo>
                <a:lnTo>
                  <a:pt x="2491" y="7281"/>
                </a:lnTo>
                <a:lnTo>
                  <a:pt x="2541" y="7181"/>
                </a:lnTo>
                <a:lnTo>
                  <a:pt x="2642" y="6995"/>
                </a:lnTo>
                <a:cubicBezTo>
                  <a:pt x="2645" y="6990"/>
                  <a:pt x="2648" y="6984"/>
                  <a:pt x="2653" y="6980"/>
                </a:cubicBezTo>
                <a:lnTo>
                  <a:pt x="2753" y="6880"/>
                </a:lnTo>
                <a:lnTo>
                  <a:pt x="2735" y="6913"/>
                </a:lnTo>
                <a:lnTo>
                  <a:pt x="2747" y="6857"/>
                </a:lnTo>
                <a:lnTo>
                  <a:pt x="2878" y="6886"/>
                </a:lnTo>
                <a:lnTo>
                  <a:pt x="2865" y="6942"/>
                </a:lnTo>
                <a:cubicBezTo>
                  <a:pt x="2862" y="6954"/>
                  <a:pt x="2856" y="6965"/>
                  <a:pt x="2847" y="6974"/>
                </a:cubicBezTo>
                <a:lnTo>
                  <a:pt x="2747" y="7074"/>
                </a:lnTo>
                <a:lnTo>
                  <a:pt x="2759" y="7059"/>
                </a:lnTo>
                <a:lnTo>
                  <a:pt x="2660" y="7240"/>
                </a:lnTo>
                <a:lnTo>
                  <a:pt x="2610" y="7340"/>
                </a:lnTo>
                <a:cubicBezTo>
                  <a:pt x="2599" y="7362"/>
                  <a:pt x="2576" y="7377"/>
                  <a:pt x="2551" y="7377"/>
                </a:cubicBezTo>
                <a:cubicBezTo>
                  <a:pt x="2527" y="7378"/>
                  <a:pt x="2503" y="7364"/>
                  <a:pt x="2492" y="7342"/>
                </a:cubicBezTo>
                <a:lnTo>
                  <a:pt x="2485" y="7330"/>
                </a:lnTo>
                <a:lnTo>
                  <a:pt x="2602" y="7266"/>
                </a:lnTo>
                <a:close/>
                <a:moveTo>
                  <a:pt x="2988" y="6492"/>
                </a:moveTo>
                <a:lnTo>
                  <a:pt x="3004" y="6484"/>
                </a:lnTo>
                <a:cubicBezTo>
                  <a:pt x="3023" y="6474"/>
                  <a:pt x="3046" y="6475"/>
                  <a:pt x="3066" y="6485"/>
                </a:cubicBezTo>
                <a:cubicBezTo>
                  <a:pt x="3085" y="6496"/>
                  <a:pt x="3098" y="6515"/>
                  <a:pt x="3100" y="6537"/>
                </a:cubicBezTo>
                <a:lnTo>
                  <a:pt x="3150" y="7020"/>
                </a:lnTo>
                <a:lnTo>
                  <a:pt x="3153" y="7050"/>
                </a:lnTo>
                <a:lnTo>
                  <a:pt x="3020" y="7063"/>
                </a:lnTo>
                <a:lnTo>
                  <a:pt x="3017" y="7034"/>
                </a:lnTo>
                <a:lnTo>
                  <a:pt x="2967" y="6551"/>
                </a:lnTo>
                <a:lnTo>
                  <a:pt x="3063" y="6603"/>
                </a:lnTo>
                <a:lnTo>
                  <a:pt x="3048" y="6611"/>
                </a:lnTo>
                <a:lnTo>
                  <a:pt x="2988" y="6492"/>
                </a:lnTo>
                <a:close/>
                <a:moveTo>
                  <a:pt x="3192" y="7449"/>
                </a:moveTo>
                <a:lnTo>
                  <a:pt x="3244" y="7979"/>
                </a:lnTo>
                <a:lnTo>
                  <a:pt x="3111" y="7992"/>
                </a:lnTo>
                <a:lnTo>
                  <a:pt x="3059" y="7462"/>
                </a:lnTo>
                <a:lnTo>
                  <a:pt x="3192" y="7449"/>
                </a:lnTo>
                <a:close/>
                <a:moveTo>
                  <a:pt x="3281" y="8378"/>
                </a:moveTo>
                <a:lnTo>
                  <a:pt x="3329" y="8909"/>
                </a:lnTo>
                <a:lnTo>
                  <a:pt x="3196" y="8921"/>
                </a:lnTo>
                <a:lnTo>
                  <a:pt x="3148" y="8390"/>
                </a:lnTo>
                <a:lnTo>
                  <a:pt x="3281" y="8378"/>
                </a:lnTo>
                <a:close/>
                <a:moveTo>
                  <a:pt x="3363" y="9309"/>
                </a:moveTo>
                <a:lnTo>
                  <a:pt x="3383" y="9572"/>
                </a:lnTo>
                <a:lnTo>
                  <a:pt x="3251" y="9569"/>
                </a:lnTo>
                <a:lnTo>
                  <a:pt x="3281" y="9302"/>
                </a:lnTo>
                <a:lnTo>
                  <a:pt x="3414" y="9317"/>
                </a:lnTo>
                <a:lnTo>
                  <a:pt x="3383" y="9585"/>
                </a:lnTo>
                <a:cubicBezTo>
                  <a:pt x="3379" y="9619"/>
                  <a:pt x="3350" y="9644"/>
                  <a:pt x="3316" y="9644"/>
                </a:cubicBezTo>
                <a:cubicBezTo>
                  <a:pt x="3281" y="9643"/>
                  <a:pt x="3253" y="9616"/>
                  <a:pt x="3250" y="9582"/>
                </a:cubicBezTo>
                <a:lnTo>
                  <a:pt x="3230" y="9319"/>
                </a:lnTo>
                <a:lnTo>
                  <a:pt x="3363" y="9309"/>
                </a:lnTo>
                <a:close/>
                <a:moveTo>
                  <a:pt x="3327" y="8905"/>
                </a:moveTo>
                <a:lnTo>
                  <a:pt x="3351" y="8703"/>
                </a:lnTo>
                <a:lnTo>
                  <a:pt x="3367" y="8377"/>
                </a:lnTo>
                <a:lnTo>
                  <a:pt x="3500" y="8384"/>
                </a:lnTo>
                <a:lnTo>
                  <a:pt x="3483" y="8718"/>
                </a:lnTo>
                <a:lnTo>
                  <a:pt x="3460" y="8920"/>
                </a:lnTo>
                <a:lnTo>
                  <a:pt x="3327" y="8905"/>
                </a:lnTo>
                <a:close/>
                <a:moveTo>
                  <a:pt x="3388" y="7978"/>
                </a:moveTo>
                <a:lnTo>
                  <a:pt x="3415" y="7445"/>
                </a:lnTo>
                <a:lnTo>
                  <a:pt x="3549" y="7452"/>
                </a:lnTo>
                <a:lnTo>
                  <a:pt x="3521" y="7985"/>
                </a:lnTo>
                <a:lnTo>
                  <a:pt x="3388" y="7978"/>
                </a:lnTo>
                <a:close/>
                <a:moveTo>
                  <a:pt x="3436" y="7046"/>
                </a:moveTo>
                <a:lnTo>
                  <a:pt x="3450" y="6774"/>
                </a:lnTo>
                <a:lnTo>
                  <a:pt x="3456" y="6515"/>
                </a:lnTo>
                <a:lnTo>
                  <a:pt x="3590" y="6518"/>
                </a:lnTo>
                <a:lnTo>
                  <a:pt x="3583" y="6781"/>
                </a:lnTo>
                <a:lnTo>
                  <a:pt x="3569" y="7053"/>
                </a:lnTo>
                <a:lnTo>
                  <a:pt x="3436" y="7046"/>
                </a:lnTo>
                <a:close/>
                <a:moveTo>
                  <a:pt x="3466" y="6115"/>
                </a:moveTo>
                <a:lnTo>
                  <a:pt x="3479" y="5582"/>
                </a:lnTo>
                <a:lnTo>
                  <a:pt x="3612" y="5585"/>
                </a:lnTo>
                <a:lnTo>
                  <a:pt x="3599" y="6118"/>
                </a:lnTo>
                <a:lnTo>
                  <a:pt x="3466" y="6115"/>
                </a:lnTo>
                <a:close/>
                <a:moveTo>
                  <a:pt x="3489" y="5182"/>
                </a:moveTo>
                <a:lnTo>
                  <a:pt x="3500" y="4709"/>
                </a:lnTo>
                <a:lnTo>
                  <a:pt x="3506" y="4645"/>
                </a:lnTo>
                <a:lnTo>
                  <a:pt x="3638" y="4656"/>
                </a:lnTo>
                <a:lnTo>
                  <a:pt x="3633" y="4712"/>
                </a:lnTo>
                <a:lnTo>
                  <a:pt x="3622" y="5185"/>
                </a:lnTo>
                <a:lnTo>
                  <a:pt x="3489" y="5182"/>
                </a:lnTo>
                <a:close/>
                <a:moveTo>
                  <a:pt x="3540" y="4246"/>
                </a:moveTo>
                <a:lnTo>
                  <a:pt x="3586" y="3715"/>
                </a:lnTo>
                <a:lnTo>
                  <a:pt x="3719" y="3726"/>
                </a:lnTo>
                <a:lnTo>
                  <a:pt x="3673" y="4258"/>
                </a:lnTo>
                <a:lnTo>
                  <a:pt x="3540" y="4246"/>
                </a:lnTo>
                <a:close/>
                <a:moveTo>
                  <a:pt x="3810" y="3763"/>
                </a:moveTo>
                <a:lnTo>
                  <a:pt x="3813" y="3771"/>
                </a:lnTo>
                <a:cubicBezTo>
                  <a:pt x="3815" y="3778"/>
                  <a:pt x="3816" y="3784"/>
                  <a:pt x="3817" y="3791"/>
                </a:cubicBezTo>
                <a:lnTo>
                  <a:pt x="3838" y="4316"/>
                </a:lnTo>
                <a:lnTo>
                  <a:pt x="3704" y="4321"/>
                </a:lnTo>
                <a:lnTo>
                  <a:pt x="3684" y="3796"/>
                </a:lnTo>
                <a:lnTo>
                  <a:pt x="3687" y="3816"/>
                </a:lnTo>
                <a:lnTo>
                  <a:pt x="3685" y="3808"/>
                </a:lnTo>
                <a:lnTo>
                  <a:pt x="3810" y="3763"/>
                </a:lnTo>
                <a:close/>
                <a:moveTo>
                  <a:pt x="3854" y="4715"/>
                </a:moveTo>
                <a:lnTo>
                  <a:pt x="3867" y="5041"/>
                </a:lnTo>
                <a:lnTo>
                  <a:pt x="3881" y="5246"/>
                </a:lnTo>
                <a:lnTo>
                  <a:pt x="3748" y="5255"/>
                </a:lnTo>
                <a:lnTo>
                  <a:pt x="3734" y="5046"/>
                </a:lnTo>
                <a:lnTo>
                  <a:pt x="3720" y="4721"/>
                </a:lnTo>
                <a:lnTo>
                  <a:pt x="3854" y="4715"/>
                </a:lnTo>
                <a:close/>
                <a:moveTo>
                  <a:pt x="3910" y="5645"/>
                </a:moveTo>
                <a:lnTo>
                  <a:pt x="3948" y="6177"/>
                </a:lnTo>
                <a:lnTo>
                  <a:pt x="3815" y="6186"/>
                </a:lnTo>
                <a:lnTo>
                  <a:pt x="3777" y="5654"/>
                </a:lnTo>
                <a:lnTo>
                  <a:pt x="3910" y="5645"/>
                </a:lnTo>
                <a:close/>
                <a:moveTo>
                  <a:pt x="3976" y="6576"/>
                </a:moveTo>
                <a:lnTo>
                  <a:pt x="4012" y="7108"/>
                </a:lnTo>
                <a:lnTo>
                  <a:pt x="3879" y="7117"/>
                </a:lnTo>
                <a:lnTo>
                  <a:pt x="3843" y="6585"/>
                </a:lnTo>
                <a:lnTo>
                  <a:pt x="3976" y="6576"/>
                </a:lnTo>
                <a:close/>
                <a:moveTo>
                  <a:pt x="3998" y="6858"/>
                </a:moveTo>
                <a:lnTo>
                  <a:pt x="4067" y="6329"/>
                </a:lnTo>
                <a:lnTo>
                  <a:pt x="4200" y="6346"/>
                </a:lnTo>
                <a:lnTo>
                  <a:pt x="4131" y="6875"/>
                </a:lnTo>
                <a:lnTo>
                  <a:pt x="3998" y="6858"/>
                </a:lnTo>
                <a:close/>
                <a:moveTo>
                  <a:pt x="4103" y="5934"/>
                </a:moveTo>
                <a:lnTo>
                  <a:pt x="4134" y="5522"/>
                </a:lnTo>
                <a:cubicBezTo>
                  <a:pt x="4134" y="5516"/>
                  <a:pt x="4135" y="5510"/>
                  <a:pt x="4137" y="5505"/>
                </a:cubicBezTo>
                <a:lnTo>
                  <a:pt x="4178" y="5392"/>
                </a:lnTo>
                <a:lnTo>
                  <a:pt x="4303" y="5437"/>
                </a:lnTo>
                <a:lnTo>
                  <a:pt x="4263" y="5550"/>
                </a:lnTo>
                <a:lnTo>
                  <a:pt x="4267" y="5532"/>
                </a:lnTo>
                <a:lnTo>
                  <a:pt x="4236" y="5944"/>
                </a:lnTo>
                <a:lnTo>
                  <a:pt x="4103" y="5934"/>
                </a:lnTo>
                <a:close/>
                <a:moveTo>
                  <a:pt x="4476" y="5508"/>
                </a:moveTo>
                <a:lnTo>
                  <a:pt x="4499" y="5613"/>
                </a:lnTo>
                <a:lnTo>
                  <a:pt x="4481" y="5580"/>
                </a:lnTo>
                <a:lnTo>
                  <a:pt x="4581" y="5680"/>
                </a:lnTo>
                <a:lnTo>
                  <a:pt x="4486" y="5680"/>
                </a:lnTo>
                <a:lnTo>
                  <a:pt x="4586" y="5580"/>
                </a:lnTo>
                <a:lnTo>
                  <a:pt x="4578" y="5590"/>
                </a:lnTo>
                <a:lnTo>
                  <a:pt x="4611" y="5540"/>
                </a:lnTo>
                <a:cubicBezTo>
                  <a:pt x="4622" y="5524"/>
                  <a:pt x="4640" y="5513"/>
                  <a:pt x="4660" y="5511"/>
                </a:cubicBezTo>
                <a:cubicBezTo>
                  <a:pt x="4680" y="5509"/>
                  <a:pt x="4700" y="5516"/>
                  <a:pt x="4714" y="5530"/>
                </a:cubicBezTo>
                <a:lnTo>
                  <a:pt x="4772" y="5588"/>
                </a:lnTo>
                <a:lnTo>
                  <a:pt x="4678" y="5683"/>
                </a:lnTo>
                <a:lnTo>
                  <a:pt x="4620" y="5624"/>
                </a:lnTo>
                <a:lnTo>
                  <a:pt x="4722" y="5614"/>
                </a:lnTo>
                <a:lnTo>
                  <a:pt x="4689" y="5664"/>
                </a:lnTo>
                <a:cubicBezTo>
                  <a:pt x="4687" y="5668"/>
                  <a:pt x="4684" y="5671"/>
                  <a:pt x="4681" y="5674"/>
                </a:cubicBezTo>
                <a:lnTo>
                  <a:pt x="4581" y="5774"/>
                </a:lnTo>
                <a:cubicBezTo>
                  <a:pt x="4555" y="5800"/>
                  <a:pt x="4512" y="5800"/>
                  <a:pt x="4486" y="5774"/>
                </a:cubicBezTo>
                <a:lnTo>
                  <a:pt x="4386" y="5674"/>
                </a:lnTo>
                <a:cubicBezTo>
                  <a:pt x="4377" y="5665"/>
                  <a:pt x="4371" y="5654"/>
                  <a:pt x="4368" y="5641"/>
                </a:cubicBezTo>
                <a:lnTo>
                  <a:pt x="4346" y="5536"/>
                </a:lnTo>
                <a:lnTo>
                  <a:pt x="4476" y="5508"/>
                </a:lnTo>
                <a:close/>
                <a:moveTo>
                  <a:pt x="4929" y="5985"/>
                </a:moveTo>
                <a:lnTo>
                  <a:pt x="4931" y="5991"/>
                </a:lnTo>
                <a:cubicBezTo>
                  <a:pt x="4932" y="5994"/>
                  <a:pt x="4932" y="5997"/>
                  <a:pt x="4933" y="6001"/>
                </a:cubicBezTo>
                <a:lnTo>
                  <a:pt x="4983" y="6334"/>
                </a:lnTo>
                <a:lnTo>
                  <a:pt x="4964" y="6297"/>
                </a:lnTo>
                <a:lnTo>
                  <a:pt x="5064" y="6397"/>
                </a:lnTo>
                <a:lnTo>
                  <a:pt x="4958" y="6412"/>
                </a:lnTo>
                <a:lnTo>
                  <a:pt x="4981" y="6370"/>
                </a:lnTo>
                <a:lnTo>
                  <a:pt x="5098" y="6434"/>
                </a:lnTo>
                <a:lnTo>
                  <a:pt x="5075" y="6476"/>
                </a:lnTo>
                <a:cubicBezTo>
                  <a:pt x="5065" y="6494"/>
                  <a:pt x="5047" y="6507"/>
                  <a:pt x="5026" y="6510"/>
                </a:cubicBezTo>
                <a:cubicBezTo>
                  <a:pt x="5006" y="6513"/>
                  <a:pt x="4985" y="6506"/>
                  <a:pt x="4970" y="6491"/>
                </a:cubicBezTo>
                <a:lnTo>
                  <a:pt x="4870" y="6391"/>
                </a:lnTo>
                <a:cubicBezTo>
                  <a:pt x="4860" y="6381"/>
                  <a:pt x="4853" y="6368"/>
                  <a:pt x="4851" y="6354"/>
                </a:cubicBezTo>
                <a:lnTo>
                  <a:pt x="4801" y="6020"/>
                </a:lnTo>
                <a:lnTo>
                  <a:pt x="4803" y="6030"/>
                </a:lnTo>
                <a:lnTo>
                  <a:pt x="4801" y="6023"/>
                </a:lnTo>
                <a:lnTo>
                  <a:pt x="4929" y="5985"/>
                </a:lnTo>
                <a:close/>
                <a:moveTo>
                  <a:pt x="5226" y="6063"/>
                </a:moveTo>
                <a:lnTo>
                  <a:pt x="5310" y="6231"/>
                </a:lnTo>
                <a:cubicBezTo>
                  <a:pt x="5313" y="6236"/>
                  <a:pt x="5315" y="6243"/>
                  <a:pt x="5316" y="6249"/>
                </a:cubicBezTo>
                <a:lnTo>
                  <a:pt x="5376" y="6590"/>
                </a:lnTo>
                <a:lnTo>
                  <a:pt x="5245" y="6613"/>
                </a:lnTo>
                <a:lnTo>
                  <a:pt x="5184" y="6272"/>
                </a:lnTo>
                <a:lnTo>
                  <a:pt x="5191" y="6290"/>
                </a:lnTo>
                <a:lnTo>
                  <a:pt x="5107" y="6123"/>
                </a:lnTo>
                <a:lnTo>
                  <a:pt x="5226" y="6063"/>
                </a:lnTo>
                <a:close/>
                <a:moveTo>
                  <a:pt x="5438" y="6988"/>
                </a:moveTo>
                <a:lnTo>
                  <a:pt x="5466" y="7202"/>
                </a:lnTo>
                <a:lnTo>
                  <a:pt x="5334" y="7201"/>
                </a:lnTo>
                <a:lnTo>
                  <a:pt x="5378" y="6887"/>
                </a:lnTo>
                <a:lnTo>
                  <a:pt x="5510" y="6905"/>
                </a:lnTo>
                <a:lnTo>
                  <a:pt x="5466" y="7220"/>
                </a:lnTo>
                <a:cubicBezTo>
                  <a:pt x="5462" y="7253"/>
                  <a:pt x="5433" y="7277"/>
                  <a:pt x="5400" y="7277"/>
                </a:cubicBezTo>
                <a:cubicBezTo>
                  <a:pt x="5366" y="7277"/>
                  <a:pt x="5338" y="7252"/>
                  <a:pt x="5334" y="7219"/>
                </a:cubicBezTo>
                <a:lnTo>
                  <a:pt x="5306" y="7005"/>
                </a:lnTo>
                <a:lnTo>
                  <a:pt x="5438" y="6988"/>
                </a:lnTo>
                <a:close/>
                <a:moveTo>
                  <a:pt x="5433" y="6491"/>
                </a:moveTo>
                <a:lnTo>
                  <a:pt x="5434" y="6485"/>
                </a:lnTo>
                <a:lnTo>
                  <a:pt x="5459" y="5964"/>
                </a:lnTo>
                <a:lnTo>
                  <a:pt x="5592" y="5970"/>
                </a:lnTo>
                <a:lnTo>
                  <a:pt x="5566" y="6503"/>
                </a:lnTo>
                <a:lnTo>
                  <a:pt x="5565" y="6509"/>
                </a:lnTo>
                <a:lnTo>
                  <a:pt x="5433" y="6491"/>
                </a:lnTo>
                <a:close/>
                <a:moveTo>
                  <a:pt x="5478" y="5564"/>
                </a:moveTo>
                <a:lnTo>
                  <a:pt x="5504" y="5032"/>
                </a:lnTo>
                <a:lnTo>
                  <a:pt x="5637" y="5038"/>
                </a:lnTo>
                <a:lnTo>
                  <a:pt x="5612" y="5571"/>
                </a:lnTo>
                <a:lnTo>
                  <a:pt x="5478" y="5564"/>
                </a:lnTo>
                <a:close/>
                <a:moveTo>
                  <a:pt x="5523" y="4632"/>
                </a:moveTo>
                <a:lnTo>
                  <a:pt x="5534" y="4424"/>
                </a:lnTo>
                <a:lnTo>
                  <a:pt x="5538" y="4102"/>
                </a:lnTo>
                <a:lnTo>
                  <a:pt x="5671" y="4103"/>
                </a:lnTo>
                <a:lnTo>
                  <a:pt x="5667" y="4430"/>
                </a:lnTo>
                <a:lnTo>
                  <a:pt x="5657" y="4639"/>
                </a:lnTo>
                <a:lnTo>
                  <a:pt x="5523" y="4632"/>
                </a:lnTo>
                <a:close/>
                <a:moveTo>
                  <a:pt x="5543" y="3702"/>
                </a:moveTo>
                <a:lnTo>
                  <a:pt x="5549" y="3168"/>
                </a:lnTo>
                <a:lnTo>
                  <a:pt x="5683" y="3170"/>
                </a:lnTo>
                <a:lnTo>
                  <a:pt x="5676" y="3703"/>
                </a:lnTo>
                <a:lnTo>
                  <a:pt x="5543" y="3702"/>
                </a:lnTo>
                <a:close/>
                <a:moveTo>
                  <a:pt x="5554" y="2768"/>
                </a:moveTo>
                <a:lnTo>
                  <a:pt x="5561" y="2235"/>
                </a:lnTo>
                <a:lnTo>
                  <a:pt x="5694" y="2237"/>
                </a:lnTo>
                <a:lnTo>
                  <a:pt x="5688" y="2770"/>
                </a:lnTo>
                <a:lnTo>
                  <a:pt x="5554" y="2768"/>
                </a:lnTo>
                <a:close/>
                <a:moveTo>
                  <a:pt x="5566" y="1835"/>
                </a:moveTo>
                <a:lnTo>
                  <a:pt x="5567" y="1776"/>
                </a:lnTo>
                <a:lnTo>
                  <a:pt x="5593" y="1300"/>
                </a:lnTo>
                <a:lnTo>
                  <a:pt x="5727" y="1307"/>
                </a:lnTo>
                <a:lnTo>
                  <a:pt x="5700" y="1778"/>
                </a:lnTo>
                <a:lnTo>
                  <a:pt x="5699" y="1837"/>
                </a:lnTo>
                <a:lnTo>
                  <a:pt x="5566" y="1835"/>
                </a:lnTo>
                <a:close/>
                <a:moveTo>
                  <a:pt x="5616" y="900"/>
                </a:moveTo>
                <a:lnTo>
                  <a:pt x="5646" y="368"/>
                </a:lnTo>
                <a:lnTo>
                  <a:pt x="5779" y="375"/>
                </a:lnTo>
                <a:lnTo>
                  <a:pt x="5749" y="908"/>
                </a:lnTo>
                <a:lnTo>
                  <a:pt x="5616" y="900"/>
                </a:lnTo>
                <a:close/>
                <a:moveTo>
                  <a:pt x="5803" y="0"/>
                </a:moveTo>
                <a:lnTo>
                  <a:pt x="5898" y="412"/>
                </a:lnTo>
                <a:cubicBezTo>
                  <a:pt x="5899" y="417"/>
                  <a:pt x="5900" y="421"/>
                  <a:pt x="5900" y="426"/>
                </a:cubicBezTo>
                <a:lnTo>
                  <a:pt x="5902" y="536"/>
                </a:lnTo>
                <a:lnTo>
                  <a:pt x="5769" y="539"/>
                </a:lnTo>
                <a:lnTo>
                  <a:pt x="5767" y="428"/>
                </a:lnTo>
                <a:lnTo>
                  <a:pt x="5769" y="442"/>
                </a:lnTo>
                <a:lnTo>
                  <a:pt x="5673" y="30"/>
                </a:lnTo>
                <a:lnTo>
                  <a:pt x="5803" y="0"/>
                </a:lnTo>
                <a:close/>
                <a:moveTo>
                  <a:pt x="5910" y="936"/>
                </a:moveTo>
                <a:lnTo>
                  <a:pt x="5920" y="1469"/>
                </a:lnTo>
                <a:lnTo>
                  <a:pt x="5787" y="1472"/>
                </a:lnTo>
                <a:lnTo>
                  <a:pt x="5777" y="939"/>
                </a:lnTo>
                <a:lnTo>
                  <a:pt x="5910" y="936"/>
                </a:lnTo>
                <a:close/>
                <a:moveTo>
                  <a:pt x="5928" y="1869"/>
                </a:moveTo>
                <a:lnTo>
                  <a:pt x="5938" y="2403"/>
                </a:lnTo>
                <a:lnTo>
                  <a:pt x="5805" y="2405"/>
                </a:lnTo>
                <a:lnTo>
                  <a:pt x="5795" y="1872"/>
                </a:lnTo>
                <a:lnTo>
                  <a:pt x="5928" y="1869"/>
                </a:lnTo>
                <a:close/>
                <a:moveTo>
                  <a:pt x="5946" y="2802"/>
                </a:moveTo>
                <a:lnTo>
                  <a:pt x="5950" y="3026"/>
                </a:lnTo>
                <a:lnTo>
                  <a:pt x="5959" y="3335"/>
                </a:lnTo>
                <a:lnTo>
                  <a:pt x="5826" y="3339"/>
                </a:lnTo>
                <a:lnTo>
                  <a:pt x="5817" y="3028"/>
                </a:lnTo>
                <a:lnTo>
                  <a:pt x="5813" y="2805"/>
                </a:lnTo>
                <a:lnTo>
                  <a:pt x="5946" y="2802"/>
                </a:lnTo>
                <a:close/>
                <a:moveTo>
                  <a:pt x="5971" y="3735"/>
                </a:moveTo>
                <a:lnTo>
                  <a:pt x="5988" y="4268"/>
                </a:lnTo>
                <a:lnTo>
                  <a:pt x="5854" y="4272"/>
                </a:lnTo>
                <a:lnTo>
                  <a:pt x="5838" y="3739"/>
                </a:lnTo>
                <a:lnTo>
                  <a:pt x="5971" y="3735"/>
                </a:lnTo>
                <a:close/>
                <a:moveTo>
                  <a:pt x="6000" y="4668"/>
                </a:moveTo>
                <a:lnTo>
                  <a:pt x="6016" y="5201"/>
                </a:lnTo>
                <a:lnTo>
                  <a:pt x="5882" y="5205"/>
                </a:lnTo>
                <a:lnTo>
                  <a:pt x="5866" y="4672"/>
                </a:lnTo>
                <a:lnTo>
                  <a:pt x="6000" y="4668"/>
                </a:lnTo>
                <a:close/>
                <a:moveTo>
                  <a:pt x="6028" y="5601"/>
                </a:moveTo>
                <a:lnTo>
                  <a:pt x="6044" y="6134"/>
                </a:lnTo>
                <a:lnTo>
                  <a:pt x="5911" y="6138"/>
                </a:lnTo>
                <a:lnTo>
                  <a:pt x="5894" y="5605"/>
                </a:lnTo>
                <a:lnTo>
                  <a:pt x="6028" y="5601"/>
                </a:lnTo>
                <a:close/>
                <a:moveTo>
                  <a:pt x="6058" y="6533"/>
                </a:moveTo>
                <a:lnTo>
                  <a:pt x="6079" y="7066"/>
                </a:lnTo>
                <a:lnTo>
                  <a:pt x="5946" y="7071"/>
                </a:lnTo>
                <a:lnTo>
                  <a:pt x="5925" y="6538"/>
                </a:lnTo>
                <a:lnTo>
                  <a:pt x="6058" y="6533"/>
                </a:lnTo>
                <a:close/>
                <a:moveTo>
                  <a:pt x="6095" y="7465"/>
                </a:moveTo>
                <a:lnTo>
                  <a:pt x="6116" y="7998"/>
                </a:lnTo>
                <a:lnTo>
                  <a:pt x="5983" y="8004"/>
                </a:lnTo>
                <a:lnTo>
                  <a:pt x="5962" y="7471"/>
                </a:lnTo>
                <a:lnTo>
                  <a:pt x="6095" y="7465"/>
                </a:lnTo>
                <a:close/>
                <a:moveTo>
                  <a:pt x="6132" y="8398"/>
                </a:moveTo>
                <a:lnTo>
                  <a:pt x="6133" y="8424"/>
                </a:lnTo>
                <a:lnTo>
                  <a:pt x="6001" y="8414"/>
                </a:lnTo>
                <a:lnTo>
                  <a:pt x="6051" y="8164"/>
                </a:lnTo>
                <a:lnTo>
                  <a:pt x="6050" y="8174"/>
                </a:lnTo>
                <a:lnTo>
                  <a:pt x="6062" y="7923"/>
                </a:lnTo>
                <a:lnTo>
                  <a:pt x="6195" y="7929"/>
                </a:lnTo>
                <a:lnTo>
                  <a:pt x="6183" y="8180"/>
                </a:lnTo>
                <a:cubicBezTo>
                  <a:pt x="6183" y="8184"/>
                  <a:pt x="6183" y="8187"/>
                  <a:pt x="6182" y="8190"/>
                </a:cubicBezTo>
                <a:lnTo>
                  <a:pt x="6132" y="8440"/>
                </a:lnTo>
                <a:cubicBezTo>
                  <a:pt x="6126" y="8473"/>
                  <a:pt x="6095" y="8496"/>
                  <a:pt x="6062" y="8494"/>
                </a:cubicBezTo>
                <a:cubicBezTo>
                  <a:pt x="6028" y="8491"/>
                  <a:pt x="6002" y="8464"/>
                  <a:pt x="6000" y="8430"/>
                </a:cubicBezTo>
                <a:lnTo>
                  <a:pt x="5999" y="8403"/>
                </a:lnTo>
                <a:lnTo>
                  <a:pt x="6132" y="8398"/>
                </a:lnTo>
                <a:close/>
                <a:moveTo>
                  <a:pt x="6080" y="7523"/>
                </a:moveTo>
                <a:lnTo>
                  <a:pt x="6105" y="6990"/>
                </a:lnTo>
                <a:lnTo>
                  <a:pt x="6238" y="6996"/>
                </a:lnTo>
                <a:lnTo>
                  <a:pt x="6213" y="7529"/>
                </a:lnTo>
                <a:lnTo>
                  <a:pt x="6080" y="7523"/>
                </a:lnTo>
                <a:close/>
                <a:moveTo>
                  <a:pt x="6123" y="6591"/>
                </a:moveTo>
                <a:lnTo>
                  <a:pt x="6148" y="6058"/>
                </a:lnTo>
                <a:lnTo>
                  <a:pt x="6281" y="6064"/>
                </a:lnTo>
                <a:lnTo>
                  <a:pt x="6256" y="6597"/>
                </a:lnTo>
                <a:lnTo>
                  <a:pt x="6123" y="6591"/>
                </a:lnTo>
                <a:close/>
                <a:moveTo>
                  <a:pt x="6164" y="5659"/>
                </a:moveTo>
                <a:lnTo>
                  <a:pt x="6186" y="5126"/>
                </a:lnTo>
                <a:lnTo>
                  <a:pt x="6319" y="5131"/>
                </a:lnTo>
                <a:lnTo>
                  <a:pt x="6298" y="5664"/>
                </a:lnTo>
                <a:lnTo>
                  <a:pt x="6164" y="5659"/>
                </a:lnTo>
                <a:close/>
                <a:moveTo>
                  <a:pt x="6203" y="4726"/>
                </a:moveTo>
                <a:lnTo>
                  <a:pt x="6224" y="4193"/>
                </a:lnTo>
                <a:lnTo>
                  <a:pt x="6357" y="4199"/>
                </a:lnTo>
                <a:lnTo>
                  <a:pt x="6336" y="4731"/>
                </a:lnTo>
                <a:lnTo>
                  <a:pt x="6203" y="4726"/>
                </a:lnTo>
                <a:close/>
                <a:moveTo>
                  <a:pt x="6241" y="3793"/>
                </a:moveTo>
                <a:lnTo>
                  <a:pt x="6250" y="3558"/>
                </a:lnTo>
                <a:lnTo>
                  <a:pt x="6263" y="3260"/>
                </a:lnTo>
                <a:lnTo>
                  <a:pt x="6396" y="3266"/>
                </a:lnTo>
                <a:lnTo>
                  <a:pt x="6383" y="3563"/>
                </a:lnTo>
                <a:lnTo>
                  <a:pt x="6374" y="3799"/>
                </a:lnTo>
                <a:lnTo>
                  <a:pt x="6241" y="3793"/>
                </a:lnTo>
                <a:close/>
                <a:moveTo>
                  <a:pt x="6280" y="2861"/>
                </a:moveTo>
                <a:lnTo>
                  <a:pt x="6300" y="2391"/>
                </a:lnTo>
                <a:cubicBezTo>
                  <a:pt x="6302" y="2358"/>
                  <a:pt x="6327" y="2330"/>
                  <a:pt x="6361" y="2327"/>
                </a:cubicBezTo>
                <a:cubicBezTo>
                  <a:pt x="6394" y="2324"/>
                  <a:pt x="6424" y="2346"/>
                  <a:pt x="6432" y="2379"/>
                </a:cubicBezTo>
                <a:lnTo>
                  <a:pt x="6446" y="2440"/>
                </a:lnTo>
                <a:lnTo>
                  <a:pt x="6316" y="2470"/>
                </a:lnTo>
                <a:lnTo>
                  <a:pt x="6302" y="2409"/>
                </a:lnTo>
                <a:lnTo>
                  <a:pt x="6433" y="2397"/>
                </a:lnTo>
                <a:lnTo>
                  <a:pt x="6413" y="2867"/>
                </a:lnTo>
                <a:lnTo>
                  <a:pt x="6280" y="2861"/>
                </a:lnTo>
                <a:close/>
                <a:moveTo>
                  <a:pt x="6534" y="2842"/>
                </a:moveTo>
                <a:lnTo>
                  <a:pt x="6565" y="3374"/>
                </a:lnTo>
                <a:lnTo>
                  <a:pt x="6432" y="3382"/>
                </a:lnTo>
                <a:lnTo>
                  <a:pt x="6401" y="2849"/>
                </a:lnTo>
                <a:lnTo>
                  <a:pt x="6534" y="2842"/>
                </a:lnTo>
                <a:close/>
                <a:moveTo>
                  <a:pt x="6588" y="3773"/>
                </a:moveTo>
                <a:lnTo>
                  <a:pt x="6617" y="4273"/>
                </a:lnTo>
                <a:lnTo>
                  <a:pt x="6618" y="4307"/>
                </a:lnTo>
                <a:lnTo>
                  <a:pt x="6485" y="4312"/>
                </a:lnTo>
                <a:lnTo>
                  <a:pt x="6484" y="4281"/>
                </a:lnTo>
                <a:lnTo>
                  <a:pt x="6455" y="3781"/>
                </a:lnTo>
                <a:lnTo>
                  <a:pt x="6588" y="3773"/>
                </a:lnTo>
                <a:close/>
                <a:moveTo>
                  <a:pt x="6633" y="4707"/>
                </a:moveTo>
                <a:lnTo>
                  <a:pt x="6653" y="5240"/>
                </a:lnTo>
                <a:lnTo>
                  <a:pt x="6519" y="5245"/>
                </a:lnTo>
                <a:lnTo>
                  <a:pt x="6500" y="4712"/>
                </a:lnTo>
                <a:lnTo>
                  <a:pt x="6633" y="4707"/>
                </a:lnTo>
                <a:close/>
                <a:moveTo>
                  <a:pt x="6668" y="5631"/>
                </a:moveTo>
                <a:lnTo>
                  <a:pt x="6758" y="6156"/>
                </a:lnTo>
                <a:lnTo>
                  <a:pt x="6627" y="6179"/>
                </a:lnTo>
                <a:lnTo>
                  <a:pt x="6537" y="5653"/>
                </a:lnTo>
                <a:lnTo>
                  <a:pt x="6668" y="5631"/>
                </a:lnTo>
                <a:close/>
                <a:moveTo>
                  <a:pt x="6780" y="5886"/>
                </a:moveTo>
                <a:lnTo>
                  <a:pt x="6785" y="5863"/>
                </a:lnTo>
                <a:cubicBezTo>
                  <a:pt x="6788" y="5851"/>
                  <a:pt x="6794" y="5839"/>
                  <a:pt x="6803" y="5830"/>
                </a:cubicBezTo>
                <a:lnTo>
                  <a:pt x="6903" y="5730"/>
                </a:lnTo>
                <a:cubicBezTo>
                  <a:pt x="6917" y="5716"/>
                  <a:pt x="6937" y="5709"/>
                  <a:pt x="6958" y="5711"/>
                </a:cubicBezTo>
                <a:cubicBezTo>
                  <a:pt x="6978" y="5713"/>
                  <a:pt x="6996" y="5725"/>
                  <a:pt x="7007" y="5742"/>
                </a:cubicBezTo>
                <a:lnTo>
                  <a:pt x="7090" y="5875"/>
                </a:lnTo>
                <a:cubicBezTo>
                  <a:pt x="7094" y="5881"/>
                  <a:pt x="7096" y="5888"/>
                  <a:pt x="7098" y="5894"/>
                </a:cubicBezTo>
                <a:lnTo>
                  <a:pt x="7148" y="6094"/>
                </a:lnTo>
                <a:lnTo>
                  <a:pt x="7131" y="6063"/>
                </a:lnTo>
                <a:lnTo>
                  <a:pt x="7134" y="6067"/>
                </a:lnTo>
                <a:lnTo>
                  <a:pt x="7040" y="6161"/>
                </a:lnTo>
                <a:lnTo>
                  <a:pt x="7036" y="6158"/>
                </a:lnTo>
                <a:cubicBezTo>
                  <a:pt x="7028" y="6149"/>
                  <a:pt x="7022" y="6138"/>
                  <a:pt x="7019" y="6127"/>
                </a:cubicBezTo>
                <a:lnTo>
                  <a:pt x="6969" y="5927"/>
                </a:lnTo>
                <a:lnTo>
                  <a:pt x="6977" y="5946"/>
                </a:lnTo>
                <a:lnTo>
                  <a:pt x="6894" y="5812"/>
                </a:lnTo>
                <a:lnTo>
                  <a:pt x="6997" y="5824"/>
                </a:lnTo>
                <a:lnTo>
                  <a:pt x="6897" y="5924"/>
                </a:lnTo>
                <a:lnTo>
                  <a:pt x="6915" y="5891"/>
                </a:lnTo>
                <a:lnTo>
                  <a:pt x="6910" y="5914"/>
                </a:lnTo>
                <a:lnTo>
                  <a:pt x="6780" y="5886"/>
                </a:lnTo>
                <a:close/>
                <a:moveTo>
                  <a:pt x="7236" y="5965"/>
                </a:moveTo>
                <a:lnTo>
                  <a:pt x="7268" y="5813"/>
                </a:lnTo>
                <a:cubicBezTo>
                  <a:pt x="7269" y="5808"/>
                  <a:pt x="7271" y="5802"/>
                  <a:pt x="7274" y="5797"/>
                </a:cubicBezTo>
                <a:lnTo>
                  <a:pt x="7374" y="5597"/>
                </a:lnTo>
                <a:lnTo>
                  <a:pt x="7450" y="5460"/>
                </a:lnTo>
                <a:lnTo>
                  <a:pt x="7567" y="5525"/>
                </a:lnTo>
                <a:lnTo>
                  <a:pt x="7493" y="5657"/>
                </a:lnTo>
                <a:lnTo>
                  <a:pt x="7393" y="5857"/>
                </a:lnTo>
                <a:lnTo>
                  <a:pt x="7399" y="5841"/>
                </a:lnTo>
                <a:lnTo>
                  <a:pt x="7366" y="5993"/>
                </a:lnTo>
                <a:lnTo>
                  <a:pt x="7236" y="5965"/>
                </a:lnTo>
                <a:close/>
                <a:moveTo>
                  <a:pt x="7767" y="5778"/>
                </a:moveTo>
                <a:lnTo>
                  <a:pt x="7776" y="5797"/>
                </a:lnTo>
                <a:lnTo>
                  <a:pt x="7653" y="5809"/>
                </a:lnTo>
                <a:lnTo>
                  <a:pt x="7753" y="5459"/>
                </a:lnTo>
                <a:lnTo>
                  <a:pt x="7777" y="5320"/>
                </a:lnTo>
                <a:lnTo>
                  <a:pt x="7908" y="5343"/>
                </a:lnTo>
                <a:lnTo>
                  <a:pt x="7881" y="5495"/>
                </a:lnTo>
                <a:lnTo>
                  <a:pt x="7781" y="5845"/>
                </a:lnTo>
                <a:cubicBezTo>
                  <a:pt x="7773" y="5872"/>
                  <a:pt x="7750" y="5891"/>
                  <a:pt x="7723" y="5894"/>
                </a:cubicBezTo>
                <a:cubicBezTo>
                  <a:pt x="7696" y="5896"/>
                  <a:pt x="7669" y="5882"/>
                  <a:pt x="7657" y="5857"/>
                </a:cubicBezTo>
                <a:lnTo>
                  <a:pt x="7648" y="5838"/>
                </a:lnTo>
                <a:lnTo>
                  <a:pt x="7767" y="5778"/>
                </a:lnTo>
                <a:close/>
                <a:moveTo>
                  <a:pt x="7846" y="4926"/>
                </a:moveTo>
                <a:lnTo>
                  <a:pt x="7851" y="4899"/>
                </a:lnTo>
                <a:lnTo>
                  <a:pt x="7884" y="4423"/>
                </a:lnTo>
                <a:cubicBezTo>
                  <a:pt x="7886" y="4390"/>
                  <a:pt x="7911" y="4364"/>
                  <a:pt x="7944" y="4361"/>
                </a:cubicBezTo>
                <a:cubicBezTo>
                  <a:pt x="7976" y="4358"/>
                  <a:pt x="8006" y="4379"/>
                  <a:pt x="8015" y="4410"/>
                </a:cubicBezTo>
                <a:lnTo>
                  <a:pt x="8020" y="4431"/>
                </a:lnTo>
                <a:lnTo>
                  <a:pt x="7891" y="4465"/>
                </a:lnTo>
                <a:lnTo>
                  <a:pt x="7886" y="4444"/>
                </a:lnTo>
                <a:lnTo>
                  <a:pt x="8017" y="4432"/>
                </a:lnTo>
                <a:lnTo>
                  <a:pt x="7982" y="4922"/>
                </a:lnTo>
                <a:lnTo>
                  <a:pt x="7978" y="4949"/>
                </a:lnTo>
                <a:lnTo>
                  <a:pt x="7846" y="4926"/>
                </a:lnTo>
                <a:close/>
                <a:moveTo>
                  <a:pt x="8118" y="4832"/>
                </a:moveTo>
                <a:lnTo>
                  <a:pt x="8152" y="5364"/>
                </a:lnTo>
                <a:lnTo>
                  <a:pt x="8019" y="5372"/>
                </a:lnTo>
                <a:lnTo>
                  <a:pt x="7985" y="4840"/>
                </a:lnTo>
                <a:lnTo>
                  <a:pt x="8118" y="4832"/>
                </a:lnTo>
                <a:close/>
                <a:moveTo>
                  <a:pt x="8177" y="5763"/>
                </a:moveTo>
                <a:lnTo>
                  <a:pt x="8211" y="6295"/>
                </a:lnTo>
                <a:lnTo>
                  <a:pt x="8078" y="6304"/>
                </a:lnTo>
                <a:lnTo>
                  <a:pt x="8044" y="5772"/>
                </a:lnTo>
                <a:lnTo>
                  <a:pt x="8177" y="5763"/>
                </a:lnTo>
                <a:close/>
                <a:moveTo>
                  <a:pt x="8223" y="6698"/>
                </a:moveTo>
                <a:lnTo>
                  <a:pt x="8234" y="7231"/>
                </a:lnTo>
                <a:lnTo>
                  <a:pt x="8100" y="7234"/>
                </a:lnTo>
                <a:lnTo>
                  <a:pt x="8090" y="6701"/>
                </a:lnTo>
                <a:lnTo>
                  <a:pt x="8223" y="6698"/>
                </a:lnTo>
                <a:close/>
                <a:moveTo>
                  <a:pt x="8242" y="7631"/>
                </a:moveTo>
                <a:lnTo>
                  <a:pt x="8253" y="8164"/>
                </a:lnTo>
                <a:lnTo>
                  <a:pt x="8119" y="8167"/>
                </a:lnTo>
                <a:lnTo>
                  <a:pt x="8109" y="7634"/>
                </a:lnTo>
                <a:lnTo>
                  <a:pt x="8242" y="7631"/>
                </a:lnTo>
                <a:close/>
                <a:moveTo>
                  <a:pt x="8261" y="8564"/>
                </a:moveTo>
                <a:lnTo>
                  <a:pt x="8267" y="8859"/>
                </a:lnTo>
                <a:lnTo>
                  <a:pt x="8277" y="9096"/>
                </a:lnTo>
                <a:lnTo>
                  <a:pt x="8144" y="9102"/>
                </a:lnTo>
                <a:lnTo>
                  <a:pt x="8133" y="8862"/>
                </a:lnTo>
                <a:lnTo>
                  <a:pt x="8128" y="8567"/>
                </a:lnTo>
                <a:lnTo>
                  <a:pt x="8261" y="8564"/>
                </a:lnTo>
                <a:close/>
                <a:moveTo>
                  <a:pt x="8295" y="9495"/>
                </a:moveTo>
                <a:lnTo>
                  <a:pt x="8318" y="10028"/>
                </a:lnTo>
                <a:lnTo>
                  <a:pt x="8185" y="10034"/>
                </a:lnTo>
                <a:lnTo>
                  <a:pt x="8162" y="9501"/>
                </a:lnTo>
                <a:lnTo>
                  <a:pt x="8295" y="9495"/>
                </a:lnTo>
                <a:close/>
                <a:moveTo>
                  <a:pt x="8336" y="10428"/>
                </a:moveTo>
                <a:lnTo>
                  <a:pt x="8360" y="10961"/>
                </a:lnTo>
                <a:lnTo>
                  <a:pt x="8226" y="10966"/>
                </a:lnTo>
                <a:lnTo>
                  <a:pt x="8203" y="10434"/>
                </a:lnTo>
                <a:lnTo>
                  <a:pt x="8336" y="10428"/>
                </a:lnTo>
                <a:close/>
                <a:moveTo>
                  <a:pt x="8392" y="11355"/>
                </a:moveTo>
                <a:lnTo>
                  <a:pt x="8450" y="11885"/>
                </a:lnTo>
                <a:lnTo>
                  <a:pt x="8317" y="11899"/>
                </a:lnTo>
                <a:lnTo>
                  <a:pt x="8259" y="11369"/>
                </a:lnTo>
                <a:lnTo>
                  <a:pt x="8392" y="11355"/>
                </a:lnTo>
                <a:close/>
                <a:moveTo>
                  <a:pt x="8333" y="11493"/>
                </a:moveTo>
                <a:lnTo>
                  <a:pt x="8354" y="10960"/>
                </a:lnTo>
                <a:lnTo>
                  <a:pt x="8487" y="10965"/>
                </a:lnTo>
                <a:lnTo>
                  <a:pt x="8466" y="11498"/>
                </a:lnTo>
                <a:lnTo>
                  <a:pt x="8333" y="11493"/>
                </a:lnTo>
                <a:close/>
                <a:moveTo>
                  <a:pt x="8370" y="10561"/>
                </a:moveTo>
                <a:lnTo>
                  <a:pt x="8390" y="10028"/>
                </a:lnTo>
                <a:lnTo>
                  <a:pt x="8523" y="10033"/>
                </a:lnTo>
                <a:lnTo>
                  <a:pt x="8503" y="10566"/>
                </a:lnTo>
                <a:lnTo>
                  <a:pt x="8370" y="10561"/>
                </a:lnTo>
                <a:close/>
                <a:moveTo>
                  <a:pt x="8404" y="9628"/>
                </a:moveTo>
                <a:lnTo>
                  <a:pt x="8424" y="9095"/>
                </a:lnTo>
                <a:lnTo>
                  <a:pt x="8557" y="9100"/>
                </a:lnTo>
                <a:lnTo>
                  <a:pt x="8538" y="9633"/>
                </a:lnTo>
                <a:lnTo>
                  <a:pt x="8404" y="9628"/>
                </a:lnTo>
                <a:close/>
                <a:moveTo>
                  <a:pt x="8439" y="8695"/>
                </a:moveTo>
                <a:lnTo>
                  <a:pt x="8459" y="8162"/>
                </a:lnTo>
                <a:lnTo>
                  <a:pt x="8592" y="8167"/>
                </a:lnTo>
                <a:lnTo>
                  <a:pt x="8572" y="8700"/>
                </a:lnTo>
                <a:lnTo>
                  <a:pt x="8439" y="8695"/>
                </a:lnTo>
                <a:close/>
                <a:moveTo>
                  <a:pt x="8474" y="7762"/>
                </a:moveTo>
                <a:lnTo>
                  <a:pt x="8494" y="7230"/>
                </a:lnTo>
                <a:lnTo>
                  <a:pt x="8627" y="7235"/>
                </a:lnTo>
                <a:lnTo>
                  <a:pt x="8607" y="7768"/>
                </a:lnTo>
                <a:lnTo>
                  <a:pt x="8474" y="7762"/>
                </a:lnTo>
                <a:close/>
                <a:moveTo>
                  <a:pt x="8510" y="6830"/>
                </a:moveTo>
                <a:lnTo>
                  <a:pt x="8530" y="6297"/>
                </a:lnTo>
                <a:lnTo>
                  <a:pt x="8663" y="6302"/>
                </a:lnTo>
                <a:lnTo>
                  <a:pt x="8643" y="6835"/>
                </a:lnTo>
                <a:lnTo>
                  <a:pt x="8510" y="6830"/>
                </a:lnTo>
                <a:close/>
                <a:moveTo>
                  <a:pt x="8545" y="5897"/>
                </a:moveTo>
                <a:lnTo>
                  <a:pt x="8566" y="5364"/>
                </a:lnTo>
                <a:lnTo>
                  <a:pt x="8699" y="5369"/>
                </a:lnTo>
                <a:lnTo>
                  <a:pt x="8679" y="5902"/>
                </a:lnTo>
                <a:lnTo>
                  <a:pt x="8545" y="5897"/>
                </a:lnTo>
                <a:close/>
                <a:moveTo>
                  <a:pt x="8582" y="4964"/>
                </a:moveTo>
                <a:lnTo>
                  <a:pt x="8603" y="4432"/>
                </a:lnTo>
                <a:lnTo>
                  <a:pt x="8736" y="4437"/>
                </a:lnTo>
                <a:lnTo>
                  <a:pt x="8715" y="4970"/>
                </a:lnTo>
                <a:lnTo>
                  <a:pt x="8582" y="4964"/>
                </a:lnTo>
                <a:close/>
                <a:moveTo>
                  <a:pt x="8763" y="4134"/>
                </a:moveTo>
                <a:lnTo>
                  <a:pt x="8848" y="4460"/>
                </a:lnTo>
                <a:cubicBezTo>
                  <a:pt x="8849" y="4465"/>
                  <a:pt x="8850" y="4469"/>
                  <a:pt x="8850" y="4473"/>
                </a:cubicBezTo>
                <a:lnTo>
                  <a:pt x="8862" y="4669"/>
                </a:lnTo>
                <a:lnTo>
                  <a:pt x="8729" y="4677"/>
                </a:lnTo>
                <a:lnTo>
                  <a:pt x="8717" y="4481"/>
                </a:lnTo>
                <a:lnTo>
                  <a:pt x="8719" y="4494"/>
                </a:lnTo>
                <a:lnTo>
                  <a:pt x="8634" y="4168"/>
                </a:lnTo>
                <a:lnTo>
                  <a:pt x="8763" y="4134"/>
                </a:lnTo>
                <a:close/>
                <a:moveTo>
                  <a:pt x="8885" y="5069"/>
                </a:moveTo>
                <a:lnTo>
                  <a:pt x="8917" y="5601"/>
                </a:lnTo>
                <a:lnTo>
                  <a:pt x="8784" y="5609"/>
                </a:lnTo>
                <a:lnTo>
                  <a:pt x="8752" y="5077"/>
                </a:lnTo>
                <a:lnTo>
                  <a:pt x="8885" y="5069"/>
                </a:lnTo>
                <a:close/>
                <a:moveTo>
                  <a:pt x="8939" y="6002"/>
                </a:moveTo>
                <a:lnTo>
                  <a:pt x="8960" y="6535"/>
                </a:lnTo>
                <a:lnTo>
                  <a:pt x="8827" y="6540"/>
                </a:lnTo>
                <a:lnTo>
                  <a:pt x="8805" y="6007"/>
                </a:lnTo>
                <a:lnTo>
                  <a:pt x="8939" y="6002"/>
                </a:lnTo>
                <a:close/>
                <a:moveTo>
                  <a:pt x="8976" y="6934"/>
                </a:moveTo>
                <a:lnTo>
                  <a:pt x="8983" y="7124"/>
                </a:lnTo>
                <a:lnTo>
                  <a:pt x="9034" y="7456"/>
                </a:lnTo>
                <a:lnTo>
                  <a:pt x="8902" y="7476"/>
                </a:lnTo>
                <a:lnTo>
                  <a:pt x="8850" y="7130"/>
                </a:lnTo>
                <a:lnTo>
                  <a:pt x="8843" y="6940"/>
                </a:lnTo>
                <a:lnTo>
                  <a:pt x="8976" y="6934"/>
                </a:lnTo>
                <a:close/>
                <a:moveTo>
                  <a:pt x="9096" y="7848"/>
                </a:moveTo>
                <a:lnTo>
                  <a:pt x="9182" y="8264"/>
                </a:lnTo>
                <a:cubicBezTo>
                  <a:pt x="9183" y="8267"/>
                  <a:pt x="9183" y="8270"/>
                  <a:pt x="9183" y="8274"/>
                </a:cubicBezTo>
                <a:lnTo>
                  <a:pt x="9189" y="8382"/>
                </a:lnTo>
                <a:lnTo>
                  <a:pt x="9056" y="8389"/>
                </a:lnTo>
                <a:lnTo>
                  <a:pt x="9050" y="8281"/>
                </a:lnTo>
                <a:lnTo>
                  <a:pt x="9052" y="8291"/>
                </a:lnTo>
                <a:lnTo>
                  <a:pt x="8965" y="7875"/>
                </a:lnTo>
                <a:lnTo>
                  <a:pt x="9096" y="7848"/>
                </a:lnTo>
                <a:close/>
                <a:moveTo>
                  <a:pt x="9210" y="8782"/>
                </a:moveTo>
                <a:lnTo>
                  <a:pt x="9233" y="9240"/>
                </a:lnTo>
                <a:lnTo>
                  <a:pt x="9238" y="9313"/>
                </a:lnTo>
                <a:lnTo>
                  <a:pt x="9105" y="9322"/>
                </a:lnTo>
                <a:lnTo>
                  <a:pt x="9100" y="9247"/>
                </a:lnTo>
                <a:lnTo>
                  <a:pt x="9076" y="8789"/>
                </a:lnTo>
                <a:lnTo>
                  <a:pt x="9210" y="8782"/>
                </a:lnTo>
                <a:close/>
                <a:moveTo>
                  <a:pt x="9265" y="9712"/>
                </a:moveTo>
                <a:lnTo>
                  <a:pt x="9301" y="10244"/>
                </a:lnTo>
                <a:lnTo>
                  <a:pt x="9168" y="10253"/>
                </a:lnTo>
                <a:lnTo>
                  <a:pt x="9132" y="9721"/>
                </a:lnTo>
                <a:lnTo>
                  <a:pt x="9265" y="9712"/>
                </a:lnTo>
                <a:close/>
                <a:moveTo>
                  <a:pt x="9328" y="10643"/>
                </a:moveTo>
                <a:lnTo>
                  <a:pt x="9333" y="10723"/>
                </a:lnTo>
                <a:lnTo>
                  <a:pt x="9377" y="11173"/>
                </a:lnTo>
                <a:lnTo>
                  <a:pt x="9244" y="11185"/>
                </a:lnTo>
                <a:lnTo>
                  <a:pt x="9200" y="10732"/>
                </a:lnTo>
                <a:lnTo>
                  <a:pt x="9195" y="10652"/>
                </a:lnTo>
                <a:lnTo>
                  <a:pt x="9328" y="10643"/>
                </a:lnTo>
                <a:close/>
                <a:moveTo>
                  <a:pt x="9415" y="11571"/>
                </a:moveTo>
                <a:lnTo>
                  <a:pt x="9416" y="11587"/>
                </a:lnTo>
                <a:lnTo>
                  <a:pt x="9284" y="11590"/>
                </a:lnTo>
                <a:lnTo>
                  <a:pt x="9311" y="11074"/>
                </a:lnTo>
                <a:lnTo>
                  <a:pt x="9444" y="11081"/>
                </a:lnTo>
                <a:lnTo>
                  <a:pt x="9417" y="11597"/>
                </a:lnTo>
                <a:cubicBezTo>
                  <a:pt x="9415" y="11632"/>
                  <a:pt x="9386" y="11660"/>
                  <a:pt x="9352" y="11660"/>
                </a:cubicBezTo>
                <a:cubicBezTo>
                  <a:pt x="9317" y="11661"/>
                  <a:pt x="9287" y="11635"/>
                  <a:pt x="9284" y="11600"/>
                </a:cubicBezTo>
                <a:lnTo>
                  <a:pt x="9282" y="11584"/>
                </a:lnTo>
                <a:lnTo>
                  <a:pt x="9415" y="11571"/>
                </a:lnTo>
                <a:close/>
                <a:moveTo>
                  <a:pt x="9332" y="10675"/>
                </a:moveTo>
                <a:lnTo>
                  <a:pt x="9334" y="10640"/>
                </a:lnTo>
                <a:lnTo>
                  <a:pt x="9349" y="10143"/>
                </a:lnTo>
                <a:lnTo>
                  <a:pt x="9482" y="10147"/>
                </a:lnTo>
                <a:lnTo>
                  <a:pt x="9467" y="10647"/>
                </a:lnTo>
                <a:lnTo>
                  <a:pt x="9465" y="10682"/>
                </a:lnTo>
                <a:lnTo>
                  <a:pt x="9332" y="10675"/>
                </a:lnTo>
                <a:close/>
                <a:moveTo>
                  <a:pt x="9362" y="9743"/>
                </a:moveTo>
                <a:lnTo>
                  <a:pt x="9378" y="9210"/>
                </a:lnTo>
                <a:lnTo>
                  <a:pt x="9512" y="9215"/>
                </a:lnTo>
                <a:lnTo>
                  <a:pt x="9495" y="9748"/>
                </a:lnTo>
                <a:lnTo>
                  <a:pt x="9362" y="9743"/>
                </a:lnTo>
                <a:close/>
                <a:moveTo>
                  <a:pt x="9391" y="8811"/>
                </a:moveTo>
                <a:lnTo>
                  <a:pt x="9408" y="8278"/>
                </a:lnTo>
                <a:lnTo>
                  <a:pt x="9541" y="8282"/>
                </a:lnTo>
                <a:lnTo>
                  <a:pt x="9524" y="8815"/>
                </a:lnTo>
                <a:lnTo>
                  <a:pt x="9391" y="8811"/>
                </a:lnTo>
                <a:close/>
                <a:moveTo>
                  <a:pt x="9420" y="7878"/>
                </a:moveTo>
                <a:lnTo>
                  <a:pt x="9434" y="7458"/>
                </a:lnTo>
                <a:lnTo>
                  <a:pt x="9436" y="7345"/>
                </a:lnTo>
                <a:lnTo>
                  <a:pt x="9570" y="7348"/>
                </a:lnTo>
                <a:lnTo>
                  <a:pt x="9567" y="7463"/>
                </a:lnTo>
                <a:lnTo>
                  <a:pt x="9554" y="7882"/>
                </a:lnTo>
                <a:lnTo>
                  <a:pt x="9420" y="7878"/>
                </a:lnTo>
                <a:close/>
                <a:moveTo>
                  <a:pt x="9446" y="6945"/>
                </a:moveTo>
                <a:lnTo>
                  <a:pt x="9460" y="6412"/>
                </a:lnTo>
                <a:lnTo>
                  <a:pt x="9593" y="6415"/>
                </a:lnTo>
                <a:lnTo>
                  <a:pt x="9580" y="6949"/>
                </a:lnTo>
                <a:lnTo>
                  <a:pt x="9446" y="6945"/>
                </a:lnTo>
                <a:close/>
                <a:moveTo>
                  <a:pt x="9470" y="6012"/>
                </a:moveTo>
                <a:lnTo>
                  <a:pt x="9483" y="5479"/>
                </a:lnTo>
                <a:lnTo>
                  <a:pt x="9616" y="5482"/>
                </a:lnTo>
                <a:lnTo>
                  <a:pt x="9603" y="6015"/>
                </a:lnTo>
                <a:lnTo>
                  <a:pt x="9470" y="6012"/>
                </a:lnTo>
                <a:close/>
                <a:moveTo>
                  <a:pt x="9493" y="5079"/>
                </a:moveTo>
                <a:lnTo>
                  <a:pt x="9506" y="4546"/>
                </a:lnTo>
                <a:lnTo>
                  <a:pt x="9640" y="4549"/>
                </a:lnTo>
                <a:lnTo>
                  <a:pt x="9626" y="5082"/>
                </a:lnTo>
                <a:lnTo>
                  <a:pt x="9493" y="5079"/>
                </a:lnTo>
                <a:close/>
                <a:moveTo>
                  <a:pt x="9516" y="4146"/>
                </a:moveTo>
                <a:lnTo>
                  <a:pt x="9530" y="3613"/>
                </a:lnTo>
                <a:lnTo>
                  <a:pt x="9663" y="3616"/>
                </a:lnTo>
                <a:lnTo>
                  <a:pt x="9650" y="4149"/>
                </a:lnTo>
                <a:lnTo>
                  <a:pt x="9516" y="4146"/>
                </a:lnTo>
                <a:close/>
                <a:moveTo>
                  <a:pt x="9538" y="3213"/>
                </a:moveTo>
                <a:lnTo>
                  <a:pt x="9549" y="2680"/>
                </a:lnTo>
                <a:lnTo>
                  <a:pt x="9682" y="2683"/>
                </a:lnTo>
                <a:lnTo>
                  <a:pt x="9672" y="3216"/>
                </a:lnTo>
                <a:lnTo>
                  <a:pt x="9538" y="3213"/>
                </a:lnTo>
                <a:close/>
                <a:moveTo>
                  <a:pt x="9557" y="2280"/>
                </a:moveTo>
                <a:lnTo>
                  <a:pt x="9568" y="1747"/>
                </a:lnTo>
                <a:lnTo>
                  <a:pt x="9701" y="1750"/>
                </a:lnTo>
                <a:lnTo>
                  <a:pt x="9690" y="2283"/>
                </a:lnTo>
                <a:lnTo>
                  <a:pt x="9557" y="2280"/>
                </a:lnTo>
                <a:close/>
                <a:moveTo>
                  <a:pt x="9576" y="1347"/>
                </a:moveTo>
                <a:lnTo>
                  <a:pt x="9583" y="959"/>
                </a:lnTo>
                <a:cubicBezTo>
                  <a:pt x="9584" y="925"/>
                  <a:pt x="9611" y="896"/>
                  <a:pt x="9646" y="894"/>
                </a:cubicBezTo>
                <a:cubicBezTo>
                  <a:pt x="9680" y="892"/>
                  <a:pt x="9711" y="916"/>
                  <a:pt x="9716" y="951"/>
                </a:cubicBezTo>
                <a:lnTo>
                  <a:pt x="9738" y="1094"/>
                </a:lnTo>
                <a:lnTo>
                  <a:pt x="9606" y="1114"/>
                </a:lnTo>
                <a:lnTo>
                  <a:pt x="9584" y="970"/>
                </a:lnTo>
                <a:lnTo>
                  <a:pt x="9717" y="962"/>
                </a:lnTo>
                <a:lnTo>
                  <a:pt x="9709" y="1350"/>
                </a:lnTo>
                <a:lnTo>
                  <a:pt x="9576" y="1347"/>
                </a:lnTo>
                <a:close/>
                <a:moveTo>
                  <a:pt x="9797" y="1490"/>
                </a:moveTo>
                <a:lnTo>
                  <a:pt x="9816" y="1617"/>
                </a:lnTo>
                <a:lnTo>
                  <a:pt x="9827" y="2030"/>
                </a:lnTo>
                <a:lnTo>
                  <a:pt x="9694" y="2033"/>
                </a:lnTo>
                <a:lnTo>
                  <a:pt x="9684" y="1637"/>
                </a:lnTo>
                <a:lnTo>
                  <a:pt x="9665" y="1510"/>
                </a:lnTo>
                <a:lnTo>
                  <a:pt x="9797" y="1490"/>
                </a:lnTo>
                <a:close/>
                <a:moveTo>
                  <a:pt x="9837" y="2430"/>
                </a:moveTo>
                <a:lnTo>
                  <a:pt x="9850" y="2963"/>
                </a:lnTo>
                <a:lnTo>
                  <a:pt x="9717" y="2966"/>
                </a:lnTo>
                <a:lnTo>
                  <a:pt x="9704" y="2433"/>
                </a:lnTo>
                <a:lnTo>
                  <a:pt x="9837" y="2430"/>
                </a:lnTo>
                <a:close/>
                <a:moveTo>
                  <a:pt x="9860" y="3363"/>
                </a:moveTo>
                <a:lnTo>
                  <a:pt x="9874" y="3896"/>
                </a:lnTo>
                <a:lnTo>
                  <a:pt x="9740" y="3899"/>
                </a:lnTo>
                <a:lnTo>
                  <a:pt x="9727" y="3366"/>
                </a:lnTo>
                <a:lnTo>
                  <a:pt x="9860" y="3363"/>
                </a:lnTo>
                <a:close/>
                <a:moveTo>
                  <a:pt x="9884" y="4296"/>
                </a:moveTo>
                <a:lnTo>
                  <a:pt x="9897" y="4829"/>
                </a:lnTo>
                <a:lnTo>
                  <a:pt x="9764" y="4832"/>
                </a:lnTo>
                <a:lnTo>
                  <a:pt x="9750" y="4299"/>
                </a:lnTo>
                <a:lnTo>
                  <a:pt x="9884" y="4296"/>
                </a:lnTo>
                <a:close/>
                <a:moveTo>
                  <a:pt x="9904" y="5230"/>
                </a:moveTo>
                <a:lnTo>
                  <a:pt x="9911" y="5763"/>
                </a:lnTo>
                <a:lnTo>
                  <a:pt x="9778" y="5765"/>
                </a:lnTo>
                <a:lnTo>
                  <a:pt x="9771" y="5232"/>
                </a:lnTo>
                <a:lnTo>
                  <a:pt x="9904" y="5230"/>
                </a:lnTo>
                <a:close/>
                <a:moveTo>
                  <a:pt x="9917" y="6163"/>
                </a:moveTo>
                <a:lnTo>
                  <a:pt x="9924" y="6696"/>
                </a:lnTo>
                <a:lnTo>
                  <a:pt x="9791" y="6698"/>
                </a:lnTo>
                <a:lnTo>
                  <a:pt x="9783" y="6165"/>
                </a:lnTo>
                <a:lnTo>
                  <a:pt x="9917" y="6163"/>
                </a:lnTo>
                <a:close/>
                <a:moveTo>
                  <a:pt x="9929" y="7096"/>
                </a:moveTo>
                <a:lnTo>
                  <a:pt x="9937" y="7629"/>
                </a:lnTo>
                <a:lnTo>
                  <a:pt x="9803" y="7631"/>
                </a:lnTo>
                <a:lnTo>
                  <a:pt x="9796" y="7098"/>
                </a:lnTo>
                <a:lnTo>
                  <a:pt x="9929" y="7096"/>
                </a:lnTo>
                <a:close/>
                <a:moveTo>
                  <a:pt x="9942" y="8029"/>
                </a:moveTo>
                <a:lnTo>
                  <a:pt x="9949" y="8563"/>
                </a:lnTo>
                <a:lnTo>
                  <a:pt x="9816" y="8565"/>
                </a:lnTo>
                <a:lnTo>
                  <a:pt x="9809" y="8031"/>
                </a:lnTo>
                <a:lnTo>
                  <a:pt x="9942" y="8029"/>
                </a:lnTo>
                <a:close/>
                <a:moveTo>
                  <a:pt x="9974" y="8958"/>
                </a:moveTo>
                <a:lnTo>
                  <a:pt x="10011" y="9490"/>
                </a:lnTo>
                <a:lnTo>
                  <a:pt x="9878" y="9499"/>
                </a:lnTo>
                <a:lnTo>
                  <a:pt x="9841" y="8967"/>
                </a:lnTo>
                <a:lnTo>
                  <a:pt x="9974" y="8958"/>
                </a:lnTo>
                <a:close/>
                <a:moveTo>
                  <a:pt x="10038" y="9889"/>
                </a:moveTo>
                <a:lnTo>
                  <a:pt x="10050" y="10056"/>
                </a:lnTo>
                <a:lnTo>
                  <a:pt x="9917" y="10056"/>
                </a:lnTo>
                <a:lnTo>
                  <a:pt x="9939" y="9691"/>
                </a:lnTo>
                <a:lnTo>
                  <a:pt x="10072" y="9699"/>
                </a:lnTo>
                <a:lnTo>
                  <a:pt x="10050" y="10065"/>
                </a:lnTo>
                <a:cubicBezTo>
                  <a:pt x="10048" y="10100"/>
                  <a:pt x="10019" y="10127"/>
                  <a:pt x="9984" y="10127"/>
                </a:cubicBezTo>
                <a:cubicBezTo>
                  <a:pt x="9949" y="10127"/>
                  <a:pt x="9919" y="10100"/>
                  <a:pt x="9917" y="10065"/>
                </a:cubicBezTo>
                <a:lnTo>
                  <a:pt x="9905" y="9899"/>
                </a:lnTo>
                <a:lnTo>
                  <a:pt x="10038" y="9889"/>
                </a:lnTo>
                <a:close/>
                <a:moveTo>
                  <a:pt x="9964" y="9291"/>
                </a:moveTo>
                <a:lnTo>
                  <a:pt x="9996" y="8759"/>
                </a:lnTo>
                <a:lnTo>
                  <a:pt x="10129" y="8767"/>
                </a:lnTo>
                <a:lnTo>
                  <a:pt x="10097" y="9300"/>
                </a:lnTo>
                <a:lnTo>
                  <a:pt x="9964" y="9291"/>
                </a:lnTo>
                <a:close/>
                <a:moveTo>
                  <a:pt x="10018" y="8363"/>
                </a:moveTo>
                <a:lnTo>
                  <a:pt x="10025" y="7830"/>
                </a:lnTo>
                <a:lnTo>
                  <a:pt x="10159" y="7831"/>
                </a:lnTo>
                <a:lnTo>
                  <a:pt x="10151" y="8365"/>
                </a:lnTo>
                <a:lnTo>
                  <a:pt x="10018" y="8363"/>
                </a:lnTo>
                <a:close/>
                <a:moveTo>
                  <a:pt x="10031" y="7430"/>
                </a:moveTo>
                <a:lnTo>
                  <a:pt x="10039" y="6896"/>
                </a:lnTo>
                <a:lnTo>
                  <a:pt x="10172" y="6898"/>
                </a:lnTo>
                <a:lnTo>
                  <a:pt x="10164" y="7432"/>
                </a:lnTo>
                <a:lnTo>
                  <a:pt x="10031" y="7430"/>
                </a:lnTo>
                <a:close/>
                <a:moveTo>
                  <a:pt x="10045" y="6496"/>
                </a:moveTo>
                <a:lnTo>
                  <a:pt x="10052" y="5963"/>
                </a:lnTo>
                <a:lnTo>
                  <a:pt x="10186" y="5965"/>
                </a:lnTo>
                <a:lnTo>
                  <a:pt x="10178" y="6498"/>
                </a:lnTo>
                <a:lnTo>
                  <a:pt x="10045" y="6496"/>
                </a:lnTo>
                <a:close/>
                <a:moveTo>
                  <a:pt x="10058" y="5563"/>
                </a:moveTo>
                <a:lnTo>
                  <a:pt x="10066" y="5030"/>
                </a:lnTo>
                <a:lnTo>
                  <a:pt x="10199" y="5032"/>
                </a:lnTo>
                <a:lnTo>
                  <a:pt x="10191" y="5565"/>
                </a:lnTo>
                <a:lnTo>
                  <a:pt x="10058" y="5563"/>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5391000" y="3956040"/>
            <a:ext cx="919440" cy="579600"/>
          </a:xfrm>
          <a:custGeom>
            <a:avLst/>
            <a:gdLst/>
            <a:ahLst/>
            <a:rect l="l" t="t" r="r" b="b"/>
            <a:pathLst>
              <a:path w="4242" h="2656">
                <a:moveTo>
                  <a:pt x="0" y="1753"/>
                </a:moveTo>
                <a:lnTo>
                  <a:pt x="9" y="1487"/>
                </a:lnTo>
                <a:lnTo>
                  <a:pt x="76" y="1489"/>
                </a:lnTo>
                <a:lnTo>
                  <a:pt x="67" y="1756"/>
                </a:lnTo>
                <a:lnTo>
                  <a:pt x="0" y="1753"/>
                </a:lnTo>
                <a:close/>
                <a:moveTo>
                  <a:pt x="16" y="1287"/>
                </a:moveTo>
                <a:lnTo>
                  <a:pt x="25" y="1020"/>
                </a:lnTo>
                <a:lnTo>
                  <a:pt x="92" y="1023"/>
                </a:lnTo>
                <a:lnTo>
                  <a:pt x="83" y="1289"/>
                </a:lnTo>
                <a:lnTo>
                  <a:pt x="16" y="1287"/>
                </a:lnTo>
                <a:close/>
                <a:moveTo>
                  <a:pt x="32" y="821"/>
                </a:moveTo>
                <a:lnTo>
                  <a:pt x="42" y="554"/>
                </a:lnTo>
                <a:lnTo>
                  <a:pt x="108" y="556"/>
                </a:lnTo>
                <a:lnTo>
                  <a:pt x="99" y="823"/>
                </a:lnTo>
                <a:lnTo>
                  <a:pt x="32" y="821"/>
                </a:lnTo>
                <a:close/>
                <a:moveTo>
                  <a:pt x="48" y="354"/>
                </a:moveTo>
                <a:lnTo>
                  <a:pt x="50" y="303"/>
                </a:lnTo>
                <a:lnTo>
                  <a:pt x="75" y="86"/>
                </a:lnTo>
                <a:lnTo>
                  <a:pt x="142" y="94"/>
                </a:lnTo>
                <a:lnTo>
                  <a:pt x="117" y="306"/>
                </a:lnTo>
                <a:lnTo>
                  <a:pt x="115" y="356"/>
                </a:lnTo>
                <a:lnTo>
                  <a:pt x="48" y="354"/>
                </a:lnTo>
                <a:close/>
                <a:moveTo>
                  <a:pt x="161" y="0"/>
                </a:moveTo>
                <a:lnTo>
                  <a:pt x="171" y="266"/>
                </a:lnTo>
                <a:lnTo>
                  <a:pt x="104" y="269"/>
                </a:lnTo>
                <a:lnTo>
                  <a:pt x="94" y="2"/>
                </a:lnTo>
                <a:lnTo>
                  <a:pt x="161" y="0"/>
                </a:lnTo>
                <a:close/>
                <a:moveTo>
                  <a:pt x="178" y="466"/>
                </a:moveTo>
                <a:lnTo>
                  <a:pt x="183" y="595"/>
                </a:lnTo>
                <a:lnTo>
                  <a:pt x="191" y="732"/>
                </a:lnTo>
                <a:lnTo>
                  <a:pt x="124" y="736"/>
                </a:lnTo>
                <a:lnTo>
                  <a:pt x="117" y="597"/>
                </a:lnTo>
                <a:lnTo>
                  <a:pt x="112" y="469"/>
                </a:lnTo>
                <a:lnTo>
                  <a:pt x="178" y="466"/>
                </a:lnTo>
                <a:close/>
                <a:moveTo>
                  <a:pt x="201" y="932"/>
                </a:moveTo>
                <a:lnTo>
                  <a:pt x="215" y="1198"/>
                </a:lnTo>
                <a:lnTo>
                  <a:pt x="149" y="1202"/>
                </a:lnTo>
                <a:lnTo>
                  <a:pt x="135" y="935"/>
                </a:lnTo>
                <a:lnTo>
                  <a:pt x="201" y="932"/>
                </a:lnTo>
                <a:close/>
                <a:moveTo>
                  <a:pt x="226" y="1398"/>
                </a:moveTo>
                <a:lnTo>
                  <a:pt x="233" y="1536"/>
                </a:lnTo>
                <a:lnTo>
                  <a:pt x="246" y="1662"/>
                </a:lnTo>
                <a:lnTo>
                  <a:pt x="180" y="1669"/>
                </a:lnTo>
                <a:lnTo>
                  <a:pt x="167" y="1540"/>
                </a:lnTo>
                <a:lnTo>
                  <a:pt x="160" y="1401"/>
                </a:lnTo>
                <a:lnTo>
                  <a:pt x="226" y="1398"/>
                </a:lnTo>
                <a:close/>
                <a:moveTo>
                  <a:pt x="266" y="1861"/>
                </a:moveTo>
                <a:lnTo>
                  <a:pt x="283" y="2034"/>
                </a:lnTo>
                <a:lnTo>
                  <a:pt x="218" y="2029"/>
                </a:lnTo>
                <a:lnTo>
                  <a:pt x="242" y="1940"/>
                </a:lnTo>
                <a:lnTo>
                  <a:pt x="307" y="1957"/>
                </a:lnTo>
                <a:lnTo>
                  <a:pt x="282" y="2047"/>
                </a:lnTo>
                <a:cubicBezTo>
                  <a:pt x="278" y="2062"/>
                  <a:pt x="263" y="2072"/>
                  <a:pt x="247" y="2071"/>
                </a:cubicBezTo>
                <a:cubicBezTo>
                  <a:pt x="231" y="2070"/>
                  <a:pt x="219" y="2057"/>
                  <a:pt x="217" y="2041"/>
                </a:cubicBezTo>
                <a:lnTo>
                  <a:pt x="200" y="1868"/>
                </a:lnTo>
                <a:lnTo>
                  <a:pt x="266" y="1861"/>
                </a:lnTo>
                <a:close/>
                <a:moveTo>
                  <a:pt x="261" y="1746"/>
                </a:moveTo>
                <a:lnTo>
                  <a:pt x="284" y="1510"/>
                </a:lnTo>
                <a:lnTo>
                  <a:pt x="289" y="1479"/>
                </a:lnTo>
                <a:lnTo>
                  <a:pt x="355" y="1490"/>
                </a:lnTo>
                <a:lnTo>
                  <a:pt x="350" y="1516"/>
                </a:lnTo>
                <a:lnTo>
                  <a:pt x="327" y="1753"/>
                </a:lnTo>
                <a:lnTo>
                  <a:pt x="261" y="1746"/>
                </a:lnTo>
                <a:close/>
                <a:moveTo>
                  <a:pt x="323" y="1282"/>
                </a:moveTo>
                <a:lnTo>
                  <a:pt x="334" y="1216"/>
                </a:lnTo>
                <a:cubicBezTo>
                  <a:pt x="336" y="1203"/>
                  <a:pt x="345" y="1193"/>
                  <a:pt x="357" y="1189"/>
                </a:cubicBezTo>
                <a:cubicBezTo>
                  <a:pt x="369" y="1186"/>
                  <a:pt x="382" y="1189"/>
                  <a:pt x="390" y="1198"/>
                </a:cubicBezTo>
                <a:lnTo>
                  <a:pt x="415" y="1223"/>
                </a:lnTo>
                <a:cubicBezTo>
                  <a:pt x="420" y="1227"/>
                  <a:pt x="423" y="1233"/>
                  <a:pt x="424" y="1239"/>
                </a:cubicBezTo>
                <a:lnTo>
                  <a:pt x="458" y="1400"/>
                </a:lnTo>
                <a:lnTo>
                  <a:pt x="392" y="1414"/>
                </a:lnTo>
                <a:lnTo>
                  <a:pt x="359" y="1253"/>
                </a:lnTo>
                <a:lnTo>
                  <a:pt x="368" y="1270"/>
                </a:lnTo>
                <a:lnTo>
                  <a:pt x="343" y="1245"/>
                </a:lnTo>
                <a:lnTo>
                  <a:pt x="400" y="1227"/>
                </a:lnTo>
                <a:lnTo>
                  <a:pt x="388" y="1293"/>
                </a:lnTo>
                <a:lnTo>
                  <a:pt x="323" y="1282"/>
                </a:lnTo>
                <a:close/>
                <a:moveTo>
                  <a:pt x="496" y="1597"/>
                </a:moveTo>
                <a:lnTo>
                  <a:pt x="525" y="1748"/>
                </a:lnTo>
                <a:lnTo>
                  <a:pt x="544" y="1860"/>
                </a:lnTo>
                <a:lnTo>
                  <a:pt x="479" y="1871"/>
                </a:lnTo>
                <a:lnTo>
                  <a:pt x="459" y="1761"/>
                </a:lnTo>
                <a:lnTo>
                  <a:pt x="431" y="1609"/>
                </a:lnTo>
                <a:lnTo>
                  <a:pt x="496" y="1597"/>
                </a:lnTo>
                <a:close/>
                <a:moveTo>
                  <a:pt x="612" y="2042"/>
                </a:moveTo>
                <a:lnTo>
                  <a:pt x="616" y="2054"/>
                </a:lnTo>
                <a:lnTo>
                  <a:pt x="613" y="2048"/>
                </a:lnTo>
                <a:lnTo>
                  <a:pt x="663" y="2148"/>
                </a:lnTo>
                <a:lnTo>
                  <a:pt x="713" y="2239"/>
                </a:lnTo>
                <a:cubicBezTo>
                  <a:pt x="714" y="2240"/>
                  <a:pt x="714" y="2242"/>
                  <a:pt x="715" y="2244"/>
                </a:cubicBezTo>
                <a:lnTo>
                  <a:pt x="727" y="2280"/>
                </a:lnTo>
                <a:lnTo>
                  <a:pt x="664" y="2302"/>
                </a:lnTo>
                <a:lnTo>
                  <a:pt x="652" y="2265"/>
                </a:lnTo>
                <a:lnTo>
                  <a:pt x="654" y="2270"/>
                </a:lnTo>
                <a:lnTo>
                  <a:pt x="604" y="2178"/>
                </a:lnTo>
                <a:lnTo>
                  <a:pt x="554" y="2078"/>
                </a:lnTo>
                <a:cubicBezTo>
                  <a:pt x="553" y="2076"/>
                  <a:pt x="552" y="2074"/>
                  <a:pt x="551" y="2072"/>
                </a:cubicBezTo>
                <a:lnTo>
                  <a:pt x="548" y="2060"/>
                </a:lnTo>
                <a:lnTo>
                  <a:pt x="612" y="2042"/>
                </a:lnTo>
                <a:close/>
                <a:moveTo>
                  <a:pt x="823" y="2446"/>
                </a:moveTo>
                <a:lnTo>
                  <a:pt x="828" y="2453"/>
                </a:lnTo>
                <a:cubicBezTo>
                  <a:pt x="830" y="2456"/>
                  <a:pt x="831" y="2458"/>
                  <a:pt x="832" y="2461"/>
                </a:cubicBezTo>
                <a:lnTo>
                  <a:pt x="857" y="2536"/>
                </a:lnTo>
                <a:lnTo>
                  <a:pt x="802" y="2523"/>
                </a:lnTo>
                <a:lnTo>
                  <a:pt x="852" y="2473"/>
                </a:lnTo>
                <a:lnTo>
                  <a:pt x="843" y="2488"/>
                </a:lnTo>
                <a:lnTo>
                  <a:pt x="870" y="2384"/>
                </a:lnTo>
                <a:lnTo>
                  <a:pt x="935" y="2400"/>
                </a:lnTo>
                <a:lnTo>
                  <a:pt x="907" y="2505"/>
                </a:lnTo>
                <a:cubicBezTo>
                  <a:pt x="906" y="2510"/>
                  <a:pt x="903" y="2516"/>
                  <a:pt x="899" y="2520"/>
                </a:cubicBezTo>
                <a:lnTo>
                  <a:pt x="849" y="2570"/>
                </a:lnTo>
                <a:cubicBezTo>
                  <a:pt x="841" y="2578"/>
                  <a:pt x="829" y="2581"/>
                  <a:pt x="817" y="2579"/>
                </a:cubicBezTo>
                <a:cubicBezTo>
                  <a:pt x="806" y="2576"/>
                  <a:pt x="797" y="2568"/>
                  <a:pt x="794" y="2557"/>
                </a:cubicBezTo>
                <a:lnTo>
                  <a:pt x="769" y="2482"/>
                </a:lnTo>
                <a:lnTo>
                  <a:pt x="772" y="2489"/>
                </a:lnTo>
                <a:lnTo>
                  <a:pt x="767" y="2481"/>
                </a:lnTo>
                <a:lnTo>
                  <a:pt x="823" y="2446"/>
                </a:lnTo>
                <a:close/>
                <a:moveTo>
                  <a:pt x="905" y="2192"/>
                </a:moveTo>
                <a:lnTo>
                  <a:pt x="917" y="2084"/>
                </a:lnTo>
                <a:cubicBezTo>
                  <a:pt x="917" y="2081"/>
                  <a:pt x="918" y="2078"/>
                  <a:pt x="919" y="2075"/>
                </a:cubicBezTo>
                <a:lnTo>
                  <a:pt x="969" y="1958"/>
                </a:lnTo>
                <a:cubicBezTo>
                  <a:pt x="974" y="1948"/>
                  <a:pt x="983" y="1940"/>
                  <a:pt x="994" y="1938"/>
                </a:cubicBezTo>
                <a:cubicBezTo>
                  <a:pt x="1005" y="1936"/>
                  <a:pt x="1016" y="1940"/>
                  <a:pt x="1024" y="1948"/>
                </a:cubicBezTo>
                <a:lnTo>
                  <a:pt x="1046" y="1970"/>
                </a:lnTo>
                <a:lnTo>
                  <a:pt x="999" y="2017"/>
                </a:lnTo>
                <a:lnTo>
                  <a:pt x="977" y="1995"/>
                </a:lnTo>
                <a:lnTo>
                  <a:pt x="1031" y="1984"/>
                </a:lnTo>
                <a:lnTo>
                  <a:pt x="981" y="2101"/>
                </a:lnTo>
                <a:lnTo>
                  <a:pt x="983" y="2092"/>
                </a:lnTo>
                <a:lnTo>
                  <a:pt x="971" y="2200"/>
                </a:lnTo>
                <a:lnTo>
                  <a:pt x="905" y="2192"/>
                </a:lnTo>
                <a:close/>
                <a:moveTo>
                  <a:pt x="1095" y="2180"/>
                </a:moveTo>
                <a:lnTo>
                  <a:pt x="1100" y="2226"/>
                </a:lnTo>
                <a:lnTo>
                  <a:pt x="1149" y="2437"/>
                </a:lnTo>
                <a:lnTo>
                  <a:pt x="1084" y="2452"/>
                </a:lnTo>
                <a:lnTo>
                  <a:pt x="1034" y="2233"/>
                </a:lnTo>
                <a:lnTo>
                  <a:pt x="1028" y="2188"/>
                </a:lnTo>
                <a:lnTo>
                  <a:pt x="1095" y="2180"/>
                </a:lnTo>
                <a:close/>
                <a:moveTo>
                  <a:pt x="1171" y="2456"/>
                </a:moveTo>
                <a:lnTo>
                  <a:pt x="1210" y="2343"/>
                </a:lnTo>
                <a:cubicBezTo>
                  <a:pt x="1211" y="2342"/>
                  <a:pt x="1212" y="2340"/>
                  <a:pt x="1213" y="2338"/>
                </a:cubicBezTo>
                <a:lnTo>
                  <a:pt x="1254" y="2263"/>
                </a:lnTo>
                <a:cubicBezTo>
                  <a:pt x="1260" y="2252"/>
                  <a:pt x="1272" y="2246"/>
                  <a:pt x="1284" y="2246"/>
                </a:cubicBezTo>
                <a:cubicBezTo>
                  <a:pt x="1297" y="2246"/>
                  <a:pt x="1308" y="2254"/>
                  <a:pt x="1313" y="2265"/>
                </a:cubicBezTo>
                <a:lnTo>
                  <a:pt x="1338" y="2315"/>
                </a:lnTo>
                <a:lnTo>
                  <a:pt x="1341" y="2321"/>
                </a:lnTo>
                <a:lnTo>
                  <a:pt x="1280" y="2348"/>
                </a:lnTo>
                <a:lnTo>
                  <a:pt x="1279" y="2344"/>
                </a:lnTo>
                <a:lnTo>
                  <a:pt x="1254" y="2294"/>
                </a:lnTo>
                <a:lnTo>
                  <a:pt x="1313" y="2296"/>
                </a:lnTo>
                <a:lnTo>
                  <a:pt x="1271" y="2371"/>
                </a:lnTo>
                <a:lnTo>
                  <a:pt x="1273" y="2366"/>
                </a:lnTo>
                <a:lnTo>
                  <a:pt x="1233" y="2478"/>
                </a:lnTo>
                <a:lnTo>
                  <a:pt x="1171" y="2456"/>
                </a:lnTo>
                <a:close/>
                <a:moveTo>
                  <a:pt x="1378" y="2480"/>
                </a:moveTo>
                <a:lnTo>
                  <a:pt x="1401" y="2396"/>
                </a:lnTo>
                <a:lnTo>
                  <a:pt x="1435" y="2222"/>
                </a:lnTo>
                <a:lnTo>
                  <a:pt x="1500" y="2235"/>
                </a:lnTo>
                <a:lnTo>
                  <a:pt x="1466" y="2413"/>
                </a:lnTo>
                <a:lnTo>
                  <a:pt x="1443" y="2497"/>
                </a:lnTo>
                <a:lnTo>
                  <a:pt x="1378" y="2480"/>
                </a:lnTo>
                <a:close/>
                <a:moveTo>
                  <a:pt x="1472" y="2026"/>
                </a:moveTo>
                <a:lnTo>
                  <a:pt x="1492" y="1915"/>
                </a:lnTo>
                <a:lnTo>
                  <a:pt x="1518" y="1813"/>
                </a:lnTo>
                <a:cubicBezTo>
                  <a:pt x="1521" y="1800"/>
                  <a:pt x="1533" y="1790"/>
                  <a:pt x="1546" y="1788"/>
                </a:cubicBezTo>
                <a:cubicBezTo>
                  <a:pt x="1560" y="1786"/>
                  <a:pt x="1574" y="1794"/>
                  <a:pt x="1580" y="1806"/>
                </a:cubicBezTo>
                <a:lnTo>
                  <a:pt x="1603" y="1852"/>
                </a:lnTo>
                <a:lnTo>
                  <a:pt x="1543" y="1882"/>
                </a:lnTo>
                <a:lnTo>
                  <a:pt x="1520" y="1836"/>
                </a:lnTo>
                <a:lnTo>
                  <a:pt x="1582" y="1829"/>
                </a:lnTo>
                <a:lnTo>
                  <a:pt x="1558" y="1927"/>
                </a:lnTo>
                <a:lnTo>
                  <a:pt x="1537" y="2038"/>
                </a:lnTo>
                <a:lnTo>
                  <a:pt x="1472" y="2026"/>
                </a:lnTo>
                <a:close/>
                <a:moveTo>
                  <a:pt x="1661" y="2051"/>
                </a:moveTo>
                <a:lnTo>
                  <a:pt x="1683" y="2156"/>
                </a:lnTo>
                <a:lnTo>
                  <a:pt x="1700" y="2318"/>
                </a:lnTo>
                <a:lnTo>
                  <a:pt x="1633" y="2325"/>
                </a:lnTo>
                <a:lnTo>
                  <a:pt x="1617" y="2170"/>
                </a:lnTo>
                <a:lnTo>
                  <a:pt x="1596" y="2064"/>
                </a:lnTo>
                <a:lnTo>
                  <a:pt x="1661" y="2051"/>
                </a:lnTo>
                <a:close/>
                <a:moveTo>
                  <a:pt x="1746" y="2503"/>
                </a:moveTo>
                <a:lnTo>
                  <a:pt x="1748" y="2510"/>
                </a:lnTo>
                <a:lnTo>
                  <a:pt x="1702" y="2491"/>
                </a:lnTo>
                <a:lnTo>
                  <a:pt x="1752" y="2466"/>
                </a:lnTo>
                <a:lnTo>
                  <a:pt x="1734" y="2489"/>
                </a:lnTo>
                <a:lnTo>
                  <a:pt x="1759" y="2372"/>
                </a:lnTo>
                <a:cubicBezTo>
                  <a:pt x="1760" y="2371"/>
                  <a:pt x="1760" y="2369"/>
                  <a:pt x="1761" y="2367"/>
                </a:cubicBezTo>
                <a:lnTo>
                  <a:pt x="1792" y="2289"/>
                </a:lnTo>
                <a:lnTo>
                  <a:pt x="1854" y="2314"/>
                </a:lnTo>
                <a:lnTo>
                  <a:pt x="1823" y="2392"/>
                </a:lnTo>
                <a:lnTo>
                  <a:pt x="1824" y="2386"/>
                </a:lnTo>
                <a:lnTo>
                  <a:pt x="1799" y="2503"/>
                </a:lnTo>
                <a:cubicBezTo>
                  <a:pt x="1797" y="2513"/>
                  <a:pt x="1791" y="2521"/>
                  <a:pt x="1782" y="2526"/>
                </a:cubicBezTo>
                <a:lnTo>
                  <a:pt x="1732" y="2551"/>
                </a:lnTo>
                <a:cubicBezTo>
                  <a:pt x="1723" y="2555"/>
                  <a:pt x="1713" y="2556"/>
                  <a:pt x="1704" y="2552"/>
                </a:cubicBezTo>
                <a:cubicBezTo>
                  <a:pt x="1696" y="2549"/>
                  <a:pt x="1689" y="2541"/>
                  <a:pt x="1685" y="2532"/>
                </a:cubicBezTo>
                <a:lnTo>
                  <a:pt x="1683" y="2525"/>
                </a:lnTo>
                <a:lnTo>
                  <a:pt x="1746" y="2503"/>
                </a:lnTo>
                <a:close/>
                <a:moveTo>
                  <a:pt x="1977" y="2250"/>
                </a:moveTo>
                <a:lnTo>
                  <a:pt x="1984" y="2258"/>
                </a:lnTo>
                <a:lnTo>
                  <a:pt x="2032" y="2306"/>
                </a:lnTo>
                <a:cubicBezTo>
                  <a:pt x="2035" y="2308"/>
                  <a:pt x="2037" y="2311"/>
                  <a:pt x="2038" y="2315"/>
                </a:cubicBezTo>
                <a:lnTo>
                  <a:pt x="2063" y="2365"/>
                </a:lnTo>
                <a:lnTo>
                  <a:pt x="2033" y="2346"/>
                </a:lnTo>
                <a:lnTo>
                  <a:pt x="2083" y="2346"/>
                </a:lnTo>
                <a:lnTo>
                  <a:pt x="2133" y="2346"/>
                </a:lnTo>
                <a:lnTo>
                  <a:pt x="2104" y="2365"/>
                </a:lnTo>
                <a:lnTo>
                  <a:pt x="2117" y="2339"/>
                </a:lnTo>
                <a:lnTo>
                  <a:pt x="2176" y="2368"/>
                </a:lnTo>
                <a:lnTo>
                  <a:pt x="2163" y="2394"/>
                </a:lnTo>
                <a:cubicBezTo>
                  <a:pt x="2158" y="2406"/>
                  <a:pt x="2146" y="2413"/>
                  <a:pt x="2133" y="2413"/>
                </a:cubicBezTo>
                <a:lnTo>
                  <a:pt x="2083" y="2413"/>
                </a:lnTo>
                <a:lnTo>
                  <a:pt x="2033" y="2413"/>
                </a:lnTo>
                <a:cubicBezTo>
                  <a:pt x="2021" y="2413"/>
                  <a:pt x="2009" y="2406"/>
                  <a:pt x="2004" y="2394"/>
                </a:cubicBezTo>
                <a:lnTo>
                  <a:pt x="1979" y="2344"/>
                </a:lnTo>
                <a:lnTo>
                  <a:pt x="1985" y="2353"/>
                </a:lnTo>
                <a:lnTo>
                  <a:pt x="1933" y="2301"/>
                </a:lnTo>
                <a:lnTo>
                  <a:pt x="1926" y="2292"/>
                </a:lnTo>
                <a:lnTo>
                  <a:pt x="1977" y="2250"/>
                </a:lnTo>
                <a:close/>
                <a:moveTo>
                  <a:pt x="2213" y="2162"/>
                </a:moveTo>
                <a:lnTo>
                  <a:pt x="2221" y="2147"/>
                </a:lnTo>
                <a:lnTo>
                  <a:pt x="2218" y="2155"/>
                </a:lnTo>
                <a:lnTo>
                  <a:pt x="2243" y="2055"/>
                </a:lnTo>
                <a:cubicBezTo>
                  <a:pt x="2245" y="2045"/>
                  <a:pt x="2252" y="2037"/>
                  <a:pt x="2261" y="2033"/>
                </a:cubicBezTo>
                <a:cubicBezTo>
                  <a:pt x="2270" y="2028"/>
                  <a:pt x="2281" y="2028"/>
                  <a:pt x="2290" y="2033"/>
                </a:cubicBezTo>
                <a:lnTo>
                  <a:pt x="2340" y="2058"/>
                </a:lnTo>
                <a:cubicBezTo>
                  <a:pt x="2347" y="2062"/>
                  <a:pt x="2353" y="2068"/>
                  <a:pt x="2356" y="2075"/>
                </a:cubicBezTo>
                <a:lnTo>
                  <a:pt x="2390" y="2159"/>
                </a:lnTo>
                <a:lnTo>
                  <a:pt x="2328" y="2184"/>
                </a:lnTo>
                <a:lnTo>
                  <a:pt x="2294" y="2100"/>
                </a:lnTo>
                <a:lnTo>
                  <a:pt x="2310" y="2118"/>
                </a:lnTo>
                <a:lnTo>
                  <a:pt x="2260" y="2093"/>
                </a:lnTo>
                <a:lnTo>
                  <a:pt x="2307" y="2071"/>
                </a:lnTo>
                <a:lnTo>
                  <a:pt x="2282" y="2171"/>
                </a:lnTo>
                <a:cubicBezTo>
                  <a:pt x="2282" y="2174"/>
                  <a:pt x="2281" y="2176"/>
                  <a:pt x="2279" y="2179"/>
                </a:cubicBezTo>
                <a:lnTo>
                  <a:pt x="2271" y="2194"/>
                </a:lnTo>
                <a:lnTo>
                  <a:pt x="2213" y="2162"/>
                </a:lnTo>
                <a:close/>
                <a:moveTo>
                  <a:pt x="2428" y="2363"/>
                </a:moveTo>
                <a:lnTo>
                  <a:pt x="2433" y="2400"/>
                </a:lnTo>
                <a:lnTo>
                  <a:pt x="2474" y="2563"/>
                </a:lnTo>
                <a:lnTo>
                  <a:pt x="2492" y="2615"/>
                </a:lnTo>
                <a:lnTo>
                  <a:pt x="2428" y="2636"/>
                </a:lnTo>
                <a:lnTo>
                  <a:pt x="2409" y="2579"/>
                </a:lnTo>
                <a:lnTo>
                  <a:pt x="2367" y="2409"/>
                </a:lnTo>
                <a:lnTo>
                  <a:pt x="2362" y="2372"/>
                </a:lnTo>
                <a:lnTo>
                  <a:pt x="2428" y="2363"/>
                </a:lnTo>
                <a:close/>
                <a:moveTo>
                  <a:pt x="2501" y="2473"/>
                </a:moveTo>
                <a:lnTo>
                  <a:pt x="2535" y="2346"/>
                </a:lnTo>
                <a:lnTo>
                  <a:pt x="2549" y="2216"/>
                </a:lnTo>
                <a:lnTo>
                  <a:pt x="2615" y="2224"/>
                </a:lnTo>
                <a:lnTo>
                  <a:pt x="2599" y="2363"/>
                </a:lnTo>
                <a:lnTo>
                  <a:pt x="2566" y="2490"/>
                </a:lnTo>
                <a:lnTo>
                  <a:pt x="2501" y="2473"/>
                </a:lnTo>
                <a:close/>
                <a:moveTo>
                  <a:pt x="2684" y="2124"/>
                </a:moveTo>
                <a:lnTo>
                  <a:pt x="2714" y="2200"/>
                </a:lnTo>
                <a:cubicBezTo>
                  <a:pt x="2716" y="2203"/>
                  <a:pt x="2716" y="2206"/>
                  <a:pt x="2717" y="2209"/>
                </a:cubicBezTo>
                <a:lnTo>
                  <a:pt x="2738" y="2392"/>
                </a:lnTo>
                <a:lnTo>
                  <a:pt x="2671" y="2399"/>
                </a:lnTo>
                <a:lnTo>
                  <a:pt x="2650" y="2217"/>
                </a:lnTo>
                <a:lnTo>
                  <a:pt x="2653" y="2225"/>
                </a:lnTo>
                <a:lnTo>
                  <a:pt x="2622" y="2148"/>
                </a:lnTo>
                <a:lnTo>
                  <a:pt x="2684" y="2124"/>
                </a:lnTo>
                <a:close/>
                <a:moveTo>
                  <a:pt x="2788" y="2579"/>
                </a:moveTo>
                <a:lnTo>
                  <a:pt x="2790" y="2587"/>
                </a:lnTo>
                <a:lnTo>
                  <a:pt x="2773" y="2566"/>
                </a:lnTo>
                <a:lnTo>
                  <a:pt x="2823" y="2591"/>
                </a:lnTo>
                <a:lnTo>
                  <a:pt x="2775" y="2616"/>
                </a:lnTo>
                <a:lnTo>
                  <a:pt x="2800" y="2441"/>
                </a:lnTo>
                <a:lnTo>
                  <a:pt x="2806" y="2414"/>
                </a:lnTo>
                <a:lnTo>
                  <a:pt x="2872" y="2428"/>
                </a:lnTo>
                <a:lnTo>
                  <a:pt x="2866" y="2451"/>
                </a:lnTo>
                <a:lnTo>
                  <a:pt x="2841" y="2626"/>
                </a:lnTo>
                <a:cubicBezTo>
                  <a:pt x="2840" y="2636"/>
                  <a:pt x="2833" y="2646"/>
                  <a:pt x="2824" y="2651"/>
                </a:cubicBezTo>
                <a:cubicBezTo>
                  <a:pt x="2814" y="2656"/>
                  <a:pt x="2803" y="2656"/>
                  <a:pt x="2794" y="2651"/>
                </a:cubicBezTo>
                <a:lnTo>
                  <a:pt x="2744" y="2626"/>
                </a:lnTo>
                <a:cubicBezTo>
                  <a:pt x="2735" y="2622"/>
                  <a:pt x="2729" y="2615"/>
                  <a:pt x="2727" y="2606"/>
                </a:cubicBezTo>
                <a:lnTo>
                  <a:pt x="2724" y="2598"/>
                </a:lnTo>
                <a:lnTo>
                  <a:pt x="2788" y="2579"/>
                </a:lnTo>
                <a:close/>
                <a:moveTo>
                  <a:pt x="2854" y="2215"/>
                </a:moveTo>
                <a:lnTo>
                  <a:pt x="2894" y="2102"/>
                </a:lnTo>
                <a:cubicBezTo>
                  <a:pt x="2898" y="2088"/>
                  <a:pt x="2911" y="2079"/>
                  <a:pt x="2925" y="2079"/>
                </a:cubicBezTo>
                <a:lnTo>
                  <a:pt x="2950" y="2079"/>
                </a:lnTo>
                <a:cubicBezTo>
                  <a:pt x="2964" y="2079"/>
                  <a:pt x="2977" y="2088"/>
                  <a:pt x="2982" y="2102"/>
                </a:cubicBezTo>
                <a:lnTo>
                  <a:pt x="3022" y="2216"/>
                </a:lnTo>
                <a:lnTo>
                  <a:pt x="2959" y="2238"/>
                </a:lnTo>
                <a:lnTo>
                  <a:pt x="2919" y="2124"/>
                </a:lnTo>
                <a:lnTo>
                  <a:pt x="2950" y="2146"/>
                </a:lnTo>
                <a:lnTo>
                  <a:pt x="2925" y="2146"/>
                </a:lnTo>
                <a:lnTo>
                  <a:pt x="2957" y="2124"/>
                </a:lnTo>
                <a:lnTo>
                  <a:pt x="2916" y="2237"/>
                </a:lnTo>
                <a:lnTo>
                  <a:pt x="2854" y="2215"/>
                </a:lnTo>
                <a:close/>
                <a:moveTo>
                  <a:pt x="3096" y="2397"/>
                </a:moveTo>
                <a:lnTo>
                  <a:pt x="3105" y="2415"/>
                </a:lnTo>
                <a:lnTo>
                  <a:pt x="3050" y="2408"/>
                </a:lnTo>
                <a:lnTo>
                  <a:pt x="3091" y="2358"/>
                </a:lnTo>
                <a:lnTo>
                  <a:pt x="3139" y="2286"/>
                </a:lnTo>
                <a:lnTo>
                  <a:pt x="3135" y="2294"/>
                </a:lnTo>
                <a:lnTo>
                  <a:pt x="3160" y="2219"/>
                </a:lnTo>
                <a:cubicBezTo>
                  <a:pt x="3165" y="2205"/>
                  <a:pt x="3177" y="2196"/>
                  <a:pt x="3192" y="2196"/>
                </a:cubicBezTo>
                <a:lnTo>
                  <a:pt x="3205" y="2196"/>
                </a:lnTo>
                <a:lnTo>
                  <a:pt x="3205" y="2263"/>
                </a:lnTo>
                <a:lnTo>
                  <a:pt x="3192" y="2263"/>
                </a:lnTo>
                <a:lnTo>
                  <a:pt x="3223" y="2240"/>
                </a:lnTo>
                <a:lnTo>
                  <a:pt x="3198" y="2315"/>
                </a:lnTo>
                <a:cubicBezTo>
                  <a:pt x="3197" y="2318"/>
                  <a:pt x="3196" y="2320"/>
                  <a:pt x="3195" y="2323"/>
                </a:cubicBezTo>
                <a:lnTo>
                  <a:pt x="3142" y="2401"/>
                </a:lnTo>
                <a:lnTo>
                  <a:pt x="3101" y="2451"/>
                </a:lnTo>
                <a:cubicBezTo>
                  <a:pt x="3094" y="2459"/>
                  <a:pt x="3082" y="2464"/>
                  <a:pt x="3071" y="2463"/>
                </a:cubicBezTo>
                <a:cubicBezTo>
                  <a:pt x="3060" y="2461"/>
                  <a:pt x="3050" y="2454"/>
                  <a:pt x="3045" y="2444"/>
                </a:cubicBezTo>
                <a:lnTo>
                  <a:pt x="3037" y="2427"/>
                </a:lnTo>
                <a:lnTo>
                  <a:pt x="3096" y="2397"/>
                </a:lnTo>
                <a:close/>
                <a:moveTo>
                  <a:pt x="3366" y="2336"/>
                </a:moveTo>
                <a:lnTo>
                  <a:pt x="3384" y="2358"/>
                </a:lnTo>
                <a:lnTo>
                  <a:pt x="3358" y="2346"/>
                </a:lnTo>
                <a:lnTo>
                  <a:pt x="3408" y="2346"/>
                </a:lnTo>
                <a:lnTo>
                  <a:pt x="3385" y="2356"/>
                </a:lnTo>
                <a:lnTo>
                  <a:pt x="3410" y="2331"/>
                </a:lnTo>
                <a:lnTo>
                  <a:pt x="3460" y="2281"/>
                </a:lnTo>
                <a:lnTo>
                  <a:pt x="3456" y="2286"/>
                </a:lnTo>
                <a:lnTo>
                  <a:pt x="3501" y="2218"/>
                </a:lnTo>
                <a:lnTo>
                  <a:pt x="3557" y="2255"/>
                </a:lnTo>
                <a:lnTo>
                  <a:pt x="3511" y="2323"/>
                </a:lnTo>
                <a:cubicBezTo>
                  <a:pt x="3510" y="2325"/>
                  <a:pt x="3509" y="2326"/>
                  <a:pt x="3507" y="2328"/>
                </a:cubicBezTo>
                <a:lnTo>
                  <a:pt x="3457" y="2378"/>
                </a:lnTo>
                <a:lnTo>
                  <a:pt x="3432" y="2403"/>
                </a:lnTo>
                <a:cubicBezTo>
                  <a:pt x="3426" y="2409"/>
                  <a:pt x="3417" y="2413"/>
                  <a:pt x="3408" y="2413"/>
                </a:cubicBezTo>
                <a:lnTo>
                  <a:pt x="3358" y="2413"/>
                </a:lnTo>
                <a:cubicBezTo>
                  <a:pt x="3349" y="2413"/>
                  <a:pt x="3339" y="2408"/>
                  <a:pt x="3333" y="2401"/>
                </a:cubicBezTo>
                <a:lnTo>
                  <a:pt x="3314" y="2379"/>
                </a:lnTo>
                <a:lnTo>
                  <a:pt x="3366" y="2336"/>
                </a:lnTo>
                <a:close/>
                <a:moveTo>
                  <a:pt x="3685" y="2282"/>
                </a:moveTo>
                <a:lnTo>
                  <a:pt x="3707" y="2371"/>
                </a:lnTo>
                <a:lnTo>
                  <a:pt x="3690" y="2350"/>
                </a:lnTo>
                <a:lnTo>
                  <a:pt x="3740" y="2375"/>
                </a:lnTo>
                <a:lnTo>
                  <a:pt x="3702" y="2381"/>
                </a:lnTo>
                <a:lnTo>
                  <a:pt x="3752" y="2331"/>
                </a:lnTo>
                <a:lnTo>
                  <a:pt x="3742" y="2350"/>
                </a:lnTo>
                <a:lnTo>
                  <a:pt x="3748" y="2302"/>
                </a:lnTo>
                <a:lnTo>
                  <a:pt x="3815" y="2311"/>
                </a:lnTo>
                <a:lnTo>
                  <a:pt x="3808" y="2359"/>
                </a:lnTo>
                <a:cubicBezTo>
                  <a:pt x="3807" y="2366"/>
                  <a:pt x="3804" y="2373"/>
                  <a:pt x="3799" y="2378"/>
                </a:cubicBezTo>
                <a:lnTo>
                  <a:pt x="3749" y="2428"/>
                </a:lnTo>
                <a:cubicBezTo>
                  <a:pt x="3739" y="2438"/>
                  <a:pt x="3723" y="2441"/>
                  <a:pt x="3710" y="2434"/>
                </a:cubicBezTo>
                <a:lnTo>
                  <a:pt x="3660" y="2409"/>
                </a:lnTo>
                <a:cubicBezTo>
                  <a:pt x="3652" y="2405"/>
                  <a:pt x="3645" y="2397"/>
                  <a:pt x="3643" y="2388"/>
                </a:cubicBezTo>
                <a:lnTo>
                  <a:pt x="3620" y="2298"/>
                </a:lnTo>
                <a:lnTo>
                  <a:pt x="3685" y="2282"/>
                </a:lnTo>
                <a:close/>
                <a:moveTo>
                  <a:pt x="3809" y="2104"/>
                </a:moveTo>
                <a:lnTo>
                  <a:pt x="3811" y="2100"/>
                </a:lnTo>
                <a:cubicBezTo>
                  <a:pt x="3814" y="2092"/>
                  <a:pt x="3820" y="2087"/>
                  <a:pt x="3827" y="2083"/>
                </a:cubicBezTo>
                <a:lnTo>
                  <a:pt x="3877" y="2058"/>
                </a:lnTo>
                <a:cubicBezTo>
                  <a:pt x="3886" y="2054"/>
                  <a:pt x="3896" y="2053"/>
                  <a:pt x="3905" y="2057"/>
                </a:cubicBezTo>
                <a:cubicBezTo>
                  <a:pt x="3913" y="2061"/>
                  <a:pt x="3920" y="2068"/>
                  <a:pt x="3923" y="2077"/>
                </a:cubicBezTo>
                <a:lnTo>
                  <a:pt x="3948" y="2152"/>
                </a:lnTo>
                <a:lnTo>
                  <a:pt x="3990" y="2271"/>
                </a:lnTo>
                <a:lnTo>
                  <a:pt x="3928" y="2293"/>
                </a:lnTo>
                <a:lnTo>
                  <a:pt x="3885" y="2173"/>
                </a:lnTo>
                <a:lnTo>
                  <a:pt x="3860" y="2098"/>
                </a:lnTo>
                <a:lnTo>
                  <a:pt x="3907" y="2118"/>
                </a:lnTo>
                <a:lnTo>
                  <a:pt x="3857" y="2143"/>
                </a:lnTo>
                <a:lnTo>
                  <a:pt x="3872" y="2126"/>
                </a:lnTo>
                <a:lnTo>
                  <a:pt x="3870" y="2130"/>
                </a:lnTo>
                <a:lnTo>
                  <a:pt x="3809" y="2104"/>
                </a:lnTo>
                <a:close/>
                <a:moveTo>
                  <a:pt x="4035" y="2302"/>
                </a:moveTo>
                <a:lnTo>
                  <a:pt x="4054" y="2265"/>
                </a:lnTo>
                <a:lnTo>
                  <a:pt x="4104" y="2172"/>
                </a:lnTo>
                <a:lnTo>
                  <a:pt x="4129" y="2123"/>
                </a:lnTo>
                <a:cubicBezTo>
                  <a:pt x="4137" y="2106"/>
                  <a:pt x="4157" y="2100"/>
                  <a:pt x="4173" y="2108"/>
                </a:cubicBezTo>
                <a:lnTo>
                  <a:pt x="4223" y="2133"/>
                </a:lnTo>
                <a:cubicBezTo>
                  <a:pt x="4230" y="2136"/>
                  <a:pt x="4235" y="2141"/>
                  <a:pt x="4238" y="2148"/>
                </a:cubicBezTo>
                <a:lnTo>
                  <a:pt x="4242" y="2155"/>
                </a:lnTo>
                <a:lnTo>
                  <a:pt x="4182" y="2185"/>
                </a:lnTo>
                <a:lnTo>
                  <a:pt x="4179" y="2178"/>
                </a:lnTo>
                <a:lnTo>
                  <a:pt x="4194" y="2193"/>
                </a:lnTo>
                <a:lnTo>
                  <a:pt x="4144" y="2168"/>
                </a:lnTo>
                <a:lnTo>
                  <a:pt x="4188" y="2153"/>
                </a:lnTo>
                <a:lnTo>
                  <a:pt x="4163" y="2204"/>
                </a:lnTo>
                <a:lnTo>
                  <a:pt x="4113" y="2294"/>
                </a:lnTo>
                <a:lnTo>
                  <a:pt x="4094" y="2332"/>
                </a:lnTo>
                <a:lnTo>
                  <a:pt x="4035" y="2302"/>
                </a:lnTo>
                <a:close/>
              </a:path>
            </a:pathLst>
          </a:custGeom>
          <a:solidFill>
            <a:srgbClr val="3333ff"/>
          </a:solidFill>
          <a:ln w="19080">
            <a:solidFill>
              <a:srgbClr val="3333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rot="16200000">
            <a:off x="2527920" y="386136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2929" name=""/>
          <p:cNvSpPr/>
          <p:nvPr/>
        </p:nvSpPr>
        <p:spPr>
          <a:xfrm>
            <a:off x="4394880" y="570852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2930" name=""/>
          <p:cNvSpPr/>
          <p:nvPr/>
        </p:nvSpPr>
        <p:spPr>
          <a:xfrm>
            <a:off x="4751280" y="569268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931" name=""/>
          <p:cNvSpPr/>
          <p:nvPr/>
        </p:nvSpPr>
        <p:spPr>
          <a:xfrm>
            <a:off x="4830480" y="570852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2932" name=""/>
          <p:cNvSpPr/>
          <p:nvPr/>
        </p:nvSpPr>
        <p:spPr>
          <a:xfrm>
            <a:off x="3181680" y="289080"/>
            <a:ext cx="342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I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609480" y="2819520"/>
            <a:ext cx="786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here and the cylinder are the only two geometr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we can obtain exact separation of variables solutions for elastic wave scattering problems. These are commonly used as "exact" solutions to test more approximate theories and numerical methods. </a:t>
            </a:r>
            <a:endParaRPr b="0" lang="en-US" sz="2400" spc="-1" strike="noStrike">
              <a:solidFill>
                <a:srgbClr val="000000"/>
              </a:solidFill>
              <a:latin typeface="Times New Roman"/>
            </a:endParaRPr>
          </a:p>
        </p:txBody>
      </p:sp>
      <p:sp>
        <p:nvSpPr>
          <p:cNvPr id="2935" name=""/>
          <p:cNvSpPr/>
          <p:nvPr/>
        </p:nvSpPr>
        <p:spPr>
          <a:xfrm>
            <a:off x="2113920" y="1490760"/>
            <a:ext cx="49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of Separation of Variables</a:t>
            </a:r>
            <a:endParaRPr b="0" lang="en-US" sz="2400" spc="-1" strike="noStrike">
              <a:solidFill>
                <a:srgbClr val="000000"/>
              </a:solidFill>
              <a:latin typeface="Times New Roman"/>
            </a:endParaRPr>
          </a:p>
        </p:txBody>
      </p:sp>
      <p:sp>
        <p:nvSpPr>
          <p:cNvPr id="2936"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293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040760" y="1185840"/>
            <a:ext cx="75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 pulse-echo P-wave scattering of a spherical void</a:t>
            </a:r>
            <a:endParaRPr b="0" lang="en-US" sz="2400" spc="-1" strike="noStrike">
              <a:solidFill>
                <a:srgbClr val="000000"/>
              </a:solidFill>
              <a:latin typeface="Times New Roman"/>
            </a:endParaRPr>
          </a:p>
        </p:txBody>
      </p:sp>
      <p:sp>
        <p:nvSpPr>
          <p:cNvPr id="294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41" name=""/>
          <p:cNvGraphicFramePr/>
          <p:nvPr/>
        </p:nvGraphicFramePr>
        <p:xfrm>
          <a:off x="2666880" y="1865160"/>
          <a:ext cx="3124440" cy="803520"/>
        </p:xfrm>
        <a:graphic>
          <a:graphicData uri="http://schemas.openxmlformats.org/presentationml/2006/ole">
            <p:oleObj r:id="rId1" spid="">
              <p:embed/>
              <p:pic>
                <p:nvPicPr>
                  <p:cNvPr id="2942" name="" descr=""/>
                  <p:cNvPicPr/>
                  <p:nvPr/>
                </p:nvPicPr>
                <p:blipFill>
                  <a:blip r:embed="rId2"/>
                  <a:stretch/>
                </p:blipFill>
                <p:spPr>
                  <a:xfrm>
                    <a:off x="2666880" y="1865160"/>
                    <a:ext cx="3124440" cy="803520"/>
                  </a:xfrm>
                  <a:prstGeom prst="rect">
                    <a:avLst/>
                  </a:prstGeom>
                  <a:ln w="0">
                    <a:noFill/>
                  </a:ln>
                </p:spPr>
              </p:pic>
            </p:oleObj>
          </a:graphicData>
        </a:graphic>
      </p:graphicFrame>
      <p:sp>
        <p:nvSpPr>
          <p:cNvPr id="294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44" name=""/>
          <p:cNvGraphicFramePr/>
          <p:nvPr/>
        </p:nvGraphicFramePr>
        <p:xfrm>
          <a:off x="3200400" y="2895480"/>
          <a:ext cx="2133720" cy="711360"/>
        </p:xfrm>
        <a:graphic>
          <a:graphicData uri="http://schemas.openxmlformats.org/presentationml/2006/ole">
            <p:oleObj r:id="rId3" spid="">
              <p:embed/>
              <p:pic>
                <p:nvPicPr>
                  <p:cNvPr id="2945" name="" descr=""/>
                  <p:cNvPicPr/>
                  <p:nvPr/>
                </p:nvPicPr>
                <p:blipFill>
                  <a:blip r:embed="rId4"/>
                  <a:stretch/>
                </p:blipFill>
                <p:spPr>
                  <a:xfrm>
                    <a:off x="3200400" y="2895480"/>
                    <a:ext cx="2133720" cy="711360"/>
                  </a:xfrm>
                  <a:prstGeom prst="rect">
                    <a:avLst/>
                  </a:prstGeom>
                  <a:ln w="0">
                    <a:noFill/>
                  </a:ln>
                </p:spPr>
              </p:pic>
            </p:oleObj>
          </a:graphicData>
        </a:graphic>
      </p:graphicFrame>
      <p:sp>
        <p:nvSpPr>
          <p:cNvPr id="2946"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47" name=""/>
          <p:cNvGraphicFramePr/>
          <p:nvPr/>
        </p:nvGraphicFramePr>
        <p:xfrm>
          <a:off x="2133720" y="3886200"/>
          <a:ext cx="5324400" cy="2840040"/>
        </p:xfrm>
        <a:graphic>
          <a:graphicData uri="http://schemas.openxmlformats.org/presentationml/2006/ole">
            <p:oleObj r:id="rId5" spid="">
              <p:embed/>
              <p:pic>
                <p:nvPicPr>
                  <p:cNvPr id="2948" name="" descr=""/>
                  <p:cNvPicPr/>
                  <p:nvPr/>
                </p:nvPicPr>
                <p:blipFill>
                  <a:blip r:embed="rId6"/>
                  <a:stretch/>
                </p:blipFill>
                <p:spPr>
                  <a:xfrm>
                    <a:off x="2133720" y="3886200"/>
                    <a:ext cx="532440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9"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295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314440" y="2652840"/>
            <a:ext cx="3902040" cy="29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314440" y="2652840"/>
            <a:ext cx="3902040" cy="291600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314440" y="2652840"/>
            <a:ext cx="3902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a:off x="2314440" y="2652840"/>
            <a:ext cx="3902040" cy="2916000"/>
          </a:xfrm>
          <a:custGeom>
            <a:avLst/>
            <a:gdLst/>
            <a:ahLst/>
            <a:rect l="l" t="t" r="r" b="b"/>
            <a:pathLst>
              <a:path w="2458" h="1837">
                <a:moveTo>
                  <a:pt x="0" y="1837"/>
                </a:moveTo>
                <a:lnTo>
                  <a:pt x="2458" y="1837"/>
                </a:lnTo>
                <a:lnTo>
                  <a:pt x="2458"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V="1">
            <a:off x="2314440" y="2652840"/>
            <a:ext cx="1800" cy="291600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2314440" y="5568840"/>
            <a:ext cx="3902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7" name=""/>
          <p:cNvSpPr/>
          <p:nvPr/>
        </p:nvSpPr>
        <p:spPr>
          <a:xfrm flipV="1">
            <a:off x="231444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8" name=""/>
          <p:cNvSpPr/>
          <p:nvPr/>
        </p:nvSpPr>
        <p:spPr>
          <a:xfrm>
            <a:off x="231444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9" name=""/>
          <p:cNvSpPr/>
          <p:nvPr/>
        </p:nvSpPr>
        <p:spPr>
          <a:xfrm>
            <a:off x="2288520" y="5608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960" name=""/>
          <p:cNvSpPr/>
          <p:nvPr/>
        </p:nvSpPr>
        <p:spPr>
          <a:xfrm flipV="1">
            <a:off x="296244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1" name=""/>
          <p:cNvSpPr/>
          <p:nvPr/>
        </p:nvSpPr>
        <p:spPr>
          <a:xfrm>
            <a:off x="296244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2" name=""/>
          <p:cNvSpPr/>
          <p:nvPr/>
        </p:nvSpPr>
        <p:spPr>
          <a:xfrm>
            <a:off x="2934360" y="5608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63" name=""/>
          <p:cNvSpPr/>
          <p:nvPr/>
        </p:nvSpPr>
        <p:spPr>
          <a:xfrm flipV="1">
            <a:off x="361008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4" name=""/>
          <p:cNvSpPr/>
          <p:nvPr/>
        </p:nvSpPr>
        <p:spPr>
          <a:xfrm>
            <a:off x="361008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5" name=""/>
          <p:cNvSpPr/>
          <p:nvPr/>
        </p:nvSpPr>
        <p:spPr>
          <a:xfrm>
            <a:off x="354816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966" name=""/>
          <p:cNvSpPr/>
          <p:nvPr/>
        </p:nvSpPr>
        <p:spPr>
          <a:xfrm flipV="1">
            <a:off x="426564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7" name=""/>
          <p:cNvSpPr/>
          <p:nvPr/>
        </p:nvSpPr>
        <p:spPr>
          <a:xfrm>
            <a:off x="426564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8" name=""/>
          <p:cNvSpPr/>
          <p:nvPr/>
        </p:nvSpPr>
        <p:spPr>
          <a:xfrm>
            <a:off x="420084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969" name=""/>
          <p:cNvSpPr/>
          <p:nvPr/>
        </p:nvSpPr>
        <p:spPr>
          <a:xfrm flipV="1">
            <a:off x="491328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491328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1" name=""/>
          <p:cNvSpPr/>
          <p:nvPr/>
        </p:nvSpPr>
        <p:spPr>
          <a:xfrm>
            <a:off x="484848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972" name=""/>
          <p:cNvSpPr/>
          <p:nvPr/>
        </p:nvSpPr>
        <p:spPr>
          <a:xfrm flipV="1">
            <a:off x="555948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3" name=""/>
          <p:cNvSpPr/>
          <p:nvPr/>
        </p:nvSpPr>
        <p:spPr>
          <a:xfrm>
            <a:off x="555948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4" name=""/>
          <p:cNvSpPr/>
          <p:nvPr/>
        </p:nvSpPr>
        <p:spPr>
          <a:xfrm>
            <a:off x="549756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2975" name=""/>
          <p:cNvSpPr/>
          <p:nvPr/>
        </p:nvSpPr>
        <p:spPr>
          <a:xfrm flipV="1">
            <a:off x="621648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6" name=""/>
          <p:cNvSpPr/>
          <p:nvPr/>
        </p:nvSpPr>
        <p:spPr>
          <a:xfrm>
            <a:off x="621648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7" name=""/>
          <p:cNvSpPr/>
          <p:nvPr/>
        </p:nvSpPr>
        <p:spPr>
          <a:xfrm>
            <a:off x="615168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2978" name=""/>
          <p:cNvSpPr/>
          <p:nvPr/>
        </p:nvSpPr>
        <p:spPr>
          <a:xfrm>
            <a:off x="2314440" y="556884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9" name=""/>
          <p:cNvSpPr/>
          <p:nvPr/>
        </p:nvSpPr>
        <p:spPr>
          <a:xfrm flipH="1">
            <a:off x="6168960" y="556884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161440" y="550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981" name=""/>
          <p:cNvSpPr/>
          <p:nvPr/>
        </p:nvSpPr>
        <p:spPr>
          <a:xfrm>
            <a:off x="2314440" y="515160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2" name=""/>
          <p:cNvSpPr/>
          <p:nvPr/>
        </p:nvSpPr>
        <p:spPr>
          <a:xfrm flipH="1">
            <a:off x="6168960" y="515160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3" name=""/>
          <p:cNvSpPr/>
          <p:nvPr/>
        </p:nvSpPr>
        <p:spPr>
          <a:xfrm>
            <a:off x="2062440" y="5089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984" name=""/>
          <p:cNvSpPr/>
          <p:nvPr/>
        </p:nvSpPr>
        <p:spPr>
          <a:xfrm>
            <a:off x="2314440" y="473544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flipH="1">
            <a:off x="6168960" y="473544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2062440" y="4672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2987" name=""/>
          <p:cNvSpPr/>
          <p:nvPr/>
        </p:nvSpPr>
        <p:spPr>
          <a:xfrm>
            <a:off x="2314440" y="431640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8" name=""/>
          <p:cNvSpPr/>
          <p:nvPr/>
        </p:nvSpPr>
        <p:spPr>
          <a:xfrm flipH="1">
            <a:off x="6168960" y="431640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2062440" y="4254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2990" name=""/>
          <p:cNvSpPr/>
          <p:nvPr/>
        </p:nvSpPr>
        <p:spPr>
          <a:xfrm>
            <a:off x="2314440" y="389880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flipH="1">
            <a:off x="6168960" y="389880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2" name=""/>
          <p:cNvSpPr/>
          <p:nvPr/>
        </p:nvSpPr>
        <p:spPr>
          <a:xfrm>
            <a:off x="2062440" y="3836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993" name=""/>
          <p:cNvSpPr/>
          <p:nvPr/>
        </p:nvSpPr>
        <p:spPr>
          <a:xfrm>
            <a:off x="2314440" y="347976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4" name=""/>
          <p:cNvSpPr/>
          <p:nvPr/>
        </p:nvSpPr>
        <p:spPr>
          <a:xfrm flipH="1">
            <a:off x="6168960" y="347976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216144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996" name=""/>
          <p:cNvSpPr/>
          <p:nvPr/>
        </p:nvSpPr>
        <p:spPr>
          <a:xfrm>
            <a:off x="2314440" y="306216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7" name=""/>
          <p:cNvSpPr/>
          <p:nvPr/>
        </p:nvSpPr>
        <p:spPr>
          <a:xfrm flipH="1">
            <a:off x="6168960" y="306216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8" name=""/>
          <p:cNvSpPr/>
          <p:nvPr/>
        </p:nvSpPr>
        <p:spPr>
          <a:xfrm>
            <a:off x="2062440" y="3000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999" name=""/>
          <p:cNvSpPr/>
          <p:nvPr/>
        </p:nvSpPr>
        <p:spPr>
          <a:xfrm>
            <a:off x="2314440" y="265284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0" name=""/>
          <p:cNvSpPr/>
          <p:nvPr/>
        </p:nvSpPr>
        <p:spPr>
          <a:xfrm flipH="1">
            <a:off x="6168960" y="265284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1" name=""/>
          <p:cNvSpPr/>
          <p:nvPr/>
        </p:nvSpPr>
        <p:spPr>
          <a:xfrm>
            <a:off x="2062440" y="2590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3002" name=""/>
          <p:cNvSpPr/>
          <p:nvPr/>
        </p:nvSpPr>
        <p:spPr>
          <a:xfrm>
            <a:off x="2300400" y="2933640"/>
            <a:ext cx="2489040" cy="2627280"/>
          </a:xfrm>
          <a:custGeom>
            <a:avLst/>
            <a:gdLst/>
            <a:ahLst/>
            <a:rect l="l" t="t" r="r" b="b"/>
            <a:pathLst>
              <a:path w="12088" h="12731">
                <a:moveTo>
                  <a:pt x="0" y="12727"/>
                </a:moveTo>
                <a:lnTo>
                  <a:pt x="4" y="12577"/>
                </a:lnTo>
                <a:lnTo>
                  <a:pt x="154" y="12581"/>
                </a:lnTo>
                <a:lnTo>
                  <a:pt x="150" y="12731"/>
                </a:lnTo>
                <a:lnTo>
                  <a:pt x="0" y="12727"/>
                </a:lnTo>
                <a:close/>
                <a:moveTo>
                  <a:pt x="8" y="12427"/>
                </a:moveTo>
                <a:lnTo>
                  <a:pt x="12" y="12277"/>
                </a:lnTo>
                <a:lnTo>
                  <a:pt x="162" y="12281"/>
                </a:lnTo>
                <a:lnTo>
                  <a:pt x="158" y="12431"/>
                </a:lnTo>
                <a:lnTo>
                  <a:pt x="8" y="12427"/>
                </a:lnTo>
                <a:close/>
                <a:moveTo>
                  <a:pt x="16" y="12127"/>
                </a:moveTo>
                <a:lnTo>
                  <a:pt x="20" y="11977"/>
                </a:lnTo>
                <a:lnTo>
                  <a:pt x="170" y="11981"/>
                </a:lnTo>
                <a:lnTo>
                  <a:pt x="166" y="12131"/>
                </a:lnTo>
                <a:lnTo>
                  <a:pt x="16" y="12127"/>
                </a:lnTo>
                <a:close/>
                <a:moveTo>
                  <a:pt x="24" y="11827"/>
                </a:moveTo>
                <a:lnTo>
                  <a:pt x="28" y="11678"/>
                </a:lnTo>
                <a:lnTo>
                  <a:pt x="178" y="11682"/>
                </a:lnTo>
                <a:lnTo>
                  <a:pt x="174" y="11831"/>
                </a:lnTo>
                <a:lnTo>
                  <a:pt x="24" y="11827"/>
                </a:lnTo>
                <a:close/>
                <a:moveTo>
                  <a:pt x="32" y="11528"/>
                </a:moveTo>
                <a:lnTo>
                  <a:pt x="36" y="11378"/>
                </a:lnTo>
                <a:lnTo>
                  <a:pt x="186" y="11382"/>
                </a:lnTo>
                <a:lnTo>
                  <a:pt x="182" y="11532"/>
                </a:lnTo>
                <a:lnTo>
                  <a:pt x="32" y="11528"/>
                </a:lnTo>
                <a:close/>
                <a:moveTo>
                  <a:pt x="40" y="11228"/>
                </a:moveTo>
                <a:lnTo>
                  <a:pt x="44" y="11078"/>
                </a:lnTo>
                <a:lnTo>
                  <a:pt x="194" y="11082"/>
                </a:lnTo>
                <a:lnTo>
                  <a:pt x="190" y="11232"/>
                </a:lnTo>
                <a:lnTo>
                  <a:pt x="40" y="11228"/>
                </a:lnTo>
                <a:close/>
                <a:moveTo>
                  <a:pt x="48" y="10928"/>
                </a:moveTo>
                <a:lnTo>
                  <a:pt x="52" y="10778"/>
                </a:lnTo>
                <a:lnTo>
                  <a:pt x="202" y="10782"/>
                </a:lnTo>
                <a:lnTo>
                  <a:pt x="198" y="10932"/>
                </a:lnTo>
                <a:lnTo>
                  <a:pt x="48" y="10928"/>
                </a:lnTo>
                <a:close/>
                <a:moveTo>
                  <a:pt x="56" y="10628"/>
                </a:moveTo>
                <a:lnTo>
                  <a:pt x="60" y="10478"/>
                </a:lnTo>
                <a:lnTo>
                  <a:pt x="210" y="10482"/>
                </a:lnTo>
                <a:lnTo>
                  <a:pt x="206" y="10632"/>
                </a:lnTo>
                <a:lnTo>
                  <a:pt x="56" y="10628"/>
                </a:lnTo>
                <a:close/>
                <a:moveTo>
                  <a:pt x="64" y="10328"/>
                </a:moveTo>
                <a:lnTo>
                  <a:pt x="68" y="10178"/>
                </a:lnTo>
                <a:lnTo>
                  <a:pt x="218" y="10182"/>
                </a:lnTo>
                <a:lnTo>
                  <a:pt x="214" y="10332"/>
                </a:lnTo>
                <a:lnTo>
                  <a:pt x="64" y="10328"/>
                </a:lnTo>
                <a:close/>
                <a:moveTo>
                  <a:pt x="72" y="10028"/>
                </a:moveTo>
                <a:lnTo>
                  <a:pt x="76" y="9878"/>
                </a:lnTo>
                <a:lnTo>
                  <a:pt x="226" y="9882"/>
                </a:lnTo>
                <a:lnTo>
                  <a:pt x="222" y="10032"/>
                </a:lnTo>
                <a:lnTo>
                  <a:pt x="72" y="10028"/>
                </a:lnTo>
                <a:close/>
                <a:moveTo>
                  <a:pt x="80" y="9728"/>
                </a:moveTo>
                <a:lnTo>
                  <a:pt x="84" y="9578"/>
                </a:lnTo>
                <a:lnTo>
                  <a:pt x="234" y="9582"/>
                </a:lnTo>
                <a:lnTo>
                  <a:pt x="230" y="9732"/>
                </a:lnTo>
                <a:lnTo>
                  <a:pt x="80" y="9728"/>
                </a:lnTo>
                <a:close/>
                <a:moveTo>
                  <a:pt x="88" y="9428"/>
                </a:moveTo>
                <a:lnTo>
                  <a:pt x="93" y="9278"/>
                </a:lnTo>
                <a:lnTo>
                  <a:pt x="243" y="9283"/>
                </a:lnTo>
                <a:lnTo>
                  <a:pt x="238" y="9433"/>
                </a:lnTo>
                <a:lnTo>
                  <a:pt x="88" y="9428"/>
                </a:lnTo>
                <a:close/>
                <a:moveTo>
                  <a:pt x="97" y="9128"/>
                </a:moveTo>
                <a:lnTo>
                  <a:pt x="102" y="8978"/>
                </a:lnTo>
                <a:lnTo>
                  <a:pt x="252" y="8983"/>
                </a:lnTo>
                <a:lnTo>
                  <a:pt x="247" y="9133"/>
                </a:lnTo>
                <a:lnTo>
                  <a:pt x="97" y="9128"/>
                </a:lnTo>
                <a:close/>
                <a:moveTo>
                  <a:pt x="107" y="8828"/>
                </a:moveTo>
                <a:lnTo>
                  <a:pt x="111" y="8678"/>
                </a:lnTo>
                <a:lnTo>
                  <a:pt x="261" y="8683"/>
                </a:lnTo>
                <a:lnTo>
                  <a:pt x="257" y="8833"/>
                </a:lnTo>
                <a:lnTo>
                  <a:pt x="107" y="8828"/>
                </a:lnTo>
                <a:close/>
                <a:moveTo>
                  <a:pt x="116" y="8528"/>
                </a:moveTo>
                <a:lnTo>
                  <a:pt x="120" y="8379"/>
                </a:lnTo>
                <a:lnTo>
                  <a:pt x="270" y="8383"/>
                </a:lnTo>
                <a:lnTo>
                  <a:pt x="266" y="8533"/>
                </a:lnTo>
                <a:lnTo>
                  <a:pt x="116" y="8528"/>
                </a:lnTo>
                <a:close/>
                <a:moveTo>
                  <a:pt x="125" y="8229"/>
                </a:moveTo>
                <a:lnTo>
                  <a:pt x="130" y="8079"/>
                </a:lnTo>
                <a:lnTo>
                  <a:pt x="280" y="8083"/>
                </a:lnTo>
                <a:lnTo>
                  <a:pt x="275" y="8233"/>
                </a:lnTo>
                <a:lnTo>
                  <a:pt x="125" y="8229"/>
                </a:lnTo>
                <a:close/>
                <a:moveTo>
                  <a:pt x="134" y="7929"/>
                </a:moveTo>
                <a:lnTo>
                  <a:pt x="139" y="7779"/>
                </a:lnTo>
                <a:lnTo>
                  <a:pt x="289" y="7783"/>
                </a:lnTo>
                <a:lnTo>
                  <a:pt x="284" y="7933"/>
                </a:lnTo>
                <a:lnTo>
                  <a:pt x="134" y="7929"/>
                </a:lnTo>
                <a:close/>
                <a:moveTo>
                  <a:pt x="144" y="7629"/>
                </a:moveTo>
                <a:lnTo>
                  <a:pt x="148" y="7479"/>
                </a:lnTo>
                <a:lnTo>
                  <a:pt x="298" y="7484"/>
                </a:lnTo>
                <a:lnTo>
                  <a:pt x="293" y="7633"/>
                </a:lnTo>
                <a:lnTo>
                  <a:pt x="144" y="7629"/>
                </a:lnTo>
                <a:close/>
                <a:moveTo>
                  <a:pt x="153" y="7329"/>
                </a:moveTo>
                <a:lnTo>
                  <a:pt x="157" y="7179"/>
                </a:lnTo>
                <a:lnTo>
                  <a:pt x="307" y="7184"/>
                </a:lnTo>
                <a:lnTo>
                  <a:pt x="303" y="7334"/>
                </a:lnTo>
                <a:lnTo>
                  <a:pt x="153" y="7329"/>
                </a:lnTo>
                <a:close/>
                <a:moveTo>
                  <a:pt x="162" y="7029"/>
                </a:moveTo>
                <a:lnTo>
                  <a:pt x="167" y="6879"/>
                </a:lnTo>
                <a:lnTo>
                  <a:pt x="317" y="6884"/>
                </a:lnTo>
                <a:lnTo>
                  <a:pt x="312" y="7034"/>
                </a:lnTo>
                <a:lnTo>
                  <a:pt x="162" y="7029"/>
                </a:lnTo>
                <a:close/>
                <a:moveTo>
                  <a:pt x="171" y="6729"/>
                </a:moveTo>
                <a:lnTo>
                  <a:pt x="176" y="6579"/>
                </a:lnTo>
                <a:lnTo>
                  <a:pt x="326" y="6584"/>
                </a:lnTo>
                <a:lnTo>
                  <a:pt x="321" y="6734"/>
                </a:lnTo>
                <a:lnTo>
                  <a:pt x="171" y="6729"/>
                </a:lnTo>
                <a:close/>
                <a:moveTo>
                  <a:pt x="181" y="6429"/>
                </a:moveTo>
                <a:lnTo>
                  <a:pt x="186" y="6279"/>
                </a:lnTo>
                <a:lnTo>
                  <a:pt x="335" y="6284"/>
                </a:lnTo>
                <a:lnTo>
                  <a:pt x="331" y="6434"/>
                </a:lnTo>
                <a:lnTo>
                  <a:pt x="181" y="6429"/>
                </a:lnTo>
                <a:close/>
                <a:moveTo>
                  <a:pt x="190" y="6129"/>
                </a:moveTo>
                <a:lnTo>
                  <a:pt x="195" y="5980"/>
                </a:lnTo>
                <a:lnTo>
                  <a:pt x="345" y="5984"/>
                </a:lnTo>
                <a:lnTo>
                  <a:pt x="340" y="6134"/>
                </a:lnTo>
                <a:lnTo>
                  <a:pt x="190" y="6129"/>
                </a:lnTo>
                <a:close/>
                <a:moveTo>
                  <a:pt x="200" y="5830"/>
                </a:moveTo>
                <a:lnTo>
                  <a:pt x="205" y="5680"/>
                </a:lnTo>
                <a:lnTo>
                  <a:pt x="355" y="5685"/>
                </a:lnTo>
                <a:lnTo>
                  <a:pt x="350" y="5834"/>
                </a:lnTo>
                <a:lnTo>
                  <a:pt x="200" y="5830"/>
                </a:lnTo>
                <a:close/>
                <a:moveTo>
                  <a:pt x="210" y="5530"/>
                </a:moveTo>
                <a:lnTo>
                  <a:pt x="215" y="5380"/>
                </a:lnTo>
                <a:lnTo>
                  <a:pt x="365" y="5385"/>
                </a:lnTo>
                <a:lnTo>
                  <a:pt x="360" y="5535"/>
                </a:lnTo>
                <a:lnTo>
                  <a:pt x="210" y="5530"/>
                </a:lnTo>
                <a:close/>
                <a:moveTo>
                  <a:pt x="220" y="5230"/>
                </a:moveTo>
                <a:lnTo>
                  <a:pt x="225" y="5080"/>
                </a:lnTo>
                <a:lnTo>
                  <a:pt x="374" y="5085"/>
                </a:lnTo>
                <a:lnTo>
                  <a:pt x="370" y="5235"/>
                </a:lnTo>
                <a:lnTo>
                  <a:pt x="220" y="5230"/>
                </a:lnTo>
                <a:close/>
                <a:moveTo>
                  <a:pt x="229" y="4930"/>
                </a:moveTo>
                <a:lnTo>
                  <a:pt x="234" y="4780"/>
                </a:lnTo>
                <a:lnTo>
                  <a:pt x="384" y="4785"/>
                </a:lnTo>
                <a:lnTo>
                  <a:pt x="379" y="4935"/>
                </a:lnTo>
                <a:lnTo>
                  <a:pt x="229" y="4930"/>
                </a:lnTo>
                <a:close/>
                <a:moveTo>
                  <a:pt x="239" y="4630"/>
                </a:moveTo>
                <a:lnTo>
                  <a:pt x="244" y="4480"/>
                </a:lnTo>
                <a:lnTo>
                  <a:pt x="394" y="4485"/>
                </a:lnTo>
                <a:lnTo>
                  <a:pt x="389" y="4635"/>
                </a:lnTo>
                <a:lnTo>
                  <a:pt x="239" y="4630"/>
                </a:lnTo>
                <a:close/>
                <a:moveTo>
                  <a:pt x="249" y="4330"/>
                </a:moveTo>
                <a:lnTo>
                  <a:pt x="254" y="4180"/>
                </a:lnTo>
                <a:lnTo>
                  <a:pt x="404" y="4185"/>
                </a:lnTo>
                <a:lnTo>
                  <a:pt x="399" y="4335"/>
                </a:lnTo>
                <a:lnTo>
                  <a:pt x="249" y="4330"/>
                </a:lnTo>
                <a:close/>
                <a:moveTo>
                  <a:pt x="259" y="4031"/>
                </a:moveTo>
                <a:lnTo>
                  <a:pt x="261" y="3962"/>
                </a:lnTo>
                <a:lnTo>
                  <a:pt x="265" y="3880"/>
                </a:lnTo>
                <a:lnTo>
                  <a:pt x="415" y="3887"/>
                </a:lnTo>
                <a:lnTo>
                  <a:pt x="411" y="3967"/>
                </a:lnTo>
                <a:lnTo>
                  <a:pt x="409" y="4035"/>
                </a:lnTo>
                <a:lnTo>
                  <a:pt x="259" y="4031"/>
                </a:lnTo>
                <a:close/>
                <a:moveTo>
                  <a:pt x="272" y="3730"/>
                </a:moveTo>
                <a:lnTo>
                  <a:pt x="278" y="3580"/>
                </a:lnTo>
                <a:lnTo>
                  <a:pt x="428" y="3587"/>
                </a:lnTo>
                <a:lnTo>
                  <a:pt x="421" y="3737"/>
                </a:lnTo>
                <a:lnTo>
                  <a:pt x="272" y="3730"/>
                </a:lnTo>
                <a:close/>
                <a:moveTo>
                  <a:pt x="285" y="3430"/>
                </a:moveTo>
                <a:lnTo>
                  <a:pt x="292" y="3280"/>
                </a:lnTo>
                <a:lnTo>
                  <a:pt x="442" y="3287"/>
                </a:lnTo>
                <a:lnTo>
                  <a:pt x="435" y="3437"/>
                </a:lnTo>
                <a:lnTo>
                  <a:pt x="285" y="3430"/>
                </a:lnTo>
                <a:close/>
                <a:moveTo>
                  <a:pt x="299" y="3130"/>
                </a:moveTo>
                <a:lnTo>
                  <a:pt x="306" y="2981"/>
                </a:lnTo>
                <a:lnTo>
                  <a:pt x="456" y="2988"/>
                </a:lnTo>
                <a:lnTo>
                  <a:pt x="449" y="3137"/>
                </a:lnTo>
                <a:lnTo>
                  <a:pt x="299" y="3130"/>
                </a:lnTo>
                <a:close/>
                <a:moveTo>
                  <a:pt x="313" y="2831"/>
                </a:moveTo>
                <a:lnTo>
                  <a:pt x="320" y="2681"/>
                </a:lnTo>
                <a:lnTo>
                  <a:pt x="470" y="2688"/>
                </a:lnTo>
                <a:lnTo>
                  <a:pt x="463" y="2838"/>
                </a:lnTo>
                <a:lnTo>
                  <a:pt x="313" y="2831"/>
                </a:lnTo>
                <a:close/>
                <a:moveTo>
                  <a:pt x="327" y="2531"/>
                </a:moveTo>
                <a:lnTo>
                  <a:pt x="334" y="2381"/>
                </a:lnTo>
                <a:lnTo>
                  <a:pt x="484" y="2388"/>
                </a:lnTo>
                <a:lnTo>
                  <a:pt x="477" y="2538"/>
                </a:lnTo>
                <a:lnTo>
                  <a:pt x="327" y="2531"/>
                </a:lnTo>
                <a:close/>
                <a:moveTo>
                  <a:pt x="341" y="2231"/>
                </a:moveTo>
                <a:lnTo>
                  <a:pt x="347" y="2082"/>
                </a:lnTo>
                <a:lnTo>
                  <a:pt x="497" y="2088"/>
                </a:lnTo>
                <a:lnTo>
                  <a:pt x="490" y="2238"/>
                </a:lnTo>
                <a:lnTo>
                  <a:pt x="341" y="2231"/>
                </a:lnTo>
                <a:close/>
                <a:moveTo>
                  <a:pt x="355" y="1930"/>
                </a:moveTo>
                <a:lnTo>
                  <a:pt x="365" y="1781"/>
                </a:lnTo>
                <a:lnTo>
                  <a:pt x="515" y="1790"/>
                </a:lnTo>
                <a:lnTo>
                  <a:pt x="505" y="1940"/>
                </a:lnTo>
                <a:lnTo>
                  <a:pt x="355" y="1930"/>
                </a:lnTo>
                <a:close/>
                <a:moveTo>
                  <a:pt x="375" y="1631"/>
                </a:moveTo>
                <a:lnTo>
                  <a:pt x="384" y="1481"/>
                </a:lnTo>
                <a:lnTo>
                  <a:pt x="534" y="1491"/>
                </a:lnTo>
                <a:lnTo>
                  <a:pt x="524" y="1641"/>
                </a:lnTo>
                <a:lnTo>
                  <a:pt x="375" y="1631"/>
                </a:lnTo>
                <a:close/>
                <a:moveTo>
                  <a:pt x="394" y="1332"/>
                </a:moveTo>
                <a:lnTo>
                  <a:pt x="403" y="1182"/>
                </a:lnTo>
                <a:lnTo>
                  <a:pt x="553" y="1192"/>
                </a:lnTo>
                <a:lnTo>
                  <a:pt x="543" y="1341"/>
                </a:lnTo>
                <a:lnTo>
                  <a:pt x="394" y="1332"/>
                </a:lnTo>
                <a:close/>
                <a:moveTo>
                  <a:pt x="413" y="1032"/>
                </a:moveTo>
                <a:lnTo>
                  <a:pt x="423" y="883"/>
                </a:lnTo>
                <a:lnTo>
                  <a:pt x="572" y="892"/>
                </a:lnTo>
                <a:lnTo>
                  <a:pt x="563" y="1042"/>
                </a:lnTo>
                <a:lnTo>
                  <a:pt x="413" y="1032"/>
                </a:lnTo>
                <a:close/>
                <a:moveTo>
                  <a:pt x="432" y="733"/>
                </a:moveTo>
                <a:lnTo>
                  <a:pt x="437" y="655"/>
                </a:lnTo>
                <a:cubicBezTo>
                  <a:pt x="437" y="651"/>
                  <a:pt x="438" y="647"/>
                  <a:pt x="439" y="643"/>
                </a:cubicBezTo>
                <a:lnTo>
                  <a:pt x="455" y="573"/>
                </a:lnTo>
                <a:lnTo>
                  <a:pt x="601" y="606"/>
                </a:lnTo>
                <a:lnTo>
                  <a:pt x="585" y="676"/>
                </a:lnTo>
                <a:lnTo>
                  <a:pt x="587" y="664"/>
                </a:lnTo>
                <a:lnTo>
                  <a:pt x="582" y="743"/>
                </a:lnTo>
                <a:lnTo>
                  <a:pt x="432" y="733"/>
                </a:lnTo>
                <a:close/>
                <a:moveTo>
                  <a:pt x="488" y="427"/>
                </a:moveTo>
                <a:lnTo>
                  <a:pt x="520" y="280"/>
                </a:lnTo>
                <a:lnTo>
                  <a:pt x="667" y="313"/>
                </a:lnTo>
                <a:lnTo>
                  <a:pt x="634" y="460"/>
                </a:lnTo>
                <a:lnTo>
                  <a:pt x="488" y="427"/>
                </a:lnTo>
                <a:close/>
                <a:moveTo>
                  <a:pt x="553" y="134"/>
                </a:moveTo>
                <a:lnTo>
                  <a:pt x="569" y="63"/>
                </a:lnTo>
                <a:cubicBezTo>
                  <a:pt x="575" y="36"/>
                  <a:pt x="595" y="15"/>
                  <a:pt x="621" y="7"/>
                </a:cubicBezTo>
                <a:cubicBezTo>
                  <a:pt x="647" y="0"/>
                  <a:pt x="676" y="6"/>
                  <a:pt x="695" y="25"/>
                </a:cubicBezTo>
                <a:lnTo>
                  <a:pt x="750" y="79"/>
                </a:lnTo>
                <a:lnTo>
                  <a:pt x="645" y="186"/>
                </a:lnTo>
                <a:lnTo>
                  <a:pt x="590" y="133"/>
                </a:lnTo>
                <a:lnTo>
                  <a:pt x="716" y="96"/>
                </a:lnTo>
                <a:lnTo>
                  <a:pt x="700" y="167"/>
                </a:lnTo>
                <a:lnTo>
                  <a:pt x="553" y="134"/>
                </a:lnTo>
                <a:close/>
                <a:moveTo>
                  <a:pt x="817" y="259"/>
                </a:moveTo>
                <a:lnTo>
                  <a:pt x="837" y="408"/>
                </a:lnTo>
                <a:lnTo>
                  <a:pt x="688" y="428"/>
                </a:lnTo>
                <a:lnTo>
                  <a:pt x="668" y="279"/>
                </a:lnTo>
                <a:lnTo>
                  <a:pt x="817" y="259"/>
                </a:lnTo>
                <a:close/>
                <a:moveTo>
                  <a:pt x="857" y="556"/>
                </a:moveTo>
                <a:lnTo>
                  <a:pt x="878" y="705"/>
                </a:lnTo>
                <a:lnTo>
                  <a:pt x="729" y="725"/>
                </a:lnTo>
                <a:lnTo>
                  <a:pt x="709" y="577"/>
                </a:lnTo>
                <a:lnTo>
                  <a:pt x="857" y="556"/>
                </a:lnTo>
                <a:close/>
                <a:moveTo>
                  <a:pt x="897" y="857"/>
                </a:moveTo>
                <a:lnTo>
                  <a:pt x="910" y="1007"/>
                </a:lnTo>
                <a:lnTo>
                  <a:pt x="760" y="1020"/>
                </a:lnTo>
                <a:lnTo>
                  <a:pt x="747" y="870"/>
                </a:lnTo>
                <a:lnTo>
                  <a:pt x="897" y="857"/>
                </a:lnTo>
                <a:close/>
                <a:moveTo>
                  <a:pt x="922" y="1156"/>
                </a:moveTo>
                <a:lnTo>
                  <a:pt x="935" y="1306"/>
                </a:lnTo>
                <a:lnTo>
                  <a:pt x="786" y="1319"/>
                </a:lnTo>
                <a:lnTo>
                  <a:pt x="773" y="1169"/>
                </a:lnTo>
                <a:lnTo>
                  <a:pt x="922" y="1156"/>
                </a:lnTo>
                <a:close/>
                <a:moveTo>
                  <a:pt x="948" y="1455"/>
                </a:moveTo>
                <a:lnTo>
                  <a:pt x="961" y="1605"/>
                </a:lnTo>
                <a:lnTo>
                  <a:pt x="812" y="1617"/>
                </a:lnTo>
                <a:lnTo>
                  <a:pt x="799" y="1468"/>
                </a:lnTo>
                <a:lnTo>
                  <a:pt x="948" y="1455"/>
                </a:lnTo>
                <a:close/>
                <a:moveTo>
                  <a:pt x="974" y="1754"/>
                </a:moveTo>
                <a:lnTo>
                  <a:pt x="978" y="1808"/>
                </a:lnTo>
                <a:lnTo>
                  <a:pt x="986" y="1904"/>
                </a:lnTo>
                <a:lnTo>
                  <a:pt x="837" y="1916"/>
                </a:lnTo>
                <a:lnTo>
                  <a:pt x="829" y="1821"/>
                </a:lnTo>
                <a:lnTo>
                  <a:pt x="824" y="1767"/>
                </a:lnTo>
                <a:lnTo>
                  <a:pt x="974" y="1754"/>
                </a:lnTo>
                <a:close/>
                <a:moveTo>
                  <a:pt x="999" y="2053"/>
                </a:moveTo>
                <a:lnTo>
                  <a:pt x="1011" y="2203"/>
                </a:lnTo>
                <a:lnTo>
                  <a:pt x="861" y="2215"/>
                </a:lnTo>
                <a:lnTo>
                  <a:pt x="849" y="2066"/>
                </a:lnTo>
                <a:lnTo>
                  <a:pt x="999" y="2053"/>
                </a:lnTo>
                <a:close/>
                <a:moveTo>
                  <a:pt x="1023" y="2352"/>
                </a:moveTo>
                <a:lnTo>
                  <a:pt x="1035" y="2502"/>
                </a:lnTo>
                <a:lnTo>
                  <a:pt x="886" y="2514"/>
                </a:lnTo>
                <a:lnTo>
                  <a:pt x="874" y="2365"/>
                </a:lnTo>
                <a:lnTo>
                  <a:pt x="1023" y="2352"/>
                </a:lnTo>
                <a:close/>
                <a:moveTo>
                  <a:pt x="1048" y="2651"/>
                </a:moveTo>
                <a:lnTo>
                  <a:pt x="1060" y="2801"/>
                </a:lnTo>
                <a:lnTo>
                  <a:pt x="910" y="2813"/>
                </a:lnTo>
                <a:lnTo>
                  <a:pt x="898" y="2664"/>
                </a:lnTo>
                <a:lnTo>
                  <a:pt x="1048" y="2651"/>
                </a:lnTo>
                <a:close/>
                <a:moveTo>
                  <a:pt x="1076" y="2947"/>
                </a:moveTo>
                <a:lnTo>
                  <a:pt x="1093" y="3096"/>
                </a:lnTo>
                <a:lnTo>
                  <a:pt x="944" y="3114"/>
                </a:lnTo>
                <a:lnTo>
                  <a:pt x="927" y="2965"/>
                </a:lnTo>
                <a:lnTo>
                  <a:pt x="1076" y="2947"/>
                </a:lnTo>
                <a:close/>
                <a:moveTo>
                  <a:pt x="1110" y="3246"/>
                </a:moveTo>
                <a:lnTo>
                  <a:pt x="1127" y="3395"/>
                </a:lnTo>
                <a:lnTo>
                  <a:pt x="978" y="3412"/>
                </a:lnTo>
                <a:lnTo>
                  <a:pt x="961" y="3263"/>
                </a:lnTo>
                <a:lnTo>
                  <a:pt x="1110" y="3246"/>
                </a:lnTo>
                <a:close/>
                <a:moveTo>
                  <a:pt x="1144" y="3544"/>
                </a:moveTo>
                <a:lnTo>
                  <a:pt x="1154" y="3630"/>
                </a:lnTo>
                <a:lnTo>
                  <a:pt x="1146" y="3603"/>
                </a:lnTo>
                <a:lnTo>
                  <a:pt x="1176" y="3658"/>
                </a:lnTo>
                <a:lnTo>
                  <a:pt x="1044" y="3730"/>
                </a:lnTo>
                <a:lnTo>
                  <a:pt x="1014" y="3674"/>
                </a:lnTo>
                <a:cubicBezTo>
                  <a:pt x="1009" y="3666"/>
                  <a:pt x="1006" y="3657"/>
                  <a:pt x="1005" y="3647"/>
                </a:cubicBezTo>
                <a:lnTo>
                  <a:pt x="995" y="3561"/>
                </a:lnTo>
                <a:lnTo>
                  <a:pt x="1144" y="3544"/>
                </a:lnTo>
                <a:close/>
                <a:moveTo>
                  <a:pt x="1247" y="3791"/>
                </a:moveTo>
                <a:lnTo>
                  <a:pt x="1276" y="3846"/>
                </a:lnTo>
                <a:lnTo>
                  <a:pt x="1138" y="3862"/>
                </a:lnTo>
                <a:lnTo>
                  <a:pt x="1160" y="3778"/>
                </a:lnTo>
                <a:lnTo>
                  <a:pt x="1305" y="3815"/>
                </a:lnTo>
                <a:lnTo>
                  <a:pt x="1283" y="3900"/>
                </a:lnTo>
                <a:cubicBezTo>
                  <a:pt x="1275" y="3930"/>
                  <a:pt x="1250" y="3952"/>
                  <a:pt x="1219" y="3956"/>
                </a:cubicBezTo>
                <a:cubicBezTo>
                  <a:pt x="1189" y="3959"/>
                  <a:pt x="1159" y="3944"/>
                  <a:pt x="1144" y="3917"/>
                </a:cubicBezTo>
                <a:lnTo>
                  <a:pt x="1115" y="3862"/>
                </a:lnTo>
                <a:lnTo>
                  <a:pt x="1247" y="3791"/>
                </a:lnTo>
                <a:close/>
                <a:moveTo>
                  <a:pt x="1198" y="3632"/>
                </a:moveTo>
                <a:lnTo>
                  <a:pt x="1223" y="3537"/>
                </a:lnTo>
                <a:lnTo>
                  <a:pt x="1228" y="3495"/>
                </a:lnTo>
                <a:lnTo>
                  <a:pt x="1377" y="3515"/>
                </a:lnTo>
                <a:lnTo>
                  <a:pt x="1368" y="3575"/>
                </a:lnTo>
                <a:lnTo>
                  <a:pt x="1343" y="3670"/>
                </a:lnTo>
                <a:lnTo>
                  <a:pt x="1198" y="3632"/>
                </a:lnTo>
                <a:close/>
                <a:moveTo>
                  <a:pt x="1248" y="3346"/>
                </a:moveTo>
                <a:lnTo>
                  <a:pt x="1269" y="3198"/>
                </a:lnTo>
                <a:lnTo>
                  <a:pt x="1418" y="3218"/>
                </a:lnTo>
                <a:lnTo>
                  <a:pt x="1397" y="3367"/>
                </a:lnTo>
                <a:lnTo>
                  <a:pt x="1248" y="3346"/>
                </a:lnTo>
                <a:close/>
                <a:moveTo>
                  <a:pt x="1289" y="3049"/>
                </a:moveTo>
                <a:lnTo>
                  <a:pt x="1310" y="2900"/>
                </a:lnTo>
                <a:lnTo>
                  <a:pt x="1458" y="2921"/>
                </a:lnTo>
                <a:lnTo>
                  <a:pt x="1438" y="3069"/>
                </a:lnTo>
                <a:lnTo>
                  <a:pt x="1289" y="3049"/>
                </a:lnTo>
                <a:close/>
                <a:moveTo>
                  <a:pt x="1329" y="2752"/>
                </a:moveTo>
                <a:lnTo>
                  <a:pt x="1348" y="2604"/>
                </a:lnTo>
                <a:lnTo>
                  <a:pt x="1497" y="2623"/>
                </a:lnTo>
                <a:lnTo>
                  <a:pt x="1478" y="2771"/>
                </a:lnTo>
                <a:lnTo>
                  <a:pt x="1329" y="2752"/>
                </a:lnTo>
                <a:close/>
                <a:moveTo>
                  <a:pt x="1367" y="2455"/>
                </a:moveTo>
                <a:lnTo>
                  <a:pt x="1386" y="2306"/>
                </a:lnTo>
                <a:lnTo>
                  <a:pt x="1535" y="2325"/>
                </a:lnTo>
                <a:lnTo>
                  <a:pt x="1516" y="2474"/>
                </a:lnTo>
                <a:lnTo>
                  <a:pt x="1367" y="2455"/>
                </a:lnTo>
                <a:close/>
                <a:moveTo>
                  <a:pt x="1409" y="2153"/>
                </a:moveTo>
                <a:lnTo>
                  <a:pt x="1437" y="2006"/>
                </a:lnTo>
                <a:lnTo>
                  <a:pt x="1584" y="2034"/>
                </a:lnTo>
                <a:lnTo>
                  <a:pt x="1557" y="2181"/>
                </a:lnTo>
                <a:lnTo>
                  <a:pt x="1409" y="2153"/>
                </a:lnTo>
                <a:close/>
                <a:moveTo>
                  <a:pt x="1465" y="1859"/>
                </a:moveTo>
                <a:lnTo>
                  <a:pt x="1483" y="1762"/>
                </a:lnTo>
                <a:cubicBezTo>
                  <a:pt x="1486" y="1742"/>
                  <a:pt x="1499" y="1724"/>
                  <a:pt x="1516" y="1713"/>
                </a:cubicBezTo>
                <a:lnTo>
                  <a:pt x="1560" y="1685"/>
                </a:lnTo>
                <a:lnTo>
                  <a:pt x="1640" y="1811"/>
                </a:lnTo>
                <a:lnTo>
                  <a:pt x="1597" y="1839"/>
                </a:lnTo>
                <a:lnTo>
                  <a:pt x="1630" y="1790"/>
                </a:lnTo>
                <a:lnTo>
                  <a:pt x="1612" y="1886"/>
                </a:lnTo>
                <a:lnTo>
                  <a:pt x="1465" y="1859"/>
                </a:lnTo>
                <a:close/>
                <a:moveTo>
                  <a:pt x="1775" y="1706"/>
                </a:moveTo>
                <a:lnTo>
                  <a:pt x="1836" y="1842"/>
                </a:lnTo>
                <a:lnTo>
                  <a:pt x="1699" y="1904"/>
                </a:lnTo>
                <a:lnTo>
                  <a:pt x="1638" y="1767"/>
                </a:lnTo>
                <a:lnTo>
                  <a:pt x="1775" y="1706"/>
                </a:lnTo>
                <a:close/>
                <a:moveTo>
                  <a:pt x="1874" y="2005"/>
                </a:moveTo>
                <a:lnTo>
                  <a:pt x="1902" y="2153"/>
                </a:lnTo>
                <a:lnTo>
                  <a:pt x="1754" y="2180"/>
                </a:lnTo>
                <a:lnTo>
                  <a:pt x="1727" y="2032"/>
                </a:lnTo>
                <a:lnTo>
                  <a:pt x="1874" y="2005"/>
                </a:lnTo>
                <a:close/>
                <a:moveTo>
                  <a:pt x="1929" y="2300"/>
                </a:moveTo>
                <a:lnTo>
                  <a:pt x="1937" y="2343"/>
                </a:lnTo>
                <a:lnTo>
                  <a:pt x="1956" y="2448"/>
                </a:lnTo>
                <a:lnTo>
                  <a:pt x="1809" y="2475"/>
                </a:lnTo>
                <a:lnTo>
                  <a:pt x="1789" y="2370"/>
                </a:lnTo>
                <a:lnTo>
                  <a:pt x="1781" y="2327"/>
                </a:lnTo>
                <a:lnTo>
                  <a:pt x="1929" y="2300"/>
                </a:lnTo>
                <a:close/>
                <a:moveTo>
                  <a:pt x="1984" y="2595"/>
                </a:moveTo>
                <a:lnTo>
                  <a:pt x="2011" y="2742"/>
                </a:lnTo>
                <a:lnTo>
                  <a:pt x="1864" y="2770"/>
                </a:lnTo>
                <a:lnTo>
                  <a:pt x="1836" y="2622"/>
                </a:lnTo>
                <a:lnTo>
                  <a:pt x="1984" y="2595"/>
                </a:lnTo>
                <a:close/>
                <a:moveTo>
                  <a:pt x="2039" y="2888"/>
                </a:moveTo>
                <a:lnTo>
                  <a:pt x="2069" y="3035"/>
                </a:lnTo>
                <a:lnTo>
                  <a:pt x="1922" y="3065"/>
                </a:lnTo>
                <a:lnTo>
                  <a:pt x="1892" y="2919"/>
                </a:lnTo>
                <a:lnTo>
                  <a:pt x="2039" y="2888"/>
                </a:lnTo>
                <a:close/>
                <a:moveTo>
                  <a:pt x="2100" y="3182"/>
                </a:moveTo>
                <a:lnTo>
                  <a:pt x="2113" y="3247"/>
                </a:lnTo>
                <a:lnTo>
                  <a:pt x="2092" y="3209"/>
                </a:lnTo>
                <a:lnTo>
                  <a:pt x="2152" y="3267"/>
                </a:lnTo>
                <a:lnTo>
                  <a:pt x="2047" y="3374"/>
                </a:lnTo>
                <a:lnTo>
                  <a:pt x="1987" y="3316"/>
                </a:lnTo>
                <a:cubicBezTo>
                  <a:pt x="1976" y="3306"/>
                  <a:pt x="1969" y="3292"/>
                  <a:pt x="1966" y="3277"/>
                </a:cubicBezTo>
                <a:lnTo>
                  <a:pt x="1953" y="3212"/>
                </a:lnTo>
                <a:lnTo>
                  <a:pt x="2100" y="3182"/>
                </a:lnTo>
                <a:close/>
                <a:moveTo>
                  <a:pt x="2123" y="3208"/>
                </a:moveTo>
                <a:lnTo>
                  <a:pt x="2192" y="3101"/>
                </a:lnTo>
                <a:lnTo>
                  <a:pt x="2182" y="3123"/>
                </a:lnTo>
                <a:lnTo>
                  <a:pt x="2187" y="3101"/>
                </a:lnTo>
                <a:lnTo>
                  <a:pt x="2333" y="3137"/>
                </a:lnTo>
                <a:lnTo>
                  <a:pt x="2328" y="3159"/>
                </a:lnTo>
                <a:cubicBezTo>
                  <a:pt x="2326" y="3167"/>
                  <a:pt x="2322" y="3175"/>
                  <a:pt x="2318" y="3182"/>
                </a:cubicBezTo>
                <a:lnTo>
                  <a:pt x="2249" y="3289"/>
                </a:lnTo>
                <a:lnTo>
                  <a:pt x="2123" y="3208"/>
                </a:lnTo>
                <a:close/>
                <a:moveTo>
                  <a:pt x="2223" y="2956"/>
                </a:moveTo>
                <a:lnTo>
                  <a:pt x="2258" y="2810"/>
                </a:lnTo>
                <a:lnTo>
                  <a:pt x="2404" y="2845"/>
                </a:lnTo>
                <a:lnTo>
                  <a:pt x="2368" y="2991"/>
                </a:lnTo>
                <a:lnTo>
                  <a:pt x="2223" y="2956"/>
                </a:lnTo>
                <a:close/>
                <a:moveTo>
                  <a:pt x="2290" y="2666"/>
                </a:moveTo>
                <a:lnTo>
                  <a:pt x="2321" y="2519"/>
                </a:lnTo>
                <a:lnTo>
                  <a:pt x="2467" y="2550"/>
                </a:lnTo>
                <a:lnTo>
                  <a:pt x="2437" y="2696"/>
                </a:lnTo>
                <a:lnTo>
                  <a:pt x="2290" y="2666"/>
                </a:lnTo>
                <a:close/>
                <a:moveTo>
                  <a:pt x="2351" y="2372"/>
                </a:moveTo>
                <a:lnTo>
                  <a:pt x="2357" y="2341"/>
                </a:lnTo>
                <a:lnTo>
                  <a:pt x="2398" y="2220"/>
                </a:lnTo>
                <a:lnTo>
                  <a:pt x="2540" y="2269"/>
                </a:lnTo>
                <a:lnTo>
                  <a:pt x="2504" y="2372"/>
                </a:lnTo>
                <a:lnTo>
                  <a:pt x="2498" y="2403"/>
                </a:lnTo>
                <a:lnTo>
                  <a:pt x="2351" y="2372"/>
                </a:lnTo>
                <a:close/>
                <a:moveTo>
                  <a:pt x="2488" y="2038"/>
                </a:moveTo>
                <a:lnTo>
                  <a:pt x="2574" y="1996"/>
                </a:lnTo>
                <a:cubicBezTo>
                  <a:pt x="2606" y="1980"/>
                  <a:pt x="2644" y="1989"/>
                  <a:pt x="2666" y="2017"/>
                </a:cubicBezTo>
                <a:lnTo>
                  <a:pt x="2699" y="2059"/>
                </a:lnTo>
                <a:lnTo>
                  <a:pt x="2582" y="2152"/>
                </a:lnTo>
                <a:lnTo>
                  <a:pt x="2548" y="2109"/>
                </a:lnTo>
                <a:lnTo>
                  <a:pt x="2640" y="2130"/>
                </a:lnTo>
                <a:lnTo>
                  <a:pt x="2554" y="2173"/>
                </a:lnTo>
                <a:lnTo>
                  <a:pt x="2488" y="2038"/>
                </a:lnTo>
                <a:close/>
                <a:moveTo>
                  <a:pt x="2792" y="2177"/>
                </a:moveTo>
                <a:lnTo>
                  <a:pt x="2797" y="2183"/>
                </a:lnTo>
                <a:cubicBezTo>
                  <a:pt x="2803" y="2190"/>
                  <a:pt x="2807" y="2199"/>
                  <a:pt x="2810" y="2208"/>
                </a:cubicBezTo>
                <a:lnTo>
                  <a:pt x="2849" y="2345"/>
                </a:lnTo>
                <a:lnTo>
                  <a:pt x="2705" y="2387"/>
                </a:lnTo>
                <a:lnTo>
                  <a:pt x="2666" y="2250"/>
                </a:lnTo>
                <a:lnTo>
                  <a:pt x="2679" y="2275"/>
                </a:lnTo>
                <a:lnTo>
                  <a:pt x="2674" y="2270"/>
                </a:lnTo>
                <a:lnTo>
                  <a:pt x="2792" y="2177"/>
                </a:lnTo>
                <a:close/>
                <a:moveTo>
                  <a:pt x="2891" y="2489"/>
                </a:moveTo>
                <a:lnTo>
                  <a:pt x="2895" y="2502"/>
                </a:lnTo>
                <a:lnTo>
                  <a:pt x="2932" y="2634"/>
                </a:lnTo>
                <a:lnTo>
                  <a:pt x="2787" y="2675"/>
                </a:lnTo>
                <a:lnTo>
                  <a:pt x="2750" y="2543"/>
                </a:lnTo>
                <a:lnTo>
                  <a:pt x="2747" y="2531"/>
                </a:lnTo>
                <a:lnTo>
                  <a:pt x="2891" y="2489"/>
                </a:lnTo>
                <a:close/>
                <a:moveTo>
                  <a:pt x="2972" y="2779"/>
                </a:moveTo>
                <a:lnTo>
                  <a:pt x="2986" y="2827"/>
                </a:lnTo>
                <a:lnTo>
                  <a:pt x="3017" y="2918"/>
                </a:lnTo>
                <a:lnTo>
                  <a:pt x="2875" y="2966"/>
                </a:lnTo>
                <a:lnTo>
                  <a:pt x="2842" y="2868"/>
                </a:lnTo>
                <a:lnTo>
                  <a:pt x="2828" y="2819"/>
                </a:lnTo>
                <a:lnTo>
                  <a:pt x="2972" y="2779"/>
                </a:lnTo>
                <a:close/>
                <a:moveTo>
                  <a:pt x="3065" y="3060"/>
                </a:moveTo>
                <a:lnTo>
                  <a:pt x="3070" y="3072"/>
                </a:lnTo>
                <a:lnTo>
                  <a:pt x="3034" y="3030"/>
                </a:lnTo>
                <a:lnTo>
                  <a:pt x="3119" y="3075"/>
                </a:lnTo>
                <a:lnTo>
                  <a:pt x="3018" y="3105"/>
                </a:lnTo>
                <a:lnTo>
                  <a:pt x="3038" y="3069"/>
                </a:lnTo>
                <a:lnTo>
                  <a:pt x="3169" y="3142"/>
                </a:lnTo>
                <a:lnTo>
                  <a:pt x="3149" y="3177"/>
                </a:lnTo>
                <a:cubicBezTo>
                  <a:pt x="3130" y="3213"/>
                  <a:pt x="3085" y="3227"/>
                  <a:pt x="3049" y="3208"/>
                </a:cubicBezTo>
                <a:lnTo>
                  <a:pt x="2964" y="3163"/>
                </a:lnTo>
                <a:cubicBezTo>
                  <a:pt x="2947" y="3154"/>
                  <a:pt x="2934" y="3139"/>
                  <a:pt x="2928" y="3121"/>
                </a:cubicBezTo>
                <a:lnTo>
                  <a:pt x="2923" y="3108"/>
                </a:lnTo>
                <a:lnTo>
                  <a:pt x="3065" y="3060"/>
                </a:lnTo>
                <a:close/>
                <a:moveTo>
                  <a:pt x="3107" y="2943"/>
                </a:moveTo>
                <a:lnTo>
                  <a:pt x="3169" y="2807"/>
                </a:lnTo>
                <a:lnTo>
                  <a:pt x="3306" y="2869"/>
                </a:lnTo>
                <a:lnTo>
                  <a:pt x="3244" y="3005"/>
                </a:lnTo>
                <a:lnTo>
                  <a:pt x="3107" y="2943"/>
                </a:lnTo>
                <a:close/>
                <a:moveTo>
                  <a:pt x="3231" y="2670"/>
                </a:moveTo>
                <a:lnTo>
                  <a:pt x="3237" y="2657"/>
                </a:lnTo>
                <a:lnTo>
                  <a:pt x="3233" y="2667"/>
                </a:lnTo>
                <a:lnTo>
                  <a:pt x="3271" y="2537"/>
                </a:lnTo>
                <a:lnTo>
                  <a:pt x="3415" y="2578"/>
                </a:lnTo>
                <a:lnTo>
                  <a:pt x="3378" y="2709"/>
                </a:lnTo>
                <a:cubicBezTo>
                  <a:pt x="3377" y="2713"/>
                  <a:pt x="3375" y="2716"/>
                  <a:pt x="3374" y="2719"/>
                </a:cubicBezTo>
                <a:lnTo>
                  <a:pt x="3368" y="2732"/>
                </a:lnTo>
                <a:lnTo>
                  <a:pt x="3231" y="2670"/>
                </a:lnTo>
                <a:close/>
                <a:moveTo>
                  <a:pt x="3313" y="2393"/>
                </a:moveTo>
                <a:lnTo>
                  <a:pt x="3318" y="2374"/>
                </a:lnTo>
                <a:cubicBezTo>
                  <a:pt x="3320" y="2369"/>
                  <a:pt x="3322" y="2363"/>
                  <a:pt x="3325" y="2359"/>
                </a:cubicBezTo>
                <a:lnTo>
                  <a:pt x="3388" y="2244"/>
                </a:lnTo>
                <a:lnTo>
                  <a:pt x="3519" y="2317"/>
                </a:lnTo>
                <a:lnTo>
                  <a:pt x="3456" y="2431"/>
                </a:lnTo>
                <a:lnTo>
                  <a:pt x="3462" y="2416"/>
                </a:lnTo>
                <a:lnTo>
                  <a:pt x="3457" y="2434"/>
                </a:lnTo>
                <a:lnTo>
                  <a:pt x="3313" y="2393"/>
                </a:lnTo>
                <a:close/>
                <a:moveTo>
                  <a:pt x="3636" y="2200"/>
                </a:moveTo>
                <a:lnTo>
                  <a:pt x="3705" y="2334"/>
                </a:lnTo>
                <a:lnTo>
                  <a:pt x="3571" y="2402"/>
                </a:lnTo>
                <a:lnTo>
                  <a:pt x="3503" y="2269"/>
                </a:lnTo>
                <a:lnTo>
                  <a:pt x="3636" y="2200"/>
                </a:lnTo>
                <a:close/>
                <a:moveTo>
                  <a:pt x="3778" y="2457"/>
                </a:moveTo>
                <a:lnTo>
                  <a:pt x="3846" y="2566"/>
                </a:lnTo>
                <a:cubicBezTo>
                  <a:pt x="3848" y="2570"/>
                  <a:pt x="3850" y="2574"/>
                  <a:pt x="3852" y="2579"/>
                </a:cubicBezTo>
                <a:lnTo>
                  <a:pt x="3860" y="2600"/>
                </a:lnTo>
                <a:lnTo>
                  <a:pt x="3720" y="2653"/>
                </a:lnTo>
                <a:lnTo>
                  <a:pt x="3712" y="2632"/>
                </a:lnTo>
                <a:lnTo>
                  <a:pt x="3718" y="2645"/>
                </a:lnTo>
                <a:lnTo>
                  <a:pt x="3651" y="2536"/>
                </a:lnTo>
                <a:lnTo>
                  <a:pt x="3778" y="2457"/>
                </a:lnTo>
                <a:close/>
                <a:moveTo>
                  <a:pt x="3913" y="2740"/>
                </a:moveTo>
                <a:lnTo>
                  <a:pt x="3943" y="2821"/>
                </a:lnTo>
                <a:lnTo>
                  <a:pt x="3969" y="2870"/>
                </a:lnTo>
                <a:lnTo>
                  <a:pt x="3835" y="2938"/>
                </a:lnTo>
                <a:lnTo>
                  <a:pt x="3803" y="2874"/>
                </a:lnTo>
                <a:lnTo>
                  <a:pt x="3773" y="2793"/>
                </a:lnTo>
                <a:lnTo>
                  <a:pt x="3913" y="2740"/>
                </a:lnTo>
                <a:close/>
                <a:moveTo>
                  <a:pt x="3985" y="2939"/>
                </a:moveTo>
                <a:lnTo>
                  <a:pt x="4043" y="2939"/>
                </a:lnTo>
                <a:lnTo>
                  <a:pt x="3977" y="2977"/>
                </a:lnTo>
                <a:lnTo>
                  <a:pt x="4022" y="2897"/>
                </a:lnTo>
                <a:lnTo>
                  <a:pt x="4153" y="2969"/>
                </a:lnTo>
                <a:lnTo>
                  <a:pt x="4109" y="3050"/>
                </a:lnTo>
                <a:cubicBezTo>
                  <a:pt x="4096" y="3074"/>
                  <a:pt x="4070" y="3089"/>
                  <a:pt x="4043" y="3089"/>
                </a:cubicBezTo>
                <a:lnTo>
                  <a:pt x="3985" y="3089"/>
                </a:lnTo>
                <a:lnTo>
                  <a:pt x="3985" y="2939"/>
                </a:lnTo>
                <a:close/>
                <a:moveTo>
                  <a:pt x="4085" y="2770"/>
                </a:moveTo>
                <a:lnTo>
                  <a:pt x="4143" y="2632"/>
                </a:lnTo>
                <a:lnTo>
                  <a:pt x="4281" y="2689"/>
                </a:lnTo>
                <a:lnTo>
                  <a:pt x="4224" y="2828"/>
                </a:lnTo>
                <a:lnTo>
                  <a:pt x="4085" y="2770"/>
                </a:lnTo>
                <a:close/>
                <a:moveTo>
                  <a:pt x="4227" y="2492"/>
                </a:moveTo>
                <a:lnTo>
                  <a:pt x="4287" y="2399"/>
                </a:lnTo>
                <a:lnTo>
                  <a:pt x="4312" y="2364"/>
                </a:lnTo>
                <a:lnTo>
                  <a:pt x="4434" y="2451"/>
                </a:lnTo>
                <a:lnTo>
                  <a:pt x="4413" y="2480"/>
                </a:lnTo>
                <a:lnTo>
                  <a:pt x="4353" y="2573"/>
                </a:lnTo>
                <a:lnTo>
                  <a:pt x="4227" y="2492"/>
                </a:lnTo>
                <a:close/>
                <a:moveTo>
                  <a:pt x="4505" y="2261"/>
                </a:moveTo>
                <a:lnTo>
                  <a:pt x="4561" y="2290"/>
                </a:lnTo>
                <a:cubicBezTo>
                  <a:pt x="4571" y="2296"/>
                  <a:pt x="4581" y="2304"/>
                  <a:pt x="4587" y="2314"/>
                </a:cubicBezTo>
                <a:lnTo>
                  <a:pt x="4637" y="2384"/>
                </a:lnTo>
                <a:lnTo>
                  <a:pt x="4514" y="2470"/>
                </a:lnTo>
                <a:lnTo>
                  <a:pt x="4465" y="2400"/>
                </a:lnTo>
                <a:lnTo>
                  <a:pt x="4491" y="2423"/>
                </a:lnTo>
                <a:lnTo>
                  <a:pt x="4435" y="2393"/>
                </a:lnTo>
                <a:lnTo>
                  <a:pt x="4505" y="2261"/>
                </a:lnTo>
                <a:close/>
                <a:moveTo>
                  <a:pt x="4715" y="2529"/>
                </a:moveTo>
                <a:lnTo>
                  <a:pt x="4771" y="2658"/>
                </a:lnTo>
                <a:lnTo>
                  <a:pt x="4760" y="2641"/>
                </a:lnTo>
                <a:lnTo>
                  <a:pt x="4766" y="2648"/>
                </a:lnTo>
                <a:lnTo>
                  <a:pt x="4650" y="2743"/>
                </a:lnTo>
                <a:lnTo>
                  <a:pt x="4644" y="2736"/>
                </a:lnTo>
                <a:cubicBezTo>
                  <a:pt x="4640" y="2730"/>
                  <a:pt x="4636" y="2724"/>
                  <a:pt x="4633" y="2718"/>
                </a:cubicBezTo>
                <a:lnTo>
                  <a:pt x="4577" y="2589"/>
                </a:lnTo>
                <a:lnTo>
                  <a:pt x="4715" y="2529"/>
                </a:lnTo>
                <a:close/>
                <a:moveTo>
                  <a:pt x="4861" y="2764"/>
                </a:moveTo>
                <a:lnTo>
                  <a:pt x="4891" y="2800"/>
                </a:lnTo>
                <a:lnTo>
                  <a:pt x="4959" y="2866"/>
                </a:lnTo>
                <a:lnTo>
                  <a:pt x="4854" y="2973"/>
                </a:lnTo>
                <a:lnTo>
                  <a:pt x="4775" y="2895"/>
                </a:lnTo>
                <a:lnTo>
                  <a:pt x="4745" y="2859"/>
                </a:lnTo>
                <a:lnTo>
                  <a:pt x="4861" y="2764"/>
                </a:lnTo>
                <a:close/>
                <a:moveTo>
                  <a:pt x="4962" y="2858"/>
                </a:moveTo>
                <a:lnTo>
                  <a:pt x="5027" y="2731"/>
                </a:lnTo>
                <a:lnTo>
                  <a:pt x="5031" y="2724"/>
                </a:lnTo>
                <a:lnTo>
                  <a:pt x="5163" y="2794"/>
                </a:lnTo>
                <a:lnTo>
                  <a:pt x="5161" y="2799"/>
                </a:lnTo>
                <a:lnTo>
                  <a:pt x="5095" y="2927"/>
                </a:lnTo>
                <a:lnTo>
                  <a:pt x="4962" y="2858"/>
                </a:lnTo>
                <a:close/>
                <a:moveTo>
                  <a:pt x="5101" y="2591"/>
                </a:moveTo>
                <a:lnTo>
                  <a:pt x="5112" y="2570"/>
                </a:lnTo>
                <a:lnTo>
                  <a:pt x="5174" y="2459"/>
                </a:lnTo>
                <a:lnTo>
                  <a:pt x="5305" y="2531"/>
                </a:lnTo>
                <a:lnTo>
                  <a:pt x="5245" y="2641"/>
                </a:lnTo>
                <a:lnTo>
                  <a:pt x="5234" y="2662"/>
                </a:lnTo>
                <a:lnTo>
                  <a:pt x="5101" y="2591"/>
                </a:lnTo>
                <a:close/>
                <a:moveTo>
                  <a:pt x="5303" y="2330"/>
                </a:moveTo>
                <a:lnTo>
                  <a:pt x="5360" y="2293"/>
                </a:lnTo>
                <a:cubicBezTo>
                  <a:pt x="5382" y="2280"/>
                  <a:pt x="5408" y="2278"/>
                  <a:pt x="5431" y="2288"/>
                </a:cubicBezTo>
                <a:lnTo>
                  <a:pt x="5506" y="2322"/>
                </a:lnTo>
                <a:lnTo>
                  <a:pt x="5444" y="2459"/>
                </a:lnTo>
                <a:lnTo>
                  <a:pt x="5370" y="2425"/>
                </a:lnTo>
                <a:lnTo>
                  <a:pt x="5441" y="2420"/>
                </a:lnTo>
                <a:lnTo>
                  <a:pt x="5383" y="2456"/>
                </a:lnTo>
                <a:lnTo>
                  <a:pt x="5303" y="2330"/>
                </a:lnTo>
                <a:close/>
                <a:moveTo>
                  <a:pt x="5625" y="2469"/>
                </a:moveTo>
                <a:lnTo>
                  <a:pt x="5633" y="2481"/>
                </a:lnTo>
                <a:lnTo>
                  <a:pt x="5701" y="2605"/>
                </a:lnTo>
                <a:lnTo>
                  <a:pt x="5570" y="2677"/>
                </a:lnTo>
                <a:lnTo>
                  <a:pt x="5508" y="2564"/>
                </a:lnTo>
                <a:lnTo>
                  <a:pt x="5500" y="2552"/>
                </a:lnTo>
                <a:lnTo>
                  <a:pt x="5625" y="2469"/>
                </a:lnTo>
                <a:close/>
                <a:moveTo>
                  <a:pt x="5773" y="2738"/>
                </a:moveTo>
                <a:lnTo>
                  <a:pt x="5813" y="2812"/>
                </a:lnTo>
                <a:lnTo>
                  <a:pt x="5771" y="2777"/>
                </a:lnTo>
                <a:lnTo>
                  <a:pt x="5833" y="2798"/>
                </a:lnTo>
                <a:lnTo>
                  <a:pt x="5784" y="2940"/>
                </a:lnTo>
                <a:lnTo>
                  <a:pt x="5722" y="2919"/>
                </a:lnTo>
                <a:cubicBezTo>
                  <a:pt x="5704" y="2913"/>
                  <a:pt x="5689" y="2900"/>
                  <a:pt x="5680" y="2883"/>
                </a:cubicBezTo>
                <a:lnTo>
                  <a:pt x="5641" y="2809"/>
                </a:lnTo>
                <a:lnTo>
                  <a:pt x="5773" y="2738"/>
                </a:lnTo>
                <a:close/>
                <a:moveTo>
                  <a:pt x="5914" y="2791"/>
                </a:moveTo>
                <a:lnTo>
                  <a:pt x="5935" y="2780"/>
                </a:lnTo>
                <a:lnTo>
                  <a:pt x="5907" y="2805"/>
                </a:lnTo>
                <a:lnTo>
                  <a:pt x="5979" y="2701"/>
                </a:lnTo>
                <a:lnTo>
                  <a:pt x="6102" y="2787"/>
                </a:lnTo>
                <a:lnTo>
                  <a:pt x="6030" y="2891"/>
                </a:lnTo>
                <a:cubicBezTo>
                  <a:pt x="6023" y="2901"/>
                  <a:pt x="6013" y="2910"/>
                  <a:pt x="6001" y="2915"/>
                </a:cubicBezTo>
                <a:lnTo>
                  <a:pt x="5980" y="2926"/>
                </a:lnTo>
                <a:lnTo>
                  <a:pt x="5914" y="2791"/>
                </a:lnTo>
                <a:close/>
                <a:moveTo>
                  <a:pt x="6045" y="2578"/>
                </a:moveTo>
                <a:lnTo>
                  <a:pt x="6071" y="2526"/>
                </a:lnTo>
                <a:cubicBezTo>
                  <a:pt x="6073" y="2523"/>
                  <a:pt x="6076" y="2519"/>
                  <a:pt x="6078" y="2516"/>
                </a:cubicBezTo>
                <a:lnTo>
                  <a:pt x="6133" y="2442"/>
                </a:lnTo>
                <a:lnTo>
                  <a:pt x="6253" y="2532"/>
                </a:lnTo>
                <a:lnTo>
                  <a:pt x="6198" y="2606"/>
                </a:lnTo>
                <a:lnTo>
                  <a:pt x="6205" y="2595"/>
                </a:lnTo>
                <a:lnTo>
                  <a:pt x="6178" y="2647"/>
                </a:lnTo>
                <a:lnTo>
                  <a:pt x="6045" y="2578"/>
                </a:lnTo>
                <a:close/>
                <a:moveTo>
                  <a:pt x="6274" y="2331"/>
                </a:moveTo>
                <a:lnTo>
                  <a:pt x="6279" y="2328"/>
                </a:lnTo>
                <a:cubicBezTo>
                  <a:pt x="6303" y="2316"/>
                  <a:pt x="6332" y="2317"/>
                  <a:pt x="6354" y="2331"/>
                </a:cubicBezTo>
                <a:lnTo>
                  <a:pt x="6476" y="2409"/>
                </a:lnTo>
                <a:lnTo>
                  <a:pt x="6396" y="2535"/>
                </a:lnTo>
                <a:lnTo>
                  <a:pt x="6274" y="2458"/>
                </a:lnTo>
                <a:lnTo>
                  <a:pt x="6349" y="2461"/>
                </a:lnTo>
                <a:lnTo>
                  <a:pt x="6344" y="2464"/>
                </a:lnTo>
                <a:lnTo>
                  <a:pt x="6274" y="2331"/>
                </a:lnTo>
                <a:close/>
                <a:moveTo>
                  <a:pt x="6610" y="2541"/>
                </a:moveTo>
                <a:lnTo>
                  <a:pt x="6679" y="2674"/>
                </a:lnTo>
                <a:lnTo>
                  <a:pt x="6545" y="2743"/>
                </a:lnTo>
                <a:lnTo>
                  <a:pt x="6477" y="2609"/>
                </a:lnTo>
                <a:lnTo>
                  <a:pt x="6610" y="2541"/>
                </a:lnTo>
                <a:close/>
                <a:moveTo>
                  <a:pt x="6757" y="2790"/>
                </a:moveTo>
                <a:lnTo>
                  <a:pt x="6767" y="2805"/>
                </a:lnTo>
                <a:lnTo>
                  <a:pt x="6739" y="2780"/>
                </a:lnTo>
                <a:lnTo>
                  <a:pt x="6830" y="2825"/>
                </a:lnTo>
                <a:lnTo>
                  <a:pt x="6757" y="2829"/>
                </a:lnTo>
                <a:lnTo>
                  <a:pt x="6782" y="2813"/>
                </a:lnTo>
                <a:lnTo>
                  <a:pt x="6863" y="2940"/>
                </a:lnTo>
                <a:lnTo>
                  <a:pt x="6837" y="2956"/>
                </a:lnTo>
                <a:cubicBezTo>
                  <a:pt x="6815" y="2970"/>
                  <a:pt x="6788" y="2971"/>
                  <a:pt x="6764" y="2960"/>
                </a:cubicBezTo>
                <a:lnTo>
                  <a:pt x="6673" y="2915"/>
                </a:lnTo>
                <a:cubicBezTo>
                  <a:pt x="6662" y="2910"/>
                  <a:pt x="6652" y="2901"/>
                  <a:pt x="6644" y="2891"/>
                </a:cubicBezTo>
                <a:lnTo>
                  <a:pt x="6634" y="2876"/>
                </a:lnTo>
                <a:lnTo>
                  <a:pt x="6757" y="2790"/>
                </a:lnTo>
                <a:close/>
                <a:moveTo>
                  <a:pt x="6881" y="2746"/>
                </a:moveTo>
                <a:lnTo>
                  <a:pt x="6951" y="2645"/>
                </a:lnTo>
                <a:lnTo>
                  <a:pt x="6965" y="2624"/>
                </a:lnTo>
                <a:lnTo>
                  <a:pt x="7090" y="2707"/>
                </a:lnTo>
                <a:lnTo>
                  <a:pt x="7074" y="2731"/>
                </a:lnTo>
                <a:lnTo>
                  <a:pt x="7004" y="2832"/>
                </a:lnTo>
                <a:lnTo>
                  <a:pt x="6881" y="2746"/>
                </a:lnTo>
                <a:close/>
                <a:moveTo>
                  <a:pt x="7065" y="2489"/>
                </a:moveTo>
                <a:lnTo>
                  <a:pt x="7138" y="2422"/>
                </a:lnTo>
                <a:cubicBezTo>
                  <a:pt x="7144" y="2417"/>
                  <a:pt x="7151" y="2413"/>
                  <a:pt x="7158" y="2409"/>
                </a:cubicBezTo>
                <a:lnTo>
                  <a:pt x="7204" y="2388"/>
                </a:lnTo>
                <a:lnTo>
                  <a:pt x="7266" y="2525"/>
                </a:lnTo>
                <a:lnTo>
                  <a:pt x="7220" y="2546"/>
                </a:lnTo>
                <a:lnTo>
                  <a:pt x="7239" y="2533"/>
                </a:lnTo>
                <a:lnTo>
                  <a:pt x="7166" y="2600"/>
                </a:lnTo>
                <a:lnTo>
                  <a:pt x="7065" y="2489"/>
                </a:lnTo>
                <a:close/>
                <a:moveTo>
                  <a:pt x="7404" y="2456"/>
                </a:moveTo>
                <a:lnTo>
                  <a:pt x="7415" y="2467"/>
                </a:lnTo>
                <a:lnTo>
                  <a:pt x="7405" y="2459"/>
                </a:lnTo>
                <a:lnTo>
                  <a:pt x="7519" y="2531"/>
                </a:lnTo>
                <a:lnTo>
                  <a:pt x="7438" y="2658"/>
                </a:lnTo>
                <a:lnTo>
                  <a:pt x="7325" y="2586"/>
                </a:lnTo>
                <a:cubicBezTo>
                  <a:pt x="7321" y="2583"/>
                  <a:pt x="7318" y="2581"/>
                  <a:pt x="7315" y="2578"/>
                </a:cubicBezTo>
                <a:lnTo>
                  <a:pt x="7303" y="2567"/>
                </a:lnTo>
                <a:lnTo>
                  <a:pt x="7404" y="2456"/>
                </a:lnTo>
                <a:close/>
                <a:moveTo>
                  <a:pt x="7631" y="2669"/>
                </a:moveTo>
                <a:lnTo>
                  <a:pt x="7642" y="2684"/>
                </a:lnTo>
                <a:lnTo>
                  <a:pt x="7633" y="2673"/>
                </a:lnTo>
                <a:lnTo>
                  <a:pt x="7718" y="2756"/>
                </a:lnTo>
                <a:lnTo>
                  <a:pt x="7694" y="2740"/>
                </a:lnTo>
                <a:lnTo>
                  <a:pt x="7706" y="2745"/>
                </a:lnTo>
                <a:lnTo>
                  <a:pt x="7648" y="2884"/>
                </a:lnTo>
                <a:lnTo>
                  <a:pt x="7636" y="2879"/>
                </a:lnTo>
                <a:cubicBezTo>
                  <a:pt x="7628" y="2875"/>
                  <a:pt x="7620" y="2870"/>
                  <a:pt x="7613" y="2863"/>
                </a:cubicBezTo>
                <a:lnTo>
                  <a:pt x="7528" y="2780"/>
                </a:lnTo>
                <a:cubicBezTo>
                  <a:pt x="7525" y="2777"/>
                  <a:pt x="7522" y="2773"/>
                  <a:pt x="7519" y="2770"/>
                </a:cubicBezTo>
                <a:lnTo>
                  <a:pt x="7509" y="2755"/>
                </a:lnTo>
                <a:lnTo>
                  <a:pt x="7631" y="2669"/>
                </a:lnTo>
                <a:close/>
                <a:moveTo>
                  <a:pt x="7750" y="2749"/>
                </a:moveTo>
                <a:lnTo>
                  <a:pt x="7789" y="2711"/>
                </a:lnTo>
                <a:cubicBezTo>
                  <a:pt x="7793" y="2707"/>
                  <a:pt x="7798" y="2703"/>
                  <a:pt x="7804" y="2700"/>
                </a:cubicBezTo>
                <a:lnTo>
                  <a:pt x="7886" y="2652"/>
                </a:lnTo>
                <a:lnTo>
                  <a:pt x="7962" y="2781"/>
                </a:lnTo>
                <a:lnTo>
                  <a:pt x="7879" y="2829"/>
                </a:lnTo>
                <a:lnTo>
                  <a:pt x="7894" y="2818"/>
                </a:lnTo>
                <a:lnTo>
                  <a:pt x="7855" y="2857"/>
                </a:lnTo>
                <a:lnTo>
                  <a:pt x="7750" y="2749"/>
                </a:lnTo>
                <a:close/>
                <a:moveTo>
                  <a:pt x="7966" y="2568"/>
                </a:moveTo>
                <a:lnTo>
                  <a:pt x="8002" y="2517"/>
                </a:lnTo>
                <a:cubicBezTo>
                  <a:pt x="8005" y="2513"/>
                  <a:pt x="8008" y="2510"/>
                  <a:pt x="8011" y="2507"/>
                </a:cubicBezTo>
                <a:lnTo>
                  <a:pt x="8073" y="2446"/>
                </a:lnTo>
                <a:lnTo>
                  <a:pt x="8178" y="2553"/>
                </a:lnTo>
                <a:lnTo>
                  <a:pt x="8116" y="2614"/>
                </a:lnTo>
                <a:lnTo>
                  <a:pt x="8124" y="2604"/>
                </a:lnTo>
                <a:lnTo>
                  <a:pt x="8088" y="2655"/>
                </a:lnTo>
                <a:lnTo>
                  <a:pt x="7966" y="2568"/>
                </a:lnTo>
                <a:close/>
                <a:moveTo>
                  <a:pt x="8296" y="2425"/>
                </a:moveTo>
                <a:lnTo>
                  <a:pt x="8357" y="2455"/>
                </a:lnTo>
                <a:cubicBezTo>
                  <a:pt x="8369" y="2461"/>
                  <a:pt x="8379" y="2469"/>
                  <a:pt x="8386" y="2479"/>
                </a:cubicBezTo>
                <a:lnTo>
                  <a:pt x="8433" y="2547"/>
                </a:lnTo>
                <a:lnTo>
                  <a:pt x="8310" y="2633"/>
                </a:lnTo>
                <a:lnTo>
                  <a:pt x="8263" y="2565"/>
                </a:lnTo>
                <a:lnTo>
                  <a:pt x="8292" y="2590"/>
                </a:lnTo>
                <a:lnTo>
                  <a:pt x="8231" y="2560"/>
                </a:lnTo>
                <a:lnTo>
                  <a:pt x="8296" y="2425"/>
                </a:lnTo>
                <a:close/>
                <a:moveTo>
                  <a:pt x="8522" y="2646"/>
                </a:moveTo>
                <a:lnTo>
                  <a:pt x="8591" y="2710"/>
                </a:lnTo>
                <a:lnTo>
                  <a:pt x="8575" y="2698"/>
                </a:lnTo>
                <a:lnTo>
                  <a:pt x="8624" y="2724"/>
                </a:lnTo>
                <a:lnTo>
                  <a:pt x="8554" y="2857"/>
                </a:lnTo>
                <a:lnTo>
                  <a:pt x="8505" y="2831"/>
                </a:lnTo>
                <a:cubicBezTo>
                  <a:pt x="8499" y="2828"/>
                  <a:pt x="8494" y="2824"/>
                  <a:pt x="8489" y="2820"/>
                </a:cubicBezTo>
                <a:lnTo>
                  <a:pt x="8420" y="2756"/>
                </a:lnTo>
                <a:lnTo>
                  <a:pt x="8522" y="2646"/>
                </a:lnTo>
                <a:close/>
                <a:moveTo>
                  <a:pt x="8677" y="2743"/>
                </a:moveTo>
                <a:lnTo>
                  <a:pt x="8749" y="2673"/>
                </a:lnTo>
                <a:lnTo>
                  <a:pt x="8788" y="2637"/>
                </a:lnTo>
                <a:lnTo>
                  <a:pt x="8888" y="2748"/>
                </a:lnTo>
                <a:lnTo>
                  <a:pt x="8853" y="2780"/>
                </a:lnTo>
                <a:lnTo>
                  <a:pt x="8782" y="2850"/>
                </a:lnTo>
                <a:lnTo>
                  <a:pt x="8677" y="2743"/>
                </a:lnTo>
                <a:close/>
                <a:moveTo>
                  <a:pt x="8917" y="2539"/>
                </a:moveTo>
                <a:lnTo>
                  <a:pt x="8983" y="2497"/>
                </a:lnTo>
                <a:lnTo>
                  <a:pt x="8970" y="2507"/>
                </a:lnTo>
                <a:lnTo>
                  <a:pt x="9022" y="2457"/>
                </a:lnTo>
                <a:lnTo>
                  <a:pt x="9127" y="2564"/>
                </a:lnTo>
                <a:lnTo>
                  <a:pt x="9075" y="2614"/>
                </a:lnTo>
                <a:cubicBezTo>
                  <a:pt x="9072" y="2618"/>
                  <a:pt x="9067" y="2621"/>
                  <a:pt x="9063" y="2624"/>
                </a:cubicBezTo>
                <a:lnTo>
                  <a:pt x="8997" y="2666"/>
                </a:lnTo>
                <a:lnTo>
                  <a:pt x="8917" y="2539"/>
                </a:lnTo>
                <a:close/>
                <a:moveTo>
                  <a:pt x="9228" y="2456"/>
                </a:moveTo>
                <a:lnTo>
                  <a:pt x="9313" y="2491"/>
                </a:lnTo>
                <a:cubicBezTo>
                  <a:pt x="9327" y="2497"/>
                  <a:pt x="9338" y="2507"/>
                  <a:pt x="9346" y="2519"/>
                </a:cubicBezTo>
                <a:lnTo>
                  <a:pt x="9379" y="2568"/>
                </a:lnTo>
                <a:lnTo>
                  <a:pt x="9254" y="2651"/>
                </a:lnTo>
                <a:lnTo>
                  <a:pt x="9221" y="2602"/>
                </a:lnTo>
                <a:lnTo>
                  <a:pt x="9255" y="2630"/>
                </a:lnTo>
                <a:lnTo>
                  <a:pt x="9170" y="2594"/>
                </a:lnTo>
                <a:lnTo>
                  <a:pt x="9228" y="2456"/>
                </a:lnTo>
                <a:close/>
                <a:moveTo>
                  <a:pt x="9460" y="2670"/>
                </a:moveTo>
                <a:lnTo>
                  <a:pt x="9504" y="2709"/>
                </a:lnTo>
                <a:lnTo>
                  <a:pt x="9477" y="2693"/>
                </a:lnTo>
                <a:lnTo>
                  <a:pt x="9563" y="2722"/>
                </a:lnTo>
                <a:lnTo>
                  <a:pt x="9517" y="2864"/>
                </a:lnTo>
                <a:lnTo>
                  <a:pt x="9430" y="2836"/>
                </a:lnTo>
                <a:cubicBezTo>
                  <a:pt x="9420" y="2833"/>
                  <a:pt x="9411" y="2828"/>
                  <a:pt x="9403" y="2820"/>
                </a:cubicBezTo>
                <a:lnTo>
                  <a:pt x="9360" y="2781"/>
                </a:lnTo>
                <a:lnTo>
                  <a:pt x="9460" y="2670"/>
                </a:lnTo>
                <a:close/>
                <a:moveTo>
                  <a:pt x="9632" y="2747"/>
                </a:moveTo>
                <a:lnTo>
                  <a:pt x="9708" y="2673"/>
                </a:lnTo>
                <a:lnTo>
                  <a:pt x="9700" y="2681"/>
                </a:lnTo>
                <a:lnTo>
                  <a:pt x="9727" y="2647"/>
                </a:lnTo>
                <a:lnTo>
                  <a:pt x="9846" y="2737"/>
                </a:lnTo>
                <a:lnTo>
                  <a:pt x="9820" y="2772"/>
                </a:lnTo>
                <a:cubicBezTo>
                  <a:pt x="9818" y="2775"/>
                  <a:pt x="9815" y="2778"/>
                  <a:pt x="9813" y="2780"/>
                </a:cubicBezTo>
                <a:lnTo>
                  <a:pt x="9736" y="2855"/>
                </a:lnTo>
                <a:lnTo>
                  <a:pt x="9632" y="2747"/>
                </a:lnTo>
                <a:close/>
                <a:moveTo>
                  <a:pt x="9829" y="2523"/>
                </a:moveTo>
                <a:lnTo>
                  <a:pt x="9884" y="2469"/>
                </a:lnTo>
                <a:cubicBezTo>
                  <a:pt x="9898" y="2455"/>
                  <a:pt x="9917" y="2447"/>
                  <a:pt x="9937" y="2447"/>
                </a:cubicBezTo>
                <a:lnTo>
                  <a:pt x="10009" y="2447"/>
                </a:lnTo>
                <a:lnTo>
                  <a:pt x="10009" y="2597"/>
                </a:lnTo>
                <a:lnTo>
                  <a:pt x="9937" y="2597"/>
                </a:lnTo>
                <a:lnTo>
                  <a:pt x="9989" y="2576"/>
                </a:lnTo>
                <a:lnTo>
                  <a:pt x="9934" y="2630"/>
                </a:lnTo>
                <a:lnTo>
                  <a:pt x="9829" y="2523"/>
                </a:lnTo>
                <a:close/>
                <a:moveTo>
                  <a:pt x="10208" y="2472"/>
                </a:moveTo>
                <a:lnTo>
                  <a:pt x="10294" y="2550"/>
                </a:lnTo>
                <a:lnTo>
                  <a:pt x="10320" y="2576"/>
                </a:lnTo>
                <a:lnTo>
                  <a:pt x="10215" y="2683"/>
                </a:lnTo>
                <a:lnTo>
                  <a:pt x="10193" y="2661"/>
                </a:lnTo>
                <a:lnTo>
                  <a:pt x="10107" y="2583"/>
                </a:lnTo>
                <a:lnTo>
                  <a:pt x="10208" y="2472"/>
                </a:lnTo>
                <a:close/>
                <a:moveTo>
                  <a:pt x="10427" y="2673"/>
                </a:moveTo>
                <a:lnTo>
                  <a:pt x="10468" y="2707"/>
                </a:lnTo>
                <a:lnTo>
                  <a:pt x="10454" y="2698"/>
                </a:lnTo>
                <a:lnTo>
                  <a:pt x="10539" y="2743"/>
                </a:lnTo>
                <a:lnTo>
                  <a:pt x="10480" y="2739"/>
                </a:lnTo>
                <a:lnTo>
                  <a:pt x="10480" y="2738"/>
                </a:lnTo>
                <a:lnTo>
                  <a:pt x="10529" y="2880"/>
                </a:lnTo>
                <a:lnTo>
                  <a:pt x="10529" y="2880"/>
                </a:lnTo>
                <a:cubicBezTo>
                  <a:pt x="10509" y="2887"/>
                  <a:pt x="10488" y="2885"/>
                  <a:pt x="10469" y="2876"/>
                </a:cubicBezTo>
                <a:lnTo>
                  <a:pt x="10385" y="2831"/>
                </a:lnTo>
                <a:cubicBezTo>
                  <a:pt x="10380" y="2829"/>
                  <a:pt x="10375" y="2826"/>
                  <a:pt x="10371" y="2822"/>
                </a:cubicBezTo>
                <a:lnTo>
                  <a:pt x="10330" y="2788"/>
                </a:lnTo>
                <a:lnTo>
                  <a:pt x="10427" y="2673"/>
                </a:lnTo>
                <a:close/>
                <a:moveTo>
                  <a:pt x="10594" y="2701"/>
                </a:moveTo>
                <a:lnTo>
                  <a:pt x="10670" y="2633"/>
                </a:lnTo>
                <a:lnTo>
                  <a:pt x="10705" y="2600"/>
                </a:lnTo>
                <a:lnTo>
                  <a:pt x="10806" y="2711"/>
                </a:lnTo>
                <a:lnTo>
                  <a:pt x="10770" y="2744"/>
                </a:lnTo>
                <a:lnTo>
                  <a:pt x="10694" y="2812"/>
                </a:lnTo>
                <a:lnTo>
                  <a:pt x="10594" y="2701"/>
                </a:lnTo>
                <a:close/>
                <a:moveTo>
                  <a:pt x="10812" y="2499"/>
                </a:moveTo>
                <a:lnTo>
                  <a:pt x="10844" y="2469"/>
                </a:lnTo>
                <a:cubicBezTo>
                  <a:pt x="10858" y="2455"/>
                  <a:pt x="10876" y="2447"/>
                  <a:pt x="10896" y="2447"/>
                </a:cubicBezTo>
                <a:lnTo>
                  <a:pt x="10981" y="2447"/>
                </a:lnTo>
                <a:cubicBezTo>
                  <a:pt x="10991" y="2447"/>
                  <a:pt x="11001" y="2449"/>
                  <a:pt x="11010" y="2453"/>
                </a:cubicBezTo>
                <a:lnTo>
                  <a:pt x="11029" y="2461"/>
                </a:lnTo>
                <a:lnTo>
                  <a:pt x="10971" y="2600"/>
                </a:lnTo>
                <a:lnTo>
                  <a:pt x="10952" y="2592"/>
                </a:lnTo>
                <a:lnTo>
                  <a:pt x="10981" y="2597"/>
                </a:lnTo>
                <a:lnTo>
                  <a:pt x="10896" y="2597"/>
                </a:lnTo>
                <a:lnTo>
                  <a:pt x="10948" y="2576"/>
                </a:lnTo>
                <a:lnTo>
                  <a:pt x="10917" y="2607"/>
                </a:lnTo>
                <a:lnTo>
                  <a:pt x="10812" y="2499"/>
                </a:lnTo>
                <a:close/>
                <a:moveTo>
                  <a:pt x="11165" y="2513"/>
                </a:moveTo>
                <a:lnTo>
                  <a:pt x="11227" y="2534"/>
                </a:lnTo>
                <a:cubicBezTo>
                  <a:pt x="11238" y="2538"/>
                  <a:pt x="11247" y="2544"/>
                  <a:pt x="11255" y="2552"/>
                </a:cubicBezTo>
                <a:lnTo>
                  <a:pt x="11315" y="2611"/>
                </a:lnTo>
                <a:lnTo>
                  <a:pt x="11211" y="2718"/>
                </a:lnTo>
                <a:lnTo>
                  <a:pt x="11150" y="2659"/>
                </a:lnTo>
                <a:lnTo>
                  <a:pt x="11178" y="2676"/>
                </a:lnTo>
                <a:lnTo>
                  <a:pt x="11116" y="2655"/>
                </a:lnTo>
                <a:lnTo>
                  <a:pt x="11165" y="2513"/>
                </a:lnTo>
                <a:close/>
                <a:moveTo>
                  <a:pt x="11424" y="2705"/>
                </a:moveTo>
                <a:lnTo>
                  <a:pt x="11427" y="2707"/>
                </a:lnTo>
                <a:lnTo>
                  <a:pt x="11379" y="2690"/>
                </a:lnTo>
                <a:lnTo>
                  <a:pt x="11464" y="2690"/>
                </a:lnTo>
                <a:lnTo>
                  <a:pt x="11433" y="2696"/>
                </a:lnTo>
                <a:lnTo>
                  <a:pt x="11489" y="2671"/>
                </a:lnTo>
                <a:lnTo>
                  <a:pt x="11551" y="2808"/>
                </a:lnTo>
                <a:lnTo>
                  <a:pt x="11495" y="2833"/>
                </a:lnTo>
                <a:cubicBezTo>
                  <a:pt x="11485" y="2838"/>
                  <a:pt x="11474" y="2840"/>
                  <a:pt x="11464" y="2840"/>
                </a:cubicBezTo>
                <a:lnTo>
                  <a:pt x="11379" y="2840"/>
                </a:lnTo>
                <a:cubicBezTo>
                  <a:pt x="11361" y="2840"/>
                  <a:pt x="11344" y="2834"/>
                  <a:pt x="11331" y="2822"/>
                </a:cubicBezTo>
                <a:lnTo>
                  <a:pt x="11328" y="2820"/>
                </a:lnTo>
                <a:lnTo>
                  <a:pt x="11424" y="2705"/>
                </a:lnTo>
                <a:close/>
                <a:moveTo>
                  <a:pt x="11641" y="2621"/>
                </a:moveTo>
                <a:lnTo>
                  <a:pt x="11658" y="2616"/>
                </a:lnTo>
                <a:lnTo>
                  <a:pt x="11629" y="2633"/>
                </a:lnTo>
                <a:lnTo>
                  <a:pt x="11720" y="2550"/>
                </a:lnTo>
                <a:lnTo>
                  <a:pt x="11725" y="2545"/>
                </a:lnTo>
                <a:lnTo>
                  <a:pt x="11829" y="2653"/>
                </a:lnTo>
                <a:lnTo>
                  <a:pt x="11821" y="2661"/>
                </a:lnTo>
                <a:lnTo>
                  <a:pt x="11730" y="2744"/>
                </a:lnTo>
                <a:cubicBezTo>
                  <a:pt x="11721" y="2751"/>
                  <a:pt x="11711" y="2757"/>
                  <a:pt x="11700" y="2760"/>
                </a:cubicBezTo>
                <a:lnTo>
                  <a:pt x="11683" y="2765"/>
                </a:lnTo>
                <a:lnTo>
                  <a:pt x="11641" y="2621"/>
                </a:lnTo>
                <a:close/>
                <a:moveTo>
                  <a:pt x="11896" y="2447"/>
                </a:moveTo>
                <a:lnTo>
                  <a:pt x="11947" y="2447"/>
                </a:lnTo>
                <a:cubicBezTo>
                  <a:pt x="11957" y="2447"/>
                  <a:pt x="11968" y="2450"/>
                  <a:pt x="11978" y="2454"/>
                </a:cubicBezTo>
                <a:lnTo>
                  <a:pt x="12062" y="2492"/>
                </a:lnTo>
                <a:cubicBezTo>
                  <a:pt x="12070" y="2496"/>
                  <a:pt x="12078" y="2501"/>
                  <a:pt x="12084" y="2507"/>
                </a:cubicBezTo>
                <a:lnTo>
                  <a:pt x="12088" y="2511"/>
                </a:lnTo>
                <a:lnTo>
                  <a:pt x="11983" y="2618"/>
                </a:lnTo>
                <a:lnTo>
                  <a:pt x="11979" y="2614"/>
                </a:lnTo>
                <a:lnTo>
                  <a:pt x="12001" y="2629"/>
                </a:lnTo>
                <a:lnTo>
                  <a:pt x="11916" y="2591"/>
                </a:lnTo>
                <a:lnTo>
                  <a:pt x="11947" y="2597"/>
                </a:lnTo>
                <a:lnTo>
                  <a:pt x="11896" y="2597"/>
                </a:lnTo>
                <a:lnTo>
                  <a:pt x="11896" y="2447"/>
                </a:lnTo>
                <a:close/>
              </a:path>
            </a:pathLst>
          </a:custGeom>
          <a:solidFill>
            <a:srgbClr val="0000ff"/>
          </a:solidFill>
          <a:ln w="1440">
            <a:solidFill>
              <a:srgbClr val="0000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4788000" y="3449520"/>
            <a:ext cx="1428480" cy="71640"/>
          </a:xfrm>
          <a:custGeom>
            <a:avLst/>
            <a:gdLst/>
            <a:ahLst/>
            <a:rect l="l" t="t" r="r" b="b"/>
            <a:pathLst>
              <a:path w="6931" h="352">
                <a:moveTo>
                  <a:pt x="79" y="92"/>
                </a:moveTo>
                <a:lnTo>
                  <a:pt x="206" y="172"/>
                </a:lnTo>
                <a:lnTo>
                  <a:pt x="127" y="299"/>
                </a:lnTo>
                <a:lnTo>
                  <a:pt x="0" y="220"/>
                </a:lnTo>
                <a:lnTo>
                  <a:pt x="79" y="92"/>
                </a:lnTo>
                <a:close/>
                <a:moveTo>
                  <a:pt x="309" y="200"/>
                </a:moveTo>
                <a:lnTo>
                  <a:pt x="346" y="200"/>
                </a:lnTo>
                <a:lnTo>
                  <a:pt x="316" y="206"/>
                </a:lnTo>
                <a:lnTo>
                  <a:pt x="400" y="169"/>
                </a:lnTo>
                <a:lnTo>
                  <a:pt x="381" y="181"/>
                </a:lnTo>
                <a:lnTo>
                  <a:pt x="396" y="168"/>
                </a:lnTo>
                <a:lnTo>
                  <a:pt x="496" y="280"/>
                </a:lnTo>
                <a:lnTo>
                  <a:pt x="481" y="293"/>
                </a:lnTo>
                <a:cubicBezTo>
                  <a:pt x="475" y="298"/>
                  <a:pt x="468" y="303"/>
                  <a:pt x="461" y="306"/>
                </a:cubicBezTo>
                <a:lnTo>
                  <a:pt x="376" y="343"/>
                </a:lnTo>
                <a:cubicBezTo>
                  <a:pt x="367" y="348"/>
                  <a:pt x="356" y="350"/>
                  <a:pt x="346" y="350"/>
                </a:cubicBezTo>
                <a:lnTo>
                  <a:pt x="309" y="350"/>
                </a:lnTo>
                <a:lnTo>
                  <a:pt x="309" y="200"/>
                </a:lnTo>
                <a:close/>
                <a:moveTo>
                  <a:pt x="547" y="71"/>
                </a:moveTo>
                <a:lnTo>
                  <a:pt x="632" y="46"/>
                </a:lnTo>
                <a:lnTo>
                  <a:pt x="618" y="52"/>
                </a:lnTo>
                <a:lnTo>
                  <a:pt x="673" y="23"/>
                </a:lnTo>
                <a:lnTo>
                  <a:pt x="742" y="157"/>
                </a:lnTo>
                <a:lnTo>
                  <a:pt x="687" y="185"/>
                </a:lnTo>
                <a:cubicBezTo>
                  <a:pt x="682" y="187"/>
                  <a:pt x="678" y="189"/>
                  <a:pt x="673" y="191"/>
                </a:cubicBezTo>
                <a:lnTo>
                  <a:pt x="589" y="215"/>
                </a:lnTo>
                <a:lnTo>
                  <a:pt x="547" y="71"/>
                </a:lnTo>
                <a:close/>
                <a:moveTo>
                  <a:pt x="886" y="20"/>
                </a:moveTo>
                <a:lnTo>
                  <a:pt x="948" y="52"/>
                </a:lnTo>
                <a:lnTo>
                  <a:pt x="1017" y="82"/>
                </a:lnTo>
                <a:lnTo>
                  <a:pt x="956" y="220"/>
                </a:lnTo>
                <a:lnTo>
                  <a:pt x="879" y="185"/>
                </a:lnTo>
                <a:lnTo>
                  <a:pt x="817" y="153"/>
                </a:lnTo>
                <a:lnTo>
                  <a:pt x="886" y="20"/>
                </a:lnTo>
                <a:close/>
                <a:moveTo>
                  <a:pt x="1125" y="169"/>
                </a:moveTo>
                <a:lnTo>
                  <a:pt x="1240" y="203"/>
                </a:lnTo>
                <a:lnTo>
                  <a:pt x="1220" y="200"/>
                </a:lnTo>
                <a:lnTo>
                  <a:pt x="1249" y="200"/>
                </a:lnTo>
                <a:lnTo>
                  <a:pt x="1249" y="350"/>
                </a:lnTo>
                <a:lnTo>
                  <a:pt x="1220" y="350"/>
                </a:lnTo>
                <a:cubicBezTo>
                  <a:pt x="1213" y="350"/>
                  <a:pt x="1206" y="349"/>
                  <a:pt x="1199" y="347"/>
                </a:cubicBezTo>
                <a:lnTo>
                  <a:pt x="1083" y="314"/>
                </a:lnTo>
                <a:lnTo>
                  <a:pt x="1125" y="169"/>
                </a:lnTo>
                <a:close/>
                <a:moveTo>
                  <a:pt x="1364" y="169"/>
                </a:moveTo>
                <a:lnTo>
                  <a:pt x="1367" y="168"/>
                </a:lnTo>
                <a:lnTo>
                  <a:pt x="1344" y="183"/>
                </a:lnTo>
                <a:lnTo>
                  <a:pt x="1428" y="102"/>
                </a:lnTo>
                <a:lnTo>
                  <a:pt x="1449" y="82"/>
                </a:lnTo>
                <a:lnTo>
                  <a:pt x="1553" y="190"/>
                </a:lnTo>
                <a:lnTo>
                  <a:pt x="1532" y="210"/>
                </a:lnTo>
                <a:lnTo>
                  <a:pt x="1448" y="291"/>
                </a:lnTo>
                <a:cubicBezTo>
                  <a:pt x="1441" y="298"/>
                  <a:pt x="1433" y="303"/>
                  <a:pt x="1424" y="307"/>
                </a:cubicBezTo>
                <a:lnTo>
                  <a:pt x="1421" y="308"/>
                </a:lnTo>
                <a:lnTo>
                  <a:pt x="1364" y="169"/>
                </a:lnTo>
                <a:close/>
                <a:moveTo>
                  <a:pt x="1627" y="0"/>
                </a:moveTo>
                <a:lnTo>
                  <a:pt x="1696" y="0"/>
                </a:lnTo>
                <a:lnTo>
                  <a:pt x="1777" y="0"/>
                </a:lnTo>
                <a:lnTo>
                  <a:pt x="1777" y="150"/>
                </a:lnTo>
                <a:lnTo>
                  <a:pt x="1696" y="150"/>
                </a:lnTo>
                <a:lnTo>
                  <a:pt x="1627" y="150"/>
                </a:lnTo>
                <a:lnTo>
                  <a:pt x="1627" y="0"/>
                </a:lnTo>
                <a:close/>
                <a:moveTo>
                  <a:pt x="1956" y="95"/>
                </a:moveTo>
                <a:lnTo>
                  <a:pt x="2008" y="146"/>
                </a:lnTo>
                <a:lnTo>
                  <a:pt x="1985" y="130"/>
                </a:lnTo>
                <a:lnTo>
                  <a:pt x="2056" y="160"/>
                </a:lnTo>
                <a:lnTo>
                  <a:pt x="1999" y="298"/>
                </a:lnTo>
                <a:lnTo>
                  <a:pt x="1928" y="269"/>
                </a:lnTo>
                <a:cubicBezTo>
                  <a:pt x="1919" y="266"/>
                  <a:pt x="1911" y="260"/>
                  <a:pt x="1904" y="254"/>
                </a:cubicBezTo>
                <a:lnTo>
                  <a:pt x="1852" y="203"/>
                </a:lnTo>
                <a:lnTo>
                  <a:pt x="1956" y="95"/>
                </a:lnTo>
                <a:close/>
                <a:moveTo>
                  <a:pt x="2146" y="193"/>
                </a:moveTo>
                <a:lnTo>
                  <a:pt x="2242" y="165"/>
                </a:lnTo>
                <a:lnTo>
                  <a:pt x="2280" y="149"/>
                </a:lnTo>
                <a:lnTo>
                  <a:pt x="2337" y="288"/>
                </a:lnTo>
                <a:lnTo>
                  <a:pt x="2284" y="309"/>
                </a:lnTo>
                <a:lnTo>
                  <a:pt x="2187" y="337"/>
                </a:lnTo>
                <a:lnTo>
                  <a:pt x="2146" y="193"/>
                </a:lnTo>
                <a:close/>
                <a:moveTo>
                  <a:pt x="2391" y="98"/>
                </a:moveTo>
                <a:lnTo>
                  <a:pt x="2472" y="21"/>
                </a:lnTo>
                <a:cubicBezTo>
                  <a:pt x="2486" y="7"/>
                  <a:pt x="2504" y="0"/>
                  <a:pt x="2524" y="0"/>
                </a:cubicBezTo>
                <a:lnTo>
                  <a:pt x="2562" y="0"/>
                </a:lnTo>
                <a:lnTo>
                  <a:pt x="2562" y="150"/>
                </a:lnTo>
                <a:lnTo>
                  <a:pt x="2524" y="150"/>
                </a:lnTo>
                <a:lnTo>
                  <a:pt x="2575" y="129"/>
                </a:lnTo>
                <a:lnTo>
                  <a:pt x="2495" y="206"/>
                </a:lnTo>
                <a:lnTo>
                  <a:pt x="2391" y="98"/>
                </a:lnTo>
                <a:close/>
                <a:moveTo>
                  <a:pt x="2712" y="0"/>
                </a:moveTo>
                <a:lnTo>
                  <a:pt x="2745" y="0"/>
                </a:lnTo>
                <a:cubicBezTo>
                  <a:pt x="2757" y="0"/>
                  <a:pt x="2769" y="3"/>
                  <a:pt x="2780" y="8"/>
                </a:cubicBezTo>
                <a:lnTo>
                  <a:pt x="2864" y="52"/>
                </a:lnTo>
                <a:cubicBezTo>
                  <a:pt x="2870" y="55"/>
                  <a:pt x="2875" y="58"/>
                  <a:pt x="2880" y="63"/>
                </a:cubicBezTo>
                <a:lnTo>
                  <a:pt x="2896" y="77"/>
                </a:lnTo>
                <a:lnTo>
                  <a:pt x="2796" y="189"/>
                </a:lnTo>
                <a:lnTo>
                  <a:pt x="2780" y="175"/>
                </a:lnTo>
                <a:lnTo>
                  <a:pt x="2796" y="185"/>
                </a:lnTo>
                <a:lnTo>
                  <a:pt x="2711" y="141"/>
                </a:lnTo>
                <a:lnTo>
                  <a:pt x="2745" y="150"/>
                </a:lnTo>
                <a:lnTo>
                  <a:pt x="2712" y="150"/>
                </a:lnTo>
                <a:lnTo>
                  <a:pt x="2712" y="0"/>
                </a:lnTo>
                <a:close/>
                <a:moveTo>
                  <a:pt x="2997" y="151"/>
                </a:moveTo>
                <a:lnTo>
                  <a:pt x="3036" y="169"/>
                </a:lnTo>
                <a:lnTo>
                  <a:pt x="3121" y="206"/>
                </a:lnTo>
                <a:lnTo>
                  <a:pt x="3062" y="205"/>
                </a:lnTo>
                <a:lnTo>
                  <a:pt x="3075" y="200"/>
                </a:lnTo>
                <a:lnTo>
                  <a:pt x="3132" y="339"/>
                </a:lnTo>
                <a:lnTo>
                  <a:pt x="3119" y="344"/>
                </a:lnTo>
                <a:cubicBezTo>
                  <a:pt x="3100" y="352"/>
                  <a:pt x="3079" y="352"/>
                  <a:pt x="3060" y="343"/>
                </a:cubicBezTo>
                <a:lnTo>
                  <a:pt x="2976" y="306"/>
                </a:lnTo>
                <a:lnTo>
                  <a:pt x="2936" y="288"/>
                </a:lnTo>
                <a:lnTo>
                  <a:pt x="2997" y="151"/>
                </a:lnTo>
                <a:close/>
                <a:moveTo>
                  <a:pt x="3224" y="147"/>
                </a:moveTo>
                <a:lnTo>
                  <a:pt x="3292" y="128"/>
                </a:lnTo>
                <a:lnTo>
                  <a:pt x="3261" y="146"/>
                </a:lnTo>
                <a:lnTo>
                  <a:pt x="3318" y="91"/>
                </a:lnTo>
                <a:lnTo>
                  <a:pt x="3422" y="199"/>
                </a:lnTo>
                <a:lnTo>
                  <a:pt x="3364" y="254"/>
                </a:lnTo>
                <a:cubicBezTo>
                  <a:pt x="3356" y="262"/>
                  <a:pt x="3345" y="269"/>
                  <a:pt x="3333" y="272"/>
                </a:cubicBezTo>
                <a:lnTo>
                  <a:pt x="3265" y="291"/>
                </a:lnTo>
                <a:lnTo>
                  <a:pt x="3224" y="147"/>
                </a:lnTo>
                <a:close/>
                <a:moveTo>
                  <a:pt x="3499" y="0"/>
                </a:moveTo>
                <a:lnTo>
                  <a:pt x="3573" y="0"/>
                </a:lnTo>
                <a:lnTo>
                  <a:pt x="3649" y="0"/>
                </a:lnTo>
                <a:lnTo>
                  <a:pt x="3649" y="150"/>
                </a:lnTo>
                <a:lnTo>
                  <a:pt x="3573" y="150"/>
                </a:lnTo>
                <a:lnTo>
                  <a:pt x="3499" y="150"/>
                </a:lnTo>
                <a:lnTo>
                  <a:pt x="3499" y="0"/>
                </a:lnTo>
                <a:close/>
                <a:moveTo>
                  <a:pt x="3817" y="85"/>
                </a:moveTo>
                <a:lnTo>
                  <a:pt x="3828" y="92"/>
                </a:lnTo>
                <a:lnTo>
                  <a:pt x="3912" y="132"/>
                </a:lnTo>
                <a:lnTo>
                  <a:pt x="3943" y="146"/>
                </a:lnTo>
                <a:lnTo>
                  <a:pt x="3882" y="283"/>
                </a:lnTo>
                <a:lnTo>
                  <a:pt x="3847" y="267"/>
                </a:lnTo>
                <a:lnTo>
                  <a:pt x="3749" y="220"/>
                </a:lnTo>
                <a:lnTo>
                  <a:pt x="3738" y="213"/>
                </a:lnTo>
                <a:lnTo>
                  <a:pt x="3817" y="85"/>
                </a:lnTo>
                <a:close/>
                <a:moveTo>
                  <a:pt x="4058" y="162"/>
                </a:moveTo>
                <a:lnTo>
                  <a:pt x="4141" y="162"/>
                </a:lnTo>
                <a:lnTo>
                  <a:pt x="4089" y="183"/>
                </a:lnTo>
                <a:lnTo>
                  <a:pt x="4137" y="137"/>
                </a:lnTo>
                <a:lnTo>
                  <a:pt x="4241" y="245"/>
                </a:lnTo>
                <a:lnTo>
                  <a:pt x="4192" y="291"/>
                </a:lnTo>
                <a:cubicBezTo>
                  <a:pt x="4179" y="305"/>
                  <a:pt x="4160" y="312"/>
                  <a:pt x="4141" y="312"/>
                </a:cubicBezTo>
                <a:lnTo>
                  <a:pt x="4058" y="312"/>
                </a:lnTo>
                <a:lnTo>
                  <a:pt x="4058" y="162"/>
                </a:lnTo>
                <a:close/>
                <a:moveTo>
                  <a:pt x="4300" y="56"/>
                </a:moveTo>
                <a:lnTo>
                  <a:pt x="4335" y="46"/>
                </a:lnTo>
                <a:lnTo>
                  <a:pt x="4323" y="51"/>
                </a:lnTo>
                <a:lnTo>
                  <a:pt x="4415" y="7"/>
                </a:lnTo>
                <a:cubicBezTo>
                  <a:pt x="4425" y="2"/>
                  <a:pt x="4436" y="0"/>
                  <a:pt x="4447" y="0"/>
                </a:cubicBezTo>
                <a:lnTo>
                  <a:pt x="4460" y="0"/>
                </a:lnTo>
                <a:lnTo>
                  <a:pt x="4460" y="150"/>
                </a:lnTo>
                <a:lnTo>
                  <a:pt x="4447" y="150"/>
                </a:lnTo>
                <a:lnTo>
                  <a:pt x="4479" y="142"/>
                </a:lnTo>
                <a:lnTo>
                  <a:pt x="4388" y="186"/>
                </a:lnTo>
                <a:cubicBezTo>
                  <a:pt x="4384" y="188"/>
                  <a:pt x="4380" y="189"/>
                  <a:pt x="4376" y="191"/>
                </a:cubicBezTo>
                <a:lnTo>
                  <a:pt x="4342" y="201"/>
                </a:lnTo>
                <a:lnTo>
                  <a:pt x="4300" y="56"/>
                </a:lnTo>
                <a:close/>
                <a:moveTo>
                  <a:pt x="4635" y="44"/>
                </a:moveTo>
                <a:lnTo>
                  <a:pt x="4651" y="52"/>
                </a:lnTo>
                <a:lnTo>
                  <a:pt x="4736" y="87"/>
                </a:lnTo>
                <a:lnTo>
                  <a:pt x="4764" y="96"/>
                </a:lnTo>
                <a:lnTo>
                  <a:pt x="4716" y="238"/>
                </a:lnTo>
                <a:lnTo>
                  <a:pt x="4679" y="225"/>
                </a:lnTo>
                <a:lnTo>
                  <a:pt x="4582" y="185"/>
                </a:lnTo>
                <a:lnTo>
                  <a:pt x="4567" y="177"/>
                </a:lnTo>
                <a:lnTo>
                  <a:pt x="4635" y="44"/>
                </a:lnTo>
                <a:close/>
                <a:moveTo>
                  <a:pt x="4911" y="150"/>
                </a:moveTo>
                <a:lnTo>
                  <a:pt x="4953" y="169"/>
                </a:lnTo>
                <a:lnTo>
                  <a:pt x="4923" y="162"/>
                </a:lnTo>
                <a:lnTo>
                  <a:pt x="5008" y="162"/>
                </a:lnTo>
                <a:lnTo>
                  <a:pt x="4979" y="168"/>
                </a:lnTo>
                <a:lnTo>
                  <a:pt x="4997" y="161"/>
                </a:lnTo>
                <a:lnTo>
                  <a:pt x="5054" y="300"/>
                </a:lnTo>
                <a:lnTo>
                  <a:pt x="5036" y="307"/>
                </a:lnTo>
                <a:cubicBezTo>
                  <a:pt x="5027" y="310"/>
                  <a:pt x="5018" y="312"/>
                  <a:pt x="5008" y="312"/>
                </a:cubicBezTo>
                <a:lnTo>
                  <a:pt x="4923" y="312"/>
                </a:lnTo>
                <a:cubicBezTo>
                  <a:pt x="4913" y="312"/>
                  <a:pt x="4902" y="310"/>
                  <a:pt x="4893" y="306"/>
                </a:cubicBezTo>
                <a:lnTo>
                  <a:pt x="4850" y="287"/>
                </a:lnTo>
                <a:lnTo>
                  <a:pt x="4911" y="150"/>
                </a:lnTo>
                <a:close/>
                <a:moveTo>
                  <a:pt x="5127" y="101"/>
                </a:moveTo>
                <a:lnTo>
                  <a:pt x="5149" y="89"/>
                </a:lnTo>
                <a:lnTo>
                  <a:pt x="5247" y="49"/>
                </a:lnTo>
                <a:lnTo>
                  <a:pt x="5276" y="39"/>
                </a:lnTo>
                <a:lnTo>
                  <a:pt x="5324" y="181"/>
                </a:lnTo>
                <a:lnTo>
                  <a:pt x="5304" y="188"/>
                </a:lnTo>
                <a:lnTo>
                  <a:pt x="5218" y="223"/>
                </a:lnTo>
                <a:lnTo>
                  <a:pt x="5196" y="234"/>
                </a:lnTo>
                <a:lnTo>
                  <a:pt x="5127" y="101"/>
                </a:lnTo>
                <a:close/>
                <a:moveTo>
                  <a:pt x="5444" y="0"/>
                </a:moveTo>
                <a:lnTo>
                  <a:pt x="5490" y="0"/>
                </a:lnTo>
                <a:cubicBezTo>
                  <a:pt x="5502" y="0"/>
                  <a:pt x="5514" y="3"/>
                  <a:pt x="5525" y="8"/>
                </a:cubicBezTo>
                <a:lnTo>
                  <a:pt x="5609" y="52"/>
                </a:lnTo>
                <a:lnTo>
                  <a:pt x="5611" y="52"/>
                </a:lnTo>
                <a:lnTo>
                  <a:pt x="5554" y="191"/>
                </a:lnTo>
                <a:lnTo>
                  <a:pt x="5541" y="185"/>
                </a:lnTo>
                <a:lnTo>
                  <a:pt x="5456" y="141"/>
                </a:lnTo>
                <a:lnTo>
                  <a:pt x="5490" y="150"/>
                </a:lnTo>
                <a:lnTo>
                  <a:pt x="5444" y="150"/>
                </a:lnTo>
                <a:lnTo>
                  <a:pt x="5444" y="0"/>
                </a:lnTo>
                <a:close/>
                <a:moveTo>
                  <a:pt x="5761" y="143"/>
                </a:moveTo>
                <a:lnTo>
                  <a:pt x="5803" y="183"/>
                </a:lnTo>
                <a:lnTo>
                  <a:pt x="5751" y="162"/>
                </a:lnTo>
                <a:lnTo>
                  <a:pt x="5843" y="162"/>
                </a:lnTo>
                <a:lnTo>
                  <a:pt x="5843" y="312"/>
                </a:lnTo>
                <a:lnTo>
                  <a:pt x="5751" y="312"/>
                </a:lnTo>
                <a:cubicBezTo>
                  <a:pt x="5732" y="312"/>
                  <a:pt x="5713" y="305"/>
                  <a:pt x="5699" y="291"/>
                </a:cubicBezTo>
                <a:lnTo>
                  <a:pt x="5657" y="252"/>
                </a:lnTo>
                <a:lnTo>
                  <a:pt x="5761" y="143"/>
                </a:lnTo>
                <a:close/>
                <a:moveTo>
                  <a:pt x="5961" y="160"/>
                </a:moveTo>
                <a:lnTo>
                  <a:pt x="6027" y="131"/>
                </a:lnTo>
                <a:lnTo>
                  <a:pt x="6092" y="97"/>
                </a:lnTo>
                <a:lnTo>
                  <a:pt x="6161" y="231"/>
                </a:lnTo>
                <a:lnTo>
                  <a:pt x="6088" y="268"/>
                </a:lnTo>
                <a:lnTo>
                  <a:pt x="6022" y="298"/>
                </a:lnTo>
                <a:lnTo>
                  <a:pt x="5961" y="160"/>
                </a:lnTo>
                <a:close/>
                <a:moveTo>
                  <a:pt x="6229" y="36"/>
                </a:moveTo>
                <a:lnTo>
                  <a:pt x="6284" y="8"/>
                </a:lnTo>
                <a:cubicBezTo>
                  <a:pt x="6294" y="3"/>
                  <a:pt x="6306" y="0"/>
                  <a:pt x="6318" y="0"/>
                </a:cubicBezTo>
                <a:lnTo>
                  <a:pt x="6407" y="0"/>
                </a:lnTo>
                <a:lnTo>
                  <a:pt x="6407" y="150"/>
                </a:lnTo>
                <a:lnTo>
                  <a:pt x="6318" y="150"/>
                </a:lnTo>
                <a:lnTo>
                  <a:pt x="6353" y="141"/>
                </a:lnTo>
                <a:lnTo>
                  <a:pt x="6298" y="170"/>
                </a:lnTo>
                <a:lnTo>
                  <a:pt x="6229" y="36"/>
                </a:lnTo>
                <a:close/>
                <a:moveTo>
                  <a:pt x="6593" y="71"/>
                </a:moveTo>
                <a:lnTo>
                  <a:pt x="6675" y="144"/>
                </a:lnTo>
                <a:lnTo>
                  <a:pt x="6655" y="131"/>
                </a:lnTo>
                <a:lnTo>
                  <a:pt x="6692" y="148"/>
                </a:lnTo>
                <a:lnTo>
                  <a:pt x="6631" y="285"/>
                </a:lnTo>
                <a:lnTo>
                  <a:pt x="6594" y="268"/>
                </a:lnTo>
                <a:cubicBezTo>
                  <a:pt x="6587" y="265"/>
                  <a:pt x="6581" y="261"/>
                  <a:pt x="6575" y="256"/>
                </a:cubicBezTo>
                <a:lnTo>
                  <a:pt x="6493" y="183"/>
                </a:lnTo>
                <a:lnTo>
                  <a:pt x="6593" y="71"/>
                </a:lnTo>
                <a:close/>
                <a:moveTo>
                  <a:pt x="6807" y="162"/>
                </a:moveTo>
                <a:lnTo>
                  <a:pt x="6931" y="162"/>
                </a:lnTo>
                <a:lnTo>
                  <a:pt x="6931" y="312"/>
                </a:lnTo>
                <a:lnTo>
                  <a:pt x="6807" y="312"/>
                </a:lnTo>
                <a:lnTo>
                  <a:pt x="6807" y="162"/>
                </a:lnTo>
                <a:close/>
              </a:path>
            </a:pathLst>
          </a:custGeom>
          <a:solidFill>
            <a:srgbClr val="0000ff"/>
          </a:solidFill>
          <a:ln w="1440">
            <a:solidFill>
              <a:srgbClr val="0000ff"/>
            </a:solidFill>
            <a:beve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04" name=""/>
          <p:cNvSpPr/>
          <p:nvPr/>
        </p:nvSpPr>
        <p:spPr>
          <a:xfrm>
            <a:off x="2351160" y="2736720"/>
            <a:ext cx="2490840" cy="2319480"/>
          </a:xfrm>
          <a:custGeom>
            <a:avLst/>
            <a:gdLst/>
            <a:ahLst/>
            <a:rect l="l" t="t" r="r" b="b"/>
            <a:pathLst>
              <a:path w="1569" h="1461">
                <a:moveTo>
                  <a:pt x="0" y="1461"/>
                </a:moveTo>
                <a:lnTo>
                  <a:pt x="11" y="1091"/>
                </a:lnTo>
                <a:lnTo>
                  <a:pt x="23" y="656"/>
                </a:lnTo>
                <a:lnTo>
                  <a:pt x="34" y="279"/>
                </a:lnTo>
                <a:lnTo>
                  <a:pt x="51" y="129"/>
                </a:lnTo>
                <a:lnTo>
                  <a:pt x="62" y="242"/>
                </a:lnTo>
                <a:lnTo>
                  <a:pt x="74" y="446"/>
                </a:lnTo>
                <a:lnTo>
                  <a:pt x="85" y="500"/>
                </a:lnTo>
                <a:lnTo>
                  <a:pt x="96" y="322"/>
                </a:lnTo>
                <a:lnTo>
                  <a:pt x="108" y="102"/>
                </a:lnTo>
                <a:lnTo>
                  <a:pt x="125" y="0"/>
                </a:lnTo>
                <a:lnTo>
                  <a:pt x="135" y="80"/>
                </a:lnTo>
                <a:lnTo>
                  <a:pt x="147" y="307"/>
                </a:lnTo>
                <a:lnTo>
                  <a:pt x="158" y="548"/>
                </a:lnTo>
                <a:lnTo>
                  <a:pt x="169" y="602"/>
                </a:lnTo>
                <a:lnTo>
                  <a:pt x="186" y="435"/>
                </a:lnTo>
                <a:lnTo>
                  <a:pt x="198" y="220"/>
                </a:lnTo>
                <a:lnTo>
                  <a:pt x="209" y="123"/>
                </a:lnTo>
                <a:lnTo>
                  <a:pt x="221" y="188"/>
                </a:lnTo>
                <a:lnTo>
                  <a:pt x="232" y="381"/>
                </a:lnTo>
                <a:lnTo>
                  <a:pt x="243" y="580"/>
                </a:lnTo>
                <a:lnTo>
                  <a:pt x="260" y="623"/>
                </a:lnTo>
                <a:lnTo>
                  <a:pt x="272" y="478"/>
                </a:lnTo>
                <a:lnTo>
                  <a:pt x="283" y="290"/>
                </a:lnTo>
                <a:lnTo>
                  <a:pt x="294" y="199"/>
                </a:lnTo>
                <a:lnTo>
                  <a:pt x="306" y="247"/>
                </a:lnTo>
                <a:lnTo>
                  <a:pt x="323" y="409"/>
                </a:lnTo>
                <a:lnTo>
                  <a:pt x="334" y="575"/>
                </a:lnTo>
                <a:lnTo>
                  <a:pt x="346" y="618"/>
                </a:lnTo>
                <a:lnTo>
                  <a:pt x="357" y="500"/>
                </a:lnTo>
                <a:lnTo>
                  <a:pt x="368" y="339"/>
                </a:lnTo>
                <a:lnTo>
                  <a:pt x="380" y="253"/>
                </a:lnTo>
                <a:lnTo>
                  <a:pt x="396" y="290"/>
                </a:lnTo>
                <a:lnTo>
                  <a:pt x="408" y="419"/>
                </a:lnTo>
                <a:lnTo>
                  <a:pt x="419" y="559"/>
                </a:lnTo>
                <a:lnTo>
                  <a:pt x="430" y="602"/>
                </a:lnTo>
                <a:lnTo>
                  <a:pt x="441" y="511"/>
                </a:lnTo>
                <a:lnTo>
                  <a:pt x="458" y="381"/>
                </a:lnTo>
                <a:lnTo>
                  <a:pt x="470" y="301"/>
                </a:lnTo>
                <a:lnTo>
                  <a:pt x="481" y="317"/>
                </a:lnTo>
                <a:lnTo>
                  <a:pt x="492" y="419"/>
                </a:lnTo>
                <a:lnTo>
                  <a:pt x="504" y="537"/>
                </a:lnTo>
                <a:lnTo>
                  <a:pt x="515" y="580"/>
                </a:lnTo>
                <a:lnTo>
                  <a:pt x="532" y="521"/>
                </a:lnTo>
                <a:lnTo>
                  <a:pt x="544" y="414"/>
                </a:lnTo>
                <a:lnTo>
                  <a:pt x="555" y="339"/>
                </a:lnTo>
                <a:lnTo>
                  <a:pt x="566" y="339"/>
                </a:lnTo>
                <a:lnTo>
                  <a:pt x="578" y="419"/>
                </a:lnTo>
                <a:lnTo>
                  <a:pt x="595" y="516"/>
                </a:lnTo>
                <a:lnTo>
                  <a:pt x="606" y="564"/>
                </a:lnTo>
                <a:lnTo>
                  <a:pt x="618" y="526"/>
                </a:lnTo>
                <a:lnTo>
                  <a:pt x="629" y="435"/>
                </a:lnTo>
                <a:lnTo>
                  <a:pt x="640" y="366"/>
                </a:lnTo>
                <a:lnTo>
                  <a:pt x="652" y="360"/>
                </a:lnTo>
                <a:lnTo>
                  <a:pt x="669" y="414"/>
                </a:lnTo>
                <a:lnTo>
                  <a:pt x="680" y="494"/>
                </a:lnTo>
                <a:lnTo>
                  <a:pt x="691" y="543"/>
                </a:lnTo>
                <a:lnTo>
                  <a:pt x="702" y="526"/>
                </a:lnTo>
                <a:lnTo>
                  <a:pt x="713" y="457"/>
                </a:lnTo>
                <a:lnTo>
                  <a:pt x="730" y="392"/>
                </a:lnTo>
                <a:lnTo>
                  <a:pt x="742" y="376"/>
                </a:lnTo>
                <a:lnTo>
                  <a:pt x="753" y="414"/>
                </a:lnTo>
                <a:lnTo>
                  <a:pt x="764" y="478"/>
                </a:lnTo>
                <a:lnTo>
                  <a:pt x="776" y="526"/>
                </a:lnTo>
                <a:lnTo>
                  <a:pt x="787" y="521"/>
                </a:lnTo>
                <a:lnTo>
                  <a:pt x="804" y="473"/>
                </a:lnTo>
                <a:lnTo>
                  <a:pt x="816" y="419"/>
                </a:lnTo>
                <a:lnTo>
                  <a:pt x="827" y="392"/>
                </a:lnTo>
                <a:lnTo>
                  <a:pt x="838" y="414"/>
                </a:lnTo>
                <a:lnTo>
                  <a:pt x="850" y="467"/>
                </a:lnTo>
                <a:lnTo>
                  <a:pt x="867" y="511"/>
                </a:lnTo>
                <a:lnTo>
                  <a:pt x="878" y="516"/>
                </a:lnTo>
                <a:lnTo>
                  <a:pt x="889" y="483"/>
                </a:lnTo>
                <a:lnTo>
                  <a:pt x="901" y="435"/>
                </a:lnTo>
                <a:lnTo>
                  <a:pt x="912" y="409"/>
                </a:lnTo>
                <a:lnTo>
                  <a:pt x="924" y="419"/>
                </a:lnTo>
                <a:lnTo>
                  <a:pt x="941" y="457"/>
                </a:lnTo>
                <a:lnTo>
                  <a:pt x="952" y="494"/>
                </a:lnTo>
                <a:lnTo>
                  <a:pt x="963" y="511"/>
                </a:lnTo>
                <a:lnTo>
                  <a:pt x="974" y="489"/>
                </a:lnTo>
                <a:lnTo>
                  <a:pt x="985" y="452"/>
                </a:lnTo>
                <a:lnTo>
                  <a:pt x="1002" y="424"/>
                </a:lnTo>
                <a:lnTo>
                  <a:pt x="1014" y="424"/>
                </a:lnTo>
                <a:lnTo>
                  <a:pt x="1025" y="452"/>
                </a:lnTo>
                <a:lnTo>
                  <a:pt x="1036" y="483"/>
                </a:lnTo>
                <a:lnTo>
                  <a:pt x="1048" y="500"/>
                </a:lnTo>
                <a:lnTo>
                  <a:pt x="1059" y="489"/>
                </a:lnTo>
                <a:lnTo>
                  <a:pt x="1076" y="463"/>
                </a:lnTo>
                <a:lnTo>
                  <a:pt x="1087" y="435"/>
                </a:lnTo>
                <a:lnTo>
                  <a:pt x="1099" y="430"/>
                </a:lnTo>
                <a:lnTo>
                  <a:pt x="1110" y="446"/>
                </a:lnTo>
                <a:lnTo>
                  <a:pt x="1122" y="473"/>
                </a:lnTo>
                <a:lnTo>
                  <a:pt x="1139" y="494"/>
                </a:lnTo>
                <a:lnTo>
                  <a:pt x="1150" y="489"/>
                </a:lnTo>
                <a:lnTo>
                  <a:pt x="1161" y="467"/>
                </a:lnTo>
                <a:lnTo>
                  <a:pt x="1173" y="446"/>
                </a:lnTo>
                <a:lnTo>
                  <a:pt x="1184" y="435"/>
                </a:lnTo>
                <a:lnTo>
                  <a:pt x="1195" y="446"/>
                </a:lnTo>
                <a:lnTo>
                  <a:pt x="1213" y="467"/>
                </a:lnTo>
                <a:lnTo>
                  <a:pt x="1224" y="483"/>
                </a:lnTo>
                <a:lnTo>
                  <a:pt x="1235" y="489"/>
                </a:lnTo>
                <a:lnTo>
                  <a:pt x="1246" y="473"/>
                </a:lnTo>
                <a:lnTo>
                  <a:pt x="1257" y="457"/>
                </a:lnTo>
                <a:lnTo>
                  <a:pt x="1269" y="441"/>
                </a:lnTo>
                <a:lnTo>
                  <a:pt x="1285" y="446"/>
                </a:lnTo>
                <a:lnTo>
                  <a:pt x="1297" y="463"/>
                </a:lnTo>
                <a:lnTo>
                  <a:pt x="1308" y="478"/>
                </a:lnTo>
                <a:lnTo>
                  <a:pt x="1320" y="483"/>
                </a:lnTo>
                <a:lnTo>
                  <a:pt x="1331" y="478"/>
                </a:lnTo>
                <a:lnTo>
                  <a:pt x="1348" y="463"/>
                </a:lnTo>
                <a:lnTo>
                  <a:pt x="1359" y="452"/>
                </a:lnTo>
                <a:lnTo>
                  <a:pt x="1371" y="446"/>
                </a:lnTo>
                <a:lnTo>
                  <a:pt x="1382" y="457"/>
                </a:lnTo>
                <a:lnTo>
                  <a:pt x="1393" y="473"/>
                </a:lnTo>
                <a:lnTo>
                  <a:pt x="1405" y="483"/>
                </a:lnTo>
                <a:lnTo>
                  <a:pt x="1422" y="478"/>
                </a:lnTo>
                <a:lnTo>
                  <a:pt x="1433" y="467"/>
                </a:lnTo>
                <a:lnTo>
                  <a:pt x="1445" y="457"/>
                </a:lnTo>
                <a:lnTo>
                  <a:pt x="1456" y="452"/>
                </a:lnTo>
                <a:lnTo>
                  <a:pt x="1467" y="457"/>
                </a:lnTo>
                <a:lnTo>
                  <a:pt x="1484" y="467"/>
                </a:lnTo>
                <a:lnTo>
                  <a:pt x="1496" y="478"/>
                </a:lnTo>
                <a:lnTo>
                  <a:pt x="1507" y="478"/>
                </a:lnTo>
                <a:lnTo>
                  <a:pt x="1519" y="473"/>
                </a:lnTo>
                <a:lnTo>
                  <a:pt x="1530" y="463"/>
                </a:lnTo>
                <a:lnTo>
                  <a:pt x="1540" y="452"/>
                </a:lnTo>
                <a:lnTo>
                  <a:pt x="1557" y="457"/>
                </a:lnTo>
                <a:lnTo>
                  <a:pt x="1569" y="463"/>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4842000" y="3463920"/>
            <a:ext cx="1374480" cy="33480"/>
          </a:xfrm>
          <a:custGeom>
            <a:avLst/>
            <a:gdLst/>
            <a:ahLst/>
            <a:rect l="l" t="t" r="r" b="b"/>
            <a:pathLst>
              <a:path w="866" h="21">
                <a:moveTo>
                  <a:pt x="0" y="6"/>
                </a:moveTo>
                <a:lnTo>
                  <a:pt x="11" y="16"/>
                </a:lnTo>
                <a:lnTo>
                  <a:pt x="22" y="21"/>
                </a:lnTo>
                <a:lnTo>
                  <a:pt x="34" y="16"/>
                </a:lnTo>
                <a:lnTo>
                  <a:pt x="51" y="6"/>
                </a:lnTo>
                <a:lnTo>
                  <a:pt x="62" y="0"/>
                </a:lnTo>
                <a:lnTo>
                  <a:pt x="74" y="0"/>
                </a:lnTo>
                <a:lnTo>
                  <a:pt x="85" y="6"/>
                </a:lnTo>
                <a:lnTo>
                  <a:pt x="96" y="16"/>
                </a:lnTo>
                <a:lnTo>
                  <a:pt x="108" y="16"/>
                </a:lnTo>
                <a:lnTo>
                  <a:pt x="125" y="16"/>
                </a:lnTo>
                <a:lnTo>
                  <a:pt x="136" y="11"/>
                </a:lnTo>
                <a:lnTo>
                  <a:pt x="147" y="6"/>
                </a:lnTo>
                <a:lnTo>
                  <a:pt x="158" y="0"/>
                </a:lnTo>
                <a:lnTo>
                  <a:pt x="169" y="6"/>
                </a:lnTo>
                <a:lnTo>
                  <a:pt x="186" y="11"/>
                </a:lnTo>
                <a:lnTo>
                  <a:pt x="198" y="16"/>
                </a:lnTo>
                <a:lnTo>
                  <a:pt x="209" y="16"/>
                </a:lnTo>
                <a:lnTo>
                  <a:pt x="220" y="11"/>
                </a:lnTo>
                <a:lnTo>
                  <a:pt x="232" y="6"/>
                </a:lnTo>
                <a:lnTo>
                  <a:pt x="243" y="6"/>
                </a:lnTo>
                <a:lnTo>
                  <a:pt x="260" y="6"/>
                </a:lnTo>
                <a:lnTo>
                  <a:pt x="272" y="11"/>
                </a:lnTo>
                <a:lnTo>
                  <a:pt x="283" y="16"/>
                </a:lnTo>
                <a:lnTo>
                  <a:pt x="294" y="16"/>
                </a:lnTo>
                <a:lnTo>
                  <a:pt x="306" y="16"/>
                </a:lnTo>
                <a:lnTo>
                  <a:pt x="323" y="11"/>
                </a:lnTo>
                <a:lnTo>
                  <a:pt x="334" y="6"/>
                </a:lnTo>
                <a:lnTo>
                  <a:pt x="345" y="6"/>
                </a:lnTo>
                <a:lnTo>
                  <a:pt x="356" y="6"/>
                </a:lnTo>
                <a:lnTo>
                  <a:pt x="367" y="11"/>
                </a:lnTo>
                <a:lnTo>
                  <a:pt x="379" y="16"/>
                </a:lnTo>
                <a:lnTo>
                  <a:pt x="396" y="16"/>
                </a:lnTo>
                <a:lnTo>
                  <a:pt x="407" y="11"/>
                </a:lnTo>
                <a:lnTo>
                  <a:pt x="418" y="6"/>
                </a:lnTo>
                <a:lnTo>
                  <a:pt x="430" y="6"/>
                </a:lnTo>
                <a:lnTo>
                  <a:pt x="441" y="6"/>
                </a:lnTo>
                <a:lnTo>
                  <a:pt x="458" y="11"/>
                </a:lnTo>
                <a:lnTo>
                  <a:pt x="470" y="16"/>
                </a:lnTo>
                <a:lnTo>
                  <a:pt x="481" y="16"/>
                </a:lnTo>
                <a:lnTo>
                  <a:pt x="492" y="11"/>
                </a:lnTo>
                <a:lnTo>
                  <a:pt x="504" y="11"/>
                </a:lnTo>
                <a:lnTo>
                  <a:pt x="515" y="6"/>
                </a:lnTo>
                <a:lnTo>
                  <a:pt x="531" y="6"/>
                </a:lnTo>
                <a:lnTo>
                  <a:pt x="543" y="11"/>
                </a:lnTo>
                <a:lnTo>
                  <a:pt x="554" y="11"/>
                </a:lnTo>
                <a:lnTo>
                  <a:pt x="565" y="16"/>
                </a:lnTo>
                <a:lnTo>
                  <a:pt x="577" y="11"/>
                </a:lnTo>
                <a:lnTo>
                  <a:pt x="594" y="11"/>
                </a:lnTo>
                <a:lnTo>
                  <a:pt x="605" y="11"/>
                </a:lnTo>
                <a:lnTo>
                  <a:pt x="616" y="6"/>
                </a:lnTo>
                <a:lnTo>
                  <a:pt x="628" y="11"/>
                </a:lnTo>
                <a:lnTo>
                  <a:pt x="639" y="11"/>
                </a:lnTo>
                <a:lnTo>
                  <a:pt x="651" y="11"/>
                </a:lnTo>
                <a:lnTo>
                  <a:pt x="668" y="11"/>
                </a:lnTo>
                <a:lnTo>
                  <a:pt x="679" y="11"/>
                </a:lnTo>
                <a:lnTo>
                  <a:pt x="690" y="11"/>
                </a:lnTo>
                <a:lnTo>
                  <a:pt x="701" y="6"/>
                </a:lnTo>
                <a:lnTo>
                  <a:pt x="713" y="11"/>
                </a:lnTo>
                <a:lnTo>
                  <a:pt x="729" y="11"/>
                </a:lnTo>
                <a:lnTo>
                  <a:pt x="741" y="11"/>
                </a:lnTo>
                <a:lnTo>
                  <a:pt x="752" y="11"/>
                </a:lnTo>
                <a:lnTo>
                  <a:pt x="763" y="11"/>
                </a:lnTo>
                <a:lnTo>
                  <a:pt x="775" y="11"/>
                </a:lnTo>
                <a:lnTo>
                  <a:pt x="786" y="11"/>
                </a:lnTo>
                <a:lnTo>
                  <a:pt x="803" y="11"/>
                </a:lnTo>
                <a:lnTo>
                  <a:pt x="814" y="11"/>
                </a:lnTo>
                <a:lnTo>
                  <a:pt x="826" y="11"/>
                </a:lnTo>
                <a:lnTo>
                  <a:pt x="837" y="11"/>
                </a:lnTo>
                <a:lnTo>
                  <a:pt x="849" y="11"/>
                </a:lnTo>
                <a:lnTo>
                  <a:pt x="866" y="11"/>
                </a:lnTo>
              </a:path>
            </a:pathLst>
          </a:custGeom>
          <a:noFill/>
          <a:ln cap="rnd" w="14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6" name=""/>
          <p:cNvSpPr/>
          <p:nvPr/>
        </p:nvSpPr>
        <p:spPr>
          <a:xfrm>
            <a:off x="3643920" y="5905440"/>
            <a:ext cx="107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MHz</a:t>
            </a:r>
            <a:endParaRPr b="0" lang="en-US" sz="1200" spc="-1" strike="noStrike">
              <a:solidFill>
                <a:srgbClr val="000000"/>
              </a:solidFill>
              <a:latin typeface="Times New Roman"/>
            </a:endParaRPr>
          </a:p>
        </p:txBody>
      </p:sp>
      <p:sp>
        <p:nvSpPr>
          <p:cNvPr id="3007" name=""/>
          <p:cNvSpPr/>
          <p:nvPr/>
        </p:nvSpPr>
        <p:spPr>
          <a:xfrm rot="16200000">
            <a:off x="1527480" y="3760200"/>
            <a:ext cx="48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 b</a:t>
            </a:r>
            <a:endParaRPr b="0" lang="en-US" sz="1200" spc="-1" strike="noStrike">
              <a:solidFill>
                <a:srgbClr val="000000"/>
              </a:solidFill>
              <a:latin typeface="Times New Roman"/>
            </a:endParaRPr>
          </a:p>
        </p:txBody>
      </p:sp>
      <p:sp>
        <p:nvSpPr>
          <p:cNvPr id="3008" name=""/>
          <p:cNvSpPr/>
          <p:nvPr/>
        </p:nvSpPr>
        <p:spPr>
          <a:xfrm>
            <a:off x="2314440" y="2652840"/>
            <a:ext cx="3902040" cy="29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14440" y="2652840"/>
            <a:ext cx="3902040" cy="291600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14440" y="2652840"/>
            <a:ext cx="39020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a:off x="2314440" y="2652840"/>
            <a:ext cx="3902040" cy="2916000"/>
          </a:xfrm>
          <a:custGeom>
            <a:avLst/>
            <a:gdLst/>
            <a:ahLst/>
            <a:rect l="l" t="t" r="r" b="b"/>
            <a:pathLst>
              <a:path w="2458" h="1837">
                <a:moveTo>
                  <a:pt x="0" y="1837"/>
                </a:moveTo>
                <a:lnTo>
                  <a:pt x="2458" y="1837"/>
                </a:lnTo>
                <a:lnTo>
                  <a:pt x="2458"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flipV="1">
            <a:off x="2314440" y="2652840"/>
            <a:ext cx="1800" cy="291600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2314440" y="5568840"/>
            <a:ext cx="39020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4" name=""/>
          <p:cNvSpPr/>
          <p:nvPr/>
        </p:nvSpPr>
        <p:spPr>
          <a:xfrm flipV="1">
            <a:off x="231444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5" name=""/>
          <p:cNvSpPr/>
          <p:nvPr/>
        </p:nvSpPr>
        <p:spPr>
          <a:xfrm>
            <a:off x="231444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6" name=""/>
          <p:cNvSpPr/>
          <p:nvPr/>
        </p:nvSpPr>
        <p:spPr>
          <a:xfrm>
            <a:off x="2288520" y="5608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017" name=""/>
          <p:cNvSpPr/>
          <p:nvPr/>
        </p:nvSpPr>
        <p:spPr>
          <a:xfrm flipV="1">
            <a:off x="296244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8" name=""/>
          <p:cNvSpPr/>
          <p:nvPr/>
        </p:nvSpPr>
        <p:spPr>
          <a:xfrm>
            <a:off x="296244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9" name=""/>
          <p:cNvSpPr/>
          <p:nvPr/>
        </p:nvSpPr>
        <p:spPr>
          <a:xfrm>
            <a:off x="2934360" y="5608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020" name=""/>
          <p:cNvSpPr/>
          <p:nvPr/>
        </p:nvSpPr>
        <p:spPr>
          <a:xfrm flipV="1">
            <a:off x="361008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1" name=""/>
          <p:cNvSpPr/>
          <p:nvPr/>
        </p:nvSpPr>
        <p:spPr>
          <a:xfrm>
            <a:off x="361008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2" name=""/>
          <p:cNvSpPr/>
          <p:nvPr/>
        </p:nvSpPr>
        <p:spPr>
          <a:xfrm>
            <a:off x="354816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023" name=""/>
          <p:cNvSpPr/>
          <p:nvPr/>
        </p:nvSpPr>
        <p:spPr>
          <a:xfrm flipV="1">
            <a:off x="426564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4" name=""/>
          <p:cNvSpPr/>
          <p:nvPr/>
        </p:nvSpPr>
        <p:spPr>
          <a:xfrm>
            <a:off x="426564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5" name=""/>
          <p:cNvSpPr/>
          <p:nvPr/>
        </p:nvSpPr>
        <p:spPr>
          <a:xfrm>
            <a:off x="420084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026" name=""/>
          <p:cNvSpPr/>
          <p:nvPr/>
        </p:nvSpPr>
        <p:spPr>
          <a:xfrm flipV="1">
            <a:off x="491328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7" name=""/>
          <p:cNvSpPr/>
          <p:nvPr/>
        </p:nvSpPr>
        <p:spPr>
          <a:xfrm>
            <a:off x="491328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8" name=""/>
          <p:cNvSpPr/>
          <p:nvPr/>
        </p:nvSpPr>
        <p:spPr>
          <a:xfrm>
            <a:off x="484848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029" name=""/>
          <p:cNvSpPr/>
          <p:nvPr/>
        </p:nvSpPr>
        <p:spPr>
          <a:xfrm flipV="1">
            <a:off x="5559480" y="55256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0" name=""/>
          <p:cNvSpPr/>
          <p:nvPr/>
        </p:nvSpPr>
        <p:spPr>
          <a:xfrm>
            <a:off x="5559480" y="2652840"/>
            <a:ext cx="144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31" name=""/>
          <p:cNvSpPr/>
          <p:nvPr/>
        </p:nvSpPr>
        <p:spPr>
          <a:xfrm>
            <a:off x="549756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032" name=""/>
          <p:cNvSpPr/>
          <p:nvPr/>
        </p:nvSpPr>
        <p:spPr>
          <a:xfrm flipV="1">
            <a:off x="6216480" y="55256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3" name=""/>
          <p:cNvSpPr/>
          <p:nvPr/>
        </p:nvSpPr>
        <p:spPr>
          <a:xfrm>
            <a:off x="6216480" y="2652840"/>
            <a:ext cx="1800" cy="33120"/>
          </a:xfrm>
          <a:prstGeom prst="line">
            <a:avLst/>
          </a:prstGeom>
          <a:ln cap="rnd"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34" name=""/>
          <p:cNvSpPr/>
          <p:nvPr/>
        </p:nvSpPr>
        <p:spPr>
          <a:xfrm>
            <a:off x="6151680" y="560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035" name=""/>
          <p:cNvSpPr/>
          <p:nvPr/>
        </p:nvSpPr>
        <p:spPr>
          <a:xfrm>
            <a:off x="2314440" y="556884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6" name=""/>
          <p:cNvSpPr/>
          <p:nvPr/>
        </p:nvSpPr>
        <p:spPr>
          <a:xfrm flipH="1">
            <a:off x="6168960" y="556884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161440" y="550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038" name=""/>
          <p:cNvSpPr/>
          <p:nvPr/>
        </p:nvSpPr>
        <p:spPr>
          <a:xfrm>
            <a:off x="2314440" y="515160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flipH="1">
            <a:off x="6168960" y="515160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0" name=""/>
          <p:cNvSpPr/>
          <p:nvPr/>
        </p:nvSpPr>
        <p:spPr>
          <a:xfrm>
            <a:off x="2062440" y="5089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3041" name=""/>
          <p:cNvSpPr/>
          <p:nvPr/>
        </p:nvSpPr>
        <p:spPr>
          <a:xfrm>
            <a:off x="2314440" y="473544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2" name=""/>
          <p:cNvSpPr/>
          <p:nvPr/>
        </p:nvSpPr>
        <p:spPr>
          <a:xfrm flipH="1">
            <a:off x="6168960" y="473544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3" name=""/>
          <p:cNvSpPr/>
          <p:nvPr/>
        </p:nvSpPr>
        <p:spPr>
          <a:xfrm>
            <a:off x="2062440" y="4672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3044" name=""/>
          <p:cNvSpPr/>
          <p:nvPr/>
        </p:nvSpPr>
        <p:spPr>
          <a:xfrm>
            <a:off x="2314440" y="431640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5" name=""/>
          <p:cNvSpPr/>
          <p:nvPr/>
        </p:nvSpPr>
        <p:spPr>
          <a:xfrm flipH="1">
            <a:off x="6168960" y="431640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6" name=""/>
          <p:cNvSpPr/>
          <p:nvPr/>
        </p:nvSpPr>
        <p:spPr>
          <a:xfrm>
            <a:off x="2062440" y="4254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3047" name=""/>
          <p:cNvSpPr/>
          <p:nvPr/>
        </p:nvSpPr>
        <p:spPr>
          <a:xfrm>
            <a:off x="2314440" y="389880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flipH="1">
            <a:off x="6168960" y="389880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9" name=""/>
          <p:cNvSpPr/>
          <p:nvPr/>
        </p:nvSpPr>
        <p:spPr>
          <a:xfrm>
            <a:off x="2062440" y="3836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3050" name=""/>
          <p:cNvSpPr/>
          <p:nvPr/>
        </p:nvSpPr>
        <p:spPr>
          <a:xfrm>
            <a:off x="2314440" y="347976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1" name=""/>
          <p:cNvSpPr/>
          <p:nvPr/>
        </p:nvSpPr>
        <p:spPr>
          <a:xfrm flipH="1">
            <a:off x="6168960" y="347976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2" name=""/>
          <p:cNvSpPr/>
          <p:nvPr/>
        </p:nvSpPr>
        <p:spPr>
          <a:xfrm>
            <a:off x="216144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053" name=""/>
          <p:cNvSpPr/>
          <p:nvPr/>
        </p:nvSpPr>
        <p:spPr>
          <a:xfrm>
            <a:off x="2314440" y="3062160"/>
            <a:ext cx="36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flipH="1">
            <a:off x="6168960" y="3062160"/>
            <a:ext cx="475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5" name=""/>
          <p:cNvSpPr/>
          <p:nvPr/>
        </p:nvSpPr>
        <p:spPr>
          <a:xfrm>
            <a:off x="2062440" y="3000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3056" name=""/>
          <p:cNvSpPr/>
          <p:nvPr/>
        </p:nvSpPr>
        <p:spPr>
          <a:xfrm>
            <a:off x="2314440" y="2652840"/>
            <a:ext cx="367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7" name=""/>
          <p:cNvSpPr/>
          <p:nvPr/>
        </p:nvSpPr>
        <p:spPr>
          <a:xfrm flipH="1">
            <a:off x="6168960" y="2652840"/>
            <a:ext cx="475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8" name=""/>
          <p:cNvSpPr/>
          <p:nvPr/>
        </p:nvSpPr>
        <p:spPr>
          <a:xfrm>
            <a:off x="2062440" y="2590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3059" name=""/>
          <p:cNvSpPr/>
          <p:nvPr/>
        </p:nvSpPr>
        <p:spPr>
          <a:xfrm>
            <a:off x="2351160" y="2736720"/>
            <a:ext cx="2490840" cy="2319480"/>
          </a:xfrm>
          <a:custGeom>
            <a:avLst/>
            <a:gdLst/>
            <a:ahLst/>
            <a:rect l="l" t="t" r="r" b="b"/>
            <a:pathLst>
              <a:path w="1569" h="1461">
                <a:moveTo>
                  <a:pt x="0" y="1461"/>
                </a:moveTo>
                <a:lnTo>
                  <a:pt x="11" y="1091"/>
                </a:lnTo>
                <a:lnTo>
                  <a:pt x="23" y="656"/>
                </a:lnTo>
                <a:lnTo>
                  <a:pt x="34" y="279"/>
                </a:lnTo>
                <a:lnTo>
                  <a:pt x="51" y="129"/>
                </a:lnTo>
                <a:lnTo>
                  <a:pt x="62" y="242"/>
                </a:lnTo>
                <a:lnTo>
                  <a:pt x="74" y="446"/>
                </a:lnTo>
                <a:lnTo>
                  <a:pt x="85" y="500"/>
                </a:lnTo>
                <a:lnTo>
                  <a:pt x="96" y="322"/>
                </a:lnTo>
                <a:lnTo>
                  <a:pt x="108" y="102"/>
                </a:lnTo>
                <a:lnTo>
                  <a:pt x="125" y="0"/>
                </a:lnTo>
                <a:lnTo>
                  <a:pt x="135" y="80"/>
                </a:lnTo>
                <a:lnTo>
                  <a:pt x="147" y="307"/>
                </a:lnTo>
                <a:lnTo>
                  <a:pt x="158" y="548"/>
                </a:lnTo>
                <a:lnTo>
                  <a:pt x="169" y="602"/>
                </a:lnTo>
                <a:lnTo>
                  <a:pt x="186" y="435"/>
                </a:lnTo>
                <a:lnTo>
                  <a:pt x="198" y="220"/>
                </a:lnTo>
                <a:lnTo>
                  <a:pt x="209" y="123"/>
                </a:lnTo>
                <a:lnTo>
                  <a:pt x="221" y="188"/>
                </a:lnTo>
                <a:lnTo>
                  <a:pt x="232" y="381"/>
                </a:lnTo>
                <a:lnTo>
                  <a:pt x="243" y="580"/>
                </a:lnTo>
                <a:lnTo>
                  <a:pt x="260" y="623"/>
                </a:lnTo>
                <a:lnTo>
                  <a:pt x="272" y="478"/>
                </a:lnTo>
                <a:lnTo>
                  <a:pt x="283" y="290"/>
                </a:lnTo>
                <a:lnTo>
                  <a:pt x="294" y="199"/>
                </a:lnTo>
                <a:lnTo>
                  <a:pt x="306" y="247"/>
                </a:lnTo>
                <a:lnTo>
                  <a:pt x="323" y="409"/>
                </a:lnTo>
                <a:lnTo>
                  <a:pt x="334" y="575"/>
                </a:lnTo>
                <a:lnTo>
                  <a:pt x="346" y="618"/>
                </a:lnTo>
                <a:lnTo>
                  <a:pt x="357" y="500"/>
                </a:lnTo>
                <a:lnTo>
                  <a:pt x="368" y="339"/>
                </a:lnTo>
                <a:lnTo>
                  <a:pt x="380" y="253"/>
                </a:lnTo>
                <a:lnTo>
                  <a:pt x="396" y="290"/>
                </a:lnTo>
                <a:lnTo>
                  <a:pt x="408" y="419"/>
                </a:lnTo>
                <a:lnTo>
                  <a:pt x="419" y="559"/>
                </a:lnTo>
                <a:lnTo>
                  <a:pt x="430" y="602"/>
                </a:lnTo>
                <a:lnTo>
                  <a:pt x="441" y="511"/>
                </a:lnTo>
                <a:lnTo>
                  <a:pt x="458" y="381"/>
                </a:lnTo>
                <a:lnTo>
                  <a:pt x="470" y="301"/>
                </a:lnTo>
                <a:lnTo>
                  <a:pt x="481" y="317"/>
                </a:lnTo>
                <a:lnTo>
                  <a:pt x="492" y="419"/>
                </a:lnTo>
                <a:lnTo>
                  <a:pt x="504" y="537"/>
                </a:lnTo>
                <a:lnTo>
                  <a:pt x="515" y="580"/>
                </a:lnTo>
                <a:lnTo>
                  <a:pt x="532" y="521"/>
                </a:lnTo>
                <a:lnTo>
                  <a:pt x="544" y="414"/>
                </a:lnTo>
                <a:lnTo>
                  <a:pt x="555" y="339"/>
                </a:lnTo>
                <a:lnTo>
                  <a:pt x="566" y="339"/>
                </a:lnTo>
                <a:lnTo>
                  <a:pt x="578" y="419"/>
                </a:lnTo>
                <a:lnTo>
                  <a:pt x="595" y="516"/>
                </a:lnTo>
                <a:lnTo>
                  <a:pt x="606" y="564"/>
                </a:lnTo>
                <a:lnTo>
                  <a:pt x="618" y="526"/>
                </a:lnTo>
                <a:lnTo>
                  <a:pt x="629" y="435"/>
                </a:lnTo>
                <a:lnTo>
                  <a:pt x="640" y="366"/>
                </a:lnTo>
                <a:lnTo>
                  <a:pt x="652" y="360"/>
                </a:lnTo>
                <a:lnTo>
                  <a:pt x="669" y="414"/>
                </a:lnTo>
                <a:lnTo>
                  <a:pt x="680" y="494"/>
                </a:lnTo>
                <a:lnTo>
                  <a:pt x="691" y="543"/>
                </a:lnTo>
                <a:lnTo>
                  <a:pt x="702" y="526"/>
                </a:lnTo>
                <a:lnTo>
                  <a:pt x="713" y="457"/>
                </a:lnTo>
                <a:lnTo>
                  <a:pt x="730" y="392"/>
                </a:lnTo>
                <a:lnTo>
                  <a:pt x="742" y="376"/>
                </a:lnTo>
                <a:lnTo>
                  <a:pt x="753" y="414"/>
                </a:lnTo>
                <a:lnTo>
                  <a:pt x="764" y="478"/>
                </a:lnTo>
                <a:lnTo>
                  <a:pt x="776" y="526"/>
                </a:lnTo>
                <a:lnTo>
                  <a:pt x="787" y="521"/>
                </a:lnTo>
                <a:lnTo>
                  <a:pt x="804" y="473"/>
                </a:lnTo>
                <a:lnTo>
                  <a:pt x="816" y="419"/>
                </a:lnTo>
                <a:lnTo>
                  <a:pt x="827" y="392"/>
                </a:lnTo>
                <a:lnTo>
                  <a:pt x="838" y="414"/>
                </a:lnTo>
                <a:lnTo>
                  <a:pt x="850" y="467"/>
                </a:lnTo>
                <a:lnTo>
                  <a:pt x="867" y="511"/>
                </a:lnTo>
                <a:lnTo>
                  <a:pt x="878" y="516"/>
                </a:lnTo>
                <a:lnTo>
                  <a:pt x="889" y="483"/>
                </a:lnTo>
                <a:lnTo>
                  <a:pt x="901" y="435"/>
                </a:lnTo>
                <a:lnTo>
                  <a:pt x="912" y="409"/>
                </a:lnTo>
                <a:lnTo>
                  <a:pt x="924" y="419"/>
                </a:lnTo>
                <a:lnTo>
                  <a:pt x="941" y="457"/>
                </a:lnTo>
                <a:lnTo>
                  <a:pt x="952" y="494"/>
                </a:lnTo>
                <a:lnTo>
                  <a:pt x="963" y="511"/>
                </a:lnTo>
                <a:lnTo>
                  <a:pt x="974" y="489"/>
                </a:lnTo>
                <a:lnTo>
                  <a:pt x="985" y="452"/>
                </a:lnTo>
                <a:lnTo>
                  <a:pt x="1002" y="424"/>
                </a:lnTo>
                <a:lnTo>
                  <a:pt x="1014" y="424"/>
                </a:lnTo>
                <a:lnTo>
                  <a:pt x="1025" y="452"/>
                </a:lnTo>
                <a:lnTo>
                  <a:pt x="1036" y="483"/>
                </a:lnTo>
                <a:lnTo>
                  <a:pt x="1048" y="500"/>
                </a:lnTo>
                <a:lnTo>
                  <a:pt x="1059" y="489"/>
                </a:lnTo>
                <a:lnTo>
                  <a:pt x="1076" y="463"/>
                </a:lnTo>
                <a:lnTo>
                  <a:pt x="1087" y="435"/>
                </a:lnTo>
                <a:lnTo>
                  <a:pt x="1099" y="430"/>
                </a:lnTo>
                <a:lnTo>
                  <a:pt x="1110" y="446"/>
                </a:lnTo>
                <a:lnTo>
                  <a:pt x="1122" y="473"/>
                </a:lnTo>
                <a:lnTo>
                  <a:pt x="1139" y="494"/>
                </a:lnTo>
                <a:lnTo>
                  <a:pt x="1150" y="489"/>
                </a:lnTo>
                <a:lnTo>
                  <a:pt x="1161" y="467"/>
                </a:lnTo>
                <a:lnTo>
                  <a:pt x="1173" y="446"/>
                </a:lnTo>
                <a:lnTo>
                  <a:pt x="1184" y="435"/>
                </a:lnTo>
                <a:lnTo>
                  <a:pt x="1195" y="446"/>
                </a:lnTo>
                <a:lnTo>
                  <a:pt x="1213" y="467"/>
                </a:lnTo>
                <a:lnTo>
                  <a:pt x="1224" y="483"/>
                </a:lnTo>
                <a:lnTo>
                  <a:pt x="1235" y="489"/>
                </a:lnTo>
                <a:lnTo>
                  <a:pt x="1246" y="473"/>
                </a:lnTo>
                <a:lnTo>
                  <a:pt x="1257" y="457"/>
                </a:lnTo>
                <a:lnTo>
                  <a:pt x="1269" y="441"/>
                </a:lnTo>
                <a:lnTo>
                  <a:pt x="1285" y="446"/>
                </a:lnTo>
                <a:lnTo>
                  <a:pt x="1297" y="463"/>
                </a:lnTo>
                <a:lnTo>
                  <a:pt x="1308" y="478"/>
                </a:lnTo>
                <a:lnTo>
                  <a:pt x="1320" y="483"/>
                </a:lnTo>
                <a:lnTo>
                  <a:pt x="1331" y="478"/>
                </a:lnTo>
                <a:lnTo>
                  <a:pt x="1348" y="463"/>
                </a:lnTo>
                <a:lnTo>
                  <a:pt x="1359" y="452"/>
                </a:lnTo>
                <a:lnTo>
                  <a:pt x="1371" y="446"/>
                </a:lnTo>
                <a:lnTo>
                  <a:pt x="1382" y="457"/>
                </a:lnTo>
                <a:lnTo>
                  <a:pt x="1393" y="473"/>
                </a:lnTo>
                <a:lnTo>
                  <a:pt x="1405" y="483"/>
                </a:lnTo>
                <a:lnTo>
                  <a:pt x="1422" y="478"/>
                </a:lnTo>
                <a:lnTo>
                  <a:pt x="1433" y="467"/>
                </a:lnTo>
                <a:lnTo>
                  <a:pt x="1445" y="457"/>
                </a:lnTo>
                <a:lnTo>
                  <a:pt x="1456" y="452"/>
                </a:lnTo>
                <a:lnTo>
                  <a:pt x="1467" y="457"/>
                </a:lnTo>
                <a:lnTo>
                  <a:pt x="1484" y="467"/>
                </a:lnTo>
                <a:lnTo>
                  <a:pt x="1496" y="478"/>
                </a:lnTo>
                <a:lnTo>
                  <a:pt x="1507" y="478"/>
                </a:lnTo>
                <a:lnTo>
                  <a:pt x="1519" y="473"/>
                </a:lnTo>
                <a:lnTo>
                  <a:pt x="1530" y="463"/>
                </a:lnTo>
                <a:lnTo>
                  <a:pt x="1540" y="452"/>
                </a:lnTo>
                <a:lnTo>
                  <a:pt x="1557" y="457"/>
                </a:lnTo>
                <a:lnTo>
                  <a:pt x="1569" y="463"/>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4842000" y="3463920"/>
            <a:ext cx="1374480" cy="33480"/>
          </a:xfrm>
          <a:custGeom>
            <a:avLst/>
            <a:gdLst/>
            <a:ahLst/>
            <a:rect l="l" t="t" r="r" b="b"/>
            <a:pathLst>
              <a:path w="866" h="21">
                <a:moveTo>
                  <a:pt x="0" y="6"/>
                </a:moveTo>
                <a:lnTo>
                  <a:pt x="11" y="16"/>
                </a:lnTo>
                <a:lnTo>
                  <a:pt x="22" y="21"/>
                </a:lnTo>
                <a:lnTo>
                  <a:pt x="34" y="16"/>
                </a:lnTo>
                <a:lnTo>
                  <a:pt x="51" y="6"/>
                </a:lnTo>
                <a:lnTo>
                  <a:pt x="62" y="0"/>
                </a:lnTo>
                <a:lnTo>
                  <a:pt x="74" y="0"/>
                </a:lnTo>
                <a:lnTo>
                  <a:pt x="85" y="6"/>
                </a:lnTo>
                <a:lnTo>
                  <a:pt x="96" y="16"/>
                </a:lnTo>
                <a:lnTo>
                  <a:pt x="108" y="16"/>
                </a:lnTo>
                <a:lnTo>
                  <a:pt x="125" y="16"/>
                </a:lnTo>
                <a:lnTo>
                  <a:pt x="136" y="11"/>
                </a:lnTo>
                <a:lnTo>
                  <a:pt x="147" y="6"/>
                </a:lnTo>
                <a:lnTo>
                  <a:pt x="158" y="0"/>
                </a:lnTo>
                <a:lnTo>
                  <a:pt x="169" y="6"/>
                </a:lnTo>
                <a:lnTo>
                  <a:pt x="186" y="11"/>
                </a:lnTo>
                <a:lnTo>
                  <a:pt x="198" y="16"/>
                </a:lnTo>
                <a:lnTo>
                  <a:pt x="209" y="16"/>
                </a:lnTo>
                <a:lnTo>
                  <a:pt x="220" y="11"/>
                </a:lnTo>
                <a:lnTo>
                  <a:pt x="232" y="6"/>
                </a:lnTo>
                <a:lnTo>
                  <a:pt x="243" y="6"/>
                </a:lnTo>
                <a:lnTo>
                  <a:pt x="260" y="6"/>
                </a:lnTo>
                <a:lnTo>
                  <a:pt x="272" y="11"/>
                </a:lnTo>
                <a:lnTo>
                  <a:pt x="283" y="16"/>
                </a:lnTo>
                <a:lnTo>
                  <a:pt x="294" y="16"/>
                </a:lnTo>
                <a:lnTo>
                  <a:pt x="306" y="16"/>
                </a:lnTo>
                <a:lnTo>
                  <a:pt x="323" y="11"/>
                </a:lnTo>
                <a:lnTo>
                  <a:pt x="334" y="6"/>
                </a:lnTo>
                <a:lnTo>
                  <a:pt x="345" y="6"/>
                </a:lnTo>
                <a:lnTo>
                  <a:pt x="356" y="6"/>
                </a:lnTo>
                <a:lnTo>
                  <a:pt x="367" y="11"/>
                </a:lnTo>
                <a:lnTo>
                  <a:pt x="379" y="16"/>
                </a:lnTo>
                <a:lnTo>
                  <a:pt x="396" y="16"/>
                </a:lnTo>
                <a:lnTo>
                  <a:pt x="407" y="11"/>
                </a:lnTo>
                <a:lnTo>
                  <a:pt x="418" y="6"/>
                </a:lnTo>
                <a:lnTo>
                  <a:pt x="430" y="6"/>
                </a:lnTo>
                <a:lnTo>
                  <a:pt x="441" y="6"/>
                </a:lnTo>
                <a:lnTo>
                  <a:pt x="458" y="11"/>
                </a:lnTo>
                <a:lnTo>
                  <a:pt x="470" y="16"/>
                </a:lnTo>
                <a:lnTo>
                  <a:pt x="481" y="16"/>
                </a:lnTo>
                <a:lnTo>
                  <a:pt x="492" y="11"/>
                </a:lnTo>
                <a:lnTo>
                  <a:pt x="504" y="11"/>
                </a:lnTo>
                <a:lnTo>
                  <a:pt x="515" y="6"/>
                </a:lnTo>
                <a:lnTo>
                  <a:pt x="531" y="6"/>
                </a:lnTo>
                <a:lnTo>
                  <a:pt x="543" y="11"/>
                </a:lnTo>
                <a:lnTo>
                  <a:pt x="554" y="11"/>
                </a:lnTo>
                <a:lnTo>
                  <a:pt x="565" y="16"/>
                </a:lnTo>
                <a:lnTo>
                  <a:pt x="577" y="11"/>
                </a:lnTo>
                <a:lnTo>
                  <a:pt x="594" y="11"/>
                </a:lnTo>
                <a:lnTo>
                  <a:pt x="605" y="11"/>
                </a:lnTo>
                <a:lnTo>
                  <a:pt x="616" y="6"/>
                </a:lnTo>
                <a:lnTo>
                  <a:pt x="628" y="11"/>
                </a:lnTo>
                <a:lnTo>
                  <a:pt x="639" y="11"/>
                </a:lnTo>
                <a:lnTo>
                  <a:pt x="651" y="11"/>
                </a:lnTo>
                <a:lnTo>
                  <a:pt x="668" y="11"/>
                </a:lnTo>
                <a:lnTo>
                  <a:pt x="679" y="11"/>
                </a:lnTo>
                <a:lnTo>
                  <a:pt x="690" y="11"/>
                </a:lnTo>
                <a:lnTo>
                  <a:pt x="701" y="6"/>
                </a:lnTo>
                <a:lnTo>
                  <a:pt x="713" y="11"/>
                </a:lnTo>
                <a:lnTo>
                  <a:pt x="729" y="11"/>
                </a:lnTo>
                <a:lnTo>
                  <a:pt x="741" y="11"/>
                </a:lnTo>
                <a:lnTo>
                  <a:pt x="752" y="11"/>
                </a:lnTo>
                <a:lnTo>
                  <a:pt x="763" y="11"/>
                </a:lnTo>
                <a:lnTo>
                  <a:pt x="775" y="11"/>
                </a:lnTo>
                <a:lnTo>
                  <a:pt x="786" y="11"/>
                </a:lnTo>
                <a:lnTo>
                  <a:pt x="803" y="11"/>
                </a:lnTo>
                <a:lnTo>
                  <a:pt x="814" y="11"/>
                </a:lnTo>
                <a:lnTo>
                  <a:pt x="826" y="11"/>
                </a:lnTo>
                <a:lnTo>
                  <a:pt x="837" y="11"/>
                </a:lnTo>
                <a:lnTo>
                  <a:pt x="849" y="11"/>
                </a:lnTo>
                <a:lnTo>
                  <a:pt x="866" y="11"/>
                </a:lnTo>
              </a:path>
            </a:pathLst>
          </a:custGeom>
          <a:noFill/>
          <a:ln cap="rnd" w="284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1" name=""/>
          <p:cNvSpPr/>
          <p:nvPr/>
        </p:nvSpPr>
        <p:spPr>
          <a:xfrm>
            <a:off x="3643920" y="5905440"/>
            <a:ext cx="107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MHz</a:t>
            </a:r>
            <a:endParaRPr b="0" lang="en-US" sz="1200" spc="-1" strike="noStrike">
              <a:solidFill>
                <a:srgbClr val="000000"/>
              </a:solidFill>
              <a:latin typeface="Times New Roman"/>
            </a:endParaRPr>
          </a:p>
        </p:txBody>
      </p:sp>
      <p:sp>
        <p:nvSpPr>
          <p:cNvPr id="3062" name=""/>
          <p:cNvSpPr/>
          <p:nvPr/>
        </p:nvSpPr>
        <p:spPr>
          <a:xfrm rot="16200000">
            <a:off x="1527480" y="3760200"/>
            <a:ext cx="48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 b</a:t>
            </a:r>
            <a:endParaRPr b="0" lang="en-US" sz="1200" spc="-1" strike="noStrike">
              <a:solidFill>
                <a:srgbClr val="000000"/>
              </a:solidFill>
              <a:latin typeface="Times New Roman"/>
            </a:endParaRPr>
          </a:p>
        </p:txBody>
      </p:sp>
      <p:sp>
        <p:nvSpPr>
          <p:cNvPr id="3063" name=""/>
          <p:cNvSpPr/>
          <p:nvPr/>
        </p:nvSpPr>
        <p:spPr>
          <a:xfrm>
            <a:off x="1039680" y="1033560"/>
            <a:ext cx="774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rmalized P-wave pulse-echo scattering amplitude 2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spherical void of radius 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306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380880" y="1143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is separation of variables solutions at many frequencies to synthesize a  P-wave  impulse time domain solution (pulse-echo)</a:t>
            </a:r>
            <a:endParaRPr b="0" lang="en-US" sz="2400" spc="-1" strike="noStrike">
              <a:solidFill>
                <a:srgbClr val="000000"/>
              </a:solidFill>
              <a:latin typeface="Times New Roman"/>
            </a:endParaRPr>
          </a:p>
        </p:txBody>
      </p:sp>
      <p:sp>
        <p:nvSpPr>
          <p:cNvPr id="3067" name=""/>
          <p:cNvSpPr/>
          <p:nvPr/>
        </p:nvSpPr>
        <p:spPr>
          <a:xfrm>
            <a:off x="781200" y="5867280"/>
            <a:ext cx="7675560" cy="66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domain pulse-echo P-wave response of a 0.5 mm radius spherical void in steel ( c</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 5900 m/s, c</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3200  m/se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ed by applying a low-pass cosine-squared windowing filter between 10 and 20 MHz to the separ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variables solution and then inverting the result into the time domain with the inverse Fourier transform.</a:t>
            </a:r>
            <a:endParaRPr b="0" lang="en-US" sz="1200" spc="-1" strike="noStrike">
              <a:solidFill>
                <a:srgbClr val="000000"/>
              </a:solidFill>
              <a:latin typeface="Times New Roman"/>
            </a:endParaRPr>
          </a:p>
        </p:txBody>
      </p:sp>
      <p:sp>
        <p:nvSpPr>
          <p:cNvPr id="3068" name=""/>
          <p:cNvSpPr/>
          <p:nvPr/>
        </p:nvSpPr>
        <p:spPr>
          <a:xfrm>
            <a:off x="4150080" y="5504040"/>
            <a:ext cx="30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a:t>
            </a:r>
            <a:endParaRPr b="0" lang="en-US" sz="1000" spc="-1" strike="noStrike">
              <a:solidFill>
                <a:srgbClr val="000000"/>
              </a:solidFill>
              <a:latin typeface="Times New Roman"/>
            </a:endParaRPr>
          </a:p>
        </p:txBody>
      </p:sp>
      <p:sp>
        <p:nvSpPr>
          <p:cNvPr id="3069" name=""/>
          <p:cNvSpPr/>
          <p:nvPr/>
        </p:nvSpPr>
        <p:spPr>
          <a:xfrm>
            <a:off x="4460400" y="549108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070" name=""/>
          <p:cNvSpPr/>
          <p:nvPr/>
        </p:nvSpPr>
        <p:spPr>
          <a:xfrm>
            <a:off x="4529880" y="550404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a:t>
            </a:r>
            <a:endParaRPr b="0" lang="en-US" sz="1000" spc="-1" strike="noStrike">
              <a:solidFill>
                <a:srgbClr val="000000"/>
              </a:solidFill>
              <a:latin typeface="Times New Roman"/>
            </a:endParaRPr>
          </a:p>
        </p:txBody>
      </p:sp>
      <p:sp>
        <p:nvSpPr>
          <p:cNvPr id="3071" name=""/>
          <p:cNvSpPr/>
          <p:nvPr/>
        </p:nvSpPr>
        <p:spPr>
          <a:xfrm rot="16200000">
            <a:off x="2444760" y="373284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3072" name=""/>
          <p:cNvSpPr/>
          <p:nvPr/>
        </p:nvSpPr>
        <p:spPr>
          <a:xfrm>
            <a:off x="3068640" y="2649600"/>
            <a:ext cx="3159000" cy="249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3068640" y="2649600"/>
            <a:ext cx="3159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4" name=""/>
          <p:cNvSpPr/>
          <p:nvPr/>
        </p:nvSpPr>
        <p:spPr>
          <a:xfrm>
            <a:off x="3068640" y="2649600"/>
            <a:ext cx="3159000" cy="2492280"/>
          </a:xfrm>
          <a:custGeom>
            <a:avLst/>
            <a:gdLst/>
            <a:ahLst/>
            <a:rect l="l" t="t" r="r" b="b"/>
            <a:pathLst>
              <a:path w="1990" h="1570">
                <a:moveTo>
                  <a:pt x="0" y="1570"/>
                </a:moveTo>
                <a:lnTo>
                  <a:pt x="1990" y="1570"/>
                </a:lnTo>
                <a:lnTo>
                  <a:pt x="19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flipV="1">
            <a:off x="3068640" y="2649240"/>
            <a:ext cx="1440" cy="2492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flipV="1">
            <a:off x="3068640" y="5105160"/>
            <a:ext cx="144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7" name=""/>
          <p:cNvSpPr/>
          <p:nvPr/>
        </p:nvSpPr>
        <p:spPr>
          <a:xfrm>
            <a:off x="3068640" y="264960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78" name=""/>
          <p:cNvSpPr/>
          <p:nvPr/>
        </p:nvSpPr>
        <p:spPr>
          <a:xfrm>
            <a:off x="3012840" y="5213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79" name=""/>
          <p:cNvSpPr/>
          <p:nvPr/>
        </p:nvSpPr>
        <p:spPr>
          <a:xfrm>
            <a:off x="305388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080" name=""/>
          <p:cNvSpPr/>
          <p:nvPr/>
        </p:nvSpPr>
        <p:spPr>
          <a:xfrm flipV="1">
            <a:off x="369396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1" name=""/>
          <p:cNvSpPr/>
          <p:nvPr/>
        </p:nvSpPr>
        <p:spPr>
          <a:xfrm>
            <a:off x="369396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2" name=""/>
          <p:cNvSpPr/>
          <p:nvPr/>
        </p:nvSpPr>
        <p:spPr>
          <a:xfrm>
            <a:off x="3595320" y="5213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83" name=""/>
          <p:cNvSpPr/>
          <p:nvPr/>
        </p:nvSpPr>
        <p:spPr>
          <a:xfrm>
            <a:off x="363636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3084" name=""/>
          <p:cNvSpPr/>
          <p:nvPr/>
        </p:nvSpPr>
        <p:spPr>
          <a:xfrm flipV="1">
            <a:off x="432900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5" name=""/>
          <p:cNvSpPr/>
          <p:nvPr/>
        </p:nvSpPr>
        <p:spPr>
          <a:xfrm>
            <a:off x="432900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6" name=""/>
          <p:cNvSpPr/>
          <p:nvPr/>
        </p:nvSpPr>
        <p:spPr>
          <a:xfrm>
            <a:off x="430164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087" name=""/>
          <p:cNvSpPr/>
          <p:nvPr/>
        </p:nvSpPr>
        <p:spPr>
          <a:xfrm flipV="1">
            <a:off x="4962600" y="5105160"/>
            <a:ext cx="144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8" name=""/>
          <p:cNvSpPr/>
          <p:nvPr/>
        </p:nvSpPr>
        <p:spPr>
          <a:xfrm>
            <a:off x="4962600" y="264960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9" name=""/>
          <p:cNvSpPr/>
          <p:nvPr/>
        </p:nvSpPr>
        <p:spPr>
          <a:xfrm>
            <a:off x="489204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3090" name=""/>
          <p:cNvSpPr/>
          <p:nvPr/>
        </p:nvSpPr>
        <p:spPr>
          <a:xfrm flipV="1">
            <a:off x="559584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1" name=""/>
          <p:cNvSpPr/>
          <p:nvPr/>
        </p:nvSpPr>
        <p:spPr>
          <a:xfrm>
            <a:off x="559584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92" name=""/>
          <p:cNvSpPr/>
          <p:nvPr/>
        </p:nvSpPr>
        <p:spPr>
          <a:xfrm>
            <a:off x="556848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093" name=""/>
          <p:cNvSpPr/>
          <p:nvPr/>
        </p:nvSpPr>
        <p:spPr>
          <a:xfrm flipV="1">
            <a:off x="622764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4" name=""/>
          <p:cNvSpPr/>
          <p:nvPr/>
        </p:nvSpPr>
        <p:spPr>
          <a:xfrm>
            <a:off x="622764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95" name=""/>
          <p:cNvSpPr/>
          <p:nvPr/>
        </p:nvSpPr>
        <p:spPr>
          <a:xfrm>
            <a:off x="615888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096" name=""/>
          <p:cNvSpPr/>
          <p:nvPr/>
        </p:nvSpPr>
        <p:spPr>
          <a:xfrm>
            <a:off x="3068640" y="514188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7" name=""/>
          <p:cNvSpPr/>
          <p:nvPr/>
        </p:nvSpPr>
        <p:spPr>
          <a:xfrm flipH="1">
            <a:off x="6190920" y="514188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8" name=""/>
          <p:cNvSpPr/>
          <p:nvPr/>
        </p:nvSpPr>
        <p:spPr>
          <a:xfrm>
            <a:off x="2841120" y="5092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99" name=""/>
          <p:cNvSpPr/>
          <p:nvPr/>
        </p:nvSpPr>
        <p:spPr>
          <a:xfrm>
            <a:off x="2883960" y="5092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100" name=""/>
          <p:cNvSpPr/>
          <p:nvPr/>
        </p:nvSpPr>
        <p:spPr>
          <a:xfrm>
            <a:off x="3068640" y="48639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flipH="1">
            <a:off x="6190920" y="486396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2" name=""/>
          <p:cNvSpPr/>
          <p:nvPr/>
        </p:nvSpPr>
        <p:spPr>
          <a:xfrm>
            <a:off x="3068640" y="458784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flipH="1">
            <a:off x="6190920" y="458784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4" name=""/>
          <p:cNvSpPr/>
          <p:nvPr/>
        </p:nvSpPr>
        <p:spPr>
          <a:xfrm>
            <a:off x="2893680" y="4538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05" name=""/>
          <p:cNvSpPr/>
          <p:nvPr/>
        </p:nvSpPr>
        <p:spPr>
          <a:xfrm>
            <a:off x="2936520" y="4538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106" name=""/>
          <p:cNvSpPr/>
          <p:nvPr/>
        </p:nvSpPr>
        <p:spPr>
          <a:xfrm>
            <a:off x="3068640" y="43117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flipH="1">
            <a:off x="6190920" y="431172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8" name=""/>
          <p:cNvSpPr/>
          <p:nvPr/>
        </p:nvSpPr>
        <p:spPr>
          <a:xfrm>
            <a:off x="3068640" y="403380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9" name=""/>
          <p:cNvSpPr/>
          <p:nvPr/>
        </p:nvSpPr>
        <p:spPr>
          <a:xfrm flipH="1">
            <a:off x="6190920" y="403380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0" name=""/>
          <p:cNvSpPr/>
          <p:nvPr/>
        </p:nvSpPr>
        <p:spPr>
          <a:xfrm>
            <a:off x="2893680" y="3984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11" name=""/>
          <p:cNvSpPr/>
          <p:nvPr/>
        </p:nvSpPr>
        <p:spPr>
          <a:xfrm>
            <a:off x="2936520" y="3984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112" name=""/>
          <p:cNvSpPr/>
          <p:nvPr/>
        </p:nvSpPr>
        <p:spPr>
          <a:xfrm>
            <a:off x="3068640" y="375768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3" name=""/>
          <p:cNvSpPr/>
          <p:nvPr/>
        </p:nvSpPr>
        <p:spPr>
          <a:xfrm flipH="1">
            <a:off x="6190920" y="375768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4" name=""/>
          <p:cNvSpPr/>
          <p:nvPr/>
        </p:nvSpPr>
        <p:spPr>
          <a:xfrm>
            <a:off x="3068640" y="3479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5" name=""/>
          <p:cNvSpPr/>
          <p:nvPr/>
        </p:nvSpPr>
        <p:spPr>
          <a:xfrm flipH="1">
            <a:off x="6190920" y="347976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6" name=""/>
          <p:cNvSpPr/>
          <p:nvPr/>
        </p:nvSpPr>
        <p:spPr>
          <a:xfrm>
            <a:off x="2922120" y="3430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117" name=""/>
          <p:cNvSpPr/>
          <p:nvPr/>
        </p:nvSpPr>
        <p:spPr>
          <a:xfrm>
            <a:off x="3068640" y="320364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flipH="1">
            <a:off x="6190920" y="320364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9" name=""/>
          <p:cNvSpPr/>
          <p:nvPr/>
        </p:nvSpPr>
        <p:spPr>
          <a:xfrm>
            <a:off x="3068640" y="292572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0" name=""/>
          <p:cNvSpPr/>
          <p:nvPr/>
        </p:nvSpPr>
        <p:spPr>
          <a:xfrm flipH="1">
            <a:off x="6190920" y="292572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1" name=""/>
          <p:cNvSpPr/>
          <p:nvPr/>
        </p:nvSpPr>
        <p:spPr>
          <a:xfrm>
            <a:off x="3068640" y="264960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2" name=""/>
          <p:cNvSpPr/>
          <p:nvPr/>
        </p:nvSpPr>
        <p:spPr>
          <a:xfrm flipH="1">
            <a:off x="6190920" y="264960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3" name=""/>
          <p:cNvSpPr/>
          <p:nvPr/>
        </p:nvSpPr>
        <p:spPr>
          <a:xfrm>
            <a:off x="2922120" y="2600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124" name=""/>
          <p:cNvSpPr/>
          <p:nvPr/>
        </p:nvSpPr>
        <p:spPr>
          <a:xfrm>
            <a:off x="3068640" y="2649600"/>
            <a:ext cx="3159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5" name=""/>
          <p:cNvSpPr/>
          <p:nvPr/>
        </p:nvSpPr>
        <p:spPr>
          <a:xfrm>
            <a:off x="3068640" y="2649600"/>
            <a:ext cx="3159000" cy="2492280"/>
          </a:xfrm>
          <a:custGeom>
            <a:avLst/>
            <a:gdLst/>
            <a:ahLst/>
            <a:rect l="l" t="t" r="r" b="b"/>
            <a:pathLst>
              <a:path w="1990" h="1570">
                <a:moveTo>
                  <a:pt x="0" y="1570"/>
                </a:moveTo>
                <a:lnTo>
                  <a:pt x="1990" y="1570"/>
                </a:lnTo>
                <a:lnTo>
                  <a:pt x="19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089160" y="3137040"/>
            <a:ext cx="1130400" cy="2011320"/>
          </a:xfrm>
          <a:custGeom>
            <a:avLst/>
            <a:gdLst/>
            <a:ahLst/>
            <a:rect l="l" t="t" r="r" b="b"/>
            <a:pathLst>
              <a:path w="712" h="1267">
                <a:moveTo>
                  <a:pt x="0" y="216"/>
                </a:moveTo>
                <a:lnTo>
                  <a:pt x="10" y="212"/>
                </a:lnTo>
                <a:lnTo>
                  <a:pt x="19" y="216"/>
                </a:lnTo>
                <a:lnTo>
                  <a:pt x="23" y="212"/>
                </a:lnTo>
                <a:lnTo>
                  <a:pt x="33" y="216"/>
                </a:lnTo>
                <a:lnTo>
                  <a:pt x="42" y="216"/>
                </a:lnTo>
                <a:lnTo>
                  <a:pt x="51" y="212"/>
                </a:lnTo>
                <a:lnTo>
                  <a:pt x="55" y="216"/>
                </a:lnTo>
                <a:lnTo>
                  <a:pt x="65" y="212"/>
                </a:lnTo>
                <a:lnTo>
                  <a:pt x="74" y="212"/>
                </a:lnTo>
                <a:lnTo>
                  <a:pt x="78" y="216"/>
                </a:lnTo>
                <a:lnTo>
                  <a:pt x="88" y="212"/>
                </a:lnTo>
                <a:lnTo>
                  <a:pt x="97" y="216"/>
                </a:lnTo>
                <a:lnTo>
                  <a:pt x="101" y="212"/>
                </a:lnTo>
                <a:lnTo>
                  <a:pt x="111" y="212"/>
                </a:lnTo>
                <a:lnTo>
                  <a:pt x="120" y="216"/>
                </a:lnTo>
                <a:lnTo>
                  <a:pt x="129" y="212"/>
                </a:lnTo>
                <a:lnTo>
                  <a:pt x="134" y="216"/>
                </a:lnTo>
                <a:lnTo>
                  <a:pt x="143" y="212"/>
                </a:lnTo>
                <a:lnTo>
                  <a:pt x="152" y="212"/>
                </a:lnTo>
                <a:lnTo>
                  <a:pt x="157" y="216"/>
                </a:lnTo>
                <a:lnTo>
                  <a:pt x="166" y="216"/>
                </a:lnTo>
                <a:lnTo>
                  <a:pt x="175" y="212"/>
                </a:lnTo>
                <a:lnTo>
                  <a:pt x="180" y="212"/>
                </a:lnTo>
                <a:lnTo>
                  <a:pt x="189" y="212"/>
                </a:lnTo>
                <a:lnTo>
                  <a:pt x="198" y="216"/>
                </a:lnTo>
                <a:lnTo>
                  <a:pt x="207" y="216"/>
                </a:lnTo>
                <a:lnTo>
                  <a:pt x="212" y="212"/>
                </a:lnTo>
                <a:lnTo>
                  <a:pt x="221" y="212"/>
                </a:lnTo>
                <a:lnTo>
                  <a:pt x="230" y="212"/>
                </a:lnTo>
                <a:lnTo>
                  <a:pt x="235" y="216"/>
                </a:lnTo>
                <a:lnTo>
                  <a:pt x="244" y="216"/>
                </a:lnTo>
                <a:lnTo>
                  <a:pt x="253" y="212"/>
                </a:lnTo>
                <a:lnTo>
                  <a:pt x="258" y="216"/>
                </a:lnTo>
                <a:lnTo>
                  <a:pt x="267" y="212"/>
                </a:lnTo>
                <a:lnTo>
                  <a:pt x="276" y="216"/>
                </a:lnTo>
                <a:lnTo>
                  <a:pt x="281" y="216"/>
                </a:lnTo>
                <a:lnTo>
                  <a:pt x="290" y="212"/>
                </a:lnTo>
                <a:lnTo>
                  <a:pt x="299" y="216"/>
                </a:lnTo>
                <a:lnTo>
                  <a:pt x="307" y="212"/>
                </a:lnTo>
                <a:lnTo>
                  <a:pt x="313" y="216"/>
                </a:lnTo>
                <a:lnTo>
                  <a:pt x="321" y="216"/>
                </a:lnTo>
                <a:lnTo>
                  <a:pt x="330" y="212"/>
                </a:lnTo>
                <a:lnTo>
                  <a:pt x="335" y="216"/>
                </a:lnTo>
                <a:lnTo>
                  <a:pt x="344" y="212"/>
                </a:lnTo>
                <a:lnTo>
                  <a:pt x="353" y="212"/>
                </a:lnTo>
                <a:lnTo>
                  <a:pt x="358" y="216"/>
                </a:lnTo>
                <a:lnTo>
                  <a:pt x="367" y="212"/>
                </a:lnTo>
                <a:lnTo>
                  <a:pt x="376" y="216"/>
                </a:lnTo>
                <a:lnTo>
                  <a:pt x="385" y="212"/>
                </a:lnTo>
                <a:lnTo>
                  <a:pt x="390" y="212"/>
                </a:lnTo>
                <a:lnTo>
                  <a:pt x="399" y="216"/>
                </a:lnTo>
                <a:lnTo>
                  <a:pt x="408" y="212"/>
                </a:lnTo>
                <a:lnTo>
                  <a:pt x="413" y="216"/>
                </a:lnTo>
                <a:lnTo>
                  <a:pt x="422" y="212"/>
                </a:lnTo>
                <a:lnTo>
                  <a:pt x="431" y="212"/>
                </a:lnTo>
                <a:lnTo>
                  <a:pt x="436" y="216"/>
                </a:lnTo>
                <a:lnTo>
                  <a:pt x="445" y="216"/>
                </a:lnTo>
                <a:lnTo>
                  <a:pt x="454" y="212"/>
                </a:lnTo>
                <a:lnTo>
                  <a:pt x="464" y="212"/>
                </a:lnTo>
                <a:lnTo>
                  <a:pt x="468" y="212"/>
                </a:lnTo>
                <a:lnTo>
                  <a:pt x="477" y="216"/>
                </a:lnTo>
                <a:lnTo>
                  <a:pt x="487" y="216"/>
                </a:lnTo>
                <a:lnTo>
                  <a:pt x="491" y="212"/>
                </a:lnTo>
                <a:lnTo>
                  <a:pt x="500" y="212"/>
                </a:lnTo>
                <a:lnTo>
                  <a:pt x="510" y="212"/>
                </a:lnTo>
                <a:lnTo>
                  <a:pt x="514" y="216"/>
                </a:lnTo>
                <a:lnTo>
                  <a:pt x="523" y="216"/>
                </a:lnTo>
                <a:lnTo>
                  <a:pt x="533" y="212"/>
                </a:lnTo>
                <a:lnTo>
                  <a:pt x="537" y="212"/>
                </a:lnTo>
                <a:lnTo>
                  <a:pt x="546" y="212"/>
                </a:lnTo>
                <a:lnTo>
                  <a:pt x="555" y="216"/>
                </a:lnTo>
                <a:lnTo>
                  <a:pt x="565" y="216"/>
                </a:lnTo>
                <a:lnTo>
                  <a:pt x="569" y="212"/>
                </a:lnTo>
                <a:lnTo>
                  <a:pt x="578" y="216"/>
                </a:lnTo>
                <a:lnTo>
                  <a:pt x="588" y="212"/>
                </a:lnTo>
                <a:lnTo>
                  <a:pt x="592" y="216"/>
                </a:lnTo>
                <a:lnTo>
                  <a:pt x="601" y="216"/>
                </a:lnTo>
                <a:lnTo>
                  <a:pt x="611" y="212"/>
                </a:lnTo>
                <a:lnTo>
                  <a:pt x="615" y="216"/>
                </a:lnTo>
                <a:lnTo>
                  <a:pt x="624" y="212"/>
                </a:lnTo>
                <a:lnTo>
                  <a:pt x="634" y="216"/>
                </a:lnTo>
                <a:lnTo>
                  <a:pt x="643" y="221"/>
                </a:lnTo>
                <a:lnTo>
                  <a:pt x="647" y="212"/>
                </a:lnTo>
                <a:lnTo>
                  <a:pt x="657" y="216"/>
                </a:lnTo>
                <a:lnTo>
                  <a:pt x="666" y="198"/>
                </a:lnTo>
                <a:lnTo>
                  <a:pt x="670" y="207"/>
                </a:lnTo>
                <a:lnTo>
                  <a:pt x="680" y="294"/>
                </a:lnTo>
                <a:lnTo>
                  <a:pt x="689" y="170"/>
                </a:lnTo>
                <a:lnTo>
                  <a:pt x="693" y="0"/>
                </a:lnTo>
                <a:lnTo>
                  <a:pt x="703" y="583"/>
                </a:lnTo>
                <a:lnTo>
                  <a:pt x="712" y="1267"/>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4219560" y="2649600"/>
            <a:ext cx="36360" cy="2498760"/>
          </a:xfrm>
          <a:custGeom>
            <a:avLst/>
            <a:gdLst/>
            <a:ahLst/>
            <a:rect l="l" t="t" r="r" b="b"/>
            <a:pathLst>
              <a:path w="23" h="1574">
                <a:moveTo>
                  <a:pt x="0" y="1574"/>
                </a:moveTo>
                <a:lnTo>
                  <a:pt x="9" y="1175"/>
                </a:lnTo>
                <a:lnTo>
                  <a:pt x="14" y="133"/>
                </a:lnTo>
                <a:lnTo>
                  <a:pt x="23" y="0"/>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4255920" y="2649600"/>
            <a:ext cx="1565280" cy="1085760"/>
          </a:xfrm>
          <a:custGeom>
            <a:avLst/>
            <a:gdLst/>
            <a:ahLst/>
            <a:rect l="l" t="t" r="r" b="b"/>
            <a:pathLst>
              <a:path w="986" h="684">
                <a:moveTo>
                  <a:pt x="0" y="0"/>
                </a:moveTo>
                <a:lnTo>
                  <a:pt x="9" y="239"/>
                </a:lnTo>
                <a:lnTo>
                  <a:pt x="14" y="257"/>
                </a:lnTo>
                <a:lnTo>
                  <a:pt x="23" y="229"/>
                </a:lnTo>
                <a:lnTo>
                  <a:pt x="32" y="298"/>
                </a:lnTo>
                <a:lnTo>
                  <a:pt x="37" y="344"/>
                </a:lnTo>
                <a:lnTo>
                  <a:pt x="46" y="390"/>
                </a:lnTo>
                <a:lnTo>
                  <a:pt x="55" y="431"/>
                </a:lnTo>
                <a:lnTo>
                  <a:pt x="60" y="454"/>
                </a:lnTo>
                <a:lnTo>
                  <a:pt x="69" y="486"/>
                </a:lnTo>
                <a:lnTo>
                  <a:pt x="78" y="509"/>
                </a:lnTo>
                <a:lnTo>
                  <a:pt x="87" y="523"/>
                </a:lnTo>
                <a:lnTo>
                  <a:pt x="92" y="542"/>
                </a:lnTo>
                <a:lnTo>
                  <a:pt x="100" y="546"/>
                </a:lnTo>
                <a:lnTo>
                  <a:pt x="110" y="555"/>
                </a:lnTo>
                <a:lnTo>
                  <a:pt x="115" y="555"/>
                </a:lnTo>
                <a:lnTo>
                  <a:pt x="123" y="551"/>
                </a:lnTo>
                <a:lnTo>
                  <a:pt x="133" y="560"/>
                </a:lnTo>
                <a:lnTo>
                  <a:pt x="138" y="551"/>
                </a:lnTo>
                <a:lnTo>
                  <a:pt x="146" y="496"/>
                </a:lnTo>
                <a:lnTo>
                  <a:pt x="156" y="486"/>
                </a:lnTo>
                <a:lnTo>
                  <a:pt x="164" y="592"/>
                </a:lnTo>
                <a:lnTo>
                  <a:pt x="169" y="684"/>
                </a:lnTo>
                <a:lnTo>
                  <a:pt x="178" y="647"/>
                </a:lnTo>
                <a:lnTo>
                  <a:pt x="187" y="574"/>
                </a:lnTo>
                <a:lnTo>
                  <a:pt x="192" y="551"/>
                </a:lnTo>
                <a:lnTo>
                  <a:pt x="201" y="542"/>
                </a:lnTo>
                <a:lnTo>
                  <a:pt x="210" y="532"/>
                </a:lnTo>
                <a:lnTo>
                  <a:pt x="215" y="523"/>
                </a:lnTo>
                <a:lnTo>
                  <a:pt x="224" y="519"/>
                </a:lnTo>
                <a:lnTo>
                  <a:pt x="233" y="519"/>
                </a:lnTo>
                <a:lnTo>
                  <a:pt x="242" y="514"/>
                </a:lnTo>
                <a:lnTo>
                  <a:pt x="247" y="514"/>
                </a:lnTo>
                <a:lnTo>
                  <a:pt x="256" y="514"/>
                </a:lnTo>
                <a:lnTo>
                  <a:pt x="265" y="514"/>
                </a:lnTo>
                <a:lnTo>
                  <a:pt x="270" y="514"/>
                </a:lnTo>
                <a:lnTo>
                  <a:pt x="279" y="514"/>
                </a:lnTo>
                <a:lnTo>
                  <a:pt x="288" y="514"/>
                </a:lnTo>
                <a:lnTo>
                  <a:pt x="293" y="514"/>
                </a:lnTo>
                <a:lnTo>
                  <a:pt x="302" y="519"/>
                </a:lnTo>
                <a:lnTo>
                  <a:pt x="311" y="519"/>
                </a:lnTo>
                <a:lnTo>
                  <a:pt x="316" y="519"/>
                </a:lnTo>
                <a:lnTo>
                  <a:pt x="325" y="519"/>
                </a:lnTo>
                <a:lnTo>
                  <a:pt x="334" y="519"/>
                </a:lnTo>
                <a:lnTo>
                  <a:pt x="343" y="519"/>
                </a:lnTo>
                <a:lnTo>
                  <a:pt x="348" y="523"/>
                </a:lnTo>
                <a:lnTo>
                  <a:pt x="357" y="523"/>
                </a:lnTo>
                <a:lnTo>
                  <a:pt x="366" y="523"/>
                </a:lnTo>
                <a:lnTo>
                  <a:pt x="371" y="523"/>
                </a:lnTo>
                <a:lnTo>
                  <a:pt x="380" y="523"/>
                </a:lnTo>
                <a:lnTo>
                  <a:pt x="389" y="523"/>
                </a:lnTo>
                <a:lnTo>
                  <a:pt x="394" y="523"/>
                </a:lnTo>
                <a:lnTo>
                  <a:pt x="403" y="523"/>
                </a:lnTo>
                <a:lnTo>
                  <a:pt x="412" y="523"/>
                </a:lnTo>
                <a:lnTo>
                  <a:pt x="422" y="523"/>
                </a:lnTo>
                <a:lnTo>
                  <a:pt x="426" y="523"/>
                </a:lnTo>
                <a:lnTo>
                  <a:pt x="435" y="523"/>
                </a:lnTo>
                <a:lnTo>
                  <a:pt x="445" y="523"/>
                </a:lnTo>
                <a:lnTo>
                  <a:pt x="449" y="519"/>
                </a:lnTo>
                <a:lnTo>
                  <a:pt x="458" y="519"/>
                </a:lnTo>
                <a:lnTo>
                  <a:pt x="468" y="519"/>
                </a:lnTo>
                <a:lnTo>
                  <a:pt x="472" y="519"/>
                </a:lnTo>
                <a:lnTo>
                  <a:pt x="481" y="519"/>
                </a:lnTo>
                <a:lnTo>
                  <a:pt x="491" y="519"/>
                </a:lnTo>
                <a:lnTo>
                  <a:pt x="500" y="519"/>
                </a:lnTo>
                <a:lnTo>
                  <a:pt x="504" y="519"/>
                </a:lnTo>
                <a:lnTo>
                  <a:pt x="514" y="519"/>
                </a:lnTo>
                <a:lnTo>
                  <a:pt x="523" y="519"/>
                </a:lnTo>
                <a:lnTo>
                  <a:pt x="527" y="519"/>
                </a:lnTo>
                <a:lnTo>
                  <a:pt x="537" y="519"/>
                </a:lnTo>
                <a:lnTo>
                  <a:pt x="546" y="519"/>
                </a:lnTo>
                <a:lnTo>
                  <a:pt x="550" y="523"/>
                </a:lnTo>
                <a:lnTo>
                  <a:pt x="560" y="523"/>
                </a:lnTo>
                <a:lnTo>
                  <a:pt x="569" y="523"/>
                </a:lnTo>
                <a:lnTo>
                  <a:pt x="573" y="523"/>
                </a:lnTo>
                <a:lnTo>
                  <a:pt x="583" y="523"/>
                </a:lnTo>
                <a:lnTo>
                  <a:pt x="592" y="523"/>
                </a:lnTo>
                <a:lnTo>
                  <a:pt x="601" y="523"/>
                </a:lnTo>
                <a:lnTo>
                  <a:pt x="605" y="523"/>
                </a:lnTo>
                <a:lnTo>
                  <a:pt x="615" y="523"/>
                </a:lnTo>
                <a:lnTo>
                  <a:pt x="624" y="523"/>
                </a:lnTo>
                <a:lnTo>
                  <a:pt x="627" y="523"/>
                </a:lnTo>
                <a:lnTo>
                  <a:pt x="638" y="523"/>
                </a:lnTo>
                <a:lnTo>
                  <a:pt x="647" y="523"/>
                </a:lnTo>
                <a:lnTo>
                  <a:pt x="650" y="523"/>
                </a:lnTo>
                <a:lnTo>
                  <a:pt x="661" y="523"/>
                </a:lnTo>
                <a:lnTo>
                  <a:pt x="669" y="523"/>
                </a:lnTo>
                <a:lnTo>
                  <a:pt x="679" y="523"/>
                </a:lnTo>
                <a:lnTo>
                  <a:pt x="684" y="523"/>
                </a:lnTo>
                <a:lnTo>
                  <a:pt x="692" y="519"/>
                </a:lnTo>
                <a:lnTo>
                  <a:pt x="702" y="519"/>
                </a:lnTo>
                <a:lnTo>
                  <a:pt x="707" y="519"/>
                </a:lnTo>
                <a:lnTo>
                  <a:pt x="715" y="519"/>
                </a:lnTo>
                <a:lnTo>
                  <a:pt x="725" y="519"/>
                </a:lnTo>
                <a:lnTo>
                  <a:pt x="729" y="519"/>
                </a:lnTo>
                <a:lnTo>
                  <a:pt x="738" y="519"/>
                </a:lnTo>
                <a:lnTo>
                  <a:pt x="747" y="519"/>
                </a:lnTo>
                <a:lnTo>
                  <a:pt x="756" y="519"/>
                </a:lnTo>
                <a:lnTo>
                  <a:pt x="761" y="519"/>
                </a:lnTo>
                <a:lnTo>
                  <a:pt x="770" y="519"/>
                </a:lnTo>
                <a:lnTo>
                  <a:pt x="779" y="519"/>
                </a:lnTo>
                <a:lnTo>
                  <a:pt x="784" y="519"/>
                </a:lnTo>
                <a:lnTo>
                  <a:pt x="793" y="519"/>
                </a:lnTo>
                <a:lnTo>
                  <a:pt x="802" y="519"/>
                </a:lnTo>
                <a:lnTo>
                  <a:pt x="807" y="523"/>
                </a:lnTo>
                <a:lnTo>
                  <a:pt x="816" y="523"/>
                </a:lnTo>
                <a:lnTo>
                  <a:pt x="825" y="519"/>
                </a:lnTo>
                <a:lnTo>
                  <a:pt x="830" y="523"/>
                </a:lnTo>
                <a:lnTo>
                  <a:pt x="839" y="523"/>
                </a:lnTo>
                <a:lnTo>
                  <a:pt x="848" y="523"/>
                </a:lnTo>
                <a:lnTo>
                  <a:pt x="857" y="523"/>
                </a:lnTo>
                <a:lnTo>
                  <a:pt x="862" y="519"/>
                </a:lnTo>
                <a:lnTo>
                  <a:pt x="871" y="523"/>
                </a:lnTo>
                <a:lnTo>
                  <a:pt x="880" y="523"/>
                </a:lnTo>
                <a:lnTo>
                  <a:pt x="885" y="523"/>
                </a:lnTo>
                <a:lnTo>
                  <a:pt x="894" y="523"/>
                </a:lnTo>
                <a:lnTo>
                  <a:pt x="903" y="519"/>
                </a:lnTo>
                <a:lnTo>
                  <a:pt x="908" y="519"/>
                </a:lnTo>
                <a:lnTo>
                  <a:pt x="917" y="523"/>
                </a:lnTo>
                <a:lnTo>
                  <a:pt x="926" y="523"/>
                </a:lnTo>
                <a:lnTo>
                  <a:pt x="935" y="523"/>
                </a:lnTo>
                <a:lnTo>
                  <a:pt x="940" y="519"/>
                </a:lnTo>
                <a:lnTo>
                  <a:pt x="949" y="519"/>
                </a:lnTo>
                <a:lnTo>
                  <a:pt x="958" y="523"/>
                </a:lnTo>
                <a:lnTo>
                  <a:pt x="963" y="523"/>
                </a:lnTo>
                <a:lnTo>
                  <a:pt x="972" y="523"/>
                </a:lnTo>
                <a:lnTo>
                  <a:pt x="981" y="519"/>
                </a:lnTo>
                <a:lnTo>
                  <a:pt x="986" y="519"/>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5821200" y="3473280"/>
            <a:ext cx="349560" cy="6480"/>
          </a:xfrm>
          <a:custGeom>
            <a:avLst/>
            <a:gdLst/>
            <a:ahLst/>
            <a:rect l="l" t="t" r="r" b="b"/>
            <a:pathLst>
              <a:path w="220" h="4">
                <a:moveTo>
                  <a:pt x="0" y="0"/>
                </a:moveTo>
                <a:lnTo>
                  <a:pt x="9" y="4"/>
                </a:lnTo>
                <a:lnTo>
                  <a:pt x="18" y="4"/>
                </a:lnTo>
                <a:lnTo>
                  <a:pt x="28" y="4"/>
                </a:lnTo>
                <a:lnTo>
                  <a:pt x="32" y="0"/>
                </a:lnTo>
                <a:lnTo>
                  <a:pt x="41" y="0"/>
                </a:lnTo>
                <a:lnTo>
                  <a:pt x="51" y="4"/>
                </a:lnTo>
                <a:lnTo>
                  <a:pt x="55" y="4"/>
                </a:lnTo>
                <a:lnTo>
                  <a:pt x="64" y="4"/>
                </a:lnTo>
                <a:lnTo>
                  <a:pt x="74" y="0"/>
                </a:lnTo>
                <a:lnTo>
                  <a:pt x="78" y="0"/>
                </a:lnTo>
                <a:lnTo>
                  <a:pt x="87" y="4"/>
                </a:lnTo>
                <a:lnTo>
                  <a:pt x="97" y="4"/>
                </a:lnTo>
                <a:lnTo>
                  <a:pt x="101" y="4"/>
                </a:lnTo>
                <a:lnTo>
                  <a:pt x="110" y="0"/>
                </a:lnTo>
                <a:lnTo>
                  <a:pt x="119" y="0"/>
                </a:lnTo>
                <a:lnTo>
                  <a:pt x="129" y="4"/>
                </a:lnTo>
                <a:lnTo>
                  <a:pt x="133" y="0"/>
                </a:lnTo>
                <a:lnTo>
                  <a:pt x="142" y="4"/>
                </a:lnTo>
                <a:lnTo>
                  <a:pt x="152" y="4"/>
                </a:lnTo>
                <a:lnTo>
                  <a:pt x="156" y="0"/>
                </a:lnTo>
                <a:lnTo>
                  <a:pt x="165" y="4"/>
                </a:lnTo>
                <a:lnTo>
                  <a:pt x="174" y="0"/>
                </a:lnTo>
                <a:lnTo>
                  <a:pt x="179" y="4"/>
                </a:lnTo>
                <a:lnTo>
                  <a:pt x="188" y="4"/>
                </a:lnTo>
                <a:lnTo>
                  <a:pt x="197" y="0"/>
                </a:lnTo>
                <a:lnTo>
                  <a:pt x="207" y="0"/>
                </a:lnTo>
                <a:lnTo>
                  <a:pt x="210" y="4"/>
                </a:lnTo>
                <a:lnTo>
                  <a:pt x="220" y="4"/>
                </a:lnTo>
              </a:path>
            </a:pathLst>
          </a:custGeom>
          <a:noFill/>
          <a:ln cap="rnd" w="1440">
            <a:solidFill>
              <a:srgbClr val="00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0" name=""/>
          <p:cNvSpPr/>
          <p:nvPr/>
        </p:nvSpPr>
        <p:spPr>
          <a:xfrm>
            <a:off x="4150080" y="5504040"/>
            <a:ext cx="30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a:t>
            </a:r>
            <a:endParaRPr b="0" lang="en-US" sz="1000" spc="-1" strike="noStrike">
              <a:solidFill>
                <a:srgbClr val="000000"/>
              </a:solidFill>
              <a:latin typeface="Times New Roman"/>
            </a:endParaRPr>
          </a:p>
        </p:txBody>
      </p:sp>
      <p:sp>
        <p:nvSpPr>
          <p:cNvPr id="3131" name=""/>
          <p:cNvSpPr/>
          <p:nvPr/>
        </p:nvSpPr>
        <p:spPr>
          <a:xfrm>
            <a:off x="4460400" y="549108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132" name=""/>
          <p:cNvSpPr/>
          <p:nvPr/>
        </p:nvSpPr>
        <p:spPr>
          <a:xfrm>
            <a:off x="4529880" y="550404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a:t>
            </a:r>
            <a:endParaRPr b="0" lang="en-US" sz="1000" spc="-1" strike="noStrike">
              <a:solidFill>
                <a:srgbClr val="000000"/>
              </a:solidFill>
              <a:latin typeface="Times New Roman"/>
            </a:endParaRPr>
          </a:p>
        </p:txBody>
      </p:sp>
      <p:sp>
        <p:nvSpPr>
          <p:cNvPr id="3133" name=""/>
          <p:cNvSpPr/>
          <p:nvPr/>
        </p:nvSpPr>
        <p:spPr>
          <a:xfrm rot="16200000">
            <a:off x="2444760" y="373284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tude</a:t>
            </a:r>
            <a:endParaRPr b="0" lang="en-US" sz="1000" spc="-1" strike="noStrike">
              <a:solidFill>
                <a:srgbClr val="000000"/>
              </a:solidFill>
              <a:latin typeface="Times New Roman"/>
            </a:endParaRPr>
          </a:p>
        </p:txBody>
      </p:sp>
      <p:sp>
        <p:nvSpPr>
          <p:cNvPr id="3134" name=""/>
          <p:cNvSpPr/>
          <p:nvPr/>
        </p:nvSpPr>
        <p:spPr>
          <a:xfrm>
            <a:off x="3068640" y="2649600"/>
            <a:ext cx="3159000" cy="249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3068640" y="2649600"/>
            <a:ext cx="3159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6" name=""/>
          <p:cNvSpPr/>
          <p:nvPr/>
        </p:nvSpPr>
        <p:spPr>
          <a:xfrm>
            <a:off x="3068640" y="2649600"/>
            <a:ext cx="3159000" cy="2492280"/>
          </a:xfrm>
          <a:custGeom>
            <a:avLst/>
            <a:gdLst/>
            <a:ahLst/>
            <a:rect l="l" t="t" r="r" b="b"/>
            <a:pathLst>
              <a:path w="1990" h="1570">
                <a:moveTo>
                  <a:pt x="0" y="1570"/>
                </a:moveTo>
                <a:lnTo>
                  <a:pt x="1990" y="1570"/>
                </a:lnTo>
                <a:lnTo>
                  <a:pt x="19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flipV="1">
            <a:off x="3068640" y="2649240"/>
            <a:ext cx="1440" cy="249228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flipV="1">
            <a:off x="3068640" y="5105160"/>
            <a:ext cx="144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3068640" y="264960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0" name=""/>
          <p:cNvSpPr/>
          <p:nvPr/>
        </p:nvSpPr>
        <p:spPr>
          <a:xfrm>
            <a:off x="3012840" y="5213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41" name=""/>
          <p:cNvSpPr/>
          <p:nvPr/>
        </p:nvSpPr>
        <p:spPr>
          <a:xfrm>
            <a:off x="305388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42" name=""/>
          <p:cNvSpPr/>
          <p:nvPr/>
        </p:nvSpPr>
        <p:spPr>
          <a:xfrm flipV="1">
            <a:off x="369396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3" name=""/>
          <p:cNvSpPr/>
          <p:nvPr/>
        </p:nvSpPr>
        <p:spPr>
          <a:xfrm>
            <a:off x="369396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4" name=""/>
          <p:cNvSpPr/>
          <p:nvPr/>
        </p:nvSpPr>
        <p:spPr>
          <a:xfrm>
            <a:off x="3595320" y="5213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45" name=""/>
          <p:cNvSpPr/>
          <p:nvPr/>
        </p:nvSpPr>
        <p:spPr>
          <a:xfrm>
            <a:off x="363636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3146" name=""/>
          <p:cNvSpPr/>
          <p:nvPr/>
        </p:nvSpPr>
        <p:spPr>
          <a:xfrm flipV="1">
            <a:off x="432900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7" name=""/>
          <p:cNvSpPr/>
          <p:nvPr/>
        </p:nvSpPr>
        <p:spPr>
          <a:xfrm>
            <a:off x="432900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8" name=""/>
          <p:cNvSpPr/>
          <p:nvPr/>
        </p:nvSpPr>
        <p:spPr>
          <a:xfrm>
            <a:off x="430164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149" name=""/>
          <p:cNvSpPr/>
          <p:nvPr/>
        </p:nvSpPr>
        <p:spPr>
          <a:xfrm flipV="1">
            <a:off x="4962600" y="5105160"/>
            <a:ext cx="144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0" name=""/>
          <p:cNvSpPr/>
          <p:nvPr/>
        </p:nvSpPr>
        <p:spPr>
          <a:xfrm>
            <a:off x="4962600" y="2649600"/>
            <a:ext cx="144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1" name=""/>
          <p:cNvSpPr/>
          <p:nvPr/>
        </p:nvSpPr>
        <p:spPr>
          <a:xfrm>
            <a:off x="489204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3152" name=""/>
          <p:cNvSpPr/>
          <p:nvPr/>
        </p:nvSpPr>
        <p:spPr>
          <a:xfrm flipV="1">
            <a:off x="559584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3" name=""/>
          <p:cNvSpPr/>
          <p:nvPr/>
        </p:nvSpPr>
        <p:spPr>
          <a:xfrm>
            <a:off x="559584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4" name=""/>
          <p:cNvSpPr/>
          <p:nvPr/>
        </p:nvSpPr>
        <p:spPr>
          <a:xfrm>
            <a:off x="5568480" y="521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55" name=""/>
          <p:cNvSpPr/>
          <p:nvPr/>
        </p:nvSpPr>
        <p:spPr>
          <a:xfrm flipV="1">
            <a:off x="6227640" y="5105160"/>
            <a:ext cx="1800" cy="36360"/>
          </a:xfrm>
          <a:prstGeom prst="line">
            <a:avLst/>
          </a:prstGeom>
          <a:ln cap="rnd" w="1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6" name=""/>
          <p:cNvSpPr/>
          <p:nvPr/>
        </p:nvSpPr>
        <p:spPr>
          <a:xfrm>
            <a:off x="6227640" y="2649600"/>
            <a:ext cx="1800" cy="28440"/>
          </a:xfrm>
          <a:prstGeom prst="line">
            <a:avLst/>
          </a:prstGeom>
          <a:ln cap="rnd"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7" name=""/>
          <p:cNvSpPr/>
          <p:nvPr/>
        </p:nvSpPr>
        <p:spPr>
          <a:xfrm>
            <a:off x="6158880" y="5213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158" name=""/>
          <p:cNvSpPr/>
          <p:nvPr/>
        </p:nvSpPr>
        <p:spPr>
          <a:xfrm>
            <a:off x="3068640" y="514188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flipH="1">
            <a:off x="6190920" y="514188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2841120" y="5092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61" name=""/>
          <p:cNvSpPr/>
          <p:nvPr/>
        </p:nvSpPr>
        <p:spPr>
          <a:xfrm>
            <a:off x="2883960" y="5092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162" name=""/>
          <p:cNvSpPr/>
          <p:nvPr/>
        </p:nvSpPr>
        <p:spPr>
          <a:xfrm>
            <a:off x="3068640" y="48639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flipH="1">
            <a:off x="6190920" y="486396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3068640" y="458784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5" name=""/>
          <p:cNvSpPr/>
          <p:nvPr/>
        </p:nvSpPr>
        <p:spPr>
          <a:xfrm flipH="1">
            <a:off x="6190920" y="458784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6" name=""/>
          <p:cNvSpPr/>
          <p:nvPr/>
        </p:nvSpPr>
        <p:spPr>
          <a:xfrm>
            <a:off x="2893680" y="4538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67" name=""/>
          <p:cNvSpPr/>
          <p:nvPr/>
        </p:nvSpPr>
        <p:spPr>
          <a:xfrm>
            <a:off x="2936520" y="4538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168" name=""/>
          <p:cNvSpPr/>
          <p:nvPr/>
        </p:nvSpPr>
        <p:spPr>
          <a:xfrm>
            <a:off x="3068640" y="431172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9" name=""/>
          <p:cNvSpPr/>
          <p:nvPr/>
        </p:nvSpPr>
        <p:spPr>
          <a:xfrm flipH="1">
            <a:off x="6190920" y="431172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0" name=""/>
          <p:cNvSpPr/>
          <p:nvPr/>
        </p:nvSpPr>
        <p:spPr>
          <a:xfrm>
            <a:off x="3068640" y="403380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1" name=""/>
          <p:cNvSpPr/>
          <p:nvPr/>
        </p:nvSpPr>
        <p:spPr>
          <a:xfrm flipH="1">
            <a:off x="6190920" y="403380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2" name=""/>
          <p:cNvSpPr/>
          <p:nvPr/>
        </p:nvSpPr>
        <p:spPr>
          <a:xfrm>
            <a:off x="2893680" y="3984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173" name=""/>
          <p:cNvSpPr/>
          <p:nvPr/>
        </p:nvSpPr>
        <p:spPr>
          <a:xfrm>
            <a:off x="2936520" y="3984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174" name=""/>
          <p:cNvSpPr/>
          <p:nvPr/>
        </p:nvSpPr>
        <p:spPr>
          <a:xfrm>
            <a:off x="3068640" y="375768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5" name=""/>
          <p:cNvSpPr/>
          <p:nvPr/>
        </p:nvSpPr>
        <p:spPr>
          <a:xfrm flipH="1">
            <a:off x="6190920" y="375768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6" name=""/>
          <p:cNvSpPr/>
          <p:nvPr/>
        </p:nvSpPr>
        <p:spPr>
          <a:xfrm>
            <a:off x="3068640" y="347976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7" name=""/>
          <p:cNvSpPr/>
          <p:nvPr/>
        </p:nvSpPr>
        <p:spPr>
          <a:xfrm flipH="1">
            <a:off x="6190920" y="347976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8" name=""/>
          <p:cNvSpPr/>
          <p:nvPr/>
        </p:nvSpPr>
        <p:spPr>
          <a:xfrm>
            <a:off x="2922120" y="3430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179" name=""/>
          <p:cNvSpPr/>
          <p:nvPr/>
        </p:nvSpPr>
        <p:spPr>
          <a:xfrm>
            <a:off x="3068640" y="320364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0" name=""/>
          <p:cNvSpPr/>
          <p:nvPr/>
        </p:nvSpPr>
        <p:spPr>
          <a:xfrm flipH="1">
            <a:off x="6190920" y="320364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1" name=""/>
          <p:cNvSpPr/>
          <p:nvPr/>
        </p:nvSpPr>
        <p:spPr>
          <a:xfrm>
            <a:off x="3068640" y="2925720"/>
            <a:ext cx="284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flipH="1">
            <a:off x="6190920" y="2925720"/>
            <a:ext cx="363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3" name=""/>
          <p:cNvSpPr/>
          <p:nvPr/>
        </p:nvSpPr>
        <p:spPr>
          <a:xfrm>
            <a:off x="3068640" y="2649600"/>
            <a:ext cx="284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4" name=""/>
          <p:cNvSpPr/>
          <p:nvPr/>
        </p:nvSpPr>
        <p:spPr>
          <a:xfrm flipH="1">
            <a:off x="6190920" y="2649600"/>
            <a:ext cx="3636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5" name=""/>
          <p:cNvSpPr/>
          <p:nvPr/>
        </p:nvSpPr>
        <p:spPr>
          <a:xfrm>
            <a:off x="2922120" y="2600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186" name=""/>
          <p:cNvSpPr/>
          <p:nvPr/>
        </p:nvSpPr>
        <p:spPr>
          <a:xfrm>
            <a:off x="3068640" y="2649600"/>
            <a:ext cx="31590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7" name=""/>
          <p:cNvSpPr/>
          <p:nvPr/>
        </p:nvSpPr>
        <p:spPr>
          <a:xfrm>
            <a:off x="3068640" y="2649600"/>
            <a:ext cx="3159000" cy="2492280"/>
          </a:xfrm>
          <a:custGeom>
            <a:avLst/>
            <a:gdLst/>
            <a:ahLst/>
            <a:rect l="l" t="t" r="r" b="b"/>
            <a:pathLst>
              <a:path w="1990" h="1570">
                <a:moveTo>
                  <a:pt x="0" y="1570"/>
                </a:moveTo>
                <a:lnTo>
                  <a:pt x="1990" y="1570"/>
                </a:lnTo>
                <a:lnTo>
                  <a:pt x="19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3089160" y="3137040"/>
            <a:ext cx="1130400" cy="2011320"/>
          </a:xfrm>
          <a:custGeom>
            <a:avLst/>
            <a:gdLst/>
            <a:ahLst/>
            <a:rect l="l" t="t" r="r" b="b"/>
            <a:pathLst>
              <a:path w="712" h="1267">
                <a:moveTo>
                  <a:pt x="0" y="216"/>
                </a:moveTo>
                <a:lnTo>
                  <a:pt x="10" y="212"/>
                </a:lnTo>
                <a:lnTo>
                  <a:pt x="19" y="216"/>
                </a:lnTo>
                <a:lnTo>
                  <a:pt x="23" y="212"/>
                </a:lnTo>
                <a:lnTo>
                  <a:pt x="33" y="216"/>
                </a:lnTo>
                <a:lnTo>
                  <a:pt x="42" y="216"/>
                </a:lnTo>
                <a:lnTo>
                  <a:pt x="51" y="212"/>
                </a:lnTo>
                <a:lnTo>
                  <a:pt x="55" y="216"/>
                </a:lnTo>
                <a:lnTo>
                  <a:pt x="65" y="212"/>
                </a:lnTo>
                <a:lnTo>
                  <a:pt x="74" y="212"/>
                </a:lnTo>
                <a:lnTo>
                  <a:pt x="78" y="216"/>
                </a:lnTo>
                <a:lnTo>
                  <a:pt x="88" y="212"/>
                </a:lnTo>
                <a:lnTo>
                  <a:pt x="97" y="216"/>
                </a:lnTo>
                <a:lnTo>
                  <a:pt x="101" y="212"/>
                </a:lnTo>
                <a:lnTo>
                  <a:pt x="111" y="212"/>
                </a:lnTo>
                <a:lnTo>
                  <a:pt x="120" y="216"/>
                </a:lnTo>
                <a:lnTo>
                  <a:pt x="129" y="212"/>
                </a:lnTo>
                <a:lnTo>
                  <a:pt x="134" y="216"/>
                </a:lnTo>
                <a:lnTo>
                  <a:pt x="143" y="212"/>
                </a:lnTo>
                <a:lnTo>
                  <a:pt x="152" y="212"/>
                </a:lnTo>
                <a:lnTo>
                  <a:pt x="157" y="216"/>
                </a:lnTo>
                <a:lnTo>
                  <a:pt x="166" y="216"/>
                </a:lnTo>
                <a:lnTo>
                  <a:pt x="175" y="212"/>
                </a:lnTo>
                <a:lnTo>
                  <a:pt x="180" y="212"/>
                </a:lnTo>
                <a:lnTo>
                  <a:pt x="189" y="212"/>
                </a:lnTo>
                <a:lnTo>
                  <a:pt x="198" y="216"/>
                </a:lnTo>
                <a:lnTo>
                  <a:pt x="207" y="216"/>
                </a:lnTo>
                <a:lnTo>
                  <a:pt x="212" y="212"/>
                </a:lnTo>
                <a:lnTo>
                  <a:pt x="221" y="212"/>
                </a:lnTo>
                <a:lnTo>
                  <a:pt x="230" y="212"/>
                </a:lnTo>
                <a:lnTo>
                  <a:pt x="235" y="216"/>
                </a:lnTo>
                <a:lnTo>
                  <a:pt x="244" y="216"/>
                </a:lnTo>
                <a:lnTo>
                  <a:pt x="253" y="212"/>
                </a:lnTo>
                <a:lnTo>
                  <a:pt x="258" y="216"/>
                </a:lnTo>
                <a:lnTo>
                  <a:pt x="267" y="212"/>
                </a:lnTo>
                <a:lnTo>
                  <a:pt x="276" y="216"/>
                </a:lnTo>
                <a:lnTo>
                  <a:pt x="281" y="216"/>
                </a:lnTo>
                <a:lnTo>
                  <a:pt x="290" y="212"/>
                </a:lnTo>
                <a:lnTo>
                  <a:pt x="299" y="216"/>
                </a:lnTo>
                <a:lnTo>
                  <a:pt x="307" y="212"/>
                </a:lnTo>
                <a:lnTo>
                  <a:pt x="313" y="216"/>
                </a:lnTo>
                <a:lnTo>
                  <a:pt x="321" y="216"/>
                </a:lnTo>
                <a:lnTo>
                  <a:pt x="330" y="212"/>
                </a:lnTo>
                <a:lnTo>
                  <a:pt x="335" y="216"/>
                </a:lnTo>
                <a:lnTo>
                  <a:pt x="344" y="212"/>
                </a:lnTo>
                <a:lnTo>
                  <a:pt x="353" y="212"/>
                </a:lnTo>
                <a:lnTo>
                  <a:pt x="358" y="216"/>
                </a:lnTo>
                <a:lnTo>
                  <a:pt x="367" y="212"/>
                </a:lnTo>
                <a:lnTo>
                  <a:pt x="376" y="216"/>
                </a:lnTo>
                <a:lnTo>
                  <a:pt x="385" y="212"/>
                </a:lnTo>
                <a:lnTo>
                  <a:pt x="390" y="212"/>
                </a:lnTo>
                <a:lnTo>
                  <a:pt x="399" y="216"/>
                </a:lnTo>
                <a:lnTo>
                  <a:pt x="408" y="212"/>
                </a:lnTo>
                <a:lnTo>
                  <a:pt x="413" y="216"/>
                </a:lnTo>
                <a:lnTo>
                  <a:pt x="422" y="212"/>
                </a:lnTo>
                <a:lnTo>
                  <a:pt x="431" y="212"/>
                </a:lnTo>
                <a:lnTo>
                  <a:pt x="436" y="216"/>
                </a:lnTo>
                <a:lnTo>
                  <a:pt x="445" y="216"/>
                </a:lnTo>
                <a:lnTo>
                  <a:pt x="454" y="212"/>
                </a:lnTo>
                <a:lnTo>
                  <a:pt x="464" y="212"/>
                </a:lnTo>
                <a:lnTo>
                  <a:pt x="468" y="212"/>
                </a:lnTo>
                <a:lnTo>
                  <a:pt x="477" y="216"/>
                </a:lnTo>
                <a:lnTo>
                  <a:pt x="487" y="216"/>
                </a:lnTo>
                <a:lnTo>
                  <a:pt x="491" y="212"/>
                </a:lnTo>
                <a:lnTo>
                  <a:pt x="500" y="212"/>
                </a:lnTo>
                <a:lnTo>
                  <a:pt x="510" y="212"/>
                </a:lnTo>
                <a:lnTo>
                  <a:pt x="514" y="216"/>
                </a:lnTo>
                <a:lnTo>
                  <a:pt x="523" y="216"/>
                </a:lnTo>
                <a:lnTo>
                  <a:pt x="533" y="212"/>
                </a:lnTo>
                <a:lnTo>
                  <a:pt x="537" y="212"/>
                </a:lnTo>
                <a:lnTo>
                  <a:pt x="546" y="212"/>
                </a:lnTo>
                <a:lnTo>
                  <a:pt x="555" y="216"/>
                </a:lnTo>
                <a:lnTo>
                  <a:pt x="565" y="216"/>
                </a:lnTo>
                <a:lnTo>
                  <a:pt x="569" y="212"/>
                </a:lnTo>
                <a:lnTo>
                  <a:pt x="578" y="216"/>
                </a:lnTo>
                <a:lnTo>
                  <a:pt x="588" y="212"/>
                </a:lnTo>
                <a:lnTo>
                  <a:pt x="592" y="216"/>
                </a:lnTo>
                <a:lnTo>
                  <a:pt x="601" y="216"/>
                </a:lnTo>
                <a:lnTo>
                  <a:pt x="611" y="212"/>
                </a:lnTo>
                <a:lnTo>
                  <a:pt x="615" y="216"/>
                </a:lnTo>
                <a:lnTo>
                  <a:pt x="624" y="212"/>
                </a:lnTo>
                <a:lnTo>
                  <a:pt x="634" y="216"/>
                </a:lnTo>
                <a:lnTo>
                  <a:pt x="643" y="221"/>
                </a:lnTo>
                <a:lnTo>
                  <a:pt x="647" y="212"/>
                </a:lnTo>
                <a:lnTo>
                  <a:pt x="657" y="216"/>
                </a:lnTo>
                <a:lnTo>
                  <a:pt x="666" y="198"/>
                </a:lnTo>
                <a:lnTo>
                  <a:pt x="670" y="207"/>
                </a:lnTo>
                <a:lnTo>
                  <a:pt x="680" y="294"/>
                </a:lnTo>
                <a:lnTo>
                  <a:pt x="689" y="170"/>
                </a:lnTo>
                <a:lnTo>
                  <a:pt x="693" y="0"/>
                </a:lnTo>
                <a:lnTo>
                  <a:pt x="703" y="583"/>
                </a:lnTo>
                <a:lnTo>
                  <a:pt x="712" y="1267"/>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4219560" y="2649600"/>
            <a:ext cx="36360" cy="2498760"/>
          </a:xfrm>
          <a:custGeom>
            <a:avLst/>
            <a:gdLst/>
            <a:ahLst/>
            <a:rect l="l" t="t" r="r" b="b"/>
            <a:pathLst>
              <a:path w="23" h="1574">
                <a:moveTo>
                  <a:pt x="0" y="1574"/>
                </a:moveTo>
                <a:lnTo>
                  <a:pt x="9" y="1175"/>
                </a:lnTo>
                <a:lnTo>
                  <a:pt x="14" y="133"/>
                </a:lnTo>
                <a:lnTo>
                  <a:pt x="23" y="0"/>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4255920" y="2649600"/>
            <a:ext cx="1565280" cy="1085760"/>
          </a:xfrm>
          <a:custGeom>
            <a:avLst/>
            <a:gdLst/>
            <a:ahLst/>
            <a:rect l="l" t="t" r="r" b="b"/>
            <a:pathLst>
              <a:path w="986" h="684">
                <a:moveTo>
                  <a:pt x="0" y="0"/>
                </a:moveTo>
                <a:lnTo>
                  <a:pt x="9" y="239"/>
                </a:lnTo>
                <a:lnTo>
                  <a:pt x="14" y="257"/>
                </a:lnTo>
                <a:lnTo>
                  <a:pt x="23" y="229"/>
                </a:lnTo>
                <a:lnTo>
                  <a:pt x="32" y="298"/>
                </a:lnTo>
                <a:lnTo>
                  <a:pt x="37" y="344"/>
                </a:lnTo>
                <a:lnTo>
                  <a:pt x="46" y="390"/>
                </a:lnTo>
                <a:lnTo>
                  <a:pt x="55" y="431"/>
                </a:lnTo>
                <a:lnTo>
                  <a:pt x="60" y="454"/>
                </a:lnTo>
                <a:lnTo>
                  <a:pt x="69" y="486"/>
                </a:lnTo>
                <a:lnTo>
                  <a:pt x="78" y="509"/>
                </a:lnTo>
                <a:lnTo>
                  <a:pt x="87" y="523"/>
                </a:lnTo>
                <a:lnTo>
                  <a:pt x="92" y="542"/>
                </a:lnTo>
                <a:lnTo>
                  <a:pt x="100" y="546"/>
                </a:lnTo>
                <a:lnTo>
                  <a:pt x="110" y="555"/>
                </a:lnTo>
                <a:lnTo>
                  <a:pt x="115" y="555"/>
                </a:lnTo>
                <a:lnTo>
                  <a:pt x="123" y="551"/>
                </a:lnTo>
                <a:lnTo>
                  <a:pt x="133" y="560"/>
                </a:lnTo>
                <a:lnTo>
                  <a:pt x="138" y="551"/>
                </a:lnTo>
                <a:lnTo>
                  <a:pt x="146" y="496"/>
                </a:lnTo>
                <a:lnTo>
                  <a:pt x="156" y="486"/>
                </a:lnTo>
                <a:lnTo>
                  <a:pt x="164" y="592"/>
                </a:lnTo>
                <a:lnTo>
                  <a:pt x="169" y="684"/>
                </a:lnTo>
                <a:lnTo>
                  <a:pt x="178" y="647"/>
                </a:lnTo>
                <a:lnTo>
                  <a:pt x="187" y="574"/>
                </a:lnTo>
                <a:lnTo>
                  <a:pt x="192" y="551"/>
                </a:lnTo>
                <a:lnTo>
                  <a:pt x="201" y="542"/>
                </a:lnTo>
                <a:lnTo>
                  <a:pt x="210" y="532"/>
                </a:lnTo>
                <a:lnTo>
                  <a:pt x="215" y="523"/>
                </a:lnTo>
                <a:lnTo>
                  <a:pt x="224" y="519"/>
                </a:lnTo>
                <a:lnTo>
                  <a:pt x="233" y="519"/>
                </a:lnTo>
                <a:lnTo>
                  <a:pt x="242" y="514"/>
                </a:lnTo>
                <a:lnTo>
                  <a:pt x="247" y="514"/>
                </a:lnTo>
                <a:lnTo>
                  <a:pt x="256" y="514"/>
                </a:lnTo>
                <a:lnTo>
                  <a:pt x="265" y="514"/>
                </a:lnTo>
                <a:lnTo>
                  <a:pt x="270" y="514"/>
                </a:lnTo>
                <a:lnTo>
                  <a:pt x="279" y="514"/>
                </a:lnTo>
                <a:lnTo>
                  <a:pt x="288" y="514"/>
                </a:lnTo>
                <a:lnTo>
                  <a:pt x="293" y="514"/>
                </a:lnTo>
                <a:lnTo>
                  <a:pt x="302" y="519"/>
                </a:lnTo>
                <a:lnTo>
                  <a:pt x="311" y="519"/>
                </a:lnTo>
                <a:lnTo>
                  <a:pt x="316" y="519"/>
                </a:lnTo>
                <a:lnTo>
                  <a:pt x="325" y="519"/>
                </a:lnTo>
                <a:lnTo>
                  <a:pt x="334" y="519"/>
                </a:lnTo>
                <a:lnTo>
                  <a:pt x="343" y="519"/>
                </a:lnTo>
                <a:lnTo>
                  <a:pt x="348" y="523"/>
                </a:lnTo>
                <a:lnTo>
                  <a:pt x="357" y="523"/>
                </a:lnTo>
                <a:lnTo>
                  <a:pt x="366" y="523"/>
                </a:lnTo>
                <a:lnTo>
                  <a:pt x="371" y="523"/>
                </a:lnTo>
                <a:lnTo>
                  <a:pt x="380" y="523"/>
                </a:lnTo>
                <a:lnTo>
                  <a:pt x="389" y="523"/>
                </a:lnTo>
                <a:lnTo>
                  <a:pt x="394" y="523"/>
                </a:lnTo>
                <a:lnTo>
                  <a:pt x="403" y="523"/>
                </a:lnTo>
                <a:lnTo>
                  <a:pt x="412" y="523"/>
                </a:lnTo>
                <a:lnTo>
                  <a:pt x="422" y="523"/>
                </a:lnTo>
                <a:lnTo>
                  <a:pt x="426" y="523"/>
                </a:lnTo>
                <a:lnTo>
                  <a:pt x="435" y="523"/>
                </a:lnTo>
                <a:lnTo>
                  <a:pt x="445" y="523"/>
                </a:lnTo>
                <a:lnTo>
                  <a:pt x="449" y="519"/>
                </a:lnTo>
                <a:lnTo>
                  <a:pt x="458" y="519"/>
                </a:lnTo>
                <a:lnTo>
                  <a:pt x="468" y="519"/>
                </a:lnTo>
                <a:lnTo>
                  <a:pt x="472" y="519"/>
                </a:lnTo>
                <a:lnTo>
                  <a:pt x="481" y="519"/>
                </a:lnTo>
                <a:lnTo>
                  <a:pt x="491" y="519"/>
                </a:lnTo>
                <a:lnTo>
                  <a:pt x="500" y="519"/>
                </a:lnTo>
                <a:lnTo>
                  <a:pt x="504" y="519"/>
                </a:lnTo>
                <a:lnTo>
                  <a:pt x="514" y="519"/>
                </a:lnTo>
                <a:lnTo>
                  <a:pt x="523" y="519"/>
                </a:lnTo>
                <a:lnTo>
                  <a:pt x="527" y="519"/>
                </a:lnTo>
                <a:lnTo>
                  <a:pt x="537" y="519"/>
                </a:lnTo>
                <a:lnTo>
                  <a:pt x="546" y="519"/>
                </a:lnTo>
                <a:lnTo>
                  <a:pt x="550" y="523"/>
                </a:lnTo>
                <a:lnTo>
                  <a:pt x="560" y="523"/>
                </a:lnTo>
                <a:lnTo>
                  <a:pt x="569" y="523"/>
                </a:lnTo>
                <a:lnTo>
                  <a:pt x="573" y="523"/>
                </a:lnTo>
                <a:lnTo>
                  <a:pt x="583" y="523"/>
                </a:lnTo>
                <a:lnTo>
                  <a:pt x="592" y="523"/>
                </a:lnTo>
                <a:lnTo>
                  <a:pt x="601" y="523"/>
                </a:lnTo>
                <a:lnTo>
                  <a:pt x="605" y="523"/>
                </a:lnTo>
                <a:lnTo>
                  <a:pt x="615" y="523"/>
                </a:lnTo>
                <a:lnTo>
                  <a:pt x="624" y="523"/>
                </a:lnTo>
                <a:lnTo>
                  <a:pt x="627" y="523"/>
                </a:lnTo>
                <a:lnTo>
                  <a:pt x="638" y="523"/>
                </a:lnTo>
                <a:lnTo>
                  <a:pt x="647" y="523"/>
                </a:lnTo>
                <a:lnTo>
                  <a:pt x="650" y="523"/>
                </a:lnTo>
                <a:lnTo>
                  <a:pt x="661" y="523"/>
                </a:lnTo>
                <a:lnTo>
                  <a:pt x="669" y="523"/>
                </a:lnTo>
                <a:lnTo>
                  <a:pt x="679" y="523"/>
                </a:lnTo>
                <a:lnTo>
                  <a:pt x="684" y="523"/>
                </a:lnTo>
                <a:lnTo>
                  <a:pt x="692" y="519"/>
                </a:lnTo>
                <a:lnTo>
                  <a:pt x="702" y="519"/>
                </a:lnTo>
                <a:lnTo>
                  <a:pt x="707" y="519"/>
                </a:lnTo>
                <a:lnTo>
                  <a:pt x="715" y="519"/>
                </a:lnTo>
                <a:lnTo>
                  <a:pt x="725" y="519"/>
                </a:lnTo>
                <a:lnTo>
                  <a:pt x="729" y="519"/>
                </a:lnTo>
                <a:lnTo>
                  <a:pt x="738" y="519"/>
                </a:lnTo>
                <a:lnTo>
                  <a:pt x="747" y="519"/>
                </a:lnTo>
                <a:lnTo>
                  <a:pt x="756" y="519"/>
                </a:lnTo>
                <a:lnTo>
                  <a:pt x="761" y="519"/>
                </a:lnTo>
                <a:lnTo>
                  <a:pt x="770" y="519"/>
                </a:lnTo>
                <a:lnTo>
                  <a:pt x="779" y="519"/>
                </a:lnTo>
                <a:lnTo>
                  <a:pt x="784" y="519"/>
                </a:lnTo>
                <a:lnTo>
                  <a:pt x="793" y="519"/>
                </a:lnTo>
                <a:lnTo>
                  <a:pt x="802" y="519"/>
                </a:lnTo>
                <a:lnTo>
                  <a:pt x="807" y="523"/>
                </a:lnTo>
                <a:lnTo>
                  <a:pt x="816" y="523"/>
                </a:lnTo>
                <a:lnTo>
                  <a:pt x="825" y="519"/>
                </a:lnTo>
                <a:lnTo>
                  <a:pt x="830" y="523"/>
                </a:lnTo>
                <a:lnTo>
                  <a:pt x="839" y="523"/>
                </a:lnTo>
                <a:lnTo>
                  <a:pt x="848" y="523"/>
                </a:lnTo>
                <a:lnTo>
                  <a:pt x="857" y="523"/>
                </a:lnTo>
                <a:lnTo>
                  <a:pt x="862" y="519"/>
                </a:lnTo>
                <a:lnTo>
                  <a:pt x="871" y="523"/>
                </a:lnTo>
                <a:lnTo>
                  <a:pt x="880" y="523"/>
                </a:lnTo>
                <a:lnTo>
                  <a:pt x="885" y="523"/>
                </a:lnTo>
                <a:lnTo>
                  <a:pt x="894" y="523"/>
                </a:lnTo>
                <a:lnTo>
                  <a:pt x="903" y="519"/>
                </a:lnTo>
                <a:lnTo>
                  <a:pt x="908" y="519"/>
                </a:lnTo>
                <a:lnTo>
                  <a:pt x="917" y="523"/>
                </a:lnTo>
                <a:lnTo>
                  <a:pt x="926" y="523"/>
                </a:lnTo>
                <a:lnTo>
                  <a:pt x="935" y="523"/>
                </a:lnTo>
                <a:lnTo>
                  <a:pt x="940" y="519"/>
                </a:lnTo>
                <a:lnTo>
                  <a:pt x="949" y="519"/>
                </a:lnTo>
                <a:lnTo>
                  <a:pt x="958" y="523"/>
                </a:lnTo>
                <a:lnTo>
                  <a:pt x="963" y="523"/>
                </a:lnTo>
                <a:lnTo>
                  <a:pt x="972" y="523"/>
                </a:lnTo>
                <a:lnTo>
                  <a:pt x="981" y="519"/>
                </a:lnTo>
                <a:lnTo>
                  <a:pt x="986" y="519"/>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5821200" y="3473280"/>
            <a:ext cx="349560" cy="6480"/>
          </a:xfrm>
          <a:custGeom>
            <a:avLst/>
            <a:gdLst/>
            <a:ahLst/>
            <a:rect l="l" t="t" r="r" b="b"/>
            <a:pathLst>
              <a:path w="220" h="4">
                <a:moveTo>
                  <a:pt x="0" y="0"/>
                </a:moveTo>
                <a:lnTo>
                  <a:pt x="9" y="4"/>
                </a:lnTo>
                <a:lnTo>
                  <a:pt x="18" y="4"/>
                </a:lnTo>
                <a:lnTo>
                  <a:pt x="28" y="4"/>
                </a:lnTo>
                <a:lnTo>
                  <a:pt x="32" y="0"/>
                </a:lnTo>
                <a:lnTo>
                  <a:pt x="41" y="0"/>
                </a:lnTo>
                <a:lnTo>
                  <a:pt x="51" y="4"/>
                </a:lnTo>
                <a:lnTo>
                  <a:pt x="55" y="4"/>
                </a:lnTo>
                <a:lnTo>
                  <a:pt x="64" y="4"/>
                </a:lnTo>
                <a:lnTo>
                  <a:pt x="74" y="0"/>
                </a:lnTo>
                <a:lnTo>
                  <a:pt x="78" y="0"/>
                </a:lnTo>
                <a:lnTo>
                  <a:pt x="87" y="4"/>
                </a:lnTo>
                <a:lnTo>
                  <a:pt x="97" y="4"/>
                </a:lnTo>
                <a:lnTo>
                  <a:pt x="101" y="4"/>
                </a:lnTo>
                <a:lnTo>
                  <a:pt x="110" y="0"/>
                </a:lnTo>
                <a:lnTo>
                  <a:pt x="119" y="0"/>
                </a:lnTo>
                <a:lnTo>
                  <a:pt x="129" y="4"/>
                </a:lnTo>
                <a:lnTo>
                  <a:pt x="133" y="0"/>
                </a:lnTo>
                <a:lnTo>
                  <a:pt x="142" y="4"/>
                </a:lnTo>
                <a:lnTo>
                  <a:pt x="152" y="4"/>
                </a:lnTo>
                <a:lnTo>
                  <a:pt x="156" y="0"/>
                </a:lnTo>
                <a:lnTo>
                  <a:pt x="165" y="4"/>
                </a:lnTo>
                <a:lnTo>
                  <a:pt x="174" y="0"/>
                </a:lnTo>
                <a:lnTo>
                  <a:pt x="179" y="4"/>
                </a:lnTo>
                <a:lnTo>
                  <a:pt x="188" y="4"/>
                </a:lnTo>
                <a:lnTo>
                  <a:pt x="197" y="0"/>
                </a:lnTo>
                <a:lnTo>
                  <a:pt x="207" y="0"/>
                </a:lnTo>
                <a:lnTo>
                  <a:pt x="210" y="4"/>
                </a:lnTo>
                <a:lnTo>
                  <a:pt x="220" y="4"/>
                </a:lnTo>
              </a:path>
            </a:pathLst>
          </a:custGeom>
          <a:noFill/>
          <a:ln cap="rnd" w="19080">
            <a:solidFill>
              <a:srgbClr val="00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119"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27560" y="838080"/>
            <a:ext cx="173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Solid</a:t>
            </a:r>
            <a:endParaRPr b="0" lang="en-US" sz="2400" spc="-1" strike="noStrike">
              <a:solidFill>
                <a:srgbClr val="000000"/>
              </a:solidFill>
              <a:latin typeface="Times New Roman"/>
            </a:endParaRPr>
          </a:p>
        </p:txBody>
      </p:sp>
      <p:sp>
        <p:nvSpPr>
          <p:cNvPr id="121" name=""/>
          <p:cNvSpPr/>
          <p:nvPr/>
        </p:nvSpPr>
        <p:spPr>
          <a:xfrm>
            <a:off x="2362320" y="3540240"/>
            <a:ext cx="2895480" cy="28954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95480" y="4073400"/>
            <a:ext cx="1828800" cy="18288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19416000">
            <a:off x="3504960" y="4835520"/>
            <a:ext cx="61272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809880" y="4473720"/>
            <a:ext cx="1359000" cy="514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809880" y="4683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09880" y="4987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657240" y="49878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181480" y="4278240"/>
            <a:ext cx="50184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26200" y="4606920"/>
            <a:ext cx="35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130" name=""/>
          <p:cNvSpPr/>
          <p:nvPr/>
        </p:nvSpPr>
        <p:spPr>
          <a:xfrm>
            <a:off x="3835440" y="5099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1" name=""/>
          <p:cNvSpPr/>
          <p:nvPr/>
        </p:nvSpPr>
        <p:spPr>
          <a:xfrm>
            <a:off x="5105520" y="44546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2" name=""/>
          <p:cNvSpPr/>
          <p:nvPr/>
        </p:nvSpPr>
        <p:spPr>
          <a:xfrm>
            <a:off x="3886200" y="514044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0640" y="5292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4" name=""/>
          <p:cNvSpPr/>
          <p:nvPr/>
        </p:nvSpPr>
        <p:spPr>
          <a:xfrm>
            <a:off x="3125520" y="468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w</a:t>
            </a:r>
            <a:endParaRPr b="0" lang="en-US" sz="1800" spc="-1" strike="noStrike">
              <a:solidFill>
                <a:srgbClr val="000000"/>
              </a:solidFill>
              <a:latin typeface="Times New Roman"/>
            </a:endParaRPr>
          </a:p>
        </p:txBody>
      </p:sp>
      <p:sp>
        <p:nvSpPr>
          <p:cNvPr id="135" name=""/>
          <p:cNvSpPr/>
          <p:nvPr/>
        </p:nvSpPr>
        <p:spPr>
          <a:xfrm flipH="1">
            <a:off x="1599840" y="3616200"/>
            <a:ext cx="68580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76520" y="4226040"/>
            <a:ext cx="6094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40720" y="360036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38" name=""/>
          <p:cNvSpPr/>
          <p:nvPr/>
        </p:nvSpPr>
        <p:spPr>
          <a:xfrm>
            <a:off x="228600" y="5416560"/>
            <a:ext cx="256860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 displac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litude for wa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ype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 P,S)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1)</a:t>
            </a:r>
            <a:endParaRPr b="0" lang="en-US" sz="1800" spc="-1" strike="noStrike">
              <a:solidFill>
                <a:srgbClr val="000000"/>
              </a:solidFill>
              <a:latin typeface="Times New Roman"/>
            </a:endParaRPr>
          </a:p>
        </p:txBody>
      </p:sp>
      <p:sp>
        <p:nvSpPr>
          <p:cNvPr id="139" name=""/>
          <p:cNvSpPr/>
          <p:nvPr/>
        </p:nvSpPr>
        <p:spPr>
          <a:xfrm flipV="1">
            <a:off x="4343400" y="422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800600" y="38444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3123720" y="41493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2742840" y="3692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15800" y="5484960"/>
            <a:ext cx="23652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781000" y="5978520"/>
            <a:ext cx="19044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400" y="5597640"/>
            <a:ext cx="18252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5978520"/>
            <a:ext cx="19872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1752480" y="4530600"/>
          <a:ext cx="457200" cy="609840"/>
        </p:xfrm>
        <a:graphic>
          <a:graphicData uri="http://schemas.openxmlformats.org/presentationml/2006/ole">
            <p:oleObj r:id="rId1" spid="">
              <p:embed/>
              <p:pic>
                <p:nvPicPr>
                  <p:cNvPr id="148" name="" descr=""/>
                  <p:cNvPicPr/>
                  <p:nvPr/>
                </p:nvPicPr>
                <p:blipFill>
                  <a:blip r:embed="rId2"/>
                  <a:stretch/>
                </p:blipFill>
                <p:spPr>
                  <a:xfrm>
                    <a:off x="1752480" y="4530600"/>
                    <a:ext cx="457200" cy="609840"/>
                  </a:xfrm>
                  <a:prstGeom prst="rect">
                    <a:avLst/>
                  </a:prstGeom>
                  <a:ln w="0">
                    <a:noFill/>
                  </a:ln>
                </p:spPr>
              </p:pic>
            </p:oleObj>
          </a:graphicData>
        </a:graphic>
      </p:graphicFrame>
      <p:graphicFrame>
        <p:nvGraphicFramePr>
          <p:cNvPr id="149" name=""/>
          <p:cNvGraphicFramePr/>
          <p:nvPr/>
        </p:nvGraphicFramePr>
        <p:xfrm>
          <a:off x="5562720" y="4378320"/>
          <a:ext cx="407880" cy="554040"/>
        </p:xfrm>
        <a:graphic>
          <a:graphicData uri="http://schemas.openxmlformats.org/presentationml/2006/ole">
            <p:oleObj r:id="rId3" spid="">
              <p:embed/>
              <p:pic>
                <p:nvPicPr>
                  <p:cNvPr id="150" name="" descr=""/>
                  <p:cNvPicPr/>
                  <p:nvPr/>
                </p:nvPicPr>
                <p:blipFill>
                  <a:blip r:embed="rId4"/>
                  <a:stretch/>
                </p:blipFill>
                <p:spPr>
                  <a:xfrm>
                    <a:off x="5562720" y="4378320"/>
                    <a:ext cx="407880" cy="554040"/>
                  </a:xfrm>
                  <a:prstGeom prst="rect">
                    <a:avLst/>
                  </a:prstGeom>
                  <a:ln w="0">
                    <a:noFill/>
                  </a:ln>
                </p:spPr>
              </p:pic>
            </p:oleObj>
          </a:graphicData>
        </a:graphic>
      </p:graphicFrame>
      <p:sp>
        <p:nvSpPr>
          <p:cNvPr id="151" name=""/>
          <p:cNvSpPr/>
          <p:nvPr/>
        </p:nvSpPr>
        <p:spPr>
          <a:xfrm>
            <a:off x="5028480" y="4989600"/>
            <a:ext cx="182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ttered wave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P,S)</a:t>
            </a:r>
            <a:endParaRPr b="0" lang="en-US" sz="1800" spc="-1" strike="noStrike">
              <a:solidFill>
                <a:srgbClr val="000000"/>
              </a:solidFill>
              <a:latin typeface="Times New Roman"/>
            </a:endParaRPr>
          </a:p>
        </p:txBody>
      </p:sp>
      <p:graphicFrame>
        <p:nvGraphicFramePr>
          <p:cNvPr id="152" name=""/>
          <p:cNvGraphicFramePr/>
          <p:nvPr/>
        </p:nvGraphicFramePr>
        <p:xfrm>
          <a:off x="762120" y="1295280"/>
          <a:ext cx="7619760" cy="968400"/>
        </p:xfrm>
        <a:graphic>
          <a:graphicData uri="http://schemas.openxmlformats.org/presentationml/2006/ole">
            <p:oleObj r:id="rId5" spid="">
              <p:embed/>
              <p:pic>
                <p:nvPicPr>
                  <p:cNvPr id="153" name="" descr=""/>
                  <p:cNvPicPr/>
                  <p:nvPr/>
                </p:nvPicPr>
                <p:blipFill>
                  <a:blip r:embed="rId6"/>
                  <a:stretch/>
                </p:blipFill>
                <p:spPr>
                  <a:xfrm>
                    <a:off x="762120" y="1295280"/>
                    <a:ext cx="7619760" cy="968400"/>
                  </a:xfrm>
                  <a:prstGeom prst="rect">
                    <a:avLst/>
                  </a:prstGeom>
                  <a:ln w="0">
                    <a:noFill/>
                  </a:ln>
                </p:spPr>
              </p:pic>
            </p:oleObj>
          </a:graphicData>
        </a:graphic>
      </p:graphicFrame>
      <p:graphicFrame>
        <p:nvGraphicFramePr>
          <p:cNvPr id="154" name=""/>
          <p:cNvGraphicFramePr/>
          <p:nvPr/>
        </p:nvGraphicFramePr>
        <p:xfrm>
          <a:off x="3648240" y="5086440"/>
          <a:ext cx="341280" cy="471240"/>
        </p:xfrm>
        <a:graphic>
          <a:graphicData uri="http://schemas.openxmlformats.org/presentationml/2006/ole">
            <p:oleObj r:id="rId7" spid="">
              <p:embed/>
              <p:pic>
                <p:nvPicPr>
                  <p:cNvPr id="155" name="" descr=""/>
                  <p:cNvPicPr/>
                  <p:nvPr/>
                </p:nvPicPr>
                <p:blipFill>
                  <a:blip r:embed="rId8"/>
                  <a:stretch/>
                </p:blipFill>
                <p:spPr>
                  <a:xfrm>
                    <a:off x="3648240" y="5086440"/>
                    <a:ext cx="341280" cy="471240"/>
                  </a:xfrm>
                  <a:prstGeom prst="rect">
                    <a:avLst/>
                  </a:prstGeom>
                  <a:ln w="0">
                    <a:noFill/>
                  </a:ln>
                </p:spPr>
              </p:pic>
            </p:oleObj>
          </a:graphicData>
        </a:graphic>
      </p:graphicFrame>
      <p:sp>
        <p:nvSpPr>
          <p:cNvPr id="156" name=""/>
          <p:cNvSpPr/>
          <p:nvPr/>
        </p:nvSpPr>
        <p:spPr>
          <a:xfrm>
            <a:off x="304920" y="2216160"/>
            <a:ext cx="275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ttered displac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a flaw</a:t>
            </a:r>
            <a:endParaRPr b="0" lang="en-US" sz="1800" spc="-1" strike="noStrike">
              <a:solidFill>
                <a:srgbClr val="000000"/>
              </a:solidFill>
              <a:latin typeface="Times New Roman"/>
            </a:endParaRPr>
          </a:p>
        </p:txBody>
      </p:sp>
      <p:sp>
        <p:nvSpPr>
          <p:cNvPr id="157" name=""/>
          <p:cNvSpPr/>
          <p:nvPr/>
        </p:nvSpPr>
        <p:spPr>
          <a:xfrm>
            <a:off x="3583080" y="221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ave</a:t>
            </a:r>
            <a:endParaRPr b="0" lang="en-US" sz="1800" spc="-1" strike="noStrike">
              <a:solidFill>
                <a:srgbClr val="000000"/>
              </a:solidFill>
              <a:latin typeface="Times New Roman"/>
            </a:endParaRPr>
          </a:p>
        </p:txBody>
      </p:sp>
      <p:sp>
        <p:nvSpPr>
          <p:cNvPr id="158" name=""/>
          <p:cNvSpPr/>
          <p:nvPr/>
        </p:nvSpPr>
        <p:spPr>
          <a:xfrm>
            <a:off x="5945400" y="221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2"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3193"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1133640" y="1066680"/>
            <a:ext cx="779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2: pulse-echo SV-wave scattering of a spherical void</a:t>
            </a:r>
            <a:endParaRPr b="0" lang="en-US" sz="2400" spc="-1" strike="noStrike">
              <a:solidFill>
                <a:srgbClr val="000000"/>
              </a:solidFill>
              <a:latin typeface="Times New Roman"/>
            </a:endParaRPr>
          </a:p>
        </p:txBody>
      </p:sp>
      <p:sp>
        <p:nvSpPr>
          <p:cNvPr id="319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96" name=""/>
          <p:cNvGraphicFramePr/>
          <p:nvPr/>
        </p:nvGraphicFramePr>
        <p:xfrm>
          <a:off x="2209680" y="1600200"/>
          <a:ext cx="3962520" cy="882720"/>
        </p:xfrm>
        <a:graphic>
          <a:graphicData uri="http://schemas.openxmlformats.org/presentationml/2006/ole">
            <p:oleObj r:id="rId1" spid="">
              <p:embed/>
              <p:pic>
                <p:nvPicPr>
                  <p:cNvPr id="3197" name="" descr=""/>
                  <p:cNvPicPr/>
                  <p:nvPr/>
                </p:nvPicPr>
                <p:blipFill>
                  <a:blip r:embed="rId2"/>
                  <a:stretch/>
                </p:blipFill>
                <p:spPr>
                  <a:xfrm>
                    <a:off x="2209680" y="1600200"/>
                    <a:ext cx="3962520" cy="882720"/>
                  </a:xfrm>
                  <a:prstGeom prst="rect">
                    <a:avLst/>
                  </a:prstGeom>
                  <a:ln w="0">
                    <a:noFill/>
                  </a:ln>
                </p:spPr>
              </p:pic>
            </p:oleObj>
          </a:graphicData>
        </a:graphic>
      </p:graphicFrame>
      <p:sp>
        <p:nvSpPr>
          <p:cNvPr id="319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99" name=""/>
          <p:cNvGraphicFramePr/>
          <p:nvPr/>
        </p:nvGraphicFramePr>
        <p:xfrm>
          <a:off x="2971800" y="2514600"/>
          <a:ext cx="3048120" cy="733320"/>
        </p:xfrm>
        <a:graphic>
          <a:graphicData uri="http://schemas.openxmlformats.org/presentationml/2006/ole">
            <p:oleObj r:id="rId3" spid="">
              <p:embed/>
              <p:pic>
                <p:nvPicPr>
                  <p:cNvPr id="3200" name="" descr=""/>
                  <p:cNvPicPr/>
                  <p:nvPr/>
                </p:nvPicPr>
                <p:blipFill>
                  <a:blip r:embed="rId4"/>
                  <a:stretch/>
                </p:blipFill>
                <p:spPr>
                  <a:xfrm>
                    <a:off x="2971800" y="2514600"/>
                    <a:ext cx="3048120" cy="733320"/>
                  </a:xfrm>
                  <a:prstGeom prst="rect">
                    <a:avLst/>
                  </a:prstGeom>
                  <a:ln w="0">
                    <a:noFill/>
                  </a:ln>
                </p:spPr>
              </p:pic>
            </p:oleObj>
          </a:graphicData>
        </a:graphic>
      </p:graphicFrame>
      <p:sp>
        <p:nvSpPr>
          <p:cNvPr id="3201" name=""/>
          <p:cNvSpPr/>
          <p:nvPr/>
        </p:nvSpPr>
        <p:spPr>
          <a:xfrm>
            <a:off x="0" y="22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02" name=""/>
          <p:cNvGraphicFramePr/>
          <p:nvPr/>
        </p:nvGraphicFramePr>
        <p:xfrm>
          <a:off x="2438280" y="3522600"/>
          <a:ext cx="4162680" cy="3137040"/>
        </p:xfrm>
        <a:graphic>
          <a:graphicData uri="http://schemas.openxmlformats.org/presentationml/2006/ole">
            <p:oleObj r:id="rId5" spid="">
              <p:embed/>
              <p:pic>
                <p:nvPicPr>
                  <p:cNvPr id="3203" name="" descr=""/>
                  <p:cNvPicPr/>
                  <p:nvPr/>
                </p:nvPicPr>
                <p:blipFill>
                  <a:blip r:embed="rId6"/>
                  <a:stretch/>
                </p:blipFill>
                <p:spPr>
                  <a:xfrm>
                    <a:off x="2438280" y="3522600"/>
                    <a:ext cx="4162680" cy="31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4"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3205"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059840" y="1143000"/>
            <a:ext cx="58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V-wave pulse-echo scattering amplitude</a:t>
            </a:r>
            <a:endParaRPr b="0" lang="en-US" sz="2400" spc="-1" strike="noStrike">
              <a:solidFill>
                <a:srgbClr val="000000"/>
              </a:solidFill>
              <a:latin typeface="Times New Roman"/>
            </a:endParaRPr>
          </a:p>
        </p:txBody>
      </p:sp>
      <p:sp>
        <p:nvSpPr>
          <p:cNvPr id="3207" name=""/>
          <p:cNvSpPr/>
          <p:nvPr/>
        </p:nvSpPr>
        <p:spPr>
          <a:xfrm>
            <a:off x="380880" y="5410080"/>
            <a:ext cx="724068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tude of the pulse-echo SV-wave response, , versus frequency for  a 0.5 mm radius spherical void in stee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 5900 m/s,   c</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3200 m/sec) as calculated by the method of separation of variables</a:t>
            </a:r>
            <a:endParaRPr b="0" lang="en-US" sz="1200" spc="-1" strike="noStrike">
              <a:solidFill>
                <a:srgbClr val="000000"/>
              </a:solidFill>
              <a:latin typeface="Times New Roman"/>
            </a:endParaRPr>
          </a:p>
        </p:txBody>
      </p:sp>
      <p:sp>
        <p:nvSpPr>
          <p:cNvPr id="3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9" name=""/>
          <p:cNvSpPr/>
          <p:nvPr/>
        </p:nvSpPr>
        <p:spPr>
          <a:xfrm>
            <a:off x="2786040" y="2112840"/>
            <a:ext cx="3438720" cy="271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2786040" y="2112840"/>
            <a:ext cx="3438720" cy="27115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2786040" y="2112840"/>
            <a:ext cx="3438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2" name=""/>
          <p:cNvSpPr/>
          <p:nvPr/>
        </p:nvSpPr>
        <p:spPr>
          <a:xfrm>
            <a:off x="2786040" y="2112840"/>
            <a:ext cx="3438720" cy="2711520"/>
          </a:xfrm>
          <a:custGeom>
            <a:avLst/>
            <a:gdLst/>
            <a:ahLst/>
            <a:rect l="l" t="t" r="r" b="b"/>
            <a:pathLst>
              <a:path w="2166" h="1708">
                <a:moveTo>
                  <a:pt x="0" y="1708"/>
                </a:moveTo>
                <a:lnTo>
                  <a:pt x="2166" y="1708"/>
                </a:lnTo>
                <a:lnTo>
                  <a:pt x="21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flipV="1">
            <a:off x="2786040" y="2112840"/>
            <a:ext cx="1440" cy="2711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flipV="1">
            <a:off x="278604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5" name=""/>
          <p:cNvSpPr/>
          <p:nvPr/>
        </p:nvSpPr>
        <p:spPr>
          <a:xfrm>
            <a:off x="278604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6" name=""/>
          <p:cNvSpPr/>
          <p:nvPr/>
        </p:nvSpPr>
        <p:spPr>
          <a:xfrm>
            <a:off x="276336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217" name=""/>
          <p:cNvSpPr/>
          <p:nvPr/>
        </p:nvSpPr>
        <p:spPr>
          <a:xfrm flipV="1">
            <a:off x="312732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8" name=""/>
          <p:cNvSpPr/>
          <p:nvPr/>
        </p:nvSpPr>
        <p:spPr>
          <a:xfrm>
            <a:off x="312732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310464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3220" name=""/>
          <p:cNvSpPr/>
          <p:nvPr/>
        </p:nvSpPr>
        <p:spPr>
          <a:xfrm flipV="1">
            <a:off x="34671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1" name=""/>
          <p:cNvSpPr/>
          <p:nvPr/>
        </p:nvSpPr>
        <p:spPr>
          <a:xfrm>
            <a:off x="34671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2" name=""/>
          <p:cNvSpPr/>
          <p:nvPr/>
        </p:nvSpPr>
        <p:spPr>
          <a:xfrm>
            <a:off x="344628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223" name=""/>
          <p:cNvSpPr/>
          <p:nvPr/>
        </p:nvSpPr>
        <p:spPr>
          <a:xfrm flipV="1">
            <a:off x="38163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4" name=""/>
          <p:cNvSpPr/>
          <p:nvPr/>
        </p:nvSpPr>
        <p:spPr>
          <a:xfrm>
            <a:off x="38163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5" name=""/>
          <p:cNvSpPr/>
          <p:nvPr/>
        </p:nvSpPr>
        <p:spPr>
          <a:xfrm>
            <a:off x="379368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3226" name=""/>
          <p:cNvSpPr/>
          <p:nvPr/>
        </p:nvSpPr>
        <p:spPr>
          <a:xfrm flipV="1">
            <a:off x="415620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7" name=""/>
          <p:cNvSpPr/>
          <p:nvPr/>
        </p:nvSpPr>
        <p:spPr>
          <a:xfrm>
            <a:off x="415620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8" name=""/>
          <p:cNvSpPr/>
          <p:nvPr/>
        </p:nvSpPr>
        <p:spPr>
          <a:xfrm>
            <a:off x="413352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3229" name=""/>
          <p:cNvSpPr/>
          <p:nvPr/>
        </p:nvSpPr>
        <p:spPr>
          <a:xfrm flipV="1">
            <a:off x="450540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450540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1" name=""/>
          <p:cNvSpPr/>
          <p:nvPr/>
        </p:nvSpPr>
        <p:spPr>
          <a:xfrm>
            <a:off x="445104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232" name=""/>
          <p:cNvSpPr/>
          <p:nvPr/>
        </p:nvSpPr>
        <p:spPr>
          <a:xfrm flipV="1">
            <a:off x="484488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484488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4" name=""/>
          <p:cNvSpPr/>
          <p:nvPr/>
        </p:nvSpPr>
        <p:spPr>
          <a:xfrm>
            <a:off x="479088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235" name=""/>
          <p:cNvSpPr/>
          <p:nvPr/>
        </p:nvSpPr>
        <p:spPr>
          <a:xfrm flipV="1">
            <a:off x="518652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6" name=""/>
          <p:cNvSpPr/>
          <p:nvPr/>
        </p:nvSpPr>
        <p:spPr>
          <a:xfrm>
            <a:off x="518652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7" name=""/>
          <p:cNvSpPr/>
          <p:nvPr/>
        </p:nvSpPr>
        <p:spPr>
          <a:xfrm>
            <a:off x="513036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3238" name=""/>
          <p:cNvSpPr/>
          <p:nvPr/>
        </p:nvSpPr>
        <p:spPr>
          <a:xfrm flipV="1">
            <a:off x="5533920" y="4782600"/>
            <a:ext cx="32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9" name=""/>
          <p:cNvSpPr/>
          <p:nvPr/>
        </p:nvSpPr>
        <p:spPr>
          <a:xfrm>
            <a:off x="5533920" y="211284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0" name=""/>
          <p:cNvSpPr/>
          <p:nvPr/>
        </p:nvSpPr>
        <p:spPr>
          <a:xfrm>
            <a:off x="547992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3241" name=""/>
          <p:cNvSpPr/>
          <p:nvPr/>
        </p:nvSpPr>
        <p:spPr>
          <a:xfrm flipV="1">
            <a:off x="587520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2" name=""/>
          <p:cNvSpPr/>
          <p:nvPr/>
        </p:nvSpPr>
        <p:spPr>
          <a:xfrm>
            <a:off x="587520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3" name=""/>
          <p:cNvSpPr/>
          <p:nvPr/>
        </p:nvSpPr>
        <p:spPr>
          <a:xfrm>
            <a:off x="581940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a:t>
            </a:r>
            <a:endParaRPr b="0" lang="en-US" sz="1100" spc="-1" strike="noStrike">
              <a:solidFill>
                <a:srgbClr val="000000"/>
              </a:solidFill>
              <a:latin typeface="Times New Roman"/>
            </a:endParaRPr>
          </a:p>
        </p:txBody>
      </p:sp>
      <p:sp>
        <p:nvSpPr>
          <p:cNvPr id="3244" name=""/>
          <p:cNvSpPr/>
          <p:nvPr/>
        </p:nvSpPr>
        <p:spPr>
          <a:xfrm flipV="1">
            <a:off x="62247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62247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6" name=""/>
          <p:cNvSpPr/>
          <p:nvPr/>
        </p:nvSpPr>
        <p:spPr>
          <a:xfrm>
            <a:off x="616860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247" name=""/>
          <p:cNvSpPr/>
          <p:nvPr/>
        </p:nvSpPr>
        <p:spPr>
          <a:xfrm>
            <a:off x="2786040" y="482436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8" name=""/>
          <p:cNvSpPr/>
          <p:nvPr/>
        </p:nvSpPr>
        <p:spPr>
          <a:xfrm flipH="1">
            <a:off x="6183000" y="48243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9" name=""/>
          <p:cNvSpPr/>
          <p:nvPr/>
        </p:nvSpPr>
        <p:spPr>
          <a:xfrm>
            <a:off x="2653920" y="47703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250" name=""/>
          <p:cNvSpPr/>
          <p:nvPr/>
        </p:nvSpPr>
        <p:spPr>
          <a:xfrm>
            <a:off x="2786040" y="443556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1" name=""/>
          <p:cNvSpPr/>
          <p:nvPr/>
        </p:nvSpPr>
        <p:spPr>
          <a:xfrm flipH="1">
            <a:off x="6183000" y="44355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2" name=""/>
          <p:cNvSpPr/>
          <p:nvPr/>
        </p:nvSpPr>
        <p:spPr>
          <a:xfrm>
            <a:off x="2566080" y="4383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a:t>
            </a:r>
            <a:endParaRPr b="0" lang="en-US" sz="1100" spc="-1" strike="noStrike">
              <a:solidFill>
                <a:srgbClr val="000000"/>
              </a:solidFill>
              <a:latin typeface="Times New Roman"/>
            </a:endParaRPr>
          </a:p>
        </p:txBody>
      </p:sp>
      <p:sp>
        <p:nvSpPr>
          <p:cNvPr id="3253" name=""/>
          <p:cNvSpPr/>
          <p:nvPr/>
        </p:nvSpPr>
        <p:spPr>
          <a:xfrm>
            <a:off x="2786040" y="404640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4" name=""/>
          <p:cNvSpPr/>
          <p:nvPr/>
        </p:nvSpPr>
        <p:spPr>
          <a:xfrm flipH="1">
            <a:off x="6183000" y="4046400"/>
            <a:ext cx="414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5" name=""/>
          <p:cNvSpPr/>
          <p:nvPr/>
        </p:nvSpPr>
        <p:spPr>
          <a:xfrm>
            <a:off x="2566080" y="39942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a:t>
            </a:r>
            <a:endParaRPr b="0" lang="en-US" sz="1100" spc="-1" strike="noStrike">
              <a:solidFill>
                <a:srgbClr val="000000"/>
              </a:solidFill>
              <a:latin typeface="Times New Roman"/>
            </a:endParaRPr>
          </a:p>
        </p:txBody>
      </p:sp>
      <p:sp>
        <p:nvSpPr>
          <p:cNvPr id="3256" name=""/>
          <p:cNvSpPr/>
          <p:nvPr/>
        </p:nvSpPr>
        <p:spPr>
          <a:xfrm>
            <a:off x="2786040" y="36590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7" name=""/>
          <p:cNvSpPr/>
          <p:nvPr/>
        </p:nvSpPr>
        <p:spPr>
          <a:xfrm flipH="1">
            <a:off x="6183000" y="36590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8" name=""/>
          <p:cNvSpPr/>
          <p:nvPr/>
        </p:nvSpPr>
        <p:spPr>
          <a:xfrm>
            <a:off x="2566080" y="3605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Times New Roman"/>
            </a:endParaRPr>
          </a:p>
        </p:txBody>
      </p:sp>
      <p:sp>
        <p:nvSpPr>
          <p:cNvPr id="3259" name=""/>
          <p:cNvSpPr/>
          <p:nvPr/>
        </p:nvSpPr>
        <p:spPr>
          <a:xfrm>
            <a:off x="2786040" y="32702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0" name=""/>
          <p:cNvSpPr/>
          <p:nvPr/>
        </p:nvSpPr>
        <p:spPr>
          <a:xfrm flipH="1">
            <a:off x="6183000" y="327024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566080" y="32162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a:t>
            </a:r>
            <a:endParaRPr b="0" lang="en-US" sz="1100" spc="-1" strike="noStrike">
              <a:solidFill>
                <a:srgbClr val="000000"/>
              </a:solidFill>
              <a:latin typeface="Times New Roman"/>
            </a:endParaRPr>
          </a:p>
        </p:txBody>
      </p:sp>
      <p:sp>
        <p:nvSpPr>
          <p:cNvPr id="3262" name=""/>
          <p:cNvSpPr/>
          <p:nvPr/>
        </p:nvSpPr>
        <p:spPr>
          <a:xfrm>
            <a:off x="2786040" y="28796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flipH="1">
            <a:off x="6183000" y="28796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2566080" y="28288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265" name=""/>
          <p:cNvSpPr/>
          <p:nvPr/>
        </p:nvSpPr>
        <p:spPr>
          <a:xfrm>
            <a:off x="2786040" y="249228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6" name=""/>
          <p:cNvSpPr/>
          <p:nvPr/>
        </p:nvSpPr>
        <p:spPr>
          <a:xfrm flipH="1">
            <a:off x="6183000" y="249228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7" name=""/>
          <p:cNvSpPr/>
          <p:nvPr/>
        </p:nvSpPr>
        <p:spPr>
          <a:xfrm>
            <a:off x="2566080" y="2441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a:t>
            </a:r>
            <a:endParaRPr b="0" lang="en-US" sz="1100" spc="-1" strike="noStrike">
              <a:solidFill>
                <a:srgbClr val="000000"/>
              </a:solidFill>
              <a:latin typeface="Times New Roman"/>
            </a:endParaRPr>
          </a:p>
        </p:txBody>
      </p:sp>
      <p:sp>
        <p:nvSpPr>
          <p:cNvPr id="3268" name=""/>
          <p:cNvSpPr/>
          <p:nvPr/>
        </p:nvSpPr>
        <p:spPr>
          <a:xfrm>
            <a:off x="2786040" y="21128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9" name=""/>
          <p:cNvSpPr/>
          <p:nvPr/>
        </p:nvSpPr>
        <p:spPr>
          <a:xfrm flipH="1">
            <a:off x="6183000" y="21128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0" name=""/>
          <p:cNvSpPr/>
          <p:nvPr/>
        </p:nvSpPr>
        <p:spPr>
          <a:xfrm>
            <a:off x="2566080" y="20620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a:t>
            </a:r>
            <a:endParaRPr b="0" lang="en-US" sz="1100" spc="-1" strike="noStrike">
              <a:solidFill>
                <a:srgbClr val="000000"/>
              </a:solidFill>
              <a:latin typeface="Times New Roman"/>
            </a:endParaRPr>
          </a:p>
        </p:txBody>
      </p:sp>
      <p:sp>
        <p:nvSpPr>
          <p:cNvPr id="3271" name=""/>
          <p:cNvSpPr/>
          <p:nvPr/>
        </p:nvSpPr>
        <p:spPr>
          <a:xfrm>
            <a:off x="2786040" y="3475080"/>
            <a:ext cx="1092240" cy="1349280"/>
          </a:xfrm>
          <a:custGeom>
            <a:avLst/>
            <a:gdLst/>
            <a:ahLst/>
            <a:rect l="l" t="t" r="r" b="b"/>
            <a:pathLst>
              <a:path w="688" h="850">
                <a:moveTo>
                  <a:pt x="0" y="850"/>
                </a:moveTo>
                <a:lnTo>
                  <a:pt x="6" y="844"/>
                </a:lnTo>
                <a:lnTo>
                  <a:pt x="10" y="834"/>
                </a:lnTo>
                <a:lnTo>
                  <a:pt x="16" y="819"/>
                </a:lnTo>
                <a:lnTo>
                  <a:pt x="20" y="799"/>
                </a:lnTo>
                <a:lnTo>
                  <a:pt x="26" y="775"/>
                </a:lnTo>
                <a:lnTo>
                  <a:pt x="30" y="744"/>
                </a:lnTo>
                <a:lnTo>
                  <a:pt x="36" y="710"/>
                </a:lnTo>
                <a:lnTo>
                  <a:pt x="41" y="675"/>
                </a:lnTo>
                <a:lnTo>
                  <a:pt x="45" y="629"/>
                </a:lnTo>
                <a:lnTo>
                  <a:pt x="51" y="584"/>
                </a:lnTo>
                <a:lnTo>
                  <a:pt x="55" y="535"/>
                </a:lnTo>
                <a:lnTo>
                  <a:pt x="65" y="485"/>
                </a:lnTo>
                <a:lnTo>
                  <a:pt x="71" y="430"/>
                </a:lnTo>
                <a:lnTo>
                  <a:pt x="75" y="380"/>
                </a:lnTo>
                <a:lnTo>
                  <a:pt x="81" y="325"/>
                </a:lnTo>
                <a:lnTo>
                  <a:pt x="85" y="276"/>
                </a:lnTo>
                <a:lnTo>
                  <a:pt x="91" y="230"/>
                </a:lnTo>
                <a:lnTo>
                  <a:pt x="95" y="185"/>
                </a:lnTo>
                <a:lnTo>
                  <a:pt x="100" y="146"/>
                </a:lnTo>
                <a:lnTo>
                  <a:pt x="106" y="116"/>
                </a:lnTo>
                <a:lnTo>
                  <a:pt x="110" y="85"/>
                </a:lnTo>
                <a:lnTo>
                  <a:pt x="116" y="71"/>
                </a:lnTo>
                <a:lnTo>
                  <a:pt x="126" y="61"/>
                </a:lnTo>
                <a:lnTo>
                  <a:pt x="130" y="61"/>
                </a:lnTo>
                <a:lnTo>
                  <a:pt x="136" y="71"/>
                </a:lnTo>
                <a:lnTo>
                  <a:pt x="140" y="91"/>
                </a:lnTo>
                <a:lnTo>
                  <a:pt x="146" y="120"/>
                </a:lnTo>
                <a:lnTo>
                  <a:pt x="150" y="155"/>
                </a:lnTo>
                <a:lnTo>
                  <a:pt x="155" y="201"/>
                </a:lnTo>
                <a:lnTo>
                  <a:pt x="160" y="255"/>
                </a:lnTo>
                <a:lnTo>
                  <a:pt x="165" y="315"/>
                </a:lnTo>
                <a:lnTo>
                  <a:pt x="171" y="375"/>
                </a:lnTo>
                <a:lnTo>
                  <a:pt x="175" y="440"/>
                </a:lnTo>
                <a:lnTo>
                  <a:pt x="181" y="499"/>
                </a:lnTo>
                <a:lnTo>
                  <a:pt x="190" y="550"/>
                </a:lnTo>
                <a:lnTo>
                  <a:pt x="195" y="580"/>
                </a:lnTo>
                <a:lnTo>
                  <a:pt x="200" y="580"/>
                </a:lnTo>
                <a:lnTo>
                  <a:pt x="205" y="545"/>
                </a:lnTo>
                <a:lnTo>
                  <a:pt x="210" y="495"/>
                </a:lnTo>
                <a:lnTo>
                  <a:pt x="215" y="435"/>
                </a:lnTo>
                <a:lnTo>
                  <a:pt x="220" y="375"/>
                </a:lnTo>
                <a:lnTo>
                  <a:pt x="225" y="315"/>
                </a:lnTo>
                <a:lnTo>
                  <a:pt x="230" y="260"/>
                </a:lnTo>
                <a:lnTo>
                  <a:pt x="236" y="211"/>
                </a:lnTo>
                <a:lnTo>
                  <a:pt x="240" y="175"/>
                </a:lnTo>
                <a:lnTo>
                  <a:pt x="250" y="150"/>
                </a:lnTo>
                <a:lnTo>
                  <a:pt x="255" y="136"/>
                </a:lnTo>
                <a:lnTo>
                  <a:pt x="260" y="130"/>
                </a:lnTo>
                <a:lnTo>
                  <a:pt x="265" y="140"/>
                </a:lnTo>
                <a:lnTo>
                  <a:pt x="270" y="160"/>
                </a:lnTo>
                <a:lnTo>
                  <a:pt x="275" y="195"/>
                </a:lnTo>
                <a:lnTo>
                  <a:pt x="280" y="235"/>
                </a:lnTo>
                <a:lnTo>
                  <a:pt x="285" y="290"/>
                </a:lnTo>
                <a:lnTo>
                  <a:pt x="289" y="355"/>
                </a:lnTo>
                <a:lnTo>
                  <a:pt x="295" y="424"/>
                </a:lnTo>
                <a:lnTo>
                  <a:pt x="299" y="499"/>
                </a:lnTo>
                <a:lnTo>
                  <a:pt x="310" y="574"/>
                </a:lnTo>
                <a:lnTo>
                  <a:pt x="315" y="635"/>
                </a:lnTo>
                <a:lnTo>
                  <a:pt x="320" y="665"/>
                </a:lnTo>
                <a:lnTo>
                  <a:pt x="325" y="645"/>
                </a:lnTo>
                <a:lnTo>
                  <a:pt x="330" y="590"/>
                </a:lnTo>
                <a:lnTo>
                  <a:pt x="335" y="515"/>
                </a:lnTo>
                <a:lnTo>
                  <a:pt x="340" y="440"/>
                </a:lnTo>
                <a:lnTo>
                  <a:pt x="344" y="365"/>
                </a:lnTo>
                <a:lnTo>
                  <a:pt x="350" y="295"/>
                </a:lnTo>
                <a:lnTo>
                  <a:pt x="354" y="235"/>
                </a:lnTo>
                <a:lnTo>
                  <a:pt x="360" y="180"/>
                </a:lnTo>
                <a:lnTo>
                  <a:pt x="364" y="140"/>
                </a:lnTo>
                <a:lnTo>
                  <a:pt x="375" y="110"/>
                </a:lnTo>
                <a:lnTo>
                  <a:pt x="380" y="95"/>
                </a:lnTo>
                <a:lnTo>
                  <a:pt x="385" y="95"/>
                </a:lnTo>
                <a:lnTo>
                  <a:pt x="390" y="105"/>
                </a:lnTo>
                <a:lnTo>
                  <a:pt x="395" y="130"/>
                </a:lnTo>
                <a:lnTo>
                  <a:pt x="399" y="165"/>
                </a:lnTo>
                <a:lnTo>
                  <a:pt x="405" y="215"/>
                </a:lnTo>
                <a:lnTo>
                  <a:pt x="409" y="276"/>
                </a:lnTo>
                <a:lnTo>
                  <a:pt x="415" y="349"/>
                </a:lnTo>
                <a:lnTo>
                  <a:pt x="419" y="424"/>
                </a:lnTo>
                <a:lnTo>
                  <a:pt x="425" y="505"/>
                </a:lnTo>
                <a:lnTo>
                  <a:pt x="434" y="580"/>
                </a:lnTo>
                <a:lnTo>
                  <a:pt x="440" y="639"/>
                </a:lnTo>
                <a:lnTo>
                  <a:pt x="444" y="659"/>
                </a:lnTo>
                <a:lnTo>
                  <a:pt x="450" y="629"/>
                </a:lnTo>
                <a:lnTo>
                  <a:pt x="454" y="560"/>
                </a:lnTo>
                <a:lnTo>
                  <a:pt x="460" y="485"/>
                </a:lnTo>
                <a:lnTo>
                  <a:pt x="464" y="400"/>
                </a:lnTo>
                <a:lnTo>
                  <a:pt x="470" y="320"/>
                </a:lnTo>
                <a:lnTo>
                  <a:pt x="474" y="250"/>
                </a:lnTo>
                <a:lnTo>
                  <a:pt x="480" y="185"/>
                </a:lnTo>
                <a:lnTo>
                  <a:pt x="484" y="136"/>
                </a:lnTo>
                <a:lnTo>
                  <a:pt x="489" y="91"/>
                </a:lnTo>
                <a:lnTo>
                  <a:pt x="499" y="65"/>
                </a:lnTo>
                <a:lnTo>
                  <a:pt x="505" y="51"/>
                </a:lnTo>
                <a:lnTo>
                  <a:pt x="509" y="55"/>
                </a:lnTo>
                <a:lnTo>
                  <a:pt x="515" y="71"/>
                </a:lnTo>
                <a:lnTo>
                  <a:pt x="519" y="100"/>
                </a:lnTo>
                <a:lnTo>
                  <a:pt x="525" y="146"/>
                </a:lnTo>
                <a:lnTo>
                  <a:pt x="529" y="201"/>
                </a:lnTo>
                <a:lnTo>
                  <a:pt x="535" y="265"/>
                </a:lnTo>
                <a:lnTo>
                  <a:pt x="539" y="340"/>
                </a:lnTo>
                <a:lnTo>
                  <a:pt x="544" y="420"/>
                </a:lnTo>
                <a:lnTo>
                  <a:pt x="549" y="505"/>
                </a:lnTo>
                <a:lnTo>
                  <a:pt x="559" y="580"/>
                </a:lnTo>
                <a:lnTo>
                  <a:pt x="564" y="635"/>
                </a:lnTo>
                <a:lnTo>
                  <a:pt x="570" y="645"/>
                </a:lnTo>
                <a:lnTo>
                  <a:pt x="574" y="600"/>
                </a:lnTo>
                <a:lnTo>
                  <a:pt x="580" y="525"/>
                </a:lnTo>
                <a:lnTo>
                  <a:pt x="584" y="435"/>
                </a:lnTo>
                <a:lnTo>
                  <a:pt x="589" y="349"/>
                </a:lnTo>
                <a:lnTo>
                  <a:pt x="594" y="265"/>
                </a:lnTo>
                <a:lnTo>
                  <a:pt x="599" y="190"/>
                </a:lnTo>
                <a:lnTo>
                  <a:pt x="604" y="126"/>
                </a:lnTo>
                <a:lnTo>
                  <a:pt x="609" y="75"/>
                </a:lnTo>
                <a:lnTo>
                  <a:pt x="619" y="35"/>
                </a:lnTo>
                <a:lnTo>
                  <a:pt x="624" y="10"/>
                </a:lnTo>
                <a:lnTo>
                  <a:pt x="629" y="0"/>
                </a:lnTo>
                <a:lnTo>
                  <a:pt x="635" y="6"/>
                </a:lnTo>
                <a:lnTo>
                  <a:pt x="639" y="25"/>
                </a:lnTo>
                <a:lnTo>
                  <a:pt x="644" y="61"/>
                </a:lnTo>
                <a:lnTo>
                  <a:pt x="649" y="110"/>
                </a:lnTo>
                <a:lnTo>
                  <a:pt x="654" y="170"/>
                </a:lnTo>
                <a:lnTo>
                  <a:pt x="659" y="240"/>
                </a:lnTo>
                <a:lnTo>
                  <a:pt x="664" y="325"/>
                </a:lnTo>
                <a:lnTo>
                  <a:pt x="669" y="410"/>
                </a:lnTo>
                <a:lnTo>
                  <a:pt x="674" y="505"/>
                </a:lnTo>
                <a:lnTo>
                  <a:pt x="684" y="590"/>
                </a:lnTo>
                <a:lnTo>
                  <a:pt x="688" y="649"/>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3878280" y="3133800"/>
            <a:ext cx="1093680" cy="1506600"/>
          </a:xfrm>
          <a:custGeom>
            <a:avLst/>
            <a:gdLst/>
            <a:ahLst/>
            <a:rect l="l" t="t" r="r" b="b"/>
            <a:pathLst>
              <a:path w="689" h="949">
                <a:moveTo>
                  <a:pt x="0" y="864"/>
                </a:moveTo>
                <a:lnTo>
                  <a:pt x="6" y="864"/>
                </a:lnTo>
                <a:lnTo>
                  <a:pt x="10" y="809"/>
                </a:lnTo>
                <a:lnTo>
                  <a:pt x="16" y="720"/>
                </a:lnTo>
                <a:lnTo>
                  <a:pt x="21" y="625"/>
                </a:lnTo>
                <a:lnTo>
                  <a:pt x="26" y="530"/>
                </a:lnTo>
                <a:lnTo>
                  <a:pt x="31" y="445"/>
                </a:lnTo>
                <a:lnTo>
                  <a:pt x="36" y="365"/>
                </a:lnTo>
                <a:lnTo>
                  <a:pt x="41" y="300"/>
                </a:lnTo>
                <a:lnTo>
                  <a:pt x="45" y="246"/>
                </a:lnTo>
                <a:lnTo>
                  <a:pt x="55" y="205"/>
                </a:lnTo>
                <a:lnTo>
                  <a:pt x="61" y="181"/>
                </a:lnTo>
                <a:lnTo>
                  <a:pt x="65" y="171"/>
                </a:lnTo>
                <a:lnTo>
                  <a:pt x="71" y="175"/>
                </a:lnTo>
                <a:lnTo>
                  <a:pt x="75" y="195"/>
                </a:lnTo>
                <a:lnTo>
                  <a:pt x="81" y="231"/>
                </a:lnTo>
                <a:lnTo>
                  <a:pt x="86" y="280"/>
                </a:lnTo>
                <a:lnTo>
                  <a:pt x="91" y="345"/>
                </a:lnTo>
                <a:lnTo>
                  <a:pt x="96" y="420"/>
                </a:lnTo>
                <a:lnTo>
                  <a:pt x="100" y="510"/>
                </a:lnTo>
                <a:lnTo>
                  <a:pt x="106" y="605"/>
                </a:lnTo>
                <a:lnTo>
                  <a:pt x="110" y="704"/>
                </a:lnTo>
                <a:lnTo>
                  <a:pt x="120" y="799"/>
                </a:lnTo>
                <a:lnTo>
                  <a:pt x="126" y="864"/>
                </a:lnTo>
                <a:lnTo>
                  <a:pt x="130" y="870"/>
                </a:lnTo>
                <a:lnTo>
                  <a:pt x="136" y="809"/>
                </a:lnTo>
                <a:lnTo>
                  <a:pt x="140" y="714"/>
                </a:lnTo>
                <a:lnTo>
                  <a:pt x="145" y="620"/>
                </a:lnTo>
                <a:lnTo>
                  <a:pt x="151" y="520"/>
                </a:lnTo>
                <a:lnTo>
                  <a:pt x="155" y="430"/>
                </a:lnTo>
                <a:lnTo>
                  <a:pt x="161" y="351"/>
                </a:lnTo>
                <a:lnTo>
                  <a:pt x="165" y="276"/>
                </a:lnTo>
                <a:lnTo>
                  <a:pt x="171" y="221"/>
                </a:lnTo>
                <a:lnTo>
                  <a:pt x="181" y="175"/>
                </a:lnTo>
                <a:lnTo>
                  <a:pt x="185" y="146"/>
                </a:lnTo>
                <a:lnTo>
                  <a:pt x="191" y="136"/>
                </a:lnTo>
                <a:lnTo>
                  <a:pt x="195" y="136"/>
                </a:lnTo>
                <a:lnTo>
                  <a:pt x="200" y="160"/>
                </a:lnTo>
                <a:lnTo>
                  <a:pt x="205" y="195"/>
                </a:lnTo>
                <a:lnTo>
                  <a:pt x="210" y="250"/>
                </a:lnTo>
                <a:lnTo>
                  <a:pt x="216" y="320"/>
                </a:lnTo>
                <a:lnTo>
                  <a:pt x="220" y="400"/>
                </a:lnTo>
                <a:lnTo>
                  <a:pt x="226" y="495"/>
                </a:lnTo>
                <a:lnTo>
                  <a:pt x="230" y="595"/>
                </a:lnTo>
                <a:lnTo>
                  <a:pt x="240" y="700"/>
                </a:lnTo>
                <a:lnTo>
                  <a:pt x="246" y="795"/>
                </a:lnTo>
                <a:lnTo>
                  <a:pt x="250" y="870"/>
                </a:lnTo>
                <a:lnTo>
                  <a:pt x="255" y="880"/>
                </a:lnTo>
                <a:lnTo>
                  <a:pt x="260" y="815"/>
                </a:lnTo>
                <a:lnTo>
                  <a:pt x="265" y="720"/>
                </a:lnTo>
                <a:lnTo>
                  <a:pt x="270" y="615"/>
                </a:lnTo>
                <a:lnTo>
                  <a:pt x="275" y="510"/>
                </a:lnTo>
                <a:lnTo>
                  <a:pt x="281" y="410"/>
                </a:lnTo>
                <a:lnTo>
                  <a:pt x="285" y="325"/>
                </a:lnTo>
                <a:lnTo>
                  <a:pt x="291" y="246"/>
                </a:lnTo>
                <a:lnTo>
                  <a:pt x="295" y="185"/>
                </a:lnTo>
                <a:lnTo>
                  <a:pt x="305" y="136"/>
                </a:lnTo>
                <a:lnTo>
                  <a:pt x="310" y="106"/>
                </a:lnTo>
                <a:lnTo>
                  <a:pt x="315" y="91"/>
                </a:lnTo>
                <a:lnTo>
                  <a:pt x="320" y="96"/>
                </a:lnTo>
                <a:lnTo>
                  <a:pt x="325" y="120"/>
                </a:lnTo>
                <a:lnTo>
                  <a:pt x="330" y="160"/>
                </a:lnTo>
                <a:lnTo>
                  <a:pt x="335" y="215"/>
                </a:lnTo>
                <a:lnTo>
                  <a:pt x="340" y="286"/>
                </a:lnTo>
                <a:lnTo>
                  <a:pt x="346" y="370"/>
                </a:lnTo>
                <a:lnTo>
                  <a:pt x="350" y="465"/>
                </a:lnTo>
                <a:lnTo>
                  <a:pt x="355" y="564"/>
                </a:lnTo>
                <a:lnTo>
                  <a:pt x="365" y="675"/>
                </a:lnTo>
                <a:lnTo>
                  <a:pt x="370" y="785"/>
                </a:lnTo>
                <a:lnTo>
                  <a:pt x="375" y="880"/>
                </a:lnTo>
                <a:lnTo>
                  <a:pt x="380" y="909"/>
                </a:lnTo>
                <a:lnTo>
                  <a:pt x="385" y="844"/>
                </a:lnTo>
                <a:lnTo>
                  <a:pt x="389" y="735"/>
                </a:lnTo>
                <a:lnTo>
                  <a:pt x="395" y="620"/>
                </a:lnTo>
                <a:lnTo>
                  <a:pt x="399" y="510"/>
                </a:lnTo>
                <a:lnTo>
                  <a:pt x="405" y="400"/>
                </a:lnTo>
                <a:lnTo>
                  <a:pt x="409" y="306"/>
                </a:lnTo>
                <a:lnTo>
                  <a:pt x="415" y="225"/>
                </a:lnTo>
                <a:lnTo>
                  <a:pt x="420" y="160"/>
                </a:lnTo>
                <a:lnTo>
                  <a:pt x="430" y="110"/>
                </a:lnTo>
                <a:lnTo>
                  <a:pt x="435" y="75"/>
                </a:lnTo>
                <a:lnTo>
                  <a:pt x="440" y="61"/>
                </a:lnTo>
                <a:lnTo>
                  <a:pt x="444" y="65"/>
                </a:lnTo>
                <a:lnTo>
                  <a:pt x="450" y="86"/>
                </a:lnTo>
                <a:lnTo>
                  <a:pt x="454" y="120"/>
                </a:lnTo>
                <a:lnTo>
                  <a:pt x="460" y="175"/>
                </a:lnTo>
                <a:lnTo>
                  <a:pt x="464" y="246"/>
                </a:lnTo>
                <a:lnTo>
                  <a:pt x="470" y="325"/>
                </a:lnTo>
                <a:lnTo>
                  <a:pt x="474" y="420"/>
                </a:lnTo>
                <a:lnTo>
                  <a:pt x="480" y="530"/>
                </a:lnTo>
                <a:lnTo>
                  <a:pt x="490" y="645"/>
                </a:lnTo>
                <a:lnTo>
                  <a:pt x="495" y="765"/>
                </a:lnTo>
                <a:lnTo>
                  <a:pt x="499" y="874"/>
                </a:lnTo>
                <a:lnTo>
                  <a:pt x="505" y="935"/>
                </a:lnTo>
                <a:lnTo>
                  <a:pt x="509" y="870"/>
                </a:lnTo>
                <a:lnTo>
                  <a:pt x="515" y="755"/>
                </a:lnTo>
                <a:lnTo>
                  <a:pt x="519" y="630"/>
                </a:lnTo>
                <a:lnTo>
                  <a:pt x="525" y="515"/>
                </a:lnTo>
                <a:lnTo>
                  <a:pt x="529" y="405"/>
                </a:lnTo>
                <a:lnTo>
                  <a:pt x="535" y="306"/>
                </a:lnTo>
                <a:lnTo>
                  <a:pt x="539" y="221"/>
                </a:lnTo>
                <a:lnTo>
                  <a:pt x="550" y="150"/>
                </a:lnTo>
                <a:lnTo>
                  <a:pt x="554" y="96"/>
                </a:lnTo>
                <a:lnTo>
                  <a:pt x="560" y="55"/>
                </a:lnTo>
                <a:lnTo>
                  <a:pt x="564" y="35"/>
                </a:lnTo>
                <a:lnTo>
                  <a:pt x="570" y="35"/>
                </a:lnTo>
                <a:lnTo>
                  <a:pt x="574" y="45"/>
                </a:lnTo>
                <a:lnTo>
                  <a:pt x="580" y="81"/>
                </a:lnTo>
                <a:lnTo>
                  <a:pt x="584" y="130"/>
                </a:lnTo>
                <a:lnTo>
                  <a:pt x="590" y="201"/>
                </a:lnTo>
                <a:lnTo>
                  <a:pt x="594" y="286"/>
                </a:lnTo>
                <a:lnTo>
                  <a:pt x="599" y="385"/>
                </a:lnTo>
                <a:lnTo>
                  <a:pt x="604" y="495"/>
                </a:lnTo>
                <a:lnTo>
                  <a:pt x="615" y="620"/>
                </a:lnTo>
                <a:lnTo>
                  <a:pt x="619" y="745"/>
                </a:lnTo>
                <a:lnTo>
                  <a:pt x="625" y="870"/>
                </a:lnTo>
                <a:lnTo>
                  <a:pt x="629" y="949"/>
                </a:lnTo>
                <a:lnTo>
                  <a:pt x="635" y="895"/>
                </a:lnTo>
                <a:lnTo>
                  <a:pt x="639" y="775"/>
                </a:lnTo>
                <a:lnTo>
                  <a:pt x="645" y="650"/>
                </a:lnTo>
                <a:lnTo>
                  <a:pt x="649" y="530"/>
                </a:lnTo>
                <a:lnTo>
                  <a:pt x="654" y="416"/>
                </a:lnTo>
                <a:lnTo>
                  <a:pt x="659" y="310"/>
                </a:lnTo>
                <a:lnTo>
                  <a:pt x="664" y="215"/>
                </a:lnTo>
                <a:lnTo>
                  <a:pt x="674" y="140"/>
                </a:lnTo>
                <a:lnTo>
                  <a:pt x="680" y="75"/>
                </a:lnTo>
                <a:lnTo>
                  <a:pt x="684" y="31"/>
                </a:lnTo>
                <a:lnTo>
                  <a:pt x="689" y="0"/>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4971960" y="2897280"/>
            <a:ext cx="1094040" cy="1871640"/>
          </a:xfrm>
          <a:custGeom>
            <a:avLst/>
            <a:gdLst/>
            <a:ahLst/>
            <a:rect l="l" t="t" r="r" b="b"/>
            <a:pathLst>
              <a:path w="689" h="1179">
                <a:moveTo>
                  <a:pt x="0" y="149"/>
                </a:moveTo>
                <a:lnTo>
                  <a:pt x="5" y="139"/>
                </a:lnTo>
                <a:lnTo>
                  <a:pt x="10" y="149"/>
                </a:lnTo>
                <a:lnTo>
                  <a:pt x="15" y="180"/>
                </a:lnTo>
                <a:lnTo>
                  <a:pt x="20" y="235"/>
                </a:lnTo>
                <a:lnTo>
                  <a:pt x="25" y="305"/>
                </a:lnTo>
                <a:lnTo>
                  <a:pt x="30" y="389"/>
                </a:lnTo>
                <a:lnTo>
                  <a:pt x="35" y="490"/>
                </a:lnTo>
                <a:lnTo>
                  <a:pt x="40" y="604"/>
                </a:lnTo>
                <a:lnTo>
                  <a:pt x="50" y="729"/>
                </a:lnTo>
                <a:lnTo>
                  <a:pt x="55" y="859"/>
                </a:lnTo>
                <a:lnTo>
                  <a:pt x="60" y="989"/>
                </a:lnTo>
                <a:lnTo>
                  <a:pt x="65" y="1098"/>
                </a:lnTo>
                <a:lnTo>
                  <a:pt x="70" y="1088"/>
                </a:lnTo>
                <a:lnTo>
                  <a:pt x="75" y="969"/>
                </a:lnTo>
                <a:lnTo>
                  <a:pt x="80" y="839"/>
                </a:lnTo>
                <a:lnTo>
                  <a:pt x="85" y="709"/>
                </a:lnTo>
                <a:lnTo>
                  <a:pt x="90" y="585"/>
                </a:lnTo>
                <a:lnTo>
                  <a:pt x="95" y="469"/>
                </a:lnTo>
                <a:lnTo>
                  <a:pt x="99" y="364"/>
                </a:lnTo>
                <a:lnTo>
                  <a:pt x="109" y="279"/>
                </a:lnTo>
                <a:lnTo>
                  <a:pt x="115" y="204"/>
                </a:lnTo>
                <a:lnTo>
                  <a:pt x="119" y="155"/>
                </a:lnTo>
                <a:lnTo>
                  <a:pt x="125" y="119"/>
                </a:lnTo>
                <a:lnTo>
                  <a:pt x="130" y="109"/>
                </a:lnTo>
                <a:lnTo>
                  <a:pt x="135" y="119"/>
                </a:lnTo>
                <a:lnTo>
                  <a:pt x="140" y="149"/>
                </a:lnTo>
                <a:lnTo>
                  <a:pt x="145" y="200"/>
                </a:lnTo>
                <a:lnTo>
                  <a:pt x="150" y="265"/>
                </a:lnTo>
                <a:lnTo>
                  <a:pt x="154" y="344"/>
                </a:lnTo>
                <a:lnTo>
                  <a:pt x="160" y="445"/>
                </a:lnTo>
                <a:lnTo>
                  <a:pt x="170" y="554"/>
                </a:lnTo>
                <a:lnTo>
                  <a:pt x="174" y="674"/>
                </a:lnTo>
                <a:lnTo>
                  <a:pt x="180" y="804"/>
                </a:lnTo>
                <a:lnTo>
                  <a:pt x="184" y="938"/>
                </a:lnTo>
                <a:lnTo>
                  <a:pt x="190" y="1078"/>
                </a:lnTo>
                <a:lnTo>
                  <a:pt x="195" y="1139"/>
                </a:lnTo>
                <a:lnTo>
                  <a:pt x="200" y="1019"/>
                </a:lnTo>
                <a:lnTo>
                  <a:pt x="205" y="873"/>
                </a:lnTo>
                <a:lnTo>
                  <a:pt x="209" y="734"/>
                </a:lnTo>
                <a:lnTo>
                  <a:pt x="215" y="599"/>
                </a:lnTo>
                <a:lnTo>
                  <a:pt x="219" y="474"/>
                </a:lnTo>
                <a:lnTo>
                  <a:pt x="225" y="364"/>
                </a:lnTo>
                <a:lnTo>
                  <a:pt x="235" y="275"/>
                </a:lnTo>
                <a:lnTo>
                  <a:pt x="239" y="200"/>
                </a:lnTo>
                <a:lnTo>
                  <a:pt x="244" y="145"/>
                </a:lnTo>
                <a:lnTo>
                  <a:pt x="249" y="109"/>
                </a:lnTo>
                <a:lnTo>
                  <a:pt x="254" y="90"/>
                </a:lnTo>
                <a:lnTo>
                  <a:pt x="260" y="95"/>
                </a:lnTo>
                <a:lnTo>
                  <a:pt x="264" y="115"/>
                </a:lnTo>
                <a:lnTo>
                  <a:pt x="270" y="160"/>
                </a:lnTo>
                <a:lnTo>
                  <a:pt x="274" y="214"/>
                </a:lnTo>
                <a:lnTo>
                  <a:pt x="280" y="289"/>
                </a:lnTo>
                <a:lnTo>
                  <a:pt x="284" y="384"/>
                </a:lnTo>
                <a:lnTo>
                  <a:pt x="294" y="490"/>
                </a:lnTo>
                <a:lnTo>
                  <a:pt x="299" y="614"/>
                </a:lnTo>
                <a:lnTo>
                  <a:pt x="304" y="749"/>
                </a:lnTo>
                <a:lnTo>
                  <a:pt x="309" y="894"/>
                </a:lnTo>
                <a:lnTo>
                  <a:pt x="314" y="1044"/>
                </a:lnTo>
                <a:lnTo>
                  <a:pt x="319" y="1179"/>
                </a:lnTo>
                <a:lnTo>
                  <a:pt x="325" y="1058"/>
                </a:lnTo>
                <a:lnTo>
                  <a:pt x="329" y="904"/>
                </a:lnTo>
                <a:lnTo>
                  <a:pt x="335" y="759"/>
                </a:lnTo>
                <a:lnTo>
                  <a:pt x="339" y="624"/>
                </a:lnTo>
                <a:lnTo>
                  <a:pt x="345" y="494"/>
                </a:lnTo>
                <a:lnTo>
                  <a:pt x="349" y="384"/>
                </a:lnTo>
                <a:lnTo>
                  <a:pt x="359" y="289"/>
                </a:lnTo>
                <a:lnTo>
                  <a:pt x="364" y="204"/>
                </a:lnTo>
                <a:lnTo>
                  <a:pt x="369" y="145"/>
                </a:lnTo>
                <a:lnTo>
                  <a:pt x="374" y="95"/>
                </a:lnTo>
                <a:lnTo>
                  <a:pt x="379" y="70"/>
                </a:lnTo>
                <a:lnTo>
                  <a:pt x="384" y="60"/>
                </a:lnTo>
                <a:lnTo>
                  <a:pt x="390" y="70"/>
                </a:lnTo>
                <a:lnTo>
                  <a:pt x="394" y="105"/>
                </a:lnTo>
                <a:lnTo>
                  <a:pt x="399" y="155"/>
                </a:lnTo>
                <a:lnTo>
                  <a:pt x="404" y="230"/>
                </a:lnTo>
                <a:lnTo>
                  <a:pt x="409" y="320"/>
                </a:lnTo>
                <a:lnTo>
                  <a:pt x="419" y="429"/>
                </a:lnTo>
                <a:lnTo>
                  <a:pt x="424" y="554"/>
                </a:lnTo>
                <a:lnTo>
                  <a:pt x="429" y="694"/>
                </a:lnTo>
                <a:lnTo>
                  <a:pt x="434" y="843"/>
                </a:lnTo>
                <a:lnTo>
                  <a:pt x="439" y="999"/>
                </a:lnTo>
                <a:lnTo>
                  <a:pt x="443" y="1153"/>
                </a:lnTo>
                <a:lnTo>
                  <a:pt x="449" y="1108"/>
                </a:lnTo>
                <a:lnTo>
                  <a:pt x="454" y="958"/>
                </a:lnTo>
                <a:lnTo>
                  <a:pt x="459" y="809"/>
                </a:lnTo>
                <a:lnTo>
                  <a:pt x="464" y="669"/>
                </a:lnTo>
                <a:lnTo>
                  <a:pt x="469" y="539"/>
                </a:lnTo>
                <a:lnTo>
                  <a:pt x="479" y="419"/>
                </a:lnTo>
                <a:lnTo>
                  <a:pt x="484" y="309"/>
                </a:lnTo>
                <a:lnTo>
                  <a:pt x="488" y="214"/>
                </a:lnTo>
                <a:lnTo>
                  <a:pt x="494" y="139"/>
                </a:lnTo>
                <a:lnTo>
                  <a:pt x="498" y="80"/>
                </a:lnTo>
                <a:lnTo>
                  <a:pt x="504" y="40"/>
                </a:lnTo>
                <a:lnTo>
                  <a:pt x="508" y="25"/>
                </a:lnTo>
                <a:lnTo>
                  <a:pt x="514" y="30"/>
                </a:lnTo>
                <a:lnTo>
                  <a:pt x="518" y="54"/>
                </a:lnTo>
                <a:lnTo>
                  <a:pt x="524" y="109"/>
                </a:lnTo>
                <a:lnTo>
                  <a:pt x="529" y="180"/>
                </a:lnTo>
                <a:lnTo>
                  <a:pt x="534" y="275"/>
                </a:lnTo>
                <a:lnTo>
                  <a:pt x="543" y="384"/>
                </a:lnTo>
                <a:lnTo>
                  <a:pt x="549" y="510"/>
                </a:lnTo>
                <a:lnTo>
                  <a:pt x="553" y="644"/>
                </a:lnTo>
                <a:lnTo>
                  <a:pt x="559" y="784"/>
                </a:lnTo>
                <a:lnTo>
                  <a:pt x="563" y="934"/>
                </a:lnTo>
                <a:lnTo>
                  <a:pt x="569" y="1088"/>
                </a:lnTo>
                <a:lnTo>
                  <a:pt x="573" y="1179"/>
                </a:lnTo>
                <a:lnTo>
                  <a:pt x="579" y="1023"/>
                </a:lnTo>
                <a:lnTo>
                  <a:pt x="583" y="869"/>
                </a:lnTo>
                <a:lnTo>
                  <a:pt x="589" y="719"/>
                </a:lnTo>
                <a:lnTo>
                  <a:pt x="594" y="575"/>
                </a:lnTo>
                <a:lnTo>
                  <a:pt x="604" y="445"/>
                </a:lnTo>
                <a:lnTo>
                  <a:pt x="608" y="320"/>
                </a:lnTo>
                <a:lnTo>
                  <a:pt x="614" y="214"/>
                </a:lnTo>
                <a:lnTo>
                  <a:pt x="618" y="129"/>
                </a:lnTo>
                <a:lnTo>
                  <a:pt x="624" y="60"/>
                </a:lnTo>
                <a:lnTo>
                  <a:pt x="628" y="20"/>
                </a:lnTo>
                <a:lnTo>
                  <a:pt x="634" y="0"/>
                </a:lnTo>
                <a:lnTo>
                  <a:pt x="638" y="5"/>
                </a:lnTo>
                <a:lnTo>
                  <a:pt x="643" y="30"/>
                </a:lnTo>
                <a:lnTo>
                  <a:pt x="648" y="75"/>
                </a:lnTo>
                <a:lnTo>
                  <a:pt x="653" y="145"/>
                </a:lnTo>
                <a:lnTo>
                  <a:pt x="659" y="224"/>
                </a:lnTo>
                <a:lnTo>
                  <a:pt x="669" y="324"/>
                </a:lnTo>
                <a:lnTo>
                  <a:pt x="673" y="439"/>
                </a:lnTo>
                <a:lnTo>
                  <a:pt x="679" y="565"/>
                </a:lnTo>
                <a:lnTo>
                  <a:pt x="683" y="704"/>
                </a:lnTo>
                <a:lnTo>
                  <a:pt x="689" y="853"/>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6066000" y="2879640"/>
            <a:ext cx="158760" cy="1863720"/>
          </a:xfrm>
          <a:custGeom>
            <a:avLst/>
            <a:gdLst/>
            <a:ahLst/>
            <a:rect l="l" t="t" r="r" b="b"/>
            <a:pathLst>
              <a:path w="100" h="1174">
                <a:moveTo>
                  <a:pt x="0" y="864"/>
                </a:moveTo>
                <a:lnTo>
                  <a:pt x="4" y="1020"/>
                </a:lnTo>
                <a:lnTo>
                  <a:pt x="9" y="1174"/>
                </a:lnTo>
                <a:lnTo>
                  <a:pt x="14" y="1095"/>
                </a:lnTo>
                <a:lnTo>
                  <a:pt x="19" y="929"/>
                </a:lnTo>
                <a:lnTo>
                  <a:pt x="24" y="770"/>
                </a:lnTo>
                <a:lnTo>
                  <a:pt x="29" y="615"/>
                </a:lnTo>
                <a:lnTo>
                  <a:pt x="39" y="470"/>
                </a:lnTo>
                <a:lnTo>
                  <a:pt x="45" y="345"/>
                </a:lnTo>
                <a:lnTo>
                  <a:pt x="49" y="235"/>
                </a:lnTo>
                <a:lnTo>
                  <a:pt x="55" y="146"/>
                </a:lnTo>
                <a:lnTo>
                  <a:pt x="59" y="81"/>
                </a:lnTo>
                <a:lnTo>
                  <a:pt x="64" y="31"/>
                </a:lnTo>
                <a:lnTo>
                  <a:pt x="69" y="6"/>
                </a:lnTo>
                <a:lnTo>
                  <a:pt x="74" y="0"/>
                </a:lnTo>
                <a:lnTo>
                  <a:pt x="79" y="16"/>
                </a:lnTo>
                <a:lnTo>
                  <a:pt x="84" y="51"/>
                </a:lnTo>
                <a:lnTo>
                  <a:pt x="89" y="101"/>
                </a:lnTo>
                <a:lnTo>
                  <a:pt x="100" y="171"/>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3898440" y="5195880"/>
            <a:ext cx="98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equency, MHz</a:t>
            </a:r>
            <a:endParaRPr b="0" lang="en-US" sz="1100" spc="-1" strike="noStrike">
              <a:solidFill>
                <a:srgbClr val="000000"/>
              </a:solidFill>
              <a:latin typeface="Times New Roman"/>
            </a:endParaRPr>
          </a:p>
        </p:txBody>
      </p:sp>
      <p:sp>
        <p:nvSpPr>
          <p:cNvPr id="3276" name=""/>
          <p:cNvSpPr/>
          <p:nvPr/>
        </p:nvSpPr>
        <p:spPr>
          <a:xfrm rot="16200000">
            <a:off x="2048400" y="335268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3277" name=""/>
          <p:cNvSpPr/>
          <p:nvPr/>
        </p:nvSpPr>
        <p:spPr>
          <a:xfrm>
            <a:off x="2786040" y="2112840"/>
            <a:ext cx="3438720" cy="271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786040" y="2112840"/>
            <a:ext cx="3438720" cy="27115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2786040" y="2112840"/>
            <a:ext cx="34387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0" name=""/>
          <p:cNvSpPr/>
          <p:nvPr/>
        </p:nvSpPr>
        <p:spPr>
          <a:xfrm>
            <a:off x="2786040" y="2112840"/>
            <a:ext cx="3438720" cy="2711520"/>
          </a:xfrm>
          <a:custGeom>
            <a:avLst/>
            <a:gdLst/>
            <a:ahLst/>
            <a:rect l="l" t="t" r="r" b="b"/>
            <a:pathLst>
              <a:path w="2166" h="1708">
                <a:moveTo>
                  <a:pt x="0" y="1708"/>
                </a:moveTo>
                <a:lnTo>
                  <a:pt x="2166" y="1708"/>
                </a:lnTo>
                <a:lnTo>
                  <a:pt x="21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V="1">
            <a:off x="2786040" y="2112840"/>
            <a:ext cx="1440" cy="27115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flipV="1">
            <a:off x="278604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3" name=""/>
          <p:cNvSpPr/>
          <p:nvPr/>
        </p:nvSpPr>
        <p:spPr>
          <a:xfrm>
            <a:off x="278604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4" name=""/>
          <p:cNvSpPr/>
          <p:nvPr/>
        </p:nvSpPr>
        <p:spPr>
          <a:xfrm>
            <a:off x="276336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285" name=""/>
          <p:cNvSpPr/>
          <p:nvPr/>
        </p:nvSpPr>
        <p:spPr>
          <a:xfrm flipV="1">
            <a:off x="312732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6" name=""/>
          <p:cNvSpPr/>
          <p:nvPr/>
        </p:nvSpPr>
        <p:spPr>
          <a:xfrm>
            <a:off x="312732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7" name=""/>
          <p:cNvSpPr/>
          <p:nvPr/>
        </p:nvSpPr>
        <p:spPr>
          <a:xfrm>
            <a:off x="310464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3288" name=""/>
          <p:cNvSpPr/>
          <p:nvPr/>
        </p:nvSpPr>
        <p:spPr>
          <a:xfrm flipV="1">
            <a:off x="34671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9" name=""/>
          <p:cNvSpPr/>
          <p:nvPr/>
        </p:nvSpPr>
        <p:spPr>
          <a:xfrm>
            <a:off x="34671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0" name=""/>
          <p:cNvSpPr/>
          <p:nvPr/>
        </p:nvSpPr>
        <p:spPr>
          <a:xfrm>
            <a:off x="344628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291" name=""/>
          <p:cNvSpPr/>
          <p:nvPr/>
        </p:nvSpPr>
        <p:spPr>
          <a:xfrm flipV="1">
            <a:off x="38163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2" name=""/>
          <p:cNvSpPr/>
          <p:nvPr/>
        </p:nvSpPr>
        <p:spPr>
          <a:xfrm>
            <a:off x="38163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3" name=""/>
          <p:cNvSpPr/>
          <p:nvPr/>
        </p:nvSpPr>
        <p:spPr>
          <a:xfrm>
            <a:off x="379368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3294" name=""/>
          <p:cNvSpPr/>
          <p:nvPr/>
        </p:nvSpPr>
        <p:spPr>
          <a:xfrm flipV="1">
            <a:off x="415620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5" name=""/>
          <p:cNvSpPr/>
          <p:nvPr/>
        </p:nvSpPr>
        <p:spPr>
          <a:xfrm>
            <a:off x="415620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6" name=""/>
          <p:cNvSpPr/>
          <p:nvPr/>
        </p:nvSpPr>
        <p:spPr>
          <a:xfrm>
            <a:off x="4133520" y="4889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3297" name=""/>
          <p:cNvSpPr/>
          <p:nvPr/>
        </p:nvSpPr>
        <p:spPr>
          <a:xfrm flipV="1">
            <a:off x="450540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8" name=""/>
          <p:cNvSpPr/>
          <p:nvPr/>
        </p:nvSpPr>
        <p:spPr>
          <a:xfrm>
            <a:off x="450540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9" name=""/>
          <p:cNvSpPr/>
          <p:nvPr/>
        </p:nvSpPr>
        <p:spPr>
          <a:xfrm>
            <a:off x="445104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300" name=""/>
          <p:cNvSpPr/>
          <p:nvPr/>
        </p:nvSpPr>
        <p:spPr>
          <a:xfrm flipV="1">
            <a:off x="484488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01" name=""/>
          <p:cNvSpPr/>
          <p:nvPr/>
        </p:nvSpPr>
        <p:spPr>
          <a:xfrm>
            <a:off x="484488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2" name=""/>
          <p:cNvSpPr/>
          <p:nvPr/>
        </p:nvSpPr>
        <p:spPr>
          <a:xfrm>
            <a:off x="479088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303" name=""/>
          <p:cNvSpPr/>
          <p:nvPr/>
        </p:nvSpPr>
        <p:spPr>
          <a:xfrm flipV="1">
            <a:off x="518652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04" name=""/>
          <p:cNvSpPr/>
          <p:nvPr/>
        </p:nvSpPr>
        <p:spPr>
          <a:xfrm>
            <a:off x="518652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5" name=""/>
          <p:cNvSpPr/>
          <p:nvPr/>
        </p:nvSpPr>
        <p:spPr>
          <a:xfrm>
            <a:off x="513036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3306" name=""/>
          <p:cNvSpPr/>
          <p:nvPr/>
        </p:nvSpPr>
        <p:spPr>
          <a:xfrm flipV="1">
            <a:off x="5533920" y="4782600"/>
            <a:ext cx="32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07" name=""/>
          <p:cNvSpPr/>
          <p:nvPr/>
        </p:nvSpPr>
        <p:spPr>
          <a:xfrm>
            <a:off x="5533920" y="2112840"/>
            <a:ext cx="32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8" name=""/>
          <p:cNvSpPr/>
          <p:nvPr/>
        </p:nvSpPr>
        <p:spPr>
          <a:xfrm>
            <a:off x="547992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3309" name=""/>
          <p:cNvSpPr/>
          <p:nvPr/>
        </p:nvSpPr>
        <p:spPr>
          <a:xfrm flipV="1">
            <a:off x="5875200" y="478260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0" name=""/>
          <p:cNvSpPr/>
          <p:nvPr/>
        </p:nvSpPr>
        <p:spPr>
          <a:xfrm>
            <a:off x="5875200" y="2112840"/>
            <a:ext cx="180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1" name=""/>
          <p:cNvSpPr/>
          <p:nvPr/>
        </p:nvSpPr>
        <p:spPr>
          <a:xfrm>
            <a:off x="581940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a:t>
            </a:r>
            <a:endParaRPr b="0" lang="en-US" sz="1100" spc="-1" strike="noStrike">
              <a:solidFill>
                <a:srgbClr val="000000"/>
              </a:solidFill>
              <a:latin typeface="Times New Roman"/>
            </a:endParaRPr>
          </a:p>
        </p:txBody>
      </p:sp>
      <p:sp>
        <p:nvSpPr>
          <p:cNvPr id="3312" name=""/>
          <p:cNvSpPr/>
          <p:nvPr/>
        </p:nvSpPr>
        <p:spPr>
          <a:xfrm flipV="1">
            <a:off x="6224760" y="478260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3" name=""/>
          <p:cNvSpPr/>
          <p:nvPr/>
        </p:nvSpPr>
        <p:spPr>
          <a:xfrm>
            <a:off x="6224760" y="2112840"/>
            <a:ext cx="1440" cy="30240"/>
          </a:xfrm>
          <a:prstGeom prst="line">
            <a:avLst/>
          </a:prstGeom>
          <a:ln cap="rnd"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4" name=""/>
          <p:cNvSpPr/>
          <p:nvPr/>
        </p:nvSpPr>
        <p:spPr>
          <a:xfrm>
            <a:off x="6168600" y="488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315" name=""/>
          <p:cNvSpPr/>
          <p:nvPr/>
        </p:nvSpPr>
        <p:spPr>
          <a:xfrm>
            <a:off x="2786040" y="482436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6" name=""/>
          <p:cNvSpPr/>
          <p:nvPr/>
        </p:nvSpPr>
        <p:spPr>
          <a:xfrm flipH="1">
            <a:off x="6183000" y="482436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7" name=""/>
          <p:cNvSpPr/>
          <p:nvPr/>
        </p:nvSpPr>
        <p:spPr>
          <a:xfrm>
            <a:off x="2653920" y="47703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318" name=""/>
          <p:cNvSpPr/>
          <p:nvPr/>
        </p:nvSpPr>
        <p:spPr>
          <a:xfrm>
            <a:off x="2786040" y="443556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flipH="1">
            <a:off x="6183000" y="443556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0" name=""/>
          <p:cNvSpPr/>
          <p:nvPr/>
        </p:nvSpPr>
        <p:spPr>
          <a:xfrm>
            <a:off x="2566080" y="4383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a:t>
            </a:r>
            <a:endParaRPr b="0" lang="en-US" sz="1100" spc="-1" strike="noStrike">
              <a:solidFill>
                <a:srgbClr val="000000"/>
              </a:solidFill>
              <a:latin typeface="Times New Roman"/>
            </a:endParaRPr>
          </a:p>
        </p:txBody>
      </p:sp>
      <p:sp>
        <p:nvSpPr>
          <p:cNvPr id="3321" name=""/>
          <p:cNvSpPr/>
          <p:nvPr/>
        </p:nvSpPr>
        <p:spPr>
          <a:xfrm>
            <a:off x="2786040" y="4046400"/>
            <a:ext cx="31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22" name=""/>
          <p:cNvSpPr/>
          <p:nvPr/>
        </p:nvSpPr>
        <p:spPr>
          <a:xfrm flipH="1">
            <a:off x="6183000" y="4046400"/>
            <a:ext cx="414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23" name=""/>
          <p:cNvSpPr/>
          <p:nvPr/>
        </p:nvSpPr>
        <p:spPr>
          <a:xfrm>
            <a:off x="2566080" y="39942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a:t>
            </a:r>
            <a:endParaRPr b="0" lang="en-US" sz="1100" spc="-1" strike="noStrike">
              <a:solidFill>
                <a:srgbClr val="000000"/>
              </a:solidFill>
              <a:latin typeface="Times New Roman"/>
            </a:endParaRPr>
          </a:p>
        </p:txBody>
      </p:sp>
      <p:sp>
        <p:nvSpPr>
          <p:cNvPr id="3324" name=""/>
          <p:cNvSpPr/>
          <p:nvPr/>
        </p:nvSpPr>
        <p:spPr>
          <a:xfrm>
            <a:off x="2786040" y="36590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5" name=""/>
          <p:cNvSpPr/>
          <p:nvPr/>
        </p:nvSpPr>
        <p:spPr>
          <a:xfrm flipH="1">
            <a:off x="6183000" y="36590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6" name=""/>
          <p:cNvSpPr/>
          <p:nvPr/>
        </p:nvSpPr>
        <p:spPr>
          <a:xfrm>
            <a:off x="2566080" y="3605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Times New Roman"/>
            </a:endParaRPr>
          </a:p>
        </p:txBody>
      </p:sp>
      <p:sp>
        <p:nvSpPr>
          <p:cNvPr id="3327" name=""/>
          <p:cNvSpPr/>
          <p:nvPr/>
        </p:nvSpPr>
        <p:spPr>
          <a:xfrm>
            <a:off x="2786040" y="3270240"/>
            <a:ext cx="316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8" name=""/>
          <p:cNvSpPr/>
          <p:nvPr/>
        </p:nvSpPr>
        <p:spPr>
          <a:xfrm flipH="1">
            <a:off x="6183000" y="3270240"/>
            <a:ext cx="414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2566080" y="32162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a:t>
            </a:r>
            <a:endParaRPr b="0" lang="en-US" sz="1100" spc="-1" strike="noStrike">
              <a:solidFill>
                <a:srgbClr val="000000"/>
              </a:solidFill>
              <a:latin typeface="Times New Roman"/>
            </a:endParaRPr>
          </a:p>
        </p:txBody>
      </p:sp>
      <p:sp>
        <p:nvSpPr>
          <p:cNvPr id="3330" name=""/>
          <p:cNvSpPr/>
          <p:nvPr/>
        </p:nvSpPr>
        <p:spPr>
          <a:xfrm>
            <a:off x="2786040" y="28796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1" name=""/>
          <p:cNvSpPr/>
          <p:nvPr/>
        </p:nvSpPr>
        <p:spPr>
          <a:xfrm flipH="1">
            <a:off x="6183000" y="28796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2" name=""/>
          <p:cNvSpPr/>
          <p:nvPr/>
        </p:nvSpPr>
        <p:spPr>
          <a:xfrm>
            <a:off x="2566080" y="28288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333" name=""/>
          <p:cNvSpPr/>
          <p:nvPr/>
        </p:nvSpPr>
        <p:spPr>
          <a:xfrm>
            <a:off x="2786040" y="249228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4" name=""/>
          <p:cNvSpPr/>
          <p:nvPr/>
        </p:nvSpPr>
        <p:spPr>
          <a:xfrm flipH="1">
            <a:off x="6183000" y="249228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5" name=""/>
          <p:cNvSpPr/>
          <p:nvPr/>
        </p:nvSpPr>
        <p:spPr>
          <a:xfrm>
            <a:off x="2566080" y="2441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a:t>
            </a:r>
            <a:endParaRPr b="0" lang="en-US" sz="1100" spc="-1" strike="noStrike">
              <a:solidFill>
                <a:srgbClr val="000000"/>
              </a:solidFill>
              <a:latin typeface="Times New Roman"/>
            </a:endParaRPr>
          </a:p>
        </p:txBody>
      </p:sp>
      <p:sp>
        <p:nvSpPr>
          <p:cNvPr id="3336" name=""/>
          <p:cNvSpPr/>
          <p:nvPr/>
        </p:nvSpPr>
        <p:spPr>
          <a:xfrm>
            <a:off x="2786040" y="2112840"/>
            <a:ext cx="316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7" name=""/>
          <p:cNvSpPr/>
          <p:nvPr/>
        </p:nvSpPr>
        <p:spPr>
          <a:xfrm flipH="1">
            <a:off x="6183000" y="2112840"/>
            <a:ext cx="414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8" name=""/>
          <p:cNvSpPr/>
          <p:nvPr/>
        </p:nvSpPr>
        <p:spPr>
          <a:xfrm>
            <a:off x="2566080" y="20620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a:t>
            </a:r>
            <a:endParaRPr b="0" lang="en-US" sz="1100" spc="-1" strike="noStrike">
              <a:solidFill>
                <a:srgbClr val="000000"/>
              </a:solidFill>
              <a:latin typeface="Times New Roman"/>
            </a:endParaRPr>
          </a:p>
        </p:txBody>
      </p:sp>
      <p:sp>
        <p:nvSpPr>
          <p:cNvPr id="3339" name=""/>
          <p:cNvSpPr/>
          <p:nvPr/>
        </p:nvSpPr>
        <p:spPr>
          <a:xfrm>
            <a:off x="2786040" y="3475080"/>
            <a:ext cx="1092240" cy="1349280"/>
          </a:xfrm>
          <a:custGeom>
            <a:avLst/>
            <a:gdLst/>
            <a:ahLst/>
            <a:rect l="l" t="t" r="r" b="b"/>
            <a:pathLst>
              <a:path w="688" h="850">
                <a:moveTo>
                  <a:pt x="0" y="850"/>
                </a:moveTo>
                <a:lnTo>
                  <a:pt x="6" y="844"/>
                </a:lnTo>
                <a:lnTo>
                  <a:pt x="10" y="834"/>
                </a:lnTo>
                <a:lnTo>
                  <a:pt x="16" y="819"/>
                </a:lnTo>
                <a:lnTo>
                  <a:pt x="20" y="799"/>
                </a:lnTo>
                <a:lnTo>
                  <a:pt x="26" y="775"/>
                </a:lnTo>
                <a:lnTo>
                  <a:pt x="30" y="744"/>
                </a:lnTo>
                <a:lnTo>
                  <a:pt x="36" y="710"/>
                </a:lnTo>
                <a:lnTo>
                  <a:pt x="41" y="675"/>
                </a:lnTo>
                <a:lnTo>
                  <a:pt x="45" y="629"/>
                </a:lnTo>
                <a:lnTo>
                  <a:pt x="51" y="584"/>
                </a:lnTo>
                <a:lnTo>
                  <a:pt x="55" y="535"/>
                </a:lnTo>
                <a:lnTo>
                  <a:pt x="65" y="485"/>
                </a:lnTo>
                <a:lnTo>
                  <a:pt x="71" y="430"/>
                </a:lnTo>
                <a:lnTo>
                  <a:pt x="75" y="380"/>
                </a:lnTo>
                <a:lnTo>
                  <a:pt x="81" y="325"/>
                </a:lnTo>
                <a:lnTo>
                  <a:pt x="85" y="276"/>
                </a:lnTo>
                <a:lnTo>
                  <a:pt x="91" y="230"/>
                </a:lnTo>
                <a:lnTo>
                  <a:pt x="95" y="185"/>
                </a:lnTo>
                <a:lnTo>
                  <a:pt x="100" y="146"/>
                </a:lnTo>
                <a:lnTo>
                  <a:pt x="106" y="116"/>
                </a:lnTo>
                <a:lnTo>
                  <a:pt x="110" y="85"/>
                </a:lnTo>
                <a:lnTo>
                  <a:pt x="116" y="71"/>
                </a:lnTo>
                <a:lnTo>
                  <a:pt x="126" y="61"/>
                </a:lnTo>
                <a:lnTo>
                  <a:pt x="130" y="61"/>
                </a:lnTo>
                <a:lnTo>
                  <a:pt x="136" y="71"/>
                </a:lnTo>
                <a:lnTo>
                  <a:pt x="140" y="91"/>
                </a:lnTo>
                <a:lnTo>
                  <a:pt x="146" y="120"/>
                </a:lnTo>
                <a:lnTo>
                  <a:pt x="150" y="155"/>
                </a:lnTo>
                <a:lnTo>
                  <a:pt x="155" y="201"/>
                </a:lnTo>
                <a:lnTo>
                  <a:pt x="160" y="255"/>
                </a:lnTo>
                <a:lnTo>
                  <a:pt x="165" y="315"/>
                </a:lnTo>
                <a:lnTo>
                  <a:pt x="171" y="375"/>
                </a:lnTo>
                <a:lnTo>
                  <a:pt x="175" y="440"/>
                </a:lnTo>
                <a:lnTo>
                  <a:pt x="181" y="499"/>
                </a:lnTo>
                <a:lnTo>
                  <a:pt x="190" y="550"/>
                </a:lnTo>
                <a:lnTo>
                  <a:pt x="195" y="580"/>
                </a:lnTo>
                <a:lnTo>
                  <a:pt x="200" y="580"/>
                </a:lnTo>
                <a:lnTo>
                  <a:pt x="205" y="545"/>
                </a:lnTo>
                <a:lnTo>
                  <a:pt x="210" y="495"/>
                </a:lnTo>
                <a:lnTo>
                  <a:pt x="215" y="435"/>
                </a:lnTo>
                <a:lnTo>
                  <a:pt x="220" y="375"/>
                </a:lnTo>
                <a:lnTo>
                  <a:pt x="225" y="315"/>
                </a:lnTo>
                <a:lnTo>
                  <a:pt x="230" y="260"/>
                </a:lnTo>
                <a:lnTo>
                  <a:pt x="236" y="211"/>
                </a:lnTo>
                <a:lnTo>
                  <a:pt x="240" y="175"/>
                </a:lnTo>
                <a:lnTo>
                  <a:pt x="250" y="150"/>
                </a:lnTo>
                <a:lnTo>
                  <a:pt x="255" y="136"/>
                </a:lnTo>
                <a:lnTo>
                  <a:pt x="260" y="130"/>
                </a:lnTo>
                <a:lnTo>
                  <a:pt x="265" y="140"/>
                </a:lnTo>
                <a:lnTo>
                  <a:pt x="270" y="160"/>
                </a:lnTo>
                <a:lnTo>
                  <a:pt x="275" y="195"/>
                </a:lnTo>
                <a:lnTo>
                  <a:pt x="280" y="235"/>
                </a:lnTo>
                <a:lnTo>
                  <a:pt x="285" y="290"/>
                </a:lnTo>
                <a:lnTo>
                  <a:pt x="289" y="355"/>
                </a:lnTo>
                <a:lnTo>
                  <a:pt x="295" y="424"/>
                </a:lnTo>
                <a:lnTo>
                  <a:pt x="299" y="499"/>
                </a:lnTo>
                <a:lnTo>
                  <a:pt x="310" y="574"/>
                </a:lnTo>
                <a:lnTo>
                  <a:pt x="315" y="635"/>
                </a:lnTo>
                <a:lnTo>
                  <a:pt x="320" y="665"/>
                </a:lnTo>
                <a:lnTo>
                  <a:pt x="325" y="645"/>
                </a:lnTo>
                <a:lnTo>
                  <a:pt x="330" y="590"/>
                </a:lnTo>
                <a:lnTo>
                  <a:pt x="335" y="515"/>
                </a:lnTo>
                <a:lnTo>
                  <a:pt x="340" y="440"/>
                </a:lnTo>
                <a:lnTo>
                  <a:pt x="344" y="365"/>
                </a:lnTo>
                <a:lnTo>
                  <a:pt x="350" y="295"/>
                </a:lnTo>
                <a:lnTo>
                  <a:pt x="354" y="235"/>
                </a:lnTo>
                <a:lnTo>
                  <a:pt x="360" y="180"/>
                </a:lnTo>
                <a:lnTo>
                  <a:pt x="364" y="140"/>
                </a:lnTo>
                <a:lnTo>
                  <a:pt x="375" y="110"/>
                </a:lnTo>
                <a:lnTo>
                  <a:pt x="380" y="95"/>
                </a:lnTo>
                <a:lnTo>
                  <a:pt x="385" y="95"/>
                </a:lnTo>
                <a:lnTo>
                  <a:pt x="390" y="105"/>
                </a:lnTo>
                <a:lnTo>
                  <a:pt x="395" y="130"/>
                </a:lnTo>
                <a:lnTo>
                  <a:pt x="399" y="165"/>
                </a:lnTo>
                <a:lnTo>
                  <a:pt x="405" y="215"/>
                </a:lnTo>
                <a:lnTo>
                  <a:pt x="409" y="276"/>
                </a:lnTo>
                <a:lnTo>
                  <a:pt x="415" y="349"/>
                </a:lnTo>
                <a:lnTo>
                  <a:pt x="419" y="424"/>
                </a:lnTo>
                <a:lnTo>
                  <a:pt x="425" y="505"/>
                </a:lnTo>
                <a:lnTo>
                  <a:pt x="434" y="580"/>
                </a:lnTo>
                <a:lnTo>
                  <a:pt x="440" y="639"/>
                </a:lnTo>
                <a:lnTo>
                  <a:pt x="444" y="659"/>
                </a:lnTo>
                <a:lnTo>
                  <a:pt x="450" y="629"/>
                </a:lnTo>
                <a:lnTo>
                  <a:pt x="454" y="560"/>
                </a:lnTo>
                <a:lnTo>
                  <a:pt x="460" y="485"/>
                </a:lnTo>
                <a:lnTo>
                  <a:pt x="464" y="400"/>
                </a:lnTo>
                <a:lnTo>
                  <a:pt x="470" y="320"/>
                </a:lnTo>
                <a:lnTo>
                  <a:pt x="474" y="250"/>
                </a:lnTo>
                <a:lnTo>
                  <a:pt x="480" y="185"/>
                </a:lnTo>
                <a:lnTo>
                  <a:pt x="484" y="136"/>
                </a:lnTo>
                <a:lnTo>
                  <a:pt x="489" y="91"/>
                </a:lnTo>
                <a:lnTo>
                  <a:pt x="499" y="65"/>
                </a:lnTo>
                <a:lnTo>
                  <a:pt x="505" y="51"/>
                </a:lnTo>
                <a:lnTo>
                  <a:pt x="509" y="55"/>
                </a:lnTo>
                <a:lnTo>
                  <a:pt x="515" y="71"/>
                </a:lnTo>
                <a:lnTo>
                  <a:pt x="519" y="100"/>
                </a:lnTo>
                <a:lnTo>
                  <a:pt x="525" y="146"/>
                </a:lnTo>
                <a:lnTo>
                  <a:pt x="529" y="201"/>
                </a:lnTo>
                <a:lnTo>
                  <a:pt x="535" y="265"/>
                </a:lnTo>
                <a:lnTo>
                  <a:pt x="539" y="340"/>
                </a:lnTo>
                <a:lnTo>
                  <a:pt x="544" y="420"/>
                </a:lnTo>
                <a:lnTo>
                  <a:pt x="549" y="505"/>
                </a:lnTo>
                <a:lnTo>
                  <a:pt x="559" y="580"/>
                </a:lnTo>
                <a:lnTo>
                  <a:pt x="564" y="635"/>
                </a:lnTo>
                <a:lnTo>
                  <a:pt x="570" y="645"/>
                </a:lnTo>
                <a:lnTo>
                  <a:pt x="574" y="600"/>
                </a:lnTo>
                <a:lnTo>
                  <a:pt x="580" y="525"/>
                </a:lnTo>
                <a:lnTo>
                  <a:pt x="584" y="435"/>
                </a:lnTo>
                <a:lnTo>
                  <a:pt x="589" y="349"/>
                </a:lnTo>
                <a:lnTo>
                  <a:pt x="594" y="265"/>
                </a:lnTo>
                <a:lnTo>
                  <a:pt x="599" y="190"/>
                </a:lnTo>
                <a:lnTo>
                  <a:pt x="604" y="126"/>
                </a:lnTo>
                <a:lnTo>
                  <a:pt x="609" y="75"/>
                </a:lnTo>
                <a:lnTo>
                  <a:pt x="619" y="35"/>
                </a:lnTo>
                <a:lnTo>
                  <a:pt x="624" y="10"/>
                </a:lnTo>
                <a:lnTo>
                  <a:pt x="629" y="0"/>
                </a:lnTo>
                <a:lnTo>
                  <a:pt x="635" y="6"/>
                </a:lnTo>
                <a:lnTo>
                  <a:pt x="639" y="25"/>
                </a:lnTo>
                <a:lnTo>
                  <a:pt x="644" y="61"/>
                </a:lnTo>
                <a:lnTo>
                  <a:pt x="649" y="110"/>
                </a:lnTo>
                <a:lnTo>
                  <a:pt x="654" y="170"/>
                </a:lnTo>
                <a:lnTo>
                  <a:pt x="659" y="240"/>
                </a:lnTo>
                <a:lnTo>
                  <a:pt x="664" y="325"/>
                </a:lnTo>
                <a:lnTo>
                  <a:pt x="669" y="410"/>
                </a:lnTo>
                <a:lnTo>
                  <a:pt x="674" y="505"/>
                </a:lnTo>
                <a:lnTo>
                  <a:pt x="684" y="590"/>
                </a:lnTo>
                <a:lnTo>
                  <a:pt x="688" y="649"/>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3878280" y="3133800"/>
            <a:ext cx="1093680" cy="1506600"/>
          </a:xfrm>
          <a:custGeom>
            <a:avLst/>
            <a:gdLst/>
            <a:ahLst/>
            <a:rect l="l" t="t" r="r" b="b"/>
            <a:pathLst>
              <a:path w="689" h="949">
                <a:moveTo>
                  <a:pt x="0" y="864"/>
                </a:moveTo>
                <a:lnTo>
                  <a:pt x="6" y="864"/>
                </a:lnTo>
                <a:lnTo>
                  <a:pt x="10" y="809"/>
                </a:lnTo>
                <a:lnTo>
                  <a:pt x="16" y="720"/>
                </a:lnTo>
                <a:lnTo>
                  <a:pt x="21" y="625"/>
                </a:lnTo>
                <a:lnTo>
                  <a:pt x="26" y="530"/>
                </a:lnTo>
                <a:lnTo>
                  <a:pt x="31" y="445"/>
                </a:lnTo>
                <a:lnTo>
                  <a:pt x="36" y="365"/>
                </a:lnTo>
                <a:lnTo>
                  <a:pt x="41" y="300"/>
                </a:lnTo>
                <a:lnTo>
                  <a:pt x="45" y="246"/>
                </a:lnTo>
                <a:lnTo>
                  <a:pt x="55" y="205"/>
                </a:lnTo>
                <a:lnTo>
                  <a:pt x="61" y="181"/>
                </a:lnTo>
                <a:lnTo>
                  <a:pt x="65" y="171"/>
                </a:lnTo>
                <a:lnTo>
                  <a:pt x="71" y="175"/>
                </a:lnTo>
                <a:lnTo>
                  <a:pt x="75" y="195"/>
                </a:lnTo>
                <a:lnTo>
                  <a:pt x="81" y="231"/>
                </a:lnTo>
                <a:lnTo>
                  <a:pt x="86" y="280"/>
                </a:lnTo>
                <a:lnTo>
                  <a:pt x="91" y="345"/>
                </a:lnTo>
                <a:lnTo>
                  <a:pt x="96" y="420"/>
                </a:lnTo>
                <a:lnTo>
                  <a:pt x="100" y="510"/>
                </a:lnTo>
                <a:lnTo>
                  <a:pt x="106" y="605"/>
                </a:lnTo>
                <a:lnTo>
                  <a:pt x="110" y="704"/>
                </a:lnTo>
                <a:lnTo>
                  <a:pt x="120" y="799"/>
                </a:lnTo>
                <a:lnTo>
                  <a:pt x="126" y="864"/>
                </a:lnTo>
                <a:lnTo>
                  <a:pt x="130" y="870"/>
                </a:lnTo>
                <a:lnTo>
                  <a:pt x="136" y="809"/>
                </a:lnTo>
                <a:lnTo>
                  <a:pt x="140" y="714"/>
                </a:lnTo>
                <a:lnTo>
                  <a:pt x="145" y="620"/>
                </a:lnTo>
                <a:lnTo>
                  <a:pt x="151" y="520"/>
                </a:lnTo>
                <a:lnTo>
                  <a:pt x="155" y="430"/>
                </a:lnTo>
                <a:lnTo>
                  <a:pt x="161" y="351"/>
                </a:lnTo>
                <a:lnTo>
                  <a:pt x="165" y="276"/>
                </a:lnTo>
                <a:lnTo>
                  <a:pt x="171" y="221"/>
                </a:lnTo>
                <a:lnTo>
                  <a:pt x="181" y="175"/>
                </a:lnTo>
                <a:lnTo>
                  <a:pt x="185" y="146"/>
                </a:lnTo>
                <a:lnTo>
                  <a:pt x="191" y="136"/>
                </a:lnTo>
                <a:lnTo>
                  <a:pt x="195" y="136"/>
                </a:lnTo>
                <a:lnTo>
                  <a:pt x="200" y="160"/>
                </a:lnTo>
                <a:lnTo>
                  <a:pt x="205" y="195"/>
                </a:lnTo>
                <a:lnTo>
                  <a:pt x="210" y="250"/>
                </a:lnTo>
                <a:lnTo>
                  <a:pt x="216" y="320"/>
                </a:lnTo>
                <a:lnTo>
                  <a:pt x="220" y="400"/>
                </a:lnTo>
                <a:lnTo>
                  <a:pt x="226" y="495"/>
                </a:lnTo>
                <a:lnTo>
                  <a:pt x="230" y="595"/>
                </a:lnTo>
                <a:lnTo>
                  <a:pt x="240" y="700"/>
                </a:lnTo>
                <a:lnTo>
                  <a:pt x="246" y="795"/>
                </a:lnTo>
                <a:lnTo>
                  <a:pt x="250" y="870"/>
                </a:lnTo>
                <a:lnTo>
                  <a:pt x="255" y="880"/>
                </a:lnTo>
                <a:lnTo>
                  <a:pt x="260" y="815"/>
                </a:lnTo>
                <a:lnTo>
                  <a:pt x="265" y="720"/>
                </a:lnTo>
                <a:lnTo>
                  <a:pt x="270" y="615"/>
                </a:lnTo>
                <a:lnTo>
                  <a:pt x="275" y="510"/>
                </a:lnTo>
                <a:lnTo>
                  <a:pt x="281" y="410"/>
                </a:lnTo>
                <a:lnTo>
                  <a:pt x="285" y="325"/>
                </a:lnTo>
                <a:lnTo>
                  <a:pt x="291" y="246"/>
                </a:lnTo>
                <a:lnTo>
                  <a:pt x="295" y="185"/>
                </a:lnTo>
                <a:lnTo>
                  <a:pt x="305" y="136"/>
                </a:lnTo>
                <a:lnTo>
                  <a:pt x="310" y="106"/>
                </a:lnTo>
                <a:lnTo>
                  <a:pt x="315" y="91"/>
                </a:lnTo>
                <a:lnTo>
                  <a:pt x="320" y="96"/>
                </a:lnTo>
                <a:lnTo>
                  <a:pt x="325" y="120"/>
                </a:lnTo>
                <a:lnTo>
                  <a:pt x="330" y="160"/>
                </a:lnTo>
                <a:lnTo>
                  <a:pt x="335" y="215"/>
                </a:lnTo>
                <a:lnTo>
                  <a:pt x="340" y="286"/>
                </a:lnTo>
                <a:lnTo>
                  <a:pt x="346" y="370"/>
                </a:lnTo>
                <a:lnTo>
                  <a:pt x="350" y="465"/>
                </a:lnTo>
                <a:lnTo>
                  <a:pt x="355" y="564"/>
                </a:lnTo>
                <a:lnTo>
                  <a:pt x="365" y="675"/>
                </a:lnTo>
                <a:lnTo>
                  <a:pt x="370" y="785"/>
                </a:lnTo>
                <a:lnTo>
                  <a:pt x="375" y="880"/>
                </a:lnTo>
                <a:lnTo>
                  <a:pt x="380" y="909"/>
                </a:lnTo>
                <a:lnTo>
                  <a:pt x="385" y="844"/>
                </a:lnTo>
                <a:lnTo>
                  <a:pt x="389" y="735"/>
                </a:lnTo>
                <a:lnTo>
                  <a:pt x="395" y="620"/>
                </a:lnTo>
                <a:lnTo>
                  <a:pt x="399" y="510"/>
                </a:lnTo>
                <a:lnTo>
                  <a:pt x="405" y="400"/>
                </a:lnTo>
                <a:lnTo>
                  <a:pt x="409" y="306"/>
                </a:lnTo>
                <a:lnTo>
                  <a:pt x="415" y="225"/>
                </a:lnTo>
                <a:lnTo>
                  <a:pt x="420" y="160"/>
                </a:lnTo>
                <a:lnTo>
                  <a:pt x="430" y="110"/>
                </a:lnTo>
                <a:lnTo>
                  <a:pt x="435" y="75"/>
                </a:lnTo>
                <a:lnTo>
                  <a:pt x="440" y="61"/>
                </a:lnTo>
                <a:lnTo>
                  <a:pt x="444" y="65"/>
                </a:lnTo>
                <a:lnTo>
                  <a:pt x="450" y="86"/>
                </a:lnTo>
                <a:lnTo>
                  <a:pt x="454" y="120"/>
                </a:lnTo>
                <a:lnTo>
                  <a:pt x="460" y="175"/>
                </a:lnTo>
                <a:lnTo>
                  <a:pt x="464" y="246"/>
                </a:lnTo>
                <a:lnTo>
                  <a:pt x="470" y="325"/>
                </a:lnTo>
                <a:lnTo>
                  <a:pt x="474" y="420"/>
                </a:lnTo>
                <a:lnTo>
                  <a:pt x="480" y="530"/>
                </a:lnTo>
                <a:lnTo>
                  <a:pt x="490" y="645"/>
                </a:lnTo>
                <a:lnTo>
                  <a:pt x="495" y="765"/>
                </a:lnTo>
                <a:lnTo>
                  <a:pt x="499" y="874"/>
                </a:lnTo>
                <a:lnTo>
                  <a:pt x="505" y="935"/>
                </a:lnTo>
                <a:lnTo>
                  <a:pt x="509" y="870"/>
                </a:lnTo>
                <a:lnTo>
                  <a:pt x="515" y="755"/>
                </a:lnTo>
                <a:lnTo>
                  <a:pt x="519" y="630"/>
                </a:lnTo>
                <a:lnTo>
                  <a:pt x="525" y="515"/>
                </a:lnTo>
                <a:lnTo>
                  <a:pt x="529" y="405"/>
                </a:lnTo>
                <a:lnTo>
                  <a:pt x="535" y="306"/>
                </a:lnTo>
                <a:lnTo>
                  <a:pt x="539" y="221"/>
                </a:lnTo>
                <a:lnTo>
                  <a:pt x="550" y="150"/>
                </a:lnTo>
                <a:lnTo>
                  <a:pt x="554" y="96"/>
                </a:lnTo>
                <a:lnTo>
                  <a:pt x="560" y="55"/>
                </a:lnTo>
                <a:lnTo>
                  <a:pt x="564" y="35"/>
                </a:lnTo>
                <a:lnTo>
                  <a:pt x="570" y="35"/>
                </a:lnTo>
                <a:lnTo>
                  <a:pt x="574" y="45"/>
                </a:lnTo>
                <a:lnTo>
                  <a:pt x="580" y="81"/>
                </a:lnTo>
                <a:lnTo>
                  <a:pt x="584" y="130"/>
                </a:lnTo>
                <a:lnTo>
                  <a:pt x="590" y="201"/>
                </a:lnTo>
                <a:lnTo>
                  <a:pt x="594" y="286"/>
                </a:lnTo>
                <a:lnTo>
                  <a:pt x="599" y="385"/>
                </a:lnTo>
                <a:lnTo>
                  <a:pt x="604" y="495"/>
                </a:lnTo>
                <a:lnTo>
                  <a:pt x="615" y="620"/>
                </a:lnTo>
                <a:lnTo>
                  <a:pt x="619" y="745"/>
                </a:lnTo>
                <a:lnTo>
                  <a:pt x="625" y="870"/>
                </a:lnTo>
                <a:lnTo>
                  <a:pt x="629" y="949"/>
                </a:lnTo>
                <a:lnTo>
                  <a:pt x="635" y="895"/>
                </a:lnTo>
                <a:lnTo>
                  <a:pt x="639" y="775"/>
                </a:lnTo>
                <a:lnTo>
                  <a:pt x="645" y="650"/>
                </a:lnTo>
                <a:lnTo>
                  <a:pt x="649" y="530"/>
                </a:lnTo>
                <a:lnTo>
                  <a:pt x="654" y="416"/>
                </a:lnTo>
                <a:lnTo>
                  <a:pt x="659" y="310"/>
                </a:lnTo>
                <a:lnTo>
                  <a:pt x="664" y="215"/>
                </a:lnTo>
                <a:lnTo>
                  <a:pt x="674" y="140"/>
                </a:lnTo>
                <a:lnTo>
                  <a:pt x="680" y="75"/>
                </a:lnTo>
                <a:lnTo>
                  <a:pt x="684" y="31"/>
                </a:lnTo>
                <a:lnTo>
                  <a:pt x="689" y="0"/>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4971960" y="2897280"/>
            <a:ext cx="1094040" cy="1871640"/>
          </a:xfrm>
          <a:custGeom>
            <a:avLst/>
            <a:gdLst/>
            <a:ahLst/>
            <a:rect l="l" t="t" r="r" b="b"/>
            <a:pathLst>
              <a:path w="689" h="1179">
                <a:moveTo>
                  <a:pt x="0" y="149"/>
                </a:moveTo>
                <a:lnTo>
                  <a:pt x="5" y="139"/>
                </a:lnTo>
                <a:lnTo>
                  <a:pt x="10" y="149"/>
                </a:lnTo>
                <a:lnTo>
                  <a:pt x="15" y="180"/>
                </a:lnTo>
                <a:lnTo>
                  <a:pt x="20" y="235"/>
                </a:lnTo>
                <a:lnTo>
                  <a:pt x="25" y="305"/>
                </a:lnTo>
                <a:lnTo>
                  <a:pt x="30" y="389"/>
                </a:lnTo>
                <a:lnTo>
                  <a:pt x="35" y="490"/>
                </a:lnTo>
                <a:lnTo>
                  <a:pt x="40" y="604"/>
                </a:lnTo>
                <a:lnTo>
                  <a:pt x="50" y="729"/>
                </a:lnTo>
                <a:lnTo>
                  <a:pt x="55" y="859"/>
                </a:lnTo>
                <a:lnTo>
                  <a:pt x="60" y="989"/>
                </a:lnTo>
                <a:lnTo>
                  <a:pt x="65" y="1098"/>
                </a:lnTo>
                <a:lnTo>
                  <a:pt x="70" y="1088"/>
                </a:lnTo>
                <a:lnTo>
                  <a:pt x="75" y="969"/>
                </a:lnTo>
                <a:lnTo>
                  <a:pt x="80" y="839"/>
                </a:lnTo>
                <a:lnTo>
                  <a:pt x="85" y="709"/>
                </a:lnTo>
                <a:lnTo>
                  <a:pt x="90" y="585"/>
                </a:lnTo>
                <a:lnTo>
                  <a:pt x="95" y="469"/>
                </a:lnTo>
                <a:lnTo>
                  <a:pt x="99" y="364"/>
                </a:lnTo>
                <a:lnTo>
                  <a:pt x="109" y="279"/>
                </a:lnTo>
                <a:lnTo>
                  <a:pt x="115" y="204"/>
                </a:lnTo>
                <a:lnTo>
                  <a:pt x="119" y="155"/>
                </a:lnTo>
                <a:lnTo>
                  <a:pt x="125" y="119"/>
                </a:lnTo>
                <a:lnTo>
                  <a:pt x="130" y="109"/>
                </a:lnTo>
                <a:lnTo>
                  <a:pt x="135" y="119"/>
                </a:lnTo>
                <a:lnTo>
                  <a:pt x="140" y="149"/>
                </a:lnTo>
                <a:lnTo>
                  <a:pt x="145" y="200"/>
                </a:lnTo>
                <a:lnTo>
                  <a:pt x="150" y="265"/>
                </a:lnTo>
                <a:lnTo>
                  <a:pt x="154" y="344"/>
                </a:lnTo>
                <a:lnTo>
                  <a:pt x="160" y="445"/>
                </a:lnTo>
                <a:lnTo>
                  <a:pt x="170" y="554"/>
                </a:lnTo>
                <a:lnTo>
                  <a:pt x="174" y="674"/>
                </a:lnTo>
                <a:lnTo>
                  <a:pt x="180" y="804"/>
                </a:lnTo>
                <a:lnTo>
                  <a:pt x="184" y="938"/>
                </a:lnTo>
                <a:lnTo>
                  <a:pt x="190" y="1078"/>
                </a:lnTo>
                <a:lnTo>
                  <a:pt x="195" y="1139"/>
                </a:lnTo>
                <a:lnTo>
                  <a:pt x="200" y="1019"/>
                </a:lnTo>
                <a:lnTo>
                  <a:pt x="205" y="873"/>
                </a:lnTo>
                <a:lnTo>
                  <a:pt x="209" y="734"/>
                </a:lnTo>
                <a:lnTo>
                  <a:pt x="215" y="599"/>
                </a:lnTo>
                <a:lnTo>
                  <a:pt x="219" y="474"/>
                </a:lnTo>
                <a:lnTo>
                  <a:pt x="225" y="364"/>
                </a:lnTo>
                <a:lnTo>
                  <a:pt x="235" y="275"/>
                </a:lnTo>
                <a:lnTo>
                  <a:pt x="239" y="200"/>
                </a:lnTo>
                <a:lnTo>
                  <a:pt x="244" y="145"/>
                </a:lnTo>
                <a:lnTo>
                  <a:pt x="249" y="109"/>
                </a:lnTo>
                <a:lnTo>
                  <a:pt x="254" y="90"/>
                </a:lnTo>
                <a:lnTo>
                  <a:pt x="260" y="95"/>
                </a:lnTo>
                <a:lnTo>
                  <a:pt x="264" y="115"/>
                </a:lnTo>
                <a:lnTo>
                  <a:pt x="270" y="160"/>
                </a:lnTo>
                <a:lnTo>
                  <a:pt x="274" y="214"/>
                </a:lnTo>
                <a:lnTo>
                  <a:pt x="280" y="289"/>
                </a:lnTo>
                <a:lnTo>
                  <a:pt x="284" y="384"/>
                </a:lnTo>
                <a:lnTo>
                  <a:pt x="294" y="490"/>
                </a:lnTo>
                <a:lnTo>
                  <a:pt x="299" y="614"/>
                </a:lnTo>
                <a:lnTo>
                  <a:pt x="304" y="749"/>
                </a:lnTo>
                <a:lnTo>
                  <a:pt x="309" y="894"/>
                </a:lnTo>
                <a:lnTo>
                  <a:pt x="314" y="1044"/>
                </a:lnTo>
                <a:lnTo>
                  <a:pt x="319" y="1179"/>
                </a:lnTo>
                <a:lnTo>
                  <a:pt x="325" y="1058"/>
                </a:lnTo>
                <a:lnTo>
                  <a:pt x="329" y="904"/>
                </a:lnTo>
                <a:lnTo>
                  <a:pt x="335" y="759"/>
                </a:lnTo>
                <a:lnTo>
                  <a:pt x="339" y="624"/>
                </a:lnTo>
                <a:lnTo>
                  <a:pt x="345" y="494"/>
                </a:lnTo>
                <a:lnTo>
                  <a:pt x="349" y="384"/>
                </a:lnTo>
                <a:lnTo>
                  <a:pt x="359" y="289"/>
                </a:lnTo>
                <a:lnTo>
                  <a:pt x="364" y="204"/>
                </a:lnTo>
                <a:lnTo>
                  <a:pt x="369" y="145"/>
                </a:lnTo>
                <a:lnTo>
                  <a:pt x="374" y="95"/>
                </a:lnTo>
                <a:lnTo>
                  <a:pt x="379" y="70"/>
                </a:lnTo>
                <a:lnTo>
                  <a:pt x="384" y="60"/>
                </a:lnTo>
                <a:lnTo>
                  <a:pt x="390" y="70"/>
                </a:lnTo>
                <a:lnTo>
                  <a:pt x="394" y="105"/>
                </a:lnTo>
                <a:lnTo>
                  <a:pt x="399" y="155"/>
                </a:lnTo>
                <a:lnTo>
                  <a:pt x="404" y="230"/>
                </a:lnTo>
                <a:lnTo>
                  <a:pt x="409" y="320"/>
                </a:lnTo>
                <a:lnTo>
                  <a:pt x="419" y="429"/>
                </a:lnTo>
                <a:lnTo>
                  <a:pt x="424" y="554"/>
                </a:lnTo>
                <a:lnTo>
                  <a:pt x="429" y="694"/>
                </a:lnTo>
                <a:lnTo>
                  <a:pt x="434" y="843"/>
                </a:lnTo>
                <a:lnTo>
                  <a:pt x="439" y="999"/>
                </a:lnTo>
                <a:lnTo>
                  <a:pt x="443" y="1153"/>
                </a:lnTo>
                <a:lnTo>
                  <a:pt x="449" y="1108"/>
                </a:lnTo>
                <a:lnTo>
                  <a:pt x="454" y="958"/>
                </a:lnTo>
                <a:lnTo>
                  <a:pt x="459" y="809"/>
                </a:lnTo>
                <a:lnTo>
                  <a:pt x="464" y="669"/>
                </a:lnTo>
                <a:lnTo>
                  <a:pt x="469" y="539"/>
                </a:lnTo>
                <a:lnTo>
                  <a:pt x="479" y="419"/>
                </a:lnTo>
                <a:lnTo>
                  <a:pt x="484" y="309"/>
                </a:lnTo>
                <a:lnTo>
                  <a:pt x="488" y="214"/>
                </a:lnTo>
                <a:lnTo>
                  <a:pt x="494" y="139"/>
                </a:lnTo>
                <a:lnTo>
                  <a:pt x="498" y="80"/>
                </a:lnTo>
                <a:lnTo>
                  <a:pt x="504" y="40"/>
                </a:lnTo>
                <a:lnTo>
                  <a:pt x="508" y="25"/>
                </a:lnTo>
                <a:lnTo>
                  <a:pt x="514" y="30"/>
                </a:lnTo>
                <a:lnTo>
                  <a:pt x="518" y="54"/>
                </a:lnTo>
                <a:lnTo>
                  <a:pt x="524" y="109"/>
                </a:lnTo>
                <a:lnTo>
                  <a:pt x="529" y="180"/>
                </a:lnTo>
                <a:lnTo>
                  <a:pt x="534" y="275"/>
                </a:lnTo>
                <a:lnTo>
                  <a:pt x="543" y="384"/>
                </a:lnTo>
                <a:lnTo>
                  <a:pt x="549" y="510"/>
                </a:lnTo>
                <a:lnTo>
                  <a:pt x="553" y="644"/>
                </a:lnTo>
                <a:lnTo>
                  <a:pt x="559" y="784"/>
                </a:lnTo>
                <a:lnTo>
                  <a:pt x="563" y="934"/>
                </a:lnTo>
                <a:lnTo>
                  <a:pt x="569" y="1088"/>
                </a:lnTo>
                <a:lnTo>
                  <a:pt x="573" y="1179"/>
                </a:lnTo>
                <a:lnTo>
                  <a:pt x="579" y="1023"/>
                </a:lnTo>
                <a:lnTo>
                  <a:pt x="583" y="869"/>
                </a:lnTo>
                <a:lnTo>
                  <a:pt x="589" y="719"/>
                </a:lnTo>
                <a:lnTo>
                  <a:pt x="594" y="575"/>
                </a:lnTo>
                <a:lnTo>
                  <a:pt x="604" y="445"/>
                </a:lnTo>
                <a:lnTo>
                  <a:pt x="608" y="320"/>
                </a:lnTo>
                <a:lnTo>
                  <a:pt x="614" y="214"/>
                </a:lnTo>
                <a:lnTo>
                  <a:pt x="618" y="129"/>
                </a:lnTo>
                <a:lnTo>
                  <a:pt x="624" y="60"/>
                </a:lnTo>
                <a:lnTo>
                  <a:pt x="628" y="20"/>
                </a:lnTo>
                <a:lnTo>
                  <a:pt x="634" y="0"/>
                </a:lnTo>
                <a:lnTo>
                  <a:pt x="638" y="5"/>
                </a:lnTo>
                <a:lnTo>
                  <a:pt x="643" y="30"/>
                </a:lnTo>
                <a:lnTo>
                  <a:pt x="648" y="75"/>
                </a:lnTo>
                <a:lnTo>
                  <a:pt x="653" y="145"/>
                </a:lnTo>
                <a:lnTo>
                  <a:pt x="659" y="224"/>
                </a:lnTo>
                <a:lnTo>
                  <a:pt x="669" y="324"/>
                </a:lnTo>
                <a:lnTo>
                  <a:pt x="673" y="439"/>
                </a:lnTo>
                <a:lnTo>
                  <a:pt x="679" y="565"/>
                </a:lnTo>
                <a:lnTo>
                  <a:pt x="683" y="704"/>
                </a:lnTo>
                <a:lnTo>
                  <a:pt x="689" y="853"/>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6066000" y="2879640"/>
            <a:ext cx="158760" cy="1863720"/>
          </a:xfrm>
          <a:custGeom>
            <a:avLst/>
            <a:gdLst/>
            <a:ahLst/>
            <a:rect l="l" t="t" r="r" b="b"/>
            <a:pathLst>
              <a:path w="100" h="1174">
                <a:moveTo>
                  <a:pt x="0" y="864"/>
                </a:moveTo>
                <a:lnTo>
                  <a:pt x="4" y="1020"/>
                </a:lnTo>
                <a:lnTo>
                  <a:pt x="9" y="1174"/>
                </a:lnTo>
                <a:lnTo>
                  <a:pt x="14" y="1095"/>
                </a:lnTo>
                <a:lnTo>
                  <a:pt x="19" y="929"/>
                </a:lnTo>
                <a:lnTo>
                  <a:pt x="24" y="770"/>
                </a:lnTo>
                <a:lnTo>
                  <a:pt x="29" y="615"/>
                </a:lnTo>
                <a:lnTo>
                  <a:pt x="39" y="470"/>
                </a:lnTo>
                <a:lnTo>
                  <a:pt x="45" y="345"/>
                </a:lnTo>
                <a:lnTo>
                  <a:pt x="49" y="235"/>
                </a:lnTo>
                <a:lnTo>
                  <a:pt x="55" y="146"/>
                </a:lnTo>
                <a:lnTo>
                  <a:pt x="59" y="81"/>
                </a:lnTo>
                <a:lnTo>
                  <a:pt x="64" y="31"/>
                </a:lnTo>
                <a:lnTo>
                  <a:pt x="69" y="6"/>
                </a:lnTo>
                <a:lnTo>
                  <a:pt x="74" y="0"/>
                </a:lnTo>
                <a:lnTo>
                  <a:pt x="79" y="16"/>
                </a:lnTo>
                <a:lnTo>
                  <a:pt x="84" y="51"/>
                </a:lnTo>
                <a:lnTo>
                  <a:pt x="89" y="101"/>
                </a:lnTo>
                <a:lnTo>
                  <a:pt x="100" y="171"/>
                </a:lnTo>
              </a:path>
            </a:pathLst>
          </a:custGeom>
          <a:noFill/>
          <a:ln cap="rnd"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898440" y="5195880"/>
            <a:ext cx="98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equency, MHz</a:t>
            </a:r>
            <a:endParaRPr b="0" lang="en-US" sz="1100" spc="-1" strike="noStrike">
              <a:solidFill>
                <a:srgbClr val="000000"/>
              </a:solidFill>
              <a:latin typeface="Times New Roman"/>
            </a:endParaRPr>
          </a:p>
        </p:txBody>
      </p:sp>
      <p:sp>
        <p:nvSpPr>
          <p:cNvPr id="3344" name=""/>
          <p:cNvSpPr/>
          <p:nvPr/>
        </p:nvSpPr>
        <p:spPr>
          <a:xfrm rot="16200000">
            <a:off x="2048400" y="335268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5" name=""/>
          <p:cNvSpPr/>
          <p:nvPr/>
        </p:nvSpPr>
        <p:spPr>
          <a:xfrm>
            <a:off x="3183120" y="28908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Void</a:t>
            </a:r>
            <a:endParaRPr b="0" lang="en-US" sz="2400" spc="-1" strike="noStrike">
              <a:solidFill>
                <a:srgbClr val="000000"/>
              </a:solidFill>
              <a:latin typeface="Times New Roman"/>
            </a:endParaRPr>
          </a:p>
        </p:txBody>
      </p:sp>
      <p:sp>
        <p:nvSpPr>
          <p:cNvPr id="3346"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80880" y="1143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is separation of variables solutions at many frequencies to synthesize an SV-wave impulse time domain solution (pulse-echo)</a:t>
            </a:r>
            <a:endParaRPr b="0" lang="en-US" sz="2400" spc="-1" strike="noStrike">
              <a:solidFill>
                <a:srgbClr val="000000"/>
              </a:solidFill>
              <a:latin typeface="Times New Roman"/>
            </a:endParaRPr>
          </a:p>
        </p:txBody>
      </p:sp>
      <p:sp>
        <p:nvSpPr>
          <p:cNvPr id="3348" name=""/>
          <p:cNvSpPr/>
          <p:nvPr/>
        </p:nvSpPr>
        <p:spPr>
          <a:xfrm>
            <a:off x="685800" y="5867280"/>
            <a:ext cx="8229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pulse-echo SV-wave response for the same void considered in the P-wave case  by applying a low-pass cosine-squared windowing filter between 10 and 20 MHz to the separation of variables solution and then inverting the result into the time domain with the inverse Fourier transform.</a:t>
            </a:r>
            <a:endParaRPr b="0" lang="en-US" sz="1200" spc="-1" strike="noStrike">
              <a:solidFill>
                <a:srgbClr val="000000"/>
              </a:solidFill>
              <a:latin typeface="Times New Roman"/>
            </a:endParaRPr>
          </a:p>
        </p:txBody>
      </p:sp>
      <p:sp>
        <p:nvSpPr>
          <p:cNvPr id="3349" name=""/>
          <p:cNvSpPr/>
          <p:nvPr/>
        </p:nvSpPr>
        <p:spPr>
          <a:xfrm>
            <a:off x="2700360" y="2271600"/>
            <a:ext cx="3414600" cy="269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2700360" y="2271600"/>
            <a:ext cx="3414600" cy="269424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2700360" y="2271600"/>
            <a:ext cx="3414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2" name=""/>
          <p:cNvSpPr/>
          <p:nvPr/>
        </p:nvSpPr>
        <p:spPr>
          <a:xfrm>
            <a:off x="2700360" y="2271600"/>
            <a:ext cx="3414600" cy="2694240"/>
          </a:xfrm>
          <a:custGeom>
            <a:avLst/>
            <a:gdLst/>
            <a:ahLst/>
            <a:rect l="l" t="t" r="r" b="b"/>
            <a:pathLst>
              <a:path w="2151" h="1697">
                <a:moveTo>
                  <a:pt x="0" y="1697"/>
                </a:moveTo>
                <a:lnTo>
                  <a:pt x="2151" y="1697"/>
                </a:lnTo>
                <a:lnTo>
                  <a:pt x="215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flipV="1">
            <a:off x="2700360" y="2271600"/>
            <a:ext cx="1440" cy="269424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2700360" y="4965840"/>
            <a:ext cx="3414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5" name=""/>
          <p:cNvSpPr/>
          <p:nvPr/>
        </p:nvSpPr>
        <p:spPr>
          <a:xfrm flipV="1">
            <a:off x="270036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56" name=""/>
          <p:cNvSpPr/>
          <p:nvPr/>
        </p:nvSpPr>
        <p:spPr>
          <a:xfrm>
            <a:off x="270036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7" name=""/>
          <p:cNvSpPr/>
          <p:nvPr/>
        </p:nvSpPr>
        <p:spPr>
          <a:xfrm>
            <a:off x="2643840" y="5025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358" name=""/>
          <p:cNvSpPr/>
          <p:nvPr/>
        </p:nvSpPr>
        <p:spPr>
          <a:xfrm>
            <a:off x="269064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359" name=""/>
          <p:cNvSpPr/>
          <p:nvPr/>
        </p:nvSpPr>
        <p:spPr>
          <a:xfrm flipV="1">
            <a:off x="3375000" y="4924080"/>
            <a:ext cx="32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0" name=""/>
          <p:cNvSpPr/>
          <p:nvPr/>
        </p:nvSpPr>
        <p:spPr>
          <a:xfrm>
            <a:off x="3375000" y="2271600"/>
            <a:ext cx="32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61" name=""/>
          <p:cNvSpPr/>
          <p:nvPr/>
        </p:nvSpPr>
        <p:spPr>
          <a:xfrm>
            <a:off x="3274200" y="5025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362" name=""/>
          <p:cNvSpPr/>
          <p:nvPr/>
        </p:nvSpPr>
        <p:spPr>
          <a:xfrm>
            <a:off x="331992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363" name=""/>
          <p:cNvSpPr/>
          <p:nvPr/>
        </p:nvSpPr>
        <p:spPr>
          <a:xfrm flipV="1">
            <a:off x="406080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4" name=""/>
          <p:cNvSpPr/>
          <p:nvPr/>
        </p:nvSpPr>
        <p:spPr>
          <a:xfrm>
            <a:off x="406080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65" name=""/>
          <p:cNvSpPr/>
          <p:nvPr/>
        </p:nvSpPr>
        <p:spPr>
          <a:xfrm>
            <a:off x="403812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366" name=""/>
          <p:cNvSpPr/>
          <p:nvPr/>
        </p:nvSpPr>
        <p:spPr>
          <a:xfrm flipV="1">
            <a:off x="474516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7" name=""/>
          <p:cNvSpPr/>
          <p:nvPr/>
        </p:nvSpPr>
        <p:spPr>
          <a:xfrm>
            <a:off x="474516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68" name=""/>
          <p:cNvSpPr/>
          <p:nvPr/>
        </p:nvSpPr>
        <p:spPr>
          <a:xfrm>
            <a:off x="467244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369" name=""/>
          <p:cNvSpPr/>
          <p:nvPr/>
        </p:nvSpPr>
        <p:spPr>
          <a:xfrm flipV="1">
            <a:off x="5429160" y="4924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70" name=""/>
          <p:cNvSpPr/>
          <p:nvPr/>
        </p:nvSpPr>
        <p:spPr>
          <a:xfrm>
            <a:off x="5429160" y="2271600"/>
            <a:ext cx="180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71" name=""/>
          <p:cNvSpPr/>
          <p:nvPr/>
        </p:nvSpPr>
        <p:spPr>
          <a:xfrm>
            <a:off x="540684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372" name=""/>
          <p:cNvSpPr/>
          <p:nvPr/>
        </p:nvSpPr>
        <p:spPr>
          <a:xfrm flipV="1">
            <a:off x="6114960" y="4924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73" name=""/>
          <p:cNvSpPr/>
          <p:nvPr/>
        </p:nvSpPr>
        <p:spPr>
          <a:xfrm>
            <a:off x="6114960" y="2271600"/>
            <a:ext cx="180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74" name=""/>
          <p:cNvSpPr/>
          <p:nvPr/>
        </p:nvSpPr>
        <p:spPr>
          <a:xfrm>
            <a:off x="604260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3375" name=""/>
          <p:cNvSpPr/>
          <p:nvPr/>
        </p:nvSpPr>
        <p:spPr>
          <a:xfrm>
            <a:off x="2700360" y="496584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flipH="1">
            <a:off x="6075360" y="496584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7" name=""/>
          <p:cNvSpPr/>
          <p:nvPr/>
        </p:nvSpPr>
        <p:spPr>
          <a:xfrm>
            <a:off x="2485440" y="49132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378" name=""/>
          <p:cNvSpPr/>
          <p:nvPr/>
        </p:nvSpPr>
        <p:spPr>
          <a:xfrm>
            <a:off x="2531880" y="4913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379" name=""/>
          <p:cNvSpPr/>
          <p:nvPr/>
        </p:nvSpPr>
        <p:spPr>
          <a:xfrm>
            <a:off x="2700360" y="466416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flipH="1">
            <a:off x="6075360" y="466416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2700360" y="43657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2" name=""/>
          <p:cNvSpPr/>
          <p:nvPr/>
        </p:nvSpPr>
        <p:spPr>
          <a:xfrm flipH="1">
            <a:off x="6075360" y="436572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2540880" y="4314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384" name=""/>
          <p:cNvSpPr/>
          <p:nvPr/>
        </p:nvSpPr>
        <p:spPr>
          <a:xfrm>
            <a:off x="2587320" y="4314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3385" name=""/>
          <p:cNvSpPr/>
          <p:nvPr/>
        </p:nvSpPr>
        <p:spPr>
          <a:xfrm>
            <a:off x="2700360" y="40672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6" name=""/>
          <p:cNvSpPr/>
          <p:nvPr/>
        </p:nvSpPr>
        <p:spPr>
          <a:xfrm flipH="1">
            <a:off x="6075360" y="4067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7" name=""/>
          <p:cNvSpPr/>
          <p:nvPr/>
        </p:nvSpPr>
        <p:spPr>
          <a:xfrm>
            <a:off x="2700360" y="3767040"/>
            <a:ext cx="302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8" name=""/>
          <p:cNvSpPr/>
          <p:nvPr/>
        </p:nvSpPr>
        <p:spPr>
          <a:xfrm flipH="1">
            <a:off x="6075360" y="376704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9" name=""/>
          <p:cNvSpPr/>
          <p:nvPr/>
        </p:nvSpPr>
        <p:spPr>
          <a:xfrm>
            <a:off x="2540880" y="37180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390" name=""/>
          <p:cNvSpPr/>
          <p:nvPr/>
        </p:nvSpPr>
        <p:spPr>
          <a:xfrm>
            <a:off x="2587320" y="3718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391" name=""/>
          <p:cNvSpPr/>
          <p:nvPr/>
        </p:nvSpPr>
        <p:spPr>
          <a:xfrm>
            <a:off x="2700360" y="346860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2" name=""/>
          <p:cNvSpPr/>
          <p:nvPr/>
        </p:nvSpPr>
        <p:spPr>
          <a:xfrm flipH="1">
            <a:off x="6075360" y="346860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3" name=""/>
          <p:cNvSpPr/>
          <p:nvPr/>
        </p:nvSpPr>
        <p:spPr>
          <a:xfrm>
            <a:off x="2700360" y="317016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4" name=""/>
          <p:cNvSpPr/>
          <p:nvPr/>
        </p:nvSpPr>
        <p:spPr>
          <a:xfrm flipH="1">
            <a:off x="6075360" y="317016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5" name=""/>
          <p:cNvSpPr/>
          <p:nvPr/>
        </p:nvSpPr>
        <p:spPr>
          <a:xfrm>
            <a:off x="2572920" y="31194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396" name=""/>
          <p:cNvSpPr/>
          <p:nvPr/>
        </p:nvSpPr>
        <p:spPr>
          <a:xfrm>
            <a:off x="2700360" y="28702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7" name=""/>
          <p:cNvSpPr/>
          <p:nvPr/>
        </p:nvSpPr>
        <p:spPr>
          <a:xfrm flipH="1">
            <a:off x="6075360" y="2870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8" name=""/>
          <p:cNvSpPr/>
          <p:nvPr/>
        </p:nvSpPr>
        <p:spPr>
          <a:xfrm>
            <a:off x="2700360" y="257004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9" name=""/>
          <p:cNvSpPr/>
          <p:nvPr/>
        </p:nvSpPr>
        <p:spPr>
          <a:xfrm flipH="1">
            <a:off x="6075360" y="257004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0" name=""/>
          <p:cNvSpPr/>
          <p:nvPr/>
        </p:nvSpPr>
        <p:spPr>
          <a:xfrm>
            <a:off x="2700360" y="227160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1" name=""/>
          <p:cNvSpPr/>
          <p:nvPr/>
        </p:nvSpPr>
        <p:spPr>
          <a:xfrm flipH="1">
            <a:off x="6075360" y="227160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2" name=""/>
          <p:cNvSpPr/>
          <p:nvPr/>
        </p:nvSpPr>
        <p:spPr>
          <a:xfrm>
            <a:off x="2572920" y="222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3403" name=""/>
          <p:cNvSpPr/>
          <p:nvPr/>
        </p:nvSpPr>
        <p:spPr>
          <a:xfrm>
            <a:off x="2724120" y="2421000"/>
            <a:ext cx="1698480" cy="2519280"/>
          </a:xfrm>
          <a:custGeom>
            <a:avLst/>
            <a:gdLst/>
            <a:ahLst/>
            <a:rect l="l" t="t" r="r" b="b"/>
            <a:pathLst>
              <a:path w="1070" h="1587">
                <a:moveTo>
                  <a:pt x="0" y="472"/>
                </a:moveTo>
                <a:lnTo>
                  <a:pt x="10" y="466"/>
                </a:lnTo>
                <a:lnTo>
                  <a:pt x="19" y="472"/>
                </a:lnTo>
                <a:lnTo>
                  <a:pt x="25" y="472"/>
                </a:lnTo>
                <a:lnTo>
                  <a:pt x="35" y="466"/>
                </a:lnTo>
                <a:lnTo>
                  <a:pt x="45" y="472"/>
                </a:lnTo>
                <a:lnTo>
                  <a:pt x="54" y="466"/>
                </a:lnTo>
                <a:lnTo>
                  <a:pt x="59" y="472"/>
                </a:lnTo>
                <a:lnTo>
                  <a:pt x="69" y="472"/>
                </a:lnTo>
                <a:lnTo>
                  <a:pt x="78" y="466"/>
                </a:lnTo>
                <a:lnTo>
                  <a:pt x="84" y="472"/>
                </a:lnTo>
                <a:lnTo>
                  <a:pt x="94" y="466"/>
                </a:lnTo>
                <a:lnTo>
                  <a:pt x="104" y="466"/>
                </a:lnTo>
                <a:lnTo>
                  <a:pt x="109" y="472"/>
                </a:lnTo>
                <a:lnTo>
                  <a:pt x="119" y="466"/>
                </a:lnTo>
                <a:lnTo>
                  <a:pt x="129" y="472"/>
                </a:lnTo>
                <a:lnTo>
                  <a:pt x="139" y="466"/>
                </a:lnTo>
                <a:lnTo>
                  <a:pt x="143" y="466"/>
                </a:lnTo>
                <a:lnTo>
                  <a:pt x="154" y="472"/>
                </a:lnTo>
                <a:lnTo>
                  <a:pt x="164" y="466"/>
                </a:lnTo>
                <a:lnTo>
                  <a:pt x="168" y="472"/>
                </a:lnTo>
                <a:lnTo>
                  <a:pt x="178" y="466"/>
                </a:lnTo>
                <a:lnTo>
                  <a:pt x="188" y="466"/>
                </a:lnTo>
                <a:lnTo>
                  <a:pt x="193" y="472"/>
                </a:lnTo>
                <a:lnTo>
                  <a:pt x="203" y="466"/>
                </a:lnTo>
                <a:lnTo>
                  <a:pt x="213" y="466"/>
                </a:lnTo>
                <a:lnTo>
                  <a:pt x="223" y="466"/>
                </a:lnTo>
                <a:lnTo>
                  <a:pt x="228" y="466"/>
                </a:lnTo>
                <a:lnTo>
                  <a:pt x="238" y="472"/>
                </a:lnTo>
                <a:lnTo>
                  <a:pt x="248" y="472"/>
                </a:lnTo>
                <a:lnTo>
                  <a:pt x="252" y="466"/>
                </a:lnTo>
                <a:lnTo>
                  <a:pt x="262" y="472"/>
                </a:lnTo>
                <a:lnTo>
                  <a:pt x="272" y="466"/>
                </a:lnTo>
                <a:lnTo>
                  <a:pt x="277" y="472"/>
                </a:lnTo>
                <a:lnTo>
                  <a:pt x="287" y="472"/>
                </a:lnTo>
                <a:lnTo>
                  <a:pt x="297" y="466"/>
                </a:lnTo>
                <a:lnTo>
                  <a:pt x="302" y="472"/>
                </a:lnTo>
                <a:lnTo>
                  <a:pt x="312" y="466"/>
                </a:lnTo>
                <a:lnTo>
                  <a:pt x="322" y="472"/>
                </a:lnTo>
                <a:lnTo>
                  <a:pt x="332" y="472"/>
                </a:lnTo>
                <a:lnTo>
                  <a:pt x="336" y="466"/>
                </a:lnTo>
                <a:lnTo>
                  <a:pt x="346" y="472"/>
                </a:lnTo>
                <a:lnTo>
                  <a:pt x="357" y="466"/>
                </a:lnTo>
                <a:lnTo>
                  <a:pt x="361" y="472"/>
                </a:lnTo>
                <a:lnTo>
                  <a:pt x="371" y="472"/>
                </a:lnTo>
                <a:lnTo>
                  <a:pt x="381" y="466"/>
                </a:lnTo>
                <a:lnTo>
                  <a:pt x="386" y="472"/>
                </a:lnTo>
                <a:lnTo>
                  <a:pt x="396" y="466"/>
                </a:lnTo>
                <a:lnTo>
                  <a:pt x="406" y="472"/>
                </a:lnTo>
                <a:lnTo>
                  <a:pt x="416" y="472"/>
                </a:lnTo>
                <a:lnTo>
                  <a:pt x="421" y="466"/>
                </a:lnTo>
                <a:lnTo>
                  <a:pt x="431" y="472"/>
                </a:lnTo>
                <a:lnTo>
                  <a:pt x="441" y="466"/>
                </a:lnTo>
                <a:lnTo>
                  <a:pt x="445" y="466"/>
                </a:lnTo>
                <a:lnTo>
                  <a:pt x="455" y="472"/>
                </a:lnTo>
                <a:lnTo>
                  <a:pt x="465" y="466"/>
                </a:lnTo>
                <a:lnTo>
                  <a:pt x="470" y="472"/>
                </a:lnTo>
                <a:lnTo>
                  <a:pt x="480" y="466"/>
                </a:lnTo>
                <a:lnTo>
                  <a:pt x="490" y="466"/>
                </a:lnTo>
                <a:lnTo>
                  <a:pt x="500" y="472"/>
                </a:lnTo>
                <a:lnTo>
                  <a:pt x="505" y="466"/>
                </a:lnTo>
                <a:lnTo>
                  <a:pt x="515" y="472"/>
                </a:lnTo>
                <a:lnTo>
                  <a:pt x="525" y="466"/>
                </a:lnTo>
                <a:lnTo>
                  <a:pt x="529" y="466"/>
                </a:lnTo>
                <a:lnTo>
                  <a:pt x="539" y="472"/>
                </a:lnTo>
                <a:lnTo>
                  <a:pt x="550" y="472"/>
                </a:lnTo>
                <a:lnTo>
                  <a:pt x="555" y="466"/>
                </a:lnTo>
                <a:lnTo>
                  <a:pt x="564" y="466"/>
                </a:lnTo>
                <a:lnTo>
                  <a:pt x="574" y="466"/>
                </a:lnTo>
                <a:lnTo>
                  <a:pt x="580" y="472"/>
                </a:lnTo>
                <a:lnTo>
                  <a:pt x="589" y="472"/>
                </a:lnTo>
                <a:lnTo>
                  <a:pt x="599" y="466"/>
                </a:lnTo>
                <a:lnTo>
                  <a:pt x="609" y="466"/>
                </a:lnTo>
                <a:lnTo>
                  <a:pt x="615" y="466"/>
                </a:lnTo>
                <a:lnTo>
                  <a:pt x="624" y="472"/>
                </a:lnTo>
                <a:lnTo>
                  <a:pt x="634" y="472"/>
                </a:lnTo>
                <a:lnTo>
                  <a:pt x="639" y="466"/>
                </a:lnTo>
                <a:lnTo>
                  <a:pt x="648" y="472"/>
                </a:lnTo>
                <a:lnTo>
                  <a:pt x="658" y="447"/>
                </a:lnTo>
                <a:lnTo>
                  <a:pt x="664" y="492"/>
                </a:lnTo>
                <a:lnTo>
                  <a:pt x="674" y="545"/>
                </a:lnTo>
                <a:lnTo>
                  <a:pt x="683" y="323"/>
                </a:lnTo>
                <a:lnTo>
                  <a:pt x="693" y="362"/>
                </a:lnTo>
                <a:lnTo>
                  <a:pt x="699" y="1191"/>
                </a:lnTo>
                <a:lnTo>
                  <a:pt x="708" y="1587"/>
                </a:lnTo>
                <a:lnTo>
                  <a:pt x="718" y="725"/>
                </a:lnTo>
                <a:lnTo>
                  <a:pt x="723" y="0"/>
                </a:lnTo>
                <a:lnTo>
                  <a:pt x="733" y="208"/>
                </a:lnTo>
                <a:lnTo>
                  <a:pt x="742" y="437"/>
                </a:lnTo>
                <a:lnTo>
                  <a:pt x="748" y="357"/>
                </a:lnTo>
                <a:lnTo>
                  <a:pt x="758" y="337"/>
                </a:lnTo>
                <a:lnTo>
                  <a:pt x="767" y="367"/>
                </a:lnTo>
                <a:lnTo>
                  <a:pt x="777" y="362"/>
                </a:lnTo>
                <a:lnTo>
                  <a:pt x="783" y="362"/>
                </a:lnTo>
                <a:lnTo>
                  <a:pt x="793" y="357"/>
                </a:lnTo>
                <a:lnTo>
                  <a:pt x="802" y="353"/>
                </a:lnTo>
                <a:lnTo>
                  <a:pt x="807" y="357"/>
                </a:lnTo>
                <a:lnTo>
                  <a:pt x="818" y="362"/>
                </a:lnTo>
                <a:lnTo>
                  <a:pt x="828" y="367"/>
                </a:lnTo>
                <a:lnTo>
                  <a:pt x="832" y="372"/>
                </a:lnTo>
                <a:lnTo>
                  <a:pt x="842" y="372"/>
                </a:lnTo>
                <a:lnTo>
                  <a:pt x="851" y="382"/>
                </a:lnTo>
                <a:lnTo>
                  <a:pt x="857" y="387"/>
                </a:lnTo>
                <a:lnTo>
                  <a:pt x="867" y="397"/>
                </a:lnTo>
                <a:lnTo>
                  <a:pt x="877" y="402"/>
                </a:lnTo>
                <a:lnTo>
                  <a:pt x="886" y="412"/>
                </a:lnTo>
                <a:lnTo>
                  <a:pt x="892" y="417"/>
                </a:lnTo>
                <a:lnTo>
                  <a:pt x="902" y="427"/>
                </a:lnTo>
                <a:lnTo>
                  <a:pt x="912" y="431"/>
                </a:lnTo>
                <a:lnTo>
                  <a:pt x="916" y="441"/>
                </a:lnTo>
                <a:lnTo>
                  <a:pt x="926" y="447"/>
                </a:lnTo>
                <a:lnTo>
                  <a:pt x="936" y="457"/>
                </a:lnTo>
                <a:lnTo>
                  <a:pt x="941" y="461"/>
                </a:lnTo>
                <a:lnTo>
                  <a:pt x="951" y="472"/>
                </a:lnTo>
                <a:lnTo>
                  <a:pt x="961" y="472"/>
                </a:lnTo>
                <a:lnTo>
                  <a:pt x="971" y="472"/>
                </a:lnTo>
                <a:lnTo>
                  <a:pt x="976" y="472"/>
                </a:lnTo>
                <a:lnTo>
                  <a:pt x="986" y="472"/>
                </a:lnTo>
                <a:lnTo>
                  <a:pt x="996" y="482"/>
                </a:lnTo>
                <a:lnTo>
                  <a:pt x="1000" y="486"/>
                </a:lnTo>
                <a:lnTo>
                  <a:pt x="1011" y="486"/>
                </a:lnTo>
                <a:lnTo>
                  <a:pt x="1021" y="506"/>
                </a:lnTo>
                <a:lnTo>
                  <a:pt x="1025" y="482"/>
                </a:lnTo>
                <a:lnTo>
                  <a:pt x="1035" y="501"/>
                </a:lnTo>
                <a:lnTo>
                  <a:pt x="1045" y="615"/>
                </a:lnTo>
                <a:lnTo>
                  <a:pt x="1055" y="461"/>
                </a:lnTo>
                <a:lnTo>
                  <a:pt x="1060" y="278"/>
                </a:lnTo>
                <a:lnTo>
                  <a:pt x="1070" y="799"/>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4422600" y="2585880"/>
            <a:ext cx="1627200" cy="1882800"/>
          </a:xfrm>
          <a:custGeom>
            <a:avLst/>
            <a:gdLst/>
            <a:ahLst/>
            <a:rect l="l" t="t" r="r" b="b"/>
            <a:pathLst>
              <a:path w="1025" h="1186">
                <a:moveTo>
                  <a:pt x="0" y="695"/>
                </a:moveTo>
                <a:lnTo>
                  <a:pt x="10" y="1186"/>
                </a:lnTo>
                <a:lnTo>
                  <a:pt x="15" y="650"/>
                </a:lnTo>
                <a:lnTo>
                  <a:pt x="25" y="0"/>
                </a:lnTo>
                <a:lnTo>
                  <a:pt x="35" y="125"/>
                </a:lnTo>
                <a:lnTo>
                  <a:pt x="39" y="357"/>
                </a:lnTo>
                <a:lnTo>
                  <a:pt x="49" y="318"/>
                </a:lnTo>
                <a:lnTo>
                  <a:pt x="59" y="308"/>
                </a:lnTo>
                <a:lnTo>
                  <a:pt x="64" y="343"/>
                </a:lnTo>
                <a:lnTo>
                  <a:pt x="74" y="343"/>
                </a:lnTo>
                <a:lnTo>
                  <a:pt x="84" y="357"/>
                </a:lnTo>
                <a:lnTo>
                  <a:pt x="94" y="357"/>
                </a:lnTo>
                <a:lnTo>
                  <a:pt x="99" y="353"/>
                </a:lnTo>
                <a:lnTo>
                  <a:pt x="109" y="362"/>
                </a:lnTo>
                <a:lnTo>
                  <a:pt x="119" y="362"/>
                </a:lnTo>
                <a:lnTo>
                  <a:pt x="123" y="362"/>
                </a:lnTo>
                <a:lnTo>
                  <a:pt x="133" y="362"/>
                </a:lnTo>
                <a:lnTo>
                  <a:pt x="144" y="362"/>
                </a:lnTo>
                <a:lnTo>
                  <a:pt x="148" y="362"/>
                </a:lnTo>
                <a:lnTo>
                  <a:pt x="158" y="362"/>
                </a:lnTo>
                <a:lnTo>
                  <a:pt x="168" y="362"/>
                </a:lnTo>
                <a:lnTo>
                  <a:pt x="178" y="362"/>
                </a:lnTo>
                <a:lnTo>
                  <a:pt x="183" y="362"/>
                </a:lnTo>
                <a:lnTo>
                  <a:pt x="193" y="362"/>
                </a:lnTo>
                <a:lnTo>
                  <a:pt x="203" y="362"/>
                </a:lnTo>
                <a:lnTo>
                  <a:pt x="209" y="362"/>
                </a:lnTo>
                <a:lnTo>
                  <a:pt x="218" y="368"/>
                </a:lnTo>
                <a:lnTo>
                  <a:pt x="228" y="362"/>
                </a:lnTo>
                <a:lnTo>
                  <a:pt x="232" y="362"/>
                </a:lnTo>
                <a:lnTo>
                  <a:pt x="242" y="362"/>
                </a:lnTo>
                <a:lnTo>
                  <a:pt x="252" y="362"/>
                </a:lnTo>
                <a:lnTo>
                  <a:pt x="262" y="368"/>
                </a:lnTo>
                <a:lnTo>
                  <a:pt x="267" y="362"/>
                </a:lnTo>
                <a:lnTo>
                  <a:pt x="277" y="362"/>
                </a:lnTo>
                <a:lnTo>
                  <a:pt x="287" y="368"/>
                </a:lnTo>
                <a:lnTo>
                  <a:pt x="292" y="368"/>
                </a:lnTo>
                <a:lnTo>
                  <a:pt x="302" y="368"/>
                </a:lnTo>
                <a:lnTo>
                  <a:pt x="312" y="368"/>
                </a:lnTo>
                <a:lnTo>
                  <a:pt x="317" y="368"/>
                </a:lnTo>
                <a:lnTo>
                  <a:pt x="326" y="368"/>
                </a:lnTo>
                <a:lnTo>
                  <a:pt x="337" y="368"/>
                </a:lnTo>
                <a:lnTo>
                  <a:pt x="342" y="368"/>
                </a:lnTo>
                <a:lnTo>
                  <a:pt x="351" y="368"/>
                </a:lnTo>
                <a:lnTo>
                  <a:pt x="361" y="368"/>
                </a:lnTo>
                <a:lnTo>
                  <a:pt x="371" y="368"/>
                </a:lnTo>
                <a:lnTo>
                  <a:pt x="377" y="368"/>
                </a:lnTo>
                <a:lnTo>
                  <a:pt x="386" y="368"/>
                </a:lnTo>
                <a:lnTo>
                  <a:pt x="396" y="368"/>
                </a:lnTo>
                <a:lnTo>
                  <a:pt x="401" y="368"/>
                </a:lnTo>
                <a:lnTo>
                  <a:pt x="412" y="368"/>
                </a:lnTo>
                <a:lnTo>
                  <a:pt x="421" y="368"/>
                </a:lnTo>
                <a:lnTo>
                  <a:pt x="426" y="362"/>
                </a:lnTo>
                <a:lnTo>
                  <a:pt x="436" y="368"/>
                </a:lnTo>
                <a:lnTo>
                  <a:pt x="445" y="368"/>
                </a:lnTo>
                <a:lnTo>
                  <a:pt x="455" y="362"/>
                </a:lnTo>
                <a:lnTo>
                  <a:pt x="461" y="362"/>
                </a:lnTo>
                <a:lnTo>
                  <a:pt x="471" y="368"/>
                </a:lnTo>
                <a:lnTo>
                  <a:pt x="480" y="372"/>
                </a:lnTo>
                <a:lnTo>
                  <a:pt x="486" y="362"/>
                </a:lnTo>
                <a:lnTo>
                  <a:pt x="496" y="362"/>
                </a:lnTo>
                <a:lnTo>
                  <a:pt x="505" y="362"/>
                </a:lnTo>
                <a:lnTo>
                  <a:pt x="510" y="368"/>
                </a:lnTo>
                <a:lnTo>
                  <a:pt x="520" y="362"/>
                </a:lnTo>
                <a:lnTo>
                  <a:pt x="530" y="362"/>
                </a:lnTo>
                <a:lnTo>
                  <a:pt x="540" y="368"/>
                </a:lnTo>
                <a:lnTo>
                  <a:pt x="545" y="362"/>
                </a:lnTo>
                <a:lnTo>
                  <a:pt x="555" y="368"/>
                </a:lnTo>
                <a:lnTo>
                  <a:pt x="564" y="368"/>
                </a:lnTo>
                <a:lnTo>
                  <a:pt x="570" y="368"/>
                </a:lnTo>
                <a:lnTo>
                  <a:pt x="580" y="368"/>
                </a:lnTo>
                <a:lnTo>
                  <a:pt x="590" y="368"/>
                </a:lnTo>
                <a:lnTo>
                  <a:pt x="594" y="368"/>
                </a:lnTo>
                <a:lnTo>
                  <a:pt x="605" y="368"/>
                </a:lnTo>
                <a:lnTo>
                  <a:pt x="615" y="362"/>
                </a:lnTo>
                <a:lnTo>
                  <a:pt x="619" y="368"/>
                </a:lnTo>
                <a:lnTo>
                  <a:pt x="629" y="362"/>
                </a:lnTo>
                <a:lnTo>
                  <a:pt x="639" y="368"/>
                </a:lnTo>
                <a:lnTo>
                  <a:pt x="648" y="368"/>
                </a:lnTo>
                <a:lnTo>
                  <a:pt x="654" y="362"/>
                </a:lnTo>
                <a:lnTo>
                  <a:pt x="664" y="368"/>
                </a:lnTo>
                <a:lnTo>
                  <a:pt x="674" y="368"/>
                </a:lnTo>
                <a:lnTo>
                  <a:pt x="679" y="362"/>
                </a:lnTo>
                <a:lnTo>
                  <a:pt x="689" y="368"/>
                </a:lnTo>
                <a:lnTo>
                  <a:pt x="699" y="362"/>
                </a:lnTo>
                <a:lnTo>
                  <a:pt x="703" y="362"/>
                </a:lnTo>
                <a:lnTo>
                  <a:pt x="713" y="368"/>
                </a:lnTo>
                <a:lnTo>
                  <a:pt x="723" y="362"/>
                </a:lnTo>
                <a:lnTo>
                  <a:pt x="734" y="368"/>
                </a:lnTo>
                <a:lnTo>
                  <a:pt x="738" y="368"/>
                </a:lnTo>
                <a:lnTo>
                  <a:pt x="748" y="362"/>
                </a:lnTo>
                <a:lnTo>
                  <a:pt x="758" y="368"/>
                </a:lnTo>
                <a:lnTo>
                  <a:pt x="763" y="362"/>
                </a:lnTo>
                <a:lnTo>
                  <a:pt x="773" y="368"/>
                </a:lnTo>
                <a:lnTo>
                  <a:pt x="783" y="368"/>
                </a:lnTo>
                <a:lnTo>
                  <a:pt x="787" y="362"/>
                </a:lnTo>
                <a:lnTo>
                  <a:pt x="797" y="368"/>
                </a:lnTo>
                <a:lnTo>
                  <a:pt x="808" y="362"/>
                </a:lnTo>
                <a:lnTo>
                  <a:pt x="818" y="368"/>
                </a:lnTo>
                <a:lnTo>
                  <a:pt x="822" y="368"/>
                </a:lnTo>
                <a:lnTo>
                  <a:pt x="832" y="362"/>
                </a:lnTo>
                <a:lnTo>
                  <a:pt x="842" y="368"/>
                </a:lnTo>
                <a:lnTo>
                  <a:pt x="847" y="362"/>
                </a:lnTo>
                <a:lnTo>
                  <a:pt x="857" y="368"/>
                </a:lnTo>
                <a:lnTo>
                  <a:pt x="867" y="368"/>
                </a:lnTo>
                <a:lnTo>
                  <a:pt x="872" y="362"/>
                </a:lnTo>
                <a:lnTo>
                  <a:pt x="882" y="368"/>
                </a:lnTo>
                <a:lnTo>
                  <a:pt x="892" y="368"/>
                </a:lnTo>
                <a:lnTo>
                  <a:pt x="896" y="362"/>
                </a:lnTo>
                <a:lnTo>
                  <a:pt x="906" y="368"/>
                </a:lnTo>
                <a:lnTo>
                  <a:pt x="916" y="368"/>
                </a:lnTo>
                <a:lnTo>
                  <a:pt x="926" y="362"/>
                </a:lnTo>
                <a:lnTo>
                  <a:pt x="931" y="362"/>
                </a:lnTo>
                <a:lnTo>
                  <a:pt x="941" y="368"/>
                </a:lnTo>
                <a:lnTo>
                  <a:pt x="951" y="368"/>
                </a:lnTo>
                <a:lnTo>
                  <a:pt x="956" y="362"/>
                </a:lnTo>
                <a:lnTo>
                  <a:pt x="966" y="362"/>
                </a:lnTo>
                <a:lnTo>
                  <a:pt x="976" y="368"/>
                </a:lnTo>
                <a:lnTo>
                  <a:pt x="980" y="362"/>
                </a:lnTo>
                <a:lnTo>
                  <a:pt x="990" y="368"/>
                </a:lnTo>
                <a:lnTo>
                  <a:pt x="1001" y="368"/>
                </a:lnTo>
                <a:lnTo>
                  <a:pt x="1011" y="362"/>
                </a:lnTo>
                <a:lnTo>
                  <a:pt x="1015" y="368"/>
                </a:lnTo>
                <a:lnTo>
                  <a:pt x="1025" y="362"/>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4055040" y="533556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3406" name=""/>
          <p:cNvSpPr/>
          <p:nvPr/>
        </p:nvSpPr>
        <p:spPr>
          <a:xfrm>
            <a:off x="4395600" y="53197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407" name=""/>
          <p:cNvSpPr/>
          <p:nvPr/>
        </p:nvSpPr>
        <p:spPr>
          <a:xfrm>
            <a:off x="4473360" y="5335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3408" name=""/>
          <p:cNvSpPr/>
          <p:nvPr/>
        </p:nvSpPr>
        <p:spPr>
          <a:xfrm rot="16200000">
            <a:off x="2045520" y="34160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
        <p:nvSpPr>
          <p:cNvPr id="3409" name=""/>
          <p:cNvSpPr/>
          <p:nvPr/>
        </p:nvSpPr>
        <p:spPr>
          <a:xfrm>
            <a:off x="2700360" y="2271600"/>
            <a:ext cx="3414600" cy="269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0" name=""/>
          <p:cNvSpPr/>
          <p:nvPr/>
        </p:nvSpPr>
        <p:spPr>
          <a:xfrm>
            <a:off x="2700360" y="2271600"/>
            <a:ext cx="3414600" cy="269424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2700360" y="2271600"/>
            <a:ext cx="3414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2" name=""/>
          <p:cNvSpPr/>
          <p:nvPr/>
        </p:nvSpPr>
        <p:spPr>
          <a:xfrm>
            <a:off x="2700360" y="2271600"/>
            <a:ext cx="3414600" cy="2694240"/>
          </a:xfrm>
          <a:custGeom>
            <a:avLst/>
            <a:gdLst/>
            <a:ahLst/>
            <a:rect l="l" t="t" r="r" b="b"/>
            <a:pathLst>
              <a:path w="2151" h="1697">
                <a:moveTo>
                  <a:pt x="0" y="1697"/>
                </a:moveTo>
                <a:lnTo>
                  <a:pt x="2151" y="1697"/>
                </a:lnTo>
                <a:lnTo>
                  <a:pt x="215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flipV="1">
            <a:off x="2700360" y="2271600"/>
            <a:ext cx="1440" cy="269424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2700360" y="4965840"/>
            <a:ext cx="3414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5" name=""/>
          <p:cNvSpPr/>
          <p:nvPr/>
        </p:nvSpPr>
        <p:spPr>
          <a:xfrm flipV="1">
            <a:off x="270036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16" name=""/>
          <p:cNvSpPr/>
          <p:nvPr/>
        </p:nvSpPr>
        <p:spPr>
          <a:xfrm>
            <a:off x="270036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17" name=""/>
          <p:cNvSpPr/>
          <p:nvPr/>
        </p:nvSpPr>
        <p:spPr>
          <a:xfrm>
            <a:off x="2643840" y="5025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418" name=""/>
          <p:cNvSpPr/>
          <p:nvPr/>
        </p:nvSpPr>
        <p:spPr>
          <a:xfrm>
            <a:off x="269064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419" name=""/>
          <p:cNvSpPr/>
          <p:nvPr/>
        </p:nvSpPr>
        <p:spPr>
          <a:xfrm flipV="1">
            <a:off x="3375000" y="4924080"/>
            <a:ext cx="32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20" name=""/>
          <p:cNvSpPr/>
          <p:nvPr/>
        </p:nvSpPr>
        <p:spPr>
          <a:xfrm>
            <a:off x="3375000" y="2271600"/>
            <a:ext cx="32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1" name=""/>
          <p:cNvSpPr/>
          <p:nvPr/>
        </p:nvSpPr>
        <p:spPr>
          <a:xfrm>
            <a:off x="3274200" y="5025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422" name=""/>
          <p:cNvSpPr/>
          <p:nvPr/>
        </p:nvSpPr>
        <p:spPr>
          <a:xfrm>
            <a:off x="331992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423" name=""/>
          <p:cNvSpPr/>
          <p:nvPr/>
        </p:nvSpPr>
        <p:spPr>
          <a:xfrm flipV="1">
            <a:off x="406080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24" name=""/>
          <p:cNvSpPr/>
          <p:nvPr/>
        </p:nvSpPr>
        <p:spPr>
          <a:xfrm>
            <a:off x="406080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5" name=""/>
          <p:cNvSpPr/>
          <p:nvPr/>
        </p:nvSpPr>
        <p:spPr>
          <a:xfrm>
            <a:off x="403812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426" name=""/>
          <p:cNvSpPr/>
          <p:nvPr/>
        </p:nvSpPr>
        <p:spPr>
          <a:xfrm flipV="1">
            <a:off x="4745160" y="4924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27" name=""/>
          <p:cNvSpPr/>
          <p:nvPr/>
        </p:nvSpPr>
        <p:spPr>
          <a:xfrm>
            <a:off x="4745160" y="2271600"/>
            <a:ext cx="144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8" name=""/>
          <p:cNvSpPr/>
          <p:nvPr/>
        </p:nvSpPr>
        <p:spPr>
          <a:xfrm>
            <a:off x="467244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3429" name=""/>
          <p:cNvSpPr/>
          <p:nvPr/>
        </p:nvSpPr>
        <p:spPr>
          <a:xfrm flipV="1">
            <a:off x="5429160" y="4924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0" name=""/>
          <p:cNvSpPr/>
          <p:nvPr/>
        </p:nvSpPr>
        <p:spPr>
          <a:xfrm>
            <a:off x="5429160" y="2271600"/>
            <a:ext cx="180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31" name=""/>
          <p:cNvSpPr/>
          <p:nvPr/>
        </p:nvSpPr>
        <p:spPr>
          <a:xfrm>
            <a:off x="5406840" y="5025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432" name=""/>
          <p:cNvSpPr/>
          <p:nvPr/>
        </p:nvSpPr>
        <p:spPr>
          <a:xfrm flipV="1">
            <a:off x="6114960" y="4924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3" name=""/>
          <p:cNvSpPr/>
          <p:nvPr/>
        </p:nvSpPr>
        <p:spPr>
          <a:xfrm>
            <a:off x="6114960" y="2271600"/>
            <a:ext cx="1800" cy="32040"/>
          </a:xfrm>
          <a:prstGeom prst="line">
            <a:avLst/>
          </a:prstGeom>
          <a:ln cap="rnd"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34" name=""/>
          <p:cNvSpPr/>
          <p:nvPr/>
        </p:nvSpPr>
        <p:spPr>
          <a:xfrm>
            <a:off x="6042600" y="5025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3435" name=""/>
          <p:cNvSpPr/>
          <p:nvPr/>
        </p:nvSpPr>
        <p:spPr>
          <a:xfrm>
            <a:off x="2700360" y="496584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flipH="1">
            <a:off x="6075360" y="496584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7" name=""/>
          <p:cNvSpPr/>
          <p:nvPr/>
        </p:nvSpPr>
        <p:spPr>
          <a:xfrm>
            <a:off x="2485440" y="49132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438" name=""/>
          <p:cNvSpPr/>
          <p:nvPr/>
        </p:nvSpPr>
        <p:spPr>
          <a:xfrm>
            <a:off x="2531880" y="4913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439" name=""/>
          <p:cNvSpPr/>
          <p:nvPr/>
        </p:nvSpPr>
        <p:spPr>
          <a:xfrm>
            <a:off x="2700360" y="466416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0" name=""/>
          <p:cNvSpPr/>
          <p:nvPr/>
        </p:nvSpPr>
        <p:spPr>
          <a:xfrm flipH="1">
            <a:off x="6075360" y="466416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2700360" y="436572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2" name=""/>
          <p:cNvSpPr/>
          <p:nvPr/>
        </p:nvSpPr>
        <p:spPr>
          <a:xfrm flipH="1">
            <a:off x="6075360" y="436572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3" name=""/>
          <p:cNvSpPr/>
          <p:nvPr/>
        </p:nvSpPr>
        <p:spPr>
          <a:xfrm>
            <a:off x="2540880" y="431496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444" name=""/>
          <p:cNvSpPr/>
          <p:nvPr/>
        </p:nvSpPr>
        <p:spPr>
          <a:xfrm>
            <a:off x="2587320" y="4314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3445" name=""/>
          <p:cNvSpPr/>
          <p:nvPr/>
        </p:nvSpPr>
        <p:spPr>
          <a:xfrm>
            <a:off x="2700360" y="40672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6" name=""/>
          <p:cNvSpPr/>
          <p:nvPr/>
        </p:nvSpPr>
        <p:spPr>
          <a:xfrm flipH="1">
            <a:off x="6075360" y="4067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7" name=""/>
          <p:cNvSpPr/>
          <p:nvPr/>
        </p:nvSpPr>
        <p:spPr>
          <a:xfrm>
            <a:off x="2700360" y="3767040"/>
            <a:ext cx="302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8" name=""/>
          <p:cNvSpPr/>
          <p:nvPr/>
        </p:nvSpPr>
        <p:spPr>
          <a:xfrm flipH="1">
            <a:off x="6075360" y="3767040"/>
            <a:ext cx="3960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9" name=""/>
          <p:cNvSpPr/>
          <p:nvPr/>
        </p:nvSpPr>
        <p:spPr>
          <a:xfrm>
            <a:off x="2540880" y="37180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3450" name=""/>
          <p:cNvSpPr/>
          <p:nvPr/>
        </p:nvSpPr>
        <p:spPr>
          <a:xfrm>
            <a:off x="2587320" y="3718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451" name=""/>
          <p:cNvSpPr/>
          <p:nvPr/>
        </p:nvSpPr>
        <p:spPr>
          <a:xfrm>
            <a:off x="2700360" y="346860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2" name=""/>
          <p:cNvSpPr/>
          <p:nvPr/>
        </p:nvSpPr>
        <p:spPr>
          <a:xfrm flipH="1">
            <a:off x="6075360" y="346860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a:off x="2700360" y="317016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4" name=""/>
          <p:cNvSpPr/>
          <p:nvPr/>
        </p:nvSpPr>
        <p:spPr>
          <a:xfrm flipH="1">
            <a:off x="6075360" y="317016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5" name=""/>
          <p:cNvSpPr/>
          <p:nvPr/>
        </p:nvSpPr>
        <p:spPr>
          <a:xfrm>
            <a:off x="2572920" y="31194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456" name=""/>
          <p:cNvSpPr/>
          <p:nvPr/>
        </p:nvSpPr>
        <p:spPr>
          <a:xfrm>
            <a:off x="2700360" y="2870280"/>
            <a:ext cx="302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flipH="1">
            <a:off x="6075360" y="2870280"/>
            <a:ext cx="3960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8" name=""/>
          <p:cNvSpPr/>
          <p:nvPr/>
        </p:nvSpPr>
        <p:spPr>
          <a:xfrm>
            <a:off x="2700360" y="257004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9" name=""/>
          <p:cNvSpPr/>
          <p:nvPr/>
        </p:nvSpPr>
        <p:spPr>
          <a:xfrm flipH="1">
            <a:off x="6075360" y="257004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0" name=""/>
          <p:cNvSpPr/>
          <p:nvPr/>
        </p:nvSpPr>
        <p:spPr>
          <a:xfrm>
            <a:off x="2700360" y="2271600"/>
            <a:ext cx="302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1" name=""/>
          <p:cNvSpPr/>
          <p:nvPr/>
        </p:nvSpPr>
        <p:spPr>
          <a:xfrm flipH="1">
            <a:off x="6075360" y="2271600"/>
            <a:ext cx="3960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2" name=""/>
          <p:cNvSpPr/>
          <p:nvPr/>
        </p:nvSpPr>
        <p:spPr>
          <a:xfrm>
            <a:off x="2572920" y="222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3463" name=""/>
          <p:cNvSpPr/>
          <p:nvPr/>
        </p:nvSpPr>
        <p:spPr>
          <a:xfrm>
            <a:off x="2724120" y="2421000"/>
            <a:ext cx="1698480" cy="2519280"/>
          </a:xfrm>
          <a:custGeom>
            <a:avLst/>
            <a:gdLst/>
            <a:ahLst/>
            <a:rect l="l" t="t" r="r" b="b"/>
            <a:pathLst>
              <a:path w="1070" h="1587">
                <a:moveTo>
                  <a:pt x="0" y="472"/>
                </a:moveTo>
                <a:lnTo>
                  <a:pt x="10" y="466"/>
                </a:lnTo>
                <a:lnTo>
                  <a:pt x="19" y="472"/>
                </a:lnTo>
                <a:lnTo>
                  <a:pt x="25" y="472"/>
                </a:lnTo>
                <a:lnTo>
                  <a:pt x="35" y="466"/>
                </a:lnTo>
                <a:lnTo>
                  <a:pt x="45" y="472"/>
                </a:lnTo>
                <a:lnTo>
                  <a:pt x="54" y="466"/>
                </a:lnTo>
                <a:lnTo>
                  <a:pt x="59" y="472"/>
                </a:lnTo>
                <a:lnTo>
                  <a:pt x="69" y="472"/>
                </a:lnTo>
                <a:lnTo>
                  <a:pt x="78" y="466"/>
                </a:lnTo>
                <a:lnTo>
                  <a:pt x="84" y="472"/>
                </a:lnTo>
                <a:lnTo>
                  <a:pt x="94" y="466"/>
                </a:lnTo>
                <a:lnTo>
                  <a:pt x="104" y="466"/>
                </a:lnTo>
                <a:lnTo>
                  <a:pt x="109" y="472"/>
                </a:lnTo>
                <a:lnTo>
                  <a:pt x="119" y="466"/>
                </a:lnTo>
                <a:lnTo>
                  <a:pt x="129" y="472"/>
                </a:lnTo>
                <a:lnTo>
                  <a:pt x="139" y="466"/>
                </a:lnTo>
                <a:lnTo>
                  <a:pt x="143" y="466"/>
                </a:lnTo>
                <a:lnTo>
                  <a:pt x="154" y="472"/>
                </a:lnTo>
                <a:lnTo>
                  <a:pt x="164" y="466"/>
                </a:lnTo>
                <a:lnTo>
                  <a:pt x="168" y="472"/>
                </a:lnTo>
                <a:lnTo>
                  <a:pt x="178" y="466"/>
                </a:lnTo>
                <a:lnTo>
                  <a:pt x="188" y="466"/>
                </a:lnTo>
                <a:lnTo>
                  <a:pt x="193" y="472"/>
                </a:lnTo>
                <a:lnTo>
                  <a:pt x="203" y="466"/>
                </a:lnTo>
                <a:lnTo>
                  <a:pt x="213" y="466"/>
                </a:lnTo>
                <a:lnTo>
                  <a:pt x="223" y="466"/>
                </a:lnTo>
                <a:lnTo>
                  <a:pt x="228" y="466"/>
                </a:lnTo>
                <a:lnTo>
                  <a:pt x="238" y="472"/>
                </a:lnTo>
                <a:lnTo>
                  <a:pt x="248" y="472"/>
                </a:lnTo>
                <a:lnTo>
                  <a:pt x="252" y="466"/>
                </a:lnTo>
                <a:lnTo>
                  <a:pt x="262" y="472"/>
                </a:lnTo>
                <a:lnTo>
                  <a:pt x="272" y="466"/>
                </a:lnTo>
                <a:lnTo>
                  <a:pt x="277" y="472"/>
                </a:lnTo>
                <a:lnTo>
                  <a:pt x="287" y="472"/>
                </a:lnTo>
                <a:lnTo>
                  <a:pt x="297" y="466"/>
                </a:lnTo>
                <a:lnTo>
                  <a:pt x="302" y="472"/>
                </a:lnTo>
                <a:lnTo>
                  <a:pt x="312" y="466"/>
                </a:lnTo>
                <a:lnTo>
                  <a:pt x="322" y="472"/>
                </a:lnTo>
                <a:lnTo>
                  <a:pt x="332" y="472"/>
                </a:lnTo>
                <a:lnTo>
                  <a:pt x="336" y="466"/>
                </a:lnTo>
                <a:lnTo>
                  <a:pt x="346" y="472"/>
                </a:lnTo>
                <a:lnTo>
                  <a:pt x="357" y="466"/>
                </a:lnTo>
                <a:lnTo>
                  <a:pt x="361" y="472"/>
                </a:lnTo>
                <a:lnTo>
                  <a:pt x="371" y="472"/>
                </a:lnTo>
                <a:lnTo>
                  <a:pt x="381" y="466"/>
                </a:lnTo>
                <a:lnTo>
                  <a:pt x="386" y="472"/>
                </a:lnTo>
                <a:lnTo>
                  <a:pt x="396" y="466"/>
                </a:lnTo>
                <a:lnTo>
                  <a:pt x="406" y="472"/>
                </a:lnTo>
                <a:lnTo>
                  <a:pt x="416" y="472"/>
                </a:lnTo>
                <a:lnTo>
                  <a:pt x="421" y="466"/>
                </a:lnTo>
                <a:lnTo>
                  <a:pt x="431" y="472"/>
                </a:lnTo>
                <a:lnTo>
                  <a:pt x="441" y="466"/>
                </a:lnTo>
                <a:lnTo>
                  <a:pt x="445" y="466"/>
                </a:lnTo>
                <a:lnTo>
                  <a:pt x="455" y="472"/>
                </a:lnTo>
                <a:lnTo>
                  <a:pt x="465" y="466"/>
                </a:lnTo>
                <a:lnTo>
                  <a:pt x="470" y="472"/>
                </a:lnTo>
                <a:lnTo>
                  <a:pt x="480" y="466"/>
                </a:lnTo>
                <a:lnTo>
                  <a:pt x="490" y="466"/>
                </a:lnTo>
                <a:lnTo>
                  <a:pt x="500" y="472"/>
                </a:lnTo>
                <a:lnTo>
                  <a:pt x="505" y="466"/>
                </a:lnTo>
                <a:lnTo>
                  <a:pt x="515" y="472"/>
                </a:lnTo>
                <a:lnTo>
                  <a:pt x="525" y="466"/>
                </a:lnTo>
                <a:lnTo>
                  <a:pt x="529" y="466"/>
                </a:lnTo>
                <a:lnTo>
                  <a:pt x="539" y="472"/>
                </a:lnTo>
                <a:lnTo>
                  <a:pt x="550" y="472"/>
                </a:lnTo>
                <a:lnTo>
                  <a:pt x="555" y="466"/>
                </a:lnTo>
                <a:lnTo>
                  <a:pt x="564" y="466"/>
                </a:lnTo>
                <a:lnTo>
                  <a:pt x="574" y="466"/>
                </a:lnTo>
                <a:lnTo>
                  <a:pt x="580" y="472"/>
                </a:lnTo>
                <a:lnTo>
                  <a:pt x="589" y="472"/>
                </a:lnTo>
                <a:lnTo>
                  <a:pt x="599" y="466"/>
                </a:lnTo>
                <a:lnTo>
                  <a:pt x="609" y="466"/>
                </a:lnTo>
                <a:lnTo>
                  <a:pt x="615" y="466"/>
                </a:lnTo>
                <a:lnTo>
                  <a:pt x="624" y="472"/>
                </a:lnTo>
                <a:lnTo>
                  <a:pt x="634" y="472"/>
                </a:lnTo>
                <a:lnTo>
                  <a:pt x="639" y="466"/>
                </a:lnTo>
                <a:lnTo>
                  <a:pt x="648" y="472"/>
                </a:lnTo>
                <a:lnTo>
                  <a:pt x="658" y="447"/>
                </a:lnTo>
                <a:lnTo>
                  <a:pt x="664" y="492"/>
                </a:lnTo>
                <a:lnTo>
                  <a:pt x="674" y="545"/>
                </a:lnTo>
                <a:lnTo>
                  <a:pt x="683" y="323"/>
                </a:lnTo>
                <a:lnTo>
                  <a:pt x="693" y="362"/>
                </a:lnTo>
                <a:lnTo>
                  <a:pt x="699" y="1191"/>
                </a:lnTo>
                <a:lnTo>
                  <a:pt x="708" y="1587"/>
                </a:lnTo>
                <a:lnTo>
                  <a:pt x="718" y="725"/>
                </a:lnTo>
                <a:lnTo>
                  <a:pt x="723" y="0"/>
                </a:lnTo>
                <a:lnTo>
                  <a:pt x="733" y="208"/>
                </a:lnTo>
                <a:lnTo>
                  <a:pt x="742" y="437"/>
                </a:lnTo>
                <a:lnTo>
                  <a:pt x="748" y="357"/>
                </a:lnTo>
                <a:lnTo>
                  <a:pt x="758" y="337"/>
                </a:lnTo>
                <a:lnTo>
                  <a:pt x="767" y="367"/>
                </a:lnTo>
                <a:lnTo>
                  <a:pt x="777" y="362"/>
                </a:lnTo>
                <a:lnTo>
                  <a:pt x="783" y="362"/>
                </a:lnTo>
                <a:lnTo>
                  <a:pt x="793" y="357"/>
                </a:lnTo>
                <a:lnTo>
                  <a:pt x="802" y="353"/>
                </a:lnTo>
                <a:lnTo>
                  <a:pt x="807" y="357"/>
                </a:lnTo>
                <a:lnTo>
                  <a:pt x="818" y="362"/>
                </a:lnTo>
                <a:lnTo>
                  <a:pt x="828" y="367"/>
                </a:lnTo>
                <a:lnTo>
                  <a:pt x="832" y="372"/>
                </a:lnTo>
                <a:lnTo>
                  <a:pt x="842" y="372"/>
                </a:lnTo>
                <a:lnTo>
                  <a:pt x="851" y="382"/>
                </a:lnTo>
                <a:lnTo>
                  <a:pt x="857" y="387"/>
                </a:lnTo>
                <a:lnTo>
                  <a:pt x="867" y="397"/>
                </a:lnTo>
                <a:lnTo>
                  <a:pt x="877" y="402"/>
                </a:lnTo>
                <a:lnTo>
                  <a:pt x="886" y="412"/>
                </a:lnTo>
                <a:lnTo>
                  <a:pt x="892" y="417"/>
                </a:lnTo>
                <a:lnTo>
                  <a:pt x="902" y="427"/>
                </a:lnTo>
                <a:lnTo>
                  <a:pt x="912" y="431"/>
                </a:lnTo>
                <a:lnTo>
                  <a:pt x="916" y="441"/>
                </a:lnTo>
                <a:lnTo>
                  <a:pt x="926" y="447"/>
                </a:lnTo>
                <a:lnTo>
                  <a:pt x="936" y="457"/>
                </a:lnTo>
                <a:lnTo>
                  <a:pt x="941" y="461"/>
                </a:lnTo>
                <a:lnTo>
                  <a:pt x="951" y="472"/>
                </a:lnTo>
                <a:lnTo>
                  <a:pt x="961" y="472"/>
                </a:lnTo>
                <a:lnTo>
                  <a:pt x="971" y="472"/>
                </a:lnTo>
                <a:lnTo>
                  <a:pt x="976" y="472"/>
                </a:lnTo>
                <a:lnTo>
                  <a:pt x="986" y="472"/>
                </a:lnTo>
                <a:lnTo>
                  <a:pt x="996" y="482"/>
                </a:lnTo>
                <a:lnTo>
                  <a:pt x="1000" y="486"/>
                </a:lnTo>
                <a:lnTo>
                  <a:pt x="1011" y="486"/>
                </a:lnTo>
                <a:lnTo>
                  <a:pt x="1021" y="506"/>
                </a:lnTo>
                <a:lnTo>
                  <a:pt x="1025" y="482"/>
                </a:lnTo>
                <a:lnTo>
                  <a:pt x="1035" y="501"/>
                </a:lnTo>
                <a:lnTo>
                  <a:pt x="1045" y="615"/>
                </a:lnTo>
                <a:lnTo>
                  <a:pt x="1055" y="461"/>
                </a:lnTo>
                <a:lnTo>
                  <a:pt x="1060" y="278"/>
                </a:lnTo>
                <a:lnTo>
                  <a:pt x="1070" y="799"/>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4422600" y="2585880"/>
            <a:ext cx="1627200" cy="1882800"/>
          </a:xfrm>
          <a:custGeom>
            <a:avLst/>
            <a:gdLst/>
            <a:ahLst/>
            <a:rect l="l" t="t" r="r" b="b"/>
            <a:pathLst>
              <a:path w="1025" h="1186">
                <a:moveTo>
                  <a:pt x="0" y="695"/>
                </a:moveTo>
                <a:lnTo>
                  <a:pt x="10" y="1186"/>
                </a:lnTo>
                <a:lnTo>
                  <a:pt x="15" y="650"/>
                </a:lnTo>
                <a:lnTo>
                  <a:pt x="25" y="0"/>
                </a:lnTo>
                <a:lnTo>
                  <a:pt x="35" y="125"/>
                </a:lnTo>
                <a:lnTo>
                  <a:pt x="39" y="357"/>
                </a:lnTo>
                <a:lnTo>
                  <a:pt x="49" y="318"/>
                </a:lnTo>
                <a:lnTo>
                  <a:pt x="59" y="308"/>
                </a:lnTo>
                <a:lnTo>
                  <a:pt x="64" y="343"/>
                </a:lnTo>
                <a:lnTo>
                  <a:pt x="74" y="343"/>
                </a:lnTo>
                <a:lnTo>
                  <a:pt x="84" y="357"/>
                </a:lnTo>
                <a:lnTo>
                  <a:pt x="94" y="357"/>
                </a:lnTo>
                <a:lnTo>
                  <a:pt x="99" y="353"/>
                </a:lnTo>
                <a:lnTo>
                  <a:pt x="109" y="362"/>
                </a:lnTo>
                <a:lnTo>
                  <a:pt x="119" y="362"/>
                </a:lnTo>
                <a:lnTo>
                  <a:pt x="123" y="362"/>
                </a:lnTo>
                <a:lnTo>
                  <a:pt x="133" y="362"/>
                </a:lnTo>
                <a:lnTo>
                  <a:pt x="144" y="362"/>
                </a:lnTo>
                <a:lnTo>
                  <a:pt x="148" y="362"/>
                </a:lnTo>
                <a:lnTo>
                  <a:pt x="158" y="362"/>
                </a:lnTo>
                <a:lnTo>
                  <a:pt x="168" y="362"/>
                </a:lnTo>
                <a:lnTo>
                  <a:pt x="178" y="362"/>
                </a:lnTo>
                <a:lnTo>
                  <a:pt x="183" y="362"/>
                </a:lnTo>
                <a:lnTo>
                  <a:pt x="193" y="362"/>
                </a:lnTo>
                <a:lnTo>
                  <a:pt x="203" y="362"/>
                </a:lnTo>
                <a:lnTo>
                  <a:pt x="209" y="362"/>
                </a:lnTo>
                <a:lnTo>
                  <a:pt x="218" y="368"/>
                </a:lnTo>
                <a:lnTo>
                  <a:pt x="228" y="362"/>
                </a:lnTo>
                <a:lnTo>
                  <a:pt x="232" y="362"/>
                </a:lnTo>
                <a:lnTo>
                  <a:pt x="242" y="362"/>
                </a:lnTo>
                <a:lnTo>
                  <a:pt x="252" y="362"/>
                </a:lnTo>
                <a:lnTo>
                  <a:pt x="262" y="368"/>
                </a:lnTo>
                <a:lnTo>
                  <a:pt x="267" y="362"/>
                </a:lnTo>
                <a:lnTo>
                  <a:pt x="277" y="362"/>
                </a:lnTo>
                <a:lnTo>
                  <a:pt x="287" y="368"/>
                </a:lnTo>
                <a:lnTo>
                  <a:pt x="292" y="368"/>
                </a:lnTo>
                <a:lnTo>
                  <a:pt x="302" y="368"/>
                </a:lnTo>
                <a:lnTo>
                  <a:pt x="312" y="368"/>
                </a:lnTo>
                <a:lnTo>
                  <a:pt x="317" y="368"/>
                </a:lnTo>
                <a:lnTo>
                  <a:pt x="326" y="368"/>
                </a:lnTo>
                <a:lnTo>
                  <a:pt x="337" y="368"/>
                </a:lnTo>
                <a:lnTo>
                  <a:pt x="342" y="368"/>
                </a:lnTo>
                <a:lnTo>
                  <a:pt x="351" y="368"/>
                </a:lnTo>
                <a:lnTo>
                  <a:pt x="361" y="368"/>
                </a:lnTo>
                <a:lnTo>
                  <a:pt x="371" y="368"/>
                </a:lnTo>
                <a:lnTo>
                  <a:pt x="377" y="368"/>
                </a:lnTo>
                <a:lnTo>
                  <a:pt x="386" y="368"/>
                </a:lnTo>
                <a:lnTo>
                  <a:pt x="396" y="368"/>
                </a:lnTo>
                <a:lnTo>
                  <a:pt x="401" y="368"/>
                </a:lnTo>
                <a:lnTo>
                  <a:pt x="412" y="368"/>
                </a:lnTo>
                <a:lnTo>
                  <a:pt x="421" y="368"/>
                </a:lnTo>
                <a:lnTo>
                  <a:pt x="426" y="362"/>
                </a:lnTo>
                <a:lnTo>
                  <a:pt x="436" y="368"/>
                </a:lnTo>
                <a:lnTo>
                  <a:pt x="445" y="368"/>
                </a:lnTo>
                <a:lnTo>
                  <a:pt x="455" y="362"/>
                </a:lnTo>
                <a:lnTo>
                  <a:pt x="461" y="362"/>
                </a:lnTo>
                <a:lnTo>
                  <a:pt x="471" y="368"/>
                </a:lnTo>
                <a:lnTo>
                  <a:pt x="480" y="372"/>
                </a:lnTo>
                <a:lnTo>
                  <a:pt x="486" y="362"/>
                </a:lnTo>
                <a:lnTo>
                  <a:pt x="496" y="362"/>
                </a:lnTo>
                <a:lnTo>
                  <a:pt x="505" y="362"/>
                </a:lnTo>
                <a:lnTo>
                  <a:pt x="510" y="368"/>
                </a:lnTo>
                <a:lnTo>
                  <a:pt x="520" y="362"/>
                </a:lnTo>
                <a:lnTo>
                  <a:pt x="530" y="362"/>
                </a:lnTo>
                <a:lnTo>
                  <a:pt x="540" y="368"/>
                </a:lnTo>
                <a:lnTo>
                  <a:pt x="545" y="362"/>
                </a:lnTo>
                <a:lnTo>
                  <a:pt x="555" y="368"/>
                </a:lnTo>
                <a:lnTo>
                  <a:pt x="564" y="368"/>
                </a:lnTo>
                <a:lnTo>
                  <a:pt x="570" y="368"/>
                </a:lnTo>
                <a:lnTo>
                  <a:pt x="580" y="368"/>
                </a:lnTo>
                <a:lnTo>
                  <a:pt x="590" y="368"/>
                </a:lnTo>
                <a:lnTo>
                  <a:pt x="594" y="368"/>
                </a:lnTo>
                <a:lnTo>
                  <a:pt x="605" y="368"/>
                </a:lnTo>
                <a:lnTo>
                  <a:pt x="615" y="362"/>
                </a:lnTo>
                <a:lnTo>
                  <a:pt x="619" y="368"/>
                </a:lnTo>
                <a:lnTo>
                  <a:pt x="629" y="362"/>
                </a:lnTo>
                <a:lnTo>
                  <a:pt x="639" y="368"/>
                </a:lnTo>
                <a:lnTo>
                  <a:pt x="648" y="368"/>
                </a:lnTo>
                <a:lnTo>
                  <a:pt x="654" y="362"/>
                </a:lnTo>
                <a:lnTo>
                  <a:pt x="664" y="368"/>
                </a:lnTo>
                <a:lnTo>
                  <a:pt x="674" y="368"/>
                </a:lnTo>
                <a:lnTo>
                  <a:pt x="679" y="362"/>
                </a:lnTo>
                <a:lnTo>
                  <a:pt x="689" y="368"/>
                </a:lnTo>
                <a:lnTo>
                  <a:pt x="699" y="362"/>
                </a:lnTo>
                <a:lnTo>
                  <a:pt x="703" y="362"/>
                </a:lnTo>
                <a:lnTo>
                  <a:pt x="713" y="368"/>
                </a:lnTo>
                <a:lnTo>
                  <a:pt x="723" y="362"/>
                </a:lnTo>
                <a:lnTo>
                  <a:pt x="734" y="368"/>
                </a:lnTo>
                <a:lnTo>
                  <a:pt x="738" y="368"/>
                </a:lnTo>
                <a:lnTo>
                  <a:pt x="748" y="362"/>
                </a:lnTo>
                <a:lnTo>
                  <a:pt x="758" y="368"/>
                </a:lnTo>
                <a:lnTo>
                  <a:pt x="763" y="362"/>
                </a:lnTo>
                <a:lnTo>
                  <a:pt x="773" y="368"/>
                </a:lnTo>
                <a:lnTo>
                  <a:pt x="783" y="368"/>
                </a:lnTo>
                <a:lnTo>
                  <a:pt x="787" y="362"/>
                </a:lnTo>
                <a:lnTo>
                  <a:pt x="797" y="368"/>
                </a:lnTo>
                <a:lnTo>
                  <a:pt x="808" y="362"/>
                </a:lnTo>
                <a:lnTo>
                  <a:pt x="818" y="368"/>
                </a:lnTo>
                <a:lnTo>
                  <a:pt x="822" y="368"/>
                </a:lnTo>
                <a:lnTo>
                  <a:pt x="832" y="362"/>
                </a:lnTo>
                <a:lnTo>
                  <a:pt x="842" y="368"/>
                </a:lnTo>
                <a:lnTo>
                  <a:pt x="847" y="362"/>
                </a:lnTo>
                <a:lnTo>
                  <a:pt x="857" y="368"/>
                </a:lnTo>
                <a:lnTo>
                  <a:pt x="867" y="368"/>
                </a:lnTo>
                <a:lnTo>
                  <a:pt x="872" y="362"/>
                </a:lnTo>
                <a:lnTo>
                  <a:pt x="882" y="368"/>
                </a:lnTo>
                <a:lnTo>
                  <a:pt x="892" y="368"/>
                </a:lnTo>
                <a:lnTo>
                  <a:pt x="896" y="362"/>
                </a:lnTo>
                <a:lnTo>
                  <a:pt x="906" y="368"/>
                </a:lnTo>
                <a:lnTo>
                  <a:pt x="916" y="368"/>
                </a:lnTo>
                <a:lnTo>
                  <a:pt x="926" y="362"/>
                </a:lnTo>
                <a:lnTo>
                  <a:pt x="931" y="362"/>
                </a:lnTo>
                <a:lnTo>
                  <a:pt x="941" y="368"/>
                </a:lnTo>
                <a:lnTo>
                  <a:pt x="951" y="368"/>
                </a:lnTo>
                <a:lnTo>
                  <a:pt x="956" y="362"/>
                </a:lnTo>
                <a:lnTo>
                  <a:pt x="966" y="362"/>
                </a:lnTo>
                <a:lnTo>
                  <a:pt x="976" y="368"/>
                </a:lnTo>
                <a:lnTo>
                  <a:pt x="980" y="362"/>
                </a:lnTo>
                <a:lnTo>
                  <a:pt x="990" y="368"/>
                </a:lnTo>
                <a:lnTo>
                  <a:pt x="1001" y="368"/>
                </a:lnTo>
                <a:lnTo>
                  <a:pt x="1011" y="362"/>
                </a:lnTo>
                <a:lnTo>
                  <a:pt x="1015" y="368"/>
                </a:lnTo>
                <a:lnTo>
                  <a:pt x="1025" y="362"/>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4055040" y="5335560"/>
            <a:ext cx="34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a:t>
            </a:r>
            <a:endParaRPr b="0" lang="en-US" sz="1100" spc="-1" strike="noStrike">
              <a:solidFill>
                <a:srgbClr val="000000"/>
              </a:solidFill>
              <a:latin typeface="Times New Roman"/>
            </a:endParaRPr>
          </a:p>
        </p:txBody>
      </p:sp>
      <p:sp>
        <p:nvSpPr>
          <p:cNvPr id="3466" name=""/>
          <p:cNvSpPr/>
          <p:nvPr/>
        </p:nvSpPr>
        <p:spPr>
          <a:xfrm>
            <a:off x="4395600" y="53197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467" name=""/>
          <p:cNvSpPr/>
          <p:nvPr/>
        </p:nvSpPr>
        <p:spPr>
          <a:xfrm>
            <a:off x="4473360" y="5335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a:t>
            </a:r>
            <a:endParaRPr b="0" lang="en-US" sz="1100" spc="-1" strike="noStrike">
              <a:solidFill>
                <a:srgbClr val="000000"/>
              </a:solidFill>
              <a:latin typeface="Times New Roman"/>
            </a:endParaRPr>
          </a:p>
        </p:txBody>
      </p:sp>
      <p:sp>
        <p:nvSpPr>
          <p:cNvPr id="3468" name=""/>
          <p:cNvSpPr/>
          <p:nvPr/>
        </p:nvSpPr>
        <p:spPr>
          <a:xfrm rot="16200000">
            <a:off x="2045520" y="34160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litud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9" name=""/>
          <p:cNvSpPr/>
          <p:nvPr/>
        </p:nvSpPr>
        <p:spPr>
          <a:xfrm>
            <a:off x="3184560" y="289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SDH</a:t>
            </a:r>
            <a:endParaRPr b="0" lang="en-US" sz="2400" spc="-1" strike="noStrike">
              <a:solidFill>
                <a:srgbClr val="000000"/>
              </a:solidFill>
              <a:latin typeface="Times New Roman"/>
            </a:endParaRPr>
          </a:p>
        </p:txBody>
      </p:sp>
      <p:sp>
        <p:nvSpPr>
          <p:cNvPr id="347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675360" y="1143000"/>
            <a:ext cx="77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3: pulse-echo P-wave scattering of a cylindrical void</a:t>
            </a:r>
            <a:endParaRPr b="0" lang="en-US" sz="2400" spc="-1" strike="noStrike">
              <a:solidFill>
                <a:srgbClr val="000000"/>
              </a:solidFill>
              <a:latin typeface="Times New Roman"/>
            </a:endParaRPr>
          </a:p>
        </p:txBody>
      </p:sp>
      <p:sp>
        <p:nvSpPr>
          <p:cNvPr id="34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73" name=""/>
          <p:cNvGraphicFramePr/>
          <p:nvPr/>
        </p:nvGraphicFramePr>
        <p:xfrm>
          <a:off x="2057400" y="1905120"/>
          <a:ext cx="3657600" cy="728640"/>
        </p:xfrm>
        <a:graphic>
          <a:graphicData uri="http://schemas.openxmlformats.org/presentationml/2006/ole">
            <p:oleObj r:id="rId1" spid="">
              <p:embed/>
              <p:pic>
                <p:nvPicPr>
                  <p:cNvPr id="3474" name="" descr=""/>
                  <p:cNvPicPr/>
                  <p:nvPr/>
                </p:nvPicPr>
                <p:blipFill>
                  <a:blip r:embed="rId2"/>
                  <a:stretch/>
                </p:blipFill>
                <p:spPr>
                  <a:xfrm>
                    <a:off x="2057400" y="1905120"/>
                    <a:ext cx="3657600" cy="728640"/>
                  </a:xfrm>
                  <a:prstGeom prst="rect">
                    <a:avLst/>
                  </a:prstGeom>
                  <a:ln w="0">
                    <a:noFill/>
                  </a:ln>
                </p:spPr>
              </p:pic>
            </p:oleObj>
          </a:graphicData>
        </a:graphic>
      </p:graphicFrame>
      <p:sp>
        <p:nvSpPr>
          <p:cNvPr id="347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76" name=""/>
          <p:cNvGraphicFramePr/>
          <p:nvPr/>
        </p:nvGraphicFramePr>
        <p:xfrm>
          <a:off x="2362320" y="2895480"/>
          <a:ext cx="2133360" cy="758880"/>
        </p:xfrm>
        <a:graphic>
          <a:graphicData uri="http://schemas.openxmlformats.org/presentationml/2006/ole">
            <p:oleObj r:id="rId3" spid="">
              <p:embed/>
              <p:pic>
                <p:nvPicPr>
                  <p:cNvPr id="3477" name="" descr=""/>
                  <p:cNvPicPr/>
                  <p:nvPr/>
                </p:nvPicPr>
                <p:blipFill>
                  <a:blip r:embed="rId4"/>
                  <a:stretch/>
                </p:blipFill>
                <p:spPr>
                  <a:xfrm>
                    <a:off x="2362320" y="2895480"/>
                    <a:ext cx="2133360" cy="758880"/>
                  </a:xfrm>
                  <a:prstGeom prst="rect">
                    <a:avLst/>
                  </a:prstGeom>
                  <a:ln w="0">
                    <a:noFill/>
                  </a:ln>
                </p:spPr>
              </p:pic>
            </p:oleObj>
          </a:graphicData>
        </a:graphic>
      </p:graphicFrame>
      <p:sp>
        <p:nvSpPr>
          <p:cNvPr id="3478" name=""/>
          <p:cNvSpPr/>
          <p:nvPr/>
        </p:nvSpPr>
        <p:spPr>
          <a:xfrm>
            <a:off x="-30492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79" name=""/>
          <p:cNvGraphicFramePr/>
          <p:nvPr/>
        </p:nvGraphicFramePr>
        <p:xfrm>
          <a:off x="1219320" y="3962520"/>
          <a:ext cx="4952880" cy="877680"/>
        </p:xfrm>
        <a:graphic>
          <a:graphicData uri="http://schemas.openxmlformats.org/presentationml/2006/ole">
            <p:oleObj r:id="rId5" spid="">
              <p:embed/>
              <p:pic>
                <p:nvPicPr>
                  <p:cNvPr id="3480" name="" descr=""/>
                  <p:cNvPicPr/>
                  <p:nvPr/>
                </p:nvPicPr>
                <p:blipFill>
                  <a:blip r:embed="rId6"/>
                  <a:stretch/>
                </p:blipFill>
                <p:spPr>
                  <a:xfrm>
                    <a:off x="1219320" y="3962520"/>
                    <a:ext cx="4952880" cy="877680"/>
                  </a:xfrm>
                  <a:prstGeom prst="rect">
                    <a:avLst/>
                  </a:prstGeom>
                  <a:ln w="0">
                    <a:noFill/>
                  </a:ln>
                </p:spPr>
              </p:pic>
            </p:oleObj>
          </a:graphicData>
        </a:graphic>
      </p:graphicFrame>
      <p:sp>
        <p:nvSpPr>
          <p:cNvPr id="3481"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82" name=""/>
          <p:cNvGraphicFramePr/>
          <p:nvPr/>
        </p:nvGraphicFramePr>
        <p:xfrm>
          <a:off x="914400" y="5334120"/>
          <a:ext cx="5867280" cy="1350720"/>
        </p:xfrm>
        <a:graphic>
          <a:graphicData uri="http://schemas.openxmlformats.org/presentationml/2006/ole">
            <p:oleObj r:id="rId7" spid="">
              <p:embed/>
              <p:pic>
                <p:nvPicPr>
                  <p:cNvPr id="3483" name="" descr=""/>
                  <p:cNvPicPr/>
                  <p:nvPr/>
                </p:nvPicPr>
                <p:blipFill>
                  <a:blip r:embed="rId8"/>
                  <a:stretch/>
                </p:blipFill>
                <p:spPr>
                  <a:xfrm>
                    <a:off x="914400" y="5334120"/>
                    <a:ext cx="5867280" cy="1350720"/>
                  </a:xfrm>
                  <a:prstGeom prst="rect">
                    <a:avLst/>
                  </a:prstGeom>
                  <a:ln w="0">
                    <a:noFill/>
                  </a:ln>
                </p:spPr>
              </p:pic>
            </p:oleObj>
          </a:graphicData>
        </a:graphic>
      </p:graphicFrame>
      <p:sp>
        <p:nvSpPr>
          <p:cNvPr id="3484" name=""/>
          <p:cNvSpPr/>
          <p:nvPr/>
        </p:nvSpPr>
        <p:spPr>
          <a:xfrm>
            <a:off x="0" y="31766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3485" name=""/>
          <p:cNvGraphicFramePr/>
          <p:nvPr/>
        </p:nvGraphicFramePr>
        <p:xfrm>
          <a:off x="6172200" y="1828800"/>
          <a:ext cx="2743200" cy="806400"/>
        </p:xfrm>
        <a:graphic>
          <a:graphicData uri="http://schemas.openxmlformats.org/presentationml/2006/ole">
            <p:oleObj r:id="rId9" spid="">
              <p:embed/>
              <p:pic>
                <p:nvPicPr>
                  <p:cNvPr id="3486" name="" descr=""/>
                  <p:cNvPicPr/>
                  <p:nvPr/>
                </p:nvPicPr>
                <p:blipFill>
                  <a:blip r:embed="rId10"/>
                  <a:stretch/>
                </p:blipFill>
                <p:spPr>
                  <a:xfrm>
                    <a:off x="6172200" y="1828800"/>
                    <a:ext cx="274320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7" name=""/>
          <p:cNvSpPr/>
          <p:nvPr/>
        </p:nvSpPr>
        <p:spPr>
          <a:xfrm>
            <a:off x="3184920" y="2890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SDH</a:t>
            </a:r>
            <a:endParaRPr b="0" lang="en-US" sz="2400" spc="-1" strike="noStrike">
              <a:solidFill>
                <a:srgbClr val="000000"/>
              </a:solidFill>
              <a:latin typeface="Times New Roman"/>
            </a:endParaRPr>
          </a:p>
        </p:txBody>
      </p:sp>
      <p:sp>
        <p:nvSpPr>
          <p:cNvPr id="348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1050840" y="95724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e scattering amplitude for the pulse-echo P-wave case was:</a:t>
            </a:r>
            <a:endParaRPr b="0" lang="en-US" sz="2400" spc="-1" strike="noStrike">
              <a:solidFill>
                <a:srgbClr val="000000"/>
              </a:solidFill>
              <a:latin typeface="Times New Roman"/>
            </a:endParaRPr>
          </a:p>
        </p:txBody>
      </p:sp>
      <p:sp>
        <p:nvSpPr>
          <p:cNvPr id="3490" name=""/>
          <p:cNvSpPr/>
          <p:nvPr/>
        </p:nvSpPr>
        <p:spPr>
          <a:xfrm>
            <a:off x="2403360" y="2060640"/>
            <a:ext cx="40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1" name=""/>
          <p:cNvSpPr/>
          <p:nvPr/>
        </p:nvSpPr>
        <p:spPr>
          <a:xfrm>
            <a:off x="2403360" y="5102280"/>
            <a:ext cx="40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2" name=""/>
          <p:cNvSpPr/>
          <p:nvPr/>
        </p:nvSpPr>
        <p:spPr>
          <a:xfrm flipV="1">
            <a:off x="6442200" y="2060280"/>
            <a:ext cx="1440" cy="304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flipV="1">
            <a:off x="2403360" y="2060280"/>
            <a:ext cx="1800" cy="304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2403360" y="5102280"/>
            <a:ext cx="40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5" name=""/>
          <p:cNvSpPr/>
          <p:nvPr/>
        </p:nvSpPr>
        <p:spPr>
          <a:xfrm flipV="1">
            <a:off x="2403360" y="2060280"/>
            <a:ext cx="1800" cy="304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flipV="1">
            <a:off x="2403360" y="50562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97" name=""/>
          <p:cNvSpPr/>
          <p:nvPr/>
        </p:nvSpPr>
        <p:spPr>
          <a:xfrm>
            <a:off x="2403360" y="20606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8" name=""/>
          <p:cNvSpPr/>
          <p:nvPr/>
        </p:nvSpPr>
        <p:spPr>
          <a:xfrm>
            <a:off x="236628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499" name=""/>
          <p:cNvSpPr/>
          <p:nvPr/>
        </p:nvSpPr>
        <p:spPr>
          <a:xfrm flipV="1">
            <a:off x="3203640" y="50562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0" name=""/>
          <p:cNvSpPr/>
          <p:nvPr/>
        </p:nvSpPr>
        <p:spPr>
          <a:xfrm>
            <a:off x="3203640" y="20606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1" name=""/>
          <p:cNvSpPr/>
          <p:nvPr/>
        </p:nvSpPr>
        <p:spPr>
          <a:xfrm>
            <a:off x="316620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502" name=""/>
          <p:cNvSpPr/>
          <p:nvPr/>
        </p:nvSpPr>
        <p:spPr>
          <a:xfrm flipV="1">
            <a:off x="4013280" y="50562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3" name=""/>
          <p:cNvSpPr/>
          <p:nvPr/>
        </p:nvSpPr>
        <p:spPr>
          <a:xfrm>
            <a:off x="4013280" y="20606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4" name=""/>
          <p:cNvSpPr/>
          <p:nvPr/>
        </p:nvSpPr>
        <p:spPr>
          <a:xfrm>
            <a:off x="397584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505" name=""/>
          <p:cNvSpPr/>
          <p:nvPr/>
        </p:nvSpPr>
        <p:spPr>
          <a:xfrm flipV="1">
            <a:off x="4822920" y="50562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6" name=""/>
          <p:cNvSpPr/>
          <p:nvPr/>
        </p:nvSpPr>
        <p:spPr>
          <a:xfrm>
            <a:off x="4822920" y="20606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7" name=""/>
          <p:cNvSpPr/>
          <p:nvPr/>
        </p:nvSpPr>
        <p:spPr>
          <a:xfrm>
            <a:off x="478404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508" name=""/>
          <p:cNvSpPr/>
          <p:nvPr/>
        </p:nvSpPr>
        <p:spPr>
          <a:xfrm flipV="1">
            <a:off x="5632560" y="50562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9" name=""/>
          <p:cNvSpPr/>
          <p:nvPr/>
        </p:nvSpPr>
        <p:spPr>
          <a:xfrm>
            <a:off x="5632560" y="20606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0" name=""/>
          <p:cNvSpPr/>
          <p:nvPr/>
        </p:nvSpPr>
        <p:spPr>
          <a:xfrm>
            <a:off x="559368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3511" name=""/>
          <p:cNvSpPr/>
          <p:nvPr/>
        </p:nvSpPr>
        <p:spPr>
          <a:xfrm flipV="1">
            <a:off x="6442200" y="50562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2" name=""/>
          <p:cNvSpPr/>
          <p:nvPr/>
        </p:nvSpPr>
        <p:spPr>
          <a:xfrm>
            <a:off x="6442200" y="20606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3" name=""/>
          <p:cNvSpPr/>
          <p:nvPr/>
        </p:nvSpPr>
        <p:spPr>
          <a:xfrm>
            <a:off x="6365880" y="51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14" name=""/>
          <p:cNvSpPr/>
          <p:nvPr/>
        </p:nvSpPr>
        <p:spPr>
          <a:xfrm>
            <a:off x="2403360" y="51022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5" name=""/>
          <p:cNvSpPr/>
          <p:nvPr/>
        </p:nvSpPr>
        <p:spPr>
          <a:xfrm flipH="1">
            <a:off x="6393960" y="51022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6" name=""/>
          <p:cNvSpPr/>
          <p:nvPr/>
        </p:nvSpPr>
        <p:spPr>
          <a:xfrm>
            <a:off x="2207520" y="5022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517" name=""/>
          <p:cNvSpPr/>
          <p:nvPr/>
        </p:nvSpPr>
        <p:spPr>
          <a:xfrm>
            <a:off x="2403360" y="47642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8" name=""/>
          <p:cNvSpPr/>
          <p:nvPr/>
        </p:nvSpPr>
        <p:spPr>
          <a:xfrm flipH="1">
            <a:off x="6393960" y="476424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9" name=""/>
          <p:cNvSpPr/>
          <p:nvPr/>
        </p:nvSpPr>
        <p:spPr>
          <a:xfrm>
            <a:off x="2094120" y="4684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3520" name=""/>
          <p:cNvSpPr/>
          <p:nvPr/>
        </p:nvSpPr>
        <p:spPr>
          <a:xfrm>
            <a:off x="2403360" y="442584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flipH="1">
            <a:off x="6393960" y="442584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2" name=""/>
          <p:cNvSpPr/>
          <p:nvPr/>
        </p:nvSpPr>
        <p:spPr>
          <a:xfrm>
            <a:off x="2094120" y="43466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3523" name=""/>
          <p:cNvSpPr/>
          <p:nvPr/>
        </p:nvSpPr>
        <p:spPr>
          <a:xfrm>
            <a:off x="2403360" y="40878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flipH="1">
            <a:off x="6393960" y="40878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5" name=""/>
          <p:cNvSpPr/>
          <p:nvPr/>
        </p:nvSpPr>
        <p:spPr>
          <a:xfrm>
            <a:off x="2094120" y="4010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3526" name=""/>
          <p:cNvSpPr/>
          <p:nvPr/>
        </p:nvSpPr>
        <p:spPr>
          <a:xfrm>
            <a:off x="2403360" y="37497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7" name=""/>
          <p:cNvSpPr/>
          <p:nvPr/>
        </p:nvSpPr>
        <p:spPr>
          <a:xfrm flipH="1">
            <a:off x="6393960" y="37497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094120" y="3672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3529" name=""/>
          <p:cNvSpPr/>
          <p:nvPr/>
        </p:nvSpPr>
        <p:spPr>
          <a:xfrm>
            <a:off x="2403360" y="341136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0" name=""/>
          <p:cNvSpPr/>
          <p:nvPr/>
        </p:nvSpPr>
        <p:spPr>
          <a:xfrm flipH="1">
            <a:off x="6393960" y="341136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1" name=""/>
          <p:cNvSpPr/>
          <p:nvPr/>
        </p:nvSpPr>
        <p:spPr>
          <a:xfrm>
            <a:off x="2094120" y="333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532" name=""/>
          <p:cNvSpPr/>
          <p:nvPr/>
        </p:nvSpPr>
        <p:spPr>
          <a:xfrm>
            <a:off x="2403360" y="306540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3" name=""/>
          <p:cNvSpPr/>
          <p:nvPr/>
        </p:nvSpPr>
        <p:spPr>
          <a:xfrm flipH="1">
            <a:off x="6393960" y="30654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4" name=""/>
          <p:cNvSpPr/>
          <p:nvPr/>
        </p:nvSpPr>
        <p:spPr>
          <a:xfrm>
            <a:off x="2094120" y="29876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3535" name=""/>
          <p:cNvSpPr/>
          <p:nvPr/>
        </p:nvSpPr>
        <p:spPr>
          <a:xfrm>
            <a:off x="2403360" y="273672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6" name=""/>
          <p:cNvSpPr/>
          <p:nvPr/>
        </p:nvSpPr>
        <p:spPr>
          <a:xfrm flipH="1">
            <a:off x="6393960" y="273672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7" name=""/>
          <p:cNvSpPr/>
          <p:nvPr/>
        </p:nvSpPr>
        <p:spPr>
          <a:xfrm>
            <a:off x="2094120" y="26575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3538" name=""/>
          <p:cNvSpPr/>
          <p:nvPr/>
        </p:nvSpPr>
        <p:spPr>
          <a:xfrm>
            <a:off x="2403360" y="239868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9" name=""/>
          <p:cNvSpPr/>
          <p:nvPr/>
        </p:nvSpPr>
        <p:spPr>
          <a:xfrm flipH="1">
            <a:off x="6393960" y="23986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0" name=""/>
          <p:cNvSpPr/>
          <p:nvPr/>
        </p:nvSpPr>
        <p:spPr>
          <a:xfrm>
            <a:off x="2094120" y="2319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3541" name=""/>
          <p:cNvSpPr/>
          <p:nvPr/>
        </p:nvSpPr>
        <p:spPr>
          <a:xfrm>
            <a:off x="2403360" y="20606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2" name=""/>
          <p:cNvSpPr/>
          <p:nvPr/>
        </p:nvSpPr>
        <p:spPr>
          <a:xfrm flipH="1">
            <a:off x="6393960" y="206064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3" name=""/>
          <p:cNvSpPr/>
          <p:nvPr/>
        </p:nvSpPr>
        <p:spPr>
          <a:xfrm>
            <a:off x="2094120" y="1981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3544" name=""/>
          <p:cNvSpPr/>
          <p:nvPr/>
        </p:nvSpPr>
        <p:spPr>
          <a:xfrm>
            <a:off x="2403360" y="3375000"/>
            <a:ext cx="1060560" cy="1717560"/>
          </a:xfrm>
          <a:custGeom>
            <a:avLst/>
            <a:gdLst/>
            <a:ahLst/>
            <a:rect l="l" t="t" r="r" b="b"/>
            <a:pathLst>
              <a:path w="548" h="929">
                <a:moveTo>
                  <a:pt x="5" y="929"/>
                </a:moveTo>
                <a:lnTo>
                  <a:pt x="0" y="929"/>
                </a:lnTo>
                <a:lnTo>
                  <a:pt x="5" y="929"/>
                </a:lnTo>
                <a:lnTo>
                  <a:pt x="9" y="924"/>
                </a:lnTo>
                <a:lnTo>
                  <a:pt x="14" y="919"/>
                </a:lnTo>
                <a:lnTo>
                  <a:pt x="19" y="909"/>
                </a:lnTo>
                <a:lnTo>
                  <a:pt x="24" y="900"/>
                </a:lnTo>
                <a:lnTo>
                  <a:pt x="24" y="890"/>
                </a:lnTo>
                <a:lnTo>
                  <a:pt x="29" y="876"/>
                </a:lnTo>
                <a:lnTo>
                  <a:pt x="33" y="861"/>
                </a:lnTo>
                <a:lnTo>
                  <a:pt x="38" y="842"/>
                </a:lnTo>
                <a:lnTo>
                  <a:pt x="43" y="823"/>
                </a:lnTo>
                <a:lnTo>
                  <a:pt x="48" y="804"/>
                </a:lnTo>
                <a:lnTo>
                  <a:pt x="53" y="780"/>
                </a:lnTo>
                <a:lnTo>
                  <a:pt x="53" y="760"/>
                </a:lnTo>
                <a:lnTo>
                  <a:pt x="57" y="736"/>
                </a:lnTo>
                <a:lnTo>
                  <a:pt x="62" y="707"/>
                </a:lnTo>
                <a:lnTo>
                  <a:pt x="67" y="683"/>
                </a:lnTo>
                <a:lnTo>
                  <a:pt x="72" y="659"/>
                </a:lnTo>
                <a:lnTo>
                  <a:pt x="77" y="635"/>
                </a:lnTo>
                <a:lnTo>
                  <a:pt x="77" y="606"/>
                </a:lnTo>
                <a:lnTo>
                  <a:pt x="81" y="582"/>
                </a:lnTo>
                <a:lnTo>
                  <a:pt x="86" y="563"/>
                </a:lnTo>
                <a:lnTo>
                  <a:pt x="91" y="539"/>
                </a:lnTo>
                <a:lnTo>
                  <a:pt x="96" y="520"/>
                </a:lnTo>
                <a:lnTo>
                  <a:pt x="101" y="500"/>
                </a:lnTo>
                <a:lnTo>
                  <a:pt x="105" y="486"/>
                </a:lnTo>
                <a:lnTo>
                  <a:pt x="105" y="472"/>
                </a:lnTo>
                <a:lnTo>
                  <a:pt x="110" y="457"/>
                </a:lnTo>
                <a:lnTo>
                  <a:pt x="115" y="448"/>
                </a:lnTo>
                <a:lnTo>
                  <a:pt x="120" y="438"/>
                </a:lnTo>
                <a:lnTo>
                  <a:pt x="125" y="433"/>
                </a:lnTo>
                <a:lnTo>
                  <a:pt x="130" y="428"/>
                </a:lnTo>
                <a:lnTo>
                  <a:pt x="139" y="419"/>
                </a:lnTo>
                <a:lnTo>
                  <a:pt x="134" y="419"/>
                </a:lnTo>
                <a:lnTo>
                  <a:pt x="139" y="419"/>
                </a:lnTo>
                <a:lnTo>
                  <a:pt x="144" y="419"/>
                </a:lnTo>
                <a:lnTo>
                  <a:pt x="149" y="419"/>
                </a:lnTo>
                <a:lnTo>
                  <a:pt x="154" y="419"/>
                </a:lnTo>
                <a:lnTo>
                  <a:pt x="158" y="423"/>
                </a:lnTo>
                <a:lnTo>
                  <a:pt x="163" y="423"/>
                </a:lnTo>
                <a:lnTo>
                  <a:pt x="168" y="428"/>
                </a:lnTo>
                <a:lnTo>
                  <a:pt x="173" y="428"/>
                </a:lnTo>
                <a:lnTo>
                  <a:pt x="178" y="428"/>
                </a:lnTo>
                <a:lnTo>
                  <a:pt x="182" y="428"/>
                </a:lnTo>
                <a:lnTo>
                  <a:pt x="187" y="433"/>
                </a:lnTo>
                <a:lnTo>
                  <a:pt x="192" y="433"/>
                </a:lnTo>
                <a:lnTo>
                  <a:pt x="197" y="428"/>
                </a:lnTo>
                <a:lnTo>
                  <a:pt x="202" y="428"/>
                </a:lnTo>
                <a:lnTo>
                  <a:pt x="206" y="423"/>
                </a:lnTo>
                <a:lnTo>
                  <a:pt x="211" y="419"/>
                </a:lnTo>
                <a:lnTo>
                  <a:pt x="216" y="409"/>
                </a:lnTo>
                <a:lnTo>
                  <a:pt x="221" y="399"/>
                </a:lnTo>
                <a:lnTo>
                  <a:pt x="226" y="395"/>
                </a:lnTo>
                <a:lnTo>
                  <a:pt x="230" y="385"/>
                </a:lnTo>
                <a:lnTo>
                  <a:pt x="235" y="375"/>
                </a:lnTo>
                <a:lnTo>
                  <a:pt x="240" y="366"/>
                </a:lnTo>
                <a:lnTo>
                  <a:pt x="240" y="351"/>
                </a:lnTo>
                <a:lnTo>
                  <a:pt x="245" y="342"/>
                </a:lnTo>
                <a:lnTo>
                  <a:pt x="250" y="332"/>
                </a:lnTo>
                <a:lnTo>
                  <a:pt x="254" y="318"/>
                </a:lnTo>
                <a:lnTo>
                  <a:pt x="259" y="308"/>
                </a:lnTo>
                <a:lnTo>
                  <a:pt x="264" y="294"/>
                </a:lnTo>
                <a:lnTo>
                  <a:pt x="269" y="284"/>
                </a:lnTo>
                <a:lnTo>
                  <a:pt x="269" y="270"/>
                </a:lnTo>
                <a:lnTo>
                  <a:pt x="274" y="260"/>
                </a:lnTo>
                <a:lnTo>
                  <a:pt x="278" y="250"/>
                </a:lnTo>
                <a:lnTo>
                  <a:pt x="283" y="241"/>
                </a:lnTo>
                <a:lnTo>
                  <a:pt x="288" y="226"/>
                </a:lnTo>
                <a:lnTo>
                  <a:pt x="293" y="217"/>
                </a:lnTo>
                <a:lnTo>
                  <a:pt x="298" y="212"/>
                </a:lnTo>
                <a:lnTo>
                  <a:pt x="298" y="202"/>
                </a:lnTo>
                <a:lnTo>
                  <a:pt x="303" y="193"/>
                </a:lnTo>
                <a:lnTo>
                  <a:pt x="307" y="188"/>
                </a:lnTo>
                <a:lnTo>
                  <a:pt x="312" y="178"/>
                </a:lnTo>
                <a:lnTo>
                  <a:pt x="317" y="173"/>
                </a:lnTo>
                <a:lnTo>
                  <a:pt x="327" y="164"/>
                </a:lnTo>
                <a:lnTo>
                  <a:pt x="322" y="164"/>
                </a:lnTo>
                <a:lnTo>
                  <a:pt x="327" y="164"/>
                </a:lnTo>
                <a:lnTo>
                  <a:pt x="331" y="159"/>
                </a:lnTo>
                <a:lnTo>
                  <a:pt x="336" y="159"/>
                </a:lnTo>
                <a:lnTo>
                  <a:pt x="341" y="159"/>
                </a:lnTo>
                <a:lnTo>
                  <a:pt x="346" y="159"/>
                </a:lnTo>
                <a:lnTo>
                  <a:pt x="351" y="159"/>
                </a:lnTo>
                <a:lnTo>
                  <a:pt x="355" y="164"/>
                </a:lnTo>
                <a:lnTo>
                  <a:pt x="360" y="164"/>
                </a:lnTo>
                <a:lnTo>
                  <a:pt x="365" y="168"/>
                </a:lnTo>
                <a:lnTo>
                  <a:pt x="370" y="173"/>
                </a:lnTo>
                <a:lnTo>
                  <a:pt x="375" y="178"/>
                </a:lnTo>
                <a:lnTo>
                  <a:pt x="379" y="183"/>
                </a:lnTo>
                <a:lnTo>
                  <a:pt x="384" y="188"/>
                </a:lnTo>
                <a:lnTo>
                  <a:pt x="389" y="193"/>
                </a:lnTo>
                <a:lnTo>
                  <a:pt x="394" y="197"/>
                </a:lnTo>
                <a:lnTo>
                  <a:pt x="399" y="202"/>
                </a:lnTo>
                <a:lnTo>
                  <a:pt x="403" y="207"/>
                </a:lnTo>
                <a:lnTo>
                  <a:pt x="408" y="212"/>
                </a:lnTo>
                <a:lnTo>
                  <a:pt x="413" y="217"/>
                </a:lnTo>
                <a:lnTo>
                  <a:pt x="418" y="217"/>
                </a:lnTo>
                <a:lnTo>
                  <a:pt x="423" y="217"/>
                </a:lnTo>
                <a:lnTo>
                  <a:pt x="427" y="217"/>
                </a:lnTo>
                <a:lnTo>
                  <a:pt x="432" y="212"/>
                </a:lnTo>
                <a:lnTo>
                  <a:pt x="437" y="212"/>
                </a:lnTo>
                <a:lnTo>
                  <a:pt x="442" y="207"/>
                </a:lnTo>
                <a:lnTo>
                  <a:pt x="447" y="202"/>
                </a:lnTo>
                <a:lnTo>
                  <a:pt x="451" y="197"/>
                </a:lnTo>
                <a:lnTo>
                  <a:pt x="456" y="193"/>
                </a:lnTo>
                <a:lnTo>
                  <a:pt x="456" y="183"/>
                </a:lnTo>
                <a:lnTo>
                  <a:pt x="461" y="173"/>
                </a:lnTo>
                <a:lnTo>
                  <a:pt x="466" y="168"/>
                </a:lnTo>
                <a:lnTo>
                  <a:pt x="471" y="159"/>
                </a:lnTo>
                <a:lnTo>
                  <a:pt x="475" y="149"/>
                </a:lnTo>
                <a:lnTo>
                  <a:pt x="480" y="140"/>
                </a:lnTo>
                <a:lnTo>
                  <a:pt x="485" y="130"/>
                </a:lnTo>
                <a:lnTo>
                  <a:pt x="485" y="120"/>
                </a:lnTo>
                <a:lnTo>
                  <a:pt x="490" y="106"/>
                </a:lnTo>
                <a:lnTo>
                  <a:pt x="495" y="96"/>
                </a:lnTo>
                <a:lnTo>
                  <a:pt x="500" y="87"/>
                </a:lnTo>
                <a:lnTo>
                  <a:pt x="504" y="77"/>
                </a:lnTo>
                <a:lnTo>
                  <a:pt x="509" y="67"/>
                </a:lnTo>
                <a:lnTo>
                  <a:pt x="514" y="58"/>
                </a:lnTo>
                <a:lnTo>
                  <a:pt x="514" y="48"/>
                </a:lnTo>
                <a:lnTo>
                  <a:pt x="519" y="43"/>
                </a:lnTo>
                <a:lnTo>
                  <a:pt x="524" y="34"/>
                </a:lnTo>
                <a:lnTo>
                  <a:pt x="528" y="24"/>
                </a:lnTo>
                <a:lnTo>
                  <a:pt x="533" y="19"/>
                </a:lnTo>
                <a:lnTo>
                  <a:pt x="538" y="10"/>
                </a:lnTo>
                <a:lnTo>
                  <a:pt x="543" y="5"/>
                </a:lnTo>
                <a:lnTo>
                  <a:pt x="548"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3463920" y="2878200"/>
            <a:ext cx="1135080" cy="585720"/>
          </a:xfrm>
          <a:custGeom>
            <a:avLst/>
            <a:gdLst/>
            <a:ahLst/>
            <a:rect l="l" t="t" r="r" b="b"/>
            <a:pathLst>
              <a:path w="586" h="317">
                <a:moveTo>
                  <a:pt x="0" y="269"/>
                </a:moveTo>
                <a:lnTo>
                  <a:pt x="4" y="264"/>
                </a:lnTo>
                <a:lnTo>
                  <a:pt x="9" y="264"/>
                </a:lnTo>
                <a:lnTo>
                  <a:pt x="14" y="264"/>
                </a:lnTo>
                <a:lnTo>
                  <a:pt x="19" y="259"/>
                </a:lnTo>
                <a:lnTo>
                  <a:pt x="24" y="259"/>
                </a:lnTo>
                <a:lnTo>
                  <a:pt x="28" y="264"/>
                </a:lnTo>
                <a:lnTo>
                  <a:pt x="33" y="264"/>
                </a:lnTo>
                <a:lnTo>
                  <a:pt x="38" y="269"/>
                </a:lnTo>
                <a:lnTo>
                  <a:pt x="43" y="269"/>
                </a:lnTo>
                <a:lnTo>
                  <a:pt x="48" y="279"/>
                </a:lnTo>
                <a:lnTo>
                  <a:pt x="52" y="279"/>
                </a:lnTo>
                <a:lnTo>
                  <a:pt x="57" y="284"/>
                </a:lnTo>
                <a:lnTo>
                  <a:pt x="62" y="288"/>
                </a:lnTo>
                <a:lnTo>
                  <a:pt x="67" y="293"/>
                </a:lnTo>
                <a:lnTo>
                  <a:pt x="72" y="298"/>
                </a:lnTo>
                <a:lnTo>
                  <a:pt x="76" y="303"/>
                </a:lnTo>
                <a:lnTo>
                  <a:pt x="81" y="308"/>
                </a:lnTo>
                <a:lnTo>
                  <a:pt x="86" y="308"/>
                </a:lnTo>
                <a:lnTo>
                  <a:pt x="91" y="312"/>
                </a:lnTo>
                <a:lnTo>
                  <a:pt x="96" y="312"/>
                </a:lnTo>
                <a:lnTo>
                  <a:pt x="100" y="317"/>
                </a:lnTo>
                <a:lnTo>
                  <a:pt x="105" y="317"/>
                </a:lnTo>
                <a:lnTo>
                  <a:pt x="110" y="317"/>
                </a:lnTo>
                <a:lnTo>
                  <a:pt x="115" y="312"/>
                </a:lnTo>
                <a:lnTo>
                  <a:pt x="120" y="312"/>
                </a:lnTo>
                <a:lnTo>
                  <a:pt x="125" y="303"/>
                </a:lnTo>
                <a:lnTo>
                  <a:pt x="129" y="298"/>
                </a:lnTo>
                <a:lnTo>
                  <a:pt x="134" y="293"/>
                </a:lnTo>
                <a:lnTo>
                  <a:pt x="139" y="288"/>
                </a:lnTo>
                <a:lnTo>
                  <a:pt x="144" y="284"/>
                </a:lnTo>
                <a:lnTo>
                  <a:pt x="149" y="274"/>
                </a:lnTo>
                <a:lnTo>
                  <a:pt x="153" y="269"/>
                </a:lnTo>
                <a:lnTo>
                  <a:pt x="153" y="259"/>
                </a:lnTo>
                <a:lnTo>
                  <a:pt x="158" y="250"/>
                </a:lnTo>
                <a:lnTo>
                  <a:pt x="163" y="240"/>
                </a:lnTo>
                <a:lnTo>
                  <a:pt x="168" y="235"/>
                </a:lnTo>
                <a:lnTo>
                  <a:pt x="173" y="226"/>
                </a:lnTo>
                <a:lnTo>
                  <a:pt x="177" y="216"/>
                </a:lnTo>
                <a:lnTo>
                  <a:pt x="182" y="207"/>
                </a:lnTo>
                <a:lnTo>
                  <a:pt x="182" y="197"/>
                </a:lnTo>
                <a:lnTo>
                  <a:pt x="187" y="192"/>
                </a:lnTo>
                <a:lnTo>
                  <a:pt x="192" y="182"/>
                </a:lnTo>
                <a:lnTo>
                  <a:pt x="197" y="173"/>
                </a:lnTo>
                <a:lnTo>
                  <a:pt x="201" y="168"/>
                </a:lnTo>
                <a:lnTo>
                  <a:pt x="206" y="158"/>
                </a:lnTo>
                <a:lnTo>
                  <a:pt x="206" y="154"/>
                </a:lnTo>
                <a:lnTo>
                  <a:pt x="211" y="149"/>
                </a:lnTo>
                <a:lnTo>
                  <a:pt x="216" y="144"/>
                </a:lnTo>
                <a:lnTo>
                  <a:pt x="221" y="139"/>
                </a:lnTo>
                <a:lnTo>
                  <a:pt x="225" y="134"/>
                </a:lnTo>
                <a:lnTo>
                  <a:pt x="240" y="125"/>
                </a:lnTo>
                <a:lnTo>
                  <a:pt x="235" y="125"/>
                </a:lnTo>
                <a:lnTo>
                  <a:pt x="240" y="125"/>
                </a:lnTo>
                <a:lnTo>
                  <a:pt x="245" y="125"/>
                </a:lnTo>
                <a:lnTo>
                  <a:pt x="249" y="120"/>
                </a:lnTo>
                <a:lnTo>
                  <a:pt x="254" y="120"/>
                </a:lnTo>
                <a:lnTo>
                  <a:pt x="259" y="125"/>
                </a:lnTo>
                <a:lnTo>
                  <a:pt x="264" y="125"/>
                </a:lnTo>
                <a:lnTo>
                  <a:pt x="269" y="130"/>
                </a:lnTo>
                <a:lnTo>
                  <a:pt x="273" y="130"/>
                </a:lnTo>
                <a:lnTo>
                  <a:pt x="278" y="134"/>
                </a:lnTo>
                <a:lnTo>
                  <a:pt x="283" y="134"/>
                </a:lnTo>
                <a:lnTo>
                  <a:pt x="288" y="139"/>
                </a:lnTo>
                <a:lnTo>
                  <a:pt x="293" y="144"/>
                </a:lnTo>
                <a:lnTo>
                  <a:pt x="297" y="149"/>
                </a:lnTo>
                <a:lnTo>
                  <a:pt x="302" y="149"/>
                </a:lnTo>
                <a:lnTo>
                  <a:pt x="307" y="154"/>
                </a:lnTo>
                <a:lnTo>
                  <a:pt x="312" y="158"/>
                </a:lnTo>
                <a:lnTo>
                  <a:pt x="317" y="163"/>
                </a:lnTo>
                <a:lnTo>
                  <a:pt x="322" y="163"/>
                </a:lnTo>
                <a:lnTo>
                  <a:pt x="326" y="163"/>
                </a:lnTo>
                <a:lnTo>
                  <a:pt x="331" y="163"/>
                </a:lnTo>
                <a:lnTo>
                  <a:pt x="336" y="163"/>
                </a:lnTo>
                <a:lnTo>
                  <a:pt x="341" y="163"/>
                </a:lnTo>
                <a:lnTo>
                  <a:pt x="346" y="163"/>
                </a:lnTo>
                <a:lnTo>
                  <a:pt x="350" y="158"/>
                </a:lnTo>
                <a:lnTo>
                  <a:pt x="355" y="158"/>
                </a:lnTo>
                <a:lnTo>
                  <a:pt x="360" y="154"/>
                </a:lnTo>
                <a:lnTo>
                  <a:pt x="365" y="149"/>
                </a:lnTo>
                <a:lnTo>
                  <a:pt x="370" y="139"/>
                </a:lnTo>
                <a:lnTo>
                  <a:pt x="374" y="134"/>
                </a:lnTo>
                <a:lnTo>
                  <a:pt x="379" y="130"/>
                </a:lnTo>
                <a:lnTo>
                  <a:pt x="384" y="120"/>
                </a:lnTo>
                <a:lnTo>
                  <a:pt x="389" y="115"/>
                </a:lnTo>
                <a:lnTo>
                  <a:pt x="394" y="110"/>
                </a:lnTo>
                <a:lnTo>
                  <a:pt x="398" y="101"/>
                </a:lnTo>
                <a:lnTo>
                  <a:pt x="398" y="96"/>
                </a:lnTo>
                <a:lnTo>
                  <a:pt x="403" y="86"/>
                </a:lnTo>
                <a:lnTo>
                  <a:pt x="408" y="81"/>
                </a:lnTo>
                <a:lnTo>
                  <a:pt x="413" y="72"/>
                </a:lnTo>
                <a:lnTo>
                  <a:pt x="418" y="67"/>
                </a:lnTo>
                <a:lnTo>
                  <a:pt x="422" y="57"/>
                </a:lnTo>
                <a:lnTo>
                  <a:pt x="422" y="53"/>
                </a:lnTo>
                <a:lnTo>
                  <a:pt x="427" y="43"/>
                </a:lnTo>
                <a:lnTo>
                  <a:pt x="432" y="38"/>
                </a:lnTo>
                <a:lnTo>
                  <a:pt x="437" y="33"/>
                </a:lnTo>
                <a:lnTo>
                  <a:pt x="442" y="29"/>
                </a:lnTo>
                <a:lnTo>
                  <a:pt x="446" y="24"/>
                </a:lnTo>
                <a:lnTo>
                  <a:pt x="451" y="19"/>
                </a:lnTo>
                <a:lnTo>
                  <a:pt x="451" y="14"/>
                </a:lnTo>
                <a:lnTo>
                  <a:pt x="456" y="9"/>
                </a:lnTo>
                <a:lnTo>
                  <a:pt x="466" y="4"/>
                </a:lnTo>
                <a:lnTo>
                  <a:pt x="470" y="0"/>
                </a:lnTo>
                <a:lnTo>
                  <a:pt x="475" y="0"/>
                </a:lnTo>
                <a:lnTo>
                  <a:pt x="480" y="0"/>
                </a:lnTo>
                <a:lnTo>
                  <a:pt x="485" y="0"/>
                </a:lnTo>
                <a:lnTo>
                  <a:pt x="490" y="0"/>
                </a:lnTo>
                <a:lnTo>
                  <a:pt x="495" y="0"/>
                </a:lnTo>
                <a:lnTo>
                  <a:pt x="499" y="0"/>
                </a:lnTo>
                <a:lnTo>
                  <a:pt x="504" y="4"/>
                </a:lnTo>
                <a:lnTo>
                  <a:pt x="509" y="4"/>
                </a:lnTo>
                <a:lnTo>
                  <a:pt x="514" y="9"/>
                </a:lnTo>
                <a:lnTo>
                  <a:pt x="519" y="9"/>
                </a:lnTo>
                <a:lnTo>
                  <a:pt x="523" y="14"/>
                </a:lnTo>
                <a:lnTo>
                  <a:pt x="528" y="14"/>
                </a:lnTo>
                <a:lnTo>
                  <a:pt x="533" y="19"/>
                </a:lnTo>
                <a:lnTo>
                  <a:pt x="538" y="19"/>
                </a:lnTo>
                <a:lnTo>
                  <a:pt x="543" y="24"/>
                </a:lnTo>
                <a:lnTo>
                  <a:pt x="547" y="24"/>
                </a:lnTo>
                <a:lnTo>
                  <a:pt x="552" y="29"/>
                </a:lnTo>
                <a:lnTo>
                  <a:pt x="557" y="29"/>
                </a:lnTo>
                <a:lnTo>
                  <a:pt x="562" y="29"/>
                </a:lnTo>
                <a:lnTo>
                  <a:pt x="567" y="29"/>
                </a:lnTo>
                <a:lnTo>
                  <a:pt x="571" y="29"/>
                </a:lnTo>
                <a:lnTo>
                  <a:pt x="576" y="29"/>
                </a:lnTo>
                <a:lnTo>
                  <a:pt x="581" y="29"/>
                </a:lnTo>
                <a:lnTo>
                  <a:pt x="586" y="24"/>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4599000" y="2290680"/>
            <a:ext cx="1171440" cy="631800"/>
          </a:xfrm>
          <a:custGeom>
            <a:avLst/>
            <a:gdLst/>
            <a:ahLst/>
            <a:rect l="l" t="t" r="r" b="b"/>
            <a:pathLst>
              <a:path w="605" h="342">
                <a:moveTo>
                  <a:pt x="0" y="342"/>
                </a:moveTo>
                <a:lnTo>
                  <a:pt x="5" y="337"/>
                </a:lnTo>
                <a:lnTo>
                  <a:pt x="9" y="332"/>
                </a:lnTo>
                <a:lnTo>
                  <a:pt x="14" y="332"/>
                </a:lnTo>
                <a:lnTo>
                  <a:pt x="19" y="327"/>
                </a:lnTo>
                <a:lnTo>
                  <a:pt x="24" y="322"/>
                </a:lnTo>
                <a:lnTo>
                  <a:pt x="29" y="313"/>
                </a:lnTo>
                <a:lnTo>
                  <a:pt x="33" y="308"/>
                </a:lnTo>
                <a:lnTo>
                  <a:pt x="38" y="298"/>
                </a:lnTo>
                <a:lnTo>
                  <a:pt x="43" y="294"/>
                </a:lnTo>
                <a:lnTo>
                  <a:pt x="48" y="289"/>
                </a:lnTo>
                <a:lnTo>
                  <a:pt x="53" y="284"/>
                </a:lnTo>
                <a:lnTo>
                  <a:pt x="57" y="274"/>
                </a:lnTo>
                <a:lnTo>
                  <a:pt x="57" y="270"/>
                </a:lnTo>
                <a:lnTo>
                  <a:pt x="62" y="265"/>
                </a:lnTo>
                <a:lnTo>
                  <a:pt x="67" y="260"/>
                </a:lnTo>
                <a:lnTo>
                  <a:pt x="72" y="255"/>
                </a:lnTo>
                <a:lnTo>
                  <a:pt x="77" y="245"/>
                </a:lnTo>
                <a:lnTo>
                  <a:pt x="81" y="241"/>
                </a:lnTo>
                <a:lnTo>
                  <a:pt x="81" y="236"/>
                </a:lnTo>
                <a:lnTo>
                  <a:pt x="86" y="231"/>
                </a:lnTo>
                <a:lnTo>
                  <a:pt x="91" y="226"/>
                </a:lnTo>
                <a:lnTo>
                  <a:pt x="101" y="221"/>
                </a:lnTo>
                <a:lnTo>
                  <a:pt x="106" y="217"/>
                </a:lnTo>
                <a:lnTo>
                  <a:pt x="110" y="212"/>
                </a:lnTo>
                <a:lnTo>
                  <a:pt x="115" y="207"/>
                </a:lnTo>
                <a:lnTo>
                  <a:pt x="120" y="207"/>
                </a:lnTo>
                <a:lnTo>
                  <a:pt x="125" y="207"/>
                </a:lnTo>
                <a:lnTo>
                  <a:pt x="130" y="202"/>
                </a:lnTo>
                <a:lnTo>
                  <a:pt x="134" y="202"/>
                </a:lnTo>
                <a:lnTo>
                  <a:pt x="139" y="202"/>
                </a:lnTo>
                <a:lnTo>
                  <a:pt x="144" y="202"/>
                </a:lnTo>
                <a:lnTo>
                  <a:pt x="149" y="202"/>
                </a:lnTo>
                <a:lnTo>
                  <a:pt x="154" y="207"/>
                </a:lnTo>
                <a:lnTo>
                  <a:pt x="158" y="207"/>
                </a:lnTo>
                <a:lnTo>
                  <a:pt x="163" y="212"/>
                </a:lnTo>
                <a:lnTo>
                  <a:pt x="168" y="212"/>
                </a:lnTo>
                <a:lnTo>
                  <a:pt x="173" y="212"/>
                </a:lnTo>
                <a:lnTo>
                  <a:pt x="178" y="217"/>
                </a:lnTo>
                <a:lnTo>
                  <a:pt x="182" y="217"/>
                </a:lnTo>
                <a:lnTo>
                  <a:pt x="187" y="217"/>
                </a:lnTo>
                <a:lnTo>
                  <a:pt x="192" y="221"/>
                </a:lnTo>
                <a:lnTo>
                  <a:pt x="197" y="221"/>
                </a:lnTo>
                <a:lnTo>
                  <a:pt x="202" y="221"/>
                </a:lnTo>
                <a:lnTo>
                  <a:pt x="206" y="221"/>
                </a:lnTo>
                <a:lnTo>
                  <a:pt x="211" y="221"/>
                </a:lnTo>
                <a:lnTo>
                  <a:pt x="216" y="221"/>
                </a:lnTo>
                <a:lnTo>
                  <a:pt x="221" y="221"/>
                </a:lnTo>
                <a:lnTo>
                  <a:pt x="226" y="221"/>
                </a:lnTo>
                <a:lnTo>
                  <a:pt x="230" y="221"/>
                </a:lnTo>
                <a:lnTo>
                  <a:pt x="235" y="217"/>
                </a:lnTo>
                <a:lnTo>
                  <a:pt x="240" y="217"/>
                </a:lnTo>
                <a:lnTo>
                  <a:pt x="245" y="212"/>
                </a:lnTo>
                <a:lnTo>
                  <a:pt x="250" y="207"/>
                </a:lnTo>
                <a:lnTo>
                  <a:pt x="254" y="202"/>
                </a:lnTo>
                <a:lnTo>
                  <a:pt x="259" y="197"/>
                </a:lnTo>
                <a:lnTo>
                  <a:pt x="264" y="197"/>
                </a:lnTo>
                <a:lnTo>
                  <a:pt x="269" y="193"/>
                </a:lnTo>
                <a:lnTo>
                  <a:pt x="274" y="183"/>
                </a:lnTo>
                <a:lnTo>
                  <a:pt x="279" y="178"/>
                </a:lnTo>
                <a:lnTo>
                  <a:pt x="283" y="173"/>
                </a:lnTo>
                <a:lnTo>
                  <a:pt x="288" y="168"/>
                </a:lnTo>
                <a:lnTo>
                  <a:pt x="293" y="164"/>
                </a:lnTo>
                <a:lnTo>
                  <a:pt x="298" y="154"/>
                </a:lnTo>
                <a:lnTo>
                  <a:pt x="298" y="149"/>
                </a:lnTo>
                <a:lnTo>
                  <a:pt x="303" y="144"/>
                </a:lnTo>
                <a:lnTo>
                  <a:pt x="307" y="140"/>
                </a:lnTo>
                <a:lnTo>
                  <a:pt x="312" y="135"/>
                </a:lnTo>
                <a:lnTo>
                  <a:pt x="322" y="130"/>
                </a:lnTo>
                <a:lnTo>
                  <a:pt x="327" y="125"/>
                </a:lnTo>
                <a:lnTo>
                  <a:pt x="327" y="120"/>
                </a:lnTo>
                <a:lnTo>
                  <a:pt x="336" y="116"/>
                </a:lnTo>
                <a:lnTo>
                  <a:pt x="341" y="111"/>
                </a:lnTo>
                <a:lnTo>
                  <a:pt x="346" y="106"/>
                </a:lnTo>
                <a:lnTo>
                  <a:pt x="351" y="106"/>
                </a:lnTo>
                <a:lnTo>
                  <a:pt x="355" y="101"/>
                </a:lnTo>
                <a:lnTo>
                  <a:pt x="360" y="101"/>
                </a:lnTo>
                <a:lnTo>
                  <a:pt x="365" y="101"/>
                </a:lnTo>
                <a:lnTo>
                  <a:pt x="370" y="96"/>
                </a:lnTo>
                <a:lnTo>
                  <a:pt x="375" y="96"/>
                </a:lnTo>
                <a:lnTo>
                  <a:pt x="379" y="96"/>
                </a:lnTo>
                <a:lnTo>
                  <a:pt x="384" y="96"/>
                </a:lnTo>
                <a:lnTo>
                  <a:pt x="389" y="101"/>
                </a:lnTo>
                <a:lnTo>
                  <a:pt x="394" y="101"/>
                </a:lnTo>
                <a:lnTo>
                  <a:pt x="399" y="101"/>
                </a:lnTo>
                <a:lnTo>
                  <a:pt x="403" y="101"/>
                </a:lnTo>
                <a:lnTo>
                  <a:pt x="408" y="101"/>
                </a:lnTo>
                <a:lnTo>
                  <a:pt x="413" y="106"/>
                </a:lnTo>
                <a:lnTo>
                  <a:pt x="418" y="106"/>
                </a:lnTo>
                <a:lnTo>
                  <a:pt x="423" y="106"/>
                </a:lnTo>
                <a:lnTo>
                  <a:pt x="427" y="106"/>
                </a:lnTo>
                <a:lnTo>
                  <a:pt x="432" y="111"/>
                </a:lnTo>
                <a:lnTo>
                  <a:pt x="437" y="111"/>
                </a:lnTo>
                <a:lnTo>
                  <a:pt x="442" y="111"/>
                </a:lnTo>
                <a:lnTo>
                  <a:pt x="447" y="111"/>
                </a:lnTo>
                <a:lnTo>
                  <a:pt x="451" y="111"/>
                </a:lnTo>
                <a:lnTo>
                  <a:pt x="456" y="106"/>
                </a:lnTo>
                <a:lnTo>
                  <a:pt x="461" y="106"/>
                </a:lnTo>
                <a:lnTo>
                  <a:pt x="466" y="106"/>
                </a:lnTo>
                <a:lnTo>
                  <a:pt x="471" y="101"/>
                </a:lnTo>
                <a:lnTo>
                  <a:pt x="476" y="101"/>
                </a:lnTo>
                <a:lnTo>
                  <a:pt x="480" y="101"/>
                </a:lnTo>
                <a:lnTo>
                  <a:pt x="485" y="96"/>
                </a:lnTo>
                <a:lnTo>
                  <a:pt x="490" y="91"/>
                </a:lnTo>
                <a:lnTo>
                  <a:pt x="495" y="87"/>
                </a:lnTo>
                <a:lnTo>
                  <a:pt x="500" y="87"/>
                </a:lnTo>
                <a:lnTo>
                  <a:pt x="504" y="82"/>
                </a:lnTo>
                <a:lnTo>
                  <a:pt x="509" y="77"/>
                </a:lnTo>
                <a:lnTo>
                  <a:pt x="514" y="67"/>
                </a:lnTo>
                <a:lnTo>
                  <a:pt x="519" y="63"/>
                </a:lnTo>
                <a:lnTo>
                  <a:pt x="524" y="58"/>
                </a:lnTo>
                <a:lnTo>
                  <a:pt x="528" y="58"/>
                </a:lnTo>
                <a:lnTo>
                  <a:pt x="533" y="53"/>
                </a:lnTo>
                <a:lnTo>
                  <a:pt x="538" y="48"/>
                </a:lnTo>
                <a:lnTo>
                  <a:pt x="543" y="39"/>
                </a:lnTo>
                <a:lnTo>
                  <a:pt x="548" y="34"/>
                </a:lnTo>
                <a:lnTo>
                  <a:pt x="552" y="29"/>
                </a:lnTo>
                <a:lnTo>
                  <a:pt x="557" y="29"/>
                </a:lnTo>
                <a:lnTo>
                  <a:pt x="562" y="24"/>
                </a:lnTo>
                <a:lnTo>
                  <a:pt x="567" y="19"/>
                </a:lnTo>
                <a:lnTo>
                  <a:pt x="572" y="15"/>
                </a:lnTo>
                <a:lnTo>
                  <a:pt x="576" y="10"/>
                </a:lnTo>
                <a:lnTo>
                  <a:pt x="581" y="10"/>
                </a:lnTo>
                <a:lnTo>
                  <a:pt x="586" y="5"/>
                </a:lnTo>
                <a:lnTo>
                  <a:pt x="591" y="5"/>
                </a:lnTo>
                <a:lnTo>
                  <a:pt x="596" y="0"/>
                </a:lnTo>
                <a:lnTo>
                  <a:pt x="600" y="0"/>
                </a:lnTo>
                <a:lnTo>
                  <a:pt x="605"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5770440" y="2104920"/>
            <a:ext cx="671760" cy="195480"/>
          </a:xfrm>
          <a:custGeom>
            <a:avLst/>
            <a:gdLst/>
            <a:ahLst/>
            <a:rect l="l" t="t" r="r" b="b"/>
            <a:pathLst>
              <a:path w="346" h="106">
                <a:moveTo>
                  <a:pt x="0" y="101"/>
                </a:moveTo>
                <a:lnTo>
                  <a:pt x="5" y="101"/>
                </a:lnTo>
                <a:lnTo>
                  <a:pt x="10" y="101"/>
                </a:lnTo>
                <a:lnTo>
                  <a:pt x="15" y="101"/>
                </a:lnTo>
                <a:lnTo>
                  <a:pt x="19" y="101"/>
                </a:lnTo>
                <a:lnTo>
                  <a:pt x="24" y="101"/>
                </a:lnTo>
                <a:lnTo>
                  <a:pt x="29" y="101"/>
                </a:lnTo>
                <a:lnTo>
                  <a:pt x="34" y="101"/>
                </a:lnTo>
                <a:lnTo>
                  <a:pt x="39" y="101"/>
                </a:lnTo>
                <a:lnTo>
                  <a:pt x="44" y="101"/>
                </a:lnTo>
                <a:lnTo>
                  <a:pt x="48" y="101"/>
                </a:lnTo>
                <a:lnTo>
                  <a:pt x="53" y="101"/>
                </a:lnTo>
                <a:lnTo>
                  <a:pt x="58" y="106"/>
                </a:lnTo>
                <a:lnTo>
                  <a:pt x="63" y="106"/>
                </a:lnTo>
                <a:lnTo>
                  <a:pt x="68" y="106"/>
                </a:lnTo>
                <a:lnTo>
                  <a:pt x="72" y="106"/>
                </a:lnTo>
                <a:lnTo>
                  <a:pt x="77" y="106"/>
                </a:lnTo>
                <a:lnTo>
                  <a:pt x="82" y="106"/>
                </a:lnTo>
                <a:lnTo>
                  <a:pt x="87" y="101"/>
                </a:lnTo>
                <a:lnTo>
                  <a:pt x="92" y="101"/>
                </a:lnTo>
                <a:lnTo>
                  <a:pt x="96" y="101"/>
                </a:lnTo>
                <a:lnTo>
                  <a:pt x="101" y="101"/>
                </a:lnTo>
                <a:lnTo>
                  <a:pt x="106" y="96"/>
                </a:lnTo>
                <a:lnTo>
                  <a:pt x="111" y="96"/>
                </a:lnTo>
                <a:lnTo>
                  <a:pt x="116" y="91"/>
                </a:lnTo>
                <a:lnTo>
                  <a:pt x="120" y="91"/>
                </a:lnTo>
                <a:lnTo>
                  <a:pt x="125" y="87"/>
                </a:lnTo>
                <a:lnTo>
                  <a:pt x="130" y="82"/>
                </a:lnTo>
                <a:lnTo>
                  <a:pt x="135" y="77"/>
                </a:lnTo>
                <a:lnTo>
                  <a:pt x="140" y="77"/>
                </a:lnTo>
                <a:lnTo>
                  <a:pt x="144" y="72"/>
                </a:lnTo>
                <a:lnTo>
                  <a:pt x="149" y="67"/>
                </a:lnTo>
                <a:lnTo>
                  <a:pt x="154" y="63"/>
                </a:lnTo>
                <a:lnTo>
                  <a:pt x="159" y="58"/>
                </a:lnTo>
                <a:lnTo>
                  <a:pt x="164" y="53"/>
                </a:lnTo>
                <a:lnTo>
                  <a:pt x="168" y="53"/>
                </a:lnTo>
                <a:lnTo>
                  <a:pt x="173" y="48"/>
                </a:lnTo>
                <a:lnTo>
                  <a:pt x="178" y="43"/>
                </a:lnTo>
                <a:lnTo>
                  <a:pt x="183" y="39"/>
                </a:lnTo>
                <a:lnTo>
                  <a:pt x="188" y="34"/>
                </a:lnTo>
                <a:lnTo>
                  <a:pt x="192" y="29"/>
                </a:lnTo>
                <a:lnTo>
                  <a:pt x="197" y="29"/>
                </a:lnTo>
                <a:lnTo>
                  <a:pt x="202" y="24"/>
                </a:lnTo>
                <a:lnTo>
                  <a:pt x="207" y="19"/>
                </a:lnTo>
                <a:lnTo>
                  <a:pt x="212" y="19"/>
                </a:lnTo>
                <a:lnTo>
                  <a:pt x="216" y="14"/>
                </a:lnTo>
                <a:lnTo>
                  <a:pt x="221" y="14"/>
                </a:lnTo>
                <a:lnTo>
                  <a:pt x="226" y="14"/>
                </a:lnTo>
                <a:lnTo>
                  <a:pt x="231" y="10"/>
                </a:lnTo>
                <a:lnTo>
                  <a:pt x="236" y="10"/>
                </a:lnTo>
                <a:lnTo>
                  <a:pt x="241" y="10"/>
                </a:lnTo>
                <a:lnTo>
                  <a:pt x="245" y="5"/>
                </a:lnTo>
                <a:lnTo>
                  <a:pt x="250" y="5"/>
                </a:lnTo>
                <a:lnTo>
                  <a:pt x="255" y="5"/>
                </a:lnTo>
                <a:lnTo>
                  <a:pt x="260" y="5"/>
                </a:lnTo>
                <a:lnTo>
                  <a:pt x="265" y="5"/>
                </a:lnTo>
                <a:lnTo>
                  <a:pt x="269" y="5"/>
                </a:lnTo>
                <a:lnTo>
                  <a:pt x="274" y="5"/>
                </a:lnTo>
                <a:lnTo>
                  <a:pt x="279" y="5"/>
                </a:lnTo>
                <a:lnTo>
                  <a:pt x="284" y="5"/>
                </a:lnTo>
                <a:lnTo>
                  <a:pt x="289" y="5"/>
                </a:lnTo>
                <a:lnTo>
                  <a:pt x="293" y="5"/>
                </a:lnTo>
                <a:lnTo>
                  <a:pt x="298" y="5"/>
                </a:lnTo>
                <a:lnTo>
                  <a:pt x="303" y="5"/>
                </a:lnTo>
                <a:lnTo>
                  <a:pt x="308" y="5"/>
                </a:lnTo>
                <a:lnTo>
                  <a:pt x="313" y="5"/>
                </a:lnTo>
                <a:lnTo>
                  <a:pt x="317" y="5"/>
                </a:lnTo>
                <a:lnTo>
                  <a:pt x="322" y="5"/>
                </a:lnTo>
                <a:lnTo>
                  <a:pt x="327" y="5"/>
                </a:lnTo>
                <a:lnTo>
                  <a:pt x="332" y="0"/>
                </a:lnTo>
                <a:lnTo>
                  <a:pt x="337" y="0"/>
                </a:lnTo>
                <a:lnTo>
                  <a:pt x="341" y="0"/>
                </a:lnTo>
                <a:lnTo>
                  <a:pt x="346"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48" name=""/>
          <p:cNvGraphicFramePr/>
          <p:nvPr/>
        </p:nvGraphicFramePr>
        <p:xfrm>
          <a:off x="4044960" y="5433840"/>
          <a:ext cx="355680" cy="338400"/>
        </p:xfrm>
        <a:graphic>
          <a:graphicData uri="http://schemas.openxmlformats.org/presentationml/2006/ole">
            <p:oleObj r:id="rId1" spid="">
              <p:embed/>
              <p:pic>
                <p:nvPicPr>
                  <p:cNvPr id="3549" name="" descr=""/>
                  <p:cNvPicPr/>
                  <p:nvPr/>
                </p:nvPicPr>
                <p:blipFill>
                  <a:blip r:embed="rId2"/>
                  <a:stretch/>
                </p:blipFill>
                <p:spPr>
                  <a:xfrm>
                    <a:off x="4044960" y="5433840"/>
                    <a:ext cx="355680" cy="338400"/>
                  </a:xfrm>
                  <a:prstGeom prst="rect">
                    <a:avLst/>
                  </a:prstGeom>
                  <a:ln w="0">
                    <a:noFill/>
                  </a:ln>
                </p:spPr>
              </p:pic>
            </p:oleObj>
          </a:graphicData>
        </a:graphic>
      </p:graphicFrame>
      <p:graphicFrame>
        <p:nvGraphicFramePr>
          <p:cNvPr id="3550" name=""/>
          <p:cNvGraphicFramePr/>
          <p:nvPr/>
        </p:nvGraphicFramePr>
        <p:xfrm>
          <a:off x="1447920" y="3376440"/>
          <a:ext cx="662040" cy="331920"/>
        </p:xfrm>
        <a:graphic>
          <a:graphicData uri="http://schemas.openxmlformats.org/presentationml/2006/ole">
            <p:oleObj r:id="rId3" spid="">
              <p:embed/>
              <p:pic>
                <p:nvPicPr>
                  <p:cNvPr id="3551" name="" descr=""/>
                  <p:cNvPicPr/>
                  <p:nvPr/>
                </p:nvPicPr>
                <p:blipFill>
                  <a:blip r:embed="rId4"/>
                  <a:stretch/>
                </p:blipFill>
                <p:spPr>
                  <a:xfrm>
                    <a:off x="1447920" y="3376440"/>
                    <a:ext cx="662040" cy="3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2" name=""/>
          <p:cNvSpPr/>
          <p:nvPr/>
        </p:nvSpPr>
        <p:spPr>
          <a:xfrm>
            <a:off x="3184560" y="289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SDH</a:t>
            </a:r>
            <a:endParaRPr b="0" lang="en-US" sz="2400" spc="-1" strike="noStrike">
              <a:solidFill>
                <a:srgbClr val="000000"/>
              </a:solidFill>
              <a:latin typeface="Times New Roman"/>
            </a:endParaRPr>
          </a:p>
        </p:txBody>
      </p:sp>
      <p:sp>
        <p:nvSpPr>
          <p:cNvPr id="3553"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80880" y="1143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is separation of variables solutions at many frequencies to synthesize a  P-wave  impulse time domain solution (pulse-echo)</a:t>
            </a:r>
            <a:endParaRPr b="0" lang="en-US" sz="2400" spc="-1" strike="noStrike">
              <a:solidFill>
                <a:srgbClr val="000000"/>
              </a:solidFill>
              <a:latin typeface="Times New Roman"/>
            </a:endParaRPr>
          </a:p>
        </p:txBody>
      </p:sp>
      <p:sp>
        <p:nvSpPr>
          <p:cNvPr id="3555" name=""/>
          <p:cNvSpPr/>
          <p:nvPr/>
        </p:nvSpPr>
        <p:spPr>
          <a:xfrm>
            <a:off x="237960" y="5715000"/>
            <a:ext cx="8710560" cy="66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domain pulse-echo P-wave response of a 0.5 mm radius cylindrical void in steel (c</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 5900  m/s, c</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3200  m/sec) obtain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ing a low-pass cosine-squared windowing filter between 10 and 20 MHz to the separation of variables solution and then inverting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into the time domain with the inverse Fourier transform.</a:t>
            </a:r>
            <a:endParaRPr b="0" lang="en-US" sz="1200" spc="-1" strike="noStrike">
              <a:solidFill>
                <a:srgbClr val="000000"/>
              </a:solidFill>
              <a:latin typeface="Times New Roman"/>
            </a:endParaRPr>
          </a:p>
        </p:txBody>
      </p:sp>
      <p:sp>
        <p:nvSpPr>
          <p:cNvPr id="3556" name=""/>
          <p:cNvSpPr/>
          <p:nvPr/>
        </p:nvSpPr>
        <p:spPr>
          <a:xfrm>
            <a:off x="2840040" y="2589120"/>
            <a:ext cx="3716280" cy="21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2840040" y="2589120"/>
            <a:ext cx="3716280" cy="21859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2840040" y="2589120"/>
            <a:ext cx="37162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9" name=""/>
          <p:cNvSpPr/>
          <p:nvPr/>
        </p:nvSpPr>
        <p:spPr>
          <a:xfrm>
            <a:off x="2840040" y="2589120"/>
            <a:ext cx="3716280" cy="2185920"/>
          </a:xfrm>
          <a:custGeom>
            <a:avLst/>
            <a:gdLst/>
            <a:ahLst/>
            <a:rect l="l" t="t" r="r" b="b"/>
            <a:pathLst>
              <a:path w="2341" h="1377">
                <a:moveTo>
                  <a:pt x="0" y="1377"/>
                </a:moveTo>
                <a:lnTo>
                  <a:pt x="2341" y="1377"/>
                </a:lnTo>
                <a:lnTo>
                  <a:pt x="234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flipV="1">
            <a:off x="2840040" y="2589120"/>
            <a:ext cx="1440" cy="21859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flipV="1">
            <a:off x="2840040" y="47318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2" name=""/>
          <p:cNvSpPr/>
          <p:nvPr/>
        </p:nvSpPr>
        <p:spPr>
          <a:xfrm>
            <a:off x="2840040" y="2589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3" name=""/>
          <p:cNvSpPr/>
          <p:nvPr/>
        </p:nvSpPr>
        <p:spPr>
          <a:xfrm>
            <a:off x="2779560" y="48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64" name=""/>
          <p:cNvSpPr/>
          <p:nvPr/>
        </p:nvSpPr>
        <p:spPr>
          <a:xfrm>
            <a:off x="283140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565" name=""/>
          <p:cNvSpPr/>
          <p:nvPr/>
        </p:nvSpPr>
        <p:spPr>
          <a:xfrm flipV="1">
            <a:off x="357660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6" name=""/>
          <p:cNvSpPr/>
          <p:nvPr/>
        </p:nvSpPr>
        <p:spPr>
          <a:xfrm>
            <a:off x="357660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7" name=""/>
          <p:cNvSpPr/>
          <p:nvPr/>
        </p:nvSpPr>
        <p:spPr>
          <a:xfrm>
            <a:off x="3465360" y="48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68" name=""/>
          <p:cNvSpPr/>
          <p:nvPr/>
        </p:nvSpPr>
        <p:spPr>
          <a:xfrm>
            <a:off x="351504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569" name=""/>
          <p:cNvSpPr/>
          <p:nvPr/>
        </p:nvSpPr>
        <p:spPr>
          <a:xfrm flipV="1">
            <a:off x="432108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70" name=""/>
          <p:cNvSpPr/>
          <p:nvPr/>
        </p:nvSpPr>
        <p:spPr>
          <a:xfrm>
            <a:off x="432108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1" name=""/>
          <p:cNvSpPr/>
          <p:nvPr/>
        </p:nvSpPr>
        <p:spPr>
          <a:xfrm>
            <a:off x="429480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572" name=""/>
          <p:cNvSpPr/>
          <p:nvPr/>
        </p:nvSpPr>
        <p:spPr>
          <a:xfrm flipV="1">
            <a:off x="5064120" y="4731840"/>
            <a:ext cx="32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73" name=""/>
          <p:cNvSpPr/>
          <p:nvPr/>
        </p:nvSpPr>
        <p:spPr>
          <a:xfrm>
            <a:off x="5064120" y="2589120"/>
            <a:ext cx="32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4" name=""/>
          <p:cNvSpPr/>
          <p:nvPr/>
        </p:nvSpPr>
        <p:spPr>
          <a:xfrm>
            <a:off x="498636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575" name=""/>
          <p:cNvSpPr/>
          <p:nvPr/>
        </p:nvSpPr>
        <p:spPr>
          <a:xfrm flipV="1">
            <a:off x="5811840" y="47318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76" name=""/>
          <p:cNvSpPr/>
          <p:nvPr/>
        </p:nvSpPr>
        <p:spPr>
          <a:xfrm>
            <a:off x="5811840" y="2589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7" name=""/>
          <p:cNvSpPr/>
          <p:nvPr/>
        </p:nvSpPr>
        <p:spPr>
          <a:xfrm>
            <a:off x="578412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578" name=""/>
          <p:cNvSpPr/>
          <p:nvPr/>
        </p:nvSpPr>
        <p:spPr>
          <a:xfrm flipV="1">
            <a:off x="655632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79" name=""/>
          <p:cNvSpPr/>
          <p:nvPr/>
        </p:nvSpPr>
        <p:spPr>
          <a:xfrm>
            <a:off x="655632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0" name=""/>
          <p:cNvSpPr/>
          <p:nvPr/>
        </p:nvSpPr>
        <p:spPr>
          <a:xfrm>
            <a:off x="647856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581" name=""/>
          <p:cNvSpPr/>
          <p:nvPr/>
        </p:nvSpPr>
        <p:spPr>
          <a:xfrm>
            <a:off x="2840040" y="477504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2" name=""/>
          <p:cNvSpPr/>
          <p:nvPr/>
        </p:nvSpPr>
        <p:spPr>
          <a:xfrm flipH="1">
            <a:off x="6513120" y="477504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3" name=""/>
          <p:cNvSpPr/>
          <p:nvPr/>
        </p:nvSpPr>
        <p:spPr>
          <a:xfrm>
            <a:off x="2593800" y="47131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84" name=""/>
          <p:cNvSpPr/>
          <p:nvPr/>
        </p:nvSpPr>
        <p:spPr>
          <a:xfrm>
            <a:off x="2643480" y="4713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585" name=""/>
          <p:cNvSpPr/>
          <p:nvPr/>
        </p:nvSpPr>
        <p:spPr>
          <a:xfrm>
            <a:off x="2840040" y="440532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6" name=""/>
          <p:cNvSpPr/>
          <p:nvPr/>
        </p:nvSpPr>
        <p:spPr>
          <a:xfrm flipH="1">
            <a:off x="6513120" y="440532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7" name=""/>
          <p:cNvSpPr/>
          <p:nvPr/>
        </p:nvSpPr>
        <p:spPr>
          <a:xfrm>
            <a:off x="2593800" y="4344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88" name=""/>
          <p:cNvSpPr/>
          <p:nvPr/>
        </p:nvSpPr>
        <p:spPr>
          <a:xfrm>
            <a:off x="2643480" y="4344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589" name=""/>
          <p:cNvSpPr/>
          <p:nvPr/>
        </p:nvSpPr>
        <p:spPr>
          <a:xfrm>
            <a:off x="2840040" y="4044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0" name=""/>
          <p:cNvSpPr/>
          <p:nvPr/>
        </p:nvSpPr>
        <p:spPr>
          <a:xfrm flipH="1">
            <a:off x="6513120" y="404496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2593800" y="39844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92" name=""/>
          <p:cNvSpPr/>
          <p:nvPr/>
        </p:nvSpPr>
        <p:spPr>
          <a:xfrm>
            <a:off x="2643480" y="3984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93" name=""/>
          <p:cNvSpPr/>
          <p:nvPr/>
        </p:nvSpPr>
        <p:spPr>
          <a:xfrm>
            <a:off x="2840040" y="36766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4" name=""/>
          <p:cNvSpPr/>
          <p:nvPr/>
        </p:nvSpPr>
        <p:spPr>
          <a:xfrm flipH="1">
            <a:off x="6513120" y="367668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5" name=""/>
          <p:cNvSpPr/>
          <p:nvPr/>
        </p:nvSpPr>
        <p:spPr>
          <a:xfrm>
            <a:off x="2686680" y="361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596" name=""/>
          <p:cNvSpPr/>
          <p:nvPr/>
        </p:nvSpPr>
        <p:spPr>
          <a:xfrm>
            <a:off x="2840040" y="3317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7" name=""/>
          <p:cNvSpPr/>
          <p:nvPr/>
        </p:nvSpPr>
        <p:spPr>
          <a:xfrm flipH="1">
            <a:off x="6513120" y="331776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8" name=""/>
          <p:cNvSpPr/>
          <p:nvPr/>
        </p:nvSpPr>
        <p:spPr>
          <a:xfrm>
            <a:off x="2627640" y="3255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99" name=""/>
          <p:cNvSpPr/>
          <p:nvPr/>
        </p:nvSpPr>
        <p:spPr>
          <a:xfrm>
            <a:off x="2840040" y="294804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0" name=""/>
          <p:cNvSpPr/>
          <p:nvPr/>
        </p:nvSpPr>
        <p:spPr>
          <a:xfrm flipH="1">
            <a:off x="6513120" y="294804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1" name=""/>
          <p:cNvSpPr/>
          <p:nvPr/>
        </p:nvSpPr>
        <p:spPr>
          <a:xfrm>
            <a:off x="2627640" y="2887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602" name=""/>
          <p:cNvSpPr/>
          <p:nvPr/>
        </p:nvSpPr>
        <p:spPr>
          <a:xfrm>
            <a:off x="2840040" y="258912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3" name=""/>
          <p:cNvSpPr/>
          <p:nvPr/>
        </p:nvSpPr>
        <p:spPr>
          <a:xfrm flipH="1">
            <a:off x="6513120" y="258912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4" name=""/>
          <p:cNvSpPr/>
          <p:nvPr/>
        </p:nvSpPr>
        <p:spPr>
          <a:xfrm>
            <a:off x="2627640" y="252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605" name=""/>
          <p:cNvSpPr/>
          <p:nvPr/>
        </p:nvSpPr>
        <p:spPr>
          <a:xfrm>
            <a:off x="2865600" y="2879640"/>
            <a:ext cx="1849320" cy="1774800"/>
          </a:xfrm>
          <a:custGeom>
            <a:avLst/>
            <a:gdLst/>
            <a:ahLst/>
            <a:rect l="l" t="t" r="r" b="b"/>
            <a:pathLst>
              <a:path w="1165" h="1118">
                <a:moveTo>
                  <a:pt x="0" y="502"/>
                </a:moveTo>
                <a:lnTo>
                  <a:pt x="10" y="502"/>
                </a:lnTo>
                <a:lnTo>
                  <a:pt x="21" y="502"/>
                </a:lnTo>
                <a:lnTo>
                  <a:pt x="27" y="502"/>
                </a:lnTo>
                <a:lnTo>
                  <a:pt x="37" y="502"/>
                </a:lnTo>
                <a:lnTo>
                  <a:pt x="48" y="502"/>
                </a:lnTo>
                <a:lnTo>
                  <a:pt x="59" y="502"/>
                </a:lnTo>
                <a:lnTo>
                  <a:pt x="65" y="502"/>
                </a:lnTo>
                <a:lnTo>
                  <a:pt x="76" y="502"/>
                </a:lnTo>
                <a:lnTo>
                  <a:pt x="87" y="502"/>
                </a:lnTo>
                <a:lnTo>
                  <a:pt x="92" y="502"/>
                </a:lnTo>
                <a:lnTo>
                  <a:pt x="102" y="502"/>
                </a:lnTo>
                <a:lnTo>
                  <a:pt x="113" y="502"/>
                </a:lnTo>
                <a:lnTo>
                  <a:pt x="118" y="502"/>
                </a:lnTo>
                <a:lnTo>
                  <a:pt x="129" y="502"/>
                </a:lnTo>
                <a:lnTo>
                  <a:pt x="140" y="502"/>
                </a:lnTo>
                <a:lnTo>
                  <a:pt x="151" y="502"/>
                </a:lnTo>
                <a:lnTo>
                  <a:pt x="156" y="502"/>
                </a:lnTo>
                <a:lnTo>
                  <a:pt x="167" y="502"/>
                </a:lnTo>
                <a:lnTo>
                  <a:pt x="178" y="502"/>
                </a:lnTo>
                <a:lnTo>
                  <a:pt x="184" y="502"/>
                </a:lnTo>
                <a:lnTo>
                  <a:pt x="195" y="502"/>
                </a:lnTo>
                <a:lnTo>
                  <a:pt x="206" y="502"/>
                </a:lnTo>
                <a:lnTo>
                  <a:pt x="210" y="502"/>
                </a:lnTo>
                <a:lnTo>
                  <a:pt x="221" y="502"/>
                </a:lnTo>
                <a:lnTo>
                  <a:pt x="232" y="502"/>
                </a:lnTo>
                <a:lnTo>
                  <a:pt x="243" y="502"/>
                </a:lnTo>
                <a:lnTo>
                  <a:pt x="248" y="502"/>
                </a:lnTo>
                <a:lnTo>
                  <a:pt x="259" y="502"/>
                </a:lnTo>
                <a:lnTo>
                  <a:pt x="270" y="502"/>
                </a:lnTo>
                <a:lnTo>
                  <a:pt x="275" y="502"/>
                </a:lnTo>
                <a:lnTo>
                  <a:pt x="285" y="502"/>
                </a:lnTo>
                <a:lnTo>
                  <a:pt x="296" y="502"/>
                </a:lnTo>
                <a:lnTo>
                  <a:pt x="302" y="502"/>
                </a:lnTo>
                <a:lnTo>
                  <a:pt x="313" y="502"/>
                </a:lnTo>
                <a:lnTo>
                  <a:pt x="323" y="502"/>
                </a:lnTo>
                <a:lnTo>
                  <a:pt x="329" y="502"/>
                </a:lnTo>
                <a:lnTo>
                  <a:pt x="340" y="502"/>
                </a:lnTo>
                <a:lnTo>
                  <a:pt x="351" y="502"/>
                </a:lnTo>
                <a:lnTo>
                  <a:pt x="362" y="502"/>
                </a:lnTo>
                <a:lnTo>
                  <a:pt x="367" y="502"/>
                </a:lnTo>
                <a:lnTo>
                  <a:pt x="378" y="502"/>
                </a:lnTo>
                <a:lnTo>
                  <a:pt x="388" y="502"/>
                </a:lnTo>
                <a:lnTo>
                  <a:pt x="393" y="502"/>
                </a:lnTo>
                <a:lnTo>
                  <a:pt x="404" y="502"/>
                </a:lnTo>
                <a:lnTo>
                  <a:pt x="415" y="502"/>
                </a:lnTo>
                <a:lnTo>
                  <a:pt x="421" y="502"/>
                </a:lnTo>
                <a:lnTo>
                  <a:pt x="431" y="502"/>
                </a:lnTo>
                <a:lnTo>
                  <a:pt x="442" y="502"/>
                </a:lnTo>
                <a:lnTo>
                  <a:pt x="453" y="502"/>
                </a:lnTo>
                <a:lnTo>
                  <a:pt x="459" y="502"/>
                </a:lnTo>
                <a:lnTo>
                  <a:pt x="470" y="502"/>
                </a:lnTo>
                <a:lnTo>
                  <a:pt x="480" y="502"/>
                </a:lnTo>
                <a:lnTo>
                  <a:pt x="485" y="502"/>
                </a:lnTo>
                <a:lnTo>
                  <a:pt x="496" y="502"/>
                </a:lnTo>
                <a:lnTo>
                  <a:pt x="507" y="502"/>
                </a:lnTo>
                <a:lnTo>
                  <a:pt x="512" y="502"/>
                </a:lnTo>
                <a:lnTo>
                  <a:pt x="523" y="502"/>
                </a:lnTo>
                <a:lnTo>
                  <a:pt x="534" y="502"/>
                </a:lnTo>
                <a:lnTo>
                  <a:pt x="545" y="502"/>
                </a:lnTo>
                <a:lnTo>
                  <a:pt x="550" y="502"/>
                </a:lnTo>
                <a:lnTo>
                  <a:pt x="560" y="502"/>
                </a:lnTo>
                <a:lnTo>
                  <a:pt x="571" y="502"/>
                </a:lnTo>
                <a:lnTo>
                  <a:pt x="577" y="502"/>
                </a:lnTo>
                <a:lnTo>
                  <a:pt x="588" y="502"/>
                </a:lnTo>
                <a:lnTo>
                  <a:pt x="598" y="502"/>
                </a:lnTo>
                <a:lnTo>
                  <a:pt x="604" y="502"/>
                </a:lnTo>
                <a:lnTo>
                  <a:pt x="615" y="502"/>
                </a:lnTo>
                <a:lnTo>
                  <a:pt x="626" y="502"/>
                </a:lnTo>
                <a:lnTo>
                  <a:pt x="631" y="502"/>
                </a:lnTo>
                <a:lnTo>
                  <a:pt x="642" y="502"/>
                </a:lnTo>
                <a:lnTo>
                  <a:pt x="653" y="502"/>
                </a:lnTo>
                <a:lnTo>
                  <a:pt x="663" y="502"/>
                </a:lnTo>
                <a:lnTo>
                  <a:pt x="668" y="502"/>
                </a:lnTo>
                <a:lnTo>
                  <a:pt x="679" y="502"/>
                </a:lnTo>
                <a:lnTo>
                  <a:pt x="690" y="502"/>
                </a:lnTo>
                <a:lnTo>
                  <a:pt x="696" y="502"/>
                </a:lnTo>
                <a:lnTo>
                  <a:pt x="707" y="502"/>
                </a:lnTo>
                <a:lnTo>
                  <a:pt x="717" y="502"/>
                </a:lnTo>
                <a:lnTo>
                  <a:pt x="723" y="502"/>
                </a:lnTo>
                <a:lnTo>
                  <a:pt x="734" y="502"/>
                </a:lnTo>
                <a:lnTo>
                  <a:pt x="745" y="502"/>
                </a:lnTo>
                <a:lnTo>
                  <a:pt x="756" y="502"/>
                </a:lnTo>
                <a:lnTo>
                  <a:pt x="760" y="497"/>
                </a:lnTo>
                <a:lnTo>
                  <a:pt x="771" y="502"/>
                </a:lnTo>
                <a:lnTo>
                  <a:pt x="782" y="486"/>
                </a:lnTo>
                <a:lnTo>
                  <a:pt x="787" y="513"/>
                </a:lnTo>
                <a:lnTo>
                  <a:pt x="798" y="557"/>
                </a:lnTo>
                <a:lnTo>
                  <a:pt x="809" y="405"/>
                </a:lnTo>
                <a:lnTo>
                  <a:pt x="815" y="411"/>
                </a:lnTo>
                <a:lnTo>
                  <a:pt x="825" y="946"/>
                </a:lnTo>
                <a:lnTo>
                  <a:pt x="835" y="1118"/>
                </a:lnTo>
                <a:lnTo>
                  <a:pt x="846" y="427"/>
                </a:lnTo>
                <a:lnTo>
                  <a:pt x="852" y="0"/>
                </a:lnTo>
                <a:lnTo>
                  <a:pt x="863" y="308"/>
                </a:lnTo>
                <a:lnTo>
                  <a:pt x="874" y="508"/>
                </a:lnTo>
                <a:lnTo>
                  <a:pt x="879" y="427"/>
                </a:lnTo>
                <a:lnTo>
                  <a:pt x="890" y="427"/>
                </a:lnTo>
                <a:lnTo>
                  <a:pt x="901" y="470"/>
                </a:lnTo>
                <a:lnTo>
                  <a:pt x="906" y="470"/>
                </a:lnTo>
                <a:lnTo>
                  <a:pt x="917" y="481"/>
                </a:lnTo>
                <a:lnTo>
                  <a:pt x="928" y="486"/>
                </a:lnTo>
                <a:lnTo>
                  <a:pt x="932" y="486"/>
                </a:lnTo>
                <a:lnTo>
                  <a:pt x="943" y="491"/>
                </a:lnTo>
                <a:lnTo>
                  <a:pt x="954" y="497"/>
                </a:lnTo>
                <a:lnTo>
                  <a:pt x="965" y="497"/>
                </a:lnTo>
                <a:lnTo>
                  <a:pt x="971" y="502"/>
                </a:lnTo>
                <a:lnTo>
                  <a:pt x="982" y="502"/>
                </a:lnTo>
                <a:lnTo>
                  <a:pt x="992" y="502"/>
                </a:lnTo>
                <a:lnTo>
                  <a:pt x="998" y="508"/>
                </a:lnTo>
                <a:lnTo>
                  <a:pt x="1009" y="508"/>
                </a:lnTo>
                <a:lnTo>
                  <a:pt x="1020" y="508"/>
                </a:lnTo>
                <a:lnTo>
                  <a:pt x="1024" y="508"/>
                </a:lnTo>
                <a:lnTo>
                  <a:pt x="1035" y="508"/>
                </a:lnTo>
                <a:lnTo>
                  <a:pt x="1046" y="491"/>
                </a:lnTo>
                <a:lnTo>
                  <a:pt x="1057" y="481"/>
                </a:lnTo>
                <a:lnTo>
                  <a:pt x="1062" y="497"/>
                </a:lnTo>
                <a:lnTo>
                  <a:pt x="1073" y="519"/>
                </a:lnTo>
                <a:lnTo>
                  <a:pt x="1084" y="519"/>
                </a:lnTo>
                <a:lnTo>
                  <a:pt x="1090" y="519"/>
                </a:lnTo>
                <a:lnTo>
                  <a:pt x="1101" y="513"/>
                </a:lnTo>
                <a:lnTo>
                  <a:pt x="1111" y="513"/>
                </a:lnTo>
                <a:lnTo>
                  <a:pt x="1117" y="513"/>
                </a:lnTo>
                <a:lnTo>
                  <a:pt x="1127" y="513"/>
                </a:lnTo>
                <a:lnTo>
                  <a:pt x="1138" y="513"/>
                </a:lnTo>
                <a:lnTo>
                  <a:pt x="1149" y="508"/>
                </a:lnTo>
                <a:lnTo>
                  <a:pt x="1154" y="508"/>
                </a:lnTo>
                <a:lnTo>
                  <a:pt x="1165" y="508"/>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4714920" y="3676680"/>
            <a:ext cx="1771560" cy="9360"/>
          </a:xfrm>
          <a:custGeom>
            <a:avLst/>
            <a:gdLst/>
            <a:ahLst/>
            <a:rect l="l" t="t" r="r" b="b"/>
            <a:pathLst>
              <a:path w="1116" h="6">
                <a:moveTo>
                  <a:pt x="0" y="6"/>
                </a:moveTo>
                <a:lnTo>
                  <a:pt x="11" y="6"/>
                </a:lnTo>
                <a:lnTo>
                  <a:pt x="16" y="6"/>
                </a:lnTo>
                <a:lnTo>
                  <a:pt x="27" y="6"/>
                </a:lnTo>
                <a:lnTo>
                  <a:pt x="38" y="6"/>
                </a:lnTo>
                <a:lnTo>
                  <a:pt x="44" y="6"/>
                </a:lnTo>
                <a:lnTo>
                  <a:pt x="53" y="0"/>
                </a:lnTo>
                <a:lnTo>
                  <a:pt x="64" y="0"/>
                </a:lnTo>
                <a:lnTo>
                  <a:pt x="70" y="0"/>
                </a:lnTo>
                <a:lnTo>
                  <a:pt x="81" y="0"/>
                </a:lnTo>
                <a:lnTo>
                  <a:pt x="92" y="0"/>
                </a:lnTo>
                <a:lnTo>
                  <a:pt x="103" y="0"/>
                </a:lnTo>
                <a:lnTo>
                  <a:pt x="108" y="0"/>
                </a:lnTo>
                <a:lnTo>
                  <a:pt x="119" y="0"/>
                </a:lnTo>
                <a:lnTo>
                  <a:pt x="130" y="0"/>
                </a:lnTo>
                <a:lnTo>
                  <a:pt x="135" y="0"/>
                </a:lnTo>
                <a:lnTo>
                  <a:pt x="145" y="0"/>
                </a:lnTo>
                <a:lnTo>
                  <a:pt x="156" y="0"/>
                </a:lnTo>
                <a:lnTo>
                  <a:pt x="161" y="0"/>
                </a:lnTo>
                <a:lnTo>
                  <a:pt x="172" y="0"/>
                </a:lnTo>
                <a:lnTo>
                  <a:pt x="183" y="0"/>
                </a:lnTo>
                <a:lnTo>
                  <a:pt x="194" y="0"/>
                </a:lnTo>
                <a:lnTo>
                  <a:pt x="200" y="0"/>
                </a:lnTo>
                <a:lnTo>
                  <a:pt x="211" y="0"/>
                </a:lnTo>
                <a:lnTo>
                  <a:pt x="220" y="0"/>
                </a:lnTo>
                <a:lnTo>
                  <a:pt x="227" y="0"/>
                </a:lnTo>
                <a:lnTo>
                  <a:pt x="238" y="0"/>
                </a:lnTo>
                <a:lnTo>
                  <a:pt x="248" y="0"/>
                </a:lnTo>
                <a:lnTo>
                  <a:pt x="253" y="0"/>
                </a:lnTo>
                <a:lnTo>
                  <a:pt x="264" y="0"/>
                </a:lnTo>
                <a:lnTo>
                  <a:pt x="275" y="0"/>
                </a:lnTo>
                <a:lnTo>
                  <a:pt x="286" y="0"/>
                </a:lnTo>
                <a:lnTo>
                  <a:pt x="291" y="0"/>
                </a:lnTo>
                <a:lnTo>
                  <a:pt x="302" y="0"/>
                </a:lnTo>
                <a:lnTo>
                  <a:pt x="313" y="0"/>
                </a:lnTo>
                <a:lnTo>
                  <a:pt x="319" y="0"/>
                </a:lnTo>
                <a:lnTo>
                  <a:pt x="328" y="0"/>
                </a:lnTo>
                <a:lnTo>
                  <a:pt x="339" y="0"/>
                </a:lnTo>
                <a:lnTo>
                  <a:pt x="345" y="0"/>
                </a:lnTo>
                <a:lnTo>
                  <a:pt x="356" y="0"/>
                </a:lnTo>
                <a:lnTo>
                  <a:pt x="367" y="0"/>
                </a:lnTo>
                <a:lnTo>
                  <a:pt x="372" y="0"/>
                </a:lnTo>
                <a:lnTo>
                  <a:pt x="383" y="0"/>
                </a:lnTo>
                <a:lnTo>
                  <a:pt x="394" y="0"/>
                </a:lnTo>
                <a:lnTo>
                  <a:pt x="405" y="0"/>
                </a:lnTo>
                <a:lnTo>
                  <a:pt x="409" y="0"/>
                </a:lnTo>
                <a:lnTo>
                  <a:pt x="420" y="0"/>
                </a:lnTo>
                <a:lnTo>
                  <a:pt x="431" y="0"/>
                </a:lnTo>
                <a:lnTo>
                  <a:pt x="437" y="0"/>
                </a:lnTo>
                <a:lnTo>
                  <a:pt x="447" y="0"/>
                </a:lnTo>
                <a:lnTo>
                  <a:pt x="458" y="0"/>
                </a:lnTo>
                <a:lnTo>
                  <a:pt x="464" y="0"/>
                </a:lnTo>
                <a:lnTo>
                  <a:pt x="475" y="0"/>
                </a:lnTo>
                <a:lnTo>
                  <a:pt x="486" y="0"/>
                </a:lnTo>
                <a:lnTo>
                  <a:pt x="496" y="0"/>
                </a:lnTo>
                <a:lnTo>
                  <a:pt x="502" y="0"/>
                </a:lnTo>
                <a:lnTo>
                  <a:pt x="513" y="0"/>
                </a:lnTo>
                <a:lnTo>
                  <a:pt x="523" y="0"/>
                </a:lnTo>
                <a:lnTo>
                  <a:pt x="528" y="0"/>
                </a:lnTo>
                <a:lnTo>
                  <a:pt x="539" y="0"/>
                </a:lnTo>
                <a:lnTo>
                  <a:pt x="550" y="0"/>
                </a:lnTo>
                <a:lnTo>
                  <a:pt x="555" y="0"/>
                </a:lnTo>
                <a:lnTo>
                  <a:pt x="566" y="0"/>
                </a:lnTo>
                <a:lnTo>
                  <a:pt x="577" y="0"/>
                </a:lnTo>
                <a:lnTo>
                  <a:pt x="588" y="0"/>
                </a:lnTo>
                <a:lnTo>
                  <a:pt x="594" y="0"/>
                </a:lnTo>
                <a:lnTo>
                  <a:pt x="605" y="0"/>
                </a:lnTo>
                <a:lnTo>
                  <a:pt x="614" y="0"/>
                </a:lnTo>
                <a:lnTo>
                  <a:pt x="620" y="0"/>
                </a:lnTo>
                <a:lnTo>
                  <a:pt x="631" y="0"/>
                </a:lnTo>
                <a:lnTo>
                  <a:pt x="642" y="0"/>
                </a:lnTo>
                <a:lnTo>
                  <a:pt x="647" y="0"/>
                </a:lnTo>
                <a:lnTo>
                  <a:pt x="658" y="0"/>
                </a:lnTo>
                <a:lnTo>
                  <a:pt x="669" y="0"/>
                </a:lnTo>
                <a:lnTo>
                  <a:pt x="674" y="0"/>
                </a:lnTo>
                <a:lnTo>
                  <a:pt x="685" y="0"/>
                </a:lnTo>
                <a:lnTo>
                  <a:pt x="695" y="0"/>
                </a:lnTo>
                <a:lnTo>
                  <a:pt x="706" y="0"/>
                </a:lnTo>
                <a:lnTo>
                  <a:pt x="712" y="0"/>
                </a:lnTo>
                <a:lnTo>
                  <a:pt x="722" y="0"/>
                </a:lnTo>
                <a:lnTo>
                  <a:pt x="733" y="0"/>
                </a:lnTo>
                <a:lnTo>
                  <a:pt x="739" y="0"/>
                </a:lnTo>
                <a:lnTo>
                  <a:pt x="750" y="0"/>
                </a:lnTo>
                <a:lnTo>
                  <a:pt x="761" y="0"/>
                </a:lnTo>
                <a:lnTo>
                  <a:pt x="766" y="0"/>
                </a:lnTo>
                <a:lnTo>
                  <a:pt x="777" y="0"/>
                </a:lnTo>
                <a:lnTo>
                  <a:pt x="788" y="0"/>
                </a:lnTo>
                <a:lnTo>
                  <a:pt x="798" y="0"/>
                </a:lnTo>
                <a:lnTo>
                  <a:pt x="803" y="0"/>
                </a:lnTo>
                <a:lnTo>
                  <a:pt x="814" y="0"/>
                </a:lnTo>
                <a:lnTo>
                  <a:pt x="825" y="0"/>
                </a:lnTo>
                <a:lnTo>
                  <a:pt x="830" y="0"/>
                </a:lnTo>
                <a:lnTo>
                  <a:pt x="841" y="0"/>
                </a:lnTo>
                <a:lnTo>
                  <a:pt x="852" y="0"/>
                </a:lnTo>
                <a:lnTo>
                  <a:pt x="858" y="0"/>
                </a:lnTo>
                <a:lnTo>
                  <a:pt x="869" y="0"/>
                </a:lnTo>
                <a:lnTo>
                  <a:pt x="880" y="0"/>
                </a:lnTo>
                <a:lnTo>
                  <a:pt x="889" y="0"/>
                </a:lnTo>
                <a:lnTo>
                  <a:pt x="895" y="0"/>
                </a:lnTo>
                <a:lnTo>
                  <a:pt x="906" y="0"/>
                </a:lnTo>
                <a:lnTo>
                  <a:pt x="917" y="0"/>
                </a:lnTo>
                <a:lnTo>
                  <a:pt x="922" y="0"/>
                </a:lnTo>
                <a:lnTo>
                  <a:pt x="933" y="0"/>
                </a:lnTo>
                <a:lnTo>
                  <a:pt x="944" y="0"/>
                </a:lnTo>
                <a:lnTo>
                  <a:pt x="949" y="0"/>
                </a:lnTo>
                <a:lnTo>
                  <a:pt x="960" y="0"/>
                </a:lnTo>
                <a:lnTo>
                  <a:pt x="971" y="0"/>
                </a:lnTo>
                <a:lnTo>
                  <a:pt x="977" y="0"/>
                </a:lnTo>
                <a:lnTo>
                  <a:pt x="987" y="0"/>
                </a:lnTo>
                <a:lnTo>
                  <a:pt x="998" y="0"/>
                </a:lnTo>
                <a:lnTo>
                  <a:pt x="1008" y="0"/>
                </a:lnTo>
                <a:lnTo>
                  <a:pt x="1014" y="0"/>
                </a:lnTo>
                <a:lnTo>
                  <a:pt x="1025" y="0"/>
                </a:lnTo>
                <a:lnTo>
                  <a:pt x="1036" y="0"/>
                </a:lnTo>
                <a:lnTo>
                  <a:pt x="1041" y="0"/>
                </a:lnTo>
                <a:lnTo>
                  <a:pt x="1052" y="0"/>
                </a:lnTo>
                <a:lnTo>
                  <a:pt x="1063" y="0"/>
                </a:lnTo>
                <a:lnTo>
                  <a:pt x="1067" y="0"/>
                </a:lnTo>
                <a:lnTo>
                  <a:pt x="1078" y="0"/>
                </a:lnTo>
                <a:lnTo>
                  <a:pt x="1089" y="0"/>
                </a:lnTo>
                <a:lnTo>
                  <a:pt x="1100" y="0"/>
                </a:lnTo>
                <a:lnTo>
                  <a:pt x="1106" y="0"/>
                </a:lnTo>
                <a:lnTo>
                  <a:pt x="1116" y="0"/>
                </a:lnTo>
              </a:path>
            </a:pathLst>
          </a:custGeom>
          <a:noFill/>
          <a:ln cap="rnd" w="144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4074840" y="52783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3608" name=""/>
          <p:cNvSpPr/>
          <p:nvPr/>
        </p:nvSpPr>
        <p:spPr>
          <a:xfrm>
            <a:off x="4450320" y="526248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609" name=""/>
          <p:cNvSpPr/>
          <p:nvPr/>
        </p:nvSpPr>
        <p:spPr>
          <a:xfrm>
            <a:off x="4534920" y="527832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3610" name=""/>
          <p:cNvSpPr/>
          <p:nvPr/>
        </p:nvSpPr>
        <p:spPr>
          <a:xfrm rot="16200000">
            <a:off x="2031120" y="362484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3611" name=""/>
          <p:cNvSpPr/>
          <p:nvPr/>
        </p:nvSpPr>
        <p:spPr>
          <a:xfrm>
            <a:off x="4613400" y="3349800"/>
            <a:ext cx="188640" cy="263520"/>
          </a:xfrm>
          <a:custGeom>
            <a:avLst/>
            <a:gdLst/>
            <a:ahLst/>
            <a:rect l="l" t="t" r="r" b="b"/>
            <a:pathLst>
              <a:path w="821" h="1137">
                <a:moveTo>
                  <a:pt x="811" y="57"/>
                </a:moveTo>
                <a:lnTo>
                  <a:pt x="221" y="885"/>
                </a:lnTo>
                <a:cubicBezTo>
                  <a:pt x="210" y="900"/>
                  <a:pt x="189" y="904"/>
                  <a:pt x="174" y="893"/>
                </a:cubicBezTo>
                <a:cubicBezTo>
                  <a:pt x="159" y="882"/>
                  <a:pt x="156" y="862"/>
                  <a:pt x="166" y="847"/>
                </a:cubicBezTo>
                <a:lnTo>
                  <a:pt x="756" y="18"/>
                </a:lnTo>
                <a:cubicBezTo>
                  <a:pt x="767" y="3"/>
                  <a:pt x="788" y="0"/>
                  <a:pt x="803" y="10"/>
                </a:cubicBezTo>
                <a:cubicBezTo>
                  <a:pt x="818" y="21"/>
                  <a:pt x="821" y="42"/>
                  <a:pt x="811" y="57"/>
                </a:cubicBezTo>
                <a:close/>
                <a:moveTo>
                  <a:pt x="395" y="928"/>
                </a:moveTo>
                <a:lnTo>
                  <a:pt x="0" y="1137"/>
                </a:lnTo>
                <a:lnTo>
                  <a:pt x="69" y="696"/>
                </a:lnTo>
                <a:lnTo>
                  <a:pt x="395" y="9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4808880" y="3149640"/>
            <a:ext cx="98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eping wave</a:t>
            </a:r>
            <a:endParaRPr b="0" lang="en-US" sz="1200" spc="-1" strike="noStrike">
              <a:solidFill>
                <a:srgbClr val="000000"/>
              </a:solidFill>
              <a:latin typeface="Times New Roman"/>
            </a:endParaRPr>
          </a:p>
        </p:txBody>
      </p:sp>
      <p:sp>
        <p:nvSpPr>
          <p:cNvPr id="3613" name=""/>
          <p:cNvSpPr/>
          <p:nvPr/>
        </p:nvSpPr>
        <p:spPr>
          <a:xfrm>
            <a:off x="2840040" y="2589120"/>
            <a:ext cx="3716280" cy="21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2840040" y="2589120"/>
            <a:ext cx="3716280" cy="218592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2840040" y="2589120"/>
            <a:ext cx="371628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6" name=""/>
          <p:cNvSpPr/>
          <p:nvPr/>
        </p:nvSpPr>
        <p:spPr>
          <a:xfrm>
            <a:off x="2840040" y="2589120"/>
            <a:ext cx="3716280" cy="2185920"/>
          </a:xfrm>
          <a:custGeom>
            <a:avLst/>
            <a:gdLst/>
            <a:ahLst/>
            <a:rect l="l" t="t" r="r" b="b"/>
            <a:pathLst>
              <a:path w="2341" h="1377">
                <a:moveTo>
                  <a:pt x="0" y="1377"/>
                </a:moveTo>
                <a:lnTo>
                  <a:pt x="2341" y="1377"/>
                </a:lnTo>
                <a:lnTo>
                  <a:pt x="234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flipV="1">
            <a:off x="2840040" y="2589120"/>
            <a:ext cx="1440" cy="218592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flipV="1">
            <a:off x="2840040" y="47318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9" name=""/>
          <p:cNvSpPr/>
          <p:nvPr/>
        </p:nvSpPr>
        <p:spPr>
          <a:xfrm>
            <a:off x="2840040" y="2589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0" name=""/>
          <p:cNvSpPr/>
          <p:nvPr/>
        </p:nvSpPr>
        <p:spPr>
          <a:xfrm>
            <a:off x="2779560" y="48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621" name=""/>
          <p:cNvSpPr/>
          <p:nvPr/>
        </p:nvSpPr>
        <p:spPr>
          <a:xfrm>
            <a:off x="283140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22" name=""/>
          <p:cNvSpPr/>
          <p:nvPr/>
        </p:nvSpPr>
        <p:spPr>
          <a:xfrm flipV="1">
            <a:off x="357660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3" name=""/>
          <p:cNvSpPr/>
          <p:nvPr/>
        </p:nvSpPr>
        <p:spPr>
          <a:xfrm>
            <a:off x="357660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4" name=""/>
          <p:cNvSpPr/>
          <p:nvPr/>
        </p:nvSpPr>
        <p:spPr>
          <a:xfrm>
            <a:off x="3465360" y="48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625" name=""/>
          <p:cNvSpPr/>
          <p:nvPr/>
        </p:nvSpPr>
        <p:spPr>
          <a:xfrm>
            <a:off x="351504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626" name=""/>
          <p:cNvSpPr/>
          <p:nvPr/>
        </p:nvSpPr>
        <p:spPr>
          <a:xfrm flipV="1">
            <a:off x="432108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7" name=""/>
          <p:cNvSpPr/>
          <p:nvPr/>
        </p:nvSpPr>
        <p:spPr>
          <a:xfrm>
            <a:off x="432108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8" name=""/>
          <p:cNvSpPr/>
          <p:nvPr/>
        </p:nvSpPr>
        <p:spPr>
          <a:xfrm>
            <a:off x="429480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629" name=""/>
          <p:cNvSpPr/>
          <p:nvPr/>
        </p:nvSpPr>
        <p:spPr>
          <a:xfrm flipV="1">
            <a:off x="5064120" y="4731840"/>
            <a:ext cx="32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0" name=""/>
          <p:cNvSpPr/>
          <p:nvPr/>
        </p:nvSpPr>
        <p:spPr>
          <a:xfrm>
            <a:off x="5064120" y="2589120"/>
            <a:ext cx="32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1" name=""/>
          <p:cNvSpPr/>
          <p:nvPr/>
        </p:nvSpPr>
        <p:spPr>
          <a:xfrm>
            <a:off x="498636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632" name=""/>
          <p:cNvSpPr/>
          <p:nvPr/>
        </p:nvSpPr>
        <p:spPr>
          <a:xfrm flipV="1">
            <a:off x="5811840" y="4731840"/>
            <a:ext cx="144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3" name=""/>
          <p:cNvSpPr/>
          <p:nvPr/>
        </p:nvSpPr>
        <p:spPr>
          <a:xfrm>
            <a:off x="5811840" y="2589120"/>
            <a:ext cx="144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4" name=""/>
          <p:cNvSpPr/>
          <p:nvPr/>
        </p:nvSpPr>
        <p:spPr>
          <a:xfrm>
            <a:off x="5784120" y="4878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35" name=""/>
          <p:cNvSpPr/>
          <p:nvPr/>
        </p:nvSpPr>
        <p:spPr>
          <a:xfrm flipV="1">
            <a:off x="6556320" y="4731840"/>
            <a:ext cx="1800" cy="42840"/>
          </a:xfrm>
          <a:prstGeom prst="line">
            <a:avLst/>
          </a:prstGeom>
          <a:ln cap="rnd"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6" name=""/>
          <p:cNvSpPr/>
          <p:nvPr/>
        </p:nvSpPr>
        <p:spPr>
          <a:xfrm>
            <a:off x="6556320" y="2589120"/>
            <a:ext cx="1800" cy="31680"/>
          </a:xfrm>
          <a:prstGeom prst="line">
            <a:avLst/>
          </a:prstGeom>
          <a:ln cap="rnd"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7" name=""/>
          <p:cNvSpPr/>
          <p:nvPr/>
        </p:nvSpPr>
        <p:spPr>
          <a:xfrm>
            <a:off x="6478560" y="4878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638" name=""/>
          <p:cNvSpPr/>
          <p:nvPr/>
        </p:nvSpPr>
        <p:spPr>
          <a:xfrm>
            <a:off x="2840040" y="477504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9" name=""/>
          <p:cNvSpPr/>
          <p:nvPr/>
        </p:nvSpPr>
        <p:spPr>
          <a:xfrm flipH="1">
            <a:off x="6513120" y="477504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0" name=""/>
          <p:cNvSpPr/>
          <p:nvPr/>
        </p:nvSpPr>
        <p:spPr>
          <a:xfrm>
            <a:off x="2593800" y="47131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641" name=""/>
          <p:cNvSpPr/>
          <p:nvPr/>
        </p:nvSpPr>
        <p:spPr>
          <a:xfrm>
            <a:off x="2643480" y="4713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642" name=""/>
          <p:cNvSpPr/>
          <p:nvPr/>
        </p:nvSpPr>
        <p:spPr>
          <a:xfrm>
            <a:off x="2840040" y="440532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3" name=""/>
          <p:cNvSpPr/>
          <p:nvPr/>
        </p:nvSpPr>
        <p:spPr>
          <a:xfrm flipH="1">
            <a:off x="6513120" y="4405320"/>
            <a:ext cx="42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4" name=""/>
          <p:cNvSpPr/>
          <p:nvPr/>
        </p:nvSpPr>
        <p:spPr>
          <a:xfrm>
            <a:off x="2593800" y="4344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645" name=""/>
          <p:cNvSpPr/>
          <p:nvPr/>
        </p:nvSpPr>
        <p:spPr>
          <a:xfrm>
            <a:off x="2643480" y="4344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646" name=""/>
          <p:cNvSpPr/>
          <p:nvPr/>
        </p:nvSpPr>
        <p:spPr>
          <a:xfrm>
            <a:off x="2840040" y="40449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7" name=""/>
          <p:cNvSpPr/>
          <p:nvPr/>
        </p:nvSpPr>
        <p:spPr>
          <a:xfrm flipH="1">
            <a:off x="6513120" y="404496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8" name=""/>
          <p:cNvSpPr/>
          <p:nvPr/>
        </p:nvSpPr>
        <p:spPr>
          <a:xfrm>
            <a:off x="2593800" y="39844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649" name=""/>
          <p:cNvSpPr/>
          <p:nvPr/>
        </p:nvSpPr>
        <p:spPr>
          <a:xfrm>
            <a:off x="2643480" y="3984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650" name=""/>
          <p:cNvSpPr/>
          <p:nvPr/>
        </p:nvSpPr>
        <p:spPr>
          <a:xfrm>
            <a:off x="2840040" y="36766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1" name=""/>
          <p:cNvSpPr/>
          <p:nvPr/>
        </p:nvSpPr>
        <p:spPr>
          <a:xfrm flipH="1">
            <a:off x="6513120" y="367668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2" name=""/>
          <p:cNvSpPr/>
          <p:nvPr/>
        </p:nvSpPr>
        <p:spPr>
          <a:xfrm>
            <a:off x="2686680" y="361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653" name=""/>
          <p:cNvSpPr/>
          <p:nvPr/>
        </p:nvSpPr>
        <p:spPr>
          <a:xfrm>
            <a:off x="2840040" y="331776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4" name=""/>
          <p:cNvSpPr/>
          <p:nvPr/>
        </p:nvSpPr>
        <p:spPr>
          <a:xfrm flipH="1">
            <a:off x="6513120" y="331776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5" name=""/>
          <p:cNvSpPr/>
          <p:nvPr/>
        </p:nvSpPr>
        <p:spPr>
          <a:xfrm>
            <a:off x="2627640" y="3255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656" name=""/>
          <p:cNvSpPr/>
          <p:nvPr/>
        </p:nvSpPr>
        <p:spPr>
          <a:xfrm>
            <a:off x="2840040" y="294804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7" name=""/>
          <p:cNvSpPr/>
          <p:nvPr/>
        </p:nvSpPr>
        <p:spPr>
          <a:xfrm flipH="1">
            <a:off x="6513120" y="2948040"/>
            <a:ext cx="428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627640" y="2887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659" name=""/>
          <p:cNvSpPr/>
          <p:nvPr/>
        </p:nvSpPr>
        <p:spPr>
          <a:xfrm>
            <a:off x="2840040" y="2589120"/>
            <a:ext cx="349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0" name=""/>
          <p:cNvSpPr/>
          <p:nvPr/>
        </p:nvSpPr>
        <p:spPr>
          <a:xfrm flipH="1">
            <a:off x="6513120" y="2589120"/>
            <a:ext cx="4284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1" name=""/>
          <p:cNvSpPr/>
          <p:nvPr/>
        </p:nvSpPr>
        <p:spPr>
          <a:xfrm>
            <a:off x="2627640" y="252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662" name=""/>
          <p:cNvSpPr/>
          <p:nvPr/>
        </p:nvSpPr>
        <p:spPr>
          <a:xfrm>
            <a:off x="2865600" y="2879640"/>
            <a:ext cx="1849320" cy="1774800"/>
          </a:xfrm>
          <a:custGeom>
            <a:avLst/>
            <a:gdLst/>
            <a:ahLst/>
            <a:rect l="l" t="t" r="r" b="b"/>
            <a:pathLst>
              <a:path w="1165" h="1118">
                <a:moveTo>
                  <a:pt x="0" y="502"/>
                </a:moveTo>
                <a:lnTo>
                  <a:pt x="10" y="502"/>
                </a:lnTo>
                <a:lnTo>
                  <a:pt x="21" y="502"/>
                </a:lnTo>
                <a:lnTo>
                  <a:pt x="27" y="502"/>
                </a:lnTo>
                <a:lnTo>
                  <a:pt x="37" y="502"/>
                </a:lnTo>
                <a:lnTo>
                  <a:pt x="48" y="502"/>
                </a:lnTo>
                <a:lnTo>
                  <a:pt x="59" y="502"/>
                </a:lnTo>
                <a:lnTo>
                  <a:pt x="65" y="502"/>
                </a:lnTo>
                <a:lnTo>
                  <a:pt x="76" y="502"/>
                </a:lnTo>
                <a:lnTo>
                  <a:pt x="87" y="502"/>
                </a:lnTo>
                <a:lnTo>
                  <a:pt x="92" y="502"/>
                </a:lnTo>
                <a:lnTo>
                  <a:pt x="102" y="502"/>
                </a:lnTo>
                <a:lnTo>
                  <a:pt x="113" y="502"/>
                </a:lnTo>
                <a:lnTo>
                  <a:pt x="118" y="502"/>
                </a:lnTo>
                <a:lnTo>
                  <a:pt x="129" y="502"/>
                </a:lnTo>
                <a:lnTo>
                  <a:pt x="140" y="502"/>
                </a:lnTo>
                <a:lnTo>
                  <a:pt x="151" y="502"/>
                </a:lnTo>
                <a:lnTo>
                  <a:pt x="156" y="502"/>
                </a:lnTo>
                <a:lnTo>
                  <a:pt x="167" y="502"/>
                </a:lnTo>
                <a:lnTo>
                  <a:pt x="178" y="502"/>
                </a:lnTo>
                <a:lnTo>
                  <a:pt x="184" y="502"/>
                </a:lnTo>
                <a:lnTo>
                  <a:pt x="195" y="502"/>
                </a:lnTo>
                <a:lnTo>
                  <a:pt x="206" y="502"/>
                </a:lnTo>
                <a:lnTo>
                  <a:pt x="210" y="502"/>
                </a:lnTo>
                <a:lnTo>
                  <a:pt x="221" y="502"/>
                </a:lnTo>
                <a:lnTo>
                  <a:pt x="232" y="502"/>
                </a:lnTo>
                <a:lnTo>
                  <a:pt x="243" y="502"/>
                </a:lnTo>
                <a:lnTo>
                  <a:pt x="248" y="502"/>
                </a:lnTo>
                <a:lnTo>
                  <a:pt x="259" y="502"/>
                </a:lnTo>
                <a:lnTo>
                  <a:pt x="270" y="502"/>
                </a:lnTo>
                <a:lnTo>
                  <a:pt x="275" y="502"/>
                </a:lnTo>
                <a:lnTo>
                  <a:pt x="285" y="502"/>
                </a:lnTo>
                <a:lnTo>
                  <a:pt x="296" y="502"/>
                </a:lnTo>
                <a:lnTo>
                  <a:pt x="302" y="502"/>
                </a:lnTo>
                <a:lnTo>
                  <a:pt x="313" y="502"/>
                </a:lnTo>
                <a:lnTo>
                  <a:pt x="323" y="502"/>
                </a:lnTo>
                <a:lnTo>
                  <a:pt x="329" y="502"/>
                </a:lnTo>
                <a:lnTo>
                  <a:pt x="340" y="502"/>
                </a:lnTo>
                <a:lnTo>
                  <a:pt x="351" y="502"/>
                </a:lnTo>
                <a:lnTo>
                  <a:pt x="362" y="502"/>
                </a:lnTo>
                <a:lnTo>
                  <a:pt x="367" y="502"/>
                </a:lnTo>
                <a:lnTo>
                  <a:pt x="378" y="502"/>
                </a:lnTo>
                <a:lnTo>
                  <a:pt x="388" y="502"/>
                </a:lnTo>
                <a:lnTo>
                  <a:pt x="393" y="502"/>
                </a:lnTo>
                <a:lnTo>
                  <a:pt x="404" y="502"/>
                </a:lnTo>
                <a:lnTo>
                  <a:pt x="415" y="502"/>
                </a:lnTo>
                <a:lnTo>
                  <a:pt x="421" y="502"/>
                </a:lnTo>
                <a:lnTo>
                  <a:pt x="431" y="502"/>
                </a:lnTo>
                <a:lnTo>
                  <a:pt x="442" y="502"/>
                </a:lnTo>
                <a:lnTo>
                  <a:pt x="453" y="502"/>
                </a:lnTo>
                <a:lnTo>
                  <a:pt x="459" y="502"/>
                </a:lnTo>
                <a:lnTo>
                  <a:pt x="470" y="502"/>
                </a:lnTo>
                <a:lnTo>
                  <a:pt x="480" y="502"/>
                </a:lnTo>
                <a:lnTo>
                  <a:pt x="485" y="502"/>
                </a:lnTo>
                <a:lnTo>
                  <a:pt x="496" y="502"/>
                </a:lnTo>
                <a:lnTo>
                  <a:pt x="507" y="502"/>
                </a:lnTo>
                <a:lnTo>
                  <a:pt x="512" y="502"/>
                </a:lnTo>
                <a:lnTo>
                  <a:pt x="523" y="502"/>
                </a:lnTo>
                <a:lnTo>
                  <a:pt x="534" y="502"/>
                </a:lnTo>
                <a:lnTo>
                  <a:pt x="545" y="502"/>
                </a:lnTo>
                <a:lnTo>
                  <a:pt x="550" y="502"/>
                </a:lnTo>
                <a:lnTo>
                  <a:pt x="560" y="502"/>
                </a:lnTo>
                <a:lnTo>
                  <a:pt x="571" y="502"/>
                </a:lnTo>
                <a:lnTo>
                  <a:pt x="577" y="502"/>
                </a:lnTo>
                <a:lnTo>
                  <a:pt x="588" y="502"/>
                </a:lnTo>
                <a:lnTo>
                  <a:pt x="598" y="502"/>
                </a:lnTo>
                <a:lnTo>
                  <a:pt x="604" y="502"/>
                </a:lnTo>
                <a:lnTo>
                  <a:pt x="615" y="502"/>
                </a:lnTo>
                <a:lnTo>
                  <a:pt x="626" y="502"/>
                </a:lnTo>
                <a:lnTo>
                  <a:pt x="631" y="502"/>
                </a:lnTo>
                <a:lnTo>
                  <a:pt x="642" y="502"/>
                </a:lnTo>
                <a:lnTo>
                  <a:pt x="653" y="502"/>
                </a:lnTo>
                <a:lnTo>
                  <a:pt x="663" y="502"/>
                </a:lnTo>
                <a:lnTo>
                  <a:pt x="668" y="502"/>
                </a:lnTo>
                <a:lnTo>
                  <a:pt x="679" y="502"/>
                </a:lnTo>
                <a:lnTo>
                  <a:pt x="690" y="502"/>
                </a:lnTo>
                <a:lnTo>
                  <a:pt x="696" y="502"/>
                </a:lnTo>
                <a:lnTo>
                  <a:pt x="707" y="502"/>
                </a:lnTo>
                <a:lnTo>
                  <a:pt x="717" y="502"/>
                </a:lnTo>
                <a:lnTo>
                  <a:pt x="723" y="502"/>
                </a:lnTo>
                <a:lnTo>
                  <a:pt x="734" y="502"/>
                </a:lnTo>
                <a:lnTo>
                  <a:pt x="745" y="502"/>
                </a:lnTo>
                <a:lnTo>
                  <a:pt x="756" y="502"/>
                </a:lnTo>
                <a:lnTo>
                  <a:pt x="760" y="497"/>
                </a:lnTo>
                <a:lnTo>
                  <a:pt x="771" y="502"/>
                </a:lnTo>
                <a:lnTo>
                  <a:pt x="782" y="486"/>
                </a:lnTo>
                <a:lnTo>
                  <a:pt x="787" y="513"/>
                </a:lnTo>
                <a:lnTo>
                  <a:pt x="798" y="557"/>
                </a:lnTo>
                <a:lnTo>
                  <a:pt x="809" y="405"/>
                </a:lnTo>
                <a:lnTo>
                  <a:pt x="815" y="411"/>
                </a:lnTo>
                <a:lnTo>
                  <a:pt x="825" y="946"/>
                </a:lnTo>
                <a:lnTo>
                  <a:pt x="835" y="1118"/>
                </a:lnTo>
                <a:lnTo>
                  <a:pt x="846" y="427"/>
                </a:lnTo>
                <a:lnTo>
                  <a:pt x="852" y="0"/>
                </a:lnTo>
                <a:lnTo>
                  <a:pt x="863" y="308"/>
                </a:lnTo>
                <a:lnTo>
                  <a:pt x="874" y="508"/>
                </a:lnTo>
                <a:lnTo>
                  <a:pt x="879" y="427"/>
                </a:lnTo>
                <a:lnTo>
                  <a:pt x="890" y="427"/>
                </a:lnTo>
                <a:lnTo>
                  <a:pt x="901" y="470"/>
                </a:lnTo>
                <a:lnTo>
                  <a:pt x="906" y="470"/>
                </a:lnTo>
                <a:lnTo>
                  <a:pt x="917" y="481"/>
                </a:lnTo>
                <a:lnTo>
                  <a:pt x="928" y="486"/>
                </a:lnTo>
                <a:lnTo>
                  <a:pt x="932" y="486"/>
                </a:lnTo>
                <a:lnTo>
                  <a:pt x="943" y="491"/>
                </a:lnTo>
                <a:lnTo>
                  <a:pt x="954" y="497"/>
                </a:lnTo>
                <a:lnTo>
                  <a:pt x="965" y="497"/>
                </a:lnTo>
                <a:lnTo>
                  <a:pt x="971" y="502"/>
                </a:lnTo>
                <a:lnTo>
                  <a:pt x="982" y="502"/>
                </a:lnTo>
                <a:lnTo>
                  <a:pt x="992" y="502"/>
                </a:lnTo>
                <a:lnTo>
                  <a:pt x="998" y="508"/>
                </a:lnTo>
                <a:lnTo>
                  <a:pt x="1009" y="508"/>
                </a:lnTo>
                <a:lnTo>
                  <a:pt x="1020" y="508"/>
                </a:lnTo>
                <a:lnTo>
                  <a:pt x="1024" y="508"/>
                </a:lnTo>
                <a:lnTo>
                  <a:pt x="1035" y="508"/>
                </a:lnTo>
                <a:lnTo>
                  <a:pt x="1046" y="491"/>
                </a:lnTo>
                <a:lnTo>
                  <a:pt x="1057" y="481"/>
                </a:lnTo>
                <a:lnTo>
                  <a:pt x="1062" y="497"/>
                </a:lnTo>
                <a:lnTo>
                  <a:pt x="1073" y="519"/>
                </a:lnTo>
                <a:lnTo>
                  <a:pt x="1084" y="519"/>
                </a:lnTo>
                <a:lnTo>
                  <a:pt x="1090" y="519"/>
                </a:lnTo>
                <a:lnTo>
                  <a:pt x="1101" y="513"/>
                </a:lnTo>
                <a:lnTo>
                  <a:pt x="1111" y="513"/>
                </a:lnTo>
                <a:lnTo>
                  <a:pt x="1117" y="513"/>
                </a:lnTo>
                <a:lnTo>
                  <a:pt x="1127" y="513"/>
                </a:lnTo>
                <a:lnTo>
                  <a:pt x="1138" y="513"/>
                </a:lnTo>
                <a:lnTo>
                  <a:pt x="1149" y="508"/>
                </a:lnTo>
                <a:lnTo>
                  <a:pt x="1154" y="508"/>
                </a:lnTo>
                <a:lnTo>
                  <a:pt x="1165" y="508"/>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4714920" y="3676680"/>
            <a:ext cx="1771560" cy="9360"/>
          </a:xfrm>
          <a:custGeom>
            <a:avLst/>
            <a:gdLst/>
            <a:ahLst/>
            <a:rect l="l" t="t" r="r" b="b"/>
            <a:pathLst>
              <a:path w="1116" h="6">
                <a:moveTo>
                  <a:pt x="0" y="6"/>
                </a:moveTo>
                <a:lnTo>
                  <a:pt x="11" y="6"/>
                </a:lnTo>
                <a:lnTo>
                  <a:pt x="16" y="6"/>
                </a:lnTo>
                <a:lnTo>
                  <a:pt x="27" y="6"/>
                </a:lnTo>
                <a:lnTo>
                  <a:pt x="38" y="6"/>
                </a:lnTo>
                <a:lnTo>
                  <a:pt x="44" y="6"/>
                </a:lnTo>
                <a:lnTo>
                  <a:pt x="53" y="0"/>
                </a:lnTo>
                <a:lnTo>
                  <a:pt x="64" y="0"/>
                </a:lnTo>
                <a:lnTo>
                  <a:pt x="70" y="0"/>
                </a:lnTo>
                <a:lnTo>
                  <a:pt x="81" y="0"/>
                </a:lnTo>
                <a:lnTo>
                  <a:pt x="92" y="0"/>
                </a:lnTo>
                <a:lnTo>
                  <a:pt x="103" y="0"/>
                </a:lnTo>
                <a:lnTo>
                  <a:pt x="108" y="0"/>
                </a:lnTo>
                <a:lnTo>
                  <a:pt x="119" y="0"/>
                </a:lnTo>
                <a:lnTo>
                  <a:pt x="130" y="0"/>
                </a:lnTo>
                <a:lnTo>
                  <a:pt x="135" y="0"/>
                </a:lnTo>
                <a:lnTo>
                  <a:pt x="145" y="0"/>
                </a:lnTo>
                <a:lnTo>
                  <a:pt x="156" y="0"/>
                </a:lnTo>
                <a:lnTo>
                  <a:pt x="161" y="0"/>
                </a:lnTo>
                <a:lnTo>
                  <a:pt x="172" y="0"/>
                </a:lnTo>
                <a:lnTo>
                  <a:pt x="183" y="0"/>
                </a:lnTo>
                <a:lnTo>
                  <a:pt x="194" y="0"/>
                </a:lnTo>
                <a:lnTo>
                  <a:pt x="200" y="0"/>
                </a:lnTo>
                <a:lnTo>
                  <a:pt x="211" y="0"/>
                </a:lnTo>
                <a:lnTo>
                  <a:pt x="220" y="0"/>
                </a:lnTo>
                <a:lnTo>
                  <a:pt x="227" y="0"/>
                </a:lnTo>
                <a:lnTo>
                  <a:pt x="238" y="0"/>
                </a:lnTo>
                <a:lnTo>
                  <a:pt x="248" y="0"/>
                </a:lnTo>
                <a:lnTo>
                  <a:pt x="253" y="0"/>
                </a:lnTo>
                <a:lnTo>
                  <a:pt x="264" y="0"/>
                </a:lnTo>
                <a:lnTo>
                  <a:pt x="275" y="0"/>
                </a:lnTo>
                <a:lnTo>
                  <a:pt x="286" y="0"/>
                </a:lnTo>
                <a:lnTo>
                  <a:pt x="291" y="0"/>
                </a:lnTo>
                <a:lnTo>
                  <a:pt x="302" y="0"/>
                </a:lnTo>
                <a:lnTo>
                  <a:pt x="313" y="0"/>
                </a:lnTo>
                <a:lnTo>
                  <a:pt x="319" y="0"/>
                </a:lnTo>
                <a:lnTo>
                  <a:pt x="328" y="0"/>
                </a:lnTo>
                <a:lnTo>
                  <a:pt x="339" y="0"/>
                </a:lnTo>
                <a:lnTo>
                  <a:pt x="345" y="0"/>
                </a:lnTo>
                <a:lnTo>
                  <a:pt x="356" y="0"/>
                </a:lnTo>
                <a:lnTo>
                  <a:pt x="367" y="0"/>
                </a:lnTo>
                <a:lnTo>
                  <a:pt x="372" y="0"/>
                </a:lnTo>
                <a:lnTo>
                  <a:pt x="383" y="0"/>
                </a:lnTo>
                <a:lnTo>
                  <a:pt x="394" y="0"/>
                </a:lnTo>
                <a:lnTo>
                  <a:pt x="405" y="0"/>
                </a:lnTo>
                <a:lnTo>
                  <a:pt x="409" y="0"/>
                </a:lnTo>
                <a:lnTo>
                  <a:pt x="420" y="0"/>
                </a:lnTo>
                <a:lnTo>
                  <a:pt x="431" y="0"/>
                </a:lnTo>
                <a:lnTo>
                  <a:pt x="437" y="0"/>
                </a:lnTo>
                <a:lnTo>
                  <a:pt x="447" y="0"/>
                </a:lnTo>
                <a:lnTo>
                  <a:pt x="458" y="0"/>
                </a:lnTo>
                <a:lnTo>
                  <a:pt x="464" y="0"/>
                </a:lnTo>
                <a:lnTo>
                  <a:pt x="475" y="0"/>
                </a:lnTo>
                <a:lnTo>
                  <a:pt x="486" y="0"/>
                </a:lnTo>
                <a:lnTo>
                  <a:pt x="496" y="0"/>
                </a:lnTo>
                <a:lnTo>
                  <a:pt x="502" y="0"/>
                </a:lnTo>
                <a:lnTo>
                  <a:pt x="513" y="0"/>
                </a:lnTo>
                <a:lnTo>
                  <a:pt x="523" y="0"/>
                </a:lnTo>
                <a:lnTo>
                  <a:pt x="528" y="0"/>
                </a:lnTo>
                <a:lnTo>
                  <a:pt x="539" y="0"/>
                </a:lnTo>
                <a:lnTo>
                  <a:pt x="550" y="0"/>
                </a:lnTo>
                <a:lnTo>
                  <a:pt x="555" y="0"/>
                </a:lnTo>
                <a:lnTo>
                  <a:pt x="566" y="0"/>
                </a:lnTo>
                <a:lnTo>
                  <a:pt x="577" y="0"/>
                </a:lnTo>
                <a:lnTo>
                  <a:pt x="588" y="0"/>
                </a:lnTo>
                <a:lnTo>
                  <a:pt x="594" y="0"/>
                </a:lnTo>
                <a:lnTo>
                  <a:pt x="605" y="0"/>
                </a:lnTo>
                <a:lnTo>
                  <a:pt x="614" y="0"/>
                </a:lnTo>
                <a:lnTo>
                  <a:pt x="620" y="0"/>
                </a:lnTo>
                <a:lnTo>
                  <a:pt x="631" y="0"/>
                </a:lnTo>
                <a:lnTo>
                  <a:pt x="642" y="0"/>
                </a:lnTo>
                <a:lnTo>
                  <a:pt x="647" y="0"/>
                </a:lnTo>
                <a:lnTo>
                  <a:pt x="658" y="0"/>
                </a:lnTo>
                <a:lnTo>
                  <a:pt x="669" y="0"/>
                </a:lnTo>
                <a:lnTo>
                  <a:pt x="674" y="0"/>
                </a:lnTo>
                <a:lnTo>
                  <a:pt x="685" y="0"/>
                </a:lnTo>
                <a:lnTo>
                  <a:pt x="695" y="0"/>
                </a:lnTo>
                <a:lnTo>
                  <a:pt x="706" y="0"/>
                </a:lnTo>
                <a:lnTo>
                  <a:pt x="712" y="0"/>
                </a:lnTo>
                <a:lnTo>
                  <a:pt x="722" y="0"/>
                </a:lnTo>
                <a:lnTo>
                  <a:pt x="733" y="0"/>
                </a:lnTo>
                <a:lnTo>
                  <a:pt x="739" y="0"/>
                </a:lnTo>
                <a:lnTo>
                  <a:pt x="750" y="0"/>
                </a:lnTo>
                <a:lnTo>
                  <a:pt x="761" y="0"/>
                </a:lnTo>
                <a:lnTo>
                  <a:pt x="766" y="0"/>
                </a:lnTo>
                <a:lnTo>
                  <a:pt x="777" y="0"/>
                </a:lnTo>
                <a:lnTo>
                  <a:pt x="788" y="0"/>
                </a:lnTo>
                <a:lnTo>
                  <a:pt x="798" y="0"/>
                </a:lnTo>
                <a:lnTo>
                  <a:pt x="803" y="0"/>
                </a:lnTo>
                <a:lnTo>
                  <a:pt x="814" y="0"/>
                </a:lnTo>
                <a:lnTo>
                  <a:pt x="825" y="0"/>
                </a:lnTo>
                <a:lnTo>
                  <a:pt x="830" y="0"/>
                </a:lnTo>
                <a:lnTo>
                  <a:pt x="841" y="0"/>
                </a:lnTo>
                <a:lnTo>
                  <a:pt x="852" y="0"/>
                </a:lnTo>
                <a:lnTo>
                  <a:pt x="858" y="0"/>
                </a:lnTo>
                <a:lnTo>
                  <a:pt x="869" y="0"/>
                </a:lnTo>
                <a:lnTo>
                  <a:pt x="880" y="0"/>
                </a:lnTo>
                <a:lnTo>
                  <a:pt x="889" y="0"/>
                </a:lnTo>
                <a:lnTo>
                  <a:pt x="895" y="0"/>
                </a:lnTo>
                <a:lnTo>
                  <a:pt x="906" y="0"/>
                </a:lnTo>
                <a:lnTo>
                  <a:pt x="917" y="0"/>
                </a:lnTo>
                <a:lnTo>
                  <a:pt x="922" y="0"/>
                </a:lnTo>
                <a:lnTo>
                  <a:pt x="933" y="0"/>
                </a:lnTo>
                <a:lnTo>
                  <a:pt x="944" y="0"/>
                </a:lnTo>
                <a:lnTo>
                  <a:pt x="949" y="0"/>
                </a:lnTo>
                <a:lnTo>
                  <a:pt x="960" y="0"/>
                </a:lnTo>
                <a:lnTo>
                  <a:pt x="971" y="0"/>
                </a:lnTo>
                <a:lnTo>
                  <a:pt x="977" y="0"/>
                </a:lnTo>
                <a:lnTo>
                  <a:pt x="987" y="0"/>
                </a:lnTo>
                <a:lnTo>
                  <a:pt x="998" y="0"/>
                </a:lnTo>
                <a:lnTo>
                  <a:pt x="1008" y="0"/>
                </a:lnTo>
                <a:lnTo>
                  <a:pt x="1014" y="0"/>
                </a:lnTo>
                <a:lnTo>
                  <a:pt x="1025" y="0"/>
                </a:lnTo>
                <a:lnTo>
                  <a:pt x="1036" y="0"/>
                </a:lnTo>
                <a:lnTo>
                  <a:pt x="1041" y="0"/>
                </a:lnTo>
                <a:lnTo>
                  <a:pt x="1052" y="0"/>
                </a:lnTo>
                <a:lnTo>
                  <a:pt x="1063" y="0"/>
                </a:lnTo>
                <a:lnTo>
                  <a:pt x="1067" y="0"/>
                </a:lnTo>
                <a:lnTo>
                  <a:pt x="1078" y="0"/>
                </a:lnTo>
                <a:lnTo>
                  <a:pt x="1089" y="0"/>
                </a:lnTo>
                <a:lnTo>
                  <a:pt x="1100" y="0"/>
                </a:lnTo>
                <a:lnTo>
                  <a:pt x="1106" y="0"/>
                </a:lnTo>
                <a:lnTo>
                  <a:pt x="1116" y="0"/>
                </a:lnTo>
              </a:path>
            </a:pathLst>
          </a:custGeom>
          <a:noFill/>
          <a:ln cap="rnd" w="1908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4" name=""/>
          <p:cNvSpPr/>
          <p:nvPr/>
        </p:nvSpPr>
        <p:spPr>
          <a:xfrm>
            <a:off x="4074840" y="52783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Times New Roman"/>
            </a:endParaRPr>
          </a:p>
        </p:txBody>
      </p:sp>
      <p:sp>
        <p:nvSpPr>
          <p:cNvPr id="3665" name=""/>
          <p:cNvSpPr/>
          <p:nvPr/>
        </p:nvSpPr>
        <p:spPr>
          <a:xfrm>
            <a:off x="4450320" y="526248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666" name=""/>
          <p:cNvSpPr/>
          <p:nvPr/>
        </p:nvSpPr>
        <p:spPr>
          <a:xfrm>
            <a:off x="4534920" y="527832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a:t>
            </a:r>
            <a:endParaRPr b="0" lang="en-US" sz="1200" spc="-1" strike="noStrike">
              <a:solidFill>
                <a:srgbClr val="000000"/>
              </a:solidFill>
              <a:latin typeface="Times New Roman"/>
            </a:endParaRPr>
          </a:p>
        </p:txBody>
      </p:sp>
      <p:sp>
        <p:nvSpPr>
          <p:cNvPr id="3667" name=""/>
          <p:cNvSpPr/>
          <p:nvPr/>
        </p:nvSpPr>
        <p:spPr>
          <a:xfrm rot="16200000">
            <a:off x="2031120" y="362484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Times New Roman"/>
            </a:endParaRPr>
          </a:p>
        </p:txBody>
      </p:sp>
      <p:sp>
        <p:nvSpPr>
          <p:cNvPr id="3668" name=""/>
          <p:cNvSpPr/>
          <p:nvPr/>
        </p:nvSpPr>
        <p:spPr>
          <a:xfrm>
            <a:off x="4613400" y="3349800"/>
            <a:ext cx="188640" cy="263520"/>
          </a:xfrm>
          <a:custGeom>
            <a:avLst/>
            <a:gdLst/>
            <a:ahLst/>
            <a:rect l="l" t="t" r="r" b="b"/>
            <a:pathLst>
              <a:path w="821" h="1137">
                <a:moveTo>
                  <a:pt x="811" y="57"/>
                </a:moveTo>
                <a:lnTo>
                  <a:pt x="221" y="885"/>
                </a:lnTo>
                <a:cubicBezTo>
                  <a:pt x="210" y="900"/>
                  <a:pt x="189" y="904"/>
                  <a:pt x="174" y="893"/>
                </a:cubicBezTo>
                <a:cubicBezTo>
                  <a:pt x="159" y="882"/>
                  <a:pt x="156" y="862"/>
                  <a:pt x="166" y="847"/>
                </a:cubicBezTo>
                <a:lnTo>
                  <a:pt x="756" y="18"/>
                </a:lnTo>
                <a:cubicBezTo>
                  <a:pt x="767" y="3"/>
                  <a:pt x="788" y="0"/>
                  <a:pt x="803" y="10"/>
                </a:cubicBezTo>
                <a:cubicBezTo>
                  <a:pt x="818" y="21"/>
                  <a:pt x="821" y="42"/>
                  <a:pt x="811" y="57"/>
                </a:cubicBezTo>
                <a:close/>
                <a:moveTo>
                  <a:pt x="395" y="928"/>
                </a:moveTo>
                <a:lnTo>
                  <a:pt x="0" y="1137"/>
                </a:lnTo>
                <a:lnTo>
                  <a:pt x="69" y="696"/>
                </a:lnTo>
                <a:lnTo>
                  <a:pt x="395" y="9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4808880" y="3149640"/>
            <a:ext cx="98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eping wav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0" name=""/>
          <p:cNvSpPr/>
          <p:nvPr/>
        </p:nvSpPr>
        <p:spPr>
          <a:xfrm>
            <a:off x="3184560" y="2890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 SDH</a:t>
            </a:r>
            <a:endParaRPr b="0" lang="en-US" sz="2400" spc="-1" strike="noStrike">
              <a:solidFill>
                <a:srgbClr val="000000"/>
              </a:solidFill>
              <a:latin typeface="Times New Roman"/>
            </a:endParaRPr>
          </a:p>
        </p:txBody>
      </p:sp>
      <p:sp>
        <p:nvSpPr>
          <p:cNvPr id="367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73" name=""/>
          <p:cNvGraphicFramePr/>
          <p:nvPr/>
        </p:nvGraphicFramePr>
        <p:xfrm>
          <a:off x="2057400" y="2133720"/>
          <a:ext cx="4191120" cy="812520"/>
        </p:xfrm>
        <a:graphic>
          <a:graphicData uri="http://schemas.openxmlformats.org/presentationml/2006/ole">
            <p:oleObj r:id="rId1" spid="">
              <p:embed/>
              <p:pic>
                <p:nvPicPr>
                  <p:cNvPr id="3674" name="" descr=""/>
                  <p:cNvPicPr/>
                  <p:nvPr/>
                </p:nvPicPr>
                <p:blipFill>
                  <a:blip r:embed="rId2"/>
                  <a:stretch/>
                </p:blipFill>
                <p:spPr>
                  <a:xfrm>
                    <a:off x="2057400" y="2133720"/>
                    <a:ext cx="4191120" cy="812520"/>
                  </a:xfrm>
                  <a:prstGeom prst="rect">
                    <a:avLst/>
                  </a:prstGeom>
                  <a:ln w="0">
                    <a:noFill/>
                  </a:ln>
                </p:spPr>
              </p:pic>
            </p:oleObj>
          </a:graphicData>
        </a:graphic>
      </p:graphicFrame>
      <p:sp>
        <p:nvSpPr>
          <p:cNvPr id="3675" name=""/>
          <p:cNvSpPr/>
          <p:nvPr/>
        </p:nvSpPr>
        <p:spPr>
          <a:xfrm>
            <a:off x="675720" y="1143000"/>
            <a:ext cx="79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4: pulse-echo SV-wave scattering of a cylindrical void</a:t>
            </a:r>
            <a:endParaRPr b="0" lang="en-US" sz="2400" spc="-1" strike="noStrike">
              <a:solidFill>
                <a:srgbClr val="000000"/>
              </a:solidFill>
              <a:latin typeface="Times New Roman"/>
            </a:endParaRPr>
          </a:p>
        </p:txBody>
      </p:sp>
      <p:graphicFrame>
        <p:nvGraphicFramePr>
          <p:cNvPr id="3676" name=""/>
          <p:cNvGraphicFramePr/>
          <p:nvPr/>
        </p:nvGraphicFramePr>
        <p:xfrm>
          <a:off x="2971800" y="3048120"/>
          <a:ext cx="2133720" cy="758880"/>
        </p:xfrm>
        <a:graphic>
          <a:graphicData uri="http://schemas.openxmlformats.org/presentationml/2006/ole">
            <p:oleObj r:id="rId3" spid="">
              <p:embed/>
              <p:pic>
                <p:nvPicPr>
                  <p:cNvPr id="3677" name="" descr=""/>
                  <p:cNvPicPr/>
                  <p:nvPr/>
                </p:nvPicPr>
                <p:blipFill>
                  <a:blip r:embed="rId4"/>
                  <a:stretch/>
                </p:blipFill>
                <p:spPr>
                  <a:xfrm>
                    <a:off x="2971800" y="3048120"/>
                    <a:ext cx="2133720" cy="758880"/>
                  </a:xfrm>
                  <a:prstGeom prst="rect">
                    <a:avLst/>
                  </a:prstGeom>
                  <a:ln w="0">
                    <a:noFill/>
                  </a:ln>
                </p:spPr>
              </p:pic>
            </p:oleObj>
          </a:graphicData>
        </a:graphic>
      </p:graphicFrame>
      <p:sp>
        <p:nvSpPr>
          <p:cNvPr id="367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79" name=""/>
          <p:cNvGraphicFramePr/>
          <p:nvPr/>
        </p:nvGraphicFramePr>
        <p:xfrm>
          <a:off x="1676520" y="4572000"/>
          <a:ext cx="4952880" cy="866880"/>
        </p:xfrm>
        <a:graphic>
          <a:graphicData uri="http://schemas.openxmlformats.org/presentationml/2006/ole">
            <p:oleObj r:id="rId5" spid="">
              <p:embed/>
              <p:pic>
                <p:nvPicPr>
                  <p:cNvPr id="3680" name="" descr=""/>
                  <p:cNvPicPr/>
                  <p:nvPr/>
                </p:nvPicPr>
                <p:blipFill>
                  <a:blip r:embed="rId6"/>
                  <a:stretch/>
                </p:blipFill>
                <p:spPr>
                  <a:xfrm>
                    <a:off x="1676520" y="4572000"/>
                    <a:ext cx="4952880" cy="8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
          <p:cNvSpPr/>
          <p:nvPr/>
        </p:nvSpPr>
        <p:spPr>
          <a:xfrm>
            <a:off x="3184560" y="289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SDH</a:t>
            </a:r>
            <a:endParaRPr b="0" lang="en-US" sz="2400" spc="-1" strike="noStrike">
              <a:solidFill>
                <a:srgbClr val="000000"/>
              </a:solidFill>
              <a:latin typeface="Times New Roman"/>
            </a:endParaRPr>
          </a:p>
        </p:txBody>
      </p:sp>
      <p:sp>
        <p:nvSpPr>
          <p:cNvPr id="3682"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1050840" y="95724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the scattering amplitude for the pulse-echo SV-wave case was:</a:t>
            </a:r>
            <a:endParaRPr b="0" lang="en-US" sz="2400" spc="-1" strike="noStrike">
              <a:solidFill>
                <a:srgbClr val="000000"/>
              </a:solidFill>
              <a:latin typeface="Times New Roman"/>
            </a:endParaRPr>
          </a:p>
        </p:txBody>
      </p:sp>
      <p:sp>
        <p:nvSpPr>
          <p:cNvPr id="3684" name=""/>
          <p:cNvSpPr/>
          <p:nvPr/>
        </p:nvSpPr>
        <p:spPr>
          <a:xfrm>
            <a:off x="2662200" y="2292480"/>
            <a:ext cx="3727440" cy="300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2662200" y="2292480"/>
            <a:ext cx="3727440" cy="3009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2662200" y="2292480"/>
            <a:ext cx="372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7" name=""/>
          <p:cNvSpPr/>
          <p:nvPr/>
        </p:nvSpPr>
        <p:spPr>
          <a:xfrm>
            <a:off x="2662200" y="5302080"/>
            <a:ext cx="3727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8" name=""/>
          <p:cNvSpPr/>
          <p:nvPr/>
        </p:nvSpPr>
        <p:spPr>
          <a:xfrm flipV="1">
            <a:off x="6389640" y="2292480"/>
            <a:ext cx="1800" cy="300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flipV="1">
            <a:off x="2662200" y="2292480"/>
            <a:ext cx="1800" cy="300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flipV="1">
            <a:off x="2662200" y="5258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1" name=""/>
          <p:cNvSpPr/>
          <p:nvPr/>
        </p:nvSpPr>
        <p:spPr>
          <a:xfrm>
            <a:off x="2662200" y="22924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2" name=""/>
          <p:cNvSpPr/>
          <p:nvPr/>
        </p:nvSpPr>
        <p:spPr>
          <a:xfrm>
            <a:off x="2628000" y="533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693" name=""/>
          <p:cNvSpPr/>
          <p:nvPr/>
        </p:nvSpPr>
        <p:spPr>
          <a:xfrm flipV="1">
            <a:off x="3400560" y="5258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4" name=""/>
          <p:cNvSpPr/>
          <p:nvPr/>
        </p:nvSpPr>
        <p:spPr>
          <a:xfrm>
            <a:off x="3400560" y="22924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5" name=""/>
          <p:cNvSpPr/>
          <p:nvPr/>
        </p:nvSpPr>
        <p:spPr>
          <a:xfrm>
            <a:off x="3366360" y="533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696" name=""/>
          <p:cNvSpPr/>
          <p:nvPr/>
        </p:nvSpPr>
        <p:spPr>
          <a:xfrm flipV="1">
            <a:off x="4148280" y="5258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7" name=""/>
          <p:cNvSpPr/>
          <p:nvPr/>
        </p:nvSpPr>
        <p:spPr>
          <a:xfrm>
            <a:off x="4148280" y="22924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8" name=""/>
          <p:cNvSpPr/>
          <p:nvPr/>
        </p:nvSpPr>
        <p:spPr>
          <a:xfrm>
            <a:off x="4112280" y="533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699" name=""/>
          <p:cNvSpPr/>
          <p:nvPr/>
        </p:nvSpPr>
        <p:spPr>
          <a:xfrm flipV="1">
            <a:off x="4896000" y="5258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0" name=""/>
          <p:cNvSpPr/>
          <p:nvPr/>
        </p:nvSpPr>
        <p:spPr>
          <a:xfrm>
            <a:off x="4896000" y="22924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1" name=""/>
          <p:cNvSpPr/>
          <p:nvPr/>
        </p:nvSpPr>
        <p:spPr>
          <a:xfrm>
            <a:off x="4860000" y="533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702" name=""/>
          <p:cNvSpPr/>
          <p:nvPr/>
        </p:nvSpPr>
        <p:spPr>
          <a:xfrm flipV="1">
            <a:off x="5641920" y="5258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3" name=""/>
          <p:cNvSpPr/>
          <p:nvPr/>
        </p:nvSpPr>
        <p:spPr>
          <a:xfrm>
            <a:off x="5641920" y="22924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4" name=""/>
          <p:cNvSpPr/>
          <p:nvPr/>
        </p:nvSpPr>
        <p:spPr>
          <a:xfrm>
            <a:off x="5607720" y="5330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3705" name=""/>
          <p:cNvSpPr/>
          <p:nvPr/>
        </p:nvSpPr>
        <p:spPr>
          <a:xfrm flipV="1">
            <a:off x="6389640" y="5258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6" name=""/>
          <p:cNvSpPr/>
          <p:nvPr/>
        </p:nvSpPr>
        <p:spPr>
          <a:xfrm>
            <a:off x="6389640" y="22924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7" name=""/>
          <p:cNvSpPr/>
          <p:nvPr/>
        </p:nvSpPr>
        <p:spPr>
          <a:xfrm>
            <a:off x="6320160" y="533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708" name=""/>
          <p:cNvSpPr/>
          <p:nvPr/>
        </p:nvSpPr>
        <p:spPr>
          <a:xfrm>
            <a:off x="2662200" y="5302080"/>
            <a:ext cx="349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9" name=""/>
          <p:cNvSpPr/>
          <p:nvPr/>
        </p:nvSpPr>
        <p:spPr>
          <a:xfrm flipH="1">
            <a:off x="6346440" y="5302080"/>
            <a:ext cx="42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0" name=""/>
          <p:cNvSpPr/>
          <p:nvPr/>
        </p:nvSpPr>
        <p:spPr>
          <a:xfrm>
            <a:off x="2494800" y="5221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711" name=""/>
          <p:cNvSpPr/>
          <p:nvPr/>
        </p:nvSpPr>
        <p:spPr>
          <a:xfrm>
            <a:off x="2662200" y="47498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2" name=""/>
          <p:cNvSpPr/>
          <p:nvPr/>
        </p:nvSpPr>
        <p:spPr>
          <a:xfrm flipH="1">
            <a:off x="6346440" y="47498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3" name=""/>
          <p:cNvSpPr/>
          <p:nvPr/>
        </p:nvSpPr>
        <p:spPr>
          <a:xfrm>
            <a:off x="2390760" y="4665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3714" name=""/>
          <p:cNvSpPr/>
          <p:nvPr/>
        </p:nvSpPr>
        <p:spPr>
          <a:xfrm>
            <a:off x="2662200" y="4203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
          <p:cNvSpPr/>
          <p:nvPr/>
        </p:nvSpPr>
        <p:spPr>
          <a:xfrm flipH="1">
            <a:off x="6346440" y="4203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6" name=""/>
          <p:cNvSpPr/>
          <p:nvPr/>
        </p:nvSpPr>
        <p:spPr>
          <a:xfrm>
            <a:off x="2390760" y="4119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3717" name=""/>
          <p:cNvSpPr/>
          <p:nvPr/>
        </p:nvSpPr>
        <p:spPr>
          <a:xfrm>
            <a:off x="2662200" y="3656160"/>
            <a:ext cx="349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18" name=""/>
          <p:cNvSpPr/>
          <p:nvPr/>
        </p:nvSpPr>
        <p:spPr>
          <a:xfrm flipH="1">
            <a:off x="6346440" y="365616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19" name=""/>
          <p:cNvSpPr/>
          <p:nvPr/>
        </p:nvSpPr>
        <p:spPr>
          <a:xfrm>
            <a:off x="2390760" y="3575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3720" name=""/>
          <p:cNvSpPr/>
          <p:nvPr/>
        </p:nvSpPr>
        <p:spPr>
          <a:xfrm>
            <a:off x="2662200" y="3110040"/>
            <a:ext cx="349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1" name=""/>
          <p:cNvSpPr/>
          <p:nvPr/>
        </p:nvSpPr>
        <p:spPr>
          <a:xfrm flipH="1">
            <a:off x="6346440" y="311004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2" name=""/>
          <p:cNvSpPr/>
          <p:nvPr/>
        </p:nvSpPr>
        <p:spPr>
          <a:xfrm>
            <a:off x="2390760" y="3029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3723" name=""/>
          <p:cNvSpPr/>
          <p:nvPr/>
        </p:nvSpPr>
        <p:spPr>
          <a:xfrm>
            <a:off x="2662200" y="2565360"/>
            <a:ext cx="349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4" name=""/>
          <p:cNvSpPr/>
          <p:nvPr/>
        </p:nvSpPr>
        <p:spPr>
          <a:xfrm flipH="1">
            <a:off x="6346440" y="2565360"/>
            <a:ext cx="42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5" name=""/>
          <p:cNvSpPr/>
          <p:nvPr/>
        </p:nvSpPr>
        <p:spPr>
          <a:xfrm>
            <a:off x="2494800" y="2481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726" name=""/>
          <p:cNvSpPr/>
          <p:nvPr/>
        </p:nvSpPr>
        <p:spPr>
          <a:xfrm>
            <a:off x="2662200" y="2292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7" name=""/>
          <p:cNvSpPr/>
          <p:nvPr/>
        </p:nvSpPr>
        <p:spPr>
          <a:xfrm flipH="1">
            <a:off x="6346440" y="22924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8" name=""/>
          <p:cNvSpPr/>
          <p:nvPr/>
        </p:nvSpPr>
        <p:spPr>
          <a:xfrm>
            <a:off x="2390760" y="2209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3729" name=""/>
          <p:cNvSpPr/>
          <p:nvPr/>
        </p:nvSpPr>
        <p:spPr>
          <a:xfrm>
            <a:off x="2662200" y="4290840"/>
            <a:ext cx="961920" cy="1003320"/>
          </a:xfrm>
          <a:custGeom>
            <a:avLst/>
            <a:gdLst/>
            <a:ahLst/>
            <a:rect l="l" t="t" r="r" b="b"/>
            <a:pathLst>
              <a:path w="538" h="549">
                <a:moveTo>
                  <a:pt x="5" y="549"/>
                </a:moveTo>
                <a:lnTo>
                  <a:pt x="0" y="549"/>
                </a:lnTo>
                <a:lnTo>
                  <a:pt x="5" y="549"/>
                </a:lnTo>
                <a:lnTo>
                  <a:pt x="9" y="549"/>
                </a:lnTo>
                <a:lnTo>
                  <a:pt x="14" y="545"/>
                </a:lnTo>
                <a:lnTo>
                  <a:pt x="19" y="540"/>
                </a:lnTo>
                <a:lnTo>
                  <a:pt x="24" y="535"/>
                </a:lnTo>
                <a:lnTo>
                  <a:pt x="24" y="525"/>
                </a:lnTo>
                <a:lnTo>
                  <a:pt x="29" y="520"/>
                </a:lnTo>
                <a:lnTo>
                  <a:pt x="33" y="511"/>
                </a:lnTo>
                <a:lnTo>
                  <a:pt x="38" y="501"/>
                </a:lnTo>
                <a:lnTo>
                  <a:pt x="43" y="487"/>
                </a:lnTo>
                <a:lnTo>
                  <a:pt x="48" y="477"/>
                </a:lnTo>
                <a:lnTo>
                  <a:pt x="53" y="463"/>
                </a:lnTo>
                <a:lnTo>
                  <a:pt x="53" y="448"/>
                </a:lnTo>
                <a:lnTo>
                  <a:pt x="57" y="434"/>
                </a:lnTo>
                <a:lnTo>
                  <a:pt x="62" y="419"/>
                </a:lnTo>
                <a:lnTo>
                  <a:pt x="67" y="405"/>
                </a:lnTo>
                <a:lnTo>
                  <a:pt x="72" y="386"/>
                </a:lnTo>
                <a:lnTo>
                  <a:pt x="77" y="366"/>
                </a:lnTo>
                <a:lnTo>
                  <a:pt x="77" y="352"/>
                </a:lnTo>
                <a:lnTo>
                  <a:pt x="81" y="333"/>
                </a:lnTo>
                <a:lnTo>
                  <a:pt x="86" y="313"/>
                </a:lnTo>
                <a:lnTo>
                  <a:pt x="91" y="294"/>
                </a:lnTo>
                <a:lnTo>
                  <a:pt x="96" y="275"/>
                </a:lnTo>
                <a:lnTo>
                  <a:pt x="101" y="255"/>
                </a:lnTo>
                <a:lnTo>
                  <a:pt x="105" y="236"/>
                </a:lnTo>
                <a:lnTo>
                  <a:pt x="105" y="217"/>
                </a:lnTo>
                <a:lnTo>
                  <a:pt x="110" y="198"/>
                </a:lnTo>
                <a:lnTo>
                  <a:pt x="115" y="178"/>
                </a:lnTo>
                <a:lnTo>
                  <a:pt x="120" y="159"/>
                </a:lnTo>
                <a:lnTo>
                  <a:pt x="125" y="145"/>
                </a:lnTo>
                <a:lnTo>
                  <a:pt x="130" y="125"/>
                </a:lnTo>
                <a:lnTo>
                  <a:pt x="134" y="111"/>
                </a:lnTo>
                <a:lnTo>
                  <a:pt x="134" y="96"/>
                </a:lnTo>
                <a:lnTo>
                  <a:pt x="139" y="82"/>
                </a:lnTo>
                <a:lnTo>
                  <a:pt x="144" y="72"/>
                </a:lnTo>
                <a:lnTo>
                  <a:pt x="149" y="58"/>
                </a:lnTo>
                <a:lnTo>
                  <a:pt x="154" y="48"/>
                </a:lnTo>
                <a:lnTo>
                  <a:pt x="158" y="34"/>
                </a:lnTo>
                <a:lnTo>
                  <a:pt x="163" y="24"/>
                </a:lnTo>
                <a:lnTo>
                  <a:pt x="168" y="19"/>
                </a:lnTo>
                <a:lnTo>
                  <a:pt x="173" y="15"/>
                </a:lnTo>
                <a:lnTo>
                  <a:pt x="178" y="15"/>
                </a:lnTo>
                <a:lnTo>
                  <a:pt x="182" y="10"/>
                </a:lnTo>
                <a:lnTo>
                  <a:pt x="187" y="10"/>
                </a:lnTo>
                <a:lnTo>
                  <a:pt x="192" y="15"/>
                </a:lnTo>
                <a:lnTo>
                  <a:pt x="197" y="15"/>
                </a:lnTo>
                <a:lnTo>
                  <a:pt x="202" y="19"/>
                </a:lnTo>
                <a:lnTo>
                  <a:pt x="206" y="24"/>
                </a:lnTo>
                <a:lnTo>
                  <a:pt x="211" y="34"/>
                </a:lnTo>
                <a:lnTo>
                  <a:pt x="216" y="39"/>
                </a:lnTo>
                <a:lnTo>
                  <a:pt x="216" y="48"/>
                </a:lnTo>
                <a:lnTo>
                  <a:pt x="221" y="58"/>
                </a:lnTo>
                <a:lnTo>
                  <a:pt x="226" y="68"/>
                </a:lnTo>
                <a:lnTo>
                  <a:pt x="230" y="82"/>
                </a:lnTo>
                <a:lnTo>
                  <a:pt x="235" y="96"/>
                </a:lnTo>
                <a:lnTo>
                  <a:pt x="240" y="106"/>
                </a:lnTo>
                <a:lnTo>
                  <a:pt x="240" y="121"/>
                </a:lnTo>
                <a:lnTo>
                  <a:pt x="245" y="135"/>
                </a:lnTo>
                <a:lnTo>
                  <a:pt x="250" y="154"/>
                </a:lnTo>
                <a:lnTo>
                  <a:pt x="254" y="169"/>
                </a:lnTo>
                <a:lnTo>
                  <a:pt x="259" y="183"/>
                </a:lnTo>
                <a:lnTo>
                  <a:pt x="264" y="198"/>
                </a:lnTo>
                <a:lnTo>
                  <a:pt x="269" y="217"/>
                </a:lnTo>
                <a:lnTo>
                  <a:pt x="269" y="231"/>
                </a:lnTo>
                <a:lnTo>
                  <a:pt x="274" y="246"/>
                </a:lnTo>
                <a:lnTo>
                  <a:pt x="278" y="255"/>
                </a:lnTo>
                <a:lnTo>
                  <a:pt x="283" y="265"/>
                </a:lnTo>
                <a:lnTo>
                  <a:pt x="288" y="275"/>
                </a:lnTo>
                <a:lnTo>
                  <a:pt x="293" y="280"/>
                </a:lnTo>
                <a:lnTo>
                  <a:pt x="298" y="284"/>
                </a:lnTo>
                <a:lnTo>
                  <a:pt x="303" y="284"/>
                </a:lnTo>
                <a:lnTo>
                  <a:pt x="307" y="275"/>
                </a:lnTo>
                <a:lnTo>
                  <a:pt x="312" y="270"/>
                </a:lnTo>
                <a:lnTo>
                  <a:pt x="317" y="255"/>
                </a:lnTo>
                <a:lnTo>
                  <a:pt x="322" y="246"/>
                </a:lnTo>
                <a:lnTo>
                  <a:pt x="322" y="231"/>
                </a:lnTo>
                <a:lnTo>
                  <a:pt x="327" y="217"/>
                </a:lnTo>
                <a:lnTo>
                  <a:pt x="331" y="198"/>
                </a:lnTo>
                <a:lnTo>
                  <a:pt x="336" y="183"/>
                </a:lnTo>
                <a:lnTo>
                  <a:pt x="341" y="169"/>
                </a:lnTo>
                <a:lnTo>
                  <a:pt x="346" y="149"/>
                </a:lnTo>
                <a:lnTo>
                  <a:pt x="351" y="135"/>
                </a:lnTo>
                <a:lnTo>
                  <a:pt x="351" y="121"/>
                </a:lnTo>
                <a:lnTo>
                  <a:pt x="355" y="101"/>
                </a:lnTo>
                <a:lnTo>
                  <a:pt x="360" y="87"/>
                </a:lnTo>
                <a:lnTo>
                  <a:pt x="365" y="77"/>
                </a:lnTo>
                <a:lnTo>
                  <a:pt x="370" y="63"/>
                </a:lnTo>
                <a:lnTo>
                  <a:pt x="375" y="48"/>
                </a:lnTo>
                <a:lnTo>
                  <a:pt x="375" y="39"/>
                </a:lnTo>
                <a:lnTo>
                  <a:pt x="379" y="29"/>
                </a:lnTo>
                <a:lnTo>
                  <a:pt x="384" y="24"/>
                </a:lnTo>
                <a:lnTo>
                  <a:pt x="389" y="15"/>
                </a:lnTo>
                <a:lnTo>
                  <a:pt x="394" y="10"/>
                </a:lnTo>
                <a:lnTo>
                  <a:pt x="399" y="5"/>
                </a:lnTo>
                <a:lnTo>
                  <a:pt x="403" y="0"/>
                </a:lnTo>
                <a:lnTo>
                  <a:pt x="408" y="0"/>
                </a:lnTo>
                <a:lnTo>
                  <a:pt x="413" y="0"/>
                </a:lnTo>
                <a:lnTo>
                  <a:pt x="418" y="5"/>
                </a:lnTo>
                <a:lnTo>
                  <a:pt x="423" y="10"/>
                </a:lnTo>
                <a:lnTo>
                  <a:pt x="427" y="15"/>
                </a:lnTo>
                <a:lnTo>
                  <a:pt x="432" y="19"/>
                </a:lnTo>
                <a:lnTo>
                  <a:pt x="432" y="29"/>
                </a:lnTo>
                <a:lnTo>
                  <a:pt x="437" y="39"/>
                </a:lnTo>
                <a:lnTo>
                  <a:pt x="442" y="53"/>
                </a:lnTo>
                <a:lnTo>
                  <a:pt x="447" y="63"/>
                </a:lnTo>
                <a:lnTo>
                  <a:pt x="451" y="77"/>
                </a:lnTo>
                <a:lnTo>
                  <a:pt x="456" y="92"/>
                </a:lnTo>
                <a:lnTo>
                  <a:pt x="456" y="106"/>
                </a:lnTo>
                <a:lnTo>
                  <a:pt x="461" y="125"/>
                </a:lnTo>
                <a:lnTo>
                  <a:pt x="466" y="140"/>
                </a:lnTo>
                <a:lnTo>
                  <a:pt x="471" y="159"/>
                </a:lnTo>
                <a:lnTo>
                  <a:pt x="475" y="178"/>
                </a:lnTo>
                <a:lnTo>
                  <a:pt x="480" y="193"/>
                </a:lnTo>
                <a:lnTo>
                  <a:pt x="485" y="212"/>
                </a:lnTo>
                <a:lnTo>
                  <a:pt x="485" y="227"/>
                </a:lnTo>
                <a:lnTo>
                  <a:pt x="490" y="241"/>
                </a:lnTo>
                <a:lnTo>
                  <a:pt x="495" y="255"/>
                </a:lnTo>
                <a:lnTo>
                  <a:pt x="500" y="265"/>
                </a:lnTo>
                <a:lnTo>
                  <a:pt x="504" y="270"/>
                </a:lnTo>
                <a:lnTo>
                  <a:pt x="509" y="275"/>
                </a:lnTo>
                <a:lnTo>
                  <a:pt x="514" y="270"/>
                </a:lnTo>
                <a:lnTo>
                  <a:pt x="519" y="265"/>
                </a:lnTo>
                <a:lnTo>
                  <a:pt x="524" y="251"/>
                </a:lnTo>
                <a:lnTo>
                  <a:pt x="528" y="236"/>
                </a:lnTo>
                <a:lnTo>
                  <a:pt x="533" y="222"/>
                </a:lnTo>
                <a:lnTo>
                  <a:pt x="538" y="202"/>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3624120" y="3533760"/>
            <a:ext cx="946440" cy="1125720"/>
          </a:xfrm>
          <a:custGeom>
            <a:avLst/>
            <a:gdLst/>
            <a:ahLst/>
            <a:rect l="l" t="t" r="r" b="b"/>
            <a:pathLst>
              <a:path w="529" h="616">
                <a:moveTo>
                  <a:pt x="0" y="616"/>
                </a:moveTo>
                <a:lnTo>
                  <a:pt x="0" y="592"/>
                </a:lnTo>
                <a:lnTo>
                  <a:pt x="5" y="573"/>
                </a:lnTo>
                <a:lnTo>
                  <a:pt x="10" y="549"/>
                </a:lnTo>
                <a:lnTo>
                  <a:pt x="14" y="525"/>
                </a:lnTo>
                <a:lnTo>
                  <a:pt x="19" y="501"/>
                </a:lnTo>
                <a:lnTo>
                  <a:pt x="24" y="477"/>
                </a:lnTo>
                <a:lnTo>
                  <a:pt x="29" y="453"/>
                </a:lnTo>
                <a:lnTo>
                  <a:pt x="29" y="429"/>
                </a:lnTo>
                <a:lnTo>
                  <a:pt x="34" y="409"/>
                </a:lnTo>
                <a:lnTo>
                  <a:pt x="38" y="385"/>
                </a:lnTo>
                <a:lnTo>
                  <a:pt x="43" y="366"/>
                </a:lnTo>
                <a:lnTo>
                  <a:pt x="48" y="342"/>
                </a:lnTo>
                <a:lnTo>
                  <a:pt x="53" y="322"/>
                </a:lnTo>
                <a:lnTo>
                  <a:pt x="58" y="308"/>
                </a:lnTo>
                <a:lnTo>
                  <a:pt x="58" y="289"/>
                </a:lnTo>
                <a:lnTo>
                  <a:pt x="62" y="274"/>
                </a:lnTo>
                <a:lnTo>
                  <a:pt x="67" y="260"/>
                </a:lnTo>
                <a:lnTo>
                  <a:pt x="72" y="245"/>
                </a:lnTo>
                <a:lnTo>
                  <a:pt x="77" y="236"/>
                </a:lnTo>
                <a:lnTo>
                  <a:pt x="82" y="226"/>
                </a:lnTo>
                <a:lnTo>
                  <a:pt x="82" y="216"/>
                </a:lnTo>
                <a:lnTo>
                  <a:pt x="86" y="212"/>
                </a:lnTo>
                <a:lnTo>
                  <a:pt x="91" y="207"/>
                </a:lnTo>
                <a:lnTo>
                  <a:pt x="96" y="207"/>
                </a:lnTo>
                <a:lnTo>
                  <a:pt x="101" y="202"/>
                </a:lnTo>
                <a:lnTo>
                  <a:pt x="106" y="207"/>
                </a:lnTo>
                <a:lnTo>
                  <a:pt x="110" y="212"/>
                </a:lnTo>
                <a:lnTo>
                  <a:pt x="115" y="216"/>
                </a:lnTo>
                <a:lnTo>
                  <a:pt x="120" y="226"/>
                </a:lnTo>
                <a:lnTo>
                  <a:pt x="125" y="236"/>
                </a:lnTo>
                <a:lnTo>
                  <a:pt x="130" y="250"/>
                </a:lnTo>
                <a:lnTo>
                  <a:pt x="135" y="260"/>
                </a:lnTo>
                <a:lnTo>
                  <a:pt x="135" y="274"/>
                </a:lnTo>
                <a:lnTo>
                  <a:pt x="139" y="294"/>
                </a:lnTo>
                <a:lnTo>
                  <a:pt x="144" y="308"/>
                </a:lnTo>
                <a:lnTo>
                  <a:pt x="149" y="327"/>
                </a:lnTo>
                <a:lnTo>
                  <a:pt x="154" y="347"/>
                </a:lnTo>
                <a:lnTo>
                  <a:pt x="159" y="366"/>
                </a:lnTo>
                <a:lnTo>
                  <a:pt x="163" y="385"/>
                </a:lnTo>
                <a:lnTo>
                  <a:pt x="163" y="409"/>
                </a:lnTo>
                <a:lnTo>
                  <a:pt x="168" y="429"/>
                </a:lnTo>
                <a:lnTo>
                  <a:pt x="173" y="448"/>
                </a:lnTo>
                <a:lnTo>
                  <a:pt x="178" y="467"/>
                </a:lnTo>
                <a:lnTo>
                  <a:pt x="183" y="486"/>
                </a:lnTo>
                <a:lnTo>
                  <a:pt x="187" y="506"/>
                </a:lnTo>
                <a:lnTo>
                  <a:pt x="192" y="520"/>
                </a:lnTo>
                <a:lnTo>
                  <a:pt x="192" y="535"/>
                </a:lnTo>
                <a:lnTo>
                  <a:pt x="197" y="544"/>
                </a:lnTo>
                <a:lnTo>
                  <a:pt x="202" y="549"/>
                </a:lnTo>
                <a:lnTo>
                  <a:pt x="207" y="554"/>
                </a:lnTo>
                <a:lnTo>
                  <a:pt x="211" y="554"/>
                </a:lnTo>
                <a:lnTo>
                  <a:pt x="216" y="554"/>
                </a:lnTo>
                <a:lnTo>
                  <a:pt x="216" y="544"/>
                </a:lnTo>
                <a:lnTo>
                  <a:pt x="221" y="535"/>
                </a:lnTo>
                <a:lnTo>
                  <a:pt x="226" y="520"/>
                </a:lnTo>
                <a:lnTo>
                  <a:pt x="231" y="506"/>
                </a:lnTo>
                <a:lnTo>
                  <a:pt x="235" y="486"/>
                </a:lnTo>
                <a:lnTo>
                  <a:pt x="240" y="467"/>
                </a:lnTo>
                <a:lnTo>
                  <a:pt x="245" y="443"/>
                </a:lnTo>
                <a:lnTo>
                  <a:pt x="245" y="419"/>
                </a:lnTo>
                <a:lnTo>
                  <a:pt x="250" y="395"/>
                </a:lnTo>
                <a:lnTo>
                  <a:pt x="255" y="371"/>
                </a:lnTo>
                <a:lnTo>
                  <a:pt x="259" y="347"/>
                </a:lnTo>
                <a:lnTo>
                  <a:pt x="264" y="322"/>
                </a:lnTo>
                <a:lnTo>
                  <a:pt x="269" y="298"/>
                </a:lnTo>
                <a:lnTo>
                  <a:pt x="274" y="274"/>
                </a:lnTo>
                <a:lnTo>
                  <a:pt x="274" y="250"/>
                </a:lnTo>
                <a:lnTo>
                  <a:pt x="279" y="226"/>
                </a:lnTo>
                <a:lnTo>
                  <a:pt x="283" y="202"/>
                </a:lnTo>
                <a:lnTo>
                  <a:pt x="288" y="183"/>
                </a:lnTo>
                <a:lnTo>
                  <a:pt x="293" y="163"/>
                </a:lnTo>
                <a:lnTo>
                  <a:pt x="298" y="144"/>
                </a:lnTo>
                <a:lnTo>
                  <a:pt x="298" y="130"/>
                </a:lnTo>
                <a:lnTo>
                  <a:pt x="303" y="115"/>
                </a:lnTo>
                <a:lnTo>
                  <a:pt x="307" y="101"/>
                </a:lnTo>
                <a:lnTo>
                  <a:pt x="312" y="91"/>
                </a:lnTo>
                <a:lnTo>
                  <a:pt x="317" y="82"/>
                </a:lnTo>
                <a:lnTo>
                  <a:pt x="322" y="72"/>
                </a:lnTo>
                <a:lnTo>
                  <a:pt x="327" y="62"/>
                </a:lnTo>
                <a:lnTo>
                  <a:pt x="332" y="62"/>
                </a:lnTo>
                <a:lnTo>
                  <a:pt x="336" y="62"/>
                </a:lnTo>
                <a:lnTo>
                  <a:pt x="341" y="62"/>
                </a:lnTo>
                <a:lnTo>
                  <a:pt x="346" y="67"/>
                </a:lnTo>
                <a:lnTo>
                  <a:pt x="351" y="72"/>
                </a:lnTo>
                <a:lnTo>
                  <a:pt x="356" y="82"/>
                </a:lnTo>
                <a:lnTo>
                  <a:pt x="356" y="91"/>
                </a:lnTo>
                <a:lnTo>
                  <a:pt x="360" y="101"/>
                </a:lnTo>
                <a:lnTo>
                  <a:pt x="365" y="115"/>
                </a:lnTo>
                <a:lnTo>
                  <a:pt x="370" y="130"/>
                </a:lnTo>
                <a:lnTo>
                  <a:pt x="375" y="144"/>
                </a:lnTo>
                <a:lnTo>
                  <a:pt x="380" y="159"/>
                </a:lnTo>
                <a:lnTo>
                  <a:pt x="380" y="178"/>
                </a:lnTo>
                <a:lnTo>
                  <a:pt x="384" y="192"/>
                </a:lnTo>
                <a:lnTo>
                  <a:pt x="389" y="212"/>
                </a:lnTo>
                <a:lnTo>
                  <a:pt x="394" y="231"/>
                </a:lnTo>
                <a:lnTo>
                  <a:pt x="399" y="250"/>
                </a:lnTo>
                <a:lnTo>
                  <a:pt x="404" y="269"/>
                </a:lnTo>
                <a:lnTo>
                  <a:pt x="408" y="289"/>
                </a:lnTo>
                <a:lnTo>
                  <a:pt x="408" y="303"/>
                </a:lnTo>
                <a:lnTo>
                  <a:pt x="413" y="322"/>
                </a:lnTo>
                <a:lnTo>
                  <a:pt x="418" y="337"/>
                </a:lnTo>
                <a:lnTo>
                  <a:pt x="423" y="351"/>
                </a:lnTo>
                <a:lnTo>
                  <a:pt x="428" y="366"/>
                </a:lnTo>
                <a:lnTo>
                  <a:pt x="432" y="380"/>
                </a:lnTo>
                <a:lnTo>
                  <a:pt x="437" y="385"/>
                </a:lnTo>
                <a:lnTo>
                  <a:pt x="442" y="385"/>
                </a:lnTo>
                <a:lnTo>
                  <a:pt x="447" y="385"/>
                </a:lnTo>
                <a:lnTo>
                  <a:pt x="452" y="380"/>
                </a:lnTo>
                <a:lnTo>
                  <a:pt x="456" y="371"/>
                </a:lnTo>
                <a:lnTo>
                  <a:pt x="461" y="361"/>
                </a:lnTo>
                <a:lnTo>
                  <a:pt x="461" y="347"/>
                </a:lnTo>
                <a:lnTo>
                  <a:pt x="466" y="332"/>
                </a:lnTo>
                <a:lnTo>
                  <a:pt x="471" y="313"/>
                </a:lnTo>
                <a:lnTo>
                  <a:pt x="476" y="289"/>
                </a:lnTo>
                <a:lnTo>
                  <a:pt x="480" y="269"/>
                </a:lnTo>
                <a:lnTo>
                  <a:pt x="485" y="245"/>
                </a:lnTo>
                <a:lnTo>
                  <a:pt x="490" y="221"/>
                </a:lnTo>
                <a:lnTo>
                  <a:pt x="490" y="197"/>
                </a:lnTo>
                <a:lnTo>
                  <a:pt x="495" y="173"/>
                </a:lnTo>
                <a:lnTo>
                  <a:pt x="500" y="149"/>
                </a:lnTo>
                <a:lnTo>
                  <a:pt x="505" y="125"/>
                </a:lnTo>
                <a:lnTo>
                  <a:pt x="509" y="101"/>
                </a:lnTo>
                <a:lnTo>
                  <a:pt x="514" y="77"/>
                </a:lnTo>
                <a:lnTo>
                  <a:pt x="514" y="57"/>
                </a:lnTo>
                <a:lnTo>
                  <a:pt x="519" y="38"/>
                </a:lnTo>
                <a:lnTo>
                  <a:pt x="524" y="19"/>
                </a:lnTo>
                <a:lnTo>
                  <a:pt x="529" y="0"/>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4570560" y="2909880"/>
            <a:ext cx="952200" cy="1168560"/>
          </a:xfrm>
          <a:custGeom>
            <a:avLst/>
            <a:gdLst/>
            <a:ahLst/>
            <a:rect l="l" t="t" r="r" b="b"/>
            <a:pathLst>
              <a:path w="533" h="640">
                <a:moveTo>
                  <a:pt x="0" y="342"/>
                </a:moveTo>
                <a:lnTo>
                  <a:pt x="4" y="327"/>
                </a:lnTo>
                <a:lnTo>
                  <a:pt x="9" y="313"/>
                </a:lnTo>
                <a:lnTo>
                  <a:pt x="14" y="298"/>
                </a:lnTo>
                <a:lnTo>
                  <a:pt x="14" y="289"/>
                </a:lnTo>
                <a:lnTo>
                  <a:pt x="19" y="279"/>
                </a:lnTo>
                <a:lnTo>
                  <a:pt x="24" y="269"/>
                </a:lnTo>
                <a:lnTo>
                  <a:pt x="28" y="265"/>
                </a:lnTo>
                <a:lnTo>
                  <a:pt x="33" y="265"/>
                </a:lnTo>
                <a:lnTo>
                  <a:pt x="38" y="265"/>
                </a:lnTo>
                <a:lnTo>
                  <a:pt x="43" y="265"/>
                </a:lnTo>
                <a:lnTo>
                  <a:pt x="48" y="269"/>
                </a:lnTo>
                <a:lnTo>
                  <a:pt x="52" y="279"/>
                </a:lnTo>
                <a:lnTo>
                  <a:pt x="57" y="289"/>
                </a:lnTo>
                <a:lnTo>
                  <a:pt x="62" y="298"/>
                </a:lnTo>
                <a:lnTo>
                  <a:pt x="67" y="308"/>
                </a:lnTo>
                <a:lnTo>
                  <a:pt x="67" y="322"/>
                </a:lnTo>
                <a:lnTo>
                  <a:pt x="72" y="337"/>
                </a:lnTo>
                <a:lnTo>
                  <a:pt x="76" y="356"/>
                </a:lnTo>
                <a:lnTo>
                  <a:pt x="81" y="371"/>
                </a:lnTo>
                <a:lnTo>
                  <a:pt x="86" y="390"/>
                </a:lnTo>
                <a:lnTo>
                  <a:pt x="91" y="409"/>
                </a:lnTo>
                <a:lnTo>
                  <a:pt x="96" y="433"/>
                </a:lnTo>
                <a:lnTo>
                  <a:pt x="96" y="452"/>
                </a:lnTo>
                <a:lnTo>
                  <a:pt x="100" y="477"/>
                </a:lnTo>
                <a:lnTo>
                  <a:pt x="105" y="496"/>
                </a:lnTo>
                <a:lnTo>
                  <a:pt x="110" y="520"/>
                </a:lnTo>
                <a:lnTo>
                  <a:pt x="115" y="539"/>
                </a:lnTo>
                <a:lnTo>
                  <a:pt x="120" y="558"/>
                </a:lnTo>
                <a:lnTo>
                  <a:pt x="124" y="578"/>
                </a:lnTo>
                <a:lnTo>
                  <a:pt x="124" y="592"/>
                </a:lnTo>
                <a:lnTo>
                  <a:pt x="129" y="611"/>
                </a:lnTo>
                <a:lnTo>
                  <a:pt x="134" y="621"/>
                </a:lnTo>
                <a:lnTo>
                  <a:pt x="139" y="631"/>
                </a:lnTo>
                <a:lnTo>
                  <a:pt x="144" y="640"/>
                </a:lnTo>
                <a:lnTo>
                  <a:pt x="148" y="640"/>
                </a:lnTo>
                <a:lnTo>
                  <a:pt x="153" y="636"/>
                </a:lnTo>
                <a:lnTo>
                  <a:pt x="158" y="626"/>
                </a:lnTo>
                <a:lnTo>
                  <a:pt x="163" y="616"/>
                </a:lnTo>
                <a:lnTo>
                  <a:pt x="168" y="602"/>
                </a:lnTo>
                <a:lnTo>
                  <a:pt x="173" y="583"/>
                </a:lnTo>
                <a:lnTo>
                  <a:pt x="177" y="563"/>
                </a:lnTo>
                <a:lnTo>
                  <a:pt x="177" y="539"/>
                </a:lnTo>
                <a:lnTo>
                  <a:pt x="182" y="515"/>
                </a:lnTo>
                <a:lnTo>
                  <a:pt x="187" y="491"/>
                </a:lnTo>
                <a:lnTo>
                  <a:pt x="192" y="467"/>
                </a:lnTo>
                <a:lnTo>
                  <a:pt x="197" y="438"/>
                </a:lnTo>
                <a:lnTo>
                  <a:pt x="201" y="409"/>
                </a:lnTo>
                <a:lnTo>
                  <a:pt x="201" y="385"/>
                </a:lnTo>
                <a:lnTo>
                  <a:pt x="206" y="356"/>
                </a:lnTo>
                <a:lnTo>
                  <a:pt x="211" y="332"/>
                </a:lnTo>
                <a:lnTo>
                  <a:pt x="216" y="303"/>
                </a:lnTo>
                <a:lnTo>
                  <a:pt x="221" y="279"/>
                </a:lnTo>
                <a:lnTo>
                  <a:pt x="225" y="255"/>
                </a:lnTo>
                <a:lnTo>
                  <a:pt x="230" y="236"/>
                </a:lnTo>
                <a:lnTo>
                  <a:pt x="230" y="212"/>
                </a:lnTo>
                <a:lnTo>
                  <a:pt x="235" y="192"/>
                </a:lnTo>
                <a:lnTo>
                  <a:pt x="240" y="178"/>
                </a:lnTo>
                <a:lnTo>
                  <a:pt x="245" y="159"/>
                </a:lnTo>
                <a:lnTo>
                  <a:pt x="249" y="144"/>
                </a:lnTo>
                <a:lnTo>
                  <a:pt x="254" y="134"/>
                </a:lnTo>
                <a:lnTo>
                  <a:pt x="259" y="125"/>
                </a:lnTo>
                <a:lnTo>
                  <a:pt x="259" y="115"/>
                </a:lnTo>
                <a:lnTo>
                  <a:pt x="264" y="110"/>
                </a:lnTo>
                <a:lnTo>
                  <a:pt x="269" y="106"/>
                </a:lnTo>
                <a:lnTo>
                  <a:pt x="273" y="106"/>
                </a:lnTo>
                <a:lnTo>
                  <a:pt x="278" y="106"/>
                </a:lnTo>
                <a:lnTo>
                  <a:pt x="283" y="110"/>
                </a:lnTo>
                <a:lnTo>
                  <a:pt x="288" y="120"/>
                </a:lnTo>
                <a:lnTo>
                  <a:pt x="293" y="125"/>
                </a:lnTo>
                <a:lnTo>
                  <a:pt x="297" y="139"/>
                </a:lnTo>
                <a:lnTo>
                  <a:pt x="302" y="149"/>
                </a:lnTo>
                <a:lnTo>
                  <a:pt x="307" y="168"/>
                </a:lnTo>
                <a:lnTo>
                  <a:pt x="312" y="183"/>
                </a:lnTo>
                <a:lnTo>
                  <a:pt x="312" y="202"/>
                </a:lnTo>
                <a:lnTo>
                  <a:pt x="317" y="221"/>
                </a:lnTo>
                <a:lnTo>
                  <a:pt x="321" y="240"/>
                </a:lnTo>
                <a:lnTo>
                  <a:pt x="326" y="265"/>
                </a:lnTo>
                <a:lnTo>
                  <a:pt x="331" y="289"/>
                </a:lnTo>
                <a:lnTo>
                  <a:pt x="336" y="313"/>
                </a:lnTo>
                <a:lnTo>
                  <a:pt x="341" y="337"/>
                </a:lnTo>
                <a:lnTo>
                  <a:pt x="341" y="361"/>
                </a:lnTo>
                <a:lnTo>
                  <a:pt x="346" y="385"/>
                </a:lnTo>
                <a:lnTo>
                  <a:pt x="350" y="409"/>
                </a:lnTo>
                <a:lnTo>
                  <a:pt x="355" y="433"/>
                </a:lnTo>
                <a:lnTo>
                  <a:pt x="360" y="452"/>
                </a:lnTo>
                <a:lnTo>
                  <a:pt x="365" y="477"/>
                </a:lnTo>
                <a:lnTo>
                  <a:pt x="365" y="491"/>
                </a:lnTo>
                <a:lnTo>
                  <a:pt x="370" y="505"/>
                </a:lnTo>
                <a:lnTo>
                  <a:pt x="374" y="520"/>
                </a:lnTo>
                <a:lnTo>
                  <a:pt x="379" y="530"/>
                </a:lnTo>
                <a:lnTo>
                  <a:pt x="384" y="534"/>
                </a:lnTo>
                <a:lnTo>
                  <a:pt x="389" y="534"/>
                </a:lnTo>
                <a:lnTo>
                  <a:pt x="394" y="530"/>
                </a:lnTo>
                <a:lnTo>
                  <a:pt x="398" y="520"/>
                </a:lnTo>
                <a:lnTo>
                  <a:pt x="403" y="505"/>
                </a:lnTo>
                <a:lnTo>
                  <a:pt x="408" y="491"/>
                </a:lnTo>
                <a:lnTo>
                  <a:pt x="413" y="472"/>
                </a:lnTo>
                <a:lnTo>
                  <a:pt x="418" y="452"/>
                </a:lnTo>
                <a:lnTo>
                  <a:pt x="422" y="433"/>
                </a:lnTo>
                <a:lnTo>
                  <a:pt x="422" y="404"/>
                </a:lnTo>
                <a:lnTo>
                  <a:pt x="427" y="380"/>
                </a:lnTo>
                <a:lnTo>
                  <a:pt x="432" y="356"/>
                </a:lnTo>
                <a:lnTo>
                  <a:pt x="437" y="327"/>
                </a:lnTo>
                <a:lnTo>
                  <a:pt x="442" y="298"/>
                </a:lnTo>
                <a:lnTo>
                  <a:pt x="446" y="274"/>
                </a:lnTo>
                <a:lnTo>
                  <a:pt x="446" y="245"/>
                </a:lnTo>
                <a:lnTo>
                  <a:pt x="451" y="221"/>
                </a:lnTo>
                <a:lnTo>
                  <a:pt x="456" y="192"/>
                </a:lnTo>
                <a:lnTo>
                  <a:pt x="461" y="168"/>
                </a:lnTo>
                <a:lnTo>
                  <a:pt x="466" y="144"/>
                </a:lnTo>
                <a:lnTo>
                  <a:pt x="470" y="120"/>
                </a:lnTo>
                <a:lnTo>
                  <a:pt x="475" y="101"/>
                </a:lnTo>
                <a:lnTo>
                  <a:pt x="475" y="81"/>
                </a:lnTo>
                <a:lnTo>
                  <a:pt x="480" y="62"/>
                </a:lnTo>
                <a:lnTo>
                  <a:pt x="485" y="48"/>
                </a:lnTo>
                <a:lnTo>
                  <a:pt x="490" y="33"/>
                </a:lnTo>
                <a:lnTo>
                  <a:pt x="494" y="24"/>
                </a:lnTo>
                <a:lnTo>
                  <a:pt x="499" y="14"/>
                </a:lnTo>
                <a:lnTo>
                  <a:pt x="499" y="4"/>
                </a:lnTo>
                <a:lnTo>
                  <a:pt x="504" y="0"/>
                </a:lnTo>
                <a:lnTo>
                  <a:pt x="509" y="0"/>
                </a:lnTo>
                <a:lnTo>
                  <a:pt x="514" y="0"/>
                </a:lnTo>
                <a:lnTo>
                  <a:pt x="518" y="0"/>
                </a:lnTo>
                <a:lnTo>
                  <a:pt x="523" y="4"/>
                </a:lnTo>
                <a:lnTo>
                  <a:pt x="528" y="14"/>
                </a:lnTo>
                <a:lnTo>
                  <a:pt x="528" y="24"/>
                </a:lnTo>
                <a:lnTo>
                  <a:pt x="533" y="33"/>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5522760" y="2503440"/>
            <a:ext cx="866880" cy="1197000"/>
          </a:xfrm>
          <a:custGeom>
            <a:avLst/>
            <a:gdLst/>
            <a:ahLst/>
            <a:rect l="l" t="t" r="r" b="b"/>
            <a:pathLst>
              <a:path w="485" h="655">
                <a:moveTo>
                  <a:pt x="0" y="255"/>
                </a:moveTo>
                <a:lnTo>
                  <a:pt x="5" y="270"/>
                </a:lnTo>
                <a:lnTo>
                  <a:pt x="10" y="284"/>
                </a:lnTo>
                <a:lnTo>
                  <a:pt x="14" y="303"/>
                </a:lnTo>
                <a:lnTo>
                  <a:pt x="19" y="323"/>
                </a:lnTo>
                <a:lnTo>
                  <a:pt x="24" y="342"/>
                </a:lnTo>
                <a:lnTo>
                  <a:pt x="24" y="366"/>
                </a:lnTo>
                <a:lnTo>
                  <a:pt x="29" y="385"/>
                </a:lnTo>
                <a:lnTo>
                  <a:pt x="34" y="409"/>
                </a:lnTo>
                <a:lnTo>
                  <a:pt x="38" y="438"/>
                </a:lnTo>
                <a:lnTo>
                  <a:pt x="43" y="462"/>
                </a:lnTo>
                <a:lnTo>
                  <a:pt x="48" y="487"/>
                </a:lnTo>
                <a:lnTo>
                  <a:pt x="48" y="511"/>
                </a:lnTo>
                <a:lnTo>
                  <a:pt x="53" y="535"/>
                </a:lnTo>
                <a:lnTo>
                  <a:pt x="58" y="554"/>
                </a:lnTo>
                <a:lnTo>
                  <a:pt x="62" y="578"/>
                </a:lnTo>
                <a:lnTo>
                  <a:pt x="67" y="597"/>
                </a:lnTo>
                <a:lnTo>
                  <a:pt x="72" y="612"/>
                </a:lnTo>
                <a:lnTo>
                  <a:pt x="77" y="631"/>
                </a:lnTo>
                <a:lnTo>
                  <a:pt x="77" y="641"/>
                </a:lnTo>
                <a:lnTo>
                  <a:pt x="82" y="650"/>
                </a:lnTo>
                <a:lnTo>
                  <a:pt x="86" y="655"/>
                </a:lnTo>
                <a:lnTo>
                  <a:pt x="91" y="655"/>
                </a:lnTo>
                <a:lnTo>
                  <a:pt x="96" y="655"/>
                </a:lnTo>
                <a:lnTo>
                  <a:pt x="101" y="650"/>
                </a:lnTo>
                <a:lnTo>
                  <a:pt x="106" y="641"/>
                </a:lnTo>
                <a:lnTo>
                  <a:pt x="106" y="631"/>
                </a:lnTo>
                <a:lnTo>
                  <a:pt x="110" y="617"/>
                </a:lnTo>
                <a:lnTo>
                  <a:pt x="115" y="597"/>
                </a:lnTo>
                <a:lnTo>
                  <a:pt x="120" y="578"/>
                </a:lnTo>
                <a:lnTo>
                  <a:pt x="125" y="554"/>
                </a:lnTo>
                <a:lnTo>
                  <a:pt x="130" y="530"/>
                </a:lnTo>
                <a:lnTo>
                  <a:pt x="130" y="501"/>
                </a:lnTo>
                <a:lnTo>
                  <a:pt x="134" y="477"/>
                </a:lnTo>
                <a:lnTo>
                  <a:pt x="139" y="448"/>
                </a:lnTo>
                <a:lnTo>
                  <a:pt x="144" y="419"/>
                </a:lnTo>
                <a:lnTo>
                  <a:pt x="149" y="390"/>
                </a:lnTo>
                <a:lnTo>
                  <a:pt x="154" y="361"/>
                </a:lnTo>
                <a:lnTo>
                  <a:pt x="158" y="332"/>
                </a:lnTo>
                <a:lnTo>
                  <a:pt x="158" y="303"/>
                </a:lnTo>
                <a:lnTo>
                  <a:pt x="163" y="275"/>
                </a:lnTo>
                <a:lnTo>
                  <a:pt x="168" y="250"/>
                </a:lnTo>
                <a:lnTo>
                  <a:pt x="173" y="226"/>
                </a:lnTo>
                <a:lnTo>
                  <a:pt x="178" y="202"/>
                </a:lnTo>
                <a:lnTo>
                  <a:pt x="183" y="183"/>
                </a:lnTo>
                <a:lnTo>
                  <a:pt x="183" y="164"/>
                </a:lnTo>
                <a:lnTo>
                  <a:pt x="187" y="149"/>
                </a:lnTo>
                <a:lnTo>
                  <a:pt x="192" y="135"/>
                </a:lnTo>
                <a:lnTo>
                  <a:pt x="197" y="120"/>
                </a:lnTo>
                <a:lnTo>
                  <a:pt x="202" y="111"/>
                </a:lnTo>
                <a:lnTo>
                  <a:pt x="207" y="106"/>
                </a:lnTo>
                <a:lnTo>
                  <a:pt x="211" y="101"/>
                </a:lnTo>
                <a:lnTo>
                  <a:pt x="216" y="101"/>
                </a:lnTo>
                <a:lnTo>
                  <a:pt x="221" y="106"/>
                </a:lnTo>
                <a:lnTo>
                  <a:pt x="226" y="111"/>
                </a:lnTo>
                <a:lnTo>
                  <a:pt x="231" y="115"/>
                </a:lnTo>
                <a:lnTo>
                  <a:pt x="235" y="130"/>
                </a:lnTo>
                <a:lnTo>
                  <a:pt x="240" y="140"/>
                </a:lnTo>
                <a:lnTo>
                  <a:pt x="240" y="154"/>
                </a:lnTo>
                <a:lnTo>
                  <a:pt x="245" y="173"/>
                </a:lnTo>
                <a:lnTo>
                  <a:pt x="250" y="193"/>
                </a:lnTo>
                <a:lnTo>
                  <a:pt x="255" y="212"/>
                </a:lnTo>
                <a:lnTo>
                  <a:pt x="259" y="231"/>
                </a:lnTo>
                <a:lnTo>
                  <a:pt x="264" y="255"/>
                </a:lnTo>
                <a:lnTo>
                  <a:pt x="264" y="279"/>
                </a:lnTo>
                <a:lnTo>
                  <a:pt x="269" y="308"/>
                </a:lnTo>
                <a:lnTo>
                  <a:pt x="274" y="332"/>
                </a:lnTo>
                <a:lnTo>
                  <a:pt x="279" y="361"/>
                </a:lnTo>
                <a:lnTo>
                  <a:pt x="283" y="385"/>
                </a:lnTo>
                <a:lnTo>
                  <a:pt x="288" y="414"/>
                </a:lnTo>
                <a:lnTo>
                  <a:pt x="293" y="438"/>
                </a:lnTo>
                <a:lnTo>
                  <a:pt x="293" y="467"/>
                </a:lnTo>
                <a:lnTo>
                  <a:pt x="298" y="491"/>
                </a:lnTo>
                <a:lnTo>
                  <a:pt x="303" y="511"/>
                </a:lnTo>
                <a:lnTo>
                  <a:pt x="307" y="535"/>
                </a:lnTo>
                <a:lnTo>
                  <a:pt x="312" y="549"/>
                </a:lnTo>
                <a:lnTo>
                  <a:pt x="317" y="568"/>
                </a:lnTo>
                <a:lnTo>
                  <a:pt x="322" y="578"/>
                </a:lnTo>
                <a:lnTo>
                  <a:pt x="322" y="588"/>
                </a:lnTo>
                <a:lnTo>
                  <a:pt x="327" y="593"/>
                </a:lnTo>
                <a:lnTo>
                  <a:pt x="331" y="593"/>
                </a:lnTo>
                <a:lnTo>
                  <a:pt x="336" y="593"/>
                </a:lnTo>
                <a:lnTo>
                  <a:pt x="341" y="588"/>
                </a:lnTo>
                <a:lnTo>
                  <a:pt x="346" y="573"/>
                </a:lnTo>
                <a:lnTo>
                  <a:pt x="346" y="559"/>
                </a:lnTo>
                <a:lnTo>
                  <a:pt x="351" y="544"/>
                </a:lnTo>
                <a:lnTo>
                  <a:pt x="355" y="520"/>
                </a:lnTo>
                <a:lnTo>
                  <a:pt x="360" y="496"/>
                </a:lnTo>
                <a:lnTo>
                  <a:pt x="365" y="472"/>
                </a:lnTo>
                <a:lnTo>
                  <a:pt x="370" y="443"/>
                </a:lnTo>
                <a:lnTo>
                  <a:pt x="375" y="414"/>
                </a:lnTo>
                <a:lnTo>
                  <a:pt x="375" y="381"/>
                </a:lnTo>
                <a:lnTo>
                  <a:pt x="380" y="352"/>
                </a:lnTo>
                <a:lnTo>
                  <a:pt x="384" y="318"/>
                </a:lnTo>
                <a:lnTo>
                  <a:pt x="389" y="289"/>
                </a:lnTo>
                <a:lnTo>
                  <a:pt x="394" y="255"/>
                </a:lnTo>
                <a:lnTo>
                  <a:pt x="399" y="226"/>
                </a:lnTo>
                <a:lnTo>
                  <a:pt x="404" y="197"/>
                </a:lnTo>
                <a:lnTo>
                  <a:pt x="404" y="169"/>
                </a:lnTo>
                <a:lnTo>
                  <a:pt x="408" y="144"/>
                </a:lnTo>
                <a:lnTo>
                  <a:pt x="413" y="120"/>
                </a:lnTo>
                <a:lnTo>
                  <a:pt x="418" y="96"/>
                </a:lnTo>
                <a:lnTo>
                  <a:pt x="423" y="77"/>
                </a:lnTo>
                <a:lnTo>
                  <a:pt x="428" y="58"/>
                </a:lnTo>
                <a:lnTo>
                  <a:pt x="428" y="43"/>
                </a:lnTo>
                <a:lnTo>
                  <a:pt x="432" y="29"/>
                </a:lnTo>
                <a:lnTo>
                  <a:pt x="437" y="14"/>
                </a:lnTo>
                <a:lnTo>
                  <a:pt x="442" y="9"/>
                </a:lnTo>
                <a:lnTo>
                  <a:pt x="447" y="0"/>
                </a:lnTo>
                <a:lnTo>
                  <a:pt x="452" y="0"/>
                </a:lnTo>
                <a:lnTo>
                  <a:pt x="456" y="0"/>
                </a:lnTo>
                <a:lnTo>
                  <a:pt x="461" y="0"/>
                </a:lnTo>
                <a:lnTo>
                  <a:pt x="466" y="9"/>
                </a:lnTo>
                <a:lnTo>
                  <a:pt x="471" y="19"/>
                </a:lnTo>
                <a:lnTo>
                  <a:pt x="476" y="29"/>
                </a:lnTo>
                <a:lnTo>
                  <a:pt x="480" y="43"/>
                </a:lnTo>
                <a:lnTo>
                  <a:pt x="485" y="58"/>
                </a:ln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33" name=""/>
          <p:cNvGraphicFramePr/>
          <p:nvPr/>
        </p:nvGraphicFramePr>
        <p:xfrm>
          <a:off x="4038480" y="5575320"/>
          <a:ext cx="425520" cy="403200"/>
        </p:xfrm>
        <a:graphic>
          <a:graphicData uri="http://schemas.openxmlformats.org/presentationml/2006/ole">
            <p:oleObj r:id="rId1" spid="">
              <p:embed/>
              <p:pic>
                <p:nvPicPr>
                  <p:cNvPr id="3734" name="" descr=""/>
                  <p:cNvPicPr/>
                  <p:nvPr/>
                </p:nvPicPr>
                <p:blipFill>
                  <a:blip r:embed="rId2"/>
                  <a:stretch/>
                </p:blipFill>
                <p:spPr>
                  <a:xfrm>
                    <a:off x="4038480" y="5575320"/>
                    <a:ext cx="425520" cy="403200"/>
                  </a:xfrm>
                  <a:prstGeom prst="rect">
                    <a:avLst/>
                  </a:prstGeom>
                  <a:ln w="0">
                    <a:noFill/>
                  </a:ln>
                </p:spPr>
              </p:pic>
            </p:oleObj>
          </a:graphicData>
        </a:graphic>
      </p:graphicFrame>
      <p:graphicFrame>
        <p:nvGraphicFramePr>
          <p:cNvPr id="3735" name=""/>
          <p:cNvGraphicFramePr/>
          <p:nvPr/>
        </p:nvGraphicFramePr>
        <p:xfrm>
          <a:off x="1600200" y="3746520"/>
          <a:ext cx="625320" cy="312840"/>
        </p:xfrm>
        <a:graphic>
          <a:graphicData uri="http://schemas.openxmlformats.org/presentationml/2006/ole">
            <p:oleObj r:id="rId3" spid="">
              <p:embed/>
              <p:pic>
                <p:nvPicPr>
                  <p:cNvPr id="3736" name="" descr=""/>
                  <p:cNvPicPr/>
                  <p:nvPr/>
                </p:nvPicPr>
                <p:blipFill>
                  <a:blip r:embed="rId4"/>
                  <a:stretch/>
                </p:blipFill>
                <p:spPr>
                  <a:xfrm>
                    <a:off x="1600200" y="3746520"/>
                    <a:ext cx="625320" cy="3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
          <p:cNvSpPr/>
          <p:nvPr/>
        </p:nvSpPr>
        <p:spPr>
          <a:xfrm>
            <a:off x="3184560" y="2890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 SDH</a:t>
            </a:r>
            <a:endParaRPr b="0" lang="en-US" sz="2400" spc="-1" strike="noStrike">
              <a:solidFill>
                <a:srgbClr val="000000"/>
              </a:solidFill>
              <a:latin typeface="Times New Roman"/>
            </a:endParaRPr>
          </a:p>
        </p:txBody>
      </p:sp>
      <p:sp>
        <p:nvSpPr>
          <p:cNvPr id="3738"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380880" y="1143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is separation of variables solutions at many frequencies to synthesize an  SV-wave  impulse time domain solution (pulse-echo)</a:t>
            </a:r>
            <a:endParaRPr b="0" lang="en-US" sz="2400" spc="-1" strike="noStrike">
              <a:solidFill>
                <a:srgbClr val="000000"/>
              </a:solidFill>
              <a:latin typeface="Times New Roman"/>
            </a:endParaRPr>
          </a:p>
        </p:txBody>
      </p:sp>
      <p:sp>
        <p:nvSpPr>
          <p:cNvPr id="3740" name=""/>
          <p:cNvSpPr/>
          <p:nvPr/>
        </p:nvSpPr>
        <p:spPr>
          <a:xfrm>
            <a:off x="304920" y="5486400"/>
            <a:ext cx="8381880" cy="6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domain pulse-echo SV-wave response of a 0.5 mm radius cylindrical void in steel (c</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5900  m/s, c</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3200  m/sec) obtained by applying a low-pass cosine-squared windowing filter between 10 and 20 MHz to the separation of variables solution and then inverting the result into the time domain with the inverse Fourier transform.</a:t>
            </a:r>
            <a:endParaRPr b="0" lang="en-US" sz="1200" spc="-1" strike="noStrike">
              <a:solidFill>
                <a:srgbClr val="000000"/>
              </a:solidFill>
              <a:latin typeface="Times New Roman"/>
            </a:endParaRPr>
          </a:p>
        </p:txBody>
      </p:sp>
      <p:sp>
        <p:nvSpPr>
          <p:cNvPr id="3741" name=""/>
          <p:cNvSpPr/>
          <p:nvPr/>
        </p:nvSpPr>
        <p:spPr>
          <a:xfrm>
            <a:off x="2997360" y="2665440"/>
            <a:ext cx="3779640" cy="221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2997360" y="2665440"/>
            <a:ext cx="3779640" cy="221940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2997360" y="2665440"/>
            <a:ext cx="37796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4" name=""/>
          <p:cNvSpPr/>
          <p:nvPr/>
        </p:nvSpPr>
        <p:spPr>
          <a:xfrm>
            <a:off x="2997360" y="2665440"/>
            <a:ext cx="3779640" cy="2219400"/>
          </a:xfrm>
          <a:custGeom>
            <a:avLst/>
            <a:gdLst/>
            <a:ahLst/>
            <a:rect l="l" t="t" r="r" b="b"/>
            <a:pathLst>
              <a:path w="2381" h="1398">
                <a:moveTo>
                  <a:pt x="0" y="1398"/>
                </a:moveTo>
                <a:lnTo>
                  <a:pt x="2381" y="1398"/>
                </a:lnTo>
                <a:lnTo>
                  <a:pt x="238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flipV="1">
            <a:off x="2997360" y="2665080"/>
            <a:ext cx="2880" cy="221940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flipV="1">
            <a:off x="2997360" y="4843080"/>
            <a:ext cx="288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47" name=""/>
          <p:cNvSpPr/>
          <p:nvPr/>
        </p:nvSpPr>
        <p:spPr>
          <a:xfrm>
            <a:off x="2997360" y="26654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8" name=""/>
          <p:cNvSpPr/>
          <p:nvPr/>
        </p:nvSpPr>
        <p:spPr>
          <a:xfrm>
            <a:off x="2936880" y="4979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49" name=""/>
          <p:cNvSpPr/>
          <p:nvPr/>
        </p:nvSpPr>
        <p:spPr>
          <a:xfrm>
            <a:off x="299088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3750" name=""/>
          <p:cNvSpPr/>
          <p:nvPr/>
        </p:nvSpPr>
        <p:spPr>
          <a:xfrm flipV="1">
            <a:off x="3745080" y="4843080"/>
            <a:ext cx="288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51" name=""/>
          <p:cNvSpPr/>
          <p:nvPr/>
        </p:nvSpPr>
        <p:spPr>
          <a:xfrm>
            <a:off x="3745080" y="26654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52" name=""/>
          <p:cNvSpPr/>
          <p:nvPr/>
        </p:nvSpPr>
        <p:spPr>
          <a:xfrm>
            <a:off x="3633840" y="4979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53" name=""/>
          <p:cNvSpPr/>
          <p:nvPr/>
        </p:nvSpPr>
        <p:spPr>
          <a:xfrm>
            <a:off x="368820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3754" name=""/>
          <p:cNvSpPr/>
          <p:nvPr/>
        </p:nvSpPr>
        <p:spPr>
          <a:xfrm flipV="1">
            <a:off x="4503600" y="4843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55" name=""/>
          <p:cNvSpPr/>
          <p:nvPr/>
        </p:nvSpPr>
        <p:spPr>
          <a:xfrm>
            <a:off x="4503600" y="26654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56" name=""/>
          <p:cNvSpPr/>
          <p:nvPr/>
        </p:nvSpPr>
        <p:spPr>
          <a:xfrm>
            <a:off x="447840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3757" name=""/>
          <p:cNvSpPr/>
          <p:nvPr/>
        </p:nvSpPr>
        <p:spPr>
          <a:xfrm flipV="1">
            <a:off x="5261040" y="4843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58" name=""/>
          <p:cNvSpPr/>
          <p:nvPr/>
        </p:nvSpPr>
        <p:spPr>
          <a:xfrm>
            <a:off x="5261040" y="266544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59" name=""/>
          <p:cNvSpPr/>
          <p:nvPr/>
        </p:nvSpPr>
        <p:spPr>
          <a:xfrm>
            <a:off x="518508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3760" name=""/>
          <p:cNvSpPr/>
          <p:nvPr/>
        </p:nvSpPr>
        <p:spPr>
          <a:xfrm flipV="1">
            <a:off x="6019920" y="4843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61" name=""/>
          <p:cNvSpPr/>
          <p:nvPr/>
        </p:nvSpPr>
        <p:spPr>
          <a:xfrm>
            <a:off x="6019920" y="266544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2" name=""/>
          <p:cNvSpPr/>
          <p:nvPr/>
        </p:nvSpPr>
        <p:spPr>
          <a:xfrm>
            <a:off x="599436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3763" name=""/>
          <p:cNvSpPr/>
          <p:nvPr/>
        </p:nvSpPr>
        <p:spPr>
          <a:xfrm flipV="1">
            <a:off x="6777000" y="4843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64" name=""/>
          <p:cNvSpPr/>
          <p:nvPr/>
        </p:nvSpPr>
        <p:spPr>
          <a:xfrm>
            <a:off x="6777000" y="26654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5" name=""/>
          <p:cNvSpPr/>
          <p:nvPr/>
        </p:nvSpPr>
        <p:spPr>
          <a:xfrm>
            <a:off x="669960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3766" name=""/>
          <p:cNvSpPr/>
          <p:nvPr/>
        </p:nvSpPr>
        <p:spPr>
          <a:xfrm>
            <a:off x="2997360" y="488484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7" name=""/>
          <p:cNvSpPr/>
          <p:nvPr/>
        </p:nvSpPr>
        <p:spPr>
          <a:xfrm flipH="1">
            <a:off x="6732360" y="4884840"/>
            <a:ext cx="442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8" name=""/>
          <p:cNvSpPr/>
          <p:nvPr/>
        </p:nvSpPr>
        <p:spPr>
          <a:xfrm>
            <a:off x="2735280" y="4826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69" name=""/>
          <p:cNvSpPr/>
          <p:nvPr/>
        </p:nvSpPr>
        <p:spPr>
          <a:xfrm>
            <a:off x="2789280" y="4826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3770" name=""/>
          <p:cNvSpPr/>
          <p:nvPr/>
        </p:nvSpPr>
        <p:spPr>
          <a:xfrm>
            <a:off x="2997360" y="45640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1" name=""/>
          <p:cNvSpPr/>
          <p:nvPr/>
        </p:nvSpPr>
        <p:spPr>
          <a:xfrm flipH="1">
            <a:off x="6732360" y="456408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2" name=""/>
          <p:cNvSpPr/>
          <p:nvPr/>
        </p:nvSpPr>
        <p:spPr>
          <a:xfrm>
            <a:off x="2735280" y="450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73" name=""/>
          <p:cNvSpPr/>
          <p:nvPr/>
        </p:nvSpPr>
        <p:spPr>
          <a:xfrm>
            <a:off x="2789280" y="4502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3774" name=""/>
          <p:cNvSpPr/>
          <p:nvPr/>
        </p:nvSpPr>
        <p:spPr>
          <a:xfrm>
            <a:off x="2997360" y="42498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flipH="1">
            <a:off x="6732360" y="424980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6" name=""/>
          <p:cNvSpPr/>
          <p:nvPr/>
        </p:nvSpPr>
        <p:spPr>
          <a:xfrm>
            <a:off x="2735280" y="4189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77" name=""/>
          <p:cNvSpPr/>
          <p:nvPr/>
        </p:nvSpPr>
        <p:spPr>
          <a:xfrm>
            <a:off x="2789280" y="41893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3778" name=""/>
          <p:cNvSpPr/>
          <p:nvPr/>
        </p:nvSpPr>
        <p:spPr>
          <a:xfrm>
            <a:off x="2997360" y="3927600"/>
            <a:ext cx="349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79" name=""/>
          <p:cNvSpPr/>
          <p:nvPr/>
        </p:nvSpPr>
        <p:spPr>
          <a:xfrm flipH="1">
            <a:off x="6732360" y="3927600"/>
            <a:ext cx="442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80" name=""/>
          <p:cNvSpPr/>
          <p:nvPr/>
        </p:nvSpPr>
        <p:spPr>
          <a:xfrm>
            <a:off x="2735280" y="38671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781" name=""/>
          <p:cNvSpPr/>
          <p:nvPr/>
        </p:nvSpPr>
        <p:spPr>
          <a:xfrm>
            <a:off x="2789280" y="3867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3782" name=""/>
          <p:cNvSpPr/>
          <p:nvPr/>
        </p:nvSpPr>
        <p:spPr>
          <a:xfrm>
            <a:off x="2997360" y="36147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3" name=""/>
          <p:cNvSpPr/>
          <p:nvPr/>
        </p:nvSpPr>
        <p:spPr>
          <a:xfrm flipH="1">
            <a:off x="6732360" y="361476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4" name=""/>
          <p:cNvSpPr/>
          <p:nvPr/>
        </p:nvSpPr>
        <p:spPr>
          <a:xfrm>
            <a:off x="2832120" y="3554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3785" name=""/>
          <p:cNvSpPr/>
          <p:nvPr/>
        </p:nvSpPr>
        <p:spPr>
          <a:xfrm>
            <a:off x="2997360" y="32925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6" name=""/>
          <p:cNvSpPr/>
          <p:nvPr/>
        </p:nvSpPr>
        <p:spPr>
          <a:xfrm flipH="1">
            <a:off x="6732360" y="329256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7" name=""/>
          <p:cNvSpPr/>
          <p:nvPr/>
        </p:nvSpPr>
        <p:spPr>
          <a:xfrm>
            <a:off x="2770200" y="32320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3788" name=""/>
          <p:cNvSpPr/>
          <p:nvPr/>
        </p:nvSpPr>
        <p:spPr>
          <a:xfrm>
            <a:off x="2997360" y="29797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9" name=""/>
          <p:cNvSpPr/>
          <p:nvPr/>
        </p:nvSpPr>
        <p:spPr>
          <a:xfrm flipH="1">
            <a:off x="6732360" y="297972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0" name=""/>
          <p:cNvSpPr/>
          <p:nvPr/>
        </p:nvSpPr>
        <p:spPr>
          <a:xfrm>
            <a:off x="2770200" y="29178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3791" name=""/>
          <p:cNvSpPr/>
          <p:nvPr/>
        </p:nvSpPr>
        <p:spPr>
          <a:xfrm>
            <a:off x="2997360" y="266544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2" name=""/>
          <p:cNvSpPr/>
          <p:nvPr/>
        </p:nvSpPr>
        <p:spPr>
          <a:xfrm flipH="1">
            <a:off x="6732360" y="266544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3" name=""/>
          <p:cNvSpPr/>
          <p:nvPr/>
        </p:nvSpPr>
        <p:spPr>
          <a:xfrm>
            <a:off x="2770200" y="2604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3794" name=""/>
          <p:cNvSpPr/>
          <p:nvPr/>
        </p:nvSpPr>
        <p:spPr>
          <a:xfrm>
            <a:off x="3024360" y="2890800"/>
            <a:ext cx="1879560" cy="1793880"/>
          </a:xfrm>
          <a:custGeom>
            <a:avLst/>
            <a:gdLst/>
            <a:ahLst/>
            <a:rect l="l" t="t" r="r" b="b"/>
            <a:pathLst>
              <a:path w="1184" h="1130">
                <a:moveTo>
                  <a:pt x="0" y="456"/>
                </a:moveTo>
                <a:lnTo>
                  <a:pt x="11" y="456"/>
                </a:lnTo>
                <a:lnTo>
                  <a:pt x="21" y="456"/>
                </a:lnTo>
                <a:lnTo>
                  <a:pt x="27" y="456"/>
                </a:lnTo>
                <a:lnTo>
                  <a:pt x="37" y="456"/>
                </a:lnTo>
                <a:lnTo>
                  <a:pt x="49" y="456"/>
                </a:lnTo>
                <a:lnTo>
                  <a:pt x="60" y="456"/>
                </a:lnTo>
                <a:lnTo>
                  <a:pt x="65" y="456"/>
                </a:lnTo>
                <a:lnTo>
                  <a:pt x="76" y="456"/>
                </a:lnTo>
                <a:lnTo>
                  <a:pt x="88" y="456"/>
                </a:lnTo>
                <a:lnTo>
                  <a:pt x="93" y="456"/>
                </a:lnTo>
                <a:lnTo>
                  <a:pt x="104" y="456"/>
                </a:lnTo>
                <a:lnTo>
                  <a:pt x="115" y="456"/>
                </a:lnTo>
                <a:lnTo>
                  <a:pt x="120" y="456"/>
                </a:lnTo>
                <a:lnTo>
                  <a:pt x="132" y="456"/>
                </a:lnTo>
                <a:lnTo>
                  <a:pt x="142" y="456"/>
                </a:lnTo>
                <a:lnTo>
                  <a:pt x="153" y="456"/>
                </a:lnTo>
                <a:lnTo>
                  <a:pt x="158" y="456"/>
                </a:lnTo>
                <a:lnTo>
                  <a:pt x="169" y="456"/>
                </a:lnTo>
                <a:lnTo>
                  <a:pt x="181" y="456"/>
                </a:lnTo>
                <a:lnTo>
                  <a:pt x="186" y="456"/>
                </a:lnTo>
                <a:lnTo>
                  <a:pt x="197" y="456"/>
                </a:lnTo>
                <a:lnTo>
                  <a:pt x="208" y="456"/>
                </a:lnTo>
                <a:lnTo>
                  <a:pt x="213" y="456"/>
                </a:lnTo>
                <a:lnTo>
                  <a:pt x="225" y="456"/>
                </a:lnTo>
                <a:lnTo>
                  <a:pt x="236" y="456"/>
                </a:lnTo>
                <a:lnTo>
                  <a:pt x="246" y="456"/>
                </a:lnTo>
                <a:lnTo>
                  <a:pt x="252" y="456"/>
                </a:lnTo>
                <a:lnTo>
                  <a:pt x="262" y="456"/>
                </a:lnTo>
                <a:lnTo>
                  <a:pt x="274" y="456"/>
                </a:lnTo>
                <a:lnTo>
                  <a:pt x="279" y="456"/>
                </a:lnTo>
                <a:lnTo>
                  <a:pt x="290" y="456"/>
                </a:lnTo>
                <a:lnTo>
                  <a:pt x="301" y="456"/>
                </a:lnTo>
                <a:lnTo>
                  <a:pt x="306" y="456"/>
                </a:lnTo>
                <a:lnTo>
                  <a:pt x="317" y="456"/>
                </a:lnTo>
                <a:lnTo>
                  <a:pt x="329" y="456"/>
                </a:lnTo>
                <a:lnTo>
                  <a:pt x="334" y="456"/>
                </a:lnTo>
                <a:lnTo>
                  <a:pt x="345" y="456"/>
                </a:lnTo>
                <a:lnTo>
                  <a:pt x="356" y="456"/>
                </a:lnTo>
                <a:lnTo>
                  <a:pt x="366" y="456"/>
                </a:lnTo>
                <a:lnTo>
                  <a:pt x="373" y="456"/>
                </a:lnTo>
                <a:lnTo>
                  <a:pt x="383" y="456"/>
                </a:lnTo>
                <a:lnTo>
                  <a:pt x="394" y="456"/>
                </a:lnTo>
                <a:lnTo>
                  <a:pt x="400" y="456"/>
                </a:lnTo>
                <a:lnTo>
                  <a:pt x="410" y="456"/>
                </a:lnTo>
                <a:lnTo>
                  <a:pt x="422" y="456"/>
                </a:lnTo>
                <a:lnTo>
                  <a:pt x="427" y="456"/>
                </a:lnTo>
                <a:lnTo>
                  <a:pt x="438" y="456"/>
                </a:lnTo>
                <a:lnTo>
                  <a:pt x="449" y="456"/>
                </a:lnTo>
                <a:lnTo>
                  <a:pt x="461" y="456"/>
                </a:lnTo>
                <a:lnTo>
                  <a:pt x="466" y="456"/>
                </a:lnTo>
                <a:lnTo>
                  <a:pt x="477" y="456"/>
                </a:lnTo>
                <a:lnTo>
                  <a:pt x="487" y="456"/>
                </a:lnTo>
                <a:lnTo>
                  <a:pt x="493" y="456"/>
                </a:lnTo>
                <a:lnTo>
                  <a:pt x="505" y="456"/>
                </a:lnTo>
                <a:lnTo>
                  <a:pt x="515" y="456"/>
                </a:lnTo>
                <a:lnTo>
                  <a:pt x="521" y="456"/>
                </a:lnTo>
                <a:lnTo>
                  <a:pt x="531" y="456"/>
                </a:lnTo>
                <a:lnTo>
                  <a:pt x="542" y="456"/>
                </a:lnTo>
                <a:lnTo>
                  <a:pt x="554" y="456"/>
                </a:lnTo>
                <a:lnTo>
                  <a:pt x="559" y="456"/>
                </a:lnTo>
                <a:lnTo>
                  <a:pt x="570" y="456"/>
                </a:lnTo>
                <a:lnTo>
                  <a:pt x="581" y="456"/>
                </a:lnTo>
                <a:lnTo>
                  <a:pt x="586" y="456"/>
                </a:lnTo>
                <a:lnTo>
                  <a:pt x="598" y="456"/>
                </a:lnTo>
                <a:lnTo>
                  <a:pt x="608" y="456"/>
                </a:lnTo>
                <a:lnTo>
                  <a:pt x="614" y="456"/>
                </a:lnTo>
                <a:lnTo>
                  <a:pt x="625" y="456"/>
                </a:lnTo>
                <a:lnTo>
                  <a:pt x="635" y="456"/>
                </a:lnTo>
                <a:lnTo>
                  <a:pt x="642" y="456"/>
                </a:lnTo>
                <a:lnTo>
                  <a:pt x="652" y="456"/>
                </a:lnTo>
                <a:lnTo>
                  <a:pt x="663" y="456"/>
                </a:lnTo>
                <a:lnTo>
                  <a:pt x="674" y="456"/>
                </a:lnTo>
                <a:lnTo>
                  <a:pt x="679" y="451"/>
                </a:lnTo>
                <a:lnTo>
                  <a:pt x="691" y="461"/>
                </a:lnTo>
                <a:lnTo>
                  <a:pt x="702" y="456"/>
                </a:lnTo>
                <a:lnTo>
                  <a:pt x="707" y="456"/>
                </a:lnTo>
                <a:lnTo>
                  <a:pt x="718" y="456"/>
                </a:lnTo>
                <a:lnTo>
                  <a:pt x="730" y="433"/>
                </a:lnTo>
                <a:lnTo>
                  <a:pt x="735" y="500"/>
                </a:lnTo>
                <a:lnTo>
                  <a:pt x="746" y="484"/>
                </a:lnTo>
                <a:lnTo>
                  <a:pt x="756" y="286"/>
                </a:lnTo>
                <a:lnTo>
                  <a:pt x="767" y="528"/>
                </a:lnTo>
                <a:lnTo>
                  <a:pt x="772" y="1130"/>
                </a:lnTo>
                <a:lnTo>
                  <a:pt x="784" y="900"/>
                </a:lnTo>
                <a:lnTo>
                  <a:pt x="795" y="66"/>
                </a:lnTo>
                <a:lnTo>
                  <a:pt x="800" y="0"/>
                </a:lnTo>
                <a:lnTo>
                  <a:pt x="811" y="445"/>
                </a:lnTo>
                <a:lnTo>
                  <a:pt x="822" y="500"/>
                </a:lnTo>
                <a:lnTo>
                  <a:pt x="828" y="390"/>
                </a:lnTo>
                <a:lnTo>
                  <a:pt x="839" y="428"/>
                </a:lnTo>
                <a:lnTo>
                  <a:pt x="850" y="445"/>
                </a:lnTo>
                <a:lnTo>
                  <a:pt x="860" y="433"/>
                </a:lnTo>
                <a:lnTo>
                  <a:pt x="866" y="445"/>
                </a:lnTo>
                <a:lnTo>
                  <a:pt x="877" y="433"/>
                </a:lnTo>
                <a:lnTo>
                  <a:pt x="888" y="433"/>
                </a:lnTo>
                <a:lnTo>
                  <a:pt x="893" y="439"/>
                </a:lnTo>
                <a:lnTo>
                  <a:pt x="904" y="433"/>
                </a:lnTo>
                <a:lnTo>
                  <a:pt x="915" y="433"/>
                </a:lnTo>
                <a:lnTo>
                  <a:pt x="920" y="433"/>
                </a:lnTo>
                <a:lnTo>
                  <a:pt x="932" y="433"/>
                </a:lnTo>
                <a:lnTo>
                  <a:pt x="943" y="439"/>
                </a:lnTo>
                <a:lnTo>
                  <a:pt x="948" y="439"/>
                </a:lnTo>
                <a:lnTo>
                  <a:pt x="959" y="439"/>
                </a:lnTo>
                <a:lnTo>
                  <a:pt x="971" y="439"/>
                </a:lnTo>
                <a:lnTo>
                  <a:pt x="981" y="439"/>
                </a:lnTo>
                <a:lnTo>
                  <a:pt x="987" y="439"/>
                </a:lnTo>
                <a:lnTo>
                  <a:pt x="997" y="439"/>
                </a:lnTo>
                <a:lnTo>
                  <a:pt x="1008" y="445"/>
                </a:lnTo>
                <a:lnTo>
                  <a:pt x="1015" y="445"/>
                </a:lnTo>
                <a:lnTo>
                  <a:pt x="1025" y="445"/>
                </a:lnTo>
                <a:lnTo>
                  <a:pt x="1036" y="445"/>
                </a:lnTo>
                <a:lnTo>
                  <a:pt x="1041" y="445"/>
                </a:lnTo>
                <a:lnTo>
                  <a:pt x="1052" y="451"/>
                </a:lnTo>
                <a:lnTo>
                  <a:pt x="1064" y="456"/>
                </a:lnTo>
                <a:lnTo>
                  <a:pt x="1075" y="456"/>
                </a:lnTo>
                <a:lnTo>
                  <a:pt x="1080" y="456"/>
                </a:lnTo>
                <a:lnTo>
                  <a:pt x="1091" y="456"/>
                </a:lnTo>
                <a:lnTo>
                  <a:pt x="1101" y="451"/>
                </a:lnTo>
                <a:lnTo>
                  <a:pt x="1108" y="451"/>
                </a:lnTo>
                <a:lnTo>
                  <a:pt x="1119" y="451"/>
                </a:lnTo>
                <a:lnTo>
                  <a:pt x="1129" y="451"/>
                </a:lnTo>
                <a:lnTo>
                  <a:pt x="1135" y="456"/>
                </a:lnTo>
                <a:lnTo>
                  <a:pt x="1145" y="433"/>
                </a:lnTo>
                <a:lnTo>
                  <a:pt x="1157" y="445"/>
                </a:lnTo>
                <a:lnTo>
                  <a:pt x="1168" y="489"/>
                </a:lnTo>
                <a:lnTo>
                  <a:pt x="1173" y="423"/>
                </a:lnTo>
                <a:lnTo>
                  <a:pt x="1184" y="302"/>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4903920" y="3370320"/>
            <a:ext cx="1803240" cy="506520"/>
          </a:xfrm>
          <a:custGeom>
            <a:avLst/>
            <a:gdLst/>
            <a:ahLst/>
            <a:rect l="l" t="t" r="r" b="b"/>
            <a:pathLst>
              <a:path w="1136" h="319">
                <a:moveTo>
                  <a:pt x="0" y="0"/>
                </a:moveTo>
                <a:lnTo>
                  <a:pt x="12" y="110"/>
                </a:lnTo>
                <a:lnTo>
                  <a:pt x="17" y="319"/>
                </a:lnTo>
                <a:lnTo>
                  <a:pt x="28" y="296"/>
                </a:lnTo>
                <a:lnTo>
                  <a:pt x="38" y="170"/>
                </a:lnTo>
                <a:lnTo>
                  <a:pt x="44" y="159"/>
                </a:lnTo>
                <a:lnTo>
                  <a:pt x="56" y="175"/>
                </a:lnTo>
                <a:lnTo>
                  <a:pt x="66" y="165"/>
                </a:lnTo>
                <a:lnTo>
                  <a:pt x="72" y="159"/>
                </a:lnTo>
                <a:lnTo>
                  <a:pt x="82" y="159"/>
                </a:lnTo>
                <a:lnTo>
                  <a:pt x="93" y="154"/>
                </a:lnTo>
                <a:lnTo>
                  <a:pt x="105" y="154"/>
                </a:lnTo>
                <a:lnTo>
                  <a:pt x="110" y="154"/>
                </a:lnTo>
                <a:lnTo>
                  <a:pt x="121" y="154"/>
                </a:lnTo>
                <a:lnTo>
                  <a:pt x="132" y="154"/>
                </a:lnTo>
                <a:lnTo>
                  <a:pt x="137" y="154"/>
                </a:lnTo>
                <a:lnTo>
                  <a:pt x="149" y="154"/>
                </a:lnTo>
                <a:lnTo>
                  <a:pt x="160" y="154"/>
                </a:lnTo>
                <a:lnTo>
                  <a:pt x="165" y="154"/>
                </a:lnTo>
                <a:lnTo>
                  <a:pt x="176" y="154"/>
                </a:lnTo>
                <a:lnTo>
                  <a:pt x="186" y="154"/>
                </a:lnTo>
                <a:lnTo>
                  <a:pt x="198" y="154"/>
                </a:lnTo>
                <a:lnTo>
                  <a:pt x="203" y="154"/>
                </a:lnTo>
                <a:lnTo>
                  <a:pt x="214" y="154"/>
                </a:lnTo>
                <a:lnTo>
                  <a:pt x="225" y="154"/>
                </a:lnTo>
                <a:lnTo>
                  <a:pt x="230" y="154"/>
                </a:lnTo>
                <a:lnTo>
                  <a:pt x="241" y="154"/>
                </a:lnTo>
                <a:lnTo>
                  <a:pt x="253" y="154"/>
                </a:lnTo>
                <a:lnTo>
                  <a:pt x="258" y="154"/>
                </a:lnTo>
                <a:lnTo>
                  <a:pt x="269" y="154"/>
                </a:lnTo>
                <a:lnTo>
                  <a:pt x="281" y="154"/>
                </a:lnTo>
                <a:lnTo>
                  <a:pt x="290" y="154"/>
                </a:lnTo>
                <a:lnTo>
                  <a:pt x="297" y="154"/>
                </a:lnTo>
                <a:lnTo>
                  <a:pt x="307" y="154"/>
                </a:lnTo>
                <a:lnTo>
                  <a:pt x="318" y="154"/>
                </a:lnTo>
                <a:lnTo>
                  <a:pt x="323" y="154"/>
                </a:lnTo>
                <a:lnTo>
                  <a:pt x="334" y="154"/>
                </a:lnTo>
                <a:lnTo>
                  <a:pt x="346" y="154"/>
                </a:lnTo>
                <a:lnTo>
                  <a:pt x="351" y="154"/>
                </a:lnTo>
                <a:lnTo>
                  <a:pt x="362" y="154"/>
                </a:lnTo>
                <a:lnTo>
                  <a:pt x="373" y="154"/>
                </a:lnTo>
                <a:lnTo>
                  <a:pt x="379" y="154"/>
                </a:lnTo>
                <a:lnTo>
                  <a:pt x="390" y="154"/>
                </a:lnTo>
                <a:lnTo>
                  <a:pt x="401" y="154"/>
                </a:lnTo>
                <a:lnTo>
                  <a:pt x="411" y="154"/>
                </a:lnTo>
                <a:lnTo>
                  <a:pt x="417" y="154"/>
                </a:lnTo>
                <a:lnTo>
                  <a:pt x="428" y="154"/>
                </a:lnTo>
                <a:lnTo>
                  <a:pt x="439" y="154"/>
                </a:lnTo>
                <a:lnTo>
                  <a:pt x="445" y="154"/>
                </a:lnTo>
                <a:lnTo>
                  <a:pt x="455" y="154"/>
                </a:lnTo>
                <a:lnTo>
                  <a:pt x="466" y="154"/>
                </a:lnTo>
                <a:lnTo>
                  <a:pt x="471" y="154"/>
                </a:lnTo>
                <a:lnTo>
                  <a:pt x="483" y="154"/>
                </a:lnTo>
                <a:lnTo>
                  <a:pt x="494" y="154"/>
                </a:lnTo>
                <a:lnTo>
                  <a:pt x="505" y="154"/>
                </a:lnTo>
                <a:lnTo>
                  <a:pt x="510" y="154"/>
                </a:lnTo>
                <a:lnTo>
                  <a:pt x="522" y="154"/>
                </a:lnTo>
                <a:lnTo>
                  <a:pt x="532" y="154"/>
                </a:lnTo>
                <a:lnTo>
                  <a:pt x="538" y="149"/>
                </a:lnTo>
                <a:lnTo>
                  <a:pt x="549" y="149"/>
                </a:lnTo>
                <a:lnTo>
                  <a:pt x="559" y="154"/>
                </a:lnTo>
                <a:lnTo>
                  <a:pt x="566" y="154"/>
                </a:lnTo>
                <a:lnTo>
                  <a:pt x="576" y="154"/>
                </a:lnTo>
                <a:lnTo>
                  <a:pt x="587" y="154"/>
                </a:lnTo>
                <a:lnTo>
                  <a:pt x="598" y="154"/>
                </a:lnTo>
                <a:lnTo>
                  <a:pt x="603" y="154"/>
                </a:lnTo>
                <a:lnTo>
                  <a:pt x="615" y="154"/>
                </a:lnTo>
                <a:lnTo>
                  <a:pt x="626" y="154"/>
                </a:lnTo>
                <a:lnTo>
                  <a:pt x="631" y="154"/>
                </a:lnTo>
                <a:lnTo>
                  <a:pt x="642" y="154"/>
                </a:lnTo>
                <a:lnTo>
                  <a:pt x="652" y="154"/>
                </a:lnTo>
                <a:lnTo>
                  <a:pt x="659" y="154"/>
                </a:lnTo>
                <a:lnTo>
                  <a:pt x="670" y="154"/>
                </a:lnTo>
                <a:lnTo>
                  <a:pt x="680" y="154"/>
                </a:lnTo>
                <a:lnTo>
                  <a:pt x="686" y="154"/>
                </a:lnTo>
                <a:lnTo>
                  <a:pt x="696" y="154"/>
                </a:lnTo>
                <a:lnTo>
                  <a:pt x="708" y="154"/>
                </a:lnTo>
                <a:lnTo>
                  <a:pt x="719" y="154"/>
                </a:lnTo>
                <a:lnTo>
                  <a:pt x="724" y="154"/>
                </a:lnTo>
                <a:lnTo>
                  <a:pt x="735" y="154"/>
                </a:lnTo>
                <a:lnTo>
                  <a:pt x="746" y="154"/>
                </a:lnTo>
                <a:lnTo>
                  <a:pt x="752" y="154"/>
                </a:lnTo>
                <a:lnTo>
                  <a:pt x="763" y="154"/>
                </a:lnTo>
                <a:lnTo>
                  <a:pt x="774" y="154"/>
                </a:lnTo>
                <a:lnTo>
                  <a:pt x="779" y="154"/>
                </a:lnTo>
                <a:lnTo>
                  <a:pt x="791" y="154"/>
                </a:lnTo>
                <a:lnTo>
                  <a:pt x="801" y="154"/>
                </a:lnTo>
                <a:lnTo>
                  <a:pt x="812" y="154"/>
                </a:lnTo>
                <a:lnTo>
                  <a:pt x="817" y="154"/>
                </a:lnTo>
                <a:lnTo>
                  <a:pt x="828" y="154"/>
                </a:lnTo>
                <a:lnTo>
                  <a:pt x="840" y="154"/>
                </a:lnTo>
                <a:lnTo>
                  <a:pt x="844" y="154"/>
                </a:lnTo>
                <a:lnTo>
                  <a:pt x="856" y="154"/>
                </a:lnTo>
                <a:lnTo>
                  <a:pt x="867" y="154"/>
                </a:lnTo>
                <a:lnTo>
                  <a:pt x="872" y="154"/>
                </a:lnTo>
                <a:lnTo>
                  <a:pt x="884" y="154"/>
                </a:lnTo>
                <a:lnTo>
                  <a:pt x="895" y="154"/>
                </a:lnTo>
                <a:lnTo>
                  <a:pt x="905" y="154"/>
                </a:lnTo>
                <a:lnTo>
                  <a:pt x="911" y="154"/>
                </a:lnTo>
                <a:lnTo>
                  <a:pt x="921" y="154"/>
                </a:lnTo>
                <a:lnTo>
                  <a:pt x="933" y="154"/>
                </a:lnTo>
                <a:lnTo>
                  <a:pt x="938" y="154"/>
                </a:lnTo>
                <a:lnTo>
                  <a:pt x="949" y="154"/>
                </a:lnTo>
                <a:lnTo>
                  <a:pt x="960" y="154"/>
                </a:lnTo>
                <a:lnTo>
                  <a:pt x="965" y="154"/>
                </a:lnTo>
                <a:lnTo>
                  <a:pt x="976" y="154"/>
                </a:lnTo>
                <a:lnTo>
                  <a:pt x="988" y="154"/>
                </a:lnTo>
                <a:lnTo>
                  <a:pt x="993" y="154"/>
                </a:lnTo>
                <a:lnTo>
                  <a:pt x="1004" y="154"/>
                </a:lnTo>
                <a:lnTo>
                  <a:pt x="1015" y="154"/>
                </a:lnTo>
                <a:lnTo>
                  <a:pt x="1025" y="154"/>
                </a:lnTo>
                <a:lnTo>
                  <a:pt x="1032" y="154"/>
                </a:lnTo>
                <a:lnTo>
                  <a:pt x="1042" y="154"/>
                </a:lnTo>
                <a:lnTo>
                  <a:pt x="1053" y="154"/>
                </a:lnTo>
                <a:lnTo>
                  <a:pt x="1059" y="154"/>
                </a:lnTo>
                <a:lnTo>
                  <a:pt x="1069" y="154"/>
                </a:lnTo>
                <a:lnTo>
                  <a:pt x="1081" y="154"/>
                </a:lnTo>
                <a:lnTo>
                  <a:pt x="1086" y="154"/>
                </a:lnTo>
                <a:lnTo>
                  <a:pt x="1097" y="154"/>
                </a:lnTo>
                <a:lnTo>
                  <a:pt x="1108" y="154"/>
                </a:lnTo>
                <a:lnTo>
                  <a:pt x="1120" y="154"/>
                </a:lnTo>
                <a:lnTo>
                  <a:pt x="1125" y="154"/>
                </a:lnTo>
                <a:lnTo>
                  <a:pt x="1136" y="154"/>
                </a:lnTo>
              </a:path>
            </a:pathLst>
          </a:custGeom>
          <a:noFill/>
          <a:ln cap="rnd"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6" name=""/>
          <p:cNvSpPr/>
          <p:nvPr/>
        </p:nvSpPr>
        <p:spPr>
          <a:xfrm>
            <a:off x="4946760" y="3117960"/>
            <a:ext cx="295200" cy="296640"/>
          </a:xfrm>
          <a:custGeom>
            <a:avLst/>
            <a:gdLst/>
            <a:ahLst/>
            <a:rect l="l" t="t" r="r" b="b"/>
            <a:pathLst>
              <a:path w="1237" h="1236">
                <a:moveTo>
                  <a:pt x="1224" y="60"/>
                </a:moveTo>
                <a:lnTo>
                  <a:pt x="260" y="1024"/>
                </a:lnTo>
                <a:cubicBezTo>
                  <a:pt x="247" y="1037"/>
                  <a:pt x="226" y="1037"/>
                  <a:pt x="213" y="1024"/>
                </a:cubicBezTo>
                <a:cubicBezTo>
                  <a:pt x="200" y="1011"/>
                  <a:pt x="200" y="990"/>
                  <a:pt x="213" y="977"/>
                </a:cubicBezTo>
                <a:lnTo>
                  <a:pt x="1177" y="13"/>
                </a:lnTo>
                <a:cubicBezTo>
                  <a:pt x="1190" y="0"/>
                  <a:pt x="1211" y="0"/>
                  <a:pt x="1224" y="13"/>
                </a:cubicBezTo>
                <a:cubicBezTo>
                  <a:pt x="1237" y="26"/>
                  <a:pt x="1237" y="47"/>
                  <a:pt x="1224" y="60"/>
                </a:cubicBezTo>
                <a:close/>
                <a:moveTo>
                  <a:pt x="425" y="1095"/>
                </a:moveTo>
                <a:lnTo>
                  <a:pt x="0" y="1236"/>
                </a:lnTo>
                <a:lnTo>
                  <a:pt x="142" y="812"/>
                </a:lnTo>
                <a:lnTo>
                  <a:pt x="425" y="1095"/>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5352480" y="291132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eping wave</a:t>
            </a:r>
            <a:endParaRPr b="0" lang="en-US" sz="1300" spc="-1" strike="noStrike">
              <a:solidFill>
                <a:srgbClr val="000000"/>
              </a:solidFill>
              <a:latin typeface="Times New Roman"/>
            </a:endParaRPr>
          </a:p>
        </p:txBody>
      </p:sp>
      <p:sp>
        <p:nvSpPr>
          <p:cNvPr id="3798" name=""/>
          <p:cNvSpPr/>
          <p:nvPr/>
        </p:nvSpPr>
        <p:spPr>
          <a:xfrm>
            <a:off x="4277520" y="528804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a:t>
            </a:r>
            <a:endParaRPr b="0" lang="en-US" sz="1300" spc="-1" strike="noStrike">
              <a:solidFill>
                <a:srgbClr val="000000"/>
              </a:solidFill>
              <a:latin typeface="Times New Roman"/>
            </a:endParaRPr>
          </a:p>
        </p:txBody>
      </p:sp>
      <p:sp>
        <p:nvSpPr>
          <p:cNvPr id="3799" name=""/>
          <p:cNvSpPr/>
          <p:nvPr/>
        </p:nvSpPr>
        <p:spPr>
          <a:xfrm>
            <a:off x="4667400" y="527040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800" name=""/>
          <p:cNvSpPr/>
          <p:nvPr/>
        </p:nvSpPr>
        <p:spPr>
          <a:xfrm>
            <a:off x="4756320" y="5288040"/>
            <a:ext cx="256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a:t>
            </a:r>
            <a:endParaRPr b="0" lang="en-US" sz="1300" spc="-1" strike="noStrike">
              <a:solidFill>
                <a:srgbClr val="000000"/>
              </a:solidFill>
              <a:latin typeface="Times New Roman"/>
            </a:endParaRPr>
          </a:p>
        </p:txBody>
      </p:sp>
      <p:sp>
        <p:nvSpPr>
          <p:cNvPr id="3801" name=""/>
          <p:cNvSpPr/>
          <p:nvPr/>
        </p:nvSpPr>
        <p:spPr>
          <a:xfrm rot="16200000">
            <a:off x="2171160" y="366336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litude</a:t>
            </a:r>
            <a:endParaRPr b="0" lang="en-US" sz="1300" spc="-1" strike="noStrike">
              <a:solidFill>
                <a:srgbClr val="000000"/>
              </a:solidFill>
              <a:latin typeface="Times New Roman"/>
            </a:endParaRPr>
          </a:p>
        </p:txBody>
      </p:sp>
      <p:sp>
        <p:nvSpPr>
          <p:cNvPr id="3802" name=""/>
          <p:cNvSpPr/>
          <p:nvPr/>
        </p:nvSpPr>
        <p:spPr>
          <a:xfrm>
            <a:off x="2997360" y="2665440"/>
            <a:ext cx="3779640" cy="221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2997360" y="2665440"/>
            <a:ext cx="3779640" cy="221940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2997360" y="2665440"/>
            <a:ext cx="377964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5" name=""/>
          <p:cNvSpPr/>
          <p:nvPr/>
        </p:nvSpPr>
        <p:spPr>
          <a:xfrm>
            <a:off x="2997360" y="2665440"/>
            <a:ext cx="3779640" cy="2219400"/>
          </a:xfrm>
          <a:custGeom>
            <a:avLst/>
            <a:gdLst/>
            <a:ahLst/>
            <a:rect l="l" t="t" r="r" b="b"/>
            <a:pathLst>
              <a:path w="2381" h="1398">
                <a:moveTo>
                  <a:pt x="0" y="1398"/>
                </a:moveTo>
                <a:lnTo>
                  <a:pt x="2381" y="1398"/>
                </a:lnTo>
                <a:lnTo>
                  <a:pt x="238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flipV="1">
            <a:off x="2997360" y="2665080"/>
            <a:ext cx="2880" cy="221940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flipV="1">
            <a:off x="2997360" y="4843080"/>
            <a:ext cx="288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8" name=""/>
          <p:cNvSpPr/>
          <p:nvPr/>
        </p:nvSpPr>
        <p:spPr>
          <a:xfrm>
            <a:off x="2997360" y="26654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09" name=""/>
          <p:cNvSpPr/>
          <p:nvPr/>
        </p:nvSpPr>
        <p:spPr>
          <a:xfrm>
            <a:off x="2936880" y="4979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10" name=""/>
          <p:cNvSpPr/>
          <p:nvPr/>
        </p:nvSpPr>
        <p:spPr>
          <a:xfrm>
            <a:off x="299088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3811" name=""/>
          <p:cNvSpPr/>
          <p:nvPr/>
        </p:nvSpPr>
        <p:spPr>
          <a:xfrm flipV="1">
            <a:off x="3745080" y="4843080"/>
            <a:ext cx="288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12" name=""/>
          <p:cNvSpPr/>
          <p:nvPr/>
        </p:nvSpPr>
        <p:spPr>
          <a:xfrm>
            <a:off x="3745080" y="2665440"/>
            <a:ext cx="288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13" name=""/>
          <p:cNvSpPr/>
          <p:nvPr/>
        </p:nvSpPr>
        <p:spPr>
          <a:xfrm>
            <a:off x="3633840" y="4979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14" name=""/>
          <p:cNvSpPr/>
          <p:nvPr/>
        </p:nvSpPr>
        <p:spPr>
          <a:xfrm>
            <a:off x="368820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3815" name=""/>
          <p:cNvSpPr/>
          <p:nvPr/>
        </p:nvSpPr>
        <p:spPr>
          <a:xfrm flipV="1">
            <a:off x="4503600" y="4843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16" name=""/>
          <p:cNvSpPr/>
          <p:nvPr/>
        </p:nvSpPr>
        <p:spPr>
          <a:xfrm>
            <a:off x="4503600" y="26654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17" name=""/>
          <p:cNvSpPr/>
          <p:nvPr/>
        </p:nvSpPr>
        <p:spPr>
          <a:xfrm>
            <a:off x="447840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3818" name=""/>
          <p:cNvSpPr/>
          <p:nvPr/>
        </p:nvSpPr>
        <p:spPr>
          <a:xfrm flipV="1">
            <a:off x="5261040" y="4843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19" name=""/>
          <p:cNvSpPr/>
          <p:nvPr/>
        </p:nvSpPr>
        <p:spPr>
          <a:xfrm>
            <a:off x="5261040" y="266544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20" name=""/>
          <p:cNvSpPr/>
          <p:nvPr/>
        </p:nvSpPr>
        <p:spPr>
          <a:xfrm>
            <a:off x="518508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3821" name=""/>
          <p:cNvSpPr/>
          <p:nvPr/>
        </p:nvSpPr>
        <p:spPr>
          <a:xfrm flipV="1">
            <a:off x="6019920" y="4843080"/>
            <a:ext cx="144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22" name=""/>
          <p:cNvSpPr/>
          <p:nvPr/>
        </p:nvSpPr>
        <p:spPr>
          <a:xfrm>
            <a:off x="6019920" y="2665440"/>
            <a:ext cx="144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23" name=""/>
          <p:cNvSpPr/>
          <p:nvPr/>
        </p:nvSpPr>
        <p:spPr>
          <a:xfrm>
            <a:off x="5994360" y="49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3824" name=""/>
          <p:cNvSpPr/>
          <p:nvPr/>
        </p:nvSpPr>
        <p:spPr>
          <a:xfrm flipV="1">
            <a:off x="6777000" y="4843080"/>
            <a:ext cx="1800" cy="41400"/>
          </a:xfrm>
          <a:prstGeom prst="line">
            <a:avLst/>
          </a:prstGeom>
          <a:ln cap="rnd"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25" name=""/>
          <p:cNvSpPr/>
          <p:nvPr/>
        </p:nvSpPr>
        <p:spPr>
          <a:xfrm>
            <a:off x="6777000" y="2665440"/>
            <a:ext cx="1800" cy="33480"/>
          </a:xfrm>
          <a:prstGeom prst="line">
            <a:avLst/>
          </a:prstGeom>
          <a:ln cap="rnd"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26" name=""/>
          <p:cNvSpPr/>
          <p:nvPr/>
        </p:nvSpPr>
        <p:spPr>
          <a:xfrm>
            <a:off x="6699600" y="497988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3827" name=""/>
          <p:cNvSpPr/>
          <p:nvPr/>
        </p:nvSpPr>
        <p:spPr>
          <a:xfrm>
            <a:off x="2997360" y="4884840"/>
            <a:ext cx="349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8" name=""/>
          <p:cNvSpPr/>
          <p:nvPr/>
        </p:nvSpPr>
        <p:spPr>
          <a:xfrm flipH="1">
            <a:off x="6732360" y="4884840"/>
            <a:ext cx="442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9" name=""/>
          <p:cNvSpPr/>
          <p:nvPr/>
        </p:nvSpPr>
        <p:spPr>
          <a:xfrm>
            <a:off x="2735280" y="4826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30" name=""/>
          <p:cNvSpPr/>
          <p:nvPr/>
        </p:nvSpPr>
        <p:spPr>
          <a:xfrm>
            <a:off x="2789280" y="4826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3831" name=""/>
          <p:cNvSpPr/>
          <p:nvPr/>
        </p:nvSpPr>
        <p:spPr>
          <a:xfrm>
            <a:off x="2997360" y="456408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2" name=""/>
          <p:cNvSpPr/>
          <p:nvPr/>
        </p:nvSpPr>
        <p:spPr>
          <a:xfrm flipH="1">
            <a:off x="6732360" y="456408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3" name=""/>
          <p:cNvSpPr/>
          <p:nvPr/>
        </p:nvSpPr>
        <p:spPr>
          <a:xfrm>
            <a:off x="2735280" y="450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34" name=""/>
          <p:cNvSpPr/>
          <p:nvPr/>
        </p:nvSpPr>
        <p:spPr>
          <a:xfrm>
            <a:off x="2789280" y="4502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3835" name=""/>
          <p:cNvSpPr/>
          <p:nvPr/>
        </p:nvSpPr>
        <p:spPr>
          <a:xfrm>
            <a:off x="2997360" y="424980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6" name=""/>
          <p:cNvSpPr/>
          <p:nvPr/>
        </p:nvSpPr>
        <p:spPr>
          <a:xfrm flipH="1">
            <a:off x="6732360" y="424980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2735280" y="4189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38" name=""/>
          <p:cNvSpPr/>
          <p:nvPr/>
        </p:nvSpPr>
        <p:spPr>
          <a:xfrm>
            <a:off x="2789280" y="41893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3839" name=""/>
          <p:cNvSpPr/>
          <p:nvPr/>
        </p:nvSpPr>
        <p:spPr>
          <a:xfrm>
            <a:off x="2997360" y="3927600"/>
            <a:ext cx="349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0" name=""/>
          <p:cNvSpPr/>
          <p:nvPr/>
        </p:nvSpPr>
        <p:spPr>
          <a:xfrm flipH="1">
            <a:off x="6732360" y="3927600"/>
            <a:ext cx="442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1" name=""/>
          <p:cNvSpPr/>
          <p:nvPr/>
        </p:nvSpPr>
        <p:spPr>
          <a:xfrm>
            <a:off x="2735280" y="38671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3842" name=""/>
          <p:cNvSpPr/>
          <p:nvPr/>
        </p:nvSpPr>
        <p:spPr>
          <a:xfrm>
            <a:off x="2789280" y="3867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3843" name=""/>
          <p:cNvSpPr/>
          <p:nvPr/>
        </p:nvSpPr>
        <p:spPr>
          <a:xfrm>
            <a:off x="2997360" y="36147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4" name=""/>
          <p:cNvSpPr/>
          <p:nvPr/>
        </p:nvSpPr>
        <p:spPr>
          <a:xfrm flipH="1">
            <a:off x="6732360" y="361476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5" name=""/>
          <p:cNvSpPr/>
          <p:nvPr/>
        </p:nvSpPr>
        <p:spPr>
          <a:xfrm>
            <a:off x="2832120" y="3554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3846" name=""/>
          <p:cNvSpPr/>
          <p:nvPr/>
        </p:nvSpPr>
        <p:spPr>
          <a:xfrm>
            <a:off x="2997360" y="329256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7" name=""/>
          <p:cNvSpPr/>
          <p:nvPr/>
        </p:nvSpPr>
        <p:spPr>
          <a:xfrm flipH="1">
            <a:off x="6732360" y="329256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8" name=""/>
          <p:cNvSpPr/>
          <p:nvPr/>
        </p:nvSpPr>
        <p:spPr>
          <a:xfrm>
            <a:off x="2770200" y="32320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3849" name=""/>
          <p:cNvSpPr/>
          <p:nvPr/>
        </p:nvSpPr>
        <p:spPr>
          <a:xfrm>
            <a:off x="2997360" y="297972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0" name=""/>
          <p:cNvSpPr/>
          <p:nvPr/>
        </p:nvSpPr>
        <p:spPr>
          <a:xfrm flipH="1">
            <a:off x="6732360" y="297972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1" name=""/>
          <p:cNvSpPr/>
          <p:nvPr/>
        </p:nvSpPr>
        <p:spPr>
          <a:xfrm>
            <a:off x="2770200" y="29178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3852" name=""/>
          <p:cNvSpPr/>
          <p:nvPr/>
        </p:nvSpPr>
        <p:spPr>
          <a:xfrm>
            <a:off x="2997360" y="2665440"/>
            <a:ext cx="3492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3" name=""/>
          <p:cNvSpPr/>
          <p:nvPr/>
        </p:nvSpPr>
        <p:spPr>
          <a:xfrm flipH="1">
            <a:off x="6732360" y="2665440"/>
            <a:ext cx="44280" cy="1440"/>
          </a:xfrm>
          <a:prstGeom prst="line">
            <a:avLst/>
          </a:prstGeom>
          <a:ln cap="rnd"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4" name=""/>
          <p:cNvSpPr/>
          <p:nvPr/>
        </p:nvSpPr>
        <p:spPr>
          <a:xfrm>
            <a:off x="2770200" y="2604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3855" name=""/>
          <p:cNvSpPr/>
          <p:nvPr/>
        </p:nvSpPr>
        <p:spPr>
          <a:xfrm>
            <a:off x="3024360" y="2890800"/>
            <a:ext cx="1879560" cy="1793880"/>
          </a:xfrm>
          <a:custGeom>
            <a:avLst/>
            <a:gdLst/>
            <a:ahLst/>
            <a:rect l="l" t="t" r="r" b="b"/>
            <a:pathLst>
              <a:path w="1184" h="1130">
                <a:moveTo>
                  <a:pt x="0" y="456"/>
                </a:moveTo>
                <a:lnTo>
                  <a:pt x="11" y="456"/>
                </a:lnTo>
                <a:lnTo>
                  <a:pt x="21" y="456"/>
                </a:lnTo>
                <a:lnTo>
                  <a:pt x="27" y="456"/>
                </a:lnTo>
                <a:lnTo>
                  <a:pt x="37" y="456"/>
                </a:lnTo>
                <a:lnTo>
                  <a:pt x="49" y="456"/>
                </a:lnTo>
                <a:lnTo>
                  <a:pt x="60" y="456"/>
                </a:lnTo>
                <a:lnTo>
                  <a:pt x="65" y="456"/>
                </a:lnTo>
                <a:lnTo>
                  <a:pt x="76" y="456"/>
                </a:lnTo>
                <a:lnTo>
                  <a:pt x="88" y="456"/>
                </a:lnTo>
                <a:lnTo>
                  <a:pt x="93" y="456"/>
                </a:lnTo>
                <a:lnTo>
                  <a:pt x="104" y="456"/>
                </a:lnTo>
                <a:lnTo>
                  <a:pt x="115" y="456"/>
                </a:lnTo>
                <a:lnTo>
                  <a:pt x="120" y="456"/>
                </a:lnTo>
                <a:lnTo>
                  <a:pt x="132" y="456"/>
                </a:lnTo>
                <a:lnTo>
                  <a:pt x="142" y="456"/>
                </a:lnTo>
                <a:lnTo>
                  <a:pt x="153" y="456"/>
                </a:lnTo>
                <a:lnTo>
                  <a:pt x="158" y="456"/>
                </a:lnTo>
                <a:lnTo>
                  <a:pt x="169" y="456"/>
                </a:lnTo>
                <a:lnTo>
                  <a:pt x="181" y="456"/>
                </a:lnTo>
                <a:lnTo>
                  <a:pt x="186" y="456"/>
                </a:lnTo>
                <a:lnTo>
                  <a:pt x="197" y="456"/>
                </a:lnTo>
                <a:lnTo>
                  <a:pt x="208" y="456"/>
                </a:lnTo>
                <a:lnTo>
                  <a:pt x="213" y="456"/>
                </a:lnTo>
                <a:lnTo>
                  <a:pt x="225" y="456"/>
                </a:lnTo>
                <a:lnTo>
                  <a:pt x="236" y="456"/>
                </a:lnTo>
                <a:lnTo>
                  <a:pt x="246" y="456"/>
                </a:lnTo>
                <a:lnTo>
                  <a:pt x="252" y="456"/>
                </a:lnTo>
                <a:lnTo>
                  <a:pt x="262" y="456"/>
                </a:lnTo>
                <a:lnTo>
                  <a:pt x="274" y="456"/>
                </a:lnTo>
                <a:lnTo>
                  <a:pt x="279" y="456"/>
                </a:lnTo>
                <a:lnTo>
                  <a:pt x="290" y="456"/>
                </a:lnTo>
                <a:lnTo>
                  <a:pt x="301" y="456"/>
                </a:lnTo>
                <a:lnTo>
                  <a:pt x="306" y="456"/>
                </a:lnTo>
                <a:lnTo>
                  <a:pt x="317" y="456"/>
                </a:lnTo>
                <a:lnTo>
                  <a:pt x="329" y="456"/>
                </a:lnTo>
                <a:lnTo>
                  <a:pt x="334" y="456"/>
                </a:lnTo>
                <a:lnTo>
                  <a:pt x="345" y="456"/>
                </a:lnTo>
                <a:lnTo>
                  <a:pt x="356" y="456"/>
                </a:lnTo>
                <a:lnTo>
                  <a:pt x="366" y="456"/>
                </a:lnTo>
                <a:lnTo>
                  <a:pt x="373" y="456"/>
                </a:lnTo>
                <a:lnTo>
                  <a:pt x="383" y="456"/>
                </a:lnTo>
                <a:lnTo>
                  <a:pt x="394" y="456"/>
                </a:lnTo>
                <a:lnTo>
                  <a:pt x="400" y="456"/>
                </a:lnTo>
                <a:lnTo>
                  <a:pt x="410" y="456"/>
                </a:lnTo>
                <a:lnTo>
                  <a:pt x="422" y="456"/>
                </a:lnTo>
                <a:lnTo>
                  <a:pt x="427" y="456"/>
                </a:lnTo>
                <a:lnTo>
                  <a:pt x="438" y="456"/>
                </a:lnTo>
                <a:lnTo>
                  <a:pt x="449" y="456"/>
                </a:lnTo>
                <a:lnTo>
                  <a:pt x="461" y="456"/>
                </a:lnTo>
                <a:lnTo>
                  <a:pt x="466" y="456"/>
                </a:lnTo>
                <a:lnTo>
                  <a:pt x="477" y="456"/>
                </a:lnTo>
                <a:lnTo>
                  <a:pt x="487" y="456"/>
                </a:lnTo>
                <a:lnTo>
                  <a:pt x="493" y="456"/>
                </a:lnTo>
                <a:lnTo>
                  <a:pt x="505" y="456"/>
                </a:lnTo>
                <a:lnTo>
                  <a:pt x="515" y="456"/>
                </a:lnTo>
                <a:lnTo>
                  <a:pt x="521" y="456"/>
                </a:lnTo>
                <a:lnTo>
                  <a:pt x="531" y="456"/>
                </a:lnTo>
                <a:lnTo>
                  <a:pt x="542" y="456"/>
                </a:lnTo>
                <a:lnTo>
                  <a:pt x="554" y="456"/>
                </a:lnTo>
                <a:lnTo>
                  <a:pt x="559" y="456"/>
                </a:lnTo>
                <a:lnTo>
                  <a:pt x="570" y="456"/>
                </a:lnTo>
                <a:lnTo>
                  <a:pt x="581" y="456"/>
                </a:lnTo>
                <a:lnTo>
                  <a:pt x="586" y="456"/>
                </a:lnTo>
                <a:lnTo>
                  <a:pt x="598" y="456"/>
                </a:lnTo>
                <a:lnTo>
                  <a:pt x="608" y="456"/>
                </a:lnTo>
                <a:lnTo>
                  <a:pt x="614" y="456"/>
                </a:lnTo>
                <a:lnTo>
                  <a:pt x="625" y="456"/>
                </a:lnTo>
                <a:lnTo>
                  <a:pt x="635" y="456"/>
                </a:lnTo>
                <a:lnTo>
                  <a:pt x="642" y="456"/>
                </a:lnTo>
                <a:lnTo>
                  <a:pt x="652" y="456"/>
                </a:lnTo>
                <a:lnTo>
                  <a:pt x="663" y="456"/>
                </a:lnTo>
                <a:lnTo>
                  <a:pt x="674" y="456"/>
                </a:lnTo>
                <a:lnTo>
                  <a:pt x="679" y="451"/>
                </a:lnTo>
                <a:lnTo>
                  <a:pt x="691" y="461"/>
                </a:lnTo>
                <a:lnTo>
                  <a:pt x="702" y="456"/>
                </a:lnTo>
                <a:lnTo>
                  <a:pt x="707" y="456"/>
                </a:lnTo>
                <a:lnTo>
                  <a:pt x="718" y="456"/>
                </a:lnTo>
                <a:lnTo>
                  <a:pt x="730" y="433"/>
                </a:lnTo>
                <a:lnTo>
                  <a:pt x="735" y="500"/>
                </a:lnTo>
                <a:lnTo>
                  <a:pt x="746" y="484"/>
                </a:lnTo>
                <a:lnTo>
                  <a:pt x="756" y="286"/>
                </a:lnTo>
                <a:lnTo>
                  <a:pt x="767" y="528"/>
                </a:lnTo>
                <a:lnTo>
                  <a:pt x="772" y="1130"/>
                </a:lnTo>
                <a:lnTo>
                  <a:pt x="784" y="900"/>
                </a:lnTo>
                <a:lnTo>
                  <a:pt x="795" y="66"/>
                </a:lnTo>
                <a:lnTo>
                  <a:pt x="800" y="0"/>
                </a:lnTo>
                <a:lnTo>
                  <a:pt x="811" y="445"/>
                </a:lnTo>
                <a:lnTo>
                  <a:pt x="822" y="500"/>
                </a:lnTo>
                <a:lnTo>
                  <a:pt x="828" y="390"/>
                </a:lnTo>
                <a:lnTo>
                  <a:pt x="839" y="428"/>
                </a:lnTo>
                <a:lnTo>
                  <a:pt x="850" y="445"/>
                </a:lnTo>
                <a:lnTo>
                  <a:pt x="860" y="433"/>
                </a:lnTo>
                <a:lnTo>
                  <a:pt x="866" y="445"/>
                </a:lnTo>
                <a:lnTo>
                  <a:pt x="877" y="433"/>
                </a:lnTo>
                <a:lnTo>
                  <a:pt x="888" y="433"/>
                </a:lnTo>
                <a:lnTo>
                  <a:pt x="893" y="439"/>
                </a:lnTo>
                <a:lnTo>
                  <a:pt x="904" y="433"/>
                </a:lnTo>
                <a:lnTo>
                  <a:pt x="915" y="433"/>
                </a:lnTo>
                <a:lnTo>
                  <a:pt x="920" y="433"/>
                </a:lnTo>
                <a:lnTo>
                  <a:pt x="932" y="433"/>
                </a:lnTo>
                <a:lnTo>
                  <a:pt x="943" y="439"/>
                </a:lnTo>
                <a:lnTo>
                  <a:pt x="948" y="439"/>
                </a:lnTo>
                <a:lnTo>
                  <a:pt x="959" y="439"/>
                </a:lnTo>
                <a:lnTo>
                  <a:pt x="971" y="439"/>
                </a:lnTo>
                <a:lnTo>
                  <a:pt x="981" y="439"/>
                </a:lnTo>
                <a:lnTo>
                  <a:pt x="987" y="439"/>
                </a:lnTo>
                <a:lnTo>
                  <a:pt x="997" y="439"/>
                </a:lnTo>
                <a:lnTo>
                  <a:pt x="1008" y="445"/>
                </a:lnTo>
                <a:lnTo>
                  <a:pt x="1015" y="445"/>
                </a:lnTo>
                <a:lnTo>
                  <a:pt x="1025" y="445"/>
                </a:lnTo>
                <a:lnTo>
                  <a:pt x="1036" y="445"/>
                </a:lnTo>
                <a:lnTo>
                  <a:pt x="1041" y="445"/>
                </a:lnTo>
                <a:lnTo>
                  <a:pt x="1052" y="451"/>
                </a:lnTo>
                <a:lnTo>
                  <a:pt x="1064" y="456"/>
                </a:lnTo>
                <a:lnTo>
                  <a:pt x="1075" y="456"/>
                </a:lnTo>
                <a:lnTo>
                  <a:pt x="1080" y="456"/>
                </a:lnTo>
                <a:lnTo>
                  <a:pt x="1091" y="456"/>
                </a:lnTo>
                <a:lnTo>
                  <a:pt x="1101" y="451"/>
                </a:lnTo>
                <a:lnTo>
                  <a:pt x="1108" y="451"/>
                </a:lnTo>
                <a:lnTo>
                  <a:pt x="1119" y="451"/>
                </a:lnTo>
                <a:lnTo>
                  <a:pt x="1129" y="451"/>
                </a:lnTo>
                <a:lnTo>
                  <a:pt x="1135" y="456"/>
                </a:lnTo>
                <a:lnTo>
                  <a:pt x="1145" y="433"/>
                </a:lnTo>
                <a:lnTo>
                  <a:pt x="1157" y="445"/>
                </a:lnTo>
                <a:lnTo>
                  <a:pt x="1168" y="489"/>
                </a:lnTo>
                <a:lnTo>
                  <a:pt x="1173" y="423"/>
                </a:lnTo>
                <a:lnTo>
                  <a:pt x="1184" y="302"/>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4903920" y="3370320"/>
            <a:ext cx="1803240" cy="506520"/>
          </a:xfrm>
          <a:custGeom>
            <a:avLst/>
            <a:gdLst/>
            <a:ahLst/>
            <a:rect l="l" t="t" r="r" b="b"/>
            <a:pathLst>
              <a:path w="1136" h="319">
                <a:moveTo>
                  <a:pt x="0" y="0"/>
                </a:moveTo>
                <a:lnTo>
                  <a:pt x="12" y="110"/>
                </a:lnTo>
                <a:lnTo>
                  <a:pt x="17" y="319"/>
                </a:lnTo>
                <a:lnTo>
                  <a:pt x="28" y="296"/>
                </a:lnTo>
                <a:lnTo>
                  <a:pt x="38" y="170"/>
                </a:lnTo>
                <a:lnTo>
                  <a:pt x="44" y="159"/>
                </a:lnTo>
                <a:lnTo>
                  <a:pt x="56" y="175"/>
                </a:lnTo>
                <a:lnTo>
                  <a:pt x="66" y="165"/>
                </a:lnTo>
                <a:lnTo>
                  <a:pt x="72" y="159"/>
                </a:lnTo>
                <a:lnTo>
                  <a:pt x="82" y="159"/>
                </a:lnTo>
                <a:lnTo>
                  <a:pt x="93" y="154"/>
                </a:lnTo>
                <a:lnTo>
                  <a:pt x="105" y="154"/>
                </a:lnTo>
                <a:lnTo>
                  <a:pt x="110" y="154"/>
                </a:lnTo>
                <a:lnTo>
                  <a:pt x="121" y="154"/>
                </a:lnTo>
                <a:lnTo>
                  <a:pt x="132" y="154"/>
                </a:lnTo>
                <a:lnTo>
                  <a:pt x="137" y="154"/>
                </a:lnTo>
                <a:lnTo>
                  <a:pt x="149" y="154"/>
                </a:lnTo>
                <a:lnTo>
                  <a:pt x="160" y="154"/>
                </a:lnTo>
                <a:lnTo>
                  <a:pt x="165" y="154"/>
                </a:lnTo>
                <a:lnTo>
                  <a:pt x="176" y="154"/>
                </a:lnTo>
                <a:lnTo>
                  <a:pt x="186" y="154"/>
                </a:lnTo>
                <a:lnTo>
                  <a:pt x="198" y="154"/>
                </a:lnTo>
                <a:lnTo>
                  <a:pt x="203" y="154"/>
                </a:lnTo>
                <a:lnTo>
                  <a:pt x="214" y="154"/>
                </a:lnTo>
                <a:lnTo>
                  <a:pt x="225" y="154"/>
                </a:lnTo>
                <a:lnTo>
                  <a:pt x="230" y="154"/>
                </a:lnTo>
                <a:lnTo>
                  <a:pt x="241" y="154"/>
                </a:lnTo>
                <a:lnTo>
                  <a:pt x="253" y="154"/>
                </a:lnTo>
                <a:lnTo>
                  <a:pt x="258" y="154"/>
                </a:lnTo>
                <a:lnTo>
                  <a:pt x="269" y="154"/>
                </a:lnTo>
                <a:lnTo>
                  <a:pt x="281" y="154"/>
                </a:lnTo>
                <a:lnTo>
                  <a:pt x="290" y="154"/>
                </a:lnTo>
                <a:lnTo>
                  <a:pt x="297" y="154"/>
                </a:lnTo>
                <a:lnTo>
                  <a:pt x="307" y="154"/>
                </a:lnTo>
                <a:lnTo>
                  <a:pt x="318" y="154"/>
                </a:lnTo>
                <a:lnTo>
                  <a:pt x="323" y="154"/>
                </a:lnTo>
                <a:lnTo>
                  <a:pt x="334" y="154"/>
                </a:lnTo>
                <a:lnTo>
                  <a:pt x="346" y="154"/>
                </a:lnTo>
                <a:lnTo>
                  <a:pt x="351" y="154"/>
                </a:lnTo>
                <a:lnTo>
                  <a:pt x="362" y="154"/>
                </a:lnTo>
                <a:lnTo>
                  <a:pt x="373" y="154"/>
                </a:lnTo>
                <a:lnTo>
                  <a:pt x="379" y="154"/>
                </a:lnTo>
                <a:lnTo>
                  <a:pt x="390" y="154"/>
                </a:lnTo>
                <a:lnTo>
                  <a:pt x="401" y="154"/>
                </a:lnTo>
                <a:lnTo>
                  <a:pt x="411" y="154"/>
                </a:lnTo>
                <a:lnTo>
                  <a:pt x="417" y="154"/>
                </a:lnTo>
                <a:lnTo>
                  <a:pt x="428" y="154"/>
                </a:lnTo>
                <a:lnTo>
                  <a:pt x="439" y="154"/>
                </a:lnTo>
                <a:lnTo>
                  <a:pt x="445" y="154"/>
                </a:lnTo>
                <a:lnTo>
                  <a:pt x="455" y="154"/>
                </a:lnTo>
                <a:lnTo>
                  <a:pt x="466" y="154"/>
                </a:lnTo>
                <a:lnTo>
                  <a:pt x="471" y="154"/>
                </a:lnTo>
                <a:lnTo>
                  <a:pt x="483" y="154"/>
                </a:lnTo>
                <a:lnTo>
                  <a:pt x="494" y="154"/>
                </a:lnTo>
                <a:lnTo>
                  <a:pt x="505" y="154"/>
                </a:lnTo>
                <a:lnTo>
                  <a:pt x="510" y="154"/>
                </a:lnTo>
                <a:lnTo>
                  <a:pt x="522" y="154"/>
                </a:lnTo>
                <a:lnTo>
                  <a:pt x="532" y="154"/>
                </a:lnTo>
                <a:lnTo>
                  <a:pt x="538" y="149"/>
                </a:lnTo>
                <a:lnTo>
                  <a:pt x="549" y="149"/>
                </a:lnTo>
                <a:lnTo>
                  <a:pt x="559" y="154"/>
                </a:lnTo>
                <a:lnTo>
                  <a:pt x="566" y="154"/>
                </a:lnTo>
                <a:lnTo>
                  <a:pt x="576" y="154"/>
                </a:lnTo>
                <a:lnTo>
                  <a:pt x="587" y="154"/>
                </a:lnTo>
                <a:lnTo>
                  <a:pt x="598" y="154"/>
                </a:lnTo>
                <a:lnTo>
                  <a:pt x="603" y="154"/>
                </a:lnTo>
                <a:lnTo>
                  <a:pt x="615" y="154"/>
                </a:lnTo>
                <a:lnTo>
                  <a:pt x="626" y="154"/>
                </a:lnTo>
                <a:lnTo>
                  <a:pt x="631" y="154"/>
                </a:lnTo>
                <a:lnTo>
                  <a:pt x="642" y="154"/>
                </a:lnTo>
                <a:lnTo>
                  <a:pt x="652" y="154"/>
                </a:lnTo>
                <a:lnTo>
                  <a:pt x="659" y="154"/>
                </a:lnTo>
                <a:lnTo>
                  <a:pt x="670" y="154"/>
                </a:lnTo>
                <a:lnTo>
                  <a:pt x="680" y="154"/>
                </a:lnTo>
                <a:lnTo>
                  <a:pt x="686" y="154"/>
                </a:lnTo>
                <a:lnTo>
                  <a:pt x="696" y="154"/>
                </a:lnTo>
                <a:lnTo>
                  <a:pt x="708" y="154"/>
                </a:lnTo>
                <a:lnTo>
                  <a:pt x="719" y="154"/>
                </a:lnTo>
                <a:lnTo>
                  <a:pt x="724" y="154"/>
                </a:lnTo>
                <a:lnTo>
                  <a:pt x="735" y="154"/>
                </a:lnTo>
                <a:lnTo>
                  <a:pt x="746" y="154"/>
                </a:lnTo>
                <a:lnTo>
                  <a:pt x="752" y="154"/>
                </a:lnTo>
                <a:lnTo>
                  <a:pt x="763" y="154"/>
                </a:lnTo>
                <a:lnTo>
                  <a:pt x="774" y="154"/>
                </a:lnTo>
                <a:lnTo>
                  <a:pt x="779" y="154"/>
                </a:lnTo>
                <a:lnTo>
                  <a:pt x="791" y="154"/>
                </a:lnTo>
                <a:lnTo>
                  <a:pt x="801" y="154"/>
                </a:lnTo>
                <a:lnTo>
                  <a:pt x="812" y="154"/>
                </a:lnTo>
                <a:lnTo>
                  <a:pt x="817" y="154"/>
                </a:lnTo>
                <a:lnTo>
                  <a:pt x="828" y="154"/>
                </a:lnTo>
                <a:lnTo>
                  <a:pt x="840" y="154"/>
                </a:lnTo>
                <a:lnTo>
                  <a:pt x="844" y="154"/>
                </a:lnTo>
                <a:lnTo>
                  <a:pt x="856" y="154"/>
                </a:lnTo>
                <a:lnTo>
                  <a:pt x="867" y="154"/>
                </a:lnTo>
                <a:lnTo>
                  <a:pt x="872" y="154"/>
                </a:lnTo>
                <a:lnTo>
                  <a:pt x="884" y="154"/>
                </a:lnTo>
                <a:lnTo>
                  <a:pt x="895" y="154"/>
                </a:lnTo>
                <a:lnTo>
                  <a:pt x="905" y="154"/>
                </a:lnTo>
                <a:lnTo>
                  <a:pt x="911" y="154"/>
                </a:lnTo>
                <a:lnTo>
                  <a:pt x="921" y="154"/>
                </a:lnTo>
                <a:lnTo>
                  <a:pt x="933" y="154"/>
                </a:lnTo>
                <a:lnTo>
                  <a:pt x="938" y="154"/>
                </a:lnTo>
                <a:lnTo>
                  <a:pt x="949" y="154"/>
                </a:lnTo>
                <a:lnTo>
                  <a:pt x="960" y="154"/>
                </a:lnTo>
                <a:lnTo>
                  <a:pt x="965" y="154"/>
                </a:lnTo>
                <a:lnTo>
                  <a:pt x="976" y="154"/>
                </a:lnTo>
                <a:lnTo>
                  <a:pt x="988" y="154"/>
                </a:lnTo>
                <a:lnTo>
                  <a:pt x="993" y="154"/>
                </a:lnTo>
                <a:lnTo>
                  <a:pt x="1004" y="154"/>
                </a:lnTo>
                <a:lnTo>
                  <a:pt x="1015" y="154"/>
                </a:lnTo>
                <a:lnTo>
                  <a:pt x="1025" y="154"/>
                </a:lnTo>
                <a:lnTo>
                  <a:pt x="1032" y="154"/>
                </a:lnTo>
                <a:lnTo>
                  <a:pt x="1042" y="154"/>
                </a:lnTo>
                <a:lnTo>
                  <a:pt x="1053" y="154"/>
                </a:lnTo>
                <a:lnTo>
                  <a:pt x="1059" y="154"/>
                </a:lnTo>
                <a:lnTo>
                  <a:pt x="1069" y="154"/>
                </a:lnTo>
                <a:lnTo>
                  <a:pt x="1081" y="154"/>
                </a:lnTo>
                <a:lnTo>
                  <a:pt x="1086" y="154"/>
                </a:lnTo>
                <a:lnTo>
                  <a:pt x="1097" y="154"/>
                </a:lnTo>
                <a:lnTo>
                  <a:pt x="1108" y="154"/>
                </a:lnTo>
                <a:lnTo>
                  <a:pt x="1120" y="154"/>
                </a:lnTo>
                <a:lnTo>
                  <a:pt x="1125" y="154"/>
                </a:lnTo>
                <a:lnTo>
                  <a:pt x="1136" y="154"/>
                </a:ln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4946760" y="3117960"/>
            <a:ext cx="295200" cy="296640"/>
          </a:xfrm>
          <a:custGeom>
            <a:avLst/>
            <a:gdLst/>
            <a:ahLst/>
            <a:rect l="l" t="t" r="r" b="b"/>
            <a:pathLst>
              <a:path w="1237" h="1236">
                <a:moveTo>
                  <a:pt x="1224" y="60"/>
                </a:moveTo>
                <a:lnTo>
                  <a:pt x="260" y="1024"/>
                </a:lnTo>
                <a:cubicBezTo>
                  <a:pt x="247" y="1037"/>
                  <a:pt x="226" y="1037"/>
                  <a:pt x="213" y="1024"/>
                </a:cubicBezTo>
                <a:cubicBezTo>
                  <a:pt x="200" y="1011"/>
                  <a:pt x="200" y="990"/>
                  <a:pt x="213" y="977"/>
                </a:cubicBezTo>
                <a:lnTo>
                  <a:pt x="1177" y="13"/>
                </a:lnTo>
                <a:cubicBezTo>
                  <a:pt x="1190" y="0"/>
                  <a:pt x="1211" y="0"/>
                  <a:pt x="1224" y="13"/>
                </a:cubicBezTo>
                <a:cubicBezTo>
                  <a:pt x="1237" y="26"/>
                  <a:pt x="1237" y="47"/>
                  <a:pt x="1224" y="60"/>
                </a:cubicBezTo>
                <a:close/>
                <a:moveTo>
                  <a:pt x="425" y="1095"/>
                </a:moveTo>
                <a:lnTo>
                  <a:pt x="0" y="1236"/>
                </a:lnTo>
                <a:lnTo>
                  <a:pt x="142" y="812"/>
                </a:lnTo>
                <a:lnTo>
                  <a:pt x="425" y="1095"/>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5352480" y="291132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eping wave</a:t>
            </a:r>
            <a:endParaRPr b="0" lang="en-US" sz="1300" spc="-1" strike="noStrike">
              <a:solidFill>
                <a:srgbClr val="000000"/>
              </a:solidFill>
              <a:latin typeface="Times New Roman"/>
            </a:endParaRPr>
          </a:p>
        </p:txBody>
      </p:sp>
      <p:sp>
        <p:nvSpPr>
          <p:cNvPr id="3859" name=""/>
          <p:cNvSpPr/>
          <p:nvPr/>
        </p:nvSpPr>
        <p:spPr>
          <a:xfrm>
            <a:off x="4277520" y="528804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a:t>
            </a:r>
            <a:endParaRPr b="0" lang="en-US" sz="1300" spc="-1" strike="noStrike">
              <a:solidFill>
                <a:srgbClr val="000000"/>
              </a:solidFill>
              <a:latin typeface="Times New Roman"/>
            </a:endParaRPr>
          </a:p>
        </p:txBody>
      </p:sp>
      <p:sp>
        <p:nvSpPr>
          <p:cNvPr id="3860" name=""/>
          <p:cNvSpPr/>
          <p:nvPr/>
        </p:nvSpPr>
        <p:spPr>
          <a:xfrm>
            <a:off x="4667400" y="527040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861" name=""/>
          <p:cNvSpPr/>
          <p:nvPr/>
        </p:nvSpPr>
        <p:spPr>
          <a:xfrm>
            <a:off x="4756320" y="5288040"/>
            <a:ext cx="256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a:t>
            </a:r>
            <a:endParaRPr b="0" lang="en-US" sz="1300" spc="-1" strike="noStrike">
              <a:solidFill>
                <a:srgbClr val="000000"/>
              </a:solidFill>
              <a:latin typeface="Times New Roman"/>
            </a:endParaRPr>
          </a:p>
        </p:txBody>
      </p:sp>
      <p:sp>
        <p:nvSpPr>
          <p:cNvPr id="3862" name=""/>
          <p:cNvSpPr/>
          <p:nvPr/>
        </p:nvSpPr>
        <p:spPr>
          <a:xfrm rot="16200000">
            <a:off x="2171160" y="366336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litud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3" name=""/>
          <p:cNvSpPr/>
          <p:nvPr/>
        </p:nvSpPr>
        <p:spPr>
          <a:xfrm>
            <a:off x="3184560" y="2890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 SDH</a:t>
            </a:r>
            <a:endParaRPr b="0" lang="en-US" sz="2400" spc="-1" strike="noStrike">
              <a:solidFill>
                <a:srgbClr val="000000"/>
              </a:solidFill>
              <a:latin typeface="Times New Roman"/>
            </a:endParaRPr>
          </a:p>
        </p:txBody>
      </p:sp>
      <p:sp>
        <p:nvSpPr>
          <p:cNvPr id="3864"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1203480" y="1184400"/>
            <a:ext cx="725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ally determined scattering amplitude by deconvolution (side-drilled hole)</a:t>
            </a:r>
            <a:endParaRPr b="0" lang="en-US" sz="2400" spc="-1" strike="noStrike">
              <a:solidFill>
                <a:srgbClr val="000000"/>
              </a:solidFill>
              <a:latin typeface="Times New Roman"/>
            </a:endParaRPr>
          </a:p>
        </p:txBody>
      </p:sp>
      <p:sp>
        <p:nvSpPr>
          <p:cNvPr id="386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67" name=""/>
          <p:cNvGraphicFramePr/>
          <p:nvPr/>
        </p:nvGraphicFramePr>
        <p:xfrm>
          <a:off x="1295280" y="2362320"/>
          <a:ext cx="2743200" cy="914400"/>
        </p:xfrm>
        <a:graphic>
          <a:graphicData uri="http://schemas.openxmlformats.org/presentationml/2006/ole">
            <p:oleObj r:id="rId1" spid="">
              <p:embed/>
              <p:pic>
                <p:nvPicPr>
                  <p:cNvPr id="3868" name="" descr=""/>
                  <p:cNvPicPr/>
                  <p:nvPr/>
                </p:nvPicPr>
                <p:blipFill>
                  <a:blip r:embed="rId2"/>
                  <a:stretch/>
                </p:blipFill>
                <p:spPr>
                  <a:xfrm>
                    <a:off x="1295280" y="2362320"/>
                    <a:ext cx="2743200" cy="914400"/>
                  </a:xfrm>
                  <a:prstGeom prst="rect">
                    <a:avLst/>
                  </a:prstGeom>
                  <a:ln w="0">
                    <a:noFill/>
                  </a:ln>
                </p:spPr>
              </p:pic>
            </p:oleObj>
          </a:graphicData>
        </a:graphic>
      </p:graphicFrame>
      <p:sp>
        <p:nvSpPr>
          <p:cNvPr id="38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70" name=""/>
          <p:cNvGraphicFramePr/>
          <p:nvPr/>
        </p:nvGraphicFramePr>
        <p:xfrm>
          <a:off x="4800600" y="2514600"/>
          <a:ext cx="2728800" cy="569880"/>
        </p:xfrm>
        <a:graphic>
          <a:graphicData uri="http://schemas.openxmlformats.org/presentationml/2006/ole">
            <p:oleObj r:id="rId3" spid="">
              <p:embed/>
              <p:pic>
                <p:nvPicPr>
                  <p:cNvPr id="3871" name="" descr=""/>
                  <p:cNvPicPr/>
                  <p:nvPr/>
                </p:nvPicPr>
                <p:blipFill>
                  <a:blip r:embed="rId4"/>
                  <a:stretch/>
                </p:blipFill>
                <p:spPr>
                  <a:xfrm>
                    <a:off x="4800600" y="2514600"/>
                    <a:ext cx="2728800" cy="569880"/>
                  </a:xfrm>
                  <a:prstGeom prst="rect">
                    <a:avLst/>
                  </a:prstGeom>
                  <a:ln w="0">
                    <a:noFill/>
                  </a:ln>
                </p:spPr>
              </p:pic>
            </p:oleObj>
          </a:graphicData>
        </a:graphic>
      </p:graphicFrame>
      <p:sp>
        <p:nvSpPr>
          <p:cNvPr id="38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73" name=""/>
          <p:cNvGraphicFramePr/>
          <p:nvPr/>
        </p:nvGraphicFramePr>
        <p:xfrm>
          <a:off x="1676520" y="3429000"/>
          <a:ext cx="5562360" cy="932040"/>
        </p:xfrm>
        <a:graphic>
          <a:graphicData uri="http://schemas.openxmlformats.org/presentationml/2006/ole">
            <p:oleObj r:id="rId5" spid="">
              <p:embed/>
              <p:pic>
                <p:nvPicPr>
                  <p:cNvPr id="3874" name="" descr=""/>
                  <p:cNvPicPr/>
                  <p:nvPr/>
                </p:nvPicPr>
                <p:blipFill>
                  <a:blip r:embed="rId6"/>
                  <a:stretch/>
                </p:blipFill>
                <p:spPr>
                  <a:xfrm>
                    <a:off x="1676520" y="3429000"/>
                    <a:ext cx="5562360" cy="9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160"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304920" y="4621320"/>
          <a:ext cx="8229600" cy="984240"/>
        </p:xfrm>
        <a:graphic>
          <a:graphicData uri="http://schemas.openxmlformats.org/presentationml/2006/ole">
            <p:oleObj r:id="rId1" spid="">
              <p:embed/>
              <p:pic>
                <p:nvPicPr>
                  <p:cNvPr id="162" name="" descr=""/>
                  <p:cNvPicPr/>
                  <p:nvPr/>
                </p:nvPicPr>
                <p:blipFill>
                  <a:blip r:embed="rId2"/>
                  <a:stretch/>
                </p:blipFill>
                <p:spPr>
                  <a:xfrm>
                    <a:off x="304920" y="4621320"/>
                    <a:ext cx="8229600" cy="984240"/>
                  </a:xfrm>
                  <a:prstGeom prst="rect">
                    <a:avLst/>
                  </a:prstGeom>
                  <a:ln w="0">
                    <a:noFill/>
                  </a:ln>
                </p:spPr>
              </p:pic>
            </p:oleObj>
          </a:graphicData>
        </a:graphic>
      </p:graphicFrame>
      <p:graphicFrame>
        <p:nvGraphicFramePr>
          <p:cNvPr id="163" name=""/>
          <p:cNvGraphicFramePr/>
          <p:nvPr/>
        </p:nvGraphicFramePr>
        <p:xfrm>
          <a:off x="2362320" y="2895480"/>
          <a:ext cx="4268520" cy="1290600"/>
        </p:xfrm>
        <a:graphic>
          <a:graphicData uri="http://schemas.openxmlformats.org/presentationml/2006/ole">
            <p:oleObj r:id="rId3" spid="">
              <p:embed/>
              <p:pic>
                <p:nvPicPr>
                  <p:cNvPr id="164" name="" descr=""/>
                  <p:cNvPicPr/>
                  <p:nvPr/>
                </p:nvPicPr>
                <p:blipFill>
                  <a:blip r:embed="rId4"/>
                  <a:stretch/>
                </p:blipFill>
                <p:spPr>
                  <a:xfrm>
                    <a:off x="2362320" y="2895480"/>
                    <a:ext cx="4268520" cy="1290600"/>
                  </a:xfrm>
                  <a:prstGeom prst="rect">
                    <a:avLst/>
                  </a:prstGeom>
                  <a:ln w="0">
                    <a:noFill/>
                  </a:ln>
                </p:spPr>
              </p:pic>
            </p:oleObj>
          </a:graphicData>
        </a:graphic>
      </p:graphicFrame>
      <p:graphicFrame>
        <p:nvGraphicFramePr>
          <p:cNvPr id="165" name=""/>
          <p:cNvGraphicFramePr/>
          <p:nvPr/>
        </p:nvGraphicFramePr>
        <p:xfrm>
          <a:off x="6858000" y="2971800"/>
          <a:ext cx="1219320" cy="378000"/>
        </p:xfrm>
        <a:graphic>
          <a:graphicData uri="http://schemas.openxmlformats.org/presentationml/2006/ole">
            <p:oleObj r:id="rId5" spid="">
              <p:embed/>
              <p:pic>
                <p:nvPicPr>
                  <p:cNvPr id="166" name="" descr=""/>
                  <p:cNvPicPr/>
                  <p:nvPr/>
                </p:nvPicPr>
                <p:blipFill>
                  <a:blip r:embed="rId6"/>
                  <a:stretch/>
                </p:blipFill>
                <p:spPr>
                  <a:xfrm>
                    <a:off x="6858000" y="2971800"/>
                    <a:ext cx="1219320" cy="378000"/>
                  </a:xfrm>
                  <a:prstGeom prst="rect">
                    <a:avLst/>
                  </a:prstGeom>
                  <a:ln w="0">
                    <a:noFill/>
                  </a:ln>
                </p:spPr>
              </p:pic>
            </p:oleObj>
          </a:graphicData>
        </a:graphic>
      </p:graphicFrame>
      <p:graphicFrame>
        <p:nvGraphicFramePr>
          <p:cNvPr id="167" name=""/>
          <p:cNvGraphicFramePr/>
          <p:nvPr/>
        </p:nvGraphicFramePr>
        <p:xfrm>
          <a:off x="5867280" y="5867280"/>
          <a:ext cx="1295640" cy="360360"/>
        </p:xfrm>
        <a:graphic>
          <a:graphicData uri="http://schemas.openxmlformats.org/presentationml/2006/ole">
            <p:oleObj r:id="rId7" spid="">
              <p:embed/>
              <p:pic>
                <p:nvPicPr>
                  <p:cNvPr id="168" name="" descr=""/>
                  <p:cNvPicPr/>
                  <p:nvPr/>
                </p:nvPicPr>
                <p:blipFill>
                  <a:blip r:embed="rId8"/>
                  <a:stretch/>
                </p:blipFill>
                <p:spPr>
                  <a:xfrm>
                    <a:off x="5867280" y="5867280"/>
                    <a:ext cx="1295640" cy="360360"/>
                  </a:xfrm>
                  <a:prstGeom prst="rect">
                    <a:avLst/>
                  </a:prstGeom>
                  <a:ln w="0">
                    <a:noFill/>
                  </a:ln>
                </p:spPr>
              </p:pic>
            </p:oleObj>
          </a:graphicData>
        </a:graphic>
      </p:graphicFrame>
      <p:graphicFrame>
        <p:nvGraphicFramePr>
          <p:cNvPr id="169" name=""/>
          <p:cNvGraphicFramePr/>
          <p:nvPr/>
        </p:nvGraphicFramePr>
        <p:xfrm>
          <a:off x="7467480" y="5867280"/>
          <a:ext cx="1219320" cy="378000"/>
        </p:xfrm>
        <a:graphic>
          <a:graphicData uri="http://schemas.openxmlformats.org/presentationml/2006/ole">
            <p:oleObj r:id="rId9" spid="">
              <p:embed/>
              <p:pic>
                <p:nvPicPr>
                  <p:cNvPr id="170" name="" descr=""/>
                  <p:cNvPicPr/>
                  <p:nvPr/>
                </p:nvPicPr>
                <p:blipFill>
                  <a:blip r:embed="rId10"/>
                  <a:stretch/>
                </p:blipFill>
                <p:spPr>
                  <a:xfrm>
                    <a:off x="7467480" y="5867280"/>
                    <a:ext cx="1219320" cy="378000"/>
                  </a:xfrm>
                  <a:prstGeom prst="rect">
                    <a:avLst/>
                  </a:prstGeom>
                  <a:ln w="0">
                    <a:noFill/>
                  </a:ln>
                </p:spPr>
              </p:pic>
            </p:oleObj>
          </a:graphicData>
        </a:graphic>
      </p:graphicFrame>
      <p:graphicFrame>
        <p:nvGraphicFramePr>
          <p:cNvPr id="171" name=""/>
          <p:cNvGraphicFramePr/>
          <p:nvPr/>
        </p:nvGraphicFramePr>
        <p:xfrm>
          <a:off x="457200" y="1143000"/>
          <a:ext cx="1447920" cy="625320"/>
        </p:xfrm>
        <a:graphic>
          <a:graphicData uri="http://schemas.openxmlformats.org/presentationml/2006/ole">
            <p:oleObj r:id="rId11" spid="">
              <p:embed/>
              <p:pic>
                <p:nvPicPr>
                  <p:cNvPr id="172" name="" descr=""/>
                  <p:cNvPicPr/>
                  <p:nvPr/>
                </p:nvPicPr>
                <p:blipFill>
                  <a:blip r:embed="rId12"/>
                  <a:stretch/>
                </p:blipFill>
                <p:spPr>
                  <a:xfrm>
                    <a:off x="457200" y="1143000"/>
                    <a:ext cx="1447920" cy="625320"/>
                  </a:xfrm>
                  <a:prstGeom prst="rect">
                    <a:avLst/>
                  </a:prstGeom>
                  <a:ln w="0">
                    <a:noFill/>
                  </a:ln>
                </p:spPr>
              </p:pic>
            </p:oleObj>
          </a:graphicData>
        </a:graphic>
      </p:graphicFrame>
      <p:sp>
        <p:nvSpPr>
          <p:cNvPr id="173" name=""/>
          <p:cNvSpPr/>
          <p:nvPr/>
        </p:nvSpPr>
        <p:spPr>
          <a:xfrm>
            <a:off x="2200680" y="1143000"/>
            <a:ext cx="6432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scattering amplitude for a scattered wav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t>
            </a:r>
            <a:r>
              <a:rPr b="0" lang="en-US" sz="2400" spc="-1" strike="noStrike">
                <a:solidFill>
                  <a:srgbClr val="000000"/>
                </a:solidFill>
                <a:latin typeface="Symbol"/>
                <a:ea typeface="Symbol"/>
              </a:rPr>
              <a:t></a:t>
            </a:r>
            <a:r>
              <a:rPr b="0" lang="en-US" sz="2400" spc="-1" strike="noStrike">
                <a:solidFill>
                  <a:srgbClr val="000000"/>
                </a:solidFill>
                <a:latin typeface="Times New Roman"/>
              </a:rPr>
              <a:t> due to a plane wave of unit displac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tude and type</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2514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752120" y="441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7200" y="3886200"/>
            <a:ext cx="131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s</a:t>
            </a:r>
            <a:endParaRPr b="0" lang="en-US" sz="2400" spc="-1" strike="noStrike">
              <a:solidFill>
                <a:srgbClr val="000000"/>
              </a:solidFill>
              <a:latin typeface="Times New Roman"/>
            </a:endParaRPr>
          </a:p>
        </p:txBody>
      </p:sp>
      <p:sp>
        <p:nvSpPr>
          <p:cNvPr id="177" name=""/>
          <p:cNvSpPr/>
          <p:nvPr/>
        </p:nvSpPr>
        <p:spPr>
          <a:xfrm flipV="1">
            <a:off x="5486400" y="53337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36576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18120" y="5791320"/>
            <a:ext cx="4117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s and displac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i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5" name=""/>
          <p:cNvSpPr/>
          <p:nvPr/>
        </p:nvSpPr>
        <p:spPr>
          <a:xfrm>
            <a:off x="2638440" y="2125800"/>
            <a:ext cx="4127400" cy="293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2638440" y="2125800"/>
            <a:ext cx="4127400" cy="2935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2638440" y="2125800"/>
            <a:ext cx="4127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8" name=""/>
          <p:cNvSpPr/>
          <p:nvPr/>
        </p:nvSpPr>
        <p:spPr>
          <a:xfrm>
            <a:off x="2638440" y="2125800"/>
            <a:ext cx="4127400" cy="293508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flipV="1">
            <a:off x="2638440" y="2125440"/>
            <a:ext cx="1440" cy="29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2638440" y="5060880"/>
            <a:ext cx="412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1" name=""/>
          <p:cNvSpPr/>
          <p:nvPr/>
        </p:nvSpPr>
        <p:spPr>
          <a:xfrm flipV="1">
            <a:off x="2638440" y="50176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2" name=""/>
          <p:cNvSpPr/>
          <p:nvPr/>
        </p:nvSpPr>
        <p:spPr>
          <a:xfrm>
            <a:off x="2638440" y="2125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3" name=""/>
          <p:cNvSpPr/>
          <p:nvPr/>
        </p:nvSpPr>
        <p:spPr>
          <a:xfrm>
            <a:off x="2609640" y="512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884" name=""/>
          <p:cNvSpPr/>
          <p:nvPr/>
        </p:nvSpPr>
        <p:spPr>
          <a:xfrm flipV="1">
            <a:off x="3048120" y="50176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5" name=""/>
          <p:cNvSpPr/>
          <p:nvPr/>
        </p:nvSpPr>
        <p:spPr>
          <a:xfrm>
            <a:off x="3048120" y="2125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6" name=""/>
          <p:cNvSpPr/>
          <p:nvPr/>
        </p:nvSpPr>
        <p:spPr>
          <a:xfrm>
            <a:off x="3017520" y="512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887" name=""/>
          <p:cNvSpPr/>
          <p:nvPr/>
        </p:nvSpPr>
        <p:spPr>
          <a:xfrm flipV="1">
            <a:off x="3454560" y="501768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8" name=""/>
          <p:cNvSpPr/>
          <p:nvPr/>
        </p:nvSpPr>
        <p:spPr>
          <a:xfrm>
            <a:off x="3454560" y="2125800"/>
            <a:ext cx="2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9" name=""/>
          <p:cNvSpPr/>
          <p:nvPr/>
        </p:nvSpPr>
        <p:spPr>
          <a:xfrm>
            <a:off x="3427200" y="512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890" name=""/>
          <p:cNvSpPr/>
          <p:nvPr/>
        </p:nvSpPr>
        <p:spPr>
          <a:xfrm flipV="1">
            <a:off x="3873600" y="501768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1" name=""/>
          <p:cNvSpPr/>
          <p:nvPr/>
        </p:nvSpPr>
        <p:spPr>
          <a:xfrm>
            <a:off x="3873600" y="2125800"/>
            <a:ext cx="32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2" name=""/>
          <p:cNvSpPr/>
          <p:nvPr/>
        </p:nvSpPr>
        <p:spPr>
          <a:xfrm>
            <a:off x="3846240" y="512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893" name=""/>
          <p:cNvSpPr/>
          <p:nvPr/>
        </p:nvSpPr>
        <p:spPr>
          <a:xfrm flipV="1">
            <a:off x="4282920" y="501768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4" name=""/>
          <p:cNvSpPr/>
          <p:nvPr/>
        </p:nvSpPr>
        <p:spPr>
          <a:xfrm>
            <a:off x="4282920" y="2125800"/>
            <a:ext cx="32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5" name=""/>
          <p:cNvSpPr/>
          <p:nvPr/>
        </p:nvSpPr>
        <p:spPr>
          <a:xfrm>
            <a:off x="4254480" y="512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896" name=""/>
          <p:cNvSpPr/>
          <p:nvPr/>
        </p:nvSpPr>
        <p:spPr>
          <a:xfrm flipV="1">
            <a:off x="4702320" y="501768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7" name=""/>
          <p:cNvSpPr/>
          <p:nvPr/>
        </p:nvSpPr>
        <p:spPr>
          <a:xfrm>
            <a:off x="4702320" y="2125800"/>
            <a:ext cx="2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8" name=""/>
          <p:cNvSpPr/>
          <p:nvPr/>
        </p:nvSpPr>
        <p:spPr>
          <a:xfrm>
            <a:off x="463500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899" name=""/>
          <p:cNvSpPr/>
          <p:nvPr/>
        </p:nvSpPr>
        <p:spPr>
          <a:xfrm flipV="1">
            <a:off x="5110200" y="501768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0" name=""/>
          <p:cNvSpPr/>
          <p:nvPr/>
        </p:nvSpPr>
        <p:spPr>
          <a:xfrm>
            <a:off x="5110200" y="2125800"/>
            <a:ext cx="32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1" name=""/>
          <p:cNvSpPr/>
          <p:nvPr/>
        </p:nvSpPr>
        <p:spPr>
          <a:xfrm>
            <a:off x="504468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902" name=""/>
          <p:cNvSpPr/>
          <p:nvPr/>
        </p:nvSpPr>
        <p:spPr>
          <a:xfrm flipV="1">
            <a:off x="5519880" y="501768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3" name=""/>
          <p:cNvSpPr/>
          <p:nvPr/>
        </p:nvSpPr>
        <p:spPr>
          <a:xfrm>
            <a:off x="5519880" y="2125800"/>
            <a:ext cx="2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4" name=""/>
          <p:cNvSpPr/>
          <p:nvPr/>
        </p:nvSpPr>
        <p:spPr>
          <a:xfrm>
            <a:off x="545184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905" name=""/>
          <p:cNvSpPr/>
          <p:nvPr/>
        </p:nvSpPr>
        <p:spPr>
          <a:xfrm flipV="1">
            <a:off x="5938920" y="501768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6" name=""/>
          <p:cNvSpPr/>
          <p:nvPr/>
        </p:nvSpPr>
        <p:spPr>
          <a:xfrm>
            <a:off x="5938920" y="2125800"/>
            <a:ext cx="32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7" name=""/>
          <p:cNvSpPr/>
          <p:nvPr/>
        </p:nvSpPr>
        <p:spPr>
          <a:xfrm>
            <a:off x="587088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908" name=""/>
          <p:cNvSpPr/>
          <p:nvPr/>
        </p:nvSpPr>
        <p:spPr>
          <a:xfrm flipV="1">
            <a:off x="6346800" y="50176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9" name=""/>
          <p:cNvSpPr/>
          <p:nvPr/>
        </p:nvSpPr>
        <p:spPr>
          <a:xfrm>
            <a:off x="6346800" y="2125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0" name=""/>
          <p:cNvSpPr/>
          <p:nvPr/>
        </p:nvSpPr>
        <p:spPr>
          <a:xfrm>
            <a:off x="628128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3911" name=""/>
          <p:cNvSpPr/>
          <p:nvPr/>
        </p:nvSpPr>
        <p:spPr>
          <a:xfrm flipV="1">
            <a:off x="6765840" y="50176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12" name=""/>
          <p:cNvSpPr/>
          <p:nvPr/>
        </p:nvSpPr>
        <p:spPr>
          <a:xfrm>
            <a:off x="6765840" y="212580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3" name=""/>
          <p:cNvSpPr/>
          <p:nvPr/>
        </p:nvSpPr>
        <p:spPr>
          <a:xfrm>
            <a:off x="6698160" y="5121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3914" name=""/>
          <p:cNvSpPr/>
          <p:nvPr/>
        </p:nvSpPr>
        <p:spPr>
          <a:xfrm>
            <a:off x="2638440" y="50608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5" name=""/>
          <p:cNvSpPr/>
          <p:nvPr/>
        </p:nvSpPr>
        <p:spPr>
          <a:xfrm flipH="1">
            <a:off x="6719760" y="50608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6" name=""/>
          <p:cNvSpPr/>
          <p:nvPr/>
        </p:nvSpPr>
        <p:spPr>
          <a:xfrm>
            <a:off x="2431800" y="4991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917" name=""/>
          <p:cNvSpPr/>
          <p:nvPr/>
        </p:nvSpPr>
        <p:spPr>
          <a:xfrm>
            <a:off x="2638440" y="47340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
          <p:cNvSpPr/>
          <p:nvPr/>
        </p:nvSpPr>
        <p:spPr>
          <a:xfrm flipH="1">
            <a:off x="6719760" y="4734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9" name=""/>
          <p:cNvSpPr/>
          <p:nvPr/>
        </p:nvSpPr>
        <p:spPr>
          <a:xfrm>
            <a:off x="2326680" y="46674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3920" name=""/>
          <p:cNvSpPr/>
          <p:nvPr/>
        </p:nvSpPr>
        <p:spPr>
          <a:xfrm>
            <a:off x="2638440" y="441000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1" name=""/>
          <p:cNvSpPr/>
          <p:nvPr/>
        </p:nvSpPr>
        <p:spPr>
          <a:xfrm flipH="1">
            <a:off x="6719760" y="44100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2" name=""/>
          <p:cNvSpPr/>
          <p:nvPr/>
        </p:nvSpPr>
        <p:spPr>
          <a:xfrm>
            <a:off x="2326680" y="43401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3923" name=""/>
          <p:cNvSpPr/>
          <p:nvPr/>
        </p:nvSpPr>
        <p:spPr>
          <a:xfrm>
            <a:off x="2638440" y="4083120"/>
            <a:ext cx="36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4" name=""/>
          <p:cNvSpPr/>
          <p:nvPr/>
        </p:nvSpPr>
        <p:spPr>
          <a:xfrm flipH="1">
            <a:off x="6719760" y="4083120"/>
            <a:ext cx="46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5" name=""/>
          <p:cNvSpPr/>
          <p:nvPr/>
        </p:nvSpPr>
        <p:spPr>
          <a:xfrm>
            <a:off x="2326680" y="4014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Times New Roman"/>
            </a:endParaRPr>
          </a:p>
        </p:txBody>
      </p:sp>
      <p:sp>
        <p:nvSpPr>
          <p:cNvPr id="3926" name=""/>
          <p:cNvSpPr/>
          <p:nvPr/>
        </p:nvSpPr>
        <p:spPr>
          <a:xfrm>
            <a:off x="2638440" y="3757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7" name=""/>
          <p:cNvSpPr/>
          <p:nvPr/>
        </p:nvSpPr>
        <p:spPr>
          <a:xfrm flipH="1">
            <a:off x="6719760" y="37576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8" name=""/>
          <p:cNvSpPr/>
          <p:nvPr/>
        </p:nvSpPr>
        <p:spPr>
          <a:xfrm>
            <a:off x="2326680" y="36878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3929" name=""/>
          <p:cNvSpPr/>
          <p:nvPr/>
        </p:nvSpPr>
        <p:spPr>
          <a:xfrm>
            <a:off x="2638440" y="3430440"/>
            <a:ext cx="36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0" name=""/>
          <p:cNvSpPr/>
          <p:nvPr/>
        </p:nvSpPr>
        <p:spPr>
          <a:xfrm flipH="1">
            <a:off x="6719760" y="3430440"/>
            <a:ext cx="46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1" name=""/>
          <p:cNvSpPr/>
          <p:nvPr/>
        </p:nvSpPr>
        <p:spPr>
          <a:xfrm>
            <a:off x="2326680" y="33624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3932" name=""/>
          <p:cNvSpPr/>
          <p:nvPr/>
        </p:nvSpPr>
        <p:spPr>
          <a:xfrm>
            <a:off x="263844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3" name=""/>
          <p:cNvSpPr/>
          <p:nvPr/>
        </p:nvSpPr>
        <p:spPr>
          <a:xfrm flipH="1">
            <a:off x="6719760" y="30970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4" name=""/>
          <p:cNvSpPr/>
          <p:nvPr/>
        </p:nvSpPr>
        <p:spPr>
          <a:xfrm>
            <a:off x="2326680" y="3027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Times New Roman"/>
            </a:endParaRPr>
          </a:p>
        </p:txBody>
      </p:sp>
      <p:sp>
        <p:nvSpPr>
          <p:cNvPr id="3935" name=""/>
          <p:cNvSpPr/>
          <p:nvPr/>
        </p:nvSpPr>
        <p:spPr>
          <a:xfrm>
            <a:off x="2638440" y="2778120"/>
            <a:ext cx="36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6" name=""/>
          <p:cNvSpPr/>
          <p:nvPr/>
        </p:nvSpPr>
        <p:spPr>
          <a:xfrm flipH="1">
            <a:off x="6719760" y="2778120"/>
            <a:ext cx="46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7" name=""/>
          <p:cNvSpPr/>
          <p:nvPr/>
        </p:nvSpPr>
        <p:spPr>
          <a:xfrm>
            <a:off x="2326680" y="2709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Times New Roman"/>
            </a:endParaRPr>
          </a:p>
        </p:txBody>
      </p:sp>
      <p:sp>
        <p:nvSpPr>
          <p:cNvPr id="3938" name=""/>
          <p:cNvSpPr/>
          <p:nvPr/>
        </p:nvSpPr>
        <p:spPr>
          <a:xfrm>
            <a:off x="2638440" y="2452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9" name=""/>
          <p:cNvSpPr/>
          <p:nvPr/>
        </p:nvSpPr>
        <p:spPr>
          <a:xfrm flipH="1">
            <a:off x="6719760" y="24526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2326680" y="23828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Times New Roman"/>
            </a:endParaRPr>
          </a:p>
        </p:txBody>
      </p:sp>
      <p:sp>
        <p:nvSpPr>
          <p:cNvPr id="3941" name=""/>
          <p:cNvSpPr/>
          <p:nvPr/>
        </p:nvSpPr>
        <p:spPr>
          <a:xfrm>
            <a:off x="2638440" y="2125800"/>
            <a:ext cx="36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42" name=""/>
          <p:cNvSpPr/>
          <p:nvPr/>
        </p:nvSpPr>
        <p:spPr>
          <a:xfrm flipH="1">
            <a:off x="6719760" y="2125800"/>
            <a:ext cx="46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43" name=""/>
          <p:cNvSpPr/>
          <p:nvPr/>
        </p:nvSpPr>
        <p:spPr>
          <a:xfrm>
            <a:off x="2326680" y="20574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Times New Roman"/>
            </a:endParaRPr>
          </a:p>
        </p:txBody>
      </p:sp>
      <p:sp>
        <p:nvSpPr>
          <p:cNvPr id="3944" name=""/>
          <p:cNvSpPr/>
          <p:nvPr/>
        </p:nvSpPr>
        <p:spPr>
          <a:xfrm>
            <a:off x="2638440" y="3414600"/>
            <a:ext cx="2616120" cy="1646280"/>
          </a:xfrm>
          <a:custGeom>
            <a:avLst/>
            <a:gdLst/>
            <a:ahLst/>
            <a:rect l="l" t="t" r="r" b="b"/>
            <a:pathLst>
              <a:path w="1130" h="787">
                <a:moveTo>
                  <a:pt x="0" y="787"/>
                </a:moveTo>
                <a:lnTo>
                  <a:pt x="8" y="377"/>
                </a:lnTo>
                <a:lnTo>
                  <a:pt x="16" y="373"/>
                </a:lnTo>
                <a:lnTo>
                  <a:pt x="25" y="434"/>
                </a:lnTo>
                <a:lnTo>
                  <a:pt x="33" y="541"/>
                </a:lnTo>
                <a:lnTo>
                  <a:pt x="41" y="672"/>
                </a:lnTo>
                <a:lnTo>
                  <a:pt x="53" y="754"/>
                </a:lnTo>
                <a:lnTo>
                  <a:pt x="62" y="656"/>
                </a:lnTo>
                <a:lnTo>
                  <a:pt x="70" y="566"/>
                </a:lnTo>
                <a:lnTo>
                  <a:pt x="78" y="496"/>
                </a:lnTo>
                <a:lnTo>
                  <a:pt x="86" y="439"/>
                </a:lnTo>
                <a:lnTo>
                  <a:pt x="94" y="398"/>
                </a:lnTo>
                <a:lnTo>
                  <a:pt x="107" y="369"/>
                </a:lnTo>
                <a:lnTo>
                  <a:pt x="115" y="352"/>
                </a:lnTo>
                <a:lnTo>
                  <a:pt x="123" y="340"/>
                </a:lnTo>
                <a:lnTo>
                  <a:pt x="131" y="336"/>
                </a:lnTo>
                <a:lnTo>
                  <a:pt x="140" y="340"/>
                </a:lnTo>
                <a:lnTo>
                  <a:pt x="148" y="348"/>
                </a:lnTo>
                <a:lnTo>
                  <a:pt x="160" y="352"/>
                </a:lnTo>
                <a:lnTo>
                  <a:pt x="168" y="357"/>
                </a:lnTo>
                <a:lnTo>
                  <a:pt x="177" y="348"/>
                </a:lnTo>
                <a:lnTo>
                  <a:pt x="185" y="336"/>
                </a:lnTo>
                <a:lnTo>
                  <a:pt x="193" y="311"/>
                </a:lnTo>
                <a:lnTo>
                  <a:pt x="201" y="287"/>
                </a:lnTo>
                <a:lnTo>
                  <a:pt x="214" y="258"/>
                </a:lnTo>
                <a:lnTo>
                  <a:pt x="222" y="229"/>
                </a:lnTo>
                <a:lnTo>
                  <a:pt x="230" y="201"/>
                </a:lnTo>
                <a:lnTo>
                  <a:pt x="238" y="180"/>
                </a:lnTo>
                <a:lnTo>
                  <a:pt x="246" y="160"/>
                </a:lnTo>
                <a:lnTo>
                  <a:pt x="255" y="143"/>
                </a:lnTo>
                <a:lnTo>
                  <a:pt x="267" y="135"/>
                </a:lnTo>
                <a:lnTo>
                  <a:pt x="275" y="131"/>
                </a:lnTo>
                <a:lnTo>
                  <a:pt x="283" y="131"/>
                </a:lnTo>
                <a:lnTo>
                  <a:pt x="292" y="135"/>
                </a:lnTo>
                <a:lnTo>
                  <a:pt x="300" y="143"/>
                </a:lnTo>
                <a:lnTo>
                  <a:pt x="308" y="156"/>
                </a:lnTo>
                <a:lnTo>
                  <a:pt x="320" y="168"/>
                </a:lnTo>
                <a:lnTo>
                  <a:pt x="329" y="180"/>
                </a:lnTo>
                <a:lnTo>
                  <a:pt x="337" y="188"/>
                </a:lnTo>
                <a:lnTo>
                  <a:pt x="345" y="201"/>
                </a:lnTo>
                <a:lnTo>
                  <a:pt x="353" y="209"/>
                </a:lnTo>
                <a:lnTo>
                  <a:pt x="362" y="209"/>
                </a:lnTo>
                <a:lnTo>
                  <a:pt x="374" y="213"/>
                </a:lnTo>
                <a:lnTo>
                  <a:pt x="382" y="209"/>
                </a:lnTo>
                <a:lnTo>
                  <a:pt x="390" y="201"/>
                </a:lnTo>
                <a:lnTo>
                  <a:pt x="399" y="192"/>
                </a:lnTo>
                <a:lnTo>
                  <a:pt x="407" y="180"/>
                </a:lnTo>
                <a:lnTo>
                  <a:pt x="415" y="164"/>
                </a:lnTo>
                <a:lnTo>
                  <a:pt x="427" y="147"/>
                </a:lnTo>
                <a:lnTo>
                  <a:pt x="435" y="135"/>
                </a:lnTo>
                <a:lnTo>
                  <a:pt x="444" y="119"/>
                </a:lnTo>
                <a:lnTo>
                  <a:pt x="452" y="106"/>
                </a:lnTo>
                <a:lnTo>
                  <a:pt x="460" y="94"/>
                </a:lnTo>
                <a:lnTo>
                  <a:pt x="472" y="86"/>
                </a:lnTo>
                <a:lnTo>
                  <a:pt x="481" y="82"/>
                </a:lnTo>
                <a:lnTo>
                  <a:pt x="489" y="82"/>
                </a:lnTo>
                <a:lnTo>
                  <a:pt x="497" y="86"/>
                </a:lnTo>
                <a:lnTo>
                  <a:pt x="505" y="94"/>
                </a:lnTo>
                <a:lnTo>
                  <a:pt x="514" y="102"/>
                </a:lnTo>
                <a:lnTo>
                  <a:pt x="526" y="110"/>
                </a:lnTo>
                <a:lnTo>
                  <a:pt x="534" y="119"/>
                </a:lnTo>
                <a:lnTo>
                  <a:pt x="542" y="127"/>
                </a:lnTo>
                <a:lnTo>
                  <a:pt x="551" y="131"/>
                </a:lnTo>
                <a:lnTo>
                  <a:pt x="559" y="135"/>
                </a:lnTo>
                <a:lnTo>
                  <a:pt x="567" y="131"/>
                </a:lnTo>
                <a:lnTo>
                  <a:pt x="579" y="127"/>
                </a:lnTo>
                <a:lnTo>
                  <a:pt x="588" y="119"/>
                </a:lnTo>
                <a:lnTo>
                  <a:pt x="596" y="106"/>
                </a:lnTo>
                <a:lnTo>
                  <a:pt x="604" y="90"/>
                </a:lnTo>
                <a:lnTo>
                  <a:pt x="612" y="69"/>
                </a:lnTo>
                <a:lnTo>
                  <a:pt x="620" y="53"/>
                </a:lnTo>
                <a:lnTo>
                  <a:pt x="633" y="32"/>
                </a:lnTo>
                <a:lnTo>
                  <a:pt x="641" y="12"/>
                </a:lnTo>
                <a:lnTo>
                  <a:pt x="649" y="0"/>
                </a:lnTo>
                <a:lnTo>
                  <a:pt x="657" y="0"/>
                </a:lnTo>
                <a:lnTo>
                  <a:pt x="666" y="20"/>
                </a:lnTo>
                <a:lnTo>
                  <a:pt x="674" y="69"/>
                </a:lnTo>
                <a:lnTo>
                  <a:pt x="686" y="151"/>
                </a:lnTo>
                <a:lnTo>
                  <a:pt x="694" y="262"/>
                </a:lnTo>
                <a:lnTo>
                  <a:pt x="703" y="385"/>
                </a:lnTo>
                <a:lnTo>
                  <a:pt x="711" y="504"/>
                </a:lnTo>
                <a:lnTo>
                  <a:pt x="719" y="607"/>
                </a:lnTo>
                <a:lnTo>
                  <a:pt x="727" y="677"/>
                </a:lnTo>
                <a:lnTo>
                  <a:pt x="740" y="722"/>
                </a:lnTo>
                <a:lnTo>
                  <a:pt x="748" y="742"/>
                </a:lnTo>
                <a:lnTo>
                  <a:pt x="756" y="750"/>
                </a:lnTo>
                <a:lnTo>
                  <a:pt x="764" y="759"/>
                </a:lnTo>
                <a:lnTo>
                  <a:pt x="772" y="759"/>
                </a:lnTo>
                <a:lnTo>
                  <a:pt x="781" y="763"/>
                </a:lnTo>
                <a:lnTo>
                  <a:pt x="793" y="763"/>
                </a:lnTo>
                <a:lnTo>
                  <a:pt x="801" y="763"/>
                </a:lnTo>
                <a:lnTo>
                  <a:pt x="809" y="763"/>
                </a:lnTo>
                <a:lnTo>
                  <a:pt x="818" y="763"/>
                </a:lnTo>
                <a:lnTo>
                  <a:pt x="826" y="767"/>
                </a:lnTo>
                <a:lnTo>
                  <a:pt x="834" y="771"/>
                </a:lnTo>
                <a:lnTo>
                  <a:pt x="846" y="775"/>
                </a:lnTo>
                <a:lnTo>
                  <a:pt x="855" y="779"/>
                </a:lnTo>
                <a:lnTo>
                  <a:pt x="863" y="779"/>
                </a:lnTo>
                <a:lnTo>
                  <a:pt x="871" y="775"/>
                </a:lnTo>
                <a:lnTo>
                  <a:pt x="879" y="771"/>
                </a:lnTo>
                <a:lnTo>
                  <a:pt x="892" y="767"/>
                </a:lnTo>
                <a:lnTo>
                  <a:pt x="900" y="767"/>
                </a:lnTo>
                <a:lnTo>
                  <a:pt x="908" y="771"/>
                </a:lnTo>
                <a:lnTo>
                  <a:pt x="916" y="775"/>
                </a:lnTo>
                <a:lnTo>
                  <a:pt x="924" y="775"/>
                </a:lnTo>
                <a:lnTo>
                  <a:pt x="933" y="779"/>
                </a:lnTo>
                <a:lnTo>
                  <a:pt x="945" y="783"/>
                </a:lnTo>
                <a:lnTo>
                  <a:pt x="953" y="783"/>
                </a:lnTo>
                <a:lnTo>
                  <a:pt x="961" y="783"/>
                </a:lnTo>
                <a:lnTo>
                  <a:pt x="970" y="783"/>
                </a:lnTo>
                <a:lnTo>
                  <a:pt x="978" y="783"/>
                </a:lnTo>
                <a:lnTo>
                  <a:pt x="986" y="783"/>
                </a:lnTo>
                <a:lnTo>
                  <a:pt x="998" y="783"/>
                </a:lnTo>
                <a:lnTo>
                  <a:pt x="1007" y="783"/>
                </a:lnTo>
                <a:lnTo>
                  <a:pt x="1015" y="783"/>
                </a:lnTo>
                <a:lnTo>
                  <a:pt x="1023" y="783"/>
                </a:lnTo>
                <a:lnTo>
                  <a:pt x="1031" y="783"/>
                </a:lnTo>
                <a:lnTo>
                  <a:pt x="1040" y="783"/>
                </a:lnTo>
                <a:lnTo>
                  <a:pt x="1052" y="783"/>
                </a:lnTo>
                <a:lnTo>
                  <a:pt x="1060" y="783"/>
                </a:lnTo>
                <a:lnTo>
                  <a:pt x="1068" y="783"/>
                </a:lnTo>
                <a:lnTo>
                  <a:pt x="1076" y="783"/>
                </a:lnTo>
                <a:lnTo>
                  <a:pt x="1085" y="783"/>
                </a:lnTo>
                <a:lnTo>
                  <a:pt x="1093" y="783"/>
                </a:lnTo>
                <a:lnTo>
                  <a:pt x="1105" y="783"/>
                </a:lnTo>
                <a:lnTo>
                  <a:pt x="1113" y="783"/>
                </a:lnTo>
                <a:lnTo>
                  <a:pt x="1122" y="783"/>
                </a:lnTo>
                <a:lnTo>
                  <a:pt x="1130" y="783"/>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5254560" y="5051520"/>
            <a:ext cx="1482840" cy="3240"/>
          </a:xfrm>
          <a:custGeom>
            <a:avLst/>
            <a:gdLst/>
            <a:ahLst/>
            <a:rect l="l" t="t" r="r" b="b"/>
            <a:pathLst>
              <a:path w="641" h="0">
                <a:moveTo>
                  <a:pt x="0" y="0"/>
                </a:moveTo>
                <a:lnTo>
                  <a:pt x="8" y="0"/>
                </a:lnTo>
                <a:lnTo>
                  <a:pt x="16" y="0"/>
                </a:lnTo>
                <a:lnTo>
                  <a:pt x="29" y="0"/>
                </a:lnTo>
                <a:lnTo>
                  <a:pt x="37" y="0"/>
                </a:lnTo>
                <a:lnTo>
                  <a:pt x="45" y="0"/>
                </a:lnTo>
                <a:lnTo>
                  <a:pt x="53" y="0"/>
                </a:lnTo>
                <a:lnTo>
                  <a:pt x="62" y="0"/>
                </a:lnTo>
                <a:lnTo>
                  <a:pt x="70" y="0"/>
                </a:lnTo>
                <a:lnTo>
                  <a:pt x="82" y="0"/>
                </a:lnTo>
                <a:lnTo>
                  <a:pt x="90" y="0"/>
                </a:lnTo>
                <a:lnTo>
                  <a:pt x="99" y="0"/>
                </a:lnTo>
                <a:lnTo>
                  <a:pt x="107" y="0"/>
                </a:lnTo>
                <a:lnTo>
                  <a:pt x="115" y="0"/>
                </a:lnTo>
                <a:lnTo>
                  <a:pt x="123" y="0"/>
                </a:lnTo>
                <a:lnTo>
                  <a:pt x="136" y="0"/>
                </a:lnTo>
                <a:lnTo>
                  <a:pt x="144" y="0"/>
                </a:lnTo>
                <a:lnTo>
                  <a:pt x="152" y="0"/>
                </a:lnTo>
                <a:lnTo>
                  <a:pt x="160" y="0"/>
                </a:lnTo>
                <a:lnTo>
                  <a:pt x="168" y="0"/>
                </a:lnTo>
                <a:lnTo>
                  <a:pt x="177" y="0"/>
                </a:lnTo>
                <a:lnTo>
                  <a:pt x="189" y="0"/>
                </a:lnTo>
                <a:lnTo>
                  <a:pt x="197" y="0"/>
                </a:lnTo>
                <a:lnTo>
                  <a:pt x="205" y="0"/>
                </a:lnTo>
                <a:lnTo>
                  <a:pt x="214" y="0"/>
                </a:lnTo>
                <a:lnTo>
                  <a:pt x="222" y="0"/>
                </a:lnTo>
                <a:lnTo>
                  <a:pt x="234" y="0"/>
                </a:lnTo>
                <a:lnTo>
                  <a:pt x="242" y="0"/>
                </a:lnTo>
                <a:lnTo>
                  <a:pt x="251" y="0"/>
                </a:lnTo>
                <a:lnTo>
                  <a:pt x="259" y="0"/>
                </a:lnTo>
                <a:lnTo>
                  <a:pt x="267" y="0"/>
                </a:lnTo>
                <a:lnTo>
                  <a:pt x="275" y="0"/>
                </a:lnTo>
                <a:lnTo>
                  <a:pt x="288" y="0"/>
                </a:lnTo>
                <a:lnTo>
                  <a:pt x="296" y="0"/>
                </a:lnTo>
                <a:lnTo>
                  <a:pt x="304" y="0"/>
                </a:lnTo>
                <a:lnTo>
                  <a:pt x="312" y="0"/>
                </a:lnTo>
                <a:lnTo>
                  <a:pt x="320" y="0"/>
                </a:lnTo>
                <a:lnTo>
                  <a:pt x="329" y="0"/>
                </a:lnTo>
                <a:lnTo>
                  <a:pt x="341" y="0"/>
                </a:lnTo>
                <a:lnTo>
                  <a:pt x="349" y="0"/>
                </a:lnTo>
                <a:lnTo>
                  <a:pt x="357" y="0"/>
                </a:lnTo>
                <a:lnTo>
                  <a:pt x="366" y="0"/>
                </a:lnTo>
                <a:lnTo>
                  <a:pt x="374" y="0"/>
                </a:lnTo>
                <a:lnTo>
                  <a:pt x="382" y="0"/>
                </a:lnTo>
                <a:lnTo>
                  <a:pt x="394" y="0"/>
                </a:lnTo>
                <a:lnTo>
                  <a:pt x="403" y="0"/>
                </a:lnTo>
                <a:lnTo>
                  <a:pt x="411" y="0"/>
                </a:lnTo>
                <a:lnTo>
                  <a:pt x="419" y="0"/>
                </a:lnTo>
                <a:lnTo>
                  <a:pt x="427" y="0"/>
                </a:lnTo>
                <a:lnTo>
                  <a:pt x="435" y="0"/>
                </a:lnTo>
                <a:lnTo>
                  <a:pt x="448" y="0"/>
                </a:lnTo>
                <a:lnTo>
                  <a:pt x="456" y="0"/>
                </a:lnTo>
                <a:lnTo>
                  <a:pt x="464" y="0"/>
                </a:lnTo>
                <a:lnTo>
                  <a:pt x="472" y="0"/>
                </a:lnTo>
                <a:lnTo>
                  <a:pt x="481" y="0"/>
                </a:lnTo>
                <a:lnTo>
                  <a:pt x="489" y="0"/>
                </a:lnTo>
                <a:lnTo>
                  <a:pt x="501" y="0"/>
                </a:lnTo>
                <a:lnTo>
                  <a:pt x="509" y="0"/>
                </a:lnTo>
                <a:lnTo>
                  <a:pt x="518" y="0"/>
                </a:lnTo>
                <a:lnTo>
                  <a:pt x="526" y="0"/>
                </a:lnTo>
                <a:lnTo>
                  <a:pt x="534" y="0"/>
                </a:lnTo>
                <a:lnTo>
                  <a:pt x="542" y="0"/>
                </a:lnTo>
                <a:lnTo>
                  <a:pt x="555" y="0"/>
                </a:lnTo>
                <a:lnTo>
                  <a:pt x="563" y="0"/>
                </a:lnTo>
                <a:lnTo>
                  <a:pt x="571" y="0"/>
                </a:lnTo>
                <a:lnTo>
                  <a:pt x="579" y="0"/>
                </a:lnTo>
                <a:lnTo>
                  <a:pt x="587" y="0"/>
                </a:lnTo>
                <a:lnTo>
                  <a:pt x="596" y="0"/>
                </a:lnTo>
                <a:lnTo>
                  <a:pt x="608" y="0"/>
                </a:lnTo>
                <a:lnTo>
                  <a:pt x="616" y="0"/>
                </a:lnTo>
                <a:lnTo>
                  <a:pt x="624" y="0"/>
                </a:lnTo>
                <a:lnTo>
                  <a:pt x="633" y="0"/>
                </a:lnTo>
                <a:lnTo>
                  <a:pt x="641" y="0"/>
                </a:lnTo>
              </a:path>
            </a:pathLst>
          </a:custGeom>
          <a:no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6" name=""/>
          <p:cNvSpPr/>
          <p:nvPr/>
        </p:nvSpPr>
        <p:spPr>
          <a:xfrm>
            <a:off x="2638440" y="2709720"/>
            <a:ext cx="2616120" cy="2351160"/>
          </a:xfrm>
          <a:custGeom>
            <a:avLst/>
            <a:gdLst/>
            <a:ahLst/>
            <a:rect l="l" t="t" r="r" b="b"/>
            <a:pathLst>
              <a:path w="1130" h="1124">
                <a:moveTo>
                  <a:pt x="0" y="1124"/>
                </a:moveTo>
                <a:lnTo>
                  <a:pt x="8" y="1116"/>
                </a:lnTo>
                <a:lnTo>
                  <a:pt x="16" y="1104"/>
                </a:lnTo>
                <a:lnTo>
                  <a:pt x="25" y="1079"/>
                </a:lnTo>
                <a:lnTo>
                  <a:pt x="33" y="1046"/>
                </a:lnTo>
                <a:lnTo>
                  <a:pt x="41" y="1005"/>
                </a:lnTo>
                <a:lnTo>
                  <a:pt x="53" y="956"/>
                </a:lnTo>
                <a:lnTo>
                  <a:pt x="62" y="903"/>
                </a:lnTo>
                <a:lnTo>
                  <a:pt x="70" y="849"/>
                </a:lnTo>
                <a:lnTo>
                  <a:pt x="78" y="800"/>
                </a:lnTo>
                <a:lnTo>
                  <a:pt x="86" y="759"/>
                </a:lnTo>
                <a:lnTo>
                  <a:pt x="94" y="730"/>
                </a:lnTo>
                <a:lnTo>
                  <a:pt x="107" y="706"/>
                </a:lnTo>
                <a:lnTo>
                  <a:pt x="115" y="694"/>
                </a:lnTo>
                <a:lnTo>
                  <a:pt x="123" y="685"/>
                </a:lnTo>
                <a:lnTo>
                  <a:pt x="131" y="685"/>
                </a:lnTo>
                <a:lnTo>
                  <a:pt x="140" y="689"/>
                </a:lnTo>
                <a:lnTo>
                  <a:pt x="148" y="689"/>
                </a:lnTo>
                <a:lnTo>
                  <a:pt x="160" y="694"/>
                </a:lnTo>
                <a:lnTo>
                  <a:pt x="168" y="694"/>
                </a:lnTo>
                <a:lnTo>
                  <a:pt x="177" y="689"/>
                </a:lnTo>
                <a:lnTo>
                  <a:pt x="185" y="681"/>
                </a:lnTo>
                <a:lnTo>
                  <a:pt x="193" y="669"/>
                </a:lnTo>
                <a:lnTo>
                  <a:pt x="201" y="653"/>
                </a:lnTo>
                <a:lnTo>
                  <a:pt x="214" y="632"/>
                </a:lnTo>
                <a:lnTo>
                  <a:pt x="222" y="607"/>
                </a:lnTo>
                <a:lnTo>
                  <a:pt x="230" y="583"/>
                </a:lnTo>
                <a:lnTo>
                  <a:pt x="238" y="558"/>
                </a:lnTo>
                <a:lnTo>
                  <a:pt x="246" y="534"/>
                </a:lnTo>
                <a:lnTo>
                  <a:pt x="255" y="513"/>
                </a:lnTo>
                <a:lnTo>
                  <a:pt x="267" y="497"/>
                </a:lnTo>
                <a:lnTo>
                  <a:pt x="275" y="480"/>
                </a:lnTo>
                <a:lnTo>
                  <a:pt x="283" y="472"/>
                </a:lnTo>
                <a:lnTo>
                  <a:pt x="292" y="464"/>
                </a:lnTo>
                <a:lnTo>
                  <a:pt x="300" y="464"/>
                </a:lnTo>
                <a:lnTo>
                  <a:pt x="308" y="464"/>
                </a:lnTo>
                <a:lnTo>
                  <a:pt x="320" y="472"/>
                </a:lnTo>
                <a:lnTo>
                  <a:pt x="329" y="476"/>
                </a:lnTo>
                <a:lnTo>
                  <a:pt x="337" y="488"/>
                </a:lnTo>
                <a:lnTo>
                  <a:pt x="345" y="497"/>
                </a:lnTo>
                <a:lnTo>
                  <a:pt x="353" y="505"/>
                </a:lnTo>
                <a:lnTo>
                  <a:pt x="362" y="509"/>
                </a:lnTo>
                <a:lnTo>
                  <a:pt x="374" y="509"/>
                </a:lnTo>
                <a:lnTo>
                  <a:pt x="382" y="509"/>
                </a:lnTo>
                <a:lnTo>
                  <a:pt x="390" y="501"/>
                </a:lnTo>
                <a:lnTo>
                  <a:pt x="399" y="488"/>
                </a:lnTo>
                <a:lnTo>
                  <a:pt x="407" y="472"/>
                </a:lnTo>
                <a:lnTo>
                  <a:pt x="415" y="452"/>
                </a:lnTo>
                <a:lnTo>
                  <a:pt x="427" y="431"/>
                </a:lnTo>
                <a:lnTo>
                  <a:pt x="435" y="410"/>
                </a:lnTo>
                <a:lnTo>
                  <a:pt x="444" y="390"/>
                </a:lnTo>
                <a:lnTo>
                  <a:pt x="452" y="369"/>
                </a:lnTo>
                <a:lnTo>
                  <a:pt x="460" y="353"/>
                </a:lnTo>
                <a:lnTo>
                  <a:pt x="472" y="337"/>
                </a:lnTo>
                <a:lnTo>
                  <a:pt x="481" y="328"/>
                </a:lnTo>
                <a:lnTo>
                  <a:pt x="489" y="324"/>
                </a:lnTo>
                <a:lnTo>
                  <a:pt x="497" y="320"/>
                </a:lnTo>
                <a:lnTo>
                  <a:pt x="505" y="324"/>
                </a:lnTo>
                <a:lnTo>
                  <a:pt x="514" y="328"/>
                </a:lnTo>
                <a:lnTo>
                  <a:pt x="526" y="333"/>
                </a:lnTo>
                <a:lnTo>
                  <a:pt x="534" y="341"/>
                </a:lnTo>
                <a:lnTo>
                  <a:pt x="542" y="349"/>
                </a:lnTo>
                <a:lnTo>
                  <a:pt x="551" y="357"/>
                </a:lnTo>
                <a:lnTo>
                  <a:pt x="559" y="365"/>
                </a:lnTo>
                <a:lnTo>
                  <a:pt x="567" y="365"/>
                </a:lnTo>
                <a:lnTo>
                  <a:pt x="579" y="365"/>
                </a:lnTo>
                <a:lnTo>
                  <a:pt x="588" y="361"/>
                </a:lnTo>
                <a:lnTo>
                  <a:pt x="596" y="353"/>
                </a:lnTo>
                <a:lnTo>
                  <a:pt x="604" y="341"/>
                </a:lnTo>
                <a:lnTo>
                  <a:pt x="612" y="324"/>
                </a:lnTo>
                <a:lnTo>
                  <a:pt x="620" y="308"/>
                </a:lnTo>
                <a:lnTo>
                  <a:pt x="633" y="287"/>
                </a:lnTo>
                <a:lnTo>
                  <a:pt x="641" y="271"/>
                </a:lnTo>
                <a:lnTo>
                  <a:pt x="649" y="255"/>
                </a:lnTo>
                <a:lnTo>
                  <a:pt x="657" y="238"/>
                </a:lnTo>
                <a:lnTo>
                  <a:pt x="666" y="226"/>
                </a:lnTo>
                <a:lnTo>
                  <a:pt x="674" y="214"/>
                </a:lnTo>
                <a:lnTo>
                  <a:pt x="686" y="205"/>
                </a:lnTo>
                <a:lnTo>
                  <a:pt x="694" y="201"/>
                </a:lnTo>
                <a:lnTo>
                  <a:pt x="703" y="201"/>
                </a:lnTo>
                <a:lnTo>
                  <a:pt x="711" y="205"/>
                </a:lnTo>
                <a:lnTo>
                  <a:pt x="719" y="209"/>
                </a:lnTo>
                <a:lnTo>
                  <a:pt x="727" y="214"/>
                </a:lnTo>
                <a:lnTo>
                  <a:pt x="740" y="222"/>
                </a:lnTo>
                <a:lnTo>
                  <a:pt x="748" y="226"/>
                </a:lnTo>
                <a:lnTo>
                  <a:pt x="756" y="234"/>
                </a:lnTo>
                <a:lnTo>
                  <a:pt x="764" y="238"/>
                </a:lnTo>
                <a:lnTo>
                  <a:pt x="772" y="238"/>
                </a:lnTo>
                <a:lnTo>
                  <a:pt x="781" y="238"/>
                </a:lnTo>
                <a:lnTo>
                  <a:pt x="793" y="230"/>
                </a:lnTo>
                <a:lnTo>
                  <a:pt x="801" y="222"/>
                </a:lnTo>
                <a:lnTo>
                  <a:pt x="809" y="214"/>
                </a:lnTo>
                <a:lnTo>
                  <a:pt x="818" y="197"/>
                </a:lnTo>
                <a:lnTo>
                  <a:pt x="826" y="185"/>
                </a:lnTo>
                <a:lnTo>
                  <a:pt x="834" y="168"/>
                </a:lnTo>
                <a:lnTo>
                  <a:pt x="846" y="152"/>
                </a:lnTo>
                <a:lnTo>
                  <a:pt x="855" y="140"/>
                </a:lnTo>
                <a:lnTo>
                  <a:pt x="863" y="127"/>
                </a:lnTo>
                <a:lnTo>
                  <a:pt x="871" y="115"/>
                </a:lnTo>
                <a:lnTo>
                  <a:pt x="879" y="107"/>
                </a:lnTo>
                <a:lnTo>
                  <a:pt x="892" y="99"/>
                </a:lnTo>
                <a:lnTo>
                  <a:pt x="900" y="95"/>
                </a:lnTo>
                <a:lnTo>
                  <a:pt x="908" y="95"/>
                </a:lnTo>
                <a:lnTo>
                  <a:pt x="916" y="99"/>
                </a:lnTo>
                <a:lnTo>
                  <a:pt x="924" y="103"/>
                </a:lnTo>
                <a:lnTo>
                  <a:pt x="933" y="107"/>
                </a:lnTo>
                <a:lnTo>
                  <a:pt x="945" y="111"/>
                </a:lnTo>
                <a:lnTo>
                  <a:pt x="953" y="115"/>
                </a:lnTo>
                <a:lnTo>
                  <a:pt x="961" y="119"/>
                </a:lnTo>
                <a:lnTo>
                  <a:pt x="970" y="123"/>
                </a:lnTo>
                <a:lnTo>
                  <a:pt x="978" y="123"/>
                </a:lnTo>
                <a:lnTo>
                  <a:pt x="986" y="119"/>
                </a:lnTo>
                <a:lnTo>
                  <a:pt x="998" y="115"/>
                </a:lnTo>
                <a:lnTo>
                  <a:pt x="1007" y="107"/>
                </a:lnTo>
                <a:lnTo>
                  <a:pt x="1015" y="99"/>
                </a:lnTo>
                <a:lnTo>
                  <a:pt x="1023" y="86"/>
                </a:lnTo>
                <a:lnTo>
                  <a:pt x="1031" y="74"/>
                </a:lnTo>
                <a:lnTo>
                  <a:pt x="1040" y="62"/>
                </a:lnTo>
                <a:lnTo>
                  <a:pt x="1052" y="49"/>
                </a:lnTo>
                <a:lnTo>
                  <a:pt x="1060" y="37"/>
                </a:lnTo>
                <a:lnTo>
                  <a:pt x="1068" y="25"/>
                </a:lnTo>
                <a:lnTo>
                  <a:pt x="1076" y="17"/>
                </a:lnTo>
                <a:lnTo>
                  <a:pt x="1085" y="8"/>
                </a:lnTo>
                <a:lnTo>
                  <a:pt x="1093" y="4"/>
                </a:lnTo>
                <a:lnTo>
                  <a:pt x="1105" y="0"/>
                </a:lnTo>
                <a:lnTo>
                  <a:pt x="1113" y="0"/>
                </a:lnTo>
                <a:lnTo>
                  <a:pt x="1122" y="0"/>
                </a:lnTo>
                <a:lnTo>
                  <a:pt x="1130" y="0"/>
                </a:lnTo>
              </a:path>
            </a:pathLst>
          </a:custGeom>
          <a:noFill/>
          <a:ln w="2844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5254560" y="2178000"/>
            <a:ext cx="1482840" cy="566640"/>
          </a:xfrm>
          <a:custGeom>
            <a:avLst/>
            <a:gdLst/>
            <a:ahLst/>
            <a:rect l="l" t="t" r="r" b="b"/>
            <a:pathLst>
              <a:path w="641" h="271">
                <a:moveTo>
                  <a:pt x="0" y="254"/>
                </a:moveTo>
                <a:lnTo>
                  <a:pt x="8" y="258"/>
                </a:lnTo>
                <a:lnTo>
                  <a:pt x="16" y="262"/>
                </a:lnTo>
                <a:lnTo>
                  <a:pt x="29" y="267"/>
                </a:lnTo>
                <a:lnTo>
                  <a:pt x="37" y="271"/>
                </a:lnTo>
                <a:lnTo>
                  <a:pt x="45" y="271"/>
                </a:lnTo>
                <a:lnTo>
                  <a:pt x="53" y="271"/>
                </a:lnTo>
                <a:lnTo>
                  <a:pt x="62" y="271"/>
                </a:lnTo>
                <a:lnTo>
                  <a:pt x="70" y="267"/>
                </a:lnTo>
                <a:lnTo>
                  <a:pt x="82" y="258"/>
                </a:lnTo>
                <a:lnTo>
                  <a:pt x="90" y="250"/>
                </a:lnTo>
                <a:lnTo>
                  <a:pt x="99" y="242"/>
                </a:lnTo>
                <a:lnTo>
                  <a:pt x="107" y="234"/>
                </a:lnTo>
                <a:lnTo>
                  <a:pt x="115" y="221"/>
                </a:lnTo>
                <a:lnTo>
                  <a:pt x="123" y="209"/>
                </a:lnTo>
                <a:lnTo>
                  <a:pt x="136" y="201"/>
                </a:lnTo>
                <a:lnTo>
                  <a:pt x="144" y="189"/>
                </a:lnTo>
                <a:lnTo>
                  <a:pt x="152" y="180"/>
                </a:lnTo>
                <a:lnTo>
                  <a:pt x="160" y="176"/>
                </a:lnTo>
                <a:lnTo>
                  <a:pt x="168" y="168"/>
                </a:lnTo>
                <a:lnTo>
                  <a:pt x="177" y="164"/>
                </a:lnTo>
                <a:lnTo>
                  <a:pt x="189" y="164"/>
                </a:lnTo>
                <a:lnTo>
                  <a:pt x="197" y="164"/>
                </a:lnTo>
                <a:lnTo>
                  <a:pt x="205" y="164"/>
                </a:lnTo>
                <a:lnTo>
                  <a:pt x="214" y="168"/>
                </a:lnTo>
                <a:lnTo>
                  <a:pt x="222" y="168"/>
                </a:lnTo>
                <a:lnTo>
                  <a:pt x="234" y="172"/>
                </a:lnTo>
                <a:lnTo>
                  <a:pt x="242" y="172"/>
                </a:lnTo>
                <a:lnTo>
                  <a:pt x="251" y="172"/>
                </a:lnTo>
                <a:lnTo>
                  <a:pt x="259" y="172"/>
                </a:lnTo>
                <a:lnTo>
                  <a:pt x="267" y="172"/>
                </a:lnTo>
                <a:lnTo>
                  <a:pt x="275" y="168"/>
                </a:lnTo>
                <a:lnTo>
                  <a:pt x="288" y="164"/>
                </a:lnTo>
                <a:lnTo>
                  <a:pt x="296" y="156"/>
                </a:lnTo>
                <a:lnTo>
                  <a:pt x="304" y="152"/>
                </a:lnTo>
                <a:lnTo>
                  <a:pt x="312" y="143"/>
                </a:lnTo>
                <a:lnTo>
                  <a:pt x="320" y="131"/>
                </a:lnTo>
                <a:lnTo>
                  <a:pt x="329" y="123"/>
                </a:lnTo>
                <a:lnTo>
                  <a:pt x="341" y="115"/>
                </a:lnTo>
                <a:lnTo>
                  <a:pt x="349" y="107"/>
                </a:lnTo>
                <a:lnTo>
                  <a:pt x="357" y="98"/>
                </a:lnTo>
                <a:lnTo>
                  <a:pt x="366" y="90"/>
                </a:lnTo>
                <a:lnTo>
                  <a:pt x="374" y="86"/>
                </a:lnTo>
                <a:lnTo>
                  <a:pt x="382" y="82"/>
                </a:lnTo>
                <a:lnTo>
                  <a:pt x="394" y="82"/>
                </a:lnTo>
                <a:lnTo>
                  <a:pt x="403" y="78"/>
                </a:lnTo>
                <a:lnTo>
                  <a:pt x="411" y="78"/>
                </a:lnTo>
                <a:lnTo>
                  <a:pt x="419" y="78"/>
                </a:lnTo>
                <a:lnTo>
                  <a:pt x="427" y="82"/>
                </a:lnTo>
                <a:lnTo>
                  <a:pt x="435" y="82"/>
                </a:lnTo>
                <a:lnTo>
                  <a:pt x="448" y="82"/>
                </a:lnTo>
                <a:lnTo>
                  <a:pt x="456" y="82"/>
                </a:lnTo>
                <a:lnTo>
                  <a:pt x="464" y="82"/>
                </a:lnTo>
                <a:lnTo>
                  <a:pt x="472" y="82"/>
                </a:lnTo>
                <a:lnTo>
                  <a:pt x="481" y="78"/>
                </a:lnTo>
                <a:lnTo>
                  <a:pt x="489" y="74"/>
                </a:lnTo>
                <a:lnTo>
                  <a:pt x="501" y="70"/>
                </a:lnTo>
                <a:lnTo>
                  <a:pt x="509" y="66"/>
                </a:lnTo>
                <a:lnTo>
                  <a:pt x="518" y="57"/>
                </a:lnTo>
                <a:lnTo>
                  <a:pt x="526" y="49"/>
                </a:lnTo>
                <a:lnTo>
                  <a:pt x="534" y="41"/>
                </a:lnTo>
                <a:lnTo>
                  <a:pt x="542" y="33"/>
                </a:lnTo>
                <a:lnTo>
                  <a:pt x="555" y="25"/>
                </a:lnTo>
                <a:lnTo>
                  <a:pt x="563" y="20"/>
                </a:lnTo>
                <a:lnTo>
                  <a:pt x="571" y="12"/>
                </a:lnTo>
                <a:lnTo>
                  <a:pt x="579" y="8"/>
                </a:lnTo>
                <a:lnTo>
                  <a:pt x="587" y="4"/>
                </a:lnTo>
                <a:lnTo>
                  <a:pt x="596" y="0"/>
                </a:lnTo>
                <a:lnTo>
                  <a:pt x="608" y="0"/>
                </a:lnTo>
                <a:lnTo>
                  <a:pt x="616" y="0"/>
                </a:lnTo>
                <a:lnTo>
                  <a:pt x="624" y="0"/>
                </a:lnTo>
                <a:lnTo>
                  <a:pt x="633" y="0"/>
                </a:lnTo>
                <a:lnTo>
                  <a:pt x="641" y="0"/>
                </a:lnTo>
              </a:path>
            </a:pathLst>
          </a:custGeom>
          <a:noFill/>
          <a:ln w="2844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4052880" y="5365800"/>
            <a:ext cx="88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Times New Roman"/>
            </a:endParaRPr>
          </a:p>
        </p:txBody>
      </p:sp>
      <p:sp>
        <p:nvSpPr>
          <p:cNvPr id="3949" name=""/>
          <p:cNvSpPr/>
          <p:nvPr/>
        </p:nvSpPr>
        <p:spPr>
          <a:xfrm rot="16200000">
            <a:off x="2006640" y="348804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t>
            </a:r>
            <a:endParaRPr b="0" lang="en-US" sz="1000" spc="-1" strike="noStrike">
              <a:solidFill>
                <a:srgbClr val="000000"/>
              </a:solidFill>
              <a:latin typeface="Times New Roman"/>
            </a:endParaRPr>
          </a:p>
        </p:txBody>
      </p:sp>
      <p:sp>
        <p:nvSpPr>
          <p:cNvPr id="3950" name=""/>
          <p:cNvSpPr/>
          <p:nvPr/>
        </p:nvSpPr>
        <p:spPr>
          <a:xfrm>
            <a:off x="3184560" y="289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 -SDH</a:t>
            </a:r>
            <a:endParaRPr b="0" lang="en-US" sz="2400" spc="-1" strike="noStrike">
              <a:solidFill>
                <a:srgbClr val="000000"/>
              </a:solidFill>
              <a:latin typeface="Times New Roman"/>
            </a:endParaRPr>
          </a:p>
        </p:txBody>
      </p:sp>
      <p:sp>
        <p:nvSpPr>
          <p:cNvPr id="395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181" name=""/>
          <p:cNvSpPr/>
          <p:nvPr/>
        </p:nvSpPr>
        <p:spPr>
          <a:xfrm>
            <a:off x="885960" y="7794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609480" y="1752480"/>
          <a:ext cx="7848720" cy="998640"/>
        </p:xfrm>
        <a:graphic>
          <a:graphicData uri="http://schemas.openxmlformats.org/presentationml/2006/ole">
            <p:oleObj r:id="rId1" spid="">
              <p:embed/>
              <p:pic>
                <p:nvPicPr>
                  <p:cNvPr id="183" name="" descr=""/>
                  <p:cNvPicPr/>
                  <p:nvPr/>
                </p:nvPicPr>
                <p:blipFill>
                  <a:blip r:embed="rId2"/>
                  <a:stretch/>
                </p:blipFill>
                <p:spPr>
                  <a:xfrm>
                    <a:off x="609480" y="1752480"/>
                    <a:ext cx="7848720" cy="998640"/>
                  </a:xfrm>
                  <a:prstGeom prst="rect">
                    <a:avLst/>
                  </a:prstGeom>
                  <a:ln w="0">
                    <a:noFill/>
                  </a:ln>
                </p:spPr>
              </p:pic>
            </p:oleObj>
          </a:graphicData>
        </a:graphic>
      </p:graphicFrame>
      <p:sp>
        <p:nvSpPr>
          <p:cNvPr id="184" name=""/>
          <p:cNvSpPr/>
          <p:nvPr/>
        </p:nvSpPr>
        <p:spPr>
          <a:xfrm>
            <a:off x="762120" y="30481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ceived voltage in some measurement models is related to a specific component of the vector scattering amplitude given by</a:t>
            </a:r>
            <a:endParaRPr b="0" lang="en-US" sz="2400" spc="-1" strike="noStrike">
              <a:solidFill>
                <a:srgbClr val="000000"/>
              </a:solidFill>
              <a:latin typeface="Times New Roman"/>
            </a:endParaRPr>
          </a:p>
        </p:txBody>
      </p:sp>
      <p:graphicFrame>
        <p:nvGraphicFramePr>
          <p:cNvPr id="185" name=""/>
          <p:cNvGraphicFramePr/>
          <p:nvPr/>
        </p:nvGraphicFramePr>
        <p:xfrm>
          <a:off x="1981080" y="4267080"/>
          <a:ext cx="4353120" cy="525600"/>
        </p:xfrm>
        <a:graphic>
          <a:graphicData uri="http://schemas.openxmlformats.org/presentationml/2006/ole">
            <p:oleObj r:id="rId3" spid="">
              <p:embed/>
              <p:pic>
                <p:nvPicPr>
                  <p:cNvPr id="186" name="" descr=""/>
                  <p:cNvPicPr/>
                  <p:nvPr/>
                </p:nvPicPr>
                <p:blipFill>
                  <a:blip r:embed="rId4"/>
                  <a:stretch/>
                </p:blipFill>
                <p:spPr>
                  <a:xfrm>
                    <a:off x="1981080" y="4267080"/>
                    <a:ext cx="4353120" cy="525600"/>
                  </a:xfrm>
                  <a:prstGeom prst="rect">
                    <a:avLst/>
                  </a:prstGeom>
                  <a:ln w="0">
                    <a:noFill/>
                  </a:ln>
                </p:spPr>
              </p:pic>
            </p:oleObj>
          </a:graphicData>
        </a:graphic>
      </p:graphicFrame>
      <p:sp>
        <p:nvSpPr>
          <p:cNvPr id="187" name=""/>
          <p:cNvSpPr/>
          <p:nvPr/>
        </p:nvSpPr>
        <p:spPr>
          <a:xfrm>
            <a:off x="2510640" y="992160"/>
            <a:ext cx="32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scattering amplitude</a:t>
            </a:r>
            <a:endParaRPr b="0" lang="en-US" sz="2400" spc="-1" strike="noStrike">
              <a:solidFill>
                <a:srgbClr val="000000"/>
              </a:solidFill>
              <a:latin typeface="Times New Roman"/>
            </a:endParaRPr>
          </a:p>
        </p:txBody>
      </p:sp>
      <p:sp>
        <p:nvSpPr>
          <p:cNvPr id="188" name=""/>
          <p:cNvSpPr/>
          <p:nvPr/>
        </p:nvSpPr>
        <p:spPr>
          <a:xfrm flipV="1">
            <a:off x="60199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10080" y="5181480"/>
            <a:ext cx="3292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ation vector of  an incident wave from receiving transducer (to be discussed short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183480" y="28908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law Scattering</a:t>
            </a:r>
            <a:endParaRPr b="0" lang="en-US" sz="2400" spc="-1" strike="noStrike">
              <a:solidFill>
                <a:srgbClr val="000000"/>
              </a:solidFill>
              <a:latin typeface="Times New Roman"/>
            </a:endParaRPr>
          </a:p>
        </p:txBody>
      </p:sp>
      <p:sp>
        <p:nvSpPr>
          <p:cNvPr id="191" name=""/>
          <p:cNvSpPr/>
          <p:nvPr/>
        </p:nvSpPr>
        <p:spPr>
          <a:xfrm>
            <a:off x="885960" y="779400"/>
            <a:ext cx="6858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0280" y="990720"/>
            <a:ext cx="60451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Symbol"/>
                <a:ea typeface="Symbol"/>
              </a:rPr>
              <a:t></a:t>
            </a:r>
            <a:r>
              <a:rPr b="0" lang="en-US" sz="2400" spc="-1" strike="noStrike">
                <a:solidFill>
                  <a:srgbClr val="000000"/>
                </a:solidFill>
                <a:latin typeface="Times New Roman"/>
              </a:rPr>
              <a:t>) can be obtained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tical/Numerical metho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66ff"/>
                </a:solidFill>
                <a:latin typeface="Times New Roman"/>
              </a:rPr>
              <a:t>Separation of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undary Elements (B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ite Elements (F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hod of Optimal Truncation (MO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matr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Kirchhoff Approx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Born Approx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Symbol"/>
                <a:ea typeface="Symbol"/>
              </a:rPr>
              <a:t></a:t>
            </a:r>
            <a:r>
              <a:rPr b="0" lang="en-US" sz="2400" spc="-1" strike="noStrike">
                <a:solidFill>
                  <a:srgbClr val="000000"/>
                </a:solidFill>
                <a:latin typeface="Times New Roman"/>
              </a:rPr>
              <a:t>) can be found experimentally throug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nvolution:</a:t>
            </a:r>
            <a:endParaRPr b="0" lang="en-US" sz="2400" spc="-1" strike="noStrike">
              <a:solidFill>
                <a:srgbClr val="000000"/>
              </a:solidFill>
              <a:latin typeface="Times New Roman"/>
            </a:endParaRPr>
          </a:p>
        </p:txBody>
      </p:sp>
      <p:graphicFrame>
        <p:nvGraphicFramePr>
          <p:cNvPr id="193" name=""/>
          <p:cNvGraphicFramePr/>
          <p:nvPr/>
        </p:nvGraphicFramePr>
        <p:xfrm>
          <a:off x="2743200" y="5410080"/>
          <a:ext cx="2514600" cy="379440"/>
        </p:xfrm>
        <a:graphic>
          <a:graphicData uri="http://schemas.openxmlformats.org/presentationml/2006/ole">
            <p:oleObj r:id="rId1" spid="">
              <p:embed/>
              <p:pic>
                <p:nvPicPr>
                  <p:cNvPr id="194" name="" descr=""/>
                  <p:cNvPicPr/>
                  <p:nvPr/>
                </p:nvPicPr>
                <p:blipFill>
                  <a:blip r:embed="rId2"/>
                  <a:stretch/>
                </p:blipFill>
                <p:spPr>
                  <a:xfrm>
                    <a:off x="2743200" y="5410080"/>
                    <a:ext cx="2514600" cy="379440"/>
                  </a:xfrm>
                  <a:prstGeom prst="rect">
                    <a:avLst/>
                  </a:prstGeom>
                  <a:ln w="0">
                    <a:noFill/>
                  </a:ln>
                </p:spPr>
              </p:pic>
            </p:oleObj>
          </a:graphicData>
        </a:graphic>
      </p:graphicFrame>
      <p:graphicFrame>
        <p:nvGraphicFramePr>
          <p:cNvPr id="195" name=""/>
          <p:cNvGraphicFramePr/>
          <p:nvPr/>
        </p:nvGraphicFramePr>
        <p:xfrm>
          <a:off x="6235560" y="5187960"/>
          <a:ext cx="2298960" cy="865080"/>
        </p:xfrm>
        <a:graphic>
          <a:graphicData uri="http://schemas.openxmlformats.org/presentationml/2006/ole">
            <p:oleObj r:id="rId3" spid="">
              <p:embed/>
              <p:pic>
                <p:nvPicPr>
                  <p:cNvPr id="196" name="" descr=""/>
                  <p:cNvPicPr/>
                  <p:nvPr/>
                </p:nvPicPr>
                <p:blipFill>
                  <a:blip r:embed="rId4"/>
                  <a:stretch/>
                </p:blipFill>
                <p:spPr>
                  <a:xfrm>
                    <a:off x="6235560" y="5187960"/>
                    <a:ext cx="2298960" cy="865080"/>
                  </a:xfrm>
                  <a:prstGeom prst="rect">
                    <a:avLst/>
                  </a:prstGeom>
                  <a:ln w="0">
                    <a:noFill/>
                  </a:ln>
                </p:spPr>
              </p:pic>
            </p:oleObj>
          </a:graphicData>
        </a:graphic>
      </p:graphicFrame>
      <p:sp>
        <p:nvSpPr>
          <p:cNvPr id="197" name=""/>
          <p:cNvSpPr/>
          <p:nvPr/>
        </p:nvSpPr>
        <p:spPr>
          <a:xfrm flipV="1">
            <a:off x="297180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6232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a:t>
            </a:r>
            <a:endParaRPr b="0" lang="en-US" sz="2400" spc="-1" strike="noStrike">
              <a:solidFill>
                <a:srgbClr val="000000"/>
              </a:solidFill>
              <a:latin typeface="Times New Roman"/>
            </a:endParaRPr>
          </a:p>
        </p:txBody>
      </p:sp>
      <p:sp>
        <p:nvSpPr>
          <p:cNvPr id="199" name=""/>
          <p:cNvSpPr/>
          <p:nvPr/>
        </p:nvSpPr>
        <p:spPr>
          <a:xfrm flipV="1">
            <a:off x="434340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440" y="61722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meas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01:59:39Z</dcterms:created>
  <dc:creator>Lester Schmerr</dc:creator>
  <dc:description/>
  <dc:language>en-US</dc:language>
  <cp:lastModifiedBy>Lester Schmerr</cp:lastModifiedBy>
  <cp:lastPrinted>2000-10-19T01:04:30Z</cp:lastPrinted>
  <dcterms:modified xsi:type="dcterms:W3CDTF">2006-03-27T21:30:44Z</dcterms:modified>
  <cp:revision>49</cp:revision>
  <dc:subject/>
  <dc:title>No Slide Title</dc:title>
</cp:coreProperties>
</file>