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B94-C6F7-4313-96C8-E864E16C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861-6852-4D94-992E-BAF28526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485-0C16-4980-9585-F8EECEC9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E24-10EC-4DB9-81E6-86392C45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52D-FCC4-406D-B462-1F38C0F7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742-32B2-4FE3-ADC0-B31C3BA5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A3D-8E0B-4DAE-A23F-0CADA4D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6BC-2FFC-4B56-B44F-35B31F25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BD7-D04C-4E18-9905-D120B806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771-D831-45D0-8769-CF01FB0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2ED-CC5B-4891-B19C-010EABC6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B29-1374-465D-BDA1-07231E33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712E-EC2B-493C-8994-E8A3C50F5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7.wmf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60020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89120" y="365760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sonic Syst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1828800" y="1738080"/>
            <a:ext cx="4105080" cy="4528440"/>
            <a:chOff x="1828800" y="1738080"/>
            <a:chExt cx="4105080" cy="4528440"/>
          </a:xfrm>
        </p:grpSpPr>
        <p:grpSp>
          <p:nvGrpSpPr>
            <p:cNvPr id="495" name=""/>
            <p:cNvGrpSpPr/>
            <p:nvPr/>
          </p:nvGrpSpPr>
          <p:grpSpPr>
            <a:xfrm>
              <a:off x="2505240" y="1738080"/>
              <a:ext cx="1100880" cy="1247400"/>
              <a:chOff x="2505240" y="1738080"/>
              <a:chExt cx="1100880" cy="1247400"/>
            </a:xfrm>
          </p:grpSpPr>
          <p:sp>
            <p:nvSpPr>
              <p:cNvPr id="496" name=""/>
              <p:cNvSpPr/>
              <p:nvPr/>
            </p:nvSpPr>
            <p:spPr>
              <a:xfrm>
                <a:off x="2827080" y="2133360"/>
                <a:ext cx="68580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230800">
                <a:off x="2826720" y="1752120"/>
                <a:ext cx="457200" cy="12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284280" y="251424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055680" y="2938680"/>
              <a:ext cx="1088640" cy="980280"/>
              <a:chOff x="3055680" y="2938680"/>
              <a:chExt cx="1088640" cy="980280"/>
            </a:xfrm>
          </p:grpSpPr>
          <p:sp>
            <p:nvSpPr>
              <p:cNvPr id="500" name=""/>
              <p:cNvSpPr/>
              <p:nvPr/>
            </p:nvSpPr>
            <p:spPr>
              <a:xfrm>
                <a:off x="3207960" y="3200400"/>
                <a:ext cx="68580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818800">
                <a:off x="3207960" y="320004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055680" y="3581280"/>
                <a:ext cx="4572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4046400" y="2590920"/>
              <a:ext cx="1296720" cy="742320"/>
              <a:chOff x="4046400" y="2590920"/>
              <a:chExt cx="1296720" cy="742320"/>
            </a:xfrm>
          </p:grpSpPr>
          <p:sp>
            <p:nvSpPr>
              <p:cNvPr id="504" name=""/>
              <p:cNvSpPr/>
              <p:nvPr/>
            </p:nvSpPr>
            <p:spPr>
              <a:xfrm flipH="1" flipV="1">
                <a:off x="4046040" y="2590920"/>
                <a:ext cx="997560" cy="742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5046120" y="2802600"/>
                <a:ext cx="97920" cy="265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5146200" y="2855880"/>
                <a:ext cx="97200" cy="1591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5245920" y="2802600"/>
                <a:ext cx="97200" cy="265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4046400" y="2711520"/>
              <a:ext cx="96840" cy="533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18000" y="2975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18000" y="2819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7028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94320" y="2971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60600" y="480060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64320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44640" y="5334120"/>
              <a:ext cx="648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51120" y="4495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86080" y="4362480"/>
              <a:ext cx="654120" cy="25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57480" y="4508640"/>
              <a:ext cx="6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65520" y="5700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0" name=""/>
            <p:cNvGraphicFramePr/>
            <p:nvPr/>
          </p:nvGraphicFramePr>
          <p:xfrm>
            <a:off x="4122720" y="4724280"/>
            <a:ext cx="82080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2720" y="4724280"/>
                      <a:ext cx="820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2" name=""/>
            <p:cNvGraphicFramePr/>
            <p:nvPr/>
          </p:nvGraphicFramePr>
          <p:xfrm>
            <a:off x="1828800" y="4159080"/>
            <a:ext cx="1466640" cy="73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159080"/>
                      <a:ext cx="146664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"/>
            <p:cNvSpPr/>
            <p:nvPr/>
          </p:nvSpPr>
          <p:spPr>
            <a:xfrm>
              <a:off x="5452920" y="44625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94320" y="56516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1680" y="4343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94320" y="4648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8" name=""/>
            <p:cNvGraphicFramePr/>
            <p:nvPr/>
          </p:nvGraphicFramePr>
          <p:xfrm>
            <a:off x="5570280" y="4800600"/>
            <a:ext cx="211320" cy="246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70280" y="4800600"/>
                      <a:ext cx="211320" cy="2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0" name=""/>
            <p:cNvGraphicFramePr/>
            <p:nvPr/>
          </p:nvGraphicFramePr>
          <p:xfrm>
            <a:off x="5722920" y="2590920"/>
            <a:ext cx="210960" cy="245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22920" y="2590920"/>
                      <a:ext cx="210960" cy="24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2" name=""/>
            <p:cNvGraphicFramePr/>
            <p:nvPr/>
          </p:nvGraphicFramePr>
          <p:xfrm>
            <a:off x="5722920" y="3048120"/>
            <a:ext cx="183960" cy="239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722920" y="3048120"/>
                      <a:ext cx="18396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4" name=""/>
            <p:cNvSpPr/>
            <p:nvPr/>
          </p:nvSpPr>
          <p:spPr>
            <a:xfrm>
              <a:off x="4338720" y="3567240"/>
              <a:ext cx="40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13960" y="59292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52400" y="27432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27200" y="2819520"/>
              <a:ext cx="113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cident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cattered w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8" name=""/>
            <p:cNvGraphicFramePr/>
            <p:nvPr/>
          </p:nvGraphicFramePr>
          <p:xfrm>
            <a:off x="5410080" y="3962520"/>
            <a:ext cx="184320" cy="239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10080" y="3962520"/>
                      <a:ext cx="18432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"/>
          <p:cNvSpPr/>
          <p:nvPr/>
        </p:nvSpPr>
        <p:spPr>
          <a:xfrm>
            <a:off x="1965240" y="569880"/>
            <a:ext cx="61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eiving transducer also can be modeled by an impedance and sensitiv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89548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92880" y="552276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ed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d by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son the trans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01440" y="4151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45000" y="39988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2895480" y="3581280"/>
            <a:ext cx="3789360" cy="1628640"/>
            <a:chOff x="2895480" y="3581280"/>
            <a:chExt cx="3789360" cy="1628640"/>
          </a:xfrm>
        </p:grpSpPr>
        <p:sp>
          <p:nvSpPr>
            <p:cNvPr id="546" name=""/>
            <p:cNvSpPr/>
            <p:nvPr/>
          </p:nvSpPr>
          <p:spPr>
            <a:xfrm rot="5400000">
              <a:off x="3749400" y="3952440"/>
              <a:ext cx="1447560" cy="1067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35280" y="41432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35280" y="48290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68440" y="4143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92480" y="4295520"/>
              <a:ext cx="152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82640" y="3990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558960" y="4219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95720" y="4478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4" name=""/>
            <p:cNvGraphicFramePr/>
            <p:nvPr/>
          </p:nvGraphicFramePr>
          <p:xfrm>
            <a:off x="3306600" y="3581280"/>
            <a:ext cx="566640" cy="35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06600" y="3581280"/>
                      <a:ext cx="5666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6" name=""/>
            <p:cNvGraphicFramePr/>
            <p:nvPr/>
          </p:nvGraphicFramePr>
          <p:xfrm>
            <a:off x="2895480" y="4278240"/>
            <a:ext cx="583920" cy="35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4278240"/>
                      <a:ext cx="58392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4244760" y="4295520"/>
            <a:ext cx="609480" cy="33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44760" y="4295520"/>
                      <a:ext cx="60948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0" name=""/>
            <p:cNvGraphicFramePr/>
            <p:nvPr/>
          </p:nvGraphicFramePr>
          <p:xfrm>
            <a:off x="4854240" y="4752720"/>
            <a:ext cx="1830600" cy="34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54240" y="4752720"/>
                      <a:ext cx="183060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2" name=""/>
          <p:cNvSpPr/>
          <p:nvPr/>
        </p:nvSpPr>
        <p:spPr>
          <a:xfrm>
            <a:off x="1073880" y="685800"/>
            <a:ext cx="66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of the receiver as an electrical impedance and gain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30800" y="36939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343040" y="4038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562360" y="5105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44480" y="552276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38760" y="2057400"/>
            <a:ext cx="1803240" cy="1112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00680" y="2114640"/>
            <a:ext cx="1679400" cy="100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994280" y="2887560"/>
            <a:ext cx="152280" cy="152280"/>
            <a:chOff x="4994280" y="2887560"/>
            <a:chExt cx="152280" cy="152280"/>
          </a:xfrm>
        </p:grpSpPr>
        <p:sp>
          <p:nvSpPr>
            <p:cNvPr id="570" name=""/>
            <p:cNvSpPr/>
            <p:nvPr/>
          </p:nvSpPr>
          <p:spPr>
            <a:xfrm>
              <a:off x="5011920" y="2912760"/>
              <a:ext cx="117360" cy="108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4280" y="288756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62200" y="23018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4194000" y="3200400"/>
          <a:ext cx="801720" cy="42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4000" y="3200400"/>
                    <a:ext cx="801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 flipV="1">
            <a:off x="5070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1320" y="2506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477120" y="2286000"/>
          <a:ext cx="2952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2286000"/>
                    <a:ext cx="295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"/>
          <p:cNvSpPr/>
          <p:nvPr/>
        </p:nvSpPr>
        <p:spPr>
          <a:xfrm>
            <a:off x="6311520" y="1865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2657520" y="1620720"/>
            <a:ext cx="990720" cy="533520"/>
            <a:chOff x="2657520" y="1620720"/>
            <a:chExt cx="990720" cy="533520"/>
          </a:xfrm>
        </p:grpSpPr>
        <p:sp>
          <p:nvSpPr>
            <p:cNvPr id="581" name=""/>
            <p:cNvSpPr/>
            <p:nvPr/>
          </p:nvSpPr>
          <p:spPr>
            <a:xfrm rot="10800000">
              <a:off x="2657520" y="1620720"/>
              <a:ext cx="762120" cy="5335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0800000">
              <a:off x="3421080" y="1811160"/>
              <a:ext cx="74880" cy="190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0800000">
              <a:off x="3497400" y="1849320"/>
              <a:ext cx="74520" cy="1144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0800000">
              <a:off x="3573720" y="1811160"/>
              <a:ext cx="74520" cy="190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5" name=""/>
          <p:cNvGraphicFramePr/>
          <p:nvPr/>
        </p:nvGraphicFramePr>
        <p:xfrm>
          <a:off x="1905120" y="1295280"/>
          <a:ext cx="76680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766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"/>
          <p:cNvSpPr/>
          <p:nvPr/>
        </p:nvSpPr>
        <p:spPr>
          <a:xfrm>
            <a:off x="2200320" y="1849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387680" y="1316160"/>
            <a:ext cx="1371600" cy="1295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75160" y="183996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649680" y="1914480"/>
            <a:ext cx="836640" cy="11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28240" y="1447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5600" y="19256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5857920" y="1392120"/>
          <a:ext cx="749160" cy="4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920" y="1392120"/>
                    <a:ext cx="74916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844240" y="2139840"/>
            <a:ext cx="7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09880" y="5334120"/>
            <a:ext cx="11430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41720" y="274320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41000" y="44956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5748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52880" y="5715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917800" y="5257800"/>
          <a:ext cx="74448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7800" y="5257800"/>
                    <a:ext cx="7444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5181480" y="5181480"/>
          <a:ext cx="749520" cy="43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5181480"/>
                    <a:ext cx="7495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4027320" y="5487840"/>
          <a:ext cx="66060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27320" y="5487840"/>
                    <a:ext cx="660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3048120" y="3494160"/>
            <a:ext cx="1904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4533840" y="3303360"/>
            <a:ext cx="1447920" cy="1067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657600" y="3341520"/>
            <a:ext cx="6858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76920" y="3646440"/>
            <a:ext cx="150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71720" y="365904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00400" y="3394080"/>
            <a:ext cx="32076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91320" y="3841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286000" y="3646440"/>
          <a:ext cx="565200" cy="37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3646440"/>
                    <a:ext cx="5652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2819520" y="3025800"/>
          <a:ext cx="428400" cy="35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3025800"/>
                    <a:ext cx="4284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3809880" y="3646440"/>
          <a:ext cx="36216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9880" y="3646440"/>
                    <a:ext cx="3621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5105520" y="3646440"/>
          <a:ext cx="338040" cy="40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05520" y="3646440"/>
                    <a:ext cx="3380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6019920" y="3494160"/>
          <a:ext cx="852480" cy="333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9920" y="3494160"/>
                    <a:ext cx="8524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 flipV="1">
            <a:off x="4452840" y="355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4467240" y="3708360"/>
          <a:ext cx="230040" cy="318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67240" y="3708360"/>
                    <a:ext cx="23004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4254480" y="631044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54280" y="1720800"/>
            <a:ext cx="74520" cy="333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42760" y="341280"/>
            <a:ext cx="54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ting all the sound reception component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4648320" y="2362320"/>
          <a:ext cx="62712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62320"/>
                    <a:ext cx="62712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019920" y="1143000"/>
          <a:ext cx="54432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143000"/>
                    <a:ext cx="5443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4" name=""/>
          <p:cNvGrpSpPr/>
          <p:nvPr/>
        </p:nvGrpSpPr>
        <p:grpSpPr>
          <a:xfrm>
            <a:off x="4453200" y="1856160"/>
            <a:ext cx="445680" cy="472320"/>
            <a:chOff x="4453200" y="1856160"/>
            <a:chExt cx="445680" cy="472320"/>
          </a:xfrm>
        </p:grpSpPr>
        <p:sp>
          <p:nvSpPr>
            <p:cNvPr id="635" name=""/>
            <p:cNvSpPr/>
            <p:nvPr/>
          </p:nvSpPr>
          <p:spPr>
            <a:xfrm rot="7648800">
              <a:off x="4502880" y="1952640"/>
              <a:ext cx="345600" cy="2966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648800">
              <a:off x="4783680" y="1902960"/>
              <a:ext cx="33840" cy="1058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648800">
              <a:off x="4804920" y="1897200"/>
              <a:ext cx="33480" cy="633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648800">
              <a:off x="4825800" y="1848600"/>
              <a:ext cx="33480" cy="1058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326200" y="1523880"/>
            <a:ext cx="763560" cy="588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375160" y="1762200"/>
            <a:ext cx="8424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915080" y="1795320"/>
            <a:ext cx="46656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30800" y="1800360"/>
            <a:ext cx="212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848120" y="1790640"/>
            <a:ext cx="7308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429000" y="1841400"/>
            <a:ext cx="446040" cy="472680"/>
            <a:chOff x="3429000" y="1841400"/>
            <a:chExt cx="446040" cy="472680"/>
          </a:xfrm>
        </p:grpSpPr>
        <p:sp>
          <p:nvSpPr>
            <p:cNvPr id="645" name=""/>
            <p:cNvSpPr/>
            <p:nvPr/>
          </p:nvSpPr>
          <p:spPr>
            <a:xfrm flipH="1" rot="13951200">
              <a:off x="3478680" y="1937880"/>
              <a:ext cx="345600" cy="297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3951200">
              <a:off x="3510360" y="1888560"/>
              <a:ext cx="33840" cy="106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13951200">
              <a:off x="3489120" y="1882440"/>
              <a:ext cx="33480" cy="63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13951200">
              <a:off x="3468240" y="1833840"/>
              <a:ext cx="33480" cy="106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 flipH="1">
            <a:off x="2234520" y="1523880"/>
            <a:ext cx="763560" cy="588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864880" y="1762200"/>
            <a:ext cx="8388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2944800" y="1795320"/>
            <a:ext cx="46512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981080" y="1801800"/>
            <a:ext cx="212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396960" y="1797120"/>
            <a:ext cx="745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2181240"/>
            <a:ext cx="533520" cy="83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371840" y="2257200"/>
            <a:ext cx="160560" cy="17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795840" y="2257560"/>
            <a:ext cx="150840" cy="17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1905120" y="1143000"/>
          <a:ext cx="50796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143000"/>
                    <a:ext cx="5079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124080" y="2286000"/>
          <a:ext cx="592200" cy="3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2286000"/>
                    <a:ext cx="5922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 flipH="1" flipV="1">
            <a:off x="4266720" y="2743200"/>
            <a:ext cx="43668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06000" y="2819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oustic/ela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038480" y="2438280"/>
          <a:ext cx="212760" cy="3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2438280"/>
                    <a:ext cx="2127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2288160" y="16002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14760" y="160020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676680" y="2152440"/>
            <a:ext cx="139680" cy="107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08640" y="2158920"/>
            <a:ext cx="152280" cy="1144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all the wave propagation and scattering components as a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733920" y="525780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35268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2428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514600" y="5410080"/>
          <a:ext cx="674640" cy="441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5410080"/>
                    <a:ext cx="674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5181480" y="5410080"/>
          <a:ext cx="723960" cy="4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5410080"/>
                    <a:ext cx="7239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3886200" y="5410080"/>
          <a:ext cx="67788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5410080"/>
                    <a:ext cx="677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2899080" y="632448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ustic/elastic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4343400" y="4419720"/>
          <a:ext cx="565200" cy="369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419720"/>
                    <a:ext cx="5652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762120" y="3809880"/>
          <a:ext cx="614160" cy="38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120" y="3809880"/>
                    <a:ext cx="6141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505320" y="4343400"/>
          <a:ext cx="685800" cy="41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05320" y="4343400"/>
                    <a:ext cx="6858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6934320" y="3733920"/>
          <a:ext cx="641160" cy="376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3733920"/>
                    <a:ext cx="6411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4862520" y="3992400"/>
            <a:ext cx="1463760" cy="62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5400000">
            <a:off x="5965560" y="3863880"/>
            <a:ext cx="1189080" cy="820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30880" y="3867120"/>
            <a:ext cx="527040" cy="87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267600" y="4118040"/>
            <a:ext cx="115560" cy="326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726080" y="4127400"/>
            <a:ext cx="293760" cy="312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79880" y="3909960"/>
            <a:ext cx="246240" cy="15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70680" y="42782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582560" y="3929040"/>
            <a:ext cx="1463760" cy="62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rot="5400000">
            <a:off x="2686680" y="3800880"/>
            <a:ext cx="1189080" cy="8193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050920" y="3805200"/>
            <a:ext cx="527040" cy="87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87640" y="4054320"/>
            <a:ext cx="115920" cy="327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47920" y="4065480"/>
            <a:ext cx="291960" cy="312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700280" y="3848040"/>
            <a:ext cx="245880" cy="15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691080" y="4214880"/>
            <a:ext cx="293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809880" y="3429000"/>
            <a:ext cx="878040" cy="162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2666880" y="685800"/>
            <a:ext cx="3429000" cy="2749680"/>
            <a:chOff x="2666880" y="685800"/>
            <a:chExt cx="3429000" cy="2749680"/>
          </a:xfrm>
        </p:grpSpPr>
        <p:sp>
          <p:nvSpPr>
            <p:cNvPr id="704" name=""/>
            <p:cNvSpPr/>
            <p:nvPr/>
          </p:nvSpPr>
          <p:spPr>
            <a:xfrm>
              <a:off x="2666880" y="1682640"/>
              <a:ext cx="3352680" cy="175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462800">
              <a:off x="3047400" y="1987560"/>
              <a:ext cx="457200" cy="304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393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3581280" y="1910520"/>
              <a:ext cx="1523880" cy="1295640"/>
            </a:xfrm>
            <a:custGeom>
              <a:avLst/>
              <a:gdLst>
                <a:gd name="textAreaLeft" fmla="*/ 335160 w 1523880"/>
                <a:gd name="textAreaRight" fmla="*/ 1188720 w 1523880"/>
                <a:gd name="textAreaTop" fmla="*/ 284760 h 1295640"/>
                <a:gd name="textAreaBottom" fmla="*/ 101088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66880" y="137808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19560" y="137808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66880" y="692280"/>
              <a:ext cx="76212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3760" y="692280"/>
              <a:ext cx="76212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2890800" y="1925280"/>
              <a:ext cx="17280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2895480" y="996480"/>
              <a:ext cx="468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9400200">
              <a:off x="5105160" y="1987200"/>
              <a:ext cx="457200" cy="304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759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5562360" y="1931760"/>
              <a:ext cx="26208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5824440" y="10191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6880" y="343548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67080" y="2216160"/>
              <a:ext cx="1522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65440" y="2260440"/>
              <a:ext cx="218880" cy="9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32400" y="6922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ul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83080" y="685800"/>
              <a:ext cx="66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63800" y="9842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90960" y="996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09880" y="290196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125520" y="19875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83280" y="1987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69600" y="2546280"/>
              <a:ext cx="45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la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4088880" y="2413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8" name=""/>
            <p:cNvGraphicFramePr/>
            <p:nvPr/>
          </p:nvGraphicFramePr>
          <p:xfrm>
            <a:off x="3886200" y="2521080"/>
            <a:ext cx="190440" cy="241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2521080"/>
                      <a:ext cx="19044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0" name=""/>
            <p:cNvSpPr/>
            <p:nvPr/>
          </p:nvSpPr>
          <p:spPr>
            <a:xfrm flipV="1">
              <a:off x="4905360" y="2282400"/>
              <a:ext cx="19512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3423960" y="2154240"/>
              <a:ext cx="68400" cy="160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14880" y="2152800"/>
              <a:ext cx="66600" cy="16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910880" y="152280"/>
            <a:ext cx="53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an entire ultrasonic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95880" y="838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705720" y="685800"/>
          <a:ext cx="59688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685800"/>
                    <a:ext cx="59688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4419720" y="4876920"/>
          <a:ext cx="56520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876920"/>
                    <a:ext cx="5652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838080" y="4267080"/>
          <a:ext cx="61452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267080"/>
                    <a:ext cx="614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3581280" y="4800600"/>
          <a:ext cx="68580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4800600"/>
                    <a:ext cx="6858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7010280" y="4191120"/>
          <a:ext cx="641520" cy="37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4191120"/>
                    <a:ext cx="6415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4938840" y="4449600"/>
            <a:ext cx="1463400" cy="62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5400000">
            <a:off x="6041880" y="4321080"/>
            <a:ext cx="1189080" cy="820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407200" y="4324320"/>
            <a:ext cx="527040" cy="87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343560" y="4575240"/>
            <a:ext cx="115920" cy="326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02040" y="4584600"/>
            <a:ext cx="293760" cy="312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056200" y="4367160"/>
            <a:ext cx="245880" cy="15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47000" y="47354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58880" y="4386240"/>
            <a:ext cx="1463760" cy="62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5400000">
            <a:off x="2762640" y="4258440"/>
            <a:ext cx="1189080" cy="819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27240" y="4262400"/>
            <a:ext cx="527040" cy="87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63960" y="4511520"/>
            <a:ext cx="115920" cy="327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23880" y="4522680"/>
            <a:ext cx="292320" cy="312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776240" y="4305240"/>
            <a:ext cx="246240" cy="15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767040" y="4672080"/>
            <a:ext cx="29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3886200"/>
            <a:ext cx="878040" cy="162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600200" y="5257440"/>
            <a:ext cx="2057400" cy="152640"/>
            <a:chOff x="1600200" y="5257440"/>
            <a:chExt cx="2057400" cy="152640"/>
          </a:xfrm>
        </p:grpSpPr>
        <p:sp>
          <p:nvSpPr>
            <p:cNvPr id="761" name=""/>
            <p:cNvSpPr/>
            <p:nvPr/>
          </p:nvSpPr>
          <p:spPr>
            <a:xfrm>
              <a:off x="1600200" y="54100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600200" y="525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657600" y="525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952880" y="5333760"/>
            <a:ext cx="2057400" cy="152640"/>
            <a:chOff x="4952880" y="5333760"/>
            <a:chExt cx="2057400" cy="152640"/>
          </a:xfrm>
        </p:grpSpPr>
        <p:sp>
          <p:nvSpPr>
            <p:cNvPr id="765" name=""/>
            <p:cNvSpPr/>
            <p:nvPr/>
          </p:nvSpPr>
          <p:spPr>
            <a:xfrm>
              <a:off x="4952880" y="54864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95288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01028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8" name=""/>
          <p:cNvGraphicFramePr/>
          <p:nvPr/>
        </p:nvGraphicFramePr>
        <p:xfrm>
          <a:off x="1371600" y="5486400"/>
          <a:ext cx="194616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71600" y="5486400"/>
                    <a:ext cx="19461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3276720" y="6248520"/>
          <a:ext cx="1904760" cy="35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6248520"/>
                    <a:ext cx="19047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5029200" y="5568840"/>
          <a:ext cx="2057400" cy="374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5568840"/>
                    <a:ext cx="20574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"/>
          <p:cNvSpPr/>
          <p:nvPr/>
        </p:nvSpPr>
        <p:spPr>
          <a:xfrm>
            <a:off x="1070640" y="5943600"/>
            <a:ext cx="19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946840" y="59436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re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220968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617220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057480" y="1320840"/>
            <a:ext cx="685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971880" y="1320840"/>
            <a:ext cx="685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886280" y="1320840"/>
            <a:ext cx="685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676600" y="1701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743280" y="170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57680" y="170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572080" y="1701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066760" y="1473120"/>
          <a:ext cx="58428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473120"/>
                    <a:ext cx="5842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6029280" y="1549440"/>
          <a:ext cx="596880" cy="35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9280" y="1549440"/>
                    <a:ext cx="5968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"/>
          <p:cNvGraphicFramePr/>
          <p:nvPr/>
        </p:nvGraphicFramePr>
        <p:xfrm>
          <a:off x="3110040" y="1533600"/>
          <a:ext cx="58392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10040" y="1533600"/>
                    <a:ext cx="5839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4038480" y="1523880"/>
          <a:ext cx="584280" cy="36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1523880"/>
                    <a:ext cx="5842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4944960" y="1523880"/>
          <a:ext cx="584280" cy="36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44960" y="1523880"/>
                    <a:ext cx="5842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3809880" y="3962520"/>
            <a:ext cx="685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49568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4952880" y="4191120"/>
          <a:ext cx="596880" cy="35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4191120"/>
                    <a:ext cx="5968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3886200" y="4191120"/>
          <a:ext cx="58428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4191120"/>
                    <a:ext cx="5842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2971800" y="4191120"/>
          <a:ext cx="558720" cy="39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4191120"/>
                    <a:ext cx="5587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4" name=""/>
          <p:cNvSpPr/>
          <p:nvPr/>
        </p:nvSpPr>
        <p:spPr>
          <a:xfrm>
            <a:off x="1830960" y="3809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94160" y="487692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ustic/elastic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032080" y="38098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82680" y="5698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rms of transfer functions the ultrasonic system looks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432080" y="2550960"/>
            <a:ext cx="573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combine the sound generation and reception transfer functions with the voltage source of the pulser tin a single function called the system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7160" y="905040"/>
            <a:ext cx="67215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the UT system components th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09680" y="2209680"/>
            <a:ext cx="4581000" cy="3600360"/>
            <a:chOff x="2209680" y="2209680"/>
            <a:chExt cx="4581000" cy="3600360"/>
          </a:xfrm>
        </p:grpSpPr>
        <p:sp>
          <p:nvSpPr>
            <p:cNvPr id="45" name=""/>
            <p:cNvSpPr/>
            <p:nvPr/>
          </p:nvSpPr>
          <p:spPr>
            <a:xfrm>
              <a:off x="2469960" y="4190760"/>
              <a:ext cx="3724200" cy="161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4190760"/>
              <a:ext cx="3619440" cy="15717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09680" y="2590560"/>
              <a:ext cx="1325520" cy="8222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46040" y="2622240"/>
              <a:ext cx="1254240" cy="750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668840" y="3659040"/>
              <a:ext cx="174600" cy="159840"/>
              <a:chOff x="4668840" y="3659040"/>
              <a:chExt cx="174600" cy="159840"/>
            </a:xfrm>
          </p:grpSpPr>
          <p:sp>
            <p:nvSpPr>
              <p:cNvPr id="50" name=""/>
              <p:cNvSpPr/>
              <p:nvPr/>
            </p:nvSpPr>
            <p:spPr>
              <a:xfrm>
                <a:off x="4668840" y="3659040"/>
                <a:ext cx="174600" cy="399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90440" y="3699000"/>
                <a:ext cx="130680" cy="799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68840" y="3778920"/>
                <a:ext cx="174600" cy="399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62240" y="4875120"/>
              <a:ext cx="174240" cy="158760"/>
              <a:chOff x="3162240" y="4875120"/>
              <a:chExt cx="174240" cy="158760"/>
            </a:xfrm>
          </p:grpSpPr>
          <p:sp>
            <p:nvSpPr>
              <p:cNvPr id="54" name=""/>
              <p:cNvSpPr/>
              <p:nvPr/>
            </p:nvSpPr>
            <p:spPr>
              <a:xfrm rot="5400000">
                <a:off x="3235320" y="4932720"/>
                <a:ext cx="158760" cy="43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5400000">
                <a:off x="3189960" y="4910760"/>
                <a:ext cx="118800" cy="871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5400000">
                <a:off x="3104640" y="4932720"/>
                <a:ext cx="158760" cy="435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335040" y="4781160"/>
              <a:ext cx="565200" cy="3556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914560" y="3173040"/>
              <a:ext cx="79200" cy="77760"/>
              <a:chOff x="2914560" y="3173040"/>
              <a:chExt cx="79200" cy="77760"/>
            </a:xfrm>
          </p:grpSpPr>
          <p:sp>
            <p:nvSpPr>
              <p:cNvPr id="59" name=""/>
              <p:cNvSpPr/>
              <p:nvPr/>
            </p:nvSpPr>
            <p:spPr>
              <a:xfrm>
                <a:off x="2914560" y="3173040"/>
                <a:ext cx="79200" cy="77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926800" y="3185640"/>
                <a:ext cx="52920" cy="51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4105080" y="4530600"/>
              <a:ext cx="1476360" cy="122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05200" y="4932000"/>
              <a:ext cx="171360" cy="258840"/>
            </a:xfrm>
            <a:custGeom>
              <a:avLst/>
              <a:gdLst/>
              <a:ahLst/>
              <a:rect l="l" t="t" r="r" b="b"/>
              <a:pathLst>
                <a:path w="192" h="313">
                  <a:moveTo>
                    <a:pt x="192" y="0"/>
                  </a:moveTo>
                  <a:cubicBezTo>
                    <a:pt x="188" y="21"/>
                    <a:pt x="192" y="48"/>
                    <a:pt x="177" y="63"/>
                  </a:cubicBezTo>
                  <a:cubicBezTo>
                    <a:pt x="164" y="77"/>
                    <a:pt x="129" y="95"/>
                    <a:pt x="129" y="95"/>
                  </a:cubicBezTo>
                  <a:cubicBezTo>
                    <a:pt x="125" y="108"/>
                    <a:pt x="113" y="153"/>
                    <a:pt x="98" y="166"/>
                  </a:cubicBezTo>
                  <a:cubicBezTo>
                    <a:pt x="84" y="179"/>
                    <a:pt x="50" y="197"/>
                    <a:pt x="50" y="197"/>
                  </a:cubicBezTo>
                  <a:cubicBezTo>
                    <a:pt x="35" y="221"/>
                    <a:pt x="27" y="245"/>
                    <a:pt x="11" y="268"/>
                  </a:cubicBezTo>
                  <a:cubicBezTo>
                    <a:pt x="8" y="276"/>
                    <a:pt x="0" y="284"/>
                    <a:pt x="3" y="292"/>
                  </a:cubicBezTo>
                  <a:cubicBezTo>
                    <a:pt x="7" y="301"/>
                    <a:pt x="19" y="313"/>
                    <a:pt x="27" y="308"/>
                  </a:cubicBezTo>
                  <a:cubicBezTo>
                    <a:pt x="43" y="298"/>
                    <a:pt x="48" y="276"/>
                    <a:pt x="58" y="260"/>
                  </a:cubicBezTo>
                  <a:cubicBezTo>
                    <a:pt x="68" y="244"/>
                    <a:pt x="106" y="229"/>
                    <a:pt x="106" y="229"/>
                  </a:cubicBezTo>
                  <a:cubicBezTo>
                    <a:pt x="131" y="189"/>
                    <a:pt x="115" y="165"/>
                    <a:pt x="161" y="150"/>
                  </a:cubicBezTo>
                  <a:cubicBezTo>
                    <a:pt x="171" y="121"/>
                    <a:pt x="184" y="85"/>
                    <a:pt x="184" y="5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4496760" y="3882600"/>
              <a:ext cx="514080" cy="3906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209760" y="3146040"/>
              <a:ext cx="79560" cy="76320"/>
              <a:chOff x="3209760" y="3146040"/>
              <a:chExt cx="79560" cy="76320"/>
            </a:xfrm>
          </p:grpSpPr>
          <p:sp>
            <p:nvSpPr>
              <p:cNvPr id="65" name=""/>
              <p:cNvSpPr/>
              <p:nvPr/>
            </p:nvSpPr>
            <p:spPr>
              <a:xfrm>
                <a:off x="3209760" y="3146040"/>
                <a:ext cx="79560" cy="76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22000" y="3158640"/>
                <a:ext cx="53280" cy="50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4190760" y="4806720"/>
              <a:ext cx="0" cy="35568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9354200">
              <a:off x="4456080" y="4791960"/>
              <a:ext cx="69480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112720" y="2703240"/>
              <a:ext cx="1208160" cy="9032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5147640" y="2742840"/>
              <a:ext cx="1143000" cy="82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87760" y="2696760"/>
              <a:ext cx="650880" cy="47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5680" y="2947680"/>
              <a:ext cx="65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76760" y="2749320"/>
              <a:ext cx="246240" cy="31896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0" y="114"/>
                  </a:moveTo>
                  <a:cubicBezTo>
                    <a:pt x="16" y="64"/>
                    <a:pt x="9" y="57"/>
                    <a:pt x="21" y="92"/>
                  </a:cubicBezTo>
                  <a:cubicBezTo>
                    <a:pt x="23" y="111"/>
                    <a:pt x="25" y="130"/>
                    <a:pt x="28" y="149"/>
                  </a:cubicBezTo>
                  <a:cubicBezTo>
                    <a:pt x="30" y="159"/>
                    <a:pt x="25" y="178"/>
                    <a:pt x="35" y="178"/>
                  </a:cubicBezTo>
                  <a:cubicBezTo>
                    <a:pt x="45" y="178"/>
                    <a:pt x="40" y="159"/>
                    <a:pt x="42" y="149"/>
                  </a:cubicBezTo>
                  <a:cubicBezTo>
                    <a:pt x="45" y="130"/>
                    <a:pt x="47" y="111"/>
                    <a:pt x="50" y="92"/>
                  </a:cubicBezTo>
                  <a:cubicBezTo>
                    <a:pt x="76" y="102"/>
                    <a:pt x="86" y="109"/>
                    <a:pt x="114" y="100"/>
                  </a:cubicBezTo>
                  <a:cubicBezTo>
                    <a:pt x="122" y="65"/>
                    <a:pt x="130" y="36"/>
                    <a:pt x="135" y="0"/>
                  </a:cubicBezTo>
                  <a:cubicBezTo>
                    <a:pt x="151" y="154"/>
                    <a:pt x="143" y="90"/>
                    <a:pt x="156" y="192"/>
                  </a:cubicBezTo>
                  <a:cubicBezTo>
                    <a:pt x="163" y="147"/>
                    <a:pt x="168" y="102"/>
                    <a:pt x="178" y="57"/>
                  </a:cubicBezTo>
                  <a:cubicBezTo>
                    <a:pt x="183" y="71"/>
                    <a:pt x="187" y="86"/>
                    <a:pt x="192" y="100"/>
                  </a:cubicBezTo>
                  <a:cubicBezTo>
                    <a:pt x="198" y="118"/>
                    <a:pt x="258" y="114"/>
                    <a:pt x="27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395680" y="3501720"/>
              <a:ext cx="77760" cy="76320"/>
              <a:chOff x="5395680" y="3501720"/>
              <a:chExt cx="77760" cy="76320"/>
            </a:xfrm>
          </p:grpSpPr>
          <p:sp>
            <p:nvSpPr>
              <p:cNvPr id="75" name=""/>
              <p:cNvSpPr/>
              <p:nvPr/>
            </p:nvSpPr>
            <p:spPr>
              <a:xfrm>
                <a:off x="5395680" y="3501720"/>
                <a:ext cx="77760" cy="76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407560" y="3514320"/>
                <a:ext cx="51840" cy="50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4176720" y="5001840"/>
              <a:ext cx="2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840200" y="460152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6440" y="510372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950920" y="493992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55960" y="3207960"/>
              <a:ext cx="0" cy="17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3240" y="3160440"/>
              <a:ext cx="150336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4752720" y="3180960"/>
              <a:ext cx="648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7280" y="2850840"/>
              <a:ext cx="15750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02280" y="28764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95440" y="3536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1520" y="259056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r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34080" y="364320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b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9800" y="2209680"/>
              <a:ext cx="18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scilloscope displ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57920" y="3733560"/>
              <a:ext cx="183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eiving transdu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5240" y="510516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mit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du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73240" y="48574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7960" y="4311360"/>
              <a:ext cx="2286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95520" y="404964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65720" y="403848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654640" y="117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ltrasonic syste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124080" y="990720"/>
            <a:ext cx="3417120" cy="5682240"/>
            <a:chOff x="3124080" y="990720"/>
            <a:chExt cx="3417120" cy="5682240"/>
          </a:xfrm>
        </p:grpSpPr>
        <p:sp>
          <p:nvSpPr>
            <p:cNvPr id="98" name=""/>
            <p:cNvSpPr/>
            <p:nvPr/>
          </p:nvSpPr>
          <p:spPr>
            <a:xfrm>
              <a:off x="3700440" y="1036440"/>
              <a:ext cx="2722680" cy="20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00440" y="1036440"/>
              <a:ext cx="2722680" cy="20109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0440" y="1036440"/>
              <a:ext cx="2722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0440" y="1036440"/>
              <a:ext cx="2722680" cy="201096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00440" y="1036440"/>
              <a:ext cx="1440" cy="20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00440" y="3047760"/>
              <a:ext cx="272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700440" y="301716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00440" y="103644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19080" y="31096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970440" y="301716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70440" y="103644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27240" y="31096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240080" y="301716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40080" y="1036440"/>
              <a:ext cx="180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8720" y="31096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16560" y="301716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16560" y="103644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71560" y="31096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786200" y="301716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86200" y="1036440"/>
              <a:ext cx="180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03400" y="31096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062680" y="301716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2680" y="103644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3240" y="3109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330880" y="301716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0880" y="103644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4720" y="3109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600520" y="301716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0520" y="1036440"/>
              <a:ext cx="180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1440" y="3109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877000" y="301716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77000" y="103644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19040" y="3109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146640" y="301716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46640" y="1036440"/>
              <a:ext cx="180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27200" y="3109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423120" y="301716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23120" y="103644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65160" y="3109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00440" y="304776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390720" y="30477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04960" y="30002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0440" y="284148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390720" y="2841480"/>
              <a:ext cx="3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0440" y="26413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390720" y="264132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36560" y="25952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00440" y="244152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390720" y="2441520"/>
              <a:ext cx="3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00440" y="224136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390720" y="2241360"/>
              <a:ext cx="3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36560" y="21952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00440" y="204300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390720" y="2043000"/>
              <a:ext cx="3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00440" y="183672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390720" y="1836720"/>
              <a:ext cx="3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9960" y="1788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0440" y="163656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390720" y="1636560"/>
              <a:ext cx="3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0440" y="143640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390720" y="143640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59960" y="139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00440" y="123660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390720" y="1236600"/>
              <a:ext cx="3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0440" y="103644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390720" y="1036440"/>
              <a:ext cx="3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30160" y="99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00440" y="2036520"/>
              <a:ext cx="797040" cy="6120"/>
            </a:xfrm>
            <a:custGeom>
              <a:avLst/>
              <a:gdLst/>
              <a:ahLst/>
              <a:rect l="l" t="t" r="r" b="b"/>
              <a:pathLst>
                <a:path w="502" h="4">
                  <a:moveTo>
                    <a:pt x="0" y="4"/>
                  </a:moveTo>
                  <a:lnTo>
                    <a:pt x="4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9" y="4"/>
                  </a:lnTo>
                  <a:lnTo>
                    <a:pt x="123" y="4"/>
                  </a:lnTo>
                  <a:lnTo>
                    <a:pt x="127" y="4"/>
                  </a:lnTo>
                  <a:lnTo>
                    <a:pt x="131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43" y="4"/>
                  </a:lnTo>
                  <a:lnTo>
                    <a:pt x="147" y="4"/>
                  </a:lnTo>
                  <a:lnTo>
                    <a:pt x="150" y="4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8" y="4"/>
                  </a:lnTo>
                  <a:lnTo>
                    <a:pt x="202" y="4"/>
                  </a:lnTo>
                  <a:lnTo>
                    <a:pt x="206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8" y="4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3" y="0"/>
                  </a:lnTo>
                  <a:lnTo>
                    <a:pt x="257" y="4"/>
                  </a:lnTo>
                  <a:lnTo>
                    <a:pt x="261" y="4"/>
                  </a:lnTo>
                  <a:lnTo>
                    <a:pt x="265" y="4"/>
                  </a:lnTo>
                  <a:lnTo>
                    <a:pt x="269" y="4"/>
                  </a:lnTo>
                  <a:lnTo>
                    <a:pt x="273" y="4"/>
                  </a:lnTo>
                  <a:lnTo>
                    <a:pt x="277" y="4"/>
                  </a:lnTo>
                  <a:lnTo>
                    <a:pt x="281" y="4"/>
                  </a:lnTo>
                  <a:lnTo>
                    <a:pt x="285" y="4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7" y="0"/>
                  </a:lnTo>
                  <a:lnTo>
                    <a:pt x="301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0" y="0"/>
                  </a:lnTo>
                  <a:lnTo>
                    <a:pt x="324" y="0"/>
                  </a:lnTo>
                  <a:lnTo>
                    <a:pt x="328" y="4"/>
                  </a:lnTo>
                  <a:lnTo>
                    <a:pt x="332" y="4"/>
                  </a:lnTo>
                  <a:lnTo>
                    <a:pt x="336" y="4"/>
                  </a:lnTo>
                  <a:lnTo>
                    <a:pt x="340" y="4"/>
                  </a:lnTo>
                  <a:lnTo>
                    <a:pt x="344" y="4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56" y="4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80" y="0"/>
                  </a:lnTo>
                  <a:lnTo>
                    <a:pt x="384" y="0"/>
                  </a:lnTo>
                  <a:lnTo>
                    <a:pt x="387" y="0"/>
                  </a:lnTo>
                  <a:lnTo>
                    <a:pt x="391" y="0"/>
                  </a:lnTo>
                  <a:lnTo>
                    <a:pt x="395" y="4"/>
                  </a:lnTo>
                  <a:lnTo>
                    <a:pt x="399" y="4"/>
                  </a:lnTo>
                  <a:lnTo>
                    <a:pt x="403" y="4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5" y="4"/>
                  </a:lnTo>
                  <a:lnTo>
                    <a:pt x="419" y="4"/>
                  </a:lnTo>
                  <a:lnTo>
                    <a:pt x="423" y="4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35" y="0"/>
                  </a:lnTo>
                  <a:lnTo>
                    <a:pt x="439" y="0"/>
                  </a:lnTo>
                  <a:lnTo>
                    <a:pt x="443" y="0"/>
                  </a:lnTo>
                  <a:lnTo>
                    <a:pt x="447" y="0"/>
                  </a:lnTo>
                  <a:lnTo>
                    <a:pt x="451" y="0"/>
                  </a:lnTo>
                  <a:lnTo>
                    <a:pt x="455" y="0"/>
                  </a:lnTo>
                  <a:lnTo>
                    <a:pt x="459" y="0"/>
                  </a:lnTo>
                  <a:lnTo>
                    <a:pt x="463" y="4"/>
                  </a:lnTo>
                  <a:lnTo>
                    <a:pt x="466" y="4"/>
                  </a:lnTo>
                  <a:lnTo>
                    <a:pt x="470" y="4"/>
                  </a:lnTo>
                  <a:lnTo>
                    <a:pt x="474" y="4"/>
                  </a:lnTo>
                  <a:lnTo>
                    <a:pt x="478" y="4"/>
                  </a:lnTo>
                  <a:lnTo>
                    <a:pt x="482" y="4"/>
                  </a:lnTo>
                  <a:lnTo>
                    <a:pt x="486" y="4"/>
                  </a:lnTo>
                  <a:lnTo>
                    <a:pt x="490" y="4"/>
                  </a:lnTo>
                  <a:lnTo>
                    <a:pt x="494" y="4"/>
                  </a:lnTo>
                  <a:lnTo>
                    <a:pt x="498" y="0"/>
                  </a:lnTo>
                  <a:lnTo>
                    <a:pt x="50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480" y="1049040"/>
              <a:ext cx="701640" cy="1927080"/>
            </a:xfrm>
            <a:custGeom>
              <a:avLst/>
              <a:gdLst/>
              <a:ahLst/>
              <a:rect l="l" t="t" r="r" b="b"/>
              <a:pathLst>
                <a:path w="442" h="1214">
                  <a:moveTo>
                    <a:pt x="0" y="622"/>
                  </a:moveTo>
                  <a:lnTo>
                    <a:pt x="4" y="622"/>
                  </a:lnTo>
                  <a:lnTo>
                    <a:pt x="8" y="622"/>
                  </a:lnTo>
                  <a:lnTo>
                    <a:pt x="12" y="622"/>
                  </a:lnTo>
                  <a:lnTo>
                    <a:pt x="16" y="622"/>
                  </a:lnTo>
                  <a:lnTo>
                    <a:pt x="20" y="622"/>
                  </a:lnTo>
                  <a:lnTo>
                    <a:pt x="24" y="622"/>
                  </a:lnTo>
                  <a:lnTo>
                    <a:pt x="28" y="622"/>
                  </a:lnTo>
                  <a:lnTo>
                    <a:pt x="32" y="626"/>
                  </a:lnTo>
                  <a:lnTo>
                    <a:pt x="36" y="626"/>
                  </a:lnTo>
                  <a:lnTo>
                    <a:pt x="40" y="626"/>
                  </a:lnTo>
                  <a:lnTo>
                    <a:pt x="43" y="629"/>
                  </a:lnTo>
                  <a:lnTo>
                    <a:pt x="47" y="629"/>
                  </a:lnTo>
                  <a:lnTo>
                    <a:pt x="51" y="629"/>
                  </a:lnTo>
                  <a:lnTo>
                    <a:pt x="55" y="626"/>
                  </a:lnTo>
                  <a:lnTo>
                    <a:pt x="59" y="626"/>
                  </a:lnTo>
                  <a:lnTo>
                    <a:pt x="63" y="622"/>
                  </a:lnTo>
                  <a:lnTo>
                    <a:pt x="67" y="622"/>
                  </a:lnTo>
                  <a:lnTo>
                    <a:pt x="71" y="618"/>
                  </a:lnTo>
                  <a:lnTo>
                    <a:pt x="75" y="614"/>
                  </a:lnTo>
                  <a:lnTo>
                    <a:pt x="79" y="611"/>
                  </a:lnTo>
                  <a:lnTo>
                    <a:pt x="83" y="611"/>
                  </a:lnTo>
                  <a:lnTo>
                    <a:pt x="87" y="614"/>
                  </a:lnTo>
                  <a:lnTo>
                    <a:pt x="91" y="614"/>
                  </a:lnTo>
                  <a:lnTo>
                    <a:pt x="95" y="618"/>
                  </a:lnTo>
                  <a:lnTo>
                    <a:pt x="99" y="626"/>
                  </a:lnTo>
                  <a:lnTo>
                    <a:pt x="99" y="629"/>
                  </a:lnTo>
                  <a:lnTo>
                    <a:pt x="103" y="637"/>
                  </a:lnTo>
                  <a:lnTo>
                    <a:pt x="107" y="644"/>
                  </a:lnTo>
                  <a:lnTo>
                    <a:pt x="111" y="652"/>
                  </a:lnTo>
                  <a:lnTo>
                    <a:pt x="115" y="655"/>
                  </a:lnTo>
                  <a:lnTo>
                    <a:pt x="119" y="652"/>
                  </a:lnTo>
                  <a:lnTo>
                    <a:pt x="122" y="648"/>
                  </a:lnTo>
                  <a:lnTo>
                    <a:pt x="126" y="637"/>
                  </a:lnTo>
                  <a:lnTo>
                    <a:pt x="130" y="626"/>
                  </a:lnTo>
                  <a:lnTo>
                    <a:pt x="134" y="611"/>
                  </a:lnTo>
                  <a:lnTo>
                    <a:pt x="138" y="596"/>
                  </a:lnTo>
                  <a:lnTo>
                    <a:pt x="142" y="577"/>
                  </a:lnTo>
                  <a:lnTo>
                    <a:pt x="142" y="566"/>
                  </a:lnTo>
                  <a:lnTo>
                    <a:pt x="146" y="559"/>
                  </a:lnTo>
                  <a:lnTo>
                    <a:pt x="150" y="555"/>
                  </a:lnTo>
                  <a:lnTo>
                    <a:pt x="154" y="559"/>
                  </a:lnTo>
                  <a:lnTo>
                    <a:pt x="158" y="570"/>
                  </a:lnTo>
                  <a:lnTo>
                    <a:pt x="162" y="589"/>
                  </a:lnTo>
                  <a:lnTo>
                    <a:pt x="166" y="614"/>
                  </a:lnTo>
                  <a:lnTo>
                    <a:pt x="166" y="644"/>
                  </a:lnTo>
                  <a:lnTo>
                    <a:pt x="170" y="677"/>
                  </a:lnTo>
                  <a:lnTo>
                    <a:pt x="174" y="707"/>
                  </a:lnTo>
                  <a:lnTo>
                    <a:pt x="178" y="733"/>
                  </a:lnTo>
                  <a:lnTo>
                    <a:pt x="182" y="751"/>
                  </a:lnTo>
                  <a:lnTo>
                    <a:pt x="186" y="759"/>
                  </a:lnTo>
                  <a:lnTo>
                    <a:pt x="186" y="751"/>
                  </a:lnTo>
                  <a:lnTo>
                    <a:pt x="190" y="733"/>
                  </a:lnTo>
                  <a:lnTo>
                    <a:pt x="194" y="696"/>
                  </a:lnTo>
                  <a:lnTo>
                    <a:pt x="198" y="652"/>
                  </a:lnTo>
                  <a:lnTo>
                    <a:pt x="201" y="596"/>
                  </a:lnTo>
                  <a:lnTo>
                    <a:pt x="205" y="537"/>
                  </a:lnTo>
                  <a:lnTo>
                    <a:pt x="209" y="481"/>
                  </a:lnTo>
                  <a:lnTo>
                    <a:pt x="209" y="437"/>
                  </a:lnTo>
                  <a:lnTo>
                    <a:pt x="213" y="403"/>
                  </a:lnTo>
                  <a:lnTo>
                    <a:pt x="217" y="389"/>
                  </a:lnTo>
                  <a:lnTo>
                    <a:pt x="221" y="396"/>
                  </a:lnTo>
                  <a:lnTo>
                    <a:pt x="225" y="429"/>
                  </a:lnTo>
                  <a:lnTo>
                    <a:pt x="229" y="485"/>
                  </a:lnTo>
                  <a:lnTo>
                    <a:pt x="233" y="559"/>
                  </a:lnTo>
                  <a:lnTo>
                    <a:pt x="233" y="648"/>
                  </a:lnTo>
                  <a:lnTo>
                    <a:pt x="237" y="740"/>
                  </a:lnTo>
                  <a:lnTo>
                    <a:pt x="241" y="833"/>
                  </a:lnTo>
                  <a:lnTo>
                    <a:pt x="245" y="907"/>
                  </a:lnTo>
                  <a:lnTo>
                    <a:pt x="249" y="963"/>
                  </a:lnTo>
                  <a:lnTo>
                    <a:pt x="253" y="985"/>
                  </a:lnTo>
                  <a:lnTo>
                    <a:pt x="253" y="977"/>
                  </a:lnTo>
                  <a:lnTo>
                    <a:pt x="257" y="929"/>
                  </a:lnTo>
                  <a:lnTo>
                    <a:pt x="261" y="851"/>
                  </a:lnTo>
                  <a:lnTo>
                    <a:pt x="265" y="744"/>
                  </a:lnTo>
                  <a:lnTo>
                    <a:pt x="269" y="618"/>
                  </a:lnTo>
                  <a:lnTo>
                    <a:pt x="273" y="485"/>
                  </a:lnTo>
                  <a:lnTo>
                    <a:pt x="277" y="355"/>
                  </a:lnTo>
                  <a:lnTo>
                    <a:pt x="277" y="248"/>
                  </a:lnTo>
                  <a:lnTo>
                    <a:pt x="280" y="170"/>
                  </a:lnTo>
                  <a:lnTo>
                    <a:pt x="284" y="133"/>
                  </a:lnTo>
                  <a:lnTo>
                    <a:pt x="288" y="141"/>
                  </a:lnTo>
                  <a:lnTo>
                    <a:pt x="292" y="196"/>
                  </a:lnTo>
                  <a:lnTo>
                    <a:pt x="296" y="296"/>
                  </a:lnTo>
                  <a:lnTo>
                    <a:pt x="296" y="433"/>
                  </a:lnTo>
                  <a:lnTo>
                    <a:pt x="300" y="596"/>
                  </a:lnTo>
                  <a:lnTo>
                    <a:pt x="304" y="766"/>
                  </a:lnTo>
                  <a:lnTo>
                    <a:pt x="308" y="925"/>
                  </a:lnTo>
                  <a:lnTo>
                    <a:pt x="312" y="1066"/>
                  </a:lnTo>
                  <a:lnTo>
                    <a:pt x="316" y="1162"/>
                  </a:lnTo>
                  <a:lnTo>
                    <a:pt x="320" y="1214"/>
                  </a:lnTo>
                  <a:lnTo>
                    <a:pt x="320" y="1211"/>
                  </a:lnTo>
                  <a:lnTo>
                    <a:pt x="324" y="1148"/>
                  </a:lnTo>
                  <a:lnTo>
                    <a:pt x="328" y="1033"/>
                  </a:lnTo>
                  <a:lnTo>
                    <a:pt x="332" y="881"/>
                  </a:lnTo>
                  <a:lnTo>
                    <a:pt x="336" y="700"/>
                  </a:lnTo>
                  <a:lnTo>
                    <a:pt x="340" y="507"/>
                  </a:lnTo>
                  <a:lnTo>
                    <a:pt x="344" y="326"/>
                  </a:lnTo>
                  <a:lnTo>
                    <a:pt x="344" y="170"/>
                  </a:lnTo>
                  <a:lnTo>
                    <a:pt x="348" y="59"/>
                  </a:lnTo>
                  <a:lnTo>
                    <a:pt x="352" y="0"/>
                  </a:lnTo>
                  <a:lnTo>
                    <a:pt x="356" y="0"/>
                  </a:lnTo>
                  <a:lnTo>
                    <a:pt x="359" y="59"/>
                  </a:lnTo>
                  <a:lnTo>
                    <a:pt x="363" y="170"/>
                  </a:lnTo>
                  <a:lnTo>
                    <a:pt x="363" y="326"/>
                  </a:lnTo>
                  <a:lnTo>
                    <a:pt x="367" y="507"/>
                  </a:lnTo>
                  <a:lnTo>
                    <a:pt x="371" y="700"/>
                  </a:lnTo>
                  <a:lnTo>
                    <a:pt x="375" y="881"/>
                  </a:lnTo>
                  <a:lnTo>
                    <a:pt x="379" y="1033"/>
                  </a:lnTo>
                  <a:lnTo>
                    <a:pt x="383" y="1148"/>
                  </a:lnTo>
                  <a:lnTo>
                    <a:pt x="387" y="1211"/>
                  </a:lnTo>
                  <a:lnTo>
                    <a:pt x="387" y="1214"/>
                  </a:lnTo>
                  <a:lnTo>
                    <a:pt x="391" y="1162"/>
                  </a:lnTo>
                  <a:lnTo>
                    <a:pt x="395" y="1066"/>
                  </a:lnTo>
                  <a:lnTo>
                    <a:pt x="399" y="925"/>
                  </a:lnTo>
                  <a:lnTo>
                    <a:pt x="403" y="766"/>
                  </a:lnTo>
                  <a:lnTo>
                    <a:pt x="407" y="596"/>
                  </a:lnTo>
                  <a:lnTo>
                    <a:pt x="411" y="433"/>
                  </a:lnTo>
                  <a:lnTo>
                    <a:pt x="411" y="296"/>
                  </a:lnTo>
                  <a:lnTo>
                    <a:pt x="415" y="196"/>
                  </a:lnTo>
                  <a:lnTo>
                    <a:pt x="419" y="141"/>
                  </a:lnTo>
                  <a:lnTo>
                    <a:pt x="423" y="133"/>
                  </a:lnTo>
                  <a:lnTo>
                    <a:pt x="427" y="170"/>
                  </a:lnTo>
                  <a:lnTo>
                    <a:pt x="431" y="248"/>
                  </a:lnTo>
                  <a:lnTo>
                    <a:pt x="431" y="355"/>
                  </a:lnTo>
                  <a:lnTo>
                    <a:pt x="435" y="485"/>
                  </a:lnTo>
                  <a:lnTo>
                    <a:pt x="438" y="618"/>
                  </a:lnTo>
                  <a:lnTo>
                    <a:pt x="442" y="74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99120" y="1666800"/>
              <a:ext cx="745920" cy="945720"/>
            </a:xfrm>
            <a:custGeom>
              <a:avLst/>
              <a:gdLst/>
              <a:ahLst/>
              <a:rect l="l" t="t" r="r" b="b"/>
              <a:pathLst>
                <a:path w="470" h="596">
                  <a:moveTo>
                    <a:pt x="0" y="355"/>
                  </a:moveTo>
                  <a:lnTo>
                    <a:pt x="4" y="462"/>
                  </a:lnTo>
                  <a:lnTo>
                    <a:pt x="8" y="540"/>
                  </a:lnTo>
                  <a:lnTo>
                    <a:pt x="12" y="588"/>
                  </a:lnTo>
                  <a:lnTo>
                    <a:pt x="12" y="596"/>
                  </a:lnTo>
                  <a:lnTo>
                    <a:pt x="16" y="574"/>
                  </a:lnTo>
                  <a:lnTo>
                    <a:pt x="20" y="518"/>
                  </a:lnTo>
                  <a:lnTo>
                    <a:pt x="24" y="444"/>
                  </a:lnTo>
                  <a:lnTo>
                    <a:pt x="28" y="351"/>
                  </a:lnTo>
                  <a:lnTo>
                    <a:pt x="32" y="259"/>
                  </a:lnTo>
                  <a:lnTo>
                    <a:pt x="36" y="170"/>
                  </a:lnTo>
                  <a:lnTo>
                    <a:pt x="36" y="96"/>
                  </a:lnTo>
                  <a:lnTo>
                    <a:pt x="40" y="40"/>
                  </a:lnTo>
                  <a:lnTo>
                    <a:pt x="44" y="7"/>
                  </a:lnTo>
                  <a:lnTo>
                    <a:pt x="48" y="0"/>
                  </a:lnTo>
                  <a:lnTo>
                    <a:pt x="52" y="14"/>
                  </a:lnTo>
                  <a:lnTo>
                    <a:pt x="56" y="48"/>
                  </a:lnTo>
                  <a:lnTo>
                    <a:pt x="56" y="92"/>
                  </a:lnTo>
                  <a:lnTo>
                    <a:pt x="60" y="148"/>
                  </a:lnTo>
                  <a:lnTo>
                    <a:pt x="64" y="207"/>
                  </a:lnTo>
                  <a:lnTo>
                    <a:pt x="68" y="263"/>
                  </a:lnTo>
                  <a:lnTo>
                    <a:pt x="72" y="307"/>
                  </a:lnTo>
                  <a:lnTo>
                    <a:pt x="75" y="344"/>
                  </a:lnTo>
                  <a:lnTo>
                    <a:pt x="79" y="362"/>
                  </a:lnTo>
                  <a:lnTo>
                    <a:pt x="79" y="370"/>
                  </a:lnTo>
                  <a:lnTo>
                    <a:pt x="83" y="362"/>
                  </a:lnTo>
                  <a:lnTo>
                    <a:pt x="87" y="344"/>
                  </a:lnTo>
                  <a:lnTo>
                    <a:pt x="91" y="318"/>
                  </a:lnTo>
                  <a:lnTo>
                    <a:pt x="95" y="288"/>
                  </a:lnTo>
                  <a:lnTo>
                    <a:pt x="99" y="255"/>
                  </a:lnTo>
                  <a:lnTo>
                    <a:pt x="99" y="225"/>
                  </a:lnTo>
                  <a:lnTo>
                    <a:pt x="103" y="200"/>
                  </a:lnTo>
                  <a:lnTo>
                    <a:pt x="107" y="181"/>
                  </a:lnTo>
                  <a:lnTo>
                    <a:pt x="111" y="170"/>
                  </a:lnTo>
                  <a:lnTo>
                    <a:pt x="115" y="166"/>
                  </a:lnTo>
                  <a:lnTo>
                    <a:pt x="119" y="170"/>
                  </a:lnTo>
                  <a:lnTo>
                    <a:pt x="123" y="177"/>
                  </a:lnTo>
                  <a:lnTo>
                    <a:pt x="123" y="188"/>
                  </a:lnTo>
                  <a:lnTo>
                    <a:pt x="127" y="207"/>
                  </a:lnTo>
                  <a:lnTo>
                    <a:pt x="131" y="222"/>
                  </a:lnTo>
                  <a:lnTo>
                    <a:pt x="135" y="237"/>
                  </a:lnTo>
                  <a:lnTo>
                    <a:pt x="139" y="248"/>
                  </a:lnTo>
                  <a:lnTo>
                    <a:pt x="143" y="259"/>
                  </a:lnTo>
                  <a:lnTo>
                    <a:pt x="151" y="266"/>
                  </a:lnTo>
                  <a:lnTo>
                    <a:pt x="147" y="266"/>
                  </a:lnTo>
                  <a:lnTo>
                    <a:pt x="151" y="266"/>
                  </a:lnTo>
                  <a:lnTo>
                    <a:pt x="154" y="263"/>
                  </a:lnTo>
                  <a:lnTo>
                    <a:pt x="158" y="255"/>
                  </a:lnTo>
                  <a:lnTo>
                    <a:pt x="162" y="248"/>
                  </a:lnTo>
                  <a:lnTo>
                    <a:pt x="166" y="240"/>
                  </a:lnTo>
                  <a:lnTo>
                    <a:pt x="166" y="237"/>
                  </a:lnTo>
                  <a:lnTo>
                    <a:pt x="170" y="229"/>
                  </a:lnTo>
                  <a:lnTo>
                    <a:pt x="174" y="225"/>
                  </a:lnTo>
                  <a:lnTo>
                    <a:pt x="178" y="225"/>
                  </a:lnTo>
                  <a:lnTo>
                    <a:pt x="182" y="222"/>
                  </a:lnTo>
                  <a:lnTo>
                    <a:pt x="186" y="222"/>
                  </a:lnTo>
                  <a:lnTo>
                    <a:pt x="190" y="225"/>
                  </a:lnTo>
                  <a:lnTo>
                    <a:pt x="194" y="229"/>
                  </a:lnTo>
                  <a:lnTo>
                    <a:pt x="198" y="233"/>
                  </a:lnTo>
                  <a:lnTo>
                    <a:pt x="202" y="233"/>
                  </a:lnTo>
                  <a:lnTo>
                    <a:pt x="206" y="237"/>
                  </a:lnTo>
                  <a:lnTo>
                    <a:pt x="210" y="237"/>
                  </a:lnTo>
                  <a:lnTo>
                    <a:pt x="214" y="240"/>
                  </a:lnTo>
                  <a:lnTo>
                    <a:pt x="218" y="240"/>
                  </a:lnTo>
                  <a:lnTo>
                    <a:pt x="222" y="240"/>
                  </a:lnTo>
                  <a:lnTo>
                    <a:pt x="226" y="237"/>
                  </a:lnTo>
                  <a:lnTo>
                    <a:pt x="230" y="237"/>
                  </a:lnTo>
                  <a:lnTo>
                    <a:pt x="233" y="237"/>
                  </a:lnTo>
                  <a:lnTo>
                    <a:pt x="237" y="233"/>
                  </a:lnTo>
                  <a:lnTo>
                    <a:pt x="241" y="233"/>
                  </a:lnTo>
                  <a:lnTo>
                    <a:pt x="245" y="233"/>
                  </a:lnTo>
                  <a:lnTo>
                    <a:pt x="249" y="233"/>
                  </a:lnTo>
                  <a:lnTo>
                    <a:pt x="253" y="233"/>
                  </a:lnTo>
                  <a:lnTo>
                    <a:pt x="257" y="233"/>
                  </a:lnTo>
                  <a:lnTo>
                    <a:pt x="261" y="233"/>
                  </a:lnTo>
                  <a:lnTo>
                    <a:pt x="265" y="233"/>
                  </a:lnTo>
                  <a:lnTo>
                    <a:pt x="269" y="233"/>
                  </a:lnTo>
                  <a:lnTo>
                    <a:pt x="273" y="237"/>
                  </a:lnTo>
                  <a:lnTo>
                    <a:pt x="277" y="237"/>
                  </a:lnTo>
                  <a:lnTo>
                    <a:pt x="281" y="237"/>
                  </a:lnTo>
                  <a:lnTo>
                    <a:pt x="285" y="237"/>
                  </a:lnTo>
                  <a:lnTo>
                    <a:pt x="289" y="237"/>
                  </a:lnTo>
                  <a:lnTo>
                    <a:pt x="293" y="237"/>
                  </a:lnTo>
                  <a:lnTo>
                    <a:pt x="297" y="237"/>
                  </a:lnTo>
                  <a:lnTo>
                    <a:pt x="301" y="237"/>
                  </a:lnTo>
                  <a:lnTo>
                    <a:pt x="305" y="237"/>
                  </a:lnTo>
                  <a:lnTo>
                    <a:pt x="309" y="233"/>
                  </a:lnTo>
                  <a:lnTo>
                    <a:pt x="312" y="233"/>
                  </a:lnTo>
                  <a:lnTo>
                    <a:pt x="316" y="233"/>
                  </a:lnTo>
                  <a:lnTo>
                    <a:pt x="320" y="233"/>
                  </a:lnTo>
                  <a:lnTo>
                    <a:pt x="324" y="233"/>
                  </a:lnTo>
                  <a:lnTo>
                    <a:pt x="328" y="233"/>
                  </a:lnTo>
                  <a:lnTo>
                    <a:pt x="332" y="233"/>
                  </a:lnTo>
                  <a:lnTo>
                    <a:pt x="336" y="233"/>
                  </a:lnTo>
                  <a:lnTo>
                    <a:pt x="340" y="233"/>
                  </a:lnTo>
                  <a:lnTo>
                    <a:pt x="344" y="237"/>
                  </a:lnTo>
                  <a:lnTo>
                    <a:pt x="348" y="237"/>
                  </a:lnTo>
                  <a:lnTo>
                    <a:pt x="352" y="237"/>
                  </a:lnTo>
                  <a:lnTo>
                    <a:pt x="356" y="237"/>
                  </a:lnTo>
                  <a:lnTo>
                    <a:pt x="360" y="237"/>
                  </a:lnTo>
                  <a:lnTo>
                    <a:pt x="364" y="237"/>
                  </a:lnTo>
                  <a:lnTo>
                    <a:pt x="368" y="237"/>
                  </a:lnTo>
                  <a:lnTo>
                    <a:pt x="372" y="237"/>
                  </a:lnTo>
                  <a:lnTo>
                    <a:pt x="376" y="233"/>
                  </a:lnTo>
                  <a:lnTo>
                    <a:pt x="380" y="233"/>
                  </a:lnTo>
                  <a:lnTo>
                    <a:pt x="384" y="233"/>
                  </a:lnTo>
                  <a:lnTo>
                    <a:pt x="388" y="233"/>
                  </a:lnTo>
                  <a:lnTo>
                    <a:pt x="391" y="233"/>
                  </a:lnTo>
                  <a:lnTo>
                    <a:pt x="395" y="233"/>
                  </a:lnTo>
                  <a:lnTo>
                    <a:pt x="399" y="233"/>
                  </a:lnTo>
                  <a:lnTo>
                    <a:pt x="403" y="233"/>
                  </a:lnTo>
                  <a:lnTo>
                    <a:pt x="407" y="233"/>
                  </a:lnTo>
                  <a:lnTo>
                    <a:pt x="411" y="237"/>
                  </a:lnTo>
                  <a:lnTo>
                    <a:pt x="415" y="237"/>
                  </a:lnTo>
                  <a:lnTo>
                    <a:pt x="419" y="237"/>
                  </a:lnTo>
                  <a:lnTo>
                    <a:pt x="423" y="237"/>
                  </a:lnTo>
                  <a:lnTo>
                    <a:pt x="427" y="237"/>
                  </a:lnTo>
                  <a:lnTo>
                    <a:pt x="431" y="237"/>
                  </a:lnTo>
                  <a:lnTo>
                    <a:pt x="435" y="237"/>
                  </a:lnTo>
                  <a:lnTo>
                    <a:pt x="439" y="237"/>
                  </a:lnTo>
                  <a:lnTo>
                    <a:pt x="443" y="233"/>
                  </a:lnTo>
                  <a:lnTo>
                    <a:pt x="447" y="233"/>
                  </a:lnTo>
                  <a:lnTo>
                    <a:pt x="451" y="233"/>
                  </a:lnTo>
                  <a:lnTo>
                    <a:pt x="455" y="233"/>
                  </a:lnTo>
                  <a:lnTo>
                    <a:pt x="459" y="233"/>
                  </a:lnTo>
                  <a:lnTo>
                    <a:pt x="463" y="233"/>
                  </a:lnTo>
                  <a:lnTo>
                    <a:pt x="467" y="233"/>
                  </a:lnTo>
                  <a:lnTo>
                    <a:pt x="470" y="23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45040" y="2036520"/>
              <a:ext cx="478080" cy="6120"/>
            </a:xfrm>
            <a:custGeom>
              <a:avLst/>
              <a:gdLst/>
              <a:ahLst/>
              <a:rect l="l" t="t" r="r" b="b"/>
              <a:pathLst>
                <a:path w="301" h="4">
                  <a:moveTo>
                    <a:pt x="0" y="0"/>
                  </a:moveTo>
                  <a:lnTo>
                    <a:pt x="4" y="0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4"/>
                  </a:lnTo>
                  <a:lnTo>
                    <a:pt x="95" y="4"/>
                  </a:lnTo>
                  <a:lnTo>
                    <a:pt x="99" y="4"/>
                  </a:lnTo>
                  <a:lnTo>
                    <a:pt x="103" y="4"/>
                  </a:lnTo>
                  <a:lnTo>
                    <a:pt x="107" y="4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51" y="4"/>
                  </a:lnTo>
                  <a:lnTo>
                    <a:pt x="155" y="4"/>
                  </a:lnTo>
                  <a:lnTo>
                    <a:pt x="158" y="4"/>
                  </a:lnTo>
                  <a:lnTo>
                    <a:pt x="162" y="4"/>
                  </a:lnTo>
                  <a:lnTo>
                    <a:pt x="166" y="4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8" y="4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0"/>
                  </a:lnTo>
                  <a:lnTo>
                    <a:pt x="214" y="4"/>
                  </a:lnTo>
                  <a:lnTo>
                    <a:pt x="218" y="4"/>
                  </a:lnTo>
                  <a:lnTo>
                    <a:pt x="222" y="4"/>
                  </a:lnTo>
                  <a:lnTo>
                    <a:pt x="226" y="4"/>
                  </a:lnTo>
                  <a:lnTo>
                    <a:pt x="230" y="4"/>
                  </a:lnTo>
                  <a:lnTo>
                    <a:pt x="234" y="4"/>
                  </a:lnTo>
                  <a:lnTo>
                    <a:pt x="237" y="4"/>
                  </a:lnTo>
                  <a:lnTo>
                    <a:pt x="241" y="4"/>
                  </a:lnTo>
                  <a:lnTo>
                    <a:pt x="245" y="4"/>
                  </a:lnTo>
                  <a:lnTo>
                    <a:pt x="249" y="4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1" y="0"/>
                  </a:lnTo>
                  <a:lnTo>
                    <a:pt x="265" y="0"/>
                  </a:lnTo>
                  <a:lnTo>
                    <a:pt x="269" y="0"/>
                  </a:lnTo>
                  <a:lnTo>
                    <a:pt x="273" y="4"/>
                  </a:lnTo>
                  <a:lnTo>
                    <a:pt x="277" y="4"/>
                  </a:lnTo>
                  <a:lnTo>
                    <a:pt x="281" y="4"/>
                  </a:lnTo>
                  <a:lnTo>
                    <a:pt x="285" y="4"/>
                  </a:lnTo>
                  <a:lnTo>
                    <a:pt x="289" y="4"/>
                  </a:lnTo>
                  <a:lnTo>
                    <a:pt x="293" y="4"/>
                  </a:lnTo>
                  <a:lnTo>
                    <a:pt x="297" y="4"/>
                  </a:lnTo>
                  <a:lnTo>
                    <a:pt x="301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15200" y="336384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44600" y="3358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94280" y="3363840"/>
              <a:ext cx="50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6960" y="3936960"/>
              <a:ext cx="2713320" cy="20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66960" y="3936960"/>
              <a:ext cx="2713320" cy="2003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6960" y="3936960"/>
              <a:ext cx="2713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6960" y="3936960"/>
              <a:ext cx="2713320" cy="200304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666960" y="3936960"/>
              <a:ext cx="1800" cy="200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666960" y="59112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66960" y="3936960"/>
              <a:ext cx="180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4932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936960" y="591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36960" y="393696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1752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205160" y="59112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5160" y="3936960"/>
              <a:ext cx="180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8572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479840" y="59112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9840" y="3936960"/>
              <a:ext cx="180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6220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749840" y="591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49840" y="393696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3040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024520" y="591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4520" y="393696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508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92720" y="591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92720" y="393696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328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562720" y="591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393696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4328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837040" y="59112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37040" y="3936960"/>
              <a:ext cx="180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1796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105600" y="591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5600" y="393696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6160" y="5983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380280" y="591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80280" y="393696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37080" y="5983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66960" y="594036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350040" y="5940360"/>
              <a:ext cx="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34840" y="58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66960" y="568944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50040" y="5689440"/>
              <a:ext cx="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6960" y="543708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350040" y="5437080"/>
              <a:ext cx="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66440" y="5383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66960" y="518472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350040" y="5184720"/>
              <a:ext cx="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66960" y="49384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350040" y="49384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66440" y="4886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66960" y="468612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350040" y="4686120"/>
              <a:ext cx="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6960" y="443520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350040" y="4435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66440" y="4381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66960" y="418284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350040" y="4182840"/>
              <a:ext cx="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66960" y="3936960"/>
              <a:ext cx="25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350040" y="3936960"/>
              <a:ext cx="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66440" y="3884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6960" y="5935320"/>
              <a:ext cx="795600" cy="4680"/>
            </a:xfrm>
            <a:custGeom>
              <a:avLst/>
              <a:gdLst/>
              <a:ahLst/>
              <a:rect l="l" t="t" r="r" b="b"/>
              <a:pathLst>
                <a:path w="501" h="3">
                  <a:moveTo>
                    <a:pt x="0" y="3"/>
                  </a:moveTo>
                  <a:lnTo>
                    <a:pt x="4" y="3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4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60" y="0"/>
                  </a:lnTo>
                  <a:lnTo>
                    <a:pt x="264" y="0"/>
                  </a:lnTo>
                  <a:lnTo>
                    <a:pt x="268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7" y="0"/>
                  </a:lnTo>
                  <a:lnTo>
                    <a:pt x="331" y="0"/>
                  </a:lnTo>
                  <a:lnTo>
                    <a:pt x="335" y="0"/>
                  </a:lnTo>
                  <a:lnTo>
                    <a:pt x="339" y="0"/>
                  </a:lnTo>
                  <a:lnTo>
                    <a:pt x="343" y="0"/>
                  </a:lnTo>
                  <a:lnTo>
                    <a:pt x="347" y="0"/>
                  </a:lnTo>
                  <a:lnTo>
                    <a:pt x="351" y="0"/>
                  </a:lnTo>
                  <a:lnTo>
                    <a:pt x="355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7" y="0"/>
                  </a:lnTo>
                  <a:lnTo>
                    <a:pt x="371" y="0"/>
                  </a:lnTo>
                  <a:lnTo>
                    <a:pt x="375" y="0"/>
                  </a:lnTo>
                  <a:lnTo>
                    <a:pt x="378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4" y="0"/>
                  </a:lnTo>
                  <a:lnTo>
                    <a:pt x="398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0" y="0"/>
                  </a:lnTo>
                  <a:lnTo>
                    <a:pt x="414" y="0"/>
                  </a:lnTo>
                  <a:lnTo>
                    <a:pt x="418" y="0"/>
                  </a:lnTo>
                  <a:lnTo>
                    <a:pt x="422" y="0"/>
                  </a:lnTo>
                  <a:lnTo>
                    <a:pt x="426" y="0"/>
                  </a:lnTo>
                  <a:lnTo>
                    <a:pt x="430" y="0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9" y="0"/>
                  </a:lnTo>
                  <a:lnTo>
                    <a:pt x="453" y="0"/>
                  </a:lnTo>
                  <a:lnTo>
                    <a:pt x="457" y="0"/>
                  </a:lnTo>
                  <a:lnTo>
                    <a:pt x="461" y="0"/>
                  </a:lnTo>
                  <a:lnTo>
                    <a:pt x="465" y="0"/>
                  </a:lnTo>
                  <a:lnTo>
                    <a:pt x="469" y="0"/>
                  </a:lnTo>
                  <a:lnTo>
                    <a:pt x="473" y="0"/>
                  </a:lnTo>
                  <a:lnTo>
                    <a:pt x="477" y="0"/>
                  </a:lnTo>
                  <a:lnTo>
                    <a:pt x="481" y="0"/>
                  </a:lnTo>
                  <a:lnTo>
                    <a:pt x="485" y="0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7" y="0"/>
                  </a:lnTo>
                  <a:lnTo>
                    <a:pt x="50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62560" y="4159080"/>
              <a:ext cx="699840" cy="1775880"/>
            </a:xfrm>
            <a:custGeom>
              <a:avLst/>
              <a:gdLst/>
              <a:ahLst/>
              <a:rect l="l" t="t" r="r" b="b"/>
              <a:pathLst>
                <a:path w="441" h="1119">
                  <a:moveTo>
                    <a:pt x="0" y="1119"/>
                  </a:moveTo>
                  <a:lnTo>
                    <a:pt x="3" y="1119"/>
                  </a:lnTo>
                  <a:lnTo>
                    <a:pt x="7" y="1119"/>
                  </a:lnTo>
                  <a:lnTo>
                    <a:pt x="11" y="1119"/>
                  </a:lnTo>
                  <a:lnTo>
                    <a:pt x="15" y="1119"/>
                  </a:lnTo>
                  <a:lnTo>
                    <a:pt x="19" y="1119"/>
                  </a:lnTo>
                  <a:lnTo>
                    <a:pt x="23" y="1119"/>
                  </a:lnTo>
                  <a:lnTo>
                    <a:pt x="27" y="1119"/>
                  </a:lnTo>
                  <a:lnTo>
                    <a:pt x="31" y="1115"/>
                  </a:lnTo>
                  <a:lnTo>
                    <a:pt x="35" y="1115"/>
                  </a:lnTo>
                  <a:lnTo>
                    <a:pt x="39" y="1115"/>
                  </a:lnTo>
                  <a:lnTo>
                    <a:pt x="43" y="1115"/>
                  </a:lnTo>
                  <a:lnTo>
                    <a:pt x="47" y="1115"/>
                  </a:lnTo>
                  <a:lnTo>
                    <a:pt x="51" y="1111"/>
                  </a:lnTo>
                  <a:lnTo>
                    <a:pt x="55" y="1111"/>
                  </a:lnTo>
                  <a:lnTo>
                    <a:pt x="59" y="1111"/>
                  </a:lnTo>
                  <a:lnTo>
                    <a:pt x="63" y="1107"/>
                  </a:lnTo>
                  <a:lnTo>
                    <a:pt x="66" y="1107"/>
                  </a:lnTo>
                  <a:lnTo>
                    <a:pt x="70" y="1104"/>
                  </a:lnTo>
                  <a:lnTo>
                    <a:pt x="74" y="1104"/>
                  </a:lnTo>
                  <a:lnTo>
                    <a:pt x="78" y="1100"/>
                  </a:lnTo>
                  <a:lnTo>
                    <a:pt x="82" y="1096"/>
                  </a:lnTo>
                  <a:lnTo>
                    <a:pt x="86" y="1096"/>
                  </a:lnTo>
                  <a:lnTo>
                    <a:pt x="90" y="1093"/>
                  </a:lnTo>
                  <a:lnTo>
                    <a:pt x="94" y="1089"/>
                  </a:lnTo>
                  <a:lnTo>
                    <a:pt x="98" y="1085"/>
                  </a:lnTo>
                  <a:lnTo>
                    <a:pt x="102" y="1082"/>
                  </a:lnTo>
                  <a:lnTo>
                    <a:pt x="106" y="1078"/>
                  </a:lnTo>
                  <a:lnTo>
                    <a:pt x="110" y="1074"/>
                  </a:lnTo>
                  <a:lnTo>
                    <a:pt x="114" y="1071"/>
                  </a:lnTo>
                  <a:lnTo>
                    <a:pt x="118" y="1063"/>
                  </a:lnTo>
                  <a:lnTo>
                    <a:pt x="118" y="1060"/>
                  </a:lnTo>
                  <a:lnTo>
                    <a:pt x="122" y="1056"/>
                  </a:lnTo>
                  <a:lnTo>
                    <a:pt x="126" y="1048"/>
                  </a:lnTo>
                  <a:lnTo>
                    <a:pt x="129" y="1045"/>
                  </a:lnTo>
                  <a:lnTo>
                    <a:pt x="133" y="1037"/>
                  </a:lnTo>
                  <a:lnTo>
                    <a:pt x="137" y="1030"/>
                  </a:lnTo>
                  <a:lnTo>
                    <a:pt x="141" y="1023"/>
                  </a:lnTo>
                  <a:lnTo>
                    <a:pt x="141" y="1015"/>
                  </a:lnTo>
                  <a:lnTo>
                    <a:pt x="145" y="1008"/>
                  </a:lnTo>
                  <a:lnTo>
                    <a:pt x="149" y="997"/>
                  </a:lnTo>
                  <a:lnTo>
                    <a:pt x="153" y="989"/>
                  </a:lnTo>
                  <a:lnTo>
                    <a:pt x="157" y="978"/>
                  </a:lnTo>
                  <a:lnTo>
                    <a:pt x="161" y="967"/>
                  </a:lnTo>
                  <a:lnTo>
                    <a:pt x="165" y="960"/>
                  </a:lnTo>
                  <a:lnTo>
                    <a:pt x="165" y="945"/>
                  </a:lnTo>
                  <a:lnTo>
                    <a:pt x="169" y="934"/>
                  </a:lnTo>
                  <a:lnTo>
                    <a:pt x="173" y="923"/>
                  </a:lnTo>
                  <a:lnTo>
                    <a:pt x="177" y="908"/>
                  </a:lnTo>
                  <a:lnTo>
                    <a:pt x="181" y="897"/>
                  </a:lnTo>
                  <a:lnTo>
                    <a:pt x="185" y="882"/>
                  </a:lnTo>
                  <a:lnTo>
                    <a:pt x="185" y="868"/>
                  </a:lnTo>
                  <a:lnTo>
                    <a:pt x="189" y="849"/>
                  </a:lnTo>
                  <a:lnTo>
                    <a:pt x="192" y="834"/>
                  </a:lnTo>
                  <a:lnTo>
                    <a:pt x="196" y="820"/>
                  </a:lnTo>
                  <a:lnTo>
                    <a:pt x="200" y="801"/>
                  </a:lnTo>
                  <a:lnTo>
                    <a:pt x="204" y="783"/>
                  </a:lnTo>
                  <a:lnTo>
                    <a:pt x="208" y="764"/>
                  </a:lnTo>
                  <a:lnTo>
                    <a:pt x="208" y="746"/>
                  </a:lnTo>
                  <a:lnTo>
                    <a:pt x="212" y="727"/>
                  </a:lnTo>
                  <a:lnTo>
                    <a:pt x="216" y="705"/>
                  </a:lnTo>
                  <a:lnTo>
                    <a:pt x="220" y="687"/>
                  </a:lnTo>
                  <a:lnTo>
                    <a:pt x="224" y="665"/>
                  </a:lnTo>
                  <a:lnTo>
                    <a:pt x="228" y="642"/>
                  </a:lnTo>
                  <a:lnTo>
                    <a:pt x="232" y="620"/>
                  </a:lnTo>
                  <a:lnTo>
                    <a:pt x="232" y="598"/>
                  </a:lnTo>
                  <a:lnTo>
                    <a:pt x="236" y="576"/>
                  </a:lnTo>
                  <a:lnTo>
                    <a:pt x="240" y="554"/>
                  </a:lnTo>
                  <a:lnTo>
                    <a:pt x="244" y="528"/>
                  </a:lnTo>
                  <a:lnTo>
                    <a:pt x="248" y="506"/>
                  </a:lnTo>
                  <a:lnTo>
                    <a:pt x="252" y="484"/>
                  </a:lnTo>
                  <a:lnTo>
                    <a:pt x="252" y="458"/>
                  </a:lnTo>
                  <a:lnTo>
                    <a:pt x="255" y="436"/>
                  </a:lnTo>
                  <a:lnTo>
                    <a:pt x="259" y="414"/>
                  </a:lnTo>
                  <a:lnTo>
                    <a:pt x="263" y="388"/>
                  </a:lnTo>
                  <a:lnTo>
                    <a:pt x="267" y="366"/>
                  </a:lnTo>
                  <a:lnTo>
                    <a:pt x="271" y="344"/>
                  </a:lnTo>
                  <a:lnTo>
                    <a:pt x="275" y="318"/>
                  </a:lnTo>
                  <a:lnTo>
                    <a:pt x="275" y="296"/>
                  </a:lnTo>
                  <a:lnTo>
                    <a:pt x="279" y="273"/>
                  </a:lnTo>
                  <a:lnTo>
                    <a:pt x="283" y="251"/>
                  </a:lnTo>
                  <a:lnTo>
                    <a:pt x="287" y="233"/>
                  </a:lnTo>
                  <a:lnTo>
                    <a:pt x="291" y="211"/>
                  </a:lnTo>
                  <a:lnTo>
                    <a:pt x="295" y="192"/>
                  </a:lnTo>
                  <a:lnTo>
                    <a:pt x="295" y="170"/>
                  </a:lnTo>
                  <a:lnTo>
                    <a:pt x="299" y="152"/>
                  </a:lnTo>
                  <a:lnTo>
                    <a:pt x="303" y="137"/>
                  </a:lnTo>
                  <a:lnTo>
                    <a:pt x="307" y="118"/>
                  </a:lnTo>
                  <a:lnTo>
                    <a:pt x="311" y="104"/>
                  </a:lnTo>
                  <a:lnTo>
                    <a:pt x="315" y="89"/>
                  </a:lnTo>
                  <a:lnTo>
                    <a:pt x="318" y="74"/>
                  </a:lnTo>
                  <a:lnTo>
                    <a:pt x="318" y="63"/>
                  </a:lnTo>
                  <a:lnTo>
                    <a:pt x="322" y="48"/>
                  </a:lnTo>
                  <a:lnTo>
                    <a:pt x="326" y="41"/>
                  </a:lnTo>
                  <a:lnTo>
                    <a:pt x="330" y="30"/>
                  </a:lnTo>
                  <a:lnTo>
                    <a:pt x="334" y="22"/>
                  </a:lnTo>
                  <a:lnTo>
                    <a:pt x="338" y="15"/>
                  </a:lnTo>
                  <a:lnTo>
                    <a:pt x="342" y="11"/>
                  </a:lnTo>
                  <a:lnTo>
                    <a:pt x="342" y="8"/>
                  </a:lnTo>
                  <a:lnTo>
                    <a:pt x="346" y="4"/>
                  </a:lnTo>
                  <a:lnTo>
                    <a:pt x="350" y="0"/>
                  </a:lnTo>
                  <a:lnTo>
                    <a:pt x="354" y="0"/>
                  </a:lnTo>
                  <a:lnTo>
                    <a:pt x="358" y="4"/>
                  </a:lnTo>
                  <a:lnTo>
                    <a:pt x="362" y="8"/>
                  </a:lnTo>
                  <a:lnTo>
                    <a:pt x="362" y="11"/>
                  </a:lnTo>
                  <a:lnTo>
                    <a:pt x="366" y="15"/>
                  </a:lnTo>
                  <a:lnTo>
                    <a:pt x="370" y="22"/>
                  </a:lnTo>
                  <a:lnTo>
                    <a:pt x="374" y="30"/>
                  </a:lnTo>
                  <a:lnTo>
                    <a:pt x="378" y="41"/>
                  </a:lnTo>
                  <a:lnTo>
                    <a:pt x="381" y="48"/>
                  </a:lnTo>
                  <a:lnTo>
                    <a:pt x="385" y="63"/>
                  </a:lnTo>
                  <a:lnTo>
                    <a:pt x="385" y="74"/>
                  </a:lnTo>
                  <a:lnTo>
                    <a:pt x="389" y="89"/>
                  </a:lnTo>
                  <a:lnTo>
                    <a:pt x="393" y="104"/>
                  </a:lnTo>
                  <a:lnTo>
                    <a:pt x="397" y="118"/>
                  </a:lnTo>
                  <a:lnTo>
                    <a:pt x="401" y="137"/>
                  </a:lnTo>
                  <a:lnTo>
                    <a:pt x="405" y="152"/>
                  </a:lnTo>
                  <a:lnTo>
                    <a:pt x="409" y="170"/>
                  </a:lnTo>
                  <a:lnTo>
                    <a:pt x="409" y="192"/>
                  </a:lnTo>
                  <a:lnTo>
                    <a:pt x="413" y="211"/>
                  </a:lnTo>
                  <a:lnTo>
                    <a:pt x="417" y="233"/>
                  </a:lnTo>
                  <a:lnTo>
                    <a:pt x="421" y="251"/>
                  </a:lnTo>
                  <a:lnTo>
                    <a:pt x="425" y="273"/>
                  </a:lnTo>
                  <a:lnTo>
                    <a:pt x="429" y="296"/>
                  </a:lnTo>
                  <a:lnTo>
                    <a:pt x="429" y="318"/>
                  </a:lnTo>
                  <a:lnTo>
                    <a:pt x="433" y="344"/>
                  </a:lnTo>
                  <a:lnTo>
                    <a:pt x="437" y="366"/>
                  </a:lnTo>
                  <a:lnTo>
                    <a:pt x="441" y="38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2400" y="4775040"/>
              <a:ext cx="743040" cy="1159920"/>
            </a:xfrm>
            <a:custGeom>
              <a:avLst/>
              <a:gdLst/>
              <a:ahLst/>
              <a:rect l="l" t="t" r="r" b="b"/>
              <a:pathLst>
                <a:path w="468" h="731">
                  <a:moveTo>
                    <a:pt x="0" y="0"/>
                  </a:moveTo>
                  <a:lnTo>
                    <a:pt x="3" y="26"/>
                  </a:lnTo>
                  <a:lnTo>
                    <a:pt x="7" y="48"/>
                  </a:lnTo>
                  <a:lnTo>
                    <a:pt x="11" y="70"/>
                  </a:lnTo>
                  <a:lnTo>
                    <a:pt x="11" y="96"/>
                  </a:lnTo>
                  <a:lnTo>
                    <a:pt x="15" y="118"/>
                  </a:lnTo>
                  <a:lnTo>
                    <a:pt x="19" y="140"/>
                  </a:lnTo>
                  <a:lnTo>
                    <a:pt x="23" y="166"/>
                  </a:lnTo>
                  <a:lnTo>
                    <a:pt x="27" y="188"/>
                  </a:lnTo>
                  <a:lnTo>
                    <a:pt x="31" y="210"/>
                  </a:lnTo>
                  <a:lnTo>
                    <a:pt x="35" y="232"/>
                  </a:lnTo>
                  <a:lnTo>
                    <a:pt x="35" y="254"/>
                  </a:lnTo>
                  <a:lnTo>
                    <a:pt x="39" y="277"/>
                  </a:lnTo>
                  <a:lnTo>
                    <a:pt x="43" y="299"/>
                  </a:lnTo>
                  <a:lnTo>
                    <a:pt x="47" y="317"/>
                  </a:lnTo>
                  <a:lnTo>
                    <a:pt x="51" y="339"/>
                  </a:lnTo>
                  <a:lnTo>
                    <a:pt x="55" y="358"/>
                  </a:lnTo>
                  <a:lnTo>
                    <a:pt x="55" y="376"/>
                  </a:lnTo>
                  <a:lnTo>
                    <a:pt x="59" y="395"/>
                  </a:lnTo>
                  <a:lnTo>
                    <a:pt x="63" y="413"/>
                  </a:lnTo>
                  <a:lnTo>
                    <a:pt x="66" y="432"/>
                  </a:lnTo>
                  <a:lnTo>
                    <a:pt x="70" y="446"/>
                  </a:lnTo>
                  <a:lnTo>
                    <a:pt x="74" y="461"/>
                  </a:lnTo>
                  <a:lnTo>
                    <a:pt x="78" y="480"/>
                  </a:lnTo>
                  <a:lnTo>
                    <a:pt x="78" y="494"/>
                  </a:lnTo>
                  <a:lnTo>
                    <a:pt x="82" y="509"/>
                  </a:lnTo>
                  <a:lnTo>
                    <a:pt x="86" y="520"/>
                  </a:lnTo>
                  <a:lnTo>
                    <a:pt x="90" y="535"/>
                  </a:lnTo>
                  <a:lnTo>
                    <a:pt x="94" y="546"/>
                  </a:lnTo>
                  <a:lnTo>
                    <a:pt x="98" y="557"/>
                  </a:lnTo>
                  <a:lnTo>
                    <a:pt x="98" y="572"/>
                  </a:lnTo>
                  <a:lnTo>
                    <a:pt x="102" y="579"/>
                  </a:lnTo>
                  <a:lnTo>
                    <a:pt x="106" y="590"/>
                  </a:lnTo>
                  <a:lnTo>
                    <a:pt x="110" y="601"/>
                  </a:lnTo>
                  <a:lnTo>
                    <a:pt x="114" y="609"/>
                  </a:lnTo>
                  <a:lnTo>
                    <a:pt x="118" y="620"/>
                  </a:lnTo>
                  <a:lnTo>
                    <a:pt x="122" y="627"/>
                  </a:lnTo>
                  <a:lnTo>
                    <a:pt x="122" y="635"/>
                  </a:lnTo>
                  <a:lnTo>
                    <a:pt x="126" y="642"/>
                  </a:lnTo>
                  <a:lnTo>
                    <a:pt x="129" y="649"/>
                  </a:lnTo>
                  <a:lnTo>
                    <a:pt x="133" y="657"/>
                  </a:lnTo>
                  <a:lnTo>
                    <a:pt x="137" y="660"/>
                  </a:lnTo>
                  <a:lnTo>
                    <a:pt x="141" y="668"/>
                  </a:lnTo>
                  <a:lnTo>
                    <a:pt x="145" y="672"/>
                  </a:lnTo>
                  <a:lnTo>
                    <a:pt x="145" y="675"/>
                  </a:lnTo>
                  <a:lnTo>
                    <a:pt x="149" y="683"/>
                  </a:lnTo>
                  <a:lnTo>
                    <a:pt x="153" y="686"/>
                  </a:lnTo>
                  <a:lnTo>
                    <a:pt x="157" y="690"/>
                  </a:lnTo>
                  <a:lnTo>
                    <a:pt x="161" y="694"/>
                  </a:lnTo>
                  <a:lnTo>
                    <a:pt x="169" y="701"/>
                  </a:lnTo>
                  <a:lnTo>
                    <a:pt x="165" y="701"/>
                  </a:lnTo>
                  <a:lnTo>
                    <a:pt x="169" y="701"/>
                  </a:lnTo>
                  <a:lnTo>
                    <a:pt x="173" y="705"/>
                  </a:lnTo>
                  <a:lnTo>
                    <a:pt x="177" y="708"/>
                  </a:lnTo>
                  <a:lnTo>
                    <a:pt x="181" y="708"/>
                  </a:lnTo>
                  <a:lnTo>
                    <a:pt x="185" y="712"/>
                  </a:lnTo>
                  <a:lnTo>
                    <a:pt x="189" y="716"/>
                  </a:lnTo>
                  <a:lnTo>
                    <a:pt x="192" y="716"/>
                  </a:lnTo>
                  <a:lnTo>
                    <a:pt x="196" y="719"/>
                  </a:lnTo>
                  <a:lnTo>
                    <a:pt x="200" y="719"/>
                  </a:lnTo>
                  <a:lnTo>
                    <a:pt x="204" y="723"/>
                  </a:lnTo>
                  <a:lnTo>
                    <a:pt x="208" y="723"/>
                  </a:lnTo>
                  <a:lnTo>
                    <a:pt x="212" y="723"/>
                  </a:lnTo>
                  <a:lnTo>
                    <a:pt x="216" y="727"/>
                  </a:lnTo>
                  <a:lnTo>
                    <a:pt x="220" y="727"/>
                  </a:lnTo>
                  <a:lnTo>
                    <a:pt x="224" y="727"/>
                  </a:lnTo>
                  <a:lnTo>
                    <a:pt x="228" y="727"/>
                  </a:lnTo>
                  <a:lnTo>
                    <a:pt x="232" y="727"/>
                  </a:lnTo>
                  <a:lnTo>
                    <a:pt x="236" y="731"/>
                  </a:lnTo>
                  <a:lnTo>
                    <a:pt x="240" y="731"/>
                  </a:lnTo>
                  <a:lnTo>
                    <a:pt x="244" y="731"/>
                  </a:lnTo>
                  <a:lnTo>
                    <a:pt x="248" y="731"/>
                  </a:lnTo>
                  <a:lnTo>
                    <a:pt x="252" y="731"/>
                  </a:lnTo>
                  <a:lnTo>
                    <a:pt x="255" y="731"/>
                  </a:lnTo>
                  <a:lnTo>
                    <a:pt x="259" y="731"/>
                  </a:lnTo>
                  <a:lnTo>
                    <a:pt x="263" y="731"/>
                  </a:lnTo>
                  <a:lnTo>
                    <a:pt x="267" y="731"/>
                  </a:lnTo>
                  <a:lnTo>
                    <a:pt x="271" y="731"/>
                  </a:lnTo>
                  <a:lnTo>
                    <a:pt x="275" y="731"/>
                  </a:lnTo>
                  <a:lnTo>
                    <a:pt x="279" y="731"/>
                  </a:lnTo>
                  <a:lnTo>
                    <a:pt x="283" y="731"/>
                  </a:lnTo>
                  <a:lnTo>
                    <a:pt x="287" y="731"/>
                  </a:lnTo>
                  <a:lnTo>
                    <a:pt x="291" y="731"/>
                  </a:lnTo>
                  <a:lnTo>
                    <a:pt x="295" y="731"/>
                  </a:lnTo>
                  <a:lnTo>
                    <a:pt x="299" y="731"/>
                  </a:lnTo>
                  <a:lnTo>
                    <a:pt x="303" y="731"/>
                  </a:lnTo>
                  <a:lnTo>
                    <a:pt x="307" y="731"/>
                  </a:lnTo>
                  <a:lnTo>
                    <a:pt x="311" y="731"/>
                  </a:lnTo>
                  <a:lnTo>
                    <a:pt x="315" y="731"/>
                  </a:lnTo>
                  <a:lnTo>
                    <a:pt x="318" y="731"/>
                  </a:lnTo>
                  <a:lnTo>
                    <a:pt x="322" y="731"/>
                  </a:lnTo>
                  <a:lnTo>
                    <a:pt x="326" y="731"/>
                  </a:lnTo>
                  <a:lnTo>
                    <a:pt x="330" y="731"/>
                  </a:lnTo>
                  <a:lnTo>
                    <a:pt x="334" y="731"/>
                  </a:lnTo>
                  <a:lnTo>
                    <a:pt x="338" y="731"/>
                  </a:lnTo>
                  <a:lnTo>
                    <a:pt x="342" y="731"/>
                  </a:lnTo>
                  <a:lnTo>
                    <a:pt x="346" y="731"/>
                  </a:lnTo>
                  <a:lnTo>
                    <a:pt x="350" y="731"/>
                  </a:lnTo>
                  <a:lnTo>
                    <a:pt x="354" y="731"/>
                  </a:lnTo>
                  <a:lnTo>
                    <a:pt x="358" y="731"/>
                  </a:lnTo>
                  <a:lnTo>
                    <a:pt x="362" y="731"/>
                  </a:lnTo>
                  <a:lnTo>
                    <a:pt x="366" y="731"/>
                  </a:lnTo>
                  <a:lnTo>
                    <a:pt x="370" y="731"/>
                  </a:lnTo>
                  <a:lnTo>
                    <a:pt x="374" y="731"/>
                  </a:lnTo>
                  <a:lnTo>
                    <a:pt x="378" y="731"/>
                  </a:lnTo>
                  <a:lnTo>
                    <a:pt x="381" y="731"/>
                  </a:lnTo>
                  <a:lnTo>
                    <a:pt x="385" y="731"/>
                  </a:lnTo>
                  <a:lnTo>
                    <a:pt x="389" y="731"/>
                  </a:lnTo>
                  <a:lnTo>
                    <a:pt x="393" y="731"/>
                  </a:lnTo>
                  <a:lnTo>
                    <a:pt x="397" y="731"/>
                  </a:lnTo>
                  <a:lnTo>
                    <a:pt x="401" y="731"/>
                  </a:lnTo>
                  <a:lnTo>
                    <a:pt x="405" y="731"/>
                  </a:lnTo>
                  <a:lnTo>
                    <a:pt x="409" y="731"/>
                  </a:lnTo>
                  <a:lnTo>
                    <a:pt x="413" y="731"/>
                  </a:lnTo>
                  <a:lnTo>
                    <a:pt x="417" y="731"/>
                  </a:lnTo>
                  <a:lnTo>
                    <a:pt x="421" y="731"/>
                  </a:lnTo>
                  <a:lnTo>
                    <a:pt x="425" y="731"/>
                  </a:lnTo>
                  <a:lnTo>
                    <a:pt x="429" y="731"/>
                  </a:lnTo>
                  <a:lnTo>
                    <a:pt x="433" y="731"/>
                  </a:lnTo>
                  <a:lnTo>
                    <a:pt x="437" y="731"/>
                  </a:lnTo>
                  <a:lnTo>
                    <a:pt x="441" y="731"/>
                  </a:lnTo>
                  <a:lnTo>
                    <a:pt x="444" y="731"/>
                  </a:lnTo>
                  <a:lnTo>
                    <a:pt x="448" y="731"/>
                  </a:lnTo>
                  <a:lnTo>
                    <a:pt x="452" y="731"/>
                  </a:lnTo>
                  <a:lnTo>
                    <a:pt x="456" y="731"/>
                  </a:lnTo>
                  <a:lnTo>
                    <a:pt x="460" y="731"/>
                  </a:lnTo>
                  <a:lnTo>
                    <a:pt x="464" y="731"/>
                  </a:lnTo>
                  <a:lnTo>
                    <a:pt x="468" y="73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05440" y="5935320"/>
              <a:ext cx="474840" cy="4680"/>
            </a:xfrm>
            <a:custGeom>
              <a:avLst/>
              <a:gdLst/>
              <a:ahLst/>
              <a:rect l="l" t="t" r="r" b="b"/>
              <a:pathLst>
                <a:path w="299" h="3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5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60" y="0"/>
                  </a:lnTo>
                  <a:lnTo>
                    <a:pt x="264" y="0"/>
                  </a:lnTo>
                  <a:lnTo>
                    <a:pt x="268" y="0"/>
                  </a:lnTo>
                  <a:lnTo>
                    <a:pt x="272" y="3"/>
                  </a:lnTo>
                  <a:lnTo>
                    <a:pt x="276" y="3"/>
                  </a:lnTo>
                  <a:lnTo>
                    <a:pt x="280" y="3"/>
                  </a:lnTo>
                  <a:lnTo>
                    <a:pt x="284" y="3"/>
                  </a:lnTo>
                  <a:lnTo>
                    <a:pt x="288" y="3"/>
                  </a:lnTo>
                  <a:lnTo>
                    <a:pt x="291" y="3"/>
                  </a:lnTo>
                  <a:lnTo>
                    <a:pt x="295" y="3"/>
                  </a:lnTo>
                  <a:lnTo>
                    <a:pt x="299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78200" y="6153120"/>
              <a:ext cx="88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quency, MH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07160" y="3501720"/>
              <a:ext cx="40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22280" y="633564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2761560" y="1942560"/>
              <a:ext cx="105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plitude, vo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2570760" y="4814640"/>
              <a:ext cx="13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plitude, volts/MH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974880" y="1712880"/>
            <a:ext cx="21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versus time pulse, v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075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tude of the frequency spectrum of the pulse,  V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ly positive frequencies sh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30600" y="289548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243828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5240" y="419112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cycles/sec or  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rad/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129200" y="3448080"/>
            <a:ext cx="1803240" cy="1112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505320"/>
            <a:ext cx="1679400" cy="100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184720" y="4278240"/>
            <a:ext cx="152280" cy="152280"/>
            <a:chOff x="5184720" y="4278240"/>
            <a:chExt cx="152280" cy="152280"/>
          </a:xfrm>
        </p:grpSpPr>
        <p:sp>
          <p:nvSpPr>
            <p:cNvPr id="250" name=""/>
            <p:cNvSpPr/>
            <p:nvPr/>
          </p:nvSpPr>
          <p:spPr>
            <a:xfrm>
              <a:off x="5202360" y="4303440"/>
              <a:ext cx="117360" cy="108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84720" y="427824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261040" y="4354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52640" y="36925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152960" y="5340240"/>
            <a:ext cx="1534680" cy="1306440"/>
            <a:chOff x="4152960" y="5340240"/>
            <a:chExt cx="1534680" cy="1306440"/>
          </a:xfrm>
        </p:grpSpPr>
        <p:sp>
          <p:nvSpPr>
            <p:cNvPr id="255" name=""/>
            <p:cNvSpPr/>
            <p:nvPr/>
          </p:nvSpPr>
          <p:spPr>
            <a:xfrm>
              <a:off x="4352040" y="543852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52040" y="6637320"/>
              <a:ext cx="13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67520" y="5429160"/>
              <a:ext cx="13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52960" y="5877000"/>
              <a:ext cx="396000" cy="40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13920" y="5340240"/>
              <a:ext cx="456120" cy="20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0" name=""/>
          <p:cNvGraphicFramePr/>
          <p:nvPr/>
        </p:nvGraphicFramePr>
        <p:xfrm>
          <a:off x="3467160" y="5797440"/>
          <a:ext cx="635040" cy="3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5797440"/>
                    <a:ext cx="6350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762440" y="5645160"/>
          <a:ext cx="66672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440" y="5645160"/>
                    <a:ext cx="6667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334120" y="4648320"/>
          <a:ext cx="147636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648320"/>
                    <a:ext cx="14763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5413320" y="534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676840" y="557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413320" y="5040360"/>
          <a:ext cx="21132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3320" y="5040360"/>
                    <a:ext cx="2113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794200" y="5802480"/>
          <a:ext cx="252720" cy="29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4200" y="5802480"/>
                    <a:ext cx="2527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986840" y="68580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ltrasonic pulser and its equivalent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17920" y="58104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7080" y="50482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 impe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81280" y="1314360"/>
            <a:ext cx="1803240" cy="1112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1371600"/>
            <a:ext cx="1679400" cy="100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809880" y="2057400"/>
            <a:ext cx="152280" cy="152280"/>
            <a:chOff x="3809880" y="2057400"/>
            <a:chExt cx="152280" cy="152280"/>
          </a:xfrm>
        </p:grpSpPr>
        <p:sp>
          <p:nvSpPr>
            <p:cNvPr id="278" name=""/>
            <p:cNvSpPr/>
            <p:nvPr/>
          </p:nvSpPr>
          <p:spPr>
            <a:xfrm>
              <a:off x="3827520" y="2082600"/>
              <a:ext cx="117360" cy="108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09880" y="20574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204720" y="1558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149600" y="46846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,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75040" y="2222640"/>
            <a:ext cx="11160" cy="9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123720" y="2743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8720" y="2590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12080" y="2825640"/>
            <a:ext cx="1218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51160" y="266688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pu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1600200" y="1752480"/>
            <a:ext cx="5337000" cy="2098440"/>
            <a:chOff x="1600200" y="1752480"/>
            <a:chExt cx="5337000" cy="2098440"/>
          </a:xfrm>
        </p:grpSpPr>
        <p:sp>
          <p:nvSpPr>
            <p:cNvPr id="289" name=""/>
            <p:cNvSpPr/>
            <p:nvPr/>
          </p:nvSpPr>
          <p:spPr>
            <a:xfrm>
              <a:off x="2819160" y="1885680"/>
              <a:ext cx="281952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43200" y="1752480"/>
              <a:ext cx="74520" cy="415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0560" y="1806480"/>
              <a:ext cx="152640" cy="3045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14600" y="1752480"/>
              <a:ext cx="74520" cy="415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8908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04760" y="1828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904760" y="19810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1080" y="182844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7" name=""/>
            <p:cNvGraphicFramePr/>
            <p:nvPr/>
          </p:nvGraphicFramePr>
          <p:xfrm>
            <a:off x="1600200" y="1752480"/>
            <a:ext cx="25380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752480"/>
                      <a:ext cx="2538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2108160" y="2057040"/>
            <a:ext cx="233280" cy="3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08160" y="2057040"/>
                      <a:ext cx="23328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5856120" y="1760400"/>
              <a:ext cx="74520" cy="415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03840" y="1814400"/>
              <a:ext cx="152280" cy="3045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27520" y="1760400"/>
              <a:ext cx="74520" cy="415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68800" y="19872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995800" y="1836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411600" y="1993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87920" y="18414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6629400" y="1784160"/>
            <a:ext cx="307800" cy="42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29400" y="1784160"/>
                      <a:ext cx="30780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6095880" y="2089080"/>
            <a:ext cx="235080" cy="34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2089080"/>
                      <a:ext cx="2350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" name=""/>
            <p:cNvSpPr/>
            <p:nvPr/>
          </p:nvSpPr>
          <p:spPr>
            <a:xfrm>
              <a:off x="2971800" y="297144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71800" y="365724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52680" y="2784240"/>
              <a:ext cx="158112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95480" y="2819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29200" y="2819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7" name=""/>
            <p:cNvGraphicFramePr/>
            <p:nvPr/>
          </p:nvGraphicFramePr>
          <p:xfrm>
            <a:off x="2590560" y="3047760"/>
            <a:ext cx="254160" cy="38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90560" y="3047760"/>
                      <a:ext cx="25416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895480" y="2438280"/>
            <a:ext cx="233280" cy="380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2438280"/>
                      <a:ext cx="2332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1" name=""/>
            <p:cNvGraphicFramePr/>
            <p:nvPr/>
          </p:nvGraphicFramePr>
          <p:xfrm>
            <a:off x="5105160" y="2361960"/>
            <a:ext cx="235080" cy="349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05160" y="2361960"/>
                      <a:ext cx="2350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"/>
            <p:cNvGraphicFramePr/>
            <p:nvPr/>
          </p:nvGraphicFramePr>
          <p:xfrm>
            <a:off x="5486400" y="3047760"/>
            <a:ext cx="307800" cy="425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3047760"/>
                      <a:ext cx="30780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"/>
            <p:cNvSpPr/>
            <p:nvPr/>
          </p:nvSpPr>
          <p:spPr>
            <a:xfrm flipV="1">
              <a:off x="2971800" y="3047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371920" y="3047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3886200" y="3047760"/>
            <a:ext cx="419040" cy="439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886200" y="3047760"/>
                      <a:ext cx="41904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9" name=""/>
          <p:cNvSpPr/>
          <p:nvPr/>
        </p:nvSpPr>
        <p:spPr>
          <a:xfrm>
            <a:off x="2122920" y="72216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ing and its equivalent transfer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133720" y="4724280"/>
          <a:ext cx="3657600" cy="982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33720" y="4724280"/>
                    <a:ext cx="36576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595680" y="2438280"/>
            <a:ext cx="74520" cy="4161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43400" y="2492280"/>
            <a:ext cx="152280" cy="3049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67080" y="2438280"/>
            <a:ext cx="74520" cy="4161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41560" y="2666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75724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75724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33560" y="2514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362320" y="2360520"/>
          <a:ext cx="32688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360520"/>
                    <a:ext cx="3268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886120" y="2732040"/>
          <a:ext cx="285840" cy="3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6120" y="2732040"/>
                    <a:ext cx="2858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3672000" y="2133720"/>
            <a:ext cx="144756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2720" y="2286000"/>
            <a:ext cx="96840" cy="762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72200" y="2514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95880" y="2666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729400" y="2514600"/>
          <a:ext cx="30456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9400" y="25146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5424480" y="2209680"/>
          <a:ext cx="225360" cy="2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24480" y="2209680"/>
                    <a:ext cx="2253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056120" y="342900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24280" y="426708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4434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6728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6728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4434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36708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42448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67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1956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91840" y="5243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069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443400" y="3809880"/>
          <a:ext cx="285480" cy="366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43400" y="3809880"/>
                    <a:ext cx="2854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986200" y="4495680"/>
          <a:ext cx="32688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86200" y="4495680"/>
                    <a:ext cx="3268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5195880" y="3809880"/>
          <a:ext cx="225360" cy="276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95880" y="3809880"/>
                    <a:ext cx="2253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500800" y="4495680"/>
          <a:ext cx="30456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00800" y="44956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1758240" y="685800"/>
            <a:ext cx="56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nding transducer and its equivalent transfer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2720" y="17524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,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72720" y="17128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,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3200400" y="2406600"/>
            <a:ext cx="3313080" cy="4452120"/>
            <a:chOff x="3200400" y="2406600"/>
            <a:chExt cx="3313080" cy="4452120"/>
          </a:xfrm>
        </p:grpSpPr>
        <p:sp>
          <p:nvSpPr>
            <p:cNvPr id="375" name=""/>
            <p:cNvSpPr/>
            <p:nvPr/>
          </p:nvSpPr>
          <p:spPr>
            <a:xfrm>
              <a:off x="4108680" y="2803680"/>
              <a:ext cx="83808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651480" y="2955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662640" y="3641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4948200" y="2960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4954680" y="3660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1480" y="3031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257800" y="3016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75160" y="2803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99040" y="280368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00400" y="3105360"/>
              <a:ext cx="416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06840" y="2406600"/>
              <a:ext cx="40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0440" y="2962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34120" y="3135240"/>
              <a:ext cx="152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8" name=""/>
            <p:cNvGraphicFramePr/>
            <p:nvPr/>
          </p:nvGraphicFramePr>
          <p:xfrm>
            <a:off x="5499360" y="3092400"/>
            <a:ext cx="41580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99360" y="3092400"/>
                      <a:ext cx="41580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0" name=""/>
            <p:cNvGraphicFramePr/>
            <p:nvPr/>
          </p:nvGraphicFramePr>
          <p:xfrm>
            <a:off x="4299120" y="3092400"/>
            <a:ext cx="482400" cy="37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99120" y="3092400"/>
                      <a:ext cx="4824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"/>
            <p:cNvGraphicFramePr/>
            <p:nvPr/>
          </p:nvGraphicFramePr>
          <p:xfrm>
            <a:off x="4953240" y="3092400"/>
            <a:ext cx="250560" cy="347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53240" y="3092400"/>
                      <a:ext cx="25056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"/>
            <p:cNvGraphicFramePr/>
            <p:nvPr/>
          </p:nvGraphicFramePr>
          <p:xfrm>
            <a:off x="5029200" y="2463840"/>
            <a:ext cx="193680" cy="316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2463840"/>
                      <a:ext cx="19368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4334040" y="5130720"/>
              <a:ext cx="29664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480200" y="4937040"/>
              <a:ext cx="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475160" y="5905440"/>
              <a:ext cx="50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708000" y="6077160"/>
              <a:ext cx="77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698640" y="4953240"/>
              <a:ext cx="77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83160" y="4873680"/>
              <a:ext cx="29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741840" y="500184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38840" y="4616640"/>
              <a:ext cx="0" cy="17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032360" y="5451120"/>
              <a:ext cx="13096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4038840" y="4616280"/>
              <a:ext cx="130320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42040" y="545148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7" name=""/>
            <p:cNvGraphicFramePr/>
            <p:nvPr/>
          </p:nvGraphicFramePr>
          <p:xfrm>
            <a:off x="4575240" y="5283360"/>
            <a:ext cx="486000" cy="401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75240" y="5283360"/>
                      <a:ext cx="48600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3648240" y="4444920"/>
            <a:ext cx="247680" cy="31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48240" y="4444920"/>
                      <a:ext cx="247680" cy="3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3419640" y="5283360"/>
            <a:ext cx="266760" cy="318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19640" y="5283360"/>
                      <a:ext cx="26676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5410440" y="4683240"/>
            <a:ext cx="1103040" cy="685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10440" y="4683240"/>
                      <a:ext cx="11030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5" name=""/>
            <p:cNvSpPr/>
            <p:nvPr/>
          </p:nvSpPr>
          <p:spPr>
            <a:xfrm>
              <a:off x="4330800" y="3916440"/>
              <a:ext cx="40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69960" y="65214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505320" y="1447920"/>
            <a:ext cx="74520" cy="4158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501920"/>
            <a:ext cx="152640" cy="3045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1447920"/>
            <a:ext cx="74520" cy="4158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81280" y="1143000"/>
            <a:ext cx="144792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81080" y="1600200"/>
            <a:ext cx="12956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60800" y="456480"/>
            <a:ext cx="2133360" cy="352440"/>
            <a:chOff x="4060800" y="456480"/>
            <a:chExt cx="2133360" cy="352440"/>
          </a:xfrm>
        </p:grpSpPr>
        <p:grpSp>
          <p:nvGrpSpPr>
            <p:cNvPr id="423" name=""/>
            <p:cNvGrpSpPr/>
            <p:nvPr/>
          </p:nvGrpSpPr>
          <p:grpSpPr>
            <a:xfrm>
              <a:off x="4060800" y="456480"/>
              <a:ext cx="866520" cy="314280"/>
              <a:chOff x="4060800" y="456480"/>
              <a:chExt cx="866520" cy="314280"/>
            </a:xfrm>
          </p:grpSpPr>
          <p:sp>
            <p:nvSpPr>
              <p:cNvPr id="424" name=""/>
              <p:cNvSpPr/>
              <p:nvPr/>
            </p:nvSpPr>
            <p:spPr>
              <a:xfrm flipV="1">
                <a:off x="4060800" y="456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4489560" y="466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903560" y="478800"/>
              <a:ext cx="866520" cy="314280"/>
              <a:chOff x="4903560" y="478800"/>
              <a:chExt cx="866520" cy="314280"/>
            </a:xfrm>
          </p:grpSpPr>
          <p:sp>
            <p:nvSpPr>
              <p:cNvPr id="427" name=""/>
              <p:cNvSpPr/>
              <p:nvPr/>
            </p:nvSpPr>
            <p:spPr>
              <a:xfrm flipV="1">
                <a:off x="4903560" y="4784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5332320" y="4885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485960" y="469080"/>
              <a:ext cx="866520" cy="314280"/>
              <a:chOff x="4485960" y="469080"/>
              <a:chExt cx="866520" cy="3142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485960" y="4687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flipV="1">
                <a:off x="4914720" y="4788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327640" y="494640"/>
              <a:ext cx="866520" cy="314280"/>
              <a:chOff x="5327640" y="494640"/>
              <a:chExt cx="866520" cy="314280"/>
            </a:xfrm>
          </p:grpSpPr>
          <p:sp>
            <p:nvSpPr>
              <p:cNvPr id="433" name=""/>
              <p:cNvSpPr/>
              <p:nvPr/>
            </p:nvSpPr>
            <p:spPr>
              <a:xfrm flipV="1">
                <a:off x="5327640" y="49428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5756400" y="50436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rot="2630400">
            <a:off x="4433760" y="1005840"/>
            <a:ext cx="1218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1593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8600" y="1341360"/>
            <a:ext cx="108000" cy="66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41360" y="575136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 impe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495252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2667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87480" y="39988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23160" y="29718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ustic rad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20880" y="112680"/>
            <a:ext cx="65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nding transducer modeled as an impedance and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1592280" y="1447920"/>
            <a:ext cx="5022720" cy="4971240"/>
            <a:chOff x="1592280" y="1447920"/>
            <a:chExt cx="5022720" cy="4971240"/>
          </a:xfrm>
        </p:grpSpPr>
        <p:graphicFrame>
          <p:nvGraphicFramePr>
            <p:cNvPr id="445" name=""/>
            <p:cNvGraphicFramePr/>
            <p:nvPr/>
          </p:nvGraphicFramePr>
          <p:xfrm>
            <a:off x="5813280" y="1676520"/>
            <a:ext cx="72252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13280" y="1676520"/>
                      <a:ext cx="722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7" name=""/>
            <p:cNvGraphicFramePr/>
            <p:nvPr/>
          </p:nvGraphicFramePr>
          <p:xfrm>
            <a:off x="1851120" y="1752480"/>
            <a:ext cx="706320" cy="43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1120" y="1752480"/>
                      <a:ext cx="7063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9" name=""/>
            <p:cNvSpPr/>
            <p:nvPr/>
          </p:nvSpPr>
          <p:spPr>
            <a:xfrm>
              <a:off x="5586120" y="2133720"/>
              <a:ext cx="70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32240" y="2590920"/>
              <a:ext cx="40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4572000"/>
              <a:ext cx="4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4557600" y="1698480"/>
              <a:ext cx="852120" cy="439920"/>
              <a:chOff x="4557600" y="1698480"/>
              <a:chExt cx="852120" cy="439920"/>
            </a:xfrm>
          </p:grpSpPr>
          <p:sp>
            <p:nvSpPr>
              <p:cNvPr id="453" name=""/>
              <p:cNvSpPr/>
              <p:nvPr/>
            </p:nvSpPr>
            <p:spPr>
              <a:xfrm flipH="1" rot="10800000">
                <a:off x="4753800" y="1698480"/>
                <a:ext cx="655560" cy="4399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rot="10800000">
                <a:off x="4688280" y="1855800"/>
                <a:ext cx="64080" cy="157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rot="10800000">
                <a:off x="4623120" y="1887120"/>
                <a:ext cx="64080" cy="94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rot="10800000">
                <a:off x="4557600" y="1855800"/>
                <a:ext cx="64080" cy="157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475240" y="1887480"/>
              <a:ext cx="32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743200" y="1447920"/>
              <a:ext cx="1179360" cy="1066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716280" y="1879560"/>
              <a:ext cx="131760" cy="125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838320" y="1940040"/>
              <a:ext cx="717480" cy="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12880" y="1949400"/>
              <a:ext cx="32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54320" y="5178600"/>
              <a:ext cx="982800" cy="68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7440" y="5518080"/>
              <a:ext cx="32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7120" y="5491080"/>
              <a:ext cx="32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5" name=""/>
            <p:cNvGraphicFramePr/>
            <p:nvPr/>
          </p:nvGraphicFramePr>
          <p:xfrm>
            <a:off x="2087640" y="5254560"/>
            <a:ext cx="681120" cy="42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87640" y="5254560"/>
                      <a:ext cx="68112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"/>
            <p:cNvGraphicFramePr/>
            <p:nvPr/>
          </p:nvGraphicFramePr>
          <p:xfrm>
            <a:off x="4602240" y="5254560"/>
            <a:ext cx="726840" cy="43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02240" y="5254560"/>
                      <a:ext cx="7268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3306600" y="5330880"/>
            <a:ext cx="660600" cy="41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06600" y="5330880"/>
                      <a:ext cx="6606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1" name=""/>
            <p:cNvSpPr/>
            <p:nvPr/>
          </p:nvSpPr>
          <p:spPr>
            <a:xfrm>
              <a:off x="2996640" y="15238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8480" y="3409920"/>
              <a:ext cx="76068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09680" y="3367080"/>
              <a:ext cx="114300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66880" y="3290760"/>
              <a:ext cx="3049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76720" y="3270240"/>
              <a:ext cx="9144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22840" y="3616200"/>
              <a:ext cx="152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5400000">
              <a:off x="4469400" y="3383640"/>
              <a:ext cx="1306440" cy="9907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29320" y="388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31840" y="36752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0" name=""/>
            <p:cNvGraphicFramePr/>
            <p:nvPr/>
          </p:nvGraphicFramePr>
          <p:xfrm>
            <a:off x="1592280" y="3314880"/>
            <a:ext cx="598320" cy="37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92280" y="3314880"/>
                      <a:ext cx="5983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2" name=""/>
            <p:cNvGraphicFramePr/>
            <p:nvPr/>
          </p:nvGraphicFramePr>
          <p:xfrm>
            <a:off x="2438280" y="2909880"/>
            <a:ext cx="590760" cy="328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38280" y="2909880"/>
                      <a:ext cx="590760" cy="3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4" name=""/>
            <p:cNvGraphicFramePr/>
            <p:nvPr/>
          </p:nvGraphicFramePr>
          <p:xfrm>
            <a:off x="3505320" y="3595680"/>
            <a:ext cx="392040" cy="41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505320" y="3595680"/>
                      <a:ext cx="39204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6" name=""/>
            <p:cNvGraphicFramePr/>
            <p:nvPr/>
          </p:nvGraphicFramePr>
          <p:xfrm>
            <a:off x="4876920" y="3595680"/>
            <a:ext cx="463320" cy="382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76920" y="3595680"/>
                      <a:ext cx="46332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"/>
            <p:cNvGraphicFramePr/>
            <p:nvPr/>
          </p:nvGraphicFramePr>
          <p:xfrm>
            <a:off x="5641920" y="3117960"/>
            <a:ext cx="973080" cy="696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41920" y="3117960"/>
                      <a:ext cx="973080" cy="6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900680" y="17524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16400" y="6081840"/>
              <a:ext cx="40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38800" y="1766880"/>
              <a:ext cx="76320" cy="304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607040" y="533520"/>
            <a:ext cx="55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ting all the sound generation component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7:23:12Z</dcterms:created>
  <dc:creator>Les Schemerr</dc:creator>
  <dc:description/>
  <dc:language>en-US</dc:language>
  <cp:lastModifiedBy>Lester Schmerr</cp:lastModifiedBy>
  <dcterms:modified xsi:type="dcterms:W3CDTF">2006-12-18T17:48:12Z</dcterms:modified>
  <cp:revision>3</cp:revision>
  <dc:subject/>
  <dc:title>Slide 1</dc:title>
</cp:coreProperties>
</file>