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55720" y="744120"/>
            <a:ext cx="49608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C7DE-5478-47F0-A014-1687109111B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i natürlichen Personen als Gesellschafter-Geschäftsführer einer Personengesellschaft  folgerte die Finanzverwaltung früher (BMF – Schrieben vom 23.12.2003, BStBl I 2003, 240) aus der Mitunternehmerstellung des Gesellschafters nach § 15 Abs. 1 Satz 1 Nr. 2 EStG auch die Selbstständigkeit im Rahmen der Umsatzsteuer. Die Umqualifizierung der Einkünfte für die Ertragsteuer  „schlug“ auf die Umsatzsteuer du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r BFH hat in seinem Urteil vom 10.03.2005, in dem er die umsatzsteuerliche Behandlung von Gesellschafter-Geschäftsführerleistungen an Kapitalgesellschaften entschied, in einem obiter dictum jedoch diese Beurteilung der Selbstständigkeit der Gesellschafter-Geschäftsführer bei Personengesellschaften durch die Finanzverwaltung als zu weitgehend eracht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it BMF-Schreiben vom 31.05.2007, DStR 07, 1039 hat die Finanzverwaltung insoweit ihre Ansicht geändert. Allein die Umqualifizierung nach 15 Abs. 1 Satz 1 Nr. 2 EStG führt nicht mehr zur Selbstständigkeit im Rahmen der Umsatzsteuer. Weitere Umstände müssen hinzutre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rsonengesellschaften   BFH, Urteil vom 06.06.2002  Az.: V R 43/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apitalgesellschaften    BFH, Urteil vom 10.03.2005 Az.: V R 29/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MF-Schreiben vom 31.05.2007, DStR 2007, 10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m Sonderentgelt siehe BMF Schrieben vom 31.05.2007 Az.: IV A 5 – S 7100/07/0031, DStR 2007, 1039 (mit vielen Beispiel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ftungsvergütung siehe: BMF vom 31.05.2007 Az.: IV A 5 – S 7100/07/0031,DStR 2007, 103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8864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bee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05920" y="6513480"/>
            <a:ext cx="70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F7F1-BE7B-49CB-8F30-00F43D7BACC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40080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satzsteuerpflicht von Geschäftsführerleist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57240">
            <a:solidFill>
              <a:srgbClr val="bee0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msatzsteuerpflicht von Geschäftsführerleistu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aussetzungen Umsatzsteuerpfl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341360"/>
            <a:ext cx="82803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bstständ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916280"/>
            <a:ext cx="8209080" cy="344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atürliche Person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samtbild der Verhältnisse maßgeb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urteilung nach § 2 Abs. 1 UStG und H 67 LSt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Gesellschaftsvertragli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geregeltes Weisungsrecht führt nicht zur Unselbstständ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rbeitsvertraglich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Regelungen zu Urlaubsanspruch, Arbeitszeiten, Lohnfortzahlung im Krankheitsfall, Weisungsgebundenheit begründen i.d.R. zur Unselbstständ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tragsteuerliche Umqualifizierung der Einkünfte nach § 15 Abs, 1 satz 1 Nr. 2 EStG führt allein nicht zur Selbstständ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5445000"/>
            <a:ext cx="820908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einflussung Selbstständigkeit nat. Personen durch Anstellungsverträ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htsf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916280"/>
            <a:ext cx="7704000" cy="38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satzsteuerpflichtige Leistung des Geschäftsfüh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rsteuerabzug des Gesellschafter-Geschäftsführers für Aufwendungen im Zusammenhang mit der Geschäftsfüh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rsteuerabzug der Gesellschaft hinsichtlich der Umsatzsteuer auf die Geschäftsführungsleistung (soweit Gesellschaft vorsteuerabzugsberechtigt 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abe Umsatzsteuervoranmeldungen für den Geschäftsführ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197000"/>
            <a:ext cx="75614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sfolge der Umsatzsteuerpflicht der Geschäftsführungsleist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61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sonderheiten GmbH &amp; Co. K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0492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mbH &amp; Co.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08000" y="3787560"/>
            <a:ext cx="2087640" cy="122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mbH &amp; Co. K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32720" y="2708280"/>
            <a:ext cx="1439640" cy="719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mb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2635200"/>
            <a:ext cx="2519280" cy="576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marL="305280" indent="-30528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schäftsführ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natürliche Person, auch Kommanditis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16720" y="3427560"/>
            <a:ext cx="934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32720" y="2131920"/>
            <a:ext cx="143964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bstständi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2060640"/>
            <a:ext cx="25192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grds. nicht selbstständi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wegen Anstellungsvertra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292428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796000" y="34275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56360" y="3643200"/>
            <a:ext cx="2016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F-Leistung (steuerb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ftungsvergütung (steuerbar, soweit Sonderentge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249084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F-Leistung (nicht steuerb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981000"/>
            <a:ext cx="835344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bH-Geschäftsführer, der gleichzeitig Kommanditist der KG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rundfall: kein Dienstvertrag mit der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5445000"/>
            <a:ext cx="7272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ßgeblich ist vertragliche Regelung; Zahlungsströme (abgekürzter Zahlungsweg) sind unmaßgeb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360" y="299736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nstellungsvertr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92360" y="321300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mbH &amp; Co.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08000" y="3787560"/>
            <a:ext cx="2087640" cy="122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mbH &amp; Co. K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32720" y="2708280"/>
            <a:ext cx="1439640" cy="719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mb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2635200"/>
            <a:ext cx="2519280" cy="576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schäftsführ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natürliche Person, auch Kommanditis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3427560"/>
            <a:ext cx="934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32720" y="2131920"/>
            <a:ext cx="143964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bstständi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2060640"/>
            <a:ext cx="25192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selbstständi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292428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796000" y="34275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16720" y="3933720"/>
            <a:ext cx="201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ftungsvergütung (steuerbar, soweit Sonderentge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40360" y="24908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ine Leistu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981000"/>
            <a:ext cx="835344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bH-Geschäftsführer, der gleichzeitig Kommanditist der KG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enstvertrag mit der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5589720"/>
            <a:ext cx="712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ßgeblich ist vertragliche Regel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3213000"/>
            <a:ext cx="266544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968000">
            <a:off x="1384920" y="384264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stellungsvertr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3213000"/>
            <a:ext cx="865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3357720"/>
            <a:ext cx="201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ine Leistung wegen Unselbstständigkeit aus Anstellungsvertr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htsprechungsentwick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341360"/>
            <a:ext cx="84960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46040" indent="-13460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sherige Rechtsprec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060640"/>
            <a:ext cx="8496000" cy="434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46040" indent="-1346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46040" indent="-1346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rganwaltertheori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hrung der Geschäfte einer Gesellschaft ist kein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genüber einer anderen Person erbrachte Leist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46040" indent="-1346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.S.d. § 1 Abs. 1 Nr. 1 USt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425680" indent="-871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425680" indent="-871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u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Organ der Gesellschaft – Tätigkeit dien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Verwirklichung des Gesellschaftszwe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46040" indent="-1346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46040" indent="-1346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46040" indent="-1346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Rechtsfolg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Leistung des Gesellschafter-Geschäftsführers war nicht umsatzsteuer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425680" indent="-871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46040" indent="-1346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346040" indent="-1346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346040" indent="-1346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htsprechungsentwick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052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268280"/>
            <a:ext cx="7993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sprechungsänd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2060640"/>
            <a:ext cx="7993080" cy="308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rganwaltertheorie aufgege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für Umsatzsteuerbarkeit „lediglich“ Leistungsaustausch erforder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usübung Mitgliedschaftsrechte irrele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ntscheidend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▪ gewinnabhängige Vergütung 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onderentge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anzverwaltung hat sich der Rechtsprechungsänderung angeschlo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ltung für ab 01.04.2004 ausgeführte Leistungen bei Personengesellschaft-en – davor Anwendung auf Antrag möglich, soweit USt noch festsetzbar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661000"/>
            <a:ext cx="79930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lt für Personengesellschaften und Kapitalgesell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zierungen für Frage der Umsatzsteuerbar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3456000" cy="28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36000" rIns="36000" tIns="36000" bIns="39600"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istungsaustau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22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istungen gegen Sonderentg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22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22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satzsteuer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22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22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istu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e Gesellsch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3280" y="2349360"/>
            <a:ext cx="3816360" cy="28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96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sellschafterbeitr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2240" indent="1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istungen durch Beteiligung am Gewinn und Verlust abgego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2240" indent="1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2240" indent="1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satzsteuerf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2240" indent="1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2240" indent="1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istu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ü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e Gesellsch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2240" indent="1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289160"/>
            <a:ext cx="79200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ellschafter-Geschäftsführerleis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1700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59640" y="1700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aussetzungen Umsatzsteuerpfl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773360"/>
            <a:ext cx="7561080" cy="36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ellschafter von Personengesellschaften / Kapitalgesell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Übernahme von Geschäftsführungs- und Vertretungstätigk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derentg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bstständ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ne Steuerbefreiung z.B. § 4 Nr. 8 a US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073160"/>
            <a:ext cx="75596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raussetzungen Umsatzsteuerpfl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aussetzungen Umsatzsteuerpfl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341360"/>
            <a:ext cx="79912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ellschafter von Personengesellschaften / Kapitalgesell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2060640"/>
            <a:ext cx="799128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10796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"/>
              <a:tabLst>
                <a:tab algn="l" pos="10796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öhe der Beteiligung irrelev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10796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"/>
              <a:tabLst>
                <a:tab algn="l" pos="10796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einbarung Tätigkeitsvergütung im Gesellschaftsvertrag oder  Anstellungsvertrag mög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10796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"/>
              <a:tabLst>
                <a:tab algn="l" pos="10796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ämtliche nach außen auftretenden Personen- / Kapitalgesell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10796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10796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sp.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mögensverwaltende Gesell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10796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tragsteuerliche Mitunternehmer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10796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vate Equity F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79560" indent="-353880">
              <a:lnSpc>
                <a:spcPct val="100000"/>
              </a:lnSpc>
              <a:tabLst>
                <a:tab algn="l" pos="0"/>
                <a:tab algn="l" pos="1079640"/>
                <a:tab algn="l" pos="152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79560" indent="-353880">
              <a:lnSpc>
                <a:spcPct val="100000"/>
              </a:lnSpc>
              <a:tabLst>
                <a:tab algn="l" pos="0"/>
                <a:tab algn="l" pos="1079640"/>
                <a:tab algn="l" pos="152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aussetzungen Umsatzsteuerpfl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700280"/>
            <a:ext cx="7848720" cy="255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Wingdings" charset="2"/>
              <a:buChar char=""/>
              <a:tabLst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ndelsrechtlich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handlung als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w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Wingdings" charset="2"/>
              <a:buChar char=""/>
              <a:tabLst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ahlung auch i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lustjah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Wingdings" charset="2"/>
              <a:buChar char=""/>
              <a:tabLst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Abgeltung der Leistung durch Beteiligung am Gewi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Wingdings" charset="2"/>
              <a:buChar char=""/>
              <a:tabLst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echtes „Gewinnvorweg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Wingdings" charset="2"/>
              <a:buChar char=""/>
              <a:tabLst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vom Ergebnis abhängige Vergü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Wingdings" charset="2"/>
              <a:buChar char=""/>
              <a:tabLst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Umsatzbeteil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Wingdings" charset="2"/>
              <a:buChar char=""/>
              <a:tabLst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Entnahmen  – Ausnahme: garantiertes Entnahmerecht ohne Rückzahlungs-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pflichtung bei Überschreitung Gewinnante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Wingdings" charset="2"/>
              <a:buChar char=""/>
              <a:tabLst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52640"/>
            <a:ext cx="78487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derentg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4365720"/>
            <a:ext cx="7848720" cy="180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ues BMF-Schreiben vom 31.05.2007 (DStR 07,1039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ste Beträg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können Sonderentgelt sein, auch wenn sie nicht als Aufwand im Rahmen der Ergebnisermittlung gebucht werden, sondern erst im Rahmen der Ergebnisverwendung und sich dabei ergebnismindernd auswir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aussetzungen Umsatzsteuerpfl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700280"/>
            <a:ext cx="7848720" cy="21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0640" indent="-116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ftungsvergüt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ersönlich haftender Gesellsch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0640" indent="-116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160640" indent="-116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undsatz: Nicht im Rahmen Leistungsaustausch erbracht, sondern unabdingbare Folge der Gesellschafterstel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0640" indent="-116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160640" indent="-116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nahme: ▪ Behandlung als Aufwand  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0640" indent="-116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▪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währung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neb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ergütungen für Geschäftsführ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0640" indent="-116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160640" indent="-116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freiung nach § 4 Nr. 8 g UStG strit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0640" indent="-116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052640"/>
            <a:ext cx="78487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derentgelt - Besonderh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5013360"/>
            <a:ext cx="7848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chentge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nur Sonderentgelt umsatzsteuer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fizierung der gewinnabhängigen Vergüt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fteilung in Sonderentgelt und gewinnabhängige Vergü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3933720"/>
            <a:ext cx="7848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0640" indent="-116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wandsersat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tritti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0640" indent="-116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zamt: Behandlung als Sonderentgelt, Einnahmeerzielungsabsicht ausreichend – Gewinnerzielungsabsicht nicht erforderl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aussetzungen Umsatzsteuerpfl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916280"/>
            <a:ext cx="828036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Juristische Perso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: Komplementär-GmbH bei GmbH &amp; Co.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undsätzlich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elbstständi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tät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isungsrecht Gesellschafterversammlung führt nicht zur Unselbstständ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nahme: Organscha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mplementär-GmbH ist als Organgesellschaft bei Einheits-GmbH &amp; Co. KG aufgrund Eingliederung unselbstständ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341360"/>
            <a:ext cx="82803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bstständ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1:59:12Z</dcterms:created>
  <dc:creator>Arndt/Heuel</dc:creator>
  <dc:description/>
  <dc:language>en-US</dc:language>
  <cp:lastModifiedBy>IH</cp:lastModifiedBy>
  <dcterms:modified xsi:type="dcterms:W3CDTF">2007-08-01T17:16:08Z</dcterms:modified>
  <cp:revision>133</cp:revision>
  <dc:subject/>
  <dc:title>Umsatzsteuerpflicht von Geschäftsführerleistung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91175013</vt:r8>
  </property>
  <property fmtid="{D5CDD505-2E9C-101B-9397-08002B2CF9AE}" pid="3" name="_AuthorEmail">
    <vt:lpwstr>ingo.heuel@konlus.de</vt:lpwstr>
  </property>
  <property fmtid="{D5CDD505-2E9C-101B-9397-08002B2CF9AE}" pid="4" name="_AuthorEmailDisplayName">
    <vt:lpwstr>Heuel, Ingo</vt:lpwstr>
  </property>
  <property fmtid="{D5CDD505-2E9C-101B-9397-08002B2CF9AE}" pid="5" name="_EmailSubject">
    <vt:lpwstr>Update § 29 Band 1</vt:lpwstr>
  </property>
</Properties>
</file>