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3336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be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05920" y="6513480"/>
            <a:ext cx="7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F57-735C-440C-B389-F2C68AD4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4008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atzsteuerkarussellgesch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57240">
            <a:solidFill>
              <a:srgbClr val="bee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msatzsteuerkarussellgeschä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Umsatzsteuerstreckengeschäf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785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413000"/>
            <a:ext cx="1728720" cy="20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s-aussteller und Leistender sind iden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836640"/>
            <a:ext cx="8856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aussetzung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1413000"/>
            <a:ext cx="1729080" cy="20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eferant ist Unterneh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413000"/>
            <a:ext cx="1727280" cy="20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ein Scheingeschä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1414440"/>
            <a:ext cx="1872000" cy="20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pfänger der Ware muss die Verfügungsmacht erla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6000" y="1414440"/>
            <a:ext cx="1800000" cy="20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sagung des Vorsteuerabzugs aus anderen  Gründen (Rechnungs-erforderni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645000"/>
            <a:ext cx="8856720" cy="5047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weis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4149720"/>
            <a:ext cx="4392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 trägt steuerliche Feststellungslast (objektive Verdachtsgründe) dafür, dass Unternehm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ssentli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 eine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russell beteilig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ar und deswegen Vorsteuerabzug zu versagen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149720"/>
            <a:ext cx="446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ternehmer trägt die steuerliche Feststellungslast für d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.g. Voraussetzun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es Vorsteuerabzu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5445000"/>
            <a:ext cx="439272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ternehmer trifft dann Feststellungslast für diejenigen Tatsachen, die die objektiven Verdachtsgründe entkrä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tender ist derjenige, der die Lieferung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 eigenen Na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nüber einem anderen selbst oder durch einen Beauftragten durchfüh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ßgebend: Zivilrechtslage, d.h. schuldrechtliche Vertragsverhältnisse Ausnahme: Erbringung der Leistung unter Missachtung der Zivilrechts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ferant trit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kenn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m Namen eines anderen) als Vertreter au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ferung wird dem Vertretenen zugerech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ferant trit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deck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ür Dritten auf (Handeln unter fremdem Nam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ferung wird dem Auftretenden / Strohmann zugerech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83664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nungsaussteller und Leistender müssen identisch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084640"/>
            <a:ext cx="8207280" cy="863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scheidend ist das Auftreten nach außen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für den Abnehmer erkennbaren objektiven Umstän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ernehmer ist jede Person, die eine gewerbliche oder berufliche Tätigkeit zur Erzielung von Einnahmen selbstständig ausführt. =&gt; i.d.R liegt Unternehmereigenschaft v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nehmer trägt Ermittlungs-Risiko, ob der Lieferer Unternehmer oder Nichtunternehmer (Scheinunternehmer) i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ristische Person → Unternehmereigenschaft wird unterstel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ürliche Person  →  Auftreten nach Außen entscheid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98100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eferant ist Unterneh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437000"/>
            <a:ext cx="8207280" cy="180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ßnahmen bei Geschäftsanbahnung   (1) Vorlage Personalausw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Vorlage Gewerbeanmeldung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Handelsregisterauszug anfor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(nachweisbar) überprüfen, ob Liefe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äußerlich ordentlich eingerichteten Betrie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uGH-Rechtsprechung gewährt Vertrauensschutz für Unterneh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all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forderlichen 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troffen, um sicherzustellen, dass seine Umsätze nicht in einen Betrug einbezogen werden, darf der Unternehmer auf die Rechtmäßigkeit seiner Umsätze vertrau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rausetzungen → Erfüllung objektiver Kriterien : Lieferung und Unternehmer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→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empfänger kann nicht nachgewiesen werden, dass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usste oder hätte wissen müssen, dass eine Steuerhinter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en wi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12536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htsprechungstend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157720"/>
            <a:ext cx="820728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1360" indent="-18813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 algn="ctr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Versagung des Vorsteuerabzug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en Parteien einen Vertrag nur zum Schein abgeschlossen, ist der Vertrag für die Besteuerung unerheblich, § 41 Abs. 2 A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kmal Scheingeschäft →  vorsätzliches gemeinsames Han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052640"/>
            <a:ext cx="82072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in Scheingeschä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076640"/>
            <a:ext cx="8207280" cy="151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zien:    - Verkauf der Ware unter Marktpr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are durchläuft Händlerkette in kürzester Z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eselbe Ware taucht bei einem Händler mehrmals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usstellung der Rechnung von einem Büroservice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70280" indent="0"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agung Vorsteuerabzug, wenn Verfügungsmacht über Ware nicht erlan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fügungsmacht fehlt  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geplanter Zurücklieferung der Ware in einer Liefer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nehmer führt kein Eigengeschäft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5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0280" indent="0"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19700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pfänger der Ware muss die Verfügungsmacht er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feld 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988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gemeine Versagungsgründe aus § 15 USt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   Nichterfüllung der erforderlichen Rechungsmerkmale des                   § 14 Abs. 4 USt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he Folie „ordnungsgemäße Rechnung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8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341360"/>
            <a:ext cx="82184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agung des Vorsteuerabzugs aus anderen Grü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freiheit der innergemeinschaftlichen Lief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örderung oder Versendung des Liefergegenstandes in das übrige Gemeinschafts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nehmer erwirbt den Gegenstand für sein Unt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Erwerb des Liefergegenstandes unterliegt im anderen Mitgliedstaat der Umsatzbe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184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tbestand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freiheit der innergemeinschaftlichen Lief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547200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egnachw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ss Gegenstand tatsächlich ins Ausland gelan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950760"/>
            <a:ext cx="82184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wei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1484280"/>
            <a:ext cx="2735280" cy="460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hnachw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msatz in Buchführung aufzeichnen und nachwei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492280"/>
            <a:ext cx="194292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l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örderung durch den leistenden Unterneh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eferf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2492280"/>
            <a:ext cx="172728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förderung durch den Leistungs-empfänger oder seine Angestell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bholf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2492280"/>
            <a:ext cx="179856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l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örderung durch einen beauftragten Unternehm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ersendungsf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gnachweis - Liefer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lung in § 17a Abs. 2 Nr. 1 – 3 USt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sdo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 muss den Anforderungen des §§14, 14a UStG genügen (Hinweis auf Steuerfreih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elsüblicher Beleg, aus dem sich der Bestimmungsort ergibt z.B. Liefersch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fangsbestätigung des Abnehmers oder seines Beauftrag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reichend ist Unterschrift auf Übergabedok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gleich der Unterschrift mit anderen Dokumenten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ern Beauftragter bestätigt, muss sich Bevollmächtigung aus den Unterlagen erge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98100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1: Beförderung durch den leistenden Unternehmer (Lieferf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5013360"/>
            <a:ext cx="820728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1360" indent="-18813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gnachweis kann nachgeholt wer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 spätestens Schluss der mündlichen Verhandlung vor dem 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lagen Umsatzste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1.1.1993: Zwischen Unternehmen in der EU gilt das Bestimmungslandpr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gemeinschaftliche Umsätze unterliegen der USt im Bestimmung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lge: steuerpflichtiger innergemeinschaftlicher Erwerb durch Empfänger im Bestimmungsland und gleichzeitiger VorSt-Abzug für Erwerber durch den Erwerb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fällig für betrügerische Zw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907920"/>
            <a:ext cx="82184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lagen Umsatzste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653000"/>
            <a:ext cx="316872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nehmer in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ätigt steuerfreie innergemeinschaftliche Lief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4653000"/>
            <a:ext cx="316872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nehmer in EU-Au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tätigt innergemeinschaftlichen Erwerb und hat hieraus VorSt-Abzu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437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537228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93228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-Gr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gnachweis - Abhol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lung in § 17a Abs. 2 Nr. 1 – 4 USt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sdo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 muss den Anforderungen des §§14, 14a UStG genügen (Hinweis auf Steuerfreih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elsüblicher Beleg, aus dem sich der Bestimmungsort ergibt z.B. Liefersch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fangsbestätigung des Abholers oder seines Beauftrag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reichend ist Unterschrift auf Übergabedok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gleich der Unterschrift mit Personalausweis/Reisepas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ern Beauftragter abholt, muss er Vollmacht vorlegen (Kopie zu den Akten neh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nehmer mus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i Abholung schriftliche Versicher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rlegen, dass Ware ins übrige Gemeinschaftsgebiet gelang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Kopie zu den Akten nehm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981000"/>
            <a:ext cx="820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2:  Beförderung durch den Leistungsempfänger (Abholf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373720"/>
            <a:ext cx="820728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1360" indent="-18813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gnachweis kann (mit Ausnahme der Versicherung) nachgehol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 spätestens Schluss der mündlichen Verhandlung vor dem 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gnachweis - Versendungs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39560"/>
            <a:ext cx="820728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lung in § 17a Abs. 4 USt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sdo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nung muss den Anforderungen des §§14, 14a UStG genügen (Hinweis auf Steuerfreih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dungsbel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chtbrie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einlieferungssche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diteursbescheinig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tokopie des CMR Frachtbriefe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t Empfangsbestätig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 Abnehmers bzw. ausgefülltem Feld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lfsweise kann der Belegnachweis auch wie beim Liefer- oder Abholfall erfolgen (§ 17a Abs. 2 UStDV) wenn der Abnehmer den Spediteur beauftragt ha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83664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3:  Beförderung durch einen beauftragten Unternehmer (Versendungsf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373720"/>
            <a:ext cx="820728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1360" indent="-188136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gnachweis kann nachgehol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 spätestens Schluss der mündlichen Verhandlung vor dem 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hnachw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lung in § 17c  USt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chmäßiger Nachweis der USt-IdNr. des Abnehmers durch qualifizierte Bestätigung des Bundeszentralamtes für Steuern (BZSt) – Außenstelle Saarlo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abfrage möglich www.bzst.bund.de – Bildschirmausdruck fert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nnoch) immer offizielle Bestätigung des BZSt verla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und Anschrift des Abnehmers (Kopie Personalausweis/Reisepass und ggf. Vollma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werbezweig/Beruf Abnehmer (Registerausz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elsübliche Bezeichnung und Menge der Liefe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g der Liefe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einbartes Entgelt (bei „Ist-Besteuerung“ auch Tag der Zahl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örderung ins übrige Gemeinschaftsgebiet (Übernahmebestätigung des Käuf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immung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836640"/>
            <a:ext cx="8351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fer-, Abhol- und Versendungs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084640"/>
            <a:ext cx="8351640" cy="1081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chnachweis muss unmittelbar nach Ausführung erfolgen - keine Nachhol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er: EuGH-Urteil vom 27.9.2007 beachten. Strenge formale Voraussetzungen an den Buchnachweis sind gelockert. Grundsatz der steuerlichen Neutralitä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liche V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4032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langen ist rechtmäßig, wenn Vermutung nahe liegt, dass Empfänger den Bezug nicht versteuert ha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uswahlermess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ennungsverlangen mu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hältnismäß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in (Zumutbarkeit für Unternehmer sich über die Identität zu vergewisse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htbenennung allein führ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z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dac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uerhinterzieh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agung BA-Abzug hat grds. kei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frechtliche Wirk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etzt Vorhandensein Aufwendung vora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nahme: wenn dem Verlangen nicht nachgekommen wird, um Einnahme bei Empfänger zu verschleiern (Beihilfe zur Steuerhinterziehung oder Begünstig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981000"/>
            <a:ext cx="4032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160 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nnungsverlangen der Finanzbehörde bzgl. Empf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981000"/>
            <a:ext cx="4032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islast nach § 90 Abs. 2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2421000"/>
            <a:ext cx="4032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chverhalt mi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landsbez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ternehmer mu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weisvorso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eff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fzuklärender Sachverhalt“ geht weiter als Benennungsverlangen nach § 160 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fklärungspfl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fklärungsvorsorgepfl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weismittelbeschaffungspfl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weismittelbeschaffungs-vorsorgepflicht (bei Geschäftsabschlu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liche V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777564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nehmer schuldet die Umsatzsteuer aus de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rangega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satz, sowe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ser in einer Rechung nach § 14 UStG ausgewiesen wurde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Aussteller der Rechnung entsprechend seiner vorgefassten Absicht die Steuer nicht entrichtet ha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Unternehmer bei Abschluss des Vertrages davon Kenntnis hatte oder nach der Sorgfalt eines ordentlichen Kaufmanns hätte haben mü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981000"/>
            <a:ext cx="7775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25d UStG Haf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437000"/>
            <a:ext cx="7775640" cy="1657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§ 25d Abs. 2 UStG wird eine Kenntnis oder ein Kennenmüssen vermutet, wenn der in Rechnung gestellt Preis zum Zeitpunkt des Umsatzes unter dem marktüblichen Preis li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nbeweis →  betriebswirtschaftliche Begründung der Preisbemes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bau von grenzüberschreitenden Lieferketten zur Nutzung der Regelungen für die Umsatzbesteuerung der innergemeinschaftlichen Lieferungen und Erwerb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tendmachung Vorsteuerabz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Anmeldung / Entrichtung der entstehenden Umsatzste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w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innerzielung durch nicht abgeführte Umsatzste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e wird um die herausgerechnete Umsatzsteuer billiger und kann günstig weiterveräußert werden =&gt; hohe Umsätze in kurzer Zeit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7920"/>
            <a:ext cx="82184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fall Umsatzsteuerka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64920" y="1557360"/>
            <a:ext cx="110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i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5960" y="1989000"/>
            <a:ext cx="99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24720" y="2637000"/>
            <a:ext cx="172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Tra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119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7560" y="105264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ri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einschaftsgebi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2536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2436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860640"/>
            <a:ext cx="792000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tätigt innergemeinschaftliche Lieferung an B = umsatzsteuerf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tätigt innergemeinschaftlichen Erwerb von A = keine Umsatzsteuerbelastung (VSt-Anspru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100.000 = „netto“Verkaufspr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 tätigt innergemeinschaftliche Lieferung an C = umsatzsteuerf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tätigt innergemeinschaftlichen Erwerb von B = keine Umsatzsteuerbelastung (VSt-Anspru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100.000 = „netto“Verkaufspre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 liefert umsatzsteuerpflichtig mit Rechnung an A, ohne USt abzuf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84.033,91 netto / brutto 100.000 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→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Ware wird um heraus gerechnete USt billi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zieht Vorsteuer aus Rechnung des C und kann Ware billiger weiterverkauf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71640" y="177336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2276640"/>
            <a:ext cx="19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47520" y="172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344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708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führung Grund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64920" y="1557360"/>
            <a:ext cx="110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i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5960" y="1989000"/>
            <a:ext cx="99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24720" y="2637000"/>
            <a:ext cx="172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Tra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19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7560" y="105264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ri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einschaftsgebi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12536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72436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645000"/>
            <a:ext cx="7920000" cy="146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 liefert umsatzsteuerpflichtig mit Rechnung an A, ohne USt abzuf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84.033,91 netto / brutto 100.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zieht Vorsteuer aus Rechnung des C und kann Ware billiger weiterverkauf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iefert konkurrenzlos günstig an D als gutgläubigen Erwerber und führt USt a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z.B. 95.000 netto / brutto 113.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zieht Vorsteuer aus Rechnung des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71640" y="177336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276640"/>
            <a:ext cx="19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5240" y="1413000"/>
            <a:ext cx="1500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utgläubi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wer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17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47520" y="172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3440" y="25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708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17800" y="14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65880"/>
            <a:ext cx="7920000" cy="520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 mehrmaliger „Drehung“ des Karussells kann der Verkaufspreis vor Weiterveräußerung an Dritte um die jeweils neu herauszurechnende USt noch weiter „heruntergeschleus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derfall Warenein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9240" y="1700280"/>
            <a:ext cx="110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i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2120" y="1700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119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7560" y="105264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ri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einschaftsgebi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12536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997360"/>
            <a:ext cx="7920000" cy="167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fal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E tätigt innergemeinschaftliche Lieferung an A = umsatzsteuerf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ätigt innergemeinschaftlichen Erwerb von E = keine Umsatzsteuerbelastung (VSt-Anspru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100.000 = „netto“Verkaufspr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veräußerung an D, Versteue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160" y="1628640"/>
            <a:ext cx="1500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utgläubi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wer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6360" y="155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155736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916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derfall Warenein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9240" y="1700280"/>
            <a:ext cx="110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i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2120" y="1700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2160" y="2852640"/>
            <a:ext cx="1724760" cy="368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 (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Missing Tra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119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7560" y="105264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ri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einschaftsgebi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12536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3645000"/>
            <a:ext cx="8280360" cy="237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Zwischenschaltung des Scheinunterneh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tätigt innergemeinschaftliche Lieferung an C = umsatzsteuerf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tätigt innergemeinschaftlichen Erwerb von B = keine Umsatzsteuerbelastung (VSt-Anspru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100.000 = „netto“Verkaufspr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liefert umsatzsteuerpflichtig mit Rechnung an A, ohne USt abzuf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enwert 84.033,91 netto / brutto 100.000 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→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Ware wird um heraus gerechnete USt billi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zieht Vorsteuer aus Rechnung des C und verkauft Ware billiger an, als bei Direktkauf von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8160" y="1628640"/>
            <a:ext cx="1500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utgläubi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wer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155736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2600" y="2421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19720" y="23493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1916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1989000"/>
            <a:ext cx="1584360" cy="79236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003640" y="2204640"/>
            <a:ext cx="432000" cy="57636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satzsteuerbet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el mit großen Mengen kleiner Te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ßergewöhnlich hohe Umsätze in kurzer Zeit mit einem Lieferanten, der vorher nicht geliefert hat und seinen steuerlichen Pflichten nicht nachgekommen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sätze mit Lieferanten, welche die Steuerfahndung als Scheinunternehmer ansi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le Käufe von einem einzigen Lieferanten und Wiederverkäufer an eine beschränkte Zahl von Abnehm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feranten und Abnehmer bereits im Vorfeld festgel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e Erkennbarkeit von ernsthaften Preisverhandl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e Werbe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ne Preiskalkul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geachtet großer Stückzahlen keine Reklamationskorrespondenz mit Lieferanten oder Abnehm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liegen persönlicher Kontakte zum Impor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nahme von für den Betrieb bisher nicht typischen Geschä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8207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dachtsmo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liche Problem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4032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tendmachung des Vorsteuerab-zuges, obwohl der Steuerpflichtige die Ware (möglicherweise) von einem „missing trader“ erhalten 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81000"/>
            <a:ext cx="4032360" cy="17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uerabz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981000"/>
            <a:ext cx="4032360" cy="17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freiheit der innergemeinschaftlichen Lief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2781360"/>
            <a:ext cx="4032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halt der Steuerfreiheit, obwohl die Ware tatsächlich nicht ins Ausland oder an einen „missing trader“ geliefert wur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59:12Z</dcterms:created>
  <dc:creator>Arndt/Heuel</dc:creator>
  <dc:description/>
  <dc:language>en-US</dc:language>
  <cp:lastModifiedBy>IH</cp:lastModifiedBy>
  <dcterms:modified xsi:type="dcterms:W3CDTF">2007-10-22T14:26:58Z</dcterms:modified>
  <cp:revision>234</cp:revision>
  <dc:subject/>
  <dc:title>Steuerstraf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690960</vt:r8>
  </property>
  <property fmtid="{D5CDD505-2E9C-101B-9397-08002B2CF9AE}" pid="3" name="_AuthorEmail">
    <vt:lpwstr>ingo.heuel@konlus.de</vt:lpwstr>
  </property>
  <property fmtid="{D5CDD505-2E9C-101B-9397-08002B2CF9AE}" pid="4" name="_AuthorEmailDisplayName">
    <vt:lpwstr>Heuel, Ingo</vt:lpwstr>
  </property>
  <property fmtid="{D5CDD505-2E9C-101B-9397-08002B2CF9AE}" pid="5" name="_EmailSubject">
    <vt:lpwstr>weitere Folie für Buch</vt:lpwstr>
  </property>
</Properties>
</file>