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0688638" cy="7562850"/>
  <p:notesSz cx="9871075" cy="6659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3D305-49B4-409F-8754-7C7C35E596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885492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2600" y="4446720"/>
            <a:ext cx="885492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0994A-D3E4-4D33-A9F1-92B664F9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260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5004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7FB4B-6C67-44F3-92C0-2624E8D8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06720" y="224748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00840" y="224748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2600" y="444672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06720" y="444672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00840" y="444672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2817C-4B62-4A43-8EBC-86491131AD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57310-9D87-4F5B-8F86-6D043AABE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2600" y="2247480"/>
            <a:ext cx="885492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849DC-B474-4049-83A4-D139C210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885492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AFB6A-29D1-4656-941C-E669C21A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BD6BD-F7CB-42DE-B74A-40691ED1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88F96-320F-4966-909C-31F6787D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12960" y="1312920"/>
            <a:ext cx="884376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E97C3-FBB8-46D8-A84C-771ADD3F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260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6C93B-D429-4819-B6E8-05E1233D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2600" y="2247480"/>
            <a:ext cx="885492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66BEF-E0FD-4CBB-9DAD-650226EA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45004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A9A0A-7C64-4B44-B4BF-025A0FA9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2600" y="4446720"/>
            <a:ext cx="885492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634711-5EC4-4A1B-ABB7-6827494C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885492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2600" y="4446720"/>
            <a:ext cx="885492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D3A15-CB36-4E53-B692-C4A1F21B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260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45004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14B33-4787-4949-AB27-CFBB7A869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06720" y="224748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00840" y="224748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2600" y="444672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906720" y="444672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00840" y="444672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DE89D-C911-49D6-9402-B0E4B3C94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885492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5EA95-330D-4271-8769-22907CB5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F767E-2FBF-4294-80C2-9FF535E6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E62FE-1309-4EA0-8CC2-FF02415E5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2960" y="1312920"/>
            <a:ext cx="884376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2E63A-5D46-4327-AF29-6C5BC9D44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260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DB552-3632-4FF0-B607-C6397237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5004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EB09C-DBE9-40B9-B0D4-C4834779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2600" y="4446720"/>
            <a:ext cx="885492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7D2AC-3123-459E-A0B2-FC631678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76320">
            <a:solidFill>
              <a:srgbClr val="cbcbcb"/>
            </a:solidFill>
            <a:miter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2600" y="2247480"/>
            <a:ext cx="885492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marL="372960" indent="-37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11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49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55920" indent="-249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28880" indent="-24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928880" indent="-24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928880" indent="-24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86960" y="6591240"/>
            <a:ext cx="2227320" cy="504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lstStyle>
            <a:lvl1pPr indent="0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26640" y="533520"/>
            <a:ext cx="7218360" cy="5810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g. 3.</a:t>
            </a:r>
            <a:fld id="{F676F201-1D3B-41EE-9935-15AF3A3E16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from Management Methods and tools by Michael Grabinski, Gabler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23760" y="1036800"/>
            <a:ext cx="883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2600" y="3109680"/>
            <a:ext cx="8854920" cy="671400"/>
          </a:xfrm>
          <a:prstGeom prst="rect">
            <a:avLst/>
          </a:prstGeom>
          <a:noFill/>
          <a:ln w="76320">
            <a:solidFill>
              <a:srgbClr val="cbcbcb"/>
            </a:solidFill>
            <a:miter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801720" y="6891480"/>
            <a:ext cx="2225520" cy="504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lstStyle>
            <a:lvl1pPr indent="0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651120" y="6891480"/>
            <a:ext cx="3384720" cy="504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659720" y="6891480"/>
            <a:ext cx="2225520" cy="504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022400" y="1684440"/>
            <a:ext cx="8636040" cy="4400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A5336-A2BF-42E7-8BE0-627A4C9246F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50920" y="2311560"/>
            <a:ext cx="8377200" cy="314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D44EA-8D1C-46BD-B253-082037BB97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4678200"/>
            <a:ext cx="10686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0" t="0" r="0" b="31211"/>
          <a:stretch/>
        </p:blipFill>
        <p:spPr>
          <a:xfrm>
            <a:off x="1332000" y="2770200"/>
            <a:ext cx="7802640" cy="212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20FE4-C411-455A-8AD3-6006A3B5D8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 rot="5400000">
            <a:off x="3079440" y="-549360"/>
            <a:ext cx="4600440" cy="912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C8735-0455-46F3-8AFC-1B2C09C5A9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23T17:13:58Z</dcterms:created>
  <dc:creator>Michael Grabinski</dc:creator>
  <dc:description/>
  <dc:language>en-US</dc:language>
  <cp:lastModifiedBy>Michael Grabinski</cp:lastModifiedBy>
  <cp:lastPrinted>2000-11-27T14:31:32Z</cp:lastPrinted>
  <dcterms:modified xsi:type="dcterms:W3CDTF">2007-02-15T07:36:31Z</dcterms:modified>
  <cp:revision>343</cp:revision>
  <dc:subject>Figures form Management Methods and Tools</dc:subject>
  <dc:title>Figures</dc:title>
</cp:coreProperties>
</file>