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88638" cy="7562850"/>
  <p:notesSz cx="9871075" cy="6659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BFEE-3C80-47F0-9533-FB2A0C10DC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4C6A-443A-4DCD-B702-BB7562A2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E3D7-A71D-4FF5-A46A-D05C1A3D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8419-44E5-40BF-A907-601961395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3030F-0640-4009-B6FF-EE2711AD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61C6E-5C28-4ACC-AD36-B8D04788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D59B5-6F82-4398-A197-7B170D58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D04A6-1BAC-48FF-B4B5-90AEFF50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C5CC6-1621-4F0A-9804-0C69A5F7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88B2E-C900-4060-BC4D-B5EDE86B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15445-3813-4349-B663-02747BFA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8CFD-C051-435F-A657-D03154EB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D846F-32E9-4ACA-B1A6-690504D9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E2C80-F9E3-4E32-ACAE-9746013D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8F048-04B1-4195-89BA-3A490936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946DB-544C-405B-A6F9-47C5AA70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32786-0FCA-4B98-98C1-E1203BEE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8445-0DD0-4C43-A7DC-4712A548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26F60-7D11-4324-B97E-55289CC1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A74C-5B0E-4D56-8FA0-54D0DC65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834F-3A26-4DB3-BF5A-F7F43CC4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44BC-CBA0-4ECF-AD6C-CCB1AAE6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4FCA-6C6C-4EC1-8532-33A66BF1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3054-3DE4-4498-8C7D-3EECF037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2960" indent="-37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49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5920" indent="-249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6960" y="6591240"/>
            <a:ext cx="22273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6640" y="533520"/>
            <a:ext cx="7218360" cy="581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g. 4.</a:t>
            </a:r>
            <a:fld id="{F9CAD2C2-96AC-4A66-87FC-D24BE40830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from Management Methods and tools by Michael Grabinski, Gabl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23760" y="1036800"/>
            <a:ext cx="883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3109680"/>
            <a:ext cx="8854920" cy="67140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01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651120" y="6891480"/>
            <a:ext cx="33847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659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04840" y="3097080"/>
            <a:ext cx="8197920" cy="152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2981-9F9C-4898-9863-ECBE85420F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17:13:58Z</dcterms:created>
  <dc:creator>Michael Grabinski</dc:creator>
  <dc:description/>
  <dc:language>en-US</dc:language>
  <cp:lastModifiedBy>Michael Grabinski</cp:lastModifiedBy>
  <cp:lastPrinted>2000-11-27T14:31:32Z</cp:lastPrinted>
  <dcterms:modified xsi:type="dcterms:W3CDTF">2007-02-15T07:36:46Z</dcterms:modified>
  <cp:revision>344</cp:revision>
  <dc:subject>Figures form Management Methods and Tools</dc:subject>
  <dc:title>Figures</dc:title>
</cp:coreProperties>
</file>