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EF51-B506-4588-B186-FF4D3B53F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BD74-1094-4A1C-BC80-5FA38C1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C6C7-9FFC-496B-A5E0-17892F7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47CB-CFAA-4B10-B489-A224AA8A8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28F52-12FE-4885-8004-C89E5A69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B9145-A615-4C6D-9FF7-7D77A89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07796-0422-41A0-848F-863D7A89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422F7-CFE1-4ACD-8B32-51C182DE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D5000-FCDB-4853-A751-1FEC002C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DB31-C1FD-4F8B-A61B-CE64B40E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E2CD7-365E-46F9-A519-6CC1C25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3C1D-A17D-44F8-86DD-41395D77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0BF0B-006B-4B8D-9B75-B01CA57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B7975-409E-487E-B063-66D3ADD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4F190-2283-4042-9664-EA4F6C9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6043-C647-42E2-9E81-66A23C1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DC042-08D4-4831-A17B-43540659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E183-AAF8-4567-AFED-7EA05FE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AF87-7F59-47D4-9845-16C69E6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F1D5-34F8-47D3-ABD5-6F7F4D9D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0653-DFC7-4DD3-A78A-6639C24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23F2-F1D9-404F-8CA2-588BB1C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F66D-C3E4-4E3D-A719-915C2752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B9EB-077A-4B6A-94B0-D6D5C2F8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5.</a:t>
            </a:r>
            <a:fld id="{6D3A7641-C7A7-40D5-B9C1-EECC22DA58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560" y="2689200"/>
            <a:ext cx="8685360" cy="244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3F96-CD44-4E18-B017-BC55FEE10E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71680" y="2208240"/>
            <a:ext cx="522612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FCD7-B268-4742-8490-BB137D489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36760" y="2014560"/>
            <a:ext cx="3659400" cy="43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C17C-26AC-4F5B-AEAB-9A28C96887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1473"/>
          <a:stretch/>
        </p:blipFill>
        <p:spPr>
          <a:xfrm>
            <a:off x="2462040" y="2147760"/>
            <a:ext cx="5256360" cy="412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CF9D-3BD1-44D1-87AD-30B578329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grayscl/>
          </a:blip>
          <a:srcRect l="0" t="4951" r="0" b="3713"/>
          <a:stretch/>
        </p:blipFill>
        <p:spPr>
          <a:xfrm>
            <a:off x="1166760" y="1892160"/>
            <a:ext cx="7900920" cy="461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CE78-9264-430E-BFC5-6C560C16B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rcRect l="0" t="3713" r="0" b="4951"/>
          <a:stretch/>
        </p:blipFill>
        <p:spPr>
          <a:xfrm>
            <a:off x="915840" y="1663560"/>
            <a:ext cx="860292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33F4-C183-4424-8932-AD6FEC0B7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2620800"/>
            <a:ext cx="8691480" cy="271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8689-B1E1-468F-B60D-BA9029E86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5320" y="1766880"/>
            <a:ext cx="6289920" cy="4299120"/>
            <a:chOff x="1795320" y="1766880"/>
            <a:chExt cx="6289920" cy="429912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1795320" y="1766880"/>
              <a:ext cx="628992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489040" y="3859200"/>
              <a:ext cx="4896000" cy="220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B0DA-D1FD-4030-A119-90E7E3D99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8360" y="2544840"/>
            <a:ext cx="8864280" cy="28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494A-B071-4440-9665-FD72C0C601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2525760"/>
            <a:ext cx="9078840" cy="290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B7A4-BEA7-4A1F-BD12-D766D9CD21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66880" y="2549520"/>
            <a:ext cx="902016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18A5-63A4-4709-A3CE-252910934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133" t="0" r="1510" b="32364"/>
          <a:stretch/>
        </p:blipFill>
        <p:spPr>
          <a:xfrm>
            <a:off x="649440" y="2421000"/>
            <a:ext cx="9069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3D47-B4AD-41E8-9711-49BF3F671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38440" y="2230560"/>
            <a:ext cx="7203960" cy="33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BDD7-AC4A-4EF4-B9BF-C7AD342FB6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98600" y="2944800"/>
            <a:ext cx="7451640" cy="203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DA94-B796-4F91-ADDB-AB0CB960B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25736"/>
          <a:stretch/>
        </p:blipFill>
        <p:spPr>
          <a:xfrm>
            <a:off x="1082520" y="2639880"/>
            <a:ext cx="8541000" cy="280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AF79-D643-4992-B0DA-EBE7B9F5F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32768" r="0" b="0"/>
          <a:stretch/>
        </p:blipFill>
        <p:spPr>
          <a:xfrm>
            <a:off x="914400" y="2808360"/>
            <a:ext cx="891540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FDED-F86F-4987-8E2C-B6D14EFC5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4312" t="2662" r="1725" b="12526"/>
          <a:stretch/>
        </p:blipFill>
        <p:spPr>
          <a:xfrm>
            <a:off x="1442880" y="1436760"/>
            <a:ext cx="7263000" cy="587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E649-6FBC-4B09-9A4F-6996F029D6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06520" y="2736720"/>
            <a:ext cx="5934240" cy="19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1E12-0CB4-4089-9AE8-DE72C82AE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12960" y="2990880"/>
            <a:ext cx="6127560" cy="20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14F0-2B66-4A59-881F-5DD7B10EE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93960" y="2914560"/>
            <a:ext cx="6319800" cy="20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E8B8-B988-4414-8322-50A9E9CEA2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838160" y="2209320"/>
            <a:ext cx="7152840" cy="2819880"/>
            <a:chOff x="1838160" y="2209320"/>
            <a:chExt cx="7152840" cy="28198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893240" y="3102840"/>
              <a:ext cx="6778080" cy="15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838160" y="2755800"/>
              <a:ext cx="2904480" cy="227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70200">
              <a:off x="5899320" y="2584440"/>
              <a:ext cx="2924640" cy="161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485B-89E7-4BE9-B42C-31E726FA69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15T07:40:09Z</dcterms:modified>
  <cp:revision>346</cp:revision>
  <dc:subject>Figures form Management Methods and Tools</dc:subject>
  <dc:title>Figures</dc:title>
</cp:coreProperties>
</file>