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688638" cy="7562850"/>
  <p:notesSz cx="9871075" cy="665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2005-7421-4234-976D-75C765C83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1551-8EE6-4218-BD6E-9621854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9335-ECA3-4E53-A500-1A8878E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8834-E3AC-4322-B8B1-FBA6C6CA0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43DD7-A261-41E7-B72C-32145E04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7E74C-2DF2-4871-A996-ABAC58CD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715D-AEED-462A-8B7A-62E5C8F4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2079C-D5AB-45A6-9794-6F99BBE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084C4-F8B1-4749-85CC-AA67A309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12A9B-54E1-43F6-8C57-837164AF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CFB20-3268-4308-B90F-1E4AEA9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3639-BE04-4E1E-9447-8AABD7B3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EA1F0-1D29-4C8A-9F4F-4460739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30073-5653-42A6-9EB9-A1A04B86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E9EB7-E035-44F3-9CF6-F1DA8563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8A821-3D9D-4752-BB74-B4E7FC8A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B2DA6-7BB9-4F85-91A0-6BAC76B2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8C98-714C-49EC-8B22-A544BD5F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1E3D-A9D7-4E37-9E0A-A0D7DD7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1783-644C-4EF8-85F9-38920E3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5082-9DFF-40B0-A4E9-C63511A3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F032-6497-4079-BED3-72F47323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D927-DFBA-4206-9B0D-587A4D1C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50D8-252D-4C16-A91E-70F45ED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6.</a:t>
            </a:r>
            <a:fld id="{CA18B7BC-2726-435C-977F-BF1728EE3F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bl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7960" y="2619360"/>
            <a:ext cx="8112240" cy="25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E95D-98D1-4868-92D9-CE5F372E72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7440" y="2103480"/>
            <a:ext cx="9391680" cy="38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EA18-DD7A-4CB2-A886-2E1C4A3B08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grayscl/>
          </a:blip>
          <a:srcRect l="9658" t="0" r="5011" b="0"/>
          <a:stretch/>
        </p:blipFill>
        <p:spPr>
          <a:xfrm>
            <a:off x="1892160" y="1692360"/>
            <a:ext cx="6896160" cy="438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AA7E-7A36-4586-A3F8-6C805F0C7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66960" y="1839960"/>
            <a:ext cx="6500880" cy="49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D0EA-AD26-468E-BF96-7BB1EED79A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81000" y="2182680"/>
            <a:ext cx="8998200" cy="39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A41A-86FF-43DD-861D-C7EF17A174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4640" y="2308320"/>
            <a:ext cx="7328160" cy="36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2611-68DC-4FC1-9817-35F56D268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22200" y="3103560"/>
            <a:ext cx="8158320" cy="157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8A11-0DD4-4123-A08D-8D10EC3E1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2960" y="2874960"/>
            <a:ext cx="8854920" cy="20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1669-72BE-4F4F-BCFA-C3A0A63AA5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19160" y="2968560"/>
            <a:ext cx="8810640" cy="183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CDEF-C3AB-475E-A6F4-115416466B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9560" y="3186000"/>
            <a:ext cx="8675640" cy="151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2FAA-EC7A-4D24-A761-4C36EDB211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96880" y="1944720"/>
            <a:ext cx="7334280" cy="38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7BD6-8A3E-42FD-B604-215739E6A8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grayscl/>
          </a:blip>
          <a:srcRect l="10839" t="0" r="5070" b="0"/>
          <a:stretch/>
        </p:blipFill>
        <p:spPr>
          <a:xfrm>
            <a:off x="1469880" y="1692360"/>
            <a:ext cx="7739280" cy="438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D03B-64D1-4349-8068-9DD4F07F4B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8200" y="1573200"/>
            <a:ext cx="9156600" cy="47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406C-4EB1-4904-B341-F20D0344DC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2-15T07:41:43Z</dcterms:modified>
  <cp:revision>348</cp:revision>
  <dc:subject>Figures form Management Methods and Tools</dc:subject>
  <dc:title>Figures</dc:title>
</cp:coreProperties>
</file>