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88638" cy="7562850"/>
  <p:notesSz cx="9871075" cy="665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EE1B-E668-49F8-82EF-1BA6F2E92E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5332-8D5E-42A7-8E7B-EC23239E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8599-8FC0-4AEB-BC87-CF357FBD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2ABE-4078-4B9A-A4BE-3A3409491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DC0C-1037-48E8-AFDD-ECF33D74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6B8F4-B6A6-41C6-B8DB-9CACD17F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798A1-5C47-4009-89AF-E580E1A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FD86-F9C5-403B-BB9F-E9DABC5F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08756-7064-4CEF-AF42-D0E1B4E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EB5A1-D48B-4DA5-B0FF-B158CD4B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BB483-1EB8-4CA7-BF1E-AF40D99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12A0-710F-4782-98E6-2968EA1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E2603-E6EC-4BD2-94C5-3788507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CBDD8-55C6-4345-B3AB-FC29150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766E3-E1D5-47B1-9F9C-A52E8BA5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51A25-F0F5-4640-8EC4-C3D51158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FC1B6-AA48-40DC-957F-94E58221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8A88-BB33-4D6C-8A8C-903DC042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976A-C31E-4ADA-A3D6-7FCDB5B1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7A52-46E0-4857-A553-5B12B144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0297-A42C-4366-A7C0-4C4F290F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A674-DDBF-420A-B69E-ECBDA41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B8DA-5CDD-45EE-A223-BCFA581A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F1B9-31FE-48B8-A5E6-5E5B2341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2960" indent="-37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4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6960" y="6591240"/>
            <a:ext cx="22273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6640" y="533520"/>
            <a:ext cx="7218360" cy="581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g. 8.</a:t>
            </a:r>
            <a:fld id="{E5A26549-0362-4D61-9105-C1DBDF4995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from Management Methods and tools by Michael Grabinski, Gabl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23760" y="1036800"/>
            <a:ext cx="883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3109680"/>
            <a:ext cx="8854920" cy="67140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01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651120" y="6891480"/>
            <a:ext cx="33847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659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2766" b="1197"/>
          <a:stretch/>
        </p:blipFill>
        <p:spPr>
          <a:xfrm>
            <a:off x="912960" y="2344680"/>
            <a:ext cx="8854920" cy="30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9B96-E75F-4C4D-B5E8-3289B01B7C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3560" y="2089080"/>
            <a:ext cx="6464160" cy="37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E64B-F149-4B91-8DD7-CD82A69578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22200" y="1949400"/>
            <a:ext cx="8418600" cy="385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3446-D353-490C-B1DD-36B7AAC81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11930" r="0" b="0"/>
          <a:stretch/>
        </p:blipFill>
        <p:spPr>
          <a:xfrm>
            <a:off x="1352520" y="1808280"/>
            <a:ext cx="7748640" cy="470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141D-5EC1-4936-833E-F5507A581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grayscl/>
          </a:blip>
          <a:srcRect l="0" t="8599" r="0" b="2467"/>
          <a:stretch/>
        </p:blipFill>
        <p:spPr>
          <a:xfrm>
            <a:off x="988920" y="1312920"/>
            <a:ext cx="8702640" cy="514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4B30-6180-4ABB-90D6-462FA0DFA8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2920" y="1531800"/>
            <a:ext cx="9439200" cy="54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4962-C29A-4257-AC81-5826D77C8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65080" y="1762200"/>
            <a:ext cx="9221760" cy="509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5750-D82C-49C1-BD1D-8AC87CC19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17:13:58Z</dcterms:created>
  <dc:creator>Michael Grabinski</dc:creator>
  <dc:description/>
  <dc:language>en-US</dc:language>
  <cp:lastModifiedBy>Michael Grabinski</cp:lastModifiedBy>
  <cp:lastPrinted>2000-11-27T14:31:32Z</cp:lastPrinted>
  <dcterms:modified xsi:type="dcterms:W3CDTF">2007-02-15T07:53:01Z</dcterms:modified>
  <cp:revision>353</cp:revision>
  <dc:subject>Figures form Management Methods and Tools</dc:subject>
  <dc:title>Figures</dc:title>
</cp:coreProperties>
</file>