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688638" cy="756285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6184-C71F-492D-84B5-E0BD93F2C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8660-7C36-4E2A-9FA4-239DDF1C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AF96-1B35-4BD4-B492-A11251E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622B-457A-4289-9BEF-77959B513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7D9C-2BBE-4D50-96AD-1F9A540F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D026D-8287-43E1-AEF6-3AD322B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7A8A-3CD9-4DC1-81CA-E08F66F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079AD-181D-4B7D-A341-3A86578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DDA7-204C-41DE-A65F-F3269F5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EFA4A-E5C2-42CA-821E-983A1B52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37D20-6199-4848-A09A-89DDFD3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5B04-E8E5-4D29-B85C-AC49F56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4A5A-C77C-4B00-9C0F-D7F737F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BEDA-E75B-48DD-A783-FDAC734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62FE5-CE60-4E1E-92A2-577A2DE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2640-9CCB-49D3-B063-27B634AB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4B4A-7B54-4234-9E9E-9064F9DF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C275-3BF5-46DB-9BB9-CCDA6DBD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3AD7-E65D-4D53-8CF8-EFED97B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633B-B00D-4FCC-9795-64D7F524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A066-D237-4582-A38A-DC566921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106F-2BE3-411F-BE54-4749F17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4537-80BD-46C0-8A8B-3FA00ED3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4056-03E0-48D9-935A-81DEE3D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2.</a:t>
            </a:r>
            <a:fld id="{D8F3CCD4-BF19-4048-A00F-4049F6F3DB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8720" y="3173400"/>
            <a:ext cx="85532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0C1F-4839-461E-B528-5608C9DA2F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5400000">
            <a:off x="2874960" y="1080"/>
            <a:ext cx="5330880" cy="803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CDF8-97D3-47A7-9DA4-B73B95849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1080" y="1909800"/>
            <a:ext cx="8612280" cy="445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57D9-0CBE-4438-8396-FB404F44D0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58840" y="2222640"/>
            <a:ext cx="8148600" cy="350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3D90-F4C8-49E6-8005-5A7D9029C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49400" y="3327480"/>
            <a:ext cx="678168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FEA4-9FE0-4ACA-9661-B14C2DA15C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01840" y="1871640"/>
            <a:ext cx="758016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D356-D672-4938-B95E-4D1827D2A4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grayscl/>
          </a:blip>
          <a:srcRect l="0" t="2081" r="8621" b="4505"/>
          <a:stretch/>
        </p:blipFill>
        <p:spPr>
          <a:xfrm>
            <a:off x="1206360" y="1998720"/>
            <a:ext cx="8267760" cy="37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C52F-B473-414E-9216-0AB3BC4BA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-1296"/>
          <a:stretch/>
        </p:blipFill>
        <p:spPr>
          <a:xfrm>
            <a:off x="2782800" y="3198960"/>
            <a:ext cx="4699080" cy="130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6F97-7670-4B8D-A937-94FD67604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1720" y="3062160"/>
            <a:ext cx="6060960" cy="14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0BF0-B3DC-449E-8C6D-D9AEAF352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2297160"/>
            <a:ext cx="744192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84C0-E005-45BE-BAA8-E92E34ACC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9452" t="0" r="15840" b="0"/>
          <a:stretch/>
        </p:blipFill>
        <p:spPr>
          <a:xfrm>
            <a:off x="836640" y="2009880"/>
            <a:ext cx="8870760" cy="40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8F72-32B8-4249-BB9D-F67EB600D4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44349" b="46674"/>
          <a:stretch/>
        </p:blipFill>
        <p:spPr>
          <a:xfrm>
            <a:off x="1359000" y="1363680"/>
            <a:ext cx="8140680" cy="548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0AF4-9E8A-4749-9A43-E49E39F1D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57240" y="1995480"/>
            <a:ext cx="6966000" cy="37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A4EC-A323-4886-9AC9-311156D870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14440" y="1940040"/>
            <a:ext cx="7851960" cy="38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5B43-DBFA-4213-B8B7-9C61134F6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14440" y="1940040"/>
            <a:ext cx="7851960" cy="38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6A5E-6645-48D5-901C-A2443799A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23T11:52:20Z</dcterms:modified>
  <cp:revision>343</cp:revision>
  <dc:subject>Figures form Management Methods and Tools</dc:subject>
  <dc:title>Figures</dc:title>
</cp:coreProperties>
</file>