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688638" cy="7562850"/>
  <p:notesSz cx="9871075" cy="6659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133A-192E-41FE-8043-14BCD49B1A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DB51-6E04-49C5-B273-D61B387C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111B-70CA-4BC7-8638-C0526D95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B0F8-4D6B-41FA-B6A1-B6C976A829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29FEB-9A1B-4ECC-8A36-7F8ECCD6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777D4-9E2D-4693-9ABC-DD5415C4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134A4-00E6-42CA-9748-93B7FBEA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EF5F1-0C45-4A91-A2E9-0CEF46CB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95DAE-1D63-43EC-BD27-D46054D9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AE901-C7D8-4BFF-BDA5-53E46403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3D33F-CAC7-4C95-88E6-EE9B56D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BFF8-95A6-4D05-8630-17C91076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4E1FF-2AFC-462E-93A7-55EB53BE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C0916-85C3-4DFA-8A0E-F57FD6FD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C83D3-8430-47F7-99E4-80D09635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77477-E9BB-404C-BEBB-679141B2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0672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00840" y="224748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0672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00840" y="4446720"/>
            <a:ext cx="285120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19D23-133F-4546-838A-8565AA23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B9AE-84A3-40C6-88E3-7EB6C0A5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A131-AAE3-4E7E-98F8-10BFB96A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9CBF-5438-4FDA-B74E-EFD892E2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960" y="1312920"/>
            <a:ext cx="88437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64FD-6BEA-4FCC-BC02-0282321D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081C-625E-4A9E-8D72-164FED86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0040" y="444672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5408-D0B3-4A2A-A86B-472DAD52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0040" y="2247480"/>
            <a:ext cx="432108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446720"/>
            <a:ext cx="8854920" cy="20080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854A-D90B-4838-94A8-D5F7960E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960" y="1312920"/>
            <a:ext cx="8843760" cy="66672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2247480"/>
            <a:ext cx="8854920" cy="4210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2960" indent="-37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49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5920" indent="-249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28880" indent="-24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6960" y="6591240"/>
            <a:ext cx="22273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6640" y="533520"/>
            <a:ext cx="7218360" cy="581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g. 7.</a:t>
            </a:r>
            <a:fld id="{F4C16EB8-3F70-493A-BC8F-BBE9271A75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from Management Methods and Tools by Michael Grabinski, Gabler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23760" y="1036800"/>
            <a:ext cx="883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3109680"/>
            <a:ext cx="8854920" cy="671400"/>
          </a:xfrm>
          <a:prstGeom prst="rect">
            <a:avLst/>
          </a:prstGeom>
          <a:noFill/>
          <a:ln w="76320">
            <a:solidFill>
              <a:srgbClr val="cbcbcb"/>
            </a:solidFill>
            <a:miter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01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651120" y="6891480"/>
            <a:ext cx="33847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659720" y="6891480"/>
            <a:ext cx="2225520" cy="504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4560" y="1857240"/>
            <a:ext cx="5502240" cy="441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6CAB-D978-46FE-A262-12F533403A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grayscl/>
          </a:blip>
          <a:srcRect l="1586" t="2451" r="1189" b="4147"/>
          <a:stretch/>
        </p:blipFill>
        <p:spPr>
          <a:xfrm>
            <a:off x="1363680" y="1581120"/>
            <a:ext cx="7259760" cy="50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6FEB-A8B4-458B-BF16-BC9C27B5E8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59040" y="1725480"/>
            <a:ext cx="5060880" cy="507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A155-9DCD-480C-B384-3E31D24420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09800" y="1522440"/>
            <a:ext cx="516276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63A2-AE93-438E-94C0-8130EDF612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95680" y="1535040"/>
            <a:ext cx="5278320" cy="516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1BD9-32FE-4AE5-9F78-43CF62774E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15960" y="2031840"/>
            <a:ext cx="7774200" cy="394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469A-2986-4BED-A367-82E9C5070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36560" y="2030400"/>
            <a:ext cx="6629400" cy="386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133D-302B-4693-BC81-FA1957BED0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90760" y="2014560"/>
            <a:ext cx="6642000" cy="462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FE66-E617-4614-B0EE-3DEBBF5D8A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grayscl/>
          </a:blip>
          <a:srcRect l="1986" t="1804" r="1456" b="2564"/>
          <a:stretch/>
        </p:blipFill>
        <p:spPr>
          <a:xfrm>
            <a:off x="2138400" y="1798560"/>
            <a:ext cx="6676920" cy="465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2B07-1342-44CB-A659-D8F4E33CF9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7920" y="3227400"/>
            <a:ext cx="9236160" cy="169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D2CF-AB89-4F60-A7B5-C40274395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7239" b="12476"/>
          <a:stretch/>
        </p:blipFill>
        <p:spPr>
          <a:xfrm>
            <a:off x="1019160" y="2981160"/>
            <a:ext cx="8628120" cy="16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C440-8A04-4670-AA77-3D72D4F869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73360" y="1616040"/>
            <a:ext cx="4826160" cy="481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A2BD-9F78-40B5-AB2C-3CF019B952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25480" y="1325520"/>
            <a:ext cx="6924960" cy="514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5B33-2A3B-43DE-A22F-52C19E713E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60440" y="1663560"/>
            <a:ext cx="7535880" cy="519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9DA8-E81E-4A54-8FF3-BBDE3FC3C3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grayscl/>
          </a:blip>
          <a:srcRect l="1390" t="1701" r="1522" b="3685"/>
          <a:stretch/>
        </p:blipFill>
        <p:spPr>
          <a:xfrm>
            <a:off x="1316160" y="1547640"/>
            <a:ext cx="6980040" cy="488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6B6D-258C-40EA-9BA1-3699FF7CCB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17:13:58Z</dcterms:created>
  <dc:creator>Michael Grabinski</dc:creator>
  <dc:description/>
  <dc:language>en-US</dc:language>
  <cp:lastModifiedBy>Michael Grabinski</cp:lastModifiedBy>
  <cp:lastPrinted>2000-11-27T14:31:32Z</cp:lastPrinted>
  <dcterms:modified xsi:type="dcterms:W3CDTF">2007-04-10T11:56:15Z</dcterms:modified>
  <cp:revision>352</cp:revision>
  <dc:subject>Figures form Management Methods and Tools</dc:subject>
  <dc:title>Figures</dc:title>
</cp:coreProperties>
</file>